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4763750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308-10C0-4927-86D8-789C86F8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132854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8360" y="5202720"/>
            <a:ext cx="132854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BF9-9D6F-4B80-B332-AE2400E2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8360" y="520272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546320" y="520272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91F-1F09-4176-8C2B-B97FD875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30080" y="209988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21800" y="209988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8360" y="520272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230080" y="520272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721800" y="5202720"/>
            <a:ext cx="427752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394-2A0A-4208-A8A4-F92F611E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8360" y="2099880"/>
            <a:ext cx="1328544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4E3-8445-4D88-BB26-0CE1E7F2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132854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537-3032-4030-91E9-1CB59FB5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6BE-5454-401D-8E19-031DF3A9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AD5-8F5C-4A26-87C7-F47040EE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8360" y="360000"/>
            <a:ext cx="1328544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76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DB3-E440-4211-8C5A-D3640034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8360" y="520272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16A-2F26-4785-A24E-1B460004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6320" y="520272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157-7BE9-4F33-B55A-054741F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836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546320" y="2099880"/>
            <a:ext cx="64832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8360" y="5202720"/>
            <a:ext cx="13285440" cy="283320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/>
          </a:bodyPr>
          <a:p>
            <a:pPr indent="0">
              <a:spcBef>
                <a:spcPts val="1276"/>
              </a:spcBef>
              <a:buNone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1EF-6143-4705-984B-86105AC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8360" y="360000"/>
            <a:ext cx="13285440" cy="150012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ctr">
            <a:noAutofit/>
          </a:bodyPr>
          <a:p>
            <a:pPr indent="0" algn="ct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8360" y="2099880"/>
            <a:ext cx="13285440" cy="594036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rmAutofit fontScale="90000"/>
          </a:bodyPr>
          <a:p>
            <a:pPr marL="492480" indent="-49248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1148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2" marL="1645920" indent="-330120"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3" marL="2302920" indent="-328320">
              <a:spcBef>
                <a:spcPts val="1276"/>
              </a:spcBef>
              <a:buClr>
                <a:srgbClr val="000000"/>
              </a:buClr>
              <a:buFont typeface="Arial"/>
              <a:buChar char="–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4" marL="2961360" indent="-328320">
              <a:spcBef>
                <a:spcPts val="1276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5" marL="2961360" indent="-328320">
              <a:spcBef>
                <a:spcPts val="1276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6" marL="2961360" indent="-328320">
              <a:spcBef>
                <a:spcPts val="1276"/>
              </a:spcBef>
              <a:buClr>
                <a:srgbClr val="000000"/>
              </a:buClr>
              <a:buFont typeface="Arial"/>
              <a:buChar char="»"/>
              <a:tabLst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8000" y="8196120"/>
            <a:ext cx="3444840" cy="6256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43600" y="8196120"/>
            <a:ext cx="4674960" cy="6256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78600" y="8196120"/>
            <a:ext cx="3444840" cy="625680"/>
          </a:xfrm>
          <a:prstGeom prst="rect">
            <a:avLst/>
          </a:prstGeom>
          <a:noFill/>
          <a:ln w="0">
            <a:noFill/>
          </a:ln>
        </p:spPr>
        <p:txBody>
          <a:bodyPr lIns="146160" rIns="146160" tIns="73080" bIns="73080" anchor="t">
            <a:noAutofit/>
          </a:bodyPr>
          <a:lstStyle>
            <a:lvl1pPr indent="0" algn="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  <a:defRPr b="0" lang="en-US" sz="2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fld id="{72941397-0247-471F-8D2A-069CF2F773D5}" type="slidenum">
              <a:rPr b="0" lang="en-US" sz="2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谢谢观赏副本"/>
          <p:cNvPicPr/>
          <p:nvPr/>
        </p:nvPicPr>
        <p:blipFill>
          <a:blip r:embed="rId2"/>
          <a:stretch/>
        </p:blipFill>
        <p:spPr>
          <a:xfrm>
            <a:off x="-41400" y="-212760"/>
            <a:ext cx="346320" cy="1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"/>
          <p:cNvSpPr/>
          <p:nvPr/>
        </p:nvSpPr>
        <p:spPr>
          <a:xfrm>
            <a:off x="5019480" y="1763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终稿纸飞机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745920" y="8101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f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70"/>
          <p:cNvSpPr/>
          <p:nvPr/>
        </p:nvSpPr>
        <p:spPr>
          <a:xfrm>
            <a:off x="-114480" y="-88920"/>
            <a:ext cx="14943240" cy="10788840"/>
          </a:xfrm>
          <a:prstGeom prst="rect">
            <a:avLst/>
          </a:prstGeom>
          <a:gradFill rotWithShape="0">
            <a:gsLst>
              <a:gs pos="0">
                <a:srgbClr val="00aad2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图片1副本"/>
          <p:cNvPicPr/>
          <p:nvPr/>
        </p:nvPicPr>
        <p:blipFill>
          <a:blip r:embed="rId1"/>
          <a:stretch/>
        </p:blipFill>
        <p:spPr>
          <a:xfrm flipH="1" rot="8547000">
            <a:off x="-968760" y="-10971000"/>
            <a:ext cx="8326440" cy="92394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1"/>
          <p:cNvSpPr/>
          <p:nvPr/>
        </p:nvSpPr>
        <p:spPr>
          <a:xfrm>
            <a:off x="10309320" y="3413160"/>
            <a:ext cx="1728720" cy="27684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2"/>
          <p:cNvGrpSpPr/>
          <p:nvPr/>
        </p:nvGrpSpPr>
        <p:grpSpPr>
          <a:xfrm>
            <a:off x="8755200" y="2652840"/>
            <a:ext cx="2671560" cy="1990440"/>
            <a:chOff x="8755200" y="2652840"/>
            <a:chExt cx="2671560" cy="1990440"/>
          </a:xfrm>
        </p:grpSpPr>
        <p:sp>
          <p:nvSpPr>
            <p:cNvPr id="354" name="Freeform 63"/>
            <p:cNvSpPr/>
            <p:nvPr/>
          </p:nvSpPr>
          <p:spPr>
            <a:xfrm>
              <a:off x="8755200" y="2652840"/>
              <a:ext cx="2671560" cy="1990440"/>
            </a:xfrm>
            <a:custGeom>
              <a:avLst/>
              <a:gdLst/>
              <a:ahLst/>
              <a:rect l="l" t="t" r="r" b="b"/>
              <a:pathLst>
                <a:path w="2104" h="1254">
                  <a:moveTo>
                    <a:pt x="557" y="1210"/>
                  </a:moveTo>
                  <a:cubicBezTo>
                    <a:pt x="660" y="1214"/>
                    <a:pt x="1029" y="1235"/>
                    <a:pt x="1173" y="1237"/>
                  </a:cubicBezTo>
                  <a:cubicBezTo>
                    <a:pt x="1226" y="1234"/>
                    <a:pt x="1355" y="1229"/>
                    <a:pt x="1421" y="1219"/>
                  </a:cubicBezTo>
                  <a:cubicBezTo>
                    <a:pt x="1448" y="1215"/>
                    <a:pt x="1475" y="1209"/>
                    <a:pt x="1501" y="1202"/>
                  </a:cubicBezTo>
                  <a:cubicBezTo>
                    <a:pt x="1525" y="1196"/>
                    <a:pt x="1572" y="1184"/>
                    <a:pt x="1572" y="1184"/>
                  </a:cubicBezTo>
                  <a:cubicBezTo>
                    <a:pt x="1609" y="1165"/>
                    <a:pt x="1648" y="1144"/>
                    <a:pt x="1687" y="1131"/>
                  </a:cubicBezTo>
                  <a:cubicBezTo>
                    <a:pt x="1718" y="1107"/>
                    <a:pt x="1751" y="1091"/>
                    <a:pt x="1784" y="1069"/>
                  </a:cubicBezTo>
                  <a:cubicBezTo>
                    <a:pt x="1840" y="980"/>
                    <a:pt x="1980" y="680"/>
                    <a:pt x="2024" y="594"/>
                  </a:cubicBezTo>
                  <a:cubicBezTo>
                    <a:pt x="2036" y="585"/>
                    <a:pt x="2038" y="563"/>
                    <a:pt x="2050" y="555"/>
                  </a:cubicBezTo>
                  <a:cubicBezTo>
                    <a:pt x="2068" y="543"/>
                    <a:pt x="2104" y="519"/>
                    <a:pt x="2104" y="519"/>
                  </a:cubicBezTo>
                  <a:cubicBezTo>
                    <a:pt x="2049" y="501"/>
                    <a:pt x="1990" y="510"/>
                    <a:pt x="1935" y="493"/>
                  </a:cubicBezTo>
                  <a:cubicBezTo>
                    <a:pt x="1887" y="478"/>
                    <a:pt x="1840" y="458"/>
                    <a:pt x="1793" y="440"/>
                  </a:cubicBezTo>
                  <a:cubicBezTo>
                    <a:pt x="1773" y="432"/>
                    <a:pt x="1758" y="416"/>
                    <a:pt x="1740" y="404"/>
                  </a:cubicBezTo>
                  <a:cubicBezTo>
                    <a:pt x="1732" y="399"/>
                    <a:pt x="1722" y="399"/>
                    <a:pt x="1714" y="395"/>
                  </a:cubicBezTo>
                  <a:cubicBezTo>
                    <a:pt x="1674" y="373"/>
                    <a:pt x="1649" y="347"/>
                    <a:pt x="1607" y="333"/>
                  </a:cubicBezTo>
                  <a:cubicBezTo>
                    <a:pt x="1529" y="281"/>
                    <a:pt x="1453" y="228"/>
                    <a:pt x="1377" y="174"/>
                  </a:cubicBezTo>
                  <a:cubicBezTo>
                    <a:pt x="1356" y="159"/>
                    <a:pt x="1340" y="135"/>
                    <a:pt x="1315" y="129"/>
                  </a:cubicBezTo>
                  <a:cubicBezTo>
                    <a:pt x="1262" y="117"/>
                    <a:pt x="1045" y="0"/>
                    <a:pt x="991" y="0"/>
                  </a:cubicBezTo>
                  <a:cubicBezTo>
                    <a:pt x="895" y="6"/>
                    <a:pt x="852" y="21"/>
                    <a:pt x="739" y="165"/>
                  </a:cubicBezTo>
                  <a:cubicBezTo>
                    <a:pt x="504" y="329"/>
                    <a:pt x="434" y="622"/>
                    <a:pt x="313" y="865"/>
                  </a:cubicBezTo>
                  <a:cubicBezTo>
                    <a:pt x="290" y="990"/>
                    <a:pt x="186" y="1106"/>
                    <a:pt x="83" y="1175"/>
                  </a:cubicBezTo>
                  <a:cubicBezTo>
                    <a:pt x="62" y="1206"/>
                    <a:pt x="43" y="1225"/>
                    <a:pt x="12" y="1246"/>
                  </a:cubicBezTo>
                  <a:cubicBezTo>
                    <a:pt x="0" y="1254"/>
                    <a:pt x="42" y="1241"/>
                    <a:pt x="56" y="1237"/>
                  </a:cubicBezTo>
                  <a:cubicBezTo>
                    <a:pt x="74" y="1232"/>
                    <a:pt x="92" y="1225"/>
                    <a:pt x="110" y="1219"/>
                  </a:cubicBezTo>
                </a:path>
              </a:pathLst>
            </a:cu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4"/>
            <p:cNvSpPr/>
            <p:nvPr/>
          </p:nvSpPr>
          <p:spPr>
            <a:xfrm>
              <a:off x="8852760" y="3203640"/>
              <a:ext cx="2146680" cy="1393200"/>
            </a:xfrm>
            <a:custGeom>
              <a:avLst/>
              <a:gdLst/>
              <a:ahLst/>
              <a:rect l="l" t="t" r="r" b="b"/>
              <a:pathLst>
                <a:path w="1691" h="878">
                  <a:moveTo>
                    <a:pt x="1691" y="741"/>
                  </a:moveTo>
                  <a:cubicBezTo>
                    <a:pt x="1655" y="722"/>
                    <a:pt x="1460" y="728"/>
                    <a:pt x="1399" y="695"/>
                  </a:cubicBezTo>
                  <a:cubicBezTo>
                    <a:pt x="1324" y="661"/>
                    <a:pt x="1289" y="585"/>
                    <a:pt x="1243" y="539"/>
                  </a:cubicBezTo>
                  <a:cubicBezTo>
                    <a:pt x="1223" y="505"/>
                    <a:pt x="1147" y="453"/>
                    <a:pt x="1124" y="421"/>
                  </a:cubicBezTo>
                  <a:cubicBezTo>
                    <a:pt x="1045" y="312"/>
                    <a:pt x="1083" y="237"/>
                    <a:pt x="989" y="142"/>
                  </a:cubicBezTo>
                  <a:cubicBezTo>
                    <a:pt x="943" y="96"/>
                    <a:pt x="893" y="22"/>
                    <a:pt x="830" y="0"/>
                  </a:cubicBezTo>
                  <a:cubicBezTo>
                    <a:pt x="827" y="18"/>
                    <a:pt x="828" y="37"/>
                    <a:pt x="821" y="53"/>
                  </a:cubicBezTo>
                  <a:cubicBezTo>
                    <a:pt x="816" y="65"/>
                    <a:pt x="802" y="70"/>
                    <a:pt x="794" y="80"/>
                  </a:cubicBezTo>
                  <a:cubicBezTo>
                    <a:pt x="769" y="110"/>
                    <a:pt x="738" y="146"/>
                    <a:pt x="715" y="177"/>
                  </a:cubicBezTo>
                  <a:cubicBezTo>
                    <a:pt x="707" y="188"/>
                    <a:pt x="705" y="202"/>
                    <a:pt x="697" y="213"/>
                  </a:cubicBezTo>
                  <a:cubicBezTo>
                    <a:pt x="678" y="240"/>
                    <a:pt x="649" y="269"/>
                    <a:pt x="626" y="292"/>
                  </a:cubicBezTo>
                  <a:cubicBezTo>
                    <a:pt x="616" y="323"/>
                    <a:pt x="623" y="320"/>
                    <a:pt x="590" y="337"/>
                  </a:cubicBezTo>
                  <a:cubicBezTo>
                    <a:pt x="561" y="352"/>
                    <a:pt x="0" y="859"/>
                    <a:pt x="0" y="878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Freeform 65"/>
          <p:cNvSpPr/>
          <p:nvPr/>
        </p:nvSpPr>
        <p:spPr>
          <a:xfrm>
            <a:off x="7358040" y="2674800"/>
            <a:ext cx="3583080" cy="1654200"/>
          </a:xfrm>
          <a:custGeom>
            <a:avLst/>
            <a:gdLst/>
            <a:ahLst/>
            <a:rect l="l" t="t" r="r" b="b"/>
            <a:pathLst>
              <a:path w="2821" h="1042">
                <a:moveTo>
                  <a:pt x="1661" y="156"/>
                </a:moveTo>
                <a:cubicBezTo>
                  <a:pt x="1249" y="161"/>
                  <a:pt x="848" y="174"/>
                  <a:pt x="438" y="164"/>
                </a:cubicBezTo>
                <a:cubicBezTo>
                  <a:pt x="417" y="161"/>
                  <a:pt x="397" y="159"/>
                  <a:pt x="376" y="156"/>
                </a:cubicBezTo>
                <a:cubicBezTo>
                  <a:pt x="340" y="151"/>
                  <a:pt x="269" y="138"/>
                  <a:pt x="269" y="138"/>
                </a:cubicBezTo>
                <a:cubicBezTo>
                  <a:pt x="222" y="122"/>
                  <a:pt x="184" y="103"/>
                  <a:pt x="136" y="94"/>
                </a:cubicBezTo>
                <a:cubicBezTo>
                  <a:pt x="120" y="83"/>
                  <a:pt x="99" y="79"/>
                  <a:pt x="83" y="67"/>
                </a:cubicBezTo>
                <a:cubicBezTo>
                  <a:pt x="63" y="52"/>
                  <a:pt x="30" y="14"/>
                  <a:pt x="30" y="14"/>
                </a:cubicBezTo>
                <a:cubicBezTo>
                  <a:pt x="21" y="17"/>
                  <a:pt x="8" y="15"/>
                  <a:pt x="4" y="23"/>
                </a:cubicBezTo>
                <a:cubicBezTo>
                  <a:pt x="0" y="31"/>
                  <a:pt x="12" y="49"/>
                  <a:pt x="12" y="49"/>
                </a:cubicBezTo>
                <a:cubicBezTo>
                  <a:pt x="33" y="73"/>
                  <a:pt x="56" y="95"/>
                  <a:pt x="74" y="120"/>
                </a:cubicBezTo>
                <a:cubicBezTo>
                  <a:pt x="107" y="165"/>
                  <a:pt x="118" y="311"/>
                  <a:pt x="136" y="368"/>
                </a:cubicBezTo>
                <a:cubicBezTo>
                  <a:pt x="168" y="588"/>
                  <a:pt x="257" y="812"/>
                  <a:pt x="438" y="953"/>
                </a:cubicBezTo>
                <a:cubicBezTo>
                  <a:pt x="494" y="997"/>
                  <a:pt x="567" y="1019"/>
                  <a:pt x="633" y="1042"/>
                </a:cubicBezTo>
                <a:cubicBezTo>
                  <a:pt x="689" y="1039"/>
                  <a:pt x="745" y="1040"/>
                  <a:pt x="801" y="1033"/>
                </a:cubicBezTo>
                <a:cubicBezTo>
                  <a:pt x="845" y="1028"/>
                  <a:pt x="884" y="1003"/>
                  <a:pt x="925" y="989"/>
                </a:cubicBezTo>
                <a:cubicBezTo>
                  <a:pt x="1067" y="939"/>
                  <a:pt x="1203" y="875"/>
                  <a:pt x="1350" y="838"/>
                </a:cubicBezTo>
                <a:cubicBezTo>
                  <a:pt x="1517" y="796"/>
                  <a:pt x="1702" y="814"/>
                  <a:pt x="1873" y="802"/>
                </a:cubicBezTo>
                <a:cubicBezTo>
                  <a:pt x="1894" y="796"/>
                  <a:pt x="1914" y="789"/>
                  <a:pt x="1935" y="785"/>
                </a:cubicBezTo>
                <a:cubicBezTo>
                  <a:pt x="1955" y="781"/>
                  <a:pt x="1977" y="781"/>
                  <a:pt x="1997" y="776"/>
                </a:cubicBezTo>
                <a:cubicBezTo>
                  <a:pt x="2084" y="752"/>
                  <a:pt x="2172" y="713"/>
                  <a:pt x="2254" y="678"/>
                </a:cubicBezTo>
                <a:cubicBezTo>
                  <a:pt x="2315" y="652"/>
                  <a:pt x="2380" y="632"/>
                  <a:pt x="2432" y="590"/>
                </a:cubicBezTo>
                <a:cubicBezTo>
                  <a:pt x="2448" y="577"/>
                  <a:pt x="2460" y="559"/>
                  <a:pt x="2476" y="546"/>
                </a:cubicBezTo>
                <a:cubicBezTo>
                  <a:pt x="2492" y="532"/>
                  <a:pt x="2514" y="525"/>
                  <a:pt x="2529" y="510"/>
                </a:cubicBezTo>
                <a:cubicBezTo>
                  <a:pt x="2607" y="432"/>
                  <a:pt x="2670" y="330"/>
                  <a:pt x="2724" y="235"/>
                </a:cubicBezTo>
                <a:cubicBezTo>
                  <a:pt x="2754" y="182"/>
                  <a:pt x="2767" y="121"/>
                  <a:pt x="2795" y="67"/>
                </a:cubicBezTo>
                <a:cubicBezTo>
                  <a:pt x="2800" y="41"/>
                  <a:pt x="2821" y="11"/>
                  <a:pt x="2777" y="5"/>
                </a:cubicBezTo>
                <a:cubicBezTo>
                  <a:pt x="2735" y="0"/>
                  <a:pt x="2632" y="40"/>
                  <a:pt x="2582" y="49"/>
                </a:cubicBezTo>
                <a:cubicBezTo>
                  <a:pt x="2419" y="78"/>
                  <a:pt x="2262" y="110"/>
                  <a:pt x="2095" y="120"/>
                </a:cubicBezTo>
                <a:cubicBezTo>
                  <a:pt x="2033" y="124"/>
                  <a:pt x="1971" y="126"/>
                  <a:pt x="1909" y="129"/>
                </a:cubicBezTo>
                <a:cubicBezTo>
                  <a:pt x="1865" y="132"/>
                  <a:pt x="1820" y="135"/>
                  <a:pt x="1776" y="138"/>
                </a:cubicBezTo>
                <a:cubicBezTo>
                  <a:pt x="1732" y="147"/>
                  <a:pt x="1687" y="154"/>
                  <a:pt x="1643" y="164"/>
                </a:cubicBezTo>
                <a:cubicBezTo>
                  <a:pt x="1602" y="192"/>
                  <a:pt x="1607" y="187"/>
                  <a:pt x="1661" y="156"/>
                </a:cubicBez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66"/>
          <p:cNvSpPr/>
          <p:nvPr/>
        </p:nvSpPr>
        <p:spPr>
          <a:xfrm flipH="1" rot="19805400">
            <a:off x="6073200" y="1622160"/>
            <a:ext cx="3527280" cy="2378160"/>
          </a:xfrm>
          <a:custGeom>
            <a:avLst/>
            <a:gdLst/>
            <a:ahLst/>
            <a:rect l="l" t="t" r="r" b="b"/>
            <a:pathLst>
              <a:path w="2778" h="1498">
                <a:moveTo>
                  <a:pt x="0" y="913"/>
                </a:moveTo>
                <a:cubicBezTo>
                  <a:pt x="41" y="822"/>
                  <a:pt x="76" y="727"/>
                  <a:pt x="124" y="639"/>
                </a:cubicBezTo>
                <a:cubicBezTo>
                  <a:pt x="203" y="493"/>
                  <a:pt x="409" y="365"/>
                  <a:pt x="540" y="275"/>
                </a:cubicBezTo>
                <a:cubicBezTo>
                  <a:pt x="791" y="103"/>
                  <a:pt x="1089" y="19"/>
                  <a:pt x="1391" y="0"/>
                </a:cubicBezTo>
                <a:cubicBezTo>
                  <a:pt x="1477" y="15"/>
                  <a:pt x="1540" y="9"/>
                  <a:pt x="1604" y="71"/>
                </a:cubicBezTo>
                <a:cubicBezTo>
                  <a:pt x="1634" y="237"/>
                  <a:pt x="1615" y="410"/>
                  <a:pt x="1648" y="576"/>
                </a:cubicBezTo>
                <a:cubicBezTo>
                  <a:pt x="1685" y="763"/>
                  <a:pt x="1744" y="939"/>
                  <a:pt x="1834" y="1108"/>
                </a:cubicBezTo>
                <a:cubicBezTo>
                  <a:pt x="1875" y="1185"/>
                  <a:pt x="1965" y="1341"/>
                  <a:pt x="2029" y="1392"/>
                </a:cubicBezTo>
                <a:cubicBezTo>
                  <a:pt x="2067" y="1422"/>
                  <a:pt x="2098" y="1462"/>
                  <a:pt x="2144" y="1480"/>
                </a:cubicBezTo>
                <a:cubicBezTo>
                  <a:pt x="2161" y="1487"/>
                  <a:pt x="2197" y="1498"/>
                  <a:pt x="2197" y="1498"/>
                </a:cubicBezTo>
                <a:cubicBezTo>
                  <a:pt x="2288" y="1468"/>
                  <a:pt x="2296" y="1392"/>
                  <a:pt x="2330" y="1312"/>
                </a:cubicBezTo>
                <a:cubicBezTo>
                  <a:pt x="2338" y="1294"/>
                  <a:pt x="2349" y="1277"/>
                  <a:pt x="2357" y="1259"/>
                </a:cubicBezTo>
                <a:cubicBezTo>
                  <a:pt x="2367" y="1236"/>
                  <a:pt x="2374" y="1211"/>
                  <a:pt x="2383" y="1188"/>
                </a:cubicBezTo>
                <a:cubicBezTo>
                  <a:pt x="2430" y="1069"/>
                  <a:pt x="2495" y="952"/>
                  <a:pt x="2561" y="842"/>
                </a:cubicBezTo>
                <a:cubicBezTo>
                  <a:pt x="2624" y="738"/>
                  <a:pt x="2701" y="641"/>
                  <a:pt x="2756" y="532"/>
                </a:cubicBezTo>
                <a:cubicBezTo>
                  <a:pt x="2772" y="464"/>
                  <a:pt x="2778" y="434"/>
                  <a:pt x="2720" y="390"/>
                </a:cubicBezTo>
                <a:cubicBezTo>
                  <a:pt x="2559" y="397"/>
                  <a:pt x="2483" y="409"/>
                  <a:pt x="2339" y="435"/>
                </a:cubicBezTo>
                <a:cubicBezTo>
                  <a:pt x="2219" y="457"/>
                  <a:pt x="2096" y="466"/>
                  <a:pt x="1976" y="488"/>
                </a:cubicBezTo>
                <a:cubicBezTo>
                  <a:pt x="1908" y="501"/>
                  <a:pt x="1840" y="508"/>
                  <a:pt x="1772" y="523"/>
                </a:cubicBezTo>
                <a:cubicBezTo>
                  <a:pt x="1742" y="530"/>
                  <a:pt x="1721" y="532"/>
                  <a:pt x="1692" y="541"/>
                </a:cubicBezTo>
                <a:cubicBezTo>
                  <a:pt x="1674" y="546"/>
                  <a:pt x="1639" y="559"/>
                  <a:pt x="1639" y="559"/>
                </a:cubicBezTo>
                <a:cubicBezTo>
                  <a:pt x="1655" y="606"/>
                  <a:pt x="1659" y="654"/>
                  <a:pt x="1674" y="701"/>
                </a:cubicBezTo>
                <a:cubicBezTo>
                  <a:pt x="1680" y="719"/>
                  <a:pt x="1692" y="754"/>
                  <a:pt x="1692" y="754"/>
                </a:cubicBezTo>
                <a:cubicBezTo>
                  <a:pt x="1695" y="780"/>
                  <a:pt x="1696" y="807"/>
                  <a:pt x="1701" y="833"/>
                </a:cubicBezTo>
                <a:cubicBezTo>
                  <a:pt x="1721" y="930"/>
                  <a:pt x="1710" y="853"/>
                  <a:pt x="1736" y="913"/>
                </a:cubicBezTo>
                <a:cubicBezTo>
                  <a:pt x="1762" y="971"/>
                  <a:pt x="1779" y="1038"/>
                  <a:pt x="1798" y="1099"/>
                </a:cubicBezTo>
                <a:cubicBezTo>
                  <a:pt x="1802" y="1111"/>
                  <a:pt x="1780" y="1082"/>
                  <a:pt x="1772" y="1073"/>
                </a:cubicBezTo>
                <a:cubicBezTo>
                  <a:pt x="1728" y="1020"/>
                  <a:pt x="1784" y="1073"/>
                  <a:pt x="1728" y="1011"/>
                </a:cubicBezTo>
                <a:cubicBezTo>
                  <a:pt x="1692" y="972"/>
                  <a:pt x="1663" y="936"/>
                  <a:pt x="1612" y="922"/>
                </a:cubicBezTo>
                <a:cubicBezTo>
                  <a:pt x="1588" y="916"/>
                  <a:pt x="1541" y="904"/>
                  <a:pt x="1541" y="904"/>
                </a:cubicBezTo>
                <a:cubicBezTo>
                  <a:pt x="1453" y="907"/>
                  <a:pt x="1364" y="907"/>
                  <a:pt x="1276" y="913"/>
                </a:cubicBezTo>
                <a:cubicBezTo>
                  <a:pt x="1170" y="920"/>
                  <a:pt x="1062" y="946"/>
                  <a:pt x="957" y="958"/>
                </a:cubicBezTo>
                <a:cubicBezTo>
                  <a:pt x="844" y="971"/>
                  <a:pt x="910" y="963"/>
                  <a:pt x="762" y="984"/>
                </a:cubicBezTo>
                <a:cubicBezTo>
                  <a:pt x="741" y="987"/>
                  <a:pt x="721" y="990"/>
                  <a:pt x="700" y="993"/>
                </a:cubicBezTo>
                <a:cubicBezTo>
                  <a:pt x="679" y="996"/>
                  <a:pt x="638" y="1002"/>
                  <a:pt x="638" y="1002"/>
                </a:cubicBezTo>
                <a:cubicBezTo>
                  <a:pt x="561" y="998"/>
                  <a:pt x="478" y="1015"/>
                  <a:pt x="407" y="984"/>
                </a:cubicBezTo>
                <a:cubicBezTo>
                  <a:pt x="311" y="942"/>
                  <a:pt x="447" y="985"/>
                  <a:pt x="354" y="958"/>
                </a:cubicBezTo>
                <a:cubicBezTo>
                  <a:pt x="306" y="926"/>
                  <a:pt x="260" y="892"/>
                  <a:pt x="212" y="860"/>
                </a:cubicBezTo>
                <a:cubicBezTo>
                  <a:pt x="188" y="844"/>
                  <a:pt x="122" y="837"/>
                  <a:pt x="97" y="833"/>
                </a:cubicBezTo>
                <a:cubicBezTo>
                  <a:pt x="38" y="853"/>
                  <a:pt x="61" y="843"/>
                  <a:pt x="26" y="860"/>
                </a:cubicBezTo>
              </a:path>
            </a:pathLst>
          </a:custGeom>
          <a:solidFill>
            <a:srgbClr val="ffffff">
              <a:alpha val="91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7"/>
          <p:cNvSpPr/>
          <p:nvPr/>
        </p:nvSpPr>
        <p:spPr>
          <a:xfrm>
            <a:off x="5504040" y="177840"/>
            <a:ext cx="2923920" cy="3139920"/>
          </a:xfrm>
          <a:custGeom>
            <a:avLst/>
            <a:gdLst/>
            <a:ahLst/>
            <a:rect l="l" t="t" r="r" b="b"/>
            <a:pathLst>
              <a:path w="2302" h="1978">
                <a:moveTo>
                  <a:pt x="2282" y="204"/>
                </a:moveTo>
                <a:cubicBezTo>
                  <a:pt x="2214" y="213"/>
                  <a:pt x="2146" y="226"/>
                  <a:pt x="2078" y="230"/>
                </a:cubicBezTo>
                <a:cubicBezTo>
                  <a:pt x="2006" y="234"/>
                  <a:pt x="1937" y="210"/>
                  <a:pt x="1866" y="204"/>
                </a:cubicBezTo>
                <a:cubicBezTo>
                  <a:pt x="1816" y="200"/>
                  <a:pt x="1765" y="199"/>
                  <a:pt x="1715" y="195"/>
                </a:cubicBezTo>
                <a:cubicBezTo>
                  <a:pt x="1659" y="190"/>
                  <a:pt x="1603" y="183"/>
                  <a:pt x="1547" y="177"/>
                </a:cubicBezTo>
                <a:cubicBezTo>
                  <a:pt x="1517" y="174"/>
                  <a:pt x="1488" y="171"/>
                  <a:pt x="1458" y="168"/>
                </a:cubicBezTo>
                <a:cubicBezTo>
                  <a:pt x="1396" y="162"/>
                  <a:pt x="1272" y="151"/>
                  <a:pt x="1272" y="151"/>
                </a:cubicBezTo>
                <a:cubicBezTo>
                  <a:pt x="1122" y="121"/>
                  <a:pt x="1213" y="136"/>
                  <a:pt x="997" y="115"/>
                </a:cubicBezTo>
                <a:cubicBezTo>
                  <a:pt x="763" y="92"/>
                  <a:pt x="531" y="50"/>
                  <a:pt x="297" y="27"/>
                </a:cubicBezTo>
                <a:cubicBezTo>
                  <a:pt x="279" y="21"/>
                  <a:pt x="262" y="15"/>
                  <a:pt x="244" y="9"/>
                </a:cubicBezTo>
                <a:cubicBezTo>
                  <a:pt x="235" y="6"/>
                  <a:pt x="217" y="0"/>
                  <a:pt x="217" y="0"/>
                </a:cubicBezTo>
                <a:cubicBezTo>
                  <a:pt x="398" y="235"/>
                  <a:pt x="422" y="502"/>
                  <a:pt x="492" y="780"/>
                </a:cubicBezTo>
                <a:cubicBezTo>
                  <a:pt x="498" y="833"/>
                  <a:pt x="504" y="886"/>
                  <a:pt x="510" y="939"/>
                </a:cubicBezTo>
                <a:cubicBezTo>
                  <a:pt x="513" y="966"/>
                  <a:pt x="519" y="1019"/>
                  <a:pt x="519" y="1019"/>
                </a:cubicBezTo>
                <a:cubicBezTo>
                  <a:pt x="525" y="1217"/>
                  <a:pt x="525" y="1415"/>
                  <a:pt x="536" y="1613"/>
                </a:cubicBezTo>
                <a:cubicBezTo>
                  <a:pt x="539" y="1672"/>
                  <a:pt x="606" y="1734"/>
                  <a:pt x="652" y="1763"/>
                </a:cubicBezTo>
                <a:cubicBezTo>
                  <a:pt x="755" y="1827"/>
                  <a:pt x="881" y="1854"/>
                  <a:pt x="953" y="1958"/>
                </a:cubicBezTo>
                <a:cubicBezTo>
                  <a:pt x="944" y="1964"/>
                  <a:pt x="937" y="1978"/>
                  <a:pt x="926" y="1976"/>
                </a:cubicBezTo>
                <a:cubicBezTo>
                  <a:pt x="924" y="1976"/>
                  <a:pt x="909" y="1924"/>
                  <a:pt x="909" y="1923"/>
                </a:cubicBezTo>
                <a:cubicBezTo>
                  <a:pt x="895" y="1893"/>
                  <a:pt x="891" y="1896"/>
                  <a:pt x="864" y="1879"/>
                </a:cubicBezTo>
                <a:cubicBezTo>
                  <a:pt x="849" y="1835"/>
                  <a:pt x="864" y="1854"/>
                  <a:pt x="802" y="1834"/>
                </a:cubicBezTo>
                <a:cubicBezTo>
                  <a:pt x="793" y="1831"/>
                  <a:pt x="776" y="1826"/>
                  <a:pt x="776" y="1826"/>
                </a:cubicBezTo>
                <a:cubicBezTo>
                  <a:pt x="733" y="1797"/>
                  <a:pt x="687" y="1775"/>
                  <a:pt x="643" y="1746"/>
                </a:cubicBezTo>
                <a:cubicBezTo>
                  <a:pt x="634" y="1740"/>
                  <a:pt x="625" y="1734"/>
                  <a:pt x="616" y="1728"/>
                </a:cubicBezTo>
                <a:cubicBezTo>
                  <a:pt x="607" y="1722"/>
                  <a:pt x="590" y="1710"/>
                  <a:pt x="590" y="1710"/>
                </a:cubicBezTo>
                <a:cubicBezTo>
                  <a:pt x="569" y="1647"/>
                  <a:pt x="583" y="1672"/>
                  <a:pt x="554" y="1631"/>
                </a:cubicBezTo>
                <a:cubicBezTo>
                  <a:pt x="548" y="1613"/>
                  <a:pt x="542" y="1595"/>
                  <a:pt x="536" y="1577"/>
                </a:cubicBezTo>
                <a:cubicBezTo>
                  <a:pt x="533" y="1568"/>
                  <a:pt x="528" y="1551"/>
                  <a:pt x="528" y="1551"/>
                </a:cubicBezTo>
                <a:cubicBezTo>
                  <a:pt x="502" y="1370"/>
                  <a:pt x="513" y="1192"/>
                  <a:pt x="528" y="1010"/>
                </a:cubicBezTo>
                <a:cubicBezTo>
                  <a:pt x="525" y="957"/>
                  <a:pt x="524" y="904"/>
                  <a:pt x="519" y="851"/>
                </a:cubicBezTo>
                <a:cubicBezTo>
                  <a:pt x="516" y="820"/>
                  <a:pt x="492" y="762"/>
                  <a:pt x="492" y="762"/>
                </a:cubicBezTo>
                <a:cubicBezTo>
                  <a:pt x="445" y="795"/>
                  <a:pt x="481" y="761"/>
                  <a:pt x="457" y="815"/>
                </a:cubicBezTo>
                <a:cubicBezTo>
                  <a:pt x="439" y="855"/>
                  <a:pt x="414" y="892"/>
                  <a:pt x="395" y="931"/>
                </a:cubicBezTo>
                <a:cubicBezTo>
                  <a:pt x="390" y="942"/>
                  <a:pt x="392" y="955"/>
                  <a:pt x="386" y="966"/>
                </a:cubicBezTo>
                <a:cubicBezTo>
                  <a:pt x="379" y="979"/>
                  <a:pt x="366" y="988"/>
                  <a:pt x="359" y="1001"/>
                </a:cubicBezTo>
                <a:cubicBezTo>
                  <a:pt x="330" y="1059"/>
                  <a:pt x="304" y="1127"/>
                  <a:pt x="279" y="1187"/>
                </a:cubicBezTo>
                <a:cubicBezTo>
                  <a:pt x="244" y="1272"/>
                  <a:pt x="195" y="1349"/>
                  <a:pt x="164" y="1436"/>
                </a:cubicBezTo>
                <a:cubicBezTo>
                  <a:pt x="125" y="1545"/>
                  <a:pt x="66" y="1640"/>
                  <a:pt x="5" y="1737"/>
                </a:cubicBezTo>
                <a:cubicBezTo>
                  <a:pt x="0" y="1745"/>
                  <a:pt x="22" y="1731"/>
                  <a:pt x="31" y="1728"/>
                </a:cubicBezTo>
                <a:cubicBezTo>
                  <a:pt x="168" y="1740"/>
                  <a:pt x="108" y="1731"/>
                  <a:pt x="244" y="1755"/>
                </a:cubicBezTo>
                <a:cubicBezTo>
                  <a:pt x="259" y="1758"/>
                  <a:pt x="288" y="1763"/>
                  <a:pt x="288" y="1763"/>
                </a:cubicBezTo>
                <a:cubicBezTo>
                  <a:pt x="321" y="1780"/>
                  <a:pt x="360" y="1796"/>
                  <a:pt x="395" y="1808"/>
                </a:cubicBezTo>
                <a:cubicBezTo>
                  <a:pt x="418" y="1816"/>
                  <a:pt x="466" y="1826"/>
                  <a:pt x="466" y="1826"/>
                </a:cubicBezTo>
                <a:cubicBezTo>
                  <a:pt x="522" y="1863"/>
                  <a:pt x="585" y="1878"/>
                  <a:pt x="652" y="1888"/>
                </a:cubicBezTo>
                <a:cubicBezTo>
                  <a:pt x="659" y="1890"/>
                  <a:pt x="780" y="1940"/>
                  <a:pt x="785" y="1941"/>
                </a:cubicBezTo>
                <a:cubicBezTo>
                  <a:pt x="841" y="1946"/>
                  <a:pt x="897" y="1947"/>
                  <a:pt x="953" y="1950"/>
                </a:cubicBezTo>
                <a:cubicBezTo>
                  <a:pt x="1010" y="1946"/>
                  <a:pt x="1074" y="1951"/>
                  <a:pt x="1130" y="1932"/>
                </a:cubicBezTo>
                <a:cubicBezTo>
                  <a:pt x="1308" y="1871"/>
                  <a:pt x="1473" y="1629"/>
                  <a:pt x="1573" y="1480"/>
                </a:cubicBezTo>
                <a:cubicBezTo>
                  <a:pt x="1586" y="1461"/>
                  <a:pt x="1605" y="1446"/>
                  <a:pt x="1618" y="1427"/>
                </a:cubicBezTo>
                <a:cubicBezTo>
                  <a:pt x="1672" y="1344"/>
                  <a:pt x="1709" y="1254"/>
                  <a:pt x="1759" y="1170"/>
                </a:cubicBezTo>
                <a:cubicBezTo>
                  <a:pt x="1772" y="1148"/>
                  <a:pt x="1790" y="1129"/>
                  <a:pt x="1804" y="1108"/>
                </a:cubicBezTo>
                <a:cubicBezTo>
                  <a:pt x="1856" y="1027"/>
                  <a:pt x="1891" y="935"/>
                  <a:pt x="1937" y="851"/>
                </a:cubicBezTo>
                <a:cubicBezTo>
                  <a:pt x="1980" y="772"/>
                  <a:pt x="2033" y="698"/>
                  <a:pt x="2078" y="620"/>
                </a:cubicBezTo>
                <a:cubicBezTo>
                  <a:pt x="2113" y="560"/>
                  <a:pt x="2139" y="502"/>
                  <a:pt x="2176" y="443"/>
                </a:cubicBezTo>
                <a:cubicBezTo>
                  <a:pt x="2194" y="413"/>
                  <a:pt x="2198" y="366"/>
                  <a:pt x="2220" y="337"/>
                </a:cubicBezTo>
                <a:cubicBezTo>
                  <a:pt x="2235" y="317"/>
                  <a:pt x="2273" y="284"/>
                  <a:pt x="2273" y="284"/>
                </a:cubicBezTo>
                <a:cubicBezTo>
                  <a:pt x="2279" y="266"/>
                  <a:pt x="2302" y="246"/>
                  <a:pt x="2291" y="230"/>
                </a:cubicBezTo>
                <a:cubicBezTo>
                  <a:pt x="2271" y="202"/>
                  <a:pt x="2262" y="204"/>
                  <a:pt x="2282" y="204"/>
                </a:cubicBez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68"/>
          <p:cNvSpPr/>
          <p:nvPr/>
        </p:nvSpPr>
        <p:spPr>
          <a:xfrm>
            <a:off x="4402080" y="-949320"/>
            <a:ext cx="2786040" cy="3825720"/>
          </a:xfrm>
          <a:custGeom>
            <a:avLst/>
            <a:gdLst/>
            <a:ahLst/>
            <a:rect l="l" t="t" r="r" b="b"/>
            <a:pathLst>
              <a:path w="2127" h="2115">
                <a:moveTo>
                  <a:pt x="1675" y="175"/>
                </a:moveTo>
                <a:cubicBezTo>
                  <a:pt x="1449" y="212"/>
                  <a:pt x="1474" y="205"/>
                  <a:pt x="1276" y="192"/>
                </a:cubicBezTo>
                <a:cubicBezTo>
                  <a:pt x="1170" y="170"/>
                  <a:pt x="1063" y="158"/>
                  <a:pt x="957" y="139"/>
                </a:cubicBezTo>
                <a:cubicBezTo>
                  <a:pt x="820" y="115"/>
                  <a:pt x="687" y="75"/>
                  <a:pt x="549" y="59"/>
                </a:cubicBezTo>
                <a:cubicBezTo>
                  <a:pt x="471" y="40"/>
                  <a:pt x="399" y="31"/>
                  <a:pt x="319" y="24"/>
                </a:cubicBezTo>
                <a:cubicBezTo>
                  <a:pt x="287" y="16"/>
                  <a:pt x="244" y="0"/>
                  <a:pt x="213" y="24"/>
                </a:cubicBezTo>
                <a:cubicBezTo>
                  <a:pt x="199" y="35"/>
                  <a:pt x="206" y="59"/>
                  <a:pt x="204" y="77"/>
                </a:cubicBezTo>
                <a:cubicBezTo>
                  <a:pt x="184" y="233"/>
                  <a:pt x="210" y="104"/>
                  <a:pt x="177" y="228"/>
                </a:cubicBezTo>
                <a:cubicBezTo>
                  <a:pt x="124" y="428"/>
                  <a:pt x="62" y="634"/>
                  <a:pt x="35" y="839"/>
                </a:cubicBezTo>
                <a:cubicBezTo>
                  <a:pt x="23" y="928"/>
                  <a:pt x="0" y="1105"/>
                  <a:pt x="0" y="1105"/>
                </a:cubicBezTo>
                <a:cubicBezTo>
                  <a:pt x="3" y="1232"/>
                  <a:pt x="0" y="1359"/>
                  <a:pt x="9" y="1486"/>
                </a:cubicBezTo>
                <a:cubicBezTo>
                  <a:pt x="11" y="1511"/>
                  <a:pt x="52" y="1669"/>
                  <a:pt x="62" y="1699"/>
                </a:cubicBezTo>
                <a:cubicBezTo>
                  <a:pt x="79" y="1748"/>
                  <a:pt x="112" y="1824"/>
                  <a:pt x="142" y="1867"/>
                </a:cubicBezTo>
                <a:cubicBezTo>
                  <a:pt x="275" y="2062"/>
                  <a:pt x="507" y="2084"/>
                  <a:pt x="718" y="2115"/>
                </a:cubicBezTo>
                <a:cubicBezTo>
                  <a:pt x="794" y="2109"/>
                  <a:pt x="864" y="2102"/>
                  <a:pt x="939" y="2089"/>
                </a:cubicBezTo>
                <a:cubicBezTo>
                  <a:pt x="1004" y="2063"/>
                  <a:pt x="1040" y="2039"/>
                  <a:pt x="1099" y="2009"/>
                </a:cubicBezTo>
                <a:cubicBezTo>
                  <a:pt x="1128" y="1979"/>
                  <a:pt x="1154" y="1963"/>
                  <a:pt x="1179" y="1929"/>
                </a:cubicBezTo>
                <a:cubicBezTo>
                  <a:pt x="1193" y="1882"/>
                  <a:pt x="1200" y="1835"/>
                  <a:pt x="1232" y="1796"/>
                </a:cubicBezTo>
                <a:cubicBezTo>
                  <a:pt x="1333" y="1672"/>
                  <a:pt x="1513" y="1606"/>
                  <a:pt x="1666" y="1584"/>
                </a:cubicBezTo>
                <a:cubicBezTo>
                  <a:pt x="1868" y="1501"/>
                  <a:pt x="2042" y="1376"/>
                  <a:pt x="2127" y="1167"/>
                </a:cubicBezTo>
                <a:cubicBezTo>
                  <a:pt x="2103" y="1097"/>
                  <a:pt x="2106" y="1112"/>
                  <a:pt x="2038" y="1087"/>
                </a:cubicBezTo>
                <a:cubicBezTo>
                  <a:pt x="2021" y="1081"/>
                  <a:pt x="2003" y="1076"/>
                  <a:pt x="1985" y="1070"/>
                </a:cubicBezTo>
                <a:cubicBezTo>
                  <a:pt x="1976" y="1067"/>
                  <a:pt x="1958" y="1061"/>
                  <a:pt x="1958" y="1061"/>
                </a:cubicBezTo>
                <a:cubicBezTo>
                  <a:pt x="1869" y="1000"/>
                  <a:pt x="1839" y="942"/>
                  <a:pt x="1799" y="839"/>
                </a:cubicBezTo>
                <a:cubicBezTo>
                  <a:pt x="1788" y="811"/>
                  <a:pt x="1781" y="751"/>
                  <a:pt x="1781" y="751"/>
                </a:cubicBezTo>
                <a:cubicBezTo>
                  <a:pt x="1768" y="618"/>
                  <a:pt x="1798" y="484"/>
                  <a:pt x="1772" y="352"/>
                </a:cubicBezTo>
                <a:cubicBezTo>
                  <a:pt x="1767" y="329"/>
                  <a:pt x="1746" y="312"/>
                  <a:pt x="1737" y="290"/>
                </a:cubicBezTo>
                <a:cubicBezTo>
                  <a:pt x="1730" y="273"/>
                  <a:pt x="1719" y="237"/>
                  <a:pt x="1719" y="237"/>
                </a:cubicBezTo>
                <a:cubicBezTo>
                  <a:pt x="1716" y="216"/>
                  <a:pt x="1721" y="193"/>
                  <a:pt x="1710" y="175"/>
                </a:cubicBezTo>
                <a:cubicBezTo>
                  <a:pt x="1672" y="114"/>
                  <a:pt x="1675" y="167"/>
                  <a:pt x="1675" y="175"/>
                </a:cubicBez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69"/>
          <p:cNvSpPr/>
          <p:nvPr/>
        </p:nvSpPr>
        <p:spPr>
          <a:xfrm>
            <a:off x="2478240" y="-1436760"/>
            <a:ext cx="3514680" cy="3584520"/>
          </a:xfrm>
          <a:custGeom>
            <a:avLst/>
            <a:gdLst/>
            <a:ahLst/>
            <a:rect l="l" t="t" r="r" b="b"/>
            <a:pathLst>
              <a:path w="2768" h="2258">
                <a:moveTo>
                  <a:pt x="1769" y="40"/>
                </a:moveTo>
                <a:cubicBezTo>
                  <a:pt x="1611" y="51"/>
                  <a:pt x="1456" y="68"/>
                  <a:pt x="1299" y="84"/>
                </a:cubicBezTo>
                <a:cubicBezTo>
                  <a:pt x="1033" y="152"/>
                  <a:pt x="766" y="212"/>
                  <a:pt x="502" y="288"/>
                </a:cubicBezTo>
                <a:cubicBezTo>
                  <a:pt x="389" y="320"/>
                  <a:pt x="277" y="351"/>
                  <a:pt x="165" y="385"/>
                </a:cubicBezTo>
                <a:cubicBezTo>
                  <a:pt x="147" y="390"/>
                  <a:pt x="129" y="395"/>
                  <a:pt x="112" y="403"/>
                </a:cubicBezTo>
                <a:cubicBezTo>
                  <a:pt x="87" y="415"/>
                  <a:pt x="41" y="447"/>
                  <a:pt x="41" y="447"/>
                </a:cubicBezTo>
                <a:cubicBezTo>
                  <a:pt x="0" y="571"/>
                  <a:pt x="98" y="676"/>
                  <a:pt x="138" y="793"/>
                </a:cubicBezTo>
                <a:cubicBezTo>
                  <a:pt x="217" y="1027"/>
                  <a:pt x="325" y="1250"/>
                  <a:pt x="404" y="1484"/>
                </a:cubicBezTo>
                <a:cubicBezTo>
                  <a:pt x="432" y="1566"/>
                  <a:pt x="456" y="1650"/>
                  <a:pt x="484" y="1732"/>
                </a:cubicBezTo>
                <a:cubicBezTo>
                  <a:pt x="487" y="1762"/>
                  <a:pt x="490" y="1791"/>
                  <a:pt x="493" y="1821"/>
                </a:cubicBezTo>
                <a:cubicBezTo>
                  <a:pt x="499" y="1874"/>
                  <a:pt x="511" y="1980"/>
                  <a:pt x="511" y="1980"/>
                </a:cubicBezTo>
                <a:cubicBezTo>
                  <a:pt x="508" y="2042"/>
                  <a:pt x="506" y="2105"/>
                  <a:pt x="502" y="2167"/>
                </a:cubicBezTo>
                <a:cubicBezTo>
                  <a:pt x="498" y="2218"/>
                  <a:pt x="483" y="2258"/>
                  <a:pt x="502" y="2202"/>
                </a:cubicBezTo>
                <a:cubicBezTo>
                  <a:pt x="514" y="2087"/>
                  <a:pt x="532" y="1961"/>
                  <a:pt x="581" y="1856"/>
                </a:cubicBezTo>
                <a:cubicBezTo>
                  <a:pt x="827" y="1329"/>
                  <a:pt x="1463" y="1284"/>
                  <a:pt x="1955" y="1147"/>
                </a:cubicBezTo>
                <a:cubicBezTo>
                  <a:pt x="2135" y="1097"/>
                  <a:pt x="2303" y="988"/>
                  <a:pt x="2460" y="890"/>
                </a:cubicBezTo>
                <a:cubicBezTo>
                  <a:pt x="2556" y="830"/>
                  <a:pt x="2645" y="765"/>
                  <a:pt x="2708" y="669"/>
                </a:cubicBezTo>
                <a:cubicBezTo>
                  <a:pt x="2768" y="430"/>
                  <a:pt x="2485" y="417"/>
                  <a:pt x="2327" y="394"/>
                </a:cubicBezTo>
                <a:cubicBezTo>
                  <a:pt x="2270" y="386"/>
                  <a:pt x="2216" y="362"/>
                  <a:pt x="2159" y="350"/>
                </a:cubicBezTo>
                <a:cubicBezTo>
                  <a:pt x="2080" y="310"/>
                  <a:pt x="2113" y="322"/>
                  <a:pt x="2061" y="306"/>
                </a:cubicBezTo>
                <a:cubicBezTo>
                  <a:pt x="2020" y="278"/>
                  <a:pt x="1987" y="244"/>
                  <a:pt x="1946" y="217"/>
                </a:cubicBezTo>
                <a:cubicBezTo>
                  <a:pt x="1918" y="175"/>
                  <a:pt x="1873" y="121"/>
                  <a:pt x="1831" y="93"/>
                </a:cubicBezTo>
                <a:cubicBezTo>
                  <a:pt x="1818" y="74"/>
                  <a:pt x="1807" y="53"/>
                  <a:pt x="1787" y="40"/>
                </a:cubicBezTo>
                <a:cubicBezTo>
                  <a:pt x="1726" y="0"/>
                  <a:pt x="1767" y="38"/>
                  <a:pt x="1769" y="40"/>
                </a:cubicBez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70"/>
          <p:cNvSpPr/>
          <p:nvPr/>
        </p:nvSpPr>
        <p:spPr>
          <a:xfrm>
            <a:off x="1531800" y="-2076480"/>
            <a:ext cx="2295720" cy="3684600"/>
          </a:xfrm>
          <a:custGeom>
            <a:avLst/>
            <a:gdLst/>
            <a:ahLst/>
            <a:rect l="l" t="t" r="r" b="b"/>
            <a:pathLst>
              <a:path w="1808" h="2321">
                <a:moveTo>
                  <a:pt x="213" y="1719"/>
                </a:moveTo>
                <a:cubicBezTo>
                  <a:pt x="278" y="1819"/>
                  <a:pt x="343" y="1920"/>
                  <a:pt x="408" y="2020"/>
                </a:cubicBezTo>
                <a:cubicBezTo>
                  <a:pt x="441" y="2071"/>
                  <a:pt x="466" y="2134"/>
                  <a:pt x="505" y="2180"/>
                </a:cubicBezTo>
                <a:cubicBezTo>
                  <a:pt x="624" y="2321"/>
                  <a:pt x="532" y="2192"/>
                  <a:pt x="585" y="2268"/>
                </a:cubicBezTo>
                <a:cubicBezTo>
                  <a:pt x="600" y="2265"/>
                  <a:pt x="621" y="2272"/>
                  <a:pt x="629" y="2260"/>
                </a:cubicBezTo>
                <a:cubicBezTo>
                  <a:pt x="638" y="2247"/>
                  <a:pt x="624" y="2230"/>
                  <a:pt x="621" y="2215"/>
                </a:cubicBezTo>
                <a:cubicBezTo>
                  <a:pt x="602" y="2115"/>
                  <a:pt x="611" y="2151"/>
                  <a:pt x="585" y="2074"/>
                </a:cubicBezTo>
                <a:cubicBezTo>
                  <a:pt x="572" y="1998"/>
                  <a:pt x="545" y="1928"/>
                  <a:pt x="532" y="1852"/>
                </a:cubicBezTo>
                <a:cubicBezTo>
                  <a:pt x="532" y="1852"/>
                  <a:pt x="532" y="1717"/>
                  <a:pt x="550" y="1675"/>
                </a:cubicBezTo>
                <a:cubicBezTo>
                  <a:pt x="573" y="1623"/>
                  <a:pt x="610" y="1592"/>
                  <a:pt x="647" y="1551"/>
                </a:cubicBezTo>
                <a:cubicBezTo>
                  <a:pt x="738" y="1451"/>
                  <a:pt x="835" y="1373"/>
                  <a:pt x="940" y="1285"/>
                </a:cubicBezTo>
                <a:cubicBezTo>
                  <a:pt x="1114" y="1140"/>
                  <a:pt x="1291" y="1000"/>
                  <a:pt x="1462" y="851"/>
                </a:cubicBezTo>
                <a:cubicBezTo>
                  <a:pt x="1484" y="831"/>
                  <a:pt x="1497" y="803"/>
                  <a:pt x="1516" y="780"/>
                </a:cubicBezTo>
                <a:cubicBezTo>
                  <a:pt x="1618" y="653"/>
                  <a:pt x="1673" y="558"/>
                  <a:pt x="1737" y="416"/>
                </a:cubicBezTo>
                <a:cubicBezTo>
                  <a:pt x="1761" y="364"/>
                  <a:pt x="1765" y="311"/>
                  <a:pt x="1781" y="257"/>
                </a:cubicBezTo>
                <a:cubicBezTo>
                  <a:pt x="1786" y="239"/>
                  <a:pt x="1793" y="222"/>
                  <a:pt x="1799" y="204"/>
                </a:cubicBezTo>
                <a:cubicBezTo>
                  <a:pt x="1802" y="195"/>
                  <a:pt x="1808" y="177"/>
                  <a:pt x="1808" y="177"/>
                </a:cubicBezTo>
                <a:cubicBezTo>
                  <a:pt x="1756" y="143"/>
                  <a:pt x="1798" y="164"/>
                  <a:pt x="1702" y="151"/>
                </a:cubicBezTo>
                <a:cubicBezTo>
                  <a:pt x="1650" y="144"/>
                  <a:pt x="1603" y="124"/>
                  <a:pt x="1551" y="115"/>
                </a:cubicBezTo>
                <a:cubicBezTo>
                  <a:pt x="1503" y="90"/>
                  <a:pt x="1453" y="82"/>
                  <a:pt x="1400" y="71"/>
                </a:cubicBezTo>
                <a:cubicBezTo>
                  <a:pt x="1297" y="18"/>
                  <a:pt x="1151" y="11"/>
                  <a:pt x="1037" y="0"/>
                </a:cubicBezTo>
                <a:cubicBezTo>
                  <a:pt x="954" y="3"/>
                  <a:pt x="872" y="4"/>
                  <a:pt x="789" y="9"/>
                </a:cubicBezTo>
                <a:cubicBezTo>
                  <a:pt x="706" y="14"/>
                  <a:pt x="630" y="48"/>
                  <a:pt x="550" y="62"/>
                </a:cubicBezTo>
                <a:cubicBezTo>
                  <a:pt x="411" y="118"/>
                  <a:pt x="271" y="179"/>
                  <a:pt x="160" y="283"/>
                </a:cubicBezTo>
                <a:cubicBezTo>
                  <a:pt x="132" y="309"/>
                  <a:pt x="107" y="336"/>
                  <a:pt x="80" y="363"/>
                </a:cubicBezTo>
                <a:cubicBezTo>
                  <a:pt x="59" y="384"/>
                  <a:pt x="27" y="434"/>
                  <a:pt x="27" y="434"/>
                </a:cubicBezTo>
                <a:cubicBezTo>
                  <a:pt x="10" y="502"/>
                  <a:pt x="6" y="529"/>
                  <a:pt x="0" y="611"/>
                </a:cubicBezTo>
                <a:cubicBezTo>
                  <a:pt x="16" y="870"/>
                  <a:pt x="55" y="1126"/>
                  <a:pt x="98" y="1382"/>
                </a:cubicBezTo>
                <a:cubicBezTo>
                  <a:pt x="104" y="1472"/>
                  <a:pt x="104" y="1642"/>
                  <a:pt x="195" y="1701"/>
                </a:cubicBezTo>
                <a:cubicBezTo>
                  <a:pt x="202" y="1723"/>
                  <a:pt x="225" y="1774"/>
                  <a:pt x="239" y="1790"/>
                </a:cubicBezTo>
                <a:lnTo>
                  <a:pt x="213" y="1719"/>
                </a:lnTo>
                <a:close/>
              </a:path>
            </a:pathLst>
          </a:custGeom>
          <a:solidFill>
            <a:srgbClr val="ffffff">
              <a:alpha val="94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71"/>
          <p:cNvGrpSpPr/>
          <p:nvPr/>
        </p:nvGrpSpPr>
        <p:grpSpPr>
          <a:xfrm>
            <a:off x="9877680" y="2448000"/>
            <a:ext cx="2545920" cy="2545920"/>
            <a:chOff x="9877680" y="2448000"/>
            <a:chExt cx="2545920" cy="2545920"/>
          </a:xfrm>
        </p:grpSpPr>
        <p:sp>
          <p:nvSpPr>
            <p:cNvPr id="363" name="AutoShape 72"/>
            <p:cNvSpPr/>
            <p:nvPr/>
          </p:nvSpPr>
          <p:spPr>
            <a:xfrm rot="18900000">
              <a:off x="10250280" y="2820600"/>
              <a:ext cx="1800000" cy="180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73"/>
            <p:cNvSpPr/>
            <p:nvPr/>
          </p:nvSpPr>
          <p:spPr>
            <a:xfrm rot="8100000">
              <a:off x="10250640" y="2820600"/>
              <a:ext cx="1800000" cy="1800360"/>
            </a:xfrm>
            <a:prstGeom prst="rtTriangle">
              <a:avLst/>
            </a:prstGeom>
            <a:solidFill>
              <a:srgbClr val="ffffff">
                <a:alpha val="74000"/>
              </a:srgbClr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74"/>
          <p:cNvGrpSpPr/>
          <p:nvPr/>
        </p:nvGrpSpPr>
        <p:grpSpPr>
          <a:xfrm>
            <a:off x="9875880" y="4218120"/>
            <a:ext cx="2545920" cy="2545920"/>
            <a:chOff x="9875880" y="4218120"/>
            <a:chExt cx="2545920" cy="2545920"/>
          </a:xfrm>
        </p:grpSpPr>
        <p:sp>
          <p:nvSpPr>
            <p:cNvPr id="366" name="AutoShape 75"/>
            <p:cNvSpPr/>
            <p:nvPr/>
          </p:nvSpPr>
          <p:spPr>
            <a:xfrm rot="8100000">
              <a:off x="10248480" y="4590720"/>
              <a:ext cx="1800360" cy="180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76"/>
            <p:cNvSpPr/>
            <p:nvPr/>
          </p:nvSpPr>
          <p:spPr>
            <a:xfrm rot="18900000">
              <a:off x="10248480" y="4590720"/>
              <a:ext cx="1800360" cy="1800360"/>
            </a:xfrm>
            <a:prstGeom prst="rtTriangle">
              <a:avLst/>
            </a:prstGeom>
            <a:solidFill>
              <a:srgbClr val="ffff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461960"/>
                  <a:tab algn="l" pos="2924280"/>
                  <a:tab algn="l" pos="4386240"/>
                  <a:tab algn="l" pos="5848200"/>
                  <a:tab algn="l" pos="7310520"/>
                  <a:tab algn="l" pos="8772480"/>
                  <a:tab algn="l" pos="102344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7"/>
          <p:cNvGrpSpPr/>
          <p:nvPr/>
        </p:nvGrpSpPr>
        <p:grpSpPr>
          <a:xfrm>
            <a:off x="10237680" y="2830680"/>
            <a:ext cx="1800000" cy="3598200"/>
            <a:chOff x="10237680" y="2830680"/>
            <a:chExt cx="1800000" cy="3598200"/>
          </a:xfrm>
        </p:grpSpPr>
        <p:sp>
          <p:nvSpPr>
            <p:cNvPr id="369" name="AutoShape 78"/>
            <p:cNvSpPr/>
            <p:nvPr/>
          </p:nvSpPr>
          <p:spPr>
            <a:xfrm rot="5400000">
              <a:off x="10238040" y="4629240"/>
              <a:ext cx="1798920" cy="1800000"/>
            </a:xfrm>
            <a:prstGeom prst="rtTriangl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79"/>
            <p:cNvSpPr/>
            <p:nvPr/>
          </p:nvSpPr>
          <p:spPr>
            <a:xfrm rot="16200000">
              <a:off x="10238040" y="2830320"/>
              <a:ext cx="1799280" cy="1800000"/>
            </a:xfrm>
            <a:prstGeom prst="rtTriangl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80"/>
          <p:cNvGrpSpPr/>
          <p:nvPr/>
        </p:nvGrpSpPr>
        <p:grpSpPr>
          <a:xfrm>
            <a:off x="10261080" y="2855880"/>
            <a:ext cx="1800720" cy="3598920"/>
            <a:chOff x="10261080" y="2855880"/>
            <a:chExt cx="1800720" cy="3598920"/>
          </a:xfrm>
        </p:grpSpPr>
        <p:sp>
          <p:nvSpPr>
            <p:cNvPr id="372" name="AutoShape 81"/>
            <p:cNvSpPr/>
            <p:nvPr/>
          </p:nvSpPr>
          <p:spPr>
            <a:xfrm>
              <a:off x="10261440" y="2855880"/>
              <a:ext cx="1800360" cy="1799640"/>
            </a:xfrm>
            <a:prstGeom prst="rtTriangl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82"/>
            <p:cNvSpPr/>
            <p:nvPr/>
          </p:nvSpPr>
          <p:spPr>
            <a:xfrm rot="10800000">
              <a:off x="10261080" y="4655520"/>
              <a:ext cx="1800360" cy="1799280"/>
            </a:xfrm>
            <a:prstGeom prst="rtTriangl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83"/>
          <p:cNvGrpSpPr/>
          <p:nvPr/>
        </p:nvGrpSpPr>
        <p:grpSpPr>
          <a:xfrm>
            <a:off x="10261080" y="2835360"/>
            <a:ext cx="1800360" cy="1799640"/>
            <a:chOff x="10261080" y="2835360"/>
            <a:chExt cx="1800360" cy="1799640"/>
          </a:xfrm>
        </p:grpSpPr>
        <p:sp>
          <p:nvSpPr>
            <p:cNvPr id="375" name="Rectangle 84"/>
            <p:cNvSpPr/>
            <p:nvPr/>
          </p:nvSpPr>
          <p:spPr>
            <a:xfrm rot="5400000">
              <a:off x="10711440" y="2385000"/>
              <a:ext cx="899640" cy="1800360"/>
            </a:xfrm>
            <a:prstGeom prst="rect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85"/>
            <p:cNvSpPr/>
            <p:nvPr/>
          </p:nvSpPr>
          <p:spPr>
            <a:xfrm rot="5400000">
              <a:off x="10711080" y="3284640"/>
              <a:ext cx="900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86"/>
          <p:cNvGrpSpPr/>
          <p:nvPr/>
        </p:nvGrpSpPr>
        <p:grpSpPr>
          <a:xfrm>
            <a:off x="10251720" y="4613760"/>
            <a:ext cx="1800360" cy="1799640"/>
            <a:chOff x="10251720" y="4613760"/>
            <a:chExt cx="1800360" cy="1799640"/>
          </a:xfrm>
        </p:grpSpPr>
        <p:sp>
          <p:nvSpPr>
            <p:cNvPr id="378" name="Rectangle 87"/>
            <p:cNvSpPr/>
            <p:nvPr/>
          </p:nvSpPr>
          <p:spPr>
            <a:xfrm flipH="1" rot="5400000">
              <a:off x="10701720" y="5063400"/>
              <a:ext cx="899640" cy="1800360"/>
            </a:xfrm>
            <a:prstGeom prst="rect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88"/>
            <p:cNvSpPr/>
            <p:nvPr/>
          </p:nvSpPr>
          <p:spPr>
            <a:xfrm flipH="1" rot="5400000">
              <a:off x="10701360" y="4163400"/>
              <a:ext cx="900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9"/>
          <p:cNvSpPr/>
          <p:nvPr/>
        </p:nvSpPr>
        <p:spPr>
          <a:xfrm rot="5400000">
            <a:off x="10250280" y="3713040"/>
            <a:ext cx="1800360" cy="1800000"/>
          </a:xfrm>
          <a:prstGeom prst="rect">
            <a:avLst/>
          </a:prstGeom>
          <a:solidFill>
            <a:srgbClr val="ff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90"/>
          <p:cNvGrpSpPr/>
          <p:nvPr/>
        </p:nvGrpSpPr>
        <p:grpSpPr>
          <a:xfrm>
            <a:off x="10261440" y="2800440"/>
            <a:ext cx="1756080" cy="3608280"/>
            <a:chOff x="10261440" y="2800440"/>
            <a:chExt cx="1756080" cy="3608280"/>
          </a:xfrm>
        </p:grpSpPr>
        <p:grpSp>
          <p:nvGrpSpPr>
            <p:cNvPr id="382" name="Group 91"/>
            <p:cNvGrpSpPr/>
            <p:nvPr/>
          </p:nvGrpSpPr>
          <p:grpSpPr>
            <a:xfrm>
              <a:off x="10262160" y="2800440"/>
              <a:ext cx="1755360" cy="1808280"/>
              <a:chOff x="10262160" y="2800440"/>
              <a:chExt cx="1755360" cy="1808280"/>
            </a:xfrm>
          </p:grpSpPr>
          <p:sp>
            <p:nvSpPr>
              <p:cNvPr id="383" name="Freeform 92"/>
              <p:cNvSpPr/>
              <p:nvPr/>
            </p:nvSpPr>
            <p:spPr>
              <a:xfrm rot="5400000">
                <a:off x="10692720" y="2371320"/>
                <a:ext cx="895680" cy="17539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93"/>
              <p:cNvSpPr/>
              <p:nvPr/>
            </p:nvSpPr>
            <p:spPr>
              <a:xfrm rot="5400000">
                <a:off x="11129400" y="282096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94"/>
              <p:cNvSpPr/>
              <p:nvPr/>
            </p:nvSpPr>
            <p:spPr>
              <a:xfrm flipH="1" rot="5400000">
                <a:off x="11130840" y="3716280"/>
                <a:ext cx="90108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95"/>
              <p:cNvSpPr/>
              <p:nvPr/>
            </p:nvSpPr>
            <p:spPr>
              <a:xfrm rot="5400000">
                <a:off x="11130840" y="281520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Group 96"/>
              <p:cNvGrpSpPr/>
              <p:nvPr/>
            </p:nvGrpSpPr>
            <p:grpSpPr>
              <a:xfrm>
                <a:off x="10262160" y="2806200"/>
                <a:ext cx="871560" cy="1802520"/>
                <a:chOff x="10262160" y="2806200"/>
                <a:chExt cx="871560" cy="1802520"/>
              </a:xfrm>
            </p:grpSpPr>
            <p:sp>
              <p:nvSpPr>
                <p:cNvPr id="388" name="Freeform 97"/>
                <p:cNvSpPr/>
                <p:nvPr/>
              </p:nvSpPr>
              <p:spPr>
                <a:xfrm flipH="1" flipV="1" rot="5400000">
                  <a:off x="10247040" y="3722040"/>
                  <a:ext cx="901080" cy="871560"/>
                </a:xfrm>
                <a:custGeom>
                  <a:avLst/>
                  <a:gdLst/>
                  <a:ahLst/>
                  <a:rect l="l" t="t" r="r" b="b"/>
                  <a:pathLst>
                    <a:path w="453" h="549">
                      <a:moveTo>
                        <a:pt x="0" y="0"/>
                      </a:moveTo>
                      <a:lnTo>
                        <a:pt x="453" y="549"/>
                      </a:lnTo>
                      <a:lnTo>
                        <a:pt x="453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98"/>
                <p:cNvSpPr/>
                <p:nvPr/>
              </p:nvSpPr>
              <p:spPr>
                <a:xfrm flipV="1" rot="5400000">
                  <a:off x="10247040" y="2820960"/>
                  <a:ext cx="901800" cy="871560"/>
                </a:xfrm>
                <a:custGeom>
                  <a:avLst/>
                  <a:gdLst/>
                  <a:ahLst/>
                  <a:rect l="l" t="t" r="r" b="b"/>
                  <a:pathLst>
                    <a:path w="453" h="549">
                      <a:moveTo>
                        <a:pt x="0" y="0"/>
                      </a:moveTo>
                      <a:lnTo>
                        <a:pt x="453" y="549"/>
                      </a:lnTo>
                      <a:lnTo>
                        <a:pt x="453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Freeform 99"/>
              <p:cNvSpPr/>
              <p:nvPr/>
            </p:nvSpPr>
            <p:spPr>
              <a:xfrm flipH="1" rot="5400000">
                <a:off x="10692720" y="3272040"/>
                <a:ext cx="895320" cy="17539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0"/>
              <p:cNvSpPr/>
              <p:nvPr/>
            </p:nvSpPr>
            <p:spPr>
              <a:xfrm flipV="1" rot="5400000">
                <a:off x="10247040" y="282096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01"/>
            <p:cNvGrpSpPr/>
            <p:nvPr/>
          </p:nvGrpSpPr>
          <p:grpSpPr>
            <a:xfrm>
              <a:off x="10261440" y="4600440"/>
              <a:ext cx="1755360" cy="1808280"/>
              <a:chOff x="10261440" y="4600440"/>
              <a:chExt cx="1755360" cy="1808280"/>
            </a:xfrm>
          </p:grpSpPr>
          <p:sp>
            <p:nvSpPr>
              <p:cNvPr id="393" name="Freeform 102"/>
              <p:cNvSpPr/>
              <p:nvPr/>
            </p:nvSpPr>
            <p:spPr>
              <a:xfrm flipH="1" rot="16200000">
                <a:off x="10690560" y="4171320"/>
                <a:ext cx="895680" cy="17539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03"/>
              <p:cNvSpPr/>
              <p:nvPr/>
            </p:nvSpPr>
            <p:spPr>
              <a:xfrm flipH="1" rot="16200000">
                <a:off x="10247400" y="462096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04"/>
              <p:cNvSpPr/>
              <p:nvPr/>
            </p:nvSpPr>
            <p:spPr>
              <a:xfrm rot="16200000">
                <a:off x="10246680" y="5516280"/>
                <a:ext cx="90108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05"/>
              <p:cNvSpPr/>
              <p:nvPr/>
            </p:nvSpPr>
            <p:spPr>
              <a:xfrm flipH="1" rot="16200000">
                <a:off x="10245960" y="461520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06"/>
              <p:cNvGrpSpPr/>
              <p:nvPr/>
            </p:nvGrpSpPr>
            <p:grpSpPr>
              <a:xfrm>
                <a:off x="11145240" y="4606200"/>
                <a:ext cx="871560" cy="1802520"/>
                <a:chOff x="11145240" y="4606200"/>
                <a:chExt cx="871560" cy="1802520"/>
              </a:xfrm>
            </p:grpSpPr>
            <p:sp>
              <p:nvSpPr>
                <p:cNvPr id="398" name="Freeform 107"/>
                <p:cNvSpPr/>
                <p:nvPr/>
              </p:nvSpPr>
              <p:spPr>
                <a:xfrm flipV="1" rot="16200000">
                  <a:off x="11130480" y="5522040"/>
                  <a:ext cx="901080" cy="871560"/>
                </a:xfrm>
                <a:custGeom>
                  <a:avLst/>
                  <a:gdLst/>
                  <a:ahLst/>
                  <a:rect l="l" t="t" r="r" b="b"/>
                  <a:pathLst>
                    <a:path w="453" h="549">
                      <a:moveTo>
                        <a:pt x="0" y="0"/>
                      </a:moveTo>
                      <a:lnTo>
                        <a:pt x="453" y="549"/>
                      </a:lnTo>
                      <a:lnTo>
                        <a:pt x="453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08"/>
                <p:cNvSpPr/>
                <p:nvPr/>
              </p:nvSpPr>
              <p:spPr>
                <a:xfrm flipH="1" flipV="1" rot="16200000">
                  <a:off x="11129760" y="4620960"/>
                  <a:ext cx="901800" cy="871560"/>
                </a:xfrm>
                <a:custGeom>
                  <a:avLst/>
                  <a:gdLst/>
                  <a:ahLst/>
                  <a:rect l="l" t="t" r="r" b="b"/>
                  <a:pathLst>
                    <a:path w="453" h="549">
                      <a:moveTo>
                        <a:pt x="0" y="0"/>
                      </a:moveTo>
                      <a:lnTo>
                        <a:pt x="453" y="549"/>
                      </a:lnTo>
                      <a:lnTo>
                        <a:pt x="453" y="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Freeform 109"/>
              <p:cNvSpPr/>
              <p:nvPr/>
            </p:nvSpPr>
            <p:spPr>
              <a:xfrm rot="16200000">
                <a:off x="10690560" y="5072040"/>
                <a:ext cx="895320" cy="17539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0"/>
              <p:cNvSpPr/>
              <p:nvPr/>
            </p:nvSpPr>
            <p:spPr>
              <a:xfrm flipH="1" flipV="1" rot="16200000">
                <a:off x="11129760" y="4620960"/>
                <a:ext cx="901440" cy="8715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45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Group 111"/>
          <p:cNvGrpSpPr/>
          <p:nvPr/>
        </p:nvGrpSpPr>
        <p:grpSpPr>
          <a:xfrm>
            <a:off x="10190520" y="3784680"/>
            <a:ext cx="1799640" cy="1762920"/>
            <a:chOff x="10190520" y="3784680"/>
            <a:chExt cx="1799640" cy="1762920"/>
          </a:xfrm>
        </p:grpSpPr>
        <p:grpSp>
          <p:nvGrpSpPr>
            <p:cNvPr id="403" name="Group 112"/>
            <p:cNvGrpSpPr/>
            <p:nvPr/>
          </p:nvGrpSpPr>
          <p:grpSpPr>
            <a:xfrm>
              <a:off x="10190520" y="4662720"/>
              <a:ext cx="1799640" cy="884880"/>
              <a:chOff x="10190520" y="4662720"/>
              <a:chExt cx="1799640" cy="884880"/>
            </a:xfrm>
          </p:grpSpPr>
          <p:sp>
            <p:nvSpPr>
              <p:cNvPr id="404" name="Freeform 113"/>
              <p:cNvSpPr/>
              <p:nvPr/>
            </p:nvSpPr>
            <p:spPr>
              <a:xfrm flipH="1" rot="16200000">
                <a:off x="10656720" y="4204080"/>
                <a:ext cx="871920" cy="17917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14"/>
              <p:cNvSpPr/>
              <p:nvPr/>
            </p:nvSpPr>
            <p:spPr>
              <a:xfrm rot="5400000">
                <a:off x="10221120" y="4663800"/>
                <a:ext cx="877680" cy="88992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549"/>
                    </a:moveTo>
                    <a:lnTo>
                      <a:pt x="453" y="0"/>
                    </a:lnTo>
                    <a:lnTo>
                      <a:pt x="29" y="35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5"/>
              <p:cNvSpPr/>
              <p:nvPr/>
            </p:nvSpPr>
            <p:spPr>
              <a:xfrm rot="5400000">
                <a:off x="11100240" y="4653360"/>
                <a:ext cx="876960" cy="902880"/>
              </a:xfrm>
              <a:custGeom>
                <a:avLst/>
                <a:gdLst/>
                <a:ahLst/>
                <a:rect l="l" t="t" r="r" b="b"/>
                <a:pathLst>
                  <a:path w="453" h="557">
                    <a:moveTo>
                      <a:pt x="0" y="0"/>
                    </a:moveTo>
                    <a:lnTo>
                      <a:pt x="453" y="549"/>
                    </a:lnTo>
                    <a:lnTo>
                      <a:pt x="19" y="5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16"/>
              <p:cNvSpPr/>
              <p:nvPr/>
            </p:nvSpPr>
            <p:spPr>
              <a:xfrm rot="5400000">
                <a:off x="10654560" y="4198320"/>
                <a:ext cx="871200" cy="1799640"/>
              </a:xfrm>
              <a:custGeom>
                <a:avLst/>
                <a:gdLst/>
                <a:ahLst/>
                <a:rect l="l" t="t" r="r" b="b"/>
                <a:pathLst>
                  <a:path w="450" h="1110">
                    <a:moveTo>
                      <a:pt x="12" y="0"/>
                    </a:moveTo>
                    <a:lnTo>
                      <a:pt x="450" y="540"/>
                    </a:lnTo>
                    <a:lnTo>
                      <a:pt x="0" y="1110"/>
                    </a:lnTo>
                    <a:lnTo>
                      <a:pt x="63" y="563"/>
                    </a:lnTo>
                    <a:cubicBezTo>
                      <a:pt x="65" y="378"/>
                      <a:pt x="23" y="117"/>
                      <a:pt x="12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17"/>
            <p:cNvGrpSpPr/>
            <p:nvPr/>
          </p:nvGrpSpPr>
          <p:grpSpPr>
            <a:xfrm>
              <a:off x="10190520" y="3784680"/>
              <a:ext cx="1799640" cy="884880"/>
              <a:chOff x="10190520" y="3784680"/>
              <a:chExt cx="1799640" cy="884880"/>
            </a:xfrm>
          </p:grpSpPr>
          <p:sp>
            <p:nvSpPr>
              <p:cNvPr id="409" name="Freeform 118"/>
              <p:cNvSpPr/>
              <p:nvPr/>
            </p:nvSpPr>
            <p:spPr>
              <a:xfrm rot="16200000">
                <a:off x="10657080" y="3336120"/>
                <a:ext cx="871920" cy="179172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19"/>
              <p:cNvSpPr/>
              <p:nvPr/>
            </p:nvSpPr>
            <p:spPr>
              <a:xfrm flipH="1" rot="5400000">
                <a:off x="10221120" y="3778560"/>
                <a:ext cx="877680" cy="88992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549"/>
                    </a:moveTo>
                    <a:lnTo>
                      <a:pt x="453" y="0"/>
                    </a:lnTo>
                    <a:lnTo>
                      <a:pt x="29" y="35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20"/>
              <p:cNvSpPr/>
              <p:nvPr/>
            </p:nvSpPr>
            <p:spPr>
              <a:xfrm flipH="1" rot="5400000">
                <a:off x="11100240" y="3776040"/>
                <a:ext cx="876960" cy="902880"/>
              </a:xfrm>
              <a:custGeom>
                <a:avLst/>
                <a:gdLst/>
                <a:ahLst/>
                <a:rect l="l" t="t" r="r" b="b"/>
                <a:pathLst>
                  <a:path w="453" h="557">
                    <a:moveTo>
                      <a:pt x="0" y="0"/>
                    </a:moveTo>
                    <a:lnTo>
                      <a:pt x="453" y="549"/>
                    </a:lnTo>
                    <a:lnTo>
                      <a:pt x="19" y="5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21"/>
              <p:cNvSpPr/>
              <p:nvPr/>
            </p:nvSpPr>
            <p:spPr>
              <a:xfrm flipH="1" rot="5400000">
                <a:off x="10654200" y="3333960"/>
                <a:ext cx="871200" cy="1799640"/>
              </a:xfrm>
              <a:custGeom>
                <a:avLst/>
                <a:gdLst/>
                <a:ahLst/>
                <a:rect l="l" t="t" r="r" b="b"/>
                <a:pathLst>
                  <a:path w="450" h="1110">
                    <a:moveTo>
                      <a:pt x="12" y="0"/>
                    </a:moveTo>
                    <a:lnTo>
                      <a:pt x="450" y="540"/>
                    </a:lnTo>
                    <a:lnTo>
                      <a:pt x="0" y="1110"/>
                    </a:lnTo>
                    <a:lnTo>
                      <a:pt x="63" y="563"/>
                    </a:lnTo>
                    <a:cubicBezTo>
                      <a:pt x="65" y="378"/>
                      <a:pt x="23" y="117"/>
                      <a:pt x="12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Group 122"/>
          <p:cNvGrpSpPr/>
          <p:nvPr/>
        </p:nvGrpSpPr>
        <p:grpSpPr>
          <a:xfrm>
            <a:off x="10236600" y="3764160"/>
            <a:ext cx="1799640" cy="1762560"/>
            <a:chOff x="10236600" y="3764160"/>
            <a:chExt cx="1799640" cy="1762560"/>
          </a:xfrm>
        </p:grpSpPr>
        <p:grpSp>
          <p:nvGrpSpPr>
            <p:cNvPr id="414" name="Group 123"/>
            <p:cNvGrpSpPr/>
            <p:nvPr/>
          </p:nvGrpSpPr>
          <p:grpSpPr>
            <a:xfrm>
              <a:off x="10236600" y="4642920"/>
              <a:ext cx="1799640" cy="883800"/>
              <a:chOff x="10236600" y="4642920"/>
              <a:chExt cx="1799640" cy="883800"/>
            </a:xfrm>
          </p:grpSpPr>
          <p:sp>
            <p:nvSpPr>
              <p:cNvPr id="415" name="Freeform 124"/>
              <p:cNvSpPr/>
              <p:nvPr/>
            </p:nvSpPr>
            <p:spPr>
              <a:xfrm flipH="1" rot="16200000">
                <a:off x="10699920" y="4179600"/>
                <a:ext cx="871560" cy="179820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25"/>
              <p:cNvSpPr/>
              <p:nvPr/>
            </p:nvSpPr>
            <p:spPr>
              <a:xfrm rot="5400000">
                <a:off x="10262160" y="4641120"/>
                <a:ext cx="877680" cy="8931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549"/>
                    </a:moveTo>
                    <a:lnTo>
                      <a:pt x="453" y="0"/>
                    </a:lnTo>
                    <a:lnTo>
                      <a:pt x="124" y="52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26"/>
              <p:cNvSpPr/>
              <p:nvPr/>
            </p:nvSpPr>
            <p:spPr>
              <a:xfrm rot="5400000">
                <a:off x="11150640" y="4637160"/>
                <a:ext cx="877680" cy="89352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14" y="5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27"/>
              <p:cNvSpPr/>
              <p:nvPr/>
            </p:nvSpPr>
            <p:spPr>
              <a:xfrm rot="5400000">
                <a:off x="10401120" y="4764600"/>
                <a:ext cx="608040" cy="884880"/>
              </a:xfrm>
              <a:custGeom>
                <a:avLst/>
                <a:gdLst/>
                <a:ahLst/>
                <a:rect l="l" t="t" r="r" b="b"/>
                <a:pathLst>
                  <a:path w="314" h="544">
                    <a:moveTo>
                      <a:pt x="0" y="46"/>
                    </a:moveTo>
                    <a:lnTo>
                      <a:pt x="89" y="544"/>
                    </a:lnTo>
                    <a:lnTo>
                      <a:pt x="314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28"/>
              <p:cNvSpPr/>
              <p:nvPr/>
            </p:nvSpPr>
            <p:spPr>
              <a:xfrm rot="5400000">
                <a:off x="11250360" y="4768920"/>
                <a:ext cx="629640" cy="851400"/>
              </a:xfrm>
              <a:custGeom>
                <a:avLst/>
                <a:gdLst/>
                <a:ahLst/>
                <a:rect l="l" t="t" r="r" b="b"/>
                <a:pathLst>
                  <a:path w="325" h="523">
                    <a:moveTo>
                      <a:pt x="0" y="486"/>
                    </a:moveTo>
                    <a:lnTo>
                      <a:pt x="113" y="0"/>
                    </a:lnTo>
                    <a:lnTo>
                      <a:pt x="325" y="523"/>
                    </a:lnTo>
                    <a:lnTo>
                      <a:pt x="0" y="48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29"/>
              <p:cNvSpPr/>
              <p:nvPr/>
            </p:nvSpPr>
            <p:spPr>
              <a:xfrm rot="5400000">
                <a:off x="10906560" y="4407480"/>
                <a:ext cx="443160" cy="1783440"/>
              </a:xfrm>
              <a:custGeom>
                <a:avLst/>
                <a:gdLst/>
                <a:ahLst/>
                <a:rect l="l" t="t" r="r" b="b"/>
                <a:pathLst>
                  <a:path w="229" h="1096">
                    <a:moveTo>
                      <a:pt x="0" y="0"/>
                    </a:moveTo>
                    <a:lnTo>
                      <a:pt x="229" y="540"/>
                    </a:lnTo>
                    <a:lnTo>
                      <a:pt x="2" y="10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130"/>
            <p:cNvGrpSpPr/>
            <p:nvPr/>
          </p:nvGrpSpPr>
          <p:grpSpPr>
            <a:xfrm>
              <a:off x="10236600" y="3764160"/>
              <a:ext cx="1799640" cy="883800"/>
              <a:chOff x="10236600" y="3764160"/>
              <a:chExt cx="1799640" cy="883800"/>
            </a:xfrm>
          </p:grpSpPr>
          <p:sp>
            <p:nvSpPr>
              <p:cNvPr id="422" name="Freeform 131"/>
              <p:cNvSpPr/>
              <p:nvPr/>
            </p:nvSpPr>
            <p:spPr>
              <a:xfrm rot="16200000">
                <a:off x="10700280" y="3313080"/>
                <a:ext cx="871560" cy="179820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32"/>
              <p:cNvSpPr/>
              <p:nvPr/>
            </p:nvSpPr>
            <p:spPr>
              <a:xfrm flipH="1" rot="5400000">
                <a:off x="10261800" y="3756240"/>
                <a:ext cx="877680" cy="89316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549"/>
                    </a:moveTo>
                    <a:lnTo>
                      <a:pt x="453" y="0"/>
                    </a:lnTo>
                    <a:lnTo>
                      <a:pt x="124" y="52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3"/>
              <p:cNvSpPr/>
              <p:nvPr/>
            </p:nvSpPr>
            <p:spPr>
              <a:xfrm flipH="1" rot="5400000">
                <a:off x="11150640" y="3760200"/>
                <a:ext cx="877680" cy="89352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14" y="5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4"/>
              <p:cNvSpPr/>
              <p:nvPr/>
            </p:nvSpPr>
            <p:spPr>
              <a:xfrm flipH="1" rot="5400000">
                <a:off x="10401120" y="3641040"/>
                <a:ext cx="608040" cy="884880"/>
              </a:xfrm>
              <a:custGeom>
                <a:avLst/>
                <a:gdLst/>
                <a:ahLst/>
                <a:rect l="l" t="t" r="r" b="b"/>
                <a:pathLst>
                  <a:path w="314" h="544">
                    <a:moveTo>
                      <a:pt x="0" y="46"/>
                    </a:moveTo>
                    <a:lnTo>
                      <a:pt x="89" y="544"/>
                    </a:lnTo>
                    <a:lnTo>
                      <a:pt x="314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5"/>
              <p:cNvSpPr/>
              <p:nvPr/>
            </p:nvSpPr>
            <p:spPr>
              <a:xfrm flipH="1" rot="5400000">
                <a:off x="11250000" y="3670560"/>
                <a:ext cx="629640" cy="851400"/>
              </a:xfrm>
              <a:custGeom>
                <a:avLst/>
                <a:gdLst/>
                <a:ahLst/>
                <a:rect l="l" t="t" r="r" b="b"/>
                <a:pathLst>
                  <a:path w="325" h="523">
                    <a:moveTo>
                      <a:pt x="0" y="486"/>
                    </a:moveTo>
                    <a:lnTo>
                      <a:pt x="113" y="0"/>
                    </a:lnTo>
                    <a:lnTo>
                      <a:pt x="325" y="523"/>
                    </a:lnTo>
                    <a:lnTo>
                      <a:pt x="0" y="48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6"/>
              <p:cNvSpPr/>
              <p:nvPr/>
            </p:nvSpPr>
            <p:spPr>
              <a:xfrm flipH="1" rot="5400000">
                <a:off x="10906560" y="3099600"/>
                <a:ext cx="443160" cy="1783440"/>
              </a:xfrm>
              <a:custGeom>
                <a:avLst/>
                <a:gdLst/>
                <a:ahLst/>
                <a:rect l="l" t="t" r="r" b="b"/>
                <a:pathLst>
                  <a:path w="229" h="1096">
                    <a:moveTo>
                      <a:pt x="0" y="0"/>
                    </a:moveTo>
                    <a:lnTo>
                      <a:pt x="229" y="540"/>
                    </a:lnTo>
                    <a:lnTo>
                      <a:pt x="2" y="10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Group 137"/>
          <p:cNvGrpSpPr/>
          <p:nvPr/>
        </p:nvGrpSpPr>
        <p:grpSpPr>
          <a:xfrm>
            <a:off x="10229040" y="3750480"/>
            <a:ext cx="1799280" cy="1761480"/>
            <a:chOff x="10229040" y="3750480"/>
            <a:chExt cx="1799280" cy="1761480"/>
          </a:xfrm>
        </p:grpSpPr>
        <p:grpSp>
          <p:nvGrpSpPr>
            <p:cNvPr id="429" name="Group 138"/>
            <p:cNvGrpSpPr/>
            <p:nvPr/>
          </p:nvGrpSpPr>
          <p:grpSpPr>
            <a:xfrm>
              <a:off x="10230840" y="4625640"/>
              <a:ext cx="1797480" cy="886320"/>
              <a:chOff x="10230840" y="4625640"/>
              <a:chExt cx="1797480" cy="886320"/>
            </a:xfrm>
          </p:grpSpPr>
          <p:sp>
            <p:nvSpPr>
              <p:cNvPr id="430" name="Freeform 139"/>
              <p:cNvSpPr/>
              <p:nvPr/>
            </p:nvSpPr>
            <p:spPr>
              <a:xfrm flipH="1" rot="16200000">
                <a:off x="10691280" y="4164840"/>
                <a:ext cx="874440" cy="179604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 flipV="1" rot="5400000">
                <a:off x="10256400" y="4625280"/>
                <a:ext cx="880200" cy="89244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76" y="4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 rot="5400000">
                <a:off x="11142000" y="4622040"/>
                <a:ext cx="879840" cy="89244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76" y="4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 rot="5400000">
                <a:off x="10437120" y="4793040"/>
                <a:ext cx="507240" cy="900360"/>
              </a:xfrm>
              <a:custGeom>
                <a:avLst/>
                <a:gdLst/>
                <a:ahLst/>
                <a:rect l="l" t="t" r="r" b="b"/>
                <a:pathLst>
                  <a:path w="261" h="554">
                    <a:moveTo>
                      <a:pt x="0" y="63"/>
                    </a:moveTo>
                    <a:lnTo>
                      <a:pt x="176" y="554"/>
                    </a:lnTo>
                    <a:lnTo>
                      <a:pt x="261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 rot="5400000">
                <a:off x="11324520" y="4808880"/>
                <a:ext cx="493560" cy="87768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0" y="466"/>
                    </a:moveTo>
                    <a:lnTo>
                      <a:pt x="176" y="0"/>
                    </a:lnTo>
                    <a:lnTo>
                      <a:pt x="254" y="540"/>
                    </a:lnTo>
                    <a:lnTo>
                      <a:pt x="0" y="46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 flipH="1" rot="16200000">
                <a:off x="11043000" y="4524480"/>
                <a:ext cx="170640" cy="179604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145"/>
            <p:cNvGrpSpPr/>
            <p:nvPr/>
          </p:nvGrpSpPr>
          <p:grpSpPr>
            <a:xfrm>
              <a:off x="10229040" y="3750480"/>
              <a:ext cx="1797480" cy="886320"/>
              <a:chOff x="10229040" y="3750480"/>
              <a:chExt cx="1797480" cy="886320"/>
            </a:xfrm>
          </p:grpSpPr>
          <p:sp>
            <p:nvSpPr>
              <p:cNvPr id="437" name="Freeform 146"/>
              <p:cNvSpPr/>
              <p:nvPr/>
            </p:nvSpPr>
            <p:spPr>
              <a:xfrm rot="16200000">
                <a:off x="10689480" y="3301560"/>
                <a:ext cx="874440" cy="179568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47"/>
              <p:cNvSpPr/>
              <p:nvPr/>
            </p:nvSpPr>
            <p:spPr>
              <a:xfrm flipH="1" flipV="1" rot="5400000">
                <a:off x="10254240" y="3744000"/>
                <a:ext cx="880200" cy="89208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76" y="4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48"/>
              <p:cNvSpPr/>
              <p:nvPr/>
            </p:nvSpPr>
            <p:spPr>
              <a:xfrm flipH="1" rot="5400000">
                <a:off x="11140560" y="3747960"/>
                <a:ext cx="879840" cy="892080"/>
              </a:xfrm>
              <a:custGeom>
                <a:avLst/>
                <a:gdLst/>
                <a:ahLst/>
                <a:rect l="l" t="t" r="r" b="b"/>
                <a:pathLst>
                  <a:path w="453" h="549">
                    <a:moveTo>
                      <a:pt x="0" y="0"/>
                    </a:moveTo>
                    <a:lnTo>
                      <a:pt x="453" y="549"/>
                    </a:lnTo>
                    <a:lnTo>
                      <a:pt x="176" y="47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 flipH="1" rot="5400000">
                <a:off x="10434960" y="3569040"/>
                <a:ext cx="507240" cy="900360"/>
              </a:xfrm>
              <a:custGeom>
                <a:avLst/>
                <a:gdLst/>
                <a:ahLst/>
                <a:rect l="l" t="t" r="r" b="b"/>
                <a:pathLst>
                  <a:path w="261" h="554">
                    <a:moveTo>
                      <a:pt x="0" y="63"/>
                    </a:moveTo>
                    <a:lnTo>
                      <a:pt x="176" y="554"/>
                    </a:lnTo>
                    <a:lnTo>
                      <a:pt x="261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flipH="1" rot="5400000">
                <a:off x="11322720" y="3575880"/>
                <a:ext cx="493560" cy="877320"/>
              </a:xfrm>
              <a:custGeom>
                <a:avLst/>
                <a:gdLst/>
                <a:ahLst/>
                <a:rect l="l" t="t" r="r" b="b"/>
                <a:pathLst>
                  <a:path w="254" h="540">
                    <a:moveTo>
                      <a:pt x="0" y="466"/>
                    </a:moveTo>
                    <a:lnTo>
                      <a:pt x="176" y="0"/>
                    </a:lnTo>
                    <a:lnTo>
                      <a:pt x="254" y="540"/>
                    </a:lnTo>
                    <a:lnTo>
                      <a:pt x="0" y="46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 rot="16200000">
                <a:off x="11041560" y="2941920"/>
                <a:ext cx="170640" cy="179568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52"/>
          <p:cNvGrpSpPr/>
          <p:nvPr/>
        </p:nvGrpSpPr>
        <p:grpSpPr>
          <a:xfrm>
            <a:off x="10199520" y="3781440"/>
            <a:ext cx="1800360" cy="1761840"/>
            <a:chOff x="10199520" y="3781440"/>
            <a:chExt cx="1800360" cy="1761840"/>
          </a:xfrm>
        </p:grpSpPr>
        <p:sp>
          <p:nvSpPr>
            <p:cNvPr id="444" name="Freeform 153"/>
            <p:cNvSpPr/>
            <p:nvPr/>
          </p:nvSpPr>
          <p:spPr>
            <a:xfrm rot="16200000">
              <a:off x="10664640" y="3324960"/>
              <a:ext cx="869400" cy="1800000"/>
            </a:xfrm>
            <a:custGeom>
              <a:avLst/>
              <a:gdLst/>
              <a:ahLst/>
              <a:rect l="l" t="t" r="r" b="b"/>
              <a:pathLst>
                <a:path w="450" h="1105">
                  <a:moveTo>
                    <a:pt x="0" y="1105"/>
                  </a:moveTo>
                  <a:lnTo>
                    <a:pt x="450" y="556"/>
                  </a:lnTo>
                  <a:lnTo>
                    <a:pt x="0" y="0"/>
                  </a:lnTo>
                  <a:lnTo>
                    <a:pt x="0" y="1105"/>
                  </a:lnTo>
                  <a:close/>
                </a:path>
              </a:pathLst>
            </a:custGeom>
            <a:solidFill>
              <a:srgbClr val="ffffff">
                <a:alpha val="8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54"/>
            <p:cNvSpPr/>
            <p:nvPr/>
          </p:nvSpPr>
          <p:spPr>
            <a:xfrm rot="5400000">
              <a:off x="10338840" y="3876480"/>
              <a:ext cx="869400" cy="678960"/>
            </a:xfrm>
            <a:custGeom>
              <a:avLst/>
              <a:gdLst/>
              <a:ahLst/>
              <a:rect l="l" t="t" r="r" b="b"/>
              <a:pathLst>
                <a:path w="450" h="417">
                  <a:moveTo>
                    <a:pt x="354" y="417"/>
                  </a:moveTo>
                  <a:lnTo>
                    <a:pt x="194" y="236"/>
                  </a:lnTo>
                  <a:lnTo>
                    <a:pt x="0" y="0"/>
                  </a:lnTo>
                  <a:lnTo>
                    <a:pt x="450" y="33"/>
                  </a:lnTo>
                  <a:lnTo>
                    <a:pt x="416" y="212"/>
                  </a:lnTo>
                  <a:lnTo>
                    <a:pt x="354" y="417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55"/>
            <p:cNvSpPr/>
            <p:nvPr/>
          </p:nvSpPr>
          <p:spPr>
            <a:xfrm rot="5400000">
              <a:off x="10698480" y="4180320"/>
              <a:ext cx="853920" cy="63360"/>
            </a:xfrm>
            <a:custGeom>
              <a:avLst/>
              <a:gdLst/>
              <a:ahLst/>
              <a:rect l="l" t="t" r="r" b="b"/>
              <a:pathLst>
                <a:path w="442" h="39">
                  <a:moveTo>
                    <a:pt x="442" y="0"/>
                  </a:moveTo>
                  <a:lnTo>
                    <a:pt x="0" y="31"/>
                  </a:lnTo>
                  <a:lnTo>
                    <a:pt x="434" y="39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56"/>
            <p:cNvSpPr/>
            <p:nvPr/>
          </p:nvSpPr>
          <p:spPr>
            <a:xfrm rot="5400000">
              <a:off x="10343520" y="3895560"/>
              <a:ext cx="861840" cy="671400"/>
            </a:xfrm>
            <a:custGeom>
              <a:avLst/>
              <a:gdLst/>
              <a:ahLst/>
              <a:rect l="l" t="t" r="r" b="b"/>
              <a:pathLst>
                <a:path w="446" h="412">
                  <a:moveTo>
                    <a:pt x="446" y="16"/>
                  </a:moveTo>
                  <a:lnTo>
                    <a:pt x="0" y="0"/>
                  </a:lnTo>
                  <a:lnTo>
                    <a:pt x="188" y="240"/>
                  </a:lnTo>
                  <a:lnTo>
                    <a:pt x="344" y="412"/>
                  </a:lnTo>
                  <a:lnTo>
                    <a:pt x="374" y="277"/>
                  </a:lnTo>
                  <a:lnTo>
                    <a:pt x="440" y="37"/>
                  </a:lnTo>
                  <a:lnTo>
                    <a:pt x="446" y="1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7"/>
            <p:cNvSpPr/>
            <p:nvPr/>
          </p:nvSpPr>
          <p:spPr>
            <a:xfrm rot="5400000">
              <a:off x="10492200" y="4043880"/>
              <a:ext cx="840240" cy="372960"/>
            </a:xfrm>
            <a:custGeom>
              <a:avLst/>
              <a:gdLst/>
              <a:ahLst/>
              <a:rect l="l" t="t" r="r" b="b"/>
              <a:pathLst>
                <a:path w="435" h="229">
                  <a:moveTo>
                    <a:pt x="0" y="0"/>
                  </a:moveTo>
                  <a:lnTo>
                    <a:pt x="435" y="24"/>
                  </a:lnTo>
                  <a:lnTo>
                    <a:pt x="183" y="2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8"/>
            <p:cNvSpPr/>
            <p:nvPr/>
          </p:nvSpPr>
          <p:spPr>
            <a:xfrm rot="5400000">
              <a:off x="11028240" y="3862080"/>
              <a:ext cx="867600" cy="716760"/>
            </a:xfrm>
            <a:custGeom>
              <a:avLst/>
              <a:gdLst/>
              <a:ahLst/>
              <a:rect l="l" t="t" r="r" b="b"/>
              <a:pathLst>
                <a:path w="449" h="440">
                  <a:moveTo>
                    <a:pt x="391" y="0"/>
                  </a:moveTo>
                  <a:lnTo>
                    <a:pt x="0" y="440"/>
                  </a:lnTo>
                  <a:lnTo>
                    <a:pt x="449" y="436"/>
                  </a:lnTo>
                  <a:lnTo>
                    <a:pt x="419" y="246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9"/>
            <p:cNvSpPr/>
            <p:nvPr/>
          </p:nvSpPr>
          <p:spPr>
            <a:xfrm rot="5400000">
              <a:off x="11017440" y="3859200"/>
              <a:ext cx="869760" cy="736200"/>
            </a:xfrm>
            <a:custGeom>
              <a:avLst/>
              <a:gdLst/>
              <a:ahLst/>
              <a:rect l="l" t="t" r="r" b="b"/>
              <a:pathLst>
                <a:path w="450" h="452">
                  <a:moveTo>
                    <a:pt x="0" y="440"/>
                  </a:moveTo>
                  <a:lnTo>
                    <a:pt x="196" y="198"/>
                  </a:lnTo>
                  <a:lnTo>
                    <a:pt x="370" y="26"/>
                  </a:lnTo>
                  <a:lnTo>
                    <a:pt x="370" y="28"/>
                  </a:lnTo>
                  <a:lnTo>
                    <a:pt x="388" y="0"/>
                  </a:lnTo>
                  <a:lnTo>
                    <a:pt x="400" y="204"/>
                  </a:lnTo>
                  <a:lnTo>
                    <a:pt x="450" y="452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60"/>
            <p:cNvSpPr/>
            <p:nvPr/>
          </p:nvSpPr>
          <p:spPr>
            <a:xfrm rot="5400000">
              <a:off x="10879920" y="4026600"/>
              <a:ext cx="849960" cy="385920"/>
            </a:xfrm>
            <a:custGeom>
              <a:avLst/>
              <a:gdLst/>
              <a:ahLst/>
              <a:rect l="l" t="t" r="r" b="b"/>
              <a:pathLst>
                <a:path w="440" h="237">
                  <a:moveTo>
                    <a:pt x="0" y="237"/>
                  </a:moveTo>
                  <a:lnTo>
                    <a:pt x="440" y="236"/>
                  </a:lnTo>
                  <a:lnTo>
                    <a:pt x="195" y="0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161"/>
            <p:cNvGrpSpPr/>
            <p:nvPr/>
          </p:nvGrpSpPr>
          <p:grpSpPr>
            <a:xfrm>
              <a:off x="10200240" y="4663080"/>
              <a:ext cx="1799640" cy="880200"/>
              <a:chOff x="10200240" y="4663080"/>
              <a:chExt cx="1799640" cy="880200"/>
            </a:xfrm>
          </p:grpSpPr>
          <p:sp>
            <p:nvSpPr>
              <p:cNvPr id="453" name="Freeform 162"/>
              <p:cNvSpPr/>
              <p:nvPr/>
            </p:nvSpPr>
            <p:spPr>
              <a:xfrm flipH="1" rot="16200000">
                <a:off x="10665000" y="4199400"/>
                <a:ext cx="869040" cy="1799640"/>
              </a:xfrm>
              <a:custGeom>
                <a:avLst/>
                <a:gdLst/>
                <a:ahLst/>
                <a:rect l="l" t="t" r="r" b="b"/>
                <a:pathLst>
                  <a:path w="450" h="1105">
                    <a:moveTo>
                      <a:pt x="0" y="1105"/>
                    </a:moveTo>
                    <a:lnTo>
                      <a:pt x="450" y="556"/>
                    </a:lnTo>
                    <a:lnTo>
                      <a:pt x="0" y="0"/>
                    </a:lnTo>
                    <a:lnTo>
                      <a:pt x="0" y="1105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63"/>
              <p:cNvSpPr/>
              <p:nvPr/>
            </p:nvSpPr>
            <p:spPr>
              <a:xfrm flipH="1" rot="5400000">
                <a:off x="10339560" y="4769280"/>
                <a:ext cx="869040" cy="678960"/>
              </a:xfrm>
              <a:custGeom>
                <a:avLst/>
                <a:gdLst/>
                <a:ahLst/>
                <a:rect l="l" t="t" r="r" b="b"/>
                <a:pathLst>
                  <a:path w="450" h="417">
                    <a:moveTo>
                      <a:pt x="354" y="417"/>
                    </a:moveTo>
                    <a:lnTo>
                      <a:pt x="194" y="236"/>
                    </a:lnTo>
                    <a:lnTo>
                      <a:pt x="0" y="0"/>
                    </a:lnTo>
                    <a:lnTo>
                      <a:pt x="450" y="33"/>
                    </a:lnTo>
                    <a:lnTo>
                      <a:pt x="416" y="212"/>
                    </a:lnTo>
                    <a:lnTo>
                      <a:pt x="354" y="417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64"/>
              <p:cNvSpPr/>
              <p:nvPr/>
            </p:nvSpPr>
            <p:spPr>
              <a:xfrm flipH="1" rot="5400000">
                <a:off x="10698840" y="5081400"/>
                <a:ext cx="853920" cy="63360"/>
              </a:xfrm>
              <a:custGeom>
                <a:avLst/>
                <a:gdLst/>
                <a:ahLst/>
                <a:rect l="l" t="t" r="r" b="b"/>
                <a:pathLst>
                  <a:path w="442" h="39">
                    <a:moveTo>
                      <a:pt x="442" y="0"/>
                    </a:moveTo>
                    <a:lnTo>
                      <a:pt x="0" y="31"/>
                    </a:lnTo>
                    <a:lnTo>
                      <a:pt x="434" y="39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65"/>
              <p:cNvSpPr/>
              <p:nvPr/>
            </p:nvSpPr>
            <p:spPr>
              <a:xfrm flipH="1" rot="5400000">
                <a:off x="10344240" y="4758120"/>
                <a:ext cx="861120" cy="671040"/>
              </a:xfrm>
              <a:custGeom>
                <a:avLst/>
                <a:gdLst/>
                <a:ahLst/>
                <a:rect l="l" t="t" r="r" b="b"/>
                <a:pathLst>
                  <a:path w="446" h="412">
                    <a:moveTo>
                      <a:pt x="446" y="16"/>
                    </a:moveTo>
                    <a:lnTo>
                      <a:pt x="0" y="0"/>
                    </a:lnTo>
                    <a:lnTo>
                      <a:pt x="188" y="240"/>
                    </a:lnTo>
                    <a:lnTo>
                      <a:pt x="344" y="412"/>
                    </a:lnTo>
                    <a:lnTo>
                      <a:pt x="374" y="277"/>
                    </a:lnTo>
                    <a:lnTo>
                      <a:pt x="440" y="37"/>
                    </a:lnTo>
                    <a:lnTo>
                      <a:pt x="446" y="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66"/>
              <p:cNvSpPr/>
              <p:nvPr/>
            </p:nvSpPr>
            <p:spPr>
              <a:xfrm flipH="1" rot="5400000">
                <a:off x="10492200" y="4907880"/>
                <a:ext cx="839880" cy="372960"/>
              </a:xfrm>
              <a:custGeom>
                <a:avLst/>
                <a:gdLst/>
                <a:ahLst/>
                <a:rect l="l" t="t" r="r" b="b"/>
                <a:pathLst>
                  <a:path w="435" h="229">
                    <a:moveTo>
                      <a:pt x="0" y="0"/>
                    </a:moveTo>
                    <a:lnTo>
                      <a:pt x="435" y="24"/>
                    </a:lnTo>
                    <a:lnTo>
                      <a:pt x="183" y="2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67"/>
              <p:cNvSpPr/>
              <p:nvPr/>
            </p:nvSpPr>
            <p:spPr>
              <a:xfrm flipH="1" rot="5400000">
                <a:off x="11028240" y="4745880"/>
                <a:ext cx="867240" cy="716400"/>
              </a:xfrm>
              <a:custGeom>
                <a:avLst/>
                <a:gdLst/>
                <a:ahLst/>
                <a:rect l="l" t="t" r="r" b="b"/>
                <a:pathLst>
                  <a:path w="449" h="440">
                    <a:moveTo>
                      <a:pt x="391" y="0"/>
                    </a:moveTo>
                    <a:lnTo>
                      <a:pt x="0" y="440"/>
                    </a:lnTo>
                    <a:lnTo>
                      <a:pt x="449" y="436"/>
                    </a:lnTo>
                    <a:lnTo>
                      <a:pt x="419" y="246"/>
                    </a:lnTo>
                    <a:lnTo>
                      <a:pt x="391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68"/>
              <p:cNvSpPr/>
              <p:nvPr/>
            </p:nvSpPr>
            <p:spPr>
              <a:xfrm flipH="1" rot="5400000">
                <a:off x="11017800" y="4729680"/>
                <a:ext cx="869040" cy="735840"/>
              </a:xfrm>
              <a:custGeom>
                <a:avLst/>
                <a:gdLst/>
                <a:ahLst/>
                <a:rect l="l" t="t" r="r" b="b"/>
                <a:pathLst>
                  <a:path w="450" h="452">
                    <a:moveTo>
                      <a:pt x="0" y="440"/>
                    </a:moveTo>
                    <a:lnTo>
                      <a:pt x="196" y="198"/>
                    </a:lnTo>
                    <a:lnTo>
                      <a:pt x="370" y="26"/>
                    </a:lnTo>
                    <a:lnTo>
                      <a:pt x="370" y="28"/>
                    </a:lnTo>
                    <a:lnTo>
                      <a:pt x="388" y="0"/>
                    </a:lnTo>
                    <a:lnTo>
                      <a:pt x="400" y="204"/>
                    </a:lnTo>
                    <a:lnTo>
                      <a:pt x="450" y="452"/>
                    </a:lnTo>
                    <a:lnTo>
                      <a:pt x="0" y="44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69"/>
              <p:cNvSpPr/>
              <p:nvPr/>
            </p:nvSpPr>
            <p:spPr>
              <a:xfrm flipH="1" rot="5400000">
                <a:off x="10879560" y="4912200"/>
                <a:ext cx="849960" cy="385920"/>
              </a:xfrm>
              <a:custGeom>
                <a:avLst/>
                <a:gdLst/>
                <a:ahLst/>
                <a:rect l="l" t="t" r="r" b="b"/>
                <a:pathLst>
                  <a:path w="440" h="237">
                    <a:moveTo>
                      <a:pt x="0" y="237"/>
                    </a:moveTo>
                    <a:lnTo>
                      <a:pt x="440" y="236"/>
                    </a:lnTo>
                    <a:lnTo>
                      <a:pt x="195" y="0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170"/>
          <p:cNvGrpSpPr/>
          <p:nvPr/>
        </p:nvGrpSpPr>
        <p:grpSpPr>
          <a:xfrm>
            <a:off x="10194840" y="3754440"/>
            <a:ext cx="1800000" cy="1763280"/>
            <a:chOff x="10194840" y="3754440"/>
            <a:chExt cx="1800000" cy="1763280"/>
          </a:xfrm>
        </p:grpSpPr>
        <p:sp>
          <p:nvSpPr>
            <p:cNvPr id="462" name="Freeform 171"/>
            <p:cNvSpPr/>
            <p:nvPr/>
          </p:nvSpPr>
          <p:spPr>
            <a:xfrm rot="5400000">
              <a:off x="10653840" y="3295440"/>
              <a:ext cx="880560" cy="1798560"/>
            </a:xfrm>
            <a:custGeom>
              <a:avLst/>
              <a:gdLst/>
              <a:ahLst/>
              <a:rect l="l" t="t" r="r" b="b"/>
              <a:pathLst>
                <a:path w="448" h="1105">
                  <a:moveTo>
                    <a:pt x="448" y="0"/>
                  </a:moveTo>
                  <a:lnTo>
                    <a:pt x="0" y="549"/>
                  </a:lnTo>
                  <a:lnTo>
                    <a:pt x="448" y="1105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fffff">
                <a:alpha val="8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72"/>
            <p:cNvSpPr/>
            <p:nvPr/>
          </p:nvSpPr>
          <p:spPr>
            <a:xfrm rot="5400000">
              <a:off x="10476720" y="4007880"/>
              <a:ext cx="868680" cy="37404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73"/>
            <p:cNvSpPr/>
            <p:nvPr/>
          </p:nvSpPr>
          <p:spPr>
            <a:xfrm rot="5400000">
              <a:off x="10472040" y="4002480"/>
              <a:ext cx="874440" cy="39024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74"/>
            <p:cNvSpPr/>
            <p:nvPr/>
          </p:nvSpPr>
          <p:spPr>
            <a:xfrm rot="5400000">
              <a:off x="10471680" y="4000680"/>
              <a:ext cx="870480" cy="382320"/>
            </a:xfrm>
            <a:custGeom>
              <a:avLst/>
              <a:gdLst/>
              <a:ahLst/>
              <a:rect l="l" t="t" r="r" b="b"/>
              <a:pathLst>
                <a:path w="443" h="235">
                  <a:moveTo>
                    <a:pt x="0" y="0"/>
                  </a:moveTo>
                  <a:lnTo>
                    <a:pt x="443" y="5"/>
                  </a:lnTo>
                  <a:lnTo>
                    <a:pt x="194" y="2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5"/>
            <p:cNvSpPr/>
            <p:nvPr/>
          </p:nvSpPr>
          <p:spPr>
            <a:xfrm rot="5400000">
              <a:off x="10846080" y="3998520"/>
              <a:ext cx="87840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76"/>
            <p:cNvSpPr/>
            <p:nvPr/>
          </p:nvSpPr>
          <p:spPr>
            <a:xfrm rot="5400000">
              <a:off x="10849320" y="3994920"/>
              <a:ext cx="868680" cy="38736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77"/>
            <p:cNvSpPr/>
            <p:nvPr/>
          </p:nvSpPr>
          <p:spPr>
            <a:xfrm rot="5400000">
              <a:off x="10843560" y="3999240"/>
              <a:ext cx="884880" cy="395280"/>
            </a:xfrm>
            <a:custGeom>
              <a:avLst/>
              <a:gdLst/>
              <a:ahLst/>
              <a:rect l="l" t="t" r="r" b="b"/>
              <a:pathLst>
                <a:path w="450" h="243">
                  <a:moveTo>
                    <a:pt x="0" y="236"/>
                  </a:moveTo>
                  <a:lnTo>
                    <a:pt x="450" y="243"/>
                  </a:lnTo>
                  <a:lnTo>
                    <a:pt x="196" y="0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178"/>
            <p:cNvGrpSpPr/>
            <p:nvPr/>
          </p:nvGrpSpPr>
          <p:grpSpPr>
            <a:xfrm>
              <a:off x="10196640" y="4633200"/>
              <a:ext cx="1798200" cy="884520"/>
              <a:chOff x="10196640" y="4633200"/>
              <a:chExt cx="1798200" cy="884520"/>
            </a:xfrm>
          </p:grpSpPr>
          <p:sp>
            <p:nvSpPr>
              <p:cNvPr id="470" name="Freeform 179"/>
              <p:cNvSpPr/>
              <p:nvPr/>
            </p:nvSpPr>
            <p:spPr>
              <a:xfrm flipH="1" rot="5400000">
                <a:off x="10654920" y="4178160"/>
                <a:ext cx="880560" cy="179820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80"/>
              <p:cNvSpPr/>
              <p:nvPr/>
            </p:nvSpPr>
            <p:spPr>
              <a:xfrm flipH="1" rot="5400000">
                <a:off x="10477440" y="4890240"/>
                <a:ext cx="869040" cy="37404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81"/>
              <p:cNvSpPr/>
              <p:nvPr/>
            </p:nvSpPr>
            <p:spPr>
              <a:xfrm flipH="1" rot="5400000">
                <a:off x="10473840" y="4879440"/>
                <a:ext cx="874800" cy="39024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82"/>
              <p:cNvSpPr/>
              <p:nvPr/>
            </p:nvSpPr>
            <p:spPr>
              <a:xfrm flipH="1" rot="5400000">
                <a:off x="10472760" y="4889520"/>
                <a:ext cx="871200" cy="382320"/>
              </a:xfrm>
              <a:custGeom>
                <a:avLst/>
                <a:gdLst/>
                <a:ahLst/>
                <a:rect l="l" t="t" r="r" b="b"/>
                <a:pathLst>
                  <a:path w="443" h="235">
                    <a:moveTo>
                      <a:pt x="0" y="0"/>
                    </a:moveTo>
                    <a:lnTo>
                      <a:pt x="443" y="5"/>
                    </a:lnTo>
                    <a:lnTo>
                      <a:pt x="194" y="2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83"/>
              <p:cNvSpPr/>
              <p:nvPr/>
            </p:nvSpPr>
            <p:spPr>
              <a:xfrm flipH="1" rot="5400000">
                <a:off x="10847160" y="4883040"/>
                <a:ext cx="87876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84"/>
              <p:cNvSpPr/>
              <p:nvPr/>
            </p:nvSpPr>
            <p:spPr>
              <a:xfrm flipH="1" rot="5400000">
                <a:off x="10850760" y="4889520"/>
                <a:ext cx="86904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85"/>
              <p:cNvSpPr/>
              <p:nvPr/>
            </p:nvSpPr>
            <p:spPr>
              <a:xfrm flipH="1" rot="5400000">
                <a:off x="10845360" y="4877640"/>
                <a:ext cx="884520" cy="395280"/>
              </a:xfrm>
              <a:custGeom>
                <a:avLst/>
                <a:gdLst/>
                <a:ahLst/>
                <a:rect l="l" t="t" r="r" b="b"/>
                <a:pathLst>
                  <a:path w="450" h="243">
                    <a:moveTo>
                      <a:pt x="0" y="236"/>
                    </a:moveTo>
                    <a:lnTo>
                      <a:pt x="450" y="243"/>
                    </a:lnTo>
                    <a:lnTo>
                      <a:pt x="196" y="0"/>
                    </a:lnTo>
                    <a:lnTo>
                      <a:pt x="0" y="2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186"/>
          <p:cNvGrpSpPr/>
          <p:nvPr/>
        </p:nvGrpSpPr>
        <p:grpSpPr>
          <a:xfrm>
            <a:off x="10216800" y="3745080"/>
            <a:ext cx="1803240" cy="1753200"/>
            <a:chOff x="10216800" y="3745080"/>
            <a:chExt cx="1803240" cy="1753200"/>
          </a:xfrm>
        </p:grpSpPr>
        <p:grpSp>
          <p:nvGrpSpPr>
            <p:cNvPr id="478" name="Group 187"/>
            <p:cNvGrpSpPr/>
            <p:nvPr/>
          </p:nvGrpSpPr>
          <p:grpSpPr>
            <a:xfrm>
              <a:off x="10216800" y="3745080"/>
              <a:ext cx="1798560" cy="885240"/>
              <a:chOff x="10216800" y="3745080"/>
              <a:chExt cx="1798560" cy="885240"/>
            </a:xfrm>
          </p:grpSpPr>
          <p:sp>
            <p:nvSpPr>
              <p:cNvPr id="479" name="Freeform 188"/>
              <p:cNvSpPr/>
              <p:nvPr/>
            </p:nvSpPr>
            <p:spPr>
              <a:xfrm rot="5400000">
                <a:off x="10675440" y="3286080"/>
                <a:ext cx="88092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89"/>
              <p:cNvSpPr/>
              <p:nvPr/>
            </p:nvSpPr>
            <p:spPr>
              <a:xfrm rot="5400000">
                <a:off x="10498680" y="3997800"/>
                <a:ext cx="86796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90"/>
              <p:cNvSpPr/>
              <p:nvPr/>
            </p:nvSpPr>
            <p:spPr>
              <a:xfrm rot="5400000">
                <a:off x="10494000" y="3993120"/>
                <a:ext cx="87444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91"/>
              <p:cNvSpPr/>
              <p:nvPr/>
            </p:nvSpPr>
            <p:spPr>
              <a:xfrm rot="5400000">
                <a:off x="10867680" y="3989160"/>
                <a:ext cx="87912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92"/>
              <p:cNvSpPr/>
              <p:nvPr/>
            </p:nvSpPr>
            <p:spPr>
              <a:xfrm rot="5400000">
                <a:off x="10871640" y="3985560"/>
                <a:ext cx="86832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93"/>
              <p:cNvSpPr/>
              <p:nvPr/>
            </p:nvSpPr>
            <p:spPr>
              <a:xfrm rot="5400000">
                <a:off x="10963080" y="4086000"/>
                <a:ext cx="69048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94"/>
              <p:cNvSpPr/>
              <p:nvPr/>
            </p:nvSpPr>
            <p:spPr>
              <a:xfrm rot="5400000">
                <a:off x="10946160" y="4013640"/>
                <a:ext cx="786960" cy="446040"/>
              </a:xfrm>
              <a:custGeom>
                <a:avLst/>
                <a:gdLst/>
                <a:ahLst/>
                <a:rect l="l" t="t" r="r" b="b"/>
                <a:pathLst>
                  <a:path w="496" h="281">
                    <a:moveTo>
                      <a:pt x="0" y="0"/>
                    </a:moveTo>
                    <a:lnTo>
                      <a:pt x="496" y="281"/>
                    </a:lnTo>
                    <a:lnTo>
                      <a:pt x="51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95"/>
              <p:cNvSpPr/>
              <p:nvPr/>
            </p:nvSpPr>
            <p:spPr>
              <a:xfrm rot="5400000">
                <a:off x="10508040" y="4016520"/>
                <a:ext cx="771120" cy="443160"/>
              </a:xfrm>
              <a:custGeom>
                <a:avLst/>
                <a:gdLst/>
                <a:ahLst/>
                <a:rect l="l" t="t" r="r" b="b"/>
                <a:pathLst>
                  <a:path w="486" h="279">
                    <a:moveTo>
                      <a:pt x="0" y="279"/>
                    </a:moveTo>
                    <a:lnTo>
                      <a:pt x="486" y="0"/>
                    </a:lnTo>
                    <a:lnTo>
                      <a:pt x="51" y="117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196"/>
            <p:cNvGrpSpPr/>
            <p:nvPr/>
          </p:nvGrpSpPr>
          <p:grpSpPr>
            <a:xfrm>
              <a:off x="10221480" y="4613400"/>
              <a:ext cx="1798560" cy="884880"/>
              <a:chOff x="10221480" y="4613400"/>
              <a:chExt cx="1798560" cy="884880"/>
            </a:xfrm>
          </p:grpSpPr>
          <p:sp>
            <p:nvSpPr>
              <p:cNvPr id="488" name="Freeform 197"/>
              <p:cNvSpPr/>
              <p:nvPr/>
            </p:nvSpPr>
            <p:spPr>
              <a:xfrm flipH="1" rot="5400000">
                <a:off x="10680480" y="4158720"/>
                <a:ext cx="88056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98"/>
              <p:cNvSpPr/>
              <p:nvPr/>
            </p:nvSpPr>
            <p:spPr>
              <a:xfrm flipH="1" rot="5400000">
                <a:off x="10503000" y="4870800"/>
                <a:ext cx="86760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99"/>
              <p:cNvSpPr/>
              <p:nvPr/>
            </p:nvSpPr>
            <p:spPr>
              <a:xfrm flipH="1" rot="5400000">
                <a:off x="10498320" y="4859640"/>
                <a:ext cx="87408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00"/>
              <p:cNvSpPr/>
              <p:nvPr/>
            </p:nvSpPr>
            <p:spPr>
              <a:xfrm flipH="1" rot="5400000">
                <a:off x="10872360" y="4863600"/>
                <a:ext cx="87876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01"/>
              <p:cNvSpPr/>
              <p:nvPr/>
            </p:nvSpPr>
            <p:spPr>
              <a:xfrm flipH="1" rot="5400000">
                <a:off x="10876320" y="4870440"/>
                <a:ext cx="86796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02"/>
              <p:cNvSpPr/>
              <p:nvPr/>
            </p:nvSpPr>
            <p:spPr>
              <a:xfrm flipH="1" rot="5400000">
                <a:off x="10967760" y="4762080"/>
                <a:ext cx="69012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03"/>
              <p:cNvSpPr/>
              <p:nvPr/>
            </p:nvSpPr>
            <p:spPr>
              <a:xfrm flipH="1" rot="5400000">
                <a:off x="10950840" y="4783680"/>
                <a:ext cx="786600" cy="446040"/>
              </a:xfrm>
              <a:custGeom>
                <a:avLst/>
                <a:gdLst/>
                <a:ahLst/>
                <a:rect l="l" t="t" r="r" b="b"/>
                <a:pathLst>
                  <a:path w="496" h="281">
                    <a:moveTo>
                      <a:pt x="0" y="0"/>
                    </a:moveTo>
                    <a:lnTo>
                      <a:pt x="496" y="281"/>
                    </a:lnTo>
                    <a:lnTo>
                      <a:pt x="51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04"/>
              <p:cNvSpPr/>
              <p:nvPr/>
            </p:nvSpPr>
            <p:spPr>
              <a:xfrm flipH="1" rot="5400000">
                <a:off x="10512720" y="4783680"/>
                <a:ext cx="770760" cy="443160"/>
              </a:xfrm>
              <a:custGeom>
                <a:avLst/>
                <a:gdLst/>
                <a:ahLst/>
                <a:rect l="l" t="t" r="r" b="b"/>
                <a:pathLst>
                  <a:path w="486" h="279">
                    <a:moveTo>
                      <a:pt x="0" y="279"/>
                    </a:moveTo>
                    <a:lnTo>
                      <a:pt x="486" y="0"/>
                    </a:lnTo>
                    <a:lnTo>
                      <a:pt x="51" y="117"/>
                    </a:lnTo>
                    <a:lnTo>
                      <a:pt x="0" y="27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205"/>
          <p:cNvGrpSpPr/>
          <p:nvPr/>
        </p:nvGrpSpPr>
        <p:grpSpPr>
          <a:xfrm>
            <a:off x="10225080" y="3754440"/>
            <a:ext cx="1802880" cy="1754280"/>
            <a:chOff x="10225080" y="3754440"/>
            <a:chExt cx="1802880" cy="1754280"/>
          </a:xfrm>
        </p:grpSpPr>
        <p:sp>
          <p:nvSpPr>
            <p:cNvPr id="497" name="Freeform 206"/>
            <p:cNvSpPr/>
            <p:nvPr/>
          </p:nvSpPr>
          <p:spPr>
            <a:xfrm rot="5400000">
              <a:off x="10683720" y="3295800"/>
              <a:ext cx="881280" cy="1798560"/>
            </a:xfrm>
            <a:custGeom>
              <a:avLst/>
              <a:gdLst/>
              <a:ahLst/>
              <a:rect l="l" t="t" r="r" b="b"/>
              <a:pathLst>
                <a:path w="448" h="1105">
                  <a:moveTo>
                    <a:pt x="448" y="0"/>
                  </a:moveTo>
                  <a:lnTo>
                    <a:pt x="0" y="549"/>
                  </a:lnTo>
                  <a:lnTo>
                    <a:pt x="448" y="1105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fffff">
                <a:alpha val="8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07"/>
            <p:cNvSpPr/>
            <p:nvPr/>
          </p:nvSpPr>
          <p:spPr>
            <a:xfrm rot="5400000">
              <a:off x="10506960" y="4007880"/>
              <a:ext cx="868320" cy="37440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08"/>
            <p:cNvSpPr/>
            <p:nvPr/>
          </p:nvSpPr>
          <p:spPr>
            <a:xfrm rot="5400000">
              <a:off x="10501920" y="4003200"/>
              <a:ext cx="874800" cy="39024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09"/>
            <p:cNvSpPr/>
            <p:nvPr/>
          </p:nvSpPr>
          <p:spPr>
            <a:xfrm rot="5400000">
              <a:off x="10875960" y="3999240"/>
              <a:ext cx="879480" cy="38988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10"/>
            <p:cNvSpPr/>
            <p:nvPr/>
          </p:nvSpPr>
          <p:spPr>
            <a:xfrm rot="5400000">
              <a:off x="10879920" y="3994920"/>
              <a:ext cx="868320" cy="38700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11"/>
            <p:cNvSpPr/>
            <p:nvPr/>
          </p:nvSpPr>
          <p:spPr>
            <a:xfrm rot="5400000">
              <a:off x="10971000" y="4095720"/>
              <a:ext cx="690480" cy="39492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12"/>
            <p:cNvSpPr/>
            <p:nvPr/>
          </p:nvSpPr>
          <p:spPr>
            <a:xfrm rot="5400000">
              <a:off x="10806840" y="4133160"/>
              <a:ext cx="825480" cy="188640"/>
            </a:xfrm>
            <a:custGeom>
              <a:avLst/>
              <a:gdLst/>
              <a:ahLst/>
              <a:rect l="l" t="t" r="r" b="b"/>
              <a:pathLst>
                <a:path w="520" h="119">
                  <a:moveTo>
                    <a:pt x="0" y="48"/>
                  </a:moveTo>
                  <a:lnTo>
                    <a:pt x="520" y="119"/>
                  </a:lnTo>
                  <a:lnTo>
                    <a:pt x="7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13"/>
            <p:cNvSpPr/>
            <p:nvPr/>
          </p:nvSpPr>
          <p:spPr>
            <a:xfrm rot="5400000">
              <a:off x="10616040" y="4126680"/>
              <a:ext cx="828720" cy="185400"/>
            </a:xfrm>
            <a:custGeom>
              <a:avLst/>
              <a:gdLst/>
              <a:ahLst/>
              <a:rect l="l" t="t" r="r" b="b"/>
              <a:pathLst>
                <a:path w="522" h="117">
                  <a:moveTo>
                    <a:pt x="0" y="51"/>
                  </a:moveTo>
                  <a:lnTo>
                    <a:pt x="522" y="0"/>
                  </a:lnTo>
                  <a:lnTo>
                    <a:pt x="87" y="11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14"/>
            <p:cNvSpPr/>
            <p:nvPr/>
          </p:nvSpPr>
          <p:spPr>
            <a:xfrm flipH="1" rot="5400000">
              <a:off x="10688040" y="4168800"/>
              <a:ext cx="880920" cy="1798200"/>
            </a:xfrm>
            <a:custGeom>
              <a:avLst/>
              <a:gdLst/>
              <a:ahLst/>
              <a:rect l="l" t="t" r="r" b="b"/>
              <a:pathLst>
                <a:path w="448" h="1105">
                  <a:moveTo>
                    <a:pt x="448" y="0"/>
                  </a:moveTo>
                  <a:lnTo>
                    <a:pt x="0" y="549"/>
                  </a:lnTo>
                  <a:lnTo>
                    <a:pt x="448" y="1105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fffff">
                <a:alpha val="8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15"/>
            <p:cNvSpPr/>
            <p:nvPr/>
          </p:nvSpPr>
          <p:spPr>
            <a:xfrm flipH="1" rot="5400000">
              <a:off x="10511640" y="4880880"/>
              <a:ext cx="868320" cy="37440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16"/>
            <p:cNvSpPr/>
            <p:nvPr/>
          </p:nvSpPr>
          <p:spPr>
            <a:xfrm flipH="1" rot="5400000">
              <a:off x="10506600" y="4869720"/>
              <a:ext cx="874440" cy="38988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7"/>
            <p:cNvSpPr/>
            <p:nvPr/>
          </p:nvSpPr>
          <p:spPr>
            <a:xfrm flipH="1" rot="5400000">
              <a:off x="10880640" y="4873320"/>
              <a:ext cx="87948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18"/>
            <p:cNvSpPr/>
            <p:nvPr/>
          </p:nvSpPr>
          <p:spPr>
            <a:xfrm flipH="1" rot="5400000">
              <a:off x="10884240" y="4880880"/>
              <a:ext cx="868320" cy="38700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19"/>
            <p:cNvSpPr/>
            <p:nvPr/>
          </p:nvSpPr>
          <p:spPr>
            <a:xfrm flipH="1" rot="5400000">
              <a:off x="10975320" y="4772160"/>
              <a:ext cx="690480" cy="39492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20"/>
            <p:cNvSpPr/>
            <p:nvPr/>
          </p:nvSpPr>
          <p:spPr>
            <a:xfrm rot="5400000">
              <a:off x="10787760" y="4964760"/>
              <a:ext cx="868320" cy="183960"/>
            </a:xfrm>
            <a:custGeom>
              <a:avLst/>
              <a:gdLst/>
              <a:ahLst/>
              <a:rect l="l" t="t" r="r" b="b"/>
              <a:pathLst>
                <a:path w="547" h="116">
                  <a:moveTo>
                    <a:pt x="547" y="51"/>
                  </a:moveTo>
                  <a:lnTo>
                    <a:pt x="0" y="116"/>
                  </a:lnTo>
                  <a:lnTo>
                    <a:pt x="439" y="0"/>
                  </a:lnTo>
                  <a:lnTo>
                    <a:pt x="547" y="51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21"/>
            <p:cNvSpPr/>
            <p:nvPr/>
          </p:nvSpPr>
          <p:spPr>
            <a:xfrm rot="5400000">
              <a:off x="10626120" y="4946040"/>
              <a:ext cx="819000" cy="185400"/>
            </a:xfrm>
            <a:custGeom>
              <a:avLst/>
              <a:gdLst/>
              <a:ahLst/>
              <a:rect l="l" t="t" r="r" b="b"/>
              <a:pathLst>
                <a:path w="516" h="117">
                  <a:moveTo>
                    <a:pt x="516" y="66"/>
                  </a:moveTo>
                  <a:lnTo>
                    <a:pt x="0" y="0"/>
                  </a:lnTo>
                  <a:lnTo>
                    <a:pt x="435" y="117"/>
                  </a:lnTo>
                  <a:lnTo>
                    <a:pt x="516" y="66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222"/>
          <p:cNvGrpSpPr/>
          <p:nvPr/>
        </p:nvGrpSpPr>
        <p:grpSpPr>
          <a:xfrm>
            <a:off x="10182240" y="3747960"/>
            <a:ext cx="1800000" cy="1758960"/>
            <a:chOff x="10182240" y="3747960"/>
            <a:chExt cx="1800000" cy="1758960"/>
          </a:xfrm>
        </p:grpSpPr>
        <p:grpSp>
          <p:nvGrpSpPr>
            <p:cNvPr id="514" name="Group 223"/>
            <p:cNvGrpSpPr/>
            <p:nvPr/>
          </p:nvGrpSpPr>
          <p:grpSpPr>
            <a:xfrm>
              <a:off x="10182240" y="3747960"/>
              <a:ext cx="1798560" cy="885960"/>
              <a:chOff x="10182240" y="3747960"/>
              <a:chExt cx="1798560" cy="885960"/>
            </a:xfrm>
          </p:grpSpPr>
          <p:sp>
            <p:nvSpPr>
              <p:cNvPr id="515" name="Freeform 224"/>
              <p:cNvSpPr/>
              <p:nvPr/>
            </p:nvSpPr>
            <p:spPr>
              <a:xfrm rot="5400000">
                <a:off x="10640880" y="3289320"/>
                <a:ext cx="88128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25"/>
              <p:cNvSpPr/>
              <p:nvPr/>
            </p:nvSpPr>
            <p:spPr>
              <a:xfrm rot="5400000">
                <a:off x="10463760" y="4001040"/>
                <a:ext cx="86832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26"/>
              <p:cNvSpPr/>
              <p:nvPr/>
            </p:nvSpPr>
            <p:spPr>
              <a:xfrm rot="5400000">
                <a:off x="10459080" y="3996360"/>
                <a:ext cx="87480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27"/>
              <p:cNvSpPr/>
              <p:nvPr/>
            </p:nvSpPr>
            <p:spPr>
              <a:xfrm rot="5400000">
                <a:off x="10833120" y="3992400"/>
                <a:ext cx="87948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28"/>
              <p:cNvSpPr/>
              <p:nvPr/>
            </p:nvSpPr>
            <p:spPr>
              <a:xfrm rot="5400000">
                <a:off x="10837080" y="3988440"/>
                <a:ext cx="86832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29"/>
              <p:cNvSpPr/>
              <p:nvPr/>
            </p:nvSpPr>
            <p:spPr>
              <a:xfrm rot="5400000">
                <a:off x="10928520" y="4089240"/>
                <a:ext cx="69048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30"/>
              <p:cNvSpPr/>
              <p:nvPr/>
            </p:nvSpPr>
            <p:spPr>
              <a:xfrm rot="5400000">
                <a:off x="11000160" y="4004280"/>
                <a:ext cx="71136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31"/>
              <p:cNvSpPr/>
              <p:nvPr/>
            </p:nvSpPr>
            <p:spPr>
              <a:xfrm rot="5400000">
                <a:off x="10478880" y="4025520"/>
                <a:ext cx="690480" cy="513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232"/>
            <p:cNvGrpSpPr/>
            <p:nvPr/>
          </p:nvGrpSpPr>
          <p:grpSpPr>
            <a:xfrm>
              <a:off x="10183680" y="4621680"/>
              <a:ext cx="1798560" cy="885240"/>
              <a:chOff x="10183680" y="4621680"/>
              <a:chExt cx="1798560" cy="885240"/>
            </a:xfrm>
          </p:grpSpPr>
          <p:sp>
            <p:nvSpPr>
              <p:cNvPr id="524" name="Freeform 233"/>
              <p:cNvSpPr/>
              <p:nvPr/>
            </p:nvSpPr>
            <p:spPr>
              <a:xfrm flipH="1" rot="5400000">
                <a:off x="10642320" y="4167000"/>
                <a:ext cx="88092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>
                  <a:alpha val="8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34"/>
              <p:cNvSpPr/>
              <p:nvPr/>
            </p:nvSpPr>
            <p:spPr>
              <a:xfrm flipH="1" rot="5400000">
                <a:off x="10465200" y="4879440"/>
                <a:ext cx="86796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35"/>
              <p:cNvSpPr/>
              <p:nvPr/>
            </p:nvSpPr>
            <p:spPr>
              <a:xfrm flipH="1" rot="5400000">
                <a:off x="10460520" y="4868280"/>
                <a:ext cx="87444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36"/>
              <p:cNvSpPr/>
              <p:nvPr/>
            </p:nvSpPr>
            <p:spPr>
              <a:xfrm flipH="1" rot="5400000">
                <a:off x="10834200" y="4871880"/>
                <a:ext cx="87912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37"/>
              <p:cNvSpPr/>
              <p:nvPr/>
            </p:nvSpPr>
            <p:spPr>
              <a:xfrm flipH="1" rot="5400000">
                <a:off x="10838520" y="4879080"/>
                <a:ext cx="86796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38"/>
              <p:cNvSpPr/>
              <p:nvPr/>
            </p:nvSpPr>
            <p:spPr>
              <a:xfrm flipH="1" rot="5400000">
                <a:off x="10929960" y="4770720"/>
                <a:ext cx="69012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39"/>
              <p:cNvSpPr/>
              <p:nvPr/>
            </p:nvSpPr>
            <p:spPr>
              <a:xfrm flipH="1" rot="5400000">
                <a:off x="11001600" y="4703400"/>
                <a:ext cx="71100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40"/>
              <p:cNvSpPr/>
              <p:nvPr/>
            </p:nvSpPr>
            <p:spPr>
              <a:xfrm flipH="1" rot="5400000">
                <a:off x="10480320" y="4716720"/>
                <a:ext cx="690120" cy="513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241"/>
          <p:cNvGrpSpPr/>
          <p:nvPr/>
        </p:nvGrpSpPr>
        <p:grpSpPr>
          <a:xfrm>
            <a:off x="10190160" y="3759120"/>
            <a:ext cx="1800000" cy="1758960"/>
            <a:chOff x="10190160" y="3759120"/>
            <a:chExt cx="1800000" cy="1758960"/>
          </a:xfrm>
        </p:grpSpPr>
        <p:grpSp>
          <p:nvGrpSpPr>
            <p:cNvPr id="533" name="Group 242"/>
            <p:cNvGrpSpPr/>
            <p:nvPr/>
          </p:nvGrpSpPr>
          <p:grpSpPr>
            <a:xfrm>
              <a:off x="10190160" y="3759120"/>
              <a:ext cx="1798560" cy="885960"/>
              <a:chOff x="10190160" y="3759120"/>
              <a:chExt cx="1798560" cy="885960"/>
            </a:xfrm>
          </p:grpSpPr>
          <p:sp>
            <p:nvSpPr>
              <p:cNvPr id="534" name="Freeform 243"/>
              <p:cNvSpPr/>
              <p:nvPr/>
            </p:nvSpPr>
            <p:spPr>
              <a:xfrm rot="5400000">
                <a:off x="10648800" y="3300480"/>
                <a:ext cx="88128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44"/>
              <p:cNvSpPr/>
              <p:nvPr/>
            </p:nvSpPr>
            <p:spPr>
              <a:xfrm rot="5400000">
                <a:off x="10471680" y="4012200"/>
                <a:ext cx="86832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45"/>
              <p:cNvSpPr/>
              <p:nvPr/>
            </p:nvSpPr>
            <p:spPr>
              <a:xfrm rot="5400000">
                <a:off x="10467000" y="4007520"/>
                <a:ext cx="87480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46"/>
              <p:cNvSpPr/>
              <p:nvPr/>
            </p:nvSpPr>
            <p:spPr>
              <a:xfrm rot="5400000">
                <a:off x="10841040" y="4003560"/>
                <a:ext cx="87948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47"/>
              <p:cNvSpPr/>
              <p:nvPr/>
            </p:nvSpPr>
            <p:spPr>
              <a:xfrm rot="5400000">
                <a:off x="10845000" y="3999600"/>
                <a:ext cx="86832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48"/>
              <p:cNvSpPr/>
              <p:nvPr/>
            </p:nvSpPr>
            <p:spPr>
              <a:xfrm rot="5400000">
                <a:off x="10936440" y="4100400"/>
                <a:ext cx="69048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49"/>
              <p:cNvSpPr/>
              <p:nvPr/>
            </p:nvSpPr>
            <p:spPr>
              <a:xfrm rot="5400000">
                <a:off x="11008080" y="4015440"/>
                <a:ext cx="71136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50"/>
              <p:cNvSpPr/>
              <p:nvPr/>
            </p:nvSpPr>
            <p:spPr>
              <a:xfrm rot="5400000">
                <a:off x="10486800" y="4036680"/>
                <a:ext cx="690480" cy="513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251"/>
            <p:cNvGrpSpPr/>
            <p:nvPr/>
          </p:nvGrpSpPr>
          <p:grpSpPr>
            <a:xfrm>
              <a:off x="10191600" y="4632840"/>
              <a:ext cx="1798560" cy="885240"/>
              <a:chOff x="10191600" y="4632840"/>
              <a:chExt cx="1798560" cy="885240"/>
            </a:xfrm>
          </p:grpSpPr>
          <p:sp>
            <p:nvSpPr>
              <p:cNvPr id="543" name="Freeform 252"/>
              <p:cNvSpPr/>
              <p:nvPr/>
            </p:nvSpPr>
            <p:spPr>
              <a:xfrm flipH="1" rot="5400000">
                <a:off x="10650240" y="4178160"/>
                <a:ext cx="880920" cy="1798560"/>
              </a:xfrm>
              <a:custGeom>
                <a:avLst/>
                <a:gdLst/>
                <a:ahLst/>
                <a:rect l="l" t="t" r="r" b="b"/>
                <a:pathLst>
                  <a:path w="448" h="1105">
                    <a:moveTo>
                      <a:pt x="448" y="0"/>
                    </a:moveTo>
                    <a:lnTo>
                      <a:pt x="0" y="549"/>
                    </a:lnTo>
                    <a:lnTo>
                      <a:pt x="448" y="1105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53"/>
              <p:cNvSpPr/>
              <p:nvPr/>
            </p:nvSpPr>
            <p:spPr>
              <a:xfrm flipH="1" rot="5400000">
                <a:off x="10473120" y="4890600"/>
                <a:ext cx="86796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54"/>
              <p:cNvSpPr/>
              <p:nvPr/>
            </p:nvSpPr>
            <p:spPr>
              <a:xfrm flipH="1" rot="5400000">
                <a:off x="10468440" y="4879440"/>
                <a:ext cx="87444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55"/>
              <p:cNvSpPr/>
              <p:nvPr/>
            </p:nvSpPr>
            <p:spPr>
              <a:xfrm flipH="1" rot="5400000">
                <a:off x="10842120" y="4883040"/>
                <a:ext cx="879120" cy="39060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56"/>
              <p:cNvSpPr/>
              <p:nvPr/>
            </p:nvSpPr>
            <p:spPr>
              <a:xfrm flipH="1" rot="5400000">
                <a:off x="10846440" y="4890240"/>
                <a:ext cx="86796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57"/>
              <p:cNvSpPr/>
              <p:nvPr/>
            </p:nvSpPr>
            <p:spPr>
              <a:xfrm flipH="1" rot="5400000">
                <a:off x="10937880" y="4781880"/>
                <a:ext cx="69012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58"/>
              <p:cNvSpPr/>
              <p:nvPr/>
            </p:nvSpPr>
            <p:spPr>
              <a:xfrm flipH="1" rot="5400000">
                <a:off x="11009520" y="4714560"/>
                <a:ext cx="71100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59"/>
              <p:cNvSpPr/>
              <p:nvPr/>
            </p:nvSpPr>
            <p:spPr>
              <a:xfrm flipH="1" rot="5400000">
                <a:off x="10488240" y="4727880"/>
                <a:ext cx="690120" cy="513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260"/>
          <p:cNvGrpSpPr/>
          <p:nvPr/>
        </p:nvGrpSpPr>
        <p:grpSpPr>
          <a:xfrm>
            <a:off x="10557000" y="3749760"/>
            <a:ext cx="1090080" cy="1766880"/>
            <a:chOff x="10557000" y="3749760"/>
            <a:chExt cx="1090080" cy="1766880"/>
          </a:xfrm>
        </p:grpSpPr>
        <p:sp>
          <p:nvSpPr>
            <p:cNvPr id="552" name="Freeform 261"/>
            <p:cNvSpPr/>
            <p:nvPr/>
          </p:nvSpPr>
          <p:spPr>
            <a:xfrm rot="5400000">
              <a:off x="10478160" y="4007880"/>
              <a:ext cx="868320" cy="37404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262"/>
            <p:cNvSpPr/>
            <p:nvPr/>
          </p:nvSpPr>
          <p:spPr>
            <a:xfrm rot="5400000">
              <a:off x="10473480" y="4003200"/>
              <a:ext cx="874800" cy="39024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63"/>
            <p:cNvSpPr/>
            <p:nvPr/>
          </p:nvSpPr>
          <p:spPr>
            <a:xfrm rot="5400000">
              <a:off x="10847160" y="3998880"/>
              <a:ext cx="87948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64"/>
            <p:cNvSpPr/>
            <p:nvPr/>
          </p:nvSpPr>
          <p:spPr>
            <a:xfrm rot="5400000">
              <a:off x="10851120" y="3994920"/>
              <a:ext cx="868320" cy="38700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65"/>
            <p:cNvSpPr/>
            <p:nvPr/>
          </p:nvSpPr>
          <p:spPr>
            <a:xfrm rot="5400000">
              <a:off x="10942560" y="4095720"/>
              <a:ext cx="690480" cy="39492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66"/>
            <p:cNvSpPr/>
            <p:nvPr/>
          </p:nvSpPr>
          <p:spPr>
            <a:xfrm rot="5400000">
              <a:off x="11014560" y="4010760"/>
              <a:ext cx="711360" cy="547560"/>
            </a:xfrm>
            <a:custGeom>
              <a:avLst/>
              <a:gdLst/>
              <a:ahLst/>
              <a:rect l="l" t="t" r="r" b="b"/>
              <a:pathLst>
                <a:path w="448" h="345">
                  <a:moveTo>
                    <a:pt x="0" y="0"/>
                  </a:moveTo>
                  <a:lnTo>
                    <a:pt x="448" y="345"/>
                  </a:lnTo>
                  <a:lnTo>
                    <a:pt x="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67"/>
            <p:cNvSpPr/>
            <p:nvPr/>
          </p:nvSpPr>
          <p:spPr>
            <a:xfrm rot="5400000">
              <a:off x="10493280" y="4032360"/>
              <a:ext cx="690480" cy="51228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9" y="323"/>
                  </a:moveTo>
                  <a:lnTo>
                    <a:pt x="435" y="0"/>
                  </a:lnTo>
                  <a:lnTo>
                    <a:pt x="0" y="117"/>
                  </a:lnTo>
                  <a:lnTo>
                    <a:pt x="9" y="32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68"/>
            <p:cNvSpPr/>
            <p:nvPr/>
          </p:nvSpPr>
          <p:spPr>
            <a:xfrm flipH="1" rot="5400000">
              <a:off x="10481040" y="4885200"/>
              <a:ext cx="868680" cy="37440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69"/>
            <p:cNvSpPr/>
            <p:nvPr/>
          </p:nvSpPr>
          <p:spPr>
            <a:xfrm flipH="1" rot="5400000">
              <a:off x="10476720" y="4874760"/>
              <a:ext cx="874800" cy="39024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70"/>
            <p:cNvSpPr/>
            <p:nvPr/>
          </p:nvSpPr>
          <p:spPr>
            <a:xfrm flipH="1" rot="5400000">
              <a:off x="10850400" y="4878000"/>
              <a:ext cx="87948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71"/>
            <p:cNvSpPr/>
            <p:nvPr/>
          </p:nvSpPr>
          <p:spPr>
            <a:xfrm flipH="1" rot="5400000">
              <a:off x="10854000" y="4885560"/>
              <a:ext cx="868320" cy="38700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72"/>
            <p:cNvSpPr/>
            <p:nvPr/>
          </p:nvSpPr>
          <p:spPr>
            <a:xfrm flipH="1" rot="5400000">
              <a:off x="10945440" y="4776840"/>
              <a:ext cx="690480" cy="39492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73"/>
            <p:cNvSpPr/>
            <p:nvPr/>
          </p:nvSpPr>
          <p:spPr>
            <a:xfrm flipH="1" rot="5400000">
              <a:off x="11017440" y="4709160"/>
              <a:ext cx="711000" cy="547560"/>
            </a:xfrm>
            <a:custGeom>
              <a:avLst/>
              <a:gdLst/>
              <a:ahLst/>
              <a:rect l="l" t="t" r="r" b="b"/>
              <a:pathLst>
                <a:path w="448" h="345">
                  <a:moveTo>
                    <a:pt x="0" y="0"/>
                  </a:moveTo>
                  <a:lnTo>
                    <a:pt x="448" y="345"/>
                  </a:lnTo>
                  <a:lnTo>
                    <a:pt x="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74"/>
            <p:cNvSpPr/>
            <p:nvPr/>
          </p:nvSpPr>
          <p:spPr>
            <a:xfrm flipH="1" rot="5400000">
              <a:off x="10496160" y="4722840"/>
              <a:ext cx="690480" cy="51228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9" y="323"/>
                  </a:moveTo>
                  <a:lnTo>
                    <a:pt x="435" y="0"/>
                  </a:lnTo>
                  <a:lnTo>
                    <a:pt x="0" y="117"/>
                  </a:lnTo>
                  <a:lnTo>
                    <a:pt x="9" y="32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75"/>
            <p:cNvSpPr/>
            <p:nvPr/>
          </p:nvSpPr>
          <p:spPr>
            <a:xfrm rot="5400000">
              <a:off x="10218600" y="4094280"/>
              <a:ext cx="1760400" cy="1083960"/>
            </a:xfrm>
            <a:custGeom>
              <a:avLst/>
              <a:gdLst/>
              <a:ahLst/>
              <a:rect l="l" t="t" r="r" b="b"/>
              <a:pathLst>
                <a:path w="1109" h="683">
                  <a:moveTo>
                    <a:pt x="1109" y="336"/>
                  </a:moveTo>
                  <a:lnTo>
                    <a:pt x="760" y="0"/>
                  </a:lnTo>
                  <a:lnTo>
                    <a:pt x="0" y="338"/>
                  </a:lnTo>
                  <a:lnTo>
                    <a:pt x="765" y="683"/>
                  </a:lnTo>
                  <a:lnTo>
                    <a:pt x="1109" y="3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76"/>
            <p:cNvSpPr/>
            <p:nvPr/>
          </p:nvSpPr>
          <p:spPr>
            <a:xfrm rot="5400000">
              <a:off x="10219320" y="4090320"/>
              <a:ext cx="1224000" cy="542520"/>
            </a:xfrm>
            <a:custGeom>
              <a:avLst/>
              <a:gdLst/>
              <a:ahLst/>
              <a:rect l="l" t="t" r="r" b="b"/>
              <a:pathLst>
                <a:path w="771" h="342">
                  <a:moveTo>
                    <a:pt x="0" y="0"/>
                  </a:moveTo>
                  <a:lnTo>
                    <a:pt x="685" y="144"/>
                  </a:lnTo>
                  <a:lnTo>
                    <a:pt x="771" y="3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9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77"/>
            <p:cNvSpPr/>
            <p:nvPr/>
          </p:nvSpPr>
          <p:spPr>
            <a:xfrm rot="5400000">
              <a:off x="10510560" y="4615200"/>
              <a:ext cx="408240" cy="306000"/>
            </a:xfrm>
            <a:custGeom>
              <a:avLst/>
              <a:gdLst/>
              <a:ahLst/>
              <a:rect l="l" t="t" r="r" b="b"/>
              <a:pathLst>
                <a:path w="257" h="193">
                  <a:moveTo>
                    <a:pt x="0" y="78"/>
                  </a:moveTo>
                  <a:lnTo>
                    <a:pt x="172" y="0"/>
                  </a:lnTo>
                  <a:lnTo>
                    <a:pt x="257" y="19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78"/>
            <p:cNvSpPr/>
            <p:nvPr/>
          </p:nvSpPr>
          <p:spPr>
            <a:xfrm rot="5400000">
              <a:off x="10764360" y="4091040"/>
              <a:ext cx="1219320" cy="545760"/>
            </a:xfrm>
            <a:custGeom>
              <a:avLst/>
              <a:gdLst/>
              <a:ahLst/>
              <a:rect l="l" t="t" r="r" b="b"/>
              <a:pathLst>
                <a:path w="768" h="344">
                  <a:moveTo>
                    <a:pt x="0" y="344"/>
                  </a:moveTo>
                  <a:lnTo>
                    <a:pt x="680" y="267"/>
                  </a:lnTo>
                  <a:lnTo>
                    <a:pt x="768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ffffff">
                <a:alpha val="9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79"/>
            <p:cNvSpPr/>
            <p:nvPr/>
          </p:nvSpPr>
          <p:spPr>
            <a:xfrm rot="5400000">
              <a:off x="11232720" y="4557960"/>
              <a:ext cx="408240" cy="420480"/>
            </a:xfrm>
            <a:custGeom>
              <a:avLst/>
              <a:gdLst/>
              <a:ahLst/>
              <a:rect l="l" t="t" r="r" b="b"/>
              <a:pathLst>
                <a:path w="257" h="265">
                  <a:moveTo>
                    <a:pt x="0" y="115"/>
                  </a:moveTo>
                  <a:lnTo>
                    <a:pt x="170" y="265"/>
                  </a:lnTo>
                  <a:lnTo>
                    <a:pt x="257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80"/>
          <p:cNvGrpSpPr/>
          <p:nvPr/>
        </p:nvGrpSpPr>
        <p:grpSpPr>
          <a:xfrm>
            <a:off x="10541160" y="3765600"/>
            <a:ext cx="1087200" cy="1577520"/>
            <a:chOff x="10541160" y="3765600"/>
            <a:chExt cx="1087200" cy="1577520"/>
          </a:xfrm>
        </p:grpSpPr>
        <p:grpSp>
          <p:nvGrpSpPr>
            <p:cNvPr id="572" name="Group 281"/>
            <p:cNvGrpSpPr/>
            <p:nvPr/>
          </p:nvGrpSpPr>
          <p:grpSpPr>
            <a:xfrm>
              <a:off x="10557000" y="4632120"/>
              <a:ext cx="1062000" cy="711000"/>
              <a:chOff x="10557000" y="4632120"/>
              <a:chExt cx="1062000" cy="711000"/>
            </a:xfrm>
          </p:grpSpPr>
          <p:sp>
            <p:nvSpPr>
              <p:cNvPr id="573" name="Freeform 282"/>
              <p:cNvSpPr/>
              <p:nvPr/>
            </p:nvSpPr>
            <p:spPr>
              <a:xfrm flipH="1" rot="5400000">
                <a:off x="10917360" y="4781520"/>
                <a:ext cx="69048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83"/>
              <p:cNvSpPr/>
              <p:nvPr/>
            </p:nvSpPr>
            <p:spPr>
              <a:xfrm flipH="1" rot="5400000">
                <a:off x="10989360" y="4713840"/>
                <a:ext cx="71100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84"/>
              <p:cNvSpPr/>
              <p:nvPr/>
            </p:nvSpPr>
            <p:spPr>
              <a:xfrm flipH="1" rot="5400000">
                <a:off x="10468080" y="4727520"/>
                <a:ext cx="690480" cy="51264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85"/>
              <p:cNvSpPr/>
              <p:nvPr/>
            </p:nvSpPr>
            <p:spPr>
              <a:xfrm rot="5400000">
                <a:off x="10535040" y="4795920"/>
                <a:ext cx="691920" cy="380880"/>
              </a:xfrm>
              <a:custGeom>
                <a:avLst/>
                <a:gdLst/>
                <a:ahLst/>
                <a:rect l="l" t="t" r="r" b="b"/>
                <a:pathLst>
                  <a:path w="436" h="240">
                    <a:moveTo>
                      <a:pt x="436" y="120"/>
                    </a:moveTo>
                    <a:lnTo>
                      <a:pt x="0" y="0"/>
                    </a:lnTo>
                    <a:lnTo>
                      <a:pt x="315" y="240"/>
                    </a:lnTo>
                    <a:lnTo>
                      <a:pt x="436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Freeform 286"/>
            <p:cNvSpPr/>
            <p:nvPr/>
          </p:nvSpPr>
          <p:spPr>
            <a:xfrm rot="5400000">
              <a:off x="10459080" y="4023360"/>
              <a:ext cx="868320" cy="37476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7"/>
            <p:cNvSpPr/>
            <p:nvPr/>
          </p:nvSpPr>
          <p:spPr>
            <a:xfrm rot="5400000">
              <a:off x="10454400" y="4018680"/>
              <a:ext cx="874800" cy="39060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88"/>
            <p:cNvSpPr/>
            <p:nvPr/>
          </p:nvSpPr>
          <p:spPr>
            <a:xfrm rot="5400000">
              <a:off x="10828440" y="4014720"/>
              <a:ext cx="879480" cy="39060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89"/>
            <p:cNvSpPr/>
            <p:nvPr/>
          </p:nvSpPr>
          <p:spPr>
            <a:xfrm rot="5400000">
              <a:off x="10832400" y="4010760"/>
              <a:ext cx="868320" cy="38736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90"/>
            <p:cNvSpPr/>
            <p:nvPr/>
          </p:nvSpPr>
          <p:spPr>
            <a:xfrm rot="5400000">
              <a:off x="10923480" y="4111560"/>
              <a:ext cx="690480" cy="39528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91"/>
            <p:cNvSpPr/>
            <p:nvPr/>
          </p:nvSpPr>
          <p:spPr>
            <a:xfrm rot="5400000">
              <a:off x="10995480" y="4026600"/>
              <a:ext cx="711360" cy="547560"/>
            </a:xfrm>
            <a:custGeom>
              <a:avLst/>
              <a:gdLst/>
              <a:ahLst/>
              <a:rect l="l" t="t" r="r" b="b"/>
              <a:pathLst>
                <a:path w="448" h="345">
                  <a:moveTo>
                    <a:pt x="0" y="0"/>
                  </a:moveTo>
                  <a:lnTo>
                    <a:pt x="448" y="345"/>
                  </a:lnTo>
                  <a:lnTo>
                    <a:pt x="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92"/>
            <p:cNvSpPr/>
            <p:nvPr/>
          </p:nvSpPr>
          <p:spPr>
            <a:xfrm rot="5400000">
              <a:off x="10474200" y="4047840"/>
              <a:ext cx="690480" cy="51300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9" y="323"/>
                  </a:moveTo>
                  <a:lnTo>
                    <a:pt x="435" y="0"/>
                  </a:lnTo>
                  <a:lnTo>
                    <a:pt x="0" y="117"/>
                  </a:lnTo>
                  <a:lnTo>
                    <a:pt x="9" y="32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93"/>
            <p:cNvSpPr/>
            <p:nvPr/>
          </p:nvSpPr>
          <p:spPr>
            <a:xfrm rot="5400000">
              <a:off x="11018880" y="4467240"/>
              <a:ext cx="131760" cy="1087200"/>
            </a:xfrm>
            <a:custGeom>
              <a:avLst/>
              <a:gdLst/>
              <a:ahLst/>
              <a:rect l="l" t="t" r="r" b="b"/>
              <a:pathLst>
                <a:path w="83" h="685">
                  <a:moveTo>
                    <a:pt x="83" y="54"/>
                  </a:moveTo>
                  <a:lnTo>
                    <a:pt x="27" y="0"/>
                  </a:lnTo>
                  <a:lnTo>
                    <a:pt x="0" y="340"/>
                  </a:lnTo>
                  <a:lnTo>
                    <a:pt x="26" y="685"/>
                  </a:lnTo>
                  <a:lnTo>
                    <a:pt x="83" y="627"/>
                  </a:lnTo>
                  <a:lnTo>
                    <a:pt x="83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294"/>
            <p:cNvGrpSpPr/>
            <p:nvPr/>
          </p:nvGrpSpPr>
          <p:grpSpPr>
            <a:xfrm>
              <a:off x="10541520" y="3765600"/>
              <a:ext cx="1086840" cy="1224000"/>
              <a:chOff x="10541520" y="3765600"/>
              <a:chExt cx="1086840" cy="1224000"/>
            </a:xfrm>
          </p:grpSpPr>
          <p:grpSp>
            <p:nvGrpSpPr>
              <p:cNvPr id="586" name="Group 295"/>
              <p:cNvGrpSpPr/>
              <p:nvPr/>
            </p:nvGrpSpPr>
            <p:grpSpPr>
              <a:xfrm>
                <a:off x="10541520" y="3765600"/>
                <a:ext cx="544320" cy="1224000"/>
                <a:chOff x="10541520" y="3765600"/>
                <a:chExt cx="544320" cy="1224000"/>
              </a:xfrm>
            </p:grpSpPr>
            <p:sp>
              <p:nvSpPr>
                <p:cNvPr id="587" name="Freeform 296"/>
                <p:cNvSpPr/>
                <p:nvPr/>
              </p:nvSpPr>
              <p:spPr>
                <a:xfrm rot="5400000">
                  <a:off x="10200960" y="4106160"/>
                  <a:ext cx="1224000" cy="542880"/>
                </a:xfrm>
                <a:custGeom>
                  <a:avLst/>
                  <a:gdLst/>
                  <a:ahLst/>
                  <a:rect l="l" t="t" r="r" b="b"/>
                  <a:pathLst>
                    <a:path w="771" h="342">
                      <a:moveTo>
                        <a:pt x="0" y="0"/>
                      </a:moveTo>
                      <a:lnTo>
                        <a:pt x="763" y="0"/>
                      </a:lnTo>
                      <a:lnTo>
                        <a:pt x="771" y="3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95000"/>
                  </a:srgbClr>
                </a:solidFill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297"/>
                <p:cNvSpPr/>
                <p:nvPr/>
              </p:nvSpPr>
              <p:spPr>
                <a:xfrm rot="5400000">
                  <a:off x="10610280" y="4512600"/>
                  <a:ext cx="408240" cy="542880"/>
                </a:xfrm>
                <a:custGeom>
                  <a:avLst/>
                  <a:gdLst/>
                  <a:ahLst/>
                  <a:rect l="l" t="t" r="r" b="b"/>
                  <a:pathLst>
                    <a:path w="257" h="342">
                      <a:moveTo>
                        <a:pt x="0" y="227"/>
                      </a:moveTo>
                      <a:lnTo>
                        <a:pt x="249" y="0"/>
                      </a:lnTo>
                      <a:lnTo>
                        <a:pt x="257" y="342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Group 298"/>
              <p:cNvGrpSpPr/>
              <p:nvPr/>
            </p:nvGrpSpPr>
            <p:grpSpPr>
              <a:xfrm>
                <a:off x="11082600" y="3770640"/>
                <a:ext cx="545760" cy="1218960"/>
                <a:chOff x="11082600" y="3770640"/>
                <a:chExt cx="545760" cy="1218960"/>
              </a:xfrm>
            </p:grpSpPr>
            <p:sp>
              <p:nvSpPr>
                <p:cNvPr id="590" name="Freeform 299"/>
                <p:cNvSpPr/>
                <p:nvPr/>
              </p:nvSpPr>
              <p:spPr>
                <a:xfrm rot="5400000">
                  <a:off x="10746000" y="4107240"/>
                  <a:ext cx="1218960" cy="545760"/>
                </a:xfrm>
                <a:custGeom>
                  <a:avLst/>
                  <a:gdLst/>
                  <a:ahLst/>
                  <a:rect l="l" t="t" r="r" b="b"/>
                  <a:pathLst>
                    <a:path w="768" h="344">
                      <a:moveTo>
                        <a:pt x="0" y="344"/>
                      </a:moveTo>
                      <a:lnTo>
                        <a:pt x="760" y="342"/>
                      </a:lnTo>
                      <a:lnTo>
                        <a:pt x="768" y="0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ffffff">
                    <a:alpha val="95000"/>
                  </a:srgbClr>
                </a:solidFill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300"/>
                <p:cNvSpPr/>
                <p:nvPr/>
              </p:nvSpPr>
              <p:spPr>
                <a:xfrm flipV="1" rot="5400000">
                  <a:off x="11152800" y="4512240"/>
                  <a:ext cx="407880" cy="542880"/>
                </a:xfrm>
                <a:custGeom>
                  <a:avLst/>
                  <a:gdLst/>
                  <a:ahLst/>
                  <a:rect l="l" t="t" r="r" b="b"/>
                  <a:pathLst>
                    <a:path w="257" h="342">
                      <a:moveTo>
                        <a:pt x="0" y="227"/>
                      </a:moveTo>
                      <a:lnTo>
                        <a:pt x="249" y="0"/>
                      </a:lnTo>
                      <a:lnTo>
                        <a:pt x="257" y="342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2" name="Group 301"/>
          <p:cNvGrpSpPr/>
          <p:nvPr/>
        </p:nvGrpSpPr>
        <p:grpSpPr>
          <a:xfrm>
            <a:off x="10641240" y="4605120"/>
            <a:ext cx="919080" cy="908280"/>
            <a:chOff x="10641240" y="4605120"/>
            <a:chExt cx="919080" cy="908280"/>
          </a:xfrm>
        </p:grpSpPr>
        <p:sp>
          <p:nvSpPr>
            <p:cNvPr id="593" name="Freeform 302"/>
            <p:cNvSpPr/>
            <p:nvPr/>
          </p:nvSpPr>
          <p:spPr>
            <a:xfrm rot="5400000">
              <a:off x="10868760" y="4831560"/>
              <a:ext cx="453960" cy="909360"/>
            </a:xfrm>
            <a:custGeom>
              <a:avLst/>
              <a:gdLst/>
              <a:ahLst/>
              <a:rect l="l" t="t" r="r" b="b"/>
              <a:pathLst>
                <a:path w="286" h="573">
                  <a:moveTo>
                    <a:pt x="286" y="286"/>
                  </a:moveTo>
                  <a:lnTo>
                    <a:pt x="0" y="0"/>
                  </a:lnTo>
                  <a:lnTo>
                    <a:pt x="0" y="573"/>
                  </a:lnTo>
                  <a:lnTo>
                    <a:pt x="286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03"/>
            <p:cNvSpPr/>
            <p:nvPr/>
          </p:nvSpPr>
          <p:spPr>
            <a:xfrm flipH="1" rot="5400000">
              <a:off x="10878120" y="4377240"/>
              <a:ext cx="453960" cy="909720"/>
            </a:xfrm>
            <a:custGeom>
              <a:avLst/>
              <a:gdLst/>
              <a:ahLst/>
              <a:rect l="l" t="t" r="r" b="b"/>
              <a:pathLst>
                <a:path w="286" h="573">
                  <a:moveTo>
                    <a:pt x="286" y="286"/>
                  </a:moveTo>
                  <a:lnTo>
                    <a:pt x="0" y="0"/>
                  </a:lnTo>
                  <a:lnTo>
                    <a:pt x="0" y="573"/>
                  </a:lnTo>
                  <a:lnTo>
                    <a:pt x="286" y="286"/>
                  </a:lnTo>
                  <a:close/>
                </a:path>
              </a:pathLst>
            </a:custGeom>
            <a:noFill/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304"/>
          <p:cNvGrpSpPr/>
          <p:nvPr/>
        </p:nvGrpSpPr>
        <p:grpSpPr>
          <a:xfrm>
            <a:off x="10541160" y="4119480"/>
            <a:ext cx="1087200" cy="1396800"/>
            <a:chOff x="10541160" y="4119480"/>
            <a:chExt cx="1087200" cy="1396800"/>
          </a:xfrm>
        </p:grpSpPr>
        <p:grpSp>
          <p:nvGrpSpPr>
            <p:cNvPr id="596" name="Group 305"/>
            <p:cNvGrpSpPr/>
            <p:nvPr/>
          </p:nvGrpSpPr>
          <p:grpSpPr>
            <a:xfrm>
              <a:off x="10541160" y="4817880"/>
              <a:ext cx="1087200" cy="698400"/>
              <a:chOff x="10541160" y="4817880"/>
              <a:chExt cx="1087200" cy="698400"/>
            </a:xfrm>
          </p:grpSpPr>
          <p:sp>
            <p:nvSpPr>
              <p:cNvPr id="597" name="Freeform 306"/>
              <p:cNvSpPr/>
              <p:nvPr/>
            </p:nvSpPr>
            <p:spPr>
              <a:xfrm rot="5400000">
                <a:off x="11045160" y="4896360"/>
                <a:ext cx="493560" cy="336600"/>
              </a:xfrm>
              <a:custGeom>
                <a:avLst/>
                <a:gdLst/>
                <a:ahLst/>
                <a:rect l="l" t="t" r="r" b="b"/>
                <a:pathLst>
                  <a:path w="311" h="212">
                    <a:moveTo>
                      <a:pt x="311" y="126"/>
                    </a:moveTo>
                    <a:lnTo>
                      <a:pt x="1" y="212"/>
                    </a:lnTo>
                    <a:lnTo>
                      <a:pt x="0" y="153"/>
                    </a:lnTo>
                    <a:lnTo>
                      <a:pt x="190" y="0"/>
                    </a:lnTo>
                    <a:lnTo>
                      <a:pt x="311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07"/>
              <p:cNvSpPr/>
              <p:nvPr/>
            </p:nvSpPr>
            <p:spPr>
              <a:xfrm rot="5400000">
                <a:off x="11113200" y="4823280"/>
                <a:ext cx="511200" cy="500040"/>
              </a:xfrm>
              <a:custGeom>
                <a:avLst/>
                <a:gdLst/>
                <a:ahLst/>
                <a:rect l="l" t="t" r="r" b="b"/>
                <a:pathLst>
                  <a:path w="322" h="315">
                    <a:moveTo>
                      <a:pt x="322" y="0"/>
                    </a:moveTo>
                    <a:lnTo>
                      <a:pt x="0" y="250"/>
                    </a:lnTo>
                    <a:lnTo>
                      <a:pt x="1" y="315"/>
                    </a:lnTo>
                    <a:lnTo>
                      <a:pt x="319" y="226"/>
                    </a:lnTo>
                    <a:lnTo>
                      <a:pt x="322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308"/>
              <p:cNvSpPr/>
              <p:nvPr/>
            </p:nvSpPr>
            <p:spPr>
              <a:xfrm rot="5400000">
                <a:off x="10536480" y="4838400"/>
                <a:ext cx="498240" cy="457200"/>
              </a:xfrm>
              <a:custGeom>
                <a:avLst/>
                <a:gdLst/>
                <a:ahLst/>
                <a:rect l="l" t="t" r="r" b="b"/>
                <a:pathLst>
                  <a:path w="314" h="288">
                    <a:moveTo>
                      <a:pt x="305" y="288"/>
                    </a:moveTo>
                    <a:lnTo>
                      <a:pt x="0" y="54"/>
                    </a:lnTo>
                    <a:lnTo>
                      <a:pt x="1" y="0"/>
                    </a:lnTo>
                    <a:lnTo>
                      <a:pt x="314" y="82"/>
                    </a:lnTo>
                    <a:lnTo>
                      <a:pt x="305" y="288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309"/>
              <p:cNvSpPr/>
              <p:nvPr/>
            </p:nvSpPr>
            <p:spPr>
              <a:xfrm rot="5400000">
                <a:off x="10603800" y="4904280"/>
                <a:ext cx="500040" cy="327240"/>
              </a:xfrm>
              <a:custGeom>
                <a:avLst/>
                <a:gdLst/>
                <a:ahLst/>
                <a:rect l="l" t="t" r="r" b="b"/>
                <a:pathLst>
                  <a:path w="315" h="206">
                    <a:moveTo>
                      <a:pt x="315" y="86"/>
                    </a:moveTo>
                    <a:lnTo>
                      <a:pt x="0" y="0"/>
                    </a:lnTo>
                    <a:lnTo>
                      <a:pt x="1" y="59"/>
                    </a:lnTo>
                    <a:lnTo>
                      <a:pt x="194" y="206"/>
                    </a:lnTo>
                    <a:lnTo>
                      <a:pt x="315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10"/>
              <p:cNvSpPr/>
              <p:nvPr/>
            </p:nvSpPr>
            <p:spPr>
              <a:xfrm rot="5400000">
                <a:off x="11018880" y="4452840"/>
                <a:ext cx="131760" cy="1087200"/>
              </a:xfrm>
              <a:custGeom>
                <a:avLst/>
                <a:gdLst/>
                <a:ahLst/>
                <a:rect l="l" t="t" r="r" b="b"/>
                <a:pathLst>
                  <a:path w="83" h="685">
                    <a:moveTo>
                      <a:pt x="83" y="54"/>
                    </a:moveTo>
                    <a:lnTo>
                      <a:pt x="27" y="0"/>
                    </a:lnTo>
                    <a:lnTo>
                      <a:pt x="0" y="340"/>
                    </a:lnTo>
                    <a:lnTo>
                      <a:pt x="26" y="685"/>
                    </a:lnTo>
                    <a:lnTo>
                      <a:pt x="83" y="627"/>
                    </a:lnTo>
                    <a:lnTo>
                      <a:pt x="83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11"/>
              <p:cNvSpPr/>
              <p:nvPr/>
            </p:nvSpPr>
            <p:spPr>
              <a:xfrm rot="5400000">
                <a:off x="10734840" y="4624200"/>
                <a:ext cx="156960" cy="544320"/>
              </a:xfrm>
              <a:custGeom>
                <a:avLst/>
                <a:gdLst/>
                <a:ahLst/>
                <a:rect l="l" t="t" r="r" b="b"/>
                <a:pathLst>
                  <a:path w="99" h="343">
                    <a:moveTo>
                      <a:pt x="0" y="0"/>
                    </a:moveTo>
                    <a:lnTo>
                      <a:pt x="91" y="1"/>
                    </a:lnTo>
                    <a:lnTo>
                      <a:pt x="99" y="343"/>
                    </a:lnTo>
                    <a:lnTo>
                      <a:pt x="0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12"/>
              <p:cNvSpPr/>
              <p:nvPr/>
            </p:nvSpPr>
            <p:spPr>
              <a:xfrm rot="5400000">
                <a:off x="10736280" y="4624200"/>
                <a:ext cx="155520" cy="542880"/>
              </a:xfrm>
              <a:custGeom>
                <a:avLst/>
                <a:gdLst/>
                <a:ahLst/>
                <a:rect l="l" t="t" r="r" b="b"/>
                <a:pathLst>
                  <a:path w="98" h="342">
                    <a:moveTo>
                      <a:pt x="0" y="84"/>
                    </a:moveTo>
                    <a:lnTo>
                      <a:pt x="90" y="0"/>
                    </a:lnTo>
                    <a:lnTo>
                      <a:pt x="98" y="342"/>
                    </a:lnTo>
                    <a:lnTo>
                      <a:pt x="1" y="297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3"/>
              <p:cNvSpPr/>
              <p:nvPr/>
            </p:nvSpPr>
            <p:spPr>
              <a:xfrm rot="5400000">
                <a:off x="11279160" y="4625640"/>
                <a:ext cx="155520" cy="542880"/>
              </a:xfrm>
              <a:custGeom>
                <a:avLst/>
                <a:gdLst/>
                <a:ahLst/>
                <a:rect l="l" t="t" r="r" b="b"/>
                <a:pathLst>
                  <a:path w="98" h="342">
                    <a:moveTo>
                      <a:pt x="2" y="340"/>
                    </a:moveTo>
                    <a:lnTo>
                      <a:pt x="90" y="342"/>
                    </a:lnTo>
                    <a:lnTo>
                      <a:pt x="98" y="0"/>
                    </a:lnTo>
                    <a:lnTo>
                      <a:pt x="0" y="46"/>
                    </a:lnTo>
                    <a:lnTo>
                      <a:pt x="2" y="340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14"/>
              <p:cNvSpPr/>
              <p:nvPr/>
            </p:nvSpPr>
            <p:spPr>
              <a:xfrm rot="5400000">
                <a:off x="11279880" y="4624920"/>
                <a:ext cx="154080" cy="542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0" y="253"/>
                    </a:moveTo>
                    <a:lnTo>
                      <a:pt x="89" y="342"/>
                    </a:lnTo>
                    <a:lnTo>
                      <a:pt x="97" y="0"/>
                    </a:lnTo>
                    <a:lnTo>
                      <a:pt x="0" y="45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15"/>
              <p:cNvSpPr/>
              <p:nvPr/>
            </p:nvSpPr>
            <p:spPr>
              <a:xfrm rot="5400000">
                <a:off x="10856160" y="4834440"/>
                <a:ext cx="453960" cy="909720"/>
              </a:xfrm>
              <a:custGeom>
                <a:avLst/>
                <a:gdLst/>
                <a:ahLst/>
                <a:rect l="l" t="t" r="r" b="b"/>
                <a:pathLst>
                  <a:path w="286" h="573">
                    <a:moveTo>
                      <a:pt x="286" y="286"/>
                    </a:moveTo>
                    <a:lnTo>
                      <a:pt x="0" y="0"/>
                    </a:lnTo>
                    <a:lnTo>
                      <a:pt x="0" y="573"/>
                    </a:lnTo>
                    <a:lnTo>
                      <a:pt x="286" y="2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16"/>
              <p:cNvSpPr/>
              <p:nvPr/>
            </p:nvSpPr>
            <p:spPr>
              <a:xfrm rot="5400000">
                <a:off x="10971000" y="4485960"/>
                <a:ext cx="243000" cy="909360"/>
              </a:xfrm>
              <a:custGeom>
                <a:avLst/>
                <a:gdLst/>
                <a:ahLst/>
                <a:rect l="l" t="t" r="r" b="b"/>
                <a:pathLst>
                  <a:path w="153" h="573">
                    <a:moveTo>
                      <a:pt x="2" y="151"/>
                    </a:moveTo>
                    <a:lnTo>
                      <a:pt x="153" y="0"/>
                    </a:lnTo>
                    <a:lnTo>
                      <a:pt x="153" y="573"/>
                    </a:lnTo>
                    <a:lnTo>
                      <a:pt x="0" y="418"/>
                    </a:lnTo>
                    <a:lnTo>
                      <a:pt x="2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Rectangle 317"/>
            <p:cNvSpPr/>
            <p:nvPr/>
          </p:nvSpPr>
          <p:spPr>
            <a:xfrm rot="5400000">
              <a:off x="10735560" y="3925080"/>
              <a:ext cx="69840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18"/>
          <p:cNvGrpSpPr/>
          <p:nvPr/>
        </p:nvGrpSpPr>
        <p:grpSpPr>
          <a:xfrm>
            <a:off x="10585440" y="3740040"/>
            <a:ext cx="1062000" cy="1068120"/>
            <a:chOff x="10585440" y="3740040"/>
            <a:chExt cx="1062000" cy="1068120"/>
          </a:xfrm>
        </p:grpSpPr>
        <p:sp>
          <p:nvSpPr>
            <p:cNvPr id="610" name="Freeform 319"/>
            <p:cNvSpPr/>
            <p:nvPr/>
          </p:nvSpPr>
          <p:spPr>
            <a:xfrm rot="5400000">
              <a:off x="10480680" y="3998520"/>
              <a:ext cx="870120" cy="374760"/>
            </a:xfrm>
            <a:custGeom>
              <a:avLst/>
              <a:gdLst/>
              <a:ahLst/>
              <a:rect l="l" t="t" r="r" b="b"/>
              <a:pathLst>
                <a:path w="442" h="230">
                  <a:moveTo>
                    <a:pt x="184" y="230"/>
                  </a:moveTo>
                  <a:lnTo>
                    <a:pt x="0" y="0"/>
                  </a:lnTo>
                  <a:lnTo>
                    <a:pt x="442" y="6"/>
                  </a:lnTo>
                  <a:lnTo>
                    <a:pt x="184" y="23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20"/>
            <p:cNvSpPr/>
            <p:nvPr/>
          </p:nvSpPr>
          <p:spPr>
            <a:xfrm rot="5400000">
              <a:off x="10475640" y="3993480"/>
              <a:ext cx="876240" cy="390600"/>
            </a:xfrm>
            <a:custGeom>
              <a:avLst/>
              <a:gdLst/>
              <a:ahLst/>
              <a:rect l="l" t="t" r="r" b="b"/>
              <a:pathLst>
                <a:path w="445" h="240">
                  <a:moveTo>
                    <a:pt x="0" y="0"/>
                  </a:moveTo>
                  <a:lnTo>
                    <a:pt x="188" y="240"/>
                  </a:lnTo>
                  <a:lnTo>
                    <a:pt x="44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21"/>
            <p:cNvSpPr/>
            <p:nvPr/>
          </p:nvSpPr>
          <p:spPr>
            <a:xfrm rot="5400000">
              <a:off x="10849680" y="3989880"/>
              <a:ext cx="880920" cy="390240"/>
            </a:xfrm>
            <a:custGeom>
              <a:avLst/>
              <a:gdLst/>
              <a:ahLst/>
              <a:rect l="l" t="t" r="r" b="b"/>
              <a:pathLst>
                <a:path w="447" h="240">
                  <a:moveTo>
                    <a:pt x="195" y="0"/>
                  </a:moveTo>
                  <a:lnTo>
                    <a:pt x="0" y="232"/>
                  </a:lnTo>
                  <a:lnTo>
                    <a:pt x="447" y="24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22"/>
            <p:cNvSpPr/>
            <p:nvPr/>
          </p:nvSpPr>
          <p:spPr>
            <a:xfrm rot="5400000">
              <a:off x="10854000" y="3985920"/>
              <a:ext cx="869760" cy="387360"/>
            </a:xfrm>
            <a:custGeom>
              <a:avLst/>
              <a:gdLst/>
              <a:ahLst/>
              <a:rect l="l" t="t" r="r" b="b"/>
              <a:pathLst>
                <a:path w="442" h="238">
                  <a:moveTo>
                    <a:pt x="442" y="238"/>
                  </a:moveTo>
                  <a:lnTo>
                    <a:pt x="0" y="235"/>
                  </a:lnTo>
                  <a:lnTo>
                    <a:pt x="201" y="0"/>
                  </a:lnTo>
                  <a:lnTo>
                    <a:pt x="442" y="238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23"/>
            <p:cNvSpPr/>
            <p:nvPr/>
          </p:nvSpPr>
          <p:spPr>
            <a:xfrm rot="5400000">
              <a:off x="10945080" y="4086360"/>
              <a:ext cx="691560" cy="395280"/>
            </a:xfrm>
            <a:custGeom>
              <a:avLst/>
              <a:gdLst/>
              <a:ahLst/>
              <a:rect l="l" t="t" r="r" b="b"/>
              <a:pathLst>
                <a:path w="435" h="249">
                  <a:moveTo>
                    <a:pt x="0" y="126"/>
                  </a:moveTo>
                  <a:lnTo>
                    <a:pt x="435" y="249"/>
                  </a:lnTo>
                  <a:lnTo>
                    <a:pt x="121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24"/>
            <p:cNvSpPr/>
            <p:nvPr/>
          </p:nvSpPr>
          <p:spPr>
            <a:xfrm rot="5400000">
              <a:off x="11017440" y="4001400"/>
              <a:ext cx="712080" cy="547560"/>
            </a:xfrm>
            <a:custGeom>
              <a:avLst/>
              <a:gdLst/>
              <a:ahLst/>
              <a:rect l="l" t="t" r="r" b="b"/>
              <a:pathLst>
                <a:path w="448" h="345">
                  <a:moveTo>
                    <a:pt x="0" y="0"/>
                  </a:moveTo>
                  <a:lnTo>
                    <a:pt x="448" y="345"/>
                  </a:lnTo>
                  <a:lnTo>
                    <a:pt x="3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25"/>
            <p:cNvSpPr/>
            <p:nvPr/>
          </p:nvSpPr>
          <p:spPr>
            <a:xfrm rot="5400000">
              <a:off x="10495800" y="4023000"/>
              <a:ext cx="691560" cy="512640"/>
            </a:xfrm>
            <a:custGeom>
              <a:avLst/>
              <a:gdLst/>
              <a:ahLst/>
              <a:rect l="l" t="t" r="r" b="b"/>
              <a:pathLst>
                <a:path w="435" h="323">
                  <a:moveTo>
                    <a:pt x="9" y="323"/>
                  </a:moveTo>
                  <a:lnTo>
                    <a:pt x="435" y="0"/>
                  </a:lnTo>
                  <a:lnTo>
                    <a:pt x="0" y="117"/>
                  </a:lnTo>
                  <a:lnTo>
                    <a:pt x="9" y="323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26"/>
            <p:cNvSpPr/>
            <p:nvPr/>
          </p:nvSpPr>
          <p:spPr>
            <a:xfrm rot="5400000">
              <a:off x="10341720" y="4040640"/>
              <a:ext cx="1064880" cy="463320"/>
            </a:xfrm>
            <a:custGeom>
              <a:avLst/>
              <a:gdLst/>
              <a:ahLst/>
              <a:rect l="l" t="t" r="r" b="b"/>
              <a:pathLst>
                <a:path w="670" h="292">
                  <a:moveTo>
                    <a:pt x="0" y="0"/>
                  </a:moveTo>
                  <a:lnTo>
                    <a:pt x="670" y="2"/>
                  </a:lnTo>
                  <a:lnTo>
                    <a:pt x="668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9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327"/>
            <p:cNvSpPr/>
            <p:nvPr/>
          </p:nvSpPr>
          <p:spPr>
            <a:xfrm rot="5400000">
              <a:off x="10679760" y="4508640"/>
              <a:ext cx="252720" cy="346320"/>
            </a:xfrm>
            <a:custGeom>
              <a:avLst/>
              <a:gdLst/>
              <a:ahLst/>
              <a:rect l="l" t="t" r="r" b="b"/>
              <a:pathLst>
                <a:path w="159" h="218">
                  <a:moveTo>
                    <a:pt x="0" y="146"/>
                  </a:moveTo>
                  <a:lnTo>
                    <a:pt x="159" y="0"/>
                  </a:lnTo>
                  <a:lnTo>
                    <a:pt x="159" y="21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328"/>
            <p:cNvSpPr/>
            <p:nvPr/>
          </p:nvSpPr>
          <p:spPr>
            <a:xfrm rot="5400000">
              <a:off x="10811520" y="4037400"/>
              <a:ext cx="1063440" cy="477720"/>
            </a:xfrm>
            <a:custGeom>
              <a:avLst/>
              <a:gdLst/>
              <a:ahLst/>
              <a:rect l="l" t="t" r="r" b="b"/>
              <a:pathLst>
                <a:path w="669" h="301">
                  <a:moveTo>
                    <a:pt x="0" y="301"/>
                  </a:moveTo>
                  <a:lnTo>
                    <a:pt x="669" y="296"/>
                  </a:lnTo>
                  <a:lnTo>
                    <a:pt x="667" y="0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fffff">
                <a:alpha val="95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29"/>
            <p:cNvSpPr/>
            <p:nvPr/>
          </p:nvSpPr>
          <p:spPr>
            <a:xfrm rot="5400000">
              <a:off x="11290680" y="4513320"/>
              <a:ext cx="252720" cy="336600"/>
            </a:xfrm>
            <a:custGeom>
              <a:avLst/>
              <a:gdLst/>
              <a:ahLst/>
              <a:rect l="l" t="t" r="r" b="b"/>
              <a:pathLst>
                <a:path w="159" h="212">
                  <a:moveTo>
                    <a:pt x="0" y="74"/>
                  </a:moveTo>
                  <a:lnTo>
                    <a:pt x="159" y="212"/>
                  </a:lnTo>
                  <a:lnTo>
                    <a:pt x="159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330"/>
            <p:cNvSpPr/>
            <p:nvPr/>
          </p:nvSpPr>
          <p:spPr>
            <a:xfrm rot="5400000">
              <a:off x="11015640" y="4492080"/>
              <a:ext cx="206280" cy="419040"/>
            </a:xfrm>
            <a:custGeom>
              <a:avLst/>
              <a:gdLst/>
              <a:ahLst/>
              <a:rect l="l" t="t" r="r" b="b"/>
              <a:pathLst>
                <a:path w="130" h="264">
                  <a:moveTo>
                    <a:pt x="0" y="134"/>
                  </a:moveTo>
                  <a:lnTo>
                    <a:pt x="130" y="0"/>
                  </a:lnTo>
                  <a:lnTo>
                    <a:pt x="128" y="26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331"/>
          <p:cNvGrpSpPr/>
          <p:nvPr/>
        </p:nvGrpSpPr>
        <p:grpSpPr>
          <a:xfrm>
            <a:off x="10553760" y="3754440"/>
            <a:ext cx="1076400" cy="1243800"/>
            <a:chOff x="10553760" y="3754440"/>
            <a:chExt cx="1076400" cy="1243800"/>
          </a:xfrm>
        </p:grpSpPr>
        <p:grpSp>
          <p:nvGrpSpPr>
            <p:cNvPr id="623" name="Group 332"/>
            <p:cNvGrpSpPr/>
            <p:nvPr/>
          </p:nvGrpSpPr>
          <p:grpSpPr>
            <a:xfrm>
              <a:off x="11070000" y="4456800"/>
              <a:ext cx="507960" cy="541440"/>
              <a:chOff x="11070000" y="4456800"/>
              <a:chExt cx="507960" cy="541440"/>
            </a:xfrm>
          </p:grpSpPr>
          <p:sp>
            <p:nvSpPr>
              <p:cNvPr id="624" name="Freeform 333"/>
              <p:cNvSpPr/>
              <p:nvPr/>
            </p:nvSpPr>
            <p:spPr>
              <a:xfrm rot="5400000">
                <a:off x="10985760" y="4547520"/>
                <a:ext cx="524160" cy="342720"/>
              </a:xfrm>
              <a:custGeom>
                <a:avLst/>
                <a:gdLst/>
                <a:ahLst/>
                <a:rect l="l" t="t" r="r" b="b"/>
                <a:pathLst>
                  <a:path w="330" h="216">
                    <a:moveTo>
                      <a:pt x="330" y="126"/>
                    </a:moveTo>
                    <a:lnTo>
                      <a:pt x="0" y="216"/>
                    </a:lnTo>
                    <a:lnTo>
                      <a:pt x="0" y="166"/>
                    </a:lnTo>
                    <a:lnTo>
                      <a:pt x="209" y="0"/>
                    </a:lnTo>
                    <a:lnTo>
                      <a:pt x="33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34"/>
              <p:cNvSpPr/>
              <p:nvPr/>
            </p:nvSpPr>
            <p:spPr>
              <a:xfrm rot="5400000">
                <a:off x="11053080" y="4473360"/>
                <a:ext cx="541440" cy="507960"/>
              </a:xfrm>
              <a:custGeom>
                <a:avLst/>
                <a:gdLst/>
                <a:ahLst/>
                <a:rect l="l" t="t" r="r" b="b"/>
                <a:pathLst>
                  <a:path w="341" h="320">
                    <a:moveTo>
                      <a:pt x="341" y="0"/>
                    </a:moveTo>
                    <a:lnTo>
                      <a:pt x="0" y="272"/>
                    </a:lnTo>
                    <a:lnTo>
                      <a:pt x="2" y="320"/>
                    </a:lnTo>
                    <a:lnTo>
                      <a:pt x="338" y="226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335"/>
            <p:cNvGrpSpPr/>
            <p:nvPr/>
          </p:nvGrpSpPr>
          <p:grpSpPr>
            <a:xfrm>
              <a:off x="10607760" y="4463280"/>
              <a:ext cx="468360" cy="530280"/>
              <a:chOff x="10607760" y="4463280"/>
              <a:chExt cx="468360" cy="530280"/>
            </a:xfrm>
          </p:grpSpPr>
          <p:sp>
            <p:nvSpPr>
              <p:cNvPr id="627" name="Freeform 336"/>
              <p:cNvSpPr/>
              <p:nvPr/>
            </p:nvSpPr>
            <p:spPr>
              <a:xfrm rot="5400000">
                <a:off x="10577520" y="4493160"/>
                <a:ext cx="528480" cy="468360"/>
              </a:xfrm>
              <a:custGeom>
                <a:avLst/>
                <a:gdLst/>
                <a:ahLst/>
                <a:rect l="l" t="t" r="r" b="b"/>
                <a:pathLst>
                  <a:path w="333" h="295">
                    <a:moveTo>
                      <a:pt x="324" y="295"/>
                    </a:moveTo>
                    <a:lnTo>
                      <a:pt x="2" y="50"/>
                    </a:lnTo>
                    <a:lnTo>
                      <a:pt x="0" y="0"/>
                    </a:lnTo>
                    <a:lnTo>
                      <a:pt x="333" y="89"/>
                    </a:lnTo>
                    <a:lnTo>
                      <a:pt x="324" y="295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337"/>
              <p:cNvSpPr/>
              <p:nvPr/>
            </p:nvSpPr>
            <p:spPr>
              <a:xfrm rot="5400000">
                <a:off x="10641600" y="4562280"/>
                <a:ext cx="530280" cy="331920"/>
              </a:xfrm>
              <a:custGeom>
                <a:avLst/>
                <a:gdLst/>
                <a:ahLst/>
                <a:rect l="l" t="t" r="r" b="b"/>
                <a:pathLst>
                  <a:path w="334" h="209">
                    <a:moveTo>
                      <a:pt x="334" y="89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13" y="209"/>
                    </a:lnTo>
                    <a:lnTo>
                      <a:pt x="334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338"/>
            <p:cNvGrpSpPr/>
            <p:nvPr/>
          </p:nvGrpSpPr>
          <p:grpSpPr>
            <a:xfrm>
              <a:off x="10553760" y="4604400"/>
              <a:ext cx="1067040" cy="219240"/>
              <a:chOff x="10553760" y="4604400"/>
              <a:chExt cx="1067040" cy="219240"/>
            </a:xfrm>
          </p:grpSpPr>
          <p:sp>
            <p:nvSpPr>
              <p:cNvPr id="630" name="Freeform 339"/>
              <p:cNvSpPr/>
              <p:nvPr/>
            </p:nvSpPr>
            <p:spPr>
              <a:xfrm rot="5400000">
                <a:off x="10977480" y="4180320"/>
                <a:ext cx="219240" cy="1067040"/>
              </a:xfrm>
              <a:custGeom>
                <a:avLst/>
                <a:gdLst/>
                <a:ahLst/>
                <a:rect l="l" t="t" r="r" b="b"/>
                <a:pathLst>
                  <a:path w="138" h="672">
                    <a:moveTo>
                      <a:pt x="0" y="24"/>
                    </a:moveTo>
                    <a:lnTo>
                      <a:pt x="138" y="0"/>
                    </a:lnTo>
                    <a:lnTo>
                      <a:pt x="136" y="672"/>
                    </a:lnTo>
                    <a:lnTo>
                      <a:pt x="6" y="6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40"/>
              <p:cNvSpPr/>
              <p:nvPr/>
            </p:nvSpPr>
            <p:spPr>
              <a:xfrm rot="5400000">
                <a:off x="10983960" y="4215240"/>
                <a:ext cx="203040" cy="987480"/>
              </a:xfrm>
              <a:custGeom>
                <a:avLst/>
                <a:gdLst/>
                <a:ahLst/>
                <a:rect l="l" t="t" r="r" b="b"/>
                <a:pathLst>
                  <a:path w="128" h="622">
                    <a:moveTo>
                      <a:pt x="128" y="14"/>
                    </a:moveTo>
                    <a:lnTo>
                      <a:pt x="0" y="0"/>
                    </a:lnTo>
                    <a:lnTo>
                      <a:pt x="4" y="622"/>
                    </a:lnTo>
                    <a:lnTo>
                      <a:pt x="128" y="602"/>
                    </a:lnTo>
                    <a:lnTo>
                      <a:pt x="128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341"/>
            <p:cNvGrpSpPr/>
            <p:nvPr/>
          </p:nvGrpSpPr>
          <p:grpSpPr>
            <a:xfrm>
              <a:off x="10568160" y="3754440"/>
              <a:ext cx="1062000" cy="1067400"/>
              <a:chOff x="10568160" y="3754440"/>
              <a:chExt cx="1062000" cy="1067400"/>
            </a:xfrm>
          </p:grpSpPr>
          <p:sp>
            <p:nvSpPr>
              <p:cNvPr id="633" name="Freeform 342"/>
              <p:cNvSpPr/>
              <p:nvPr/>
            </p:nvSpPr>
            <p:spPr>
              <a:xfrm rot="5400000">
                <a:off x="10463760" y="4012560"/>
                <a:ext cx="869400" cy="37476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43"/>
              <p:cNvSpPr/>
              <p:nvPr/>
            </p:nvSpPr>
            <p:spPr>
              <a:xfrm rot="5400000">
                <a:off x="10458720" y="4007520"/>
                <a:ext cx="875520" cy="39060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44"/>
              <p:cNvSpPr/>
              <p:nvPr/>
            </p:nvSpPr>
            <p:spPr>
              <a:xfrm rot="5400000">
                <a:off x="10832760" y="4003920"/>
                <a:ext cx="880200" cy="39024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45"/>
              <p:cNvSpPr/>
              <p:nvPr/>
            </p:nvSpPr>
            <p:spPr>
              <a:xfrm rot="5400000">
                <a:off x="10837080" y="3999960"/>
                <a:ext cx="869040" cy="3873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46"/>
              <p:cNvSpPr/>
              <p:nvPr/>
            </p:nvSpPr>
            <p:spPr>
              <a:xfrm rot="5400000">
                <a:off x="10928160" y="4100400"/>
                <a:ext cx="690840" cy="39528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47"/>
              <p:cNvSpPr/>
              <p:nvPr/>
            </p:nvSpPr>
            <p:spPr>
              <a:xfrm rot="5400000">
                <a:off x="11000520" y="4015440"/>
                <a:ext cx="711360" cy="54756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48"/>
              <p:cNvSpPr/>
              <p:nvPr/>
            </p:nvSpPr>
            <p:spPr>
              <a:xfrm rot="5400000">
                <a:off x="10478880" y="4037040"/>
                <a:ext cx="690840" cy="51264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49"/>
              <p:cNvSpPr/>
              <p:nvPr/>
            </p:nvSpPr>
            <p:spPr>
              <a:xfrm rot="5400000">
                <a:off x="10324800" y="4054680"/>
                <a:ext cx="1064160" cy="463320"/>
              </a:xfrm>
              <a:custGeom>
                <a:avLst/>
                <a:gdLst/>
                <a:ahLst/>
                <a:rect l="l" t="t" r="r" b="b"/>
                <a:pathLst>
                  <a:path w="670" h="292">
                    <a:moveTo>
                      <a:pt x="0" y="0"/>
                    </a:moveTo>
                    <a:lnTo>
                      <a:pt x="670" y="2"/>
                    </a:lnTo>
                    <a:lnTo>
                      <a:pt x="668" y="2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50"/>
              <p:cNvSpPr/>
              <p:nvPr/>
            </p:nvSpPr>
            <p:spPr>
              <a:xfrm rot="5400000">
                <a:off x="10662480" y="4522320"/>
                <a:ext cx="252360" cy="346320"/>
              </a:xfrm>
              <a:custGeom>
                <a:avLst/>
                <a:gdLst/>
                <a:ahLst/>
                <a:rect l="l" t="t" r="r" b="b"/>
                <a:pathLst>
                  <a:path w="159" h="218">
                    <a:moveTo>
                      <a:pt x="0" y="146"/>
                    </a:moveTo>
                    <a:lnTo>
                      <a:pt x="159" y="0"/>
                    </a:lnTo>
                    <a:lnTo>
                      <a:pt x="159" y="21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51"/>
              <p:cNvSpPr/>
              <p:nvPr/>
            </p:nvSpPr>
            <p:spPr>
              <a:xfrm rot="5400000">
                <a:off x="10794600" y="4051440"/>
                <a:ext cx="1062720" cy="477720"/>
              </a:xfrm>
              <a:custGeom>
                <a:avLst/>
                <a:gdLst/>
                <a:ahLst/>
                <a:rect l="l" t="t" r="r" b="b"/>
                <a:pathLst>
                  <a:path w="669" h="301">
                    <a:moveTo>
                      <a:pt x="0" y="301"/>
                    </a:moveTo>
                    <a:lnTo>
                      <a:pt x="669" y="296"/>
                    </a:lnTo>
                    <a:lnTo>
                      <a:pt x="667" y="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52"/>
              <p:cNvSpPr/>
              <p:nvPr/>
            </p:nvSpPr>
            <p:spPr>
              <a:xfrm rot="5400000">
                <a:off x="11273760" y="4527360"/>
                <a:ext cx="252360" cy="336600"/>
              </a:xfrm>
              <a:custGeom>
                <a:avLst/>
                <a:gdLst/>
                <a:ahLst/>
                <a:rect l="l" t="t" r="r" b="b"/>
                <a:pathLst>
                  <a:path w="159" h="212">
                    <a:moveTo>
                      <a:pt x="0" y="74"/>
                    </a:moveTo>
                    <a:lnTo>
                      <a:pt x="159" y="212"/>
                    </a:lnTo>
                    <a:lnTo>
                      <a:pt x="159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53"/>
              <p:cNvSpPr/>
              <p:nvPr/>
            </p:nvSpPr>
            <p:spPr>
              <a:xfrm rot="5400000">
                <a:off x="10998360" y="4505760"/>
                <a:ext cx="206280" cy="419040"/>
              </a:xfrm>
              <a:custGeom>
                <a:avLst/>
                <a:gdLst/>
                <a:ahLst/>
                <a:rect l="l" t="t" r="r" b="b"/>
                <a:pathLst>
                  <a:path w="130" h="264">
                    <a:moveTo>
                      <a:pt x="0" y="134"/>
                    </a:moveTo>
                    <a:lnTo>
                      <a:pt x="130" y="0"/>
                    </a:lnTo>
                    <a:lnTo>
                      <a:pt x="128" y="264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Oval 375"/>
          <p:cNvSpPr/>
          <p:nvPr/>
        </p:nvSpPr>
        <p:spPr>
          <a:xfrm>
            <a:off x="10333080" y="1852560"/>
            <a:ext cx="1655640" cy="1655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76"/>
          <p:cNvSpPr/>
          <p:nvPr/>
        </p:nvSpPr>
        <p:spPr>
          <a:xfrm>
            <a:off x="9691560" y="1311120"/>
            <a:ext cx="2873520" cy="2870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377"/>
          <p:cNvSpPr/>
          <p:nvPr/>
        </p:nvSpPr>
        <p:spPr>
          <a:xfrm>
            <a:off x="8317080" y="-55440"/>
            <a:ext cx="5580000" cy="55800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378"/>
          <p:cNvSpPr/>
          <p:nvPr/>
        </p:nvSpPr>
        <p:spPr>
          <a:xfrm>
            <a:off x="10837800" y="2355840"/>
            <a:ext cx="647640" cy="647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381"/>
          <p:cNvGrpSpPr/>
          <p:nvPr/>
        </p:nvGrpSpPr>
        <p:grpSpPr>
          <a:xfrm>
            <a:off x="8163000" y="9516960"/>
            <a:ext cx="661680" cy="765360"/>
            <a:chOff x="8163000" y="9516960"/>
            <a:chExt cx="661680" cy="765360"/>
          </a:xfrm>
        </p:grpSpPr>
        <p:grpSp>
          <p:nvGrpSpPr>
            <p:cNvPr id="650" name="Group 382"/>
            <p:cNvGrpSpPr/>
            <p:nvPr/>
          </p:nvGrpSpPr>
          <p:grpSpPr>
            <a:xfrm>
              <a:off x="8480160" y="9948960"/>
              <a:ext cx="312480" cy="333360"/>
              <a:chOff x="8480160" y="9948960"/>
              <a:chExt cx="312480" cy="333360"/>
            </a:xfrm>
          </p:grpSpPr>
          <p:sp>
            <p:nvSpPr>
              <p:cNvPr id="651" name="Freeform 383"/>
              <p:cNvSpPr/>
              <p:nvPr/>
            </p:nvSpPr>
            <p:spPr>
              <a:xfrm rot="5400000">
                <a:off x="8428320" y="10004760"/>
                <a:ext cx="322560" cy="210600"/>
              </a:xfrm>
              <a:custGeom>
                <a:avLst/>
                <a:gdLst/>
                <a:ahLst/>
                <a:rect l="l" t="t" r="r" b="b"/>
                <a:pathLst>
                  <a:path w="330" h="216">
                    <a:moveTo>
                      <a:pt x="330" y="126"/>
                    </a:moveTo>
                    <a:lnTo>
                      <a:pt x="0" y="216"/>
                    </a:lnTo>
                    <a:lnTo>
                      <a:pt x="0" y="166"/>
                    </a:lnTo>
                    <a:lnTo>
                      <a:pt x="209" y="0"/>
                    </a:lnTo>
                    <a:lnTo>
                      <a:pt x="33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84"/>
              <p:cNvSpPr/>
              <p:nvPr/>
            </p:nvSpPr>
            <p:spPr>
              <a:xfrm rot="5400000">
                <a:off x="8469720" y="9959400"/>
                <a:ext cx="333360" cy="312480"/>
              </a:xfrm>
              <a:custGeom>
                <a:avLst/>
                <a:gdLst/>
                <a:ahLst/>
                <a:rect l="l" t="t" r="r" b="b"/>
                <a:pathLst>
                  <a:path w="341" h="320">
                    <a:moveTo>
                      <a:pt x="341" y="0"/>
                    </a:moveTo>
                    <a:lnTo>
                      <a:pt x="0" y="272"/>
                    </a:lnTo>
                    <a:lnTo>
                      <a:pt x="2" y="320"/>
                    </a:lnTo>
                    <a:lnTo>
                      <a:pt x="338" y="226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385"/>
            <p:cNvGrpSpPr/>
            <p:nvPr/>
          </p:nvGrpSpPr>
          <p:grpSpPr>
            <a:xfrm>
              <a:off x="8196120" y="9952920"/>
              <a:ext cx="288000" cy="326520"/>
              <a:chOff x="8196120" y="9952920"/>
              <a:chExt cx="288000" cy="326520"/>
            </a:xfrm>
          </p:grpSpPr>
          <p:sp>
            <p:nvSpPr>
              <p:cNvPr id="654" name="Freeform 386"/>
              <p:cNvSpPr/>
              <p:nvPr/>
            </p:nvSpPr>
            <p:spPr>
              <a:xfrm rot="5400000">
                <a:off x="8177400" y="9971640"/>
                <a:ext cx="325440" cy="288000"/>
              </a:xfrm>
              <a:custGeom>
                <a:avLst/>
                <a:gdLst/>
                <a:ahLst/>
                <a:rect l="l" t="t" r="r" b="b"/>
                <a:pathLst>
                  <a:path w="333" h="295">
                    <a:moveTo>
                      <a:pt x="324" y="295"/>
                    </a:moveTo>
                    <a:lnTo>
                      <a:pt x="2" y="50"/>
                    </a:lnTo>
                    <a:lnTo>
                      <a:pt x="0" y="0"/>
                    </a:lnTo>
                    <a:lnTo>
                      <a:pt x="333" y="89"/>
                    </a:lnTo>
                    <a:lnTo>
                      <a:pt x="324" y="295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87"/>
              <p:cNvSpPr/>
              <p:nvPr/>
            </p:nvSpPr>
            <p:spPr>
              <a:xfrm rot="5400000">
                <a:off x="8217000" y="10014120"/>
                <a:ext cx="326520" cy="204120"/>
              </a:xfrm>
              <a:custGeom>
                <a:avLst/>
                <a:gdLst/>
                <a:ahLst/>
                <a:rect l="l" t="t" r="r" b="b"/>
                <a:pathLst>
                  <a:path w="334" h="209">
                    <a:moveTo>
                      <a:pt x="334" y="89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13" y="209"/>
                    </a:lnTo>
                    <a:lnTo>
                      <a:pt x="334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388"/>
            <p:cNvGrpSpPr/>
            <p:nvPr/>
          </p:nvGrpSpPr>
          <p:grpSpPr>
            <a:xfrm>
              <a:off x="8163000" y="10039680"/>
              <a:ext cx="656280" cy="135000"/>
              <a:chOff x="8163000" y="10039680"/>
              <a:chExt cx="656280" cy="135000"/>
            </a:xfrm>
          </p:grpSpPr>
          <p:sp>
            <p:nvSpPr>
              <p:cNvPr id="657" name="Freeform 389"/>
              <p:cNvSpPr/>
              <p:nvPr/>
            </p:nvSpPr>
            <p:spPr>
              <a:xfrm rot="5400000">
                <a:off x="8423640" y="9779040"/>
                <a:ext cx="135000" cy="656280"/>
              </a:xfrm>
              <a:custGeom>
                <a:avLst/>
                <a:gdLst/>
                <a:ahLst/>
                <a:rect l="l" t="t" r="r" b="b"/>
                <a:pathLst>
                  <a:path w="138" h="672">
                    <a:moveTo>
                      <a:pt x="0" y="24"/>
                    </a:moveTo>
                    <a:lnTo>
                      <a:pt x="138" y="0"/>
                    </a:lnTo>
                    <a:lnTo>
                      <a:pt x="136" y="672"/>
                    </a:lnTo>
                    <a:lnTo>
                      <a:pt x="6" y="6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90"/>
              <p:cNvSpPr/>
              <p:nvPr/>
            </p:nvSpPr>
            <p:spPr>
              <a:xfrm rot="5400000">
                <a:off x="8427960" y="9800280"/>
                <a:ext cx="124920" cy="607320"/>
              </a:xfrm>
              <a:custGeom>
                <a:avLst/>
                <a:gdLst/>
                <a:ahLst/>
                <a:rect l="l" t="t" r="r" b="b"/>
                <a:pathLst>
                  <a:path w="128" h="622">
                    <a:moveTo>
                      <a:pt x="128" y="14"/>
                    </a:moveTo>
                    <a:lnTo>
                      <a:pt x="0" y="0"/>
                    </a:lnTo>
                    <a:lnTo>
                      <a:pt x="4" y="622"/>
                    </a:lnTo>
                    <a:lnTo>
                      <a:pt x="128" y="602"/>
                    </a:lnTo>
                    <a:lnTo>
                      <a:pt x="128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391"/>
            <p:cNvGrpSpPr/>
            <p:nvPr/>
          </p:nvGrpSpPr>
          <p:grpSpPr>
            <a:xfrm>
              <a:off x="8172000" y="9516960"/>
              <a:ext cx="652680" cy="656640"/>
              <a:chOff x="8172000" y="9516960"/>
              <a:chExt cx="652680" cy="656640"/>
            </a:xfrm>
          </p:grpSpPr>
          <p:sp>
            <p:nvSpPr>
              <p:cNvPr id="660" name="Freeform 392"/>
              <p:cNvSpPr/>
              <p:nvPr/>
            </p:nvSpPr>
            <p:spPr>
              <a:xfrm rot="5400000">
                <a:off x="8107560" y="9675360"/>
                <a:ext cx="534600" cy="230400"/>
              </a:xfrm>
              <a:custGeom>
                <a:avLst/>
                <a:gdLst/>
                <a:ahLst/>
                <a:rect l="l" t="t" r="r" b="b"/>
                <a:pathLst>
                  <a:path w="442" h="230">
                    <a:moveTo>
                      <a:pt x="184" y="230"/>
                    </a:moveTo>
                    <a:lnTo>
                      <a:pt x="0" y="0"/>
                    </a:lnTo>
                    <a:lnTo>
                      <a:pt x="442" y="6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93"/>
              <p:cNvSpPr/>
              <p:nvPr/>
            </p:nvSpPr>
            <p:spPr>
              <a:xfrm rot="5400000">
                <a:off x="8104320" y="9672480"/>
                <a:ext cx="538560" cy="240120"/>
              </a:xfrm>
              <a:custGeom>
                <a:avLst/>
                <a:gdLst/>
                <a:ahLst/>
                <a:rect l="l" t="t" r="r" b="b"/>
                <a:pathLst>
                  <a:path w="445" h="240">
                    <a:moveTo>
                      <a:pt x="0" y="0"/>
                    </a:moveTo>
                    <a:lnTo>
                      <a:pt x="188" y="240"/>
                    </a:lnTo>
                    <a:lnTo>
                      <a:pt x="445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94"/>
              <p:cNvSpPr/>
              <p:nvPr/>
            </p:nvSpPr>
            <p:spPr>
              <a:xfrm rot="5400000">
                <a:off x="8334720" y="9670680"/>
                <a:ext cx="541440" cy="239760"/>
              </a:xfrm>
              <a:custGeom>
                <a:avLst/>
                <a:gdLst/>
                <a:ahLst/>
                <a:rect l="l" t="t" r="r" b="b"/>
                <a:pathLst>
                  <a:path w="447" h="240">
                    <a:moveTo>
                      <a:pt x="195" y="0"/>
                    </a:moveTo>
                    <a:lnTo>
                      <a:pt x="0" y="232"/>
                    </a:lnTo>
                    <a:lnTo>
                      <a:pt x="447" y="24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95"/>
              <p:cNvSpPr/>
              <p:nvPr/>
            </p:nvSpPr>
            <p:spPr>
              <a:xfrm rot="5400000">
                <a:off x="8337240" y="9668160"/>
                <a:ext cx="534600" cy="237960"/>
              </a:xfrm>
              <a:custGeom>
                <a:avLst/>
                <a:gdLst/>
                <a:ahLst/>
                <a:rect l="l" t="t" r="r" b="b"/>
                <a:pathLst>
                  <a:path w="442" h="238">
                    <a:moveTo>
                      <a:pt x="442" y="238"/>
                    </a:moveTo>
                    <a:lnTo>
                      <a:pt x="0" y="235"/>
                    </a:lnTo>
                    <a:lnTo>
                      <a:pt x="201" y="0"/>
                    </a:lnTo>
                    <a:lnTo>
                      <a:pt x="442" y="23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96"/>
              <p:cNvSpPr/>
              <p:nvPr/>
            </p:nvSpPr>
            <p:spPr>
              <a:xfrm rot="5400000">
                <a:off x="8393040" y="9729720"/>
                <a:ext cx="424800" cy="243000"/>
              </a:xfrm>
              <a:custGeom>
                <a:avLst/>
                <a:gdLst/>
                <a:ahLst/>
                <a:rect l="l" t="t" r="r" b="b"/>
                <a:pathLst>
                  <a:path w="435" h="249">
                    <a:moveTo>
                      <a:pt x="0" y="126"/>
                    </a:moveTo>
                    <a:lnTo>
                      <a:pt x="435" y="249"/>
                    </a:lnTo>
                    <a:lnTo>
                      <a:pt x="121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97"/>
              <p:cNvSpPr/>
              <p:nvPr/>
            </p:nvSpPr>
            <p:spPr>
              <a:xfrm rot="5400000">
                <a:off x="8437320" y="9677520"/>
                <a:ext cx="437760" cy="336600"/>
              </a:xfrm>
              <a:custGeom>
                <a:avLst/>
                <a:gdLst/>
                <a:ahLst/>
                <a:rect l="l" t="t" r="r" b="b"/>
                <a:pathLst>
                  <a:path w="448" h="345">
                    <a:moveTo>
                      <a:pt x="0" y="0"/>
                    </a:moveTo>
                    <a:lnTo>
                      <a:pt x="448" y="345"/>
                    </a:lnTo>
                    <a:lnTo>
                      <a:pt x="3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98"/>
              <p:cNvSpPr/>
              <p:nvPr/>
            </p:nvSpPr>
            <p:spPr>
              <a:xfrm rot="5400000">
                <a:off x="8116920" y="9690840"/>
                <a:ext cx="424800" cy="315000"/>
              </a:xfrm>
              <a:custGeom>
                <a:avLst/>
                <a:gdLst/>
                <a:ahLst/>
                <a:rect l="l" t="t" r="r" b="b"/>
                <a:pathLst>
                  <a:path w="435" h="323">
                    <a:moveTo>
                      <a:pt x="9" y="323"/>
                    </a:moveTo>
                    <a:lnTo>
                      <a:pt x="435" y="0"/>
                    </a:lnTo>
                    <a:lnTo>
                      <a:pt x="0" y="117"/>
                    </a:lnTo>
                    <a:lnTo>
                      <a:pt x="9" y="323"/>
                    </a:lnTo>
                    <a:close/>
                  </a:path>
                </a:pathLst>
              </a:custGeom>
              <a:solidFill>
                <a:srgbClr val="ffffff">
                  <a:alpha val="7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99"/>
              <p:cNvSpPr/>
              <p:nvPr/>
            </p:nvSpPr>
            <p:spPr>
              <a:xfrm rot="5400000">
                <a:off x="8021880" y="9701640"/>
                <a:ext cx="654480" cy="284760"/>
              </a:xfrm>
              <a:custGeom>
                <a:avLst/>
                <a:gdLst/>
                <a:ahLst/>
                <a:rect l="l" t="t" r="r" b="b"/>
                <a:pathLst>
                  <a:path w="670" h="292">
                    <a:moveTo>
                      <a:pt x="0" y="0"/>
                    </a:moveTo>
                    <a:lnTo>
                      <a:pt x="670" y="2"/>
                    </a:lnTo>
                    <a:lnTo>
                      <a:pt x="668" y="2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00"/>
              <p:cNvSpPr/>
              <p:nvPr/>
            </p:nvSpPr>
            <p:spPr>
              <a:xfrm rot="5400000">
                <a:off x="8229960" y="9989280"/>
                <a:ext cx="155160" cy="212760"/>
              </a:xfrm>
              <a:custGeom>
                <a:avLst/>
                <a:gdLst/>
                <a:ahLst/>
                <a:rect l="l" t="t" r="r" b="b"/>
                <a:pathLst>
                  <a:path w="159" h="218">
                    <a:moveTo>
                      <a:pt x="0" y="146"/>
                    </a:moveTo>
                    <a:lnTo>
                      <a:pt x="159" y="0"/>
                    </a:lnTo>
                    <a:lnTo>
                      <a:pt x="159" y="21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01"/>
              <p:cNvSpPr/>
              <p:nvPr/>
            </p:nvSpPr>
            <p:spPr>
              <a:xfrm rot="5400000">
                <a:off x="8310960" y="9699840"/>
                <a:ext cx="653760" cy="293760"/>
              </a:xfrm>
              <a:custGeom>
                <a:avLst/>
                <a:gdLst/>
                <a:ahLst/>
                <a:rect l="l" t="t" r="r" b="b"/>
                <a:pathLst>
                  <a:path w="669" h="301">
                    <a:moveTo>
                      <a:pt x="0" y="301"/>
                    </a:moveTo>
                    <a:lnTo>
                      <a:pt x="669" y="296"/>
                    </a:lnTo>
                    <a:lnTo>
                      <a:pt x="667" y="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ffffff">
                  <a:alpha val="95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02"/>
              <p:cNvSpPr/>
              <p:nvPr/>
            </p:nvSpPr>
            <p:spPr>
              <a:xfrm rot="5400000">
                <a:off x="8605800" y="9992160"/>
                <a:ext cx="155160" cy="207000"/>
              </a:xfrm>
              <a:custGeom>
                <a:avLst/>
                <a:gdLst/>
                <a:ahLst/>
                <a:rect l="l" t="t" r="r" b="b"/>
                <a:pathLst>
                  <a:path w="159" h="212">
                    <a:moveTo>
                      <a:pt x="0" y="74"/>
                    </a:moveTo>
                    <a:lnTo>
                      <a:pt x="159" y="212"/>
                    </a:lnTo>
                    <a:lnTo>
                      <a:pt x="159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03"/>
              <p:cNvSpPr/>
              <p:nvPr/>
            </p:nvSpPr>
            <p:spPr>
              <a:xfrm rot="5400000">
                <a:off x="8436600" y="9979200"/>
                <a:ext cx="126720" cy="257400"/>
              </a:xfrm>
              <a:custGeom>
                <a:avLst/>
                <a:gdLst/>
                <a:ahLst/>
                <a:rect l="l" t="t" r="r" b="b"/>
                <a:pathLst>
                  <a:path w="130" h="264">
                    <a:moveTo>
                      <a:pt x="0" y="134"/>
                    </a:moveTo>
                    <a:lnTo>
                      <a:pt x="130" y="0"/>
                    </a:lnTo>
                    <a:lnTo>
                      <a:pt x="128" y="264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2" name="Oval 428"/>
          <p:cNvSpPr/>
          <p:nvPr/>
        </p:nvSpPr>
        <p:spPr>
          <a:xfrm>
            <a:off x="8159760" y="4305240"/>
            <a:ext cx="569880" cy="5698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429"/>
          <p:cNvSpPr/>
          <p:nvPr/>
        </p:nvSpPr>
        <p:spPr>
          <a:xfrm>
            <a:off x="7935840" y="4076640"/>
            <a:ext cx="1087560" cy="108576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430"/>
          <p:cNvSpPr/>
          <p:nvPr/>
        </p:nvSpPr>
        <p:spPr>
          <a:xfrm>
            <a:off x="7655040" y="3794040"/>
            <a:ext cx="1655640" cy="16560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369" descr="图片1副本"/>
          <p:cNvPicPr/>
          <p:nvPr/>
        </p:nvPicPr>
        <p:blipFill>
          <a:blip r:embed="rId2"/>
          <a:stretch/>
        </p:blipFill>
        <p:spPr>
          <a:xfrm>
            <a:off x="5549760" y="-3838680"/>
            <a:ext cx="3144960" cy="3522600"/>
          </a:xfrm>
          <a:prstGeom prst="rect">
            <a:avLst/>
          </a:prstGeom>
          <a:ln w="0">
            <a:noFill/>
          </a:ln>
        </p:spPr>
      </p:pic>
      <p:sp>
        <p:nvSpPr>
          <p:cNvPr id="676" name="Line 482"/>
          <p:cNvSpPr/>
          <p:nvPr/>
        </p:nvSpPr>
        <p:spPr>
          <a:xfrm>
            <a:off x="-2209680" y="12399840"/>
            <a:ext cx="2073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476"/>
          <p:cNvGrpSpPr/>
          <p:nvPr/>
        </p:nvGrpSpPr>
        <p:grpSpPr>
          <a:xfrm>
            <a:off x="2989440" y="11147400"/>
            <a:ext cx="2536200" cy="1231920"/>
            <a:chOff x="2989440" y="11147400"/>
            <a:chExt cx="2536200" cy="1231920"/>
          </a:xfrm>
        </p:grpSpPr>
        <p:sp>
          <p:nvSpPr>
            <p:cNvPr id="678" name="Freeform 471"/>
            <p:cNvSpPr/>
            <p:nvPr/>
          </p:nvSpPr>
          <p:spPr>
            <a:xfrm>
              <a:off x="2989440" y="11252160"/>
              <a:ext cx="996480" cy="1127160"/>
            </a:xfrm>
            <a:custGeom>
              <a:avLst/>
              <a:gdLst/>
              <a:ahLst/>
              <a:rect l="l" t="t" r="r" b="b"/>
              <a:pathLst>
                <a:path w="252" h="285">
                  <a:moveTo>
                    <a:pt x="244" y="101"/>
                  </a:moveTo>
                  <a:lnTo>
                    <a:pt x="244" y="112"/>
                  </a:lnTo>
                  <a:lnTo>
                    <a:pt x="244" y="125"/>
                  </a:lnTo>
                  <a:lnTo>
                    <a:pt x="244" y="140"/>
                  </a:lnTo>
                  <a:lnTo>
                    <a:pt x="246" y="156"/>
                  </a:lnTo>
                  <a:lnTo>
                    <a:pt x="246" y="165"/>
                  </a:lnTo>
                  <a:lnTo>
                    <a:pt x="246" y="171"/>
                  </a:lnTo>
                  <a:lnTo>
                    <a:pt x="246" y="178"/>
                  </a:lnTo>
                  <a:lnTo>
                    <a:pt x="248" y="184"/>
                  </a:lnTo>
                  <a:lnTo>
                    <a:pt x="248" y="190"/>
                  </a:lnTo>
                  <a:lnTo>
                    <a:pt x="248" y="196"/>
                  </a:lnTo>
                  <a:lnTo>
                    <a:pt x="248" y="199"/>
                  </a:lnTo>
                  <a:lnTo>
                    <a:pt x="250" y="205"/>
                  </a:lnTo>
                  <a:lnTo>
                    <a:pt x="250" y="211"/>
                  </a:lnTo>
                  <a:lnTo>
                    <a:pt x="250" y="218"/>
                  </a:lnTo>
                  <a:lnTo>
                    <a:pt x="250" y="228"/>
                  </a:lnTo>
                  <a:lnTo>
                    <a:pt x="252" y="237"/>
                  </a:lnTo>
                  <a:lnTo>
                    <a:pt x="252" y="245"/>
                  </a:lnTo>
                  <a:lnTo>
                    <a:pt x="250" y="253"/>
                  </a:lnTo>
                  <a:lnTo>
                    <a:pt x="250" y="258"/>
                  </a:lnTo>
                  <a:lnTo>
                    <a:pt x="250" y="264"/>
                  </a:lnTo>
                  <a:lnTo>
                    <a:pt x="250" y="268"/>
                  </a:lnTo>
                  <a:lnTo>
                    <a:pt x="250" y="272"/>
                  </a:lnTo>
                  <a:lnTo>
                    <a:pt x="248" y="273"/>
                  </a:lnTo>
                  <a:lnTo>
                    <a:pt x="248" y="277"/>
                  </a:lnTo>
                  <a:lnTo>
                    <a:pt x="244" y="279"/>
                  </a:lnTo>
                  <a:lnTo>
                    <a:pt x="242" y="283"/>
                  </a:lnTo>
                  <a:lnTo>
                    <a:pt x="238" y="285"/>
                  </a:lnTo>
                  <a:lnTo>
                    <a:pt x="237" y="285"/>
                  </a:lnTo>
                  <a:lnTo>
                    <a:pt x="235" y="285"/>
                  </a:lnTo>
                  <a:lnTo>
                    <a:pt x="233" y="285"/>
                  </a:lnTo>
                  <a:lnTo>
                    <a:pt x="233" y="281"/>
                  </a:lnTo>
                  <a:lnTo>
                    <a:pt x="229" y="277"/>
                  </a:lnTo>
                  <a:lnTo>
                    <a:pt x="225" y="272"/>
                  </a:lnTo>
                  <a:lnTo>
                    <a:pt x="219" y="268"/>
                  </a:lnTo>
                  <a:lnTo>
                    <a:pt x="214" y="266"/>
                  </a:lnTo>
                  <a:lnTo>
                    <a:pt x="208" y="262"/>
                  </a:lnTo>
                  <a:lnTo>
                    <a:pt x="202" y="258"/>
                  </a:lnTo>
                  <a:lnTo>
                    <a:pt x="196" y="253"/>
                  </a:lnTo>
                  <a:lnTo>
                    <a:pt x="191" y="249"/>
                  </a:lnTo>
                  <a:lnTo>
                    <a:pt x="185" y="243"/>
                  </a:lnTo>
                  <a:lnTo>
                    <a:pt x="179" y="237"/>
                  </a:lnTo>
                  <a:lnTo>
                    <a:pt x="177" y="235"/>
                  </a:lnTo>
                  <a:lnTo>
                    <a:pt x="177" y="234"/>
                  </a:lnTo>
                  <a:lnTo>
                    <a:pt x="177" y="234"/>
                  </a:lnTo>
                  <a:lnTo>
                    <a:pt x="177" y="234"/>
                  </a:lnTo>
                  <a:lnTo>
                    <a:pt x="179" y="234"/>
                  </a:lnTo>
                  <a:lnTo>
                    <a:pt x="181" y="234"/>
                  </a:lnTo>
                  <a:lnTo>
                    <a:pt x="183" y="235"/>
                  </a:lnTo>
                  <a:lnTo>
                    <a:pt x="187" y="237"/>
                  </a:lnTo>
                  <a:lnTo>
                    <a:pt x="193" y="239"/>
                  </a:lnTo>
                  <a:lnTo>
                    <a:pt x="198" y="241"/>
                  </a:lnTo>
                  <a:lnTo>
                    <a:pt x="204" y="241"/>
                  </a:lnTo>
                  <a:lnTo>
                    <a:pt x="210" y="241"/>
                  </a:lnTo>
                  <a:lnTo>
                    <a:pt x="216" y="241"/>
                  </a:lnTo>
                  <a:lnTo>
                    <a:pt x="221" y="239"/>
                  </a:lnTo>
                  <a:lnTo>
                    <a:pt x="223" y="237"/>
                  </a:lnTo>
                  <a:lnTo>
                    <a:pt x="225" y="235"/>
                  </a:lnTo>
                  <a:lnTo>
                    <a:pt x="225" y="234"/>
                  </a:lnTo>
                  <a:lnTo>
                    <a:pt x="225" y="230"/>
                  </a:lnTo>
                  <a:lnTo>
                    <a:pt x="225" y="226"/>
                  </a:lnTo>
                  <a:lnTo>
                    <a:pt x="225" y="220"/>
                  </a:lnTo>
                  <a:lnTo>
                    <a:pt x="225" y="215"/>
                  </a:lnTo>
                  <a:lnTo>
                    <a:pt x="225" y="207"/>
                  </a:lnTo>
                  <a:lnTo>
                    <a:pt x="225" y="199"/>
                  </a:lnTo>
                  <a:lnTo>
                    <a:pt x="225" y="192"/>
                  </a:lnTo>
                  <a:lnTo>
                    <a:pt x="223" y="131"/>
                  </a:lnTo>
                  <a:lnTo>
                    <a:pt x="223" y="72"/>
                  </a:lnTo>
                  <a:lnTo>
                    <a:pt x="223" y="64"/>
                  </a:lnTo>
                  <a:lnTo>
                    <a:pt x="223" y="59"/>
                  </a:lnTo>
                  <a:lnTo>
                    <a:pt x="223" y="55"/>
                  </a:lnTo>
                  <a:lnTo>
                    <a:pt x="223" y="51"/>
                  </a:lnTo>
                  <a:lnTo>
                    <a:pt x="223" y="47"/>
                  </a:lnTo>
                  <a:lnTo>
                    <a:pt x="225" y="42"/>
                  </a:lnTo>
                  <a:lnTo>
                    <a:pt x="223" y="38"/>
                  </a:lnTo>
                  <a:lnTo>
                    <a:pt x="223" y="34"/>
                  </a:lnTo>
                  <a:lnTo>
                    <a:pt x="221" y="26"/>
                  </a:lnTo>
                  <a:lnTo>
                    <a:pt x="217" y="23"/>
                  </a:lnTo>
                  <a:lnTo>
                    <a:pt x="217" y="19"/>
                  </a:lnTo>
                  <a:lnTo>
                    <a:pt x="216" y="17"/>
                  </a:lnTo>
                  <a:lnTo>
                    <a:pt x="216" y="17"/>
                  </a:lnTo>
                  <a:lnTo>
                    <a:pt x="214" y="17"/>
                  </a:lnTo>
                  <a:lnTo>
                    <a:pt x="214" y="17"/>
                  </a:lnTo>
                  <a:lnTo>
                    <a:pt x="212" y="19"/>
                  </a:lnTo>
                  <a:lnTo>
                    <a:pt x="212" y="23"/>
                  </a:lnTo>
                  <a:lnTo>
                    <a:pt x="210" y="25"/>
                  </a:lnTo>
                  <a:lnTo>
                    <a:pt x="210" y="26"/>
                  </a:lnTo>
                  <a:lnTo>
                    <a:pt x="210" y="26"/>
                  </a:lnTo>
                  <a:lnTo>
                    <a:pt x="208" y="26"/>
                  </a:lnTo>
                  <a:lnTo>
                    <a:pt x="208" y="26"/>
                  </a:lnTo>
                  <a:lnTo>
                    <a:pt x="208" y="26"/>
                  </a:lnTo>
                  <a:lnTo>
                    <a:pt x="208" y="25"/>
                  </a:lnTo>
                  <a:lnTo>
                    <a:pt x="208" y="23"/>
                  </a:lnTo>
                  <a:lnTo>
                    <a:pt x="208" y="19"/>
                  </a:lnTo>
                  <a:lnTo>
                    <a:pt x="210" y="15"/>
                  </a:lnTo>
                  <a:lnTo>
                    <a:pt x="208" y="13"/>
                  </a:lnTo>
                  <a:lnTo>
                    <a:pt x="208" y="11"/>
                  </a:lnTo>
                  <a:lnTo>
                    <a:pt x="208" y="9"/>
                  </a:lnTo>
                  <a:lnTo>
                    <a:pt x="208" y="7"/>
                  </a:lnTo>
                  <a:lnTo>
                    <a:pt x="208" y="6"/>
                  </a:lnTo>
                  <a:lnTo>
                    <a:pt x="212" y="2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9" y="0"/>
                  </a:lnTo>
                  <a:lnTo>
                    <a:pt x="223" y="2"/>
                  </a:lnTo>
                  <a:lnTo>
                    <a:pt x="229" y="7"/>
                  </a:lnTo>
                  <a:lnTo>
                    <a:pt x="235" y="13"/>
                  </a:lnTo>
                  <a:lnTo>
                    <a:pt x="242" y="19"/>
                  </a:lnTo>
                  <a:lnTo>
                    <a:pt x="246" y="25"/>
                  </a:lnTo>
                  <a:lnTo>
                    <a:pt x="248" y="32"/>
                  </a:lnTo>
                  <a:lnTo>
                    <a:pt x="250" y="38"/>
                  </a:lnTo>
                  <a:lnTo>
                    <a:pt x="250" y="42"/>
                  </a:lnTo>
                  <a:lnTo>
                    <a:pt x="248" y="44"/>
                  </a:lnTo>
                  <a:lnTo>
                    <a:pt x="248" y="47"/>
                  </a:lnTo>
                  <a:lnTo>
                    <a:pt x="246" y="53"/>
                  </a:lnTo>
                  <a:lnTo>
                    <a:pt x="246" y="61"/>
                  </a:lnTo>
                  <a:lnTo>
                    <a:pt x="246" y="68"/>
                  </a:lnTo>
                  <a:lnTo>
                    <a:pt x="244" y="78"/>
                  </a:lnTo>
                  <a:lnTo>
                    <a:pt x="244" y="87"/>
                  </a:lnTo>
                  <a:lnTo>
                    <a:pt x="244" y="93"/>
                  </a:lnTo>
                  <a:lnTo>
                    <a:pt x="244" y="101"/>
                  </a:lnTo>
                  <a:lnTo>
                    <a:pt x="244" y="101"/>
                  </a:lnTo>
                  <a:close/>
                  <a:moveTo>
                    <a:pt x="128" y="45"/>
                  </a:moveTo>
                  <a:lnTo>
                    <a:pt x="135" y="45"/>
                  </a:lnTo>
                  <a:lnTo>
                    <a:pt x="143" y="47"/>
                  </a:lnTo>
                  <a:lnTo>
                    <a:pt x="149" y="51"/>
                  </a:lnTo>
                  <a:lnTo>
                    <a:pt x="154" y="53"/>
                  </a:lnTo>
                  <a:lnTo>
                    <a:pt x="156" y="57"/>
                  </a:lnTo>
                  <a:lnTo>
                    <a:pt x="158" y="61"/>
                  </a:lnTo>
                  <a:lnTo>
                    <a:pt x="160" y="66"/>
                  </a:lnTo>
                  <a:lnTo>
                    <a:pt x="160" y="70"/>
                  </a:lnTo>
                  <a:lnTo>
                    <a:pt x="160" y="72"/>
                  </a:lnTo>
                  <a:lnTo>
                    <a:pt x="160" y="72"/>
                  </a:lnTo>
                  <a:lnTo>
                    <a:pt x="158" y="74"/>
                  </a:lnTo>
                  <a:lnTo>
                    <a:pt x="156" y="76"/>
                  </a:lnTo>
                  <a:lnTo>
                    <a:pt x="154" y="76"/>
                  </a:lnTo>
                  <a:lnTo>
                    <a:pt x="153" y="76"/>
                  </a:lnTo>
                  <a:lnTo>
                    <a:pt x="149" y="76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7" y="76"/>
                  </a:lnTo>
                  <a:lnTo>
                    <a:pt x="132" y="76"/>
                  </a:lnTo>
                  <a:lnTo>
                    <a:pt x="128" y="76"/>
                  </a:lnTo>
                  <a:lnTo>
                    <a:pt x="122" y="78"/>
                  </a:lnTo>
                  <a:lnTo>
                    <a:pt x="116" y="80"/>
                  </a:lnTo>
                  <a:lnTo>
                    <a:pt x="111" y="83"/>
                  </a:lnTo>
                  <a:lnTo>
                    <a:pt x="105" y="87"/>
                  </a:lnTo>
                  <a:lnTo>
                    <a:pt x="99" y="91"/>
                  </a:lnTo>
                  <a:lnTo>
                    <a:pt x="95" y="95"/>
                  </a:lnTo>
                  <a:lnTo>
                    <a:pt x="93" y="99"/>
                  </a:lnTo>
                  <a:lnTo>
                    <a:pt x="93" y="101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5" y="102"/>
                  </a:lnTo>
                  <a:lnTo>
                    <a:pt x="97" y="104"/>
                  </a:lnTo>
                  <a:lnTo>
                    <a:pt x="99" y="102"/>
                  </a:lnTo>
                  <a:lnTo>
                    <a:pt x="101" y="102"/>
                  </a:lnTo>
                  <a:lnTo>
                    <a:pt x="105" y="101"/>
                  </a:lnTo>
                  <a:lnTo>
                    <a:pt x="109" y="99"/>
                  </a:lnTo>
                  <a:lnTo>
                    <a:pt x="112" y="97"/>
                  </a:lnTo>
                  <a:lnTo>
                    <a:pt x="116" y="95"/>
                  </a:lnTo>
                  <a:lnTo>
                    <a:pt x="120" y="93"/>
                  </a:lnTo>
                  <a:lnTo>
                    <a:pt x="124" y="93"/>
                  </a:lnTo>
                  <a:lnTo>
                    <a:pt x="128" y="95"/>
                  </a:lnTo>
                  <a:lnTo>
                    <a:pt x="133" y="95"/>
                  </a:lnTo>
                  <a:lnTo>
                    <a:pt x="137" y="99"/>
                  </a:lnTo>
                  <a:lnTo>
                    <a:pt x="143" y="102"/>
                  </a:lnTo>
                  <a:lnTo>
                    <a:pt x="147" y="106"/>
                  </a:lnTo>
                  <a:lnTo>
                    <a:pt x="151" y="112"/>
                  </a:lnTo>
                  <a:lnTo>
                    <a:pt x="153" y="118"/>
                  </a:lnTo>
                  <a:lnTo>
                    <a:pt x="154" y="123"/>
                  </a:lnTo>
                  <a:lnTo>
                    <a:pt x="153" y="129"/>
                  </a:lnTo>
                  <a:lnTo>
                    <a:pt x="153" y="135"/>
                  </a:lnTo>
                  <a:lnTo>
                    <a:pt x="151" y="140"/>
                  </a:lnTo>
                  <a:lnTo>
                    <a:pt x="149" y="146"/>
                  </a:lnTo>
                  <a:lnTo>
                    <a:pt x="147" y="148"/>
                  </a:lnTo>
                  <a:lnTo>
                    <a:pt x="145" y="150"/>
                  </a:lnTo>
                  <a:lnTo>
                    <a:pt x="145" y="154"/>
                  </a:lnTo>
                  <a:lnTo>
                    <a:pt x="143" y="159"/>
                  </a:lnTo>
                  <a:lnTo>
                    <a:pt x="137" y="171"/>
                  </a:lnTo>
                  <a:lnTo>
                    <a:pt x="132" y="184"/>
                  </a:lnTo>
                  <a:lnTo>
                    <a:pt x="128" y="188"/>
                  </a:lnTo>
                  <a:lnTo>
                    <a:pt x="124" y="194"/>
                  </a:lnTo>
                  <a:lnTo>
                    <a:pt x="122" y="196"/>
                  </a:lnTo>
                  <a:lnTo>
                    <a:pt x="120" y="196"/>
                  </a:lnTo>
                  <a:lnTo>
                    <a:pt x="118" y="196"/>
                  </a:lnTo>
                  <a:lnTo>
                    <a:pt x="114" y="194"/>
                  </a:lnTo>
                  <a:lnTo>
                    <a:pt x="112" y="192"/>
                  </a:lnTo>
                  <a:lnTo>
                    <a:pt x="111" y="190"/>
                  </a:lnTo>
                  <a:lnTo>
                    <a:pt x="105" y="182"/>
                  </a:lnTo>
                  <a:lnTo>
                    <a:pt x="101" y="175"/>
                  </a:lnTo>
                  <a:lnTo>
                    <a:pt x="101" y="182"/>
                  </a:lnTo>
                  <a:lnTo>
                    <a:pt x="99" y="192"/>
                  </a:lnTo>
                  <a:lnTo>
                    <a:pt x="97" y="203"/>
                  </a:lnTo>
                  <a:lnTo>
                    <a:pt x="95" y="213"/>
                  </a:lnTo>
                  <a:lnTo>
                    <a:pt x="93" y="215"/>
                  </a:lnTo>
                  <a:lnTo>
                    <a:pt x="93" y="216"/>
                  </a:lnTo>
                  <a:lnTo>
                    <a:pt x="95" y="218"/>
                  </a:lnTo>
                  <a:lnTo>
                    <a:pt x="97" y="220"/>
                  </a:lnTo>
                  <a:lnTo>
                    <a:pt x="97" y="220"/>
                  </a:lnTo>
                  <a:lnTo>
                    <a:pt x="99" y="218"/>
                  </a:lnTo>
                  <a:lnTo>
                    <a:pt x="101" y="218"/>
                  </a:lnTo>
                  <a:lnTo>
                    <a:pt x="103" y="216"/>
                  </a:lnTo>
                  <a:lnTo>
                    <a:pt x="107" y="216"/>
                  </a:lnTo>
                  <a:lnTo>
                    <a:pt x="111" y="215"/>
                  </a:lnTo>
                  <a:lnTo>
                    <a:pt x="114" y="211"/>
                  </a:lnTo>
                  <a:lnTo>
                    <a:pt x="118" y="209"/>
                  </a:lnTo>
                  <a:lnTo>
                    <a:pt x="128" y="203"/>
                  </a:lnTo>
                  <a:lnTo>
                    <a:pt x="135" y="199"/>
                  </a:lnTo>
                  <a:lnTo>
                    <a:pt x="137" y="197"/>
                  </a:lnTo>
                  <a:lnTo>
                    <a:pt x="141" y="196"/>
                  </a:lnTo>
                  <a:lnTo>
                    <a:pt x="143" y="196"/>
                  </a:lnTo>
                  <a:lnTo>
                    <a:pt x="145" y="194"/>
                  </a:lnTo>
                  <a:lnTo>
                    <a:pt x="147" y="192"/>
                  </a:lnTo>
                  <a:lnTo>
                    <a:pt x="149" y="188"/>
                  </a:lnTo>
                  <a:lnTo>
                    <a:pt x="149" y="184"/>
                  </a:lnTo>
                  <a:lnTo>
                    <a:pt x="151" y="180"/>
                  </a:lnTo>
                  <a:lnTo>
                    <a:pt x="151" y="177"/>
                  </a:lnTo>
                  <a:lnTo>
                    <a:pt x="153" y="175"/>
                  </a:lnTo>
                  <a:lnTo>
                    <a:pt x="153" y="173"/>
                  </a:lnTo>
                  <a:lnTo>
                    <a:pt x="154" y="173"/>
                  </a:lnTo>
                  <a:lnTo>
                    <a:pt x="154" y="173"/>
                  </a:lnTo>
                  <a:lnTo>
                    <a:pt x="154" y="175"/>
                  </a:lnTo>
                  <a:lnTo>
                    <a:pt x="156" y="175"/>
                  </a:lnTo>
                  <a:lnTo>
                    <a:pt x="156" y="177"/>
                  </a:lnTo>
                  <a:lnTo>
                    <a:pt x="156" y="180"/>
                  </a:lnTo>
                  <a:lnTo>
                    <a:pt x="158" y="184"/>
                  </a:lnTo>
                  <a:lnTo>
                    <a:pt x="156" y="190"/>
                  </a:lnTo>
                  <a:lnTo>
                    <a:pt x="156" y="194"/>
                  </a:lnTo>
                  <a:lnTo>
                    <a:pt x="154" y="199"/>
                  </a:lnTo>
                  <a:lnTo>
                    <a:pt x="153" y="205"/>
                  </a:lnTo>
                  <a:lnTo>
                    <a:pt x="149" y="211"/>
                  </a:lnTo>
                  <a:lnTo>
                    <a:pt x="145" y="216"/>
                  </a:lnTo>
                  <a:lnTo>
                    <a:pt x="141" y="220"/>
                  </a:lnTo>
                  <a:lnTo>
                    <a:pt x="139" y="224"/>
                  </a:lnTo>
                  <a:lnTo>
                    <a:pt x="130" y="230"/>
                  </a:lnTo>
                  <a:lnTo>
                    <a:pt x="128" y="234"/>
                  </a:lnTo>
                  <a:lnTo>
                    <a:pt x="124" y="237"/>
                  </a:lnTo>
                  <a:lnTo>
                    <a:pt x="120" y="241"/>
                  </a:lnTo>
                  <a:lnTo>
                    <a:pt x="118" y="245"/>
                  </a:lnTo>
                  <a:lnTo>
                    <a:pt x="116" y="247"/>
                  </a:lnTo>
                  <a:lnTo>
                    <a:pt x="116" y="251"/>
                  </a:lnTo>
                  <a:lnTo>
                    <a:pt x="114" y="254"/>
                  </a:lnTo>
                  <a:lnTo>
                    <a:pt x="111" y="256"/>
                  </a:lnTo>
                  <a:lnTo>
                    <a:pt x="109" y="258"/>
                  </a:lnTo>
                  <a:lnTo>
                    <a:pt x="105" y="258"/>
                  </a:lnTo>
                  <a:lnTo>
                    <a:pt x="101" y="258"/>
                  </a:lnTo>
                  <a:lnTo>
                    <a:pt x="97" y="256"/>
                  </a:lnTo>
                  <a:lnTo>
                    <a:pt x="91" y="254"/>
                  </a:lnTo>
                  <a:lnTo>
                    <a:pt x="88" y="251"/>
                  </a:lnTo>
                  <a:lnTo>
                    <a:pt x="82" y="247"/>
                  </a:lnTo>
                  <a:lnTo>
                    <a:pt x="78" y="245"/>
                  </a:lnTo>
                  <a:lnTo>
                    <a:pt x="76" y="241"/>
                  </a:lnTo>
                  <a:lnTo>
                    <a:pt x="74" y="237"/>
                  </a:lnTo>
                  <a:lnTo>
                    <a:pt x="72" y="234"/>
                  </a:lnTo>
                  <a:lnTo>
                    <a:pt x="72" y="230"/>
                  </a:lnTo>
                  <a:lnTo>
                    <a:pt x="70" y="222"/>
                  </a:lnTo>
                  <a:lnTo>
                    <a:pt x="70" y="216"/>
                  </a:lnTo>
                  <a:lnTo>
                    <a:pt x="70" y="207"/>
                  </a:lnTo>
                  <a:lnTo>
                    <a:pt x="70" y="197"/>
                  </a:lnTo>
                  <a:lnTo>
                    <a:pt x="72" y="188"/>
                  </a:lnTo>
                  <a:lnTo>
                    <a:pt x="72" y="175"/>
                  </a:lnTo>
                  <a:lnTo>
                    <a:pt x="72" y="169"/>
                  </a:lnTo>
                  <a:lnTo>
                    <a:pt x="74" y="163"/>
                  </a:lnTo>
                  <a:lnTo>
                    <a:pt x="74" y="159"/>
                  </a:lnTo>
                  <a:lnTo>
                    <a:pt x="74" y="156"/>
                  </a:lnTo>
                  <a:lnTo>
                    <a:pt x="76" y="152"/>
                  </a:lnTo>
                  <a:lnTo>
                    <a:pt x="76" y="148"/>
                  </a:lnTo>
                  <a:lnTo>
                    <a:pt x="76" y="146"/>
                  </a:lnTo>
                  <a:lnTo>
                    <a:pt x="78" y="144"/>
                  </a:lnTo>
                  <a:lnTo>
                    <a:pt x="80" y="142"/>
                  </a:lnTo>
                  <a:lnTo>
                    <a:pt x="82" y="139"/>
                  </a:lnTo>
                  <a:lnTo>
                    <a:pt x="84" y="139"/>
                  </a:lnTo>
                  <a:lnTo>
                    <a:pt x="88" y="139"/>
                  </a:lnTo>
                  <a:lnTo>
                    <a:pt x="90" y="139"/>
                  </a:lnTo>
                  <a:lnTo>
                    <a:pt x="93" y="140"/>
                  </a:lnTo>
                  <a:lnTo>
                    <a:pt x="95" y="142"/>
                  </a:lnTo>
                  <a:lnTo>
                    <a:pt x="99" y="148"/>
                  </a:lnTo>
                  <a:lnTo>
                    <a:pt x="103" y="152"/>
                  </a:lnTo>
                  <a:lnTo>
                    <a:pt x="109" y="156"/>
                  </a:lnTo>
                  <a:lnTo>
                    <a:pt x="111" y="158"/>
                  </a:lnTo>
                  <a:lnTo>
                    <a:pt x="112" y="158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18" y="152"/>
                  </a:lnTo>
                  <a:lnTo>
                    <a:pt x="120" y="146"/>
                  </a:lnTo>
                  <a:lnTo>
                    <a:pt x="120" y="140"/>
                  </a:lnTo>
                  <a:lnTo>
                    <a:pt x="120" y="139"/>
                  </a:lnTo>
                  <a:lnTo>
                    <a:pt x="122" y="135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0" y="133"/>
                  </a:lnTo>
                  <a:lnTo>
                    <a:pt x="118" y="133"/>
                  </a:lnTo>
                  <a:lnTo>
                    <a:pt x="116" y="135"/>
                  </a:lnTo>
                  <a:lnTo>
                    <a:pt x="111" y="137"/>
                  </a:lnTo>
                  <a:lnTo>
                    <a:pt x="107" y="137"/>
                  </a:lnTo>
                  <a:lnTo>
                    <a:pt x="103" y="137"/>
                  </a:lnTo>
                  <a:lnTo>
                    <a:pt x="99" y="135"/>
                  </a:lnTo>
                  <a:lnTo>
                    <a:pt x="95" y="133"/>
                  </a:lnTo>
                  <a:lnTo>
                    <a:pt x="91" y="129"/>
                  </a:lnTo>
                  <a:lnTo>
                    <a:pt x="90" y="125"/>
                  </a:lnTo>
                  <a:lnTo>
                    <a:pt x="86" y="120"/>
                  </a:lnTo>
                  <a:lnTo>
                    <a:pt x="84" y="114"/>
                  </a:lnTo>
                  <a:lnTo>
                    <a:pt x="84" y="108"/>
                  </a:lnTo>
                  <a:lnTo>
                    <a:pt x="80" y="114"/>
                  </a:lnTo>
                  <a:lnTo>
                    <a:pt x="76" y="120"/>
                  </a:lnTo>
                  <a:lnTo>
                    <a:pt x="74" y="123"/>
                  </a:lnTo>
                  <a:lnTo>
                    <a:pt x="70" y="129"/>
                  </a:lnTo>
                  <a:lnTo>
                    <a:pt x="69" y="133"/>
                  </a:lnTo>
                  <a:lnTo>
                    <a:pt x="65" y="137"/>
                  </a:lnTo>
                  <a:lnTo>
                    <a:pt x="61" y="142"/>
                  </a:lnTo>
                  <a:lnTo>
                    <a:pt x="57" y="148"/>
                  </a:lnTo>
                  <a:lnTo>
                    <a:pt x="53" y="152"/>
                  </a:lnTo>
                  <a:lnTo>
                    <a:pt x="48" y="158"/>
                  </a:lnTo>
                  <a:lnTo>
                    <a:pt x="40" y="163"/>
                  </a:lnTo>
                  <a:lnTo>
                    <a:pt x="32" y="169"/>
                  </a:lnTo>
                  <a:lnTo>
                    <a:pt x="27" y="175"/>
                  </a:lnTo>
                  <a:lnTo>
                    <a:pt x="21" y="180"/>
                  </a:lnTo>
                  <a:lnTo>
                    <a:pt x="15" y="184"/>
                  </a:lnTo>
                  <a:lnTo>
                    <a:pt x="9" y="188"/>
                  </a:lnTo>
                  <a:lnTo>
                    <a:pt x="6" y="190"/>
                  </a:lnTo>
                  <a:lnTo>
                    <a:pt x="4" y="192"/>
                  </a:lnTo>
                  <a:lnTo>
                    <a:pt x="2" y="192"/>
                  </a:lnTo>
                  <a:lnTo>
                    <a:pt x="0" y="192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2" y="169"/>
                  </a:lnTo>
                  <a:lnTo>
                    <a:pt x="13" y="156"/>
                  </a:lnTo>
                  <a:lnTo>
                    <a:pt x="23" y="144"/>
                  </a:lnTo>
                  <a:lnTo>
                    <a:pt x="30" y="133"/>
                  </a:lnTo>
                  <a:lnTo>
                    <a:pt x="38" y="123"/>
                  </a:lnTo>
                  <a:lnTo>
                    <a:pt x="44" y="114"/>
                  </a:lnTo>
                  <a:lnTo>
                    <a:pt x="49" y="106"/>
                  </a:lnTo>
                  <a:lnTo>
                    <a:pt x="55" y="101"/>
                  </a:lnTo>
                  <a:lnTo>
                    <a:pt x="59" y="95"/>
                  </a:lnTo>
                  <a:lnTo>
                    <a:pt x="70" y="74"/>
                  </a:lnTo>
                  <a:lnTo>
                    <a:pt x="84" y="55"/>
                  </a:lnTo>
                  <a:lnTo>
                    <a:pt x="86" y="49"/>
                  </a:lnTo>
                  <a:lnTo>
                    <a:pt x="90" y="45"/>
                  </a:lnTo>
                  <a:lnTo>
                    <a:pt x="91" y="40"/>
                  </a:lnTo>
                  <a:lnTo>
                    <a:pt x="93" y="38"/>
                  </a:lnTo>
                  <a:lnTo>
                    <a:pt x="95" y="30"/>
                  </a:lnTo>
                  <a:lnTo>
                    <a:pt x="97" y="26"/>
                  </a:lnTo>
                  <a:lnTo>
                    <a:pt x="95" y="25"/>
                  </a:lnTo>
                  <a:lnTo>
                    <a:pt x="95" y="23"/>
                  </a:lnTo>
                  <a:lnTo>
                    <a:pt x="93" y="21"/>
                  </a:lnTo>
                  <a:lnTo>
                    <a:pt x="93" y="19"/>
                  </a:lnTo>
                  <a:lnTo>
                    <a:pt x="91" y="15"/>
                  </a:lnTo>
                  <a:lnTo>
                    <a:pt x="91" y="11"/>
                  </a:lnTo>
                  <a:lnTo>
                    <a:pt x="91" y="7"/>
                  </a:lnTo>
                  <a:lnTo>
                    <a:pt x="91" y="6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5" y="4"/>
                  </a:lnTo>
                  <a:lnTo>
                    <a:pt x="97" y="7"/>
                  </a:lnTo>
                  <a:lnTo>
                    <a:pt x="99" y="9"/>
                  </a:lnTo>
                  <a:lnTo>
                    <a:pt x="103" y="11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14" y="17"/>
                  </a:lnTo>
                  <a:lnTo>
                    <a:pt x="118" y="19"/>
                  </a:lnTo>
                  <a:lnTo>
                    <a:pt x="122" y="21"/>
                  </a:lnTo>
                  <a:lnTo>
                    <a:pt x="126" y="23"/>
                  </a:lnTo>
                  <a:lnTo>
                    <a:pt x="128" y="25"/>
                  </a:lnTo>
                  <a:lnTo>
                    <a:pt x="130" y="28"/>
                  </a:lnTo>
                  <a:lnTo>
                    <a:pt x="130" y="30"/>
                  </a:lnTo>
                  <a:lnTo>
                    <a:pt x="132" y="34"/>
                  </a:lnTo>
                  <a:lnTo>
                    <a:pt x="130" y="38"/>
                  </a:lnTo>
                  <a:lnTo>
                    <a:pt x="130" y="40"/>
                  </a:lnTo>
                  <a:lnTo>
                    <a:pt x="128" y="42"/>
                  </a:lnTo>
                  <a:lnTo>
                    <a:pt x="128" y="45"/>
                  </a:lnTo>
                  <a:lnTo>
                    <a:pt x="128" y="45"/>
                  </a:lnTo>
                  <a:close/>
                  <a:moveTo>
                    <a:pt x="111" y="64"/>
                  </a:moveTo>
                  <a:lnTo>
                    <a:pt x="109" y="66"/>
                  </a:lnTo>
                  <a:lnTo>
                    <a:pt x="107" y="70"/>
                  </a:lnTo>
                  <a:lnTo>
                    <a:pt x="103" y="74"/>
                  </a:lnTo>
                  <a:lnTo>
                    <a:pt x="99" y="82"/>
                  </a:lnTo>
                  <a:lnTo>
                    <a:pt x="95" y="87"/>
                  </a:lnTo>
                  <a:lnTo>
                    <a:pt x="93" y="91"/>
                  </a:lnTo>
                  <a:lnTo>
                    <a:pt x="91" y="95"/>
                  </a:lnTo>
                  <a:lnTo>
                    <a:pt x="90" y="97"/>
                  </a:lnTo>
                  <a:lnTo>
                    <a:pt x="90" y="97"/>
                  </a:lnTo>
                  <a:lnTo>
                    <a:pt x="91" y="97"/>
                  </a:lnTo>
                  <a:lnTo>
                    <a:pt x="91" y="97"/>
                  </a:lnTo>
                  <a:lnTo>
                    <a:pt x="93" y="97"/>
                  </a:lnTo>
                  <a:lnTo>
                    <a:pt x="97" y="91"/>
                  </a:lnTo>
                  <a:lnTo>
                    <a:pt x="103" y="87"/>
                  </a:lnTo>
                  <a:lnTo>
                    <a:pt x="107" y="83"/>
                  </a:lnTo>
                  <a:lnTo>
                    <a:pt x="109" y="80"/>
                  </a:lnTo>
                  <a:lnTo>
                    <a:pt x="112" y="78"/>
                  </a:lnTo>
                  <a:lnTo>
                    <a:pt x="114" y="76"/>
                  </a:lnTo>
                  <a:lnTo>
                    <a:pt x="116" y="76"/>
                  </a:lnTo>
                  <a:lnTo>
                    <a:pt x="118" y="74"/>
                  </a:lnTo>
                  <a:lnTo>
                    <a:pt x="120" y="74"/>
                  </a:lnTo>
                  <a:lnTo>
                    <a:pt x="120" y="72"/>
                  </a:lnTo>
                  <a:lnTo>
                    <a:pt x="120" y="70"/>
                  </a:lnTo>
                  <a:lnTo>
                    <a:pt x="118" y="68"/>
                  </a:lnTo>
                  <a:lnTo>
                    <a:pt x="114" y="66"/>
                  </a:lnTo>
                  <a:lnTo>
                    <a:pt x="111" y="64"/>
                  </a:lnTo>
                  <a:lnTo>
                    <a:pt x="111" y="64"/>
                  </a:lnTo>
                  <a:close/>
                  <a:moveTo>
                    <a:pt x="198" y="87"/>
                  </a:moveTo>
                  <a:lnTo>
                    <a:pt x="200" y="97"/>
                  </a:lnTo>
                  <a:lnTo>
                    <a:pt x="202" y="108"/>
                  </a:lnTo>
                  <a:lnTo>
                    <a:pt x="202" y="110"/>
                  </a:lnTo>
                  <a:lnTo>
                    <a:pt x="202" y="114"/>
                  </a:lnTo>
                  <a:lnTo>
                    <a:pt x="202" y="118"/>
                  </a:lnTo>
                  <a:lnTo>
                    <a:pt x="204" y="123"/>
                  </a:lnTo>
                  <a:lnTo>
                    <a:pt x="202" y="131"/>
                  </a:lnTo>
                  <a:lnTo>
                    <a:pt x="202" y="139"/>
                  </a:lnTo>
                  <a:lnTo>
                    <a:pt x="200" y="148"/>
                  </a:lnTo>
                  <a:lnTo>
                    <a:pt x="198" y="158"/>
                  </a:lnTo>
                  <a:lnTo>
                    <a:pt x="198" y="163"/>
                  </a:lnTo>
                  <a:lnTo>
                    <a:pt x="196" y="167"/>
                  </a:lnTo>
                  <a:lnTo>
                    <a:pt x="195" y="171"/>
                  </a:lnTo>
                  <a:lnTo>
                    <a:pt x="193" y="175"/>
                  </a:lnTo>
                  <a:lnTo>
                    <a:pt x="193" y="177"/>
                  </a:lnTo>
                  <a:lnTo>
                    <a:pt x="191" y="178"/>
                  </a:lnTo>
                  <a:lnTo>
                    <a:pt x="189" y="180"/>
                  </a:lnTo>
                  <a:lnTo>
                    <a:pt x="187" y="180"/>
                  </a:lnTo>
                  <a:lnTo>
                    <a:pt x="185" y="180"/>
                  </a:lnTo>
                  <a:lnTo>
                    <a:pt x="185" y="178"/>
                  </a:lnTo>
                  <a:lnTo>
                    <a:pt x="183" y="178"/>
                  </a:lnTo>
                  <a:lnTo>
                    <a:pt x="183" y="177"/>
                  </a:lnTo>
                  <a:lnTo>
                    <a:pt x="181" y="175"/>
                  </a:lnTo>
                  <a:lnTo>
                    <a:pt x="179" y="171"/>
                  </a:lnTo>
                  <a:lnTo>
                    <a:pt x="177" y="167"/>
                  </a:lnTo>
                  <a:lnTo>
                    <a:pt x="175" y="161"/>
                  </a:lnTo>
                  <a:lnTo>
                    <a:pt x="172" y="158"/>
                  </a:lnTo>
                  <a:lnTo>
                    <a:pt x="172" y="154"/>
                  </a:lnTo>
                  <a:lnTo>
                    <a:pt x="170" y="152"/>
                  </a:lnTo>
                  <a:lnTo>
                    <a:pt x="170" y="146"/>
                  </a:lnTo>
                  <a:lnTo>
                    <a:pt x="168" y="140"/>
                  </a:lnTo>
                  <a:lnTo>
                    <a:pt x="170" y="135"/>
                  </a:lnTo>
                  <a:lnTo>
                    <a:pt x="170" y="131"/>
                  </a:lnTo>
                  <a:lnTo>
                    <a:pt x="172" y="127"/>
                  </a:lnTo>
                  <a:lnTo>
                    <a:pt x="172" y="123"/>
                  </a:lnTo>
                  <a:lnTo>
                    <a:pt x="174" y="120"/>
                  </a:lnTo>
                  <a:lnTo>
                    <a:pt x="174" y="118"/>
                  </a:lnTo>
                  <a:lnTo>
                    <a:pt x="174" y="116"/>
                  </a:lnTo>
                  <a:lnTo>
                    <a:pt x="174" y="112"/>
                  </a:lnTo>
                  <a:lnTo>
                    <a:pt x="172" y="108"/>
                  </a:lnTo>
                  <a:lnTo>
                    <a:pt x="172" y="104"/>
                  </a:lnTo>
                  <a:lnTo>
                    <a:pt x="170" y="102"/>
                  </a:lnTo>
                  <a:lnTo>
                    <a:pt x="168" y="99"/>
                  </a:lnTo>
                  <a:lnTo>
                    <a:pt x="164" y="95"/>
                  </a:lnTo>
                  <a:lnTo>
                    <a:pt x="162" y="91"/>
                  </a:lnTo>
                  <a:lnTo>
                    <a:pt x="160" y="87"/>
                  </a:lnTo>
                  <a:lnTo>
                    <a:pt x="158" y="83"/>
                  </a:lnTo>
                  <a:lnTo>
                    <a:pt x="158" y="83"/>
                  </a:lnTo>
                  <a:lnTo>
                    <a:pt x="158" y="82"/>
                  </a:lnTo>
                  <a:lnTo>
                    <a:pt x="160" y="80"/>
                  </a:lnTo>
                  <a:lnTo>
                    <a:pt x="162" y="82"/>
                  </a:lnTo>
                  <a:lnTo>
                    <a:pt x="164" y="82"/>
                  </a:lnTo>
                  <a:lnTo>
                    <a:pt x="172" y="87"/>
                  </a:lnTo>
                  <a:lnTo>
                    <a:pt x="175" y="89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7" y="91"/>
                  </a:lnTo>
                  <a:lnTo>
                    <a:pt x="189" y="89"/>
                  </a:lnTo>
                  <a:lnTo>
                    <a:pt x="189" y="89"/>
                  </a:lnTo>
                  <a:lnTo>
                    <a:pt x="189" y="87"/>
                  </a:lnTo>
                  <a:lnTo>
                    <a:pt x="191" y="85"/>
                  </a:lnTo>
                  <a:lnTo>
                    <a:pt x="191" y="82"/>
                  </a:lnTo>
                  <a:lnTo>
                    <a:pt x="193" y="74"/>
                  </a:lnTo>
                  <a:lnTo>
                    <a:pt x="195" y="68"/>
                  </a:lnTo>
                  <a:lnTo>
                    <a:pt x="196" y="64"/>
                  </a:lnTo>
                  <a:lnTo>
                    <a:pt x="198" y="59"/>
                  </a:lnTo>
                  <a:lnTo>
                    <a:pt x="198" y="57"/>
                  </a:lnTo>
                  <a:lnTo>
                    <a:pt x="200" y="53"/>
                  </a:lnTo>
                  <a:lnTo>
                    <a:pt x="202" y="53"/>
                  </a:lnTo>
                  <a:lnTo>
                    <a:pt x="202" y="53"/>
                  </a:lnTo>
                  <a:lnTo>
                    <a:pt x="202" y="53"/>
                  </a:lnTo>
                  <a:lnTo>
                    <a:pt x="202" y="53"/>
                  </a:lnTo>
                  <a:lnTo>
                    <a:pt x="202" y="55"/>
                  </a:lnTo>
                  <a:lnTo>
                    <a:pt x="202" y="59"/>
                  </a:lnTo>
                  <a:lnTo>
                    <a:pt x="200" y="63"/>
                  </a:lnTo>
                  <a:lnTo>
                    <a:pt x="200" y="68"/>
                  </a:lnTo>
                  <a:lnTo>
                    <a:pt x="200" y="74"/>
                  </a:lnTo>
                  <a:lnTo>
                    <a:pt x="198" y="78"/>
                  </a:lnTo>
                  <a:lnTo>
                    <a:pt x="198" y="83"/>
                  </a:lnTo>
                  <a:lnTo>
                    <a:pt x="198" y="87"/>
                  </a:lnTo>
                  <a:lnTo>
                    <a:pt x="198" y="87"/>
                  </a:lnTo>
                  <a:close/>
                </a:path>
              </a:pathLst>
            </a:custGeom>
            <a:solidFill>
              <a:srgbClr val="e5faff"/>
            </a:solidFill>
            <a:ln w="0">
              <a:noFill/>
            </a:ln>
            <a:effectLst>
              <a:outerShdw dist="117181" dir="19161632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72"/>
            <p:cNvSpPr/>
            <p:nvPr/>
          </p:nvSpPr>
          <p:spPr>
            <a:xfrm>
              <a:off x="4555800" y="11147400"/>
              <a:ext cx="969840" cy="1185840"/>
            </a:xfrm>
            <a:custGeom>
              <a:avLst/>
              <a:gdLst/>
              <a:ahLst/>
              <a:rect l="l" t="t" r="r" b="b"/>
              <a:pathLst>
                <a:path w="245" h="300">
                  <a:moveTo>
                    <a:pt x="134" y="216"/>
                  </a:moveTo>
                  <a:lnTo>
                    <a:pt x="138" y="218"/>
                  </a:lnTo>
                  <a:lnTo>
                    <a:pt x="143" y="220"/>
                  </a:lnTo>
                  <a:lnTo>
                    <a:pt x="145" y="224"/>
                  </a:lnTo>
                  <a:lnTo>
                    <a:pt x="147" y="226"/>
                  </a:lnTo>
                  <a:lnTo>
                    <a:pt x="149" y="228"/>
                  </a:lnTo>
                  <a:lnTo>
                    <a:pt x="151" y="228"/>
                  </a:lnTo>
                  <a:lnTo>
                    <a:pt x="151" y="230"/>
                  </a:lnTo>
                  <a:lnTo>
                    <a:pt x="153" y="228"/>
                  </a:lnTo>
                  <a:lnTo>
                    <a:pt x="153" y="228"/>
                  </a:lnTo>
                  <a:lnTo>
                    <a:pt x="155" y="228"/>
                  </a:lnTo>
                  <a:lnTo>
                    <a:pt x="159" y="228"/>
                  </a:lnTo>
                  <a:lnTo>
                    <a:pt x="161" y="226"/>
                  </a:lnTo>
                  <a:lnTo>
                    <a:pt x="164" y="224"/>
                  </a:lnTo>
                  <a:lnTo>
                    <a:pt x="168" y="222"/>
                  </a:lnTo>
                  <a:lnTo>
                    <a:pt x="174" y="222"/>
                  </a:lnTo>
                  <a:lnTo>
                    <a:pt x="182" y="218"/>
                  </a:lnTo>
                  <a:lnTo>
                    <a:pt x="189" y="215"/>
                  </a:lnTo>
                  <a:lnTo>
                    <a:pt x="195" y="211"/>
                  </a:lnTo>
                  <a:lnTo>
                    <a:pt x="201" y="209"/>
                  </a:lnTo>
                  <a:lnTo>
                    <a:pt x="205" y="207"/>
                  </a:lnTo>
                  <a:lnTo>
                    <a:pt x="208" y="207"/>
                  </a:lnTo>
                  <a:lnTo>
                    <a:pt x="214" y="209"/>
                  </a:lnTo>
                  <a:lnTo>
                    <a:pt x="220" y="209"/>
                  </a:lnTo>
                  <a:lnTo>
                    <a:pt x="226" y="213"/>
                  </a:lnTo>
                  <a:lnTo>
                    <a:pt x="231" y="215"/>
                  </a:lnTo>
                  <a:lnTo>
                    <a:pt x="237" y="220"/>
                  </a:lnTo>
                  <a:lnTo>
                    <a:pt x="241" y="224"/>
                  </a:lnTo>
                  <a:lnTo>
                    <a:pt x="243" y="230"/>
                  </a:lnTo>
                  <a:lnTo>
                    <a:pt x="245" y="237"/>
                  </a:lnTo>
                  <a:lnTo>
                    <a:pt x="243" y="241"/>
                  </a:lnTo>
                  <a:lnTo>
                    <a:pt x="243" y="249"/>
                  </a:lnTo>
                  <a:lnTo>
                    <a:pt x="241" y="251"/>
                  </a:lnTo>
                  <a:lnTo>
                    <a:pt x="239" y="254"/>
                  </a:lnTo>
                  <a:lnTo>
                    <a:pt x="237" y="254"/>
                  </a:lnTo>
                  <a:lnTo>
                    <a:pt x="235" y="256"/>
                  </a:lnTo>
                  <a:lnTo>
                    <a:pt x="233" y="256"/>
                  </a:lnTo>
                  <a:lnTo>
                    <a:pt x="229" y="254"/>
                  </a:lnTo>
                  <a:lnTo>
                    <a:pt x="226" y="253"/>
                  </a:lnTo>
                  <a:lnTo>
                    <a:pt x="222" y="251"/>
                  </a:lnTo>
                  <a:lnTo>
                    <a:pt x="216" y="249"/>
                  </a:lnTo>
                  <a:lnTo>
                    <a:pt x="210" y="247"/>
                  </a:lnTo>
                  <a:lnTo>
                    <a:pt x="203" y="245"/>
                  </a:lnTo>
                  <a:lnTo>
                    <a:pt x="195" y="243"/>
                  </a:lnTo>
                  <a:lnTo>
                    <a:pt x="195" y="241"/>
                  </a:lnTo>
                  <a:lnTo>
                    <a:pt x="193" y="241"/>
                  </a:lnTo>
                  <a:lnTo>
                    <a:pt x="193" y="239"/>
                  </a:lnTo>
                  <a:lnTo>
                    <a:pt x="193" y="237"/>
                  </a:lnTo>
                  <a:lnTo>
                    <a:pt x="193" y="235"/>
                  </a:lnTo>
                  <a:lnTo>
                    <a:pt x="195" y="234"/>
                  </a:lnTo>
                  <a:lnTo>
                    <a:pt x="199" y="234"/>
                  </a:lnTo>
                  <a:lnTo>
                    <a:pt x="205" y="232"/>
                  </a:lnTo>
                  <a:lnTo>
                    <a:pt x="208" y="232"/>
                  </a:lnTo>
                  <a:lnTo>
                    <a:pt x="212" y="230"/>
                  </a:lnTo>
                  <a:lnTo>
                    <a:pt x="212" y="228"/>
                  </a:lnTo>
                  <a:lnTo>
                    <a:pt x="212" y="224"/>
                  </a:lnTo>
                  <a:lnTo>
                    <a:pt x="210" y="222"/>
                  </a:lnTo>
                  <a:lnTo>
                    <a:pt x="208" y="220"/>
                  </a:lnTo>
                  <a:lnTo>
                    <a:pt x="205" y="216"/>
                  </a:lnTo>
                  <a:lnTo>
                    <a:pt x="197" y="224"/>
                  </a:lnTo>
                  <a:lnTo>
                    <a:pt x="189" y="230"/>
                  </a:lnTo>
                  <a:lnTo>
                    <a:pt x="180" y="235"/>
                  </a:lnTo>
                  <a:lnTo>
                    <a:pt x="170" y="243"/>
                  </a:lnTo>
                  <a:lnTo>
                    <a:pt x="178" y="249"/>
                  </a:lnTo>
                  <a:lnTo>
                    <a:pt x="182" y="254"/>
                  </a:lnTo>
                  <a:lnTo>
                    <a:pt x="187" y="258"/>
                  </a:lnTo>
                  <a:lnTo>
                    <a:pt x="191" y="262"/>
                  </a:lnTo>
                  <a:lnTo>
                    <a:pt x="193" y="264"/>
                  </a:lnTo>
                  <a:lnTo>
                    <a:pt x="197" y="266"/>
                  </a:lnTo>
                  <a:lnTo>
                    <a:pt x="205" y="270"/>
                  </a:lnTo>
                  <a:lnTo>
                    <a:pt x="208" y="272"/>
                  </a:lnTo>
                  <a:lnTo>
                    <a:pt x="212" y="273"/>
                  </a:lnTo>
                  <a:lnTo>
                    <a:pt x="214" y="275"/>
                  </a:lnTo>
                  <a:lnTo>
                    <a:pt x="216" y="275"/>
                  </a:lnTo>
                  <a:lnTo>
                    <a:pt x="218" y="279"/>
                  </a:lnTo>
                  <a:lnTo>
                    <a:pt x="218" y="285"/>
                  </a:lnTo>
                  <a:lnTo>
                    <a:pt x="218" y="287"/>
                  </a:lnTo>
                  <a:lnTo>
                    <a:pt x="218" y="289"/>
                  </a:lnTo>
                  <a:lnTo>
                    <a:pt x="216" y="291"/>
                  </a:lnTo>
                  <a:lnTo>
                    <a:pt x="216" y="291"/>
                  </a:lnTo>
                  <a:lnTo>
                    <a:pt x="214" y="292"/>
                  </a:lnTo>
                  <a:lnTo>
                    <a:pt x="212" y="292"/>
                  </a:lnTo>
                  <a:lnTo>
                    <a:pt x="208" y="294"/>
                  </a:lnTo>
                  <a:lnTo>
                    <a:pt x="203" y="296"/>
                  </a:lnTo>
                  <a:lnTo>
                    <a:pt x="197" y="298"/>
                  </a:lnTo>
                  <a:lnTo>
                    <a:pt x="189" y="300"/>
                  </a:lnTo>
                  <a:lnTo>
                    <a:pt x="182" y="300"/>
                  </a:lnTo>
                  <a:lnTo>
                    <a:pt x="174" y="300"/>
                  </a:lnTo>
                  <a:lnTo>
                    <a:pt x="166" y="300"/>
                  </a:lnTo>
                  <a:lnTo>
                    <a:pt x="157" y="298"/>
                  </a:lnTo>
                  <a:lnTo>
                    <a:pt x="145" y="296"/>
                  </a:lnTo>
                  <a:lnTo>
                    <a:pt x="134" y="292"/>
                  </a:lnTo>
                  <a:lnTo>
                    <a:pt x="128" y="291"/>
                  </a:lnTo>
                  <a:lnTo>
                    <a:pt x="122" y="287"/>
                  </a:lnTo>
                  <a:lnTo>
                    <a:pt x="119" y="285"/>
                  </a:lnTo>
                  <a:lnTo>
                    <a:pt x="113" y="283"/>
                  </a:lnTo>
                  <a:lnTo>
                    <a:pt x="109" y="279"/>
                  </a:lnTo>
                  <a:lnTo>
                    <a:pt x="107" y="277"/>
                  </a:lnTo>
                  <a:lnTo>
                    <a:pt x="103" y="275"/>
                  </a:lnTo>
                  <a:lnTo>
                    <a:pt x="101" y="272"/>
                  </a:lnTo>
                  <a:lnTo>
                    <a:pt x="98" y="266"/>
                  </a:lnTo>
                  <a:lnTo>
                    <a:pt x="94" y="258"/>
                  </a:lnTo>
                  <a:lnTo>
                    <a:pt x="92" y="251"/>
                  </a:lnTo>
                  <a:lnTo>
                    <a:pt x="90" y="243"/>
                  </a:lnTo>
                  <a:lnTo>
                    <a:pt x="88" y="239"/>
                  </a:lnTo>
                  <a:lnTo>
                    <a:pt x="88" y="237"/>
                  </a:lnTo>
                  <a:lnTo>
                    <a:pt x="86" y="237"/>
                  </a:lnTo>
                  <a:lnTo>
                    <a:pt x="86" y="237"/>
                  </a:lnTo>
                  <a:lnTo>
                    <a:pt x="86" y="237"/>
                  </a:lnTo>
                  <a:lnTo>
                    <a:pt x="84" y="237"/>
                  </a:lnTo>
                  <a:lnTo>
                    <a:pt x="84" y="239"/>
                  </a:lnTo>
                  <a:lnTo>
                    <a:pt x="82" y="241"/>
                  </a:lnTo>
                  <a:lnTo>
                    <a:pt x="82" y="245"/>
                  </a:lnTo>
                  <a:lnTo>
                    <a:pt x="80" y="249"/>
                  </a:lnTo>
                  <a:lnTo>
                    <a:pt x="79" y="254"/>
                  </a:lnTo>
                  <a:lnTo>
                    <a:pt x="77" y="262"/>
                  </a:lnTo>
                  <a:lnTo>
                    <a:pt x="75" y="270"/>
                  </a:lnTo>
                  <a:lnTo>
                    <a:pt x="73" y="275"/>
                  </a:lnTo>
                  <a:lnTo>
                    <a:pt x="71" y="281"/>
                  </a:lnTo>
                  <a:lnTo>
                    <a:pt x="69" y="287"/>
                  </a:lnTo>
                  <a:lnTo>
                    <a:pt x="69" y="291"/>
                  </a:lnTo>
                  <a:lnTo>
                    <a:pt x="67" y="294"/>
                  </a:lnTo>
                  <a:lnTo>
                    <a:pt x="63" y="296"/>
                  </a:lnTo>
                  <a:lnTo>
                    <a:pt x="61" y="298"/>
                  </a:lnTo>
                  <a:lnTo>
                    <a:pt x="59" y="296"/>
                  </a:lnTo>
                  <a:lnTo>
                    <a:pt x="58" y="296"/>
                  </a:lnTo>
                  <a:lnTo>
                    <a:pt x="56" y="294"/>
                  </a:lnTo>
                  <a:lnTo>
                    <a:pt x="54" y="291"/>
                  </a:lnTo>
                  <a:lnTo>
                    <a:pt x="52" y="287"/>
                  </a:lnTo>
                  <a:lnTo>
                    <a:pt x="52" y="283"/>
                  </a:lnTo>
                  <a:lnTo>
                    <a:pt x="50" y="279"/>
                  </a:lnTo>
                  <a:lnTo>
                    <a:pt x="50" y="273"/>
                  </a:lnTo>
                  <a:lnTo>
                    <a:pt x="50" y="270"/>
                  </a:lnTo>
                  <a:lnTo>
                    <a:pt x="52" y="264"/>
                  </a:lnTo>
                  <a:lnTo>
                    <a:pt x="52" y="260"/>
                  </a:lnTo>
                  <a:lnTo>
                    <a:pt x="56" y="256"/>
                  </a:lnTo>
                  <a:lnTo>
                    <a:pt x="58" y="249"/>
                  </a:lnTo>
                  <a:lnTo>
                    <a:pt x="59" y="245"/>
                  </a:lnTo>
                  <a:lnTo>
                    <a:pt x="59" y="243"/>
                  </a:lnTo>
                  <a:lnTo>
                    <a:pt x="59" y="239"/>
                  </a:lnTo>
                  <a:lnTo>
                    <a:pt x="59" y="235"/>
                  </a:lnTo>
                  <a:lnTo>
                    <a:pt x="61" y="232"/>
                  </a:lnTo>
                  <a:lnTo>
                    <a:pt x="63" y="228"/>
                  </a:lnTo>
                  <a:lnTo>
                    <a:pt x="63" y="228"/>
                  </a:lnTo>
                  <a:lnTo>
                    <a:pt x="65" y="228"/>
                  </a:lnTo>
                  <a:lnTo>
                    <a:pt x="65" y="228"/>
                  </a:lnTo>
                  <a:lnTo>
                    <a:pt x="67" y="228"/>
                  </a:lnTo>
                  <a:lnTo>
                    <a:pt x="67" y="230"/>
                  </a:lnTo>
                  <a:lnTo>
                    <a:pt x="69" y="232"/>
                  </a:lnTo>
                  <a:lnTo>
                    <a:pt x="69" y="234"/>
                  </a:lnTo>
                  <a:lnTo>
                    <a:pt x="69" y="235"/>
                  </a:lnTo>
                  <a:lnTo>
                    <a:pt x="71" y="235"/>
                  </a:lnTo>
                  <a:lnTo>
                    <a:pt x="71" y="235"/>
                  </a:lnTo>
                  <a:lnTo>
                    <a:pt x="73" y="235"/>
                  </a:lnTo>
                  <a:lnTo>
                    <a:pt x="75" y="234"/>
                  </a:lnTo>
                  <a:lnTo>
                    <a:pt x="75" y="232"/>
                  </a:lnTo>
                  <a:lnTo>
                    <a:pt x="79" y="228"/>
                  </a:lnTo>
                  <a:lnTo>
                    <a:pt x="80" y="226"/>
                  </a:lnTo>
                  <a:lnTo>
                    <a:pt x="82" y="222"/>
                  </a:lnTo>
                  <a:lnTo>
                    <a:pt x="84" y="222"/>
                  </a:lnTo>
                  <a:lnTo>
                    <a:pt x="88" y="222"/>
                  </a:lnTo>
                  <a:lnTo>
                    <a:pt x="90" y="222"/>
                  </a:lnTo>
                  <a:lnTo>
                    <a:pt x="94" y="222"/>
                  </a:lnTo>
                  <a:lnTo>
                    <a:pt x="96" y="226"/>
                  </a:lnTo>
                  <a:lnTo>
                    <a:pt x="100" y="228"/>
                  </a:lnTo>
                  <a:lnTo>
                    <a:pt x="103" y="234"/>
                  </a:lnTo>
                  <a:lnTo>
                    <a:pt x="107" y="237"/>
                  </a:lnTo>
                  <a:lnTo>
                    <a:pt x="109" y="245"/>
                  </a:lnTo>
                  <a:lnTo>
                    <a:pt x="113" y="253"/>
                  </a:lnTo>
                  <a:lnTo>
                    <a:pt x="113" y="256"/>
                  </a:lnTo>
                  <a:lnTo>
                    <a:pt x="115" y="258"/>
                  </a:lnTo>
                  <a:lnTo>
                    <a:pt x="117" y="260"/>
                  </a:lnTo>
                  <a:lnTo>
                    <a:pt x="119" y="264"/>
                  </a:lnTo>
                  <a:lnTo>
                    <a:pt x="121" y="264"/>
                  </a:lnTo>
                  <a:lnTo>
                    <a:pt x="124" y="266"/>
                  </a:lnTo>
                  <a:lnTo>
                    <a:pt x="130" y="268"/>
                  </a:lnTo>
                  <a:lnTo>
                    <a:pt x="136" y="272"/>
                  </a:lnTo>
                  <a:lnTo>
                    <a:pt x="143" y="273"/>
                  </a:lnTo>
                  <a:lnTo>
                    <a:pt x="149" y="273"/>
                  </a:lnTo>
                  <a:lnTo>
                    <a:pt x="155" y="275"/>
                  </a:lnTo>
                  <a:lnTo>
                    <a:pt x="163" y="275"/>
                  </a:lnTo>
                  <a:lnTo>
                    <a:pt x="166" y="275"/>
                  </a:lnTo>
                  <a:lnTo>
                    <a:pt x="170" y="275"/>
                  </a:lnTo>
                  <a:lnTo>
                    <a:pt x="174" y="275"/>
                  </a:lnTo>
                  <a:lnTo>
                    <a:pt x="176" y="275"/>
                  </a:lnTo>
                  <a:lnTo>
                    <a:pt x="176" y="273"/>
                  </a:lnTo>
                  <a:lnTo>
                    <a:pt x="178" y="272"/>
                  </a:lnTo>
                  <a:lnTo>
                    <a:pt x="176" y="272"/>
                  </a:lnTo>
                  <a:lnTo>
                    <a:pt x="176" y="270"/>
                  </a:lnTo>
                  <a:lnTo>
                    <a:pt x="174" y="268"/>
                  </a:lnTo>
                  <a:lnTo>
                    <a:pt x="172" y="264"/>
                  </a:lnTo>
                  <a:lnTo>
                    <a:pt x="170" y="260"/>
                  </a:lnTo>
                  <a:lnTo>
                    <a:pt x="168" y="256"/>
                  </a:lnTo>
                  <a:lnTo>
                    <a:pt x="164" y="253"/>
                  </a:lnTo>
                  <a:lnTo>
                    <a:pt x="161" y="249"/>
                  </a:lnTo>
                  <a:lnTo>
                    <a:pt x="157" y="253"/>
                  </a:lnTo>
                  <a:lnTo>
                    <a:pt x="155" y="254"/>
                  </a:lnTo>
                  <a:lnTo>
                    <a:pt x="155" y="256"/>
                  </a:lnTo>
                  <a:lnTo>
                    <a:pt x="153" y="258"/>
                  </a:lnTo>
                  <a:lnTo>
                    <a:pt x="151" y="258"/>
                  </a:lnTo>
                  <a:lnTo>
                    <a:pt x="149" y="260"/>
                  </a:lnTo>
                  <a:lnTo>
                    <a:pt x="147" y="260"/>
                  </a:lnTo>
                  <a:lnTo>
                    <a:pt x="145" y="260"/>
                  </a:lnTo>
                  <a:lnTo>
                    <a:pt x="143" y="258"/>
                  </a:lnTo>
                  <a:lnTo>
                    <a:pt x="140" y="256"/>
                  </a:lnTo>
                  <a:lnTo>
                    <a:pt x="138" y="253"/>
                  </a:lnTo>
                  <a:lnTo>
                    <a:pt x="134" y="249"/>
                  </a:lnTo>
                  <a:lnTo>
                    <a:pt x="130" y="245"/>
                  </a:lnTo>
                  <a:lnTo>
                    <a:pt x="130" y="241"/>
                  </a:lnTo>
                  <a:lnTo>
                    <a:pt x="130" y="239"/>
                  </a:lnTo>
                  <a:lnTo>
                    <a:pt x="130" y="235"/>
                  </a:lnTo>
                  <a:lnTo>
                    <a:pt x="130" y="232"/>
                  </a:lnTo>
                  <a:lnTo>
                    <a:pt x="128" y="228"/>
                  </a:lnTo>
                  <a:lnTo>
                    <a:pt x="128" y="224"/>
                  </a:lnTo>
                  <a:lnTo>
                    <a:pt x="126" y="222"/>
                  </a:lnTo>
                  <a:lnTo>
                    <a:pt x="124" y="218"/>
                  </a:lnTo>
                  <a:lnTo>
                    <a:pt x="119" y="218"/>
                  </a:lnTo>
                  <a:lnTo>
                    <a:pt x="115" y="218"/>
                  </a:lnTo>
                  <a:lnTo>
                    <a:pt x="107" y="220"/>
                  </a:lnTo>
                  <a:lnTo>
                    <a:pt x="101" y="220"/>
                  </a:lnTo>
                  <a:lnTo>
                    <a:pt x="98" y="220"/>
                  </a:lnTo>
                  <a:lnTo>
                    <a:pt x="96" y="220"/>
                  </a:lnTo>
                  <a:lnTo>
                    <a:pt x="94" y="220"/>
                  </a:lnTo>
                  <a:lnTo>
                    <a:pt x="90" y="218"/>
                  </a:lnTo>
                  <a:lnTo>
                    <a:pt x="88" y="218"/>
                  </a:lnTo>
                  <a:lnTo>
                    <a:pt x="86" y="215"/>
                  </a:lnTo>
                  <a:lnTo>
                    <a:pt x="84" y="213"/>
                  </a:lnTo>
                  <a:lnTo>
                    <a:pt x="82" y="209"/>
                  </a:lnTo>
                  <a:lnTo>
                    <a:pt x="80" y="203"/>
                  </a:lnTo>
                  <a:lnTo>
                    <a:pt x="79" y="197"/>
                  </a:lnTo>
                  <a:lnTo>
                    <a:pt x="75" y="186"/>
                  </a:lnTo>
                  <a:lnTo>
                    <a:pt x="75" y="178"/>
                  </a:lnTo>
                  <a:lnTo>
                    <a:pt x="73" y="173"/>
                  </a:lnTo>
                  <a:lnTo>
                    <a:pt x="73" y="169"/>
                  </a:lnTo>
                  <a:lnTo>
                    <a:pt x="73" y="163"/>
                  </a:lnTo>
                  <a:lnTo>
                    <a:pt x="73" y="159"/>
                  </a:lnTo>
                  <a:lnTo>
                    <a:pt x="73" y="156"/>
                  </a:lnTo>
                  <a:lnTo>
                    <a:pt x="75" y="150"/>
                  </a:lnTo>
                  <a:lnTo>
                    <a:pt x="79" y="146"/>
                  </a:lnTo>
                  <a:lnTo>
                    <a:pt x="71" y="148"/>
                  </a:lnTo>
                  <a:lnTo>
                    <a:pt x="63" y="150"/>
                  </a:lnTo>
                  <a:lnTo>
                    <a:pt x="58" y="154"/>
                  </a:lnTo>
                  <a:lnTo>
                    <a:pt x="54" y="156"/>
                  </a:lnTo>
                  <a:lnTo>
                    <a:pt x="48" y="158"/>
                  </a:lnTo>
                  <a:lnTo>
                    <a:pt x="44" y="158"/>
                  </a:lnTo>
                  <a:lnTo>
                    <a:pt x="40" y="159"/>
                  </a:lnTo>
                  <a:lnTo>
                    <a:pt x="38" y="161"/>
                  </a:lnTo>
                  <a:lnTo>
                    <a:pt x="35" y="161"/>
                  </a:lnTo>
                  <a:lnTo>
                    <a:pt x="29" y="163"/>
                  </a:lnTo>
                  <a:lnTo>
                    <a:pt x="25" y="163"/>
                  </a:lnTo>
                  <a:lnTo>
                    <a:pt x="23" y="163"/>
                  </a:lnTo>
                  <a:lnTo>
                    <a:pt x="19" y="163"/>
                  </a:lnTo>
                  <a:lnTo>
                    <a:pt x="16" y="161"/>
                  </a:lnTo>
                  <a:lnTo>
                    <a:pt x="12" y="159"/>
                  </a:lnTo>
                  <a:lnTo>
                    <a:pt x="8" y="158"/>
                  </a:lnTo>
                  <a:lnTo>
                    <a:pt x="4" y="156"/>
                  </a:lnTo>
                  <a:lnTo>
                    <a:pt x="2" y="152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2" y="146"/>
                  </a:lnTo>
                  <a:lnTo>
                    <a:pt x="2" y="144"/>
                  </a:lnTo>
                  <a:lnTo>
                    <a:pt x="4" y="144"/>
                  </a:lnTo>
                  <a:lnTo>
                    <a:pt x="6" y="144"/>
                  </a:lnTo>
                  <a:lnTo>
                    <a:pt x="10" y="142"/>
                  </a:lnTo>
                  <a:lnTo>
                    <a:pt x="12" y="142"/>
                  </a:lnTo>
                  <a:lnTo>
                    <a:pt x="16" y="142"/>
                  </a:lnTo>
                  <a:lnTo>
                    <a:pt x="19" y="140"/>
                  </a:lnTo>
                  <a:lnTo>
                    <a:pt x="25" y="140"/>
                  </a:lnTo>
                  <a:lnTo>
                    <a:pt x="31" y="139"/>
                  </a:lnTo>
                  <a:lnTo>
                    <a:pt x="37" y="137"/>
                  </a:lnTo>
                  <a:lnTo>
                    <a:pt x="42" y="135"/>
                  </a:lnTo>
                  <a:lnTo>
                    <a:pt x="50" y="133"/>
                  </a:lnTo>
                  <a:lnTo>
                    <a:pt x="58" y="131"/>
                  </a:lnTo>
                  <a:lnTo>
                    <a:pt x="67" y="129"/>
                  </a:lnTo>
                  <a:lnTo>
                    <a:pt x="75" y="127"/>
                  </a:lnTo>
                  <a:lnTo>
                    <a:pt x="84" y="123"/>
                  </a:lnTo>
                  <a:lnTo>
                    <a:pt x="96" y="121"/>
                  </a:lnTo>
                  <a:lnTo>
                    <a:pt x="105" y="118"/>
                  </a:lnTo>
                  <a:lnTo>
                    <a:pt x="111" y="114"/>
                  </a:lnTo>
                  <a:lnTo>
                    <a:pt x="117" y="112"/>
                  </a:lnTo>
                  <a:lnTo>
                    <a:pt x="122" y="108"/>
                  </a:lnTo>
                  <a:lnTo>
                    <a:pt x="126" y="106"/>
                  </a:lnTo>
                  <a:lnTo>
                    <a:pt x="130" y="102"/>
                  </a:lnTo>
                  <a:lnTo>
                    <a:pt x="134" y="101"/>
                  </a:lnTo>
                  <a:lnTo>
                    <a:pt x="136" y="99"/>
                  </a:lnTo>
                  <a:lnTo>
                    <a:pt x="140" y="97"/>
                  </a:lnTo>
                  <a:lnTo>
                    <a:pt x="142" y="93"/>
                  </a:lnTo>
                  <a:lnTo>
                    <a:pt x="143" y="91"/>
                  </a:lnTo>
                  <a:lnTo>
                    <a:pt x="145" y="89"/>
                  </a:lnTo>
                  <a:lnTo>
                    <a:pt x="145" y="87"/>
                  </a:lnTo>
                  <a:lnTo>
                    <a:pt x="145" y="85"/>
                  </a:lnTo>
                  <a:lnTo>
                    <a:pt x="143" y="85"/>
                  </a:lnTo>
                  <a:lnTo>
                    <a:pt x="142" y="85"/>
                  </a:lnTo>
                  <a:lnTo>
                    <a:pt x="138" y="87"/>
                  </a:lnTo>
                  <a:lnTo>
                    <a:pt x="132" y="91"/>
                  </a:lnTo>
                  <a:lnTo>
                    <a:pt x="124" y="95"/>
                  </a:lnTo>
                  <a:lnTo>
                    <a:pt x="117" y="101"/>
                  </a:lnTo>
                  <a:lnTo>
                    <a:pt x="109" y="104"/>
                  </a:lnTo>
                  <a:lnTo>
                    <a:pt x="96" y="116"/>
                  </a:lnTo>
                  <a:lnTo>
                    <a:pt x="92" y="118"/>
                  </a:lnTo>
                  <a:lnTo>
                    <a:pt x="88" y="118"/>
                  </a:lnTo>
                  <a:lnTo>
                    <a:pt x="84" y="118"/>
                  </a:lnTo>
                  <a:lnTo>
                    <a:pt x="82" y="116"/>
                  </a:lnTo>
                  <a:lnTo>
                    <a:pt x="80" y="112"/>
                  </a:lnTo>
                  <a:lnTo>
                    <a:pt x="80" y="106"/>
                  </a:lnTo>
                  <a:lnTo>
                    <a:pt x="80" y="102"/>
                  </a:lnTo>
                  <a:lnTo>
                    <a:pt x="80" y="99"/>
                  </a:lnTo>
                  <a:lnTo>
                    <a:pt x="82" y="97"/>
                  </a:lnTo>
                  <a:lnTo>
                    <a:pt x="82" y="93"/>
                  </a:lnTo>
                  <a:lnTo>
                    <a:pt x="82" y="89"/>
                  </a:lnTo>
                  <a:lnTo>
                    <a:pt x="84" y="85"/>
                  </a:lnTo>
                  <a:lnTo>
                    <a:pt x="86" y="83"/>
                  </a:lnTo>
                  <a:lnTo>
                    <a:pt x="86" y="82"/>
                  </a:lnTo>
                  <a:lnTo>
                    <a:pt x="88" y="80"/>
                  </a:lnTo>
                  <a:lnTo>
                    <a:pt x="92" y="80"/>
                  </a:lnTo>
                  <a:lnTo>
                    <a:pt x="94" y="80"/>
                  </a:lnTo>
                  <a:lnTo>
                    <a:pt x="98" y="80"/>
                  </a:lnTo>
                  <a:lnTo>
                    <a:pt x="100" y="80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76"/>
                  </a:lnTo>
                  <a:lnTo>
                    <a:pt x="98" y="76"/>
                  </a:lnTo>
                  <a:lnTo>
                    <a:pt x="96" y="74"/>
                  </a:lnTo>
                  <a:lnTo>
                    <a:pt x="94" y="72"/>
                  </a:lnTo>
                  <a:lnTo>
                    <a:pt x="90" y="70"/>
                  </a:lnTo>
                  <a:lnTo>
                    <a:pt x="88" y="66"/>
                  </a:lnTo>
                  <a:lnTo>
                    <a:pt x="84" y="63"/>
                  </a:lnTo>
                  <a:lnTo>
                    <a:pt x="80" y="59"/>
                  </a:lnTo>
                  <a:lnTo>
                    <a:pt x="79" y="55"/>
                  </a:lnTo>
                  <a:lnTo>
                    <a:pt x="79" y="53"/>
                  </a:lnTo>
                  <a:lnTo>
                    <a:pt x="77" y="51"/>
                  </a:lnTo>
                  <a:lnTo>
                    <a:pt x="77" y="49"/>
                  </a:lnTo>
                  <a:lnTo>
                    <a:pt x="79" y="47"/>
                  </a:lnTo>
                  <a:lnTo>
                    <a:pt x="80" y="47"/>
                  </a:lnTo>
                  <a:lnTo>
                    <a:pt x="82" y="47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8" y="45"/>
                  </a:lnTo>
                  <a:lnTo>
                    <a:pt x="109" y="44"/>
                  </a:lnTo>
                  <a:lnTo>
                    <a:pt x="121" y="42"/>
                  </a:lnTo>
                  <a:lnTo>
                    <a:pt x="134" y="38"/>
                  </a:lnTo>
                  <a:lnTo>
                    <a:pt x="128" y="36"/>
                  </a:lnTo>
                  <a:lnTo>
                    <a:pt x="122" y="36"/>
                  </a:lnTo>
                  <a:lnTo>
                    <a:pt x="121" y="34"/>
                  </a:lnTo>
                  <a:lnTo>
                    <a:pt x="121" y="32"/>
                  </a:lnTo>
                  <a:lnTo>
                    <a:pt x="121" y="32"/>
                  </a:lnTo>
                  <a:lnTo>
                    <a:pt x="122" y="28"/>
                  </a:lnTo>
                  <a:lnTo>
                    <a:pt x="124" y="25"/>
                  </a:lnTo>
                  <a:lnTo>
                    <a:pt x="126" y="2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122" y="15"/>
                  </a:lnTo>
                  <a:lnTo>
                    <a:pt x="121" y="13"/>
                  </a:lnTo>
                  <a:lnTo>
                    <a:pt x="119" y="9"/>
                  </a:lnTo>
                  <a:lnTo>
                    <a:pt x="117" y="6"/>
                  </a:lnTo>
                  <a:lnTo>
                    <a:pt x="115" y="4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2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2" y="2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3" y="2"/>
                  </a:lnTo>
                  <a:lnTo>
                    <a:pt x="147" y="4"/>
                  </a:lnTo>
                  <a:lnTo>
                    <a:pt x="151" y="6"/>
                  </a:lnTo>
                  <a:lnTo>
                    <a:pt x="155" y="9"/>
                  </a:lnTo>
                  <a:lnTo>
                    <a:pt x="157" y="11"/>
                  </a:lnTo>
                  <a:lnTo>
                    <a:pt x="159" y="17"/>
                  </a:lnTo>
                  <a:lnTo>
                    <a:pt x="161" y="23"/>
                  </a:lnTo>
                  <a:lnTo>
                    <a:pt x="163" y="28"/>
                  </a:lnTo>
                  <a:lnTo>
                    <a:pt x="168" y="28"/>
                  </a:lnTo>
                  <a:lnTo>
                    <a:pt x="172" y="28"/>
                  </a:lnTo>
                  <a:lnTo>
                    <a:pt x="176" y="30"/>
                  </a:lnTo>
                  <a:lnTo>
                    <a:pt x="180" y="32"/>
                  </a:lnTo>
                  <a:lnTo>
                    <a:pt x="182" y="36"/>
                  </a:lnTo>
                  <a:lnTo>
                    <a:pt x="184" y="38"/>
                  </a:lnTo>
                  <a:lnTo>
                    <a:pt x="185" y="40"/>
                  </a:lnTo>
                  <a:lnTo>
                    <a:pt x="185" y="42"/>
                  </a:lnTo>
                  <a:lnTo>
                    <a:pt x="185" y="44"/>
                  </a:lnTo>
                  <a:lnTo>
                    <a:pt x="184" y="45"/>
                  </a:lnTo>
                  <a:lnTo>
                    <a:pt x="182" y="49"/>
                  </a:lnTo>
                  <a:lnTo>
                    <a:pt x="180" y="51"/>
                  </a:lnTo>
                  <a:lnTo>
                    <a:pt x="178" y="53"/>
                  </a:lnTo>
                  <a:lnTo>
                    <a:pt x="172" y="57"/>
                  </a:lnTo>
                  <a:lnTo>
                    <a:pt x="168" y="57"/>
                  </a:lnTo>
                  <a:lnTo>
                    <a:pt x="166" y="59"/>
                  </a:lnTo>
                  <a:lnTo>
                    <a:pt x="164" y="59"/>
                  </a:lnTo>
                  <a:lnTo>
                    <a:pt x="163" y="61"/>
                  </a:lnTo>
                  <a:lnTo>
                    <a:pt x="161" y="63"/>
                  </a:lnTo>
                  <a:lnTo>
                    <a:pt x="161" y="66"/>
                  </a:lnTo>
                  <a:lnTo>
                    <a:pt x="168" y="70"/>
                  </a:lnTo>
                  <a:lnTo>
                    <a:pt x="170" y="72"/>
                  </a:lnTo>
                  <a:lnTo>
                    <a:pt x="174" y="74"/>
                  </a:lnTo>
                  <a:lnTo>
                    <a:pt x="176" y="76"/>
                  </a:lnTo>
                  <a:lnTo>
                    <a:pt x="176" y="80"/>
                  </a:lnTo>
                  <a:lnTo>
                    <a:pt x="178" y="82"/>
                  </a:lnTo>
                  <a:lnTo>
                    <a:pt x="178" y="85"/>
                  </a:lnTo>
                  <a:lnTo>
                    <a:pt x="178" y="87"/>
                  </a:lnTo>
                  <a:lnTo>
                    <a:pt x="176" y="91"/>
                  </a:lnTo>
                  <a:lnTo>
                    <a:pt x="176" y="93"/>
                  </a:lnTo>
                  <a:lnTo>
                    <a:pt x="174" y="97"/>
                  </a:lnTo>
                  <a:lnTo>
                    <a:pt x="168" y="101"/>
                  </a:lnTo>
                  <a:lnTo>
                    <a:pt x="163" y="106"/>
                  </a:lnTo>
                  <a:lnTo>
                    <a:pt x="170" y="104"/>
                  </a:lnTo>
                  <a:lnTo>
                    <a:pt x="176" y="102"/>
                  </a:lnTo>
                  <a:lnTo>
                    <a:pt x="182" y="102"/>
                  </a:lnTo>
                  <a:lnTo>
                    <a:pt x="187" y="101"/>
                  </a:lnTo>
                  <a:lnTo>
                    <a:pt x="191" y="101"/>
                  </a:lnTo>
                  <a:lnTo>
                    <a:pt x="197" y="99"/>
                  </a:lnTo>
                  <a:lnTo>
                    <a:pt x="199" y="99"/>
                  </a:lnTo>
                  <a:lnTo>
                    <a:pt x="203" y="99"/>
                  </a:lnTo>
                  <a:lnTo>
                    <a:pt x="208" y="99"/>
                  </a:lnTo>
                  <a:lnTo>
                    <a:pt x="212" y="101"/>
                  </a:lnTo>
                  <a:lnTo>
                    <a:pt x="216" y="102"/>
                  </a:lnTo>
                  <a:lnTo>
                    <a:pt x="220" y="104"/>
                  </a:lnTo>
                  <a:lnTo>
                    <a:pt x="224" y="108"/>
                  </a:lnTo>
                  <a:lnTo>
                    <a:pt x="226" y="110"/>
                  </a:lnTo>
                  <a:lnTo>
                    <a:pt x="226" y="112"/>
                  </a:lnTo>
                  <a:lnTo>
                    <a:pt x="227" y="114"/>
                  </a:lnTo>
                  <a:lnTo>
                    <a:pt x="226" y="116"/>
                  </a:lnTo>
                  <a:lnTo>
                    <a:pt x="226" y="116"/>
                  </a:lnTo>
                  <a:lnTo>
                    <a:pt x="224" y="118"/>
                  </a:lnTo>
                  <a:lnTo>
                    <a:pt x="222" y="118"/>
                  </a:lnTo>
                  <a:lnTo>
                    <a:pt x="218" y="120"/>
                  </a:lnTo>
                  <a:lnTo>
                    <a:pt x="214" y="120"/>
                  </a:lnTo>
                  <a:lnTo>
                    <a:pt x="210" y="121"/>
                  </a:lnTo>
                  <a:lnTo>
                    <a:pt x="205" y="121"/>
                  </a:lnTo>
                  <a:lnTo>
                    <a:pt x="191" y="121"/>
                  </a:lnTo>
                  <a:lnTo>
                    <a:pt x="178" y="123"/>
                  </a:lnTo>
                  <a:lnTo>
                    <a:pt x="166" y="123"/>
                  </a:lnTo>
                  <a:lnTo>
                    <a:pt x="157" y="125"/>
                  </a:lnTo>
                  <a:lnTo>
                    <a:pt x="147" y="127"/>
                  </a:lnTo>
                  <a:lnTo>
                    <a:pt x="140" y="127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17" y="131"/>
                  </a:lnTo>
                  <a:lnTo>
                    <a:pt x="107" y="135"/>
                  </a:lnTo>
                  <a:lnTo>
                    <a:pt x="98" y="137"/>
                  </a:lnTo>
                  <a:lnTo>
                    <a:pt x="90" y="140"/>
                  </a:lnTo>
                  <a:lnTo>
                    <a:pt x="88" y="144"/>
                  </a:lnTo>
                  <a:lnTo>
                    <a:pt x="88" y="148"/>
                  </a:lnTo>
                  <a:lnTo>
                    <a:pt x="90" y="156"/>
                  </a:lnTo>
                  <a:lnTo>
                    <a:pt x="92" y="165"/>
                  </a:lnTo>
                  <a:lnTo>
                    <a:pt x="96" y="158"/>
                  </a:lnTo>
                  <a:lnTo>
                    <a:pt x="101" y="152"/>
                  </a:lnTo>
                  <a:lnTo>
                    <a:pt x="109" y="146"/>
                  </a:lnTo>
                  <a:lnTo>
                    <a:pt x="117" y="140"/>
                  </a:lnTo>
                  <a:lnTo>
                    <a:pt x="126" y="135"/>
                  </a:lnTo>
                  <a:lnTo>
                    <a:pt x="134" y="131"/>
                  </a:lnTo>
                  <a:lnTo>
                    <a:pt x="145" y="129"/>
                  </a:lnTo>
                  <a:lnTo>
                    <a:pt x="155" y="129"/>
                  </a:lnTo>
                  <a:lnTo>
                    <a:pt x="163" y="129"/>
                  </a:lnTo>
                  <a:lnTo>
                    <a:pt x="166" y="129"/>
                  </a:lnTo>
                  <a:lnTo>
                    <a:pt x="168" y="129"/>
                  </a:lnTo>
                  <a:lnTo>
                    <a:pt x="174" y="133"/>
                  </a:lnTo>
                  <a:lnTo>
                    <a:pt x="178" y="137"/>
                  </a:lnTo>
                  <a:lnTo>
                    <a:pt x="182" y="140"/>
                  </a:lnTo>
                  <a:lnTo>
                    <a:pt x="185" y="146"/>
                  </a:lnTo>
                  <a:lnTo>
                    <a:pt x="185" y="150"/>
                  </a:lnTo>
                  <a:lnTo>
                    <a:pt x="187" y="156"/>
                  </a:lnTo>
                  <a:lnTo>
                    <a:pt x="185" y="158"/>
                  </a:lnTo>
                  <a:lnTo>
                    <a:pt x="185" y="161"/>
                  </a:lnTo>
                  <a:lnTo>
                    <a:pt x="184" y="165"/>
                  </a:lnTo>
                  <a:lnTo>
                    <a:pt x="182" y="169"/>
                  </a:lnTo>
                  <a:lnTo>
                    <a:pt x="180" y="175"/>
                  </a:lnTo>
                  <a:lnTo>
                    <a:pt x="178" y="182"/>
                  </a:lnTo>
                  <a:lnTo>
                    <a:pt x="176" y="190"/>
                  </a:lnTo>
                  <a:lnTo>
                    <a:pt x="172" y="196"/>
                  </a:lnTo>
                  <a:lnTo>
                    <a:pt x="170" y="201"/>
                  </a:lnTo>
                  <a:lnTo>
                    <a:pt x="166" y="205"/>
                  </a:lnTo>
                  <a:lnTo>
                    <a:pt x="164" y="209"/>
                  </a:lnTo>
                  <a:lnTo>
                    <a:pt x="161" y="211"/>
                  </a:lnTo>
                  <a:lnTo>
                    <a:pt x="157" y="213"/>
                  </a:lnTo>
                  <a:lnTo>
                    <a:pt x="153" y="213"/>
                  </a:lnTo>
                  <a:lnTo>
                    <a:pt x="149" y="213"/>
                  </a:lnTo>
                  <a:lnTo>
                    <a:pt x="147" y="213"/>
                  </a:lnTo>
                  <a:lnTo>
                    <a:pt x="145" y="211"/>
                  </a:lnTo>
                  <a:lnTo>
                    <a:pt x="143" y="211"/>
                  </a:lnTo>
                  <a:lnTo>
                    <a:pt x="142" y="211"/>
                  </a:lnTo>
                  <a:lnTo>
                    <a:pt x="138" y="213"/>
                  </a:lnTo>
                  <a:lnTo>
                    <a:pt x="136" y="215"/>
                  </a:lnTo>
                  <a:lnTo>
                    <a:pt x="134" y="216"/>
                  </a:lnTo>
                  <a:lnTo>
                    <a:pt x="134" y="216"/>
                  </a:lnTo>
                  <a:close/>
                  <a:moveTo>
                    <a:pt x="149" y="190"/>
                  </a:moveTo>
                  <a:lnTo>
                    <a:pt x="151" y="190"/>
                  </a:lnTo>
                  <a:lnTo>
                    <a:pt x="151" y="188"/>
                  </a:lnTo>
                  <a:lnTo>
                    <a:pt x="155" y="184"/>
                  </a:lnTo>
                  <a:lnTo>
                    <a:pt x="157" y="180"/>
                  </a:lnTo>
                  <a:lnTo>
                    <a:pt x="157" y="177"/>
                  </a:lnTo>
                  <a:lnTo>
                    <a:pt x="159" y="171"/>
                  </a:lnTo>
                  <a:lnTo>
                    <a:pt x="161" y="163"/>
                  </a:lnTo>
                  <a:lnTo>
                    <a:pt x="161" y="158"/>
                  </a:lnTo>
                  <a:lnTo>
                    <a:pt x="163" y="152"/>
                  </a:lnTo>
                  <a:lnTo>
                    <a:pt x="163" y="148"/>
                  </a:lnTo>
                  <a:lnTo>
                    <a:pt x="163" y="146"/>
                  </a:lnTo>
                  <a:lnTo>
                    <a:pt x="163" y="142"/>
                  </a:lnTo>
                  <a:lnTo>
                    <a:pt x="163" y="142"/>
                  </a:lnTo>
                  <a:lnTo>
                    <a:pt x="161" y="142"/>
                  </a:lnTo>
                  <a:lnTo>
                    <a:pt x="157" y="142"/>
                  </a:lnTo>
                  <a:lnTo>
                    <a:pt x="155" y="144"/>
                  </a:lnTo>
                  <a:lnTo>
                    <a:pt x="153" y="146"/>
                  </a:lnTo>
                  <a:lnTo>
                    <a:pt x="143" y="150"/>
                  </a:lnTo>
                  <a:lnTo>
                    <a:pt x="136" y="154"/>
                  </a:lnTo>
                  <a:lnTo>
                    <a:pt x="126" y="156"/>
                  </a:lnTo>
                  <a:lnTo>
                    <a:pt x="119" y="158"/>
                  </a:lnTo>
                  <a:lnTo>
                    <a:pt x="113" y="158"/>
                  </a:lnTo>
                  <a:lnTo>
                    <a:pt x="109" y="159"/>
                  </a:lnTo>
                  <a:lnTo>
                    <a:pt x="105" y="161"/>
                  </a:lnTo>
                  <a:lnTo>
                    <a:pt x="103" y="163"/>
                  </a:lnTo>
                  <a:lnTo>
                    <a:pt x="100" y="167"/>
                  </a:lnTo>
                  <a:lnTo>
                    <a:pt x="98" y="171"/>
                  </a:lnTo>
                  <a:lnTo>
                    <a:pt x="96" y="177"/>
                  </a:lnTo>
                  <a:lnTo>
                    <a:pt x="96" y="182"/>
                  </a:lnTo>
                  <a:lnTo>
                    <a:pt x="96" y="186"/>
                  </a:lnTo>
                  <a:lnTo>
                    <a:pt x="96" y="190"/>
                  </a:lnTo>
                  <a:lnTo>
                    <a:pt x="96" y="192"/>
                  </a:lnTo>
                  <a:lnTo>
                    <a:pt x="98" y="192"/>
                  </a:lnTo>
                  <a:lnTo>
                    <a:pt x="100" y="192"/>
                  </a:lnTo>
                  <a:lnTo>
                    <a:pt x="101" y="190"/>
                  </a:lnTo>
                  <a:lnTo>
                    <a:pt x="105" y="190"/>
                  </a:lnTo>
                  <a:lnTo>
                    <a:pt x="107" y="188"/>
                  </a:lnTo>
                  <a:lnTo>
                    <a:pt x="107" y="186"/>
                  </a:lnTo>
                  <a:lnTo>
                    <a:pt x="109" y="186"/>
                  </a:lnTo>
                  <a:lnTo>
                    <a:pt x="109" y="184"/>
                  </a:lnTo>
                  <a:lnTo>
                    <a:pt x="109" y="184"/>
                  </a:lnTo>
                  <a:lnTo>
                    <a:pt x="107" y="182"/>
                  </a:lnTo>
                  <a:lnTo>
                    <a:pt x="105" y="178"/>
                  </a:lnTo>
                  <a:lnTo>
                    <a:pt x="103" y="175"/>
                  </a:lnTo>
                  <a:lnTo>
                    <a:pt x="101" y="173"/>
                  </a:lnTo>
                  <a:lnTo>
                    <a:pt x="101" y="173"/>
                  </a:lnTo>
                  <a:lnTo>
                    <a:pt x="101" y="171"/>
                  </a:lnTo>
                  <a:lnTo>
                    <a:pt x="103" y="169"/>
                  </a:lnTo>
                  <a:lnTo>
                    <a:pt x="105" y="169"/>
                  </a:lnTo>
                  <a:lnTo>
                    <a:pt x="107" y="167"/>
                  </a:lnTo>
                  <a:lnTo>
                    <a:pt x="113" y="165"/>
                  </a:lnTo>
                  <a:lnTo>
                    <a:pt x="119" y="163"/>
                  </a:lnTo>
                  <a:lnTo>
                    <a:pt x="124" y="161"/>
                  </a:lnTo>
                  <a:lnTo>
                    <a:pt x="132" y="158"/>
                  </a:lnTo>
                  <a:lnTo>
                    <a:pt x="134" y="158"/>
                  </a:lnTo>
                  <a:lnTo>
                    <a:pt x="136" y="158"/>
                  </a:lnTo>
                  <a:lnTo>
                    <a:pt x="140" y="158"/>
                  </a:lnTo>
                  <a:lnTo>
                    <a:pt x="142" y="158"/>
                  </a:lnTo>
                  <a:lnTo>
                    <a:pt x="145" y="159"/>
                  </a:lnTo>
                  <a:lnTo>
                    <a:pt x="147" y="161"/>
                  </a:lnTo>
                  <a:lnTo>
                    <a:pt x="149" y="165"/>
                  </a:lnTo>
                  <a:lnTo>
                    <a:pt x="151" y="167"/>
                  </a:lnTo>
                  <a:lnTo>
                    <a:pt x="153" y="169"/>
                  </a:lnTo>
                  <a:lnTo>
                    <a:pt x="153" y="171"/>
                  </a:lnTo>
                  <a:lnTo>
                    <a:pt x="153" y="173"/>
                  </a:lnTo>
                  <a:lnTo>
                    <a:pt x="151" y="175"/>
                  </a:lnTo>
                  <a:lnTo>
                    <a:pt x="147" y="177"/>
                  </a:lnTo>
                  <a:lnTo>
                    <a:pt x="143" y="178"/>
                  </a:lnTo>
                  <a:lnTo>
                    <a:pt x="134" y="182"/>
                  </a:lnTo>
                  <a:lnTo>
                    <a:pt x="130" y="184"/>
                  </a:lnTo>
                  <a:lnTo>
                    <a:pt x="126" y="186"/>
                  </a:lnTo>
                  <a:lnTo>
                    <a:pt x="119" y="192"/>
                  </a:lnTo>
                  <a:lnTo>
                    <a:pt x="117" y="196"/>
                  </a:lnTo>
                  <a:lnTo>
                    <a:pt x="115" y="197"/>
                  </a:lnTo>
                  <a:lnTo>
                    <a:pt x="122" y="194"/>
                  </a:lnTo>
                  <a:lnTo>
                    <a:pt x="128" y="192"/>
                  </a:lnTo>
                  <a:lnTo>
                    <a:pt x="136" y="190"/>
                  </a:lnTo>
                  <a:lnTo>
                    <a:pt x="142" y="190"/>
                  </a:lnTo>
                  <a:lnTo>
                    <a:pt x="145" y="190"/>
                  </a:lnTo>
                  <a:lnTo>
                    <a:pt x="149" y="190"/>
                  </a:lnTo>
                  <a:lnTo>
                    <a:pt x="149" y="190"/>
                  </a:lnTo>
                  <a:close/>
                </a:path>
              </a:pathLst>
            </a:custGeom>
            <a:solidFill>
              <a:srgbClr val="e5faff"/>
            </a:solidFill>
            <a:ln w="0">
              <a:noFill/>
            </a:ln>
            <a:effectLst>
              <a:outerShdw dist="117181" dir="19161632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496"/>
          <p:cNvGrpSpPr/>
          <p:nvPr/>
        </p:nvGrpSpPr>
        <p:grpSpPr>
          <a:xfrm>
            <a:off x="9901080" y="11255400"/>
            <a:ext cx="2192400" cy="1144440"/>
            <a:chOff x="9901080" y="11255400"/>
            <a:chExt cx="2192400" cy="1144440"/>
          </a:xfrm>
        </p:grpSpPr>
        <p:sp>
          <p:nvSpPr>
            <p:cNvPr id="681" name="Freeform 489"/>
            <p:cNvSpPr/>
            <p:nvPr/>
          </p:nvSpPr>
          <p:spPr>
            <a:xfrm>
              <a:off x="9901080" y="11255400"/>
              <a:ext cx="1162080" cy="1096920"/>
            </a:xfrm>
            <a:custGeom>
              <a:avLst/>
              <a:gdLst/>
              <a:ahLst/>
              <a:rect l="l" t="t" r="r" b="b"/>
              <a:pathLst>
                <a:path w="732" h="691">
                  <a:moveTo>
                    <a:pt x="382" y="143"/>
                  </a:moveTo>
                  <a:lnTo>
                    <a:pt x="409" y="161"/>
                  </a:lnTo>
                  <a:lnTo>
                    <a:pt x="423" y="167"/>
                  </a:lnTo>
                  <a:lnTo>
                    <a:pt x="437" y="179"/>
                  </a:lnTo>
                  <a:lnTo>
                    <a:pt x="450" y="191"/>
                  </a:lnTo>
                  <a:lnTo>
                    <a:pt x="464" y="197"/>
                  </a:lnTo>
                  <a:lnTo>
                    <a:pt x="473" y="209"/>
                  </a:lnTo>
                  <a:lnTo>
                    <a:pt x="482" y="221"/>
                  </a:lnTo>
                  <a:lnTo>
                    <a:pt x="491" y="226"/>
                  </a:lnTo>
                  <a:lnTo>
                    <a:pt x="496" y="232"/>
                  </a:lnTo>
                  <a:lnTo>
                    <a:pt x="505" y="238"/>
                  </a:lnTo>
                  <a:lnTo>
                    <a:pt x="509" y="250"/>
                  </a:lnTo>
                  <a:lnTo>
                    <a:pt x="518" y="256"/>
                  </a:lnTo>
                  <a:lnTo>
                    <a:pt x="532" y="262"/>
                  </a:lnTo>
                  <a:lnTo>
                    <a:pt x="541" y="274"/>
                  </a:lnTo>
                  <a:lnTo>
                    <a:pt x="555" y="280"/>
                  </a:lnTo>
                  <a:lnTo>
                    <a:pt x="568" y="292"/>
                  </a:lnTo>
                  <a:lnTo>
                    <a:pt x="582" y="304"/>
                  </a:lnTo>
                  <a:lnTo>
                    <a:pt x="600" y="316"/>
                  </a:lnTo>
                  <a:lnTo>
                    <a:pt x="618" y="328"/>
                  </a:lnTo>
                  <a:lnTo>
                    <a:pt x="636" y="340"/>
                  </a:lnTo>
                  <a:lnTo>
                    <a:pt x="659" y="352"/>
                  </a:lnTo>
                  <a:lnTo>
                    <a:pt x="682" y="364"/>
                  </a:lnTo>
                  <a:lnTo>
                    <a:pt x="705" y="381"/>
                  </a:lnTo>
                  <a:lnTo>
                    <a:pt x="714" y="387"/>
                  </a:lnTo>
                  <a:lnTo>
                    <a:pt x="718" y="387"/>
                  </a:lnTo>
                  <a:lnTo>
                    <a:pt x="723" y="393"/>
                  </a:lnTo>
                  <a:lnTo>
                    <a:pt x="723" y="399"/>
                  </a:lnTo>
                  <a:lnTo>
                    <a:pt x="727" y="399"/>
                  </a:lnTo>
                  <a:lnTo>
                    <a:pt x="732" y="405"/>
                  </a:lnTo>
                  <a:lnTo>
                    <a:pt x="732" y="405"/>
                  </a:lnTo>
                  <a:lnTo>
                    <a:pt x="732" y="411"/>
                  </a:lnTo>
                  <a:lnTo>
                    <a:pt x="732" y="411"/>
                  </a:lnTo>
                  <a:lnTo>
                    <a:pt x="732" y="411"/>
                  </a:lnTo>
                  <a:lnTo>
                    <a:pt x="727" y="417"/>
                  </a:lnTo>
                  <a:lnTo>
                    <a:pt x="727" y="417"/>
                  </a:lnTo>
                  <a:lnTo>
                    <a:pt x="723" y="417"/>
                  </a:lnTo>
                  <a:lnTo>
                    <a:pt x="718" y="423"/>
                  </a:lnTo>
                  <a:lnTo>
                    <a:pt x="714" y="423"/>
                  </a:lnTo>
                  <a:lnTo>
                    <a:pt x="709" y="423"/>
                  </a:lnTo>
                  <a:lnTo>
                    <a:pt x="700" y="423"/>
                  </a:lnTo>
                  <a:lnTo>
                    <a:pt x="695" y="423"/>
                  </a:lnTo>
                  <a:lnTo>
                    <a:pt x="686" y="423"/>
                  </a:lnTo>
                  <a:lnTo>
                    <a:pt x="677" y="429"/>
                  </a:lnTo>
                  <a:lnTo>
                    <a:pt x="668" y="429"/>
                  </a:lnTo>
                  <a:lnTo>
                    <a:pt x="659" y="429"/>
                  </a:lnTo>
                  <a:lnTo>
                    <a:pt x="650" y="429"/>
                  </a:lnTo>
                  <a:lnTo>
                    <a:pt x="636" y="429"/>
                  </a:lnTo>
                  <a:lnTo>
                    <a:pt x="623" y="429"/>
                  </a:lnTo>
                  <a:lnTo>
                    <a:pt x="605" y="423"/>
                  </a:lnTo>
                  <a:lnTo>
                    <a:pt x="591" y="417"/>
                  </a:lnTo>
                  <a:lnTo>
                    <a:pt x="577" y="405"/>
                  </a:lnTo>
                  <a:lnTo>
                    <a:pt x="568" y="399"/>
                  </a:lnTo>
                  <a:lnTo>
                    <a:pt x="559" y="387"/>
                  </a:lnTo>
                  <a:lnTo>
                    <a:pt x="550" y="381"/>
                  </a:lnTo>
                  <a:lnTo>
                    <a:pt x="541" y="370"/>
                  </a:lnTo>
                  <a:lnTo>
                    <a:pt x="527" y="358"/>
                  </a:lnTo>
                  <a:lnTo>
                    <a:pt x="518" y="340"/>
                  </a:lnTo>
                  <a:lnTo>
                    <a:pt x="505" y="328"/>
                  </a:lnTo>
                  <a:lnTo>
                    <a:pt x="496" y="310"/>
                  </a:lnTo>
                  <a:lnTo>
                    <a:pt x="482" y="292"/>
                  </a:lnTo>
                  <a:lnTo>
                    <a:pt x="468" y="280"/>
                  </a:lnTo>
                  <a:lnTo>
                    <a:pt x="459" y="262"/>
                  </a:lnTo>
                  <a:lnTo>
                    <a:pt x="446" y="250"/>
                  </a:lnTo>
                  <a:lnTo>
                    <a:pt x="437" y="238"/>
                  </a:lnTo>
                  <a:lnTo>
                    <a:pt x="427" y="232"/>
                  </a:lnTo>
                  <a:lnTo>
                    <a:pt x="423" y="226"/>
                  </a:lnTo>
                  <a:lnTo>
                    <a:pt x="414" y="221"/>
                  </a:lnTo>
                  <a:lnTo>
                    <a:pt x="400" y="209"/>
                  </a:lnTo>
                  <a:lnTo>
                    <a:pt x="382" y="203"/>
                  </a:lnTo>
                  <a:lnTo>
                    <a:pt x="364" y="203"/>
                  </a:lnTo>
                  <a:lnTo>
                    <a:pt x="350" y="197"/>
                  </a:lnTo>
                  <a:lnTo>
                    <a:pt x="328" y="238"/>
                  </a:lnTo>
                  <a:lnTo>
                    <a:pt x="309" y="274"/>
                  </a:lnTo>
                  <a:lnTo>
                    <a:pt x="287" y="304"/>
                  </a:lnTo>
                  <a:lnTo>
                    <a:pt x="264" y="334"/>
                  </a:lnTo>
                  <a:lnTo>
                    <a:pt x="287" y="328"/>
                  </a:lnTo>
                  <a:lnTo>
                    <a:pt x="305" y="322"/>
                  </a:lnTo>
                  <a:lnTo>
                    <a:pt x="323" y="322"/>
                  </a:lnTo>
                  <a:lnTo>
                    <a:pt x="341" y="316"/>
                  </a:lnTo>
                  <a:lnTo>
                    <a:pt x="350" y="310"/>
                  </a:lnTo>
                  <a:lnTo>
                    <a:pt x="364" y="310"/>
                  </a:lnTo>
                  <a:lnTo>
                    <a:pt x="368" y="304"/>
                  </a:lnTo>
                  <a:lnTo>
                    <a:pt x="377" y="298"/>
                  </a:lnTo>
                  <a:lnTo>
                    <a:pt x="382" y="292"/>
                  </a:lnTo>
                  <a:lnTo>
                    <a:pt x="387" y="292"/>
                  </a:lnTo>
                  <a:lnTo>
                    <a:pt x="391" y="292"/>
                  </a:lnTo>
                  <a:lnTo>
                    <a:pt x="400" y="286"/>
                  </a:lnTo>
                  <a:lnTo>
                    <a:pt x="405" y="292"/>
                  </a:lnTo>
                  <a:lnTo>
                    <a:pt x="418" y="292"/>
                  </a:lnTo>
                  <a:lnTo>
                    <a:pt x="427" y="292"/>
                  </a:lnTo>
                  <a:lnTo>
                    <a:pt x="437" y="298"/>
                  </a:lnTo>
                  <a:lnTo>
                    <a:pt x="446" y="304"/>
                  </a:lnTo>
                  <a:lnTo>
                    <a:pt x="450" y="304"/>
                  </a:lnTo>
                  <a:lnTo>
                    <a:pt x="450" y="310"/>
                  </a:lnTo>
                  <a:lnTo>
                    <a:pt x="455" y="316"/>
                  </a:lnTo>
                  <a:lnTo>
                    <a:pt x="459" y="316"/>
                  </a:lnTo>
                  <a:lnTo>
                    <a:pt x="459" y="322"/>
                  </a:lnTo>
                  <a:lnTo>
                    <a:pt x="459" y="334"/>
                  </a:lnTo>
                  <a:lnTo>
                    <a:pt x="459" y="340"/>
                  </a:lnTo>
                  <a:lnTo>
                    <a:pt x="459" y="346"/>
                  </a:lnTo>
                  <a:lnTo>
                    <a:pt x="455" y="352"/>
                  </a:lnTo>
                  <a:lnTo>
                    <a:pt x="455" y="358"/>
                  </a:lnTo>
                  <a:lnTo>
                    <a:pt x="450" y="358"/>
                  </a:lnTo>
                  <a:lnTo>
                    <a:pt x="446" y="364"/>
                  </a:lnTo>
                  <a:lnTo>
                    <a:pt x="437" y="364"/>
                  </a:lnTo>
                  <a:lnTo>
                    <a:pt x="432" y="364"/>
                  </a:lnTo>
                  <a:lnTo>
                    <a:pt x="418" y="370"/>
                  </a:lnTo>
                  <a:lnTo>
                    <a:pt x="409" y="370"/>
                  </a:lnTo>
                  <a:lnTo>
                    <a:pt x="405" y="375"/>
                  </a:lnTo>
                  <a:lnTo>
                    <a:pt x="396" y="381"/>
                  </a:lnTo>
                  <a:lnTo>
                    <a:pt x="387" y="387"/>
                  </a:lnTo>
                  <a:lnTo>
                    <a:pt x="373" y="393"/>
                  </a:lnTo>
                  <a:lnTo>
                    <a:pt x="364" y="399"/>
                  </a:lnTo>
                  <a:lnTo>
                    <a:pt x="350" y="405"/>
                  </a:lnTo>
                  <a:lnTo>
                    <a:pt x="346" y="405"/>
                  </a:lnTo>
                  <a:lnTo>
                    <a:pt x="337" y="405"/>
                  </a:lnTo>
                  <a:lnTo>
                    <a:pt x="323" y="405"/>
                  </a:lnTo>
                  <a:lnTo>
                    <a:pt x="309" y="399"/>
                  </a:lnTo>
                  <a:lnTo>
                    <a:pt x="296" y="405"/>
                  </a:lnTo>
                  <a:lnTo>
                    <a:pt x="291" y="405"/>
                  </a:lnTo>
                  <a:lnTo>
                    <a:pt x="282" y="405"/>
                  </a:lnTo>
                  <a:lnTo>
                    <a:pt x="278" y="405"/>
                  </a:lnTo>
                  <a:lnTo>
                    <a:pt x="278" y="405"/>
                  </a:lnTo>
                  <a:lnTo>
                    <a:pt x="278" y="405"/>
                  </a:lnTo>
                  <a:lnTo>
                    <a:pt x="273" y="405"/>
                  </a:lnTo>
                  <a:lnTo>
                    <a:pt x="273" y="405"/>
                  </a:lnTo>
                  <a:lnTo>
                    <a:pt x="273" y="405"/>
                  </a:lnTo>
                  <a:lnTo>
                    <a:pt x="278" y="405"/>
                  </a:lnTo>
                  <a:lnTo>
                    <a:pt x="278" y="399"/>
                  </a:lnTo>
                  <a:lnTo>
                    <a:pt x="282" y="399"/>
                  </a:lnTo>
                  <a:lnTo>
                    <a:pt x="287" y="393"/>
                  </a:lnTo>
                  <a:lnTo>
                    <a:pt x="287" y="393"/>
                  </a:lnTo>
                  <a:lnTo>
                    <a:pt x="291" y="387"/>
                  </a:lnTo>
                  <a:lnTo>
                    <a:pt x="291" y="381"/>
                  </a:lnTo>
                  <a:lnTo>
                    <a:pt x="291" y="381"/>
                  </a:lnTo>
                  <a:lnTo>
                    <a:pt x="287" y="381"/>
                  </a:lnTo>
                  <a:lnTo>
                    <a:pt x="278" y="375"/>
                  </a:lnTo>
                  <a:lnTo>
                    <a:pt x="264" y="370"/>
                  </a:lnTo>
                  <a:lnTo>
                    <a:pt x="255" y="364"/>
                  </a:lnTo>
                  <a:lnTo>
                    <a:pt x="246" y="352"/>
                  </a:lnTo>
                  <a:lnTo>
                    <a:pt x="228" y="375"/>
                  </a:lnTo>
                  <a:lnTo>
                    <a:pt x="214" y="393"/>
                  </a:lnTo>
                  <a:lnTo>
                    <a:pt x="196" y="405"/>
                  </a:lnTo>
                  <a:lnTo>
                    <a:pt x="178" y="423"/>
                  </a:lnTo>
                  <a:lnTo>
                    <a:pt x="178" y="435"/>
                  </a:lnTo>
                  <a:lnTo>
                    <a:pt x="173" y="453"/>
                  </a:lnTo>
                  <a:lnTo>
                    <a:pt x="169" y="465"/>
                  </a:lnTo>
                  <a:lnTo>
                    <a:pt x="164" y="483"/>
                  </a:lnTo>
                  <a:lnTo>
                    <a:pt x="159" y="501"/>
                  </a:lnTo>
                  <a:lnTo>
                    <a:pt x="150" y="524"/>
                  </a:lnTo>
                  <a:lnTo>
                    <a:pt x="146" y="548"/>
                  </a:lnTo>
                  <a:lnTo>
                    <a:pt x="137" y="566"/>
                  </a:lnTo>
                  <a:lnTo>
                    <a:pt x="132" y="590"/>
                  </a:lnTo>
                  <a:lnTo>
                    <a:pt x="123" y="614"/>
                  </a:lnTo>
                  <a:lnTo>
                    <a:pt x="119" y="632"/>
                  </a:lnTo>
                  <a:lnTo>
                    <a:pt x="114" y="644"/>
                  </a:lnTo>
                  <a:lnTo>
                    <a:pt x="109" y="656"/>
                  </a:lnTo>
                  <a:lnTo>
                    <a:pt x="105" y="667"/>
                  </a:lnTo>
                  <a:lnTo>
                    <a:pt x="100" y="673"/>
                  </a:lnTo>
                  <a:lnTo>
                    <a:pt x="100" y="679"/>
                  </a:lnTo>
                  <a:lnTo>
                    <a:pt x="96" y="685"/>
                  </a:lnTo>
                  <a:lnTo>
                    <a:pt x="91" y="685"/>
                  </a:lnTo>
                  <a:lnTo>
                    <a:pt x="91" y="685"/>
                  </a:lnTo>
                  <a:lnTo>
                    <a:pt x="87" y="691"/>
                  </a:lnTo>
                  <a:lnTo>
                    <a:pt x="82" y="691"/>
                  </a:lnTo>
                  <a:lnTo>
                    <a:pt x="78" y="685"/>
                  </a:lnTo>
                  <a:lnTo>
                    <a:pt x="78" y="685"/>
                  </a:lnTo>
                  <a:lnTo>
                    <a:pt x="73" y="679"/>
                  </a:lnTo>
                  <a:lnTo>
                    <a:pt x="69" y="673"/>
                  </a:lnTo>
                  <a:lnTo>
                    <a:pt x="64" y="667"/>
                  </a:lnTo>
                  <a:lnTo>
                    <a:pt x="60" y="650"/>
                  </a:lnTo>
                  <a:lnTo>
                    <a:pt x="60" y="644"/>
                  </a:lnTo>
                  <a:lnTo>
                    <a:pt x="55" y="638"/>
                  </a:lnTo>
                  <a:lnTo>
                    <a:pt x="50" y="626"/>
                  </a:lnTo>
                  <a:lnTo>
                    <a:pt x="50" y="620"/>
                  </a:lnTo>
                  <a:lnTo>
                    <a:pt x="46" y="614"/>
                  </a:lnTo>
                  <a:lnTo>
                    <a:pt x="46" y="608"/>
                  </a:lnTo>
                  <a:lnTo>
                    <a:pt x="41" y="602"/>
                  </a:lnTo>
                  <a:lnTo>
                    <a:pt x="41" y="596"/>
                  </a:lnTo>
                  <a:lnTo>
                    <a:pt x="41" y="596"/>
                  </a:lnTo>
                  <a:lnTo>
                    <a:pt x="41" y="590"/>
                  </a:lnTo>
                  <a:lnTo>
                    <a:pt x="41" y="584"/>
                  </a:lnTo>
                  <a:lnTo>
                    <a:pt x="46" y="572"/>
                  </a:lnTo>
                  <a:lnTo>
                    <a:pt x="50" y="560"/>
                  </a:lnTo>
                  <a:lnTo>
                    <a:pt x="55" y="554"/>
                  </a:lnTo>
                  <a:lnTo>
                    <a:pt x="64" y="542"/>
                  </a:lnTo>
                  <a:lnTo>
                    <a:pt x="69" y="530"/>
                  </a:lnTo>
                  <a:lnTo>
                    <a:pt x="73" y="518"/>
                  </a:lnTo>
                  <a:lnTo>
                    <a:pt x="82" y="507"/>
                  </a:lnTo>
                  <a:lnTo>
                    <a:pt x="87" y="489"/>
                  </a:lnTo>
                  <a:lnTo>
                    <a:pt x="87" y="477"/>
                  </a:lnTo>
                  <a:lnTo>
                    <a:pt x="91" y="465"/>
                  </a:lnTo>
                  <a:lnTo>
                    <a:pt x="91" y="459"/>
                  </a:lnTo>
                  <a:lnTo>
                    <a:pt x="91" y="447"/>
                  </a:lnTo>
                  <a:lnTo>
                    <a:pt x="87" y="447"/>
                  </a:lnTo>
                  <a:lnTo>
                    <a:pt x="82" y="441"/>
                  </a:lnTo>
                  <a:lnTo>
                    <a:pt x="78" y="441"/>
                  </a:lnTo>
                  <a:lnTo>
                    <a:pt x="64" y="453"/>
                  </a:lnTo>
                  <a:lnTo>
                    <a:pt x="55" y="465"/>
                  </a:lnTo>
                  <a:lnTo>
                    <a:pt x="50" y="477"/>
                  </a:lnTo>
                  <a:lnTo>
                    <a:pt x="41" y="483"/>
                  </a:lnTo>
                  <a:lnTo>
                    <a:pt x="41" y="489"/>
                  </a:lnTo>
                  <a:lnTo>
                    <a:pt x="37" y="489"/>
                  </a:lnTo>
                  <a:lnTo>
                    <a:pt x="32" y="489"/>
                  </a:lnTo>
                  <a:lnTo>
                    <a:pt x="32" y="483"/>
                  </a:lnTo>
                  <a:lnTo>
                    <a:pt x="28" y="477"/>
                  </a:lnTo>
                  <a:lnTo>
                    <a:pt x="23" y="471"/>
                  </a:lnTo>
                  <a:lnTo>
                    <a:pt x="23" y="465"/>
                  </a:lnTo>
                  <a:lnTo>
                    <a:pt x="19" y="453"/>
                  </a:lnTo>
                  <a:lnTo>
                    <a:pt x="19" y="441"/>
                  </a:lnTo>
                  <a:lnTo>
                    <a:pt x="19" y="429"/>
                  </a:lnTo>
                  <a:lnTo>
                    <a:pt x="19" y="417"/>
                  </a:lnTo>
                  <a:lnTo>
                    <a:pt x="23" y="399"/>
                  </a:lnTo>
                  <a:lnTo>
                    <a:pt x="28" y="387"/>
                  </a:lnTo>
                  <a:lnTo>
                    <a:pt x="37" y="381"/>
                  </a:lnTo>
                  <a:lnTo>
                    <a:pt x="46" y="370"/>
                  </a:lnTo>
                  <a:lnTo>
                    <a:pt x="50" y="364"/>
                  </a:lnTo>
                  <a:lnTo>
                    <a:pt x="60" y="352"/>
                  </a:lnTo>
                  <a:lnTo>
                    <a:pt x="69" y="340"/>
                  </a:lnTo>
                  <a:lnTo>
                    <a:pt x="78" y="328"/>
                  </a:lnTo>
                  <a:lnTo>
                    <a:pt x="82" y="322"/>
                  </a:lnTo>
                  <a:lnTo>
                    <a:pt x="82" y="310"/>
                  </a:lnTo>
                  <a:lnTo>
                    <a:pt x="87" y="304"/>
                  </a:lnTo>
                  <a:lnTo>
                    <a:pt x="82" y="298"/>
                  </a:lnTo>
                  <a:lnTo>
                    <a:pt x="82" y="298"/>
                  </a:lnTo>
                  <a:lnTo>
                    <a:pt x="78" y="292"/>
                  </a:lnTo>
                  <a:lnTo>
                    <a:pt x="69" y="292"/>
                  </a:lnTo>
                  <a:lnTo>
                    <a:pt x="60" y="304"/>
                  </a:lnTo>
                  <a:lnTo>
                    <a:pt x="46" y="316"/>
                  </a:lnTo>
                  <a:lnTo>
                    <a:pt x="32" y="322"/>
                  </a:lnTo>
                  <a:lnTo>
                    <a:pt x="23" y="322"/>
                  </a:lnTo>
                  <a:lnTo>
                    <a:pt x="19" y="322"/>
                  </a:lnTo>
                  <a:lnTo>
                    <a:pt x="14" y="316"/>
                  </a:lnTo>
                  <a:lnTo>
                    <a:pt x="10" y="316"/>
                  </a:lnTo>
                  <a:lnTo>
                    <a:pt x="5" y="310"/>
                  </a:lnTo>
                  <a:lnTo>
                    <a:pt x="5" y="304"/>
                  </a:lnTo>
                  <a:lnTo>
                    <a:pt x="0" y="292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56"/>
                  </a:lnTo>
                  <a:lnTo>
                    <a:pt x="5" y="238"/>
                  </a:lnTo>
                  <a:lnTo>
                    <a:pt x="5" y="232"/>
                  </a:lnTo>
                  <a:lnTo>
                    <a:pt x="5" y="221"/>
                  </a:lnTo>
                  <a:lnTo>
                    <a:pt x="10" y="215"/>
                  </a:lnTo>
                  <a:lnTo>
                    <a:pt x="10" y="209"/>
                  </a:lnTo>
                  <a:lnTo>
                    <a:pt x="14" y="203"/>
                  </a:lnTo>
                  <a:lnTo>
                    <a:pt x="19" y="197"/>
                  </a:lnTo>
                  <a:lnTo>
                    <a:pt x="23" y="197"/>
                  </a:lnTo>
                  <a:lnTo>
                    <a:pt x="28" y="197"/>
                  </a:lnTo>
                  <a:lnTo>
                    <a:pt x="32" y="197"/>
                  </a:lnTo>
                  <a:lnTo>
                    <a:pt x="41" y="197"/>
                  </a:lnTo>
                  <a:lnTo>
                    <a:pt x="46" y="197"/>
                  </a:lnTo>
                  <a:lnTo>
                    <a:pt x="50" y="197"/>
                  </a:lnTo>
                  <a:lnTo>
                    <a:pt x="55" y="191"/>
                  </a:lnTo>
                  <a:lnTo>
                    <a:pt x="64" y="185"/>
                  </a:lnTo>
                  <a:lnTo>
                    <a:pt x="73" y="179"/>
                  </a:lnTo>
                  <a:lnTo>
                    <a:pt x="78" y="167"/>
                  </a:lnTo>
                  <a:lnTo>
                    <a:pt x="91" y="155"/>
                  </a:lnTo>
                  <a:lnTo>
                    <a:pt x="100" y="143"/>
                  </a:lnTo>
                  <a:lnTo>
                    <a:pt x="109" y="131"/>
                  </a:lnTo>
                  <a:lnTo>
                    <a:pt x="119" y="119"/>
                  </a:lnTo>
                  <a:lnTo>
                    <a:pt x="128" y="107"/>
                  </a:lnTo>
                  <a:lnTo>
                    <a:pt x="132" y="95"/>
                  </a:lnTo>
                  <a:lnTo>
                    <a:pt x="137" y="89"/>
                  </a:lnTo>
                  <a:lnTo>
                    <a:pt x="141" y="77"/>
                  </a:lnTo>
                  <a:lnTo>
                    <a:pt x="146" y="72"/>
                  </a:lnTo>
                  <a:lnTo>
                    <a:pt x="146" y="66"/>
                  </a:lnTo>
                  <a:lnTo>
                    <a:pt x="146" y="60"/>
                  </a:lnTo>
                  <a:lnTo>
                    <a:pt x="141" y="60"/>
                  </a:lnTo>
                  <a:lnTo>
                    <a:pt x="141" y="54"/>
                  </a:lnTo>
                  <a:lnTo>
                    <a:pt x="137" y="54"/>
                  </a:lnTo>
                  <a:lnTo>
                    <a:pt x="137" y="48"/>
                  </a:lnTo>
                  <a:lnTo>
                    <a:pt x="132" y="48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36"/>
                  </a:lnTo>
                  <a:lnTo>
                    <a:pt x="137" y="36"/>
                  </a:lnTo>
                  <a:lnTo>
                    <a:pt x="141" y="36"/>
                  </a:lnTo>
                  <a:lnTo>
                    <a:pt x="146" y="36"/>
                  </a:lnTo>
                  <a:lnTo>
                    <a:pt x="159" y="36"/>
                  </a:lnTo>
                  <a:lnTo>
                    <a:pt x="173" y="42"/>
                  </a:lnTo>
                  <a:lnTo>
                    <a:pt x="187" y="48"/>
                  </a:lnTo>
                  <a:lnTo>
                    <a:pt x="205" y="54"/>
                  </a:lnTo>
                  <a:lnTo>
                    <a:pt x="209" y="60"/>
                  </a:lnTo>
                  <a:lnTo>
                    <a:pt x="214" y="66"/>
                  </a:lnTo>
                  <a:lnTo>
                    <a:pt x="218" y="72"/>
                  </a:lnTo>
                  <a:lnTo>
                    <a:pt x="223" y="77"/>
                  </a:lnTo>
                  <a:lnTo>
                    <a:pt x="228" y="83"/>
                  </a:lnTo>
                  <a:lnTo>
                    <a:pt x="228" y="89"/>
                  </a:lnTo>
                  <a:lnTo>
                    <a:pt x="232" y="95"/>
                  </a:lnTo>
                  <a:lnTo>
                    <a:pt x="232" y="101"/>
                  </a:lnTo>
                  <a:lnTo>
                    <a:pt x="232" y="113"/>
                  </a:lnTo>
                  <a:lnTo>
                    <a:pt x="228" y="125"/>
                  </a:lnTo>
                  <a:lnTo>
                    <a:pt x="218" y="137"/>
                  </a:lnTo>
                  <a:lnTo>
                    <a:pt x="209" y="149"/>
                  </a:lnTo>
                  <a:lnTo>
                    <a:pt x="205" y="161"/>
                  </a:lnTo>
                  <a:lnTo>
                    <a:pt x="200" y="167"/>
                  </a:lnTo>
                  <a:lnTo>
                    <a:pt x="191" y="179"/>
                  </a:lnTo>
                  <a:lnTo>
                    <a:pt x="182" y="185"/>
                  </a:lnTo>
                  <a:lnTo>
                    <a:pt x="173" y="197"/>
                  </a:lnTo>
                  <a:lnTo>
                    <a:pt x="164" y="209"/>
                  </a:lnTo>
                  <a:lnTo>
                    <a:pt x="150" y="221"/>
                  </a:lnTo>
                  <a:lnTo>
                    <a:pt x="137" y="232"/>
                  </a:lnTo>
                  <a:lnTo>
                    <a:pt x="150" y="244"/>
                  </a:lnTo>
                  <a:lnTo>
                    <a:pt x="159" y="250"/>
                  </a:lnTo>
                  <a:lnTo>
                    <a:pt x="169" y="262"/>
                  </a:lnTo>
                  <a:lnTo>
                    <a:pt x="173" y="268"/>
                  </a:lnTo>
                  <a:lnTo>
                    <a:pt x="178" y="274"/>
                  </a:lnTo>
                  <a:lnTo>
                    <a:pt x="182" y="286"/>
                  </a:lnTo>
                  <a:lnTo>
                    <a:pt x="182" y="292"/>
                  </a:lnTo>
                  <a:lnTo>
                    <a:pt x="187" y="298"/>
                  </a:lnTo>
                  <a:lnTo>
                    <a:pt x="187" y="304"/>
                  </a:lnTo>
                  <a:lnTo>
                    <a:pt x="182" y="310"/>
                  </a:lnTo>
                  <a:lnTo>
                    <a:pt x="182" y="316"/>
                  </a:lnTo>
                  <a:lnTo>
                    <a:pt x="178" y="322"/>
                  </a:lnTo>
                  <a:lnTo>
                    <a:pt x="173" y="328"/>
                  </a:lnTo>
                  <a:lnTo>
                    <a:pt x="173" y="334"/>
                  </a:lnTo>
                  <a:lnTo>
                    <a:pt x="164" y="340"/>
                  </a:lnTo>
                  <a:lnTo>
                    <a:pt x="159" y="346"/>
                  </a:lnTo>
                  <a:lnTo>
                    <a:pt x="150" y="358"/>
                  </a:lnTo>
                  <a:lnTo>
                    <a:pt x="141" y="370"/>
                  </a:lnTo>
                  <a:lnTo>
                    <a:pt x="128" y="381"/>
                  </a:lnTo>
                  <a:lnTo>
                    <a:pt x="114" y="399"/>
                  </a:lnTo>
                  <a:lnTo>
                    <a:pt x="128" y="411"/>
                  </a:lnTo>
                  <a:lnTo>
                    <a:pt x="132" y="423"/>
                  </a:lnTo>
                  <a:lnTo>
                    <a:pt x="141" y="435"/>
                  </a:lnTo>
                  <a:lnTo>
                    <a:pt x="146" y="453"/>
                  </a:lnTo>
                  <a:lnTo>
                    <a:pt x="150" y="441"/>
                  </a:lnTo>
                  <a:lnTo>
                    <a:pt x="155" y="435"/>
                  </a:lnTo>
                  <a:lnTo>
                    <a:pt x="155" y="429"/>
                  </a:lnTo>
                  <a:lnTo>
                    <a:pt x="159" y="429"/>
                  </a:lnTo>
                  <a:lnTo>
                    <a:pt x="155" y="423"/>
                  </a:lnTo>
                  <a:lnTo>
                    <a:pt x="150" y="417"/>
                  </a:lnTo>
                  <a:lnTo>
                    <a:pt x="150" y="411"/>
                  </a:lnTo>
                  <a:lnTo>
                    <a:pt x="150" y="405"/>
                  </a:lnTo>
                  <a:lnTo>
                    <a:pt x="150" y="399"/>
                  </a:lnTo>
                  <a:lnTo>
                    <a:pt x="155" y="393"/>
                  </a:lnTo>
                  <a:lnTo>
                    <a:pt x="159" y="387"/>
                  </a:lnTo>
                  <a:lnTo>
                    <a:pt x="164" y="381"/>
                  </a:lnTo>
                  <a:lnTo>
                    <a:pt x="169" y="381"/>
                  </a:lnTo>
                  <a:lnTo>
                    <a:pt x="178" y="375"/>
                  </a:lnTo>
                  <a:lnTo>
                    <a:pt x="187" y="364"/>
                  </a:lnTo>
                  <a:lnTo>
                    <a:pt x="191" y="358"/>
                  </a:lnTo>
                  <a:lnTo>
                    <a:pt x="200" y="346"/>
                  </a:lnTo>
                  <a:lnTo>
                    <a:pt x="205" y="334"/>
                  </a:lnTo>
                  <a:lnTo>
                    <a:pt x="214" y="322"/>
                  </a:lnTo>
                  <a:lnTo>
                    <a:pt x="223" y="310"/>
                  </a:lnTo>
                  <a:lnTo>
                    <a:pt x="232" y="292"/>
                  </a:lnTo>
                  <a:lnTo>
                    <a:pt x="246" y="274"/>
                  </a:lnTo>
                  <a:lnTo>
                    <a:pt x="255" y="250"/>
                  </a:lnTo>
                  <a:lnTo>
                    <a:pt x="268" y="232"/>
                  </a:lnTo>
                  <a:lnTo>
                    <a:pt x="278" y="209"/>
                  </a:lnTo>
                  <a:lnTo>
                    <a:pt x="291" y="185"/>
                  </a:lnTo>
                  <a:lnTo>
                    <a:pt x="305" y="155"/>
                  </a:lnTo>
                  <a:lnTo>
                    <a:pt x="318" y="131"/>
                  </a:lnTo>
                  <a:lnTo>
                    <a:pt x="328" y="113"/>
                  </a:lnTo>
                  <a:lnTo>
                    <a:pt x="332" y="101"/>
                  </a:lnTo>
                  <a:lnTo>
                    <a:pt x="337" y="95"/>
                  </a:lnTo>
                  <a:lnTo>
                    <a:pt x="341" y="83"/>
                  </a:lnTo>
                  <a:lnTo>
                    <a:pt x="346" y="77"/>
                  </a:lnTo>
                  <a:lnTo>
                    <a:pt x="346" y="72"/>
                  </a:lnTo>
                  <a:lnTo>
                    <a:pt x="350" y="72"/>
                  </a:lnTo>
                  <a:lnTo>
                    <a:pt x="350" y="72"/>
                  </a:lnTo>
                  <a:lnTo>
                    <a:pt x="350" y="66"/>
                  </a:lnTo>
                  <a:lnTo>
                    <a:pt x="350" y="60"/>
                  </a:lnTo>
                  <a:lnTo>
                    <a:pt x="350" y="60"/>
                  </a:lnTo>
                  <a:lnTo>
                    <a:pt x="346" y="54"/>
                  </a:lnTo>
                  <a:lnTo>
                    <a:pt x="341" y="54"/>
                  </a:lnTo>
                  <a:lnTo>
                    <a:pt x="337" y="48"/>
                  </a:lnTo>
                  <a:lnTo>
                    <a:pt x="337" y="48"/>
                  </a:lnTo>
                  <a:lnTo>
                    <a:pt x="337" y="42"/>
                  </a:lnTo>
                  <a:lnTo>
                    <a:pt x="337" y="36"/>
                  </a:lnTo>
                  <a:lnTo>
                    <a:pt x="341" y="30"/>
                  </a:lnTo>
                  <a:lnTo>
                    <a:pt x="346" y="24"/>
                  </a:lnTo>
                  <a:lnTo>
                    <a:pt x="350" y="12"/>
                  </a:lnTo>
                  <a:lnTo>
                    <a:pt x="359" y="6"/>
                  </a:lnTo>
                  <a:lnTo>
                    <a:pt x="364" y="6"/>
                  </a:lnTo>
                  <a:lnTo>
                    <a:pt x="373" y="0"/>
                  </a:lnTo>
                  <a:lnTo>
                    <a:pt x="377" y="0"/>
                  </a:lnTo>
                  <a:lnTo>
                    <a:pt x="387" y="0"/>
                  </a:lnTo>
                  <a:lnTo>
                    <a:pt x="391" y="6"/>
                  </a:lnTo>
                  <a:lnTo>
                    <a:pt x="400" y="12"/>
                  </a:lnTo>
                  <a:lnTo>
                    <a:pt x="405" y="18"/>
                  </a:lnTo>
                  <a:lnTo>
                    <a:pt x="414" y="30"/>
                  </a:lnTo>
                  <a:lnTo>
                    <a:pt x="418" y="42"/>
                  </a:lnTo>
                  <a:lnTo>
                    <a:pt x="418" y="54"/>
                  </a:lnTo>
                  <a:lnTo>
                    <a:pt x="423" y="66"/>
                  </a:lnTo>
                  <a:lnTo>
                    <a:pt x="423" y="66"/>
                  </a:lnTo>
                  <a:lnTo>
                    <a:pt x="418" y="72"/>
                  </a:lnTo>
                  <a:lnTo>
                    <a:pt x="418" y="72"/>
                  </a:lnTo>
                  <a:lnTo>
                    <a:pt x="414" y="77"/>
                  </a:lnTo>
                  <a:lnTo>
                    <a:pt x="414" y="83"/>
                  </a:lnTo>
                  <a:lnTo>
                    <a:pt x="409" y="89"/>
                  </a:lnTo>
                  <a:lnTo>
                    <a:pt x="409" y="95"/>
                  </a:lnTo>
                  <a:lnTo>
                    <a:pt x="405" y="101"/>
                  </a:lnTo>
                  <a:lnTo>
                    <a:pt x="400" y="113"/>
                  </a:lnTo>
                  <a:lnTo>
                    <a:pt x="396" y="119"/>
                  </a:lnTo>
                  <a:lnTo>
                    <a:pt x="391" y="131"/>
                  </a:lnTo>
                  <a:lnTo>
                    <a:pt x="382" y="143"/>
                  </a:lnTo>
                  <a:lnTo>
                    <a:pt x="382" y="143"/>
                  </a:lnTo>
                  <a:close/>
                  <a:moveTo>
                    <a:pt x="268" y="495"/>
                  </a:moveTo>
                  <a:lnTo>
                    <a:pt x="296" y="483"/>
                  </a:lnTo>
                  <a:lnTo>
                    <a:pt x="318" y="471"/>
                  </a:lnTo>
                  <a:lnTo>
                    <a:pt x="337" y="465"/>
                  </a:lnTo>
                  <a:lnTo>
                    <a:pt x="355" y="453"/>
                  </a:lnTo>
                  <a:lnTo>
                    <a:pt x="373" y="447"/>
                  </a:lnTo>
                  <a:lnTo>
                    <a:pt x="387" y="441"/>
                  </a:lnTo>
                  <a:lnTo>
                    <a:pt x="400" y="429"/>
                  </a:lnTo>
                  <a:lnTo>
                    <a:pt x="409" y="423"/>
                  </a:lnTo>
                  <a:lnTo>
                    <a:pt x="414" y="423"/>
                  </a:lnTo>
                  <a:lnTo>
                    <a:pt x="423" y="417"/>
                  </a:lnTo>
                  <a:lnTo>
                    <a:pt x="432" y="417"/>
                  </a:lnTo>
                  <a:lnTo>
                    <a:pt x="441" y="417"/>
                  </a:lnTo>
                  <a:lnTo>
                    <a:pt x="450" y="417"/>
                  </a:lnTo>
                  <a:lnTo>
                    <a:pt x="459" y="423"/>
                  </a:lnTo>
                  <a:lnTo>
                    <a:pt x="473" y="435"/>
                  </a:lnTo>
                  <a:lnTo>
                    <a:pt x="491" y="447"/>
                  </a:lnTo>
                  <a:lnTo>
                    <a:pt x="496" y="453"/>
                  </a:lnTo>
                  <a:lnTo>
                    <a:pt x="505" y="459"/>
                  </a:lnTo>
                  <a:lnTo>
                    <a:pt x="509" y="465"/>
                  </a:lnTo>
                  <a:lnTo>
                    <a:pt x="514" y="477"/>
                  </a:lnTo>
                  <a:lnTo>
                    <a:pt x="518" y="483"/>
                  </a:lnTo>
                  <a:lnTo>
                    <a:pt x="518" y="489"/>
                  </a:lnTo>
                  <a:lnTo>
                    <a:pt x="523" y="495"/>
                  </a:lnTo>
                  <a:lnTo>
                    <a:pt x="523" y="501"/>
                  </a:lnTo>
                  <a:lnTo>
                    <a:pt x="523" y="507"/>
                  </a:lnTo>
                  <a:lnTo>
                    <a:pt x="518" y="513"/>
                  </a:lnTo>
                  <a:lnTo>
                    <a:pt x="518" y="513"/>
                  </a:lnTo>
                  <a:lnTo>
                    <a:pt x="514" y="518"/>
                  </a:lnTo>
                  <a:lnTo>
                    <a:pt x="505" y="536"/>
                  </a:lnTo>
                  <a:lnTo>
                    <a:pt x="496" y="548"/>
                  </a:lnTo>
                  <a:lnTo>
                    <a:pt x="487" y="566"/>
                  </a:lnTo>
                  <a:lnTo>
                    <a:pt x="482" y="572"/>
                  </a:lnTo>
                  <a:lnTo>
                    <a:pt x="477" y="584"/>
                  </a:lnTo>
                  <a:lnTo>
                    <a:pt x="473" y="590"/>
                  </a:lnTo>
                  <a:lnTo>
                    <a:pt x="473" y="596"/>
                  </a:lnTo>
                  <a:lnTo>
                    <a:pt x="473" y="596"/>
                  </a:lnTo>
                  <a:lnTo>
                    <a:pt x="473" y="602"/>
                  </a:lnTo>
                  <a:lnTo>
                    <a:pt x="473" y="608"/>
                  </a:lnTo>
                  <a:lnTo>
                    <a:pt x="477" y="614"/>
                  </a:lnTo>
                  <a:lnTo>
                    <a:pt x="477" y="620"/>
                  </a:lnTo>
                  <a:lnTo>
                    <a:pt x="482" y="626"/>
                  </a:lnTo>
                  <a:lnTo>
                    <a:pt x="482" y="632"/>
                  </a:lnTo>
                  <a:lnTo>
                    <a:pt x="487" y="638"/>
                  </a:lnTo>
                  <a:lnTo>
                    <a:pt x="487" y="644"/>
                  </a:lnTo>
                  <a:lnTo>
                    <a:pt x="487" y="650"/>
                  </a:lnTo>
                  <a:lnTo>
                    <a:pt x="482" y="656"/>
                  </a:lnTo>
                  <a:lnTo>
                    <a:pt x="482" y="662"/>
                  </a:lnTo>
                  <a:lnTo>
                    <a:pt x="477" y="662"/>
                  </a:lnTo>
                  <a:lnTo>
                    <a:pt x="473" y="667"/>
                  </a:lnTo>
                  <a:lnTo>
                    <a:pt x="468" y="667"/>
                  </a:lnTo>
                  <a:lnTo>
                    <a:pt x="468" y="667"/>
                  </a:lnTo>
                  <a:lnTo>
                    <a:pt x="464" y="667"/>
                  </a:lnTo>
                  <a:lnTo>
                    <a:pt x="437" y="662"/>
                  </a:lnTo>
                  <a:lnTo>
                    <a:pt x="418" y="662"/>
                  </a:lnTo>
                  <a:lnTo>
                    <a:pt x="396" y="656"/>
                  </a:lnTo>
                  <a:lnTo>
                    <a:pt x="377" y="656"/>
                  </a:lnTo>
                  <a:lnTo>
                    <a:pt x="364" y="656"/>
                  </a:lnTo>
                  <a:lnTo>
                    <a:pt x="355" y="656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3" y="667"/>
                  </a:lnTo>
                  <a:lnTo>
                    <a:pt x="318" y="667"/>
                  </a:lnTo>
                  <a:lnTo>
                    <a:pt x="309" y="673"/>
                  </a:lnTo>
                  <a:lnTo>
                    <a:pt x="305" y="679"/>
                  </a:lnTo>
                  <a:lnTo>
                    <a:pt x="300" y="685"/>
                  </a:lnTo>
                  <a:lnTo>
                    <a:pt x="296" y="691"/>
                  </a:lnTo>
                  <a:lnTo>
                    <a:pt x="291" y="691"/>
                  </a:lnTo>
                  <a:lnTo>
                    <a:pt x="282" y="691"/>
                  </a:lnTo>
                  <a:lnTo>
                    <a:pt x="278" y="691"/>
                  </a:lnTo>
                  <a:lnTo>
                    <a:pt x="273" y="685"/>
                  </a:lnTo>
                  <a:lnTo>
                    <a:pt x="264" y="679"/>
                  </a:lnTo>
                  <a:lnTo>
                    <a:pt x="259" y="673"/>
                  </a:lnTo>
                  <a:lnTo>
                    <a:pt x="255" y="656"/>
                  </a:lnTo>
                  <a:lnTo>
                    <a:pt x="250" y="644"/>
                  </a:lnTo>
                  <a:lnTo>
                    <a:pt x="241" y="626"/>
                  </a:lnTo>
                  <a:lnTo>
                    <a:pt x="237" y="608"/>
                  </a:lnTo>
                  <a:lnTo>
                    <a:pt x="232" y="584"/>
                  </a:lnTo>
                  <a:lnTo>
                    <a:pt x="228" y="566"/>
                  </a:lnTo>
                  <a:lnTo>
                    <a:pt x="223" y="548"/>
                  </a:lnTo>
                  <a:lnTo>
                    <a:pt x="223" y="530"/>
                  </a:lnTo>
                  <a:lnTo>
                    <a:pt x="218" y="513"/>
                  </a:lnTo>
                  <a:lnTo>
                    <a:pt x="218" y="501"/>
                  </a:lnTo>
                  <a:lnTo>
                    <a:pt x="218" y="489"/>
                  </a:lnTo>
                  <a:lnTo>
                    <a:pt x="218" y="477"/>
                  </a:lnTo>
                  <a:lnTo>
                    <a:pt x="218" y="471"/>
                  </a:lnTo>
                  <a:lnTo>
                    <a:pt x="218" y="465"/>
                  </a:lnTo>
                  <a:lnTo>
                    <a:pt x="223" y="465"/>
                  </a:lnTo>
                  <a:lnTo>
                    <a:pt x="223" y="465"/>
                  </a:lnTo>
                  <a:lnTo>
                    <a:pt x="228" y="465"/>
                  </a:lnTo>
                  <a:lnTo>
                    <a:pt x="232" y="465"/>
                  </a:lnTo>
                  <a:lnTo>
                    <a:pt x="232" y="471"/>
                  </a:lnTo>
                  <a:lnTo>
                    <a:pt x="241" y="471"/>
                  </a:lnTo>
                  <a:lnTo>
                    <a:pt x="246" y="477"/>
                  </a:lnTo>
                  <a:lnTo>
                    <a:pt x="250" y="483"/>
                  </a:lnTo>
                  <a:lnTo>
                    <a:pt x="259" y="489"/>
                  </a:lnTo>
                  <a:lnTo>
                    <a:pt x="268" y="495"/>
                  </a:lnTo>
                  <a:lnTo>
                    <a:pt x="268" y="495"/>
                  </a:lnTo>
                  <a:close/>
                  <a:moveTo>
                    <a:pt x="300" y="614"/>
                  </a:moveTo>
                  <a:lnTo>
                    <a:pt x="318" y="614"/>
                  </a:lnTo>
                  <a:lnTo>
                    <a:pt x="337" y="608"/>
                  </a:lnTo>
                  <a:lnTo>
                    <a:pt x="355" y="608"/>
                  </a:lnTo>
                  <a:lnTo>
                    <a:pt x="368" y="602"/>
                  </a:lnTo>
                  <a:lnTo>
                    <a:pt x="382" y="596"/>
                  </a:lnTo>
                  <a:lnTo>
                    <a:pt x="391" y="584"/>
                  </a:lnTo>
                  <a:lnTo>
                    <a:pt x="400" y="572"/>
                  </a:lnTo>
                  <a:lnTo>
                    <a:pt x="409" y="554"/>
                  </a:lnTo>
                  <a:lnTo>
                    <a:pt x="414" y="542"/>
                  </a:lnTo>
                  <a:lnTo>
                    <a:pt x="418" y="524"/>
                  </a:lnTo>
                  <a:lnTo>
                    <a:pt x="418" y="518"/>
                  </a:lnTo>
                  <a:lnTo>
                    <a:pt x="418" y="513"/>
                  </a:lnTo>
                  <a:lnTo>
                    <a:pt x="418" y="507"/>
                  </a:lnTo>
                  <a:lnTo>
                    <a:pt x="418" y="507"/>
                  </a:lnTo>
                  <a:lnTo>
                    <a:pt x="418" y="507"/>
                  </a:lnTo>
                  <a:lnTo>
                    <a:pt x="414" y="501"/>
                  </a:lnTo>
                  <a:lnTo>
                    <a:pt x="409" y="507"/>
                  </a:lnTo>
                  <a:lnTo>
                    <a:pt x="405" y="507"/>
                  </a:lnTo>
                  <a:lnTo>
                    <a:pt x="382" y="518"/>
                  </a:lnTo>
                  <a:lnTo>
                    <a:pt x="364" y="524"/>
                  </a:lnTo>
                  <a:lnTo>
                    <a:pt x="350" y="530"/>
                  </a:lnTo>
                  <a:lnTo>
                    <a:pt x="337" y="530"/>
                  </a:lnTo>
                  <a:lnTo>
                    <a:pt x="314" y="536"/>
                  </a:lnTo>
                  <a:lnTo>
                    <a:pt x="291" y="536"/>
                  </a:lnTo>
                  <a:lnTo>
                    <a:pt x="291" y="560"/>
                  </a:lnTo>
                  <a:lnTo>
                    <a:pt x="291" y="578"/>
                  </a:lnTo>
                  <a:lnTo>
                    <a:pt x="296" y="602"/>
                  </a:lnTo>
                  <a:lnTo>
                    <a:pt x="300" y="614"/>
                  </a:lnTo>
                  <a:lnTo>
                    <a:pt x="300" y="614"/>
                  </a:lnTo>
                  <a:close/>
                </a:path>
              </a:pathLst>
            </a:custGeom>
            <a:solidFill>
              <a:srgbClr val="e5faff"/>
            </a:solidFill>
            <a:ln w="0">
              <a:noFill/>
            </a:ln>
            <a:effectLst>
              <a:outerShdw dist="80486" dir="204890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490"/>
            <p:cNvSpPr/>
            <p:nvPr/>
          </p:nvSpPr>
          <p:spPr>
            <a:xfrm>
              <a:off x="11214000" y="11283840"/>
              <a:ext cx="879480" cy="1116000"/>
            </a:xfrm>
            <a:custGeom>
              <a:avLst/>
              <a:gdLst/>
              <a:ahLst/>
              <a:rect l="l" t="t" r="r" b="b"/>
              <a:pathLst>
                <a:path w="554" h="703">
                  <a:moveTo>
                    <a:pt x="400" y="131"/>
                  </a:moveTo>
                  <a:lnTo>
                    <a:pt x="418" y="131"/>
                  </a:lnTo>
                  <a:lnTo>
                    <a:pt x="441" y="131"/>
                  </a:lnTo>
                  <a:lnTo>
                    <a:pt x="454" y="131"/>
                  </a:lnTo>
                  <a:lnTo>
                    <a:pt x="468" y="137"/>
                  </a:lnTo>
                  <a:lnTo>
                    <a:pt x="482" y="137"/>
                  </a:lnTo>
                  <a:lnTo>
                    <a:pt x="500" y="143"/>
                  </a:lnTo>
                  <a:lnTo>
                    <a:pt x="513" y="155"/>
                  </a:lnTo>
                  <a:lnTo>
                    <a:pt x="527" y="161"/>
                  </a:lnTo>
                  <a:lnTo>
                    <a:pt x="536" y="167"/>
                  </a:lnTo>
                  <a:lnTo>
                    <a:pt x="541" y="173"/>
                  </a:lnTo>
                  <a:lnTo>
                    <a:pt x="545" y="179"/>
                  </a:lnTo>
                  <a:lnTo>
                    <a:pt x="550" y="191"/>
                  </a:lnTo>
                  <a:lnTo>
                    <a:pt x="550" y="197"/>
                  </a:lnTo>
                  <a:lnTo>
                    <a:pt x="554" y="208"/>
                  </a:lnTo>
                  <a:lnTo>
                    <a:pt x="554" y="220"/>
                  </a:lnTo>
                  <a:lnTo>
                    <a:pt x="550" y="226"/>
                  </a:lnTo>
                  <a:lnTo>
                    <a:pt x="550" y="238"/>
                  </a:lnTo>
                  <a:lnTo>
                    <a:pt x="550" y="256"/>
                  </a:lnTo>
                  <a:lnTo>
                    <a:pt x="545" y="268"/>
                  </a:lnTo>
                  <a:lnTo>
                    <a:pt x="545" y="292"/>
                  </a:lnTo>
                  <a:lnTo>
                    <a:pt x="541" y="310"/>
                  </a:lnTo>
                  <a:lnTo>
                    <a:pt x="536" y="334"/>
                  </a:lnTo>
                  <a:lnTo>
                    <a:pt x="527" y="381"/>
                  </a:lnTo>
                  <a:lnTo>
                    <a:pt x="518" y="429"/>
                  </a:lnTo>
                  <a:lnTo>
                    <a:pt x="504" y="471"/>
                  </a:lnTo>
                  <a:lnTo>
                    <a:pt x="491" y="512"/>
                  </a:lnTo>
                  <a:lnTo>
                    <a:pt x="482" y="530"/>
                  </a:lnTo>
                  <a:lnTo>
                    <a:pt x="477" y="548"/>
                  </a:lnTo>
                  <a:lnTo>
                    <a:pt x="468" y="566"/>
                  </a:lnTo>
                  <a:lnTo>
                    <a:pt x="459" y="584"/>
                  </a:lnTo>
                  <a:lnTo>
                    <a:pt x="450" y="596"/>
                  </a:lnTo>
                  <a:lnTo>
                    <a:pt x="441" y="614"/>
                  </a:lnTo>
                  <a:lnTo>
                    <a:pt x="432" y="626"/>
                  </a:lnTo>
                  <a:lnTo>
                    <a:pt x="423" y="638"/>
                  </a:lnTo>
                  <a:lnTo>
                    <a:pt x="414" y="649"/>
                  </a:lnTo>
                  <a:lnTo>
                    <a:pt x="404" y="661"/>
                  </a:lnTo>
                  <a:lnTo>
                    <a:pt x="395" y="667"/>
                  </a:lnTo>
                  <a:lnTo>
                    <a:pt x="386" y="673"/>
                  </a:lnTo>
                  <a:lnTo>
                    <a:pt x="382" y="679"/>
                  </a:lnTo>
                  <a:lnTo>
                    <a:pt x="377" y="685"/>
                  </a:lnTo>
                  <a:lnTo>
                    <a:pt x="373" y="685"/>
                  </a:lnTo>
                  <a:lnTo>
                    <a:pt x="368" y="685"/>
                  </a:lnTo>
                  <a:lnTo>
                    <a:pt x="364" y="685"/>
                  </a:lnTo>
                  <a:lnTo>
                    <a:pt x="359" y="679"/>
                  </a:lnTo>
                  <a:lnTo>
                    <a:pt x="355" y="679"/>
                  </a:lnTo>
                  <a:lnTo>
                    <a:pt x="350" y="673"/>
                  </a:lnTo>
                  <a:lnTo>
                    <a:pt x="345" y="667"/>
                  </a:lnTo>
                  <a:lnTo>
                    <a:pt x="336" y="655"/>
                  </a:lnTo>
                  <a:lnTo>
                    <a:pt x="327" y="638"/>
                  </a:lnTo>
                  <a:lnTo>
                    <a:pt x="318" y="620"/>
                  </a:lnTo>
                  <a:lnTo>
                    <a:pt x="305" y="602"/>
                  </a:lnTo>
                  <a:lnTo>
                    <a:pt x="295" y="584"/>
                  </a:lnTo>
                  <a:lnTo>
                    <a:pt x="286" y="566"/>
                  </a:lnTo>
                  <a:lnTo>
                    <a:pt x="277" y="548"/>
                  </a:lnTo>
                  <a:lnTo>
                    <a:pt x="273" y="530"/>
                  </a:lnTo>
                  <a:lnTo>
                    <a:pt x="268" y="512"/>
                  </a:lnTo>
                  <a:lnTo>
                    <a:pt x="264" y="489"/>
                  </a:lnTo>
                  <a:lnTo>
                    <a:pt x="259" y="465"/>
                  </a:lnTo>
                  <a:lnTo>
                    <a:pt x="241" y="495"/>
                  </a:lnTo>
                  <a:lnTo>
                    <a:pt x="227" y="512"/>
                  </a:lnTo>
                  <a:lnTo>
                    <a:pt x="214" y="536"/>
                  </a:lnTo>
                  <a:lnTo>
                    <a:pt x="200" y="554"/>
                  </a:lnTo>
                  <a:lnTo>
                    <a:pt x="186" y="566"/>
                  </a:lnTo>
                  <a:lnTo>
                    <a:pt x="173" y="584"/>
                  </a:lnTo>
                  <a:lnTo>
                    <a:pt x="164" y="596"/>
                  </a:lnTo>
                  <a:lnTo>
                    <a:pt x="155" y="608"/>
                  </a:lnTo>
                  <a:lnTo>
                    <a:pt x="132" y="626"/>
                  </a:lnTo>
                  <a:lnTo>
                    <a:pt x="114" y="644"/>
                  </a:lnTo>
                  <a:lnTo>
                    <a:pt x="91" y="661"/>
                  </a:lnTo>
                  <a:lnTo>
                    <a:pt x="64" y="673"/>
                  </a:lnTo>
                  <a:lnTo>
                    <a:pt x="50" y="685"/>
                  </a:lnTo>
                  <a:lnTo>
                    <a:pt x="41" y="691"/>
                  </a:lnTo>
                  <a:lnTo>
                    <a:pt x="32" y="691"/>
                  </a:lnTo>
                  <a:lnTo>
                    <a:pt x="23" y="697"/>
                  </a:lnTo>
                  <a:lnTo>
                    <a:pt x="18" y="697"/>
                  </a:lnTo>
                  <a:lnTo>
                    <a:pt x="9" y="703"/>
                  </a:lnTo>
                  <a:lnTo>
                    <a:pt x="5" y="703"/>
                  </a:lnTo>
                  <a:lnTo>
                    <a:pt x="0" y="703"/>
                  </a:lnTo>
                  <a:lnTo>
                    <a:pt x="0" y="703"/>
                  </a:lnTo>
                  <a:lnTo>
                    <a:pt x="0" y="703"/>
                  </a:lnTo>
                  <a:lnTo>
                    <a:pt x="0" y="697"/>
                  </a:lnTo>
                  <a:lnTo>
                    <a:pt x="5" y="697"/>
                  </a:lnTo>
                  <a:lnTo>
                    <a:pt x="14" y="691"/>
                  </a:lnTo>
                  <a:lnTo>
                    <a:pt x="23" y="679"/>
                  </a:lnTo>
                  <a:lnTo>
                    <a:pt x="32" y="673"/>
                  </a:lnTo>
                  <a:lnTo>
                    <a:pt x="46" y="661"/>
                  </a:lnTo>
                  <a:lnTo>
                    <a:pt x="59" y="644"/>
                  </a:lnTo>
                  <a:lnTo>
                    <a:pt x="73" y="632"/>
                  </a:lnTo>
                  <a:lnTo>
                    <a:pt x="86" y="608"/>
                  </a:lnTo>
                  <a:lnTo>
                    <a:pt x="105" y="590"/>
                  </a:lnTo>
                  <a:lnTo>
                    <a:pt x="118" y="560"/>
                  </a:lnTo>
                  <a:lnTo>
                    <a:pt x="136" y="536"/>
                  </a:lnTo>
                  <a:lnTo>
                    <a:pt x="155" y="506"/>
                  </a:lnTo>
                  <a:lnTo>
                    <a:pt x="168" y="477"/>
                  </a:lnTo>
                  <a:lnTo>
                    <a:pt x="186" y="447"/>
                  </a:lnTo>
                  <a:lnTo>
                    <a:pt x="205" y="411"/>
                  </a:lnTo>
                  <a:lnTo>
                    <a:pt x="218" y="375"/>
                  </a:lnTo>
                  <a:lnTo>
                    <a:pt x="236" y="340"/>
                  </a:lnTo>
                  <a:lnTo>
                    <a:pt x="250" y="304"/>
                  </a:lnTo>
                  <a:lnTo>
                    <a:pt x="268" y="268"/>
                  </a:lnTo>
                  <a:lnTo>
                    <a:pt x="250" y="280"/>
                  </a:lnTo>
                  <a:lnTo>
                    <a:pt x="236" y="286"/>
                  </a:lnTo>
                  <a:lnTo>
                    <a:pt x="227" y="292"/>
                  </a:lnTo>
                  <a:lnTo>
                    <a:pt x="214" y="292"/>
                  </a:lnTo>
                  <a:lnTo>
                    <a:pt x="205" y="292"/>
                  </a:lnTo>
                  <a:lnTo>
                    <a:pt x="191" y="286"/>
                  </a:lnTo>
                  <a:lnTo>
                    <a:pt x="177" y="274"/>
                  </a:lnTo>
                  <a:lnTo>
                    <a:pt x="159" y="262"/>
                  </a:lnTo>
                  <a:lnTo>
                    <a:pt x="155" y="256"/>
                  </a:lnTo>
                  <a:lnTo>
                    <a:pt x="146" y="250"/>
                  </a:lnTo>
                  <a:lnTo>
                    <a:pt x="141" y="250"/>
                  </a:lnTo>
                  <a:lnTo>
                    <a:pt x="136" y="244"/>
                  </a:lnTo>
                  <a:lnTo>
                    <a:pt x="132" y="238"/>
                  </a:lnTo>
                  <a:lnTo>
                    <a:pt x="127" y="232"/>
                  </a:lnTo>
                  <a:lnTo>
                    <a:pt x="127" y="232"/>
                  </a:lnTo>
                  <a:lnTo>
                    <a:pt x="127" y="226"/>
                  </a:lnTo>
                  <a:lnTo>
                    <a:pt x="127" y="220"/>
                  </a:lnTo>
                  <a:lnTo>
                    <a:pt x="132" y="220"/>
                  </a:lnTo>
                  <a:lnTo>
                    <a:pt x="136" y="214"/>
                  </a:lnTo>
                  <a:lnTo>
                    <a:pt x="141" y="214"/>
                  </a:lnTo>
                  <a:lnTo>
                    <a:pt x="164" y="208"/>
                  </a:lnTo>
                  <a:lnTo>
                    <a:pt x="177" y="203"/>
                  </a:lnTo>
                  <a:lnTo>
                    <a:pt x="191" y="197"/>
                  </a:lnTo>
                  <a:lnTo>
                    <a:pt x="205" y="191"/>
                  </a:lnTo>
                  <a:lnTo>
                    <a:pt x="223" y="185"/>
                  </a:lnTo>
                  <a:lnTo>
                    <a:pt x="241" y="179"/>
                  </a:lnTo>
                  <a:lnTo>
                    <a:pt x="255" y="173"/>
                  </a:lnTo>
                  <a:lnTo>
                    <a:pt x="268" y="167"/>
                  </a:lnTo>
                  <a:lnTo>
                    <a:pt x="282" y="161"/>
                  </a:lnTo>
                  <a:lnTo>
                    <a:pt x="295" y="155"/>
                  </a:lnTo>
                  <a:lnTo>
                    <a:pt x="305" y="155"/>
                  </a:lnTo>
                  <a:lnTo>
                    <a:pt x="314" y="155"/>
                  </a:lnTo>
                  <a:lnTo>
                    <a:pt x="318" y="137"/>
                  </a:lnTo>
                  <a:lnTo>
                    <a:pt x="318" y="125"/>
                  </a:lnTo>
                  <a:lnTo>
                    <a:pt x="323" y="113"/>
                  </a:lnTo>
                  <a:lnTo>
                    <a:pt x="327" y="101"/>
                  </a:lnTo>
                  <a:lnTo>
                    <a:pt x="327" y="95"/>
                  </a:lnTo>
                  <a:lnTo>
                    <a:pt x="332" y="83"/>
                  </a:lnTo>
                  <a:lnTo>
                    <a:pt x="332" y="77"/>
                  </a:lnTo>
                  <a:lnTo>
                    <a:pt x="332" y="77"/>
                  </a:lnTo>
                  <a:lnTo>
                    <a:pt x="332" y="71"/>
                  </a:lnTo>
                  <a:lnTo>
                    <a:pt x="327" y="65"/>
                  </a:lnTo>
                  <a:lnTo>
                    <a:pt x="327" y="59"/>
                  </a:lnTo>
                  <a:lnTo>
                    <a:pt x="323" y="59"/>
                  </a:lnTo>
                  <a:lnTo>
                    <a:pt x="318" y="54"/>
                  </a:lnTo>
                  <a:lnTo>
                    <a:pt x="309" y="48"/>
                  </a:lnTo>
                  <a:lnTo>
                    <a:pt x="309" y="42"/>
                  </a:lnTo>
                  <a:lnTo>
                    <a:pt x="305" y="36"/>
                  </a:lnTo>
                  <a:lnTo>
                    <a:pt x="300" y="30"/>
                  </a:lnTo>
                  <a:lnTo>
                    <a:pt x="300" y="30"/>
                  </a:lnTo>
                  <a:lnTo>
                    <a:pt x="295" y="24"/>
                  </a:lnTo>
                  <a:lnTo>
                    <a:pt x="295" y="18"/>
                  </a:lnTo>
                  <a:lnTo>
                    <a:pt x="300" y="12"/>
                  </a:lnTo>
                  <a:lnTo>
                    <a:pt x="300" y="6"/>
                  </a:lnTo>
                  <a:lnTo>
                    <a:pt x="309" y="0"/>
                  </a:lnTo>
                  <a:lnTo>
                    <a:pt x="318" y="0"/>
                  </a:lnTo>
                  <a:lnTo>
                    <a:pt x="336" y="0"/>
                  </a:lnTo>
                  <a:lnTo>
                    <a:pt x="355" y="6"/>
                  </a:lnTo>
                  <a:lnTo>
                    <a:pt x="373" y="18"/>
                  </a:lnTo>
                  <a:lnTo>
                    <a:pt x="386" y="30"/>
                  </a:lnTo>
                  <a:lnTo>
                    <a:pt x="395" y="36"/>
                  </a:lnTo>
                  <a:lnTo>
                    <a:pt x="400" y="42"/>
                  </a:lnTo>
                  <a:lnTo>
                    <a:pt x="404" y="48"/>
                  </a:lnTo>
                  <a:lnTo>
                    <a:pt x="409" y="54"/>
                  </a:lnTo>
                  <a:lnTo>
                    <a:pt x="414" y="59"/>
                  </a:lnTo>
                  <a:lnTo>
                    <a:pt x="414" y="59"/>
                  </a:lnTo>
                  <a:lnTo>
                    <a:pt x="414" y="65"/>
                  </a:lnTo>
                  <a:lnTo>
                    <a:pt x="418" y="71"/>
                  </a:lnTo>
                  <a:lnTo>
                    <a:pt x="414" y="77"/>
                  </a:lnTo>
                  <a:lnTo>
                    <a:pt x="414" y="77"/>
                  </a:lnTo>
                  <a:lnTo>
                    <a:pt x="414" y="83"/>
                  </a:lnTo>
                  <a:lnTo>
                    <a:pt x="414" y="95"/>
                  </a:lnTo>
                  <a:lnTo>
                    <a:pt x="409" y="101"/>
                  </a:lnTo>
                  <a:lnTo>
                    <a:pt x="409" y="113"/>
                  </a:lnTo>
                  <a:lnTo>
                    <a:pt x="404" y="119"/>
                  </a:lnTo>
                  <a:lnTo>
                    <a:pt x="400" y="131"/>
                  </a:lnTo>
                  <a:lnTo>
                    <a:pt x="400" y="131"/>
                  </a:lnTo>
                  <a:close/>
                  <a:moveTo>
                    <a:pt x="264" y="459"/>
                  </a:moveTo>
                  <a:lnTo>
                    <a:pt x="277" y="477"/>
                  </a:lnTo>
                  <a:lnTo>
                    <a:pt x="291" y="495"/>
                  </a:lnTo>
                  <a:lnTo>
                    <a:pt x="305" y="506"/>
                  </a:lnTo>
                  <a:lnTo>
                    <a:pt x="318" y="524"/>
                  </a:lnTo>
                  <a:lnTo>
                    <a:pt x="336" y="530"/>
                  </a:lnTo>
                  <a:lnTo>
                    <a:pt x="350" y="542"/>
                  </a:lnTo>
                  <a:lnTo>
                    <a:pt x="359" y="542"/>
                  </a:lnTo>
                  <a:lnTo>
                    <a:pt x="373" y="542"/>
                  </a:lnTo>
                  <a:lnTo>
                    <a:pt x="377" y="542"/>
                  </a:lnTo>
                  <a:lnTo>
                    <a:pt x="386" y="542"/>
                  </a:lnTo>
                  <a:lnTo>
                    <a:pt x="386" y="536"/>
                  </a:lnTo>
                  <a:lnTo>
                    <a:pt x="391" y="536"/>
                  </a:lnTo>
                  <a:lnTo>
                    <a:pt x="391" y="530"/>
                  </a:lnTo>
                  <a:lnTo>
                    <a:pt x="395" y="524"/>
                  </a:lnTo>
                  <a:lnTo>
                    <a:pt x="400" y="512"/>
                  </a:lnTo>
                  <a:lnTo>
                    <a:pt x="404" y="506"/>
                  </a:lnTo>
                  <a:lnTo>
                    <a:pt x="409" y="495"/>
                  </a:lnTo>
                  <a:lnTo>
                    <a:pt x="414" y="483"/>
                  </a:lnTo>
                  <a:lnTo>
                    <a:pt x="418" y="471"/>
                  </a:lnTo>
                  <a:lnTo>
                    <a:pt x="423" y="453"/>
                  </a:lnTo>
                  <a:lnTo>
                    <a:pt x="427" y="441"/>
                  </a:lnTo>
                  <a:lnTo>
                    <a:pt x="432" y="423"/>
                  </a:lnTo>
                  <a:lnTo>
                    <a:pt x="436" y="405"/>
                  </a:lnTo>
                  <a:lnTo>
                    <a:pt x="441" y="387"/>
                  </a:lnTo>
                  <a:lnTo>
                    <a:pt x="445" y="363"/>
                  </a:lnTo>
                  <a:lnTo>
                    <a:pt x="445" y="346"/>
                  </a:lnTo>
                  <a:lnTo>
                    <a:pt x="450" y="322"/>
                  </a:lnTo>
                  <a:lnTo>
                    <a:pt x="450" y="304"/>
                  </a:lnTo>
                  <a:lnTo>
                    <a:pt x="454" y="286"/>
                  </a:lnTo>
                  <a:lnTo>
                    <a:pt x="454" y="274"/>
                  </a:lnTo>
                  <a:lnTo>
                    <a:pt x="454" y="256"/>
                  </a:lnTo>
                  <a:lnTo>
                    <a:pt x="459" y="244"/>
                  </a:lnTo>
                  <a:lnTo>
                    <a:pt x="459" y="238"/>
                  </a:lnTo>
                  <a:lnTo>
                    <a:pt x="459" y="226"/>
                  </a:lnTo>
                  <a:lnTo>
                    <a:pt x="459" y="220"/>
                  </a:lnTo>
                  <a:lnTo>
                    <a:pt x="454" y="214"/>
                  </a:lnTo>
                  <a:lnTo>
                    <a:pt x="454" y="208"/>
                  </a:lnTo>
                  <a:lnTo>
                    <a:pt x="450" y="203"/>
                  </a:lnTo>
                  <a:lnTo>
                    <a:pt x="445" y="197"/>
                  </a:lnTo>
                  <a:lnTo>
                    <a:pt x="436" y="197"/>
                  </a:lnTo>
                  <a:lnTo>
                    <a:pt x="432" y="197"/>
                  </a:lnTo>
                  <a:lnTo>
                    <a:pt x="423" y="197"/>
                  </a:lnTo>
                  <a:lnTo>
                    <a:pt x="414" y="197"/>
                  </a:lnTo>
                  <a:lnTo>
                    <a:pt x="404" y="197"/>
                  </a:lnTo>
                  <a:lnTo>
                    <a:pt x="391" y="203"/>
                  </a:lnTo>
                  <a:lnTo>
                    <a:pt x="377" y="203"/>
                  </a:lnTo>
                  <a:lnTo>
                    <a:pt x="359" y="250"/>
                  </a:lnTo>
                  <a:lnTo>
                    <a:pt x="341" y="292"/>
                  </a:lnTo>
                  <a:lnTo>
                    <a:pt x="327" y="328"/>
                  </a:lnTo>
                  <a:lnTo>
                    <a:pt x="314" y="357"/>
                  </a:lnTo>
                  <a:lnTo>
                    <a:pt x="300" y="393"/>
                  </a:lnTo>
                  <a:lnTo>
                    <a:pt x="286" y="417"/>
                  </a:lnTo>
                  <a:lnTo>
                    <a:pt x="273" y="441"/>
                  </a:lnTo>
                  <a:lnTo>
                    <a:pt x="264" y="459"/>
                  </a:lnTo>
                  <a:lnTo>
                    <a:pt x="264" y="459"/>
                  </a:lnTo>
                  <a:close/>
                </a:path>
              </a:pathLst>
            </a:custGeom>
            <a:solidFill>
              <a:srgbClr val="e5faff"/>
            </a:solidFill>
            <a:ln w="0">
              <a:noFill/>
            </a:ln>
            <a:effectLst>
              <a:outerShdw dist="80486" dir="20489041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591"/>
          <p:cNvSpPr/>
          <p:nvPr/>
        </p:nvSpPr>
        <p:spPr>
          <a:xfrm>
            <a:off x="-6211800" y="-6784920"/>
            <a:ext cx="296712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597"/>
          <p:cNvGrpSpPr/>
          <p:nvPr/>
        </p:nvGrpSpPr>
        <p:grpSpPr>
          <a:xfrm>
            <a:off x="-7446960" y="-5303880"/>
            <a:ext cx="2719440" cy="4064040"/>
            <a:chOff x="-7446960" y="-5303880"/>
            <a:chExt cx="2719440" cy="4064040"/>
          </a:xfrm>
        </p:grpSpPr>
        <p:sp>
          <p:nvSpPr>
            <p:cNvPr id="685" name="Rectangle 593"/>
            <p:cNvSpPr/>
            <p:nvPr/>
          </p:nvSpPr>
          <p:spPr>
            <a:xfrm>
              <a:off x="-7446960" y="-5303880"/>
              <a:ext cx="2719440" cy="40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94"/>
            <p:cNvSpPr/>
            <p:nvPr/>
          </p:nvSpPr>
          <p:spPr>
            <a:xfrm>
              <a:off x="-7446960" y="-5302080"/>
              <a:ext cx="2712960" cy="4060800"/>
            </a:xfrm>
            <a:custGeom>
              <a:avLst/>
              <a:gdLst/>
              <a:ahLst/>
              <a:rect l="l" t="t" r="r" b="b"/>
              <a:pathLst>
                <a:path w="1709" h="2558">
                  <a:moveTo>
                    <a:pt x="95" y="2249"/>
                  </a:moveTo>
                  <a:lnTo>
                    <a:pt x="0" y="812"/>
                  </a:lnTo>
                  <a:lnTo>
                    <a:pt x="149" y="0"/>
                  </a:lnTo>
                  <a:lnTo>
                    <a:pt x="1390" y="12"/>
                  </a:lnTo>
                  <a:lnTo>
                    <a:pt x="1633" y="242"/>
                  </a:lnTo>
                  <a:lnTo>
                    <a:pt x="1709" y="1733"/>
                  </a:lnTo>
                  <a:lnTo>
                    <a:pt x="1571" y="2254"/>
                  </a:lnTo>
                  <a:lnTo>
                    <a:pt x="718" y="2558"/>
                  </a:lnTo>
                  <a:lnTo>
                    <a:pt x="95" y="2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595"/>
            <p:cNvSpPr/>
            <p:nvPr/>
          </p:nvSpPr>
          <p:spPr>
            <a:xfrm>
              <a:off x="-7446960" y="-5303880"/>
              <a:ext cx="2719440" cy="40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96"/>
            <p:cNvSpPr/>
            <p:nvPr/>
          </p:nvSpPr>
          <p:spPr>
            <a:xfrm>
              <a:off x="-7446960" y="-5302080"/>
              <a:ext cx="2712960" cy="4060800"/>
            </a:xfrm>
            <a:custGeom>
              <a:avLst/>
              <a:gdLst/>
              <a:ahLst/>
              <a:rect l="l" t="t" r="r" b="b"/>
              <a:pathLst>
                <a:path w="1709" h="2558">
                  <a:moveTo>
                    <a:pt x="95" y="2249"/>
                  </a:moveTo>
                  <a:lnTo>
                    <a:pt x="0" y="812"/>
                  </a:lnTo>
                  <a:lnTo>
                    <a:pt x="149" y="0"/>
                  </a:lnTo>
                  <a:lnTo>
                    <a:pt x="1390" y="12"/>
                  </a:lnTo>
                  <a:lnTo>
                    <a:pt x="1633" y="242"/>
                  </a:lnTo>
                  <a:lnTo>
                    <a:pt x="1709" y="1733"/>
                  </a:lnTo>
                  <a:lnTo>
                    <a:pt x="1571" y="2254"/>
                  </a:lnTo>
                  <a:lnTo>
                    <a:pt x="718" y="2558"/>
                  </a:lnTo>
                  <a:lnTo>
                    <a:pt x="95" y="2249"/>
                  </a:lnTo>
                  <a:close/>
                </a:path>
              </a:pathLst>
            </a:custGeom>
            <a:noFill/>
            <a:ln cap="rnd"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641"/>
          <p:cNvGrpSpPr/>
          <p:nvPr/>
        </p:nvGrpSpPr>
        <p:grpSpPr>
          <a:xfrm>
            <a:off x="-6087960" y="-7334280"/>
            <a:ext cx="2719440" cy="4064040"/>
            <a:chOff x="-6087960" y="-7334280"/>
            <a:chExt cx="2719440" cy="4064040"/>
          </a:xfrm>
        </p:grpSpPr>
        <p:sp>
          <p:nvSpPr>
            <p:cNvPr id="690" name="Rectangle 637"/>
            <p:cNvSpPr/>
            <p:nvPr/>
          </p:nvSpPr>
          <p:spPr>
            <a:xfrm>
              <a:off x="-6087960" y="-7334280"/>
              <a:ext cx="2719440" cy="40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38"/>
            <p:cNvSpPr/>
            <p:nvPr/>
          </p:nvSpPr>
          <p:spPr>
            <a:xfrm>
              <a:off x="-6087960" y="-7332480"/>
              <a:ext cx="2712960" cy="4060800"/>
            </a:xfrm>
            <a:custGeom>
              <a:avLst/>
              <a:gdLst/>
              <a:ahLst/>
              <a:rect l="l" t="t" r="r" b="b"/>
              <a:pathLst>
                <a:path w="1709" h="2558">
                  <a:moveTo>
                    <a:pt x="95" y="2249"/>
                  </a:moveTo>
                  <a:lnTo>
                    <a:pt x="0" y="812"/>
                  </a:lnTo>
                  <a:lnTo>
                    <a:pt x="149" y="0"/>
                  </a:lnTo>
                  <a:lnTo>
                    <a:pt x="1390" y="12"/>
                  </a:lnTo>
                  <a:lnTo>
                    <a:pt x="1633" y="242"/>
                  </a:lnTo>
                  <a:lnTo>
                    <a:pt x="1709" y="1733"/>
                  </a:lnTo>
                  <a:lnTo>
                    <a:pt x="1571" y="2254"/>
                  </a:lnTo>
                  <a:lnTo>
                    <a:pt x="718" y="2558"/>
                  </a:lnTo>
                  <a:lnTo>
                    <a:pt x="95" y="2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639"/>
            <p:cNvSpPr/>
            <p:nvPr/>
          </p:nvSpPr>
          <p:spPr>
            <a:xfrm>
              <a:off x="-6087960" y="-7334280"/>
              <a:ext cx="2719440" cy="406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40"/>
            <p:cNvSpPr/>
            <p:nvPr/>
          </p:nvSpPr>
          <p:spPr>
            <a:xfrm>
              <a:off x="-6087960" y="-7332480"/>
              <a:ext cx="2712960" cy="4060800"/>
            </a:xfrm>
            <a:custGeom>
              <a:avLst/>
              <a:gdLst/>
              <a:ahLst/>
              <a:rect l="l" t="t" r="r" b="b"/>
              <a:pathLst>
                <a:path w="1709" h="2558">
                  <a:moveTo>
                    <a:pt x="95" y="2249"/>
                  </a:moveTo>
                  <a:lnTo>
                    <a:pt x="0" y="812"/>
                  </a:lnTo>
                  <a:lnTo>
                    <a:pt x="149" y="0"/>
                  </a:lnTo>
                  <a:lnTo>
                    <a:pt x="1390" y="12"/>
                  </a:lnTo>
                  <a:lnTo>
                    <a:pt x="1633" y="242"/>
                  </a:lnTo>
                  <a:lnTo>
                    <a:pt x="1709" y="1733"/>
                  </a:lnTo>
                  <a:lnTo>
                    <a:pt x="1571" y="2254"/>
                  </a:lnTo>
                  <a:lnTo>
                    <a:pt x="718" y="2558"/>
                  </a:lnTo>
                  <a:lnTo>
                    <a:pt x="95" y="2249"/>
                  </a:lnTo>
                  <a:close/>
                </a:path>
              </a:pathLst>
            </a:custGeom>
            <a:noFill/>
            <a:ln cap="rnd"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689"/>
          <p:cNvGrpSpPr/>
          <p:nvPr/>
        </p:nvGrpSpPr>
        <p:grpSpPr>
          <a:xfrm>
            <a:off x="3637080" y="-2844720"/>
            <a:ext cx="833400" cy="1623240"/>
            <a:chOff x="3637080" y="-2844720"/>
            <a:chExt cx="833400" cy="1623240"/>
          </a:xfrm>
        </p:grpSpPr>
        <p:sp>
          <p:nvSpPr>
            <p:cNvPr id="695" name="Freeform 688"/>
            <p:cNvSpPr/>
            <p:nvPr/>
          </p:nvSpPr>
          <p:spPr>
            <a:xfrm>
              <a:off x="3637080" y="-2844720"/>
              <a:ext cx="833400" cy="1578240"/>
            </a:xfrm>
            <a:custGeom>
              <a:avLst/>
              <a:gdLst/>
              <a:ahLst/>
              <a:rect l="l" t="t" r="r" b="b"/>
              <a:pathLst>
                <a:path w="753" h="1425">
                  <a:moveTo>
                    <a:pt x="375" y="1425"/>
                  </a:moveTo>
                  <a:lnTo>
                    <a:pt x="574" y="1304"/>
                  </a:lnTo>
                  <a:lnTo>
                    <a:pt x="704" y="1144"/>
                  </a:lnTo>
                  <a:cubicBezTo>
                    <a:pt x="733" y="1039"/>
                    <a:pt x="753" y="814"/>
                    <a:pt x="750" y="675"/>
                  </a:cubicBezTo>
                  <a:cubicBezTo>
                    <a:pt x="747" y="537"/>
                    <a:pt x="724" y="408"/>
                    <a:pt x="686" y="314"/>
                  </a:cubicBezTo>
                  <a:cubicBezTo>
                    <a:pt x="647" y="222"/>
                    <a:pt x="579" y="169"/>
                    <a:pt x="520" y="117"/>
                  </a:cubicBezTo>
                  <a:lnTo>
                    <a:pt x="334" y="0"/>
                  </a:lnTo>
                  <a:lnTo>
                    <a:pt x="152" y="159"/>
                  </a:lnTo>
                  <a:cubicBezTo>
                    <a:pt x="101" y="229"/>
                    <a:pt x="50" y="307"/>
                    <a:pt x="25" y="422"/>
                  </a:cubicBezTo>
                  <a:lnTo>
                    <a:pt x="0" y="852"/>
                  </a:lnTo>
                  <a:cubicBezTo>
                    <a:pt x="8" y="983"/>
                    <a:pt x="13" y="1112"/>
                    <a:pt x="75" y="1207"/>
                  </a:cubicBezTo>
                  <a:cubicBezTo>
                    <a:pt x="137" y="1302"/>
                    <a:pt x="312" y="1379"/>
                    <a:pt x="375" y="1425"/>
                  </a:cubicBezTo>
                  <a:close/>
                </a:path>
              </a:pathLst>
            </a:custGeom>
            <a:solidFill>
              <a:srgbClr val="333333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Group 686"/>
            <p:cNvGrpSpPr/>
            <p:nvPr/>
          </p:nvGrpSpPr>
          <p:grpSpPr>
            <a:xfrm>
              <a:off x="3643560" y="-2797920"/>
              <a:ext cx="803160" cy="1576440"/>
              <a:chOff x="3643560" y="-2797920"/>
              <a:chExt cx="803160" cy="1576440"/>
            </a:xfrm>
          </p:grpSpPr>
          <p:sp>
            <p:nvSpPr>
              <p:cNvPr id="697" name="Freeform 683"/>
              <p:cNvSpPr/>
              <p:nvPr/>
            </p:nvSpPr>
            <p:spPr>
              <a:xfrm>
                <a:off x="3650040" y="-2566080"/>
                <a:ext cx="785880" cy="1219320"/>
              </a:xfrm>
              <a:custGeom>
                <a:avLst/>
                <a:gdLst/>
                <a:ahLst/>
                <a:rect l="l" t="t" r="r" b="b"/>
                <a:pathLst>
                  <a:path w="1814" h="2813">
                    <a:moveTo>
                      <a:pt x="136" y="2404"/>
                    </a:moveTo>
                    <a:lnTo>
                      <a:pt x="91" y="2314"/>
                    </a:lnTo>
                    <a:lnTo>
                      <a:pt x="0" y="1543"/>
                    </a:lnTo>
                    <a:lnTo>
                      <a:pt x="0" y="1044"/>
                    </a:lnTo>
                    <a:lnTo>
                      <a:pt x="91" y="318"/>
                    </a:lnTo>
                    <a:lnTo>
                      <a:pt x="726" y="0"/>
                    </a:lnTo>
                    <a:lnTo>
                      <a:pt x="1542" y="182"/>
                    </a:lnTo>
                    <a:lnTo>
                      <a:pt x="1715" y="324"/>
                    </a:lnTo>
                    <a:lnTo>
                      <a:pt x="1814" y="908"/>
                    </a:lnTo>
                    <a:lnTo>
                      <a:pt x="1814" y="1225"/>
                    </a:lnTo>
                    <a:lnTo>
                      <a:pt x="1814" y="1951"/>
                    </a:lnTo>
                    <a:lnTo>
                      <a:pt x="1769" y="2268"/>
                    </a:lnTo>
                    <a:lnTo>
                      <a:pt x="1134" y="2813"/>
                    </a:lnTo>
                    <a:lnTo>
                      <a:pt x="408" y="2631"/>
                    </a:lnTo>
                    <a:lnTo>
                      <a:pt x="91" y="2359"/>
                    </a:lnTo>
                  </a:path>
                </a:pathLst>
              </a:custGeom>
              <a:solidFill>
                <a:srgbClr val="fffff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8" name="Group 608"/>
              <p:cNvGrpSpPr/>
              <p:nvPr/>
            </p:nvGrpSpPr>
            <p:grpSpPr>
              <a:xfrm>
                <a:off x="3687480" y="-2788920"/>
                <a:ext cx="328680" cy="378720"/>
                <a:chOff x="3687480" y="-2788920"/>
                <a:chExt cx="328680" cy="378720"/>
              </a:xfrm>
            </p:grpSpPr>
            <p:sp>
              <p:nvSpPr>
                <p:cNvPr id="699" name="Freeform 606"/>
                <p:cNvSpPr/>
                <p:nvPr/>
              </p:nvSpPr>
              <p:spPr>
                <a:xfrm>
                  <a:off x="3687480" y="-2788920"/>
                  <a:ext cx="328680" cy="378720"/>
                </a:xfrm>
                <a:custGeom>
                  <a:avLst/>
                  <a:gdLst/>
                  <a:ahLst/>
                  <a:rect l="l" t="t" r="r" b="b"/>
                  <a:pathLst>
                    <a:path w="759" h="874">
                      <a:moveTo>
                        <a:pt x="742" y="763"/>
                      </a:moveTo>
                      <a:lnTo>
                        <a:pt x="743" y="699"/>
                      </a:lnTo>
                      <a:lnTo>
                        <a:pt x="759" y="0"/>
                      </a:lnTo>
                      <a:lnTo>
                        <a:pt x="723" y="24"/>
                      </a:lnTo>
                      <a:lnTo>
                        <a:pt x="688" y="50"/>
                      </a:lnTo>
                      <a:lnTo>
                        <a:pt x="654" y="74"/>
                      </a:lnTo>
                      <a:lnTo>
                        <a:pt x="622" y="99"/>
                      </a:lnTo>
                      <a:lnTo>
                        <a:pt x="589" y="123"/>
                      </a:lnTo>
                      <a:lnTo>
                        <a:pt x="558" y="147"/>
                      </a:lnTo>
                      <a:lnTo>
                        <a:pt x="528" y="171"/>
                      </a:lnTo>
                      <a:lnTo>
                        <a:pt x="499" y="195"/>
                      </a:lnTo>
                      <a:lnTo>
                        <a:pt x="485" y="206"/>
                      </a:lnTo>
                      <a:lnTo>
                        <a:pt x="471" y="218"/>
                      </a:lnTo>
                      <a:lnTo>
                        <a:pt x="444" y="241"/>
                      </a:lnTo>
                      <a:lnTo>
                        <a:pt x="418" y="264"/>
                      </a:lnTo>
                      <a:lnTo>
                        <a:pt x="392" y="287"/>
                      </a:lnTo>
                      <a:lnTo>
                        <a:pt x="368" y="309"/>
                      </a:lnTo>
                      <a:lnTo>
                        <a:pt x="356" y="320"/>
                      </a:lnTo>
                      <a:lnTo>
                        <a:pt x="345" y="331"/>
                      </a:lnTo>
                      <a:lnTo>
                        <a:pt x="323" y="353"/>
                      </a:lnTo>
                      <a:lnTo>
                        <a:pt x="302" y="375"/>
                      </a:lnTo>
                      <a:lnTo>
                        <a:pt x="273" y="404"/>
                      </a:lnTo>
                      <a:lnTo>
                        <a:pt x="259" y="418"/>
                      </a:lnTo>
                      <a:lnTo>
                        <a:pt x="247" y="433"/>
                      </a:lnTo>
                      <a:lnTo>
                        <a:pt x="222" y="462"/>
                      </a:lnTo>
                      <a:lnTo>
                        <a:pt x="210" y="476"/>
                      </a:lnTo>
                      <a:lnTo>
                        <a:pt x="199" y="491"/>
                      </a:lnTo>
                      <a:lnTo>
                        <a:pt x="178" y="518"/>
                      </a:lnTo>
                      <a:lnTo>
                        <a:pt x="159" y="545"/>
                      </a:lnTo>
                      <a:lnTo>
                        <a:pt x="142" y="572"/>
                      </a:lnTo>
                      <a:lnTo>
                        <a:pt x="134" y="585"/>
                      </a:lnTo>
                      <a:lnTo>
                        <a:pt x="127" y="598"/>
                      </a:lnTo>
                      <a:lnTo>
                        <a:pt x="114" y="621"/>
                      </a:lnTo>
                      <a:lnTo>
                        <a:pt x="102" y="642"/>
                      </a:lnTo>
                      <a:lnTo>
                        <a:pt x="91" y="663"/>
                      </a:lnTo>
                      <a:lnTo>
                        <a:pt x="81" y="684"/>
                      </a:lnTo>
                      <a:lnTo>
                        <a:pt x="71" y="703"/>
                      </a:lnTo>
                      <a:lnTo>
                        <a:pt x="61" y="722"/>
                      </a:lnTo>
                      <a:lnTo>
                        <a:pt x="53" y="741"/>
                      </a:lnTo>
                      <a:lnTo>
                        <a:pt x="44" y="758"/>
                      </a:lnTo>
                      <a:lnTo>
                        <a:pt x="36" y="775"/>
                      </a:lnTo>
                      <a:lnTo>
                        <a:pt x="29" y="791"/>
                      </a:lnTo>
                      <a:lnTo>
                        <a:pt x="23" y="806"/>
                      </a:lnTo>
                      <a:lnTo>
                        <a:pt x="17" y="821"/>
                      </a:lnTo>
                      <a:lnTo>
                        <a:pt x="11" y="835"/>
                      </a:lnTo>
                      <a:lnTo>
                        <a:pt x="7" y="849"/>
                      </a:lnTo>
                      <a:lnTo>
                        <a:pt x="3" y="862"/>
                      </a:lnTo>
                      <a:lnTo>
                        <a:pt x="0" y="874"/>
                      </a:lnTo>
                      <a:lnTo>
                        <a:pt x="175" y="828"/>
                      </a:lnTo>
                      <a:lnTo>
                        <a:pt x="351" y="805"/>
                      </a:lnTo>
                      <a:lnTo>
                        <a:pt x="526" y="783"/>
                      </a:lnTo>
                      <a:lnTo>
                        <a:pt x="536" y="782"/>
                      </a:lnTo>
                      <a:lnTo>
                        <a:pt x="545" y="781"/>
                      </a:lnTo>
                      <a:lnTo>
                        <a:pt x="546" y="781"/>
                      </a:lnTo>
                      <a:lnTo>
                        <a:pt x="742" y="7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607"/>
                <p:cNvSpPr/>
                <p:nvPr/>
              </p:nvSpPr>
              <p:spPr>
                <a:xfrm>
                  <a:off x="3687480" y="-2788920"/>
                  <a:ext cx="328680" cy="378720"/>
                </a:xfrm>
                <a:custGeom>
                  <a:avLst/>
                  <a:gdLst/>
                  <a:ahLst/>
                  <a:rect l="l" t="t" r="r" b="b"/>
                  <a:pathLst>
                    <a:path w="759" h="874">
                      <a:moveTo>
                        <a:pt x="742" y="763"/>
                      </a:moveTo>
                      <a:lnTo>
                        <a:pt x="743" y="699"/>
                      </a:lnTo>
                      <a:lnTo>
                        <a:pt x="759" y="0"/>
                      </a:lnTo>
                      <a:lnTo>
                        <a:pt x="723" y="24"/>
                      </a:lnTo>
                      <a:lnTo>
                        <a:pt x="688" y="50"/>
                      </a:lnTo>
                      <a:lnTo>
                        <a:pt x="654" y="74"/>
                      </a:lnTo>
                      <a:lnTo>
                        <a:pt x="622" y="99"/>
                      </a:lnTo>
                      <a:lnTo>
                        <a:pt x="589" y="123"/>
                      </a:lnTo>
                      <a:lnTo>
                        <a:pt x="558" y="147"/>
                      </a:lnTo>
                      <a:lnTo>
                        <a:pt x="528" y="171"/>
                      </a:lnTo>
                      <a:lnTo>
                        <a:pt x="499" y="195"/>
                      </a:lnTo>
                      <a:lnTo>
                        <a:pt x="485" y="206"/>
                      </a:lnTo>
                      <a:lnTo>
                        <a:pt x="471" y="218"/>
                      </a:lnTo>
                      <a:lnTo>
                        <a:pt x="444" y="241"/>
                      </a:lnTo>
                      <a:lnTo>
                        <a:pt x="418" y="264"/>
                      </a:lnTo>
                      <a:lnTo>
                        <a:pt x="392" y="287"/>
                      </a:lnTo>
                      <a:lnTo>
                        <a:pt x="368" y="309"/>
                      </a:lnTo>
                      <a:lnTo>
                        <a:pt x="356" y="320"/>
                      </a:lnTo>
                      <a:lnTo>
                        <a:pt x="345" y="331"/>
                      </a:lnTo>
                      <a:lnTo>
                        <a:pt x="323" y="353"/>
                      </a:lnTo>
                      <a:lnTo>
                        <a:pt x="302" y="375"/>
                      </a:lnTo>
                      <a:lnTo>
                        <a:pt x="273" y="404"/>
                      </a:lnTo>
                      <a:lnTo>
                        <a:pt x="259" y="418"/>
                      </a:lnTo>
                      <a:lnTo>
                        <a:pt x="247" y="433"/>
                      </a:lnTo>
                      <a:lnTo>
                        <a:pt x="222" y="462"/>
                      </a:lnTo>
                      <a:lnTo>
                        <a:pt x="210" y="476"/>
                      </a:lnTo>
                      <a:lnTo>
                        <a:pt x="199" y="491"/>
                      </a:lnTo>
                      <a:lnTo>
                        <a:pt x="178" y="518"/>
                      </a:lnTo>
                      <a:lnTo>
                        <a:pt x="159" y="545"/>
                      </a:lnTo>
                      <a:lnTo>
                        <a:pt x="142" y="572"/>
                      </a:lnTo>
                      <a:lnTo>
                        <a:pt x="134" y="585"/>
                      </a:lnTo>
                      <a:lnTo>
                        <a:pt x="127" y="598"/>
                      </a:lnTo>
                      <a:lnTo>
                        <a:pt x="114" y="621"/>
                      </a:lnTo>
                      <a:lnTo>
                        <a:pt x="102" y="642"/>
                      </a:lnTo>
                      <a:lnTo>
                        <a:pt x="91" y="663"/>
                      </a:lnTo>
                      <a:lnTo>
                        <a:pt x="81" y="684"/>
                      </a:lnTo>
                      <a:lnTo>
                        <a:pt x="71" y="703"/>
                      </a:lnTo>
                      <a:lnTo>
                        <a:pt x="61" y="722"/>
                      </a:lnTo>
                      <a:lnTo>
                        <a:pt x="53" y="741"/>
                      </a:lnTo>
                      <a:lnTo>
                        <a:pt x="44" y="758"/>
                      </a:lnTo>
                      <a:lnTo>
                        <a:pt x="36" y="775"/>
                      </a:lnTo>
                      <a:lnTo>
                        <a:pt x="29" y="791"/>
                      </a:lnTo>
                      <a:lnTo>
                        <a:pt x="23" y="806"/>
                      </a:lnTo>
                      <a:lnTo>
                        <a:pt x="17" y="821"/>
                      </a:lnTo>
                      <a:lnTo>
                        <a:pt x="11" y="835"/>
                      </a:lnTo>
                      <a:lnTo>
                        <a:pt x="7" y="849"/>
                      </a:lnTo>
                      <a:lnTo>
                        <a:pt x="3" y="862"/>
                      </a:lnTo>
                      <a:lnTo>
                        <a:pt x="0" y="874"/>
                      </a:lnTo>
                      <a:lnTo>
                        <a:pt x="175" y="828"/>
                      </a:lnTo>
                      <a:lnTo>
                        <a:pt x="351" y="805"/>
                      </a:lnTo>
                      <a:lnTo>
                        <a:pt x="526" y="783"/>
                      </a:lnTo>
                      <a:lnTo>
                        <a:pt x="536" y="782"/>
                      </a:lnTo>
                      <a:lnTo>
                        <a:pt x="545" y="781"/>
                      </a:lnTo>
                      <a:lnTo>
                        <a:pt x="546" y="781"/>
                      </a:lnTo>
                      <a:lnTo>
                        <a:pt x="742" y="763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619"/>
              <p:cNvGrpSpPr/>
              <p:nvPr/>
            </p:nvGrpSpPr>
            <p:grpSpPr>
              <a:xfrm>
                <a:off x="3693600" y="-1561320"/>
                <a:ext cx="369000" cy="339120"/>
                <a:chOff x="3693600" y="-1561320"/>
                <a:chExt cx="369000" cy="339120"/>
              </a:xfrm>
            </p:grpSpPr>
            <p:sp>
              <p:nvSpPr>
                <p:cNvPr id="702" name="Freeform 617"/>
                <p:cNvSpPr/>
                <p:nvPr/>
              </p:nvSpPr>
              <p:spPr>
                <a:xfrm>
                  <a:off x="3693600" y="-1561320"/>
                  <a:ext cx="369000" cy="339120"/>
                </a:xfrm>
                <a:custGeom>
                  <a:avLst/>
                  <a:gdLst/>
                  <a:ahLst/>
                  <a:rect l="l" t="t" r="r" b="b"/>
                  <a:pathLst>
                    <a:path w="852" h="783">
                      <a:moveTo>
                        <a:pt x="101" y="22"/>
                      </a:moveTo>
                      <a:lnTo>
                        <a:pt x="0" y="44"/>
                      </a:lnTo>
                      <a:lnTo>
                        <a:pt x="24" y="77"/>
                      </a:lnTo>
                      <a:lnTo>
                        <a:pt x="49" y="111"/>
                      </a:lnTo>
                      <a:lnTo>
                        <a:pt x="76" y="145"/>
                      </a:lnTo>
                      <a:lnTo>
                        <a:pt x="103" y="179"/>
                      </a:lnTo>
                      <a:lnTo>
                        <a:pt x="132" y="213"/>
                      </a:lnTo>
                      <a:lnTo>
                        <a:pt x="211" y="300"/>
                      </a:lnTo>
                      <a:lnTo>
                        <a:pt x="243" y="332"/>
                      </a:lnTo>
                      <a:lnTo>
                        <a:pt x="276" y="365"/>
                      </a:lnTo>
                      <a:lnTo>
                        <a:pt x="310" y="397"/>
                      </a:lnTo>
                      <a:lnTo>
                        <a:pt x="345" y="429"/>
                      </a:lnTo>
                      <a:lnTo>
                        <a:pt x="380" y="461"/>
                      </a:lnTo>
                      <a:lnTo>
                        <a:pt x="399" y="476"/>
                      </a:lnTo>
                      <a:lnTo>
                        <a:pt x="417" y="492"/>
                      </a:lnTo>
                      <a:lnTo>
                        <a:pt x="455" y="523"/>
                      </a:lnTo>
                      <a:lnTo>
                        <a:pt x="494" y="554"/>
                      </a:lnTo>
                      <a:lnTo>
                        <a:pt x="533" y="583"/>
                      </a:lnTo>
                      <a:lnTo>
                        <a:pt x="574" y="612"/>
                      </a:lnTo>
                      <a:lnTo>
                        <a:pt x="614" y="641"/>
                      </a:lnTo>
                      <a:lnTo>
                        <a:pt x="657" y="671"/>
                      </a:lnTo>
                      <a:lnTo>
                        <a:pt x="700" y="699"/>
                      </a:lnTo>
                      <a:lnTo>
                        <a:pt x="744" y="728"/>
                      </a:lnTo>
                      <a:lnTo>
                        <a:pt x="766" y="741"/>
                      </a:lnTo>
                      <a:lnTo>
                        <a:pt x="789" y="755"/>
                      </a:lnTo>
                      <a:lnTo>
                        <a:pt x="835" y="783"/>
                      </a:lnTo>
                      <a:lnTo>
                        <a:pt x="840" y="767"/>
                      </a:lnTo>
                      <a:lnTo>
                        <a:pt x="843" y="751"/>
                      </a:lnTo>
                      <a:lnTo>
                        <a:pt x="847" y="735"/>
                      </a:lnTo>
                      <a:lnTo>
                        <a:pt x="850" y="720"/>
                      </a:lnTo>
                      <a:lnTo>
                        <a:pt x="851" y="705"/>
                      </a:lnTo>
                      <a:lnTo>
                        <a:pt x="852" y="690"/>
                      </a:lnTo>
                      <a:lnTo>
                        <a:pt x="852" y="676"/>
                      </a:lnTo>
                      <a:lnTo>
                        <a:pt x="851" y="662"/>
                      </a:lnTo>
                      <a:lnTo>
                        <a:pt x="841" y="554"/>
                      </a:lnTo>
                      <a:lnTo>
                        <a:pt x="835" y="446"/>
                      </a:lnTo>
                      <a:lnTo>
                        <a:pt x="811" y="20"/>
                      </a:lnTo>
                      <a:lnTo>
                        <a:pt x="731" y="19"/>
                      </a:lnTo>
                      <a:lnTo>
                        <a:pt x="650" y="16"/>
                      </a:lnTo>
                      <a:lnTo>
                        <a:pt x="570" y="12"/>
                      </a:lnTo>
                      <a:lnTo>
                        <a:pt x="491" y="6"/>
                      </a:lnTo>
                      <a:lnTo>
                        <a:pt x="441" y="2"/>
                      </a:lnTo>
                      <a:lnTo>
                        <a:pt x="392" y="1"/>
                      </a:lnTo>
                      <a:lnTo>
                        <a:pt x="343" y="0"/>
                      </a:lnTo>
                      <a:lnTo>
                        <a:pt x="295" y="2"/>
                      </a:lnTo>
                      <a:lnTo>
                        <a:pt x="246" y="4"/>
                      </a:lnTo>
                      <a:lnTo>
                        <a:pt x="198" y="9"/>
                      </a:lnTo>
                      <a:lnTo>
                        <a:pt x="150" y="15"/>
                      </a:lnTo>
                      <a:lnTo>
                        <a:pt x="101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618"/>
                <p:cNvSpPr/>
                <p:nvPr/>
              </p:nvSpPr>
              <p:spPr>
                <a:xfrm>
                  <a:off x="3693600" y="-1561320"/>
                  <a:ext cx="369000" cy="339120"/>
                </a:xfrm>
                <a:custGeom>
                  <a:avLst/>
                  <a:gdLst/>
                  <a:ahLst/>
                  <a:rect l="l" t="t" r="r" b="b"/>
                  <a:pathLst>
                    <a:path w="852" h="783">
                      <a:moveTo>
                        <a:pt x="101" y="22"/>
                      </a:moveTo>
                      <a:lnTo>
                        <a:pt x="0" y="44"/>
                      </a:lnTo>
                      <a:lnTo>
                        <a:pt x="24" y="77"/>
                      </a:lnTo>
                      <a:lnTo>
                        <a:pt x="49" y="111"/>
                      </a:lnTo>
                      <a:lnTo>
                        <a:pt x="76" y="145"/>
                      </a:lnTo>
                      <a:lnTo>
                        <a:pt x="103" y="179"/>
                      </a:lnTo>
                      <a:lnTo>
                        <a:pt x="132" y="213"/>
                      </a:lnTo>
                      <a:lnTo>
                        <a:pt x="211" y="300"/>
                      </a:lnTo>
                      <a:lnTo>
                        <a:pt x="243" y="332"/>
                      </a:lnTo>
                      <a:lnTo>
                        <a:pt x="276" y="365"/>
                      </a:lnTo>
                      <a:lnTo>
                        <a:pt x="310" y="397"/>
                      </a:lnTo>
                      <a:lnTo>
                        <a:pt x="345" y="429"/>
                      </a:lnTo>
                      <a:lnTo>
                        <a:pt x="380" y="461"/>
                      </a:lnTo>
                      <a:lnTo>
                        <a:pt x="399" y="476"/>
                      </a:lnTo>
                      <a:lnTo>
                        <a:pt x="417" y="492"/>
                      </a:lnTo>
                      <a:lnTo>
                        <a:pt x="455" y="523"/>
                      </a:lnTo>
                      <a:lnTo>
                        <a:pt x="494" y="554"/>
                      </a:lnTo>
                      <a:lnTo>
                        <a:pt x="533" y="583"/>
                      </a:lnTo>
                      <a:lnTo>
                        <a:pt x="574" y="612"/>
                      </a:lnTo>
                      <a:lnTo>
                        <a:pt x="614" y="641"/>
                      </a:lnTo>
                      <a:lnTo>
                        <a:pt x="657" y="671"/>
                      </a:lnTo>
                      <a:lnTo>
                        <a:pt x="700" y="699"/>
                      </a:lnTo>
                      <a:lnTo>
                        <a:pt x="744" y="728"/>
                      </a:lnTo>
                      <a:lnTo>
                        <a:pt x="766" y="741"/>
                      </a:lnTo>
                      <a:lnTo>
                        <a:pt x="789" y="755"/>
                      </a:lnTo>
                      <a:lnTo>
                        <a:pt x="835" y="783"/>
                      </a:lnTo>
                      <a:lnTo>
                        <a:pt x="840" y="767"/>
                      </a:lnTo>
                      <a:lnTo>
                        <a:pt x="843" y="751"/>
                      </a:lnTo>
                      <a:lnTo>
                        <a:pt x="847" y="735"/>
                      </a:lnTo>
                      <a:lnTo>
                        <a:pt x="850" y="720"/>
                      </a:lnTo>
                      <a:lnTo>
                        <a:pt x="851" y="705"/>
                      </a:lnTo>
                      <a:lnTo>
                        <a:pt x="852" y="690"/>
                      </a:lnTo>
                      <a:lnTo>
                        <a:pt x="852" y="676"/>
                      </a:lnTo>
                      <a:lnTo>
                        <a:pt x="851" y="662"/>
                      </a:lnTo>
                      <a:lnTo>
                        <a:pt x="841" y="554"/>
                      </a:lnTo>
                      <a:lnTo>
                        <a:pt x="835" y="446"/>
                      </a:lnTo>
                      <a:lnTo>
                        <a:pt x="811" y="20"/>
                      </a:lnTo>
                      <a:lnTo>
                        <a:pt x="731" y="19"/>
                      </a:lnTo>
                      <a:lnTo>
                        <a:pt x="650" y="16"/>
                      </a:lnTo>
                      <a:lnTo>
                        <a:pt x="570" y="12"/>
                      </a:lnTo>
                      <a:lnTo>
                        <a:pt x="491" y="6"/>
                      </a:lnTo>
                      <a:lnTo>
                        <a:pt x="441" y="2"/>
                      </a:lnTo>
                      <a:lnTo>
                        <a:pt x="392" y="1"/>
                      </a:lnTo>
                      <a:lnTo>
                        <a:pt x="343" y="0"/>
                      </a:lnTo>
                      <a:lnTo>
                        <a:pt x="295" y="2"/>
                      </a:lnTo>
                      <a:lnTo>
                        <a:pt x="246" y="4"/>
                      </a:lnTo>
                      <a:lnTo>
                        <a:pt x="198" y="9"/>
                      </a:lnTo>
                      <a:lnTo>
                        <a:pt x="150" y="15"/>
                      </a:lnTo>
                      <a:lnTo>
                        <a:pt x="101" y="22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628"/>
              <p:cNvSpPr/>
              <p:nvPr/>
            </p:nvSpPr>
            <p:spPr>
              <a:xfrm>
                <a:off x="4406400" y="-2409840"/>
                <a:ext cx="36000" cy="837720"/>
              </a:xfrm>
              <a:custGeom>
                <a:avLst/>
                <a:gdLst/>
                <a:ahLst/>
                <a:rect l="l" t="t" r="r" b="b"/>
                <a:pathLst>
                  <a:path w="84" h="1933">
                    <a:moveTo>
                      <a:pt x="0" y="0"/>
                    </a:moveTo>
                    <a:lnTo>
                      <a:pt x="31" y="226"/>
                    </a:lnTo>
                    <a:lnTo>
                      <a:pt x="31" y="229"/>
                    </a:lnTo>
                    <a:lnTo>
                      <a:pt x="32" y="233"/>
                    </a:lnTo>
                    <a:lnTo>
                      <a:pt x="33" y="242"/>
                    </a:lnTo>
                    <a:lnTo>
                      <a:pt x="33" y="247"/>
                    </a:lnTo>
                    <a:lnTo>
                      <a:pt x="34" y="253"/>
                    </a:lnTo>
                    <a:lnTo>
                      <a:pt x="36" y="265"/>
                    </a:lnTo>
                    <a:lnTo>
                      <a:pt x="37" y="278"/>
                    </a:lnTo>
                    <a:lnTo>
                      <a:pt x="38" y="293"/>
                    </a:lnTo>
                    <a:lnTo>
                      <a:pt x="40" y="309"/>
                    </a:lnTo>
                    <a:lnTo>
                      <a:pt x="40" y="318"/>
                    </a:lnTo>
                    <a:lnTo>
                      <a:pt x="42" y="327"/>
                    </a:lnTo>
                    <a:lnTo>
                      <a:pt x="43" y="347"/>
                    </a:lnTo>
                    <a:lnTo>
                      <a:pt x="45" y="368"/>
                    </a:lnTo>
                    <a:lnTo>
                      <a:pt x="46" y="390"/>
                    </a:lnTo>
                    <a:lnTo>
                      <a:pt x="49" y="414"/>
                    </a:lnTo>
                    <a:lnTo>
                      <a:pt x="50" y="438"/>
                    </a:lnTo>
                    <a:lnTo>
                      <a:pt x="51" y="451"/>
                    </a:lnTo>
                    <a:lnTo>
                      <a:pt x="53" y="465"/>
                    </a:lnTo>
                    <a:lnTo>
                      <a:pt x="55" y="493"/>
                    </a:lnTo>
                    <a:lnTo>
                      <a:pt x="57" y="522"/>
                    </a:lnTo>
                    <a:lnTo>
                      <a:pt x="65" y="642"/>
                    </a:lnTo>
                    <a:lnTo>
                      <a:pt x="67" y="686"/>
                    </a:lnTo>
                    <a:lnTo>
                      <a:pt x="69" y="730"/>
                    </a:lnTo>
                    <a:lnTo>
                      <a:pt x="72" y="772"/>
                    </a:lnTo>
                    <a:lnTo>
                      <a:pt x="73" y="792"/>
                    </a:lnTo>
                    <a:lnTo>
                      <a:pt x="73" y="803"/>
                    </a:lnTo>
                    <a:lnTo>
                      <a:pt x="73" y="805"/>
                    </a:lnTo>
                    <a:lnTo>
                      <a:pt x="73" y="808"/>
                    </a:lnTo>
                    <a:lnTo>
                      <a:pt x="74" y="813"/>
                    </a:lnTo>
                    <a:lnTo>
                      <a:pt x="76" y="853"/>
                    </a:lnTo>
                    <a:lnTo>
                      <a:pt x="78" y="892"/>
                    </a:lnTo>
                    <a:lnTo>
                      <a:pt x="79" y="930"/>
                    </a:lnTo>
                    <a:lnTo>
                      <a:pt x="80" y="948"/>
                    </a:lnTo>
                    <a:lnTo>
                      <a:pt x="81" y="967"/>
                    </a:lnTo>
                    <a:lnTo>
                      <a:pt x="82" y="999"/>
                    </a:lnTo>
                    <a:lnTo>
                      <a:pt x="83" y="1030"/>
                    </a:lnTo>
                    <a:lnTo>
                      <a:pt x="83" y="1061"/>
                    </a:lnTo>
                    <a:lnTo>
                      <a:pt x="84" y="1091"/>
                    </a:lnTo>
                    <a:lnTo>
                      <a:pt x="84" y="1105"/>
                    </a:lnTo>
                    <a:lnTo>
                      <a:pt x="84" y="1120"/>
                    </a:lnTo>
                    <a:lnTo>
                      <a:pt x="84" y="1148"/>
                    </a:lnTo>
                    <a:lnTo>
                      <a:pt x="84" y="1174"/>
                    </a:lnTo>
                    <a:lnTo>
                      <a:pt x="84" y="1201"/>
                    </a:lnTo>
                    <a:lnTo>
                      <a:pt x="82" y="1255"/>
                    </a:lnTo>
                    <a:lnTo>
                      <a:pt x="81" y="1310"/>
                    </a:lnTo>
                    <a:lnTo>
                      <a:pt x="79" y="1338"/>
                    </a:lnTo>
                    <a:lnTo>
                      <a:pt x="78" y="1367"/>
                    </a:lnTo>
                    <a:lnTo>
                      <a:pt x="76" y="1426"/>
                    </a:lnTo>
                    <a:lnTo>
                      <a:pt x="73" y="1456"/>
                    </a:lnTo>
                    <a:lnTo>
                      <a:pt x="71" y="1486"/>
                    </a:lnTo>
                    <a:lnTo>
                      <a:pt x="67" y="1549"/>
                    </a:lnTo>
                    <a:lnTo>
                      <a:pt x="65" y="1580"/>
                    </a:lnTo>
                    <a:lnTo>
                      <a:pt x="63" y="1613"/>
                    </a:lnTo>
                    <a:lnTo>
                      <a:pt x="60" y="1645"/>
                    </a:lnTo>
                    <a:lnTo>
                      <a:pt x="57" y="1678"/>
                    </a:lnTo>
                    <a:lnTo>
                      <a:pt x="52" y="1738"/>
                    </a:lnTo>
                    <a:lnTo>
                      <a:pt x="50" y="1752"/>
                    </a:lnTo>
                    <a:lnTo>
                      <a:pt x="48" y="1766"/>
                    </a:lnTo>
                    <a:lnTo>
                      <a:pt x="45" y="1794"/>
                    </a:lnTo>
                    <a:lnTo>
                      <a:pt x="43" y="1797"/>
                    </a:lnTo>
                    <a:lnTo>
                      <a:pt x="43" y="1801"/>
                    </a:lnTo>
                    <a:lnTo>
                      <a:pt x="42" y="1807"/>
                    </a:lnTo>
                    <a:lnTo>
                      <a:pt x="40" y="1821"/>
                    </a:lnTo>
                    <a:lnTo>
                      <a:pt x="36" y="1846"/>
                    </a:lnTo>
                    <a:lnTo>
                      <a:pt x="31" y="1869"/>
                    </a:lnTo>
                    <a:lnTo>
                      <a:pt x="27" y="1892"/>
                    </a:lnTo>
                    <a:lnTo>
                      <a:pt x="24" y="1902"/>
                    </a:lnTo>
                    <a:lnTo>
                      <a:pt x="22" y="1913"/>
                    </a:lnTo>
                    <a:lnTo>
                      <a:pt x="17" y="1933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629"/>
              <p:cNvSpPr/>
              <p:nvPr/>
            </p:nvSpPr>
            <p:spPr>
              <a:xfrm>
                <a:off x="4325760" y="-2432160"/>
                <a:ext cx="49320" cy="866880"/>
              </a:xfrm>
              <a:custGeom>
                <a:avLst/>
                <a:gdLst/>
                <a:ahLst/>
                <a:rect l="l" t="t" r="r" b="b"/>
                <a:pathLst>
                  <a:path w="114" h="2000">
                    <a:moveTo>
                      <a:pt x="0" y="0"/>
                    </a:moveTo>
                    <a:lnTo>
                      <a:pt x="23" y="100"/>
                    </a:lnTo>
                    <a:lnTo>
                      <a:pt x="35" y="166"/>
                    </a:lnTo>
                    <a:lnTo>
                      <a:pt x="41" y="199"/>
                    </a:lnTo>
                    <a:lnTo>
                      <a:pt x="46" y="232"/>
                    </a:lnTo>
                    <a:lnTo>
                      <a:pt x="54" y="298"/>
                    </a:lnTo>
                    <a:lnTo>
                      <a:pt x="58" y="331"/>
                    </a:lnTo>
                    <a:lnTo>
                      <a:pt x="62" y="364"/>
                    </a:lnTo>
                    <a:lnTo>
                      <a:pt x="73" y="492"/>
                    </a:lnTo>
                    <a:lnTo>
                      <a:pt x="88" y="665"/>
                    </a:lnTo>
                    <a:lnTo>
                      <a:pt x="90" y="700"/>
                    </a:lnTo>
                    <a:lnTo>
                      <a:pt x="93" y="735"/>
                    </a:lnTo>
                    <a:lnTo>
                      <a:pt x="98" y="806"/>
                    </a:lnTo>
                    <a:lnTo>
                      <a:pt x="107" y="948"/>
                    </a:lnTo>
                    <a:lnTo>
                      <a:pt x="114" y="1257"/>
                    </a:lnTo>
                    <a:lnTo>
                      <a:pt x="96" y="1879"/>
                    </a:lnTo>
                    <a:lnTo>
                      <a:pt x="96" y="1965"/>
                    </a:lnTo>
                    <a:lnTo>
                      <a:pt x="95" y="1974"/>
                    </a:lnTo>
                    <a:lnTo>
                      <a:pt x="94" y="1983"/>
                    </a:lnTo>
                    <a:lnTo>
                      <a:pt x="94" y="1987"/>
                    </a:lnTo>
                    <a:lnTo>
                      <a:pt x="93" y="1991"/>
                    </a:lnTo>
                    <a:lnTo>
                      <a:pt x="92" y="200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630"/>
              <p:cNvSpPr/>
              <p:nvPr/>
            </p:nvSpPr>
            <p:spPr>
              <a:xfrm>
                <a:off x="3687480" y="-2788920"/>
                <a:ext cx="328680" cy="378720"/>
              </a:xfrm>
              <a:custGeom>
                <a:avLst/>
                <a:gdLst/>
                <a:ahLst/>
                <a:rect l="l" t="t" r="r" b="b"/>
                <a:pathLst>
                  <a:path w="759" h="874">
                    <a:moveTo>
                      <a:pt x="0" y="874"/>
                    </a:moveTo>
                    <a:lnTo>
                      <a:pt x="3" y="862"/>
                    </a:lnTo>
                    <a:lnTo>
                      <a:pt x="7" y="849"/>
                    </a:lnTo>
                    <a:lnTo>
                      <a:pt x="11" y="835"/>
                    </a:lnTo>
                    <a:lnTo>
                      <a:pt x="17" y="821"/>
                    </a:lnTo>
                    <a:lnTo>
                      <a:pt x="23" y="806"/>
                    </a:lnTo>
                    <a:lnTo>
                      <a:pt x="29" y="791"/>
                    </a:lnTo>
                    <a:lnTo>
                      <a:pt x="36" y="775"/>
                    </a:lnTo>
                    <a:lnTo>
                      <a:pt x="44" y="758"/>
                    </a:lnTo>
                    <a:lnTo>
                      <a:pt x="53" y="741"/>
                    </a:lnTo>
                    <a:lnTo>
                      <a:pt x="61" y="722"/>
                    </a:lnTo>
                    <a:lnTo>
                      <a:pt x="71" y="703"/>
                    </a:lnTo>
                    <a:lnTo>
                      <a:pt x="81" y="684"/>
                    </a:lnTo>
                    <a:lnTo>
                      <a:pt x="91" y="663"/>
                    </a:lnTo>
                    <a:lnTo>
                      <a:pt x="102" y="642"/>
                    </a:lnTo>
                    <a:lnTo>
                      <a:pt x="114" y="621"/>
                    </a:lnTo>
                    <a:lnTo>
                      <a:pt x="127" y="598"/>
                    </a:lnTo>
                    <a:lnTo>
                      <a:pt x="134" y="585"/>
                    </a:lnTo>
                    <a:lnTo>
                      <a:pt x="142" y="572"/>
                    </a:lnTo>
                    <a:lnTo>
                      <a:pt x="159" y="545"/>
                    </a:lnTo>
                    <a:lnTo>
                      <a:pt x="178" y="518"/>
                    </a:lnTo>
                    <a:lnTo>
                      <a:pt x="199" y="491"/>
                    </a:lnTo>
                    <a:lnTo>
                      <a:pt x="210" y="476"/>
                    </a:lnTo>
                    <a:lnTo>
                      <a:pt x="222" y="462"/>
                    </a:lnTo>
                    <a:lnTo>
                      <a:pt x="247" y="433"/>
                    </a:lnTo>
                    <a:lnTo>
                      <a:pt x="259" y="418"/>
                    </a:lnTo>
                    <a:lnTo>
                      <a:pt x="273" y="404"/>
                    </a:lnTo>
                    <a:lnTo>
                      <a:pt x="302" y="375"/>
                    </a:lnTo>
                    <a:lnTo>
                      <a:pt x="323" y="353"/>
                    </a:lnTo>
                    <a:lnTo>
                      <a:pt x="345" y="331"/>
                    </a:lnTo>
                    <a:lnTo>
                      <a:pt x="356" y="320"/>
                    </a:lnTo>
                    <a:lnTo>
                      <a:pt x="368" y="309"/>
                    </a:lnTo>
                    <a:lnTo>
                      <a:pt x="392" y="287"/>
                    </a:lnTo>
                    <a:lnTo>
                      <a:pt x="418" y="264"/>
                    </a:lnTo>
                    <a:lnTo>
                      <a:pt x="444" y="241"/>
                    </a:lnTo>
                    <a:lnTo>
                      <a:pt x="471" y="218"/>
                    </a:lnTo>
                    <a:lnTo>
                      <a:pt x="485" y="206"/>
                    </a:lnTo>
                    <a:lnTo>
                      <a:pt x="499" y="195"/>
                    </a:lnTo>
                    <a:lnTo>
                      <a:pt x="528" y="171"/>
                    </a:lnTo>
                    <a:lnTo>
                      <a:pt x="558" y="147"/>
                    </a:lnTo>
                    <a:lnTo>
                      <a:pt x="589" y="123"/>
                    </a:lnTo>
                    <a:lnTo>
                      <a:pt x="622" y="99"/>
                    </a:lnTo>
                    <a:lnTo>
                      <a:pt x="654" y="74"/>
                    </a:lnTo>
                    <a:lnTo>
                      <a:pt x="688" y="50"/>
                    </a:lnTo>
                    <a:lnTo>
                      <a:pt x="723" y="24"/>
                    </a:lnTo>
                    <a:lnTo>
                      <a:pt x="759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631"/>
              <p:cNvSpPr/>
              <p:nvPr/>
            </p:nvSpPr>
            <p:spPr>
              <a:xfrm>
                <a:off x="3718440" y="-2428920"/>
                <a:ext cx="44280" cy="876960"/>
              </a:xfrm>
              <a:custGeom>
                <a:avLst/>
                <a:gdLst/>
                <a:ahLst/>
                <a:rect l="l" t="t" r="r" b="b"/>
                <a:pathLst>
                  <a:path w="103" h="2023">
                    <a:moveTo>
                      <a:pt x="103" y="0"/>
                    </a:moveTo>
                    <a:lnTo>
                      <a:pt x="81" y="127"/>
                    </a:lnTo>
                    <a:lnTo>
                      <a:pt x="79" y="138"/>
                    </a:lnTo>
                    <a:lnTo>
                      <a:pt x="59" y="263"/>
                    </a:lnTo>
                    <a:lnTo>
                      <a:pt x="43" y="389"/>
                    </a:lnTo>
                    <a:lnTo>
                      <a:pt x="29" y="515"/>
                    </a:lnTo>
                    <a:lnTo>
                      <a:pt x="18" y="641"/>
                    </a:lnTo>
                    <a:lnTo>
                      <a:pt x="10" y="766"/>
                    </a:lnTo>
                    <a:lnTo>
                      <a:pt x="4" y="893"/>
                    </a:lnTo>
                    <a:lnTo>
                      <a:pt x="0" y="1020"/>
                    </a:lnTo>
                    <a:lnTo>
                      <a:pt x="0" y="1147"/>
                    </a:lnTo>
                    <a:lnTo>
                      <a:pt x="2" y="1331"/>
                    </a:lnTo>
                    <a:lnTo>
                      <a:pt x="4" y="1423"/>
                    </a:lnTo>
                    <a:lnTo>
                      <a:pt x="8" y="1515"/>
                    </a:lnTo>
                    <a:lnTo>
                      <a:pt x="18" y="1698"/>
                    </a:lnTo>
                    <a:lnTo>
                      <a:pt x="24" y="1790"/>
                    </a:lnTo>
                    <a:lnTo>
                      <a:pt x="31" y="1882"/>
                    </a:lnTo>
                    <a:lnTo>
                      <a:pt x="43" y="2023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632"/>
              <p:cNvSpPr/>
              <p:nvPr/>
            </p:nvSpPr>
            <p:spPr>
              <a:xfrm>
                <a:off x="3643560" y="-2410560"/>
                <a:ext cx="49680" cy="867600"/>
              </a:xfrm>
              <a:custGeom>
                <a:avLst/>
                <a:gdLst/>
                <a:ahLst/>
                <a:rect l="l" t="t" r="r" b="b"/>
                <a:pathLst>
                  <a:path w="115" h="2002">
                    <a:moveTo>
                      <a:pt x="115" y="2002"/>
                    </a:moveTo>
                    <a:lnTo>
                      <a:pt x="105" y="1986"/>
                    </a:lnTo>
                    <a:lnTo>
                      <a:pt x="98" y="1945"/>
                    </a:lnTo>
                    <a:lnTo>
                      <a:pt x="92" y="1903"/>
                    </a:lnTo>
                    <a:lnTo>
                      <a:pt x="79" y="1818"/>
                    </a:lnTo>
                    <a:lnTo>
                      <a:pt x="67" y="1731"/>
                    </a:lnTo>
                    <a:lnTo>
                      <a:pt x="55" y="1641"/>
                    </a:lnTo>
                    <a:lnTo>
                      <a:pt x="43" y="1549"/>
                    </a:lnTo>
                    <a:lnTo>
                      <a:pt x="38" y="1502"/>
                    </a:lnTo>
                    <a:lnTo>
                      <a:pt x="33" y="1455"/>
                    </a:lnTo>
                    <a:lnTo>
                      <a:pt x="27" y="1407"/>
                    </a:lnTo>
                    <a:lnTo>
                      <a:pt x="22" y="1358"/>
                    </a:lnTo>
                    <a:lnTo>
                      <a:pt x="16" y="1310"/>
                    </a:lnTo>
                    <a:lnTo>
                      <a:pt x="11" y="1260"/>
                    </a:lnTo>
                    <a:lnTo>
                      <a:pt x="8" y="1234"/>
                    </a:lnTo>
                    <a:lnTo>
                      <a:pt x="6" y="1208"/>
                    </a:lnTo>
                    <a:lnTo>
                      <a:pt x="4" y="1181"/>
                    </a:lnTo>
                    <a:lnTo>
                      <a:pt x="3" y="1153"/>
                    </a:lnTo>
                    <a:lnTo>
                      <a:pt x="1" y="1124"/>
                    </a:lnTo>
                    <a:lnTo>
                      <a:pt x="0" y="1096"/>
                    </a:lnTo>
                    <a:lnTo>
                      <a:pt x="0" y="1065"/>
                    </a:lnTo>
                    <a:lnTo>
                      <a:pt x="0" y="1035"/>
                    </a:lnTo>
                    <a:lnTo>
                      <a:pt x="0" y="1003"/>
                    </a:lnTo>
                    <a:lnTo>
                      <a:pt x="0" y="970"/>
                    </a:lnTo>
                    <a:lnTo>
                      <a:pt x="1" y="937"/>
                    </a:lnTo>
                    <a:lnTo>
                      <a:pt x="3" y="904"/>
                    </a:lnTo>
                    <a:lnTo>
                      <a:pt x="3" y="868"/>
                    </a:lnTo>
                    <a:lnTo>
                      <a:pt x="5" y="833"/>
                    </a:lnTo>
                    <a:lnTo>
                      <a:pt x="7" y="797"/>
                    </a:lnTo>
                    <a:lnTo>
                      <a:pt x="10" y="760"/>
                    </a:lnTo>
                    <a:lnTo>
                      <a:pt x="12" y="722"/>
                    </a:lnTo>
                    <a:lnTo>
                      <a:pt x="15" y="684"/>
                    </a:lnTo>
                    <a:lnTo>
                      <a:pt x="19" y="644"/>
                    </a:lnTo>
                    <a:lnTo>
                      <a:pt x="23" y="604"/>
                    </a:lnTo>
                    <a:lnTo>
                      <a:pt x="26" y="563"/>
                    </a:lnTo>
                    <a:lnTo>
                      <a:pt x="31" y="521"/>
                    </a:lnTo>
                    <a:lnTo>
                      <a:pt x="36" y="479"/>
                    </a:lnTo>
                    <a:lnTo>
                      <a:pt x="41" y="435"/>
                    </a:lnTo>
                    <a:lnTo>
                      <a:pt x="46" y="391"/>
                    </a:lnTo>
                    <a:lnTo>
                      <a:pt x="52" y="346"/>
                    </a:lnTo>
                    <a:lnTo>
                      <a:pt x="57" y="301"/>
                    </a:lnTo>
                    <a:lnTo>
                      <a:pt x="64" y="255"/>
                    </a:lnTo>
                    <a:lnTo>
                      <a:pt x="70" y="207"/>
                    </a:lnTo>
                    <a:lnTo>
                      <a:pt x="78" y="159"/>
                    </a:lnTo>
                    <a:lnTo>
                      <a:pt x="85" y="110"/>
                    </a:lnTo>
                    <a:lnTo>
                      <a:pt x="93" y="62"/>
                    </a:lnTo>
                    <a:lnTo>
                      <a:pt x="92" y="55"/>
                    </a:lnTo>
                    <a:lnTo>
                      <a:pt x="92" y="49"/>
                    </a:lnTo>
                    <a:lnTo>
                      <a:pt x="92" y="41"/>
                    </a:lnTo>
                    <a:lnTo>
                      <a:pt x="94" y="34"/>
                    </a:lnTo>
                    <a:lnTo>
                      <a:pt x="96" y="18"/>
                    </a:lnTo>
                    <a:lnTo>
                      <a:pt x="98" y="9"/>
                    </a:lnTo>
                    <a:lnTo>
                      <a:pt x="10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33"/>
              <p:cNvSpPr/>
              <p:nvPr/>
            </p:nvSpPr>
            <p:spPr>
              <a:xfrm>
                <a:off x="3693240" y="-1541880"/>
                <a:ext cx="361800" cy="320400"/>
              </a:xfrm>
              <a:custGeom>
                <a:avLst/>
                <a:gdLst/>
                <a:ahLst/>
                <a:rect l="l" t="t" r="r" b="b"/>
                <a:pathLst>
                  <a:path w="835" h="739">
                    <a:moveTo>
                      <a:pt x="835" y="739"/>
                    </a:moveTo>
                    <a:lnTo>
                      <a:pt x="789" y="711"/>
                    </a:lnTo>
                    <a:lnTo>
                      <a:pt x="766" y="697"/>
                    </a:lnTo>
                    <a:lnTo>
                      <a:pt x="744" y="683"/>
                    </a:lnTo>
                    <a:lnTo>
                      <a:pt x="700" y="655"/>
                    </a:lnTo>
                    <a:lnTo>
                      <a:pt x="657" y="626"/>
                    </a:lnTo>
                    <a:lnTo>
                      <a:pt x="614" y="597"/>
                    </a:lnTo>
                    <a:lnTo>
                      <a:pt x="574" y="568"/>
                    </a:lnTo>
                    <a:lnTo>
                      <a:pt x="533" y="539"/>
                    </a:lnTo>
                    <a:lnTo>
                      <a:pt x="494" y="509"/>
                    </a:lnTo>
                    <a:lnTo>
                      <a:pt x="455" y="478"/>
                    </a:lnTo>
                    <a:lnTo>
                      <a:pt x="417" y="448"/>
                    </a:lnTo>
                    <a:lnTo>
                      <a:pt x="398" y="432"/>
                    </a:lnTo>
                    <a:lnTo>
                      <a:pt x="380" y="416"/>
                    </a:lnTo>
                    <a:lnTo>
                      <a:pt x="345" y="385"/>
                    </a:lnTo>
                    <a:lnTo>
                      <a:pt x="310" y="353"/>
                    </a:lnTo>
                    <a:lnTo>
                      <a:pt x="275" y="320"/>
                    </a:lnTo>
                    <a:lnTo>
                      <a:pt x="243" y="288"/>
                    </a:lnTo>
                    <a:lnTo>
                      <a:pt x="211" y="255"/>
                    </a:lnTo>
                    <a:lnTo>
                      <a:pt x="132" y="169"/>
                    </a:lnTo>
                    <a:lnTo>
                      <a:pt x="103" y="135"/>
                    </a:lnTo>
                    <a:lnTo>
                      <a:pt x="76" y="101"/>
                    </a:lnTo>
                    <a:lnTo>
                      <a:pt x="49" y="67"/>
                    </a:lnTo>
                    <a:lnTo>
                      <a:pt x="24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Group 652"/>
              <p:cNvGrpSpPr/>
              <p:nvPr/>
            </p:nvGrpSpPr>
            <p:grpSpPr>
              <a:xfrm>
                <a:off x="3687480" y="-2788920"/>
                <a:ext cx="328680" cy="378720"/>
                <a:chOff x="3687480" y="-2788920"/>
                <a:chExt cx="328680" cy="378720"/>
              </a:xfrm>
            </p:grpSpPr>
            <p:sp>
              <p:nvSpPr>
                <p:cNvPr id="711" name="Freeform 650"/>
                <p:cNvSpPr/>
                <p:nvPr/>
              </p:nvSpPr>
              <p:spPr>
                <a:xfrm>
                  <a:off x="3687480" y="-2788920"/>
                  <a:ext cx="328680" cy="378720"/>
                </a:xfrm>
                <a:custGeom>
                  <a:avLst/>
                  <a:gdLst/>
                  <a:ahLst/>
                  <a:rect l="l" t="t" r="r" b="b"/>
                  <a:pathLst>
                    <a:path w="759" h="874">
                      <a:moveTo>
                        <a:pt x="742" y="763"/>
                      </a:moveTo>
                      <a:lnTo>
                        <a:pt x="743" y="699"/>
                      </a:lnTo>
                      <a:lnTo>
                        <a:pt x="759" y="0"/>
                      </a:lnTo>
                      <a:lnTo>
                        <a:pt x="723" y="24"/>
                      </a:lnTo>
                      <a:lnTo>
                        <a:pt x="688" y="50"/>
                      </a:lnTo>
                      <a:lnTo>
                        <a:pt x="654" y="74"/>
                      </a:lnTo>
                      <a:lnTo>
                        <a:pt x="622" y="99"/>
                      </a:lnTo>
                      <a:lnTo>
                        <a:pt x="589" y="123"/>
                      </a:lnTo>
                      <a:lnTo>
                        <a:pt x="558" y="147"/>
                      </a:lnTo>
                      <a:lnTo>
                        <a:pt x="528" y="171"/>
                      </a:lnTo>
                      <a:lnTo>
                        <a:pt x="499" y="195"/>
                      </a:lnTo>
                      <a:lnTo>
                        <a:pt x="485" y="206"/>
                      </a:lnTo>
                      <a:lnTo>
                        <a:pt x="471" y="218"/>
                      </a:lnTo>
                      <a:lnTo>
                        <a:pt x="444" y="241"/>
                      </a:lnTo>
                      <a:lnTo>
                        <a:pt x="418" y="264"/>
                      </a:lnTo>
                      <a:lnTo>
                        <a:pt x="392" y="287"/>
                      </a:lnTo>
                      <a:lnTo>
                        <a:pt x="368" y="309"/>
                      </a:lnTo>
                      <a:lnTo>
                        <a:pt x="356" y="320"/>
                      </a:lnTo>
                      <a:lnTo>
                        <a:pt x="345" y="331"/>
                      </a:lnTo>
                      <a:lnTo>
                        <a:pt x="323" y="353"/>
                      </a:lnTo>
                      <a:lnTo>
                        <a:pt x="302" y="375"/>
                      </a:lnTo>
                      <a:lnTo>
                        <a:pt x="273" y="404"/>
                      </a:lnTo>
                      <a:lnTo>
                        <a:pt x="259" y="418"/>
                      </a:lnTo>
                      <a:lnTo>
                        <a:pt x="247" y="433"/>
                      </a:lnTo>
                      <a:lnTo>
                        <a:pt x="222" y="462"/>
                      </a:lnTo>
                      <a:lnTo>
                        <a:pt x="210" y="476"/>
                      </a:lnTo>
                      <a:lnTo>
                        <a:pt x="199" y="491"/>
                      </a:lnTo>
                      <a:lnTo>
                        <a:pt x="178" y="518"/>
                      </a:lnTo>
                      <a:lnTo>
                        <a:pt x="159" y="545"/>
                      </a:lnTo>
                      <a:lnTo>
                        <a:pt x="142" y="572"/>
                      </a:lnTo>
                      <a:lnTo>
                        <a:pt x="134" y="585"/>
                      </a:lnTo>
                      <a:lnTo>
                        <a:pt x="127" y="598"/>
                      </a:lnTo>
                      <a:lnTo>
                        <a:pt x="114" y="621"/>
                      </a:lnTo>
                      <a:lnTo>
                        <a:pt x="102" y="642"/>
                      </a:lnTo>
                      <a:lnTo>
                        <a:pt x="91" y="663"/>
                      </a:lnTo>
                      <a:lnTo>
                        <a:pt x="81" y="684"/>
                      </a:lnTo>
                      <a:lnTo>
                        <a:pt x="71" y="703"/>
                      </a:lnTo>
                      <a:lnTo>
                        <a:pt x="61" y="722"/>
                      </a:lnTo>
                      <a:lnTo>
                        <a:pt x="53" y="741"/>
                      </a:lnTo>
                      <a:lnTo>
                        <a:pt x="44" y="758"/>
                      </a:lnTo>
                      <a:lnTo>
                        <a:pt x="36" y="775"/>
                      </a:lnTo>
                      <a:lnTo>
                        <a:pt x="29" y="791"/>
                      </a:lnTo>
                      <a:lnTo>
                        <a:pt x="23" y="806"/>
                      </a:lnTo>
                      <a:lnTo>
                        <a:pt x="17" y="821"/>
                      </a:lnTo>
                      <a:lnTo>
                        <a:pt x="11" y="835"/>
                      </a:lnTo>
                      <a:lnTo>
                        <a:pt x="7" y="849"/>
                      </a:lnTo>
                      <a:lnTo>
                        <a:pt x="3" y="862"/>
                      </a:lnTo>
                      <a:lnTo>
                        <a:pt x="0" y="874"/>
                      </a:lnTo>
                      <a:lnTo>
                        <a:pt x="175" y="828"/>
                      </a:lnTo>
                      <a:lnTo>
                        <a:pt x="351" y="805"/>
                      </a:lnTo>
                      <a:lnTo>
                        <a:pt x="526" y="783"/>
                      </a:lnTo>
                      <a:lnTo>
                        <a:pt x="536" y="782"/>
                      </a:lnTo>
                      <a:lnTo>
                        <a:pt x="545" y="781"/>
                      </a:lnTo>
                      <a:lnTo>
                        <a:pt x="546" y="781"/>
                      </a:lnTo>
                      <a:lnTo>
                        <a:pt x="742" y="7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651"/>
                <p:cNvSpPr/>
                <p:nvPr/>
              </p:nvSpPr>
              <p:spPr>
                <a:xfrm>
                  <a:off x="3687480" y="-2788920"/>
                  <a:ext cx="328680" cy="378720"/>
                </a:xfrm>
                <a:custGeom>
                  <a:avLst/>
                  <a:gdLst/>
                  <a:ahLst/>
                  <a:rect l="l" t="t" r="r" b="b"/>
                  <a:pathLst>
                    <a:path w="759" h="874">
                      <a:moveTo>
                        <a:pt x="742" y="763"/>
                      </a:moveTo>
                      <a:lnTo>
                        <a:pt x="743" y="699"/>
                      </a:lnTo>
                      <a:lnTo>
                        <a:pt x="759" y="0"/>
                      </a:lnTo>
                      <a:lnTo>
                        <a:pt x="723" y="24"/>
                      </a:lnTo>
                      <a:lnTo>
                        <a:pt x="688" y="50"/>
                      </a:lnTo>
                      <a:lnTo>
                        <a:pt x="654" y="74"/>
                      </a:lnTo>
                      <a:lnTo>
                        <a:pt x="622" y="99"/>
                      </a:lnTo>
                      <a:lnTo>
                        <a:pt x="589" y="123"/>
                      </a:lnTo>
                      <a:lnTo>
                        <a:pt x="558" y="147"/>
                      </a:lnTo>
                      <a:lnTo>
                        <a:pt x="528" y="171"/>
                      </a:lnTo>
                      <a:lnTo>
                        <a:pt x="499" y="195"/>
                      </a:lnTo>
                      <a:lnTo>
                        <a:pt x="485" y="206"/>
                      </a:lnTo>
                      <a:lnTo>
                        <a:pt x="471" y="218"/>
                      </a:lnTo>
                      <a:lnTo>
                        <a:pt x="444" y="241"/>
                      </a:lnTo>
                      <a:lnTo>
                        <a:pt x="418" y="264"/>
                      </a:lnTo>
                      <a:lnTo>
                        <a:pt x="392" y="287"/>
                      </a:lnTo>
                      <a:lnTo>
                        <a:pt x="368" y="309"/>
                      </a:lnTo>
                      <a:lnTo>
                        <a:pt x="356" y="320"/>
                      </a:lnTo>
                      <a:lnTo>
                        <a:pt x="345" y="331"/>
                      </a:lnTo>
                      <a:lnTo>
                        <a:pt x="323" y="353"/>
                      </a:lnTo>
                      <a:lnTo>
                        <a:pt x="302" y="375"/>
                      </a:lnTo>
                      <a:lnTo>
                        <a:pt x="273" y="404"/>
                      </a:lnTo>
                      <a:lnTo>
                        <a:pt x="259" y="418"/>
                      </a:lnTo>
                      <a:lnTo>
                        <a:pt x="247" y="433"/>
                      </a:lnTo>
                      <a:lnTo>
                        <a:pt x="222" y="462"/>
                      </a:lnTo>
                      <a:lnTo>
                        <a:pt x="210" y="476"/>
                      </a:lnTo>
                      <a:lnTo>
                        <a:pt x="199" y="491"/>
                      </a:lnTo>
                      <a:lnTo>
                        <a:pt x="178" y="518"/>
                      </a:lnTo>
                      <a:lnTo>
                        <a:pt x="159" y="545"/>
                      </a:lnTo>
                      <a:lnTo>
                        <a:pt x="142" y="572"/>
                      </a:lnTo>
                      <a:lnTo>
                        <a:pt x="134" y="585"/>
                      </a:lnTo>
                      <a:lnTo>
                        <a:pt x="127" y="598"/>
                      </a:lnTo>
                      <a:lnTo>
                        <a:pt x="114" y="621"/>
                      </a:lnTo>
                      <a:lnTo>
                        <a:pt x="102" y="642"/>
                      </a:lnTo>
                      <a:lnTo>
                        <a:pt x="91" y="663"/>
                      </a:lnTo>
                      <a:lnTo>
                        <a:pt x="81" y="684"/>
                      </a:lnTo>
                      <a:lnTo>
                        <a:pt x="71" y="703"/>
                      </a:lnTo>
                      <a:lnTo>
                        <a:pt x="61" y="722"/>
                      </a:lnTo>
                      <a:lnTo>
                        <a:pt x="53" y="741"/>
                      </a:lnTo>
                      <a:lnTo>
                        <a:pt x="44" y="758"/>
                      </a:lnTo>
                      <a:lnTo>
                        <a:pt x="36" y="775"/>
                      </a:lnTo>
                      <a:lnTo>
                        <a:pt x="29" y="791"/>
                      </a:lnTo>
                      <a:lnTo>
                        <a:pt x="23" y="806"/>
                      </a:lnTo>
                      <a:lnTo>
                        <a:pt x="17" y="821"/>
                      </a:lnTo>
                      <a:lnTo>
                        <a:pt x="11" y="835"/>
                      </a:lnTo>
                      <a:lnTo>
                        <a:pt x="7" y="849"/>
                      </a:lnTo>
                      <a:lnTo>
                        <a:pt x="3" y="862"/>
                      </a:lnTo>
                      <a:lnTo>
                        <a:pt x="0" y="874"/>
                      </a:lnTo>
                      <a:lnTo>
                        <a:pt x="175" y="828"/>
                      </a:lnTo>
                      <a:lnTo>
                        <a:pt x="351" y="805"/>
                      </a:lnTo>
                      <a:lnTo>
                        <a:pt x="526" y="783"/>
                      </a:lnTo>
                      <a:lnTo>
                        <a:pt x="536" y="782"/>
                      </a:lnTo>
                      <a:lnTo>
                        <a:pt x="545" y="781"/>
                      </a:lnTo>
                      <a:lnTo>
                        <a:pt x="546" y="781"/>
                      </a:lnTo>
                      <a:lnTo>
                        <a:pt x="742" y="763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Group 663"/>
              <p:cNvGrpSpPr/>
              <p:nvPr/>
            </p:nvGrpSpPr>
            <p:grpSpPr>
              <a:xfrm>
                <a:off x="3693600" y="-1561320"/>
                <a:ext cx="369000" cy="339120"/>
                <a:chOff x="3693600" y="-1561320"/>
                <a:chExt cx="369000" cy="339120"/>
              </a:xfrm>
            </p:grpSpPr>
            <p:sp>
              <p:nvSpPr>
                <p:cNvPr id="714" name="Freeform 661"/>
                <p:cNvSpPr/>
                <p:nvPr/>
              </p:nvSpPr>
              <p:spPr>
                <a:xfrm>
                  <a:off x="3693600" y="-1561320"/>
                  <a:ext cx="369000" cy="339120"/>
                </a:xfrm>
                <a:custGeom>
                  <a:avLst/>
                  <a:gdLst/>
                  <a:ahLst/>
                  <a:rect l="l" t="t" r="r" b="b"/>
                  <a:pathLst>
                    <a:path w="852" h="783">
                      <a:moveTo>
                        <a:pt x="101" y="22"/>
                      </a:moveTo>
                      <a:lnTo>
                        <a:pt x="0" y="44"/>
                      </a:lnTo>
                      <a:lnTo>
                        <a:pt x="24" y="77"/>
                      </a:lnTo>
                      <a:lnTo>
                        <a:pt x="49" y="111"/>
                      </a:lnTo>
                      <a:lnTo>
                        <a:pt x="76" y="145"/>
                      </a:lnTo>
                      <a:lnTo>
                        <a:pt x="103" y="179"/>
                      </a:lnTo>
                      <a:lnTo>
                        <a:pt x="132" y="213"/>
                      </a:lnTo>
                      <a:lnTo>
                        <a:pt x="211" y="300"/>
                      </a:lnTo>
                      <a:lnTo>
                        <a:pt x="243" y="332"/>
                      </a:lnTo>
                      <a:lnTo>
                        <a:pt x="276" y="365"/>
                      </a:lnTo>
                      <a:lnTo>
                        <a:pt x="310" y="397"/>
                      </a:lnTo>
                      <a:lnTo>
                        <a:pt x="345" y="429"/>
                      </a:lnTo>
                      <a:lnTo>
                        <a:pt x="380" y="461"/>
                      </a:lnTo>
                      <a:lnTo>
                        <a:pt x="399" y="476"/>
                      </a:lnTo>
                      <a:lnTo>
                        <a:pt x="417" y="492"/>
                      </a:lnTo>
                      <a:lnTo>
                        <a:pt x="455" y="523"/>
                      </a:lnTo>
                      <a:lnTo>
                        <a:pt x="494" y="554"/>
                      </a:lnTo>
                      <a:lnTo>
                        <a:pt x="533" y="583"/>
                      </a:lnTo>
                      <a:lnTo>
                        <a:pt x="574" y="612"/>
                      </a:lnTo>
                      <a:lnTo>
                        <a:pt x="614" y="641"/>
                      </a:lnTo>
                      <a:lnTo>
                        <a:pt x="657" y="671"/>
                      </a:lnTo>
                      <a:lnTo>
                        <a:pt x="700" y="699"/>
                      </a:lnTo>
                      <a:lnTo>
                        <a:pt x="744" y="728"/>
                      </a:lnTo>
                      <a:lnTo>
                        <a:pt x="766" y="741"/>
                      </a:lnTo>
                      <a:lnTo>
                        <a:pt x="789" y="755"/>
                      </a:lnTo>
                      <a:lnTo>
                        <a:pt x="835" y="783"/>
                      </a:lnTo>
                      <a:lnTo>
                        <a:pt x="840" y="767"/>
                      </a:lnTo>
                      <a:lnTo>
                        <a:pt x="843" y="751"/>
                      </a:lnTo>
                      <a:lnTo>
                        <a:pt x="847" y="735"/>
                      </a:lnTo>
                      <a:lnTo>
                        <a:pt x="850" y="720"/>
                      </a:lnTo>
                      <a:lnTo>
                        <a:pt x="851" y="705"/>
                      </a:lnTo>
                      <a:lnTo>
                        <a:pt x="852" y="690"/>
                      </a:lnTo>
                      <a:lnTo>
                        <a:pt x="852" y="676"/>
                      </a:lnTo>
                      <a:lnTo>
                        <a:pt x="851" y="662"/>
                      </a:lnTo>
                      <a:lnTo>
                        <a:pt x="841" y="554"/>
                      </a:lnTo>
                      <a:lnTo>
                        <a:pt x="835" y="446"/>
                      </a:lnTo>
                      <a:lnTo>
                        <a:pt x="811" y="20"/>
                      </a:lnTo>
                      <a:lnTo>
                        <a:pt x="731" y="19"/>
                      </a:lnTo>
                      <a:lnTo>
                        <a:pt x="650" y="16"/>
                      </a:lnTo>
                      <a:lnTo>
                        <a:pt x="570" y="12"/>
                      </a:lnTo>
                      <a:lnTo>
                        <a:pt x="491" y="6"/>
                      </a:lnTo>
                      <a:lnTo>
                        <a:pt x="441" y="2"/>
                      </a:lnTo>
                      <a:lnTo>
                        <a:pt x="392" y="1"/>
                      </a:lnTo>
                      <a:lnTo>
                        <a:pt x="343" y="0"/>
                      </a:lnTo>
                      <a:lnTo>
                        <a:pt x="295" y="2"/>
                      </a:lnTo>
                      <a:lnTo>
                        <a:pt x="246" y="4"/>
                      </a:lnTo>
                      <a:lnTo>
                        <a:pt x="198" y="9"/>
                      </a:lnTo>
                      <a:lnTo>
                        <a:pt x="150" y="15"/>
                      </a:lnTo>
                      <a:lnTo>
                        <a:pt x="101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662"/>
                <p:cNvSpPr/>
                <p:nvPr/>
              </p:nvSpPr>
              <p:spPr>
                <a:xfrm>
                  <a:off x="3693600" y="-1561320"/>
                  <a:ext cx="369000" cy="339120"/>
                </a:xfrm>
                <a:custGeom>
                  <a:avLst/>
                  <a:gdLst/>
                  <a:ahLst/>
                  <a:rect l="l" t="t" r="r" b="b"/>
                  <a:pathLst>
                    <a:path w="852" h="783">
                      <a:moveTo>
                        <a:pt x="101" y="22"/>
                      </a:moveTo>
                      <a:lnTo>
                        <a:pt x="0" y="44"/>
                      </a:lnTo>
                      <a:lnTo>
                        <a:pt x="24" y="77"/>
                      </a:lnTo>
                      <a:lnTo>
                        <a:pt x="49" y="111"/>
                      </a:lnTo>
                      <a:lnTo>
                        <a:pt x="76" y="145"/>
                      </a:lnTo>
                      <a:lnTo>
                        <a:pt x="103" y="179"/>
                      </a:lnTo>
                      <a:lnTo>
                        <a:pt x="132" y="213"/>
                      </a:lnTo>
                      <a:lnTo>
                        <a:pt x="211" y="300"/>
                      </a:lnTo>
                      <a:lnTo>
                        <a:pt x="243" y="332"/>
                      </a:lnTo>
                      <a:lnTo>
                        <a:pt x="276" y="365"/>
                      </a:lnTo>
                      <a:lnTo>
                        <a:pt x="310" y="397"/>
                      </a:lnTo>
                      <a:lnTo>
                        <a:pt x="345" y="429"/>
                      </a:lnTo>
                      <a:lnTo>
                        <a:pt x="380" y="461"/>
                      </a:lnTo>
                      <a:lnTo>
                        <a:pt x="399" y="476"/>
                      </a:lnTo>
                      <a:lnTo>
                        <a:pt x="417" y="492"/>
                      </a:lnTo>
                      <a:lnTo>
                        <a:pt x="455" y="523"/>
                      </a:lnTo>
                      <a:lnTo>
                        <a:pt x="494" y="554"/>
                      </a:lnTo>
                      <a:lnTo>
                        <a:pt x="533" y="583"/>
                      </a:lnTo>
                      <a:lnTo>
                        <a:pt x="574" y="612"/>
                      </a:lnTo>
                      <a:lnTo>
                        <a:pt x="614" y="641"/>
                      </a:lnTo>
                      <a:lnTo>
                        <a:pt x="657" y="671"/>
                      </a:lnTo>
                      <a:lnTo>
                        <a:pt x="700" y="699"/>
                      </a:lnTo>
                      <a:lnTo>
                        <a:pt x="744" y="728"/>
                      </a:lnTo>
                      <a:lnTo>
                        <a:pt x="766" y="741"/>
                      </a:lnTo>
                      <a:lnTo>
                        <a:pt x="789" y="755"/>
                      </a:lnTo>
                      <a:lnTo>
                        <a:pt x="835" y="783"/>
                      </a:lnTo>
                      <a:lnTo>
                        <a:pt x="840" y="767"/>
                      </a:lnTo>
                      <a:lnTo>
                        <a:pt x="843" y="751"/>
                      </a:lnTo>
                      <a:lnTo>
                        <a:pt x="847" y="735"/>
                      </a:lnTo>
                      <a:lnTo>
                        <a:pt x="850" y="720"/>
                      </a:lnTo>
                      <a:lnTo>
                        <a:pt x="851" y="705"/>
                      </a:lnTo>
                      <a:lnTo>
                        <a:pt x="852" y="690"/>
                      </a:lnTo>
                      <a:lnTo>
                        <a:pt x="852" y="676"/>
                      </a:lnTo>
                      <a:lnTo>
                        <a:pt x="851" y="662"/>
                      </a:lnTo>
                      <a:lnTo>
                        <a:pt x="841" y="554"/>
                      </a:lnTo>
                      <a:lnTo>
                        <a:pt x="835" y="446"/>
                      </a:lnTo>
                      <a:lnTo>
                        <a:pt x="811" y="20"/>
                      </a:lnTo>
                      <a:lnTo>
                        <a:pt x="731" y="19"/>
                      </a:lnTo>
                      <a:lnTo>
                        <a:pt x="650" y="16"/>
                      </a:lnTo>
                      <a:lnTo>
                        <a:pt x="570" y="12"/>
                      </a:lnTo>
                      <a:lnTo>
                        <a:pt x="491" y="6"/>
                      </a:lnTo>
                      <a:lnTo>
                        <a:pt x="441" y="2"/>
                      </a:lnTo>
                      <a:lnTo>
                        <a:pt x="392" y="1"/>
                      </a:lnTo>
                      <a:lnTo>
                        <a:pt x="343" y="0"/>
                      </a:lnTo>
                      <a:lnTo>
                        <a:pt x="295" y="2"/>
                      </a:lnTo>
                      <a:lnTo>
                        <a:pt x="246" y="4"/>
                      </a:lnTo>
                      <a:lnTo>
                        <a:pt x="198" y="9"/>
                      </a:lnTo>
                      <a:lnTo>
                        <a:pt x="150" y="15"/>
                      </a:lnTo>
                      <a:lnTo>
                        <a:pt x="101" y="22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Freeform 674"/>
              <p:cNvSpPr/>
              <p:nvPr/>
            </p:nvSpPr>
            <p:spPr>
              <a:xfrm>
                <a:off x="3687480" y="-2788920"/>
                <a:ext cx="328680" cy="378720"/>
              </a:xfrm>
              <a:custGeom>
                <a:avLst/>
                <a:gdLst/>
                <a:ahLst/>
                <a:rect l="l" t="t" r="r" b="b"/>
                <a:pathLst>
                  <a:path w="759" h="874">
                    <a:moveTo>
                      <a:pt x="0" y="874"/>
                    </a:moveTo>
                    <a:lnTo>
                      <a:pt x="3" y="862"/>
                    </a:lnTo>
                    <a:lnTo>
                      <a:pt x="7" y="849"/>
                    </a:lnTo>
                    <a:lnTo>
                      <a:pt x="11" y="835"/>
                    </a:lnTo>
                    <a:lnTo>
                      <a:pt x="17" y="821"/>
                    </a:lnTo>
                    <a:lnTo>
                      <a:pt x="23" y="806"/>
                    </a:lnTo>
                    <a:lnTo>
                      <a:pt x="29" y="791"/>
                    </a:lnTo>
                    <a:lnTo>
                      <a:pt x="36" y="775"/>
                    </a:lnTo>
                    <a:lnTo>
                      <a:pt x="44" y="758"/>
                    </a:lnTo>
                    <a:lnTo>
                      <a:pt x="53" y="741"/>
                    </a:lnTo>
                    <a:lnTo>
                      <a:pt x="61" y="722"/>
                    </a:lnTo>
                    <a:lnTo>
                      <a:pt x="71" y="703"/>
                    </a:lnTo>
                    <a:lnTo>
                      <a:pt x="81" y="684"/>
                    </a:lnTo>
                    <a:lnTo>
                      <a:pt x="91" y="663"/>
                    </a:lnTo>
                    <a:lnTo>
                      <a:pt x="102" y="642"/>
                    </a:lnTo>
                    <a:lnTo>
                      <a:pt x="114" y="621"/>
                    </a:lnTo>
                    <a:lnTo>
                      <a:pt x="127" y="598"/>
                    </a:lnTo>
                    <a:lnTo>
                      <a:pt x="134" y="585"/>
                    </a:lnTo>
                    <a:lnTo>
                      <a:pt x="142" y="572"/>
                    </a:lnTo>
                    <a:lnTo>
                      <a:pt x="159" y="545"/>
                    </a:lnTo>
                    <a:lnTo>
                      <a:pt x="178" y="518"/>
                    </a:lnTo>
                    <a:lnTo>
                      <a:pt x="199" y="491"/>
                    </a:lnTo>
                    <a:lnTo>
                      <a:pt x="210" y="476"/>
                    </a:lnTo>
                    <a:lnTo>
                      <a:pt x="222" y="462"/>
                    </a:lnTo>
                    <a:lnTo>
                      <a:pt x="247" y="433"/>
                    </a:lnTo>
                    <a:lnTo>
                      <a:pt x="259" y="418"/>
                    </a:lnTo>
                    <a:lnTo>
                      <a:pt x="273" y="404"/>
                    </a:lnTo>
                    <a:lnTo>
                      <a:pt x="302" y="375"/>
                    </a:lnTo>
                    <a:lnTo>
                      <a:pt x="323" y="353"/>
                    </a:lnTo>
                    <a:lnTo>
                      <a:pt x="345" y="331"/>
                    </a:lnTo>
                    <a:lnTo>
                      <a:pt x="356" y="320"/>
                    </a:lnTo>
                    <a:lnTo>
                      <a:pt x="368" y="309"/>
                    </a:lnTo>
                    <a:lnTo>
                      <a:pt x="392" y="287"/>
                    </a:lnTo>
                    <a:lnTo>
                      <a:pt x="418" y="264"/>
                    </a:lnTo>
                    <a:lnTo>
                      <a:pt x="444" y="241"/>
                    </a:lnTo>
                    <a:lnTo>
                      <a:pt x="471" y="218"/>
                    </a:lnTo>
                    <a:lnTo>
                      <a:pt x="485" y="206"/>
                    </a:lnTo>
                    <a:lnTo>
                      <a:pt x="499" y="195"/>
                    </a:lnTo>
                    <a:lnTo>
                      <a:pt x="528" y="171"/>
                    </a:lnTo>
                    <a:lnTo>
                      <a:pt x="558" y="147"/>
                    </a:lnTo>
                    <a:lnTo>
                      <a:pt x="589" y="123"/>
                    </a:lnTo>
                    <a:lnTo>
                      <a:pt x="622" y="99"/>
                    </a:lnTo>
                    <a:lnTo>
                      <a:pt x="654" y="74"/>
                    </a:lnTo>
                    <a:lnTo>
                      <a:pt x="688" y="50"/>
                    </a:lnTo>
                    <a:lnTo>
                      <a:pt x="723" y="24"/>
                    </a:lnTo>
                    <a:lnTo>
                      <a:pt x="759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675"/>
              <p:cNvSpPr/>
              <p:nvPr/>
            </p:nvSpPr>
            <p:spPr>
              <a:xfrm>
                <a:off x="3718440" y="-2428920"/>
                <a:ext cx="44280" cy="876960"/>
              </a:xfrm>
              <a:custGeom>
                <a:avLst/>
                <a:gdLst/>
                <a:ahLst/>
                <a:rect l="l" t="t" r="r" b="b"/>
                <a:pathLst>
                  <a:path w="103" h="2023">
                    <a:moveTo>
                      <a:pt x="103" y="0"/>
                    </a:moveTo>
                    <a:lnTo>
                      <a:pt x="81" y="127"/>
                    </a:lnTo>
                    <a:lnTo>
                      <a:pt x="79" y="138"/>
                    </a:lnTo>
                    <a:lnTo>
                      <a:pt x="59" y="263"/>
                    </a:lnTo>
                    <a:lnTo>
                      <a:pt x="43" y="389"/>
                    </a:lnTo>
                    <a:lnTo>
                      <a:pt x="29" y="515"/>
                    </a:lnTo>
                    <a:lnTo>
                      <a:pt x="18" y="641"/>
                    </a:lnTo>
                    <a:lnTo>
                      <a:pt x="10" y="766"/>
                    </a:lnTo>
                    <a:lnTo>
                      <a:pt x="4" y="893"/>
                    </a:lnTo>
                    <a:lnTo>
                      <a:pt x="0" y="1020"/>
                    </a:lnTo>
                    <a:lnTo>
                      <a:pt x="0" y="1147"/>
                    </a:lnTo>
                    <a:lnTo>
                      <a:pt x="2" y="1331"/>
                    </a:lnTo>
                    <a:lnTo>
                      <a:pt x="4" y="1423"/>
                    </a:lnTo>
                    <a:lnTo>
                      <a:pt x="8" y="1515"/>
                    </a:lnTo>
                    <a:lnTo>
                      <a:pt x="18" y="1698"/>
                    </a:lnTo>
                    <a:lnTo>
                      <a:pt x="24" y="1790"/>
                    </a:lnTo>
                    <a:lnTo>
                      <a:pt x="31" y="1882"/>
                    </a:lnTo>
                    <a:lnTo>
                      <a:pt x="43" y="2023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76"/>
              <p:cNvSpPr/>
              <p:nvPr/>
            </p:nvSpPr>
            <p:spPr>
              <a:xfrm>
                <a:off x="3643560" y="-2410560"/>
                <a:ext cx="49680" cy="867600"/>
              </a:xfrm>
              <a:custGeom>
                <a:avLst/>
                <a:gdLst/>
                <a:ahLst/>
                <a:rect l="l" t="t" r="r" b="b"/>
                <a:pathLst>
                  <a:path w="115" h="2002">
                    <a:moveTo>
                      <a:pt x="115" y="2002"/>
                    </a:moveTo>
                    <a:lnTo>
                      <a:pt x="105" y="1986"/>
                    </a:lnTo>
                    <a:lnTo>
                      <a:pt x="98" y="1945"/>
                    </a:lnTo>
                    <a:lnTo>
                      <a:pt x="92" y="1903"/>
                    </a:lnTo>
                    <a:lnTo>
                      <a:pt x="79" y="1818"/>
                    </a:lnTo>
                    <a:lnTo>
                      <a:pt x="67" y="1731"/>
                    </a:lnTo>
                    <a:lnTo>
                      <a:pt x="55" y="1641"/>
                    </a:lnTo>
                    <a:lnTo>
                      <a:pt x="43" y="1549"/>
                    </a:lnTo>
                    <a:lnTo>
                      <a:pt x="38" y="1502"/>
                    </a:lnTo>
                    <a:lnTo>
                      <a:pt x="33" y="1455"/>
                    </a:lnTo>
                    <a:lnTo>
                      <a:pt x="27" y="1407"/>
                    </a:lnTo>
                    <a:lnTo>
                      <a:pt x="22" y="1358"/>
                    </a:lnTo>
                    <a:lnTo>
                      <a:pt x="16" y="1310"/>
                    </a:lnTo>
                    <a:lnTo>
                      <a:pt x="11" y="1260"/>
                    </a:lnTo>
                    <a:lnTo>
                      <a:pt x="8" y="1234"/>
                    </a:lnTo>
                    <a:lnTo>
                      <a:pt x="6" y="1208"/>
                    </a:lnTo>
                    <a:lnTo>
                      <a:pt x="4" y="1181"/>
                    </a:lnTo>
                    <a:lnTo>
                      <a:pt x="3" y="1153"/>
                    </a:lnTo>
                    <a:lnTo>
                      <a:pt x="1" y="1124"/>
                    </a:lnTo>
                    <a:lnTo>
                      <a:pt x="0" y="1096"/>
                    </a:lnTo>
                    <a:lnTo>
                      <a:pt x="0" y="1065"/>
                    </a:lnTo>
                    <a:lnTo>
                      <a:pt x="0" y="1035"/>
                    </a:lnTo>
                    <a:lnTo>
                      <a:pt x="0" y="1003"/>
                    </a:lnTo>
                    <a:lnTo>
                      <a:pt x="0" y="970"/>
                    </a:lnTo>
                    <a:lnTo>
                      <a:pt x="1" y="937"/>
                    </a:lnTo>
                    <a:lnTo>
                      <a:pt x="3" y="904"/>
                    </a:lnTo>
                    <a:lnTo>
                      <a:pt x="3" y="868"/>
                    </a:lnTo>
                    <a:lnTo>
                      <a:pt x="5" y="833"/>
                    </a:lnTo>
                    <a:lnTo>
                      <a:pt x="7" y="797"/>
                    </a:lnTo>
                    <a:lnTo>
                      <a:pt x="10" y="760"/>
                    </a:lnTo>
                    <a:lnTo>
                      <a:pt x="12" y="722"/>
                    </a:lnTo>
                    <a:lnTo>
                      <a:pt x="15" y="684"/>
                    </a:lnTo>
                    <a:lnTo>
                      <a:pt x="19" y="644"/>
                    </a:lnTo>
                    <a:lnTo>
                      <a:pt x="23" y="604"/>
                    </a:lnTo>
                    <a:lnTo>
                      <a:pt x="26" y="563"/>
                    </a:lnTo>
                    <a:lnTo>
                      <a:pt x="31" y="521"/>
                    </a:lnTo>
                    <a:lnTo>
                      <a:pt x="36" y="479"/>
                    </a:lnTo>
                    <a:lnTo>
                      <a:pt x="41" y="435"/>
                    </a:lnTo>
                    <a:lnTo>
                      <a:pt x="46" y="391"/>
                    </a:lnTo>
                    <a:lnTo>
                      <a:pt x="52" y="346"/>
                    </a:lnTo>
                    <a:lnTo>
                      <a:pt x="57" y="301"/>
                    </a:lnTo>
                    <a:lnTo>
                      <a:pt x="64" y="255"/>
                    </a:lnTo>
                    <a:lnTo>
                      <a:pt x="70" y="207"/>
                    </a:lnTo>
                    <a:lnTo>
                      <a:pt x="78" y="159"/>
                    </a:lnTo>
                    <a:lnTo>
                      <a:pt x="85" y="110"/>
                    </a:lnTo>
                    <a:lnTo>
                      <a:pt x="93" y="62"/>
                    </a:lnTo>
                    <a:lnTo>
                      <a:pt x="92" y="55"/>
                    </a:lnTo>
                    <a:lnTo>
                      <a:pt x="92" y="49"/>
                    </a:lnTo>
                    <a:lnTo>
                      <a:pt x="92" y="41"/>
                    </a:lnTo>
                    <a:lnTo>
                      <a:pt x="94" y="34"/>
                    </a:lnTo>
                    <a:lnTo>
                      <a:pt x="96" y="18"/>
                    </a:lnTo>
                    <a:lnTo>
                      <a:pt x="98" y="9"/>
                    </a:lnTo>
                    <a:lnTo>
                      <a:pt x="101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77"/>
              <p:cNvSpPr/>
              <p:nvPr/>
            </p:nvSpPr>
            <p:spPr>
              <a:xfrm>
                <a:off x="3693240" y="-1541880"/>
                <a:ext cx="361800" cy="320400"/>
              </a:xfrm>
              <a:custGeom>
                <a:avLst/>
                <a:gdLst/>
                <a:ahLst/>
                <a:rect l="l" t="t" r="r" b="b"/>
                <a:pathLst>
                  <a:path w="835" h="739">
                    <a:moveTo>
                      <a:pt x="835" y="739"/>
                    </a:moveTo>
                    <a:lnTo>
                      <a:pt x="789" y="711"/>
                    </a:lnTo>
                    <a:lnTo>
                      <a:pt x="766" y="697"/>
                    </a:lnTo>
                    <a:lnTo>
                      <a:pt x="744" y="683"/>
                    </a:lnTo>
                    <a:lnTo>
                      <a:pt x="700" y="655"/>
                    </a:lnTo>
                    <a:lnTo>
                      <a:pt x="657" y="626"/>
                    </a:lnTo>
                    <a:lnTo>
                      <a:pt x="614" y="597"/>
                    </a:lnTo>
                    <a:lnTo>
                      <a:pt x="574" y="568"/>
                    </a:lnTo>
                    <a:lnTo>
                      <a:pt x="533" y="539"/>
                    </a:lnTo>
                    <a:lnTo>
                      <a:pt x="494" y="509"/>
                    </a:lnTo>
                    <a:lnTo>
                      <a:pt x="455" y="478"/>
                    </a:lnTo>
                    <a:lnTo>
                      <a:pt x="417" y="448"/>
                    </a:lnTo>
                    <a:lnTo>
                      <a:pt x="398" y="432"/>
                    </a:lnTo>
                    <a:lnTo>
                      <a:pt x="380" y="416"/>
                    </a:lnTo>
                    <a:lnTo>
                      <a:pt x="345" y="385"/>
                    </a:lnTo>
                    <a:lnTo>
                      <a:pt x="310" y="353"/>
                    </a:lnTo>
                    <a:lnTo>
                      <a:pt x="275" y="320"/>
                    </a:lnTo>
                    <a:lnTo>
                      <a:pt x="243" y="288"/>
                    </a:lnTo>
                    <a:lnTo>
                      <a:pt x="211" y="255"/>
                    </a:lnTo>
                    <a:lnTo>
                      <a:pt x="132" y="169"/>
                    </a:lnTo>
                    <a:lnTo>
                      <a:pt x="103" y="135"/>
                    </a:lnTo>
                    <a:lnTo>
                      <a:pt x="76" y="101"/>
                    </a:lnTo>
                    <a:lnTo>
                      <a:pt x="49" y="67"/>
                    </a:lnTo>
                    <a:lnTo>
                      <a:pt x="24" y="3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85"/>
              <p:cNvSpPr/>
              <p:nvPr/>
            </p:nvSpPr>
            <p:spPr>
              <a:xfrm flipH="1">
                <a:off x="4338000" y="-2428560"/>
                <a:ext cx="108720" cy="880920"/>
              </a:xfrm>
              <a:custGeom>
                <a:avLst/>
                <a:gdLst/>
                <a:ahLst/>
                <a:rect l="l" t="t" r="r" b="b"/>
                <a:pathLst>
                  <a:path w="251" h="2032">
                    <a:moveTo>
                      <a:pt x="99" y="2032"/>
                    </a:moveTo>
                    <a:lnTo>
                      <a:pt x="67" y="1728"/>
                    </a:lnTo>
                    <a:lnTo>
                      <a:pt x="0" y="1272"/>
                    </a:lnTo>
                    <a:lnTo>
                      <a:pt x="0" y="909"/>
                    </a:lnTo>
                    <a:lnTo>
                      <a:pt x="45" y="410"/>
                    </a:lnTo>
                    <a:lnTo>
                      <a:pt x="91" y="48"/>
                    </a:lnTo>
                    <a:lnTo>
                      <a:pt x="251" y="0"/>
                    </a:lnTo>
                    <a:lnTo>
                      <a:pt x="227" y="183"/>
                    </a:lnTo>
                    <a:lnTo>
                      <a:pt x="131" y="768"/>
                    </a:lnTo>
                    <a:lnTo>
                      <a:pt x="147" y="1344"/>
                    </a:lnTo>
                    <a:cubicBezTo>
                      <a:pt x="158" y="1551"/>
                      <a:pt x="185" y="1870"/>
                      <a:pt x="195" y="2008"/>
                    </a:cubicBez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84"/>
              <p:cNvSpPr/>
              <p:nvPr/>
            </p:nvSpPr>
            <p:spPr>
              <a:xfrm>
                <a:off x="3650040" y="-2429280"/>
                <a:ext cx="108720" cy="880560"/>
              </a:xfrm>
              <a:custGeom>
                <a:avLst/>
                <a:gdLst/>
                <a:ahLst/>
                <a:rect l="l" t="t" r="r" b="b"/>
                <a:pathLst>
                  <a:path w="251" h="2032">
                    <a:moveTo>
                      <a:pt x="99" y="2032"/>
                    </a:moveTo>
                    <a:lnTo>
                      <a:pt x="67" y="1728"/>
                    </a:lnTo>
                    <a:lnTo>
                      <a:pt x="0" y="1272"/>
                    </a:lnTo>
                    <a:lnTo>
                      <a:pt x="0" y="909"/>
                    </a:lnTo>
                    <a:lnTo>
                      <a:pt x="45" y="410"/>
                    </a:lnTo>
                    <a:lnTo>
                      <a:pt x="91" y="48"/>
                    </a:lnTo>
                    <a:lnTo>
                      <a:pt x="251" y="0"/>
                    </a:lnTo>
                    <a:lnTo>
                      <a:pt x="227" y="183"/>
                    </a:lnTo>
                    <a:lnTo>
                      <a:pt x="131" y="768"/>
                    </a:lnTo>
                    <a:lnTo>
                      <a:pt x="147" y="1344"/>
                    </a:lnTo>
                    <a:cubicBezTo>
                      <a:pt x="158" y="1551"/>
                      <a:pt x="185" y="1870"/>
                      <a:pt x="195" y="2008"/>
                    </a:cubicBez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0">
                <a:noFill/>
              </a:ln>
              <a:effectLst>
                <a:outerShdw dist="56832" dir="1603641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Group 622"/>
              <p:cNvGrpSpPr/>
              <p:nvPr/>
            </p:nvGrpSpPr>
            <p:grpSpPr>
              <a:xfrm>
                <a:off x="4044600" y="-1572120"/>
                <a:ext cx="369000" cy="349560"/>
                <a:chOff x="4044600" y="-1572120"/>
                <a:chExt cx="369000" cy="349560"/>
              </a:xfrm>
            </p:grpSpPr>
            <p:sp>
              <p:nvSpPr>
                <p:cNvPr id="723" name="Freeform 620"/>
                <p:cNvSpPr/>
                <p:nvPr/>
              </p:nvSpPr>
              <p:spPr>
                <a:xfrm>
                  <a:off x="4044600" y="-1572120"/>
                  <a:ext cx="369000" cy="349560"/>
                </a:xfrm>
                <a:custGeom>
                  <a:avLst/>
                  <a:gdLst/>
                  <a:ahLst/>
                  <a:rect l="l" t="t" r="r" b="b"/>
                  <a:pathLst>
                    <a:path w="852" h="807">
                      <a:moveTo>
                        <a:pt x="32" y="43"/>
                      </a:moveTo>
                      <a:lnTo>
                        <a:pt x="0" y="43"/>
                      </a:lnTo>
                      <a:lnTo>
                        <a:pt x="23" y="469"/>
                      </a:lnTo>
                      <a:lnTo>
                        <a:pt x="30" y="578"/>
                      </a:lnTo>
                      <a:lnTo>
                        <a:pt x="40" y="686"/>
                      </a:lnTo>
                      <a:lnTo>
                        <a:pt x="40" y="700"/>
                      </a:lnTo>
                      <a:lnTo>
                        <a:pt x="40" y="714"/>
                      </a:lnTo>
                      <a:lnTo>
                        <a:pt x="39" y="729"/>
                      </a:lnTo>
                      <a:lnTo>
                        <a:pt x="38" y="744"/>
                      </a:lnTo>
                      <a:lnTo>
                        <a:pt x="35" y="759"/>
                      </a:lnTo>
                      <a:lnTo>
                        <a:pt x="32" y="775"/>
                      </a:lnTo>
                      <a:lnTo>
                        <a:pt x="28" y="791"/>
                      </a:lnTo>
                      <a:lnTo>
                        <a:pt x="24" y="807"/>
                      </a:lnTo>
                      <a:lnTo>
                        <a:pt x="52" y="788"/>
                      </a:lnTo>
                      <a:lnTo>
                        <a:pt x="66" y="779"/>
                      </a:lnTo>
                      <a:lnTo>
                        <a:pt x="80" y="770"/>
                      </a:lnTo>
                      <a:lnTo>
                        <a:pt x="109" y="751"/>
                      </a:lnTo>
                      <a:lnTo>
                        <a:pt x="137" y="733"/>
                      </a:lnTo>
                      <a:lnTo>
                        <a:pt x="164" y="713"/>
                      </a:lnTo>
                      <a:lnTo>
                        <a:pt x="177" y="704"/>
                      </a:lnTo>
                      <a:lnTo>
                        <a:pt x="191" y="694"/>
                      </a:lnTo>
                      <a:lnTo>
                        <a:pt x="219" y="674"/>
                      </a:lnTo>
                      <a:lnTo>
                        <a:pt x="245" y="655"/>
                      </a:lnTo>
                      <a:lnTo>
                        <a:pt x="271" y="635"/>
                      </a:lnTo>
                      <a:lnTo>
                        <a:pt x="297" y="615"/>
                      </a:lnTo>
                      <a:lnTo>
                        <a:pt x="322" y="595"/>
                      </a:lnTo>
                      <a:lnTo>
                        <a:pt x="335" y="584"/>
                      </a:lnTo>
                      <a:lnTo>
                        <a:pt x="341" y="579"/>
                      </a:lnTo>
                      <a:lnTo>
                        <a:pt x="348" y="575"/>
                      </a:lnTo>
                      <a:lnTo>
                        <a:pt x="398" y="533"/>
                      </a:lnTo>
                      <a:lnTo>
                        <a:pt x="422" y="512"/>
                      </a:lnTo>
                      <a:lnTo>
                        <a:pt x="427" y="507"/>
                      </a:lnTo>
                      <a:lnTo>
                        <a:pt x="434" y="502"/>
                      </a:lnTo>
                      <a:lnTo>
                        <a:pt x="446" y="492"/>
                      </a:lnTo>
                      <a:lnTo>
                        <a:pt x="469" y="470"/>
                      </a:lnTo>
                      <a:lnTo>
                        <a:pt x="481" y="459"/>
                      </a:lnTo>
                      <a:lnTo>
                        <a:pt x="487" y="454"/>
                      </a:lnTo>
                      <a:lnTo>
                        <a:pt x="493" y="448"/>
                      </a:lnTo>
                      <a:lnTo>
                        <a:pt x="515" y="427"/>
                      </a:lnTo>
                      <a:lnTo>
                        <a:pt x="538" y="405"/>
                      </a:lnTo>
                      <a:lnTo>
                        <a:pt x="582" y="361"/>
                      </a:lnTo>
                      <a:lnTo>
                        <a:pt x="604" y="338"/>
                      </a:lnTo>
                      <a:lnTo>
                        <a:pt x="614" y="327"/>
                      </a:lnTo>
                      <a:lnTo>
                        <a:pt x="626" y="316"/>
                      </a:lnTo>
                      <a:lnTo>
                        <a:pt x="646" y="293"/>
                      </a:lnTo>
                      <a:lnTo>
                        <a:pt x="656" y="281"/>
                      </a:lnTo>
                      <a:lnTo>
                        <a:pt x="666" y="270"/>
                      </a:lnTo>
                      <a:lnTo>
                        <a:pt x="686" y="247"/>
                      </a:lnTo>
                      <a:lnTo>
                        <a:pt x="696" y="235"/>
                      </a:lnTo>
                      <a:lnTo>
                        <a:pt x="707" y="224"/>
                      </a:lnTo>
                      <a:lnTo>
                        <a:pt x="717" y="212"/>
                      </a:lnTo>
                      <a:lnTo>
                        <a:pt x="726" y="200"/>
                      </a:lnTo>
                      <a:lnTo>
                        <a:pt x="746" y="177"/>
                      </a:lnTo>
                      <a:lnTo>
                        <a:pt x="765" y="153"/>
                      </a:lnTo>
                      <a:lnTo>
                        <a:pt x="784" y="129"/>
                      </a:lnTo>
                      <a:lnTo>
                        <a:pt x="813" y="90"/>
                      </a:lnTo>
                      <a:lnTo>
                        <a:pt x="818" y="82"/>
                      </a:lnTo>
                      <a:lnTo>
                        <a:pt x="824" y="73"/>
                      </a:lnTo>
                      <a:lnTo>
                        <a:pt x="828" y="62"/>
                      </a:lnTo>
                      <a:lnTo>
                        <a:pt x="833" y="52"/>
                      </a:lnTo>
                      <a:lnTo>
                        <a:pt x="835" y="45"/>
                      </a:lnTo>
                      <a:lnTo>
                        <a:pt x="838" y="40"/>
                      </a:lnTo>
                      <a:lnTo>
                        <a:pt x="843" y="27"/>
                      </a:lnTo>
                      <a:lnTo>
                        <a:pt x="847" y="14"/>
                      </a:lnTo>
                      <a:lnTo>
                        <a:pt x="852" y="0"/>
                      </a:lnTo>
                      <a:lnTo>
                        <a:pt x="742" y="13"/>
                      </a:lnTo>
                      <a:lnTo>
                        <a:pt x="610" y="22"/>
                      </a:lnTo>
                      <a:lnTo>
                        <a:pt x="307" y="37"/>
                      </a:lnTo>
                      <a:lnTo>
                        <a:pt x="310" y="52"/>
                      </a:lnTo>
                      <a:lnTo>
                        <a:pt x="251" y="53"/>
                      </a:lnTo>
                      <a:lnTo>
                        <a:pt x="249" y="39"/>
                      </a:lnTo>
                      <a:lnTo>
                        <a:pt x="191" y="41"/>
                      </a:lnTo>
                      <a:lnTo>
                        <a:pt x="77" y="43"/>
                      </a:lnTo>
                      <a:lnTo>
                        <a:pt x="32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621"/>
                <p:cNvSpPr/>
                <p:nvPr/>
              </p:nvSpPr>
              <p:spPr>
                <a:xfrm>
                  <a:off x="4044600" y="-1572120"/>
                  <a:ext cx="369000" cy="349560"/>
                </a:xfrm>
                <a:custGeom>
                  <a:avLst/>
                  <a:gdLst/>
                  <a:ahLst/>
                  <a:rect l="l" t="t" r="r" b="b"/>
                  <a:pathLst>
                    <a:path w="852" h="807">
                      <a:moveTo>
                        <a:pt x="32" y="43"/>
                      </a:moveTo>
                      <a:lnTo>
                        <a:pt x="0" y="43"/>
                      </a:lnTo>
                      <a:lnTo>
                        <a:pt x="23" y="469"/>
                      </a:lnTo>
                      <a:lnTo>
                        <a:pt x="30" y="578"/>
                      </a:lnTo>
                      <a:lnTo>
                        <a:pt x="40" y="686"/>
                      </a:lnTo>
                      <a:lnTo>
                        <a:pt x="40" y="700"/>
                      </a:lnTo>
                      <a:lnTo>
                        <a:pt x="40" y="714"/>
                      </a:lnTo>
                      <a:lnTo>
                        <a:pt x="39" y="729"/>
                      </a:lnTo>
                      <a:lnTo>
                        <a:pt x="38" y="744"/>
                      </a:lnTo>
                      <a:lnTo>
                        <a:pt x="35" y="759"/>
                      </a:lnTo>
                      <a:lnTo>
                        <a:pt x="32" y="775"/>
                      </a:lnTo>
                      <a:lnTo>
                        <a:pt x="28" y="791"/>
                      </a:lnTo>
                      <a:lnTo>
                        <a:pt x="24" y="807"/>
                      </a:lnTo>
                      <a:lnTo>
                        <a:pt x="52" y="788"/>
                      </a:lnTo>
                      <a:lnTo>
                        <a:pt x="66" y="779"/>
                      </a:lnTo>
                      <a:lnTo>
                        <a:pt x="80" y="770"/>
                      </a:lnTo>
                      <a:lnTo>
                        <a:pt x="109" y="751"/>
                      </a:lnTo>
                      <a:lnTo>
                        <a:pt x="137" y="733"/>
                      </a:lnTo>
                      <a:lnTo>
                        <a:pt x="164" y="713"/>
                      </a:lnTo>
                      <a:lnTo>
                        <a:pt x="177" y="704"/>
                      </a:lnTo>
                      <a:lnTo>
                        <a:pt x="191" y="694"/>
                      </a:lnTo>
                      <a:lnTo>
                        <a:pt x="219" y="674"/>
                      </a:lnTo>
                      <a:lnTo>
                        <a:pt x="245" y="655"/>
                      </a:lnTo>
                      <a:lnTo>
                        <a:pt x="271" y="635"/>
                      </a:lnTo>
                      <a:lnTo>
                        <a:pt x="297" y="615"/>
                      </a:lnTo>
                      <a:lnTo>
                        <a:pt x="322" y="595"/>
                      </a:lnTo>
                      <a:lnTo>
                        <a:pt x="335" y="584"/>
                      </a:lnTo>
                      <a:lnTo>
                        <a:pt x="341" y="579"/>
                      </a:lnTo>
                      <a:lnTo>
                        <a:pt x="348" y="575"/>
                      </a:lnTo>
                      <a:lnTo>
                        <a:pt x="398" y="533"/>
                      </a:lnTo>
                      <a:lnTo>
                        <a:pt x="422" y="512"/>
                      </a:lnTo>
                      <a:lnTo>
                        <a:pt x="427" y="507"/>
                      </a:lnTo>
                      <a:lnTo>
                        <a:pt x="434" y="502"/>
                      </a:lnTo>
                      <a:lnTo>
                        <a:pt x="446" y="492"/>
                      </a:lnTo>
                      <a:lnTo>
                        <a:pt x="469" y="470"/>
                      </a:lnTo>
                      <a:lnTo>
                        <a:pt x="481" y="459"/>
                      </a:lnTo>
                      <a:lnTo>
                        <a:pt x="487" y="454"/>
                      </a:lnTo>
                      <a:lnTo>
                        <a:pt x="493" y="448"/>
                      </a:lnTo>
                      <a:lnTo>
                        <a:pt x="515" y="427"/>
                      </a:lnTo>
                      <a:lnTo>
                        <a:pt x="538" y="405"/>
                      </a:lnTo>
                      <a:lnTo>
                        <a:pt x="582" y="361"/>
                      </a:lnTo>
                      <a:lnTo>
                        <a:pt x="604" y="338"/>
                      </a:lnTo>
                      <a:lnTo>
                        <a:pt x="614" y="327"/>
                      </a:lnTo>
                      <a:lnTo>
                        <a:pt x="626" y="316"/>
                      </a:lnTo>
                      <a:lnTo>
                        <a:pt x="646" y="293"/>
                      </a:lnTo>
                      <a:lnTo>
                        <a:pt x="656" y="281"/>
                      </a:lnTo>
                      <a:lnTo>
                        <a:pt x="666" y="270"/>
                      </a:lnTo>
                      <a:lnTo>
                        <a:pt x="686" y="247"/>
                      </a:lnTo>
                      <a:lnTo>
                        <a:pt x="696" y="235"/>
                      </a:lnTo>
                      <a:lnTo>
                        <a:pt x="707" y="224"/>
                      </a:lnTo>
                      <a:lnTo>
                        <a:pt x="717" y="212"/>
                      </a:lnTo>
                      <a:lnTo>
                        <a:pt x="726" y="200"/>
                      </a:lnTo>
                      <a:lnTo>
                        <a:pt x="746" y="177"/>
                      </a:lnTo>
                      <a:lnTo>
                        <a:pt x="765" y="153"/>
                      </a:lnTo>
                      <a:lnTo>
                        <a:pt x="784" y="129"/>
                      </a:lnTo>
                      <a:lnTo>
                        <a:pt x="813" y="90"/>
                      </a:lnTo>
                      <a:lnTo>
                        <a:pt x="818" y="82"/>
                      </a:lnTo>
                      <a:lnTo>
                        <a:pt x="824" y="73"/>
                      </a:lnTo>
                      <a:lnTo>
                        <a:pt x="828" y="62"/>
                      </a:lnTo>
                      <a:lnTo>
                        <a:pt x="833" y="52"/>
                      </a:lnTo>
                      <a:lnTo>
                        <a:pt x="835" y="45"/>
                      </a:lnTo>
                      <a:lnTo>
                        <a:pt x="838" y="40"/>
                      </a:lnTo>
                      <a:lnTo>
                        <a:pt x="843" y="27"/>
                      </a:lnTo>
                      <a:lnTo>
                        <a:pt x="847" y="14"/>
                      </a:lnTo>
                      <a:lnTo>
                        <a:pt x="852" y="0"/>
                      </a:lnTo>
                      <a:lnTo>
                        <a:pt x="742" y="13"/>
                      </a:lnTo>
                      <a:lnTo>
                        <a:pt x="610" y="22"/>
                      </a:lnTo>
                      <a:lnTo>
                        <a:pt x="307" y="37"/>
                      </a:lnTo>
                      <a:lnTo>
                        <a:pt x="310" y="52"/>
                      </a:lnTo>
                      <a:lnTo>
                        <a:pt x="251" y="53"/>
                      </a:lnTo>
                      <a:lnTo>
                        <a:pt x="249" y="39"/>
                      </a:lnTo>
                      <a:lnTo>
                        <a:pt x="191" y="41"/>
                      </a:lnTo>
                      <a:lnTo>
                        <a:pt x="77" y="43"/>
                      </a:lnTo>
                      <a:lnTo>
                        <a:pt x="32" y="43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Freeform 634"/>
              <p:cNvSpPr/>
              <p:nvPr/>
            </p:nvSpPr>
            <p:spPr>
              <a:xfrm>
                <a:off x="4044600" y="-1553400"/>
                <a:ext cx="17640" cy="331560"/>
              </a:xfrm>
              <a:custGeom>
                <a:avLst/>
                <a:gdLst/>
                <a:ahLst/>
                <a:rect l="l" t="t" r="r" b="b"/>
                <a:pathLst>
                  <a:path w="41" h="765">
                    <a:moveTo>
                      <a:pt x="0" y="0"/>
                    </a:moveTo>
                    <a:lnTo>
                      <a:pt x="24" y="427"/>
                    </a:lnTo>
                    <a:lnTo>
                      <a:pt x="30" y="535"/>
                    </a:lnTo>
                    <a:lnTo>
                      <a:pt x="40" y="643"/>
                    </a:lnTo>
                    <a:lnTo>
                      <a:pt x="40" y="657"/>
                    </a:lnTo>
                    <a:lnTo>
                      <a:pt x="41" y="672"/>
                    </a:lnTo>
                    <a:lnTo>
                      <a:pt x="39" y="686"/>
                    </a:lnTo>
                    <a:lnTo>
                      <a:pt x="38" y="702"/>
                    </a:lnTo>
                    <a:lnTo>
                      <a:pt x="35" y="717"/>
                    </a:lnTo>
                    <a:lnTo>
                      <a:pt x="32" y="733"/>
                    </a:lnTo>
                    <a:lnTo>
                      <a:pt x="28" y="748"/>
                    </a:lnTo>
                    <a:lnTo>
                      <a:pt x="24" y="76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35"/>
              <p:cNvSpPr/>
              <p:nvPr/>
            </p:nvSpPr>
            <p:spPr>
              <a:xfrm>
                <a:off x="4055400" y="-1571760"/>
                <a:ext cx="358560" cy="349560"/>
              </a:xfrm>
              <a:custGeom>
                <a:avLst/>
                <a:gdLst/>
                <a:ahLst/>
                <a:rect l="l" t="t" r="r" b="b"/>
                <a:pathLst>
                  <a:path w="828" h="807">
                    <a:moveTo>
                      <a:pt x="828" y="0"/>
                    </a:moveTo>
                    <a:lnTo>
                      <a:pt x="823" y="14"/>
                    </a:lnTo>
                    <a:lnTo>
                      <a:pt x="819" y="27"/>
                    </a:lnTo>
                    <a:lnTo>
                      <a:pt x="814" y="40"/>
                    </a:lnTo>
                    <a:lnTo>
                      <a:pt x="812" y="45"/>
                    </a:lnTo>
                    <a:lnTo>
                      <a:pt x="810" y="52"/>
                    </a:lnTo>
                    <a:lnTo>
                      <a:pt x="805" y="62"/>
                    </a:lnTo>
                    <a:lnTo>
                      <a:pt x="800" y="73"/>
                    </a:lnTo>
                    <a:lnTo>
                      <a:pt x="795" y="82"/>
                    </a:lnTo>
                    <a:lnTo>
                      <a:pt x="789" y="90"/>
                    </a:lnTo>
                    <a:lnTo>
                      <a:pt x="760" y="130"/>
                    </a:lnTo>
                    <a:lnTo>
                      <a:pt x="741" y="153"/>
                    </a:lnTo>
                    <a:lnTo>
                      <a:pt x="722" y="177"/>
                    </a:lnTo>
                    <a:lnTo>
                      <a:pt x="702" y="200"/>
                    </a:lnTo>
                    <a:lnTo>
                      <a:pt x="693" y="212"/>
                    </a:lnTo>
                    <a:lnTo>
                      <a:pt x="683" y="224"/>
                    </a:lnTo>
                    <a:lnTo>
                      <a:pt x="673" y="235"/>
                    </a:lnTo>
                    <a:lnTo>
                      <a:pt x="663" y="247"/>
                    </a:lnTo>
                    <a:lnTo>
                      <a:pt x="642" y="270"/>
                    </a:lnTo>
                    <a:lnTo>
                      <a:pt x="632" y="281"/>
                    </a:lnTo>
                    <a:lnTo>
                      <a:pt x="622" y="293"/>
                    </a:lnTo>
                    <a:lnTo>
                      <a:pt x="602" y="316"/>
                    </a:lnTo>
                    <a:lnTo>
                      <a:pt x="590" y="327"/>
                    </a:lnTo>
                    <a:lnTo>
                      <a:pt x="580" y="338"/>
                    </a:lnTo>
                    <a:lnTo>
                      <a:pt x="558" y="361"/>
                    </a:lnTo>
                    <a:lnTo>
                      <a:pt x="515" y="405"/>
                    </a:lnTo>
                    <a:lnTo>
                      <a:pt x="492" y="426"/>
                    </a:lnTo>
                    <a:lnTo>
                      <a:pt x="469" y="448"/>
                    </a:lnTo>
                    <a:lnTo>
                      <a:pt x="463" y="453"/>
                    </a:lnTo>
                    <a:lnTo>
                      <a:pt x="457" y="459"/>
                    </a:lnTo>
                    <a:lnTo>
                      <a:pt x="445" y="470"/>
                    </a:lnTo>
                    <a:lnTo>
                      <a:pt x="422" y="491"/>
                    </a:lnTo>
                    <a:lnTo>
                      <a:pt x="410" y="501"/>
                    </a:lnTo>
                    <a:lnTo>
                      <a:pt x="404" y="506"/>
                    </a:lnTo>
                    <a:lnTo>
                      <a:pt x="398" y="512"/>
                    </a:lnTo>
                    <a:lnTo>
                      <a:pt x="374" y="533"/>
                    </a:lnTo>
                    <a:lnTo>
                      <a:pt x="324" y="575"/>
                    </a:lnTo>
                    <a:lnTo>
                      <a:pt x="317" y="579"/>
                    </a:lnTo>
                    <a:lnTo>
                      <a:pt x="311" y="584"/>
                    </a:lnTo>
                    <a:lnTo>
                      <a:pt x="299" y="594"/>
                    </a:lnTo>
                    <a:lnTo>
                      <a:pt x="273" y="615"/>
                    </a:lnTo>
                    <a:lnTo>
                      <a:pt x="247" y="634"/>
                    </a:lnTo>
                    <a:lnTo>
                      <a:pt x="222" y="655"/>
                    </a:lnTo>
                    <a:lnTo>
                      <a:pt x="195" y="674"/>
                    </a:lnTo>
                    <a:lnTo>
                      <a:pt x="167" y="693"/>
                    </a:lnTo>
                    <a:lnTo>
                      <a:pt x="153" y="703"/>
                    </a:lnTo>
                    <a:lnTo>
                      <a:pt x="140" y="713"/>
                    </a:lnTo>
                    <a:lnTo>
                      <a:pt x="113" y="732"/>
                    </a:lnTo>
                    <a:lnTo>
                      <a:pt x="85" y="751"/>
                    </a:lnTo>
                    <a:lnTo>
                      <a:pt x="57" y="769"/>
                    </a:lnTo>
                    <a:lnTo>
                      <a:pt x="42" y="778"/>
                    </a:lnTo>
                    <a:lnTo>
                      <a:pt x="28" y="788"/>
                    </a:lnTo>
                    <a:lnTo>
                      <a:pt x="0" y="80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678"/>
              <p:cNvSpPr/>
              <p:nvPr/>
            </p:nvSpPr>
            <p:spPr>
              <a:xfrm>
                <a:off x="4044600" y="-1553400"/>
                <a:ext cx="17640" cy="331560"/>
              </a:xfrm>
              <a:custGeom>
                <a:avLst/>
                <a:gdLst/>
                <a:ahLst/>
                <a:rect l="l" t="t" r="r" b="b"/>
                <a:pathLst>
                  <a:path w="41" h="765">
                    <a:moveTo>
                      <a:pt x="0" y="0"/>
                    </a:moveTo>
                    <a:lnTo>
                      <a:pt x="24" y="427"/>
                    </a:lnTo>
                    <a:lnTo>
                      <a:pt x="30" y="535"/>
                    </a:lnTo>
                    <a:lnTo>
                      <a:pt x="40" y="643"/>
                    </a:lnTo>
                    <a:lnTo>
                      <a:pt x="40" y="657"/>
                    </a:lnTo>
                    <a:lnTo>
                      <a:pt x="41" y="672"/>
                    </a:lnTo>
                    <a:lnTo>
                      <a:pt x="39" y="686"/>
                    </a:lnTo>
                    <a:lnTo>
                      <a:pt x="38" y="702"/>
                    </a:lnTo>
                    <a:lnTo>
                      <a:pt x="35" y="717"/>
                    </a:lnTo>
                    <a:lnTo>
                      <a:pt x="32" y="733"/>
                    </a:lnTo>
                    <a:lnTo>
                      <a:pt x="28" y="748"/>
                    </a:lnTo>
                    <a:lnTo>
                      <a:pt x="24" y="76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79"/>
              <p:cNvSpPr/>
              <p:nvPr/>
            </p:nvSpPr>
            <p:spPr>
              <a:xfrm>
                <a:off x="4055400" y="-1571760"/>
                <a:ext cx="358560" cy="349560"/>
              </a:xfrm>
              <a:custGeom>
                <a:avLst/>
                <a:gdLst/>
                <a:ahLst/>
                <a:rect l="l" t="t" r="r" b="b"/>
                <a:pathLst>
                  <a:path w="828" h="807">
                    <a:moveTo>
                      <a:pt x="828" y="0"/>
                    </a:moveTo>
                    <a:lnTo>
                      <a:pt x="823" y="14"/>
                    </a:lnTo>
                    <a:lnTo>
                      <a:pt x="819" y="27"/>
                    </a:lnTo>
                    <a:lnTo>
                      <a:pt x="814" y="40"/>
                    </a:lnTo>
                    <a:lnTo>
                      <a:pt x="812" y="45"/>
                    </a:lnTo>
                    <a:lnTo>
                      <a:pt x="810" y="52"/>
                    </a:lnTo>
                    <a:lnTo>
                      <a:pt x="805" y="62"/>
                    </a:lnTo>
                    <a:lnTo>
                      <a:pt x="800" y="73"/>
                    </a:lnTo>
                    <a:lnTo>
                      <a:pt x="795" y="82"/>
                    </a:lnTo>
                    <a:lnTo>
                      <a:pt x="789" y="90"/>
                    </a:lnTo>
                    <a:lnTo>
                      <a:pt x="760" y="130"/>
                    </a:lnTo>
                    <a:lnTo>
                      <a:pt x="741" y="153"/>
                    </a:lnTo>
                    <a:lnTo>
                      <a:pt x="722" y="177"/>
                    </a:lnTo>
                    <a:lnTo>
                      <a:pt x="702" y="200"/>
                    </a:lnTo>
                    <a:lnTo>
                      <a:pt x="693" y="212"/>
                    </a:lnTo>
                    <a:lnTo>
                      <a:pt x="683" y="224"/>
                    </a:lnTo>
                    <a:lnTo>
                      <a:pt x="673" y="235"/>
                    </a:lnTo>
                    <a:lnTo>
                      <a:pt x="663" y="247"/>
                    </a:lnTo>
                    <a:lnTo>
                      <a:pt x="642" y="270"/>
                    </a:lnTo>
                    <a:lnTo>
                      <a:pt x="632" y="281"/>
                    </a:lnTo>
                    <a:lnTo>
                      <a:pt x="622" y="293"/>
                    </a:lnTo>
                    <a:lnTo>
                      <a:pt x="602" y="316"/>
                    </a:lnTo>
                    <a:lnTo>
                      <a:pt x="590" y="327"/>
                    </a:lnTo>
                    <a:lnTo>
                      <a:pt x="580" y="338"/>
                    </a:lnTo>
                    <a:lnTo>
                      <a:pt x="558" y="361"/>
                    </a:lnTo>
                    <a:lnTo>
                      <a:pt x="515" y="405"/>
                    </a:lnTo>
                    <a:lnTo>
                      <a:pt x="492" y="426"/>
                    </a:lnTo>
                    <a:lnTo>
                      <a:pt x="469" y="448"/>
                    </a:lnTo>
                    <a:lnTo>
                      <a:pt x="463" y="453"/>
                    </a:lnTo>
                    <a:lnTo>
                      <a:pt x="457" y="459"/>
                    </a:lnTo>
                    <a:lnTo>
                      <a:pt x="445" y="470"/>
                    </a:lnTo>
                    <a:lnTo>
                      <a:pt x="422" y="491"/>
                    </a:lnTo>
                    <a:lnTo>
                      <a:pt x="410" y="501"/>
                    </a:lnTo>
                    <a:lnTo>
                      <a:pt x="404" y="506"/>
                    </a:lnTo>
                    <a:lnTo>
                      <a:pt x="398" y="512"/>
                    </a:lnTo>
                    <a:lnTo>
                      <a:pt x="374" y="533"/>
                    </a:lnTo>
                    <a:lnTo>
                      <a:pt x="324" y="575"/>
                    </a:lnTo>
                    <a:lnTo>
                      <a:pt x="317" y="579"/>
                    </a:lnTo>
                    <a:lnTo>
                      <a:pt x="311" y="584"/>
                    </a:lnTo>
                    <a:lnTo>
                      <a:pt x="299" y="594"/>
                    </a:lnTo>
                    <a:lnTo>
                      <a:pt x="273" y="615"/>
                    </a:lnTo>
                    <a:lnTo>
                      <a:pt x="247" y="634"/>
                    </a:lnTo>
                    <a:lnTo>
                      <a:pt x="222" y="655"/>
                    </a:lnTo>
                    <a:lnTo>
                      <a:pt x="195" y="674"/>
                    </a:lnTo>
                    <a:lnTo>
                      <a:pt x="167" y="693"/>
                    </a:lnTo>
                    <a:lnTo>
                      <a:pt x="153" y="703"/>
                    </a:lnTo>
                    <a:lnTo>
                      <a:pt x="140" y="713"/>
                    </a:lnTo>
                    <a:lnTo>
                      <a:pt x="113" y="732"/>
                    </a:lnTo>
                    <a:lnTo>
                      <a:pt x="85" y="751"/>
                    </a:lnTo>
                    <a:lnTo>
                      <a:pt x="57" y="769"/>
                    </a:lnTo>
                    <a:lnTo>
                      <a:pt x="42" y="778"/>
                    </a:lnTo>
                    <a:lnTo>
                      <a:pt x="28" y="788"/>
                    </a:lnTo>
                    <a:lnTo>
                      <a:pt x="0" y="80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9" name="Group 666"/>
              <p:cNvGrpSpPr/>
              <p:nvPr/>
            </p:nvGrpSpPr>
            <p:grpSpPr>
              <a:xfrm>
                <a:off x="4044600" y="-1572120"/>
                <a:ext cx="369000" cy="349560"/>
                <a:chOff x="4044600" y="-1572120"/>
                <a:chExt cx="369000" cy="349560"/>
              </a:xfrm>
            </p:grpSpPr>
            <p:sp>
              <p:nvSpPr>
                <p:cNvPr id="730" name="Freeform 664"/>
                <p:cNvSpPr/>
                <p:nvPr/>
              </p:nvSpPr>
              <p:spPr>
                <a:xfrm>
                  <a:off x="4044600" y="-1572120"/>
                  <a:ext cx="369000" cy="349560"/>
                </a:xfrm>
                <a:custGeom>
                  <a:avLst/>
                  <a:gdLst/>
                  <a:ahLst/>
                  <a:rect l="l" t="t" r="r" b="b"/>
                  <a:pathLst>
                    <a:path w="852" h="807">
                      <a:moveTo>
                        <a:pt x="32" y="43"/>
                      </a:moveTo>
                      <a:lnTo>
                        <a:pt x="0" y="43"/>
                      </a:lnTo>
                      <a:lnTo>
                        <a:pt x="23" y="469"/>
                      </a:lnTo>
                      <a:lnTo>
                        <a:pt x="30" y="578"/>
                      </a:lnTo>
                      <a:lnTo>
                        <a:pt x="40" y="686"/>
                      </a:lnTo>
                      <a:lnTo>
                        <a:pt x="40" y="700"/>
                      </a:lnTo>
                      <a:lnTo>
                        <a:pt x="40" y="714"/>
                      </a:lnTo>
                      <a:lnTo>
                        <a:pt x="39" y="729"/>
                      </a:lnTo>
                      <a:lnTo>
                        <a:pt x="38" y="744"/>
                      </a:lnTo>
                      <a:lnTo>
                        <a:pt x="35" y="759"/>
                      </a:lnTo>
                      <a:lnTo>
                        <a:pt x="32" y="775"/>
                      </a:lnTo>
                      <a:lnTo>
                        <a:pt x="28" y="791"/>
                      </a:lnTo>
                      <a:lnTo>
                        <a:pt x="24" y="807"/>
                      </a:lnTo>
                      <a:lnTo>
                        <a:pt x="52" y="788"/>
                      </a:lnTo>
                      <a:lnTo>
                        <a:pt x="66" y="779"/>
                      </a:lnTo>
                      <a:lnTo>
                        <a:pt x="80" y="770"/>
                      </a:lnTo>
                      <a:lnTo>
                        <a:pt x="109" y="751"/>
                      </a:lnTo>
                      <a:lnTo>
                        <a:pt x="137" y="733"/>
                      </a:lnTo>
                      <a:lnTo>
                        <a:pt x="164" y="713"/>
                      </a:lnTo>
                      <a:lnTo>
                        <a:pt x="177" y="704"/>
                      </a:lnTo>
                      <a:lnTo>
                        <a:pt x="191" y="694"/>
                      </a:lnTo>
                      <a:lnTo>
                        <a:pt x="219" y="674"/>
                      </a:lnTo>
                      <a:lnTo>
                        <a:pt x="245" y="655"/>
                      </a:lnTo>
                      <a:lnTo>
                        <a:pt x="271" y="635"/>
                      </a:lnTo>
                      <a:lnTo>
                        <a:pt x="297" y="615"/>
                      </a:lnTo>
                      <a:lnTo>
                        <a:pt x="322" y="595"/>
                      </a:lnTo>
                      <a:lnTo>
                        <a:pt x="335" y="584"/>
                      </a:lnTo>
                      <a:lnTo>
                        <a:pt x="341" y="579"/>
                      </a:lnTo>
                      <a:lnTo>
                        <a:pt x="348" y="575"/>
                      </a:lnTo>
                      <a:lnTo>
                        <a:pt x="398" y="533"/>
                      </a:lnTo>
                      <a:lnTo>
                        <a:pt x="422" y="512"/>
                      </a:lnTo>
                      <a:lnTo>
                        <a:pt x="427" y="507"/>
                      </a:lnTo>
                      <a:lnTo>
                        <a:pt x="434" y="502"/>
                      </a:lnTo>
                      <a:lnTo>
                        <a:pt x="446" y="492"/>
                      </a:lnTo>
                      <a:lnTo>
                        <a:pt x="469" y="470"/>
                      </a:lnTo>
                      <a:lnTo>
                        <a:pt x="481" y="459"/>
                      </a:lnTo>
                      <a:lnTo>
                        <a:pt x="487" y="454"/>
                      </a:lnTo>
                      <a:lnTo>
                        <a:pt x="493" y="448"/>
                      </a:lnTo>
                      <a:lnTo>
                        <a:pt x="515" y="427"/>
                      </a:lnTo>
                      <a:lnTo>
                        <a:pt x="538" y="405"/>
                      </a:lnTo>
                      <a:lnTo>
                        <a:pt x="582" y="361"/>
                      </a:lnTo>
                      <a:lnTo>
                        <a:pt x="604" y="338"/>
                      </a:lnTo>
                      <a:lnTo>
                        <a:pt x="614" y="327"/>
                      </a:lnTo>
                      <a:lnTo>
                        <a:pt x="626" y="316"/>
                      </a:lnTo>
                      <a:lnTo>
                        <a:pt x="646" y="293"/>
                      </a:lnTo>
                      <a:lnTo>
                        <a:pt x="656" y="281"/>
                      </a:lnTo>
                      <a:lnTo>
                        <a:pt x="666" y="270"/>
                      </a:lnTo>
                      <a:lnTo>
                        <a:pt x="686" y="247"/>
                      </a:lnTo>
                      <a:lnTo>
                        <a:pt x="696" y="235"/>
                      </a:lnTo>
                      <a:lnTo>
                        <a:pt x="707" y="224"/>
                      </a:lnTo>
                      <a:lnTo>
                        <a:pt x="717" y="212"/>
                      </a:lnTo>
                      <a:lnTo>
                        <a:pt x="726" y="200"/>
                      </a:lnTo>
                      <a:lnTo>
                        <a:pt x="746" y="177"/>
                      </a:lnTo>
                      <a:lnTo>
                        <a:pt x="765" y="153"/>
                      </a:lnTo>
                      <a:lnTo>
                        <a:pt x="784" y="129"/>
                      </a:lnTo>
                      <a:lnTo>
                        <a:pt x="813" y="90"/>
                      </a:lnTo>
                      <a:lnTo>
                        <a:pt x="818" y="82"/>
                      </a:lnTo>
                      <a:lnTo>
                        <a:pt x="824" y="73"/>
                      </a:lnTo>
                      <a:lnTo>
                        <a:pt x="828" y="62"/>
                      </a:lnTo>
                      <a:lnTo>
                        <a:pt x="833" y="52"/>
                      </a:lnTo>
                      <a:lnTo>
                        <a:pt x="835" y="45"/>
                      </a:lnTo>
                      <a:lnTo>
                        <a:pt x="838" y="40"/>
                      </a:lnTo>
                      <a:lnTo>
                        <a:pt x="843" y="27"/>
                      </a:lnTo>
                      <a:lnTo>
                        <a:pt x="847" y="14"/>
                      </a:lnTo>
                      <a:lnTo>
                        <a:pt x="852" y="0"/>
                      </a:lnTo>
                      <a:lnTo>
                        <a:pt x="742" y="13"/>
                      </a:lnTo>
                      <a:lnTo>
                        <a:pt x="610" y="22"/>
                      </a:lnTo>
                      <a:lnTo>
                        <a:pt x="307" y="37"/>
                      </a:lnTo>
                      <a:lnTo>
                        <a:pt x="310" y="52"/>
                      </a:lnTo>
                      <a:lnTo>
                        <a:pt x="251" y="53"/>
                      </a:lnTo>
                      <a:lnTo>
                        <a:pt x="249" y="39"/>
                      </a:lnTo>
                      <a:lnTo>
                        <a:pt x="191" y="41"/>
                      </a:lnTo>
                      <a:lnTo>
                        <a:pt x="77" y="43"/>
                      </a:lnTo>
                      <a:lnTo>
                        <a:pt x="32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665"/>
                <p:cNvSpPr/>
                <p:nvPr/>
              </p:nvSpPr>
              <p:spPr>
                <a:xfrm>
                  <a:off x="4044600" y="-1572120"/>
                  <a:ext cx="369000" cy="349560"/>
                </a:xfrm>
                <a:custGeom>
                  <a:avLst/>
                  <a:gdLst/>
                  <a:ahLst/>
                  <a:rect l="l" t="t" r="r" b="b"/>
                  <a:pathLst>
                    <a:path w="852" h="807">
                      <a:moveTo>
                        <a:pt x="32" y="43"/>
                      </a:moveTo>
                      <a:lnTo>
                        <a:pt x="0" y="43"/>
                      </a:lnTo>
                      <a:lnTo>
                        <a:pt x="23" y="469"/>
                      </a:lnTo>
                      <a:lnTo>
                        <a:pt x="30" y="578"/>
                      </a:lnTo>
                      <a:lnTo>
                        <a:pt x="40" y="686"/>
                      </a:lnTo>
                      <a:lnTo>
                        <a:pt x="40" y="700"/>
                      </a:lnTo>
                      <a:lnTo>
                        <a:pt x="40" y="714"/>
                      </a:lnTo>
                      <a:lnTo>
                        <a:pt x="39" y="729"/>
                      </a:lnTo>
                      <a:lnTo>
                        <a:pt x="38" y="744"/>
                      </a:lnTo>
                      <a:lnTo>
                        <a:pt x="35" y="759"/>
                      </a:lnTo>
                      <a:lnTo>
                        <a:pt x="32" y="775"/>
                      </a:lnTo>
                      <a:lnTo>
                        <a:pt x="28" y="791"/>
                      </a:lnTo>
                      <a:lnTo>
                        <a:pt x="24" y="807"/>
                      </a:lnTo>
                      <a:lnTo>
                        <a:pt x="52" y="788"/>
                      </a:lnTo>
                      <a:lnTo>
                        <a:pt x="66" y="779"/>
                      </a:lnTo>
                      <a:lnTo>
                        <a:pt x="80" y="770"/>
                      </a:lnTo>
                      <a:lnTo>
                        <a:pt x="109" y="751"/>
                      </a:lnTo>
                      <a:lnTo>
                        <a:pt x="137" y="733"/>
                      </a:lnTo>
                      <a:lnTo>
                        <a:pt x="164" y="713"/>
                      </a:lnTo>
                      <a:lnTo>
                        <a:pt x="177" y="704"/>
                      </a:lnTo>
                      <a:lnTo>
                        <a:pt x="191" y="694"/>
                      </a:lnTo>
                      <a:lnTo>
                        <a:pt x="219" y="674"/>
                      </a:lnTo>
                      <a:lnTo>
                        <a:pt x="245" y="655"/>
                      </a:lnTo>
                      <a:lnTo>
                        <a:pt x="271" y="635"/>
                      </a:lnTo>
                      <a:lnTo>
                        <a:pt x="297" y="615"/>
                      </a:lnTo>
                      <a:lnTo>
                        <a:pt x="322" y="595"/>
                      </a:lnTo>
                      <a:lnTo>
                        <a:pt x="335" y="584"/>
                      </a:lnTo>
                      <a:lnTo>
                        <a:pt x="341" y="579"/>
                      </a:lnTo>
                      <a:lnTo>
                        <a:pt x="348" y="575"/>
                      </a:lnTo>
                      <a:lnTo>
                        <a:pt x="398" y="533"/>
                      </a:lnTo>
                      <a:lnTo>
                        <a:pt x="422" y="512"/>
                      </a:lnTo>
                      <a:lnTo>
                        <a:pt x="427" y="507"/>
                      </a:lnTo>
                      <a:lnTo>
                        <a:pt x="434" y="502"/>
                      </a:lnTo>
                      <a:lnTo>
                        <a:pt x="446" y="492"/>
                      </a:lnTo>
                      <a:lnTo>
                        <a:pt x="469" y="470"/>
                      </a:lnTo>
                      <a:lnTo>
                        <a:pt x="481" y="459"/>
                      </a:lnTo>
                      <a:lnTo>
                        <a:pt x="487" y="454"/>
                      </a:lnTo>
                      <a:lnTo>
                        <a:pt x="493" y="448"/>
                      </a:lnTo>
                      <a:lnTo>
                        <a:pt x="515" y="427"/>
                      </a:lnTo>
                      <a:lnTo>
                        <a:pt x="538" y="405"/>
                      </a:lnTo>
                      <a:lnTo>
                        <a:pt x="582" y="361"/>
                      </a:lnTo>
                      <a:lnTo>
                        <a:pt x="604" y="338"/>
                      </a:lnTo>
                      <a:lnTo>
                        <a:pt x="614" y="327"/>
                      </a:lnTo>
                      <a:lnTo>
                        <a:pt x="626" y="316"/>
                      </a:lnTo>
                      <a:lnTo>
                        <a:pt x="646" y="293"/>
                      </a:lnTo>
                      <a:lnTo>
                        <a:pt x="656" y="281"/>
                      </a:lnTo>
                      <a:lnTo>
                        <a:pt x="666" y="270"/>
                      </a:lnTo>
                      <a:lnTo>
                        <a:pt x="686" y="247"/>
                      </a:lnTo>
                      <a:lnTo>
                        <a:pt x="696" y="235"/>
                      </a:lnTo>
                      <a:lnTo>
                        <a:pt x="707" y="224"/>
                      </a:lnTo>
                      <a:lnTo>
                        <a:pt x="717" y="212"/>
                      </a:lnTo>
                      <a:lnTo>
                        <a:pt x="726" y="200"/>
                      </a:lnTo>
                      <a:lnTo>
                        <a:pt x="746" y="177"/>
                      </a:lnTo>
                      <a:lnTo>
                        <a:pt x="765" y="153"/>
                      </a:lnTo>
                      <a:lnTo>
                        <a:pt x="784" y="129"/>
                      </a:lnTo>
                      <a:lnTo>
                        <a:pt x="813" y="90"/>
                      </a:lnTo>
                      <a:lnTo>
                        <a:pt x="818" y="82"/>
                      </a:lnTo>
                      <a:lnTo>
                        <a:pt x="824" y="73"/>
                      </a:lnTo>
                      <a:lnTo>
                        <a:pt x="828" y="62"/>
                      </a:lnTo>
                      <a:lnTo>
                        <a:pt x="833" y="52"/>
                      </a:lnTo>
                      <a:lnTo>
                        <a:pt x="835" y="45"/>
                      </a:lnTo>
                      <a:lnTo>
                        <a:pt x="838" y="40"/>
                      </a:lnTo>
                      <a:lnTo>
                        <a:pt x="843" y="27"/>
                      </a:lnTo>
                      <a:lnTo>
                        <a:pt x="847" y="14"/>
                      </a:lnTo>
                      <a:lnTo>
                        <a:pt x="852" y="0"/>
                      </a:lnTo>
                      <a:lnTo>
                        <a:pt x="742" y="13"/>
                      </a:lnTo>
                      <a:lnTo>
                        <a:pt x="610" y="22"/>
                      </a:lnTo>
                      <a:lnTo>
                        <a:pt x="307" y="37"/>
                      </a:lnTo>
                      <a:lnTo>
                        <a:pt x="310" y="52"/>
                      </a:lnTo>
                      <a:lnTo>
                        <a:pt x="251" y="53"/>
                      </a:lnTo>
                      <a:lnTo>
                        <a:pt x="249" y="39"/>
                      </a:lnTo>
                      <a:lnTo>
                        <a:pt x="191" y="41"/>
                      </a:lnTo>
                      <a:lnTo>
                        <a:pt x="77" y="43"/>
                      </a:lnTo>
                      <a:lnTo>
                        <a:pt x="32" y="43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Group 600"/>
              <p:cNvGrpSpPr/>
              <p:nvPr/>
            </p:nvGrpSpPr>
            <p:grpSpPr>
              <a:xfrm>
                <a:off x="4008600" y="-2793240"/>
                <a:ext cx="398160" cy="383400"/>
                <a:chOff x="4008600" y="-2793240"/>
                <a:chExt cx="398160" cy="383400"/>
              </a:xfrm>
            </p:grpSpPr>
            <p:sp>
              <p:nvSpPr>
                <p:cNvPr id="733" name="Freeform 598"/>
                <p:cNvSpPr/>
                <p:nvPr/>
              </p:nvSpPr>
              <p:spPr>
                <a:xfrm>
                  <a:off x="4008600" y="-2793240"/>
                  <a:ext cx="398160" cy="383400"/>
                </a:xfrm>
                <a:custGeom>
                  <a:avLst/>
                  <a:gdLst/>
                  <a:ahLst/>
                  <a:rect l="l" t="t" r="r" b="b"/>
                  <a:pathLst>
                    <a:path w="919" h="885">
                      <a:moveTo>
                        <a:pt x="28" y="0"/>
                      </a:moveTo>
                      <a:lnTo>
                        <a:pt x="16" y="9"/>
                      </a:lnTo>
                      <a:lnTo>
                        <a:pt x="0" y="710"/>
                      </a:lnTo>
                      <a:lnTo>
                        <a:pt x="1" y="775"/>
                      </a:lnTo>
                      <a:lnTo>
                        <a:pt x="38" y="772"/>
                      </a:lnTo>
                      <a:lnTo>
                        <a:pt x="41" y="772"/>
                      </a:lnTo>
                      <a:lnTo>
                        <a:pt x="76" y="770"/>
                      </a:lnTo>
                      <a:lnTo>
                        <a:pt x="112" y="769"/>
                      </a:lnTo>
                      <a:lnTo>
                        <a:pt x="148" y="769"/>
                      </a:lnTo>
                      <a:lnTo>
                        <a:pt x="185" y="770"/>
                      </a:lnTo>
                      <a:lnTo>
                        <a:pt x="257" y="771"/>
                      </a:lnTo>
                      <a:lnTo>
                        <a:pt x="329" y="776"/>
                      </a:lnTo>
                      <a:lnTo>
                        <a:pt x="379" y="780"/>
                      </a:lnTo>
                      <a:lnTo>
                        <a:pt x="430" y="785"/>
                      </a:lnTo>
                      <a:lnTo>
                        <a:pt x="532" y="798"/>
                      </a:lnTo>
                      <a:lnTo>
                        <a:pt x="582" y="805"/>
                      </a:lnTo>
                      <a:lnTo>
                        <a:pt x="632" y="814"/>
                      </a:lnTo>
                      <a:lnTo>
                        <a:pt x="682" y="822"/>
                      </a:lnTo>
                      <a:lnTo>
                        <a:pt x="733" y="833"/>
                      </a:lnTo>
                      <a:lnTo>
                        <a:pt x="762" y="838"/>
                      </a:lnTo>
                      <a:lnTo>
                        <a:pt x="774" y="841"/>
                      </a:lnTo>
                      <a:lnTo>
                        <a:pt x="781" y="842"/>
                      </a:lnTo>
                      <a:lnTo>
                        <a:pt x="789" y="844"/>
                      </a:lnTo>
                      <a:lnTo>
                        <a:pt x="805" y="849"/>
                      </a:lnTo>
                      <a:lnTo>
                        <a:pt x="814" y="852"/>
                      </a:lnTo>
                      <a:lnTo>
                        <a:pt x="824" y="855"/>
                      </a:lnTo>
                      <a:lnTo>
                        <a:pt x="845" y="861"/>
                      </a:lnTo>
                      <a:lnTo>
                        <a:pt x="855" y="864"/>
                      </a:lnTo>
                      <a:lnTo>
                        <a:pt x="867" y="868"/>
                      </a:lnTo>
                      <a:lnTo>
                        <a:pt x="892" y="876"/>
                      </a:lnTo>
                      <a:lnTo>
                        <a:pt x="905" y="881"/>
                      </a:lnTo>
                      <a:lnTo>
                        <a:pt x="919" y="885"/>
                      </a:lnTo>
                      <a:lnTo>
                        <a:pt x="890" y="854"/>
                      </a:lnTo>
                      <a:lnTo>
                        <a:pt x="862" y="824"/>
                      </a:lnTo>
                      <a:lnTo>
                        <a:pt x="836" y="792"/>
                      </a:lnTo>
                      <a:lnTo>
                        <a:pt x="810" y="761"/>
                      </a:lnTo>
                      <a:lnTo>
                        <a:pt x="786" y="730"/>
                      </a:lnTo>
                      <a:lnTo>
                        <a:pt x="762" y="699"/>
                      </a:lnTo>
                      <a:lnTo>
                        <a:pt x="740" y="668"/>
                      </a:lnTo>
                      <a:lnTo>
                        <a:pt x="720" y="637"/>
                      </a:lnTo>
                      <a:lnTo>
                        <a:pt x="687" y="589"/>
                      </a:lnTo>
                      <a:lnTo>
                        <a:pt x="670" y="565"/>
                      </a:lnTo>
                      <a:lnTo>
                        <a:pt x="652" y="542"/>
                      </a:lnTo>
                      <a:lnTo>
                        <a:pt x="614" y="495"/>
                      </a:lnTo>
                      <a:lnTo>
                        <a:pt x="595" y="471"/>
                      </a:lnTo>
                      <a:lnTo>
                        <a:pt x="575" y="449"/>
                      </a:lnTo>
                      <a:lnTo>
                        <a:pt x="554" y="426"/>
                      </a:lnTo>
                      <a:lnTo>
                        <a:pt x="533" y="402"/>
                      </a:lnTo>
                      <a:lnTo>
                        <a:pt x="488" y="357"/>
                      </a:lnTo>
                      <a:lnTo>
                        <a:pt x="465" y="335"/>
                      </a:lnTo>
                      <a:lnTo>
                        <a:pt x="442" y="313"/>
                      </a:lnTo>
                      <a:lnTo>
                        <a:pt x="393" y="269"/>
                      </a:lnTo>
                      <a:lnTo>
                        <a:pt x="352" y="234"/>
                      </a:lnTo>
                      <a:lnTo>
                        <a:pt x="310" y="199"/>
                      </a:lnTo>
                      <a:lnTo>
                        <a:pt x="266" y="166"/>
                      </a:lnTo>
                      <a:lnTo>
                        <a:pt x="222" y="132"/>
                      </a:lnTo>
                      <a:lnTo>
                        <a:pt x="175" y="99"/>
                      </a:lnTo>
                      <a:lnTo>
                        <a:pt x="128" y="66"/>
                      </a:lnTo>
                      <a:lnTo>
                        <a:pt x="79" y="33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99"/>
                <p:cNvSpPr/>
                <p:nvPr/>
              </p:nvSpPr>
              <p:spPr>
                <a:xfrm>
                  <a:off x="4008600" y="-2793240"/>
                  <a:ext cx="398160" cy="383400"/>
                </a:xfrm>
                <a:custGeom>
                  <a:avLst/>
                  <a:gdLst/>
                  <a:ahLst/>
                  <a:rect l="l" t="t" r="r" b="b"/>
                  <a:pathLst>
                    <a:path w="919" h="885">
                      <a:moveTo>
                        <a:pt x="28" y="0"/>
                      </a:moveTo>
                      <a:lnTo>
                        <a:pt x="16" y="9"/>
                      </a:lnTo>
                      <a:lnTo>
                        <a:pt x="0" y="710"/>
                      </a:lnTo>
                      <a:lnTo>
                        <a:pt x="1" y="775"/>
                      </a:lnTo>
                      <a:lnTo>
                        <a:pt x="38" y="772"/>
                      </a:lnTo>
                      <a:lnTo>
                        <a:pt x="41" y="772"/>
                      </a:lnTo>
                      <a:lnTo>
                        <a:pt x="76" y="770"/>
                      </a:lnTo>
                      <a:lnTo>
                        <a:pt x="112" y="769"/>
                      </a:lnTo>
                      <a:lnTo>
                        <a:pt x="148" y="769"/>
                      </a:lnTo>
                      <a:lnTo>
                        <a:pt x="185" y="770"/>
                      </a:lnTo>
                      <a:lnTo>
                        <a:pt x="257" y="771"/>
                      </a:lnTo>
                      <a:lnTo>
                        <a:pt x="329" y="776"/>
                      </a:lnTo>
                      <a:lnTo>
                        <a:pt x="379" y="780"/>
                      </a:lnTo>
                      <a:lnTo>
                        <a:pt x="430" y="785"/>
                      </a:lnTo>
                      <a:lnTo>
                        <a:pt x="532" y="798"/>
                      </a:lnTo>
                      <a:lnTo>
                        <a:pt x="582" y="805"/>
                      </a:lnTo>
                      <a:lnTo>
                        <a:pt x="632" y="814"/>
                      </a:lnTo>
                      <a:lnTo>
                        <a:pt x="682" y="822"/>
                      </a:lnTo>
                      <a:lnTo>
                        <a:pt x="733" y="833"/>
                      </a:lnTo>
                      <a:lnTo>
                        <a:pt x="762" y="838"/>
                      </a:lnTo>
                      <a:lnTo>
                        <a:pt x="774" y="841"/>
                      </a:lnTo>
                      <a:lnTo>
                        <a:pt x="781" y="842"/>
                      </a:lnTo>
                      <a:lnTo>
                        <a:pt x="789" y="844"/>
                      </a:lnTo>
                      <a:lnTo>
                        <a:pt x="805" y="849"/>
                      </a:lnTo>
                      <a:lnTo>
                        <a:pt x="814" y="852"/>
                      </a:lnTo>
                      <a:lnTo>
                        <a:pt x="824" y="855"/>
                      </a:lnTo>
                      <a:lnTo>
                        <a:pt x="845" y="861"/>
                      </a:lnTo>
                      <a:lnTo>
                        <a:pt x="855" y="864"/>
                      </a:lnTo>
                      <a:lnTo>
                        <a:pt x="867" y="868"/>
                      </a:lnTo>
                      <a:lnTo>
                        <a:pt x="892" y="876"/>
                      </a:lnTo>
                      <a:lnTo>
                        <a:pt x="905" y="881"/>
                      </a:lnTo>
                      <a:lnTo>
                        <a:pt x="919" y="885"/>
                      </a:lnTo>
                      <a:lnTo>
                        <a:pt x="890" y="854"/>
                      </a:lnTo>
                      <a:lnTo>
                        <a:pt x="862" y="824"/>
                      </a:lnTo>
                      <a:lnTo>
                        <a:pt x="836" y="792"/>
                      </a:lnTo>
                      <a:lnTo>
                        <a:pt x="810" y="761"/>
                      </a:lnTo>
                      <a:lnTo>
                        <a:pt x="786" y="730"/>
                      </a:lnTo>
                      <a:lnTo>
                        <a:pt x="762" y="699"/>
                      </a:lnTo>
                      <a:lnTo>
                        <a:pt x="740" y="668"/>
                      </a:lnTo>
                      <a:lnTo>
                        <a:pt x="720" y="637"/>
                      </a:lnTo>
                      <a:lnTo>
                        <a:pt x="687" y="589"/>
                      </a:lnTo>
                      <a:lnTo>
                        <a:pt x="670" y="565"/>
                      </a:lnTo>
                      <a:lnTo>
                        <a:pt x="652" y="542"/>
                      </a:lnTo>
                      <a:lnTo>
                        <a:pt x="614" y="495"/>
                      </a:lnTo>
                      <a:lnTo>
                        <a:pt x="595" y="471"/>
                      </a:lnTo>
                      <a:lnTo>
                        <a:pt x="575" y="449"/>
                      </a:lnTo>
                      <a:lnTo>
                        <a:pt x="554" y="426"/>
                      </a:lnTo>
                      <a:lnTo>
                        <a:pt x="533" y="402"/>
                      </a:lnTo>
                      <a:lnTo>
                        <a:pt x="488" y="357"/>
                      </a:lnTo>
                      <a:lnTo>
                        <a:pt x="465" y="335"/>
                      </a:lnTo>
                      <a:lnTo>
                        <a:pt x="442" y="313"/>
                      </a:lnTo>
                      <a:lnTo>
                        <a:pt x="393" y="269"/>
                      </a:lnTo>
                      <a:lnTo>
                        <a:pt x="352" y="234"/>
                      </a:lnTo>
                      <a:lnTo>
                        <a:pt x="310" y="199"/>
                      </a:lnTo>
                      <a:lnTo>
                        <a:pt x="266" y="166"/>
                      </a:lnTo>
                      <a:lnTo>
                        <a:pt x="222" y="132"/>
                      </a:lnTo>
                      <a:lnTo>
                        <a:pt x="175" y="99"/>
                      </a:lnTo>
                      <a:lnTo>
                        <a:pt x="128" y="66"/>
                      </a:lnTo>
                      <a:lnTo>
                        <a:pt x="79" y="33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Freeform 623"/>
              <p:cNvSpPr/>
              <p:nvPr/>
            </p:nvSpPr>
            <p:spPr>
              <a:xfrm>
                <a:off x="4016160" y="-2793240"/>
                <a:ext cx="390240" cy="383400"/>
              </a:xfrm>
              <a:custGeom>
                <a:avLst/>
                <a:gdLst/>
                <a:ahLst/>
                <a:rect l="l" t="t" r="r" b="b"/>
                <a:pathLst>
                  <a:path w="901" h="885">
                    <a:moveTo>
                      <a:pt x="0" y="9"/>
                    </a:moveTo>
                    <a:lnTo>
                      <a:pt x="12" y="0"/>
                    </a:lnTo>
                    <a:lnTo>
                      <a:pt x="62" y="32"/>
                    </a:lnTo>
                    <a:lnTo>
                      <a:pt x="111" y="65"/>
                    </a:lnTo>
                    <a:lnTo>
                      <a:pt x="158" y="99"/>
                    </a:lnTo>
                    <a:lnTo>
                      <a:pt x="205" y="132"/>
                    </a:lnTo>
                    <a:lnTo>
                      <a:pt x="249" y="165"/>
                    </a:lnTo>
                    <a:lnTo>
                      <a:pt x="293" y="199"/>
                    </a:lnTo>
                    <a:lnTo>
                      <a:pt x="335" y="234"/>
                    </a:lnTo>
                    <a:lnTo>
                      <a:pt x="376" y="268"/>
                    </a:lnTo>
                    <a:lnTo>
                      <a:pt x="424" y="313"/>
                    </a:lnTo>
                    <a:lnTo>
                      <a:pt x="448" y="335"/>
                    </a:lnTo>
                    <a:lnTo>
                      <a:pt x="471" y="357"/>
                    </a:lnTo>
                    <a:lnTo>
                      <a:pt x="515" y="402"/>
                    </a:lnTo>
                    <a:lnTo>
                      <a:pt x="537" y="425"/>
                    </a:lnTo>
                    <a:lnTo>
                      <a:pt x="557" y="448"/>
                    </a:lnTo>
                    <a:lnTo>
                      <a:pt x="577" y="471"/>
                    </a:lnTo>
                    <a:lnTo>
                      <a:pt x="597" y="495"/>
                    </a:lnTo>
                    <a:lnTo>
                      <a:pt x="634" y="542"/>
                    </a:lnTo>
                    <a:lnTo>
                      <a:pt x="652" y="565"/>
                    </a:lnTo>
                    <a:lnTo>
                      <a:pt x="669" y="589"/>
                    </a:lnTo>
                    <a:lnTo>
                      <a:pt x="702" y="637"/>
                    </a:lnTo>
                    <a:lnTo>
                      <a:pt x="722" y="668"/>
                    </a:lnTo>
                    <a:lnTo>
                      <a:pt x="744" y="699"/>
                    </a:lnTo>
                    <a:lnTo>
                      <a:pt x="768" y="730"/>
                    </a:lnTo>
                    <a:lnTo>
                      <a:pt x="792" y="761"/>
                    </a:lnTo>
                    <a:lnTo>
                      <a:pt x="817" y="792"/>
                    </a:lnTo>
                    <a:lnTo>
                      <a:pt x="844" y="824"/>
                    </a:lnTo>
                    <a:lnTo>
                      <a:pt x="872" y="854"/>
                    </a:lnTo>
                    <a:lnTo>
                      <a:pt x="901" y="8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624"/>
              <p:cNvSpPr/>
              <p:nvPr/>
            </p:nvSpPr>
            <p:spPr>
              <a:xfrm>
                <a:off x="4014720" y="-2797920"/>
                <a:ext cx="1080" cy="8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636"/>
              <p:cNvSpPr/>
              <p:nvPr/>
            </p:nvSpPr>
            <p:spPr>
              <a:xfrm flipV="1">
                <a:off x="4008600" y="-2788920"/>
                <a:ext cx="7560" cy="30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8" name="Group 644"/>
              <p:cNvGrpSpPr/>
              <p:nvPr/>
            </p:nvGrpSpPr>
            <p:grpSpPr>
              <a:xfrm>
                <a:off x="4008600" y="-2793240"/>
                <a:ext cx="398160" cy="383400"/>
                <a:chOff x="4008600" y="-2793240"/>
                <a:chExt cx="398160" cy="383400"/>
              </a:xfrm>
            </p:grpSpPr>
            <p:sp>
              <p:nvSpPr>
                <p:cNvPr id="739" name="Freeform 642"/>
                <p:cNvSpPr/>
                <p:nvPr/>
              </p:nvSpPr>
              <p:spPr>
                <a:xfrm>
                  <a:off x="4008600" y="-2793240"/>
                  <a:ext cx="398160" cy="383400"/>
                </a:xfrm>
                <a:custGeom>
                  <a:avLst/>
                  <a:gdLst/>
                  <a:ahLst/>
                  <a:rect l="l" t="t" r="r" b="b"/>
                  <a:pathLst>
                    <a:path w="919" h="885">
                      <a:moveTo>
                        <a:pt x="28" y="0"/>
                      </a:moveTo>
                      <a:lnTo>
                        <a:pt x="16" y="9"/>
                      </a:lnTo>
                      <a:lnTo>
                        <a:pt x="0" y="710"/>
                      </a:lnTo>
                      <a:lnTo>
                        <a:pt x="1" y="775"/>
                      </a:lnTo>
                      <a:lnTo>
                        <a:pt x="38" y="772"/>
                      </a:lnTo>
                      <a:lnTo>
                        <a:pt x="41" y="772"/>
                      </a:lnTo>
                      <a:lnTo>
                        <a:pt x="76" y="770"/>
                      </a:lnTo>
                      <a:lnTo>
                        <a:pt x="112" y="769"/>
                      </a:lnTo>
                      <a:lnTo>
                        <a:pt x="148" y="769"/>
                      </a:lnTo>
                      <a:lnTo>
                        <a:pt x="185" y="770"/>
                      </a:lnTo>
                      <a:lnTo>
                        <a:pt x="257" y="771"/>
                      </a:lnTo>
                      <a:lnTo>
                        <a:pt x="329" y="776"/>
                      </a:lnTo>
                      <a:lnTo>
                        <a:pt x="379" y="780"/>
                      </a:lnTo>
                      <a:lnTo>
                        <a:pt x="430" y="785"/>
                      </a:lnTo>
                      <a:lnTo>
                        <a:pt x="532" y="798"/>
                      </a:lnTo>
                      <a:lnTo>
                        <a:pt x="582" y="805"/>
                      </a:lnTo>
                      <a:lnTo>
                        <a:pt x="632" y="814"/>
                      </a:lnTo>
                      <a:lnTo>
                        <a:pt x="682" y="822"/>
                      </a:lnTo>
                      <a:lnTo>
                        <a:pt x="733" y="833"/>
                      </a:lnTo>
                      <a:lnTo>
                        <a:pt x="762" y="838"/>
                      </a:lnTo>
                      <a:lnTo>
                        <a:pt x="774" y="841"/>
                      </a:lnTo>
                      <a:lnTo>
                        <a:pt x="781" y="842"/>
                      </a:lnTo>
                      <a:lnTo>
                        <a:pt x="789" y="844"/>
                      </a:lnTo>
                      <a:lnTo>
                        <a:pt x="805" y="849"/>
                      </a:lnTo>
                      <a:lnTo>
                        <a:pt x="814" y="852"/>
                      </a:lnTo>
                      <a:lnTo>
                        <a:pt x="824" y="855"/>
                      </a:lnTo>
                      <a:lnTo>
                        <a:pt x="845" y="861"/>
                      </a:lnTo>
                      <a:lnTo>
                        <a:pt x="855" y="864"/>
                      </a:lnTo>
                      <a:lnTo>
                        <a:pt x="867" y="868"/>
                      </a:lnTo>
                      <a:lnTo>
                        <a:pt x="892" y="876"/>
                      </a:lnTo>
                      <a:lnTo>
                        <a:pt x="905" y="881"/>
                      </a:lnTo>
                      <a:lnTo>
                        <a:pt x="919" y="885"/>
                      </a:lnTo>
                      <a:lnTo>
                        <a:pt x="890" y="854"/>
                      </a:lnTo>
                      <a:lnTo>
                        <a:pt x="862" y="824"/>
                      </a:lnTo>
                      <a:lnTo>
                        <a:pt x="836" y="792"/>
                      </a:lnTo>
                      <a:lnTo>
                        <a:pt x="810" y="761"/>
                      </a:lnTo>
                      <a:lnTo>
                        <a:pt x="786" y="730"/>
                      </a:lnTo>
                      <a:lnTo>
                        <a:pt x="762" y="699"/>
                      </a:lnTo>
                      <a:lnTo>
                        <a:pt x="740" y="668"/>
                      </a:lnTo>
                      <a:lnTo>
                        <a:pt x="720" y="637"/>
                      </a:lnTo>
                      <a:lnTo>
                        <a:pt x="687" y="589"/>
                      </a:lnTo>
                      <a:lnTo>
                        <a:pt x="670" y="565"/>
                      </a:lnTo>
                      <a:lnTo>
                        <a:pt x="652" y="542"/>
                      </a:lnTo>
                      <a:lnTo>
                        <a:pt x="614" y="495"/>
                      </a:lnTo>
                      <a:lnTo>
                        <a:pt x="595" y="471"/>
                      </a:lnTo>
                      <a:lnTo>
                        <a:pt x="575" y="449"/>
                      </a:lnTo>
                      <a:lnTo>
                        <a:pt x="554" y="426"/>
                      </a:lnTo>
                      <a:lnTo>
                        <a:pt x="533" y="402"/>
                      </a:lnTo>
                      <a:lnTo>
                        <a:pt x="488" y="357"/>
                      </a:lnTo>
                      <a:lnTo>
                        <a:pt x="465" y="335"/>
                      </a:lnTo>
                      <a:lnTo>
                        <a:pt x="442" y="313"/>
                      </a:lnTo>
                      <a:lnTo>
                        <a:pt x="393" y="269"/>
                      </a:lnTo>
                      <a:lnTo>
                        <a:pt x="352" y="234"/>
                      </a:lnTo>
                      <a:lnTo>
                        <a:pt x="310" y="199"/>
                      </a:lnTo>
                      <a:lnTo>
                        <a:pt x="266" y="166"/>
                      </a:lnTo>
                      <a:lnTo>
                        <a:pt x="222" y="132"/>
                      </a:lnTo>
                      <a:lnTo>
                        <a:pt x="175" y="99"/>
                      </a:lnTo>
                      <a:lnTo>
                        <a:pt x="128" y="66"/>
                      </a:lnTo>
                      <a:lnTo>
                        <a:pt x="79" y="33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643"/>
                <p:cNvSpPr/>
                <p:nvPr/>
              </p:nvSpPr>
              <p:spPr>
                <a:xfrm>
                  <a:off x="4008600" y="-2793240"/>
                  <a:ext cx="398160" cy="383400"/>
                </a:xfrm>
                <a:custGeom>
                  <a:avLst/>
                  <a:gdLst/>
                  <a:ahLst/>
                  <a:rect l="l" t="t" r="r" b="b"/>
                  <a:pathLst>
                    <a:path w="919" h="885">
                      <a:moveTo>
                        <a:pt x="28" y="0"/>
                      </a:moveTo>
                      <a:lnTo>
                        <a:pt x="16" y="9"/>
                      </a:lnTo>
                      <a:lnTo>
                        <a:pt x="0" y="710"/>
                      </a:lnTo>
                      <a:lnTo>
                        <a:pt x="1" y="775"/>
                      </a:lnTo>
                      <a:lnTo>
                        <a:pt x="38" y="772"/>
                      </a:lnTo>
                      <a:lnTo>
                        <a:pt x="41" y="772"/>
                      </a:lnTo>
                      <a:lnTo>
                        <a:pt x="76" y="770"/>
                      </a:lnTo>
                      <a:lnTo>
                        <a:pt x="112" y="769"/>
                      </a:lnTo>
                      <a:lnTo>
                        <a:pt x="148" y="769"/>
                      </a:lnTo>
                      <a:lnTo>
                        <a:pt x="185" y="770"/>
                      </a:lnTo>
                      <a:lnTo>
                        <a:pt x="257" y="771"/>
                      </a:lnTo>
                      <a:lnTo>
                        <a:pt x="329" y="776"/>
                      </a:lnTo>
                      <a:lnTo>
                        <a:pt x="379" y="780"/>
                      </a:lnTo>
                      <a:lnTo>
                        <a:pt x="430" y="785"/>
                      </a:lnTo>
                      <a:lnTo>
                        <a:pt x="532" y="798"/>
                      </a:lnTo>
                      <a:lnTo>
                        <a:pt x="582" y="805"/>
                      </a:lnTo>
                      <a:lnTo>
                        <a:pt x="632" y="814"/>
                      </a:lnTo>
                      <a:lnTo>
                        <a:pt x="682" y="822"/>
                      </a:lnTo>
                      <a:lnTo>
                        <a:pt x="733" y="833"/>
                      </a:lnTo>
                      <a:lnTo>
                        <a:pt x="762" y="838"/>
                      </a:lnTo>
                      <a:lnTo>
                        <a:pt x="774" y="841"/>
                      </a:lnTo>
                      <a:lnTo>
                        <a:pt x="781" y="842"/>
                      </a:lnTo>
                      <a:lnTo>
                        <a:pt x="789" y="844"/>
                      </a:lnTo>
                      <a:lnTo>
                        <a:pt x="805" y="849"/>
                      </a:lnTo>
                      <a:lnTo>
                        <a:pt x="814" y="852"/>
                      </a:lnTo>
                      <a:lnTo>
                        <a:pt x="824" y="855"/>
                      </a:lnTo>
                      <a:lnTo>
                        <a:pt x="845" y="861"/>
                      </a:lnTo>
                      <a:lnTo>
                        <a:pt x="855" y="864"/>
                      </a:lnTo>
                      <a:lnTo>
                        <a:pt x="867" y="868"/>
                      </a:lnTo>
                      <a:lnTo>
                        <a:pt x="892" y="876"/>
                      </a:lnTo>
                      <a:lnTo>
                        <a:pt x="905" y="881"/>
                      </a:lnTo>
                      <a:lnTo>
                        <a:pt x="919" y="885"/>
                      </a:lnTo>
                      <a:lnTo>
                        <a:pt x="890" y="854"/>
                      </a:lnTo>
                      <a:lnTo>
                        <a:pt x="862" y="824"/>
                      </a:lnTo>
                      <a:lnTo>
                        <a:pt x="836" y="792"/>
                      </a:lnTo>
                      <a:lnTo>
                        <a:pt x="810" y="761"/>
                      </a:lnTo>
                      <a:lnTo>
                        <a:pt x="786" y="730"/>
                      </a:lnTo>
                      <a:lnTo>
                        <a:pt x="762" y="699"/>
                      </a:lnTo>
                      <a:lnTo>
                        <a:pt x="740" y="668"/>
                      </a:lnTo>
                      <a:lnTo>
                        <a:pt x="720" y="637"/>
                      </a:lnTo>
                      <a:lnTo>
                        <a:pt x="687" y="589"/>
                      </a:lnTo>
                      <a:lnTo>
                        <a:pt x="670" y="565"/>
                      </a:lnTo>
                      <a:lnTo>
                        <a:pt x="652" y="542"/>
                      </a:lnTo>
                      <a:lnTo>
                        <a:pt x="614" y="495"/>
                      </a:lnTo>
                      <a:lnTo>
                        <a:pt x="595" y="471"/>
                      </a:lnTo>
                      <a:lnTo>
                        <a:pt x="575" y="449"/>
                      </a:lnTo>
                      <a:lnTo>
                        <a:pt x="554" y="426"/>
                      </a:lnTo>
                      <a:lnTo>
                        <a:pt x="533" y="402"/>
                      </a:lnTo>
                      <a:lnTo>
                        <a:pt x="488" y="357"/>
                      </a:lnTo>
                      <a:lnTo>
                        <a:pt x="465" y="335"/>
                      </a:lnTo>
                      <a:lnTo>
                        <a:pt x="442" y="313"/>
                      </a:lnTo>
                      <a:lnTo>
                        <a:pt x="393" y="269"/>
                      </a:lnTo>
                      <a:lnTo>
                        <a:pt x="352" y="234"/>
                      </a:lnTo>
                      <a:lnTo>
                        <a:pt x="310" y="199"/>
                      </a:lnTo>
                      <a:lnTo>
                        <a:pt x="266" y="166"/>
                      </a:lnTo>
                      <a:lnTo>
                        <a:pt x="222" y="132"/>
                      </a:lnTo>
                      <a:lnTo>
                        <a:pt x="175" y="99"/>
                      </a:lnTo>
                      <a:lnTo>
                        <a:pt x="128" y="66"/>
                      </a:lnTo>
                      <a:lnTo>
                        <a:pt x="79" y="33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noFill/>
                <a:ln cap="rnd" w="205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1" name="Freeform 667"/>
              <p:cNvSpPr/>
              <p:nvPr/>
            </p:nvSpPr>
            <p:spPr>
              <a:xfrm>
                <a:off x="4016160" y="-2793240"/>
                <a:ext cx="390240" cy="383400"/>
              </a:xfrm>
              <a:custGeom>
                <a:avLst/>
                <a:gdLst/>
                <a:ahLst/>
                <a:rect l="l" t="t" r="r" b="b"/>
                <a:pathLst>
                  <a:path w="901" h="885">
                    <a:moveTo>
                      <a:pt x="0" y="9"/>
                    </a:moveTo>
                    <a:lnTo>
                      <a:pt x="12" y="0"/>
                    </a:lnTo>
                    <a:lnTo>
                      <a:pt x="62" y="32"/>
                    </a:lnTo>
                    <a:lnTo>
                      <a:pt x="111" y="65"/>
                    </a:lnTo>
                    <a:lnTo>
                      <a:pt x="158" y="99"/>
                    </a:lnTo>
                    <a:lnTo>
                      <a:pt x="205" y="132"/>
                    </a:lnTo>
                    <a:lnTo>
                      <a:pt x="249" y="165"/>
                    </a:lnTo>
                    <a:lnTo>
                      <a:pt x="293" y="199"/>
                    </a:lnTo>
                    <a:lnTo>
                      <a:pt x="335" y="234"/>
                    </a:lnTo>
                    <a:lnTo>
                      <a:pt x="376" y="268"/>
                    </a:lnTo>
                    <a:lnTo>
                      <a:pt x="424" y="313"/>
                    </a:lnTo>
                    <a:lnTo>
                      <a:pt x="448" y="335"/>
                    </a:lnTo>
                    <a:lnTo>
                      <a:pt x="471" y="357"/>
                    </a:lnTo>
                    <a:lnTo>
                      <a:pt x="515" y="402"/>
                    </a:lnTo>
                    <a:lnTo>
                      <a:pt x="537" y="425"/>
                    </a:lnTo>
                    <a:lnTo>
                      <a:pt x="557" y="448"/>
                    </a:lnTo>
                    <a:lnTo>
                      <a:pt x="577" y="471"/>
                    </a:lnTo>
                    <a:lnTo>
                      <a:pt x="597" y="495"/>
                    </a:lnTo>
                    <a:lnTo>
                      <a:pt x="634" y="542"/>
                    </a:lnTo>
                    <a:lnTo>
                      <a:pt x="652" y="565"/>
                    </a:lnTo>
                    <a:lnTo>
                      <a:pt x="669" y="589"/>
                    </a:lnTo>
                    <a:lnTo>
                      <a:pt x="702" y="637"/>
                    </a:lnTo>
                    <a:lnTo>
                      <a:pt x="722" y="668"/>
                    </a:lnTo>
                    <a:lnTo>
                      <a:pt x="744" y="699"/>
                    </a:lnTo>
                    <a:lnTo>
                      <a:pt x="768" y="730"/>
                    </a:lnTo>
                    <a:lnTo>
                      <a:pt x="792" y="761"/>
                    </a:lnTo>
                    <a:lnTo>
                      <a:pt x="817" y="792"/>
                    </a:lnTo>
                    <a:lnTo>
                      <a:pt x="844" y="824"/>
                    </a:lnTo>
                    <a:lnTo>
                      <a:pt x="872" y="854"/>
                    </a:lnTo>
                    <a:lnTo>
                      <a:pt x="901" y="8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668"/>
              <p:cNvSpPr/>
              <p:nvPr/>
            </p:nvSpPr>
            <p:spPr>
              <a:xfrm>
                <a:off x="4014720" y="-2797920"/>
                <a:ext cx="1080" cy="8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680"/>
              <p:cNvSpPr/>
              <p:nvPr/>
            </p:nvSpPr>
            <p:spPr>
              <a:xfrm flipV="1">
                <a:off x="4008600" y="-2788920"/>
                <a:ext cx="7560" cy="3034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605"/>
              <p:cNvSpPr/>
              <p:nvPr/>
            </p:nvSpPr>
            <p:spPr>
              <a:xfrm>
                <a:off x="4008240" y="-2485440"/>
                <a:ext cx="720" cy="27720"/>
              </a:xfrm>
              <a:custGeom>
                <a:avLst/>
                <a:gdLst/>
                <a:ahLst/>
                <a:rect l="l" t="t" r="r" b="b"/>
                <a:pathLst>
                  <a:path w="2" h="64">
                    <a:moveTo>
                      <a:pt x="0" y="64"/>
                    </a:moveTo>
                    <a:lnTo>
                      <a:pt x="2" y="64"/>
                    </a:lnTo>
                    <a:lnTo>
                      <a:pt x="2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625"/>
              <p:cNvSpPr/>
              <p:nvPr/>
            </p:nvSpPr>
            <p:spPr>
              <a:xfrm>
                <a:off x="4325400" y="-2431800"/>
                <a:ext cx="81000" cy="22320"/>
              </a:xfrm>
              <a:custGeom>
                <a:avLst/>
                <a:gdLst/>
                <a:ahLst/>
                <a:rect l="l" t="t" r="r" b="b"/>
                <a:pathLst>
                  <a:path w="187" h="52">
                    <a:moveTo>
                      <a:pt x="187" y="52"/>
                    </a:moveTo>
                    <a:lnTo>
                      <a:pt x="173" y="48"/>
                    </a:lnTo>
                    <a:lnTo>
                      <a:pt x="160" y="43"/>
                    </a:lnTo>
                    <a:lnTo>
                      <a:pt x="135" y="35"/>
                    </a:lnTo>
                    <a:lnTo>
                      <a:pt x="123" y="31"/>
                    </a:lnTo>
                    <a:lnTo>
                      <a:pt x="112" y="28"/>
                    </a:lnTo>
                    <a:lnTo>
                      <a:pt x="92" y="22"/>
                    </a:lnTo>
                    <a:lnTo>
                      <a:pt x="82" y="19"/>
                    </a:lnTo>
                    <a:lnTo>
                      <a:pt x="73" y="16"/>
                    </a:lnTo>
                    <a:lnTo>
                      <a:pt x="56" y="11"/>
                    </a:lnTo>
                    <a:lnTo>
                      <a:pt x="48" y="9"/>
                    </a:lnTo>
                    <a:lnTo>
                      <a:pt x="42" y="8"/>
                    </a:lnTo>
                    <a:lnTo>
                      <a:pt x="29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626"/>
              <p:cNvSpPr/>
              <p:nvPr/>
            </p:nvSpPr>
            <p:spPr>
              <a:xfrm flipH="1">
                <a:off x="4008240" y="-2485440"/>
                <a:ext cx="720" cy="28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27"/>
              <p:cNvSpPr/>
              <p:nvPr/>
            </p:nvSpPr>
            <p:spPr>
              <a:xfrm flipV="1">
                <a:off x="4008960" y="-2485440"/>
                <a:ext cx="360" cy="28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649"/>
              <p:cNvSpPr/>
              <p:nvPr/>
            </p:nvSpPr>
            <p:spPr>
              <a:xfrm>
                <a:off x="4008240" y="-2485440"/>
                <a:ext cx="720" cy="27720"/>
              </a:xfrm>
              <a:custGeom>
                <a:avLst/>
                <a:gdLst/>
                <a:ahLst/>
                <a:rect l="l" t="t" r="r" b="b"/>
                <a:pathLst>
                  <a:path w="2" h="64">
                    <a:moveTo>
                      <a:pt x="0" y="64"/>
                    </a:moveTo>
                    <a:lnTo>
                      <a:pt x="2" y="64"/>
                    </a:lnTo>
                    <a:lnTo>
                      <a:pt x="2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669"/>
              <p:cNvSpPr/>
              <p:nvPr/>
            </p:nvSpPr>
            <p:spPr>
              <a:xfrm>
                <a:off x="4325400" y="-2431800"/>
                <a:ext cx="81000" cy="22320"/>
              </a:xfrm>
              <a:custGeom>
                <a:avLst/>
                <a:gdLst/>
                <a:ahLst/>
                <a:rect l="l" t="t" r="r" b="b"/>
                <a:pathLst>
                  <a:path w="187" h="52">
                    <a:moveTo>
                      <a:pt x="187" y="52"/>
                    </a:moveTo>
                    <a:lnTo>
                      <a:pt x="173" y="48"/>
                    </a:lnTo>
                    <a:lnTo>
                      <a:pt x="160" y="43"/>
                    </a:lnTo>
                    <a:lnTo>
                      <a:pt x="135" y="35"/>
                    </a:lnTo>
                    <a:lnTo>
                      <a:pt x="123" y="31"/>
                    </a:lnTo>
                    <a:lnTo>
                      <a:pt x="112" y="28"/>
                    </a:lnTo>
                    <a:lnTo>
                      <a:pt x="92" y="22"/>
                    </a:lnTo>
                    <a:lnTo>
                      <a:pt x="82" y="19"/>
                    </a:lnTo>
                    <a:lnTo>
                      <a:pt x="73" y="16"/>
                    </a:lnTo>
                    <a:lnTo>
                      <a:pt x="56" y="11"/>
                    </a:lnTo>
                    <a:lnTo>
                      <a:pt x="48" y="9"/>
                    </a:lnTo>
                    <a:lnTo>
                      <a:pt x="42" y="8"/>
                    </a:lnTo>
                    <a:lnTo>
                      <a:pt x="29" y="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70"/>
              <p:cNvSpPr/>
              <p:nvPr/>
            </p:nvSpPr>
            <p:spPr>
              <a:xfrm flipH="1">
                <a:off x="4008240" y="-2485440"/>
                <a:ext cx="720" cy="28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71"/>
              <p:cNvSpPr/>
              <p:nvPr/>
            </p:nvSpPr>
            <p:spPr>
              <a:xfrm flipV="1">
                <a:off x="4008960" y="-2485440"/>
                <a:ext cx="360" cy="28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>
                <a:off x="4325760" y="-2432160"/>
                <a:ext cx="49320" cy="866880"/>
              </a:xfrm>
              <a:custGeom>
                <a:avLst/>
                <a:gdLst/>
                <a:ahLst/>
                <a:rect l="l" t="t" r="r" b="b"/>
                <a:pathLst>
                  <a:path w="114" h="2000">
                    <a:moveTo>
                      <a:pt x="0" y="0"/>
                    </a:moveTo>
                    <a:lnTo>
                      <a:pt x="23" y="100"/>
                    </a:lnTo>
                    <a:lnTo>
                      <a:pt x="35" y="166"/>
                    </a:lnTo>
                    <a:lnTo>
                      <a:pt x="41" y="199"/>
                    </a:lnTo>
                    <a:lnTo>
                      <a:pt x="46" y="232"/>
                    </a:lnTo>
                    <a:lnTo>
                      <a:pt x="54" y="298"/>
                    </a:lnTo>
                    <a:lnTo>
                      <a:pt x="58" y="331"/>
                    </a:lnTo>
                    <a:lnTo>
                      <a:pt x="62" y="364"/>
                    </a:lnTo>
                    <a:lnTo>
                      <a:pt x="73" y="492"/>
                    </a:lnTo>
                    <a:lnTo>
                      <a:pt x="88" y="665"/>
                    </a:lnTo>
                    <a:lnTo>
                      <a:pt x="90" y="700"/>
                    </a:lnTo>
                    <a:lnTo>
                      <a:pt x="93" y="735"/>
                    </a:lnTo>
                    <a:lnTo>
                      <a:pt x="98" y="806"/>
                    </a:lnTo>
                    <a:lnTo>
                      <a:pt x="107" y="948"/>
                    </a:lnTo>
                    <a:lnTo>
                      <a:pt x="114" y="1257"/>
                    </a:lnTo>
                    <a:lnTo>
                      <a:pt x="96" y="1879"/>
                    </a:lnTo>
                    <a:lnTo>
                      <a:pt x="96" y="1965"/>
                    </a:lnTo>
                    <a:lnTo>
                      <a:pt x="95" y="1974"/>
                    </a:lnTo>
                    <a:lnTo>
                      <a:pt x="94" y="1983"/>
                    </a:lnTo>
                    <a:lnTo>
                      <a:pt x="94" y="1987"/>
                    </a:lnTo>
                    <a:lnTo>
                      <a:pt x="93" y="1991"/>
                    </a:lnTo>
                    <a:lnTo>
                      <a:pt x="92" y="2000"/>
                    </a:lnTo>
                  </a:path>
                </a:pathLst>
              </a:custGeom>
              <a:noFill/>
              <a:ln cap="rnd"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3" name="Picture 458" descr="hd"/>
          <p:cNvPicPr/>
          <p:nvPr/>
        </p:nvPicPr>
        <p:blipFill>
          <a:blip r:embed="rId3"/>
          <a:stretch/>
        </p:blipFill>
        <p:spPr>
          <a:xfrm>
            <a:off x="1219320" y="9482040"/>
            <a:ext cx="890640" cy="47160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</p:pic>
      <p:pic>
        <p:nvPicPr>
          <p:cNvPr id="754" name="Picture 460" descr="hd"/>
          <p:cNvPicPr/>
          <p:nvPr/>
        </p:nvPicPr>
        <p:blipFill>
          <a:blip r:embed="rId4"/>
          <a:stretch/>
        </p:blipFill>
        <p:spPr>
          <a:xfrm>
            <a:off x="2936880" y="10721880"/>
            <a:ext cx="890640" cy="471600"/>
          </a:xfrm>
          <a:prstGeom prst="rect">
            <a:avLst/>
          </a:prstGeom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 repeatCount="1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60" dur="1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9" presetSubtype="5" repeatCount="8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268" dur="5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70" dur="1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9" presetSubtype="5" repeatCount="8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278" dur="5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9" presetSubtype="5" repeatCount="80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9" presetSubtype="5" repeatCount="80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9" presetSubtype="5" repeatCount="80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9" presetSubtype="5" repeatCount="80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6" dur="5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8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2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3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3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3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9" presetSubtype="10" repeatCount="200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50" dur="500" fill="hold"/>
                                        <p:tgtEl>
                                          <p:spTgt spid="5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9" presetSubtype="10" repeatCount="2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56" nodeType="withEffect" fill="hold" presetClass="exit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9" presetSubtype="5" repeatCount="400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 repeatCount="1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9" presetSubtype="5" repeatCount="550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autoRev="1" nodeType="withEffect" fill="hold" presetClass="emph" presetID="6" repeatCount="2000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89" dur="2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0" repeatCount="100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-0.0001 0.51321 L -0.0001 0.18957 E">
                                      <p:cBhvr>
                                        <p:cTn id="391" dur="2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00011 0.18957 L -0.00064 -0.17283 E">
                                      <p:cBhvr>
                                        <p:cTn id="393" dur="2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2"/>
                                      </p:cond>
                                    </p:stCondLst>
                                  </p:cTn>
                                  <p:tgtEl>
                                    <p:spTgt spid="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9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05857E-006 1.29944E-006 L -2.05857E-006 -0.25618 E">
                                      <p:cBhvr>
                                        <p:cTn id="396" dur="2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4.7373E-006 -0.25618 L 0.00151 -0.59269 E">
                                      <p:cBhvr>
                                        <p:cTn id="398" dur="2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00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03" dur="1000" fill="hold"/>
                                        <p:tgtEl>
                                          <p:spTgt spid="6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10" dur="10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17" dur="1500" fill="hold"/>
                                        <p:tgtEl>
                                          <p:spTgt spid="6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1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24" dur="1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31" dur="1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38" dur="1500" fill="hold"/>
                                        <p:tgtEl>
                                          <p:spTgt spid="64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1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445" dur="10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0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2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4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58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60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-0.00053 0.99894 E">
                                      <p:cBhvr>
                                        <p:cTn id="462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68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0" dur="3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2" dur="3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4" dur="3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6" dur="3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78" dur="3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0" dur="3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2" dur="3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4" dur="3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6" dur="3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0.65678 E">
                                      <p:cBhvr>
                                        <p:cTn id="488" dur="3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6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6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autoRev="1" nodeType="withEffect" fill="hold" presetClass="emph" presetID="6" repeatCount="indefinite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94" dur="10" fill="hold"/>
                                        <p:tgtEl>
                                          <p:spTgt spid="753"/>
                                        </p:tgtEl>
                                      </p:cBhvr>
                                      <p:to x="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6.20155E-007 3.05085E-006 L 0.00797 -1.17938 E">
                                      <p:cBhvr>
                                        <p:cTn id="496" dur="25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autoRev="1" nodeType="withEffect" fill="hold" presetClass="emph" presetID="6" repeatCount="indefinite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98" dur="10" fill="hold"/>
                                        <p:tgtEl>
                                          <p:spTgt spid="754"/>
                                        </p:tgtEl>
                                      </p:cBhvr>
                                      <p:to x="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23084E-006 -2.20339E-006 L 0.00797 -1.38789 E">
                                      <p:cBhvr>
                                        <p:cTn id="500" dur="25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9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9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9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9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9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9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4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2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08"/>
          <p:cNvGrpSpPr/>
          <p:nvPr/>
        </p:nvGrpSpPr>
        <p:grpSpPr>
          <a:xfrm>
            <a:off x="-360" y="0"/>
            <a:ext cx="14943600" cy="9153000"/>
            <a:chOff x="-360" y="0"/>
            <a:chExt cx="14943600" cy="9153000"/>
          </a:xfrm>
        </p:grpSpPr>
        <p:sp>
          <p:nvSpPr>
            <p:cNvPr id="756" name="Rectangle 2"/>
            <p:cNvSpPr/>
            <p:nvPr/>
          </p:nvSpPr>
          <p:spPr>
            <a:xfrm rot="10800000">
              <a:off x="-360" y="3461400"/>
              <a:ext cx="14943240" cy="5691240"/>
            </a:xfrm>
            <a:prstGeom prst="rect">
              <a:avLst/>
            </a:prstGeom>
            <a:gradFill rotWithShape="0">
              <a:gsLst>
                <a:gs pos="0">
                  <a:srgbClr val="00aad2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3"/>
            <p:cNvSpPr/>
            <p:nvPr/>
          </p:nvSpPr>
          <p:spPr>
            <a:xfrm>
              <a:off x="0" y="0"/>
              <a:ext cx="14943240" cy="44733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3631"/>
          <p:cNvSpPr/>
          <p:nvPr/>
        </p:nvSpPr>
        <p:spPr>
          <a:xfrm rot="10800000">
            <a:off x="-36720" y="5363280"/>
            <a:ext cx="14977800" cy="3816360"/>
          </a:xfrm>
          <a:prstGeom prst="rect">
            <a:avLst/>
          </a:prstGeom>
          <a:gradFill rotWithShape="0">
            <a:gsLst>
              <a:gs pos="0">
                <a:srgbClr val="00aad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211"/>
          <p:cNvGrpSpPr/>
          <p:nvPr/>
        </p:nvGrpSpPr>
        <p:grpSpPr>
          <a:xfrm>
            <a:off x="3600360" y="3024360"/>
            <a:ext cx="9577440" cy="2196720"/>
            <a:chOff x="3600360" y="3024360"/>
            <a:chExt cx="9577440" cy="2196720"/>
          </a:xfrm>
        </p:grpSpPr>
        <p:sp>
          <p:nvSpPr>
            <p:cNvPr id="760" name="Freeform 206"/>
            <p:cNvSpPr/>
            <p:nvPr/>
          </p:nvSpPr>
          <p:spPr>
            <a:xfrm flipV="1">
              <a:off x="3619440" y="3923280"/>
              <a:ext cx="9558360" cy="1297080"/>
            </a:xfrm>
            <a:custGeom>
              <a:avLst/>
              <a:gdLst/>
              <a:ahLst/>
              <a:rect l="l" t="t" r="r" b="b"/>
              <a:pathLst>
                <a:path w="6021" h="817">
                  <a:moveTo>
                    <a:pt x="0" y="743"/>
                  </a:moveTo>
                  <a:lnTo>
                    <a:pt x="120" y="631"/>
                  </a:lnTo>
                  <a:lnTo>
                    <a:pt x="2608" y="559"/>
                  </a:lnTo>
                  <a:lnTo>
                    <a:pt x="3932" y="455"/>
                  </a:lnTo>
                  <a:lnTo>
                    <a:pt x="5008" y="0"/>
                  </a:lnTo>
                  <a:cubicBezTo>
                    <a:pt x="5342" y="47"/>
                    <a:pt x="6021" y="703"/>
                    <a:pt x="6016" y="703"/>
                  </a:cubicBezTo>
                  <a:cubicBezTo>
                    <a:pt x="5613" y="817"/>
                    <a:pt x="3162" y="733"/>
                    <a:pt x="2608" y="703"/>
                  </a:cubicBezTo>
                  <a:lnTo>
                    <a:pt x="0" y="743"/>
                  </a:lnTo>
                  <a:close/>
                </a:path>
              </a:pathLst>
            </a:custGeom>
            <a:solidFill>
              <a:srgbClr val="b7e5eb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"/>
            <p:cNvSpPr/>
            <p:nvPr/>
          </p:nvSpPr>
          <p:spPr>
            <a:xfrm>
              <a:off x="3600360" y="3024360"/>
              <a:ext cx="9558360" cy="1296720"/>
            </a:xfrm>
            <a:custGeom>
              <a:avLst/>
              <a:gdLst/>
              <a:ahLst/>
              <a:rect l="l" t="t" r="r" b="b"/>
              <a:pathLst>
                <a:path w="6021" h="817">
                  <a:moveTo>
                    <a:pt x="0" y="743"/>
                  </a:moveTo>
                  <a:lnTo>
                    <a:pt x="120" y="631"/>
                  </a:lnTo>
                  <a:lnTo>
                    <a:pt x="2608" y="559"/>
                  </a:lnTo>
                  <a:lnTo>
                    <a:pt x="3932" y="455"/>
                  </a:lnTo>
                  <a:lnTo>
                    <a:pt x="5008" y="0"/>
                  </a:lnTo>
                  <a:cubicBezTo>
                    <a:pt x="5342" y="47"/>
                    <a:pt x="6021" y="703"/>
                    <a:pt x="6016" y="703"/>
                  </a:cubicBezTo>
                  <a:cubicBezTo>
                    <a:pt x="5613" y="817"/>
                    <a:pt x="3162" y="733"/>
                    <a:pt x="2608" y="703"/>
                  </a:cubicBezTo>
                  <a:lnTo>
                    <a:pt x="0" y="743"/>
                  </a:lnTo>
                  <a:close/>
                </a:path>
              </a:pathLst>
            </a:custGeom>
            <a:solidFill>
              <a:srgbClr val="c1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239"/>
          <p:cNvSpPr/>
          <p:nvPr/>
        </p:nvSpPr>
        <p:spPr>
          <a:xfrm flipV="1">
            <a:off x="0" y="3597840"/>
            <a:ext cx="14094000" cy="12286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50000">
                <a:srgbClr val="e1ffff">
                  <a:alpha val="56078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235"/>
          <p:cNvGrpSpPr/>
          <p:nvPr/>
        </p:nvGrpSpPr>
        <p:grpSpPr>
          <a:xfrm>
            <a:off x="404640" y="2197080"/>
            <a:ext cx="6113520" cy="4102200"/>
            <a:chOff x="404640" y="2197080"/>
            <a:chExt cx="6113520" cy="4102200"/>
          </a:xfrm>
        </p:grpSpPr>
        <p:sp>
          <p:nvSpPr>
            <p:cNvPr id="764" name="Freeform 207"/>
            <p:cNvSpPr/>
            <p:nvPr/>
          </p:nvSpPr>
          <p:spPr>
            <a:xfrm>
              <a:off x="404640" y="4240080"/>
              <a:ext cx="6085080" cy="2059200"/>
            </a:xfrm>
            <a:custGeom>
              <a:avLst/>
              <a:gdLst/>
              <a:ahLst/>
              <a:rect l="l" t="t" r="r" b="b"/>
              <a:pathLst>
                <a:path w="3833" h="1297">
                  <a:moveTo>
                    <a:pt x="0" y="18"/>
                  </a:moveTo>
                  <a:cubicBezTo>
                    <a:pt x="79" y="18"/>
                    <a:pt x="34" y="42"/>
                    <a:pt x="151" y="104"/>
                  </a:cubicBezTo>
                  <a:lnTo>
                    <a:pt x="707" y="386"/>
                  </a:lnTo>
                  <a:lnTo>
                    <a:pt x="1091" y="1057"/>
                  </a:lnTo>
                  <a:lnTo>
                    <a:pt x="1219" y="1297"/>
                  </a:lnTo>
                  <a:lnTo>
                    <a:pt x="1427" y="1049"/>
                  </a:lnTo>
                  <a:cubicBezTo>
                    <a:pt x="1490" y="980"/>
                    <a:pt x="1524" y="950"/>
                    <a:pt x="1595" y="881"/>
                  </a:cubicBezTo>
                  <a:lnTo>
                    <a:pt x="1851" y="635"/>
                  </a:lnTo>
                  <a:lnTo>
                    <a:pt x="3108" y="160"/>
                  </a:lnTo>
                  <a:lnTo>
                    <a:pt x="3833" y="13"/>
                  </a:lnTo>
                  <a:lnTo>
                    <a:pt x="3092" y="0"/>
                  </a:lnTo>
                  <a:cubicBezTo>
                    <a:pt x="2453" y="1"/>
                    <a:pt x="490" y="1"/>
                    <a:pt x="0" y="18"/>
                  </a:cubicBezTo>
                  <a:close/>
                </a:path>
              </a:pathLst>
            </a:custGeom>
            <a:solidFill>
              <a:srgbClr val="9fc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04"/>
            <p:cNvSpPr/>
            <p:nvPr/>
          </p:nvSpPr>
          <p:spPr>
            <a:xfrm>
              <a:off x="404640" y="2197080"/>
              <a:ext cx="6113520" cy="2070000"/>
            </a:xfrm>
            <a:custGeom>
              <a:avLst/>
              <a:gdLst/>
              <a:ahLst/>
              <a:rect l="l" t="t" r="r" b="b"/>
              <a:pathLst>
                <a:path w="3851" h="1304">
                  <a:moveTo>
                    <a:pt x="0" y="1279"/>
                  </a:moveTo>
                  <a:cubicBezTo>
                    <a:pt x="79" y="1279"/>
                    <a:pt x="34" y="1255"/>
                    <a:pt x="151" y="1193"/>
                  </a:cubicBezTo>
                  <a:lnTo>
                    <a:pt x="707" y="911"/>
                  </a:lnTo>
                  <a:lnTo>
                    <a:pt x="1091" y="240"/>
                  </a:lnTo>
                  <a:lnTo>
                    <a:pt x="1219" y="0"/>
                  </a:lnTo>
                  <a:lnTo>
                    <a:pt x="1427" y="248"/>
                  </a:lnTo>
                  <a:cubicBezTo>
                    <a:pt x="1490" y="317"/>
                    <a:pt x="1524" y="347"/>
                    <a:pt x="1595" y="416"/>
                  </a:cubicBezTo>
                  <a:lnTo>
                    <a:pt x="1851" y="662"/>
                  </a:lnTo>
                  <a:lnTo>
                    <a:pt x="3108" y="1137"/>
                  </a:lnTo>
                  <a:lnTo>
                    <a:pt x="3851" y="1304"/>
                  </a:lnTo>
                  <a:lnTo>
                    <a:pt x="3092" y="1297"/>
                  </a:lnTo>
                  <a:cubicBezTo>
                    <a:pt x="2450" y="1293"/>
                    <a:pt x="490" y="1296"/>
                    <a:pt x="0" y="1279"/>
                  </a:cubicBezTo>
                  <a:close/>
                </a:path>
              </a:pathLst>
            </a:custGeom>
            <a:solidFill>
              <a:srgbClr val="9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21"/>
          <p:cNvGrpSpPr/>
          <p:nvPr/>
        </p:nvGrpSpPr>
        <p:grpSpPr>
          <a:xfrm>
            <a:off x="9685440" y="2413080"/>
            <a:ext cx="7108200" cy="3813120"/>
            <a:chOff x="9685440" y="2413080"/>
            <a:chExt cx="7108200" cy="3813120"/>
          </a:xfrm>
        </p:grpSpPr>
        <p:sp>
          <p:nvSpPr>
            <p:cNvPr id="767" name="Freeform 219"/>
            <p:cNvSpPr/>
            <p:nvPr/>
          </p:nvSpPr>
          <p:spPr>
            <a:xfrm>
              <a:off x="9685440" y="2413080"/>
              <a:ext cx="7035480" cy="2012760"/>
            </a:xfrm>
            <a:custGeom>
              <a:avLst/>
              <a:gdLst/>
              <a:ahLst/>
              <a:rect l="l" t="t" r="r" b="b"/>
              <a:pathLst>
                <a:path w="4432" h="1268">
                  <a:moveTo>
                    <a:pt x="577" y="1268"/>
                  </a:moveTo>
                  <a:cubicBezTo>
                    <a:pt x="0" y="1183"/>
                    <a:pt x="805" y="895"/>
                    <a:pt x="968" y="760"/>
                  </a:cubicBezTo>
                  <a:lnTo>
                    <a:pt x="1553" y="456"/>
                  </a:lnTo>
                  <a:lnTo>
                    <a:pt x="1846" y="202"/>
                  </a:lnTo>
                  <a:cubicBezTo>
                    <a:pt x="2033" y="177"/>
                    <a:pt x="2464" y="338"/>
                    <a:pt x="2675" y="304"/>
                  </a:cubicBezTo>
                  <a:lnTo>
                    <a:pt x="3115" y="0"/>
                  </a:lnTo>
                  <a:cubicBezTo>
                    <a:pt x="3310" y="51"/>
                    <a:pt x="3628" y="397"/>
                    <a:pt x="3847" y="608"/>
                  </a:cubicBezTo>
                  <a:lnTo>
                    <a:pt x="4432" y="1268"/>
                  </a:lnTo>
                  <a:lnTo>
                    <a:pt x="577" y="1268"/>
                  </a:lnTo>
                  <a:close/>
                </a:path>
              </a:pathLst>
            </a:custGeom>
            <a:solidFill>
              <a:srgbClr val="a3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20"/>
            <p:cNvSpPr/>
            <p:nvPr/>
          </p:nvSpPr>
          <p:spPr>
            <a:xfrm flipV="1">
              <a:off x="9758160" y="4212720"/>
              <a:ext cx="7035480" cy="2013120"/>
            </a:xfrm>
            <a:custGeom>
              <a:avLst/>
              <a:gdLst/>
              <a:ahLst/>
              <a:rect l="l" t="t" r="r" b="b"/>
              <a:pathLst>
                <a:path w="4432" h="1268">
                  <a:moveTo>
                    <a:pt x="577" y="1268"/>
                  </a:moveTo>
                  <a:cubicBezTo>
                    <a:pt x="0" y="1183"/>
                    <a:pt x="805" y="895"/>
                    <a:pt x="968" y="760"/>
                  </a:cubicBezTo>
                  <a:lnTo>
                    <a:pt x="1553" y="456"/>
                  </a:lnTo>
                  <a:lnTo>
                    <a:pt x="1846" y="202"/>
                  </a:lnTo>
                  <a:cubicBezTo>
                    <a:pt x="2033" y="177"/>
                    <a:pt x="2464" y="338"/>
                    <a:pt x="2675" y="304"/>
                  </a:cubicBezTo>
                  <a:lnTo>
                    <a:pt x="3115" y="0"/>
                  </a:lnTo>
                  <a:cubicBezTo>
                    <a:pt x="3310" y="51"/>
                    <a:pt x="3628" y="397"/>
                    <a:pt x="3847" y="608"/>
                  </a:cubicBezTo>
                  <a:lnTo>
                    <a:pt x="4432" y="1268"/>
                  </a:lnTo>
                  <a:lnTo>
                    <a:pt x="577" y="1268"/>
                  </a:lnTo>
                  <a:close/>
                </a:path>
              </a:pathLst>
            </a:custGeom>
            <a:solidFill>
              <a:srgbClr val="a3d5ff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226"/>
          <p:cNvGrpSpPr/>
          <p:nvPr/>
        </p:nvGrpSpPr>
        <p:grpSpPr>
          <a:xfrm>
            <a:off x="9829800" y="2197080"/>
            <a:ext cx="8356680" cy="5181120"/>
            <a:chOff x="9829800" y="2197080"/>
            <a:chExt cx="8356680" cy="5181120"/>
          </a:xfrm>
        </p:grpSpPr>
        <p:sp>
          <p:nvSpPr>
            <p:cNvPr id="770" name="Freeform 225"/>
            <p:cNvSpPr/>
            <p:nvPr/>
          </p:nvSpPr>
          <p:spPr>
            <a:xfrm flipV="1">
              <a:off x="9829800" y="4691520"/>
              <a:ext cx="8336160" cy="2685960"/>
            </a:xfrm>
            <a:custGeom>
              <a:avLst/>
              <a:gdLst/>
              <a:ahLst/>
              <a:rect l="l" t="t" r="r" b="b"/>
              <a:pathLst>
                <a:path w="5251" h="1692">
                  <a:moveTo>
                    <a:pt x="571" y="1680"/>
                  </a:moveTo>
                  <a:cubicBezTo>
                    <a:pt x="0" y="1605"/>
                    <a:pt x="819" y="1401"/>
                    <a:pt x="979" y="1272"/>
                  </a:cubicBezTo>
                  <a:lnTo>
                    <a:pt x="1529" y="908"/>
                  </a:lnTo>
                  <a:lnTo>
                    <a:pt x="2155" y="276"/>
                  </a:lnTo>
                  <a:cubicBezTo>
                    <a:pt x="2347" y="127"/>
                    <a:pt x="2537" y="24"/>
                    <a:pt x="2683" y="12"/>
                  </a:cubicBezTo>
                  <a:cubicBezTo>
                    <a:pt x="2829" y="0"/>
                    <a:pt x="2935" y="154"/>
                    <a:pt x="3031" y="204"/>
                  </a:cubicBezTo>
                  <a:lnTo>
                    <a:pt x="3259" y="312"/>
                  </a:lnTo>
                  <a:cubicBezTo>
                    <a:pt x="3571" y="480"/>
                    <a:pt x="4571" y="982"/>
                    <a:pt x="4903" y="1212"/>
                  </a:cubicBezTo>
                  <a:lnTo>
                    <a:pt x="5251" y="1692"/>
                  </a:lnTo>
                  <a:lnTo>
                    <a:pt x="571" y="1680"/>
                  </a:lnTo>
                  <a:close/>
                </a:path>
              </a:pathLst>
            </a:custGeom>
            <a:solidFill>
              <a:srgbClr val="89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23"/>
            <p:cNvSpPr/>
            <p:nvPr/>
          </p:nvSpPr>
          <p:spPr>
            <a:xfrm>
              <a:off x="9850680" y="2197080"/>
              <a:ext cx="8335800" cy="2685960"/>
            </a:xfrm>
            <a:custGeom>
              <a:avLst/>
              <a:gdLst/>
              <a:ahLst/>
              <a:rect l="l" t="t" r="r" b="b"/>
              <a:pathLst>
                <a:path w="5251" h="1692">
                  <a:moveTo>
                    <a:pt x="571" y="1680"/>
                  </a:moveTo>
                  <a:cubicBezTo>
                    <a:pt x="0" y="1605"/>
                    <a:pt x="819" y="1401"/>
                    <a:pt x="979" y="1272"/>
                  </a:cubicBezTo>
                  <a:lnTo>
                    <a:pt x="1529" y="908"/>
                  </a:lnTo>
                  <a:lnTo>
                    <a:pt x="2155" y="276"/>
                  </a:lnTo>
                  <a:cubicBezTo>
                    <a:pt x="2347" y="127"/>
                    <a:pt x="2537" y="24"/>
                    <a:pt x="2683" y="12"/>
                  </a:cubicBezTo>
                  <a:cubicBezTo>
                    <a:pt x="2829" y="0"/>
                    <a:pt x="2935" y="154"/>
                    <a:pt x="3031" y="204"/>
                  </a:cubicBezTo>
                  <a:lnTo>
                    <a:pt x="3259" y="312"/>
                  </a:lnTo>
                  <a:cubicBezTo>
                    <a:pt x="3571" y="480"/>
                    <a:pt x="4571" y="982"/>
                    <a:pt x="4903" y="1212"/>
                  </a:cubicBezTo>
                  <a:lnTo>
                    <a:pt x="5251" y="1692"/>
                  </a:lnTo>
                  <a:lnTo>
                    <a:pt x="571" y="1680"/>
                  </a:lnTo>
                  <a:close/>
                </a:path>
              </a:pathLst>
            </a:custGeom>
            <a:solidFill>
              <a:srgbClr val="6db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74"/>
          <p:cNvGrpSpPr/>
          <p:nvPr/>
        </p:nvGrpSpPr>
        <p:grpSpPr>
          <a:xfrm>
            <a:off x="1214280" y="3402000"/>
            <a:ext cx="2422440" cy="193680"/>
            <a:chOff x="1214280" y="3402000"/>
            <a:chExt cx="2422440" cy="193680"/>
          </a:xfrm>
        </p:grpSpPr>
        <p:sp>
          <p:nvSpPr>
            <p:cNvPr id="773" name="Freeform 367"/>
            <p:cNvSpPr/>
            <p:nvPr/>
          </p:nvSpPr>
          <p:spPr>
            <a:xfrm>
              <a:off x="3423960" y="3402000"/>
              <a:ext cx="212760" cy="96840"/>
            </a:xfrm>
            <a:custGeom>
              <a:avLst/>
              <a:gdLst/>
              <a:ahLst/>
              <a:rect l="l" t="t" r="r" b="b"/>
              <a:pathLst>
                <a:path w="706" h="325">
                  <a:moveTo>
                    <a:pt x="594" y="122"/>
                  </a:moveTo>
                  <a:cubicBezTo>
                    <a:pt x="556" y="134"/>
                    <a:pt x="575" y="138"/>
                    <a:pt x="478" y="139"/>
                  </a:cubicBezTo>
                  <a:cubicBezTo>
                    <a:pt x="465" y="139"/>
                    <a:pt x="402" y="116"/>
                    <a:pt x="387" y="84"/>
                  </a:cubicBezTo>
                  <a:cubicBezTo>
                    <a:pt x="377" y="63"/>
                    <a:pt x="382" y="37"/>
                    <a:pt x="376" y="13"/>
                  </a:cubicBezTo>
                  <a:cubicBezTo>
                    <a:pt x="375" y="9"/>
                    <a:pt x="376" y="0"/>
                    <a:pt x="370" y="3"/>
                  </a:cubicBezTo>
                  <a:cubicBezTo>
                    <a:pt x="367" y="4"/>
                    <a:pt x="335" y="27"/>
                    <a:pt x="332" y="30"/>
                  </a:cubicBezTo>
                  <a:cubicBezTo>
                    <a:pt x="324" y="39"/>
                    <a:pt x="322" y="48"/>
                    <a:pt x="325" y="63"/>
                  </a:cubicBezTo>
                  <a:cubicBezTo>
                    <a:pt x="297" y="50"/>
                    <a:pt x="282" y="32"/>
                    <a:pt x="262" y="17"/>
                  </a:cubicBezTo>
                  <a:cubicBezTo>
                    <a:pt x="251" y="9"/>
                    <a:pt x="235" y="1"/>
                    <a:pt x="227" y="1"/>
                  </a:cubicBezTo>
                  <a:cubicBezTo>
                    <a:pt x="223" y="2"/>
                    <a:pt x="230" y="10"/>
                    <a:pt x="224" y="18"/>
                  </a:cubicBezTo>
                  <a:cubicBezTo>
                    <a:pt x="205" y="41"/>
                    <a:pt x="187" y="63"/>
                    <a:pt x="168" y="86"/>
                  </a:cubicBezTo>
                  <a:cubicBezTo>
                    <a:pt x="162" y="94"/>
                    <a:pt x="159" y="102"/>
                    <a:pt x="158" y="112"/>
                  </a:cubicBezTo>
                  <a:cubicBezTo>
                    <a:pt x="155" y="134"/>
                    <a:pt x="160" y="156"/>
                    <a:pt x="159" y="178"/>
                  </a:cubicBezTo>
                  <a:cubicBezTo>
                    <a:pt x="158" y="190"/>
                    <a:pt x="153" y="205"/>
                    <a:pt x="141" y="212"/>
                  </a:cubicBezTo>
                  <a:cubicBezTo>
                    <a:pt x="105" y="232"/>
                    <a:pt x="65" y="232"/>
                    <a:pt x="28" y="247"/>
                  </a:cubicBezTo>
                  <a:cubicBezTo>
                    <a:pt x="9" y="254"/>
                    <a:pt x="12" y="275"/>
                    <a:pt x="1" y="293"/>
                  </a:cubicBezTo>
                  <a:cubicBezTo>
                    <a:pt x="0" y="294"/>
                    <a:pt x="1" y="296"/>
                    <a:pt x="1" y="296"/>
                  </a:cubicBezTo>
                  <a:cubicBezTo>
                    <a:pt x="47" y="297"/>
                    <a:pt x="92" y="286"/>
                    <a:pt x="138" y="293"/>
                  </a:cubicBezTo>
                  <a:cubicBezTo>
                    <a:pt x="190" y="300"/>
                    <a:pt x="269" y="325"/>
                    <a:pt x="315" y="290"/>
                  </a:cubicBezTo>
                  <a:cubicBezTo>
                    <a:pt x="399" y="226"/>
                    <a:pt x="465" y="168"/>
                    <a:pt x="593" y="171"/>
                  </a:cubicBezTo>
                  <a:cubicBezTo>
                    <a:pt x="602" y="171"/>
                    <a:pt x="624" y="168"/>
                    <a:pt x="622" y="161"/>
                  </a:cubicBezTo>
                  <a:cubicBezTo>
                    <a:pt x="620" y="155"/>
                    <a:pt x="605" y="157"/>
                    <a:pt x="603" y="150"/>
                  </a:cubicBezTo>
                  <a:cubicBezTo>
                    <a:pt x="601" y="140"/>
                    <a:pt x="623" y="143"/>
                    <a:pt x="628" y="146"/>
                  </a:cubicBezTo>
                  <a:cubicBezTo>
                    <a:pt x="638" y="153"/>
                    <a:pt x="640" y="162"/>
                    <a:pt x="656" y="156"/>
                  </a:cubicBezTo>
                  <a:cubicBezTo>
                    <a:pt x="679" y="148"/>
                    <a:pt x="700" y="154"/>
                    <a:pt x="705" y="145"/>
                  </a:cubicBezTo>
                  <a:cubicBezTo>
                    <a:pt x="706" y="143"/>
                    <a:pt x="703" y="139"/>
                    <a:pt x="695" y="138"/>
                  </a:cubicBezTo>
                  <a:cubicBezTo>
                    <a:pt x="686" y="136"/>
                    <a:pt x="675" y="141"/>
                    <a:pt x="668" y="135"/>
                  </a:cubicBezTo>
                  <a:cubicBezTo>
                    <a:pt x="649" y="120"/>
                    <a:pt x="632" y="111"/>
                    <a:pt x="594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68"/>
            <p:cNvSpPr/>
            <p:nvPr/>
          </p:nvSpPr>
          <p:spPr>
            <a:xfrm>
              <a:off x="2657520" y="3449880"/>
              <a:ext cx="187200" cy="96840"/>
            </a:xfrm>
            <a:custGeom>
              <a:avLst/>
              <a:gdLst/>
              <a:ahLst/>
              <a:rect l="l" t="t" r="r" b="b"/>
              <a:pathLst>
                <a:path w="708" h="369">
                  <a:moveTo>
                    <a:pt x="611" y="12"/>
                  </a:moveTo>
                  <a:cubicBezTo>
                    <a:pt x="593" y="22"/>
                    <a:pt x="581" y="23"/>
                    <a:pt x="561" y="24"/>
                  </a:cubicBezTo>
                  <a:cubicBezTo>
                    <a:pt x="527" y="27"/>
                    <a:pt x="494" y="27"/>
                    <a:pt x="460" y="24"/>
                  </a:cubicBezTo>
                  <a:cubicBezTo>
                    <a:pt x="436" y="22"/>
                    <a:pt x="412" y="18"/>
                    <a:pt x="389" y="19"/>
                  </a:cubicBezTo>
                  <a:cubicBezTo>
                    <a:pt x="349" y="20"/>
                    <a:pt x="224" y="37"/>
                    <a:pt x="210" y="41"/>
                  </a:cubicBezTo>
                  <a:cubicBezTo>
                    <a:pt x="179" y="48"/>
                    <a:pt x="173" y="53"/>
                    <a:pt x="153" y="60"/>
                  </a:cubicBezTo>
                  <a:cubicBezTo>
                    <a:pt x="107" y="76"/>
                    <a:pt x="59" y="71"/>
                    <a:pt x="11" y="76"/>
                  </a:cubicBezTo>
                  <a:cubicBezTo>
                    <a:pt x="6" y="76"/>
                    <a:pt x="0" y="81"/>
                    <a:pt x="5" y="86"/>
                  </a:cubicBezTo>
                  <a:cubicBezTo>
                    <a:pt x="14" y="96"/>
                    <a:pt x="28" y="100"/>
                    <a:pt x="36" y="113"/>
                  </a:cubicBezTo>
                  <a:cubicBezTo>
                    <a:pt x="40" y="120"/>
                    <a:pt x="48" y="123"/>
                    <a:pt x="56" y="125"/>
                  </a:cubicBezTo>
                  <a:cubicBezTo>
                    <a:pt x="78" y="131"/>
                    <a:pt x="100" y="131"/>
                    <a:pt x="122" y="138"/>
                  </a:cubicBezTo>
                  <a:cubicBezTo>
                    <a:pt x="137" y="144"/>
                    <a:pt x="149" y="152"/>
                    <a:pt x="159" y="166"/>
                  </a:cubicBezTo>
                  <a:cubicBezTo>
                    <a:pt x="190" y="209"/>
                    <a:pt x="195" y="259"/>
                    <a:pt x="216" y="304"/>
                  </a:cubicBezTo>
                  <a:cubicBezTo>
                    <a:pt x="225" y="323"/>
                    <a:pt x="233" y="343"/>
                    <a:pt x="250" y="354"/>
                  </a:cubicBezTo>
                  <a:cubicBezTo>
                    <a:pt x="251" y="355"/>
                    <a:pt x="295" y="322"/>
                    <a:pt x="309" y="299"/>
                  </a:cubicBezTo>
                  <a:cubicBezTo>
                    <a:pt x="310" y="297"/>
                    <a:pt x="312" y="296"/>
                    <a:pt x="313" y="297"/>
                  </a:cubicBezTo>
                  <a:cubicBezTo>
                    <a:pt x="327" y="311"/>
                    <a:pt x="373" y="367"/>
                    <a:pt x="390" y="369"/>
                  </a:cubicBezTo>
                  <a:cubicBezTo>
                    <a:pt x="391" y="369"/>
                    <a:pt x="421" y="303"/>
                    <a:pt x="428" y="268"/>
                  </a:cubicBezTo>
                  <a:cubicBezTo>
                    <a:pt x="436" y="223"/>
                    <a:pt x="436" y="180"/>
                    <a:pt x="439" y="135"/>
                  </a:cubicBezTo>
                  <a:cubicBezTo>
                    <a:pt x="441" y="110"/>
                    <a:pt x="446" y="72"/>
                    <a:pt x="473" y="64"/>
                  </a:cubicBezTo>
                  <a:cubicBezTo>
                    <a:pt x="501" y="55"/>
                    <a:pt x="615" y="64"/>
                    <a:pt x="625" y="51"/>
                  </a:cubicBezTo>
                  <a:cubicBezTo>
                    <a:pt x="620" y="47"/>
                    <a:pt x="614" y="45"/>
                    <a:pt x="612" y="37"/>
                  </a:cubicBezTo>
                  <a:cubicBezTo>
                    <a:pt x="610" y="26"/>
                    <a:pt x="622" y="30"/>
                    <a:pt x="622" y="30"/>
                  </a:cubicBezTo>
                  <a:cubicBezTo>
                    <a:pt x="627" y="38"/>
                    <a:pt x="634" y="50"/>
                    <a:pt x="646" y="45"/>
                  </a:cubicBezTo>
                  <a:cubicBezTo>
                    <a:pt x="665" y="38"/>
                    <a:pt x="686" y="36"/>
                    <a:pt x="702" y="40"/>
                  </a:cubicBezTo>
                  <a:cubicBezTo>
                    <a:pt x="707" y="41"/>
                    <a:pt x="708" y="37"/>
                    <a:pt x="704" y="34"/>
                  </a:cubicBezTo>
                  <a:cubicBezTo>
                    <a:pt x="701" y="31"/>
                    <a:pt x="697" y="30"/>
                    <a:pt x="688" y="28"/>
                  </a:cubicBezTo>
                  <a:cubicBezTo>
                    <a:pt x="682" y="26"/>
                    <a:pt x="674" y="25"/>
                    <a:pt x="668" y="20"/>
                  </a:cubicBezTo>
                  <a:cubicBezTo>
                    <a:pt x="656" y="10"/>
                    <a:pt x="635" y="0"/>
                    <a:pt x="6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70"/>
            <p:cNvSpPr/>
            <p:nvPr/>
          </p:nvSpPr>
          <p:spPr>
            <a:xfrm>
              <a:off x="2011320" y="3449880"/>
              <a:ext cx="212760" cy="96840"/>
            </a:xfrm>
            <a:custGeom>
              <a:avLst/>
              <a:gdLst/>
              <a:ahLst/>
              <a:rect l="l" t="t" r="r" b="b"/>
              <a:pathLst>
                <a:path w="706" h="325">
                  <a:moveTo>
                    <a:pt x="594" y="122"/>
                  </a:moveTo>
                  <a:cubicBezTo>
                    <a:pt x="556" y="134"/>
                    <a:pt x="575" y="138"/>
                    <a:pt x="478" y="139"/>
                  </a:cubicBezTo>
                  <a:cubicBezTo>
                    <a:pt x="465" y="139"/>
                    <a:pt x="402" y="116"/>
                    <a:pt x="387" y="84"/>
                  </a:cubicBezTo>
                  <a:cubicBezTo>
                    <a:pt x="377" y="63"/>
                    <a:pt x="382" y="37"/>
                    <a:pt x="376" y="13"/>
                  </a:cubicBezTo>
                  <a:cubicBezTo>
                    <a:pt x="375" y="9"/>
                    <a:pt x="376" y="0"/>
                    <a:pt x="370" y="3"/>
                  </a:cubicBezTo>
                  <a:cubicBezTo>
                    <a:pt x="367" y="4"/>
                    <a:pt x="335" y="27"/>
                    <a:pt x="332" y="30"/>
                  </a:cubicBezTo>
                  <a:cubicBezTo>
                    <a:pt x="324" y="39"/>
                    <a:pt x="322" y="48"/>
                    <a:pt x="325" y="63"/>
                  </a:cubicBezTo>
                  <a:cubicBezTo>
                    <a:pt x="297" y="50"/>
                    <a:pt x="282" y="32"/>
                    <a:pt x="262" y="17"/>
                  </a:cubicBezTo>
                  <a:cubicBezTo>
                    <a:pt x="251" y="9"/>
                    <a:pt x="235" y="1"/>
                    <a:pt x="227" y="1"/>
                  </a:cubicBezTo>
                  <a:cubicBezTo>
                    <a:pt x="223" y="2"/>
                    <a:pt x="230" y="10"/>
                    <a:pt x="224" y="18"/>
                  </a:cubicBezTo>
                  <a:cubicBezTo>
                    <a:pt x="205" y="41"/>
                    <a:pt x="187" y="63"/>
                    <a:pt x="168" y="86"/>
                  </a:cubicBezTo>
                  <a:cubicBezTo>
                    <a:pt x="162" y="94"/>
                    <a:pt x="159" y="102"/>
                    <a:pt x="158" y="112"/>
                  </a:cubicBezTo>
                  <a:cubicBezTo>
                    <a:pt x="155" y="134"/>
                    <a:pt x="160" y="156"/>
                    <a:pt x="159" y="178"/>
                  </a:cubicBezTo>
                  <a:cubicBezTo>
                    <a:pt x="158" y="190"/>
                    <a:pt x="153" y="205"/>
                    <a:pt x="141" y="212"/>
                  </a:cubicBezTo>
                  <a:cubicBezTo>
                    <a:pt x="105" y="232"/>
                    <a:pt x="65" y="232"/>
                    <a:pt x="28" y="247"/>
                  </a:cubicBezTo>
                  <a:cubicBezTo>
                    <a:pt x="9" y="254"/>
                    <a:pt x="12" y="275"/>
                    <a:pt x="1" y="293"/>
                  </a:cubicBezTo>
                  <a:cubicBezTo>
                    <a:pt x="0" y="294"/>
                    <a:pt x="1" y="296"/>
                    <a:pt x="1" y="296"/>
                  </a:cubicBezTo>
                  <a:cubicBezTo>
                    <a:pt x="47" y="297"/>
                    <a:pt x="92" y="286"/>
                    <a:pt x="138" y="293"/>
                  </a:cubicBezTo>
                  <a:cubicBezTo>
                    <a:pt x="190" y="300"/>
                    <a:pt x="269" y="325"/>
                    <a:pt x="315" y="290"/>
                  </a:cubicBezTo>
                  <a:cubicBezTo>
                    <a:pt x="399" y="226"/>
                    <a:pt x="465" y="168"/>
                    <a:pt x="593" y="171"/>
                  </a:cubicBezTo>
                  <a:cubicBezTo>
                    <a:pt x="602" y="171"/>
                    <a:pt x="624" y="168"/>
                    <a:pt x="622" y="161"/>
                  </a:cubicBezTo>
                  <a:cubicBezTo>
                    <a:pt x="620" y="155"/>
                    <a:pt x="605" y="157"/>
                    <a:pt x="603" y="150"/>
                  </a:cubicBezTo>
                  <a:cubicBezTo>
                    <a:pt x="601" y="140"/>
                    <a:pt x="623" y="143"/>
                    <a:pt x="628" y="146"/>
                  </a:cubicBezTo>
                  <a:cubicBezTo>
                    <a:pt x="638" y="153"/>
                    <a:pt x="640" y="162"/>
                    <a:pt x="656" y="156"/>
                  </a:cubicBezTo>
                  <a:cubicBezTo>
                    <a:pt x="679" y="148"/>
                    <a:pt x="700" y="154"/>
                    <a:pt x="705" y="145"/>
                  </a:cubicBezTo>
                  <a:cubicBezTo>
                    <a:pt x="706" y="143"/>
                    <a:pt x="703" y="139"/>
                    <a:pt x="695" y="138"/>
                  </a:cubicBezTo>
                  <a:cubicBezTo>
                    <a:pt x="686" y="136"/>
                    <a:pt x="675" y="141"/>
                    <a:pt x="668" y="135"/>
                  </a:cubicBezTo>
                  <a:cubicBezTo>
                    <a:pt x="649" y="120"/>
                    <a:pt x="632" y="111"/>
                    <a:pt x="594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71"/>
            <p:cNvSpPr/>
            <p:nvPr/>
          </p:nvSpPr>
          <p:spPr>
            <a:xfrm>
              <a:off x="1214280" y="3498840"/>
              <a:ext cx="212760" cy="96840"/>
            </a:xfrm>
            <a:custGeom>
              <a:avLst/>
              <a:gdLst/>
              <a:ahLst/>
              <a:rect l="l" t="t" r="r" b="b"/>
              <a:pathLst>
                <a:path w="706" h="325">
                  <a:moveTo>
                    <a:pt x="594" y="122"/>
                  </a:moveTo>
                  <a:cubicBezTo>
                    <a:pt x="556" y="134"/>
                    <a:pt x="575" y="138"/>
                    <a:pt x="478" y="139"/>
                  </a:cubicBezTo>
                  <a:cubicBezTo>
                    <a:pt x="465" y="139"/>
                    <a:pt x="402" y="116"/>
                    <a:pt x="387" y="84"/>
                  </a:cubicBezTo>
                  <a:cubicBezTo>
                    <a:pt x="377" y="63"/>
                    <a:pt x="382" y="37"/>
                    <a:pt x="376" y="13"/>
                  </a:cubicBezTo>
                  <a:cubicBezTo>
                    <a:pt x="375" y="9"/>
                    <a:pt x="376" y="0"/>
                    <a:pt x="370" y="3"/>
                  </a:cubicBezTo>
                  <a:cubicBezTo>
                    <a:pt x="367" y="4"/>
                    <a:pt x="335" y="27"/>
                    <a:pt x="332" y="30"/>
                  </a:cubicBezTo>
                  <a:cubicBezTo>
                    <a:pt x="324" y="39"/>
                    <a:pt x="322" y="48"/>
                    <a:pt x="325" y="63"/>
                  </a:cubicBezTo>
                  <a:cubicBezTo>
                    <a:pt x="297" y="50"/>
                    <a:pt x="282" y="32"/>
                    <a:pt x="262" y="17"/>
                  </a:cubicBezTo>
                  <a:cubicBezTo>
                    <a:pt x="251" y="9"/>
                    <a:pt x="235" y="1"/>
                    <a:pt x="227" y="1"/>
                  </a:cubicBezTo>
                  <a:cubicBezTo>
                    <a:pt x="223" y="2"/>
                    <a:pt x="230" y="10"/>
                    <a:pt x="224" y="18"/>
                  </a:cubicBezTo>
                  <a:cubicBezTo>
                    <a:pt x="205" y="41"/>
                    <a:pt x="187" y="63"/>
                    <a:pt x="168" y="86"/>
                  </a:cubicBezTo>
                  <a:cubicBezTo>
                    <a:pt x="162" y="94"/>
                    <a:pt x="159" y="102"/>
                    <a:pt x="158" y="112"/>
                  </a:cubicBezTo>
                  <a:cubicBezTo>
                    <a:pt x="155" y="134"/>
                    <a:pt x="160" y="156"/>
                    <a:pt x="159" y="178"/>
                  </a:cubicBezTo>
                  <a:cubicBezTo>
                    <a:pt x="158" y="190"/>
                    <a:pt x="153" y="205"/>
                    <a:pt x="141" y="212"/>
                  </a:cubicBezTo>
                  <a:cubicBezTo>
                    <a:pt x="105" y="232"/>
                    <a:pt x="65" y="232"/>
                    <a:pt x="28" y="247"/>
                  </a:cubicBezTo>
                  <a:cubicBezTo>
                    <a:pt x="9" y="254"/>
                    <a:pt x="12" y="275"/>
                    <a:pt x="1" y="293"/>
                  </a:cubicBezTo>
                  <a:cubicBezTo>
                    <a:pt x="0" y="294"/>
                    <a:pt x="1" y="296"/>
                    <a:pt x="1" y="296"/>
                  </a:cubicBezTo>
                  <a:cubicBezTo>
                    <a:pt x="47" y="297"/>
                    <a:pt x="92" y="286"/>
                    <a:pt x="138" y="293"/>
                  </a:cubicBezTo>
                  <a:cubicBezTo>
                    <a:pt x="190" y="300"/>
                    <a:pt x="269" y="325"/>
                    <a:pt x="315" y="290"/>
                  </a:cubicBezTo>
                  <a:cubicBezTo>
                    <a:pt x="399" y="226"/>
                    <a:pt x="465" y="168"/>
                    <a:pt x="593" y="171"/>
                  </a:cubicBezTo>
                  <a:cubicBezTo>
                    <a:pt x="602" y="171"/>
                    <a:pt x="624" y="168"/>
                    <a:pt x="622" y="161"/>
                  </a:cubicBezTo>
                  <a:cubicBezTo>
                    <a:pt x="620" y="155"/>
                    <a:pt x="605" y="157"/>
                    <a:pt x="603" y="150"/>
                  </a:cubicBezTo>
                  <a:cubicBezTo>
                    <a:pt x="601" y="140"/>
                    <a:pt x="623" y="143"/>
                    <a:pt x="628" y="146"/>
                  </a:cubicBezTo>
                  <a:cubicBezTo>
                    <a:pt x="638" y="153"/>
                    <a:pt x="640" y="162"/>
                    <a:pt x="656" y="156"/>
                  </a:cubicBezTo>
                  <a:cubicBezTo>
                    <a:pt x="679" y="148"/>
                    <a:pt x="700" y="154"/>
                    <a:pt x="705" y="145"/>
                  </a:cubicBezTo>
                  <a:cubicBezTo>
                    <a:pt x="706" y="143"/>
                    <a:pt x="703" y="139"/>
                    <a:pt x="695" y="138"/>
                  </a:cubicBezTo>
                  <a:cubicBezTo>
                    <a:pt x="686" y="136"/>
                    <a:pt x="675" y="141"/>
                    <a:pt x="668" y="135"/>
                  </a:cubicBezTo>
                  <a:cubicBezTo>
                    <a:pt x="649" y="120"/>
                    <a:pt x="632" y="111"/>
                    <a:pt x="594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377"/>
          <p:cNvGrpSpPr/>
          <p:nvPr/>
        </p:nvGrpSpPr>
        <p:grpSpPr>
          <a:xfrm>
            <a:off x="1214280" y="3402000"/>
            <a:ext cx="2422800" cy="235080"/>
            <a:chOff x="1214280" y="3402000"/>
            <a:chExt cx="2422800" cy="235080"/>
          </a:xfrm>
        </p:grpSpPr>
        <p:sp>
          <p:nvSpPr>
            <p:cNvPr id="778" name="Freeform 372"/>
            <p:cNvSpPr/>
            <p:nvPr/>
          </p:nvSpPr>
          <p:spPr>
            <a:xfrm>
              <a:off x="2647800" y="3402000"/>
              <a:ext cx="212760" cy="96840"/>
            </a:xfrm>
            <a:custGeom>
              <a:avLst/>
              <a:gdLst/>
              <a:ahLst/>
              <a:rect l="l" t="t" r="r" b="b"/>
              <a:pathLst>
                <a:path w="706" h="325">
                  <a:moveTo>
                    <a:pt x="594" y="122"/>
                  </a:moveTo>
                  <a:cubicBezTo>
                    <a:pt x="556" y="134"/>
                    <a:pt x="575" y="138"/>
                    <a:pt x="478" y="139"/>
                  </a:cubicBezTo>
                  <a:cubicBezTo>
                    <a:pt x="465" y="139"/>
                    <a:pt x="402" y="116"/>
                    <a:pt x="387" y="84"/>
                  </a:cubicBezTo>
                  <a:cubicBezTo>
                    <a:pt x="377" y="63"/>
                    <a:pt x="382" y="37"/>
                    <a:pt x="376" y="13"/>
                  </a:cubicBezTo>
                  <a:cubicBezTo>
                    <a:pt x="375" y="9"/>
                    <a:pt x="376" y="0"/>
                    <a:pt x="370" y="3"/>
                  </a:cubicBezTo>
                  <a:cubicBezTo>
                    <a:pt x="367" y="4"/>
                    <a:pt x="335" y="27"/>
                    <a:pt x="332" y="30"/>
                  </a:cubicBezTo>
                  <a:cubicBezTo>
                    <a:pt x="324" y="39"/>
                    <a:pt x="322" y="48"/>
                    <a:pt x="325" y="63"/>
                  </a:cubicBezTo>
                  <a:cubicBezTo>
                    <a:pt x="297" y="50"/>
                    <a:pt x="282" y="32"/>
                    <a:pt x="262" y="17"/>
                  </a:cubicBezTo>
                  <a:cubicBezTo>
                    <a:pt x="251" y="9"/>
                    <a:pt x="235" y="1"/>
                    <a:pt x="227" y="1"/>
                  </a:cubicBezTo>
                  <a:cubicBezTo>
                    <a:pt x="223" y="2"/>
                    <a:pt x="230" y="10"/>
                    <a:pt x="224" y="18"/>
                  </a:cubicBezTo>
                  <a:cubicBezTo>
                    <a:pt x="205" y="41"/>
                    <a:pt x="187" y="63"/>
                    <a:pt x="168" y="86"/>
                  </a:cubicBezTo>
                  <a:cubicBezTo>
                    <a:pt x="162" y="94"/>
                    <a:pt x="159" y="102"/>
                    <a:pt x="158" y="112"/>
                  </a:cubicBezTo>
                  <a:cubicBezTo>
                    <a:pt x="155" y="134"/>
                    <a:pt x="160" y="156"/>
                    <a:pt x="159" y="178"/>
                  </a:cubicBezTo>
                  <a:cubicBezTo>
                    <a:pt x="158" y="190"/>
                    <a:pt x="153" y="205"/>
                    <a:pt x="141" y="212"/>
                  </a:cubicBezTo>
                  <a:cubicBezTo>
                    <a:pt x="105" y="232"/>
                    <a:pt x="65" y="232"/>
                    <a:pt x="28" y="247"/>
                  </a:cubicBezTo>
                  <a:cubicBezTo>
                    <a:pt x="9" y="254"/>
                    <a:pt x="12" y="275"/>
                    <a:pt x="1" y="293"/>
                  </a:cubicBezTo>
                  <a:cubicBezTo>
                    <a:pt x="0" y="294"/>
                    <a:pt x="1" y="296"/>
                    <a:pt x="1" y="296"/>
                  </a:cubicBezTo>
                  <a:cubicBezTo>
                    <a:pt x="47" y="297"/>
                    <a:pt x="92" y="286"/>
                    <a:pt x="138" y="293"/>
                  </a:cubicBezTo>
                  <a:cubicBezTo>
                    <a:pt x="190" y="300"/>
                    <a:pt x="269" y="325"/>
                    <a:pt x="315" y="290"/>
                  </a:cubicBezTo>
                  <a:cubicBezTo>
                    <a:pt x="399" y="226"/>
                    <a:pt x="465" y="168"/>
                    <a:pt x="593" y="171"/>
                  </a:cubicBezTo>
                  <a:cubicBezTo>
                    <a:pt x="602" y="171"/>
                    <a:pt x="624" y="168"/>
                    <a:pt x="622" y="161"/>
                  </a:cubicBezTo>
                  <a:cubicBezTo>
                    <a:pt x="620" y="155"/>
                    <a:pt x="605" y="157"/>
                    <a:pt x="603" y="150"/>
                  </a:cubicBezTo>
                  <a:cubicBezTo>
                    <a:pt x="601" y="140"/>
                    <a:pt x="623" y="143"/>
                    <a:pt x="628" y="146"/>
                  </a:cubicBezTo>
                  <a:cubicBezTo>
                    <a:pt x="638" y="153"/>
                    <a:pt x="640" y="162"/>
                    <a:pt x="656" y="156"/>
                  </a:cubicBezTo>
                  <a:cubicBezTo>
                    <a:pt x="679" y="148"/>
                    <a:pt x="700" y="154"/>
                    <a:pt x="705" y="145"/>
                  </a:cubicBezTo>
                  <a:cubicBezTo>
                    <a:pt x="706" y="143"/>
                    <a:pt x="703" y="139"/>
                    <a:pt x="695" y="138"/>
                  </a:cubicBezTo>
                  <a:cubicBezTo>
                    <a:pt x="686" y="136"/>
                    <a:pt x="675" y="141"/>
                    <a:pt x="668" y="135"/>
                  </a:cubicBezTo>
                  <a:cubicBezTo>
                    <a:pt x="649" y="120"/>
                    <a:pt x="632" y="111"/>
                    <a:pt x="594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73"/>
            <p:cNvSpPr/>
            <p:nvPr/>
          </p:nvSpPr>
          <p:spPr>
            <a:xfrm>
              <a:off x="2031840" y="3492720"/>
              <a:ext cx="187560" cy="96840"/>
            </a:xfrm>
            <a:custGeom>
              <a:avLst/>
              <a:gdLst/>
              <a:ahLst/>
              <a:rect l="l" t="t" r="r" b="b"/>
              <a:pathLst>
                <a:path w="708" h="369">
                  <a:moveTo>
                    <a:pt x="611" y="12"/>
                  </a:moveTo>
                  <a:cubicBezTo>
                    <a:pt x="593" y="22"/>
                    <a:pt x="581" y="23"/>
                    <a:pt x="561" y="24"/>
                  </a:cubicBezTo>
                  <a:cubicBezTo>
                    <a:pt x="527" y="27"/>
                    <a:pt x="494" y="27"/>
                    <a:pt x="460" y="24"/>
                  </a:cubicBezTo>
                  <a:cubicBezTo>
                    <a:pt x="436" y="22"/>
                    <a:pt x="412" y="18"/>
                    <a:pt x="389" y="19"/>
                  </a:cubicBezTo>
                  <a:cubicBezTo>
                    <a:pt x="349" y="20"/>
                    <a:pt x="224" y="37"/>
                    <a:pt x="210" y="41"/>
                  </a:cubicBezTo>
                  <a:cubicBezTo>
                    <a:pt x="179" y="48"/>
                    <a:pt x="173" y="53"/>
                    <a:pt x="153" y="60"/>
                  </a:cubicBezTo>
                  <a:cubicBezTo>
                    <a:pt x="107" y="76"/>
                    <a:pt x="59" y="71"/>
                    <a:pt x="11" y="76"/>
                  </a:cubicBezTo>
                  <a:cubicBezTo>
                    <a:pt x="6" y="76"/>
                    <a:pt x="0" y="81"/>
                    <a:pt x="5" y="86"/>
                  </a:cubicBezTo>
                  <a:cubicBezTo>
                    <a:pt x="14" y="96"/>
                    <a:pt x="28" y="100"/>
                    <a:pt x="36" y="113"/>
                  </a:cubicBezTo>
                  <a:cubicBezTo>
                    <a:pt x="40" y="120"/>
                    <a:pt x="48" y="123"/>
                    <a:pt x="56" y="125"/>
                  </a:cubicBezTo>
                  <a:cubicBezTo>
                    <a:pt x="78" y="131"/>
                    <a:pt x="100" y="131"/>
                    <a:pt x="122" y="138"/>
                  </a:cubicBezTo>
                  <a:cubicBezTo>
                    <a:pt x="137" y="144"/>
                    <a:pt x="149" y="152"/>
                    <a:pt x="159" y="166"/>
                  </a:cubicBezTo>
                  <a:cubicBezTo>
                    <a:pt x="190" y="209"/>
                    <a:pt x="195" y="259"/>
                    <a:pt x="216" y="304"/>
                  </a:cubicBezTo>
                  <a:cubicBezTo>
                    <a:pt x="225" y="323"/>
                    <a:pt x="233" y="343"/>
                    <a:pt x="250" y="354"/>
                  </a:cubicBezTo>
                  <a:cubicBezTo>
                    <a:pt x="251" y="355"/>
                    <a:pt x="295" y="322"/>
                    <a:pt x="309" y="299"/>
                  </a:cubicBezTo>
                  <a:cubicBezTo>
                    <a:pt x="310" y="297"/>
                    <a:pt x="312" y="296"/>
                    <a:pt x="313" y="297"/>
                  </a:cubicBezTo>
                  <a:cubicBezTo>
                    <a:pt x="327" y="311"/>
                    <a:pt x="373" y="367"/>
                    <a:pt x="390" y="369"/>
                  </a:cubicBezTo>
                  <a:cubicBezTo>
                    <a:pt x="391" y="369"/>
                    <a:pt x="421" y="303"/>
                    <a:pt x="428" y="268"/>
                  </a:cubicBezTo>
                  <a:cubicBezTo>
                    <a:pt x="436" y="223"/>
                    <a:pt x="436" y="180"/>
                    <a:pt x="439" y="135"/>
                  </a:cubicBezTo>
                  <a:cubicBezTo>
                    <a:pt x="441" y="110"/>
                    <a:pt x="446" y="72"/>
                    <a:pt x="473" y="64"/>
                  </a:cubicBezTo>
                  <a:cubicBezTo>
                    <a:pt x="501" y="55"/>
                    <a:pt x="615" y="64"/>
                    <a:pt x="625" y="51"/>
                  </a:cubicBezTo>
                  <a:cubicBezTo>
                    <a:pt x="620" y="47"/>
                    <a:pt x="614" y="45"/>
                    <a:pt x="612" y="37"/>
                  </a:cubicBezTo>
                  <a:cubicBezTo>
                    <a:pt x="610" y="26"/>
                    <a:pt x="622" y="30"/>
                    <a:pt x="622" y="30"/>
                  </a:cubicBezTo>
                  <a:cubicBezTo>
                    <a:pt x="627" y="38"/>
                    <a:pt x="634" y="50"/>
                    <a:pt x="646" y="45"/>
                  </a:cubicBezTo>
                  <a:cubicBezTo>
                    <a:pt x="665" y="38"/>
                    <a:pt x="686" y="36"/>
                    <a:pt x="702" y="40"/>
                  </a:cubicBezTo>
                  <a:cubicBezTo>
                    <a:pt x="707" y="41"/>
                    <a:pt x="708" y="37"/>
                    <a:pt x="704" y="34"/>
                  </a:cubicBezTo>
                  <a:cubicBezTo>
                    <a:pt x="701" y="31"/>
                    <a:pt x="697" y="30"/>
                    <a:pt x="688" y="28"/>
                  </a:cubicBezTo>
                  <a:cubicBezTo>
                    <a:pt x="682" y="26"/>
                    <a:pt x="674" y="25"/>
                    <a:pt x="668" y="20"/>
                  </a:cubicBezTo>
                  <a:cubicBezTo>
                    <a:pt x="656" y="10"/>
                    <a:pt x="635" y="0"/>
                    <a:pt x="6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75"/>
            <p:cNvSpPr/>
            <p:nvPr/>
          </p:nvSpPr>
          <p:spPr>
            <a:xfrm>
              <a:off x="1214280" y="3540240"/>
              <a:ext cx="187560" cy="96840"/>
            </a:xfrm>
            <a:custGeom>
              <a:avLst/>
              <a:gdLst/>
              <a:ahLst/>
              <a:rect l="l" t="t" r="r" b="b"/>
              <a:pathLst>
                <a:path w="708" h="369">
                  <a:moveTo>
                    <a:pt x="611" y="12"/>
                  </a:moveTo>
                  <a:cubicBezTo>
                    <a:pt x="593" y="22"/>
                    <a:pt x="581" y="23"/>
                    <a:pt x="561" y="24"/>
                  </a:cubicBezTo>
                  <a:cubicBezTo>
                    <a:pt x="527" y="27"/>
                    <a:pt x="494" y="27"/>
                    <a:pt x="460" y="24"/>
                  </a:cubicBezTo>
                  <a:cubicBezTo>
                    <a:pt x="436" y="22"/>
                    <a:pt x="412" y="18"/>
                    <a:pt x="389" y="19"/>
                  </a:cubicBezTo>
                  <a:cubicBezTo>
                    <a:pt x="349" y="20"/>
                    <a:pt x="224" y="37"/>
                    <a:pt x="210" y="41"/>
                  </a:cubicBezTo>
                  <a:cubicBezTo>
                    <a:pt x="179" y="48"/>
                    <a:pt x="173" y="53"/>
                    <a:pt x="153" y="60"/>
                  </a:cubicBezTo>
                  <a:cubicBezTo>
                    <a:pt x="107" y="76"/>
                    <a:pt x="59" y="71"/>
                    <a:pt x="11" y="76"/>
                  </a:cubicBezTo>
                  <a:cubicBezTo>
                    <a:pt x="6" y="76"/>
                    <a:pt x="0" y="81"/>
                    <a:pt x="5" y="86"/>
                  </a:cubicBezTo>
                  <a:cubicBezTo>
                    <a:pt x="14" y="96"/>
                    <a:pt x="28" y="100"/>
                    <a:pt x="36" y="113"/>
                  </a:cubicBezTo>
                  <a:cubicBezTo>
                    <a:pt x="40" y="120"/>
                    <a:pt x="48" y="123"/>
                    <a:pt x="56" y="125"/>
                  </a:cubicBezTo>
                  <a:cubicBezTo>
                    <a:pt x="78" y="131"/>
                    <a:pt x="100" y="131"/>
                    <a:pt x="122" y="138"/>
                  </a:cubicBezTo>
                  <a:cubicBezTo>
                    <a:pt x="137" y="144"/>
                    <a:pt x="149" y="152"/>
                    <a:pt x="159" y="166"/>
                  </a:cubicBezTo>
                  <a:cubicBezTo>
                    <a:pt x="190" y="209"/>
                    <a:pt x="195" y="259"/>
                    <a:pt x="216" y="304"/>
                  </a:cubicBezTo>
                  <a:cubicBezTo>
                    <a:pt x="225" y="323"/>
                    <a:pt x="233" y="343"/>
                    <a:pt x="250" y="354"/>
                  </a:cubicBezTo>
                  <a:cubicBezTo>
                    <a:pt x="251" y="355"/>
                    <a:pt x="295" y="322"/>
                    <a:pt x="309" y="299"/>
                  </a:cubicBezTo>
                  <a:cubicBezTo>
                    <a:pt x="310" y="297"/>
                    <a:pt x="312" y="296"/>
                    <a:pt x="313" y="297"/>
                  </a:cubicBezTo>
                  <a:cubicBezTo>
                    <a:pt x="327" y="311"/>
                    <a:pt x="373" y="367"/>
                    <a:pt x="390" y="369"/>
                  </a:cubicBezTo>
                  <a:cubicBezTo>
                    <a:pt x="391" y="369"/>
                    <a:pt x="421" y="303"/>
                    <a:pt x="428" y="268"/>
                  </a:cubicBezTo>
                  <a:cubicBezTo>
                    <a:pt x="436" y="223"/>
                    <a:pt x="436" y="180"/>
                    <a:pt x="439" y="135"/>
                  </a:cubicBezTo>
                  <a:cubicBezTo>
                    <a:pt x="441" y="110"/>
                    <a:pt x="446" y="72"/>
                    <a:pt x="473" y="64"/>
                  </a:cubicBezTo>
                  <a:cubicBezTo>
                    <a:pt x="501" y="55"/>
                    <a:pt x="615" y="64"/>
                    <a:pt x="625" y="51"/>
                  </a:cubicBezTo>
                  <a:cubicBezTo>
                    <a:pt x="620" y="47"/>
                    <a:pt x="614" y="45"/>
                    <a:pt x="612" y="37"/>
                  </a:cubicBezTo>
                  <a:cubicBezTo>
                    <a:pt x="610" y="26"/>
                    <a:pt x="622" y="30"/>
                    <a:pt x="622" y="30"/>
                  </a:cubicBezTo>
                  <a:cubicBezTo>
                    <a:pt x="627" y="38"/>
                    <a:pt x="634" y="50"/>
                    <a:pt x="646" y="45"/>
                  </a:cubicBezTo>
                  <a:cubicBezTo>
                    <a:pt x="665" y="38"/>
                    <a:pt x="686" y="36"/>
                    <a:pt x="702" y="40"/>
                  </a:cubicBezTo>
                  <a:cubicBezTo>
                    <a:pt x="707" y="41"/>
                    <a:pt x="708" y="37"/>
                    <a:pt x="704" y="34"/>
                  </a:cubicBezTo>
                  <a:cubicBezTo>
                    <a:pt x="701" y="31"/>
                    <a:pt x="697" y="30"/>
                    <a:pt x="688" y="28"/>
                  </a:cubicBezTo>
                  <a:cubicBezTo>
                    <a:pt x="682" y="26"/>
                    <a:pt x="674" y="25"/>
                    <a:pt x="668" y="20"/>
                  </a:cubicBezTo>
                  <a:cubicBezTo>
                    <a:pt x="656" y="10"/>
                    <a:pt x="635" y="0"/>
                    <a:pt x="6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6"/>
            <p:cNvSpPr/>
            <p:nvPr/>
          </p:nvSpPr>
          <p:spPr>
            <a:xfrm>
              <a:off x="3449520" y="3443400"/>
              <a:ext cx="187560" cy="96840"/>
            </a:xfrm>
            <a:custGeom>
              <a:avLst/>
              <a:gdLst/>
              <a:ahLst/>
              <a:rect l="l" t="t" r="r" b="b"/>
              <a:pathLst>
                <a:path w="708" h="369">
                  <a:moveTo>
                    <a:pt x="611" y="12"/>
                  </a:moveTo>
                  <a:cubicBezTo>
                    <a:pt x="593" y="22"/>
                    <a:pt x="581" y="23"/>
                    <a:pt x="561" y="24"/>
                  </a:cubicBezTo>
                  <a:cubicBezTo>
                    <a:pt x="527" y="27"/>
                    <a:pt x="494" y="27"/>
                    <a:pt x="460" y="24"/>
                  </a:cubicBezTo>
                  <a:cubicBezTo>
                    <a:pt x="436" y="22"/>
                    <a:pt x="412" y="18"/>
                    <a:pt x="389" y="19"/>
                  </a:cubicBezTo>
                  <a:cubicBezTo>
                    <a:pt x="349" y="20"/>
                    <a:pt x="224" y="37"/>
                    <a:pt x="210" y="41"/>
                  </a:cubicBezTo>
                  <a:cubicBezTo>
                    <a:pt x="179" y="48"/>
                    <a:pt x="173" y="53"/>
                    <a:pt x="153" y="60"/>
                  </a:cubicBezTo>
                  <a:cubicBezTo>
                    <a:pt x="107" y="76"/>
                    <a:pt x="59" y="71"/>
                    <a:pt x="11" y="76"/>
                  </a:cubicBezTo>
                  <a:cubicBezTo>
                    <a:pt x="6" y="76"/>
                    <a:pt x="0" y="81"/>
                    <a:pt x="5" y="86"/>
                  </a:cubicBezTo>
                  <a:cubicBezTo>
                    <a:pt x="14" y="96"/>
                    <a:pt x="28" y="100"/>
                    <a:pt x="36" y="113"/>
                  </a:cubicBezTo>
                  <a:cubicBezTo>
                    <a:pt x="40" y="120"/>
                    <a:pt x="48" y="123"/>
                    <a:pt x="56" y="125"/>
                  </a:cubicBezTo>
                  <a:cubicBezTo>
                    <a:pt x="78" y="131"/>
                    <a:pt x="100" y="131"/>
                    <a:pt x="122" y="138"/>
                  </a:cubicBezTo>
                  <a:cubicBezTo>
                    <a:pt x="137" y="144"/>
                    <a:pt x="149" y="152"/>
                    <a:pt x="159" y="166"/>
                  </a:cubicBezTo>
                  <a:cubicBezTo>
                    <a:pt x="190" y="209"/>
                    <a:pt x="195" y="259"/>
                    <a:pt x="216" y="304"/>
                  </a:cubicBezTo>
                  <a:cubicBezTo>
                    <a:pt x="225" y="323"/>
                    <a:pt x="233" y="343"/>
                    <a:pt x="250" y="354"/>
                  </a:cubicBezTo>
                  <a:cubicBezTo>
                    <a:pt x="251" y="355"/>
                    <a:pt x="295" y="322"/>
                    <a:pt x="309" y="299"/>
                  </a:cubicBezTo>
                  <a:cubicBezTo>
                    <a:pt x="310" y="297"/>
                    <a:pt x="312" y="296"/>
                    <a:pt x="313" y="297"/>
                  </a:cubicBezTo>
                  <a:cubicBezTo>
                    <a:pt x="327" y="311"/>
                    <a:pt x="373" y="367"/>
                    <a:pt x="390" y="369"/>
                  </a:cubicBezTo>
                  <a:cubicBezTo>
                    <a:pt x="391" y="369"/>
                    <a:pt x="421" y="303"/>
                    <a:pt x="428" y="268"/>
                  </a:cubicBezTo>
                  <a:cubicBezTo>
                    <a:pt x="436" y="223"/>
                    <a:pt x="436" y="180"/>
                    <a:pt x="439" y="135"/>
                  </a:cubicBezTo>
                  <a:cubicBezTo>
                    <a:pt x="441" y="110"/>
                    <a:pt x="446" y="72"/>
                    <a:pt x="473" y="64"/>
                  </a:cubicBezTo>
                  <a:cubicBezTo>
                    <a:pt x="501" y="55"/>
                    <a:pt x="615" y="64"/>
                    <a:pt x="625" y="51"/>
                  </a:cubicBezTo>
                  <a:cubicBezTo>
                    <a:pt x="620" y="47"/>
                    <a:pt x="614" y="45"/>
                    <a:pt x="612" y="37"/>
                  </a:cubicBezTo>
                  <a:cubicBezTo>
                    <a:pt x="610" y="26"/>
                    <a:pt x="622" y="30"/>
                    <a:pt x="622" y="30"/>
                  </a:cubicBezTo>
                  <a:cubicBezTo>
                    <a:pt x="627" y="38"/>
                    <a:pt x="634" y="50"/>
                    <a:pt x="646" y="45"/>
                  </a:cubicBezTo>
                  <a:cubicBezTo>
                    <a:pt x="665" y="38"/>
                    <a:pt x="686" y="36"/>
                    <a:pt x="702" y="40"/>
                  </a:cubicBezTo>
                  <a:cubicBezTo>
                    <a:pt x="707" y="41"/>
                    <a:pt x="708" y="37"/>
                    <a:pt x="704" y="34"/>
                  </a:cubicBezTo>
                  <a:cubicBezTo>
                    <a:pt x="701" y="31"/>
                    <a:pt x="697" y="30"/>
                    <a:pt x="688" y="28"/>
                  </a:cubicBezTo>
                  <a:cubicBezTo>
                    <a:pt x="682" y="26"/>
                    <a:pt x="674" y="25"/>
                    <a:pt x="668" y="20"/>
                  </a:cubicBezTo>
                  <a:cubicBezTo>
                    <a:pt x="656" y="10"/>
                    <a:pt x="635" y="0"/>
                    <a:pt x="61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260"/>
          <p:cNvGrpSpPr/>
          <p:nvPr/>
        </p:nvGrpSpPr>
        <p:grpSpPr>
          <a:xfrm>
            <a:off x="36360" y="3348000"/>
            <a:ext cx="3962520" cy="2521080"/>
            <a:chOff x="36360" y="3348000"/>
            <a:chExt cx="3962520" cy="2521080"/>
          </a:xfrm>
        </p:grpSpPr>
        <p:sp>
          <p:nvSpPr>
            <p:cNvPr id="783" name="Freeform 205"/>
            <p:cNvSpPr/>
            <p:nvPr/>
          </p:nvSpPr>
          <p:spPr>
            <a:xfrm>
              <a:off x="58680" y="4545000"/>
              <a:ext cx="3940200" cy="1324080"/>
            </a:xfrm>
            <a:custGeom>
              <a:avLst/>
              <a:gdLst/>
              <a:ahLst/>
              <a:rect l="l" t="t" r="r" b="b"/>
              <a:pathLst>
                <a:path w="2482" h="834">
                  <a:moveTo>
                    <a:pt x="0" y="46"/>
                  </a:moveTo>
                  <a:cubicBezTo>
                    <a:pt x="70" y="42"/>
                    <a:pt x="84" y="51"/>
                    <a:pt x="138" y="115"/>
                  </a:cubicBezTo>
                  <a:cubicBezTo>
                    <a:pt x="191" y="180"/>
                    <a:pt x="256" y="331"/>
                    <a:pt x="320" y="434"/>
                  </a:cubicBezTo>
                  <a:cubicBezTo>
                    <a:pt x="384" y="538"/>
                    <a:pt x="455" y="675"/>
                    <a:pt x="526" y="736"/>
                  </a:cubicBezTo>
                  <a:cubicBezTo>
                    <a:pt x="597" y="797"/>
                    <a:pt x="559" y="834"/>
                    <a:pt x="749" y="796"/>
                  </a:cubicBezTo>
                  <a:cubicBezTo>
                    <a:pt x="939" y="758"/>
                    <a:pt x="1434" y="628"/>
                    <a:pt x="1663" y="512"/>
                  </a:cubicBezTo>
                  <a:cubicBezTo>
                    <a:pt x="1892" y="396"/>
                    <a:pt x="2046" y="182"/>
                    <a:pt x="2123" y="97"/>
                  </a:cubicBezTo>
                  <a:cubicBezTo>
                    <a:pt x="2200" y="12"/>
                    <a:pt x="2482" y="8"/>
                    <a:pt x="2128" y="0"/>
                  </a:cubicBezTo>
                  <a:lnTo>
                    <a:pt x="0" y="46"/>
                  </a:lnTo>
                  <a:close/>
                </a:path>
              </a:pathLst>
            </a:custGeom>
            <a:solidFill>
              <a:srgbClr val="9bc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"/>
            <p:cNvSpPr/>
            <p:nvPr/>
          </p:nvSpPr>
          <p:spPr>
            <a:xfrm>
              <a:off x="36360" y="3348000"/>
              <a:ext cx="3959280" cy="1292400"/>
            </a:xfrm>
            <a:custGeom>
              <a:avLst/>
              <a:gdLst/>
              <a:ahLst/>
              <a:rect l="l" t="t" r="r" b="b"/>
              <a:pathLst>
                <a:path w="2494" h="814">
                  <a:moveTo>
                    <a:pt x="0" y="814"/>
                  </a:moveTo>
                  <a:cubicBezTo>
                    <a:pt x="70" y="814"/>
                    <a:pt x="83" y="805"/>
                    <a:pt x="134" y="738"/>
                  </a:cubicBezTo>
                  <a:cubicBezTo>
                    <a:pt x="184" y="671"/>
                    <a:pt x="242" y="517"/>
                    <a:pt x="301" y="411"/>
                  </a:cubicBezTo>
                  <a:cubicBezTo>
                    <a:pt x="360" y="304"/>
                    <a:pt x="424" y="163"/>
                    <a:pt x="492" y="99"/>
                  </a:cubicBezTo>
                  <a:cubicBezTo>
                    <a:pt x="560" y="35"/>
                    <a:pt x="520" y="0"/>
                    <a:pt x="712" y="28"/>
                  </a:cubicBezTo>
                  <a:cubicBezTo>
                    <a:pt x="903" y="57"/>
                    <a:pt x="1390" y="158"/>
                    <a:pt x="1638" y="268"/>
                  </a:cubicBezTo>
                  <a:cubicBezTo>
                    <a:pt x="1886" y="378"/>
                    <a:pt x="2120" y="610"/>
                    <a:pt x="2201" y="691"/>
                  </a:cubicBezTo>
                  <a:cubicBezTo>
                    <a:pt x="2282" y="772"/>
                    <a:pt x="2494" y="737"/>
                    <a:pt x="2127" y="757"/>
                  </a:cubicBezTo>
                  <a:lnTo>
                    <a:pt x="0" y="814"/>
                  </a:lnTo>
                  <a:close/>
                </a:path>
              </a:pathLst>
            </a:custGeom>
            <a:solidFill>
              <a:srgbClr val="75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Oval 9"/>
          <p:cNvSpPr/>
          <p:nvPr/>
        </p:nvSpPr>
        <p:spPr>
          <a:xfrm>
            <a:off x="3997440" y="4495680"/>
            <a:ext cx="360360" cy="16524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65"/>
          <p:cNvGrpSpPr/>
          <p:nvPr/>
        </p:nvGrpSpPr>
        <p:grpSpPr>
          <a:xfrm>
            <a:off x="7770960" y="3765600"/>
            <a:ext cx="1441440" cy="592200"/>
            <a:chOff x="7770960" y="3765600"/>
            <a:chExt cx="1441440" cy="592200"/>
          </a:xfrm>
        </p:grpSpPr>
        <p:grpSp>
          <p:nvGrpSpPr>
            <p:cNvPr id="787" name="Group 345"/>
            <p:cNvGrpSpPr/>
            <p:nvPr/>
          </p:nvGrpSpPr>
          <p:grpSpPr>
            <a:xfrm>
              <a:off x="7770960" y="3892680"/>
              <a:ext cx="1020600" cy="465120"/>
              <a:chOff x="7770960" y="3892680"/>
              <a:chExt cx="1020600" cy="465120"/>
            </a:xfrm>
          </p:grpSpPr>
          <p:sp>
            <p:nvSpPr>
              <p:cNvPr id="788" name="Freeform 315"/>
              <p:cNvSpPr/>
              <p:nvPr/>
            </p:nvSpPr>
            <p:spPr>
              <a:xfrm>
                <a:off x="7770960" y="401004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27"/>
              <p:cNvSpPr/>
              <p:nvPr/>
            </p:nvSpPr>
            <p:spPr>
              <a:xfrm>
                <a:off x="7956720" y="3892680"/>
                <a:ext cx="152280" cy="11736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28"/>
              <p:cNvSpPr/>
              <p:nvPr/>
            </p:nvSpPr>
            <p:spPr>
              <a:xfrm>
                <a:off x="8107560" y="406584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29"/>
              <p:cNvSpPr/>
              <p:nvPr/>
            </p:nvSpPr>
            <p:spPr>
              <a:xfrm>
                <a:off x="8380440" y="411336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30"/>
              <p:cNvSpPr/>
              <p:nvPr/>
            </p:nvSpPr>
            <p:spPr>
              <a:xfrm>
                <a:off x="8639280" y="4240440"/>
                <a:ext cx="152280" cy="11736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Freeform 348"/>
            <p:cNvSpPr/>
            <p:nvPr/>
          </p:nvSpPr>
          <p:spPr>
            <a:xfrm>
              <a:off x="8450280" y="3882960"/>
              <a:ext cx="152280" cy="9396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349"/>
            <p:cNvSpPr/>
            <p:nvPr/>
          </p:nvSpPr>
          <p:spPr>
            <a:xfrm>
              <a:off x="8636040" y="376560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350"/>
            <p:cNvSpPr/>
            <p:nvPr/>
          </p:nvSpPr>
          <p:spPr>
            <a:xfrm>
              <a:off x="8786880" y="3938760"/>
              <a:ext cx="15228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351"/>
            <p:cNvSpPr/>
            <p:nvPr/>
          </p:nvSpPr>
          <p:spPr>
            <a:xfrm>
              <a:off x="9059760" y="3986280"/>
              <a:ext cx="15264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366"/>
          <p:cNvGrpSpPr/>
          <p:nvPr/>
        </p:nvGrpSpPr>
        <p:grpSpPr>
          <a:xfrm>
            <a:off x="7778880" y="3795840"/>
            <a:ext cx="1433520" cy="629640"/>
            <a:chOff x="7778880" y="3795840"/>
            <a:chExt cx="1433520" cy="629640"/>
          </a:xfrm>
        </p:grpSpPr>
        <p:grpSp>
          <p:nvGrpSpPr>
            <p:cNvPr id="798" name="Group 346"/>
            <p:cNvGrpSpPr/>
            <p:nvPr/>
          </p:nvGrpSpPr>
          <p:grpSpPr>
            <a:xfrm>
              <a:off x="7778880" y="3919680"/>
              <a:ext cx="1025640" cy="505800"/>
              <a:chOff x="7778880" y="3919680"/>
              <a:chExt cx="1025640" cy="505800"/>
            </a:xfrm>
          </p:grpSpPr>
          <p:sp>
            <p:nvSpPr>
              <p:cNvPr id="799" name="Freeform 336"/>
              <p:cNvSpPr/>
              <p:nvPr/>
            </p:nvSpPr>
            <p:spPr>
              <a:xfrm>
                <a:off x="8652240" y="433188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338"/>
              <p:cNvSpPr/>
              <p:nvPr/>
            </p:nvSpPr>
            <p:spPr>
              <a:xfrm>
                <a:off x="7778880" y="3919680"/>
                <a:ext cx="152640" cy="11700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341"/>
              <p:cNvSpPr/>
              <p:nvPr/>
            </p:nvSpPr>
            <p:spPr>
              <a:xfrm>
                <a:off x="8104320" y="3978000"/>
                <a:ext cx="152640" cy="11700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342"/>
              <p:cNvSpPr/>
              <p:nvPr/>
            </p:nvSpPr>
            <p:spPr>
              <a:xfrm>
                <a:off x="7966440" y="3987720"/>
                <a:ext cx="152280" cy="9324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343"/>
              <p:cNvSpPr/>
              <p:nvPr/>
            </p:nvSpPr>
            <p:spPr>
              <a:xfrm>
                <a:off x="8382240" y="4022640"/>
                <a:ext cx="152280" cy="11700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8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Freeform 361"/>
            <p:cNvSpPr/>
            <p:nvPr/>
          </p:nvSpPr>
          <p:spPr>
            <a:xfrm>
              <a:off x="8456760" y="379584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62"/>
            <p:cNvSpPr/>
            <p:nvPr/>
          </p:nvSpPr>
          <p:spPr>
            <a:xfrm>
              <a:off x="8782200" y="385452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63"/>
            <p:cNvSpPr/>
            <p:nvPr/>
          </p:nvSpPr>
          <p:spPr>
            <a:xfrm>
              <a:off x="8644320" y="3863880"/>
              <a:ext cx="15228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64"/>
            <p:cNvSpPr/>
            <p:nvPr/>
          </p:nvSpPr>
          <p:spPr>
            <a:xfrm>
              <a:off x="9060120" y="3898800"/>
              <a:ext cx="152280" cy="11772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378"/>
          <p:cNvGrpSpPr/>
          <p:nvPr/>
        </p:nvGrpSpPr>
        <p:grpSpPr>
          <a:xfrm>
            <a:off x="7812000" y="4916160"/>
            <a:ext cx="1441440" cy="592200"/>
            <a:chOff x="7812000" y="4916160"/>
            <a:chExt cx="1441440" cy="592200"/>
          </a:xfrm>
        </p:grpSpPr>
        <p:grpSp>
          <p:nvGrpSpPr>
            <p:cNvPr id="809" name="Group 379"/>
            <p:cNvGrpSpPr/>
            <p:nvPr/>
          </p:nvGrpSpPr>
          <p:grpSpPr>
            <a:xfrm>
              <a:off x="7812000" y="4916160"/>
              <a:ext cx="1020600" cy="465120"/>
              <a:chOff x="7812000" y="4916160"/>
              <a:chExt cx="1020600" cy="465120"/>
            </a:xfrm>
          </p:grpSpPr>
          <p:sp>
            <p:nvSpPr>
              <p:cNvPr id="810" name="Freeform 380"/>
              <p:cNvSpPr/>
              <p:nvPr/>
            </p:nvSpPr>
            <p:spPr>
              <a:xfrm flipV="1">
                <a:off x="7812000" y="517032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81"/>
              <p:cNvSpPr/>
              <p:nvPr/>
            </p:nvSpPr>
            <p:spPr>
              <a:xfrm flipV="1">
                <a:off x="7997760" y="5263920"/>
                <a:ext cx="152280" cy="11736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82"/>
              <p:cNvSpPr/>
              <p:nvPr/>
            </p:nvSpPr>
            <p:spPr>
              <a:xfrm flipV="1">
                <a:off x="8148600" y="511452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83"/>
              <p:cNvSpPr/>
              <p:nvPr/>
            </p:nvSpPr>
            <p:spPr>
              <a:xfrm flipV="1">
                <a:off x="8421480" y="5067000"/>
                <a:ext cx="152280" cy="93600"/>
              </a:xfrm>
              <a:custGeom>
                <a:avLst/>
                <a:gdLst/>
                <a:ahLst/>
                <a:rect l="l" t="t" r="r" b="b"/>
                <a:pathLst>
                  <a:path w="222" h="164">
                    <a:moveTo>
                      <a:pt x="87" y="9"/>
                    </a:moveTo>
                    <a:cubicBezTo>
                      <a:pt x="92" y="5"/>
                      <a:pt x="115" y="9"/>
                      <a:pt x="115" y="5"/>
                    </a:cubicBezTo>
                    <a:cubicBezTo>
                      <a:pt x="133" y="5"/>
                      <a:pt x="147" y="5"/>
                      <a:pt x="161" y="9"/>
                    </a:cubicBezTo>
                    <a:cubicBezTo>
                      <a:pt x="183" y="0"/>
                      <a:pt x="213" y="10"/>
                      <a:pt x="222" y="20"/>
                    </a:cubicBezTo>
                    <a:cubicBezTo>
                      <a:pt x="217" y="23"/>
                      <a:pt x="183" y="36"/>
                      <a:pt x="178" y="41"/>
                    </a:cubicBezTo>
                    <a:cubicBezTo>
                      <a:pt x="197" y="68"/>
                      <a:pt x="197" y="91"/>
                      <a:pt x="192" y="114"/>
                    </a:cubicBezTo>
                    <a:cubicBezTo>
                      <a:pt x="175" y="104"/>
                      <a:pt x="161" y="87"/>
                      <a:pt x="147" y="73"/>
                    </a:cubicBezTo>
                    <a:cubicBezTo>
                      <a:pt x="147" y="91"/>
                      <a:pt x="138" y="118"/>
                      <a:pt x="128" y="137"/>
                    </a:cubicBezTo>
                    <a:cubicBezTo>
                      <a:pt x="120" y="150"/>
                      <a:pt x="115" y="164"/>
                      <a:pt x="101" y="155"/>
                    </a:cubicBezTo>
                    <a:cubicBezTo>
                      <a:pt x="97" y="142"/>
                      <a:pt x="101" y="132"/>
                      <a:pt x="101" y="123"/>
                    </a:cubicBezTo>
                    <a:cubicBezTo>
                      <a:pt x="92" y="118"/>
                      <a:pt x="97" y="104"/>
                      <a:pt x="97" y="91"/>
                    </a:cubicBezTo>
                    <a:cubicBezTo>
                      <a:pt x="87" y="87"/>
                      <a:pt x="79" y="58"/>
                      <a:pt x="74" y="45"/>
                    </a:cubicBezTo>
                    <a:cubicBezTo>
                      <a:pt x="65" y="35"/>
                      <a:pt x="23" y="45"/>
                      <a:pt x="12" y="42"/>
                    </a:cubicBezTo>
                    <a:cubicBezTo>
                      <a:pt x="1" y="39"/>
                      <a:pt x="0" y="33"/>
                      <a:pt x="5" y="29"/>
                    </a:cubicBezTo>
                    <a:cubicBezTo>
                      <a:pt x="14" y="24"/>
                      <a:pt x="33" y="19"/>
                      <a:pt x="42" y="19"/>
                    </a:cubicBezTo>
                    <a:cubicBezTo>
                      <a:pt x="65" y="9"/>
                      <a:pt x="65" y="19"/>
                      <a:pt x="87" y="9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84"/>
              <p:cNvSpPr/>
              <p:nvPr/>
            </p:nvSpPr>
            <p:spPr>
              <a:xfrm flipV="1">
                <a:off x="8680320" y="4916160"/>
                <a:ext cx="152280" cy="117360"/>
              </a:xfrm>
              <a:custGeom>
                <a:avLst/>
                <a:gdLst/>
                <a:ahLst/>
                <a:rect l="l" t="t" r="r" b="b"/>
                <a:pathLst>
                  <a:path w="96" h="74">
                    <a:moveTo>
                      <a:pt x="79" y="0"/>
                    </a:moveTo>
                    <a:lnTo>
                      <a:pt x="81" y="1"/>
                    </a:lnTo>
                    <a:lnTo>
                      <a:pt x="81" y="3"/>
                    </a:lnTo>
                    <a:lnTo>
                      <a:pt x="81" y="17"/>
                    </a:lnTo>
                    <a:lnTo>
                      <a:pt x="80" y="30"/>
                    </a:lnTo>
                    <a:lnTo>
                      <a:pt x="79" y="43"/>
                    </a:lnTo>
                    <a:lnTo>
                      <a:pt x="78" y="49"/>
                    </a:lnTo>
                    <a:lnTo>
                      <a:pt x="76" y="56"/>
                    </a:lnTo>
                    <a:lnTo>
                      <a:pt x="77" y="57"/>
                    </a:lnTo>
                    <a:lnTo>
                      <a:pt x="79" y="58"/>
                    </a:lnTo>
                    <a:lnTo>
                      <a:pt x="82" y="59"/>
                    </a:lnTo>
                    <a:lnTo>
                      <a:pt x="85" y="60"/>
                    </a:lnTo>
                    <a:lnTo>
                      <a:pt x="88" y="61"/>
                    </a:lnTo>
                    <a:lnTo>
                      <a:pt x="91" y="62"/>
                    </a:lnTo>
                    <a:lnTo>
                      <a:pt x="94" y="64"/>
                    </a:lnTo>
                    <a:lnTo>
                      <a:pt x="96" y="66"/>
                    </a:lnTo>
                    <a:lnTo>
                      <a:pt x="89" y="66"/>
                    </a:lnTo>
                    <a:lnTo>
                      <a:pt x="82" y="67"/>
                    </a:lnTo>
                    <a:lnTo>
                      <a:pt x="75" y="69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55" y="73"/>
                    </a:lnTo>
                    <a:lnTo>
                      <a:pt x="48" y="73"/>
                    </a:lnTo>
                    <a:lnTo>
                      <a:pt x="40" y="74"/>
                    </a:lnTo>
                    <a:lnTo>
                      <a:pt x="36" y="73"/>
                    </a:lnTo>
                    <a:lnTo>
                      <a:pt x="33" y="73"/>
                    </a:lnTo>
                    <a:lnTo>
                      <a:pt x="30" y="73"/>
                    </a:lnTo>
                    <a:lnTo>
                      <a:pt x="0" y="73"/>
                    </a:lnTo>
                    <a:lnTo>
                      <a:pt x="8" y="67"/>
                    </a:lnTo>
                    <a:lnTo>
                      <a:pt x="11" y="66"/>
                    </a:lnTo>
                    <a:lnTo>
                      <a:pt x="14" y="65"/>
                    </a:lnTo>
                    <a:lnTo>
                      <a:pt x="18" y="64"/>
                    </a:lnTo>
                    <a:lnTo>
                      <a:pt x="21" y="64"/>
                    </a:lnTo>
                    <a:lnTo>
                      <a:pt x="27" y="63"/>
                    </a:lnTo>
                    <a:lnTo>
                      <a:pt x="30" y="62"/>
                    </a:lnTo>
                    <a:lnTo>
                      <a:pt x="32" y="61"/>
                    </a:lnTo>
                    <a:lnTo>
                      <a:pt x="35" y="59"/>
                    </a:lnTo>
                    <a:lnTo>
                      <a:pt x="37" y="57"/>
                    </a:lnTo>
                    <a:lnTo>
                      <a:pt x="35" y="53"/>
                    </a:lnTo>
                    <a:lnTo>
                      <a:pt x="33" y="50"/>
                    </a:lnTo>
                    <a:lnTo>
                      <a:pt x="32" y="46"/>
                    </a:lnTo>
                    <a:lnTo>
                      <a:pt x="31" y="43"/>
                    </a:lnTo>
                    <a:lnTo>
                      <a:pt x="42" y="43"/>
                    </a:lnTo>
                    <a:lnTo>
                      <a:pt x="47" y="44"/>
                    </a:lnTo>
                    <a:lnTo>
                      <a:pt x="52" y="46"/>
                    </a:lnTo>
                    <a:lnTo>
                      <a:pt x="53" y="43"/>
                    </a:lnTo>
                    <a:lnTo>
                      <a:pt x="54" y="39"/>
                    </a:lnTo>
                    <a:lnTo>
                      <a:pt x="56" y="35"/>
                    </a:lnTo>
                    <a:lnTo>
                      <a:pt x="57" y="30"/>
                    </a:lnTo>
                    <a:lnTo>
                      <a:pt x="60" y="20"/>
                    </a:lnTo>
                    <a:lnTo>
                      <a:pt x="61" y="15"/>
                    </a:lnTo>
                    <a:lnTo>
                      <a:pt x="63" y="11"/>
                    </a:lnTo>
                    <a:lnTo>
                      <a:pt x="66" y="7"/>
                    </a:lnTo>
                    <a:lnTo>
                      <a:pt x="70" y="3"/>
                    </a:lnTo>
                    <a:lnTo>
                      <a:pt x="75" y="1"/>
                    </a:lnTo>
                    <a:lnTo>
                      <a:pt x="77" y="0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Freeform 385"/>
            <p:cNvSpPr/>
            <p:nvPr/>
          </p:nvSpPr>
          <p:spPr>
            <a:xfrm flipV="1">
              <a:off x="8491320" y="5296680"/>
              <a:ext cx="152280" cy="9396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386"/>
            <p:cNvSpPr/>
            <p:nvPr/>
          </p:nvSpPr>
          <p:spPr>
            <a:xfrm flipV="1">
              <a:off x="8677080" y="5391000"/>
              <a:ext cx="152280" cy="11736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79" y="0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81" y="17"/>
                  </a:lnTo>
                  <a:lnTo>
                    <a:pt x="80" y="30"/>
                  </a:lnTo>
                  <a:lnTo>
                    <a:pt x="79" y="43"/>
                  </a:lnTo>
                  <a:lnTo>
                    <a:pt x="78" y="49"/>
                  </a:lnTo>
                  <a:lnTo>
                    <a:pt x="76" y="56"/>
                  </a:lnTo>
                  <a:lnTo>
                    <a:pt x="77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5" y="60"/>
                  </a:lnTo>
                  <a:lnTo>
                    <a:pt x="88" y="61"/>
                  </a:lnTo>
                  <a:lnTo>
                    <a:pt x="91" y="62"/>
                  </a:lnTo>
                  <a:lnTo>
                    <a:pt x="94" y="64"/>
                  </a:lnTo>
                  <a:lnTo>
                    <a:pt x="96" y="66"/>
                  </a:lnTo>
                  <a:lnTo>
                    <a:pt x="89" y="66"/>
                  </a:lnTo>
                  <a:lnTo>
                    <a:pt x="82" y="67"/>
                  </a:lnTo>
                  <a:lnTo>
                    <a:pt x="75" y="69"/>
                  </a:lnTo>
                  <a:lnTo>
                    <a:pt x="71" y="70"/>
                  </a:lnTo>
                  <a:lnTo>
                    <a:pt x="69" y="71"/>
                  </a:lnTo>
                  <a:lnTo>
                    <a:pt x="55" y="73"/>
                  </a:lnTo>
                  <a:lnTo>
                    <a:pt x="48" y="73"/>
                  </a:lnTo>
                  <a:lnTo>
                    <a:pt x="40" y="74"/>
                  </a:lnTo>
                  <a:lnTo>
                    <a:pt x="36" y="73"/>
                  </a:lnTo>
                  <a:lnTo>
                    <a:pt x="33" y="73"/>
                  </a:lnTo>
                  <a:lnTo>
                    <a:pt x="30" y="73"/>
                  </a:lnTo>
                  <a:lnTo>
                    <a:pt x="0" y="73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4" y="65"/>
                  </a:lnTo>
                  <a:lnTo>
                    <a:pt x="18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0" y="62"/>
                  </a:lnTo>
                  <a:lnTo>
                    <a:pt x="32" y="61"/>
                  </a:lnTo>
                  <a:lnTo>
                    <a:pt x="35" y="59"/>
                  </a:lnTo>
                  <a:lnTo>
                    <a:pt x="37" y="57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2" y="46"/>
                  </a:lnTo>
                  <a:lnTo>
                    <a:pt x="31" y="43"/>
                  </a:lnTo>
                  <a:lnTo>
                    <a:pt x="42" y="43"/>
                  </a:lnTo>
                  <a:lnTo>
                    <a:pt x="47" y="44"/>
                  </a:lnTo>
                  <a:lnTo>
                    <a:pt x="52" y="46"/>
                  </a:lnTo>
                  <a:lnTo>
                    <a:pt x="53" y="43"/>
                  </a:lnTo>
                  <a:lnTo>
                    <a:pt x="54" y="39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0" y="20"/>
                  </a:lnTo>
                  <a:lnTo>
                    <a:pt x="61" y="15"/>
                  </a:lnTo>
                  <a:lnTo>
                    <a:pt x="63" y="11"/>
                  </a:lnTo>
                  <a:lnTo>
                    <a:pt x="66" y="7"/>
                  </a:lnTo>
                  <a:lnTo>
                    <a:pt x="70" y="3"/>
                  </a:lnTo>
                  <a:lnTo>
                    <a:pt x="75" y="1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87"/>
            <p:cNvSpPr/>
            <p:nvPr/>
          </p:nvSpPr>
          <p:spPr>
            <a:xfrm flipV="1">
              <a:off x="8827920" y="5241600"/>
              <a:ext cx="15228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88"/>
            <p:cNvSpPr/>
            <p:nvPr/>
          </p:nvSpPr>
          <p:spPr>
            <a:xfrm flipV="1">
              <a:off x="9100800" y="5194080"/>
              <a:ext cx="152640" cy="93600"/>
            </a:xfrm>
            <a:custGeom>
              <a:avLst/>
              <a:gdLst/>
              <a:ahLst/>
              <a:rect l="l" t="t" r="r" b="b"/>
              <a:pathLst>
                <a:path w="222" h="164">
                  <a:moveTo>
                    <a:pt x="87" y="9"/>
                  </a:moveTo>
                  <a:cubicBezTo>
                    <a:pt x="92" y="5"/>
                    <a:pt x="115" y="9"/>
                    <a:pt x="115" y="5"/>
                  </a:cubicBezTo>
                  <a:cubicBezTo>
                    <a:pt x="133" y="5"/>
                    <a:pt x="147" y="5"/>
                    <a:pt x="161" y="9"/>
                  </a:cubicBezTo>
                  <a:cubicBezTo>
                    <a:pt x="183" y="0"/>
                    <a:pt x="213" y="10"/>
                    <a:pt x="222" y="20"/>
                  </a:cubicBezTo>
                  <a:cubicBezTo>
                    <a:pt x="217" y="23"/>
                    <a:pt x="183" y="36"/>
                    <a:pt x="178" y="41"/>
                  </a:cubicBezTo>
                  <a:cubicBezTo>
                    <a:pt x="197" y="68"/>
                    <a:pt x="197" y="91"/>
                    <a:pt x="192" y="114"/>
                  </a:cubicBezTo>
                  <a:cubicBezTo>
                    <a:pt x="175" y="104"/>
                    <a:pt x="161" y="87"/>
                    <a:pt x="147" y="73"/>
                  </a:cubicBezTo>
                  <a:cubicBezTo>
                    <a:pt x="147" y="91"/>
                    <a:pt x="138" y="118"/>
                    <a:pt x="128" y="137"/>
                  </a:cubicBezTo>
                  <a:cubicBezTo>
                    <a:pt x="120" y="150"/>
                    <a:pt x="115" y="164"/>
                    <a:pt x="101" y="155"/>
                  </a:cubicBezTo>
                  <a:cubicBezTo>
                    <a:pt x="97" y="142"/>
                    <a:pt x="101" y="132"/>
                    <a:pt x="101" y="123"/>
                  </a:cubicBezTo>
                  <a:cubicBezTo>
                    <a:pt x="92" y="118"/>
                    <a:pt x="97" y="104"/>
                    <a:pt x="97" y="91"/>
                  </a:cubicBezTo>
                  <a:cubicBezTo>
                    <a:pt x="87" y="87"/>
                    <a:pt x="79" y="58"/>
                    <a:pt x="74" y="45"/>
                  </a:cubicBezTo>
                  <a:cubicBezTo>
                    <a:pt x="65" y="35"/>
                    <a:pt x="23" y="45"/>
                    <a:pt x="12" y="42"/>
                  </a:cubicBezTo>
                  <a:cubicBezTo>
                    <a:pt x="1" y="39"/>
                    <a:pt x="0" y="33"/>
                    <a:pt x="5" y="29"/>
                  </a:cubicBezTo>
                  <a:cubicBezTo>
                    <a:pt x="14" y="24"/>
                    <a:pt x="33" y="19"/>
                    <a:pt x="42" y="19"/>
                  </a:cubicBezTo>
                  <a:cubicBezTo>
                    <a:pt x="65" y="9"/>
                    <a:pt x="65" y="19"/>
                    <a:pt x="87" y="9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Oval 389"/>
          <p:cNvSpPr/>
          <p:nvPr/>
        </p:nvSpPr>
        <p:spPr>
          <a:xfrm>
            <a:off x="4818240" y="4246560"/>
            <a:ext cx="360360" cy="16524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396" descr="D副本"/>
          <p:cNvPicPr/>
          <p:nvPr/>
        </p:nvPicPr>
        <p:blipFill>
          <a:blip r:embed="rId1"/>
          <a:stretch/>
        </p:blipFill>
        <p:spPr>
          <a:xfrm>
            <a:off x="12407760" y="5076720"/>
            <a:ext cx="273240" cy="3366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94" descr="D副本"/>
          <p:cNvPicPr/>
          <p:nvPr/>
        </p:nvPicPr>
        <p:blipFill>
          <a:blip r:embed="rId2"/>
          <a:stretch/>
        </p:blipFill>
        <p:spPr>
          <a:xfrm>
            <a:off x="12133440" y="5067360"/>
            <a:ext cx="395280" cy="487440"/>
          </a:xfrm>
          <a:prstGeom prst="rect">
            <a:avLst/>
          </a:prstGeom>
          <a:ln w="0">
            <a:noFill/>
          </a:ln>
        </p:spPr>
      </p:pic>
      <p:sp>
        <p:nvSpPr>
          <p:cNvPr id="822" name="Oval 397"/>
          <p:cNvSpPr/>
          <p:nvPr/>
        </p:nvSpPr>
        <p:spPr>
          <a:xfrm>
            <a:off x="4459320" y="4272120"/>
            <a:ext cx="360360" cy="16488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399"/>
          <p:cNvSpPr/>
          <p:nvPr/>
        </p:nvSpPr>
        <p:spPr>
          <a:xfrm>
            <a:off x="11773080" y="5005440"/>
            <a:ext cx="360360" cy="16488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400"/>
          <p:cNvSpPr/>
          <p:nvPr/>
        </p:nvSpPr>
        <p:spPr>
          <a:xfrm>
            <a:off x="11414160" y="5030640"/>
            <a:ext cx="360360" cy="16524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623"/>
          <p:cNvGrpSpPr/>
          <p:nvPr/>
        </p:nvGrpSpPr>
        <p:grpSpPr>
          <a:xfrm>
            <a:off x="11801520" y="4495680"/>
            <a:ext cx="330840" cy="1007280"/>
            <a:chOff x="11801520" y="4495680"/>
            <a:chExt cx="330840" cy="1007280"/>
          </a:xfrm>
        </p:grpSpPr>
        <p:sp>
          <p:nvSpPr>
            <p:cNvPr id="826" name="Freeform 404"/>
            <p:cNvSpPr/>
            <p:nvPr/>
          </p:nvSpPr>
          <p:spPr>
            <a:xfrm>
              <a:off x="11801520" y="4495680"/>
              <a:ext cx="329760" cy="5000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7" name="Group 622"/>
            <p:cNvGrpSpPr/>
            <p:nvPr/>
          </p:nvGrpSpPr>
          <p:grpSpPr>
            <a:xfrm>
              <a:off x="11815560" y="4507560"/>
              <a:ext cx="298440" cy="491760"/>
              <a:chOff x="11815560" y="4507560"/>
              <a:chExt cx="298440" cy="491760"/>
            </a:xfrm>
          </p:grpSpPr>
          <p:sp>
            <p:nvSpPr>
              <p:cNvPr id="828" name="Freeform 405"/>
              <p:cNvSpPr/>
              <p:nvPr/>
            </p:nvSpPr>
            <p:spPr>
              <a:xfrm>
                <a:off x="11997720" y="451368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06"/>
              <p:cNvSpPr/>
              <p:nvPr/>
            </p:nvSpPr>
            <p:spPr>
              <a:xfrm>
                <a:off x="11995920" y="45280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07"/>
              <p:cNvSpPr/>
              <p:nvPr/>
            </p:nvSpPr>
            <p:spPr>
              <a:xfrm>
                <a:off x="11985480" y="453456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408"/>
              <p:cNvSpPr/>
              <p:nvPr/>
            </p:nvSpPr>
            <p:spPr>
              <a:xfrm>
                <a:off x="11983320" y="454500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409"/>
              <p:cNvSpPr/>
              <p:nvPr/>
            </p:nvSpPr>
            <p:spPr>
              <a:xfrm>
                <a:off x="11981520" y="455292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410"/>
              <p:cNvSpPr/>
              <p:nvPr/>
            </p:nvSpPr>
            <p:spPr>
              <a:xfrm>
                <a:off x="11981520" y="4561560"/>
                <a:ext cx="43200" cy="2916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411"/>
              <p:cNvSpPr/>
              <p:nvPr/>
            </p:nvSpPr>
            <p:spPr>
              <a:xfrm>
                <a:off x="11985480" y="4565880"/>
                <a:ext cx="41040" cy="3276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412"/>
              <p:cNvSpPr/>
              <p:nvPr/>
            </p:nvSpPr>
            <p:spPr>
              <a:xfrm>
                <a:off x="11989440" y="4582080"/>
                <a:ext cx="45360" cy="309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413"/>
              <p:cNvSpPr/>
              <p:nvPr/>
            </p:nvSpPr>
            <p:spPr>
              <a:xfrm>
                <a:off x="11987640" y="457380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414"/>
              <p:cNvSpPr/>
              <p:nvPr/>
            </p:nvSpPr>
            <p:spPr>
              <a:xfrm>
                <a:off x="11997720" y="46177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415"/>
              <p:cNvSpPr/>
              <p:nvPr/>
            </p:nvSpPr>
            <p:spPr>
              <a:xfrm>
                <a:off x="12002040" y="46400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416"/>
              <p:cNvSpPr/>
              <p:nvPr/>
            </p:nvSpPr>
            <p:spPr>
              <a:xfrm>
                <a:off x="11999880" y="46278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417"/>
              <p:cNvSpPr/>
              <p:nvPr/>
            </p:nvSpPr>
            <p:spPr>
              <a:xfrm>
                <a:off x="11993760" y="459684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418"/>
              <p:cNvSpPr/>
              <p:nvPr/>
            </p:nvSpPr>
            <p:spPr>
              <a:xfrm>
                <a:off x="11991600" y="458820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419"/>
              <p:cNvSpPr/>
              <p:nvPr/>
            </p:nvSpPr>
            <p:spPr>
              <a:xfrm>
                <a:off x="12006360" y="464868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420"/>
              <p:cNvSpPr/>
              <p:nvPr/>
            </p:nvSpPr>
            <p:spPr>
              <a:xfrm>
                <a:off x="12083040" y="4627800"/>
                <a:ext cx="30960" cy="331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421"/>
              <p:cNvSpPr/>
              <p:nvPr/>
            </p:nvSpPr>
            <p:spPr>
              <a:xfrm>
                <a:off x="12045240" y="468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422"/>
              <p:cNvSpPr/>
              <p:nvPr/>
            </p:nvSpPr>
            <p:spPr>
              <a:xfrm>
                <a:off x="12047760" y="4679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423"/>
              <p:cNvSpPr/>
              <p:nvPr/>
            </p:nvSpPr>
            <p:spPr>
              <a:xfrm>
                <a:off x="12043440" y="46839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424"/>
              <p:cNvSpPr/>
              <p:nvPr/>
            </p:nvSpPr>
            <p:spPr>
              <a:xfrm>
                <a:off x="12074400" y="46569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425"/>
              <p:cNvSpPr/>
              <p:nvPr/>
            </p:nvSpPr>
            <p:spPr>
              <a:xfrm>
                <a:off x="12068280" y="46652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426"/>
              <p:cNvSpPr/>
              <p:nvPr/>
            </p:nvSpPr>
            <p:spPr>
              <a:xfrm>
                <a:off x="12070440" y="46630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27"/>
              <p:cNvSpPr/>
              <p:nvPr/>
            </p:nvSpPr>
            <p:spPr>
              <a:xfrm>
                <a:off x="12062160" y="466920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428"/>
              <p:cNvSpPr/>
              <p:nvPr/>
            </p:nvSpPr>
            <p:spPr>
              <a:xfrm>
                <a:off x="12066480" y="466740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429"/>
              <p:cNvSpPr/>
              <p:nvPr/>
            </p:nvSpPr>
            <p:spPr>
              <a:xfrm>
                <a:off x="12058200" y="46717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430"/>
              <p:cNvSpPr/>
              <p:nvPr/>
            </p:nvSpPr>
            <p:spPr>
              <a:xfrm>
                <a:off x="12052080" y="467784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431"/>
              <p:cNvSpPr/>
              <p:nvPr/>
            </p:nvSpPr>
            <p:spPr>
              <a:xfrm>
                <a:off x="12053880" y="4675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32"/>
              <p:cNvSpPr/>
              <p:nvPr/>
            </p:nvSpPr>
            <p:spPr>
              <a:xfrm>
                <a:off x="11896200" y="4561560"/>
                <a:ext cx="72360" cy="2664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433"/>
              <p:cNvSpPr/>
              <p:nvPr/>
            </p:nvSpPr>
            <p:spPr>
              <a:xfrm>
                <a:off x="11900520" y="457812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434"/>
              <p:cNvSpPr/>
              <p:nvPr/>
            </p:nvSpPr>
            <p:spPr>
              <a:xfrm>
                <a:off x="11902320" y="4586400"/>
                <a:ext cx="7272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435"/>
              <p:cNvSpPr/>
              <p:nvPr/>
            </p:nvSpPr>
            <p:spPr>
              <a:xfrm>
                <a:off x="11904840" y="459252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436"/>
              <p:cNvSpPr/>
              <p:nvPr/>
            </p:nvSpPr>
            <p:spPr>
              <a:xfrm>
                <a:off x="11908440" y="4598640"/>
                <a:ext cx="72720" cy="2052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437"/>
              <p:cNvSpPr/>
              <p:nvPr/>
            </p:nvSpPr>
            <p:spPr>
              <a:xfrm>
                <a:off x="11912760" y="4607280"/>
                <a:ext cx="7272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438"/>
              <p:cNvSpPr/>
              <p:nvPr/>
            </p:nvSpPr>
            <p:spPr>
              <a:xfrm>
                <a:off x="11923200" y="4636440"/>
                <a:ext cx="70200" cy="2052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439"/>
              <p:cNvSpPr/>
              <p:nvPr/>
            </p:nvSpPr>
            <p:spPr>
              <a:xfrm>
                <a:off x="11917080" y="462996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440"/>
              <p:cNvSpPr/>
              <p:nvPr/>
            </p:nvSpPr>
            <p:spPr>
              <a:xfrm>
                <a:off x="11915280" y="462168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441"/>
              <p:cNvSpPr/>
              <p:nvPr/>
            </p:nvSpPr>
            <p:spPr>
              <a:xfrm>
                <a:off x="11915280" y="4615560"/>
                <a:ext cx="72360" cy="1836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442"/>
              <p:cNvSpPr/>
              <p:nvPr/>
            </p:nvSpPr>
            <p:spPr>
              <a:xfrm>
                <a:off x="11937600" y="46612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443"/>
              <p:cNvSpPr/>
              <p:nvPr/>
            </p:nvSpPr>
            <p:spPr>
              <a:xfrm>
                <a:off x="11933280" y="4653000"/>
                <a:ext cx="60120" cy="1620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444"/>
              <p:cNvSpPr/>
              <p:nvPr/>
            </p:nvSpPr>
            <p:spPr>
              <a:xfrm>
                <a:off x="11943720" y="4669200"/>
                <a:ext cx="47880" cy="291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445"/>
              <p:cNvSpPr/>
              <p:nvPr/>
            </p:nvSpPr>
            <p:spPr>
              <a:xfrm>
                <a:off x="11929320" y="4644360"/>
                <a:ext cx="64440" cy="1872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446"/>
              <p:cNvSpPr/>
              <p:nvPr/>
            </p:nvSpPr>
            <p:spPr>
              <a:xfrm>
                <a:off x="11896200" y="4507560"/>
                <a:ext cx="66240" cy="5832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447"/>
              <p:cNvSpPr/>
              <p:nvPr/>
            </p:nvSpPr>
            <p:spPr>
              <a:xfrm>
                <a:off x="11896200" y="4552920"/>
                <a:ext cx="68040" cy="205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448"/>
              <p:cNvSpPr/>
              <p:nvPr/>
            </p:nvSpPr>
            <p:spPr>
              <a:xfrm>
                <a:off x="11981520" y="4714920"/>
                <a:ext cx="120240" cy="6444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449"/>
              <p:cNvSpPr/>
              <p:nvPr/>
            </p:nvSpPr>
            <p:spPr>
              <a:xfrm>
                <a:off x="11981520" y="4740120"/>
                <a:ext cx="7920" cy="309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450"/>
              <p:cNvSpPr/>
              <p:nvPr/>
            </p:nvSpPr>
            <p:spPr>
              <a:xfrm>
                <a:off x="11940120" y="4740120"/>
                <a:ext cx="32760" cy="8676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451"/>
              <p:cNvSpPr/>
              <p:nvPr/>
            </p:nvSpPr>
            <p:spPr>
              <a:xfrm>
                <a:off x="11871360" y="460728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452"/>
              <p:cNvSpPr/>
              <p:nvPr/>
            </p:nvSpPr>
            <p:spPr>
              <a:xfrm>
                <a:off x="11921040" y="467964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453"/>
              <p:cNvSpPr/>
              <p:nvPr/>
            </p:nvSpPr>
            <p:spPr>
              <a:xfrm>
                <a:off x="11917080" y="467784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454"/>
              <p:cNvSpPr/>
              <p:nvPr/>
            </p:nvSpPr>
            <p:spPr>
              <a:xfrm>
                <a:off x="11915280" y="467532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455"/>
              <p:cNvSpPr/>
              <p:nvPr/>
            </p:nvSpPr>
            <p:spPr>
              <a:xfrm>
                <a:off x="11925360" y="468216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456"/>
              <p:cNvSpPr/>
              <p:nvPr/>
            </p:nvSpPr>
            <p:spPr>
              <a:xfrm>
                <a:off x="11896200" y="465912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457"/>
              <p:cNvSpPr/>
              <p:nvPr/>
            </p:nvSpPr>
            <p:spPr>
              <a:xfrm>
                <a:off x="11896200" y="466128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458"/>
              <p:cNvSpPr/>
              <p:nvPr/>
            </p:nvSpPr>
            <p:spPr>
              <a:xfrm>
                <a:off x="11902320" y="466920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59"/>
              <p:cNvSpPr/>
              <p:nvPr/>
            </p:nvSpPr>
            <p:spPr>
              <a:xfrm>
                <a:off x="11900520" y="466524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460"/>
              <p:cNvSpPr/>
              <p:nvPr/>
            </p:nvSpPr>
            <p:spPr>
              <a:xfrm>
                <a:off x="11900520" y="4665240"/>
                <a:ext cx="18000" cy="126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461"/>
              <p:cNvSpPr/>
              <p:nvPr/>
            </p:nvSpPr>
            <p:spPr>
              <a:xfrm>
                <a:off x="11894400" y="465696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62"/>
              <p:cNvSpPr/>
              <p:nvPr/>
            </p:nvSpPr>
            <p:spPr>
              <a:xfrm>
                <a:off x="11898000" y="4663080"/>
                <a:ext cx="16920" cy="100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63"/>
              <p:cNvSpPr/>
              <p:nvPr/>
            </p:nvSpPr>
            <p:spPr>
              <a:xfrm>
                <a:off x="11890080" y="465300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64"/>
              <p:cNvSpPr/>
              <p:nvPr/>
            </p:nvSpPr>
            <p:spPr>
              <a:xfrm>
                <a:off x="11891880" y="46548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65"/>
              <p:cNvSpPr/>
              <p:nvPr/>
            </p:nvSpPr>
            <p:spPr>
              <a:xfrm>
                <a:off x="11910960" y="4673520"/>
                <a:ext cx="14400" cy="82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66"/>
              <p:cNvSpPr/>
              <p:nvPr/>
            </p:nvSpPr>
            <p:spPr>
              <a:xfrm>
                <a:off x="11906640" y="467172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67"/>
              <p:cNvSpPr/>
              <p:nvPr/>
            </p:nvSpPr>
            <p:spPr>
              <a:xfrm>
                <a:off x="11846520" y="466524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68"/>
              <p:cNvSpPr/>
              <p:nvPr/>
            </p:nvSpPr>
            <p:spPr>
              <a:xfrm>
                <a:off x="11837880" y="466308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69"/>
              <p:cNvSpPr/>
              <p:nvPr/>
            </p:nvSpPr>
            <p:spPr>
              <a:xfrm>
                <a:off x="11850480" y="466740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70"/>
              <p:cNvSpPr/>
              <p:nvPr/>
            </p:nvSpPr>
            <p:spPr>
              <a:xfrm>
                <a:off x="11854800" y="46692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71"/>
              <p:cNvSpPr/>
              <p:nvPr/>
            </p:nvSpPr>
            <p:spPr>
              <a:xfrm>
                <a:off x="11859120" y="466920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72"/>
              <p:cNvSpPr/>
              <p:nvPr/>
            </p:nvSpPr>
            <p:spPr>
              <a:xfrm>
                <a:off x="11880000" y="467964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73"/>
              <p:cNvSpPr/>
              <p:nvPr/>
            </p:nvSpPr>
            <p:spPr>
              <a:xfrm>
                <a:off x="11875680" y="4677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74"/>
              <p:cNvSpPr/>
              <p:nvPr/>
            </p:nvSpPr>
            <p:spPr>
              <a:xfrm>
                <a:off x="11869560" y="4675320"/>
                <a:ext cx="7920" cy="21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75"/>
              <p:cNvSpPr/>
              <p:nvPr/>
            </p:nvSpPr>
            <p:spPr>
              <a:xfrm>
                <a:off x="11862720" y="467172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476"/>
              <p:cNvSpPr/>
              <p:nvPr/>
            </p:nvSpPr>
            <p:spPr>
              <a:xfrm>
                <a:off x="11865240" y="4667400"/>
                <a:ext cx="10080" cy="61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477"/>
              <p:cNvSpPr/>
              <p:nvPr/>
            </p:nvSpPr>
            <p:spPr>
              <a:xfrm>
                <a:off x="11856600" y="46652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478"/>
              <p:cNvSpPr/>
              <p:nvPr/>
            </p:nvSpPr>
            <p:spPr>
              <a:xfrm>
                <a:off x="11831760" y="4654800"/>
                <a:ext cx="16920" cy="82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479"/>
              <p:cNvSpPr/>
              <p:nvPr/>
            </p:nvSpPr>
            <p:spPr>
              <a:xfrm>
                <a:off x="11840400" y="4659120"/>
                <a:ext cx="16200" cy="612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480"/>
              <p:cNvSpPr/>
              <p:nvPr/>
            </p:nvSpPr>
            <p:spPr>
              <a:xfrm>
                <a:off x="11848680" y="466128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481"/>
              <p:cNvSpPr/>
              <p:nvPr/>
            </p:nvSpPr>
            <p:spPr>
              <a:xfrm>
                <a:off x="11871360" y="467172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482"/>
              <p:cNvSpPr/>
              <p:nvPr/>
            </p:nvSpPr>
            <p:spPr>
              <a:xfrm>
                <a:off x="11825640" y="465300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483"/>
              <p:cNvSpPr/>
              <p:nvPr/>
            </p:nvSpPr>
            <p:spPr>
              <a:xfrm>
                <a:off x="11815560" y="465084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484"/>
              <p:cNvSpPr/>
              <p:nvPr/>
            </p:nvSpPr>
            <p:spPr>
              <a:xfrm>
                <a:off x="11883600" y="467784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485"/>
              <p:cNvSpPr/>
              <p:nvPr/>
            </p:nvSpPr>
            <p:spPr>
              <a:xfrm>
                <a:off x="11877480" y="46735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86"/>
              <p:cNvSpPr/>
              <p:nvPr/>
            </p:nvSpPr>
            <p:spPr>
              <a:xfrm>
                <a:off x="11894400" y="468576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87"/>
              <p:cNvSpPr/>
              <p:nvPr/>
            </p:nvSpPr>
            <p:spPr>
              <a:xfrm>
                <a:off x="11887920" y="46821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488"/>
              <p:cNvSpPr/>
              <p:nvPr/>
            </p:nvSpPr>
            <p:spPr>
              <a:xfrm>
                <a:off x="11908440" y="4692240"/>
                <a:ext cx="12600" cy="612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489"/>
              <p:cNvSpPr/>
              <p:nvPr/>
            </p:nvSpPr>
            <p:spPr>
              <a:xfrm>
                <a:off x="11900520" y="469008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490"/>
              <p:cNvSpPr/>
              <p:nvPr/>
            </p:nvSpPr>
            <p:spPr>
              <a:xfrm>
                <a:off x="11917080" y="469440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491"/>
              <p:cNvSpPr/>
              <p:nvPr/>
            </p:nvSpPr>
            <p:spPr>
              <a:xfrm>
                <a:off x="11881800" y="468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492"/>
              <p:cNvSpPr/>
              <p:nvPr/>
            </p:nvSpPr>
            <p:spPr>
              <a:xfrm>
                <a:off x="11871360" y="4719240"/>
                <a:ext cx="101520" cy="76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493"/>
              <p:cNvSpPr/>
              <p:nvPr/>
            </p:nvSpPr>
            <p:spPr>
              <a:xfrm>
                <a:off x="11946240" y="4719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494"/>
              <p:cNvSpPr/>
              <p:nvPr/>
            </p:nvSpPr>
            <p:spPr>
              <a:xfrm>
                <a:off x="12052080" y="4582080"/>
                <a:ext cx="26640" cy="248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495"/>
              <p:cNvSpPr/>
              <p:nvPr/>
            </p:nvSpPr>
            <p:spPr>
              <a:xfrm>
                <a:off x="12055680" y="4542840"/>
                <a:ext cx="23040" cy="5580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496"/>
              <p:cNvSpPr/>
              <p:nvPr/>
            </p:nvSpPr>
            <p:spPr>
              <a:xfrm>
                <a:off x="12047760" y="458640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97"/>
              <p:cNvSpPr/>
              <p:nvPr/>
            </p:nvSpPr>
            <p:spPr>
              <a:xfrm>
                <a:off x="12022920" y="4609080"/>
                <a:ext cx="45360" cy="374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98"/>
              <p:cNvSpPr/>
              <p:nvPr/>
            </p:nvSpPr>
            <p:spPr>
              <a:xfrm>
                <a:off x="12024720" y="4605480"/>
                <a:ext cx="45360" cy="3456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499"/>
              <p:cNvSpPr/>
              <p:nvPr/>
            </p:nvSpPr>
            <p:spPr>
              <a:xfrm>
                <a:off x="12039120" y="4598640"/>
                <a:ext cx="34920" cy="291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00"/>
              <p:cNvSpPr/>
              <p:nvPr/>
            </p:nvSpPr>
            <p:spPr>
              <a:xfrm>
                <a:off x="12031200" y="460296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01"/>
              <p:cNvSpPr/>
              <p:nvPr/>
            </p:nvSpPr>
            <p:spPr>
              <a:xfrm>
                <a:off x="12043440" y="4592520"/>
                <a:ext cx="33120" cy="2916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02"/>
              <p:cNvSpPr/>
              <p:nvPr/>
            </p:nvSpPr>
            <p:spPr>
              <a:xfrm>
                <a:off x="12018600" y="4615560"/>
                <a:ext cx="45360" cy="352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03"/>
              <p:cNvSpPr/>
              <p:nvPr/>
            </p:nvSpPr>
            <p:spPr>
              <a:xfrm>
                <a:off x="12014280" y="4636440"/>
                <a:ext cx="39240" cy="284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04"/>
              <p:cNvSpPr/>
              <p:nvPr/>
            </p:nvSpPr>
            <p:spPr>
              <a:xfrm>
                <a:off x="12014280" y="464256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05"/>
              <p:cNvSpPr/>
              <p:nvPr/>
            </p:nvSpPr>
            <p:spPr>
              <a:xfrm>
                <a:off x="12016800" y="462168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06"/>
              <p:cNvSpPr/>
              <p:nvPr/>
            </p:nvSpPr>
            <p:spPr>
              <a:xfrm>
                <a:off x="12009960" y="4648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07"/>
              <p:cNvSpPr/>
              <p:nvPr/>
            </p:nvSpPr>
            <p:spPr>
              <a:xfrm>
                <a:off x="12008160" y="4656960"/>
                <a:ext cx="23040" cy="162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08"/>
              <p:cNvSpPr/>
              <p:nvPr/>
            </p:nvSpPr>
            <p:spPr>
              <a:xfrm>
                <a:off x="11993760" y="466920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09"/>
              <p:cNvSpPr/>
              <p:nvPr/>
            </p:nvSpPr>
            <p:spPr>
              <a:xfrm>
                <a:off x="12006360" y="4663080"/>
                <a:ext cx="18000" cy="144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10"/>
              <p:cNvSpPr/>
              <p:nvPr/>
            </p:nvSpPr>
            <p:spPr>
              <a:xfrm>
                <a:off x="11950200" y="4993200"/>
                <a:ext cx="38880" cy="612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621"/>
            <p:cNvGrpSpPr/>
            <p:nvPr/>
          </p:nvGrpSpPr>
          <p:grpSpPr>
            <a:xfrm>
              <a:off x="11802960" y="5000040"/>
              <a:ext cx="329400" cy="502920"/>
              <a:chOff x="11802960" y="5000040"/>
              <a:chExt cx="329400" cy="502920"/>
            </a:xfrm>
          </p:grpSpPr>
          <p:sp>
            <p:nvSpPr>
              <p:cNvPr id="935" name="Freeform 514"/>
              <p:cNvSpPr/>
              <p:nvPr/>
            </p:nvSpPr>
            <p:spPr>
              <a:xfrm rot="10800000">
                <a:off x="11802960" y="5004000"/>
                <a:ext cx="329400" cy="49896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15"/>
              <p:cNvSpPr/>
              <p:nvPr/>
            </p:nvSpPr>
            <p:spPr>
              <a:xfrm rot="10800000">
                <a:off x="11920680" y="546156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16"/>
              <p:cNvSpPr/>
              <p:nvPr/>
            </p:nvSpPr>
            <p:spPr>
              <a:xfrm rot="10800000">
                <a:off x="11914920" y="545148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17"/>
              <p:cNvSpPr/>
              <p:nvPr/>
            </p:nvSpPr>
            <p:spPr>
              <a:xfrm rot="10800000">
                <a:off x="11917080" y="543708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18"/>
              <p:cNvSpPr/>
              <p:nvPr/>
            </p:nvSpPr>
            <p:spPr>
              <a:xfrm rot="10800000">
                <a:off x="11914560" y="542664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19"/>
              <p:cNvSpPr/>
              <p:nvPr/>
            </p:nvSpPr>
            <p:spPr>
              <a:xfrm rot="10800000">
                <a:off x="11913120" y="541440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20"/>
              <p:cNvSpPr/>
              <p:nvPr/>
            </p:nvSpPr>
            <p:spPr>
              <a:xfrm rot="10800000">
                <a:off x="11908800" y="5410440"/>
                <a:ext cx="43200" cy="288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21"/>
              <p:cNvSpPr/>
              <p:nvPr/>
            </p:nvSpPr>
            <p:spPr>
              <a:xfrm rot="10800000">
                <a:off x="11908800" y="540180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22"/>
              <p:cNvSpPr/>
              <p:nvPr/>
            </p:nvSpPr>
            <p:spPr>
              <a:xfrm rot="10800000">
                <a:off x="11900520" y="5385240"/>
                <a:ext cx="45360" cy="309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23"/>
              <p:cNvSpPr/>
              <p:nvPr/>
            </p:nvSpPr>
            <p:spPr>
              <a:xfrm rot="10800000">
                <a:off x="11902680" y="539388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24"/>
              <p:cNvSpPr/>
              <p:nvPr/>
            </p:nvSpPr>
            <p:spPr>
              <a:xfrm rot="10800000">
                <a:off x="11917080" y="536220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25"/>
              <p:cNvSpPr/>
              <p:nvPr/>
            </p:nvSpPr>
            <p:spPr>
              <a:xfrm rot="10800000">
                <a:off x="11925000" y="534816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26"/>
              <p:cNvSpPr/>
              <p:nvPr/>
            </p:nvSpPr>
            <p:spPr>
              <a:xfrm rot="10800000">
                <a:off x="11923200" y="5356080"/>
                <a:ext cx="11880" cy="144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27"/>
              <p:cNvSpPr/>
              <p:nvPr/>
            </p:nvSpPr>
            <p:spPr>
              <a:xfrm rot="10800000">
                <a:off x="11900520" y="537084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28"/>
              <p:cNvSpPr/>
              <p:nvPr/>
            </p:nvSpPr>
            <p:spPr>
              <a:xfrm rot="10800000">
                <a:off x="11898720" y="537912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29"/>
              <p:cNvSpPr/>
              <p:nvPr/>
            </p:nvSpPr>
            <p:spPr>
              <a:xfrm rot="10800000">
                <a:off x="11925000" y="534384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30"/>
              <p:cNvSpPr/>
              <p:nvPr/>
            </p:nvSpPr>
            <p:spPr>
              <a:xfrm rot="10800000">
                <a:off x="11819520" y="5339520"/>
                <a:ext cx="30960" cy="327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31"/>
              <p:cNvSpPr/>
              <p:nvPr/>
            </p:nvSpPr>
            <p:spPr>
              <a:xfrm rot="10800000">
                <a:off x="11885400" y="5314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32"/>
              <p:cNvSpPr/>
              <p:nvPr/>
            </p:nvSpPr>
            <p:spPr>
              <a:xfrm rot="10800000">
                <a:off x="11883600" y="53168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33"/>
              <p:cNvSpPr/>
              <p:nvPr/>
            </p:nvSpPr>
            <p:spPr>
              <a:xfrm rot="10800000">
                <a:off x="11887920" y="5312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34"/>
              <p:cNvSpPr/>
              <p:nvPr/>
            </p:nvSpPr>
            <p:spPr>
              <a:xfrm rot="10800000">
                <a:off x="11848680" y="53312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35"/>
              <p:cNvSpPr/>
              <p:nvPr/>
            </p:nvSpPr>
            <p:spPr>
              <a:xfrm rot="10800000">
                <a:off x="11863080" y="532692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36"/>
              <p:cNvSpPr/>
              <p:nvPr/>
            </p:nvSpPr>
            <p:spPr>
              <a:xfrm rot="10800000">
                <a:off x="11856600" y="53294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37"/>
              <p:cNvSpPr/>
              <p:nvPr/>
            </p:nvSpPr>
            <p:spPr>
              <a:xfrm rot="10800000">
                <a:off x="11865240" y="532656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38"/>
              <p:cNvSpPr/>
              <p:nvPr/>
            </p:nvSpPr>
            <p:spPr>
              <a:xfrm rot="10800000">
                <a:off x="11864880" y="5325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39"/>
              <p:cNvSpPr/>
              <p:nvPr/>
            </p:nvSpPr>
            <p:spPr>
              <a:xfrm rot="10800000">
                <a:off x="11869560" y="532080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40"/>
              <p:cNvSpPr/>
              <p:nvPr/>
            </p:nvSpPr>
            <p:spPr>
              <a:xfrm rot="10800000">
                <a:off x="11879280" y="5318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41"/>
              <p:cNvSpPr/>
              <p:nvPr/>
            </p:nvSpPr>
            <p:spPr>
              <a:xfrm rot="10800000">
                <a:off x="11877840" y="532044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42"/>
              <p:cNvSpPr/>
              <p:nvPr/>
            </p:nvSpPr>
            <p:spPr>
              <a:xfrm rot="10800000">
                <a:off x="11964600" y="5410440"/>
                <a:ext cx="72360" cy="2664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43"/>
              <p:cNvSpPr/>
              <p:nvPr/>
            </p:nvSpPr>
            <p:spPr>
              <a:xfrm rot="10800000">
                <a:off x="11960280" y="540180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44"/>
              <p:cNvSpPr/>
              <p:nvPr/>
            </p:nvSpPr>
            <p:spPr>
              <a:xfrm rot="10800000">
                <a:off x="11958480" y="5393880"/>
                <a:ext cx="72360" cy="1800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45"/>
              <p:cNvSpPr/>
              <p:nvPr/>
            </p:nvSpPr>
            <p:spPr>
              <a:xfrm rot="10800000">
                <a:off x="11955960" y="538740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46"/>
              <p:cNvSpPr/>
              <p:nvPr/>
            </p:nvSpPr>
            <p:spPr>
              <a:xfrm rot="10800000">
                <a:off x="11952360" y="5380920"/>
                <a:ext cx="72720" cy="2052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47"/>
              <p:cNvSpPr/>
              <p:nvPr/>
            </p:nvSpPr>
            <p:spPr>
              <a:xfrm rot="10800000">
                <a:off x="11948040" y="5372640"/>
                <a:ext cx="7236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48"/>
              <p:cNvSpPr/>
              <p:nvPr/>
            </p:nvSpPr>
            <p:spPr>
              <a:xfrm rot="10800000">
                <a:off x="11941560" y="5343480"/>
                <a:ext cx="70200" cy="2052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49"/>
              <p:cNvSpPr/>
              <p:nvPr/>
            </p:nvSpPr>
            <p:spPr>
              <a:xfrm rot="10800000">
                <a:off x="11940120" y="534996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50"/>
              <p:cNvSpPr/>
              <p:nvPr/>
            </p:nvSpPr>
            <p:spPr>
              <a:xfrm rot="10800000">
                <a:off x="11941920" y="535824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51"/>
              <p:cNvSpPr/>
              <p:nvPr/>
            </p:nvSpPr>
            <p:spPr>
              <a:xfrm rot="10800000">
                <a:off x="11945880" y="5364720"/>
                <a:ext cx="72360" cy="1800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52"/>
              <p:cNvSpPr/>
              <p:nvPr/>
            </p:nvSpPr>
            <p:spPr>
              <a:xfrm rot="10800000">
                <a:off x="11939760" y="532296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553"/>
              <p:cNvSpPr/>
              <p:nvPr/>
            </p:nvSpPr>
            <p:spPr>
              <a:xfrm rot="10800000">
                <a:off x="11939760" y="5330880"/>
                <a:ext cx="60120" cy="169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554"/>
              <p:cNvSpPr/>
              <p:nvPr/>
            </p:nvSpPr>
            <p:spPr>
              <a:xfrm rot="10800000">
                <a:off x="11941560" y="530244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555"/>
              <p:cNvSpPr/>
              <p:nvPr/>
            </p:nvSpPr>
            <p:spPr>
              <a:xfrm rot="10800000">
                <a:off x="11940120" y="5335560"/>
                <a:ext cx="64080" cy="1872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556"/>
              <p:cNvSpPr/>
              <p:nvPr/>
            </p:nvSpPr>
            <p:spPr>
              <a:xfrm rot="10800000">
                <a:off x="11972520" y="5435280"/>
                <a:ext cx="66600" cy="5760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557"/>
              <p:cNvSpPr/>
              <p:nvPr/>
            </p:nvSpPr>
            <p:spPr>
              <a:xfrm rot="10800000">
                <a:off x="11968920" y="5426280"/>
                <a:ext cx="68040" cy="205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558"/>
              <p:cNvSpPr/>
              <p:nvPr/>
            </p:nvSpPr>
            <p:spPr>
              <a:xfrm rot="10800000">
                <a:off x="11834280" y="5219280"/>
                <a:ext cx="120240" cy="6408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559"/>
              <p:cNvSpPr/>
              <p:nvPr/>
            </p:nvSpPr>
            <p:spPr>
              <a:xfrm rot="10800000">
                <a:off x="11945880" y="5227920"/>
                <a:ext cx="8280" cy="309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560"/>
              <p:cNvSpPr/>
              <p:nvPr/>
            </p:nvSpPr>
            <p:spPr>
              <a:xfrm rot="10800000">
                <a:off x="11962440" y="5173560"/>
                <a:ext cx="33120" cy="8676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561"/>
              <p:cNvSpPr/>
              <p:nvPr/>
            </p:nvSpPr>
            <p:spPr>
              <a:xfrm rot="10800000">
                <a:off x="12035520" y="533952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562"/>
              <p:cNvSpPr/>
              <p:nvPr/>
            </p:nvSpPr>
            <p:spPr>
              <a:xfrm rot="10800000">
                <a:off x="12002040" y="53128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563"/>
              <p:cNvSpPr/>
              <p:nvPr/>
            </p:nvSpPr>
            <p:spPr>
              <a:xfrm rot="10800000">
                <a:off x="12006000" y="531468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564"/>
              <p:cNvSpPr/>
              <p:nvPr/>
            </p:nvSpPr>
            <p:spPr>
              <a:xfrm rot="10800000">
                <a:off x="12007800" y="531648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565"/>
              <p:cNvSpPr/>
              <p:nvPr/>
            </p:nvSpPr>
            <p:spPr>
              <a:xfrm rot="10800000">
                <a:off x="11985480" y="530244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566"/>
              <p:cNvSpPr/>
              <p:nvPr/>
            </p:nvSpPr>
            <p:spPr>
              <a:xfrm rot="10800000">
                <a:off x="12022920" y="532944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567"/>
              <p:cNvSpPr/>
              <p:nvPr/>
            </p:nvSpPr>
            <p:spPr>
              <a:xfrm rot="10800000">
                <a:off x="12022560" y="5326920"/>
                <a:ext cx="16920" cy="10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568"/>
              <p:cNvSpPr/>
              <p:nvPr/>
            </p:nvSpPr>
            <p:spPr>
              <a:xfrm rot="10800000">
                <a:off x="12012480" y="531900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569"/>
              <p:cNvSpPr/>
              <p:nvPr/>
            </p:nvSpPr>
            <p:spPr>
              <a:xfrm rot="10800000">
                <a:off x="12018240" y="5323320"/>
                <a:ext cx="16920" cy="10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570"/>
              <p:cNvSpPr/>
              <p:nvPr/>
            </p:nvSpPr>
            <p:spPr>
              <a:xfrm rot="10800000">
                <a:off x="12014640" y="532296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571"/>
              <p:cNvSpPr/>
              <p:nvPr/>
            </p:nvSpPr>
            <p:spPr>
              <a:xfrm rot="10800000">
                <a:off x="12028680" y="53352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572"/>
              <p:cNvSpPr/>
              <p:nvPr/>
            </p:nvSpPr>
            <p:spPr>
              <a:xfrm rot="10800000">
                <a:off x="12020400" y="532512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573"/>
              <p:cNvSpPr/>
              <p:nvPr/>
            </p:nvSpPr>
            <p:spPr>
              <a:xfrm rot="10800000">
                <a:off x="12033000" y="53395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574"/>
              <p:cNvSpPr/>
              <p:nvPr/>
            </p:nvSpPr>
            <p:spPr>
              <a:xfrm rot="10800000">
                <a:off x="12030840" y="533700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575"/>
              <p:cNvSpPr/>
              <p:nvPr/>
            </p:nvSpPr>
            <p:spPr>
              <a:xfrm rot="10800000">
                <a:off x="12008160" y="5319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576"/>
              <p:cNvSpPr/>
              <p:nvPr/>
            </p:nvSpPr>
            <p:spPr>
              <a:xfrm rot="10800000">
                <a:off x="12012120" y="532044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577"/>
              <p:cNvSpPr/>
              <p:nvPr/>
            </p:nvSpPr>
            <p:spPr>
              <a:xfrm rot="10800000">
                <a:off x="12081240" y="533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578"/>
              <p:cNvSpPr/>
              <p:nvPr/>
            </p:nvSpPr>
            <p:spPr>
              <a:xfrm rot="10800000">
                <a:off x="12088800" y="533340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579"/>
              <p:cNvSpPr/>
              <p:nvPr/>
            </p:nvSpPr>
            <p:spPr>
              <a:xfrm rot="10800000">
                <a:off x="12076560" y="53290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580"/>
              <p:cNvSpPr/>
              <p:nvPr/>
            </p:nvSpPr>
            <p:spPr>
              <a:xfrm rot="10800000">
                <a:off x="12068280" y="53265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581"/>
              <p:cNvSpPr/>
              <p:nvPr/>
            </p:nvSpPr>
            <p:spPr>
              <a:xfrm rot="10800000">
                <a:off x="12063960" y="532332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582"/>
              <p:cNvSpPr/>
              <p:nvPr/>
            </p:nvSpPr>
            <p:spPr>
              <a:xfrm rot="10800000">
                <a:off x="12051720" y="531684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583"/>
              <p:cNvSpPr/>
              <p:nvPr/>
            </p:nvSpPr>
            <p:spPr>
              <a:xfrm rot="10800000">
                <a:off x="12055680" y="53186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584"/>
              <p:cNvSpPr/>
              <p:nvPr/>
            </p:nvSpPr>
            <p:spPr>
              <a:xfrm rot="10800000">
                <a:off x="12057480" y="532080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585"/>
              <p:cNvSpPr/>
              <p:nvPr/>
            </p:nvSpPr>
            <p:spPr>
              <a:xfrm rot="10800000">
                <a:off x="12060360" y="53208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586"/>
              <p:cNvSpPr/>
              <p:nvPr/>
            </p:nvSpPr>
            <p:spPr>
              <a:xfrm rot="10800000">
                <a:off x="12057840" y="5325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587"/>
              <p:cNvSpPr/>
              <p:nvPr/>
            </p:nvSpPr>
            <p:spPr>
              <a:xfrm rot="10800000">
                <a:off x="12062160" y="53269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588"/>
              <p:cNvSpPr/>
              <p:nvPr/>
            </p:nvSpPr>
            <p:spPr>
              <a:xfrm rot="10800000">
                <a:off x="12086640" y="533700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589"/>
              <p:cNvSpPr/>
              <p:nvPr/>
            </p:nvSpPr>
            <p:spPr>
              <a:xfrm rot="10800000">
                <a:off x="12078360" y="5333760"/>
                <a:ext cx="16920" cy="57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590"/>
              <p:cNvSpPr/>
              <p:nvPr/>
            </p:nvSpPr>
            <p:spPr>
              <a:xfrm rot="10800000">
                <a:off x="12070800" y="533124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591"/>
              <p:cNvSpPr/>
              <p:nvPr/>
            </p:nvSpPr>
            <p:spPr>
              <a:xfrm rot="10800000">
                <a:off x="12051720" y="532080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592"/>
              <p:cNvSpPr/>
              <p:nvPr/>
            </p:nvSpPr>
            <p:spPr>
              <a:xfrm rot="10800000">
                <a:off x="12092760" y="533952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593"/>
              <p:cNvSpPr/>
              <p:nvPr/>
            </p:nvSpPr>
            <p:spPr>
              <a:xfrm rot="10800000">
                <a:off x="12099240" y="5341320"/>
                <a:ext cx="18720" cy="82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594"/>
              <p:cNvSpPr/>
              <p:nvPr/>
            </p:nvSpPr>
            <p:spPr>
              <a:xfrm rot="10800000">
                <a:off x="12039840" y="531468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595"/>
              <p:cNvSpPr/>
              <p:nvPr/>
            </p:nvSpPr>
            <p:spPr>
              <a:xfrm rot="10800000">
                <a:off x="12045600" y="531900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596"/>
              <p:cNvSpPr/>
              <p:nvPr/>
            </p:nvSpPr>
            <p:spPr>
              <a:xfrm rot="10800000">
                <a:off x="12028680" y="53064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597"/>
              <p:cNvSpPr/>
              <p:nvPr/>
            </p:nvSpPr>
            <p:spPr>
              <a:xfrm rot="10800000">
                <a:off x="12035160" y="531036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598"/>
              <p:cNvSpPr/>
              <p:nvPr/>
            </p:nvSpPr>
            <p:spPr>
              <a:xfrm rot="10800000">
                <a:off x="12014280" y="530028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599"/>
              <p:cNvSpPr/>
              <p:nvPr/>
            </p:nvSpPr>
            <p:spPr>
              <a:xfrm rot="10800000">
                <a:off x="12022560" y="530280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600"/>
              <p:cNvSpPr/>
              <p:nvPr/>
            </p:nvSpPr>
            <p:spPr>
              <a:xfrm rot="10800000">
                <a:off x="12010680" y="530280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601"/>
              <p:cNvSpPr/>
              <p:nvPr/>
            </p:nvSpPr>
            <p:spPr>
              <a:xfrm rot="10800000">
                <a:off x="12049920" y="5314680"/>
                <a:ext cx="360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602"/>
              <p:cNvSpPr/>
              <p:nvPr/>
            </p:nvSpPr>
            <p:spPr>
              <a:xfrm rot="10800000">
                <a:off x="11960640" y="520308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603"/>
              <p:cNvSpPr/>
              <p:nvPr/>
            </p:nvSpPr>
            <p:spPr>
              <a:xfrm rot="10800000">
                <a:off x="11985120" y="5277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604"/>
              <p:cNvSpPr/>
              <p:nvPr/>
            </p:nvSpPr>
            <p:spPr>
              <a:xfrm rot="10800000">
                <a:off x="11854800" y="5393520"/>
                <a:ext cx="26640" cy="241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605"/>
              <p:cNvSpPr/>
              <p:nvPr/>
            </p:nvSpPr>
            <p:spPr>
              <a:xfrm rot="10800000">
                <a:off x="11854800" y="5399640"/>
                <a:ext cx="23040" cy="5580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606"/>
              <p:cNvSpPr/>
              <p:nvPr/>
            </p:nvSpPr>
            <p:spPr>
              <a:xfrm rot="10800000">
                <a:off x="11854800" y="538524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607"/>
              <p:cNvSpPr/>
              <p:nvPr/>
            </p:nvSpPr>
            <p:spPr>
              <a:xfrm rot="10800000">
                <a:off x="11867400" y="5353920"/>
                <a:ext cx="45360" cy="370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608"/>
              <p:cNvSpPr/>
              <p:nvPr/>
            </p:nvSpPr>
            <p:spPr>
              <a:xfrm rot="10800000">
                <a:off x="11865240" y="535824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609"/>
              <p:cNvSpPr/>
              <p:nvPr/>
            </p:nvSpPr>
            <p:spPr>
              <a:xfrm rot="10800000">
                <a:off x="11858760" y="537264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610"/>
              <p:cNvSpPr/>
              <p:nvPr/>
            </p:nvSpPr>
            <p:spPr>
              <a:xfrm rot="10800000">
                <a:off x="11863440" y="536472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11"/>
              <p:cNvSpPr/>
              <p:nvPr/>
            </p:nvSpPr>
            <p:spPr>
              <a:xfrm rot="10800000">
                <a:off x="11858760" y="537876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612"/>
              <p:cNvSpPr/>
              <p:nvPr/>
            </p:nvSpPr>
            <p:spPr>
              <a:xfrm rot="10800000">
                <a:off x="11871360" y="5348160"/>
                <a:ext cx="45360" cy="3456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613"/>
              <p:cNvSpPr/>
              <p:nvPr/>
            </p:nvSpPr>
            <p:spPr>
              <a:xfrm rot="10800000">
                <a:off x="11879280" y="5335560"/>
                <a:ext cx="39240" cy="288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614"/>
              <p:cNvSpPr/>
              <p:nvPr/>
            </p:nvSpPr>
            <p:spPr>
              <a:xfrm rot="10800000">
                <a:off x="11888280" y="533340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615"/>
              <p:cNvSpPr/>
              <p:nvPr/>
            </p:nvSpPr>
            <p:spPr>
              <a:xfrm rot="10800000">
                <a:off x="11873520" y="533700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616"/>
              <p:cNvSpPr/>
              <p:nvPr/>
            </p:nvSpPr>
            <p:spPr>
              <a:xfrm rot="10800000">
                <a:off x="11895840" y="53308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617"/>
              <p:cNvSpPr/>
              <p:nvPr/>
            </p:nvSpPr>
            <p:spPr>
              <a:xfrm rot="10800000">
                <a:off x="11902680" y="5326560"/>
                <a:ext cx="22320" cy="169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618"/>
              <p:cNvSpPr/>
              <p:nvPr/>
            </p:nvSpPr>
            <p:spPr>
              <a:xfrm rot="10800000">
                <a:off x="11916720" y="531036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619"/>
              <p:cNvSpPr/>
              <p:nvPr/>
            </p:nvSpPr>
            <p:spPr>
              <a:xfrm rot="10800000">
                <a:off x="11908800" y="5320800"/>
                <a:ext cx="18000" cy="144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620"/>
              <p:cNvSpPr/>
              <p:nvPr/>
            </p:nvSpPr>
            <p:spPr>
              <a:xfrm rot="10800000">
                <a:off x="11944080" y="5000040"/>
                <a:ext cx="38880" cy="576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2" name="Oval 626"/>
          <p:cNvSpPr/>
          <p:nvPr/>
        </p:nvSpPr>
        <p:spPr>
          <a:xfrm>
            <a:off x="10980720" y="4848120"/>
            <a:ext cx="503280" cy="23040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Group 627"/>
          <p:cNvGrpSpPr/>
          <p:nvPr/>
        </p:nvGrpSpPr>
        <p:grpSpPr>
          <a:xfrm>
            <a:off x="10909440" y="4308480"/>
            <a:ext cx="369720" cy="1127880"/>
            <a:chOff x="10909440" y="4308480"/>
            <a:chExt cx="369720" cy="1127880"/>
          </a:xfrm>
        </p:grpSpPr>
        <p:sp>
          <p:nvSpPr>
            <p:cNvPr id="1044" name="Freeform 628"/>
            <p:cNvSpPr/>
            <p:nvPr/>
          </p:nvSpPr>
          <p:spPr>
            <a:xfrm>
              <a:off x="10909440" y="4308480"/>
              <a:ext cx="368640" cy="5594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29"/>
            <p:cNvGrpSpPr/>
            <p:nvPr/>
          </p:nvGrpSpPr>
          <p:grpSpPr>
            <a:xfrm>
              <a:off x="10924920" y="4322160"/>
              <a:ext cx="333720" cy="550080"/>
              <a:chOff x="10924920" y="4322160"/>
              <a:chExt cx="333720" cy="550080"/>
            </a:xfrm>
          </p:grpSpPr>
          <p:sp>
            <p:nvSpPr>
              <p:cNvPr id="1046" name="Freeform 630"/>
              <p:cNvSpPr/>
              <p:nvPr/>
            </p:nvSpPr>
            <p:spPr>
              <a:xfrm>
                <a:off x="11128680" y="432900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631"/>
              <p:cNvSpPr/>
              <p:nvPr/>
            </p:nvSpPr>
            <p:spPr>
              <a:xfrm>
                <a:off x="11126520" y="434520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632"/>
              <p:cNvSpPr/>
              <p:nvPr/>
            </p:nvSpPr>
            <p:spPr>
              <a:xfrm>
                <a:off x="11115000" y="435240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633"/>
              <p:cNvSpPr/>
              <p:nvPr/>
            </p:nvSpPr>
            <p:spPr>
              <a:xfrm>
                <a:off x="11112480" y="4364280"/>
                <a:ext cx="39240" cy="320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634"/>
              <p:cNvSpPr/>
              <p:nvPr/>
            </p:nvSpPr>
            <p:spPr>
              <a:xfrm>
                <a:off x="11110320" y="43729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635"/>
              <p:cNvSpPr/>
              <p:nvPr/>
            </p:nvSpPr>
            <p:spPr>
              <a:xfrm>
                <a:off x="11110320" y="438264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636"/>
              <p:cNvSpPr/>
              <p:nvPr/>
            </p:nvSpPr>
            <p:spPr>
              <a:xfrm>
                <a:off x="11115000" y="438732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637"/>
              <p:cNvSpPr/>
              <p:nvPr/>
            </p:nvSpPr>
            <p:spPr>
              <a:xfrm>
                <a:off x="11119320" y="440568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638"/>
              <p:cNvSpPr/>
              <p:nvPr/>
            </p:nvSpPr>
            <p:spPr>
              <a:xfrm>
                <a:off x="11117160" y="4396320"/>
                <a:ext cx="48600" cy="3528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639"/>
              <p:cNvSpPr/>
              <p:nvPr/>
            </p:nvSpPr>
            <p:spPr>
              <a:xfrm>
                <a:off x="11128680" y="44452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640"/>
              <p:cNvSpPr/>
              <p:nvPr/>
            </p:nvSpPr>
            <p:spPr>
              <a:xfrm>
                <a:off x="11133360" y="447048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641"/>
              <p:cNvSpPr/>
              <p:nvPr/>
            </p:nvSpPr>
            <p:spPr>
              <a:xfrm>
                <a:off x="11130840" y="445680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642"/>
              <p:cNvSpPr/>
              <p:nvPr/>
            </p:nvSpPr>
            <p:spPr>
              <a:xfrm>
                <a:off x="11124000" y="44218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643"/>
              <p:cNvSpPr/>
              <p:nvPr/>
            </p:nvSpPr>
            <p:spPr>
              <a:xfrm>
                <a:off x="11121840" y="441252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644"/>
              <p:cNvSpPr/>
              <p:nvPr/>
            </p:nvSpPr>
            <p:spPr>
              <a:xfrm>
                <a:off x="11138400" y="44798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645"/>
              <p:cNvSpPr/>
              <p:nvPr/>
            </p:nvSpPr>
            <p:spPr>
              <a:xfrm>
                <a:off x="11224080" y="4456800"/>
                <a:ext cx="34560" cy="3708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646"/>
              <p:cNvSpPr/>
              <p:nvPr/>
            </p:nvSpPr>
            <p:spPr>
              <a:xfrm>
                <a:off x="11181960" y="4517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647"/>
              <p:cNvSpPr/>
              <p:nvPr/>
            </p:nvSpPr>
            <p:spPr>
              <a:xfrm>
                <a:off x="11184480" y="4514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48"/>
              <p:cNvSpPr/>
              <p:nvPr/>
            </p:nvSpPr>
            <p:spPr>
              <a:xfrm>
                <a:off x="11179800" y="4519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649"/>
              <p:cNvSpPr/>
              <p:nvPr/>
            </p:nvSpPr>
            <p:spPr>
              <a:xfrm>
                <a:off x="11214360" y="44895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650"/>
              <p:cNvSpPr/>
              <p:nvPr/>
            </p:nvSpPr>
            <p:spPr>
              <a:xfrm>
                <a:off x="11207520" y="449856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651"/>
              <p:cNvSpPr/>
              <p:nvPr/>
            </p:nvSpPr>
            <p:spPr>
              <a:xfrm>
                <a:off x="11209680" y="449640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652"/>
              <p:cNvSpPr/>
              <p:nvPr/>
            </p:nvSpPr>
            <p:spPr>
              <a:xfrm>
                <a:off x="11200680" y="4503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653"/>
              <p:cNvSpPr/>
              <p:nvPr/>
            </p:nvSpPr>
            <p:spPr>
              <a:xfrm>
                <a:off x="11205720" y="4501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654"/>
              <p:cNvSpPr/>
              <p:nvPr/>
            </p:nvSpPr>
            <p:spPr>
              <a:xfrm>
                <a:off x="11196000" y="45057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655"/>
              <p:cNvSpPr/>
              <p:nvPr/>
            </p:nvSpPr>
            <p:spPr>
              <a:xfrm>
                <a:off x="11189160" y="451260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656"/>
              <p:cNvSpPr/>
              <p:nvPr/>
            </p:nvSpPr>
            <p:spPr>
              <a:xfrm>
                <a:off x="11191320" y="4510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657"/>
              <p:cNvSpPr/>
              <p:nvPr/>
            </p:nvSpPr>
            <p:spPr>
              <a:xfrm>
                <a:off x="11015280" y="4382640"/>
                <a:ext cx="8064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658"/>
              <p:cNvSpPr/>
              <p:nvPr/>
            </p:nvSpPr>
            <p:spPr>
              <a:xfrm>
                <a:off x="11019960" y="44010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659"/>
              <p:cNvSpPr/>
              <p:nvPr/>
            </p:nvSpPr>
            <p:spPr>
              <a:xfrm>
                <a:off x="11022120" y="441036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660"/>
              <p:cNvSpPr/>
              <p:nvPr/>
            </p:nvSpPr>
            <p:spPr>
              <a:xfrm>
                <a:off x="11024640" y="44172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661"/>
              <p:cNvSpPr/>
              <p:nvPr/>
            </p:nvSpPr>
            <p:spPr>
              <a:xfrm>
                <a:off x="11028960" y="442404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662"/>
              <p:cNvSpPr/>
              <p:nvPr/>
            </p:nvSpPr>
            <p:spPr>
              <a:xfrm>
                <a:off x="11033640" y="443376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663"/>
              <p:cNvSpPr/>
              <p:nvPr/>
            </p:nvSpPr>
            <p:spPr>
              <a:xfrm>
                <a:off x="11045160" y="446616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664"/>
              <p:cNvSpPr/>
              <p:nvPr/>
            </p:nvSpPr>
            <p:spPr>
              <a:xfrm>
                <a:off x="11038320" y="445896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665"/>
              <p:cNvSpPr/>
              <p:nvPr/>
            </p:nvSpPr>
            <p:spPr>
              <a:xfrm>
                <a:off x="11036160" y="444996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666"/>
              <p:cNvSpPr/>
              <p:nvPr/>
            </p:nvSpPr>
            <p:spPr>
              <a:xfrm>
                <a:off x="11036160" y="4443120"/>
                <a:ext cx="8064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667"/>
              <p:cNvSpPr/>
              <p:nvPr/>
            </p:nvSpPr>
            <p:spPr>
              <a:xfrm>
                <a:off x="11061360" y="449424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668"/>
              <p:cNvSpPr/>
              <p:nvPr/>
            </p:nvSpPr>
            <p:spPr>
              <a:xfrm>
                <a:off x="11056680" y="4484520"/>
                <a:ext cx="66960" cy="18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669"/>
              <p:cNvSpPr/>
              <p:nvPr/>
            </p:nvSpPr>
            <p:spPr>
              <a:xfrm>
                <a:off x="11068200" y="4503240"/>
                <a:ext cx="53280" cy="324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670"/>
              <p:cNvSpPr/>
              <p:nvPr/>
            </p:nvSpPr>
            <p:spPr>
              <a:xfrm>
                <a:off x="11052000" y="447516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671"/>
              <p:cNvSpPr/>
              <p:nvPr/>
            </p:nvSpPr>
            <p:spPr>
              <a:xfrm>
                <a:off x="11015280" y="4322160"/>
                <a:ext cx="73800" cy="6516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672"/>
              <p:cNvSpPr/>
              <p:nvPr/>
            </p:nvSpPr>
            <p:spPr>
              <a:xfrm>
                <a:off x="11015280" y="437292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673"/>
              <p:cNvSpPr/>
              <p:nvPr/>
            </p:nvSpPr>
            <p:spPr>
              <a:xfrm>
                <a:off x="11110320" y="4554360"/>
                <a:ext cx="13428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674"/>
              <p:cNvSpPr/>
              <p:nvPr/>
            </p:nvSpPr>
            <p:spPr>
              <a:xfrm>
                <a:off x="11110320" y="458208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675"/>
              <p:cNvSpPr/>
              <p:nvPr/>
            </p:nvSpPr>
            <p:spPr>
              <a:xfrm>
                <a:off x="11064240" y="458208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676"/>
              <p:cNvSpPr/>
              <p:nvPr/>
            </p:nvSpPr>
            <p:spPr>
              <a:xfrm>
                <a:off x="10987200" y="443376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677"/>
              <p:cNvSpPr/>
              <p:nvPr/>
            </p:nvSpPr>
            <p:spPr>
              <a:xfrm>
                <a:off x="11043000" y="45147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678"/>
              <p:cNvSpPr/>
              <p:nvPr/>
            </p:nvSpPr>
            <p:spPr>
              <a:xfrm>
                <a:off x="11038320" y="451260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679"/>
              <p:cNvSpPr/>
              <p:nvPr/>
            </p:nvSpPr>
            <p:spPr>
              <a:xfrm>
                <a:off x="11036160" y="451008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680"/>
              <p:cNvSpPr/>
              <p:nvPr/>
            </p:nvSpPr>
            <p:spPr>
              <a:xfrm>
                <a:off x="11047680" y="451728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681"/>
              <p:cNvSpPr/>
              <p:nvPr/>
            </p:nvSpPr>
            <p:spPr>
              <a:xfrm>
                <a:off x="11015280" y="449136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682"/>
              <p:cNvSpPr/>
              <p:nvPr/>
            </p:nvSpPr>
            <p:spPr>
              <a:xfrm>
                <a:off x="11015280" y="449424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683"/>
              <p:cNvSpPr/>
              <p:nvPr/>
            </p:nvSpPr>
            <p:spPr>
              <a:xfrm>
                <a:off x="11022120" y="450324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684"/>
              <p:cNvSpPr/>
              <p:nvPr/>
            </p:nvSpPr>
            <p:spPr>
              <a:xfrm>
                <a:off x="11019960" y="449856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685"/>
              <p:cNvSpPr/>
              <p:nvPr/>
            </p:nvSpPr>
            <p:spPr>
              <a:xfrm>
                <a:off x="11019960" y="4498560"/>
                <a:ext cx="20160" cy="140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686"/>
              <p:cNvSpPr/>
              <p:nvPr/>
            </p:nvSpPr>
            <p:spPr>
              <a:xfrm>
                <a:off x="11013120" y="448956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687"/>
              <p:cNvSpPr/>
              <p:nvPr/>
            </p:nvSpPr>
            <p:spPr>
              <a:xfrm>
                <a:off x="11017440" y="449640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688"/>
              <p:cNvSpPr/>
              <p:nvPr/>
            </p:nvSpPr>
            <p:spPr>
              <a:xfrm>
                <a:off x="11008440" y="44845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689"/>
              <p:cNvSpPr/>
              <p:nvPr/>
            </p:nvSpPr>
            <p:spPr>
              <a:xfrm>
                <a:off x="11010600" y="448668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690"/>
              <p:cNvSpPr/>
              <p:nvPr/>
            </p:nvSpPr>
            <p:spPr>
              <a:xfrm>
                <a:off x="11031480" y="450792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691"/>
              <p:cNvSpPr/>
              <p:nvPr/>
            </p:nvSpPr>
            <p:spPr>
              <a:xfrm>
                <a:off x="11026800" y="4505760"/>
                <a:ext cx="18360" cy="8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692"/>
              <p:cNvSpPr/>
              <p:nvPr/>
            </p:nvSpPr>
            <p:spPr>
              <a:xfrm>
                <a:off x="10959480" y="4498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693"/>
              <p:cNvSpPr/>
              <p:nvPr/>
            </p:nvSpPr>
            <p:spPr>
              <a:xfrm>
                <a:off x="10950120" y="4496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694"/>
              <p:cNvSpPr/>
              <p:nvPr/>
            </p:nvSpPr>
            <p:spPr>
              <a:xfrm>
                <a:off x="10964160" y="45010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695"/>
              <p:cNvSpPr/>
              <p:nvPr/>
            </p:nvSpPr>
            <p:spPr>
              <a:xfrm>
                <a:off x="10968840" y="450324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96"/>
              <p:cNvSpPr/>
              <p:nvPr/>
            </p:nvSpPr>
            <p:spPr>
              <a:xfrm>
                <a:off x="10973520" y="45032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97"/>
              <p:cNvSpPr/>
              <p:nvPr/>
            </p:nvSpPr>
            <p:spPr>
              <a:xfrm>
                <a:off x="10996920" y="451476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98"/>
              <p:cNvSpPr/>
              <p:nvPr/>
            </p:nvSpPr>
            <p:spPr>
              <a:xfrm>
                <a:off x="10991880" y="4512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99"/>
              <p:cNvSpPr/>
              <p:nvPr/>
            </p:nvSpPr>
            <p:spPr>
              <a:xfrm>
                <a:off x="10985040" y="451008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700"/>
              <p:cNvSpPr/>
              <p:nvPr/>
            </p:nvSpPr>
            <p:spPr>
              <a:xfrm>
                <a:off x="10977840" y="45057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701"/>
              <p:cNvSpPr/>
              <p:nvPr/>
            </p:nvSpPr>
            <p:spPr>
              <a:xfrm>
                <a:off x="10980360" y="45010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702"/>
              <p:cNvSpPr/>
              <p:nvPr/>
            </p:nvSpPr>
            <p:spPr>
              <a:xfrm>
                <a:off x="10971000" y="449856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703"/>
              <p:cNvSpPr/>
              <p:nvPr/>
            </p:nvSpPr>
            <p:spPr>
              <a:xfrm>
                <a:off x="10943280" y="44866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704"/>
              <p:cNvSpPr/>
              <p:nvPr/>
            </p:nvSpPr>
            <p:spPr>
              <a:xfrm>
                <a:off x="10952640" y="4491360"/>
                <a:ext cx="1836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705"/>
              <p:cNvSpPr/>
              <p:nvPr/>
            </p:nvSpPr>
            <p:spPr>
              <a:xfrm>
                <a:off x="10962000" y="4494240"/>
                <a:ext cx="1548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706"/>
              <p:cNvSpPr/>
              <p:nvPr/>
            </p:nvSpPr>
            <p:spPr>
              <a:xfrm>
                <a:off x="10987200" y="450576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707"/>
              <p:cNvSpPr/>
              <p:nvPr/>
            </p:nvSpPr>
            <p:spPr>
              <a:xfrm>
                <a:off x="10936440" y="448452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708"/>
              <p:cNvSpPr/>
              <p:nvPr/>
            </p:nvSpPr>
            <p:spPr>
              <a:xfrm>
                <a:off x="10924920" y="4482720"/>
                <a:ext cx="20880" cy="86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709"/>
              <p:cNvSpPr/>
              <p:nvPr/>
            </p:nvSpPr>
            <p:spPr>
              <a:xfrm>
                <a:off x="11000880" y="451260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710"/>
              <p:cNvSpPr/>
              <p:nvPr/>
            </p:nvSpPr>
            <p:spPr>
              <a:xfrm>
                <a:off x="10994040" y="45079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711"/>
              <p:cNvSpPr/>
              <p:nvPr/>
            </p:nvSpPr>
            <p:spPr>
              <a:xfrm>
                <a:off x="11013120" y="452160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712"/>
              <p:cNvSpPr/>
              <p:nvPr/>
            </p:nvSpPr>
            <p:spPr>
              <a:xfrm>
                <a:off x="11005560" y="451728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713"/>
              <p:cNvSpPr/>
              <p:nvPr/>
            </p:nvSpPr>
            <p:spPr>
              <a:xfrm>
                <a:off x="11028960" y="452880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714"/>
              <p:cNvSpPr/>
              <p:nvPr/>
            </p:nvSpPr>
            <p:spPr>
              <a:xfrm>
                <a:off x="11019960" y="4526280"/>
                <a:ext cx="1332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715"/>
              <p:cNvSpPr/>
              <p:nvPr/>
            </p:nvSpPr>
            <p:spPr>
              <a:xfrm>
                <a:off x="11038320" y="45309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716"/>
              <p:cNvSpPr/>
              <p:nvPr/>
            </p:nvSpPr>
            <p:spPr>
              <a:xfrm>
                <a:off x="10998720" y="4517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717"/>
              <p:cNvSpPr/>
              <p:nvPr/>
            </p:nvSpPr>
            <p:spPr>
              <a:xfrm>
                <a:off x="10987200" y="455904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718"/>
              <p:cNvSpPr/>
              <p:nvPr/>
            </p:nvSpPr>
            <p:spPr>
              <a:xfrm>
                <a:off x="11071080" y="4559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719"/>
              <p:cNvSpPr/>
              <p:nvPr/>
            </p:nvSpPr>
            <p:spPr>
              <a:xfrm>
                <a:off x="11189160" y="4405680"/>
                <a:ext cx="29880" cy="277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720"/>
              <p:cNvSpPr/>
              <p:nvPr/>
            </p:nvSpPr>
            <p:spPr>
              <a:xfrm>
                <a:off x="11193480" y="4361400"/>
                <a:ext cx="25560" cy="6264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721"/>
              <p:cNvSpPr/>
              <p:nvPr/>
            </p:nvSpPr>
            <p:spPr>
              <a:xfrm>
                <a:off x="11184480" y="441036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722"/>
              <p:cNvSpPr/>
              <p:nvPr/>
            </p:nvSpPr>
            <p:spPr>
              <a:xfrm>
                <a:off x="11156760" y="443556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723"/>
              <p:cNvSpPr/>
              <p:nvPr/>
            </p:nvSpPr>
            <p:spPr>
              <a:xfrm>
                <a:off x="11158920" y="443160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24"/>
              <p:cNvSpPr/>
              <p:nvPr/>
            </p:nvSpPr>
            <p:spPr>
              <a:xfrm>
                <a:off x="11175120" y="442404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725"/>
              <p:cNvSpPr/>
              <p:nvPr/>
            </p:nvSpPr>
            <p:spPr>
              <a:xfrm>
                <a:off x="11166120" y="44287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726"/>
              <p:cNvSpPr/>
              <p:nvPr/>
            </p:nvSpPr>
            <p:spPr>
              <a:xfrm>
                <a:off x="11179800" y="44172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727"/>
              <p:cNvSpPr/>
              <p:nvPr/>
            </p:nvSpPr>
            <p:spPr>
              <a:xfrm>
                <a:off x="11152080" y="444312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728"/>
              <p:cNvSpPr/>
              <p:nvPr/>
            </p:nvSpPr>
            <p:spPr>
              <a:xfrm>
                <a:off x="11147040" y="446616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729"/>
              <p:cNvSpPr/>
              <p:nvPr/>
            </p:nvSpPr>
            <p:spPr>
              <a:xfrm>
                <a:off x="11147040" y="447300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730"/>
              <p:cNvSpPr/>
              <p:nvPr/>
            </p:nvSpPr>
            <p:spPr>
              <a:xfrm>
                <a:off x="11149920" y="444996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731"/>
              <p:cNvSpPr/>
              <p:nvPr/>
            </p:nvSpPr>
            <p:spPr>
              <a:xfrm>
                <a:off x="11142360" y="447984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732"/>
              <p:cNvSpPr/>
              <p:nvPr/>
            </p:nvSpPr>
            <p:spPr>
              <a:xfrm>
                <a:off x="11140200" y="448956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733"/>
              <p:cNvSpPr/>
              <p:nvPr/>
            </p:nvSpPr>
            <p:spPr>
              <a:xfrm>
                <a:off x="11124000" y="450324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734"/>
              <p:cNvSpPr/>
              <p:nvPr/>
            </p:nvSpPr>
            <p:spPr>
              <a:xfrm>
                <a:off x="11138400" y="449640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735"/>
              <p:cNvSpPr/>
              <p:nvPr/>
            </p:nvSpPr>
            <p:spPr>
              <a:xfrm>
                <a:off x="11075760" y="486540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2" name="Group 736"/>
            <p:cNvGrpSpPr/>
            <p:nvPr/>
          </p:nvGrpSpPr>
          <p:grpSpPr>
            <a:xfrm>
              <a:off x="10910880" y="4872600"/>
              <a:ext cx="368280" cy="563760"/>
              <a:chOff x="10910880" y="4872600"/>
              <a:chExt cx="368280" cy="563760"/>
            </a:xfrm>
          </p:grpSpPr>
          <p:sp>
            <p:nvSpPr>
              <p:cNvPr id="1153" name="Freeform 737"/>
              <p:cNvSpPr/>
              <p:nvPr/>
            </p:nvSpPr>
            <p:spPr>
              <a:xfrm rot="10800000">
                <a:off x="10910880" y="4877640"/>
                <a:ext cx="368280" cy="55872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738"/>
              <p:cNvSpPr/>
              <p:nvPr/>
            </p:nvSpPr>
            <p:spPr>
              <a:xfrm rot="10800000">
                <a:off x="11042640" y="538956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739"/>
              <p:cNvSpPr/>
              <p:nvPr/>
            </p:nvSpPr>
            <p:spPr>
              <a:xfrm rot="10800000">
                <a:off x="11036160" y="537840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740"/>
              <p:cNvSpPr/>
              <p:nvPr/>
            </p:nvSpPr>
            <p:spPr>
              <a:xfrm rot="10800000">
                <a:off x="11037960" y="53622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741"/>
              <p:cNvSpPr/>
              <p:nvPr/>
            </p:nvSpPr>
            <p:spPr>
              <a:xfrm rot="10800000">
                <a:off x="11035800" y="535068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742"/>
              <p:cNvSpPr/>
              <p:nvPr/>
            </p:nvSpPr>
            <p:spPr>
              <a:xfrm rot="10800000">
                <a:off x="11034000" y="533700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743"/>
              <p:cNvSpPr/>
              <p:nvPr/>
            </p:nvSpPr>
            <p:spPr>
              <a:xfrm rot="10800000">
                <a:off x="11029320" y="533232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744"/>
              <p:cNvSpPr/>
              <p:nvPr/>
            </p:nvSpPr>
            <p:spPr>
              <a:xfrm rot="10800000">
                <a:off x="11029320" y="5322240"/>
                <a:ext cx="46080" cy="37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745"/>
              <p:cNvSpPr/>
              <p:nvPr/>
            </p:nvSpPr>
            <p:spPr>
              <a:xfrm rot="10800000">
                <a:off x="11019600" y="530424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746"/>
              <p:cNvSpPr/>
              <p:nvPr/>
            </p:nvSpPr>
            <p:spPr>
              <a:xfrm rot="10800000">
                <a:off x="11022480" y="531360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747"/>
              <p:cNvSpPr/>
              <p:nvPr/>
            </p:nvSpPr>
            <p:spPr>
              <a:xfrm rot="10800000">
                <a:off x="11038320" y="52786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748"/>
              <p:cNvSpPr/>
              <p:nvPr/>
            </p:nvSpPr>
            <p:spPr>
              <a:xfrm rot="10800000">
                <a:off x="11047680" y="52628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749"/>
              <p:cNvSpPr/>
              <p:nvPr/>
            </p:nvSpPr>
            <p:spPr>
              <a:xfrm rot="10800000">
                <a:off x="11045160" y="5271480"/>
                <a:ext cx="1332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750"/>
              <p:cNvSpPr/>
              <p:nvPr/>
            </p:nvSpPr>
            <p:spPr>
              <a:xfrm rot="10800000">
                <a:off x="11019960" y="52880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751"/>
              <p:cNvSpPr/>
              <p:nvPr/>
            </p:nvSpPr>
            <p:spPr>
              <a:xfrm rot="10800000">
                <a:off x="11017800" y="529740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752"/>
              <p:cNvSpPr/>
              <p:nvPr/>
            </p:nvSpPr>
            <p:spPr>
              <a:xfrm rot="10800000">
                <a:off x="11047320" y="525816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753"/>
              <p:cNvSpPr/>
              <p:nvPr/>
            </p:nvSpPr>
            <p:spPr>
              <a:xfrm rot="10800000">
                <a:off x="10929600" y="5253120"/>
                <a:ext cx="34560" cy="367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754"/>
              <p:cNvSpPr/>
              <p:nvPr/>
            </p:nvSpPr>
            <p:spPr>
              <a:xfrm rot="10800000">
                <a:off x="11003040" y="5225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755"/>
              <p:cNvSpPr/>
              <p:nvPr/>
            </p:nvSpPr>
            <p:spPr>
              <a:xfrm rot="10800000">
                <a:off x="11001240" y="5227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756"/>
              <p:cNvSpPr/>
              <p:nvPr/>
            </p:nvSpPr>
            <p:spPr>
              <a:xfrm rot="10800000">
                <a:off x="11005920" y="5222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757"/>
              <p:cNvSpPr/>
              <p:nvPr/>
            </p:nvSpPr>
            <p:spPr>
              <a:xfrm rot="10800000">
                <a:off x="10962000" y="52437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758"/>
              <p:cNvSpPr/>
              <p:nvPr/>
            </p:nvSpPr>
            <p:spPr>
              <a:xfrm rot="10800000">
                <a:off x="10977840" y="523908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759"/>
              <p:cNvSpPr/>
              <p:nvPr/>
            </p:nvSpPr>
            <p:spPr>
              <a:xfrm rot="10800000">
                <a:off x="10971000" y="524124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760"/>
              <p:cNvSpPr/>
              <p:nvPr/>
            </p:nvSpPr>
            <p:spPr>
              <a:xfrm rot="10800000">
                <a:off x="10980360" y="5238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761"/>
              <p:cNvSpPr/>
              <p:nvPr/>
            </p:nvSpPr>
            <p:spPr>
              <a:xfrm rot="10800000">
                <a:off x="10980000" y="523656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762"/>
              <p:cNvSpPr/>
              <p:nvPr/>
            </p:nvSpPr>
            <p:spPr>
              <a:xfrm rot="10800000">
                <a:off x="10985040" y="5231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763"/>
              <p:cNvSpPr/>
              <p:nvPr/>
            </p:nvSpPr>
            <p:spPr>
              <a:xfrm rot="10800000">
                <a:off x="10996200" y="522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764"/>
              <p:cNvSpPr/>
              <p:nvPr/>
            </p:nvSpPr>
            <p:spPr>
              <a:xfrm rot="10800000">
                <a:off x="10994400" y="523188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765"/>
              <p:cNvSpPr/>
              <p:nvPr/>
            </p:nvSpPr>
            <p:spPr>
              <a:xfrm rot="10800000">
                <a:off x="11091960" y="5331960"/>
                <a:ext cx="8064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766"/>
              <p:cNvSpPr/>
              <p:nvPr/>
            </p:nvSpPr>
            <p:spPr>
              <a:xfrm rot="10800000">
                <a:off x="11087280" y="53226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767"/>
              <p:cNvSpPr/>
              <p:nvPr/>
            </p:nvSpPr>
            <p:spPr>
              <a:xfrm rot="10800000">
                <a:off x="11085120" y="5313240"/>
                <a:ext cx="80640" cy="205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768"/>
              <p:cNvSpPr/>
              <p:nvPr/>
            </p:nvSpPr>
            <p:spPr>
              <a:xfrm rot="10800000">
                <a:off x="11082240" y="53064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769"/>
              <p:cNvSpPr/>
              <p:nvPr/>
            </p:nvSpPr>
            <p:spPr>
              <a:xfrm rot="10800000">
                <a:off x="11077560" y="529956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770"/>
              <p:cNvSpPr/>
              <p:nvPr/>
            </p:nvSpPr>
            <p:spPr>
              <a:xfrm rot="10800000">
                <a:off x="11073600" y="5290200"/>
                <a:ext cx="8064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771"/>
              <p:cNvSpPr/>
              <p:nvPr/>
            </p:nvSpPr>
            <p:spPr>
              <a:xfrm rot="10800000">
                <a:off x="11065680" y="525816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772"/>
              <p:cNvSpPr/>
              <p:nvPr/>
            </p:nvSpPr>
            <p:spPr>
              <a:xfrm rot="10800000">
                <a:off x="11063520" y="5265000"/>
                <a:ext cx="8532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773"/>
              <p:cNvSpPr/>
              <p:nvPr/>
            </p:nvSpPr>
            <p:spPr>
              <a:xfrm rot="10800000">
                <a:off x="11065680" y="5274360"/>
                <a:ext cx="8532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774"/>
              <p:cNvSpPr/>
              <p:nvPr/>
            </p:nvSpPr>
            <p:spPr>
              <a:xfrm rot="10800000">
                <a:off x="11070720" y="5280840"/>
                <a:ext cx="8064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775"/>
              <p:cNvSpPr/>
              <p:nvPr/>
            </p:nvSpPr>
            <p:spPr>
              <a:xfrm rot="10800000">
                <a:off x="11063520" y="523440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776"/>
              <p:cNvSpPr/>
              <p:nvPr/>
            </p:nvSpPr>
            <p:spPr>
              <a:xfrm rot="10800000">
                <a:off x="11063880" y="5243760"/>
                <a:ext cx="66960" cy="187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777"/>
              <p:cNvSpPr/>
              <p:nvPr/>
            </p:nvSpPr>
            <p:spPr>
              <a:xfrm rot="10800000">
                <a:off x="11066040" y="5211360"/>
                <a:ext cx="53280" cy="320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778"/>
              <p:cNvSpPr/>
              <p:nvPr/>
            </p:nvSpPr>
            <p:spPr>
              <a:xfrm rot="10800000">
                <a:off x="11063880" y="524844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779"/>
              <p:cNvSpPr/>
              <p:nvPr/>
            </p:nvSpPr>
            <p:spPr>
              <a:xfrm rot="10800000">
                <a:off x="11100600" y="535968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780"/>
              <p:cNvSpPr/>
              <p:nvPr/>
            </p:nvSpPr>
            <p:spPr>
              <a:xfrm rot="10800000">
                <a:off x="11096280" y="535068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781"/>
              <p:cNvSpPr/>
              <p:nvPr/>
            </p:nvSpPr>
            <p:spPr>
              <a:xfrm rot="10800000">
                <a:off x="10945440" y="5118480"/>
                <a:ext cx="13428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82"/>
              <p:cNvSpPr/>
              <p:nvPr/>
            </p:nvSpPr>
            <p:spPr>
              <a:xfrm rot="10800000">
                <a:off x="11070720" y="512784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783"/>
              <p:cNvSpPr/>
              <p:nvPr/>
            </p:nvSpPr>
            <p:spPr>
              <a:xfrm rot="10800000">
                <a:off x="11088720" y="5067360"/>
                <a:ext cx="3708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784"/>
              <p:cNvSpPr/>
              <p:nvPr/>
            </p:nvSpPr>
            <p:spPr>
              <a:xfrm rot="10800000">
                <a:off x="11170440" y="525312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785"/>
              <p:cNvSpPr/>
              <p:nvPr/>
            </p:nvSpPr>
            <p:spPr>
              <a:xfrm rot="10800000">
                <a:off x="11133360" y="52228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786"/>
              <p:cNvSpPr/>
              <p:nvPr/>
            </p:nvSpPr>
            <p:spPr>
              <a:xfrm rot="10800000">
                <a:off x="11137680" y="522540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787"/>
              <p:cNvSpPr/>
              <p:nvPr/>
            </p:nvSpPr>
            <p:spPr>
              <a:xfrm rot="10800000">
                <a:off x="11139840" y="52275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788"/>
              <p:cNvSpPr/>
              <p:nvPr/>
            </p:nvSpPr>
            <p:spPr>
              <a:xfrm rot="10800000">
                <a:off x="11115000" y="521136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789"/>
              <p:cNvSpPr/>
              <p:nvPr/>
            </p:nvSpPr>
            <p:spPr>
              <a:xfrm rot="10800000">
                <a:off x="11156040" y="524160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790"/>
              <p:cNvSpPr/>
              <p:nvPr/>
            </p:nvSpPr>
            <p:spPr>
              <a:xfrm rot="10800000">
                <a:off x="11156400" y="523908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791"/>
              <p:cNvSpPr/>
              <p:nvPr/>
            </p:nvSpPr>
            <p:spPr>
              <a:xfrm rot="10800000">
                <a:off x="11144880" y="523008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792"/>
              <p:cNvSpPr/>
              <p:nvPr/>
            </p:nvSpPr>
            <p:spPr>
              <a:xfrm rot="10800000">
                <a:off x="11151720" y="523476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793"/>
              <p:cNvSpPr/>
              <p:nvPr/>
            </p:nvSpPr>
            <p:spPr>
              <a:xfrm rot="10800000">
                <a:off x="11147760" y="5234760"/>
                <a:ext cx="20160" cy="136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794"/>
              <p:cNvSpPr/>
              <p:nvPr/>
            </p:nvSpPr>
            <p:spPr>
              <a:xfrm rot="10800000">
                <a:off x="11162880" y="524844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795"/>
              <p:cNvSpPr/>
              <p:nvPr/>
            </p:nvSpPr>
            <p:spPr>
              <a:xfrm rot="10800000">
                <a:off x="11154240" y="523692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796"/>
              <p:cNvSpPr/>
              <p:nvPr/>
            </p:nvSpPr>
            <p:spPr>
              <a:xfrm rot="10800000">
                <a:off x="11167920" y="52531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797"/>
              <p:cNvSpPr/>
              <p:nvPr/>
            </p:nvSpPr>
            <p:spPr>
              <a:xfrm rot="10800000">
                <a:off x="11165760" y="525060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98"/>
              <p:cNvSpPr/>
              <p:nvPr/>
            </p:nvSpPr>
            <p:spPr>
              <a:xfrm rot="10800000">
                <a:off x="11139840" y="523008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99"/>
              <p:cNvSpPr/>
              <p:nvPr/>
            </p:nvSpPr>
            <p:spPr>
              <a:xfrm rot="10800000">
                <a:off x="11144520" y="523224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800"/>
              <p:cNvSpPr/>
              <p:nvPr/>
            </p:nvSpPr>
            <p:spPr>
              <a:xfrm rot="10800000">
                <a:off x="11221560" y="52434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801"/>
              <p:cNvSpPr/>
              <p:nvPr/>
            </p:nvSpPr>
            <p:spPr>
              <a:xfrm rot="10800000">
                <a:off x="11230560" y="52459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802"/>
              <p:cNvSpPr/>
              <p:nvPr/>
            </p:nvSpPr>
            <p:spPr>
              <a:xfrm rot="10800000">
                <a:off x="11216880" y="52412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803"/>
              <p:cNvSpPr/>
              <p:nvPr/>
            </p:nvSpPr>
            <p:spPr>
              <a:xfrm rot="10800000">
                <a:off x="11207520" y="523872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804"/>
              <p:cNvSpPr/>
              <p:nvPr/>
            </p:nvSpPr>
            <p:spPr>
              <a:xfrm rot="10800000">
                <a:off x="11202480" y="523440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805"/>
              <p:cNvSpPr/>
              <p:nvPr/>
            </p:nvSpPr>
            <p:spPr>
              <a:xfrm rot="10800000">
                <a:off x="11188800" y="52272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806"/>
              <p:cNvSpPr/>
              <p:nvPr/>
            </p:nvSpPr>
            <p:spPr>
              <a:xfrm rot="10800000">
                <a:off x="11193480" y="5229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807"/>
              <p:cNvSpPr/>
              <p:nvPr/>
            </p:nvSpPr>
            <p:spPr>
              <a:xfrm rot="10800000">
                <a:off x="11196000" y="523188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808"/>
              <p:cNvSpPr/>
              <p:nvPr/>
            </p:nvSpPr>
            <p:spPr>
              <a:xfrm rot="10800000">
                <a:off x="11198520" y="52318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809"/>
              <p:cNvSpPr/>
              <p:nvPr/>
            </p:nvSpPr>
            <p:spPr>
              <a:xfrm rot="10800000">
                <a:off x="11196000" y="52365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810"/>
              <p:cNvSpPr/>
              <p:nvPr/>
            </p:nvSpPr>
            <p:spPr>
              <a:xfrm rot="10800000">
                <a:off x="11200320" y="523908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811"/>
              <p:cNvSpPr/>
              <p:nvPr/>
            </p:nvSpPr>
            <p:spPr>
              <a:xfrm rot="10800000">
                <a:off x="11228040" y="5250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812"/>
              <p:cNvSpPr/>
              <p:nvPr/>
            </p:nvSpPr>
            <p:spPr>
              <a:xfrm rot="10800000">
                <a:off x="11219040" y="5245920"/>
                <a:ext cx="1872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813"/>
              <p:cNvSpPr/>
              <p:nvPr/>
            </p:nvSpPr>
            <p:spPr>
              <a:xfrm rot="10800000">
                <a:off x="11209680" y="524340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814"/>
              <p:cNvSpPr/>
              <p:nvPr/>
            </p:nvSpPr>
            <p:spPr>
              <a:xfrm rot="10800000">
                <a:off x="11188800" y="523188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815"/>
              <p:cNvSpPr/>
              <p:nvPr/>
            </p:nvSpPr>
            <p:spPr>
              <a:xfrm rot="10800000">
                <a:off x="11234880" y="525312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816"/>
              <p:cNvSpPr/>
              <p:nvPr/>
            </p:nvSpPr>
            <p:spPr>
              <a:xfrm rot="10800000">
                <a:off x="11242080" y="525528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817"/>
              <p:cNvSpPr/>
              <p:nvPr/>
            </p:nvSpPr>
            <p:spPr>
              <a:xfrm rot="10800000">
                <a:off x="11175480" y="52254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818"/>
              <p:cNvSpPr/>
              <p:nvPr/>
            </p:nvSpPr>
            <p:spPr>
              <a:xfrm rot="10800000">
                <a:off x="11181960" y="523008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819"/>
              <p:cNvSpPr/>
              <p:nvPr/>
            </p:nvSpPr>
            <p:spPr>
              <a:xfrm rot="10800000">
                <a:off x="11162880" y="5216040"/>
                <a:ext cx="1404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820"/>
              <p:cNvSpPr/>
              <p:nvPr/>
            </p:nvSpPr>
            <p:spPr>
              <a:xfrm rot="10800000">
                <a:off x="11170440" y="5220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821"/>
              <p:cNvSpPr/>
              <p:nvPr/>
            </p:nvSpPr>
            <p:spPr>
              <a:xfrm rot="10800000">
                <a:off x="11147400" y="520884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822"/>
              <p:cNvSpPr/>
              <p:nvPr/>
            </p:nvSpPr>
            <p:spPr>
              <a:xfrm rot="10800000">
                <a:off x="11156040" y="521136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823"/>
              <p:cNvSpPr/>
              <p:nvPr/>
            </p:nvSpPr>
            <p:spPr>
              <a:xfrm rot="10800000">
                <a:off x="11142720" y="521136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824"/>
              <p:cNvSpPr/>
              <p:nvPr/>
            </p:nvSpPr>
            <p:spPr>
              <a:xfrm rot="10800000">
                <a:off x="11186640" y="52250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825"/>
              <p:cNvSpPr/>
              <p:nvPr/>
            </p:nvSpPr>
            <p:spPr>
              <a:xfrm rot="10800000">
                <a:off x="11086920" y="510012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826"/>
              <p:cNvSpPr/>
              <p:nvPr/>
            </p:nvSpPr>
            <p:spPr>
              <a:xfrm rot="10800000">
                <a:off x="11114640" y="5183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827"/>
              <p:cNvSpPr/>
              <p:nvPr/>
            </p:nvSpPr>
            <p:spPr>
              <a:xfrm rot="10800000">
                <a:off x="10968480" y="5313600"/>
                <a:ext cx="29880" cy="273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828"/>
              <p:cNvSpPr/>
              <p:nvPr/>
            </p:nvSpPr>
            <p:spPr>
              <a:xfrm rot="10800000">
                <a:off x="10968480" y="532008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29"/>
              <p:cNvSpPr/>
              <p:nvPr/>
            </p:nvSpPr>
            <p:spPr>
              <a:xfrm rot="10800000">
                <a:off x="10968840" y="530388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30"/>
              <p:cNvSpPr/>
              <p:nvPr/>
            </p:nvSpPr>
            <p:spPr>
              <a:xfrm rot="10800000">
                <a:off x="10982880" y="526932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831"/>
              <p:cNvSpPr/>
              <p:nvPr/>
            </p:nvSpPr>
            <p:spPr>
              <a:xfrm rot="10800000">
                <a:off x="10980000" y="527400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832"/>
              <p:cNvSpPr/>
              <p:nvPr/>
            </p:nvSpPr>
            <p:spPr>
              <a:xfrm rot="10800000">
                <a:off x="10973160" y="529020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833"/>
              <p:cNvSpPr/>
              <p:nvPr/>
            </p:nvSpPr>
            <p:spPr>
              <a:xfrm rot="10800000">
                <a:off x="10978200" y="528120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834"/>
              <p:cNvSpPr/>
              <p:nvPr/>
            </p:nvSpPr>
            <p:spPr>
              <a:xfrm rot="10800000">
                <a:off x="10973520" y="529704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835"/>
              <p:cNvSpPr/>
              <p:nvPr/>
            </p:nvSpPr>
            <p:spPr>
              <a:xfrm rot="10800000">
                <a:off x="10986840" y="526284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836"/>
              <p:cNvSpPr/>
              <p:nvPr/>
            </p:nvSpPr>
            <p:spPr>
              <a:xfrm rot="10800000">
                <a:off x="10996560" y="5248440"/>
                <a:ext cx="43920" cy="324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837"/>
              <p:cNvSpPr/>
              <p:nvPr/>
            </p:nvSpPr>
            <p:spPr>
              <a:xfrm rot="10800000">
                <a:off x="11006280" y="524592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838"/>
              <p:cNvSpPr/>
              <p:nvPr/>
            </p:nvSpPr>
            <p:spPr>
              <a:xfrm rot="10800000">
                <a:off x="10990080" y="52506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839"/>
              <p:cNvSpPr/>
              <p:nvPr/>
            </p:nvSpPr>
            <p:spPr>
              <a:xfrm rot="10800000">
                <a:off x="11015280" y="524376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840"/>
              <p:cNvSpPr/>
              <p:nvPr/>
            </p:nvSpPr>
            <p:spPr>
              <a:xfrm rot="10800000">
                <a:off x="11022480" y="523908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841"/>
              <p:cNvSpPr/>
              <p:nvPr/>
            </p:nvSpPr>
            <p:spPr>
              <a:xfrm rot="10800000">
                <a:off x="11037960" y="522072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842"/>
              <p:cNvSpPr/>
              <p:nvPr/>
            </p:nvSpPr>
            <p:spPr>
              <a:xfrm rot="10800000">
                <a:off x="11029320" y="5231880"/>
                <a:ext cx="2016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843"/>
              <p:cNvSpPr/>
              <p:nvPr/>
            </p:nvSpPr>
            <p:spPr>
              <a:xfrm rot="10800000">
                <a:off x="11068560" y="487260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0" name="Group 881"/>
          <p:cNvGrpSpPr/>
          <p:nvPr/>
        </p:nvGrpSpPr>
        <p:grpSpPr>
          <a:xfrm>
            <a:off x="11484000" y="4749840"/>
            <a:ext cx="68400" cy="533520"/>
            <a:chOff x="11484000" y="4749840"/>
            <a:chExt cx="68400" cy="533520"/>
          </a:xfrm>
        </p:grpSpPr>
        <p:pic>
          <p:nvPicPr>
            <p:cNvPr id="1261" name="Picture 625" descr="2"/>
            <p:cNvPicPr/>
            <p:nvPr/>
          </p:nvPicPr>
          <p:blipFill>
            <a:blip r:embed="rId3"/>
            <a:stretch/>
          </p:blipFill>
          <p:spPr>
            <a:xfrm>
              <a:off x="11488680" y="4749840"/>
              <a:ext cx="63720" cy="2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2" name="Group 880"/>
            <p:cNvGrpSpPr/>
            <p:nvPr/>
          </p:nvGrpSpPr>
          <p:grpSpPr>
            <a:xfrm>
              <a:off x="11484000" y="5021640"/>
              <a:ext cx="63360" cy="261720"/>
              <a:chOff x="11484000" y="5021640"/>
              <a:chExt cx="63360" cy="261720"/>
            </a:xfrm>
          </p:grpSpPr>
          <p:sp>
            <p:nvSpPr>
              <p:cNvPr id="1263" name="Freeform 847"/>
              <p:cNvSpPr/>
              <p:nvPr/>
            </p:nvSpPr>
            <p:spPr>
              <a:xfrm flipV="1">
                <a:off x="11484000" y="5021280"/>
                <a:ext cx="63360" cy="261720"/>
              </a:xfrm>
              <a:custGeom>
                <a:avLst/>
                <a:gdLst/>
                <a:ahLst/>
                <a:rect l="l" t="t" r="r" b="b"/>
                <a:pathLst>
                  <a:path w="119" h="495">
                    <a:moveTo>
                      <a:pt x="86" y="99"/>
                    </a:moveTo>
                    <a:lnTo>
                      <a:pt x="83" y="93"/>
                    </a:lnTo>
                    <a:lnTo>
                      <a:pt x="76" y="82"/>
                    </a:lnTo>
                    <a:lnTo>
                      <a:pt x="63" y="61"/>
                    </a:lnTo>
                    <a:lnTo>
                      <a:pt x="49" y="42"/>
                    </a:lnTo>
                    <a:lnTo>
                      <a:pt x="18" y="6"/>
                    </a:lnTo>
                    <a:lnTo>
                      <a:pt x="15" y="0"/>
                    </a:lnTo>
                    <a:lnTo>
                      <a:pt x="5" y="13"/>
                    </a:lnTo>
                    <a:lnTo>
                      <a:pt x="2" y="50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1" y="170"/>
                    </a:lnTo>
                    <a:lnTo>
                      <a:pt x="5" y="193"/>
                    </a:lnTo>
                    <a:lnTo>
                      <a:pt x="8" y="203"/>
                    </a:lnTo>
                    <a:lnTo>
                      <a:pt x="14" y="213"/>
                    </a:lnTo>
                    <a:lnTo>
                      <a:pt x="46" y="255"/>
                    </a:lnTo>
                    <a:lnTo>
                      <a:pt x="69" y="276"/>
                    </a:lnTo>
                    <a:lnTo>
                      <a:pt x="78" y="292"/>
                    </a:lnTo>
                    <a:lnTo>
                      <a:pt x="78" y="294"/>
                    </a:lnTo>
                    <a:lnTo>
                      <a:pt x="81" y="295"/>
                    </a:lnTo>
                    <a:lnTo>
                      <a:pt x="83" y="296"/>
                    </a:lnTo>
                    <a:lnTo>
                      <a:pt x="87" y="297"/>
                    </a:lnTo>
                    <a:lnTo>
                      <a:pt x="93" y="321"/>
                    </a:lnTo>
                    <a:lnTo>
                      <a:pt x="97" y="348"/>
                    </a:lnTo>
                    <a:lnTo>
                      <a:pt x="100" y="373"/>
                    </a:lnTo>
                    <a:lnTo>
                      <a:pt x="101" y="399"/>
                    </a:lnTo>
                    <a:lnTo>
                      <a:pt x="101" y="443"/>
                    </a:lnTo>
                    <a:lnTo>
                      <a:pt x="100" y="446"/>
                    </a:lnTo>
                    <a:lnTo>
                      <a:pt x="96" y="465"/>
                    </a:lnTo>
                    <a:lnTo>
                      <a:pt x="93" y="470"/>
                    </a:lnTo>
                    <a:lnTo>
                      <a:pt x="93" y="478"/>
                    </a:lnTo>
                    <a:lnTo>
                      <a:pt x="93" y="481"/>
                    </a:lnTo>
                    <a:lnTo>
                      <a:pt x="83" y="481"/>
                    </a:lnTo>
                    <a:lnTo>
                      <a:pt x="78" y="484"/>
                    </a:lnTo>
                    <a:lnTo>
                      <a:pt x="78" y="488"/>
                    </a:lnTo>
                    <a:lnTo>
                      <a:pt x="83" y="495"/>
                    </a:lnTo>
                    <a:lnTo>
                      <a:pt x="114" y="495"/>
                    </a:lnTo>
                    <a:lnTo>
                      <a:pt x="115" y="489"/>
                    </a:lnTo>
                    <a:lnTo>
                      <a:pt x="118" y="485"/>
                    </a:lnTo>
                    <a:lnTo>
                      <a:pt x="119" y="479"/>
                    </a:lnTo>
                    <a:lnTo>
                      <a:pt x="118" y="477"/>
                    </a:lnTo>
                    <a:lnTo>
                      <a:pt x="116" y="478"/>
                    </a:lnTo>
                    <a:lnTo>
                      <a:pt x="108" y="483"/>
                    </a:lnTo>
                    <a:lnTo>
                      <a:pt x="106" y="478"/>
                    </a:lnTo>
                    <a:lnTo>
                      <a:pt x="106" y="473"/>
                    </a:lnTo>
                    <a:lnTo>
                      <a:pt x="110" y="466"/>
                    </a:lnTo>
                    <a:lnTo>
                      <a:pt x="109" y="455"/>
                    </a:lnTo>
                    <a:lnTo>
                      <a:pt x="113" y="441"/>
                    </a:lnTo>
                    <a:lnTo>
                      <a:pt x="110" y="441"/>
                    </a:lnTo>
                    <a:lnTo>
                      <a:pt x="112" y="419"/>
                    </a:lnTo>
                    <a:lnTo>
                      <a:pt x="108" y="381"/>
                    </a:lnTo>
                    <a:lnTo>
                      <a:pt x="103" y="336"/>
                    </a:lnTo>
                    <a:lnTo>
                      <a:pt x="96" y="301"/>
                    </a:lnTo>
                    <a:lnTo>
                      <a:pt x="93" y="289"/>
                    </a:lnTo>
                    <a:lnTo>
                      <a:pt x="88" y="286"/>
                    </a:lnTo>
                    <a:lnTo>
                      <a:pt x="87" y="284"/>
                    </a:lnTo>
                    <a:lnTo>
                      <a:pt x="88" y="283"/>
                    </a:lnTo>
                    <a:lnTo>
                      <a:pt x="89" y="271"/>
                    </a:lnTo>
                    <a:lnTo>
                      <a:pt x="95" y="247"/>
                    </a:lnTo>
                    <a:lnTo>
                      <a:pt x="100" y="225"/>
                    </a:lnTo>
                    <a:lnTo>
                      <a:pt x="101" y="204"/>
                    </a:lnTo>
                    <a:lnTo>
                      <a:pt x="101" y="182"/>
                    </a:lnTo>
                    <a:lnTo>
                      <a:pt x="99" y="164"/>
                    </a:lnTo>
                    <a:lnTo>
                      <a:pt x="97" y="145"/>
                    </a:lnTo>
                    <a:lnTo>
                      <a:pt x="100" y="146"/>
                    </a:lnTo>
                    <a:lnTo>
                      <a:pt x="106" y="165"/>
                    </a:lnTo>
                    <a:lnTo>
                      <a:pt x="110" y="185"/>
                    </a:lnTo>
                    <a:lnTo>
                      <a:pt x="112" y="204"/>
                    </a:lnTo>
                    <a:lnTo>
                      <a:pt x="110" y="223"/>
                    </a:lnTo>
                    <a:lnTo>
                      <a:pt x="103" y="258"/>
                    </a:lnTo>
                    <a:lnTo>
                      <a:pt x="103" y="264"/>
                    </a:lnTo>
                    <a:lnTo>
                      <a:pt x="103" y="273"/>
                    </a:lnTo>
                    <a:lnTo>
                      <a:pt x="97" y="278"/>
                    </a:lnTo>
                    <a:lnTo>
                      <a:pt x="96" y="282"/>
                    </a:lnTo>
                    <a:lnTo>
                      <a:pt x="96" y="283"/>
                    </a:lnTo>
                    <a:lnTo>
                      <a:pt x="100" y="283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4" y="246"/>
                    </a:lnTo>
                    <a:lnTo>
                      <a:pt x="115" y="210"/>
                    </a:lnTo>
                    <a:lnTo>
                      <a:pt x="109" y="168"/>
                    </a:lnTo>
                    <a:lnTo>
                      <a:pt x="101" y="143"/>
                    </a:lnTo>
                    <a:lnTo>
                      <a:pt x="95" y="134"/>
                    </a:lnTo>
                    <a:lnTo>
                      <a:pt x="86" y="99"/>
                    </a:lnTo>
                    <a:close/>
                    <a:moveTo>
                      <a:pt x="87" y="138"/>
                    </a:moveTo>
                    <a:lnTo>
                      <a:pt x="91" y="170"/>
                    </a:lnTo>
                    <a:lnTo>
                      <a:pt x="94" y="206"/>
                    </a:lnTo>
                    <a:lnTo>
                      <a:pt x="90" y="250"/>
                    </a:lnTo>
                    <a:lnTo>
                      <a:pt x="88" y="258"/>
                    </a:lnTo>
                    <a:lnTo>
                      <a:pt x="87" y="260"/>
                    </a:lnTo>
                    <a:lnTo>
                      <a:pt x="87" y="259"/>
                    </a:lnTo>
                    <a:lnTo>
                      <a:pt x="84" y="276"/>
                    </a:lnTo>
                    <a:lnTo>
                      <a:pt x="83" y="278"/>
                    </a:lnTo>
                    <a:lnTo>
                      <a:pt x="72" y="271"/>
                    </a:lnTo>
                    <a:lnTo>
                      <a:pt x="49" y="218"/>
                    </a:lnTo>
                    <a:lnTo>
                      <a:pt x="32" y="183"/>
                    </a:lnTo>
                    <a:lnTo>
                      <a:pt x="19" y="152"/>
                    </a:lnTo>
                    <a:lnTo>
                      <a:pt x="15" y="141"/>
                    </a:lnTo>
                    <a:lnTo>
                      <a:pt x="11" y="128"/>
                    </a:lnTo>
                    <a:lnTo>
                      <a:pt x="8" y="116"/>
                    </a:lnTo>
                    <a:lnTo>
                      <a:pt x="5" y="92"/>
                    </a:lnTo>
                    <a:lnTo>
                      <a:pt x="5" y="66"/>
                    </a:lnTo>
                    <a:lnTo>
                      <a:pt x="8" y="42"/>
                    </a:lnTo>
                    <a:lnTo>
                      <a:pt x="13" y="16"/>
                    </a:lnTo>
                    <a:lnTo>
                      <a:pt x="51" y="56"/>
                    </a:lnTo>
                    <a:lnTo>
                      <a:pt x="63" y="71"/>
                    </a:lnTo>
                    <a:lnTo>
                      <a:pt x="81" y="109"/>
                    </a:lnTo>
                    <a:lnTo>
                      <a:pt x="87" y="138"/>
                    </a:lnTo>
                    <a:close/>
                    <a:moveTo>
                      <a:pt x="7" y="165"/>
                    </a:moveTo>
                    <a:lnTo>
                      <a:pt x="6" y="161"/>
                    </a:lnTo>
                    <a:lnTo>
                      <a:pt x="2" y="123"/>
                    </a:lnTo>
                    <a:lnTo>
                      <a:pt x="15" y="159"/>
                    </a:lnTo>
                    <a:lnTo>
                      <a:pt x="20" y="173"/>
                    </a:lnTo>
                    <a:lnTo>
                      <a:pt x="38" y="207"/>
                    </a:lnTo>
                    <a:lnTo>
                      <a:pt x="50" y="235"/>
                    </a:lnTo>
                    <a:lnTo>
                      <a:pt x="62" y="261"/>
                    </a:lnTo>
                    <a:lnTo>
                      <a:pt x="46" y="248"/>
                    </a:lnTo>
                    <a:lnTo>
                      <a:pt x="33" y="234"/>
                    </a:lnTo>
                    <a:lnTo>
                      <a:pt x="23" y="217"/>
                    </a:lnTo>
                    <a:lnTo>
                      <a:pt x="17" y="200"/>
                    </a:lnTo>
                    <a:lnTo>
                      <a:pt x="7" y="165"/>
                    </a:lnTo>
                    <a:close/>
                  </a:path>
                </a:pathLst>
              </a:custGeom>
              <a:solidFill>
                <a:srgbClr val="6a4f5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848"/>
              <p:cNvSpPr/>
              <p:nvPr/>
            </p:nvSpPr>
            <p:spPr>
              <a:xfrm flipV="1">
                <a:off x="11487240" y="522144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69" y="9"/>
                    </a:moveTo>
                    <a:lnTo>
                      <a:pt x="64" y="0"/>
                    </a:lnTo>
                    <a:lnTo>
                      <a:pt x="0" y="18"/>
                    </a:lnTo>
                    <a:lnTo>
                      <a:pt x="1" y="27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9c7d87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49"/>
              <p:cNvSpPr/>
              <p:nvPr/>
            </p:nvSpPr>
            <p:spPr>
              <a:xfrm flipV="1">
                <a:off x="11487240" y="5232600"/>
                <a:ext cx="33120" cy="12960"/>
              </a:xfrm>
              <a:custGeom>
                <a:avLst/>
                <a:gdLst/>
                <a:ahLst/>
                <a:rect l="l" t="t" r="r" b="b"/>
                <a:pathLst>
                  <a:path w="63" h="26">
                    <a:moveTo>
                      <a:pt x="58" y="0"/>
                    </a:moveTo>
                    <a:lnTo>
                      <a:pt x="0" y="15"/>
                    </a:lnTo>
                    <a:lnTo>
                      <a:pt x="1" y="26"/>
                    </a:lnTo>
                    <a:lnTo>
                      <a:pt x="63" y="9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2848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50"/>
              <p:cNvSpPr/>
              <p:nvPr/>
            </p:nvSpPr>
            <p:spPr>
              <a:xfrm flipV="1">
                <a:off x="11487240" y="522612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9"/>
                    </a:moveTo>
                    <a:lnTo>
                      <a:pt x="62" y="0"/>
                    </a:lnTo>
                    <a:lnTo>
                      <a:pt x="0" y="17"/>
                    </a:lnTo>
                    <a:lnTo>
                      <a:pt x="1" y="27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f808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851"/>
              <p:cNvSpPr/>
              <p:nvPr/>
            </p:nvSpPr>
            <p:spPr>
              <a:xfrm flipV="1">
                <a:off x="11491920" y="520704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10"/>
                    </a:moveTo>
                    <a:lnTo>
                      <a:pt x="69" y="0"/>
                    </a:lnTo>
                    <a:lnTo>
                      <a:pt x="0" y="19"/>
                    </a:lnTo>
                    <a:lnTo>
                      <a:pt x="1" y="25"/>
                    </a:lnTo>
                    <a:lnTo>
                      <a:pt x="3" y="29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95757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52"/>
              <p:cNvSpPr/>
              <p:nvPr/>
            </p:nvSpPr>
            <p:spPr>
              <a:xfrm flipV="1">
                <a:off x="11490120" y="52120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72" h="28">
                    <a:moveTo>
                      <a:pt x="72" y="9"/>
                    </a:moveTo>
                    <a:lnTo>
                      <a:pt x="70" y="2"/>
                    </a:lnTo>
                    <a:lnTo>
                      <a:pt x="69" y="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987882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853"/>
              <p:cNvSpPr/>
              <p:nvPr/>
            </p:nvSpPr>
            <p:spPr>
              <a:xfrm flipV="1">
                <a:off x="11493360" y="520092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11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70" y="11"/>
                    </a:lnTo>
                    <a:close/>
                  </a:path>
                </a:pathLst>
              </a:custGeom>
              <a:solidFill>
                <a:srgbClr val="93737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854"/>
              <p:cNvSpPr/>
              <p:nvPr/>
            </p:nvSpPr>
            <p:spPr>
              <a:xfrm flipV="1">
                <a:off x="11501280" y="518148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61" h="25">
                    <a:moveTo>
                      <a:pt x="59" y="3"/>
                    </a:moveTo>
                    <a:lnTo>
                      <a:pt x="59" y="0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4" y="25"/>
                    </a:lnTo>
                    <a:lnTo>
                      <a:pt x="61" y="9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8a697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855"/>
              <p:cNvSpPr/>
              <p:nvPr/>
            </p:nvSpPr>
            <p:spPr>
              <a:xfrm flipV="1">
                <a:off x="11498040" y="518652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64" y="11"/>
                    </a:moveTo>
                    <a:lnTo>
                      <a:pt x="62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64" y="11"/>
                    </a:lnTo>
                    <a:close/>
                  </a:path>
                </a:pathLst>
              </a:custGeom>
              <a:solidFill>
                <a:srgbClr val="8c6b76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856"/>
              <p:cNvSpPr/>
              <p:nvPr/>
            </p:nvSpPr>
            <p:spPr>
              <a:xfrm flipV="1">
                <a:off x="11496600" y="519120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10"/>
                    </a:moveTo>
                    <a:lnTo>
                      <a:pt x="64" y="0"/>
                    </a:lnTo>
                    <a:lnTo>
                      <a:pt x="0" y="17"/>
                    </a:lnTo>
                    <a:lnTo>
                      <a:pt x="3" y="27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8e6e7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857"/>
              <p:cNvSpPr/>
              <p:nvPr/>
            </p:nvSpPr>
            <p:spPr>
              <a:xfrm flipV="1">
                <a:off x="11495160" y="519732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68" y="9"/>
                    </a:moveTo>
                    <a:lnTo>
                      <a:pt x="67" y="1"/>
                    </a:lnTo>
                    <a:lnTo>
                      <a:pt x="67" y="0"/>
                    </a:lnTo>
                    <a:lnTo>
                      <a:pt x="0" y="18"/>
                    </a:lnTo>
                    <a:lnTo>
                      <a:pt x="4" y="26"/>
                    </a:lnTo>
                    <a:lnTo>
                      <a:pt x="68" y="9"/>
                    </a:lnTo>
                    <a:close/>
                  </a:path>
                </a:pathLst>
              </a:custGeom>
              <a:solidFill>
                <a:srgbClr val="91707a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858"/>
              <p:cNvSpPr/>
              <p:nvPr/>
            </p:nvSpPr>
            <p:spPr>
              <a:xfrm flipV="1">
                <a:off x="11507760" y="513540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49" h="81">
                    <a:moveTo>
                      <a:pt x="49" y="9"/>
                    </a:moveTo>
                    <a:lnTo>
                      <a:pt x="49" y="0"/>
                    </a:lnTo>
                    <a:lnTo>
                      <a:pt x="0" y="13"/>
                    </a:lnTo>
                    <a:lnTo>
                      <a:pt x="4" y="21"/>
                    </a:lnTo>
                    <a:lnTo>
                      <a:pt x="27" y="74"/>
                    </a:lnTo>
                    <a:lnTo>
                      <a:pt x="38" y="81"/>
                    </a:lnTo>
                    <a:lnTo>
                      <a:pt x="39" y="79"/>
                    </a:lnTo>
                    <a:lnTo>
                      <a:pt x="42" y="62"/>
                    </a:lnTo>
                    <a:lnTo>
                      <a:pt x="42" y="63"/>
                    </a:lnTo>
                    <a:lnTo>
                      <a:pt x="43" y="61"/>
                    </a:lnTo>
                    <a:lnTo>
                      <a:pt x="45" y="53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83616c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859"/>
              <p:cNvSpPr/>
              <p:nvPr/>
            </p:nvSpPr>
            <p:spPr>
              <a:xfrm flipV="1">
                <a:off x="11504520" y="5172120"/>
                <a:ext cx="28440" cy="126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11"/>
                    </a:moveTo>
                    <a:lnTo>
                      <a:pt x="53" y="0"/>
                    </a:lnTo>
                    <a:lnTo>
                      <a:pt x="0" y="14"/>
                    </a:lnTo>
                    <a:lnTo>
                      <a:pt x="5" y="24"/>
                    </a:lnTo>
                    <a:lnTo>
                      <a:pt x="54" y="11"/>
                    </a:lnTo>
                    <a:close/>
                  </a:path>
                </a:pathLst>
              </a:custGeom>
              <a:solidFill>
                <a:srgbClr val="85636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860"/>
              <p:cNvSpPr/>
              <p:nvPr/>
            </p:nvSpPr>
            <p:spPr>
              <a:xfrm flipV="1">
                <a:off x="11503080" y="517680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0"/>
                    </a:moveTo>
                    <a:lnTo>
                      <a:pt x="57" y="0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876670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861"/>
              <p:cNvSpPr/>
              <p:nvPr/>
            </p:nvSpPr>
            <p:spPr>
              <a:xfrm flipV="1">
                <a:off x="11488680" y="52167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72" h="28">
                    <a:moveTo>
                      <a:pt x="72" y="9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3" y="28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9a7b85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62"/>
              <p:cNvSpPr/>
              <p:nvPr/>
            </p:nvSpPr>
            <p:spPr>
              <a:xfrm flipV="1">
                <a:off x="11487240" y="524196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51" y="8"/>
                    </a:moveTo>
                    <a:lnTo>
                      <a:pt x="46" y="2"/>
                    </a:lnTo>
                    <a:lnTo>
                      <a:pt x="44" y="0"/>
                    </a:lnTo>
                    <a:lnTo>
                      <a:pt x="1" y="12"/>
                    </a:lnTo>
                    <a:lnTo>
                      <a:pt x="0" y="23"/>
                    </a:lnTo>
                    <a:lnTo>
                      <a:pt x="51" y="8"/>
                    </a:lnTo>
                    <a:close/>
                  </a:path>
                </a:pathLst>
              </a:custGeom>
              <a:solidFill>
                <a:srgbClr val="a68790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63"/>
              <p:cNvSpPr/>
              <p:nvPr/>
            </p:nvSpPr>
            <p:spPr>
              <a:xfrm flipV="1">
                <a:off x="11487240" y="523728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0" y="15"/>
                    </a:moveTo>
                    <a:lnTo>
                      <a:pt x="0" y="24"/>
                    </a:lnTo>
                    <a:lnTo>
                      <a:pt x="58" y="9"/>
                    </a:lnTo>
                    <a:lnTo>
                      <a:pt x="5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4858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864"/>
              <p:cNvSpPr/>
              <p:nvPr/>
            </p:nvSpPr>
            <p:spPr>
              <a:xfrm flipV="1">
                <a:off x="11487240" y="524808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2" y="26"/>
                    </a:moveTo>
                    <a:lnTo>
                      <a:pt x="0" y="50"/>
                    </a:lnTo>
                    <a:lnTo>
                      <a:pt x="43" y="38"/>
                    </a:lnTo>
                    <a:lnTo>
                      <a:pt x="7" y="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a98b9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865"/>
              <p:cNvSpPr/>
              <p:nvPr/>
            </p:nvSpPr>
            <p:spPr>
              <a:xfrm flipV="1">
                <a:off x="11485440" y="5203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9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11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95757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866"/>
              <p:cNvSpPr/>
              <p:nvPr/>
            </p:nvSpPr>
            <p:spPr>
              <a:xfrm flipV="1">
                <a:off x="11485440" y="520992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2" y="15"/>
                    </a:moveTo>
                    <a:lnTo>
                      <a:pt x="5" y="15"/>
                    </a:lnTo>
                    <a:lnTo>
                      <a:pt x="0" y="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a98b9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867"/>
              <p:cNvSpPr/>
              <p:nvPr/>
            </p:nvSpPr>
            <p:spPr>
              <a:xfrm flipV="1">
                <a:off x="11487240" y="51991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0"/>
                    </a:moveTo>
                    <a:lnTo>
                      <a:pt x="0" y="2"/>
                    </a:lnTo>
                    <a:lnTo>
                      <a:pt x="1" y="11"/>
                    </a:lnTo>
                    <a:lnTo>
                      <a:pt x="9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868"/>
              <p:cNvSpPr/>
              <p:nvPr/>
            </p:nvSpPr>
            <p:spPr>
              <a:xfrm flipV="1">
                <a:off x="11487240" y="51944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" y="9"/>
                    </a:moveTo>
                    <a:lnTo>
                      <a:pt x="2" y="12"/>
                    </a:lnTo>
                    <a:lnTo>
                      <a:pt x="12" y="9"/>
                    </a:lnTo>
                    <a:lnTo>
                      <a:pt x="9" y="3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906f7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869"/>
              <p:cNvSpPr/>
              <p:nvPr/>
            </p:nvSpPr>
            <p:spPr>
              <a:xfrm flipV="1">
                <a:off x="11488680" y="5189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8"/>
                    </a:moveTo>
                    <a:lnTo>
                      <a:pt x="10" y="0"/>
                    </a:lnTo>
                    <a:lnTo>
                      <a:pt x="0" y="3"/>
                    </a:lnTo>
                    <a:lnTo>
                      <a:pt x="3" y="12"/>
                    </a:lnTo>
                    <a:lnTo>
                      <a:pt x="13" y="10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8f6e7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870"/>
              <p:cNvSpPr/>
              <p:nvPr/>
            </p:nvSpPr>
            <p:spPr>
              <a:xfrm flipV="1">
                <a:off x="11493360" y="516888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4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871"/>
              <p:cNvSpPr/>
              <p:nvPr/>
            </p:nvSpPr>
            <p:spPr>
              <a:xfrm flipV="1">
                <a:off x="11490120" y="517860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5" y="10"/>
                    </a:moveTo>
                    <a:lnTo>
                      <a:pt x="10" y="0"/>
                    </a:lnTo>
                    <a:lnTo>
                      <a:pt x="0" y="2"/>
                    </a:lnTo>
                    <a:lnTo>
                      <a:pt x="4" y="22"/>
                    </a:lnTo>
                    <a:lnTo>
                      <a:pt x="20" y="18"/>
                    </a:lnTo>
                    <a:lnTo>
                      <a:pt x="15" y="10"/>
                    </a:lnTo>
                    <a:lnTo>
                      <a:pt x="2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8c6b75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872"/>
              <p:cNvSpPr/>
              <p:nvPr/>
            </p:nvSpPr>
            <p:spPr>
              <a:xfrm flipV="1">
                <a:off x="11491920" y="5173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4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21" y="10"/>
                    </a:lnTo>
                    <a:lnTo>
                      <a:pt x="1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86671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873"/>
              <p:cNvSpPr/>
              <p:nvPr/>
            </p:nvSpPr>
            <p:spPr>
              <a:xfrm flipV="1">
                <a:off x="11496600" y="51451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7" y="0"/>
                    </a:moveTo>
                    <a:lnTo>
                      <a:pt x="0" y="5"/>
                    </a:lnTo>
                    <a:lnTo>
                      <a:pt x="6" y="17"/>
                    </a:lnTo>
                    <a:lnTo>
                      <a:pt x="15" y="29"/>
                    </a:lnTo>
                    <a:lnTo>
                      <a:pt x="26" y="39"/>
                    </a:lnTo>
                    <a:lnTo>
                      <a:pt x="39" y="50"/>
                    </a:lnTo>
                    <a:lnTo>
                      <a:pt x="27" y="2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874"/>
              <p:cNvSpPr/>
              <p:nvPr/>
            </p:nvSpPr>
            <p:spPr>
              <a:xfrm flipV="1">
                <a:off x="11536200" y="51958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3" y="0"/>
                    </a:moveTo>
                    <a:lnTo>
                      <a:pt x="0" y="1"/>
                    </a:lnTo>
                    <a:lnTo>
                      <a:pt x="0" y="12"/>
                    </a:lnTo>
                    <a:lnTo>
                      <a:pt x="7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d6c77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875"/>
              <p:cNvSpPr/>
              <p:nvPr/>
            </p:nvSpPr>
            <p:spPr>
              <a:xfrm flipV="1">
                <a:off x="11534760" y="52023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5" y="7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8f6f7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876"/>
              <p:cNvSpPr/>
              <p:nvPr/>
            </p:nvSpPr>
            <p:spPr>
              <a:xfrm flipV="1">
                <a:off x="11536200" y="5191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"/>
                    </a:moveTo>
                    <a:lnTo>
                      <a:pt x="1" y="11"/>
                    </a:lnTo>
                    <a:lnTo>
                      <a:pt x="9" y="8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a687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877"/>
              <p:cNvSpPr/>
              <p:nvPr/>
            </p:nvSpPr>
            <p:spPr>
              <a:xfrm flipV="1">
                <a:off x="11536200" y="5185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8" y="0"/>
                    </a:moveTo>
                    <a:lnTo>
                      <a:pt x="0" y="3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6772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878"/>
              <p:cNvSpPr/>
              <p:nvPr/>
            </p:nvSpPr>
            <p:spPr>
              <a:xfrm flipV="1">
                <a:off x="11538000" y="518004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0"/>
                    </a:moveTo>
                    <a:lnTo>
                      <a:pt x="0" y="3"/>
                    </a:lnTo>
                    <a:lnTo>
                      <a:pt x="1" y="12"/>
                    </a:lnTo>
                    <a:lnTo>
                      <a:pt x="11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6646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879"/>
              <p:cNvSpPr/>
              <p:nvPr/>
            </p:nvSpPr>
            <p:spPr>
              <a:xfrm flipV="1">
                <a:off x="11530080" y="5130720"/>
                <a:ext cx="12600" cy="50760"/>
              </a:xfrm>
              <a:custGeom>
                <a:avLst/>
                <a:gdLst/>
                <a:ahLst/>
                <a:rect l="l" t="t" r="r" b="b"/>
                <a:pathLst>
                  <a:path w="25" h="97">
                    <a:moveTo>
                      <a:pt x="25" y="0"/>
                    </a:moveTo>
                    <a:lnTo>
                      <a:pt x="15" y="2"/>
                    </a:lnTo>
                    <a:lnTo>
                      <a:pt x="14" y="21"/>
                    </a:lnTo>
                    <a:lnTo>
                      <a:pt x="12" y="41"/>
                    </a:lnTo>
                    <a:lnTo>
                      <a:pt x="8" y="60"/>
                    </a:lnTo>
                    <a:lnTo>
                      <a:pt x="2" y="79"/>
                    </a:lnTo>
                    <a:lnTo>
                      <a:pt x="1" y="91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6" y="97"/>
                    </a:lnTo>
                    <a:lnTo>
                      <a:pt x="12" y="94"/>
                    </a:lnTo>
                    <a:lnTo>
                      <a:pt x="13" y="91"/>
                    </a:lnTo>
                    <a:lnTo>
                      <a:pt x="9" y="91"/>
                    </a:lnTo>
                    <a:lnTo>
                      <a:pt x="9" y="90"/>
                    </a:lnTo>
                    <a:lnTo>
                      <a:pt x="10" y="86"/>
                    </a:lnTo>
                    <a:lnTo>
                      <a:pt x="16" y="81"/>
                    </a:lnTo>
                    <a:lnTo>
                      <a:pt x="16" y="72"/>
                    </a:lnTo>
                    <a:lnTo>
                      <a:pt x="16" y="66"/>
                    </a:lnTo>
                    <a:lnTo>
                      <a:pt x="23" y="31"/>
                    </a:lnTo>
                    <a:lnTo>
                      <a:pt x="25" y="1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6" name="Group 1099"/>
          <p:cNvGrpSpPr/>
          <p:nvPr/>
        </p:nvGrpSpPr>
        <p:grpSpPr>
          <a:xfrm>
            <a:off x="4753080" y="4140360"/>
            <a:ext cx="330840" cy="1006920"/>
            <a:chOff x="4753080" y="4140360"/>
            <a:chExt cx="330840" cy="1006920"/>
          </a:xfrm>
        </p:grpSpPr>
        <p:sp>
          <p:nvSpPr>
            <p:cNvPr id="1297" name="Freeform 1100"/>
            <p:cNvSpPr/>
            <p:nvPr/>
          </p:nvSpPr>
          <p:spPr>
            <a:xfrm>
              <a:off x="4753080" y="4140360"/>
              <a:ext cx="329400" cy="49968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Group 1101"/>
            <p:cNvGrpSpPr/>
            <p:nvPr/>
          </p:nvGrpSpPr>
          <p:grpSpPr>
            <a:xfrm>
              <a:off x="4767120" y="4152240"/>
              <a:ext cx="298080" cy="491040"/>
              <a:chOff x="4767120" y="4152240"/>
              <a:chExt cx="298080" cy="491040"/>
            </a:xfrm>
          </p:grpSpPr>
          <p:sp>
            <p:nvSpPr>
              <p:cNvPr id="1299" name="Freeform 1102"/>
              <p:cNvSpPr/>
              <p:nvPr/>
            </p:nvSpPr>
            <p:spPr>
              <a:xfrm>
                <a:off x="4949280" y="4158000"/>
                <a:ext cx="16200" cy="2304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1103"/>
              <p:cNvSpPr/>
              <p:nvPr/>
            </p:nvSpPr>
            <p:spPr>
              <a:xfrm>
                <a:off x="4947480" y="417276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1104"/>
              <p:cNvSpPr/>
              <p:nvPr/>
            </p:nvSpPr>
            <p:spPr>
              <a:xfrm>
                <a:off x="4937040" y="417924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1105"/>
              <p:cNvSpPr/>
              <p:nvPr/>
            </p:nvSpPr>
            <p:spPr>
              <a:xfrm>
                <a:off x="4934520" y="418968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1106"/>
              <p:cNvSpPr/>
              <p:nvPr/>
            </p:nvSpPr>
            <p:spPr>
              <a:xfrm>
                <a:off x="4932720" y="419760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1107"/>
              <p:cNvSpPr/>
              <p:nvPr/>
            </p:nvSpPr>
            <p:spPr>
              <a:xfrm>
                <a:off x="4932720" y="4206240"/>
                <a:ext cx="43200" cy="2916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1108"/>
              <p:cNvSpPr/>
              <p:nvPr/>
            </p:nvSpPr>
            <p:spPr>
              <a:xfrm>
                <a:off x="4937040" y="4210560"/>
                <a:ext cx="41040" cy="3276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1109"/>
              <p:cNvSpPr/>
              <p:nvPr/>
            </p:nvSpPr>
            <p:spPr>
              <a:xfrm>
                <a:off x="4940640" y="4226760"/>
                <a:ext cx="45360" cy="309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1110"/>
              <p:cNvSpPr/>
              <p:nvPr/>
            </p:nvSpPr>
            <p:spPr>
              <a:xfrm>
                <a:off x="4938840" y="4218480"/>
                <a:ext cx="43560" cy="3132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1111"/>
              <p:cNvSpPr/>
              <p:nvPr/>
            </p:nvSpPr>
            <p:spPr>
              <a:xfrm>
                <a:off x="4949280" y="426204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1112"/>
              <p:cNvSpPr/>
              <p:nvPr/>
            </p:nvSpPr>
            <p:spPr>
              <a:xfrm>
                <a:off x="4953600" y="42847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1113"/>
              <p:cNvSpPr/>
              <p:nvPr/>
            </p:nvSpPr>
            <p:spPr>
              <a:xfrm>
                <a:off x="4951080" y="42724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1114"/>
              <p:cNvSpPr/>
              <p:nvPr/>
            </p:nvSpPr>
            <p:spPr>
              <a:xfrm>
                <a:off x="4944960" y="424152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1115"/>
              <p:cNvSpPr/>
              <p:nvPr/>
            </p:nvSpPr>
            <p:spPr>
              <a:xfrm>
                <a:off x="4943160" y="423288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1116"/>
              <p:cNvSpPr/>
              <p:nvPr/>
            </p:nvSpPr>
            <p:spPr>
              <a:xfrm>
                <a:off x="4957560" y="429336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1117"/>
              <p:cNvSpPr/>
              <p:nvPr/>
            </p:nvSpPr>
            <p:spPr>
              <a:xfrm>
                <a:off x="5034240" y="4272480"/>
                <a:ext cx="30960" cy="331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1118"/>
              <p:cNvSpPr/>
              <p:nvPr/>
            </p:nvSpPr>
            <p:spPr>
              <a:xfrm>
                <a:off x="4996800" y="43264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1119"/>
              <p:cNvSpPr/>
              <p:nvPr/>
            </p:nvSpPr>
            <p:spPr>
              <a:xfrm>
                <a:off x="4998960" y="4324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1120"/>
              <p:cNvSpPr/>
              <p:nvPr/>
            </p:nvSpPr>
            <p:spPr>
              <a:xfrm>
                <a:off x="4994640" y="4328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1121"/>
              <p:cNvSpPr/>
              <p:nvPr/>
            </p:nvSpPr>
            <p:spPr>
              <a:xfrm>
                <a:off x="5025960" y="430164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1122"/>
              <p:cNvSpPr/>
              <p:nvPr/>
            </p:nvSpPr>
            <p:spPr>
              <a:xfrm>
                <a:off x="5019840" y="430956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1123"/>
              <p:cNvSpPr/>
              <p:nvPr/>
            </p:nvSpPr>
            <p:spPr>
              <a:xfrm>
                <a:off x="5021640" y="43077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1124"/>
              <p:cNvSpPr/>
              <p:nvPr/>
            </p:nvSpPr>
            <p:spPr>
              <a:xfrm>
                <a:off x="5013720" y="4313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1125"/>
              <p:cNvSpPr/>
              <p:nvPr/>
            </p:nvSpPr>
            <p:spPr>
              <a:xfrm>
                <a:off x="5017680" y="4312080"/>
                <a:ext cx="3600" cy="57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1126"/>
              <p:cNvSpPr/>
              <p:nvPr/>
            </p:nvSpPr>
            <p:spPr>
              <a:xfrm>
                <a:off x="5009400" y="431640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1127"/>
              <p:cNvSpPr/>
              <p:nvPr/>
            </p:nvSpPr>
            <p:spPr>
              <a:xfrm>
                <a:off x="5003280" y="432252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1128"/>
              <p:cNvSpPr/>
              <p:nvPr/>
            </p:nvSpPr>
            <p:spPr>
              <a:xfrm>
                <a:off x="5005080" y="432000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1129"/>
              <p:cNvSpPr/>
              <p:nvPr/>
            </p:nvSpPr>
            <p:spPr>
              <a:xfrm>
                <a:off x="4847760" y="4206240"/>
                <a:ext cx="72000" cy="2664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1130"/>
              <p:cNvSpPr/>
              <p:nvPr/>
            </p:nvSpPr>
            <p:spPr>
              <a:xfrm>
                <a:off x="4852080" y="422280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1131"/>
              <p:cNvSpPr/>
              <p:nvPr/>
            </p:nvSpPr>
            <p:spPr>
              <a:xfrm>
                <a:off x="4853880" y="4231080"/>
                <a:ext cx="7272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132"/>
              <p:cNvSpPr/>
              <p:nvPr/>
            </p:nvSpPr>
            <p:spPr>
              <a:xfrm>
                <a:off x="4856040" y="423720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1133"/>
              <p:cNvSpPr/>
              <p:nvPr/>
            </p:nvSpPr>
            <p:spPr>
              <a:xfrm>
                <a:off x="4860000" y="4243320"/>
                <a:ext cx="72720" cy="2052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134"/>
              <p:cNvSpPr/>
              <p:nvPr/>
            </p:nvSpPr>
            <p:spPr>
              <a:xfrm>
                <a:off x="4864320" y="4251960"/>
                <a:ext cx="7272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1135"/>
              <p:cNvSpPr/>
              <p:nvPr/>
            </p:nvSpPr>
            <p:spPr>
              <a:xfrm>
                <a:off x="4874400" y="4281120"/>
                <a:ext cx="70200" cy="2052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1136"/>
              <p:cNvSpPr/>
              <p:nvPr/>
            </p:nvSpPr>
            <p:spPr>
              <a:xfrm>
                <a:off x="4868280" y="427428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137"/>
              <p:cNvSpPr/>
              <p:nvPr/>
            </p:nvSpPr>
            <p:spPr>
              <a:xfrm>
                <a:off x="4866480" y="426636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1138"/>
              <p:cNvSpPr/>
              <p:nvPr/>
            </p:nvSpPr>
            <p:spPr>
              <a:xfrm>
                <a:off x="4866480" y="4260240"/>
                <a:ext cx="72000" cy="1800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1139"/>
              <p:cNvSpPr/>
              <p:nvPr/>
            </p:nvSpPr>
            <p:spPr>
              <a:xfrm>
                <a:off x="4889160" y="430596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140"/>
              <p:cNvSpPr/>
              <p:nvPr/>
            </p:nvSpPr>
            <p:spPr>
              <a:xfrm>
                <a:off x="4884840" y="4297320"/>
                <a:ext cx="60120" cy="1620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1141"/>
              <p:cNvSpPr/>
              <p:nvPr/>
            </p:nvSpPr>
            <p:spPr>
              <a:xfrm>
                <a:off x="4895280" y="4313880"/>
                <a:ext cx="47880" cy="291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1142"/>
              <p:cNvSpPr/>
              <p:nvPr/>
            </p:nvSpPr>
            <p:spPr>
              <a:xfrm>
                <a:off x="4880520" y="4289040"/>
                <a:ext cx="64080" cy="1872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1143"/>
              <p:cNvSpPr/>
              <p:nvPr/>
            </p:nvSpPr>
            <p:spPr>
              <a:xfrm>
                <a:off x="4847760" y="4152240"/>
                <a:ext cx="66240" cy="5832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1144"/>
              <p:cNvSpPr/>
              <p:nvPr/>
            </p:nvSpPr>
            <p:spPr>
              <a:xfrm>
                <a:off x="4847760" y="4197600"/>
                <a:ext cx="68040" cy="205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1145"/>
              <p:cNvSpPr/>
              <p:nvPr/>
            </p:nvSpPr>
            <p:spPr>
              <a:xfrm>
                <a:off x="4932720" y="4359600"/>
                <a:ext cx="120240" cy="6444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1146"/>
              <p:cNvSpPr/>
              <p:nvPr/>
            </p:nvSpPr>
            <p:spPr>
              <a:xfrm>
                <a:off x="4932720" y="4384440"/>
                <a:ext cx="7920" cy="309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147"/>
              <p:cNvSpPr/>
              <p:nvPr/>
            </p:nvSpPr>
            <p:spPr>
              <a:xfrm>
                <a:off x="4891320" y="4384440"/>
                <a:ext cx="32760" cy="8676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1148"/>
              <p:cNvSpPr/>
              <p:nvPr/>
            </p:nvSpPr>
            <p:spPr>
              <a:xfrm>
                <a:off x="4822920" y="425196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1149"/>
              <p:cNvSpPr/>
              <p:nvPr/>
            </p:nvSpPr>
            <p:spPr>
              <a:xfrm>
                <a:off x="4872600" y="43243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150"/>
              <p:cNvSpPr/>
              <p:nvPr/>
            </p:nvSpPr>
            <p:spPr>
              <a:xfrm>
                <a:off x="4868280" y="432252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151"/>
              <p:cNvSpPr/>
              <p:nvPr/>
            </p:nvSpPr>
            <p:spPr>
              <a:xfrm>
                <a:off x="4866480" y="432000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152"/>
              <p:cNvSpPr/>
              <p:nvPr/>
            </p:nvSpPr>
            <p:spPr>
              <a:xfrm>
                <a:off x="4876920" y="43264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1153"/>
              <p:cNvSpPr/>
              <p:nvPr/>
            </p:nvSpPr>
            <p:spPr>
              <a:xfrm>
                <a:off x="4847760" y="430344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1154"/>
              <p:cNvSpPr/>
              <p:nvPr/>
            </p:nvSpPr>
            <p:spPr>
              <a:xfrm>
                <a:off x="4847760" y="430596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1155"/>
              <p:cNvSpPr/>
              <p:nvPr/>
            </p:nvSpPr>
            <p:spPr>
              <a:xfrm>
                <a:off x="4853880" y="431388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1156"/>
              <p:cNvSpPr/>
              <p:nvPr/>
            </p:nvSpPr>
            <p:spPr>
              <a:xfrm>
                <a:off x="4852080" y="430956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1157"/>
              <p:cNvSpPr/>
              <p:nvPr/>
            </p:nvSpPr>
            <p:spPr>
              <a:xfrm>
                <a:off x="4852080" y="4309560"/>
                <a:ext cx="18000" cy="126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1158"/>
              <p:cNvSpPr/>
              <p:nvPr/>
            </p:nvSpPr>
            <p:spPr>
              <a:xfrm>
                <a:off x="4845960" y="430164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1159"/>
              <p:cNvSpPr/>
              <p:nvPr/>
            </p:nvSpPr>
            <p:spPr>
              <a:xfrm>
                <a:off x="4849560" y="4307760"/>
                <a:ext cx="16560" cy="100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1160"/>
              <p:cNvSpPr/>
              <p:nvPr/>
            </p:nvSpPr>
            <p:spPr>
              <a:xfrm>
                <a:off x="4841640" y="429732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1161"/>
              <p:cNvSpPr/>
              <p:nvPr/>
            </p:nvSpPr>
            <p:spPr>
              <a:xfrm>
                <a:off x="4843440" y="429948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162"/>
              <p:cNvSpPr/>
              <p:nvPr/>
            </p:nvSpPr>
            <p:spPr>
              <a:xfrm>
                <a:off x="4862160" y="4318200"/>
                <a:ext cx="14400" cy="82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1163"/>
              <p:cNvSpPr/>
              <p:nvPr/>
            </p:nvSpPr>
            <p:spPr>
              <a:xfrm>
                <a:off x="4858200" y="431640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1164"/>
              <p:cNvSpPr/>
              <p:nvPr/>
            </p:nvSpPr>
            <p:spPr>
              <a:xfrm>
                <a:off x="4798080" y="430956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1165"/>
              <p:cNvSpPr/>
              <p:nvPr/>
            </p:nvSpPr>
            <p:spPr>
              <a:xfrm>
                <a:off x="4789440" y="430776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166"/>
              <p:cNvSpPr/>
              <p:nvPr/>
            </p:nvSpPr>
            <p:spPr>
              <a:xfrm>
                <a:off x="4802040" y="43120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167"/>
              <p:cNvSpPr/>
              <p:nvPr/>
            </p:nvSpPr>
            <p:spPr>
              <a:xfrm>
                <a:off x="4806360" y="431388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168"/>
              <p:cNvSpPr/>
              <p:nvPr/>
            </p:nvSpPr>
            <p:spPr>
              <a:xfrm>
                <a:off x="4810680" y="43138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169"/>
              <p:cNvSpPr/>
              <p:nvPr/>
            </p:nvSpPr>
            <p:spPr>
              <a:xfrm>
                <a:off x="4831200" y="43243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170"/>
              <p:cNvSpPr/>
              <p:nvPr/>
            </p:nvSpPr>
            <p:spPr>
              <a:xfrm>
                <a:off x="4827240" y="4322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1171"/>
              <p:cNvSpPr/>
              <p:nvPr/>
            </p:nvSpPr>
            <p:spPr>
              <a:xfrm>
                <a:off x="4821120" y="4320000"/>
                <a:ext cx="7920" cy="21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172"/>
              <p:cNvSpPr/>
              <p:nvPr/>
            </p:nvSpPr>
            <p:spPr>
              <a:xfrm>
                <a:off x="4814280" y="43164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173"/>
              <p:cNvSpPr/>
              <p:nvPr/>
            </p:nvSpPr>
            <p:spPr>
              <a:xfrm>
                <a:off x="4816800" y="431208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1174"/>
              <p:cNvSpPr/>
              <p:nvPr/>
            </p:nvSpPr>
            <p:spPr>
              <a:xfrm>
                <a:off x="4808160" y="43095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1175"/>
              <p:cNvSpPr/>
              <p:nvPr/>
            </p:nvSpPr>
            <p:spPr>
              <a:xfrm>
                <a:off x="4783320" y="4299480"/>
                <a:ext cx="16560" cy="82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1176"/>
              <p:cNvSpPr/>
              <p:nvPr/>
            </p:nvSpPr>
            <p:spPr>
              <a:xfrm>
                <a:off x="4791960" y="4303440"/>
                <a:ext cx="16200" cy="57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1177"/>
              <p:cNvSpPr/>
              <p:nvPr/>
            </p:nvSpPr>
            <p:spPr>
              <a:xfrm>
                <a:off x="4800240" y="4305960"/>
                <a:ext cx="14040" cy="57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1178"/>
              <p:cNvSpPr/>
              <p:nvPr/>
            </p:nvSpPr>
            <p:spPr>
              <a:xfrm>
                <a:off x="4822920" y="431640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1179"/>
              <p:cNvSpPr/>
              <p:nvPr/>
            </p:nvSpPr>
            <p:spPr>
              <a:xfrm>
                <a:off x="4777200" y="429732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1180"/>
              <p:cNvSpPr/>
              <p:nvPr/>
            </p:nvSpPr>
            <p:spPr>
              <a:xfrm>
                <a:off x="4767120" y="429552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1181"/>
              <p:cNvSpPr/>
              <p:nvPr/>
            </p:nvSpPr>
            <p:spPr>
              <a:xfrm>
                <a:off x="4835160" y="43225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182"/>
              <p:cNvSpPr/>
              <p:nvPr/>
            </p:nvSpPr>
            <p:spPr>
              <a:xfrm>
                <a:off x="4829040" y="43182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1183"/>
              <p:cNvSpPr/>
              <p:nvPr/>
            </p:nvSpPr>
            <p:spPr>
              <a:xfrm>
                <a:off x="4845960" y="433044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1184"/>
              <p:cNvSpPr/>
              <p:nvPr/>
            </p:nvSpPr>
            <p:spPr>
              <a:xfrm>
                <a:off x="4839120" y="43264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185"/>
              <p:cNvSpPr/>
              <p:nvPr/>
            </p:nvSpPr>
            <p:spPr>
              <a:xfrm>
                <a:off x="4860000" y="433692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186"/>
              <p:cNvSpPr/>
              <p:nvPr/>
            </p:nvSpPr>
            <p:spPr>
              <a:xfrm>
                <a:off x="4852080" y="433476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1187"/>
              <p:cNvSpPr/>
              <p:nvPr/>
            </p:nvSpPr>
            <p:spPr>
              <a:xfrm>
                <a:off x="4868280" y="433872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188"/>
              <p:cNvSpPr/>
              <p:nvPr/>
            </p:nvSpPr>
            <p:spPr>
              <a:xfrm>
                <a:off x="4833360" y="43264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1189"/>
              <p:cNvSpPr/>
              <p:nvPr/>
            </p:nvSpPr>
            <p:spPr>
              <a:xfrm>
                <a:off x="4822920" y="4363920"/>
                <a:ext cx="101160" cy="76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190"/>
              <p:cNvSpPr/>
              <p:nvPr/>
            </p:nvSpPr>
            <p:spPr>
              <a:xfrm>
                <a:off x="4897440" y="4363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1191"/>
              <p:cNvSpPr/>
              <p:nvPr/>
            </p:nvSpPr>
            <p:spPr>
              <a:xfrm>
                <a:off x="5003280" y="4226760"/>
                <a:ext cx="26640" cy="248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1192"/>
              <p:cNvSpPr/>
              <p:nvPr/>
            </p:nvSpPr>
            <p:spPr>
              <a:xfrm>
                <a:off x="5006880" y="418752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1193"/>
              <p:cNvSpPr/>
              <p:nvPr/>
            </p:nvSpPr>
            <p:spPr>
              <a:xfrm>
                <a:off x="4998960" y="423108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1194"/>
              <p:cNvSpPr/>
              <p:nvPr/>
            </p:nvSpPr>
            <p:spPr>
              <a:xfrm>
                <a:off x="4974120" y="4253760"/>
                <a:ext cx="45360" cy="374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1195"/>
              <p:cNvSpPr/>
              <p:nvPr/>
            </p:nvSpPr>
            <p:spPr>
              <a:xfrm>
                <a:off x="4975920" y="4249800"/>
                <a:ext cx="45360" cy="3456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1196"/>
              <p:cNvSpPr/>
              <p:nvPr/>
            </p:nvSpPr>
            <p:spPr>
              <a:xfrm>
                <a:off x="4990680" y="4243320"/>
                <a:ext cx="34920" cy="291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1197"/>
              <p:cNvSpPr/>
              <p:nvPr/>
            </p:nvSpPr>
            <p:spPr>
              <a:xfrm>
                <a:off x="4982760" y="424764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1198"/>
              <p:cNvSpPr/>
              <p:nvPr/>
            </p:nvSpPr>
            <p:spPr>
              <a:xfrm>
                <a:off x="4994640" y="4237200"/>
                <a:ext cx="33120" cy="2916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1199"/>
              <p:cNvSpPr/>
              <p:nvPr/>
            </p:nvSpPr>
            <p:spPr>
              <a:xfrm>
                <a:off x="4969800" y="4260240"/>
                <a:ext cx="45360" cy="352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1200"/>
              <p:cNvSpPr/>
              <p:nvPr/>
            </p:nvSpPr>
            <p:spPr>
              <a:xfrm>
                <a:off x="4965840" y="4281120"/>
                <a:ext cx="39240" cy="284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201"/>
              <p:cNvSpPr/>
              <p:nvPr/>
            </p:nvSpPr>
            <p:spPr>
              <a:xfrm>
                <a:off x="4965840" y="428724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1202"/>
              <p:cNvSpPr/>
              <p:nvPr/>
            </p:nvSpPr>
            <p:spPr>
              <a:xfrm>
                <a:off x="4968000" y="426636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1203"/>
              <p:cNvSpPr/>
              <p:nvPr/>
            </p:nvSpPr>
            <p:spPr>
              <a:xfrm>
                <a:off x="4961520" y="42933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1204"/>
              <p:cNvSpPr/>
              <p:nvPr/>
            </p:nvSpPr>
            <p:spPr>
              <a:xfrm>
                <a:off x="4959720" y="4301640"/>
                <a:ext cx="22680" cy="162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205"/>
              <p:cNvSpPr/>
              <p:nvPr/>
            </p:nvSpPr>
            <p:spPr>
              <a:xfrm>
                <a:off x="4944960" y="43138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206"/>
              <p:cNvSpPr/>
              <p:nvPr/>
            </p:nvSpPr>
            <p:spPr>
              <a:xfrm>
                <a:off x="4957560" y="4307760"/>
                <a:ext cx="18000" cy="144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1207"/>
              <p:cNvSpPr/>
              <p:nvPr/>
            </p:nvSpPr>
            <p:spPr>
              <a:xfrm>
                <a:off x="4901760" y="4637520"/>
                <a:ext cx="38880" cy="576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Group 1208"/>
            <p:cNvGrpSpPr/>
            <p:nvPr/>
          </p:nvGrpSpPr>
          <p:grpSpPr>
            <a:xfrm>
              <a:off x="4754880" y="4644360"/>
              <a:ext cx="329040" cy="502920"/>
              <a:chOff x="4754880" y="4644360"/>
              <a:chExt cx="329040" cy="502920"/>
            </a:xfrm>
          </p:grpSpPr>
          <p:sp>
            <p:nvSpPr>
              <p:cNvPr id="1406" name="Freeform 1209"/>
              <p:cNvSpPr/>
              <p:nvPr/>
            </p:nvSpPr>
            <p:spPr>
              <a:xfrm rot="10800000">
                <a:off x="4754880" y="4648320"/>
                <a:ext cx="329040" cy="49896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210"/>
              <p:cNvSpPr/>
              <p:nvPr/>
            </p:nvSpPr>
            <p:spPr>
              <a:xfrm rot="10800000">
                <a:off x="4872240" y="510588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211"/>
              <p:cNvSpPr/>
              <p:nvPr/>
            </p:nvSpPr>
            <p:spPr>
              <a:xfrm rot="10800000">
                <a:off x="4866480" y="5095800"/>
                <a:ext cx="22320" cy="20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212"/>
              <p:cNvSpPr/>
              <p:nvPr/>
            </p:nvSpPr>
            <p:spPr>
              <a:xfrm rot="10800000">
                <a:off x="4868280" y="508140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213"/>
              <p:cNvSpPr/>
              <p:nvPr/>
            </p:nvSpPr>
            <p:spPr>
              <a:xfrm rot="10800000">
                <a:off x="4866120" y="507096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214"/>
              <p:cNvSpPr/>
              <p:nvPr/>
            </p:nvSpPr>
            <p:spPr>
              <a:xfrm rot="10800000">
                <a:off x="4864680" y="505872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215"/>
              <p:cNvSpPr/>
              <p:nvPr/>
            </p:nvSpPr>
            <p:spPr>
              <a:xfrm rot="10800000">
                <a:off x="4860360" y="5054760"/>
                <a:ext cx="43200" cy="288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216"/>
              <p:cNvSpPr/>
              <p:nvPr/>
            </p:nvSpPr>
            <p:spPr>
              <a:xfrm rot="10800000">
                <a:off x="4860360" y="504612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217"/>
              <p:cNvSpPr/>
              <p:nvPr/>
            </p:nvSpPr>
            <p:spPr>
              <a:xfrm rot="10800000">
                <a:off x="4852080" y="5029560"/>
                <a:ext cx="45360" cy="309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1218"/>
              <p:cNvSpPr/>
              <p:nvPr/>
            </p:nvSpPr>
            <p:spPr>
              <a:xfrm rot="10800000">
                <a:off x="4854240" y="503820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219"/>
              <p:cNvSpPr/>
              <p:nvPr/>
            </p:nvSpPr>
            <p:spPr>
              <a:xfrm rot="10800000">
                <a:off x="4868280" y="500652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1220"/>
              <p:cNvSpPr/>
              <p:nvPr/>
            </p:nvSpPr>
            <p:spPr>
              <a:xfrm rot="10800000">
                <a:off x="4876560" y="4992480"/>
                <a:ext cx="8280" cy="10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221"/>
              <p:cNvSpPr/>
              <p:nvPr/>
            </p:nvSpPr>
            <p:spPr>
              <a:xfrm rot="10800000">
                <a:off x="4874760" y="5000400"/>
                <a:ext cx="11880" cy="144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222"/>
              <p:cNvSpPr/>
              <p:nvPr/>
            </p:nvSpPr>
            <p:spPr>
              <a:xfrm rot="10800000">
                <a:off x="4852080" y="501516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223"/>
              <p:cNvSpPr/>
              <p:nvPr/>
            </p:nvSpPr>
            <p:spPr>
              <a:xfrm rot="10800000">
                <a:off x="4849920" y="502344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224"/>
              <p:cNvSpPr/>
              <p:nvPr/>
            </p:nvSpPr>
            <p:spPr>
              <a:xfrm rot="10800000">
                <a:off x="4876560" y="49881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225"/>
              <p:cNvSpPr/>
              <p:nvPr/>
            </p:nvSpPr>
            <p:spPr>
              <a:xfrm rot="10800000">
                <a:off x="4771080" y="4983840"/>
                <a:ext cx="30960" cy="327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226"/>
              <p:cNvSpPr/>
              <p:nvPr/>
            </p:nvSpPr>
            <p:spPr>
              <a:xfrm rot="10800000">
                <a:off x="4836960" y="4959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227"/>
              <p:cNvSpPr/>
              <p:nvPr/>
            </p:nvSpPr>
            <p:spPr>
              <a:xfrm rot="10800000">
                <a:off x="4835160" y="4961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228"/>
              <p:cNvSpPr/>
              <p:nvPr/>
            </p:nvSpPr>
            <p:spPr>
              <a:xfrm rot="10800000">
                <a:off x="4839480" y="49568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229"/>
              <p:cNvSpPr/>
              <p:nvPr/>
            </p:nvSpPr>
            <p:spPr>
              <a:xfrm rot="10800000">
                <a:off x="4800240" y="4975560"/>
                <a:ext cx="10080" cy="100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230"/>
              <p:cNvSpPr/>
              <p:nvPr/>
            </p:nvSpPr>
            <p:spPr>
              <a:xfrm rot="10800000">
                <a:off x="4814640" y="49712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1231"/>
              <p:cNvSpPr/>
              <p:nvPr/>
            </p:nvSpPr>
            <p:spPr>
              <a:xfrm rot="10800000">
                <a:off x="4808160" y="497376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1232"/>
              <p:cNvSpPr/>
              <p:nvPr/>
            </p:nvSpPr>
            <p:spPr>
              <a:xfrm rot="10800000">
                <a:off x="4816800" y="497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233"/>
              <p:cNvSpPr/>
              <p:nvPr/>
            </p:nvSpPr>
            <p:spPr>
              <a:xfrm rot="10800000">
                <a:off x="4816440" y="4969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234"/>
              <p:cNvSpPr/>
              <p:nvPr/>
            </p:nvSpPr>
            <p:spPr>
              <a:xfrm rot="10800000">
                <a:off x="4820760" y="496512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1235"/>
              <p:cNvSpPr/>
              <p:nvPr/>
            </p:nvSpPr>
            <p:spPr>
              <a:xfrm rot="10800000">
                <a:off x="4830840" y="49629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1236"/>
              <p:cNvSpPr/>
              <p:nvPr/>
            </p:nvSpPr>
            <p:spPr>
              <a:xfrm rot="10800000">
                <a:off x="4829400" y="496476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237"/>
              <p:cNvSpPr/>
              <p:nvPr/>
            </p:nvSpPr>
            <p:spPr>
              <a:xfrm rot="10800000">
                <a:off x="4916160" y="5054760"/>
                <a:ext cx="72000" cy="2664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238"/>
              <p:cNvSpPr/>
              <p:nvPr/>
            </p:nvSpPr>
            <p:spPr>
              <a:xfrm rot="10800000">
                <a:off x="4912200" y="504612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239"/>
              <p:cNvSpPr/>
              <p:nvPr/>
            </p:nvSpPr>
            <p:spPr>
              <a:xfrm rot="10800000">
                <a:off x="4910040" y="5038200"/>
                <a:ext cx="72000" cy="1800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1240"/>
              <p:cNvSpPr/>
              <p:nvPr/>
            </p:nvSpPr>
            <p:spPr>
              <a:xfrm rot="10800000">
                <a:off x="4907880" y="503172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1"/>
              <p:cNvSpPr/>
              <p:nvPr/>
            </p:nvSpPr>
            <p:spPr>
              <a:xfrm rot="10800000">
                <a:off x="4903560" y="5025240"/>
                <a:ext cx="72720" cy="2052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42"/>
              <p:cNvSpPr/>
              <p:nvPr/>
            </p:nvSpPr>
            <p:spPr>
              <a:xfrm rot="10800000">
                <a:off x="4899960" y="501696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1243"/>
              <p:cNvSpPr/>
              <p:nvPr/>
            </p:nvSpPr>
            <p:spPr>
              <a:xfrm rot="10800000">
                <a:off x="4892760" y="4987800"/>
                <a:ext cx="70200" cy="2052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244"/>
              <p:cNvSpPr/>
              <p:nvPr/>
            </p:nvSpPr>
            <p:spPr>
              <a:xfrm rot="10800000">
                <a:off x="4891320" y="499428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1245"/>
              <p:cNvSpPr/>
              <p:nvPr/>
            </p:nvSpPr>
            <p:spPr>
              <a:xfrm rot="10800000">
                <a:off x="4893120" y="5002560"/>
                <a:ext cx="76320" cy="2052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46"/>
              <p:cNvSpPr/>
              <p:nvPr/>
            </p:nvSpPr>
            <p:spPr>
              <a:xfrm rot="10800000">
                <a:off x="4897440" y="5009040"/>
                <a:ext cx="72000" cy="1800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247"/>
              <p:cNvSpPr/>
              <p:nvPr/>
            </p:nvSpPr>
            <p:spPr>
              <a:xfrm rot="10800000">
                <a:off x="4890960" y="49672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248"/>
              <p:cNvSpPr/>
              <p:nvPr/>
            </p:nvSpPr>
            <p:spPr>
              <a:xfrm rot="10800000">
                <a:off x="4890960" y="4975200"/>
                <a:ext cx="60120" cy="169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249"/>
              <p:cNvSpPr/>
              <p:nvPr/>
            </p:nvSpPr>
            <p:spPr>
              <a:xfrm rot="10800000">
                <a:off x="4892760" y="494676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250"/>
              <p:cNvSpPr/>
              <p:nvPr/>
            </p:nvSpPr>
            <p:spPr>
              <a:xfrm rot="10800000">
                <a:off x="4891320" y="4979880"/>
                <a:ext cx="64080" cy="1872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251"/>
              <p:cNvSpPr/>
              <p:nvPr/>
            </p:nvSpPr>
            <p:spPr>
              <a:xfrm rot="10800000">
                <a:off x="4924080" y="5079600"/>
                <a:ext cx="66600" cy="5760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252"/>
              <p:cNvSpPr/>
              <p:nvPr/>
            </p:nvSpPr>
            <p:spPr>
              <a:xfrm rot="10800000">
                <a:off x="4920120" y="5070600"/>
                <a:ext cx="68040" cy="2052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253"/>
              <p:cNvSpPr/>
              <p:nvPr/>
            </p:nvSpPr>
            <p:spPr>
              <a:xfrm rot="10800000">
                <a:off x="4785840" y="4863600"/>
                <a:ext cx="120240" cy="6408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1254"/>
              <p:cNvSpPr/>
              <p:nvPr/>
            </p:nvSpPr>
            <p:spPr>
              <a:xfrm rot="10800000">
                <a:off x="4897080" y="4872240"/>
                <a:ext cx="8280" cy="309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1255"/>
              <p:cNvSpPr/>
              <p:nvPr/>
            </p:nvSpPr>
            <p:spPr>
              <a:xfrm rot="10800000">
                <a:off x="4914000" y="4817880"/>
                <a:ext cx="33120" cy="8676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1256"/>
              <p:cNvSpPr/>
              <p:nvPr/>
            </p:nvSpPr>
            <p:spPr>
              <a:xfrm rot="10800000">
                <a:off x="4986720" y="498384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257"/>
              <p:cNvSpPr/>
              <p:nvPr/>
            </p:nvSpPr>
            <p:spPr>
              <a:xfrm rot="10800000">
                <a:off x="4953240" y="495720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1258"/>
              <p:cNvSpPr/>
              <p:nvPr/>
            </p:nvSpPr>
            <p:spPr>
              <a:xfrm rot="10800000">
                <a:off x="4957200" y="495900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259"/>
              <p:cNvSpPr/>
              <p:nvPr/>
            </p:nvSpPr>
            <p:spPr>
              <a:xfrm rot="10800000">
                <a:off x="4959000" y="496080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260"/>
              <p:cNvSpPr/>
              <p:nvPr/>
            </p:nvSpPr>
            <p:spPr>
              <a:xfrm rot="10800000">
                <a:off x="4937040" y="494676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1261"/>
              <p:cNvSpPr/>
              <p:nvPr/>
            </p:nvSpPr>
            <p:spPr>
              <a:xfrm rot="10800000">
                <a:off x="4974120" y="497376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1262"/>
              <p:cNvSpPr/>
              <p:nvPr/>
            </p:nvSpPr>
            <p:spPr>
              <a:xfrm rot="10800000">
                <a:off x="4974120" y="4971240"/>
                <a:ext cx="16560" cy="10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1263"/>
              <p:cNvSpPr/>
              <p:nvPr/>
            </p:nvSpPr>
            <p:spPr>
              <a:xfrm rot="10800000">
                <a:off x="4963680" y="496332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1264"/>
              <p:cNvSpPr/>
              <p:nvPr/>
            </p:nvSpPr>
            <p:spPr>
              <a:xfrm rot="10800000">
                <a:off x="4969800" y="4967640"/>
                <a:ext cx="16560" cy="10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1265"/>
              <p:cNvSpPr/>
              <p:nvPr/>
            </p:nvSpPr>
            <p:spPr>
              <a:xfrm rot="10800000">
                <a:off x="4966200" y="4967280"/>
                <a:ext cx="18000" cy="118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66"/>
              <p:cNvSpPr/>
              <p:nvPr/>
            </p:nvSpPr>
            <p:spPr>
              <a:xfrm rot="10800000">
                <a:off x="4979880" y="49795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67"/>
              <p:cNvSpPr/>
              <p:nvPr/>
            </p:nvSpPr>
            <p:spPr>
              <a:xfrm rot="10800000">
                <a:off x="4971960" y="4969440"/>
                <a:ext cx="16200" cy="100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68"/>
              <p:cNvSpPr/>
              <p:nvPr/>
            </p:nvSpPr>
            <p:spPr>
              <a:xfrm rot="10800000">
                <a:off x="4984560" y="498384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269"/>
              <p:cNvSpPr/>
              <p:nvPr/>
            </p:nvSpPr>
            <p:spPr>
              <a:xfrm rot="10800000">
                <a:off x="4982040" y="498132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270"/>
              <p:cNvSpPr/>
              <p:nvPr/>
            </p:nvSpPr>
            <p:spPr>
              <a:xfrm rot="10800000">
                <a:off x="4959360" y="49633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271"/>
              <p:cNvSpPr/>
              <p:nvPr/>
            </p:nvSpPr>
            <p:spPr>
              <a:xfrm rot="10800000">
                <a:off x="4963320" y="496476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272"/>
              <p:cNvSpPr/>
              <p:nvPr/>
            </p:nvSpPr>
            <p:spPr>
              <a:xfrm rot="10800000">
                <a:off x="5032440" y="497520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273"/>
              <p:cNvSpPr/>
              <p:nvPr/>
            </p:nvSpPr>
            <p:spPr>
              <a:xfrm rot="10800000">
                <a:off x="5040000" y="497772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1274"/>
              <p:cNvSpPr/>
              <p:nvPr/>
            </p:nvSpPr>
            <p:spPr>
              <a:xfrm rot="10800000">
                <a:off x="5027760" y="497340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1275"/>
              <p:cNvSpPr/>
              <p:nvPr/>
            </p:nvSpPr>
            <p:spPr>
              <a:xfrm rot="10800000">
                <a:off x="5019480" y="497088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1276"/>
              <p:cNvSpPr/>
              <p:nvPr/>
            </p:nvSpPr>
            <p:spPr>
              <a:xfrm rot="10800000">
                <a:off x="5015520" y="4967640"/>
                <a:ext cx="10800" cy="57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1277"/>
              <p:cNvSpPr/>
              <p:nvPr/>
            </p:nvSpPr>
            <p:spPr>
              <a:xfrm rot="10800000">
                <a:off x="5002920" y="49611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1278"/>
              <p:cNvSpPr/>
              <p:nvPr/>
            </p:nvSpPr>
            <p:spPr>
              <a:xfrm rot="10800000">
                <a:off x="5007240" y="496296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1279"/>
              <p:cNvSpPr/>
              <p:nvPr/>
            </p:nvSpPr>
            <p:spPr>
              <a:xfrm rot="10800000">
                <a:off x="5009040" y="4965120"/>
                <a:ext cx="8280" cy="21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1280"/>
              <p:cNvSpPr/>
              <p:nvPr/>
            </p:nvSpPr>
            <p:spPr>
              <a:xfrm rot="10800000">
                <a:off x="5011560" y="496512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1281"/>
              <p:cNvSpPr/>
              <p:nvPr/>
            </p:nvSpPr>
            <p:spPr>
              <a:xfrm rot="10800000">
                <a:off x="5009400" y="4969440"/>
                <a:ext cx="10080" cy="5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282"/>
              <p:cNvSpPr/>
              <p:nvPr/>
            </p:nvSpPr>
            <p:spPr>
              <a:xfrm rot="10800000">
                <a:off x="5013360" y="49712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283"/>
              <p:cNvSpPr/>
              <p:nvPr/>
            </p:nvSpPr>
            <p:spPr>
              <a:xfrm rot="10800000">
                <a:off x="5038200" y="498132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1284"/>
              <p:cNvSpPr/>
              <p:nvPr/>
            </p:nvSpPr>
            <p:spPr>
              <a:xfrm rot="10800000">
                <a:off x="5029920" y="4978080"/>
                <a:ext cx="16560" cy="57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285"/>
              <p:cNvSpPr/>
              <p:nvPr/>
            </p:nvSpPr>
            <p:spPr>
              <a:xfrm rot="10800000">
                <a:off x="5022000" y="4975560"/>
                <a:ext cx="14400" cy="57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286"/>
              <p:cNvSpPr/>
              <p:nvPr/>
            </p:nvSpPr>
            <p:spPr>
              <a:xfrm rot="10800000">
                <a:off x="5002920" y="496512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287"/>
              <p:cNvSpPr/>
              <p:nvPr/>
            </p:nvSpPr>
            <p:spPr>
              <a:xfrm rot="10800000">
                <a:off x="5044320" y="4983840"/>
                <a:ext cx="16200" cy="82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288"/>
              <p:cNvSpPr/>
              <p:nvPr/>
            </p:nvSpPr>
            <p:spPr>
              <a:xfrm rot="10800000">
                <a:off x="5050800" y="4985640"/>
                <a:ext cx="18720" cy="82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1289"/>
              <p:cNvSpPr/>
              <p:nvPr/>
            </p:nvSpPr>
            <p:spPr>
              <a:xfrm rot="10800000">
                <a:off x="4991040" y="4959000"/>
                <a:ext cx="10080" cy="82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1290"/>
              <p:cNvSpPr/>
              <p:nvPr/>
            </p:nvSpPr>
            <p:spPr>
              <a:xfrm rot="10800000">
                <a:off x="4996800" y="4963320"/>
                <a:ext cx="11880" cy="792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1291"/>
              <p:cNvSpPr/>
              <p:nvPr/>
            </p:nvSpPr>
            <p:spPr>
              <a:xfrm rot="10800000">
                <a:off x="4979880" y="495072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1292"/>
              <p:cNvSpPr/>
              <p:nvPr/>
            </p:nvSpPr>
            <p:spPr>
              <a:xfrm rot="10800000">
                <a:off x="4986360" y="4954680"/>
                <a:ext cx="11880" cy="82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1293"/>
              <p:cNvSpPr/>
              <p:nvPr/>
            </p:nvSpPr>
            <p:spPr>
              <a:xfrm rot="10800000">
                <a:off x="4965840" y="4944600"/>
                <a:ext cx="1188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1294"/>
              <p:cNvSpPr/>
              <p:nvPr/>
            </p:nvSpPr>
            <p:spPr>
              <a:xfrm rot="10800000">
                <a:off x="4973760" y="4947120"/>
                <a:ext cx="12600" cy="576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1295"/>
              <p:cNvSpPr/>
              <p:nvPr/>
            </p:nvSpPr>
            <p:spPr>
              <a:xfrm rot="10800000">
                <a:off x="4961880" y="494712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296"/>
              <p:cNvSpPr/>
              <p:nvPr/>
            </p:nvSpPr>
            <p:spPr>
              <a:xfrm rot="10800000">
                <a:off x="5001480" y="4959000"/>
                <a:ext cx="360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297"/>
              <p:cNvSpPr/>
              <p:nvPr/>
            </p:nvSpPr>
            <p:spPr>
              <a:xfrm rot="10800000">
                <a:off x="4911840" y="4847400"/>
                <a:ext cx="101160" cy="7632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1298"/>
              <p:cNvSpPr/>
              <p:nvPr/>
            </p:nvSpPr>
            <p:spPr>
              <a:xfrm rot="10800000">
                <a:off x="4936680" y="4921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299"/>
              <p:cNvSpPr/>
              <p:nvPr/>
            </p:nvSpPr>
            <p:spPr>
              <a:xfrm rot="10800000">
                <a:off x="4806360" y="5037840"/>
                <a:ext cx="26640" cy="241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1300"/>
              <p:cNvSpPr/>
              <p:nvPr/>
            </p:nvSpPr>
            <p:spPr>
              <a:xfrm rot="10800000">
                <a:off x="4806000" y="5043960"/>
                <a:ext cx="22680" cy="5580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301"/>
              <p:cNvSpPr/>
              <p:nvPr/>
            </p:nvSpPr>
            <p:spPr>
              <a:xfrm rot="10800000">
                <a:off x="4806360" y="502956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302"/>
              <p:cNvSpPr/>
              <p:nvPr/>
            </p:nvSpPr>
            <p:spPr>
              <a:xfrm rot="10800000">
                <a:off x="4818960" y="4998240"/>
                <a:ext cx="45360" cy="370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303"/>
              <p:cNvSpPr/>
              <p:nvPr/>
            </p:nvSpPr>
            <p:spPr>
              <a:xfrm rot="10800000">
                <a:off x="4816800" y="5002560"/>
                <a:ext cx="45360" cy="3492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1304"/>
              <p:cNvSpPr/>
              <p:nvPr/>
            </p:nvSpPr>
            <p:spPr>
              <a:xfrm rot="10800000">
                <a:off x="4810320" y="5016960"/>
                <a:ext cx="34920" cy="288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1305"/>
              <p:cNvSpPr/>
              <p:nvPr/>
            </p:nvSpPr>
            <p:spPr>
              <a:xfrm rot="10800000">
                <a:off x="4815000" y="5009040"/>
                <a:ext cx="41040" cy="309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1306"/>
              <p:cNvSpPr/>
              <p:nvPr/>
            </p:nvSpPr>
            <p:spPr>
              <a:xfrm rot="10800000">
                <a:off x="4810320" y="502308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1307"/>
              <p:cNvSpPr/>
              <p:nvPr/>
            </p:nvSpPr>
            <p:spPr>
              <a:xfrm rot="10800000">
                <a:off x="4822920" y="4992480"/>
                <a:ext cx="45360" cy="3456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1308"/>
              <p:cNvSpPr/>
              <p:nvPr/>
            </p:nvSpPr>
            <p:spPr>
              <a:xfrm rot="10800000">
                <a:off x="4830840" y="4979880"/>
                <a:ext cx="39240" cy="288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1309"/>
              <p:cNvSpPr/>
              <p:nvPr/>
            </p:nvSpPr>
            <p:spPr>
              <a:xfrm rot="10800000">
                <a:off x="4839840" y="497772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1310"/>
              <p:cNvSpPr/>
              <p:nvPr/>
            </p:nvSpPr>
            <p:spPr>
              <a:xfrm rot="10800000">
                <a:off x="4825080" y="4981320"/>
                <a:ext cx="43200" cy="39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1311"/>
              <p:cNvSpPr/>
              <p:nvPr/>
            </p:nvSpPr>
            <p:spPr>
              <a:xfrm rot="10800000">
                <a:off x="4847400" y="49752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1312"/>
              <p:cNvSpPr/>
              <p:nvPr/>
            </p:nvSpPr>
            <p:spPr>
              <a:xfrm rot="10800000">
                <a:off x="4854240" y="4970880"/>
                <a:ext cx="22320" cy="169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1313"/>
              <p:cNvSpPr/>
              <p:nvPr/>
            </p:nvSpPr>
            <p:spPr>
              <a:xfrm rot="10800000">
                <a:off x="4867920" y="4954680"/>
                <a:ext cx="24840" cy="2052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1314"/>
              <p:cNvSpPr/>
              <p:nvPr/>
            </p:nvSpPr>
            <p:spPr>
              <a:xfrm rot="10800000">
                <a:off x="4860360" y="4965120"/>
                <a:ext cx="18000" cy="144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1315"/>
              <p:cNvSpPr/>
              <p:nvPr/>
            </p:nvSpPr>
            <p:spPr>
              <a:xfrm rot="10800000">
                <a:off x="4895640" y="4644360"/>
                <a:ext cx="38880" cy="576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3" name="Group 1316"/>
          <p:cNvGrpSpPr/>
          <p:nvPr/>
        </p:nvGrpSpPr>
        <p:grpSpPr>
          <a:xfrm>
            <a:off x="2462040" y="4056120"/>
            <a:ext cx="370440" cy="1127880"/>
            <a:chOff x="2462040" y="4056120"/>
            <a:chExt cx="370440" cy="1127880"/>
          </a:xfrm>
        </p:grpSpPr>
        <p:sp>
          <p:nvSpPr>
            <p:cNvPr id="1514" name="Freeform 1317"/>
            <p:cNvSpPr/>
            <p:nvPr/>
          </p:nvSpPr>
          <p:spPr>
            <a:xfrm>
              <a:off x="2462040" y="4056120"/>
              <a:ext cx="369000" cy="5594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5" name="Group 1318"/>
            <p:cNvGrpSpPr/>
            <p:nvPr/>
          </p:nvGrpSpPr>
          <p:grpSpPr>
            <a:xfrm>
              <a:off x="2477520" y="4069800"/>
              <a:ext cx="334080" cy="550080"/>
              <a:chOff x="2477520" y="4069800"/>
              <a:chExt cx="334080" cy="550080"/>
            </a:xfrm>
          </p:grpSpPr>
          <p:sp>
            <p:nvSpPr>
              <p:cNvPr id="1516" name="Freeform 1319"/>
              <p:cNvSpPr/>
              <p:nvPr/>
            </p:nvSpPr>
            <p:spPr>
              <a:xfrm>
                <a:off x="2681640" y="407664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1320"/>
              <p:cNvSpPr/>
              <p:nvPr/>
            </p:nvSpPr>
            <p:spPr>
              <a:xfrm>
                <a:off x="2679480" y="409284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1321"/>
              <p:cNvSpPr/>
              <p:nvPr/>
            </p:nvSpPr>
            <p:spPr>
              <a:xfrm>
                <a:off x="2667960" y="410004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1322"/>
              <p:cNvSpPr/>
              <p:nvPr/>
            </p:nvSpPr>
            <p:spPr>
              <a:xfrm>
                <a:off x="2665440" y="4111920"/>
                <a:ext cx="39240" cy="320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323"/>
              <p:cNvSpPr/>
              <p:nvPr/>
            </p:nvSpPr>
            <p:spPr>
              <a:xfrm>
                <a:off x="2663280" y="41205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324"/>
              <p:cNvSpPr/>
              <p:nvPr/>
            </p:nvSpPr>
            <p:spPr>
              <a:xfrm>
                <a:off x="2663280" y="413028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325"/>
              <p:cNvSpPr/>
              <p:nvPr/>
            </p:nvSpPr>
            <p:spPr>
              <a:xfrm>
                <a:off x="2667960" y="413496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26"/>
              <p:cNvSpPr/>
              <p:nvPr/>
            </p:nvSpPr>
            <p:spPr>
              <a:xfrm>
                <a:off x="2672280" y="415332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327"/>
              <p:cNvSpPr/>
              <p:nvPr/>
            </p:nvSpPr>
            <p:spPr>
              <a:xfrm>
                <a:off x="2670120" y="4143960"/>
                <a:ext cx="48600" cy="3528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328"/>
              <p:cNvSpPr/>
              <p:nvPr/>
            </p:nvSpPr>
            <p:spPr>
              <a:xfrm>
                <a:off x="2681640" y="41929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329"/>
              <p:cNvSpPr/>
              <p:nvPr/>
            </p:nvSpPr>
            <p:spPr>
              <a:xfrm>
                <a:off x="2686320" y="42181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330"/>
              <p:cNvSpPr/>
              <p:nvPr/>
            </p:nvSpPr>
            <p:spPr>
              <a:xfrm>
                <a:off x="2683800" y="42044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331"/>
              <p:cNvSpPr/>
              <p:nvPr/>
            </p:nvSpPr>
            <p:spPr>
              <a:xfrm>
                <a:off x="2676960" y="41695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332"/>
              <p:cNvSpPr/>
              <p:nvPr/>
            </p:nvSpPr>
            <p:spPr>
              <a:xfrm>
                <a:off x="2674800" y="416016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1333"/>
              <p:cNvSpPr/>
              <p:nvPr/>
            </p:nvSpPr>
            <p:spPr>
              <a:xfrm>
                <a:off x="2691000" y="422748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1334"/>
              <p:cNvSpPr/>
              <p:nvPr/>
            </p:nvSpPr>
            <p:spPr>
              <a:xfrm>
                <a:off x="2777040" y="4204440"/>
                <a:ext cx="34560" cy="3708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1335"/>
              <p:cNvSpPr/>
              <p:nvPr/>
            </p:nvSpPr>
            <p:spPr>
              <a:xfrm>
                <a:off x="2734920" y="4264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1336"/>
              <p:cNvSpPr/>
              <p:nvPr/>
            </p:nvSpPr>
            <p:spPr>
              <a:xfrm>
                <a:off x="2737440" y="42624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1337"/>
              <p:cNvSpPr/>
              <p:nvPr/>
            </p:nvSpPr>
            <p:spPr>
              <a:xfrm>
                <a:off x="2732760" y="42670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1338"/>
              <p:cNvSpPr/>
              <p:nvPr/>
            </p:nvSpPr>
            <p:spPr>
              <a:xfrm>
                <a:off x="2767320" y="42372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1339"/>
              <p:cNvSpPr/>
              <p:nvPr/>
            </p:nvSpPr>
            <p:spPr>
              <a:xfrm>
                <a:off x="2760480" y="424620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1340"/>
              <p:cNvSpPr/>
              <p:nvPr/>
            </p:nvSpPr>
            <p:spPr>
              <a:xfrm>
                <a:off x="2762640" y="424404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1341"/>
              <p:cNvSpPr/>
              <p:nvPr/>
            </p:nvSpPr>
            <p:spPr>
              <a:xfrm>
                <a:off x="2753640" y="4250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1342"/>
              <p:cNvSpPr/>
              <p:nvPr/>
            </p:nvSpPr>
            <p:spPr>
              <a:xfrm>
                <a:off x="2758320" y="4248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1343"/>
              <p:cNvSpPr/>
              <p:nvPr/>
            </p:nvSpPr>
            <p:spPr>
              <a:xfrm>
                <a:off x="2748960" y="4253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1344"/>
              <p:cNvSpPr/>
              <p:nvPr/>
            </p:nvSpPr>
            <p:spPr>
              <a:xfrm>
                <a:off x="2742120" y="426024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1345"/>
              <p:cNvSpPr/>
              <p:nvPr/>
            </p:nvSpPr>
            <p:spPr>
              <a:xfrm>
                <a:off x="2744280" y="4257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1346"/>
              <p:cNvSpPr/>
              <p:nvPr/>
            </p:nvSpPr>
            <p:spPr>
              <a:xfrm>
                <a:off x="2567880" y="413028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1347"/>
              <p:cNvSpPr/>
              <p:nvPr/>
            </p:nvSpPr>
            <p:spPr>
              <a:xfrm>
                <a:off x="2572560" y="41486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1348"/>
              <p:cNvSpPr/>
              <p:nvPr/>
            </p:nvSpPr>
            <p:spPr>
              <a:xfrm>
                <a:off x="2574720" y="415800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349"/>
              <p:cNvSpPr/>
              <p:nvPr/>
            </p:nvSpPr>
            <p:spPr>
              <a:xfrm>
                <a:off x="2577240" y="41648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350"/>
              <p:cNvSpPr/>
              <p:nvPr/>
            </p:nvSpPr>
            <p:spPr>
              <a:xfrm>
                <a:off x="2581560" y="417168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351"/>
              <p:cNvSpPr/>
              <p:nvPr/>
            </p:nvSpPr>
            <p:spPr>
              <a:xfrm>
                <a:off x="2586240" y="418140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1352"/>
              <p:cNvSpPr/>
              <p:nvPr/>
            </p:nvSpPr>
            <p:spPr>
              <a:xfrm>
                <a:off x="2597760" y="421380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1353"/>
              <p:cNvSpPr/>
              <p:nvPr/>
            </p:nvSpPr>
            <p:spPr>
              <a:xfrm>
                <a:off x="2590920" y="420660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1354"/>
              <p:cNvSpPr/>
              <p:nvPr/>
            </p:nvSpPr>
            <p:spPr>
              <a:xfrm>
                <a:off x="2589120" y="419760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1355"/>
              <p:cNvSpPr/>
              <p:nvPr/>
            </p:nvSpPr>
            <p:spPr>
              <a:xfrm>
                <a:off x="2589120" y="41907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1356"/>
              <p:cNvSpPr/>
              <p:nvPr/>
            </p:nvSpPr>
            <p:spPr>
              <a:xfrm>
                <a:off x="2614320" y="4241880"/>
                <a:ext cx="6264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1357"/>
              <p:cNvSpPr/>
              <p:nvPr/>
            </p:nvSpPr>
            <p:spPr>
              <a:xfrm>
                <a:off x="2609640" y="4232160"/>
                <a:ext cx="67320" cy="18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1358"/>
              <p:cNvSpPr/>
              <p:nvPr/>
            </p:nvSpPr>
            <p:spPr>
              <a:xfrm>
                <a:off x="2621160" y="42508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1359"/>
              <p:cNvSpPr/>
              <p:nvPr/>
            </p:nvSpPr>
            <p:spPr>
              <a:xfrm>
                <a:off x="2604600" y="422280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1360"/>
              <p:cNvSpPr/>
              <p:nvPr/>
            </p:nvSpPr>
            <p:spPr>
              <a:xfrm>
                <a:off x="2567880" y="406980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1361"/>
              <p:cNvSpPr/>
              <p:nvPr/>
            </p:nvSpPr>
            <p:spPr>
              <a:xfrm>
                <a:off x="2567880" y="4120560"/>
                <a:ext cx="7632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1362"/>
              <p:cNvSpPr/>
              <p:nvPr/>
            </p:nvSpPr>
            <p:spPr>
              <a:xfrm>
                <a:off x="2663280" y="430200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1363"/>
              <p:cNvSpPr/>
              <p:nvPr/>
            </p:nvSpPr>
            <p:spPr>
              <a:xfrm>
                <a:off x="2663280" y="432972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1364"/>
              <p:cNvSpPr/>
              <p:nvPr/>
            </p:nvSpPr>
            <p:spPr>
              <a:xfrm>
                <a:off x="2616840" y="432972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1365"/>
              <p:cNvSpPr/>
              <p:nvPr/>
            </p:nvSpPr>
            <p:spPr>
              <a:xfrm>
                <a:off x="2540160" y="418140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1366"/>
              <p:cNvSpPr/>
              <p:nvPr/>
            </p:nvSpPr>
            <p:spPr>
              <a:xfrm>
                <a:off x="2595960" y="42624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1367"/>
              <p:cNvSpPr/>
              <p:nvPr/>
            </p:nvSpPr>
            <p:spPr>
              <a:xfrm>
                <a:off x="2590920" y="426024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1368"/>
              <p:cNvSpPr/>
              <p:nvPr/>
            </p:nvSpPr>
            <p:spPr>
              <a:xfrm>
                <a:off x="2589120" y="425772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1369"/>
              <p:cNvSpPr/>
              <p:nvPr/>
            </p:nvSpPr>
            <p:spPr>
              <a:xfrm>
                <a:off x="2600640" y="426492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1370"/>
              <p:cNvSpPr/>
              <p:nvPr/>
            </p:nvSpPr>
            <p:spPr>
              <a:xfrm>
                <a:off x="2567880" y="423900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371"/>
              <p:cNvSpPr/>
              <p:nvPr/>
            </p:nvSpPr>
            <p:spPr>
              <a:xfrm>
                <a:off x="2567880" y="424188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372"/>
              <p:cNvSpPr/>
              <p:nvPr/>
            </p:nvSpPr>
            <p:spPr>
              <a:xfrm>
                <a:off x="2574720" y="425088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373"/>
              <p:cNvSpPr/>
              <p:nvPr/>
            </p:nvSpPr>
            <p:spPr>
              <a:xfrm>
                <a:off x="2572560" y="424620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374"/>
              <p:cNvSpPr/>
              <p:nvPr/>
            </p:nvSpPr>
            <p:spPr>
              <a:xfrm>
                <a:off x="2572560" y="42462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375"/>
              <p:cNvSpPr/>
              <p:nvPr/>
            </p:nvSpPr>
            <p:spPr>
              <a:xfrm>
                <a:off x="2565720" y="423720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376"/>
              <p:cNvSpPr/>
              <p:nvPr/>
            </p:nvSpPr>
            <p:spPr>
              <a:xfrm>
                <a:off x="2570040" y="424404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377"/>
              <p:cNvSpPr/>
              <p:nvPr/>
            </p:nvSpPr>
            <p:spPr>
              <a:xfrm>
                <a:off x="2561040" y="42321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378"/>
              <p:cNvSpPr/>
              <p:nvPr/>
            </p:nvSpPr>
            <p:spPr>
              <a:xfrm>
                <a:off x="2563200" y="42343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379"/>
              <p:cNvSpPr/>
              <p:nvPr/>
            </p:nvSpPr>
            <p:spPr>
              <a:xfrm>
                <a:off x="2584080" y="425556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380"/>
              <p:cNvSpPr/>
              <p:nvPr/>
            </p:nvSpPr>
            <p:spPr>
              <a:xfrm>
                <a:off x="2579400" y="4253400"/>
                <a:ext cx="18360" cy="8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381"/>
              <p:cNvSpPr/>
              <p:nvPr/>
            </p:nvSpPr>
            <p:spPr>
              <a:xfrm>
                <a:off x="2512080" y="424620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382"/>
              <p:cNvSpPr/>
              <p:nvPr/>
            </p:nvSpPr>
            <p:spPr>
              <a:xfrm>
                <a:off x="2502720" y="42440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383"/>
              <p:cNvSpPr/>
              <p:nvPr/>
            </p:nvSpPr>
            <p:spPr>
              <a:xfrm>
                <a:off x="2516760" y="42487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384"/>
              <p:cNvSpPr/>
              <p:nvPr/>
            </p:nvSpPr>
            <p:spPr>
              <a:xfrm>
                <a:off x="2521440" y="425088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385"/>
              <p:cNvSpPr/>
              <p:nvPr/>
            </p:nvSpPr>
            <p:spPr>
              <a:xfrm>
                <a:off x="2526120" y="42508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386"/>
              <p:cNvSpPr/>
              <p:nvPr/>
            </p:nvSpPr>
            <p:spPr>
              <a:xfrm>
                <a:off x="2549520" y="42624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387"/>
              <p:cNvSpPr/>
              <p:nvPr/>
            </p:nvSpPr>
            <p:spPr>
              <a:xfrm>
                <a:off x="2544840" y="4260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388"/>
              <p:cNvSpPr/>
              <p:nvPr/>
            </p:nvSpPr>
            <p:spPr>
              <a:xfrm>
                <a:off x="2538000" y="425772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389"/>
              <p:cNvSpPr/>
              <p:nvPr/>
            </p:nvSpPr>
            <p:spPr>
              <a:xfrm>
                <a:off x="2530440" y="42534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390"/>
              <p:cNvSpPr/>
              <p:nvPr/>
            </p:nvSpPr>
            <p:spPr>
              <a:xfrm>
                <a:off x="2533320" y="42487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391"/>
              <p:cNvSpPr/>
              <p:nvPr/>
            </p:nvSpPr>
            <p:spPr>
              <a:xfrm>
                <a:off x="2523600" y="424620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392"/>
              <p:cNvSpPr/>
              <p:nvPr/>
            </p:nvSpPr>
            <p:spPr>
              <a:xfrm>
                <a:off x="2495880" y="42343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393"/>
              <p:cNvSpPr/>
              <p:nvPr/>
            </p:nvSpPr>
            <p:spPr>
              <a:xfrm>
                <a:off x="2505240" y="4239000"/>
                <a:ext cx="1836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394"/>
              <p:cNvSpPr/>
              <p:nvPr/>
            </p:nvSpPr>
            <p:spPr>
              <a:xfrm>
                <a:off x="2514600" y="4241880"/>
                <a:ext cx="1548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395"/>
              <p:cNvSpPr/>
              <p:nvPr/>
            </p:nvSpPr>
            <p:spPr>
              <a:xfrm>
                <a:off x="2540160" y="425340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396"/>
              <p:cNvSpPr/>
              <p:nvPr/>
            </p:nvSpPr>
            <p:spPr>
              <a:xfrm>
                <a:off x="2489040" y="42321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397"/>
              <p:cNvSpPr/>
              <p:nvPr/>
            </p:nvSpPr>
            <p:spPr>
              <a:xfrm>
                <a:off x="2477520" y="4230360"/>
                <a:ext cx="20880" cy="86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398"/>
              <p:cNvSpPr/>
              <p:nvPr/>
            </p:nvSpPr>
            <p:spPr>
              <a:xfrm>
                <a:off x="2553840" y="426024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1399"/>
              <p:cNvSpPr/>
              <p:nvPr/>
            </p:nvSpPr>
            <p:spPr>
              <a:xfrm>
                <a:off x="2547000" y="42555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1400"/>
              <p:cNvSpPr/>
              <p:nvPr/>
            </p:nvSpPr>
            <p:spPr>
              <a:xfrm>
                <a:off x="2565720" y="426924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401"/>
              <p:cNvSpPr/>
              <p:nvPr/>
            </p:nvSpPr>
            <p:spPr>
              <a:xfrm>
                <a:off x="2558520" y="42649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402"/>
              <p:cNvSpPr/>
              <p:nvPr/>
            </p:nvSpPr>
            <p:spPr>
              <a:xfrm>
                <a:off x="2581560" y="427644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403"/>
              <p:cNvSpPr/>
              <p:nvPr/>
            </p:nvSpPr>
            <p:spPr>
              <a:xfrm>
                <a:off x="2572560" y="427392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404"/>
              <p:cNvSpPr/>
              <p:nvPr/>
            </p:nvSpPr>
            <p:spPr>
              <a:xfrm>
                <a:off x="2590920" y="427860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405"/>
              <p:cNvSpPr/>
              <p:nvPr/>
            </p:nvSpPr>
            <p:spPr>
              <a:xfrm>
                <a:off x="2551680" y="4264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406"/>
              <p:cNvSpPr/>
              <p:nvPr/>
            </p:nvSpPr>
            <p:spPr>
              <a:xfrm>
                <a:off x="2540160" y="430668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407"/>
              <p:cNvSpPr/>
              <p:nvPr/>
            </p:nvSpPr>
            <p:spPr>
              <a:xfrm>
                <a:off x="2623680" y="4306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408"/>
              <p:cNvSpPr/>
              <p:nvPr/>
            </p:nvSpPr>
            <p:spPr>
              <a:xfrm>
                <a:off x="2742120" y="4153320"/>
                <a:ext cx="29880" cy="277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409"/>
              <p:cNvSpPr/>
              <p:nvPr/>
            </p:nvSpPr>
            <p:spPr>
              <a:xfrm>
                <a:off x="2746440" y="4109040"/>
                <a:ext cx="25560" cy="6264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410"/>
              <p:cNvSpPr/>
              <p:nvPr/>
            </p:nvSpPr>
            <p:spPr>
              <a:xfrm>
                <a:off x="2737440" y="415800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411"/>
              <p:cNvSpPr/>
              <p:nvPr/>
            </p:nvSpPr>
            <p:spPr>
              <a:xfrm>
                <a:off x="2709360" y="418320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412"/>
              <p:cNvSpPr/>
              <p:nvPr/>
            </p:nvSpPr>
            <p:spPr>
              <a:xfrm>
                <a:off x="2711520" y="417924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413"/>
              <p:cNvSpPr/>
              <p:nvPr/>
            </p:nvSpPr>
            <p:spPr>
              <a:xfrm>
                <a:off x="2728080" y="417168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414"/>
              <p:cNvSpPr/>
              <p:nvPr/>
            </p:nvSpPr>
            <p:spPr>
              <a:xfrm>
                <a:off x="2719080" y="41763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415"/>
              <p:cNvSpPr/>
              <p:nvPr/>
            </p:nvSpPr>
            <p:spPr>
              <a:xfrm>
                <a:off x="2732760" y="416484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416"/>
              <p:cNvSpPr/>
              <p:nvPr/>
            </p:nvSpPr>
            <p:spPr>
              <a:xfrm>
                <a:off x="2704680" y="419076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417"/>
              <p:cNvSpPr/>
              <p:nvPr/>
            </p:nvSpPr>
            <p:spPr>
              <a:xfrm>
                <a:off x="2700000" y="42138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418"/>
              <p:cNvSpPr/>
              <p:nvPr/>
            </p:nvSpPr>
            <p:spPr>
              <a:xfrm>
                <a:off x="2700000" y="422064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419"/>
              <p:cNvSpPr/>
              <p:nvPr/>
            </p:nvSpPr>
            <p:spPr>
              <a:xfrm>
                <a:off x="2702520" y="41976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420"/>
              <p:cNvSpPr/>
              <p:nvPr/>
            </p:nvSpPr>
            <p:spPr>
              <a:xfrm>
                <a:off x="2695320" y="422748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421"/>
              <p:cNvSpPr/>
              <p:nvPr/>
            </p:nvSpPr>
            <p:spPr>
              <a:xfrm>
                <a:off x="2693160" y="423720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422"/>
              <p:cNvSpPr/>
              <p:nvPr/>
            </p:nvSpPr>
            <p:spPr>
              <a:xfrm>
                <a:off x="2676960" y="425088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423"/>
              <p:cNvSpPr/>
              <p:nvPr/>
            </p:nvSpPr>
            <p:spPr>
              <a:xfrm>
                <a:off x="2691000" y="424404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424"/>
              <p:cNvSpPr/>
              <p:nvPr/>
            </p:nvSpPr>
            <p:spPr>
              <a:xfrm>
                <a:off x="2628360" y="461304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Group 1425"/>
            <p:cNvGrpSpPr/>
            <p:nvPr/>
          </p:nvGrpSpPr>
          <p:grpSpPr>
            <a:xfrm>
              <a:off x="2463840" y="4620240"/>
              <a:ext cx="368640" cy="563760"/>
              <a:chOff x="2463840" y="4620240"/>
              <a:chExt cx="368640" cy="563760"/>
            </a:xfrm>
          </p:grpSpPr>
          <p:sp>
            <p:nvSpPr>
              <p:cNvPr id="1623" name="Freeform 1426"/>
              <p:cNvSpPr/>
              <p:nvPr/>
            </p:nvSpPr>
            <p:spPr>
              <a:xfrm rot="10800000">
                <a:off x="2463840" y="4625280"/>
                <a:ext cx="368640" cy="55872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427"/>
              <p:cNvSpPr/>
              <p:nvPr/>
            </p:nvSpPr>
            <p:spPr>
              <a:xfrm rot="10800000">
                <a:off x="2595240" y="513720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428"/>
              <p:cNvSpPr/>
              <p:nvPr/>
            </p:nvSpPr>
            <p:spPr>
              <a:xfrm rot="10800000">
                <a:off x="2588760" y="512604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429"/>
              <p:cNvSpPr/>
              <p:nvPr/>
            </p:nvSpPr>
            <p:spPr>
              <a:xfrm rot="10800000">
                <a:off x="2590560" y="510984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430"/>
              <p:cNvSpPr/>
              <p:nvPr/>
            </p:nvSpPr>
            <p:spPr>
              <a:xfrm rot="10800000">
                <a:off x="2588400" y="509832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431"/>
              <p:cNvSpPr/>
              <p:nvPr/>
            </p:nvSpPr>
            <p:spPr>
              <a:xfrm rot="10800000">
                <a:off x="2586960" y="50846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432"/>
              <p:cNvSpPr/>
              <p:nvPr/>
            </p:nvSpPr>
            <p:spPr>
              <a:xfrm rot="10800000">
                <a:off x="2581920" y="507996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433"/>
              <p:cNvSpPr/>
              <p:nvPr/>
            </p:nvSpPr>
            <p:spPr>
              <a:xfrm rot="10800000">
                <a:off x="2581920" y="5069880"/>
                <a:ext cx="46080" cy="37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434"/>
              <p:cNvSpPr/>
              <p:nvPr/>
            </p:nvSpPr>
            <p:spPr>
              <a:xfrm rot="10800000">
                <a:off x="2572200" y="505188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435"/>
              <p:cNvSpPr/>
              <p:nvPr/>
            </p:nvSpPr>
            <p:spPr>
              <a:xfrm rot="10800000">
                <a:off x="2575080" y="506124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436"/>
              <p:cNvSpPr/>
              <p:nvPr/>
            </p:nvSpPr>
            <p:spPr>
              <a:xfrm rot="10800000">
                <a:off x="2590920" y="50263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437"/>
              <p:cNvSpPr/>
              <p:nvPr/>
            </p:nvSpPr>
            <p:spPr>
              <a:xfrm rot="10800000">
                <a:off x="2600640" y="50104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438"/>
              <p:cNvSpPr/>
              <p:nvPr/>
            </p:nvSpPr>
            <p:spPr>
              <a:xfrm rot="10800000">
                <a:off x="2598480" y="5019120"/>
                <a:ext cx="1368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439"/>
              <p:cNvSpPr/>
              <p:nvPr/>
            </p:nvSpPr>
            <p:spPr>
              <a:xfrm rot="10800000">
                <a:off x="2572560" y="50356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440"/>
              <p:cNvSpPr/>
              <p:nvPr/>
            </p:nvSpPr>
            <p:spPr>
              <a:xfrm rot="10800000">
                <a:off x="2570400" y="504504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441"/>
              <p:cNvSpPr/>
              <p:nvPr/>
            </p:nvSpPr>
            <p:spPr>
              <a:xfrm rot="10800000">
                <a:off x="2600280" y="500580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442"/>
              <p:cNvSpPr/>
              <p:nvPr/>
            </p:nvSpPr>
            <p:spPr>
              <a:xfrm rot="10800000">
                <a:off x="2482200" y="5000760"/>
                <a:ext cx="34560" cy="367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443"/>
              <p:cNvSpPr/>
              <p:nvPr/>
            </p:nvSpPr>
            <p:spPr>
              <a:xfrm rot="10800000">
                <a:off x="2556000" y="4972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444"/>
              <p:cNvSpPr/>
              <p:nvPr/>
            </p:nvSpPr>
            <p:spPr>
              <a:xfrm rot="10800000">
                <a:off x="2553840" y="4974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445"/>
              <p:cNvSpPr/>
              <p:nvPr/>
            </p:nvSpPr>
            <p:spPr>
              <a:xfrm rot="10800000">
                <a:off x="2558520" y="4970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446"/>
              <p:cNvSpPr/>
              <p:nvPr/>
            </p:nvSpPr>
            <p:spPr>
              <a:xfrm rot="10800000">
                <a:off x="2514600" y="49914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447"/>
              <p:cNvSpPr/>
              <p:nvPr/>
            </p:nvSpPr>
            <p:spPr>
              <a:xfrm rot="10800000">
                <a:off x="2530800" y="498672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448"/>
              <p:cNvSpPr/>
              <p:nvPr/>
            </p:nvSpPr>
            <p:spPr>
              <a:xfrm rot="10800000">
                <a:off x="2523600" y="49888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449"/>
              <p:cNvSpPr/>
              <p:nvPr/>
            </p:nvSpPr>
            <p:spPr>
              <a:xfrm rot="10800000">
                <a:off x="2532600" y="4986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450"/>
              <p:cNvSpPr/>
              <p:nvPr/>
            </p:nvSpPr>
            <p:spPr>
              <a:xfrm rot="10800000">
                <a:off x="2532600" y="498420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451"/>
              <p:cNvSpPr/>
              <p:nvPr/>
            </p:nvSpPr>
            <p:spPr>
              <a:xfrm rot="10800000">
                <a:off x="2537640" y="497952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452"/>
              <p:cNvSpPr/>
              <p:nvPr/>
            </p:nvSpPr>
            <p:spPr>
              <a:xfrm rot="10800000">
                <a:off x="2549160" y="4977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453"/>
              <p:cNvSpPr/>
              <p:nvPr/>
            </p:nvSpPr>
            <p:spPr>
              <a:xfrm rot="10800000">
                <a:off x="2547000" y="497952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454"/>
              <p:cNvSpPr/>
              <p:nvPr/>
            </p:nvSpPr>
            <p:spPr>
              <a:xfrm rot="10800000">
                <a:off x="2644200" y="507960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455"/>
              <p:cNvSpPr/>
              <p:nvPr/>
            </p:nvSpPr>
            <p:spPr>
              <a:xfrm rot="10800000">
                <a:off x="2639520" y="50702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456"/>
              <p:cNvSpPr/>
              <p:nvPr/>
            </p:nvSpPr>
            <p:spPr>
              <a:xfrm rot="10800000">
                <a:off x="2637360" y="506088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457"/>
              <p:cNvSpPr/>
              <p:nvPr/>
            </p:nvSpPr>
            <p:spPr>
              <a:xfrm rot="10800000">
                <a:off x="2634840" y="50540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458"/>
              <p:cNvSpPr/>
              <p:nvPr/>
            </p:nvSpPr>
            <p:spPr>
              <a:xfrm rot="10800000">
                <a:off x="2630520" y="504720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459"/>
              <p:cNvSpPr/>
              <p:nvPr/>
            </p:nvSpPr>
            <p:spPr>
              <a:xfrm rot="10800000">
                <a:off x="2625840" y="50378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60"/>
              <p:cNvSpPr/>
              <p:nvPr/>
            </p:nvSpPr>
            <p:spPr>
              <a:xfrm rot="10800000">
                <a:off x="2618640" y="500580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461"/>
              <p:cNvSpPr/>
              <p:nvPr/>
            </p:nvSpPr>
            <p:spPr>
              <a:xfrm rot="10800000">
                <a:off x="2616840" y="501264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462"/>
              <p:cNvSpPr/>
              <p:nvPr/>
            </p:nvSpPr>
            <p:spPr>
              <a:xfrm rot="10800000">
                <a:off x="2619000" y="502200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463"/>
              <p:cNvSpPr/>
              <p:nvPr/>
            </p:nvSpPr>
            <p:spPr>
              <a:xfrm rot="10800000">
                <a:off x="2623320" y="502848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464"/>
              <p:cNvSpPr/>
              <p:nvPr/>
            </p:nvSpPr>
            <p:spPr>
              <a:xfrm rot="10800000">
                <a:off x="2616480" y="498204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465"/>
              <p:cNvSpPr/>
              <p:nvPr/>
            </p:nvSpPr>
            <p:spPr>
              <a:xfrm rot="10800000">
                <a:off x="2616480" y="4991400"/>
                <a:ext cx="67320" cy="187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466"/>
              <p:cNvSpPr/>
              <p:nvPr/>
            </p:nvSpPr>
            <p:spPr>
              <a:xfrm rot="10800000">
                <a:off x="2618640" y="4959000"/>
                <a:ext cx="53640" cy="320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467"/>
              <p:cNvSpPr/>
              <p:nvPr/>
            </p:nvSpPr>
            <p:spPr>
              <a:xfrm rot="10800000">
                <a:off x="2616840" y="499608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468"/>
              <p:cNvSpPr/>
              <p:nvPr/>
            </p:nvSpPr>
            <p:spPr>
              <a:xfrm rot="10800000">
                <a:off x="2653200" y="510732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69"/>
              <p:cNvSpPr/>
              <p:nvPr/>
            </p:nvSpPr>
            <p:spPr>
              <a:xfrm rot="10800000">
                <a:off x="2648880" y="509832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470"/>
              <p:cNvSpPr/>
              <p:nvPr/>
            </p:nvSpPr>
            <p:spPr>
              <a:xfrm rot="10800000">
                <a:off x="2498400" y="486612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471"/>
              <p:cNvSpPr/>
              <p:nvPr/>
            </p:nvSpPr>
            <p:spPr>
              <a:xfrm rot="10800000">
                <a:off x="2623680" y="487548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472"/>
              <p:cNvSpPr/>
              <p:nvPr/>
            </p:nvSpPr>
            <p:spPr>
              <a:xfrm rot="10800000">
                <a:off x="2641680" y="4815000"/>
                <a:ext cx="3708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473"/>
              <p:cNvSpPr/>
              <p:nvPr/>
            </p:nvSpPr>
            <p:spPr>
              <a:xfrm rot="10800000">
                <a:off x="2723400" y="500076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474"/>
              <p:cNvSpPr/>
              <p:nvPr/>
            </p:nvSpPr>
            <p:spPr>
              <a:xfrm rot="10800000">
                <a:off x="2686320" y="49705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475"/>
              <p:cNvSpPr/>
              <p:nvPr/>
            </p:nvSpPr>
            <p:spPr>
              <a:xfrm rot="10800000">
                <a:off x="2691000" y="497304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476"/>
              <p:cNvSpPr/>
              <p:nvPr/>
            </p:nvSpPr>
            <p:spPr>
              <a:xfrm rot="10800000">
                <a:off x="2692800" y="497520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477"/>
              <p:cNvSpPr/>
              <p:nvPr/>
            </p:nvSpPr>
            <p:spPr>
              <a:xfrm rot="10800000">
                <a:off x="2667960" y="495900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78"/>
              <p:cNvSpPr/>
              <p:nvPr/>
            </p:nvSpPr>
            <p:spPr>
              <a:xfrm rot="10800000">
                <a:off x="2709000" y="498924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479"/>
              <p:cNvSpPr/>
              <p:nvPr/>
            </p:nvSpPr>
            <p:spPr>
              <a:xfrm rot="10800000">
                <a:off x="2709360" y="498672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480"/>
              <p:cNvSpPr/>
              <p:nvPr/>
            </p:nvSpPr>
            <p:spPr>
              <a:xfrm rot="10800000">
                <a:off x="2697840" y="497772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481"/>
              <p:cNvSpPr/>
              <p:nvPr/>
            </p:nvSpPr>
            <p:spPr>
              <a:xfrm rot="10800000">
                <a:off x="2704680" y="498240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482"/>
              <p:cNvSpPr/>
              <p:nvPr/>
            </p:nvSpPr>
            <p:spPr>
              <a:xfrm rot="10800000">
                <a:off x="2700000" y="498240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483"/>
              <p:cNvSpPr/>
              <p:nvPr/>
            </p:nvSpPr>
            <p:spPr>
              <a:xfrm rot="10800000">
                <a:off x="2715840" y="499608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484"/>
              <p:cNvSpPr/>
              <p:nvPr/>
            </p:nvSpPr>
            <p:spPr>
              <a:xfrm rot="10800000">
                <a:off x="2706840" y="498456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485"/>
              <p:cNvSpPr/>
              <p:nvPr/>
            </p:nvSpPr>
            <p:spPr>
              <a:xfrm rot="10800000">
                <a:off x="2720880" y="50007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486"/>
              <p:cNvSpPr/>
              <p:nvPr/>
            </p:nvSpPr>
            <p:spPr>
              <a:xfrm rot="10800000">
                <a:off x="2718720" y="499824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87"/>
              <p:cNvSpPr/>
              <p:nvPr/>
            </p:nvSpPr>
            <p:spPr>
              <a:xfrm rot="10800000">
                <a:off x="2692800" y="497772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488"/>
              <p:cNvSpPr/>
              <p:nvPr/>
            </p:nvSpPr>
            <p:spPr>
              <a:xfrm rot="10800000">
                <a:off x="2697480" y="497988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489"/>
              <p:cNvSpPr/>
              <p:nvPr/>
            </p:nvSpPr>
            <p:spPr>
              <a:xfrm rot="10800000">
                <a:off x="2774160" y="499104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490"/>
              <p:cNvSpPr/>
              <p:nvPr/>
            </p:nvSpPr>
            <p:spPr>
              <a:xfrm rot="10800000">
                <a:off x="2783520" y="499356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491"/>
              <p:cNvSpPr/>
              <p:nvPr/>
            </p:nvSpPr>
            <p:spPr>
              <a:xfrm rot="10800000">
                <a:off x="2769840" y="49888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492"/>
              <p:cNvSpPr/>
              <p:nvPr/>
            </p:nvSpPr>
            <p:spPr>
              <a:xfrm rot="10800000">
                <a:off x="2760480" y="498636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493"/>
              <p:cNvSpPr/>
              <p:nvPr/>
            </p:nvSpPr>
            <p:spPr>
              <a:xfrm rot="10800000">
                <a:off x="2755440" y="498204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494"/>
              <p:cNvSpPr/>
              <p:nvPr/>
            </p:nvSpPr>
            <p:spPr>
              <a:xfrm rot="10800000">
                <a:off x="2741760" y="497484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495"/>
              <p:cNvSpPr/>
              <p:nvPr/>
            </p:nvSpPr>
            <p:spPr>
              <a:xfrm rot="10800000">
                <a:off x="2746440" y="4977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96"/>
              <p:cNvSpPr/>
              <p:nvPr/>
            </p:nvSpPr>
            <p:spPr>
              <a:xfrm rot="10800000">
                <a:off x="2748960" y="497952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497"/>
              <p:cNvSpPr/>
              <p:nvPr/>
            </p:nvSpPr>
            <p:spPr>
              <a:xfrm rot="10800000">
                <a:off x="2751480" y="49795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498"/>
              <p:cNvSpPr/>
              <p:nvPr/>
            </p:nvSpPr>
            <p:spPr>
              <a:xfrm rot="10800000">
                <a:off x="2748960" y="49842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499"/>
              <p:cNvSpPr/>
              <p:nvPr/>
            </p:nvSpPr>
            <p:spPr>
              <a:xfrm rot="10800000">
                <a:off x="2753280" y="498672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500"/>
              <p:cNvSpPr/>
              <p:nvPr/>
            </p:nvSpPr>
            <p:spPr>
              <a:xfrm rot="10800000">
                <a:off x="2781000" y="499824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501"/>
              <p:cNvSpPr/>
              <p:nvPr/>
            </p:nvSpPr>
            <p:spPr>
              <a:xfrm rot="10800000">
                <a:off x="2772000" y="4993560"/>
                <a:ext cx="1872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502"/>
              <p:cNvSpPr/>
              <p:nvPr/>
            </p:nvSpPr>
            <p:spPr>
              <a:xfrm rot="10800000">
                <a:off x="2762640" y="499104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503"/>
              <p:cNvSpPr/>
              <p:nvPr/>
            </p:nvSpPr>
            <p:spPr>
              <a:xfrm rot="10800000">
                <a:off x="2742120" y="497952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504"/>
              <p:cNvSpPr/>
              <p:nvPr/>
            </p:nvSpPr>
            <p:spPr>
              <a:xfrm rot="10800000">
                <a:off x="2787840" y="50007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505"/>
              <p:cNvSpPr/>
              <p:nvPr/>
            </p:nvSpPr>
            <p:spPr>
              <a:xfrm rot="10800000">
                <a:off x="2795040" y="500292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506"/>
              <p:cNvSpPr/>
              <p:nvPr/>
            </p:nvSpPr>
            <p:spPr>
              <a:xfrm rot="10800000">
                <a:off x="2728440" y="49730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507"/>
              <p:cNvSpPr/>
              <p:nvPr/>
            </p:nvSpPr>
            <p:spPr>
              <a:xfrm rot="10800000">
                <a:off x="2735280" y="497772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508"/>
              <p:cNvSpPr/>
              <p:nvPr/>
            </p:nvSpPr>
            <p:spPr>
              <a:xfrm rot="10800000">
                <a:off x="2715840" y="4963680"/>
                <a:ext cx="1404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509"/>
              <p:cNvSpPr/>
              <p:nvPr/>
            </p:nvSpPr>
            <p:spPr>
              <a:xfrm rot="10800000">
                <a:off x="2723760" y="496836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510"/>
              <p:cNvSpPr/>
              <p:nvPr/>
            </p:nvSpPr>
            <p:spPr>
              <a:xfrm rot="10800000">
                <a:off x="2700360" y="495648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511"/>
              <p:cNvSpPr/>
              <p:nvPr/>
            </p:nvSpPr>
            <p:spPr>
              <a:xfrm rot="10800000">
                <a:off x="2709000" y="495900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512"/>
              <p:cNvSpPr/>
              <p:nvPr/>
            </p:nvSpPr>
            <p:spPr>
              <a:xfrm rot="10800000">
                <a:off x="2695680" y="495900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513"/>
              <p:cNvSpPr/>
              <p:nvPr/>
            </p:nvSpPr>
            <p:spPr>
              <a:xfrm rot="10800000">
                <a:off x="2739600" y="4972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514"/>
              <p:cNvSpPr/>
              <p:nvPr/>
            </p:nvSpPr>
            <p:spPr>
              <a:xfrm rot="10800000">
                <a:off x="2639520" y="484776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515"/>
              <p:cNvSpPr/>
              <p:nvPr/>
            </p:nvSpPr>
            <p:spPr>
              <a:xfrm rot="10800000">
                <a:off x="2667600" y="4930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516"/>
              <p:cNvSpPr/>
              <p:nvPr/>
            </p:nvSpPr>
            <p:spPr>
              <a:xfrm rot="10800000">
                <a:off x="2521080" y="5061240"/>
                <a:ext cx="29880" cy="273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517"/>
              <p:cNvSpPr/>
              <p:nvPr/>
            </p:nvSpPr>
            <p:spPr>
              <a:xfrm rot="10800000">
                <a:off x="2521080" y="506772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518"/>
              <p:cNvSpPr/>
              <p:nvPr/>
            </p:nvSpPr>
            <p:spPr>
              <a:xfrm rot="10800000">
                <a:off x="2521440" y="505152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519"/>
              <p:cNvSpPr/>
              <p:nvPr/>
            </p:nvSpPr>
            <p:spPr>
              <a:xfrm rot="10800000">
                <a:off x="2535480" y="501696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520"/>
              <p:cNvSpPr/>
              <p:nvPr/>
            </p:nvSpPr>
            <p:spPr>
              <a:xfrm rot="10800000">
                <a:off x="2532600" y="50216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521"/>
              <p:cNvSpPr/>
              <p:nvPr/>
            </p:nvSpPr>
            <p:spPr>
              <a:xfrm rot="10800000">
                <a:off x="2525760" y="503784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522"/>
              <p:cNvSpPr/>
              <p:nvPr/>
            </p:nvSpPr>
            <p:spPr>
              <a:xfrm rot="10800000">
                <a:off x="2531160" y="50288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523"/>
              <p:cNvSpPr/>
              <p:nvPr/>
            </p:nvSpPr>
            <p:spPr>
              <a:xfrm rot="10800000">
                <a:off x="2526120" y="504468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524"/>
              <p:cNvSpPr/>
              <p:nvPr/>
            </p:nvSpPr>
            <p:spPr>
              <a:xfrm rot="10800000">
                <a:off x="2539440" y="501048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525"/>
              <p:cNvSpPr/>
              <p:nvPr/>
            </p:nvSpPr>
            <p:spPr>
              <a:xfrm rot="10800000">
                <a:off x="2549520" y="4996080"/>
                <a:ext cx="43920" cy="324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526"/>
              <p:cNvSpPr/>
              <p:nvPr/>
            </p:nvSpPr>
            <p:spPr>
              <a:xfrm rot="10800000">
                <a:off x="2558880" y="499356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527"/>
              <p:cNvSpPr/>
              <p:nvPr/>
            </p:nvSpPr>
            <p:spPr>
              <a:xfrm rot="10800000">
                <a:off x="2542680" y="49982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528"/>
              <p:cNvSpPr/>
              <p:nvPr/>
            </p:nvSpPr>
            <p:spPr>
              <a:xfrm rot="10800000">
                <a:off x="2567880" y="499140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529"/>
              <p:cNvSpPr/>
              <p:nvPr/>
            </p:nvSpPr>
            <p:spPr>
              <a:xfrm rot="10800000">
                <a:off x="2575080" y="498672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530"/>
              <p:cNvSpPr/>
              <p:nvPr/>
            </p:nvSpPr>
            <p:spPr>
              <a:xfrm rot="10800000">
                <a:off x="2590560" y="496836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531"/>
              <p:cNvSpPr/>
              <p:nvPr/>
            </p:nvSpPr>
            <p:spPr>
              <a:xfrm rot="10800000">
                <a:off x="2581560" y="497952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532"/>
              <p:cNvSpPr/>
              <p:nvPr/>
            </p:nvSpPr>
            <p:spPr>
              <a:xfrm rot="10800000">
                <a:off x="2621160" y="462024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0" name="Group 1533"/>
          <p:cNvGrpSpPr/>
          <p:nvPr/>
        </p:nvGrpSpPr>
        <p:grpSpPr>
          <a:xfrm>
            <a:off x="4168800" y="4403880"/>
            <a:ext cx="68400" cy="532440"/>
            <a:chOff x="4168800" y="4403880"/>
            <a:chExt cx="68400" cy="532440"/>
          </a:xfrm>
        </p:grpSpPr>
        <p:pic>
          <p:nvPicPr>
            <p:cNvPr id="1731" name="Picture 1534" descr="2"/>
            <p:cNvPicPr/>
            <p:nvPr/>
          </p:nvPicPr>
          <p:blipFill>
            <a:blip r:embed="rId4"/>
            <a:stretch/>
          </p:blipFill>
          <p:spPr>
            <a:xfrm>
              <a:off x="4173480" y="4403880"/>
              <a:ext cx="63720" cy="261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2" name="Group 1535"/>
            <p:cNvGrpSpPr/>
            <p:nvPr/>
          </p:nvGrpSpPr>
          <p:grpSpPr>
            <a:xfrm>
              <a:off x="4168800" y="4674600"/>
              <a:ext cx="63360" cy="261720"/>
              <a:chOff x="4168800" y="4674600"/>
              <a:chExt cx="63360" cy="261720"/>
            </a:xfrm>
          </p:grpSpPr>
          <p:sp>
            <p:nvSpPr>
              <p:cNvPr id="1733" name="Freeform 1536"/>
              <p:cNvSpPr/>
              <p:nvPr/>
            </p:nvSpPr>
            <p:spPr>
              <a:xfrm flipV="1">
                <a:off x="4168800" y="4674240"/>
                <a:ext cx="63360" cy="261720"/>
              </a:xfrm>
              <a:custGeom>
                <a:avLst/>
                <a:gdLst/>
                <a:ahLst/>
                <a:rect l="l" t="t" r="r" b="b"/>
                <a:pathLst>
                  <a:path w="119" h="495">
                    <a:moveTo>
                      <a:pt x="86" y="99"/>
                    </a:moveTo>
                    <a:lnTo>
                      <a:pt x="83" y="93"/>
                    </a:lnTo>
                    <a:lnTo>
                      <a:pt x="76" y="82"/>
                    </a:lnTo>
                    <a:lnTo>
                      <a:pt x="63" y="61"/>
                    </a:lnTo>
                    <a:lnTo>
                      <a:pt x="49" y="42"/>
                    </a:lnTo>
                    <a:lnTo>
                      <a:pt x="18" y="6"/>
                    </a:lnTo>
                    <a:lnTo>
                      <a:pt x="15" y="0"/>
                    </a:lnTo>
                    <a:lnTo>
                      <a:pt x="5" y="13"/>
                    </a:lnTo>
                    <a:lnTo>
                      <a:pt x="2" y="50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1" y="170"/>
                    </a:lnTo>
                    <a:lnTo>
                      <a:pt x="5" y="193"/>
                    </a:lnTo>
                    <a:lnTo>
                      <a:pt x="8" y="203"/>
                    </a:lnTo>
                    <a:lnTo>
                      <a:pt x="14" y="213"/>
                    </a:lnTo>
                    <a:lnTo>
                      <a:pt x="46" y="255"/>
                    </a:lnTo>
                    <a:lnTo>
                      <a:pt x="69" y="276"/>
                    </a:lnTo>
                    <a:lnTo>
                      <a:pt x="78" y="292"/>
                    </a:lnTo>
                    <a:lnTo>
                      <a:pt x="78" y="294"/>
                    </a:lnTo>
                    <a:lnTo>
                      <a:pt x="81" y="295"/>
                    </a:lnTo>
                    <a:lnTo>
                      <a:pt x="83" y="296"/>
                    </a:lnTo>
                    <a:lnTo>
                      <a:pt x="87" y="297"/>
                    </a:lnTo>
                    <a:lnTo>
                      <a:pt x="93" y="321"/>
                    </a:lnTo>
                    <a:lnTo>
                      <a:pt x="97" y="348"/>
                    </a:lnTo>
                    <a:lnTo>
                      <a:pt x="100" y="373"/>
                    </a:lnTo>
                    <a:lnTo>
                      <a:pt x="101" y="399"/>
                    </a:lnTo>
                    <a:lnTo>
                      <a:pt x="101" y="443"/>
                    </a:lnTo>
                    <a:lnTo>
                      <a:pt x="100" y="446"/>
                    </a:lnTo>
                    <a:lnTo>
                      <a:pt x="96" y="465"/>
                    </a:lnTo>
                    <a:lnTo>
                      <a:pt x="93" y="470"/>
                    </a:lnTo>
                    <a:lnTo>
                      <a:pt x="93" y="478"/>
                    </a:lnTo>
                    <a:lnTo>
                      <a:pt x="93" y="481"/>
                    </a:lnTo>
                    <a:lnTo>
                      <a:pt x="83" y="481"/>
                    </a:lnTo>
                    <a:lnTo>
                      <a:pt x="78" y="484"/>
                    </a:lnTo>
                    <a:lnTo>
                      <a:pt x="78" y="488"/>
                    </a:lnTo>
                    <a:lnTo>
                      <a:pt x="83" y="495"/>
                    </a:lnTo>
                    <a:lnTo>
                      <a:pt x="114" y="495"/>
                    </a:lnTo>
                    <a:lnTo>
                      <a:pt x="115" y="489"/>
                    </a:lnTo>
                    <a:lnTo>
                      <a:pt x="118" y="485"/>
                    </a:lnTo>
                    <a:lnTo>
                      <a:pt x="119" y="479"/>
                    </a:lnTo>
                    <a:lnTo>
                      <a:pt x="118" y="477"/>
                    </a:lnTo>
                    <a:lnTo>
                      <a:pt x="116" y="478"/>
                    </a:lnTo>
                    <a:lnTo>
                      <a:pt x="108" y="483"/>
                    </a:lnTo>
                    <a:lnTo>
                      <a:pt x="106" y="478"/>
                    </a:lnTo>
                    <a:lnTo>
                      <a:pt x="106" y="473"/>
                    </a:lnTo>
                    <a:lnTo>
                      <a:pt x="110" y="466"/>
                    </a:lnTo>
                    <a:lnTo>
                      <a:pt x="109" y="455"/>
                    </a:lnTo>
                    <a:lnTo>
                      <a:pt x="113" y="441"/>
                    </a:lnTo>
                    <a:lnTo>
                      <a:pt x="110" y="441"/>
                    </a:lnTo>
                    <a:lnTo>
                      <a:pt x="112" y="419"/>
                    </a:lnTo>
                    <a:lnTo>
                      <a:pt x="108" y="381"/>
                    </a:lnTo>
                    <a:lnTo>
                      <a:pt x="103" y="336"/>
                    </a:lnTo>
                    <a:lnTo>
                      <a:pt x="96" y="301"/>
                    </a:lnTo>
                    <a:lnTo>
                      <a:pt x="93" y="289"/>
                    </a:lnTo>
                    <a:lnTo>
                      <a:pt x="88" y="286"/>
                    </a:lnTo>
                    <a:lnTo>
                      <a:pt x="87" y="284"/>
                    </a:lnTo>
                    <a:lnTo>
                      <a:pt x="88" y="283"/>
                    </a:lnTo>
                    <a:lnTo>
                      <a:pt x="89" y="271"/>
                    </a:lnTo>
                    <a:lnTo>
                      <a:pt x="95" y="247"/>
                    </a:lnTo>
                    <a:lnTo>
                      <a:pt x="100" y="225"/>
                    </a:lnTo>
                    <a:lnTo>
                      <a:pt x="101" y="204"/>
                    </a:lnTo>
                    <a:lnTo>
                      <a:pt x="101" y="182"/>
                    </a:lnTo>
                    <a:lnTo>
                      <a:pt x="99" y="164"/>
                    </a:lnTo>
                    <a:lnTo>
                      <a:pt x="97" y="145"/>
                    </a:lnTo>
                    <a:lnTo>
                      <a:pt x="100" y="146"/>
                    </a:lnTo>
                    <a:lnTo>
                      <a:pt x="106" y="165"/>
                    </a:lnTo>
                    <a:lnTo>
                      <a:pt x="110" y="185"/>
                    </a:lnTo>
                    <a:lnTo>
                      <a:pt x="112" y="204"/>
                    </a:lnTo>
                    <a:lnTo>
                      <a:pt x="110" y="223"/>
                    </a:lnTo>
                    <a:lnTo>
                      <a:pt x="103" y="258"/>
                    </a:lnTo>
                    <a:lnTo>
                      <a:pt x="103" y="264"/>
                    </a:lnTo>
                    <a:lnTo>
                      <a:pt x="103" y="273"/>
                    </a:lnTo>
                    <a:lnTo>
                      <a:pt x="97" y="278"/>
                    </a:lnTo>
                    <a:lnTo>
                      <a:pt x="96" y="282"/>
                    </a:lnTo>
                    <a:lnTo>
                      <a:pt x="96" y="283"/>
                    </a:lnTo>
                    <a:lnTo>
                      <a:pt x="100" y="283"/>
                    </a:lnTo>
                    <a:lnTo>
                      <a:pt x="105" y="273"/>
                    </a:lnTo>
                    <a:lnTo>
                      <a:pt x="109" y="265"/>
                    </a:lnTo>
                    <a:lnTo>
                      <a:pt x="114" y="246"/>
                    </a:lnTo>
                    <a:lnTo>
                      <a:pt x="115" y="210"/>
                    </a:lnTo>
                    <a:lnTo>
                      <a:pt x="109" y="168"/>
                    </a:lnTo>
                    <a:lnTo>
                      <a:pt x="101" y="143"/>
                    </a:lnTo>
                    <a:lnTo>
                      <a:pt x="95" y="134"/>
                    </a:lnTo>
                    <a:lnTo>
                      <a:pt x="86" y="99"/>
                    </a:lnTo>
                    <a:close/>
                    <a:moveTo>
                      <a:pt x="87" y="138"/>
                    </a:moveTo>
                    <a:lnTo>
                      <a:pt x="91" y="170"/>
                    </a:lnTo>
                    <a:lnTo>
                      <a:pt x="94" y="206"/>
                    </a:lnTo>
                    <a:lnTo>
                      <a:pt x="90" y="250"/>
                    </a:lnTo>
                    <a:lnTo>
                      <a:pt x="88" y="258"/>
                    </a:lnTo>
                    <a:lnTo>
                      <a:pt x="87" y="260"/>
                    </a:lnTo>
                    <a:lnTo>
                      <a:pt x="87" y="259"/>
                    </a:lnTo>
                    <a:lnTo>
                      <a:pt x="84" y="276"/>
                    </a:lnTo>
                    <a:lnTo>
                      <a:pt x="83" y="278"/>
                    </a:lnTo>
                    <a:lnTo>
                      <a:pt x="72" y="271"/>
                    </a:lnTo>
                    <a:lnTo>
                      <a:pt x="49" y="218"/>
                    </a:lnTo>
                    <a:lnTo>
                      <a:pt x="32" y="183"/>
                    </a:lnTo>
                    <a:lnTo>
                      <a:pt x="19" y="152"/>
                    </a:lnTo>
                    <a:lnTo>
                      <a:pt x="15" y="141"/>
                    </a:lnTo>
                    <a:lnTo>
                      <a:pt x="11" y="128"/>
                    </a:lnTo>
                    <a:lnTo>
                      <a:pt x="8" y="116"/>
                    </a:lnTo>
                    <a:lnTo>
                      <a:pt x="5" y="92"/>
                    </a:lnTo>
                    <a:lnTo>
                      <a:pt x="5" y="66"/>
                    </a:lnTo>
                    <a:lnTo>
                      <a:pt x="8" y="42"/>
                    </a:lnTo>
                    <a:lnTo>
                      <a:pt x="13" y="16"/>
                    </a:lnTo>
                    <a:lnTo>
                      <a:pt x="51" y="56"/>
                    </a:lnTo>
                    <a:lnTo>
                      <a:pt x="63" y="71"/>
                    </a:lnTo>
                    <a:lnTo>
                      <a:pt x="81" y="109"/>
                    </a:lnTo>
                    <a:lnTo>
                      <a:pt x="87" y="138"/>
                    </a:lnTo>
                    <a:close/>
                    <a:moveTo>
                      <a:pt x="7" y="165"/>
                    </a:moveTo>
                    <a:lnTo>
                      <a:pt x="6" y="161"/>
                    </a:lnTo>
                    <a:lnTo>
                      <a:pt x="2" y="123"/>
                    </a:lnTo>
                    <a:lnTo>
                      <a:pt x="15" y="159"/>
                    </a:lnTo>
                    <a:lnTo>
                      <a:pt x="20" y="173"/>
                    </a:lnTo>
                    <a:lnTo>
                      <a:pt x="38" y="207"/>
                    </a:lnTo>
                    <a:lnTo>
                      <a:pt x="50" y="235"/>
                    </a:lnTo>
                    <a:lnTo>
                      <a:pt x="62" y="261"/>
                    </a:lnTo>
                    <a:lnTo>
                      <a:pt x="46" y="248"/>
                    </a:lnTo>
                    <a:lnTo>
                      <a:pt x="33" y="234"/>
                    </a:lnTo>
                    <a:lnTo>
                      <a:pt x="23" y="217"/>
                    </a:lnTo>
                    <a:lnTo>
                      <a:pt x="17" y="200"/>
                    </a:lnTo>
                    <a:lnTo>
                      <a:pt x="7" y="165"/>
                    </a:lnTo>
                    <a:close/>
                  </a:path>
                </a:pathLst>
              </a:custGeom>
              <a:solidFill>
                <a:srgbClr val="6a4f5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537"/>
              <p:cNvSpPr/>
              <p:nvPr/>
            </p:nvSpPr>
            <p:spPr>
              <a:xfrm flipV="1">
                <a:off x="4172040" y="487440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69" y="9"/>
                    </a:moveTo>
                    <a:lnTo>
                      <a:pt x="64" y="0"/>
                    </a:lnTo>
                    <a:lnTo>
                      <a:pt x="0" y="18"/>
                    </a:lnTo>
                    <a:lnTo>
                      <a:pt x="1" y="27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9c7d87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538"/>
              <p:cNvSpPr/>
              <p:nvPr/>
            </p:nvSpPr>
            <p:spPr>
              <a:xfrm flipV="1">
                <a:off x="4172040" y="4885560"/>
                <a:ext cx="33120" cy="12960"/>
              </a:xfrm>
              <a:custGeom>
                <a:avLst/>
                <a:gdLst/>
                <a:ahLst/>
                <a:rect l="l" t="t" r="r" b="b"/>
                <a:pathLst>
                  <a:path w="63" h="26">
                    <a:moveTo>
                      <a:pt x="58" y="0"/>
                    </a:moveTo>
                    <a:lnTo>
                      <a:pt x="0" y="15"/>
                    </a:lnTo>
                    <a:lnTo>
                      <a:pt x="1" y="26"/>
                    </a:lnTo>
                    <a:lnTo>
                      <a:pt x="63" y="9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a2848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539"/>
              <p:cNvSpPr/>
              <p:nvPr/>
            </p:nvSpPr>
            <p:spPr>
              <a:xfrm flipV="1">
                <a:off x="4172040" y="487908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9"/>
                    </a:moveTo>
                    <a:lnTo>
                      <a:pt x="62" y="0"/>
                    </a:lnTo>
                    <a:lnTo>
                      <a:pt x="0" y="17"/>
                    </a:lnTo>
                    <a:lnTo>
                      <a:pt x="1" y="27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f808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540"/>
              <p:cNvSpPr/>
              <p:nvPr/>
            </p:nvSpPr>
            <p:spPr>
              <a:xfrm flipV="1">
                <a:off x="4176720" y="4860000"/>
                <a:ext cx="36360" cy="1404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10"/>
                    </a:moveTo>
                    <a:lnTo>
                      <a:pt x="69" y="0"/>
                    </a:lnTo>
                    <a:lnTo>
                      <a:pt x="0" y="19"/>
                    </a:lnTo>
                    <a:lnTo>
                      <a:pt x="1" y="25"/>
                    </a:lnTo>
                    <a:lnTo>
                      <a:pt x="3" y="29"/>
                    </a:lnTo>
                    <a:lnTo>
                      <a:pt x="70" y="10"/>
                    </a:lnTo>
                    <a:close/>
                  </a:path>
                </a:pathLst>
              </a:custGeom>
              <a:solidFill>
                <a:srgbClr val="95757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541"/>
              <p:cNvSpPr/>
              <p:nvPr/>
            </p:nvSpPr>
            <p:spPr>
              <a:xfrm flipV="1">
                <a:off x="4174920" y="4865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72" h="28">
                    <a:moveTo>
                      <a:pt x="72" y="9"/>
                    </a:moveTo>
                    <a:lnTo>
                      <a:pt x="70" y="2"/>
                    </a:lnTo>
                    <a:lnTo>
                      <a:pt x="69" y="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987882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542"/>
              <p:cNvSpPr/>
              <p:nvPr/>
            </p:nvSpPr>
            <p:spPr>
              <a:xfrm flipV="1">
                <a:off x="4178160" y="4853880"/>
                <a:ext cx="36720" cy="1584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11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2" y="26"/>
                    </a:lnTo>
                    <a:lnTo>
                      <a:pt x="3" y="29"/>
                    </a:lnTo>
                    <a:lnTo>
                      <a:pt x="70" y="11"/>
                    </a:lnTo>
                    <a:close/>
                  </a:path>
                </a:pathLst>
              </a:custGeom>
              <a:solidFill>
                <a:srgbClr val="93737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543"/>
              <p:cNvSpPr/>
              <p:nvPr/>
            </p:nvSpPr>
            <p:spPr>
              <a:xfrm flipV="1">
                <a:off x="4186080" y="483444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61" h="25">
                    <a:moveTo>
                      <a:pt x="59" y="3"/>
                    </a:moveTo>
                    <a:lnTo>
                      <a:pt x="59" y="0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4" y="25"/>
                    </a:lnTo>
                    <a:lnTo>
                      <a:pt x="61" y="9"/>
                    </a:lnTo>
                    <a:lnTo>
                      <a:pt x="59" y="3"/>
                    </a:lnTo>
                    <a:close/>
                  </a:path>
                </a:pathLst>
              </a:custGeom>
              <a:solidFill>
                <a:srgbClr val="8a697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544"/>
              <p:cNvSpPr/>
              <p:nvPr/>
            </p:nvSpPr>
            <p:spPr>
              <a:xfrm flipV="1">
                <a:off x="4182840" y="4839480"/>
                <a:ext cx="33480" cy="14400"/>
              </a:xfrm>
              <a:custGeom>
                <a:avLst/>
                <a:gdLst/>
                <a:ahLst/>
                <a:rect l="l" t="t" r="r" b="b"/>
                <a:pathLst>
                  <a:path w="64" h="26">
                    <a:moveTo>
                      <a:pt x="64" y="11"/>
                    </a:moveTo>
                    <a:lnTo>
                      <a:pt x="62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64" y="11"/>
                    </a:lnTo>
                    <a:close/>
                  </a:path>
                </a:pathLst>
              </a:custGeom>
              <a:solidFill>
                <a:srgbClr val="8c6b76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545"/>
              <p:cNvSpPr/>
              <p:nvPr/>
            </p:nvSpPr>
            <p:spPr>
              <a:xfrm flipV="1">
                <a:off x="4181400" y="484416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65" y="10"/>
                    </a:moveTo>
                    <a:lnTo>
                      <a:pt x="64" y="0"/>
                    </a:lnTo>
                    <a:lnTo>
                      <a:pt x="0" y="17"/>
                    </a:lnTo>
                    <a:lnTo>
                      <a:pt x="3" y="27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8e6e7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546"/>
              <p:cNvSpPr/>
              <p:nvPr/>
            </p:nvSpPr>
            <p:spPr>
              <a:xfrm flipV="1">
                <a:off x="4179960" y="485028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68" y="9"/>
                    </a:moveTo>
                    <a:lnTo>
                      <a:pt x="67" y="1"/>
                    </a:lnTo>
                    <a:lnTo>
                      <a:pt x="67" y="0"/>
                    </a:lnTo>
                    <a:lnTo>
                      <a:pt x="0" y="18"/>
                    </a:lnTo>
                    <a:lnTo>
                      <a:pt x="4" y="26"/>
                    </a:lnTo>
                    <a:lnTo>
                      <a:pt x="68" y="9"/>
                    </a:lnTo>
                    <a:close/>
                  </a:path>
                </a:pathLst>
              </a:custGeom>
              <a:solidFill>
                <a:srgbClr val="91707a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547"/>
              <p:cNvSpPr/>
              <p:nvPr/>
            </p:nvSpPr>
            <p:spPr>
              <a:xfrm flipV="1">
                <a:off x="4192560" y="4788360"/>
                <a:ext cx="25200" cy="42840"/>
              </a:xfrm>
              <a:custGeom>
                <a:avLst/>
                <a:gdLst/>
                <a:ahLst/>
                <a:rect l="l" t="t" r="r" b="b"/>
                <a:pathLst>
                  <a:path w="49" h="81">
                    <a:moveTo>
                      <a:pt x="49" y="9"/>
                    </a:moveTo>
                    <a:lnTo>
                      <a:pt x="49" y="0"/>
                    </a:lnTo>
                    <a:lnTo>
                      <a:pt x="0" y="13"/>
                    </a:lnTo>
                    <a:lnTo>
                      <a:pt x="4" y="21"/>
                    </a:lnTo>
                    <a:lnTo>
                      <a:pt x="27" y="74"/>
                    </a:lnTo>
                    <a:lnTo>
                      <a:pt x="38" y="81"/>
                    </a:lnTo>
                    <a:lnTo>
                      <a:pt x="39" y="79"/>
                    </a:lnTo>
                    <a:lnTo>
                      <a:pt x="42" y="62"/>
                    </a:lnTo>
                    <a:lnTo>
                      <a:pt x="42" y="63"/>
                    </a:lnTo>
                    <a:lnTo>
                      <a:pt x="43" y="61"/>
                    </a:lnTo>
                    <a:lnTo>
                      <a:pt x="45" y="53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83616c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548"/>
              <p:cNvSpPr/>
              <p:nvPr/>
            </p:nvSpPr>
            <p:spPr>
              <a:xfrm flipV="1">
                <a:off x="4189320" y="4825080"/>
                <a:ext cx="28440" cy="126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11"/>
                    </a:moveTo>
                    <a:lnTo>
                      <a:pt x="53" y="0"/>
                    </a:lnTo>
                    <a:lnTo>
                      <a:pt x="0" y="14"/>
                    </a:lnTo>
                    <a:lnTo>
                      <a:pt x="5" y="24"/>
                    </a:lnTo>
                    <a:lnTo>
                      <a:pt x="54" y="11"/>
                    </a:lnTo>
                    <a:close/>
                  </a:path>
                </a:pathLst>
              </a:custGeom>
              <a:solidFill>
                <a:srgbClr val="85636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549"/>
              <p:cNvSpPr/>
              <p:nvPr/>
            </p:nvSpPr>
            <p:spPr>
              <a:xfrm flipV="1">
                <a:off x="4187880" y="482976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57" h="24">
                    <a:moveTo>
                      <a:pt x="57" y="10"/>
                    </a:moveTo>
                    <a:lnTo>
                      <a:pt x="57" y="0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876670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550"/>
              <p:cNvSpPr/>
              <p:nvPr/>
            </p:nvSpPr>
            <p:spPr>
              <a:xfrm flipV="1">
                <a:off x="4173480" y="4869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72" h="28">
                    <a:moveTo>
                      <a:pt x="72" y="9"/>
                    </a:moveTo>
                    <a:lnTo>
                      <a:pt x="68" y="0"/>
                    </a:lnTo>
                    <a:lnTo>
                      <a:pt x="0" y="18"/>
                    </a:lnTo>
                    <a:lnTo>
                      <a:pt x="3" y="28"/>
                    </a:lnTo>
                    <a:lnTo>
                      <a:pt x="72" y="9"/>
                    </a:lnTo>
                    <a:close/>
                  </a:path>
                </a:pathLst>
              </a:custGeom>
              <a:solidFill>
                <a:srgbClr val="9a7b85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551"/>
              <p:cNvSpPr/>
              <p:nvPr/>
            </p:nvSpPr>
            <p:spPr>
              <a:xfrm flipV="1">
                <a:off x="4172040" y="489492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51" y="8"/>
                    </a:moveTo>
                    <a:lnTo>
                      <a:pt x="46" y="2"/>
                    </a:lnTo>
                    <a:lnTo>
                      <a:pt x="44" y="0"/>
                    </a:lnTo>
                    <a:lnTo>
                      <a:pt x="1" y="12"/>
                    </a:lnTo>
                    <a:lnTo>
                      <a:pt x="0" y="23"/>
                    </a:lnTo>
                    <a:lnTo>
                      <a:pt x="51" y="8"/>
                    </a:lnTo>
                    <a:close/>
                  </a:path>
                </a:pathLst>
              </a:custGeom>
              <a:solidFill>
                <a:srgbClr val="a68790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552"/>
              <p:cNvSpPr/>
              <p:nvPr/>
            </p:nvSpPr>
            <p:spPr>
              <a:xfrm flipV="1">
                <a:off x="4172040" y="489024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0" y="15"/>
                    </a:moveTo>
                    <a:lnTo>
                      <a:pt x="0" y="24"/>
                    </a:lnTo>
                    <a:lnTo>
                      <a:pt x="58" y="9"/>
                    </a:lnTo>
                    <a:lnTo>
                      <a:pt x="51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4858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553"/>
              <p:cNvSpPr/>
              <p:nvPr/>
            </p:nvSpPr>
            <p:spPr>
              <a:xfrm flipV="1">
                <a:off x="4172040" y="490104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2" y="26"/>
                    </a:moveTo>
                    <a:lnTo>
                      <a:pt x="0" y="50"/>
                    </a:lnTo>
                    <a:lnTo>
                      <a:pt x="43" y="38"/>
                    </a:lnTo>
                    <a:lnTo>
                      <a:pt x="7" y="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a98b9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554"/>
              <p:cNvSpPr/>
              <p:nvPr/>
            </p:nvSpPr>
            <p:spPr>
              <a:xfrm flipV="1">
                <a:off x="4170240" y="4856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9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11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95757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555"/>
              <p:cNvSpPr/>
              <p:nvPr/>
            </p:nvSpPr>
            <p:spPr>
              <a:xfrm flipV="1">
                <a:off x="4170240" y="4862880"/>
                <a:ext cx="1800" cy="828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2" y="15"/>
                    </a:moveTo>
                    <a:lnTo>
                      <a:pt x="5" y="15"/>
                    </a:lnTo>
                    <a:lnTo>
                      <a:pt x="0" y="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a98b94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556"/>
              <p:cNvSpPr/>
              <p:nvPr/>
            </p:nvSpPr>
            <p:spPr>
              <a:xfrm flipV="1">
                <a:off x="4172040" y="48520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0"/>
                    </a:moveTo>
                    <a:lnTo>
                      <a:pt x="0" y="2"/>
                    </a:lnTo>
                    <a:lnTo>
                      <a:pt x="1" y="11"/>
                    </a:lnTo>
                    <a:lnTo>
                      <a:pt x="9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557"/>
              <p:cNvSpPr/>
              <p:nvPr/>
            </p:nvSpPr>
            <p:spPr>
              <a:xfrm flipV="1">
                <a:off x="4172040" y="4847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" y="9"/>
                    </a:moveTo>
                    <a:lnTo>
                      <a:pt x="2" y="12"/>
                    </a:lnTo>
                    <a:lnTo>
                      <a:pt x="12" y="9"/>
                    </a:lnTo>
                    <a:lnTo>
                      <a:pt x="9" y="3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906f7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558"/>
              <p:cNvSpPr/>
              <p:nvPr/>
            </p:nvSpPr>
            <p:spPr>
              <a:xfrm flipV="1">
                <a:off x="4173480" y="4842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8"/>
                    </a:moveTo>
                    <a:lnTo>
                      <a:pt x="10" y="0"/>
                    </a:lnTo>
                    <a:lnTo>
                      <a:pt x="0" y="3"/>
                    </a:lnTo>
                    <a:lnTo>
                      <a:pt x="3" y="12"/>
                    </a:lnTo>
                    <a:lnTo>
                      <a:pt x="13" y="10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8f6e78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559"/>
              <p:cNvSpPr/>
              <p:nvPr/>
            </p:nvSpPr>
            <p:spPr>
              <a:xfrm flipV="1">
                <a:off x="4178160" y="48218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1" y="8"/>
                    </a:moveTo>
                    <a:lnTo>
                      <a:pt x="19" y="4"/>
                    </a:lnTo>
                    <a:lnTo>
                      <a:pt x="17" y="0"/>
                    </a:lnTo>
                    <a:lnTo>
                      <a:pt x="0" y="3"/>
                    </a:lnTo>
                    <a:lnTo>
                      <a:pt x="4" y="13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560"/>
              <p:cNvSpPr/>
              <p:nvPr/>
            </p:nvSpPr>
            <p:spPr>
              <a:xfrm flipV="1">
                <a:off x="4174920" y="4831560"/>
                <a:ext cx="9720" cy="1296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15" y="10"/>
                    </a:moveTo>
                    <a:lnTo>
                      <a:pt x="10" y="0"/>
                    </a:lnTo>
                    <a:lnTo>
                      <a:pt x="0" y="2"/>
                    </a:lnTo>
                    <a:lnTo>
                      <a:pt x="4" y="22"/>
                    </a:lnTo>
                    <a:lnTo>
                      <a:pt x="20" y="18"/>
                    </a:lnTo>
                    <a:lnTo>
                      <a:pt x="15" y="10"/>
                    </a:lnTo>
                    <a:lnTo>
                      <a:pt x="2" y="12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8c6b75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561"/>
              <p:cNvSpPr/>
              <p:nvPr/>
            </p:nvSpPr>
            <p:spPr>
              <a:xfrm flipV="1">
                <a:off x="4176720" y="4826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4"/>
                    </a:moveTo>
                    <a:lnTo>
                      <a:pt x="2" y="7"/>
                    </a:lnTo>
                    <a:lnTo>
                      <a:pt x="4" y="13"/>
                    </a:lnTo>
                    <a:lnTo>
                      <a:pt x="21" y="10"/>
                    </a:lnTo>
                    <a:lnTo>
                      <a:pt x="1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86671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562"/>
              <p:cNvSpPr/>
              <p:nvPr/>
            </p:nvSpPr>
            <p:spPr>
              <a:xfrm flipV="1">
                <a:off x="4181400" y="47980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7" y="0"/>
                    </a:moveTo>
                    <a:lnTo>
                      <a:pt x="0" y="5"/>
                    </a:lnTo>
                    <a:lnTo>
                      <a:pt x="6" y="17"/>
                    </a:lnTo>
                    <a:lnTo>
                      <a:pt x="15" y="29"/>
                    </a:lnTo>
                    <a:lnTo>
                      <a:pt x="26" y="39"/>
                    </a:lnTo>
                    <a:lnTo>
                      <a:pt x="39" y="50"/>
                    </a:lnTo>
                    <a:lnTo>
                      <a:pt x="27" y="2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563"/>
              <p:cNvSpPr/>
              <p:nvPr/>
            </p:nvSpPr>
            <p:spPr>
              <a:xfrm flipV="1">
                <a:off x="4221000" y="48488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3" y="0"/>
                    </a:moveTo>
                    <a:lnTo>
                      <a:pt x="0" y="1"/>
                    </a:lnTo>
                    <a:lnTo>
                      <a:pt x="0" y="12"/>
                    </a:lnTo>
                    <a:lnTo>
                      <a:pt x="7" y="1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d6c77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564"/>
              <p:cNvSpPr/>
              <p:nvPr/>
            </p:nvSpPr>
            <p:spPr>
              <a:xfrm flipV="1">
                <a:off x="4219560" y="48553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8"/>
                    </a:moveTo>
                    <a:lnTo>
                      <a:pt x="5" y="7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8f6f79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565"/>
              <p:cNvSpPr/>
              <p:nvPr/>
            </p:nvSpPr>
            <p:spPr>
              <a:xfrm flipV="1">
                <a:off x="4221000" y="48441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"/>
                    </a:moveTo>
                    <a:lnTo>
                      <a:pt x="1" y="11"/>
                    </a:lnTo>
                    <a:lnTo>
                      <a:pt x="9" y="8"/>
                    </a:lnTo>
                    <a:lnTo>
                      <a:pt x="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a687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566"/>
              <p:cNvSpPr/>
              <p:nvPr/>
            </p:nvSpPr>
            <p:spPr>
              <a:xfrm flipV="1">
                <a:off x="4221000" y="48380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8" y="0"/>
                    </a:moveTo>
                    <a:lnTo>
                      <a:pt x="0" y="3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0" y="1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86772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567"/>
              <p:cNvSpPr/>
              <p:nvPr/>
            </p:nvSpPr>
            <p:spPr>
              <a:xfrm flipV="1">
                <a:off x="4222800" y="48330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9" y="0"/>
                    </a:moveTo>
                    <a:lnTo>
                      <a:pt x="0" y="3"/>
                    </a:lnTo>
                    <a:lnTo>
                      <a:pt x="1" y="12"/>
                    </a:lnTo>
                    <a:lnTo>
                      <a:pt x="11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6646f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568"/>
              <p:cNvSpPr/>
              <p:nvPr/>
            </p:nvSpPr>
            <p:spPr>
              <a:xfrm flipV="1">
                <a:off x="4214880" y="4783680"/>
                <a:ext cx="12600" cy="50760"/>
              </a:xfrm>
              <a:custGeom>
                <a:avLst/>
                <a:gdLst/>
                <a:ahLst/>
                <a:rect l="l" t="t" r="r" b="b"/>
                <a:pathLst>
                  <a:path w="25" h="97">
                    <a:moveTo>
                      <a:pt x="25" y="0"/>
                    </a:moveTo>
                    <a:lnTo>
                      <a:pt x="15" y="2"/>
                    </a:lnTo>
                    <a:lnTo>
                      <a:pt x="14" y="21"/>
                    </a:lnTo>
                    <a:lnTo>
                      <a:pt x="12" y="41"/>
                    </a:lnTo>
                    <a:lnTo>
                      <a:pt x="8" y="60"/>
                    </a:lnTo>
                    <a:lnTo>
                      <a:pt x="2" y="79"/>
                    </a:lnTo>
                    <a:lnTo>
                      <a:pt x="1" y="91"/>
                    </a:lnTo>
                    <a:lnTo>
                      <a:pt x="0" y="92"/>
                    </a:lnTo>
                    <a:lnTo>
                      <a:pt x="1" y="94"/>
                    </a:lnTo>
                    <a:lnTo>
                      <a:pt x="6" y="97"/>
                    </a:lnTo>
                    <a:lnTo>
                      <a:pt x="12" y="94"/>
                    </a:lnTo>
                    <a:lnTo>
                      <a:pt x="13" y="91"/>
                    </a:lnTo>
                    <a:lnTo>
                      <a:pt x="9" y="91"/>
                    </a:lnTo>
                    <a:lnTo>
                      <a:pt x="9" y="90"/>
                    </a:lnTo>
                    <a:lnTo>
                      <a:pt x="10" y="86"/>
                    </a:lnTo>
                    <a:lnTo>
                      <a:pt x="16" y="81"/>
                    </a:lnTo>
                    <a:lnTo>
                      <a:pt x="16" y="72"/>
                    </a:lnTo>
                    <a:lnTo>
                      <a:pt x="16" y="66"/>
                    </a:lnTo>
                    <a:lnTo>
                      <a:pt x="23" y="31"/>
                    </a:lnTo>
                    <a:lnTo>
                      <a:pt x="25" y="1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4626d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6" name="Group 1786"/>
          <p:cNvGrpSpPr/>
          <p:nvPr/>
        </p:nvGrpSpPr>
        <p:grpSpPr>
          <a:xfrm>
            <a:off x="2517840" y="4260960"/>
            <a:ext cx="370440" cy="1127880"/>
            <a:chOff x="2517840" y="4260960"/>
            <a:chExt cx="370440" cy="1127880"/>
          </a:xfrm>
        </p:grpSpPr>
        <p:sp>
          <p:nvSpPr>
            <p:cNvPr id="1767" name="Freeform 1787"/>
            <p:cNvSpPr/>
            <p:nvPr/>
          </p:nvSpPr>
          <p:spPr>
            <a:xfrm>
              <a:off x="2517840" y="4260960"/>
              <a:ext cx="369000" cy="5594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Group 1788"/>
            <p:cNvGrpSpPr/>
            <p:nvPr/>
          </p:nvGrpSpPr>
          <p:grpSpPr>
            <a:xfrm>
              <a:off x="2533320" y="4274640"/>
              <a:ext cx="334080" cy="550080"/>
              <a:chOff x="2533320" y="4274640"/>
              <a:chExt cx="334080" cy="550080"/>
            </a:xfrm>
          </p:grpSpPr>
          <p:sp>
            <p:nvSpPr>
              <p:cNvPr id="1769" name="Freeform 1789"/>
              <p:cNvSpPr/>
              <p:nvPr/>
            </p:nvSpPr>
            <p:spPr>
              <a:xfrm>
                <a:off x="2737440" y="428148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790"/>
              <p:cNvSpPr/>
              <p:nvPr/>
            </p:nvSpPr>
            <p:spPr>
              <a:xfrm>
                <a:off x="2735280" y="429768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791"/>
              <p:cNvSpPr/>
              <p:nvPr/>
            </p:nvSpPr>
            <p:spPr>
              <a:xfrm>
                <a:off x="2723760" y="430488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792"/>
              <p:cNvSpPr/>
              <p:nvPr/>
            </p:nvSpPr>
            <p:spPr>
              <a:xfrm>
                <a:off x="2721240" y="4316760"/>
                <a:ext cx="39240" cy="320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793"/>
              <p:cNvSpPr/>
              <p:nvPr/>
            </p:nvSpPr>
            <p:spPr>
              <a:xfrm>
                <a:off x="2719080" y="432540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1794"/>
              <p:cNvSpPr/>
              <p:nvPr/>
            </p:nvSpPr>
            <p:spPr>
              <a:xfrm>
                <a:off x="2719080" y="433512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795"/>
              <p:cNvSpPr/>
              <p:nvPr/>
            </p:nvSpPr>
            <p:spPr>
              <a:xfrm>
                <a:off x="2723760" y="433980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796"/>
              <p:cNvSpPr/>
              <p:nvPr/>
            </p:nvSpPr>
            <p:spPr>
              <a:xfrm>
                <a:off x="2728080" y="435816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797"/>
              <p:cNvSpPr/>
              <p:nvPr/>
            </p:nvSpPr>
            <p:spPr>
              <a:xfrm>
                <a:off x="2725920" y="4348800"/>
                <a:ext cx="48600" cy="3528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798"/>
              <p:cNvSpPr/>
              <p:nvPr/>
            </p:nvSpPr>
            <p:spPr>
              <a:xfrm>
                <a:off x="2737440" y="43977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799"/>
              <p:cNvSpPr/>
              <p:nvPr/>
            </p:nvSpPr>
            <p:spPr>
              <a:xfrm>
                <a:off x="2742120" y="442296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800"/>
              <p:cNvSpPr/>
              <p:nvPr/>
            </p:nvSpPr>
            <p:spPr>
              <a:xfrm>
                <a:off x="2739600" y="440928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801"/>
              <p:cNvSpPr/>
              <p:nvPr/>
            </p:nvSpPr>
            <p:spPr>
              <a:xfrm>
                <a:off x="2732760" y="43743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802"/>
              <p:cNvSpPr/>
              <p:nvPr/>
            </p:nvSpPr>
            <p:spPr>
              <a:xfrm>
                <a:off x="2730600" y="436500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803"/>
              <p:cNvSpPr/>
              <p:nvPr/>
            </p:nvSpPr>
            <p:spPr>
              <a:xfrm>
                <a:off x="2746800" y="443232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804"/>
              <p:cNvSpPr/>
              <p:nvPr/>
            </p:nvSpPr>
            <p:spPr>
              <a:xfrm>
                <a:off x="2832840" y="4409280"/>
                <a:ext cx="34560" cy="3708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805"/>
              <p:cNvSpPr/>
              <p:nvPr/>
            </p:nvSpPr>
            <p:spPr>
              <a:xfrm>
                <a:off x="2790720" y="4469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806"/>
              <p:cNvSpPr/>
              <p:nvPr/>
            </p:nvSpPr>
            <p:spPr>
              <a:xfrm>
                <a:off x="2793240" y="44672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807"/>
              <p:cNvSpPr/>
              <p:nvPr/>
            </p:nvSpPr>
            <p:spPr>
              <a:xfrm>
                <a:off x="2788560" y="4471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808"/>
              <p:cNvSpPr/>
              <p:nvPr/>
            </p:nvSpPr>
            <p:spPr>
              <a:xfrm>
                <a:off x="2823120" y="44420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809"/>
              <p:cNvSpPr/>
              <p:nvPr/>
            </p:nvSpPr>
            <p:spPr>
              <a:xfrm>
                <a:off x="2816280" y="445104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810"/>
              <p:cNvSpPr/>
              <p:nvPr/>
            </p:nvSpPr>
            <p:spPr>
              <a:xfrm>
                <a:off x="2818440" y="44488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811"/>
              <p:cNvSpPr/>
              <p:nvPr/>
            </p:nvSpPr>
            <p:spPr>
              <a:xfrm>
                <a:off x="2809440" y="445572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812"/>
              <p:cNvSpPr/>
              <p:nvPr/>
            </p:nvSpPr>
            <p:spPr>
              <a:xfrm>
                <a:off x="2814120" y="4453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813"/>
              <p:cNvSpPr/>
              <p:nvPr/>
            </p:nvSpPr>
            <p:spPr>
              <a:xfrm>
                <a:off x="2804760" y="44582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814"/>
              <p:cNvSpPr/>
              <p:nvPr/>
            </p:nvSpPr>
            <p:spPr>
              <a:xfrm>
                <a:off x="2797920" y="446508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815"/>
              <p:cNvSpPr/>
              <p:nvPr/>
            </p:nvSpPr>
            <p:spPr>
              <a:xfrm>
                <a:off x="2800080" y="4462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816"/>
              <p:cNvSpPr/>
              <p:nvPr/>
            </p:nvSpPr>
            <p:spPr>
              <a:xfrm>
                <a:off x="2623680" y="433512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817"/>
              <p:cNvSpPr/>
              <p:nvPr/>
            </p:nvSpPr>
            <p:spPr>
              <a:xfrm>
                <a:off x="2628360" y="43534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1818"/>
              <p:cNvSpPr/>
              <p:nvPr/>
            </p:nvSpPr>
            <p:spPr>
              <a:xfrm>
                <a:off x="2630520" y="436284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819"/>
              <p:cNvSpPr/>
              <p:nvPr/>
            </p:nvSpPr>
            <p:spPr>
              <a:xfrm>
                <a:off x="2633040" y="43696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820"/>
              <p:cNvSpPr/>
              <p:nvPr/>
            </p:nvSpPr>
            <p:spPr>
              <a:xfrm>
                <a:off x="2637360" y="437652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821"/>
              <p:cNvSpPr/>
              <p:nvPr/>
            </p:nvSpPr>
            <p:spPr>
              <a:xfrm>
                <a:off x="2642040" y="438624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822"/>
              <p:cNvSpPr/>
              <p:nvPr/>
            </p:nvSpPr>
            <p:spPr>
              <a:xfrm>
                <a:off x="2653560" y="441864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823"/>
              <p:cNvSpPr/>
              <p:nvPr/>
            </p:nvSpPr>
            <p:spPr>
              <a:xfrm>
                <a:off x="2646720" y="441144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824"/>
              <p:cNvSpPr/>
              <p:nvPr/>
            </p:nvSpPr>
            <p:spPr>
              <a:xfrm>
                <a:off x="2644920" y="440244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825"/>
              <p:cNvSpPr/>
              <p:nvPr/>
            </p:nvSpPr>
            <p:spPr>
              <a:xfrm>
                <a:off x="2644920" y="439560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826"/>
              <p:cNvSpPr/>
              <p:nvPr/>
            </p:nvSpPr>
            <p:spPr>
              <a:xfrm>
                <a:off x="2670120" y="4446720"/>
                <a:ext cx="6264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827"/>
              <p:cNvSpPr/>
              <p:nvPr/>
            </p:nvSpPr>
            <p:spPr>
              <a:xfrm>
                <a:off x="2665440" y="4437000"/>
                <a:ext cx="67320" cy="18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828"/>
              <p:cNvSpPr/>
              <p:nvPr/>
            </p:nvSpPr>
            <p:spPr>
              <a:xfrm>
                <a:off x="2676960" y="445572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829"/>
              <p:cNvSpPr/>
              <p:nvPr/>
            </p:nvSpPr>
            <p:spPr>
              <a:xfrm>
                <a:off x="2660400" y="442764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830"/>
              <p:cNvSpPr/>
              <p:nvPr/>
            </p:nvSpPr>
            <p:spPr>
              <a:xfrm>
                <a:off x="2623680" y="427464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831"/>
              <p:cNvSpPr/>
              <p:nvPr/>
            </p:nvSpPr>
            <p:spPr>
              <a:xfrm>
                <a:off x="2623680" y="4325400"/>
                <a:ext cx="7632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832"/>
              <p:cNvSpPr/>
              <p:nvPr/>
            </p:nvSpPr>
            <p:spPr>
              <a:xfrm>
                <a:off x="2719080" y="450684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833"/>
              <p:cNvSpPr/>
              <p:nvPr/>
            </p:nvSpPr>
            <p:spPr>
              <a:xfrm>
                <a:off x="2719080" y="453456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834"/>
              <p:cNvSpPr/>
              <p:nvPr/>
            </p:nvSpPr>
            <p:spPr>
              <a:xfrm>
                <a:off x="2672640" y="453456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835"/>
              <p:cNvSpPr/>
              <p:nvPr/>
            </p:nvSpPr>
            <p:spPr>
              <a:xfrm>
                <a:off x="2595960" y="438624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836"/>
              <p:cNvSpPr/>
              <p:nvPr/>
            </p:nvSpPr>
            <p:spPr>
              <a:xfrm>
                <a:off x="2651760" y="44672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837"/>
              <p:cNvSpPr/>
              <p:nvPr/>
            </p:nvSpPr>
            <p:spPr>
              <a:xfrm>
                <a:off x="2646720" y="446508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838"/>
              <p:cNvSpPr/>
              <p:nvPr/>
            </p:nvSpPr>
            <p:spPr>
              <a:xfrm>
                <a:off x="2644920" y="446256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839"/>
              <p:cNvSpPr/>
              <p:nvPr/>
            </p:nvSpPr>
            <p:spPr>
              <a:xfrm>
                <a:off x="2656440" y="446976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840"/>
              <p:cNvSpPr/>
              <p:nvPr/>
            </p:nvSpPr>
            <p:spPr>
              <a:xfrm>
                <a:off x="2623680" y="444384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841"/>
              <p:cNvSpPr/>
              <p:nvPr/>
            </p:nvSpPr>
            <p:spPr>
              <a:xfrm>
                <a:off x="2623680" y="444672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842"/>
              <p:cNvSpPr/>
              <p:nvPr/>
            </p:nvSpPr>
            <p:spPr>
              <a:xfrm>
                <a:off x="2630520" y="445572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843"/>
              <p:cNvSpPr/>
              <p:nvPr/>
            </p:nvSpPr>
            <p:spPr>
              <a:xfrm>
                <a:off x="2628360" y="445104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844"/>
              <p:cNvSpPr/>
              <p:nvPr/>
            </p:nvSpPr>
            <p:spPr>
              <a:xfrm>
                <a:off x="2628360" y="445104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845"/>
              <p:cNvSpPr/>
              <p:nvPr/>
            </p:nvSpPr>
            <p:spPr>
              <a:xfrm>
                <a:off x="2621520" y="444204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846"/>
              <p:cNvSpPr/>
              <p:nvPr/>
            </p:nvSpPr>
            <p:spPr>
              <a:xfrm>
                <a:off x="2625840" y="444888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847"/>
              <p:cNvSpPr/>
              <p:nvPr/>
            </p:nvSpPr>
            <p:spPr>
              <a:xfrm>
                <a:off x="2616840" y="44370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848"/>
              <p:cNvSpPr/>
              <p:nvPr/>
            </p:nvSpPr>
            <p:spPr>
              <a:xfrm>
                <a:off x="2619000" y="4439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849"/>
              <p:cNvSpPr/>
              <p:nvPr/>
            </p:nvSpPr>
            <p:spPr>
              <a:xfrm>
                <a:off x="2639880" y="446040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850"/>
              <p:cNvSpPr/>
              <p:nvPr/>
            </p:nvSpPr>
            <p:spPr>
              <a:xfrm>
                <a:off x="2635200" y="4458240"/>
                <a:ext cx="18360" cy="8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851"/>
              <p:cNvSpPr/>
              <p:nvPr/>
            </p:nvSpPr>
            <p:spPr>
              <a:xfrm>
                <a:off x="2567880" y="445104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852"/>
              <p:cNvSpPr/>
              <p:nvPr/>
            </p:nvSpPr>
            <p:spPr>
              <a:xfrm>
                <a:off x="2558520" y="4448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853"/>
              <p:cNvSpPr/>
              <p:nvPr/>
            </p:nvSpPr>
            <p:spPr>
              <a:xfrm>
                <a:off x="2572560" y="445356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854"/>
              <p:cNvSpPr/>
              <p:nvPr/>
            </p:nvSpPr>
            <p:spPr>
              <a:xfrm>
                <a:off x="2577240" y="445572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855"/>
              <p:cNvSpPr/>
              <p:nvPr/>
            </p:nvSpPr>
            <p:spPr>
              <a:xfrm>
                <a:off x="2581920" y="44557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856"/>
              <p:cNvSpPr/>
              <p:nvPr/>
            </p:nvSpPr>
            <p:spPr>
              <a:xfrm>
                <a:off x="2605320" y="446724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857"/>
              <p:cNvSpPr/>
              <p:nvPr/>
            </p:nvSpPr>
            <p:spPr>
              <a:xfrm>
                <a:off x="2600640" y="44650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858"/>
              <p:cNvSpPr/>
              <p:nvPr/>
            </p:nvSpPr>
            <p:spPr>
              <a:xfrm>
                <a:off x="2593800" y="446256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859"/>
              <p:cNvSpPr/>
              <p:nvPr/>
            </p:nvSpPr>
            <p:spPr>
              <a:xfrm>
                <a:off x="2586240" y="44582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860"/>
              <p:cNvSpPr/>
              <p:nvPr/>
            </p:nvSpPr>
            <p:spPr>
              <a:xfrm>
                <a:off x="2589120" y="44535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861"/>
              <p:cNvSpPr/>
              <p:nvPr/>
            </p:nvSpPr>
            <p:spPr>
              <a:xfrm>
                <a:off x="2579400" y="445104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862"/>
              <p:cNvSpPr/>
              <p:nvPr/>
            </p:nvSpPr>
            <p:spPr>
              <a:xfrm>
                <a:off x="2551680" y="443916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863"/>
              <p:cNvSpPr/>
              <p:nvPr/>
            </p:nvSpPr>
            <p:spPr>
              <a:xfrm>
                <a:off x="2561040" y="4443840"/>
                <a:ext cx="1836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864"/>
              <p:cNvSpPr/>
              <p:nvPr/>
            </p:nvSpPr>
            <p:spPr>
              <a:xfrm>
                <a:off x="2570400" y="4446720"/>
                <a:ext cx="1548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865"/>
              <p:cNvSpPr/>
              <p:nvPr/>
            </p:nvSpPr>
            <p:spPr>
              <a:xfrm>
                <a:off x="2595960" y="445824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866"/>
              <p:cNvSpPr/>
              <p:nvPr/>
            </p:nvSpPr>
            <p:spPr>
              <a:xfrm>
                <a:off x="2544840" y="44370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867"/>
              <p:cNvSpPr/>
              <p:nvPr/>
            </p:nvSpPr>
            <p:spPr>
              <a:xfrm>
                <a:off x="2533320" y="4435200"/>
                <a:ext cx="20880" cy="86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868"/>
              <p:cNvSpPr/>
              <p:nvPr/>
            </p:nvSpPr>
            <p:spPr>
              <a:xfrm>
                <a:off x="2609640" y="446508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869"/>
              <p:cNvSpPr/>
              <p:nvPr/>
            </p:nvSpPr>
            <p:spPr>
              <a:xfrm>
                <a:off x="2602800" y="446040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870"/>
              <p:cNvSpPr/>
              <p:nvPr/>
            </p:nvSpPr>
            <p:spPr>
              <a:xfrm>
                <a:off x="2621520" y="447408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871"/>
              <p:cNvSpPr/>
              <p:nvPr/>
            </p:nvSpPr>
            <p:spPr>
              <a:xfrm>
                <a:off x="2614320" y="446976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872"/>
              <p:cNvSpPr/>
              <p:nvPr/>
            </p:nvSpPr>
            <p:spPr>
              <a:xfrm>
                <a:off x="2637360" y="448128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873"/>
              <p:cNvSpPr/>
              <p:nvPr/>
            </p:nvSpPr>
            <p:spPr>
              <a:xfrm>
                <a:off x="2628360" y="447876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874"/>
              <p:cNvSpPr/>
              <p:nvPr/>
            </p:nvSpPr>
            <p:spPr>
              <a:xfrm>
                <a:off x="2646720" y="448344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875"/>
              <p:cNvSpPr/>
              <p:nvPr/>
            </p:nvSpPr>
            <p:spPr>
              <a:xfrm>
                <a:off x="2607480" y="4469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876"/>
              <p:cNvSpPr/>
              <p:nvPr/>
            </p:nvSpPr>
            <p:spPr>
              <a:xfrm>
                <a:off x="2595960" y="451152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877"/>
              <p:cNvSpPr/>
              <p:nvPr/>
            </p:nvSpPr>
            <p:spPr>
              <a:xfrm>
                <a:off x="2679480" y="4511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878"/>
              <p:cNvSpPr/>
              <p:nvPr/>
            </p:nvSpPr>
            <p:spPr>
              <a:xfrm>
                <a:off x="2797920" y="4358160"/>
                <a:ext cx="29880" cy="277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879"/>
              <p:cNvSpPr/>
              <p:nvPr/>
            </p:nvSpPr>
            <p:spPr>
              <a:xfrm>
                <a:off x="2802240" y="4313880"/>
                <a:ext cx="25560" cy="6264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880"/>
              <p:cNvSpPr/>
              <p:nvPr/>
            </p:nvSpPr>
            <p:spPr>
              <a:xfrm>
                <a:off x="2793240" y="436284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881"/>
              <p:cNvSpPr/>
              <p:nvPr/>
            </p:nvSpPr>
            <p:spPr>
              <a:xfrm>
                <a:off x="2765160" y="438804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882"/>
              <p:cNvSpPr/>
              <p:nvPr/>
            </p:nvSpPr>
            <p:spPr>
              <a:xfrm>
                <a:off x="2767320" y="438408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883"/>
              <p:cNvSpPr/>
              <p:nvPr/>
            </p:nvSpPr>
            <p:spPr>
              <a:xfrm>
                <a:off x="2783880" y="437652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884"/>
              <p:cNvSpPr/>
              <p:nvPr/>
            </p:nvSpPr>
            <p:spPr>
              <a:xfrm>
                <a:off x="2774880" y="438120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885"/>
              <p:cNvSpPr/>
              <p:nvPr/>
            </p:nvSpPr>
            <p:spPr>
              <a:xfrm>
                <a:off x="2788560" y="436968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886"/>
              <p:cNvSpPr/>
              <p:nvPr/>
            </p:nvSpPr>
            <p:spPr>
              <a:xfrm>
                <a:off x="2760480" y="439560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887"/>
              <p:cNvSpPr/>
              <p:nvPr/>
            </p:nvSpPr>
            <p:spPr>
              <a:xfrm>
                <a:off x="2755800" y="441864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888"/>
              <p:cNvSpPr/>
              <p:nvPr/>
            </p:nvSpPr>
            <p:spPr>
              <a:xfrm>
                <a:off x="2755800" y="442548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889"/>
              <p:cNvSpPr/>
              <p:nvPr/>
            </p:nvSpPr>
            <p:spPr>
              <a:xfrm>
                <a:off x="2758320" y="44024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890"/>
              <p:cNvSpPr/>
              <p:nvPr/>
            </p:nvSpPr>
            <p:spPr>
              <a:xfrm>
                <a:off x="2751120" y="443232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891"/>
              <p:cNvSpPr/>
              <p:nvPr/>
            </p:nvSpPr>
            <p:spPr>
              <a:xfrm>
                <a:off x="2748960" y="444204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892"/>
              <p:cNvSpPr/>
              <p:nvPr/>
            </p:nvSpPr>
            <p:spPr>
              <a:xfrm>
                <a:off x="2732760" y="445572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893"/>
              <p:cNvSpPr/>
              <p:nvPr/>
            </p:nvSpPr>
            <p:spPr>
              <a:xfrm>
                <a:off x="2746800" y="444888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894"/>
              <p:cNvSpPr/>
              <p:nvPr/>
            </p:nvSpPr>
            <p:spPr>
              <a:xfrm>
                <a:off x="2684160" y="481788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5" name="Group 1895"/>
            <p:cNvGrpSpPr/>
            <p:nvPr/>
          </p:nvGrpSpPr>
          <p:grpSpPr>
            <a:xfrm>
              <a:off x="2519640" y="4825080"/>
              <a:ext cx="368640" cy="563760"/>
              <a:chOff x="2519640" y="4825080"/>
              <a:chExt cx="368640" cy="563760"/>
            </a:xfrm>
          </p:grpSpPr>
          <p:sp>
            <p:nvSpPr>
              <p:cNvPr id="1876" name="Freeform 1896"/>
              <p:cNvSpPr/>
              <p:nvPr/>
            </p:nvSpPr>
            <p:spPr>
              <a:xfrm rot="10800000">
                <a:off x="2519640" y="4830120"/>
                <a:ext cx="368640" cy="55872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897"/>
              <p:cNvSpPr/>
              <p:nvPr/>
            </p:nvSpPr>
            <p:spPr>
              <a:xfrm rot="10800000">
                <a:off x="2651040" y="534204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898"/>
              <p:cNvSpPr/>
              <p:nvPr/>
            </p:nvSpPr>
            <p:spPr>
              <a:xfrm rot="10800000">
                <a:off x="2644560" y="533088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899"/>
              <p:cNvSpPr/>
              <p:nvPr/>
            </p:nvSpPr>
            <p:spPr>
              <a:xfrm rot="10800000">
                <a:off x="2646360" y="531468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900"/>
              <p:cNvSpPr/>
              <p:nvPr/>
            </p:nvSpPr>
            <p:spPr>
              <a:xfrm rot="10800000">
                <a:off x="2644200" y="530316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901"/>
              <p:cNvSpPr/>
              <p:nvPr/>
            </p:nvSpPr>
            <p:spPr>
              <a:xfrm rot="10800000">
                <a:off x="2642760" y="52894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902"/>
              <p:cNvSpPr/>
              <p:nvPr/>
            </p:nvSpPr>
            <p:spPr>
              <a:xfrm rot="10800000">
                <a:off x="2637720" y="528480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903"/>
              <p:cNvSpPr/>
              <p:nvPr/>
            </p:nvSpPr>
            <p:spPr>
              <a:xfrm rot="10800000">
                <a:off x="2637720" y="5274720"/>
                <a:ext cx="46080" cy="37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904"/>
              <p:cNvSpPr/>
              <p:nvPr/>
            </p:nvSpPr>
            <p:spPr>
              <a:xfrm rot="10800000">
                <a:off x="2628000" y="525672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905"/>
              <p:cNvSpPr/>
              <p:nvPr/>
            </p:nvSpPr>
            <p:spPr>
              <a:xfrm rot="10800000">
                <a:off x="2630880" y="526608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906"/>
              <p:cNvSpPr/>
              <p:nvPr/>
            </p:nvSpPr>
            <p:spPr>
              <a:xfrm rot="10800000">
                <a:off x="2646720" y="52311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907"/>
              <p:cNvSpPr/>
              <p:nvPr/>
            </p:nvSpPr>
            <p:spPr>
              <a:xfrm rot="10800000">
                <a:off x="2656440" y="52153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908"/>
              <p:cNvSpPr/>
              <p:nvPr/>
            </p:nvSpPr>
            <p:spPr>
              <a:xfrm rot="10800000">
                <a:off x="2654280" y="5223960"/>
                <a:ext cx="1368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909"/>
              <p:cNvSpPr/>
              <p:nvPr/>
            </p:nvSpPr>
            <p:spPr>
              <a:xfrm rot="10800000">
                <a:off x="2628360" y="52405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910"/>
              <p:cNvSpPr/>
              <p:nvPr/>
            </p:nvSpPr>
            <p:spPr>
              <a:xfrm rot="10800000">
                <a:off x="2626200" y="524988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911"/>
              <p:cNvSpPr/>
              <p:nvPr/>
            </p:nvSpPr>
            <p:spPr>
              <a:xfrm rot="10800000">
                <a:off x="2656080" y="521064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912"/>
              <p:cNvSpPr/>
              <p:nvPr/>
            </p:nvSpPr>
            <p:spPr>
              <a:xfrm rot="10800000">
                <a:off x="2538000" y="5205600"/>
                <a:ext cx="34560" cy="367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1913"/>
              <p:cNvSpPr/>
              <p:nvPr/>
            </p:nvSpPr>
            <p:spPr>
              <a:xfrm rot="10800000">
                <a:off x="2611800" y="5177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914"/>
              <p:cNvSpPr/>
              <p:nvPr/>
            </p:nvSpPr>
            <p:spPr>
              <a:xfrm rot="10800000">
                <a:off x="2609640" y="5179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915"/>
              <p:cNvSpPr/>
              <p:nvPr/>
            </p:nvSpPr>
            <p:spPr>
              <a:xfrm rot="10800000">
                <a:off x="2614320" y="51753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916"/>
              <p:cNvSpPr/>
              <p:nvPr/>
            </p:nvSpPr>
            <p:spPr>
              <a:xfrm rot="10800000">
                <a:off x="2570400" y="51962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917"/>
              <p:cNvSpPr/>
              <p:nvPr/>
            </p:nvSpPr>
            <p:spPr>
              <a:xfrm rot="10800000">
                <a:off x="2586600" y="519156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918"/>
              <p:cNvSpPr/>
              <p:nvPr/>
            </p:nvSpPr>
            <p:spPr>
              <a:xfrm rot="10800000">
                <a:off x="2579400" y="51937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919"/>
              <p:cNvSpPr/>
              <p:nvPr/>
            </p:nvSpPr>
            <p:spPr>
              <a:xfrm rot="10800000">
                <a:off x="2588400" y="519120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920"/>
              <p:cNvSpPr/>
              <p:nvPr/>
            </p:nvSpPr>
            <p:spPr>
              <a:xfrm rot="10800000">
                <a:off x="2588400" y="518904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921"/>
              <p:cNvSpPr/>
              <p:nvPr/>
            </p:nvSpPr>
            <p:spPr>
              <a:xfrm rot="10800000">
                <a:off x="2593440" y="518436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922"/>
              <p:cNvSpPr/>
              <p:nvPr/>
            </p:nvSpPr>
            <p:spPr>
              <a:xfrm rot="10800000">
                <a:off x="2604960" y="518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923"/>
              <p:cNvSpPr/>
              <p:nvPr/>
            </p:nvSpPr>
            <p:spPr>
              <a:xfrm rot="10800000">
                <a:off x="2602800" y="518436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924"/>
              <p:cNvSpPr/>
              <p:nvPr/>
            </p:nvSpPr>
            <p:spPr>
              <a:xfrm rot="10800000">
                <a:off x="2700000" y="528444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925"/>
              <p:cNvSpPr/>
              <p:nvPr/>
            </p:nvSpPr>
            <p:spPr>
              <a:xfrm rot="10800000">
                <a:off x="2695320" y="52750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926"/>
              <p:cNvSpPr/>
              <p:nvPr/>
            </p:nvSpPr>
            <p:spPr>
              <a:xfrm rot="10800000">
                <a:off x="2693160" y="526572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927"/>
              <p:cNvSpPr/>
              <p:nvPr/>
            </p:nvSpPr>
            <p:spPr>
              <a:xfrm rot="10800000">
                <a:off x="2690640" y="52588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928"/>
              <p:cNvSpPr/>
              <p:nvPr/>
            </p:nvSpPr>
            <p:spPr>
              <a:xfrm rot="10800000">
                <a:off x="2686320" y="525204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929"/>
              <p:cNvSpPr/>
              <p:nvPr/>
            </p:nvSpPr>
            <p:spPr>
              <a:xfrm rot="10800000">
                <a:off x="2681640" y="524268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930"/>
              <p:cNvSpPr/>
              <p:nvPr/>
            </p:nvSpPr>
            <p:spPr>
              <a:xfrm rot="10800000">
                <a:off x="2674440" y="521064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931"/>
              <p:cNvSpPr/>
              <p:nvPr/>
            </p:nvSpPr>
            <p:spPr>
              <a:xfrm rot="10800000">
                <a:off x="2672640" y="521748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932"/>
              <p:cNvSpPr/>
              <p:nvPr/>
            </p:nvSpPr>
            <p:spPr>
              <a:xfrm rot="10800000">
                <a:off x="2674800" y="522684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933"/>
              <p:cNvSpPr/>
              <p:nvPr/>
            </p:nvSpPr>
            <p:spPr>
              <a:xfrm rot="10800000">
                <a:off x="2679120" y="523332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934"/>
              <p:cNvSpPr/>
              <p:nvPr/>
            </p:nvSpPr>
            <p:spPr>
              <a:xfrm rot="10800000">
                <a:off x="2672280" y="518688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935"/>
              <p:cNvSpPr/>
              <p:nvPr/>
            </p:nvSpPr>
            <p:spPr>
              <a:xfrm rot="10800000">
                <a:off x="2672280" y="5196240"/>
                <a:ext cx="67320" cy="187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936"/>
              <p:cNvSpPr/>
              <p:nvPr/>
            </p:nvSpPr>
            <p:spPr>
              <a:xfrm rot="10800000">
                <a:off x="2674440" y="5163840"/>
                <a:ext cx="53640" cy="320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937"/>
              <p:cNvSpPr/>
              <p:nvPr/>
            </p:nvSpPr>
            <p:spPr>
              <a:xfrm rot="10800000">
                <a:off x="2672640" y="520092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938"/>
              <p:cNvSpPr/>
              <p:nvPr/>
            </p:nvSpPr>
            <p:spPr>
              <a:xfrm rot="10800000">
                <a:off x="2709000" y="531216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939"/>
              <p:cNvSpPr/>
              <p:nvPr/>
            </p:nvSpPr>
            <p:spPr>
              <a:xfrm rot="10800000">
                <a:off x="2704680" y="530316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940"/>
              <p:cNvSpPr/>
              <p:nvPr/>
            </p:nvSpPr>
            <p:spPr>
              <a:xfrm rot="10800000">
                <a:off x="2554200" y="507096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941"/>
              <p:cNvSpPr/>
              <p:nvPr/>
            </p:nvSpPr>
            <p:spPr>
              <a:xfrm rot="10800000">
                <a:off x="2679480" y="508032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942"/>
              <p:cNvSpPr/>
              <p:nvPr/>
            </p:nvSpPr>
            <p:spPr>
              <a:xfrm rot="10800000">
                <a:off x="2697480" y="5019840"/>
                <a:ext cx="3708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943"/>
              <p:cNvSpPr/>
              <p:nvPr/>
            </p:nvSpPr>
            <p:spPr>
              <a:xfrm rot="10800000">
                <a:off x="2779200" y="520560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944"/>
              <p:cNvSpPr/>
              <p:nvPr/>
            </p:nvSpPr>
            <p:spPr>
              <a:xfrm rot="10800000">
                <a:off x="2742120" y="51753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945"/>
              <p:cNvSpPr/>
              <p:nvPr/>
            </p:nvSpPr>
            <p:spPr>
              <a:xfrm rot="10800000">
                <a:off x="2746800" y="517788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946"/>
              <p:cNvSpPr/>
              <p:nvPr/>
            </p:nvSpPr>
            <p:spPr>
              <a:xfrm rot="10800000">
                <a:off x="2748600" y="518004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947"/>
              <p:cNvSpPr/>
              <p:nvPr/>
            </p:nvSpPr>
            <p:spPr>
              <a:xfrm rot="10800000">
                <a:off x="2723760" y="516384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948"/>
              <p:cNvSpPr/>
              <p:nvPr/>
            </p:nvSpPr>
            <p:spPr>
              <a:xfrm rot="10800000">
                <a:off x="2764800" y="519408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949"/>
              <p:cNvSpPr/>
              <p:nvPr/>
            </p:nvSpPr>
            <p:spPr>
              <a:xfrm rot="10800000">
                <a:off x="2765160" y="519156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950"/>
              <p:cNvSpPr/>
              <p:nvPr/>
            </p:nvSpPr>
            <p:spPr>
              <a:xfrm rot="10800000">
                <a:off x="2753640" y="518256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951"/>
              <p:cNvSpPr/>
              <p:nvPr/>
            </p:nvSpPr>
            <p:spPr>
              <a:xfrm rot="10800000">
                <a:off x="2760480" y="518724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952"/>
              <p:cNvSpPr/>
              <p:nvPr/>
            </p:nvSpPr>
            <p:spPr>
              <a:xfrm rot="10800000">
                <a:off x="2755800" y="518724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953"/>
              <p:cNvSpPr/>
              <p:nvPr/>
            </p:nvSpPr>
            <p:spPr>
              <a:xfrm rot="10800000">
                <a:off x="2771640" y="52009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954"/>
              <p:cNvSpPr/>
              <p:nvPr/>
            </p:nvSpPr>
            <p:spPr>
              <a:xfrm rot="10800000">
                <a:off x="2762640" y="518940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955"/>
              <p:cNvSpPr/>
              <p:nvPr/>
            </p:nvSpPr>
            <p:spPr>
              <a:xfrm rot="10800000">
                <a:off x="2776680" y="52056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956"/>
              <p:cNvSpPr/>
              <p:nvPr/>
            </p:nvSpPr>
            <p:spPr>
              <a:xfrm rot="10800000">
                <a:off x="2774520" y="520308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957"/>
              <p:cNvSpPr/>
              <p:nvPr/>
            </p:nvSpPr>
            <p:spPr>
              <a:xfrm rot="10800000">
                <a:off x="2748600" y="518256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958"/>
              <p:cNvSpPr/>
              <p:nvPr/>
            </p:nvSpPr>
            <p:spPr>
              <a:xfrm rot="10800000">
                <a:off x="2753280" y="518472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959"/>
              <p:cNvSpPr/>
              <p:nvPr/>
            </p:nvSpPr>
            <p:spPr>
              <a:xfrm rot="10800000">
                <a:off x="2829960" y="519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960"/>
              <p:cNvSpPr/>
              <p:nvPr/>
            </p:nvSpPr>
            <p:spPr>
              <a:xfrm rot="10800000">
                <a:off x="2839320" y="5198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961"/>
              <p:cNvSpPr/>
              <p:nvPr/>
            </p:nvSpPr>
            <p:spPr>
              <a:xfrm rot="10800000">
                <a:off x="2825640" y="51937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962"/>
              <p:cNvSpPr/>
              <p:nvPr/>
            </p:nvSpPr>
            <p:spPr>
              <a:xfrm rot="10800000">
                <a:off x="2816280" y="519120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963"/>
              <p:cNvSpPr/>
              <p:nvPr/>
            </p:nvSpPr>
            <p:spPr>
              <a:xfrm rot="10800000">
                <a:off x="2811240" y="518688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964"/>
              <p:cNvSpPr/>
              <p:nvPr/>
            </p:nvSpPr>
            <p:spPr>
              <a:xfrm rot="10800000">
                <a:off x="2797560" y="51796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1965"/>
              <p:cNvSpPr/>
              <p:nvPr/>
            </p:nvSpPr>
            <p:spPr>
              <a:xfrm rot="10800000">
                <a:off x="2802240" y="5182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966"/>
              <p:cNvSpPr/>
              <p:nvPr/>
            </p:nvSpPr>
            <p:spPr>
              <a:xfrm rot="10800000">
                <a:off x="2804760" y="518436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967"/>
              <p:cNvSpPr/>
              <p:nvPr/>
            </p:nvSpPr>
            <p:spPr>
              <a:xfrm rot="10800000">
                <a:off x="2807280" y="518436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968"/>
              <p:cNvSpPr/>
              <p:nvPr/>
            </p:nvSpPr>
            <p:spPr>
              <a:xfrm rot="10800000">
                <a:off x="2804760" y="518904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969"/>
              <p:cNvSpPr/>
              <p:nvPr/>
            </p:nvSpPr>
            <p:spPr>
              <a:xfrm rot="10800000">
                <a:off x="2809080" y="519156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970"/>
              <p:cNvSpPr/>
              <p:nvPr/>
            </p:nvSpPr>
            <p:spPr>
              <a:xfrm rot="10800000">
                <a:off x="2836800" y="520308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971"/>
              <p:cNvSpPr/>
              <p:nvPr/>
            </p:nvSpPr>
            <p:spPr>
              <a:xfrm rot="10800000">
                <a:off x="2827800" y="5198400"/>
                <a:ext cx="1872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972"/>
              <p:cNvSpPr/>
              <p:nvPr/>
            </p:nvSpPr>
            <p:spPr>
              <a:xfrm rot="10800000">
                <a:off x="2818440" y="519588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973"/>
              <p:cNvSpPr/>
              <p:nvPr/>
            </p:nvSpPr>
            <p:spPr>
              <a:xfrm rot="10800000">
                <a:off x="2797920" y="518436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974"/>
              <p:cNvSpPr/>
              <p:nvPr/>
            </p:nvSpPr>
            <p:spPr>
              <a:xfrm rot="10800000">
                <a:off x="2843640" y="520560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975"/>
              <p:cNvSpPr/>
              <p:nvPr/>
            </p:nvSpPr>
            <p:spPr>
              <a:xfrm rot="10800000">
                <a:off x="2850840" y="5207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976"/>
              <p:cNvSpPr/>
              <p:nvPr/>
            </p:nvSpPr>
            <p:spPr>
              <a:xfrm rot="10800000">
                <a:off x="2784240" y="51778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977"/>
              <p:cNvSpPr/>
              <p:nvPr/>
            </p:nvSpPr>
            <p:spPr>
              <a:xfrm rot="10800000">
                <a:off x="2791080" y="518256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978"/>
              <p:cNvSpPr/>
              <p:nvPr/>
            </p:nvSpPr>
            <p:spPr>
              <a:xfrm rot="10800000">
                <a:off x="2771640" y="5168520"/>
                <a:ext cx="1404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979"/>
              <p:cNvSpPr/>
              <p:nvPr/>
            </p:nvSpPr>
            <p:spPr>
              <a:xfrm rot="10800000">
                <a:off x="2779560" y="517320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980"/>
              <p:cNvSpPr/>
              <p:nvPr/>
            </p:nvSpPr>
            <p:spPr>
              <a:xfrm rot="10800000">
                <a:off x="2756160" y="516132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981"/>
              <p:cNvSpPr/>
              <p:nvPr/>
            </p:nvSpPr>
            <p:spPr>
              <a:xfrm rot="10800000">
                <a:off x="2764800" y="516384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982"/>
              <p:cNvSpPr/>
              <p:nvPr/>
            </p:nvSpPr>
            <p:spPr>
              <a:xfrm rot="10800000">
                <a:off x="2751480" y="516384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983"/>
              <p:cNvSpPr/>
              <p:nvPr/>
            </p:nvSpPr>
            <p:spPr>
              <a:xfrm rot="10800000">
                <a:off x="2795400" y="5177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984"/>
              <p:cNvSpPr/>
              <p:nvPr/>
            </p:nvSpPr>
            <p:spPr>
              <a:xfrm rot="10800000">
                <a:off x="2695320" y="505260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985"/>
              <p:cNvSpPr/>
              <p:nvPr/>
            </p:nvSpPr>
            <p:spPr>
              <a:xfrm rot="10800000">
                <a:off x="2723400" y="5135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986"/>
              <p:cNvSpPr/>
              <p:nvPr/>
            </p:nvSpPr>
            <p:spPr>
              <a:xfrm rot="10800000">
                <a:off x="2576880" y="5266080"/>
                <a:ext cx="29880" cy="273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987"/>
              <p:cNvSpPr/>
              <p:nvPr/>
            </p:nvSpPr>
            <p:spPr>
              <a:xfrm rot="10800000">
                <a:off x="2576880" y="527256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988"/>
              <p:cNvSpPr/>
              <p:nvPr/>
            </p:nvSpPr>
            <p:spPr>
              <a:xfrm rot="10800000">
                <a:off x="2577240" y="525636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989"/>
              <p:cNvSpPr/>
              <p:nvPr/>
            </p:nvSpPr>
            <p:spPr>
              <a:xfrm rot="10800000">
                <a:off x="2591280" y="522180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990"/>
              <p:cNvSpPr/>
              <p:nvPr/>
            </p:nvSpPr>
            <p:spPr>
              <a:xfrm rot="10800000">
                <a:off x="2588400" y="522648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991"/>
              <p:cNvSpPr/>
              <p:nvPr/>
            </p:nvSpPr>
            <p:spPr>
              <a:xfrm rot="10800000">
                <a:off x="2581560" y="524268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992"/>
              <p:cNvSpPr/>
              <p:nvPr/>
            </p:nvSpPr>
            <p:spPr>
              <a:xfrm rot="10800000">
                <a:off x="2586960" y="52336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993"/>
              <p:cNvSpPr/>
              <p:nvPr/>
            </p:nvSpPr>
            <p:spPr>
              <a:xfrm rot="10800000">
                <a:off x="2581920" y="524952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994"/>
              <p:cNvSpPr/>
              <p:nvPr/>
            </p:nvSpPr>
            <p:spPr>
              <a:xfrm rot="10800000">
                <a:off x="2595240" y="521532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995"/>
              <p:cNvSpPr/>
              <p:nvPr/>
            </p:nvSpPr>
            <p:spPr>
              <a:xfrm rot="10800000">
                <a:off x="2605320" y="5200920"/>
                <a:ext cx="43920" cy="324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996"/>
              <p:cNvSpPr/>
              <p:nvPr/>
            </p:nvSpPr>
            <p:spPr>
              <a:xfrm rot="10800000">
                <a:off x="2614680" y="519840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997"/>
              <p:cNvSpPr/>
              <p:nvPr/>
            </p:nvSpPr>
            <p:spPr>
              <a:xfrm rot="10800000">
                <a:off x="2598480" y="520308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998"/>
              <p:cNvSpPr/>
              <p:nvPr/>
            </p:nvSpPr>
            <p:spPr>
              <a:xfrm rot="10800000">
                <a:off x="2623680" y="519624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Freeform 1999"/>
              <p:cNvSpPr/>
              <p:nvPr/>
            </p:nvSpPr>
            <p:spPr>
              <a:xfrm rot="10800000">
                <a:off x="2630880" y="519156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2000"/>
              <p:cNvSpPr/>
              <p:nvPr/>
            </p:nvSpPr>
            <p:spPr>
              <a:xfrm rot="10800000">
                <a:off x="2646360" y="517320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2001"/>
              <p:cNvSpPr/>
              <p:nvPr/>
            </p:nvSpPr>
            <p:spPr>
              <a:xfrm rot="10800000">
                <a:off x="2637360" y="518436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2002"/>
              <p:cNvSpPr/>
              <p:nvPr/>
            </p:nvSpPr>
            <p:spPr>
              <a:xfrm rot="10800000">
                <a:off x="2676960" y="482508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3" name="Group 2003"/>
          <p:cNvGrpSpPr/>
          <p:nvPr/>
        </p:nvGrpSpPr>
        <p:grpSpPr>
          <a:xfrm>
            <a:off x="1832040" y="4338720"/>
            <a:ext cx="370440" cy="1127880"/>
            <a:chOff x="1832040" y="4338720"/>
            <a:chExt cx="370440" cy="1127880"/>
          </a:xfrm>
        </p:grpSpPr>
        <p:sp>
          <p:nvSpPr>
            <p:cNvPr id="1984" name="Freeform 2004"/>
            <p:cNvSpPr/>
            <p:nvPr/>
          </p:nvSpPr>
          <p:spPr>
            <a:xfrm>
              <a:off x="1832040" y="4338720"/>
              <a:ext cx="369000" cy="559440"/>
            </a:xfrm>
            <a:custGeom>
              <a:avLst/>
              <a:gdLst/>
              <a:ahLst/>
              <a:rect l="l" t="t" r="r" b="b"/>
              <a:pathLst>
                <a:path w="478" h="722">
                  <a:moveTo>
                    <a:pt x="312" y="26"/>
                  </a:moveTo>
                  <a:lnTo>
                    <a:pt x="310" y="14"/>
                  </a:lnTo>
                  <a:lnTo>
                    <a:pt x="303" y="0"/>
                  </a:lnTo>
                  <a:lnTo>
                    <a:pt x="294" y="17"/>
                  </a:lnTo>
                  <a:lnTo>
                    <a:pt x="286" y="31"/>
                  </a:lnTo>
                  <a:lnTo>
                    <a:pt x="268" y="82"/>
                  </a:lnTo>
                  <a:lnTo>
                    <a:pt x="259" y="101"/>
                  </a:lnTo>
                  <a:lnTo>
                    <a:pt x="256" y="112"/>
                  </a:lnTo>
                  <a:lnTo>
                    <a:pt x="218" y="7"/>
                  </a:lnTo>
                  <a:lnTo>
                    <a:pt x="202" y="5"/>
                  </a:lnTo>
                  <a:lnTo>
                    <a:pt x="146" y="70"/>
                  </a:lnTo>
                  <a:lnTo>
                    <a:pt x="131" y="92"/>
                  </a:lnTo>
                  <a:lnTo>
                    <a:pt x="140" y="152"/>
                  </a:lnTo>
                  <a:lnTo>
                    <a:pt x="163" y="221"/>
                  </a:lnTo>
                  <a:lnTo>
                    <a:pt x="149" y="216"/>
                  </a:lnTo>
                  <a:lnTo>
                    <a:pt x="125" y="177"/>
                  </a:lnTo>
                  <a:lnTo>
                    <a:pt x="110" y="146"/>
                  </a:lnTo>
                  <a:lnTo>
                    <a:pt x="104" y="114"/>
                  </a:lnTo>
                  <a:lnTo>
                    <a:pt x="97" y="76"/>
                  </a:lnTo>
                  <a:lnTo>
                    <a:pt x="90" y="53"/>
                  </a:lnTo>
                  <a:lnTo>
                    <a:pt x="86" y="72"/>
                  </a:lnTo>
                  <a:lnTo>
                    <a:pt x="89" y="152"/>
                  </a:lnTo>
                  <a:lnTo>
                    <a:pt x="91" y="176"/>
                  </a:lnTo>
                  <a:lnTo>
                    <a:pt x="103" y="191"/>
                  </a:lnTo>
                  <a:lnTo>
                    <a:pt x="104" y="209"/>
                  </a:lnTo>
                  <a:lnTo>
                    <a:pt x="110" y="227"/>
                  </a:lnTo>
                  <a:lnTo>
                    <a:pt x="119" y="242"/>
                  </a:lnTo>
                  <a:lnTo>
                    <a:pt x="132" y="259"/>
                  </a:lnTo>
                  <a:lnTo>
                    <a:pt x="122" y="251"/>
                  </a:lnTo>
                  <a:lnTo>
                    <a:pt x="112" y="245"/>
                  </a:lnTo>
                  <a:lnTo>
                    <a:pt x="100" y="239"/>
                  </a:lnTo>
                  <a:lnTo>
                    <a:pt x="88" y="235"/>
                  </a:lnTo>
                  <a:lnTo>
                    <a:pt x="37" y="221"/>
                  </a:lnTo>
                  <a:lnTo>
                    <a:pt x="3" y="222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2" y="235"/>
                  </a:lnTo>
                  <a:lnTo>
                    <a:pt x="6" y="237"/>
                  </a:lnTo>
                  <a:lnTo>
                    <a:pt x="9" y="239"/>
                  </a:lnTo>
                  <a:lnTo>
                    <a:pt x="15" y="241"/>
                  </a:lnTo>
                  <a:lnTo>
                    <a:pt x="65" y="258"/>
                  </a:lnTo>
                  <a:lnTo>
                    <a:pt x="113" y="276"/>
                  </a:lnTo>
                  <a:lnTo>
                    <a:pt x="142" y="289"/>
                  </a:lnTo>
                  <a:lnTo>
                    <a:pt x="168" y="303"/>
                  </a:lnTo>
                  <a:lnTo>
                    <a:pt x="178" y="311"/>
                  </a:lnTo>
                  <a:lnTo>
                    <a:pt x="190" y="309"/>
                  </a:lnTo>
                  <a:lnTo>
                    <a:pt x="188" y="312"/>
                  </a:lnTo>
                  <a:lnTo>
                    <a:pt x="156" y="336"/>
                  </a:lnTo>
                  <a:lnTo>
                    <a:pt x="133" y="357"/>
                  </a:lnTo>
                  <a:lnTo>
                    <a:pt x="108" y="399"/>
                  </a:lnTo>
                  <a:lnTo>
                    <a:pt x="97" y="441"/>
                  </a:lnTo>
                  <a:lnTo>
                    <a:pt x="95" y="452"/>
                  </a:lnTo>
                  <a:lnTo>
                    <a:pt x="127" y="432"/>
                  </a:lnTo>
                  <a:lnTo>
                    <a:pt x="199" y="391"/>
                  </a:lnTo>
                  <a:lnTo>
                    <a:pt x="196" y="400"/>
                  </a:lnTo>
                  <a:lnTo>
                    <a:pt x="194" y="411"/>
                  </a:lnTo>
                  <a:lnTo>
                    <a:pt x="196" y="433"/>
                  </a:lnTo>
                  <a:lnTo>
                    <a:pt x="199" y="453"/>
                  </a:lnTo>
                  <a:lnTo>
                    <a:pt x="208" y="475"/>
                  </a:lnTo>
                  <a:lnTo>
                    <a:pt x="223" y="501"/>
                  </a:lnTo>
                  <a:lnTo>
                    <a:pt x="226" y="496"/>
                  </a:lnTo>
                  <a:lnTo>
                    <a:pt x="224" y="487"/>
                  </a:lnTo>
                  <a:lnTo>
                    <a:pt x="226" y="478"/>
                  </a:lnTo>
                  <a:lnTo>
                    <a:pt x="233" y="459"/>
                  </a:lnTo>
                  <a:lnTo>
                    <a:pt x="240" y="442"/>
                  </a:lnTo>
                  <a:lnTo>
                    <a:pt x="250" y="428"/>
                  </a:lnTo>
                  <a:lnTo>
                    <a:pt x="250" y="638"/>
                  </a:lnTo>
                  <a:lnTo>
                    <a:pt x="244" y="647"/>
                  </a:lnTo>
                  <a:lnTo>
                    <a:pt x="244" y="677"/>
                  </a:lnTo>
                  <a:lnTo>
                    <a:pt x="235" y="687"/>
                  </a:lnTo>
                  <a:lnTo>
                    <a:pt x="222" y="713"/>
                  </a:lnTo>
                  <a:lnTo>
                    <a:pt x="218" y="715"/>
                  </a:lnTo>
                  <a:lnTo>
                    <a:pt x="234" y="722"/>
                  </a:lnTo>
                  <a:lnTo>
                    <a:pt x="241" y="721"/>
                  </a:lnTo>
                  <a:lnTo>
                    <a:pt x="249" y="691"/>
                  </a:lnTo>
                  <a:lnTo>
                    <a:pt x="253" y="679"/>
                  </a:lnTo>
                  <a:lnTo>
                    <a:pt x="253" y="649"/>
                  </a:lnTo>
                  <a:lnTo>
                    <a:pt x="261" y="638"/>
                  </a:lnTo>
                  <a:lnTo>
                    <a:pt x="262" y="579"/>
                  </a:lnTo>
                  <a:lnTo>
                    <a:pt x="262" y="502"/>
                  </a:lnTo>
                  <a:lnTo>
                    <a:pt x="262" y="484"/>
                  </a:lnTo>
                  <a:lnTo>
                    <a:pt x="263" y="463"/>
                  </a:lnTo>
                  <a:lnTo>
                    <a:pt x="263" y="423"/>
                  </a:lnTo>
                  <a:lnTo>
                    <a:pt x="267" y="400"/>
                  </a:lnTo>
                  <a:lnTo>
                    <a:pt x="271" y="390"/>
                  </a:lnTo>
                  <a:lnTo>
                    <a:pt x="280" y="381"/>
                  </a:lnTo>
                  <a:lnTo>
                    <a:pt x="294" y="387"/>
                  </a:lnTo>
                  <a:lnTo>
                    <a:pt x="310" y="392"/>
                  </a:lnTo>
                  <a:lnTo>
                    <a:pt x="342" y="397"/>
                  </a:lnTo>
                  <a:lnTo>
                    <a:pt x="361" y="398"/>
                  </a:lnTo>
                  <a:lnTo>
                    <a:pt x="381" y="402"/>
                  </a:lnTo>
                  <a:lnTo>
                    <a:pt x="399" y="406"/>
                  </a:lnTo>
                  <a:lnTo>
                    <a:pt x="418" y="415"/>
                  </a:lnTo>
                  <a:lnTo>
                    <a:pt x="436" y="424"/>
                  </a:lnTo>
                  <a:lnTo>
                    <a:pt x="454" y="436"/>
                  </a:lnTo>
                  <a:lnTo>
                    <a:pt x="455" y="436"/>
                  </a:lnTo>
                  <a:lnTo>
                    <a:pt x="456" y="435"/>
                  </a:lnTo>
                  <a:lnTo>
                    <a:pt x="458" y="426"/>
                  </a:lnTo>
                  <a:lnTo>
                    <a:pt x="447" y="409"/>
                  </a:lnTo>
                  <a:lnTo>
                    <a:pt x="429" y="386"/>
                  </a:lnTo>
                  <a:lnTo>
                    <a:pt x="419" y="376"/>
                  </a:lnTo>
                  <a:lnTo>
                    <a:pt x="411" y="369"/>
                  </a:lnTo>
                  <a:lnTo>
                    <a:pt x="375" y="345"/>
                  </a:lnTo>
                  <a:lnTo>
                    <a:pt x="346" y="326"/>
                  </a:lnTo>
                  <a:lnTo>
                    <a:pt x="330" y="317"/>
                  </a:lnTo>
                  <a:lnTo>
                    <a:pt x="406" y="301"/>
                  </a:lnTo>
                  <a:lnTo>
                    <a:pt x="442" y="290"/>
                  </a:lnTo>
                  <a:lnTo>
                    <a:pt x="478" y="277"/>
                  </a:lnTo>
                  <a:lnTo>
                    <a:pt x="378" y="273"/>
                  </a:lnTo>
                  <a:lnTo>
                    <a:pt x="393" y="266"/>
                  </a:lnTo>
                  <a:lnTo>
                    <a:pt x="407" y="258"/>
                  </a:lnTo>
                  <a:lnTo>
                    <a:pt x="410" y="254"/>
                  </a:lnTo>
                  <a:lnTo>
                    <a:pt x="413" y="252"/>
                  </a:lnTo>
                  <a:lnTo>
                    <a:pt x="420" y="247"/>
                  </a:lnTo>
                  <a:lnTo>
                    <a:pt x="432" y="235"/>
                  </a:lnTo>
                  <a:lnTo>
                    <a:pt x="455" y="211"/>
                  </a:lnTo>
                  <a:lnTo>
                    <a:pt x="474" y="177"/>
                  </a:lnTo>
                  <a:lnTo>
                    <a:pt x="468" y="155"/>
                  </a:lnTo>
                  <a:lnTo>
                    <a:pt x="468" y="153"/>
                  </a:lnTo>
                  <a:lnTo>
                    <a:pt x="458" y="162"/>
                  </a:lnTo>
                  <a:lnTo>
                    <a:pt x="456" y="165"/>
                  </a:lnTo>
                  <a:lnTo>
                    <a:pt x="455" y="176"/>
                  </a:lnTo>
                  <a:lnTo>
                    <a:pt x="441" y="192"/>
                  </a:lnTo>
                  <a:lnTo>
                    <a:pt x="426" y="207"/>
                  </a:lnTo>
                  <a:lnTo>
                    <a:pt x="411" y="222"/>
                  </a:lnTo>
                  <a:lnTo>
                    <a:pt x="406" y="224"/>
                  </a:lnTo>
                  <a:lnTo>
                    <a:pt x="404" y="225"/>
                  </a:lnTo>
                  <a:lnTo>
                    <a:pt x="402" y="228"/>
                  </a:lnTo>
                  <a:lnTo>
                    <a:pt x="395" y="235"/>
                  </a:lnTo>
                  <a:lnTo>
                    <a:pt x="377" y="245"/>
                  </a:lnTo>
                  <a:lnTo>
                    <a:pt x="360" y="254"/>
                  </a:lnTo>
                  <a:lnTo>
                    <a:pt x="341" y="261"/>
                  </a:lnTo>
                  <a:lnTo>
                    <a:pt x="323" y="269"/>
                  </a:lnTo>
                  <a:lnTo>
                    <a:pt x="324" y="267"/>
                  </a:lnTo>
                  <a:lnTo>
                    <a:pt x="359" y="243"/>
                  </a:lnTo>
                  <a:lnTo>
                    <a:pt x="345" y="246"/>
                  </a:lnTo>
                  <a:lnTo>
                    <a:pt x="333" y="252"/>
                  </a:lnTo>
                  <a:lnTo>
                    <a:pt x="322" y="258"/>
                  </a:lnTo>
                  <a:lnTo>
                    <a:pt x="313" y="267"/>
                  </a:lnTo>
                  <a:lnTo>
                    <a:pt x="311" y="267"/>
                  </a:lnTo>
                  <a:lnTo>
                    <a:pt x="310" y="267"/>
                  </a:lnTo>
                  <a:lnTo>
                    <a:pt x="310" y="269"/>
                  </a:lnTo>
                  <a:lnTo>
                    <a:pt x="307" y="271"/>
                  </a:lnTo>
                  <a:lnTo>
                    <a:pt x="305" y="271"/>
                  </a:lnTo>
                  <a:lnTo>
                    <a:pt x="304" y="271"/>
                  </a:lnTo>
                  <a:lnTo>
                    <a:pt x="304" y="272"/>
                  </a:lnTo>
                  <a:lnTo>
                    <a:pt x="301" y="275"/>
                  </a:lnTo>
                  <a:lnTo>
                    <a:pt x="280" y="283"/>
                  </a:lnTo>
                  <a:lnTo>
                    <a:pt x="304" y="235"/>
                  </a:lnTo>
                  <a:lnTo>
                    <a:pt x="311" y="213"/>
                  </a:lnTo>
                  <a:lnTo>
                    <a:pt x="316" y="189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9" y="159"/>
                  </a:lnTo>
                  <a:lnTo>
                    <a:pt x="330" y="157"/>
                  </a:lnTo>
                  <a:lnTo>
                    <a:pt x="333" y="157"/>
                  </a:lnTo>
                  <a:lnTo>
                    <a:pt x="335" y="161"/>
                  </a:lnTo>
                  <a:lnTo>
                    <a:pt x="347" y="153"/>
                  </a:lnTo>
                  <a:lnTo>
                    <a:pt x="372" y="119"/>
                  </a:lnTo>
                  <a:lnTo>
                    <a:pt x="372" y="83"/>
                  </a:lnTo>
                  <a:lnTo>
                    <a:pt x="382" y="68"/>
                  </a:lnTo>
                  <a:lnTo>
                    <a:pt x="390" y="88"/>
                  </a:lnTo>
                  <a:lnTo>
                    <a:pt x="397" y="107"/>
                  </a:lnTo>
                  <a:lnTo>
                    <a:pt x="401" y="127"/>
                  </a:lnTo>
                  <a:lnTo>
                    <a:pt x="404" y="149"/>
                  </a:lnTo>
                  <a:lnTo>
                    <a:pt x="397" y="182"/>
                  </a:lnTo>
                  <a:lnTo>
                    <a:pt x="384" y="213"/>
                  </a:lnTo>
                  <a:lnTo>
                    <a:pt x="372" y="233"/>
                  </a:lnTo>
                  <a:lnTo>
                    <a:pt x="387" y="217"/>
                  </a:lnTo>
                  <a:lnTo>
                    <a:pt x="389" y="212"/>
                  </a:lnTo>
                  <a:lnTo>
                    <a:pt x="390" y="210"/>
                  </a:lnTo>
                  <a:lnTo>
                    <a:pt x="393" y="209"/>
                  </a:lnTo>
                  <a:lnTo>
                    <a:pt x="399" y="201"/>
                  </a:lnTo>
                  <a:lnTo>
                    <a:pt x="404" y="192"/>
                  </a:lnTo>
                  <a:lnTo>
                    <a:pt x="408" y="183"/>
                  </a:lnTo>
                  <a:lnTo>
                    <a:pt x="414" y="137"/>
                  </a:lnTo>
                  <a:lnTo>
                    <a:pt x="408" y="108"/>
                  </a:lnTo>
                  <a:lnTo>
                    <a:pt x="387" y="60"/>
                  </a:lnTo>
                  <a:lnTo>
                    <a:pt x="383" y="53"/>
                  </a:lnTo>
                  <a:lnTo>
                    <a:pt x="377" y="42"/>
                  </a:lnTo>
                  <a:lnTo>
                    <a:pt x="372" y="48"/>
                  </a:lnTo>
                  <a:lnTo>
                    <a:pt x="369" y="72"/>
                  </a:lnTo>
                  <a:lnTo>
                    <a:pt x="366" y="86"/>
                  </a:lnTo>
                  <a:lnTo>
                    <a:pt x="365" y="116"/>
                  </a:lnTo>
                  <a:lnTo>
                    <a:pt x="349" y="141"/>
                  </a:lnTo>
                  <a:lnTo>
                    <a:pt x="343" y="121"/>
                  </a:lnTo>
                  <a:lnTo>
                    <a:pt x="333" y="107"/>
                  </a:lnTo>
                  <a:lnTo>
                    <a:pt x="333" y="92"/>
                  </a:lnTo>
                  <a:lnTo>
                    <a:pt x="325" y="82"/>
                  </a:lnTo>
                  <a:lnTo>
                    <a:pt x="327" y="65"/>
                  </a:lnTo>
                  <a:lnTo>
                    <a:pt x="325" y="50"/>
                  </a:lnTo>
                  <a:lnTo>
                    <a:pt x="319" y="37"/>
                  </a:lnTo>
                  <a:lnTo>
                    <a:pt x="312" y="26"/>
                  </a:lnTo>
                  <a:close/>
                  <a:moveTo>
                    <a:pt x="292" y="35"/>
                  </a:moveTo>
                  <a:lnTo>
                    <a:pt x="304" y="26"/>
                  </a:lnTo>
                  <a:lnTo>
                    <a:pt x="315" y="60"/>
                  </a:lnTo>
                  <a:lnTo>
                    <a:pt x="318" y="92"/>
                  </a:lnTo>
                  <a:lnTo>
                    <a:pt x="325" y="101"/>
                  </a:lnTo>
                  <a:lnTo>
                    <a:pt x="325" y="112"/>
                  </a:lnTo>
                  <a:lnTo>
                    <a:pt x="339" y="131"/>
                  </a:lnTo>
                  <a:lnTo>
                    <a:pt x="339" y="149"/>
                  </a:lnTo>
                  <a:lnTo>
                    <a:pt x="316" y="165"/>
                  </a:lnTo>
                  <a:lnTo>
                    <a:pt x="304" y="205"/>
                  </a:lnTo>
                  <a:lnTo>
                    <a:pt x="299" y="216"/>
                  </a:lnTo>
                  <a:lnTo>
                    <a:pt x="299" y="221"/>
                  </a:lnTo>
                  <a:lnTo>
                    <a:pt x="299" y="229"/>
                  </a:lnTo>
                  <a:lnTo>
                    <a:pt x="298" y="235"/>
                  </a:lnTo>
                  <a:lnTo>
                    <a:pt x="294" y="216"/>
                  </a:lnTo>
                  <a:lnTo>
                    <a:pt x="287" y="200"/>
                  </a:lnTo>
                  <a:lnTo>
                    <a:pt x="273" y="157"/>
                  </a:lnTo>
                  <a:lnTo>
                    <a:pt x="262" y="126"/>
                  </a:lnTo>
                  <a:lnTo>
                    <a:pt x="264" y="113"/>
                  </a:lnTo>
                  <a:lnTo>
                    <a:pt x="265" y="101"/>
                  </a:lnTo>
                  <a:lnTo>
                    <a:pt x="277" y="84"/>
                  </a:lnTo>
                  <a:lnTo>
                    <a:pt x="285" y="67"/>
                  </a:lnTo>
                  <a:lnTo>
                    <a:pt x="292" y="35"/>
                  </a:lnTo>
                  <a:close/>
                  <a:moveTo>
                    <a:pt x="438" y="211"/>
                  </a:moveTo>
                  <a:lnTo>
                    <a:pt x="446" y="198"/>
                  </a:lnTo>
                  <a:lnTo>
                    <a:pt x="454" y="191"/>
                  </a:lnTo>
                  <a:lnTo>
                    <a:pt x="446" y="205"/>
                  </a:lnTo>
                  <a:lnTo>
                    <a:pt x="441" y="211"/>
                  </a:lnTo>
                  <a:lnTo>
                    <a:pt x="437" y="218"/>
                  </a:lnTo>
                  <a:lnTo>
                    <a:pt x="426" y="230"/>
                  </a:lnTo>
                  <a:lnTo>
                    <a:pt x="419" y="235"/>
                  </a:lnTo>
                  <a:lnTo>
                    <a:pt x="416" y="237"/>
                  </a:lnTo>
                  <a:lnTo>
                    <a:pt x="413" y="241"/>
                  </a:lnTo>
                  <a:lnTo>
                    <a:pt x="382" y="259"/>
                  </a:lnTo>
                  <a:lnTo>
                    <a:pt x="348" y="277"/>
                  </a:lnTo>
                  <a:lnTo>
                    <a:pt x="438" y="211"/>
                  </a:lnTo>
                  <a:close/>
                  <a:moveTo>
                    <a:pt x="253" y="141"/>
                  </a:moveTo>
                  <a:lnTo>
                    <a:pt x="277" y="199"/>
                  </a:lnTo>
                  <a:lnTo>
                    <a:pt x="280" y="234"/>
                  </a:lnTo>
                  <a:lnTo>
                    <a:pt x="274" y="273"/>
                  </a:lnTo>
                  <a:lnTo>
                    <a:pt x="253" y="281"/>
                  </a:lnTo>
                  <a:lnTo>
                    <a:pt x="249" y="278"/>
                  </a:lnTo>
                  <a:lnTo>
                    <a:pt x="246" y="279"/>
                  </a:lnTo>
                  <a:lnTo>
                    <a:pt x="246" y="284"/>
                  </a:lnTo>
                  <a:lnTo>
                    <a:pt x="253" y="294"/>
                  </a:lnTo>
                  <a:lnTo>
                    <a:pt x="230" y="293"/>
                  </a:lnTo>
                  <a:lnTo>
                    <a:pt x="185" y="233"/>
                  </a:lnTo>
                  <a:lnTo>
                    <a:pt x="167" y="207"/>
                  </a:lnTo>
                  <a:lnTo>
                    <a:pt x="167" y="194"/>
                  </a:lnTo>
                  <a:lnTo>
                    <a:pt x="163" y="183"/>
                  </a:lnTo>
                  <a:lnTo>
                    <a:pt x="148" y="149"/>
                  </a:lnTo>
                  <a:lnTo>
                    <a:pt x="143" y="134"/>
                  </a:lnTo>
                  <a:lnTo>
                    <a:pt x="140" y="121"/>
                  </a:lnTo>
                  <a:lnTo>
                    <a:pt x="140" y="92"/>
                  </a:lnTo>
                  <a:lnTo>
                    <a:pt x="151" y="80"/>
                  </a:lnTo>
                  <a:lnTo>
                    <a:pt x="163" y="68"/>
                  </a:lnTo>
                  <a:lnTo>
                    <a:pt x="173" y="54"/>
                  </a:lnTo>
                  <a:lnTo>
                    <a:pt x="184" y="40"/>
                  </a:lnTo>
                  <a:lnTo>
                    <a:pt x="196" y="26"/>
                  </a:lnTo>
                  <a:lnTo>
                    <a:pt x="202" y="18"/>
                  </a:lnTo>
                  <a:lnTo>
                    <a:pt x="212" y="30"/>
                  </a:lnTo>
                  <a:lnTo>
                    <a:pt x="222" y="46"/>
                  </a:lnTo>
                  <a:lnTo>
                    <a:pt x="228" y="61"/>
                  </a:lnTo>
                  <a:lnTo>
                    <a:pt x="234" y="80"/>
                  </a:lnTo>
                  <a:lnTo>
                    <a:pt x="236" y="95"/>
                  </a:lnTo>
                  <a:lnTo>
                    <a:pt x="241" y="110"/>
                  </a:lnTo>
                  <a:lnTo>
                    <a:pt x="253" y="141"/>
                  </a:lnTo>
                  <a:close/>
                  <a:moveTo>
                    <a:pt x="293" y="326"/>
                  </a:moveTo>
                  <a:lnTo>
                    <a:pt x="294" y="325"/>
                  </a:lnTo>
                  <a:lnTo>
                    <a:pt x="317" y="319"/>
                  </a:lnTo>
                  <a:lnTo>
                    <a:pt x="347" y="335"/>
                  </a:lnTo>
                  <a:lnTo>
                    <a:pt x="376" y="353"/>
                  </a:lnTo>
                  <a:lnTo>
                    <a:pt x="404" y="373"/>
                  </a:lnTo>
                  <a:lnTo>
                    <a:pt x="431" y="397"/>
                  </a:lnTo>
                  <a:lnTo>
                    <a:pt x="432" y="399"/>
                  </a:lnTo>
                  <a:lnTo>
                    <a:pt x="437" y="410"/>
                  </a:lnTo>
                  <a:lnTo>
                    <a:pt x="429" y="410"/>
                  </a:lnTo>
                  <a:lnTo>
                    <a:pt x="424" y="409"/>
                  </a:lnTo>
                  <a:lnTo>
                    <a:pt x="419" y="409"/>
                  </a:lnTo>
                  <a:lnTo>
                    <a:pt x="412" y="406"/>
                  </a:lnTo>
                  <a:lnTo>
                    <a:pt x="405" y="405"/>
                  </a:lnTo>
                  <a:lnTo>
                    <a:pt x="400" y="403"/>
                  </a:lnTo>
                  <a:lnTo>
                    <a:pt x="397" y="402"/>
                  </a:lnTo>
                  <a:lnTo>
                    <a:pt x="396" y="402"/>
                  </a:lnTo>
                  <a:lnTo>
                    <a:pt x="389" y="399"/>
                  </a:lnTo>
                  <a:lnTo>
                    <a:pt x="340" y="390"/>
                  </a:lnTo>
                  <a:lnTo>
                    <a:pt x="316" y="385"/>
                  </a:lnTo>
                  <a:lnTo>
                    <a:pt x="289" y="379"/>
                  </a:lnTo>
                  <a:lnTo>
                    <a:pt x="261" y="345"/>
                  </a:lnTo>
                  <a:lnTo>
                    <a:pt x="274" y="331"/>
                  </a:lnTo>
                  <a:lnTo>
                    <a:pt x="293" y="326"/>
                  </a:lnTo>
                  <a:close/>
                  <a:moveTo>
                    <a:pt x="273" y="379"/>
                  </a:moveTo>
                  <a:lnTo>
                    <a:pt x="261" y="400"/>
                  </a:lnTo>
                  <a:lnTo>
                    <a:pt x="261" y="353"/>
                  </a:lnTo>
                  <a:lnTo>
                    <a:pt x="273" y="379"/>
                  </a:lnTo>
                  <a:close/>
                  <a:moveTo>
                    <a:pt x="250" y="355"/>
                  </a:moveTo>
                  <a:lnTo>
                    <a:pt x="250" y="417"/>
                  </a:lnTo>
                  <a:lnTo>
                    <a:pt x="243" y="427"/>
                  </a:lnTo>
                  <a:lnTo>
                    <a:pt x="236" y="436"/>
                  </a:lnTo>
                  <a:lnTo>
                    <a:pt x="232" y="440"/>
                  </a:lnTo>
                  <a:lnTo>
                    <a:pt x="228" y="445"/>
                  </a:lnTo>
                  <a:lnTo>
                    <a:pt x="221" y="453"/>
                  </a:lnTo>
                  <a:lnTo>
                    <a:pt x="218" y="481"/>
                  </a:lnTo>
                  <a:lnTo>
                    <a:pt x="210" y="464"/>
                  </a:lnTo>
                  <a:lnTo>
                    <a:pt x="206" y="456"/>
                  </a:lnTo>
                  <a:lnTo>
                    <a:pt x="205" y="448"/>
                  </a:lnTo>
                  <a:lnTo>
                    <a:pt x="202" y="432"/>
                  </a:lnTo>
                  <a:lnTo>
                    <a:pt x="203" y="417"/>
                  </a:lnTo>
                  <a:lnTo>
                    <a:pt x="205" y="387"/>
                  </a:lnTo>
                  <a:lnTo>
                    <a:pt x="208" y="385"/>
                  </a:lnTo>
                  <a:lnTo>
                    <a:pt x="208" y="384"/>
                  </a:lnTo>
                  <a:lnTo>
                    <a:pt x="209" y="384"/>
                  </a:lnTo>
                  <a:lnTo>
                    <a:pt x="211" y="384"/>
                  </a:lnTo>
                  <a:lnTo>
                    <a:pt x="218" y="381"/>
                  </a:lnTo>
                  <a:lnTo>
                    <a:pt x="230" y="374"/>
                  </a:lnTo>
                  <a:lnTo>
                    <a:pt x="240" y="366"/>
                  </a:lnTo>
                  <a:lnTo>
                    <a:pt x="250" y="355"/>
                  </a:lnTo>
                  <a:close/>
                  <a:moveTo>
                    <a:pt x="125" y="194"/>
                  </a:moveTo>
                  <a:lnTo>
                    <a:pt x="125" y="205"/>
                  </a:lnTo>
                  <a:lnTo>
                    <a:pt x="132" y="219"/>
                  </a:lnTo>
                  <a:lnTo>
                    <a:pt x="167" y="245"/>
                  </a:lnTo>
                  <a:lnTo>
                    <a:pt x="186" y="266"/>
                  </a:lnTo>
                  <a:lnTo>
                    <a:pt x="215" y="290"/>
                  </a:lnTo>
                  <a:lnTo>
                    <a:pt x="205" y="289"/>
                  </a:lnTo>
                  <a:lnTo>
                    <a:pt x="196" y="287"/>
                  </a:lnTo>
                  <a:lnTo>
                    <a:pt x="180" y="277"/>
                  </a:lnTo>
                  <a:lnTo>
                    <a:pt x="161" y="267"/>
                  </a:lnTo>
                  <a:lnTo>
                    <a:pt x="149" y="266"/>
                  </a:lnTo>
                  <a:lnTo>
                    <a:pt x="114" y="211"/>
                  </a:lnTo>
                  <a:lnTo>
                    <a:pt x="113" y="186"/>
                  </a:lnTo>
                  <a:lnTo>
                    <a:pt x="107" y="180"/>
                  </a:lnTo>
                  <a:lnTo>
                    <a:pt x="104" y="175"/>
                  </a:lnTo>
                  <a:lnTo>
                    <a:pt x="102" y="168"/>
                  </a:lnTo>
                  <a:lnTo>
                    <a:pt x="102" y="162"/>
                  </a:lnTo>
                  <a:lnTo>
                    <a:pt x="104" y="163"/>
                  </a:lnTo>
                  <a:lnTo>
                    <a:pt x="125" y="194"/>
                  </a:lnTo>
                  <a:close/>
                  <a:moveTo>
                    <a:pt x="115" y="267"/>
                  </a:moveTo>
                  <a:lnTo>
                    <a:pt x="86" y="258"/>
                  </a:lnTo>
                  <a:lnTo>
                    <a:pt x="55" y="242"/>
                  </a:lnTo>
                  <a:lnTo>
                    <a:pt x="21" y="230"/>
                  </a:lnTo>
                  <a:lnTo>
                    <a:pt x="18" y="229"/>
                  </a:lnTo>
                  <a:lnTo>
                    <a:pt x="21" y="229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47" y="227"/>
                  </a:lnTo>
                  <a:lnTo>
                    <a:pt x="103" y="249"/>
                  </a:lnTo>
                  <a:lnTo>
                    <a:pt x="160" y="283"/>
                  </a:lnTo>
                  <a:lnTo>
                    <a:pt x="162" y="283"/>
                  </a:lnTo>
                  <a:lnTo>
                    <a:pt x="182" y="293"/>
                  </a:lnTo>
                  <a:lnTo>
                    <a:pt x="166" y="293"/>
                  </a:lnTo>
                  <a:lnTo>
                    <a:pt x="154" y="289"/>
                  </a:lnTo>
                  <a:lnTo>
                    <a:pt x="143" y="284"/>
                  </a:lnTo>
                  <a:lnTo>
                    <a:pt x="125" y="272"/>
                  </a:lnTo>
                  <a:lnTo>
                    <a:pt x="122" y="272"/>
                  </a:lnTo>
                  <a:lnTo>
                    <a:pt x="115" y="267"/>
                  </a:lnTo>
                  <a:close/>
                  <a:moveTo>
                    <a:pt x="209" y="324"/>
                  </a:moveTo>
                  <a:lnTo>
                    <a:pt x="210" y="325"/>
                  </a:lnTo>
                  <a:lnTo>
                    <a:pt x="210" y="324"/>
                  </a:lnTo>
                  <a:lnTo>
                    <a:pt x="211" y="324"/>
                  </a:lnTo>
                  <a:lnTo>
                    <a:pt x="210" y="325"/>
                  </a:lnTo>
                  <a:lnTo>
                    <a:pt x="205" y="330"/>
                  </a:lnTo>
                  <a:lnTo>
                    <a:pt x="208" y="333"/>
                  </a:lnTo>
                  <a:lnTo>
                    <a:pt x="212" y="339"/>
                  </a:lnTo>
                  <a:lnTo>
                    <a:pt x="249" y="344"/>
                  </a:lnTo>
                  <a:lnTo>
                    <a:pt x="230" y="363"/>
                  </a:lnTo>
                  <a:lnTo>
                    <a:pt x="202" y="381"/>
                  </a:lnTo>
                  <a:lnTo>
                    <a:pt x="181" y="390"/>
                  </a:lnTo>
                  <a:lnTo>
                    <a:pt x="160" y="403"/>
                  </a:lnTo>
                  <a:lnTo>
                    <a:pt x="118" y="427"/>
                  </a:lnTo>
                  <a:lnTo>
                    <a:pt x="104" y="435"/>
                  </a:lnTo>
                  <a:lnTo>
                    <a:pt x="109" y="412"/>
                  </a:lnTo>
                  <a:lnTo>
                    <a:pt x="115" y="393"/>
                  </a:lnTo>
                  <a:lnTo>
                    <a:pt x="124" y="376"/>
                  </a:lnTo>
                  <a:lnTo>
                    <a:pt x="134" y="361"/>
                  </a:lnTo>
                  <a:lnTo>
                    <a:pt x="150" y="347"/>
                  </a:lnTo>
                  <a:lnTo>
                    <a:pt x="190" y="326"/>
                  </a:lnTo>
                  <a:lnTo>
                    <a:pt x="209" y="324"/>
                  </a:lnTo>
                  <a:close/>
                </a:path>
              </a:pathLst>
            </a:custGeom>
            <a:solidFill>
              <a:srgbClr val="6a4f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5" name="Group 2005"/>
            <p:cNvGrpSpPr/>
            <p:nvPr/>
          </p:nvGrpSpPr>
          <p:grpSpPr>
            <a:xfrm>
              <a:off x="1847520" y="4352400"/>
              <a:ext cx="334080" cy="550080"/>
              <a:chOff x="1847520" y="4352400"/>
              <a:chExt cx="334080" cy="550080"/>
            </a:xfrm>
          </p:grpSpPr>
          <p:sp>
            <p:nvSpPr>
              <p:cNvPr id="1986" name="Freeform 2006"/>
              <p:cNvSpPr/>
              <p:nvPr/>
            </p:nvSpPr>
            <p:spPr>
              <a:xfrm>
                <a:off x="2051640" y="435924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2007"/>
              <p:cNvSpPr/>
              <p:nvPr/>
            </p:nvSpPr>
            <p:spPr>
              <a:xfrm>
                <a:off x="2049480" y="437544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2008"/>
              <p:cNvSpPr/>
              <p:nvPr/>
            </p:nvSpPr>
            <p:spPr>
              <a:xfrm>
                <a:off x="2037960" y="438264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2009"/>
              <p:cNvSpPr/>
              <p:nvPr/>
            </p:nvSpPr>
            <p:spPr>
              <a:xfrm>
                <a:off x="2035440" y="4394520"/>
                <a:ext cx="39240" cy="320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2010"/>
              <p:cNvSpPr/>
              <p:nvPr/>
            </p:nvSpPr>
            <p:spPr>
              <a:xfrm>
                <a:off x="2033280" y="44031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2011"/>
              <p:cNvSpPr/>
              <p:nvPr/>
            </p:nvSpPr>
            <p:spPr>
              <a:xfrm>
                <a:off x="2033280" y="441288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2012"/>
              <p:cNvSpPr/>
              <p:nvPr/>
            </p:nvSpPr>
            <p:spPr>
              <a:xfrm>
                <a:off x="2037960" y="4417560"/>
                <a:ext cx="46080" cy="36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2013"/>
              <p:cNvSpPr/>
              <p:nvPr/>
            </p:nvSpPr>
            <p:spPr>
              <a:xfrm>
                <a:off x="2042280" y="443592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2014"/>
              <p:cNvSpPr/>
              <p:nvPr/>
            </p:nvSpPr>
            <p:spPr>
              <a:xfrm>
                <a:off x="2040120" y="4426560"/>
                <a:ext cx="48600" cy="3528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2015"/>
              <p:cNvSpPr/>
              <p:nvPr/>
            </p:nvSpPr>
            <p:spPr>
              <a:xfrm>
                <a:off x="2051640" y="44755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2016"/>
              <p:cNvSpPr/>
              <p:nvPr/>
            </p:nvSpPr>
            <p:spPr>
              <a:xfrm>
                <a:off x="2056320" y="4500720"/>
                <a:ext cx="8640" cy="11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2017"/>
              <p:cNvSpPr/>
              <p:nvPr/>
            </p:nvSpPr>
            <p:spPr>
              <a:xfrm>
                <a:off x="2053800" y="44870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2018"/>
              <p:cNvSpPr/>
              <p:nvPr/>
            </p:nvSpPr>
            <p:spPr>
              <a:xfrm>
                <a:off x="2046960" y="445212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2019"/>
              <p:cNvSpPr/>
              <p:nvPr/>
            </p:nvSpPr>
            <p:spPr>
              <a:xfrm>
                <a:off x="2044800" y="444276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2020"/>
              <p:cNvSpPr/>
              <p:nvPr/>
            </p:nvSpPr>
            <p:spPr>
              <a:xfrm>
                <a:off x="2061000" y="451008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2021"/>
              <p:cNvSpPr/>
              <p:nvPr/>
            </p:nvSpPr>
            <p:spPr>
              <a:xfrm>
                <a:off x="2147040" y="4487040"/>
                <a:ext cx="34560" cy="3708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2022"/>
              <p:cNvSpPr/>
              <p:nvPr/>
            </p:nvSpPr>
            <p:spPr>
              <a:xfrm>
                <a:off x="2104920" y="4547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2023"/>
              <p:cNvSpPr/>
              <p:nvPr/>
            </p:nvSpPr>
            <p:spPr>
              <a:xfrm>
                <a:off x="2107440" y="4545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2024"/>
              <p:cNvSpPr/>
              <p:nvPr/>
            </p:nvSpPr>
            <p:spPr>
              <a:xfrm>
                <a:off x="2102760" y="4549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2025"/>
              <p:cNvSpPr/>
              <p:nvPr/>
            </p:nvSpPr>
            <p:spPr>
              <a:xfrm>
                <a:off x="2137320" y="45198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2026"/>
              <p:cNvSpPr/>
              <p:nvPr/>
            </p:nvSpPr>
            <p:spPr>
              <a:xfrm>
                <a:off x="2130480" y="452880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2027"/>
              <p:cNvSpPr/>
              <p:nvPr/>
            </p:nvSpPr>
            <p:spPr>
              <a:xfrm>
                <a:off x="2132640" y="452664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2028"/>
              <p:cNvSpPr/>
              <p:nvPr/>
            </p:nvSpPr>
            <p:spPr>
              <a:xfrm>
                <a:off x="2123640" y="4533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2029"/>
              <p:cNvSpPr/>
              <p:nvPr/>
            </p:nvSpPr>
            <p:spPr>
              <a:xfrm>
                <a:off x="2128320" y="4531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2030"/>
              <p:cNvSpPr/>
              <p:nvPr/>
            </p:nvSpPr>
            <p:spPr>
              <a:xfrm>
                <a:off x="2118960" y="45360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2031"/>
              <p:cNvSpPr/>
              <p:nvPr/>
            </p:nvSpPr>
            <p:spPr>
              <a:xfrm>
                <a:off x="2112120" y="454284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2032"/>
              <p:cNvSpPr/>
              <p:nvPr/>
            </p:nvSpPr>
            <p:spPr>
              <a:xfrm>
                <a:off x="2114280" y="4540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2033"/>
              <p:cNvSpPr/>
              <p:nvPr/>
            </p:nvSpPr>
            <p:spPr>
              <a:xfrm>
                <a:off x="1937880" y="441288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2034"/>
              <p:cNvSpPr/>
              <p:nvPr/>
            </p:nvSpPr>
            <p:spPr>
              <a:xfrm>
                <a:off x="1942560" y="44312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2035"/>
              <p:cNvSpPr/>
              <p:nvPr/>
            </p:nvSpPr>
            <p:spPr>
              <a:xfrm>
                <a:off x="1944720" y="444060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2036"/>
              <p:cNvSpPr/>
              <p:nvPr/>
            </p:nvSpPr>
            <p:spPr>
              <a:xfrm>
                <a:off x="1947240" y="44474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2037"/>
              <p:cNvSpPr/>
              <p:nvPr/>
            </p:nvSpPr>
            <p:spPr>
              <a:xfrm>
                <a:off x="1951560" y="445428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2038"/>
              <p:cNvSpPr/>
              <p:nvPr/>
            </p:nvSpPr>
            <p:spPr>
              <a:xfrm>
                <a:off x="1956240" y="4464000"/>
                <a:ext cx="8136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2039"/>
              <p:cNvSpPr/>
              <p:nvPr/>
            </p:nvSpPr>
            <p:spPr>
              <a:xfrm>
                <a:off x="1967760" y="449640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2040"/>
              <p:cNvSpPr/>
              <p:nvPr/>
            </p:nvSpPr>
            <p:spPr>
              <a:xfrm>
                <a:off x="1960920" y="448920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2041"/>
              <p:cNvSpPr/>
              <p:nvPr/>
            </p:nvSpPr>
            <p:spPr>
              <a:xfrm>
                <a:off x="1959120" y="448020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2042"/>
              <p:cNvSpPr/>
              <p:nvPr/>
            </p:nvSpPr>
            <p:spPr>
              <a:xfrm>
                <a:off x="1959120" y="447336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2043"/>
              <p:cNvSpPr/>
              <p:nvPr/>
            </p:nvSpPr>
            <p:spPr>
              <a:xfrm>
                <a:off x="1984320" y="4524480"/>
                <a:ext cx="6264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2044"/>
              <p:cNvSpPr/>
              <p:nvPr/>
            </p:nvSpPr>
            <p:spPr>
              <a:xfrm>
                <a:off x="1979640" y="4514760"/>
                <a:ext cx="67320" cy="1836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2045"/>
              <p:cNvSpPr/>
              <p:nvPr/>
            </p:nvSpPr>
            <p:spPr>
              <a:xfrm>
                <a:off x="1991160" y="45334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2046"/>
              <p:cNvSpPr/>
              <p:nvPr/>
            </p:nvSpPr>
            <p:spPr>
              <a:xfrm>
                <a:off x="1974600" y="450540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2047"/>
              <p:cNvSpPr/>
              <p:nvPr/>
            </p:nvSpPr>
            <p:spPr>
              <a:xfrm>
                <a:off x="1937880" y="435240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2048"/>
              <p:cNvSpPr/>
              <p:nvPr/>
            </p:nvSpPr>
            <p:spPr>
              <a:xfrm>
                <a:off x="1937880" y="4403160"/>
                <a:ext cx="7632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2049"/>
              <p:cNvSpPr/>
              <p:nvPr/>
            </p:nvSpPr>
            <p:spPr>
              <a:xfrm>
                <a:off x="2033280" y="458460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2050"/>
              <p:cNvSpPr/>
              <p:nvPr/>
            </p:nvSpPr>
            <p:spPr>
              <a:xfrm>
                <a:off x="2033280" y="461232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2051"/>
              <p:cNvSpPr/>
              <p:nvPr/>
            </p:nvSpPr>
            <p:spPr>
              <a:xfrm>
                <a:off x="1986840" y="4612320"/>
                <a:ext cx="3672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2052"/>
              <p:cNvSpPr/>
              <p:nvPr/>
            </p:nvSpPr>
            <p:spPr>
              <a:xfrm>
                <a:off x="1910160" y="446400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2053"/>
              <p:cNvSpPr/>
              <p:nvPr/>
            </p:nvSpPr>
            <p:spPr>
              <a:xfrm>
                <a:off x="1965960" y="45450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2054"/>
              <p:cNvSpPr/>
              <p:nvPr/>
            </p:nvSpPr>
            <p:spPr>
              <a:xfrm>
                <a:off x="1960920" y="454284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2055"/>
              <p:cNvSpPr/>
              <p:nvPr/>
            </p:nvSpPr>
            <p:spPr>
              <a:xfrm>
                <a:off x="1959120" y="454032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2056"/>
              <p:cNvSpPr/>
              <p:nvPr/>
            </p:nvSpPr>
            <p:spPr>
              <a:xfrm>
                <a:off x="1970640" y="4547520"/>
                <a:ext cx="25200" cy="1620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2057"/>
              <p:cNvSpPr/>
              <p:nvPr/>
            </p:nvSpPr>
            <p:spPr>
              <a:xfrm>
                <a:off x="1937880" y="452160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2058"/>
              <p:cNvSpPr/>
              <p:nvPr/>
            </p:nvSpPr>
            <p:spPr>
              <a:xfrm>
                <a:off x="1937880" y="452448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2059"/>
              <p:cNvSpPr/>
              <p:nvPr/>
            </p:nvSpPr>
            <p:spPr>
              <a:xfrm>
                <a:off x="1944720" y="453348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2060"/>
              <p:cNvSpPr/>
              <p:nvPr/>
            </p:nvSpPr>
            <p:spPr>
              <a:xfrm>
                <a:off x="1942560" y="452880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2061"/>
              <p:cNvSpPr/>
              <p:nvPr/>
            </p:nvSpPr>
            <p:spPr>
              <a:xfrm>
                <a:off x="1942560" y="45288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2062"/>
              <p:cNvSpPr/>
              <p:nvPr/>
            </p:nvSpPr>
            <p:spPr>
              <a:xfrm>
                <a:off x="1935720" y="451980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2063"/>
              <p:cNvSpPr/>
              <p:nvPr/>
            </p:nvSpPr>
            <p:spPr>
              <a:xfrm>
                <a:off x="1940040" y="452664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2064"/>
              <p:cNvSpPr/>
              <p:nvPr/>
            </p:nvSpPr>
            <p:spPr>
              <a:xfrm>
                <a:off x="1931040" y="45147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2065"/>
              <p:cNvSpPr/>
              <p:nvPr/>
            </p:nvSpPr>
            <p:spPr>
              <a:xfrm>
                <a:off x="1933200" y="451692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2066"/>
              <p:cNvSpPr/>
              <p:nvPr/>
            </p:nvSpPr>
            <p:spPr>
              <a:xfrm>
                <a:off x="1954080" y="4538160"/>
                <a:ext cx="16200" cy="936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2067"/>
              <p:cNvSpPr/>
              <p:nvPr/>
            </p:nvSpPr>
            <p:spPr>
              <a:xfrm>
                <a:off x="1949400" y="4536000"/>
                <a:ext cx="18360" cy="8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2068"/>
              <p:cNvSpPr/>
              <p:nvPr/>
            </p:nvSpPr>
            <p:spPr>
              <a:xfrm>
                <a:off x="1882080" y="452880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2069"/>
              <p:cNvSpPr/>
              <p:nvPr/>
            </p:nvSpPr>
            <p:spPr>
              <a:xfrm>
                <a:off x="1872720" y="452664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2070"/>
              <p:cNvSpPr/>
              <p:nvPr/>
            </p:nvSpPr>
            <p:spPr>
              <a:xfrm>
                <a:off x="1886760" y="45313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2071"/>
              <p:cNvSpPr/>
              <p:nvPr/>
            </p:nvSpPr>
            <p:spPr>
              <a:xfrm>
                <a:off x="1891440" y="453348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2072"/>
              <p:cNvSpPr/>
              <p:nvPr/>
            </p:nvSpPr>
            <p:spPr>
              <a:xfrm>
                <a:off x="1896120" y="453348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2073"/>
              <p:cNvSpPr/>
              <p:nvPr/>
            </p:nvSpPr>
            <p:spPr>
              <a:xfrm>
                <a:off x="1919520" y="45450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2074"/>
              <p:cNvSpPr/>
              <p:nvPr/>
            </p:nvSpPr>
            <p:spPr>
              <a:xfrm>
                <a:off x="1914840" y="4542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2075"/>
              <p:cNvSpPr/>
              <p:nvPr/>
            </p:nvSpPr>
            <p:spPr>
              <a:xfrm>
                <a:off x="1908000" y="454032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2076"/>
              <p:cNvSpPr/>
              <p:nvPr/>
            </p:nvSpPr>
            <p:spPr>
              <a:xfrm>
                <a:off x="1900440" y="45360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2077"/>
              <p:cNvSpPr/>
              <p:nvPr/>
            </p:nvSpPr>
            <p:spPr>
              <a:xfrm>
                <a:off x="1903320" y="45313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2078"/>
              <p:cNvSpPr/>
              <p:nvPr/>
            </p:nvSpPr>
            <p:spPr>
              <a:xfrm>
                <a:off x="1893600" y="452880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2079"/>
              <p:cNvSpPr/>
              <p:nvPr/>
            </p:nvSpPr>
            <p:spPr>
              <a:xfrm>
                <a:off x="1865880" y="45169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2080"/>
              <p:cNvSpPr/>
              <p:nvPr/>
            </p:nvSpPr>
            <p:spPr>
              <a:xfrm>
                <a:off x="1875240" y="4521600"/>
                <a:ext cx="1836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2081"/>
              <p:cNvSpPr/>
              <p:nvPr/>
            </p:nvSpPr>
            <p:spPr>
              <a:xfrm>
                <a:off x="1884600" y="4524480"/>
                <a:ext cx="1548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2082"/>
              <p:cNvSpPr/>
              <p:nvPr/>
            </p:nvSpPr>
            <p:spPr>
              <a:xfrm>
                <a:off x="1910160" y="453600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2083"/>
              <p:cNvSpPr/>
              <p:nvPr/>
            </p:nvSpPr>
            <p:spPr>
              <a:xfrm>
                <a:off x="1859040" y="45147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2084"/>
              <p:cNvSpPr/>
              <p:nvPr/>
            </p:nvSpPr>
            <p:spPr>
              <a:xfrm>
                <a:off x="1847520" y="4512960"/>
                <a:ext cx="20880" cy="86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2085"/>
              <p:cNvSpPr/>
              <p:nvPr/>
            </p:nvSpPr>
            <p:spPr>
              <a:xfrm>
                <a:off x="1923840" y="454284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2086"/>
              <p:cNvSpPr/>
              <p:nvPr/>
            </p:nvSpPr>
            <p:spPr>
              <a:xfrm>
                <a:off x="1917000" y="4538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2087"/>
              <p:cNvSpPr/>
              <p:nvPr/>
            </p:nvSpPr>
            <p:spPr>
              <a:xfrm>
                <a:off x="1935720" y="455184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2088"/>
              <p:cNvSpPr/>
              <p:nvPr/>
            </p:nvSpPr>
            <p:spPr>
              <a:xfrm>
                <a:off x="1928520" y="45475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2089"/>
              <p:cNvSpPr/>
              <p:nvPr/>
            </p:nvSpPr>
            <p:spPr>
              <a:xfrm>
                <a:off x="1951560" y="455904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2090"/>
              <p:cNvSpPr/>
              <p:nvPr/>
            </p:nvSpPr>
            <p:spPr>
              <a:xfrm>
                <a:off x="1942560" y="455652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2091"/>
              <p:cNvSpPr/>
              <p:nvPr/>
            </p:nvSpPr>
            <p:spPr>
              <a:xfrm>
                <a:off x="1960920" y="456120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2092"/>
              <p:cNvSpPr/>
              <p:nvPr/>
            </p:nvSpPr>
            <p:spPr>
              <a:xfrm>
                <a:off x="1921680" y="4547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93"/>
              <p:cNvSpPr/>
              <p:nvPr/>
            </p:nvSpPr>
            <p:spPr>
              <a:xfrm>
                <a:off x="1910160" y="458928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2094"/>
              <p:cNvSpPr/>
              <p:nvPr/>
            </p:nvSpPr>
            <p:spPr>
              <a:xfrm>
                <a:off x="1993680" y="4589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2095"/>
              <p:cNvSpPr/>
              <p:nvPr/>
            </p:nvSpPr>
            <p:spPr>
              <a:xfrm>
                <a:off x="2112120" y="4435920"/>
                <a:ext cx="29880" cy="2772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2096"/>
              <p:cNvSpPr/>
              <p:nvPr/>
            </p:nvSpPr>
            <p:spPr>
              <a:xfrm>
                <a:off x="2116440" y="4391640"/>
                <a:ext cx="25560" cy="6264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2097"/>
              <p:cNvSpPr/>
              <p:nvPr/>
            </p:nvSpPr>
            <p:spPr>
              <a:xfrm>
                <a:off x="2107440" y="444060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2098"/>
              <p:cNvSpPr/>
              <p:nvPr/>
            </p:nvSpPr>
            <p:spPr>
              <a:xfrm>
                <a:off x="2079360" y="4465800"/>
                <a:ext cx="50760" cy="4212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2099"/>
              <p:cNvSpPr/>
              <p:nvPr/>
            </p:nvSpPr>
            <p:spPr>
              <a:xfrm>
                <a:off x="2081520" y="446184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100"/>
              <p:cNvSpPr/>
              <p:nvPr/>
            </p:nvSpPr>
            <p:spPr>
              <a:xfrm>
                <a:off x="2098080" y="445428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2101"/>
              <p:cNvSpPr/>
              <p:nvPr/>
            </p:nvSpPr>
            <p:spPr>
              <a:xfrm>
                <a:off x="2089080" y="445896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2102"/>
              <p:cNvSpPr/>
              <p:nvPr/>
            </p:nvSpPr>
            <p:spPr>
              <a:xfrm>
                <a:off x="2102760" y="444744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2103"/>
              <p:cNvSpPr/>
              <p:nvPr/>
            </p:nvSpPr>
            <p:spPr>
              <a:xfrm>
                <a:off x="2074680" y="447336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2104"/>
              <p:cNvSpPr/>
              <p:nvPr/>
            </p:nvSpPr>
            <p:spPr>
              <a:xfrm>
                <a:off x="2070000" y="4496400"/>
                <a:ext cx="43920" cy="3204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2105"/>
              <p:cNvSpPr/>
              <p:nvPr/>
            </p:nvSpPr>
            <p:spPr>
              <a:xfrm>
                <a:off x="2070000" y="450324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2106"/>
              <p:cNvSpPr/>
              <p:nvPr/>
            </p:nvSpPr>
            <p:spPr>
              <a:xfrm>
                <a:off x="2072520" y="448020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2107"/>
              <p:cNvSpPr/>
              <p:nvPr/>
            </p:nvSpPr>
            <p:spPr>
              <a:xfrm>
                <a:off x="2065320" y="451008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2108"/>
              <p:cNvSpPr/>
              <p:nvPr/>
            </p:nvSpPr>
            <p:spPr>
              <a:xfrm>
                <a:off x="2063160" y="4519800"/>
                <a:ext cx="25560" cy="1836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2109"/>
              <p:cNvSpPr/>
              <p:nvPr/>
            </p:nvSpPr>
            <p:spPr>
              <a:xfrm>
                <a:off x="2046960" y="453348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2110"/>
              <p:cNvSpPr/>
              <p:nvPr/>
            </p:nvSpPr>
            <p:spPr>
              <a:xfrm>
                <a:off x="2061000" y="452664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2111"/>
              <p:cNvSpPr/>
              <p:nvPr/>
            </p:nvSpPr>
            <p:spPr>
              <a:xfrm>
                <a:off x="1998360" y="489564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2" name="Group 2112"/>
            <p:cNvGrpSpPr/>
            <p:nvPr/>
          </p:nvGrpSpPr>
          <p:grpSpPr>
            <a:xfrm>
              <a:off x="1833840" y="4902840"/>
              <a:ext cx="368640" cy="563760"/>
              <a:chOff x="1833840" y="4902840"/>
              <a:chExt cx="368640" cy="563760"/>
            </a:xfrm>
          </p:grpSpPr>
          <p:sp>
            <p:nvSpPr>
              <p:cNvPr id="2093" name="Freeform 2113"/>
              <p:cNvSpPr/>
              <p:nvPr/>
            </p:nvSpPr>
            <p:spPr>
              <a:xfrm rot="10800000">
                <a:off x="1833840" y="4907880"/>
                <a:ext cx="368640" cy="558720"/>
              </a:xfrm>
              <a:custGeom>
                <a:avLst/>
                <a:gdLst/>
                <a:ahLst/>
                <a:rect l="l" t="t" r="r" b="b"/>
                <a:pathLst>
                  <a:path w="478" h="722">
                    <a:moveTo>
                      <a:pt x="312" y="26"/>
                    </a:moveTo>
                    <a:lnTo>
                      <a:pt x="310" y="14"/>
                    </a:lnTo>
                    <a:lnTo>
                      <a:pt x="303" y="0"/>
                    </a:lnTo>
                    <a:lnTo>
                      <a:pt x="294" y="17"/>
                    </a:lnTo>
                    <a:lnTo>
                      <a:pt x="286" y="31"/>
                    </a:lnTo>
                    <a:lnTo>
                      <a:pt x="268" y="82"/>
                    </a:lnTo>
                    <a:lnTo>
                      <a:pt x="259" y="101"/>
                    </a:lnTo>
                    <a:lnTo>
                      <a:pt x="256" y="112"/>
                    </a:lnTo>
                    <a:lnTo>
                      <a:pt x="218" y="7"/>
                    </a:lnTo>
                    <a:lnTo>
                      <a:pt x="202" y="5"/>
                    </a:lnTo>
                    <a:lnTo>
                      <a:pt x="146" y="70"/>
                    </a:lnTo>
                    <a:lnTo>
                      <a:pt x="131" y="92"/>
                    </a:lnTo>
                    <a:lnTo>
                      <a:pt x="140" y="152"/>
                    </a:lnTo>
                    <a:lnTo>
                      <a:pt x="163" y="221"/>
                    </a:lnTo>
                    <a:lnTo>
                      <a:pt x="149" y="216"/>
                    </a:lnTo>
                    <a:lnTo>
                      <a:pt x="125" y="177"/>
                    </a:lnTo>
                    <a:lnTo>
                      <a:pt x="110" y="146"/>
                    </a:lnTo>
                    <a:lnTo>
                      <a:pt x="104" y="114"/>
                    </a:lnTo>
                    <a:lnTo>
                      <a:pt x="97" y="76"/>
                    </a:lnTo>
                    <a:lnTo>
                      <a:pt x="90" y="53"/>
                    </a:lnTo>
                    <a:lnTo>
                      <a:pt x="86" y="72"/>
                    </a:lnTo>
                    <a:lnTo>
                      <a:pt x="89" y="152"/>
                    </a:lnTo>
                    <a:lnTo>
                      <a:pt x="91" y="176"/>
                    </a:lnTo>
                    <a:lnTo>
                      <a:pt x="103" y="191"/>
                    </a:lnTo>
                    <a:lnTo>
                      <a:pt x="104" y="209"/>
                    </a:lnTo>
                    <a:lnTo>
                      <a:pt x="110" y="227"/>
                    </a:lnTo>
                    <a:lnTo>
                      <a:pt x="119" y="242"/>
                    </a:lnTo>
                    <a:lnTo>
                      <a:pt x="132" y="259"/>
                    </a:lnTo>
                    <a:lnTo>
                      <a:pt x="122" y="251"/>
                    </a:lnTo>
                    <a:lnTo>
                      <a:pt x="112" y="245"/>
                    </a:lnTo>
                    <a:lnTo>
                      <a:pt x="100" y="239"/>
                    </a:lnTo>
                    <a:lnTo>
                      <a:pt x="88" y="235"/>
                    </a:lnTo>
                    <a:lnTo>
                      <a:pt x="37" y="221"/>
                    </a:lnTo>
                    <a:lnTo>
                      <a:pt x="3" y="222"/>
                    </a:lnTo>
                    <a:lnTo>
                      <a:pt x="0" y="228"/>
                    </a:lnTo>
                    <a:lnTo>
                      <a:pt x="1" y="234"/>
                    </a:lnTo>
                    <a:lnTo>
                      <a:pt x="2" y="235"/>
                    </a:lnTo>
                    <a:lnTo>
                      <a:pt x="6" y="237"/>
                    </a:lnTo>
                    <a:lnTo>
                      <a:pt x="9" y="239"/>
                    </a:lnTo>
                    <a:lnTo>
                      <a:pt x="15" y="241"/>
                    </a:lnTo>
                    <a:lnTo>
                      <a:pt x="65" y="258"/>
                    </a:lnTo>
                    <a:lnTo>
                      <a:pt x="113" y="276"/>
                    </a:lnTo>
                    <a:lnTo>
                      <a:pt x="142" y="289"/>
                    </a:lnTo>
                    <a:lnTo>
                      <a:pt x="168" y="303"/>
                    </a:lnTo>
                    <a:lnTo>
                      <a:pt x="178" y="311"/>
                    </a:lnTo>
                    <a:lnTo>
                      <a:pt x="190" y="309"/>
                    </a:lnTo>
                    <a:lnTo>
                      <a:pt x="188" y="312"/>
                    </a:lnTo>
                    <a:lnTo>
                      <a:pt x="156" y="336"/>
                    </a:lnTo>
                    <a:lnTo>
                      <a:pt x="133" y="357"/>
                    </a:lnTo>
                    <a:lnTo>
                      <a:pt x="108" y="399"/>
                    </a:lnTo>
                    <a:lnTo>
                      <a:pt x="97" y="441"/>
                    </a:lnTo>
                    <a:lnTo>
                      <a:pt x="95" y="452"/>
                    </a:lnTo>
                    <a:lnTo>
                      <a:pt x="127" y="432"/>
                    </a:lnTo>
                    <a:lnTo>
                      <a:pt x="199" y="391"/>
                    </a:lnTo>
                    <a:lnTo>
                      <a:pt x="196" y="400"/>
                    </a:lnTo>
                    <a:lnTo>
                      <a:pt x="194" y="411"/>
                    </a:lnTo>
                    <a:lnTo>
                      <a:pt x="196" y="433"/>
                    </a:lnTo>
                    <a:lnTo>
                      <a:pt x="199" y="453"/>
                    </a:lnTo>
                    <a:lnTo>
                      <a:pt x="208" y="475"/>
                    </a:lnTo>
                    <a:lnTo>
                      <a:pt x="223" y="501"/>
                    </a:lnTo>
                    <a:lnTo>
                      <a:pt x="226" y="496"/>
                    </a:lnTo>
                    <a:lnTo>
                      <a:pt x="224" y="487"/>
                    </a:lnTo>
                    <a:lnTo>
                      <a:pt x="226" y="478"/>
                    </a:lnTo>
                    <a:lnTo>
                      <a:pt x="233" y="459"/>
                    </a:lnTo>
                    <a:lnTo>
                      <a:pt x="240" y="442"/>
                    </a:lnTo>
                    <a:lnTo>
                      <a:pt x="250" y="428"/>
                    </a:lnTo>
                    <a:lnTo>
                      <a:pt x="250" y="638"/>
                    </a:lnTo>
                    <a:lnTo>
                      <a:pt x="244" y="647"/>
                    </a:lnTo>
                    <a:lnTo>
                      <a:pt x="244" y="677"/>
                    </a:lnTo>
                    <a:lnTo>
                      <a:pt x="235" y="687"/>
                    </a:lnTo>
                    <a:lnTo>
                      <a:pt x="222" y="713"/>
                    </a:lnTo>
                    <a:lnTo>
                      <a:pt x="218" y="715"/>
                    </a:lnTo>
                    <a:lnTo>
                      <a:pt x="234" y="722"/>
                    </a:lnTo>
                    <a:lnTo>
                      <a:pt x="241" y="721"/>
                    </a:lnTo>
                    <a:lnTo>
                      <a:pt x="249" y="691"/>
                    </a:lnTo>
                    <a:lnTo>
                      <a:pt x="253" y="679"/>
                    </a:lnTo>
                    <a:lnTo>
                      <a:pt x="253" y="649"/>
                    </a:lnTo>
                    <a:lnTo>
                      <a:pt x="261" y="638"/>
                    </a:lnTo>
                    <a:lnTo>
                      <a:pt x="262" y="579"/>
                    </a:lnTo>
                    <a:lnTo>
                      <a:pt x="262" y="502"/>
                    </a:lnTo>
                    <a:lnTo>
                      <a:pt x="262" y="484"/>
                    </a:lnTo>
                    <a:lnTo>
                      <a:pt x="263" y="463"/>
                    </a:lnTo>
                    <a:lnTo>
                      <a:pt x="263" y="423"/>
                    </a:lnTo>
                    <a:lnTo>
                      <a:pt x="267" y="400"/>
                    </a:lnTo>
                    <a:lnTo>
                      <a:pt x="271" y="390"/>
                    </a:lnTo>
                    <a:lnTo>
                      <a:pt x="280" y="381"/>
                    </a:lnTo>
                    <a:lnTo>
                      <a:pt x="294" y="387"/>
                    </a:lnTo>
                    <a:lnTo>
                      <a:pt x="310" y="392"/>
                    </a:lnTo>
                    <a:lnTo>
                      <a:pt x="342" y="397"/>
                    </a:lnTo>
                    <a:lnTo>
                      <a:pt x="361" y="398"/>
                    </a:lnTo>
                    <a:lnTo>
                      <a:pt x="381" y="402"/>
                    </a:lnTo>
                    <a:lnTo>
                      <a:pt x="399" y="406"/>
                    </a:lnTo>
                    <a:lnTo>
                      <a:pt x="418" y="415"/>
                    </a:lnTo>
                    <a:lnTo>
                      <a:pt x="436" y="424"/>
                    </a:lnTo>
                    <a:lnTo>
                      <a:pt x="454" y="436"/>
                    </a:lnTo>
                    <a:lnTo>
                      <a:pt x="455" y="436"/>
                    </a:lnTo>
                    <a:lnTo>
                      <a:pt x="456" y="435"/>
                    </a:lnTo>
                    <a:lnTo>
                      <a:pt x="458" y="426"/>
                    </a:lnTo>
                    <a:lnTo>
                      <a:pt x="447" y="409"/>
                    </a:lnTo>
                    <a:lnTo>
                      <a:pt x="429" y="386"/>
                    </a:lnTo>
                    <a:lnTo>
                      <a:pt x="419" y="376"/>
                    </a:lnTo>
                    <a:lnTo>
                      <a:pt x="411" y="369"/>
                    </a:lnTo>
                    <a:lnTo>
                      <a:pt x="375" y="345"/>
                    </a:lnTo>
                    <a:lnTo>
                      <a:pt x="346" y="326"/>
                    </a:lnTo>
                    <a:lnTo>
                      <a:pt x="330" y="317"/>
                    </a:lnTo>
                    <a:lnTo>
                      <a:pt x="406" y="301"/>
                    </a:lnTo>
                    <a:lnTo>
                      <a:pt x="442" y="290"/>
                    </a:lnTo>
                    <a:lnTo>
                      <a:pt x="478" y="277"/>
                    </a:lnTo>
                    <a:lnTo>
                      <a:pt x="378" y="273"/>
                    </a:lnTo>
                    <a:lnTo>
                      <a:pt x="393" y="266"/>
                    </a:lnTo>
                    <a:lnTo>
                      <a:pt x="407" y="258"/>
                    </a:lnTo>
                    <a:lnTo>
                      <a:pt x="410" y="254"/>
                    </a:lnTo>
                    <a:lnTo>
                      <a:pt x="413" y="252"/>
                    </a:lnTo>
                    <a:lnTo>
                      <a:pt x="420" y="247"/>
                    </a:lnTo>
                    <a:lnTo>
                      <a:pt x="432" y="235"/>
                    </a:lnTo>
                    <a:lnTo>
                      <a:pt x="455" y="211"/>
                    </a:lnTo>
                    <a:lnTo>
                      <a:pt x="474" y="177"/>
                    </a:lnTo>
                    <a:lnTo>
                      <a:pt x="468" y="155"/>
                    </a:lnTo>
                    <a:lnTo>
                      <a:pt x="468" y="153"/>
                    </a:lnTo>
                    <a:lnTo>
                      <a:pt x="458" y="162"/>
                    </a:lnTo>
                    <a:lnTo>
                      <a:pt x="456" y="165"/>
                    </a:lnTo>
                    <a:lnTo>
                      <a:pt x="455" y="176"/>
                    </a:lnTo>
                    <a:lnTo>
                      <a:pt x="441" y="192"/>
                    </a:lnTo>
                    <a:lnTo>
                      <a:pt x="426" y="207"/>
                    </a:lnTo>
                    <a:lnTo>
                      <a:pt x="411" y="222"/>
                    </a:lnTo>
                    <a:lnTo>
                      <a:pt x="406" y="224"/>
                    </a:lnTo>
                    <a:lnTo>
                      <a:pt x="404" y="225"/>
                    </a:lnTo>
                    <a:lnTo>
                      <a:pt x="402" y="228"/>
                    </a:lnTo>
                    <a:lnTo>
                      <a:pt x="395" y="235"/>
                    </a:lnTo>
                    <a:lnTo>
                      <a:pt x="377" y="245"/>
                    </a:lnTo>
                    <a:lnTo>
                      <a:pt x="360" y="254"/>
                    </a:lnTo>
                    <a:lnTo>
                      <a:pt x="341" y="261"/>
                    </a:lnTo>
                    <a:lnTo>
                      <a:pt x="323" y="269"/>
                    </a:lnTo>
                    <a:lnTo>
                      <a:pt x="324" y="267"/>
                    </a:lnTo>
                    <a:lnTo>
                      <a:pt x="359" y="243"/>
                    </a:lnTo>
                    <a:lnTo>
                      <a:pt x="345" y="246"/>
                    </a:lnTo>
                    <a:lnTo>
                      <a:pt x="333" y="252"/>
                    </a:lnTo>
                    <a:lnTo>
                      <a:pt x="322" y="258"/>
                    </a:lnTo>
                    <a:lnTo>
                      <a:pt x="313" y="267"/>
                    </a:lnTo>
                    <a:lnTo>
                      <a:pt x="311" y="267"/>
                    </a:lnTo>
                    <a:lnTo>
                      <a:pt x="310" y="267"/>
                    </a:lnTo>
                    <a:lnTo>
                      <a:pt x="310" y="269"/>
                    </a:lnTo>
                    <a:lnTo>
                      <a:pt x="307" y="271"/>
                    </a:lnTo>
                    <a:lnTo>
                      <a:pt x="305" y="271"/>
                    </a:lnTo>
                    <a:lnTo>
                      <a:pt x="304" y="271"/>
                    </a:lnTo>
                    <a:lnTo>
                      <a:pt x="304" y="272"/>
                    </a:lnTo>
                    <a:lnTo>
                      <a:pt x="301" y="275"/>
                    </a:lnTo>
                    <a:lnTo>
                      <a:pt x="280" y="283"/>
                    </a:lnTo>
                    <a:lnTo>
                      <a:pt x="304" y="235"/>
                    </a:lnTo>
                    <a:lnTo>
                      <a:pt x="311" y="213"/>
                    </a:lnTo>
                    <a:lnTo>
                      <a:pt x="316" y="189"/>
                    </a:lnTo>
                    <a:lnTo>
                      <a:pt x="318" y="176"/>
                    </a:lnTo>
                    <a:lnTo>
                      <a:pt x="324" y="165"/>
                    </a:lnTo>
                    <a:lnTo>
                      <a:pt x="329" y="159"/>
                    </a:lnTo>
                    <a:lnTo>
                      <a:pt x="330" y="157"/>
                    </a:lnTo>
                    <a:lnTo>
                      <a:pt x="333" y="157"/>
                    </a:lnTo>
                    <a:lnTo>
                      <a:pt x="335" y="161"/>
                    </a:lnTo>
                    <a:lnTo>
                      <a:pt x="347" y="153"/>
                    </a:lnTo>
                    <a:lnTo>
                      <a:pt x="372" y="119"/>
                    </a:lnTo>
                    <a:lnTo>
                      <a:pt x="372" y="83"/>
                    </a:lnTo>
                    <a:lnTo>
                      <a:pt x="382" y="68"/>
                    </a:lnTo>
                    <a:lnTo>
                      <a:pt x="390" y="88"/>
                    </a:lnTo>
                    <a:lnTo>
                      <a:pt x="397" y="107"/>
                    </a:lnTo>
                    <a:lnTo>
                      <a:pt x="401" y="127"/>
                    </a:lnTo>
                    <a:lnTo>
                      <a:pt x="404" y="149"/>
                    </a:lnTo>
                    <a:lnTo>
                      <a:pt x="397" y="182"/>
                    </a:lnTo>
                    <a:lnTo>
                      <a:pt x="384" y="213"/>
                    </a:lnTo>
                    <a:lnTo>
                      <a:pt x="372" y="233"/>
                    </a:lnTo>
                    <a:lnTo>
                      <a:pt x="387" y="217"/>
                    </a:lnTo>
                    <a:lnTo>
                      <a:pt x="389" y="212"/>
                    </a:lnTo>
                    <a:lnTo>
                      <a:pt x="390" y="210"/>
                    </a:lnTo>
                    <a:lnTo>
                      <a:pt x="393" y="209"/>
                    </a:lnTo>
                    <a:lnTo>
                      <a:pt x="399" y="201"/>
                    </a:lnTo>
                    <a:lnTo>
                      <a:pt x="404" y="192"/>
                    </a:lnTo>
                    <a:lnTo>
                      <a:pt x="408" y="183"/>
                    </a:lnTo>
                    <a:lnTo>
                      <a:pt x="414" y="137"/>
                    </a:lnTo>
                    <a:lnTo>
                      <a:pt x="408" y="108"/>
                    </a:lnTo>
                    <a:lnTo>
                      <a:pt x="387" y="60"/>
                    </a:lnTo>
                    <a:lnTo>
                      <a:pt x="383" y="53"/>
                    </a:lnTo>
                    <a:lnTo>
                      <a:pt x="377" y="42"/>
                    </a:lnTo>
                    <a:lnTo>
                      <a:pt x="372" y="48"/>
                    </a:lnTo>
                    <a:lnTo>
                      <a:pt x="369" y="72"/>
                    </a:lnTo>
                    <a:lnTo>
                      <a:pt x="366" y="86"/>
                    </a:lnTo>
                    <a:lnTo>
                      <a:pt x="365" y="116"/>
                    </a:lnTo>
                    <a:lnTo>
                      <a:pt x="349" y="141"/>
                    </a:lnTo>
                    <a:lnTo>
                      <a:pt x="343" y="121"/>
                    </a:lnTo>
                    <a:lnTo>
                      <a:pt x="333" y="107"/>
                    </a:lnTo>
                    <a:lnTo>
                      <a:pt x="333" y="92"/>
                    </a:lnTo>
                    <a:lnTo>
                      <a:pt x="325" y="82"/>
                    </a:lnTo>
                    <a:lnTo>
                      <a:pt x="327" y="65"/>
                    </a:lnTo>
                    <a:lnTo>
                      <a:pt x="325" y="50"/>
                    </a:lnTo>
                    <a:lnTo>
                      <a:pt x="319" y="37"/>
                    </a:lnTo>
                    <a:lnTo>
                      <a:pt x="312" y="26"/>
                    </a:lnTo>
                    <a:close/>
                    <a:moveTo>
                      <a:pt x="292" y="35"/>
                    </a:moveTo>
                    <a:lnTo>
                      <a:pt x="304" y="26"/>
                    </a:lnTo>
                    <a:lnTo>
                      <a:pt x="315" y="60"/>
                    </a:lnTo>
                    <a:lnTo>
                      <a:pt x="318" y="92"/>
                    </a:lnTo>
                    <a:lnTo>
                      <a:pt x="325" y="101"/>
                    </a:lnTo>
                    <a:lnTo>
                      <a:pt x="325" y="112"/>
                    </a:lnTo>
                    <a:lnTo>
                      <a:pt x="339" y="131"/>
                    </a:lnTo>
                    <a:lnTo>
                      <a:pt x="339" y="149"/>
                    </a:lnTo>
                    <a:lnTo>
                      <a:pt x="316" y="165"/>
                    </a:lnTo>
                    <a:lnTo>
                      <a:pt x="304" y="205"/>
                    </a:lnTo>
                    <a:lnTo>
                      <a:pt x="299" y="216"/>
                    </a:lnTo>
                    <a:lnTo>
                      <a:pt x="299" y="221"/>
                    </a:lnTo>
                    <a:lnTo>
                      <a:pt x="299" y="229"/>
                    </a:lnTo>
                    <a:lnTo>
                      <a:pt x="298" y="235"/>
                    </a:lnTo>
                    <a:lnTo>
                      <a:pt x="294" y="216"/>
                    </a:lnTo>
                    <a:lnTo>
                      <a:pt x="287" y="200"/>
                    </a:lnTo>
                    <a:lnTo>
                      <a:pt x="273" y="157"/>
                    </a:lnTo>
                    <a:lnTo>
                      <a:pt x="262" y="126"/>
                    </a:lnTo>
                    <a:lnTo>
                      <a:pt x="264" y="113"/>
                    </a:lnTo>
                    <a:lnTo>
                      <a:pt x="265" y="101"/>
                    </a:lnTo>
                    <a:lnTo>
                      <a:pt x="277" y="84"/>
                    </a:lnTo>
                    <a:lnTo>
                      <a:pt x="285" y="67"/>
                    </a:lnTo>
                    <a:lnTo>
                      <a:pt x="292" y="35"/>
                    </a:lnTo>
                    <a:close/>
                    <a:moveTo>
                      <a:pt x="438" y="211"/>
                    </a:moveTo>
                    <a:lnTo>
                      <a:pt x="446" y="198"/>
                    </a:lnTo>
                    <a:lnTo>
                      <a:pt x="454" y="191"/>
                    </a:lnTo>
                    <a:lnTo>
                      <a:pt x="446" y="205"/>
                    </a:lnTo>
                    <a:lnTo>
                      <a:pt x="441" y="211"/>
                    </a:lnTo>
                    <a:lnTo>
                      <a:pt x="437" y="218"/>
                    </a:lnTo>
                    <a:lnTo>
                      <a:pt x="426" y="230"/>
                    </a:lnTo>
                    <a:lnTo>
                      <a:pt x="419" y="235"/>
                    </a:lnTo>
                    <a:lnTo>
                      <a:pt x="416" y="237"/>
                    </a:lnTo>
                    <a:lnTo>
                      <a:pt x="413" y="241"/>
                    </a:lnTo>
                    <a:lnTo>
                      <a:pt x="382" y="259"/>
                    </a:lnTo>
                    <a:lnTo>
                      <a:pt x="348" y="277"/>
                    </a:lnTo>
                    <a:lnTo>
                      <a:pt x="438" y="211"/>
                    </a:lnTo>
                    <a:close/>
                    <a:moveTo>
                      <a:pt x="253" y="141"/>
                    </a:moveTo>
                    <a:lnTo>
                      <a:pt x="277" y="199"/>
                    </a:lnTo>
                    <a:lnTo>
                      <a:pt x="280" y="234"/>
                    </a:lnTo>
                    <a:lnTo>
                      <a:pt x="274" y="273"/>
                    </a:lnTo>
                    <a:lnTo>
                      <a:pt x="253" y="281"/>
                    </a:lnTo>
                    <a:lnTo>
                      <a:pt x="249" y="278"/>
                    </a:lnTo>
                    <a:lnTo>
                      <a:pt x="246" y="279"/>
                    </a:lnTo>
                    <a:lnTo>
                      <a:pt x="246" y="284"/>
                    </a:lnTo>
                    <a:lnTo>
                      <a:pt x="253" y="294"/>
                    </a:lnTo>
                    <a:lnTo>
                      <a:pt x="230" y="293"/>
                    </a:lnTo>
                    <a:lnTo>
                      <a:pt x="185" y="233"/>
                    </a:lnTo>
                    <a:lnTo>
                      <a:pt x="167" y="207"/>
                    </a:lnTo>
                    <a:lnTo>
                      <a:pt x="167" y="194"/>
                    </a:lnTo>
                    <a:lnTo>
                      <a:pt x="163" y="183"/>
                    </a:lnTo>
                    <a:lnTo>
                      <a:pt x="148" y="149"/>
                    </a:lnTo>
                    <a:lnTo>
                      <a:pt x="143" y="134"/>
                    </a:lnTo>
                    <a:lnTo>
                      <a:pt x="140" y="121"/>
                    </a:lnTo>
                    <a:lnTo>
                      <a:pt x="140" y="92"/>
                    </a:lnTo>
                    <a:lnTo>
                      <a:pt x="151" y="80"/>
                    </a:lnTo>
                    <a:lnTo>
                      <a:pt x="163" y="68"/>
                    </a:lnTo>
                    <a:lnTo>
                      <a:pt x="173" y="54"/>
                    </a:lnTo>
                    <a:lnTo>
                      <a:pt x="184" y="40"/>
                    </a:lnTo>
                    <a:lnTo>
                      <a:pt x="196" y="26"/>
                    </a:lnTo>
                    <a:lnTo>
                      <a:pt x="202" y="18"/>
                    </a:lnTo>
                    <a:lnTo>
                      <a:pt x="212" y="30"/>
                    </a:lnTo>
                    <a:lnTo>
                      <a:pt x="222" y="46"/>
                    </a:lnTo>
                    <a:lnTo>
                      <a:pt x="228" y="61"/>
                    </a:lnTo>
                    <a:lnTo>
                      <a:pt x="234" y="80"/>
                    </a:lnTo>
                    <a:lnTo>
                      <a:pt x="236" y="95"/>
                    </a:lnTo>
                    <a:lnTo>
                      <a:pt x="241" y="110"/>
                    </a:lnTo>
                    <a:lnTo>
                      <a:pt x="253" y="141"/>
                    </a:lnTo>
                    <a:close/>
                    <a:moveTo>
                      <a:pt x="293" y="326"/>
                    </a:moveTo>
                    <a:lnTo>
                      <a:pt x="294" y="325"/>
                    </a:lnTo>
                    <a:lnTo>
                      <a:pt x="317" y="319"/>
                    </a:lnTo>
                    <a:lnTo>
                      <a:pt x="347" y="335"/>
                    </a:lnTo>
                    <a:lnTo>
                      <a:pt x="376" y="353"/>
                    </a:lnTo>
                    <a:lnTo>
                      <a:pt x="404" y="373"/>
                    </a:lnTo>
                    <a:lnTo>
                      <a:pt x="431" y="397"/>
                    </a:lnTo>
                    <a:lnTo>
                      <a:pt x="432" y="399"/>
                    </a:lnTo>
                    <a:lnTo>
                      <a:pt x="437" y="410"/>
                    </a:lnTo>
                    <a:lnTo>
                      <a:pt x="429" y="410"/>
                    </a:lnTo>
                    <a:lnTo>
                      <a:pt x="424" y="409"/>
                    </a:lnTo>
                    <a:lnTo>
                      <a:pt x="419" y="409"/>
                    </a:lnTo>
                    <a:lnTo>
                      <a:pt x="412" y="406"/>
                    </a:lnTo>
                    <a:lnTo>
                      <a:pt x="405" y="405"/>
                    </a:lnTo>
                    <a:lnTo>
                      <a:pt x="400" y="403"/>
                    </a:lnTo>
                    <a:lnTo>
                      <a:pt x="397" y="402"/>
                    </a:lnTo>
                    <a:lnTo>
                      <a:pt x="396" y="402"/>
                    </a:lnTo>
                    <a:lnTo>
                      <a:pt x="389" y="399"/>
                    </a:lnTo>
                    <a:lnTo>
                      <a:pt x="340" y="390"/>
                    </a:lnTo>
                    <a:lnTo>
                      <a:pt x="316" y="385"/>
                    </a:lnTo>
                    <a:lnTo>
                      <a:pt x="289" y="379"/>
                    </a:lnTo>
                    <a:lnTo>
                      <a:pt x="261" y="345"/>
                    </a:lnTo>
                    <a:lnTo>
                      <a:pt x="274" y="331"/>
                    </a:lnTo>
                    <a:lnTo>
                      <a:pt x="293" y="326"/>
                    </a:lnTo>
                    <a:close/>
                    <a:moveTo>
                      <a:pt x="273" y="379"/>
                    </a:moveTo>
                    <a:lnTo>
                      <a:pt x="261" y="400"/>
                    </a:lnTo>
                    <a:lnTo>
                      <a:pt x="261" y="353"/>
                    </a:lnTo>
                    <a:lnTo>
                      <a:pt x="273" y="379"/>
                    </a:lnTo>
                    <a:close/>
                    <a:moveTo>
                      <a:pt x="250" y="355"/>
                    </a:moveTo>
                    <a:lnTo>
                      <a:pt x="250" y="417"/>
                    </a:lnTo>
                    <a:lnTo>
                      <a:pt x="243" y="427"/>
                    </a:lnTo>
                    <a:lnTo>
                      <a:pt x="236" y="436"/>
                    </a:lnTo>
                    <a:lnTo>
                      <a:pt x="232" y="440"/>
                    </a:lnTo>
                    <a:lnTo>
                      <a:pt x="228" y="445"/>
                    </a:lnTo>
                    <a:lnTo>
                      <a:pt x="221" y="453"/>
                    </a:lnTo>
                    <a:lnTo>
                      <a:pt x="218" y="481"/>
                    </a:lnTo>
                    <a:lnTo>
                      <a:pt x="210" y="464"/>
                    </a:lnTo>
                    <a:lnTo>
                      <a:pt x="206" y="456"/>
                    </a:lnTo>
                    <a:lnTo>
                      <a:pt x="205" y="448"/>
                    </a:lnTo>
                    <a:lnTo>
                      <a:pt x="202" y="432"/>
                    </a:lnTo>
                    <a:lnTo>
                      <a:pt x="203" y="417"/>
                    </a:lnTo>
                    <a:lnTo>
                      <a:pt x="205" y="387"/>
                    </a:lnTo>
                    <a:lnTo>
                      <a:pt x="208" y="385"/>
                    </a:lnTo>
                    <a:lnTo>
                      <a:pt x="208" y="384"/>
                    </a:lnTo>
                    <a:lnTo>
                      <a:pt x="209" y="384"/>
                    </a:lnTo>
                    <a:lnTo>
                      <a:pt x="211" y="384"/>
                    </a:lnTo>
                    <a:lnTo>
                      <a:pt x="218" y="381"/>
                    </a:lnTo>
                    <a:lnTo>
                      <a:pt x="230" y="374"/>
                    </a:lnTo>
                    <a:lnTo>
                      <a:pt x="240" y="366"/>
                    </a:lnTo>
                    <a:lnTo>
                      <a:pt x="250" y="355"/>
                    </a:lnTo>
                    <a:close/>
                    <a:moveTo>
                      <a:pt x="125" y="194"/>
                    </a:moveTo>
                    <a:lnTo>
                      <a:pt x="125" y="205"/>
                    </a:lnTo>
                    <a:lnTo>
                      <a:pt x="132" y="219"/>
                    </a:lnTo>
                    <a:lnTo>
                      <a:pt x="167" y="245"/>
                    </a:lnTo>
                    <a:lnTo>
                      <a:pt x="186" y="266"/>
                    </a:lnTo>
                    <a:lnTo>
                      <a:pt x="215" y="290"/>
                    </a:lnTo>
                    <a:lnTo>
                      <a:pt x="205" y="289"/>
                    </a:lnTo>
                    <a:lnTo>
                      <a:pt x="196" y="287"/>
                    </a:lnTo>
                    <a:lnTo>
                      <a:pt x="180" y="277"/>
                    </a:lnTo>
                    <a:lnTo>
                      <a:pt x="161" y="267"/>
                    </a:lnTo>
                    <a:lnTo>
                      <a:pt x="149" y="266"/>
                    </a:lnTo>
                    <a:lnTo>
                      <a:pt x="114" y="211"/>
                    </a:lnTo>
                    <a:lnTo>
                      <a:pt x="113" y="186"/>
                    </a:lnTo>
                    <a:lnTo>
                      <a:pt x="107" y="180"/>
                    </a:lnTo>
                    <a:lnTo>
                      <a:pt x="104" y="175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4" y="163"/>
                    </a:lnTo>
                    <a:lnTo>
                      <a:pt x="125" y="194"/>
                    </a:lnTo>
                    <a:close/>
                    <a:moveTo>
                      <a:pt x="115" y="267"/>
                    </a:moveTo>
                    <a:lnTo>
                      <a:pt x="86" y="258"/>
                    </a:lnTo>
                    <a:lnTo>
                      <a:pt x="55" y="242"/>
                    </a:lnTo>
                    <a:lnTo>
                      <a:pt x="21" y="230"/>
                    </a:lnTo>
                    <a:lnTo>
                      <a:pt x="18" y="229"/>
                    </a:lnTo>
                    <a:lnTo>
                      <a:pt x="21" y="229"/>
                    </a:lnTo>
                    <a:lnTo>
                      <a:pt x="23" y="225"/>
                    </a:lnTo>
                    <a:lnTo>
                      <a:pt x="26" y="224"/>
                    </a:lnTo>
                    <a:lnTo>
                      <a:pt x="47" y="227"/>
                    </a:lnTo>
                    <a:lnTo>
                      <a:pt x="103" y="249"/>
                    </a:lnTo>
                    <a:lnTo>
                      <a:pt x="160" y="283"/>
                    </a:lnTo>
                    <a:lnTo>
                      <a:pt x="162" y="283"/>
                    </a:lnTo>
                    <a:lnTo>
                      <a:pt x="182" y="293"/>
                    </a:lnTo>
                    <a:lnTo>
                      <a:pt x="166" y="293"/>
                    </a:lnTo>
                    <a:lnTo>
                      <a:pt x="154" y="289"/>
                    </a:lnTo>
                    <a:lnTo>
                      <a:pt x="143" y="284"/>
                    </a:lnTo>
                    <a:lnTo>
                      <a:pt x="125" y="272"/>
                    </a:lnTo>
                    <a:lnTo>
                      <a:pt x="122" y="272"/>
                    </a:lnTo>
                    <a:lnTo>
                      <a:pt x="115" y="267"/>
                    </a:lnTo>
                    <a:close/>
                    <a:moveTo>
                      <a:pt x="209" y="324"/>
                    </a:moveTo>
                    <a:lnTo>
                      <a:pt x="210" y="325"/>
                    </a:lnTo>
                    <a:lnTo>
                      <a:pt x="210" y="324"/>
                    </a:lnTo>
                    <a:lnTo>
                      <a:pt x="211" y="324"/>
                    </a:lnTo>
                    <a:lnTo>
                      <a:pt x="210" y="325"/>
                    </a:lnTo>
                    <a:lnTo>
                      <a:pt x="205" y="330"/>
                    </a:lnTo>
                    <a:lnTo>
                      <a:pt x="208" y="333"/>
                    </a:lnTo>
                    <a:lnTo>
                      <a:pt x="212" y="339"/>
                    </a:lnTo>
                    <a:lnTo>
                      <a:pt x="249" y="344"/>
                    </a:lnTo>
                    <a:lnTo>
                      <a:pt x="230" y="363"/>
                    </a:lnTo>
                    <a:lnTo>
                      <a:pt x="202" y="381"/>
                    </a:lnTo>
                    <a:lnTo>
                      <a:pt x="181" y="390"/>
                    </a:lnTo>
                    <a:lnTo>
                      <a:pt x="160" y="403"/>
                    </a:lnTo>
                    <a:lnTo>
                      <a:pt x="118" y="427"/>
                    </a:lnTo>
                    <a:lnTo>
                      <a:pt x="104" y="435"/>
                    </a:lnTo>
                    <a:lnTo>
                      <a:pt x="109" y="412"/>
                    </a:lnTo>
                    <a:lnTo>
                      <a:pt x="115" y="393"/>
                    </a:lnTo>
                    <a:lnTo>
                      <a:pt x="124" y="376"/>
                    </a:lnTo>
                    <a:lnTo>
                      <a:pt x="134" y="361"/>
                    </a:lnTo>
                    <a:lnTo>
                      <a:pt x="150" y="347"/>
                    </a:lnTo>
                    <a:lnTo>
                      <a:pt x="190" y="326"/>
                    </a:lnTo>
                    <a:lnTo>
                      <a:pt x="209" y="324"/>
                    </a:lnTo>
                    <a:close/>
                  </a:path>
                </a:pathLst>
              </a:custGeom>
              <a:solidFill>
                <a:srgbClr val="6a4f5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2114"/>
              <p:cNvSpPr/>
              <p:nvPr/>
            </p:nvSpPr>
            <p:spPr>
              <a:xfrm rot="10800000">
                <a:off x="1965240" y="5419800"/>
                <a:ext cx="18360" cy="2556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6" y="9"/>
                    </a:moveTo>
                    <a:lnTo>
                      <a:pt x="0" y="35"/>
                    </a:lnTo>
                    <a:lnTo>
                      <a:pt x="25" y="21"/>
                    </a:lnTo>
                    <a:lnTo>
                      <a:pt x="18" y="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a4868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2115"/>
              <p:cNvSpPr/>
              <p:nvPr/>
            </p:nvSpPr>
            <p:spPr>
              <a:xfrm rot="10800000">
                <a:off x="1958760" y="540864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4" y="14"/>
                    </a:moveTo>
                    <a:lnTo>
                      <a:pt x="3" y="20"/>
                    </a:lnTo>
                    <a:lnTo>
                      <a:pt x="0" y="30"/>
                    </a:lnTo>
                    <a:lnTo>
                      <a:pt x="33" y="11"/>
                    </a:lnTo>
                    <a:lnTo>
                      <a:pt x="29" y="0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a2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2116"/>
              <p:cNvSpPr/>
              <p:nvPr/>
            </p:nvSpPr>
            <p:spPr>
              <a:xfrm rot="10800000">
                <a:off x="1960560" y="539244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7" y="2"/>
                    </a:moveTo>
                    <a:lnTo>
                      <a:pt x="47" y="0"/>
                    </a:lnTo>
                    <a:lnTo>
                      <a:pt x="14" y="19"/>
                    </a:lnTo>
                    <a:lnTo>
                      <a:pt x="8" y="28"/>
                    </a:lnTo>
                    <a:lnTo>
                      <a:pt x="0" y="40"/>
                    </a:lnTo>
                    <a:lnTo>
                      <a:pt x="48" y="13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a081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2117"/>
              <p:cNvSpPr/>
              <p:nvPr/>
            </p:nvSpPr>
            <p:spPr>
              <a:xfrm rot="10800000">
                <a:off x="1958400" y="538092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2"/>
                    </a:moveTo>
                    <a:lnTo>
                      <a:pt x="52" y="0"/>
                    </a:lnTo>
                    <a:lnTo>
                      <a:pt x="4" y="27"/>
                    </a:lnTo>
                    <a:lnTo>
                      <a:pt x="1" y="30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2118"/>
              <p:cNvSpPr/>
              <p:nvPr/>
            </p:nvSpPr>
            <p:spPr>
              <a:xfrm rot="10800000">
                <a:off x="1956960" y="53672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6" y="9"/>
                    </a:moveTo>
                    <a:lnTo>
                      <a:pt x="55" y="0"/>
                    </a:lnTo>
                    <a:lnTo>
                      <a:pt x="2" y="3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59" y="12"/>
                    </a:lnTo>
                    <a:lnTo>
                      <a:pt x="56" y="9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2119"/>
              <p:cNvSpPr/>
              <p:nvPr/>
            </p:nvSpPr>
            <p:spPr>
              <a:xfrm rot="10800000">
                <a:off x="1951920" y="536256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62" h="43">
                    <a:moveTo>
                      <a:pt x="62" y="6"/>
                    </a:moveTo>
                    <a:lnTo>
                      <a:pt x="58" y="0"/>
                    </a:lnTo>
                    <a:lnTo>
                      <a:pt x="0" y="33"/>
                    </a:lnTo>
                    <a:lnTo>
                      <a:pt x="4" y="43"/>
                    </a:lnTo>
                    <a:lnTo>
                      <a:pt x="62" y="8"/>
                    </a:lnTo>
                    <a:lnTo>
                      <a:pt x="62" y="6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2120"/>
              <p:cNvSpPr/>
              <p:nvPr/>
            </p:nvSpPr>
            <p:spPr>
              <a:xfrm rot="10800000">
                <a:off x="1951920" y="5352480"/>
                <a:ext cx="46080" cy="37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12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35"/>
                    </a:lnTo>
                    <a:lnTo>
                      <a:pt x="3" y="4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2121"/>
              <p:cNvSpPr/>
              <p:nvPr/>
            </p:nvSpPr>
            <p:spPr>
              <a:xfrm rot="10800000">
                <a:off x="1942200" y="5334480"/>
                <a:ext cx="50760" cy="34560"/>
              </a:xfrm>
              <a:custGeom>
                <a:avLst/>
                <a:gdLst/>
                <a:ahLst/>
                <a:rect l="l" t="t" r="r" b="b"/>
                <a:pathLst>
                  <a:path w="65" h="45">
                    <a:moveTo>
                      <a:pt x="65" y="9"/>
                    </a:moveTo>
                    <a:lnTo>
                      <a:pt x="65" y="6"/>
                    </a:lnTo>
                    <a:lnTo>
                      <a:pt x="61" y="0"/>
                    </a:lnTo>
                    <a:lnTo>
                      <a:pt x="0" y="34"/>
                    </a:lnTo>
                    <a:lnTo>
                      <a:pt x="3" y="45"/>
                    </a:lnTo>
                    <a:lnTo>
                      <a:pt x="65" y="9"/>
                    </a:lnTo>
                    <a:close/>
                  </a:path>
                </a:pathLst>
              </a:custGeom>
              <a:solidFill>
                <a:srgbClr val="906f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2122"/>
              <p:cNvSpPr/>
              <p:nvPr/>
            </p:nvSpPr>
            <p:spPr>
              <a:xfrm rot="10800000">
                <a:off x="1945080" y="534384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65" y="10"/>
                    </a:moveTo>
                    <a:lnTo>
                      <a:pt x="58" y="0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4" y="44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2123"/>
              <p:cNvSpPr/>
              <p:nvPr/>
            </p:nvSpPr>
            <p:spPr>
              <a:xfrm rot="10800000">
                <a:off x="1960920" y="53089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" y="23"/>
                    </a:moveTo>
                    <a:lnTo>
                      <a:pt x="4" y="27"/>
                    </a:lnTo>
                    <a:lnTo>
                      <a:pt x="22" y="16"/>
                    </a:lnTo>
                    <a:lnTo>
                      <a:pt x="27" y="0"/>
                    </a:lnTo>
                    <a:lnTo>
                      <a:pt x="0" y="16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89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2124"/>
              <p:cNvSpPr/>
              <p:nvPr/>
            </p:nvSpPr>
            <p:spPr>
              <a:xfrm rot="10800000">
                <a:off x="1970640" y="52930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4"/>
                    </a:moveTo>
                    <a:lnTo>
                      <a:pt x="1" y="7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2125"/>
              <p:cNvSpPr/>
              <p:nvPr/>
            </p:nvSpPr>
            <p:spPr>
              <a:xfrm rot="10800000">
                <a:off x="1968480" y="5301720"/>
                <a:ext cx="13680" cy="1620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1"/>
                    </a:moveTo>
                    <a:lnTo>
                      <a:pt x="4" y="20"/>
                    </a:lnTo>
                    <a:lnTo>
                      <a:pt x="14" y="16"/>
                    </a:lnTo>
                    <a:lnTo>
                      <a:pt x="15" y="12"/>
                    </a:lnTo>
                    <a:lnTo>
                      <a:pt x="1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7667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2126"/>
              <p:cNvSpPr/>
              <p:nvPr/>
            </p:nvSpPr>
            <p:spPr>
              <a:xfrm rot="10800000">
                <a:off x="1942560" y="531828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34"/>
                    </a:moveTo>
                    <a:lnTo>
                      <a:pt x="4" y="46"/>
                    </a:lnTo>
                    <a:lnTo>
                      <a:pt x="31" y="30"/>
                    </a:lnTo>
                    <a:lnTo>
                      <a:pt x="35" y="18"/>
                    </a:lnTo>
                    <a:lnTo>
                      <a:pt x="58" y="2"/>
                    </a:lnTo>
                    <a:lnTo>
                      <a:pt x="58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8c6b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2127"/>
              <p:cNvSpPr/>
              <p:nvPr/>
            </p:nvSpPr>
            <p:spPr>
              <a:xfrm rot="10800000">
                <a:off x="1940400" y="5327640"/>
                <a:ext cx="48240" cy="34560"/>
              </a:xfrm>
              <a:custGeom>
                <a:avLst/>
                <a:gdLst/>
                <a:ahLst/>
                <a:rect l="l" t="t" r="r" b="b"/>
                <a:pathLst>
                  <a:path w="62" h="47">
                    <a:moveTo>
                      <a:pt x="0" y="36"/>
                    </a:moveTo>
                    <a:lnTo>
                      <a:pt x="4" y="47"/>
                    </a:lnTo>
                    <a:lnTo>
                      <a:pt x="62" y="13"/>
                    </a:lnTo>
                    <a:lnTo>
                      <a:pt x="62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2128"/>
              <p:cNvSpPr/>
              <p:nvPr/>
            </p:nvSpPr>
            <p:spPr>
              <a:xfrm rot="10800000">
                <a:off x="1970280" y="5288400"/>
                <a:ext cx="1800" cy="86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0" y="2"/>
                    </a:lnTo>
                    <a:lnTo>
                      <a:pt x="1" y="12"/>
                    </a:lnTo>
                    <a:lnTo>
                      <a:pt x="2" y="6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2129"/>
              <p:cNvSpPr/>
              <p:nvPr/>
            </p:nvSpPr>
            <p:spPr>
              <a:xfrm rot="10800000">
                <a:off x="1852200" y="5283360"/>
                <a:ext cx="34560" cy="3672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36" y="7"/>
                    </a:moveTo>
                    <a:lnTo>
                      <a:pt x="28" y="20"/>
                    </a:lnTo>
                    <a:lnTo>
                      <a:pt x="0" y="42"/>
                    </a:lnTo>
                    <a:lnTo>
                      <a:pt x="3" y="50"/>
                    </a:lnTo>
                    <a:lnTo>
                      <a:pt x="6" y="46"/>
                    </a:lnTo>
                    <a:lnTo>
                      <a:pt x="9" y="44"/>
                    </a:lnTo>
                    <a:lnTo>
                      <a:pt x="16" y="39"/>
                    </a:lnTo>
                    <a:lnTo>
                      <a:pt x="27" y="27"/>
                    </a:lnTo>
                    <a:lnTo>
                      <a:pt x="31" y="20"/>
                    </a:lnTo>
                    <a:lnTo>
                      <a:pt x="36" y="14"/>
                    </a:lnTo>
                    <a:lnTo>
                      <a:pt x="44" y="0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2130"/>
              <p:cNvSpPr/>
              <p:nvPr/>
            </p:nvSpPr>
            <p:spPr>
              <a:xfrm rot="10800000">
                <a:off x="1926000" y="5255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2131"/>
              <p:cNvSpPr/>
              <p:nvPr/>
            </p:nvSpPr>
            <p:spPr>
              <a:xfrm rot="10800000">
                <a:off x="1923840" y="5257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2132"/>
              <p:cNvSpPr/>
              <p:nvPr/>
            </p:nvSpPr>
            <p:spPr>
              <a:xfrm rot="10800000">
                <a:off x="1928520" y="5253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2133"/>
              <p:cNvSpPr/>
              <p:nvPr/>
            </p:nvSpPr>
            <p:spPr>
              <a:xfrm rot="10800000">
                <a:off x="1884600" y="52740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3"/>
                    </a:moveTo>
                    <a:lnTo>
                      <a:pt x="4" y="7"/>
                    </a:lnTo>
                    <a:lnTo>
                      <a:pt x="8" y="13"/>
                    </a:lnTo>
                    <a:lnTo>
                      <a:pt x="4" y="7"/>
                    </a:lnTo>
                    <a:lnTo>
                      <a:pt x="0" y="9"/>
                    </a:lnTo>
                    <a:lnTo>
                      <a:pt x="4" y="16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9" y="3"/>
                    </a:lnTo>
                    <a:lnTo>
                      <a:pt x="12" y="1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2134"/>
              <p:cNvSpPr/>
              <p:nvPr/>
            </p:nvSpPr>
            <p:spPr>
              <a:xfrm rot="10800000">
                <a:off x="1900800" y="5269320"/>
                <a:ext cx="4680" cy="72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6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2135"/>
              <p:cNvSpPr/>
              <p:nvPr/>
            </p:nvSpPr>
            <p:spPr>
              <a:xfrm rot="10800000">
                <a:off x="1893600" y="5271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4"/>
                    </a:moveTo>
                    <a:lnTo>
                      <a:pt x="4" y="10"/>
                    </a:lnTo>
                    <a:lnTo>
                      <a:pt x="9" y="7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2136"/>
              <p:cNvSpPr/>
              <p:nvPr/>
            </p:nvSpPr>
            <p:spPr>
              <a:xfrm rot="10800000">
                <a:off x="1902600" y="52689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0" y="3"/>
                    </a:lnTo>
                    <a:lnTo>
                      <a:pt x="3" y="8"/>
                    </a:lnTo>
                    <a:lnTo>
                      <a:pt x="8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2137"/>
              <p:cNvSpPr/>
              <p:nvPr/>
            </p:nvSpPr>
            <p:spPr>
              <a:xfrm rot="10800000">
                <a:off x="1902600" y="5266800"/>
                <a:ext cx="468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4" y="0"/>
                    </a:moveTo>
                    <a:lnTo>
                      <a:pt x="0" y="3"/>
                    </a:lnTo>
                    <a:lnTo>
                      <a:pt x="3" y="9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2138"/>
              <p:cNvSpPr/>
              <p:nvPr/>
            </p:nvSpPr>
            <p:spPr>
              <a:xfrm rot="10800000">
                <a:off x="1907640" y="526212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4"/>
                    </a:moveTo>
                    <a:lnTo>
                      <a:pt x="0" y="6"/>
                    </a:lnTo>
                    <a:lnTo>
                      <a:pt x="1" y="10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2139"/>
              <p:cNvSpPr/>
              <p:nvPr/>
            </p:nvSpPr>
            <p:spPr>
              <a:xfrm rot="10800000">
                <a:off x="1919160" y="525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1" y="6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2140"/>
              <p:cNvSpPr/>
              <p:nvPr/>
            </p:nvSpPr>
            <p:spPr>
              <a:xfrm rot="10800000">
                <a:off x="1917000" y="526212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6"/>
                    </a:moveTo>
                    <a:lnTo>
                      <a:pt x="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2141"/>
              <p:cNvSpPr/>
              <p:nvPr/>
            </p:nvSpPr>
            <p:spPr>
              <a:xfrm rot="10800000">
                <a:off x="2014200" y="5362200"/>
                <a:ext cx="81000" cy="29880"/>
              </a:xfrm>
              <a:custGeom>
                <a:avLst/>
                <a:gdLst/>
                <a:ahLst/>
                <a:rect l="l" t="t" r="r" b="b"/>
                <a:pathLst>
                  <a:path w="104" h="39">
                    <a:moveTo>
                      <a:pt x="104" y="23"/>
                    </a:moveTo>
                    <a:lnTo>
                      <a:pt x="100" y="12"/>
                    </a:lnTo>
                    <a:lnTo>
                      <a:pt x="2" y="29"/>
                    </a:lnTo>
                    <a:lnTo>
                      <a:pt x="100" y="12"/>
                    </a:lnTo>
                    <a:lnTo>
                      <a:pt x="98" y="0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4" y="39"/>
                    </a:lnTo>
                    <a:lnTo>
                      <a:pt x="104" y="23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2142"/>
              <p:cNvSpPr/>
              <p:nvPr/>
            </p:nvSpPr>
            <p:spPr>
              <a:xfrm rot="10800000">
                <a:off x="2009520" y="53528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5" y="12"/>
                    </a:moveTo>
                    <a:lnTo>
                      <a:pt x="100" y="0"/>
                    </a:lnTo>
                    <a:lnTo>
                      <a:pt x="0" y="16"/>
                    </a:lnTo>
                    <a:lnTo>
                      <a:pt x="4" y="28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2143"/>
              <p:cNvSpPr/>
              <p:nvPr/>
            </p:nvSpPr>
            <p:spPr>
              <a:xfrm rot="10800000">
                <a:off x="2007360" y="534348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9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4" y="27"/>
                    </a:lnTo>
                    <a:lnTo>
                      <a:pt x="105" y="9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2144"/>
              <p:cNvSpPr/>
              <p:nvPr/>
            </p:nvSpPr>
            <p:spPr>
              <a:xfrm rot="10800000">
                <a:off x="2004840" y="53366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1" y="1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4" y="28"/>
                    </a:lnTo>
                    <a:lnTo>
                      <a:pt x="105" y="11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9b7c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2145"/>
              <p:cNvSpPr/>
              <p:nvPr/>
            </p:nvSpPr>
            <p:spPr>
              <a:xfrm rot="10800000">
                <a:off x="2000520" y="5329800"/>
                <a:ext cx="81360" cy="23040"/>
              </a:xfrm>
              <a:custGeom>
                <a:avLst/>
                <a:gdLst/>
                <a:ahLst/>
                <a:rect l="l" t="t" r="r" b="b"/>
                <a:pathLst>
                  <a:path w="106" h="29">
                    <a:moveTo>
                      <a:pt x="106" y="11"/>
                    </a:moveTo>
                    <a:lnTo>
                      <a:pt x="101" y="0"/>
                    </a:lnTo>
                    <a:lnTo>
                      <a:pt x="0" y="17"/>
                    </a:lnTo>
                    <a:lnTo>
                      <a:pt x="6" y="29"/>
                    </a:lnTo>
                    <a:lnTo>
                      <a:pt x="106" y="11"/>
                    </a:lnTo>
                    <a:close/>
                  </a:path>
                </a:pathLst>
              </a:custGeom>
              <a:solidFill>
                <a:srgbClr val="9878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2146"/>
              <p:cNvSpPr/>
              <p:nvPr/>
            </p:nvSpPr>
            <p:spPr>
              <a:xfrm rot="10800000">
                <a:off x="1995840" y="5320440"/>
                <a:ext cx="81000" cy="20880"/>
              </a:xfrm>
              <a:custGeom>
                <a:avLst/>
                <a:gdLst/>
                <a:ahLst/>
                <a:rect l="l" t="t" r="r" b="b"/>
                <a:pathLst>
                  <a:path w="105" h="27">
                    <a:moveTo>
                      <a:pt x="105" y="11"/>
                    </a:moveTo>
                    <a:lnTo>
                      <a:pt x="100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4" y="27"/>
                    </a:lnTo>
                    <a:lnTo>
                      <a:pt x="105" y="11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2147"/>
              <p:cNvSpPr/>
              <p:nvPr/>
            </p:nvSpPr>
            <p:spPr>
              <a:xfrm rot="10800000">
                <a:off x="1988640" y="5288400"/>
                <a:ext cx="78840" cy="23040"/>
              </a:xfrm>
              <a:custGeom>
                <a:avLst/>
                <a:gdLst/>
                <a:ahLst/>
                <a:rect l="l" t="t" r="r" b="b"/>
                <a:pathLst>
                  <a:path w="101" h="29">
                    <a:moveTo>
                      <a:pt x="101" y="12"/>
                    </a:moveTo>
                    <a:lnTo>
                      <a:pt x="101" y="0"/>
                    </a:lnTo>
                    <a:lnTo>
                      <a:pt x="0" y="1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101" y="12"/>
                    </a:lnTo>
                    <a:close/>
                  </a:path>
                </a:pathLst>
              </a:custGeom>
              <a:solidFill>
                <a:srgbClr val="8c6b7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2148"/>
              <p:cNvSpPr/>
              <p:nvPr/>
            </p:nvSpPr>
            <p:spPr>
              <a:xfrm rot="10800000">
                <a:off x="1986840" y="5295240"/>
                <a:ext cx="85680" cy="2088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7" y="5"/>
                    </a:lnTo>
                    <a:lnTo>
                      <a:pt x="106" y="0"/>
                    </a:lnTo>
                    <a:lnTo>
                      <a:pt x="0" y="18"/>
                    </a:lnTo>
                    <a:lnTo>
                      <a:pt x="8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8e6d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2149"/>
              <p:cNvSpPr/>
              <p:nvPr/>
            </p:nvSpPr>
            <p:spPr>
              <a:xfrm rot="10800000">
                <a:off x="1989000" y="5304600"/>
                <a:ext cx="85680" cy="23040"/>
              </a:xfrm>
              <a:custGeom>
                <a:avLst/>
                <a:gdLst/>
                <a:ahLst/>
                <a:rect l="l" t="t" r="r" b="b"/>
                <a:pathLst>
                  <a:path w="109" h="29">
                    <a:moveTo>
                      <a:pt x="109" y="11"/>
                    </a:moveTo>
                    <a:lnTo>
                      <a:pt x="103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3" y="29"/>
                    </a:lnTo>
                    <a:lnTo>
                      <a:pt x="109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2150"/>
              <p:cNvSpPr/>
              <p:nvPr/>
            </p:nvSpPr>
            <p:spPr>
              <a:xfrm rot="10800000">
                <a:off x="1993320" y="5311080"/>
                <a:ext cx="81000" cy="20520"/>
              </a:xfrm>
              <a:custGeom>
                <a:avLst/>
                <a:gdLst/>
                <a:ahLst/>
                <a:rect l="l" t="t" r="r" b="b"/>
                <a:pathLst>
                  <a:path w="104" h="27">
                    <a:moveTo>
                      <a:pt x="104" y="10"/>
                    </a:moveTo>
                    <a:lnTo>
                      <a:pt x="101" y="0"/>
                    </a:lnTo>
                    <a:lnTo>
                      <a:pt x="0" y="16"/>
                    </a:lnTo>
                    <a:lnTo>
                      <a:pt x="2" y="27"/>
                    </a:lnTo>
                    <a:lnTo>
                      <a:pt x="104" y="10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2151"/>
              <p:cNvSpPr/>
              <p:nvPr/>
            </p:nvSpPr>
            <p:spPr>
              <a:xfrm rot="10800000">
                <a:off x="1986480" y="5264640"/>
                <a:ext cx="62280" cy="1836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77" y="12"/>
                    </a:moveTo>
                    <a:lnTo>
                      <a:pt x="80" y="0"/>
                    </a:lnTo>
                    <a:lnTo>
                      <a:pt x="0" y="13"/>
                    </a:lnTo>
                    <a:lnTo>
                      <a:pt x="9" y="2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2152"/>
              <p:cNvSpPr/>
              <p:nvPr/>
            </p:nvSpPr>
            <p:spPr>
              <a:xfrm rot="10800000">
                <a:off x="1986480" y="5274000"/>
                <a:ext cx="67320" cy="18720"/>
              </a:xfrm>
              <a:custGeom>
                <a:avLst/>
                <a:gdLst/>
                <a:ahLst/>
                <a:rect l="l" t="t" r="r" b="b"/>
                <a:pathLst>
                  <a:path w="87" h="24">
                    <a:moveTo>
                      <a:pt x="87" y="11"/>
                    </a:moveTo>
                    <a:lnTo>
                      <a:pt x="87" y="5"/>
                    </a:lnTo>
                    <a:lnTo>
                      <a:pt x="87" y="0"/>
                    </a:lnTo>
                    <a:lnTo>
                      <a:pt x="0" y="14"/>
                    </a:lnTo>
                    <a:lnTo>
                      <a:pt x="7" y="24"/>
                    </a:lnTo>
                    <a:lnTo>
                      <a:pt x="87" y="11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2153"/>
              <p:cNvSpPr/>
              <p:nvPr/>
            </p:nvSpPr>
            <p:spPr>
              <a:xfrm rot="10800000">
                <a:off x="1988640" y="5241600"/>
                <a:ext cx="53640" cy="3204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37" y="32"/>
                    </a:moveTo>
                    <a:lnTo>
                      <a:pt x="37" y="27"/>
                    </a:lnTo>
                    <a:lnTo>
                      <a:pt x="40" y="26"/>
                    </a:lnTo>
                    <a:lnTo>
                      <a:pt x="44" y="29"/>
                    </a:lnTo>
                    <a:lnTo>
                      <a:pt x="65" y="21"/>
                    </a:lnTo>
                    <a:lnTo>
                      <a:pt x="68" y="0"/>
                    </a:lnTo>
                    <a:lnTo>
                      <a:pt x="0" y="12"/>
                    </a:lnTo>
                    <a:lnTo>
                      <a:pt x="21" y="41"/>
                    </a:lnTo>
                    <a:lnTo>
                      <a:pt x="44" y="42"/>
                    </a:ln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2154"/>
              <p:cNvSpPr/>
              <p:nvPr/>
            </p:nvSpPr>
            <p:spPr>
              <a:xfrm rot="10800000">
                <a:off x="1986840" y="5278680"/>
                <a:ext cx="72000" cy="20880"/>
              </a:xfrm>
              <a:custGeom>
                <a:avLst/>
                <a:gdLst/>
                <a:ahLst/>
                <a:rect l="l" t="t" r="r" b="b"/>
                <a:pathLst>
                  <a:path w="94" h="26">
                    <a:moveTo>
                      <a:pt x="94" y="12"/>
                    </a:moveTo>
                    <a:lnTo>
                      <a:pt x="93" y="0"/>
                    </a:lnTo>
                    <a:lnTo>
                      <a:pt x="0" y="17"/>
                    </a:lnTo>
                    <a:lnTo>
                      <a:pt x="7" y="26"/>
                    </a:lnTo>
                    <a:lnTo>
                      <a:pt x="94" y="12"/>
                    </a:lnTo>
                    <a:close/>
                  </a:path>
                </a:pathLst>
              </a:custGeom>
              <a:solidFill>
                <a:srgbClr val="89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2155"/>
              <p:cNvSpPr/>
              <p:nvPr/>
            </p:nvSpPr>
            <p:spPr>
              <a:xfrm rot="10800000">
                <a:off x="2023200" y="538992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95" h="84">
                    <a:moveTo>
                      <a:pt x="56" y="8"/>
                    </a:moveTo>
                    <a:lnTo>
                      <a:pt x="44" y="22"/>
                    </a:lnTo>
                    <a:lnTo>
                      <a:pt x="33" y="36"/>
                    </a:lnTo>
                    <a:lnTo>
                      <a:pt x="23" y="50"/>
                    </a:lnTo>
                    <a:lnTo>
                      <a:pt x="11" y="62"/>
                    </a:lnTo>
                    <a:lnTo>
                      <a:pt x="0" y="74"/>
                    </a:lnTo>
                    <a:lnTo>
                      <a:pt x="0" y="84"/>
                    </a:lnTo>
                    <a:lnTo>
                      <a:pt x="95" y="67"/>
                    </a:lnTo>
                    <a:lnTo>
                      <a:pt x="94" y="62"/>
                    </a:lnTo>
                    <a:lnTo>
                      <a:pt x="88" y="43"/>
                    </a:lnTo>
                    <a:lnTo>
                      <a:pt x="82" y="28"/>
                    </a:lnTo>
                    <a:lnTo>
                      <a:pt x="72" y="12"/>
                    </a:lnTo>
                    <a:lnTo>
                      <a:pt x="62" y="0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2156"/>
              <p:cNvSpPr/>
              <p:nvPr/>
            </p:nvSpPr>
            <p:spPr>
              <a:xfrm rot="10800000">
                <a:off x="2018880" y="5380920"/>
                <a:ext cx="75960" cy="23040"/>
              </a:xfrm>
              <a:custGeom>
                <a:avLst/>
                <a:gdLst/>
                <a:ahLst/>
                <a:rect l="l" t="t" r="r" b="b"/>
                <a:pathLst>
                  <a:path w="98" h="28">
                    <a:moveTo>
                      <a:pt x="98" y="11"/>
                    </a:moveTo>
                    <a:lnTo>
                      <a:pt x="95" y="5"/>
                    </a:lnTo>
                    <a:lnTo>
                      <a:pt x="95" y="0"/>
                    </a:lnTo>
                    <a:lnTo>
                      <a:pt x="0" y="17"/>
                    </a:lnTo>
                    <a:lnTo>
                      <a:pt x="0" y="28"/>
                    </a:lnTo>
                    <a:lnTo>
                      <a:pt x="98" y="11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2157"/>
              <p:cNvSpPr/>
              <p:nvPr/>
            </p:nvSpPr>
            <p:spPr>
              <a:xfrm rot="10800000">
                <a:off x="1868400" y="5148720"/>
                <a:ext cx="134640" cy="72000"/>
              </a:xfrm>
              <a:custGeom>
                <a:avLst/>
                <a:gdLst/>
                <a:ahLst/>
                <a:rect l="l" t="t" r="r" b="b"/>
                <a:pathLst>
                  <a:path w="176" h="91">
                    <a:moveTo>
                      <a:pt x="56" y="0"/>
                    </a:moveTo>
                    <a:lnTo>
                      <a:pt x="33" y="6"/>
                    </a:lnTo>
                    <a:lnTo>
                      <a:pt x="32" y="7"/>
                    </a:lnTo>
                    <a:lnTo>
                      <a:pt x="13" y="12"/>
                    </a:lnTo>
                    <a:lnTo>
                      <a:pt x="0" y="26"/>
                    </a:lnTo>
                    <a:lnTo>
                      <a:pt x="28" y="60"/>
                    </a:lnTo>
                    <a:lnTo>
                      <a:pt x="55" y="66"/>
                    </a:lnTo>
                    <a:lnTo>
                      <a:pt x="79" y="71"/>
                    </a:lnTo>
                    <a:lnTo>
                      <a:pt x="128" y="80"/>
                    </a:lnTo>
                    <a:lnTo>
                      <a:pt x="135" y="83"/>
                    </a:lnTo>
                    <a:lnTo>
                      <a:pt x="136" y="83"/>
                    </a:lnTo>
                    <a:lnTo>
                      <a:pt x="139" y="84"/>
                    </a:lnTo>
                    <a:lnTo>
                      <a:pt x="144" y="86"/>
                    </a:lnTo>
                    <a:lnTo>
                      <a:pt x="151" y="87"/>
                    </a:lnTo>
                    <a:lnTo>
                      <a:pt x="158" y="90"/>
                    </a:lnTo>
                    <a:lnTo>
                      <a:pt x="163" y="90"/>
                    </a:lnTo>
                    <a:lnTo>
                      <a:pt x="168" y="91"/>
                    </a:lnTo>
                    <a:lnTo>
                      <a:pt x="176" y="91"/>
                    </a:lnTo>
                    <a:lnTo>
                      <a:pt x="171" y="80"/>
                    </a:lnTo>
                    <a:lnTo>
                      <a:pt x="170" y="78"/>
                    </a:lnTo>
                    <a:lnTo>
                      <a:pt x="143" y="54"/>
                    </a:lnTo>
                    <a:lnTo>
                      <a:pt x="115" y="34"/>
                    </a:lnTo>
                    <a:lnTo>
                      <a:pt x="86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2158"/>
              <p:cNvSpPr/>
              <p:nvPr/>
            </p:nvSpPr>
            <p:spPr>
              <a:xfrm rot="10800000">
                <a:off x="1993680" y="515808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0" y="47"/>
                    </a:moveTo>
                    <a:lnTo>
                      <a:pt x="12" y="26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2159"/>
              <p:cNvSpPr/>
              <p:nvPr/>
            </p:nvSpPr>
            <p:spPr>
              <a:xfrm rot="10800000">
                <a:off x="2011680" y="5097600"/>
                <a:ext cx="37080" cy="97200"/>
              </a:xfrm>
              <a:custGeom>
                <a:avLst/>
                <a:gdLst/>
                <a:ahLst/>
                <a:rect l="l" t="t" r="r" b="b"/>
                <a:pathLst>
                  <a:path w="48" h="126">
                    <a:moveTo>
                      <a:pt x="48" y="62"/>
                    </a:moveTo>
                    <a:lnTo>
                      <a:pt x="48" y="0"/>
                    </a:lnTo>
                    <a:lnTo>
                      <a:pt x="38" y="11"/>
                    </a:lnTo>
                    <a:lnTo>
                      <a:pt x="28" y="19"/>
                    </a:lnTo>
                    <a:lnTo>
                      <a:pt x="16" y="26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3" y="32"/>
                    </a:lnTo>
                    <a:lnTo>
                      <a:pt x="1" y="62"/>
                    </a:lnTo>
                    <a:lnTo>
                      <a:pt x="0" y="77"/>
                    </a:lnTo>
                    <a:lnTo>
                      <a:pt x="3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6" y="126"/>
                    </a:lnTo>
                    <a:lnTo>
                      <a:pt x="19" y="98"/>
                    </a:lnTo>
                    <a:lnTo>
                      <a:pt x="26" y="90"/>
                    </a:lnTo>
                    <a:lnTo>
                      <a:pt x="30" y="85"/>
                    </a:lnTo>
                    <a:lnTo>
                      <a:pt x="34" y="81"/>
                    </a:lnTo>
                    <a:lnTo>
                      <a:pt x="41" y="72"/>
                    </a:lnTo>
                    <a:lnTo>
                      <a:pt x="48" y="62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2160"/>
              <p:cNvSpPr/>
              <p:nvPr/>
            </p:nvSpPr>
            <p:spPr>
              <a:xfrm rot="10800000">
                <a:off x="2093400" y="528336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23" y="43"/>
                    </a:moveTo>
                    <a:lnTo>
                      <a:pt x="23" y="3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3"/>
                    </a:lnTo>
                    <a:lnTo>
                      <a:pt x="5" y="18"/>
                    </a:lnTo>
                    <a:lnTo>
                      <a:pt x="11" y="24"/>
                    </a:lnTo>
                    <a:lnTo>
                      <a:pt x="12" y="49"/>
                    </a:lnTo>
                    <a:lnTo>
                      <a:pt x="28" y="74"/>
                    </a:lnTo>
                    <a:lnTo>
                      <a:pt x="41" y="66"/>
                    </a:lnTo>
                    <a:lnTo>
                      <a:pt x="30" y="57"/>
                    </a:lnTo>
                    <a:lnTo>
                      <a:pt x="23" y="43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2161"/>
              <p:cNvSpPr/>
              <p:nvPr/>
            </p:nvSpPr>
            <p:spPr>
              <a:xfrm rot="10800000">
                <a:off x="2056320" y="52531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3"/>
                    </a:moveTo>
                    <a:lnTo>
                      <a:pt x="12" y="0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2162"/>
              <p:cNvSpPr/>
              <p:nvPr/>
            </p:nvSpPr>
            <p:spPr>
              <a:xfrm rot="10800000">
                <a:off x="2061000" y="525564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6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5" y="11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6646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2163"/>
              <p:cNvSpPr/>
              <p:nvPr/>
            </p:nvSpPr>
            <p:spPr>
              <a:xfrm rot="10800000">
                <a:off x="2062800" y="525780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4"/>
                    </a:moveTo>
                    <a:lnTo>
                      <a:pt x="15" y="0"/>
                    </a:lnTo>
                    <a:lnTo>
                      <a:pt x="0" y="10"/>
                    </a:lnTo>
                    <a:lnTo>
                      <a:pt x="4" y="12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2164"/>
              <p:cNvSpPr/>
              <p:nvPr/>
            </p:nvSpPr>
            <p:spPr>
              <a:xfrm rot="10800000">
                <a:off x="2037960" y="5241600"/>
                <a:ext cx="25200" cy="1548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0" y="7"/>
                    </a:moveTo>
                    <a:lnTo>
                      <a:pt x="16" y="17"/>
                    </a:lnTo>
                    <a:lnTo>
                      <a:pt x="25" y="19"/>
                    </a:lnTo>
                    <a:lnTo>
                      <a:pt x="35" y="20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2165"/>
              <p:cNvSpPr/>
              <p:nvPr/>
            </p:nvSpPr>
            <p:spPr>
              <a:xfrm rot="10800000">
                <a:off x="2079000" y="5271840"/>
                <a:ext cx="16200" cy="1152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2" y="4"/>
                    </a:moveTo>
                    <a:lnTo>
                      <a:pt x="17" y="0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9c7d8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2166"/>
              <p:cNvSpPr/>
              <p:nvPr/>
            </p:nvSpPr>
            <p:spPr>
              <a:xfrm rot="10800000">
                <a:off x="2079360" y="526932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2"/>
                    </a:moveTo>
                    <a:lnTo>
                      <a:pt x="20" y="0"/>
                    </a:lnTo>
                    <a:lnTo>
                      <a:pt x="0" y="11"/>
                    </a:lnTo>
                    <a:lnTo>
                      <a:pt x="2" y="14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997a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2167"/>
              <p:cNvSpPr/>
              <p:nvPr/>
            </p:nvSpPr>
            <p:spPr>
              <a:xfrm rot="10800000">
                <a:off x="2067840" y="5260320"/>
                <a:ext cx="20880" cy="1152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3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5" y="16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91707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2168"/>
              <p:cNvSpPr/>
              <p:nvPr/>
            </p:nvSpPr>
            <p:spPr>
              <a:xfrm rot="10800000">
                <a:off x="2074680" y="5265000"/>
                <a:ext cx="18720" cy="1152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3" y="0"/>
                    </a:moveTo>
                    <a:lnTo>
                      <a:pt x="22" y="0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25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2169"/>
              <p:cNvSpPr/>
              <p:nvPr/>
            </p:nvSpPr>
            <p:spPr>
              <a:xfrm rot="10800000">
                <a:off x="2070000" y="526500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4"/>
                    </a:moveTo>
                    <a:lnTo>
                      <a:pt x="23" y="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27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2170"/>
              <p:cNvSpPr/>
              <p:nvPr/>
            </p:nvSpPr>
            <p:spPr>
              <a:xfrm rot="10800000">
                <a:off x="2085840" y="527868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2"/>
                    </a:moveTo>
                    <a:lnTo>
                      <a:pt x="15" y="0"/>
                    </a:lnTo>
                    <a:lnTo>
                      <a:pt x="0" y="9"/>
                    </a:lnTo>
                    <a:lnTo>
                      <a:pt x="2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9e7f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2171"/>
              <p:cNvSpPr/>
              <p:nvPr/>
            </p:nvSpPr>
            <p:spPr>
              <a:xfrm rot="10800000">
                <a:off x="2076840" y="5267160"/>
                <a:ext cx="18360" cy="1152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3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24" y="3"/>
                    </a:lnTo>
                    <a:close/>
                  </a:path>
                </a:pathLst>
              </a:custGeom>
              <a:solidFill>
                <a:srgbClr val="97778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2172"/>
              <p:cNvSpPr/>
              <p:nvPr/>
            </p:nvSpPr>
            <p:spPr>
              <a:xfrm rot="10800000">
                <a:off x="2090880" y="52833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6" y="2"/>
                    </a:moveTo>
                    <a:lnTo>
                      <a:pt x="1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2173"/>
              <p:cNvSpPr/>
              <p:nvPr/>
            </p:nvSpPr>
            <p:spPr>
              <a:xfrm rot="10800000">
                <a:off x="2088720" y="528084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4" y="0"/>
                    </a:moveTo>
                    <a:lnTo>
                      <a:pt x="0" y="10"/>
                    </a:lnTo>
                    <a:lnTo>
                      <a:pt x="4" y="13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2174"/>
              <p:cNvSpPr/>
              <p:nvPr/>
            </p:nvSpPr>
            <p:spPr>
              <a:xfrm rot="10800000">
                <a:off x="2062800" y="526032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0"/>
                    </a:moveTo>
                    <a:lnTo>
                      <a:pt x="1" y="10"/>
                    </a:lnTo>
                    <a:lnTo>
                      <a:pt x="6" y="1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d6c76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2175"/>
              <p:cNvSpPr/>
              <p:nvPr/>
            </p:nvSpPr>
            <p:spPr>
              <a:xfrm rot="10800000">
                <a:off x="2067480" y="526248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3"/>
                    </a:moveTo>
                    <a:lnTo>
                      <a:pt x="6" y="13"/>
                    </a:lnTo>
                    <a:lnTo>
                      <a:pt x="24" y="3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8e6d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2176"/>
              <p:cNvSpPr/>
              <p:nvPr/>
            </p:nvSpPr>
            <p:spPr>
              <a:xfrm rot="10800000">
                <a:off x="2144160" y="527364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2" y="0"/>
                    </a:moveTo>
                    <a:lnTo>
                      <a:pt x="0" y="1"/>
                    </a:lnTo>
                    <a:lnTo>
                      <a:pt x="6" y="5"/>
                    </a:lnTo>
                    <a:lnTo>
                      <a:pt x="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2177"/>
              <p:cNvSpPr/>
              <p:nvPr/>
            </p:nvSpPr>
            <p:spPr>
              <a:xfrm rot="10800000">
                <a:off x="2153520" y="527616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2178"/>
              <p:cNvSpPr/>
              <p:nvPr/>
            </p:nvSpPr>
            <p:spPr>
              <a:xfrm rot="10800000">
                <a:off x="2139840" y="527148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6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2179"/>
              <p:cNvSpPr/>
              <p:nvPr/>
            </p:nvSpPr>
            <p:spPr>
              <a:xfrm rot="10800000">
                <a:off x="2130480" y="5268960"/>
                <a:ext cx="11520" cy="468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6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5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4747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2180"/>
              <p:cNvSpPr/>
              <p:nvPr/>
            </p:nvSpPr>
            <p:spPr>
              <a:xfrm rot="10800000">
                <a:off x="2125440" y="5264640"/>
                <a:ext cx="11880" cy="68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5"/>
                    </a:moveTo>
                    <a:lnTo>
                      <a:pt x="6" y="7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271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2181"/>
              <p:cNvSpPr/>
              <p:nvPr/>
            </p:nvSpPr>
            <p:spPr>
              <a:xfrm rot="10800000">
                <a:off x="2111760" y="525744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2182"/>
              <p:cNvSpPr/>
              <p:nvPr/>
            </p:nvSpPr>
            <p:spPr>
              <a:xfrm rot="10800000">
                <a:off x="2116440" y="525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8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7" y="3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8b6a7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2183"/>
              <p:cNvSpPr/>
              <p:nvPr/>
            </p:nvSpPr>
            <p:spPr>
              <a:xfrm rot="10800000">
                <a:off x="2118960" y="5262120"/>
                <a:ext cx="9360" cy="25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7" y="5"/>
                    </a:moveTo>
                    <a:lnTo>
                      <a:pt x="11" y="4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2184"/>
              <p:cNvSpPr/>
              <p:nvPr/>
            </p:nvSpPr>
            <p:spPr>
              <a:xfrm rot="10800000">
                <a:off x="2121480" y="526212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0"/>
                    </a:moveTo>
                    <a:lnTo>
                      <a:pt x="0" y="5"/>
                    </a:lnTo>
                    <a:lnTo>
                      <a:pt x="9" y="8"/>
                    </a:lnTo>
                    <a:lnTo>
                      <a:pt x="1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2185"/>
              <p:cNvSpPr/>
              <p:nvPr/>
            </p:nvSpPr>
            <p:spPr>
              <a:xfrm rot="10800000">
                <a:off x="2118960" y="5266800"/>
                <a:ext cx="1152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5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8" y="9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95757f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2186"/>
              <p:cNvSpPr/>
              <p:nvPr/>
            </p:nvSpPr>
            <p:spPr>
              <a:xfrm rot="10800000">
                <a:off x="2123280" y="5269320"/>
                <a:ext cx="16200" cy="72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2" y="9"/>
                    </a:moveTo>
                    <a:lnTo>
                      <a:pt x="19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99798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2187"/>
              <p:cNvSpPr/>
              <p:nvPr/>
            </p:nvSpPr>
            <p:spPr>
              <a:xfrm rot="10800000">
                <a:off x="2151000" y="528084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8" y="11"/>
                    </a:lnTo>
                    <a:lnTo>
                      <a:pt x="10" y="12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9f808a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2188"/>
              <p:cNvSpPr/>
              <p:nvPr/>
            </p:nvSpPr>
            <p:spPr>
              <a:xfrm rot="10800000">
                <a:off x="2142000" y="5276160"/>
                <a:ext cx="18720" cy="684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14" y="0"/>
                    </a:moveTo>
                    <a:lnTo>
                      <a:pt x="0" y="7"/>
                    </a:lnTo>
                    <a:lnTo>
                      <a:pt x="14" y="11"/>
                    </a:lnTo>
                    <a:lnTo>
                      <a:pt x="25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9e7f8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2189"/>
              <p:cNvSpPr/>
              <p:nvPr/>
            </p:nvSpPr>
            <p:spPr>
              <a:xfrm rot="10800000">
                <a:off x="2132640" y="5273640"/>
                <a:ext cx="16200" cy="68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6"/>
                    </a:moveTo>
                    <a:lnTo>
                      <a:pt x="7" y="7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1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b7b85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2190"/>
              <p:cNvSpPr/>
              <p:nvPr/>
            </p:nvSpPr>
            <p:spPr>
              <a:xfrm rot="10800000">
                <a:off x="2112120" y="526212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4"/>
                    </a:moveTo>
                    <a:lnTo>
                      <a:pt x="9" y="10"/>
                    </a:lnTo>
                    <a:lnTo>
                      <a:pt x="17" y="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3737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2191"/>
              <p:cNvSpPr/>
              <p:nvPr/>
            </p:nvSpPr>
            <p:spPr>
              <a:xfrm rot="10800000">
                <a:off x="2157840" y="5283360"/>
                <a:ext cx="1836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8"/>
                    </a:moveTo>
                    <a:lnTo>
                      <a:pt x="10" y="12"/>
                    </a:lnTo>
                    <a:lnTo>
                      <a:pt x="23" y="3"/>
                    </a:lnTo>
                    <a:lnTo>
                      <a:pt x="1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183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2192"/>
              <p:cNvSpPr/>
              <p:nvPr/>
            </p:nvSpPr>
            <p:spPr>
              <a:xfrm rot="10800000">
                <a:off x="2165040" y="528552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4"/>
                    </a:moveTo>
                    <a:lnTo>
                      <a:pt x="26" y="3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12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a3848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2193"/>
              <p:cNvSpPr/>
              <p:nvPr/>
            </p:nvSpPr>
            <p:spPr>
              <a:xfrm rot="10800000">
                <a:off x="2098440" y="52556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0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17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f6f7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2194"/>
              <p:cNvSpPr/>
              <p:nvPr/>
            </p:nvSpPr>
            <p:spPr>
              <a:xfrm rot="10800000">
                <a:off x="2105280" y="526032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8" y="11"/>
                    </a:moveTo>
                    <a:lnTo>
                      <a:pt x="18" y="6"/>
                    </a:lnTo>
                    <a:lnTo>
                      <a:pt x="8" y="0"/>
                    </a:lnTo>
                    <a:lnTo>
                      <a:pt x="0" y="5"/>
                    </a:lnTo>
                    <a:lnTo>
                      <a:pt x="6" y="10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92717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2195"/>
              <p:cNvSpPr/>
              <p:nvPr/>
            </p:nvSpPr>
            <p:spPr>
              <a:xfrm rot="10800000">
                <a:off x="2085840" y="5246280"/>
                <a:ext cx="14040" cy="720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5"/>
                    </a:moveTo>
                    <a:lnTo>
                      <a:pt x="8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2196"/>
              <p:cNvSpPr/>
              <p:nvPr/>
            </p:nvSpPr>
            <p:spPr>
              <a:xfrm rot="10800000">
                <a:off x="2093760" y="5250960"/>
                <a:ext cx="13680" cy="9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9" y="11"/>
                    </a:moveTo>
                    <a:lnTo>
                      <a:pt x="18" y="6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2197"/>
              <p:cNvSpPr/>
              <p:nvPr/>
            </p:nvSpPr>
            <p:spPr>
              <a:xfrm rot="10800000">
                <a:off x="2070360" y="5239080"/>
                <a:ext cx="1368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5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0" y="9"/>
                    </a:lnTo>
                    <a:lnTo>
                      <a:pt x="13" y="9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2198"/>
              <p:cNvSpPr/>
              <p:nvPr/>
            </p:nvSpPr>
            <p:spPr>
              <a:xfrm rot="10800000">
                <a:off x="2079000" y="5241600"/>
                <a:ext cx="14040" cy="68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1" y="9"/>
                    </a:move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88677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2199"/>
              <p:cNvSpPr/>
              <p:nvPr/>
            </p:nvSpPr>
            <p:spPr>
              <a:xfrm rot="10800000">
                <a:off x="2065680" y="5241600"/>
                <a:ext cx="8640" cy="396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6" y="0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84626d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2200"/>
              <p:cNvSpPr/>
              <p:nvPr/>
            </p:nvSpPr>
            <p:spPr>
              <a:xfrm rot="10800000">
                <a:off x="2109600" y="5255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2201"/>
              <p:cNvSpPr/>
              <p:nvPr/>
            </p:nvSpPr>
            <p:spPr>
              <a:xfrm rot="10800000">
                <a:off x="2009520" y="5130360"/>
                <a:ext cx="113400" cy="85680"/>
              </a:xfrm>
              <a:custGeom>
                <a:avLst/>
                <a:gdLst/>
                <a:ahLst/>
                <a:rect l="l" t="t" r="r" b="b"/>
                <a:pathLst>
                  <a:path w="145" h="111">
                    <a:moveTo>
                      <a:pt x="101" y="6"/>
                    </a:moveTo>
                    <a:lnTo>
                      <a:pt x="106" y="1"/>
                    </a:lnTo>
                    <a:lnTo>
                      <a:pt x="105" y="0"/>
                    </a:lnTo>
                    <a:lnTo>
                      <a:pt x="86" y="2"/>
                    </a:lnTo>
                    <a:lnTo>
                      <a:pt x="46" y="23"/>
                    </a:lnTo>
                    <a:lnTo>
                      <a:pt x="30" y="37"/>
                    </a:lnTo>
                    <a:lnTo>
                      <a:pt x="20" y="52"/>
                    </a:lnTo>
                    <a:lnTo>
                      <a:pt x="11" y="69"/>
                    </a:lnTo>
                    <a:lnTo>
                      <a:pt x="5" y="88"/>
                    </a:lnTo>
                    <a:lnTo>
                      <a:pt x="0" y="111"/>
                    </a:lnTo>
                    <a:lnTo>
                      <a:pt x="14" y="103"/>
                    </a:lnTo>
                    <a:lnTo>
                      <a:pt x="56" y="79"/>
                    </a:lnTo>
                    <a:lnTo>
                      <a:pt x="77" y="66"/>
                    </a:lnTo>
                    <a:lnTo>
                      <a:pt x="98" y="57"/>
                    </a:lnTo>
                    <a:lnTo>
                      <a:pt x="126" y="39"/>
                    </a:lnTo>
                    <a:lnTo>
                      <a:pt x="145" y="20"/>
                    </a:lnTo>
                    <a:lnTo>
                      <a:pt x="108" y="15"/>
                    </a:lnTo>
                    <a:lnTo>
                      <a:pt x="104" y="9"/>
                    </a:lnTo>
                    <a:lnTo>
                      <a:pt x="101" y="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2202"/>
              <p:cNvSpPr/>
              <p:nvPr/>
            </p:nvSpPr>
            <p:spPr>
              <a:xfrm rot="10800000">
                <a:off x="2037600" y="5213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2203"/>
              <p:cNvSpPr/>
              <p:nvPr/>
            </p:nvSpPr>
            <p:spPr>
              <a:xfrm rot="10800000">
                <a:off x="1891080" y="5343840"/>
                <a:ext cx="29880" cy="2736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6" y="0"/>
                    </a:moveTo>
                    <a:lnTo>
                      <a:pt x="0" y="8"/>
                    </a:lnTo>
                    <a:lnTo>
                      <a:pt x="39" y="36"/>
                    </a:lnTo>
                    <a:lnTo>
                      <a:pt x="41" y="2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68891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2204"/>
              <p:cNvSpPr/>
              <p:nvPr/>
            </p:nvSpPr>
            <p:spPr>
              <a:xfrm rot="10800000">
                <a:off x="1891080" y="5350320"/>
                <a:ext cx="25560" cy="62280"/>
              </a:xfrm>
              <a:custGeom>
                <a:avLst/>
                <a:gdLst/>
                <a:ahLst/>
                <a:rect l="l" t="t" r="r" b="b"/>
                <a:pathLst>
                  <a:path w="35" h="82">
                    <a:moveTo>
                      <a:pt x="3" y="15"/>
                    </a:moveTo>
                    <a:lnTo>
                      <a:pt x="3" y="51"/>
                    </a:lnTo>
                    <a:lnTo>
                      <a:pt x="0" y="57"/>
                    </a:lnTo>
                    <a:lnTo>
                      <a:pt x="35" y="82"/>
                    </a:lnTo>
                    <a:lnTo>
                      <a:pt x="35" y="81"/>
                    </a:lnTo>
                    <a:lnTo>
                      <a:pt x="32" y="59"/>
                    </a:lnTo>
                    <a:lnTo>
                      <a:pt x="28" y="39"/>
                    </a:lnTo>
                    <a:lnTo>
                      <a:pt x="21" y="20"/>
                    </a:lnTo>
                    <a:lnTo>
                      <a:pt x="13" y="0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a98b9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2205"/>
              <p:cNvSpPr/>
              <p:nvPr/>
            </p:nvSpPr>
            <p:spPr>
              <a:xfrm rot="10800000">
                <a:off x="1891440" y="5334120"/>
                <a:ext cx="34560" cy="2988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3" y="38"/>
                    </a:moveTo>
                    <a:lnTo>
                      <a:pt x="45" y="28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43" y="38"/>
                    </a:lnTo>
                    <a:close/>
                  </a:path>
                </a:pathLst>
              </a:custGeom>
              <a:solidFill>
                <a:srgbClr val="a4858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2206"/>
              <p:cNvSpPr/>
              <p:nvPr/>
            </p:nvSpPr>
            <p:spPr>
              <a:xfrm rot="10800000">
                <a:off x="1905480" y="5299560"/>
                <a:ext cx="50760" cy="4140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3" y="48"/>
                    </a:moveTo>
                    <a:lnTo>
                      <a:pt x="66" y="4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61" y="53"/>
                    </a:lnTo>
                    <a:lnTo>
                      <a:pt x="63" y="48"/>
                    </a:lnTo>
                    <a:close/>
                  </a:path>
                </a:pathLst>
              </a:custGeom>
              <a:solidFill>
                <a:srgbClr val="987982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2207"/>
              <p:cNvSpPr/>
              <p:nvPr/>
            </p:nvSpPr>
            <p:spPr>
              <a:xfrm rot="10800000">
                <a:off x="1902600" y="5304240"/>
                <a:ext cx="50760" cy="39240"/>
              </a:xfrm>
              <a:custGeom>
                <a:avLst/>
                <a:gdLst/>
                <a:ahLst/>
                <a:rect l="l" t="t" r="r" b="b"/>
                <a:pathLst>
                  <a:path w="65" h="50">
                    <a:moveTo>
                      <a:pt x="62" y="50"/>
                    </a:moveTo>
                    <a:lnTo>
                      <a:pt x="65" y="41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62" y="50"/>
                    </a:lnTo>
                    <a:close/>
                    <a:moveTo>
                      <a:pt x="11" y="6"/>
                    </a:moveTo>
                    <a:lnTo>
                      <a:pt x="11" y="8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9a7b84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2208"/>
              <p:cNvSpPr/>
              <p:nvPr/>
            </p:nvSpPr>
            <p:spPr>
              <a:xfrm rot="10800000">
                <a:off x="1895760" y="5320440"/>
                <a:ext cx="39240" cy="3240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49" y="42"/>
                    </a:moveTo>
                    <a:lnTo>
                      <a:pt x="52" y="33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9" y="42"/>
                    </a:lnTo>
                    <a:close/>
                  </a:path>
                </a:pathLst>
              </a:custGeom>
              <a:solidFill>
                <a:srgbClr val="9f8089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2209"/>
              <p:cNvSpPr/>
              <p:nvPr/>
            </p:nvSpPr>
            <p:spPr>
              <a:xfrm rot="10800000">
                <a:off x="1901160" y="5311440"/>
                <a:ext cx="46080" cy="34560"/>
              </a:xfrm>
              <a:custGeom>
                <a:avLst/>
                <a:gdLst/>
                <a:ahLst/>
                <a:rect l="l" t="t" r="r" b="b"/>
                <a:pathLst>
                  <a:path w="59" h="45">
                    <a:moveTo>
                      <a:pt x="55" y="45"/>
                    </a:moveTo>
                    <a:lnTo>
                      <a:pt x="59" y="3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9c7d8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2210"/>
              <p:cNvSpPr/>
              <p:nvPr/>
            </p:nvSpPr>
            <p:spPr>
              <a:xfrm rot="10800000">
                <a:off x="1896120" y="532728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46" y="42"/>
                    </a:moveTo>
                    <a:lnTo>
                      <a:pt x="49" y="31"/>
                    </a:lnTo>
                    <a:lnTo>
                      <a:pt x="6" y="0"/>
                    </a:lnTo>
                    <a:lnTo>
                      <a:pt x="0" y="9"/>
                    </a:lnTo>
                    <a:lnTo>
                      <a:pt x="46" y="42"/>
                    </a:lnTo>
                    <a:close/>
                  </a:path>
                </a:pathLst>
              </a:custGeom>
              <a:solidFill>
                <a:srgbClr val="a1828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2211"/>
              <p:cNvSpPr/>
              <p:nvPr/>
            </p:nvSpPr>
            <p:spPr>
              <a:xfrm rot="10800000">
                <a:off x="1909440" y="5293080"/>
                <a:ext cx="50760" cy="3888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4" y="0"/>
                    </a:moveTo>
                    <a:lnTo>
                      <a:pt x="1" y="2"/>
                    </a:lnTo>
                    <a:lnTo>
                      <a:pt x="0" y="8"/>
                    </a:lnTo>
                    <a:lnTo>
                      <a:pt x="60" y="51"/>
                    </a:lnTo>
                    <a:lnTo>
                      <a:pt x="65" y="4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76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2212"/>
              <p:cNvSpPr/>
              <p:nvPr/>
            </p:nvSpPr>
            <p:spPr>
              <a:xfrm rot="10800000">
                <a:off x="1919520" y="5278680"/>
                <a:ext cx="43920" cy="324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" y="0"/>
                    </a:moveTo>
                    <a:lnTo>
                      <a:pt x="0" y="9"/>
                    </a:lnTo>
                    <a:lnTo>
                      <a:pt x="44" y="41"/>
                    </a:lnTo>
                    <a:lnTo>
                      <a:pt x="48" y="39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e6e78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2213"/>
              <p:cNvSpPr/>
              <p:nvPr/>
            </p:nvSpPr>
            <p:spPr>
              <a:xfrm rot="10800000">
                <a:off x="1928880" y="5276160"/>
                <a:ext cx="34560" cy="2772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" y="0"/>
                    </a:moveTo>
                    <a:lnTo>
                      <a:pt x="0" y="10"/>
                    </a:lnTo>
                    <a:lnTo>
                      <a:pt x="34" y="35"/>
                    </a:lnTo>
                    <a:lnTo>
                      <a:pt x="46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d6c77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2214"/>
              <p:cNvSpPr/>
              <p:nvPr/>
            </p:nvSpPr>
            <p:spPr>
              <a:xfrm rot="10800000">
                <a:off x="1912680" y="5280840"/>
                <a:ext cx="48240" cy="439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3" y="11"/>
                    </a:moveTo>
                    <a:lnTo>
                      <a:pt x="0" y="22"/>
                    </a:lnTo>
                    <a:lnTo>
                      <a:pt x="53" y="59"/>
                    </a:lnTo>
                    <a:lnTo>
                      <a:pt x="59" y="51"/>
                    </a:lnTo>
                    <a:lnTo>
                      <a:pt x="64" y="43"/>
                    </a:lnTo>
                    <a:lnTo>
                      <a:pt x="4" y="0"/>
                    </a:lnTo>
                    <a:lnTo>
                      <a:pt x="3" y="7"/>
                    </a:lnTo>
                    <a:lnTo>
                      <a:pt x="3" y="11"/>
                    </a:lnTo>
                    <a:lnTo>
                      <a:pt x="58" y="5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91707b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2215"/>
              <p:cNvSpPr/>
              <p:nvPr/>
            </p:nvSpPr>
            <p:spPr>
              <a:xfrm rot="10800000">
                <a:off x="1937880" y="5274000"/>
                <a:ext cx="30240" cy="2304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9" y="30"/>
                    </a:moveTo>
                    <a:lnTo>
                      <a:pt x="38" y="2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8a6873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2216"/>
              <p:cNvSpPr/>
              <p:nvPr/>
            </p:nvSpPr>
            <p:spPr>
              <a:xfrm rot="10800000">
                <a:off x="1945080" y="526932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" y="2"/>
                    </a:moveTo>
                    <a:lnTo>
                      <a:pt x="0" y="9"/>
                    </a:lnTo>
                    <a:lnTo>
                      <a:pt x="23" y="26"/>
                    </a:lnTo>
                    <a:lnTo>
                      <a:pt x="33" y="2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7657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2217"/>
              <p:cNvSpPr/>
              <p:nvPr/>
            </p:nvSpPr>
            <p:spPr>
              <a:xfrm rot="10800000">
                <a:off x="1960560" y="5250960"/>
                <a:ext cx="27720" cy="23040"/>
              </a:xfrm>
              <a:custGeom>
                <a:avLst/>
                <a:gdLst/>
                <a:ahLst/>
                <a:rect l="l" t="t" r="r" b="b"/>
                <a:pathLst>
                  <a:path w="37" h="32">
                    <a:moveTo>
                      <a:pt x="33" y="16"/>
                    </a:moveTo>
                    <a:lnTo>
                      <a:pt x="37" y="14"/>
                    </a:lnTo>
                    <a:lnTo>
                      <a:pt x="17" y="0"/>
                    </a:lnTo>
                    <a:lnTo>
                      <a:pt x="0" y="32"/>
                    </a:lnTo>
                    <a:lnTo>
                      <a:pt x="21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3" y="16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2218"/>
              <p:cNvSpPr/>
              <p:nvPr/>
            </p:nvSpPr>
            <p:spPr>
              <a:xfrm rot="10800000">
                <a:off x="1951560" y="5262120"/>
                <a:ext cx="20520" cy="1620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0" y="23"/>
                    </a:moveTo>
                    <a:lnTo>
                      <a:pt x="27" y="17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85636e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2219"/>
              <p:cNvSpPr/>
              <p:nvPr/>
            </p:nvSpPr>
            <p:spPr>
              <a:xfrm rot="10800000">
                <a:off x="1991160" y="490284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57" y="4"/>
                    </a:moveTo>
                    <a:lnTo>
                      <a:pt x="23" y="0"/>
                    </a:lnTo>
                    <a:lnTo>
                      <a:pt x="16" y="1"/>
                    </a:lnTo>
                    <a:lnTo>
                      <a:pt x="0" y="8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83616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0" name="Oval 2220"/>
          <p:cNvSpPr/>
          <p:nvPr/>
        </p:nvSpPr>
        <p:spPr>
          <a:xfrm>
            <a:off x="2403360" y="4734000"/>
            <a:ext cx="360360" cy="16488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Oval 2221"/>
          <p:cNvSpPr/>
          <p:nvPr/>
        </p:nvSpPr>
        <p:spPr>
          <a:xfrm>
            <a:off x="1547640" y="4811760"/>
            <a:ext cx="360360" cy="164880"/>
          </a:xfrm>
          <a:prstGeom prst="ellipse">
            <a:avLst/>
          </a:prstGeom>
          <a:solidFill>
            <a:srgbClr val="0066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2" name="Group 2824"/>
          <p:cNvGrpSpPr/>
          <p:nvPr/>
        </p:nvGrpSpPr>
        <p:grpSpPr>
          <a:xfrm>
            <a:off x="6509520" y="1978200"/>
            <a:ext cx="906120" cy="572760"/>
            <a:chOff x="6509520" y="1978200"/>
            <a:chExt cx="906120" cy="572760"/>
          </a:xfrm>
        </p:grpSpPr>
        <p:sp>
          <p:nvSpPr>
            <p:cNvPr id="2203" name="Freeform 2825"/>
            <p:cNvSpPr/>
            <p:nvPr/>
          </p:nvSpPr>
          <p:spPr>
            <a:xfrm flipH="1" rot="21128400">
              <a:off x="6524280" y="2064240"/>
              <a:ext cx="435240" cy="249840"/>
            </a:xfrm>
            <a:custGeom>
              <a:avLst/>
              <a:gdLst/>
              <a:ahLst/>
              <a:rect l="l" t="t" r="r" b="b"/>
              <a:pathLst>
                <a:path w="822" h="471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15" y="78"/>
                  </a:lnTo>
                  <a:lnTo>
                    <a:pt x="18" y="93"/>
                  </a:lnTo>
                  <a:lnTo>
                    <a:pt x="21" y="108"/>
                  </a:lnTo>
                  <a:lnTo>
                    <a:pt x="99" y="471"/>
                  </a:lnTo>
                  <a:lnTo>
                    <a:pt x="675" y="444"/>
                  </a:lnTo>
                  <a:lnTo>
                    <a:pt x="822" y="24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2826"/>
            <p:cNvSpPr/>
            <p:nvPr/>
          </p:nvSpPr>
          <p:spPr>
            <a:xfrm flipH="1" rot="21128400">
              <a:off x="6958440" y="2006280"/>
              <a:ext cx="436680" cy="323280"/>
            </a:xfrm>
            <a:custGeom>
              <a:avLst/>
              <a:gdLst/>
              <a:ahLst/>
              <a:rect l="l" t="t" r="r" b="b"/>
              <a:pathLst>
                <a:path w="825" h="612">
                  <a:moveTo>
                    <a:pt x="825" y="9"/>
                  </a:moveTo>
                  <a:lnTo>
                    <a:pt x="822" y="0"/>
                  </a:lnTo>
                  <a:lnTo>
                    <a:pt x="3" y="441"/>
                  </a:lnTo>
                  <a:lnTo>
                    <a:pt x="0" y="450"/>
                  </a:lnTo>
                  <a:lnTo>
                    <a:pt x="135" y="612"/>
                  </a:lnTo>
                  <a:lnTo>
                    <a:pt x="723" y="492"/>
                  </a:lnTo>
                  <a:lnTo>
                    <a:pt x="723" y="480"/>
                  </a:lnTo>
                  <a:lnTo>
                    <a:pt x="723" y="471"/>
                  </a:lnTo>
                  <a:lnTo>
                    <a:pt x="729" y="447"/>
                  </a:lnTo>
                  <a:lnTo>
                    <a:pt x="729" y="444"/>
                  </a:lnTo>
                  <a:lnTo>
                    <a:pt x="732" y="432"/>
                  </a:lnTo>
                  <a:lnTo>
                    <a:pt x="732" y="429"/>
                  </a:lnTo>
                  <a:lnTo>
                    <a:pt x="735" y="420"/>
                  </a:lnTo>
                  <a:lnTo>
                    <a:pt x="735" y="417"/>
                  </a:lnTo>
                  <a:lnTo>
                    <a:pt x="738" y="405"/>
                  </a:lnTo>
                  <a:lnTo>
                    <a:pt x="738" y="402"/>
                  </a:lnTo>
                  <a:lnTo>
                    <a:pt x="741" y="393"/>
                  </a:lnTo>
                  <a:lnTo>
                    <a:pt x="741" y="387"/>
                  </a:lnTo>
                  <a:lnTo>
                    <a:pt x="744" y="381"/>
                  </a:lnTo>
                  <a:lnTo>
                    <a:pt x="744" y="375"/>
                  </a:lnTo>
                  <a:lnTo>
                    <a:pt x="747" y="366"/>
                  </a:lnTo>
                  <a:lnTo>
                    <a:pt x="747" y="360"/>
                  </a:lnTo>
                  <a:lnTo>
                    <a:pt x="750" y="354"/>
                  </a:lnTo>
                  <a:lnTo>
                    <a:pt x="822" y="24"/>
                  </a:lnTo>
                  <a:lnTo>
                    <a:pt x="82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2827"/>
            <p:cNvSpPr/>
            <p:nvPr/>
          </p:nvSpPr>
          <p:spPr>
            <a:xfrm flipH="1" rot="21128400">
              <a:off x="6936480" y="2077560"/>
              <a:ext cx="3240" cy="79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2828"/>
            <p:cNvSpPr/>
            <p:nvPr/>
          </p:nvSpPr>
          <p:spPr>
            <a:xfrm flipH="1" rot="21128400">
              <a:off x="6938640" y="2046600"/>
              <a:ext cx="88920" cy="480960"/>
            </a:xfrm>
            <a:custGeom>
              <a:avLst/>
              <a:gdLst/>
              <a:ahLst/>
              <a:rect l="l" t="t" r="r" b="b"/>
              <a:pathLst>
                <a:path w="168" h="909">
                  <a:moveTo>
                    <a:pt x="108" y="21"/>
                  </a:moveTo>
                  <a:lnTo>
                    <a:pt x="108" y="12"/>
                  </a:lnTo>
                  <a:lnTo>
                    <a:pt x="99" y="0"/>
                  </a:lnTo>
                  <a:lnTo>
                    <a:pt x="27" y="330"/>
                  </a:lnTo>
                  <a:lnTo>
                    <a:pt x="24" y="336"/>
                  </a:lnTo>
                  <a:lnTo>
                    <a:pt x="24" y="342"/>
                  </a:lnTo>
                  <a:lnTo>
                    <a:pt x="21" y="351"/>
                  </a:lnTo>
                  <a:lnTo>
                    <a:pt x="21" y="357"/>
                  </a:lnTo>
                  <a:lnTo>
                    <a:pt x="18" y="363"/>
                  </a:lnTo>
                  <a:lnTo>
                    <a:pt x="18" y="369"/>
                  </a:lnTo>
                  <a:lnTo>
                    <a:pt x="15" y="378"/>
                  </a:lnTo>
                  <a:lnTo>
                    <a:pt x="15" y="381"/>
                  </a:lnTo>
                  <a:lnTo>
                    <a:pt x="12" y="393"/>
                  </a:lnTo>
                  <a:lnTo>
                    <a:pt x="12" y="396"/>
                  </a:lnTo>
                  <a:lnTo>
                    <a:pt x="9" y="405"/>
                  </a:lnTo>
                  <a:lnTo>
                    <a:pt x="9" y="408"/>
                  </a:lnTo>
                  <a:lnTo>
                    <a:pt x="6" y="420"/>
                  </a:lnTo>
                  <a:lnTo>
                    <a:pt x="6" y="423"/>
                  </a:lnTo>
                  <a:lnTo>
                    <a:pt x="0" y="447"/>
                  </a:lnTo>
                  <a:lnTo>
                    <a:pt x="0" y="456"/>
                  </a:lnTo>
                  <a:lnTo>
                    <a:pt x="111" y="771"/>
                  </a:lnTo>
                  <a:lnTo>
                    <a:pt x="111" y="774"/>
                  </a:lnTo>
                  <a:lnTo>
                    <a:pt x="114" y="780"/>
                  </a:lnTo>
                  <a:lnTo>
                    <a:pt x="114" y="783"/>
                  </a:lnTo>
                  <a:lnTo>
                    <a:pt x="117" y="789"/>
                  </a:lnTo>
                  <a:lnTo>
                    <a:pt x="117" y="792"/>
                  </a:lnTo>
                  <a:lnTo>
                    <a:pt x="120" y="798"/>
                  </a:lnTo>
                  <a:lnTo>
                    <a:pt x="120" y="801"/>
                  </a:lnTo>
                  <a:lnTo>
                    <a:pt x="123" y="807"/>
                  </a:lnTo>
                  <a:lnTo>
                    <a:pt x="123" y="810"/>
                  </a:lnTo>
                  <a:lnTo>
                    <a:pt x="126" y="816"/>
                  </a:lnTo>
                  <a:lnTo>
                    <a:pt x="126" y="819"/>
                  </a:lnTo>
                  <a:lnTo>
                    <a:pt x="129" y="825"/>
                  </a:lnTo>
                  <a:lnTo>
                    <a:pt x="129" y="828"/>
                  </a:lnTo>
                  <a:lnTo>
                    <a:pt x="132" y="834"/>
                  </a:lnTo>
                  <a:lnTo>
                    <a:pt x="132" y="837"/>
                  </a:lnTo>
                  <a:lnTo>
                    <a:pt x="135" y="840"/>
                  </a:lnTo>
                  <a:lnTo>
                    <a:pt x="135" y="846"/>
                  </a:lnTo>
                  <a:lnTo>
                    <a:pt x="138" y="849"/>
                  </a:lnTo>
                  <a:lnTo>
                    <a:pt x="138" y="855"/>
                  </a:lnTo>
                  <a:lnTo>
                    <a:pt x="141" y="858"/>
                  </a:lnTo>
                  <a:lnTo>
                    <a:pt x="141" y="864"/>
                  </a:lnTo>
                  <a:lnTo>
                    <a:pt x="144" y="867"/>
                  </a:lnTo>
                  <a:lnTo>
                    <a:pt x="144" y="873"/>
                  </a:lnTo>
                  <a:lnTo>
                    <a:pt x="147" y="876"/>
                  </a:lnTo>
                  <a:lnTo>
                    <a:pt x="147" y="882"/>
                  </a:lnTo>
                  <a:lnTo>
                    <a:pt x="150" y="885"/>
                  </a:lnTo>
                  <a:lnTo>
                    <a:pt x="150" y="891"/>
                  </a:lnTo>
                  <a:lnTo>
                    <a:pt x="165" y="909"/>
                  </a:lnTo>
                  <a:lnTo>
                    <a:pt x="168" y="909"/>
                  </a:lnTo>
                  <a:lnTo>
                    <a:pt x="129" y="300"/>
                  </a:lnTo>
                  <a:lnTo>
                    <a:pt x="126" y="291"/>
                  </a:lnTo>
                  <a:lnTo>
                    <a:pt x="126" y="261"/>
                  </a:lnTo>
                  <a:lnTo>
                    <a:pt x="123" y="246"/>
                  </a:lnTo>
                  <a:lnTo>
                    <a:pt x="123" y="219"/>
                  </a:lnTo>
                  <a:lnTo>
                    <a:pt x="120" y="201"/>
                  </a:lnTo>
                  <a:lnTo>
                    <a:pt x="120" y="177"/>
                  </a:lnTo>
                  <a:lnTo>
                    <a:pt x="117" y="156"/>
                  </a:lnTo>
                  <a:lnTo>
                    <a:pt x="114" y="93"/>
                  </a:lnTo>
                  <a:lnTo>
                    <a:pt x="111" y="66"/>
                  </a:lnTo>
                  <a:lnTo>
                    <a:pt x="111" y="5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2829"/>
            <p:cNvSpPr/>
            <p:nvPr/>
          </p:nvSpPr>
          <p:spPr>
            <a:xfrm flipH="1" rot="21128400">
              <a:off x="6921720" y="2094840"/>
              <a:ext cx="49320" cy="446040"/>
            </a:xfrm>
            <a:custGeom>
              <a:avLst/>
              <a:gdLst/>
              <a:ahLst/>
              <a:rect l="l" t="t" r="r" b="b"/>
              <a:pathLst>
                <a:path w="93" h="843">
                  <a:moveTo>
                    <a:pt x="6" y="0"/>
                  </a:moveTo>
                  <a:lnTo>
                    <a:pt x="0" y="12"/>
                  </a:lnTo>
                  <a:lnTo>
                    <a:pt x="3" y="75"/>
                  </a:lnTo>
                  <a:lnTo>
                    <a:pt x="6" y="96"/>
                  </a:lnTo>
                  <a:lnTo>
                    <a:pt x="6" y="120"/>
                  </a:lnTo>
                  <a:lnTo>
                    <a:pt x="9" y="138"/>
                  </a:lnTo>
                  <a:lnTo>
                    <a:pt x="9" y="165"/>
                  </a:lnTo>
                  <a:lnTo>
                    <a:pt x="12" y="180"/>
                  </a:lnTo>
                  <a:lnTo>
                    <a:pt x="12" y="210"/>
                  </a:lnTo>
                  <a:lnTo>
                    <a:pt x="15" y="219"/>
                  </a:lnTo>
                  <a:lnTo>
                    <a:pt x="54" y="828"/>
                  </a:lnTo>
                  <a:lnTo>
                    <a:pt x="57" y="843"/>
                  </a:lnTo>
                  <a:lnTo>
                    <a:pt x="93" y="369"/>
                  </a:lnTo>
                  <a:lnTo>
                    <a:pt x="84" y="36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2830"/>
            <p:cNvSpPr/>
            <p:nvPr/>
          </p:nvSpPr>
          <p:spPr>
            <a:xfrm flipH="1" rot="21128400">
              <a:off x="6930360" y="2291400"/>
              <a:ext cx="25560" cy="258840"/>
            </a:xfrm>
            <a:custGeom>
              <a:avLst/>
              <a:gdLst/>
              <a:ahLst/>
              <a:rect l="l" t="t" r="r" b="b"/>
              <a:pathLst>
                <a:path w="48" h="489">
                  <a:moveTo>
                    <a:pt x="48" y="0"/>
                  </a:moveTo>
                  <a:lnTo>
                    <a:pt x="36" y="0"/>
                  </a:lnTo>
                  <a:lnTo>
                    <a:pt x="0" y="474"/>
                  </a:lnTo>
                  <a:lnTo>
                    <a:pt x="3" y="489"/>
                  </a:lnTo>
                  <a:lnTo>
                    <a:pt x="12" y="48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2831"/>
            <p:cNvSpPr/>
            <p:nvPr/>
          </p:nvSpPr>
          <p:spPr>
            <a:xfrm flipH="1" rot="21128400">
              <a:off x="6618600" y="2296440"/>
              <a:ext cx="304920" cy="17280"/>
            </a:xfrm>
            <a:custGeom>
              <a:avLst/>
              <a:gdLst/>
              <a:ahLst/>
              <a:rect l="l" t="t" r="r" b="b"/>
              <a:pathLst>
                <a:path w="576" h="33">
                  <a:moveTo>
                    <a:pt x="9" y="33"/>
                  </a:moveTo>
                  <a:lnTo>
                    <a:pt x="21" y="33"/>
                  </a:lnTo>
                  <a:lnTo>
                    <a:pt x="576" y="6"/>
                  </a:lnTo>
                  <a:lnTo>
                    <a:pt x="576" y="0"/>
                  </a:lnTo>
                  <a:lnTo>
                    <a:pt x="0" y="27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2832"/>
            <p:cNvSpPr/>
            <p:nvPr/>
          </p:nvSpPr>
          <p:spPr>
            <a:xfrm flipH="1" rot="21128400">
              <a:off x="6979680" y="2284560"/>
              <a:ext cx="58320" cy="166680"/>
            </a:xfrm>
            <a:custGeom>
              <a:avLst/>
              <a:gdLst/>
              <a:ahLst/>
              <a:rect l="l" t="t" r="r" b="b"/>
              <a:pathLst>
                <a:path w="111" h="315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99" y="300"/>
                  </a:lnTo>
                  <a:lnTo>
                    <a:pt x="111" y="3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2833"/>
            <p:cNvSpPr/>
            <p:nvPr/>
          </p:nvSpPr>
          <p:spPr>
            <a:xfrm flipH="1" rot="21128400">
              <a:off x="7029360" y="2266560"/>
              <a:ext cx="312480" cy="66600"/>
            </a:xfrm>
            <a:custGeom>
              <a:avLst/>
              <a:gdLst/>
              <a:ahLst/>
              <a:rect l="l" t="t" r="r" b="b"/>
              <a:pathLst>
                <a:path w="591" h="126">
                  <a:moveTo>
                    <a:pt x="591" y="6"/>
                  </a:moveTo>
                  <a:lnTo>
                    <a:pt x="588" y="0"/>
                  </a:lnTo>
                  <a:lnTo>
                    <a:pt x="0" y="120"/>
                  </a:lnTo>
                  <a:lnTo>
                    <a:pt x="15" y="126"/>
                  </a:lnTo>
                  <a:lnTo>
                    <a:pt x="59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2834"/>
            <p:cNvSpPr/>
            <p:nvPr/>
          </p:nvSpPr>
          <p:spPr>
            <a:xfrm flipH="1" rot="21128400">
              <a:off x="6973200" y="2521440"/>
              <a:ext cx="7920" cy="1584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30"/>
                  </a:moveTo>
                  <a:lnTo>
                    <a:pt x="15" y="18"/>
                  </a:lnTo>
                  <a:lnTo>
                    <a:pt x="0" y="0"/>
                  </a:lnTo>
                  <a:lnTo>
                    <a:pt x="12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2835"/>
            <p:cNvSpPr/>
            <p:nvPr/>
          </p:nvSpPr>
          <p:spPr>
            <a:xfrm flipH="1" rot="21128400">
              <a:off x="6530760" y="2215440"/>
              <a:ext cx="80640" cy="111240"/>
            </a:xfrm>
            <a:custGeom>
              <a:avLst/>
              <a:gdLst/>
              <a:ahLst/>
              <a:rect l="l" t="t" r="r" b="b"/>
              <a:pathLst>
                <a:path w="153" h="210">
                  <a:moveTo>
                    <a:pt x="153" y="6"/>
                  </a:moveTo>
                  <a:lnTo>
                    <a:pt x="147" y="0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4" name="Group 2836"/>
          <p:cNvGrpSpPr/>
          <p:nvPr/>
        </p:nvGrpSpPr>
        <p:grpSpPr>
          <a:xfrm>
            <a:off x="6617880" y="2062080"/>
            <a:ext cx="863640" cy="482760"/>
            <a:chOff x="6617880" y="2062080"/>
            <a:chExt cx="863640" cy="482760"/>
          </a:xfrm>
        </p:grpSpPr>
        <p:sp>
          <p:nvSpPr>
            <p:cNvPr id="2215" name="Freeform 2837"/>
            <p:cNvSpPr/>
            <p:nvPr/>
          </p:nvSpPr>
          <p:spPr>
            <a:xfrm flipH="1">
              <a:off x="6960960" y="2282760"/>
              <a:ext cx="23760" cy="262080"/>
            </a:xfrm>
            <a:custGeom>
              <a:avLst/>
              <a:gdLst/>
              <a:ahLst/>
              <a:rect l="l" t="t" r="r" b="b"/>
              <a:pathLst>
                <a:path w="45" h="495">
                  <a:moveTo>
                    <a:pt x="45" y="0"/>
                  </a:moveTo>
                  <a:lnTo>
                    <a:pt x="33" y="0"/>
                  </a:lnTo>
                  <a:lnTo>
                    <a:pt x="0" y="480"/>
                  </a:lnTo>
                  <a:lnTo>
                    <a:pt x="3" y="495"/>
                  </a:lnTo>
                  <a:lnTo>
                    <a:pt x="12" y="495"/>
                  </a:lnTo>
                  <a:lnTo>
                    <a:pt x="15" y="48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2838"/>
            <p:cNvSpPr/>
            <p:nvPr/>
          </p:nvSpPr>
          <p:spPr>
            <a:xfrm flipH="1">
              <a:off x="6660360" y="2255760"/>
              <a:ext cx="312840" cy="27000"/>
            </a:xfrm>
            <a:custGeom>
              <a:avLst/>
              <a:gdLst/>
              <a:ahLst/>
              <a:rect l="l" t="t" r="r" b="b"/>
              <a:pathLst>
                <a:path w="591" h="51">
                  <a:moveTo>
                    <a:pt x="12" y="51"/>
                  </a:moveTo>
                  <a:lnTo>
                    <a:pt x="24" y="51"/>
                  </a:lnTo>
                  <a:lnTo>
                    <a:pt x="558" y="9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0" y="45"/>
                  </a:lnTo>
                  <a:lnTo>
                    <a:pt x="12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2839"/>
            <p:cNvSpPr/>
            <p:nvPr/>
          </p:nvSpPr>
          <p:spPr>
            <a:xfrm flipH="1">
              <a:off x="6967080" y="2074680"/>
              <a:ext cx="138240" cy="462240"/>
            </a:xfrm>
            <a:custGeom>
              <a:avLst/>
              <a:gdLst/>
              <a:ahLst/>
              <a:rect l="l" t="t" r="r" b="b"/>
              <a:pathLst>
                <a:path w="261" h="873">
                  <a:moveTo>
                    <a:pt x="261" y="393"/>
                  </a:moveTo>
                  <a:lnTo>
                    <a:pt x="249" y="387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78" y="306"/>
                  </a:lnTo>
                  <a:lnTo>
                    <a:pt x="78" y="309"/>
                  </a:lnTo>
                  <a:lnTo>
                    <a:pt x="87" y="339"/>
                  </a:lnTo>
                  <a:lnTo>
                    <a:pt x="87" y="342"/>
                  </a:lnTo>
                  <a:lnTo>
                    <a:pt x="90" y="351"/>
                  </a:lnTo>
                  <a:lnTo>
                    <a:pt x="90" y="354"/>
                  </a:lnTo>
                  <a:lnTo>
                    <a:pt x="213" y="828"/>
                  </a:lnTo>
                  <a:lnTo>
                    <a:pt x="225" y="873"/>
                  </a:lnTo>
                  <a:lnTo>
                    <a:pt x="228" y="873"/>
                  </a:lnTo>
                  <a:lnTo>
                    <a:pt x="261" y="39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2840"/>
            <p:cNvSpPr/>
            <p:nvPr/>
          </p:nvSpPr>
          <p:spPr>
            <a:xfrm flipH="1">
              <a:off x="7076880" y="2062080"/>
              <a:ext cx="404640" cy="304920"/>
            </a:xfrm>
            <a:custGeom>
              <a:avLst/>
              <a:gdLst/>
              <a:ahLst/>
              <a:rect l="l" t="t" r="r" b="b"/>
              <a:pathLst>
                <a:path w="765" h="576">
                  <a:moveTo>
                    <a:pt x="702" y="9"/>
                  </a:moveTo>
                  <a:lnTo>
                    <a:pt x="702" y="6"/>
                  </a:lnTo>
                  <a:lnTo>
                    <a:pt x="702" y="0"/>
                  </a:lnTo>
                  <a:lnTo>
                    <a:pt x="27" y="414"/>
                  </a:lnTo>
                  <a:lnTo>
                    <a:pt x="0" y="438"/>
                  </a:lnTo>
                  <a:lnTo>
                    <a:pt x="12" y="444"/>
                  </a:lnTo>
                  <a:lnTo>
                    <a:pt x="12" y="447"/>
                  </a:lnTo>
                  <a:lnTo>
                    <a:pt x="21" y="450"/>
                  </a:lnTo>
                  <a:lnTo>
                    <a:pt x="21" y="453"/>
                  </a:lnTo>
                  <a:lnTo>
                    <a:pt x="30" y="456"/>
                  </a:lnTo>
                  <a:lnTo>
                    <a:pt x="30" y="459"/>
                  </a:lnTo>
                  <a:lnTo>
                    <a:pt x="42" y="465"/>
                  </a:lnTo>
                  <a:lnTo>
                    <a:pt x="42" y="468"/>
                  </a:lnTo>
                  <a:lnTo>
                    <a:pt x="51" y="471"/>
                  </a:lnTo>
                  <a:lnTo>
                    <a:pt x="51" y="474"/>
                  </a:lnTo>
                  <a:lnTo>
                    <a:pt x="63" y="480"/>
                  </a:lnTo>
                  <a:lnTo>
                    <a:pt x="63" y="483"/>
                  </a:lnTo>
                  <a:lnTo>
                    <a:pt x="72" y="486"/>
                  </a:lnTo>
                  <a:lnTo>
                    <a:pt x="72" y="489"/>
                  </a:lnTo>
                  <a:lnTo>
                    <a:pt x="93" y="501"/>
                  </a:lnTo>
                  <a:lnTo>
                    <a:pt x="93" y="504"/>
                  </a:lnTo>
                  <a:lnTo>
                    <a:pt x="114" y="516"/>
                  </a:lnTo>
                  <a:lnTo>
                    <a:pt x="114" y="519"/>
                  </a:lnTo>
                  <a:lnTo>
                    <a:pt x="123" y="522"/>
                  </a:lnTo>
                  <a:lnTo>
                    <a:pt x="123" y="525"/>
                  </a:lnTo>
                  <a:lnTo>
                    <a:pt x="135" y="531"/>
                  </a:lnTo>
                  <a:lnTo>
                    <a:pt x="135" y="534"/>
                  </a:lnTo>
                  <a:lnTo>
                    <a:pt x="144" y="537"/>
                  </a:lnTo>
                  <a:lnTo>
                    <a:pt x="144" y="540"/>
                  </a:lnTo>
                  <a:lnTo>
                    <a:pt x="165" y="552"/>
                  </a:lnTo>
                  <a:lnTo>
                    <a:pt x="165" y="555"/>
                  </a:lnTo>
                  <a:lnTo>
                    <a:pt x="186" y="567"/>
                  </a:lnTo>
                  <a:lnTo>
                    <a:pt x="186" y="570"/>
                  </a:lnTo>
                  <a:lnTo>
                    <a:pt x="195" y="573"/>
                  </a:lnTo>
                  <a:lnTo>
                    <a:pt x="198" y="576"/>
                  </a:lnTo>
                  <a:lnTo>
                    <a:pt x="765" y="441"/>
                  </a:lnTo>
                  <a:lnTo>
                    <a:pt x="765" y="429"/>
                  </a:lnTo>
                  <a:lnTo>
                    <a:pt x="765" y="420"/>
                  </a:lnTo>
                  <a:lnTo>
                    <a:pt x="762" y="411"/>
                  </a:lnTo>
                  <a:lnTo>
                    <a:pt x="762" y="402"/>
                  </a:lnTo>
                  <a:lnTo>
                    <a:pt x="759" y="393"/>
                  </a:lnTo>
                  <a:lnTo>
                    <a:pt x="759" y="387"/>
                  </a:lnTo>
                  <a:lnTo>
                    <a:pt x="756" y="375"/>
                  </a:lnTo>
                  <a:lnTo>
                    <a:pt x="756" y="369"/>
                  </a:lnTo>
                  <a:lnTo>
                    <a:pt x="753" y="357"/>
                  </a:lnTo>
                  <a:lnTo>
                    <a:pt x="753" y="351"/>
                  </a:lnTo>
                  <a:lnTo>
                    <a:pt x="750" y="342"/>
                  </a:lnTo>
                  <a:lnTo>
                    <a:pt x="750" y="333"/>
                  </a:lnTo>
                  <a:lnTo>
                    <a:pt x="744" y="324"/>
                  </a:lnTo>
                  <a:lnTo>
                    <a:pt x="750" y="324"/>
                  </a:lnTo>
                  <a:lnTo>
                    <a:pt x="717" y="96"/>
                  </a:lnTo>
                  <a:lnTo>
                    <a:pt x="717" y="93"/>
                  </a:lnTo>
                  <a:lnTo>
                    <a:pt x="714" y="84"/>
                  </a:lnTo>
                  <a:lnTo>
                    <a:pt x="705" y="15"/>
                  </a:lnTo>
                  <a:lnTo>
                    <a:pt x="705" y="12"/>
                  </a:lnTo>
                  <a:lnTo>
                    <a:pt x="70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2841"/>
            <p:cNvSpPr/>
            <p:nvPr/>
          </p:nvSpPr>
          <p:spPr>
            <a:xfrm flipH="1">
              <a:off x="7098480" y="2065320"/>
              <a:ext cx="11160" cy="158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0"/>
                  </a:moveTo>
                  <a:lnTo>
                    <a:pt x="0" y="3"/>
                  </a:lnTo>
                  <a:lnTo>
                    <a:pt x="3" y="6"/>
                  </a:lnTo>
                  <a:lnTo>
                    <a:pt x="3" y="9"/>
                  </a:lnTo>
                  <a:lnTo>
                    <a:pt x="9" y="18"/>
                  </a:lnTo>
                  <a:lnTo>
                    <a:pt x="2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2842"/>
            <p:cNvSpPr/>
            <p:nvPr/>
          </p:nvSpPr>
          <p:spPr>
            <a:xfrm flipH="1">
              <a:off x="6617520" y="2062080"/>
              <a:ext cx="492120" cy="217440"/>
            </a:xfrm>
            <a:custGeom>
              <a:avLst/>
              <a:gdLst/>
              <a:ahLst/>
              <a:rect l="l" t="t" r="r" b="b"/>
              <a:pathLst>
                <a:path w="930" h="411">
                  <a:moveTo>
                    <a:pt x="0" y="0"/>
                  </a:moveTo>
                  <a:lnTo>
                    <a:pt x="0" y="6"/>
                  </a:lnTo>
                  <a:lnTo>
                    <a:pt x="21" y="36"/>
                  </a:lnTo>
                  <a:lnTo>
                    <a:pt x="258" y="411"/>
                  </a:lnTo>
                  <a:lnTo>
                    <a:pt x="843" y="366"/>
                  </a:lnTo>
                  <a:lnTo>
                    <a:pt x="849" y="363"/>
                  </a:lnTo>
                  <a:lnTo>
                    <a:pt x="852" y="360"/>
                  </a:lnTo>
                  <a:lnTo>
                    <a:pt x="858" y="345"/>
                  </a:lnTo>
                  <a:lnTo>
                    <a:pt x="861" y="339"/>
                  </a:lnTo>
                  <a:lnTo>
                    <a:pt x="888" y="276"/>
                  </a:lnTo>
                  <a:lnTo>
                    <a:pt x="891" y="270"/>
                  </a:lnTo>
                  <a:lnTo>
                    <a:pt x="903" y="243"/>
                  </a:lnTo>
                  <a:lnTo>
                    <a:pt x="906" y="234"/>
                  </a:lnTo>
                  <a:lnTo>
                    <a:pt x="927" y="186"/>
                  </a:lnTo>
                  <a:lnTo>
                    <a:pt x="930" y="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2843"/>
            <p:cNvSpPr/>
            <p:nvPr/>
          </p:nvSpPr>
          <p:spPr>
            <a:xfrm flipH="1">
              <a:off x="6992640" y="2112840"/>
              <a:ext cx="109440" cy="399960"/>
            </a:xfrm>
            <a:custGeom>
              <a:avLst/>
              <a:gdLst/>
              <a:ahLst/>
              <a:rect l="l" t="t" r="r" b="b"/>
              <a:pathLst>
                <a:path w="207" h="756">
                  <a:moveTo>
                    <a:pt x="36" y="255"/>
                  </a:moveTo>
                  <a:lnTo>
                    <a:pt x="36" y="261"/>
                  </a:lnTo>
                  <a:lnTo>
                    <a:pt x="39" y="273"/>
                  </a:lnTo>
                  <a:lnTo>
                    <a:pt x="39" y="279"/>
                  </a:lnTo>
                  <a:lnTo>
                    <a:pt x="42" y="291"/>
                  </a:lnTo>
                  <a:lnTo>
                    <a:pt x="42" y="297"/>
                  </a:lnTo>
                  <a:lnTo>
                    <a:pt x="45" y="306"/>
                  </a:lnTo>
                  <a:lnTo>
                    <a:pt x="45" y="315"/>
                  </a:lnTo>
                  <a:lnTo>
                    <a:pt x="48" y="324"/>
                  </a:lnTo>
                  <a:lnTo>
                    <a:pt x="48" y="333"/>
                  </a:lnTo>
                  <a:lnTo>
                    <a:pt x="156" y="630"/>
                  </a:lnTo>
                  <a:lnTo>
                    <a:pt x="156" y="633"/>
                  </a:lnTo>
                  <a:lnTo>
                    <a:pt x="159" y="639"/>
                  </a:lnTo>
                  <a:lnTo>
                    <a:pt x="159" y="642"/>
                  </a:lnTo>
                  <a:lnTo>
                    <a:pt x="162" y="648"/>
                  </a:lnTo>
                  <a:lnTo>
                    <a:pt x="162" y="651"/>
                  </a:lnTo>
                  <a:lnTo>
                    <a:pt x="168" y="663"/>
                  </a:lnTo>
                  <a:lnTo>
                    <a:pt x="168" y="666"/>
                  </a:lnTo>
                  <a:lnTo>
                    <a:pt x="171" y="672"/>
                  </a:lnTo>
                  <a:lnTo>
                    <a:pt x="171" y="675"/>
                  </a:lnTo>
                  <a:lnTo>
                    <a:pt x="174" y="681"/>
                  </a:lnTo>
                  <a:lnTo>
                    <a:pt x="174" y="684"/>
                  </a:lnTo>
                  <a:lnTo>
                    <a:pt x="177" y="690"/>
                  </a:lnTo>
                  <a:lnTo>
                    <a:pt x="177" y="693"/>
                  </a:lnTo>
                  <a:lnTo>
                    <a:pt x="180" y="699"/>
                  </a:lnTo>
                  <a:lnTo>
                    <a:pt x="180" y="702"/>
                  </a:lnTo>
                  <a:lnTo>
                    <a:pt x="183" y="705"/>
                  </a:lnTo>
                  <a:lnTo>
                    <a:pt x="183" y="711"/>
                  </a:lnTo>
                  <a:lnTo>
                    <a:pt x="186" y="714"/>
                  </a:lnTo>
                  <a:lnTo>
                    <a:pt x="186" y="720"/>
                  </a:lnTo>
                  <a:lnTo>
                    <a:pt x="189" y="723"/>
                  </a:lnTo>
                  <a:lnTo>
                    <a:pt x="189" y="729"/>
                  </a:lnTo>
                  <a:lnTo>
                    <a:pt x="192" y="732"/>
                  </a:lnTo>
                  <a:lnTo>
                    <a:pt x="192" y="738"/>
                  </a:lnTo>
                  <a:lnTo>
                    <a:pt x="207" y="756"/>
                  </a:lnTo>
                  <a:lnTo>
                    <a:pt x="84" y="282"/>
                  </a:lnTo>
                  <a:lnTo>
                    <a:pt x="84" y="279"/>
                  </a:lnTo>
                  <a:lnTo>
                    <a:pt x="81" y="270"/>
                  </a:lnTo>
                  <a:lnTo>
                    <a:pt x="81" y="267"/>
                  </a:lnTo>
                  <a:lnTo>
                    <a:pt x="72" y="237"/>
                  </a:lnTo>
                  <a:lnTo>
                    <a:pt x="72" y="234"/>
                  </a:lnTo>
                  <a:lnTo>
                    <a:pt x="0" y="0"/>
                  </a:lnTo>
                  <a:lnTo>
                    <a:pt x="33" y="228"/>
                  </a:lnTo>
                  <a:lnTo>
                    <a:pt x="33" y="237"/>
                  </a:lnTo>
                  <a:lnTo>
                    <a:pt x="33" y="246"/>
                  </a:lnTo>
                  <a:lnTo>
                    <a:pt x="36" y="2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2844"/>
            <p:cNvSpPr/>
            <p:nvPr/>
          </p:nvSpPr>
          <p:spPr>
            <a:xfrm flipH="1">
              <a:off x="7084440" y="2233440"/>
              <a:ext cx="3240" cy="5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9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2845"/>
            <p:cNvSpPr/>
            <p:nvPr/>
          </p:nvSpPr>
          <p:spPr>
            <a:xfrm flipH="1">
              <a:off x="7075080" y="2295360"/>
              <a:ext cx="301680" cy="74880"/>
            </a:xfrm>
            <a:custGeom>
              <a:avLst/>
              <a:gdLst/>
              <a:ahLst/>
              <a:rect l="l" t="t" r="r" b="b"/>
              <a:pathLst>
                <a:path w="570" h="141">
                  <a:moveTo>
                    <a:pt x="570" y="9"/>
                  </a:moveTo>
                  <a:lnTo>
                    <a:pt x="567" y="0"/>
                  </a:lnTo>
                  <a:lnTo>
                    <a:pt x="0" y="135"/>
                  </a:lnTo>
                  <a:lnTo>
                    <a:pt x="15" y="141"/>
                  </a:lnTo>
                  <a:lnTo>
                    <a:pt x="57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846"/>
            <p:cNvSpPr/>
            <p:nvPr/>
          </p:nvSpPr>
          <p:spPr>
            <a:xfrm flipH="1">
              <a:off x="7019280" y="2289240"/>
              <a:ext cx="57240" cy="156960"/>
            </a:xfrm>
            <a:custGeom>
              <a:avLst/>
              <a:gdLst/>
              <a:ahLst/>
              <a:rect l="l" t="t" r="r" b="b"/>
              <a:pathLst>
                <a:path w="108" h="297">
                  <a:moveTo>
                    <a:pt x="0" y="12"/>
                  </a:moveTo>
                  <a:lnTo>
                    <a:pt x="3" y="21"/>
                  </a:lnTo>
                  <a:lnTo>
                    <a:pt x="99" y="291"/>
                  </a:lnTo>
                  <a:lnTo>
                    <a:pt x="108" y="297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847"/>
            <p:cNvSpPr/>
            <p:nvPr/>
          </p:nvSpPr>
          <p:spPr>
            <a:xfrm flipH="1">
              <a:off x="6986160" y="2503440"/>
              <a:ext cx="14400" cy="334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15" y="18"/>
                  </a:moveTo>
                  <a:lnTo>
                    <a:pt x="0" y="0"/>
                  </a:lnTo>
                  <a:lnTo>
                    <a:pt x="12" y="45"/>
                  </a:lnTo>
                  <a:lnTo>
                    <a:pt x="27" y="63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848"/>
            <p:cNvSpPr/>
            <p:nvPr/>
          </p:nvSpPr>
          <p:spPr>
            <a:xfrm flipH="1">
              <a:off x="6660360" y="225432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2849"/>
          <p:cNvGrpSpPr/>
          <p:nvPr/>
        </p:nvGrpSpPr>
        <p:grpSpPr>
          <a:xfrm>
            <a:off x="6686640" y="2084400"/>
            <a:ext cx="846000" cy="450720"/>
            <a:chOff x="6686640" y="2084400"/>
            <a:chExt cx="846000" cy="450720"/>
          </a:xfrm>
        </p:grpSpPr>
        <p:sp>
          <p:nvSpPr>
            <p:cNvPr id="2228" name="Freeform 2850"/>
            <p:cNvSpPr/>
            <p:nvPr/>
          </p:nvSpPr>
          <p:spPr>
            <a:xfrm flipH="1">
              <a:off x="6686640" y="2084400"/>
              <a:ext cx="541440" cy="185760"/>
            </a:xfrm>
            <a:custGeom>
              <a:avLst/>
              <a:gdLst/>
              <a:ahLst/>
              <a:rect l="l" t="t" r="r" b="b"/>
              <a:pathLst>
                <a:path w="1023" h="351">
                  <a:moveTo>
                    <a:pt x="342" y="294"/>
                  </a:moveTo>
                  <a:lnTo>
                    <a:pt x="351" y="297"/>
                  </a:lnTo>
                  <a:lnTo>
                    <a:pt x="360" y="309"/>
                  </a:lnTo>
                  <a:lnTo>
                    <a:pt x="369" y="312"/>
                  </a:lnTo>
                  <a:lnTo>
                    <a:pt x="381" y="327"/>
                  </a:lnTo>
                  <a:lnTo>
                    <a:pt x="390" y="330"/>
                  </a:lnTo>
                  <a:lnTo>
                    <a:pt x="399" y="342"/>
                  </a:lnTo>
                  <a:lnTo>
                    <a:pt x="408" y="345"/>
                  </a:lnTo>
                  <a:lnTo>
                    <a:pt x="414" y="351"/>
                  </a:lnTo>
                  <a:lnTo>
                    <a:pt x="1005" y="282"/>
                  </a:lnTo>
                  <a:lnTo>
                    <a:pt x="1023" y="111"/>
                  </a:lnTo>
                  <a:lnTo>
                    <a:pt x="0" y="0"/>
                  </a:lnTo>
                  <a:lnTo>
                    <a:pt x="15" y="18"/>
                  </a:lnTo>
                  <a:lnTo>
                    <a:pt x="24" y="24"/>
                  </a:lnTo>
                  <a:lnTo>
                    <a:pt x="54" y="51"/>
                  </a:lnTo>
                  <a:lnTo>
                    <a:pt x="63" y="54"/>
                  </a:lnTo>
                  <a:lnTo>
                    <a:pt x="93" y="84"/>
                  </a:lnTo>
                  <a:lnTo>
                    <a:pt x="102" y="87"/>
                  </a:lnTo>
                  <a:lnTo>
                    <a:pt x="150" y="132"/>
                  </a:lnTo>
                  <a:lnTo>
                    <a:pt x="159" y="135"/>
                  </a:lnTo>
                  <a:lnTo>
                    <a:pt x="189" y="165"/>
                  </a:lnTo>
                  <a:lnTo>
                    <a:pt x="198" y="168"/>
                  </a:lnTo>
                  <a:lnTo>
                    <a:pt x="207" y="180"/>
                  </a:lnTo>
                  <a:lnTo>
                    <a:pt x="216" y="183"/>
                  </a:lnTo>
                  <a:lnTo>
                    <a:pt x="246" y="213"/>
                  </a:lnTo>
                  <a:lnTo>
                    <a:pt x="255" y="216"/>
                  </a:lnTo>
                  <a:lnTo>
                    <a:pt x="264" y="228"/>
                  </a:lnTo>
                  <a:lnTo>
                    <a:pt x="273" y="231"/>
                  </a:lnTo>
                  <a:lnTo>
                    <a:pt x="285" y="246"/>
                  </a:lnTo>
                  <a:lnTo>
                    <a:pt x="294" y="249"/>
                  </a:lnTo>
                  <a:lnTo>
                    <a:pt x="303" y="261"/>
                  </a:lnTo>
                  <a:lnTo>
                    <a:pt x="312" y="264"/>
                  </a:lnTo>
                  <a:lnTo>
                    <a:pt x="321" y="276"/>
                  </a:lnTo>
                  <a:lnTo>
                    <a:pt x="330" y="279"/>
                  </a:lnTo>
                  <a:lnTo>
                    <a:pt x="342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51"/>
            <p:cNvSpPr/>
            <p:nvPr/>
          </p:nvSpPr>
          <p:spPr>
            <a:xfrm flipH="1">
              <a:off x="7000920" y="2097000"/>
              <a:ext cx="217440" cy="425520"/>
            </a:xfrm>
            <a:custGeom>
              <a:avLst/>
              <a:gdLst/>
              <a:ahLst/>
              <a:rect l="l" t="t" r="r" b="b"/>
              <a:pathLst>
                <a:path w="411" h="804">
                  <a:moveTo>
                    <a:pt x="333" y="273"/>
                  </a:moveTo>
                  <a:lnTo>
                    <a:pt x="324" y="270"/>
                  </a:lnTo>
                  <a:lnTo>
                    <a:pt x="312" y="255"/>
                  </a:lnTo>
                  <a:lnTo>
                    <a:pt x="303" y="252"/>
                  </a:lnTo>
                  <a:lnTo>
                    <a:pt x="294" y="240"/>
                  </a:lnTo>
                  <a:lnTo>
                    <a:pt x="285" y="237"/>
                  </a:lnTo>
                  <a:lnTo>
                    <a:pt x="276" y="225"/>
                  </a:lnTo>
                  <a:lnTo>
                    <a:pt x="267" y="222"/>
                  </a:lnTo>
                  <a:lnTo>
                    <a:pt x="255" y="207"/>
                  </a:lnTo>
                  <a:lnTo>
                    <a:pt x="246" y="204"/>
                  </a:lnTo>
                  <a:lnTo>
                    <a:pt x="237" y="192"/>
                  </a:lnTo>
                  <a:lnTo>
                    <a:pt x="228" y="189"/>
                  </a:lnTo>
                  <a:lnTo>
                    <a:pt x="198" y="159"/>
                  </a:lnTo>
                  <a:lnTo>
                    <a:pt x="189" y="156"/>
                  </a:lnTo>
                  <a:lnTo>
                    <a:pt x="180" y="144"/>
                  </a:lnTo>
                  <a:lnTo>
                    <a:pt x="171" y="141"/>
                  </a:lnTo>
                  <a:lnTo>
                    <a:pt x="141" y="111"/>
                  </a:lnTo>
                  <a:lnTo>
                    <a:pt x="132" y="108"/>
                  </a:lnTo>
                  <a:lnTo>
                    <a:pt x="84" y="63"/>
                  </a:lnTo>
                  <a:lnTo>
                    <a:pt x="75" y="60"/>
                  </a:lnTo>
                  <a:lnTo>
                    <a:pt x="45" y="30"/>
                  </a:lnTo>
                  <a:lnTo>
                    <a:pt x="36" y="27"/>
                  </a:lnTo>
                  <a:lnTo>
                    <a:pt x="6" y="0"/>
                  </a:lnTo>
                  <a:lnTo>
                    <a:pt x="0" y="0"/>
                  </a:lnTo>
                  <a:lnTo>
                    <a:pt x="147" y="255"/>
                  </a:lnTo>
                  <a:lnTo>
                    <a:pt x="213" y="351"/>
                  </a:lnTo>
                  <a:lnTo>
                    <a:pt x="384" y="804"/>
                  </a:lnTo>
                  <a:lnTo>
                    <a:pt x="411" y="333"/>
                  </a:lnTo>
                  <a:lnTo>
                    <a:pt x="396" y="327"/>
                  </a:lnTo>
                  <a:lnTo>
                    <a:pt x="390" y="321"/>
                  </a:lnTo>
                  <a:lnTo>
                    <a:pt x="381" y="318"/>
                  </a:lnTo>
                  <a:lnTo>
                    <a:pt x="372" y="306"/>
                  </a:lnTo>
                  <a:lnTo>
                    <a:pt x="363" y="303"/>
                  </a:lnTo>
                  <a:lnTo>
                    <a:pt x="351" y="288"/>
                  </a:lnTo>
                  <a:lnTo>
                    <a:pt x="342" y="285"/>
                  </a:lnTo>
                  <a:lnTo>
                    <a:pt x="333" y="27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852"/>
            <p:cNvSpPr/>
            <p:nvPr/>
          </p:nvSpPr>
          <p:spPr>
            <a:xfrm flipH="1">
              <a:off x="6695640" y="2233440"/>
              <a:ext cx="312840" cy="39600"/>
            </a:xfrm>
            <a:custGeom>
              <a:avLst/>
              <a:gdLst/>
              <a:ahLst/>
              <a:rect l="l" t="t" r="r" b="b"/>
              <a:pathLst>
                <a:path w="591" h="75">
                  <a:moveTo>
                    <a:pt x="0" y="69"/>
                  </a:moveTo>
                  <a:lnTo>
                    <a:pt x="15" y="75"/>
                  </a:lnTo>
                  <a:lnTo>
                    <a:pt x="24" y="75"/>
                  </a:lnTo>
                  <a:lnTo>
                    <a:pt x="582" y="9"/>
                  </a:lnTo>
                  <a:lnTo>
                    <a:pt x="591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2853"/>
            <p:cNvSpPr/>
            <p:nvPr/>
          </p:nvSpPr>
          <p:spPr>
            <a:xfrm flipH="1">
              <a:off x="6995880" y="2273040"/>
              <a:ext cx="19080" cy="262080"/>
            </a:xfrm>
            <a:custGeom>
              <a:avLst/>
              <a:gdLst/>
              <a:ahLst/>
              <a:rect l="l" t="t" r="r" b="b"/>
              <a:pathLst>
                <a:path w="36" h="495">
                  <a:moveTo>
                    <a:pt x="36" y="0"/>
                  </a:moveTo>
                  <a:lnTo>
                    <a:pt x="27" y="0"/>
                  </a:lnTo>
                  <a:lnTo>
                    <a:pt x="0" y="471"/>
                  </a:lnTo>
                  <a:lnTo>
                    <a:pt x="0" y="480"/>
                  </a:lnTo>
                  <a:lnTo>
                    <a:pt x="3" y="495"/>
                  </a:lnTo>
                  <a:lnTo>
                    <a:pt x="12" y="49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2854"/>
            <p:cNvSpPr/>
            <p:nvPr/>
          </p:nvSpPr>
          <p:spPr>
            <a:xfrm flipH="1">
              <a:off x="7215120" y="2093760"/>
              <a:ext cx="504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9" y="6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2855"/>
            <p:cNvSpPr/>
            <p:nvPr/>
          </p:nvSpPr>
          <p:spPr>
            <a:xfrm flipH="1">
              <a:off x="7108560" y="2084400"/>
              <a:ext cx="422280" cy="280800"/>
            </a:xfrm>
            <a:custGeom>
              <a:avLst/>
              <a:gdLst/>
              <a:ahLst/>
              <a:rect l="l" t="t" r="r" b="b"/>
              <a:pathLst>
                <a:path w="798" h="531">
                  <a:moveTo>
                    <a:pt x="591" y="24"/>
                  </a:moveTo>
                  <a:lnTo>
                    <a:pt x="588" y="18"/>
                  </a:lnTo>
                  <a:lnTo>
                    <a:pt x="573" y="0"/>
                  </a:lnTo>
                  <a:lnTo>
                    <a:pt x="0" y="417"/>
                  </a:lnTo>
                  <a:lnTo>
                    <a:pt x="258" y="531"/>
                  </a:lnTo>
                  <a:lnTo>
                    <a:pt x="798" y="387"/>
                  </a:lnTo>
                  <a:lnTo>
                    <a:pt x="792" y="375"/>
                  </a:lnTo>
                  <a:lnTo>
                    <a:pt x="735" y="291"/>
                  </a:lnTo>
                  <a:lnTo>
                    <a:pt x="738" y="279"/>
                  </a:lnTo>
                  <a:lnTo>
                    <a:pt x="59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2856"/>
            <p:cNvSpPr/>
            <p:nvPr/>
          </p:nvSpPr>
          <p:spPr>
            <a:xfrm flipH="1">
              <a:off x="7014960" y="2282760"/>
              <a:ext cx="96840" cy="244440"/>
            </a:xfrm>
            <a:custGeom>
              <a:avLst/>
              <a:gdLst/>
              <a:ahLst/>
              <a:rect l="l" t="t" r="r" b="b"/>
              <a:pathLst>
                <a:path w="183" h="462">
                  <a:moveTo>
                    <a:pt x="0" y="0"/>
                  </a:moveTo>
                  <a:lnTo>
                    <a:pt x="6" y="12"/>
                  </a:lnTo>
                  <a:lnTo>
                    <a:pt x="9" y="18"/>
                  </a:lnTo>
                  <a:lnTo>
                    <a:pt x="150" y="411"/>
                  </a:lnTo>
                  <a:lnTo>
                    <a:pt x="171" y="462"/>
                  </a:lnTo>
                  <a:lnTo>
                    <a:pt x="183" y="462"/>
                  </a:lnTo>
                  <a:lnTo>
                    <a:pt x="183" y="45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2857"/>
            <p:cNvSpPr/>
            <p:nvPr/>
          </p:nvSpPr>
          <p:spPr>
            <a:xfrm flipH="1">
              <a:off x="7105320" y="2232000"/>
              <a:ext cx="36360" cy="5076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57" y="96"/>
                  </a:moveTo>
                  <a:lnTo>
                    <a:pt x="69" y="96"/>
                  </a:lnTo>
                  <a:lnTo>
                    <a:pt x="3" y="0"/>
                  </a:lnTo>
                  <a:lnTo>
                    <a:pt x="0" y="12"/>
                  </a:lnTo>
                  <a:lnTo>
                    <a:pt x="57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2858"/>
            <p:cNvSpPr/>
            <p:nvPr/>
          </p:nvSpPr>
          <p:spPr>
            <a:xfrm flipH="1">
              <a:off x="7106760" y="2289240"/>
              <a:ext cx="287640" cy="79200"/>
            </a:xfrm>
            <a:custGeom>
              <a:avLst/>
              <a:gdLst/>
              <a:ahLst/>
              <a:rect l="l" t="t" r="r" b="b"/>
              <a:pathLst>
                <a:path w="543" h="150">
                  <a:moveTo>
                    <a:pt x="543" y="6"/>
                  </a:moveTo>
                  <a:lnTo>
                    <a:pt x="540" y="0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492" y="21"/>
                  </a:lnTo>
                  <a:lnTo>
                    <a:pt x="54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859"/>
            <p:cNvSpPr/>
            <p:nvPr/>
          </p:nvSpPr>
          <p:spPr>
            <a:xfrm flipH="1">
              <a:off x="7032600" y="2292120"/>
              <a:ext cx="101520" cy="208080"/>
            </a:xfrm>
            <a:custGeom>
              <a:avLst/>
              <a:gdLst/>
              <a:ahLst/>
              <a:rect l="l" t="t" r="r" b="b"/>
              <a:pathLst>
                <a:path w="192" h="393">
                  <a:moveTo>
                    <a:pt x="51" y="0"/>
                  </a:moveTo>
                  <a:lnTo>
                    <a:pt x="0" y="15"/>
                  </a:lnTo>
                  <a:lnTo>
                    <a:pt x="192" y="39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860"/>
            <p:cNvSpPr/>
            <p:nvPr/>
          </p:nvSpPr>
          <p:spPr>
            <a:xfrm flipH="1">
              <a:off x="7394400" y="2305080"/>
              <a:ext cx="137880" cy="63360"/>
            </a:xfrm>
            <a:custGeom>
              <a:avLst/>
              <a:gdLst/>
              <a:ahLst/>
              <a:rect l="l" t="t" r="r" b="b"/>
              <a:pathLst>
                <a:path w="261" h="120">
                  <a:moveTo>
                    <a:pt x="261" y="114"/>
                  </a:moveTo>
                  <a:lnTo>
                    <a:pt x="3" y="0"/>
                  </a:lnTo>
                  <a:lnTo>
                    <a:pt x="0" y="6"/>
                  </a:lnTo>
                  <a:lnTo>
                    <a:pt x="18" y="15"/>
                  </a:lnTo>
                  <a:lnTo>
                    <a:pt x="261" y="120"/>
                  </a:lnTo>
                  <a:lnTo>
                    <a:pt x="261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2861"/>
          <p:cNvGrpSpPr/>
          <p:nvPr/>
        </p:nvGrpSpPr>
        <p:grpSpPr>
          <a:xfrm>
            <a:off x="6712200" y="2108160"/>
            <a:ext cx="842760" cy="412920"/>
            <a:chOff x="6712200" y="2108160"/>
            <a:chExt cx="842760" cy="412920"/>
          </a:xfrm>
        </p:grpSpPr>
        <p:sp>
          <p:nvSpPr>
            <p:cNvPr id="2240" name="Freeform 2862"/>
            <p:cNvSpPr/>
            <p:nvPr/>
          </p:nvSpPr>
          <p:spPr>
            <a:xfrm flipH="1">
              <a:off x="6712200" y="2211480"/>
              <a:ext cx="312480" cy="50760"/>
            </a:xfrm>
            <a:custGeom>
              <a:avLst/>
              <a:gdLst/>
              <a:ahLst/>
              <a:rect l="l" t="t" r="r" b="b"/>
              <a:pathLst>
                <a:path w="591" h="96">
                  <a:moveTo>
                    <a:pt x="3" y="90"/>
                  </a:moveTo>
                  <a:lnTo>
                    <a:pt x="0" y="93"/>
                  </a:lnTo>
                  <a:lnTo>
                    <a:pt x="15" y="96"/>
                  </a:lnTo>
                  <a:lnTo>
                    <a:pt x="24" y="96"/>
                  </a:lnTo>
                  <a:lnTo>
                    <a:pt x="591" y="9"/>
                  </a:lnTo>
                  <a:lnTo>
                    <a:pt x="585" y="0"/>
                  </a:lnTo>
                  <a:lnTo>
                    <a:pt x="3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863"/>
            <p:cNvSpPr/>
            <p:nvPr/>
          </p:nvSpPr>
          <p:spPr>
            <a:xfrm flipH="1">
              <a:off x="7022880" y="2112840"/>
              <a:ext cx="290520" cy="147600"/>
            </a:xfrm>
            <a:custGeom>
              <a:avLst/>
              <a:gdLst/>
              <a:ahLst/>
              <a:rect l="l" t="t" r="r" b="b"/>
              <a:pathLst>
                <a:path w="549" h="279">
                  <a:moveTo>
                    <a:pt x="546" y="279"/>
                  </a:moveTo>
                  <a:lnTo>
                    <a:pt x="549" y="276"/>
                  </a:lnTo>
                  <a:lnTo>
                    <a:pt x="0" y="0"/>
                  </a:lnTo>
                  <a:lnTo>
                    <a:pt x="18" y="15"/>
                  </a:lnTo>
                  <a:lnTo>
                    <a:pt x="24" y="18"/>
                  </a:lnTo>
                  <a:lnTo>
                    <a:pt x="546" y="2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864"/>
            <p:cNvSpPr/>
            <p:nvPr/>
          </p:nvSpPr>
          <p:spPr>
            <a:xfrm flipH="1">
              <a:off x="7016760" y="2122560"/>
              <a:ext cx="285840" cy="390240"/>
            </a:xfrm>
            <a:custGeom>
              <a:avLst/>
              <a:gdLst/>
              <a:ahLst/>
              <a:rect l="l" t="t" r="r" b="b"/>
              <a:pathLst>
                <a:path w="540" h="738">
                  <a:moveTo>
                    <a:pt x="540" y="264"/>
                  </a:moveTo>
                  <a:lnTo>
                    <a:pt x="525" y="26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40" y="210"/>
                  </a:lnTo>
                  <a:lnTo>
                    <a:pt x="348" y="288"/>
                  </a:lnTo>
                  <a:lnTo>
                    <a:pt x="525" y="738"/>
                  </a:lnTo>
                  <a:lnTo>
                    <a:pt x="540" y="26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2865"/>
            <p:cNvSpPr/>
            <p:nvPr/>
          </p:nvSpPr>
          <p:spPr>
            <a:xfrm flipH="1">
              <a:off x="7012080" y="2262240"/>
              <a:ext cx="14400" cy="258840"/>
            </a:xfrm>
            <a:custGeom>
              <a:avLst/>
              <a:gdLst/>
              <a:ahLst/>
              <a:rect l="l" t="t" r="r" b="b"/>
              <a:pathLst>
                <a:path w="27" h="489">
                  <a:moveTo>
                    <a:pt x="27" y="0"/>
                  </a:moveTo>
                  <a:lnTo>
                    <a:pt x="18" y="0"/>
                  </a:lnTo>
                  <a:lnTo>
                    <a:pt x="3" y="474"/>
                  </a:lnTo>
                  <a:lnTo>
                    <a:pt x="0" y="480"/>
                  </a:lnTo>
                  <a:lnTo>
                    <a:pt x="0" y="489"/>
                  </a:lnTo>
                  <a:lnTo>
                    <a:pt x="15" y="48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2866"/>
            <p:cNvSpPr/>
            <p:nvPr/>
          </p:nvSpPr>
          <p:spPr>
            <a:xfrm flipH="1">
              <a:off x="7121520" y="2108160"/>
              <a:ext cx="433440" cy="254160"/>
            </a:xfrm>
            <a:custGeom>
              <a:avLst/>
              <a:gdLst/>
              <a:ahLst/>
              <a:rect l="l" t="t" r="r" b="b"/>
              <a:pathLst>
                <a:path w="819" h="480">
                  <a:moveTo>
                    <a:pt x="474" y="24"/>
                  </a:moveTo>
                  <a:lnTo>
                    <a:pt x="456" y="9"/>
                  </a:lnTo>
                  <a:lnTo>
                    <a:pt x="447" y="0"/>
                  </a:lnTo>
                  <a:lnTo>
                    <a:pt x="0" y="393"/>
                  </a:lnTo>
                  <a:lnTo>
                    <a:pt x="312" y="480"/>
                  </a:lnTo>
                  <a:lnTo>
                    <a:pt x="819" y="327"/>
                  </a:lnTo>
                  <a:lnTo>
                    <a:pt x="816" y="321"/>
                  </a:lnTo>
                  <a:lnTo>
                    <a:pt x="810" y="315"/>
                  </a:lnTo>
                  <a:lnTo>
                    <a:pt x="801" y="309"/>
                  </a:lnTo>
                  <a:lnTo>
                    <a:pt x="798" y="306"/>
                  </a:lnTo>
                  <a:lnTo>
                    <a:pt x="717" y="237"/>
                  </a:lnTo>
                  <a:lnTo>
                    <a:pt x="477" y="27"/>
                  </a:lnTo>
                  <a:lnTo>
                    <a:pt x="47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2867"/>
            <p:cNvSpPr/>
            <p:nvPr/>
          </p:nvSpPr>
          <p:spPr>
            <a:xfrm flipH="1">
              <a:off x="7300800" y="212076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2868"/>
            <p:cNvSpPr/>
            <p:nvPr/>
          </p:nvSpPr>
          <p:spPr>
            <a:xfrm flipH="1">
              <a:off x="6715080" y="2108160"/>
              <a:ext cx="603000" cy="150840"/>
            </a:xfrm>
            <a:custGeom>
              <a:avLst/>
              <a:gdLst/>
              <a:ahLst/>
              <a:rect l="l" t="t" r="r" b="b"/>
              <a:pathLst>
                <a:path w="1140" h="285">
                  <a:moveTo>
                    <a:pt x="0" y="0"/>
                  </a:moveTo>
                  <a:lnTo>
                    <a:pt x="9" y="9"/>
                  </a:lnTo>
                  <a:lnTo>
                    <a:pt x="558" y="285"/>
                  </a:lnTo>
                  <a:lnTo>
                    <a:pt x="1140" y="195"/>
                  </a:lnTo>
                  <a:lnTo>
                    <a:pt x="1101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2869"/>
            <p:cNvSpPr/>
            <p:nvPr/>
          </p:nvSpPr>
          <p:spPr>
            <a:xfrm flipH="1">
              <a:off x="7118640" y="2233440"/>
              <a:ext cx="56880" cy="42840"/>
            </a:xfrm>
            <a:custGeom>
              <a:avLst/>
              <a:gdLst/>
              <a:ahLst/>
              <a:rect l="l" t="t" r="r" b="b"/>
              <a:pathLst>
                <a:path w="108" h="81">
                  <a:moveTo>
                    <a:pt x="99" y="81"/>
                  </a:moveTo>
                  <a:lnTo>
                    <a:pt x="108" y="78"/>
                  </a:lnTo>
                  <a:lnTo>
                    <a:pt x="0" y="0"/>
                  </a:lnTo>
                  <a:lnTo>
                    <a:pt x="81" y="69"/>
                  </a:lnTo>
                  <a:lnTo>
                    <a:pt x="84" y="72"/>
                  </a:lnTo>
                  <a:lnTo>
                    <a:pt x="93" y="78"/>
                  </a:lnTo>
                  <a:lnTo>
                    <a:pt x="99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2870"/>
            <p:cNvSpPr/>
            <p:nvPr/>
          </p:nvSpPr>
          <p:spPr>
            <a:xfrm flipH="1">
              <a:off x="7024680" y="2274840"/>
              <a:ext cx="98640" cy="241200"/>
            </a:xfrm>
            <a:custGeom>
              <a:avLst/>
              <a:gdLst/>
              <a:ahLst/>
              <a:rect l="l" t="t" r="r" b="b"/>
              <a:pathLst>
                <a:path w="186" h="456">
                  <a:moveTo>
                    <a:pt x="9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168" y="441"/>
                  </a:lnTo>
                  <a:lnTo>
                    <a:pt x="168" y="450"/>
                  </a:lnTo>
                  <a:lnTo>
                    <a:pt x="183" y="456"/>
                  </a:lnTo>
                  <a:lnTo>
                    <a:pt x="186" y="45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2871"/>
            <p:cNvSpPr/>
            <p:nvPr/>
          </p:nvSpPr>
          <p:spPr>
            <a:xfrm flipH="1">
              <a:off x="7120080" y="2281320"/>
              <a:ext cx="270000" cy="83880"/>
            </a:xfrm>
            <a:custGeom>
              <a:avLst/>
              <a:gdLst/>
              <a:ahLst/>
              <a:rect l="l" t="t" r="r" b="b"/>
              <a:pathLst>
                <a:path w="510" h="159">
                  <a:moveTo>
                    <a:pt x="510" y="6"/>
                  </a:moveTo>
                  <a:lnTo>
                    <a:pt x="507" y="0"/>
                  </a:lnTo>
                  <a:lnTo>
                    <a:pt x="0" y="153"/>
                  </a:lnTo>
                  <a:lnTo>
                    <a:pt x="3" y="159"/>
                  </a:lnTo>
                  <a:lnTo>
                    <a:pt x="378" y="48"/>
                  </a:lnTo>
                  <a:lnTo>
                    <a:pt x="5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2872"/>
            <p:cNvSpPr/>
            <p:nvPr/>
          </p:nvSpPr>
          <p:spPr>
            <a:xfrm flipH="1">
              <a:off x="7122960" y="227484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2873"/>
            <p:cNvSpPr/>
            <p:nvPr/>
          </p:nvSpPr>
          <p:spPr>
            <a:xfrm flipH="1">
              <a:off x="7034400" y="2284200"/>
              <a:ext cx="155520" cy="223920"/>
            </a:xfrm>
            <a:custGeom>
              <a:avLst/>
              <a:gdLst/>
              <a:ahLst/>
              <a:rect l="l" t="t" r="r" b="b"/>
              <a:pathLst>
                <a:path w="294" h="423">
                  <a:moveTo>
                    <a:pt x="132" y="0"/>
                  </a:moveTo>
                  <a:lnTo>
                    <a:pt x="0" y="42"/>
                  </a:lnTo>
                  <a:lnTo>
                    <a:pt x="294" y="42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2874"/>
            <p:cNvSpPr/>
            <p:nvPr/>
          </p:nvSpPr>
          <p:spPr>
            <a:xfrm flipH="1">
              <a:off x="7387920" y="2316240"/>
              <a:ext cx="166680" cy="48960"/>
            </a:xfrm>
            <a:custGeom>
              <a:avLst/>
              <a:gdLst/>
              <a:ahLst/>
              <a:rect l="l" t="t" r="r" b="b"/>
              <a:pathLst>
                <a:path w="315" h="93">
                  <a:moveTo>
                    <a:pt x="312" y="87"/>
                  </a:moveTo>
                  <a:lnTo>
                    <a:pt x="0" y="0"/>
                  </a:lnTo>
                  <a:lnTo>
                    <a:pt x="6" y="9"/>
                  </a:lnTo>
                  <a:lnTo>
                    <a:pt x="315" y="93"/>
                  </a:lnTo>
                  <a:lnTo>
                    <a:pt x="312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Group 2875"/>
          <p:cNvGrpSpPr/>
          <p:nvPr/>
        </p:nvGrpSpPr>
        <p:grpSpPr>
          <a:xfrm>
            <a:off x="6796080" y="2135160"/>
            <a:ext cx="838080" cy="384120"/>
            <a:chOff x="6796080" y="2135160"/>
            <a:chExt cx="838080" cy="384120"/>
          </a:xfrm>
        </p:grpSpPr>
        <p:sp>
          <p:nvSpPr>
            <p:cNvPr id="2254" name="Freeform 2876"/>
            <p:cNvSpPr/>
            <p:nvPr/>
          </p:nvSpPr>
          <p:spPr>
            <a:xfrm flipH="1">
              <a:off x="6796080" y="2201760"/>
              <a:ext cx="303120" cy="58680"/>
            </a:xfrm>
            <a:custGeom>
              <a:avLst/>
              <a:gdLst/>
              <a:ahLst/>
              <a:rect l="l" t="t" r="r" b="b"/>
              <a:pathLst>
                <a:path w="573" h="111">
                  <a:moveTo>
                    <a:pt x="0" y="105"/>
                  </a:moveTo>
                  <a:lnTo>
                    <a:pt x="0" y="111"/>
                  </a:lnTo>
                  <a:lnTo>
                    <a:pt x="12" y="111"/>
                  </a:lnTo>
                  <a:lnTo>
                    <a:pt x="18" y="111"/>
                  </a:lnTo>
                  <a:lnTo>
                    <a:pt x="573" y="6"/>
                  </a:lnTo>
                  <a:lnTo>
                    <a:pt x="567" y="0"/>
                  </a:lnTo>
                  <a:lnTo>
                    <a:pt x="558" y="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2877"/>
            <p:cNvSpPr/>
            <p:nvPr/>
          </p:nvSpPr>
          <p:spPr>
            <a:xfrm flipH="1">
              <a:off x="7098840" y="2144520"/>
              <a:ext cx="358920" cy="115920"/>
            </a:xfrm>
            <a:custGeom>
              <a:avLst/>
              <a:gdLst/>
              <a:ahLst/>
              <a:rect l="l" t="t" r="r" b="b"/>
              <a:pathLst>
                <a:path w="678" h="219">
                  <a:moveTo>
                    <a:pt x="678" y="219"/>
                  </a:moveTo>
                  <a:lnTo>
                    <a:pt x="678" y="213"/>
                  </a:lnTo>
                  <a:lnTo>
                    <a:pt x="0" y="0"/>
                  </a:lnTo>
                  <a:lnTo>
                    <a:pt x="18" y="9"/>
                  </a:lnTo>
                  <a:lnTo>
                    <a:pt x="21" y="12"/>
                  </a:lnTo>
                  <a:lnTo>
                    <a:pt x="24" y="12"/>
                  </a:lnTo>
                  <a:lnTo>
                    <a:pt x="27" y="12"/>
                  </a:lnTo>
                  <a:lnTo>
                    <a:pt x="30" y="15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105" y="39"/>
                  </a:lnTo>
                  <a:lnTo>
                    <a:pt x="111" y="39"/>
                  </a:lnTo>
                  <a:lnTo>
                    <a:pt x="114" y="42"/>
                  </a:lnTo>
                  <a:lnTo>
                    <a:pt x="120" y="42"/>
                  </a:lnTo>
                  <a:lnTo>
                    <a:pt x="123" y="45"/>
                  </a:lnTo>
                  <a:lnTo>
                    <a:pt x="129" y="45"/>
                  </a:lnTo>
                  <a:lnTo>
                    <a:pt x="132" y="48"/>
                  </a:lnTo>
                  <a:lnTo>
                    <a:pt x="138" y="48"/>
                  </a:lnTo>
                  <a:lnTo>
                    <a:pt x="141" y="51"/>
                  </a:lnTo>
                  <a:lnTo>
                    <a:pt x="150" y="51"/>
                  </a:lnTo>
                  <a:lnTo>
                    <a:pt x="153" y="54"/>
                  </a:lnTo>
                  <a:lnTo>
                    <a:pt x="159" y="54"/>
                  </a:lnTo>
                  <a:lnTo>
                    <a:pt x="162" y="57"/>
                  </a:lnTo>
                  <a:lnTo>
                    <a:pt x="168" y="57"/>
                  </a:lnTo>
                  <a:lnTo>
                    <a:pt x="171" y="60"/>
                  </a:lnTo>
                  <a:lnTo>
                    <a:pt x="177" y="60"/>
                  </a:lnTo>
                  <a:lnTo>
                    <a:pt x="180" y="63"/>
                  </a:lnTo>
                  <a:lnTo>
                    <a:pt x="186" y="63"/>
                  </a:lnTo>
                  <a:lnTo>
                    <a:pt x="189" y="66"/>
                  </a:lnTo>
                  <a:lnTo>
                    <a:pt x="195" y="66"/>
                  </a:lnTo>
                  <a:lnTo>
                    <a:pt x="198" y="69"/>
                  </a:lnTo>
                  <a:lnTo>
                    <a:pt x="204" y="69"/>
                  </a:lnTo>
                  <a:lnTo>
                    <a:pt x="207" y="72"/>
                  </a:lnTo>
                  <a:lnTo>
                    <a:pt x="216" y="72"/>
                  </a:lnTo>
                  <a:lnTo>
                    <a:pt x="219" y="75"/>
                  </a:lnTo>
                  <a:lnTo>
                    <a:pt x="225" y="75"/>
                  </a:lnTo>
                  <a:lnTo>
                    <a:pt x="228" y="78"/>
                  </a:lnTo>
                  <a:lnTo>
                    <a:pt x="234" y="78"/>
                  </a:lnTo>
                  <a:lnTo>
                    <a:pt x="237" y="81"/>
                  </a:lnTo>
                  <a:lnTo>
                    <a:pt x="678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2878"/>
            <p:cNvSpPr/>
            <p:nvPr/>
          </p:nvSpPr>
          <p:spPr>
            <a:xfrm flipH="1">
              <a:off x="7089120" y="2260440"/>
              <a:ext cx="8280" cy="258840"/>
            </a:xfrm>
            <a:custGeom>
              <a:avLst/>
              <a:gdLst/>
              <a:ahLst/>
              <a:rect l="l" t="t" r="r" b="b"/>
              <a:pathLst>
                <a:path w="15" h="489">
                  <a:moveTo>
                    <a:pt x="15" y="0"/>
                  </a:moveTo>
                  <a:lnTo>
                    <a:pt x="9" y="0"/>
                  </a:lnTo>
                  <a:lnTo>
                    <a:pt x="0" y="465"/>
                  </a:lnTo>
                  <a:lnTo>
                    <a:pt x="0" y="474"/>
                  </a:lnTo>
                  <a:lnTo>
                    <a:pt x="0" y="483"/>
                  </a:lnTo>
                  <a:lnTo>
                    <a:pt x="12" y="48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2879"/>
            <p:cNvSpPr/>
            <p:nvPr/>
          </p:nvSpPr>
          <p:spPr>
            <a:xfrm flipH="1">
              <a:off x="7092720" y="2157480"/>
              <a:ext cx="339840" cy="349200"/>
            </a:xfrm>
            <a:custGeom>
              <a:avLst/>
              <a:gdLst/>
              <a:ahLst/>
              <a:rect l="l" t="t" r="r" b="b"/>
              <a:pathLst>
                <a:path w="642" h="660">
                  <a:moveTo>
                    <a:pt x="642" y="195"/>
                  </a:moveTo>
                  <a:lnTo>
                    <a:pt x="630" y="195"/>
                  </a:lnTo>
                  <a:lnTo>
                    <a:pt x="189" y="57"/>
                  </a:lnTo>
                  <a:lnTo>
                    <a:pt x="186" y="54"/>
                  </a:lnTo>
                  <a:lnTo>
                    <a:pt x="180" y="54"/>
                  </a:lnTo>
                  <a:lnTo>
                    <a:pt x="177" y="51"/>
                  </a:lnTo>
                  <a:lnTo>
                    <a:pt x="171" y="51"/>
                  </a:lnTo>
                  <a:lnTo>
                    <a:pt x="168" y="48"/>
                  </a:lnTo>
                  <a:lnTo>
                    <a:pt x="159" y="48"/>
                  </a:lnTo>
                  <a:lnTo>
                    <a:pt x="156" y="45"/>
                  </a:lnTo>
                  <a:lnTo>
                    <a:pt x="150" y="45"/>
                  </a:lnTo>
                  <a:lnTo>
                    <a:pt x="147" y="42"/>
                  </a:lnTo>
                  <a:lnTo>
                    <a:pt x="141" y="42"/>
                  </a:lnTo>
                  <a:lnTo>
                    <a:pt x="138" y="39"/>
                  </a:lnTo>
                  <a:lnTo>
                    <a:pt x="132" y="39"/>
                  </a:lnTo>
                  <a:lnTo>
                    <a:pt x="129" y="36"/>
                  </a:lnTo>
                  <a:lnTo>
                    <a:pt x="123" y="36"/>
                  </a:lnTo>
                  <a:lnTo>
                    <a:pt x="120" y="33"/>
                  </a:lnTo>
                  <a:lnTo>
                    <a:pt x="114" y="33"/>
                  </a:lnTo>
                  <a:lnTo>
                    <a:pt x="111" y="30"/>
                  </a:lnTo>
                  <a:lnTo>
                    <a:pt x="105" y="30"/>
                  </a:lnTo>
                  <a:lnTo>
                    <a:pt x="102" y="27"/>
                  </a:lnTo>
                  <a:lnTo>
                    <a:pt x="93" y="27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1" y="21"/>
                  </a:lnTo>
                  <a:lnTo>
                    <a:pt x="75" y="21"/>
                  </a:lnTo>
                  <a:lnTo>
                    <a:pt x="72" y="18"/>
                  </a:lnTo>
                  <a:lnTo>
                    <a:pt x="66" y="18"/>
                  </a:lnTo>
                  <a:lnTo>
                    <a:pt x="63" y="15"/>
                  </a:lnTo>
                  <a:lnTo>
                    <a:pt x="57" y="1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0" y="0"/>
                  </a:lnTo>
                  <a:lnTo>
                    <a:pt x="309" y="162"/>
                  </a:lnTo>
                  <a:lnTo>
                    <a:pt x="453" y="222"/>
                  </a:lnTo>
                  <a:lnTo>
                    <a:pt x="462" y="228"/>
                  </a:lnTo>
                  <a:lnTo>
                    <a:pt x="633" y="660"/>
                  </a:lnTo>
                  <a:lnTo>
                    <a:pt x="642" y="19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2880"/>
            <p:cNvSpPr/>
            <p:nvPr/>
          </p:nvSpPr>
          <p:spPr>
            <a:xfrm flipH="1">
              <a:off x="7097400" y="2274840"/>
              <a:ext cx="96840" cy="237960"/>
            </a:xfrm>
            <a:custGeom>
              <a:avLst/>
              <a:gdLst/>
              <a:ahLst/>
              <a:rect l="l" t="t" r="r" b="b"/>
              <a:pathLst>
                <a:path w="183" h="450">
                  <a:moveTo>
                    <a:pt x="0" y="12"/>
                  </a:moveTo>
                  <a:lnTo>
                    <a:pt x="3" y="21"/>
                  </a:lnTo>
                  <a:lnTo>
                    <a:pt x="168" y="441"/>
                  </a:lnTo>
                  <a:lnTo>
                    <a:pt x="177" y="450"/>
                  </a:lnTo>
                  <a:lnTo>
                    <a:pt x="183" y="447"/>
                  </a:lnTo>
                  <a:lnTo>
                    <a:pt x="183" y="438"/>
                  </a:lnTo>
                  <a:lnTo>
                    <a:pt x="12" y="6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2881"/>
            <p:cNvSpPr/>
            <p:nvPr/>
          </p:nvSpPr>
          <p:spPr>
            <a:xfrm flipH="1">
              <a:off x="7192800" y="2281320"/>
              <a:ext cx="249120" cy="87120"/>
            </a:xfrm>
            <a:custGeom>
              <a:avLst/>
              <a:gdLst/>
              <a:ahLst/>
              <a:rect l="l" t="t" r="r" b="b"/>
              <a:pathLst>
                <a:path w="471" h="165">
                  <a:moveTo>
                    <a:pt x="471" y="9"/>
                  </a:moveTo>
                  <a:lnTo>
                    <a:pt x="468" y="0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270" y="78"/>
                  </a:lnTo>
                  <a:lnTo>
                    <a:pt x="47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2882"/>
            <p:cNvSpPr/>
            <p:nvPr/>
          </p:nvSpPr>
          <p:spPr>
            <a:xfrm flipH="1">
              <a:off x="7194600" y="2266920"/>
              <a:ext cx="25200" cy="1440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48" y="27"/>
                  </a:moveTo>
                  <a:lnTo>
                    <a:pt x="48" y="18"/>
                  </a:lnTo>
                  <a:lnTo>
                    <a:pt x="0" y="0"/>
                  </a:lnTo>
                  <a:lnTo>
                    <a:pt x="4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883"/>
            <p:cNvSpPr/>
            <p:nvPr/>
          </p:nvSpPr>
          <p:spPr>
            <a:xfrm flipH="1">
              <a:off x="7192800" y="2243160"/>
              <a:ext cx="76320" cy="33120"/>
            </a:xfrm>
            <a:custGeom>
              <a:avLst/>
              <a:gdLst/>
              <a:ahLst/>
              <a:rect l="l" t="t" r="r" b="b"/>
              <a:pathLst>
                <a:path w="144" h="63">
                  <a:moveTo>
                    <a:pt x="0" y="0"/>
                  </a:moveTo>
                  <a:lnTo>
                    <a:pt x="93" y="45"/>
                  </a:lnTo>
                  <a:lnTo>
                    <a:pt x="141" y="63"/>
                  </a:lnTo>
                  <a:lnTo>
                    <a:pt x="144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884"/>
            <p:cNvSpPr/>
            <p:nvPr/>
          </p:nvSpPr>
          <p:spPr>
            <a:xfrm flipH="1">
              <a:off x="7194240" y="2139840"/>
              <a:ext cx="439560" cy="225360"/>
            </a:xfrm>
            <a:custGeom>
              <a:avLst/>
              <a:gdLst/>
              <a:ahLst/>
              <a:rect l="l" t="t" r="r" b="b"/>
              <a:pathLst>
                <a:path w="831" h="426">
                  <a:moveTo>
                    <a:pt x="783" y="240"/>
                  </a:moveTo>
                  <a:lnTo>
                    <a:pt x="690" y="195"/>
                  </a:lnTo>
                  <a:lnTo>
                    <a:pt x="381" y="33"/>
                  </a:lnTo>
                  <a:lnTo>
                    <a:pt x="363" y="24"/>
                  </a:lnTo>
                  <a:lnTo>
                    <a:pt x="360" y="24"/>
                  </a:lnTo>
                  <a:lnTo>
                    <a:pt x="357" y="21"/>
                  </a:lnTo>
                  <a:lnTo>
                    <a:pt x="354" y="21"/>
                  </a:lnTo>
                  <a:lnTo>
                    <a:pt x="351" y="18"/>
                  </a:lnTo>
                  <a:lnTo>
                    <a:pt x="333" y="9"/>
                  </a:lnTo>
                  <a:lnTo>
                    <a:pt x="315" y="0"/>
                  </a:lnTo>
                  <a:lnTo>
                    <a:pt x="0" y="366"/>
                  </a:lnTo>
                  <a:lnTo>
                    <a:pt x="363" y="426"/>
                  </a:lnTo>
                  <a:lnTo>
                    <a:pt x="831" y="267"/>
                  </a:lnTo>
                  <a:lnTo>
                    <a:pt x="783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885"/>
            <p:cNvSpPr/>
            <p:nvPr/>
          </p:nvSpPr>
          <p:spPr>
            <a:xfrm flipH="1">
              <a:off x="7105680" y="2286000"/>
              <a:ext cx="193680" cy="222120"/>
            </a:xfrm>
            <a:custGeom>
              <a:avLst/>
              <a:gdLst/>
              <a:ahLst/>
              <a:rect l="l" t="t" r="r" b="b"/>
              <a:pathLst>
                <a:path w="366" h="420">
                  <a:moveTo>
                    <a:pt x="201" y="0"/>
                  </a:moveTo>
                  <a:lnTo>
                    <a:pt x="0" y="69"/>
                  </a:lnTo>
                  <a:lnTo>
                    <a:pt x="366" y="42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886"/>
            <p:cNvSpPr/>
            <p:nvPr/>
          </p:nvSpPr>
          <p:spPr>
            <a:xfrm flipH="1">
              <a:off x="7097760" y="2511360"/>
              <a:ext cx="288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0" y="3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2887"/>
            <p:cNvSpPr/>
            <p:nvPr/>
          </p:nvSpPr>
          <p:spPr>
            <a:xfrm flipH="1">
              <a:off x="6797160" y="2135160"/>
              <a:ext cx="669960" cy="122040"/>
            </a:xfrm>
            <a:custGeom>
              <a:avLst/>
              <a:gdLst/>
              <a:ahLst/>
              <a:rect l="l" t="t" r="r" b="b"/>
              <a:pathLst>
                <a:path w="1266" h="231">
                  <a:moveTo>
                    <a:pt x="1254" y="126"/>
                  </a:moveTo>
                  <a:lnTo>
                    <a:pt x="1263" y="126"/>
                  </a:lnTo>
                  <a:lnTo>
                    <a:pt x="1266" y="120"/>
                  </a:lnTo>
                  <a:lnTo>
                    <a:pt x="1167" y="0"/>
                  </a:lnTo>
                  <a:lnTo>
                    <a:pt x="0" y="9"/>
                  </a:lnTo>
                  <a:lnTo>
                    <a:pt x="18" y="18"/>
                  </a:lnTo>
                  <a:lnTo>
                    <a:pt x="696" y="231"/>
                  </a:lnTo>
                  <a:lnTo>
                    <a:pt x="1254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2888"/>
            <p:cNvSpPr/>
            <p:nvPr/>
          </p:nvSpPr>
          <p:spPr>
            <a:xfrm flipH="1">
              <a:off x="7441560" y="215100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2889"/>
            <p:cNvSpPr/>
            <p:nvPr/>
          </p:nvSpPr>
          <p:spPr>
            <a:xfrm flipH="1">
              <a:off x="7423200" y="2152440"/>
              <a:ext cx="18720" cy="64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0"/>
                  </a:moveTo>
                  <a:lnTo>
                    <a:pt x="18" y="9"/>
                  </a:lnTo>
                  <a:lnTo>
                    <a:pt x="3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2890"/>
            <p:cNvSpPr/>
            <p:nvPr/>
          </p:nvSpPr>
          <p:spPr>
            <a:xfrm flipH="1">
              <a:off x="7441920" y="2333520"/>
              <a:ext cx="192240" cy="34920"/>
            </a:xfrm>
            <a:custGeom>
              <a:avLst/>
              <a:gdLst/>
              <a:ahLst/>
              <a:rect l="l" t="t" r="r" b="b"/>
              <a:pathLst>
                <a:path w="363" h="66">
                  <a:moveTo>
                    <a:pt x="0" y="0"/>
                  </a:moveTo>
                  <a:lnTo>
                    <a:pt x="6" y="9"/>
                  </a:lnTo>
                  <a:lnTo>
                    <a:pt x="363" y="66"/>
                  </a:lnTo>
                  <a:lnTo>
                    <a:pt x="363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9" name="Group 2891"/>
          <p:cNvGrpSpPr/>
          <p:nvPr/>
        </p:nvGrpSpPr>
        <p:grpSpPr>
          <a:xfrm>
            <a:off x="6928920" y="2103480"/>
            <a:ext cx="824040" cy="375840"/>
            <a:chOff x="6928920" y="2103480"/>
            <a:chExt cx="824040" cy="375840"/>
          </a:xfrm>
        </p:grpSpPr>
        <p:sp>
          <p:nvSpPr>
            <p:cNvPr id="2270" name="Freeform 2892"/>
            <p:cNvSpPr/>
            <p:nvPr/>
          </p:nvSpPr>
          <p:spPr>
            <a:xfrm flipH="1">
              <a:off x="7311600" y="2226960"/>
              <a:ext cx="60480" cy="18720"/>
            </a:xfrm>
            <a:custGeom>
              <a:avLst/>
              <a:gdLst/>
              <a:ahLst/>
              <a:rect l="l" t="t" r="r" b="b"/>
              <a:pathLst>
                <a:path w="114" h="36">
                  <a:moveTo>
                    <a:pt x="114" y="36"/>
                  </a:moveTo>
                  <a:lnTo>
                    <a:pt x="111" y="27"/>
                  </a:lnTo>
                  <a:lnTo>
                    <a:pt x="0" y="0"/>
                  </a:lnTo>
                  <a:lnTo>
                    <a:pt x="11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2893"/>
            <p:cNvSpPr/>
            <p:nvPr/>
          </p:nvSpPr>
          <p:spPr>
            <a:xfrm flipH="1">
              <a:off x="7215840" y="2239920"/>
              <a:ext cx="96840" cy="232920"/>
            </a:xfrm>
            <a:custGeom>
              <a:avLst/>
              <a:gdLst/>
              <a:ahLst/>
              <a:rect l="l" t="t" r="r" b="b"/>
              <a:pathLst>
                <a:path w="183" h="441">
                  <a:moveTo>
                    <a:pt x="0" y="3"/>
                  </a:moveTo>
                  <a:lnTo>
                    <a:pt x="3" y="12"/>
                  </a:lnTo>
                  <a:lnTo>
                    <a:pt x="3" y="15"/>
                  </a:lnTo>
                  <a:lnTo>
                    <a:pt x="6" y="21"/>
                  </a:lnTo>
                  <a:lnTo>
                    <a:pt x="162" y="405"/>
                  </a:lnTo>
                  <a:lnTo>
                    <a:pt x="171" y="438"/>
                  </a:lnTo>
                  <a:lnTo>
                    <a:pt x="171" y="441"/>
                  </a:lnTo>
                  <a:lnTo>
                    <a:pt x="183" y="441"/>
                  </a:lnTo>
                  <a:lnTo>
                    <a:pt x="183" y="429"/>
                  </a:lnTo>
                  <a:lnTo>
                    <a:pt x="171" y="405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2894"/>
            <p:cNvSpPr/>
            <p:nvPr/>
          </p:nvSpPr>
          <p:spPr>
            <a:xfrm flipH="1">
              <a:off x="7311600" y="2136600"/>
              <a:ext cx="441360" cy="194760"/>
            </a:xfrm>
            <a:custGeom>
              <a:avLst/>
              <a:gdLst/>
              <a:ahLst/>
              <a:rect l="l" t="t" r="r" b="b"/>
              <a:pathLst>
                <a:path w="834" h="369">
                  <a:moveTo>
                    <a:pt x="834" y="210"/>
                  </a:moveTo>
                  <a:lnTo>
                    <a:pt x="834" y="207"/>
                  </a:lnTo>
                  <a:lnTo>
                    <a:pt x="720" y="171"/>
                  </a:lnTo>
                  <a:lnTo>
                    <a:pt x="657" y="150"/>
                  </a:lnTo>
                  <a:lnTo>
                    <a:pt x="288" y="30"/>
                  </a:lnTo>
                  <a:lnTo>
                    <a:pt x="282" y="27"/>
                  </a:lnTo>
                  <a:lnTo>
                    <a:pt x="279" y="27"/>
                  </a:lnTo>
                  <a:lnTo>
                    <a:pt x="267" y="24"/>
                  </a:lnTo>
                  <a:lnTo>
                    <a:pt x="261" y="21"/>
                  </a:lnTo>
                  <a:lnTo>
                    <a:pt x="258" y="21"/>
                  </a:lnTo>
                  <a:lnTo>
                    <a:pt x="249" y="18"/>
                  </a:lnTo>
                  <a:lnTo>
                    <a:pt x="243" y="18"/>
                  </a:lnTo>
                  <a:lnTo>
                    <a:pt x="240" y="15"/>
                  </a:lnTo>
                  <a:lnTo>
                    <a:pt x="213" y="6"/>
                  </a:lnTo>
                  <a:lnTo>
                    <a:pt x="195" y="0"/>
                  </a:lnTo>
                  <a:lnTo>
                    <a:pt x="174" y="12"/>
                  </a:lnTo>
                  <a:lnTo>
                    <a:pt x="0" y="333"/>
                  </a:lnTo>
                  <a:lnTo>
                    <a:pt x="405" y="369"/>
                  </a:lnTo>
                  <a:lnTo>
                    <a:pt x="834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2895"/>
            <p:cNvSpPr/>
            <p:nvPr/>
          </p:nvSpPr>
          <p:spPr>
            <a:xfrm flipH="1">
              <a:off x="7309800" y="2247840"/>
              <a:ext cx="228600" cy="86760"/>
            </a:xfrm>
            <a:custGeom>
              <a:avLst/>
              <a:gdLst/>
              <a:ahLst/>
              <a:rect l="l" t="t" r="r" b="b"/>
              <a:pathLst>
                <a:path w="432" h="165">
                  <a:moveTo>
                    <a:pt x="432" y="6"/>
                  </a:moveTo>
                  <a:lnTo>
                    <a:pt x="429" y="0"/>
                  </a:lnTo>
                  <a:lnTo>
                    <a:pt x="0" y="159"/>
                  </a:lnTo>
                  <a:lnTo>
                    <a:pt x="3" y="165"/>
                  </a:lnTo>
                  <a:lnTo>
                    <a:pt x="165" y="108"/>
                  </a:lnTo>
                  <a:lnTo>
                    <a:pt x="43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2896"/>
            <p:cNvSpPr/>
            <p:nvPr/>
          </p:nvSpPr>
          <p:spPr>
            <a:xfrm flipH="1">
              <a:off x="7211520" y="2224080"/>
              <a:ext cx="6480" cy="156600"/>
            </a:xfrm>
            <a:custGeom>
              <a:avLst/>
              <a:gdLst/>
              <a:ahLst/>
              <a:rect l="l" t="t" r="r" b="b"/>
              <a:pathLst>
                <a:path w="12" h="297">
                  <a:moveTo>
                    <a:pt x="12" y="0"/>
                  </a:moveTo>
                  <a:lnTo>
                    <a:pt x="0" y="3"/>
                  </a:lnTo>
                  <a:lnTo>
                    <a:pt x="9" y="29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2897"/>
            <p:cNvSpPr/>
            <p:nvPr/>
          </p:nvSpPr>
          <p:spPr>
            <a:xfrm flipH="1">
              <a:off x="6928920" y="2158920"/>
              <a:ext cx="293760" cy="66240"/>
            </a:xfrm>
            <a:custGeom>
              <a:avLst/>
              <a:gdLst/>
              <a:ahLst/>
              <a:rect l="l" t="t" r="r" b="b"/>
              <a:pathLst>
                <a:path w="555" h="126">
                  <a:moveTo>
                    <a:pt x="9" y="126"/>
                  </a:moveTo>
                  <a:lnTo>
                    <a:pt x="21" y="123"/>
                  </a:lnTo>
                  <a:lnTo>
                    <a:pt x="537" y="12"/>
                  </a:lnTo>
                  <a:lnTo>
                    <a:pt x="555" y="6"/>
                  </a:lnTo>
                  <a:lnTo>
                    <a:pt x="546" y="0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9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2898"/>
            <p:cNvSpPr/>
            <p:nvPr/>
          </p:nvSpPr>
          <p:spPr>
            <a:xfrm flipH="1">
              <a:off x="7213320" y="2152440"/>
              <a:ext cx="387360" cy="313920"/>
            </a:xfrm>
            <a:custGeom>
              <a:avLst/>
              <a:gdLst/>
              <a:ahLst/>
              <a:rect l="l" t="t" r="r" b="b"/>
              <a:pathLst>
                <a:path w="732" h="594">
                  <a:moveTo>
                    <a:pt x="723" y="138"/>
                  </a:moveTo>
                  <a:lnTo>
                    <a:pt x="714" y="138"/>
                  </a:lnTo>
                  <a:lnTo>
                    <a:pt x="288" y="54"/>
                  </a:lnTo>
                  <a:lnTo>
                    <a:pt x="285" y="51"/>
                  </a:lnTo>
                  <a:lnTo>
                    <a:pt x="273" y="51"/>
                  </a:lnTo>
                  <a:lnTo>
                    <a:pt x="270" y="48"/>
                  </a:lnTo>
                  <a:lnTo>
                    <a:pt x="258" y="48"/>
                  </a:lnTo>
                  <a:lnTo>
                    <a:pt x="255" y="45"/>
                  </a:lnTo>
                  <a:lnTo>
                    <a:pt x="243" y="45"/>
                  </a:lnTo>
                  <a:lnTo>
                    <a:pt x="240" y="42"/>
                  </a:lnTo>
                  <a:lnTo>
                    <a:pt x="228" y="42"/>
                  </a:lnTo>
                  <a:lnTo>
                    <a:pt x="225" y="39"/>
                  </a:lnTo>
                  <a:lnTo>
                    <a:pt x="213" y="39"/>
                  </a:lnTo>
                  <a:lnTo>
                    <a:pt x="210" y="36"/>
                  </a:lnTo>
                  <a:lnTo>
                    <a:pt x="195" y="36"/>
                  </a:lnTo>
                  <a:lnTo>
                    <a:pt x="192" y="33"/>
                  </a:lnTo>
                  <a:lnTo>
                    <a:pt x="180" y="33"/>
                  </a:lnTo>
                  <a:lnTo>
                    <a:pt x="177" y="30"/>
                  </a:lnTo>
                  <a:lnTo>
                    <a:pt x="165" y="30"/>
                  </a:lnTo>
                  <a:lnTo>
                    <a:pt x="162" y="27"/>
                  </a:lnTo>
                  <a:lnTo>
                    <a:pt x="150" y="27"/>
                  </a:lnTo>
                  <a:lnTo>
                    <a:pt x="141" y="24"/>
                  </a:lnTo>
                  <a:lnTo>
                    <a:pt x="135" y="24"/>
                  </a:lnTo>
                  <a:lnTo>
                    <a:pt x="126" y="21"/>
                  </a:lnTo>
                  <a:lnTo>
                    <a:pt x="120" y="21"/>
                  </a:lnTo>
                  <a:lnTo>
                    <a:pt x="111" y="18"/>
                  </a:lnTo>
                  <a:lnTo>
                    <a:pt x="105" y="18"/>
                  </a:lnTo>
                  <a:lnTo>
                    <a:pt x="93" y="15"/>
                  </a:lnTo>
                  <a:lnTo>
                    <a:pt x="90" y="15"/>
                  </a:lnTo>
                  <a:lnTo>
                    <a:pt x="87" y="15"/>
                  </a:lnTo>
                  <a:lnTo>
                    <a:pt x="78" y="12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63" y="9"/>
                  </a:lnTo>
                  <a:lnTo>
                    <a:pt x="60" y="9"/>
                  </a:lnTo>
                  <a:lnTo>
                    <a:pt x="57" y="9"/>
                  </a:lnTo>
                  <a:lnTo>
                    <a:pt x="45" y="6"/>
                  </a:lnTo>
                  <a:lnTo>
                    <a:pt x="42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369" y="120"/>
                  </a:lnTo>
                  <a:lnTo>
                    <a:pt x="549" y="165"/>
                  </a:lnTo>
                  <a:lnTo>
                    <a:pt x="714" y="570"/>
                  </a:lnTo>
                  <a:lnTo>
                    <a:pt x="726" y="594"/>
                  </a:lnTo>
                  <a:lnTo>
                    <a:pt x="729" y="570"/>
                  </a:lnTo>
                  <a:lnTo>
                    <a:pt x="732" y="483"/>
                  </a:lnTo>
                  <a:lnTo>
                    <a:pt x="732" y="432"/>
                  </a:lnTo>
                  <a:lnTo>
                    <a:pt x="723" y="13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2899"/>
            <p:cNvSpPr/>
            <p:nvPr/>
          </p:nvSpPr>
          <p:spPr>
            <a:xfrm flipH="1">
              <a:off x="7310160" y="2216160"/>
              <a:ext cx="95040" cy="2484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174" y="48"/>
                  </a:moveTo>
                  <a:lnTo>
                    <a:pt x="180" y="45"/>
                  </a:lnTo>
                  <a:lnTo>
                    <a:pt x="0" y="0"/>
                  </a:lnTo>
                  <a:lnTo>
                    <a:pt x="63" y="21"/>
                  </a:lnTo>
                  <a:lnTo>
                    <a:pt x="17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2900"/>
            <p:cNvSpPr/>
            <p:nvPr/>
          </p:nvSpPr>
          <p:spPr>
            <a:xfrm flipH="1">
              <a:off x="7222680" y="2139840"/>
              <a:ext cx="417600" cy="85320"/>
            </a:xfrm>
            <a:custGeom>
              <a:avLst/>
              <a:gdLst/>
              <a:ahLst/>
              <a:rect l="l" t="t" r="r" b="b"/>
              <a:pathLst>
                <a:path w="789" h="162">
                  <a:moveTo>
                    <a:pt x="789" y="162"/>
                  </a:moveTo>
                  <a:lnTo>
                    <a:pt x="789" y="156"/>
                  </a:lnTo>
                  <a:lnTo>
                    <a:pt x="0" y="0"/>
                  </a:lnTo>
                  <a:lnTo>
                    <a:pt x="27" y="9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5" y="21"/>
                  </a:lnTo>
                  <a:lnTo>
                    <a:pt x="87" y="21"/>
                  </a:lnTo>
                  <a:lnTo>
                    <a:pt x="90" y="24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17" y="27"/>
                  </a:lnTo>
                  <a:lnTo>
                    <a:pt x="120" y="30"/>
                  </a:lnTo>
                  <a:lnTo>
                    <a:pt x="132" y="30"/>
                  </a:lnTo>
                  <a:lnTo>
                    <a:pt x="135" y="33"/>
                  </a:lnTo>
                  <a:lnTo>
                    <a:pt x="138" y="33"/>
                  </a:lnTo>
                  <a:lnTo>
                    <a:pt x="147" y="33"/>
                  </a:lnTo>
                  <a:lnTo>
                    <a:pt x="150" y="36"/>
                  </a:lnTo>
                  <a:lnTo>
                    <a:pt x="153" y="36"/>
                  </a:lnTo>
                  <a:lnTo>
                    <a:pt x="162" y="36"/>
                  </a:lnTo>
                  <a:lnTo>
                    <a:pt x="165" y="39"/>
                  </a:lnTo>
                  <a:lnTo>
                    <a:pt x="168" y="39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95" y="45"/>
                  </a:lnTo>
                  <a:lnTo>
                    <a:pt x="201" y="45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25" y="51"/>
                  </a:lnTo>
                  <a:lnTo>
                    <a:pt x="237" y="51"/>
                  </a:lnTo>
                  <a:lnTo>
                    <a:pt x="240" y="54"/>
                  </a:lnTo>
                  <a:lnTo>
                    <a:pt x="252" y="54"/>
                  </a:lnTo>
                  <a:lnTo>
                    <a:pt x="255" y="57"/>
                  </a:lnTo>
                  <a:lnTo>
                    <a:pt x="267" y="57"/>
                  </a:lnTo>
                  <a:lnTo>
                    <a:pt x="270" y="60"/>
                  </a:lnTo>
                  <a:lnTo>
                    <a:pt x="285" y="60"/>
                  </a:lnTo>
                  <a:lnTo>
                    <a:pt x="288" y="63"/>
                  </a:lnTo>
                  <a:lnTo>
                    <a:pt x="300" y="63"/>
                  </a:lnTo>
                  <a:lnTo>
                    <a:pt x="303" y="66"/>
                  </a:lnTo>
                  <a:lnTo>
                    <a:pt x="315" y="66"/>
                  </a:lnTo>
                  <a:lnTo>
                    <a:pt x="318" y="69"/>
                  </a:lnTo>
                  <a:lnTo>
                    <a:pt x="330" y="69"/>
                  </a:lnTo>
                  <a:lnTo>
                    <a:pt x="333" y="72"/>
                  </a:lnTo>
                  <a:lnTo>
                    <a:pt x="345" y="72"/>
                  </a:lnTo>
                  <a:lnTo>
                    <a:pt x="348" y="75"/>
                  </a:lnTo>
                  <a:lnTo>
                    <a:pt x="360" y="75"/>
                  </a:lnTo>
                  <a:lnTo>
                    <a:pt x="363" y="78"/>
                  </a:lnTo>
                  <a:lnTo>
                    <a:pt x="789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2901"/>
            <p:cNvSpPr/>
            <p:nvPr/>
          </p:nvSpPr>
          <p:spPr>
            <a:xfrm flipH="1">
              <a:off x="7222320" y="2251080"/>
              <a:ext cx="228600" cy="220320"/>
            </a:xfrm>
            <a:custGeom>
              <a:avLst/>
              <a:gdLst/>
              <a:ahLst/>
              <a:rect l="l" t="t" r="r" b="b"/>
              <a:pathLst>
                <a:path w="432" h="417">
                  <a:moveTo>
                    <a:pt x="267" y="0"/>
                  </a:moveTo>
                  <a:lnTo>
                    <a:pt x="0" y="102"/>
                  </a:lnTo>
                  <a:lnTo>
                    <a:pt x="432" y="417"/>
                  </a:lnTo>
                  <a:lnTo>
                    <a:pt x="423" y="384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2902"/>
            <p:cNvSpPr/>
            <p:nvPr/>
          </p:nvSpPr>
          <p:spPr>
            <a:xfrm flipH="1">
              <a:off x="7216200" y="2473200"/>
              <a:ext cx="6480" cy="43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12" y="9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2903"/>
            <p:cNvSpPr/>
            <p:nvPr/>
          </p:nvSpPr>
          <p:spPr>
            <a:xfrm flipH="1">
              <a:off x="7209720" y="2408040"/>
              <a:ext cx="6120" cy="71280"/>
            </a:xfrm>
            <a:custGeom>
              <a:avLst/>
              <a:gdLst/>
              <a:ahLst/>
              <a:rect l="l" t="t" r="r" b="b"/>
              <a:pathLst>
                <a:path w="12" h="135">
                  <a:moveTo>
                    <a:pt x="0" y="132"/>
                  </a:moveTo>
                  <a:lnTo>
                    <a:pt x="12" y="135"/>
                  </a:lnTo>
                  <a:lnTo>
                    <a:pt x="6" y="0"/>
                  </a:lnTo>
                  <a:lnTo>
                    <a:pt x="3" y="87"/>
                  </a:lnTo>
                  <a:lnTo>
                    <a:pt x="0" y="111"/>
                  </a:lnTo>
                  <a:lnTo>
                    <a:pt x="0" y="123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2904"/>
            <p:cNvSpPr/>
            <p:nvPr/>
          </p:nvSpPr>
          <p:spPr>
            <a:xfrm flipH="1">
              <a:off x="6933960" y="2103480"/>
              <a:ext cx="715680" cy="118800"/>
            </a:xfrm>
            <a:custGeom>
              <a:avLst/>
              <a:gdLst/>
              <a:ahLst/>
              <a:rect l="l" t="t" r="r" b="b"/>
              <a:pathLst>
                <a:path w="1353" h="225">
                  <a:moveTo>
                    <a:pt x="807" y="225"/>
                  </a:moveTo>
                  <a:lnTo>
                    <a:pt x="1353" y="105"/>
                  </a:lnTo>
                  <a:lnTo>
                    <a:pt x="1206" y="0"/>
                  </a:lnTo>
                  <a:lnTo>
                    <a:pt x="0" y="63"/>
                  </a:lnTo>
                  <a:lnTo>
                    <a:pt x="18" y="69"/>
                  </a:lnTo>
                  <a:lnTo>
                    <a:pt x="807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2905"/>
            <p:cNvSpPr/>
            <p:nvPr/>
          </p:nvSpPr>
          <p:spPr>
            <a:xfrm flipH="1">
              <a:off x="7568280" y="2155680"/>
              <a:ext cx="180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2906"/>
            <p:cNvSpPr/>
            <p:nvPr/>
          </p:nvSpPr>
          <p:spPr>
            <a:xfrm flipH="1">
              <a:off x="7562160" y="215712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2907"/>
            <p:cNvSpPr/>
            <p:nvPr/>
          </p:nvSpPr>
          <p:spPr>
            <a:xfrm flipH="1">
              <a:off x="7560360" y="215712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2908"/>
            <p:cNvSpPr/>
            <p:nvPr/>
          </p:nvSpPr>
          <p:spPr>
            <a:xfrm flipH="1">
              <a:off x="7570080" y="2155680"/>
              <a:ext cx="612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2909"/>
            <p:cNvSpPr/>
            <p:nvPr/>
          </p:nvSpPr>
          <p:spPr>
            <a:xfrm flipH="1">
              <a:off x="7576200" y="2154240"/>
              <a:ext cx="180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2910"/>
            <p:cNvSpPr/>
            <p:nvPr/>
          </p:nvSpPr>
          <p:spPr>
            <a:xfrm flipH="1">
              <a:off x="7578360" y="215424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2911"/>
            <p:cNvSpPr/>
            <p:nvPr/>
          </p:nvSpPr>
          <p:spPr>
            <a:xfrm flipH="1">
              <a:off x="7584840" y="215244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2912"/>
            <p:cNvSpPr/>
            <p:nvPr/>
          </p:nvSpPr>
          <p:spPr>
            <a:xfrm flipH="1">
              <a:off x="7592760" y="2151000"/>
              <a:ext cx="14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2913"/>
            <p:cNvSpPr/>
            <p:nvPr/>
          </p:nvSpPr>
          <p:spPr>
            <a:xfrm flipH="1">
              <a:off x="7594200" y="2151000"/>
              <a:ext cx="9360" cy="10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2914"/>
            <p:cNvSpPr/>
            <p:nvPr/>
          </p:nvSpPr>
          <p:spPr>
            <a:xfrm flipH="1">
              <a:off x="7586280" y="215244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915"/>
            <p:cNvSpPr/>
            <p:nvPr/>
          </p:nvSpPr>
          <p:spPr>
            <a:xfrm flipH="1">
              <a:off x="7554240" y="2158920"/>
              <a:ext cx="4680" cy="10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9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916"/>
            <p:cNvSpPr/>
            <p:nvPr/>
          </p:nvSpPr>
          <p:spPr>
            <a:xfrm flipH="1">
              <a:off x="7552440" y="2158920"/>
              <a:ext cx="180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917"/>
            <p:cNvSpPr/>
            <p:nvPr/>
          </p:nvSpPr>
          <p:spPr>
            <a:xfrm flipH="1">
              <a:off x="7605360" y="214920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2918"/>
            <p:cNvSpPr/>
            <p:nvPr/>
          </p:nvSpPr>
          <p:spPr>
            <a:xfrm flipH="1">
              <a:off x="7536960" y="2313000"/>
              <a:ext cx="216000" cy="21600"/>
            </a:xfrm>
            <a:custGeom>
              <a:avLst/>
              <a:gdLst/>
              <a:ahLst/>
              <a:rect l="l" t="t" r="r" b="b"/>
              <a:pathLst>
                <a:path w="408" h="42">
                  <a:moveTo>
                    <a:pt x="408" y="42"/>
                  </a:moveTo>
                  <a:lnTo>
                    <a:pt x="405" y="36"/>
                  </a:lnTo>
                  <a:lnTo>
                    <a:pt x="0" y="0"/>
                  </a:lnTo>
                  <a:lnTo>
                    <a:pt x="12" y="9"/>
                  </a:lnTo>
                  <a:lnTo>
                    <a:pt x="408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7" name="Group 2919"/>
          <p:cNvGrpSpPr/>
          <p:nvPr/>
        </p:nvGrpSpPr>
        <p:grpSpPr>
          <a:xfrm>
            <a:off x="7067160" y="2077920"/>
            <a:ext cx="800280" cy="365040"/>
            <a:chOff x="7067160" y="2077920"/>
            <a:chExt cx="800280" cy="365040"/>
          </a:xfrm>
        </p:grpSpPr>
        <p:sp>
          <p:nvSpPr>
            <p:cNvPr id="2298" name="Freeform 2920"/>
            <p:cNvSpPr/>
            <p:nvPr/>
          </p:nvSpPr>
          <p:spPr>
            <a:xfrm flipH="1">
              <a:off x="7066800" y="2123640"/>
              <a:ext cx="281160" cy="69840"/>
            </a:xfrm>
            <a:custGeom>
              <a:avLst/>
              <a:gdLst/>
              <a:ahLst/>
              <a:rect l="l" t="t" r="r" b="b"/>
              <a:pathLst>
                <a:path w="531" h="132">
                  <a:moveTo>
                    <a:pt x="528" y="9"/>
                  </a:moveTo>
                  <a:lnTo>
                    <a:pt x="531" y="0"/>
                  </a:lnTo>
                  <a:lnTo>
                    <a:pt x="522" y="0"/>
                  </a:lnTo>
                  <a:lnTo>
                    <a:pt x="0" y="126"/>
                  </a:lnTo>
                  <a:lnTo>
                    <a:pt x="3" y="132"/>
                  </a:lnTo>
                  <a:lnTo>
                    <a:pt x="12" y="132"/>
                  </a:lnTo>
                  <a:lnTo>
                    <a:pt x="21" y="129"/>
                  </a:lnTo>
                  <a:lnTo>
                    <a:pt x="52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21"/>
            <p:cNvSpPr/>
            <p:nvPr/>
          </p:nvSpPr>
          <p:spPr>
            <a:xfrm flipH="1">
              <a:off x="7336800" y="2192040"/>
              <a:ext cx="4680" cy="205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6" y="39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922"/>
            <p:cNvSpPr/>
            <p:nvPr/>
          </p:nvSpPr>
          <p:spPr>
            <a:xfrm flipH="1">
              <a:off x="7335000" y="2145960"/>
              <a:ext cx="427320" cy="281160"/>
            </a:xfrm>
            <a:custGeom>
              <a:avLst/>
              <a:gdLst/>
              <a:ahLst/>
              <a:rect l="l" t="t" r="r" b="b"/>
              <a:pathLst>
                <a:path w="807" h="531">
                  <a:moveTo>
                    <a:pt x="795" y="90"/>
                  </a:moveTo>
                  <a:lnTo>
                    <a:pt x="786" y="90"/>
                  </a:lnTo>
                  <a:lnTo>
                    <a:pt x="348" y="39"/>
                  </a:lnTo>
                  <a:lnTo>
                    <a:pt x="345" y="36"/>
                  </a:lnTo>
                  <a:lnTo>
                    <a:pt x="321" y="36"/>
                  </a:lnTo>
                  <a:lnTo>
                    <a:pt x="318" y="33"/>
                  </a:lnTo>
                  <a:lnTo>
                    <a:pt x="297" y="33"/>
                  </a:lnTo>
                  <a:lnTo>
                    <a:pt x="294" y="30"/>
                  </a:lnTo>
                  <a:lnTo>
                    <a:pt x="273" y="30"/>
                  </a:lnTo>
                  <a:lnTo>
                    <a:pt x="264" y="27"/>
                  </a:lnTo>
                  <a:lnTo>
                    <a:pt x="249" y="27"/>
                  </a:lnTo>
                  <a:lnTo>
                    <a:pt x="237" y="24"/>
                  </a:lnTo>
                  <a:lnTo>
                    <a:pt x="222" y="24"/>
                  </a:lnTo>
                  <a:lnTo>
                    <a:pt x="210" y="21"/>
                  </a:lnTo>
                  <a:lnTo>
                    <a:pt x="198" y="21"/>
                  </a:lnTo>
                  <a:lnTo>
                    <a:pt x="195" y="21"/>
                  </a:lnTo>
                  <a:lnTo>
                    <a:pt x="183" y="18"/>
                  </a:lnTo>
                  <a:lnTo>
                    <a:pt x="174" y="18"/>
                  </a:lnTo>
                  <a:lnTo>
                    <a:pt x="171" y="18"/>
                  </a:lnTo>
                  <a:lnTo>
                    <a:pt x="156" y="15"/>
                  </a:lnTo>
                  <a:lnTo>
                    <a:pt x="147" y="15"/>
                  </a:lnTo>
                  <a:lnTo>
                    <a:pt x="144" y="15"/>
                  </a:lnTo>
                  <a:lnTo>
                    <a:pt x="129" y="12"/>
                  </a:lnTo>
                  <a:lnTo>
                    <a:pt x="123" y="12"/>
                  </a:lnTo>
                  <a:lnTo>
                    <a:pt x="114" y="12"/>
                  </a:lnTo>
                  <a:lnTo>
                    <a:pt x="102" y="9"/>
                  </a:lnTo>
                  <a:lnTo>
                    <a:pt x="99" y="9"/>
                  </a:lnTo>
                  <a:lnTo>
                    <a:pt x="87" y="9"/>
                  </a:lnTo>
                  <a:lnTo>
                    <a:pt x="75" y="6"/>
                  </a:lnTo>
                  <a:lnTo>
                    <a:pt x="60" y="6"/>
                  </a:lnTo>
                  <a:lnTo>
                    <a:pt x="48" y="3"/>
                  </a:lnTo>
                  <a:lnTo>
                    <a:pt x="33" y="3"/>
                  </a:lnTo>
                  <a:lnTo>
                    <a:pt x="21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417" y="87"/>
                  </a:lnTo>
                  <a:lnTo>
                    <a:pt x="630" y="120"/>
                  </a:lnTo>
                  <a:lnTo>
                    <a:pt x="801" y="531"/>
                  </a:lnTo>
                  <a:lnTo>
                    <a:pt x="807" y="459"/>
                  </a:lnTo>
                  <a:lnTo>
                    <a:pt x="801" y="126"/>
                  </a:lnTo>
                  <a:lnTo>
                    <a:pt x="795" y="9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923"/>
            <p:cNvSpPr/>
            <p:nvPr/>
          </p:nvSpPr>
          <p:spPr>
            <a:xfrm flipH="1">
              <a:off x="7346520" y="2134800"/>
              <a:ext cx="470160" cy="58680"/>
            </a:xfrm>
            <a:custGeom>
              <a:avLst/>
              <a:gdLst/>
              <a:ahLst/>
              <a:rect l="l" t="t" r="r" b="b"/>
              <a:pathLst>
                <a:path w="888" h="111">
                  <a:moveTo>
                    <a:pt x="888" y="111"/>
                  </a:moveTo>
                  <a:lnTo>
                    <a:pt x="885" y="105"/>
                  </a:lnTo>
                  <a:lnTo>
                    <a:pt x="0" y="0"/>
                  </a:lnTo>
                  <a:lnTo>
                    <a:pt x="42" y="9"/>
                  </a:lnTo>
                  <a:lnTo>
                    <a:pt x="51" y="12"/>
                  </a:lnTo>
                  <a:lnTo>
                    <a:pt x="57" y="12"/>
                  </a:lnTo>
                  <a:lnTo>
                    <a:pt x="78" y="15"/>
                  </a:lnTo>
                  <a:lnTo>
                    <a:pt x="81" y="15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26" y="21"/>
                  </a:lnTo>
                  <a:lnTo>
                    <a:pt x="135" y="21"/>
                  </a:lnTo>
                  <a:lnTo>
                    <a:pt x="150" y="24"/>
                  </a:lnTo>
                  <a:lnTo>
                    <a:pt x="162" y="24"/>
                  </a:lnTo>
                  <a:lnTo>
                    <a:pt x="177" y="27"/>
                  </a:lnTo>
                  <a:lnTo>
                    <a:pt x="189" y="27"/>
                  </a:lnTo>
                  <a:lnTo>
                    <a:pt x="201" y="30"/>
                  </a:lnTo>
                  <a:lnTo>
                    <a:pt x="204" y="30"/>
                  </a:lnTo>
                  <a:lnTo>
                    <a:pt x="216" y="30"/>
                  </a:lnTo>
                  <a:lnTo>
                    <a:pt x="225" y="33"/>
                  </a:lnTo>
                  <a:lnTo>
                    <a:pt x="231" y="33"/>
                  </a:lnTo>
                  <a:lnTo>
                    <a:pt x="246" y="33"/>
                  </a:lnTo>
                  <a:lnTo>
                    <a:pt x="249" y="36"/>
                  </a:lnTo>
                  <a:lnTo>
                    <a:pt x="258" y="36"/>
                  </a:lnTo>
                  <a:lnTo>
                    <a:pt x="273" y="36"/>
                  </a:lnTo>
                  <a:lnTo>
                    <a:pt x="276" y="39"/>
                  </a:lnTo>
                  <a:lnTo>
                    <a:pt x="285" y="39"/>
                  </a:lnTo>
                  <a:lnTo>
                    <a:pt x="297" y="39"/>
                  </a:lnTo>
                  <a:lnTo>
                    <a:pt x="300" y="42"/>
                  </a:lnTo>
                  <a:lnTo>
                    <a:pt x="312" y="42"/>
                  </a:lnTo>
                  <a:lnTo>
                    <a:pt x="324" y="45"/>
                  </a:lnTo>
                  <a:lnTo>
                    <a:pt x="339" y="45"/>
                  </a:lnTo>
                  <a:lnTo>
                    <a:pt x="351" y="48"/>
                  </a:lnTo>
                  <a:lnTo>
                    <a:pt x="366" y="48"/>
                  </a:lnTo>
                  <a:lnTo>
                    <a:pt x="375" y="51"/>
                  </a:lnTo>
                  <a:lnTo>
                    <a:pt x="396" y="51"/>
                  </a:lnTo>
                  <a:lnTo>
                    <a:pt x="399" y="54"/>
                  </a:lnTo>
                  <a:lnTo>
                    <a:pt x="420" y="54"/>
                  </a:lnTo>
                  <a:lnTo>
                    <a:pt x="423" y="57"/>
                  </a:lnTo>
                  <a:lnTo>
                    <a:pt x="447" y="57"/>
                  </a:lnTo>
                  <a:lnTo>
                    <a:pt x="450" y="60"/>
                  </a:lnTo>
                  <a:lnTo>
                    <a:pt x="888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924"/>
            <p:cNvSpPr/>
            <p:nvPr/>
          </p:nvSpPr>
          <p:spPr>
            <a:xfrm flipH="1">
              <a:off x="7431840" y="2131560"/>
              <a:ext cx="435240" cy="168480"/>
            </a:xfrm>
            <a:custGeom>
              <a:avLst/>
              <a:gdLst/>
              <a:ahLst/>
              <a:rect l="l" t="t" r="r" b="b"/>
              <a:pathLst>
                <a:path w="822" h="318">
                  <a:moveTo>
                    <a:pt x="684" y="129"/>
                  </a:moveTo>
                  <a:lnTo>
                    <a:pt x="678" y="129"/>
                  </a:lnTo>
                  <a:lnTo>
                    <a:pt x="615" y="114"/>
                  </a:lnTo>
                  <a:lnTo>
                    <a:pt x="198" y="27"/>
                  </a:lnTo>
                  <a:lnTo>
                    <a:pt x="192" y="27"/>
                  </a:lnTo>
                  <a:lnTo>
                    <a:pt x="183" y="24"/>
                  </a:lnTo>
                  <a:lnTo>
                    <a:pt x="177" y="24"/>
                  </a:lnTo>
                  <a:lnTo>
                    <a:pt x="168" y="21"/>
                  </a:lnTo>
                  <a:lnTo>
                    <a:pt x="153" y="18"/>
                  </a:lnTo>
                  <a:lnTo>
                    <a:pt x="147" y="18"/>
                  </a:lnTo>
                  <a:lnTo>
                    <a:pt x="138" y="15"/>
                  </a:lnTo>
                  <a:lnTo>
                    <a:pt x="96" y="6"/>
                  </a:lnTo>
                  <a:lnTo>
                    <a:pt x="93" y="6"/>
                  </a:lnTo>
                  <a:lnTo>
                    <a:pt x="81" y="3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4" y="12"/>
                  </a:lnTo>
                  <a:lnTo>
                    <a:pt x="0" y="303"/>
                  </a:lnTo>
                  <a:lnTo>
                    <a:pt x="444" y="318"/>
                  </a:lnTo>
                  <a:lnTo>
                    <a:pt x="822" y="159"/>
                  </a:lnTo>
                  <a:lnTo>
                    <a:pt x="699" y="132"/>
                  </a:lnTo>
                  <a:lnTo>
                    <a:pt x="696" y="132"/>
                  </a:lnTo>
                  <a:lnTo>
                    <a:pt x="684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925"/>
            <p:cNvSpPr/>
            <p:nvPr/>
          </p:nvSpPr>
          <p:spPr>
            <a:xfrm flipH="1">
              <a:off x="7428960" y="2192040"/>
              <a:ext cx="112680" cy="19080"/>
            </a:xfrm>
            <a:custGeom>
              <a:avLst/>
              <a:gdLst/>
              <a:ahLst/>
              <a:rect l="l" t="t" r="r" b="b"/>
              <a:pathLst>
                <a:path w="213" h="36">
                  <a:moveTo>
                    <a:pt x="63" y="15"/>
                  </a:moveTo>
                  <a:lnTo>
                    <a:pt x="69" y="15"/>
                  </a:lnTo>
                  <a:lnTo>
                    <a:pt x="81" y="18"/>
                  </a:lnTo>
                  <a:lnTo>
                    <a:pt x="84" y="18"/>
                  </a:lnTo>
                  <a:lnTo>
                    <a:pt x="210" y="36"/>
                  </a:lnTo>
                  <a:lnTo>
                    <a:pt x="213" y="33"/>
                  </a:lnTo>
                  <a:lnTo>
                    <a:pt x="0" y="0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926"/>
            <p:cNvSpPr/>
            <p:nvPr/>
          </p:nvSpPr>
          <p:spPr>
            <a:xfrm flipH="1">
              <a:off x="7430400" y="2201400"/>
              <a:ext cx="66600" cy="14400"/>
            </a:xfrm>
            <a:custGeom>
              <a:avLst/>
              <a:gdLst/>
              <a:ahLst/>
              <a:rect l="l" t="t" r="r" b="b"/>
              <a:pathLst>
                <a:path w="126" h="27">
                  <a:moveTo>
                    <a:pt x="126" y="27"/>
                  </a:moveTo>
                  <a:lnTo>
                    <a:pt x="126" y="18"/>
                  </a:lnTo>
                  <a:lnTo>
                    <a:pt x="0" y="0"/>
                  </a:lnTo>
                  <a:lnTo>
                    <a:pt x="123" y="27"/>
                  </a:lnTo>
                  <a:lnTo>
                    <a:pt x="12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927"/>
            <p:cNvSpPr/>
            <p:nvPr/>
          </p:nvSpPr>
          <p:spPr>
            <a:xfrm flipH="1">
              <a:off x="7337160" y="2209680"/>
              <a:ext cx="93600" cy="226800"/>
            </a:xfrm>
            <a:custGeom>
              <a:avLst/>
              <a:gdLst/>
              <a:ahLst/>
              <a:rect l="l" t="t" r="r" b="b"/>
              <a:pathLst>
                <a:path w="177" h="429">
                  <a:moveTo>
                    <a:pt x="0" y="3"/>
                  </a:moveTo>
                  <a:lnTo>
                    <a:pt x="0" y="12"/>
                  </a:lnTo>
                  <a:lnTo>
                    <a:pt x="3" y="21"/>
                  </a:lnTo>
                  <a:lnTo>
                    <a:pt x="165" y="426"/>
                  </a:lnTo>
                  <a:lnTo>
                    <a:pt x="177" y="429"/>
                  </a:lnTo>
                  <a:lnTo>
                    <a:pt x="174" y="411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928"/>
            <p:cNvSpPr/>
            <p:nvPr/>
          </p:nvSpPr>
          <p:spPr>
            <a:xfrm flipH="1">
              <a:off x="7429320" y="2215800"/>
              <a:ext cx="203040" cy="87480"/>
            </a:xfrm>
            <a:custGeom>
              <a:avLst/>
              <a:gdLst/>
              <a:ahLst/>
              <a:rect l="l" t="t" r="r" b="b"/>
              <a:pathLst>
                <a:path w="384" h="165">
                  <a:moveTo>
                    <a:pt x="381" y="0"/>
                  </a:moveTo>
                  <a:lnTo>
                    <a:pt x="378" y="0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69" y="138"/>
                  </a:lnTo>
                  <a:lnTo>
                    <a:pt x="384" y="9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929"/>
            <p:cNvSpPr/>
            <p:nvPr/>
          </p:nvSpPr>
          <p:spPr>
            <a:xfrm flipH="1">
              <a:off x="7337160" y="2433240"/>
              <a:ext cx="14400" cy="792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4" y="15"/>
                  </a:moveTo>
                  <a:lnTo>
                    <a:pt x="27" y="6"/>
                  </a:lnTo>
                  <a:lnTo>
                    <a:pt x="15" y="3"/>
                  </a:lnTo>
                  <a:lnTo>
                    <a:pt x="0" y="0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930"/>
            <p:cNvSpPr/>
            <p:nvPr/>
          </p:nvSpPr>
          <p:spPr>
            <a:xfrm flipH="1">
              <a:off x="7332120" y="2388960"/>
              <a:ext cx="6120" cy="54000"/>
            </a:xfrm>
            <a:custGeom>
              <a:avLst/>
              <a:gdLst/>
              <a:ahLst/>
              <a:rect l="l" t="t" r="r" b="b"/>
              <a:pathLst>
                <a:path w="12" h="102">
                  <a:moveTo>
                    <a:pt x="3" y="90"/>
                  </a:moveTo>
                  <a:lnTo>
                    <a:pt x="0" y="99"/>
                  </a:lnTo>
                  <a:lnTo>
                    <a:pt x="12" y="102"/>
                  </a:lnTo>
                  <a:lnTo>
                    <a:pt x="6" y="0"/>
                  </a:lnTo>
                  <a:lnTo>
                    <a:pt x="0" y="72"/>
                  </a:lnTo>
                  <a:lnTo>
                    <a:pt x="3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931"/>
            <p:cNvSpPr/>
            <p:nvPr/>
          </p:nvSpPr>
          <p:spPr>
            <a:xfrm flipH="1">
              <a:off x="7343280" y="2220480"/>
              <a:ext cx="252720" cy="214560"/>
            </a:xfrm>
            <a:custGeom>
              <a:avLst/>
              <a:gdLst/>
              <a:ahLst/>
              <a:rect l="l" t="t" r="r" b="b"/>
              <a:pathLst>
                <a:path w="477" h="405">
                  <a:moveTo>
                    <a:pt x="462" y="399"/>
                  </a:moveTo>
                  <a:lnTo>
                    <a:pt x="462" y="402"/>
                  </a:lnTo>
                  <a:lnTo>
                    <a:pt x="477" y="405"/>
                  </a:lnTo>
                  <a:lnTo>
                    <a:pt x="315" y="0"/>
                  </a:lnTo>
                  <a:lnTo>
                    <a:pt x="0" y="129"/>
                  </a:lnTo>
                  <a:lnTo>
                    <a:pt x="432" y="384"/>
                  </a:lnTo>
                  <a:lnTo>
                    <a:pt x="441" y="387"/>
                  </a:lnTo>
                  <a:lnTo>
                    <a:pt x="447" y="393"/>
                  </a:lnTo>
                  <a:lnTo>
                    <a:pt x="462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932"/>
            <p:cNvSpPr/>
            <p:nvPr/>
          </p:nvSpPr>
          <p:spPr>
            <a:xfrm flipH="1">
              <a:off x="7071480" y="2077920"/>
              <a:ext cx="760680" cy="112680"/>
            </a:xfrm>
            <a:custGeom>
              <a:avLst/>
              <a:gdLst/>
              <a:ahLst/>
              <a:rect l="l" t="t" r="r" b="b"/>
              <a:pathLst>
                <a:path w="1437" h="213">
                  <a:moveTo>
                    <a:pt x="915" y="213"/>
                  </a:moveTo>
                  <a:lnTo>
                    <a:pt x="1437" y="87"/>
                  </a:lnTo>
                  <a:lnTo>
                    <a:pt x="1233" y="0"/>
                  </a:lnTo>
                  <a:lnTo>
                    <a:pt x="0" y="102"/>
                  </a:lnTo>
                  <a:lnTo>
                    <a:pt x="15" y="105"/>
                  </a:lnTo>
                  <a:lnTo>
                    <a:pt x="27" y="108"/>
                  </a:lnTo>
                  <a:lnTo>
                    <a:pt x="30" y="108"/>
                  </a:lnTo>
                  <a:lnTo>
                    <a:pt x="915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933"/>
            <p:cNvSpPr/>
            <p:nvPr/>
          </p:nvSpPr>
          <p:spPr>
            <a:xfrm flipH="1">
              <a:off x="7684920" y="215244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934"/>
            <p:cNvSpPr/>
            <p:nvPr/>
          </p:nvSpPr>
          <p:spPr>
            <a:xfrm flipH="1">
              <a:off x="7686360" y="21524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935"/>
            <p:cNvSpPr/>
            <p:nvPr/>
          </p:nvSpPr>
          <p:spPr>
            <a:xfrm flipH="1">
              <a:off x="7702200" y="215064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936"/>
            <p:cNvSpPr/>
            <p:nvPr/>
          </p:nvSpPr>
          <p:spPr>
            <a:xfrm flipH="1">
              <a:off x="7657920" y="215568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937"/>
            <p:cNvSpPr/>
            <p:nvPr/>
          </p:nvSpPr>
          <p:spPr>
            <a:xfrm flipH="1">
              <a:off x="7659360" y="215568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938"/>
            <p:cNvSpPr/>
            <p:nvPr/>
          </p:nvSpPr>
          <p:spPr>
            <a:xfrm flipH="1">
              <a:off x="7671960" y="215388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939"/>
            <p:cNvSpPr/>
            <p:nvPr/>
          </p:nvSpPr>
          <p:spPr>
            <a:xfrm flipH="1">
              <a:off x="7670520" y="215388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940"/>
            <p:cNvSpPr/>
            <p:nvPr/>
          </p:nvSpPr>
          <p:spPr>
            <a:xfrm flipH="1">
              <a:off x="7745040" y="214596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3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941"/>
            <p:cNvSpPr/>
            <p:nvPr/>
          </p:nvSpPr>
          <p:spPr>
            <a:xfrm flipH="1">
              <a:off x="7759080" y="214452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942"/>
            <p:cNvSpPr/>
            <p:nvPr/>
          </p:nvSpPr>
          <p:spPr>
            <a:xfrm flipH="1">
              <a:off x="7765560" y="2144520"/>
              <a:ext cx="504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943"/>
            <p:cNvSpPr/>
            <p:nvPr/>
          </p:nvSpPr>
          <p:spPr>
            <a:xfrm flipH="1">
              <a:off x="7773480" y="2142720"/>
              <a:ext cx="4680" cy="1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944"/>
            <p:cNvSpPr/>
            <p:nvPr/>
          </p:nvSpPr>
          <p:spPr>
            <a:xfrm flipH="1">
              <a:off x="7716240" y="214920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945"/>
            <p:cNvSpPr/>
            <p:nvPr/>
          </p:nvSpPr>
          <p:spPr>
            <a:xfrm flipH="1">
              <a:off x="7730640" y="214776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946"/>
            <p:cNvSpPr/>
            <p:nvPr/>
          </p:nvSpPr>
          <p:spPr>
            <a:xfrm flipH="1">
              <a:off x="7632000" y="2292120"/>
              <a:ext cx="235080" cy="11160"/>
            </a:xfrm>
            <a:custGeom>
              <a:avLst/>
              <a:gdLst/>
              <a:ahLst/>
              <a:rect l="l" t="t" r="r" b="b"/>
              <a:pathLst>
                <a:path w="444" h="21">
                  <a:moveTo>
                    <a:pt x="444" y="21"/>
                  </a:moveTo>
                  <a:lnTo>
                    <a:pt x="444" y="15"/>
                  </a:lnTo>
                  <a:lnTo>
                    <a:pt x="0" y="0"/>
                  </a:lnTo>
                  <a:lnTo>
                    <a:pt x="57" y="9"/>
                  </a:lnTo>
                  <a:lnTo>
                    <a:pt x="44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Group 2947"/>
          <p:cNvGrpSpPr/>
          <p:nvPr/>
        </p:nvGrpSpPr>
        <p:grpSpPr>
          <a:xfrm>
            <a:off x="7257960" y="2071800"/>
            <a:ext cx="782640" cy="354960"/>
            <a:chOff x="7257960" y="2071800"/>
            <a:chExt cx="782640" cy="354960"/>
          </a:xfrm>
        </p:grpSpPr>
        <p:sp>
          <p:nvSpPr>
            <p:cNvPr id="2326" name="Freeform 2948"/>
            <p:cNvSpPr/>
            <p:nvPr/>
          </p:nvSpPr>
          <p:spPr>
            <a:xfrm flipH="1">
              <a:off x="7257600" y="2114280"/>
              <a:ext cx="274680" cy="68040"/>
            </a:xfrm>
            <a:custGeom>
              <a:avLst/>
              <a:gdLst/>
              <a:ahLst/>
              <a:rect l="l" t="t" r="r" b="b"/>
              <a:pathLst>
                <a:path w="519" h="129">
                  <a:moveTo>
                    <a:pt x="519" y="6"/>
                  </a:moveTo>
                  <a:lnTo>
                    <a:pt x="513" y="0"/>
                  </a:lnTo>
                  <a:lnTo>
                    <a:pt x="3" y="123"/>
                  </a:lnTo>
                  <a:lnTo>
                    <a:pt x="0" y="126"/>
                  </a:lnTo>
                  <a:lnTo>
                    <a:pt x="12" y="129"/>
                  </a:lnTo>
                  <a:lnTo>
                    <a:pt x="12" y="126"/>
                  </a:lnTo>
                  <a:lnTo>
                    <a:pt x="21" y="126"/>
                  </a:lnTo>
                  <a:lnTo>
                    <a:pt x="51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949"/>
            <p:cNvSpPr/>
            <p:nvPr/>
          </p:nvSpPr>
          <p:spPr>
            <a:xfrm flipH="1">
              <a:off x="7608960" y="2182680"/>
              <a:ext cx="115920" cy="15480"/>
            </a:xfrm>
            <a:custGeom>
              <a:avLst/>
              <a:gdLst/>
              <a:ahLst/>
              <a:rect l="l" t="t" r="r" b="b"/>
              <a:pathLst>
                <a:path w="219" h="30">
                  <a:moveTo>
                    <a:pt x="216" y="30"/>
                  </a:moveTo>
                  <a:lnTo>
                    <a:pt x="219" y="27"/>
                  </a:lnTo>
                  <a:lnTo>
                    <a:pt x="0" y="0"/>
                  </a:lnTo>
                  <a:lnTo>
                    <a:pt x="48" y="9"/>
                  </a:lnTo>
                  <a:lnTo>
                    <a:pt x="57" y="12"/>
                  </a:lnTo>
                  <a:lnTo>
                    <a:pt x="66" y="12"/>
                  </a:lnTo>
                  <a:lnTo>
                    <a:pt x="81" y="15"/>
                  </a:lnTo>
                  <a:lnTo>
                    <a:pt x="84" y="15"/>
                  </a:lnTo>
                  <a:lnTo>
                    <a:pt x="21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950"/>
            <p:cNvSpPr/>
            <p:nvPr/>
          </p:nvSpPr>
          <p:spPr>
            <a:xfrm flipH="1">
              <a:off x="7521120" y="2196720"/>
              <a:ext cx="88920" cy="223560"/>
            </a:xfrm>
            <a:custGeom>
              <a:avLst/>
              <a:gdLst/>
              <a:ahLst/>
              <a:rect l="l" t="t" r="r" b="b"/>
              <a:pathLst>
                <a:path w="168" h="423">
                  <a:moveTo>
                    <a:pt x="3" y="0"/>
                  </a:moveTo>
                  <a:lnTo>
                    <a:pt x="0" y="3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159" y="420"/>
                  </a:lnTo>
                  <a:lnTo>
                    <a:pt x="168" y="423"/>
                  </a:lnTo>
                  <a:lnTo>
                    <a:pt x="168" y="4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951"/>
            <p:cNvSpPr/>
            <p:nvPr/>
          </p:nvSpPr>
          <p:spPr>
            <a:xfrm flipH="1">
              <a:off x="7608960" y="2190600"/>
              <a:ext cx="71280" cy="12240"/>
            </a:xfrm>
            <a:custGeom>
              <a:avLst/>
              <a:gdLst/>
              <a:ahLst/>
              <a:rect l="l" t="t" r="r" b="b"/>
              <a:pathLst>
                <a:path w="135" h="24">
                  <a:moveTo>
                    <a:pt x="135" y="24"/>
                  </a:moveTo>
                  <a:lnTo>
                    <a:pt x="132" y="15"/>
                  </a:lnTo>
                  <a:lnTo>
                    <a:pt x="0" y="0"/>
                  </a:lnTo>
                  <a:lnTo>
                    <a:pt x="129" y="24"/>
                  </a:lnTo>
                  <a:lnTo>
                    <a:pt x="13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952"/>
            <p:cNvSpPr/>
            <p:nvPr/>
          </p:nvSpPr>
          <p:spPr>
            <a:xfrm flipH="1">
              <a:off x="7608960" y="2203200"/>
              <a:ext cx="193680" cy="83880"/>
            </a:xfrm>
            <a:custGeom>
              <a:avLst/>
              <a:gdLst/>
              <a:ahLst/>
              <a:rect l="l" t="t" r="r" b="b"/>
              <a:pathLst>
                <a:path w="366" h="159">
                  <a:moveTo>
                    <a:pt x="366" y="6"/>
                  </a:moveTo>
                  <a:lnTo>
                    <a:pt x="366" y="0"/>
                  </a:lnTo>
                  <a:lnTo>
                    <a:pt x="360" y="0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33" y="147"/>
                  </a:lnTo>
                  <a:lnTo>
                    <a:pt x="36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953"/>
            <p:cNvSpPr/>
            <p:nvPr/>
          </p:nvSpPr>
          <p:spPr>
            <a:xfrm flipH="1">
              <a:off x="7521480" y="2180880"/>
              <a:ext cx="5040" cy="41040"/>
            </a:xfrm>
            <a:custGeom>
              <a:avLst/>
              <a:gdLst/>
              <a:ahLst/>
              <a:rect l="l" t="t" r="r" b="b"/>
              <a:pathLst>
                <a:path w="9" h="78">
                  <a:moveTo>
                    <a:pt x="9" y="78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9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954"/>
            <p:cNvSpPr/>
            <p:nvPr/>
          </p:nvSpPr>
          <p:spPr>
            <a:xfrm flipH="1">
              <a:off x="7518240" y="2141280"/>
              <a:ext cx="438120" cy="275760"/>
            </a:xfrm>
            <a:custGeom>
              <a:avLst/>
              <a:gdLst/>
              <a:ahLst/>
              <a:rect l="l" t="t" r="r" b="b"/>
              <a:pathLst>
                <a:path w="828" h="522">
                  <a:moveTo>
                    <a:pt x="822" y="153"/>
                  </a:moveTo>
                  <a:lnTo>
                    <a:pt x="813" y="78"/>
                  </a:lnTo>
                  <a:lnTo>
                    <a:pt x="801" y="75"/>
                  </a:lnTo>
                  <a:lnTo>
                    <a:pt x="381" y="36"/>
                  </a:lnTo>
                  <a:lnTo>
                    <a:pt x="378" y="33"/>
                  </a:lnTo>
                  <a:lnTo>
                    <a:pt x="351" y="33"/>
                  </a:lnTo>
                  <a:lnTo>
                    <a:pt x="348" y="30"/>
                  </a:lnTo>
                  <a:lnTo>
                    <a:pt x="321" y="30"/>
                  </a:lnTo>
                  <a:lnTo>
                    <a:pt x="312" y="27"/>
                  </a:lnTo>
                  <a:lnTo>
                    <a:pt x="291" y="27"/>
                  </a:lnTo>
                  <a:lnTo>
                    <a:pt x="279" y="24"/>
                  </a:lnTo>
                  <a:lnTo>
                    <a:pt x="261" y="24"/>
                  </a:lnTo>
                  <a:lnTo>
                    <a:pt x="258" y="24"/>
                  </a:lnTo>
                  <a:lnTo>
                    <a:pt x="246" y="21"/>
                  </a:lnTo>
                  <a:lnTo>
                    <a:pt x="231" y="21"/>
                  </a:lnTo>
                  <a:lnTo>
                    <a:pt x="228" y="21"/>
                  </a:lnTo>
                  <a:lnTo>
                    <a:pt x="213" y="18"/>
                  </a:lnTo>
                  <a:lnTo>
                    <a:pt x="201" y="18"/>
                  </a:lnTo>
                  <a:lnTo>
                    <a:pt x="192" y="18"/>
                  </a:lnTo>
                  <a:lnTo>
                    <a:pt x="180" y="15"/>
                  </a:lnTo>
                  <a:lnTo>
                    <a:pt x="171" y="15"/>
                  </a:lnTo>
                  <a:lnTo>
                    <a:pt x="159" y="15"/>
                  </a:lnTo>
                  <a:lnTo>
                    <a:pt x="147" y="12"/>
                  </a:lnTo>
                  <a:lnTo>
                    <a:pt x="141" y="12"/>
                  </a:lnTo>
                  <a:lnTo>
                    <a:pt x="126" y="12"/>
                  </a:lnTo>
                  <a:lnTo>
                    <a:pt x="114" y="9"/>
                  </a:lnTo>
                  <a:lnTo>
                    <a:pt x="111" y="9"/>
                  </a:lnTo>
                  <a:lnTo>
                    <a:pt x="93" y="9"/>
                  </a:lnTo>
                  <a:lnTo>
                    <a:pt x="81" y="6"/>
                  </a:lnTo>
                  <a:lnTo>
                    <a:pt x="60" y="6"/>
                  </a:lnTo>
                  <a:lnTo>
                    <a:pt x="48" y="3"/>
                  </a:lnTo>
                  <a:lnTo>
                    <a:pt x="27" y="3"/>
                  </a:lnTo>
                  <a:lnTo>
                    <a:pt x="15" y="0"/>
                  </a:lnTo>
                  <a:lnTo>
                    <a:pt x="0" y="0"/>
                  </a:lnTo>
                  <a:lnTo>
                    <a:pt x="438" y="78"/>
                  </a:lnTo>
                  <a:lnTo>
                    <a:pt x="657" y="105"/>
                  </a:lnTo>
                  <a:lnTo>
                    <a:pt x="822" y="522"/>
                  </a:lnTo>
                  <a:lnTo>
                    <a:pt x="828" y="522"/>
                  </a:lnTo>
                  <a:lnTo>
                    <a:pt x="822" y="15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955"/>
            <p:cNvSpPr/>
            <p:nvPr/>
          </p:nvSpPr>
          <p:spPr>
            <a:xfrm flipH="1">
              <a:off x="7531200" y="2130120"/>
              <a:ext cx="488880" cy="50400"/>
            </a:xfrm>
            <a:custGeom>
              <a:avLst/>
              <a:gdLst/>
              <a:ahLst/>
              <a:rect l="l" t="t" r="r" b="b"/>
              <a:pathLst>
                <a:path w="924" h="96">
                  <a:moveTo>
                    <a:pt x="921" y="96"/>
                  </a:moveTo>
                  <a:lnTo>
                    <a:pt x="924" y="93"/>
                  </a:lnTo>
                  <a:lnTo>
                    <a:pt x="0" y="0"/>
                  </a:lnTo>
                  <a:lnTo>
                    <a:pt x="81" y="15"/>
                  </a:lnTo>
                  <a:lnTo>
                    <a:pt x="84" y="15"/>
                  </a:lnTo>
                  <a:lnTo>
                    <a:pt x="111" y="18"/>
                  </a:lnTo>
                  <a:lnTo>
                    <a:pt x="114" y="18"/>
                  </a:lnTo>
                  <a:lnTo>
                    <a:pt x="141" y="21"/>
                  </a:lnTo>
                  <a:lnTo>
                    <a:pt x="147" y="21"/>
                  </a:lnTo>
                  <a:lnTo>
                    <a:pt x="171" y="24"/>
                  </a:lnTo>
                  <a:lnTo>
                    <a:pt x="180" y="24"/>
                  </a:lnTo>
                  <a:lnTo>
                    <a:pt x="201" y="27"/>
                  </a:lnTo>
                  <a:lnTo>
                    <a:pt x="213" y="27"/>
                  </a:lnTo>
                  <a:lnTo>
                    <a:pt x="231" y="30"/>
                  </a:lnTo>
                  <a:lnTo>
                    <a:pt x="234" y="30"/>
                  </a:lnTo>
                  <a:lnTo>
                    <a:pt x="246" y="30"/>
                  </a:lnTo>
                  <a:lnTo>
                    <a:pt x="261" y="33"/>
                  </a:lnTo>
                  <a:lnTo>
                    <a:pt x="267" y="33"/>
                  </a:lnTo>
                  <a:lnTo>
                    <a:pt x="279" y="33"/>
                  </a:lnTo>
                  <a:lnTo>
                    <a:pt x="291" y="36"/>
                  </a:lnTo>
                  <a:lnTo>
                    <a:pt x="300" y="36"/>
                  </a:lnTo>
                  <a:lnTo>
                    <a:pt x="312" y="36"/>
                  </a:lnTo>
                  <a:lnTo>
                    <a:pt x="321" y="39"/>
                  </a:lnTo>
                  <a:lnTo>
                    <a:pt x="333" y="39"/>
                  </a:lnTo>
                  <a:lnTo>
                    <a:pt x="348" y="39"/>
                  </a:lnTo>
                  <a:lnTo>
                    <a:pt x="351" y="42"/>
                  </a:lnTo>
                  <a:lnTo>
                    <a:pt x="366" y="42"/>
                  </a:lnTo>
                  <a:lnTo>
                    <a:pt x="378" y="42"/>
                  </a:lnTo>
                  <a:lnTo>
                    <a:pt x="381" y="45"/>
                  </a:lnTo>
                  <a:lnTo>
                    <a:pt x="399" y="45"/>
                  </a:lnTo>
                  <a:lnTo>
                    <a:pt x="411" y="48"/>
                  </a:lnTo>
                  <a:lnTo>
                    <a:pt x="432" y="48"/>
                  </a:lnTo>
                  <a:lnTo>
                    <a:pt x="441" y="51"/>
                  </a:lnTo>
                  <a:lnTo>
                    <a:pt x="468" y="51"/>
                  </a:lnTo>
                  <a:lnTo>
                    <a:pt x="471" y="54"/>
                  </a:lnTo>
                  <a:lnTo>
                    <a:pt x="498" y="54"/>
                  </a:lnTo>
                  <a:lnTo>
                    <a:pt x="501" y="57"/>
                  </a:lnTo>
                  <a:lnTo>
                    <a:pt x="92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956"/>
            <p:cNvSpPr/>
            <p:nvPr/>
          </p:nvSpPr>
          <p:spPr>
            <a:xfrm flipH="1">
              <a:off x="7526520" y="2206440"/>
              <a:ext cx="258480" cy="212400"/>
            </a:xfrm>
            <a:custGeom>
              <a:avLst/>
              <a:gdLst/>
              <a:ahLst/>
              <a:rect l="l" t="t" r="r" b="b"/>
              <a:pathLst>
                <a:path w="489" h="402">
                  <a:moveTo>
                    <a:pt x="426" y="372"/>
                  </a:moveTo>
                  <a:lnTo>
                    <a:pt x="438" y="381"/>
                  </a:lnTo>
                  <a:lnTo>
                    <a:pt x="489" y="402"/>
                  </a:lnTo>
                  <a:lnTo>
                    <a:pt x="333" y="0"/>
                  </a:lnTo>
                  <a:lnTo>
                    <a:pt x="0" y="141"/>
                  </a:lnTo>
                  <a:lnTo>
                    <a:pt x="417" y="369"/>
                  </a:lnTo>
                  <a:lnTo>
                    <a:pt x="426" y="3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2957"/>
            <p:cNvSpPr/>
            <p:nvPr/>
          </p:nvSpPr>
          <p:spPr>
            <a:xfrm flipH="1">
              <a:off x="7518600" y="2417400"/>
              <a:ext cx="28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958"/>
            <p:cNvSpPr/>
            <p:nvPr/>
          </p:nvSpPr>
          <p:spPr>
            <a:xfrm flipH="1">
              <a:off x="7518240" y="2408040"/>
              <a:ext cx="34920" cy="1872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0" y="24"/>
                  </a:moveTo>
                  <a:lnTo>
                    <a:pt x="51" y="21"/>
                  </a:lnTo>
                  <a:lnTo>
                    <a:pt x="0" y="0"/>
                  </a:lnTo>
                  <a:lnTo>
                    <a:pt x="57" y="36"/>
                  </a:lnTo>
                  <a:lnTo>
                    <a:pt x="66" y="36"/>
                  </a:lnTo>
                  <a:lnTo>
                    <a:pt x="66" y="24"/>
                  </a:lnTo>
                  <a:lnTo>
                    <a:pt x="6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959"/>
            <p:cNvSpPr/>
            <p:nvPr/>
          </p:nvSpPr>
          <p:spPr>
            <a:xfrm flipH="1">
              <a:off x="7260840" y="2071800"/>
              <a:ext cx="779400" cy="212400"/>
            </a:xfrm>
            <a:custGeom>
              <a:avLst/>
              <a:gdLst/>
              <a:ahLst/>
              <a:rect l="l" t="t" r="r" b="b"/>
              <a:pathLst>
                <a:path w="1473" h="402">
                  <a:moveTo>
                    <a:pt x="963" y="204"/>
                  </a:moveTo>
                  <a:lnTo>
                    <a:pt x="1473" y="81"/>
                  </a:lnTo>
                  <a:lnTo>
                    <a:pt x="1254" y="0"/>
                  </a:lnTo>
                  <a:lnTo>
                    <a:pt x="24" y="108"/>
                  </a:lnTo>
                  <a:lnTo>
                    <a:pt x="9" y="108"/>
                  </a:lnTo>
                  <a:lnTo>
                    <a:pt x="6" y="138"/>
                  </a:lnTo>
                  <a:lnTo>
                    <a:pt x="0" y="393"/>
                  </a:lnTo>
                  <a:lnTo>
                    <a:pt x="112" y="397"/>
                  </a:lnTo>
                  <a:lnTo>
                    <a:pt x="450" y="402"/>
                  </a:lnTo>
                  <a:lnTo>
                    <a:pt x="810" y="249"/>
                  </a:lnTo>
                  <a:lnTo>
                    <a:pt x="681" y="225"/>
                  </a:lnTo>
                  <a:lnTo>
                    <a:pt x="678" y="225"/>
                  </a:lnTo>
                  <a:lnTo>
                    <a:pt x="663" y="222"/>
                  </a:lnTo>
                  <a:lnTo>
                    <a:pt x="654" y="222"/>
                  </a:lnTo>
                  <a:lnTo>
                    <a:pt x="645" y="219"/>
                  </a:lnTo>
                  <a:lnTo>
                    <a:pt x="597" y="210"/>
                  </a:lnTo>
                  <a:lnTo>
                    <a:pt x="159" y="132"/>
                  </a:lnTo>
                  <a:lnTo>
                    <a:pt x="153" y="132"/>
                  </a:lnTo>
                  <a:lnTo>
                    <a:pt x="141" y="129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39" y="111"/>
                  </a:lnTo>
                  <a:lnTo>
                    <a:pt x="963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960"/>
            <p:cNvSpPr/>
            <p:nvPr/>
          </p:nvSpPr>
          <p:spPr>
            <a:xfrm flipH="1">
              <a:off x="7818480" y="2152440"/>
              <a:ext cx="1440" cy="10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961"/>
            <p:cNvSpPr/>
            <p:nvPr/>
          </p:nvSpPr>
          <p:spPr>
            <a:xfrm flipH="1">
              <a:off x="7819920" y="215244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962"/>
            <p:cNvSpPr/>
            <p:nvPr/>
          </p:nvSpPr>
          <p:spPr>
            <a:xfrm flipH="1">
              <a:off x="7872480" y="214776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963"/>
            <p:cNvSpPr/>
            <p:nvPr/>
          </p:nvSpPr>
          <p:spPr>
            <a:xfrm flipH="1">
              <a:off x="7889760" y="214596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964"/>
            <p:cNvSpPr/>
            <p:nvPr/>
          </p:nvSpPr>
          <p:spPr>
            <a:xfrm flipH="1">
              <a:off x="7835400" y="2150640"/>
              <a:ext cx="828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965"/>
            <p:cNvSpPr/>
            <p:nvPr/>
          </p:nvSpPr>
          <p:spPr>
            <a:xfrm flipH="1">
              <a:off x="7834320" y="215064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966"/>
            <p:cNvSpPr/>
            <p:nvPr/>
          </p:nvSpPr>
          <p:spPr>
            <a:xfrm flipH="1">
              <a:off x="7854840" y="214920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967"/>
            <p:cNvSpPr/>
            <p:nvPr/>
          </p:nvSpPr>
          <p:spPr>
            <a:xfrm flipH="1">
              <a:off x="7802640" y="2282400"/>
              <a:ext cx="177840" cy="4680"/>
            </a:xfrm>
            <a:custGeom>
              <a:avLst/>
              <a:gdLst/>
              <a:ahLst/>
              <a:rect l="l" t="t" r="r" b="b"/>
              <a:pathLst>
                <a:path w="338" h="11">
                  <a:moveTo>
                    <a:pt x="338" y="11"/>
                  </a:moveTo>
                  <a:lnTo>
                    <a:pt x="338" y="5"/>
                  </a:lnTo>
                  <a:lnTo>
                    <a:pt x="0" y="0"/>
                  </a:lnTo>
                  <a:lnTo>
                    <a:pt x="338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968"/>
            <p:cNvSpPr/>
            <p:nvPr/>
          </p:nvSpPr>
          <p:spPr>
            <a:xfrm flipH="1">
              <a:off x="7924680" y="214272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3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969"/>
            <p:cNvSpPr/>
            <p:nvPr/>
          </p:nvSpPr>
          <p:spPr>
            <a:xfrm flipH="1">
              <a:off x="7942320" y="214128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970"/>
            <p:cNvSpPr/>
            <p:nvPr/>
          </p:nvSpPr>
          <p:spPr>
            <a:xfrm flipH="1">
              <a:off x="7907400" y="214452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971"/>
            <p:cNvSpPr/>
            <p:nvPr/>
          </p:nvSpPr>
          <p:spPr>
            <a:xfrm flipH="1">
              <a:off x="7959600" y="2139840"/>
              <a:ext cx="648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9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Group 2972"/>
          <p:cNvGrpSpPr/>
          <p:nvPr/>
        </p:nvGrpSpPr>
        <p:grpSpPr>
          <a:xfrm>
            <a:off x="7423560" y="2065320"/>
            <a:ext cx="783720" cy="344520"/>
            <a:chOff x="7423560" y="2065320"/>
            <a:chExt cx="783720" cy="344520"/>
          </a:xfrm>
        </p:grpSpPr>
        <p:sp>
          <p:nvSpPr>
            <p:cNvPr id="2351" name="Freeform 2973"/>
            <p:cNvSpPr/>
            <p:nvPr/>
          </p:nvSpPr>
          <p:spPr>
            <a:xfrm flipH="1">
              <a:off x="7426440" y="2065320"/>
              <a:ext cx="772920" cy="99720"/>
            </a:xfrm>
            <a:custGeom>
              <a:avLst/>
              <a:gdLst/>
              <a:ahLst/>
              <a:rect l="l" t="t" r="r" b="b"/>
              <a:pathLst>
                <a:path w="1461" h="189">
                  <a:moveTo>
                    <a:pt x="1248" y="3"/>
                  </a:moveTo>
                  <a:lnTo>
                    <a:pt x="1212" y="0"/>
                  </a:lnTo>
                  <a:lnTo>
                    <a:pt x="0" y="111"/>
                  </a:lnTo>
                  <a:lnTo>
                    <a:pt x="9" y="111"/>
                  </a:lnTo>
                  <a:lnTo>
                    <a:pt x="21" y="114"/>
                  </a:lnTo>
                  <a:lnTo>
                    <a:pt x="30" y="114"/>
                  </a:lnTo>
                  <a:lnTo>
                    <a:pt x="969" y="189"/>
                  </a:lnTo>
                  <a:lnTo>
                    <a:pt x="1461" y="72"/>
                  </a:lnTo>
                  <a:lnTo>
                    <a:pt x="124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2974"/>
            <p:cNvSpPr/>
            <p:nvPr/>
          </p:nvSpPr>
          <p:spPr>
            <a:xfrm flipH="1">
              <a:off x="7423200" y="2103480"/>
              <a:ext cx="263160" cy="64800"/>
            </a:xfrm>
            <a:custGeom>
              <a:avLst/>
              <a:gdLst/>
              <a:ahLst/>
              <a:rect l="l" t="t" r="r" b="b"/>
              <a:pathLst>
                <a:path w="498" h="123">
                  <a:moveTo>
                    <a:pt x="498" y="6"/>
                  </a:moveTo>
                  <a:lnTo>
                    <a:pt x="492" y="0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9" y="123"/>
                  </a:lnTo>
                  <a:lnTo>
                    <a:pt x="18" y="120"/>
                  </a:lnTo>
                  <a:lnTo>
                    <a:pt x="49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2975"/>
            <p:cNvSpPr/>
            <p:nvPr/>
          </p:nvSpPr>
          <p:spPr>
            <a:xfrm flipH="1">
              <a:off x="7686720" y="2125440"/>
              <a:ext cx="496440" cy="42840"/>
            </a:xfrm>
            <a:custGeom>
              <a:avLst/>
              <a:gdLst/>
              <a:ahLst/>
              <a:rect l="l" t="t" r="r" b="b"/>
              <a:pathLst>
                <a:path w="939" h="81">
                  <a:moveTo>
                    <a:pt x="939" y="81"/>
                  </a:moveTo>
                  <a:lnTo>
                    <a:pt x="939" y="75"/>
                  </a:lnTo>
                  <a:lnTo>
                    <a:pt x="0" y="0"/>
                  </a:lnTo>
                  <a:lnTo>
                    <a:pt x="60" y="9"/>
                  </a:lnTo>
                  <a:lnTo>
                    <a:pt x="69" y="12"/>
                  </a:lnTo>
                  <a:lnTo>
                    <a:pt x="78" y="12"/>
                  </a:lnTo>
                  <a:lnTo>
                    <a:pt x="144" y="18"/>
                  </a:lnTo>
                  <a:lnTo>
                    <a:pt x="147" y="18"/>
                  </a:lnTo>
                  <a:lnTo>
                    <a:pt x="180" y="21"/>
                  </a:lnTo>
                  <a:lnTo>
                    <a:pt x="186" y="21"/>
                  </a:lnTo>
                  <a:lnTo>
                    <a:pt x="216" y="24"/>
                  </a:lnTo>
                  <a:lnTo>
                    <a:pt x="228" y="24"/>
                  </a:lnTo>
                  <a:lnTo>
                    <a:pt x="252" y="27"/>
                  </a:lnTo>
                  <a:lnTo>
                    <a:pt x="255" y="27"/>
                  </a:lnTo>
                  <a:lnTo>
                    <a:pt x="267" y="27"/>
                  </a:lnTo>
                  <a:lnTo>
                    <a:pt x="288" y="30"/>
                  </a:lnTo>
                  <a:lnTo>
                    <a:pt x="297" y="30"/>
                  </a:lnTo>
                  <a:lnTo>
                    <a:pt x="309" y="30"/>
                  </a:lnTo>
                  <a:lnTo>
                    <a:pt x="324" y="33"/>
                  </a:lnTo>
                  <a:lnTo>
                    <a:pt x="339" y="33"/>
                  </a:lnTo>
                  <a:lnTo>
                    <a:pt x="351" y="33"/>
                  </a:lnTo>
                  <a:lnTo>
                    <a:pt x="360" y="36"/>
                  </a:lnTo>
                  <a:lnTo>
                    <a:pt x="378" y="36"/>
                  </a:lnTo>
                  <a:lnTo>
                    <a:pt x="390" y="36"/>
                  </a:lnTo>
                  <a:lnTo>
                    <a:pt x="399" y="39"/>
                  </a:lnTo>
                  <a:lnTo>
                    <a:pt x="420" y="39"/>
                  </a:lnTo>
                  <a:lnTo>
                    <a:pt x="432" y="39"/>
                  </a:lnTo>
                  <a:lnTo>
                    <a:pt x="435" y="42"/>
                  </a:lnTo>
                  <a:lnTo>
                    <a:pt x="462" y="42"/>
                  </a:lnTo>
                  <a:lnTo>
                    <a:pt x="471" y="45"/>
                  </a:lnTo>
                  <a:lnTo>
                    <a:pt x="504" y="45"/>
                  </a:lnTo>
                  <a:lnTo>
                    <a:pt x="507" y="48"/>
                  </a:lnTo>
                  <a:lnTo>
                    <a:pt x="939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2976"/>
            <p:cNvSpPr/>
            <p:nvPr/>
          </p:nvSpPr>
          <p:spPr>
            <a:xfrm flipH="1">
              <a:off x="7677720" y="2166840"/>
              <a:ext cx="4320" cy="20520"/>
            </a:xfrm>
            <a:custGeom>
              <a:avLst/>
              <a:gdLst/>
              <a:ahLst/>
              <a:rect l="l" t="t" r="r" b="b"/>
              <a:pathLst>
                <a:path w="9" h="39">
                  <a:moveTo>
                    <a:pt x="6" y="39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2977"/>
            <p:cNvSpPr/>
            <p:nvPr/>
          </p:nvSpPr>
          <p:spPr>
            <a:xfrm flipH="1">
              <a:off x="7675560" y="2136600"/>
              <a:ext cx="433080" cy="263520"/>
            </a:xfrm>
            <a:custGeom>
              <a:avLst/>
              <a:gdLst/>
              <a:ahLst/>
              <a:rect l="l" t="t" r="r" b="b"/>
              <a:pathLst>
                <a:path w="819" h="498">
                  <a:moveTo>
                    <a:pt x="807" y="60"/>
                  </a:moveTo>
                  <a:lnTo>
                    <a:pt x="798" y="60"/>
                  </a:lnTo>
                  <a:lnTo>
                    <a:pt x="366" y="27"/>
                  </a:lnTo>
                  <a:lnTo>
                    <a:pt x="363" y="24"/>
                  </a:lnTo>
                  <a:lnTo>
                    <a:pt x="330" y="24"/>
                  </a:lnTo>
                  <a:lnTo>
                    <a:pt x="321" y="21"/>
                  </a:lnTo>
                  <a:lnTo>
                    <a:pt x="294" y="21"/>
                  </a:lnTo>
                  <a:lnTo>
                    <a:pt x="291" y="21"/>
                  </a:lnTo>
                  <a:lnTo>
                    <a:pt x="279" y="18"/>
                  </a:lnTo>
                  <a:lnTo>
                    <a:pt x="258" y="18"/>
                  </a:lnTo>
                  <a:lnTo>
                    <a:pt x="249" y="18"/>
                  </a:lnTo>
                  <a:lnTo>
                    <a:pt x="237" y="15"/>
                  </a:lnTo>
                  <a:lnTo>
                    <a:pt x="219" y="15"/>
                  </a:lnTo>
                  <a:lnTo>
                    <a:pt x="210" y="15"/>
                  </a:lnTo>
                  <a:lnTo>
                    <a:pt x="198" y="12"/>
                  </a:lnTo>
                  <a:lnTo>
                    <a:pt x="183" y="12"/>
                  </a:lnTo>
                  <a:lnTo>
                    <a:pt x="168" y="12"/>
                  </a:lnTo>
                  <a:lnTo>
                    <a:pt x="156" y="9"/>
                  </a:lnTo>
                  <a:lnTo>
                    <a:pt x="147" y="9"/>
                  </a:lnTo>
                  <a:lnTo>
                    <a:pt x="126" y="9"/>
                  </a:lnTo>
                  <a:lnTo>
                    <a:pt x="114" y="6"/>
                  </a:lnTo>
                  <a:lnTo>
                    <a:pt x="111" y="6"/>
                  </a:lnTo>
                  <a:lnTo>
                    <a:pt x="87" y="6"/>
                  </a:lnTo>
                  <a:lnTo>
                    <a:pt x="75" y="3"/>
                  </a:lnTo>
                  <a:lnTo>
                    <a:pt x="45" y="3"/>
                  </a:lnTo>
                  <a:lnTo>
                    <a:pt x="3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432" y="66"/>
                  </a:lnTo>
                  <a:lnTo>
                    <a:pt x="654" y="87"/>
                  </a:lnTo>
                  <a:lnTo>
                    <a:pt x="813" y="498"/>
                  </a:lnTo>
                  <a:lnTo>
                    <a:pt x="819" y="498"/>
                  </a:lnTo>
                  <a:lnTo>
                    <a:pt x="813" y="96"/>
                  </a:lnTo>
                  <a:lnTo>
                    <a:pt x="807" y="72"/>
                  </a:lnTo>
                  <a:lnTo>
                    <a:pt x="807" y="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2978"/>
            <p:cNvSpPr/>
            <p:nvPr/>
          </p:nvSpPr>
          <p:spPr>
            <a:xfrm flipH="1">
              <a:off x="7675920" y="2182680"/>
              <a:ext cx="88560" cy="220680"/>
            </a:xfrm>
            <a:custGeom>
              <a:avLst/>
              <a:gdLst/>
              <a:ahLst/>
              <a:rect l="l" t="t" r="r" b="b"/>
              <a:pathLst>
                <a:path w="168" h="417">
                  <a:moveTo>
                    <a:pt x="168" y="417"/>
                  </a:moveTo>
                  <a:lnTo>
                    <a:pt x="168" y="411"/>
                  </a:lnTo>
                  <a:lnTo>
                    <a:pt x="162" y="411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3" y="21"/>
                  </a:lnTo>
                  <a:lnTo>
                    <a:pt x="153" y="414"/>
                  </a:lnTo>
                  <a:lnTo>
                    <a:pt x="162" y="417"/>
                  </a:lnTo>
                  <a:lnTo>
                    <a:pt x="168" y="4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2979"/>
            <p:cNvSpPr/>
            <p:nvPr/>
          </p:nvSpPr>
          <p:spPr>
            <a:xfrm flipH="1">
              <a:off x="7675920" y="2376360"/>
              <a:ext cx="63360" cy="33480"/>
            </a:xfrm>
            <a:custGeom>
              <a:avLst/>
              <a:gdLst/>
              <a:ahLst/>
              <a:rect l="l" t="t" r="r" b="b"/>
              <a:pathLst>
                <a:path w="120" h="63">
                  <a:moveTo>
                    <a:pt x="114" y="51"/>
                  </a:moveTo>
                  <a:lnTo>
                    <a:pt x="105" y="48"/>
                  </a:lnTo>
                  <a:lnTo>
                    <a:pt x="0" y="0"/>
                  </a:lnTo>
                  <a:lnTo>
                    <a:pt x="114" y="63"/>
                  </a:lnTo>
                  <a:lnTo>
                    <a:pt x="120" y="51"/>
                  </a:lnTo>
                  <a:lnTo>
                    <a:pt x="114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2980"/>
            <p:cNvSpPr/>
            <p:nvPr/>
          </p:nvSpPr>
          <p:spPr>
            <a:xfrm flipH="1">
              <a:off x="7763040" y="2176200"/>
              <a:ext cx="85320" cy="12960"/>
            </a:xfrm>
            <a:custGeom>
              <a:avLst/>
              <a:gdLst/>
              <a:ahLst/>
              <a:rect l="l" t="t" r="r" b="b"/>
              <a:pathLst>
                <a:path w="162" h="24">
                  <a:moveTo>
                    <a:pt x="0" y="0"/>
                  </a:moveTo>
                  <a:lnTo>
                    <a:pt x="159" y="24"/>
                  </a:lnTo>
                  <a:lnTo>
                    <a:pt x="162" y="24"/>
                  </a:lnTo>
                  <a:lnTo>
                    <a:pt x="15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2981"/>
            <p:cNvSpPr/>
            <p:nvPr/>
          </p:nvSpPr>
          <p:spPr>
            <a:xfrm flipH="1">
              <a:off x="7764480" y="2124000"/>
              <a:ext cx="439560" cy="142920"/>
            </a:xfrm>
            <a:custGeom>
              <a:avLst/>
              <a:gdLst/>
              <a:ahLst/>
              <a:rect l="l" t="t" r="r" b="b"/>
              <a:pathLst>
                <a:path w="831" h="270">
                  <a:moveTo>
                    <a:pt x="831" y="123"/>
                  </a:moveTo>
                  <a:lnTo>
                    <a:pt x="672" y="99"/>
                  </a:lnTo>
                  <a:lnTo>
                    <a:pt x="663" y="99"/>
                  </a:lnTo>
                  <a:lnTo>
                    <a:pt x="651" y="96"/>
                  </a:lnTo>
                  <a:lnTo>
                    <a:pt x="612" y="90"/>
                  </a:lnTo>
                  <a:lnTo>
                    <a:pt x="180" y="24"/>
                  </a:lnTo>
                  <a:lnTo>
                    <a:pt x="174" y="24"/>
                  </a:lnTo>
                  <a:lnTo>
                    <a:pt x="159" y="21"/>
                  </a:lnTo>
                  <a:lnTo>
                    <a:pt x="117" y="15"/>
                  </a:lnTo>
                  <a:lnTo>
                    <a:pt x="108" y="15"/>
                  </a:lnTo>
                  <a:lnTo>
                    <a:pt x="99" y="12"/>
                  </a:lnTo>
                  <a:lnTo>
                    <a:pt x="39" y="3"/>
                  </a:lnTo>
                  <a:lnTo>
                    <a:pt x="30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33" y="264"/>
                  </a:lnTo>
                  <a:lnTo>
                    <a:pt x="147" y="267"/>
                  </a:lnTo>
                  <a:lnTo>
                    <a:pt x="492" y="270"/>
                  </a:lnTo>
                  <a:lnTo>
                    <a:pt x="831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2982"/>
            <p:cNvSpPr/>
            <p:nvPr/>
          </p:nvSpPr>
          <p:spPr>
            <a:xfrm flipH="1">
              <a:off x="7763400" y="2189160"/>
              <a:ext cx="180720" cy="81000"/>
            </a:xfrm>
            <a:custGeom>
              <a:avLst/>
              <a:gdLst/>
              <a:ahLst/>
              <a:rect l="l" t="t" r="r" b="b"/>
              <a:pathLst>
                <a:path w="342" h="153">
                  <a:moveTo>
                    <a:pt x="342" y="0"/>
                  </a:moveTo>
                  <a:lnTo>
                    <a:pt x="339" y="0"/>
                  </a:lnTo>
                  <a:lnTo>
                    <a:pt x="0" y="147"/>
                  </a:lnTo>
                  <a:lnTo>
                    <a:pt x="0" y="153"/>
                  </a:lnTo>
                  <a:lnTo>
                    <a:pt x="342" y="9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2983"/>
            <p:cNvSpPr/>
            <p:nvPr/>
          </p:nvSpPr>
          <p:spPr>
            <a:xfrm flipH="1">
              <a:off x="7763040" y="2171520"/>
              <a:ext cx="117000" cy="12600"/>
            </a:xfrm>
            <a:custGeom>
              <a:avLst/>
              <a:gdLst/>
              <a:ahLst/>
              <a:rect l="l" t="t" r="r" b="b"/>
              <a:pathLst>
                <a:path w="222" h="24">
                  <a:moveTo>
                    <a:pt x="219" y="24"/>
                  </a:moveTo>
                  <a:lnTo>
                    <a:pt x="222" y="21"/>
                  </a:lnTo>
                  <a:lnTo>
                    <a:pt x="0" y="0"/>
                  </a:lnTo>
                  <a:lnTo>
                    <a:pt x="39" y="6"/>
                  </a:lnTo>
                  <a:lnTo>
                    <a:pt x="51" y="6"/>
                  </a:lnTo>
                  <a:lnTo>
                    <a:pt x="51" y="9"/>
                  </a:lnTo>
                  <a:lnTo>
                    <a:pt x="60" y="9"/>
                  </a:lnTo>
                  <a:lnTo>
                    <a:pt x="21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2984"/>
            <p:cNvSpPr/>
            <p:nvPr/>
          </p:nvSpPr>
          <p:spPr>
            <a:xfrm flipH="1">
              <a:off x="7954920" y="214632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2985"/>
            <p:cNvSpPr/>
            <p:nvPr/>
          </p:nvSpPr>
          <p:spPr>
            <a:xfrm flipH="1">
              <a:off x="7953480" y="2146320"/>
              <a:ext cx="108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2986"/>
            <p:cNvSpPr/>
            <p:nvPr/>
          </p:nvSpPr>
          <p:spPr>
            <a:xfrm flipH="1">
              <a:off x="7977240" y="214452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2987"/>
            <p:cNvSpPr/>
            <p:nvPr/>
          </p:nvSpPr>
          <p:spPr>
            <a:xfrm flipH="1">
              <a:off x="7853400" y="217476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2988"/>
            <p:cNvSpPr/>
            <p:nvPr/>
          </p:nvSpPr>
          <p:spPr>
            <a:xfrm flipH="1">
              <a:off x="7944480" y="2265120"/>
              <a:ext cx="182160" cy="5040"/>
            </a:xfrm>
            <a:custGeom>
              <a:avLst/>
              <a:gdLst/>
              <a:ahLst/>
              <a:rect l="l" t="t" r="r" b="b"/>
              <a:pathLst>
                <a:path w="345" h="9">
                  <a:moveTo>
                    <a:pt x="339" y="9"/>
                  </a:moveTo>
                  <a:lnTo>
                    <a:pt x="345" y="9"/>
                  </a:lnTo>
                  <a:lnTo>
                    <a:pt x="345" y="3"/>
                  </a:lnTo>
                  <a:lnTo>
                    <a:pt x="0" y="0"/>
                  </a:lnTo>
                  <a:lnTo>
                    <a:pt x="33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2989"/>
            <p:cNvSpPr/>
            <p:nvPr/>
          </p:nvSpPr>
          <p:spPr>
            <a:xfrm flipH="1">
              <a:off x="7683480" y="2193840"/>
              <a:ext cx="263160" cy="208080"/>
            </a:xfrm>
            <a:custGeom>
              <a:avLst/>
              <a:gdLst/>
              <a:ahLst/>
              <a:rect l="l" t="t" r="r" b="b"/>
              <a:pathLst>
                <a:path w="498" h="393">
                  <a:moveTo>
                    <a:pt x="6" y="144"/>
                  </a:moveTo>
                  <a:lnTo>
                    <a:pt x="0" y="144"/>
                  </a:lnTo>
                  <a:lnTo>
                    <a:pt x="393" y="345"/>
                  </a:lnTo>
                  <a:lnTo>
                    <a:pt x="498" y="393"/>
                  </a:lnTo>
                  <a:lnTo>
                    <a:pt x="348" y="0"/>
                  </a:lnTo>
                  <a:lnTo>
                    <a:pt x="6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2990"/>
            <p:cNvSpPr/>
            <p:nvPr/>
          </p:nvSpPr>
          <p:spPr>
            <a:xfrm flipH="1">
              <a:off x="8020080" y="214128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2991"/>
            <p:cNvSpPr/>
            <p:nvPr/>
          </p:nvSpPr>
          <p:spPr>
            <a:xfrm flipH="1">
              <a:off x="8042400" y="213984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2992"/>
            <p:cNvSpPr/>
            <p:nvPr/>
          </p:nvSpPr>
          <p:spPr>
            <a:xfrm flipH="1">
              <a:off x="7998480" y="2143080"/>
              <a:ext cx="576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2993"/>
            <p:cNvSpPr/>
            <p:nvPr/>
          </p:nvSpPr>
          <p:spPr>
            <a:xfrm flipH="1">
              <a:off x="8105760" y="213516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2994"/>
            <p:cNvSpPr/>
            <p:nvPr/>
          </p:nvSpPr>
          <p:spPr>
            <a:xfrm flipH="1">
              <a:off x="8085240" y="213660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6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2995"/>
            <p:cNvSpPr/>
            <p:nvPr/>
          </p:nvSpPr>
          <p:spPr>
            <a:xfrm flipH="1">
              <a:off x="8062920" y="213840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2996"/>
            <p:cNvSpPr/>
            <p:nvPr/>
          </p:nvSpPr>
          <p:spPr>
            <a:xfrm flipH="1">
              <a:off x="8112240" y="2135160"/>
              <a:ext cx="756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2997"/>
            <p:cNvSpPr/>
            <p:nvPr/>
          </p:nvSpPr>
          <p:spPr>
            <a:xfrm flipH="1">
              <a:off x="8204400" y="2139840"/>
              <a:ext cx="288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2998"/>
            <p:cNvSpPr/>
            <p:nvPr/>
          </p:nvSpPr>
          <p:spPr>
            <a:xfrm flipH="1">
              <a:off x="8204400" y="2138400"/>
              <a:ext cx="288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7" name="Group 2999"/>
          <p:cNvGrpSpPr/>
          <p:nvPr/>
        </p:nvGrpSpPr>
        <p:grpSpPr>
          <a:xfrm>
            <a:off x="7590960" y="2058840"/>
            <a:ext cx="784440" cy="333360"/>
            <a:chOff x="7590960" y="2058840"/>
            <a:chExt cx="784440" cy="333360"/>
          </a:xfrm>
        </p:grpSpPr>
        <p:sp>
          <p:nvSpPr>
            <p:cNvPr id="2378" name="Freeform 3000"/>
            <p:cNvSpPr/>
            <p:nvPr/>
          </p:nvSpPr>
          <p:spPr>
            <a:xfrm flipH="1">
              <a:off x="7590960" y="2093760"/>
              <a:ext cx="255600" cy="63720"/>
            </a:xfrm>
            <a:custGeom>
              <a:avLst/>
              <a:gdLst/>
              <a:ahLst/>
              <a:rect l="l" t="t" r="r" b="b"/>
              <a:pathLst>
                <a:path w="483" h="120">
                  <a:moveTo>
                    <a:pt x="483" y="6"/>
                  </a:moveTo>
                  <a:lnTo>
                    <a:pt x="474" y="0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9" y="120"/>
                  </a:lnTo>
                  <a:lnTo>
                    <a:pt x="15" y="117"/>
                  </a:lnTo>
                  <a:lnTo>
                    <a:pt x="48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3001"/>
            <p:cNvSpPr/>
            <p:nvPr/>
          </p:nvSpPr>
          <p:spPr>
            <a:xfrm flipH="1">
              <a:off x="7595640" y="2058840"/>
              <a:ext cx="766440" cy="95400"/>
            </a:xfrm>
            <a:custGeom>
              <a:avLst/>
              <a:gdLst/>
              <a:ahLst/>
              <a:rect l="l" t="t" r="r" b="b"/>
              <a:pathLst>
                <a:path w="1449" h="180">
                  <a:moveTo>
                    <a:pt x="1449" y="66"/>
                  </a:moveTo>
                  <a:lnTo>
                    <a:pt x="1203" y="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15" y="117"/>
                  </a:lnTo>
                  <a:lnTo>
                    <a:pt x="975" y="180"/>
                  </a:lnTo>
                  <a:lnTo>
                    <a:pt x="1449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3002"/>
            <p:cNvSpPr/>
            <p:nvPr/>
          </p:nvSpPr>
          <p:spPr>
            <a:xfrm flipH="1">
              <a:off x="8362440" y="2119320"/>
              <a:ext cx="504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3003"/>
            <p:cNvSpPr/>
            <p:nvPr/>
          </p:nvSpPr>
          <p:spPr>
            <a:xfrm flipH="1">
              <a:off x="7919280" y="2119320"/>
              <a:ext cx="453960" cy="131760"/>
            </a:xfrm>
            <a:custGeom>
              <a:avLst/>
              <a:gdLst/>
              <a:ahLst/>
              <a:rect l="l" t="t" r="r" b="b"/>
              <a:pathLst>
                <a:path w="858" h="247">
                  <a:moveTo>
                    <a:pt x="36" y="3"/>
                  </a:moveTo>
                  <a:lnTo>
                    <a:pt x="21" y="3"/>
                  </a:lnTo>
                  <a:lnTo>
                    <a:pt x="12" y="0"/>
                  </a:lnTo>
                  <a:lnTo>
                    <a:pt x="0" y="0"/>
                  </a:lnTo>
                  <a:lnTo>
                    <a:pt x="9" y="27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78" y="246"/>
                  </a:lnTo>
                  <a:lnTo>
                    <a:pt x="176" y="247"/>
                  </a:lnTo>
                  <a:lnTo>
                    <a:pt x="540" y="246"/>
                  </a:lnTo>
                  <a:lnTo>
                    <a:pt x="698" y="178"/>
                  </a:lnTo>
                  <a:lnTo>
                    <a:pt x="858" y="111"/>
                  </a:lnTo>
                  <a:lnTo>
                    <a:pt x="858" y="108"/>
                  </a:lnTo>
                  <a:lnTo>
                    <a:pt x="720" y="90"/>
                  </a:lnTo>
                  <a:lnTo>
                    <a:pt x="717" y="90"/>
                  </a:lnTo>
                  <a:lnTo>
                    <a:pt x="693" y="87"/>
                  </a:lnTo>
                  <a:lnTo>
                    <a:pt x="681" y="87"/>
                  </a:lnTo>
                  <a:lnTo>
                    <a:pt x="627" y="78"/>
                  </a:lnTo>
                  <a:lnTo>
                    <a:pt x="204" y="24"/>
                  </a:lnTo>
                  <a:lnTo>
                    <a:pt x="201" y="24"/>
                  </a:lnTo>
                  <a:lnTo>
                    <a:pt x="180" y="21"/>
                  </a:lnTo>
                  <a:lnTo>
                    <a:pt x="132" y="15"/>
                  </a:lnTo>
                  <a:lnTo>
                    <a:pt x="120" y="15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3004"/>
            <p:cNvSpPr/>
            <p:nvPr/>
          </p:nvSpPr>
          <p:spPr>
            <a:xfrm flipH="1">
              <a:off x="8368920" y="213372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3005"/>
            <p:cNvSpPr/>
            <p:nvPr/>
          </p:nvSpPr>
          <p:spPr>
            <a:xfrm flipH="1">
              <a:off x="8368920" y="2135160"/>
              <a:ext cx="6480" cy="32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0"/>
                  </a:lnTo>
                  <a:lnTo>
                    <a:pt x="12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3006"/>
            <p:cNvSpPr/>
            <p:nvPr/>
          </p:nvSpPr>
          <p:spPr>
            <a:xfrm flipH="1">
              <a:off x="7846200" y="2120760"/>
              <a:ext cx="507960" cy="36720"/>
            </a:xfrm>
            <a:custGeom>
              <a:avLst/>
              <a:gdLst/>
              <a:ahLst/>
              <a:rect l="l" t="t" r="r" b="b"/>
              <a:pathLst>
                <a:path w="960" h="69">
                  <a:moveTo>
                    <a:pt x="960" y="69"/>
                  </a:moveTo>
                  <a:lnTo>
                    <a:pt x="960" y="63"/>
                  </a:lnTo>
                  <a:lnTo>
                    <a:pt x="0" y="0"/>
                  </a:lnTo>
                  <a:lnTo>
                    <a:pt x="84" y="12"/>
                  </a:lnTo>
                  <a:lnTo>
                    <a:pt x="96" y="12"/>
                  </a:lnTo>
                  <a:lnTo>
                    <a:pt x="174" y="18"/>
                  </a:lnTo>
                  <a:lnTo>
                    <a:pt x="177" y="18"/>
                  </a:lnTo>
                  <a:lnTo>
                    <a:pt x="219" y="21"/>
                  </a:lnTo>
                  <a:lnTo>
                    <a:pt x="231" y="21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82" y="24"/>
                  </a:lnTo>
                  <a:lnTo>
                    <a:pt x="309" y="27"/>
                  </a:lnTo>
                  <a:lnTo>
                    <a:pt x="321" y="27"/>
                  </a:lnTo>
                  <a:lnTo>
                    <a:pt x="333" y="27"/>
                  </a:lnTo>
                  <a:lnTo>
                    <a:pt x="354" y="30"/>
                  </a:lnTo>
                  <a:lnTo>
                    <a:pt x="372" y="30"/>
                  </a:lnTo>
                  <a:lnTo>
                    <a:pt x="384" y="30"/>
                  </a:lnTo>
                  <a:lnTo>
                    <a:pt x="399" y="33"/>
                  </a:lnTo>
                  <a:lnTo>
                    <a:pt x="423" y="33"/>
                  </a:lnTo>
                  <a:lnTo>
                    <a:pt x="435" y="33"/>
                  </a:lnTo>
                  <a:lnTo>
                    <a:pt x="444" y="36"/>
                  </a:lnTo>
                  <a:lnTo>
                    <a:pt x="477" y="36"/>
                  </a:lnTo>
                  <a:lnTo>
                    <a:pt x="489" y="39"/>
                  </a:lnTo>
                  <a:lnTo>
                    <a:pt x="531" y="39"/>
                  </a:lnTo>
                  <a:lnTo>
                    <a:pt x="534" y="42"/>
                  </a:lnTo>
                  <a:lnTo>
                    <a:pt x="96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3007"/>
            <p:cNvSpPr/>
            <p:nvPr/>
          </p:nvSpPr>
          <p:spPr>
            <a:xfrm flipH="1">
              <a:off x="7838280" y="215568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3008"/>
            <p:cNvSpPr/>
            <p:nvPr/>
          </p:nvSpPr>
          <p:spPr>
            <a:xfrm flipH="1">
              <a:off x="7835040" y="2131920"/>
              <a:ext cx="430200" cy="249480"/>
            </a:xfrm>
            <a:custGeom>
              <a:avLst/>
              <a:gdLst/>
              <a:ahLst/>
              <a:rect l="l" t="t" r="r" b="b"/>
              <a:pathLst>
                <a:path w="813" h="471">
                  <a:moveTo>
                    <a:pt x="807" y="48"/>
                  </a:moveTo>
                  <a:lnTo>
                    <a:pt x="801" y="48"/>
                  </a:lnTo>
                  <a:lnTo>
                    <a:pt x="792" y="48"/>
                  </a:lnTo>
                  <a:lnTo>
                    <a:pt x="366" y="21"/>
                  </a:lnTo>
                  <a:lnTo>
                    <a:pt x="363" y="18"/>
                  </a:lnTo>
                  <a:lnTo>
                    <a:pt x="321" y="18"/>
                  </a:lnTo>
                  <a:lnTo>
                    <a:pt x="309" y="15"/>
                  </a:lnTo>
                  <a:lnTo>
                    <a:pt x="276" y="15"/>
                  </a:lnTo>
                  <a:lnTo>
                    <a:pt x="267" y="15"/>
                  </a:lnTo>
                  <a:lnTo>
                    <a:pt x="255" y="12"/>
                  </a:lnTo>
                  <a:lnTo>
                    <a:pt x="231" y="12"/>
                  </a:lnTo>
                  <a:lnTo>
                    <a:pt x="216" y="12"/>
                  </a:lnTo>
                  <a:lnTo>
                    <a:pt x="204" y="9"/>
                  </a:lnTo>
                  <a:lnTo>
                    <a:pt x="186" y="9"/>
                  </a:lnTo>
                  <a:lnTo>
                    <a:pt x="165" y="9"/>
                  </a:lnTo>
                  <a:lnTo>
                    <a:pt x="153" y="6"/>
                  </a:lnTo>
                  <a:lnTo>
                    <a:pt x="141" y="6"/>
                  </a:lnTo>
                  <a:lnTo>
                    <a:pt x="114" y="6"/>
                  </a:lnTo>
                  <a:lnTo>
                    <a:pt x="102" y="3"/>
                  </a:lnTo>
                  <a:lnTo>
                    <a:pt x="96" y="3"/>
                  </a:lnTo>
                  <a:lnTo>
                    <a:pt x="63" y="3"/>
                  </a:lnTo>
                  <a:lnTo>
                    <a:pt x="48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423" y="54"/>
                  </a:lnTo>
                  <a:lnTo>
                    <a:pt x="657" y="72"/>
                  </a:lnTo>
                  <a:lnTo>
                    <a:pt x="807" y="471"/>
                  </a:lnTo>
                  <a:lnTo>
                    <a:pt x="813" y="471"/>
                  </a:lnTo>
                  <a:lnTo>
                    <a:pt x="807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3009"/>
            <p:cNvSpPr/>
            <p:nvPr/>
          </p:nvSpPr>
          <p:spPr>
            <a:xfrm flipH="1">
              <a:off x="7835400" y="2170080"/>
              <a:ext cx="84240" cy="216000"/>
            </a:xfrm>
            <a:custGeom>
              <a:avLst/>
              <a:gdLst/>
              <a:ahLst/>
              <a:rect l="l" t="t" r="r" b="b"/>
              <a:pathLst>
                <a:path w="159" h="408">
                  <a:moveTo>
                    <a:pt x="3" y="0"/>
                  </a:moveTo>
                  <a:lnTo>
                    <a:pt x="0" y="3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147" y="408"/>
                  </a:lnTo>
                  <a:lnTo>
                    <a:pt x="159" y="408"/>
                  </a:lnTo>
                  <a:lnTo>
                    <a:pt x="159" y="405"/>
                  </a:lnTo>
                  <a:lnTo>
                    <a:pt x="153" y="39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3010"/>
            <p:cNvSpPr/>
            <p:nvPr/>
          </p:nvSpPr>
          <p:spPr>
            <a:xfrm flipH="1">
              <a:off x="7918200" y="2160720"/>
              <a:ext cx="123840" cy="10800"/>
            </a:xfrm>
            <a:custGeom>
              <a:avLst/>
              <a:gdLst/>
              <a:ahLst/>
              <a:rect l="l" t="t" r="r" b="b"/>
              <a:pathLst>
                <a:path w="234" h="21">
                  <a:moveTo>
                    <a:pt x="231" y="21"/>
                  </a:moveTo>
                  <a:lnTo>
                    <a:pt x="234" y="18"/>
                  </a:lnTo>
                  <a:lnTo>
                    <a:pt x="0" y="0"/>
                  </a:lnTo>
                  <a:lnTo>
                    <a:pt x="54" y="9"/>
                  </a:lnTo>
                  <a:lnTo>
                    <a:pt x="66" y="9"/>
                  </a:lnTo>
                  <a:lnTo>
                    <a:pt x="90" y="12"/>
                  </a:lnTo>
                  <a:lnTo>
                    <a:pt x="93" y="12"/>
                  </a:lnTo>
                  <a:lnTo>
                    <a:pt x="231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3011"/>
            <p:cNvSpPr/>
            <p:nvPr/>
          </p:nvSpPr>
          <p:spPr>
            <a:xfrm flipH="1">
              <a:off x="7919280" y="2166840"/>
              <a:ext cx="73080" cy="9720"/>
            </a:xfrm>
            <a:custGeom>
              <a:avLst/>
              <a:gdLst/>
              <a:ahLst/>
              <a:rect l="l" t="t" r="r" b="b"/>
              <a:pathLst>
                <a:path w="138" h="18">
                  <a:moveTo>
                    <a:pt x="138" y="18"/>
                  </a:moveTo>
                  <a:lnTo>
                    <a:pt x="138" y="9"/>
                  </a:lnTo>
                  <a:lnTo>
                    <a:pt x="0" y="0"/>
                  </a:lnTo>
                  <a:lnTo>
                    <a:pt x="13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3012"/>
            <p:cNvSpPr/>
            <p:nvPr/>
          </p:nvSpPr>
          <p:spPr>
            <a:xfrm flipH="1">
              <a:off x="7918200" y="2178000"/>
              <a:ext cx="169920" cy="74520"/>
            </a:xfrm>
            <a:custGeom>
              <a:avLst/>
              <a:gdLst/>
              <a:ahLst/>
              <a:rect l="l" t="t" r="r" b="b"/>
              <a:pathLst>
                <a:path w="321" h="141">
                  <a:moveTo>
                    <a:pt x="321" y="6"/>
                  </a:moveTo>
                  <a:lnTo>
                    <a:pt x="318" y="0"/>
                  </a:lnTo>
                  <a:lnTo>
                    <a:pt x="158" y="67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32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3013"/>
            <p:cNvSpPr/>
            <p:nvPr/>
          </p:nvSpPr>
          <p:spPr>
            <a:xfrm flipH="1">
              <a:off x="7841520" y="2181240"/>
              <a:ext cx="284040" cy="204840"/>
            </a:xfrm>
            <a:custGeom>
              <a:avLst/>
              <a:gdLst/>
              <a:ahLst/>
              <a:rect l="l" t="t" r="r" b="b"/>
              <a:pathLst>
                <a:path w="537" h="387">
                  <a:moveTo>
                    <a:pt x="441" y="345"/>
                  </a:moveTo>
                  <a:lnTo>
                    <a:pt x="537" y="387"/>
                  </a:lnTo>
                  <a:lnTo>
                    <a:pt x="393" y="0"/>
                  </a:lnTo>
                  <a:lnTo>
                    <a:pt x="72" y="135"/>
                  </a:lnTo>
                  <a:lnTo>
                    <a:pt x="0" y="135"/>
                  </a:lnTo>
                  <a:lnTo>
                    <a:pt x="441" y="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3014"/>
            <p:cNvSpPr/>
            <p:nvPr/>
          </p:nvSpPr>
          <p:spPr>
            <a:xfrm flipH="1">
              <a:off x="7835040" y="2363760"/>
              <a:ext cx="57240" cy="2844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96" y="42"/>
                  </a:moveTo>
                  <a:lnTo>
                    <a:pt x="0" y="0"/>
                  </a:lnTo>
                  <a:lnTo>
                    <a:pt x="102" y="54"/>
                  </a:lnTo>
                  <a:lnTo>
                    <a:pt x="108" y="42"/>
                  </a:lnTo>
                  <a:lnTo>
                    <a:pt x="96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3015"/>
            <p:cNvSpPr/>
            <p:nvPr/>
          </p:nvSpPr>
          <p:spPr>
            <a:xfrm flipH="1">
              <a:off x="7835040" y="2381400"/>
              <a:ext cx="3240" cy="2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3016"/>
            <p:cNvSpPr/>
            <p:nvPr/>
          </p:nvSpPr>
          <p:spPr>
            <a:xfrm flipH="1">
              <a:off x="8124480" y="213840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3017"/>
            <p:cNvSpPr/>
            <p:nvPr/>
          </p:nvSpPr>
          <p:spPr>
            <a:xfrm flipH="1">
              <a:off x="8178480" y="213516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3018"/>
            <p:cNvSpPr/>
            <p:nvPr/>
          </p:nvSpPr>
          <p:spPr>
            <a:xfrm flipH="1">
              <a:off x="8151480" y="213660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3019"/>
            <p:cNvSpPr/>
            <p:nvPr/>
          </p:nvSpPr>
          <p:spPr>
            <a:xfrm flipH="1">
              <a:off x="8232480" y="213192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3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3020"/>
            <p:cNvSpPr/>
            <p:nvPr/>
          </p:nvSpPr>
          <p:spPr>
            <a:xfrm flipH="1">
              <a:off x="8205480" y="213372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3021"/>
            <p:cNvSpPr/>
            <p:nvPr/>
          </p:nvSpPr>
          <p:spPr>
            <a:xfrm flipH="1">
              <a:off x="8267040" y="2130480"/>
              <a:ext cx="11160" cy="14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0"/>
                  </a:moveTo>
                  <a:lnTo>
                    <a:pt x="0" y="0"/>
                  </a:lnTo>
                  <a:lnTo>
                    <a:pt x="21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3022"/>
            <p:cNvSpPr/>
            <p:nvPr/>
          </p:nvSpPr>
          <p:spPr>
            <a:xfrm flipH="1">
              <a:off x="8260920" y="213048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12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3023"/>
            <p:cNvSpPr/>
            <p:nvPr/>
          </p:nvSpPr>
          <p:spPr>
            <a:xfrm flipH="1">
              <a:off x="8087760" y="2249640"/>
              <a:ext cx="191880" cy="2880"/>
            </a:xfrm>
            <a:custGeom>
              <a:avLst/>
              <a:gdLst/>
              <a:ahLst/>
              <a:rect l="l" t="t" r="r" b="b"/>
              <a:pathLst>
                <a:path w="364" h="6">
                  <a:moveTo>
                    <a:pt x="292" y="6"/>
                  </a:moveTo>
                  <a:lnTo>
                    <a:pt x="364" y="6"/>
                  </a:lnTo>
                  <a:lnTo>
                    <a:pt x="364" y="0"/>
                  </a:lnTo>
                  <a:lnTo>
                    <a:pt x="0" y="1"/>
                  </a:lnTo>
                  <a:lnTo>
                    <a:pt x="29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2" name="Group 3024"/>
          <p:cNvGrpSpPr/>
          <p:nvPr/>
        </p:nvGrpSpPr>
        <p:grpSpPr>
          <a:xfrm>
            <a:off x="7708680" y="2077920"/>
            <a:ext cx="779400" cy="322200"/>
            <a:chOff x="7708680" y="2077920"/>
            <a:chExt cx="779400" cy="322200"/>
          </a:xfrm>
        </p:grpSpPr>
        <p:sp>
          <p:nvSpPr>
            <p:cNvPr id="2403" name="Freeform 3025"/>
            <p:cNvSpPr/>
            <p:nvPr/>
          </p:nvSpPr>
          <p:spPr>
            <a:xfrm flipH="1">
              <a:off x="7708320" y="2109600"/>
              <a:ext cx="244440" cy="60480"/>
            </a:xfrm>
            <a:custGeom>
              <a:avLst/>
              <a:gdLst/>
              <a:ahLst/>
              <a:rect l="l" t="t" r="r" b="b"/>
              <a:pathLst>
                <a:path w="462" h="114">
                  <a:moveTo>
                    <a:pt x="462" y="6"/>
                  </a:moveTo>
                  <a:lnTo>
                    <a:pt x="456" y="0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9" y="114"/>
                  </a:lnTo>
                  <a:lnTo>
                    <a:pt x="18" y="111"/>
                  </a:lnTo>
                  <a:lnTo>
                    <a:pt x="4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3026"/>
            <p:cNvSpPr/>
            <p:nvPr/>
          </p:nvSpPr>
          <p:spPr>
            <a:xfrm flipH="1">
              <a:off x="8368920" y="214920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3027"/>
            <p:cNvSpPr/>
            <p:nvPr/>
          </p:nvSpPr>
          <p:spPr>
            <a:xfrm flipH="1">
              <a:off x="7953120" y="2141280"/>
              <a:ext cx="509760" cy="28800"/>
            </a:xfrm>
            <a:custGeom>
              <a:avLst/>
              <a:gdLst/>
              <a:ahLst/>
              <a:rect l="l" t="t" r="r" b="b"/>
              <a:pathLst>
                <a:path w="963" h="54">
                  <a:moveTo>
                    <a:pt x="174" y="15"/>
                  </a:moveTo>
                  <a:lnTo>
                    <a:pt x="177" y="15"/>
                  </a:lnTo>
                  <a:lnTo>
                    <a:pt x="231" y="18"/>
                  </a:lnTo>
                  <a:lnTo>
                    <a:pt x="243" y="18"/>
                  </a:lnTo>
                  <a:lnTo>
                    <a:pt x="288" y="21"/>
                  </a:lnTo>
                  <a:lnTo>
                    <a:pt x="300" y="21"/>
                  </a:lnTo>
                  <a:lnTo>
                    <a:pt x="312" y="21"/>
                  </a:lnTo>
                  <a:lnTo>
                    <a:pt x="345" y="24"/>
                  </a:lnTo>
                  <a:lnTo>
                    <a:pt x="366" y="24"/>
                  </a:lnTo>
                  <a:lnTo>
                    <a:pt x="381" y="24"/>
                  </a:lnTo>
                  <a:lnTo>
                    <a:pt x="405" y="27"/>
                  </a:lnTo>
                  <a:lnTo>
                    <a:pt x="435" y="27"/>
                  </a:lnTo>
                  <a:lnTo>
                    <a:pt x="447" y="27"/>
                  </a:lnTo>
                  <a:lnTo>
                    <a:pt x="462" y="30"/>
                  </a:lnTo>
                  <a:lnTo>
                    <a:pt x="504" y="30"/>
                  </a:lnTo>
                  <a:lnTo>
                    <a:pt x="516" y="30"/>
                  </a:lnTo>
                  <a:lnTo>
                    <a:pt x="519" y="33"/>
                  </a:lnTo>
                  <a:lnTo>
                    <a:pt x="573" y="33"/>
                  </a:lnTo>
                  <a:lnTo>
                    <a:pt x="576" y="36"/>
                  </a:lnTo>
                  <a:lnTo>
                    <a:pt x="963" y="54"/>
                  </a:lnTo>
                  <a:lnTo>
                    <a:pt x="963" y="48"/>
                  </a:lnTo>
                  <a:lnTo>
                    <a:pt x="0" y="0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84" y="9"/>
                  </a:lnTo>
                  <a:lnTo>
                    <a:pt x="174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3028"/>
            <p:cNvSpPr/>
            <p:nvPr/>
          </p:nvSpPr>
          <p:spPr>
            <a:xfrm flipH="1">
              <a:off x="8376480" y="2149200"/>
              <a:ext cx="11160" cy="18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3029"/>
            <p:cNvSpPr/>
            <p:nvPr/>
          </p:nvSpPr>
          <p:spPr>
            <a:xfrm flipH="1">
              <a:off x="7943760" y="2151000"/>
              <a:ext cx="428400" cy="233280"/>
            </a:xfrm>
            <a:custGeom>
              <a:avLst/>
              <a:gdLst/>
              <a:ahLst/>
              <a:rect l="l" t="t" r="r" b="b"/>
              <a:pathLst>
                <a:path w="810" h="441">
                  <a:moveTo>
                    <a:pt x="6" y="0"/>
                  </a:moveTo>
                  <a:lnTo>
                    <a:pt x="0" y="0"/>
                  </a:lnTo>
                  <a:lnTo>
                    <a:pt x="438" y="48"/>
                  </a:lnTo>
                  <a:lnTo>
                    <a:pt x="441" y="48"/>
                  </a:lnTo>
                  <a:lnTo>
                    <a:pt x="585" y="57"/>
                  </a:lnTo>
                  <a:lnTo>
                    <a:pt x="588" y="57"/>
                  </a:lnTo>
                  <a:lnTo>
                    <a:pt x="633" y="57"/>
                  </a:lnTo>
                  <a:lnTo>
                    <a:pt x="633" y="60"/>
                  </a:lnTo>
                  <a:lnTo>
                    <a:pt x="636" y="60"/>
                  </a:lnTo>
                  <a:lnTo>
                    <a:pt x="663" y="60"/>
                  </a:lnTo>
                  <a:lnTo>
                    <a:pt x="804" y="441"/>
                  </a:lnTo>
                  <a:lnTo>
                    <a:pt x="810" y="438"/>
                  </a:lnTo>
                  <a:lnTo>
                    <a:pt x="807" y="78"/>
                  </a:lnTo>
                  <a:lnTo>
                    <a:pt x="801" y="57"/>
                  </a:lnTo>
                  <a:lnTo>
                    <a:pt x="801" y="36"/>
                  </a:lnTo>
                  <a:lnTo>
                    <a:pt x="792" y="36"/>
                  </a:lnTo>
                  <a:lnTo>
                    <a:pt x="405" y="18"/>
                  </a:lnTo>
                  <a:lnTo>
                    <a:pt x="402" y="15"/>
                  </a:lnTo>
                  <a:lnTo>
                    <a:pt x="348" y="15"/>
                  </a:lnTo>
                  <a:lnTo>
                    <a:pt x="345" y="15"/>
                  </a:lnTo>
                  <a:lnTo>
                    <a:pt x="333" y="12"/>
                  </a:lnTo>
                  <a:lnTo>
                    <a:pt x="291" y="12"/>
                  </a:lnTo>
                  <a:lnTo>
                    <a:pt x="276" y="12"/>
                  </a:lnTo>
                  <a:lnTo>
                    <a:pt x="264" y="9"/>
                  </a:lnTo>
                  <a:lnTo>
                    <a:pt x="234" y="9"/>
                  </a:lnTo>
                  <a:lnTo>
                    <a:pt x="210" y="9"/>
                  </a:lnTo>
                  <a:lnTo>
                    <a:pt x="195" y="6"/>
                  </a:lnTo>
                  <a:lnTo>
                    <a:pt x="174" y="6"/>
                  </a:lnTo>
                  <a:lnTo>
                    <a:pt x="141" y="6"/>
                  </a:lnTo>
                  <a:lnTo>
                    <a:pt x="129" y="3"/>
                  </a:lnTo>
                  <a:lnTo>
                    <a:pt x="117" y="3"/>
                  </a:lnTo>
                  <a:lnTo>
                    <a:pt x="72" y="3"/>
                  </a:lnTo>
                  <a:lnTo>
                    <a:pt x="6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3030"/>
            <p:cNvSpPr/>
            <p:nvPr/>
          </p:nvSpPr>
          <p:spPr>
            <a:xfrm flipH="1">
              <a:off x="8024400" y="2139840"/>
              <a:ext cx="461880" cy="120600"/>
            </a:xfrm>
            <a:custGeom>
              <a:avLst/>
              <a:gdLst/>
              <a:ahLst/>
              <a:rect l="l" t="t" r="r" b="b"/>
              <a:pathLst>
                <a:path w="873" h="228">
                  <a:moveTo>
                    <a:pt x="216" y="21"/>
                  </a:moveTo>
                  <a:lnTo>
                    <a:pt x="207" y="21"/>
                  </a:lnTo>
                  <a:lnTo>
                    <a:pt x="186" y="18"/>
                  </a:lnTo>
                  <a:lnTo>
                    <a:pt x="129" y="12"/>
                  </a:lnTo>
                  <a:lnTo>
                    <a:pt x="105" y="12"/>
                  </a:lnTo>
                  <a:lnTo>
                    <a:pt x="102" y="9"/>
                  </a:lnTo>
                  <a:lnTo>
                    <a:pt x="45" y="3"/>
                  </a:lnTo>
                  <a:lnTo>
                    <a:pt x="33" y="3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9" y="27"/>
                  </a:lnTo>
                  <a:lnTo>
                    <a:pt x="12" y="30"/>
                  </a:lnTo>
                  <a:lnTo>
                    <a:pt x="15" y="36"/>
                  </a:lnTo>
                  <a:lnTo>
                    <a:pt x="15" y="39"/>
                  </a:lnTo>
                  <a:lnTo>
                    <a:pt x="114" y="228"/>
                  </a:lnTo>
                  <a:lnTo>
                    <a:pt x="199" y="228"/>
                  </a:lnTo>
                  <a:lnTo>
                    <a:pt x="579" y="225"/>
                  </a:lnTo>
                  <a:lnTo>
                    <a:pt x="873" y="93"/>
                  </a:lnTo>
                  <a:lnTo>
                    <a:pt x="717" y="75"/>
                  </a:lnTo>
                  <a:lnTo>
                    <a:pt x="705" y="75"/>
                  </a:lnTo>
                  <a:lnTo>
                    <a:pt x="657" y="69"/>
                  </a:lnTo>
                  <a:lnTo>
                    <a:pt x="654" y="69"/>
                  </a:lnTo>
                  <a:lnTo>
                    <a:pt x="21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3031"/>
            <p:cNvSpPr/>
            <p:nvPr/>
          </p:nvSpPr>
          <p:spPr>
            <a:xfrm flipH="1">
              <a:off x="8478720" y="2155680"/>
              <a:ext cx="9360" cy="4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5" y="9"/>
                  </a:moveTo>
                  <a:lnTo>
                    <a:pt x="18" y="6"/>
                  </a:lnTo>
                  <a:lnTo>
                    <a:pt x="15" y="0"/>
                  </a:lnTo>
                  <a:lnTo>
                    <a:pt x="0" y="0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3032"/>
            <p:cNvSpPr/>
            <p:nvPr/>
          </p:nvSpPr>
          <p:spPr>
            <a:xfrm flipH="1">
              <a:off x="8478720" y="215892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3033"/>
            <p:cNvSpPr/>
            <p:nvPr/>
          </p:nvSpPr>
          <p:spPr>
            <a:xfrm flipH="1">
              <a:off x="8480160" y="215388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3034"/>
            <p:cNvSpPr/>
            <p:nvPr/>
          </p:nvSpPr>
          <p:spPr>
            <a:xfrm flipH="1">
              <a:off x="7711920" y="2077920"/>
              <a:ext cx="766800" cy="88920"/>
            </a:xfrm>
            <a:custGeom>
              <a:avLst/>
              <a:gdLst/>
              <a:ahLst/>
              <a:rect l="l" t="t" r="r" b="b"/>
              <a:pathLst>
                <a:path w="1449" h="168">
                  <a:moveTo>
                    <a:pt x="18" y="120"/>
                  </a:moveTo>
                  <a:lnTo>
                    <a:pt x="30" y="120"/>
                  </a:lnTo>
                  <a:lnTo>
                    <a:pt x="993" y="168"/>
                  </a:lnTo>
                  <a:lnTo>
                    <a:pt x="1449" y="60"/>
                  </a:lnTo>
                  <a:lnTo>
                    <a:pt x="1197" y="0"/>
                  </a:lnTo>
                  <a:lnTo>
                    <a:pt x="0" y="117"/>
                  </a:lnTo>
                  <a:lnTo>
                    <a:pt x="3" y="117"/>
                  </a:lnTo>
                  <a:lnTo>
                    <a:pt x="18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3035"/>
            <p:cNvSpPr/>
            <p:nvPr/>
          </p:nvSpPr>
          <p:spPr>
            <a:xfrm flipH="1">
              <a:off x="7943400" y="2168280"/>
              <a:ext cx="4680" cy="2376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3"/>
                  </a:moveTo>
                  <a:lnTo>
                    <a:pt x="0" y="24"/>
                  </a:lnTo>
                  <a:lnTo>
                    <a:pt x="6" y="45"/>
                  </a:lnTo>
                  <a:lnTo>
                    <a:pt x="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3036"/>
            <p:cNvSpPr/>
            <p:nvPr/>
          </p:nvSpPr>
          <p:spPr>
            <a:xfrm flipH="1">
              <a:off x="8021520" y="2179440"/>
              <a:ext cx="85680" cy="9360"/>
            </a:xfrm>
            <a:custGeom>
              <a:avLst/>
              <a:gdLst/>
              <a:ahLst/>
              <a:rect l="l" t="t" r="r" b="b"/>
              <a:pathLst>
                <a:path w="162" h="18">
                  <a:moveTo>
                    <a:pt x="87" y="3"/>
                  </a:moveTo>
                  <a:lnTo>
                    <a:pt x="84" y="3"/>
                  </a:lnTo>
                  <a:lnTo>
                    <a:pt x="0" y="0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59" y="9"/>
                  </a:lnTo>
                  <a:lnTo>
                    <a:pt x="135" y="6"/>
                  </a:lnTo>
                  <a:lnTo>
                    <a:pt x="132" y="6"/>
                  </a:lnTo>
                  <a:lnTo>
                    <a:pt x="8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3037"/>
            <p:cNvSpPr/>
            <p:nvPr/>
          </p:nvSpPr>
          <p:spPr>
            <a:xfrm flipH="1">
              <a:off x="8037360" y="2180880"/>
              <a:ext cx="23760" cy="180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0" y="0"/>
                  </a:moveTo>
                  <a:lnTo>
                    <a:pt x="45" y="3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3038"/>
            <p:cNvSpPr/>
            <p:nvPr/>
          </p:nvSpPr>
          <p:spPr>
            <a:xfrm flipH="1">
              <a:off x="8021160" y="2188800"/>
              <a:ext cx="158760" cy="71640"/>
            </a:xfrm>
            <a:custGeom>
              <a:avLst/>
              <a:gdLst/>
              <a:ahLst/>
              <a:rect l="l" t="t" r="r" b="b"/>
              <a:pathLst>
                <a:path w="300" h="135">
                  <a:moveTo>
                    <a:pt x="300" y="0"/>
                  </a:moveTo>
                  <a:lnTo>
                    <a:pt x="294" y="0"/>
                  </a:lnTo>
                  <a:lnTo>
                    <a:pt x="0" y="132"/>
                  </a:lnTo>
                  <a:lnTo>
                    <a:pt x="0" y="135"/>
                  </a:lnTo>
                  <a:lnTo>
                    <a:pt x="300" y="6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3039"/>
            <p:cNvSpPr/>
            <p:nvPr/>
          </p:nvSpPr>
          <p:spPr>
            <a:xfrm flipH="1">
              <a:off x="7945200" y="2182680"/>
              <a:ext cx="77760" cy="210960"/>
            </a:xfrm>
            <a:custGeom>
              <a:avLst/>
              <a:gdLst/>
              <a:ahLst/>
              <a:rect l="l" t="t" r="r" b="b"/>
              <a:pathLst>
                <a:path w="147" h="399">
                  <a:moveTo>
                    <a:pt x="3" y="12"/>
                  </a:moveTo>
                  <a:lnTo>
                    <a:pt x="3" y="18"/>
                  </a:lnTo>
                  <a:lnTo>
                    <a:pt x="138" y="396"/>
                  </a:lnTo>
                  <a:lnTo>
                    <a:pt x="147" y="399"/>
                  </a:lnTo>
                  <a:lnTo>
                    <a:pt x="144" y="381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3040"/>
            <p:cNvSpPr/>
            <p:nvPr/>
          </p:nvSpPr>
          <p:spPr>
            <a:xfrm flipH="1">
              <a:off x="8021160" y="2182680"/>
              <a:ext cx="1404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4" y="3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3041"/>
            <p:cNvSpPr/>
            <p:nvPr/>
          </p:nvSpPr>
          <p:spPr>
            <a:xfrm flipH="1">
              <a:off x="7945200" y="2365200"/>
              <a:ext cx="71280" cy="334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35" y="54"/>
                  </a:moveTo>
                  <a:lnTo>
                    <a:pt x="126" y="51"/>
                  </a:lnTo>
                  <a:lnTo>
                    <a:pt x="0" y="0"/>
                  </a:lnTo>
                  <a:lnTo>
                    <a:pt x="135" y="63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3042"/>
            <p:cNvSpPr/>
            <p:nvPr/>
          </p:nvSpPr>
          <p:spPr>
            <a:xfrm flipH="1">
              <a:off x="7940160" y="2382480"/>
              <a:ext cx="6120" cy="1764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6" y="0"/>
                  </a:moveTo>
                  <a:lnTo>
                    <a:pt x="0" y="3"/>
                  </a:lnTo>
                  <a:lnTo>
                    <a:pt x="3" y="21"/>
                  </a:lnTo>
                  <a:lnTo>
                    <a:pt x="3" y="30"/>
                  </a:lnTo>
                  <a:lnTo>
                    <a:pt x="12" y="3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3043"/>
            <p:cNvSpPr/>
            <p:nvPr/>
          </p:nvSpPr>
          <p:spPr>
            <a:xfrm flipH="1">
              <a:off x="7949520" y="2192040"/>
              <a:ext cx="297000" cy="200160"/>
            </a:xfrm>
            <a:custGeom>
              <a:avLst/>
              <a:gdLst/>
              <a:ahLst/>
              <a:rect l="l" t="t" r="r" b="b"/>
              <a:pathLst>
                <a:path w="561" h="378">
                  <a:moveTo>
                    <a:pt x="561" y="378"/>
                  </a:moveTo>
                  <a:lnTo>
                    <a:pt x="426" y="0"/>
                  </a:lnTo>
                  <a:lnTo>
                    <a:pt x="126" y="129"/>
                  </a:lnTo>
                  <a:lnTo>
                    <a:pt x="0" y="132"/>
                  </a:lnTo>
                  <a:lnTo>
                    <a:pt x="435" y="327"/>
                  </a:lnTo>
                  <a:lnTo>
                    <a:pt x="561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3044"/>
            <p:cNvSpPr/>
            <p:nvPr/>
          </p:nvSpPr>
          <p:spPr>
            <a:xfrm flipH="1">
              <a:off x="8189640" y="215712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3045"/>
            <p:cNvSpPr/>
            <p:nvPr/>
          </p:nvSpPr>
          <p:spPr>
            <a:xfrm flipH="1">
              <a:off x="8188200" y="215712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3046"/>
            <p:cNvSpPr/>
            <p:nvPr/>
          </p:nvSpPr>
          <p:spPr>
            <a:xfrm flipH="1">
              <a:off x="8062560" y="2176200"/>
              <a:ext cx="76320" cy="4680"/>
            </a:xfrm>
            <a:custGeom>
              <a:avLst/>
              <a:gdLst/>
              <a:ahLst/>
              <a:rect l="l" t="t" r="r" b="b"/>
              <a:pathLst>
                <a:path w="144" h="9">
                  <a:moveTo>
                    <a:pt x="48" y="6"/>
                  </a:moveTo>
                  <a:lnTo>
                    <a:pt x="60" y="6"/>
                  </a:lnTo>
                  <a:lnTo>
                    <a:pt x="144" y="9"/>
                  </a:lnTo>
                  <a:lnTo>
                    <a:pt x="0" y="0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3047"/>
            <p:cNvSpPr/>
            <p:nvPr/>
          </p:nvSpPr>
          <p:spPr>
            <a:xfrm flipH="1">
              <a:off x="8261280" y="215388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3048"/>
            <p:cNvSpPr/>
            <p:nvPr/>
          </p:nvSpPr>
          <p:spPr>
            <a:xfrm flipH="1">
              <a:off x="8226000" y="215568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3049"/>
            <p:cNvSpPr/>
            <p:nvPr/>
          </p:nvSpPr>
          <p:spPr>
            <a:xfrm flipH="1">
              <a:off x="8334000" y="215100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3050"/>
            <p:cNvSpPr/>
            <p:nvPr/>
          </p:nvSpPr>
          <p:spPr>
            <a:xfrm flipH="1">
              <a:off x="8297640" y="215244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3051"/>
            <p:cNvSpPr/>
            <p:nvPr/>
          </p:nvSpPr>
          <p:spPr>
            <a:xfrm flipH="1">
              <a:off x="8179920" y="2258640"/>
              <a:ext cx="199800" cy="3240"/>
            </a:xfrm>
            <a:custGeom>
              <a:avLst/>
              <a:gdLst/>
              <a:ahLst/>
              <a:rect l="l" t="t" r="r" b="b"/>
              <a:pathLst>
                <a:path w="380" h="6">
                  <a:moveTo>
                    <a:pt x="380" y="3"/>
                  </a:moveTo>
                  <a:lnTo>
                    <a:pt x="380" y="0"/>
                  </a:lnTo>
                  <a:lnTo>
                    <a:pt x="0" y="3"/>
                  </a:lnTo>
                  <a:lnTo>
                    <a:pt x="254" y="6"/>
                  </a:lnTo>
                  <a:lnTo>
                    <a:pt x="38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Group 3052"/>
          <p:cNvGrpSpPr/>
          <p:nvPr/>
        </p:nvGrpSpPr>
        <p:grpSpPr>
          <a:xfrm>
            <a:off x="7896240" y="2101680"/>
            <a:ext cx="774720" cy="307800"/>
            <a:chOff x="7896240" y="2101680"/>
            <a:chExt cx="774720" cy="307800"/>
          </a:xfrm>
        </p:grpSpPr>
        <p:sp>
          <p:nvSpPr>
            <p:cNvPr id="2431" name="Freeform 3053"/>
            <p:cNvSpPr/>
            <p:nvPr/>
          </p:nvSpPr>
          <p:spPr>
            <a:xfrm flipH="1">
              <a:off x="7896240" y="2128680"/>
              <a:ext cx="234720" cy="58680"/>
            </a:xfrm>
            <a:custGeom>
              <a:avLst/>
              <a:gdLst/>
              <a:ahLst/>
              <a:rect l="l" t="t" r="r" b="b"/>
              <a:pathLst>
                <a:path w="444" h="111">
                  <a:moveTo>
                    <a:pt x="444" y="6"/>
                  </a:moveTo>
                  <a:lnTo>
                    <a:pt x="435" y="0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9" y="111"/>
                  </a:lnTo>
                  <a:lnTo>
                    <a:pt x="18" y="108"/>
                  </a:lnTo>
                  <a:lnTo>
                    <a:pt x="44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3054"/>
            <p:cNvSpPr/>
            <p:nvPr/>
          </p:nvSpPr>
          <p:spPr>
            <a:xfrm flipH="1">
              <a:off x="7900920" y="2101680"/>
              <a:ext cx="760320" cy="82440"/>
            </a:xfrm>
            <a:custGeom>
              <a:avLst/>
              <a:gdLst/>
              <a:ahLst/>
              <a:rect l="l" t="t" r="r" b="b"/>
              <a:pathLst>
                <a:path w="1437" h="156">
                  <a:moveTo>
                    <a:pt x="1206" y="3"/>
                  </a:moveTo>
                  <a:lnTo>
                    <a:pt x="1155" y="0"/>
                  </a:lnTo>
                  <a:lnTo>
                    <a:pt x="0" y="117"/>
                  </a:lnTo>
                  <a:lnTo>
                    <a:pt x="3" y="117"/>
                  </a:lnTo>
                  <a:lnTo>
                    <a:pt x="27" y="120"/>
                  </a:lnTo>
                  <a:lnTo>
                    <a:pt x="39" y="120"/>
                  </a:lnTo>
                  <a:lnTo>
                    <a:pt x="1002" y="156"/>
                  </a:lnTo>
                  <a:lnTo>
                    <a:pt x="1437" y="51"/>
                  </a:lnTo>
                  <a:lnTo>
                    <a:pt x="120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3055"/>
            <p:cNvSpPr/>
            <p:nvPr/>
          </p:nvSpPr>
          <p:spPr>
            <a:xfrm flipH="1">
              <a:off x="8121600" y="2172960"/>
              <a:ext cx="428400" cy="223920"/>
            </a:xfrm>
            <a:custGeom>
              <a:avLst/>
              <a:gdLst/>
              <a:ahLst/>
              <a:rect l="l" t="t" r="r" b="b"/>
              <a:pathLst>
                <a:path w="810" h="423">
                  <a:moveTo>
                    <a:pt x="144" y="3"/>
                  </a:moveTo>
                  <a:lnTo>
                    <a:pt x="84" y="3"/>
                  </a:lnTo>
                  <a:lnTo>
                    <a:pt x="69" y="0"/>
                  </a:lnTo>
                  <a:lnTo>
                    <a:pt x="0" y="0"/>
                  </a:lnTo>
                  <a:lnTo>
                    <a:pt x="435" y="39"/>
                  </a:lnTo>
                  <a:lnTo>
                    <a:pt x="483" y="42"/>
                  </a:lnTo>
                  <a:lnTo>
                    <a:pt x="492" y="42"/>
                  </a:lnTo>
                  <a:lnTo>
                    <a:pt x="549" y="45"/>
                  </a:lnTo>
                  <a:lnTo>
                    <a:pt x="558" y="45"/>
                  </a:lnTo>
                  <a:lnTo>
                    <a:pt x="615" y="45"/>
                  </a:lnTo>
                  <a:lnTo>
                    <a:pt x="615" y="48"/>
                  </a:lnTo>
                  <a:lnTo>
                    <a:pt x="624" y="48"/>
                  </a:lnTo>
                  <a:lnTo>
                    <a:pt x="669" y="48"/>
                  </a:lnTo>
                  <a:lnTo>
                    <a:pt x="804" y="423"/>
                  </a:lnTo>
                  <a:lnTo>
                    <a:pt x="810" y="423"/>
                  </a:lnTo>
                  <a:lnTo>
                    <a:pt x="807" y="78"/>
                  </a:lnTo>
                  <a:lnTo>
                    <a:pt x="801" y="45"/>
                  </a:lnTo>
                  <a:lnTo>
                    <a:pt x="801" y="27"/>
                  </a:lnTo>
                  <a:lnTo>
                    <a:pt x="792" y="27"/>
                  </a:lnTo>
                  <a:lnTo>
                    <a:pt x="375" y="12"/>
                  </a:lnTo>
                  <a:lnTo>
                    <a:pt x="372" y="12"/>
                  </a:lnTo>
                  <a:lnTo>
                    <a:pt x="357" y="9"/>
                  </a:lnTo>
                  <a:lnTo>
                    <a:pt x="297" y="9"/>
                  </a:lnTo>
                  <a:lnTo>
                    <a:pt x="276" y="9"/>
                  </a:lnTo>
                  <a:lnTo>
                    <a:pt x="261" y="6"/>
                  </a:lnTo>
                  <a:lnTo>
                    <a:pt x="222" y="6"/>
                  </a:lnTo>
                  <a:lnTo>
                    <a:pt x="180" y="6"/>
                  </a:lnTo>
                  <a:lnTo>
                    <a:pt x="165" y="3"/>
                  </a:lnTo>
                  <a:lnTo>
                    <a:pt x="14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3056"/>
            <p:cNvSpPr/>
            <p:nvPr/>
          </p:nvSpPr>
          <p:spPr>
            <a:xfrm flipH="1">
              <a:off x="8505720" y="217296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15" y="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3057"/>
            <p:cNvSpPr/>
            <p:nvPr/>
          </p:nvSpPr>
          <p:spPr>
            <a:xfrm flipH="1">
              <a:off x="8199360" y="2163600"/>
              <a:ext cx="471600" cy="111240"/>
            </a:xfrm>
            <a:custGeom>
              <a:avLst/>
              <a:gdLst/>
              <a:ahLst/>
              <a:rect l="l" t="t" r="r" b="b"/>
              <a:pathLst>
                <a:path w="891" h="210">
                  <a:moveTo>
                    <a:pt x="228" y="18"/>
                  </a:moveTo>
                  <a:lnTo>
                    <a:pt x="216" y="18"/>
                  </a:lnTo>
                  <a:lnTo>
                    <a:pt x="159" y="12"/>
                  </a:lnTo>
                  <a:lnTo>
                    <a:pt x="144" y="12"/>
                  </a:lnTo>
                  <a:lnTo>
                    <a:pt x="57" y="3"/>
                  </a:lnTo>
                  <a:lnTo>
                    <a:pt x="45" y="3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27"/>
                  </a:lnTo>
                  <a:lnTo>
                    <a:pt x="18" y="30"/>
                  </a:lnTo>
                  <a:lnTo>
                    <a:pt x="27" y="39"/>
                  </a:lnTo>
                  <a:lnTo>
                    <a:pt x="27" y="42"/>
                  </a:lnTo>
                  <a:lnTo>
                    <a:pt x="156" y="210"/>
                  </a:lnTo>
                  <a:lnTo>
                    <a:pt x="618" y="201"/>
                  </a:lnTo>
                  <a:lnTo>
                    <a:pt x="891" y="78"/>
                  </a:lnTo>
                  <a:lnTo>
                    <a:pt x="735" y="63"/>
                  </a:lnTo>
                  <a:lnTo>
                    <a:pt x="720" y="63"/>
                  </a:lnTo>
                  <a:lnTo>
                    <a:pt x="696" y="60"/>
                  </a:lnTo>
                  <a:lnTo>
                    <a:pt x="663" y="57"/>
                  </a:lnTo>
                  <a:lnTo>
                    <a:pt x="22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3058"/>
            <p:cNvSpPr/>
            <p:nvPr/>
          </p:nvSpPr>
          <p:spPr>
            <a:xfrm flipH="1">
              <a:off x="8130960" y="2165040"/>
              <a:ext cx="509760" cy="22320"/>
            </a:xfrm>
            <a:custGeom>
              <a:avLst/>
              <a:gdLst/>
              <a:ahLst/>
              <a:rect l="l" t="t" r="r" b="b"/>
              <a:pathLst>
                <a:path w="963" h="42">
                  <a:moveTo>
                    <a:pt x="315" y="18"/>
                  </a:moveTo>
                  <a:lnTo>
                    <a:pt x="336" y="18"/>
                  </a:lnTo>
                  <a:lnTo>
                    <a:pt x="351" y="18"/>
                  </a:lnTo>
                  <a:lnTo>
                    <a:pt x="393" y="21"/>
                  </a:lnTo>
                  <a:lnTo>
                    <a:pt x="432" y="21"/>
                  </a:lnTo>
                  <a:lnTo>
                    <a:pt x="447" y="21"/>
                  </a:lnTo>
                  <a:lnTo>
                    <a:pt x="468" y="24"/>
                  </a:lnTo>
                  <a:lnTo>
                    <a:pt x="528" y="24"/>
                  </a:lnTo>
                  <a:lnTo>
                    <a:pt x="543" y="24"/>
                  </a:lnTo>
                  <a:lnTo>
                    <a:pt x="546" y="27"/>
                  </a:lnTo>
                  <a:lnTo>
                    <a:pt x="963" y="42"/>
                  </a:lnTo>
                  <a:lnTo>
                    <a:pt x="963" y="36"/>
                  </a:lnTo>
                  <a:lnTo>
                    <a:pt x="0" y="0"/>
                  </a:lnTo>
                  <a:lnTo>
                    <a:pt x="87" y="9"/>
                  </a:lnTo>
                  <a:lnTo>
                    <a:pt x="102" y="9"/>
                  </a:lnTo>
                  <a:lnTo>
                    <a:pt x="240" y="15"/>
                  </a:lnTo>
                  <a:lnTo>
                    <a:pt x="255" y="15"/>
                  </a:lnTo>
                  <a:lnTo>
                    <a:pt x="31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3059"/>
            <p:cNvSpPr/>
            <p:nvPr/>
          </p:nvSpPr>
          <p:spPr>
            <a:xfrm flipH="1">
              <a:off x="8656560" y="2179440"/>
              <a:ext cx="14400" cy="648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24" y="12"/>
                  </a:moveTo>
                  <a:lnTo>
                    <a:pt x="27" y="9"/>
                  </a:lnTo>
                  <a:lnTo>
                    <a:pt x="18" y="0"/>
                  </a:lnTo>
                  <a:lnTo>
                    <a:pt x="0" y="0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3060"/>
            <p:cNvSpPr/>
            <p:nvPr/>
          </p:nvSpPr>
          <p:spPr>
            <a:xfrm flipH="1">
              <a:off x="8656560" y="218412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Freeform 3061"/>
            <p:cNvSpPr/>
            <p:nvPr/>
          </p:nvSpPr>
          <p:spPr>
            <a:xfrm flipH="1">
              <a:off x="8660880" y="2178000"/>
              <a:ext cx="972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Freeform 3062"/>
            <p:cNvSpPr/>
            <p:nvPr/>
          </p:nvSpPr>
          <p:spPr>
            <a:xfrm flipH="1">
              <a:off x="8341920" y="2269800"/>
              <a:ext cx="245880" cy="7920"/>
            </a:xfrm>
            <a:custGeom>
              <a:avLst/>
              <a:gdLst/>
              <a:ahLst/>
              <a:rect l="l" t="t" r="r" b="b"/>
              <a:pathLst>
                <a:path w="465" h="15">
                  <a:moveTo>
                    <a:pt x="0" y="9"/>
                  </a:moveTo>
                  <a:lnTo>
                    <a:pt x="36" y="15"/>
                  </a:lnTo>
                  <a:lnTo>
                    <a:pt x="279" y="9"/>
                  </a:lnTo>
                  <a:lnTo>
                    <a:pt x="465" y="6"/>
                  </a:lnTo>
                  <a:lnTo>
                    <a:pt x="46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Freeform 3063"/>
            <p:cNvSpPr/>
            <p:nvPr/>
          </p:nvSpPr>
          <p:spPr>
            <a:xfrm flipH="1">
              <a:off x="8121240" y="2185920"/>
              <a:ext cx="4680" cy="2844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0"/>
                  </a:moveTo>
                  <a:lnTo>
                    <a:pt x="0" y="3"/>
                  </a:lnTo>
                  <a:lnTo>
                    <a:pt x="0" y="21"/>
                  </a:lnTo>
                  <a:lnTo>
                    <a:pt x="6" y="5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Freeform 3064"/>
            <p:cNvSpPr/>
            <p:nvPr/>
          </p:nvSpPr>
          <p:spPr>
            <a:xfrm flipH="1">
              <a:off x="8121240" y="2198520"/>
              <a:ext cx="75960" cy="206280"/>
            </a:xfrm>
            <a:custGeom>
              <a:avLst/>
              <a:gdLst/>
              <a:ahLst/>
              <a:rect l="l" t="t" r="r" b="b"/>
              <a:pathLst>
                <a:path w="144" h="390">
                  <a:moveTo>
                    <a:pt x="0" y="3"/>
                  </a:moveTo>
                  <a:lnTo>
                    <a:pt x="3" y="12"/>
                  </a:lnTo>
                  <a:lnTo>
                    <a:pt x="6" y="18"/>
                  </a:lnTo>
                  <a:lnTo>
                    <a:pt x="132" y="387"/>
                  </a:lnTo>
                  <a:lnTo>
                    <a:pt x="144" y="390"/>
                  </a:lnTo>
                  <a:lnTo>
                    <a:pt x="144" y="381"/>
                  </a:lnTo>
                  <a:lnTo>
                    <a:pt x="138" y="375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3065"/>
            <p:cNvSpPr/>
            <p:nvPr/>
          </p:nvSpPr>
          <p:spPr>
            <a:xfrm flipH="1">
              <a:off x="8196120" y="2197080"/>
              <a:ext cx="85680" cy="7920"/>
            </a:xfrm>
            <a:custGeom>
              <a:avLst/>
              <a:gdLst/>
              <a:ahLst/>
              <a:rect l="l" t="t" r="r" b="b"/>
              <a:pathLst>
                <a:path w="162" h="15">
                  <a:moveTo>
                    <a:pt x="162" y="15"/>
                  </a:moveTo>
                  <a:lnTo>
                    <a:pt x="159" y="6"/>
                  </a:lnTo>
                  <a:lnTo>
                    <a:pt x="117" y="3"/>
                  </a:lnTo>
                  <a:lnTo>
                    <a:pt x="108" y="3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156" y="15"/>
                  </a:lnTo>
                  <a:lnTo>
                    <a:pt x="16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3066"/>
            <p:cNvSpPr/>
            <p:nvPr/>
          </p:nvSpPr>
          <p:spPr>
            <a:xfrm flipH="1">
              <a:off x="8196120" y="2198520"/>
              <a:ext cx="23760" cy="144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42" y="3"/>
                  </a:moveTo>
                  <a:lnTo>
                    <a:pt x="45" y="0"/>
                  </a:lnTo>
                  <a:lnTo>
                    <a:pt x="0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3067"/>
            <p:cNvSpPr/>
            <p:nvPr/>
          </p:nvSpPr>
          <p:spPr>
            <a:xfrm flipH="1">
              <a:off x="8194680" y="2205000"/>
              <a:ext cx="149040" cy="68040"/>
            </a:xfrm>
            <a:custGeom>
              <a:avLst/>
              <a:gdLst/>
              <a:ahLst/>
              <a:rect l="l" t="t" r="r" b="b"/>
              <a:pathLst>
                <a:path w="282" h="129">
                  <a:moveTo>
                    <a:pt x="282" y="6"/>
                  </a:moveTo>
                  <a:lnTo>
                    <a:pt x="279" y="0"/>
                  </a:lnTo>
                  <a:lnTo>
                    <a:pt x="273" y="0"/>
                  </a:lnTo>
                  <a:lnTo>
                    <a:pt x="0" y="123"/>
                  </a:lnTo>
                  <a:lnTo>
                    <a:pt x="3" y="129"/>
                  </a:lnTo>
                  <a:lnTo>
                    <a:pt x="28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3068"/>
            <p:cNvSpPr/>
            <p:nvPr/>
          </p:nvSpPr>
          <p:spPr>
            <a:xfrm flipH="1">
              <a:off x="8121240" y="239688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069"/>
            <p:cNvSpPr/>
            <p:nvPr/>
          </p:nvSpPr>
          <p:spPr>
            <a:xfrm flipH="1">
              <a:off x="8121240" y="2374560"/>
              <a:ext cx="81000" cy="34920"/>
            </a:xfrm>
            <a:custGeom>
              <a:avLst/>
              <a:gdLst/>
              <a:ahLst/>
              <a:rect l="l" t="t" r="r" b="b"/>
              <a:pathLst>
                <a:path w="153" h="66">
                  <a:moveTo>
                    <a:pt x="153" y="66"/>
                  </a:moveTo>
                  <a:lnTo>
                    <a:pt x="153" y="57"/>
                  </a:lnTo>
                  <a:lnTo>
                    <a:pt x="141" y="54"/>
                  </a:lnTo>
                  <a:lnTo>
                    <a:pt x="0" y="0"/>
                  </a:lnTo>
                  <a:lnTo>
                    <a:pt x="135" y="63"/>
                  </a:lnTo>
                  <a:lnTo>
                    <a:pt x="15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070"/>
            <p:cNvSpPr/>
            <p:nvPr/>
          </p:nvSpPr>
          <p:spPr>
            <a:xfrm flipH="1">
              <a:off x="8127360" y="2207880"/>
              <a:ext cx="312840" cy="195480"/>
            </a:xfrm>
            <a:custGeom>
              <a:avLst/>
              <a:gdLst/>
              <a:ahLst/>
              <a:rect l="l" t="t" r="r" b="b"/>
              <a:pathLst>
                <a:path w="591" h="369">
                  <a:moveTo>
                    <a:pt x="591" y="369"/>
                  </a:moveTo>
                  <a:lnTo>
                    <a:pt x="465" y="0"/>
                  </a:lnTo>
                  <a:lnTo>
                    <a:pt x="186" y="123"/>
                  </a:lnTo>
                  <a:lnTo>
                    <a:pt x="0" y="126"/>
                  </a:lnTo>
                  <a:lnTo>
                    <a:pt x="435" y="309"/>
                  </a:lnTo>
                  <a:lnTo>
                    <a:pt x="444" y="312"/>
                  </a:lnTo>
                  <a:lnTo>
                    <a:pt x="450" y="315"/>
                  </a:lnTo>
                  <a:lnTo>
                    <a:pt x="591" y="3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071"/>
            <p:cNvSpPr/>
            <p:nvPr/>
          </p:nvSpPr>
          <p:spPr>
            <a:xfrm flipH="1">
              <a:off x="8294040" y="2193840"/>
              <a:ext cx="25560" cy="1440"/>
            </a:xfrm>
            <a:custGeom>
              <a:avLst/>
              <a:gdLst/>
              <a:ahLst/>
              <a:rect l="l" t="t" r="r" b="b"/>
              <a:pathLst>
                <a:path w="48" h="3">
                  <a:moveTo>
                    <a:pt x="48" y="3"/>
                  </a:moveTo>
                  <a:lnTo>
                    <a:pt x="0" y="0"/>
                  </a:lnTo>
                  <a:lnTo>
                    <a:pt x="33" y="3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072"/>
            <p:cNvSpPr/>
            <p:nvPr/>
          </p:nvSpPr>
          <p:spPr>
            <a:xfrm flipH="1">
              <a:off x="8289720" y="2195280"/>
              <a:ext cx="12960" cy="18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15" y="0"/>
                  </a:moveTo>
                  <a:lnTo>
                    <a:pt x="0" y="0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Freeform 3073"/>
            <p:cNvSpPr/>
            <p:nvPr/>
          </p:nvSpPr>
          <p:spPr>
            <a:xfrm flipH="1">
              <a:off x="8259480" y="2195280"/>
              <a:ext cx="30240" cy="180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0" y="0"/>
                  </a:moveTo>
                  <a:lnTo>
                    <a:pt x="0" y="3"/>
                  </a:lnTo>
                  <a:lnTo>
                    <a:pt x="15" y="3"/>
                  </a:lnTo>
                  <a:lnTo>
                    <a:pt x="5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3074"/>
            <p:cNvSpPr/>
            <p:nvPr/>
          </p:nvSpPr>
          <p:spPr>
            <a:xfrm flipH="1">
              <a:off x="8224560" y="2197080"/>
              <a:ext cx="30240" cy="144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7" y="0"/>
                  </a:moveTo>
                  <a:lnTo>
                    <a:pt x="0" y="0"/>
                  </a:lnTo>
                  <a:lnTo>
                    <a:pt x="57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3075"/>
            <p:cNvSpPr/>
            <p:nvPr/>
          </p:nvSpPr>
          <p:spPr>
            <a:xfrm flipH="1">
              <a:off x="8353440" y="217800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3076"/>
            <p:cNvSpPr/>
            <p:nvPr/>
          </p:nvSpPr>
          <p:spPr>
            <a:xfrm flipH="1">
              <a:off x="8351280" y="217800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3077"/>
            <p:cNvSpPr/>
            <p:nvPr/>
          </p:nvSpPr>
          <p:spPr>
            <a:xfrm flipH="1">
              <a:off x="8454960" y="217476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3078"/>
            <p:cNvSpPr/>
            <p:nvPr/>
          </p:nvSpPr>
          <p:spPr>
            <a:xfrm flipH="1">
              <a:off x="8404200" y="217620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Group 3079"/>
          <p:cNvGrpSpPr/>
          <p:nvPr/>
        </p:nvGrpSpPr>
        <p:grpSpPr>
          <a:xfrm>
            <a:off x="8081640" y="2108160"/>
            <a:ext cx="771480" cy="296640"/>
            <a:chOff x="8081640" y="2108160"/>
            <a:chExt cx="771480" cy="296640"/>
          </a:xfrm>
        </p:grpSpPr>
        <p:sp>
          <p:nvSpPr>
            <p:cNvPr id="2458" name="Freeform 3080"/>
            <p:cNvSpPr/>
            <p:nvPr/>
          </p:nvSpPr>
          <p:spPr>
            <a:xfrm flipH="1">
              <a:off x="8306640" y="2172960"/>
              <a:ext cx="506520" cy="16200"/>
            </a:xfrm>
            <a:custGeom>
              <a:avLst/>
              <a:gdLst/>
              <a:ahLst/>
              <a:rect l="l" t="t" r="r" b="b"/>
              <a:pathLst>
                <a:path w="957" h="30">
                  <a:moveTo>
                    <a:pt x="438" y="15"/>
                  </a:moveTo>
                  <a:lnTo>
                    <a:pt x="480" y="18"/>
                  </a:lnTo>
                  <a:lnTo>
                    <a:pt x="579" y="18"/>
                  </a:lnTo>
                  <a:lnTo>
                    <a:pt x="591" y="21"/>
                  </a:lnTo>
                  <a:lnTo>
                    <a:pt x="957" y="30"/>
                  </a:lnTo>
                  <a:lnTo>
                    <a:pt x="957" y="24"/>
                  </a:lnTo>
                  <a:lnTo>
                    <a:pt x="0" y="0"/>
                  </a:lnTo>
                  <a:lnTo>
                    <a:pt x="84" y="6"/>
                  </a:lnTo>
                  <a:lnTo>
                    <a:pt x="255" y="12"/>
                  </a:lnTo>
                  <a:lnTo>
                    <a:pt x="267" y="12"/>
                  </a:lnTo>
                  <a:lnTo>
                    <a:pt x="282" y="12"/>
                  </a:lnTo>
                  <a:lnTo>
                    <a:pt x="369" y="15"/>
                  </a:lnTo>
                  <a:lnTo>
                    <a:pt x="423" y="15"/>
                  </a:lnTo>
                  <a:lnTo>
                    <a:pt x="43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3081"/>
            <p:cNvSpPr/>
            <p:nvPr/>
          </p:nvSpPr>
          <p:spPr>
            <a:xfrm flipH="1">
              <a:off x="8581680" y="218088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3082"/>
            <p:cNvSpPr/>
            <p:nvPr/>
          </p:nvSpPr>
          <p:spPr>
            <a:xfrm flipH="1">
              <a:off x="8297280" y="2179440"/>
              <a:ext cx="425160" cy="212760"/>
            </a:xfrm>
            <a:custGeom>
              <a:avLst/>
              <a:gdLst/>
              <a:ahLst/>
              <a:rect l="l" t="t" r="r" b="b"/>
              <a:pathLst>
                <a:path w="804" h="402">
                  <a:moveTo>
                    <a:pt x="309" y="6"/>
                  </a:moveTo>
                  <a:lnTo>
                    <a:pt x="267" y="6"/>
                  </a:lnTo>
                  <a:lnTo>
                    <a:pt x="252" y="3"/>
                  </a:lnTo>
                  <a:lnTo>
                    <a:pt x="198" y="3"/>
                  </a:lnTo>
                  <a:lnTo>
                    <a:pt x="111" y="3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423" y="30"/>
                  </a:lnTo>
                  <a:lnTo>
                    <a:pt x="453" y="30"/>
                  </a:lnTo>
                  <a:lnTo>
                    <a:pt x="453" y="33"/>
                  </a:lnTo>
                  <a:lnTo>
                    <a:pt x="471" y="33"/>
                  </a:lnTo>
                  <a:lnTo>
                    <a:pt x="552" y="36"/>
                  </a:lnTo>
                  <a:lnTo>
                    <a:pt x="669" y="39"/>
                  </a:lnTo>
                  <a:lnTo>
                    <a:pt x="681" y="51"/>
                  </a:lnTo>
                  <a:lnTo>
                    <a:pt x="798" y="402"/>
                  </a:lnTo>
                  <a:lnTo>
                    <a:pt x="804" y="402"/>
                  </a:lnTo>
                  <a:lnTo>
                    <a:pt x="801" y="96"/>
                  </a:lnTo>
                  <a:lnTo>
                    <a:pt x="795" y="30"/>
                  </a:lnTo>
                  <a:lnTo>
                    <a:pt x="798" y="24"/>
                  </a:lnTo>
                  <a:lnTo>
                    <a:pt x="798" y="18"/>
                  </a:lnTo>
                  <a:lnTo>
                    <a:pt x="792" y="18"/>
                  </a:lnTo>
                  <a:lnTo>
                    <a:pt x="786" y="18"/>
                  </a:lnTo>
                  <a:lnTo>
                    <a:pt x="420" y="9"/>
                  </a:lnTo>
                  <a:lnTo>
                    <a:pt x="408" y="6"/>
                  </a:lnTo>
                  <a:lnTo>
                    <a:pt x="30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3083"/>
            <p:cNvSpPr/>
            <p:nvPr/>
          </p:nvSpPr>
          <p:spPr>
            <a:xfrm flipH="1">
              <a:off x="8664120" y="21794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15" y="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3084"/>
            <p:cNvSpPr/>
            <p:nvPr/>
          </p:nvSpPr>
          <p:spPr>
            <a:xfrm flipH="1">
              <a:off x="8370360" y="2171520"/>
              <a:ext cx="479520" cy="101520"/>
            </a:xfrm>
            <a:custGeom>
              <a:avLst/>
              <a:gdLst/>
              <a:ahLst/>
              <a:rect l="l" t="t" r="r" b="b"/>
              <a:pathLst>
                <a:path w="906" h="192">
                  <a:moveTo>
                    <a:pt x="240" y="15"/>
                  </a:moveTo>
                  <a:lnTo>
                    <a:pt x="153" y="9"/>
                  </a:lnTo>
                  <a:lnTo>
                    <a:pt x="69" y="3"/>
                  </a:lnTo>
                  <a:lnTo>
                    <a:pt x="63" y="3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24" y="27"/>
                  </a:lnTo>
                  <a:lnTo>
                    <a:pt x="27" y="30"/>
                  </a:lnTo>
                  <a:lnTo>
                    <a:pt x="39" y="42"/>
                  </a:lnTo>
                  <a:lnTo>
                    <a:pt x="42" y="45"/>
                  </a:lnTo>
                  <a:lnTo>
                    <a:pt x="189" y="192"/>
                  </a:lnTo>
                  <a:lnTo>
                    <a:pt x="654" y="180"/>
                  </a:lnTo>
                  <a:lnTo>
                    <a:pt x="906" y="63"/>
                  </a:lnTo>
                  <a:lnTo>
                    <a:pt x="741" y="51"/>
                  </a:lnTo>
                  <a:lnTo>
                    <a:pt x="711" y="51"/>
                  </a:lnTo>
                  <a:lnTo>
                    <a:pt x="693" y="48"/>
                  </a:lnTo>
                  <a:lnTo>
                    <a:pt x="663" y="45"/>
                  </a:lnTo>
                  <a:lnTo>
                    <a:pt x="240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3085"/>
            <p:cNvSpPr/>
            <p:nvPr/>
          </p:nvSpPr>
          <p:spPr>
            <a:xfrm flipH="1">
              <a:off x="8503560" y="2266920"/>
              <a:ext cx="245880" cy="9360"/>
            </a:xfrm>
            <a:custGeom>
              <a:avLst/>
              <a:gdLst/>
              <a:ahLst/>
              <a:rect l="l" t="t" r="r" b="b"/>
              <a:pathLst>
                <a:path w="465" h="18">
                  <a:moveTo>
                    <a:pt x="0" y="12"/>
                  </a:moveTo>
                  <a:lnTo>
                    <a:pt x="42" y="18"/>
                  </a:lnTo>
                  <a:lnTo>
                    <a:pt x="231" y="12"/>
                  </a:lnTo>
                  <a:lnTo>
                    <a:pt x="465" y="6"/>
                  </a:lnTo>
                  <a:lnTo>
                    <a:pt x="46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3086"/>
            <p:cNvSpPr/>
            <p:nvPr/>
          </p:nvSpPr>
          <p:spPr>
            <a:xfrm flipH="1">
              <a:off x="8835480" y="218592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3087"/>
            <p:cNvSpPr/>
            <p:nvPr/>
          </p:nvSpPr>
          <p:spPr>
            <a:xfrm flipH="1">
              <a:off x="8085960" y="2108160"/>
              <a:ext cx="755640" cy="77760"/>
            </a:xfrm>
            <a:custGeom>
              <a:avLst/>
              <a:gdLst/>
              <a:ahLst/>
              <a:rect l="l" t="t" r="r" b="b"/>
              <a:pathLst>
                <a:path w="1428" h="147">
                  <a:moveTo>
                    <a:pt x="0" y="120"/>
                  </a:moveTo>
                  <a:lnTo>
                    <a:pt x="12" y="120"/>
                  </a:lnTo>
                  <a:lnTo>
                    <a:pt x="48" y="123"/>
                  </a:lnTo>
                  <a:lnTo>
                    <a:pt x="54" y="123"/>
                  </a:lnTo>
                  <a:lnTo>
                    <a:pt x="1011" y="147"/>
                  </a:lnTo>
                  <a:lnTo>
                    <a:pt x="1428" y="45"/>
                  </a:lnTo>
                  <a:lnTo>
                    <a:pt x="1152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3088"/>
            <p:cNvSpPr/>
            <p:nvPr/>
          </p:nvSpPr>
          <p:spPr>
            <a:xfrm flipH="1">
              <a:off x="8829360" y="2185920"/>
              <a:ext cx="23760" cy="936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33" y="3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3089"/>
            <p:cNvSpPr/>
            <p:nvPr/>
          </p:nvSpPr>
          <p:spPr>
            <a:xfrm flipH="1">
              <a:off x="8827200" y="219384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3090"/>
            <p:cNvSpPr/>
            <p:nvPr/>
          </p:nvSpPr>
          <p:spPr>
            <a:xfrm flipH="1">
              <a:off x="8297640" y="2369880"/>
              <a:ext cx="85680" cy="34920"/>
            </a:xfrm>
            <a:custGeom>
              <a:avLst/>
              <a:gdLst/>
              <a:ahLst/>
              <a:rect l="l" t="t" r="r" b="b"/>
              <a:pathLst>
                <a:path w="162" h="66">
                  <a:moveTo>
                    <a:pt x="162" y="66"/>
                  </a:moveTo>
                  <a:lnTo>
                    <a:pt x="162" y="57"/>
                  </a:lnTo>
                  <a:lnTo>
                    <a:pt x="150" y="54"/>
                  </a:lnTo>
                  <a:lnTo>
                    <a:pt x="0" y="0"/>
                  </a:lnTo>
                  <a:lnTo>
                    <a:pt x="150" y="66"/>
                  </a:lnTo>
                  <a:lnTo>
                    <a:pt x="16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3091"/>
            <p:cNvSpPr/>
            <p:nvPr/>
          </p:nvSpPr>
          <p:spPr>
            <a:xfrm flipH="1">
              <a:off x="8297640" y="2199960"/>
              <a:ext cx="71280" cy="200160"/>
            </a:xfrm>
            <a:custGeom>
              <a:avLst/>
              <a:gdLst/>
              <a:ahLst/>
              <a:rect l="l" t="t" r="r" b="b"/>
              <a:pathLst>
                <a:path w="135" h="378">
                  <a:moveTo>
                    <a:pt x="135" y="378"/>
                  </a:moveTo>
                  <a:lnTo>
                    <a:pt x="135" y="369"/>
                  </a:lnTo>
                  <a:lnTo>
                    <a:pt x="129" y="363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9"/>
                  </a:lnTo>
                  <a:lnTo>
                    <a:pt x="3" y="15"/>
                  </a:lnTo>
                  <a:lnTo>
                    <a:pt x="123" y="375"/>
                  </a:lnTo>
                  <a:lnTo>
                    <a:pt x="135" y="3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3092"/>
            <p:cNvSpPr/>
            <p:nvPr/>
          </p:nvSpPr>
          <p:spPr>
            <a:xfrm flipH="1">
              <a:off x="8297640" y="2392200"/>
              <a:ext cx="288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3093"/>
            <p:cNvSpPr/>
            <p:nvPr/>
          </p:nvSpPr>
          <p:spPr>
            <a:xfrm flipH="1">
              <a:off x="8081640" y="2131920"/>
              <a:ext cx="225360" cy="57240"/>
            </a:xfrm>
            <a:custGeom>
              <a:avLst/>
              <a:gdLst/>
              <a:ahLst/>
              <a:rect l="l" t="t" r="r" b="b"/>
              <a:pathLst>
                <a:path w="426" h="108">
                  <a:moveTo>
                    <a:pt x="426" y="6"/>
                  </a:moveTo>
                  <a:lnTo>
                    <a:pt x="417" y="0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6" y="108"/>
                  </a:lnTo>
                  <a:lnTo>
                    <a:pt x="12" y="105"/>
                  </a:lnTo>
                  <a:lnTo>
                    <a:pt x="42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3094"/>
            <p:cNvSpPr/>
            <p:nvPr/>
          </p:nvSpPr>
          <p:spPr>
            <a:xfrm flipH="1">
              <a:off x="8300160" y="218736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3095"/>
            <p:cNvSpPr/>
            <p:nvPr/>
          </p:nvSpPr>
          <p:spPr>
            <a:xfrm flipH="1">
              <a:off x="8368560" y="2198520"/>
              <a:ext cx="88920" cy="6480"/>
            </a:xfrm>
            <a:custGeom>
              <a:avLst/>
              <a:gdLst/>
              <a:ahLst/>
              <a:rect l="l" t="t" r="r" b="b"/>
              <a:pathLst>
                <a:path w="168" h="12">
                  <a:moveTo>
                    <a:pt x="168" y="12"/>
                  </a:moveTo>
                  <a:lnTo>
                    <a:pt x="168" y="3"/>
                  </a:lnTo>
                  <a:lnTo>
                    <a:pt x="51" y="0"/>
                  </a:lnTo>
                  <a:lnTo>
                    <a:pt x="0" y="0"/>
                  </a:lnTo>
                  <a:lnTo>
                    <a:pt x="165" y="12"/>
                  </a:lnTo>
                  <a:lnTo>
                    <a:pt x="16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3096"/>
            <p:cNvSpPr/>
            <p:nvPr/>
          </p:nvSpPr>
          <p:spPr>
            <a:xfrm flipH="1">
              <a:off x="8367120" y="2205000"/>
              <a:ext cx="136440" cy="64800"/>
            </a:xfrm>
            <a:custGeom>
              <a:avLst/>
              <a:gdLst/>
              <a:ahLst/>
              <a:rect l="l" t="t" r="r" b="b"/>
              <a:pathLst>
                <a:path w="258" h="123">
                  <a:moveTo>
                    <a:pt x="255" y="0"/>
                  </a:moveTo>
                  <a:lnTo>
                    <a:pt x="252" y="0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258" y="6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3097"/>
            <p:cNvSpPr/>
            <p:nvPr/>
          </p:nvSpPr>
          <p:spPr>
            <a:xfrm flipH="1">
              <a:off x="8298720" y="2192040"/>
              <a:ext cx="3240" cy="38160"/>
            </a:xfrm>
            <a:custGeom>
              <a:avLst/>
              <a:gdLst/>
              <a:ahLst/>
              <a:rect l="l" t="t" r="r" b="b"/>
              <a:pathLst>
                <a:path w="6" h="72">
                  <a:moveTo>
                    <a:pt x="6" y="72"/>
                  </a:moveTo>
                  <a:lnTo>
                    <a:pt x="3" y="0"/>
                  </a:lnTo>
                  <a:lnTo>
                    <a:pt x="0" y="6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98"/>
            <p:cNvSpPr/>
            <p:nvPr/>
          </p:nvSpPr>
          <p:spPr>
            <a:xfrm flipH="1">
              <a:off x="8430480" y="2197080"/>
              <a:ext cx="42840" cy="144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81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0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099"/>
            <p:cNvSpPr/>
            <p:nvPr/>
          </p:nvSpPr>
          <p:spPr>
            <a:xfrm flipH="1">
              <a:off x="8473320" y="2197080"/>
              <a:ext cx="972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lnTo>
                    <a:pt x="18" y="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3100"/>
            <p:cNvSpPr/>
            <p:nvPr/>
          </p:nvSpPr>
          <p:spPr>
            <a:xfrm flipH="1">
              <a:off x="8483400" y="2195280"/>
              <a:ext cx="15840" cy="1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30" y="3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3101"/>
            <p:cNvSpPr/>
            <p:nvPr/>
          </p:nvSpPr>
          <p:spPr>
            <a:xfrm flipH="1">
              <a:off x="8303760" y="2207880"/>
              <a:ext cx="324000" cy="190800"/>
            </a:xfrm>
            <a:custGeom>
              <a:avLst/>
              <a:gdLst/>
              <a:ahLst/>
              <a:rect l="l" t="t" r="r" b="b"/>
              <a:pathLst>
                <a:path w="612" h="360">
                  <a:moveTo>
                    <a:pt x="462" y="306"/>
                  </a:moveTo>
                  <a:lnTo>
                    <a:pt x="612" y="360"/>
                  </a:lnTo>
                  <a:lnTo>
                    <a:pt x="492" y="0"/>
                  </a:lnTo>
                  <a:lnTo>
                    <a:pt x="234" y="117"/>
                  </a:lnTo>
                  <a:lnTo>
                    <a:pt x="0" y="123"/>
                  </a:lnTo>
                  <a:lnTo>
                    <a:pt x="432" y="294"/>
                  </a:lnTo>
                  <a:lnTo>
                    <a:pt x="441" y="297"/>
                  </a:lnTo>
                  <a:lnTo>
                    <a:pt x="447" y="300"/>
                  </a:lnTo>
                  <a:lnTo>
                    <a:pt x="456" y="303"/>
                  </a:lnTo>
                  <a:lnTo>
                    <a:pt x="462" y="3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0" name="Group 3102"/>
          <p:cNvGrpSpPr/>
          <p:nvPr/>
        </p:nvGrpSpPr>
        <p:grpSpPr>
          <a:xfrm>
            <a:off x="8273880" y="2117880"/>
            <a:ext cx="760320" cy="285120"/>
            <a:chOff x="8273880" y="2117880"/>
            <a:chExt cx="760320" cy="285120"/>
          </a:xfrm>
        </p:grpSpPr>
        <p:sp>
          <p:nvSpPr>
            <p:cNvPr id="2481" name="Freeform 3103"/>
            <p:cNvSpPr/>
            <p:nvPr/>
          </p:nvSpPr>
          <p:spPr>
            <a:xfrm flipH="1">
              <a:off x="8488080" y="2182680"/>
              <a:ext cx="519120" cy="9360"/>
            </a:xfrm>
            <a:custGeom>
              <a:avLst/>
              <a:gdLst/>
              <a:ahLst/>
              <a:rect l="l" t="t" r="r" b="b"/>
              <a:pathLst>
                <a:path w="981" h="18">
                  <a:moveTo>
                    <a:pt x="558" y="12"/>
                  </a:moveTo>
                  <a:lnTo>
                    <a:pt x="597" y="15"/>
                  </a:lnTo>
                  <a:lnTo>
                    <a:pt x="981" y="18"/>
                  </a:lnTo>
                  <a:lnTo>
                    <a:pt x="981" y="15"/>
                  </a:lnTo>
                  <a:lnTo>
                    <a:pt x="0" y="0"/>
                  </a:lnTo>
                  <a:lnTo>
                    <a:pt x="111" y="6"/>
                  </a:lnTo>
                  <a:lnTo>
                    <a:pt x="396" y="12"/>
                  </a:lnTo>
                  <a:lnTo>
                    <a:pt x="534" y="12"/>
                  </a:lnTo>
                  <a:lnTo>
                    <a:pt x="55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104"/>
            <p:cNvSpPr/>
            <p:nvPr/>
          </p:nvSpPr>
          <p:spPr>
            <a:xfrm flipH="1">
              <a:off x="8478720" y="2189160"/>
              <a:ext cx="411120" cy="199800"/>
            </a:xfrm>
            <a:custGeom>
              <a:avLst/>
              <a:gdLst/>
              <a:ahLst/>
              <a:rect l="l" t="t" r="r" b="b"/>
              <a:pathLst>
                <a:path w="777" h="378">
                  <a:moveTo>
                    <a:pt x="375" y="3"/>
                  </a:moveTo>
                  <a:lnTo>
                    <a:pt x="336" y="3"/>
                  </a:lnTo>
                  <a:lnTo>
                    <a:pt x="312" y="0"/>
                  </a:lnTo>
                  <a:lnTo>
                    <a:pt x="174" y="0"/>
                  </a:lnTo>
                  <a:lnTo>
                    <a:pt x="0" y="0"/>
                  </a:lnTo>
                  <a:lnTo>
                    <a:pt x="420" y="24"/>
                  </a:lnTo>
                  <a:lnTo>
                    <a:pt x="432" y="24"/>
                  </a:lnTo>
                  <a:lnTo>
                    <a:pt x="550" y="27"/>
                  </a:lnTo>
                  <a:lnTo>
                    <a:pt x="621" y="27"/>
                  </a:lnTo>
                  <a:lnTo>
                    <a:pt x="648" y="27"/>
                  </a:lnTo>
                  <a:lnTo>
                    <a:pt x="657" y="27"/>
                  </a:lnTo>
                  <a:lnTo>
                    <a:pt x="771" y="378"/>
                  </a:lnTo>
                  <a:lnTo>
                    <a:pt x="777" y="378"/>
                  </a:lnTo>
                  <a:lnTo>
                    <a:pt x="771" y="6"/>
                  </a:lnTo>
                  <a:lnTo>
                    <a:pt x="759" y="6"/>
                  </a:lnTo>
                  <a:lnTo>
                    <a:pt x="37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3105"/>
            <p:cNvSpPr/>
            <p:nvPr/>
          </p:nvSpPr>
          <p:spPr>
            <a:xfrm flipH="1">
              <a:off x="8711640" y="2189160"/>
              <a:ext cx="1260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0" y="0"/>
                  </a:lnTo>
                  <a:lnTo>
                    <a:pt x="24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3106"/>
            <p:cNvSpPr/>
            <p:nvPr/>
          </p:nvSpPr>
          <p:spPr>
            <a:xfrm flipH="1">
              <a:off x="8660880" y="220176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3107"/>
            <p:cNvSpPr/>
            <p:nvPr/>
          </p:nvSpPr>
          <p:spPr>
            <a:xfrm flipH="1">
              <a:off x="8546760" y="2182680"/>
              <a:ext cx="486000" cy="91800"/>
            </a:xfrm>
            <a:custGeom>
              <a:avLst/>
              <a:gdLst/>
              <a:ahLst/>
              <a:rect l="l" t="t" r="r" b="b"/>
              <a:pathLst>
                <a:path w="918" h="174">
                  <a:moveTo>
                    <a:pt x="702" y="39"/>
                  </a:moveTo>
                  <a:lnTo>
                    <a:pt x="690" y="36"/>
                  </a:lnTo>
                  <a:lnTo>
                    <a:pt x="270" y="12"/>
                  </a:lnTo>
                  <a:lnTo>
                    <a:pt x="159" y="6"/>
                  </a:lnTo>
                  <a:lnTo>
                    <a:pt x="4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8" y="15"/>
                  </a:lnTo>
                  <a:lnTo>
                    <a:pt x="27" y="24"/>
                  </a:lnTo>
                  <a:lnTo>
                    <a:pt x="30" y="24"/>
                  </a:lnTo>
                  <a:lnTo>
                    <a:pt x="30" y="27"/>
                  </a:lnTo>
                  <a:lnTo>
                    <a:pt x="33" y="27"/>
                  </a:lnTo>
                  <a:lnTo>
                    <a:pt x="36" y="30"/>
                  </a:lnTo>
                  <a:lnTo>
                    <a:pt x="39" y="33"/>
                  </a:lnTo>
                  <a:lnTo>
                    <a:pt x="42" y="36"/>
                  </a:lnTo>
                  <a:lnTo>
                    <a:pt x="45" y="36"/>
                  </a:lnTo>
                  <a:lnTo>
                    <a:pt x="54" y="45"/>
                  </a:lnTo>
                  <a:lnTo>
                    <a:pt x="54" y="48"/>
                  </a:lnTo>
                  <a:lnTo>
                    <a:pt x="60" y="51"/>
                  </a:lnTo>
                  <a:lnTo>
                    <a:pt x="57" y="45"/>
                  </a:lnTo>
                  <a:lnTo>
                    <a:pt x="63" y="51"/>
                  </a:lnTo>
                  <a:lnTo>
                    <a:pt x="72" y="57"/>
                  </a:lnTo>
                  <a:lnTo>
                    <a:pt x="78" y="63"/>
                  </a:lnTo>
                  <a:lnTo>
                    <a:pt x="84" y="66"/>
                  </a:lnTo>
                  <a:lnTo>
                    <a:pt x="90" y="72"/>
                  </a:lnTo>
                  <a:lnTo>
                    <a:pt x="96" y="75"/>
                  </a:lnTo>
                  <a:lnTo>
                    <a:pt x="105" y="84"/>
                  </a:lnTo>
                  <a:lnTo>
                    <a:pt x="111" y="87"/>
                  </a:lnTo>
                  <a:lnTo>
                    <a:pt x="117" y="93"/>
                  </a:lnTo>
                  <a:lnTo>
                    <a:pt x="123" y="96"/>
                  </a:lnTo>
                  <a:lnTo>
                    <a:pt x="129" y="102"/>
                  </a:lnTo>
                  <a:lnTo>
                    <a:pt x="138" y="108"/>
                  </a:lnTo>
                  <a:lnTo>
                    <a:pt x="144" y="114"/>
                  </a:lnTo>
                  <a:lnTo>
                    <a:pt x="153" y="120"/>
                  </a:lnTo>
                  <a:lnTo>
                    <a:pt x="156" y="123"/>
                  </a:lnTo>
                  <a:lnTo>
                    <a:pt x="168" y="132"/>
                  </a:lnTo>
                  <a:lnTo>
                    <a:pt x="195" y="153"/>
                  </a:lnTo>
                  <a:lnTo>
                    <a:pt x="198" y="156"/>
                  </a:lnTo>
                  <a:lnTo>
                    <a:pt x="225" y="174"/>
                  </a:lnTo>
                  <a:lnTo>
                    <a:pt x="684" y="159"/>
                  </a:lnTo>
                  <a:lnTo>
                    <a:pt x="918" y="51"/>
                  </a:lnTo>
                  <a:lnTo>
                    <a:pt x="918" y="48"/>
                  </a:lnTo>
                  <a:lnTo>
                    <a:pt x="750" y="39"/>
                  </a:lnTo>
                  <a:lnTo>
                    <a:pt x="70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3108"/>
            <p:cNvSpPr/>
            <p:nvPr/>
          </p:nvSpPr>
          <p:spPr>
            <a:xfrm flipH="1">
              <a:off x="8597160" y="2201760"/>
              <a:ext cx="63720" cy="1440"/>
            </a:xfrm>
            <a:custGeom>
              <a:avLst/>
              <a:gdLst/>
              <a:ahLst/>
              <a:rect l="l" t="t" r="r" b="b"/>
              <a:pathLst>
                <a:path w="118" h="3">
                  <a:moveTo>
                    <a:pt x="0" y="0"/>
                  </a:moveTo>
                  <a:lnTo>
                    <a:pt x="0" y="3"/>
                  </a:lnTo>
                  <a:lnTo>
                    <a:pt x="48" y="3"/>
                  </a:lnTo>
                  <a:lnTo>
                    <a:pt x="11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3109"/>
            <p:cNvSpPr/>
            <p:nvPr/>
          </p:nvSpPr>
          <p:spPr>
            <a:xfrm flipH="1">
              <a:off x="8670240" y="2266920"/>
              <a:ext cx="243000" cy="10800"/>
            </a:xfrm>
            <a:custGeom>
              <a:avLst/>
              <a:gdLst/>
              <a:ahLst/>
              <a:rect l="l" t="t" r="r" b="b"/>
              <a:pathLst>
                <a:path w="459" h="21">
                  <a:moveTo>
                    <a:pt x="33" y="21"/>
                  </a:moveTo>
                  <a:lnTo>
                    <a:pt x="177" y="15"/>
                  </a:lnTo>
                  <a:lnTo>
                    <a:pt x="459" y="6"/>
                  </a:lnTo>
                  <a:lnTo>
                    <a:pt x="459" y="0"/>
                  </a:lnTo>
                  <a:lnTo>
                    <a:pt x="0" y="15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3110"/>
            <p:cNvSpPr/>
            <p:nvPr/>
          </p:nvSpPr>
          <p:spPr>
            <a:xfrm flipH="1">
              <a:off x="8484480" y="2212920"/>
              <a:ext cx="335160" cy="183960"/>
            </a:xfrm>
            <a:custGeom>
              <a:avLst/>
              <a:gdLst/>
              <a:ahLst/>
              <a:rect l="l" t="t" r="r" b="b"/>
              <a:pathLst>
                <a:path w="633" h="348">
                  <a:moveTo>
                    <a:pt x="282" y="108"/>
                  </a:moveTo>
                  <a:lnTo>
                    <a:pt x="0" y="117"/>
                  </a:lnTo>
                  <a:lnTo>
                    <a:pt x="459" y="288"/>
                  </a:lnTo>
                  <a:lnTo>
                    <a:pt x="633" y="348"/>
                  </a:lnTo>
                  <a:lnTo>
                    <a:pt x="519" y="0"/>
                  </a:lnTo>
                  <a:lnTo>
                    <a:pt x="28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3111"/>
            <p:cNvSpPr/>
            <p:nvPr/>
          </p:nvSpPr>
          <p:spPr>
            <a:xfrm flipH="1">
              <a:off x="8545320" y="2209680"/>
              <a:ext cx="125280" cy="60120"/>
            </a:xfrm>
            <a:custGeom>
              <a:avLst/>
              <a:gdLst/>
              <a:ahLst/>
              <a:rect l="l" t="t" r="r" b="b"/>
              <a:pathLst>
                <a:path w="237" h="114">
                  <a:moveTo>
                    <a:pt x="0" y="108"/>
                  </a:moveTo>
                  <a:lnTo>
                    <a:pt x="0" y="114"/>
                  </a:lnTo>
                  <a:lnTo>
                    <a:pt x="237" y="6"/>
                  </a:lnTo>
                  <a:lnTo>
                    <a:pt x="234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3112"/>
            <p:cNvSpPr/>
            <p:nvPr/>
          </p:nvSpPr>
          <p:spPr>
            <a:xfrm flipH="1">
              <a:off x="8277120" y="2117880"/>
              <a:ext cx="752400" cy="72720"/>
            </a:xfrm>
            <a:custGeom>
              <a:avLst/>
              <a:gdLst/>
              <a:ahLst/>
              <a:rect l="l" t="t" r="r" b="b"/>
              <a:pathLst>
                <a:path w="1422" h="138">
                  <a:moveTo>
                    <a:pt x="0" y="123"/>
                  </a:moveTo>
                  <a:lnTo>
                    <a:pt x="42" y="123"/>
                  </a:lnTo>
                  <a:lnTo>
                    <a:pt x="1023" y="138"/>
                  </a:lnTo>
                  <a:lnTo>
                    <a:pt x="1422" y="39"/>
                  </a:lnTo>
                  <a:lnTo>
                    <a:pt x="1143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3113"/>
            <p:cNvSpPr/>
            <p:nvPr/>
          </p:nvSpPr>
          <p:spPr>
            <a:xfrm flipH="1">
              <a:off x="9003960" y="2197080"/>
              <a:ext cx="30240" cy="1080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57" y="21"/>
                  </a:moveTo>
                  <a:lnTo>
                    <a:pt x="57" y="18"/>
                  </a:lnTo>
                  <a:lnTo>
                    <a:pt x="48" y="9"/>
                  </a:lnTo>
                  <a:lnTo>
                    <a:pt x="45" y="9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3114"/>
            <p:cNvSpPr/>
            <p:nvPr/>
          </p:nvSpPr>
          <p:spPr>
            <a:xfrm flipH="1">
              <a:off x="8998920" y="2206440"/>
              <a:ext cx="3240" cy="2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3115"/>
            <p:cNvSpPr/>
            <p:nvPr/>
          </p:nvSpPr>
          <p:spPr>
            <a:xfrm flipH="1">
              <a:off x="9016920" y="2195640"/>
              <a:ext cx="17280" cy="108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3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3116"/>
            <p:cNvSpPr/>
            <p:nvPr/>
          </p:nvSpPr>
          <p:spPr>
            <a:xfrm flipH="1">
              <a:off x="8273520" y="2138400"/>
              <a:ext cx="214200" cy="53640"/>
            </a:xfrm>
            <a:custGeom>
              <a:avLst/>
              <a:gdLst/>
              <a:ahLst/>
              <a:rect l="l" t="t" r="r" b="b"/>
              <a:pathLst>
                <a:path w="405" h="102">
                  <a:moveTo>
                    <a:pt x="405" y="6"/>
                  </a:moveTo>
                  <a:lnTo>
                    <a:pt x="399" y="0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12" y="102"/>
                  </a:lnTo>
                  <a:lnTo>
                    <a:pt x="399" y="9"/>
                  </a:lnTo>
                  <a:lnTo>
                    <a:pt x="40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3117"/>
            <p:cNvSpPr/>
            <p:nvPr/>
          </p:nvSpPr>
          <p:spPr>
            <a:xfrm flipH="1">
              <a:off x="8546400" y="2203560"/>
              <a:ext cx="88920" cy="4320"/>
            </a:xfrm>
            <a:custGeom>
              <a:avLst/>
              <a:gdLst/>
              <a:ahLst/>
              <a:rect l="l" t="t" r="r" b="b"/>
              <a:pathLst>
                <a:path w="168" h="9">
                  <a:moveTo>
                    <a:pt x="70" y="0"/>
                  </a:moveTo>
                  <a:lnTo>
                    <a:pt x="0" y="0"/>
                  </a:lnTo>
                  <a:lnTo>
                    <a:pt x="168" y="9"/>
                  </a:lnTo>
                  <a:lnTo>
                    <a:pt x="168" y="3"/>
                  </a:lnTo>
                  <a:lnTo>
                    <a:pt x="141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3118"/>
            <p:cNvSpPr/>
            <p:nvPr/>
          </p:nvSpPr>
          <p:spPr>
            <a:xfrm flipH="1">
              <a:off x="8546760" y="2203560"/>
              <a:ext cx="14400" cy="108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3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3119"/>
            <p:cNvSpPr/>
            <p:nvPr/>
          </p:nvSpPr>
          <p:spPr>
            <a:xfrm flipH="1">
              <a:off x="8478360" y="2203560"/>
              <a:ext cx="68040" cy="19476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0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8"/>
                  </a:lnTo>
                  <a:lnTo>
                    <a:pt x="117" y="366"/>
                  </a:lnTo>
                  <a:lnTo>
                    <a:pt x="129" y="369"/>
                  </a:lnTo>
                  <a:lnTo>
                    <a:pt x="129" y="357"/>
                  </a:lnTo>
                  <a:lnTo>
                    <a:pt x="123" y="351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3120"/>
            <p:cNvSpPr/>
            <p:nvPr/>
          </p:nvSpPr>
          <p:spPr>
            <a:xfrm flipH="1">
              <a:off x="8478720" y="2389320"/>
              <a:ext cx="2880" cy="2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3121"/>
            <p:cNvSpPr/>
            <p:nvPr/>
          </p:nvSpPr>
          <p:spPr>
            <a:xfrm flipH="1">
              <a:off x="8478360" y="2365200"/>
              <a:ext cx="98280" cy="37800"/>
            </a:xfrm>
            <a:custGeom>
              <a:avLst/>
              <a:gdLst/>
              <a:ahLst/>
              <a:rect l="l" t="t" r="r" b="b"/>
              <a:pathLst>
                <a:path w="186" h="72">
                  <a:moveTo>
                    <a:pt x="186" y="63"/>
                  </a:moveTo>
                  <a:lnTo>
                    <a:pt x="174" y="60"/>
                  </a:lnTo>
                  <a:lnTo>
                    <a:pt x="0" y="0"/>
                  </a:lnTo>
                  <a:lnTo>
                    <a:pt x="168" y="69"/>
                  </a:lnTo>
                  <a:lnTo>
                    <a:pt x="186" y="72"/>
                  </a:lnTo>
                  <a:lnTo>
                    <a:pt x="186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0" name="Group 3122"/>
          <p:cNvGrpSpPr/>
          <p:nvPr/>
        </p:nvGrpSpPr>
        <p:grpSpPr>
          <a:xfrm>
            <a:off x="8502840" y="2119320"/>
            <a:ext cx="749160" cy="274680"/>
            <a:chOff x="8502840" y="2119320"/>
            <a:chExt cx="749160" cy="274680"/>
          </a:xfrm>
        </p:grpSpPr>
        <p:sp>
          <p:nvSpPr>
            <p:cNvPr id="2501" name="Freeform 3123"/>
            <p:cNvSpPr/>
            <p:nvPr/>
          </p:nvSpPr>
          <p:spPr>
            <a:xfrm flipH="1">
              <a:off x="8874360" y="2259000"/>
              <a:ext cx="241200" cy="12600"/>
            </a:xfrm>
            <a:custGeom>
              <a:avLst/>
              <a:gdLst/>
              <a:ahLst/>
              <a:rect l="l" t="t" r="r" b="b"/>
              <a:pathLst>
                <a:path w="456" h="24">
                  <a:moveTo>
                    <a:pt x="456" y="3"/>
                  </a:moveTo>
                  <a:lnTo>
                    <a:pt x="456" y="0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6" y="18"/>
                  </a:lnTo>
                  <a:lnTo>
                    <a:pt x="45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3124"/>
            <p:cNvSpPr/>
            <p:nvPr/>
          </p:nvSpPr>
          <p:spPr>
            <a:xfrm flipH="1">
              <a:off x="8759880" y="2203560"/>
              <a:ext cx="114480" cy="57240"/>
            </a:xfrm>
            <a:custGeom>
              <a:avLst/>
              <a:gdLst/>
              <a:ahLst/>
              <a:rect l="l" t="t" r="r" b="b"/>
              <a:pathLst>
                <a:path w="216" h="108">
                  <a:moveTo>
                    <a:pt x="0" y="105"/>
                  </a:moveTo>
                  <a:lnTo>
                    <a:pt x="0" y="108"/>
                  </a:lnTo>
                  <a:lnTo>
                    <a:pt x="216" y="6"/>
                  </a:lnTo>
                  <a:lnTo>
                    <a:pt x="216" y="0"/>
                  </a:lnTo>
                  <a:lnTo>
                    <a:pt x="210" y="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3125"/>
            <p:cNvSpPr/>
            <p:nvPr/>
          </p:nvSpPr>
          <p:spPr>
            <a:xfrm flipH="1">
              <a:off x="8701200" y="2206800"/>
              <a:ext cx="347760" cy="180720"/>
            </a:xfrm>
            <a:custGeom>
              <a:avLst/>
              <a:gdLst/>
              <a:ahLst/>
              <a:rect l="l" t="t" r="r" b="b"/>
              <a:pathLst>
                <a:path w="657" h="342">
                  <a:moveTo>
                    <a:pt x="330" y="102"/>
                  </a:moveTo>
                  <a:lnTo>
                    <a:pt x="0" y="117"/>
                  </a:lnTo>
                  <a:lnTo>
                    <a:pt x="456" y="276"/>
                  </a:lnTo>
                  <a:lnTo>
                    <a:pt x="657" y="342"/>
                  </a:lnTo>
                  <a:lnTo>
                    <a:pt x="546" y="0"/>
                  </a:lnTo>
                  <a:lnTo>
                    <a:pt x="33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3126"/>
            <p:cNvSpPr/>
            <p:nvPr/>
          </p:nvSpPr>
          <p:spPr>
            <a:xfrm flipH="1">
              <a:off x="8704440" y="2184480"/>
              <a:ext cx="520560" cy="3240"/>
            </a:xfrm>
            <a:custGeom>
              <a:avLst/>
              <a:gdLst/>
              <a:ahLst/>
              <a:rect l="l" t="t" r="r" b="b"/>
              <a:pathLst>
                <a:path w="984" h="6">
                  <a:moveTo>
                    <a:pt x="495" y="6"/>
                  </a:moveTo>
                  <a:lnTo>
                    <a:pt x="522" y="6"/>
                  </a:lnTo>
                  <a:lnTo>
                    <a:pt x="984" y="6"/>
                  </a:lnTo>
                  <a:lnTo>
                    <a:pt x="981" y="3"/>
                  </a:lnTo>
                  <a:lnTo>
                    <a:pt x="0" y="0"/>
                  </a:lnTo>
                  <a:lnTo>
                    <a:pt x="150" y="6"/>
                  </a:lnTo>
                  <a:lnTo>
                    <a:pt x="49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3127"/>
            <p:cNvSpPr/>
            <p:nvPr/>
          </p:nvSpPr>
          <p:spPr>
            <a:xfrm flipH="1">
              <a:off x="8948880" y="2187720"/>
              <a:ext cx="1440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3128"/>
            <p:cNvSpPr/>
            <p:nvPr/>
          </p:nvSpPr>
          <p:spPr>
            <a:xfrm flipH="1">
              <a:off x="8696160" y="2187720"/>
              <a:ext cx="407880" cy="193680"/>
            </a:xfrm>
            <a:custGeom>
              <a:avLst/>
              <a:gdLst/>
              <a:ahLst/>
              <a:rect l="l" t="t" r="r" b="b"/>
              <a:pathLst>
                <a:path w="771" h="366">
                  <a:moveTo>
                    <a:pt x="294" y="0"/>
                  </a:moveTo>
                  <a:lnTo>
                    <a:pt x="267" y="3"/>
                  </a:lnTo>
                  <a:lnTo>
                    <a:pt x="0" y="3"/>
                  </a:lnTo>
                  <a:lnTo>
                    <a:pt x="432" y="21"/>
                  </a:lnTo>
                  <a:lnTo>
                    <a:pt x="648" y="21"/>
                  </a:lnTo>
                  <a:lnTo>
                    <a:pt x="660" y="33"/>
                  </a:lnTo>
                  <a:lnTo>
                    <a:pt x="765" y="366"/>
                  </a:lnTo>
                  <a:lnTo>
                    <a:pt x="771" y="366"/>
                  </a:lnTo>
                  <a:lnTo>
                    <a:pt x="768" y="321"/>
                  </a:lnTo>
                  <a:lnTo>
                    <a:pt x="768" y="156"/>
                  </a:lnTo>
                  <a:lnTo>
                    <a:pt x="765" y="126"/>
                  </a:lnTo>
                  <a:lnTo>
                    <a:pt x="765" y="3"/>
                  </a:lnTo>
                  <a:lnTo>
                    <a:pt x="759" y="0"/>
                  </a:lnTo>
                  <a:lnTo>
                    <a:pt x="756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3129"/>
            <p:cNvSpPr/>
            <p:nvPr/>
          </p:nvSpPr>
          <p:spPr>
            <a:xfrm flipH="1">
              <a:off x="9177120" y="2224080"/>
              <a:ext cx="11160" cy="79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3"/>
                  </a:moveTo>
                  <a:lnTo>
                    <a:pt x="21" y="15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3130"/>
            <p:cNvSpPr/>
            <p:nvPr/>
          </p:nvSpPr>
          <p:spPr>
            <a:xfrm flipH="1">
              <a:off x="8763120" y="2184480"/>
              <a:ext cx="488880" cy="84240"/>
            </a:xfrm>
            <a:custGeom>
              <a:avLst/>
              <a:gdLst/>
              <a:ahLst/>
              <a:rect l="l" t="t" r="r" b="b"/>
              <a:pathLst>
                <a:path w="924" h="159">
                  <a:moveTo>
                    <a:pt x="156" y="99"/>
                  </a:moveTo>
                  <a:lnTo>
                    <a:pt x="162" y="102"/>
                  </a:lnTo>
                  <a:lnTo>
                    <a:pt x="183" y="114"/>
                  </a:lnTo>
                  <a:lnTo>
                    <a:pt x="186" y="117"/>
                  </a:lnTo>
                  <a:lnTo>
                    <a:pt x="195" y="123"/>
                  </a:lnTo>
                  <a:lnTo>
                    <a:pt x="201" y="126"/>
                  </a:lnTo>
                  <a:lnTo>
                    <a:pt x="207" y="129"/>
                  </a:lnTo>
                  <a:lnTo>
                    <a:pt x="210" y="132"/>
                  </a:lnTo>
                  <a:lnTo>
                    <a:pt x="225" y="138"/>
                  </a:lnTo>
                  <a:lnTo>
                    <a:pt x="225" y="141"/>
                  </a:lnTo>
                  <a:lnTo>
                    <a:pt x="231" y="144"/>
                  </a:lnTo>
                  <a:lnTo>
                    <a:pt x="240" y="150"/>
                  </a:lnTo>
                  <a:lnTo>
                    <a:pt x="249" y="153"/>
                  </a:lnTo>
                  <a:lnTo>
                    <a:pt x="258" y="159"/>
                  </a:lnTo>
                  <a:lnTo>
                    <a:pt x="714" y="141"/>
                  </a:lnTo>
                  <a:lnTo>
                    <a:pt x="924" y="36"/>
                  </a:lnTo>
                  <a:lnTo>
                    <a:pt x="711" y="27"/>
                  </a:lnTo>
                  <a:lnTo>
                    <a:pt x="279" y="9"/>
                  </a:lnTo>
                  <a:lnTo>
                    <a:pt x="201" y="6"/>
                  </a:lnTo>
                  <a:lnTo>
                    <a:pt x="51" y="0"/>
                  </a:lnTo>
                  <a:lnTo>
                    <a:pt x="12" y="0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2" y="9"/>
                  </a:lnTo>
                  <a:lnTo>
                    <a:pt x="24" y="18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48" y="33"/>
                  </a:lnTo>
                  <a:lnTo>
                    <a:pt x="51" y="33"/>
                  </a:lnTo>
                  <a:lnTo>
                    <a:pt x="63" y="42"/>
                  </a:lnTo>
                  <a:lnTo>
                    <a:pt x="66" y="42"/>
                  </a:lnTo>
                  <a:lnTo>
                    <a:pt x="78" y="51"/>
                  </a:lnTo>
                  <a:lnTo>
                    <a:pt x="78" y="54"/>
                  </a:lnTo>
                  <a:lnTo>
                    <a:pt x="81" y="57"/>
                  </a:lnTo>
                  <a:lnTo>
                    <a:pt x="84" y="57"/>
                  </a:lnTo>
                  <a:lnTo>
                    <a:pt x="81" y="51"/>
                  </a:lnTo>
                  <a:lnTo>
                    <a:pt x="87" y="57"/>
                  </a:lnTo>
                  <a:lnTo>
                    <a:pt x="90" y="60"/>
                  </a:lnTo>
                  <a:lnTo>
                    <a:pt x="90" y="57"/>
                  </a:lnTo>
                  <a:lnTo>
                    <a:pt x="102" y="66"/>
                  </a:lnTo>
                  <a:lnTo>
                    <a:pt x="105" y="66"/>
                  </a:lnTo>
                  <a:lnTo>
                    <a:pt x="117" y="75"/>
                  </a:lnTo>
                  <a:lnTo>
                    <a:pt x="120" y="78"/>
                  </a:lnTo>
                  <a:lnTo>
                    <a:pt x="120" y="75"/>
                  </a:lnTo>
                  <a:lnTo>
                    <a:pt x="141" y="90"/>
                  </a:lnTo>
                  <a:lnTo>
                    <a:pt x="144" y="90"/>
                  </a:lnTo>
                  <a:lnTo>
                    <a:pt x="156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3131"/>
            <p:cNvSpPr/>
            <p:nvPr/>
          </p:nvSpPr>
          <p:spPr>
            <a:xfrm flipH="1">
              <a:off x="9212400" y="2198880"/>
              <a:ext cx="39600" cy="14040"/>
            </a:xfrm>
            <a:custGeom>
              <a:avLst/>
              <a:gdLst/>
              <a:ahLst/>
              <a:rect l="l" t="t" r="r" b="b"/>
              <a:pathLst>
                <a:path w="75" h="27">
                  <a:moveTo>
                    <a:pt x="66" y="15"/>
                  </a:moveTo>
                  <a:lnTo>
                    <a:pt x="63" y="1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75" y="27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3132"/>
            <p:cNvSpPr/>
            <p:nvPr/>
          </p:nvSpPr>
          <p:spPr>
            <a:xfrm flipH="1">
              <a:off x="9205560" y="221148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3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3133"/>
            <p:cNvSpPr/>
            <p:nvPr/>
          </p:nvSpPr>
          <p:spPr>
            <a:xfrm flipH="1">
              <a:off x="9210600" y="2206800"/>
              <a:ext cx="6120" cy="6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12"/>
                  </a:moveTo>
                  <a:lnTo>
                    <a:pt x="12" y="9"/>
                  </a:lnTo>
                  <a:lnTo>
                    <a:pt x="0" y="0"/>
                  </a:lnTo>
                  <a:lnTo>
                    <a:pt x="9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3134"/>
            <p:cNvSpPr/>
            <p:nvPr/>
          </p:nvSpPr>
          <p:spPr>
            <a:xfrm flipH="1">
              <a:off x="9198000" y="2214720"/>
              <a:ext cx="6480" cy="46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3"/>
                  </a:moveTo>
                  <a:lnTo>
                    <a:pt x="12" y="9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3135"/>
            <p:cNvSpPr/>
            <p:nvPr/>
          </p:nvSpPr>
          <p:spPr>
            <a:xfrm flipH="1">
              <a:off x="9226440" y="2193840"/>
              <a:ext cx="11160" cy="792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3" y="6"/>
                  </a:moveTo>
                  <a:lnTo>
                    <a:pt x="9" y="9"/>
                  </a:lnTo>
                  <a:lnTo>
                    <a:pt x="21" y="15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3136"/>
            <p:cNvSpPr/>
            <p:nvPr/>
          </p:nvSpPr>
          <p:spPr>
            <a:xfrm flipH="1">
              <a:off x="9232560" y="2197080"/>
              <a:ext cx="19080" cy="180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6" y="3"/>
                  </a:moveTo>
                  <a:lnTo>
                    <a:pt x="30" y="0"/>
                  </a:lnTo>
                  <a:lnTo>
                    <a:pt x="0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3137"/>
            <p:cNvSpPr/>
            <p:nvPr/>
          </p:nvSpPr>
          <p:spPr>
            <a:xfrm flipH="1">
              <a:off x="9246960" y="2185920"/>
              <a:ext cx="4680" cy="1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9" y="3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3138"/>
            <p:cNvSpPr/>
            <p:nvPr/>
          </p:nvSpPr>
          <p:spPr>
            <a:xfrm flipH="1">
              <a:off x="9239400" y="2189160"/>
              <a:ext cx="6480" cy="46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0" y="3"/>
                  </a:lnTo>
                  <a:lnTo>
                    <a:pt x="12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3139"/>
            <p:cNvSpPr/>
            <p:nvPr/>
          </p:nvSpPr>
          <p:spPr>
            <a:xfrm flipH="1">
              <a:off x="8507160" y="2119320"/>
              <a:ext cx="738360" cy="66600"/>
            </a:xfrm>
            <a:custGeom>
              <a:avLst/>
              <a:gdLst/>
              <a:ahLst/>
              <a:rect l="l" t="t" r="r" b="b"/>
              <a:pathLst>
                <a:path w="1395" h="126">
                  <a:moveTo>
                    <a:pt x="0" y="123"/>
                  </a:moveTo>
                  <a:lnTo>
                    <a:pt x="39" y="123"/>
                  </a:lnTo>
                  <a:lnTo>
                    <a:pt x="1020" y="126"/>
                  </a:lnTo>
                  <a:lnTo>
                    <a:pt x="1395" y="33"/>
                  </a:lnTo>
                  <a:lnTo>
                    <a:pt x="1104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3140"/>
            <p:cNvSpPr/>
            <p:nvPr/>
          </p:nvSpPr>
          <p:spPr>
            <a:xfrm flipH="1">
              <a:off x="8502840" y="2136960"/>
              <a:ext cx="203040" cy="50760"/>
            </a:xfrm>
            <a:custGeom>
              <a:avLst/>
              <a:gdLst/>
              <a:ahLst/>
              <a:rect l="l" t="t" r="r" b="b"/>
              <a:pathLst>
                <a:path w="384" h="96">
                  <a:moveTo>
                    <a:pt x="384" y="6"/>
                  </a:moveTo>
                  <a:lnTo>
                    <a:pt x="375" y="0"/>
                  </a:lnTo>
                  <a:lnTo>
                    <a:pt x="0" y="93"/>
                  </a:lnTo>
                  <a:lnTo>
                    <a:pt x="3" y="96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38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3141"/>
            <p:cNvSpPr/>
            <p:nvPr/>
          </p:nvSpPr>
          <p:spPr>
            <a:xfrm flipH="1">
              <a:off x="8759880" y="2198880"/>
              <a:ext cx="115920" cy="4680"/>
            </a:xfrm>
            <a:custGeom>
              <a:avLst/>
              <a:gdLst/>
              <a:ahLst/>
              <a:rect l="l" t="t" r="r" b="b"/>
              <a:pathLst>
                <a:path w="219" h="9">
                  <a:moveTo>
                    <a:pt x="213" y="9"/>
                  </a:moveTo>
                  <a:lnTo>
                    <a:pt x="219" y="9"/>
                  </a:lnTo>
                  <a:lnTo>
                    <a:pt x="216" y="0"/>
                  </a:lnTo>
                  <a:lnTo>
                    <a:pt x="0" y="0"/>
                  </a:lnTo>
                  <a:lnTo>
                    <a:pt x="21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3142"/>
            <p:cNvSpPr/>
            <p:nvPr/>
          </p:nvSpPr>
          <p:spPr>
            <a:xfrm flipH="1">
              <a:off x="8696160" y="2198880"/>
              <a:ext cx="65160" cy="188640"/>
            </a:xfrm>
            <a:custGeom>
              <a:avLst/>
              <a:gdLst/>
              <a:ahLst/>
              <a:rect l="l" t="t" r="r" b="b"/>
              <a:pathLst>
                <a:path w="123" h="357">
                  <a:moveTo>
                    <a:pt x="3" y="9"/>
                  </a:moveTo>
                  <a:lnTo>
                    <a:pt x="3" y="15"/>
                  </a:lnTo>
                  <a:lnTo>
                    <a:pt x="114" y="357"/>
                  </a:lnTo>
                  <a:lnTo>
                    <a:pt x="123" y="357"/>
                  </a:lnTo>
                  <a:lnTo>
                    <a:pt x="123" y="351"/>
                  </a:lnTo>
                  <a:lnTo>
                    <a:pt x="117" y="345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3143"/>
            <p:cNvSpPr/>
            <p:nvPr/>
          </p:nvSpPr>
          <p:spPr>
            <a:xfrm flipH="1">
              <a:off x="8699400" y="218772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3144"/>
            <p:cNvSpPr/>
            <p:nvPr/>
          </p:nvSpPr>
          <p:spPr>
            <a:xfrm flipH="1">
              <a:off x="8696160" y="238140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3145"/>
            <p:cNvSpPr/>
            <p:nvPr/>
          </p:nvSpPr>
          <p:spPr>
            <a:xfrm flipH="1">
              <a:off x="8696160" y="2352600"/>
              <a:ext cx="111240" cy="41400"/>
            </a:xfrm>
            <a:custGeom>
              <a:avLst/>
              <a:gdLst/>
              <a:ahLst/>
              <a:rect l="l" t="t" r="r" b="b"/>
              <a:pathLst>
                <a:path w="210" h="78">
                  <a:moveTo>
                    <a:pt x="210" y="66"/>
                  </a:moveTo>
                  <a:lnTo>
                    <a:pt x="201" y="66"/>
                  </a:lnTo>
                  <a:lnTo>
                    <a:pt x="0" y="0"/>
                  </a:lnTo>
                  <a:lnTo>
                    <a:pt x="204" y="78"/>
                  </a:lnTo>
                  <a:lnTo>
                    <a:pt x="21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4" name="Group 3146"/>
          <p:cNvGrpSpPr/>
          <p:nvPr/>
        </p:nvGrpSpPr>
        <p:grpSpPr>
          <a:xfrm>
            <a:off x="8713440" y="2131920"/>
            <a:ext cx="741240" cy="263520"/>
            <a:chOff x="8713440" y="2131920"/>
            <a:chExt cx="741240" cy="263520"/>
          </a:xfrm>
        </p:grpSpPr>
        <p:sp>
          <p:nvSpPr>
            <p:cNvPr id="2525" name="Freeform 3147"/>
            <p:cNvSpPr/>
            <p:nvPr/>
          </p:nvSpPr>
          <p:spPr>
            <a:xfrm flipH="1">
              <a:off x="8957880" y="2205000"/>
              <a:ext cx="71280" cy="1440"/>
            </a:xfrm>
            <a:custGeom>
              <a:avLst/>
              <a:gdLst/>
              <a:ahLst/>
              <a:rect l="l" t="t" r="r" b="b"/>
              <a:pathLst>
                <a:path w="135" h="3">
                  <a:moveTo>
                    <a:pt x="132" y="3"/>
                  </a:moveTo>
                  <a:lnTo>
                    <a:pt x="135" y="0"/>
                  </a:lnTo>
                  <a:lnTo>
                    <a:pt x="0" y="3"/>
                  </a:lnTo>
                  <a:lnTo>
                    <a:pt x="13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3148"/>
            <p:cNvSpPr/>
            <p:nvPr/>
          </p:nvSpPr>
          <p:spPr>
            <a:xfrm flipH="1">
              <a:off x="8949960" y="2205000"/>
              <a:ext cx="9360" cy="23760"/>
            </a:xfrm>
            <a:custGeom>
              <a:avLst/>
              <a:gdLst/>
              <a:ahLst/>
              <a:rect l="l" t="t" r="r" b="b"/>
              <a:pathLst>
                <a:path w="18" h="45">
                  <a:moveTo>
                    <a:pt x="3" y="0"/>
                  </a:moveTo>
                  <a:lnTo>
                    <a:pt x="0" y="3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18" y="4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3149"/>
            <p:cNvSpPr/>
            <p:nvPr/>
          </p:nvSpPr>
          <p:spPr>
            <a:xfrm flipH="1">
              <a:off x="8957880" y="2211120"/>
              <a:ext cx="102960" cy="52560"/>
            </a:xfrm>
            <a:custGeom>
              <a:avLst/>
              <a:gdLst/>
              <a:ahLst/>
              <a:rect l="l" t="t" r="r" b="b"/>
              <a:pathLst>
                <a:path w="195" h="99">
                  <a:moveTo>
                    <a:pt x="195" y="3"/>
                  </a:moveTo>
                  <a:lnTo>
                    <a:pt x="192" y="0"/>
                  </a:lnTo>
                  <a:lnTo>
                    <a:pt x="0" y="96"/>
                  </a:lnTo>
                  <a:lnTo>
                    <a:pt x="0" y="99"/>
                  </a:lnTo>
                  <a:lnTo>
                    <a:pt x="19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3150"/>
            <p:cNvSpPr/>
            <p:nvPr/>
          </p:nvSpPr>
          <p:spPr>
            <a:xfrm flipH="1">
              <a:off x="8958960" y="2197080"/>
              <a:ext cx="493560" cy="75960"/>
            </a:xfrm>
            <a:custGeom>
              <a:avLst/>
              <a:gdLst/>
              <a:ahLst/>
              <a:rect l="l" t="t" r="r" b="b"/>
              <a:pathLst>
                <a:path w="933" h="144">
                  <a:moveTo>
                    <a:pt x="933" y="27"/>
                  </a:moveTo>
                  <a:lnTo>
                    <a:pt x="933" y="24"/>
                  </a:lnTo>
                  <a:lnTo>
                    <a:pt x="696" y="18"/>
                  </a:lnTo>
                  <a:lnTo>
                    <a:pt x="261" y="6"/>
                  </a:lnTo>
                  <a:lnTo>
                    <a:pt x="247" y="6"/>
                  </a:lnTo>
                  <a:lnTo>
                    <a:pt x="204" y="6"/>
                  </a:lnTo>
                  <a:lnTo>
                    <a:pt x="24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288" y="144"/>
                  </a:lnTo>
                  <a:lnTo>
                    <a:pt x="741" y="123"/>
                  </a:lnTo>
                  <a:lnTo>
                    <a:pt x="93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3151"/>
            <p:cNvSpPr/>
            <p:nvPr/>
          </p:nvSpPr>
          <p:spPr>
            <a:xfrm flipH="1">
              <a:off x="8959320" y="2206440"/>
              <a:ext cx="125280" cy="3240"/>
            </a:xfrm>
            <a:custGeom>
              <a:avLst/>
              <a:gdLst/>
              <a:ahLst/>
              <a:rect l="l" t="t" r="r" b="b"/>
              <a:pathLst>
                <a:path w="237" h="6">
                  <a:moveTo>
                    <a:pt x="237" y="6"/>
                  </a:moveTo>
                  <a:lnTo>
                    <a:pt x="237" y="0"/>
                  </a:lnTo>
                  <a:lnTo>
                    <a:pt x="105" y="0"/>
                  </a:lnTo>
                  <a:lnTo>
                    <a:pt x="0" y="0"/>
                  </a:lnTo>
                  <a:lnTo>
                    <a:pt x="23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3152"/>
            <p:cNvSpPr/>
            <p:nvPr/>
          </p:nvSpPr>
          <p:spPr>
            <a:xfrm flipH="1">
              <a:off x="8901720" y="2212920"/>
              <a:ext cx="358920" cy="176040"/>
            </a:xfrm>
            <a:custGeom>
              <a:avLst/>
              <a:gdLst/>
              <a:ahLst/>
              <a:rect l="l" t="t" r="r" b="b"/>
              <a:pathLst>
                <a:path w="678" h="333">
                  <a:moveTo>
                    <a:pt x="603" y="78"/>
                  </a:moveTo>
                  <a:lnTo>
                    <a:pt x="588" y="33"/>
                  </a:lnTo>
                  <a:lnTo>
                    <a:pt x="588" y="30"/>
                  </a:lnTo>
                  <a:lnTo>
                    <a:pt x="573" y="0"/>
                  </a:lnTo>
                  <a:lnTo>
                    <a:pt x="378" y="96"/>
                  </a:lnTo>
                  <a:lnTo>
                    <a:pt x="0" y="117"/>
                  </a:lnTo>
                  <a:lnTo>
                    <a:pt x="456" y="264"/>
                  </a:lnTo>
                  <a:lnTo>
                    <a:pt x="678" y="333"/>
                  </a:lnTo>
                  <a:lnTo>
                    <a:pt x="675" y="312"/>
                  </a:lnTo>
                  <a:lnTo>
                    <a:pt x="660" y="264"/>
                  </a:lnTo>
                  <a:lnTo>
                    <a:pt x="660" y="261"/>
                  </a:lnTo>
                  <a:lnTo>
                    <a:pt x="645" y="216"/>
                  </a:lnTo>
                  <a:lnTo>
                    <a:pt x="645" y="213"/>
                  </a:lnTo>
                  <a:lnTo>
                    <a:pt x="630" y="168"/>
                  </a:lnTo>
                  <a:lnTo>
                    <a:pt x="630" y="165"/>
                  </a:lnTo>
                  <a:lnTo>
                    <a:pt x="618" y="129"/>
                  </a:lnTo>
                  <a:lnTo>
                    <a:pt x="615" y="117"/>
                  </a:lnTo>
                  <a:lnTo>
                    <a:pt x="603" y="81"/>
                  </a:lnTo>
                  <a:lnTo>
                    <a:pt x="60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3153"/>
            <p:cNvSpPr/>
            <p:nvPr/>
          </p:nvSpPr>
          <p:spPr>
            <a:xfrm flipH="1">
              <a:off x="8897400" y="2195280"/>
              <a:ext cx="417600" cy="185760"/>
            </a:xfrm>
            <a:custGeom>
              <a:avLst/>
              <a:gdLst/>
              <a:ahLst/>
              <a:rect l="l" t="t" r="r" b="b"/>
              <a:pathLst>
                <a:path w="789" h="351">
                  <a:moveTo>
                    <a:pt x="690" y="66"/>
                  </a:moveTo>
                  <a:lnTo>
                    <a:pt x="705" y="111"/>
                  </a:lnTo>
                  <a:lnTo>
                    <a:pt x="705" y="114"/>
                  </a:lnTo>
                  <a:lnTo>
                    <a:pt x="717" y="150"/>
                  </a:lnTo>
                  <a:lnTo>
                    <a:pt x="720" y="162"/>
                  </a:lnTo>
                  <a:lnTo>
                    <a:pt x="732" y="198"/>
                  </a:lnTo>
                  <a:lnTo>
                    <a:pt x="732" y="201"/>
                  </a:lnTo>
                  <a:lnTo>
                    <a:pt x="747" y="246"/>
                  </a:lnTo>
                  <a:lnTo>
                    <a:pt x="747" y="249"/>
                  </a:lnTo>
                  <a:lnTo>
                    <a:pt x="762" y="294"/>
                  </a:lnTo>
                  <a:lnTo>
                    <a:pt x="762" y="297"/>
                  </a:lnTo>
                  <a:lnTo>
                    <a:pt x="777" y="345"/>
                  </a:lnTo>
                  <a:lnTo>
                    <a:pt x="783" y="351"/>
                  </a:lnTo>
                  <a:lnTo>
                    <a:pt x="789" y="351"/>
                  </a:lnTo>
                  <a:lnTo>
                    <a:pt x="789" y="312"/>
                  </a:lnTo>
                  <a:lnTo>
                    <a:pt x="786" y="297"/>
                  </a:lnTo>
                  <a:lnTo>
                    <a:pt x="786" y="144"/>
                  </a:lnTo>
                  <a:lnTo>
                    <a:pt x="783" y="129"/>
                  </a:lnTo>
                  <a:lnTo>
                    <a:pt x="783" y="0"/>
                  </a:lnTo>
                  <a:lnTo>
                    <a:pt x="771" y="0"/>
                  </a:lnTo>
                  <a:lnTo>
                    <a:pt x="64" y="8"/>
                  </a:lnTo>
                  <a:lnTo>
                    <a:pt x="25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0" y="9"/>
                  </a:lnTo>
                  <a:lnTo>
                    <a:pt x="435" y="21"/>
                  </a:lnTo>
                  <a:lnTo>
                    <a:pt x="540" y="21"/>
                  </a:lnTo>
                  <a:lnTo>
                    <a:pt x="675" y="18"/>
                  </a:lnTo>
                  <a:lnTo>
                    <a:pt x="690" y="63"/>
                  </a:lnTo>
                  <a:lnTo>
                    <a:pt x="69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3154"/>
            <p:cNvSpPr/>
            <p:nvPr/>
          </p:nvSpPr>
          <p:spPr>
            <a:xfrm flipH="1">
              <a:off x="9060840" y="2261880"/>
              <a:ext cx="239760" cy="12960"/>
            </a:xfrm>
            <a:custGeom>
              <a:avLst/>
              <a:gdLst/>
              <a:ahLst/>
              <a:rect l="l" t="t" r="r" b="b"/>
              <a:pathLst>
                <a:path w="453" h="24">
                  <a:moveTo>
                    <a:pt x="453" y="3"/>
                  </a:moveTo>
                  <a:lnTo>
                    <a:pt x="453" y="0"/>
                  </a:lnTo>
                  <a:lnTo>
                    <a:pt x="0" y="21"/>
                  </a:lnTo>
                  <a:lnTo>
                    <a:pt x="75" y="24"/>
                  </a:lnTo>
                  <a:lnTo>
                    <a:pt x="45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3155"/>
            <p:cNvSpPr/>
            <p:nvPr/>
          </p:nvSpPr>
          <p:spPr>
            <a:xfrm flipH="1">
              <a:off x="8906760" y="2193840"/>
              <a:ext cx="533160" cy="6120"/>
            </a:xfrm>
            <a:custGeom>
              <a:avLst/>
              <a:gdLst/>
              <a:ahLst/>
              <a:rect l="l" t="t" r="r" b="b"/>
              <a:pathLst>
                <a:path w="1008" h="12">
                  <a:moveTo>
                    <a:pt x="251" y="12"/>
                  </a:moveTo>
                  <a:lnTo>
                    <a:pt x="256" y="12"/>
                  </a:lnTo>
                  <a:lnTo>
                    <a:pt x="262" y="12"/>
                  </a:lnTo>
                  <a:lnTo>
                    <a:pt x="301" y="11"/>
                  </a:lnTo>
                  <a:lnTo>
                    <a:pt x="1008" y="3"/>
                  </a:lnTo>
                  <a:lnTo>
                    <a:pt x="1008" y="0"/>
                  </a:lnTo>
                  <a:lnTo>
                    <a:pt x="0" y="6"/>
                  </a:lnTo>
                  <a:lnTo>
                    <a:pt x="180" y="12"/>
                  </a:lnTo>
                  <a:lnTo>
                    <a:pt x="223" y="12"/>
                  </a:lnTo>
                  <a:lnTo>
                    <a:pt x="25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3156"/>
            <p:cNvSpPr/>
            <p:nvPr/>
          </p:nvSpPr>
          <p:spPr>
            <a:xfrm flipH="1">
              <a:off x="9430920" y="2209680"/>
              <a:ext cx="23760" cy="1440"/>
            </a:xfrm>
            <a:custGeom>
              <a:avLst/>
              <a:gdLst/>
              <a:ahLst/>
              <a:rect l="l" t="t" r="r" b="b"/>
              <a:pathLst>
                <a:path w="45" h="3">
                  <a:moveTo>
                    <a:pt x="45" y="3"/>
                  </a:moveTo>
                  <a:lnTo>
                    <a:pt x="3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3157"/>
            <p:cNvSpPr/>
            <p:nvPr/>
          </p:nvSpPr>
          <p:spPr>
            <a:xfrm flipH="1">
              <a:off x="9300240" y="2199960"/>
              <a:ext cx="149400" cy="73080"/>
            </a:xfrm>
            <a:custGeom>
              <a:avLst/>
              <a:gdLst/>
              <a:ahLst/>
              <a:rect l="l" t="t" r="r" b="b"/>
              <a:pathLst>
                <a:path w="282" h="138">
                  <a:moveTo>
                    <a:pt x="30" y="18"/>
                  </a:moveTo>
                  <a:lnTo>
                    <a:pt x="36" y="21"/>
                  </a:lnTo>
                  <a:lnTo>
                    <a:pt x="111" y="57"/>
                  </a:lnTo>
                  <a:lnTo>
                    <a:pt x="114" y="60"/>
                  </a:lnTo>
                  <a:lnTo>
                    <a:pt x="117" y="60"/>
                  </a:lnTo>
                  <a:lnTo>
                    <a:pt x="120" y="63"/>
                  </a:lnTo>
                  <a:lnTo>
                    <a:pt x="123" y="63"/>
                  </a:lnTo>
                  <a:lnTo>
                    <a:pt x="126" y="66"/>
                  </a:lnTo>
                  <a:lnTo>
                    <a:pt x="282" y="138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6"/>
                  </a:lnTo>
                  <a:lnTo>
                    <a:pt x="9" y="6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12"/>
                  </a:lnTo>
                  <a:lnTo>
                    <a:pt x="21" y="1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3158"/>
            <p:cNvSpPr/>
            <p:nvPr/>
          </p:nvSpPr>
          <p:spPr>
            <a:xfrm flipH="1">
              <a:off x="9390600" y="2211120"/>
              <a:ext cx="63720" cy="20880"/>
            </a:xfrm>
            <a:custGeom>
              <a:avLst/>
              <a:gdLst/>
              <a:ahLst/>
              <a:rect l="l" t="t" r="r" b="b"/>
              <a:pathLst>
                <a:path w="120" h="39">
                  <a:moveTo>
                    <a:pt x="120" y="39"/>
                  </a:moveTo>
                  <a:lnTo>
                    <a:pt x="120" y="36"/>
                  </a:lnTo>
                  <a:lnTo>
                    <a:pt x="45" y="0"/>
                  </a:lnTo>
                  <a:lnTo>
                    <a:pt x="0" y="0"/>
                  </a:lnTo>
                  <a:lnTo>
                    <a:pt x="12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3159"/>
            <p:cNvSpPr/>
            <p:nvPr/>
          </p:nvSpPr>
          <p:spPr>
            <a:xfrm flipH="1">
              <a:off x="9389520" y="223020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3160"/>
            <p:cNvSpPr/>
            <p:nvPr/>
          </p:nvSpPr>
          <p:spPr>
            <a:xfrm flipH="1">
              <a:off x="9388080" y="223200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3161"/>
            <p:cNvSpPr/>
            <p:nvPr/>
          </p:nvSpPr>
          <p:spPr>
            <a:xfrm flipH="1">
              <a:off x="9385920" y="223200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3162"/>
            <p:cNvSpPr/>
            <p:nvPr/>
          </p:nvSpPr>
          <p:spPr>
            <a:xfrm flipH="1">
              <a:off x="8713440" y="2145960"/>
              <a:ext cx="193680" cy="49320"/>
            </a:xfrm>
            <a:custGeom>
              <a:avLst/>
              <a:gdLst/>
              <a:ahLst/>
              <a:rect l="l" t="t" r="r" b="b"/>
              <a:pathLst>
                <a:path w="366" h="93">
                  <a:moveTo>
                    <a:pt x="366" y="6"/>
                  </a:moveTo>
                  <a:lnTo>
                    <a:pt x="354" y="0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2" y="93"/>
                  </a:lnTo>
                  <a:lnTo>
                    <a:pt x="36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3163"/>
            <p:cNvSpPr/>
            <p:nvPr/>
          </p:nvSpPr>
          <p:spPr>
            <a:xfrm flipH="1">
              <a:off x="8897400" y="2352600"/>
              <a:ext cx="122400" cy="42840"/>
            </a:xfrm>
            <a:custGeom>
              <a:avLst/>
              <a:gdLst/>
              <a:ahLst/>
              <a:rect l="l" t="t" r="r" b="b"/>
              <a:pathLst>
                <a:path w="231" h="81">
                  <a:moveTo>
                    <a:pt x="225" y="69"/>
                  </a:moveTo>
                  <a:lnTo>
                    <a:pt x="222" y="69"/>
                  </a:lnTo>
                  <a:lnTo>
                    <a:pt x="0" y="0"/>
                  </a:lnTo>
                  <a:lnTo>
                    <a:pt x="216" y="78"/>
                  </a:lnTo>
                  <a:lnTo>
                    <a:pt x="231" y="81"/>
                  </a:lnTo>
                  <a:lnTo>
                    <a:pt x="231" y="72"/>
                  </a:lnTo>
                  <a:lnTo>
                    <a:pt x="225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3164"/>
            <p:cNvSpPr/>
            <p:nvPr/>
          </p:nvSpPr>
          <p:spPr>
            <a:xfrm flipH="1">
              <a:off x="8897400" y="2377800"/>
              <a:ext cx="6480" cy="111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3" y="21"/>
                  </a:moveTo>
                  <a:lnTo>
                    <a:pt x="6" y="21"/>
                  </a:lnTo>
                  <a:lnTo>
                    <a:pt x="12" y="21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3165"/>
            <p:cNvSpPr/>
            <p:nvPr/>
          </p:nvSpPr>
          <p:spPr>
            <a:xfrm flipH="1">
              <a:off x="8897040" y="238104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3166"/>
            <p:cNvSpPr/>
            <p:nvPr/>
          </p:nvSpPr>
          <p:spPr>
            <a:xfrm flipH="1">
              <a:off x="8897040" y="238896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3167"/>
            <p:cNvSpPr/>
            <p:nvPr/>
          </p:nvSpPr>
          <p:spPr>
            <a:xfrm flipH="1">
              <a:off x="8719560" y="2131920"/>
              <a:ext cx="720720" cy="65160"/>
            </a:xfrm>
            <a:custGeom>
              <a:avLst/>
              <a:gdLst/>
              <a:ahLst/>
              <a:rect l="l" t="t" r="r" b="b"/>
              <a:pathLst>
                <a:path w="1362" h="123">
                  <a:moveTo>
                    <a:pt x="1008" y="117"/>
                  </a:moveTo>
                  <a:lnTo>
                    <a:pt x="1362" y="27"/>
                  </a:lnTo>
                  <a:lnTo>
                    <a:pt x="1068" y="0"/>
                  </a:lnTo>
                  <a:lnTo>
                    <a:pt x="0" y="123"/>
                  </a:lnTo>
                  <a:lnTo>
                    <a:pt x="1008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3168"/>
            <p:cNvSpPr/>
            <p:nvPr/>
          </p:nvSpPr>
          <p:spPr>
            <a:xfrm flipH="1">
              <a:off x="9447840" y="2201760"/>
              <a:ext cx="180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3169"/>
            <p:cNvSpPr/>
            <p:nvPr/>
          </p:nvSpPr>
          <p:spPr>
            <a:xfrm flipH="1">
              <a:off x="9446760" y="22017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3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8" name="Group 3170"/>
          <p:cNvGrpSpPr/>
          <p:nvPr/>
        </p:nvGrpSpPr>
        <p:grpSpPr>
          <a:xfrm>
            <a:off x="8910360" y="2143080"/>
            <a:ext cx="733320" cy="252360"/>
            <a:chOff x="8910360" y="2143080"/>
            <a:chExt cx="733320" cy="252360"/>
          </a:xfrm>
        </p:grpSpPr>
        <p:sp>
          <p:nvSpPr>
            <p:cNvPr id="2549" name="Freeform 3171"/>
            <p:cNvSpPr/>
            <p:nvPr/>
          </p:nvSpPr>
          <p:spPr>
            <a:xfrm flipH="1">
              <a:off x="9140400" y="2211120"/>
              <a:ext cx="99720" cy="5040"/>
            </a:xfrm>
            <a:custGeom>
              <a:avLst/>
              <a:gdLst/>
              <a:ahLst/>
              <a:rect l="l" t="t" r="r" b="b"/>
              <a:pathLst>
                <a:path w="189" h="9">
                  <a:moveTo>
                    <a:pt x="177" y="9"/>
                  </a:moveTo>
                  <a:lnTo>
                    <a:pt x="189" y="9"/>
                  </a:lnTo>
                  <a:lnTo>
                    <a:pt x="186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7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3172"/>
            <p:cNvSpPr/>
            <p:nvPr/>
          </p:nvSpPr>
          <p:spPr>
            <a:xfrm flipH="1">
              <a:off x="9140400" y="2216160"/>
              <a:ext cx="96840" cy="50760"/>
            </a:xfrm>
            <a:custGeom>
              <a:avLst/>
              <a:gdLst/>
              <a:ahLst/>
              <a:rect l="l" t="t" r="r" b="b"/>
              <a:pathLst>
                <a:path w="183" h="96">
                  <a:moveTo>
                    <a:pt x="183" y="0"/>
                  </a:moveTo>
                  <a:lnTo>
                    <a:pt x="171" y="0"/>
                  </a:lnTo>
                  <a:lnTo>
                    <a:pt x="0" y="90"/>
                  </a:lnTo>
                  <a:lnTo>
                    <a:pt x="3" y="96"/>
                  </a:lnTo>
                  <a:lnTo>
                    <a:pt x="183" y="6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3173"/>
            <p:cNvSpPr/>
            <p:nvPr/>
          </p:nvSpPr>
          <p:spPr>
            <a:xfrm flipH="1">
              <a:off x="9086400" y="2201760"/>
              <a:ext cx="393480" cy="174600"/>
            </a:xfrm>
            <a:custGeom>
              <a:avLst/>
              <a:gdLst/>
              <a:ahLst/>
              <a:rect l="l" t="t" r="r" b="b"/>
              <a:pathLst>
                <a:path w="744" h="330">
                  <a:moveTo>
                    <a:pt x="738" y="0"/>
                  </a:moveTo>
                  <a:lnTo>
                    <a:pt x="726" y="0"/>
                  </a:lnTo>
                  <a:lnTo>
                    <a:pt x="372" y="6"/>
                  </a:lnTo>
                  <a:lnTo>
                    <a:pt x="348" y="9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372" y="24"/>
                  </a:lnTo>
                  <a:lnTo>
                    <a:pt x="453" y="21"/>
                  </a:lnTo>
                  <a:lnTo>
                    <a:pt x="639" y="18"/>
                  </a:lnTo>
                  <a:lnTo>
                    <a:pt x="642" y="27"/>
                  </a:lnTo>
                  <a:lnTo>
                    <a:pt x="642" y="33"/>
                  </a:lnTo>
                  <a:lnTo>
                    <a:pt x="645" y="39"/>
                  </a:lnTo>
                  <a:lnTo>
                    <a:pt x="651" y="57"/>
                  </a:lnTo>
                  <a:lnTo>
                    <a:pt x="654" y="69"/>
                  </a:lnTo>
                  <a:lnTo>
                    <a:pt x="681" y="156"/>
                  </a:lnTo>
                  <a:lnTo>
                    <a:pt x="684" y="168"/>
                  </a:lnTo>
                  <a:lnTo>
                    <a:pt x="693" y="195"/>
                  </a:lnTo>
                  <a:lnTo>
                    <a:pt x="696" y="207"/>
                  </a:lnTo>
                  <a:lnTo>
                    <a:pt x="723" y="294"/>
                  </a:lnTo>
                  <a:lnTo>
                    <a:pt x="726" y="306"/>
                  </a:lnTo>
                  <a:lnTo>
                    <a:pt x="738" y="330"/>
                  </a:lnTo>
                  <a:lnTo>
                    <a:pt x="744" y="330"/>
                  </a:lnTo>
                  <a:lnTo>
                    <a:pt x="7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3174"/>
            <p:cNvSpPr/>
            <p:nvPr/>
          </p:nvSpPr>
          <p:spPr>
            <a:xfrm flipH="1">
              <a:off x="8910360" y="2154240"/>
              <a:ext cx="185760" cy="47520"/>
            </a:xfrm>
            <a:custGeom>
              <a:avLst/>
              <a:gdLst/>
              <a:ahLst/>
              <a:rect l="l" t="t" r="r" b="b"/>
              <a:pathLst>
                <a:path w="351" h="90">
                  <a:moveTo>
                    <a:pt x="0" y="90"/>
                  </a:moveTo>
                  <a:lnTo>
                    <a:pt x="12" y="90"/>
                  </a:lnTo>
                  <a:lnTo>
                    <a:pt x="348" y="6"/>
                  </a:lnTo>
                  <a:lnTo>
                    <a:pt x="351" y="0"/>
                  </a:lnTo>
                  <a:lnTo>
                    <a:pt x="339" y="0"/>
                  </a:lnTo>
                  <a:lnTo>
                    <a:pt x="0" y="87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3175"/>
            <p:cNvSpPr/>
            <p:nvPr/>
          </p:nvSpPr>
          <p:spPr>
            <a:xfrm flipH="1">
              <a:off x="9089280" y="2219400"/>
              <a:ext cx="365400" cy="169560"/>
            </a:xfrm>
            <a:custGeom>
              <a:avLst/>
              <a:gdLst/>
              <a:ahLst/>
              <a:rect l="l" t="t" r="r" b="b"/>
              <a:pathLst>
                <a:path w="690" h="321">
                  <a:moveTo>
                    <a:pt x="606" y="36"/>
                  </a:moveTo>
                  <a:lnTo>
                    <a:pt x="603" y="24"/>
                  </a:lnTo>
                  <a:lnTo>
                    <a:pt x="597" y="6"/>
                  </a:lnTo>
                  <a:lnTo>
                    <a:pt x="594" y="0"/>
                  </a:lnTo>
                  <a:lnTo>
                    <a:pt x="414" y="90"/>
                  </a:lnTo>
                  <a:lnTo>
                    <a:pt x="0" y="114"/>
                  </a:lnTo>
                  <a:lnTo>
                    <a:pt x="468" y="258"/>
                  </a:lnTo>
                  <a:lnTo>
                    <a:pt x="480" y="261"/>
                  </a:lnTo>
                  <a:lnTo>
                    <a:pt x="687" y="321"/>
                  </a:lnTo>
                  <a:lnTo>
                    <a:pt x="690" y="312"/>
                  </a:lnTo>
                  <a:lnTo>
                    <a:pt x="690" y="306"/>
                  </a:lnTo>
                  <a:lnTo>
                    <a:pt x="687" y="300"/>
                  </a:lnTo>
                  <a:lnTo>
                    <a:pt x="678" y="273"/>
                  </a:lnTo>
                  <a:lnTo>
                    <a:pt x="675" y="261"/>
                  </a:lnTo>
                  <a:lnTo>
                    <a:pt x="648" y="174"/>
                  </a:lnTo>
                  <a:lnTo>
                    <a:pt x="645" y="162"/>
                  </a:lnTo>
                  <a:lnTo>
                    <a:pt x="636" y="135"/>
                  </a:lnTo>
                  <a:lnTo>
                    <a:pt x="633" y="123"/>
                  </a:lnTo>
                  <a:lnTo>
                    <a:pt x="60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3176"/>
            <p:cNvSpPr/>
            <p:nvPr/>
          </p:nvSpPr>
          <p:spPr>
            <a:xfrm flipH="1">
              <a:off x="9096120" y="2200320"/>
              <a:ext cx="520560" cy="9360"/>
            </a:xfrm>
            <a:custGeom>
              <a:avLst/>
              <a:gdLst/>
              <a:ahLst/>
              <a:rect l="l" t="t" r="r" b="b"/>
              <a:pathLst>
                <a:path w="984" h="18">
                  <a:moveTo>
                    <a:pt x="984" y="3"/>
                  </a:moveTo>
                  <a:lnTo>
                    <a:pt x="984" y="0"/>
                  </a:lnTo>
                  <a:lnTo>
                    <a:pt x="0" y="18"/>
                  </a:lnTo>
                  <a:lnTo>
                    <a:pt x="129" y="18"/>
                  </a:lnTo>
                  <a:lnTo>
                    <a:pt x="258" y="18"/>
                  </a:lnTo>
                  <a:lnTo>
                    <a:pt x="606" y="12"/>
                  </a:lnTo>
                  <a:lnTo>
                    <a:pt x="630" y="9"/>
                  </a:lnTo>
                  <a:lnTo>
                    <a:pt x="98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3177"/>
            <p:cNvSpPr/>
            <p:nvPr/>
          </p:nvSpPr>
          <p:spPr>
            <a:xfrm flipH="1">
              <a:off x="9240120" y="2212920"/>
              <a:ext cx="42840" cy="1440"/>
            </a:xfrm>
            <a:custGeom>
              <a:avLst/>
              <a:gdLst/>
              <a:ahLst/>
              <a:rect l="l" t="t" r="r" b="b"/>
              <a:pathLst>
                <a:path w="81" h="3">
                  <a:moveTo>
                    <a:pt x="81" y="3"/>
                  </a:moveTo>
                  <a:lnTo>
                    <a:pt x="81" y="0"/>
                  </a:lnTo>
                  <a:lnTo>
                    <a:pt x="0" y="3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3178"/>
            <p:cNvSpPr/>
            <p:nvPr/>
          </p:nvSpPr>
          <p:spPr>
            <a:xfrm flipH="1">
              <a:off x="9146520" y="2209680"/>
              <a:ext cx="492120" cy="66600"/>
            </a:xfrm>
            <a:custGeom>
              <a:avLst/>
              <a:gdLst/>
              <a:ahLst/>
              <a:rect l="l" t="t" r="r" b="b"/>
              <a:pathLst>
                <a:path w="930" h="126">
                  <a:moveTo>
                    <a:pt x="753" y="9"/>
                  </a:moveTo>
                  <a:lnTo>
                    <a:pt x="672" y="9"/>
                  </a:lnTo>
                  <a:lnTo>
                    <a:pt x="300" y="3"/>
                  </a:lnTo>
                  <a:lnTo>
                    <a:pt x="171" y="0"/>
                  </a:lnTo>
                  <a:lnTo>
                    <a:pt x="4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15" y="126"/>
                  </a:lnTo>
                  <a:lnTo>
                    <a:pt x="759" y="102"/>
                  </a:lnTo>
                  <a:lnTo>
                    <a:pt x="930" y="12"/>
                  </a:lnTo>
                  <a:lnTo>
                    <a:pt x="75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3179"/>
            <p:cNvSpPr/>
            <p:nvPr/>
          </p:nvSpPr>
          <p:spPr>
            <a:xfrm flipH="1">
              <a:off x="9235800" y="2263680"/>
              <a:ext cx="238320" cy="15840"/>
            </a:xfrm>
            <a:custGeom>
              <a:avLst/>
              <a:gdLst/>
              <a:ahLst/>
              <a:rect l="l" t="t" r="r" b="b"/>
              <a:pathLst>
                <a:path w="450" h="30">
                  <a:moveTo>
                    <a:pt x="450" y="6"/>
                  </a:moveTo>
                  <a:lnTo>
                    <a:pt x="447" y="0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36" y="30"/>
                  </a:lnTo>
                  <a:lnTo>
                    <a:pt x="45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3180"/>
            <p:cNvSpPr/>
            <p:nvPr/>
          </p:nvSpPr>
          <p:spPr>
            <a:xfrm flipH="1">
              <a:off x="9086760" y="2376360"/>
              <a:ext cx="2880" cy="79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3181"/>
            <p:cNvSpPr/>
            <p:nvPr/>
          </p:nvSpPr>
          <p:spPr>
            <a:xfrm flipH="1">
              <a:off x="9089640" y="2363760"/>
              <a:ext cx="6480" cy="1440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12" y="24"/>
                  </a:moveTo>
                  <a:lnTo>
                    <a:pt x="0" y="0"/>
                  </a:lnTo>
                  <a:lnTo>
                    <a:pt x="9" y="27"/>
                  </a:lnTo>
                  <a:lnTo>
                    <a:pt x="12" y="27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3182"/>
            <p:cNvSpPr/>
            <p:nvPr/>
          </p:nvSpPr>
          <p:spPr>
            <a:xfrm flipH="1">
              <a:off x="9089280" y="2378160"/>
              <a:ext cx="1800" cy="28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0" y="0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3183"/>
            <p:cNvSpPr/>
            <p:nvPr/>
          </p:nvSpPr>
          <p:spPr>
            <a:xfrm flipH="1">
              <a:off x="9084960" y="2384280"/>
              <a:ext cx="6480" cy="64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0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12" y="1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3184"/>
            <p:cNvSpPr/>
            <p:nvPr/>
          </p:nvSpPr>
          <p:spPr>
            <a:xfrm flipH="1">
              <a:off x="9084960" y="2357280"/>
              <a:ext cx="115920" cy="38160"/>
            </a:xfrm>
            <a:custGeom>
              <a:avLst/>
              <a:gdLst/>
              <a:ahLst/>
              <a:rect l="l" t="t" r="r" b="b"/>
              <a:pathLst>
                <a:path w="219" h="72">
                  <a:moveTo>
                    <a:pt x="219" y="63"/>
                  </a:moveTo>
                  <a:lnTo>
                    <a:pt x="207" y="60"/>
                  </a:lnTo>
                  <a:lnTo>
                    <a:pt x="0" y="0"/>
                  </a:lnTo>
                  <a:lnTo>
                    <a:pt x="210" y="72"/>
                  </a:lnTo>
                  <a:lnTo>
                    <a:pt x="219" y="72"/>
                  </a:lnTo>
                  <a:lnTo>
                    <a:pt x="21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3185"/>
            <p:cNvSpPr/>
            <p:nvPr/>
          </p:nvSpPr>
          <p:spPr>
            <a:xfrm flipH="1">
              <a:off x="9471960" y="2209680"/>
              <a:ext cx="166680" cy="6840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13" y="90"/>
                  </a:moveTo>
                  <a:lnTo>
                    <a:pt x="216" y="93"/>
                  </a:lnTo>
                  <a:lnTo>
                    <a:pt x="312" y="129"/>
                  </a:lnTo>
                  <a:lnTo>
                    <a:pt x="315" y="126"/>
                  </a:lnTo>
                  <a:lnTo>
                    <a:pt x="0" y="0"/>
                  </a:lnTo>
                  <a:lnTo>
                    <a:pt x="6" y="9"/>
                  </a:lnTo>
                  <a:lnTo>
                    <a:pt x="30" y="18"/>
                  </a:lnTo>
                  <a:lnTo>
                    <a:pt x="33" y="21"/>
                  </a:lnTo>
                  <a:lnTo>
                    <a:pt x="45" y="24"/>
                  </a:lnTo>
                  <a:lnTo>
                    <a:pt x="198" y="84"/>
                  </a:lnTo>
                  <a:lnTo>
                    <a:pt x="201" y="87"/>
                  </a:lnTo>
                  <a:lnTo>
                    <a:pt x="204" y="87"/>
                  </a:lnTo>
                  <a:lnTo>
                    <a:pt x="207" y="90"/>
                  </a:lnTo>
                  <a:lnTo>
                    <a:pt x="213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3186"/>
            <p:cNvSpPr/>
            <p:nvPr/>
          </p:nvSpPr>
          <p:spPr>
            <a:xfrm flipH="1">
              <a:off x="9532800" y="225432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3187"/>
            <p:cNvSpPr/>
            <p:nvPr/>
          </p:nvSpPr>
          <p:spPr>
            <a:xfrm flipH="1">
              <a:off x="9534240" y="2222280"/>
              <a:ext cx="109440" cy="33480"/>
            </a:xfrm>
            <a:custGeom>
              <a:avLst/>
              <a:gdLst/>
              <a:ahLst/>
              <a:rect l="l" t="t" r="r" b="b"/>
              <a:pathLst>
                <a:path w="207" h="63">
                  <a:moveTo>
                    <a:pt x="207" y="63"/>
                  </a:moveTo>
                  <a:lnTo>
                    <a:pt x="207" y="60"/>
                  </a:lnTo>
                  <a:lnTo>
                    <a:pt x="54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20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3188"/>
            <p:cNvSpPr/>
            <p:nvPr/>
          </p:nvSpPr>
          <p:spPr>
            <a:xfrm flipH="1">
              <a:off x="8916480" y="2143080"/>
              <a:ext cx="718920" cy="66600"/>
            </a:xfrm>
            <a:custGeom>
              <a:avLst/>
              <a:gdLst/>
              <a:ahLst/>
              <a:rect l="l" t="t" r="r" b="b"/>
              <a:pathLst>
                <a:path w="1359" h="126">
                  <a:moveTo>
                    <a:pt x="1020" y="108"/>
                  </a:moveTo>
                  <a:lnTo>
                    <a:pt x="1359" y="21"/>
                  </a:lnTo>
                  <a:lnTo>
                    <a:pt x="1050" y="0"/>
                  </a:lnTo>
                  <a:lnTo>
                    <a:pt x="0" y="126"/>
                  </a:lnTo>
                  <a:lnTo>
                    <a:pt x="36" y="126"/>
                  </a:lnTo>
                  <a:lnTo>
                    <a:pt x="102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3189"/>
            <p:cNvSpPr/>
            <p:nvPr/>
          </p:nvSpPr>
          <p:spPr>
            <a:xfrm flipH="1">
              <a:off x="9614880" y="2220840"/>
              <a:ext cx="20520" cy="144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39" y="3"/>
                  </a:moveTo>
                  <a:lnTo>
                    <a:pt x="27" y="0"/>
                  </a:lnTo>
                  <a:lnTo>
                    <a:pt x="0" y="3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Group 3190"/>
          <p:cNvGrpSpPr/>
          <p:nvPr/>
        </p:nvGrpSpPr>
        <p:grpSpPr>
          <a:xfrm>
            <a:off x="9085320" y="2152800"/>
            <a:ext cx="722160" cy="244440"/>
            <a:chOff x="9085320" y="2152800"/>
            <a:chExt cx="722160" cy="244440"/>
          </a:xfrm>
        </p:grpSpPr>
        <p:sp>
          <p:nvSpPr>
            <p:cNvPr id="2569" name="Freeform 3191"/>
            <p:cNvSpPr/>
            <p:nvPr/>
          </p:nvSpPr>
          <p:spPr>
            <a:xfrm flipH="1">
              <a:off x="9085320" y="2162160"/>
              <a:ext cx="176400" cy="46080"/>
            </a:xfrm>
            <a:custGeom>
              <a:avLst/>
              <a:gdLst/>
              <a:ahLst/>
              <a:rect l="l" t="t" r="r" b="b"/>
              <a:pathLst>
                <a:path w="333" h="87">
                  <a:moveTo>
                    <a:pt x="0" y="87"/>
                  </a:moveTo>
                  <a:lnTo>
                    <a:pt x="12" y="87"/>
                  </a:lnTo>
                  <a:lnTo>
                    <a:pt x="333" y="6"/>
                  </a:lnTo>
                  <a:lnTo>
                    <a:pt x="324" y="0"/>
                  </a:lnTo>
                  <a:lnTo>
                    <a:pt x="0" y="8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3192"/>
            <p:cNvSpPr/>
            <p:nvPr/>
          </p:nvSpPr>
          <p:spPr>
            <a:xfrm flipH="1">
              <a:off x="9252000" y="2208240"/>
              <a:ext cx="379440" cy="168120"/>
            </a:xfrm>
            <a:custGeom>
              <a:avLst/>
              <a:gdLst/>
              <a:ahLst/>
              <a:rect l="l" t="t" r="r" b="b"/>
              <a:pathLst>
                <a:path w="717" h="318">
                  <a:moveTo>
                    <a:pt x="711" y="0"/>
                  </a:moveTo>
                  <a:lnTo>
                    <a:pt x="699" y="0"/>
                  </a:lnTo>
                  <a:lnTo>
                    <a:pt x="354" y="9"/>
                  </a:lnTo>
                  <a:lnTo>
                    <a:pt x="339" y="12"/>
                  </a:lnTo>
                  <a:lnTo>
                    <a:pt x="264" y="12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399" y="24"/>
                  </a:lnTo>
                  <a:lnTo>
                    <a:pt x="450" y="21"/>
                  </a:lnTo>
                  <a:lnTo>
                    <a:pt x="615" y="18"/>
                  </a:lnTo>
                  <a:lnTo>
                    <a:pt x="618" y="18"/>
                  </a:lnTo>
                  <a:lnTo>
                    <a:pt x="621" y="27"/>
                  </a:lnTo>
                  <a:lnTo>
                    <a:pt x="621" y="30"/>
                  </a:lnTo>
                  <a:lnTo>
                    <a:pt x="633" y="69"/>
                  </a:lnTo>
                  <a:lnTo>
                    <a:pt x="636" y="78"/>
                  </a:lnTo>
                  <a:lnTo>
                    <a:pt x="657" y="150"/>
                  </a:lnTo>
                  <a:lnTo>
                    <a:pt x="660" y="159"/>
                  </a:lnTo>
                  <a:lnTo>
                    <a:pt x="678" y="219"/>
                  </a:lnTo>
                  <a:lnTo>
                    <a:pt x="681" y="231"/>
                  </a:lnTo>
                  <a:lnTo>
                    <a:pt x="684" y="240"/>
                  </a:lnTo>
                  <a:lnTo>
                    <a:pt x="699" y="291"/>
                  </a:lnTo>
                  <a:lnTo>
                    <a:pt x="702" y="300"/>
                  </a:lnTo>
                  <a:lnTo>
                    <a:pt x="705" y="312"/>
                  </a:lnTo>
                  <a:lnTo>
                    <a:pt x="711" y="318"/>
                  </a:lnTo>
                  <a:lnTo>
                    <a:pt x="717" y="318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3193"/>
            <p:cNvSpPr/>
            <p:nvPr/>
          </p:nvSpPr>
          <p:spPr>
            <a:xfrm flipH="1">
              <a:off x="9261360" y="2206440"/>
              <a:ext cx="509400" cy="14400"/>
            </a:xfrm>
            <a:custGeom>
              <a:avLst/>
              <a:gdLst/>
              <a:ahLst/>
              <a:rect l="l" t="t" r="r" b="b"/>
              <a:pathLst>
                <a:path w="963" h="27">
                  <a:moveTo>
                    <a:pt x="963" y="3"/>
                  </a:moveTo>
                  <a:lnTo>
                    <a:pt x="963" y="0"/>
                  </a:lnTo>
                  <a:lnTo>
                    <a:pt x="0" y="27"/>
                  </a:lnTo>
                  <a:lnTo>
                    <a:pt x="165" y="27"/>
                  </a:lnTo>
                  <a:lnTo>
                    <a:pt x="264" y="24"/>
                  </a:lnTo>
                  <a:lnTo>
                    <a:pt x="528" y="15"/>
                  </a:lnTo>
                  <a:lnTo>
                    <a:pt x="603" y="15"/>
                  </a:lnTo>
                  <a:lnTo>
                    <a:pt x="618" y="12"/>
                  </a:lnTo>
                  <a:lnTo>
                    <a:pt x="96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3194"/>
            <p:cNvSpPr/>
            <p:nvPr/>
          </p:nvSpPr>
          <p:spPr>
            <a:xfrm flipH="1">
              <a:off x="9393120" y="2219400"/>
              <a:ext cx="27000" cy="1440"/>
            </a:xfrm>
            <a:custGeom>
              <a:avLst/>
              <a:gdLst/>
              <a:ahLst/>
              <a:rect l="l" t="t" r="r" b="b"/>
              <a:pathLst>
                <a:path w="51" h="3">
                  <a:moveTo>
                    <a:pt x="51" y="3"/>
                  </a:moveTo>
                  <a:lnTo>
                    <a:pt x="51" y="0"/>
                  </a:lnTo>
                  <a:lnTo>
                    <a:pt x="0" y="3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3195"/>
            <p:cNvSpPr/>
            <p:nvPr/>
          </p:nvSpPr>
          <p:spPr>
            <a:xfrm flipH="1">
              <a:off x="9305640" y="2217600"/>
              <a:ext cx="87480" cy="3240"/>
            </a:xfrm>
            <a:custGeom>
              <a:avLst/>
              <a:gdLst/>
              <a:ahLst/>
              <a:rect l="l" t="t" r="r" b="b"/>
              <a:pathLst>
                <a:path w="165" h="6">
                  <a:moveTo>
                    <a:pt x="0" y="3"/>
                  </a:moveTo>
                  <a:lnTo>
                    <a:pt x="0" y="6"/>
                  </a:lnTo>
                  <a:lnTo>
                    <a:pt x="162" y="6"/>
                  </a:lnTo>
                  <a:lnTo>
                    <a:pt x="165" y="6"/>
                  </a:lnTo>
                  <a:lnTo>
                    <a:pt x="16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3196"/>
            <p:cNvSpPr/>
            <p:nvPr/>
          </p:nvSpPr>
          <p:spPr>
            <a:xfrm flipH="1">
              <a:off x="9302400" y="2220840"/>
              <a:ext cx="87480" cy="47520"/>
            </a:xfrm>
            <a:custGeom>
              <a:avLst/>
              <a:gdLst/>
              <a:ahLst/>
              <a:rect l="l" t="t" r="r" b="b"/>
              <a:pathLst>
                <a:path w="165" h="90">
                  <a:moveTo>
                    <a:pt x="159" y="0"/>
                  </a:moveTo>
                  <a:lnTo>
                    <a:pt x="156" y="0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65" y="6"/>
                  </a:lnTo>
                  <a:lnTo>
                    <a:pt x="165" y="3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3197"/>
            <p:cNvSpPr/>
            <p:nvPr/>
          </p:nvSpPr>
          <p:spPr>
            <a:xfrm flipH="1">
              <a:off x="9302400" y="2217600"/>
              <a:ext cx="3240" cy="5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6"/>
                  </a:lnTo>
                  <a:lnTo>
                    <a:pt x="6" y="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3198"/>
            <p:cNvSpPr/>
            <p:nvPr/>
          </p:nvSpPr>
          <p:spPr>
            <a:xfrm flipH="1">
              <a:off x="9253800" y="2224080"/>
              <a:ext cx="553680" cy="166680"/>
            </a:xfrm>
            <a:custGeom>
              <a:avLst/>
              <a:gdLst/>
              <a:ahLst/>
              <a:rect l="l" t="t" r="r" b="b"/>
              <a:pathLst>
                <a:path w="1047" h="315">
                  <a:moveTo>
                    <a:pt x="966" y="39"/>
                  </a:moveTo>
                  <a:lnTo>
                    <a:pt x="954" y="0"/>
                  </a:lnTo>
                  <a:lnTo>
                    <a:pt x="789" y="84"/>
                  </a:lnTo>
                  <a:lnTo>
                    <a:pt x="351" y="111"/>
                  </a:lnTo>
                  <a:lnTo>
                    <a:pt x="60" y="18"/>
                  </a:lnTo>
                  <a:lnTo>
                    <a:pt x="24" y="18"/>
                  </a:lnTo>
                  <a:lnTo>
                    <a:pt x="0" y="18"/>
                  </a:lnTo>
                  <a:lnTo>
                    <a:pt x="9" y="24"/>
                  </a:lnTo>
                  <a:lnTo>
                    <a:pt x="822" y="255"/>
                  </a:lnTo>
                  <a:lnTo>
                    <a:pt x="825" y="255"/>
                  </a:lnTo>
                  <a:lnTo>
                    <a:pt x="1047" y="315"/>
                  </a:lnTo>
                  <a:lnTo>
                    <a:pt x="1047" y="306"/>
                  </a:lnTo>
                  <a:lnTo>
                    <a:pt x="1044" y="300"/>
                  </a:lnTo>
                  <a:lnTo>
                    <a:pt x="1038" y="282"/>
                  </a:lnTo>
                  <a:lnTo>
                    <a:pt x="1035" y="270"/>
                  </a:lnTo>
                  <a:lnTo>
                    <a:pt x="1032" y="261"/>
                  </a:lnTo>
                  <a:lnTo>
                    <a:pt x="1017" y="210"/>
                  </a:lnTo>
                  <a:lnTo>
                    <a:pt x="1014" y="201"/>
                  </a:lnTo>
                  <a:lnTo>
                    <a:pt x="1011" y="189"/>
                  </a:lnTo>
                  <a:lnTo>
                    <a:pt x="993" y="129"/>
                  </a:lnTo>
                  <a:lnTo>
                    <a:pt x="990" y="120"/>
                  </a:lnTo>
                  <a:lnTo>
                    <a:pt x="969" y="48"/>
                  </a:lnTo>
                  <a:lnTo>
                    <a:pt x="96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3199"/>
            <p:cNvSpPr/>
            <p:nvPr/>
          </p:nvSpPr>
          <p:spPr>
            <a:xfrm flipH="1">
              <a:off x="9307080" y="2220840"/>
              <a:ext cx="497160" cy="60480"/>
            </a:xfrm>
            <a:custGeom>
              <a:avLst/>
              <a:gdLst/>
              <a:ahLst/>
              <a:rect l="l" t="t" r="r" b="b"/>
              <a:pathLst>
                <a:path w="939" h="114">
                  <a:moveTo>
                    <a:pt x="939" y="0"/>
                  </a:moveTo>
                  <a:lnTo>
                    <a:pt x="777" y="0"/>
                  </a:lnTo>
                  <a:lnTo>
                    <a:pt x="726" y="0"/>
                  </a:lnTo>
                  <a:lnTo>
                    <a:pt x="327" y="0"/>
                  </a:lnTo>
                  <a:lnTo>
                    <a:pt x="228" y="0"/>
                  </a:lnTo>
                  <a:lnTo>
                    <a:pt x="63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345" y="114"/>
                  </a:lnTo>
                  <a:lnTo>
                    <a:pt x="783" y="87"/>
                  </a:lnTo>
                  <a:lnTo>
                    <a:pt x="9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3200"/>
            <p:cNvSpPr/>
            <p:nvPr/>
          </p:nvSpPr>
          <p:spPr>
            <a:xfrm flipH="1">
              <a:off x="9390240" y="2266920"/>
              <a:ext cx="231840" cy="15840"/>
            </a:xfrm>
            <a:custGeom>
              <a:avLst/>
              <a:gdLst/>
              <a:ahLst/>
              <a:rect l="l" t="t" r="r" b="b"/>
              <a:pathLst>
                <a:path w="438" h="30">
                  <a:moveTo>
                    <a:pt x="438" y="3"/>
                  </a:moveTo>
                  <a:lnTo>
                    <a:pt x="438" y="0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43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3201"/>
            <p:cNvSpPr/>
            <p:nvPr/>
          </p:nvSpPr>
          <p:spPr>
            <a:xfrm flipH="1">
              <a:off x="9250200" y="2376360"/>
              <a:ext cx="4680" cy="1584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6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3" y="27"/>
                  </a:lnTo>
                  <a:lnTo>
                    <a:pt x="9" y="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3202"/>
            <p:cNvSpPr/>
            <p:nvPr/>
          </p:nvSpPr>
          <p:spPr>
            <a:xfrm flipH="1">
              <a:off x="9253440" y="2373120"/>
              <a:ext cx="4680" cy="97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6" y="6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3203"/>
            <p:cNvSpPr/>
            <p:nvPr/>
          </p:nvSpPr>
          <p:spPr>
            <a:xfrm flipH="1">
              <a:off x="9253800" y="2382840"/>
              <a:ext cx="1440" cy="32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6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3204"/>
            <p:cNvSpPr/>
            <p:nvPr/>
          </p:nvSpPr>
          <p:spPr>
            <a:xfrm flipH="1">
              <a:off x="9250200" y="2359080"/>
              <a:ext cx="120600" cy="3816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228" y="63"/>
                  </a:moveTo>
                  <a:lnTo>
                    <a:pt x="222" y="60"/>
                  </a:lnTo>
                  <a:lnTo>
                    <a:pt x="0" y="0"/>
                  </a:lnTo>
                  <a:lnTo>
                    <a:pt x="222" y="72"/>
                  </a:lnTo>
                  <a:lnTo>
                    <a:pt x="228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3205"/>
            <p:cNvSpPr/>
            <p:nvPr/>
          </p:nvSpPr>
          <p:spPr>
            <a:xfrm flipH="1">
              <a:off x="9621720" y="2222640"/>
              <a:ext cx="182520" cy="60120"/>
            </a:xfrm>
            <a:custGeom>
              <a:avLst/>
              <a:gdLst/>
              <a:ahLst/>
              <a:rect l="l" t="t" r="r" b="b"/>
              <a:pathLst>
                <a:path w="345" h="114">
                  <a:moveTo>
                    <a:pt x="345" y="114"/>
                  </a:moveTo>
                  <a:lnTo>
                    <a:pt x="345" y="111"/>
                  </a:lnTo>
                  <a:lnTo>
                    <a:pt x="0" y="0"/>
                  </a:lnTo>
                  <a:lnTo>
                    <a:pt x="6" y="6"/>
                  </a:lnTo>
                  <a:lnTo>
                    <a:pt x="45" y="18"/>
                  </a:lnTo>
                  <a:lnTo>
                    <a:pt x="54" y="21"/>
                  </a:lnTo>
                  <a:lnTo>
                    <a:pt x="345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3206"/>
            <p:cNvSpPr/>
            <p:nvPr/>
          </p:nvSpPr>
          <p:spPr>
            <a:xfrm flipH="1">
              <a:off x="9089640" y="2152800"/>
              <a:ext cx="706680" cy="68040"/>
            </a:xfrm>
            <a:custGeom>
              <a:avLst/>
              <a:gdLst/>
              <a:ahLst/>
              <a:rect l="l" t="t" r="r" b="b"/>
              <a:pathLst>
                <a:path w="1335" h="129">
                  <a:moveTo>
                    <a:pt x="1011" y="102"/>
                  </a:moveTo>
                  <a:lnTo>
                    <a:pt x="1335" y="18"/>
                  </a:lnTo>
                  <a:lnTo>
                    <a:pt x="1044" y="0"/>
                  </a:lnTo>
                  <a:lnTo>
                    <a:pt x="0" y="129"/>
                  </a:lnTo>
                  <a:lnTo>
                    <a:pt x="48" y="129"/>
                  </a:lnTo>
                  <a:lnTo>
                    <a:pt x="101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3207"/>
            <p:cNvSpPr/>
            <p:nvPr/>
          </p:nvSpPr>
          <p:spPr>
            <a:xfrm flipH="1">
              <a:off x="9780480" y="2225520"/>
              <a:ext cx="20520" cy="648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12"/>
                  </a:moveTo>
                  <a:lnTo>
                    <a:pt x="0" y="0"/>
                  </a:lnTo>
                  <a:lnTo>
                    <a:pt x="27" y="1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3208"/>
            <p:cNvSpPr/>
            <p:nvPr/>
          </p:nvSpPr>
          <p:spPr>
            <a:xfrm flipH="1">
              <a:off x="9775440" y="2232000"/>
              <a:ext cx="19080" cy="144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27" y="0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36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Group 3209"/>
          <p:cNvGrpSpPr/>
          <p:nvPr/>
        </p:nvGrpSpPr>
        <p:grpSpPr>
          <a:xfrm>
            <a:off x="9307440" y="2143080"/>
            <a:ext cx="709200" cy="233280"/>
            <a:chOff x="9307440" y="2143080"/>
            <a:chExt cx="709200" cy="233280"/>
          </a:xfrm>
        </p:grpSpPr>
        <p:sp>
          <p:nvSpPr>
            <p:cNvPr id="2588" name="Freeform 3210"/>
            <p:cNvSpPr/>
            <p:nvPr/>
          </p:nvSpPr>
          <p:spPr>
            <a:xfrm flipH="1">
              <a:off x="9307080" y="2149200"/>
              <a:ext cx="168120" cy="44640"/>
            </a:xfrm>
            <a:custGeom>
              <a:avLst/>
              <a:gdLst/>
              <a:ahLst/>
              <a:rect l="l" t="t" r="r" b="b"/>
              <a:pathLst>
                <a:path w="318" h="84">
                  <a:moveTo>
                    <a:pt x="318" y="6"/>
                  </a:moveTo>
                  <a:lnTo>
                    <a:pt x="306" y="0"/>
                  </a:lnTo>
                  <a:lnTo>
                    <a:pt x="0" y="78"/>
                  </a:lnTo>
                  <a:lnTo>
                    <a:pt x="3" y="84"/>
                  </a:lnTo>
                  <a:lnTo>
                    <a:pt x="12" y="84"/>
                  </a:lnTo>
                  <a:lnTo>
                    <a:pt x="31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3211"/>
            <p:cNvSpPr/>
            <p:nvPr/>
          </p:nvSpPr>
          <p:spPr>
            <a:xfrm flipH="1">
              <a:off x="9464400" y="2193840"/>
              <a:ext cx="380520" cy="169920"/>
            </a:xfrm>
            <a:custGeom>
              <a:avLst/>
              <a:gdLst/>
              <a:ahLst/>
              <a:rect l="l" t="t" r="r" b="b"/>
              <a:pathLst>
                <a:path w="720" h="321">
                  <a:moveTo>
                    <a:pt x="711" y="0"/>
                  </a:moveTo>
                  <a:lnTo>
                    <a:pt x="702" y="0"/>
                  </a:lnTo>
                  <a:lnTo>
                    <a:pt x="348" y="12"/>
                  </a:lnTo>
                  <a:lnTo>
                    <a:pt x="333" y="15"/>
                  </a:lnTo>
                  <a:lnTo>
                    <a:pt x="276" y="15"/>
                  </a:lnTo>
                  <a:lnTo>
                    <a:pt x="252" y="18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72" y="24"/>
                  </a:lnTo>
                  <a:lnTo>
                    <a:pt x="387" y="24"/>
                  </a:lnTo>
                  <a:lnTo>
                    <a:pt x="405" y="24"/>
                  </a:lnTo>
                  <a:lnTo>
                    <a:pt x="417" y="24"/>
                  </a:lnTo>
                  <a:lnTo>
                    <a:pt x="453" y="21"/>
                  </a:lnTo>
                  <a:lnTo>
                    <a:pt x="624" y="15"/>
                  </a:lnTo>
                  <a:lnTo>
                    <a:pt x="624" y="21"/>
                  </a:lnTo>
                  <a:lnTo>
                    <a:pt x="627" y="24"/>
                  </a:lnTo>
                  <a:lnTo>
                    <a:pt x="627" y="27"/>
                  </a:lnTo>
                  <a:lnTo>
                    <a:pt x="669" y="171"/>
                  </a:lnTo>
                  <a:lnTo>
                    <a:pt x="672" y="180"/>
                  </a:lnTo>
                  <a:lnTo>
                    <a:pt x="675" y="192"/>
                  </a:lnTo>
                  <a:lnTo>
                    <a:pt x="678" y="201"/>
                  </a:lnTo>
                  <a:lnTo>
                    <a:pt x="714" y="321"/>
                  </a:lnTo>
                  <a:lnTo>
                    <a:pt x="720" y="321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3212"/>
            <p:cNvSpPr/>
            <p:nvPr/>
          </p:nvSpPr>
          <p:spPr>
            <a:xfrm flipH="1">
              <a:off x="9473760" y="2190600"/>
              <a:ext cx="518760" cy="20520"/>
            </a:xfrm>
            <a:custGeom>
              <a:avLst/>
              <a:gdLst/>
              <a:ahLst/>
              <a:rect l="l" t="t" r="r" b="b"/>
              <a:pathLst>
                <a:path w="981" h="39">
                  <a:moveTo>
                    <a:pt x="981" y="6"/>
                  </a:moveTo>
                  <a:lnTo>
                    <a:pt x="978" y="0"/>
                  </a:lnTo>
                  <a:lnTo>
                    <a:pt x="0" y="39"/>
                  </a:lnTo>
                  <a:lnTo>
                    <a:pt x="204" y="36"/>
                  </a:lnTo>
                  <a:lnTo>
                    <a:pt x="279" y="33"/>
                  </a:lnTo>
                  <a:lnTo>
                    <a:pt x="531" y="24"/>
                  </a:lnTo>
                  <a:lnTo>
                    <a:pt x="555" y="21"/>
                  </a:lnTo>
                  <a:lnTo>
                    <a:pt x="612" y="21"/>
                  </a:lnTo>
                  <a:lnTo>
                    <a:pt x="627" y="18"/>
                  </a:lnTo>
                  <a:lnTo>
                    <a:pt x="98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3213"/>
            <p:cNvSpPr/>
            <p:nvPr/>
          </p:nvSpPr>
          <p:spPr>
            <a:xfrm flipH="1">
              <a:off x="9513720" y="2205000"/>
              <a:ext cx="77400" cy="44280"/>
            </a:xfrm>
            <a:custGeom>
              <a:avLst/>
              <a:gdLst/>
              <a:ahLst/>
              <a:rect l="l" t="t" r="r" b="b"/>
              <a:pathLst>
                <a:path w="147" h="84">
                  <a:moveTo>
                    <a:pt x="147" y="3"/>
                  </a:moveTo>
                  <a:lnTo>
                    <a:pt x="141" y="0"/>
                  </a:lnTo>
                  <a:lnTo>
                    <a:pt x="135" y="3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147" y="6"/>
                  </a:lnTo>
                  <a:lnTo>
                    <a:pt x="14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3214"/>
            <p:cNvSpPr/>
            <p:nvPr/>
          </p:nvSpPr>
          <p:spPr>
            <a:xfrm flipH="1">
              <a:off x="9514080" y="2205000"/>
              <a:ext cx="288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3215"/>
            <p:cNvSpPr/>
            <p:nvPr/>
          </p:nvSpPr>
          <p:spPr>
            <a:xfrm flipH="1">
              <a:off x="9515520" y="2201760"/>
              <a:ext cx="90000" cy="4680"/>
            </a:xfrm>
            <a:custGeom>
              <a:avLst/>
              <a:gdLst/>
              <a:ahLst/>
              <a:rect l="l" t="t" r="r" b="b"/>
              <a:pathLst>
                <a:path w="171" h="9">
                  <a:moveTo>
                    <a:pt x="168" y="6"/>
                  </a:moveTo>
                  <a:lnTo>
                    <a:pt x="171" y="6"/>
                  </a:lnTo>
                  <a:lnTo>
                    <a:pt x="171" y="0"/>
                  </a:lnTo>
                  <a:lnTo>
                    <a:pt x="0" y="6"/>
                  </a:lnTo>
                  <a:lnTo>
                    <a:pt x="0" y="9"/>
                  </a:lnTo>
                  <a:lnTo>
                    <a:pt x="162" y="9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3216"/>
            <p:cNvSpPr/>
            <p:nvPr/>
          </p:nvSpPr>
          <p:spPr>
            <a:xfrm flipH="1">
              <a:off x="9465840" y="2207880"/>
              <a:ext cx="550800" cy="163800"/>
            </a:xfrm>
            <a:custGeom>
              <a:avLst/>
              <a:gdLst/>
              <a:ahLst/>
              <a:rect l="l" t="t" r="r" b="b"/>
              <a:pathLst>
                <a:path w="1041" h="309">
                  <a:moveTo>
                    <a:pt x="996" y="153"/>
                  </a:moveTo>
                  <a:lnTo>
                    <a:pt x="993" y="144"/>
                  </a:lnTo>
                  <a:lnTo>
                    <a:pt x="951" y="0"/>
                  </a:lnTo>
                  <a:lnTo>
                    <a:pt x="804" y="78"/>
                  </a:lnTo>
                  <a:lnTo>
                    <a:pt x="369" y="111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0" y="30"/>
                  </a:lnTo>
                  <a:lnTo>
                    <a:pt x="804" y="249"/>
                  </a:lnTo>
                  <a:lnTo>
                    <a:pt x="807" y="249"/>
                  </a:lnTo>
                  <a:lnTo>
                    <a:pt x="1041" y="309"/>
                  </a:lnTo>
                  <a:lnTo>
                    <a:pt x="1038" y="294"/>
                  </a:lnTo>
                  <a:lnTo>
                    <a:pt x="1002" y="174"/>
                  </a:lnTo>
                  <a:lnTo>
                    <a:pt x="999" y="165"/>
                  </a:lnTo>
                  <a:lnTo>
                    <a:pt x="99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3217"/>
            <p:cNvSpPr/>
            <p:nvPr/>
          </p:nvSpPr>
          <p:spPr>
            <a:xfrm flipH="1">
              <a:off x="9464760" y="2363760"/>
              <a:ext cx="2880" cy="79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3" y="15"/>
                  </a:moveTo>
                  <a:lnTo>
                    <a:pt x="6" y="15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3218"/>
            <p:cNvSpPr/>
            <p:nvPr/>
          </p:nvSpPr>
          <p:spPr>
            <a:xfrm flipH="1">
              <a:off x="9464400" y="2339640"/>
              <a:ext cx="124920" cy="36720"/>
            </a:xfrm>
            <a:custGeom>
              <a:avLst/>
              <a:gdLst/>
              <a:ahLst/>
              <a:rect l="l" t="t" r="r" b="b"/>
              <a:pathLst>
                <a:path w="237" h="69">
                  <a:moveTo>
                    <a:pt x="237" y="60"/>
                  </a:moveTo>
                  <a:lnTo>
                    <a:pt x="234" y="60"/>
                  </a:lnTo>
                  <a:lnTo>
                    <a:pt x="0" y="0"/>
                  </a:lnTo>
                  <a:lnTo>
                    <a:pt x="216" y="66"/>
                  </a:lnTo>
                  <a:lnTo>
                    <a:pt x="231" y="69"/>
                  </a:lnTo>
                  <a:lnTo>
                    <a:pt x="237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3219"/>
            <p:cNvSpPr/>
            <p:nvPr/>
          </p:nvSpPr>
          <p:spPr>
            <a:xfrm flipH="1">
              <a:off x="9313560" y="2143080"/>
              <a:ext cx="695160" cy="68040"/>
            </a:xfrm>
            <a:custGeom>
              <a:avLst/>
              <a:gdLst/>
              <a:ahLst/>
              <a:rect l="l" t="t" r="r" b="b"/>
              <a:pathLst>
                <a:path w="1314" h="129">
                  <a:moveTo>
                    <a:pt x="1008" y="90"/>
                  </a:moveTo>
                  <a:lnTo>
                    <a:pt x="1314" y="12"/>
                  </a:lnTo>
                  <a:lnTo>
                    <a:pt x="1011" y="0"/>
                  </a:lnTo>
                  <a:lnTo>
                    <a:pt x="0" y="129"/>
                  </a:lnTo>
                  <a:lnTo>
                    <a:pt x="30" y="129"/>
                  </a:lnTo>
                  <a:lnTo>
                    <a:pt x="1008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3220"/>
            <p:cNvSpPr/>
            <p:nvPr/>
          </p:nvSpPr>
          <p:spPr>
            <a:xfrm flipH="1">
              <a:off x="9519840" y="2206440"/>
              <a:ext cx="496800" cy="57240"/>
            </a:xfrm>
            <a:custGeom>
              <a:avLst/>
              <a:gdLst/>
              <a:ahLst/>
              <a:rect l="l" t="t" r="r" b="b"/>
              <a:pathLst>
                <a:path w="939" h="108">
                  <a:moveTo>
                    <a:pt x="711" y="3"/>
                  </a:moveTo>
                  <a:lnTo>
                    <a:pt x="696" y="0"/>
                  </a:lnTo>
                  <a:lnTo>
                    <a:pt x="324" y="6"/>
                  </a:lnTo>
                  <a:lnTo>
                    <a:pt x="249" y="6"/>
                  </a:lnTo>
                  <a:lnTo>
                    <a:pt x="45" y="9"/>
                  </a:lnTo>
                  <a:lnTo>
                    <a:pt x="15" y="9"/>
                  </a:lnTo>
                  <a:lnTo>
                    <a:pt x="0" y="12"/>
                  </a:lnTo>
                  <a:lnTo>
                    <a:pt x="369" y="108"/>
                  </a:lnTo>
                  <a:lnTo>
                    <a:pt x="804" y="78"/>
                  </a:lnTo>
                  <a:lnTo>
                    <a:pt x="939" y="0"/>
                  </a:lnTo>
                  <a:lnTo>
                    <a:pt x="777" y="0"/>
                  </a:lnTo>
                  <a:lnTo>
                    <a:pt x="741" y="0"/>
                  </a:lnTo>
                  <a:lnTo>
                    <a:pt x="729" y="0"/>
                  </a:lnTo>
                  <a:lnTo>
                    <a:pt x="71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3221"/>
            <p:cNvSpPr/>
            <p:nvPr/>
          </p:nvSpPr>
          <p:spPr>
            <a:xfrm flipH="1">
              <a:off x="9640800" y="22064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15" y="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3222"/>
            <p:cNvSpPr/>
            <p:nvPr/>
          </p:nvSpPr>
          <p:spPr>
            <a:xfrm flipH="1">
              <a:off x="9631080" y="2206440"/>
              <a:ext cx="900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3223"/>
            <p:cNvSpPr/>
            <p:nvPr/>
          </p:nvSpPr>
          <p:spPr>
            <a:xfrm flipH="1">
              <a:off x="9605880" y="2205000"/>
              <a:ext cx="18720" cy="144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6" y="3"/>
                  </a:moveTo>
                  <a:lnTo>
                    <a:pt x="36" y="0"/>
                  </a:lnTo>
                  <a:lnTo>
                    <a:pt x="0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3224"/>
            <p:cNvSpPr/>
            <p:nvPr/>
          </p:nvSpPr>
          <p:spPr>
            <a:xfrm flipH="1">
              <a:off x="9591840" y="2247840"/>
              <a:ext cx="229680" cy="19080"/>
            </a:xfrm>
            <a:custGeom>
              <a:avLst/>
              <a:gdLst/>
              <a:ahLst/>
              <a:rect l="l" t="t" r="r" b="b"/>
              <a:pathLst>
                <a:path w="435" h="36">
                  <a:moveTo>
                    <a:pt x="435" y="3"/>
                  </a:moveTo>
                  <a:lnTo>
                    <a:pt x="435" y="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43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3225"/>
            <p:cNvSpPr/>
            <p:nvPr/>
          </p:nvSpPr>
          <p:spPr>
            <a:xfrm flipH="1">
              <a:off x="9988200" y="2215800"/>
              <a:ext cx="23400" cy="64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7" y="12"/>
                  </a:moveTo>
                  <a:lnTo>
                    <a:pt x="45" y="12"/>
                  </a:lnTo>
                  <a:lnTo>
                    <a:pt x="0" y="0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3226"/>
            <p:cNvSpPr/>
            <p:nvPr/>
          </p:nvSpPr>
          <p:spPr>
            <a:xfrm flipH="1">
              <a:off x="9821520" y="2212920"/>
              <a:ext cx="195120" cy="54000"/>
            </a:xfrm>
            <a:custGeom>
              <a:avLst/>
              <a:gdLst/>
              <a:ahLst/>
              <a:rect l="l" t="t" r="r" b="b"/>
              <a:pathLst>
                <a:path w="369" h="102">
                  <a:moveTo>
                    <a:pt x="9" y="6"/>
                  </a:moveTo>
                  <a:lnTo>
                    <a:pt x="54" y="18"/>
                  </a:lnTo>
                  <a:lnTo>
                    <a:pt x="369" y="102"/>
                  </a:lnTo>
                  <a:lnTo>
                    <a:pt x="369" y="96"/>
                  </a:lnTo>
                  <a:lnTo>
                    <a:pt x="0" y="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Group 3227"/>
          <p:cNvGrpSpPr/>
          <p:nvPr/>
        </p:nvGrpSpPr>
        <p:grpSpPr>
          <a:xfrm>
            <a:off x="9556920" y="2157480"/>
            <a:ext cx="704160" cy="225360"/>
            <a:chOff x="9556920" y="2157480"/>
            <a:chExt cx="704160" cy="225360"/>
          </a:xfrm>
        </p:grpSpPr>
        <p:sp>
          <p:nvSpPr>
            <p:cNvPr id="2606" name="Freeform 3228"/>
            <p:cNvSpPr/>
            <p:nvPr/>
          </p:nvSpPr>
          <p:spPr>
            <a:xfrm flipH="1">
              <a:off x="9556920" y="2162160"/>
              <a:ext cx="158400" cy="41400"/>
            </a:xfrm>
            <a:custGeom>
              <a:avLst/>
              <a:gdLst/>
              <a:ahLst/>
              <a:rect l="l" t="t" r="r" b="b"/>
              <a:pathLst>
                <a:path w="300" h="78">
                  <a:moveTo>
                    <a:pt x="300" y="3"/>
                  </a:moveTo>
                  <a:lnTo>
                    <a:pt x="285" y="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9" y="78"/>
                  </a:lnTo>
                  <a:lnTo>
                    <a:pt x="273" y="12"/>
                  </a:lnTo>
                  <a:lnTo>
                    <a:pt x="30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3229"/>
            <p:cNvSpPr/>
            <p:nvPr/>
          </p:nvSpPr>
          <p:spPr>
            <a:xfrm flipH="1">
              <a:off x="9705960" y="2203560"/>
              <a:ext cx="363240" cy="162000"/>
            </a:xfrm>
            <a:custGeom>
              <a:avLst/>
              <a:gdLst/>
              <a:ahLst/>
              <a:rect l="l" t="t" r="r" b="b"/>
              <a:pathLst>
                <a:path w="687" h="306">
                  <a:moveTo>
                    <a:pt x="468" y="21"/>
                  </a:moveTo>
                  <a:lnTo>
                    <a:pt x="549" y="18"/>
                  </a:lnTo>
                  <a:lnTo>
                    <a:pt x="579" y="15"/>
                  </a:lnTo>
                  <a:lnTo>
                    <a:pt x="597" y="15"/>
                  </a:lnTo>
                  <a:lnTo>
                    <a:pt x="600" y="24"/>
                  </a:lnTo>
                  <a:lnTo>
                    <a:pt x="600" y="27"/>
                  </a:lnTo>
                  <a:lnTo>
                    <a:pt x="681" y="306"/>
                  </a:lnTo>
                  <a:lnTo>
                    <a:pt x="687" y="306"/>
                  </a:lnTo>
                  <a:lnTo>
                    <a:pt x="678" y="3"/>
                  </a:lnTo>
                  <a:lnTo>
                    <a:pt x="672" y="0"/>
                  </a:lnTo>
                  <a:lnTo>
                    <a:pt x="669" y="0"/>
                  </a:lnTo>
                  <a:lnTo>
                    <a:pt x="291" y="18"/>
                  </a:lnTo>
                  <a:lnTo>
                    <a:pt x="276" y="21"/>
                  </a:lnTo>
                  <a:lnTo>
                    <a:pt x="234" y="21"/>
                  </a:lnTo>
                  <a:lnTo>
                    <a:pt x="210" y="24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27" y="30"/>
                  </a:lnTo>
                  <a:lnTo>
                    <a:pt x="330" y="27"/>
                  </a:lnTo>
                  <a:lnTo>
                    <a:pt x="384" y="27"/>
                  </a:lnTo>
                  <a:lnTo>
                    <a:pt x="411" y="24"/>
                  </a:lnTo>
                  <a:lnTo>
                    <a:pt x="438" y="24"/>
                  </a:lnTo>
                  <a:lnTo>
                    <a:pt x="46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Freeform 3230"/>
            <p:cNvSpPr/>
            <p:nvPr/>
          </p:nvSpPr>
          <p:spPr>
            <a:xfrm flipH="1">
              <a:off x="9752400" y="2211480"/>
              <a:ext cx="99360" cy="6480"/>
            </a:xfrm>
            <a:custGeom>
              <a:avLst/>
              <a:gdLst/>
              <a:ahLst/>
              <a:rect l="l" t="t" r="r" b="b"/>
              <a:pathLst>
                <a:path w="189" h="12">
                  <a:moveTo>
                    <a:pt x="138" y="3"/>
                  </a:moveTo>
                  <a:lnTo>
                    <a:pt x="57" y="6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77" y="9"/>
                  </a:lnTo>
                  <a:lnTo>
                    <a:pt x="189" y="9"/>
                  </a:lnTo>
                  <a:lnTo>
                    <a:pt x="186" y="0"/>
                  </a:lnTo>
                  <a:lnTo>
                    <a:pt x="168" y="0"/>
                  </a:lnTo>
                  <a:lnTo>
                    <a:pt x="13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3231"/>
            <p:cNvSpPr/>
            <p:nvPr/>
          </p:nvSpPr>
          <p:spPr>
            <a:xfrm flipH="1">
              <a:off x="9711000" y="2203560"/>
              <a:ext cx="288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6" y="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3232"/>
            <p:cNvSpPr/>
            <p:nvPr/>
          </p:nvSpPr>
          <p:spPr>
            <a:xfrm flipH="1">
              <a:off x="9715320" y="2202120"/>
              <a:ext cx="504360" cy="23760"/>
            </a:xfrm>
            <a:custGeom>
              <a:avLst/>
              <a:gdLst/>
              <a:ahLst/>
              <a:rect l="l" t="t" r="r" b="b"/>
              <a:pathLst>
                <a:path w="954" h="45">
                  <a:moveTo>
                    <a:pt x="954" y="3"/>
                  </a:moveTo>
                  <a:lnTo>
                    <a:pt x="954" y="0"/>
                  </a:lnTo>
                  <a:lnTo>
                    <a:pt x="0" y="45"/>
                  </a:lnTo>
                  <a:lnTo>
                    <a:pt x="231" y="39"/>
                  </a:lnTo>
                  <a:lnTo>
                    <a:pt x="285" y="36"/>
                  </a:lnTo>
                  <a:lnTo>
                    <a:pt x="495" y="27"/>
                  </a:lnTo>
                  <a:lnTo>
                    <a:pt x="519" y="24"/>
                  </a:lnTo>
                  <a:lnTo>
                    <a:pt x="561" y="24"/>
                  </a:lnTo>
                  <a:lnTo>
                    <a:pt x="576" y="21"/>
                  </a:lnTo>
                  <a:lnTo>
                    <a:pt x="95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3233"/>
            <p:cNvSpPr/>
            <p:nvPr/>
          </p:nvSpPr>
          <p:spPr>
            <a:xfrm flipH="1">
              <a:off x="9752400" y="2216160"/>
              <a:ext cx="67680" cy="39960"/>
            </a:xfrm>
            <a:custGeom>
              <a:avLst/>
              <a:gdLst/>
              <a:ahLst/>
              <a:rect l="l" t="t" r="r" b="b"/>
              <a:pathLst>
                <a:path w="129" h="75">
                  <a:moveTo>
                    <a:pt x="129" y="3"/>
                  </a:moveTo>
                  <a:lnTo>
                    <a:pt x="129" y="0"/>
                  </a:lnTo>
                  <a:lnTo>
                    <a:pt x="117" y="0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12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3234"/>
            <p:cNvSpPr/>
            <p:nvPr/>
          </p:nvSpPr>
          <p:spPr>
            <a:xfrm flipH="1">
              <a:off x="9758520" y="2216160"/>
              <a:ext cx="491760" cy="57240"/>
            </a:xfrm>
            <a:custGeom>
              <a:avLst/>
              <a:gdLst/>
              <a:ahLst/>
              <a:rect l="l" t="t" r="r" b="b"/>
              <a:pathLst>
                <a:path w="930" h="108">
                  <a:moveTo>
                    <a:pt x="726" y="3"/>
                  </a:moveTo>
                  <a:lnTo>
                    <a:pt x="672" y="3"/>
                  </a:lnTo>
                  <a:lnTo>
                    <a:pt x="669" y="6"/>
                  </a:lnTo>
                  <a:lnTo>
                    <a:pt x="342" y="12"/>
                  </a:lnTo>
                  <a:lnTo>
                    <a:pt x="288" y="12"/>
                  </a:lnTo>
                  <a:lnTo>
                    <a:pt x="57" y="18"/>
                  </a:lnTo>
                  <a:lnTo>
                    <a:pt x="15" y="18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381" y="108"/>
                  </a:lnTo>
                  <a:lnTo>
                    <a:pt x="813" y="72"/>
                  </a:lnTo>
                  <a:lnTo>
                    <a:pt x="930" y="0"/>
                  </a:lnTo>
                  <a:lnTo>
                    <a:pt x="753" y="3"/>
                  </a:lnTo>
                  <a:lnTo>
                    <a:pt x="72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3235"/>
            <p:cNvSpPr/>
            <p:nvPr/>
          </p:nvSpPr>
          <p:spPr>
            <a:xfrm flipH="1">
              <a:off x="9851760" y="2216160"/>
              <a:ext cx="14040" cy="180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0"/>
                  </a:moveTo>
                  <a:lnTo>
                    <a:pt x="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3236"/>
            <p:cNvSpPr/>
            <p:nvPr/>
          </p:nvSpPr>
          <p:spPr>
            <a:xfrm flipH="1">
              <a:off x="9705960" y="2217960"/>
              <a:ext cx="555120" cy="160200"/>
            </a:xfrm>
            <a:custGeom>
              <a:avLst/>
              <a:gdLst/>
              <a:ahLst/>
              <a:rect l="l" t="t" r="r" b="b"/>
              <a:pathLst>
                <a:path w="1050" h="303">
                  <a:moveTo>
                    <a:pt x="801" y="243"/>
                  </a:moveTo>
                  <a:lnTo>
                    <a:pt x="804" y="243"/>
                  </a:lnTo>
                  <a:lnTo>
                    <a:pt x="1050" y="303"/>
                  </a:lnTo>
                  <a:lnTo>
                    <a:pt x="1050" y="300"/>
                  </a:lnTo>
                  <a:lnTo>
                    <a:pt x="1047" y="291"/>
                  </a:lnTo>
                  <a:lnTo>
                    <a:pt x="1044" y="282"/>
                  </a:lnTo>
                  <a:lnTo>
                    <a:pt x="1044" y="279"/>
                  </a:lnTo>
                  <a:lnTo>
                    <a:pt x="963" y="0"/>
                  </a:lnTo>
                  <a:lnTo>
                    <a:pt x="834" y="72"/>
                  </a:lnTo>
                  <a:lnTo>
                    <a:pt x="402" y="108"/>
                  </a:lnTo>
                  <a:lnTo>
                    <a:pt x="69" y="36"/>
                  </a:lnTo>
                  <a:lnTo>
                    <a:pt x="54" y="36"/>
                  </a:lnTo>
                  <a:lnTo>
                    <a:pt x="27" y="39"/>
                  </a:lnTo>
                  <a:lnTo>
                    <a:pt x="0" y="42"/>
                  </a:lnTo>
                  <a:lnTo>
                    <a:pt x="792" y="240"/>
                  </a:lnTo>
                  <a:lnTo>
                    <a:pt x="801" y="2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3237"/>
            <p:cNvSpPr/>
            <p:nvPr/>
          </p:nvSpPr>
          <p:spPr>
            <a:xfrm flipH="1">
              <a:off x="9820440" y="2254320"/>
              <a:ext cx="228240" cy="20880"/>
            </a:xfrm>
            <a:custGeom>
              <a:avLst/>
              <a:gdLst/>
              <a:ahLst/>
              <a:rect l="l" t="t" r="r" b="b"/>
              <a:pathLst>
                <a:path w="432" h="39">
                  <a:moveTo>
                    <a:pt x="432" y="3"/>
                  </a:moveTo>
                  <a:lnTo>
                    <a:pt x="432" y="0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43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3238"/>
            <p:cNvSpPr/>
            <p:nvPr/>
          </p:nvSpPr>
          <p:spPr>
            <a:xfrm flipH="1">
              <a:off x="9706320" y="2346480"/>
              <a:ext cx="129600" cy="36360"/>
            </a:xfrm>
            <a:custGeom>
              <a:avLst/>
              <a:gdLst/>
              <a:ahLst/>
              <a:rect l="l" t="t" r="r" b="b"/>
              <a:pathLst>
                <a:path w="246" h="69">
                  <a:moveTo>
                    <a:pt x="228" y="66"/>
                  </a:moveTo>
                  <a:lnTo>
                    <a:pt x="243" y="69"/>
                  </a:lnTo>
                  <a:lnTo>
                    <a:pt x="246" y="60"/>
                  </a:lnTo>
                  <a:lnTo>
                    <a:pt x="0" y="0"/>
                  </a:lnTo>
                  <a:lnTo>
                    <a:pt x="228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3239"/>
            <p:cNvSpPr/>
            <p:nvPr/>
          </p:nvSpPr>
          <p:spPr>
            <a:xfrm flipH="1">
              <a:off x="9706320" y="2365560"/>
              <a:ext cx="2880" cy="1116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2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3240"/>
            <p:cNvSpPr/>
            <p:nvPr/>
          </p:nvSpPr>
          <p:spPr>
            <a:xfrm flipH="1">
              <a:off x="9564840" y="2157480"/>
              <a:ext cx="677520" cy="68400"/>
            </a:xfrm>
            <a:custGeom>
              <a:avLst/>
              <a:gdLst/>
              <a:ahLst/>
              <a:rect l="l" t="t" r="r" b="b"/>
              <a:pathLst>
                <a:path w="1281" h="129">
                  <a:moveTo>
                    <a:pt x="996" y="84"/>
                  </a:moveTo>
                  <a:lnTo>
                    <a:pt x="1281" y="9"/>
                  </a:lnTo>
                  <a:lnTo>
                    <a:pt x="981" y="0"/>
                  </a:lnTo>
                  <a:lnTo>
                    <a:pt x="0" y="129"/>
                  </a:lnTo>
                  <a:lnTo>
                    <a:pt x="42" y="129"/>
                  </a:lnTo>
                  <a:lnTo>
                    <a:pt x="996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3241"/>
            <p:cNvSpPr/>
            <p:nvPr/>
          </p:nvSpPr>
          <p:spPr>
            <a:xfrm flipH="1">
              <a:off x="10049040" y="2227320"/>
              <a:ext cx="205920" cy="47880"/>
            </a:xfrm>
            <a:custGeom>
              <a:avLst/>
              <a:gdLst/>
              <a:ahLst/>
              <a:rect l="l" t="t" r="r" b="b"/>
              <a:pathLst>
                <a:path w="390" h="90">
                  <a:moveTo>
                    <a:pt x="390" y="90"/>
                  </a:moveTo>
                  <a:lnTo>
                    <a:pt x="390" y="87"/>
                  </a:lnTo>
                  <a:lnTo>
                    <a:pt x="9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57" y="18"/>
                  </a:lnTo>
                  <a:lnTo>
                    <a:pt x="390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3242"/>
            <p:cNvSpPr/>
            <p:nvPr/>
          </p:nvSpPr>
          <p:spPr>
            <a:xfrm flipH="1">
              <a:off x="10249200" y="2225880"/>
              <a:ext cx="576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9" y="3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3243"/>
            <p:cNvSpPr/>
            <p:nvPr/>
          </p:nvSpPr>
          <p:spPr>
            <a:xfrm flipH="1">
              <a:off x="10233360" y="2237040"/>
              <a:ext cx="1368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3"/>
                  </a:moveTo>
                  <a:lnTo>
                    <a:pt x="27" y="0"/>
                  </a:lnTo>
                  <a:lnTo>
                    <a:pt x="1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3244"/>
            <p:cNvSpPr/>
            <p:nvPr/>
          </p:nvSpPr>
          <p:spPr>
            <a:xfrm flipH="1">
              <a:off x="10225440" y="2230560"/>
              <a:ext cx="28080" cy="6480"/>
            </a:xfrm>
            <a:custGeom>
              <a:avLst/>
              <a:gdLst/>
              <a:ahLst/>
              <a:rect l="l" t="t" r="r" b="b"/>
              <a:pathLst>
                <a:path w="54" h="12">
                  <a:moveTo>
                    <a:pt x="39" y="12"/>
                  </a:moveTo>
                  <a:lnTo>
                    <a:pt x="54" y="12"/>
                  </a:lnTo>
                  <a:lnTo>
                    <a:pt x="0" y="0"/>
                  </a:lnTo>
                  <a:lnTo>
                    <a:pt x="27" y="12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Group 3245"/>
          <p:cNvGrpSpPr/>
          <p:nvPr/>
        </p:nvGrpSpPr>
        <p:grpSpPr>
          <a:xfrm>
            <a:off x="9826560" y="2149560"/>
            <a:ext cx="690480" cy="215280"/>
            <a:chOff x="9826560" y="2149560"/>
            <a:chExt cx="690480" cy="215280"/>
          </a:xfrm>
        </p:grpSpPr>
        <p:sp>
          <p:nvSpPr>
            <p:cNvPr id="2624" name="Freeform 3246"/>
            <p:cNvSpPr/>
            <p:nvPr/>
          </p:nvSpPr>
          <p:spPr>
            <a:xfrm flipH="1">
              <a:off x="9826200" y="2150640"/>
              <a:ext cx="150840" cy="41040"/>
            </a:xfrm>
            <a:custGeom>
              <a:avLst/>
              <a:gdLst/>
              <a:ahLst/>
              <a:rect l="l" t="t" r="r" b="b"/>
              <a:pathLst>
                <a:path w="285" h="78">
                  <a:moveTo>
                    <a:pt x="285" y="6"/>
                  </a:moveTo>
                  <a:lnTo>
                    <a:pt x="276" y="0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9" y="78"/>
                  </a:lnTo>
                  <a:lnTo>
                    <a:pt x="270" y="9"/>
                  </a:lnTo>
                  <a:lnTo>
                    <a:pt x="28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3247"/>
            <p:cNvSpPr/>
            <p:nvPr/>
          </p:nvSpPr>
          <p:spPr>
            <a:xfrm flipH="1">
              <a:off x="10010520" y="2203200"/>
              <a:ext cx="61920" cy="37800"/>
            </a:xfrm>
            <a:custGeom>
              <a:avLst/>
              <a:gdLst/>
              <a:ahLst/>
              <a:rect l="l" t="t" r="r" b="b"/>
              <a:pathLst>
                <a:path w="117" h="72">
                  <a:moveTo>
                    <a:pt x="117" y="0"/>
                  </a:moveTo>
                  <a:lnTo>
                    <a:pt x="111" y="0"/>
                  </a:lnTo>
                  <a:lnTo>
                    <a:pt x="0" y="69"/>
                  </a:lnTo>
                  <a:lnTo>
                    <a:pt x="3" y="72"/>
                  </a:lnTo>
                  <a:lnTo>
                    <a:pt x="117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3248"/>
            <p:cNvSpPr/>
            <p:nvPr/>
          </p:nvSpPr>
          <p:spPr>
            <a:xfrm flipH="1">
              <a:off x="10010160" y="220140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6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3249"/>
            <p:cNvSpPr/>
            <p:nvPr/>
          </p:nvSpPr>
          <p:spPr>
            <a:xfrm flipH="1">
              <a:off x="9966240" y="2192040"/>
              <a:ext cx="339840" cy="158400"/>
            </a:xfrm>
            <a:custGeom>
              <a:avLst/>
              <a:gdLst/>
              <a:ahLst/>
              <a:rect l="l" t="t" r="r" b="b"/>
              <a:pathLst>
                <a:path w="642" h="300">
                  <a:moveTo>
                    <a:pt x="558" y="21"/>
                  </a:moveTo>
                  <a:lnTo>
                    <a:pt x="558" y="24"/>
                  </a:lnTo>
                  <a:lnTo>
                    <a:pt x="636" y="300"/>
                  </a:lnTo>
                  <a:lnTo>
                    <a:pt x="642" y="300"/>
                  </a:lnTo>
                  <a:lnTo>
                    <a:pt x="630" y="0"/>
                  </a:lnTo>
                  <a:lnTo>
                    <a:pt x="621" y="0"/>
                  </a:lnTo>
                  <a:lnTo>
                    <a:pt x="306" y="15"/>
                  </a:lnTo>
                  <a:lnTo>
                    <a:pt x="297" y="18"/>
                  </a:lnTo>
                  <a:lnTo>
                    <a:pt x="255" y="18"/>
                  </a:lnTo>
                  <a:lnTo>
                    <a:pt x="243" y="21"/>
                  </a:lnTo>
                  <a:lnTo>
                    <a:pt x="204" y="21"/>
                  </a:lnTo>
                  <a:lnTo>
                    <a:pt x="186" y="24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15" y="27"/>
                  </a:lnTo>
                  <a:lnTo>
                    <a:pt x="339" y="24"/>
                  </a:lnTo>
                  <a:lnTo>
                    <a:pt x="363" y="24"/>
                  </a:lnTo>
                  <a:lnTo>
                    <a:pt x="387" y="21"/>
                  </a:lnTo>
                  <a:lnTo>
                    <a:pt x="459" y="18"/>
                  </a:lnTo>
                  <a:lnTo>
                    <a:pt x="483" y="15"/>
                  </a:lnTo>
                  <a:lnTo>
                    <a:pt x="507" y="15"/>
                  </a:lnTo>
                  <a:lnTo>
                    <a:pt x="528" y="12"/>
                  </a:lnTo>
                  <a:lnTo>
                    <a:pt x="555" y="12"/>
                  </a:lnTo>
                  <a:lnTo>
                    <a:pt x="555" y="18"/>
                  </a:lnTo>
                  <a:lnTo>
                    <a:pt x="55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3250"/>
            <p:cNvSpPr/>
            <p:nvPr/>
          </p:nvSpPr>
          <p:spPr>
            <a:xfrm flipH="1">
              <a:off x="10011960" y="2198520"/>
              <a:ext cx="88920" cy="5760"/>
            </a:xfrm>
            <a:custGeom>
              <a:avLst/>
              <a:gdLst/>
              <a:ahLst/>
              <a:rect l="l" t="t" r="r" b="b"/>
              <a:pathLst>
                <a:path w="168" h="12">
                  <a:moveTo>
                    <a:pt x="168" y="6"/>
                  </a:moveTo>
                  <a:lnTo>
                    <a:pt x="168" y="0"/>
                  </a:lnTo>
                  <a:lnTo>
                    <a:pt x="141" y="0"/>
                  </a:lnTo>
                  <a:lnTo>
                    <a:pt x="120" y="3"/>
                  </a:lnTo>
                  <a:lnTo>
                    <a:pt x="96" y="3"/>
                  </a:lnTo>
                  <a:lnTo>
                    <a:pt x="72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65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3251"/>
            <p:cNvSpPr/>
            <p:nvPr/>
          </p:nvSpPr>
          <p:spPr>
            <a:xfrm flipH="1">
              <a:off x="9977400" y="2188800"/>
              <a:ext cx="482400" cy="26640"/>
            </a:xfrm>
            <a:custGeom>
              <a:avLst/>
              <a:gdLst/>
              <a:ahLst/>
              <a:rect l="l" t="t" r="r" b="b"/>
              <a:pathLst>
                <a:path w="912" h="51">
                  <a:moveTo>
                    <a:pt x="912" y="6"/>
                  </a:moveTo>
                  <a:lnTo>
                    <a:pt x="912" y="0"/>
                  </a:lnTo>
                  <a:lnTo>
                    <a:pt x="0" y="51"/>
                  </a:lnTo>
                  <a:lnTo>
                    <a:pt x="138" y="48"/>
                  </a:lnTo>
                  <a:lnTo>
                    <a:pt x="168" y="45"/>
                  </a:lnTo>
                  <a:lnTo>
                    <a:pt x="195" y="45"/>
                  </a:lnTo>
                  <a:lnTo>
                    <a:pt x="240" y="42"/>
                  </a:lnTo>
                  <a:lnTo>
                    <a:pt x="252" y="42"/>
                  </a:lnTo>
                  <a:lnTo>
                    <a:pt x="291" y="39"/>
                  </a:lnTo>
                  <a:lnTo>
                    <a:pt x="477" y="30"/>
                  </a:lnTo>
                  <a:lnTo>
                    <a:pt x="495" y="27"/>
                  </a:lnTo>
                  <a:lnTo>
                    <a:pt x="534" y="27"/>
                  </a:lnTo>
                  <a:lnTo>
                    <a:pt x="546" y="24"/>
                  </a:lnTo>
                  <a:lnTo>
                    <a:pt x="588" y="24"/>
                  </a:lnTo>
                  <a:lnTo>
                    <a:pt x="597" y="21"/>
                  </a:lnTo>
                  <a:lnTo>
                    <a:pt x="9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3252"/>
            <p:cNvSpPr/>
            <p:nvPr/>
          </p:nvSpPr>
          <p:spPr>
            <a:xfrm flipH="1">
              <a:off x="10013760" y="2201400"/>
              <a:ext cx="503280" cy="55440"/>
            </a:xfrm>
            <a:custGeom>
              <a:avLst/>
              <a:gdLst/>
              <a:ahLst/>
              <a:rect l="l" t="t" r="r" b="b"/>
              <a:pathLst>
                <a:path w="951" h="105">
                  <a:moveTo>
                    <a:pt x="951" y="3"/>
                  </a:moveTo>
                  <a:lnTo>
                    <a:pt x="951" y="0"/>
                  </a:lnTo>
                  <a:lnTo>
                    <a:pt x="786" y="6"/>
                  </a:lnTo>
                  <a:lnTo>
                    <a:pt x="765" y="6"/>
                  </a:lnTo>
                  <a:lnTo>
                    <a:pt x="738" y="9"/>
                  </a:lnTo>
                  <a:lnTo>
                    <a:pt x="714" y="9"/>
                  </a:lnTo>
                  <a:lnTo>
                    <a:pt x="399" y="18"/>
                  </a:lnTo>
                  <a:lnTo>
                    <a:pt x="372" y="18"/>
                  </a:lnTo>
                  <a:lnTo>
                    <a:pt x="348" y="21"/>
                  </a:lnTo>
                  <a:lnTo>
                    <a:pt x="303" y="21"/>
                  </a:lnTo>
                  <a:lnTo>
                    <a:pt x="276" y="21"/>
                  </a:lnTo>
                  <a:lnTo>
                    <a:pt x="246" y="24"/>
                  </a:lnTo>
                  <a:lnTo>
                    <a:pt x="108" y="27"/>
                  </a:lnTo>
                  <a:lnTo>
                    <a:pt x="90" y="27"/>
                  </a:lnTo>
                  <a:lnTo>
                    <a:pt x="21" y="30"/>
                  </a:lnTo>
                  <a:lnTo>
                    <a:pt x="0" y="33"/>
                  </a:lnTo>
                  <a:lnTo>
                    <a:pt x="417" y="105"/>
                  </a:lnTo>
                  <a:lnTo>
                    <a:pt x="840" y="72"/>
                  </a:lnTo>
                  <a:lnTo>
                    <a:pt x="95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3253"/>
            <p:cNvSpPr/>
            <p:nvPr/>
          </p:nvSpPr>
          <p:spPr>
            <a:xfrm flipH="1">
              <a:off x="10126440" y="2204640"/>
              <a:ext cx="12960" cy="14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0" y="3"/>
                  </a:lnTo>
                  <a:lnTo>
                    <a:pt x="24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3254"/>
            <p:cNvSpPr/>
            <p:nvPr/>
          </p:nvSpPr>
          <p:spPr>
            <a:xfrm flipH="1">
              <a:off x="10112040" y="2204640"/>
              <a:ext cx="1404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0"/>
                  </a:moveTo>
                  <a:lnTo>
                    <a:pt x="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3255"/>
            <p:cNvSpPr/>
            <p:nvPr/>
          </p:nvSpPr>
          <p:spPr>
            <a:xfrm flipH="1">
              <a:off x="10100880" y="2203200"/>
              <a:ext cx="1260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3"/>
                  </a:moveTo>
                  <a:lnTo>
                    <a:pt x="3" y="3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3256"/>
            <p:cNvSpPr/>
            <p:nvPr/>
          </p:nvSpPr>
          <p:spPr>
            <a:xfrm flipH="1">
              <a:off x="10071000" y="2239560"/>
              <a:ext cx="225360" cy="20520"/>
            </a:xfrm>
            <a:custGeom>
              <a:avLst/>
              <a:gdLst/>
              <a:ahLst/>
              <a:rect l="l" t="t" r="r" b="b"/>
              <a:pathLst>
                <a:path w="426" h="39">
                  <a:moveTo>
                    <a:pt x="426" y="3"/>
                  </a:moveTo>
                  <a:lnTo>
                    <a:pt x="423" y="0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42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3257"/>
            <p:cNvSpPr/>
            <p:nvPr/>
          </p:nvSpPr>
          <p:spPr>
            <a:xfrm flipH="1">
              <a:off x="9967680" y="2204640"/>
              <a:ext cx="549360" cy="156960"/>
            </a:xfrm>
            <a:custGeom>
              <a:avLst/>
              <a:gdLst/>
              <a:ahLst/>
              <a:rect l="l" t="t" r="r" b="b"/>
              <a:pathLst>
                <a:path w="1038" h="297">
                  <a:moveTo>
                    <a:pt x="792" y="240"/>
                  </a:moveTo>
                  <a:lnTo>
                    <a:pt x="795" y="240"/>
                  </a:lnTo>
                  <a:lnTo>
                    <a:pt x="1038" y="297"/>
                  </a:lnTo>
                  <a:lnTo>
                    <a:pt x="1035" y="276"/>
                  </a:lnTo>
                  <a:lnTo>
                    <a:pt x="957" y="0"/>
                  </a:lnTo>
                  <a:lnTo>
                    <a:pt x="843" y="69"/>
                  </a:lnTo>
                  <a:lnTo>
                    <a:pt x="417" y="105"/>
                  </a:lnTo>
                  <a:lnTo>
                    <a:pt x="72" y="42"/>
                  </a:lnTo>
                  <a:lnTo>
                    <a:pt x="48" y="45"/>
                  </a:lnTo>
                  <a:lnTo>
                    <a:pt x="36" y="45"/>
                  </a:lnTo>
                  <a:lnTo>
                    <a:pt x="24" y="45"/>
                  </a:lnTo>
                  <a:lnTo>
                    <a:pt x="0" y="48"/>
                  </a:lnTo>
                  <a:lnTo>
                    <a:pt x="759" y="231"/>
                  </a:lnTo>
                  <a:lnTo>
                    <a:pt x="768" y="234"/>
                  </a:lnTo>
                  <a:lnTo>
                    <a:pt x="771" y="234"/>
                  </a:lnTo>
                  <a:lnTo>
                    <a:pt x="780" y="237"/>
                  </a:lnTo>
                  <a:lnTo>
                    <a:pt x="783" y="237"/>
                  </a:lnTo>
                  <a:lnTo>
                    <a:pt x="792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3258"/>
            <p:cNvSpPr/>
            <p:nvPr/>
          </p:nvSpPr>
          <p:spPr>
            <a:xfrm flipH="1">
              <a:off x="9965880" y="2350800"/>
              <a:ext cx="3240" cy="1080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2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3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3259"/>
            <p:cNvSpPr/>
            <p:nvPr/>
          </p:nvSpPr>
          <p:spPr>
            <a:xfrm flipH="1">
              <a:off x="9965880" y="2331720"/>
              <a:ext cx="129960" cy="331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231" y="63"/>
                  </a:moveTo>
                  <a:lnTo>
                    <a:pt x="246" y="57"/>
                  </a:lnTo>
                  <a:lnTo>
                    <a:pt x="243" y="57"/>
                  </a:lnTo>
                  <a:lnTo>
                    <a:pt x="0" y="0"/>
                  </a:lnTo>
                  <a:lnTo>
                    <a:pt x="23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3260"/>
            <p:cNvSpPr/>
            <p:nvPr/>
          </p:nvSpPr>
          <p:spPr>
            <a:xfrm flipH="1">
              <a:off x="9831240" y="2149560"/>
              <a:ext cx="674640" cy="68040"/>
            </a:xfrm>
            <a:custGeom>
              <a:avLst/>
              <a:gdLst/>
              <a:ahLst/>
              <a:rect l="l" t="t" r="r" b="b"/>
              <a:pathLst>
                <a:path w="1275" h="129">
                  <a:moveTo>
                    <a:pt x="999" y="75"/>
                  </a:moveTo>
                  <a:lnTo>
                    <a:pt x="1275" y="3"/>
                  </a:lnTo>
                  <a:lnTo>
                    <a:pt x="960" y="0"/>
                  </a:lnTo>
                  <a:lnTo>
                    <a:pt x="0" y="129"/>
                  </a:lnTo>
                  <a:lnTo>
                    <a:pt x="69" y="126"/>
                  </a:lnTo>
                  <a:lnTo>
                    <a:pt x="87" y="126"/>
                  </a:lnTo>
                  <a:lnTo>
                    <a:pt x="999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3261"/>
            <p:cNvSpPr/>
            <p:nvPr/>
          </p:nvSpPr>
          <p:spPr>
            <a:xfrm flipH="1">
              <a:off x="10320120" y="2211120"/>
              <a:ext cx="129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3262"/>
            <p:cNvSpPr/>
            <p:nvPr/>
          </p:nvSpPr>
          <p:spPr>
            <a:xfrm flipH="1">
              <a:off x="10296000" y="2219040"/>
              <a:ext cx="220680" cy="41040"/>
            </a:xfrm>
            <a:custGeom>
              <a:avLst/>
              <a:gdLst/>
              <a:ahLst/>
              <a:rect l="l" t="t" r="r" b="b"/>
              <a:pathLst>
                <a:path w="417" h="78">
                  <a:moveTo>
                    <a:pt x="417" y="78"/>
                  </a:moveTo>
                  <a:lnTo>
                    <a:pt x="417" y="72"/>
                  </a:lnTo>
                  <a:lnTo>
                    <a:pt x="0" y="0"/>
                  </a:lnTo>
                  <a:lnTo>
                    <a:pt x="9" y="6"/>
                  </a:lnTo>
                  <a:lnTo>
                    <a:pt x="60" y="15"/>
                  </a:lnTo>
                  <a:lnTo>
                    <a:pt x="72" y="15"/>
                  </a:lnTo>
                  <a:lnTo>
                    <a:pt x="417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3263"/>
            <p:cNvSpPr/>
            <p:nvPr/>
          </p:nvSpPr>
          <p:spPr>
            <a:xfrm flipH="1">
              <a:off x="10478880" y="2226960"/>
              <a:ext cx="12960" cy="10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3264"/>
            <p:cNvSpPr/>
            <p:nvPr/>
          </p:nvSpPr>
          <p:spPr>
            <a:xfrm flipH="1">
              <a:off x="10485360" y="2222280"/>
              <a:ext cx="31680" cy="5760"/>
            </a:xfrm>
            <a:custGeom>
              <a:avLst/>
              <a:gdLst/>
              <a:ahLst/>
              <a:rect l="l" t="t" r="r" b="b"/>
              <a:pathLst>
                <a:path w="60" h="12">
                  <a:moveTo>
                    <a:pt x="9" y="0"/>
                  </a:moveTo>
                  <a:lnTo>
                    <a:pt x="0" y="3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6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3265"/>
          <p:cNvGrpSpPr/>
          <p:nvPr/>
        </p:nvGrpSpPr>
        <p:grpSpPr>
          <a:xfrm>
            <a:off x="10063080" y="2165400"/>
            <a:ext cx="682560" cy="209520"/>
            <a:chOff x="10063080" y="2165400"/>
            <a:chExt cx="682560" cy="209520"/>
          </a:xfrm>
        </p:grpSpPr>
        <p:sp>
          <p:nvSpPr>
            <p:cNvPr id="2644" name="Freeform 3266"/>
            <p:cNvSpPr/>
            <p:nvPr/>
          </p:nvSpPr>
          <p:spPr>
            <a:xfrm flipH="1">
              <a:off x="10062720" y="2165400"/>
              <a:ext cx="142920" cy="38160"/>
            </a:xfrm>
            <a:custGeom>
              <a:avLst/>
              <a:gdLst/>
              <a:ahLst/>
              <a:rect l="l" t="t" r="r" b="b"/>
              <a:pathLst>
                <a:path w="270" h="72">
                  <a:moveTo>
                    <a:pt x="258" y="9"/>
                  </a:moveTo>
                  <a:lnTo>
                    <a:pt x="270" y="3"/>
                  </a:lnTo>
                  <a:lnTo>
                    <a:pt x="261" y="0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3" y="72"/>
                  </a:lnTo>
                  <a:lnTo>
                    <a:pt x="9" y="72"/>
                  </a:lnTo>
                  <a:lnTo>
                    <a:pt x="25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3267"/>
            <p:cNvSpPr/>
            <p:nvPr/>
          </p:nvSpPr>
          <p:spPr>
            <a:xfrm flipH="1">
              <a:off x="10196280" y="2203560"/>
              <a:ext cx="309600" cy="155520"/>
            </a:xfrm>
            <a:custGeom>
              <a:avLst/>
              <a:gdLst/>
              <a:ahLst/>
              <a:rect l="l" t="t" r="r" b="b"/>
              <a:pathLst>
                <a:path w="585" h="294">
                  <a:moveTo>
                    <a:pt x="435" y="18"/>
                  </a:moveTo>
                  <a:lnTo>
                    <a:pt x="456" y="15"/>
                  </a:lnTo>
                  <a:lnTo>
                    <a:pt x="480" y="15"/>
                  </a:lnTo>
                  <a:lnTo>
                    <a:pt x="498" y="12"/>
                  </a:lnTo>
                  <a:lnTo>
                    <a:pt x="507" y="21"/>
                  </a:lnTo>
                  <a:lnTo>
                    <a:pt x="507" y="24"/>
                  </a:lnTo>
                  <a:lnTo>
                    <a:pt x="507" y="27"/>
                  </a:lnTo>
                  <a:lnTo>
                    <a:pt x="582" y="294"/>
                  </a:lnTo>
                  <a:lnTo>
                    <a:pt x="585" y="285"/>
                  </a:lnTo>
                  <a:lnTo>
                    <a:pt x="576" y="3"/>
                  </a:lnTo>
                  <a:lnTo>
                    <a:pt x="570" y="0"/>
                  </a:lnTo>
                  <a:lnTo>
                    <a:pt x="567" y="0"/>
                  </a:lnTo>
                  <a:lnTo>
                    <a:pt x="228" y="21"/>
                  </a:lnTo>
                  <a:lnTo>
                    <a:pt x="219" y="24"/>
                  </a:lnTo>
                  <a:lnTo>
                    <a:pt x="183" y="24"/>
                  </a:lnTo>
                  <a:lnTo>
                    <a:pt x="168" y="27"/>
                  </a:lnTo>
                  <a:lnTo>
                    <a:pt x="135" y="27"/>
                  </a:lnTo>
                  <a:lnTo>
                    <a:pt x="120" y="30"/>
                  </a:lnTo>
                  <a:lnTo>
                    <a:pt x="90" y="30"/>
                  </a:lnTo>
                  <a:lnTo>
                    <a:pt x="69" y="33"/>
                  </a:lnTo>
                  <a:lnTo>
                    <a:pt x="45" y="33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67" y="30"/>
                  </a:lnTo>
                  <a:lnTo>
                    <a:pt x="288" y="27"/>
                  </a:lnTo>
                  <a:lnTo>
                    <a:pt x="306" y="27"/>
                  </a:lnTo>
                  <a:lnTo>
                    <a:pt x="309" y="27"/>
                  </a:lnTo>
                  <a:lnTo>
                    <a:pt x="330" y="24"/>
                  </a:lnTo>
                  <a:lnTo>
                    <a:pt x="351" y="24"/>
                  </a:lnTo>
                  <a:lnTo>
                    <a:pt x="372" y="21"/>
                  </a:lnTo>
                  <a:lnTo>
                    <a:pt x="435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3268"/>
            <p:cNvSpPr/>
            <p:nvPr/>
          </p:nvSpPr>
          <p:spPr>
            <a:xfrm flipH="1">
              <a:off x="10237680" y="2209680"/>
              <a:ext cx="93600" cy="7920"/>
            </a:xfrm>
            <a:custGeom>
              <a:avLst/>
              <a:gdLst/>
              <a:ahLst/>
              <a:rect l="l" t="t" r="r" b="b"/>
              <a:pathLst>
                <a:path w="177" h="15">
                  <a:moveTo>
                    <a:pt x="126" y="3"/>
                  </a:moveTo>
                  <a:lnTo>
                    <a:pt x="105" y="6"/>
                  </a:lnTo>
                  <a:lnTo>
                    <a:pt x="42" y="9"/>
                  </a:lnTo>
                  <a:lnTo>
                    <a:pt x="21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68" y="9"/>
                  </a:lnTo>
                  <a:lnTo>
                    <a:pt x="177" y="9"/>
                  </a:lnTo>
                  <a:lnTo>
                    <a:pt x="168" y="0"/>
                  </a:lnTo>
                  <a:lnTo>
                    <a:pt x="150" y="3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3269"/>
            <p:cNvSpPr/>
            <p:nvPr/>
          </p:nvSpPr>
          <p:spPr>
            <a:xfrm flipH="1">
              <a:off x="10237680" y="221616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3270"/>
            <p:cNvSpPr/>
            <p:nvPr/>
          </p:nvSpPr>
          <p:spPr>
            <a:xfrm flipH="1">
              <a:off x="10237320" y="2214720"/>
              <a:ext cx="52200" cy="34920"/>
            </a:xfrm>
            <a:custGeom>
              <a:avLst/>
              <a:gdLst/>
              <a:ahLst/>
              <a:rect l="l" t="t" r="r" b="b"/>
              <a:pathLst>
                <a:path w="99" h="66">
                  <a:moveTo>
                    <a:pt x="99" y="3"/>
                  </a:moveTo>
                  <a:lnTo>
                    <a:pt x="99" y="0"/>
                  </a:lnTo>
                  <a:lnTo>
                    <a:pt x="90" y="0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96" y="6"/>
                  </a:lnTo>
                  <a:lnTo>
                    <a:pt x="9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3271"/>
            <p:cNvSpPr/>
            <p:nvPr/>
          </p:nvSpPr>
          <p:spPr>
            <a:xfrm flipH="1">
              <a:off x="10196280" y="2217600"/>
              <a:ext cx="549360" cy="152640"/>
            </a:xfrm>
            <a:custGeom>
              <a:avLst/>
              <a:gdLst/>
              <a:ahLst/>
              <a:rect l="l" t="t" r="r" b="b"/>
              <a:pathLst>
                <a:path w="1038" h="288">
                  <a:moveTo>
                    <a:pt x="960" y="0"/>
                  </a:moveTo>
                  <a:lnTo>
                    <a:pt x="957" y="0"/>
                  </a:lnTo>
                  <a:lnTo>
                    <a:pt x="861" y="60"/>
                  </a:lnTo>
                  <a:lnTo>
                    <a:pt x="438" y="99"/>
                  </a:lnTo>
                  <a:lnTo>
                    <a:pt x="75" y="48"/>
                  </a:lnTo>
                  <a:lnTo>
                    <a:pt x="60" y="48"/>
                  </a:lnTo>
                  <a:lnTo>
                    <a:pt x="42" y="51"/>
                  </a:lnTo>
                  <a:lnTo>
                    <a:pt x="39" y="51"/>
                  </a:lnTo>
                  <a:lnTo>
                    <a:pt x="18" y="51"/>
                  </a:lnTo>
                  <a:lnTo>
                    <a:pt x="0" y="54"/>
                  </a:lnTo>
                  <a:lnTo>
                    <a:pt x="762" y="228"/>
                  </a:lnTo>
                  <a:lnTo>
                    <a:pt x="765" y="228"/>
                  </a:lnTo>
                  <a:lnTo>
                    <a:pt x="774" y="231"/>
                  </a:lnTo>
                  <a:lnTo>
                    <a:pt x="777" y="231"/>
                  </a:lnTo>
                  <a:lnTo>
                    <a:pt x="786" y="234"/>
                  </a:lnTo>
                  <a:lnTo>
                    <a:pt x="789" y="234"/>
                  </a:lnTo>
                  <a:lnTo>
                    <a:pt x="1038" y="288"/>
                  </a:lnTo>
                  <a:lnTo>
                    <a:pt x="1035" y="267"/>
                  </a:lnTo>
                  <a:lnTo>
                    <a:pt x="9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3272"/>
            <p:cNvSpPr/>
            <p:nvPr/>
          </p:nvSpPr>
          <p:spPr>
            <a:xfrm flipH="1">
              <a:off x="10200600" y="2203560"/>
              <a:ext cx="3240" cy="14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3273"/>
            <p:cNvSpPr/>
            <p:nvPr/>
          </p:nvSpPr>
          <p:spPr>
            <a:xfrm flipH="1">
              <a:off x="10205640" y="2201760"/>
              <a:ext cx="487080" cy="30240"/>
            </a:xfrm>
            <a:custGeom>
              <a:avLst/>
              <a:gdLst/>
              <a:ahLst/>
              <a:rect l="l" t="t" r="r" b="b"/>
              <a:pathLst>
                <a:path w="921" h="57">
                  <a:moveTo>
                    <a:pt x="921" y="3"/>
                  </a:moveTo>
                  <a:lnTo>
                    <a:pt x="921" y="0"/>
                  </a:lnTo>
                  <a:lnTo>
                    <a:pt x="0" y="57"/>
                  </a:lnTo>
                  <a:lnTo>
                    <a:pt x="171" y="51"/>
                  </a:lnTo>
                  <a:lnTo>
                    <a:pt x="198" y="48"/>
                  </a:lnTo>
                  <a:lnTo>
                    <a:pt x="222" y="48"/>
                  </a:lnTo>
                  <a:lnTo>
                    <a:pt x="261" y="45"/>
                  </a:lnTo>
                  <a:lnTo>
                    <a:pt x="273" y="45"/>
                  </a:lnTo>
                  <a:lnTo>
                    <a:pt x="309" y="42"/>
                  </a:lnTo>
                  <a:lnTo>
                    <a:pt x="324" y="42"/>
                  </a:lnTo>
                  <a:lnTo>
                    <a:pt x="354" y="39"/>
                  </a:lnTo>
                  <a:lnTo>
                    <a:pt x="372" y="39"/>
                  </a:lnTo>
                  <a:lnTo>
                    <a:pt x="399" y="36"/>
                  </a:lnTo>
                  <a:lnTo>
                    <a:pt x="423" y="36"/>
                  </a:lnTo>
                  <a:lnTo>
                    <a:pt x="444" y="33"/>
                  </a:lnTo>
                  <a:lnTo>
                    <a:pt x="474" y="33"/>
                  </a:lnTo>
                  <a:lnTo>
                    <a:pt x="489" y="30"/>
                  </a:lnTo>
                  <a:lnTo>
                    <a:pt x="522" y="30"/>
                  </a:lnTo>
                  <a:lnTo>
                    <a:pt x="537" y="27"/>
                  </a:lnTo>
                  <a:lnTo>
                    <a:pt x="573" y="27"/>
                  </a:lnTo>
                  <a:lnTo>
                    <a:pt x="582" y="24"/>
                  </a:lnTo>
                  <a:lnTo>
                    <a:pt x="9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3274"/>
            <p:cNvSpPr/>
            <p:nvPr/>
          </p:nvSpPr>
          <p:spPr>
            <a:xfrm flipH="1">
              <a:off x="10194480" y="2354400"/>
              <a:ext cx="3240" cy="1584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3" y="30"/>
                  </a:moveTo>
                  <a:lnTo>
                    <a:pt x="6" y="30"/>
                  </a:lnTo>
                  <a:lnTo>
                    <a:pt x="3" y="0"/>
                  </a:lnTo>
                  <a:lnTo>
                    <a:pt x="0" y="9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3275"/>
            <p:cNvSpPr/>
            <p:nvPr/>
          </p:nvSpPr>
          <p:spPr>
            <a:xfrm flipH="1">
              <a:off x="10194840" y="2341440"/>
              <a:ext cx="133200" cy="33480"/>
            </a:xfrm>
            <a:custGeom>
              <a:avLst/>
              <a:gdLst/>
              <a:ahLst/>
              <a:rect l="l" t="t" r="r" b="b"/>
              <a:pathLst>
                <a:path w="252" h="63">
                  <a:moveTo>
                    <a:pt x="252" y="54"/>
                  </a:moveTo>
                  <a:lnTo>
                    <a:pt x="249" y="54"/>
                  </a:lnTo>
                  <a:lnTo>
                    <a:pt x="0" y="0"/>
                  </a:lnTo>
                  <a:lnTo>
                    <a:pt x="246" y="63"/>
                  </a:lnTo>
                  <a:lnTo>
                    <a:pt x="252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3276"/>
            <p:cNvSpPr/>
            <p:nvPr/>
          </p:nvSpPr>
          <p:spPr>
            <a:xfrm flipH="1">
              <a:off x="10289880" y="2247840"/>
              <a:ext cx="223920" cy="22320"/>
            </a:xfrm>
            <a:custGeom>
              <a:avLst/>
              <a:gdLst/>
              <a:ahLst/>
              <a:rect l="l" t="t" r="r" b="b"/>
              <a:pathLst>
                <a:path w="423" h="42">
                  <a:moveTo>
                    <a:pt x="423" y="3"/>
                  </a:moveTo>
                  <a:lnTo>
                    <a:pt x="423" y="0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42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3277"/>
            <p:cNvSpPr/>
            <p:nvPr/>
          </p:nvSpPr>
          <p:spPr>
            <a:xfrm flipH="1">
              <a:off x="10067760" y="2165400"/>
              <a:ext cx="665280" cy="68400"/>
            </a:xfrm>
            <a:custGeom>
              <a:avLst/>
              <a:gdLst/>
              <a:ahLst/>
              <a:rect l="l" t="t" r="r" b="b"/>
              <a:pathLst>
                <a:path w="1257" h="129">
                  <a:moveTo>
                    <a:pt x="1257" y="0"/>
                  </a:moveTo>
                  <a:lnTo>
                    <a:pt x="942" y="0"/>
                  </a:lnTo>
                  <a:lnTo>
                    <a:pt x="0" y="129"/>
                  </a:lnTo>
                  <a:lnTo>
                    <a:pt x="75" y="126"/>
                  </a:lnTo>
                  <a:lnTo>
                    <a:pt x="996" y="69"/>
                  </a:lnTo>
                  <a:lnTo>
                    <a:pt x="1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3278"/>
            <p:cNvSpPr/>
            <p:nvPr/>
          </p:nvSpPr>
          <p:spPr>
            <a:xfrm flipH="1">
              <a:off x="10242360" y="2214720"/>
              <a:ext cx="503280" cy="54000"/>
            </a:xfrm>
            <a:custGeom>
              <a:avLst/>
              <a:gdLst/>
              <a:ahLst/>
              <a:rect l="l" t="t" r="r" b="b"/>
              <a:pathLst>
                <a:path w="951" h="102">
                  <a:moveTo>
                    <a:pt x="861" y="63"/>
                  </a:moveTo>
                  <a:lnTo>
                    <a:pt x="951" y="0"/>
                  </a:lnTo>
                  <a:lnTo>
                    <a:pt x="783" y="6"/>
                  </a:lnTo>
                  <a:lnTo>
                    <a:pt x="762" y="6"/>
                  </a:lnTo>
                  <a:lnTo>
                    <a:pt x="759" y="6"/>
                  </a:lnTo>
                  <a:lnTo>
                    <a:pt x="741" y="9"/>
                  </a:lnTo>
                  <a:lnTo>
                    <a:pt x="720" y="9"/>
                  </a:lnTo>
                  <a:lnTo>
                    <a:pt x="453" y="18"/>
                  </a:lnTo>
                  <a:lnTo>
                    <a:pt x="447" y="18"/>
                  </a:lnTo>
                  <a:lnTo>
                    <a:pt x="408" y="21"/>
                  </a:lnTo>
                  <a:lnTo>
                    <a:pt x="372" y="21"/>
                  </a:lnTo>
                  <a:lnTo>
                    <a:pt x="360" y="24"/>
                  </a:lnTo>
                  <a:lnTo>
                    <a:pt x="321" y="24"/>
                  </a:lnTo>
                  <a:lnTo>
                    <a:pt x="297" y="24"/>
                  </a:lnTo>
                  <a:lnTo>
                    <a:pt x="270" y="27"/>
                  </a:lnTo>
                  <a:lnTo>
                    <a:pt x="99" y="33"/>
                  </a:lnTo>
                  <a:lnTo>
                    <a:pt x="24" y="36"/>
                  </a:lnTo>
                  <a:lnTo>
                    <a:pt x="0" y="39"/>
                  </a:lnTo>
                  <a:lnTo>
                    <a:pt x="438" y="102"/>
                  </a:lnTo>
                  <a:lnTo>
                    <a:pt x="86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3279"/>
            <p:cNvSpPr/>
            <p:nvPr/>
          </p:nvSpPr>
          <p:spPr>
            <a:xfrm flipH="1">
              <a:off x="10353240" y="2217600"/>
              <a:ext cx="11160" cy="180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3280"/>
            <p:cNvSpPr/>
            <p:nvPr/>
          </p:nvSpPr>
          <p:spPr>
            <a:xfrm flipH="1">
              <a:off x="10343520" y="2217600"/>
              <a:ext cx="9720" cy="1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0"/>
                  </a:moveTo>
                  <a:lnTo>
                    <a:pt x="0" y="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3281"/>
            <p:cNvSpPr/>
            <p:nvPr/>
          </p:nvSpPr>
          <p:spPr>
            <a:xfrm flipH="1">
              <a:off x="10330920" y="2216160"/>
              <a:ext cx="11160" cy="14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3282"/>
            <p:cNvSpPr/>
            <p:nvPr/>
          </p:nvSpPr>
          <p:spPr>
            <a:xfrm flipH="1">
              <a:off x="10548720" y="222588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3283"/>
            <p:cNvSpPr/>
            <p:nvPr/>
          </p:nvSpPr>
          <p:spPr>
            <a:xfrm flipH="1">
              <a:off x="10508760" y="2224080"/>
              <a:ext cx="20520" cy="180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0" y="0"/>
                  </a:moveTo>
                  <a:lnTo>
                    <a:pt x="0" y="3"/>
                  </a:lnTo>
                  <a:lnTo>
                    <a:pt x="39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3284"/>
            <p:cNvSpPr/>
            <p:nvPr/>
          </p:nvSpPr>
          <p:spPr>
            <a:xfrm flipH="1">
              <a:off x="10513800" y="2235240"/>
              <a:ext cx="231840" cy="34920"/>
            </a:xfrm>
            <a:custGeom>
              <a:avLst/>
              <a:gdLst/>
              <a:ahLst/>
              <a:rect l="l" t="t" r="r" b="b"/>
              <a:pathLst>
                <a:path w="438" h="66">
                  <a:moveTo>
                    <a:pt x="438" y="66"/>
                  </a:moveTo>
                  <a:lnTo>
                    <a:pt x="438" y="63"/>
                  </a:lnTo>
                  <a:lnTo>
                    <a:pt x="0" y="0"/>
                  </a:lnTo>
                  <a:lnTo>
                    <a:pt x="15" y="6"/>
                  </a:lnTo>
                  <a:lnTo>
                    <a:pt x="75" y="15"/>
                  </a:lnTo>
                  <a:lnTo>
                    <a:pt x="438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3285"/>
            <p:cNvSpPr/>
            <p:nvPr/>
          </p:nvSpPr>
          <p:spPr>
            <a:xfrm flipH="1">
              <a:off x="10705680" y="2238480"/>
              <a:ext cx="37800" cy="6120"/>
            </a:xfrm>
            <a:custGeom>
              <a:avLst/>
              <a:gdLst/>
              <a:ahLst/>
              <a:rect l="l" t="t" r="r" b="b"/>
              <a:pathLst>
                <a:path w="72" h="12">
                  <a:moveTo>
                    <a:pt x="72" y="9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57" y="9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4" name="Group 3286"/>
          <p:cNvGrpSpPr/>
          <p:nvPr/>
        </p:nvGrpSpPr>
        <p:grpSpPr>
          <a:xfrm>
            <a:off x="10422000" y="2181240"/>
            <a:ext cx="673200" cy="204840"/>
            <a:chOff x="10422000" y="2181240"/>
            <a:chExt cx="673200" cy="204840"/>
          </a:xfrm>
        </p:grpSpPr>
        <p:sp>
          <p:nvSpPr>
            <p:cNvPr id="2665" name="Freeform 3287"/>
            <p:cNvSpPr/>
            <p:nvPr/>
          </p:nvSpPr>
          <p:spPr>
            <a:xfrm flipH="1">
              <a:off x="10421640" y="2181240"/>
              <a:ext cx="135000" cy="381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55" y="6"/>
                  </a:moveTo>
                  <a:lnTo>
                    <a:pt x="252" y="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9" y="72"/>
                  </a:lnTo>
                  <a:lnTo>
                    <a:pt x="255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3288"/>
            <p:cNvSpPr/>
            <p:nvPr/>
          </p:nvSpPr>
          <p:spPr>
            <a:xfrm flipH="1">
              <a:off x="10545480" y="2219400"/>
              <a:ext cx="304920" cy="149040"/>
            </a:xfrm>
            <a:custGeom>
              <a:avLst/>
              <a:gdLst/>
              <a:ahLst/>
              <a:rect l="l" t="t" r="r" b="b"/>
              <a:pathLst>
                <a:path w="576" h="282">
                  <a:moveTo>
                    <a:pt x="564" y="0"/>
                  </a:moveTo>
                  <a:lnTo>
                    <a:pt x="555" y="0"/>
                  </a:lnTo>
                  <a:lnTo>
                    <a:pt x="168" y="24"/>
                  </a:lnTo>
                  <a:lnTo>
                    <a:pt x="156" y="27"/>
                  </a:lnTo>
                  <a:lnTo>
                    <a:pt x="126" y="27"/>
                  </a:lnTo>
                  <a:lnTo>
                    <a:pt x="111" y="30"/>
                  </a:lnTo>
                  <a:lnTo>
                    <a:pt x="84" y="30"/>
                  </a:lnTo>
                  <a:lnTo>
                    <a:pt x="66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34" y="30"/>
                  </a:lnTo>
                  <a:lnTo>
                    <a:pt x="252" y="27"/>
                  </a:lnTo>
                  <a:lnTo>
                    <a:pt x="273" y="27"/>
                  </a:lnTo>
                  <a:lnTo>
                    <a:pt x="291" y="24"/>
                  </a:lnTo>
                  <a:lnTo>
                    <a:pt x="315" y="24"/>
                  </a:lnTo>
                  <a:lnTo>
                    <a:pt x="330" y="21"/>
                  </a:lnTo>
                  <a:lnTo>
                    <a:pt x="354" y="21"/>
                  </a:lnTo>
                  <a:lnTo>
                    <a:pt x="369" y="18"/>
                  </a:lnTo>
                  <a:lnTo>
                    <a:pt x="393" y="18"/>
                  </a:lnTo>
                  <a:lnTo>
                    <a:pt x="408" y="15"/>
                  </a:lnTo>
                  <a:lnTo>
                    <a:pt x="432" y="15"/>
                  </a:lnTo>
                  <a:lnTo>
                    <a:pt x="447" y="12"/>
                  </a:lnTo>
                  <a:lnTo>
                    <a:pt x="471" y="12"/>
                  </a:lnTo>
                  <a:lnTo>
                    <a:pt x="486" y="9"/>
                  </a:lnTo>
                  <a:lnTo>
                    <a:pt x="498" y="9"/>
                  </a:lnTo>
                  <a:lnTo>
                    <a:pt x="501" y="18"/>
                  </a:lnTo>
                  <a:lnTo>
                    <a:pt x="501" y="21"/>
                  </a:lnTo>
                  <a:lnTo>
                    <a:pt x="570" y="282"/>
                  </a:lnTo>
                  <a:lnTo>
                    <a:pt x="576" y="282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3289"/>
            <p:cNvSpPr/>
            <p:nvPr/>
          </p:nvSpPr>
          <p:spPr>
            <a:xfrm flipH="1">
              <a:off x="10557000" y="2216160"/>
              <a:ext cx="465120" cy="31680"/>
            </a:xfrm>
            <a:custGeom>
              <a:avLst/>
              <a:gdLst/>
              <a:ahLst/>
              <a:rect l="l" t="t" r="r" b="b"/>
              <a:pathLst>
                <a:path w="879" h="60">
                  <a:moveTo>
                    <a:pt x="879" y="6"/>
                  </a:moveTo>
                  <a:lnTo>
                    <a:pt x="879" y="0"/>
                  </a:lnTo>
                  <a:lnTo>
                    <a:pt x="0" y="60"/>
                  </a:lnTo>
                  <a:lnTo>
                    <a:pt x="111" y="57"/>
                  </a:lnTo>
                  <a:lnTo>
                    <a:pt x="120" y="54"/>
                  </a:lnTo>
                  <a:lnTo>
                    <a:pt x="243" y="48"/>
                  </a:lnTo>
                  <a:lnTo>
                    <a:pt x="252" y="48"/>
                  </a:lnTo>
                  <a:lnTo>
                    <a:pt x="282" y="45"/>
                  </a:lnTo>
                  <a:lnTo>
                    <a:pt x="297" y="45"/>
                  </a:lnTo>
                  <a:lnTo>
                    <a:pt x="324" y="42"/>
                  </a:lnTo>
                  <a:lnTo>
                    <a:pt x="390" y="39"/>
                  </a:lnTo>
                  <a:lnTo>
                    <a:pt x="408" y="36"/>
                  </a:lnTo>
                  <a:lnTo>
                    <a:pt x="435" y="36"/>
                  </a:lnTo>
                  <a:lnTo>
                    <a:pt x="450" y="33"/>
                  </a:lnTo>
                  <a:lnTo>
                    <a:pt x="480" y="33"/>
                  </a:lnTo>
                  <a:lnTo>
                    <a:pt x="492" y="30"/>
                  </a:lnTo>
                  <a:lnTo>
                    <a:pt x="87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3290"/>
            <p:cNvSpPr/>
            <p:nvPr/>
          </p:nvSpPr>
          <p:spPr>
            <a:xfrm flipH="1">
              <a:off x="10545480" y="2354040"/>
              <a:ext cx="133560" cy="32040"/>
            </a:xfrm>
            <a:custGeom>
              <a:avLst/>
              <a:gdLst/>
              <a:ahLst/>
              <a:rect l="l" t="t" r="r" b="b"/>
              <a:pathLst>
                <a:path w="252" h="60">
                  <a:moveTo>
                    <a:pt x="240" y="60"/>
                  </a:moveTo>
                  <a:lnTo>
                    <a:pt x="252" y="60"/>
                  </a:lnTo>
                  <a:lnTo>
                    <a:pt x="252" y="51"/>
                  </a:lnTo>
                  <a:lnTo>
                    <a:pt x="249" y="51"/>
                  </a:lnTo>
                  <a:lnTo>
                    <a:pt x="0" y="0"/>
                  </a:lnTo>
                  <a:lnTo>
                    <a:pt x="24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3291"/>
            <p:cNvSpPr/>
            <p:nvPr/>
          </p:nvSpPr>
          <p:spPr>
            <a:xfrm flipH="1">
              <a:off x="10545480" y="2368440"/>
              <a:ext cx="3240" cy="126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24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3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3292"/>
            <p:cNvSpPr/>
            <p:nvPr/>
          </p:nvSpPr>
          <p:spPr>
            <a:xfrm flipH="1">
              <a:off x="10547280" y="2230200"/>
              <a:ext cx="547560" cy="150840"/>
            </a:xfrm>
            <a:custGeom>
              <a:avLst/>
              <a:gdLst/>
              <a:ahLst/>
              <a:rect l="l" t="t" r="r" b="b"/>
              <a:pathLst>
                <a:path w="1035" h="285">
                  <a:moveTo>
                    <a:pt x="1035" y="285"/>
                  </a:moveTo>
                  <a:lnTo>
                    <a:pt x="1032" y="261"/>
                  </a:lnTo>
                  <a:lnTo>
                    <a:pt x="963" y="0"/>
                  </a:lnTo>
                  <a:lnTo>
                    <a:pt x="957" y="0"/>
                  </a:lnTo>
                  <a:lnTo>
                    <a:pt x="879" y="60"/>
                  </a:lnTo>
                  <a:lnTo>
                    <a:pt x="456" y="96"/>
                  </a:lnTo>
                  <a:lnTo>
                    <a:pt x="90" y="54"/>
                  </a:lnTo>
                  <a:lnTo>
                    <a:pt x="72" y="57"/>
                  </a:lnTo>
                  <a:lnTo>
                    <a:pt x="51" y="57"/>
                  </a:lnTo>
                  <a:lnTo>
                    <a:pt x="33" y="60"/>
                  </a:lnTo>
                  <a:lnTo>
                    <a:pt x="12" y="60"/>
                  </a:lnTo>
                  <a:lnTo>
                    <a:pt x="0" y="63"/>
                  </a:lnTo>
                  <a:lnTo>
                    <a:pt x="747" y="225"/>
                  </a:lnTo>
                  <a:lnTo>
                    <a:pt x="756" y="228"/>
                  </a:lnTo>
                  <a:lnTo>
                    <a:pt x="762" y="228"/>
                  </a:lnTo>
                  <a:lnTo>
                    <a:pt x="771" y="231"/>
                  </a:lnTo>
                  <a:lnTo>
                    <a:pt x="774" y="231"/>
                  </a:lnTo>
                  <a:lnTo>
                    <a:pt x="783" y="234"/>
                  </a:lnTo>
                  <a:lnTo>
                    <a:pt x="786" y="234"/>
                  </a:lnTo>
                  <a:lnTo>
                    <a:pt x="103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3293"/>
            <p:cNvSpPr/>
            <p:nvPr/>
          </p:nvSpPr>
          <p:spPr>
            <a:xfrm flipH="1">
              <a:off x="10423800" y="2181240"/>
              <a:ext cx="658800" cy="69840"/>
            </a:xfrm>
            <a:custGeom>
              <a:avLst/>
              <a:gdLst/>
              <a:ahLst/>
              <a:rect l="l" t="t" r="r" b="b"/>
              <a:pathLst>
                <a:path w="1245" h="132">
                  <a:moveTo>
                    <a:pt x="993" y="66"/>
                  </a:moveTo>
                  <a:lnTo>
                    <a:pt x="1245" y="0"/>
                  </a:lnTo>
                  <a:lnTo>
                    <a:pt x="933" y="3"/>
                  </a:lnTo>
                  <a:lnTo>
                    <a:pt x="0" y="132"/>
                  </a:lnTo>
                  <a:lnTo>
                    <a:pt x="24" y="132"/>
                  </a:lnTo>
                  <a:lnTo>
                    <a:pt x="42" y="129"/>
                  </a:lnTo>
                  <a:lnTo>
                    <a:pt x="114" y="126"/>
                  </a:lnTo>
                  <a:lnTo>
                    <a:pt x="99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3294"/>
            <p:cNvSpPr/>
            <p:nvPr/>
          </p:nvSpPr>
          <p:spPr>
            <a:xfrm flipH="1">
              <a:off x="10682280" y="2232000"/>
              <a:ext cx="1404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0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3295"/>
            <p:cNvSpPr/>
            <p:nvPr/>
          </p:nvSpPr>
          <p:spPr>
            <a:xfrm flipH="1">
              <a:off x="10676160" y="223020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3"/>
                  </a:moveTo>
                  <a:lnTo>
                    <a:pt x="3" y="3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3296"/>
            <p:cNvSpPr/>
            <p:nvPr/>
          </p:nvSpPr>
          <p:spPr>
            <a:xfrm flipH="1">
              <a:off x="10696320" y="2232000"/>
              <a:ext cx="972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0" y="3"/>
                  </a:lnTo>
                  <a:lnTo>
                    <a:pt x="18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3297"/>
            <p:cNvSpPr/>
            <p:nvPr/>
          </p:nvSpPr>
          <p:spPr>
            <a:xfrm flipH="1">
              <a:off x="10588320" y="2228760"/>
              <a:ext cx="506520" cy="50760"/>
            </a:xfrm>
            <a:custGeom>
              <a:avLst/>
              <a:gdLst/>
              <a:ahLst/>
              <a:rect l="l" t="t" r="r" b="b"/>
              <a:pathLst>
                <a:path w="957" h="96">
                  <a:moveTo>
                    <a:pt x="753" y="9"/>
                  </a:moveTo>
                  <a:lnTo>
                    <a:pt x="735" y="9"/>
                  </a:lnTo>
                  <a:lnTo>
                    <a:pt x="714" y="9"/>
                  </a:lnTo>
                  <a:lnTo>
                    <a:pt x="696" y="12"/>
                  </a:lnTo>
                  <a:lnTo>
                    <a:pt x="462" y="21"/>
                  </a:lnTo>
                  <a:lnTo>
                    <a:pt x="450" y="21"/>
                  </a:lnTo>
                  <a:lnTo>
                    <a:pt x="420" y="24"/>
                  </a:lnTo>
                  <a:lnTo>
                    <a:pt x="390" y="24"/>
                  </a:lnTo>
                  <a:lnTo>
                    <a:pt x="381" y="24"/>
                  </a:lnTo>
                  <a:lnTo>
                    <a:pt x="258" y="30"/>
                  </a:lnTo>
                  <a:lnTo>
                    <a:pt x="249" y="33"/>
                  </a:lnTo>
                  <a:lnTo>
                    <a:pt x="138" y="36"/>
                  </a:lnTo>
                  <a:lnTo>
                    <a:pt x="66" y="39"/>
                  </a:lnTo>
                  <a:lnTo>
                    <a:pt x="48" y="42"/>
                  </a:lnTo>
                  <a:lnTo>
                    <a:pt x="24" y="42"/>
                  </a:lnTo>
                  <a:lnTo>
                    <a:pt x="0" y="45"/>
                  </a:lnTo>
                  <a:lnTo>
                    <a:pt x="459" y="96"/>
                  </a:lnTo>
                  <a:lnTo>
                    <a:pt x="876" y="57"/>
                  </a:lnTo>
                  <a:lnTo>
                    <a:pt x="957" y="3"/>
                  </a:lnTo>
                  <a:lnTo>
                    <a:pt x="957" y="0"/>
                  </a:lnTo>
                  <a:lnTo>
                    <a:pt x="792" y="6"/>
                  </a:lnTo>
                  <a:lnTo>
                    <a:pt x="780" y="6"/>
                  </a:lnTo>
                  <a:lnTo>
                    <a:pt x="75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3298"/>
            <p:cNvSpPr/>
            <p:nvPr/>
          </p:nvSpPr>
          <p:spPr>
            <a:xfrm flipH="1">
              <a:off x="10585440" y="2224080"/>
              <a:ext cx="90360" cy="7920"/>
            </a:xfrm>
            <a:custGeom>
              <a:avLst/>
              <a:gdLst/>
              <a:ahLst/>
              <a:rect l="l" t="t" r="r" b="b"/>
              <a:pathLst>
                <a:path w="171" h="15">
                  <a:moveTo>
                    <a:pt x="0" y="12"/>
                  </a:moveTo>
                  <a:lnTo>
                    <a:pt x="0" y="15"/>
                  </a:lnTo>
                  <a:lnTo>
                    <a:pt x="165" y="9"/>
                  </a:lnTo>
                  <a:lnTo>
                    <a:pt x="171" y="9"/>
                  </a:lnTo>
                  <a:lnTo>
                    <a:pt x="168" y="0"/>
                  </a:lnTo>
                  <a:lnTo>
                    <a:pt x="156" y="0"/>
                  </a:lnTo>
                  <a:lnTo>
                    <a:pt x="141" y="3"/>
                  </a:lnTo>
                  <a:lnTo>
                    <a:pt x="117" y="3"/>
                  </a:lnTo>
                  <a:lnTo>
                    <a:pt x="102" y="6"/>
                  </a:lnTo>
                  <a:lnTo>
                    <a:pt x="78" y="6"/>
                  </a:lnTo>
                  <a:lnTo>
                    <a:pt x="63" y="9"/>
                  </a:lnTo>
                  <a:lnTo>
                    <a:pt x="39" y="9"/>
                  </a:lnTo>
                  <a:lnTo>
                    <a:pt x="2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Rectangle 3299"/>
            <p:cNvSpPr/>
            <p:nvPr/>
          </p:nvSpPr>
          <p:spPr>
            <a:xfrm flipH="1">
              <a:off x="10585800" y="2228760"/>
              <a:ext cx="288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3300"/>
            <p:cNvSpPr/>
            <p:nvPr/>
          </p:nvSpPr>
          <p:spPr>
            <a:xfrm flipH="1">
              <a:off x="10630080" y="2259000"/>
              <a:ext cx="223920" cy="22320"/>
            </a:xfrm>
            <a:custGeom>
              <a:avLst/>
              <a:gdLst/>
              <a:ahLst/>
              <a:rect l="l" t="t" r="r" b="b"/>
              <a:pathLst>
                <a:path w="423" h="42">
                  <a:moveTo>
                    <a:pt x="423" y="6"/>
                  </a:moveTo>
                  <a:lnTo>
                    <a:pt x="420" y="0"/>
                  </a:lnTo>
                  <a:lnTo>
                    <a:pt x="3" y="39"/>
                  </a:lnTo>
                  <a:lnTo>
                    <a:pt x="0" y="42"/>
                  </a:lnTo>
                  <a:lnTo>
                    <a:pt x="42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3301"/>
            <p:cNvSpPr/>
            <p:nvPr/>
          </p:nvSpPr>
          <p:spPr>
            <a:xfrm flipH="1">
              <a:off x="10588680" y="2230200"/>
              <a:ext cx="43200" cy="32040"/>
            </a:xfrm>
            <a:custGeom>
              <a:avLst/>
              <a:gdLst/>
              <a:ahLst/>
              <a:rect l="l" t="t" r="r" b="b"/>
              <a:pathLst>
                <a:path w="81" h="60">
                  <a:moveTo>
                    <a:pt x="0" y="54"/>
                  </a:moveTo>
                  <a:lnTo>
                    <a:pt x="3" y="60"/>
                  </a:lnTo>
                  <a:lnTo>
                    <a:pt x="81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3302"/>
            <p:cNvSpPr/>
            <p:nvPr/>
          </p:nvSpPr>
          <p:spPr>
            <a:xfrm flipH="1">
              <a:off x="10857240" y="2239920"/>
              <a:ext cx="15840" cy="144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0" y="3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3303"/>
            <p:cNvSpPr/>
            <p:nvPr/>
          </p:nvSpPr>
          <p:spPr>
            <a:xfrm flipH="1">
              <a:off x="11047680" y="2259000"/>
              <a:ext cx="936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3304"/>
            <p:cNvSpPr/>
            <p:nvPr/>
          </p:nvSpPr>
          <p:spPr>
            <a:xfrm flipH="1">
              <a:off x="11057040" y="2255760"/>
              <a:ext cx="38160" cy="468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9"/>
                  </a:moveTo>
                  <a:lnTo>
                    <a:pt x="72" y="6"/>
                  </a:lnTo>
                  <a:lnTo>
                    <a:pt x="15" y="0"/>
                  </a:lnTo>
                  <a:lnTo>
                    <a:pt x="0" y="3"/>
                  </a:lnTo>
                  <a:lnTo>
                    <a:pt x="33" y="9"/>
                  </a:lnTo>
                  <a:lnTo>
                    <a:pt x="51" y="9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3305"/>
            <p:cNvSpPr/>
            <p:nvPr/>
          </p:nvSpPr>
          <p:spPr>
            <a:xfrm flipH="1">
              <a:off x="10851840" y="2252520"/>
              <a:ext cx="243000" cy="28800"/>
            </a:xfrm>
            <a:custGeom>
              <a:avLst/>
              <a:gdLst/>
              <a:ahLst/>
              <a:rect l="l" t="t" r="r" b="b"/>
              <a:pathLst>
                <a:path w="459" h="54">
                  <a:moveTo>
                    <a:pt x="72" y="12"/>
                  </a:moveTo>
                  <a:lnTo>
                    <a:pt x="90" y="12"/>
                  </a:lnTo>
                  <a:lnTo>
                    <a:pt x="456" y="54"/>
                  </a:lnTo>
                  <a:lnTo>
                    <a:pt x="459" y="51"/>
                  </a:lnTo>
                  <a:lnTo>
                    <a:pt x="0" y="0"/>
                  </a:lnTo>
                  <a:lnTo>
                    <a:pt x="15" y="6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3306"/>
            <p:cNvSpPr/>
            <p:nvPr/>
          </p:nvSpPr>
          <p:spPr>
            <a:xfrm flipH="1">
              <a:off x="11067840" y="2260440"/>
              <a:ext cx="9720" cy="1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Group 3307"/>
          <p:cNvGrpSpPr/>
          <p:nvPr/>
        </p:nvGrpSpPr>
        <p:grpSpPr>
          <a:xfrm>
            <a:off x="10802520" y="2193840"/>
            <a:ext cx="671400" cy="200160"/>
            <a:chOff x="10802520" y="2193840"/>
            <a:chExt cx="671400" cy="200160"/>
          </a:xfrm>
        </p:grpSpPr>
        <p:sp>
          <p:nvSpPr>
            <p:cNvPr id="2686" name="Freeform 3308"/>
            <p:cNvSpPr/>
            <p:nvPr/>
          </p:nvSpPr>
          <p:spPr>
            <a:xfrm flipH="1">
              <a:off x="10802520" y="2193840"/>
              <a:ext cx="130320" cy="34920"/>
            </a:xfrm>
            <a:custGeom>
              <a:avLst/>
              <a:gdLst/>
              <a:ahLst/>
              <a:rect l="l" t="t" r="r" b="b"/>
              <a:pathLst>
                <a:path w="246" h="66">
                  <a:moveTo>
                    <a:pt x="246" y="6"/>
                  </a:moveTo>
                  <a:lnTo>
                    <a:pt x="240" y="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9" y="66"/>
                  </a:lnTo>
                  <a:lnTo>
                    <a:pt x="24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3309"/>
            <p:cNvSpPr/>
            <p:nvPr/>
          </p:nvSpPr>
          <p:spPr>
            <a:xfrm flipH="1">
              <a:off x="11424600" y="2268360"/>
              <a:ext cx="45720" cy="5040"/>
            </a:xfrm>
            <a:custGeom>
              <a:avLst/>
              <a:gdLst/>
              <a:ahLst/>
              <a:rect l="l" t="t" r="r" b="b"/>
              <a:pathLst>
                <a:path w="87" h="9">
                  <a:moveTo>
                    <a:pt x="63" y="9"/>
                  </a:moveTo>
                  <a:lnTo>
                    <a:pt x="78" y="6"/>
                  </a:lnTo>
                  <a:lnTo>
                    <a:pt x="87" y="6"/>
                  </a:lnTo>
                  <a:lnTo>
                    <a:pt x="21" y="0"/>
                  </a:lnTo>
                  <a:lnTo>
                    <a:pt x="0" y="3"/>
                  </a:lnTo>
                  <a:lnTo>
                    <a:pt x="27" y="9"/>
                  </a:lnTo>
                  <a:lnTo>
                    <a:pt x="42" y="9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3310"/>
            <p:cNvSpPr/>
            <p:nvPr/>
          </p:nvSpPr>
          <p:spPr>
            <a:xfrm flipH="1">
              <a:off x="10921320" y="2239920"/>
              <a:ext cx="547560" cy="149400"/>
            </a:xfrm>
            <a:custGeom>
              <a:avLst/>
              <a:gdLst/>
              <a:ahLst/>
              <a:rect l="l" t="t" r="r" b="b"/>
              <a:pathLst>
                <a:path w="1035" h="282">
                  <a:moveTo>
                    <a:pt x="75" y="60"/>
                  </a:moveTo>
                  <a:lnTo>
                    <a:pt x="60" y="63"/>
                  </a:lnTo>
                  <a:lnTo>
                    <a:pt x="39" y="63"/>
                  </a:lnTo>
                  <a:lnTo>
                    <a:pt x="24" y="66"/>
                  </a:lnTo>
                  <a:lnTo>
                    <a:pt x="3" y="66"/>
                  </a:lnTo>
                  <a:lnTo>
                    <a:pt x="0" y="69"/>
                  </a:lnTo>
                  <a:lnTo>
                    <a:pt x="735" y="222"/>
                  </a:lnTo>
                  <a:lnTo>
                    <a:pt x="744" y="225"/>
                  </a:lnTo>
                  <a:lnTo>
                    <a:pt x="750" y="225"/>
                  </a:lnTo>
                  <a:lnTo>
                    <a:pt x="759" y="228"/>
                  </a:lnTo>
                  <a:lnTo>
                    <a:pt x="762" y="228"/>
                  </a:lnTo>
                  <a:lnTo>
                    <a:pt x="1035" y="282"/>
                  </a:lnTo>
                  <a:lnTo>
                    <a:pt x="1035" y="279"/>
                  </a:lnTo>
                  <a:lnTo>
                    <a:pt x="1029" y="252"/>
                  </a:lnTo>
                  <a:lnTo>
                    <a:pt x="966" y="3"/>
                  </a:lnTo>
                  <a:lnTo>
                    <a:pt x="960" y="0"/>
                  </a:lnTo>
                  <a:lnTo>
                    <a:pt x="957" y="3"/>
                  </a:lnTo>
                  <a:lnTo>
                    <a:pt x="939" y="15"/>
                  </a:lnTo>
                  <a:lnTo>
                    <a:pt x="939" y="18"/>
                  </a:lnTo>
                  <a:lnTo>
                    <a:pt x="924" y="27"/>
                  </a:lnTo>
                  <a:lnTo>
                    <a:pt x="924" y="30"/>
                  </a:lnTo>
                  <a:lnTo>
                    <a:pt x="906" y="42"/>
                  </a:lnTo>
                  <a:lnTo>
                    <a:pt x="906" y="45"/>
                  </a:lnTo>
                  <a:lnTo>
                    <a:pt x="894" y="54"/>
                  </a:lnTo>
                  <a:lnTo>
                    <a:pt x="477" y="93"/>
                  </a:lnTo>
                  <a:lnTo>
                    <a:pt x="84" y="60"/>
                  </a:lnTo>
                  <a:lnTo>
                    <a:pt x="7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3311"/>
            <p:cNvSpPr/>
            <p:nvPr/>
          </p:nvSpPr>
          <p:spPr>
            <a:xfrm flipH="1">
              <a:off x="11448720" y="227340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3312"/>
            <p:cNvSpPr/>
            <p:nvPr/>
          </p:nvSpPr>
          <p:spPr>
            <a:xfrm flipH="1">
              <a:off x="11440800" y="22622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3313"/>
            <p:cNvSpPr/>
            <p:nvPr/>
          </p:nvSpPr>
          <p:spPr>
            <a:xfrm flipH="1">
              <a:off x="11448360" y="2262240"/>
              <a:ext cx="11160" cy="14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21" y="3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3314"/>
            <p:cNvSpPr/>
            <p:nvPr/>
          </p:nvSpPr>
          <p:spPr>
            <a:xfrm flipH="1">
              <a:off x="10960920" y="2238480"/>
              <a:ext cx="509400" cy="48960"/>
            </a:xfrm>
            <a:custGeom>
              <a:avLst/>
              <a:gdLst/>
              <a:ahLst/>
              <a:rect l="l" t="t" r="r" b="b"/>
              <a:pathLst>
                <a:path w="963" h="93">
                  <a:moveTo>
                    <a:pt x="57" y="45"/>
                  </a:moveTo>
                  <a:lnTo>
                    <a:pt x="42" y="48"/>
                  </a:lnTo>
                  <a:lnTo>
                    <a:pt x="21" y="48"/>
                  </a:lnTo>
                  <a:lnTo>
                    <a:pt x="0" y="51"/>
                  </a:lnTo>
                  <a:lnTo>
                    <a:pt x="480" y="93"/>
                  </a:lnTo>
                  <a:lnTo>
                    <a:pt x="894" y="54"/>
                  </a:lnTo>
                  <a:lnTo>
                    <a:pt x="909" y="48"/>
                  </a:lnTo>
                  <a:lnTo>
                    <a:pt x="909" y="45"/>
                  </a:lnTo>
                  <a:lnTo>
                    <a:pt x="927" y="33"/>
                  </a:lnTo>
                  <a:lnTo>
                    <a:pt x="927" y="30"/>
                  </a:lnTo>
                  <a:lnTo>
                    <a:pt x="942" y="21"/>
                  </a:lnTo>
                  <a:lnTo>
                    <a:pt x="942" y="18"/>
                  </a:lnTo>
                  <a:lnTo>
                    <a:pt x="960" y="6"/>
                  </a:lnTo>
                  <a:lnTo>
                    <a:pt x="963" y="3"/>
                  </a:lnTo>
                  <a:lnTo>
                    <a:pt x="963" y="0"/>
                  </a:lnTo>
                  <a:lnTo>
                    <a:pt x="816" y="6"/>
                  </a:lnTo>
                  <a:lnTo>
                    <a:pt x="813" y="6"/>
                  </a:lnTo>
                  <a:lnTo>
                    <a:pt x="780" y="9"/>
                  </a:lnTo>
                  <a:lnTo>
                    <a:pt x="765" y="9"/>
                  </a:lnTo>
                  <a:lnTo>
                    <a:pt x="759" y="9"/>
                  </a:lnTo>
                  <a:lnTo>
                    <a:pt x="744" y="12"/>
                  </a:lnTo>
                  <a:lnTo>
                    <a:pt x="726" y="12"/>
                  </a:lnTo>
                  <a:lnTo>
                    <a:pt x="477" y="24"/>
                  </a:lnTo>
                  <a:lnTo>
                    <a:pt x="459" y="24"/>
                  </a:lnTo>
                  <a:lnTo>
                    <a:pt x="438" y="27"/>
                  </a:lnTo>
                  <a:lnTo>
                    <a:pt x="408" y="27"/>
                  </a:lnTo>
                  <a:lnTo>
                    <a:pt x="399" y="27"/>
                  </a:lnTo>
                  <a:lnTo>
                    <a:pt x="366" y="30"/>
                  </a:lnTo>
                  <a:lnTo>
                    <a:pt x="288" y="33"/>
                  </a:lnTo>
                  <a:lnTo>
                    <a:pt x="279" y="36"/>
                  </a:lnTo>
                  <a:lnTo>
                    <a:pt x="174" y="39"/>
                  </a:lnTo>
                  <a:lnTo>
                    <a:pt x="171" y="39"/>
                  </a:lnTo>
                  <a:lnTo>
                    <a:pt x="57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3315"/>
            <p:cNvSpPr/>
            <p:nvPr/>
          </p:nvSpPr>
          <p:spPr>
            <a:xfrm flipH="1">
              <a:off x="10805400" y="2193840"/>
              <a:ext cx="641160" cy="68400"/>
            </a:xfrm>
            <a:custGeom>
              <a:avLst/>
              <a:gdLst/>
              <a:ahLst/>
              <a:rect l="l" t="t" r="r" b="b"/>
              <a:pathLst>
                <a:path w="1212" h="129">
                  <a:moveTo>
                    <a:pt x="0" y="129"/>
                  </a:moveTo>
                  <a:lnTo>
                    <a:pt x="12" y="129"/>
                  </a:lnTo>
                  <a:lnTo>
                    <a:pt x="126" y="123"/>
                  </a:lnTo>
                  <a:lnTo>
                    <a:pt x="129" y="123"/>
                  </a:lnTo>
                  <a:lnTo>
                    <a:pt x="972" y="63"/>
                  </a:lnTo>
                  <a:lnTo>
                    <a:pt x="1212" y="0"/>
                  </a:lnTo>
                  <a:lnTo>
                    <a:pt x="894" y="6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3316"/>
            <p:cNvSpPr/>
            <p:nvPr/>
          </p:nvSpPr>
          <p:spPr>
            <a:xfrm flipH="1">
              <a:off x="11467440" y="227484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0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317"/>
            <p:cNvSpPr/>
            <p:nvPr/>
          </p:nvSpPr>
          <p:spPr>
            <a:xfrm flipH="1">
              <a:off x="11216520" y="2265480"/>
              <a:ext cx="253800" cy="23760"/>
            </a:xfrm>
            <a:custGeom>
              <a:avLst/>
              <a:gdLst/>
              <a:ahLst/>
              <a:rect l="l" t="t" r="r" b="b"/>
              <a:pathLst>
                <a:path w="480" h="45">
                  <a:moveTo>
                    <a:pt x="0" y="0"/>
                  </a:moveTo>
                  <a:lnTo>
                    <a:pt x="21" y="6"/>
                  </a:lnTo>
                  <a:lnTo>
                    <a:pt x="87" y="12"/>
                  </a:lnTo>
                  <a:lnTo>
                    <a:pt x="480" y="45"/>
                  </a:lnTo>
                  <a:lnTo>
                    <a:pt x="48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3318"/>
            <p:cNvSpPr/>
            <p:nvPr/>
          </p:nvSpPr>
          <p:spPr>
            <a:xfrm flipH="1">
              <a:off x="10921680" y="2230560"/>
              <a:ext cx="296640" cy="142920"/>
            </a:xfrm>
            <a:custGeom>
              <a:avLst/>
              <a:gdLst/>
              <a:ahLst/>
              <a:rect l="l" t="t" r="r" b="b"/>
              <a:pathLst>
                <a:path w="561" h="270">
                  <a:moveTo>
                    <a:pt x="435" y="12"/>
                  </a:moveTo>
                  <a:lnTo>
                    <a:pt x="450" y="9"/>
                  </a:lnTo>
                  <a:lnTo>
                    <a:pt x="489" y="9"/>
                  </a:lnTo>
                  <a:lnTo>
                    <a:pt x="489" y="15"/>
                  </a:lnTo>
                  <a:lnTo>
                    <a:pt x="492" y="21"/>
                  </a:lnTo>
                  <a:lnTo>
                    <a:pt x="555" y="270"/>
                  </a:lnTo>
                  <a:lnTo>
                    <a:pt x="561" y="270"/>
                  </a:lnTo>
                  <a:lnTo>
                    <a:pt x="549" y="0"/>
                  </a:lnTo>
                  <a:lnTo>
                    <a:pt x="543" y="0"/>
                  </a:lnTo>
                  <a:lnTo>
                    <a:pt x="201" y="21"/>
                  </a:lnTo>
                  <a:lnTo>
                    <a:pt x="192" y="24"/>
                  </a:lnTo>
                  <a:lnTo>
                    <a:pt x="162" y="24"/>
                  </a:lnTo>
                  <a:lnTo>
                    <a:pt x="150" y="27"/>
                  </a:lnTo>
                  <a:lnTo>
                    <a:pt x="120" y="27"/>
                  </a:lnTo>
                  <a:lnTo>
                    <a:pt x="105" y="30"/>
                  </a:lnTo>
                  <a:lnTo>
                    <a:pt x="81" y="30"/>
                  </a:lnTo>
                  <a:lnTo>
                    <a:pt x="63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49" y="27"/>
                  </a:lnTo>
                  <a:lnTo>
                    <a:pt x="267" y="24"/>
                  </a:lnTo>
                  <a:lnTo>
                    <a:pt x="282" y="24"/>
                  </a:lnTo>
                  <a:lnTo>
                    <a:pt x="288" y="24"/>
                  </a:lnTo>
                  <a:lnTo>
                    <a:pt x="303" y="21"/>
                  </a:lnTo>
                  <a:lnTo>
                    <a:pt x="324" y="21"/>
                  </a:lnTo>
                  <a:lnTo>
                    <a:pt x="339" y="18"/>
                  </a:lnTo>
                  <a:lnTo>
                    <a:pt x="360" y="18"/>
                  </a:lnTo>
                  <a:lnTo>
                    <a:pt x="378" y="15"/>
                  </a:lnTo>
                  <a:lnTo>
                    <a:pt x="399" y="15"/>
                  </a:lnTo>
                  <a:lnTo>
                    <a:pt x="414" y="12"/>
                  </a:lnTo>
                  <a:lnTo>
                    <a:pt x="43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3319"/>
            <p:cNvSpPr/>
            <p:nvPr/>
          </p:nvSpPr>
          <p:spPr>
            <a:xfrm flipH="1">
              <a:off x="10959840" y="2235240"/>
              <a:ext cx="79200" cy="6120"/>
            </a:xfrm>
            <a:custGeom>
              <a:avLst/>
              <a:gdLst/>
              <a:ahLst/>
              <a:rect l="l" t="t" r="r" b="b"/>
              <a:pathLst>
                <a:path w="150" h="12">
                  <a:moveTo>
                    <a:pt x="111" y="0"/>
                  </a:moveTo>
                  <a:lnTo>
                    <a:pt x="96" y="3"/>
                  </a:lnTo>
                  <a:lnTo>
                    <a:pt x="75" y="3"/>
                  </a:lnTo>
                  <a:lnTo>
                    <a:pt x="60" y="6"/>
                  </a:lnTo>
                  <a:lnTo>
                    <a:pt x="39" y="6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47" y="6"/>
                  </a:lnTo>
                  <a:lnTo>
                    <a:pt x="150" y="6"/>
                  </a:lnTo>
                  <a:lnTo>
                    <a:pt x="15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3320"/>
            <p:cNvSpPr/>
            <p:nvPr/>
          </p:nvSpPr>
          <p:spPr>
            <a:xfrm flipH="1">
              <a:off x="10957680" y="2238480"/>
              <a:ext cx="3240" cy="2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3"/>
                  </a:moveTo>
                  <a:lnTo>
                    <a:pt x="6" y="6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3321"/>
            <p:cNvSpPr/>
            <p:nvPr/>
          </p:nvSpPr>
          <p:spPr>
            <a:xfrm flipH="1">
              <a:off x="10931040" y="2227320"/>
              <a:ext cx="447840" cy="31680"/>
            </a:xfrm>
            <a:custGeom>
              <a:avLst/>
              <a:gdLst/>
              <a:ahLst/>
              <a:rect l="l" t="t" r="r" b="b"/>
              <a:pathLst>
                <a:path w="846" h="60">
                  <a:moveTo>
                    <a:pt x="846" y="3"/>
                  </a:moveTo>
                  <a:lnTo>
                    <a:pt x="843" y="0"/>
                  </a:lnTo>
                  <a:lnTo>
                    <a:pt x="0" y="60"/>
                  </a:lnTo>
                  <a:lnTo>
                    <a:pt x="105" y="57"/>
                  </a:lnTo>
                  <a:lnTo>
                    <a:pt x="114" y="54"/>
                  </a:lnTo>
                  <a:lnTo>
                    <a:pt x="192" y="51"/>
                  </a:lnTo>
                  <a:lnTo>
                    <a:pt x="225" y="48"/>
                  </a:lnTo>
                  <a:lnTo>
                    <a:pt x="234" y="48"/>
                  </a:lnTo>
                  <a:lnTo>
                    <a:pt x="264" y="45"/>
                  </a:lnTo>
                  <a:lnTo>
                    <a:pt x="279" y="45"/>
                  </a:lnTo>
                  <a:lnTo>
                    <a:pt x="303" y="42"/>
                  </a:lnTo>
                  <a:lnTo>
                    <a:pt x="366" y="39"/>
                  </a:lnTo>
                  <a:lnTo>
                    <a:pt x="384" y="36"/>
                  </a:lnTo>
                  <a:lnTo>
                    <a:pt x="408" y="36"/>
                  </a:lnTo>
                  <a:lnTo>
                    <a:pt x="423" y="33"/>
                  </a:lnTo>
                  <a:lnTo>
                    <a:pt x="453" y="33"/>
                  </a:lnTo>
                  <a:lnTo>
                    <a:pt x="465" y="30"/>
                  </a:lnTo>
                  <a:lnTo>
                    <a:pt x="495" y="30"/>
                  </a:lnTo>
                  <a:lnTo>
                    <a:pt x="504" y="27"/>
                  </a:lnTo>
                  <a:lnTo>
                    <a:pt x="846" y="6"/>
                  </a:lnTo>
                  <a:lnTo>
                    <a:pt x="84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Rectangle 3322"/>
            <p:cNvSpPr/>
            <p:nvPr/>
          </p:nvSpPr>
          <p:spPr>
            <a:xfrm flipH="1">
              <a:off x="10927440" y="2228760"/>
              <a:ext cx="324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3323"/>
            <p:cNvSpPr/>
            <p:nvPr/>
          </p:nvSpPr>
          <p:spPr>
            <a:xfrm flipH="1">
              <a:off x="11077200" y="2243160"/>
              <a:ext cx="9360" cy="14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lnTo>
                    <a:pt x="18" y="3"/>
                  </a:lnTo>
                  <a:lnTo>
                    <a:pt x="1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3324"/>
            <p:cNvSpPr/>
            <p:nvPr/>
          </p:nvSpPr>
          <p:spPr>
            <a:xfrm flipH="1">
              <a:off x="11069280" y="224316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0" y="0"/>
                  </a:moveTo>
                  <a:lnTo>
                    <a:pt x="0" y="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3325"/>
            <p:cNvSpPr/>
            <p:nvPr/>
          </p:nvSpPr>
          <p:spPr>
            <a:xfrm flipH="1">
              <a:off x="11040120" y="2241360"/>
              <a:ext cx="17640" cy="180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2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3326"/>
            <p:cNvSpPr/>
            <p:nvPr/>
          </p:nvSpPr>
          <p:spPr>
            <a:xfrm flipH="1">
              <a:off x="11058120" y="224136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0" y="3"/>
                  </a:lnTo>
                  <a:lnTo>
                    <a:pt x="15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327"/>
            <p:cNvSpPr/>
            <p:nvPr/>
          </p:nvSpPr>
          <p:spPr>
            <a:xfrm flipH="1">
              <a:off x="11039040" y="223992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1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328"/>
            <p:cNvSpPr/>
            <p:nvPr/>
          </p:nvSpPr>
          <p:spPr>
            <a:xfrm flipH="1">
              <a:off x="10995840" y="2266920"/>
              <a:ext cx="220680" cy="22320"/>
            </a:xfrm>
            <a:custGeom>
              <a:avLst/>
              <a:gdLst/>
              <a:ahLst/>
              <a:rect l="l" t="t" r="r" b="b"/>
              <a:pathLst>
                <a:path w="417" h="42">
                  <a:moveTo>
                    <a:pt x="417" y="3"/>
                  </a:moveTo>
                  <a:lnTo>
                    <a:pt x="414" y="0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4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3329"/>
            <p:cNvSpPr/>
            <p:nvPr/>
          </p:nvSpPr>
          <p:spPr>
            <a:xfrm flipH="1">
              <a:off x="10989720" y="2263680"/>
              <a:ext cx="7920" cy="46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6"/>
                  </a:moveTo>
                  <a:lnTo>
                    <a:pt x="3" y="9"/>
                  </a:lnTo>
                  <a:lnTo>
                    <a:pt x="15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3330"/>
            <p:cNvSpPr/>
            <p:nvPr/>
          </p:nvSpPr>
          <p:spPr>
            <a:xfrm flipH="1">
              <a:off x="10921320" y="2373480"/>
              <a:ext cx="3240" cy="140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3331"/>
            <p:cNvSpPr/>
            <p:nvPr/>
          </p:nvSpPr>
          <p:spPr>
            <a:xfrm flipH="1">
              <a:off x="10921320" y="2360520"/>
              <a:ext cx="144360" cy="33480"/>
            </a:xfrm>
            <a:custGeom>
              <a:avLst/>
              <a:gdLst/>
              <a:ahLst/>
              <a:rect l="l" t="t" r="r" b="b"/>
              <a:pathLst>
                <a:path w="273" h="63">
                  <a:moveTo>
                    <a:pt x="267" y="63"/>
                  </a:moveTo>
                  <a:lnTo>
                    <a:pt x="273" y="54"/>
                  </a:lnTo>
                  <a:lnTo>
                    <a:pt x="0" y="0"/>
                  </a:lnTo>
                  <a:lnTo>
                    <a:pt x="26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3332"/>
            <p:cNvSpPr/>
            <p:nvPr/>
          </p:nvSpPr>
          <p:spPr>
            <a:xfrm flipH="1">
              <a:off x="11227680" y="2251080"/>
              <a:ext cx="11160" cy="144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0"/>
                  </a:moveTo>
                  <a:lnTo>
                    <a:pt x="0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1" name="Group 3333"/>
          <p:cNvGrpSpPr/>
          <p:nvPr/>
        </p:nvGrpSpPr>
        <p:grpSpPr>
          <a:xfrm>
            <a:off x="11139120" y="2190600"/>
            <a:ext cx="663480" cy="193680"/>
            <a:chOff x="11139120" y="2190600"/>
            <a:chExt cx="663480" cy="193680"/>
          </a:xfrm>
        </p:grpSpPr>
        <p:sp>
          <p:nvSpPr>
            <p:cNvPr id="2712" name="Freeform 3334"/>
            <p:cNvSpPr/>
            <p:nvPr/>
          </p:nvSpPr>
          <p:spPr>
            <a:xfrm flipH="1">
              <a:off x="11784960" y="225720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3335"/>
            <p:cNvSpPr/>
            <p:nvPr/>
          </p:nvSpPr>
          <p:spPr>
            <a:xfrm flipH="1">
              <a:off x="11289960" y="2230200"/>
              <a:ext cx="504720" cy="47520"/>
            </a:xfrm>
            <a:custGeom>
              <a:avLst/>
              <a:gdLst/>
              <a:ahLst/>
              <a:rect l="l" t="t" r="r" b="b"/>
              <a:pathLst>
                <a:path w="954" h="90">
                  <a:moveTo>
                    <a:pt x="18" y="51"/>
                  </a:moveTo>
                  <a:lnTo>
                    <a:pt x="9" y="54"/>
                  </a:lnTo>
                  <a:lnTo>
                    <a:pt x="0" y="54"/>
                  </a:lnTo>
                  <a:lnTo>
                    <a:pt x="486" y="90"/>
                  </a:lnTo>
                  <a:lnTo>
                    <a:pt x="900" y="51"/>
                  </a:lnTo>
                  <a:lnTo>
                    <a:pt x="909" y="48"/>
                  </a:lnTo>
                  <a:lnTo>
                    <a:pt x="921" y="33"/>
                  </a:lnTo>
                  <a:lnTo>
                    <a:pt x="951" y="9"/>
                  </a:lnTo>
                  <a:lnTo>
                    <a:pt x="954" y="6"/>
                  </a:lnTo>
                  <a:lnTo>
                    <a:pt x="954" y="3"/>
                  </a:lnTo>
                  <a:lnTo>
                    <a:pt x="951" y="0"/>
                  </a:lnTo>
                  <a:lnTo>
                    <a:pt x="798" y="9"/>
                  </a:lnTo>
                  <a:lnTo>
                    <a:pt x="789" y="9"/>
                  </a:lnTo>
                  <a:lnTo>
                    <a:pt x="762" y="12"/>
                  </a:lnTo>
                  <a:lnTo>
                    <a:pt x="747" y="12"/>
                  </a:lnTo>
                  <a:lnTo>
                    <a:pt x="738" y="12"/>
                  </a:lnTo>
                  <a:lnTo>
                    <a:pt x="726" y="15"/>
                  </a:lnTo>
                  <a:lnTo>
                    <a:pt x="711" y="15"/>
                  </a:lnTo>
                  <a:lnTo>
                    <a:pt x="516" y="24"/>
                  </a:lnTo>
                  <a:lnTo>
                    <a:pt x="510" y="24"/>
                  </a:lnTo>
                  <a:lnTo>
                    <a:pt x="477" y="27"/>
                  </a:lnTo>
                  <a:lnTo>
                    <a:pt x="456" y="27"/>
                  </a:lnTo>
                  <a:lnTo>
                    <a:pt x="438" y="30"/>
                  </a:lnTo>
                  <a:lnTo>
                    <a:pt x="411" y="30"/>
                  </a:lnTo>
                  <a:lnTo>
                    <a:pt x="345" y="33"/>
                  </a:lnTo>
                  <a:lnTo>
                    <a:pt x="327" y="36"/>
                  </a:lnTo>
                  <a:lnTo>
                    <a:pt x="291" y="36"/>
                  </a:lnTo>
                  <a:lnTo>
                    <a:pt x="282" y="39"/>
                  </a:lnTo>
                  <a:lnTo>
                    <a:pt x="138" y="45"/>
                  </a:lnTo>
                  <a:lnTo>
                    <a:pt x="129" y="45"/>
                  </a:lnTo>
                  <a:lnTo>
                    <a:pt x="96" y="48"/>
                  </a:lnTo>
                  <a:lnTo>
                    <a:pt x="72" y="48"/>
                  </a:lnTo>
                  <a:lnTo>
                    <a:pt x="54" y="51"/>
                  </a:lnTo>
                  <a:lnTo>
                    <a:pt x="21" y="51"/>
                  </a:lnTo>
                  <a:lnTo>
                    <a:pt x="18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3336"/>
            <p:cNvSpPr/>
            <p:nvPr/>
          </p:nvSpPr>
          <p:spPr>
            <a:xfrm flipH="1">
              <a:off x="11789640" y="225720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3337"/>
            <p:cNvSpPr/>
            <p:nvPr/>
          </p:nvSpPr>
          <p:spPr>
            <a:xfrm flipH="1">
              <a:off x="11756160" y="2261880"/>
              <a:ext cx="42840" cy="6480"/>
            </a:xfrm>
            <a:custGeom>
              <a:avLst/>
              <a:gdLst/>
              <a:ahLst/>
              <a:rect l="l" t="t" r="r" b="b"/>
              <a:pathLst>
                <a:path w="81" h="12">
                  <a:moveTo>
                    <a:pt x="12" y="0"/>
                  </a:moveTo>
                  <a:lnTo>
                    <a:pt x="0" y="6"/>
                  </a:lnTo>
                  <a:lnTo>
                    <a:pt x="27" y="12"/>
                  </a:lnTo>
                  <a:lnTo>
                    <a:pt x="39" y="12"/>
                  </a:lnTo>
                  <a:lnTo>
                    <a:pt x="54" y="9"/>
                  </a:lnTo>
                  <a:lnTo>
                    <a:pt x="75" y="9"/>
                  </a:lnTo>
                  <a:lnTo>
                    <a:pt x="81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3338"/>
            <p:cNvSpPr/>
            <p:nvPr/>
          </p:nvSpPr>
          <p:spPr>
            <a:xfrm flipH="1">
              <a:off x="11537640" y="2258640"/>
              <a:ext cx="264960" cy="20520"/>
            </a:xfrm>
            <a:custGeom>
              <a:avLst/>
              <a:gdLst/>
              <a:ahLst/>
              <a:rect l="l" t="t" r="r" b="b"/>
              <a:pathLst>
                <a:path w="501" h="39">
                  <a:moveTo>
                    <a:pt x="0" y="0"/>
                  </a:moveTo>
                  <a:lnTo>
                    <a:pt x="18" y="6"/>
                  </a:lnTo>
                  <a:lnTo>
                    <a:pt x="87" y="12"/>
                  </a:lnTo>
                  <a:lnTo>
                    <a:pt x="96" y="12"/>
                  </a:lnTo>
                  <a:lnTo>
                    <a:pt x="501" y="39"/>
                  </a:lnTo>
                  <a:lnTo>
                    <a:pt x="501" y="36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3339"/>
            <p:cNvSpPr/>
            <p:nvPr/>
          </p:nvSpPr>
          <p:spPr>
            <a:xfrm flipH="1">
              <a:off x="11253600" y="2233440"/>
              <a:ext cx="544320" cy="145800"/>
            </a:xfrm>
            <a:custGeom>
              <a:avLst/>
              <a:gdLst/>
              <a:ahLst/>
              <a:rect l="l" t="t" r="r" b="b"/>
              <a:pathLst>
                <a:path w="1029" h="276">
                  <a:moveTo>
                    <a:pt x="36" y="66"/>
                  </a:moveTo>
                  <a:lnTo>
                    <a:pt x="24" y="66"/>
                  </a:lnTo>
                  <a:lnTo>
                    <a:pt x="15" y="66"/>
                  </a:lnTo>
                  <a:lnTo>
                    <a:pt x="0" y="69"/>
                  </a:lnTo>
                  <a:lnTo>
                    <a:pt x="729" y="219"/>
                  </a:lnTo>
                  <a:lnTo>
                    <a:pt x="738" y="222"/>
                  </a:lnTo>
                  <a:lnTo>
                    <a:pt x="744" y="222"/>
                  </a:lnTo>
                  <a:lnTo>
                    <a:pt x="753" y="225"/>
                  </a:lnTo>
                  <a:lnTo>
                    <a:pt x="756" y="225"/>
                  </a:lnTo>
                  <a:lnTo>
                    <a:pt x="768" y="228"/>
                  </a:lnTo>
                  <a:lnTo>
                    <a:pt x="771" y="228"/>
                  </a:lnTo>
                  <a:lnTo>
                    <a:pt x="1026" y="276"/>
                  </a:lnTo>
                  <a:lnTo>
                    <a:pt x="1029" y="276"/>
                  </a:lnTo>
                  <a:lnTo>
                    <a:pt x="1026" y="252"/>
                  </a:lnTo>
                  <a:lnTo>
                    <a:pt x="966" y="3"/>
                  </a:lnTo>
                  <a:lnTo>
                    <a:pt x="960" y="0"/>
                  </a:lnTo>
                  <a:lnTo>
                    <a:pt x="957" y="3"/>
                  </a:lnTo>
                  <a:lnTo>
                    <a:pt x="927" y="27"/>
                  </a:lnTo>
                  <a:lnTo>
                    <a:pt x="915" y="42"/>
                  </a:lnTo>
                  <a:lnTo>
                    <a:pt x="909" y="48"/>
                  </a:lnTo>
                  <a:lnTo>
                    <a:pt x="492" y="87"/>
                  </a:lnTo>
                  <a:lnTo>
                    <a:pt x="87" y="60"/>
                  </a:lnTo>
                  <a:lnTo>
                    <a:pt x="72" y="63"/>
                  </a:lnTo>
                  <a:lnTo>
                    <a:pt x="51" y="63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3340"/>
            <p:cNvSpPr/>
            <p:nvPr/>
          </p:nvSpPr>
          <p:spPr>
            <a:xfrm flipH="1">
              <a:off x="11751840" y="226512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3341"/>
            <p:cNvSpPr/>
            <p:nvPr/>
          </p:nvSpPr>
          <p:spPr>
            <a:xfrm flipH="1">
              <a:off x="11147040" y="2190600"/>
              <a:ext cx="636480" cy="66600"/>
            </a:xfrm>
            <a:custGeom>
              <a:avLst/>
              <a:gdLst/>
              <a:ahLst/>
              <a:rect l="l" t="t" r="r" b="b"/>
              <a:pathLst>
                <a:path w="1203" h="126">
                  <a:moveTo>
                    <a:pt x="108" y="120"/>
                  </a:moveTo>
                  <a:lnTo>
                    <a:pt x="117" y="120"/>
                  </a:lnTo>
                  <a:lnTo>
                    <a:pt x="984" y="57"/>
                  </a:lnTo>
                  <a:lnTo>
                    <a:pt x="1203" y="0"/>
                  </a:lnTo>
                  <a:lnTo>
                    <a:pt x="888" y="6"/>
                  </a:lnTo>
                  <a:lnTo>
                    <a:pt x="0" y="126"/>
                  </a:lnTo>
                  <a:lnTo>
                    <a:pt x="33" y="126"/>
                  </a:lnTo>
                  <a:lnTo>
                    <a:pt x="51" y="123"/>
                  </a:lnTo>
                  <a:lnTo>
                    <a:pt x="75" y="123"/>
                  </a:lnTo>
                  <a:lnTo>
                    <a:pt x="108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342"/>
            <p:cNvSpPr/>
            <p:nvPr/>
          </p:nvSpPr>
          <p:spPr>
            <a:xfrm flipH="1">
              <a:off x="11259360" y="2222280"/>
              <a:ext cx="180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3343"/>
            <p:cNvSpPr/>
            <p:nvPr/>
          </p:nvSpPr>
          <p:spPr>
            <a:xfrm flipH="1">
              <a:off x="11139120" y="2190600"/>
              <a:ext cx="123840" cy="31680"/>
            </a:xfrm>
            <a:custGeom>
              <a:avLst/>
              <a:gdLst/>
              <a:ahLst/>
              <a:rect l="l" t="t" r="r" b="b"/>
              <a:pathLst>
                <a:path w="234" h="60">
                  <a:moveTo>
                    <a:pt x="234" y="3"/>
                  </a:moveTo>
                  <a:lnTo>
                    <a:pt x="219" y="0"/>
                  </a:lnTo>
                  <a:lnTo>
                    <a:pt x="0" y="57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216" y="9"/>
                  </a:lnTo>
                  <a:lnTo>
                    <a:pt x="23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344"/>
            <p:cNvSpPr/>
            <p:nvPr/>
          </p:nvSpPr>
          <p:spPr>
            <a:xfrm flipH="1">
              <a:off x="11253240" y="2223720"/>
              <a:ext cx="268200" cy="142920"/>
            </a:xfrm>
            <a:custGeom>
              <a:avLst/>
              <a:gdLst/>
              <a:ahLst/>
              <a:rect l="l" t="t" r="r" b="b"/>
              <a:pathLst>
                <a:path w="507" h="270">
                  <a:moveTo>
                    <a:pt x="495" y="0"/>
                  </a:moveTo>
                  <a:lnTo>
                    <a:pt x="492" y="0"/>
                  </a:lnTo>
                  <a:lnTo>
                    <a:pt x="159" y="21"/>
                  </a:lnTo>
                  <a:lnTo>
                    <a:pt x="150" y="24"/>
                  </a:lnTo>
                  <a:lnTo>
                    <a:pt x="120" y="24"/>
                  </a:lnTo>
                  <a:lnTo>
                    <a:pt x="108" y="27"/>
                  </a:lnTo>
                  <a:lnTo>
                    <a:pt x="81" y="27"/>
                  </a:lnTo>
                  <a:lnTo>
                    <a:pt x="66" y="30"/>
                  </a:lnTo>
                  <a:lnTo>
                    <a:pt x="39" y="30"/>
                  </a:lnTo>
                  <a:lnTo>
                    <a:pt x="24" y="33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95" y="27"/>
                  </a:lnTo>
                  <a:lnTo>
                    <a:pt x="210" y="24"/>
                  </a:lnTo>
                  <a:lnTo>
                    <a:pt x="222" y="24"/>
                  </a:lnTo>
                  <a:lnTo>
                    <a:pt x="231" y="24"/>
                  </a:lnTo>
                  <a:lnTo>
                    <a:pt x="246" y="21"/>
                  </a:lnTo>
                  <a:lnTo>
                    <a:pt x="267" y="21"/>
                  </a:lnTo>
                  <a:lnTo>
                    <a:pt x="282" y="18"/>
                  </a:lnTo>
                  <a:lnTo>
                    <a:pt x="303" y="18"/>
                  </a:lnTo>
                  <a:lnTo>
                    <a:pt x="318" y="15"/>
                  </a:lnTo>
                  <a:lnTo>
                    <a:pt x="339" y="15"/>
                  </a:lnTo>
                  <a:lnTo>
                    <a:pt x="354" y="12"/>
                  </a:lnTo>
                  <a:lnTo>
                    <a:pt x="375" y="12"/>
                  </a:lnTo>
                  <a:lnTo>
                    <a:pt x="390" y="9"/>
                  </a:lnTo>
                  <a:lnTo>
                    <a:pt x="411" y="9"/>
                  </a:lnTo>
                  <a:lnTo>
                    <a:pt x="426" y="6"/>
                  </a:lnTo>
                  <a:lnTo>
                    <a:pt x="441" y="12"/>
                  </a:lnTo>
                  <a:lnTo>
                    <a:pt x="444" y="21"/>
                  </a:lnTo>
                  <a:lnTo>
                    <a:pt x="504" y="270"/>
                  </a:lnTo>
                  <a:lnTo>
                    <a:pt x="507" y="255"/>
                  </a:lnTo>
                  <a:lnTo>
                    <a:pt x="4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345"/>
            <p:cNvSpPr/>
            <p:nvPr/>
          </p:nvSpPr>
          <p:spPr>
            <a:xfrm flipH="1">
              <a:off x="11261520" y="2220480"/>
              <a:ext cx="460080" cy="33480"/>
            </a:xfrm>
            <a:custGeom>
              <a:avLst/>
              <a:gdLst/>
              <a:ahLst/>
              <a:rect l="l" t="t" r="r" b="b"/>
              <a:pathLst>
                <a:path w="870" h="63">
                  <a:moveTo>
                    <a:pt x="870" y="6"/>
                  </a:moveTo>
                  <a:lnTo>
                    <a:pt x="870" y="3"/>
                  </a:lnTo>
                  <a:lnTo>
                    <a:pt x="867" y="0"/>
                  </a:lnTo>
                  <a:lnTo>
                    <a:pt x="0" y="63"/>
                  </a:lnTo>
                  <a:lnTo>
                    <a:pt x="144" y="57"/>
                  </a:lnTo>
                  <a:lnTo>
                    <a:pt x="153" y="54"/>
                  </a:lnTo>
                  <a:lnTo>
                    <a:pt x="189" y="54"/>
                  </a:lnTo>
                  <a:lnTo>
                    <a:pt x="207" y="51"/>
                  </a:lnTo>
                  <a:lnTo>
                    <a:pt x="273" y="48"/>
                  </a:lnTo>
                  <a:lnTo>
                    <a:pt x="300" y="45"/>
                  </a:lnTo>
                  <a:lnTo>
                    <a:pt x="315" y="45"/>
                  </a:lnTo>
                  <a:lnTo>
                    <a:pt x="339" y="42"/>
                  </a:lnTo>
                  <a:lnTo>
                    <a:pt x="357" y="42"/>
                  </a:lnTo>
                  <a:lnTo>
                    <a:pt x="378" y="39"/>
                  </a:lnTo>
                  <a:lnTo>
                    <a:pt x="402" y="39"/>
                  </a:lnTo>
                  <a:lnTo>
                    <a:pt x="417" y="36"/>
                  </a:lnTo>
                  <a:lnTo>
                    <a:pt x="444" y="36"/>
                  </a:lnTo>
                  <a:lnTo>
                    <a:pt x="459" y="33"/>
                  </a:lnTo>
                  <a:lnTo>
                    <a:pt x="486" y="33"/>
                  </a:lnTo>
                  <a:lnTo>
                    <a:pt x="498" y="30"/>
                  </a:lnTo>
                  <a:lnTo>
                    <a:pt x="528" y="30"/>
                  </a:lnTo>
                  <a:lnTo>
                    <a:pt x="537" y="27"/>
                  </a:lnTo>
                  <a:lnTo>
                    <a:pt x="87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346"/>
            <p:cNvSpPr/>
            <p:nvPr/>
          </p:nvSpPr>
          <p:spPr>
            <a:xfrm flipH="1">
              <a:off x="11372400" y="223344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6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47"/>
            <p:cNvSpPr/>
            <p:nvPr/>
          </p:nvSpPr>
          <p:spPr>
            <a:xfrm flipH="1">
              <a:off x="11288160" y="2226960"/>
              <a:ext cx="83880" cy="7920"/>
            </a:xfrm>
            <a:custGeom>
              <a:avLst/>
              <a:gdLst/>
              <a:ahLst/>
              <a:rect l="l" t="t" r="r" b="b"/>
              <a:pathLst>
                <a:path w="159" h="15">
                  <a:moveTo>
                    <a:pt x="0" y="12"/>
                  </a:moveTo>
                  <a:lnTo>
                    <a:pt x="0" y="15"/>
                  </a:lnTo>
                  <a:lnTo>
                    <a:pt x="153" y="6"/>
                  </a:lnTo>
                  <a:lnTo>
                    <a:pt x="156" y="6"/>
                  </a:lnTo>
                  <a:lnTo>
                    <a:pt x="159" y="6"/>
                  </a:lnTo>
                  <a:lnTo>
                    <a:pt x="144" y="0"/>
                  </a:lnTo>
                  <a:lnTo>
                    <a:pt x="129" y="3"/>
                  </a:lnTo>
                  <a:lnTo>
                    <a:pt x="108" y="3"/>
                  </a:lnTo>
                  <a:lnTo>
                    <a:pt x="93" y="6"/>
                  </a:lnTo>
                  <a:lnTo>
                    <a:pt x="72" y="6"/>
                  </a:lnTo>
                  <a:lnTo>
                    <a:pt x="57" y="9"/>
                  </a:lnTo>
                  <a:lnTo>
                    <a:pt x="36" y="9"/>
                  </a:lnTo>
                  <a:lnTo>
                    <a:pt x="2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48"/>
            <p:cNvSpPr/>
            <p:nvPr/>
          </p:nvSpPr>
          <p:spPr>
            <a:xfrm flipH="1">
              <a:off x="11377080" y="2234880"/>
              <a:ext cx="1404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27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3349"/>
            <p:cNvSpPr/>
            <p:nvPr/>
          </p:nvSpPr>
          <p:spPr>
            <a:xfrm flipH="1">
              <a:off x="11286360" y="2230200"/>
              <a:ext cx="3240" cy="468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lnTo>
                    <a:pt x="6" y="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50"/>
            <p:cNvSpPr/>
            <p:nvPr/>
          </p:nvSpPr>
          <p:spPr>
            <a:xfrm flipH="1">
              <a:off x="11289960" y="2230200"/>
              <a:ext cx="1440" cy="14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3351"/>
            <p:cNvSpPr/>
            <p:nvPr/>
          </p:nvSpPr>
          <p:spPr>
            <a:xfrm flipH="1">
              <a:off x="11313360" y="2255400"/>
              <a:ext cx="4680" cy="32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6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3352"/>
            <p:cNvSpPr/>
            <p:nvPr/>
          </p:nvSpPr>
          <p:spPr>
            <a:xfrm flipH="1">
              <a:off x="11316600" y="2257200"/>
              <a:ext cx="220680" cy="21960"/>
            </a:xfrm>
            <a:custGeom>
              <a:avLst/>
              <a:gdLst/>
              <a:ahLst/>
              <a:rect l="l" t="t" r="r" b="b"/>
              <a:pathLst>
                <a:path w="417" h="42">
                  <a:moveTo>
                    <a:pt x="417" y="3"/>
                  </a:moveTo>
                  <a:lnTo>
                    <a:pt x="414" y="0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41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3353"/>
            <p:cNvSpPr/>
            <p:nvPr/>
          </p:nvSpPr>
          <p:spPr>
            <a:xfrm flipH="1">
              <a:off x="11253600" y="2379240"/>
              <a:ext cx="1440" cy="1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354"/>
            <p:cNvSpPr/>
            <p:nvPr/>
          </p:nvSpPr>
          <p:spPr>
            <a:xfrm flipH="1">
              <a:off x="11251800" y="2354040"/>
              <a:ext cx="138240" cy="30240"/>
            </a:xfrm>
            <a:custGeom>
              <a:avLst/>
              <a:gdLst/>
              <a:ahLst/>
              <a:rect l="l" t="t" r="r" b="b"/>
              <a:pathLst>
                <a:path w="261" h="57">
                  <a:moveTo>
                    <a:pt x="243" y="57"/>
                  </a:moveTo>
                  <a:lnTo>
                    <a:pt x="261" y="51"/>
                  </a:lnTo>
                  <a:lnTo>
                    <a:pt x="258" y="51"/>
                  </a:lnTo>
                  <a:lnTo>
                    <a:pt x="255" y="48"/>
                  </a:lnTo>
                  <a:lnTo>
                    <a:pt x="0" y="0"/>
                  </a:lnTo>
                  <a:lnTo>
                    <a:pt x="243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355"/>
            <p:cNvSpPr/>
            <p:nvPr/>
          </p:nvSpPr>
          <p:spPr>
            <a:xfrm flipH="1">
              <a:off x="11251440" y="2358720"/>
              <a:ext cx="3240" cy="223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3" y="39"/>
                  </a:moveTo>
                  <a:lnTo>
                    <a:pt x="3" y="42"/>
                  </a:lnTo>
                  <a:lnTo>
                    <a:pt x="6" y="42"/>
                  </a:lnTo>
                  <a:lnTo>
                    <a:pt x="3" y="0"/>
                  </a:lnTo>
                  <a:lnTo>
                    <a:pt x="0" y="15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356"/>
            <p:cNvSpPr/>
            <p:nvPr/>
          </p:nvSpPr>
          <p:spPr>
            <a:xfrm flipH="1">
              <a:off x="11410560" y="2236320"/>
              <a:ext cx="7920" cy="1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357"/>
            <p:cNvSpPr/>
            <p:nvPr/>
          </p:nvSpPr>
          <p:spPr>
            <a:xfrm flipH="1">
              <a:off x="11404080" y="223632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0" y="3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Freeform 3358"/>
            <p:cNvSpPr/>
            <p:nvPr/>
          </p:nvSpPr>
          <p:spPr>
            <a:xfrm flipH="1">
              <a:off x="11391480" y="2234880"/>
              <a:ext cx="7920" cy="144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3"/>
                  </a:moveTo>
                  <a:lnTo>
                    <a:pt x="15" y="0"/>
                  </a:lnTo>
                  <a:lnTo>
                    <a:pt x="0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Freeform 3359"/>
            <p:cNvSpPr/>
            <p:nvPr/>
          </p:nvSpPr>
          <p:spPr>
            <a:xfrm flipH="1">
              <a:off x="11553480" y="2244240"/>
              <a:ext cx="9360" cy="180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0" y="3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3360"/>
            <p:cNvSpPr/>
            <p:nvPr/>
          </p:nvSpPr>
          <p:spPr>
            <a:xfrm flipH="1">
              <a:off x="11525040" y="2242800"/>
              <a:ext cx="17280" cy="1440"/>
            </a:xfrm>
            <a:custGeom>
              <a:avLst/>
              <a:gdLst/>
              <a:ahLst/>
              <a:rect l="l" t="t" r="r" b="b"/>
              <a:pathLst>
                <a:path w="33" h="3">
                  <a:moveTo>
                    <a:pt x="0" y="3"/>
                  </a:moveTo>
                  <a:lnTo>
                    <a:pt x="33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9" name="Group 3361"/>
          <p:cNvGrpSpPr/>
          <p:nvPr/>
        </p:nvGrpSpPr>
        <p:grpSpPr>
          <a:xfrm>
            <a:off x="11522160" y="2198520"/>
            <a:ext cx="658800" cy="191880"/>
            <a:chOff x="11522160" y="2198520"/>
            <a:chExt cx="658800" cy="191880"/>
          </a:xfrm>
        </p:grpSpPr>
        <p:sp>
          <p:nvSpPr>
            <p:cNvPr id="2740" name="Freeform 3362"/>
            <p:cNvSpPr/>
            <p:nvPr/>
          </p:nvSpPr>
          <p:spPr>
            <a:xfrm flipH="1">
              <a:off x="11664720" y="2236320"/>
              <a:ext cx="506520" cy="44640"/>
            </a:xfrm>
            <a:custGeom>
              <a:avLst/>
              <a:gdLst/>
              <a:ahLst/>
              <a:rect l="l" t="t" r="r" b="b"/>
              <a:pathLst>
                <a:path w="957" h="84">
                  <a:moveTo>
                    <a:pt x="183" y="42"/>
                  </a:moveTo>
                  <a:lnTo>
                    <a:pt x="126" y="45"/>
                  </a:lnTo>
                  <a:lnTo>
                    <a:pt x="96" y="48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504" y="84"/>
                  </a:lnTo>
                  <a:lnTo>
                    <a:pt x="912" y="48"/>
                  </a:lnTo>
                  <a:lnTo>
                    <a:pt x="918" y="45"/>
                  </a:lnTo>
                  <a:lnTo>
                    <a:pt x="957" y="6"/>
                  </a:lnTo>
                  <a:lnTo>
                    <a:pt x="957" y="0"/>
                  </a:lnTo>
                  <a:lnTo>
                    <a:pt x="795" y="9"/>
                  </a:lnTo>
                  <a:lnTo>
                    <a:pt x="786" y="9"/>
                  </a:lnTo>
                  <a:lnTo>
                    <a:pt x="759" y="12"/>
                  </a:lnTo>
                  <a:lnTo>
                    <a:pt x="747" y="12"/>
                  </a:lnTo>
                  <a:lnTo>
                    <a:pt x="732" y="12"/>
                  </a:lnTo>
                  <a:lnTo>
                    <a:pt x="723" y="15"/>
                  </a:lnTo>
                  <a:lnTo>
                    <a:pt x="711" y="15"/>
                  </a:lnTo>
                  <a:lnTo>
                    <a:pt x="564" y="21"/>
                  </a:lnTo>
                  <a:lnTo>
                    <a:pt x="561" y="21"/>
                  </a:lnTo>
                  <a:lnTo>
                    <a:pt x="522" y="24"/>
                  </a:lnTo>
                  <a:lnTo>
                    <a:pt x="507" y="24"/>
                  </a:lnTo>
                  <a:lnTo>
                    <a:pt x="483" y="27"/>
                  </a:lnTo>
                  <a:lnTo>
                    <a:pt x="459" y="27"/>
                  </a:lnTo>
                  <a:lnTo>
                    <a:pt x="450" y="27"/>
                  </a:lnTo>
                  <a:lnTo>
                    <a:pt x="441" y="30"/>
                  </a:lnTo>
                  <a:lnTo>
                    <a:pt x="414" y="30"/>
                  </a:lnTo>
                  <a:lnTo>
                    <a:pt x="342" y="33"/>
                  </a:lnTo>
                  <a:lnTo>
                    <a:pt x="330" y="36"/>
                  </a:lnTo>
                  <a:lnTo>
                    <a:pt x="183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3363"/>
            <p:cNvSpPr/>
            <p:nvPr/>
          </p:nvSpPr>
          <p:spPr>
            <a:xfrm flipH="1">
              <a:off x="11529720" y="2199960"/>
              <a:ext cx="630360" cy="63360"/>
            </a:xfrm>
            <a:custGeom>
              <a:avLst/>
              <a:gdLst/>
              <a:ahLst/>
              <a:rect l="l" t="t" r="r" b="b"/>
              <a:pathLst>
                <a:path w="1191" h="120">
                  <a:moveTo>
                    <a:pt x="105" y="114"/>
                  </a:moveTo>
                  <a:lnTo>
                    <a:pt x="162" y="111"/>
                  </a:lnTo>
                  <a:lnTo>
                    <a:pt x="984" y="54"/>
                  </a:lnTo>
                  <a:lnTo>
                    <a:pt x="1191" y="0"/>
                  </a:lnTo>
                  <a:lnTo>
                    <a:pt x="876" y="6"/>
                  </a:lnTo>
                  <a:lnTo>
                    <a:pt x="0" y="120"/>
                  </a:lnTo>
                  <a:lnTo>
                    <a:pt x="75" y="117"/>
                  </a:lnTo>
                  <a:lnTo>
                    <a:pt x="105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3364"/>
            <p:cNvSpPr/>
            <p:nvPr/>
          </p:nvSpPr>
          <p:spPr>
            <a:xfrm flipH="1">
              <a:off x="11629800" y="2239560"/>
              <a:ext cx="546120" cy="146160"/>
            </a:xfrm>
            <a:custGeom>
              <a:avLst/>
              <a:gdLst/>
              <a:ahLst/>
              <a:rect l="l" t="t" r="r" b="b"/>
              <a:pathLst>
                <a:path w="1032" h="276">
                  <a:moveTo>
                    <a:pt x="99" y="60"/>
                  </a:moveTo>
                  <a:lnTo>
                    <a:pt x="84" y="60"/>
                  </a:lnTo>
                  <a:lnTo>
                    <a:pt x="72" y="63"/>
                  </a:lnTo>
                  <a:lnTo>
                    <a:pt x="48" y="63"/>
                  </a:lnTo>
                  <a:lnTo>
                    <a:pt x="36" y="66"/>
                  </a:lnTo>
                  <a:lnTo>
                    <a:pt x="24" y="66"/>
                  </a:lnTo>
                  <a:lnTo>
                    <a:pt x="12" y="66"/>
                  </a:lnTo>
                  <a:lnTo>
                    <a:pt x="0" y="69"/>
                  </a:lnTo>
                  <a:lnTo>
                    <a:pt x="711" y="213"/>
                  </a:lnTo>
                  <a:lnTo>
                    <a:pt x="720" y="216"/>
                  </a:lnTo>
                  <a:lnTo>
                    <a:pt x="726" y="216"/>
                  </a:lnTo>
                  <a:lnTo>
                    <a:pt x="735" y="219"/>
                  </a:lnTo>
                  <a:lnTo>
                    <a:pt x="741" y="219"/>
                  </a:lnTo>
                  <a:lnTo>
                    <a:pt x="750" y="222"/>
                  </a:lnTo>
                  <a:lnTo>
                    <a:pt x="753" y="222"/>
                  </a:lnTo>
                  <a:lnTo>
                    <a:pt x="765" y="225"/>
                  </a:lnTo>
                  <a:lnTo>
                    <a:pt x="768" y="225"/>
                  </a:lnTo>
                  <a:lnTo>
                    <a:pt x="1032" y="276"/>
                  </a:lnTo>
                  <a:lnTo>
                    <a:pt x="1032" y="264"/>
                  </a:lnTo>
                  <a:lnTo>
                    <a:pt x="1026" y="240"/>
                  </a:lnTo>
                  <a:lnTo>
                    <a:pt x="1026" y="237"/>
                  </a:lnTo>
                  <a:lnTo>
                    <a:pt x="972" y="0"/>
                  </a:lnTo>
                  <a:lnTo>
                    <a:pt x="966" y="0"/>
                  </a:lnTo>
                  <a:lnTo>
                    <a:pt x="927" y="39"/>
                  </a:lnTo>
                  <a:lnTo>
                    <a:pt x="924" y="42"/>
                  </a:lnTo>
                  <a:lnTo>
                    <a:pt x="513" y="81"/>
                  </a:lnTo>
                  <a:lnTo>
                    <a:pt x="9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3365"/>
            <p:cNvSpPr/>
            <p:nvPr/>
          </p:nvSpPr>
          <p:spPr>
            <a:xfrm flipH="1">
              <a:off x="12123720" y="2268360"/>
              <a:ext cx="54000" cy="612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87" y="6"/>
                  </a:moveTo>
                  <a:lnTo>
                    <a:pt x="102" y="6"/>
                  </a:lnTo>
                  <a:lnTo>
                    <a:pt x="12" y="0"/>
                  </a:lnTo>
                  <a:lnTo>
                    <a:pt x="0" y="6"/>
                  </a:lnTo>
                  <a:lnTo>
                    <a:pt x="27" y="12"/>
                  </a:lnTo>
                  <a:lnTo>
                    <a:pt x="39" y="12"/>
                  </a:lnTo>
                  <a:lnTo>
                    <a:pt x="51" y="9"/>
                  </a:lnTo>
                  <a:lnTo>
                    <a:pt x="75" y="9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3366"/>
            <p:cNvSpPr/>
            <p:nvPr/>
          </p:nvSpPr>
          <p:spPr>
            <a:xfrm flipH="1">
              <a:off x="12161520" y="2263320"/>
              <a:ext cx="4680" cy="180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3367"/>
            <p:cNvSpPr/>
            <p:nvPr/>
          </p:nvSpPr>
          <p:spPr>
            <a:xfrm flipH="1">
              <a:off x="12166560" y="226332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368"/>
            <p:cNvSpPr/>
            <p:nvPr/>
          </p:nvSpPr>
          <p:spPr>
            <a:xfrm flipH="1">
              <a:off x="11904480" y="2265120"/>
              <a:ext cx="276120" cy="17280"/>
            </a:xfrm>
            <a:custGeom>
              <a:avLst/>
              <a:gdLst/>
              <a:ahLst/>
              <a:rect l="l" t="t" r="r" b="b"/>
              <a:pathLst>
                <a:path w="522" h="33">
                  <a:moveTo>
                    <a:pt x="0" y="0"/>
                  </a:moveTo>
                  <a:lnTo>
                    <a:pt x="18" y="6"/>
                  </a:lnTo>
                  <a:lnTo>
                    <a:pt x="108" y="12"/>
                  </a:lnTo>
                  <a:lnTo>
                    <a:pt x="522" y="33"/>
                  </a:lnTo>
                  <a:lnTo>
                    <a:pt x="522" y="3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369"/>
            <p:cNvSpPr/>
            <p:nvPr/>
          </p:nvSpPr>
          <p:spPr>
            <a:xfrm flipH="1">
              <a:off x="11639160" y="2228400"/>
              <a:ext cx="435240" cy="30240"/>
            </a:xfrm>
            <a:custGeom>
              <a:avLst/>
              <a:gdLst/>
              <a:ahLst/>
              <a:rect l="l" t="t" r="r" b="b"/>
              <a:pathLst>
                <a:path w="822" h="57">
                  <a:moveTo>
                    <a:pt x="147" y="51"/>
                  </a:moveTo>
                  <a:lnTo>
                    <a:pt x="159" y="48"/>
                  </a:lnTo>
                  <a:lnTo>
                    <a:pt x="231" y="45"/>
                  </a:lnTo>
                  <a:lnTo>
                    <a:pt x="258" y="42"/>
                  </a:lnTo>
                  <a:lnTo>
                    <a:pt x="267" y="42"/>
                  </a:lnTo>
                  <a:lnTo>
                    <a:pt x="276" y="42"/>
                  </a:lnTo>
                  <a:lnTo>
                    <a:pt x="300" y="39"/>
                  </a:lnTo>
                  <a:lnTo>
                    <a:pt x="318" y="39"/>
                  </a:lnTo>
                  <a:lnTo>
                    <a:pt x="339" y="36"/>
                  </a:lnTo>
                  <a:lnTo>
                    <a:pt x="363" y="36"/>
                  </a:lnTo>
                  <a:lnTo>
                    <a:pt x="381" y="33"/>
                  </a:lnTo>
                  <a:lnTo>
                    <a:pt x="405" y="33"/>
                  </a:lnTo>
                  <a:lnTo>
                    <a:pt x="420" y="30"/>
                  </a:lnTo>
                  <a:lnTo>
                    <a:pt x="450" y="30"/>
                  </a:lnTo>
                  <a:lnTo>
                    <a:pt x="459" y="27"/>
                  </a:lnTo>
                  <a:lnTo>
                    <a:pt x="492" y="27"/>
                  </a:lnTo>
                  <a:lnTo>
                    <a:pt x="501" y="24"/>
                  </a:lnTo>
                  <a:lnTo>
                    <a:pt x="744" y="9"/>
                  </a:lnTo>
                  <a:lnTo>
                    <a:pt x="753" y="9"/>
                  </a:lnTo>
                  <a:lnTo>
                    <a:pt x="822" y="3"/>
                  </a:lnTo>
                  <a:lnTo>
                    <a:pt x="822" y="0"/>
                  </a:lnTo>
                  <a:lnTo>
                    <a:pt x="0" y="57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3370"/>
            <p:cNvSpPr/>
            <p:nvPr/>
          </p:nvSpPr>
          <p:spPr>
            <a:xfrm flipH="1">
              <a:off x="11522160" y="2198520"/>
              <a:ext cx="117360" cy="31680"/>
            </a:xfrm>
            <a:custGeom>
              <a:avLst/>
              <a:gdLst/>
              <a:ahLst/>
              <a:rect l="l" t="t" r="r" b="b"/>
              <a:pathLst>
                <a:path w="222" h="60">
                  <a:moveTo>
                    <a:pt x="213" y="3"/>
                  </a:moveTo>
                  <a:lnTo>
                    <a:pt x="207" y="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222" y="6"/>
                  </a:lnTo>
                  <a:lnTo>
                    <a:pt x="216" y="0"/>
                  </a:lnTo>
                  <a:lnTo>
                    <a:pt x="21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3371"/>
            <p:cNvSpPr/>
            <p:nvPr/>
          </p:nvSpPr>
          <p:spPr>
            <a:xfrm flipH="1">
              <a:off x="11674440" y="223344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3372"/>
            <p:cNvSpPr/>
            <p:nvPr/>
          </p:nvSpPr>
          <p:spPr>
            <a:xfrm flipH="1">
              <a:off x="11630160" y="2230200"/>
              <a:ext cx="46080" cy="135000"/>
            </a:xfrm>
            <a:custGeom>
              <a:avLst/>
              <a:gdLst/>
              <a:ahLst/>
              <a:rect l="l" t="t" r="r" b="b"/>
              <a:pathLst>
                <a:path w="87" h="255">
                  <a:moveTo>
                    <a:pt x="0" y="6"/>
                  </a:moveTo>
                  <a:lnTo>
                    <a:pt x="3" y="6"/>
                  </a:lnTo>
                  <a:lnTo>
                    <a:pt x="24" y="12"/>
                  </a:lnTo>
                  <a:lnTo>
                    <a:pt x="27" y="18"/>
                  </a:lnTo>
                  <a:lnTo>
                    <a:pt x="81" y="255"/>
                  </a:lnTo>
                  <a:lnTo>
                    <a:pt x="87" y="255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3373"/>
            <p:cNvSpPr/>
            <p:nvPr/>
          </p:nvSpPr>
          <p:spPr>
            <a:xfrm flipH="1">
              <a:off x="11661480" y="223632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3374"/>
            <p:cNvSpPr/>
            <p:nvPr/>
          </p:nvSpPr>
          <p:spPr>
            <a:xfrm flipH="1">
              <a:off x="11663640" y="2233440"/>
              <a:ext cx="87120" cy="7920"/>
            </a:xfrm>
            <a:custGeom>
              <a:avLst/>
              <a:gdLst/>
              <a:ahLst/>
              <a:rect l="l" t="t" r="r" b="b"/>
              <a:pathLst>
                <a:path w="165" h="15">
                  <a:moveTo>
                    <a:pt x="162" y="6"/>
                  </a:moveTo>
                  <a:lnTo>
                    <a:pt x="165" y="6"/>
                  </a:lnTo>
                  <a:lnTo>
                    <a:pt x="144" y="0"/>
                  </a:lnTo>
                  <a:lnTo>
                    <a:pt x="132" y="3"/>
                  </a:lnTo>
                  <a:lnTo>
                    <a:pt x="108" y="3"/>
                  </a:lnTo>
                  <a:lnTo>
                    <a:pt x="96" y="6"/>
                  </a:lnTo>
                  <a:lnTo>
                    <a:pt x="72" y="6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3375"/>
            <p:cNvSpPr/>
            <p:nvPr/>
          </p:nvSpPr>
          <p:spPr>
            <a:xfrm flipH="1">
              <a:off x="11680920" y="2233440"/>
              <a:ext cx="192240" cy="14040"/>
            </a:xfrm>
            <a:custGeom>
              <a:avLst/>
              <a:gdLst/>
              <a:ahLst/>
              <a:rect l="l" t="t" r="r" b="b"/>
              <a:pathLst>
                <a:path w="363" h="27">
                  <a:moveTo>
                    <a:pt x="363" y="3"/>
                  </a:moveTo>
                  <a:lnTo>
                    <a:pt x="363" y="0"/>
                  </a:lnTo>
                  <a:lnTo>
                    <a:pt x="120" y="15"/>
                  </a:lnTo>
                  <a:lnTo>
                    <a:pt x="111" y="18"/>
                  </a:lnTo>
                  <a:lnTo>
                    <a:pt x="78" y="18"/>
                  </a:lnTo>
                  <a:lnTo>
                    <a:pt x="69" y="21"/>
                  </a:lnTo>
                  <a:lnTo>
                    <a:pt x="39" y="21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47" y="21"/>
                  </a:lnTo>
                  <a:lnTo>
                    <a:pt x="159" y="18"/>
                  </a:lnTo>
                  <a:lnTo>
                    <a:pt x="168" y="18"/>
                  </a:lnTo>
                  <a:lnTo>
                    <a:pt x="183" y="18"/>
                  </a:lnTo>
                  <a:lnTo>
                    <a:pt x="195" y="15"/>
                  </a:lnTo>
                  <a:lnTo>
                    <a:pt x="219" y="15"/>
                  </a:lnTo>
                  <a:lnTo>
                    <a:pt x="231" y="12"/>
                  </a:lnTo>
                  <a:lnTo>
                    <a:pt x="255" y="12"/>
                  </a:lnTo>
                  <a:lnTo>
                    <a:pt x="267" y="9"/>
                  </a:lnTo>
                  <a:lnTo>
                    <a:pt x="291" y="9"/>
                  </a:lnTo>
                  <a:lnTo>
                    <a:pt x="303" y="6"/>
                  </a:lnTo>
                  <a:lnTo>
                    <a:pt x="327" y="6"/>
                  </a:lnTo>
                  <a:lnTo>
                    <a:pt x="339" y="3"/>
                  </a:lnTo>
                  <a:lnTo>
                    <a:pt x="36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3376"/>
            <p:cNvSpPr/>
            <p:nvPr/>
          </p:nvSpPr>
          <p:spPr>
            <a:xfrm flipH="1">
              <a:off x="11629800" y="2365200"/>
              <a:ext cx="3240" cy="140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" y="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3377"/>
            <p:cNvSpPr/>
            <p:nvPr/>
          </p:nvSpPr>
          <p:spPr>
            <a:xfrm flipH="1">
              <a:off x="11630160" y="2358720"/>
              <a:ext cx="139680" cy="31680"/>
            </a:xfrm>
            <a:custGeom>
              <a:avLst/>
              <a:gdLst/>
              <a:ahLst/>
              <a:rect l="l" t="t" r="r" b="b"/>
              <a:pathLst>
                <a:path w="264" h="60">
                  <a:moveTo>
                    <a:pt x="264" y="60"/>
                  </a:moveTo>
                  <a:lnTo>
                    <a:pt x="264" y="51"/>
                  </a:lnTo>
                  <a:lnTo>
                    <a:pt x="0" y="0"/>
                  </a:lnTo>
                  <a:lnTo>
                    <a:pt x="26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3378"/>
            <p:cNvSpPr/>
            <p:nvPr/>
          </p:nvSpPr>
          <p:spPr>
            <a:xfrm flipH="1">
              <a:off x="11783880" y="224280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3379"/>
            <p:cNvSpPr/>
            <p:nvPr/>
          </p:nvSpPr>
          <p:spPr>
            <a:xfrm flipH="1">
              <a:off x="11788920" y="224280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3380"/>
            <p:cNvSpPr/>
            <p:nvPr/>
          </p:nvSpPr>
          <p:spPr>
            <a:xfrm flipH="1">
              <a:off x="11769840" y="224136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3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3381"/>
            <p:cNvSpPr/>
            <p:nvPr/>
          </p:nvSpPr>
          <p:spPr>
            <a:xfrm flipH="1">
              <a:off x="11755440" y="2241360"/>
              <a:ext cx="14400" cy="144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0"/>
                  </a:moveTo>
                  <a:lnTo>
                    <a:pt x="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3382"/>
            <p:cNvSpPr/>
            <p:nvPr/>
          </p:nvSpPr>
          <p:spPr>
            <a:xfrm flipH="1">
              <a:off x="11750760" y="223956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3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3383"/>
            <p:cNvSpPr/>
            <p:nvPr/>
          </p:nvSpPr>
          <p:spPr>
            <a:xfrm flipH="1">
              <a:off x="11903040" y="2249280"/>
              <a:ext cx="12960" cy="144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0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3384"/>
            <p:cNvSpPr/>
            <p:nvPr/>
          </p:nvSpPr>
          <p:spPr>
            <a:xfrm flipH="1">
              <a:off x="11932920" y="225072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3385"/>
            <p:cNvSpPr/>
            <p:nvPr/>
          </p:nvSpPr>
          <p:spPr>
            <a:xfrm flipH="1">
              <a:off x="11874240" y="2247480"/>
              <a:ext cx="20520" cy="180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24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3386"/>
            <p:cNvSpPr/>
            <p:nvPr/>
          </p:nvSpPr>
          <p:spPr>
            <a:xfrm flipH="1">
              <a:off x="11687400" y="2261880"/>
              <a:ext cx="217440" cy="20520"/>
            </a:xfrm>
            <a:custGeom>
              <a:avLst/>
              <a:gdLst/>
              <a:ahLst/>
              <a:rect l="l" t="t" r="r" b="b"/>
              <a:pathLst>
                <a:path w="411" h="39">
                  <a:moveTo>
                    <a:pt x="0" y="36"/>
                  </a:moveTo>
                  <a:lnTo>
                    <a:pt x="0" y="39"/>
                  </a:lnTo>
                  <a:lnTo>
                    <a:pt x="411" y="0"/>
                  </a:lnTo>
                  <a:lnTo>
                    <a:pt x="408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3387"/>
            <p:cNvSpPr/>
            <p:nvPr/>
          </p:nvSpPr>
          <p:spPr>
            <a:xfrm flipH="1">
              <a:off x="11685240" y="2260080"/>
              <a:ext cx="324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6" name="Group 3388"/>
          <p:cNvGrpSpPr/>
          <p:nvPr/>
        </p:nvGrpSpPr>
        <p:grpSpPr>
          <a:xfrm>
            <a:off x="11985480" y="2197080"/>
            <a:ext cx="601200" cy="189000"/>
            <a:chOff x="11985480" y="2197080"/>
            <a:chExt cx="601200" cy="189000"/>
          </a:xfrm>
        </p:grpSpPr>
        <p:sp>
          <p:nvSpPr>
            <p:cNvPr id="2767" name="Freeform 3389"/>
            <p:cNvSpPr/>
            <p:nvPr/>
          </p:nvSpPr>
          <p:spPr>
            <a:xfrm>
              <a:off x="11985480" y="2197080"/>
              <a:ext cx="582480" cy="61920"/>
            </a:xfrm>
            <a:custGeom>
              <a:avLst/>
              <a:gdLst/>
              <a:ahLst/>
              <a:rect l="l" t="t" r="r" b="b"/>
              <a:pathLst>
                <a:path w="367" h="39">
                  <a:moveTo>
                    <a:pt x="332" y="37"/>
                  </a:moveTo>
                  <a:lnTo>
                    <a:pt x="313" y="36"/>
                  </a:lnTo>
                  <a:lnTo>
                    <a:pt x="39" y="17"/>
                  </a:lnTo>
                  <a:lnTo>
                    <a:pt x="0" y="0"/>
                  </a:lnTo>
                  <a:lnTo>
                    <a:pt x="75" y="1"/>
                  </a:lnTo>
                  <a:lnTo>
                    <a:pt x="367" y="39"/>
                  </a:lnTo>
                  <a:lnTo>
                    <a:pt x="342" y="38"/>
                  </a:lnTo>
                  <a:lnTo>
                    <a:pt x="33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3390"/>
            <p:cNvSpPr/>
            <p:nvPr/>
          </p:nvSpPr>
          <p:spPr>
            <a:xfrm flipH="1">
              <a:off x="12035520" y="2235240"/>
              <a:ext cx="546120" cy="146160"/>
            </a:xfrm>
            <a:custGeom>
              <a:avLst/>
              <a:gdLst/>
              <a:ahLst/>
              <a:rect l="l" t="t" r="r" b="b"/>
              <a:pathLst>
                <a:path w="1032" h="276">
                  <a:moveTo>
                    <a:pt x="99" y="60"/>
                  </a:moveTo>
                  <a:lnTo>
                    <a:pt x="84" y="60"/>
                  </a:lnTo>
                  <a:lnTo>
                    <a:pt x="72" y="63"/>
                  </a:lnTo>
                  <a:lnTo>
                    <a:pt x="48" y="63"/>
                  </a:lnTo>
                  <a:lnTo>
                    <a:pt x="36" y="66"/>
                  </a:lnTo>
                  <a:lnTo>
                    <a:pt x="24" y="66"/>
                  </a:lnTo>
                  <a:lnTo>
                    <a:pt x="12" y="66"/>
                  </a:lnTo>
                  <a:lnTo>
                    <a:pt x="0" y="69"/>
                  </a:lnTo>
                  <a:lnTo>
                    <a:pt x="711" y="213"/>
                  </a:lnTo>
                  <a:lnTo>
                    <a:pt x="720" y="216"/>
                  </a:lnTo>
                  <a:lnTo>
                    <a:pt x="726" y="216"/>
                  </a:lnTo>
                  <a:lnTo>
                    <a:pt x="735" y="219"/>
                  </a:lnTo>
                  <a:lnTo>
                    <a:pt x="741" y="219"/>
                  </a:lnTo>
                  <a:lnTo>
                    <a:pt x="750" y="222"/>
                  </a:lnTo>
                  <a:lnTo>
                    <a:pt x="753" y="222"/>
                  </a:lnTo>
                  <a:lnTo>
                    <a:pt x="765" y="225"/>
                  </a:lnTo>
                  <a:lnTo>
                    <a:pt x="768" y="225"/>
                  </a:lnTo>
                  <a:lnTo>
                    <a:pt x="1032" y="276"/>
                  </a:lnTo>
                  <a:lnTo>
                    <a:pt x="1032" y="264"/>
                  </a:lnTo>
                  <a:lnTo>
                    <a:pt x="1026" y="240"/>
                  </a:lnTo>
                  <a:lnTo>
                    <a:pt x="1026" y="237"/>
                  </a:lnTo>
                  <a:lnTo>
                    <a:pt x="972" y="0"/>
                  </a:lnTo>
                  <a:lnTo>
                    <a:pt x="966" y="0"/>
                  </a:lnTo>
                  <a:lnTo>
                    <a:pt x="927" y="39"/>
                  </a:lnTo>
                  <a:lnTo>
                    <a:pt x="924" y="42"/>
                  </a:lnTo>
                  <a:lnTo>
                    <a:pt x="513" y="81"/>
                  </a:lnTo>
                  <a:lnTo>
                    <a:pt x="99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3391"/>
            <p:cNvSpPr/>
            <p:nvPr/>
          </p:nvSpPr>
          <p:spPr>
            <a:xfrm flipH="1">
              <a:off x="12530160" y="2263680"/>
              <a:ext cx="54000" cy="6480"/>
            </a:xfrm>
            <a:custGeom>
              <a:avLst/>
              <a:gdLst/>
              <a:ahLst/>
              <a:rect l="l" t="t" r="r" b="b"/>
              <a:pathLst>
                <a:path w="102" h="12">
                  <a:moveTo>
                    <a:pt x="87" y="6"/>
                  </a:moveTo>
                  <a:lnTo>
                    <a:pt x="102" y="6"/>
                  </a:lnTo>
                  <a:lnTo>
                    <a:pt x="12" y="0"/>
                  </a:lnTo>
                  <a:lnTo>
                    <a:pt x="0" y="6"/>
                  </a:lnTo>
                  <a:lnTo>
                    <a:pt x="27" y="12"/>
                  </a:lnTo>
                  <a:lnTo>
                    <a:pt x="39" y="12"/>
                  </a:lnTo>
                  <a:lnTo>
                    <a:pt x="51" y="9"/>
                  </a:lnTo>
                  <a:lnTo>
                    <a:pt x="75" y="9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3392"/>
            <p:cNvSpPr/>
            <p:nvPr/>
          </p:nvSpPr>
          <p:spPr>
            <a:xfrm flipH="1">
              <a:off x="12567960" y="2259000"/>
              <a:ext cx="504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3393"/>
            <p:cNvSpPr/>
            <p:nvPr/>
          </p:nvSpPr>
          <p:spPr>
            <a:xfrm flipH="1">
              <a:off x="12572280" y="2259000"/>
              <a:ext cx="612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3394"/>
            <p:cNvSpPr/>
            <p:nvPr/>
          </p:nvSpPr>
          <p:spPr>
            <a:xfrm flipH="1">
              <a:off x="12310200" y="2260440"/>
              <a:ext cx="276120" cy="17640"/>
            </a:xfrm>
            <a:custGeom>
              <a:avLst/>
              <a:gdLst/>
              <a:ahLst/>
              <a:rect l="l" t="t" r="r" b="b"/>
              <a:pathLst>
                <a:path w="522" h="33">
                  <a:moveTo>
                    <a:pt x="0" y="0"/>
                  </a:moveTo>
                  <a:lnTo>
                    <a:pt x="18" y="6"/>
                  </a:lnTo>
                  <a:lnTo>
                    <a:pt x="108" y="12"/>
                  </a:lnTo>
                  <a:lnTo>
                    <a:pt x="522" y="33"/>
                  </a:lnTo>
                  <a:lnTo>
                    <a:pt x="522" y="3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3395"/>
            <p:cNvSpPr/>
            <p:nvPr/>
          </p:nvSpPr>
          <p:spPr>
            <a:xfrm flipH="1">
              <a:off x="12045960" y="2224080"/>
              <a:ext cx="434880" cy="30240"/>
            </a:xfrm>
            <a:custGeom>
              <a:avLst/>
              <a:gdLst/>
              <a:ahLst/>
              <a:rect l="l" t="t" r="r" b="b"/>
              <a:pathLst>
                <a:path w="822" h="57">
                  <a:moveTo>
                    <a:pt x="147" y="51"/>
                  </a:moveTo>
                  <a:lnTo>
                    <a:pt x="159" y="48"/>
                  </a:lnTo>
                  <a:lnTo>
                    <a:pt x="231" y="45"/>
                  </a:lnTo>
                  <a:lnTo>
                    <a:pt x="258" y="42"/>
                  </a:lnTo>
                  <a:lnTo>
                    <a:pt x="267" y="42"/>
                  </a:lnTo>
                  <a:lnTo>
                    <a:pt x="276" y="42"/>
                  </a:lnTo>
                  <a:lnTo>
                    <a:pt x="300" y="39"/>
                  </a:lnTo>
                  <a:lnTo>
                    <a:pt x="318" y="39"/>
                  </a:lnTo>
                  <a:lnTo>
                    <a:pt x="339" y="36"/>
                  </a:lnTo>
                  <a:lnTo>
                    <a:pt x="363" y="36"/>
                  </a:lnTo>
                  <a:lnTo>
                    <a:pt x="381" y="33"/>
                  </a:lnTo>
                  <a:lnTo>
                    <a:pt x="405" y="33"/>
                  </a:lnTo>
                  <a:lnTo>
                    <a:pt x="420" y="30"/>
                  </a:lnTo>
                  <a:lnTo>
                    <a:pt x="450" y="30"/>
                  </a:lnTo>
                  <a:lnTo>
                    <a:pt x="459" y="27"/>
                  </a:lnTo>
                  <a:lnTo>
                    <a:pt x="492" y="27"/>
                  </a:lnTo>
                  <a:lnTo>
                    <a:pt x="501" y="24"/>
                  </a:lnTo>
                  <a:lnTo>
                    <a:pt x="744" y="9"/>
                  </a:lnTo>
                  <a:lnTo>
                    <a:pt x="753" y="9"/>
                  </a:lnTo>
                  <a:lnTo>
                    <a:pt x="822" y="3"/>
                  </a:lnTo>
                  <a:lnTo>
                    <a:pt x="822" y="0"/>
                  </a:lnTo>
                  <a:lnTo>
                    <a:pt x="0" y="57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3396"/>
            <p:cNvSpPr/>
            <p:nvPr/>
          </p:nvSpPr>
          <p:spPr>
            <a:xfrm flipH="1">
              <a:off x="12080160" y="2228760"/>
              <a:ext cx="612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2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3397"/>
            <p:cNvSpPr/>
            <p:nvPr/>
          </p:nvSpPr>
          <p:spPr>
            <a:xfrm flipH="1">
              <a:off x="12036240" y="2225520"/>
              <a:ext cx="46080" cy="135000"/>
            </a:xfrm>
            <a:custGeom>
              <a:avLst/>
              <a:gdLst/>
              <a:ahLst/>
              <a:rect l="l" t="t" r="r" b="b"/>
              <a:pathLst>
                <a:path w="87" h="255">
                  <a:moveTo>
                    <a:pt x="0" y="6"/>
                  </a:moveTo>
                  <a:lnTo>
                    <a:pt x="3" y="6"/>
                  </a:lnTo>
                  <a:lnTo>
                    <a:pt x="24" y="12"/>
                  </a:lnTo>
                  <a:lnTo>
                    <a:pt x="27" y="18"/>
                  </a:lnTo>
                  <a:lnTo>
                    <a:pt x="81" y="255"/>
                  </a:lnTo>
                  <a:lnTo>
                    <a:pt x="87" y="255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3398"/>
            <p:cNvSpPr/>
            <p:nvPr/>
          </p:nvSpPr>
          <p:spPr>
            <a:xfrm flipH="1">
              <a:off x="12067200" y="2232000"/>
              <a:ext cx="3240" cy="32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3399"/>
            <p:cNvSpPr/>
            <p:nvPr/>
          </p:nvSpPr>
          <p:spPr>
            <a:xfrm flipH="1">
              <a:off x="12069720" y="2228760"/>
              <a:ext cx="87120" cy="7920"/>
            </a:xfrm>
            <a:custGeom>
              <a:avLst/>
              <a:gdLst/>
              <a:ahLst/>
              <a:rect l="l" t="t" r="r" b="b"/>
              <a:pathLst>
                <a:path w="165" h="15">
                  <a:moveTo>
                    <a:pt x="162" y="6"/>
                  </a:moveTo>
                  <a:lnTo>
                    <a:pt x="165" y="6"/>
                  </a:lnTo>
                  <a:lnTo>
                    <a:pt x="144" y="0"/>
                  </a:lnTo>
                  <a:lnTo>
                    <a:pt x="132" y="3"/>
                  </a:lnTo>
                  <a:lnTo>
                    <a:pt x="108" y="3"/>
                  </a:lnTo>
                  <a:lnTo>
                    <a:pt x="96" y="6"/>
                  </a:lnTo>
                  <a:lnTo>
                    <a:pt x="72" y="6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3400"/>
            <p:cNvSpPr/>
            <p:nvPr/>
          </p:nvSpPr>
          <p:spPr>
            <a:xfrm flipH="1">
              <a:off x="12087000" y="2228760"/>
              <a:ext cx="192240" cy="14400"/>
            </a:xfrm>
            <a:custGeom>
              <a:avLst/>
              <a:gdLst/>
              <a:ahLst/>
              <a:rect l="l" t="t" r="r" b="b"/>
              <a:pathLst>
                <a:path w="363" h="27">
                  <a:moveTo>
                    <a:pt x="363" y="3"/>
                  </a:moveTo>
                  <a:lnTo>
                    <a:pt x="363" y="0"/>
                  </a:lnTo>
                  <a:lnTo>
                    <a:pt x="120" y="15"/>
                  </a:lnTo>
                  <a:lnTo>
                    <a:pt x="111" y="18"/>
                  </a:lnTo>
                  <a:lnTo>
                    <a:pt x="78" y="18"/>
                  </a:lnTo>
                  <a:lnTo>
                    <a:pt x="69" y="21"/>
                  </a:lnTo>
                  <a:lnTo>
                    <a:pt x="39" y="21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47" y="21"/>
                  </a:lnTo>
                  <a:lnTo>
                    <a:pt x="159" y="18"/>
                  </a:lnTo>
                  <a:lnTo>
                    <a:pt x="168" y="18"/>
                  </a:lnTo>
                  <a:lnTo>
                    <a:pt x="183" y="18"/>
                  </a:lnTo>
                  <a:lnTo>
                    <a:pt x="195" y="15"/>
                  </a:lnTo>
                  <a:lnTo>
                    <a:pt x="219" y="15"/>
                  </a:lnTo>
                  <a:lnTo>
                    <a:pt x="231" y="12"/>
                  </a:lnTo>
                  <a:lnTo>
                    <a:pt x="255" y="12"/>
                  </a:lnTo>
                  <a:lnTo>
                    <a:pt x="267" y="9"/>
                  </a:lnTo>
                  <a:lnTo>
                    <a:pt x="291" y="9"/>
                  </a:lnTo>
                  <a:lnTo>
                    <a:pt x="303" y="6"/>
                  </a:lnTo>
                  <a:lnTo>
                    <a:pt x="327" y="6"/>
                  </a:lnTo>
                  <a:lnTo>
                    <a:pt x="339" y="3"/>
                  </a:lnTo>
                  <a:lnTo>
                    <a:pt x="36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3401"/>
            <p:cNvSpPr/>
            <p:nvPr/>
          </p:nvSpPr>
          <p:spPr>
            <a:xfrm flipH="1">
              <a:off x="12035520" y="2360520"/>
              <a:ext cx="3240" cy="1440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" y="2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3402"/>
            <p:cNvSpPr/>
            <p:nvPr/>
          </p:nvSpPr>
          <p:spPr>
            <a:xfrm flipH="1">
              <a:off x="12036240" y="2354400"/>
              <a:ext cx="139680" cy="31680"/>
            </a:xfrm>
            <a:custGeom>
              <a:avLst/>
              <a:gdLst/>
              <a:ahLst/>
              <a:rect l="l" t="t" r="r" b="b"/>
              <a:pathLst>
                <a:path w="264" h="60">
                  <a:moveTo>
                    <a:pt x="264" y="60"/>
                  </a:moveTo>
                  <a:lnTo>
                    <a:pt x="264" y="51"/>
                  </a:lnTo>
                  <a:lnTo>
                    <a:pt x="0" y="0"/>
                  </a:lnTo>
                  <a:lnTo>
                    <a:pt x="264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3403"/>
            <p:cNvSpPr/>
            <p:nvPr/>
          </p:nvSpPr>
          <p:spPr>
            <a:xfrm flipH="1">
              <a:off x="12189600" y="2238480"/>
              <a:ext cx="468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3404"/>
            <p:cNvSpPr/>
            <p:nvPr/>
          </p:nvSpPr>
          <p:spPr>
            <a:xfrm flipH="1">
              <a:off x="12195000" y="223848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3405"/>
            <p:cNvSpPr/>
            <p:nvPr/>
          </p:nvSpPr>
          <p:spPr>
            <a:xfrm flipH="1">
              <a:off x="12175920" y="2236680"/>
              <a:ext cx="6480" cy="180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0"/>
                  </a:moveTo>
                  <a:lnTo>
                    <a:pt x="0" y="3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3406"/>
            <p:cNvSpPr/>
            <p:nvPr/>
          </p:nvSpPr>
          <p:spPr>
            <a:xfrm flipH="1">
              <a:off x="12161160" y="2236680"/>
              <a:ext cx="14040" cy="1800"/>
            </a:xfrm>
            <a:custGeom>
              <a:avLst/>
              <a:gdLst/>
              <a:ahLst/>
              <a:rect l="l" t="t" r="r" b="b"/>
              <a:pathLst>
                <a:path w="27" h="3">
                  <a:moveTo>
                    <a:pt x="0" y="0"/>
                  </a:moveTo>
                  <a:lnTo>
                    <a:pt x="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3407"/>
            <p:cNvSpPr/>
            <p:nvPr/>
          </p:nvSpPr>
          <p:spPr>
            <a:xfrm flipH="1">
              <a:off x="12156840" y="2235240"/>
              <a:ext cx="6480" cy="144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3" y="3"/>
                  </a:moveTo>
                  <a:lnTo>
                    <a:pt x="12" y="3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3408"/>
            <p:cNvSpPr/>
            <p:nvPr/>
          </p:nvSpPr>
          <p:spPr>
            <a:xfrm flipH="1">
              <a:off x="12308760" y="2244600"/>
              <a:ext cx="12600" cy="180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0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3409"/>
            <p:cNvSpPr/>
            <p:nvPr/>
          </p:nvSpPr>
          <p:spPr>
            <a:xfrm flipH="1">
              <a:off x="12339360" y="2246400"/>
              <a:ext cx="504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3410"/>
            <p:cNvSpPr/>
            <p:nvPr/>
          </p:nvSpPr>
          <p:spPr>
            <a:xfrm flipH="1">
              <a:off x="12280680" y="2243160"/>
              <a:ext cx="20880" cy="144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24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9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3411"/>
            <p:cNvSpPr/>
            <p:nvPr/>
          </p:nvSpPr>
          <p:spPr>
            <a:xfrm flipH="1">
              <a:off x="12093480" y="2257560"/>
              <a:ext cx="217440" cy="20520"/>
            </a:xfrm>
            <a:custGeom>
              <a:avLst/>
              <a:gdLst/>
              <a:ahLst/>
              <a:rect l="l" t="t" r="r" b="b"/>
              <a:pathLst>
                <a:path w="411" h="39">
                  <a:moveTo>
                    <a:pt x="0" y="36"/>
                  </a:moveTo>
                  <a:lnTo>
                    <a:pt x="0" y="39"/>
                  </a:lnTo>
                  <a:lnTo>
                    <a:pt x="411" y="0"/>
                  </a:lnTo>
                  <a:lnTo>
                    <a:pt x="408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3412"/>
            <p:cNvSpPr/>
            <p:nvPr/>
          </p:nvSpPr>
          <p:spPr>
            <a:xfrm flipH="1">
              <a:off x="12092040" y="2255760"/>
              <a:ext cx="2880" cy="180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3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3413"/>
            <p:cNvSpPr/>
            <p:nvPr/>
          </p:nvSpPr>
          <p:spPr>
            <a:xfrm>
              <a:off x="12011040" y="2232000"/>
              <a:ext cx="568080" cy="44640"/>
            </a:xfrm>
            <a:custGeom>
              <a:avLst/>
              <a:gdLst/>
              <a:ahLst/>
              <a:rect l="l" t="t" r="r" b="b"/>
              <a:pathLst>
                <a:path w="358" h="28">
                  <a:moveTo>
                    <a:pt x="297" y="14"/>
                  </a:moveTo>
                  <a:lnTo>
                    <a:pt x="316" y="15"/>
                  </a:lnTo>
                  <a:lnTo>
                    <a:pt x="326" y="16"/>
                  </a:lnTo>
                  <a:lnTo>
                    <a:pt x="351" y="17"/>
                  </a:lnTo>
                  <a:lnTo>
                    <a:pt x="352" y="17"/>
                  </a:lnTo>
                  <a:lnTo>
                    <a:pt x="355" y="18"/>
                  </a:lnTo>
                  <a:lnTo>
                    <a:pt x="358" y="18"/>
                  </a:lnTo>
                  <a:lnTo>
                    <a:pt x="190" y="28"/>
                  </a:lnTo>
                  <a:lnTo>
                    <a:pt x="0" y="24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93" y="3"/>
                  </a:lnTo>
                  <a:lnTo>
                    <a:pt x="96" y="3"/>
                  </a:lnTo>
                  <a:lnTo>
                    <a:pt x="105" y="4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7" y="5"/>
                  </a:lnTo>
                  <a:lnTo>
                    <a:pt x="121" y="5"/>
                  </a:lnTo>
                  <a:lnTo>
                    <a:pt x="170" y="7"/>
                  </a:lnTo>
                  <a:lnTo>
                    <a:pt x="171" y="7"/>
                  </a:lnTo>
                  <a:lnTo>
                    <a:pt x="184" y="8"/>
                  </a:lnTo>
                  <a:lnTo>
                    <a:pt x="189" y="8"/>
                  </a:lnTo>
                  <a:lnTo>
                    <a:pt x="197" y="9"/>
                  </a:lnTo>
                  <a:lnTo>
                    <a:pt x="205" y="9"/>
                  </a:lnTo>
                  <a:lnTo>
                    <a:pt x="208" y="9"/>
                  </a:lnTo>
                  <a:lnTo>
                    <a:pt x="211" y="10"/>
                  </a:lnTo>
                  <a:lnTo>
                    <a:pt x="220" y="10"/>
                  </a:lnTo>
                  <a:lnTo>
                    <a:pt x="244" y="11"/>
                  </a:lnTo>
                  <a:lnTo>
                    <a:pt x="248" y="12"/>
                  </a:lnTo>
                  <a:lnTo>
                    <a:pt x="29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dddd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Group 3446"/>
          <p:cNvGrpSpPr/>
          <p:nvPr/>
        </p:nvGrpSpPr>
        <p:grpSpPr>
          <a:xfrm>
            <a:off x="6429240" y="3924360"/>
            <a:ext cx="1215720" cy="654120"/>
            <a:chOff x="6429240" y="3924360"/>
            <a:chExt cx="1215720" cy="654120"/>
          </a:xfrm>
        </p:grpSpPr>
        <p:sp>
          <p:nvSpPr>
            <p:cNvPr id="2793" name="Freeform 3421"/>
            <p:cNvSpPr/>
            <p:nvPr/>
          </p:nvSpPr>
          <p:spPr>
            <a:xfrm>
              <a:off x="6429240" y="3924360"/>
              <a:ext cx="468000" cy="654120"/>
            </a:xfrm>
            <a:custGeom>
              <a:avLst/>
              <a:gdLst/>
              <a:ahLst/>
              <a:rect l="l" t="t" r="r" b="b"/>
              <a:pathLst>
                <a:path w="503" h="703">
                  <a:moveTo>
                    <a:pt x="344" y="262"/>
                  </a:moveTo>
                  <a:lnTo>
                    <a:pt x="380" y="257"/>
                  </a:lnTo>
                  <a:lnTo>
                    <a:pt x="417" y="249"/>
                  </a:lnTo>
                  <a:lnTo>
                    <a:pt x="426" y="249"/>
                  </a:lnTo>
                  <a:lnTo>
                    <a:pt x="434" y="247"/>
                  </a:lnTo>
                  <a:lnTo>
                    <a:pt x="440" y="247"/>
                  </a:lnTo>
                  <a:lnTo>
                    <a:pt x="445" y="245"/>
                  </a:lnTo>
                  <a:lnTo>
                    <a:pt x="449" y="245"/>
                  </a:lnTo>
                  <a:lnTo>
                    <a:pt x="453" y="245"/>
                  </a:lnTo>
                  <a:lnTo>
                    <a:pt x="455" y="245"/>
                  </a:lnTo>
                  <a:lnTo>
                    <a:pt x="457" y="245"/>
                  </a:lnTo>
                  <a:lnTo>
                    <a:pt x="465" y="245"/>
                  </a:lnTo>
                  <a:lnTo>
                    <a:pt x="472" y="247"/>
                  </a:lnTo>
                  <a:lnTo>
                    <a:pt x="480" y="251"/>
                  </a:lnTo>
                  <a:lnTo>
                    <a:pt x="488" y="257"/>
                  </a:lnTo>
                  <a:lnTo>
                    <a:pt x="495" y="260"/>
                  </a:lnTo>
                  <a:lnTo>
                    <a:pt x="499" y="266"/>
                  </a:lnTo>
                  <a:lnTo>
                    <a:pt x="503" y="272"/>
                  </a:lnTo>
                  <a:lnTo>
                    <a:pt x="503" y="274"/>
                  </a:lnTo>
                  <a:lnTo>
                    <a:pt x="503" y="276"/>
                  </a:lnTo>
                  <a:lnTo>
                    <a:pt x="503" y="280"/>
                  </a:lnTo>
                  <a:lnTo>
                    <a:pt x="501" y="281"/>
                  </a:lnTo>
                  <a:lnTo>
                    <a:pt x="497" y="285"/>
                  </a:lnTo>
                  <a:lnTo>
                    <a:pt x="493" y="287"/>
                  </a:lnTo>
                  <a:lnTo>
                    <a:pt x="488" y="289"/>
                  </a:lnTo>
                  <a:lnTo>
                    <a:pt x="482" y="291"/>
                  </a:lnTo>
                  <a:lnTo>
                    <a:pt x="474" y="291"/>
                  </a:lnTo>
                  <a:lnTo>
                    <a:pt x="465" y="293"/>
                  </a:lnTo>
                  <a:lnTo>
                    <a:pt x="443" y="295"/>
                  </a:lnTo>
                  <a:lnTo>
                    <a:pt x="422" y="299"/>
                  </a:lnTo>
                  <a:lnTo>
                    <a:pt x="399" y="304"/>
                  </a:lnTo>
                  <a:lnTo>
                    <a:pt x="386" y="306"/>
                  </a:lnTo>
                  <a:lnTo>
                    <a:pt x="372" y="308"/>
                  </a:lnTo>
                  <a:lnTo>
                    <a:pt x="359" y="312"/>
                  </a:lnTo>
                  <a:lnTo>
                    <a:pt x="348" y="316"/>
                  </a:lnTo>
                  <a:lnTo>
                    <a:pt x="336" y="318"/>
                  </a:lnTo>
                  <a:lnTo>
                    <a:pt x="324" y="322"/>
                  </a:lnTo>
                  <a:lnTo>
                    <a:pt x="313" y="324"/>
                  </a:lnTo>
                  <a:lnTo>
                    <a:pt x="301" y="327"/>
                  </a:lnTo>
                  <a:lnTo>
                    <a:pt x="292" y="331"/>
                  </a:lnTo>
                  <a:lnTo>
                    <a:pt x="282" y="335"/>
                  </a:lnTo>
                  <a:lnTo>
                    <a:pt x="277" y="362"/>
                  </a:lnTo>
                  <a:lnTo>
                    <a:pt x="286" y="356"/>
                  </a:lnTo>
                  <a:lnTo>
                    <a:pt x="294" y="350"/>
                  </a:lnTo>
                  <a:lnTo>
                    <a:pt x="301" y="347"/>
                  </a:lnTo>
                  <a:lnTo>
                    <a:pt x="309" y="341"/>
                  </a:lnTo>
                  <a:lnTo>
                    <a:pt x="315" y="337"/>
                  </a:lnTo>
                  <a:lnTo>
                    <a:pt x="319" y="333"/>
                  </a:lnTo>
                  <a:lnTo>
                    <a:pt x="323" y="331"/>
                  </a:lnTo>
                  <a:lnTo>
                    <a:pt x="326" y="329"/>
                  </a:lnTo>
                  <a:lnTo>
                    <a:pt x="332" y="326"/>
                  </a:lnTo>
                  <a:lnTo>
                    <a:pt x="338" y="324"/>
                  </a:lnTo>
                  <a:lnTo>
                    <a:pt x="344" y="322"/>
                  </a:lnTo>
                  <a:lnTo>
                    <a:pt x="349" y="320"/>
                  </a:lnTo>
                  <a:lnTo>
                    <a:pt x="355" y="322"/>
                  </a:lnTo>
                  <a:lnTo>
                    <a:pt x="361" y="322"/>
                  </a:lnTo>
                  <a:lnTo>
                    <a:pt x="369" y="324"/>
                  </a:lnTo>
                  <a:lnTo>
                    <a:pt x="378" y="327"/>
                  </a:lnTo>
                  <a:lnTo>
                    <a:pt x="386" y="331"/>
                  </a:lnTo>
                  <a:lnTo>
                    <a:pt x="392" y="335"/>
                  </a:lnTo>
                  <a:lnTo>
                    <a:pt x="397" y="339"/>
                  </a:lnTo>
                  <a:lnTo>
                    <a:pt x="401" y="343"/>
                  </a:lnTo>
                  <a:lnTo>
                    <a:pt x="403" y="345"/>
                  </a:lnTo>
                  <a:lnTo>
                    <a:pt x="405" y="349"/>
                  </a:lnTo>
                  <a:lnTo>
                    <a:pt x="405" y="352"/>
                  </a:lnTo>
                  <a:lnTo>
                    <a:pt x="407" y="356"/>
                  </a:lnTo>
                  <a:lnTo>
                    <a:pt x="407" y="360"/>
                  </a:lnTo>
                  <a:lnTo>
                    <a:pt x="409" y="366"/>
                  </a:lnTo>
                  <a:lnTo>
                    <a:pt x="409" y="371"/>
                  </a:lnTo>
                  <a:lnTo>
                    <a:pt x="409" y="377"/>
                  </a:lnTo>
                  <a:lnTo>
                    <a:pt x="409" y="381"/>
                  </a:lnTo>
                  <a:lnTo>
                    <a:pt x="409" y="385"/>
                  </a:lnTo>
                  <a:lnTo>
                    <a:pt x="409" y="389"/>
                  </a:lnTo>
                  <a:lnTo>
                    <a:pt x="409" y="394"/>
                  </a:lnTo>
                  <a:lnTo>
                    <a:pt x="409" y="398"/>
                  </a:lnTo>
                  <a:lnTo>
                    <a:pt x="409" y="406"/>
                  </a:lnTo>
                  <a:lnTo>
                    <a:pt x="411" y="412"/>
                  </a:lnTo>
                  <a:lnTo>
                    <a:pt x="411" y="419"/>
                  </a:lnTo>
                  <a:lnTo>
                    <a:pt x="411" y="427"/>
                  </a:lnTo>
                  <a:lnTo>
                    <a:pt x="413" y="435"/>
                  </a:lnTo>
                  <a:lnTo>
                    <a:pt x="413" y="444"/>
                  </a:lnTo>
                  <a:lnTo>
                    <a:pt x="415" y="454"/>
                  </a:lnTo>
                  <a:lnTo>
                    <a:pt x="415" y="463"/>
                  </a:lnTo>
                  <a:lnTo>
                    <a:pt x="417" y="473"/>
                  </a:lnTo>
                  <a:lnTo>
                    <a:pt x="417" y="484"/>
                  </a:lnTo>
                  <a:lnTo>
                    <a:pt x="418" y="496"/>
                  </a:lnTo>
                  <a:lnTo>
                    <a:pt x="420" y="507"/>
                  </a:lnTo>
                  <a:lnTo>
                    <a:pt x="420" y="519"/>
                  </a:lnTo>
                  <a:lnTo>
                    <a:pt x="422" y="528"/>
                  </a:lnTo>
                  <a:lnTo>
                    <a:pt x="422" y="540"/>
                  </a:lnTo>
                  <a:lnTo>
                    <a:pt x="424" y="548"/>
                  </a:lnTo>
                  <a:lnTo>
                    <a:pt x="424" y="557"/>
                  </a:lnTo>
                  <a:lnTo>
                    <a:pt x="424" y="565"/>
                  </a:lnTo>
                  <a:lnTo>
                    <a:pt x="426" y="572"/>
                  </a:lnTo>
                  <a:lnTo>
                    <a:pt x="426" y="578"/>
                  </a:lnTo>
                  <a:lnTo>
                    <a:pt x="426" y="586"/>
                  </a:lnTo>
                  <a:lnTo>
                    <a:pt x="428" y="590"/>
                  </a:lnTo>
                  <a:lnTo>
                    <a:pt x="428" y="595"/>
                  </a:lnTo>
                  <a:lnTo>
                    <a:pt x="428" y="599"/>
                  </a:lnTo>
                  <a:lnTo>
                    <a:pt x="428" y="603"/>
                  </a:lnTo>
                  <a:lnTo>
                    <a:pt x="428" y="607"/>
                  </a:lnTo>
                  <a:lnTo>
                    <a:pt x="428" y="611"/>
                  </a:lnTo>
                  <a:lnTo>
                    <a:pt x="428" y="620"/>
                  </a:lnTo>
                  <a:lnTo>
                    <a:pt x="428" y="632"/>
                  </a:lnTo>
                  <a:lnTo>
                    <a:pt x="426" y="641"/>
                  </a:lnTo>
                  <a:lnTo>
                    <a:pt x="424" y="651"/>
                  </a:lnTo>
                  <a:lnTo>
                    <a:pt x="422" y="659"/>
                  </a:lnTo>
                  <a:lnTo>
                    <a:pt x="420" y="668"/>
                  </a:lnTo>
                  <a:lnTo>
                    <a:pt x="418" y="674"/>
                  </a:lnTo>
                  <a:lnTo>
                    <a:pt x="415" y="682"/>
                  </a:lnTo>
                  <a:lnTo>
                    <a:pt x="411" y="685"/>
                  </a:lnTo>
                  <a:lnTo>
                    <a:pt x="407" y="691"/>
                  </a:lnTo>
                  <a:lnTo>
                    <a:pt x="405" y="695"/>
                  </a:lnTo>
                  <a:lnTo>
                    <a:pt x="401" y="697"/>
                  </a:lnTo>
                  <a:lnTo>
                    <a:pt x="399" y="701"/>
                  </a:lnTo>
                  <a:lnTo>
                    <a:pt x="395" y="703"/>
                  </a:lnTo>
                  <a:lnTo>
                    <a:pt x="394" y="703"/>
                  </a:lnTo>
                  <a:lnTo>
                    <a:pt x="390" y="703"/>
                  </a:lnTo>
                  <a:lnTo>
                    <a:pt x="388" y="703"/>
                  </a:lnTo>
                  <a:lnTo>
                    <a:pt x="386" y="703"/>
                  </a:lnTo>
                  <a:lnTo>
                    <a:pt x="384" y="701"/>
                  </a:lnTo>
                  <a:lnTo>
                    <a:pt x="382" y="699"/>
                  </a:lnTo>
                  <a:lnTo>
                    <a:pt x="380" y="697"/>
                  </a:lnTo>
                  <a:lnTo>
                    <a:pt x="378" y="693"/>
                  </a:lnTo>
                  <a:lnTo>
                    <a:pt x="376" y="691"/>
                  </a:lnTo>
                  <a:lnTo>
                    <a:pt x="372" y="687"/>
                  </a:lnTo>
                  <a:lnTo>
                    <a:pt x="369" y="682"/>
                  </a:lnTo>
                  <a:lnTo>
                    <a:pt x="365" y="676"/>
                  </a:lnTo>
                  <a:lnTo>
                    <a:pt x="359" y="670"/>
                  </a:lnTo>
                  <a:lnTo>
                    <a:pt x="353" y="662"/>
                  </a:lnTo>
                  <a:lnTo>
                    <a:pt x="342" y="647"/>
                  </a:lnTo>
                  <a:lnTo>
                    <a:pt x="330" y="630"/>
                  </a:lnTo>
                  <a:lnTo>
                    <a:pt x="319" y="613"/>
                  </a:lnTo>
                  <a:lnTo>
                    <a:pt x="309" y="595"/>
                  </a:lnTo>
                  <a:lnTo>
                    <a:pt x="298" y="576"/>
                  </a:lnTo>
                  <a:lnTo>
                    <a:pt x="288" y="557"/>
                  </a:lnTo>
                  <a:lnTo>
                    <a:pt x="278" y="536"/>
                  </a:lnTo>
                  <a:lnTo>
                    <a:pt x="269" y="513"/>
                  </a:lnTo>
                  <a:lnTo>
                    <a:pt x="271" y="525"/>
                  </a:lnTo>
                  <a:lnTo>
                    <a:pt x="271" y="538"/>
                  </a:lnTo>
                  <a:lnTo>
                    <a:pt x="271" y="563"/>
                  </a:lnTo>
                  <a:lnTo>
                    <a:pt x="271" y="574"/>
                  </a:lnTo>
                  <a:lnTo>
                    <a:pt x="271" y="588"/>
                  </a:lnTo>
                  <a:lnTo>
                    <a:pt x="267" y="613"/>
                  </a:lnTo>
                  <a:lnTo>
                    <a:pt x="267" y="618"/>
                  </a:lnTo>
                  <a:lnTo>
                    <a:pt x="265" y="624"/>
                  </a:lnTo>
                  <a:lnTo>
                    <a:pt x="265" y="628"/>
                  </a:lnTo>
                  <a:lnTo>
                    <a:pt x="263" y="632"/>
                  </a:lnTo>
                  <a:lnTo>
                    <a:pt x="261" y="636"/>
                  </a:lnTo>
                  <a:lnTo>
                    <a:pt x="259" y="638"/>
                  </a:lnTo>
                  <a:lnTo>
                    <a:pt x="259" y="638"/>
                  </a:lnTo>
                  <a:lnTo>
                    <a:pt x="257" y="640"/>
                  </a:lnTo>
                  <a:lnTo>
                    <a:pt x="255" y="640"/>
                  </a:lnTo>
                  <a:lnTo>
                    <a:pt x="254" y="638"/>
                  </a:lnTo>
                  <a:lnTo>
                    <a:pt x="252" y="636"/>
                  </a:lnTo>
                  <a:lnTo>
                    <a:pt x="250" y="636"/>
                  </a:lnTo>
                  <a:lnTo>
                    <a:pt x="248" y="632"/>
                  </a:lnTo>
                  <a:lnTo>
                    <a:pt x="246" y="630"/>
                  </a:lnTo>
                  <a:lnTo>
                    <a:pt x="244" y="626"/>
                  </a:lnTo>
                  <a:lnTo>
                    <a:pt x="240" y="622"/>
                  </a:lnTo>
                  <a:lnTo>
                    <a:pt x="238" y="617"/>
                  </a:lnTo>
                  <a:lnTo>
                    <a:pt x="236" y="611"/>
                  </a:lnTo>
                  <a:lnTo>
                    <a:pt x="234" y="603"/>
                  </a:lnTo>
                  <a:lnTo>
                    <a:pt x="232" y="595"/>
                  </a:lnTo>
                  <a:lnTo>
                    <a:pt x="230" y="586"/>
                  </a:lnTo>
                  <a:lnTo>
                    <a:pt x="230" y="576"/>
                  </a:lnTo>
                  <a:lnTo>
                    <a:pt x="229" y="563"/>
                  </a:lnTo>
                  <a:lnTo>
                    <a:pt x="229" y="551"/>
                  </a:lnTo>
                  <a:lnTo>
                    <a:pt x="229" y="544"/>
                  </a:lnTo>
                  <a:lnTo>
                    <a:pt x="230" y="534"/>
                  </a:lnTo>
                  <a:lnTo>
                    <a:pt x="230" y="525"/>
                  </a:lnTo>
                  <a:lnTo>
                    <a:pt x="230" y="513"/>
                  </a:lnTo>
                  <a:lnTo>
                    <a:pt x="232" y="500"/>
                  </a:lnTo>
                  <a:lnTo>
                    <a:pt x="232" y="486"/>
                  </a:lnTo>
                  <a:lnTo>
                    <a:pt x="234" y="471"/>
                  </a:lnTo>
                  <a:lnTo>
                    <a:pt x="236" y="454"/>
                  </a:lnTo>
                  <a:lnTo>
                    <a:pt x="236" y="437"/>
                  </a:lnTo>
                  <a:lnTo>
                    <a:pt x="238" y="421"/>
                  </a:lnTo>
                  <a:lnTo>
                    <a:pt x="240" y="406"/>
                  </a:lnTo>
                  <a:lnTo>
                    <a:pt x="242" y="393"/>
                  </a:lnTo>
                  <a:lnTo>
                    <a:pt x="246" y="379"/>
                  </a:lnTo>
                  <a:lnTo>
                    <a:pt x="248" y="368"/>
                  </a:lnTo>
                  <a:lnTo>
                    <a:pt x="250" y="356"/>
                  </a:lnTo>
                  <a:lnTo>
                    <a:pt x="254" y="347"/>
                  </a:lnTo>
                  <a:lnTo>
                    <a:pt x="234" y="358"/>
                  </a:lnTo>
                  <a:lnTo>
                    <a:pt x="217" y="368"/>
                  </a:lnTo>
                  <a:lnTo>
                    <a:pt x="200" y="375"/>
                  </a:lnTo>
                  <a:lnTo>
                    <a:pt x="186" y="383"/>
                  </a:lnTo>
                  <a:lnTo>
                    <a:pt x="173" y="387"/>
                  </a:lnTo>
                  <a:lnTo>
                    <a:pt x="163" y="391"/>
                  </a:lnTo>
                  <a:lnTo>
                    <a:pt x="154" y="393"/>
                  </a:lnTo>
                  <a:lnTo>
                    <a:pt x="148" y="394"/>
                  </a:lnTo>
                  <a:lnTo>
                    <a:pt x="142" y="412"/>
                  </a:lnTo>
                  <a:lnTo>
                    <a:pt x="138" y="429"/>
                  </a:lnTo>
                  <a:lnTo>
                    <a:pt x="135" y="446"/>
                  </a:lnTo>
                  <a:lnTo>
                    <a:pt x="131" y="463"/>
                  </a:lnTo>
                  <a:lnTo>
                    <a:pt x="129" y="479"/>
                  </a:lnTo>
                  <a:lnTo>
                    <a:pt x="125" y="494"/>
                  </a:lnTo>
                  <a:lnTo>
                    <a:pt x="121" y="509"/>
                  </a:lnTo>
                  <a:lnTo>
                    <a:pt x="119" y="523"/>
                  </a:lnTo>
                  <a:lnTo>
                    <a:pt x="117" y="536"/>
                  </a:lnTo>
                  <a:lnTo>
                    <a:pt x="115" y="550"/>
                  </a:lnTo>
                  <a:lnTo>
                    <a:pt x="113" y="563"/>
                  </a:lnTo>
                  <a:lnTo>
                    <a:pt x="112" y="574"/>
                  </a:lnTo>
                  <a:lnTo>
                    <a:pt x="112" y="586"/>
                  </a:lnTo>
                  <a:lnTo>
                    <a:pt x="110" y="595"/>
                  </a:lnTo>
                  <a:lnTo>
                    <a:pt x="110" y="605"/>
                  </a:lnTo>
                  <a:lnTo>
                    <a:pt x="110" y="615"/>
                  </a:lnTo>
                  <a:lnTo>
                    <a:pt x="110" y="618"/>
                  </a:lnTo>
                  <a:lnTo>
                    <a:pt x="110" y="622"/>
                  </a:lnTo>
                  <a:lnTo>
                    <a:pt x="108" y="626"/>
                  </a:lnTo>
                  <a:lnTo>
                    <a:pt x="106" y="628"/>
                  </a:lnTo>
                  <a:lnTo>
                    <a:pt x="104" y="630"/>
                  </a:lnTo>
                  <a:lnTo>
                    <a:pt x="102" y="632"/>
                  </a:lnTo>
                  <a:lnTo>
                    <a:pt x="100" y="632"/>
                  </a:lnTo>
                  <a:lnTo>
                    <a:pt x="96" y="632"/>
                  </a:lnTo>
                  <a:lnTo>
                    <a:pt x="92" y="632"/>
                  </a:lnTo>
                  <a:lnTo>
                    <a:pt x="89" y="630"/>
                  </a:lnTo>
                  <a:lnTo>
                    <a:pt x="83" y="628"/>
                  </a:lnTo>
                  <a:lnTo>
                    <a:pt x="79" y="626"/>
                  </a:lnTo>
                  <a:lnTo>
                    <a:pt x="73" y="622"/>
                  </a:lnTo>
                  <a:lnTo>
                    <a:pt x="66" y="617"/>
                  </a:lnTo>
                  <a:lnTo>
                    <a:pt x="60" y="611"/>
                  </a:lnTo>
                  <a:lnTo>
                    <a:pt x="52" y="605"/>
                  </a:lnTo>
                  <a:lnTo>
                    <a:pt x="48" y="601"/>
                  </a:lnTo>
                  <a:lnTo>
                    <a:pt x="44" y="595"/>
                  </a:lnTo>
                  <a:lnTo>
                    <a:pt x="42" y="592"/>
                  </a:lnTo>
                  <a:lnTo>
                    <a:pt x="39" y="586"/>
                  </a:lnTo>
                  <a:lnTo>
                    <a:pt x="37" y="580"/>
                  </a:lnTo>
                  <a:lnTo>
                    <a:pt x="35" y="572"/>
                  </a:lnTo>
                  <a:lnTo>
                    <a:pt x="31" y="567"/>
                  </a:lnTo>
                  <a:lnTo>
                    <a:pt x="29" y="557"/>
                  </a:lnTo>
                  <a:lnTo>
                    <a:pt x="27" y="550"/>
                  </a:lnTo>
                  <a:lnTo>
                    <a:pt x="27" y="540"/>
                  </a:lnTo>
                  <a:lnTo>
                    <a:pt x="25" y="530"/>
                  </a:lnTo>
                  <a:lnTo>
                    <a:pt x="23" y="521"/>
                  </a:lnTo>
                  <a:lnTo>
                    <a:pt x="23" y="511"/>
                  </a:lnTo>
                  <a:lnTo>
                    <a:pt x="21" y="500"/>
                  </a:lnTo>
                  <a:lnTo>
                    <a:pt x="21" y="488"/>
                  </a:lnTo>
                  <a:lnTo>
                    <a:pt x="21" y="475"/>
                  </a:lnTo>
                  <a:lnTo>
                    <a:pt x="21" y="456"/>
                  </a:lnTo>
                  <a:lnTo>
                    <a:pt x="21" y="437"/>
                  </a:lnTo>
                  <a:lnTo>
                    <a:pt x="21" y="421"/>
                  </a:lnTo>
                  <a:lnTo>
                    <a:pt x="19" y="406"/>
                  </a:lnTo>
                  <a:lnTo>
                    <a:pt x="19" y="393"/>
                  </a:lnTo>
                  <a:lnTo>
                    <a:pt x="19" y="381"/>
                  </a:lnTo>
                  <a:lnTo>
                    <a:pt x="19" y="371"/>
                  </a:lnTo>
                  <a:lnTo>
                    <a:pt x="18" y="362"/>
                  </a:lnTo>
                  <a:lnTo>
                    <a:pt x="18" y="356"/>
                  </a:lnTo>
                  <a:lnTo>
                    <a:pt x="18" y="350"/>
                  </a:lnTo>
                  <a:lnTo>
                    <a:pt x="16" y="345"/>
                  </a:lnTo>
                  <a:lnTo>
                    <a:pt x="16" y="339"/>
                  </a:lnTo>
                  <a:lnTo>
                    <a:pt x="14" y="335"/>
                  </a:lnTo>
                  <a:lnTo>
                    <a:pt x="14" y="333"/>
                  </a:lnTo>
                  <a:lnTo>
                    <a:pt x="12" y="329"/>
                  </a:lnTo>
                  <a:lnTo>
                    <a:pt x="12" y="327"/>
                  </a:lnTo>
                  <a:lnTo>
                    <a:pt x="8" y="326"/>
                  </a:lnTo>
                  <a:lnTo>
                    <a:pt x="6" y="320"/>
                  </a:lnTo>
                  <a:lnTo>
                    <a:pt x="4" y="314"/>
                  </a:lnTo>
                  <a:lnTo>
                    <a:pt x="4" y="306"/>
                  </a:lnTo>
                  <a:lnTo>
                    <a:pt x="2" y="299"/>
                  </a:lnTo>
                  <a:lnTo>
                    <a:pt x="0" y="289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2"/>
                  </a:lnTo>
                  <a:lnTo>
                    <a:pt x="0" y="259"/>
                  </a:lnTo>
                  <a:lnTo>
                    <a:pt x="2" y="255"/>
                  </a:lnTo>
                  <a:lnTo>
                    <a:pt x="2" y="253"/>
                  </a:lnTo>
                  <a:lnTo>
                    <a:pt x="2" y="251"/>
                  </a:lnTo>
                  <a:lnTo>
                    <a:pt x="2" y="249"/>
                  </a:lnTo>
                  <a:lnTo>
                    <a:pt x="4" y="247"/>
                  </a:lnTo>
                  <a:lnTo>
                    <a:pt x="12" y="239"/>
                  </a:lnTo>
                  <a:lnTo>
                    <a:pt x="18" y="232"/>
                  </a:lnTo>
                  <a:lnTo>
                    <a:pt x="21" y="224"/>
                  </a:lnTo>
                  <a:lnTo>
                    <a:pt x="25" y="216"/>
                  </a:lnTo>
                  <a:lnTo>
                    <a:pt x="27" y="211"/>
                  </a:lnTo>
                  <a:lnTo>
                    <a:pt x="31" y="207"/>
                  </a:lnTo>
                  <a:lnTo>
                    <a:pt x="33" y="203"/>
                  </a:lnTo>
                  <a:lnTo>
                    <a:pt x="35" y="203"/>
                  </a:lnTo>
                  <a:lnTo>
                    <a:pt x="37" y="203"/>
                  </a:lnTo>
                  <a:lnTo>
                    <a:pt x="37" y="203"/>
                  </a:lnTo>
                  <a:lnTo>
                    <a:pt x="37" y="205"/>
                  </a:lnTo>
                  <a:lnTo>
                    <a:pt x="39" y="207"/>
                  </a:lnTo>
                  <a:lnTo>
                    <a:pt x="39" y="211"/>
                  </a:lnTo>
                  <a:lnTo>
                    <a:pt x="39" y="218"/>
                  </a:lnTo>
                  <a:lnTo>
                    <a:pt x="37" y="232"/>
                  </a:lnTo>
                  <a:lnTo>
                    <a:pt x="37" y="247"/>
                  </a:lnTo>
                  <a:lnTo>
                    <a:pt x="37" y="253"/>
                  </a:lnTo>
                  <a:lnTo>
                    <a:pt x="37" y="260"/>
                  </a:lnTo>
                  <a:lnTo>
                    <a:pt x="39" y="266"/>
                  </a:lnTo>
                  <a:lnTo>
                    <a:pt x="41" y="272"/>
                  </a:lnTo>
                  <a:lnTo>
                    <a:pt x="42" y="276"/>
                  </a:lnTo>
                  <a:lnTo>
                    <a:pt x="46" y="280"/>
                  </a:lnTo>
                  <a:lnTo>
                    <a:pt x="50" y="285"/>
                  </a:lnTo>
                  <a:lnTo>
                    <a:pt x="56" y="289"/>
                  </a:lnTo>
                  <a:lnTo>
                    <a:pt x="62" y="293"/>
                  </a:lnTo>
                  <a:lnTo>
                    <a:pt x="66" y="299"/>
                  </a:lnTo>
                  <a:lnTo>
                    <a:pt x="71" y="306"/>
                  </a:lnTo>
                  <a:lnTo>
                    <a:pt x="75" y="314"/>
                  </a:lnTo>
                  <a:lnTo>
                    <a:pt x="79" y="322"/>
                  </a:lnTo>
                  <a:lnTo>
                    <a:pt x="83" y="331"/>
                  </a:lnTo>
                  <a:lnTo>
                    <a:pt x="83" y="339"/>
                  </a:lnTo>
                  <a:lnTo>
                    <a:pt x="85" y="349"/>
                  </a:lnTo>
                  <a:lnTo>
                    <a:pt x="85" y="356"/>
                  </a:lnTo>
                  <a:lnTo>
                    <a:pt x="83" y="364"/>
                  </a:lnTo>
                  <a:lnTo>
                    <a:pt x="81" y="370"/>
                  </a:lnTo>
                  <a:lnTo>
                    <a:pt x="77" y="375"/>
                  </a:lnTo>
                  <a:lnTo>
                    <a:pt x="73" y="381"/>
                  </a:lnTo>
                  <a:lnTo>
                    <a:pt x="69" y="389"/>
                  </a:lnTo>
                  <a:lnTo>
                    <a:pt x="66" y="396"/>
                  </a:lnTo>
                  <a:lnTo>
                    <a:pt x="62" y="406"/>
                  </a:lnTo>
                  <a:lnTo>
                    <a:pt x="60" y="416"/>
                  </a:lnTo>
                  <a:lnTo>
                    <a:pt x="56" y="425"/>
                  </a:lnTo>
                  <a:lnTo>
                    <a:pt x="54" y="437"/>
                  </a:lnTo>
                  <a:lnTo>
                    <a:pt x="52" y="448"/>
                  </a:lnTo>
                  <a:lnTo>
                    <a:pt x="48" y="473"/>
                  </a:lnTo>
                  <a:lnTo>
                    <a:pt x="46" y="496"/>
                  </a:lnTo>
                  <a:lnTo>
                    <a:pt x="44" y="517"/>
                  </a:lnTo>
                  <a:lnTo>
                    <a:pt x="42" y="536"/>
                  </a:lnTo>
                  <a:lnTo>
                    <a:pt x="44" y="542"/>
                  </a:lnTo>
                  <a:lnTo>
                    <a:pt x="44" y="546"/>
                  </a:lnTo>
                  <a:lnTo>
                    <a:pt x="48" y="548"/>
                  </a:lnTo>
                  <a:lnTo>
                    <a:pt x="50" y="550"/>
                  </a:lnTo>
                  <a:lnTo>
                    <a:pt x="54" y="548"/>
                  </a:lnTo>
                  <a:lnTo>
                    <a:pt x="56" y="548"/>
                  </a:lnTo>
                  <a:lnTo>
                    <a:pt x="58" y="546"/>
                  </a:lnTo>
                  <a:lnTo>
                    <a:pt x="58" y="544"/>
                  </a:lnTo>
                  <a:lnTo>
                    <a:pt x="60" y="542"/>
                  </a:lnTo>
                  <a:lnTo>
                    <a:pt x="62" y="538"/>
                  </a:lnTo>
                  <a:lnTo>
                    <a:pt x="64" y="532"/>
                  </a:lnTo>
                  <a:lnTo>
                    <a:pt x="67" y="525"/>
                  </a:lnTo>
                  <a:lnTo>
                    <a:pt x="71" y="515"/>
                  </a:lnTo>
                  <a:lnTo>
                    <a:pt x="75" y="505"/>
                  </a:lnTo>
                  <a:lnTo>
                    <a:pt x="79" y="494"/>
                  </a:lnTo>
                  <a:lnTo>
                    <a:pt x="85" y="481"/>
                  </a:lnTo>
                  <a:lnTo>
                    <a:pt x="89" y="467"/>
                  </a:lnTo>
                  <a:lnTo>
                    <a:pt x="94" y="454"/>
                  </a:lnTo>
                  <a:lnTo>
                    <a:pt x="100" y="438"/>
                  </a:lnTo>
                  <a:lnTo>
                    <a:pt x="106" y="423"/>
                  </a:lnTo>
                  <a:lnTo>
                    <a:pt x="112" y="406"/>
                  </a:lnTo>
                  <a:lnTo>
                    <a:pt x="117" y="389"/>
                  </a:lnTo>
                  <a:lnTo>
                    <a:pt x="123" y="370"/>
                  </a:lnTo>
                  <a:lnTo>
                    <a:pt x="135" y="333"/>
                  </a:lnTo>
                  <a:lnTo>
                    <a:pt x="146" y="295"/>
                  </a:lnTo>
                  <a:lnTo>
                    <a:pt x="156" y="257"/>
                  </a:lnTo>
                  <a:lnTo>
                    <a:pt x="167" y="218"/>
                  </a:lnTo>
                  <a:lnTo>
                    <a:pt x="169" y="211"/>
                  </a:lnTo>
                  <a:lnTo>
                    <a:pt x="171" y="205"/>
                  </a:lnTo>
                  <a:lnTo>
                    <a:pt x="173" y="199"/>
                  </a:lnTo>
                  <a:lnTo>
                    <a:pt x="175" y="193"/>
                  </a:lnTo>
                  <a:lnTo>
                    <a:pt x="177" y="190"/>
                  </a:lnTo>
                  <a:lnTo>
                    <a:pt x="179" y="186"/>
                  </a:lnTo>
                  <a:lnTo>
                    <a:pt x="183" y="182"/>
                  </a:lnTo>
                  <a:lnTo>
                    <a:pt x="184" y="178"/>
                  </a:lnTo>
                  <a:lnTo>
                    <a:pt x="188" y="174"/>
                  </a:lnTo>
                  <a:lnTo>
                    <a:pt x="194" y="169"/>
                  </a:lnTo>
                  <a:lnTo>
                    <a:pt x="202" y="165"/>
                  </a:lnTo>
                  <a:lnTo>
                    <a:pt x="207" y="161"/>
                  </a:lnTo>
                  <a:lnTo>
                    <a:pt x="223" y="153"/>
                  </a:lnTo>
                  <a:lnTo>
                    <a:pt x="236" y="147"/>
                  </a:lnTo>
                  <a:lnTo>
                    <a:pt x="250" y="142"/>
                  </a:lnTo>
                  <a:lnTo>
                    <a:pt x="261" y="136"/>
                  </a:lnTo>
                  <a:lnTo>
                    <a:pt x="271" y="130"/>
                  </a:lnTo>
                  <a:lnTo>
                    <a:pt x="278" y="125"/>
                  </a:lnTo>
                  <a:lnTo>
                    <a:pt x="286" y="121"/>
                  </a:lnTo>
                  <a:lnTo>
                    <a:pt x="294" y="115"/>
                  </a:lnTo>
                  <a:lnTo>
                    <a:pt x="294" y="107"/>
                  </a:lnTo>
                  <a:lnTo>
                    <a:pt x="294" y="98"/>
                  </a:lnTo>
                  <a:lnTo>
                    <a:pt x="296" y="90"/>
                  </a:lnTo>
                  <a:lnTo>
                    <a:pt x="296" y="84"/>
                  </a:lnTo>
                  <a:lnTo>
                    <a:pt x="296" y="77"/>
                  </a:lnTo>
                  <a:lnTo>
                    <a:pt x="296" y="71"/>
                  </a:lnTo>
                  <a:lnTo>
                    <a:pt x="296" y="65"/>
                  </a:lnTo>
                  <a:lnTo>
                    <a:pt x="296" y="61"/>
                  </a:lnTo>
                  <a:lnTo>
                    <a:pt x="296" y="54"/>
                  </a:lnTo>
                  <a:lnTo>
                    <a:pt x="296" y="48"/>
                  </a:lnTo>
                  <a:lnTo>
                    <a:pt x="296" y="44"/>
                  </a:lnTo>
                  <a:lnTo>
                    <a:pt x="294" y="40"/>
                  </a:lnTo>
                  <a:lnTo>
                    <a:pt x="292" y="36"/>
                  </a:lnTo>
                  <a:lnTo>
                    <a:pt x="292" y="35"/>
                  </a:lnTo>
                  <a:lnTo>
                    <a:pt x="290" y="33"/>
                  </a:lnTo>
                  <a:lnTo>
                    <a:pt x="286" y="33"/>
                  </a:lnTo>
                  <a:lnTo>
                    <a:pt x="282" y="33"/>
                  </a:lnTo>
                  <a:lnTo>
                    <a:pt x="278" y="31"/>
                  </a:lnTo>
                  <a:lnTo>
                    <a:pt x="275" y="31"/>
                  </a:lnTo>
                  <a:lnTo>
                    <a:pt x="271" y="29"/>
                  </a:lnTo>
                  <a:lnTo>
                    <a:pt x="269" y="27"/>
                  </a:lnTo>
                  <a:lnTo>
                    <a:pt x="267" y="23"/>
                  </a:lnTo>
                  <a:lnTo>
                    <a:pt x="265" y="21"/>
                  </a:lnTo>
                  <a:lnTo>
                    <a:pt x="265" y="17"/>
                  </a:lnTo>
                  <a:lnTo>
                    <a:pt x="267" y="15"/>
                  </a:lnTo>
                  <a:lnTo>
                    <a:pt x="269" y="12"/>
                  </a:lnTo>
                  <a:lnTo>
                    <a:pt x="273" y="8"/>
                  </a:lnTo>
                  <a:lnTo>
                    <a:pt x="278" y="6"/>
                  </a:lnTo>
                  <a:lnTo>
                    <a:pt x="284" y="2"/>
                  </a:lnTo>
                  <a:lnTo>
                    <a:pt x="290" y="0"/>
                  </a:lnTo>
                  <a:lnTo>
                    <a:pt x="296" y="0"/>
                  </a:lnTo>
                  <a:lnTo>
                    <a:pt x="301" y="0"/>
                  </a:lnTo>
                  <a:lnTo>
                    <a:pt x="307" y="0"/>
                  </a:lnTo>
                  <a:lnTo>
                    <a:pt x="317" y="2"/>
                  </a:lnTo>
                  <a:lnTo>
                    <a:pt x="326" y="4"/>
                  </a:lnTo>
                  <a:lnTo>
                    <a:pt x="340" y="10"/>
                  </a:lnTo>
                  <a:lnTo>
                    <a:pt x="346" y="12"/>
                  </a:lnTo>
                  <a:lnTo>
                    <a:pt x="349" y="15"/>
                  </a:lnTo>
                  <a:lnTo>
                    <a:pt x="353" y="19"/>
                  </a:lnTo>
                  <a:lnTo>
                    <a:pt x="357" y="25"/>
                  </a:lnTo>
                  <a:lnTo>
                    <a:pt x="361" y="31"/>
                  </a:lnTo>
                  <a:lnTo>
                    <a:pt x="363" y="36"/>
                  </a:lnTo>
                  <a:lnTo>
                    <a:pt x="363" y="42"/>
                  </a:lnTo>
                  <a:lnTo>
                    <a:pt x="365" y="50"/>
                  </a:lnTo>
                  <a:lnTo>
                    <a:pt x="363" y="56"/>
                  </a:lnTo>
                  <a:lnTo>
                    <a:pt x="363" y="65"/>
                  </a:lnTo>
                  <a:lnTo>
                    <a:pt x="361" y="73"/>
                  </a:lnTo>
                  <a:lnTo>
                    <a:pt x="359" y="84"/>
                  </a:lnTo>
                  <a:lnTo>
                    <a:pt x="371" y="84"/>
                  </a:lnTo>
                  <a:lnTo>
                    <a:pt x="382" y="86"/>
                  </a:lnTo>
                  <a:lnTo>
                    <a:pt x="392" y="88"/>
                  </a:lnTo>
                  <a:lnTo>
                    <a:pt x="401" y="92"/>
                  </a:lnTo>
                  <a:lnTo>
                    <a:pt x="405" y="96"/>
                  </a:lnTo>
                  <a:lnTo>
                    <a:pt x="409" y="98"/>
                  </a:lnTo>
                  <a:lnTo>
                    <a:pt x="413" y="100"/>
                  </a:lnTo>
                  <a:lnTo>
                    <a:pt x="415" y="103"/>
                  </a:lnTo>
                  <a:lnTo>
                    <a:pt x="417" y="105"/>
                  </a:lnTo>
                  <a:lnTo>
                    <a:pt x="418" y="107"/>
                  </a:lnTo>
                  <a:lnTo>
                    <a:pt x="418" y="109"/>
                  </a:lnTo>
                  <a:lnTo>
                    <a:pt x="418" y="111"/>
                  </a:lnTo>
                  <a:lnTo>
                    <a:pt x="418" y="117"/>
                  </a:lnTo>
                  <a:lnTo>
                    <a:pt x="417" y="121"/>
                  </a:lnTo>
                  <a:lnTo>
                    <a:pt x="415" y="125"/>
                  </a:lnTo>
                  <a:lnTo>
                    <a:pt x="413" y="128"/>
                  </a:lnTo>
                  <a:lnTo>
                    <a:pt x="411" y="132"/>
                  </a:lnTo>
                  <a:lnTo>
                    <a:pt x="407" y="134"/>
                  </a:lnTo>
                  <a:lnTo>
                    <a:pt x="403" y="138"/>
                  </a:lnTo>
                  <a:lnTo>
                    <a:pt x="401" y="138"/>
                  </a:lnTo>
                  <a:lnTo>
                    <a:pt x="397" y="140"/>
                  </a:lnTo>
                  <a:lnTo>
                    <a:pt x="392" y="142"/>
                  </a:lnTo>
                  <a:lnTo>
                    <a:pt x="386" y="142"/>
                  </a:lnTo>
                  <a:lnTo>
                    <a:pt x="378" y="142"/>
                  </a:lnTo>
                  <a:lnTo>
                    <a:pt x="369" y="142"/>
                  </a:lnTo>
                  <a:lnTo>
                    <a:pt x="359" y="142"/>
                  </a:lnTo>
                  <a:lnTo>
                    <a:pt x="351" y="144"/>
                  </a:lnTo>
                  <a:lnTo>
                    <a:pt x="346" y="146"/>
                  </a:lnTo>
                  <a:lnTo>
                    <a:pt x="344" y="151"/>
                  </a:lnTo>
                  <a:lnTo>
                    <a:pt x="342" y="157"/>
                  </a:lnTo>
                  <a:lnTo>
                    <a:pt x="342" y="161"/>
                  </a:lnTo>
                  <a:lnTo>
                    <a:pt x="342" y="163"/>
                  </a:lnTo>
                  <a:lnTo>
                    <a:pt x="342" y="167"/>
                  </a:lnTo>
                  <a:lnTo>
                    <a:pt x="342" y="169"/>
                  </a:lnTo>
                  <a:lnTo>
                    <a:pt x="349" y="172"/>
                  </a:lnTo>
                  <a:lnTo>
                    <a:pt x="357" y="176"/>
                  </a:lnTo>
                  <a:lnTo>
                    <a:pt x="365" y="178"/>
                  </a:lnTo>
                  <a:lnTo>
                    <a:pt x="371" y="182"/>
                  </a:lnTo>
                  <a:lnTo>
                    <a:pt x="374" y="184"/>
                  </a:lnTo>
                  <a:lnTo>
                    <a:pt x="378" y="188"/>
                  </a:lnTo>
                  <a:lnTo>
                    <a:pt x="382" y="190"/>
                  </a:lnTo>
                  <a:lnTo>
                    <a:pt x="384" y="193"/>
                  </a:lnTo>
                  <a:lnTo>
                    <a:pt x="386" y="197"/>
                  </a:lnTo>
                  <a:lnTo>
                    <a:pt x="388" y="203"/>
                  </a:lnTo>
                  <a:lnTo>
                    <a:pt x="390" y="207"/>
                  </a:lnTo>
                  <a:lnTo>
                    <a:pt x="390" y="211"/>
                  </a:lnTo>
                  <a:lnTo>
                    <a:pt x="390" y="213"/>
                  </a:lnTo>
                  <a:lnTo>
                    <a:pt x="388" y="214"/>
                  </a:lnTo>
                  <a:lnTo>
                    <a:pt x="386" y="220"/>
                  </a:lnTo>
                  <a:lnTo>
                    <a:pt x="380" y="224"/>
                  </a:lnTo>
                  <a:lnTo>
                    <a:pt x="374" y="230"/>
                  </a:lnTo>
                  <a:lnTo>
                    <a:pt x="367" y="236"/>
                  </a:lnTo>
                  <a:lnTo>
                    <a:pt x="359" y="243"/>
                  </a:lnTo>
                  <a:lnTo>
                    <a:pt x="351" y="253"/>
                  </a:lnTo>
                  <a:lnTo>
                    <a:pt x="344" y="262"/>
                  </a:lnTo>
                  <a:lnTo>
                    <a:pt x="344" y="262"/>
                  </a:lnTo>
                  <a:close/>
                  <a:moveTo>
                    <a:pt x="254" y="207"/>
                  </a:moveTo>
                  <a:lnTo>
                    <a:pt x="246" y="203"/>
                  </a:lnTo>
                  <a:lnTo>
                    <a:pt x="236" y="201"/>
                  </a:lnTo>
                  <a:lnTo>
                    <a:pt x="229" y="201"/>
                  </a:lnTo>
                  <a:lnTo>
                    <a:pt x="221" y="201"/>
                  </a:lnTo>
                  <a:lnTo>
                    <a:pt x="211" y="201"/>
                  </a:lnTo>
                  <a:lnTo>
                    <a:pt x="206" y="201"/>
                  </a:lnTo>
                  <a:lnTo>
                    <a:pt x="198" y="201"/>
                  </a:lnTo>
                  <a:lnTo>
                    <a:pt x="192" y="201"/>
                  </a:lnTo>
                  <a:lnTo>
                    <a:pt x="192" y="214"/>
                  </a:lnTo>
                  <a:lnTo>
                    <a:pt x="192" y="228"/>
                  </a:lnTo>
                  <a:lnTo>
                    <a:pt x="188" y="241"/>
                  </a:lnTo>
                  <a:lnTo>
                    <a:pt x="184" y="255"/>
                  </a:lnTo>
                  <a:lnTo>
                    <a:pt x="179" y="266"/>
                  </a:lnTo>
                  <a:lnTo>
                    <a:pt x="175" y="278"/>
                  </a:lnTo>
                  <a:lnTo>
                    <a:pt x="171" y="287"/>
                  </a:lnTo>
                  <a:lnTo>
                    <a:pt x="169" y="297"/>
                  </a:lnTo>
                  <a:lnTo>
                    <a:pt x="167" y="306"/>
                  </a:lnTo>
                  <a:lnTo>
                    <a:pt x="165" y="318"/>
                  </a:lnTo>
                  <a:lnTo>
                    <a:pt x="165" y="329"/>
                  </a:lnTo>
                  <a:lnTo>
                    <a:pt x="163" y="341"/>
                  </a:lnTo>
                  <a:lnTo>
                    <a:pt x="179" y="329"/>
                  </a:lnTo>
                  <a:lnTo>
                    <a:pt x="192" y="320"/>
                  </a:lnTo>
                  <a:lnTo>
                    <a:pt x="206" y="310"/>
                  </a:lnTo>
                  <a:lnTo>
                    <a:pt x="215" y="303"/>
                  </a:lnTo>
                  <a:lnTo>
                    <a:pt x="225" y="297"/>
                  </a:lnTo>
                  <a:lnTo>
                    <a:pt x="234" y="291"/>
                  </a:lnTo>
                  <a:lnTo>
                    <a:pt x="240" y="285"/>
                  </a:lnTo>
                  <a:lnTo>
                    <a:pt x="246" y="281"/>
                  </a:lnTo>
                  <a:lnTo>
                    <a:pt x="236" y="280"/>
                  </a:lnTo>
                  <a:lnTo>
                    <a:pt x="227" y="276"/>
                  </a:lnTo>
                  <a:lnTo>
                    <a:pt x="217" y="270"/>
                  </a:lnTo>
                  <a:lnTo>
                    <a:pt x="209" y="264"/>
                  </a:lnTo>
                  <a:lnTo>
                    <a:pt x="206" y="260"/>
                  </a:lnTo>
                  <a:lnTo>
                    <a:pt x="202" y="257"/>
                  </a:lnTo>
                  <a:lnTo>
                    <a:pt x="200" y="255"/>
                  </a:lnTo>
                  <a:lnTo>
                    <a:pt x="198" y="251"/>
                  </a:lnTo>
                  <a:lnTo>
                    <a:pt x="196" y="249"/>
                  </a:lnTo>
                  <a:lnTo>
                    <a:pt x="194" y="247"/>
                  </a:lnTo>
                  <a:lnTo>
                    <a:pt x="194" y="243"/>
                  </a:lnTo>
                  <a:lnTo>
                    <a:pt x="192" y="241"/>
                  </a:lnTo>
                  <a:lnTo>
                    <a:pt x="194" y="239"/>
                  </a:lnTo>
                  <a:lnTo>
                    <a:pt x="194" y="237"/>
                  </a:lnTo>
                  <a:lnTo>
                    <a:pt x="196" y="236"/>
                  </a:lnTo>
                  <a:lnTo>
                    <a:pt x="198" y="234"/>
                  </a:lnTo>
                  <a:lnTo>
                    <a:pt x="200" y="234"/>
                  </a:lnTo>
                  <a:lnTo>
                    <a:pt x="202" y="232"/>
                  </a:lnTo>
                  <a:lnTo>
                    <a:pt x="206" y="232"/>
                  </a:lnTo>
                  <a:lnTo>
                    <a:pt x="209" y="232"/>
                  </a:lnTo>
                  <a:lnTo>
                    <a:pt x="213" y="230"/>
                  </a:lnTo>
                  <a:lnTo>
                    <a:pt x="219" y="228"/>
                  </a:lnTo>
                  <a:lnTo>
                    <a:pt x="225" y="226"/>
                  </a:lnTo>
                  <a:lnTo>
                    <a:pt x="232" y="222"/>
                  </a:lnTo>
                  <a:lnTo>
                    <a:pt x="238" y="218"/>
                  </a:lnTo>
                  <a:lnTo>
                    <a:pt x="244" y="214"/>
                  </a:lnTo>
                  <a:lnTo>
                    <a:pt x="250" y="211"/>
                  </a:lnTo>
                  <a:lnTo>
                    <a:pt x="254" y="207"/>
                  </a:lnTo>
                  <a:lnTo>
                    <a:pt x="254" y="207"/>
                  </a:lnTo>
                  <a:close/>
                  <a:moveTo>
                    <a:pt x="376" y="488"/>
                  </a:moveTo>
                  <a:lnTo>
                    <a:pt x="374" y="475"/>
                  </a:lnTo>
                  <a:lnTo>
                    <a:pt x="374" y="463"/>
                  </a:lnTo>
                  <a:lnTo>
                    <a:pt x="372" y="452"/>
                  </a:lnTo>
                  <a:lnTo>
                    <a:pt x="372" y="440"/>
                  </a:lnTo>
                  <a:lnTo>
                    <a:pt x="371" y="431"/>
                  </a:lnTo>
                  <a:lnTo>
                    <a:pt x="371" y="421"/>
                  </a:lnTo>
                  <a:lnTo>
                    <a:pt x="371" y="414"/>
                  </a:lnTo>
                  <a:lnTo>
                    <a:pt x="369" y="406"/>
                  </a:lnTo>
                  <a:lnTo>
                    <a:pt x="369" y="398"/>
                  </a:lnTo>
                  <a:lnTo>
                    <a:pt x="369" y="393"/>
                  </a:lnTo>
                  <a:lnTo>
                    <a:pt x="367" y="387"/>
                  </a:lnTo>
                  <a:lnTo>
                    <a:pt x="367" y="381"/>
                  </a:lnTo>
                  <a:lnTo>
                    <a:pt x="367" y="377"/>
                  </a:lnTo>
                  <a:lnTo>
                    <a:pt x="365" y="375"/>
                  </a:lnTo>
                  <a:lnTo>
                    <a:pt x="365" y="371"/>
                  </a:lnTo>
                  <a:lnTo>
                    <a:pt x="365" y="371"/>
                  </a:lnTo>
                  <a:lnTo>
                    <a:pt x="363" y="368"/>
                  </a:lnTo>
                  <a:lnTo>
                    <a:pt x="361" y="364"/>
                  </a:lnTo>
                  <a:lnTo>
                    <a:pt x="359" y="364"/>
                  </a:lnTo>
                  <a:lnTo>
                    <a:pt x="355" y="362"/>
                  </a:lnTo>
                  <a:lnTo>
                    <a:pt x="353" y="362"/>
                  </a:lnTo>
                  <a:lnTo>
                    <a:pt x="349" y="364"/>
                  </a:lnTo>
                  <a:lnTo>
                    <a:pt x="346" y="366"/>
                  </a:lnTo>
                  <a:lnTo>
                    <a:pt x="342" y="368"/>
                  </a:lnTo>
                  <a:lnTo>
                    <a:pt x="338" y="371"/>
                  </a:lnTo>
                  <a:lnTo>
                    <a:pt x="330" y="375"/>
                  </a:lnTo>
                  <a:lnTo>
                    <a:pt x="323" y="379"/>
                  </a:lnTo>
                  <a:lnTo>
                    <a:pt x="313" y="383"/>
                  </a:lnTo>
                  <a:lnTo>
                    <a:pt x="301" y="389"/>
                  </a:lnTo>
                  <a:lnTo>
                    <a:pt x="294" y="394"/>
                  </a:lnTo>
                  <a:lnTo>
                    <a:pt x="286" y="400"/>
                  </a:lnTo>
                  <a:lnTo>
                    <a:pt x="278" y="408"/>
                  </a:lnTo>
                  <a:lnTo>
                    <a:pt x="277" y="412"/>
                  </a:lnTo>
                  <a:lnTo>
                    <a:pt x="275" y="416"/>
                  </a:lnTo>
                  <a:lnTo>
                    <a:pt x="273" y="421"/>
                  </a:lnTo>
                  <a:lnTo>
                    <a:pt x="271" y="427"/>
                  </a:lnTo>
                  <a:lnTo>
                    <a:pt x="269" y="435"/>
                  </a:lnTo>
                  <a:lnTo>
                    <a:pt x="269" y="442"/>
                  </a:lnTo>
                  <a:lnTo>
                    <a:pt x="269" y="452"/>
                  </a:lnTo>
                  <a:lnTo>
                    <a:pt x="269" y="461"/>
                  </a:lnTo>
                  <a:lnTo>
                    <a:pt x="273" y="454"/>
                  </a:lnTo>
                  <a:lnTo>
                    <a:pt x="275" y="446"/>
                  </a:lnTo>
                  <a:lnTo>
                    <a:pt x="278" y="440"/>
                  </a:lnTo>
                  <a:lnTo>
                    <a:pt x="280" y="435"/>
                  </a:lnTo>
                  <a:lnTo>
                    <a:pt x="284" y="429"/>
                  </a:lnTo>
                  <a:lnTo>
                    <a:pt x="286" y="425"/>
                  </a:lnTo>
                  <a:lnTo>
                    <a:pt x="292" y="417"/>
                  </a:lnTo>
                  <a:lnTo>
                    <a:pt x="296" y="412"/>
                  </a:lnTo>
                  <a:lnTo>
                    <a:pt x="301" y="408"/>
                  </a:lnTo>
                  <a:lnTo>
                    <a:pt x="309" y="404"/>
                  </a:lnTo>
                  <a:lnTo>
                    <a:pt x="315" y="404"/>
                  </a:lnTo>
                  <a:lnTo>
                    <a:pt x="323" y="404"/>
                  </a:lnTo>
                  <a:lnTo>
                    <a:pt x="330" y="406"/>
                  </a:lnTo>
                  <a:lnTo>
                    <a:pt x="338" y="408"/>
                  </a:lnTo>
                  <a:lnTo>
                    <a:pt x="346" y="410"/>
                  </a:lnTo>
                  <a:lnTo>
                    <a:pt x="349" y="412"/>
                  </a:lnTo>
                  <a:lnTo>
                    <a:pt x="351" y="414"/>
                  </a:lnTo>
                  <a:lnTo>
                    <a:pt x="355" y="417"/>
                  </a:lnTo>
                  <a:lnTo>
                    <a:pt x="357" y="421"/>
                  </a:lnTo>
                  <a:lnTo>
                    <a:pt x="359" y="425"/>
                  </a:lnTo>
                  <a:lnTo>
                    <a:pt x="359" y="429"/>
                  </a:lnTo>
                  <a:lnTo>
                    <a:pt x="361" y="433"/>
                  </a:lnTo>
                  <a:lnTo>
                    <a:pt x="361" y="438"/>
                  </a:lnTo>
                  <a:lnTo>
                    <a:pt x="361" y="446"/>
                  </a:lnTo>
                  <a:lnTo>
                    <a:pt x="359" y="454"/>
                  </a:lnTo>
                  <a:lnTo>
                    <a:pt x="357" y="460"/>
                  </a:lnTo>
                  <a:lnTo>
                    <a:pt x="355" y="465"/>
                  </a:lnTo>
                  <a:lnTo>
                    <a:pt x="353" y="469"/>
                  </a:lnTo>
                  <a:lnTo>
                    <a:pt x="351" y="473"/>
                  </a:lnTo>
                  <a:lnTo>
                    <a:pt x="349" y="477"/>
                  </a:lnTo>
                  <a:lnTo>
                    <a:pt x="349" y="479"/>
                  </a:lnTo>
                  <a:lnTo>
                    <a:pt x="349" y="481"/>
                  </a:lnTo>
                  <a:lnTo>
                    <a:pt x="351" y="483"/>
                  </a:lnTo>
                  <a:lnTo>
                    <a:pt x="353" y="484"/>
                  </a:lnTo>
                  <a:lnTo>
                    <a:pt x="357" y="486"/>
                  </a:lnTo>
                  <a:lnTo>
                    <a:pt x="359" y="488"/>
                  </a:lnTo>
                  <a:lnTo>
                    <a:pt x="365" y="488"/>
                  </a:lnTo>
                  <a:lnTo>
                    <a:pt x="371" y="488"/>
                  </a:lnTo>
                  <a:lnTo>
                    <a:pt x="376" y="488"/>
                  </a:lnTo>
                  <a:lnTo>
                    <a:pt x="376" y="488"/>
                  </a:lnTo>
                  <a:close/>
                  <a:moveTo>
                    <a:pt x="376" y="534"/>
                  </a:moveTo>
                  <a:lnTo>
                    <a:pt x="367" y="534"/>
                  </a:lnTo>
                  <a:lnTo>
                    <a:pt x="357" y="532"/>
                  </a:lnTo>
                  <a:lnTo>
                    <a:pt x="348" y="530"/>
                  </a:lnTo>
                  <a:lnTo>
                    <a:pt x="338" y="528"/>
                  </a:lnTo>
                  <a:lnTo>
                    <a:pt x="332" y="527"/>
                  </a:lnTo>
                  <a:lnTo>
                    <a:pt x="328" y="525"/>
                  </a:lnTo>
                  <a:lnTo>
                    <a:pt x="324" y="523"/>
                  </a:lnTo>
                  <a:lnTo>
                    <a:pt x="323" y="521"/>
                  </a:lnTo>
                  <a:lnTo>
                    <a:pt x="317" y="517"/>
                  </a:lnTo>
                  <a:lnTo>
                    <a:pt x="315" y="513"/>
                  </a:lnTo>
                  <a:lnTo>
                    <a:pt x="311" y="509"/>
                  </a:lnTo>
                  <a:lnTo>
                    <a:pt x="311" y="504"/>
                  </a:lnTo>
                  <a:lnTo>
                    <a:pt x="309" y="496"/>
                  </a:lnTo>
                  <a:lnTo>
                    <a:pt x="309" y="488"/>
                  </a:lnTo>
                  <a:lnTo>
                    <a:pt x="309" y="484"/>
                  </a:lnTo>
                  <a:lnTo>
                    <a:pt x="309" y="481"/>
                  </a:lnTo>
                  <a:lnTo>
                    <a:pt x="309" y="477"/>
                  </a:lnTo>
                  <a:lnTo>
                    <a:pt x="309" y="475"/>
                  </a:lnTo>
                  <a:lnTo>
                    <a:pt x="307" y="473"/>
                  </a:lnTo>
                  <a:lnTo>
                    <a:pt x="307" y="471"/>
                  </a:lnTo>
                  <a:lnTo>
                    <a:pt x="305" y="471"/>
                  </a:lnTo>
                  <a:lnTo>
                    <a:pt x="303" y="471"/>
                  </a:lnTo>
                  <a:lnTo>
                    <a:pt x="301" y="471"/>
                  </a:lnTo>
                  <a:lnTo>
                    <a:pt x="298" y="473"/>
                  </a:lnTo>
                  <a:lnTo>
                    <a:pt x="296" y="475"/>
                  </a:lnTo>
                  <a:lnTo>
                    <a:pt x="294" y="477"/>
                  </a:lnTo>
                  <a:lnTo>
                    <a:pt x="290" y="481"/>
                  </a:lnTo>
                  <a:lnTo>
                    <a:pt x="288" y="486"/>
                  </a:lnTo>
                  <a:lnTo>
                    <a:pt x="286" y="490"/>
                  </a:lnTo>
                  <a:lnTo>
                    <a:pt x="286" y="496"/>
                  </a:lnTo>
                  <a:lnTo>
                    <a:pt x="288" y="502"/>
                  </a:lnTo>
                  <a:lnTo>
                    <a:pt x="288" y="509"/>
                  </a:lnTo>
                  <a:lnTo>
                    <a:pt x="292" y="515"/>
                  </a:lnTo>
                  <a:lnTo>
                    <a:pt x="296" y="523"/>
                  </a:lnTo>
                  <a:lnTo>
                    <a:pt x="300" y="530"/>
                  </a:lnTo>
                  <a:lnTo>
                    <a:pt x="305" y="538"/>
                  </a:lnTo>
                  <a:lnTo>
                    <a:pt x="313" y="548"/>
                  </a:lnTo>
                  <a:lnTo>
                    <a:pt x="321" y="559"/>
                  </a:lnTo>
                  <a:lnTo>
                    <a:pt x="328" y="569"/>
                  </a:lnTo>
                  <a:lnTo>
                    <a:pt x="338" y="576"/>
                  </a:lnTo>
                  <a:lnTo>
                    <a:pt x="346" y="584"/>
                  </a:lnTo>
                  <a:lnTo>
                    <a:pt x="353" y="590"/>
                  </a:lnTo>
                  <a:lnTo>
                    <a:pt x="361" y="594"/>
                  </a:lnTo>
                  <a:lnTo>
                    <a:pt x="367" y="597"/>
                  </a:lnTo>
                  <a:lnTo>
                    <a:pt x="371" y="599"/>
                  </a:lnTo>
                  <a:lnTo>
                    <a:pt x="374" y="599"/>
                  </a:lnTo>
                  <a:lnTo>
                    <a:pt x="376" y="599"/>
                  </a:lnTo>
                  <a:lnTo>
                    <a:pt x="376" y="597"/>
                  </a:lnTo>
                  <a:lnTo>
                    <a:pt x="378" y="597"/>
                  </a:lnTo>
                  <a:lnTo>
                    <a:pt x="378" y="595"/>
                  </a:lnTo>
                  <a:lnTo>
                    <a:pt x="378" y="594"/>
                  </a:lnTo>
                  <a:lnTo>
                    <a:pt x="380" y="590"/>
                  </a:lnTo>
                  <a:lnTo>
                    <a:pt x="380" y="586"/>
                  </a:lnTo>
                  <a:lnTo>
                    <a:pt x="380" y="582"/>
                  </a:lnTo>
                  <a:lnTo>
                    <a:pt x="380" y="572"/>
                  </a:lnTo>
                  <a:lnTo>
                    <a:pt x="378" y="561"/>
                  </a:lnTo>
                  <a:lnTo>
                    <a:pt x="378" y="550"/>
                  </a:lnTo>
                  <a:lnTo>
                    <a:pt x="376" y="534"/>
                  </a:lnTo>
                  <a:lnTo>
                    <a:pt x="376" y="534"/>
                  </a:lnTo>
                  <a:close/>
                  <a:moveTo>
                    <a:pt x="66" y="84"/>
                  </a:moveTo>
                  <a:lnTo>
                    <a:pt x="66" y="84"/>
                  </a:lnTo>
                  <a:lnTo>
                    <a:pt x="67" y="86"/>
                  </a:lnTo>
                  <a:lnTo>
                    <a:pt x="71" y="88"/>
                  </a:lnTo>
                  <a:lnTo>
                    <a:pt x="75" y="92"/>
                  </a:lnTo>
                  <a:lnTo>
                    <a:pt x="81" y="96"/>
                  </a:lnTo>
                  <a:lnTo>
                    <a:pt x="87" y="98"/>
                  </a:lnTo>
                  <a:lnTo>
                    <a:pt x="94" y="100"/>
                  </a:lnTo>
                  <a:lnTo>
                    <a:pt x="98" y="100"/>
                  </a:lnTo>
                  <a:lnTo>
                    <a:pt x="102" y="102"/>
                  </a:lnTo>
                  <a:lnTo>
                    <a:pt x="106" y="103"/>
                  </a:lnTo>
                  <a:lnTo>
                    <a:pt x="112" y="105"/>
                  </a:lnTo>
                  <a:lnTo>
                    <a:pt x="123" y="109"/>
                  </a:lnTo>
                  <a:lnTo>
                    <a:pt x="135" y="117"/>
                  </a:lnTo>
                  <a:lnTo>
                    <a:pt x="142" y="121"/>
                  </a:lnTo>
                  <a:lnTo>
                    <a:pt x="148" y="125"/>
                  </a:lnTo>
                  <a:lnTo>
                    <a:pt x="152" y="130"/>
                  </a:lnTo>
                  <a:lnTo>
                    <a:pt x="158" y="134"/>
                  </a:lnTo>
                  <a:lnTo>
                    <a:pt x="161" y="138"/>
                  </a:lnTo>
                  <a:lnTo>
                    <a:pt x="163" y="142"/>
                  </a:lnTo>
                  <a:lnTo>
                    <a:pt x="167" y="146"/>
                  </a:lnTo>
                  <a:lnTo>
                    <a:pt x="169" y="149"/>
                  </a:lnTo>
                  <a:lnTo>
                    <a:pt x="171" y="159"/>
                  </a:lnTo>
                  <a:lnTo>
                    <a:pt x="173" y="165"/>
                  </a:lnTo>
                  <a:lnTo>
                    <a:pt x="175" y="172"/>
                  </a:lnTo>
                  <a:lnTo>
                    <a:pt x="175" y="178"/>
                  </a:lnTo>
                  <a:lnTo>
                    <a:pt x="175" y="182"/>
                  </a:lnTo>
                  <a:lnTo>
                    <a:pt x="173" y="188"/>
                  </a:lnTo>
                  <a:lnTo>
                    <a:pt x="171" y="192"/>
                  </a:lnTo>
                  <a:lnTo>
                    <a:pt x="167" y="195"/>
                  </a:lnTo>
                  <a:lnTo>
                    <a:pt x="161" y="199"/>
                  </a:lnTo>
                  <a:lnTo>
                    <a:pt x="156" y="203"/>
                  </a:lnTo>
                  <a:lnTo>
                    <a:pt x="148" y="205"/>
                  </a:lnTo>
                  <a:lnTo>
                    <a:pt x="140" y="207"/>
                  </a:lnTo>
                  <a:lnTo>
                    <a:pt x="131" y="209"/>
                  </a:lnTo>
                  <a:lnTo>
                    <a:pt x="123" y="211"/>
                  </a:lnTo>
                  <a:lnTo>
                    <a:pt x="117" y="213"/>
                  </a:lnTo>
                  <a:lnTo>
                    <a:pt x="110" y="213"/>
                  </a:lnTo>
                  <a:lnTo>
                    <a:pt x="104" y="214"/>
                  </a:lnTo>
                  <a:lnTo>
                    <a:pt x="100" y="214"/>
                  </a:lnTo>
                  <a:lnTo>
                    <a:pt x="94" y="214"/>
                  </a:lnTo>
                  <a:lnTo>
                    <a:pt x="92" y="216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1" y="213"/>
                  </a:lnTo>
                  <a:lnTo>
                    <a:pt x="64" y="209"/>
                  </a:lnTo>
                  <a:lnTo>
                    <a:pt x="58" y="207"/>
                  </a:lnTo>
                  <a:lnTo>
                    <a:pt x="52" y="205"/>
                  </a:lnTo>
                  <a:lnTo>
                    <a:pt x="50" y="203"/>
                  </a:lnTo>
                  <a:lnTo>
                    <a:pt x="50" y="203"/>
                  </a:lnTo>
                  <a:lnTo>
                    <a:pt x="48" y="201"/>
                  </a:lnTo>
                  <a:lnTo>
                    <a:pt x="48" y="201"/>
                  </a:lnTo>
                  <a:lnTo>
                    <a:pt x="48" y="199"/>
                  </a:lnTo>
                  <a:lnTo>
                    <a:pt x="50" y="197"/>
                  </a:lnTo>
                  <a:lnTo>
                    <a:pt x="52" y="193"/>
                  </a:lnTo>
                  <a:lnTo>
                    <a:pt x="54" y="192"/>
                  </a:lnTo>
                  <a:lnTo>
                    <a:pt x="62" y="186"/>
                  </a:lnTo>
                  <a:lnTo>
                    <a:pt x="67" y="180"/>
                  </a:lnTo>
                  <a:lnTo>
                    <a:pt x="73" y="176"/>
                  </a:lnTo>
                  <a:lnTo>
                    <a:pt x="77" y="172"/>
                  </a:lnTo>
                  <a:lnTo>
                    <a:pt x="81" y="169"/>
                  </a:lnTo>
                  <a:lnTo>
                    <a:pt x="83" y="165"/>
                  </a:lnTo>
                  <a:lnTo>
                    <a:pt x="85" y="161"/>
                  </a:lnTo>
                  <a:lnTo>
                    <a:pt x="87" y="159"/>
                  </a:lnTo>
                  <a:lnTo>
                    <a:pt x="85" y="157"/>
                  </a:lnTo>
                  <a:lnTo>
                    <a:pt x="85" y="153"/>
                  </a:lnTo>
                  <a:lnTo>
                    <a:pt x="83" y="149"/>
                  </a:lnTo>
                  <a:lnTo>
                    <a:pt x="81" y="146"/>
                  </a:lnTo>
                  <a:lnTo>
                    <a:pt x="79" y="138"/>
                  </a:lnTo>
                  <a:lnTo>
                    <a:pt x="75" y="132"/>
                  </a:lnTo>
                  <a:lnTo>
                    <a:pt x="73" y="123"/>
                  </a:lnTo>
                  <a:lnTo>
                    <a:pt x="69" y="113"/>
                  </a:lnTo>
                  <a:lnTo>
                    <a:pt x="67" y="107"/>
                  </a:lnTo>
                  <a:lnTo>
                    <a:pt x="67" y="103"/>
                  </a:lnTo>
                  <a:lnTo>
                    <a:pt x="66" y="100"/>
                  </a:lnTo>
                  <a:lnTo>
                    <a:pt x="66" y="96"/>
                  </a:lnTo>
                  <a:lnTo>
                    <a:pt x="64" y="92"/>
                  </a:lnTo>
                  <a:lnTo>
                    <a:pt x="64" y="90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64" y="86"/>
                  </a:lnTo>
                  <a:lnTo>
                    <a:pt x="64" y="84"/>
                  </a:lnTo>
                  <a:lnTo>
                    <a:pt x="66" y="84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3422"/>
            <p:cNvSpPr/>
            <p:nvPr/>
          </p:nvSpPr>
          <p:spPr>
            <a:xfrm>
              <a:off x="7091640" y="3935520"/>
              <a:ext cx="553320" cy="628200"/>
            </a:xfrm>
            <a:custGeom>
              <a:avLst/>
              <a:gdLst/>
              <a:ahLst/>
              <a:rect l="l" t="t" r="r" b="b"/>
              <a:pathLst>
                <a:path w="595" h="675">
                  <a:moveTo>
                    <a:pt x="504" y="233"/>
                  </a:moveTo>
                  <a:lnTo>
                    <a:pt x="512" y="229"/>
                  </a:lnTo>
                  <a:lnTo>
                    <a:pt x="518" y="227"/>
                  </a:lnTo>
                  <a:lnTo>
                    <a:pt x="524" y="224"/>
                  </a:lnTo>
                  <a:lnTo>
                    <a:pt x="531" y="222"/>
                  </a:lnTo>
                  <a:lnTo>
                    <a:pt x="541" y="220"/>
                  </a:lnTo>
                  <a:lnTo>
                    <a:pt x="551" y="218"/>
                  </a:lnTo>
                  <a:lnTo>
                    <a:pt x="558" y="220"/>
                  </a:lnTo>
                  <a:lnTo>
                    <a:pt x="566" y="222"/>
                  </a:lnTo>
                  <a:lnTo>
                    <a:pt x="574" y="225"/>
                  </a:lnTo>
                  <a:lnTo>
                    <a:pt x="581" y="231"/>
                  </a:lnTo>
                  <a:lnTo>
                    <a:pt x="585" y="233"/>
                  </a:lnTo>
                  <a:lnTo>
                    <a:pt x="587" y="237"/>
                  </a:lnTo>
                  <a:lnTo>
                    <a:pt x="591" y="243"/>
                  </a:lnTo>
                  <a:lnTo>
                    <a:pt x="595" y="250"/>
                  </a:lnTo>
                  <a:lnTo>
                    <a:pt x="595" y="256"/>
                  </a:lnTo>
                  <a:lnTo>
                    <a:pt x="595" y="262"/>
                  </a:lnTo>
                  <a:lnTo>
                    <a:pt x="593" y="268"/>
                  </a:lnTo>
                  <a:lnTo>
                    <a:pt x="589" y="271"/>
                  </a:lnTo>
                  <a:lnTo>
                    <a:pt x="585" y="277"/>
                  </a:lnTo>
                  <a:lnTo>
                    <a:pt x="579" y="279"/>
                  </a:lnTo>
                  <a:lnTo>
                    <a:pt x="572" y="283"/>
                  </a:lnTo>
                  <a:lnTo>
                    <a:pt x="564" y="285"/>
                  </a:lnTo>
                  <a:lnTo>
                    <a:pt x="554" y="285"/>
                  </a:lnTo>
                  <a:lnTo>
                    <a:pt x="543" y="287"/>
                  </a:lnTo>
                  <a:lnTo>
                    <a:pt x="533" y="289"/>
                  </a:lnTo>
                  <a:lnTo>
                    <a:pt x="522" y="291"/>
                  </a:lnTo>
                  <a:lnTo>
                    <a:pt x="512" y="296"/>
                  </a:lnTo>
                  <a:lnTo>
                    <a:pt x="510" y="312"/>
                  </a:lnTo>
                  <a:lnTo>
                    <a:pt x="508" y="329"/>
                  </a:lnTo>
                  <a:lnTo>
                    <a:pt x="506" y="348"/>
                  </a:lnTo>
                  <a:lnTo>
                    <a:pt x="504" y="367"/>
                  </a:lnTo>
                  <a:lnTo>
                    <a:pt x="503" y="386"/>
                  </a:lnTo>
                  <a:lnTo>
                    <a:pt x="503" y="407"/>
                  </a:lnTo>
                  <a:lnTo>
                    <a:pt x="501" y="430"/>
                  </a:lnTo>
                  <a:lnTo>
                    <a:pt x="501" y="453"/>
                  </a:lnTo>
                  <a:lnTo>
                    <a:pt x="501" y="465"/>
                  </a:lnTo>
                  <a:lnTo>
                    <a:pt x="501" y="476"/>
                  </a:lnTo>
                  <a:lnTo>
                    <a:pt x="501" y="488"/>
                  </a:lnTo>
                  <a:lnTo>
                    <a:pt x="501" y="497"/>
                  </a:lnTo>
                  <a:lnTo>
                    <a:pt x="501" y="507"/>
                  </a:lnTo>
                  <a:lnTo>
                    <a:pt x="501" y="516"/>
                  </a:lnTo>
                  <a:lnTo>
                    <a:pt x="501" y="524"/>
                  </a:lnTo>
                  <a:lnTo>
                    <a:pt x="501" y="532"/>
                  </a:lnTo>
                  <a:lnTo>
                    <a:pt x="501" y="539"/>
                  </a:lnTo>
                  <a:lnTo>
                    <a:pt x="501" y="547"/>
                  </a:lnTo>
                  <a:lnTo>
                    <a:pt x="501" y="553"/>
                  </a:lnTo>
                  <a:lnTo>
                    <a:pt x="501" y="559"/>
                  </a:lnTo>
                  <a:lnTo>
                    <a:pt x="501" y="564"/>
                  </a:lnTo>
                  <a:lnTo>
                    <a:pt x="501" y="568"/>
                  </a:lnTo>
                  <a:lnTo>
                    <a:pt x="501" y="574"/>
                  </a:lnTo>
                  <a:lnTo>
                    <a:pt x="501" y="576"/>
                  </a:lnTo>
                  <a:lnTo>
                    <a:pt x="499" y="589"/>
                  </a:lnTo>
                  <a:lnTo>
                    <a:pt x="497" y="605"/>
                  </a:lnTo>
                  <a:lnTo>
                    <a:pt x="495" y="620"/>
                  </a:lnTo>
                  <a:lnTo>
                    <a:pt x="493" y="635"/>
                  </a:lnTo>
                  <a:lnTo>
                    <a:pt x="491" y="643"/>
                  </a:lnTo>
                  <a:lnTo>
                    <a:pt x="489" y="650"/>
                  </a:lnTo>
                  <a:lnTo>
                    <a:pt x="487" y="656"/>
                  </a:lnTo>
                  <a:lnTo>
                    <a:pt x="487" y="660"/>
                  </a:lnTo>
                  <a:lnTo>
                    <a:pt x="485" y="666"/>
                  </a:lnTo>
                  <a:lnTo>
                    <a:pt x="485" y="668"/>
                  </a:lnTo>
                  <a:lnTo>
                    <a:pt x="483" y="670"/>
                  </a:lnTo>
                  <a:lnTo>
                    <a:pt x="483" y="672"/>
                  </a:lnTo>
                  <a:lnTo>
                    <a:pt x="480" y="673"/>
                  </a:lnTo>
                  <a:lnTo>
                    <a:pt x="480" y="675"/>
                  </a:lnTo>
                  <a:lnTo>
                    <a:pt x="478" y="675"/>
                  </a:lnTo>
                  <a:lnTo>
                    <a:pt x="476" y="675"/>
                  </a:lnTo>
                  <a:lnTo>
                    <a:pt x="474" y="673"/>
                  </a:lnTo>
                  <a:lnTo>
                    <a:pt x="472" y="672"/>
                  </a:lnTo>
                  <a:lnTo>
                    <a:pt x="472" y="672"/>
                  </a:lnTo>
                  <a:lnTo>
                    <a:pt x="472" y="668"/>
                  </a:lnTo>
                  <a:lnTo>
                    <a:pt x="470" y="664"/>
                  </a:lnTo>
                  <a:lnTo>
                    <a:pt x="470" y="658"/>
                  </a:lnTo>
                  <a:lnTo>
                    <a:pt x="468" y="652"/>
                  </a:lnTo>
                  <a:lnTo>
                    <a:pt x="466" y="645"/>
                  </a:lnTo>
                  <a:lnTo>
                    <a:pt x="464" y="635"/>
                  </a:lnTo>
                  <a:lnTo>
                    <a:pt x="462" y="626"/>
                  </a:lnTo>
                  <a:lnTo>
                    <a:pt x="460" y="614"/>
                  </a:lnTo>
                  <a:lnTo>
                    <a:pt x="458" y="603"/>
                  </a:lnTo>
                  <a:lnTo>
                    <a:pt x="458" y="589"/>
                  </a:lnTo>
                  <a:lnTo>
                    <a:pt x="457" y="576"/>
                  </a:lnTo>
                  <a:lnTo>
                    <a:pt x="455" y="549"/>
                  </a:lnTo>
                  <a:lnTo>
                    <a:pt x="455" y="520"/>
                  </a:lnTo>
                  <a:lnTo>
                    <a:pt x="457" y="404"/>
                  </a:lnTo>
                  <a:lnTo>
                    <a:pt x="457" y="392"/>
                  </a:lnTo>
                  <a:lnTo>
                    <a:pt x="457" y="381"/>
                  </a:lnTo>
                  <a:lnTo>
                    <a:pt x="457" y="361"/>
                  </a:lnTo>
                  <a:lnTo>
                    <a:pt x="455" y="342"/>
                  </a:lnTo>
                  <a:lnTo>
                    <a:pt x="453" y="327"/>
                  </a:lnTo>
                  <a:lnTo>
                    <a:pt x="441" y="335"/>
                  </a:lnTo>
                  <a:lnTo>
                    <a:pt x="432" y="342"/>
                  </a:lnTo>
                  <a:lnTo>
                    <a:pt x="424" y="348"/>
                  </a:lnTo>
                  <a:lnTo>
                    <a:pt x="416" y="354"/>
                  </a:lnTo>
                  <a:lnTo>
                    <a:pt x="409" y="358"/>
                  </a:lnTo>
                  <a:lnTo>
                    <a:pt x="405" y="361"/>
                  </a:lnTo>
                  <a:lnTo>
                    <a:pt x="401" y="363"/>
                  </a:lnTo>
                  <a:lnTo>
                    <a:pt x="397" y="365"/>
                  </a:lnTo>
                  <a:lnTo>
                    <a:pt x="395" y="373"/>
                  </a:lnTo>
                  <a:lnTo>
                    <a:pt x="393" y="381"/>
                  </a:lnTo>
                  <a:lnTo>
                    <a:pt x="391" y="388"/>
                  </a:lnTo>
                  <a:lnTo>
                    <a:pt x="391" y="398"/>
                  </a:lnTo>
                  <a:lnTo>
                    <a:pt x="393" y="407"/>
                  </a:lnTo>
                  <a:lnTo>
                    <a:pt x="391" y="419"/>
                  </a:lnTo>
                  <a:lnTo>
                    <a:pt x="391" y="432"/>
                  </a:lnTo>
                  <a:lnTo>
                    <a:pt x="389" y="446"/>
                  </a:lnTo>
                  <a:lnTo>
                    <a:pt x="387" y="459"/>
                  </a:lnTo>
                  <a:lnTo>
                    <a:pt x="386" y="465"/>
                  </a:lnTo>
                  <a:lnTo>
                    <a:pt x="384" y="471"/>
                  </a:lnTo>
                  <a:lnTo>
                    <a:pt x="382" y="474"/>
                  </a:lnTo>
                  <a:lnTo>
                    <a:pt x="380" y="478"/>
                  </a:lnTo>
                  <a:lnTo>
                    <a:pt x="378" y="482"/>
                  </a:lnTo>
                  <a:lnTo>
                    <a:pt x="376" y="484"/>
                  </a:lnTo>
                  <a:lnTo>
                    <a:pt x="376" y="486"/>
                  </a:lnTo>
                  <a:lnTo>
                    <a:pt x="374" y="486"/>
                  </a:lnTo>
                  <a:lnTo>
                    <a:pt x="372" y="486"/>
                  </a:lnTo>
                  <a:lnTo>
                    <a:pt x="370" y="484"/>
                  </a:lnTo>
                  <a:lnTo>
                    <a:pt x="368" y="484"/>
                  </a:lnTo>
                  <a:lnTo>
                    <a:pt x="366" y="482"/>
                  </a:lnTo>
                  <a:lnTo>
                    <a:pt x="364" y="478"/>
                  </a:lnTo>
                  <a:lnTo>
                    <a:pt x="363" y="476"/>
                  </a:lnTo>
                  <a:lnTo>
                    <a:pt x="361" y="472"/>
                  </a:lnTo>
                  <a:lnTo>
                    <a:pt x="359" y="469"/>
                  </a:lnTo>
                  <a:lnTo>
                    <a:pt x="355" y="463"/>
                  </a:lnTo>
                  <a:lnTo>
                    <a:pt x="353" y="457"/>
                  </a:lnTo>
                  <a:lnTo>
                    <a:pt x="351" y="448"/>
                  </a:lnTo>
                  <a:lnTo>
                    <a:pt x="349" y="438"/>
                  </a:lnTo>
                  <a:lnTo>
                    <a:pt x="347" y="426"/>
                  </a:lnTo>
                  <a:lnTo>
                    <a:pt x="347" y="413"/>
                  </a:lnTo>
                  <a:lnTo>
                    <a:pt x="345" y="398"/>
                  </a:lnTo>
                  <a:lnTo>
                    <a:pt x="343" y="382"/>
                  </a:lnTo>
                  <a:lnTo>
                    <a:pt x="340" y="381"/>
                  </a:lnTo>
                  <a:lnTo>
                    <a:pt x="336" y="379"/>
                  </a:lnTo>
                  <a:lnTo>
                    <a:pt x="332" y="377"/>
                  </a:lnTo>
                  <a:lnTo>
                    <a:pt x="330" y="375"/>
                  </a:lnTo>
                  <a:lnTo>
                    <a:pt x="328" y="373"/>
                  </a:lnTo>
                  <a:lnTo>
                    <a:pt x="326" y="371"/>
                  </a:lnTo>
                  <a:lnTo>
                    <a:pt x="324" y="367"/>
                  </a:lnTo>
                  <a:lnTo>
                    <a:pt x="324" y="363"/>
                  </a:lnTo>
                  <a:lnTo>
                    <a:pt x="326" y="358"/>
                  </a:lnTo>
                  <a:lnTo>
                    <a:pt x="328" y="352"/>
                  </a:lnTo>
                  <a:lnTo>
                    <a:pt x="330" y="346"/>
                  </a:lnTo>
                  <a:lnTo>
                    <a:pt x="336" y="338"/>
                  </a:lnTo>
                  <a:lnTo>
                    <a:pt x="341" y="331"/>
                  </a:lnTo>
                  <a:lnTo>
                    <a:pt x="349" y="323"/>
                  </a:lnTo>
                  <a:lnTo>
                    <a:pt x="359" y="315"/>
                  </a:lnTo>
                  <a:lnTo>
                    <a:pt x="368" y="306"/>
                  </a:lnTo>
                  <a:lnTo>
                    <a:pt x="368" y="298"/>
                  </a:lnTo>
                  <a:lnTo>
                    <a:pt x="368" y="292"/>
                  </a:lnTo>
                  <a:lnTo>
                    <a:pt x="368" y="287"/>
                  </a:lnTo>
                  <a:lnTo>
                    <a:pt x="366" y="283"/>
                  </a:lnTo>
                  <a:lnTo>
                    <a:pt x="366" y="279"/>
                  </a:lnTo>
                  <a:lnTo>
                    <a:pt x="366" y="277"/>
                  </a:lnTo>
                  <a:lnTo>
                    <a:pt x="364" y="277"/>
                  </a:lnTo>
                  <a:lnTo>
                    <a:pt x="363" y="277"/>
                  </a:lnTo>
                  <a:lnTo>
                    <a:pt x="355" y="292"/>
                  </a:lnTo>
                  <a:lnTo>
                    <a:pt x="345" y="308"/>
                  </a:lnTo>
                  <a:lnTo>
                    <a:pt x="336" y="321"/>
                  </a:lnTo>
                  <a:lnTo>
                    <a:pt x="328" y="335"/>
                  </a:lnTo>
                  <a:lnTo>
                    <a:pt x="318" y="348"/>
                  </a:lnTo>
                  <a:lnTo>
                    <a:pt x="309" y="361"/>
                  </a:lnTo>
                  <a:lnTo>
                    <a:pt x="299" y="373"/>
                  </a:lnTo>
                  <a:lnTo>
                    <a:pt x="292" y="384"/>
                  </a:lnTo>
                  <a:lnTo>
                    <a:pt x="290" y="402"/>
                  </a:lnTo>
                  <a:lnTo>
                    <a:pt x="290" y="419"/>
                  </a:lnTo>
                  <a:lnTo>
                    <a:pt x="290" y="434"/>
                  </a:lnTo>
                  <a:lnTo>
                    <a:pt x="290" y="449"/>
                  </a:lnTo>
                  <a:lnTo>
                    <a:pt x="292" y="465"/>
                  </a:lnTo>
                  <a:lnTo>
                    <a:pt x="292" y="478"/>
                  </a:lnTo>
                  <a:lnTo>
                    <a:pt x="293" y="493"/>
                  </a:lnTo>
                  <a:lnTo>
                    <a:pt x="293" y="507"/>
                  </a:lnTo>
                  <a:lnTo>
                    <a:pt x="295" y="515"/>
                  </a:lnTo>
                  <a:lnTo>
                    <a:pt x="295" y="522"/>
                  </a:lnTo>
                  <a:lnTo>
                    <a:pt x="295" y="530"/>
                  </a:lnTo>
                  <a:lnTo>
                    <a:pt x="295" y="538"/>
                  </a:lnTo>
                  <a:lnTo>
                    <a:pt x="295" y="543"/>
                  </a:lnTo>
                  <a:lnTo>
                    <a:pt x="295" y="549"/>
                  </a:lnTo>
                  <a:lnTo>
                    <a:pt x="295" y="555"/>
                  </a:lnTo>
                  <a:lnTo>
                    <a:pt x="293" y="559"/>
                  </a:lnTo>
                  <a:lnTo>
                    <a:pt x="292" y="560"/>
                  </a:lnTo>
                  <a:lnTo>
                    <a:pt x="292" y="562"/>
                  </a:lnTo>
                  <a:lnTo>
                    <a:pt x="290" y="564"/>
                  </a:lnTo>
                  <a:lnTo>
                    <a:pt x="288" y="564"/>
                  </a:lnTo>
                  <a:lnTo>
                    <a:pt x="282" y="564"/>
                  </a:lnTo>
                  <a:lnTo>
                    <a:pt x="276" y="562"/>
                  </a:lnTo>
                  <a:lnTo>
                    <a:pt x="272" y="559"/>
                  </a:lnTo>
                  <a:lnTo>
                    <a:pt x="267" y="553"/>
                  </a:lnTo>
                  <a:lnTo>
                    <a:pt x="265" y="549"/>
                  </a:lnTo>
                  <a:lnTo>
                    <a:pt x="263" y="545"/>
                  </a:lnTo>
                  <a:lnTo>
                    <a:pt x="261" y="541"/>
                  </a:lnTo>
                  <a:lnTo>
                    <a:pt x="259" y="536"/>
                  </a:lnTo>
                  <a:lnTo>
                    <a:pt x="257" y="530"/>
                  </a:lnTo>
                  <a:lnTo>
                    <a:pt x="257" y="524"/>
                  </a:lnTo>
                  <a:lnTo>
                    <a:pt x="255" y="518"/>
                  </a:lnTo>
                  <a:lnTo>
                    <a:pt x="255" y="511"/>
                  </a:lnTo>
                  <a:lnTo>
                    <a:pt x="255" y="503"/>
                  </a:lnTo>
                  <a:lnTo>
                    <a:pt x="257" y="495"/>
                  </a:lnTo>
                  <a:lnTo>
                    <a:pt x="257" y="488"/>
                  </a:lnTo>
                  <a:lnTo>
                    <a:pt x="259" y="478"/>
                  </a:lnTo>
                  <a:lnTo>
                    <a:pt x="259" y="472"/>
                  </a:lnTo>
                  <a:lnTo>
                    <a:pt x="261" y="467"/>
                  </a:lnTo>
                  <a:lnTo>
                    <a:pt x="261" y="461"/>
                  </a:lnTo>
                  <a:lnTo>
                    <a:pt x="261" y="453"/>
                  </a:lnTo>
                  <a:lnTo>
                    <a:pt x="261" y="446"/>
                  </a:lnTo>
                  <a:lnTo>
                    <a:pt x="261" y="436"/>
                  </a:lnTo>
                  <a:lnTo>
                    <a:pt x="261" y="426"/>
                  </a:lnTo>
                  <a:lnTo>
                    <a:pt x="261" y="417"/>
                  </a:lnTo>
                  <a:lnTo>
                    <a:pt x="247" y="428"/>
                  </a:lnTo>
                  <a:lnTo>
                    <a:pt x="236" y="440"/>
                  </a:lnTo>
                  <a:lnTo>
                    <a:pt x="226" y="448"/>
                  </a:lnTo>
                  <a:lnTo>
                    <a:pt x="217" y="455"/>
                  </a:lnTo>
                  <a:lnTo>
                    <a:pt x="209" y="461"/>
                  </a:lnTo>
                  <a:lnTo>
                    <a:pt x="201" y="465"/>
                  </a:lnTo>
                  <a:lnTo>
                    <a:pt x="196" y="467"/>
                  </a:lnTo>
                  <a:lnTo>
                    <a:pt x="192" y="467"/>
                  </a:lnTo>
                  <a:lnTo>
                    <a:pt x="188" y="467"/>
                  </a:lnTo>
                  <a:lnTo>
                    <a:pt x="186" y="467"/>
                  </a:lnTo>
                  <a:lnTo>
                    <a:pt x="184" y="465"/>
                  </a:lnTo>
                  <a:lnTo>
                    <a:pt x="182" y="463"/>
                  </a:lnTo>
                  <a:lnTo>
                    <a:pt x="180" y="459"/>
                  </a:lnTo>
                  <a:lnTo>
                    <a:pt x="178" y="455"/>
                  </a:lnTo>
                  <a:lnTo>
                    <a:pt x="175" y="449"/>
                  </a:lnTo>
                  <a:lnTo>
                    <a:pt x="173" y="442"/>
                  </a:lnTo>
                  <a:lnTo>
                    <a:pt x="169" y="434"/>
                  </a:lnTo>
                  <a:lnTo>
                    <a:pt x="167" y="426"/>
                  </a:lnTo>
                  <a:lnTo>
                    <a:pt x="165" y="421"/>
                  </a:lnTo>
                  <a:lnTo>
                    <a:pt x="165" y="413"/>
                  </a:lnTo>
                  <a:lnTo>
                    <a:pt x="165" y="405"/>
                  </a:lnTo>
                  <a:lnTo>
                    <a:pt x="169" y="400"/>
                  </a:lnTo>
                  <a:lnTo>
                    <a:pt x="173" y="394"/>
                  </a:lnTo>
                  <a:lnTo>
                    <a:pt x="178" y="388"/>
                  </a:lnTo>
                  <a:lnTo>
                    <a:pt x="192" y="377"/>
                  </a:lnTo>
                  <a:lnTo>
                    <a:pt x="205" y="363"/>
                  </a:lnTo>
                  <a:lnTo>
                    <a:pt x="217" y="350"/>
                  </a:lnTo>
                  <a:lnTo>
                    <a:pt x="226" y="337"/>
                  </a:lnTo>
                  <a:lnTo>
                    <a:pt x="236" y="321"/>
                  </a:lnTo>
                  <a:lnTo>
                    <a:pt x="246" y="304"/>
                  </a:lnTo>
                  <a:lnTo>
                    <a:pt x="253" y="287"/>
                  </a:lnTo>
                  <a:lnTo>
                    <a:pt x="259" y="269"/>
                  </a:lnTo>
                  <a:lnTo>
                    <a:pt x="246" y="273"/>
                  </a:lnTo>
                  <a:lnTo>
                    <a:pt x="234" y="277"/>
                  </a:lnTo>
                  <a:lnTo>
                    <a:pt x="224" y="279"/>
                  </a:lnTo>
                  <a:lnTo>
                    <a:pt x="217" y="279"/>
                  </a:lnTo>
                  <a:lnTo>
                    <a:pt x="207" y="279"/>
                  </a:lnTo>
                  <a:lnTo>
                    <a:pt x="196" y="277"/>
                  </a:lnTo>
                  <a:lnTo>
                    <a:pt x="184" y="271"/>
                  </a:lnTo>
                  <a:lnTo>
                    <a:pt x="169" y="268"/>
                  </a:lnTo>
                  <a:lnTo>
                    <a:pt x="169" y="268"/>
                  </a:lnTo>
                  <a:lnTo>
                    <a:pt x="167" y="269"/>
                  </a:lnTo>
                  <a:lnTo>
                    <a:pt x="167" y="273"/>
                  </a:lnTo>
                  <a:lnTo>
                    <a:pt x="167" y="277"/>
                  </a:lnTo>
                  <a:lnTo>
                    <a:pt x="167" y="283"/>
                  </a:lnTo>
                  <a:lnTo>
                    <a:pt x="165" y="291"/>
                  </a:lnTo>
                  <a:lnTo>
                    <a:pt x="165" y="298"/>
                  </a:lnTo>
                  <a:lnTo>
                    <a:pt x="165" y="306"/>
                  </a:lnTo>
                  <a:lnTo>
                    <a:pt x="165" y="317"/>
                  </a:lnTo>
                  <a:lnTo>
                    <a:pt x="165" y="327"/>
                  </a:lnTo>
                  <a:lnTo>
                    <a:pt x="163" y="340"/>
                  </a:lnTo>
                  <a:lnTo>
                    <a:pt x="163" y="354"/>
                  </a:lnTo>
                  <a:lnTo>
                    <a:pt x="163" y="369"/>
                  </a:lnTo>
                  <a:lnTo>
                    <a:pt x="163" y="384"/>
                  </a:lnTo>
                  <a:lnTo>
                    <a:pt x="163" y="402"/>
                  </a:lnTo>
                  <a:lnTo>
                    <a:pt x="163" y="419"/>
                  </a:lnTo>
                  <a:lnTo>
                    <a:pt x="163" y="432"/>
                  </a:lnTo>
                  <a:lnTo>
                    <a:pt x="163" y="446"/>
                  </a:lnTo>
                  <a:lnTo>
                    <a:pt x="161" y="459"/>
                  </a:lnTo>
                  <a:lnTo>
                    <a:pt x="161" y="469"/>
                  </a:lnTo>
                  <a:lnTo>
                    <a:pt x="161" y="480"/>
                  </a:lnTo>
                  <a:lnTo>
                    <a:pt x="161" y="490"/>
                  </a:lnTo>
                  <a:lnTo>
                    <a:pt x="161" y="497"/>
                  </a:lnTo>
                  <a:lnTo>
                    <a:pt x="161" y="505"/>
                  </a:lnTo>
                  <a:lnTo>
                    <a:pt x="159" y="516"/>
                  </a:lnTo>
                  <a:lnTo>
                    <a:pt x="157" y="528"/>
                  </a:lnTo>
                  <a:lnTo>
                    <a:pt x="155" y="538"/>
                  </a:lnTo>
                  <a:lnTo>
                    <a:pt x="153" y="547"/>
                  </a:lnTo>
                  <a:lnTo>
                    <a:pt x="152" y="551"/>
                  </a:lnTo>
                  <a:lnTo>
                    <a:pt x="152" y="555"/>
                  </a:lnTo>
                  <a:lnTo>
                    <a:pt x="150" y="559"/>
                  </a:lnTo>
                  <a:lnTo>
                    <a:pt x="148" y="560"/>
                  </a:lnTo>
                  <a:lnTo>
                    <a:pt x="146" y="562"/>
                  </a:lnTo>
                  <a:lnTo>
                    <a:pt x="144" y="562"/>
                  </a:lnTo>
                  <a:lnTo>
                    <a:pt x="140" y="564"/>
                  </a:lnTo>
                  <a:lnTo>
                    <a:pt x="138" y="564"/>
                  </a:lnTo>
                  <a:lnTo>
                    <a:pt x="136" y="564"/>
                  </a:lnTo>
                  <a:lnTo>
                    <a:pt x="134" y="562"/>
                  </a:lnTo>
                  <a:lnTo>
                    <a:pt x="130" y="559"/>
                  </a:lnTo>
                  <a:lnTo>
                    <a:pt x="129" y="555"/>
                  </a:lnTo>
                  <a:lnTo>
                    <a:pt x="125" y="549"/>
                  </a:lnTo>
                  <a:lnTo>
                    <a:pt x="123" y="541"/>
                  </a:lnTo>
                  <a:lnTo>
                    <a:pt x="119" y="534"/>
                  </a:lnTo>
                  <a:lnTo>
                    <a:pt x="115" y="524"/>
                  </a:lnTo>
                  <a:lnTo>
                    <a:pt x="109" y="505"/>
                  </a:lnTo>
                  <a:lnTo>
                    <a:pt x="105" y="495"/>
                  </a:lnTo>
                  <a:lnTo>
                    <a:pt x="102" y="488"/>
                  </a:lnTo>
                  <a:lnTo>
                    <a:pt x="100" y="480"/>
                  </a:lnTo>
                  <a:lnTo>
                    <a:pt x="96" y="472"/>
                  </a:lnTo>
                  <a:lnTo>
                    <a:pt x="92" y="465"/>
                  </a:lnTo>
                  <a:lnTo>
                    <a:pt x="88" y="459"/>
                  </a:lnTo>
                  <a:lnTo>
                    <a:pt x="84" y="467"/>
                  </a:lnTo>
                  <a:lnTo>
                    <a:pt x="79" y="474"/>
                  </a:lnTo>
                  <a:lnTo>
                    <a:pt x="73" y="480"/>
                  </a:lnTo>
                  <a:lnTo>
                    <a:pt x="69" y="486"/>
                  </a:lnTo>
                  <a:lnTo>
                    <a:pt x="59" y="497"/>
                  </a:lnTo>
                  <a:lnTo>
                    <a:pt x="52" y="505"/>
                  </a:lnTo>
                  <a:lnTo>
                    <a:pt x="48" y="509"/>
                  </a:lnTo>
                  <a:lnTo>
                    <a:pt x="44" y="513"/>
                  </a:lnTo>
                  <a:lnTo>
                    <a:pt x="42" y="516"/>
                  </a:lnTo>
                  <a:lnTo>
                    <a:pt x="38" y="518"/>
                  </a:lnTo>
                  <a:lnTo>
                    <a:pt x="35" y="520"/>
                  </a:lnTo>
                  <a:lnTo>
                    <a:pt x="31" y="522"/>
                  </a:lnTo>
                  <a:lnTo>
                    <a:pt x="27" y="522"/>
                  </a:lnTo>
                  <a:lnTo>
                    <a:pt x="25" y="522"/>
                  </a:lnTo>
                  <a:lnTo>
                    <a:pt x="21" y="522"/>
                  </a:lnTo>
                  <a:lnTo>
                    <a:pt x="19" y="522"/>
                  </a:lnTo>
                  <a:lnTo>
                    <a:pt x="15" y="520"/>
                  </a:lnTo>
                  <a:lnTo>
                    <a:pt x="13" y="518"/>
                  </a:lnTo>
                  <a:lnTo>
                    <a:pt x="10" y="515"/>
                  </a:lnTo>
                  <a:lnTo>
                    <a:pt x="6" y="507"/>
                  </a:lnTo>
                  <a:lnTo>
                    <a:pt x="4" y="499"/>
                  </a:lnTo>
                  <a:lnTo>
                    <a:pt x="2" y="493"/>
                  </a:lnTo>
                  <a:lnTo>
                    <a:pt x="0" y="488"/>
                  </a:lnTo>
                  <a:lnTo>
                    <a:pt x="0" y="482"/>
                  </a:lnTo>
                  <a:lnTo>
                    <a:pt x="0" y="478"/>
                  </a:lnTo>
                  <a:lnTo>
                    <a:pt x="2" y="471"/>
                  </a:lnTo>
                  <a:lnTo>
                    <a:pt x="4" y="463"/>
                  </a:lnTo>
                  <a:lnTo>
                    <a:pt x="8" y="453"/>
                  </a:lnTo>
                  <a:lnTo>
                    <a:pt x="11" y="444"/>
                  </a:lnTo>
                  <a:lnTo>
                    <a:pt x="13" y="436"/>
                  </a:lnTo>
                  <a:lnTo>
                    <a:pt x="15" y="428"/>
                  </a:lnTo>
                  <a:lnTo>
                    <a:pt x="15" y="423"/>
                  </a:lnTo>
                  <a:lnTo>
                    <a:pt x="15" y="417"/>
                  </a:lnTo>
                  <a:lnTo>
                    <a:pt x="13" y="411"/>
                  </a:lnTo>
                  <a:lnTo>
                    <a:pt x="13" y="404"/>
                  </a:lnTo>
                  <a:lnTo>
                    <a:pt x="13" y="394"/>
                  </a:lnTo>
                  <a:lnTo>
                    <a:pt x="13" y="390"/>
                  </a:lnTo>
                  <a:lnTo>
                    <a:pt x="13" y="386"/>
                  </a:lnTo>
                  <a:lnTo>
                    <a:pt x="13" y="382"/>
                  </a:lnTo>
                  <a:lnTo>
                    <a:pt x="13" y="379"/>
                  </a:lnTo>
                  <a:lnTo>
                    <a:pt x="13" y="375"/>
                  </a:lnTo>
                  <a:lnTo>
                    <a:pt x="13" y="369"/>
                  </a:lnTo>
                  <a:lnTo>
                    <a:pt x="13" y="363"/>
                  </a:lnTo>
                  <a:lnTo>
                    <a:pt x="13" y="356"/>
                  </a:lnTo>
                  <a:lnTo>
                    <a:pt x="13" y="350"/>
                  </a:lnTo>
                  <a:lnTo>
                    <a:pt x="13" y="342"/>
                  </a:lnTo>
                  <a:lnTo>
                    <a:pt x="13" y="335"/>
                  </a:lnTo>
                  <a:lnTo>
                    <a:pt x="13" y="327"/>
                  </a:lnTo>
                  <a:lnTo>
                    <a:pt x="13" y="317"/>
                  </a:lnTo>
                  <a:lnTo>
                    <a:pt x="15" y="308"/>
                  </a:lnTo>
                  <a:lnTo>
                    <a:pt x="15" y="298"/>
                  </a:lnTo>
                  <a:lnTo>
                    <a:pt x="15" y="289"/>
                  </a:lnTo>
                  <a:lnTo>
                    <a:pt x="13" y="285"/>
                  </a:lnTo>
                  <a:lnTo>
                    <a:pt x="11" y="281"/>
                  </a:lnTo>
                  <a:lnTo>
                    <a:pt x="10" y="275"/>
                  </a:lnTo>
                  <a:lnTo>
                    <a:pt x="10" y="271"/>
                  </a:lnTo>
                  <a:lnTo>
                    <a:pt x="10" y="268"/>
                  </a:lnTo>
                  <a:lnTo>
                    <a:pt x="11" y="264"/>
                  </a:lnTo>
                  <a:lnTo>
                    <a:pt x="13" y="262"/>
                  </a:lnTo>
                  <a:lnTo>
                    <a:pt x="15" y="260"/>
                  </a:lnTo>
                  <a:lnTo>
                    <a:pt x="15" y="247"/>
                  </a:lnTo>
                  <a:lnTo>
                    <a:pt x="15" y="233"/>
                  </a:lnTo>
                  <a:lnTo>
                    <a:pt x="11" y="222"/>
                  </a:lnTo>
                  <a:lnTo>
                    <a:pt x="10" y="210"/>
                  </a:lnTo>
                  <a:lnTo>
                    <a:pt x="6" y="201"/>
                  </a:lnTo>
                  <a:lnTo>
                    <a:pt x="4" y="193"/>
                  </a:lnTo>
                  <a:lnTo>
                    <a:pt x="2" y="185"/>
                  </a:lnTo>
                  <a:lnTo>
                    <a:pt x="2" y="180"/>
                  </a:lnTo>
                  <a:lnTo>
                    <a:pt x="2" y="176"/>
                  </a:lnTo>
                  <a:lnTo>
                    <a:pt x="4" y="172"/>
                  </a:lnTo>
                  <a:lnTo>
                    <a:pt x="8" y="170"/>
                  </a:lnTo>
                  <a:lnTo>
                    <a:pt x="11" y="170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19" y="172"/>
                  </a:lnTo>
                  <a:lnTo>
                    <a:pt x="23" y="174"/>
                  </a:lnTo>
                  <a:lnTo>
                    <a:pt x="27" y="178"/>
                  </a:lnTo>
                  <a:lnTo>
                    <a:pt x="31" y="180"/>
                  </a:lnTo>
                  <a:lnTo>
                    <a:pt x="36" y="183"/>
                  </a:lnTo>
                  <a:lnTo>
                    <a:pt x="40" y="189"/>
                  </a:lnTo>
                  <a:lnTo>
                    <a:pt x="46" y="193"/>
                  </a:lnTo>
                  <a:lnTo>
                    <a:pt x="50" y="199"/>
                  </a:lnTo>
                  <a:lnTo>
                    <a:pt x="54" y="206"/>
                  </a:lnTo>
                  <a:lnTo>
                    <a:pt x="56" y="212"/>
                  </a:lnTo>
                  <a:lnTo>
                    <a:pt x="59" y="222"/>
                  </a:lnTo>
                  <a:lnTo>
                    <a:pt x="61" y="229"/>
                  </a:lnTo>
                  <a:lnTo>
                    <a:pt x="61" y="239"/>
                  </a:lnTo>
                  <a:lnTo>
                    <a:pt x="63" y="250"/>
                  </a:lnTo>
                  <a:lnTo>
                    <a:pt x="73" y="250"/>
                  </a:lnTo>
                  <a:lnTo>
                    <a:pt x="86" y="252"/>
                  </a:lnTo>
                  <a:lnTo>
                    <a:pt x="100" y="254"/>
                  </a:lnTo>
                  <a:lnTo>
                    <a:pt x="115" y="260"/>
                  </a:lnTo>
                  <a:lnTo>
                    <a:pt x="115" y="250"/>
                  </a:lnTo>
                  <a:lnTo>
                    <a:pt x="115" y="241"/>
                  </a:lnTo>
                  <a:lnTo>
                    <a:pt x="115" y="231"/>
                  </a:lnTo>
                  <a:lnTo>
                    <a:pt x="115" y="220"/>
                  </a:lnTo>
                  <a:lnTo>
                    <a:pt x="115" y="183"/>
                  </a:lnTo>
                  <a:lnTo>
                    <a:pt x="115" y="178"/>
                  </a:lnTo>
                  <a:lnTo>
                    <a:pt x="115" y="172"/>
                  </a:lnTo>
                  <a:lnTo>
                    <a:pt x="115" y="168"/>
                  </a:lnTo>
                  <a:lnTo>
                    <a:pt x="113" y="164"/>
                  </a:lnTo>
                  <a:lnTo>
                    <a:pt x="113" y="162"/>
                  </a:lnTo>
                  <a:lnTo>
                    <a:pt x="111" y="160"/>
                  </a:lnTo>
                  <a:lnTo>
                    <a:pt x="109" y="160"/>
                  </a:lnTo>
                  <a:lnTo>
                    <a:pt x="107" y="158"/>
                  </a:lnTo>
                  <a:lnTo>
                    <a:pt x="96" y="160"/>
                  </a:lnTo>
                  <a:lnTo>
                    <a:pt x="84" y="162"/>
                  </a:lnTo>
                  <a:lnTo>
                    <a:pt x="73" y="166"/>
                  </a:lnTo>
                  <a:lnTo>
                    <a:pt x="61" y="172"/>
                  </a:lnTo>
                  <a:lnTo>
                    <a:pt x="56" y="174"/>
                  </a:lnTo>
                  <a:lnTo>
                    <a:pt x="52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0" y="178"/>
                  </a:lnTo>
                  <a:lnTo>
                    <a:pt x="38" y="176"/>
                  </a:lnTo>
                  <a:lnTo>
                    <a:pt x="36" y="174"/>
                  </a:lnTo>
                  <a:lnTo>
                    <a:pt x="36" y="170"/>
                  </a:lnTo>
                  <a:lnTo>
                    <a:pt x="36" y="166"/>
                  </a:lnTo>
                  <a:lnTo>
                    <a:pt x="38" y="158"/>
                  </a:lnTo>
                  <a:lnTo>
                    <a:pt x="42" y="153"/>
                  </a:lnTo>
                  <a:lnTo>
                    <a:pt x="46" y="143"/>
                  </a:lnTo>
                  <a:lnTo>
                    <a:pt x="52" y="134"/>
                  </a:lnTo>
                  <a:lnTo>
                    <a:pt x="59" y="126"/>
                  </a:lnTo>
                  <a:lnTo>
                    <a:pt x="69" y="116"/>
                  </a:lnTo>
                  <a:lnTo>
                    <a:pt x="79" y="109"/>
                  </a:lnTo>
                  <a:lnTo>
                    <a:pt x="82" y="105"/>
                  </a:lnTo>
                  <a:lnTo>
                    <a:pt x="88" y="101"/>
                  </a:lnTo>
                  <a:lnTo>
                    <a:pt x="92" y="99"/>
                  </a:lnTo>
                  <a:lnTo>
                    <a:pt x="98" y="95"/>
                  </a:lnTo>
                  <a:lnTo>
                    <a:pt x="102" y="95"/>
                  </a:lnTo>
                  <a:lnTo>
                    <a:pt x="105" y="93"/>
                  </a:lnTo>
                  <a:lnTo>
                    <a:pt x="109" y="93"/>
                  </a:lnTo>
                  <a:lnTo>
                    <a:pt x="113" y="91"/>
                  </a:lnTo>
                  <a:lnTo>
                    <a:pt x="117" y="93"/>
                  </a:lnTo>
                  <a:lnTo>
                    <a:pt x="121" y="93"/>
                  </a:lnTo>
                  <a:lnTo>
                    <a:pt x="125" y="95"/>
                  </a:lnTo>
                  <a:lnTo>
                    <a:pt x="130" y="97"/>
                  </a:lnTo>
                  <a:lnTo>
                    <a:pt x="134" y="99"/>
                  </a:lnTo>
                  <a:lnTo>
                    <a:pt x="140" y="103"/>
                  </a:lnTo>
                  <a:lnTo>
                    <a:pt x="146" y="107"/>
                  </a:lnTo>
                  <a:lnTo>
                    <a:pt x="153" y="113"/>
                  </a:lnTo>
                  <a:lnTo>
                    <a:pt x="159" y="116"/>
                  </a:lnTo>
                  <a:lnTo>
                    <a:pt x="165" y="122"/>
                  </a:lnTo>
                  <a:lnTo>
                    <a:pt x="169" y="128"/>
                  </a:lnTo>
                  <a:lnTo>
                    <a:pt x="173" y="134"/>
                  </a:lnTo>
                  <a:lnTo>
                    <a:pt x="175" y="141"/>
                  </a:lnTo>
                  <a:lnTo>
                    <a:pt x="176" y="147"/>
                  </a:lnTo>
                  <a:lnTo>
                    <a:pt x="178" y="155"/>
                  </a:lnTo>
                  <a:lnTo>
                    <a:pt x="178" y="162"/>
                  </a:lnTo>
                  <a:lnTo>
                    <a:pt x="178" y="168"/>
                  </a:lnTo>
                  <a:lnTo>
                    <a:pt x="178" y="174"/>
                  </a:lnTo>
                  <a:lnTo>
                    <a:pt x="176" y="181"/>
                  </a:lnTo>
                  <a:lnTo>
                    <a:pt x="176" y="189"/>
                  </a:lnTo>
                  <a:lnTo>
                    <a:pt x="175" y="199"/>
                  </a:lnTo>
                  <a:lnTo>
                    <a:pt x="173" y="208"/>
                  </a:lnTo>
                  <a:lnTo>
                    <a:pt x="173" y="220"/>
                  </a:lnTo>
                  <a:lnTo>
                    <a:pt x="171" y="229"/>
                  </a:lnTo>
                  <a:lnTo>
                    <a:pt x="176" y="231"/>
                  </a:lnTo>
                  <a:lnTo>
                    <a:pt x="182" y="229"/>
                  </a:lnTo>
                  <a:lnTo>
                    <a:pt x="188" y="229"/>
                  </a:lnTo>
                  <a:lnTo>
                    <a:pt x="194" y="227"/>
                  </a:lnTo>
                  <a:lnTo>
                    <a:pt x="199" y="225"/>
                  </a:lnTo>
                  <a:lnTo>
                    <a:pt x="205" y="224"/>
                  </a:lnTo>
                  <a:lnTo>
                    <a:pt x="217" y="218"/>
                  </a:lnTo>
                  <a:lnTo>
                    <a:pt x="228" y="210"/>
                  </a:lnTo>
                  <a:lnTo>
                    <a:pt x="240" y="201"/>
                  </a:lnTo>
                  <a:lnTo>
                    <a:pt x="251" y="189"/>
                  </a:lnTo>
                  <a:lnTo>
                    <a:pt x="263" y="176"/>
                  </a:lnTo>
                  <a:lnTo>
                    <a:pt x="265" y="162"/>
                  </a:lnTo>
                  <a:lnTo>
                    <a:pt x="265" y="149"/>
                  </a:lnTo>
                  <a:lnTo>
                    <a:pt x="267" y="135"/>
                  </a:lnTo>
                  <a:lnTo>
                    <a:pt x="267" y="124"/>
                  </a:lnTo>
                  <a:lnTo>
                    <a:pt x="269" y="114"/>
                  </a:lnTo>
                  <a:lnTo>
                    <a:pt x="269" y="105"/>
                  </a:lnTo>
                  <a:lnTo>
                    <a:pt x="269" y="95"/>
                  </a:lnTo>
                  <a:lnTo>
                    <a:pt x="269" y="88"/>
                  </a:lnTo>
                  <a:lnTo>
                    <a:pt x="269" y="72"/>
                  </a:lnTo>
                  <a:lnTo>
                    <a:pt x="267" y="59"/>
                  </a:lnTo>
                  <a:lnTo>
                    <a:pt x="263" y="47"/>
                  </a:lnTo>
                  <a:lnTo>
                    <a:pt x="259" y="36"/>
                  </a:lnTo>
                  <a:lnTo>
                    <a:pt x="253" y="26"/>
                  </a:lnTo>
                  <a:lnTo>
                    <a:pt x="249" y="19"/>
                  </a:lnTo>
                  <a:lnTo>
                    <a:pt x="247" y="13"/>
                  </a:lnTo>
                  <a:lnTo>
                    <a:pt x="247" y="7"/>
                  </a:lnTo>
                  <a:lnTo>
                    <a:pt x="247" y="3"/>
                  </a:lnTo>
                  <a:lnTo>
                    <a:pt x="249" y="1"/>
                  </a:lnTo>
                  <a:lnTo>
                    <a:pt x="251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1" y="1"/>
                  </a:lnTo>
                  <a:lnTo>
                    <a:pt x="267" y="3"/>
                  </a:lnTo>
                  <a:lnTo>
                    <a:pt x="270" y="5"/>
                  </a:lnTo>
                  <a:lnTo>
                    <a:pt x="276" y="9"/>
                  </a:lnTo>
                  <a:lnTo>
                    <a:pt x="282" y="13"/>
                  </a:lnTo>
                  <a:lnTo>
                    <a:pt x="290" y="17"/>
                  </a:lnTo>
                  <a:lnTo>
                    <a:pt x="297" y="23"/>
                  </a:lnTo>
                  <a:lnTo>
                    <a:pt x="303" y="28"/>
                  </a:lnTo>
                  <a:lnTo>
                    <a:pt x="311" y="34"/>
                  </a:lnTo>
                  <a:lnTo>
                    <a:pt x="315" y="40"/>
                  </a:lnTo>
                  <a:lnTo>
                    <a:pt x="320" y="47"/>
                  </a:lnTo>
                  <a:lnTo>
                    <a:pt x="322" y="53"/>
                  </a:lnTo>
                  <a:lnTo>
                    <a:pt x="326" y="59"/>
                  </a:lnTo>
                  <a:lnTo>
                    <a:pt x="328" y="65"/>
                  </a:lnTo>
                  <a:lnTo>
                    <a:pt x="328" y="70"/>
                  </a:lnTo>
                  <a:lnTo>
                    <a:pt x="328" y="76"/>
                  </a:lnTo>
                  <a:lnTo>
                    <a:pt x="326" y="82"/>
                  </a:lnTo>
                  <a:lnTo>
                    <a:pt x="326" y="84"/>
                  </a:lnTo>
                  <a:lnTo>
                    <a:pt x="326" y="88"/>
                  </a:lnTo>
                  <a:lnTo>
                    <a:pt x="324" y="93"/>
                  </a:lnTo>
                  <a:lnTo>
                    <a:pt x="324" y="99"/>
                  </a:lnTo>
                  <a:lnTo>
                    <a:pt x="324" y="107"/>
                  </a:lnTo>
                  <a:lnTo>
                    <a:pt x="322" y="116"/>
                  </a:lnTo>
                  <a:lnTo>
                    <a:pt x="322" y="126"/>
                  </a:lnTo>
                  <a:lnTo>
                    <a:pt x="320" y="137"/>
                  </a:lnTo>
                  <a:lnTo>
                    <a:pt x="326" y="135"/>
                  </a:lnTo>
                  <a:lnTo>
                    <a:pt x="330" y="134"/>
                  </a:lnTo>
                  <a:lnTo>
                    <a:pt x="336" y="134"/>
                  </a:lnTo>
                  <a:lnTo>
                    <a:pt x="340" y="132"/>
                  </a:lnTo>
                  <a:lnTo>
                    <a:pt x="345" y="134"/>
                  </a:lnTo>
                  <a:lnTo>
                    <a:pt x="349" y="134"/>
                  </a:lnTo>
                  <a:lnTo>
                    <a:pt x="353" y="137"/>
                  </a:lnTo>
                  <a:lnTo>
                    <a:pt x="357" y="141"/>
                  </a:lnTo>
                  <a:lnTo>
                    <a:pt x="359" y="145"/>
                  </a:lnTo>
                  <a:lnTo>
                    <a:pt x="361" y="151"/>
                  </a:lnTo>
                  <a:lnTo>
                    <a:pt x="363" y="157"/>
                  </a:lnTo>
                  <a:lnTo>
                    <a:pt x="363" y="164"/>
                  </a:lnTo>
                  <a:lnTo>
                    <a:pt x="363" y="170"/>
                  </a:lnTo>
                  <a:lnTo>
                    <a:pt x="363" y="176"/>
                  </a:lnTo>
                  <a:lnTo>
                    <a:pt x="364" y="176"/>
                  </a:lnTo>
                  <a:lnTo>
                    <a:pt x="368" y="176"/>
                  </a:lnTo>
                  <a:lnTo>
                    <a:pt x="372" y="174"/>
                  </a:lnTo>
                  <a:lnTo>
                    <a:pt x="378" y="172"/>
                  </a:lnTo>
                  <a:lnTo>
                    <a:pt x="380" y="160"/>
                  </a:lnTo>
                  <a:lnTo>
                    <a:pt x="380" y="151"/>
                  </a:lnTo>
                  <a:lnTo>
                    <a:pt x="382" y="143"/>
                  </a:lnTo>
                  <a:lnTo>
                    <a:pt x="384" y="134"/>
                  </a:lnTo>
                  <a:lnTo>
                    <a:pt x="386" y="126"/>
                  </a:lnTo>
                  <a:lnTo>
                    <a:pt x="386" y="118"/>
                  </a:lnTo>
                  <a:lnTo>
                    <a:pt x="387" y="111"/>
                  </a:lnTo>
                  <a:lnTo>
                    <a:pt x="389" y="105"/>
                  </a:lnTo>
                  <a:lnTo>
                    <a:pt x="389" y="99"/>
                  </a:lnTo>
                  <a:lnTo>
                    <a:pt x="391" y="93"/>
                  </a:lnTo>
                  <a:lnTo>
                    <a:pt x="393" y="90"/>
                  </a:lnTo>
                  <a:lnTo>
                    <a:pt x="393" y="84"/>
                  </a:lnTo>
                  <a:lnTo>
                    <a:pt x="395" y="80"/>
                  </a:lnTo>
                  <a:lnTo>
                    <a:pt x="395" y="76"/>
                  </a:lnTo>
                  <a:lnTo>
                    <a:pt x="397" y="74"/>
                  </a:lnTo>
                  <a:lnTo>
                    <a:pt x="397" y="72"/>
                  </a:lnTo>
                  <a:lnTo>
                    <a:pt x="399" y="68"/>
                  </a:lnTo>
                  <a:lnTo>
                    <a:pt x="403" y="65"/>
                  </a:lnTo>
                  <a:lnTo>
                    <a:pt x="405" y="61"/>
                  </a:lnTo>
                  <a:lnTo>
                    <a:pt x="407" y="59"/>
                  </a:lnTo>
                  <a:lnTo>
                    <a:pt x="409" y="57"/>
                  </a:lnTo>
                  <a:lnTo>
                    <a:pt x="412" y="55"/>
                  </a:lnTo>
                  <a:lnTo>
                    <a:pt x="414" y="55"/>
                  </a:lnTo>
                  <a:lnTo>
                    <a:pt x="418" y="55"/>
                  </a:lnTo>
                  <a:lnTo>
                    <a:pt x="424" y="55"/>
                  </a:lnTo>
                  <a:lnTo>
                    <a:pt x="430" y="57"/>
                  </a:lnTo>
                  <a:lnTo>
                    <a:pt x="437" y="61"/>
                  </a:lnTo>
                  <a:lnTo>
                    <a:pt x="447" y="67"/>
                  </a:lnTo>
                  <a:lnTo>
                    <a:pt x="457" y="72"/>
                  </a:lnTo>
                  <a:lnTo>
                    <a:pt x="464" y="82"/>
                  </a:lnTo>
                  <a:lnTo>
                    <a:pt x="472" y="91"/>
                  </a:lnTo>
                  <a:lnTo>
                    <a:pt x="480" y="101"/>
                  </a:lnTo>
                  <a:lnTo>
                    <a:pt x="483" y="107"/>
                  </a:lnTo>
                  <a:lnTo>
                    <a:pt x="487" y="113"/>
                  </a:lnTo>
                  <a:lnTo>
                    <a:pt x="489" y="116"/>
                  </a:lnTo>
                  <a:lnTo>
                    <a:pt x="491" y="120"/>
                  </a:lnTo>
                  <a:lnTo>
                    <a:pt x="493" y="124"/>
                  </a:lnTo>
                  <a:lnTo>
                    <a:pt x="493" y="128"/>
                  </a:lnTo>
                  <a:lnTo>
                    <a:pt x="495" y="130"/>
                  </a:lnTo>
                  <a:lnTo>
                    <a:pt x="495" y="132"/>
                  </a:lnTo>
                  <a:lnTo>
                    <a:pt x="495" y="134"/>
                  </a:lnTo>
                  <a:lnTo>
                    <a:pt x="493" y="137"/>
                  </a:lnTo>
                  <a:lnTo>
                    <a:pt x="489" y="141"/>
                  </a:lnTo>
                  <a:lnTo>
                    <a:pt x="485" y="143"/>
                  </a:lnTo>
                  <a:lnTo>
                    <a:pt x="480" y="147"/>
                  </a:lnTo>
                  <a:lnTo>
                    <a:pt x="474" y="151"/>
                  </a:lnTo>
                  <a:lnTo>
                    <a:pt x="468" y="155"/>
                  </a:lnTo>
                  <a:lnTo>
                    <a:pt x="462" y="160"/>
                  </a:lnTo>
                  <a:lnTo>
                    <a:pt x="455" y="168"/>
                  </a:lnTo>
                  <a:lnTo>
                    <a:pt x="447" y="174"/>
                  </a:lnTo>
                  <a:lnTo>
                    <a:pt x="437" y="180"/>
                  </a:lnTo>
                  <a:lnTo>
                    <a:pt x="428" y="185"/>
                  </a:lnTo>
                  <a:lnTo>
                    <a:pt x="418" y="191"/>
                  </a:lnTo>
                  <a:lnTo>
                    <a:pt x="407" y="197"/>
                  </a:lnTo>
                  <a:lnTo>
                    <a:pt x="395" y="201"/>
                  </a:lnTo>
                  <a:lnTo>
                    <a:pt x="384" y="206"/>
                  </a:lnTo>
                  <a:lnTo>
                    <a:pt x="389" y="212"/>
                  </a:lnTo>
                  <a:lnTo>
                    <a:pt x="393" y="220"/>
                  </a:lnTo>
                  <a:lnTo>
                    <a:pt x="397" y="227"/>
                  </a:lnTo>
                  <a:lnTo>
                    <a:pt x="401" y="235"/>
                  </a:lnTo>
                  <a:lnTo>
                    <a:pt x="405" y="245"/>
                  </a:lnTo>
                  <a:lnTo>
                    <a:pt x="407" y="254"/>
                  </a:lnTo>
                  <a:lnTo>
                    <a:pt x="409" y="266"/>
                  </a:lnTo>
                  <a:lnTo>
                    <a:pt x="410" y="277"/>
                  </a:lnTo>
                  <a:lnTo>
                    <a:pt x="412" y="275"/>
                  </a:lnTo>
                  <a:lnTo>
                    <a:pt x="416" y="273"/>
                  </a:lnTo>
                  <a:lnTo>
                    <a:pt x="420" y="271"/>
                  </a:lnTo>
                  <a:lnTo>
                    <a:pt x="424" y="269"/>
                  </a:lnTo>
                  <a:lnTo>
                    <a:pt x="430" y="268"/>
                  </a:lnTo>
                  <a:lnTo>
                    <a:pt x="435" y="264"/>
                  </a:lnTo>
                  <a:lnTo>
                    <a:pt x="443" y="260"/>
                  </a:lnTo>
                  <a:lnTo>
                    <a:pt x="451" y="256"/>
                  </a:lnTo>
                  <a:lnTo>
                    <a:pt x="453" y="247"/>
                  </a:lnTo>
                  <a:lnTo>
                    <a:pt x="453" y="239"/>
                  </a:lnTo>
                  <a:lnTo>
                    <a:pt x="457" y="233"/>
                  </a:lnTo>
                  <a:lnTo>
                    <a:pt x="460" y="227"/>
                  </a:lnTo>
                  <a:lnTo>
                    <a:pt x="464" y="224"/>
                  </a:lnTo>
                  <a:lnTo>
                    <a:pt x="470" y="220"/>
                  </a:lnTo>
                  <a:lnTo>
                    <a:pt x="476" y="218"/>
                  </a:lnTo>
                  <a:lnTo>
                    <a:pt x="481" y="218"/>
                  </a:lnTo>
                  <a:lnTo>
                    <a:pt x="485" y="218"/>
                  </a:lnTo>
                  <a:lnTo>
                    <a:pt x="489" y="220"/>
                  </a:lnTo>
                  <a:lnTo>
                    <a:pt x="495" y="222"/>
                  </a:lnTo>
                  <a:lnTo>
                    <a:pt x="501" y="227"/>
                  </a:lnTo>
                  <a:lnTo>
                    <a:pt x="504" y="233"/>
                  </a:lnTo>
                  <a:lnTo>
                    <a:pt x="504" y="233"/>
                  </a:lnTo>
                  <a:close/>
                  <a:moveTo>
                    <a:pt x="391" y="157"/>
                  </a:moveTo>
                  <a:lnTo>
                    <a:pt x="397" y="153"/>
                  </a:lnTo>
                  <a:lnTo>
                    <a:pt x="401" y="151"/>
                  </a:lnTo>
                  <a:lnTo>
                    <a:pt x="405" y="147"/>
                  </a:lnTo>
                  <a:lnTo>
                    <a:pt x="407" y="143"/>
                  </a:lnTo>
                  <a:lnTo>
                    <a:pt x="410" y="139"/>
                  </a:lnTo>
                  <a:lnTo>
                    <a:pt x="414" y="135"/>
                  </a:lnTo>
                  <a:lnTo>
                    <a:pt x="418" y="130"/>
                  </a:lnTo>
                  <a:lnTo>
                    <a:pt x="422" y="126"/>
                  </a:lnTo>
                  <a:lnTo>
                    <a:pt x="424" y="120"/>
                  </a:lnTo>
                  <a:lnTo>
                    <a:pt x="430" y="111"/>
                  </a:lnTo>
                  <a:lnTo>
                    <a:pt x="432" y="105"/>
                  </a:lnTo>
                  <a:lnTo>
                    <a:pt x="434" y="99"/>
                  </a:lnTo>
                  <a:lnTo>
                    <a:pt x="432" y="95"/>
                  </a:lnTo>
                  <a:lnTo>
                    <a:pt x="432" y="93"/>
                  </a:lnTo>
                  <a:lnTo>
                    <a:pt x="430" y="91"/>
                  </a:lnTo>
                  <a:lnTo>
                    <a:pt x="428" y="91"/>
                  </a:lnTo>
                  <a:lnTo>
                    <a:pt x="426" y="90"/>
                  </a:lnTo>
                  <a:lnTo>
                    <a:pt x="424" y="90"/>
                  </a:lnTo>
                  <a:lnTo>
                    <a:pt x="420" y="88"/>
                  </a:lnTo>
                  <a:lnTo>
                    <a:pt x="416" y="88"/>
                  </a:lnTo>
                  <a:lnTo>
                    <a:pt x="410" y="90"/>
                  </a:lnTo>
                  <a:lnTo>
                    <a:pt x="407" y="91"/>
                  </a:lnTo>
                  <a:lnTo>
                    <a:pt x="403" y="95"/>
                  </a:lnTo>
                  <a:lnTo>
                    <a:pt x="401" y="103"/>
                  </a:lnTo>
                  <a:lnTo>
                    <a:pt x="399" y="107"/>
                  </a:lnTo>
                  <a:lnTo>
                    <a:pt x="397" y="111"/>
                  </a:lnTo>
                  <a:lnTo>
                    <a:pt x="397" y="116"/>
                  </a:lnTo>
                  <a:lnTo>
                    <a:pt x="395" y="124"/>
                  </a:lnTo>
                  <a:lnTo>
                    <a:pt x="393" y="130"/>
                  </a:lnTo>
                  <a:lnTo>
                    <a:pt x="393" y="139"/>
                  </a:lnTo>
                  <a:lnTo>
                    <a:pt x="391" y="147"/>
                  </a:lnTo>
                  <a:lnTo>
                    <a:pt x="391" y="157"/>
                  </a:lnTo>
                  <a:lnTo>
                    <a:pt x="391" y="157"/>
                  </a:lnTo>
                  <a:close/>
                  <a:moveTo>
                    <a:pt x="353" y="245"/>
                  </a:moveTo>
                  <a:lnTo>
                    <a:pt x="341" y="239"/>
                  </a:lnTo>
                  <a:lnTo>
                    <a:pt x="332" y="235"/>
                  </a:lnTo>
                  <a:lnTo>
                    <a:pt x="322" y="227"/>
                  </a:lnTo>
                  <a:lnTo>
                    <a:pt x="315" y="222"/>
                  </a:lnTo>
                  <a:lnTo>
                    <a:pt x="313" y="225"/>
                  </a:lnTo>
                  <a:lnTo>
                    <a:pt x="311" y="227"/>
                  </a:lnTo>
                  <a:lnTo>
                    <a:pt x="309" y="229"/>
                  </a:lnTo>
                  <a:lnTo>
                    <a:pt x="307" y="233"/>
                  </a:lnTo>
                  <a:lnTo>
                    <a:pt x="307" y="243"/>
                  </a:lnTo>
                  <a:lnTo>
                    <a:pt x="309" y="252"/>
                  </a:lnTo>
                  <a:lnTo>
                    <a:pt x="309" y="260"/>
                  </a:lnTo>
                  <a:lnTo>
                    <a:pt x="309" y="268"/>
                  </a:lnTo>
                  <a:lnTo>
                    <a:pt x="309" y="271"/>
                  </a:lnTo>
                  <a:lnTo>
                    <a:pt x="307" y="275"/>
                  </a:lnTo>
                  <a:lnTo>
                    <a:pt x="307" y="281"/>
                  </a:lnTo>
                  <a:lnTo>
                    <a:pt x="305" y="289"/>
                  </a:lnTo>
                  <a:lnTo>
                    <a:pt x="303" y="294"/>
                  </a:lnTo>
                  <a:lnTo>
                    <a:pt x="301" y="302"/>
                  </a:lnTo>
                  <a:lnTo>
                    <a:pt x="299" y="312"/>
                  </a:lnTo>
                  <a:lnTo>
                    <a:pt x="295" y="321"/>
                  </a:lnTo>
                  <a:lnTo>
                    <a:pt x="303" y="314"/>
                  </a:lnTo>
                  <a:lnTo>
                    <a:pt x="311" y="306"/>
                  </a:lnTo>
                  <a:lnTo>
                    <a:pt x="318" y="296"/>
                  </a:lnTo>
                  <a:lnTo>
                    <a:pt x="326" y="289"/>
                  </a:lnTo>
                  <a:lnTo>
                    <a:pt x="334" y="277"/>
                  </a:lnTo>
                  <a:lnTo>
                    <a:pt x="340" y="268"/>
                  </a:lnTo>
                  <a:lnTo>
                    <a:pt x="347" y="256"/>
                  </a:lnTo>
                  <a:lnTo>
                    <a:pt x="353" y="245"/>
                  </a:lnTo>
                  <a:lnTo>
                    <a:pt x="353" y="245"/>
                  </a:lnTo>
                  <a:close/>
                  <a:moveTo>
                    <a:pt x="119" y="382"/>
                  </a:moveTo>
                  <a:lnTo>
                    <a:pt x="119" y="371"/>
                  </a:lnTo>
                  <a:lnTo>
                    <a:pt x="119" y="359"/>
                  </a:lnTo>
                  <a:lnTo>
                    <a:pt x="119" y="350"/>
                  </a:lnTo>
                  <a:lnTo>
                    <a:pt x="119" y="340"/>
                  </a:lnTo>
                  <a:lnTo>
                    <a:pt x="119" y="333"/>
                  </a:lnTo>
                  <a:lnTo>
                    <a:pt x="117" y="327"/>
                  </a:lnTo>
                  <a:lnTo>
                    <a:pt x="117" y="319"/>
                  </a:lnTo>
                  <a:lnTo>
                    <a:pt x="117" y="315"/>
                  </a:lnTo>
                  <a:lnTo>
                    <a:pt x="107" y="329"/>
                  </a:lnTo>
                  <a:lnTo>
                    <a:pt x="98" y="340"/>
                  </a:lnTo>
                  <a:lnTo>
                    <a:pt x="88" y="350"/>
                  </a:lnTo>
                  <a:lnTo>
                    <a:pt x="79" y="359"/>
                  </a:lnTo>
                  <a:lnTo>
                    <a:pt x="71" y="365"/>
                  </a:lnTo>
                  <a:lnTo>
                    <a:pt x="63" y="371"/>
                  </a:lnTo>
                  <a:lnTo>
                    <a:pt x="58" y="375"/>
                  </a:lnTo>
                  <a:lnTo>
                    <a:pt x="52" y="377"/>
                  </a:lnTo>
                  <a:lnTo>
                    <a:pt x="52" y="382"/>
                  </a:lnTo>
                  <a:lnTo>
                    <a:pt x="52" y="388"/>
                  </a:lnTo>
                  <a:lnTo>
                    <a:pt x="52" y="396"/>
                  </a:lnTo>
                  <a:lnTo>
                    <a:pt x="52" y="405"/>
                  </a:lnTo>
                  <a:lnTo>
                    <a:pt x="52" y="413"/>
                  </a:lnTo>
                  <a:lnTo>
                    <a:pt x="52" y="423"/>
                  </a:lnTo>
                  <a:lnTo>
                    <a:pt x="54" y="432"/>
                  </a:lnTo>
                  <a:lnTo>
                    <a:pt x="56" y="444"/>
                  </a:lnTo>
                  <a:lnTo>
                    <a:pt x="65" y="436"/>
                  </a:lnTo>
                  <a:lnTo>
                    <a:pt x="75" y="428"/>
                  </a:lnTo>
                  <a:lnTo>
                    <a:pt x="84" y="421"/>
                  </a:lnTo>
                  <a:lnTo>
                    <a:pt x="92" y="413"/>
                  </a:lnTo>
                  <a:lnTo>
                    <a:pt x="100" y="405"/>
                  </a:lnTo>
                  <a:lnTo>
                    <a:pt x="107" y="398"/>
                  </a:lnTo>
                  <a:lnTo>
                    <a:pt x="113" y="390"/>
                  </a:lnTo>
                  <a:lnTo>
                    <a:pt x="119" y="382"/>
                  </a:lnTo>
                  <a:lnTo>
                    <a:pt x="119" y="382"/>
                  </a:lnTo>
                  <a:close/>
                  <a:moveTo>
                    <a:pt x="54" y="356"/>
                  </a:moveTo>
                  <a:lnTo>
                    <a:pt x="58" y="352"/>
                  </a:lnTo>
                  <a:lnTo>
                    <a:pt x="61" y="346"/>
                  </a:lnTo>
                  <a:lnTo>
                    <a:pt x="67" y="337"/>
                  </a:lnTo>
                  <a:lnTo>
                    <a:pt x="69" y="331"/>
                  </a:lnTo>
                  <a:lnTo>
                    <a:pt x="71" y="327"/>
                  </a:lnTo>
                  <a:lnTo>
                    <a:pt x="73" y="323"/>
                  </a:lnTo>
                  <a:lnTo>
                    <a:pt x="73" y="321"/>
                  </a:lnTo>
                  <a:lnTo>
                    <a:pt x="73" y="319"/>
                  </a:lnTo>
                  <a:lnTo>
                    <a:pt x="71" y="317"/>
                  </a:lnTo>
                  <a:lnTo>
                    <a:pt x="71" y="317"/>
                  </a:lnTo>
                  <a:lnTo>
                    <a:pt x="69" y="317"/>
                  </a:lnTo>
                  <a:lnTo>
                    <a:pt x="63" y="317"/>
                  </a:lnTo>
                  <a:lnTo>
                    <a:pt x="58" y="319"/>
                  </a:lnTo>
                  <a:lnTo>
                    <a:pt x="54" y="338"/>
                  </a:lnTo>
                  <a:lnTo>
                    <a:pt x="54" y="346"/>
                  </a:lnTo>
                  <a:lnTo>
                    <a:pt x="54" y="356"/>
                  </a:lnTo>
                  <a:lnTo>
                    <a:pt x="54" y="356"/>
                  </a:lnTo>
                  <a:close/>
                  <a:moveTo>
                    <a:pt x="96" y="449"/>
                  </a:moveTo>
                  <a:lnTo>
                    <a:pt x="100" y="455"/>
                  </a:lnTo>
                  <a:lnTo>
                    <a:pt x="102" y="459"/>
                  </a:lnTo>
                  <a:lnTo>
                    <a:pt x="105" y="463"/>
                  </a:lnTo>
                  <a:lnTo>
                    <a:pt x="107" y="467"/>
                  </a:lnTo>
                  <a:lnTo>
                    <a:pt x="109" y="469"/>
                  </a:lnTo>
                  <a:lnTo>
                    <a:pt x="111" y="471"/>
                  </a:lnTo>
                  <a:lnTo>
                    <a:pt x="113" y="472"/>
                  </a:lnTo>
                  <a:lnTo>
                    <a:pt x="115" y="472"/>
                  </a:lnTo>
                  <a:lnTo>
                    <a:pt x="117" y="471"/>
                  </a:lnTo>
                  <a:lnTo>
                    <a:pt x="119" y="469"/>
                  </a:lnTo>
                  <a:lnTo>
                    <a:pt x="119" y="467"/>
                  </a:lnTo>
                  <a:lnTo>
                    <a:pt x="119" y="465"/>
                  </a:lnTo>
                  <a:lnTo>
                    <a:pt x="119" y="461"/>
                  </a:lnTo>
                  <a:lnTo>
                    <a:pt x="119" y="457"/>
                  </a:lnTo>
                  <a:lnTo>
                    <a:pt x="119" y="449"/>
                  </a:lnTo>
                  <a:lnTo>
                    <a:pt x="119" y="442"/>
                  </a:lnTo>
                  <a:lnTo>
                    <a:pt x="119" y="432"/>
                  </a:lnTo>
                  <a:lnTo>
                    <a:pt x="119" y="423"/>
                  </a:lnTo>
                  <a:lnTo>
                    <a:pt x="113" y="428"/>
                  </a:lnTo>
                  <a:lnTo>
                    <a:pt x="107" y="434"/>
                  </a:lnTo>
                  <a:lnTo>
                    <a:pt x="102" y="442"/>
                  </a:lnTo>
                  <a:lnTo>
                    <a:pt x="96" y="449"/>
                  </a:lnTo>
                  <a:lnTo>
                    <a:pt x="96" y="449"/>
                  </a:lnTo>
                  <a:close/>
                  <a:moveTo>
                    <a:pt x="40" y="453"/>
                  </a:moveTo>
                  <a:lnTo>
                    <a:pt x="38" y="448"/>
                  </a:lnTo>
                  <a:lnTo>
                    <a:pt x="36" y="444"/>
                  </a:lnTo>
                  <a:lnTo>
                    <a:pt x="35" y="438"/>
                  </a:lnTo>
                  <a:lnTo>
                    <a:pt x="29" y="434"/>
                  </a:lnTo>
                  <a:lnTo>
                    <a:pt x="25" y="438"/>
                  </a:lnTo>
                  <a:lnTo>
                    <a:pt x="23" y="440"/>
                  </a:lnTo>
                  <a:lnTo>
                    <a:pt x="21" y="444"/>
                  </a:lnTo>
                  <a:lnTo>
                    <a:pt x="21" y="448"/>
                  </a:lnTo>
                  <a:lnTo>
                    <a:pt x="21" y="451"/>
                  </a:lnTo>
                  <a:lnTo>
                    <a:pt x="23" y="455"/>
                  </a:lnTo>
                  <a:lnTo>
                    <a:pt x="25" y="457"/>
                  </a:lnTo>
                  <a:lnTo>
                    <a:pt x="27" y="457"/>
                  </a:lnTo>
                  <a:lnTo>
                    <a:pt x="33" y="457"/>
                  </a:lnTo>
                  <a:lnTo>
                    <a:pt x="36" y="455"/>
                  </a:lnTo>
                  <a:lnTo>
                    <a:pt x="40" y="453"/>
                  </a:lnTo>
                  <a:lnTo>
                    <a:pt x="40" y="4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Group 3445"/>
          <p:cNvGrpSpPr/>
          <p:nvPr/>
        </p:nvGrpSpPr>
        <p:grpSpPr>
          <a:xfrm>
            <a:off x="6372360" y="3852720"/>
            <a:ext cx="1212480" cy="654120"/>
            <a:chOff x="6372360" y="3852720"/>
            <a:chExt cx="1212480" cy="654120"/>
          </a:xfrm>
        </p:grpSpPr>
        <p:sp>
          <p:nvSpPr>
            <p:cNvPr id="2796" name="Freeform 3419"/>
            <p:cNvSpPr/>
            <p:nvPr/>
          </p:nvSpPr>
          <p:spPr>
            <a:xfrm>
              <a:off x="6372360" y="3875760"/>
              <a:ext cx="538200" cy="629280"/>
            </a:xfrm>
            <a:custGeom>
              <a:avLst/>
              <a:gdLst/>
              <a:ahLst/>
              <a:rect l="l" t="t" r="r" b="b"/>
              <a:pathLst>
                <a:path w="625" h="687">
                  <a:moveTo>
                    <a:pt x="479" y="251"/>
                  </a:moveTo>
                  <a:lnTo>
                    <a:pt x="495" y="251"/>
                  </a:lnTo>
                  <a:lnTo>
                    <a:pt x="510" y="249"/>
                  </a:lnTo>
                  <a:lnTo>
                    <a:pt x="522" y="249"/>
                  </a:lnTo>
                  <a:lnTo>
                    <a:pt x="531" y="247"/>
                  </a:lnTo>
                  <a:lnTo>
                    <a:pt x="541" y="247"/>
                  </a:lnTo>
                  <a:lnTo>
                    <a:pt x="547" y="245"/>
                  </a:lnTo>
                  <a:lnTo>
                    <a:pt x="552" y="245"/>
                  </a:lnTo>
                  <a:lnTo>
                    <a:pt x="556" y="243"/>
                  </a:lnTo>
                  <a:lnTo>
                    <a:pt x="564" y="241"/>
                  </a:lnTo>
                  <a:lnTo>
                    <a:pt x="570" y="239"/>
                  </a:lnTo>
                  <a:lnTo>
                    <a:pt x="573" y="239"/>
                  </a:lnTo>
                  <a:lnTo>
                    <a:pt x="581" y="239"/>
                  </a:lnTo>
                  <a:lnTo>
                    <a:pt x="587" y="243"/>
                  </a:lnTo>
                  <a:lnTo>
                    <a:pt x="597" y="245"/>
                  </a:lnTo>
                  <a:lnTo>
                    <a:pt x="606" y="251"/>
                  </a:lnTo>
                  <a:lnTo>
                    <a:pt x="610" y="253"/>
                  </a:lnTo>
                  <a:lnTo>
                    <a:pt x="614" y="256"/>
                  </a:lnTo>
                  <a:lnTo>
                    <a:pt x="618" y="258"/>
                  </a:lnTo>
                  <a:lnTo>
                    <a:pt x="621" y="262"/>
                  </a:lnTo>
                  <a:lnTo>
                    <a:pt x="623" y="266"/>
                  </a:lnTo>
                  <a:lnTo>
                    <a:pt x="623" y="268"/>
                  </a:lnTo>
                  <a:lnTo>
                    <a:pt x="625" y="272"/>
                  </a:lnTo>
                  <a:lnTo>
                    <a:pt x="625" y="274"/>
                  </a:lnTo>
                  <a:lnTo>
                    <a:pt x="625" y="277"/>
                  </a:lnTo>
                  <a:lnTo>
                    <a:pt x="625" y="281"/>
                  </a:lnTo>
                  <a:lnTo>
                    <a:pt x="623" y="283"/>
                  </a:lnTo>
                  <a:lnTo>
                    <a:pt x="621" y="285"/>
                  </a:lnTo>
                  <a:lnTo>
                    <a:pt x="620" y="287"/>
                  </a:lnTo>
                  <a:lnTo>
                    <a:pt x="618" y="287"/>
                  </a:lnTo>
                  <a:lnTo>
                    <a:pt x="614" y="289"/>
                  </a:lnTo>
                  <a:lnTo>
                    <a:pt x="610" y="289"/>
                  </a:lnTo>
                  <a:lnTo>
                    <a:pt x="597" y="291"/>
                  </a:lnTo>
                  <a:lnTo>
                    <a:pt x="581" y="291"/>
                  </a:lnTo>
                  <a:lnTo>
                    <a:pt x="568" y="293"/>
                  </a:lnTo>
                  <a:lnTo>
                    <a:pt x="552" y="297"/>
                  </a:lnTo>
                  <a:lnTo>
                    <a:pt x="537" y="298"/>
                  </a:lnTo>
                  <a:lnTo>
                    <a:pt x="520" y="302"/>
                  </a:lnTo>
                  <a:lnTo>
                    <a:pt x="504" y="306"/>
                  </a:lnTo>
                  <a:lnTo>
                    <a:pt x="487" y="312"/>
                  </a:lnTo>
                  <a:lnTo>
                    <a:pt x="485" y="314"/>
                  </a:lnTo>
                  <a:lnTo>
                    <a:pt x="485" y="316"/>
                  </a:lnTo>
                  <a:lnTo>
                    <a:pt x="485" y="318"/>
                  </a:lnTo>
                  <a:lnTo>
                    <a:pt x="487" y="320"/>
                  </a:lnTo>
                  <a:lnTo>
                    <a:pt x="497" y="321"/>
                  </a:lnTo>
                  <a:lnTo>
                    <a:pt x="506" y="325"/>
                  </a:lnTo>
                  <a:lnTo>
                    <a:pt x="516" y="329"/>
                  </a:lnTo>
                  <a:lnTo>
                    <a:pt x="526" y="337"/>
                  </a:lnTo>
                  <a:lnTo>
                    <a:pt x="529" y="341"/>
                  </a:lnTo>
                  <a:lnTo>
                    <a:pt x="531" y="344"/>
                  </a:lnTo>
                  <a:lnTo>
                    <a:pt x="537" y="352"/>
                  </a:lnTo>
                  <a:lnTo>
                    <a:pt x="541" y="358"/>
                  </a:lnTo>
                  <a:lnTo>
                    <a:pt x="541" y="365"/>
                  </a:lnTo>
                  <a:lnTo>
                    <a:pt x="541" y="369"/>
                  </a:lnTo>
                  <a:lnTo>
                    <a:pt x="543" y="375"/>
                  </a:lnTo>
                  <a:lnTo>
                    <a:pt x="543" y="381"/>
                  </a:lnTo>
                  <a:lnTo>
                    <a:pt x="543" y="388"/>
                  </a:lnTo>
                  <a:lnTo>
                    <a:pt x="543" y="394"/>
                  </a:lnTo>
                  <a:lnTo>
                    <a:pt x="545" y="402"/>
                  </a:lnTo>
                  <a:lnTo>
                    <a:pt x="545" y="411"/>
                  </a:lnTo>
                  <a:lnTo>
                    <a:pt x="547" y="419"/>
                  </a:lnTo>
                  <a:lnTo>
                    <a:pt x="547" y="429"/>
                  </a:lnTo>
                  <a:lnTo>
                    <a:pt x="549" y="438"/>
                  </a:lnTo>
                  <a:lnTo>
                    <a:pt x="549" y="448"/>
                  </a:lnTo>
                  <a:lnTo>
                    <a:pt x="550" y="459"/>
                  </a:lnTo>
                  <a:lnTo>
                    <a:pt x="552" y="471"/>
                  </a:lnTo>
                  <a:lnTo>
                    <a:pt x="554" y="482"/>
                  </a:lnTo>
                  <a:lnTo>
                    <a:pt x="554" y="494"/>
                  </a:lnTo>
                  <a:lnTo>
                    <a:pt x="556" y="507"/>
                  </a:lnTo>
                  <a:lnTo>
                    <a:pt x="558" y="522"/>
                  </a:lnTo>
                  <a:lnTo>
                    <a:pt x="560" y="540"/>
                  </a:lnTo>
                  <a:lnTo>
                    <a:pt x="562" y="557"/>
                  </a:lnTo>
                  <a:lnTo>
                    <a:pt x="562" y="576"/>
                  </a:lnTo>
                  <a:lnTo>
                    <a:pt x="560" y="593"/>
                  </a:lnTo>
                  <a:lnTo>
                    <a:pt x="558" y="612"/>
                  </a:lnTo>
                  <a:lnTo>
                    <a:pt x="554" y="632"/>
                  </a:lnTo>
                  <a:lnTo>
                    <a:pt x="549" y="651"/>
                  </a:lnTo>
                  <a:lnTo>
                    <a:pt x="545" y="658"/>
                  </a:lnTo>
                  <a:lnTo>
                    <a:pt x="541" y="666"/>
                  </a:lnTo>
                  <a:lnTo>
                    <a:pt x="537" y="672"/>
                  </a:lnTo>
                  <a:lnTo>
                    <a:pt x="533" y="678"/>
                  </a:lnTo>
                  <a:lnTo>
                    <a:pt x="529" y="681"/>
                  </a:lnTo>
                  <a:lnTo>
                    <a:pt x="527" y="685"/>
                  </a:lnTo>
                  <a:lnTo>
                    <a:pt x="524" y="687"/>
                  </a:lnTo>
                  <a:lnTo>
                    <a:pt x="520" y="687"/>
                  </a:lnTo>
                  <a:lnTo>
                    <a:pt x="518" y="687"/>
                  </a:lnTo>
                  <a:lnTo>
                    <a:pt x="514" y="685"/>
                  </a:lnTo>
                  <a:lnTo>
                    <a:pt x="512" y="683"/>
                  </a:lnTo>
                  <a:lnTo>
                    <a:pt x="510" y="683"/>
                  </a:lnTo>
                  <a:lnTo>
                    <a:pt x="508" y="681"/>
                  </a:lnTo>
                  <a:lnTo>
                    <a:pt x="504" y="678"/>
                  </a:lnTo>
                  <a:lnTo>
                    <a:pt x="501" y="674"/>
                  </a:lnTo>
                  <a:lnTo>
                    <a:pt x="497" y="670"/>
                  </a:lnTo>
                  <a:lnTo>
                    <a:pt x="491" y="664"/>
                  </a:lnTo>
                  <a:lnTo>
                    <a:pt x="485" y="658"/>
                  </a:lnTo>
                  <a:lnTo>
                    <a:pt x="479" y="651"/>
                  </a:lnTo>
                  <a:lnTo>
                    <a:pt x="466" y="635"/>
                  </a:lnTo>
                  <a:lnTo>
                    <a:pt x="453" y="620"/>
                  </a:lnTo>
                  <a:lnTo>
                    <a:pt x="439" y="603"/>
                  </a:lnTo>
                  <a:lnTo>
                    <a:pt x="428" y="586"/>
                  </a:lnTo>
                  <a:lnTo>
                    <a:pt x="416" y="566"/>
                  </a:lnTo>
                  <a:lnTo>
                    <a:pt x="405" y="549"/>
                  </a:lnTo>
                  <a:lnTo>
                    <a:pt x="395" y="534"/>
                  </a:lnTo>
                  <a:lnTo>
                    <a:pt x="385" y="517"/>
                  </a:lnTo>
                  <a:lnTo>
                    <a:pt x="385" y="536"/>
                  </a:lnTo>
                  <a:lnTo>
                    <a:pt x="385" y="551"/>
                  </a:lnTo>
                  <a:lnTo>
                    <a:pt x="387" y="568"/>
                  </a:lnTo>
                  <a:lnTo>
                    <a:pt x="389" y="584"/>
                  </a:lnTo>
                  <a:lnTo>
                    <a:pt x="391" y="589"/>
                  </a:lnTo>
                  <a:lnTo>
                    <a:pt x="393" y="595"/>
                  </a:lnTo>
                  <a:lnTo>
                    <a:pt x="393" y="601"/>
                  </a:lnTo>
                  <a:lnTo>
                    <a:pt x="395" y="607"/>
                  </a:lnTo>
                  <a:lnTo>
                    <a:pt x="395" y="611"/>
                  </a:lnTo>
                  <a:lnTo>
                    <a:pt x="395" y="616"/>
                  </a:lnTo>
                  <a:lnTo>
                    <a:pt x="395" y="618"/>
                  </a:lnTo>
                  <a:lnTo>
                    <a:pt x="395" y="622"/>
                  </a:lnTo>
                  <a:lnTo>
                    <a:pt x="395" y="626"/>
                  </a:lnTo>
                  <a:lnTo>
                    <a:pt x="395" y="632"/>
                  </a:lnTo>
                  <a:lnTo>
                    <a:pt x="393" y="635"/>
                  </a:lnTo>
                  <a:lnTo>
                    <a:pt x="391" y="639"/>
                  </a:lnTo>
                  <a:lnTo>
                    <a:pt x="391" y="643"/>
                  </a:lnTo>
                  <a:lnTo>
                    <a:pt x="389" y="645"/>
                  </a:lnTo>
                  <a:lnTo>
                    <a:pt x="387" y="645"/>
                  </a:lnTo>
                  <a:lnTo>
                    <a:pt x="385" y="647"/>
                  </a:lnTo>
                  <a:lnTo>
                    <a:pt x="384" y="645"/>
                  </a:lnTo>
                  <a:lnTo>
                    <a:pt x="382" y="645"/>
                  </a:lnTo>
                  <a:lnTo>
                    <a:pt x="380" y="643"/>
                  </a:lnTo>
                  <a:lnTo>
                    <a:pt x="376" y="639"/>
                  </a:lnTo>
                  <a:lnTo>
                    <a:pt x="374" y="635"/>
                  </a:lnTo>
                  <a:lnTo>
                    <a:pt x="372" y="632"/>
                  </a:lnTo>
                  <a:lnTo>
                    <a:pt x="368" y="626"/>
                  </a:lnTo>
                  <a:lnTo>
                    <a:pt x="366" y="618"/>
                  </a:lnTo>
                  <a:lnTo>
                    <a:pt x="361" y="605"/>
                  </a:lnTo>
                  <a:lnTo>
                    <a:pt x="357" y="588"/>
                  </a:lnTo>
                  <a:lnTo>
                    <a:pt x="355" y="570"/>
                  </a:lnTo>
                  <a:lnTo>
                    <a:pt x="355" y="551"/>
                  </a:lnTo>
                  <a:lnTo>
                    <a:pt x="355" y="542"/>
                  </a:lnTo>
                  <a:lnTo>
                    <a:pt x="355" y="530"/>
                  </a:lnTo>
                  <a:lnTo>
                    <a:pt x="355" y="519"/>
                  </a:lnTo>
                  <a:lnTo>
                    <a:pt x="357" y="507"/>
                  </a:lnTo>
                  <a:lnTo>
                    <a:pt x="359" y="496"/>
                  </a:lnTo>
                  <a:lnTo>
                    <a:pt x="359" y="482"/>
                  </a:lnTo>
                  <a:lnTo>
                    <a:pt x="361" y="469"/>
                  </a:lnTo>
                  <a:lnTo>
                    <a:pt x="362" y="454"/>
                  </a:lnTo>
                  <a:lnTo>
                    <a:pt x="364" y="440"/>
                  </a:lnTo>
                  <a:lnTo>
                    <a:pt x="366" y="427"/>
                  </a:lnTo>
                  <a:lnTo>
                    <a:pt x="370" y="415"/>
                  </a:lnTo>
                  <a:lnTo>
                    <a:pt x="372" y="406"/>
                  </a:lnTo>
                  <a:lnTo>
                    <a:pt x="374" y="396"/>
                  </a:lnTo>
                  <a:lnTo>
                    <a:pt x="374" y="388"/>
                  </a:lnTo>
                  <a:lnTo>
                    <a:pt x="376" y="383"/>
                  </a:lnTo>
                  <a:lnTo>
                    <a:pt x="378" y="377"/>
                  </a:lnTo>
                  <a:lnTo>
                    <a:pt x="382" y="367"/>
                  </a:lnTo>
                  <a:lnTo>
                    <a:pt x="387" y="360"/>
                  </a:lnTo>
                  <a:lnTo>
                    <a:pt x="393" y="350"/>
                  </a:lnTo>
                  <a:lnTo>
                    <a:pt x="399" y="343"/>
                  </a:lnTo>
                  <a:lnTo>
                    <a:pt x="409" y="335"/>
                  </a:lnTo>
                  <a:lnTo>
                    <a:pt x="418" y="325"/>
                  </a:lnTo>
                  <a:lnTo>
                    <a:pt x="430" y="318"/>
                  </a:lnTo>
                  <a:lnTo>
                    <a:pt x="441" y="308"/>
                  </a:lnTo>
                  <a:lnTo>
                    <a:pt x="439" y="308"/>
                  </a:lnTo>
                  <a:lnTo>
                    <a:pt x="435" y="308"/>
                  </a:lnTo>
                  <a:lnTo>
                    <a:pt x="430" y="308"/>
                  </a:lnTo>
                  <a:lnTo>
                    <a:pt x="420" y="310"/>
                  </a:lnTo>
                  <a:lnTo>
                    <a:pt x="412" y="312"/>
                  </a:lnTo>
                  <a:lnTo>
                    <a:pt x="403" y="316"/>
                  </a:lnTo>
                  <a:lnTo>
                    <a:pt x="393" y="320"/>
                  </a:lnTo>
                  <a:lnTo>
                    <a:pt x="384" y="325"/>
                  </a:lnTo>
                  <a:lnTo>
                    <a:pt x="374" y="331"/>
                  </a:lnTo>
                  <a:lnTo>
                    <a:pt x="362" y="339"/>
                  </a:lnTo>
                  <a:lnTo>
                    <a:pt x="351" y="344"/>
                  </a:lnTo>
                  <a:lnTo>
                    <a:pt x="341" y="350"/>
                  </a:lnTo>
                  <a:lnTo>
                    <a:pt x="332" y="356"/>
                  </a:lnTo>
                  <a:lnTo>
                    <a:pt x="322" y="360"/>
                  </a:lnTo>
                  <a:lnTo>
                    <a:pt x="313" y="364"/>
                  </a:lnTo>
                  <a:lnTo>
                    <a:pt x="305" y="365"/>
                  </a:lnTo>
                  <a:lnTo>
                    <a:pt x="295" y="365"/>
                  </a:lnTo>
                  <a:lnTo>
                    <a:pt x="288" y="367"/>
                  </a:lnTo>
                  <a:lnTo>
                    <a:pt x="278" y="365"/>
                  </a:lnTo>
                  <a:lnTo>
                    <a:pt x="272" y="365"/>
                  </a:lnTo>
                  <a:lnTo>
                    <a:pt x="267" y="364"/>
                  </a:lnTo>
                  <a:lnTo>
                    <a:pt x="263" y="369"/>
                  </a:lnTo>
                  <a:lnTo>
                    <a:pt x="259" y="375"/>
                  </a:lnTo>
                  <a:lnTo>
                    <a:pt x="255" y="383"/>
                  </a:lnTo>
                  <a:lnTo>
                    <a:pt x="249" y="390"/>
                  </a:lnTo>
                  <a:lnTo>
                    <a:pt x="245" y="400"/>
                  </a:lnTo>
                  <a:lnTo>
                    <a:pt x="242" y="411"/>
                  </a:lnTo>
                  <a:lnTo>
                    <a:pt x="236" y="423"/>
                  </a:lnTo>
                  <a:lnTo>
                    <a:pt x="232" y="434"/>
                  </a:lnTo>
                  <a:lnTo>
                    <a:pt x="232" y="454"/>
                  </a:lnTo>
                  <a:lnTo>
                    <a:pt x="232" y="471"/>
                  </a:lnTo>
                  <a:lnTo>
                    <a:pt x="232" y="486"/>
                  </a:lnTo>
                  <a:lnTo>
                    <a:pt x="232" y="501"/>
                  </a:lnTo>
                  <a:lnTo>
                    <a:pt x="234" y="515"/>
                  </a:lnTo>
                  <a:lnTo>
                    <a:pt x="234" y="526"/>
                  </a:lnTo>
                  <a:lnTo>
                    <a:pt x="234" y="538"/>
                  </a:lnTo>
                  <a:lnTo>
                    <a:pt x="234" y="547"/>
                  </a:lnTo>
                  <a:lnTo>
                    <a:pt x="234" y="555"/>
                  </a:lnTo>
                  <a:lnTo>
                    <a:pt x="234" y="565"/>
                  </a:lnTo>
                  <a:lnTo>
                    <a:pt x="232" y="570"/>
                  </a:lnTo>
                  <a:lnTo>
                    <a:pt x="232" y="578"/>
                  </a:lnTo>
                  <a:lnTo>
                    <a:pt x="232" y="584"/>
                  </a:lnTo>
                  <a:lnTo>
                    <a:pt x="230" y="588"/>
                  </a:lnTo>
                  <a:lnTo>
                    <a:pt x="230" y="591"/>
                  </a:lnTo>
                  <a:lnTo>
                    <a:pt x="228" y="595"/>
                  </a:lnTo>
                  <a:lnTo>
                    <a:pt x="226" y="601"/>
                  </a:lnTo>
                  <a:lnTo>
                    <a:pt x="224" y="605"/>
                  </a:lnTo>
                  <a:lnTo>
                    <a:pt x="221" y="607"/>
                  </a:lnTo>
                  <a:lnTo>
                    <a:pt x="217" y="607"/>
                  </a:lnTo>
                  <a:lnTo>
                    <a:pt x="215" y="607"/>
                  </a:lnTo>
                  <a:lnTo>
                    <a:pt x="213" y="607"/>
                  </a:lnTo>
                  <a:lnTo>
                    <a:pt x="211" y="605"/>
                  </a:lnTo>
                  <a:lnTo>
                    <a:pt x="209" y="603"/>
                  </a:lnTo>
                  <a:lnTo>
                    <a:pt x="207" y="599"/>
                  </a:lnTo>
                  <a:lnTo>
                    <a:pt x="205" y="595"/>
                  </a:lnTo>
                  <a:lnTo>
                    <a:pt x="203" y="591"/>
                  </a:lnTo>
                  <a:lnTo>
                    <a:pt x="201" y="588"/>
                  </a:lnTo>
                  <a:lnTo>
                    <a:pt x="198" y="576"/>
                  </a:lnTo>
                  <a:lnTo>
                    <a:pt x="194" y="563"/>
                  </a:lnTo>
                  <a:lnTo>
                    <a:pt x="192" y="549"/>
                  </a:lnTo>
                  <a:lnTo>
                    <a:pt x="192" y="534"/>
                  </a:lnTo>
                  <a:lnTo>
                    <a:pt x="192" y="519"/>
                  </a:lnTo>
                  <a:lnTo>
                    <a:pt x="192" y="505"/>
                  </a:lnTo>
                  <a:lnTo>
                    <a:pt x="192" y="492"/>
                  </a:lnTo>
                  <a:lnTo>
                    <a:pt x="194" y="478"/>
                  </a:lnTo>
                  <a:lnTo>
                    <a:pt x="184" y="484"/>
                  </a:lnTo>
                  <a:lnTo>
                    <a:pt x="176" y="490"/>
                  </a:lnTo>
                  <a:lnTo>
                    <a:pt x="171" y="496"/>
                  </a:lnTo>
                  <a:lnTo>
                    <a:pt x="163" y="501"/>
                  </a:lnTo>
                  <a:lnTo>
                    <a:pt x="157" y="505"/>
                  </a:lnTo>
                  <a:lnTo>
                    <a:pt x="151" y="509"/>
                  </a:lnTo>
                  <a:lnTo>
                    <a:pt x="146" y="513"/>
                  </a:lnTo>
                  <a:lnTo>
                    <a:pt x="142" y="517"/>
                  </a:lnTo>
                  <a:lnTo>
                    <a:pt x="140" y="519"/>
                  </a:lnTo>
                  <a:lnTo>
                    <a:pt x="136" y="521"/>
                  </a:lnTo>
                  <a:lnTo>
                    <a:pt x="134" y="522"/>
                  </a:lnTo>
                  <a:lnTo>
                    <a:pt x="130" y="522"/>
                  </a:lnTo>
                  <a:lnTo>
                    <a:pt x="125" y="521"/>
                  </a:lnTo>
                  <a:lnTo>
                    <a:pt x="121" y="519"/>
                  </a:lnTo>
                  <a:lnTo>
                    <a:pt x="119" y="517"/>
                  </a:lnTo>
                  <a:lnTo>
                    <a:pt x="117" y="515"/>
                  </a:lnTo>
                  <a:lnTo>
                    <a:pt x="115" y="511"/>
                  </a:lnTo>
                  <a:lnTo>
                    <a:pt x="113" y="507"/>
                  </a:lnTo>
                  <a:lnTo>
                    <a:pt x="109" y="499"/>
                  </a:lnTo>
                  <a:lnTo>
                    <a:pt x="107" y="492"/>
                  </a:lnTo>
                  <a:lnTo>
                    <a:pt x="105" y="482"/>
                  </a:lnTo>
                  <a:lnTo>
                    <a:pt x="105" y="471"/>
                  </a:lnTo>
                  <a:lnTo>
                    <a:pt x="105" y="463"/>
                  </a:lnTo>
                  <a:lnTo>
                    <a:pt x="107" y="455"/>
                  </a:lnTo>
                  <a:lnTo>
                    <a:pt x="107" y="450"/>
                  </a:lnTo>
                  <a:lnTo>
                    <a:pt x="109" y="444"/>
                  </a:lnTo>
                  <a:lnTo>
                    <a:pt x="113" y="440"/>
                  </a:lnTo>
                  <a:lnTo>
                    <a:pt x="115" y="436"/>
                  </a:lnTo>
                  <a:lnTo>
                    <a:pt x="119" y="434"/>
                  </a:lnTo>
                  <a:lnTo>
                    <a:pt x="123" y="434"/>
                  </a:lnTo>
                  <a:lnTo>
                    <a:pt x="132" y="431"/>
                  </a:lnTo>
                  <a:lnTo>
                    <a:pt x="140" y="427"/>
                  </a:lnTo>
                  <a:lnTo>
                    <a:pt x="150" y="421"/>
                  </a:lnTo>
                  <a:lnTo>
                    <a:pt x="159" y="413"/>
                  </a:lnTo>
                  <a:lnTo>
                    <a:pt x="167" y="402"/>
                  </a:lnTo>
                  <a:lnTo>
                    <a:pt x="176" y="390"/>
                  </a:lnTo>
                  <a:lnTo>
                    <a:pt x="180" y="385"/>
                  </a:lnTo>
                  <a:lnTo>
                    <a:pt x="186" y="377"/>
                  </a:lnTo>
                  <a:lnTo>
                    <a:pt x="190" y="369"/>
                  </a:lnTo>
                  <a:lnTo>
                    <a:pt x="194" y="362"/>
                  </a:lnTo>
                  <a:lnTo>
                    <a:pt x="194" y="341"/>
                  </a:lnTo>
                  <a:lnTo>
                    <a:pt x="176" y="348"/>
                  </a:lnTo>
                  <a:lnTo>
                    <a:pt x="159" y="358"/>
                  </a:lnTo>
                  <a:lnTo>
                    <a:pt x="144" y="365"/>
                  </a:lnTo>
                  <a:lnTo>
                    <a:pt x="130" y="375"/>
                  </a:lnTo>
                  <a:lnTo>
                    <a:pt x="115" y="385"/>
                  </a:lnTo>
                  <a:lnTo>
                    <a:pt x="104" y="396"/>
                  </a:lnTo>
                  <a:lnTo>
                    <a:pt x="90" y="406"/>
                  </a:lnTo>
                  <a:lnTo>
                    <a:pt x="79" y="415"/>
                  </a:lnTo>
                  <a:lnTo>
                    <a:pt x="73" y="421"/>
                  </a:lnTo>
                  <a:lnTo>
                    <a:pt x="63" y="425"/>
                  </a:lnTo>
                  <a:lnTo>
                    <a:pt x="54" y="427"/>
                  </a:lnTo>
                  <a:lnTo>
                    <a:pt x="42" y="429"/>
                  </a:lnTo>
                  <a:lnTo>
                    <a:pt x="34" y="429"/>
                  </a:lnTo>
                  <a:lnTo>
                    <a:pt x="29" y="427"/>
                  </a:lnTo>
                  <a:lnTo>
                    <a:pt x="21" y="425"/>
                  </a:lnTo>
                  <a:lnTo>
                    <a:pt x="13" y="423"/>
                  </a:lnTo>
                  <a:lnTo>
                    <a:pt x="8" y="419"/>
                  </a:lnTo>
                  <a:lnTo>
                    <a:pt x="4" y="413"/>
                  </a:lnTo>
                  <a:lnTo>
                    <a:pt x="2" y="408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2" y="390"/>
                  </a:lnTo>
                  <a:lnTo>
                    <a:pt x="2" y="385"/>
                  </a:lnTo>
                  <a:lnTo>
                    <a:pt x="4" y="381"/>
                  </a:lnTo>
                  <a:lnTo>
                    <a:pt x="6" y="377"/>
                  </a:lnTo>
                  <a:lnTo>
                    <a:pt x="8" y="375"/>
                  </a:lnTo>
                  <a:lnTo>
                    <a:pt x="11" y="373"/>
                  </a:lnTo>
                  <a:lnTo>
                    <a:pt x="17" y="373"/>
                  </a:lnTo>
                  <a:lnTo>
                    <a:pt x="25" y="371"/>
                  </a:lnTo>
                  <a:lnTo>
                    <a:pt x="31" y="371"/>
                  </a:lnTo>
                  <a:lnTo>
                    <a:pt x="36" y="367"/>
                  </a:lnTo>
                  <a:lnTo>
                    <a:pt x="44" y="364"/>
                  </a:lnTo>
                  <a:lnTo>
                    <a:pt x="79" y="344"/>
                  </a:lnTo>
                  <a:lnTo>
                    <a:pt x="111" y="325"/>
                  </a:lnTo>
                  <a:lnTo>
                    <a:pt x="144" y="310"/>
                  </a:lnTo>
                  <a:lnTo>
                    <a:pt x="174" y="293"/>
                  </a:lnTo>
                  <a:lnTo>
                    <a:pt x="178" y="287"/>
                  </a:lnTo>
                  <a:lnTo>
                    <a:pt x="184" y="281"/>
                  </a:lnTo>
                  <a:lnTo>
                    <a:pt x="190" y="275"/>
                  </a:lnTo>
                  <a:lnTo>
                    <a:pt x="194" y="270"/>
                  </a:lnTo>
                  <a:lnTo>
                    <a:pt x="198" y="264"/>
                  </a:lnTo>
                  <a:lnTo>
                    <a:pt x="199" y="258"/>
                  </a:lnTo>
                  <a:lnTo>
                    <a:pt x="201" y="253"/>
                  </a:lnTo>
                  <a:lnTo>
                    <a:pt x="203" y="247"/>
                  </a:lnTo>
                  <a:lnTo>
                    <a:pt x="205" y="237"/>
                  </a:lnTo>
                  <a:lnTo>
                    <a:pt x="205" y="228"/>
                  </a:lnTo>
                  <a:lnTo>
                    <a:pt x="205" y="218"/>
                  </a:lnTo>
                  <a:lnTo>
                    <a:pt x="207" y="210"/>
                  </a:lnTo>
                  <a:lnTo>
                    <a:pt x="207" y="203"/>
                  </a:lnTo>
                  <a:lnTo>
                    <a:pt x="209" y="195"/>
                  </a:lnTo>
                  <a:lnTo>
                    <a:pt x="209" y="189"/>
                  </a:lnTo>
                  <a:lnTo>
                    <a:pt x="209" y="184"/>
                  </a:lnTo>
                  <a:lnTo>
                    <a:pt x="203" y="197"/>
                  </a:lnTo>
                  <a:lnTo>
                    <a:pt x="194" y="210"/>
                  </a:lnTo>
                  <a:lnTo>
                    <a:pt x="186" y="226"/>
                  </a:lnTo>
                  <a:lnTo>
                    <a:pt x="178" y="241"/>
                  </a:lnTo>
                  <a:lnTo>
                    <a:pt x="174" y="251"/>
                  </a:lnTo>
                  <a:lnTo>
                    <a:pt x="171" y="258"/>
                  </a:lnTo>
                  <a:lnTo>
                    <a:pt x="167" y="264"/>
                  </a:lnTo>
                  <a:lnTo>
                    <a:pt x="165" y="270"/>
                  </a:lnTo>
                  <a:lnTo>
                    <a:pt x="163" y="275"/>
                  </a:lnTo>
                  <a:lnTo>
                    <a:pt x="161" y="279"/>
                  </a:lnTo>
                  <a:lnTo>
                    <a:pt x="161" y="281"/>
                  </a:lnTo>
                  <a:lnTo>
                    <a:pt x="159" y="285"/>
                  </a:lnTo>
                  <a:lnTo>
                    <a:pt x="157" y="289"/>
                  </a:lnTo>
                  <a:lnTo>
                    <a:pt x="153" y="293"/>
                  </a:lnTo>
                  <a:lnTo>
                    <a:pt x="150" y="295"/>
                  </a:lnTo>
                  <a:lnTo>
                    <a:pt x="146" y="295"/>
                  </a:lnTo>
                  <a:lnTo>
                    <a:pt x="142" y="295"/>
                  </a:lnTo>
                  <a:lnTo>
                    <a:pt x="136" y="295"/>
                  </a:lnTo>
                  <a:lnTo>
                    <a:pt x="132" y="293"/>
                  </a:lnTo>
                  <a:lnTo>
                    <a:pt x="128" y="291"/>
                  </a:lnTo>
                  <a:lnTo>
                    <a:pt x="125" y="289"/>
                  </a:lnTo>
                  <a:lnTo>
                    <a:pt x="123" y="285"/>
                  </a:lnTo>
                  <a:lnTo>
                    <a:pt x="119" y="279"/>
                  </a:lnTo>
                  <a:lnTo>
                    <a:pt x="115" y="274"/>
                  </a:lnTo>
                  <a:lnTo>
                    <a:pt x="113" y="268"/>
                  </a:lnTo>
                  <a:lnTo>
                    <a:pt x="107" y="254"/>
                  </a:lnTo>
                  <a:lnTo>
                    <a:pt x="104" y="243"/>
                  </a:lnTo>
                  <a:lnTo>
                    <a:pt x="100" y="231"/>
                  </a:lnTo>
                  <a:lnTo>
                    <a:pt x="100" y="220"/>
                  </a:lnTo>
                  <a:lnTo>
                    <a:pt x="100" y="218"/>
                  </a:lnTo>
                  <a:lnTo>
                    <a:pt x="100" y="214"/>
                  </a:lnTo>
                  <a:lnTo>
                    <a:pt x="104" y="207"/>
                  </a:lnTo>
                  <a:lnTo>
                    <a:pt x="105" y="199"/>
                  </a:lnTo>
                  <a:lnTo>
                    <a:pt x="105" y="197"/>
                  </a:lnTo>
                  <a:lnTo>
                    <a:pt x="107" y="193"/>
                  </a:lnTo>
                  <a:lnTo>
                    <a:pt x="105" y="189"/>
                  </a:lnTo>
                  <a:lnTo>
                    <a:pt x="104" y="186"/>
                  </a:lnTo>
                  <a:lnTo>
                    <a:pt x="102" y="180"/>
                  </a:lnTo>
                  <a:lnTo>
                    <a:pt x="102" y="176"/>
                  </a:lnTo>
                  <a:lnTo>
                    <a:pt x="102" y="174"/>
                  </a:lnTo>
                  <a:lnTo>
                    <a:pt x="104" y="172"/>
                  </a:lnTo>
                  <a:lnTo>
                    <a:pt x="105" y="172"/>
                  </a:lnTo>
                  <a:lnTo>
                    <a:pt x="107" y="172"/>
                  </a:lnTo>
                  <a:lnTo>
                    <a:pt x="109" y="174"/>
                  </a:lnTo>
                  <a:lnTo>
                    <a:pt x="111" y="176"/>
                  </a:lnTo>
                  <a:lnTo>
                    <a:pt x="113" y="178"/>
                  </a:lnTo>
                  <a:lnTo>
                    <a:pt x="119" y="184"/>
                  </a:lnTo>
                  <a:lnTo>
                    <a:pt x="123" y="189"/>
                  </a:lnTo>
                  <a:lnTo>
                    <a:pt x="127" y="193"/>
                  </a:lnTo>
                  <a:lnTo>
                    <a:pt x="130" y="195"/>
                  </a:lnTo>
                  <a:lnTo>
                    <a:pt x="134" y="199"/>
                  </a:lnTo>
                  <a:lnTo>
                    <a:pt x="138" y="201"/>
                  </a:lnTo>
                  <a:lnTo>
                    <a:pt x="140" y="201"/>
                  </a:lnTo>
                  <a:lnTo>
                    <a:pt x="142" y="201"/>
                  </a:lnTo>
                  <a:lnTo>
                    <a:pt x="144" y="201"/>
                  </a:lnTo>
                  <a:lnTo>
                    <a:pt x="146" y="201"/>
                  </a:lnTo>
                  <a:lnTo>
                    <a:pt x="148" y="199"/>
                  </a:lnTo>
                  <a:lnTo>
                    <a:pt x="151" y="197"/>
                  </a:lnTo>
                  <a:lnTo>
                    <a:pt x="155" y="195"/>
                  </a:lnTo>
                  <a:lnTo>
                    <a:pt x="159" y="193"/>
                  </a:lnTo>
                  <a:lnTo>
                    <a:pt x="165" y="189"/>
                  </a:lnTo>
                  <a:lnTo>
                    <a:pt x="171" y="186"/>
                  </a:lnTo>
                  <a:lnTo>
                    <a:pt x="180" y="178"/>
                  </a:lnTo>
                  <a:lnTo>
                    <a:pt x="192" y="168"/>
                  </a:lnTo>
                  <a:lnTo>
                    <a:pt x="203" y="159"/>
                  </a:lnTo>
                  <a:lnTo>
                    <a:pt x="213" y="147"/>
                  </a:lnTo>
                  <a:lnTo>
                    <a:pt x="215" y="138"/>
                  </a:lnTo>
                  <a:lnTo>
                    <a:pt x="215" y="130"/>
                  </a:lnTo>
                  <a:lnTo>
                    <a:pt x="215" y="124"/>
                  </a:lnTo>
                  <a:lnTo>
                    <a:pt x="217" y="117"/>
                  </a:lnTo>
                  <a:lnTo>
                    <a:pt x="217" y="111"/>
                  </a:lnTo>
                  <a:lnTo>
                    <a:pt x="217" y="105"/>
                  </a:lnTo>
                  <a:lnTo>
                    <a:pt x="217" y="101"/>
                  </a:lnTo>
                  <a:lnTo>
                    <a:pt x="217" y="97"/>
                  </a:lnTo>
                  <a:lnTo>
                    <a:pt x="217" y="90"/>
                  </a:lnTo>
                  <a:lnTo>
                    <a:pt x="215" y="84"/>
                  </a:lnTo>
                  <a:lnTo>
                    <a:pt x="215" y="80"/>
                  </a:lnTo>
                  <a:lnTo>
                    <a:pt x="213" y="76"/>
                  </a:lnTo>
                  <a:lnTo>
                    <a:pt x="209" y="76"/>
                  </a:lnTo>
                  <a:lnTo>
                    <a:pt x="205" y="74"/>
                  </a:lnTo>
                  <a:lnTo>
                    <a:pt x="201" y="73"/>
                  </a:lnTo>
                  <a:lnTo>
                    <a:pt x="196" y="73"/>
                  </a:lnTo>
                  <a:lnTo>
                    <a:pt x="190" y="73"/>
                  </a:lnTo>
                  <a:lnTo>
                    <a:pt x="186" y="71"/>
                  </a:lnTo>
                  <a:lnTo>
                    <a:pt x="184" y="71"/>
                  </a:lnTo>
                  <a:lnTo>
                    <a:pt x="180" y="69"/>
                  </a:lnTo>
                  <a:lnTo>
                    <a:pt x="178" y="67"/>
                  </a:lnTo>
                  <a:lnTo>
                    <a:pt x="178" y="65"/>
                  </a:lnTo>
                  <a:lnTo>
                    <a:pt x="176" y="63"/>
                  </a:lnTo>
                  <a:lnTo>
                    <a:pt x="176" y="59"/>
                  </a:lnTo>
                  <a:lnTo>
                    <a:pt x="176" y="57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80" y="51"/>
                  </a:lnTo>
                  <a:lnTo>
                    <a:pt x="182" y="50"/>
                  </a:lnTo>
                  <a:lnTo>
                    <a:pt x="186" y="48"/>
                  </a:lnTo>
                  <a:lnTo>
                    <a:pt x="190" y="46"/>
                  </a:lnTo>
                  <a:lnTo>
                    <a:pt x="194" y="44"/>
                  </a:lnTo>
                  <a:lnTo>
                    <a:pt x="201" y="42"/>
                  </a:lnTo>
                  <a:lnTo>
                    <a:pt x="207" y="40"/>
                  </a:lnTo>
                  <a:lnTo>
                    <a:pt x="215" y="38"/>
                  </a:lnTo>
                  <a:lnTo>
                    <a:pt x="221" y="38"/>
                  </a:lnTo>
                  <a:lnTo>
                    <a:pt x="230" y="38"/>
                  </a:lnTo>
                  <a:lnTo>
                    <a:pt x="242" y="40"/>
                  </a:lnTo>
                  <a:lnTo>
                    <a:pt x="251" y="44"/>
                  </a:lnTo>
                  <a:lnTo>
                    <a:pt x="261" y="48"/>
                  </a:lnTo>
                  <a:lnTo>
                    <a:pt x="265" y="51"/>
                  </a:lnTo>
                  <a:lnTo>
                    <a:pt x="267" y="55"/>
                  </a:lnTo>
                  <a:lnTo>
                    <a:pt x="270" y="57"/>
                  </a:lnTo>
                  <a:lnTo>
                    <a:pt x="272" y="63"/>
                  </a:lnTo>
                  <a:lnTo>
                    <a:pt x="274" y="67"/>
                  </a:lnTo>
                  <a:lnTo>
                    <a:pt x="276" y="71"/>
                  </a:lnTo>
                  <a:lnTo>
                    <a:pt x="276" y="76"/>
                  </a:lnTo>
                  <a:lnTo>
                    <a:pt x="276" y="80"/>
                  </a:lnTo>
                  <a:lnTo>
                    <a:pt x="276" y="84"/>
                  </a:lnTo>
                  <a:lnTo>
                    <a:pt x="276" y="88"/>
                  </a:lnTo>
                  <a:lnTo>
                    <a:pt x="274" y="94"/>
                  </a:lnTo>
                  <a:lnTo>
                    <a:pt x="272" y="99"/>
                  </a:lnTo>
                  <a:lnTo>
                    <a:pt x="268" y="113"/>
                  </a:lnTo>
                  <a:lnTo>
                    <a:pt x="267" y="119"/>
                  </a:lnTo>
                  <a:lnTo>
                    <a:pt x="267" y="126"/>
                  </a:lnTo>
                  <a:lnTo>
                    <a:pt x="274" y="128"/>
                  </a:lnTo>
                  <a:lnTo>
                    <a:pt x="282" y="130"/>
                  </a:lnTo>
                  <a:lnTo>
                    <a:pt x="290" y="132"/>
                  </a:lnTo>
                  <a:lnTo>
                    <a:pt x="295" y="136"/>
                  </a:lnTo>
                  <a:lnTo>
                    <a:pt x="303" y="140"/>
                  </a:lnTo>
                  <a:lnTo>
                    <a:pt x="307" y="145"/>
                  </a:lnTo>
                  <a:lnTo>
                    <a:pt x="313" y="149"/>
                  </a:lnTo>
                  <a:lnTo>
                    <a:pt x="316" y="155"/>
                  </a:lnTo>
                  <a:lnTo>
                    <a:pt x="320" y="161"/>
                  </a:lnTo>
                  <a:lnTo>
                    <a:pt x="324" y="166"/>
                  </a:lnTo>
                  <a:lnTo>
                    <a:pt x="326" y="172"/>
                  </a:lnTo>
                  <a:lnTo>
                    <a:pt x="330" y="178"/>
                  </a:lnTo>
                  <a:lnTo>
                    <a:pt x="330" y="182"/>
                  </a:lnTo>
                  <a:lnTo>
                    <a:pt x="332" y="186"/>
                  </a:lnTo>
                  <a:lnTo>
                    <a:pt x="334" y="189"/>
                  </a:lnTo>
                  <a:lnTo>
                    <a:pt x="334" y="193"/>
                  </a:lnTo>
                  <a:lnTo>
                    <a:pt x="334" y="197"/>
                  </a:lnTo>
                  <a:lnTo>
                    <a:pt x="332" y="199"/>
                  </a:lnTo>
                  <a:lnTo>
                    <a:pt x="330" y="203"/>
                  </a:lnTo>
                  <a:lnTo>
                    <a:pt x="330" y="207"/>
                  </a:lnTo>
                  <a:lnTo>
                    <a:pt x="326" y="208"/>
                  </a:lnTo>
                  <a:lnTo>
                    <a:pt x="324" y="212"/>
                  </a:lnTo>
                  <a:lnTo>
                    <a:pt x="320" y="216"/>
                  </a:lnTo>
                  <a:lnTo>
                    <a:pt x="316" y="218"/>
                  </a:lnTo>
                  <a:lnTo>
                    <a:pt x="305" y="228"/>
                  </a:lnTo>
                  <a:lnTo>
                    <a:pt x="293" y="237"/>
                  </a:lnTo>
                  <a:lnTo>
                    <a:pt x="282" y="249"/>
                  </a:lnTo>
                  <a:lnTo>
                    <a:pt x="274" y="260"/>
                  </a:lnTo>
                  <a:lnTo>
                    <a:pt x="274" y="260"/>
                  </a:lnTo>
                  <a:lnTo>
                    <a:pt x="276" y="260"/>
                  </a:lnTo>
                  <a:lnTo>
                    <a:pt x="282" y="260"/>
                  </a:lnTo>
                  <a:lnTo>
                    <a:pt x="286" y="260"/>
                  </a:lnTo>
                  <a:lnTo>
                    <a:pt x="290" y="260"/>
                  </a:lnTo>
                  <a:lnTo>
                    <a:pt x="293" y="262"/>
                  </a:lnTo>
                  <a:lnTo>
                    <a:pt x="299" y="264"/>
                  </a:lnTo>
                  <a:lnTo>
                    <a:pt x="307" y="254"/>
                  </a:lnTo>
                  <a:lnTo>
                    <a:pt x="313" y="243"/>
                  </a:lnTo>
                  <a:lnTo>
                    <a:pt x="318" y="233"/>
                  </a:lnTo>
                  <a:lnTo>
                    <a:pt x="324" y="224"/>
                  </a:lnTo>
                  <a:lnTo>
                    <a:pt x="330" y="214"/>
                  </a:lnTo>
                  <a:lnTo>
                    <a:pt x="334" y="205"/>
                  </a:lnTo>
                  <a:lnTo>
                    <a:pt x="338" y="193"/>
                  </a:lnTo>
                  <a:lnTo>
                    <a:pt x="341" y="184"/>
                  </a:lnTo>
                  <a:lnTo>
                    <a:pt x="343" y="174"/>
                  </a:lnTo>
                  <a:lnTo>
                    <a:pt x="347" y="164"/>
                  </a:lnTo>
                  <a:lnTo>
                    <a:pt x="349" y="157"/>
                  </a:lnTo>
                  <a:lnTo>
                    <a:pt x="353" y="149"/>
                  </a:lnTo>
                  <a:lnTo>
                    <a:pt x="355" y="143"/>
                  </a:lnTo>
                  <a:lnTo>
                    <a:pt x="359" y="138"/>
                  </a:lnTo>
                  <a:lnTo>
                    <a:pt x="362" y="134"/>
                  </a:lnTo>
                  <a:lnTo>
                    <a:pt x="364" y="128"/>
                  </a:lnTo>
                  <a:lnTo>
                    <a:pt x="372" y="122"/>
                  </a:lnTo>
                  <a:lnTo>
                    <a:pt x="380" y="117"/>
                  </a:lnTo>
                  <a:lnTo>
                    <a:pt x="389" y="113"/>
                  </a:lnTo>
                  <a:lnTo>
                    <a:pt x="401" y="109"/>
                  </a:lnTo>
                  <a:lnTo>
                    <a:pt x="412" y="105"/>
                  </a:lnTo>
                  <a:lnTo>
                    <a:pt x="422" y="103"/>
                  </a:lnTo>
                  <a:lnTo>
                    <a:pt x="432" y="99"/>
                  </a:lnTo>
                  <a:lnTo>
                    <a:pt x="437" y="96"/>
                  </a:lnTo>
                  <a:lnTo>
                    <a:pt x="441" y="86"/>
                  </a:lnTo>
                  <a:lnTo>
                    <a:pt x="443" y="76"/>
                  </a:lnTo>
                  <a:lnTo>
                    <a:pt x="443" y="69"/>
                  </a:lnTo>
                  <a:lnTo>
                    <a:pt x="443" y="61"/>
                  </a:lnTo>
                  <a:lnTo>
                    <a:pt x="443" y="53"/>
                  </a:lnTo>
                  <a:lnTo>
                    <a:pt x="443" y="48"/>
                  </a:lnTo>
                  <a:lnTo>
                    <a:pt x="441" y="40"/>
                  </a:lnTo>
                  <a:lnTo>
                    <a:pt x="441" y="36"/>
                  </a:lnTo>
                  <a:lnTo>
                    <a:pt x="437" y="25"/>
                  </a:lnTo>
                  <a:lnTo>
                    <a:pt x="433" y="21"/>
                  </a:lnTo>
                  <a:lnTo>
                    <a:pt x="432" y="17"/>
                  </a:lnTo>
                  <a:lnTo>
                    <a:pt x="430" y="15"/>
                  </a:lnTo>
                  <a:lnTo>
                    <a:pt x="428" y="11"/>
                  </a:lnTo>
                  <a:lnTo>
                    <a:pt x="426" y="9"/>
                  </a:lnTo>
                  <a:lnTo>
                    <a:pt x="426" y="7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0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9" y="0"/>
                  </a:lnTo>
                  <a:lnTo>
                    <a:pt x="441" y="0"/>
                  </a:lnTo>
                  <a:lnTo>
                    <a:pt x="445" y="2"/>
                  </a:lnTo>
                  <a:lnTo>
                    <a:pt x="449" y="4"/>
                  </a:lnTo>
                  <a:lnTo>
                    <a:pt x="455" y="6"/>
                  </a:lnTo>
                  <a:lnTo>
                    <a:pt x="458" y="7"/>
                  </a:lnTo>
                  <a:lnTo>
                    <a:pt x="464" y="9"/>
                  </a:lnTo>
                  <a:lnTo>
                    <a:pt x="470" y="11"/>
                  </a:lnTo>
                  <a:lnTo>
                    <a:pt x="476" y="13"/>
                  </a:lnTo>
                  <a:lnTo>
                    <a:pt x="485" y="19"/>
                  </a:lnTo>
                  <a:lnTo>
                    <a:pt x="493" y="25"/>
                  </a:lnTo>
                  <a:lnTo>
                    <a:pt x="499" y="30"/>
                  </a:lnTo>
                  <a:lnTo>
                    <a:pt x="501" y="34"/>
                  </a:lnTo>
                  <a:lnTo>
                    <a:pt x="503" y="38"/>
                  </a:lnTo>
                  <a:lnTo>
                    <a:pt x="504" y="44"/>
                  </a:lnTo>
                  <a:lnTo>
                    <a:pt x="504" y="50"/>
                  </a:lnTo>
                  <a:lnTo>
                    <a:pt x="506" y="57"/>
                  </a:lnTo>
                  <a:lnTo>
                    <a:pt x="506" y="65"/>
                  </a:lnTo>
                  <a:lnTo>
                    <a:pt x="508" y="73"/>
                  </a:lnTo>
                  <a:lnTo>
                    <a:pt x="508" y="82"/>
                  </a:lnTo>
                  <a:lnTo>
                    <a:pt x="516" y="82"/>
                  </a:lnTo>
                  <a:lnTo>
                    <a:pt x="524" y="84"/>
                  </a:lnTo>
                  <a:lnTo>
                    <a:pt x="529" y="88"/>
                  </a:lnTo>
                  <a:lnTo>
                    <a:pt x="535" y="92"/>
                  </a:lnTo>
                  <a:lnTo>
                    <a:pt x="539" y="97"/>
                  </a:lnTo>
                  <a:lnTo>
                    <a:pt x="541" y="103"/>
                  </a:lnTo>
                  <a:lnTo>
                    <a:pt x="543" y="109"/>
                  </a:lnTo>
                  <a:lnTo>
                    <a:pt x="543" y="117"/>
                  </a:lnTo>
                  <a:lnTo>
                    <a:pt x="543" y="120"/>
                  </a:lnTo>
                  <a:lnTo>
                    <a:pt x="543" y="124"/>
                  </a:lnTo>
                  <a:lnTo>
                    <a:pt x="541" y="128"/>
                  </a:lnTo>
                  <a:lnTo>
                    <a:pt x="539" y="132"/>
                  </a:lnTo>
                  <a:lnTo>
                    <a:pt x="535" y="134"/>
                  </a:lnTo>
                  <a:lnTo>
                    <a:pt x="533" y="136"/>
                  </a:lnTo>
                  <a:lnTo>
                    <a:pt x="529" y="140"/>
                  </a:lnTo>
                  <a:lnTo>
                    <a:pt x="524" y="140"/>
                  </a:lnTo>
                  <a:lnTo>
                    <a:pt x="516" y="143"/>
                  </a:lnTo>
                  <a:lnTo>
                    <a:pt x="508" y="145"/>
                  </a:lnTo>
                  <a:lnTo>
                    <a:pt x="501" y="149"/>
                  </a:lnTo>
                  <a:lnTo>
                    <a:pt x="497" y="151"/>
                  </a:lnTo>
                  <a:lnTo>
                    <a:pt x="495" y="155"/>
                  </a:lnTo>
                  <a:lnTo>
                    <a:pt x="495" y="159"/>
                  </a:lnTo>
                  <a:lnTo>
                    <a:pt x="495" y="164"/>
                  </a:lnTo>
                  <a:lnTo>
                    <a:pt x="495" y="170"/>
                  </a:lnTo>
                  <a:lnTo>
                    <a:pt x="501" y="172"/>
                  </a:lnTo>
                  <a:lnTo>
                    <a:pt x="506" y="174"/>
                  </a:lnTo>
                  <a:lnTo>
                    <a:pt x="512" y="176"/>
                  </a:lnTo>
                  <a:lnTo>
                    <a:pt x="516" y="180"/>
                  </a:lnTo>
                  <a:lnTo>
                    <a:pt x="520" y="184"/>
                  </a:lnTo>
                  <a:lnTo>
                    <a:pt x="522" y="189"/>
                  </a:lnTo>
                  <a:lnTo>
                    <a:pt x="522" y="193"/>
                  </a:lnTo>
                  <a:lnTo>
                    <a:pt x="524" y="195"/>
                  </a:lnTo>
                  <a:lnTo>
                    <a:pt x="522" y="199"/>
                  </a:lnTo>
                  <a:lnTo>
                    <a:pt x="520" y="203"/>
                  </a:lnTo>
                  <a:lnTo>
                    <a:pt x="518" y="207"/>
                  </a:lnTo>
                  <a:lnTo>
                    <a:pt x="512" y="210"/>
                  </a:lnTo>
                  <a:lnTo>
                    <a:pt x="506" y="216"/>
                  </a:lnTo>
                  <a:lnTo>
                    <a:pt x="499" y="222"/>
                  </a:lnTo>
                  <a:lnTo>
                    <a:pt x="495" y="228"/>
                  </a:lnTo>
                  <a:lnTo>
                    <a:pt x="489" y="233"/>
                  </a:lnTo>
                  <a:lnTo>
                    <a:pt x="485" y="237"/>
                  </a:lnTo>
                  <a:lnTo>
                    <a:pt x="483" y="243"/>
                  </a:lnTo>
                  <a:lnTo>
                    <a:pt x="479" y="247"/>
                  </a:lnTo>
                  <a:lnTo>
                    <a:pt x="479" y="251"/>
                  </a:lnTo>
                  <a:lnTo>
                    <a:pt x="479" y="251"/>
                  </a:lnTo>
                  <a:close/>
                  <a:moveTo>
                    <a:pt x="278" y="155"/>
                  </a:moveTo>
                  <a:lnTo>
                    <a:pt x="274" y="149"/>
                  </a:lnTo>
                  <a:lnTo>
                    <a:pt x="272" y="145"/>
                  </a:lnTo>
                  <a:lnTo>
                    <a:pt x="268" y="143"/>
                  </a:lnTo>
                  <a:lnTo>
                    <a:pt x="267" y="143"/>
                  </a:lnTo>
                  <a:lnTo>
                    <a:pt x="265" y="143"/>
                  </a:lnTo>
                  <a:lnTo>
                    <a:pt x="263" y="145"/>
                  </a:lnTo>
                  <a:lnTo>
                    <a:pt x="261" y="149"/>
                  </a:lnTo>
                  <a:lnTo>
                    <a:pt x="257" y="155"/>
                  </a:lnTo>
                  <a:lnTo>
                    <a:pt x="257" y="159"/>
                  </a:lnTo>
                  <a:lnTo>
                    <a:pt x="255" y="163"/>
                  </a:lnTo>
                  <a:lnTo>
                    <a:pt x="253" y="168"/>
                  </a:lnTo>
                  <a:lnTo>
                    <a:pt x="251" y="174"/>
                  </a:lnTo>
                  <a:lnTo>
                    <a:pt x="251" y="182"/>
                  </a:lnTo>
                  <a:lnTo>
                    <a:pt x="249" y="189"/>
                  </a:lnTo>
                  <a:lnTo>
                    <a:pt x="247" y="197"/>
                  </a:lnTo>
                  <a:lnTo>
                    <a:pt x="245" y="207"/>
                  </a:lnTo>
                  <a:lnTo>
                    <a:pt x="251" y="201"/>
                  </a:lnTo>
                  <a:lnTo>
                    <a:pt x="257" y="195"/>
                  </a:lnTo>
                  <a:lnTo>
                    <a:pt x="261" y="189"/>
                  </a:lnTo>
                  <a:lnTo>
                    <a:pt x="267" y="184"/>
                  </a:lnTo>
                  <a:lnTo>
                    <a:pt x="270" y="178"/>
                  </a:lnTo>
                  <a:lnTo>
                    <a:pt x="272" y="170"/>
                  </a:lnTo>
                  <a:lnTo>
                    <a:pt x="274" y="163"/>
                  </a:lnTo>
                  <a:lnTo>
                    <a:pt x="278" y="155"/>
                  </a:lnTo>
                  <a:lnTo>
                    <a:pt x="278" y="155"/>
                  </a:lnTo>
                  <a:close/>
                  <a:moveTo>
                    <a:pt x="437" y="163"/>
                  </a:moveTo>
                  <a:lnTo>
                    <a:pt x="428" y="161"/>
                  </a:lnTo>
                  <a:lnTo>
                    <a:pt x="420" y="159"/>
                  </a:lnTo>
                  <a:lnTo>
                    <a:pt x="412" y="155"/>
                  </a:lnTo>
                  <a:lnTo>
                    <a:pt x="407" y="153"/>
                  </a:lnTo>
                  <a:lnTo>
                    <a:pt x="401" y="149"/>
                  </a:lnTo>
                  <a:lnTo>
                    <a:pt x="395" y="147"/>
                  </a:lnTo>
                  <a:lnTo>
                    <a:pt x="391" y="145"/>
                  </a:lnTo>
                  <a:lnTo>
                    <a:pt x="387" y="145"/>
                  </a:lnTo>
                  <a:lnTo>
                    <a:pt x="384" y="145"/>
                  </a:lnTo>
                  <a:lnTo>
                    <a:pt x="380" y="147"/>
                  </a:lnTo>
                  <a:lnTo>
                    <a:pt x="376" y="149"/>
                  </a:lnTo>
                  <a:lnTo>
                    <a:pt x="372" y="153"/>
                  </a:lnTo>
                  <a:lnTo>
                    <a:pt x="370" y="155"/>
                  </a:lnTo>
                  <a:lnTo>
                    <a:pt x="368" y="159"/>
                  </a:lnTo>
                  <a:lnTo>
                    <a:pt x="364" y="164"/>
                  </a:lnTo>
                  <a:lnTo>
                    <a:pt x="361" y="170"/>
                  </a:lnTo>
                  <a:lnTo>
                    <a:pt x="357" y="176"/>
                  </a:lnTo>
                  <a:lnTo>
                    <a:pt x="353" y="184"/>
                  </a:lnTo>
                  <a:lnTo>
                    <a:pt x="349" y="193"/>
                  </a:lnTo>
                  <a:lnTo>
                    <a:pt x="343" y="203"/>
                  </a:lnTo>
                  <a:lnTo>
                    <a:pt x="338" y="212"/>
                  </a:lnTo>
                  <a:lnTo>
                    <a:pt x="332" y="222"/>
                  </a:lnTo>
                  <a:lnTo>
                    <a:pt x="328" y="231"/>
                  </a:lnTo>
                  <a:lnTo>
                    <a:pt x="322" y="239"/>
                  </a:lnTo>
                  <a:lnTo>
                    <a:pt x="320" y="247"/>
                  </a:lnTo>
                  <a:lnTo>
                    <a:pt x="316" y="254"/>
                  </a:lnTo>
                  <a:lnTo>
                    <a:pt x="313" y="260"/>
                  </a:lnTo>
                  <a:lnTo>
                    <a:pt x="311" y="266"/>
                  </a:lnTo>
                  <a:lnTo>
                    <a:pt x="316" y="270"/>
                  </a:lnTo>
                  <a:lnTo>
                    <a:pt x="322" y="274"/>
                  </a:lnTo>
                  <a:lnTo>
                    <a:pt x="326" y="277"/>
                  </a:lnTo>
                  <a:lnTo>
                    <a:pt x="328" y="279"/>
                  </a:lnTo>
                  <a:lnTo>
                    <a:pt x="332" y="281"/>
                  </a:lnTo>
                  <a:lnTo>
                    <a:pt x="334" y="283"/>
                  </a:lnTo>
                  <a:lnTo>
                    <a:pt x="334" y="285"/>
                  </a:lnTo>
                  <a:lnTo>
                    <a:pt x="336" y="287"/>
                  </a:lnTo>
                  <a:lnTo>
                    <a:pt x="334" y="291"/>
                  </a:lnTo>
                  <a:lnTo>
                    <a:pt x="334" y="295"/>
                  </a:lnTo>
                  <a:lnTo>
                    <a:pt x="332" y="300"/>
                  </a:lnTo>
                  <a:lnTo>
                    <a:pt x="338" y="297"/>
                  </a:lnTo>
                  <a:lnTo>
                    <a:pt x="345" y="293"/>
                  </a:lnTo>
                  <a:lnTo>
                    <a:pt x="353" y="289"/>
                  </a:lnTo>
                  <a:lnTo>
                    <a:pt x="361" y="285"/>
                  </a:lnTo>
                  <a:lnTo>
                    <a:pt x="368" y="281"/>
                  </a:lnTo>
                  <a:lnTo>
                    <a:pt x="374" y="277"/>
                  </a:lnTo>
                  <a:lnTo>
                    <a:pt x="380" y="274"/>
                  </a:lnTo>
                  <a:lnTo>
                    <a:pt x="385" y="270"/>
                  </a:lnTo>
                  <a:lnTo>
                    <a:pt x="389" y="266"/>
                  </a:lnTo>
                  <a:lnTo>
                    <a:pt x="393" y="262"/>
                  </a:lnTo>
                  <a:lnTo>
                    <a:pt x="395" y="260"/>
                  </a:lnTo>
                  <a:lnTo>
                    <a:pt x="397" y="256"/>
                  </a:lnTo>
                  <a:lnTo>
                    <a:pt x="393" y="251"/>
                  </a:lnTo>
                  <a:lnTo>
                    <a:pt x="389" y="247"/>
                  </a:lnTo>
                  <a:lnTo>
                    <a:pt x="385" y="243"/>
                  </a:lnTo>
                  <a:lnTo>
                    <a:pt x="382" y="239"/>
                  </a:lnTo>
                  <a:lnTo>
                    <a:pt x="374" y="235"/>
                  </a:lnTo>
                  <a:lnTo>
                    <a:pt x="366" y="231"/>
                  </a:lnTo>
                  <a:lnTo>
                    <a:pt x="361" y="230"/>
                  </a:lnTo>
                  <a:lnTo>
                    <a:pt x="357" y="228"/>
                  </a:lnTo>
                  <a:lnTo>
                    <a:pt x="355" y="224"/>
                  </a:lnTo>
                  <a:lnTo>
                    <a:pt x="353" y="222"/>
                  </a:lnTo>
                  <a:lnTo>
                    <a:pt x="355" y="218"/>
                  </a:lnTo>
                  <a:lnTo>
                    <a:pt x="355" y="216"/>
                  </a:lnTo>
                  <a:lnTo>
                    <a:pt x="357" y="212"/>
                  </a:lnTo>
                  <a:lnTo>
                    <a:pt x="361" y="210"/>
                  </a:lnTo>
                  <a:lnTo>
                    <a:pt x="362" y="208"/>
                  </a:lnTo>
                  <a:lnTo>
                    <a:pt x="364" y="207"/>
                  </a:lnTo>
                  <a:lnTo>
                    <a:pt x="368" y="205"/>
                  </a:lnTo>
                  <a:lnTo>
                    <a:pt x="372" y="203"/>
                  </a:lnTo>
                  <a:lnTo>
                    <a:pt x="376" y="201"/>
                  </a:lnTo>
                  <a:lnTo>
                    <a:pt x="380" y="199"/>
                  </a:lnTo>
                  <a:lnTo>
                    <a:pt x="385" y="195"/>
                  </a:lnTo>
                  <a:lnTo>
                    <a:pt x="391" y="193"/>
                  </a:lnTo>
                  <a:lnTo>
                    <a:pt x="405" y="186"/>
                  </a:lnTo>
                  <a:lnTo>
                    <a:pt x="414" y="182"/>
                  </a:lnTo>
                  <a:lnTo>
                    <a:pt x="424" y="178"/>
                  </a:lnTo>
                  <a:lnTo>
                    <a:pt x="433" y="174"/>
                  </a:lnTo>
                  <a:lnTo>
                    <a:pt x="435" y="168"/>
                  </a:lnTo>
                  <a:lnTo>
                    <a:pt x="437" y="163"/>
                  </a:lnTo>
                  <a:lnTo>
                    <a:pt x="437" y="163"/>
                  </a:lnTo>
                  <a:close/>
                  <a:moveTo>
                    <a:pt x="311" y="312"/>
                  </a:moveTo>
                  <a:lnTo>
                    <a:pt x="309" y="310"/>
                  </a:lnTo>
                  <a:lnTo>
                    <a:pt x="305" y="308"/>
                  </a:lnTo>
                  <a:lnTo>
                    <a:pt x="299" y="308"/>
                  </a:lnTo>
                  <a:lnTo>
                    <a:pt x="292" y="308"/>
                  </a:lnTo>
                  <a:lnTo>
                    <a:pt x="288" y="308"/>
                  </a:lnTo>
                  <a:lnTo>
                    <a:pt x="282" y="308"/>
                  </a:lnTo>
                  <a:lnTo>
                    <a:pt x="276" y="310"/>
                  </a:lnTo>
                  <a:lnTo>
                    <a:pt x="268" y="310"/>
                  </a:lnTo>
                  <a:lnTo>
                    <a:pt x="263" y="312"/>
                  </a:lnTo>
                  <a:lnTo>
                    <a:pt x="253" y="316"/>
                  </a:lnTo>
                  <a:lnTo>
                    <a:pt x="245" y="318"/>
                  </a:lnTo>
                  <a:lnTo>
                    <a:pt x="236" y="321"/>
                  </a:lnTo>
                  <a:lnTo>
                    <a:pt x="236" y="325"/>
                  </a:lnTo>
                  <a:lnTo>
                    <a:pt x="236" y="327"/>
                  </a:lnTo>
                  <a:lnTo>
                    <a:pt x="236" y="331"/>
                  </a:lnTo>
                  <a:lnTo>
                    <a:pt x="238" y="333"/>
                  </a:lnTo>
                  <a:lnTo>
                    <a:pt x="242" y="337"/>
                  </a:lnTo>
                  <a:lnTo>
                    <a:pt x="244" y="341"/>
                  </a:lnTo>
                  <a:lnTo>
                    <a:pt x="247" y="344"/>
                  </a:lnTo>
                  <a:lnTo>
                    <a:pt x="251" y="348"/>
                  </a:lnTo>
                  <a:lnTo>
                    <a:pt x="257" y="344"/>
                  </a:lnTo>
                  <a:lnTo>
                    <a:pt x="261" y="341"/>
                  </a:lnTo>
                  <a:lnTo>
                    <a:pt x="268" y="335"/>
                  </a:lnTo>
                  <a:lnTo>
                    <a:pt x="274" y="331"/>
                  </a:lnTo>
                  <a:lnTo>
                    <a:pt x="282" y="327"/>
                  </a:lnTo>
                  <a:lnTo>
                    <a:pt x="292" y="321"/>
                  </a:lnTo>
                  <a:lnTo>
                    <a:pt x="301" y="318"/>
                  </a:lnTo>
                  <a:lnTo>
                    <a:pt x="311" y="312"/>
                  </a:lnTo>
                  <a:lnTo>
                    <a:pt x="311" y="312"/>
                  </a:lnTo>
                  <a:close/>
                  <a:moveTo>
                    <a:pt x="514" y="503"/>
                  </a:moveTo>
                  <a:lnTo>
                    <a:pt x="514" y="498"/>
                  </a:lnTo>
                  <a:lnTo>
                    <a:pt x="514" y="492"/>
                  </a:lnTo>
                  <a:lnTo>
                    <a:pt x="514" y="484"/>
                  </a:lnTo>
                  <a:lnTo>
                    <a:pt x="514" y="475"/>
                  </a:lnTo>
                  <a:lnTo>
                    <a:pt x="512" y="465"/>
                  </a:lnTo>
                  <a:lnTo>
                    <a:pt x="512" y="454"/>
                  </a:lnTo>
                  <a:lnTo>
                    <a:pt x="510" y="442"/>
                  </a:lnTo>
                  <a:lnTo>
                    <a:pt x="510" y="431"/>
                  </a:lnTo>
                  <a:lnTo>
                    <a:pt x="508" y="417"/>
                  </a:lnTo>
                  <a:lnTo>
                    <a:pt x="508" y="406"/>
                  </a:lnTo>
                  <a:lnTo>
                    <a:pt x="506" y="396"/>
                  </a:lnTo>
                  <a:lnTo>
                    <a:pt x="504" y="388"/>
                  </a:lnTo>
                  <a:lnTo>
                    <a:pt x="504" y="381"/>
                  </a:lnTo>
                  <a:lnTo>
                    <a:pt x="504" y="375"/>
                  </a:lnTo>
                  <a:lnTo>
                    <a:pt x="503" y="371"/>
                  </a:lnTo>
                  <a:lnTo>
                    <a:pt x="503" y="367"/>
                  </a:lnTo>
                  <a:lnTo>
                    <a:pt x="501" y="362"/>
                  </a:lnTo>
                  <a:lnTo>
                    <a:pt x="499" y="358"/>
                  </a:lnTo>
                  <a:lnTo>
                    <a:pt x="495" y="356"/>
                  </a:lnTo>
                  <a:lnTo>
                    <a:pt x="491" y="352"/>
                  </a:lnTo>
                  <a:lnTo>
                    <a:pt x="487" y="350"/>
                  </a:lnTo>
                  <a:lnTo>
                    <a:pt x="481" y="350"/>
                  </a:lnTo>
                  <a:lnTo>
                    <a:pt x="476" y="350"/>
                  </a:lnTo>
                  <a:lnTo>
                    <a:pt x="470" y="350"/>
                  </a:lnTo>
                  <a:lnTo>
                    <a:pt x="460" y="352"/>
                  </a:lnTo>
                  <a:lnTo>
                    <a:pt x="453" y="352"/>
                  </a:lnTo>
                  <a:lnTo>
                    <a:pt x="441" y="352"/>
                  </a:lnTo>
                  <a:lnTo>
                    <a:pt x="430" y="352"/>
                  </a:lnTo>
                  <a:lnTo>
                    <a:pt x="428" y="354"/>
                  </a:lnTo>
                  <a:lnTo>
                    <a:pt x="426" y="358"/>
                  </a:lnTo>
                  <a:lnTo>
                    <a:pt x="424" y="362"/>
                  </a:lnTo>
                  <a:lnTo>
                    <a:pt x="422" y="369"/>
                  </a:lnTo>
                  <a:lnTo>
                    <a:pt x="420" y="377"/>
                  </a:lnTo>
                  <a:lnTo>
                    <a:pt x="416" y="385"/>
                  </a:lnTo>
                  <a:lnTo>
                    <a:pt x="414" y="396"/>
                  </a:lnTo>
                  <a:lnTo>
                    <a:pt x="410" y="408"/>
                  </a:lnTo>
                  <a:lnTo>
                    <a:pt x="418" y="404"/>
                  </a:lnTo>
                  <a:lnTo>
                    <a:pt x="426" y="402"/>
                  </a:lnTo>
                  <a:lnTo>
                    <a:pt x="432" y="398"/>
                  </a:lnTo>
                  <a:lnTo>
                    <a:pt x="435" y="394"/>
                  </a:lnTo>
                  <a:lnTo>
                    <a:pt x="439" y="390"/>
                  </a:lnTo>
                  <a:lnTo>
                    <a:pt x="443" y="388"/>
                  </a:lnTo>
                  <a:lnTo>
                    <a:pt x="449" y="388"/>
                  </a:lnTo>
                  <a:lnTo>
                    <a:pt x="456" y="387"/>
                  </a:lnTo>
                  <a:lnTo>
                    <a:pt x="462" y="387"/>
                  </a:lnTo>
                  <a:lnTo>
                    <a:pt x="470" y="388"/>
                  </a:lnTo>
                  <a:lnTo>
                    <a:pt x="476" y="390"/>
                  </a:lnTo>
                  <a:lnTo>
                    <a:pt x="483" y="394"/>
                  </a:lnTo>
                  <a:lnTo>
                    <a:pt x="489" y="398"/>
                  </a:lnTo>
                  <a:lnTo>
                    <a:pt x="493" y="404"/>
                  </a:lnTo>
                  <a:lnTo>
                    <a:pt x="497" y="410"/>
                  </a:lnTo>
                  <a:lnTo>
                    <a:pt x="497" y="415"/>
                  </a:lnTo>
                  <a:lnTo>
                    <a:pt x="497" y="421"/>
                  </a:lnTo>
                  <a:lnTo>
                    <a:pt x="497" y="425"/>
                  </a:lnTo>
                  <a:lnTo>
                    <a:pt x="495" y="431"/>
                  </a:lnTo>
                  <a:lnTo>
                    <a:pt x="491" y="434"/>
                  </a:lnTo>
                  <a:lnTo>
                    <a:pt x="487" y="440"/>
                  </a:lnTo>
                  <a:lnTo>
                    <a:pt x="483" y="448"/>
                  </a:lnTo>
                  <a:lnTo>
                    <a:pt x="479" y="454"/>
                  </a:lnTo>
                  <a:lnTo>
                    <a:pt x="476" y="459"/>
                  </a:lnTo>
                  <a:lnTo>
                    <a:pt x="474" y="463"/>
                  </a:lnTo>
                  <a:lnTo>
                    <a:pt x="472" y="467"/>
                  </a:lnTo>
                  <a:lnTo>
                    <a:pt x="470" y="471"/>
                  </a:lnTo>
                  <a:lnTo>
                    <a:pt x="470" y="475"/>
                  </a:lnTo>
                  <a:lnTo>
                    <a:pt x="470" y="477"/>
                  </a:lnTo>
                  <a:lnTo>
                    <a:pt x="472" y="478"/>
                  </a:lnTo>
                  <a:lnTo>
                    <a:pt x="476" y="478"/>
                  </a:lnTo>
                  <a:lnTo>
                    <a:pt x="481" y="478"/>
                  </a:lnTo>
                  <a:lnTo>
                    <a:pt x="483" y="480"/>
                  </a:lnTo>
                  <a:lnTo>
                    <a:pt x="487" y="480"/>
                  </a:lnTo>
                  <a:lnTo>
                    <a:pt x="491" y="482"/>
                  </a:lnTo>
                  <a:lnTo>
                    <a:pt x="495" y="486"/>
                  </a:lnTo>
                  <a:lnTo>
                    <a:pt x="499" y="488"/>
                  </a:lnTo>
                  <a:lnTo>
                    <a:pt x="504" y="494"/>
                  </a:lnTo>
                  <a:lnTo>
                    <a:pt x="508" y="498"/>
                  </a:lnTo>
                  <a:lnTo>
                    <a:pt x="514" y="503"/>
                  </a:lnTo>
                  <a:lnTo>
                    <a:pt x="514" y="503"/>
                  </a:lnTo>
                  <a:close/>
                  <a:moveTo>
                    <a:pt x="426" y="553"/>
                  </a:moveTo>
                  <a:lnTo>
                    <a:pt x="430" y="547"/>
                  </a:lnTo>
                  <a:lnTo>
                    <a:pt x="435" y="544"/>
                  </a:lnTo>
                  <a:lnTo>
                    <a:pt x="439" y="540"/>
                  </a:lnTo>
                  <a:lnTo>
                    <a:pt x="445" y="536"/>
                  </a:lnTo>
                  <a:lnTo>
                    <a:pt x="449" y="532"/>
                  </a:lnTo>
                  <a:lnTo>
                    <a:pt x="453" y="530"/>
                  </a:lnTo>
                  <a:lnTo>
                    <a:pt x="455" y="528"/>
                  </a:lnTo>
                  <a:lnTo>
                    <a:pt x="455" y="526"/>
                  </a:lnTo>
                  <a:lnTo>
                    <a:pt x="455" y="524"/>
                  </a:lnTo>
                  <a:lnTo>
                    <a:pt x="453" y="524"/>
                  </a:lnTo>
                  <a:lnTo>
                    <a:pt x="449" y="524"/>
                  </a:lnTo>
                  <a:lnTo>
                    <a:pt x="445" y="524"/>
                  </a:lnTo>
                  <a:lnTo>
                    <a:pt x="439" y="524"/>
                  </a:lnTo>
                  <a:lnTo>
                    <a:pt x="435" y="524"/>
                  </a:lnTo>
                  <a:lnTo>
                    <a:pt x="432" y="522"/>
                  </a:lnTo>
                  <a:lnTo>
                    <a:pt x="428" y="521"/>
                  </a:lnTo>
                  <a:lnTo>
                    <a:pt x="426" y="519"/>
                  </a:lnTo>
                  <a:lnTo>
                    <a:pt x="424" y="515"/>
                  </a:lnTo>
                  <a:lnTo>
                    <a:pt x="424" y="511"/>
                  </a:lnTo>
                  <a:lnTo>
                    <a:pt x="424" y="509"/>
                  </a:lnTo>
                  <a:lnTo>
                    <a:pt x="422" y="505"/>
                  </a:lnTo>
                  <a:lnTo>
                    <a:pt x="422" y="501"/>
                  </a:lnTo>
                  <a:lnTo>
                    <a:pt x="422" y="496"/>
                  </a:lnTo>
                  <a:lnTo>
                    <a:pt x="422" y="490"/>
                  </a:lnTo>
                  <a:lnTo>
                    <a:pt x="422" y="480"/>
                  </a:lnTo>
                  <a:lnTo>
                    <a:pt x="424" y="473"/>
                  </a:lnTo>
                  <a:lnTo>
                    <a:pt x="426" y="465"/>
                  </a:lnTo>
                  <a:lnTo>
                    <a:pt x="430" y="459"/>
                  </a:lnTo>
                  <a:lnTo>
                    <a:pt x="433" y="454"/>
                  </a:lnTo>
                  <a:lnTo>
                    <a:pt x="435" y="450"/>
                  </a:lnTo>
                  <a:lnTo>
                    <a:pt x="437" y="448"/>
                  </a:lnTo>
                  <a:lnTo>
                    <a:pt x="437" y="446"/>
                  </a:lnTo>
                  <a:lnTo>
                    <a:pt x="437" y="442"/>
                  </a:lnTo>
                  <a:lnTo>
                    <a:pt x="435" y="440"/>
                  </a:lnTo>
                  <a:lnTo>
                    <a:pt x="432" y="438"/>
                  </a:lnTo>
                  <a:lnTo>
                    <a:pt x="426" y="438"/>
                  </a:lnTo>
                  <a:lnTo>
                    <a:pt x="420" y="438"/>
                  </a:lnTo>
                  <a:lnTo>
                    <a:pt x="414" y="438"/>
                  </a:lnTo>
                  <a:lnTo>
                    <a:pt x="409" y="440"/>
                  </a:lnTo>
                  <a:lnTo>
                    <a:pt x="403" y="442"/>
                  </a:lnTo>
                  <a:lnTo>
                    <a:pt x="397" y="459"/>
                  </a:lnTo>
                  <a:lnTo>
                    <a:pt x="393" y="473"/>
                  </a:lnTo>
                  <a:lnTo>
                    <a:pt x="391" y="486"/>
                  </a:lnTo>
                  <a:lnTo>
                    <a:pt x="391" y="490"/>
                  </a:lnTo>
                  <a:lnTo>
                    <a:pt x="389" y="496"/>
                  </a:lnTo>
                  <a:lnTo>
                    <a:pt x="397" y="511"/>
                  </a:lnTo>
                  <a:lnTo>
                    <a:pt x="407" y="526"/>
                  </a:lnTo>
                  <a:lnTo>
                    <a:pt x="416" y="540"/>
                  </a:lnTo>
                  <a:lnTo>
                    <a:pt x="426" y="553"/>
                  </a:lnTo>
                  <a:lnTo>
                    <a:pt x="426" y="553"/>
                  </a:lnTo>
                  <a:close/>
                  <a:moveTo>
                    <a:pt x="516" y="538"/>
                  </a:moveTo>
                  <a:lnTo>
                    <a:pt x="510" y="542"/>
                  </a:lnTo>
                  <a:lnTo>
                    <a:pt x="506" y="545"/>
                  </a:lnTo>
                  <a:lnTo>
                    <a:pt x="503" y="547"/>
                  </a:lnTo>
                  <a:lnTo>
                    <a:pt x="499" y="549"/>
                  </a:lnTo>
                  <a:lnTo>
                    <a:pt x="495" y="549"/>
                  </a:lnTo>
                  <a:lnTo>
                    <a:pt x="493" y="549"/>
                  </a:lnTo>
                  <a:lnTo>
                    <a:pt x="489" y="549"/>
                  </a:lnTo>
                  <a:lnTo>
                    <a:pt x="487" y="549"/>
                  </a:lnTo>
                  <a:lnTo>
                    <a:pt x="483" y="549"/>
                  </a:lnTo>
                  <a:lnTo>
                    <a:pt x="479" y="549"/>
                  </a:lnTo>
                  <a:lnTo>
                    <a:pt x="476" y="549"/>
                  </a:lnTo>
                  <a:lnTo>
                    <a:pt x="472" y="549"/>
                  </a:lnTo>
                  <a:lnTo>
                    <a:pt x="466" y="551"/>
                  </a:lnTo>
                  <a:lnTo>
                    <a:pt x="462" y="555"/>
                  </a:lnTo>
                  <a:lnTo>
                    <a:pt x="456" y="557"/>
                  </a:lnTo>
                  <a:lnTo>
                    <a:pt x="453" y="561"/>
                  </a:lnTo>
                  <a:lnTo>
                    <a:pt x="447" y="565"/>
                  </a:lnTo>
                  <a:lnTo>
                    <a:pt x="443" y="570"/>
                  </a:lnTo>
                  <a:lnTo>
                    <a:pt x="449" y="576"/>
                  </a:lnTo>
                  <a:lnTo>
                    <a:pt x="458" y="582"/>
                  </a:lnTo>
                  <a:lnTo>
                    <a:pt x="466" y="588"/>
                  </a:lnTo>
                  <a:lnTo>
                    <a:pt x="476" y="595"/>
                  </a:lnTo>
                  <a:lnTo>
                    <a:pt x="483" y="599"/>
                  </a:lnTo>
                  <a:lnTo>
                    <a:pt x="491" y="603"/>
                  </a:lnTo>
                  <a:lnTo>
                    <a:pt x="497" y="605"/>
                  </a:lnTo>
                  <a:lnTo>
                    <a:pt x="503" y="605"/>
                  </a:lnTo>
                  <a:lnTo>
                    <a:pt x="508" y="605"/>
                  </a:lnTo>
                  <a:lnTo>
                    <a:pt x="510" y="603"/>
                  </a:lnTo>
                  <a:lnTo>
                    <a:pt x="512" y="601"/>
                  </a:lnTo>
                  <a:lnTo>
                    <a:pt x="512" y="601"/>
                  </a:lnTo>
                  <a:lnTo>
                    <a:pt x="514" y="599"/>
                  </a:lnTo>
                  <a:lnTo>
                    <a:pt x="514" y="595"/>
                  </a:lnTo>
                  <a:lnTo>
                    <a:pt x="514" y="593"/>
                  </a:lnTo>
                  <a:lnTo>
                    <a:pt x="514" y="588"/>
                  </a:lnTo>
                  <a:lnTo>
                    <a:pt x="516" y="584"/>
                  </a:lnTo>
                  <a:lnTo>
                    <a:pt x="516" y="578"/>
                  </a:lnTo>
                  <a:lnTo>
                    <a:pt x="516" y="570"/>
                  </a:lnTo>
                  <a:lnTo>
                    <a:pt x="516" y="538"/>
                  </a:lnTo>
                  <a:lnTo>
                    <a:pt x="516" y="5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3420"/>
            <p:cNvSpPr/>
            <p:nvPr/>
          </p:nvSpPr>
          <p:spPr>
            <a:xfrm>
              <a:off x="7049160" y="3852720"/>
              <a:ext cx="535680" cy="654120"/>
            </a:xfrm>
            <a:custGeom>
              <a:avLst/>
              <a:gdLst/>
              <a:ahLst/>
              <a:rect l="l" t="t" r="r" b="b"/>
              <a:pathLst>
                <a:path w="622" h="714">
                  <a:moveTo>
                    <a:pt x="396" y="553"/>
                  </a:moveTo>
                  <a:lnTo>
                    <a:pt x="419" y="561"/>
                  </a:lnTo>
                  <a:lnTo>
                    <a:pt x="442" y="569"/>
                  </a:lnTo>
                  <a:lnTo>
                    <a:pt x="463" y="576"/>
                  </a:lnTo>
                  <a:lnTo>
                    <a:pt x="480" y="584"/>
                  </a:lnTo>
                  <a:lnTo>
                    <a:pt x="497" y="590"/>
                  </a:lnTo>
                  <a:lnTo>
                    <a:pt x="515" y="597"/>
                  </a:lnTo>
                  <a:lnTo>
                    <a:pt x="528" y="603"/>
                  </a:lnTo>
                  <a:lnTo>
                    <a:pt x="539" y="609"/>
                  </a:lnTo>
                  <a:lnTo>
                    <a:pt x="551" y="614"/>
                  </a:lnTo>
                  <a:lnTo>
                    <a:pt x="562" y="620"/>
                  </a:lnTo>
                  <a:lnTo>
                    <a:pt x="570" y="626"/>
                  </a:lnTo>
                  <a:lnTo>
                    <a:pt x="580" y="634"/>
                  </a:lnTo>
                  <a:lnTo>
                    <a:pt x="587" y="639"/>
                  </a:lnTo>
                  <a:lnTo>
                    <a:pt x="593" y="645"/>
                  </a:lnTo>
                  <a:lnTo>
                    <a:pt x="599" y="651"/>
                  </a:lnTo>
                  <a:lnTo>
                    <a:pt x="605" y="657"/>
                  </a:lnTo>
                  <a:lnTo>
                    <a:pt x="609" y="662"/>
                  </a:lnTo>
                  <a:lnTo>
                    <a:pt x="610" y="668"/>
                  </a:lnTo>
                  <a:lnTo>
                    <a:pt x="614" y="674"/>
                  </a:lnTo>
                  <a:lnTo>
                    <a:pt x="616" y="680"/>
                  </a:lnTo>
                  <a:lnTo>
                    <a:pt x="618" y="683"/>
                  </a:lnTo>
                  <a:lnTo>
                    <a:pt x="620" y="689"/>
                  </a:lnTo>
                  <a:lnTo>
                    <a:pt x="620" y="693"/>
                  </a:lnTo>
                  <a:lnTo>
                    <a:pt x="622" y="697"/>
                  </a:lnTo>
                  <a:lnTo>
                    <a:pt x="622" y="701"/>
                  </a:lnTo>
                  <a:lnTo>
                    <a:pt x="620" y="704"/>
                  </a:lnTo>
                  <a:lnTo>
                    <a:pt x="618" y="708"/>
                  </a:lnTo>
                  <a:lnTo>
                    <a:pt x="618" y="710"/>
                  </a:lnTo>
                  <a:lnTo>
                    <a:pt x="614" y="712"/>
                  </a:lnTo>
                  <a:lnTo>
                    <a:pt x="612" y="712"/>
                  </a:lnTo>
                  <a:lnTo>
                    <a:pt x="609" y="714"/>
                  </a:lnTo>
                  <a:lnTo>
                    <a:pt x="605" y="714"/>
                  </a:lnTo>
                  <a:lnTo>
                    <a:pt x="601" y="714"/>
                  </a:lnTo>
                  <a:lnTo>
                    <a:pt x="595" y="712"/>
                  </a:lnTo>
                  <a:lnTo>
                    <a:pt x="591" y="710"/>
                  </a:lnTo>
                  <a:lnTo>
                    <a:pt x="586" y="708"/>
                  </a:lnTo>
                  <a:lnTo>
                    <a:pt x="580" y="706"/>
                  </a:lnTo>
                  <a:lnTo>
                    <a:pt x="572" y="703"/>
                  </a:lnTo>
                  <a:lnTo>
                    <a:pt x="566" y="699"/>
                  </a:lnTo>
                  <a:lnTo>
                    <a:pt x="559" y="693"/>
                  </a:lnTo>
                  <a:lnTo>
                    <a:pt x="551" y="689"/>
                  </a:lnTo>
                  <a:lnTo>
                    <a:pt x="541" y="683"/>
                  </a:lnTo>
                  <a:lnTo>
                    <a:pt x="530" y="678"/>
                  </a:lnTo>
                  <a:lnTo>
                    <a:pt x="518" y="670"/>
                  </a:lnTo>
                  <a:lnTo>
                    <a:pt x="505" y="664"/>
                  </a:lnTo>
                  <a:lnTo>
                    <a:pt x="492" y="657"/>
                  </a:lnTo>
                  <a:lnTo>
                    <a:pt x="476" y="647"/>
                  </a:lnTo>
                  <a:lnTo>
                    <a:pt x="461" y="639"/>
                  </a:lnTo>
                  <a:lnTo>
                    <a:pt x="444" y="630"/>
                  </a:lnTo>
                  <a:lnTo>
                    <a:pt x="428" y="622"/>
                  </a:lnTo>
                  <a:lnTo>
                    <a:pt x="413" y="614"/>
                  </a:lnTo>
                  <a:lnTo>
                    <a:pt x="399" y="609"/>
                  </a:lnTo>
                  <a:lnTo>
                    <a:pt x="384" y="601"/>
                  </a:lnTo>
                  <a:lnTo>
                    <a:pt x="371" y="595"/>
                  </a:lnTo>
                  <a:lnTo>
                    <a:pt x="359" y="591"/>
                  </a:lnTo>
                  <a:lnTo>
                    <a:pt x="346" y="586"/>
                  </a:lnTo>
                  <a:lnTo>
                    <a:pt x="344" y="588"/>
                  </a:lnTo>
                  <a:lnTo>
                    <a:pt x="340" y="590"/>
                  </a:lnTo>
                  <a:lnTo>
                    <a:pt x="338" y="591"/>
                  </a:lnTo>
                  <a:lnTo>
                    <a:pt x="336" y="591"/>
                  </a:lnTo>
                  <a:lnTo>
                    <a:pt x="334" y="590"/>
                  </a:lnTo>
                  <a:lnTo>
                    <a:pt x="332" y="588"/>
                  </a:lnTo>
                  <a:lnTo>
                    <a:pt x="330" y="584"/>
                  </a:lnTo>
                  <a:lnTo>
                    <a:pt x="330" y="580"/>
                  </a:lnTo>
                  <a:lnTo>
                    <a:pt x="323" y="576"/>
                  </a:lnTo>
                  <a:lnTo>
                    <a:pt x="317" y="574"/>
                  </a:lnTo>
                  <a:lnTo>
                    <a:pt x="313" y="574"/>
                  </a:lnTo>
                  <a:lnTo>
                    <a:pt x="309" y="572"/>
                  </a:lnTo>
                  <a:lnTo>
                    <a:pt x="304" y="580"/>
                  </a:lnTo>
                  <a:lnTo>
                    <a:pt x="298" y="588"/>
                  </a:lnTo>
                  <a:lnTo>
                    <a:pt x="290" y="595"/>
                  </a:lnTo>
                  <a:lnTo>
                    <a:pt x="280" y="601"/>
                  </a:lnTo>
                  <a:lnTo>
                    <a:pt x="271" y="607"/>
                  </a:lnTo>
                  <a:lnTo>
                    <a:pt x="259" y="613"/>
                  </a:lnTo>
                  <a:lnTo>
                    <a:pt x="246" y="618"/>
                  </a:lnTo>
                  <a:lnTo>
                    <a:pt x="233" y="624"/>
                  </a:lnTo>
                  <a:lnTo>
                    <a:pt x="219" y="628"/>
                  </a:lnTo>
                  <a:lnTo>
                    <a:pt x="206" y="632"/>
                  </a:lnTo>
                  <a:lnTo>
                    <a:pt x="192" y="636"/>
                  </a:lnTo>
                  <a:lnTo>
                    <a:pt x="181" y="637"/>
                  </a:lnTo>
                  <a:lnTo>
                    <a:pt x="171" y="639"/>
                  </a:lnTo>
                  <a:lnTo>
                    <a:pt x="160" y="641"/>
                  </a:lnTo>
                  <a:lnTo>
                    <a:pt x="152" y="641"/>
                  </a:lnTo>
                  <a:lnTo>
                    <a:pt x="142" y="641"/>
                  </a:lnTo>
                  <a:lnTo>
                    <a:pt x="133" y="641"/>
                  </a:lnTo>
                  <a:lnTo>
                    <a:pt x="121" y="639"/>
                  </a:lnTo>
                  <a:lnTo>
                    <a:pt x="112" y="637"/>
                  </a:lnTo>
                  <a:lnTo>
                    <a:pt x="100" y="636"/>
                  </a:lnTo>
                  <a:lnTo>
                    <a:pt x="89" y="630"/>
                  </a:lnTo>
                  <a:lnTo>
                    <a:pt x="77" y="626"/>
                  </a:lnTo>
                  <a:lnTo>
                    <a:pt x="64" y="618"/>
                  </a:lnTo>
                  <a:lnTo>
                    <a:pt x="52" y="613"/>
                  </a:lnTo>
                  <a:lnTo>
                    <a:pt x="41" y="603"/>
                  </a:lnTo>
                  <a:lnTo>
                    <a:pt x="29" y="595"/>
                  </a:lnTo>
                  <a:lnTo>
                    <a:pt x="22" y="588"/>
                  </a:lnTo>
                  <a:lnTo>
                    <a:pt x="14" y="580"/>
                  </a:lnTo>
                  <a:lnTo>
                    <a:pt x="8" y="572"/>
                  </a:lnTo>
                  <a:lnTo>
                    <a:pt x="4" y="567"/>
                  </a:lnTo>
                  <a:lnTo>
                    <a:pt x="0" y="559"/>
                  </a:lnTo>
                  <a:lnTo>
                    <a:pt x="0" y="551"/>
                  </a:lnTo>
                  <a:lnTo>
                    <a:pt x="0" y="542"/>
                  </a:lnTo>
                  <a:lnTo>
                    <a:pt x="2" y="534"/>
                  </a:lnTo>
                  <a:lnTo>
                    <a:pt x="6" y="526"/>
                  </a:lnTo>
                  <a:lnTo>
                    <a:pt x="10" y="519"/>
                  </a:lnTo>
                  <a:lnTo>
                    <a:pt x="14" y="513"/>
                  </a:lnTo>
                  <a:lnTo>
                    <a:pt x="20" y="509"/>
                  </a:lnTo>
                  <a:lnTo>
                    <a:pt x="27" y="503"/>
                  </a:lnTo>
                  <a:lnTo>
                    <a:pt x="35" y="500"/>
                  </a:lnTo>
                  <a:lnTo>
                    <a:pt x="45" y="498"/>
                  </a:lnTo>
                  <a:lnTo>
                    <a:pt x="56" y="494"/>
                  </a:lnTo>
                  <a:lnTo>
                    <a:pt x="68" y="492"/>
                  </a:lnTo>
                  <a:lnTo>
                    <a:pt x="83" y="490"/>
                  </a:lnTo>
                  <a:lnTo>
                    <a:pt x="98" y="490"/>
                  </a:lnTo>
                  <a:lnTo>
                    <a:pt x="114" y="488"/>
                  </a:lnTo>
                  <a:lnTo>
                    <a:pt x="133" y="488"/>
                  </a:lnTo>
                  <a:lnTo>
                    <a:pt x="152" y="486"/>
                  </a:lnTo>
                  <a:lnTo>
                    <a:pt x="148" y="477"/>
                  </a:lnTo>
                  <a:lnTo>
                    <a:pt x="146" y="467"/>
                  </a:lnTo>
                  <a:lnTo>
                    <a:pt x="144" y="457"/>
                  </a:lnTo>
                  <a:lnTo>
                    <a:pt x="144" y="448"/>
                  </a:lnTo>
                  <a:lnTo>
                    <a:pt x="144" y="442"/>
                  </a:lnTo>
                  <a:lnTo>
                    <a:pt x="144" y="436"/>
                  </a:lnTo>
                  <a:lnTo>
                    <a:pt x="146" y="433"/>
                  </a:lnTo>
                  <a:lnTo>
                    <a:pt x="148" y="429"/>
                  </a:lnTo>
                  <a:lnTo>
                    <a:pt x="152" y="425"/>
                  </a:lnTo>
                  <a:lnTo>
                    <a:pt x="156" y="423"/>
                  </a:lnTo>
                  <a:lnTo>
                    <a:pt x="160" y="421"/>
                  </a:lnTo>
                  <a:lnTo>
                    <a:pt x="163" y="419"/>
                  </a:lnTo>
                  <a:lnTo>
                    <a:pt x="177" y="415"/>
                  </a:lnTo>
                  <a:lnTo>
                    <a:pt x="192" y="410"/>
                  </a:lnTo>
                  <a:lnTo>
                    <a:pt x="198" y="408"/>
                  </a:lnTo>
                  <a:lnTo>
                    <a:pt x="206" y="404"/>
                  </a:lnTo>
                  <a:lnTo>
                    <a:pt x="213" y="398"/>
                  </a:lnTo>
                  <a:lnTo>
                    <a:pt x="223" y="394"/>
                  </a:lnTo>
                  <a:lnTo>
                    <a:pt x="229" y="389"/>
                  </a:lnTo>
                  <a:lnTo>
                    <a:pt x="236" y="385"/>
                  </a:lnTo>
                  <a:lnTo>
                    <a:pt x="240" y="379"/>
                  </a:lnTo>
                  <a:lnTo>
                    <a:pt x="246" y="375"/>
                  </a:lnTo>
                  <a:lnTo>
                    <a:pt x="248" y="371"/>
                  </a:lnTo>
                  <a:lnTo>
                    <a:pt x="252" y="368"/>
                  </a:lnTo>
                  <a:lnTo>
                    <a:pt x="252" y="364"/>
                  </a:lnTo>
                  <a:lnTo>
                    <a:pt x="254" y="362"/>
                  </a:lnTo>
                  <a:lnTo>
                    <a:pt x="252" y="360"/>
                  </a:lnTo>
                  <a:lnTo>
                    <a:pt x="252" y="360"/>
                  </a:lnTo>
                  <a:lnTo>
                    <a:pt x="250" y="360"/>
                  </a:lnTo>
                  <a:lnTo>
                    <a:pt x="248" y="360"/>
                  </a:lnTo>
                  <a:lnTo>
                    <a:pt x="246" y="362"/>
                  </a:lnTo>
                  <a:lnTo>
                    <a:pt x="242" y="364"/>
                  </a:lnTo>
                  <a:lnTo>
                    <a:pt x="238" y="366"/>
                  </a:lnTo>
                  <a:lnTo>
                    <a:pt x="234" y="368"/>
                  </a:lnTo>
                  <a:lnTo>
                    <a:pt x="231" y="371"/>
                  </a:lnTo>
                  <a:lnTo>
                    <a:pt x="225" y="373"/>
                  </a:lnTo>
                  <a:lnTo>
                    <a:pt x="215" y="381"/>
                  </a:lnTo>
                  <a:lnTo>
                    <a:pt x="206" y="385"/>
                  </a:lnTo>
                  <a:lnTo>
                    <a:pt x="196" y="389"/>
                  </a:lnTo>
                  <a:lnTo>
                    <a:pt x="188" y="389"/>
                  </a:lnTo>
                  <a:lnTo>
                    <a:pt x="185" y="389"/>
                  </a:lnTo>
                  <a:lnTo>
                    <a:pt x="183" y="389"/>
                  </a:lnTo>
                  <a:lnTo>
                    <a:pt x="179" y="387"/>
                  </a:lnTo>
                  <a:lnTo>
                    <a:pt x="177" y="385"/>
                  </a:lnTo>
                  <a:lnTo>
                    <a:pt x="175" y="381"/>
                  </a:lnTo>
                  <a:lnTo>
                    <a:pt x="173" y="379"/>
                  </a:lnTo>
                  <a:lnTo>
                    <a:pt x="171" y="375"/>
                  </a:lnTo>
                  <a:lnTo>
                    <a:pt x="171" y="369"/>
                  </a:lnTo>
                  <a:lnTo>
                    <a:pt x="169" y="362"/>
                  </a:lnTo>
                  <a:lnTo>
                    <a:pt x="167" y="352"/>
                  </a:lnTo>
                  <a:lnTo>
                    <a:pt x="167" y="345"/>
                  </a:lnTo>
                  <a:lnTo>
                    <a:pt x="167" y="337"/>
                  </a:lnTo>
                  <a:lnTo>
                    <a:pt x="167" y="331"/>
                  </a:lnTo>
                  <a:lnTo>
                    <a:pt x="167" y="327"/>
                  </a:lnTo>
                  <a:lnTo>
                    <a:pt x="169" y="323"/>
                  </a:lnTo>
                  <a:lnTo>
                    <a:pt x="169" y="322"/>
                  </a:lnTo>
                  <a:lnTo>
                    <a:pt x="171" y="320"/>
                  </a:lnTo>
                  <a:lnTo>
                    <a:pt x="175" y="318"/>
                  </a:lnTo>
                  <a:lnTo>
                    <a:pt x="179" y="318"/>
                  </a:lnTo>
                  <a:lnTo>
                    <a:pt x="183" y="318"/>
                  </a:lnTo>
                  <a:lnTo>
                    <a:pt x="185" y="318"/>
                  </a:lnTo>
                  <a:lnTo>
                    <a:pt x="188" y="316"/>
                  </a:lnTo>
                  <a:lnTo>
                    <a:pt x="192" y="316"/>
                  </a:lnTo>
                  <a:lnTo>
                    <a:pt x="196" y="314"/>
                  </a:lnTo>
                  <a:lnTo>
                    <a:pt x="200" y="312"/>
                  </a:lnTo>
                  <a:lnTo>
                    <a:pt x="204" y="308"/>
                  </a:lnTo>
                  <a:lnTo>
                    <a:pt x="210" y="306"/>
                  </a:lnTo>
                  <a:lnTo>
                    <a:pt x="215" y="302"/>
                  </a:lnTo>
                  <a:lnTo>
                    <a:pt x="227" y="293"/>
                  </a:lnTo>
                  <a:lnTo>
                    <a:pt x="236" y="285"/>
                  </a:lnTo>
                  <a:lnTo>
                    <a:pt x="248" y="276"/>
                  </a:lnTo>
                  <a:lnTo>
                    <a:pt x="257" y="266"/>
                  </a:lnTo>
                  <a:lnTo>
                    <a:pt x="261" y="260"/>
                  </a:lnTo>
                  <a:lnTo>
                    <a:pt x="265" y="256"/>
                  </a:lnTo>
                  <a:lnTo>
                    <a:pt x="269" y="253"/>
                  </a:lnTo>
                  <a:lnTo>
                    <a:pt x="273" y="251"/>
                  </a:lnTo>
                  <a:lnTo>
                    <a:pt x="275" y="247"/>
                  </a:lnTo>
                  <a:lnTo>
                    <a:pt x="277" y="245"/>
                  </a:lnTo>
                  <a:lnTo>
                    <a:pt x="277" y="243"/>
                  </a:lnTo>
                  <a:lnTo>
                    <a:pt x="277" y="241"/>
                  </a:lnTo>
                  <a:lnTo>
                    <a:pt x="277" y="239"/>
                  </a:lnTo>
                  <a:lnTo>
                    <a:pt x="275" y="239"/>
                  </a:lnTo>
                  <a:lnTo>
                    <a:pt x="275" y="239"/>
                  </a:lnTo>
                  <a:lnTo>
                    <a:pt x="271" y="239"/>
                  </a:lnTo>
                  <a:lnTo>
                    <a:pt x="269" y="239"/>
                  </a:lnTo>
                  <a:lnTo>
                    <a:pt x="263" y="243"/>
                  </a:lnTo>
                  <a:lnTo>
                    <a:pt x="257" y="247"/>
                  </a:lnTo>
                  <a:lnTo>
                    <a:pt x="252" y="249"/>
                  </a:lnTo>
                  <a:lnTo>
                    <a:pt x="246" y="253"/>
                  </a:lnTo>
                  <a:lnTo>
                    <a:pt x="240" y="256"/>
                  </a:lnTo>
                  <a:lnTo>
                    <a:pt x="234" y="258"/>
                  </a:lnTo>
                  <a:lnTo>
                    <a:pt x="229" y="260"/>
                  </a:lnTo>
                  <a:lnTo>
                    <a:pt x="223" y="260"/>
                  </a:lnTo>
                  <a:lnTo>
                    <a:pt x="217" y="262"/>
                  </a:lnTo>
                  <a:lnTo>
                    <a:pt x="213" y="262"/>
                  </a:lnTo>
                  <a:lnTo>
                    <a:pt x="208" y="262"/>
                  </a:lnTo>
                  <a:lnTo>
                    <a:pt x="202" y="260"/>
                  </a:lnTo>
                  <a:lnTo>
                    <a:pt x="196" y="260"/>
                  </a:lnTo>
                  <a:lnTo>
                    <a:pt x="190" y="258"/>
                  </a:lnTo>
                  <a:lnTo>
                    <a:pt x="185" y="256"/>
                  </a:lnTo>
                  <a:lnTo>
                    <a:pt x="179" y="253"/>
                  </a:lnTo>
                  <a:lnTo>
                    <a:pt x="171" y="249"/>
                  </a:lnTo>
                  <a:lnTo>
                    <a:pt x="165" y="247"/>
                  </a:lnTo>
                  <a:lnTo>
                    <a:pt x="158" y="243"/>
                  </a:lnTo>
                  <a:lnTo>
                    <a:pt x="152" y="239"/>
                  </a:lnTo>
                  <a:lnTo>
                    <a:pt x="148" y="235"/>
                  </a:lnTo>
                  <a:lnTo>
                    <a:pt x="142" y="233"/>
                  </a:lnTo>
                  <a:lnTo>
                    <a:pt x="140" y="230"/>
                  </a:lnTo>
                  <a:lnTo>
                    <a:pt x="139" y="228"/>
                  </a:lnTo>
                  <a:lnTo>
                    <a:pt x="137" y="226"/>
                  </a:lnTo>
                  <a:lnTo>
                    <a:pt x="137" y="224"/>
                  </a:lnTo>
                  <a:lnTo>
                    <a:pt x="137" y="220"/>
                  </a:lnTo>
                  <a:lnTo>
                    <a:pt x="139" y="216"/>
                  </a:lnTo>
                  <a:lnTo>
                    <a:pt x="142" y="214"/>
                  </a:lnTo>
                  <a:lnTo>
                    <a:pt x="148" y="211"/>
                  </a:lnTo>
                  <a:lnTo>
                    <a:pt x="188" y="197"/>
                  </a:lnTo>
                  <a:lnTo>
                    <a:pt x="227" y="182"/>
                  </a:lnTo>
                  <a:lnTo>
                    <a:pt x="227" y="174"/>
                  </a:lnTo>
                  <a:lnTo>
                    <a:pt x="225" y="165"/>
                  </a:lnTo>
                  <a:lnTo>
                    <a:pt x="223" y="155"/>
                  </a:lnTo>
                  <a:lnTo>
                    <a:pt x="219" y="144"/>
                  </a:lnTo>
                  <a:lnTo>
                    <a:pt x="213" y="130"/>
                  </a:lnTo>
                  <a:lnTo>
                    <a:pt x="208" y="117"/>
                  </a:lnTo>
                  <a:lnTo>
                    <a:pt x="200" y="99"/>
                  </a:lnTo>
                  <a:lnTo>
                    <a:pt x="192" y="82"/>
                  </a:lnTo>
                  <a:lnTo>
                    <a:pt x="190" y="78"/>
                  </a:lnTo>
                  <a:lnTo>
                    <a:pt x="188" y="75"/>
                  </a:lnTo>
                  <a:lnTo>
                    <a:pt x="188" y="71"/>
                  </a:lnTo>
                  <a:lnTo>
                    <a:pt x="186" y="67"/>
                  </a:lnTo>
                  <a:lnTo>
                    <a:pt x="188" y="63"/>
                  </a:lnTo>
                  <a:lnTo>
                    <a:pt x="188" y="61"/>
                  </a:lnTo>
                  <a:lnTo>
                    <a:pt x="190" y="61"/>
                  </a:lnTo>
                  <a:lnTo>
                    <a:pt x="194" y="61"/>
                  </a:lnTo>
                  <a:lnTo>
                    <a:pt x="196" y="61"/>
                  </a:lnTo>
                  <a:lnTo>
                    <a:pt x="200" y="61"/>
                  </a:lnTo>
                  <a:lnTo>
                    <a:pt x="206" y="65"/>
                  </a:lnTo>
                  <a:lnTo>
                    <a:pt x="211" y="67"/>
                  </a:lnTo>
                  <a:lnTo>
                    <a:pt x="217" y="71"/>
                  </a:lnTo>
                  <a:lnTo>
                    <a:pt x="225" y="73"/>
                  </a:lnTo>
                  <a:lnTo>
                    <a:pt x="231" y="75"/>
                  </a:lnTo>
                  <a:lnTo>
                    <a:pt x="238" y="75"/>
                  </a:lnTo>
                  <a:lnTo>
                    <a:pt x="242" y="75"/>
                  </a:lnTo>
                  <a:lnTo>
                    <a:pt x="248" y="73"/>
                  </a:lnTo>
                  <a:lnTo>
                    <a:pt x="254" y="71"/>
                  </a:lnTo>
                  <a:lnTo>
                    <a:pt x="261" y="67"/>
                  </a:lnTo>
                  <a:lnTo>
                    <a:pt x="269" y="63"/>
                  </a:lnTo>
                  <a:lnTo>
                    <a:pt x="277" y="57"/>
                  </a:lnTo>
                  <a:lnTo>
                    <a:pt x="286" y="52"/>
                  </a:lnTo>
                  <a:lnTo>
                    <a:pt x="296" y="44"/>
                  </a:lnTo>
                  <a:lnTo>
                    <a:pt x="300" y="42"/>
                  </a:lnTo>
                  <a:lnTo>
                    <a:pt x="304" y="42"/>
                  </a:lnTo>
                  <a:lnTo>
                    <a:pt x="305" y="42"/>
                  </a:lnTo>
                  <a:lnTo>
                    <a:pt x="307" y="42"/>
                  </a:lnTo>
                  <a:lnTo>
                    <a:pt x="309" y="44"/>
                  </a:lnTo>
                  <a:lnTo>
                    <a:pt x="311" y="46"/>
                  </a:lnTo>
                  <a:lnTo>
                    <a:pt x="311" y="48"/>
                  </a:lnTo>
                  <a:lnTo>
                    <a:pt x="313" y="52"/>
                  </a:lnTo>
                  <a:lnTo>
                    <a:pt x="313" y="54"/>
                  </a:lnTo>
                  <a:lnTo>
                    <a:pt x="311" y="57"/>
                  </a:lnTo>
                  <a:lnTo>
                    <a:pt x="304" y="69"/>
                  </a:lnTo>
                  <a:lnTo>
                    <a:pt x="296" y="80"/>
                  </a:lnTo>
                  <a:lnTo>
                    <a:pt x="292" y="90"/>
                  </a:lnTo>
                  <a:lnTo>
                    <a:pt x="288" y="98"/>
                  </a:lnTo>
                  <a:lnTo>
                    <a:pt x="284" y="105"/>
                  </a:lnTo>
                  <a:lnTo>
                    <a:pt x="282" y="113"/>
                  </a:lnTo>
                  <a:lnTo>
                    <a:pt x="282" y="119"/>
                  </a:lnTo>
                  <a:lnTo>
                    <a:pt x="280" y="126"/>
                  </a:lnTo>
                  <a:lnTo>
                    <a:pt x="280" y="132"/>
                  </a:lnTo>
                  <a:lnTo>
                    <a:pt x="282" y="140"/>
                  </a:lnTo>
                  <a:lnTo>
                    <a:pt x="282" y="149"/>
                  </a:lnTo>
                  <a:lnTo>
                    <a:pt x="284" y="157"/>
                  </a:lnTo>
                  <a:lnTo>
                    <a:pt x="294" y="151"/>
                  </a:lnTo>
                  <a:lnTo>
                    <a:pt x="304" y="145"/>
                  </a:lnTo>
                  <a:lnTo>
                    <a:pt x="313" y="138"/>
                  </a:lnTo>
                  <a:lnTo>
                    <a:pt x="321" y="130"/>
                  </a:lnTo>
                  <a:lnTo>
                    <a:pt x="328" y="122"/>
                  </a:lnTo>
                  <a:lnTo>
                    <a:pt x="336" y="115"/>
                  </a:lnTo>
                  <a:lnTo>
                    <a:pt x="344" y="107"/>
                  </a:lnTo>
                  <a:lnTo>
                    <a:pt x="351" y="98"/>
                  </a:lnTo>
                  <a:lnTo>
                    <a:pt x="357" y="90"/>
                  </a:lnTo>
                  <a:lnTo>
                    <a:pt x="361" y="80"/>
                  </a:lnTo>
                  <a:lnTo>
                    <a:pt x="365" y="73"/>
                  </a:lnTo>
                  <a:lnTo>
                    <a:pt x="369" y="65"/>
                  </a:lnTo>
                  <a:lnTo>
                    <a:pt x="373" y="55"/>
                  </a:lnTo>
                  <a:lnTo>
                    <a:pt x="374" y="48"/>
                  </a:lnTo>
                  <a:lnTo>
                    <a:pt x="374" y="40"/>
                  </a:lnTo>
                  <a:lnTo>
                    <a:pt x="376" y="32"/>
                  </a:lnTo>
                  <a:lnTo>
                    <a:pt x="374" y="29"/>
                  </a:lnTo>
                  <a:lnTo>
                    <a:pt x="374" y="23"/>
                  </a:lnTo>
                  <a:lnTo>
                    <a:pt x="373" y="15"/>
                  </a:lnTo>
                  <a:lnTo>
                    <a:pt x="371" y="9"/>
                  </a:lnTo>
                  <a:lnTo>
                    <a:pt x="371" y="4"/>
                  </a:lnTo>
                  <a:lnTo>
                    <a:pt x="371" y="2"/>
                  </a:lnTo>
                  <a:lnTo>
                    <a:pt x="373" y="2"/>
                  </a:lnTo>
                  <a:lnTo>
                    <a:pt x="374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4" y="2"/>
                  </a:lnTo>
                  <a:lnTo>
                    <a:pt x="388" y="4"/>
                  </a:lnTo>
                  <a:lnTo>
                    <a:pt x="392" y="6"/>
                  </a:lnTo>
                  <a:lnTo>
                    <a:pt x="396" y="8"/>
                  </a:lnTo>
                  <a:lnTo>
                    <a:pt x="401" y="11"/>
                  </a:lnTo>
                  <a:lnTo>
                    <a:pt x="407" y="15"/>
                  </a:lnTo>
                  <a:lnTo>
                    <a:pt x="411" y="21"/>
                  </a:lnTo>
                  <a:lnTo>
                    <a:pt x="417" y="27"/>
                  </a:lnTo>
                  <a:lnTo>
                    <a:pt x="421" y="32"/>
                  </a:lnTo>
                  <a:lnTo>
                    <a:pt x="424" y="38"/>
                  </a:lnTo>
                  <a:lnTo>
                    <a:pt x="428" y="44"/>
                  </a:lnTo>
                  <a:lnTo>
                    <a:pt x="430" y="52"/>
                  </a:lnTo>
                  <a:lnTo>
                    <a:pt x="432" y="57"/>
                  </a:lnTo>
                  <a:lnTo>
                    <a:pt x="434" y="65"/>
                  </a:lnTo>
                  <a:lnTo>
                    <a:pt x="434" y="71"/>
                  </a:lnTo>
                  <a:lnTo>
                    <a:pt x="434" y="78"/>
                  </a:lnTo>
                  <a:lnTo>
                    <a:pt x="432" y="86"/>
                  </a:lnTo>
                  <a:lnTo>
                    <a:pt x="430" y="94"/>
                  </a:lnTo>
                  <a:lnTo>
                    <a:pt x="426" y="101"/>
                  </a:lnTo>
                  <a:lnTo>
                    <a:pt x="421" y="109"/>
                  </a:lnTo>
                  <a:lnTo>
                    <a:pt x="417" y="117"/>
                  </a:lnTo>
                  <a:lnTo>
                    <a:pt x="409" y="124"/>
                  </a:lnTo>
                  <a:lnTo>
                    <a:pt x="403" y="132"/>
                  </a:lnTo>
                  <a:lnTo>
                    <a:pt x="411" y="134"/>
                  </a:lnTo>
                  <a:lnTo>
                    <a:pt x="417" y="136"/>
                  </a:lnTo>
                  <a:lnTo>
                    <a:pt x="422" y="140"/>
                  </a:lnTo>
                  <a:lnTo>
                    <a:pt x="428" y="142"/>
                  </a:lnTo>
                  <a:lnTo>
                    <a:pt x="432" y="145"/>
                  </a:lnTo>
                  <a:lnTo>
                    <a:pt x="434" y="149"/>
                  </a:lnTo>
                  <a:lnTo>
                    <a:pt x="436" y="153"/>
                  </a:lnTo>
                  <a:lnTo>
                    <a:pt x="436" y="159"/>
                  </a:lnTo>
                  <a:lnTo>
                    <a:pt x="436" y="163"/>
                  </a:lnTo>
                  <a:lnTo>
                    <a:pt x="436" y="168"/>
                  </a:lnTo>
                  <a:lnTo>
                    <a:pt x="434" y="172"/>
                  </a:lnTo>
                  <a:lnTo>
                    <a:pt x="430" y="176"/>
                  </a:lnTo>
                  <a:lnTo>
                    <a:pt x="426" y="182"/>
                  </a:lnTo>
                  <a:lnTo>
                    <a:pt x="422" y="186"/>
                  </a:lnTo>
                  <a:lnTo>
                    <a:pt x="419" y="189"/>
                  </a:lnTo>
                  <a:lnTo>
                    <a:pt x="413" y="193"/>
                  </a:lnTo>
                  <a:lnTo>
                    <a:pt x="407" y="197"/>
                  </a:lnTo>
                  <a:lnTo>
                    <a:pt x="401" y="201"/>
                  </a:lnTo>
                  <a:lnTo>
                    <a:pt x="396" y="205"/>
                  </a:lnTo>
                  <a:lnTo>
                    <a:pt x="392" y="207"/>
                  </a:lnTo>
                  <a:lnTo>
                    <a:pt x="388" y="211"/>
                  </a:lnTo>
                  <a:lnTo>
                    <a:pt x="386" y="212"/>
                  </a:lnTo>
                  <a:lnTo>
                    <a:pt x="384" y="214"/>
                  </a:lnTo>
                  <a:lnTo>
                    <a:pt x="382" y="216"/>
                  </a:lnTo>
                  <a:lnTo>
                    <a:pt x="378" y="220"/>
                  </a:lnTo>
                  <a:lnTo>
                    <a:pt x="376" y="224"/>
                  </a:lnTo>
                  <a:lnTo>
                    <a:pt x="376" y="228"/>
                  </a:lnTo>
                  <a:lnTo>
                    <a:pt x="374" y="233"/>
                  </a:lnTo>
                  <a:lnTo>
                    <a:pt x="382" y="235"/>
                  </a:lnTo>
                  <a:lnTo>
                    <a:pt x="388" y="239"/>
                  </a:lnTo>
                  <a:lnTo>
                    <a:pt x="394" y="243"/>
                  </a:lnTo>
                  <a:lnTo>
                    <a:pt x="398" y="247"/>
                  </a:lnTo>
                  <a:lnTo>
                    <a:pt x="399" y="251"/>
                  </a:lnTo>
                  <a:lnTo>
                    <a:pt x="403" y="256"/>
                  </a:lnTo>
                  <a:lnTo>
                    <a:pt x="403" y="262"/>
                  </a:lnTo>
                  <a:lnTo>
                    <a:pt x="405" y="268"/>
                  </a:lnTo>
                  <a:lnTo>
                    <a:pt x="403" y="276"/>
                  </a:lnTo>
                  <a:lnTo>
                    <a:pt x="401" y="281"/>
                  </a:lnTo>
                  <a:lnTo>
                    <a:pt x="398" y="287"/>
                  </a:lnTo>
                  <a:lnTo>
                    <a:pt x="392" y="293"/>
                  </a:lnTo>
                  <a:lnTo>
                    <a:pt x="386" y="297"/>
                  </a:lnTo>
                  <a:lnTo>
                    <a:pt x="380" y="302"/>
                  </a:lnTo>
                  <a:lnTo>
                    <a:pt x="374" y="306"/>
                  </a:lnTo>
                  <a:lnTo>
                    <a:pt x="371" y="314"/>
                  </a:lnTo>
                  <a:lnTo>
                    <a:pt x="367" y="320"/>
                  </a:lnTo>
                  <a:lnTo>
                    <a:pt x="365" y="325"/>
                  </a:lnTo>
                  <a:lnTo>
                    <a:pt x="363" y="331"/>
                  </a:lnTo>
                  <a:lnTo>
                    <a:pt x="361" y="337"/>
                  </a:lnTo>
                  <a:lnTo>
                    <a:pt x="371" y="335"/>
                  </a:lnTo>
                  <a:lnTo>
                    <a:pt x="380" y="333"/>
                  </a:lnTo>
                  <a:lnTo>
                    <a:pt x="390" y="333"/>
                  </a:lnTo>
                  <a:lnTo>
                    <a:pt x="399" y="331"/>
                  </a:lnTo>
                  <a:lnTo>
                    <a:pt x="409" y="333"/>
                  </a:lnTo>
                  <a:lnTo>
                    <a:pt x="417" y="335"/>
                  </a:lnTo>
                  <a:lnTo>
                    <a:pt x="426" y="337"/>
                  </a:lnTo>
                  <a:lnTo>
                    <a:pt x="436" y="343"/>
                  </a:lnTo>
                  <a:lnTo>
                    <a:pt x="440" y="345"/>
                  </a:lnTo>
                  <a:lnTo>
                    <a:pt x="442" y="346"/>
                  </a:lnTo>
                  <a:lnTo>
                    <a:pt x="445" y="350"/>
                  </a:lnTo>
                  <a:lnTo>
                    <a:pt x="447" y="352"/>
                  </a:lnTo>
                  <a:lnTo>
                    <a:pt x="449" y="354"/>
                  </a:lnTo>
                  <a:lnTo>
                    <a:pt x="451" y="358"/>
                  </a:lnTo>
                  <a:lnTo>
                    <a:pt x="451" y="360"/>
                  </a:lnTo>
                  <a:lnTo>
                    <a:pt x="451" y="364"/>
                  </a:lnTo>
                  <a:lnTo>
                    <a:pt x="451" y="368"/>
                  </a:lnTo>
                  <a:lnTo>
                    <a:pt x="449" y="371"/>
                  </a:lnTo>
                  <a:lnTo>
                    <a:pt x="447" y="375"/>
                  </a:lnTo>
                  <a:lnTo>
                    <a:pt x="444" y="377"/>
                  </a:lnTo>
                  <a:lnTo>
                    <a:pt x="440" y="381"/>
                  </a:lnTo>
                  <a:lnTo>
                    <a:pt x="434" y="381"/>
                  </a:lnTo>
                  <a:lnTo>
                    <a:pt x="428" y="383"/>
                  </a:lnTo>
                  <a:lnTo>
                    <a:pt x="422" y="383"/>
                  </a:lnTo>
                  <a:lnTo>
                    <a:pt x="403" y="385"/>
                  </a:lnTo>
                  <a:lnTo>
                    <a:pt x="386" y="387"/>
                  </a:lnTo>
                  <a:lnTo>
                    <a:pt x="369" y="390"/>
                  </a:lnTo>
                  <a:lnTo>
                    <a:pt x="351" y="396"/>
                  </a:lnTo>
                  <a:lnTo>
                    <a:pt x="350" y="410"/>
                  </a:lnTo>
                  <a:lnTo>
                    <a:pt x="348" y="421"/>
                  </a:lnTo>
                  <a:lnTo>
                    <a:pt x="346" y="435"/>
                  </a:lnTo>
                  <a:lnTo>
                    <a:pt x="344" y="444"/>
                  </a:lnTo>
                  <a:lnTo>
                    <a:pt x="342" y="456"/>
                  </a:lnTo>
                  <a:lnTo>
                    <a:pt x="340" y="465"/>
                  </a:lnTo>
                  <a:lnTo>
                    <a:pt x="338" y="475"/>
                  </a:lnTo>
                  <a:lnTo>
                    <a:pt x="338" y="482"/>
                  </a:lnTo>
                  <a:lnTo>
                    <a:pt x="336" y="490"/>
                  </a:lnTo>
                  <a:lnTo>
                    <a:pt x="334" y="498"/>
                  </a:lnTo>
                  <a:lnTo>
                    <a:pt x="332" y="505"/>
                  </a:lnTo>
                  <a:lnTo>
                    <a:pt x="332" y="511"/>
                  </a:lnTo>
                  <a:lnTo>
                    <a:pt x="330" y="517"/>
                  </a:lnTo>
                  <a:lnTo>
                    <a:pt x="328" y="521"/>
                  </a:lnTo>
                  <a:lnTo>
                    <a:pt x="328" y="526"/>
                  </a:lnTo>
                  <a:lnTo>
                    <a:pt x="327" y="530"/>
                  </a:lnTo>
                  <a:lnTo>
                    <a:pt x="359" y="540"/>
                  </a:lnTo>
                  <a:lnTo>
                    <a:pt x="363" y="536"/>
                  </a:lnTo>
                  <a:lnTo>
                    <a:pt x="369" y="530"/>
                  </a:lnTo>
                  <a:lnTo>
                    <a:pt x="373" y="526"/>
                  </a:lnTo>
                  <a:lnTo>
                    <a:pt x="376" y="521"/>
                  </a:lnTo>
                  <a:lnTo>
                    <a:pt x="382" y="513"/>
                  </a:lnTo>
                  <a:lnTo>
                    <a:pt x="386" y="507"/>
                  </a:lnTo>
                  <a:lnTo>
                    <a:pt x="390" y="500"/>
                  </a:lnTo>
                  <a:lnTo>
                    <a:pt x="394" y="492"/>
                  </a:lnTo>
                  <a:lnTo>
                    <a:pt x="398" y="484"/>
                  </a:lnTo>
                  <a:lnTo>
                    <a:pt x="401" y="479"/>
                  </a:lnTo>
                  <a:lnTo>
                    <a:pt x="403" y="471"/>
                  </a:lnTo>
                  <a:lnTo>
                    <a:pt x="405" y="465"/>
                  </a:lnTo>
                  <a:lnTo>
                    <a:pt x="407" y="461"/>
                  </a:lnTo>
                  <a:lnTo>
                    <a:pt x="409" y="457"/>
                  </a:lnTo>
                  <a:lnTo>
                    <a:pt x="409" y="454"/>
                  </a:lnTo>
                  <a:lnTo>
                    <a:pt x="409" y="450"/>
                  </a:lnTo>
                  <a:lnTo>
                    <a:pt x="409" y="446"/>
                  </a:lnTo>
                  <a:lnTo>
                    <a:pt x="409" y="440"/>
                  </a:lnTo>
                  <a:lnTo>
                    <a:pt x="407" y="436"/>
                  </a:lnTo>
                  <a:lnTo>
                    <a:pt x="407" y="435"/>
                  </a:lnTo>
                  <a:lnTo>
                    <a:pt x="405" y="431"/>
                  </a:lnTo>
                  <a:lnTo>
                    <a:pt x="403" y="429"/>
                  </a:lnTo>
                  <a:lnTo>
                    <a:pt x="403" y="425"/>
                  </a:lnTo>
                  <a:lnTo>
                    <a:pt x="403" y="423"/>
                  </a:lnTo>
                  <a:lnTo>
                    <a:pt x="405" y="421"/>
                  </a:lnTo>
                  <a:lnTo>
                    <a:pt x="405" y="419"/>
                  </a:lnTo>
                  <a:lnTo>
                    <a:pt x="407" y="417"/>
                  </a:lnTo>
                  <a:lnTo>
                    <a:pt x="409" y="417"/>
                  </a:lnTo>
                  <a:lnTo>
                    <a:pt x="413" y="417"/>
                  </a:lnTo>
                  <a:lnTo>
                    <a:pt x="417" y="415"/>
                  </a:lnTo>
                  <a:lnTo>
                    <a:pt x="421" y="415"/>
                  </a:lnTo>
                  <a:lnTo>
                    <a:pt x="424" y="415"/>
                  </a:lnTo>
                  <a:lnTo>
                    <a:pt x="428" y="417"/>
                  </a:lnTo>
                  <a:lnTo>
                    <a:pt x="432" y="417"/>
                  </a:lnTo>
                  <a:lnTo>
                    <a:pt x="438" y="419"/>
                  </a:lnTo>
                  <a:lnTo>
                    <a:pt x="442" y="421"/>
                  </a:lnTo>
                  <a:lnTo>
                    <a:pt x="445" y="425"/>
                  </a:lnTo>
                  <a:lnTo>
                    <a:pt x="449" y="429"/>
                  </a:lnTo>
                  <a:lnTo>
                    <a:pt x="455" y="433"/>
                  </a:lnTo>
                  <a:lnTo>
                    <a:pt x="459" y="436"/>
                  </a:lnTo>
                  <a:lnTo>
                    <a:pt x="461" y="440"/>
                  </a:lnTo>
                  <a:lnTo>
                    <a:pt x="465" y="444"/>
                  </a:lnTo>
                  <a:lnTo>
                    <a:pt x="467" y="448"/>
                  </a:lnTo>
                  <a:lnTo>
                    <a:pt x="468" y="454"/>
                  </a:lnTo>
                  <a:lnTo>
                    <a:pt x="470" y="457"/>
                  </a:lnTo>
                  <a:lnTo>
                    <a:pt x="470" y="461"/>
                  </a:lnTo>
                  <a:lnTo>
                    <a:pt x="470" y="465"/>
                  </a:lnTo>
                  <a:lnTo>
                    <a:pt x="470" y="469"/>
                  </a:lnTo>
                  <a:lnTo>
                    <a:pt x="470" y="471"/>
                  </a:lnTo>
                  <a:lnTo>
                    <a:pt x="468" y="475"/>
                  </a:lnTo>
                  <a:lnTo>
                    <a:pt x="467" y="480"/>
                  </a:lnTo>
                  <a:lnTo>
                    <a:pt x="463" y="484"/>
                  </a:lnTo>
                  <a:lnTo>
                    <a:pt x="461" y="488"/>
                  </a:lnTo>
                  <a:lnTo>
                    <a:pt x="457" y="494"/>
                  </a:lnTo>
                  <a:lnTo>
                    <a:pt x="451" y="500"/>
                  </a:lnTo>
                  <a:lnTo>
                    <a:pt x="447" y="505"/>
                  </a:lnTo>
                  <a:lnTo>
                    <a:pt x="442" y="511"/>
                  </a:lnTo>
                  <a:lnTo>
                    <a:pt x="434" y="517"/>
                  </a:lnTo>
                  <a:lnTo>
                    <a:pt x="428" y="524"/>
                  </a:lnTo>
                  <a:lnTo>
                    <a:pt x="421" y="530"/>
                  </a:lnTo>
                  <a:lnTo>
                    <a:pt x="413" y="538"/>
                  </a:lnTo>
                  <a:lnTo>
                    <a:pt x="405" y="546"/>
                  </a:lnTo>
                  <a:lnTo>
                    <a:pt x="396" y="553"/>
                  </a:lnTo>
                  <a:lnTo>
                    <a:pt x="396" y="553"/>
                  </a:lnTo>
                  <a:close/>
                  <a:moveTo>
                    <a:pt x="294" y="429"/>
                  </a:moveTo>
                  <a:lnTo>
                    <a:pt x="244" y="461"/>
                  </a:lnTo>
                  <a:lnTo>
                    <a:pt x="196" y="492"/>
                  </a:lnTo>
                  <a:lnTo>
                    <a:pt x="217" y="496"/>
                  </a:lnTo>
                  <a:lnTo>
                    <a:pt x="236" y="500"/>
                  </a:lnTo>
                  <a:lnTo>
                    <a:pt x="256" y="505"/>
                  </a:lnTo>
                  <a:lnTo>
                    <a:pt x="263" y="509"/>
                  </a:lnTo>
                  <a:lnTo>
                    <a:pt x="271" y="511"/>
                  </a:lnTo>
                  <a:lnTo>
                    <a:pt x="275" y="503"/>
                  </a:lnTo>
                  <a:lnTo>
                    <a:pt x="279" y="496"/>
                  </a:lnTo>
                  <a:lnTo>
                    <a:pt x="282" y="486"/>
                  </a:lnTo>
                  <a:lnTo>
                    <a:pt x="284" y="477"/>
                  </a:lnTo>
                  <a:lnTo>
                    <a:pt x="288" y="467"/>
                  </a:lnTo>
                  <a:lnTo>
                    <a:pt x="290" y="456"/>
                  </a:lnTo>
                  <a:lnTo>
                    <a:pt x="292" y="442"/>
                  </a:lnTo>
                  <a:lnTo>
                    <a:pt x="294" y="429"/>
                  </a:lnTo>
                  <a:lnTo>
                    <a:pt x="294" y="429"/>
                  </a:lnTo>
                  <a:close/>
                  <a:moveTo>
                    <a:pt x="246" y="549"/>
                  </a:moveTo>
                  <a:lnTo>
                    <a:pt x="236" y="546"/>
                  </a:lnTo>
                  <a:lnTo>
                    <a:pt x="227" y="544"/>
                  </a:lnTo>
                  <a:lnTo>
                    <a:pt x="215" y="540"/>
                  </a:lnTo>
                  <a:lnTo>
                    <a:pt x="204" y="536"/>
                  </a:lnTo>
                  <a:lnTo>
                    <a:pt x="192" y="534"/>
                  </a:lnTo>
                  <a:lnTo>
                    <a:pt x="177" y="530"/>
                  </a:lnTo>
                  <a:lnTo>
                    <a:pt x="162" y="528"/>
                  </a:lnTo>
                  <a:lnTo>
                    <a:pt x="146" y="524"/>
                  </a:lnTo>
                  <a:lnTo>
                    <a:pt x="131" y="523"/>
                  </a:lnTo>
                  <a:lnTo>
                    <a:pt x="116" y="519"/>
                  </a:lnTo>
                  <a:lnTo>
                    <a:pt x="104" y="517"/>
                  </a:lnTo>
                  <a:lnTo>
                    <a:pt x="93" y="517"/>
                  </a:lnTo>
                  <a:lnTo>
                    <a:pt x="83" y="515"/>
                  </a:lnTo>
                  <a:lnTo>
                    <a:pt x="73" y="515"/>
                  </a:lnTo>
                  <a:lnTo>
                    <a:pt x="66" y="513"/>
                  </a:lnTo>
                  <a:lnTo>
                    <a:pt x="60" y="513"/>
                  </a:lnTo>
                  <a:lnTo>
                    <a:pt x="50" y="515"/>
                  </a:lnTo>
                  <a:lnTo>
                    <a:pt x="41" y="517"/>
                  </a:lnTo>
                  <a:lnTo>
                    <a:pt x="33" y="521"/>
                  </a:lnTo>
                  <a:lnTo>
                    <a:pt x="27" y="524"/>
                  </a:lnTo>
                  <a:lnTo>
                    <a:pt x="22" y="532"/>
                  </a:lnTo>
                  <a:lnTo>
                    <a:pt x="18" y="540"/>
                  </a:lnTo>
                  <a:lnTo>
                    <a:pt x="16" y="547"/>
                  </a:lnTo>
                  <a:lnTo>
                    <a:pt x="14" y="557"/>
                  </a:lnTo>
                  <a:lnTo>
                    <a:pt x="14" y="561"/>
                  </a:lnTo>
                  <a:lnTo>
                    <a:pt x="16" y="567"/>
                  </a:lnTo>
                  <a:lnTo>
                    <a:pt x="20" y="570"/>
                  </a:lnTo>
                  <a:lnTo>
                    <a:pt x="23" y="574"/>
                  </a:lnTo>
                  <a:lnTo>
                    <a:pt x="27" y="578"/>
                  </a:lnTo>
                  <a:lnTo>
                    <a:pt x="33" y="582"/>
                  </a:lnTo>
                  <a:lnTo>
                    <a:pt x="41" y="586"/>
                  </a:lnTo>
                  <a:lnTo>
                    <a:pt x="48" y="588"/>
                  </a:lnTo>
                  <a:lnTo>
                    <a:pt x="66" y="593"/>
                  </a:lnTo>
                  <a:lnTo>
                    <a:pt x="85" y="595"/>
                  </a:lnTo>
                  <a:lnTo>
                    <a:pt x="106" y="597"/>
                  </a:lnTo>
                  <a:lnTo>
                    <a:pt x="127" y="599"/>
                  </a:lnTo>
                  <a:lnTo>
                    <a:pt x="139" y="599"/>
                  </a:lnTo>
                  <a:lnTo>
                    <a:pt x="148" y="597"/>
                  </a:lnTo>
                  <a:lnTo>
                    <a:pt x="158" y="597"/>
                  </a:lnTo>
                  <a:lnTo>
                    <a:pt x="167" y="595"/>
                  </a:lnTo>
                  <a:lnTo>
                    <a:pt x="175" y="593"/>
                  </a:lnTo>
                  <a:lnTo>
                    <a:pt x="183" y="591"/>
                  </a:lnTo>
                  <a:lnTo>
                    <a:pt x="190" y="590"/>
                  </a:lnTo>
                  <a:lnTo>
                    <a:pt x="196" y="586"/>
                  </a:lnTo>
                  <a:lnTo>
                    <a:pt x="208" y="578"/>
                  </a:lnTo>
                  <a:lnTo>
                    <a:pt x="221" y="570"/>
                  </a:lnTo>
                  <a:lnTo>
                    <a:pt x="233" y="561"/>
                  </a:lnTo>
                  <a:lnTo>
                    <a:pt x="246" y="549"/>
                  </a:lnTo>
                  <a:lnTo>
                    <a:pt x="246" y="5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Group 3542"/>
          <p:cNvGrpSpPr/>
          <p:nvPr/>
        </p:nvGrpSpPr>
        <p:grpSpPr>
          <a:xfrm>
            <a:off x="-611640" y="-7885080"/>
            <a:ext cx="18865440" cy="16997760"/>
            <a:chOff x="-611640" y="-7885080"/>
            <a:chExt cx="18865440" cy="16997760"/>
          </a:xfrm>
        </p:grpSpPr>
        <p:grpSp>
          <p:nvGrpSpPr>
            <p:cNvPr id="2799" name="Group 3543"/>
            <p:cNvGrpSpPr/>
            <p:nvPr/>
          </p:nvGrpSpPr>
          <p:grpSpPr>
            <a:xfrm>
              <a:off x="-611640" y="-7885080"/>
              <a:ext cx="16128720" cy="16997760"/>
              <a:chOff x="-611640" y="-7885080"/>
              <a:chExt cx="16128720" cy="16997760"/>
            </a:xfrm>
          </p:grpSpPr>
          <p:grpSp>
            <p:nvGrpSpPr>
              <p:cNvPr id="2800" name="Group 3544"/>
              <p:cNvGrpSpPr/>
              <p:nvPr/>
            </p:nvGrpSpPr>
            <p:grpSpPr>
              <a:xfrm>
                <a:off x="-475560" y="-7885080"/>
                <a:ext cx="15992640" cy="11982960"/>
                <a:chOff x="-475560" y="-7885080"/>
                <a:chExt cx="15992640" cy="11982960"/>
              </a:xfrm>
            </p:grpSpPr>
            <p:sp>
              <p:nvSpPr>
                <p:cNvPr id="2801" name="Rectangle 3545"/>
                <p:cNvSpPr/>
                <p:nvPr/>
              </p:nvSpPr>
              <p:spPr>
                <a:xfrm>
                  <a:off x="-475200" y="1303200"/>
                  <a:ext cx="15953400" cy="279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2" name="Group 3546"/>
                <p:cNvGrpSpPr/>
                <p:nvPr/>
              </p:nvGrpSpPr>
              <p:grpSpPr>
                <a:xfrm>
                  <a:off x="-475560" y="-7885080"/>
                  <a:ext cx="15992640" cy="9229680"/>
                  <a:chOff x="-475560" y="-7885080"/>
                  <a:chExt cx="15992640" cy="9229680"/>
                </a:xfrm>
              </p:grpSpPr>
              <p:sp>
                <p:nvSpPr>
                  <p:cNvPr id="2803" name="Rectangle 3547"/>
                  <p:cNvSpPr/>
                  <p:nvPr/>
                </p:nvSpPr>
                <p:spPr>
                  <a:xfrm rot="10800000">
                    <a:off x="-475560" y="-4393800"/>
                    <a:ext cx="15992280" cy="5738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aad2"/>
                      </a:gs>
                      <a:gs pos="100000">
                        <a:srgbClr val="ffffff"/>
                      </a:gs>
                    </a:gsLst>
                    <a:lin ang="16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4" name="Rectangle 3548"/>
                  <p:cNvSpPr/>
                  <p:nvPr/>
                </p:nvSpPr>
                <p:spPr>
                  <a:xfrm>
                    <a:off x="-475200" y="-7885080"/>
                    <a:ext cx="15992280" cy="451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5" name="Group 3549"/>
              <p:cNvGrpSpPr/>
              <p:nvPr/>
            </p:nvGrpSpPr>
            <p:grpSpPr>
              <a:xfrm>
                <a:off x="-611640" y="-2362320"/>
                <a:ext cx="15993000" cy="11475000"/>
                <a:chOff x="-611640" y="-2362320"/>
                <a:chExt cx="15993000" cy="11475000"/>
              </a:xfrm>
            </p:grpSpPr>
            <p:sp>
              <p:nvSpPr>
                <p:cNvPr id="2806" name="Rectangle 3550"/>
                <p:cNvSpPr/>
                <p:nvPr/>
              </p:nvSpPr>
              <p:spPr>
                <a:xfrm rot="10800000">
                  <a:off x="-611640" y="-2362320"/>
                  <a:ext cx="15993000" cy="573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Rectangle 3551"/>
                <p:cNvSpPr/>
                <p:nvPr/>
              </p:nvSpPr>
              <p:spPr>
                <a:xfrm flipV="1" rot="10800000">
                  <a:off x="-611640" y="3373560"/>
                  <a:ext cx="15993000" cy="573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0083a2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08" name="Group 3552"/>
            <p:cNvGrpSpPr/>
            <p:nvPr/>
          </p:nvGrpSpPr>
          <p:grpSpPr>
            <a:xfrm>
              <a:off x="68400" y="-5432400"/>
              <a:ext cx="18185400" cy="5181480"/>
              <a:chOff x="68400" y="-5432400"/>
              <a:chExt cx="18185400" cy="5181480"/>
            </a:xfrm>
          </p:grpSpPr>
          <p:grpSp>
            <p:nvGrpSpPr>
              <p:cNvPr id="2809" name="Group 3553"/>
              <p:cNvGrpSpPr/>
              <p:nvPr/>
            </p:nvGrpSpPr>
            <p:grpSpPr>
              <a:xfrm>
                <a:off x="3668400" y="-4605120"/>
                <a:ext cx="9576720" cy="2196720"/>
                <a:chOff x="3668400" y="-4605120"/>
                <a:chExt cx="9576720" cy="2196720"/>
              </a:xfrm>
            </p:grpSpPr>
            <p:sp>
              <p:nvSpPr>
                <p:cNvPr id="2810" name="Freeform 3554"/>
                <p:cNvSpPr/>
                <p:nvPr/>
              </p:nvSpPr>
              <p:spPr>
                <a:xfrm flipV="1">
                  <a:off x="3687120" y="-3705840"/>
                  <a:ext cx="9558000" cy="1297080"/>
                </a:xfrm>
                <a:custGeom>
                  <a:avLst/>
                  <a:gdLst/>
                  <a:ahLst/>
                  <a:rect l="l" t="t" r="r" b="b"/>
                  <a:pathLst>
                    <a:path w="6021" h="817">
                      <a:moveTo>
                        <a:pt x="0" y="743"/>
                      </a:moveTo>
                      <a:lnTo>
                        <a:pt x="120" y="631"/>
                      </a:lnTo>
                      <a:lnTo>
                        <a:pt x="2608" y="559"/>
                      </a:lnTo>
                      <a:lnTo>
                        <a:pt x="3932" y="455"/>
                      </a:lnTo>
                      <a:lnTo>
                        <a:pt x="5008" y="0"/>
                      </a:lnTo>
                      <a:cubicBezTo>
                        <a:pt x="5342" y="47"/>
                        <a:pt x="6021" y="703"/>
                        <a:pt x="6016" y="703"/>
                      </a:cubicBezTo>
                      <a:cubicBezTo>
                        <a:pt x="5613" y="817"/>
                        <a:pt x="3162" y="733"/>
                        <a:pt x="2608" y="703"/>
                      </a:cubicBezTo>
                      <a:lnTo>
                        <a:pt x="0" y="743"/>
                      </a:lnTo>
                      <a:close/>
                    </a:path>
                  </a:pathLst>
                </a:custGeom>
                <a:solidFill>
                  <a:srgbClr val="b7e5eb">
                    <a:alpha val="5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Freeform 3555"/>
                <p:cNvSpPr/>
                <p:nvPr/>
              </p:nvSpPr>
              <p:spPr>
                <a:xfrm>
                  <a:off x="3668400" y="-4605120"/>
                  <a:ext cx="9558000" cy="1296720"/>
                </a:xfrm>
                <a:custGeom>
                  <a:avLst/>
                  <a:gdLst/>
                  <a:ahLst/>
                  <a:rect l="l" t="t" r="r" b="b"/>
                  <a:pathLst>
                    <a:path w="6021" h="817">
                      <a:moveTo>
                        <a:pt x="0" y="743"/>
                      </a:moveTo>
                      <a:lnTo>
                        <a:pt x="120" y="631"/>
                      </a:lnTo>
                      <a:lnTo>
                        <a:pt x="2608" y="559"/>
                      </a:lnTo>
                      <a:lnTo>
                        <a:pt x="3932" y="455"/>
                      </a:lnTo>
                      <a:lnTo>
                        <a:pt x="5008" y="0"/>
                      </a:lnTo>
                      <a:cubicBezTo>
                        <a:pt x="5342" y="47"/>
                        <a:pt x="6021" y="703"/>
                        <a:pt x="6016" y="703"/>
                      </a:cubicBezTo>
                      <a:cubicBezTo>
                        <a:pt x="5613" y="817"/>
                        <a:pt x="3162" y="733"/>
                        <a:pt x="2608" y="703"/>
                      </a:cubicBezTo>
                      <a:lnTo>
                        <a:pt x="0" y="743"/>
                      </a:lnTo>
                      <a:close/>
                    </a:path>
                  </a:pathLst>
                </a:custGeom>
                <a:solidFill>
                  <a:srgbClr val="c1e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2" name="Rectangle 3556"/>
              <p:cNvSpPr/>
              <p:nvPr/>
            </p:nvSpPr>
            <p:spPr>
              <a:xfrm flipV="1">
                <a:off x="68400" y="-4031280"/>
                <a:ext cx="14093280" cy="1228680"/>
              </a:xfrm>
              <a:prstGeom prst="rect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50000">
                    <a:srgbClr val="e1ffff">
                      <a:alpha val="56078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3" name="Group 3557"/>
              <p:cNvGrpSpPr/>
              <p:nvPr/>
            </p:nvGrpSpPr>
            <p:grpSpPr>
              <a:xfrm>
                <a:off x="472680" y="-5432400"/>
                <a:ext cx="6113160" cy="4102200"/>
                <a:chOff x="472680" y="-5432400"/>
                <a:chExt cx="6113160" cy="4102200"/>
              </a:xfrm>
            </p:grpSpPr>
            <p:sp>
              <p:nvSpPr>
                <p:cNvPr id="2814" name="Freeform 3558"/>
                <p:cNvSpPr/>
                <p:nvPr/>
              </p:nvSpPr>
              <p:spPr>
                <a:xfrm>
                  <a:off x="472680" y="-3389400"/>
                  <a:ext cx="6084720" cy="2059200"/>
                </a:xfrm>
                <a:custGeom>
                  <a:avLst/>
                  <a:gdLst/>
                  <a:ahLst/>
                  <a:rect l="l" t="t" r="r" b="b"/>
                  <a:pathLst>
                    <a:path w="3833" h="1297">
                      <a:moveTo>
                        <a:pt x="0" y="18"/>
                      </a:moveTo>
                      <a:cubicBezTo>
                        <a:pt x="79" y="18"/>
                        <a:pt x="34" y="42"/>
                        <a:pt x="151" y="104"/>
                      </a:cubicBezTo>
                      <a:lnTo>
                        <a:pt x="707" y="386"/>
                      </a:lnTo>
                      <a:lnTo>
                        <a:pt x="1091" y="1057"/>
                      </a:lnTo>
                      <a:lnTo>
                        <a:pt x="1219" y="1297"/>
                      </a:lnTo>
                      <a:lnTo>
                        <a:pt x="1427" y="1049"/>
                      </a:lnTo>
                      <a:cubicBezTo>
                        <a:pt x="1490" y="980"/>
                        <a:pt x="1524" y="950"/>
                        <a:pt x="1595" y="881"/>
                      </a:cubicBezTo>
                      <a:lnTo>
                        <a:pt x="1851" y="635"/>
                      </a:lnTo>
                      <a:lnTo>
                        <a:pt x="3108" y="160"/>
                      </a:lnTo>
                      <a:lnTo>
                        <a:pt x="3833" y="13"/>
                      </a:lnTo>
                      <a:lnTo>
                        <a:pt x="3092" y="0"/>
                      </a:lnTo>
                      <a:cubicBezTo>
                        <a:pt x="2453" y="1"/>
                        <a:pt x="490" y="1"/>
                        <a:pt x="0" y="18"/>
                      </a:cubicBezTo>
                      <a:close/>
                    </a:path>
                  </a:pathLst>
                </a:custGeom>
                <a:solidFill>
                  <a:srgbClr val="9fcfff">
                    <a:alpha val="6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Freeform 3559"/>
                <p:cNvSpPr/>
                <p:nvPr/>
              </p:nvSpPr>
              <p:spPr>
                <a:xfrm>
                  <a:off x="472680" y="-5432400"/>
                  <a:ext cx="6113160" cy="2070000"/>
                </a:xfrm>
                <a:custGeom>
                  <a:avLst/>
                  <a:gdLst/>
                  <a:ahLst/>
                  <a:rect l="l" t="t" r="r" b="b"/>
                  <a:pathLst>
                    <a:path w="3851" h="1304">
                      <a:moveTo>
                        <a:pt x="0" y="1279"/>
                      </a:moveTo>
                      <a:cubicBezTo>
                        <a:pt x="79" y="1279"/>
                        <a:pt x="34" y="1255"/>
                        <a:pt x="151" y="1193"/>
                      </a:cubicBezTo>
                      <a:lnTo>
                        <a:pt x="707" y="911"/>
                      </a:lnTo>
                      <a:lnTo>
                        <a:pt x="1091" y="240"/>
                      </a:lnTo>
                      <a:lnTo>
                        <a:pt x="1219" y="0"/>
                      </a:lnTo>
                      <a:lnTo>
                        <a:pt x="1427" y="248"/>
                      </a:lnTo>
                      <a:cubicBezTo>
                        <a:pt x="1490" y="317"/>
                        <a:pt x="1524" y="347"/>
                        <a:pt x="1595" y="416"/>
                      </a:cubicBezTo>
                      <a:lnTo>
                        <a:pt x="1851" y="662"/>
                      </a:lnTo>
                      <a:lnTo>
                        <a:pt x="3108" y="1137"/>
                      </a:lnTo>
                      <a:lnTo>
                        <a:pt x="3851" y="1304"/>
                      </a:lnTo>
                      <a:lnTo>
                        <a:pt x="3092" y="1297"/>
                      </a:lnTo>
                      <a:cubicBezTo>
                        <a:pt x="2450" y="1293"/>
                        <a:pt x="490" y="1296"/>
                        <a:pt x="0" y="1279"/>
                      </a:cubicBezTo>
                      <a:close/>
                    </a:path>
                  </a:pathLst>
                </a:custGeom>
                <a:solidFill>
                  <a:srgbClr val="9fc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6" name="Group 3560"/>
              <p:cNvGrpSpPr/>
              <p:nvPr/>
            </p:nvGrpSpPr>
            <p:grpSpPr>
              <a:xfrm>
                <a:off x="9753480" y="-5216400"/>
                <a:ext cx="7107840" cy="3813120"/>
                <a:chOff x="9753480" y="-5216400"/>
                <a:chExt cx="7107840" cy="3813120"/>
              </a:xfrm>
            </p:grpSpPr>
            <p:sp>
              <p:nvSpPr>
                <p:cNvPr id="2817" name="Freeform 3561"/>
                <p:cNvSpPr/>
                <p:nvPr/>
              </p:nvSpPr>
              <p:spPr>
                <a:xfrm>
                  <a:off x="9753480" y="-5216400"/>
                  <a:ext cx="7035120" cy="2012760"/>
                </a:xfrm>
                <a:custGeom>
                  <a:avLst/>
                  <a:gdLst/>
                  <a:ahLst/>
                  <a:rect l="l" t="t" r="r" b="b"/>
                  <a:pathLst>
                    <a:path w="4432" h="1268">
                      <a:moveTo>
                        <a:pt x="577" y="1268"/>
                      </a:moveTo>
                      <a:cubicBezTo>
                        <a:pt x="0" y="1183"/>
                        <a:pt x="805" y="895"/>
                        <a:pt x="968" y="760"/>
                      </a:cubicBezTo>
                      <a:lnTo>
                        <a:pt x="1553" y="456"/>
                      </a:lnTo>
                      <a:lnTo>
                        <a:pt x="1846" y="202"/>
                      </a:lnTo>
                      <a:cubicBezTo>
                        <a:pt x="2033" y="177"/>
                        <a:pt x="2464" y="338"/>
                        <a:pt x="2675" y="304"/>
                      </a:cubicBezTo>
                      <a:lnTo>
                        <a:pt x="3115" y="0"/>
                      </a:lnTo>
                      <a:cubicBezTo>
                        <a:pt x="3310" y="51"/>
                        <a:pt x="3628" y="397"/>
                        <a:pt x="3847" y="608"/>
                      </a:cubicBezTo>
                      <a:lnTo>
                        <a:pt x="4432" y="1268"/>
                      </a:lnTo>
                      <a:lnTo>
                        <a:pt x="577" y="1268"/>
                      </a:lnTo>
                      <a:close/>
                    </a:path>
                  </a:pathLst>
                </a:custGeom>
                <a:solidFill>
                  <a:srgbClr val="a3d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Freeform 3562"/>
                <p:cNvSpPr/>
                <p:nvPr/>
              </p:nvSpPr>
              <p:spPr>
                <a:xfrm flipV="1">
                  <a:off x="9826200" y="-3416400"/>
                  <a:ext cx="7035120" cy="2013120"/>
                </a:xfrm>
                <a:custGeom>
                  <a:avLst/>
                  <a:gdLst/>
                  <a:ahLst/>
                  <a:rect l="l" t="t" r="r" b="b"/>
                  <a:pathLst>
                    <a:path w="4432" h="1268">
                      <a:moveTo>
                        <a:pt x="577" y="1268"/>
                      </a:moveTo>
                      <a:cubicBezTo>
                        <a:pt x="0" y="1183"/>
                        <a:pt x="805" y="895"/>
                        <a:pt x="968" y="760"/>
                      </a:cubicBezTo>
                      <a:lnTo>
                        <a:pt x="1553" y="456"/>
                      </a:lnTo>
                      <a:lnTo>
                        <a:pt x="1846" y="202"/>
                      </a:lnTo>
                      <a:cubicBezTo>
                        <a:pt x="2033" y="177"/>
                        <a:pt x="2464" y="338"/>
                        <a:pt x="2675" y="304"/>
                      </a:cubicBezTo>
                      <a:lnTo>
                        <a:pt x="3115" y="0"/>
                      </a:lnTo>
                      <a:cubicBezTo>
                        <a:pt x="3310" y="51"/>
                        <a:pt x="3628" y="397"/>
                        <a:pt x="3847" y="608"/>
                      </a:cubicBezTo>
                      <a:lnTo>
                        <a:pt x="4432" y="1268"/>
                      </a:lnTo>
                      <a:lnTo>
                        <a:pt x="577" y="1268"/>
                      </a:lnTo>
                      <a:close/>
                    </a:path>
                  </a:pathLst>
                </a:custGeom>
                <a:solidFill>
                  <a:srgbClr val="a3d5ff">
                    <a:alpha val="7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9" name="Group 3563"/>
              <p:cNvGrpSpPr/>
              <p:nvPr/>
            </p:nvGrpSpPr>
            <p:grpSpPr>
              <a:xfrm>
                <a:off x="9897840" y="-5432400"/>
                <a:ext cx="8355960" cy="5181480"/>
                <a:chOff x="9897840" y="-5432400"/>
                <a:chExt cx="8355960" cy="5181480"/>
              </a:xfrm>
            </p:grpSpPr>
            <p:sp>
              <p:nvSpPr>
                <p:cNvPr id="2820" name="Freeform 3564"/>
                <p:cNvSpPr/>
                <p:nvPr/>
              </p:nvSpPr>
              <p:spPr>
                <a:xfrm flipV="1">
                  <a:off x="9897840" y="-2937240"/>
                  <a:ext cx="8335800" cy="2685960"/>
                </a:xfrm>
                <a:custGeom>
                  <a:avLst/>
                  <a:gdLst/>
                  <a:ahLst/>
                  <a:rect l="l" t="t" r="r" b="b"/>
                  <a:pathLst>
                    <a:path w="5251" h="1692">
                      <a:moveTo>
                        <a:pt x="571" y="1680"/>
                      </a:moveTo>
                      <a:cubicBezTo>
                        <a:pt x="0" y="1605"/>
                        <a:pt x="819" y="1401"/>
                        <a:pt x="979" y="1272"/>
                      </a:cubicBezTo>
                      <a:lnTo>
                        <a:pt x="1529" y="908"/>
                      </a:lnTo>
                      <a:lnTo>
                        <a:pt x="2155" y="276"/>
                      </a:lnTo>
                      <a:cubicBezTo>
                        <a:pt x="2347" y="127"/>
                        <a:pt x="2537" y="24"/>
                        <a:pt x="2683" y="12"/>
                      </a:cubicBezTo>
                      <a:cubicBezTo>
                        <a:pt x="2829" y="0"/>
                        <a:pt x="2935" y="154"/>
                        <a:pt x="3031" y="204"/>
                      </a:cubicBezTo>
                      <a:lnTo>
                        <a:pt x="3259" y="312"/>
                      </a:lnTo>
                      <a:cubicBezTo>
                        <a:pt x="3571" y="480"/>
                        <a:pt x="4571" y="982"/>
                        <a:pt x="4903" y="1212"/>
                      </a:cubicBezTo>
                      <a:lnTo>
                        <a:pt x="5251" y="1692"/>
                      </a:lnTo>
                      <a:lnTo>
                        <a:pt x="571" y="1680"/>
                      </a:lnTo>
                      <a:close/>
                    </a:path>
                  </a:pathLst>
                </a:custGeom>
                <a:solidFill>
                  <a:srgbClr val="89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1" name="Freeform 3565"/>
                <p:cNvSpPr/>
                <p:nvPr/>
              </p:nvSpPr>
              <p:spPr>
                <a:xfrm>
                  <a:off x="9918360" y="-5432400"/>
                  <a:ext cx="8335440" cy="2685960"/>
                </a:xfrm>
                <a:custGeom>
                  <a:avLst/>
                  <a:gdLst/>
                  <a:ahLst/>
                  <a:rect l="l" t="t" r="r" b="b"/>
                  <a:pathLst>
                    <a:path w="5251" h="1692">
                      <a:moveTo>
                        <a:pt x="571" y="1680"/>
                      </a:moveTo>
                      <a:cubicBezTo>
                        <a:pt x="0" y="1605"/>
                        <a:pt x="819" y="1401"/>
                        <a:pt x="979" y="1272"/>
                      </a:cubicBezTo>
                      <a:lnTo>
                        <a:pt x="1529" y="908"/>
                      </a:lnTo>
                      <a:lnTo>
                        <a:pt x="2155" y="276"/>
                      </a:lnTo>
                      <a:cubicBezTo>
                        <a:pt x="2347" y="127"/>
                        <a:pt x="2537" y="24"/>
                        <a:pt x="2683" y="12"/>
                      </a:cubicBezTo>
                      <a:cubicBezTo>
                        <a:pt x="2829" y="0"/>
                        <a:pt x="2935" y="154"/>
                        <a:pt x="3031" y="204"/>
                      </a:cubicBezTo>
                      <a:lnTo>
                        <a:pt x="3259" y="312"/>
                      </a:lnTo>
                      <a:cubicBezTo>
                        <a:pt x="3571" y="480"/>
                        <a:pt x="4571" y="982"/>
                        <a:pt x="4903" y="1212"/>
                      </a:cubicBezTo>
                      <a:lnTo>
                        <a:pt x="5251" y="1692"/>
                      </a:lnTo>
                      <a:lnTo>
                        <a:pt x="571" y="1680"/>
                      </a:lnTo>
                      <a:close/>
                    </a:path>
                  </a:pathLst>
                </a:custGeom>
                <a:solidFill>
                  <a:srgbClr val="6db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2" name="Group 3566"/>
              <p:cNvGrpSpPr/>
              <p:nvPr/>
            </p:nvGrpSpPr>
            <p:grpSpPr>
              <a:xfrm>
                <a:off x="104400" y="-4281480"/>
                <a:ext cx="3961800" cy="2521080"/>
                <a:chOff x="104400" y="-4281480"/>
                <a:chExt cx="3961800" cy="2521080"/>
              </a:xfrm>
            </p:grpSpPr>
            <p:sp>
              <p:nvSpPr>
                <p:cNvPr id="2823" name="Freeform 3567"/>
                <p:cNvSpPr/>
                <p:nvPr/>
              </p:nvSpPr>
              <p:spPr>
                <a:xfrm>
                  <a:off x="126360" y="-3084480"/>
                  <a:ext cx="3939840" cy="1324080"/>
                </a:xfrm>
                <a:custGeom>
                  <a:avLst/>
                  <a:gdLst/>
                  <a:ahLst/>
                  <a:rect l="l" t="t" r="r" b="b"/>
                  <a:pathLst>
                    <a:path w="2482" h="834">
                      <a:moveTo>
                        <a:pt x="0" y="46"/>
                      </a:moveTo>
                      <a:cubicBezTo>
                        <a:pt x="70" y="42"/>
                        <a:pt x="84" y="51"/>
                        <a:pt x="138" y="115"/>
                      </a:cubicBezTo>
                      <a:cubicBezTo>
                        <a:pt x="191" y="180"/>
                        <a:pt x="256" y="331"/>
                        <a:pt x="320" y="434"/>
                      </a:cubicBezTo>
                      <a:cubicBezTo>
                        <a:pt x="384" y="538"/>
                        <a:pt x="455" y="675"/>
                        <a:pt x="526" y="736"/>
                      </a:cubicBezTo>
                      <a:cubicBezTo>
                        <a:pt x="597" y="797"/>
                        <a:pt x="559" y="834"/>
                        <a:pt x="749" y="796"/>
                      </a:cubicBezTo>
                      <a:cubicBezTo>
                        <a:pt x="939" y="758"/>
                        <a:pt x="1434" y="628"/>
                        <a:pt x="1663" y="512"/>
                      </a:cubicBezTo>
                      <a:cubicBezTo>
                        <a:pt x="1892" y="396"/>
                        <a:pt x="2046" y="182"/>
                        <a:pt x="2123" y="97"/>
                      </a:cubicBezTo>
                      <a:cubicBezTo>
                        <a:pt x="2200" y="12"/>
                        <a:pt x="2482" y="8"/>
                        <a:pt x="2128" y="0"/>
                      </a:cubicBez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9bc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Freeform 3568"/>
                <p:cNvSpPr/>
                <p:nvPr/>
              </p:nvSpPr>
              <p:spPr>
                <a:xfrm>
                  <a:off x="104400" y="-4281480"/>
                  <a:ext cx="3958920" cy="1292400"/>
                </a:xfrm>
                <a:custGeom>
                  <a:avLst/>
                  <a:gdLst/>
                  <a:ahLst/>
                  <a:rect l="l" t="t" r="r" b="b"/>
                  <a:pathLst>
                    <a:path w="2494" h="814">
                      <a:moveTo>
                        <a:pt x="0" y="814"/>
                      </a:moveTo>
                      <a:cubicBezTo>
                        <a:pt x="70" y="814"/>
                        <a:pt x="83" y="805"/>
                        <a:pt x="134" y="738"/>
                      </a:cubicBezTo>
                      <a:cubicBezTo>
                        <a:pt x="184" y="671"/>
                        <a:pt x="242" y="517"/>
                        <a:pt x="301" y="411"/>
                      </a:cubicBezTo>
                      <a:cubicBezTo>
                        <a:pt x="360" y="304"/>
                        <a:pt x="424" y="163"/>
                        <a:pt x="492" y="99"/>
                      </a:cubicBezTo>
                      <a:cubicBezTo>
                        <a:pt x="560" y="35"/>
                        <a:pt x="520" y="0"/>
                        <a:pt x="712" y="28"/>
                      </a:cubicBezTo>
                      <a:cubicBezTo>
                        <a:pt x="903" y="57"/>
                        <a:pt x="1390" y="158"/>
                        <a:pt x="1638" y="268"/>
                      </a:cubicBezTo>
                      <a:cubicBezTo>
                        <a:pt x="1886" y="378"/>
                        <a:pt x="2120" y="610"/>
                        <a:pt x="2201" y="691"/>
                      </a:cubicBezTo>
                      <a:cubicBezTo>
                        <a:pt x="2282" y="772"/>
                        <a:pt x="2494" y="737"/>
                        <a:pt x="2127" y="757"/>
                      </a:cubicBezTo>
                      <a:lnTo>
                        <a:pt x="0" y="814"/>
                      </a:lnTo>
                      <a:close/>
                    </a:path>
                  </a:pathLst>
                </a:custGeom>
                <a:solidFill>
                  <a:srgbClr val="75b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25" name="Picture 3569" descr="D副本"/>
              <p:cNvPicPr/>
              <p:nvPr/>
            </p:nvPicPr>
            <p:blipFill>
              <a:blip r:embed="rId5"/>
              <a:stretch/>
            </p:blipFill>
            <p:spPr>
              <a:xfrm>
                <a:off x="12445560" y="-2616120"/>
                <a:ext cx="27288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6" name="Picture 3570" descr="D副本"/>
              <p:cNvPicPr/>
              <p:nvPr/>
            </p:nvPicPr>
            <p:blipFill>
              <a:blip r:embed="rId6"/>
              <a:stretch/>
            </p:blipFill>
            <p:spPr>
              <a:xfrm>
                <a:off x="12171240" y="-2625480"/>
                <a:ext cx="394920" cy="487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7" name="Group 3600"/>
          <p:cNvGrpSpPr/>
          <p:nvPr/>
        </p:nvGrpSpPr>
        <p:grpSpPr>
          <a:xfrm>
            <a:off x="5481360" y="6630840"/>
            <a:ext cx="3108960" cy="1859040"/>
            <a:chOff x="5481360" y="6630840"/>
            <a:chExt cx="3108960" cy="1859040"/>
          </a:xfrm>
        </p:grpSpPr>
        <p:sp>
          <p:nvSpPr>
            <p:cNvPr id="2828" name="Freeform 3601"/>
            <p:cNvSpPr/>
            <p:nvPr/>
          </p:nvSpPr>
          <p:spPr>
            <a:xfrm rot="19800000">
              <a:off x="7085880" y="6870600"/>
              <a:ext cx="1285920" cy="1218240"/>
            </a:xfrm>
            <a:custGeom>
              <a:avLst/>
              <a:gdLst/>
              <a:ahLst/>
              <a:rect l="l" t="t" r="r" b="b"/>
              <a:pathLst>
                <a:path w="3512" h="3327">
                  <a:moveTo>
                    <a:pt x="609" y="9"/>
                  </a:moveTo>
                  <a:lnTo>
                    <a:pt x="597" y="0"/>
                  </a:lnTo>
                  <a:lnTo>
                    <a:pt x="591" y="9"/>
                  </a:lnTo>
                  <a:lnTo>
                    <a:pt x="0" y="1759"/>
                  </a:lnTo>
                  <a:lnTo>
                    <a:pt x="2460" y="3327"/>
                  </a:lnTo>
                  <a:lnTo>
                    <a:pt x="3512" y="3117"/>
                  </a:lnTo>
                  <a:lnTo>
                    <a:pt x="60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3602"/>
            <p:cNvSpPr/>
            <p:nvPr/>
          </p:nvSpPr>
          <p:spPr>
            <a:xfrm rot="19800000">
              <a:off x="5578560" y="7202520"/>
              <a:ext cx="1610640" cy="820800"/>
            </a:xfrm>
            <a:custGeom>
              <a:avLst/>
              <a:gdLst/>
              <a:ahLst/>
              <a:rect l="l" t="t" r="r" b="b"/>
              <a:pathLst>
                <a:path w="4398" h="2242">
                  <a:moveTo>
                    <a:pt x="4391" y="1027"/>
                  </a:moveTo>
                  <a:lnTo>
                    <a:pt x="4398" y="990"/>
                  </a:lnTo>
                  <a:lnTo>
                    <a:pt x="32" y="0"/>
                  </a:lnTo>
                  <a:lnTo>
                    <a:pt x="0" y="19"/>
                  </a:lnTo>
                  <a:lnTo>
                    <a:pt x="216" y="912"/>
                  </a:lnTo>
                  <a:lnTo>
                    <a:pt x="2945" y="2242"/>
                  </a:lnTo>
                  <a:lnTo>
                    <a:pt x="4346" y="1065"/>
                  </a:lnTo>
                  <a:lnTo>
                    <a:pt x="4391" y="1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3603"/>
            <p:cNvSpPr/>
            <p:nvPr/>
          </p:nvSpPr>
          <p:spPr>
            <a:xfrm rot="19800000">
              <a:off x="6750000" y="7247880"/>
              <a:ext cx="640440" cy="1155960"/>
            </a:xfrm>
            <a:custGeom>
              <a:avLst/>
              <a:gdLst/>
              <a:ahLst/>
              <a:rect l="l" t="t" r="r" b="b"/>
              <a:pathLst>
                <a:path w="1749" h="3157">
                  <a:moveTo>
                    <a:pt x="0" y="3157"/>
                  </a:moveTo>
                  <a:lnTo>
                    <a:pt x="1749" y="0"/>
                  </a:lnTo>
                  <a:lnTo>
                    <a:pt x="273" y="1252"/>
                  </a:lnTo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3604"/>
            <p:cNvSpPr/>
            <p:nvPr/>
          </p:nvSpPr>
          <p:spPr>
            <a:xfrm rot="19800000">
              <a:off x="6751440" y="7247880"/>
              <a:ext cx="638640" cy="1156680"/>
            </a:xfrm>
            <a:custGeom>
              <a:avLst/>
              <a:gdLst/>
              <a:ahLst/>
              <a:rect l="l" t="t" r="r" b="b"/>
              <a:pathLst>
                <a:path w="1744" h="3159">
                  <a:moveTo>
                    <a:pt x="1744" y="0"/>
                  </a:moveTo>
                  <a:lnTo>
                    <a:pt x="20" y="3104"/>
                  </a:lnTo>
                  <a:lnTo>
                    <a:pt x="0" y="3159"/>
                  </a:lnTo>
                  <a:lnTo>
                    <a:pt x="1169" y="1790"/>
                  </a:lnTo>
                  <a:lnTo>
                    <a:pt x="1144" y="1745"/>
                  </a:lnTo>
                  <a:lnTo>
                    <a:pt x="174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3605"/>
            <p:cNvSpPr/>
            <p:nvPr/>
          </p:nvSpPr>
          <p:spPr>
            <a:xfrm rot="19800000">
              <a:off x="6922800" y="7900560"/>
              <a:ext cx="432720" cy="509760"/>
            </a:xfrm>
            <a:custGeom>
              <a:avLst/>
              <a:gdLst/>
              <a:ahLst/>
              <a:rect l="l" t="t" r="r" b="b"/>
              <a:pathLst>
                <a:path w="1182" h="1392">
                  <a:moveTo>
                    <a:pt x="1182" y="24"/>
                  </a:moveTo>
                  <a:lnTo>
                    <a:pt x="1158" y="0"/>
                  </a:lnTo>
                  <a:lnTo>
                    <a:pt x="0" y="1392"/>
                  </a:lnTo>
                  <a:lnTo>
                    <a:pt x="30" y="1383"/>
                  </a:lnTo>
                  <a:lnTo>
                    <a:pt x="1182" y="24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3606"/>
            <p:cNvSpPr/>
            <p:nvPr/>
          </p:nvSpPr>
          <p:spPr>
            <a:xfrm rot="277800">
              <a:off x="7187040" y="7835040"/>
              <a:ext cx="1069920" cy="45360"/>
            </a:xfrm>
            <a:custGeom>
              <a:avLst/>
              <a:gdLst/>
              <a:ahLst/>
              <a:rect l="l" t="t" r="r" b="b"/>
              <a:pathLst>
                <a:path w="576" h="33">
                  <a:moveTo>
                    <a:pt x="9" y="33"/>
                  </a:moveTo>
                  <a:lnTo>
                    <a:pt x="21" y="33"/>
                  </a:lnTo>
                  <a:lnTo>
                    <a:pt x="576" y="6"/>
                  </a:lnTo>
                  <a:lnTo>
                    <a:pt x="576" y="0"/>
                  </a:lnTo>
                  <a:lnTo>
                    <a:pt x="0" y="27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464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3607"/>
            <p:cNvSpPr/>
            <p:nvPr/>
          </p:nvSpPr>
          <p:spPr>
            <a:xfrm rot="19800000">
              <a:off x="6898320" y="7809120"/>
              <a:ext cx="106560" cy="700920"/>
            </a:xfrm>
            <a:custGeom>
              <a:avLst/>
              <a:gdLst/>
              <a:ahLst/>
              <a:rect l="l" t="t" r="r" b="b"/>
              <a:pathLst>
                <a:path w="291" h="1914">
                  <a:moveTo>
                    <a:pt x="291" y="0"/>
                  </a:moveTo>
                  <a:lnTo>
                    <a:pt x="276" y="1"/>
                  </a:lnTo>
                  <a:lnTo>
                    <a:pt x="0" y="1863"/>
                  </a:lnTo>
                  <a:lnTo>
                    <a:pt x="9" y="1914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3608"/>
            <p:cNvSpPr/>
            <p:nvPr/>
          </p:nvSpPr>
          <p:spPr>
            <a:xfrm rot="277800">
              <a:off x="5721480" y="7788600"/>
              <a:ext cx="1097280" cy="174240"/>
            </a:xfrm>
            <a:custGeom>
              <a:avLst/>
              <a:gdLst/>
              <a:ahLst/>
              <a:rect l="l" t="t" r="r" b="b"/>
              <a:pathLst>
                <a:path w="591" h="126">
                  <a:moveTo>
                    <a:pt x="591" y="6"/>
                  </a:moveTo>
                  <a:lnTo>
                    <a:pt x="588" y="0"/>
                  </a:lnTo>
                  <a:lnTo>
                    <a:pt x="0" y="120"/>
                  </a:lnTo>
                  <a:lnTo>
                    <a:pt x="15" y="126"/>
                  </a:lnTo>
                  <a:lnTo>
                    <a:pt x="591" y="6"/>
                  </a:lnTo>
                  <a:close/>
                </a:path>
              </a:pathLst>
            </a:custGeom>
            <a:solidFill>
              <a:srgbClr val="545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3609"/>
            <p:cNvSpPr/>
            <p:nvPr/>
          </p:nvSpPr>
          <p:spPr>
            <a:xfrm rot="277800">
              <a:off x="8268120" y="7608240"/>
              <a:ext cx="284040" cy="290160"/>
            </a:xfrm>
            <a:custGeom>
              <a:avLst/>
              <a:gdLst/>
              <a:ahLst/>
              <a:rect l="l" t="t" r="r" b="b"/>
              <a:pathLst>
                <a:path w="153" h="210">
                  <a:moveTo>
                    <a:pt x="153" y="6"/>
                  </a:moveTo>
                  <a:lnTo>
                    <a:pt x="147" y="0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6f6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2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2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">
                                      <p:cBhvr>
                                        <p:cTn id="526" dur="3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1828E-006 -3.96825E-006 L -0.00473 0.8478 E">
                                      <p:cBhvr>
                                        <p:cTn id="528" dur="2200" fill="hold"/>
                                        <p:tgtEl>
                                          <p:spTgt spid="2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99742E-006 -4.17989E-006 L 0.1542 0.02805 E">
                                      <p:cBhvr>
                                        <p:cTn id="533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957E-006 -1.12755E-007 L 0.23881 0.08791 E">
                                      <p:cBhvr>
                                        <p:cTn id="535" dur="5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4301E-006 -5.21494E-007 L 0.04398 0.01004 E">
                                      <p:cBhvr>
                                        <p:cTn id="537" dur="5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9" dur="5000" fill="hold"/>
                                        <p:tgtEl>
                                          <p:spTgt spid="76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5000" fill="hold"/>
                                        <p:tgtEl>
                                          <p:spTgt spid="76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317E-006 2.32804E-006 L -0.09768 2.32804E-006 E">
                                      <p:cBhvr>
                                        <p:cTn id="543" dur="5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853E-006 -2.94533E-006 L -0.13658 0.05997 E">
                                      <p:cBhvr>
                                        <p:cTn id="545" dur="5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7" dur="5000" fill="hold"/>
                                        <p:tgtEl>
                                          <p:spTgt spid="782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2117E-007 -2.2567E-007 L -0.4347 0.25899 E">
                                      <p:cBhvr>
                                        <p:cTn id="553" dur="50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4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4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4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4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3" dur="4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6" dur="4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4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4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4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4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1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7" dur="6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1" repeatCount="indefinite">
                                  <p:stCondLst>
                                    <p:cond delay="1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6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4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4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500" autoRev="1" fill="hold"/>
                                        <p:tgtEl>
                                          <p:spTgt spid="8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0947E-006 -3.94922E-007 L -0.39555 0.23466 E">
                                      <p:cBhvr>
                                        <p:cTn id="600" dur="5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60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3253E-006 9.30889E-007 L 0.44341 0.14951 E">
                                      <p:cBhvr>
                                        <p:cTn id="604" dur="5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6" dur="5000" fill="hold"/>
                                        <p:tgtEl>
                                          <p:spTgt spid="82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0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60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1895E-007 1.1607E-006 L 0.40955 0.10937 E">
                                      <p:cBhvr>
                                        <p:cTn id="610" dur="5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5000" fill="hold"/>
                                        <p:tgtEl>
                                          <p:spTgt spid="82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4839E-006 -4.25044E-006 L -0.43365 0.23193 E">
                                      <p:cBhvr>
                                        <p:cTn id="618" dur="5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7527E-007 4.26808E-006 L 0.36828 0.17407 E">
                                      <p:cBhvr>
                                        <p:cTn id="624" dur="5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828E-006 2.90345E-006 L 0.33903 0.17124 E">
                                      <p:cBhvr>
                                        <p:cTn id="630" dur="5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15054E-006 -1.78131E-006 L 0.36925 0.1642 E">
                                      <p:cBhvr>
                                        <p:cTn id="636" dur="5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7391E-006 -0.00318 L 0.27091 0.14517 E">
                                      <p:cBhvr>
                                        <p:cTn id="642" dur="5000" fill="hold"/>
                                        <p:tgtEl>
                                          <p:spTgt spid="10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2607E-006 4.67984E-006 L 0.27113 0.15082 E">
                                      <p:cBhvr>
                                        <p:cTn id="648" dur="5000" fill="hold"/>
                                        <p:tgtEl>
                                          <p:spTgt spid="10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2607E-006 4.67984E-006 L 0.27113 0.15082 E">
                                      <p:cBhvr>
                                        <p:cTn id="654" dur="50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2043E-006 -3.01587E-006 L -0.4314 0.22752 E">
                                      <p:cBhvr>
                                        <p:cTn id="660" dur="5000" fill="hold"/>
                                        <p:tgtEl>
                                          <p:spTgt spid="1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83871E-006 2.48677E-006 L -0.41591 0.10652 E">
                                      <p:cBhvr>
                                        <p:cTn id="666" dur="5000" fill="hold"/>
                                        <p:tgtEl>
                                          <p:spTgt spid="1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2688E-007 2.4515E-006 L -0.42172 0.22451 E">
                                      <p:cBhvr>
                                        <p:cTn id="672" dur="5000" fill="hold"/>
                                        <p:tgtEl>
                                          <p:spTgt spid="1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47 0.00864 L -0.48796 0.14003 E">
                                      <p:cBhvr>
                                        <p:cTn id="678" dur="5000" fill="hold"/>
                                        <p:tgtEl>
                                          <p:spTgt spid="1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11287E-007 L -0.36344 0.04533 E">
                                      <p:cBhvr>
                                        <p:cTn id="684" dur="5000" fill="hold"/>
                                        <p:tgtEl>
                                          <p:spTgt spid="1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6344E-006 2.99824E-006 L -0.43097 0.10882 E">
                                      <p:cBhvr>
                                        <p:cTn id="690" dur="5000" fill="hold"/>
                                        <p:tgtEl>
                                          <p:spTgt spid="2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2688E-007 1.02293E-006 L -0.34376 0.02434 E">
                                      <p:cBhvr>
                                        <p:cTn id="696" dur="5000" fill="hold"/>
                                        <p:tgtEl>
                                          <p:spTgt spid="2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1" repeatCount="1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9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0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1" repeatCount="1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0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1" repeatCount="100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1" repeatCount="1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0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1" repeatCount="100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0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1" repeatCount="1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1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1" repeatCount="1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1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1" repeatCount="1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1" repeatCount="1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1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1" repeatCount="1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2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1" repeatCount="1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2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1" repeatCount="1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2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1" repeatCount="100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73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1" repeatCount="1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3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1" repeatCount="1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73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1" repeatCount="100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3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1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1" repeatCount="100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4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1" repeatCount="100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4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1" repeatCount="100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4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1" repeatCount="100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74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2" presetSubtype="2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1507E-006 -7.34463E-007 L 0.60939 -0.47281 E">
                                      <p:cBhvr>
                                        <p:cTn id="761" dur="3200" fill="hold"/>
                                        <p:tgtEl>
                                          <p:spTgt spid="2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11972E-006 4.18079E-006 L 0.61337 -0.46487 E">
                                      <p:cBhvr>
                                        <p:cTn id="768" dur="3200" fill="hold"/>
                                        <p:tgtEl>
                                          <p:spTgt spid="2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0212 L -0.00087 -0.61282 E">
                                      <p:cBhvr>
                                        <p:cTn id="770" dur="1400" fill="hold"/>
                                        <p:tgtEl>
                                          <p:spTgt spid="2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evt="end">
                                        <p:tn val="769"/>
                                      </p:cond>
                                    </p:stCondLst>
                                  </p:cTn>
                                  <p:tgtEl>
                                    <p:spTgt spid="2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7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3" dur="1400" fill="hold"/>
                                        <p:tgtEl>
                                          <p:spTgt spid="2827"/>
                                        </p:tgtEl>
                                      </p:cBhvr>
                                      <p:to x="30209.9990844727" y="30209.9990844727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7" name="Group 197"/>
          <p:cNvGrpSpPr/>
          <p:nvPr/>
        </p:nvGrpSpPr>
        <p:grpSpPr>
          <a:xfrm>
            <a:off x="-252360" y="0"/>
            <a:ext cx="15193440" cy="24834960"/>
            <a:chOff x="-252360" y="0"/>
            <a:chExt cx="15193440" cy="24834960"/>
          </a:xfrm>
        </p:grpSpPr>
        <p:sp>
          <p:nvSpPr>
            <p:cNvPr id="2838" name="Rectangle 13"/>
            <p:cNvSpPr/>
            <p:nvPr/>
          </p:nvSpPr>
          <p:spPr>
            <a:xfrm>
              <a:off x="-36360" y="0"/>
              <a:ext cx="14906520" cy="2771640"/>
            </a:xfrm>
            <a:prstGeom prst="rect">
              <a:avLst/>
            </a:prstGeom>
            <a:gradFill rotWithShape="0">
              <a:gsLst>
                <a:gs pos="0">
                  <a:srgbClr val="00aad2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9" name="Group 14"/>
            <p:cNvGrpSpPr/>
            <p:nvPr/>
          </p:nvGrpSpPr>
          <p:grpSpPr>
            <a:xfrm>
              <a:off x="-252360" y="2266920"/>
              <a:ext cx="15193440" cy="722520"/>
              <a:chOff x="-252360" y="2266920"/>
              <a:chExt cx="15193440" cy="722520"/>
            </a:xfrm>
          </p:grpSpPr>
          <p:sp>
            <p:nvSpPr>
              <p:cNvPr id="2840" name="Freeform 15"/>
              <p:cNvSpPr/>
              <p:nvPr/>
            </p:nvSpPr>
            <p:spPr>
              <a:xfrm>
                <a:off x="42480" y="2266920"/>
                <a:ext cx="14828040" cy="609840"/>
              </a:xfrm>
              <a:custGeom>
                <a:avLst/>
                <a:gdLst/>
                <a:ahLst/>
                <a:rect l="l" t="t" r="r" b="b"/>
                <a:pathLst>
                  <a:path w="2804" h="234">
                    <a:moveTo>
                      <a:pt x="22" y="37"/>
                    </a:moveTo>
                    <a:cubicBezTo>
                      <a:pt x="55" y="35"/>
                      <a:pt x="84" y="30"/>
                      <a:pt x="115" y="39"/>
                    </a:cubicBezTo>
                    <a:cubicBezTo>
                      <a:pt x="140" y="32"/>
                      <a:pt x="160" y="41"/>
                      <a:pt x="174" y="44"/>
                    </a:cubicBezTo>
                    <a:cubicBezTo>
                      <a:pt x="181" y="46"/>
                      <a:pt x="191" y="45"/>
                      <a:pt x="196" y="47"/>
                    </a:cubicBezTo>
                    <a:cubicBezTo>
                      <a:pt x="208" y="45"/>
                      <a:pt x="218" y="41"/>
                      <a:pt x="227" y="38"/>
                    </a:cubicBezTo>
                    <a:cubicBezTo>
                      <a:pt x="266" y="40"/>
                      <a:pt x="263" y="53"/>
                      <a:pt x="293" y="57"/>
                    </a:cubicBezTo>
                    <a:cubicBezTo>
                      <a:pt x="307" y="61"/>
                      <a:pt x="395" y="57"/>
                      <a:pt x="405" y="55"/>
                    </a:cubicBezTo>
                    <a:cubicBezTo>
                      <a:pt x="444" y="55"/>
                      <a:pt x="482" y="72"/>
                      <a:pt x="502" y="80"/>
                    </a:cubicBezTo>
                    <a:cubicBezTo>
                      <a:pt x="502" y="80"/>
                      <a:pt x="502" y="80"/>
                      <a:pt x="502" y="81"/>
                    </a:cubicBezTo>
                    <a:cubicBezTo>
                      <a:pt x="504" y="80"/>
                      <a:pt x="506" y="80"/>
                      <a:pt x="508" y="80"/>
                    </a:cubicBezTo>
                    <a:cubicBezTo>
                      <a:pt x="511" y="79"/>
                      <a:pt x="516" y="75"/>
                      <a:pt x="520" y="72"/>
                    </a:cubicBezTo>
                    <a:cubicBezTo>
                      <a:pt x="563" y="74"/>
                      <a:pt x="574" y="88"/>
                      <a:pt x="620" y="93"/>
                    </a:cubicBezTo>
                    <a:cubicBezTo>
                      <a:pt x="632" y="84"/>
                      <a:pt x="654" y="79"/>
                      <a:pt x="667" y="71"/>
                    </a:cubicBezTo>
                    <a:cubicBezTo>
                      <a:pt x="694" y="68"/>
                      <a:pt x="699" y="68"/>
                      <a:pt x="723" y="69"/>
                    </a:cubicBezTo>
                    <a:cubicBezTo>
                      <a:pt x="779" y="56"/>
                      <a:pt x="779" y="56"/>
                      <a:pt x="779" y="56"/>
                    </a:cubicBezTo>
                    <a:cubicBezTo>
                      <a:pt x="792" y="56"/>
                      <a:pt x="791" y="56"/>
                      <a:pt x="794" y="59"/>
                    </a:cubicBezTo>
                    <a:cubicBezTo>
                      <a:pt x="807" y="57"/>
                      <a:pt x="824" y="55"/>
                      <a:pt x="835" y="52"/>
                    </a:cubicBezTo>
                    <a:cubicBezTo>
                      <a:pt x="847" y="53"/>
                      <a:pt x="847" y="53"/>
                      <a:pt x="854" y="55"/>
                    </a:cubicBezTo>
                    <a:cubicBezTo>
                      <a:pt x="864" y="57"/>
                      <a:pt x="876" y="52"/>
                      <a:pt x="888" y="51"/>
                    </a:cubicBezTo>
                    <a:cubicBezTo>
                      <a:pt x="900" y="54"/>
                      <a:pt x="909" y="46"/>
                      <a:pt x="919" y="44"/>
                    </a:cubicBezTo>
                    <a:cubicBezTo>
                      <a:pt x="934" y="42"/>
                      <a:pt x="951" y="43"/>
                      <a:pt x="969" y="41"/>
                    </a:cubicBezTo>
                    <a:cubicBezTo>
                      <a:pt x="981" y="39"/>
                      <a:pt x="1005" y="34"/>
                      <a:pt x="1016" y="31"/>
                    </a:cubicBezTo>
                    <a:cubicBezTo>
                      <a:pt x="1028" y="27"/>
                      <a:pt x="1019" y="22"/>
                      <a:pt x="1031" y="17"/>
                    </a:cubicBezTo>
                    <a:cubicBezTo>
                      <a:pt x="1037" y="16"/>
                      <a:pt x="1041" y="19"/>
                      <a:pt x="1050" y="17"/>
                    </a:cubicBezTo>
                    <a:cubicBezTo>
                      <a:pt x="1053" y="15"/>
                      <a:pt x="1056" y="13"/>
                      <a:pt x="1059" y="12"/>
                    </a:cubicBezTo>
                    <a:cubicBezTo>
                      <a:pt x="1073" y="10"/>
                      <a:pt x="1086" y="9"/>
                      <a:pt x="1100" y="8"/>
                    </a:cubicBezTo>
                    <a:cubicBezTo>
                      <a:pt x="1111" y="6"/>
                      <a:pt x="1119" y="3"/>
                      <a:pt x="1131" y="1"/>
                    </a:cubicBezTo>
                    <a:cubicBezTo>
                      <a:pt x="1138" y="0"/>
                      <a:pt x="1141" y="4"/>
                      <a:pt x="1150" y="4"/>
                    </a:cubicBezTo>
                    <a:cubicBezTo>
                      <a:pt x="1197" y="1"/>
                      <a:pt x="1248" y="27"/>
                      <a:pt x="1271" y="39"/>
                    </a:cubicBezTo>
                    <a:cubicBezTo>
                      <a:pt x="1280" y="43"/>
                      <a:pt x="1278" y="51"/>
                      <a:pt x="1293" y="54"/>
                    </a:cubicBezTo>
                    <a:cubicBezTo>
                      <a:pt x="1296" y="54"/>
                      <a:pt x="1294" y="54"/>
                      <a:pt x="1299" y="55"/>
                    </a:cubicBezTo>
                    <a:cubicBezTo>
                      <a:pt x="1310" y="49"/>
                      <a:pt x="1321" y="41"/>
                      <a:pt x="1337" y="37"/>
                    </a:cubicBezTo>
                    <a:cubicBezTo>
                      <a:pt x="1348" y="34"/>
                      <a:pt x="1355" y="33"/>
                      <a:pt x="1362" y="29"/>
                    </a:cubicBezTo>
                    <a:cubicBezTo>
                      <a:pt x="1383" y="30"/>
                      <a:pt x="1402" y="35"/>
                      <a:pt x="1408" y="41"/>
                    </a:cubicBezTo>
                    <a:cubicBezTo>
                      <a:pt x="1410" y="41"/>
                      <a:pt x="1412" y="41"/>
                      <a:pt x="1414" y="41"/>
                    </a:cubicBezTo>
                    <a:cubicBezTo>
                      <a:pt x="1421" y="39"/>
                      <a:pt x="1427" y="37"/>
                      <a:pt x="1433" y="35"/>
                    </a:cubicBezTo>
                    <a:cubicBezTo>
                      <a:pt x="1436" y="34"/>
                      <a:pt x="1433" y="32"/>
                      <a:pt x="1436" y="31"/>
                    </a:cubicBezTo>
                    <a:cubicBezTo>
                      <a:pt x="1445" y="33"/>
                      <a:pt x="1453" y="30"/>
                      <a:pt x="1458" y="27"/>
                    </a:cubicBezTo>
                    <a:cubicBezTo>
                      <a:pt x="1462" y="25"/>
                      <a:pt x="1466" y="22"/>
                      <a:pt x="1471" y="20"/>
                    </a:cubicBezTo>
                    <a:cubicBezTo>
                      <a:pt x="1477" y="18"/>
                      <a:pt x="1481" y="19"/>
                      <a:pt x="1486" y="17"/>
                    </a:cubicBezTo>
                    <a:cubicBezTo>
                      <a:pt x="1504" y="18"/>
                      <a:pt x="1513" y="20"/>
                      <a:pt x="1520" y="24"/>
                    </a:cubicBezTo>
                    <a:cubicBezTo>
                      <a:pt x="1531" y="23"/>
                      <a:pt x="1529" y="21"/>
                      <a:pt x="1539" y="20"/>
                    </a:cubicBezTo>
                    <a:cubicBezTo>
                      <a:pt x="1578" y="34"/>
                      <a:pt x="1618" y="47"/>
                      <a:pt x="1657" y="61"/>
                    </a:cubicBezTo>
                    <a:cubicBezTo>
                      <a:pt x="1663" y="60"/>
                      <a:pt x="1699" y="66"/>
                      <a:pt x="1707" y="68"/>
                    </a:cubicBezTo>
                    <a:cubicBezTo>
                      <a:pt x="1729" y="74"/>
                      <a:pt x="1731" y="83"/>
                      <a:pt x="1748" y="90"/>
                    </a:cubicBezTo>
                    <a:cubicBezTo>
                      <a:pt x="1750" y="91"/>
                      <a:pt x="1795" y="92"/>
                      <a:pt x="1798" y="92"/>
                    </a:cubicBezTo>
                    <a:cubicBezTo>
                      <a:pt x="1803" y="96"/>
                      <a:pt x="1810" y="97"/>
                      <a:pt x="1813" y="101"/>
                    </a:cubicBezTo>
                    <a:cubicBezTo>
                      <a:pt x="1833" y="100"/>
                      <a:pt x="1826" y="97"/>
                      <a:pt x="1835" y="95"/>
                    </a:cubicBezTo>
                    <a:cubicBezTo>
                      <a:pt x="1839" y="96"/>
                      <a:pt x="1843" y="96"/>
                      <a:pt x="1848" y="97"/>
                    </a:cubicBezTo>
                    <a:cubicBezTo>
                      <a:pt x="1873" y="94"/>
                      <a:pt x="1908" y="96"/>
                      <a:pt x="1919" y="102"/>
                    </a:cubicBezTo>
                    <a:cubicBezTo>
                      <a:pt x="1936" y="101"/>
                      <a:pt x="1929" y="100"/>
                      <a:pt x="1935" y="99"/>
                    </a:cubicBezTo>
                    <a:cubicBezTo>
                      <a:pt x="1940" y="98"/>
                      <a:pt x="1947" y="101"/>
                      <a:pt x="1950" y="101"/>
                    </a:cubicBezTo>
                    <a:cubicBezTo>
                      <a:pt x="1961" y="102"/>
                      <a:pt x="1958" y="99"/>
                      <a:pt x="1969" y="99"/>
                    </a:cubicBezTo>
                    <a:cubicBezTo>
                      <a:pt x="1979" y="92"/>
                      <a:pt x="1992" y="88"/>
                      <a:pt x="2000" y="80"/>
                    </a:cubicBezTo>
                    <a:cubicBezTo>
                      <a:pt x="2006" y="79"/>
                      <a:pt x="2003" y="79"/>
                      <a:pt x="2006" y="78"/>
                    </a:cubicBezTo>
                    <a:cubicBezTo>
                      <a:pt x="2010" y="80"/>
                      <a:pt x="2012" y="81"/>
                      <a:pt x="2016" y="82"/>
                    </a:cubicBezTo>
                    <a:cubicBezTo>
                      <a:pt x="2024" y="76"/>
                      <a:pt x="2031" y="71"/>
                      <a:pt x="2041" y="66"/>
                    </a:cubicBezTo>
                    <a:cubicBezTo>
                      <a:pt x="2051" y="60"/>
                      <a:pt x="2071" y="59"/>
                      <a:pt x="2078" y="51"/>
                    </a:cubicBezTo>
                    <a:cubicBezTo>
                      <a:pt x="2098" y="50"/>
                      <a:pt x="2115" y="50"/>
                      <a:pt x="2128" y="54"/>
                    </a:cubicBezTo>
                    <a:cubicBezTo>
                      <a:pt x="2135" y="50"/>
                      <a:pt x="2146" y="49"/>
                      <a:pt x="2153" y="46"/>
                    </a:cubicBezTo>
                    <a:cubicBezTo>
                      <a:pt x="2168" y="45"/>
                      <a:pt x="2180" y="45"/>
                      <a:pt x="2187" y="48"/>
                    </a:cubicBezTo>
                    <a:cubicBezTo>
                      <a:pt x="2199" y="50"/>
                      <a:pt x="2216" y="62"/>
                      <a:pt x="2218" y="68"/>
                    </a:cubicBezTo>
                    <a:cubicBezTo>
                      <a:pt x="2243" y="66"/>
                      <a:pt x="2282" y="47"/>
                      <a:pt x="2312" y="56"/>
                    </a:cubicBezTo>
                    <a:cubicBezTo>
                      <a:pt x="2325" y="58"/>
                      <a:pt x="2330" y="65"/>
                      <a:pt x="2340" y="68"/>
                    </a:cubicBezTo>
                    <a:cubicBezTo>
                      <a:pt x="2340" y="69"/>
                      <a:pt x="2340" y="69"/>
                      <a:pt x="2340" y="69"/>
                    </a:cubicBezTo>
                    <a:cubicBezTo>
                      <a:pt x="2346" y="70"/>
                      <a:pt x="2344" y="69"/>
                      <a:pt x="2346" y="68"/>
                    </a:cubicBezTo>
                    <a:cubicBezTo>
                      <a:pt x="2373" y="69"/>
                      <a:pt x="2366" y="75"/>
                      <a:pt x="2380" y="80"/>
                    </a:cubicBezTo>
                    <a:cubicBezTo>
                      <a:pt x="2389" y="82"/>
                      <a:pt x="2396" y="79"/>
                      <a:pt x="2402" y="81"/>
                    </a:cubicBezTo>
                    <a:cubicBezTo>
                      <a:pt x="2409" y="82"/>
                      <a:pt x="2439" y="101"/>
                      <a:pt x="2443" y="105"/>
                    </a:cubicBezTo>
                    <a:cubicBezTo>
                      <a:pt x="2466" y="104"/>
                      <a:pt x="2502" y="99"/>
                      <a:pt x="2511" y="108"/>
                    </a:cubicBezTo>
                    <a:cubicBezTo>
                      <a:pt x="2544" y="107"/>
                      <a:pt x="2552" y="97"/>
                      <a:pt x="2577" y="93"/>
                    </a:cubicBezTo>
                    <a:cubicBezTo>
                      <a:pt x="2593" y="91"/>
                      <a:pt x="2618" y="93"/>
                      <a:pt x="2630" y="92"/>
                    </a:cubicBezTo>
                    <a:cubicBezTo>
                      <a:pt x="2638" y="96"/>
                      <a:pt x="2647" y="96"/>
                      <a:pt x="2651" y="102"/>
                    </a:cubicBezTo>
                    <a:cubicBezTo>
                      <a:pt x="2664" y="101"/>
                      <a:pt x="2676" y="97"/>
                      <a:pt x="2682" y="93"/>
                    </a:cubicBezTo>
                    <a:cubicBezTo>
                      <a:pt x="2725" y="94"/>
                      <a:pt x="2709" y="108"/>
                      <a:pt x="2739" y="112"/>
                    </a:cubicBezTo>
                    <a:cubicBezTo>
                      <a:pt x="2746" y="114"/>
                      <a:pt x="2746" y="113"/>
                      <a:pt x="2751" y="110"/>
                    </a:cubicBezTo>
                    <a:cubicBezTo>
                      <a:pt x="2754" y="111"/>
                      <a:pt x="2755" y="112"/>
                      <a:pt x="2757" y="114"/>
                    </a:cubicBezTo>
                    <a:cubicBezTo>
                      <a:pt x="2774" y="111"/>
                      <a:pt x="2784" y="105"/>
                      <a:pt x="2804" y="103"/>
                    </a:cubicBezTo>
                    <a:cubicBezTo>
                      <a:pt x="2804" y="234"/>
                      <a:pt x="2804" y="88"/>
                      <a:pt x="2804" y="219"/>
                    </a:cubicBezTo>
                    <a:cubicBezTo>
                      <a:pt x="1869" y="219"/>
                      <a:pt x="935" y="219"/>
                      <a:pt x="0" y="219"/>
                    </a:cubicBezTo>
                    <a:cubicBezTo>
                      <a:pt x="0" y="65"/>
                      <a:pt x="0" y="188"/>
                      <a:pt x="0" y="34"/>
                    </a:cubicBezTo>
                    <a:cubicBezTo>
                      <a:pt x="11" y="35"/>
                      <a:pt x="14" y="37"/>
                      <a:pt x="22" y="37"/>
                    </a:cubicBezTo>
                    <a:close/>
                  </a:path>
                </a:pathLst>
              </a:custGeom>
              <a:solidFill>
                <a:srgbClr val="69c6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16"/>
              <p:cNvSpPr/>
              <p:nvPr/>
            </p:nvSpPr>
            <p:spPr>
              <a:xfrm>
                <a:off x="-252360" y="2586240"/>
                <a:ext cx="15193440" cy="403200"/>
              </a:xfrm>
              <a:custGeom>
                <a:avLst/>
                <a:gdLst/>
                <a:ahLst/>
                <a:rect l="l" t="t" r="r" b="b"/>
                <a:pathLst>
                  <a:path w="2800" h="160">
                    <a:moveTo>
                      <a:pt x="2800" y="36"/>
                    </a:moveTo>
                    <a:cubicBezTo>
                      <a:pt x="2800" y="148"/>
                      <a:pt x="2800" y="48"/>
                      <a:pt x="2800" y="160"/>
                    </a:cubicBezTo>
                    <a:cubicBezTo>
                      <a:pt x="1867" y="160"/>
                      <a:pt x="933" y="160"/>
                      <a:pt x="0" y="160"/>
                    </a:cubicBezTo>
                    <a:cubicBezTo>
                      <a:pt x="0" y="40"/>
                      <a:pt x="0" y="133"/>
                      <a:pt x="0" y="13"/>
                    </a:cubicBezTo>
                    <a:cubicBezTo>
                      <a:pt x="16" y="8"/>
                      <a:pt x="40" y="14"/>
                      <a:pt x="56" y="13"/>
                    </a:cubicBezTo>
                    <a:cubicBezTo>
                      <a:pt x="79" y="12"/>
                      <a:pt x="94" y="5"/>
                      <a:pt x="112" y="3"/>
                    </a:cubicBezTo>
                    <a:cubicBezTo>
                      <a:pt x="134" y="1"/>
                      <a:pt x="171" y="1"/>
                      <a:pt x="196" y="2"/>
                    </a:cubicBezTo>
                    <a:cubicBezTo>
                      <a:pt x="212" y="3"/>
                      <a:pt x="228" y="7"/>
                      <a:pt x="245" y="8"/>
                    </a:cubicBezTo>
                    <a:cubicBezTo>
                      <a:pt x="259" y="9"/>
                      <a:pt x="274" y="6"/>
                      <a:pt x="287" y="7"/>
                    </a:cubicBezTo>
                    <a:cubicBezTo>
                      <a:pt x="300" y="8"/>
                      <a:pt x="317" y="14"/>
                      <a:pt x="332" y="14"/>
                    </a:cubicBezTo>
                    <a:cubicBezTo>
                      <a:pt x="356" y="14"/>
                      <a:pt x="369" y="5"/>
                      <a:pt x="392" y="3"/>
                    </a:cubicBezTo>
                    <a:cubicBezTo>
                      <a:pt x="420" y="1"/>
                      <a:pt x="441" y="5"/>
                      <a:pt x="458" y="0"/>
                    </a:cubicBezTo>
                    <a:cubicBezTo>
                      <a:pt x="494" y="6"/>
                      <a:pt x="517" y="16"/>
                      <a:pt x="542" y="26"/>
                    </a:cubicBezTo>
                    <a:cubicBezTo>
                      <a:pt x="566" y="22"/>
                      <a:pt x="586" y="30"/>
                      <a:pt x="605" y="32"/>
                    </a:cubicBezTo>
                    <a:cubicBezTo>
                      <a:pt x="636" y="35"/>
                      <a:pt x="671" y="34"/>
                      <a:pt x="693" y="42"/>
                    </a:cubicBezTo>
                    <a:cubicBezTo>
                      <a:pt x="742" y="45"/>
                      <a:pt x="789" y="49"/>
                      <a:pt x="830" y="56"/>
                    </a:cubicBezTo>
                    <a:cubicBezTo>
                      <a:pt x="844" y="59"/>
                      <a:pt x="852" y="64"/>
                      <a:pt x="868" y="65"/>
                    </a:cubicBezTo>
                    <a:cubicBezTo>
                      <a:pt x="903" y="67"/>
                      <a:pt x="928" y="55"/>
                      <a:pt x="963" y="63"/>
                    </a:cubicBezTo>
                    <a:cubicBezTo>
                      <a:pt x="996" y="59"/>
                      <a:pt x="1025" y="50"/>
                      <a:pt x="1057" y="55"/>
                    </a:cubicBezTo>
                    <a:cubicBezTo>
                      <a:pt x="1092" y="45"/>
                      <a:pt x="1142" y="37"/>
                      <a:pt x="1194" y="39"/>
                    </a:cubicBezTo>
                    <a:cubicBezTo>
                      <a:pt x="1242" y="29"/>
                      <a:pt x="1287" y="8"/>
                      <a:pt x="1369" y="13"/>
                    </a:cubicBezTo>
                    <a:cubicBezTo>
                      <a:pt x="1383" y="14"/>
                      <a:pt x="1392" y="18"/>
                      <a:pt x="1407" y="19"/>
                    </a:cubicBezTo>
                    <a:cubicBezTo>
                      <a:pt x="1423" y="19"/>
                      <a:pt x="1441" y="15"/>
                      <a:pt x="1456" y="15"/>
                    </a:cubicBezTo>
                    <a:cubicBezTo>
                      <a:pt x="1469" y="15"/>
                      <a:pt x="1487" y="18"/>
                      <a:pt x="1502" y="20"/>
                    </a:cubicBezTo>
                    <a:cubicBezTo>
                      <a:pt x="1547" y="25"/>
                      <a:pt x="1612" y="29"/>
                      <a:pt x="1649" y="38"/>
                    </a:cubicBezTo>
                    <a:cubicBezTo>
                      <a:pt x="1689" y="37"/>
                      <a:pt x="1712" y="35"/>
                      <a:pt x="1754" y="40"/>
                    </a:cubicBezTo>
                    <a:cubicBezTo>
                      <a:pt x="1798" y="34"/>
                      <a:pt x="1830" y="17"/>
                      <a:pt x="1880" y="26"/>
                    </a:cubicBezTo>
                    <a:cubicBezTo>
                      <a:pt x="1893" y="16"/>
                      <a:pt x="1953" y="16"/>
                      <a:pt x="1999" y="15"/>
                    </a:cubicBezTo>
                    <a:cubicBezTo>
                      <a:pt x="2025" y="15"/>
                      <a:pt x="2056" y="19"/>
                      <a:pt x="2083" y="19"/>
                    </a:cubicBezTo>
                    <a:cubicBezTo>
                      <a:pt x="2095" y="19"/>
                      <a:pt x="2132" y="14"/>
                      <a:pt x="2149" y="15"/>
                    </a:cubicBezTo>
                    <a:cubicBezTo>
                      <a:pt x="2190" y="18"/>
                      <a:pt x="2210" y="36"/>
                      <a:pt x="2247" y="38"/>
                    </a:cubicBezTo>
                    <a:cubicBezTo>
                      <a:pt x="2301" y="31"/>
                      <a:pt x="2350" y="40"/>
                      <a:pt x="2408" y="38"/>
                    </a:cubicBezTo>
                    <a:cubicBezTo>
                      <a:pt x="2451" y="40"/>
                      <a:pt x="2459" y="62"/>
                      <a:pt x="2499" y="65"/>
                    </a:cubicBezTo>
                    <a:cubicBezTo>
                      <a:pt x="2530" y="67"/>
                      <a:pt x="2560" y="57"/>
                      <a:pt x="2590" y="63"/>
                    </a:cubicBezTo>
                    <a:cubicBezTo>
                      <a:pt x="2668" y="59"/>
                      <a:pt x="2710" y="25"/>
                      <a:pt x="2800" y="36"/>
                    </a:cubicBezTo>
                    <a:close/>
                  </a:path>
                </a:pathLst>
              </a:custGeom>
              <a:solidFill>
                <a:srgbClr val="002e3e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2" name="Group 192"/>
            <p:cNvGrpSpPr/>
            <p:nvPr/>
          </p:nvGrpSpPr>
          <p:grpSpPr>
            <a:xfrm>
              <a:off x="-154080" y="4343040"/>
              <a:ext cx="14952240" cy="20491920"/>
              <a:chOff x="-154080" y="4343040"/>
              <a:chExt cx="14952240" cy="20491920"/>
            </a:xfrm>
          </p:grpSpPr>
          <p:grpSp>
            <p:nvGrpSpPr>
              <p:cNvPr id="2843" name="Group 193"/>
              <p:cNvGrpSpPr/>
              <p:nvPr/>
            </p:nvGrpSpPr>
            <p:grpSpPr>
              <a:xfrm>
                <a:off x="-145080" y="4343040"/>
                <a:ext cx="14943240" cy="11380320"/>
                <a:chOff x="-145080" y="4343040"/>
                <a:chExt cx="14943240" cy="11380320"/>
              </a:xfrm>
            </p:grpSpPr>
            <p:sp>
              <p:nvSpPr>
                <p:cNvPr id="2844" name="Rectangle 194"/>
                <p:cNvSpPr/>
                <p:nvPr/>
              </p:nvSpPr>
              <p:spPr>
                <a:xfrm rot="10800000">
                  <a:off x="-145080" y="4342680"/>
                  <a:ext cx="14943240" cy="569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Rectangle 195"/>
                <p:cNvSpPr/>
                <p:nvPr/>
              </p:nvSpPr>
              <p:spPr>
                <a:xfrm flipV="1" rot="10800000">
                  <a:off x="-145080" y="10031760"/>
                  <a:ext cx="14943240" cy="569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ad2"/>
                    </a:gs>
                    <a:gs pos="100000">
                      <a:srgbClr val="0083a2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6" name="Rectangle 196"/>
              <p:cNvSpPr/>
              <p:nvPr/>
            </p:nvSpPr>
            <p:spPr>
              <a:xfrm>
                <a:off x="-154080" y="15724440"/>
                <a:ext cx="14943240" cy="9110520"/>
              </a:xfrm>
              <a:prstGeom prst="rect">
                <a:avLst/>
              </a:prstGeom>
              <a:solidFill>
                <a:srgbClr val="0083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47" name="Picture 2" descr="2"/>
          <p:cNvPicPr/>
          <p:nvPr/>
        </p:nvPicPr>
        <p:blipFill>
          <a:blip r:embed="rId1"/>
          <a:stretch/>
        </p:blipFill>
        <p:spPr>
          <a:xfrm>
            <a:off x="3564000" y="2556000"/>
            <a:ext cx="2874960" cy="1788840"/>
          </a:xfrm>
          <a:prstGeom prst="rect">
            <a:avLst/>
          </a:prstGeom>
          <a:ln w="0">
            <a:noFill/>
          </a:ln>
        </p:spPr>
      </p:pic>
      <p:pic>
        <p:nvPicPr>
          <p:cNvPr id="2848" name="Picture 3" descr="4"/>
          <p:cNvPicPr/>
          <p:nvPr/>
        </p:nvPicPr>
        <p:blipFill>
          <a:blip r:embed="rId2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49" name="Picture 4" descr="6"/>
          <p:cNvPicPr/>
          <p:nvPr/>
        </p:nvPicPr>
        <p:blipFill>
          <a:blip r:embed="rId3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0" name="Picture 5" descr="9"/>
          <p:cNvPicPr/>
          <p:nvPr/>
        </p:nvPicPr>
        <p:blipFill>
          <a:blip r:embed="rId4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1" name="Picture 6" descr="10"/>
          <p:cNvPicPr/>
          <p:nvPr/>
        </p:nvPicPr>
        <p:blipFill>
          <a:blip r:embed="rId5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2" name="Picture 7" descr="11"/>
          <p:cNvPicPr/>
          <p:nvPr/>
        </p:nvPicPr>
        <p:blipFill>
          <a:blip r:embed="rId6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3" name="Picture 8" descr="12"/>
          <p:cNvPicPr/>
          <p:nvPr/>
        </p:nvPicPr>
        <p:blipFill>
          <a:blip r:embed="rId7"/>
          <a:stretch/>
        </p:blipFill>
        <p:spPr>
          <a:xfrm>
            <a:off x="3564000" y="2556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54" name="Picture 9" descr="00"/>
          <p:cNvPicPr/>
          <p:nvPr/>
        </p:nvPicPr>
        <p:blipFill>
          <a:blip r:embed="rId8"/>
          <a:stretch/>
        </p:blipFill>
        <p:spPr>
          <a:xfrm>
            <a:off x="3564000" y="2556000"/>
            <a:ext cx="2871720" cy="1788840"/>
          </a:xfrm>
          <a:prstGeom prst="rect">
            <a:avLst/>
          </a:prstGeom>
          <a:ln w="0">
            <a:noFill/>
          </a:ln>
        </p:spPr>
      </p:pic>
      <p:pic>
        <p:nvPicPr>
          <p:cNvPr id="2855" name="Picture 10" descr="001"/>
          <p:cNvPicPr/>
          <p:nvPr/>
        </p:nvPicPr>
        <p:blipFill>
          <a:blip r:embed="rId9"/>
          <a:stretch/>
        </p:blipFill>
        <p:spPr>
          <a:xfrm>
            <a:off x="3564000" y="2556000"/>
            <a:ext cx="2871720" cy="1788840"/>
          </a:xfrm>
          <a:prstGeom prst="rect">
            <a:avLst/>
          </a:prstGeom>
          <a:ln w="0">
            <a:noFill/>
          </a:ln>
        </p:spPr>
      </p:pic>
      <p:pic>
        <p:nvPicPr>
          <p:cNvPr id="2856" name="Picture 11" descr="002"/>
          <p:cNvPicPr/>
          <p:nvPr/>
        </p:nvPicPr>
        <p:blipFill>
          <a:blip r:embed="rId10"/>
          <a:stretch/>
        </p:blipFill>
        <p:spPr>
          <a:xfrm>
            <a:off x="3564000" y="2556000"/>
            <a:ext cx="2871720" cy="1788840"/>
          </a:xfrm>
          <a:prstGeom prst="rect">
            <a:avLst/>
          </a:prstGeom>
          <a:ln w="0">
            <a:noFill/>
          </a:ln>
        </p:spPr>
      </p:pic>
      <p:sp>
        <p:nvSpPr>
          <p:cNvPr id="2857" name="Rectangle 12"/>
          <p:cNvSpPr/>
          <p:nvPr/>
        </p:nvSpPr>
        <p:spPr>
          <a:xfrm rot="10800000">
            <a:off x="-34920" y="2790360"/>
            <a:ext cx="14833440" cy="6229440"/>
          </a:xfrm>
          <a:prstGeom prst="rect">
            <a:avLst/>
          </a:prstGeom>
          <a:gradFill rotWithShape="0">
            <a:gsLst>
              <a:gs pos="0">
                <a:srgbClr val="00aad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8" name="Picture 17" descr="2"/>
          <p:cNvPicPr/>
          <p:nvPr/>
        </p:nvPicPr>
        <p:blipFill>
          <a:blip r:embed="rId11"/>
          <a:stretch/>
        </p:blipFill>
        <p:spPr>
          <a:xfrm>
            <a:off x="3564000" y="1332000"/>
            <a:ext cx="2874960" cy="1789200"/>
          </a:xfrm>
          <a:prstGeom prst="rect">
            <a:avLst/>
          </a:prstGeom>
          <a:ln w="0">
            <a:noFill/>
          </a:ln>
        </p:spPr>
      </p:pic>
      <p:pic>
        <p:nvPicPr>
          <p:cNvPr id="2859" name="Picture 18" descr="4"/>
          <p:cNvPicPr/>
          <p:nvPr/>
        </p:nvPicPr>
        <p:blipFill>
          <a:blip r:embed="rId12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0" name="Picture 19" descr="6"/>
          <p:cNvPicPr/>
          <p:nvPr/>
        </p:nvPicPr>
        <p:blipFill>
          <a:blip r:embed="rId13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1" name="Picture 20" descr="9"/>
          <p:cNvPicPr/>
          <p:nvPr/>
        </p:nvPicPr>
        <p:blipFill>
          <a:blip r:embed="rId14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2" name="Picture 21" descr="10"/>
          <p:cNvPicPr/>
          <p:nvPr/>
        </p:nvPicPr>
        <p:blipFill>
          <a:blip r:embed="rId15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3" name="Picture 22" descr="11"/>
          <p:cNvPicPr/>
          <p:nvPr/>
        </p:nvPicPr>
        <p:blipFill>
          <a:blip r:embed="rId16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4" name="Picture 23" descr="12"/>
          <p:cNvPicPr/>
          <p:nvPr/>
        </p:nvPicPr>
        <p:blipFill>
          <a:blip r:embed="rId17"/>
          <a:stretch/>
        </p:blipFill>
        <p:spPr>
          <a:xfrm>
            <a:off x="3564000" y="1332000"/>
            <a:ext cx="2871720" cy="1787400"/>
          </a:xfrm>
          <a:prstGeom prst="rect">
            <a:avLst/>
          </a:prstGeom>
          <a:ln w="0">
            <a:noFill/>
          </a:ln>
        </p:spPr>
      </p:pic>
      <p:pic>
        <p:nvPicPr>
          <p:cNvPr id="2865" name="Picture 24" descr="00"/>
          <p:cNvPicPr/>
          <p:nvPr/>
        </p:nvPicPr>
        <p:blipFill>
          <a:blip r:embed="rId18"/>
          <a:stretch/>
        </p:blipFill>
        <p:spPr>
          <a:xfrm>
            <a:off x="3564000" y="1332000"/>
            <a:ext cx="2871720" cy="1789200"/>
          </a:xfrm>
          <a:prstGeom prst="rect">
            <a:avLst/>
          </a:prstGeom>
          <a:ln w="0">
            <a:noFill/>
          </a:ln>
        </p:spPr>
      </p:pic>
      <p:pic>
        <p:nvPicPr>
          <p:cNvPr id="2866" name="Picture 25" descr="001"/>
          <p:cNvPicPr/>
          <p:nvPr/>
        </p:nvPicPr>
        <p:blipFill>
          <a:blip r:embed="rId19"/>
          <a:stretch/>
        </p:blipFill>
        <p:spPr>
          <a:xfrm>
            <a:off x="3564000" y="1332000"/>
            <a:ext cx="2871720" cy="1789200"/>
          </a:xfrm>
          <a:prstGeom prst="rect">
            <a:avLst/>
          </a:prstGeom>
          <a:ln w="0">
            <a:noFill/>
          </a:ln>
        </p:spPr>
      </p:pic>
      <p:pic>
        <p:nvPicPr>
          <p:cNvPr id="2867" name="Picture 26" descr="002"/>
          <p:cNvPicPr/>
          <p:nvPr/>
        </p:nvPicPr>
        <p:blipFill>
          <a:blip r:embed="rId20"/>
          <a:stretch/>
        </p:blipFill>
        <p:spPr>
          <a:xfrm>
            <a:off x="3564000" y="1332000"/>
            <a:ext cx="2871720" cy="1789200"/>
          </a:xfrm>
          <a:prstGeom prst="rect">
            <a:avLst/>
          </a:prstGeom>
          <a:ln w="0">
            <a:noFill/>
          </a:ln>
        </p:spPr>
      </p:pic>
      <p:grpSp>
        <p:nvGrpSpPr>
          <p:cNvPr id="2868" name="Group 27"/>
          <p:cNvGrpSpPr/>
          <p:nvPr/>
        </p:nvGrpSpPr>
        <p:grpSpPr>
          <a:xfrm>
            <a:off x="14798520" y="2482920"/>
            <a:ext cx="15181200" cy="1089720"/>
            <a:chOff x="14798520" y="2482920"/>
            <a:chExt cx="15181200" cy="1089720"/>
          </a:xfrm>
        </p:grpSpPr>
        <p:sp>
          <p:nvSpPr>
            <p:cNvPr id="2869" name="Freeform 28"/>
            <p:cNvSpPr/>
            <p:nvPr/>
          </p:nvSpPr>
          <p:spPr>
            <a:xfrm>
              <a:off x="14798520" y="2482920"/>
              <a:ext cx="15131880" cy="528480"/>
            </a:xfrm>
            <a:custGeom>
              <a:avLst/>
              <a:gdLst/>
              <a:ahLst/>
              <a:rect l="l" t="t" r="r" b="b"/>
              <a:pathLst>
                <a:path w="4763" h="166">
                  <a:moveTo>
                    <a:pt x="1928" y="68"/>
                  </a:moveTo>
                  <a:cubicBezTo>
                    <a:pt x="1928" y="66"/>
                    <a:pt x="1928" y="65"/>
                    <a:pt x="1928" y="64"/>
                  </a:cubicBezTo>
                  <a:cubicBezTo>
                    <a:pt x="1928" y="65"/>
                    <a:pt x="1928" y="66"/>
                    <a:pt x="1928" y="68"/>
                  </a:cubicBezTo>
                  <a:close/>
                  <a:moveTo>
                    <a:pt x="1972" y="61"/>
                  </a:moveTo>
                  <a:cubicBezTo>
                    <a:pt x="1972" y="55"/>
                    <a:pt x="1971" y="49"/>
                    <a:pt x="1970" y="44"/>
                  </a:cubicBezTo>
                  <a:cubicBezTo>
                    <a:pt x="1970" y="44"/>
                    <a:pt x="1971" y="51"/>
                    <a:pt x="1972" y="61"/>
                  </a:cubicBezTo>
                  <a:close/>
                  <a:moveTo>
                    <a:pt x="1907" y="90"/>
                  </a:moveTo>
                  <a:cubicBezTo>
                    <a:pt x="1907" y="89"/>
                    <a:pt x="1906" y="87"/>
                    <a:pt x="1905" y="86"/>
                  </a:cubicBezTo>
                  <a:cubicBezTo>
                    <a:pt x="1906" y="87"/>
                    <a:pt x="1906" y="89"/>
                    <a:pt x="1907" y="90"/>
                  </a:cubicBezTo>
                  <a:close/>
                  <a:moveTo>
                    <a:pt x="1733" y="109"/>
                  </a:moveTo>
                  <a:cubicBezTo>
                    <a:pt x="1732" y="104"/>
                    <a:pt x="1732" y="99"/>
                    <a:pt x="1731" y="95"/>
                  </a:cubicBezTo>
                  <a:cubicBezTo>
                    <a:pt x="1731" y="99"/>
                    <a:pt x="1732" y="104"/>
                    <a:pt x="1733" y="109"/>
                  </a:cubicBezTo>
                  <a:close/>
                  <a:moveTo>
                    <a:pt x="1412" y="88"/>
                  </a:moveTo>
                  <a:cubicBezTo>
                    <a:pt x="1411" y="86"/>
                    <a:pt x="1410" y="83"/>
                    <a:pt x="1408" y="81"/>
                  </a:cubicBezTo>
                  <a:cubicBezTo>
                    <a:pt x="1409" y="83"/>
                    <a:pt x="1411" y="86"/>
                    <a:pt x="1412" y="88"/>
                  </a:cubicBezTo>
                  <a:close/>
                  <a:moveTo>
                    <a:pt x="1519" y="102"/>
                  </a:moveTo>
                  <a:cubicBezTo>
                    <a:pt x="1518" y="100"/>
                    <a:pt x="1517" y="97"/>
                    <a:pt x="1516" y="96"/>
                  </a:cubicBezTo>
                  <a:cubicBezTo>
                    <a:pt x="1517" y="98"/>
                    <a:pt x="1518" y="100"/>
                    <a:pt x="1519" y="102"/>
                  </a:cubicBezTo>
                  <a:close/>
                  <a:moveTo>
                    <a:pt x="1280" y="79"/>
                  </a:moveTo>
                  <a:cubicBezTo>
                    <a:pt x="1279" y="76"/>
                    <a:pt x="1278" y="73"/>
                    <a:pt x="1276" y="70"/>
                  </a:cubicBezTo>
                  <a:cubicBezTo>
                    <a:pt x="1278" y="73"/>
                    <a:pt x="1279" y="76"/>
                    <a:pt x="1280" y="79"/>
                  </a:cubicBezTo>
                  <a:close/>
                  <a:moveTo>
                    <a:pt x="1270" y="81"/>
                  </a:moveTo>
                  <a:cubicBezTo>
                    <a:pt x="1264" y="61"/>
                    <a:pt x="1253" y="46"/>
                    <a:pt x="1237" y="25"/>
                  </a:cubicBezTo>
                  <a:cubicBezTo>
                    <a:pt x="1253" y="48"/>
                    <a:pt x="1263" y="64"/>
                    <a:pt x="1270" y="81"/>
                  </a:cubicBezTo>
                  <a:close/>
                  <a:moveTo>
                    <a:pt x="1572" y="100"/>
                  </a:moveTo>
                  <a:cubicBezTo>
                    <a:pt x="1572" y="97"/>
                    <a:pt x="1571" y="95"/>
                    <a:pt x="1570" y="93"/>
                  </a:cubicBezTo>
                  <a:cubicBezTo>
                    <a:pt x="1571" y="96"/>
                    <a:pt x="1572" y="98"/>
                    <a:pt x="1572" y="100"/>
                  </a:cubicBezTo>
                  <a:close/>
                  <a:moveTo>
                    <a:pt x="1812" y="81"/>
                  </a:moveTo>
                  <a:cubicBezTo>
                    <a:pt x="1810" y="75"/>
                    <a:pt x="1808" y="70"/>
                    <a:pt x="1806" y="67"/>
                  </a:cubicBezTo>
                  <a:cubicBezTo>
                    <a:pt x="1806" y="67"/>
                    <a:pt x="1809" y="72"/>
                    <a:pt x="1812" y="81"/>
                  </a:cubicBezTo>
                  <a:close/>
                  <a:moveTo>
                    <a:pt x="1850" y="13"/>
                  </a:moveTo>
                  <a:cubicBezTo>
                    <a:pt x="1850" y="12"/>
                    <a:pt x="1850" y="12"/>
                    <a:pt x="1850" y="12"/>
                  </a:cubicBezTo>
                  <a:cubicBezTo>
                    <a:pt x="1850" y="12"/>
                    <a:pt x="1850" y="13"/>
                    <a:pt x="1850" y="13"/>
                  </a:cubicBezTo>
                  <a:close/>
                  <a:moveTo>
                    <a:pt x="1974" y="100"/>
                  </a:moveTo>
                  <a:cubicBezTo>
                    <a:pt x="1975" y="98"/>
                    <a:pt x="1975" y="96"/>
                    <a:pt x="1976" y="93"/>
                  </a:cubicBezTo>
                  <a:cubicBezTo>
                    <a:pt x="1975" y="95"/>
                    <a:pt x="1975" y="97"/>
                    <a:pt x="1974" y="100"/>
                  </a:cubicBezTo>
                  <a:close/>
                  <a:moveTo>
                    <a:pt x="2660" y="105"/>
                  </a:moveTo>
                  <a:cubicBezTo>
                    <a:pt x="2660" y="103"/>
                    <a:pt x="2660" y="101"/>
                    <a:pt x="2659" y="99"/>
                  </a:cubicBezTo>
                  <a:cubicBezTo>
                    <a:pt x="2659" y="101"/>
                    <a:pt x="2660" y="103"/>
                    <a:pt x="2660" y="105"/>
                  </a:cubicBezTo>
                  <a:close/>
                  <a:moveTo>
                    <a:pt x="2371" y="66"/>
                  </a:moveTo>
                  <a:cubicBezTo>
                    <a:pt x="2371" y="63"/>
                    <a:pt x="2371" y="61"/>
                    <a:pt x="2372" y="59"/>
                  </a:cubicBezTo>
                  <a:cubicBezTo>
                    <a:pt x="2372" y="59"/>
                    <a:pt x="2371" y="62"/>
                    <a:pt x="2371" y="66"/>
                  </a:cubicBezTo>
                  <a:close/>
                  <a:moveTo>
                    <a:pt x="2380" y="100"/>
                  </a:moveTo>
                  <a:cubicBezTo>
                    <a:pt x="2380" y="97"/>
                    <a:pt x="2379" y="95"/>
                    <a:pt x="2379" y="93"/>
                  </a:cubicBezTo>
                  <a:cubicBezTo>
                    <a:pt x="2379" y="96"/>
                    <a:pt x="2380" y="98"/>
                    <a:pt x="2380" y="100"/>
                  </a:cubicBezTo>
                  <a:close/>
                  <a:moveTo>
                    <a:pt x="2413" y="68"/>
                  </a:moveTo>
                  <a:cubicBezTo>
                    <a:pt x="2413" y="65"/>
                    <a:pt x="2412" y="64"/>
                    <a:pt x="2412" y="64"/>
                  </a:cubicBezTo>
                  <a:cubicBezTo>
                    <a:pt x="2412" y="64"/>
                    <a:pt x="2413" y="66"/>
                    <a:pt x="2413" y="68"/>
                  </a:cubicBezTo>
                  <a:close/>
                  <a:moveTo>
                    <a:pt x="2486" y="61"/>
                  </a:moveTo>
                  <a:cubicBezTo>
                    <a:pt x="2486" y="55"/>
                    <a:pt x="2485" y="49"/>
                    <a:pt x="2484" y="44"/>
                  </a:cubicBezTo>
                  <a:cubicBezTo>
                    <a:pt x="2484" y="44"/>
                    <a:pt x="2485" y="51"/>
                    <a:pt x="2486" y="61"/>
                  </a:cubicBezTo>
                  <a:close/>
                  <a:moveTo>
                    <a:pt x="2562" y="68"/>
                  </a:moveTo>
                  <a:cubicBezTo>
                    <a:pt x="2562" y="68"/>
                    <a:pt x="2562" y="71"/>
                    <a:pt x="2562" y="75"/>
                  </a:cubicBezTo>
                  <a:cubicBezTo>
                    <a:pt x="2562" y="72"/>
                    <a:pt x="2562" y="70"/>
                    <a:pt x="2562" y="68"/>
                  </a:cubicBezTo>
                  <a:close/>
                  <a:moveTo>
                    <a:pt x="2197" y="44"/>
                  </a:moveTo>
                  <a:cubicBezTo>
                    <a:pt x="2197" y="43"/>
                    <a:pt x="2197" y="41"/>
                    <a:pt x="2197" y="40"/>
                  </a:cubicBezTo>
                  <a:cubicBezTo>
                    <a:pt x="2197" y="40"/>
                    <a:pt x="2197" y="42"/>
                    <a:pt x="2197" y="44"/>
                  </a:cubicBezTo>
                  <a:close/>
                  <a:moveTo>
                    <a:pt x="2125" y="83"/>
                  </a:moveTo>
                  <a:cubicBezTo>
                    <a:pt x="2124" y="81"/>
                    <a:pt x="2123" y="79"/>
                    <a:pt x="2122" y="78"/>
                  </a:cubicBezTo>
                  <a:cubicBezTo>
                    <a:pt x="2123" y="79"/>
                    <a:pt x="2124" y="81"/>
                    <a:pt x="2125" y="83"/>
                  </a:cubicBezTo>
                  <a:close/>
                  <a:moveTo>
                    <a:pt x="2569" y="62"/>
                  </a:moveTo>
                  <a:cubicBezTo>
                    <a:pt x="2569" y="61"/>
                    <a:pt x="2569" y="60"/>
                    <a:pt x="2569" y="60"/>
                  </a:cubicBezTo>
                  <a:cubicBezTo>
                    <a:pt x="2569" y="60"/>
                    <a:pt x="2569" y="61"/>
                    <a:pt x="2569" y="62"/>
                  </a:cubicBezTo>
                  <a:close/>
                  <a:moveTo>
                    <a:pt x="2158" y="52"/>
                  </a:moveTo>
                  <a:cubicBezTo>
                    <a:pt x="2158" y="50"/>
                    <a:pt x="2158" y="49"/>
                    <a:pt x="2158" y="49"/>
                  </a:cubicBezTo>
                  <a:cubicBezTo>
                    <a:pt x="2158" y="50"/>
                    <a:pt x="2158" y="51"/>
                    <a:pt x="2158" y="52"/>
                  </a:cubicBezTo>
                  <a:close/>
                  <a:moveTo>
                    <a:pt x="2143" y="33"/>
                  </a:moveTo>
                  <a:cubicBezTo>
                    <a:pt x="2143" y="30"/>
                    <a:pt x="2143" y="28"/>
                    <a:pt x="2142" y="25"/>
                  </a:cubicBezTo>
                  <a:cubicBezTo>
                    <a:pt x="2142" y="25"/>
                    <a:pt x="2143" y="28"/>
                    <a:pt x="2143" y="33"/>
                  </a:cubicBezTo>
                  <a:close/>
                  <a:moveTo>
                    <a:pt x="2441" y="67"/>
                  </a:moveTo>
                  <a:cubicBezTo>
                    <a:pt x="2442" y="66"/>
                    <a:pt x="2442" y="65"/>
                    <a:pt x="2441" y="64"/>
                  </a:cubicBezTo>
                  <a:cubicBezTo>
                    <a:pt x="2441" y="64"/>
                    <a:pt x="2441" y="65"/>
                    <a:pt x="2441" y="67"/>
                  </a:cubicBezTo>
                  <a:close/>
                  <a:moveTo>
                    <a:pt x="130" y="68"/>
                  </a:moveTo>
                  <a:cubicBezTo>
                    <a:pt x="130" y="66"/>
                    <a:pt x="130" y="65"/>
                    <a:pt x="130" y="64"/>
                  </a:cubicBezTo>
                  <a:cubicBezTo>
                    <a:pt x="130" y="64"/>
                    <a:pt x="130" y="65"/>
                    <a:pt x="130" y="68"/>
                  </a:cubicBezTo>
                  <a:close/>
                  <a:moveTo>
                    <a:pt x="360" y="52"/>
                  </a:moveTo>
                  <a:cubicBezTo>
                    <a:pt x="360" y="50"/>
                    <a:pt x="360" y="49"/>
                    <a:pt x="360" y="49"/>
                  </a:cubicBezTo>
                  <a:cubicBezTo>
                    <a:pt x="360" y="50"/>
                    <a:pt x="360" y="51"/>
                    <a:pt x="360" y="52"/>
                  </a:cubicBezTo>
                  <a:close/>
                  <a:moveTo>
                    <a:pt x="345" y="33"/>
                  </a:moveTo>
                  <a:cubicBezTo>
                    <a:pt x="345" y="30"/>
                    <a:pt x="345" y="28"/>
                    <a:pt x="344" y="25"/>
                  </a:cubicBezTo>
                  <a:cubicBezTo>
                    <a:pt x="344" y="25"/>
                    <a:pt x="345" y="28"/>
                    <a:pt x="345" y="33"/>
                  </a:cubicBezTo>
                  <a:close/>
                  <a:moveTo>
                    <a:pt x="327" y="83"/>
                  </a:moveTo>
                  <a:cubicBezTo>
                    <a:pt x="326" y="81"/>
                    <a:pt x="325" y="79"/>
                    <a:pt x="324" y="78"/>
                  </a:cubicBezTo>
                  <a:cubicBezTo>
                    <a:pt x="325" y="79"/>
                    <a:pt x="326" y="81"/>
                    <a:pt x="327" y="83"/>
                  </a:cubicBezTo>
                  <a:close/>
                  <a:moveTo>
                    <a:pt x="399" y="44"/>
                  </a:moveTo>
                  <a:cubicBezTo>
                    <a:pt x="399" y="43"/>
                    <a:pt x="399" y="41"/>
                    <a:pt x="399" y="40"/>
                  </a:cubicBezTo>
                  <a:cubicBezTo>
                    <a:pt x="399" y="40"/>
                    <a:pt x="399" y="42"/>
                    <a:pt x="399" y="44"/>
                  </a:cubicBezTo>
                  <a:close/>
                  <a:moveTo>
                    <a:pt x="176" y="100"/>
                  </a:moveTo>
                  <a:cubicBezTo>
                    <a:pt x="177" y="98"/>
                    <a:pt x="177" y="96"/>
                    <a:pt x="178" y="93"/>
                  </a:cubicBezTo>
                  <a:cubicBezTo>
                    <a:pt x="177" y="95"/>
                    <a:pt x="177" y="97"/>
                    <a:pt x="176" y="100"/>
                  </a:cubicBezTo>
                  <a:close/>
                  <a:moveTo>
                    <a:pt x="573" y="66"/>
                  </a:moveTo>
                  <a:cubicBezTo>
                    <a:pt x="573" y="63"/>
                    <a:pt x="574" y="61"/>
                    <a:pt x="574" y="59"/>
                  </a:cubicBezTo>
                  <a:cubicBezTo>
                    <a:pt x="574" y="59"/>
                    <a:pt x="573" y="62"/>
                    <a:pt x="573" y="66"/>
                  </a:cubicBezTo>
                  <a:close/>
                  <a:moveTo>
                    <a:pt x="14" y="81"/>
                  </a:moveTo>
                  <a:cubicBezTo>
                    <a:pt x="12" y="75"/>
                    <a:pt x="10" y="70"/>
                    <a:pt x="9" y="67"/>
                  </a:cubicBezTo>
                  <a:cubicBezTo>
                    <a:pt x="9" y="67"/>
                    <a:pt x="11" y="72"/>
                    <a:pt x="14" y="81"/>
                  </a:cubicBezTo>
                  <a:close/>
                  <a:moveTo>
                    <a:pt x="52" y="13"/>
                  </a:move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3"/>
                    <a:pt x="52" y="13"/>
                  </a:cubicBezTo>
                  <a:close/>
                  <a:moveTo>
                    <a:pt x="583" y="100"/>
                  </a:moveTo>
                  <a:cubicBezTo>
                    <a:pt x="582" y="97"/>
                    <a:pt x="582" y="95"/>
                    <a:pt x="581" y="93"/>
                  </a:cubicBezTo>
                  <a:cubicBezTo>
                    <a:pt x="581" y="96"/>
                    <a:pt x="582" y="98"/>
                    <a:pt x="583" y="100"/>
                  </a:cubicBezTo>
                  <a:close/>
                  <a:moveTo>
                    <a:pt x="2668" y="65"/>
                  </a:moveTo>
                  <a:cubicBezTo>
                    <a:pt x="2668" y="64"/>
                    <a:pt x="2668" y="63"/>
                    <a:pt x="2668" y="63"/>
                  </a:cubicBezTo>
                  <a:cubicBezTo>
                    <a:pt x="2668" y="63"/>
                    <a:pt x="2668" y="64"/>
                    <a:pt x="2668" y="65"/>
                  </a:cubicBezTo>
                  <a:close/>
                  <a:moveTo>
                    <a:pt x="109" y="90"/>
                  </a:moveTo>
                  <a:cubicBezTo>
                    <a:pt x="109" y="89"/>
                    <a:pt x="108" y="87"/>
                    <a:pt x="107" y="86"/>
                  </a:cubicBezTo>
                  <a:cubicBezTo>
                    <a:pt x="108" y="87"/>
                    <a:pt x="109" y="89"/>
                    <a:pt x="109" y="90"/>
                  </a:cubicBezTo>
                  <a:close/>
                  <a:moveTo>
                    <a:pt x="174" y="61"/>
                  </a:moveTo>
                  <a:cubicBezTo>
                    <a:pt x="174" y="55"/>
                    <a:pt x="174" y="49"/>
                    <a:pt x="172" y="44"/>
                  </a:cubicBezTo>
                  <a:cubicBezTo>
                    <a:pt x="172" y="44"/>
                    <a:pt x="173" y="51"/>
                    <a:pt x="174" y="61"/>
                  </a:cubicBezTo>
                  <a:close/>
                  <a:moveTo>
                    <a:pt x="615" y="68"/>
                  </a:moveTo>
                  <a:cubicBezTo>
                    <a:pt x="615" y="65"/>
                    <a:pt x="614" y="64"/>
                    <a:pt x="614" y="64"/>
                  </a:cubicBezTo>
                  <a:cubicBezTo>
                    <a:pt x="614" y="64"/>
                    <a:pt x="615" y="66"/>
                    <a:pt x="615" y="68"/>
                  </a:cubicBezTo>
                  <a:close/>
                  <a:moveTo>
                    <a:pt x="922" y="54"/>
                  </a:moveTo>
                  <a:cubicBezTo>
                    <a:pt x="922" y="53"/>
                    <a:pt x="922" y="52"/>
                    <a:pt x="922" y="52"/>
                  </a:cubicBezTo>
                  <a:cubicBezTo>
                    <a:pt x="922" y="53"/>
                    <a:pt x="922" y="53"/>
                    <a:pt x="922" y="54"/>
                  </a:cubicBezTo>
                  <a:close/>
                  <a:moveTo>
                    <a:pt x="870" y="65"/>
                  </a:moveTo>
                  <a:cubicBezTo>
                    <a:pt x="870" y="64"/>
                    <a:pt x="870" y="63"/>
                    <a:pt x="870" y="63"/>
                  </a:cubicBezTo>
                  <a:cubicBezTo>
                    <a:pt x="870" y="63"/>
                    <a:pt x="870" y="64"/>
                    <a:pt x="870" y="65"/>
                  </a:cubicBezTo>
                  <a:close/>
                  <a:moveTo>
                    <a:pt x="874" y="52"/>
                  </a:moveTo>
                  <a:cubicBezTo>
                    <a:pt x="874" y="50"/>
                    <a:pt x="874" y="49"/>
                    <a:pt x="874" y="49"/>
                  </a:cubicBezTo>
                  <a:cubicBezTo>
                    <a:pt x="874" y="50"/>
                    <a:pt x="874" y="51"/>
                    <a:pt x="874" y="52"/>
                  </a:cubicBezTo>
                  <a:close/>
                  <a:moveTo>
                    <a:pt x="918" y="90"/>
                  </a:moveTo>
                  <a:cubicBezTo>
                    <a:pt x="917" y="89"/>
                    <a:pt x="916" y="87"/>
                    <a:pt x="915" y="86"/>
                  </a:cubicBezTo>
                  <a:cubicBezTo>
                    <a:pt x="916" y="87"/>
                    <a:pt x="917" y="89"/>
                    <a:pt x="918" y="90"/>
                  </a:cubicBezTo>
                  <a:close/>
                  <a:moveTo>
                    <a:pt x="1037" y="54"/>
                  </a:moveTo>
                  <a:cubicBezTo>
                    <a:pt x="1037" y="54"/>
                    <a:pt x="1037" y="65"/>
                    <a:pt x="1036" y="84"/>
                  </a:cubicBezTo>
                  <a:cubicBezTo>
                    <a:pt x="1038" y="72"/>
                    <a:pt x="1039" y="60"/>
                    <a:pt x="1037" y="54"/>
                  </a:cubicBezTo>
                  <a:close/>
                  <a:moveTo>
                    <a:pt x="998" y="47"/>
                  </a:moveTo>
                  <a:cubicBezTo>
                    <a:pt x="997" y="39"/>
                    <a:pt x="997" y="33"/>
                    <a:pt x="996" y="30"/>
                  </a:cubicBezTo>
                  <a:cubicBezTo>
                    <a:pt x="996" y="30"/>
                    <a:pt x="996" y="37"/>
                    <a:pt x="998" y="47"/>
                  </a:cubicBezTo>
                  <a:close/>
                  <a:moveTo>
                    <a:pt x="688" y="61"/>
                  </a:moveTo>
                  <a:cubicBezTo>
                    <a:pt x="688" y="55"/>
                    <a:pt x="687" y="49"/>
                    <a:pt x="686" y="44"/>
                  </a:cubicBezTo>
                  <a:cubicBezTo>
                    <a:pt x="686" y="44"/>
                    <a:pt x="687" y="51"/>
                    <a:pt x="688" y="61"/>
                  </a:cubicBezTo>
                  <a:close/>
                  <a:moveTo>
                    <a:pt x="862" y="105"/>
                  </a:moveTo>
                  <a:cubicBezTo>
                    <a:pt x="862" y="103"/>
                    <a:pt x="862" y="101"/>
                    <a:pt x="861" y="99"/>
                  </a:cubicBezTo>
                  <a:cubicBezTo>
                    <a:pt x="861" y="101"/>
                    <a:pt x="862" y="103"/>
                    <a:pt x="862" y="105"/>
                  </a:cubicBezTo>
                  <a:close/>
                  <a:moveTo>
                    <a:pt x="644" y="67"/>
                  </a:moveTo>
                  <a:cubicBezTo>
                    <a:pt x="644" y="66"/>
                    <a:pt x="644" y="65"/>
                    <a:pt x="644" y="64"/>
                  </a:cubicBezTo>
                  <a:cubicBezTo>
                    <a:pt x="644" y="64"/>
                    <a:pt x="644" y="65"/>
                    <a:pt x="644" y="67"/>
                  </a:cubicBezTo>
                  <a:close/>
                  <a:moveTo>
                    <a:pt x="1092" y="106"/>
                  </a:moveTo>
                  <a:cubicBezTo>
                    <a:pt x="1092" y="103"/>
                    <a:pt x="1092" y="100"/>
                    <a:pt x="1091" y="96"/>
                  </a:cubicBezTo>
                  <a:cubicBezTo>
                    <a:pt x="1091" y="99"/>
                    <a:pt x="1092" y="103"/>
                    <a:pt x="1092" y="106"/>
                  </a:cubicBezTo>
                  <a:close/>
                  <a:moveTo>
                    <a:pt x="764" y="68"/>
                  </a:moveTo>
                  <a:cubicBezTo>
                    <a:pt x="764" y="68"/>
                    <a:pt x="764" y="71"/>
                    <a:pt x="764" y="75"/>
                  </a:cubicBezTo>
                  <a:cubicBezTo>
                    <a:pt x="764" y="72"/>
                    <a:pt x="764" y="70"/>
                    <a:pt x="764" y="68"/>
                  </a:cubicBezTo>
                  <a:close/>
                  <a:moveTo>
                    <a:pt x="771" y="62"/>
                  </a:moveTo>
                  <a:cubicBezTo>
                    <a:pt x="771" y="61"/>
                    <a:pt x="771" y="60"/>
                    <a:pt x="771" y="60"/>
                  </a:cubicBezTo>
                  <a:cubicBezTo>
                    <a:pt x="771" y="60"/>
                    <a:pt x="771" y="61"/>
                    <a:pt x="771" y="62"/>
                  </a:cubicBezTo>
                  <a:close/>
                  <a:moveTo>
                    <a:pt x="4239" y="67"/>
                  </a:moveTo>
                  <a:cubicBezTo>
                    <a:pt x="4239" y="66"/>
                    <a:pt x="4240" y="65"/>
                    <a:pt x="4239" y="64"/>
                  </a:cubicBezTo>
                  <a:cubicBezTo>
                    <a:pt x="4239" y="64"/>
                    <a:pt x="4239" y="65"/>
                    <a:pt x="4239" y="67"/>
                  </a:cubicBezTo>
                  <a:close/>
                  <a:moveTo>
                    <a:pt x="4593" y="47"/>
                  </a:moveTo>
                  <a:cubicBezTo>
                    <a:pt x="4593" y="39"/>
                    <a:pt x="4593" y="33"/>
                    <a:pt x="4591" y="30"/>
                  </a:cubicBezTo>
                  <a:cubicBezTo>
                    <a:pt x="4591" y="30"/>
                    <a:pt x="4592" y="37"/>
                    <a:pt x="4593" y="47"/>
                  </a:cubicBezTo>
                  <a:close/>
                  <a:moveTo>
                    <a:pt x="4518" y="54"/>
                  </a:moveTo>
                  <a:cubicBezTo>
                    <a:pt x="4518" y="53"/>
                    <a:pt x="4517" y="52"/>
                    <a:pt x="4517" y="52"/>
                  </a:cubicBezTo>
                  <a:cubicBezTo>
                    <a:pt x="4518" y="53"/>
                    <a:pt x="4518" y="53"/>
                    <a:pt x="4518" y="54"/>
                  </a:cubicBezTo>
                  <a:close/>
                  <a:moveTo>
                    <a:pt x="4633" y="54"/>
                  </a:moveTo>
                  <a:cubicBezTo>
                    <a:pt x="4633" y="54"/>
                    <a:pt x="4633" y="65"/>
                    <a:pt x="4632" y="84"/>
                  </a:cubicBezTo>
                  <a:cubicBezTo>
                    <a:pt x="4634" y="72"/>
                    <a:pt x="4635" y="60"/>
                    <a:pt x="4633" y="54"/>
                  </a:cubicBezTo>
                  <a:close/>
                  <a:moveTo>
                    <a:pt x="4513" y="90"/>
                  </a:moveTo>
                  <a:cubicBezTo>
                    <a:pt x="4513" y="89"/>
                    <a:pt x="4512" y="87"/>
                    <a:pt x="4511" y="86"/>
                  </a:cubicBezTo>
                  <a:cubicBezTo>
                    <a:pt x="4512" y="87"/>
                    <a:pt x="4513" y="89"/>
                    <a:pt x="4513" y="90"/>
                  </a:cubicBezTo>
                  <a:close/>
                  <a:moveTo>
                    <a:pt x="4688" y="106"/>
                  </a:moveTo>
                  <a:cubicBezTo>
                    <a:pt x="4688" y="103"/>
                    <a:pt x="4687" y="100"/>
                    <a:pt x="4687" y="96"/>
                  </a:cubicBezTo>
                  <a:cubicBezTo>
                    <a:pt x="4687" y="99"/>
                    <a:pt x="4688" y="103"/>
                    <a:pt x="4688" y="106"/>
                  </a:cubicBezTo>
                  <a:close/>
                  <a:moveTo>
                    <a:pt x="886" y="106"/>
                  </a:moveTo>
                  <a:cubicBezTo>
                    <a:pt x="886" y="103"/>
                    <a:pt x="885" y="101"/>
                    <a:pt x="885" y="99"/>
                  </a:cubicBezTo>
                  <a:cubicBezTo>
                    <a:pt x="885" y="101"/>
                    <a:pt x="885" y="103"/>
                    <a:pt x="886" y="106"/>
                  </a:cubicBezTo>
                  <a:close/>
                  <a:moveTo>
                    <a:pt x="4284" y="61"/>
                  </a:moveTo>
                  <a:cubicBezTo>
                    <a:pt x="4284" y="55"/>
                    <a:pt x="4283" y="49"/>
                    <a:pt x="4282" y="44"/>
                  </a:cubicBezTo>
                  <a:cubicBezTo>
                    <a:pt x="4282" y="44"/>
                    <a:pt x="4283" y="51"/>
                    <a:pt x="4284" y="61"/>
                  </a:cubicBezTo>
                  <a:close/>
                  <a:moveTo>
                    <a:pt x="4367" y="62"/>
                  </a:moveTo>
                  <a:cubicBezTo>
                    <a:pt x="4367" y="61"/>
                    <a:pt x="4367" y="60"/>
                    <a:pt x="4367" y="60"/>
                  </a:cubicBezTo>
                  <a:cubicBezTo>
                    <a:pt x="4367" y="60"/>
                    <a:pt x="4367" y="61"/>
                    <a:pt x="4367" y="62"/>
                  </a:cubicBezTo>
                  <a:close/>
                  <a:moveTo>
                    <a:pt x="4470" y="52"/>
                  </a:moveTo>
                  <a:cubicBezTo>
                    <a:pt x="4470" y="50"/>
                    <a:pt x="4470" y="49"/>
                    <a:pt x="4470" y="49"/>
                  </a:cubicBezTo>
                  <a:cubicBezTo>
                    <a:pt x="4470" y="50"/>
                    <a:pt x="4470" y="51"/>
                    <a:pt x="4470" y="52"/>
                  </a:cubicBezTo>
                  <a:close/>
                  <a:moveTo>
                    <a:pt x="4360" y="68"/>
                  </a:moveTo>
                  <a:cubicBezTo>
                    <a:pt x="4360" y="68"/>
                    <a:pt x="4360" y="71"/>
                    <a:pt x="4360" y="75"/>
                  </a:cubicBezTo>
                  <a:cubicBezTo>
                    <a:pt x="4360" y="72"/>
                    <a:pt x="4360" y="70"/>
                    <a:pt x="4360" y="68"/>
                  </a:cubicBezTo>
                  <a:close/>
                  <a:moveTo>
                    <a:pt x="4748" y="85"/>
                  </a:moveTo>
                  <a:cubicBezTo>
                    <a:pt x="4748" y="84"/>
                    <a:pt x="4748" y="84"/>
                    <a:pt x="4747" y="83"/>
                  </a:cubicBezTo>
                  <a:cubicBezTo>
                    <a:pt x="4748" y="84"/>
                    <a:pt x="4748" y="84"/>
                    <a:pt x="4748" y="85"/>
                  </a:cubicBezTo>
                  <a:close/>
                  <a:moveTo>
                    <a:pt x="4748" y="85"/>
                  </a:moveTo>
                  <a:cubicBezTo>
                    <a:pt x="4750" y="92"/>
                    <a:pt x="4750" y="108"/>
                    <a:pt x="4750" y="115"/>
                  </a:cubicBezTo>
                  <a:cubicBezTo>
                    <a:pt x="4750" y="127"/>
                    <a:pt x="4750" y="138"/>
                    <a:pt x="4752" y="150"/>
                  </a:cubicBezTo>
                  <a:cubicBezTo>
                    <a:pt x="4743" y="126"/>
                    <a:pt x="4740" y="99"/>
                    <a:pt x="4733" y="74"/>
                  </a:cubicBezTo>
                  <a:cubicBezTo>
                    <a:pt x="4736" y="91"/>
                    <a:pt x="4732" y="110"/>
                    <a:pt x="4732" y="128"/>
                  </a:cubicBezTo>
                  <a:cubicBezTo>
                    <a:pt x="4732" y="132"/>
                    <a:pt x="4733" y="136"/>
                    <a:pt x="4733" y="140"/>
                  </a:cubicBezTo>
                  <a:cubicBezTo>
                    <a:pt x="4733" y="145"/>
                    <a:pt x="4734" y="149"/>
                    <a:pt x="4735" y="154"/>
                  </a:cubicBezTo>
                  <a:cubicBezTo>
                    <a:pt x="4734" y="149"/>
                    <a:pt x="4733" y="145"/>
                    <a:pt x="4733" y="140"/>
                  </a:cubicBezTo>
                  <a:cubicBezTo>
                    <a:pt x="4730" y="120"/>
                    <a:pt x="4727" y="99"/>
                    <a:pt x="4722" y="80"/>
                  </a:cubicBezTo>
                  <a:cubicBezTo>
                    <a:pt x="4724" y="102"/>
                    <a:pt x="4714" y="126"/>
                    <a:pt x="4714" y="149"/>
                  </a:cubicBezTo>
                  <a:cubicBezTo>
                    <a:pt x="4714" y="156"/>
                    <a:pt x="4714" y="156"/>
                    <a:pt x="4714" y="156"/>
                  </a:cubicBezTo>
                  <a:cubicBezTo>
                    <a:pt x="4710" y="147"/>
                    <a:pt x="4710" y="132"/>
                    <a:pt x="4710" y="122"/>
                  </a:cubicBezTo>
                  <a:cubicBezTo>
                    <a:pt x="4710" y="100"/>
                    <a:pt x="4712" y="79"/>
                    <a:pt x="4711" y="57"/>
                  </a:cubicBezTo>
                  <a:cubicBezTo>
                    <a:pt x="4708" y="62"/>
                    <a:pt x="4707" y="112"/>
                    <a:pt x="4707" y="120"/>
                  </a:cubicBezTo>
                  <a:cubicBezTo>
                    <a:pt x="4707" y="133"/>
                    <a:pt x="4708" y="146"/>
                    <a:pt x="4711" y="159"/>
                  </a:cubicBezTo>
                  <a:cubicBezTo>
                    <a:pt x="4706" y="135"/>
                    <a:pt x="4700" y="108"/>
                    <a:pt x="4688" y="85"/>
                  </a:cubicBezTo>
                  <a:cubicBezTo>
                    <a:pt x="4699" y="106"/>
                    <a:pt x="4694" y="132"/>
                    <a:pt x="4701" y="154"/>
                  </a:cubicBezTo>
                  <a:cubicBezTo>
                    <a:pt x="4693" y="142"/>
                    <a:pt x="4691" y="122"/>
                    <a:pt x="4688" y="106"/>
                  </a:cubicBezTo>
                  <a:cubicBezTo>
                    <a:pt x="4690" y="120"/>
                    <a:pt x="4688" y="134"/>
                    <a:pt x="4690" y="148"/>
                  </a:cubicBezTo>
                  <a:cubicBezTo>
                    <a:pt x="4691" y="151"/>
                    <a:pt x="4692" y="153"/>
                    <a:pt x="4692" y="155"/>
                  </a:cubicBezTo>
                  <a:cubicBezTo>
                    <a:pt x="4691" y="153"/>
                    <a:pt x="4691" y="151"/>
                    <a:pt x="4690" y="148"/>
                  </a:cubicBezTo>
                  <a:cubicBezTo>
                    <a:pt x="4685" y="128"/>
                    <a:pt x="4673" y="75"/>
                    <a:pt x="4661" y="68"/>
                  </a:cubicBezTo>
                  <a:cubicBezTo>
                    <a:pt x="4678" y="90"/>
                    <a:pt x="4676" y="127"/>
                    <a:pt x="4680" y="153"/>
                  </a:cubicBezTo>
                  <a:cubicBezTo>
                    <a:pt x="4676" y="134"/>
                    <a:pt x="4669" y="113"/>
                    <a:pt x="4660" y="95"/>
                  </a:cubicBezTo>
                  <a:cubicBezTo>
                    <a:pt x="4667" y="115"/>
                    <a:pt x="4666" y="136"/>
                    <a:pt x="4675" y="155"/>
                  </a:cubicBezTo>
                  <a:cubicBezTo>
                    <a:pt x="4662" y="144"/>
                    <a:pt x="4655" y="117"/>
                    <a:pt x="4651" y="102"/>
                  </a:cubicBezTo>
                  <a:cubicBezTo>
                    <a:pt x="4651" y="120"/>
                    <a:pt x="4656" y="143"/>
                    <a:pt x="4667" y="158"/>
                  </a:cubicBezTo>
                  <a:cubicBezTo>
                    <a:pt x="4653" y="144"/>
                    <a:pt x="4648" y="103"/>
                    <a:pt x="4643" y="85"/>
                  </a:cubicBezTo>
                  <a:cubicBezTo>
                    <a:pt x="4642" y="88"/>
                    <a:pt x="4642" y="91"/>
                    <a:pt x="4642" y="94"/>
                  </a:cubicBezTo>
                  <a:cubicBezTo>
                    <a:pt x="4642" y="113"/>
                    <a:pt x="4647" y="142"/>
                    <a:pt x="4659" y="159"/>
                  </a:cubicBezTo>
                  <a:cubicBezTo>
                    <a:pt x="4645" y="143"/>
                    <a:pt x="4640" y="123"/>
                    <a:pt x="4634" y="104"/>
                  </a:cubicBezTo>
                  <a:cubicBezTo>
                    <a:pt x="4638" y="122"/>
                    <a:pt x="4638" y="140"/>
                    <a:pt x="4647" y="158"/>
                  </a:cubicBezTo>
                  <a:cubicBezTo>
                    <a:pt x="4637" y="147"/>
                    <a:pt x="4632" y="132"/>
                    <a:pt x="4628" y="117"/>
                  </a:cubicBezTo>
                  <a:cubicBezTo>
                    <a:pt x="4630" y="105"/>
                    <a:pt x="4631" y="93"/>
                    <a:pt x="4632" y="84"/>
                  </a:cubicBezTo>
                  <a:cubicBezTo>
                    <a:pt x="4630" y="92"/>
                    <a:pt x="4628" y="101"/>
                    <a:pt x="4626" y="109"/>
                  </a:cubicBezTo>
                  <a:cubicBezTo>
                    <a:pt x="4625" y="102"/>
                    <a:pt x="4623" y="95"/>
                    <a:pt x="4621" y="89"/>
                  </a:cubicBezTo>
                  <a:cubicBezTo>
                    <a:pt x="4624" y="64"/>
                    <a:pt x="4628" y="40"/>
                    <a:pt x="4628" y="40"/>
                  </a:cubicBezTo>
                  <a:cubicBezTo>
                    <a:pt x="4623" y="51"/>
                    <a:pt x="4618" y="77"/>
                    <a:pt x="4615" y="100"/>
                  </a:cubicBezTo>
                  <a:cubicBezTo>
                    <a:pt x="4613" y="95"/>
                    <a:pt x="4610" y="90"/>
                    <a:pt x="4609" y="86"/>
                  </a:cubicBezTo>
                  <a:cubicBezTo>
                    <a:pt x="4608" y="70"/>
                    <a:pt x="4606" y="58"/>
                    <a:pt x="4606" y="60"/>
                  </a:cubicBezTo>
                  <a:cubicBezTo>
                    <a:pt x="4606" y="61"/>
                    <a:pt x="4606" y="69"/>
                    <a:pt x="4605" y="80"/>
                  </a:cubicBezTo>
                  <a:cubicBezTo>
                    <a:pt x="4604" y="79"/>
                    <a:pt x="4604" y="78"/>
                    <a:pt x="4603" y="78"/>
                  </a:cubicBezTo>
                  <a:cubicBezTo>
                    <a:pt x="4604" y="79"/>
                    <a:pt x="4604" y="80"/>
                    <a:pt x="4605" y="81"/>
                  </a:cubicBezTo>
                  <a:cubicBezTo>
                    <a:pt x="4604" y="87"/>
                    <a:pt x="4604" y="95"/>
                    <a:pt x="4603" y="102"/>
                  </a:cubicBezTo>
                  <a:cubicBezTo>
                    <a:pt x="4603" y="102"/>
                    <a:pt x="4603" y="102"/>
                    <a:pt x="4603" y="102"/>
                  </a:cubicBezTo>
                  <a:cubicBezTo>
                    <a:pt x="4603" y="103"/>
                    <a:pt x="4603" y="103"/>
                    <a:pt x="4603" y="103"/>
                  </a:cubicBezTo>
                  <a:cubicBezTo>
                    <a:pt x="4602" y="113"/>
                    <a:pt x="4602" y="123"/>
                    <a:pt x="4601" y="130"/>
                  </a:cubicBezTo>
                  <a:cubicBezTo>
                    <a:pt x="4601" y="130"/>
                    <a:pt x="4600" y="129"/>
                    <a:pt x="4600" y="128"/>
                  </a:cubicBezTo>
                  <a:cubicBezTo>
                    <a:pt x="4600" y="107"/>
                    <a:pt x="4596" y="69"/>
                    <a:pt x="4593" y="47"/>
                  </a:cubicBezTo>
                  <a:cubicBezTo>
                    <a:pt x="4594" y="64"/>
                    <a:pt x="4593" y="87"/>
                    <a:pt x="4592" y="107"/>
                  </a:cubicBezTo>
                  <a:cubicBezTo>
                    <a:pt x="4591" y="105"/>
                    <a:pt x="4590" y="104"/>
                    <a:pt x="4589" y="102"/>
                  </a:cubicBezTo>
                  <a:cubicBezTo>
                    <a:pt x="4590" y="104"/>
                    <a:pt x="4591" y="106"/>
                    <a:pt x="4591" y="107"/>
                  </a:cubicBezTo>
                  <a:cubicBezTo>
                    <a:pt x="4591" y="114"/>
                    <a:pt x="4591" y="121"/>
                    <a:pt x="4590" y="126"/>
                  </a:cubicBezTo>
                  <a:cubicBezTo>
                    <a:pt x="4590" y="125"/>
                    <a:pt x="4589" y="123"/>
                    <a:pt x="4589" y="122"/>
                  </a:cubicBezTo>
                  <a:cubicBezTo>
                    <a:pt x="4588" y="93"/>
                    <a:pt x="4584" y="46"/>
                    <a:pt x="4584" y="46"/>
                  </a:cubicBezTo>
                  <a:cubicBezTo>
                    <a:pt x="4583" y="65"/>
                    <a:pt x="4577" y="142"/>
                    <a:pt x="4577" y="142"/>
                  </a:cubicBezTo>
                  <a:cubicBezTo>
                    <a:pt x="4571" y="106"/>
                    <a:pt x="4578" y="0"/>
                    <a:pt x="4578" y="0"/>
                  </a:cubicBezTo>
                  <a:cubicBezTo>
                    <a:pt x="4572" y="16"/>
                    <a:pt x="4566" y="131"/>
                    <a:pt x="4566" y="131"/>
                  </a:cubicBezTo>
                  <a:cubicBezTo>
                    <a:pt x="4564" y="36"/>
                    <a:pt x="4560" y="32"/>
                    <a:pt x="4560" y="32"/>
                  </a:cubicBezTo>
                  <a:cubicBezTo>
                    <a:pt x="4562" y="43"/>
                    <a:pt x="4559" y="76"/>
                    <a:pt x="4556" y="103"/>
                  </a:cubicBezTo>
                  <a:cubicBezTo>
                    <a:pt x="4555" y="102"/>
                    <a:pt x="4554" y="100"/>
                    <a:pt x="4553" y="99"/>
                  </a:cubicBezTo>
                  <a:cubicBezTo>
                    <a:pt x="4554" y="101"/>
                    <a:pt x="4555" y="103"/>
                    <a:pt x="4556" y="104"/>
                  </a:cubicBezTo>
                  <a:cubicBezTo>
                    <a:pt x="4555" y="112"/>
                    <a:pt x="4554" y="120"/>
                    <a:pt x="4553" y="126"/>
                  </a:cubicBezTo>
                  <a:cubicBezTo>
                    <a:pt x="4553" y="124"/>
                    <a:pt x="4553" y="123"/>
                    <a:pt x="4553" y="122"/>
                  </a:cubicBezTo>
                  <a:cubicBezTo>
                    <a:pt x="4553" y="94"/>
                    <a:pt x="4552" y="48"/>
                    <a:pt x="4552" y="48"/>
                  </a:cubicBezTo>
                  <a:cubicBezTo>
                    <a:pt x="4551" y="55"/>
                    <a:pt x="4548" y="82"/>
                    <a:pt x="4545" y="106"/>
                  </a:cubicBezTo>
                  <a:cubicBezTo>
                    <a:pt x="4544" y="104"/>
                    <a:pt x="4543" y="102"/>
                    <a:pt x="4543" y="100"/>
                  </a:cubicBezTo>
                  <a:cubicBezTo>
                    <a:pt x="4546" y="60"/>
                    <a:pt x="4550" y="9"/>
                    <a:pt x="4550" y="9"/>
                  </a:cubicBezTo>
                  <a:cubicBezTo>
                    <a:pt x="4545" y="23"/>
                    <a:pt x="4538" y="83"/>
                    <a:pt x="4535" y="117"/>
                  </a:cubicBezTo>
                  <a:cubicBezTo>
                    <a:pt x="4534" y="114"/>
                    <a:pt x="4533" y="111"/>
                    <a:pt x="4532" y="108"/>
                  </a:cubicBezTo>
                  <a:cubicBezTo>
                    <a:pt x="4532" y="90"/>
                    <a:pt x="4530" y="72"/>
                    <a:pt x="4530" y="72"/>
                  </a:cubicBezTo>
                  <a:cubicBezTo>
                    <a:pt x="4530" y="76"/>
                    <a:pt x="4530" y="84"/>
                    <a:pt x="4529" y="94"/>
                  </a:cubicBezTo>
                  <a:cubicBezTo>
                    <a:pt x="4528" y="91"/>
                    <a:pt x="4526" y="88"/>
                    <a:pt x="4525" y="84"/>
                  </a:cubicBezTo>
                  <a:cubicBezTo>
                    <a:pt x="4526" y="88"/>
                    <a:pt x="4528" y="92"/>
                    <a:pt x="4528" y="96"/>
                  </a:cubicBezTo>
                  <a:cubicBezTo>
                    <a:pt x="4528" y="99"/>
                    <a:pt x="4528" y="103"/>
                    <a:pt x="4527" y="107"/>
                  </a:cubicBezTo>
                  <a:cubicBezTo>
                    <a:pt x="4527" y="106"/>
                    <a:pt x="4527" y="106"/>
                    <a:pt x="4527" y="105"/>
                  </a:cubicBezTo>
                  <a:cubicBezTo>
                    <a:pt x="4526" y="107"/>
                    <a:pt x="4526" y="112"/>
                    <a:pt x="4526" y="116"/>
                  </a:cubicBezTo>
                  <a:cubicBezTo>
                    <a:pt x="4525" y="121"/>
                    <a:pt x="4525" y="126"/>
                    <a:pt x="4524" y="130"/>
                  </a:cubicBezTo>
                  <a:cubicBezTo>
                    <a:pt x="4524" y="129"/>
                    <a:pt x="4524" y="128"/>
                    <a:pt x="4524" y="127"/>
                  </a:cubicBezTo>
                  <a:cubicBezTo>
                    <a:pt x="4524" y="101"/>
                    <a:pt x="4519" y="63"/>
                    <a:pt x="4518" y="54"/>
                  </a:cubicBezTo>
                  <a:cubicBezTo>
                    <a:pt x="4518" y="61"/>
                    <a:pt x="4517" y="79"/>
                    <a:pt x="4516" y="96"/>
                  </a:cubicBezTo>
                  <a:cubicBezTo>
                    <a:pt x="4515" y="94"/>
                    <a:pt x="4514" y="92"/>
                    <a:pt x="4513" y="90"/>
                  </a:cubicBezTo>
                  <a:cubicBezTo>
                    <a:pt x="4514" y="93"/>
                    <a:pt x="4515" y="95"/>
                    <a:pt x="4516" y="97"/>
                  </a:cubicBezTo>
                  <a:cubicBezTo>
                    <a:pt x="4514" y="118"/>
                    <a:pt x="4511" y="137"/>
                    <a:pt x="4511" y="137"/>
                  </a:cubicBezTo>
                  <a:cubicBezTo>
                    <a:pt x="4511" y="136"/>
                    <a:pt x="4511" y="134"/>
                    <a:pt x="4511" y="133"/>
                  </a:cubicBezTo>
                  <a:cubicBezTo>
                    <a:pt x="4511" y="125"/>
                    <a:pt x="4511" y="118"/>
                    <a:pt x="4510" y="110"/>
                  </a:cubicBezTo>
                  <a:cubicBezTo>
                    <a:pt x="4509" y="76"/>
                    <a:pt x="4508" y="40"/>
                    <a:pt x="4508" y="40"/>
                  </a:cubicBezTo>
                  <a:cubicBezTo>
                    <a:pt x="4508" y="49"/>
                    <a:pt x="4503" y="79"/>
                    <a:pt x="4499" y="104"/>
                  </a:cubicBezTo>
                  <a:cubicBezTo>
                    <a:pt x="4499" y="99"/>
                    <a:pt x="4498" y="95"/>
                    <a:pt x="4497" y="90"/>
                  </a:cubicBezTo>
                  <a:cubicBezTo>
                    <a:pt x="4498" y="67"/>
                    <a:pt x="4499" y="45"/>
                    <a:pt x="4499" y="45"/>
                  </a:cubicBezTo>
                  <a:cubicBezTo>
                    <a:pt x="4499" y="53"/>
                    <a:pt x="4493" y="75"/>
                    <a:pt x="4486" y="96"/>
                  </a:cubicBezTo>
                  <a:cubicBezTo>
                    <a:pt x="4485" y="93"/>
                    <a:pt x="4484" y="89"/>
                    <a:pt x="4482" y="85"/>
                  </a:cubicBezTo>
                  <a:cubicBezTo>
                    <a:pt x="4489" y="51"/>
                    <a:pt x="4497" y="17"/>
                    <a:pt x="4497" y="17"/>
                  </a:cubicBezTo>
                  <a:cubicBezTo>
                    <a:pt x="4492" y="24"/>
                    <a:pt x="4477" y="95"/>
                    <a:pt x="4470" y="130"/>
                  </a:cubicBezTo>
                  <a:cubicBezTo>
                    <a:pt x="4470" y="130"/>
                    <a:pt x="4470" y="130"/>
                    <a:pt x="4470" y="130"/>
                  </a:cubicBezTo>
                  <a:cubicBezTo>
                    <a:pt x="4474" y="100"/>
                    <a:pt x="4471" y="63"/>
                    <a:pt x="4470" y="52"/>
                  </a:cubicBezTo>
                  <a:cubicBezTo>
                    <a:pt x="4472" y="72"/>
                    <a:pt x="4466" y="109"/>
                    <a:pt x="4462" y="128"/>
                  </a:cubicBezTo>
                  <a:cubicBezTo>
                    <a:pt x="4462" y="126"/>
                    <a:pt x="4462" y="123"/>
                    <a:pt x="4461" y="120"/>
                  </a:cubicBezTo>
                  <a:cubicBezTo>
                    <a:pt x="4463" y="99"/>
                    <a:pt x="4465" y="71"/>
                    <a:pt x="4466" y="65"/>
                  </a:cubicBezTo>
                  <a:cubicBezTo>
                    <a:pt x="4465" y="71"/>
                    <a:pt x="4462" y="89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4" y="125"/>
                    <a:pt x="4451" y="143"/>
                    <a:pt x="4451" y="143"/>
                  </a:cubicBezTo>
                  <a:cubicBezTo>
                    <a:pt x="4461" y="38"/>
                    <a:pt x="4454" y="25"/>
                    <a:pt x="4454" y="25"/>
                  </a:cubicBezTo>
                  <a:cubicBezTo>
                    <a:pt x="4457" y="42"/>
                    <a:pt x="4454" y="72"/>
                    <a:pt x="4449" y="96"/>
                  </a:cubicBezTo>
                  <a:cubicBezTo>
                    <a:pt x="4448" y="89"/>
                    <a:pt x="4446" y="80"/>
                    <a:pt x="4443" y="73"/>
                  </a:cubicBezTo>
                  <a:cubicBezTo>
                    <a:pt x="4442" y="65"/>
                    <a:pt x="4442" y="60"/>
                    <a:pt x="4442" y="60"/>
                  </a:cubicBezTo>
                  <a:cubicBezTo>
                    <a:pt x="4442" y="63"/>
                    <a:pt x="4442" y="67"/>
                    <a:pt x="4441" y="71"/>
                  </a:cubicBezTo>
                  <a:cubicBezTo>
                    <a:pt x="4440" y="69"/>
                    <a:pt x="4439" y="67"/>
                    <a:pt x="4437" y="65"/>
                  </a:cubicBezTo>
                  <a:cubicBezTo>
                    <a:pt x="4439" y="67"/>
                    <a:pt x="4440" y="70"/>
                    <a:pt x="4441" y="73"/>
                  </a:cubicBezTo>
                  <a:cubicBezTo>
                    <a:pt x="4441" y="82"/>
                    <a:pt x="4440" y="92"/>
                    <a:pt x="4438" y="101"/>
                  </a:cubicBezTo>
                  <a:cubicBezTo>
                    <a:pt x="4438" y="95"/>
                    <a:pt x="4435" y="88"/>
                    <a:pt x="4430" y="83"/>
                  </a:cubicBezTo>
                  <a:cubicBezTo>
                    <a:pt x="4430" y="74"/>
                    <a:pt x="4431" y="68"/>
                    <a:pt x="4431" y="68"/>
                  </a:cubicBezTo>
                  <a:cubicBezTo>
                    <a:pt x="4430" y="72"/>
                    <a:pt x="4429" y="76"/>
                    <a:pt x="4428" y="81"/>
                  </a:cubicBezTo>
                  <a:cubicBezTo>
                    <a:pt x="4428" y="81"/>
                    <a:pt x="4427" y="81"/>
                    <a:pt x="4427" y="80"/>
                  </a:cubicBezTo>
                  <a:cubicBezTo>
                    <a:pt x="4427" y="81"/>
                    <a:pt x="4428" y="81"/>
                    <a:pt x="4428" y="82"/>
                  </a:cubicBezTo>
                  <a:cubicBezTo>
                    <a:pt x="4425" y="101"/>
                    <a:pt x="4424" y="130"/>
                    <a:pt x="4424" y="142"/>
                  </a:cubicBezTo>
                  <a:cubicBezTo>
                    <a:pt x="4424" y="143"/>
                    <a:pt x="4423" y="144"/>
                    <a:pt x="4423" y="144"/>
                  </a:cubicBezTo>
                  <a:cubicBezTo>
                    <a:pt x="4422" y="141"/>
                    <a:pt x="4422" y="136"/>
                    <a:pt x="4422" y="131"/>
                  </a:cubicBezTo>
                  <a:cubicBezTo>
                    <a:pt x="4423" y="121"/>
                    <a:pt x="4425" y="112"/>
                    <a:pt x="4426" y="103"/>
                  </a:cubicBezTo>
                  <a:cubicBezTo>
                    <a:pt x="4425" y="108"/>
                    <a:pt x="4424" y="112"/>
                    <a:pt x="4423" y="117"/>
                  </a:cubicBezTo>
                  <a:cubicBezTo>
                    <a:pt x="4424" y="85"/>
                    <a:pt x="4430" y="45"/>
                    <a:pt x="4430" y="45"/>
                  </a:cubicBezTo>
                  <a:cubicBezTo>
                    <a:pt x="4423" y="60"/>
                    <a:pt x="4418" y="95"/>
                    <a:pt x="4416" y="120"/>
                  </a:cubicBezTo>
                  <a:cubicBezTo>
                    <a:pt x="4416" y="123"/>
                    <a:pt x="4415" y="125"/>
                    <a:pt x="4414" y="127"/>
                  </a:cubicBezTo>
                  <a:cubicBezTo>
                    <a:pt x="4413" y="103"/>
                    <a:pt x="4413" y="70"/>
                    <a:pt x="4413" y="70"/>
                  </a:cubicBezTo>
                  <a:cubicBezTo>
                    <a:pt x="4413" y="72"/>
                    <a:pt x="4413" y="76"/>
                    <a:pt x="4412" y="81"/>
                  </a:cubicBezTo>
                  <a:cubicBezTo>
                    <a:pt x="4411" y="73"/>
                    <a:pt x="4409" y="66"/>
                    <a:pt x="4406" y="60"/>
                  </a:cubicBezTo>
                  <a:cubicBezTo>
                    <a:pt x="4407" y="52"/>
                    <a:pt x="4407" y="46"/>
                    <a:pt x="4407" y="46"/>
                  </a:cubicBezTo>
                  <a:cubicBezTo>
                    <a:pt x="4405" y="51"/>
                    <a:pt x="4403" y="64"/>
                    <a:pt x="4402" y="79"/>
                  </a:cubicBezTo>
                  <a:cubicBezTo>
                    <a:pt x="4401" y="77"/>
                    <a:pt x="4401" y="75"/>
                    <a:pt x="4400" y="74"/>
                  </a:cubicBezTo>
                  <a:cubicBezTo>
                    <a:pt x="4399" y="83"/>
                    <a:pt x="4399" y="92"/>
                    <a:pt x="4399" y="102"/>
                  </a:cubicBezTo>
                  <a:cubicBezTo>
                    <a:pt x="4399" y="108"/>
                    <a:pt x="4398" y="115"/>
                    <a:pt x="4397" y="121"/>
                  </a:cubicBezTo>
                  <a:cubicBezTo>
                    <a:pt x="4397" y="123"/>
                    <a:pt x="4396" y="125"/>
                    <a:pt x="4396" y="127"/>
                  </a:cubicBezTo>
                  <a:cubicBezTo>
                    <a:pt x="4396" y="35"/>
                    <a:pt x="4394" y="34"/>
                    <a:pt x="4394" y="34"/>
                  </a:cubicBezTo>
                  <a:cubicBezTo>
                    <a:pt x="4396" y="49"/>
                    <a:pt x="4392" y="77"/>
                    <a:pt x="4388" y="102"/>
                  </a:cubicBezTo>
                  <a:cubicBezTo>
                    <a:pt x="4387" y="94"/>
                    <a:pt x="4385" y="85"/>
                    <a:pt x="4381" y="76"/>
                  </a:cubicBezTo>
                  <a:cubicBezTo>
                    <a:pt x="4382" y="70"/>
                    <a:pt x="4382" y="66"/>
                    <a:pt x="4382" y="66"/>
                  </a:cubicBezTo>
                  <a:cubicBezTo>
                    <a:pt x="4382" y="68"/>
                    <a:pt x="4381" y="71"/>
                    <a:pt x="4380" y="74"/>
                  </a:cubicBezTo>
                  <a:cubicBezTo>
                    <a:pt x="4380" y="73"/>
                    <a:pt x="4379" y="72"/>
                    <a:pt x="4378" y="71"/>
                  </a:cubicBezTo>
                  <a:cubicBezTo>
                    <a:pt x="4379" y="73"/>
                    <a:pt x="4379" y="74"/>
                    <a:pt x="4380" y="76"/>
                  </a:cubicBezTo>
                  <a:cubicBezTo>
                    <a:pt x="4378" y="83"/>
                    <a:pt x="4376" y="93"/>
                    <a:pt x="4374" y="103"/>
                  </a:cubicBezTo>
                  <a:cubicBezTo>
                    <a:pt x="4374" y="98"/>
                    <a:pt x="4373" y="94"/>
                    <a:pt x="4372" y="89"/>
                  </a:cubicBezTo>
                  <a:cubicBezTo>
                    <a:pt x="4373" y="96"/>
                    <a:pt x="4371" y="104"/>
                    <a:pt x="4369" y="112"/>
                  </a:cubicBezTo>
                  <a:cubicBezTo>
                    <a:pt x="4369" y="92"/>
                    <a:pt x="4368" y="70"/>
                    <a:pt x="4367" y="62"/>
                  </a:cubicBezTo>
                  <a:cubicBezTo>
                    <a:pt x="4367" y="67"/>
                    <a:pt x="4367" y="74"/>
                    <a:pt x="4367" y="82"/>
                  </a:cubicBezTo>
                  <a:cubicBezTo>
                    <a:pt x="4365" y="87"/>
                    <a:pt x="4362" y="94"/>
                    <a:pt x="4360" y="101"/>
                  </a:cubicBezTo>
                  <a:cubicBezTo>
                    <a:pt x="4360" y="91"/>
                    <a:pt x="4360" y="82"/>
                    <a:pt x="4360" y="75"/>
                  </a:cubicBezTo>
                  <a:cubicBezTo>
                    <a:pt x="4359" y="86"/>
                    <a:pt x="4357" y="102"/>
                    <a:pt x="4355" y="116"/>
                  </a:cubicBezTo>
                  <a:cubicBezTo>
                    <a:pt x="4353" y="123"/>
                    <a:pt x="4351" y="130"/>
                    <a:pt x="4349" y="136"/>
                  </a:cubicBezTo>
                  <a:cubicBezTo>
                    <a:pt x="4349" y="118"/>
                    <a:pt x="4352" y="89"/>
                    <a:pt x="4352" y="89"/>
                  </a:cubicBezTo>
                  <a:cubicBezTo>
                    <a:pt x="4351" y="93"/>
                    <a:pt x="4349" y="99"/>
                    <a:pt x="4347" y="106"/>
                  </a:cubicBezTo>
                  <a:cubicBezTo>
                    <a:pt x="4347" y="104"/>
                    <a:pt x="4347" y="101"/>
                    <a:pt x="4346" y="99"/>
                  </a:cubicBezTo>
                  <a:cubicBezTo>
                    <a:pt x="4346" y="96"/>
                    <a:pt x="4346" y="96"/>
                    <a:pt x="4346" y="96"/>
                  </a:cubicBezTo>
                  <a:cubicBezTo>
                    <a:pt x="4345" y="95"/>
                    <a:pt x="4345" y="95"/>
                    <a:pt x="4345" y="95"/>
                  </a:cubicBezTo>
                  <a:cubicBezTo>
                    <a:pt x="4345" y="104"/>
                    <a:pt x="4343" y="113"/>
                    <a:pt x="4341" y="122"/>
                  </a:cubicBezTo>
                  <a:cubicBezTo>
                    <a:pt x="4339" y="127"/>
                    <a:pt x="4338" y="131"/>
                    <a:pt x="4336" y="134"/>
                  </a:cubicBezTo>
                  <a:cubicBezTo>
                    <a:pt x="4336" y="130"/>
                    <a:pt x="4336" y="126"/>
                    <a:pt x="4336" y="122"/>
                  </a:cubicBezTo>
                  <a:cubicBezTo>
                    <a:pt x="4340" y="102"/>
                    <a:pt x="4347" y="76"/>
                    <a:pt x="4347" y="76"/>
                  </a:cubicBezTo>
                  <a:cubicBezTo>
                    <a:pt x="4342" y="82"/>
                    <a:pt x="4337" y="94"/>
                    <a:pt x="4333" y="105"/>
                  </a:cubicBezTo>
                  <a:cubicBezTo>
                    <a:pt x="4332" y="102"/>
                    <a:pt x="4331" y="98"/>
                    <a:pt x="4330" y="95"/>
                  </a:cubicBezTo>
                  <a:cubicBezTo>
                    <a:pt x="4331" y="74"/>
                    <a:pt x="4327" y="62"/>
                    <a:pt x="4327" y="62"/>
                  </a:cubicBezTo>
                  <a:cubicBezTo>
                    <a:pt x="4329" y="69"/>
                    <a:pt x="4329" y="78"/>
                    <a:pt x="4328" y="88"/>
                  </a:cubicBezTo>
                  <a:cubicBezTo>
                    <a:pt x="4325" y="83"/>
                    <a:pt x="4322" y="78"/>
                    <a:pt x="4318" y="73"/>
                  </a:cubicBezTo>
                  <a:cubicBezTo>
                    <a:pt x="4322" y="80"/>
                    <a:pt x="4325" y="92"/>
                    <a:pt x="4326" y="102"/>
                  </a:cubicBezTo>
                  <a:cubicBezTo>
                    <a:pt x="4325" y="108"/>
                    <a:pt x="4324" y="115"/>
                    <a:pt x="4323" y="120"/>
                  </a:cubicBezTo>
                  <a:cubicBezTo>
                    <a:pt x="4322" y="113"/>
                    <a:pt x="4321" y="106"/>
                    <a:pt x="4319" y="100"/>
                  </a:cubicBezTo>
                  <a:cubicBezTo>
                    <a:pt x="4320" y="89"/>
                    <a:pt x="4320" y="82"/>
                    <a:pt x="4320" y="82"/>
                  </a:cubicBezTo>
                  <a:cubicBezTo>
                    <a:pt x="4319" y="98"/>
                    <a:pt x="4319" y="98"/>
                    <a:pt x="4319" y="98"/>
                  </a:cubicBezTo>
                  <a:cubicBezTo>
                    <a:pt x="4318" y="94"/>
                    <a:pt x="4317" y="91"/>
                    <a:pt x="4315" y="88"/>
                  </a:cubicBezTo>
                  <a:cubicBezTo>
                    <a:pt x="4315" y="73"/>
                    <a:pt x="4314" y="60"/>
                    <a:pt x="4314" y="60"/>
                  </a:cubicBezTo>
                  <a:cubicBezTo>
                    <a:pt x="4314" y="72"/>
                    <a:pt x="4311" y="90"/>
                    <a:pt x="4311" y="90"/>
                  </a:cubicBezTo>
                  <a:cubicBezTo>
                    <a:pt x="4309" y="84"/>
                    <a:pt x="4309" y="64"/>
                    <a:pt x="4309" y="64"/>
                  </a:cubicBezTo>
                  <a:cubicBezTo>
                    <a:pt x="4309" y="68"/>
                    <a:pt x="4308" y="83"/>
                    <a:pt x="4306" y="98"/>
                  </a:cubicBezTo>
                  <a:cubicBezTo>
                    <a:pt x="4306" y="96"/>
                    <a:pt x="4305" y="95"/>
                    <a:pt x="4305" y="93"/>
                  </a:cubicBezTo>
                  <a:cubicBezTo>
                    <a:pt x="4304" y="88"/>
                    <a:pt x="4302" y="82"/>
                    <a:pt x="4300" y="76"/>
                  </a:cubicBezTo>
                  <a:cubicBezTo>
                    <a:pt x="4300" y="57"/>
                    <a:pt x="4300" y="42"/>
                    <a:pt x="4300" y="42"/>
                  </a:cubicBezTo>
                  <a:cubicBezTo>
                    <a:pt x="4300" y="49"/>
                    <a:pt x="4300" y="59"/>
                    <a:pt x="4299" y="70"/>
                  </a:cubicBezTo>
                  <a:cubicBezTo>
                    <a:pt x="4296" y="64"/>
                    <a:pt x="4294" y="57"/>
                    <a:pt x="4291" y="51"/>
                  </a:cubicBezTo>
                  <a:cubicBezTo>
                    <a:pt x="4290" y="52"/>
                    <a:pt x="4290" y="54"/>
                    <a:pt x="4290" y="55"/>
                  </a:cubicBezTo>
                  <a:cubicBezTo>
                    <a:pt x="4293" y="65"/>
                    <a:pt x="4296" y="74"/>
                    <a:pt x="4297" y="82"/>
                  </a:cubicBezTo>
                  <a:cubicBezTo>
                    <a:pt x="4297" y="88"/>
                    <a:pt x="4296" y="94"/>
                    <a:pt x="4295" y="100"/>
                  </a:cubicBezTo>
                  <a:cubicBezTo>
                    <a:pt x="4294" y="96"/>
                    <a:pt x="4293" y="92"/>
                    <a:pt x="4292" y="88"/>
                  </a:cubicBezTo>
                  <a:cubicBezTo>
                    <a:pt x="4293" y="78"/>
                    <a:pt x="4294" y="70"/>
                    <a:pt x="4294" y="70"/>
                  </a:cubicBezTo>
                  <a:cubicBezTo>
                    <a:pt x="4293" y="72"/>
                    <a:pt x="4292" y="78"/>
                    <a:pt x="4291" y="85"/>
                  </a:cubicBezTo>
                  <a:cubicBezTo>
                    <a:pt x="4289" y="82"/>
                    <a:pt x="4287" y="79"/>
                    <a:pt x="4285" y="76"/>
                  </a:cubicBezTo>
                  <a:cubicBezTo>
                    <a:pt x="4284" y="71"/>
                    <a:pt x="4284" y="66"/>
                    <a:pt x="4284" y="61"/>
                  </a:cubicBezTo>
                  <a:cubicBezTo>
                    <a:pt x="4283" y="73"/>
                    <a:pt x="4281" y="87"/>
                    <a:pt x="4279" y="101"/>
                  </a:cubicBezTo>
                  <a:cubicBezTo>
                    <a:pt x="4277" y="95"/>
                    <a:pt x="4275" y="90"/>
                    <a:pt x="4273" y="86"/>
                  </a:cubicBezTo>
                  <a:cubicBezTo>
                    <a:pt x="4274" y="73"/>
                    <a:pt x="4274" y="64"/>
                    <a:pt x="4274" y="64"/>
                  </a:cubicBezTo>
                  <a:cubicBezTo>
                    <a:pt x="4274" y="71"/>
                    <a:pt x="4272" y="82"/>
                    <a:pt x="4270" y="95"/>
                  </a:cubicBezTo>
                  <a:cubicBezTo>
                    <a:pt x="4268" y="87"/>
                    <a:pt x="4266" y="79"/>
                    <a:pt x="4262" y="71"/>
                  </a:cubicBezTo>
                  <a:cubicBezTo>
                    <a:pt x="4264" y="49"/>
                    <a:pt x="4265" y="30"/>
                    <a:pt x="4265" y="30"/>
                  </a:cubicBezTo>
                  <a:cubicBezTo>
                    <a:pt x="4263" y="35"/>
                    <a:pt x="4261" y="49"/>
                    <a:pt x="4259" y="65"/>
                  </a:cubicBezTo>
                  <a:cubicBezTo>
                    <a:pt x="4258" y="62"/>
                    <a:pt x="4256" y="59"/>
                    <a:pt x="4254" y="56"/>
                  </a:cubicBezTo>
                  <a:cubicBezTo>
                    <a:pt x="4254" y="63"/>
                    <a:pt x="4256" y="70"/>
                    <a:pt x="4258" y="78"/>
                  </a:cubicBezTo>
                  <a:cubicBezTo>
                    <a:pt x="4257" y="87"/>
                    <a:pt x="4256" y="97"/>
                    <a:pt x="4255" y="106"/>
                  </a:cubicBezTo>
                  <a:cubicBezTo>
                    <a:pt x="4255" y="105"/>
                    <a:pt x="4255" y="104"/>
                    <a:pt x="4254" y="103"/>
                  </a:cubicBezTo>
                  <a:cubicBezTo>
                    <a:pt x="4255" y="104"/>
                    <a:pt x="4255" y="106"/>
                    <a:pt x="4255" y="109"/>
                  </a:cubicBezTo>
                  <a:cubicBezTo>
                    <a:pt x="4254" y="120"/>
                    <a:pt x="4253" y="131"/>
                    <a:pt x="4253" y="138"/>
                  </a:cubicBezTo>
                  <a:cubicBezTo>
                    <a:pt x="4253" y="137"/>
                    <a:pt x="4252" y="135"/>
                    <a:pt x="4252" y="134"/>
                  </a:cubicBezTo>
                  <a:cubicBezTo>
                    <a:pt x="4251" y="99"/>
                    <a:pt x="4245" y="41"/>
                    <a:pt x="4245" y="41"/>
                  </a:cubicBezTo>
                  <a:cubicBezTo>
                    <a:pt x="4247" y="58"/>
                    <a:pt x="4246" y="86"/>
                    <a:pt x="4244" y="108"/>
                  </a:cubicBezTo>
                  <a:cubicBezTo>
                    <a:pt x="4242" y="105"/>
                    <a:pt x="4241" y="102"/>
                    <a:pt x="4239" y="99"/>
                  </a:cubicBezTo>
                  <a:cubicBezTo>
                    <a:pt x="4239" y="86"/>
                    <a:pt x="4239" y="73"/>
                    <a:pt x="4239" y="67"/>
                  </a:cubicBezTo>
                  <a:cubicBezTo>
                    <a:pt x="4239" y="75"/>
                    <a:pt x="4238" y="85"/>
                    <a:pt x="4237" y="94"/>
                  </a:cubicBezTo>
                  <a:cubicBezTo>
                    <a:pt x="4236" y="92"/>
                    <a:pt x="4235" y="91"/>
                    <a:pt x="4234" y="89"/>
                  </a:cubicBezTo>
                  <a:cubicBezTo>
                    <a:pt x="4235" y="91"/>
                    <a:pt x="4236" y="94"/>
                    <a:pt x="4236" y="97"/>
                  </a:cubicBezTo>
                  <a:cubicBezTo>
                    <a:pt x="4235" y="103"/>
                    <a:pt x="4234" y="110"/>
                    <a:pt x="4232" y="116"/>
                  </a:cubicBezTo>
                  <a:cubicBezTo>
                    <a:pt x="4231" y="110"/>
                    <a:pt x="4230" y="105"/>
                    <a:pt x="4228" y="101"/>
                  </a:cubicBezTo>
                  <a:cubicBezTo>
                    <a:pt x="4229" y="91"/>
                    <a:pt x="4230" y="83"/>
                    <a:pt x="4230" y="83"/>
                  </a:cubicBezTo>
                  <a:cubicBezTo>
                    <a:pt x="4230" y="86"/>
                    <a:pt x="4229" y="92"/>
                    <a:pt x="4227" y="98"/>
                  </a:cubicBezTo>
                  <a:cubicBezTo>
                    <a:pt x="4226" y="94"/>
                    <a:pt x="4225" y="91"/>
                    <a:pt x="4224" y="89"/>
                  </a:cubicBezTo>
                  <a:cubicBezTo>
                    <a:pt x="4225" y="74"/>
                    <a:pt x="4226" y="62"/>
                    <a:pt x="4226" y="62"/>
                  </a:cubicBezTo>
                  <a:cubicBezTo>
                    <a:pt x="4225" y="65"/>
                    <a:pt x="4224" y="75"/>
                    <a:pt x="4222" y="87"/>
                  </a:cubicBezTo>
                  <a:cubicBezTo>
                    <a:pt x="4220" y="83"/>
                    <a:pt x="4218" y="81"/>
                    <a:pt x="4215" y="78"/>
                  </a:cubicBezTo>
                  <a:cubicBezTo>
                    <a:pt x="4218" y="81"/>
                    <a:pt x="4220" y="84"/>
                    <a:pt x="4222" y="89"/>
                  </a:cubicBezTo>
                  <a:cubicBezTo>
                    <a:pt x="4221" y="96"/>
                    <a:pt x="4220" y="105"/>
                    <a:pt x="4219" y="113"/>
                  </a:cubicBezTo>
                  <a:cubicBezTo>
                    <a:pt x="4218" y="108"/>
                    <a:pt x="4217" y="104"/>
                    <a:pt x="4215" y="100"/>
                  </a:cubicBezTo>
                  <a:cubicBezTo>
                    <a:pt x="4214" y="86"/>
                    <a:pt x="4212" y="74"/>
                    <a:pt x="4211" y="68"/>
                  </a:cubicBezTo>
                  <a:cubicBezTo>
                    <a:pt x="4211" y="71"/>
                    <a:pt x="4212" y="76"/>
                    <a:pt x="4211" y="86"/>
                  </a:cubicBezTo>
                  <a:cubicBezTo>
                    <a:pt x="4211" y="87"/>
                    <a:pt x="4211" y="88"/>
                    <a:pt x="4211" y="90"/>
                  </a:cubicBezTo>
                  <a:cubicBezTo>
                    <a:pt x="4210" y="87"/>
                    <a:pt x="4208" y="84"/>
                    <a:pt x="4206" y="81"/>
                  </a:cubicBezTo>
                  <a:cubicBezTo>
                    <a:pt x="4209" y="85"/>
                    <a:pt x="4210" y="91"/>
                    <a:pt x="4210" y="96"/>
                  </a:cubicBezTo>
                  <a:cubicBezTo>
                    <a:pt x="4209" y="105"/>
                    <a:pt x="4207" y="115"/>
                    <a:pt x="4205" y="124"/>
                  </a:cubicBezTo>
                  <a:cubicBezTo>
                    <a:pt x="4205" y="113"/>
                    <a:pt x="4204" y="102"/>
                    <a:pt x="4202" y="91"/>
                  </a:cubicBezTo>
                  <a:cubicBezTo>
                    <a:pt x="4202" y="77"/>
                    <a:pt x="4202" y="77"/>
                    <a:pt x="4202" y="77"/>
                  </a:cubicBezTo>
                  <a:cubicBezTo>
                    <a:pt x="4205" y="35"/>
                    <a:pt x="4198" y="19"/>
                    <a:pt x="4198" y="19"/>
                  </a:cubicBezTo>
                  <a:cubicBezTo>
                    <a:pt x="4198" y="19"/>
                    <a:pt x="4201" y="31"/>
                    <a:pt x="4200" y="54"/>
                  </a:cubicBezTo>
                  <a:cubicBezTo>
                    <a:pt x="4199" y="59"/>
                    <a:pt x="4199" y="68"/>
                    <a:pt x="4197" y="78"/>
                  </a:cubicBezTo>
                  <a:cubicBezTo>
                    <a:pt x="4195" y="72"/>
                    <a:pt x="4192" y="66"/>
                    <a:pt x="4188" y="60"/>
                  </a:cubicBezTo>
                  <a:cubicBezTo>
                    <a:pt x="4188" y="61"/>
                    <a:pt x="4188" y="61"/>
                    <a:pt x="4188" y="61"/>
                  </a:cubicBezTo>
                  <a:cubicBezTo>
                    <a:pt x="4188" y="62"/>
                    <a:pt x="4188" y="63"/>
                    <a:pt x="4188" y="64"/>
                  </a:cubicBezTo>
                  <a:cubicBezTo>
                    <a:pt x="4186" y="44"/>
                    <a:pt x="4179" y="40"/>
                    <a:pt x="4179" y="40"/>
                  </a:cubicBezTo>
                  <a:cubicBezTo>
                    <a:pt x="4179" y="40"/>
                    <a:pt x="4185" y="44"/>
                    <a:pt x="4185" y="70"/>
                  </a:cubicBezTo>
                  <a:cubicBezTo>
                    <a:pt x="4185" y="76"/>
                    <a:pt x="4184" y="85"/>
                    <a:pt x="4182" y="94"/>
                  </a:cubicBezTo>
                  <a:cubicBezTo>
                    <a:pt x="4180" y="90"/>
                    <a:pt x="4177" y="86"/>
                    <a:pt x="4174" y="83"/>
                  </a:cubicBezTo>
                  <a:cubicBezTo>
                    <a:pt x="4177" y="87"/>
                    <a:pt x="4180" y="92"/>
                    <a:pt x="4182" y="97"/>
                  </a:cubicBezTo>
                  <a:cubicBezTo>
                    <a:pt x="4181" y="100"/>
                    <a:pt x="4181" y="103"/>
                    <a:pt x="4180" y="106"/>
                  </a:cubicBezTo>
                  <a:cubicBezTo>
                    <a:pt x="4179" y="104"/>
                    <a:pt x="4179" y="102"/>
                    <a:pt x="4178" y="100"/>
                  </a:cubicBezTo>
                  <a:cubicBezTo>
                    <a:pt x="4179" y="102"/>
                    <a:pt x="4179" y="105"/>
                    <a:pt x="4180" y="108"/>
                  </a:cubicBezTo>
                  <a:cubicBezTo>
                    <a:pt x="4179" y="111"/>
                    <a:pt x="4178" y="114"/>
                    <a:pt x="4177" y="117"/>
                  </a:cubicBezTo>
                  <a:cubicBezTo>
                    <a:pt x="4176" y="113"/>
                    <a:pt x="4174" y="108"/>
                    <a:pt x="4172" y="104"/>
                  </a:cubicBezTo>
                  <a:cubicBezTo>
                    <a:pt x="4173" y="87"/>
                    <a:pt x="4174" y="71"/>
                    <a:pt x="4174" y="71"/>
                  </a:cubicBezTo>
                  <a:cubicBezTo>
                    <a:pt x="4173" y="73"/>
                    <a:pt x="4171" y="84"/>
                    <a:pt x="4169" y="97"/>
                  </a:cubicBezTo>
                  <a:cubicBezTo>
                    <a:pt x="4168" y="95"/>
                    <a:pt x="4167" y="93"/>
                    <a:pt x="4166" y="92"/>
                  </a:cubicBezTo>
                  <a:cubicBezTo>
                    <a:pt x="4167" y="81"/>
                    <a:pt x="4168" y="72"/>
                    <a:pt x="4169" y="66"/>
                  </a:cubicBezTo>
                  <a:cubicBezTo>
                    <a:pt x="4168" y="73"/>
                    <a:pt x="4167" y="81"/>
                    <a:pt x="4165" y="90"/>
                  </a:cubicBezTo>
                  <a:cubicBezTo>
                    <a:pt x="4164" y="88"/>
                    <a:pt x="4162" y="86"/>
                    <a:pt x="4160" y="83"/>
                  </a:cubicBezTo>
                  <a:cubicBezTo>
                    <a:pt x="4164" y="26"/>
                    <a:pt x="4162" y="12"/>
                    <a:pt x="4162" y="12"/>
                  </a:cubicBezTo>
                  <a:cubicBezTo>
                    <a:pt x="4162" y="12"/>
                    <a:pt x="4162" y="18"/>
                    <a:pt x="4159" y="56"/>
                  </a:cubicBezTo>
                  <a:cubicBezTo>
                    <a:pt x="4158" y="64"/>
                    <a:pt x="4157" y="71"/>
                    <a:pt x="4156" y="78"/>
                  </a:cubicBezTo>
                  <a:cubicBezTo>
                    <a:pt x="4154" y="76"/>
                    <a:pt x="4151" y="73"/>
                    <a:pt x="4149" y="71"/>
                  </a:cubicBezTo>
                  <a:cubicBezTo>
                    <a:pt x="4150" y="48"/>
                    <a:pt x="4151" y="31"/>
                    <a:pt x="4151" y="31"/>
                  </a:cubicBezTo>
                  <a:cubicBezTo>
                    <a:pt x="4149" y="37"/>
                    <a:pt x="4147" y="52"/>
                    <a:pt x="4146" y="68"/>
                  </a:cubicBezTo>
                  <a:cubicBezTo>
                    <a:pt x="4144" y="66"/>
                    <a:pt x="4142" y="65"/>
                    <a:pt x="4140" y="63"/>
                  </a:cubicBezTo>
                  <a:cubicBezTo>
                    <a:pt x="4142" y="65"/>
                    <a:pt x="4144" y="67"/>
                    <a:pt x="4146" y="69"/>
                  </a:cubicBezTo>
                  <a:cubicBezTo>
                    <a:pt x="4145" y="82"/>
                    <a:pt x="4145" y="96"/>
                    <a:pt x="4144" y="109"/>
                  </a:cubicBezTo>
                  <a:cubicBezTo>
                    <a:pt x="4143" y="104"/>
                    <a:pt x="4141" y="99"/>
                    <a:pt x="4140" y="96"/>
                  </a:cubicBezTo>
                  <a:cubicBezTo>
                    <a:pt x="4141" y="104"/>
                    <a:pt x="4142" y="112"/>
                    <a:pt x="4144" y="120"/>
                  </a:cubicBezTo>
                  <a:cubicBezTo>
                    <a:pt x="4144" y="123"/>
                    <a:pt x="4144" y="126"/>
                    <a:pt x="4144" y="128"/>
                  </a:cubicBezTo>
                  <a:cubicBezTo>
                    <a:pt x="4143" y="125"/>
                    <a:pt x="4141" y="122"/>
                    <a:pt x="4140" y="118"/>
                  </a:cubicBezTo>
                  <a:cubicBezTo>
                    <a:pt x="4135" y="80"/>
                    <a:pt x="4128" y="28"/>
                    <a:pt x="4128" y="28"/>
                  </a:cubicBezTo>
                  <a:cubicBezTo>
                    <a:pt x="4128" y="39"/>
                    <a:pt x="4126" y="72"/>
                    <a:pt x="4124" y="100"/>
                  </a:cubicBezTo>
                  <a:cubicBezTo>
                    <a:pt x="4124" y="98"/>
                    <a:pt x="4123" y="97"/>
                    <a:pt x="4122" y="96"/>
                  </a:cubicBezTo>
                  <a:cubicBezTo>
                    <a:pt x="4123" y="97"/>
                    <a:pt x="4124" y="99"/>
                    <a:pt x="4124" y="100"/>
                  </a:cubicBezTo>
                  <a:cubicBezTo>
                    <a:pt x="4124" y="110"/>
                    <a:pt x="4123" y="120"/>
                    <a:pt x="4122" y="128"/>
                  </a:cubicBezTo>
                  <a:cubicBezTo>
                    <a:pt x="4122" y="128"/>
                    <a:pt x="4122" y="127"/>
                    <a:pt x="4122" y="127"/>
                  </a:cubicBezTo>
                  <a:cubicBezTo>
                    <a:pt x="4122" y="109"/>
                    <a:pt x="4120" y="87"/>
                    <a:pt x="4119" y="71"/>
                  </a:cubicBezTo>
                  <a:cubicBezTo>
                    <a:pt x="4120" y="68"/>
                    <a:pt x="4121" y="66"/>
                    <a:pt x="4122" y="64"/>
                  </a:cubicBezTo>
                  <a:cubicBezTo>
                    <a:pt x="4121" y="65"/>
                    <a:pt x="4120" y="67"/>
                    <a:pt x="4118" y="69"/>
                  </a:cubicBezTo>
                  <a:cubicBezTo>
                    <a:pt x="4118" y="61"/>
                    <a:pt x="4117" y="55"/>
                    <a:pt x="4117" y="53"/>
                  </a:cubicBezTo>
                  <a:cubicBezTo>
                    <a:pt x="4117" y="52"/>
                    <a:pt x="4118" y="52"/>
                    <a:pt x="4118" y="51"/>
                  </a:cubicBezTo>
                  <a:cubicBezTo>
                    <a:pt x="4118" y="51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5" y="54"/>
                    <a:pt x="4113" y="56"/>
                    <a:pt x="4111" y="57"/>
                  </a:cubicBezTo>
                  <a:cubicBezTo>
                    <a:pt x="4112" y="54"/>
                    <a:pt x="4112" y="52"/>
                    <a:pt x="4112" y="50"/>
                  </a:cubicBezTo>
                  <a:cubicBezTo>
                    <a:pt x="4116" y="46"/>
                    <a:pt x="4119" y="42"/>
                    <a:pt x="4123" y="38"/>
                  </a:cubicBezTo>
                  <a:cubicBezTo>
                    <a:pt x="4119" y="41"/>
                    <a:pt x="4116" y="44"/>
                    <a:pt x="4113" y="47"/>
                  </a:cubicBezTo>
                  <a:cubicBezTo>
                    <a:pt x="4113" y="43"/>
                    <a:pt x="4114" y="40"/>
                    <a:pt x="4114" y="40"/>
                  </a:cubicBezTo>
                  <a:cubicBezTo>
                    <a:pt x="4113" y="43"/>
                    <a:pt x="4111" y="46"/>
                    <a:pt x="4110" y="50"/>
                  </a:cubicBezTo>
                  <a:cubicBezTo>
                    <a:pt x="4103" y="58"/>
                    <a:pt x="4098" y="66"/>
                    <a:pt x="4094" y="75"/>
                  </a:cubicBezTo>
                  <a:cubicBezTo>
                    <a:pt x="4093" y="70"/>
                    <a:pt x="4093" y="66"/>
                    <a:pt x="4093" y="63"/>
                  </a:cubicBezTo>
                  <a:cubicBezTo>
                    <a:pt x="4096" y="57"/>
                    <a:pt x="4099" y="50"/>
                    <a:pt x="4103" y="42"/>
                  </a:cubicBezTo>
                  <a:cubicBezTo>
                    <a:pt x="4094" y="52"/>
                    <a:pt x="4088" y="61"/>
                    <a:pt x="4084" y="71"/>
                  </a:cubicBezTo>
                  <a:cubicBezTo>
                    <a:pt x="4083" y="70"/>
                    <a:pt x="4082" y="70"/>
                    <a:pt x="4082" y="69"/>
                  </a:cubicBezTo>
                  <a:cubicBezTo>
                    <a:pt x="4082" y="68"/>
                    <a:pt x="4082" y="67"/>
                    <a:pt x="4081" y="65"/>
                  </a:cubicBezTo>
                  <a:cubicBezTo>
                    <a:pt x="4088" y="53"/>
                    <a:pt x="4096" y="41"/>
                    <a:pt x="4107" y="25"/>
                  </a:cubicBezTo>
                  <a:cubicBezTo>
                    <a:pt x="4096" y="40"/>
                    <a:pt x="4088" y="51"/>
                    <a:pt x="4081" y="64"/>
                  </a:cubicBezTo>
                  <a:cubicBezTo>
                    <a:pt x="4079" y="45"/>
                    <a:pt x="4077" y="30"/>
                    <a:pt x="4077" y="30"/>
                  </a:cubicBezTo>
                  <a:cubicBezTo>
                    <a:pt x="4078" y="35"/>
                    <a:pt x="4078" y="49"/>
                    <a:pt x="4078" y="65"/>
                  </a:cubicBezTo>
                  <a:cubicBezTo>
                    <a:pt x="4078" y="65"/>
                    <a:pt x="4077" y="65"/>
                    <a:pt x="4077" y="65"/>
                  </a:cubicBezTo>
                  <a:cubicBezTo>
                    <a:pt x="4077" y="65"/>
                    <a:pt x="4078" y="65"/>
                    <a:pt x="4078" y="65"/>
                  </a:cubicBezTo>
                  <a:cubicBezTo>
                    <a:pt x="4078" y="67"/>
                    <a:pt x="4078" y="69"/>
                    <a:pt x="4077" y="71"/>
                  </a:cubicBezTo>
                  <a:cubicBezTo>
                    <a:pt x="4076" y="74"/>
                    <a:pt x="4075" y="78"/>
                    <a:pt x="4074" y="81"/>
                  </a:cubicBezTo>
                  <a:cubicBezTo>
                    <a:pt x="4075" y="78"/>
                    <a:pt x="4076" y="76"/>
                    <a:pt x="4077" y="73"/>
                  </a:cubicBezTo>
                  <a:cubicBezTo>
                    <a:pt x="4077" y="79"/>
                    <a:pt x="4077" y="85"/>
                    <a:pt x="4077" y="91"/>
                  </a:cubicBezTo>
                  <a:cubicBezTo>
                    <a:pt x="4076" y="93"/>
                    <a:pt x="4076" y="95"/>
                    <a:pt x="4076" y="97"/>
                  </a:cubicBezTo>
                  <a:cubicBezTo>
                    <a:pt x="4075" y="96"/>
                    <a:pt x="4074" y="95"/>
                    <a:pt x="4074" y="94"/>
                  </a:cubicBezTo>
                  <a:cubicBezTo>
                    <a:pt x="4073" y="91"/>
                    <a:pt x="4073" y="88"/>
                    <a:pt x="4073" y="85"/>
                  </a:cubicBezTo>
                  <a:cubicBezTo>
                    <a:pt x="4073" y="83"/>
                    <a:pt x="4074" y="82"/>
                    <a:pt x="4074" y="81"/>
                  </a:cubicBezTo>
                  <a:cubicBezTo>
                    <a:pt x="4074" y="82"/>
                    <a:pt x="4073" y="83"/>
                    <a:pt x="4073" y="84"/>
                  </a:cubicBezTo>
                  <a:cubicBezTo>
                    <a:pt x="4072" y="72"/>
                    <a:pt x="4071" y="62"/>
                    <a:pt x="4071" y="55"/>
                  </a:cubicBezTo>
                  <a:cubicBezTo>
                    <a:pt x="4072" y="54"/>
                    <a:pt x="4073" y="53"/>
                    <a:pt x="4075" y="52"/>
                  </a:cubicBezTo>
                  <a:cubicBezTo>
                    <a:pt x="4073" y="53"/>
                    <a:pt x="4072" y="54"/>
                    <a:pt x="4071" y="54"/>
                  </a:cubicBezTo>
                  <a:cubicBezTo>
                    <a:pt x="4071" y="49"/>
                    <a:pt x="4070" y="46"/>
                    <a:pt x="4070" y="46"/>
                  </a:cubicBezTo>
                  <a:cubicBezTo>
                    <a:pt x="4070" y="48"/>
                    <a:pt x="4070" y="51"/>
                    <a:pt x="4070" y="55"/>
                  </a:cubicBezTo>
                  <a:cubicBezTo>
                    <a:pt x="4067" y="57"/>
                    <a:pt x="4064" y="59"/>
                    <a:pt x="4061" y="62"/>
                  </a:cubicBezTo>
                  <a:cubicBezTo>
                    <a:pt x="4061" y="58"/>
                    <a:pt x="4061" y="54"/>
                    <a:pt x="4061" y="50"/>
                  </a:cubicBezTo>
                  <a:cubicBezTo>
                    <a:pt x="4065" y="45"/>
                    <a:pt x="4070" y="40"/>
                    <a:pt x="4075" y="34"/>
                  </a:cubicBezTo>
                  <a:cubicBezTo>
                    <a:pt x="4070" y="39"/>
                    <a:pt x="4065" y="44"/>
                    <a:pt x="4061" y="48"/>
                  </a:cubicBezTo>
                  <a:cubicBezTo>
                    <a:pt x="4062" y="21"/>
                    <a:pt x="4064" y="0"/>
                    <a:pt x="4064" y="0"/>
                  </a:cubicBezTo>
                  <a:cubicBezTo>
                    <a:pt x="4060" y="10"/>
                    <a:pt x="4058" y="35"/>
                    <a:pt x="4057" y="53"/>
                  </a:cubicBezTo>
                  <a:cubicBezTo>
                    <a:pt x="4056" y="54"/>
                    <a:pt x="4055" y="55"/>
                    <a:pt x="4055" y="56"/>
                  </a:cubicBezTo>
                  <a:cubicBezTo>
                    <a:pt x="4053" y="44"/>
                    <a:pt x="4050" y="33"/>
                    <a:pt x="4050" y="33"/>
                  </a:cubicBezTo>
                  <a:cubicBezTo>
                    <a:pt x="4051" y="39"/>
                    <a:pt x="4051" y="49"/>
                    <a:pt x="4050" y="62"/>
                  </a:cubicBezTo>
                  <a:cubicBezTo>
                    <a:pt x="4048" y="63"/>
                    <a:pt x="4047" y="65"/>
                    <a:pt x="4046" y="67"/>
                  </a:cubicBezTo>
                  <a:cubicBezTo>
                    <a:pt x="4045" y="65"/>
                    <a:pt x="4044" y="63"/>
                    <a:pt x="4043" y="62"/>
                  </a:cubicBezTo>
                  <a:cubicBezTo>
                    <a:pt x="4043" y="63"/>
                    <a:pt x="4044" y="65"/>
                    <a:pt x="4045" y="68"/>
                  </a:cubicBezTo>
                  <a:cubicBezTo>
                    <a:pt x="4042" y="72"/>
                    <a:pt x="4040" y="75"/>
                    <a:pt x="4039" y="78"/>
                  </a:cubicBezTo>
                  <a:cubicBezTo>
                    <a:pt x="4038" y="61"/>
                    <a:pt x="4038" y="48"/>
                    <a:pt x="4038" y="48"/>
                  </a:cubicBezTo>
                  <a:cubicBezTo>
                    <a:pt x="4037" y="52"/>
                    <a:pt x="4036" y="65"/>
                    <a:pt x="4034" y="80"/>
                  </a:cubicBezTo>
                  <a:cubicBezTo>
                    <a:pt x="4033" y="82"/>
                    <a:pt x="4033" y="85"/>
                    <a:pt x="4032" y="87"/>
                  </a:cubicBezTo>
                  <a:cubicBezTo>
                    <a:pt x="4031" y="86"/>
                    <a:pt x="4031" y="86"/>
                    <a:pt x="4030" y="85"/>
                  </a:cubicBezTo>
                  <a:cubicBezTo>
                    <a:pt x="4033" y="48"/>
                    <a:pt x="4036" y="9"/>
                    <a:pt x="4036" y="9"/>
                  </a:cubicBezTo>
                  <a:cubicBezTo>
                    <a:pt x="4032" y="20"/>
                    <a:pt x="4028" y="57"/>
                    <a:pt x="4024" y="89"/>
                  </a:cubicBezTo>
                  <a:cubicBezTo>
                    <a:pt x="4023" y="91"/>
                    <a:pt x="4022" y="92"/>
                    <a:pt x="4022" y="93"/>
                  </a:cubicBezTo>
                  <a:cubicBezTo>
                    <a:pt x="4021" y="92"/>
                    <a:pt x="4020" y="90"/>
                    <a:pt x="4019" y="89"/>
                  </a:cubicBezTo>
                  <a:cubicBezTo>
                    <a:pt x="4022" y="72"/>
                    <a:pt x="4025" y="55"/>
                    <a:pt x="4025" y="37"/>
                  </a:cubicBezTo>
                  <a:cubicBezTo>
                    <a:pt x="4025" y="34"/>
                    <a:pt x="4025" y="30"/>
                    <a:pt x="4025" y="26"/>
                  </a:cubicBezTo>
                  <a:cubicBezTo>
                    <a:pt x="4018" y="45"/>
                    <a:pt x="4017" y="66"/>
                    <a:pt x="4013" y="86"/>
                  </a:cubicBezTo>
                  <a:cubicBezTo>
                    <a:pt x="4012" y="85"/>
                    <a:pt x="4012" y="84"/>
                    <a:pt x="4011" y="84"/>
                  </a:cubicBezTo>
                  <a:cubicBezTo>
                    <a:pt x="4012" y="84"/>
                    <a:pt x="4012" y="85"/>
                    <a:pt x="4013" y="86"/>
                  </a:cubicBezTo>
                  <a:cubicBezTo>
                    <a:pt x="4012" y="88"/>
                    <a:pt x="4012" y="90"/>
                    <a:pt x="4012" y="92"/>
                  </a:cubicBezTo>
                  <a:cubicBezTo>
                    <a:pt x="4011" y="94"/>
                    <a:pt x="4011" y="96"/>
                    <a:pt x="4010" y="98"/>
                  </a:cubicBezTo>
                  <a:cubicBezTo>
                    <a:pt x="4010" y="97"/>
                    <a:pt x="4009" y="96"/>
                    <a:pt x="4008" y="94"/>
                  </a:cubicBezTo>
                  <a:cubicBezTo>
                    <a:pt x="4008" y="86"/>
                    <a:pt x="4007" y="78"/>
                    <a:pt x="4006" y="72"/>
                  </a:cubicBezTo>
                  <a:cubicBezTo>
                    <a:pt x="4009" y="67"/>
                    <a:pt x="4013" y="63"/>
                    <a:pt x="4017" y="59"/>
                  </a:cubicBezTo>
                  <a:cubicBezTo>
                    <a:pt x="4013" y="62"/>
                    <a:pt x="4009" y="66"/>
                    <a:pt x="4006" y="70"/>
                  </a:cubicBezTo>
                  <a:cubicBezTo>
                    <a:pt x="4005" y="64"/>
                    <a:pt x="4005" y="60"/>
                    <a:pt x="4004" y="57"/>
                  </a:cubicBezTo>
                  <a:cubicBezTo>
                    <a:pt x="4005" y="54"/>
                    <a:pt x="4007" y="52"/>
                    <a:pt x="4008" y="50"/>
                  </a:cubicBezTo>
                  <a:cubicBezTo>
                    <a:pt x="4007" y="51"/>
                    <a:pt x="4005" y="53"/>
                    <a:pt x="4004" y="54"/>
                  </a:cubicBezTo>
                  <a:cubicBezTo>
                    <a:pt x="4004" y="53"/>
                    <a:pt x="4004" y="52"/>
                    <a:pt x="4004" y="52"/>
                  </a:cubicBezTo>
                  <a:cubicBezTo>
                    <a:pt x="4004" y="53"/>
                    <a:pt x="4004" y="54"/>
                    <a:pt x="4004" y="54"/>
                  </a:cubicBezTo>
                  <a:cubicBezTo>
                    <a:pt x="4002" y="56"/>
                    <a:pt x="4000" y="58"/>
                    <a:pt x="3998" y="60"/>
                  </a:cubicBezTo>
                  <a:cubicBezTo>
                    <a:pt x="3997" y="54"/>
                    <a:pt x="3996" y="48"/>
                    <a:pt x="3995" y="44"/>
                  </a:cubicBezTo>
                  <a:cubicBezTo>
                    <a:pt x="3996" y="49"/>
                    <a:pt x="3995" y="56"/>
                    <a:pt x="3994" y="64"/>
                  </a:cubicBezTo>
                  <a:cubicBezTo>
                    <a:pt x="3993" y="66"/>
                    <a:pt x="3992" y="68"/>
                    <a:pt x="3991" y="69"/>
                  </a:cubicBezTo>
                  <a:cubicBezTo>
                    <a:pt x="3989" y="67"/>
                    <a:pt x="3988" y="66"/>
                    <a:pt x="3986" y="64"/>
                  </a:cubicBezTo>
                  <a:cubicBezTo>
                    <a:pt x="3988" y="66"/>
                    <a:pt x="3989" y="67"/>
                    <a:pt x="3991" y="69"/>
                  </a:cubicBezTo>
                  <a:cubicBezTo>
                    <a:pt x="3989" y="71"/>
                    <a:pt x="3988" y="73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6" y="76"/>
                    <a:pt x="3985" y="77"/>
                    <a:pt x="3984" y="79"/>
                  </a:cubicBezTo>
                  <a:cubicBezTo>
                    <a:pt x="3984" y="79"/>
                    <a:pt x="3984" y="79"/>
                    <a:pt x="3984" y="79"/>
                  </a:cubicBezTo>
                  <a:cubicBezTo>
                    <a:pt x="3985" y="60"/>
                    <a:pt x="3985" y="45"/>
                    <a:pt x="3985" y="45"/>
                  </a:cubicBezTo>
                  <a:cubicBezTo>
                    <a:pt x="3985" y="50"/>
                    <a:pt x="3983" y="61"/>
                    <a:pt x="3980" y="73"/>
                  </a:cubicBezTo>
                  <a:cubicBezTo>
                    <a:pt x="3979" y="73"/>
                    <a:pt x="3979" y="73"/>
                    <a:pt x="3978" y="72"/>
                  </a:cubicBezTo>
                  <a:cubicBezTo>
                    <a:pt x="3979" y="70"/>
                    <a:pt x="3979" y="68"/>
                    <a:pt x="3979" y="66"/>
                  </a:cubicBezTo>
                  <a:cubicBezTo>
                    <a:pt x="3979" y="65"/>
                    <a:pt x="3979" y="65"/>
                    <a:pt x="3980" y="65"/>
                  </a:cubicBezTo>
                  <a:cubicBezTo>
                    <a:pt x="3979" y="65"/>
                    <a:pt x="3979" y="65"/>
                    <a:pt x="3979" y="66"/>
                  </a:cubicBezTo>
                  <a:cubicBezTo>
                    <a:pt x="3979" y="64"/>
                    <a:pt x="3979" y="63"/>
                    <a:pt x="3979" y="61"/>
                  </a:cubicBezTo>
                  <a:cubicBezTo>
                    <a:pt x="3979" y="55"/>
                    <a:pt x="3979" y="49"/>
                    <a:pt x="3978" y="42"/>
                  </a:cubicBezTo>
                  <a:cubicBezTo>
                    <a:pt x="3981" y="27"/>
                    <a:pt x="3983" y="17"/>
                    <a:pt x="3983" y="17"/>
                  </a:cubicBezTo>
                  <a:cubicBezTo>
                    <a:pt x="3980" y="22"/>
                    <a:pt x="3973" y="49"/>
                    <a:pt x="3967" y="78"/>
                  </a:cubicBezTo>
                  <a:cubicBezTo>
                    <a:pt x="3967" y="78"/>
                    <a:pt x="3967" y="79"/>
                    <a:pt x="3966" y="79"/>
                  </a:cubicBezTo>
                  <a:cubicBezTo>
                    <a:pt x="3965" y="76"/>
                    <a:pt x="3962" y="72"/>
                    <a:pt x="3960" y="69"/>
                  </a:cubicBezTo>
                  <a:cubicBezTo>
                    <a:pt x="3961" y="67"/>
                    <a:pt x="3963" y="66"/>
                    <a:pt x="3965" y="64"/>
                  </a:cubicBezTo>
                  <a:cubicBezTo>
                    <a:pt x="3963" y="66"/>
                    <a:pt x="3961" y="67"/>
                    <a:pt x="3960" y="69"/>
                  </a:cubicBezTo>
                  <a:cubicBezTo>
                    <a:pt x="3959" y="68"/>
                    <a:pt x="3958" y="67"/>
                    <a:pt x="3957" y="66"/>
                  </a:cubicBezTo>
                  <a:cubicBezTo>
                    <a:pt x="3957" y="60"/>
                    <a:pt x="3956" y="55"/>
                    <a:pt x="3956" y="52"/>
                  </a:cubicBezTo>
                  <a:cubicBezTo>
                    <a:pt x="3956" y="56"/>
                    <a:pt x="3956" y="60"/>
                    <a:pt x="3956" y="64"/>
                  </a:cubicBezTo>
                  <a:cubicBezTo>
                    <a:pt x="3952" y="60"/>
                    <a:pt x="3948" y="55"/>
                    <a:pt x="3943" y="50"/>
                  </a:cubicBezTo>
                  <a:cubicBezTo>
                    <a:pt x="3945" y="55"/>
                    <a:pt x="3949" y="60"/>
                    <a:pt x="3952" y="65"/>
                  </a:cubicBezTo>
                  <a:cubicBezTo>
                    <a:pt x="3951" y="68"/>
                    <a:pt x="3951" y="71"/>
                    <a:pt x="3950" y="76"/>
                  </a:cubicBezTo>
                  <a:cubicBezTo>
                    <a:pt x="3948" y="74"/>
                    <a:pt x="3946" y="71"/>
                    <a:pt x="3943" y="68"/>
                  </a:cubicBezTo>
                  <a:cubicBezTo>
                    <a:pt x="3943" y="54"/>
                    <a:pt x="3942" y="41"/>
                    <a:pt x="3941" y="33"/>
                  </a:cubicBezTo>
                  <a:cubicBezTo>
                    <a:pt x="3942" y="42"/>
                    <a:pt x="3941" y="53"/>
                    <a:pt x="3940" y="65"/>
                  </a:cubicBezTo>
                  <a:cubicBezTo>
                    <a:pt x="3938" y="63"/>
                    <a:pt x="3936" y="61"/>
                    <a:pt x="3934" y="59"/>
                  </a:cubicBezTo>
                  <a:cubicBezTo>
                    <a:pt x="3936" y="61"/>
                    <a:pt x="3938" y="63"/>
                    <a:pt x="3940" y="65"/>
                  </a:cubicBezTo>
                  <a:cubicBezTo>
                    <a:pt x="3939" y="72"/>
                    <a:pt x="3938" y="80"/>
                    <a:pt x="3937" y="87"/>
                  </a:cubicBezTo>
                  <a:cubicBezTo>
                    <a:pt x="3937" y="87"/>
                    <a:pt x="3937" y="87"/>
                    <a:pt x="3937" y="87"/>
                  </a:cubicBezTo>
                  <a:cubicBezTo>
                    <a:pt x="3936" y="85"/>
                    <a:pt x="3936" y="84"/>
                    <a:pt x="3935" y="83"/>
                  </a:cubicBezTo>
                  <a:cubicBezTo>
                    <a:pt x="3936" y="82"/>
                    <a:pt x="3936" y="82"/>
                    <a:pt x="3936" y="81"/>
                  </a:cubicBezTo>
                  <a:cubicBezTo>
                    <a:pt x="3936" y="82"/>
                    <a:pt x="3936" y="82"/>
                    <a:pt x="3935" y="83"/>
                  </a:cubicBezTo>
                  <a:cubicBezTo>
                    <a:pt x="3935" y="81"/>
                    <a:pt x="3934" y="79"/>
                    <a:pt x="3933" y="77"/>
                  </a:cubicBezTo>
                  <a:cubicBezTo>
                    <a:pt x="3934" y="79"/>
                    <a:pt x="3934" y="81"/>
                    <a:pt x="3935" y="83"/>
                  </a:cubicBezTo>
                  <a:cubicBezTo>
                    <a:pt x="3934" y="85"/>
                    <a:pt x="3933" y="86"/>
                    <a:pt x="3932" y="88"/>
                  </a:cubicBezTo>
                  <a:cubicBezTo>
                    <a:pt x="3933" y="86"/>
                    <a:pt x="3934" y="85"/>
                    <a:pt x="3935" y="83"/>
                  </a:cubicBezTo>
                  <a:cubicBezTo>
                    <a:pt x="3935" y="85"/>
                    <a:pt x="3936" y="86"/>
                    <a:pt x="3936" y="88"/>
                  </a:cubicBezTo>
                  <a:cubicBezTo>
                    <a:pt x="3934" y="91"/>
                    <a:pt x="3933" y="95"/>
                    <a:pt x="3931" y="98"/>
                  </a:cubicBezTo>
                  <a:cubicBezTo>
                    <a:pt x="3931" y="97"/>
                    <a:pt x="3931" y="97"/>
                    <a:pt x="3930" y="97"/>
                  </a:cubicBezTo>
                  <a:cubicBezTo>
                    <a:pt x="3930" y="95"/>
                    <a:pt x="3930" y="94"/>
                    <a:pt x="3930" y="93"/>
                  </a:cubicBezTo>
                  <a:cubicBezTo>
                    <a:pt x="3930" y="91"/>
                    <a:pt x="3931" y="89"/>
                    <a:pt x="3932" y="88"/>
                  </a:cubicBezTo>
                  <a:cubicBezTo>
                    <a:pt x="3931" y="89"/>
                    <a:pt x="3930" y="91"/>
                    <a:pt x="3929" y="92"/>
                  </a:cubicBezTo>
                  <a:cubicBezTo>
                    <a:pt x="3929" y="92"/>
                    <a:pt x="3929" y="91"/>
                    <a:pt x="3929" y="91"/>
                  </a:cubicBezTo>
                  <a:cubicBezTo>
                    <a:pt x="3929" y="74"/>
                    <a:pt x="3928" y="60"/>
                    <a:pt x="3928" y="60"/>
                  </a:cubicBezTo>
                  <a:cubicBezTo>
                    <a:pt x="3928" y="65"/>
                    <a:pt x="3927" y="73"/>
                    <a:pt x="3927" y="81"/>
                  </a:cubicBezTo>
                  <a:cubicBezTo>
                    <a:pt x="3926" y="79"/>
                    <a:pt x="3926" y="76"/>
                    <a:pt x="3925" y="74"/>
                  </a:cubicBezTo>
                  <a:cubicBezTo>
                    <a:pt x="3926" y="79"/>
                    <a:pt x="3926" y="83"/>
                    <a:pt x="3926" y="88"/>
                  </a:cubicBezTo>
                  <a:cubicBezTo>
                    <a:pt x="3925" y="86"/>
                    <a:pt x="3924" y="84"/>
                    <a:pt x="3923" y="83"/>
                  </a:cubicBezTo>
                  <a:cubicBezTo>
                    <a:pt x="3924" y="85"/>
                    <a:pt x="3925" y="87"/>
                    <a:pt x="3926" y="89"/>
                  </a:cubicBezTo>
                  <a:cubicBezTo>
                    <a:pt x="3926" y="89"/>
                    <a:pt x="3926" y="89"/>
                    <a:pt x="3926" y="89"/>
                  </a:cubicBezTo>
                  <a:cubicBezTo>
                    <a:pt x="3926" y="93"/>
                    <a:pt x="3925" y="97"/>
                    <a:pt x="3925" y="101"/>
                  </a:cubicBezTo>
                  <a:cubicBezTo>
                    <a:pt x="3924" y="103"/>
                    <a:pt x="3923" y="104"/>
                    <a:pt x="3923" y="106"/>
                  </a:cubicBezTo>
                  <a:cubicBezTo>
                    <a:pt x="3921" y="100"/>
                    <a:pt x="3920" y="95"/>
                    <a:pt x="3918" y="90"/>
                  </a:cubicBezTo>
                  <a:cubicBezTo>
                    <a:pt x="3919" y="88"/>
                    <a:pt x="3921" y="85"/>
                    <a:pt x="3922" y="83"/>
                  </a:cubicBezTo>
                  <a:cubicBezTo>
                    <a:pt x="3921" y="85"/>
                    <a:pt x="3919" y="87"/>
                    <a:pt x="3917" y="89"/>
                  </a:cubicBezTo>
                  <a:cubicBezTo>
                    <a:pt x="3917" y="88"/>
                    <a:pt x="3916" y="87"/>
                    <a:pt x="3916" y="87"/>
                  </a:cubicBezTo>
                  <a:cubicBezTo>
                    <a:pt x="3916" y="76"/>
                    <a:pt x="3917" y="68"/>
                    <a:pt x="3917" y="68"/>
                  </a:cubicBezTo>
                  <a:cubicBezTo>
                    <a:pt x="3916" y="72"/>
                    <a:pt x="3915" y="77"/>
                    <a:pt x="3914" y="82"/>
                  </a:cubicBezTo>
                  <a:cubicBezTo>
                    <a:pt x="3914" y="81"/>
                    <a:pt x="3914" y="80"/>
                    <a:pt x="3914" y="80"/>
                  </a:cubicBezTo>
                  <a:cubicBezTo>
                    <a:pt x="3914" y="80"/>
                    <a:pt x="3914" y="81"/>
                    <a:pt x="3914" y="82"/>
                  </a:cubicBezTo>
                  <a:cubicBezTo>
                    <a:pt x="3913" y="80"/>
                    <a:pt x="3912" y="78"/>
                    <a:pt x="3910" y="75"/>
                  </a:cubicBezTo>
                  <a:cubicBezTo>
                    <a:pt x="3911" y="65"/>
                    <a:pt x="3912" y="56"/>
                    <a:pt x="3913" y="48"/>
                  </a:cubicBezTo>
                  <a:cubicBezTo>
                    <a:pt x="3912" y="55"/>
                    <a:pt x="3910" y="64"/>
                    <a:pt x="3909" y="73"/>
                  </a:cubicBezTo>
                  <a:cubicBezTo>
                    <a:pt x="3907" y="70"/>
                    <a:pt x="3905" y="67"/>
                    <a:pt x="3903" y="64"/>
                  </a:cubicBezTo>
                  <a:cubicBezTo>
                    <a:pt x="3903" y="62"/>
                    <a:pt x="3903" y="59"/>
                    <a:pt x="3903" y="57"/>
                  </a:cubicBezTo>
                  <a:cubicBezTo>
                    <a:pt x="3902" y="58"/>
                    <a:pt x="3902" y="60"/>
                    <a:pt x="3901" y="62"/>
                  </a:cubicBezTo>
                  <a:cubicBezTo>
                    <a:pt x="3899" y="59"/>
                    <a:pt x="3896" y="55"/>
                    <a:pt x="3893" y="52"/>
                  </a:cubicBezTo>
                  <a:cubicBezTo>
                    <a:pt x="3893" y="48"/>
                    <a:pt x="3893" y="46"/>
                    <a:pt x="3893" y="46"/>
                  </a:cubicBezTo>
                  <a:cubicBezTo>
                    <a:pt x="3893" y="48"/>
                    <a:pt x="3893" y="49"/>
                    <a:pt x="3892" y="51"/>
                  </a:cubicBezTo>
                  <a:cubicBezTo>
                    <a:pt x="3889" y="47"/>
                    <a:pt x="3885" y="43"/>
                    <a:pt x="3881" y="39"/>
                  </a:cubicBezTo>
                  <a:cubicBezTo>
                    <a:pt x="3881" y="37"/>
                    <a:pt x="3881" y="35"/>
                    <a:pt x="3880" y="34"/>
                  </a:cubicBezTo>
                  <a:cubicBezTo>
                    <a:pt x="3880" y="34"/>
                    <a:pt x="3881" y="36"/>
                    <a:pt x="3881" y="39"/>
                  </a:cubicBezTo>
                  <a:cubicBezTo>
                    <a:pt x="3879" y="37"/>
                    <a:pt x="3878" y="36"/>
                    <a:pt x="3876" y="34"/>
                  </a:cubicBezTo>
                  <a:cubicBezTo>
                    <a:pt x="3878" y="36"/>
                    <a:pt x="3879" y="38"/>
                    <a:pt x="3881" y="40"/>
                  </a:cubicBezTo>
                  <a:cubicBezTo>
                    <a:pt x="3881" y="40"/>
                    <a:pt x="3881" y="40"/>
                    <a:pt x="3881" y="41"/>
                  </a:cubicBezTo>
                  <a:cubicBezTo>
                    <a:pt x="3881" y="40"/>
                    <a:pt x="3881" y="40"/>
                    <a:pt x="3881" y="40"/>
                  </a:cubicBezTo>
                  <a:cubicBezTo>
                    <a:pt x="3885" y="45"/>
                    <a:pt x="3888" y="49"/>
                    <a:pt x="3892" y="53"/>
                  </a:cubicBezTo>
                  <a:cubicBezTo>
                    <a:pt x="3891" y="55"/>
                    <a:pt x="3890" y="59"/>
                    <a:pt x="3890" y="62"/>
                  </a:cubicBezTo>
                  <a:cubicBezTo>
                    <a:pt x="3887" y="60"/>
                    <a:pt x="3885" y="58"/>
                    <a:pt x="3882" y="56"/>
                  </a:cubicBezTo>
                  <a:cubicBezTo>
                    <a:pt x="3881" y="50"/>
                    <a:pt x="3881" y="44"/>
                    <a:pt x="3881" y="41"/>
                  </a:cubicBezTo>
                  <a:cubicBezTo>
                    <a:pt x="3881" y="45"/>
                    <a:pt x="3881" y="50"/>
                    <a:pt x="3880" y="55"/>
                  </a:cubicBezTo>
                  <a:cubicBezTo>
                    <a:pt x="3879" y="54"/>
                    <a:pt x="3878" y="53"/>
                    <a:pt x="3876" y="52"/>
                  </a:cubicBezTo>
                  <a:cubicBezTo>
                    <a:pt x="3878" y="53"/>
                    <a:pt x="3879" y="54"/>
                    <a:pt x="3880" y="55"/>
                  </a:cubicBezTo>
                  <a:cubicBezTo>
                    <a:pt x="3880" y="64"/>
                    <a:pt x="3879" y="73"/>
                    <a:pt x="3877" y="83"/>
                  </a:cubicBezTo>
                  <a:cubicBezTo>
                    <a:pt x="3877" y="82"/>
                    <a:pt x="3877" y="81"/>
                    <a:pt x="3877" y="81"/>
                  </a:cubicBezTo>
                  <a:cubicBezTo>
                    <a:pt x="3877" y="82"/>
                    <a:pt x="3877" y="82"/>
                    <a:pt x="3877" y="83"/>
                  </a:cubicBezTo>
                  <a:cubicBezTo>
                    <a:pt x="3876" y="88"/>
                    <a:pt x="3876" y="92"/>
                    <a:pt x="3875" y="97"/>
                  </a:cubicBezTo>
                  <a:cubicBezTo>
                    <a:pt x="3873" y="89"/>
                    <a:pt x="3871" y="81"/>
                    <a:pt x="3868" y="73"/>
                  </a:cubicBezTo>
                  <a:cubicBezTo>
                    <a:pt x="3868" y="72"/>
                    <a:pt x="3868" y="71"/>
                    <a:pt x="3868" y="71"/>
                  </a:cubicBezTo>
                  <a:cubicBezTo>
                    <a:pt x="3869" y="70"/>
                    <a:pt x="3870" y="69"/>
                    <a:pt x="3871" y="68"/>
                  </a:cubicBezTo>
                  <a:cubicBezTo>
                    <a:pt x="3873" y="72"/>
                    <a:pt x="3875" y="76"/>
                    <a:pt x="3877" y="81"/>
                  </a:cubicBezTo>
                  <a:cubicBezTo>
                    <a:pt x="3875" y="76"/>
                    <a:pt x="3873" y="72"/>
                    <a:pt x="3871" y="67"/>
                  </a:cubicBezTo>
                  <a:cubicBezTo>
                    <a:pt x="3872" y="67"/>
                    <a:pt x="3872" y="66"/>
                    <a:pt x="3873" y="65"/>
                  </a:cubicBezTo>
                  <a:cubicBezTo>
                    <a:pt x="3872" y="66"/>
                    <a:pt x="3872" y="66"/>
                    <a:pt x="3871" y="67"/>
                  </a:cubicBezTo>
                  <a:cubicBezTo>
                    <a:pt x="3865" y="54"/>
                    <a:pt x="3855" y="41"/>
                    <a:pt x="3843" y="25"/>
                  </a:cubicBezTo>
                  <a:cubicBezTo>
                    <a:pt x="3855" y="42"/>
                    <a:pt x="3864" y="55"/>
                    <a:pt x="3870" y="68"/>
                  </a:cubicBezTo>
                  <a:cubicBezTo>
                    <a:pt x="3870" y="68"/>
                    <a:pt x="3869" y="69"/>
                    <a:pt x="3868" y="70"/>
                  </a:cubicBezTo>
                  <a:cubicBezTo>
                    <a:pt x="3868" y="68"/>
                    <a:pt x="3868" y="66"/>
                    <a:pt x="3868" y="66"/>
                  </a:cubicBezTo>
                  <a:cubicBezTo>
                    <a:pt x="3868" y="68"/>
                    <a:pt x="3868" y="69"/>
                    <a:pt x="3867" y="71"/>
                  </a:cubicBezTo>
                  <a:cubicBezTo>
                    <a:pt x="3867" y="71"/>
                    <a:pt x="3867" y="71"/>
                    <a:pt x="3867" y="71"/>
                  </a:cubicBezTo>
                  <a:cubicBezTo>
                    <a:pt x="3863" y="61"/>
                    <a:pt x="3856" y="52"/>
                    <a:pt x="3847" y="42"/>
                  </a:cubicBezTo>
                  <a:cubicBezTo>
                    <a:pt x="3854" y="55"/>
                    <a:pt x="3859" y="65"/>
                    <a:pt x="3863" y="75"/>
                  </a:cubicBezTo>
                  <a:cubicBezTo>
                    <a:pt x="3862" y="76"/>
                    <a:pt x="3861" y="77"/>
                    <a:pt x="3860" y="77"/>
                  </a:cubicBezTo>
                  <a:cubicBezTo>
                    <a:pt x="3858" y="73"/>
                    <a:pt x="3856" y="70"/>
                    <a:pt x="3854" y="68"/>
                  </a:cubicBezTo>
                  <a:cubicBezTo>
                    <a:pt x="3853" y="63"/>
                    <a:pt x="3853" y="60"/>
                    <a:pt x="3853" y="60"/>
                  </a:cubicBezTo>
                  <a:cubicBezTo>
                    <a:pt x="3853" y="62"/>
                    <a:pt x="3853" y="64"/>
                    <a:pt x="3853" y="67"/>
                  </a:cubicBezTo>
                  <a:cubicBezTo>
                    <a:pt x="3847" y="57"/>
                    <a:pt x="3839" y="47"/>
                    <a:pt x="3828" y="38"/>
                  </a:cubicBezTo>
                  <a:cubicBezTo>
                    <a:pt x="3838" y="49"/>
                    <a:pt x="3846" y="60"/>
                    <a:pt x="3852" y="71"/>
                  </a:cubicBezTo>
                  <a:cubicBezTo>
                    <a:pt x="3852" y="75"/>
                    <a:pt x="3852" y="80"/>
                    <a:pt x="3851" y="85"/>
                  </a:cubicBezTo>
                  <a:cubicBezTo>
                    <a:pt x="3851" y="84"/>
                    <a:pt x="3851" y="83"/>
                    <a:pt x="3850" y="83"/>
                  </a:cubicBezTo>
                  <a:cubicBezTo>
                    <a:pt x="3850" y="84"/>
                    <a:pt x="3851" y="85"/>
                    <a:pt x="3851" y="86"/>
                  </a:cubicBezTo>
                  <a:cubicBezTo>
                    <a:pt x="3851" y="87"/>
                    <a:pt x="3851" y="88"/>
                    <a:pt x="3851" y="89"/>
                  </a:cubicBezTo>
                  <a:cubicBezTo>
                    <a:pt x="3849" y="92"/>
                    <a:pt x="3848" y="94"/>
                    <a:pt x="3846" y="97"/>
                  </a:cubicBezTo>
                  <a:cubicBezTo>
                    <a:pt x="3846" y="93"/>
                    <a:pt x="3846" y="90"/>
                    <a:pt x="3846" y="87"/>
                  </a:cubicBezTo>
                  <a:cubicBezTo>
                    <a:pt x="3847" y="84"/>
                    <a:pt x="3848" y="82"/>
                    <a:pt x="3848" y="80"/>
                  </a:cubicBezTo>
                  <a:cubicBezTo>
                    <a:pt x="3849" y="81"/>
                    <a:pt x="3849" y="82"/>
                    <a:pt x="3850" y="83"/>
                  </a:cubicBezTo>
                  <a:cubicBezTo>
                    <a:pt x="3849" y="81"/>
                    <a:pt x="3849" y="80"/>
                    <a:pt x="3848" y="79"/>
                  </a:cubicBezTo>
                  <a:cubicBezTo>
                    <a:pt x="3849" y="79"/>
                    <a:pt x="3849" y="78"/>
                    <a:pt x="3849" y="77"/>
                  </a:cubicBezTo>
                  <a:cubicBezTo>
                    <a:pt x="3849" y="77"/>
                    <a:pt x="3848" y="78"/>
                    <a:pt x="3848" y="79"/>
                  </a:cubicBezTo>
                  <a:cubicBezTo>
                    <a:pt x="3847" y="77"/>
                    <a:pt x="3847" y="76"/>
                    <a:pt x="3846" y="75"/>
                  </a:cubicBezTo>
                  <a:cubicBezTo>
                    <a:pt x="3847" y="77"/>
                    <a:pt x="3847" y="78"/>
                    <a:pt x="3848" y="79"/>
                  </a:cubicBezTo>
                  <a:cubicBezTo>
                    <a:pt x="3847" y="80"/>
                    <a:pt x="3846" y="81"/>
                    <a:pt x="3846" y="82"/>
                  </a:cubicBezTo>
                  <a:cubicBezTo>
                    <a:pt x="3846" y="73"/>
                    <a:pt x="3846" y="68"/>
                    <a:pt x="3846" y="68"/>
                  </a:cubicBezTo>
                  <a:cubicBezTo>
                    <a:pt x="3845" y="72"/>
                    <a:pt x="3845" y="78"/>
                    <a:pt x="3844" y="85"/>
                  </a:cubicBezTo>
                  <a:cubicBezTo>
                    <a:pt x="3841" y="90"/>
                    <a:pt x="3839" y="94"/>
                    <a:pt x="3838" y="99"/>
                  </a:cubicBezTo>
                  <a:cubicBezTo>
                    <a:pt x="3837" y="98"/>
                    <a:pt x="3837" y="97"/>
                    <a:pt x="3837" y="96"/>
                  </a:cubicBezTo>
                  <a:cubicBezTo>
                    <a:pt x="3837" y="92"/>
                    <a:pt x="3838" y="89"/>
                    <a:pt x="3838" y="89"/>
                  </a:cubicBezTo>
                  <a:cubicBezTo>
                    <a:pt x="3838" y="91"/>
                    <a:pt x="3837" y="92"/>
                    <a:pt x="3837" y="94"/>
                  </a:cubicBezTo>
                  <a:cubicBezTo>
                    <a:pt x="3836" y="91"/>
                    <a:pt x="3835" y="88"/>
                    <a:pt x="3835" y="85"/>
                  </a:cubicBezTo>
                  <a:cubicBezTo>
                    <a:pt x="3834" y="88"/>
                    <a:pt x="3834" y="91"/>
                    <a:pt x="3834" y="94"/>
                  </a:cubicBezTo>
                  <a:cubicBezTo>
                    <a:pt x="3834" y="97"/>
                    <a:pt x="3834" y="100"/>
                    <a:pt x="3834" y="103"/>
                  </a:cubicBezTo>
                  <a:cubicBezTo>
                    <a:pt x="3833" y="107"/>
                    <a:pt x="3831" y="112"/>
                    <a:pt x="3830" y="116"/>
                  </a:cubicBezTo>
                  <a:cubicBezTo>
                    <a:pt x="3828" y="112"/>
                    <a:pt x="3827" y="108"/>
                    <a:pt x="3826" y="104"/>
                  </a:cubicBezTo>
                  <a:cubicBezTo>
                    <a:pt x="3827" y="109"/>
                    <a:pt x="3828" y="115"/>
                    <a:pt x="3828" y="120"/>
                  </a:cubicBezTo>
                  <a:cubicBezTo>
                    <a:pt x="3827" y="124"/>
                    <a:pt x="3825" y="127"/>
                    <a:pt x="3824" y="130"/>
                  </a:cubicBezTo>
                  <a:cubicBezTo>
                    <a:pt x="3823" y="128"/>
                    <a:pt x="3822" y="126"/>
                    <a:pt x="3822" y="123"/>
                  </a:cubicBezTo>
                  <a:cubicBezTo>
                    <a:pt x="3823" y="115"/>
                    <a:pt x="3825" y="106"/>
                    <a:pt x="3827" y="98"/>
                  </a:cubicBezTo>
                  <a:cubicBezTo>
                    <a:pt x="3828" y="98"/>
                    <a:pt x="3828" y="97"/>
                    <a:pt x="3828" y="96"/>
                  </a:cubicBezTo>
                  <a:cubicBezTo>
                    <a:pt x="3828" y="96"/>
                    <a:pt x="3828" y="97"/>
                    <a:pt x="3827" y="97"/>
                  </a:cubicBezTo>
                  <a:cubicBezTo>
                    <a:pt x="3830" y="86"/>
                    <a:pt x="3833" y="76"/>
                    <a:pt x="3833" y="76"/>
                  </a:cubicBezTo>
                  <a:cubicBezTo>
                    <a:pt x="3828" y="83"/>
                    <a:pt x="3822" y="96"/>
                    <a:pt x="3818" y="109"/>
                  </a:cubicBezTo>
                  <a:cubicBezTo>
                    <a:pt x="3818" y="107"/>
                    <a:pt x="3817" y="106"/>
                    <a:pt x="3817" y="104"/>
                  </a:cubicBezTo>
                  <a:cubicBezTo>
                    <a:pt x="3819" y="97"/>
                    <a:pt x="3822" y="90"/>
                    <a:pt x="3825" y="84"/>
                  </a:cubicBezTo>
                  <a:cubicBezTo>
                    <a:pt x="3822" y="90"/>
                    <a:pt x="3819" y="96"/>
                    <a:pt x="3817" y="102"/>
                  </a:cubicBezTo>
                  <a:cubicBezTo>
                    <a:pt x="3816" y="102"/>
                    <a:pt x="3816" y="101"/>
                    <a:pt x="3816" y="101"/>
                  </a:cubicBezTo>
                  <a:cubicBezTo>
                    <a:pt x="3818" y="77"/>
                    <a:pt x="3814" y="62"/>
                    <a:pt x="3814" y="62"/>
                  </a:cubicBezTo>
                  <a:cubicBezTo>
                    <a:pt x="3815" y="69"/>
                    <a:pt x="3815" y="80"/>
                    <a:pt x="3813" y="91"/>
                  </a:cubicBezTo>
                  <a:cubicBezTo>
                    <a:pt x="3813" y="89"/>
                    <a:pt x="3813" y="88"/>
                    <a:pt x="3812" y="87"/>
                  </a:cubicBezTo>
                  <a:cubicBezTo>
                    <a:pt x="3812" y="88"/>
                    <a:pt x="3812" y="88"/>
                    <a:pt x="3812" y="88"/>
                  </a:cubicBezTo>
                  <a:cubicBezTo>
                    <a:pt x="3812" y="90"/>
                    <a:pt x="3812" y="93"/>
                    <a:pt x="3813" y="96"/>
                  </a:cubicBezTo>
                  <a:cubicBezTo>
                    <a:pt x="3812" y="101"/>
                    <a:pt x="3812" y="105"/>
                    <a:pt x="3811" y="110"/>
                  </a:cubicBezTo>
                  <a:cubicBezTo>
                    <a:pt x="3810" y="109"/>
                    <a:pt x="3810" y="107"/>
                    <a:pt x="3809" y="106"/>
                  </a:cubicBezTo>
                  <a:cubicBezTo>
                    <a:pt x="3810" y="103"/>
                    <a:pt x="3810" y="99"/>
                    <a:pt x="3811" y="96"/>
                  </a:cubicBezTo>
                  <a:cubicBezTo>
                    <a:pt x="3810" y="98"/>
                    <a:pt x="3809" y="100"/>
                    <a:pt x="3808" y="103"/>
                  </a:cubicBezTo>
                  <a:cubicBezTo>
                    <a:pt x="3807" y="101"/>
                    <a:pt x="3806" y="99"/>
                    <a:pt x="3806" y="98"/>
                  </a:cubicBezTo>
                  <a:cubicBezTo>
                    <a:pt x="3806" y="89"/>
                    <a:pt x="3807" y="82"/>
                    <a:pt x="3807" y="82"/>
                  </a:cubicBezTo>
                  <a:cubicBezTo>
                    <a:pt x="3805" y="97"/>
                    <a:pt x="3805" y="97"/>
                    <a:pt x="3805" y="97"/>
                  </a:cubicBezTo>
                  <a:cubicBezTo>
                    <a:pt x="3804" y="94"/>
                    <a:pt x="3803" y="92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89"/>
                    <a:pt x="3802" y="89"/>
                    <a:pt x="3801" y="88"/>
                  </a:cubicBezTo>
                  <a:cubicBezTo>
                    <a:pt x="3801" y="83"/>
                    <a:pt x="3801" y="78"/>
                    <a:pt x="3801" y="73"/>
                  </a:cubicBezTo>
                  <a:cubicBezTo>
                    <a:pt x="3804" y="70"/>
                    <a:pt x="3807" y="66"/>
                    <a:pt x="3810" y="63"/>
                  </a:cubicBezTo>
                  <a:cubicBezTo>
                    <a:pt x="3807" y="66"/>
                    <a:pt x="3804" y="69"/>
                    <a:pt x="3801" y="71"/>
                  </a:cubicBezTo>
                  <a:cubicBezTo>
                    <a:pt x="3801" y="65"/>
                    <a:pt x="3800" y="60"/>
                    <a:pt x="3800" y="60"/>
                  </a:cubicBezTo>
                  <a:cubicBezTo>
                    <a:pt x="3800" y="64"/>
                    <a:pt x="3800" y="68"/>
                    <a:pt x="3800" y="72"/>
                  </a:cubicBezTo>
                  <a:cubicBezTo>
                    <a:pt x="3798" y="74"/>
                    <a:pt x="3797" y="75"/>
                    <a:pt x="3796" y="77"/>
                  </a:cubicBezTo>
                  <a:cubicBezTo>
                    <a:pt x="3795" y="70"/>
                    <a:pt x="3795" y="64"/>
                    <a:pt x="3795" y="64"/>
                  </a:cubicBezTo>
                  <a:cubicBezTo>
                    <a:pt x="3795" y="66"/>
                    <a:pt x="3795" y="71"/>
                    <a:pt x="3794" y="78"/>
                  </a:cubicBezTo>
                  <a:cubicBezTo>
                    <a:pt x="3791" y="81"/>
                    <a:pt x="3789" y="85"/>
                    <a:pt x="3787" y="88"/>
                  </a:cubicBezTo>
                  <a:cubicBezTo>
                    <a:pt x="3787" y="64"/>
                    <a:pt x="3786" y="42"/>
                    <a:pt x="3786" y="42"/>
                  </a:cubicBezTo>
                  <a:cubicBezTo>
                    <a:pt x="3787" y="55"/>
                    <a:pt x="3784" y="77"/>
                    <a:pt x="3782" y="96"/>
                  </a:cubicBezTo>
                  <a:cubicBezTo>
                    <a:pt x="3780" y="100"/>
                    <a:pt x="3778" y="104"/>
                    <a:pt x="3777" y="107"/>
                  </a:cubicBezTo>
                  <a:cubicBezTo>
                    <a:pt x="3776" y="107"/>
                    <a:pt x="3776" y="106"/>
                    <a:pt x="3776" y="106"/>
                  </a:cubicBezTo>
                  <a:cubicBezTo>
                    <a:pt x="3777" y="87"/>
                    <a:pt x="3780" y="70"/>
                    <a:pt x="3780" y="70"/>
                  </a:cubicBezTo>
                  <a:cubicBezTo>
                    <a:pt x="3778" y="74"/>
                    <a:pt x="3775" y="98"/>
                    <a:pt x="3773" y="117"/>
                  </a:cubicBezTo>
                  <a:cubicBezTo>
                    <a:pt x="3773" y="118"/>
                    <a:pt x="3773" y="119"/>
                    <a:pt x="3773" y="120"/>
                  </a:cubicBezTo>
                  <a:cubicBezTo>
                    <a:pt x="3773" y="119"/>
                    <a:pt x="3773" y="119"/>
                    <a:pt x="3773" y="118"/>
                  </a:cubicBezTo>
                  <a:cubicBezTo>
                    <a:pt x="3773" y="119"/>
                    <a:pt x="3773" y="119"/>
                    <a:pt x="3773" y="120"/>
                  </a:cubicBezTo>
                  <a:cubicBezTo>
                    <a:pt x="3772" y="121"/>
                    <a:pt x="3772" y="121"/>
                    <a:pt x="3772" y="122"/>
                  </a:cubicBezTo>
                  <a:cubicBezTo>
                    <a:pt x="3772" y="115"/>
                    <a:pt x="3772" y="108"/>
                    <a:pt x="3772" y="101"/>
                  </a:cubicBezTo>
                  <a:cubicBezTo>
                    <a:pt x="3772" y="101"/>
                    <a:pt x="3772" y="100"/>
                    <a:pt x="3772" y="100"/>
                  </a:cubicBezTo>
                  <a:cubicBezTo>
                    <a:pt x="3772" y="100"/>
                    <a:pt x="3772" y="101"/>
                    <a:pt x="3772" y="101"/>
                  </a:cubicBezTo>
                  <a:cubicBezTo>
                    <a:pt x="3772" y="98"/>
                    <a:pt x="3772" y="94"/>
                    <a:pt x="3771" y="91"/>
                  </a:cubicBezTo>
                  <a:cubicBezTo>
                    <a:pt x="3773" y="88"/>
                    <a:pt x="3775" y="85"/>
                    <a:pt x="3777" y="83"/>
                  </a:cubicBezTo>
                  <a:cubicBezTo>
                    <a:pt x="3775" y="85"/>
                    <a:pt x="3773" y="87"/>
                    <a:pt x="3771" y="90"/>
                  </a:cubicBezTo>
                  <a:cubicBezTo>
                    <a:pt x="3771" y="79"/>
                    <a:pt x="3770" y="69"/>
                    <a:pt x="3770" y="61"/>
                  </a:cubicBezTo>
                  <a:cubicBezTo>
                    <a:pt x="3769" y="73"/>
                    <a:pt x="3767" y="87"/>
                    <a:pt x="3765" y="100"/>
                  </a:cubicBezTo>
                  <a:cubicBezTo>
                    <a:pt x="3761" y="107"/>
                    <a:pt x="3758" y="115"/>
                    <a:pt x="3756" y="123"/>
                  </a:cubicBezTo>
                  <a:cubicBezTo>
                    <a:pt x="3757" y="109"/>
                    <a:pt x="3758" y="92"/>
                    <a:pt x="3759" y="80"/>
                  </a:cubicBezTo>
                  <a:cubicBezTo>
                    <a:pt x="3761" y="73"/>
                    <a:pt x="3762" y="67"/>
                    <a:pt x="3762" y="61"/>
                  </a:cubicBezTo>
                  <a:cubicBezTo>
                    <a:pt x="3762" y="60"/>
                    <a:pt x="3762" y="60"/>
                    <a:pt x="3762" y="60"/>
                  </a:cubicBezTo>
                  <a:cubicBezTo>
                    <a:pt x="3753" y="75"/>
                    <a:pt x="3749" y="88"/>
                    <a:pt x="3747" y="102"/>
                  </a:cubicBezTo>
                  <a:cubicBezTo>
                    <a:pt x="3747" y="102"/>
                    <a:pt x="3747" y="101"/>
                    <a:pt x="3747" y="101"/>
                  </a:cubicBezTo>
                  <a:cubicBezTo>
                    <a:pt x="3748" y="68"/>
                    <a:pt x="3751" y="30"/>
                    <a:pt x="3751" y="30"/>
                  </a:cubicBezTo>
                  <a:cubicBezTo>
                    <a:pt x="3748" y="38"/>
                    <a:pt x="3746" y="60"/>
                    <a:pt x="3743" y="83"/>
                  </a:cubicBezTo>
                  <a:cubicBezTo>
                    <a:pt x="3741" y="87"/>
                    <a:pt x="3738" y="92"/>
                    <a:pt x="3736" y="97"/>
                  </a:cubicBezTo>
                  <a:cubicBezTo>
                    <a:pt x="3736" y="91"/>
                    <a:pt x="3735" y="85"/>
                    <a:pt x="3735" y="79"/>
                  </a:cubicBezTo>
                  <a:cubicBezTo>
                    <a:pt x="3735" y="78"/>
                    <a:pt x="3735" y="78"/>
                    <a:pt x="3736" y="78"/>
                  </a:cubicBezTo>
                  <a:cubicBezTo>
                    <a:pt x="3735" y="78"/>
                    <a:pt x="3735" y="78"/>
                    <a:pt x="3735" y="78"/>
                  </a:cubicBezTo>
                  <a:cubicBezTo>
                    <a:pt x="3733" y="58"/>
                    <a:pt x="3732" y="41"/>
                    <a:pt x="3732" y="41"/>
                  </a:cubicBezTo>
                  <a:cubicBezTo>
                    <a:pt x="3733" y="52"/>
                    <a:pt x="3733" y="67"/>
                    <a:pt x="3732" y="82"/>
                  </a:cubicBezTo>
                  <a:cubicBezTo>
                    <a:pt x="3730" y="84"/>
                    <a:pt x="3728" y="87"/>
                    <a:pt x="3726" y="92"/>
                  </a:cubicBezTo>
                  <a:cubicBezTo>
                    <a:pt x="3725" y="82"/>
                    <a:pt x="3726" y="72"/>
                    <a:pt x="3726" y="68"/>
                  </a:cubicBezTo>
                  <a:cubicBezTo>
                    <a:pt x="3725" y="77"/>
                    <a:pt x="3724" y="88"/>
                    <a:pt x="3722" y="99"/>
                  </a:cubicBezTo>
                  <a:cubicBezTo>
                    <a:pt x="3720" y="94"/>
                    <a:pt x="3719" y="89"/>
                    <a:pt x="3717" y="84"/>
                  </a:cubicBezTo>
                  <a:cubicBezTo>
                    <a:pt x="3719" y="90"/>
                    <a:pt x="3720" y="96"/>
                    <a:pt x="3721" y="101"/>
                  </a:cubicBezTo>
                  <a:cubicBezTo>
                    <a:pt x="3721" y="105"/>
                    <a:pt x="3720" y="109"/>
                    <a:pt x="3719" y="113"/>
                  </a:cubicBezTo>
                  <a:cubicBezTo>
                    <a:pt x="3719" y="110"/>
                    <a:pt x="3719" y="108"/>
                    <a:pt x="3719" y="105"/>
                  </a:cubicBezTo>
                  <a:cubicBezTo>
                    <a:pt x="3718" y="108"/>
                    <a:pt x="3718" y="115"/>
                    <a:pt x="3718" y="119"/>
                  </a:cubicBezTo>
                  <a:cubicBezTo>
                    <a:pt x="3717" y="120"/>
                    <a:pt x="3717" y="122"/>
                    <a:pt x="3717" y="124"/>
                  </a:cubicBezTo>
                  <a:cubicBezTo>
                    <a:pt x="3716" y="125"/>
                    <a:pt x="3716" y="127"/>
                    <a:pt x="3716" y="128"/>
                  </a:cubicBezTo>
                  <a:cubicBezTo>
                    <a:pt x="3715" y="124"/>
                    <a:pt x="3714" y="120"/>
                    <a:pt x="3713" y="116"/>
                  </a:cubicBezTo>
                  <a:cubicBezTo>
                    <a:pt x="3714" y="108"/>
                    <a:pt x="3714" y="100"/>
                    <a:pt x="3715" y="94"/>
                  </a:cubicBezTo>
                  <a:cubicBezTo>
                    <a:pt x="3716" y="92"/>
                    <a:pt x="3716" y="91"/>
                    <a:pt x="3717" y="89"/>
                  </a:cubicBezTo>
                  <a:cubicBezTo>
                    <a:pt x="3716" y="90"/>
                    <a:pt x="3716" y="91"/>
                    <a:pt x="3715" y="92"/>
                  </a:cubicBezTo>
                  <a:cubicBezTo>
                    <a:pt x="3716" y="87"/>
                    <a:pt x="3716" y="83"/>
                    <a:pt x="3716" y="83"/>
                  </a:cubicBezTo>
                  <a:cubicBezTo>
                    <a:pt x="3716" y="85"/>
                    <a:pt x="3715" y="89"/>
                    <a:pt x="3714" y="93"/>
                  </a:cubicBezTo>
                  <a:cubicBezTo>
                    <a:pt x="3713" y="96"/>
                    <a:pt x="3711" y="99"/>
                    <a:pt x="3710" y="102"/>
                  </a:cubicBezTo>
                  <a:cubicBezTo>
                    <a:pt x="3709" y="101"/>
                    <a:pt x="3709" y="100"/>
                    <a:pt x="3709" y="99"/>
                  </a:cubicBezTo>
                  <a:cubicBezTo>
                    <a:pt x="3711" y="80"/>
                    <a:pt x="3713" y="62"/>
                    <a:pt x="3713" y="62"/>
                  </a:cubicBezTo>
                  <a:cubicBezTo>
                    <a:pt x="3711" y="66"/>
                    <a:pt x="3709" y="80"/>
                    <a:pt x="3707" y="95"/>
                  </a:cubicBezTo>
                  <a:cubicBezTo>
                    <a:pt x="3707" y="94"/>
                    <a:pt x="3706" y="92"/>
                    <a:pt x="3705" y="90"/>
                  </a:cubicBezTo>
                  <a:cubicBezTo>
                    <a:pt x="3706" y="92"/>
                    <a:pt x="3707" y="94"/>
                    <a:pt x="3707" y="96"/>
                  </a:cubicBezTo>
                  <a:cubicBezTo>
                    <a:pt x="3707" y="101"/>
                    <a:pt x="3706" y="106"/>
                    <a:pt x="3706" y="110"/>
                  </a:cubicBezTo>
                  <a:cubicBezTo>
                    <a:pt x="3705" y="113"/>
                    <a:pt x="3704" y="116"/>
                    <a:pt x="3703" y="118"/>
                  </a:cubicBezTo>
                  <a:cubicBezTo>
                    <a:pt x="3701" y="94"/>
                    <a:pt x="3696" y="64"/>
                    <a:pt x="3696" y="64"/>
                  </a:cubicBezTo>
                  <a:cubicBezTo>
                    <a:pt x="3696" y="64"/>
                    <a:pt x="3696" y="73"/>
                    <a:pt x="3697" y="82"/>
                  </a:cubicBezTo>
                  <a:cubicBezTo>
                    <a:pt x="3698" y="88"/>
                    <a:pt x="3697" y="98"/>
                    <a:pt x="3695" y="108"/>
                  </a:cubicBezTo>
                  <a:cubicBezTo>
                    <a:pt x="3694" y="111"/>
                    <a:pt x="3693" y="114"/>
                    <a:pt x="3692" y="117"/>
                  </a:cubicBezTo>
                  <a:cubicBezTo>
                    <a:pt x="3692" y="108"/>
                    <a:pt x="3691" y="99"/>
                    <a:pt x="3689" y="90"/>
                  </a:cubicBezTo>
                  <a:cubicBezTo>
                    <a:pt x="3692" y="78"/>
                    <a:pt x="3697" y="66"/>
                    <a:pt x="3696" y="56"/>
                  </a:cubicBezTo>
                  <a:cubicBezTo>
                    <a:pt x="3693" y="62"/>
                    <a:pt x="3690" y="67"/>
                    <a:pt x="3688" y="72"/>
                  </a:cubicBezTo>
                  <a:cubicBezTo>
                    <a:pt x="3691" y="34"/>
                    <a:pt x="3684" y="19"/>
                    <a:pt x="3684" y="19"/>
                  </a:cubicBezTo>
                  <a:cubicBezTo>
                    <a:pt x="3684" y="19"/>
                    <a:pt x="3687" y="31"/>
                    <a:pt x="3686" y="54"/>
                  </a:cubicBezTo>
                  <a:cubicBezTo>
                    <a:pt x="3685" y="61"/>
                    <a:pt x="3684" y="74"/>
                    <a:pt x="3682" y="88"/>
                  </a:cubicBezTo>
                  <a:cubicBezTo>
                    <a:pt x="3681" y="92"/>
                    <a:pt x="3680" y="97"/>
                    <a:pt x="3680" y="101"/>
                  </a:cubicBezTo>
                  <a:cubicBezTo>
                    <a:pt x="3679" y="98"/>
                    <a:pt x="3678" y="95"/>
                    <a:pt x="3676" y="91"/>
                  </a:cubicBezTo>
                  <a:cubicBezTo>
                    <a:pt x="3677" y="89"/>
                    <a:pt x="3677" y="87"/>
                    <a:pt x="3678" y="85"/>
                  </a:cubicBezTo>
                  <a:cubicBezTo>
                    <a:pt x="3677" y="87"/>
                    <a:pt x="3677" y="88"/>
                    <a:pt x="3676" y="90"/>
                  </a:cubicBezTo>
                  <a:cubicBezTo>
                    <a:pt x="3676" y="89"/>
                    <a:pt x="3675" y="88"/>
                    <a:pt x="3675" y="87"/>
                  </a:cubicBezTo>
                  <a:cubicBezTo>
                    <a:pt x="3675" y="83"/>
                    <a:pt x="3675" y="78"/>
                    <a:pt x="3675" y="74"/>
                  </a:cubicBezTo>
                  <a:cubicBezTo>
                    <a:pt x="3675" y="46"/>
                    <a:pt x="3665" y="40"/>
                    <a:pt x="3665" y="40"/>
                  </a:cubicBezTo>
                  <a:cubicBezTo>
                    <a:pt x="3665" y="40"/>
                    <a:pt x="3671" y="44"/>
                    <a:pt x="3671" y="70"/>
                  </a:cubicBezTo>
                  <a:cubicBezTo>
                    <a:pt x="3671" y="84"/>
                    <a:pt x="3666" y="108"/>
                    <a:pt x="3661" y="125"/>
                  </a:cubicBezTo>
                  <a:cubicBezTo>
                    <a:pt x="3661" y="123"/>
                    <a:pt x="3661" y="120"/>
                    <a:pt x="3660" y="118"/>
                  </a:cubicBezTo>
                  <a:cubicBezTo>
                    <a:pt x="3661" y="111"/>
                    <a:pt x="3662" y="105"/>
                    <a:pt x="3662" y="98"/>
                  </a:cubicBezTo>
                  <a:cubicBezTo>
                    <a:pt x="3661" y="101"/>
                    <a:pt x="3660" y="104"/>
                    <a:pt x="3660" y="107"/>
                  </a:cubicBezTo>
                  <a:cubicBezTo>
                    <a:pt x="3660" y="107"/>
                    <a:pt x="3660" y="106"/>
                    <a:pt x="3660" y="106"/>
                  </a:cubicBezTo>
                  <a:cubicBezTo>
                    <a:pt x="3660" y="97"/>
                    <a:pt x="3661" y="83"/>
                    <a:pt x="3667" y="75"/>
                  </a:cubicBezTo>
                  <a:cubicBezTo>
                    <a:pt x="3664" y="77"/>
                    <a:pt x="3661" y="82"/>
                    <a:pt x="3659" y="87"/>
                  </a:cubicBezTo>
                  <a:cubicBezTo>
                    <a:pt x="3660" y="78"/>
                    <a:pt x="3660" y="71"/>
                    <a:pt x="3660" y="71"/>
                  </a:cubicBezTo>
                  <a:cubicBezTo>
                    <a:pt x="3659" y="75"/>
                    <a:pt x="3656" y="97"/>
                    <a:pt x="3652" y="116"/>
                  </a:cubicBezTo>
                  <a:cubicBezTo>
                    <a:pt x="3652" y="114"/>
                    <a:pt x="3652" y="112"/>
                    <a:pt x="3651" y="110"/>
                  </a:cubicBezTo>
                  <a:cubicBezTo>
                    <a:pt x="3652" y="99"/>
                    <a:pt x="3653" y="87"/>
                    <a:pt x="3654" y="78"/>
                  </a:cubicBezTo>
                  <a:cubicBezTo>
                    <a:pt x="3656" y="71"/>
                    <a:pt x="3658" y="63"/>
                    <a:pt x="3660" y="55"/>
                  </a:cubicBezTo>
                  <a:cubicBezTo>
                    <a:pt x="3660" y="54"/>
                    <a:pt x="3660" y="52"/>
                    <a:pt x="3660" y="51"/>
                  </a:cubicBezTo>
                  <a:cubicBezTo>
                    <a:pt x="3658" y="54"/>
                    <a:pt x="3657" y="57"/>
                    <a:pt x="3656" y="60"/>
                  </a:cubicBezTo>
                  <a:cubicBezTo>
                    <a:pt x="3656" y="60"/>
                    <a:pt x="3656" y="59"/>
                    <a:pt x="3656" y="59"/>
                  </a:cubicBezTo>
                  <a:cubicBezTo>
                    <a:pt x="3656" y="60"/>
                    <a:pt x="3656" y="60"/>
                    <a:pt x="3656" y="60"/>
                  </a:cubicBezTo>
                  <a:cubicBezTo>
                    <a:pt x="3652" y="70"/>
                    <a:pt x="3649" y="80"/>
                    <a:pt x="3646" y="89"/>
                  </a:cubicBezTo>
                  <a:cubicBezTo>
                    <a:pt x="3652" y="30"/>
                    <a:pt x="3649" y="15"/>
                    <a:pt x="3648" y="13"/>
                  </a:cubicBezTo>
                  <a:cubicBezTo>
                    <a:pt x="3648" y="15"/>
                    <a:pt x="3649" y="22"/>
                    <a:pt x="3645" y="56"/>
                  </a:cubicBezTo>
                  <a:cubicBezTo>
                    <a:pt x="3643" y="68"/>
                    <a:pt x="3642" y="80"/>
                    <a:pt x="3640" y="91"/>
                  </a:cubicBezTo>
                  <a:cubicBezTo>
                    <a:pt x="3639" y="85"/>
                    <a:pt x="3637" y="79"/>
                    <a:pt x="3635" y="74"/>
                  </a:cubicBezTo>
                  <a:cubicBezTo>
                    <a:pt x="3636" y="51"/>
                    <a:pt x="3637" y="31"/>
                    <a:pt x="3637" y="31"/>
                  </a:cubicBezTo>
                  <a:cubicBezTo>
                    <a:pt x="3635" y="38"/>
                    <a:pt x="3633" y="53"/>
                    <a:pt x="3632" y="69"/>
                  </a:cubicBezTo>
                  <a:cubicBezTo>
                    <a:pt x="3631" y="68"/>
                    <a:pt x="3630" y="67"/>
                    <a:pt x="3629" y="65"/>
                  </a:cubicBezTo>
                  <a:cubicBezTo>
                    <a:pt x="3630" y="67"/>
                    <a:pt x="3631" y="69"/>
                    <a:pt x="3632" y="71"/>
                  </a:cubicBezTo>
                  <a:cubicBezTo>
                    <a:pt x="3632" y="71"/>
                    <a:pt x="3632" y="72"/>
                    <a:pt x="3632" y="73"/>
                  </a:cubicBezTo>
                  <a:cubicBezTo>
                    <a:pt x="3629" y="77"/>
                    <a:pt x="3626" y="81"/>
                    <a:pt x="3624" y="86"/>
                  </a:cubicBezTo>
                  <a:cubicBezTo>
                    <a:pt x="3623" y="85"/>
                    <a:pt x="3623" y="84"/>
                    <a:pt x="3622" y="83"/>
                  </a:cubicBezTo>
                  <a:cubicBezTo>
                    <a:pt x="3619" y="61"/>
                    <a:pt x="3617" y="38"/>
                    <a:pt x="3614" y="28"/>
                  </a:cubicBezTo>
                  <a:cubicBezTo>
                    <a:pt x="3614" y="28"/>
                    <a:pt x="3617" y="54"/>
                    <a:pt x="3621" y="83"/>
                  </a:cubicBezTo>
                  <a:cubicBezTo>
                    <a:pt x="3620" y="82"/>
                    <a:pt x="3619" y="81"/>
                    <a:pt x="3618" y="80"/>
                  </a:cubicBezTo>
                  <a:cubicBezTo>
                    <a:pt x="3620" y="81"/>
                    <a:pt x="3621" y="82"/>
                    <a:pt x="3622" y="84"/>
                  </a:cubicBezTo>
                  <a:cubicBezTo>
                    <a:pt x="3622" y="85"/>
                    <a:pt x="3622" y="86"/>
                    <a:pt x="3622" y="88"/>
                  </a:cubicBezTo>
                  <a:cubicBezTo>
                    <a:pt x="3622" y="86"/>
                    <a:pt x="3622" y="85"/>
                    <a:pt x="3622" y="84"/>
                  </a:cubicBezTo>
                  <a:cubicBezTo>
                    <a:pt x="3622" y="85"/>
                    <a:pt x="3623" y="86"/>
                    <a:pt x="3624" y="87"/>
                  </a:cubicBezTo>
                  <a:cubicBezTo>
                    <a:pt x="3623" y="88"/>
                    <a:pt x="3623" y="89"/>
                    <a:pt x="3622" y="90"/>
                  </a:cubicBezTo>
                  <a:cubicBezTo>
                    <a:pt x="3622" y="89"/>
                    <a:pt x="3622" y="88"/>
                    <a:pt x="3622" y="88"/>
                  </a:cubicBezTo>
                  <a:cubicBezTo>
                    <a:pt x="3622" y="88"/>
                    <a:pt x="3622" y="89"/>
                    <a:pt x="3622" y="90"/>
                  </a:cubicBezTo>
                  <a:cubicBezTo>
                    <a:pt x="3620" y="95"/>
                    <a:pt x="3619" y="100"/>
                    <a:pt x="3617" y="105"/>
                  </a:cubicBezTo>
                  <a:cubicBezTo>
                    <a:pt x="3617" y="105"/>
                    <a:pt x="3617" y="105"/>
                    <a:pt x="3617" y="105"/>
                  </a:cubicBezTo>
                  <a:cubicBezTo>
                    <a:pt x="3617" y="104"/>
                    <a:pt x="3617" y="104"/>
                    <a:pt x="3617" y="103"/>
                  </a:cubicBezTo>
                  <a:cubicBezTo>
                    <a:pt x="3617" y="104"/>
                    <a:pt x="3617" y="104"/>
                    <a:pt x="3617" y="105"/>
                  </a:cubicBezTo>
                  <a:cubicBezTo>
                    <a:pt x="3614" y="95"/>
                    <a:pt x="3612" y="87"/>
                    <a:pt x="3610" y="81"/>
                  </a:cubicBezTo>
                  <a:cubicBezTo>
                    <a:pt x="3611" y="85"/>
                    <a:pt x="3612" y="90"/>
                    <a:pt x="3613" y="95"/>
                  </a:cubicBezTo>
                  <a:cubicBezTo>
                    <a:pt x="3613" y="100"/>
                    <a:pt x="3612" y="104"/>
                    <a:pt x="3611" y="109"/>
                  </a:cubicBezTo>
                  <a:cubicBezTo>
                    <a:pt x="3612" y="104"/>
                    <a:pt x="3613" y="100"/>
                    <a:pt x="3613" y="95"/>
                  </a:cubicBezTo>
                  <a:cubicBezTo>
                    <a:pt x="3614" y="100"/>
                    <a:pt x="3615" y="105"/>
                    <a:pt x="3616" y="110"/>
                  </a:cubicBezTo>
                  <a:cubicBezTo>
                    <a:pt x="3616" y="110"/>
                    <a:pt x="3616" y="111"/>
                    <a:pt x="3616" y="111"/>
                  </a:cubicBezTo>
                  <a:cubicBezTo>
                    <a:pt x="3615" y="116"/>
                    <a:pt x="3613" y="122"/>
                    <a:pt x="3610" y="127"/>
                  </a:cubicBezTo>
                  <a:cubicBezTo>
                    <a:pt x="3610" y="125"/>
                    <a:pt x="3609" y="123"/>
                    <a:pt x="3609" y="120"/>
                  </a:cubicBezTo>
                  <a:cubicBezTo>
                    <a:pt x="3610" y="117"/>
                    <a:pt x="3611" y="113"/>
                    <a:pt x="3611" y="109"/>
                  </a:cubicBezTo>
                  <a:cubicBezTo>
                    <a:pt x="3611" y="112"/>
                    <a:pt x="3610" y="116"/>
                    <a:pt x="3609" y="119"/>
                  </a:cubicBezTo>
                  <a:cubicBezTo>
                    <a:pt x="3607" y="111"/>
                    <a:pt x="3605" y="103"/>
                    <a:pt x="3605" y="95"/>
                  </a:cubicBezTo>
                  <a:cubicBezTo>
                    <a:pt x="3605" y="96"/>
                    <a:pt x="3605" y="96"/>
                    <a:pt x="3605" y="96"/>
                  </a:cubicBezTo>
                  <a:cubicBezTo>
                    <a:pt x="3605" y="98"/>
                    <a:pt x="3605" y="98"/>
                    <a:pt x="3605" y="98"/>
                  </a:cubicBezTo>
                  <a:cubicBezTo>
                    <a:pt x="3605" y="97"/>
                    <a:pt x="3605" y="96"/>
                    <a:pt x="3605" y="95"/>
                  </a:cubicBezTo>
                  <a:cubicBezTo>
                    <a:pt x="3605" y="84"/>
                    <a:pt x="3603" y="69"/>
                    <a:pt x="3597" y="60"/>
                  </a:cubicBezTo>
                  <a:cubicBezTo>
                    <a:pt x="3601" y="70"/>
                    <a:pt x="3603" y="82"/>
                    <a:pt x="3603" y="93"/>
                  </a:cubicBezTo>
                  <a:cubicBezTo>
                    <a:pt x="3603" y="101"/>
                    <a:pt x="3601" y="109"/>
                    <a:pt x="3599" y="116"/>
                  </a:cubicBezTo>
                  <a:cubicBezTo>
                    <a:pt x="3597" y="115"/>
                    <a:pt x="3597" y="117"/>
                    <a:pt x="3598" y="120"/>
                  </a:cubicBezTo>
                  <a:cubicBezTo>
                    <a:pt x="3598" y="121"/>
                    <a:pt x="3597" y="121"/>
                    <a:pt x="3597" y="122"/>
                  </a:cubicBezTo>
                  <a:cubicBezTo>
                    <a:pt x="3596" y="119"/>
                    <a:pt x="3595" y="115"/>
                    <a:pt x="3594" y="112"/>
                  </a:cubicBezTo>
                  <a:cubicBezTo>
                    <a:pt x="3595" y="107"/>
                    <a:pt x="3595" y="103"/>
                    <a:pt x="3595" y="98"/>
                  </a:cubicBezTo>
                  <a:cubicBezTo>
                    <a:pt x="3595" y="90"/>
                    <a:pt x="3594" y="82"/>
                    <a:pt x="3592" y="74"/>
                  </a:cubicBezTo>
                  <a:cubicBezTo>
                    <a:pt x="3591" y="83"/>
                    <a:pt x="3591" y="93"/>
                    <a:pt x="3591" y="102"/>
                  </a:cubicBezTo>
                  <a:cubicBezTo>
                    <a:pt x="3588" y="94"/>
                    <a:pt x="3585" y="86"/>
                    <a:pt x="3583" y="81"/>
                  </a:cubicBezTo>
                  <a:cubicBezTo>
                    <a:pt x="3583" y="86"/>
                    <a:pt x="3583" y="86"/>
                    <a:pt x="3583" y="86"/>
                  </a:cubicBezTo>
                  <a:cubicBezTo>
                    <a:pt x="3583" y="97"/>
                    <a:pt x="3586" y="108"/>
                    <a:pt x="3590" y="118"/>
                  </a:cubicBezTo>
                  <a:cubicBezTo>
                    <a:pt x="3589" y="119"/>
                    <a:pt x="3589" y="120"/>
                    <a:pt x="3589" y="121"/>
                  </a:cubicBezTo>
                  <a:cubicBezTo>
                    <a:pt x="3589" y="123"/>
                    <a:pt x="3588" y="126"/>
                    <a:pt x="3587" y="128"/>
                  </a:cubicBezTo>
                  <a:cubicBezTo>
                    <a:pt x="3584" y="121"/>
                    <a:pt x="3582" y="113"/>
                    <a:pt x="3580" y="106"/>
                  </a:cubicBezTo>
                  <a:cubicBezTo>
                    <a:pt x="3580" y="101"/>
                    <a:pt x="3579" y="96"/>
                    <a:pt x="3578" y="92"/>
                  </a:cubicBezTo>
                  <a:cubicBezTo>
                    <a:pt x="3578" y="91"/>
                    <a:pt x="3578" y="90"/>
                    <a:pt x="3578" y="89"/>
                  </a:cubicBezTo>
                  <a:cubicBezTo>
                    <a:pt x="3578" y="90"/>
                    <a:pt x="3578" y="90"/>
                    <a:pt x="3578" y="91"/>
                  </a:cubicBezTo>
                  <a:cubicBezTo>
                    <a:pt x="3577" y="85"/>
                    <a:pt x="3575" y="79"/>
                    <a:pt x="3572" y="73"/>
                  </a:cubicBezTo>
                  <a:cubicBezTo>
                    <a:pt x="3572" y="72"/>
                    <a:pt x="3572" y="72"/>
                    <a:pt x="3572" y="71"/>
                  </a:cubicBezTo>
                  <a:cubicBezTo>
                    <a:pt x="3572" y="71"/>
                    <a:pt x="3571" y="72"/>
                    <a:pt x="3571" y="73"/>
                  </a:cubicBezTo>
                  <a:cubicBezTo>
                    <a:pt x="3571" y="72"/>
                    <a:pt x="3571" y="71"/>
                    <a:pt x="3570" y="71"/>
                  </a:cubicBezTo>
                  <a:cubicBezTo>
                    <a:pt x="3570" y="72"/>
                    <a:pt x="3571" y="73"/>
                    <a:pt x="3571" y="73"/>
                  </a:cubicBezTo>
                  <a:cubicBezTo>
                    <a:pt x="3568" y="79"/>
                    <a:pt x="3566" y="85"/>
                    <a:pt x="3564" y="91"/>
                  </a:cubicBezTo>
                  <a:cubicBezTo>
                    <a:pt x="3564" y="90"/>
                    <a:pt x="3564" y="90"/>
                    <a:pt x="3564" y="89"/>
                  </a:cubicBezTo>
                  <a:cubicBezTo>
                    <a:pt x="3564" y="90"/>
                    <a:pt x="3564" y="91"/>
                    <a:pt x="3564" y="92"/>
                  </a:cubicBezTo>
                  <a:cubicBezTo>
                    <a:pt x="3563" y="96"/>
                    <a:pt x="3563" y="101"/>
                    <a:pt x="3562" y="106"/>
                  </a:cubicBezTo>
                  <a:cubicBezTo>
                    <a:pt x="3561" y="113"/>
                    <a:pt x="3558" y="121"/>
                    <a:pt x="3555" y="128"/>
                  </a:cubicBezTo>
                  <a:cubicBezTo>
                    <a:pt x="3554" y="126"/>
                    <a:pt x="3554" y="123"/>
                    <a:pt x="3553" y="121"/>
                  </a:cubicBezTo>
                  <a:cubicBezTo>
                    <a:pt x="3553" y="120"/>
                    <a:pt x="3553" y="119"/>
                    <a:pt x="3553" y="118"/>
                  </a:cubicBezTo>
                  <a:cubicBezTo>
                    <a:pt x="3556" y="108"/>
                    <a:pt x="3559" y="97"/>
                    <a:pt x="3559" y="86"/>
                  </a:cubicBezTo>
                  <a:cubicBezTo>
                    <a:pt x="3559" y="81"/>
                    <a:pt x="3559" y="81"/>
                    <a:pt x="3559" y="81"/>
                  </a:cubicBezTo>
                  <a:cubicBezTo>
                    <a:pt x="3557" y="86"/>
                    <a:pt x="3554" y="94"/>
                    <a:pt x="3551" y="102"/>
                  </a:cubicBezTo>
                  <a:cubicBezTo>
                    <a:pt x="3551" y="93"/>
                    <a:pt x="3551" y="83"/>
                    <a:pt x="3550" y="74"/>
                  </a:cubicBezTo>
                  <a:cubicBezTo>
                    <a:pt x="3548" y="82"/>
                    <a:pt x="3547" y="90"/>
                    <a:pt x="3547" y="98"/>
                  </a:cubicBezTo>
                  <a:cubicBezTo>
                    <a:pt x="3547" y="103"/>
                    <a:pt x="3548" y="107"/>
                    <a:pt x="3548" y="112"/>
                  </a:cubicBezTo>
                  <a:cubicBezTo>
                    <a:pt x="3547" y="115"/>
                    <a:pt x="3546" y="119"/>
                    <a:pt x="3545" y="122"/>
                  </a:cubicBezTo>
                  <a:cubicBezTo>
                    <a:pt x="3542" y="112"/>
                    <a:pt x="3539" y="103"/>
                    <a:pt x="3539" y="93"/>
                  </a:cubicBezTo>
                  <a:cubicBezTo>
                    <a:pt x="3539" y="82"/>
                    <a:pt x="3541" y="70"/>
                    <a:pt x="3545" y="60"/>
                  </a:cubicBezTo>
                  <a:cubicBezTo>
                    <a:pt x="3540" y="69"/>
                    <a:pt x="3538" y="84"/>
                    <a:pt x="3538" y="95"/>
                  </a:cubicBezTo>
                  <a:cubicBezTo>
                    <a:pt x="3538" y="96"/>
                    <a:pt x="3538" y="97"/>
                    <a:pt x="3538" y="98"/>
                  </a:cubicBezTo>
                  <a:cubicBezTo>
                    <a:pt x="3537" y="96"/>
                    <a:pt x="3537" y="96"/>
                    <a:pt x="3537" y="96"/>
                  </a:cubicBezTo>
                  <a:cubicBezTo>
                    <a:pt x="3537" y="95"/>
                    <a:pt x="3537" y="95"/>
                    <a:pt x="3537" y="95"/>
                  </a:cubicBezTo>
                  <a:cubicBezTo>
                    <a:pt x="3537" y="103"/>
                    <a:pt x="3536" y="111"/>
                    <a:pt x="3534" y="119"/>
                  </a:cubicBezTo>
                  <a:cubicBezTo>
                    <a:pt x="3533" y="116"/>
                    <a:pt x="3532" y="112"/>
                    <a:pt x="3531" y="109"/>
                  </a:cubicBezTo>
                  <a:cubicBezTo>
                    <a:pt x="3532" y="113"/>
                    <a:pt x="3533" y="117"/>
                    <a:pt x="3533" y="120"/>
                  </a:cubicBezTo>
                  <a:cubicBezTo>
                    <a:pt x="3533" y="123"/>
                    <a:pt x="3532" y="125"/>
                    <a:pt x="3532" y="127"/>
                  </a:cubicBezTo>
                  <a:cubicBezTo>
                    <a:pt x="3530" y="122"/>
                    <a:pt x="3528" y="116"/>
                    <a:pt x="3526" y="111"/>
                  </a:cubicBezTo>
                  <a:cubicBezTo>
                    <a:pt x="3526" y="109"/>
                    <a:pt x="3526" y="108"/>
                    <a:pt x="3525" y="107"/>
                  </a:cubicBezTo>
                  <a:cubicBezTo>
                    <a:pt x="3525" y="106"/>
                    <a:pt x="3525" y="104"/>
                    <a:pt x="3525" y="103"/>
                  </a:cubicBezTo>
                  <a:cubicBezTo>
                    <a:pt x="3525" y="104"/>
                    <a:pt x="3525" y="105"/>
                    <a:pt x="3525" y="105"/>
                  </a:cubicBezTo>
                  <a:cubicBezTo>
                    <a:pt x="3524" y="99"/>
                    <a:pt x="3522" y="93"/>
                    <a:pt x="3519" y="87"/>
                  </a:cubicBezTo>
                  <a:cubicBezTo>
                    <a:pt x="3520" y="84"/>
                    <a:pt x="3522" y="82"/>
                    <a:pt x="3524" y="80"/>
                  </a:cubicBezTo>
                  <a:cubicBezTo>
                    <a:pt x="3522" y="82"/>
                    <a:pt x="3520" y="84"/>
                    <a:pt x="3518" y="86"/>
                  </a:cubicBezTo>
                  <a:cubicBezTo>
                    <a:pt x="3516" y="81"/>
                    <a:pt x="3513" y="77"/>
                    <a:pt x="3510" y="73"/>
                  </a:cubicBezTo>
                  <a:cubicBezTo>
                    <a:pt x="3513" y="77"/>
                    <a:pt x="3515" y="83"/>
                    <a:pt x="3516" y="90"/>
                  </a:cubicBezTo>
                  <a:cubicBezTo>
                    <a:pt x="3514" y="94"/>
                    <a:pt x="3512" y="99"/>
                    <a:pt x="3512" y="103"/>
                  </a:cubicBezTo>
                  <a:cubicBezTo>
                    <a:pt x="3510" y="97"/>
                    <a:pt x="3508" y="91"/>
                    <a:pt x="3506" y="85"/>
                  </a:cubicBezTo>
                  <a:cubicBezTo>
                    <a:pt x="3508" y="91"/>
                    <a:pt x="3508" y="97"/>
                    <a:pt x="3508" y="103"/>
                  </a:cubicBezTo>
                  <a:cubicBezTo>
                    <a:pt x="3508" y="108"/>
                    <a:pt x="3507" y="114"/>
                    <a:pt x="3507" y="119"/>
                  </a:cubicBezTo>
                  <a:cubicBezTo>
                    <a:pt x="3505" y="111"/>
                    <a:pt x="3504" y="104"/>
                    <a:pt x="3504" y="96"/>
                  </a:cubicBezTo>
                  <a:cubicBezTo>
                    <a:pt x="3504" y="87"/>
                    <a:pt x="3508" y="73"/>
                    <a:pt x="3513" y="65"/>
                  </a:cubicBezTo>
                  <a:cubicBezTo>
                    <a:pt x="3504" y="76"/>
                    <a:pt x="3500" y="96"/>
                    <a:pt x="3500" y="108"/>
                  </a:cubicBezTo>
                  <a:cubicBezTo>
                    <a:pt x="3500" y="119"/>
                    <a:pt x="3503" y="130"/>
                    <a:pt x="3503" y="141"/>
                  </a:cubicBezTo>
                  <a:cubicBezTo>
                    <a:pt x="3503" y="146"/>
                    <a:pt x="3503" y="150"/>
                    <a:pt x="3502" y="154"/>
                  </a:cubicBezTo>
                  <a:cubicBezTo>
                    <a:pt x="3496" y="135"/>
                    <a:pt x="3501" y="113"/>
                    <a:pt x="3497" y="93"/>
                  </a:cubicBezTo>
                  <a:cubicBezTo>
                    <a:pt x="3494" y="79"/>
                    <a:pt x="3489" y="64"/>
                    <a:pt x="3483" y="51"/>
                  </a:cubicBezTo>
                  <a:cubicBezTo>
                    <a:pt x="3482" y="52"/>
                    <a:pt x="3482" y="54"/>
                    <a:pt x="3482" y="55"/>
                  </a:cubicBezTo>
                  <a:cubicBezTo>
                    <a:pt x="3489" y="76"/>
                    <a:pt x="3491" y="92"/>
                    <a:pt x="3492" y="105"/>
                  </a:cubicBezTo>
                  <a:cubicBezTo>
                    <a:pt x="3491" y="109"/>
                    <a:pt x="3490" y="114"/>
                    <a:pt x="3490" y="118"/>
                  </a:cubicBezTo>
                  <a:cubicBezTo>
                    <a:pt x="3488" y="101"/>
                    <a:pt x="3484" y="82"/>
                    <a:pt x="3475" y="75"/>
                  </a:cubicBezTo>
                  <a:cubicBezTo>
                    <a:pt x="3481" y="83"/>
                    <a:pt x="3483" y="97"/>
                    <a:pt x="3483" y="106"/>
                  </a:cubicBezTo>
                  <a:cubicBezTo>
                    <a:pt x="3483" y="106"/>
                    <a:pt x="3483" y="107"/>
                    <a:pt x="3483" y="107"/>
                  </a:cubicBezTo>
                  <a:cubicBezTo>
                    <a:pt x="3482" y="104"/>
                    <a:pt x="3481" y="101"/>
                    <a:pt x="3481" y="98"/>
                  </a:cubicBezTo>
                  <a:cubicBezTo>
                    <a:pt x="3481" y="105"/>
                    <a:pt x="3481" y="111"/>
                    <a:pt x="3482" y="118"/>
                  </a:cubicBezTo>
                  <a:cubicBezTo>
                    <a:pt x="3482" y="122"/>
                    <a:pt x="3481" y="126"/>
                    <a:pt x="3480" y="130"/>
                  </a:cubicBezTo>
                  <a:cubicBezTo>
                    <a:pt x="3479" y="124"/>
                    <a:pt x="3477" y="118"/>
                    <a:pt x="3476" y="113"/>
                  </a:cubicBezTo>
                  <a:cubicBezTo>
                    <a:pt x="3477" y="121"/>
                    <a:pt x="3479" y="128"/>
                    <a:pt x="3479" y="136"/>
                  </a:cubicBezTo>
                  <a:cubicBezTo>
                    <a:pt x="3478" y="140"/>
                    <a:pt x="3477" y="144"/>
                    <a:pt x="3477" y="148"/>
                  </a:cubicBezTo>
                  <a:cubicBezTo>
                    <a:pt x="3477" y="147"/>
                    <a:pt x="3476" y="147"/>
                    <a:pt x="3476" y="146"/>
                  </a:cubicBezTo>
                  <a:cubicBezTo>
                    <a:pt x="3477" y="129"/>
                    <a:pt x="3474" y="106"/>
                    <a:pt x="3467" y="91"/>
                  </a:cubicBezTo>
                  <a:cubicBezTo>
                    <a:pt x="3468" y="88"/>
                    <a:pt x="3468" y="85"/>
                    <a:pt x="3470" y="83"/>
                  </a:cubicBezTo>
                  <a:cubicBezTo>
                    <a:pt x="3468" y="85"/>
                    <a:pt x="3467" y="88"/>
                    <a:pt x="3466" y="90"/>
                  </a:cubicBezTo>
                  <a:cubicBezTo>
                    <a:pt x="3466" y="88"/>
                    <a:pt x="3465" y="87"/>
                    <a:pt x="3464" y="85"/>
                  </a:cubicBezTo>
                  <a:cubicBezTo>
                    <a:pt x="3465" y="87"/>
                    <a:pt x="3466" y="89"/>
                    <a:pt x="3466" y="91"/>
                  </a:cubicBezTo>
                  <a:cubicBezTo>
                    <a:pt x="3465" y="95"/>
                    <a:pt x="3464" y="98"/>
                    <a:pt x="3463" y="101"/>
                  </a:cubicBezTo>
                  <a:cubicBezTo>
                    <a:pt x="3461" y="94"/>
                    <a:pt x="3460" y="87"/>
                    <a:pt x="3457" y="79"/>
                  </a:cubicBezTo>
                  <a:cubicBezTo>
                    <a:pt x="3457" y="78"/>
                    <a:pt x="3457" y="76"/>
                    <a:pt x="3457" y="75"/>
                  </a:cubicBezTo>
                  <a:cubicBezTo>
                    <a:pt x="3457" y="76"/>
                    <a:pt x="3457" y="77"/>
                    <a:pt x="3456" y="78"/>
                  </a:cubicBezTo>
                  <a:cubicBezTo>
                    <a:pt x="3454" y="71"/>
                    <a:pt x="3450" y="64"/>
                    <a:pt x="3446" y="56"/>
                  </a:cubicBezTo>
                  <a:cubicBezTo>
                    <a:pt x="3446" y="66"/>
                    <a:pt x="3450" y="78"/>
                    <a:pt x="3453" y="90"/>
                  </a:cubicBezTo>
                  <a:cubicBezTo>
                    <a:pt x="3451" y="99"/>
                    <a:pt x="3451" y="108"/>
                    <a:pt x="3450" y="117"/>
                  </a:cubicBezTo>
                  <a:cubicBezTo>
                    <a:pt x="3449" y="112"/>
                    <a:pt x="3447" y="107"/>
                    <a:pt x="3446" y="103"/>
                  </a:cubicBezTo>
                  <a:cubicBezTo>
                    <a:pt x="3448" y="109"/>
                    <a:pt x="3446" y="132"/>
                    <a:pt x="3446" y="140"/>
                  </a:cubicBezTo>
                  <a:cubicBezTo>
                    <a:pt x="3446" y="144"/>
                    <a:pt x="3446" y="147"/>
                    <a:pt x="3446" y="151"/>
                  </a:cubicBezTo>
                  <a:cubicBezTo>
                    <a:pt x="3446" y="151"/>
                    <a:pt x="3446" y="151"/>
                    <a:pt x="3446" y="151"/>
                  </a:cubicBezTo>
                  <a:cubicBezTo>
                    <a:pt x="3446" y="144"/>
                    <a:pt x="3445" y="137"/>
                    <a:pt x="3443" y="129"/>
                  </a:cubicBezTo>
                  <a:cubicBezTo>
                    <a:pt x="3441" y="119"/>
                    <a:pt x="3440" y="110"/>
                    <a:pt x="3441" y="100"/>
                  </a:cubicBezTo>
                  <a:cubicBezTo>
                    <a:pt x="3440" y="107"/>
                    <a:pt x="3440" y="113"/>
                    <a:pt x="3440" y="119"/>
                  </a:cubicBezTo>
                  <a:cubicBezTo>
                    <a:pt x="3438" y="114"/>
                    <a:pt x="3436" y="108"/>
                    <a:pt x="3434" y="103"/>
                  </a:cubicBezTo>
                  <a:cubicBezTo>
                    <a:pt x="3434" y="99"/>
                    <a:pt x="3435" y="95"/>
                    <a:pt x="3437" y="90"/>
                  </a:cubicBezTo>
                  <a:cubicBezTo>
                    <a:pt x="3435" y="94"/>
                    <a:pt x="3434" y="98"/>
                    <a:pt x="3433" y="102"/>
                  </a:cubicBezTo>
                  <a:cubicBezTo>
                    <a:pt x="3430" y="97"/>
                    <a:pt x="3428" y="93"/>
                    <a:pt x="3425" y="89"/>
                  </a:cubicBezTo>
                  <a:cubicBezTo>
                    <a:pt x="3428" y="93"/>
                    <a:pt x="3428" y="99"/>
                    <a:pt x="3428" y="103"/>
                  </a:cubicBezTo>
                  <a:cubicBezTo>
                    <a:pt x="3428" y="104"/>
                    <a:pt x="3429" y="109"/>
                    <a:pt x="3429" y="115"/>
                  </a:cubicBezTo>
                  <a:cubicBezTo>
                    <a:pt x="3428" y="120"/>
                    <a:pt x="3427" y="124"/>
                    <a:pt x="3427" y="129"/>
                  </a:cubicBezTo>
                  <a:cubicBezTo>
                    <a:pt x="3426" y="125"/>
                    <a:pt x="3425" y="122"/>
                    <a:pt x="3425" y="119"/>
                  </a:cubicBezTo>
                  <a:cubicBezTo>
                    <a:pt x="3425" y="115"/>
                    <a:pt x="3425" y="108"/>
                    <a:pt x="3424" y="105"/>
                  </a:cubicBezTo>
                  <a:cubicBezTo>
                    <a:pt x="3423" y="108"/>
                    <a:pt x="3423" y="110"/>
                    <a:pt x="3423" y="113"/>
                  </a:cubicBezTo>
                  <a:cubicBezTo>
                    <a:pt x="3422" y="109"/>
                    <a:pt x="3421" y="106"/>
                    <a:pt x="3421" y="103"/>
                  </a:cubicBezTo>
                  <a:cubicBezTo>
                    <a:pt x="3422" y="97"/>
                    <a:pt x="3423" y="90"/>
                    <a:pt x="3426" y="84"/>
                  </a:cubicBezTo>
                  <a:cubicBezTo>
                    <a:pt x="3423" y="90"/>
                    <a:pt x="3421" y="95"/>
                    <a:pt x="3420" y="101"/>
                  </a:cubicBezTo>
                  <a:cubicBezTo>
                    <a:pt x="3415" y="86"/>
                    <a:pt x="3412" y="83"/>
                    <a:pt x="3407" y="78"/>
                  </a:cubicBezTo>
                  <a:cubicBezTo>
                    <a:pt x="3414" y="84"/>
                    <a:pt x="3417" y="97"/>
                    <a:pt x="3418" y="107"/>
                  </a:cubicBezTo>
                  <a:cubicBezTo>
                    <a:pt x="3417" y="114"/>
                    <a:pt x="3415" y="120"/>
                    <a:pt x="3414" y="126"/>
                  </a:cubicBezTo>
                  <a:cubicBezTo>
                    <a:pt x="3413" y="121"/>
                    <a:pt x="3412" y="115"/>
                    <a:pt x="3410" y="109"/>
                  </a:cubicBezTo>
                  <a:cubicBezTo>
                    <a:pt x="3411" y="106"/>
                    <a:pt x="3411" y="103"/>
                    <a:pt x="3412" y="100"/>
                  </a:cubicBezTo>
                  <a:cubicBezTo>
                    <a:pt x="3411" y="102"/>
                    <a:pt x="3411" y="104"/>
                    <a:pt x="3410" y="108"/>
                  </a:cubicBezTo>
                  <a:cubicBezTo>
                    <a:pt x="3409" y="106"/>
                    <a:pt x="3408" y="103"/>
                    <a:pt x="3408" y="101"/>
                  </a:cubicBezTo>
                  <a:cubicBezTo>
                    <a:pt x="3408" y="100"/>
                    <a:pt x="3408" y="99"/>
                    <a:pt x="3409" y="98"/>
                  </a:cubicBezTo>
                  <a:cubicBezTo>
                    <a:pt x="3408" y="99"/>
                    <a:pt x="3408" y="100"/>
                    <a:pt x="3408" y="101"/>
                  </a:cubicBezTo>
                  <a:cubicBezTo>
                    <a:pt x="3405" y="94"/>
                    <a:pt x="3402" y="87"/>
                    <a:pt x="3398" y="81"/>
                  </a:cubicBezTo>
                  <a:cubicBezTo>
                    <a:pt x="3402" y="88"/>
                    <a:pt x="3403" y="99"/>
                    <a:pt x="3403" y="106"/>
                  </a:cubicBezTo>
                  <a:cubicBezTo>
                    <a:pt x="3403" y="111"/>
                    <a:pt x="3402" y="115"/>
                    <a:pt x="3402" y="120"/>
                  </a:cubicBezTo>
                  <a:cubicBezTo>
                    <a:pt x="3400" y="126"/>
                    <a:pt x="3398" y="133"/>
                    <a:pt x="3397" y="139"/>
                  </a:cubicBezTo>
                  <a:cubicBezTo>
                    <a:pt x="3397" y="135"/>
                    <a:pt x="3397" y="135"/>
                    <a:pt x="3397" y="135"/>
                  </a:cubicBezTo>
                  <a:cubicBezTo>
                    <a:pt x="3398" y="127"/>
                    <a:pt x="3398" y="120"/>
                    <a:pt x="3399" y="113"/>
                  </a:cubicBezTo>
                  <a:cubicBezTo>
                    <a:pt x="3398" y="117"/>
                    <a:pt x="3398" y="123"/>
                    <a:pt x="3397" y="129"/>
                  </a:cubicBezTo>
                  <a:cubicBezTo>
                    <a:pt x="3397" y="120"/>
                    <a:pt x="3397" y="111"/>
                    <a:pt x="3395" y="103"/>
                  </a:cubicBezTo>
                  <a:cubicBezTo>
                    <a:pt x="3396" y="101"/>
                    <a:pt x="3397" y="100"/>
                    <a:pt x="3397" y="99"/>
                  </a:cubicBezTo>
                  <a:cubicBezTo>
                    <a:pt x="3397" y="100"/>
                    <a:pt x="3396" y="101"/>
                    <a:pt x="3395" y="102"/>
                  </a:cubicBezTo>
                  <a:cubicBezTo>
                    <a:pt x="3393" y="88"/>
                    <a:pt x="3389" y="75"/>
                    <a:pt x="3380" y="60"/>
                  </a:cubicBezTo>
                  <a:cubicBezTo>
                    <a:pt x="3380" y="61"/>
                    <a:pt x="3380" y="61"/>
                    <a:pt x="3380" y="61"/>
                  </a:cubicBezTo>
                  <a:cubicBezTo>
                    <a:pt x="3380" y="76"/>
                    <a:pt x="3390" y="94"/>
                    <a:pt x="3390" y="111"/>
                  </a:cubicBezTo>
                  <a:cubicBezTo>
                    <a:pt x="3389" y="115"/>
                    <a:pt x="3388" y="120"/>
                    <a:pt x="3387" y="125"/>
                  </a:cubicBezTo>
                  <a:cubicBezTo>
                    <a:pt x="3383" y="109"/>
                    <a:pt x="3376" y="94"/>
                    <a:pt x="3365" y="83"/>
                  </a:cubicBezTo>
                  <a:cubicBezTo>
                    <a:pt x="3372" y="90"/>
                    <a:pt x="3376" y="101"/>
                    <a:pt x="3378" y="111"/>
                  </a:cubicBezTo>
                  <a:cubicBezTo>
                    <a:pt x="3377" y="111"/>
                    <a:pt x="3377" y="110"/>
                    <a:pt x="3377" y="109"/>
                  </a:cubicBezTo>
                  <a:cubicBezTo>
                    <a:pt x="3377" y="117"/>
                    <a:pt x="3378" y="126"/>
                    <a:pt x="3378" y="134"/>
                  </a:cubicBezTo>
                  <a:cubicBezTo>
                    <a:pt x="3378" y="136"/>
                    <a:pt x="3378" y="138"/>
                    <a:pt x="3378" y="140"/>
                  </a:cubicBezTo>
                  <a:cubicBezTo>
                    <a:pt x="3375" y="127"/>
                    <a:pt x="3374" y="113"/>
                    <a:pt x="3370" y="100"/>
                  </a:cubicBezTo>
                  <a:cubicBezTo>
                    <a:pt x="3372" y="109"/>
                    <a:pt x="3372" y="123"/>
                    <a:pt x="3372" y="135"/>
                  </a:cubicBezTo>
                  <a:cubicBezTo>
                    <a:pt x="3373" y="138"/>
                    <a:pt x="3373" y="141"/>
                    <a:pt x="3373" y="144"/>
                  </a:cubicBezTo>
                  <a:cubicBezTo>
                    <a:pt x="3373" y="143"/>
                    <a:pt x="3373" y="142"/>
                    <a:pt x="3373" y="142"/>
                  </a:cubicBezTo>
                  <a:cubicBezTo>
                    <a:pt x="3372" y="139"/>
                    <a:pt x="3372" y="137"/>
                    <a:pt x="3372" y="135"/>
                  </a:cubicBezTo>
                  <a:cubicBezTo>
                    <a:pt x="3372" y="130"/>
                    <a:pt x="3371" y="125"/>
                    <a:pt x="3370" y="120"/>
                  </a:cubicBezTo>
                  <a:cubicBezTo>
                    <a:pt x="3370" y="119"/>
                    <a:pt x="3370" y="119"/>
                    <a:pt x="3370" y="118"/>
                  </a:cubicBezTo>
                  <a:cubicBezTo>
                    <a:pt x="3370" y="119"/>
                    <a:pt x="3370" y="119"/>
                    <a:pt x="3370" y="120"/>
                  </a:cubicBezTo>
                  <a:cubicBezTo>
                    <a:pt x="3369" y="116"/>
                    <a:pt x="3367" y="112"/>
                    <a:pt x="3366" y="108"/>
                  </a:cubicBezTo>
                  <a:cubicBezTo>
                    <a:pt x="3366" y="106"/>
                    <a:pt x="3367" y="105"/>
                    <a:pt x="3368" y="103"/>
                  </a:cubicBezTo>
                  <a:cubicBezTo>
                    <a:pt x="3367" y="105"/>
                    <a:pt x="3366" y="106"/>
                    <a:pt x="3366" y="107"/>
                  </a:cubicBezTo>
                  <a:cubicBezTo>
                    <a:pt x="3359" y="91"/>
                    <a:pt x="3349" y="76"/>
                    <a:pt x="3332" y="63"/>
                  </a:cubicBezTo>
                  <a:cubicBezTo>
                    <a:pt x="3338" y="68"/>
                    <a:pt x="3342" y="74"/>
                    <a:pt x="3346" y="79"/>
                  </a:cubicBezTo>
                  <a:cubicBezTo>
                    <a:pt x="3345" y="81"/>
                    <a:pt x="3343" y="85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38" y="94"/>
                    <a:pt x="3336" y="98"/>
                    <a:pt x="3334" y="103"/>
                  </a:cubicBezTo>
                  <a:cubicBezTo>
                    <a:pt x="3333" y="100"/>
                    <a:pt x="3333" y="98"/>
                    <a:pt x="3332" y="96"/>
                  </a:cubicBezTo>
                  <a:cubicBezTo>
                    <a:pt x="3332" y="99"/>
                    <a:pt x="3333" y="103"/>
                    <a:pt x="3333" y="106"/>
                  </a:cubicBezTo>
                  <a:cubicBezTo>
                    <a:pt x="3332" y="108"/>
                    <a:pt x="3331" y="111"/>
                    <a:pt x="3330" y="113"/>
                  </a:cubicBezTo>
                  <a:cubicBezTo>
                    <a:pt x="3329" y="111"/>
                    <a:pt x="3329" y="109"/>
                    <a:pt x="3328" y="107"/>
                  </a:cubicBezTo>
                  <a:cubicBezTo>
                    <a:pt x="3329" y="100"/>
                    <a:pt x="3330" y="93"/>
                    <a:pt x="3330" y="88"/>
                  </a:cubicBezTo>
                  <a:cubicBezTo>
                    <a:pt x="3330" y="87"/>
                    <a:pt x="3330" y="87"/>
                    <a:pt x="3330" y="87"/>
                  </a:cubicBezTo>
                  <a:cubicBezTo>
                    <a:pt x="3328" y="92"/>
                    <a:pt x="3327" y="97"/>
                    <a:pt x="3326" y="102"/>
                  </a:cubicBezTo>
                  <a:cubicBezTo>
                    <a:pt x="3323" y="96"/>
                    <a:pt x="3321" y="90"/>
                    <a:pt x="3318" y="84"/>
                  </a:cubicBezTo>
                  <a:cubicBezTo>
                    <a:pt x="3321" y="90"/>
                    <a:pt x="3323" y="97"/>
                    <a:pt x="3325" y="104"/>
                  </a:cubicBezTo>
                  <a:cubicBezTo>
                    <a:pt x="3324" y="108"/>
                    <a:pt x="3324" y="111"/>
                    <a:pt x="3323" y="115"/>
                  </a:cubicBezTo>
                  <a:cubicBezTo>
                    <a:pt x="3321" y="110"/>
                    <a:pt x="3319" y="106"/>
                    <a:pt x="3317" y="102"/>
                  </a:cubicBezTo>
                  <a:cubicBezTo>
                    <a:pt x="3319" y="107"/>
                    <a:pt x="3320" y="114"/>
                    <a:pt x="3321" y="121"/>
                  </a:cubicBezTo>
                  <a:cubicBezTo>
                    <a:pt x="3320" y="126"/>
                    <a:pt x="3318" y="131"/>
                    <a:pt x="3317" y="135"/>
                  </a:cubicBezTo>
                  <a:cubicBezTo>
                    <a:pt x="3315" y="132"/>
                    <a:pt x="3314" y="129"/>
                    <a:pt x="3313" y="125"/>
                  </a:cubicBezTo>
                  <a:cubicBezTo>
                    <a:pt x="3314" y="118"/>
                    <a:pt x="3315" y="111"/>
                    <a:pt x="3316" y="104"/>
                  </a:cubicBezTo>
                  <a:cubicBezTo>
                    <a:pt x="3315" y="109"/>
                    <a:pt x="3313" y="114"/>
                    <a:pt x="3311" y="120"/>
                  </a:cubicBezTo>
                  <a:cubicBezTo>
                    <a:pt x="3310" y="115"/>
                    <a:pt x="3309" y="111"/>
                    <a:pt x="3308" y="107"/>
                  </a:cubicBezTo>
                  <a:cubicBezTo>
                    <a:pt x="3308" y="103"/>
                    <a:pt x="3309" y="98"/>
                    <a:pt x="3309" y="94"/>
                  </a:cubicBezTo>
                  <a:cubicBezTo>
                    <a:pt x="3309" y="91"/>
                    <a:pt x="3308" y="88"/>
                    <a:pt x="3308" y="85"/>
                  </a:cubicBezTo>
                  <a:cubicBezTo>
                    <a:pt x="3307" y="89"/>
                    <a:pt x="3306" y="93"/>
                    <a:pt x="3305" y="99"/>
                  </a:cubicBezTo>
                  <a:cubicBezTo>
                    <a:pt x="3302" y="91"/>
                    <a:pt x="3298" y="84"/>
                    <a:pt x="3293" y="77"/>
                  </a:cubicBezTo>
                  <a:cubicBezTo>
                    <a:pt x="3296" y="86"/>
                    <a:pt x="3300" y="95"/>
                    <a:pt x="3303" y="104"/>
                  </a:cubicBezTo>
                  <a:cubicBezTo>
                    <a:pt x="3303" y="106"/>
                    <a:pt x="3303" y="107"/>
                    <a:pt x="3303" y="109"/>
                  </a:cubicBezTo>
                  <a:cubicBezTo>
                    <a:pt x="3302" y="107"/>
                    <a:pt x="3301" y="105"/>
                    <a:pt x="3300" y="103"/>
                  </a:cubicBezTo>
                  <a:cubicBezTo>
                    <a:pt x="3300" y="103"/>
                    <a:pt x="3300" y="102"/>
                    <a:pt x="3300" y="102"/>
                  </a:cubicBezTo>
                  <a:cubicBezTo>
                    <a:pt x="3300" y="102"/>
                    <a:pt x="3300" y="103"/>
                    <a:pt x="3300" y="103"/>
                  </a:cubicBezTo>
                  <a:cubicBezTo>
                    <a:pt x="3295" y="94"/>
                    <a:pt x="3290" y="86"/>
                    <a:pt x="3283" y="79"/>
                  </a:cubicBezTo>
                  <a:cubicBezTo>
                    <a:pt x="3285" y="75"/>
                    <a:pt x="3287" y="71"/>
                    <a:pt x="3289" y="68"/>
                  </a:cubicBezTo>
                  <a:cubicBezTo>
                    <a:pt x="3287" y="69"/>
                    <a:pt x="3284" y="73"/>
                    <a:pt x="3282" y="77"/>
                  </a:cubicBezTo>
                  <a:cubicBezTo>
                    <a:pt x="3278" y="73"/>
                    <a:pt x="3274" y="69"/>
                    <a:pt x="3269" y="65"/>
                  </a:cubicBezTo>
                  <a:cubicBezTo>
                    <a:pt x="3274" y="70"/>
                    <a:pt x="3278" y="75"/>
                    <a:pt x="3281" y="79"/>
                  </a:cubicBezTo>
                  <a:cubicBezTo>
                    <a:pt x="3278" y="86"/>
                    <a:pt x="3275" y="96"/>
                    <a:pt x="3272" y="105"/>
                  </a:cubicBezTo>
                  <a:cubicBezTo>
                    <a:pt x="3269" y="99"/>
                    <a:pt x="3265" y="94"/>
                    <a:pt x="3262" y="88"/>
                  </a:cubicBezTo>
                  <a:cubicBezTo>
                    <a:pt x="3262" y="87"/>
                    <a:pt x="3262" y="86"/>
                    <a:pt x="3263" y="85"/>
                  </a:cubicBezTo>
                  <a:cubicBezTo>
                    <a:pt x="3262" y="86"/>
                    <a:pt x="3262" y="87"/>
                    <a:pt x="3262" y="88"/>
                  </a:cubicBezTo>
                  <a:cubicBezTo>
                    <a:pt x="3261" y="87"/>
                    <a:pt x="3260" y="86"/>
                    <a:pt x="3259" y="85"/>
                  </a:cubicBezTo>
                  <a:cubicBezTo>
                    <a:pt x="3260" y="86"/>
                    <a:pt x="3261" y="87"/>
                    <a:pt x="3261" y="88"/>
                  </a:cubicBezTo>
                  <a:cubicBezTo>
                    <a:pt x="3260" y="91"/>
                    <a:pt x="3259" y="93"/>
                    <a:pt x="3258" y="95"/>
                  </a:cubicBezTo>
                  <a:cubicBezTo>
                    <a:pt x="3257" y="94"/>
                    <a:pt x="3257" y="92"/>
                    <a:pt x="3256" y="91"/>
                  </a:cubicBezTo>
                  <a:cubicBezTo>
                    <a:pt x="3257" y="92"/>
                    <a:pt x="3257" y="94"/>
                    <a:pt x="3258" y="95"/>
                  </a:cubicBezTo>
                  <a:cubicBezTo>
                    <a:pt x="3254" y="103"/>
                    <a:pt x="3251" y="112"/>
                    <a:pt x="3249" y="121"/>
                  </a:cubicBezTo>
                  <a:cubicBezTo>
                    <a:pt x="3248" y="112"/>
                    <a:pt x="3247" y="103"/>
                    <a:pt x="3247" y="97"/>
                  </a:cubicBezTo>
                  <a:cubicBezTo>
                    <a:pt x="3245" y="100"/>
                    <a:pt x="3244" y="105"/>
                    <a:pt x="3243" y="110"/>
                  </a:cubicBezTo>
                  <a:cubicBezTo>
                    <a:pt x="3243" y="92"/>
                    <a:pt x="3242" y="61"/>
                    <a:pt x="3240" y="57"/>
                  </a:cubicBezTo>
                  <a:cubicBezTo>
                    <a:pt x="3239" y="79"/>
                    <a:pt x="3240" y="100"/>
                    <a:pt x="3240" y="122"/>
                  </a:cubicBezTo>
                  <a:cubicBezTo>
                    <a:pt x="3240" y="123"/>
                    <a:pt x="3240" y="124"/>
                    <a:pt x="3240" y="125"/>
                  </a:cubicBezTo>
                  <a:cubicBezTo>
                    <a:pt x="3238" y="114"/>
                    <a:pt x="3234" y="103"/>
                    <a:pt x="3229" y="94"/>
                  </a:cubicBezTo>
                  <a:cubicBezTo>
                    <a:pt x="3228" y="89"/>
                    <a:pt x="3228" y="84"/>
                    <a:pt x="3229" y="80"/>
                  </a:cubicBezTo>
                  <a:cubicBezTo>
                    <a:pt x="3228" y="83"/>
                    <a:pt x="3227" y="87"/>
                    <a:pt x="3226" y="90"/>
                  </a:cubicBezTo>
                  <a:cubicBezTo>
                    <a:pt x="3224" y="88"/>
                    <a:pt x="3222" y="85"/>
                    <a:pt x="3220" y="83"/>
                  </a:cubicBezTo>
                  <a:cubicBezTo>
                    <a:pt x="3222" y="86"/>
                    <a:pt x="3224" y="89"/>
                    <a:pt x="3226" y="92"/>
                  </a:cubicBezTo>
                  <a:cubicBezTo>
                    <a:pt x="3225" y="96"/>
                    <a:pt x="3224" y="100"/>
                    <a:pt x="3224" y="103"/>
                  </a:cubicBezTo>
                  <a:cubicBezTo>
                    <a:pt x="3223" y="102"/>
                    <a:pt x="3223" y="101"/>
                    <a:pt x="3223" y="100"/>
                  </a:cubicBezTo>
                  <a:cubicBezTo>
                    <a:pt x="3223" y="101"/>
                    <a:pt x="3223" y="102"/>
                    <a:pt x="3224" y="104"/>
                  </a:cubicBezTo>
                  <a:cubicBezTo>
                    <a:pt x="3223" y="106"/>
                    <a:pt x="3223" y="109"/>
                    <a:pt x="3222" y="111"/>
                  </a:cubicBezTo>
                  <a:cubicBezTo>
                    <a:pt x="3220" y="107"/>
                    <a:pt x="3219" y="103"/>
                    <a:pt x="3217" y="99"/>
                  </a:cubicBezTo>
                  <a:cubicBezTo>
                    <a:pt x="3216" y="91"/>
                    <a:pt x="3216" y="82"/>
                    <a:pt x="3217" y="74"/>
                  </a:cubicBezTo>
                  <a:cubicBezTo>
                    <a:pt x="3216" y="80"/>
                    <a:pt x="3214" y="86"/>
                    <a:pt x="3213" y="92"/>
                  </a:cubicBezTo>
                  <a:cubicBezTo>
                    <a:pt x="3212" y="91"/>
                    <a:pt x="3211" y="89"/>
                    <a:pt x="3210" y="88"/>
                  </a:cubicBezTo>
                  <a:cubicBezTo>
                    <a:pt x="3211" y="89"/>
                    <a:pt x="3212" y="91"/>
                    <a:pt x="3213" y="93"/>
                  </a:cubicBezTo>
                  <a:cubicBezTo>
                    <a:pt x="3212" y="95"/>
                    <a:pt x="3212" y="97"/>
                    <a:pt x="3212" y="98"/>
                  </a:cubicBezTo>
                  <a:cubicBezTo>
                    <a:pt x="3209" y="93"/>
                    <a:pt x="3207" y="88"/>
                    <a:pt x="3203" y="84"/>
                  </a:cubicBezTo>
                  <a:cubicBezTo>
                    <a:pt x="3206" y="88"/>
                    <a:pt x="3208" y="95"/>
                    <a:pt x="3211" y="103"/>
                  </a:cubicBezTo>
                  <a:cubicBezTo>
                    <a:pt x="3210" y="106"/>
                    <a:pt x="3209" y="110"/>
                    <a:pt x="3209" y="113"/>
                  </a:cubicBezTo>
                  <a:cubicBezTo>
                    <a:pt x="3206" y="108"/>
                    <a:pt x="3204" y="102"/>
                    <a:pt x="3201" y="96"/>
                  </a:cubicBezTo>
                  <a:cubicBezTo>
                    <a:pt x="3201" y="91"/>
                    <a:pt x="3202" y="86"/>
                    <a:pt x="3203" y="83"/>
                  </a:cubicBezTo>
                  <a:cubicBezTo>
                    <a:pt x="3202" y="87"/>
                    <a:pt x="3201" y="90"/>
                    <a:pt x="3199" y="93"/>
                  </a:cubicBezTo>
                  <a:cubicBezTo>
                    <a:pt x="3194" y="83"/>
                    <a:pt x="3187" y="74"/>
                    <a:pt x="3178" y="64"/>
                  </a:cubicBezTo>
                  <a:cubicBezTo>
                    <a:pt x="3187" y="74"/>
                    <a:pt x="3193" y="86"/>
                    <a:pt x="3198" y="97"/>
                  </a:cubicBezTo>
                  <a:cubicBezTo>
                    <a:pt x="3197" y="99"/>
                    <a:pt x="3197" y="101"/>
                    <a:pt x="3196" y="103"/>
                  </a:cubicBezTo>
                  <a:cubicBezTo>
                    <a:pt x="3195" y="98"/>
                    <a:pt x="3194" y="93"/>
                    <a:pt x="3192" y="88"/>
                  </a:cubicBezTo>
                  <a:cubicBezTo>
                    <a:pt x="3192" y="91"/>
                    <a:pt x="3193" y="98"/>
                    <a:pt x="3195" y="106"/>
                  </a:cubicBezTo>
                  <a:cubicBezTo>
                    <a:pt x="3195" y="108"/>
                    <a:pt x="3194" y="109"/>
                    <a:pt x="3194" y="110"/>
                  </a:cubicBezTo>
                  <a:cubicBezTo>
                    <a:pt x="3188" y="97"/>
                    <a:pt x="3181" y="83"/>
                    <a:pt x="3170" y="72"/>
                  </a:cubicBezTo>
                  <a:cubicBezTo>
                    <a:pt x="3168" y="61"/>
                    <a:pt x="3166" y="51"/>
                    <a:pt x="3164" y="41"/>
                  </a:cubicBezTo>
                  <a:cubicBezTo>
                    <a:pt x="3164" y="48"/>
                    <a:pt x="3164" y="55"/>
                    <a:pt x="3164" y="61"/>
                  </a:cubicBezTo>
                  <a:cubicBezTo>
                    <a:pt x="3164" y="63"/>
                    <a:pt x="3164" y="64"/>
                    <a:pt x="3164" y="66"/>
                  </a:cubicBezTo>
                  <a:cubicBezTo>
                    <a:pt x="3163" y="65"/>
                    <a:pt x="3163" y="65"/>
                    <a:pt x="3163" y="65"/>
                  </a:cubicBezTo>
                  <a:cubicBezTo>
                    <a:pt x="3163" y="65"/>
                    <a:pt x="3163" y="65"/>
                    <a:pt x="3164" y="66"/>
                  </a:cubicBezTo>
                  <a:cubicBezTo>
                    <a:pt x="3164" y="75"/>
                    <a:pt x="3165" y="85"/>
                    <a:pt x="3165" y="94"/>
                  </a:cubicBezTo>
                  <a:cubicBezTo>
                    <a:pt x="3163" y="88"/>
                    <a:pt x="3160" y="81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1" y="67"/>
                    <a:pt x="3144" y="59"/>
                    <a:pt x="3134" y="50"/>
                  </a:cubicBezTo>
                  <a:cubicBezTo>
                    <a:pt x="3137" y="54"/>
                    <a:pt x="3139" y="58"/>
                    <a:pt x="3141" y="61"/>
                  </a:cubicBezTo>
                  <a:cubicBezTo>
                    <a:pt x="3140" y="64"/>
                    <a:pt x="3140" y="68"/>
                    <a:pt x="3139" y="73"/>
                  </a:cubicBezTo>
                  <a:cubicBezTo>
                    <a:pt x="3137" y="70"/>
                    <a:pt x="3134" y="67"/>
                    <a:pt x="3132" y="65"/>
                  </a:cubicBezTo>
                  <a:cubicBezTo>
                    <a:pt x="3132" y="64"/>
                    <a:pt x="3132" y="64"/>
                    <a:pt x="3132" y="64"/>
                  </a:cubicBezTo>
                  <a:cubicBezTo>
                    <a:pt x="3132" y="64"/>
                    <a:pt x="3132" y="64"/>
                    <a:pt x="3131" y="64"/>
                  </a:cubicBezTo>
                  <a:cubicBezTo>
                    <a:pt x="3130" y="62"/>
                    <a:pt x="3128" y="61"/>
                    <a:pt x="3126" y="59"/>
                  </a:cubicBezTo>
                  <a:cubicBezTo>
                    <a:pt x="3128" y="61"/>
                    <a:pt x="3129" y="63"/>
                    <a:pt x="3131" y="65"/>
                  </a:cubicBezTo>
                  <a:cubicBezTo>
                    <a:pt x="3130" y="67"/>
                    <a:pt x="3128" y="69"/>
                    <a:pt x="3127" y="72"/>
                  </a:cubicBezTo>
                  <a:cubicBezTo>
                    <a:pt x="3126" y="66"/>
                    <a:pt x="3126" y="61"/>
                    <a:pt x="3125" y="56"/>
                  </a:cubicBezTo>
                  <a:cubicBezTo>
                    <a:pt x="3126" y="54"/>
                    <a:pt x="3127" y="53"/>
                    <a:pt x="3128" y="51"/>
                  </a:cubicBezTo>
                  <a:cubicBezTo>
                    <a:pt x="3127" y="52"/>
                    <a:pt x="3126" y="53"/>
                    <a:pt x="3124" y="55"/>
                  </a:cubicBezTo>
                  <a:cubicBezTo>
                    <a:pt x="3123" y="45"/>
                    <a:pt x="3121" y="35"/>
                    <a:pt x="3118" y="26"/>
                  </a:cubicBezTo>
                  <a:cubicBezTo>
                    <a:pt x="3117" y="30"/>
                    <a:pt x="3117" y="34"/>
                    <a:pt x="3117" y="37"/>
                  </a:cubicBezTo>
                  <a:cubicBezTo>
                    <a:pt x="3117" y="45"/>
                    <a:pt x="3118" y="53"/>
                    <a:pt x="3119" y="60"/>
                  </a:cubicBezTo>
                  <a:cubicBezTo>
                    <a:pt x="3115" y="64"/>
                    <a:pt x="3111" y="69"/>
                    <a:pt x="3106" y="74"/>
                  </a:cubicBezTo>
                  <a:cubicBezTo>
                    <a:pt x="3106" y="72"/>
                    <a:pt x="3105" y="70"/>
                    <a:pt x="3104" y="67"/>
                  </a:cubicBezTo>
                  <a:cubicBezTo>
                    <a:pt x="3104" y="70"/>
                    <a:pt x="3105" y="73"/>
                    <a:pt x="3105" y="76"/>
                  </a:cubicBezTo>
                  <a:cubicBezTo>
                    <a:pt x="3104" y="77"/>
                    <a:pt x="3104" y="77"/>
                    <a:pt x="3104" y="78"/>
                  </a:cubicBezTo>
                  <a:cubicBezTo>
                    <a:pt x="3102" y="75"/>
                    <a:pt x="3100" y="72"/>
                    <a:pt x="3098" y="68"/>
                  </a:cubicBezTo>
                  <a:cubicBezTo>
                    <a:pt x="3098" y="65"/>
                    <a:pt x="3099" y="63"/>
                    <a:pt x="3099" y="62"/>
                  </a:cubicBezTo>
                  <a:cubicBezTo>
                    <a:pt x="3098" y="63"/>
                    <a:pt x="3097" y="65"/>
                    <a:pt x="3096" y="67"/>
                  </a:cubicBezTo>
                  <a:cubicBezTo>
                    <a:pt x="3090" y="57"/>
                    <a:pt x="3081" y="47"/>
                    <a:pt x="3068" y="34"/>
                  </a:cubicBezTo>
                  <a:cubicBezTo>
                    <a:pt x="3081" y="49"/>
                    <a:pt x="3089" y="60"/>
                    <a:pt x="3096" y="69"/>
                  </a:cubicBezTo>
                  <a:cubicBezTo>
                    <a:pt x="3095" y="72"/>
                    <a:pt x="3094" y="75"/>
                    <a:pt x="3094" y="79"/>
                  </a:cubicBezTo>
                  <a:cubicBezTo>
                    <a:pt x="3088" y="68"/>
                    <a:pt x="3080" y="58"/>
                    <a:pt x="3068" y="52"/>
                  </a:cubicBezTo>
                  <a:cubicBezTo>
                    <a:pt x="3082" y="60"/>
                    <a:pt x="3089" y="72"/>
                    <a:pt x="3094" y="84"/>
                  </a:cubicBezTo>
                  <a:cubicBezTo>
                    <a:pt x="3094" y="86"/>
                    <a:pt x="3094" y="89"/>
                    <a:pt x="3094" y="91"/>
                  </a:cubicBezTo>
                  <a:cubicBezTo>
                    <a:pt x="3092" y="94"/>
                    <a:pt x="3090" y="97"/>
                    <a:pt x="3088" y="100"/>
                  </a:cubicBezTo>
                  <a:cubicBezTo>
                    <a:pt x="3087" y="96"/>
                    <a:pt x="3087" y="93"/>
                    <a:pt x="3086" y="90"/>
                  </a:cubicBezTo>
                  <a:cubicBezTo>
                    <a:pt x="3087" y="93"/>
                    <a:pt x="3087" y="97"/>
                    <a:pt x="3087" y="101"/>
                  </a:cubicBezTo>
                  <a:cubicBezTo>
                    <a:pt x="3086" y="102"/>
                    <a:pt x="3085" y="104"/>
                    <a:pt x="3085" y="105"/>
                  </a:cubicBezTo>
                  <a:cubicBezTo>
                    <a:pt x="3084" y="104"/>
                    <a:pt x="3084" y="103"/>
                    <a:pt x="3083" y="102"/>
                  </a:cubicBezTo>
                  <a:cubicBezTo>
                    <a:pt x="3082" y="97"/>
                    <a:pt x="3081" y="93"/>
                    <a:pt x="3080" y="88"/>
                  </a:cubicBezTo>
                  <a:cubicBezTo>
                    <a:pt x="3081" y="83"/>
                    <a:pt x="3082" y="79"/>
                    <a:pt x="3082" y="75"/>
                  </a:cubicBezTo>
                  <a:cubicBezTo>
                    <a:pt x="3081" y="78"/>
                    <a:pt x="3080" y="80"/>
                    <a:pt x="3079" y="82"/>
                  </a:cubicBezTo>
                  <a:cubicBezTo>
                    <a:pt x="3078" y="81"/>
                    <a:pt x="3078" y="80"/>
                    <a:pt x="3078" y="79"/>
                  </a:cubicBezTo>
                  <a:cubicBezTo>
                    <a:pt x="3078" y="80"/>
                    <a:pt x="3078" y="82"/>
                    <a:pt x="3078" y="83"/>
                  </a:cubicBezTo>
                  <a:cubicBezTo>
                    <a:pt x="3078" y="84"/>
                    <a:pt x="3077" y="86"/>
                    <a:pt x="3076" y="87"/>
                  </a:cubicBezTo>
                  <a:cubicBezTo>
                    <a:pt x="3074" y="83"/>
                    <a:pt x="3073" y="79"/>
                    <a:pt x="3071" y="75"/>
                  </a:cubicBezTo>
                  <a:cubicBezTo>
                    <a:pt x="3071" y="80"/>
                    <a:pt x="3072" y="86"/>
                    <a:pt x="3073" y="93"/>
                  </a:cubicBezTo>
                  <a:cubicBezTo>
                    <a:pt x="3073" y="94"/>
                    <a:pt x="3073" y="94"/>
                    <a:pt x="3073" y="94"/>
                  </a:cubicBezTo>
                  <a:cubicBezTo>
                    <a:pt x="3072" y="90"/>
                    <a:pt x="3070" y="85"/>
                    <a:pt x="3068" y="81"/>
                  </a:cubicBezTo>
                  <a:cubicBezTo>
                    <a:pt x="3070" y="86"/>
                    <a:pt x="3071" y="91"/>
                    <a:pt x="3072" y="97"/>
                  </a:cubicBezTo>
                  <a:cubicBezTo>
                    <a:pt x="3070" y="100"/>
                    <a:pt x="3069" y="102"/>
                    <a:pt x="3068" y="105"/>
                  </a:cubicBezTo>
                  <a:cubicBezTo>
                    <a:pt x="3065" y="83"/>
                    <a:pt x="3059" y="63"/>
                    <a:pt x="3039" y="42"/>
                  </a:cubicBezTo>
                  <a:cubicBezTo>
                    <a:pt x="3047" y="58"/>
                    <a:pt x="3053" y="70"/>
                    <a:pt x="3057" y="81"/>
                  </a:cubicBezTo>
                  <a:cubicBezTo>
                    <a:pt x="3057" y="83"/>
                    <a:pt x="3057" y="86"/>
                    <a:pt x="3057" y="89"/>
                  </a:cubicBezTo>
                  <a:cubicBezTo>
                    <a:pt x="3055" y="86"/>
                    <a:pt x="3053" y="84"/>
                    <a:pt x="3052" y="81"/>
                  </a:cubicBezTo>
                  <a:cubicBezTo>
                    <a:pt x="3051" y="79"/>
                    <a:pt x="3049" y="76"/>
                    <a:pt x="3048" y="73"/>
                  </a:cubicBezTo>
                  <a:cubicBezTo>
                    <a:pt x="3048" y="71"/>
                    <a:pt x="3048" y="69"/>
                    <a:pt x="3048" y="67"/>
                  </a:cubicBezTo>
                  <a:cubicBezTo>
                    <a:pt x="3048" y="69"/>
                    <a:pt x="3047" y="70"/>
                    <a:pt x="3047" y="72"/>
                  </a:cubicBezTo>
                  <a:cubicBezTo>
                    <a:pt x="3044" y="66"/>
                    <a:pt x="3040" y="59"/>
                    <a:pt x="3035" y="53"/>
                  </a:cubicBezTo>
                  <a:cubicBezTo>
                    <a:pt x="3035" y="48"/>
                    <a:pt x="3035" y="42"/>
                    <a:pt x="3035" y="37"/>
                  </a:cubicBezTo>
                  <a:cubicBezTo>
                    <a:pt x="3035" y="34"/>
                    <a:pt x="3035" y="30"/>
                    <a:pt x="3035" y="26"/>
                  </a:cubicBezTo>
                  <a:cubicBezTo>
                    <a:pt x="3032" y="33"/>
                    <a:pt x="3031" y="40"/>
                    <a:pt x="3029" y="47"/>
                  </a:cubicBezTo>
                  <a:cubicBezTo>
                    <a:pt x="3026" y="44"/>
                    <a:pt x="3023" y="41"/>
                    <a:pt x="3020" y="38"/>
                  </a:cubicBezTo>
                  <a:cubicBezTo>
                    <a:pt x="3023" y="41"/>
                    <a:pt x="3026" y="45"/>
                    <a:pt x="3029" y="49"/>
                  </a:cubicBezTo>
                  <a:cubicBezTo>
                    <a:pt x="3029" y="51"/>
                    <a:pt x="3028" y="53"/>
                    <a:pt x="3028" y="55"/>
                  </a:cubicBezTo>
                  <a:cubicBezTo>
                    <a:pt x="3027" y="53"/>
                    <a:pt x="3025" y="52"/>
                    <a:pt x="3024" y="51"/>
                  </a:cubicBezTo>
                  <a:cubicBezTo>
                    <a:pt x="3025" y="53"/>
                    <a:pt x="3027" y="54"/>
                    <a:pt x="3028" y="56"/>
                  </a:cubicBezTo>
                  <a:cubicBezTo>
                    <a:pt x="3027" y="61"/>
                    <a:pt x="3026" y="66"/>
                    <a:pt x="3026" y="72"/>
                  </a:cubicBezTo>
                  <a:cubicBezTo>
                    <a:pt x="3024" y="69"/>
                    <a:pt x="3022" y="66"/>
                    <a:pt x="3021" y="64"/>
                  </a:cubicBezTo>
                  <a:cubicBezTo>
                    <a:pt x="3021" y="66"/>
                    <a:pt x="3023" y="70"/>
                    <a:pt x="3025" y="74"/>
                  </a:cubicBezTo>
                  <a:cubicBezTo>
                    <a:pt x="3024" y="80"/>
                    <a:pt x="3023" y="86"/>
                    <a:pt x="3022" y="92"/>
                  </a:cubicBezTo>
                  <a:cubicBezTo>
                    <a:pt x="3018" y="109"/>
                    <a:pt x="3014" y="126"/>
                    <a:pt x="3012" y="143"/>
                  </a:cubicBezTo>
                  <a:cubicBezTo>
                    <a:pt x="3013" y="126"/>
                    <a:pt x="3014" y="109"/>
                    <a:pt x="3014" y="91"/>
                  </a:cubicBezTo>
                  <a:cubicBezTo>
                    <a:pt x="3014" y="87"/>
                    <a:pt x="3014" y="61"/>
                    <a:pt x="3010" y="59"/>
                  </a:cubicBezTo>
                  <a:cubicBezTo>
                    <a:pt x="3015" y="76"/>
                    <a:pt x="3001" y="122"/>
                    <a:pt x="2998" y="146"/>
                  </a:cubicBezTo>
                  <a:cubicBezTo>
                    <a:pt x="2998" y="148"/>
                    <a:pt x="2998" y="150"/>
                    <a:pt x="2997" y="152"/>
                  </a:cubicBezTo>
                  <a:cubicBezTo>
                    <a:pt x="2997" y="150"/>
                    <a:pt x="2998" y="148"/>
                    <a:pt x="2998" y="146"/>
                  </a:cubicBezTo>
                  <a:cubicBezTo>
                    <a:pt x="3000" y="123"/>
                    <a:pt x="2998" y="98"/>
                    <a:pt x="2997" y="75"/>
                  </a:cubicBezTo>
                  <a:cubicBezTo>
                    <a:pt x="2994" y="97"/>
                    <a:pt x="2986" y="119"/>
                    <a:pt x="2986" y="141"/>
                  </a:cubicBezTo>
                  <a:cubicBezTo>
                    <a:pt x="2986" y="146"/>
                    <a:pt x="2986" y="152"/>
                    <a:pt x="2987" y="158"/>
                  </a:cubicBezTo>
                  <a:cubicBezTo>
                    <a:pt x="2985" y="150"/>
                    <a:pt x="2985" y="140"/>
                    <a:pt x="2985" y="133"/>
                  </a:cubicBezTo>
                  <a:cubicBezTo>
                    <a:pt x="2985" y="109"/>
                    <a:pt x="2989" y="85"/>
                    <a:pt x="2989" y="61"/>
                  </a:cubicBezTo>
                  <a:cubicBezTo>
                    <a:pt x="2989" y="55"/>
                    <a:pt x="2989" y="48"/>
                    <a:pt x="2988" y="41"/>
                  </a:cubicBezTo>
                  <a:cubicBezTo>
                    <a:pt x="2981" y="71"/>
                    <a:pt x="2977" y="110"/>
                    <a:pt x="2977" y="140"/>
                  </a:cubicBezTo>
                  <a:cubicBezTo>
                    <a:pt x="2977" y="145"/>
                    <a:pt x="2977" y="149"/>
                    <a:pt x="2977" y="153"/>
                  </a:cubicBezTo>
                  <a:cubicBezTo>
                    <a:pt x="2976" y="135"/>
                    <a:pt x="2972" y="116"/>
                    <a:pt x="2968" y="98"/>
                  </a:cubicBezTo>
                  <a:cubicBezTo>
                    <a:pt x="2970" y="110"/>
                    <a:pt x="2966" y="124"/>
                    <a:pt x="2966" y="136"/>
                  </a:cubicBezTo>
                  <a:cubicBezTo>
                    <a:pt x="2966" y="140"/>
                    <a:pt x="2966" y="143"/>
                    <a:pt x="2966" y="147"/>
                  </a:cubicBezTo>
                  <a:cubicBezTo>
                    <a:pt x="2963" y="125"/>
                    <a:pt x="2958" y="103"/>
                    <a:pt x="2949" y="83"/>
                  </a:cubicBezTo>
                  <a:cubicBezTo>
                    <a:pt x="2952" y="90"/>
                    <a:pt x="2952" y="108"/>
                    <a:pt x="2952" y="115"/>
                  </a:cubicBezTo>
                  <a:cubicBezTo>
                    <a:pt x="2952" y="127"/>
                    <a:pt x="2952" y="138"/>
                    <a:pt x="2954" y="150"/>
                  </a:cubicBezTo>
                  <a:cubicBezTo>
                    <a:pt x="2945" y="126"/>
                    <a:pt x="2942" y="99"/>
                    <a:pt x="2935" y="74"/>
                  </a:cubicBezTo>
                  <a:cubicBezTo>
                    <a:pt x="2938" y="91"/>
                    <a:pt x="2934" y="110"/>
                    <a:pt x="2934" y="128"/>
                  </a:cubicBezTo>
                  <a:cubicBezTo>
                    <a:pt x="2934" y="132"/>
                    <a:pt x="2935" y="136"/>
                    <a:pt x="2935" y="140"/>
                  </a:cubicBezTo>
                  <a:cubicBezTo>
                    <a:pt x="2935" y="145"/>
                    <a:pt x="2936" y="149"/>
                    <a:pt x="2937" y="154"/>
                  </a:cubicBezTo>
                  <a:cubicBezTo>
                    <a:pt x="2936" y="149"/>
                    <a:pt x="2935" y="145"/>
                    <a:pt x="2935" y="140"/>
                  </a:cubicBezTo>
                  <a:cubicBezTo>
                    <a:pt x="2932" y="120"/>
                    <a:pt x="2929" y="99"/>
                    <a:pt x="2924" y="80"/>
                  </a:cubicBezTo>
                  <a:cubicBezTo>
                    <a:pt x="2926" y="102"/>
                    <a:pt x="2916" y="126"/>
                    <a:pt x="2916" y="149"/>
                  </a:cubicBezTo>
                  <a:cubicBezTo>
                    <a:pt x="2916" y="156"/>
                    <a:pt x="2916" y="156"/>
                    <a:pt x="2916" y="156"/>
                  </a:cubicBezTo>
                  <a:cubicBezTo>
                    <a:pt x="2912" y="147"/>
                    <a:pt x="2912" y="132"/>
                    <a:pt x="2912" y="122"/>
                  </a:cubicBezTo>
                  <a:cubicBezTo>
                    <a:pt x="2912" y="100"/>
                    <a:pt x="2914" y="79"/>
                    <a:pt x="2913" y="57"/>
                  </a:cubicBezTo>
                  <a:cubicBezTo>
                    <a:pt x="2910" y="62"/>
                    <a:pt x="2909" y="112"/>
                    <a:pt x="2909" y="120"/>
                  </a:cubicBezTo>
                  <a:cubicBezTo>
                    <a:pt x="2909" y="133"/>
                    <a:pt x="2910" y="146"/>
                    <a:pt x="2913" y="159"/>
                  </a:cubicBezTo>
                  <a:cubicBezTo>
                    <a:pt x="2908" y="135"/>
                    <a:pt x="2902" y="108"/>
                    <a:pt x="2890" y="85"/>
                  </a:cubicBezTo>
                  <a:cubicBezTo>
                    <a:pt x="2901" y="106"/>
                    <a:pt x="2896" y="132"/>
                    <a:pt x="2903" y="154"/>
                  </a:cubicBezTo>
                  <a:cubicBezTo>
                    <a:pt x="2895" y="142"/>
                    <a:pt x="2893" y="122"/>
                    <a:pt x="2890" y="106"/>
                  </a:cubicBezTo>
                  <a:cubicBezTo>
                    <a:pt x="2892" y="120"/>
                    <a:pt x="2890" y="134"/>
                    <a:pt x="2892" y="148"/>
                  </a:cubicBezTo>
                  <a:cubicBezTo>
                    <a:pt x="2893" y="151"/>
                    <a:pt x="2894" y="153"/>
                    <a:pt x="2894" y="155"/>
                  </a:cubicBezTo>
                  <a:cubicBezTo>
                    <a:pt x="2893" y="153"/>
                    <a:pt x="2893" y="151"/>
                    <a:pt x="2892" y="148"/>
                  </a:cubicBezTo>
                  <a:cubicBezTo>
                    <a:pt x="2887" y="128"/>
                    <a:pt x="2875" y="75"/>
                    <a:pt x="2863" y="68"/>
                  </a:cubicBezTo>
                  <a:cubicBezTo>
                    <a:pt x="2880" y="90"/>
                    <a:pt x="2878" y="127"/>
                    <a:pt x="2882" y="153"/>
                  </a:cubicBezTo>
                  <a:cubicBezTo>
                    <a:pt x="2878" y="134"/>
                    <a:pt x="2871" y="113"/>
                    <a:pt x="2862" y="95"/>
                  </a:cubicBezTo>
                  <a:cubicBezTo>
                    <a:pt x="2869" y="115"/>
                    <a:pt x="2868" y="136"/>
                    <a:pt x="2877" y="155"/>
                  </a:cubicBezTo>
                  <a:cubicBezTo>
                    <a:pt x="2864" y="144"/>
                    <a:pt x="2857" y="117"/>
                    <a:pt x="2853" y="102"/>
                  </a:cubicBezTo>
                  <a:cubicBezTo>
                    <a:pt x="2853" y="120"/>
                    <a:pt x="2858" y="143"/>
                    <a:pt x="2869" y="158"/>
                  </a:cubicBezTo>
                  <a:cubicBezTo>
                    <a:pt x="2855" y="144"/>
                    <a:pt x="2850" y="103"/>
                    <a:pt x="2845" y="85"/>
                  </a:cubicBezTo>
                  <a:cubicBezTo>
                    <a:pt x="2844" y="88"/>
                    <a:pt x="2844" y="91"/>
                    <a:pt x="2844" y="94"/>
                  </a:cubicBezTo>
                  <a:cubicBezTo>
                    <a:pt x="2844" y="113"/>
                    <a:pt x="2849" y="142"/>
                    <a:pt x="2861" y="159"/>
                  </a:cubicBezTo>
                  <a:cubicBezTo>
                    <a:pt x="2847" y="143"/>
                    <a:pt x="2842" y="123"/>
                    <a:pt x="2836" y="104"/>
                  </a:cubicBezTo>
                  <a:cubicBezTo>
                    <a:pt x="2840" y="122"/>
                    <a:pt x="2840" y="140"/>
                    <a:pt x="2849" y="158"/>
                  </a:cubicBezTo>
                  <a:cubicBezTo>
                    <a:pt x="2839" y="147"/>
                    <a:pt x="2834" y="132"/>
                    <a:pt x="2830" y="117"/>
                  </a:cubicBezTo>
                  <a:cubicBezTo>
                    <a:pt x="2832" y="105"/>
                    <a:pt x="2833" y="93"/>
                    <a:pt x="2834" y="84"/>
                  </a:cubicBezTo>
                  <a:cubicBezTo>
                    <a:pt x="2832" y="92"/>
                    <a:pt x="2830" y="101"/>
                    <a:pt x="2828" y="109"/>
                  </a:cubicBezTo>
                  <a:cubicBezTo>
                    <a:pt x="2827" y="102"/>
                    <a:pt x="2825" y="95"/>
                    <a:pt x="2823" y="89"/>
                  </a:cubicBezTo>
                  <a:cubicBezTo>
                    <a:pt x="2826" y="64"/>
                    <a:pt x="2830" y="40"/>
                    <a:pt x="2830" y="40"/>
                  </a:cubicBezTo>
                  <a:cubicBezTo>
                    <a:pt x="2825" y="51"/>
                    <a:pt x="2820" y="77"/>
                    <a:pt x="2817" y="100"/>
                  </a:cubicBezTo>
                  <a:cubicBezTo>
                    <a:pt x="2815" y="95"/>
                    <a:pt x="2812" y="90"/>
                    <a:pt x="2811" y="86"/>
                  </a:cubicBezTo>
                  <a:cubicBezTo>
                    <a:pt x="2810" y="70"/>
                    <a:pt x="2808" y="58"/>
                    <a:pt x="2808" y="60"/>
                  </a:cubicBezTo>
                  <a:cubicBezTo>
                    <a:pt x="2808" y="61"/>
                    <a:pt x="2808" y="69"/>
                    <a:pt x="2807" y="80"/>
                  </a:cubicBezTo>
                  <a:cubicBezTo>
                    <a:pt x="2806" y="79"/>
                    <a:pt x="2806" y="78"/>
                    <a:pt x="2805" y="78"/>
                  </a:cubicBezTo>
                  <a:cubicBezTo>
                    <a:pt x="2806" y="79"/>
                    <a:pt x="2806" y="80"/>
                    <a:pt x="2807" y="81"/>
                  </a:cubicBezTo>
                  <a:cubicBezTo>
                    <a:pt x="2806" y="87"/>
                    <a:pt x="2806" y="95"/>
                    <a:pt x="2805" y="102"/>
                  </a:cubicBezTo>
                  <a:cubicBezTo>
                    <a:pt x="2805" y="102"/>
                    <a:pt x="2805" y="102"/>
                    <a:pt x="2805" y="102"/>
                  </a:cubicBezTo>
                  <a:cubicBezTo>
                    <a:pt x="2805" y="103"/>
                    <a:pt x="2805" y="103"/>
                    <a:pt x="2805" y="103"/>
                  </a:cubicBezTo>
                  <a:cubicBezTo>
                    <a:pt x="2804" y="113"/>
                    <a:pt x="2804" y="123"/>
                    <a:pt x="2803" y="130"/>
                  </a:cubicBezTo>
                  <a:cubicBezTo>
                    <a:pt x="2803" y="130"/>
                    <a:pt x="2802" y="129"/>
                    <a:pt x="2802" y="128"/>
                  </a:cubicBezTo>
                  <a:cubicBezTo>
                    <a:pt x="2802" y="107"/>
                    <a:pt x="2798" y="69"/>
                    <a:pt x="2795" y="47"/>
                  </a:cubicBezTo>
                  <a:cubicBezTo>
                    <a:pt x="2796" y="64"/>
                    <a:pt x="2795" y="87"/>
                    <a:pt x="2794" y="107"/>
                  </a:cubicBezTo>
                  <a:cubicBezTo>
                    <a:pt x="2793" y="105"/>
                    <a:pt x="2792" y="104"/>
                    <a:pt x="2791" y="102"/>
                  </a:cubicBezTo>
                  <a:cubicBezTo>
                    <a:pt x="2792" y="104"/>
                    <a:pt x="2793" y="106"/>
                    <a:pt x="2793" y="107"/>
                  </a:cubicBezTo>
                  <a:cubicBezTo>
                    <a:pt x="2793" y="114"/>
                    <a:pt x="2793" y="121"/>
                    <a:pt x="2792" y="126"/>
                  </a:cubicBezTo>
                  <a:cubicBezTo>
                    <a:pt x="2792" y="125"/>
                    <a:pt x="2791" y="123"/>
                    <a:pt x="2791" y="122"/>
                  </a:cubicBezTo>
                  <a:cubicBezTo>
                    <a:pt x="2790" y="93"/>
                    <a:pt x="2786" y="46"/>
                    <a:pt x="2786" y="46"/>
                  </a:cubicBezTo>
                  <a:cubicBezTo>
                    <a:pt x="2785" y="65"/>
                    <a:pt x="2779" y="142"/>
                    <a:pt x="2779" y="142"/>
                  </a:cubicBezTo>
                  <a:cubicBezTo>
                    <a:pt x="2773" y="106"/>
                    <a:pt x="2780" y="0"/>
                    <a:pt x="2780" y="0"/>
                  </a:cubicBezTo>
                  <a:cubicBezTo>
                    <a:pt x="2774" y="16"/>
                    <a:pt x="2768" y="131"/>
                    <a:pt x="2768" y="131"/>
                  </a:cubicBezTo>
                  <a:cubicBezTo>
                    <a:pt x="2766" y="36"/>
                    <a:pt x="2762" y="32"/>
                    <a:pt x="2762" y="32"/>
                  </a:cubicBezTo>
                  <a:cubicBezTo>
                    <a:pt x="2764" y="43"/>
                    <a:pt x="2761" y="76"/>
                    <a:pt x="2758" y="103"/>
                  </a:cubicBezTo>
                  <a:cubicBezTo>
                    <a:pt x="2757" y="102"/>
                    <a:pt x="2756" y="100"/>
                    <a:pt x="2755" y="99"/>
                  </a:cubicBezTo>
                  <a:cubicBezTo>
                    <a:pt x="2756" y="101"/>
                    <a:pt x="2757" y="103"/>
                    <a:pt x="2758" y="104"/>
                  </a:cubicBezTo>
                  <a:cubicBezTo>
                    <a:pt x="2757" y="112"/>
                    <a:pt x="2756" y="120"/>
                    <a:pt x="2755" y="126"/>
                  </a:cubicBezTo>
                  <a:cubicBezTo>
                    <a:pt x="2755" y="124"/>
                    <a:pt x="2755" y="123"/>
                    <a:pt x="2755" y="122"/>
                  </a:cubicBezTo>
                  <a:cubicBezTo>
                    <a:pt x="2755" y="94"/>
                    <a:pt x="2754" y="48"/>
                    <a:pt x="2754" y="48"/>
                  </a:cubicBezTo>
                  <a:cubicBezTo>
                    <a:pt x="2753" y="55"/>
                    <a:pt x="2750" y="82"/>
                    <a:pt x="2747" y="106"/>
                  </a:cubicBezTo>
                  <a:cubicBezTo>
                    <a:pt x="2746" y="104"/>
                    <a:pt x="2745" y="102"/>
                    <a:pt x="2745" y="100"/>
                  </a:cubicBezTo>
                  <a:cubicBezTo>
                    <a:pt x="2748" y="60"/>
                    <a:pt x="2752" y="9"/>
                    <a:pt x="2752" y="9"/>
                  </a:cubicBezTo>
                  <a:cubicBezTo>
                    <a:pt x="2747" y="23"/>
                    <a:pt x="2740" y="83"/>
                    <a:pt x="2737" y="117"/>
                  </a:cubicBezTo>
                  <a:cubicBezTo>
                    <a:pt x="2736" y="114"/>
                    <a:pt x="2735" y="111"/>
                    <a:pt x="2734" y="108"/>
                  </a:cubicBezTo>
                  <a:cubicBezTo>
                    <a:pt x="2734" y="90"/>
                    <a:pt x="2732" y="72"/>
                    <a:pt x="2732" y="72"/>
                  </a:cubicBezTo>
                  <a:cubicBezTo>
                    <a:pt x="2732" y="76"/>
                    <a:pt x="2732" y="84"/>
                    <a:pt x="2731" y="94"/>
                  </a:cubicBezTo>
                  <a:cubicBezTo>
                    <a:pt x="2730" y="91"/>
                    <a:pt x="2728" y="88"/>
                    <a:pt x="2727" y="84"/>
                  </a:cubicBezTo>
                  <a:cubicBezTo>
                    <a:pt x="2728" y="88"/>
                    <a:pt x="2730" y="92"/>
                    <a:pt x="2730" y="96"/>
                  </a:cubicBezTo>
                  <a:cubicBezTo>
                    <a:pt x="2730" y="99"/>
                    <a:pt x="2730" y="103"/>
                    <a:pt x="2729" y="107"/>
                  </a:cubicBezTo>
                  <a:cubicBezTo>
                    <a:pt x="2729" y="106"/>
                    <a:pt x="2729" y="106"/>
                    <a:pt x="2729" y="105"/>
                  </a:cubicBezTo>
                  <a:cubicBezTo>
                    <a:pt x="2728" y="107"/>
                    <a:pt x="2728" y="112"/>
                    <a:pt x="2728" y="116"/>
                  </a:cubicBezTo>
                  <a:cubicBezTo>
                    <a:pt x="2727" y="121"/>
                    <a:pt x="2727" y="126"/>
                    <a:pt x="2726" y="130"/>
                  </a:cubicBezTo>
                  <a:cubicBezTo>
                    <a:pt x="2726" y="129"/>
                    <a:pt x="2726" y="128"/>
                    <a:pt x="2726" y="127"/>
                  </a:cubicBezTo>
                  <a:cubicBezTo>
                    <a:pt x="2726" y="101"/>
                    <a:pt x="2721" y="63"/>
                    <a:pt x="2720" y="54"/>
                  </a:cubicBezTo>
                  <a:cubicBezTo>
                    <a:pt x="2720" y="61"/>
                    <a:pt x="2719" y="79"/>
                    <a:pt x="2718" y="96"/>
                  </a:cubicBezTo>
                  <a:cubicBezTo>
                    <a:pt x="2717" y="94"/>
                    <a:pt x="2716" y="92"/>
                    <a:pt x="2715" y="90"/>
                  </a:cubicBezTo>
                  <a:cubicBezTo>
                    <a:pt x="2716" y="93"/>
                    <a:pt x="2717" y="95"/>
                    <a:pt x="2718" y="97"/>
                  </a:cubicBezTo>
                  <a:cubicBezTo>
                    <a:pt x="2716" y="118"/>
                    <a:pt x="2714" y="137"/>
                    <a:pt x="2714" y="137"/>
                  </a:cubicBezTo>
                  <a:cubicBezTo>
                    <a:pt x="2713" y="136"/>
                    <a:pt x="2713" y="134"/>
                    <a:pt x="2713" y="133"/>
                  </a:cubicBezTo>
                  <a:cubicBezTo>
                    <a:pt x="2713" y="125"/>
                    <a:pt x="2713" y="118"/>
                    <a:pt x="2712" y="110"/>
                  </a:cubicBezTo>
                  <a:cubicBezTo>
                    <a:pt x="2711" y="76"/>
                    <a:pt x="2710" y="40"/>
                    <a:pt x="2710" y="40"/>
                  </a:cubicBezTo>
                  <a:cubicBezTo>
                    <a:pt x="2710" y="49"/>
                    <a:pt x="2705" y="79"/>
                    <a:pt x="2701" y="104"/>
                  </a:cubicBezTo>
                  <a:cubicBezTo>
                    <a:pt x="2701" y="99"/>
                    <a:pt x="2700" y="95"/>
                    <a:pt x="2699" y="90"/>
                  </a:cubicBezTo>
                  <a:cubicBezTo>
                    <a:pt x="2700" y="67"/>
                    <a:pt x="2701" y="45"/>
                    <a:pt x="2701" y="45"/>
                  </a:cubicBezTo>
                  <a:cubicBezTo>
                    <a:pt x="2701" y="53"/>
                    <a:pt x="2695" y="75"/>
                    <a:pt x="2688" y="96"/>
                  </a:cubicBezTo>
                  <a:cubicBezTo>
                    <a:pt x="2687" y="93"/>
                    <a:pt x="2686" y="89"/>
                    <a:pt x="2684" y="85"/>
                  </a:cubicBezTo>
                  <a:cubicBezTo>
                    <a:pt x="2691" y="51"/>
                    <a:pt x="2699" y="17"/>
                    <a:pt x="2699" y="17"/>
                  </a:cubicBezTo>
                  <a:cubicBezTo>
                    <a:pt x="2694" y="24"/>
                    <a:pt x="2679" y="95"/>
                    <a:pt x="2672" y="130"/>
                  </a:cubicBezTo>
                  <a:cubicBezTo>
                    <a:pt x="2672" y="130"/>
                    <a:pt x="2672" y="130"/>
                    <a:pt x="2672" y="130"/>
                  </a:cubicBezTo>
                  <a:cubicBezTo>
                    <a:pt x="2676" y="100"/>
                    <a:pt x="2673" y="63"/>
                    <a:pt x="2672" y="52"/>
                  </a:cubicBezTo>
                  <a:cubicBezTo>
                    <a:pt x="2674" y="72"/>
                    <a:pt x="2668" y="109"/>
                    <a:pt x="2664" y="128"/>
                  </a:cubicBezTo>
                  <a:cubicBezTo>
                    <a:pt x="2664" y="126"/>
                    <a:pt x="2664" y="123"/>
                    <a:pt x="2663" y="120"/>
                  </a:cubicBezTo>
                  <a:cubicBezTo>
                    <a:pt x="2665" y="99"/>
                    <a:pt x="2667" y="71"/>
                    <a:pt x="2668" y="65"/>
                  </a:cubicBezTo>
                  <a:cubicBezTo>
                    <a:pt x="2667" y="71"/>
                    <a:pt x="2664" y="89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56" y="125"/>
                    <a:pt x="2653" y="143"/>
                    <a:pt x="2653" y="143"/>
                  </a:cubicBezTo>
                  <a:cubicBezTo>
                    <a:pt x="2663" y="38"/>
                    <a:pt x="2656" y="25"/>
                    <a:pt x="2656" y="25"/>
                  </a:cubicBezTo>
                  <a:cubicBezTo>
                    <a:pt x="2659" y="42"/>
                    <a:pt x="2656" y="72"/>
                    <a:pt x="2651" y="96"/>
                  </a:cubicBezTo>
                  <a:cubicBezTo>
                    <a:pt x="2650" y="89"/>
                    <a:pt x="2648" y="80"/>
                    <a:pt x="2645" y="73"/>
                  </a:cubicBezTo>
                  <a:cubicBezTo>
                    <a:pt x="2644" y="65"/>
                    <a:pt x="2644" y="60"/>
                    <a:pt x="2644" y="60"/>
                  </a:cubicBezTo>
                  <a:cubicBezTo>
                    <a:pt x="2644" y="63"/>
                    <a:pt x="2644" y="67"/>
                    <a:pt x="2643" y="71"/>
                  </a:cubicBezTo>
                  <a:cubicBezTo>
                    <a:pt x="2642" y="69"/>
                    <a:pt x="2641" y="67"/>
                    <a:pt x="2639" y="65"/>
                  </a:cubicBezTo>
                  <a:cubicBezTo>
                    <a:pt x="2641" y="67"/>
                    <a:pt x="2642" y="70"/>
                    <a:pt x="2643" y="73"/>
                  </a:cubicBezTo>
                  <a:cubicBezTo>
                    <a:pt x="2643" y="82"/>
                    <a:pt x="2642" y="92"/>
                    <a:pt x="2640" y="101"/>
                  </a:cubicBezTo>
                  <a:cubicBezTo>
                    <a:pt x="2640" y="95"/>
                    <a:pt x="2637" y="88"/>
                    <a:pt x="2632" y="83"/>
                  </a:cubicBezTo>
                  <a:cubicBezTo>
                    <a:pt x="2632" y="74"/>
                    <a:pt x="2633" y="68"/>
                    <a:pt x="2633" y="68"/>
                  </a:cubicBezTo>
                  <a:cubicBezTo>
                    <a:pt x="2632" y="72"/>
                    <a:pt x="2631" y="76"/>
                    <a:pt x="2630" y="81"/>
                  </a:cubicBezTo>
                  <a:cubicBezTo>
                    <a:pt x="2630" y="81"/>
                    <a:pt x="2629" y="81"/>
                    <a:pt x="2629" y="80"/>
                  </a:cubicBezTo>
                  <a:cubicBezTo>
                    <a:pt x="2629" y="81"/>
                    <a:pt x="2630" y="81"/>
                    <a:pt x="2630" y="82"/>
                  </a:cubicBezTo>
                  <a:cubicBezTo>
                    <a:pt x="2627" y="101"/>
                    <a:pt x="2626" y="130"/>
                    <a:pt x="2626" y="142"/>
                  </a:cubicBezTo>
                  <a:cubicBezTo>
                    <a:pt x="2626" y="143"/>
                    <a:pt x="2625" y="144"/>
                    <a:pt x="2625" y="144"/>
                  </a:cubicBezTo>
                  <a:cubicBezTo>
                    <a:pt x="2624" y="141"/>
                    <a:pt x="2624" y="136"/>
                    <a:pt x="2624" y="131"/>
                  </a:cubicBezTo>
                  <a:cubicBezTo>
                    <a:pt x="2625" y="121"/>
                    <a:pt x="2627" y="112"/>
                    <a:pt x="2628" y="103"/>
                  </a:cubicBezTo>
                  <a:cubicBezTo>
                    <a:pt x="2627" y="108"/>
                    <a:pt x="2626" y="112"/>
                    <a:pt x="2625" y="117"/>
                  </a:cubicBezTo>
                  <a:cubicBezTo>
                    <a:pt x="2626" y="85"/>
                    <a:pt x="2632" y="45"/>
                    <a:pt x="2632" y="45"/>
                  </a:cubicBezTo>
                  <a:cubicBezTo>
                    <a:pt x="2625" y="60"/>
                    <a:pt x="2620" y="95"/>
                    <a:pt x="2618" y="120"/>
                  </a:cubicBezTo>
                  <a:cubicBezTo>
                    <a:pt x="2618" y="123"/>
                    <a:pt x="2617" y="125"/>
                    <a:pt x="2616" y="127"/>
                  </a:cubicBezTo>
                  <a:cubicBezTo>
                    <a:pt x="2616" y="103"/>
                    <a:pt x="2615" y="70"/>
                    <a:pt x="2615" y="70"/>
                  </a:cubicBezTo>
                  <a:cubicBezTo>
                    <a:pt x="2615" y="72"/>
                    <a:pt x="2615" y="76"/>
                    <a:pt x="2614" y="81"/>
                  </a:cubicBezTo>
                  <a:cubicBezTo>
                    <a:pt x="2613" y="73"/>
                    <a:pt x="2611" y="66"/>
                    <a:pt x="2608" y="60"/>
                  </a:cubicBezTo>
                  <a:cubicBezTo>
                    <a:pt x="2609" y="52"/>
                    <a:pt x="2609" y="46"/>
                    <a:pt x="2609" y="46"/>
                  </a:cubicBezTo>
                  <a:cubicBezTo>
                    <a:pt x="2607" y="51"/>
                    <a:pt x="2605" y="64"/>
                    <a:pt x="2604" y="79"/>
                  </a:cubicBezTo>
                  <a:cubicBezTo>
                    <a:pt x="2603" y="77"/>
                    <a:pt x="2603" y="75"/>
                    <a:pt x="2602" y="74"/>
                  </a:cubicBezTo>
                  <a:cubicBezTo>
                    <a:pt x="2601" y="83"/>
                    <a:pt x="2601" y="92"/>
                    <a:pt x="2601" y="102"/>
                  </a:cubicBezTo>
                  <a:cubicBezTo>
                    <a:pt x="2601" y="108"/>
                    <a:pt x="2600" y="115"/>
                    <a:pt x="2599" y="121"/>
                  </a:cubicBezTo>
                  <a:cubicBezTo>
                    <a:pt x="2599" y="123"/>
                    <a:pt x="2599" y="125"/>
                    <a:pt x="2598" y="127"/>
                  </a:cubicBezTo>
                  <a:cubicBezTo>
                    <a:pt x="2598" y="35"/>
                    <a:pt x="2596" y="34"/>
                    <a:pt x="2596" y="34"/>
                  </a:cubicBezTo>
                  <a:cubicBezTo>
                    <a:pt x="2598" y="49"/>
                    <a:pt x="2594" y="77"/>
                    <a:pt x="2590" y="102"/>
                  </a:cubicBezTo>
                  <a:cubicBezTo>
                    <a:pt x="2589" y="94"/>
                    <a:pt x="2587" y="85"/>
                    <a:pt x="2583" y="76"/>
                  </a:cubicBezTo>
                  <a:cubicBezTo>
                    <a:pt x="2584" y="70"/>
                    <a:pt x="2584" y="66"/>
                    <a:pt x="2584" y="66"/>
                  </a:cubicBezTo>
                  <a:cubicBezTo>
                    <a:pt x="2584" y="68"/>
                    <a:pt x="2583" y="71"/>
                    <a:pt x="2582" y="74"/>
                  </a:cubicBezTo>
                  <a:cubicBezTo>
                    <a:pt x="2582" y="73"/>
                    <a:pt x="2581" y="72"/>
                    <a:pt x="2580" y="71"/>
                  </a:cubicBezTo>
                  <a:cubicBezTo>
                    <a:pt x="2581" y="73"/>
                    <a:pt x="2581" y="74"/>
                    <a:pt x="2582" y="76"/>
                  </a:cubicBezTo>
                  <a:cubicBezTo>
                    <a:pt x="2580" y="83"/>
                    <a:pt x="2578" y="93"/>
                    <a:pt x="2577" y="103"/>
                  </a:cubicBezTo>
                  <a:cubicBezTo>
                    <a:pt x="2576" y="98"/>
                    <a:pt x="2575" y="94"/>
                    <a:pt x="2574" y="89"/>
                  </a:cubicBezTo>
                  <a:cubicBezTo>
                    <a:pt x="2575" y="96"/>
                    <a:pt x="2573" y="104"/>
                    <a:pt x="2571" y="112"/>
                  </a:cubicBezTo>
                  <a:cubicBezTo>
                    <a:pt x="2571" y="92"/>
                    <a:pt x="2570" y="70"/>
                    <a:pt x="2569" y="62"/>
                  </a:cubicBezTo>
                  <a:cubicBezTo>
                    <a:pt x="2569" y="67"/>
                    <a:pt x="2569" y="74"/>
                    <a:pt x="2569" y="82"/>
                  </a:cubicBezTo>
                  <a:cubicBezTo>
                    <a:pt x="2567" y="87"/>
                    <a:pt x="2564" y="94"/>
                    <a:pt x="2562" y="101"/>
                  </a:cubicBezTo>
                  <a:cubicBezTo>
                    <a:pt x="2562" y="91"/>
                    <a:pt x="2562" y="82"/>
                    <a:pt x="2562" y="75"/>
                  </a:cubicBezTo>
                  <a:cubicBezTo>
                    <a:pt x="2561" y="86"/>
                    <a:pt x="2559" y="102"/>
                    <a:pt x="2557" y="116"/>
                  </a:cubicBezTo>
                  <a:cubicBezTo>
                    <a:pt x="2555" y="123"/>
                    <a:pt x="2553" y="130"/>
                    <a:pt x="2551" y="136"/>
                  </a:cubicBezTo>
                  <a:cubicBezTo>
                    <a:pt x="2551" y="118"/>
                    <a:pt x="2554" y="89"/>
                    <a:pt x="2554" y="89"/>
                  </a:cubicBezTo>
                  <a:cubicBezTo>
                    <a:pt x="2553" y="93"/>
                    <a:pt x="2552" y="99"/>
                    <a:pt x="2549" y="106"/>
                  </a:cubicBezTo>
                  <a:cubicBezTo>
                    <a:pt x="2549" y="104"/>
                    <a:pt x="2549" y="101"/>
                    <a:pt x="2548" y="99"/>
                  </a:cubicBezTo>
                  <a:cubicBezTo>
                    <a:pt x="2548" y="96"/>
                    <a:pt x="2548" y="96"/>
                    <a:pt x="2548" y="96"/>
                  </a:cubicBezTo>
                  <a:cubicBezTo>
                    <a:pt x="2547" y="95"/>
                    <a:pt x="2547" y="95"/>
                    <a:pt x="2547" y="95"/>
                  </a:cubicBezTo>
                  <a:cubicBezTo>
                    <a:pt x="2547" y="104"/>
                    <a:pt x="2545" y="113"/>
                    <a:pt x="2543" y="122"/>
                  </a:cubicBezTo>
                  <a:cubicBezTo>
                    <a:pt x="2541" y="127"/>
                    <a:pt x="2540" y="131"/>
                    <a:pt x="2538" y="134"/>
                  </a:cubicBezTo>
                  <a:cubicBezTo>
                    <a:pt x="2538" y="130"/>
                    <a:pt x="2538" y="126"/>
                    <a:pt x="2538" y="122"/>
                  </a:cubicBezTo>
                  <a:cubicBezTo>
                    <a:pt x="2542" y="102"/>
                    <a:pt x="2549" y="76"/>
                    <a:pt x="2549" y="76"/>
                  </a:cubicBezTo>
                  <a:cubicBezTo>
                    <a:pt x="2544" y="82"/>
                    <a:pt x="2539" y="94"/>
                    <a:pt x="2535" y="105"/>
                  </a:cubicBezTo>
                  <a:cubicBezTo>
                    <a:pt x="2535" y="102"/>
                    <a:pt x="2534" y="98"/>
                    <a:pt x="2532" y="95"/>
                  </a:cubicBezTo>
                  <a:cubicBezTo>
                    <a:pt x="2533" y="74"/>
                    <a:pt x="2529" y="62"/>
                    <a:pt x="2529" y="62"/>
                  </a:cubicBezTo>
                  <a:cubicBezTo>
                    <a:pt x="2531" y="69"/>
                    <a:pt x="2531" y="78"/>
                    <a:pt x="2530" y="88"/>
                  </a:cubicBezTo>
                  <a:cubicBezTo>
                    <a:pt x="2527" y="83"/>
                    <a:pt x="2524" y="78"/>
                    <a:pt x="2520" y="73"/>
                  </a:cubicBezTo>
                  <a:cubicBezTo>
                    <a:pt x="2524" y="80"/>
                    <a:pt x="2527" y="92"/>
                    <a:pt x="2528" y="102"/>
                  </a:cubicBezTo>
                  <a:cubicBezTo>
                    <a:pt x="2527" y="108"/>
                    <a:pt x="2526" y="115"/>
                    <a:pt x="2525" y="120"/>
                  </a:cubicBezTo>
                  <a:cubicBezTo>
                    <a:pt x="2524" y="113"/>
                    <a:pt x="2523" y="106"/>
                    <a:pt x="2521" y="100"/>
                  </a:cubicBezTo>
                  <a:cubicBezTo>
                    <a:pt x="2522" y="89"/>
                    <a:pt x="2522" y="82"/>
                    <a:pt x="2522" y="82"/>
                  </a:cubicBezTo>
                  <a:cubicBezTo>
                    <a:pt x="2521" y="98"/>
                    <a:pt x="2521" y="98"/>
                    <a:pt x="2521" y="98"/>
                  </a:cubicBezTo>
                  <a:cubicBezTo>
                    <a:pt x="2520" y="94"/>
                    <a:pt x="2519" y="91"/>
                    <a:pt x="2517" y="88"/>
                  </a:cubicBezTo>
                  <a:cubicBezTo>
                    <a:pt x="2517" y="73"/>
                    <a:pt x="2516" y="60"/>
                    <a:pt x="2516" y="60"/>
                  </a:cubicBezTo>
                  <a:cubicBezTo>
                    <a:pt x="2516" y="72"/>
                    <a:pt x="2513" y="90"/>
                    <a:pt x="2513" y="90"/>
                  </a:cubicBezTo>
                  <a:cubicBezTo>
                    <a:pt x="2511" y="84"/>
                    <a:pt x="2511" y="64"/>
                    <a:pt x="2511" y="64"/>
                  </a:cubicBezTo>
                  <a:cubicBezTo>
                    <a:pt x="2511" y="68"/>
                    <a:pt x="2510" y="83"/>
                    <a:pt x="2508" y="98"/>
                  </a:cubicBezTo>
                  <a:cubicBezTo>
                    <a:pt x="2508" y="96"/>
                    <a:pt x="2507" y="95"/>
                    <a:pt x="2507" y="93"/>
                  </a:cubicBezTo>
                  <a:cubicBezTo>
                    <a:pt x="2506" y="88"/>
                    <a:pt x="2504" y="82"/>
                    <a:pt x="2502" y="76"/>
                  </a:cubicBezTo>
                  <a:cubicBezTo>
                    <a:pt x="2502" y="57"/>
                    <a:pt x="2502" y="42"/>
                    <a:pt x="2502" y="42"/>
                  </a:cubicBezTo>
                  <a:cubicBezTo>
                    <a:pt x="2502" y="49"/>
                    <a:pt x="2502" y="59"/>
                    <a:pt x="2501" y="70"/>
                  </a:cubicBezTo>
                  <a:cubicBezTo>
                    <a:pt x="2498" y="64"/>
                    <a:pt x="2496" y="57"/>
                    <a:pt x="2493" y="51"/>
                  </a:cubicBezTo>
                  <a:cubicBezTo>
                    <a:pt x="2492" y="52"/>
                    <a:pt x="2492" y="54"/>
                    <a:pt x="2492" y="55"/>
                  </a:cubicBezTo>
                  <a:cubicBezTo>
                    <a:pt x="2496" y="65"/>
                    <a:pt x="2498" y="74"/>
                    <a:pt x="2499" y="82"/>
                  </a:cubicBezTo>
                  <a:cubicBezTo>
                    <a:pt x="2499" y="88"/>
                    <a:pt x="2498" y="94"/>
                    <a:pt x="2497" y="100"/>
                  </a:cubicBezTo>
                  <a:cubicBezTo>
                    <a:pt x="2496" y="96"/>
                    <a:pt x="2495" y="92"/>
                    <a:pt x="2494" y="88"/>
                  </a:cubicBezTo>
                  <a:cubicBezTo>
                    <a:pt x="2495" y="78"/>
                    <a:pt x="2496" y="70"/>
                    <a:pt x="2496" y="70"/>
                  </a:cubicBezTo>
                  <a:cubicBezTo>
                    <a:pt x="2495" y="72"/>
                    <a:pt x="2494" y="78"/>
                    <a:pt x="2493" y="85"/>
                  </a:cubicBezTo>
                  <a:cubicBezTo>
                    <a:pt x="2491" y="82"/>
                    <a:pt x="2489" y="79"/>
                    <a:pt x="2487" y="76"/>
                  </a:cubicBezTo>
                  <a:cubicBezTo>
                    <a:pt x="2486" y="71"/>
                    <a:pt x="2486" y="66"/>
                    <a:pt x="2486" y="61"/>
                  </a:cubicBezTo>
                  <a:cubicBezTo>
                    <a:pt x="2485" y="73"/>
                    <a:pt x="2483" y="87"/>
                    <a:pt x="2481" y="101"/>
                  </a:cubicBezTo>
                  <a:cubicBezTo>
                    <a:pt x="2479" y="95"/>
                    <a:pt x="2477" y="90"/>
                    <a:pt x="2475" y="86"/>
                  </a:cubicBezTo>
                  <a:cubicBezTo>
                    <a:pt x="2476" y="73"/>
                    <a:pt x="2476" y="64"/>
                    <a:pt x="2476" y="64"/>
                  </a:cubicBezTo>
                  <a:cubicBezTo>
                    <a:pt x="2476" y="71"/>
                    <a:pt x="2474" y="82"/>
                    <a:pt x="2472" y="95"/>
                  </a:cubicBezTo>
                  <a:cubicBezTo>
                    <a:pt x="2470" y="87"/>
                    <a:pt x="2468" y="79"/>
                    <a:pt x="2464" y="71"/>
                  </a:cubicBezTo>
                  <a:cubicBezTo>
                    <a:pt x="2466" y="49"/>
                    <a:pt x="2467" y="30"/>
                    <a:pt x="2467" y="30"/>
                  </a:cubicBezTo>
                  <a:cubicBezTo>
                    <a:pt x="2465" y="35"/>
                    <a:pt x="2463" y="49"/>
                    <a:pt x="2461" y="65"/>
                  </a:cubicBezTo>
                  <a:cubicBezTo>
                    <a:pt x="2460" y="62"/>
                    <a:pt x="2458" y="59"/>
                    <a:pt x="2456" y="56"/>
                  </a:cubicBezTo>
                  <a:cubicBezTo>
                    <a:pt x="2456" y="63"/>
                    <a:pt x="2458" y="70"/>
                    <a:pt x="2460" y="78"/>
                  </a:cubicBezTo>
                  <a:cubicBezTo>
                    <a:pt x="2459" y="87"/>
                    <a:pt x="2458" y="97"/>
                    <a:pt x="2457" y="106"/>
                  </a:cubicBezTo>
                  <a:cubicBezTo>
                    <a:pt x="2457" y="105"/>
                    <a:pt x="2457" y="104"/>
                    <a:pt x="2456" y="103"/>
                  </a:cubicBezTo>
                  <a:cubicBezTo>
                    <a:pt x="2457" y="104"/>
                    <a:pt x="2457" y="106"/>
                    <a:pt x="2457" y="109"/>
                  </a:cubicBezTo>
                  <a:cubicBezTo>
                    <a:pt x="2456" y="120"/>
                    <a:pt x="2455" y="131"/>
                    <a:pt x="2455" y="138"/>
                  </a:cubicBezTo>
                  <a:cubicBezTo>
                    <a:pt x="2455" y="137"/>
                    <a:pt x="2454" y="135"/>
                    <a:pt x="2454" y="134"/>
                  </a:cubicBezTo>
                  <a:cubicBezTo>
                    <a:pt x="2453" y="99"/>
                    <a:pt x="2448" y="41"/>
                    <a:pt x="2448" y="41"/>
                  </a:cubicBezTo>
                  <a:cubicBezTo>
                    <a:pt x="2449" y="58"/>
                    <a:pt x="2448" y="86"/>
                    <a:pt x="2446" y="108"/>
                  </a:cubicBezTo>
                  <a:cubicBezTo>
                    <a:pt x="2444" y="105"/>
                    <a:pt x="2443" y="102"/>
                    <a:pt x="2441" y="99"/>
                  </a:cubicBezTo>
                  <a:cubicBezTo>
                    <a:pt x="2441" y="86"/>
                    <a:pt x="2441" y="73"/>
                    <a:pt x="2441" y="67"/>
                  </a:cubicBezTo>
                  <a:cubicBezTo>
                    <a:pt x="2441" y="75"/>
                    <a:pt x="2440" y="85"/>
                    <a:pt x="2439" y="94"/>
                  </a:cubicBezTo>
                  <a:cubicBezTo>
                    <a:pt x="2438" y="92"/>
                    <a:pt x="2437" y="91"/>
                    <a:pt x="2436" y="89"/>
                  </a:cubicBezTo>
                  <a:cubicBezTo>
                    <a:pt x="2437" y="91"/>
                    <a:pt x="2438" y="94"/>
                    <a:pt x="2438" y="97"/>
                  </a:cubicBezTo>
                  <a:cubicBezTo>
                    <a:pt x="2437" y="104"/>
                    <a:pt x="2436" y="110"/>
                    <a:pt x="2434" y="116"/>
                  </a:cubicBezTo>
                  <a:cubicBezTo>
                    <a:pt x="2433" y="110"/>
                    <a:pt x="2432" y="105"/>
                    <a:pt x="2430" y="101"/>
                  </a:cubicBezTo>
                  <a:cubicBezTo>
                    <a:pt x="2431" y="91"/>
                    <a:pt x="2432" y="83"/>
                    <a:pt x="2432" y="83"/>
                  </a:cubicBezTo>
                  <a:cubicBezTo>
                    <a:pt x="2432" y="86"/>
                    <a:pt x="2431" y="92"/>
                    <a:pt x="2429" y="98"/>
                  </a:cubicBezTo>
                  <a:cubicBezTo>
                    <a:pt x="2428" y="94"/>
                    <a:pt x="2427" y="91"/>
                    <a:pt x="2426" y="89"/>
                  </a:cubicBezTo>
                  <a:cubicBezTo>
                    <a:pt x="2427" y="74"/>
                    <a:pt x="2428" y="62"/>
                    <a:pt x="2428" y="62"/>
                  </a:cubicBezTo>
                  <a:cubicBezTo>
                    <a:pt x="2427" y="65"/>
                    <a:pt x="2426" y="75"/>
                    <a:pt x="2424" y="87"/>
                  </a:cubicBezTo>
                  <a:cubicBezTo>
                    <a:pt x="2422" y="83"/>
                    <a:pt x="2420" y="81"/>
                    <a:pt x="2417" y="78"/>
                  </a:cubicBezTo>
                  <a:cubicBezTo>
                    <a:pt x="2420" y="81"/>
                    <a:pt x="2422" y="84"/>
                    <a:pt x="2424" y="89"/>
                  </a:cubicBezTo>
                  <a:cubicBezTo>
                    <a:pt x="2423" y="96"/>
                    <a:pt x="2422" y="105"/>
                    <a:pt x="2421" y="113"/>
                  </a:cubicBezTo>
                  <a:cubicBezTo>
                    <a:pt x="2420" y="108"/>
                    <a:pt x="2419" y="104"/>
                    <a:pt x="2417" y="100"/>
                  </a:cubicBezTo>
                  <a:cubicBezTo>
                    <a:pt x="2416" y="86"/>
                    <a:pt x="2414" y="74"/>
                    <a:pt x="2413" y="68"/>
                  </a:cubicBezTo>
                  <a:cubicBezTo>
                    <a:pt x="2413" y="71"/>
                    <a:pt x="2414" y="76"/>
                    <a:pt x="2413" y="86"/>
                  </a:cubicBezTo>
                  <a:cubicBezTo>
                    <a:pt x="2413" y="87"/>
                    <a:pt x="2413" y="88"/>
                    <a:pt x="2413" y="90"/>
                  </a:cubicBezTo>
                  <a:cubicBezTo>
                    <a:pt x="2412" y="87"/>
                    <a:pt x="2410" y="84"/>
                    <a:pt x="2408" y="81"/>
                  </a:cubicBezTo>
                  <a:cubicBezTo>
                    <a:pt x="2411" y="85"/>
                    <a:pt x="2412" y="91"/>
                    <a:pt x="2412" y="96"/>
                  </a:cubicBezTo>
                  <a:cubicBezTo>
                    <a:pt x="2411" y="105"/>
                    <a:pt x="2409" y="115"/>
                    <a:pt x="2407" y="124"/>
                  </a:cubicBezTo>
                  <a:cubicBezTo>
                    <a:pt x="2407" y="113"/>
                    <a:pt x="2406" y="102"/>
                    <a:pt x="2404" y="91"/>
                  </a:cubicBezTo>
                  <a:cubicBezTo>
                    <a:pt x="2404" y="77"/>
                    <a:pt x="2404" y="77"/>
                    <a:pt x="2404" y="77"/>
                  </a:cubicBezTo>
                  <a:cubicBezTo>
                    <a:pt x="2407" y="35"/>
                    <a:pt x="2400" y="19"/>
                    <a:pt x="2400" y="19"/>
                  </a:cubicBezTo>
                  <a:cubicBezTo>
                    <a:pt x="2400" y="19"/>
                    <a:pt x="2403" y="31"/>
                    <a:pt x="2402" y="54"/>
                  </a:cubicBezTo>
                  <a:cubicBezTo>
                    <a:pt x="2401" y="59"/>
                    <a:pt x="2401" y="68"/>
                    <a:pt x="2400" y="78"/>
                  </a:cubicBezTo>
                  <a:cubicBezTo>
                    <a:pt x="2397" y="72"/>
                    <a:pt x="2394" y="66"/>
                    <a:pt x="2390" y="60"/>
                  </a:cubicBezTo>
                  <a:cubicBezTo>
                    <a:pt x="2390" y="61"/>
                    <a:pt x="2390" y="61"/>
                    <a:pt x="2390" y="61"/>
                  </a:cubicBezTo>
                  <a:cubicBezTo>
                    <a:pt x="2390" y="62"/>
                    <a:pt x="2390" y="63"/>
                    <a:pt x="2390" y="64"/>
                  </a:cubicBezTo>
                  <a:cubicBezTo>
                    <a:pt x="2388" y="44"/>
                    <a:pt x="2381" y="40"/>
                    <a:pt x="2381" y="40"/>
                  </a:cubicBezTo>
                  <a:cubicBezTo>
                    <a:pt x="2381" y="40"/>
                    <a:pt x="2387" y="44"/>
                    <a:pt x="2387" y="70"/>
                  </a:cubicBezTo>
                  <a:cubicBezTo>
                    <a:pt x="2387" y="76"/>
                    <a:pt x="2386" y="85"/>
                    <a:pt x="2384" y="94"/>
                  </a:cubicBezTo>
                  <a:cubicBezTo>
                    <a:pt x="2382" y="90"/>
                    <a:pt x="2379" y="86"/>
                    <a:pt x="2376" y="83"/>
                  </a:cubicBezTo>
                  <a:cubicBezTo>
                    <a:pt x="2379" y="87"/>
                    <a:pt x="2382" y="92"/>
                    <a:pt x="2384" y="97"/>
                  </a:cubicBezTo>
                  <a:cubicBezTo>
                    <a:pt x="2383" y="100"/>
                    <a:pt x="2383" y="103"/>
                    <a:pt x="2382" y="106"/>
                  </a:cubicBezTo>
                  <a:cubicBezTo>
                    <a:pt x="2381" y="104"/>
                    <a:pt x="2381" y="102"/>
                    <a:pt x="2380" y="100"/>
                  </a:cubicBezTo>
                  <a:cubicBezTo>
                    <a:pt x="2381" y="102"/>
                    <a:pt x="2381" y="105"/>
                    <a:pt x="2382" y="108"/>
                  </a:cubicBezTo>
                  <a:cubicBezTo>
                    <a:pt x="2381" y="111"/>
                    <a:pt x="2380" y="114"/>
                    <a:pt x="2379" y="117"/>
                  </a:cubicBezTo>
                  <a:cubicBezTo>
                    <a:pt x="2378" y="113"/>
                    <a:pt x="2376" y="108"/>
                    <a:pt x="2374" y="104"/>
                  </a:cubicBezTo>
                  <a:cubicBezTo>
                    <a:pt x="2375" y="87"/>
                    <a:pt x="2376" y="71"/>
                    <a:pt x="2376" y="71"/>
                  </a:cubicBezTo>
                  <a:cubicBezTo>
                    <a:pt x="2375" y="73"/>
                    <a:pt x="2373" y="84"/>
                    <a:pt x="2371" y="97"/>
                  </a:cubicBezTo>
                  <a:cubicBezTo>
                    <a:pt x="2370" y="95"/>
                    <a:pt x="2369" y="93"/>
                    <a:pt x="2368" y="92"/>
                  </a:cubicBezTo>
                  <a:cubicBezTo>
                    <a:pt x="2369" y="81"/>
                    <a:pt x="2370" y="72"/>
                    <a:pt x="2371" y="66"/>
                  </a:cubicBezTo>
                  <a:cubicBezTo>
                    <a:pt x="2370" y="73"/>
                    <a:pt x="2369" y="81"/>
                    <a:pt x="2367" y="90"/>
                  </a:cubicBezTo>
                  <a:cubicBezTo>
                    <a:pt x="2366" y="88"/>
                    <a:pt x="2364" y="86"/>
                    <a:pt x="2362" y="83"/>
                  </a:cubicBezTo>
                  <a:cubicBezTo>
                    <a:pt x="2366" y="26"/>
                    <a:pt x="2364" y="12"/>
                    <a:pt x="2364" y="12"/>
                  </a:cubicBezTo>
                  <a:cubicBezTo>
                    <a:pt x="2364" y="12"/>
                    <a:pt x="2364" y="18"/>
                    <a:pt x="2361" y="56"/>
                  </a:cubicBezTo>
                  <a:cubicBezTo>
                    <a:pt x="2360" y="64"/>
                    <a:pt x="2359" y="71"/>
                    <a:pt x="2358" y="78"/>
                  </a:cubicBezTo>
                  <a:cubicBezTo>
                    <a:pt x="2356" y="76"/>
                    <a:pt x="2353" y="73"/>
                    <a:pt x="2351" y="71"/>
                  </a:cubicBezTo>
                  <a:cubicBezTo>
                    <a:pt x="2352" y="48"/>
                    <a:pt x="2353" y="31"/>
                    <a:pt x="2353" y="31"/>
                  </a:cubicBezTo>
                  <a:cubicBezTo>
                    <a:pt x="2351" y="37"/>
                    <a:pt x="2349" y="52"/>
                    <a:pt x="2348" y="68"/>
                  </a:cubicBezTo>
                  <a:cubicBezTo>
                    <a:pt x="2346" y="66"/>
                    <a:pt x="2344" y="65"/>
                    <a:pt x="2342" y="63"/>
                  </a:cubicBezTo>
                  <a:cubicBezTo>
                    <a:pt x="2344" y="65"/>
                    <a:pt x="2346" y="67"/>
                    <a:pt x="2348" y="69"/>
                  </a:cubicBezTo>
                  <a:cubicBezTo>
                    <a:pt x="2347" y="82"/>
                    <a:pt x="2347" y="96"/>
                    <a:pt x="2346" y="109"/>
                  </a:cubicBezTo>
                  <a:cubicBezTo>
                    <a:pt x="2345" y="104"/>
                    <a:pt x="2343" y="99"/>
                    <a:pt x="2342" y="96"/>
                  </a:cubicBezTo>
                  <a:cubicBezTo>
                    <a:pt x="2343" y="104"/>
                    <a:pt x="2344" y="112"/>
                    <a:pt x="2346" y="120"/>
                  </a:cubicBezTo>
                  <a:cubicBezTo>
                    <a:pt x="2346" y="123"/>
                    <a:pt x="2346" y="126"/>
                    <a:pt x="2346" y="128"/>
                  </a:cubicBezTo>
                  <a:cubicBezTo>
                    <a:pt x="2345" y="125"/>
                    <a:pt x="2343" y="122"/>
                    <a:pt x="2342" y="118"/>
                  </a:cubicBezTo>
                  <a:cubicBezTo>
                    <a:pt x="2337" y="80"/>
                    <a:pt x="2330" y="28"/>
                    <a:pt x="2330" y="28"/>
                  </a:cubicBezTo>
                  <a:cubicBezTo>
                    <a:pt x="2330" y="39"/>
                    <a:pt x="2328" y="72"/>
                    <a:pt x="2326" y="100"/>
                  </a:cubicBezTo>
                  <a:cubicBezTo>
                    <a:pt x="2326" y="98"/>
                    <a:pt x="2325" y="97"/>
                    <a:pt x="2324" y="96"/>
                  </a:cubicBezTo>
                  <a:cubicBezTo>
                    <a:pt x="2325" y="97"/>
                    <a:pt x="2326" y="99"/>
                    <a:pt x="2326" y="100"/>
                  </a:cubicBezTo>
                  <a:cubicBezTo>
                    <a:pt x="2326" y="110"/>
                    <a:pt x="2325" y="120"/>
                    <a:pt x="2324" y="128"/>
                  </a:cubicBezTo>
                  <a:cubicBezTo>
                    <a:pt x="2324" y="128"/>
                    <a:pt x="2324" y="127"/>
                    <a:pt x="2324" y="127"/>
                  </a:cubicBezTo>
                  <a:cubicBezTo>
                    <a:pt x="2324" y="109"/>
                    <a:pt x="2322" y="87"/>
                    <a:pt x="2321" y="71"/>
                  </a:cubicBezTo>
                  <a:cubicBezTo>
                    <a:pt x="2322" y="68"/>
                    <a:pt x="2323" y="66"/>
                    <a:pt x="2324" y="64"/>
                  </a:cubicBezTo>
                  <a:cubicBezTo>
                    <a:pt x="2323" y="65"/>
                    <a:pt x="2322" y="67"/>
                    <a:pt x="2320" y="69"/>
                  </a:cubicBezTo>
                  <a:cubicBezTo>
                    <a:pt x="2320" y="61"/>
                    <a:pt x="2319" y="55"/>
                    <a:pt x="2319" y="53"/>
                  </a:cubicBezTo>
                  <a:cubicBezTo>
                    <a:pt x="2319" y="52"/>
                    <a:pt x="2320" y="52"/>
                    <a:pt x="2320" y="51"/>
                  </a:cubicBezTo>
                  <a:cubicBezTo>
                    <a:pt x="2320" y="51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7" y="54"/>
                    <a:pt x="2315" y="56"/>
                    <a:pt x="2313" y="57"/>
                  </a:cubicBezTo>
                  <a:cubicBezTo>
                    <a:pt x="2314" y="54"/>
                    <a:pt x="2314" y="52"/>
                    <a:pt x="2314" y="50"/>
                  </a:cubicBezTo>
                  <a:cubicBezTo>
                    <a:pt x="2318" y="46"/>
                    <a:pt x="2321" y="42"/>
                    <a:pt x="2325" y="38"/>
                  </a:cubicBezTo>
                  <a:cubicBezTo>
                    <a:pt x="2321" y="41"/>
                    <a:pt x="2318" y="44"/>
                    <a:pt x="2315" y="47"/>
                  </a:cubicBezTo>
                  <a:cubicBezTo>
                    <a:pt x="2315" y="43"/>
                    <a:pt x="2316" y="40"/>
                    <a:pt x="2316" y="40"/>
                  </a:cubicBezTo>
                  <a:cubicBezTo>
                    <a:pt x="2315" y="43"/>
                    <a:pt x="2313" y="46"/>
                    <a:pt x="2312" y="50"/>
                  </a:cubicBezTo>
                  <a:cubicBezTo>
                    <a:pt x="2305" y="58"/>
                    <a:pt x="2300" y="66"/>
                    <a:pt x="2296" y="75"/>
                  </a:cubicBezTo>
                  <a:cubicBezTo>
                    <a:pt x="2295" y="70"/>
                    <a:pt x="2295" y="66"/>
                    <a:pt x="2295" y="63"/>
                  </a:cubicBezTo>
                  <a:cubicBezTo>
                    <a:pt x="2298" y="57"/>
                    <a:pt x="2301" y="50"/>
                    <a:pt x="2305" y="42"/>
                  </a:cubicBezTo>
                  <a:cubicBezTo>
                    <a:pt x="2296" y="52"/>
                    <a:pt x="2290" y="61"/>
                    <a:pt x="2286" y="71"/>
                  </a:cubicBezTo>
                  <a:cubicBezTo>
                    <a:pt x="2285" y="70"/>
                    <a:pt x="2284" y="70"/>
                    <a:pt x="2284" y="69"/>
                  </a:cubicBezTo>
                  <a:cubicBezTo>
                    <a:pt x="2284" y="68"/>
                    <a:pt x="2284" y="67"/>
                    <a:pt x="2283" y="65"/>
                  </a:cubicBezTo>
                  <a:cubicBezTo>
                    <a:pt x="2290" y="53"/>
                    <a:pt x="2298" y="41"/>
                    <a:pt x="2309" y="25"/>
                  </a:cubicBezTo>
                  <a:cubicBezTo>
                    <a:pt x="2298" y="40"/>
                    <a:pt x="2290" y="51"/>
                    <a:pt x="2283" y="63"/>
                  </a:cubicBezTo>
                  <a:cubicBezTo>
                    <a:pt x="2281" y="45"/>
                    <a:pt x="2279" y="30"/>
                    <a:pt x="2279" y="30"/>
                  </a:cubicBezTo>
                  <a:cubicBezTo>
                    <a:pt x="2280" y="35"/>
                    <a:pt x="2280" y="49"/>
                    <a:pt x="2280" y="65"/>
                  </a:cubicBezTo>
                  <a:cubicBezTo>
                    <a:pt x="2280" y="65"/>
                    <a:pt x="2279" y="65"/>
                    <a:pt x="2279" y="65"/>
                  </a:cubicBezTo>
                  <a:cubicBezTo>
                    <a:pt x="2279" y="65"/>
                    <a:pt x="2280" y="65"/>
                    <a:pt x="2280" y="65"/>
                  </a:cubicBezTo>
                  <a:cubicBezTo>
                    <a:pt x="2280" y="67"/>
                    <a:pt x="2280" y="69"/>
                    <a:pt x="2279" y="71"/>
                  </a:cubicBezTo>
                  <a:cubicBezTo>
                    <a:pt x="2278" y="74"/>
                    <a:pt x="2277" y="78"/>
                    <a:pt x="2276" y="81"/>
                  </a:cubicBezTo>
                  <a:cubicBezTo>
                    <a:pt x="2277" y="78"/>
                    <a:pt x="2278" y="76"/>
                    <a:pt x="2279" y="73"/>
                  </a:cubicBezTo>
                  <a:cubicBezTo>
                    <a:pt x="2279" y="79"/>
                    <a:pt x="2279" y="85"/>
                    <a:pt x="2279" y="91"/>
                  </a:cubicBezTo>
                  <a:cubicBezTo>
                    <a:pt x="2278" y="93"/>
                    <a:pt x="2278" y="95"/>
                    <a:pt x="2278" y="97"/>
                  </a:cubicBezTo>
                  <a:cubicBezTo>
                    <a:pt x="2277" y="96"/>
                    <a:pt x="2276" y="95"/>
                    <a:pt x="2276" y="94"/>
                  </a:cubicBezTo>
                  <a:cubicBezTo>
                    <a:pt x="2275" y="91"/>
                    <a:pt x="2275" y="88"/>
                    <a:pt x="2275" y="85"/>
                  </a:cubicBezTo>
                  <a:cubicBezTo>
                    <a:pt x="2275" y="83"/>
                    <a:pt x="2276" y="82"/>
                    <a:pt x="2276" y="81"/>
                  </a:cubicBezTo>
                  <a:cubicBezTo>
                    <a:pt x="2276" y="82"/>
                    <a:pt x="2275" y="83"/>
                    <a:pt x="2275" y="84"/>
                  </a:cubicBezTo>
                  <a:cubicBezTo>
                    <a:pt x="2274" y="72"/>
                    <a:pt x="2273" y="62"/>
                    <a:pt x="2273" y="55"/>
                  </a:cubicBezTo>
                  <a:cubicBezTo>
                    <a:pt x="2274" y="54"/>
                    <a:pt x="2275" y="53"/>
                    <a:pt x="2277" y="52"/>
                  </a:cubicBezTo>
                  <a:cubicBezTo>
                    <a:pt x="2275" y="53"/>
                    <a:pt x="2274" y="54"/>
                    <a:pt x="2273" y="54"/>
                  </a:cubicBezTo>
                  <a:cubicBezTo>
                    <a:pt x="2273" y="49"/>
                    <a:pt x="2272" y="46"/>
                    <a:pt x="2272" y="46"/>
                  </a:cubicBezTo>
                  <a:cubicBezTo>
                    <a:pt x="2272" y="48"/>
                    <a:pt x="2272" y="51"/>
                    <a:pt x="2272" y="55"/>
                  </a:cubicBezTo>
                  <a:cubicBezTo>
                    <a:pt x="2269" y="57"/>
                    <a:pt x="2266" y="59"/>
                    <a:pt x="2263" y="62"/>
                  </a:cubicBezTo>
                  <a:cubicBezTo>
                    <a:pt x="2263" y="58"/>
                    <a:pt x="2263" y="54"/>
                    <a:pt x="2263" y="50"/>
                  </a:cubicBezTo>
                  <a:cubicBezTo>
                    <a:pt x="2267" y="45"/>
                    <a:pt x="2272" y="40"/>
                    <a:pt x="2277" y="34"/>
                  </a:cubicBezTo>
                  <a:cubicBezTo>
                    <a:pt x="2272" y="39"/>
                    <a:pt x="2267" y="44"/>
                    <a:pt x="2263" y="48"/>
                  </a:cubicBezTo>
                  <a:cubicBezTo>
                    <a:pt x="2265" y="21"/>
                    <a:pt x="2266" y="0"/>
                    <a:pt x="2266" y="0"/>
                  </a:cubicBezTo>
                  <a:cubicBezTo>
                    <a:pt x="2262" y="10"/>
                    <a:pt x="2260" y="35"/>
                    <a:pt x="2259" y="53"/>
                  </a:cubicBezTo>
                  <a:cubicBezTo>
                    <a:pt x="2258" y="54"/>
                    <a:pt x="2257" y="55"/>
                    <a:pt x="2257" y="56"/>
                  </a:cubicBezTo>
                  <a:cubicBezTo>
                    <a:pt x="2255" y="44"/>
                    <a:pt x="2252" y="33"/>
                    <a:pt x="2252" y="33"/>
                  </a:cubicBezTo>
                  <a:cubicBezTo>
                    <a:pt x="2253" y="39"/>
                    <a:pt x="2253" y="49"/>
                    <a:pt x="2252" y="62"/>
                  </a:cubicBezTo>
                  <a:cubicBezTo>
                    <a:pt x="2250" y="63"/>
                    <a:pt x="2249" y="65"/>
                    <a:pt x="2248" y="67"/>
                  </a:cubicBezTo>
                  <a:cubicBezTo>
                    <a:pt x="2247" y="65"/>
                    <a:pt x="2246" y="63"/>
                    <a:pt x="2245" y="62"/>
                  </a:cubicBezTo>
                  <a:cubicBezTo>
                    <a:pt x="2245" y="63"/>
                    <a:pt x="2246" y="65"/>
                    <a:pt x="2247" y="68"/>
                  </a:cubicBezTo>
                  <a:cubicBezTo>
                    <a:pt x="2244" y="72"/>
                    <a:pt x="2242" y="75"/>
                    <a:pt x="2241" y="78"/>
                  </a:cubicBezTo>
                  <a:cubicBezTo>
                    <a:pt x="2240" y="61"/>
                    <a:pt x="2240" y="48"/>
                    <a:pt x="2240" y="48"/>
                  </a:cubicBezTo>
                  <a:cubicBezTo>
                    <a:pt x="2239" y="52"/>
                    <a:pt x="2238" y="65"/>
                    <a:pt x="2236" y="80"/>
                  </a:cubicBezTo>
                  <a:cubicBezTo>
                    <a:pt x="2235" y="82"/>
                    <a:pt x="2235" y="85"/>
                    <a:pt x="2234" y="87"/>
                  </a:cubicBezTo>
                  <a:cubicBezTo>
                    <a:pt x="2233" y="86"/>
                    <a:pt x="2233" y="86"/>
                    <a:pt x="2232" y="85"/>
                  </a:cubicBezTo>
                  <a:cubicBezTo>
                    <a:pt x="2235" y="48"/>
                    <a:pt x="2238" y="9"/>
                    <a:pt x="2238" y="9"/>
                  </a:cubicBezTo>
                  <a:cubicBezTo>
                    <a:pt x="2234" y="20"/>
                    <a:pt x="2230" y="57"/>
                    <a:pt x="2226" y="89"/>
                  </a:cubicBezTo>
                  <a:cubicBezTo>
                    <a:pt x="2225" y="91"/>
                    <a:pt x="2224" y="92"/>
                    <a:pt x="2224" y="93"/>
                  </a:cubicBezTo>
                  <a:cubicBezTo>
                    <a:pt x="2223" y="92"/>
                    <a:pt x="2222" y="90"/>
                    <a:pt x="2221" y="89"/>
                  </a:cubicBezTo>
                  <a:cubicBezTo>
                    <a:pt x="2224" y="72"/>
                    <a:pt x="2227" y="55"/>
                    <a:pt x="2227" y="37"/>
                  </a:cubicBezTo>
                  <a:cubicBezTo>
                    <a:pt x="2227" y="34"/>
                    <a:pt x="2227" y="30"/>
                    <a:pt x="2227" y="26"/>
                  </a:cubicBezTo>
                  <a:cubicBezTo>
                    <a:pt x="2220" y="45"/>
                    <a:pt x="2219" y="66"/>
                    <a:pt x="2215" y="86"/>
                  </a:cubicBezTo>
                  <a:cubicBezTo>
                    <a:pt x="2214" y="85"/>
                    <a:pt x="2214" y="84"/>
                    <a:pt x="2214" y="84"/>
                  </a:cubicBezTo>
                  <a:cubicBezTo>
                    <a:pt x="2214" y="84"/>
                    <a:pt x="2214" y="85"/>
                    <a:pt x="2215" y="86"/>
                  </a:cubicBezTo>
                  <a:cubicBezTo>
                    <a:pt x="2214" y="88"/>
                    <a:pt x="2214" y="90"/>
                    <a:pt x="2214" y="92"/>
                  </a:cubicBezTo>
                  <a:cubicBezTo>
                    <a:pt x="2213" y="94"/>
                    <a:pt x="2213" y="96"/>
                    <a:pt x="2212" y="98"/>
                  </a:cubicBezTo>
                  <a:cubicBezTo>
                    <a:pt x="2212" y="97"/>
                    <a:pt x="2211" y="96"/>
                    <a:pt x="2210" y="95"/>
                  </a:cubicBezTo>
                  <a:cubicBezTo>
                    <a:pt x="2210" y="86"/>
                    <a:pt x="2209" y="78"/>
                    <a:pt x="2208" y="72"/>
                  </a:cubicBezTo>
                  <a:cubicBezTo>
                    <a:pt x="2211" y="67"/>
                    <a:pt x="2215" y="63"/>
                    <a:pt x="2219" y="59"/>
                  </a:cubicBezTo>
                  <a:cubicBezTo>
                    <a:pt x="2215" y="62"/>
                    <a:pt x="2211" y="66"/>
                    <a:pt x="2208" y="70"/>
                  </a:cubicBezTo>
                  <a:cubicBezTo>
                    <a:pt x="2207" y="64"/>
                    <a:pt x="2207" y="60"/>
                    <a:pt x="2206" y="57"/>
                  </a:cubicBezTo>
                  <a:cubicBezTo>
                    <a:pt x="2207" y="54"/>
                    <a:pt x="2209" y="52"/>
                    <a:pt x="2210" y="50"/>
                  </a:cubicBezTo>
                  <a:cubicBezTo>
                    <a:pt x="2209" y="51"/>
                    <a:pt x="2207" y="53"/>
                    <a:pt x="2206" y="54"/>
                  </a:cubicBezTo>
                  <a:cubicBezTo>
                    <a:pt x="2206" y="53"/>
                    <a:pt x="2206" y="52"/>
                    <a:pt x="2206" y="52"/>
                  </a:cubicBezTo>
                  <a:cubicBezTo>
                    <a:pt x="2206" y="53"/>
                    <a:pt x="2206" y="54"/>
                    <a:pt x="2206" y="54"/>
                  </a:cubicBezTo>
                  <a:cubicBezTo>
                    <a:pt x="2204" y="56"/>
                    <a:pt x="2202" y="58"/>
                    <a:pt x="2200" y="60"/>
                  </a:cubicBezTo>
                  <a:cubicBezTo>
                    <a:pt x="2199" y="54"/>
                    <a:pt x="2198" y="48"/>
                    <a:pt x="2197" y="44"/>
                  </a:cubicBezTo>
                  <a:cubicBezTo>
                    <a:pt x="2198" y="49"/>
                    <a:pt x="2197" y="56"/>
                    <a:pt x="2196" y="64"/>
                  </a:cubicBezTo>
                  <a:cubicBezTo>
                    <a:pt x="2195" y="66"/>
                    <a:pt x="2194" y="68"/>
                    <a:pt x="2193" y="69"/>
                  </a:cubicBezTo>
                  <a:cubicBezTo>
                    <a:pt x="2191" y="67"/>
                    <a:pt x="2190" y="66"/>
                    <a:pt x="2188" y="64"/>
                  </a:cubicBezTo>
                  <a:cubicBezTo>
                    <a:pt x="2190" y="66"/>
                    <a:pt x="2191" y="67"/>
                    <a:pt x="2193" y="69"/>
                  </a:cubicBezTo>
                  <a:cubicBezTo>
                    <a:pt x="2191" y="71"/>
                    <a:pt x="2190" y="73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8" y="76"/>
                    <a:pt x="2187" y="77"/>
                    <a:pt x="2186" y="79"/>
                  </a:cubicBezTo>
                  <a:cubicBezTo>
                    <a:pt x="2186" y="79"/>
                    <a:pt x="2186" y="79"/>
                    <a:pt x="2186" y="79"/>
                  </a:cubicBezTo>
                  <a:cubicBezTo>
                    <a:pt x="2187" y="60"/>
                    <a:pt x="2187" y="45"/>
                    <a:pt x="2187" y="45"/>
                  </a:cubicBezTo>
                  <a:cubicBezTo>
                    <a:pt x="2187" y="50"/>
                    <a:pt x="2185" y="61"/>
                    <a:pt x="2182" y="73"/>
                  </a:cubicBezTo>
                  <a:cubicBezTo>
                    <a:pt x="2181" y="73"/>
                    <a:pt x="2181" y="73"/>
                    <a:pt x="2180" y="72"/>
                  </a:cubicBezTo>
                  <a:cubicBezTo>
                    <a:pt x="2181" y="70"/>
                    <a:pt x="2181" y="68"/>
                    <a:pt x="2181" y="66"/>
                  </a:cubicBezTo>
                  <a:cubicBezTo>
                    <a:pt x="2181" y="65"/>
                    <a:pt x="2181" y="65"/>
                    <a:pt x="2182" y="65"/>
                  </a:cubicBezTo>
                  <a:cubicBezTo>
                    <a:pt x="2181" y="65"/>
                    <a:pt x="2181" y="65"/>
                    <a:pt x="2181" y="66"/>
                  </a:cubicBezTo>
                  <a:cubicBezTo>
                    <a:pt x="2181" y="64"/>
                    <a:pt x="2181" y="63"/>
                    <a:pt x="2181" y="61"/>
                  </a:cubicBezTo>
                  <a:cubicBezTo>
                    <a:pt x="2181" y="55"/>
                    <a:pt x="2181" y="49"/>
                    <a:pt x="2180" y="42"/>
                  </a:cubicBezTo>
                  <a:cubicBezTo>
                    <a:pt x="2183" y="27"/>
                    <a:pt x="2185" y="17"/>
                    <a:pt x="2185" y="17"/>
                  </a:cubicBezTo>
                  <a:cubicBezTo>
                    <a:pt x="2182" y="22"/>
                    <a:pt x="2175" y="49"/>
                    <a:pt x="2169" y="78"/>
                  </a:cubicBezTo>
                  <a:cubicBezTo>
                    <a:pt x="2169" y="78"/>
                    <a:pt x="2169" y="78"/>
                    <a:pt x="2168" y="79"/>
                  </a:cubicBezTo>
                  <a:cubicBezTo>
                    <a:pt x="2167" y="76"/>
                    <a:pt x="2164" y="72"/>
                    <a:pt x="2162" y="69"/>
                  </a:cubicBezTo>
                  <a:cubicBezTo>
                    <a:pt x="2163" y="67"/>
                    <a:pt x="2165" y="66"/>
                    <a:pt x="2167" y="64"/>
                  </a:cubicBezTo>
                  <a:cubicBezTo>
                    <a:pt x="2165" y="66"/>
                    <a:pt x="2163" y="67"/>
                    <a:pt x="2162" y="69"/>
                  </a:cubicBezTo>
                  <a:cubicBezTo>
                    <a:pt x="2161" y="68"/>
                    <a:pt x="2160" y="67"/>
                    <a:pt x="2159" y="66"/>
                  </a:cubicBezTo>
                  <a:cubicBezTo>
                    <a:pt x="2159" y="60"/>
                    <a:pt x="2158" y="55"/>
                    <a:pt x="2158" y="52"/>
                  </a:cubicBezTo>
                  <a:cubicBezTo>
                    <a:pt x="2158" y="56"/>
                    <a:pt x="2158" y="60"/>
                    <a:pt x="2158" y="64"/>
                  </a:cubicBezTo>
                  <a:cubicBezTo>
                    <a:pt x="2154" y="60"/>
                    <a:pt x="2150" y="55"/>
                    <a:pt x="2145" y="50"/>
                  </a:cubicBezTo>
                  <a:cubicBezTo>
                    <a:pt x="2148" y="55"/>
                    <a:pt x="2151" y="60"/>
                    <a:pt x="2154" y="65"/>
                  </a:cubicBezTo>
                  <a:cubicBezTo>
                    <a:pt x="2153" y="68"/>
                    <a:pt x="2153" y="71"/>
                    <a:pt x="2152" y="76"/>
                  </a:cubicBezTo>
                  <a:cubicBezTo>
                    <a:pt x="2150" y="74"/>
                    <a:pt x="2148" y="71"/>
                    <a:pt x="2145" y="68"/>
                  </a:cubicBezTo>
                  <a:cubicBezTo>
                    <a:pt x="2145" y="54"/>
                    <a:pt x="2144" y="41"/>
                    <a:pt x="2143" y="33"/>
                  </a:cubicBezTo>
                  <a:cubicBezTo>
                    <a:pt x="2144" y="42"/>
                    <a:pt x="2143" y="53"/>
                    <a:pt x="2142" y="65"/>
                  </a:cubicBezTo>
                  <a:cubicBezTo>
                    <a:pt x="2140" y="63"/>
                    <a:pt x="2138" y="61"/>
                    <a:pt x="2136" y="59"/>
                  </a:cubicBezTo>
                  <a:cubicBezTo>
                    <a:pt x="2138" y="61"/>
                    <a:pt x="2140" y="63"/>
                    <a:pt x="2142" y="65"/>
                  </a:cubicBezTo>
                  <a:cubicBezTo>
                    <a:pt x="2141" y="72"/>
                    <a:pt x="2140" y="80"/>
                    <a:pt x="2139" y="87"/>
                  </a:cubicBezTo>
                  <a:cubicBezTo>
                    <a:pt x="2139" y="87"/>
                    <a:pt x="2139" y="87"/>
                    <a:pt x="2139" y="87"/>
                  </a:cubicBezTo>
                  <a:cubicBezTo>
                    <a:pt x="2138" y="85"/>
                    <a:pt x="2138" y="84"/>
                    <a:pt x="2137" y="83"/>
                  </a:cubicBezTo>
                  <a:cubicBezTo>
                    <a:pt x="2138" y="82"/>
                    <a:pt x="2138" y="82"/>
                    <a:pt x="2138" y="81"/>
                  </a:cubicBezTo>
                  <a:cubicBezTo>
                    <a:pt x="2138" y="82"/>
                    <a:pt x="2138" y="82"/>
                    <a:pt x="2137" y="83"/>
                  </a:cubicBezTo>
                  <a:cubicBezTo>
                    <a:pt x="2137" y="81"/>
                    <a:pt x="2136" y="79"/>
                    <a:pt x="2135" y="77"/>
                  </a:cubicBezTo>
                  <a:cubicBezTo>
                    <a:pt x="2136" y="79"/>
                    <a:pt x="2136" y="81"/>
                    <a:pt x="2137" y="83"/>
                  </a:cubicBezTo>
                  <a:cubicBezTo>
                    <a:pt x="2136" y="85"/>
                    <a:pt x="2135" y="86"/>
                    <a:pt x="2134" y="88"/>
                  </a:cubicBezTo>
                  <a:cubicBezTo>
                    <a:pt x="2135" y="86"/>
                    <a:pt x="2136" y="85"/>
                    <a:pt x="2137" y="83"/>
                  </a:cubicBezTo>
                  <a:cubicBezTo>
                    <a:pt x="2137" y="85"/>
                    <a:pt x="2138" y="86"/>
                    <a:pt x="2138" y="88"/>
                  </a:cubicBezTo>
                  <a:cubicBezTo>
                    <a:pt x="2136" y="91"/>
                    <a:pt x="2135" y="95"/>
                    <a:pt x="2133" y="98"/>
                  </a:cubicBezTo>
                  <a:cubicBezTo>
                    <a:pt x="2133" y="97"/>
                    <a:pt x="2133" y="97"/>
                    <a:pt x="2132" y="97"/>
                  </a:cubicBezTo>
                  <a:cubicBezTo>
                    <a:pt x="2132" y="95"/>
                    <a:pt x="2132" y="94"/>
                    <a:pt x="2132" y="93"/>
                  </a:cubicBezTo>
                  <a:cubicBezTo>
                    <a:pt x="2132" y="91"/>
                    <a:pt x="2133" y="89"/>
                    <a:pt x="2134" y="88"/>
                  </a:cubicBezTo>
                  <a:cubicBezTo>
                    <a:pt x="2133" y="89"/>
                    <a:pt x="2132" y="91"/>
                    <a:pt x="2131" y="92"/>
                  </a:cubicBezTo>
                  <a:cubicBezTo>
                    <a:pt x="2131" y="92"/>
                    <a:pt x="2131" y="91"/>
                    <a:pt x="2131" y="91"/>
                  </a:cubicBezTo>
                  <a:cubicBezTo>
                    <a:pt x="2131" y="74"/>
                    <a:pt x="2130" y="60"/>
                    <a:pt x="2130" y="60"/>
                  </a:cubicBezTo>
                  <a:cubicBezTo>
                    <a:pt x="2130" y="65"/>
                    <a:pt x="2130" y="73"/>
                    <a:pt x="2129" y="81"/>
                  </a:cubicBezTo>
                  <a:cubicBezTo>
                    <a:pt x="2128" y="79"/>
                    <a:pt x="2128" y="76"/>
                    <a:pt x="2127" y="74"/>
                  </a:cubicBezTo>
                  <a:cubicBezTo>
                    <a:pt x="2128" y="79"/>
                    <a:pt x="2128" y="83"/>
                    <a:pt x="2128" y="88"/>
                  </a:cubicBezTo>
                  <a:cubicBezTo>
                    <a:pt x="2127" y="86"/>
                    <a:pt x="2126" y="84"/>
                    <a:pt x="2125" y="83"/>
                  </a:cubicBezTo>
                  <a:cubicBezTo>
                    <a:pt x="2126" y="85"/>
                    <a:pt x="2127" y="87"/>
                    <a:pt x="2128" y="89"/>
                  </a:cubicBezTo>
                  <a:cubicBezTo>
                    <a:pt x="2128" y="89"/>
                    <a:pt x="2128" y="89"/>
                    <a:pt x="2128" y="89"/>
                  </a:cubicBezTo>
                  <a:cubicBezTo>
                    <a:pt x="2128" y="93"/>
                    <a:pt x="2127" y="97"/>
                    <a:pt x="2127" y="101"/>
                  </a:cubicBezTo>
                  <a:cubicBezTo>
                    <a:pt x="2126" y="103"/>
                    <a:pt x="2125" y="104"/>
                    <a:pt x="2125" y="106"/>
                  </a:cubicBezTo>
                  <a:cubicBezTo>
                    <a:pt x="2123" y="100"/>
                    <a:pt x="2122" y="95"/>
                    <a:pt x="2120" y="90"/>
                  </a:cubicBezTo>
                  <a:cubicBezTo>
                    <a:pt x="2121" y="88"/>
                    <a:pt x="2123" y="85"/>
                    <a:pt x="2124" y="83"/>
                  </a:cubicBezTo>
                  <a:cubicBezTo>
                    <a:pt x="2123" y="85"/>
                    <a:pt x="2121" y="87"/>
                    <a:pt x="2119" y="89"/>
                  </a:cubicBezTo>
                  <a:cubicBezTo>
                    <a:pt x="2119" y="88"/>
                    <a:pt x="2118" y="87"/>
                    <a:pt x="2118" y="87"/>
                  </a:cubicBezTo>
                  <a:cubicBezTo>
                    <a:pt x="2118" y="76"/>
                    <a:pt x="2119" y="68"/>
                    <a:pt x="2119" y="68"/>
                  </a:cubicBezTo>
                  <a:cubicBezTo>
                    <a:pt x="2118" y="72"/>
                    <a:pt x="2117" y="77"/>
                    <a:pt x="2116" y="82"/>
                  </a:cubicBezTo>
                  <a:cubicBezTo>
                    <a:pt x="2116" y="81"/>
                    <a:pt x="2116" y="80"/>
                    <a:pt x="2116" y="80"/>
                  </a:cubicBezTo>
                  <a:cubicBezTo>
                    <a:pt x="2116" y="80"/>
                    <a:pt x="2116" y="81"/>
                    <a:pt x="2116" y="82"/>
                  </a:cubicBezTo>
                  <a:cubicBezTo>
                    <a:pt x="2115" y="80"/>
                    <a:pt x="2114" y="78"/>
                    <a:pt x="2112" y="75"/>
                  </a:cubicBezTo>
                  <a:cubicBezTo>
                    <a:pt x="2113" y="65"/>
                    <a:pt x="2114" y="56"/>
                    <a:pt x="2115" y="48"/>
                  </a:cubicBezTo>
                  <a:cubicBezTo>
                    <a:pt x="2114" y="55"/>
                    <a:pt x="2112" y="64"/>
                    <a:pt x="2111" y="73"/>
                  </a:cubicBezTo>
                  <a:cubicBezTo>
                    <a:pt x="2109" y="70"/>
                    <a:pt x="2107" y="67"/>
                    <a:pt x="2105" y="64"/>
                  </a:cubicBezTo>
                  <a:cubicBezTo>
                    <a:pt x="2105" y="62"/>
                    <a:pt x="2105" y="59"/>
                    <a:pt x="2105" y="57"/>
                  </a:cubicBezTo>
                  <a:cubicBezTo>
                    <a:pt x="2104" y="58"/>
                    <a:pt x="2104" y="60"/>
                    <a:pt x="2103" y="62"/>
                  </a:cubicBezTo>
                  <a:cubicBezTo>
                    <a:pt x="2101" y="59"/>
                    <a:pt x="2098" y="55"/>
                    <a:pt x="2095" y="52"/>
                  </a:cubicBezTo>
                  <a:cubicBezTo>
                    <a:pt x="2095" y="48"/>
                    <a:pt x="2095" y="46"/>
                    <a:pt x="2095" y="46"/>
                  </a:cubicBezTo>
                  <a:cubicBezTo>
                    <a:pt x="2095" y="48"/>
                    <a:pt x="2095" y="49"/>
                    <a:pt x="2094" y="51"/>
                  </a:cubicBezTo>
                  <a:cubicBezTo>
                    <a:pt x="2091" y="47"/>
                    <a:pt x="2087" y="43"/>
                    <a:pt x="2083" y="39"/>
                  </a:cubicBezTo>
                  <a:cubicBezTo>
                    <a:pt x="2083" y="37"/>
                    <a:pt x="2083" y="35"/>
                    <a:pt x="2082" y="34"/>
                  </a:cubicBezTo>
                  <a:cubicBezTo>
                    <a:pt x="2082" y="34"/>
                    <a:pt x="2083" y="36"/>
                    <a:pt x="2083" y="39"/>
                  </a:cubicBezTo>
                  <a:cubicBezTo>
                    <a:pt x="2081" y="37"/>
                    <a:pt x="2080" y="36"/>
                    <a:pt x="2078" y="34"/>
                  </a:cubicBezTo>
                  <a:cubicBezTo>
                    <a:pt x="2080" y="36"/>
                    <a:pt x="2081" y="38"/>
                    <a:pt x="2083" y="40"/>
                  </a:cubicBezTo>
                  <a:cubicBezTo>
                    <a:pt x="2083" y="40"/>
                    <a:pt x="2083" y="40"/>
                    <a:pt x="2083" y="41"/>
                  </a:cubicBezTo>
                  <a:cubicBezTo>
                    <a:pt x="2083" y="40"/>
                    <a:pt x="2083" y="40"/>
                    <a:pt x="2083" y="40"/>
                  </a:cubicBezTo>
                  <a:cubicBezTo>
                    <a:pt x="2087" y="45"/>
                    <a:pt x="2090" y="49"/>
                    <a:pt x="2094" y="53"/>
                  </a:cubicBezTo>
                  <a:cubicBezTo>
                    <a:pt x="2093" y="55"/>
                    <a:pt x="2092" y="59"/>
                    <a:pt x="2092" y="62"/>
                  </a:cubicBezTo>
                  <a:cubicBezTo>
                    <a:pt x="2089" y="60"/>
                    <a:pt x="2087" y="58"/>
                    <a:pt x="2084" y="56"/>
                  </a:cubicBezTo>
                  <a:cubicBezTo>
                    <a:pt x="2083" y="50"/>
                    <a:pt x="2083" y="44"/>
                    <a:pt x="2083" y="41"/>
                  </a:cubicBezTo>
                  <a:cubicBezTo>
                    <a:pt x="2083" y="45"/>
                    <a:pt x="2083" y="50"/>
                    <a:pt x="2082" y="55"/>
                  </a:cubicBezTo>
                  <a:cubicBezTo>
                    <a:pt x="2081" y="54"/>
                    <a:pt x="2080" y="53"/>
                    <a:pt x="2078" y="52"/>
                  </a:cubicBezTo>
                  <a:cubicBezTo>
                    <a:pt x="2080" y="53"/>
                    <a:pt x="2081" y="54"/>
                    <a:pt x="2082" y="55"/>
                  </a:cubicBezTo>
                  <a:cubicBezTo>
                    <a:pt x="2082" y="64"/>
                    <a:pt x="2081" y="73"/>
                    <a:pt x="2079" y="83"/>
                  </a:cubicBezTo>
                  <a:cubicBezTo>
                    <a:pt x="2079" y="82"/>
                    <a:pt x="2079" y="81"/>
                    <a:pt x="2079" y="81"/>
                  </a:cubicBezTo>
                  <a:cubicBezTo>
                    <a:pt x="2079" y="82"/>
                    <a:pt x="2079" y="82"/>
                    <a:pt x="2079" y="83"/>
                  </a:cubicBezTo>
                  <a:cubicBezTo>
                    <a:pt x="2078" y="88"/>
                    <a:pt x="2078" y="92"/>
                    <a:pt x="2077" y="97"/>
                  </a:cubicBezTo>
                  <a:cubicBezTo>
                    <a:pt x="2075" y="89"/>
                    <a:pt x="2073" y="81"/>
                    <a:pt x="2070" y="73"/>
                  </a:cubicBezTo>
                  <a:cubicBezTo>
                    <a:pt x="2070" y="72"/>
                    <a:pt x="2070" y="71"/>
                    <a:pt x="2070" y="71"/>
                  </a:cubicBezTo>
                  <a:cubicBezTo>
                    <a:pt x="2071" y="70"/>
                    <a:pt x="2072" y="69"/>
                    <a:pt x="2073" y="68"/>
                  </a:cubicBezTo>
                  <a:cubicBezTo>
                    <a:pt x="2075" y="72"/>
                    <a:pt x="2077" y="76"/>
                    <a:pt x="2079" y="81"/>
                  </a:cubicBezTo>
                  <a:cubicBezTo>
                    <a:pt x="2077" y="76"/>
                    <a:pt x="2075" y="72"/>
                    <a:pt x="2073" y="67"/>
                  </a:cubicBezTo>
                  <a:cubicBezTo>
                    <a:pt x="2074" y="67"/>
                    <a:pt x="2074" y="66"/>
                    <a:pt x="2075" y="65"/>
                  </a:cubicBezTo>
                  <a:cubicBezTo>
                    <a:pt x="2074" y="66"/>
                    <a:pt x="2074" y="66"/>
                    <a:pt x="2073" y="67"/>
                  </a:cubicBezTo>
                  <a:cubicBezTo>
                    <a:pt x="2067" y="54"/>
                    <a:pt x="2057" y="41"/>
                    <a:pt x="2045" y="25"/>
                  </a:cubicBezTo>
                  <a:cubicBezTo>
                    <a:pt x="2057" y="42"/>
                    <a:pt x="2066" y="55"/>
                    <a:pt x="2072" y="68"/>
                  </a:cubicBezTo>
                  <a:cubicBezTo>
                    <a:pt x="2072" y="68"/>
                    <a:pt x="2071" y="69"/>
                    <a:pt x="2070" y="70"/>
                  </a:cubicBezTo>
                  <a:cubicBezTo>
                    <a:pt x="2070" y="68"/>
                    <a:pt x="2070" y="66"/>
                    <a:pt x="2070" y="66"/>
                  </a:cubicBezTo>
                  <a:cubicBezTo>
                    <a:pt x="2070" y="68"/>
                    <a:pt x="2070" y="69"/>
                    <a:pt x="2069" y="71"/>
                  </a:cubicBezTo>
                  <a:cubicBezTo>
                    <a:pt x="2069" y="71"/>
                    <a:pt x="2069" y="71"/>
                    <a:pt x="2069" y="71"/>
                  </a:cubicBezTo>
                  <a:cubicBezTo>
                    <a:pt x="2065" y="61"/>
                    <a:pt x="2058" y="52"/>
                    <a:pt x="2049" y="42"/>
                  </a:cubicBezTo>
                  <a:cubicBezTo>
                    <a:pt x="2056" y="55"/>
                    <a:pt x="2061" y="65"/>
                    <a:pt x="2065" y="75"/>
                  </a:cubicBezTo>
                  <a:cubicBezTo>
                    <a:pt x="2064" y="76"/>
                    <a:pt x="2063" y="77"/>
                    <a:pt x="2062" y="77"/>
                  </a:cubicBezTo>
                  <a:cubicBezTo>
                    <a:pt x="2060" y="73"/>
                    <a:pt x="2058" y="70"/>
                    <a:pt x="2056" y="68"/>
                  </a:cubicBezTo>
                  <a:cubicBezTo>
                    <a:pt x="2055" y="63"/>
                    <a:pt x="2055" y="60"/>
                    <a:pt x="2055" y="60"/>
                  </a:cubicBezTo>
                  <a:cubicBezTo>
                    <a:pt x="2055" y="61"/>
                    <a:pt x="2055" y="64"/>
                    <a:pt x="2055" y="67"/>
                  </a:cubicBezTo>
                  <a:cubicBezTo>
                    <a:pt x="2049" y="57"/>
                    <a:pt x="2041" y="47"/>
                    <a:pt x="2030" y="38"/>
                  </a:cubicBezTo>
                  <a:cubicBezTo>
                    <a:pt x="2040" y="49"/>
                    <a:pt x="2048" y="60"/>
                    <a:pt x="2054" y="71"/>
                  </a:cubicBezTo>
                  <a:cubicBezTo>
                    <a:pt x="2054" y="75"/>
                    <a:pt x="2054" y="80"/>
                    <a:pt x="2053" y="85"/>
                  </a:cubicBezTo>
                  <a:cubicBezTo>
                    <a:pt x="2053" y="84"/>
                    <a:pt x="2053" y="84"/>
                    <a:pt x="2052" y="83"/>
                  </a:cubicBezTo>
                  <a:cubicBezTo>
                    <a:pt x="2052" y="84"/>
                    <a:pt x="2053" y="85"/>
                    <a:pt x="2053" y="86"/>
                  </a:cubicBezTo>
                  <a:cubicBezTo>
                    <a:pt x="2053" y="87"/>
                    <a:pt x="2053" y="88"/>
                    <a:pt x="2053" y="89"/>
                  </a:cubicBezTo>
                  <a:cubicBezTo>
                    <a:pt x="2051" y="92"/>
                    <a:pt x="2050" y="94"/>
                    <a:pt x="2048" y="97"/>
                  </a:cubicBezTo>
                  <a:cubicBezTo>
                    <a:pt x="2048" y="93"/>
                    <a:pt x="2048" y="90"/>
                    <a:pt x="2048" y="87"/>
                  </a:cubicBezTo>
                  <a:cubicBezTo>
                    <a:pt x="2049" y="84"/>
                    <a:pt x="2050" y="82"/>
                    <a:pt x="2050" y="80"/>
                  </a:cubicBezTo>
                  <a:cubicBezTo>
                    <a:pt x="2051" y="81"/>
                    <a:pt x="2051" y="82"/>
                    <a:pt x="2052" y="83"/>
                  </a:cubicBezTo>
                  <a:cubicBezTo>
                    <a:pt x="2052" y="81"/>
                    <a:pt x="2051" y="80"/>
                    <a:pt x="2050" y="79"/>
                  </a:cubicBezTo>
                  <a:cubicBezTo>
                    <a:pt x="2051" y="79"/>
                    <a:pt x="2051" y="78"/>
                    <a:pt x="2051" y="77"/>
                  </a:cubicBezTo>
                  <a:cubicBezTo>
                    <a:pt x="2051" y="77"/>
                    <a:pt x="2050" y="78"/>
                    <a:pt x="2050" y="79"/>
                  </a:cubicBezTo>
                  <a:cubicBezTo>
                    <a:pt x="2049" y="77"/>
                    <a:pt x="2049" y="76"/>
                    <a:pt x="2048" y="75"/>
                  </a:cubicBezTo>
                  <a:cubicBezTo>
                    <a:pt x="2049" y="77"/>
                    <a:pt x="2049" y="78"/>
                    <a:pt x="2050" y="79"/>
                  </a:cubicBezTo>
                  <a:cubicBezTo>
                    <a:pt x="2049" y="80"/>
                    <a:pt x="2048" y="81"/>
                    <a:pt x="2048" y="82"/>
                  </a:cubicBezTo>
                  <a:cubicBezTo>
                    <a:pt x="2048" y="73"/>
                    <a:pt x="2048" y="68"/>
                    <a:pt x="2048" y="68"/>
                  </a:cubicBezTo>
                  <a:cubicBezTo>
                    <a:pt x="2047" y="72"/>
                    <a:pt x="2047" y="78"/>
                    <a:pt x="2046" y="85"/>
                  </a:cubicBezTo>
                  <a:cubicBezTo>
                    <a:pt x="2043" y="90"/>
                    <a:pt x="2041" y="94"/>
                    <a:pt x="2040" y="99"/>
                  </a:cubicBezTo>
                  <a:cubicBezTo>
                    <a:pt x="2040" y="98"/>
                    <a:pt x="2039" y="97"/>
                    <a:pt x="2039" y="96"/>
                  </a:cubicBezTo>
                  <a:cubicBezTo>
                    <a:pt x="2039" y="92"/>
                    <a:pt x="2040" y="89"/>
                    <a:pt x="2040" y="89"/>
                  </a:cubicBezTo>
                  <a:cubicBezTo>
                    <a:pt x="2040" y="91"/>
                    <a:pt x="2039" y="92"/>
                    <a:pt x="2039" y="94"/>
                  </a:cubicBezTo>
                  <a:cubicBezTo>
                    <a:pt x="2038" y="91"/>
                    <a:pt x="2037" y="88"/>
                    <a:pt x="2037" y="85"/>
                  </a:cubicBezTo>
                  <a:cubicBezTo>
                    <a:pt x="2036" y="88"/>
                    <a:pt x="2036" y="91"/>
                    <a:pt x="2036" y="94"/>
                  </a:cubicBezTo>
                  <a:cubicBezTo>
                    <a:pt x="2036" y="97"/>
                    <a:pt x="2036" y="100"/>
                    <a:pt x="2036" y="103"/>
                  </a:cubicBezTo>
                  <a:cubicBezTo>
                    <a:pt x="2035" y="107"/>
                    <a:pt x="2033" y="112"/>
                    <a:pt x="2032" y="116"/>
                  </a:cubicBezTo>
                  <a:cubicBezTo>
                    <a:pt x="2030" y="112"/>
                    <a:pt x="2029" y="108"/>
                    <a:pt x="2028" y="104"/>
                  </a:cubicBezTo>
                  <a:cubicBezTo>
                    <a:pt x="2029" y="109"/>
                    <a:pt x="2030" y="115"/>
                    <a:pt x="2030" y="120"/>
                  </a:cubicBezTo>
                  <a:cubicBezTo>
                    <a:pt x="2029" y="124"/>
                    <a:pt x="2027" y="127"/>
                    <a:pt x="2026" y="130"/>
                  </a:cubicBezTo>
                  <a:cubicBezTo>
                    <a:pt x="2025" y="128"/>
                    <a:pt x="2024" y="126"/>
                    <a:pt x="2024" y="123"/>
                  </a:cubicBezTo>
                  <a:cubicBezTo>
                    <a:pt x="2025" y="115"/>
                    <a:pt x="2027" y="106"/>
                    <a:pt x="2029" y="98"/>
                  </a:cubicBezTo>
                  <a:cubicBezTo>
                    <a:pt x="2030" y="98"/>
                    <a:pt x="2030" y="97"/>
                    <a:pt x="2030" y="96"/>
                  </a:cubicBezTo>
                  <a:cubicBezTo>
                    <a:pt x="2030" y="96"/>
                    <a:pt x="2030" y="97"/>
                    <a:pt x="2029" y="97"/>
                  </a:cubicBezTo>
                  <a:cubicBezTo>
                    <a:pt x="2032" y="86"/>
                    <a:pt x="2035" y="76"/>
                    <a:pt x="2035" y="76"/>
                  </a:cubicBezTo>
                  <a:cubicBezTo>
                    <a:pt x="2030" y="83"/>
                    <a:pt x="2024" y="96"/>
                    <a:pt x="2020" y="109"/>
                  </a:cubicBezTo>
                  <a:cubicBezTo>
                    <a:pt x="2020" y="107"/>
                    <a:pt x="2019" y="106"/>
                    <a:pt x="2019" y="104"/>
                  </a:cubicBezTo>
                  <a:cubicBezTo>
                    <a:pt x="2021" y="97"/>
                    <a:pt x="2024" y="90"/>
                    <a:pt x="2027" y="84"/>
                  </a:cubicBezTo>
                  <a:cubicBezTo>
                    <a:pt x="2024" y="90"/>
                    <a:pt x="2021" y="96"/>
                    <a:pt x="2019" y="102"/>
                  </a:cubicBezTo>
                  <a:cubicBezTo>
                    <a:pt x="2018" y="102"/>
                    <a:pt x="2018" y="101"/>
                    <a:pt x="2018" y="101"/>
                  </a:cubicBezTo>
                  <a:cubicBezTo>
                    <a:pt x="2020" y="77"/>
                    <a:pt x="2016" y="62"/>
                    <a:pt x="2016" y="62"/>
                  </a:cubicBezTo>
                  <a:cubicBezTo>
                    <a:pt x="2017" y="69"/>
                    <a:pt x="2017" y="80"/>
                    <a:pt x="2015" y="91"/>
                  </a:cubicBezTo>
                  <a:cubicBezTo>
                    <a:pt x="2015" y="89"/>
                    <a:pt x="2015" y="88"/>
                    <a:pt x="2014" y="87"/>
                  </a:cubicBezTo>
                  <a:cubicBezTo>
                    <a:pt x="2014" y="88"/>
                    <a:pt x="2014" y="88"/>
                    <a:pt x="2014" y="88"/>
                  </a:cubicBezTo>
                  <a:cubicBezTo>
                    <a:pt x="2014" y="90"/>
                    <a:pt x="2014" y="93"/>
                    <a:pt x="2015" y="96"/>
                  </a:cubicBezTo>
                  <a:cubicBezTo>
                    <a:pt x="2014" y="101"/>
                    <a:pt x="2014" y="105"/>
                    <a:pt x="2013" y="110"/>
                  </a:cubicBezTo>
                  <a:cubicBezTo>
                    <a:pt x="2012" y="109"/>
                    <a:pt x="2012" y="107"/>
                    <a:pt x="2011" y="106"/>
                  </a:cubicBezTo>
                  <a:cubicBezTo>
                    <a:pt x="2012" y="103"/>
                    <a:pt x="2012" y="99"/>
                    <a:pt x="2013" y="96"/>
                  </a:cubicBezTo>
                  <a:cubicBezTo>
                    <a:pt x="2012" y="98"/>
                    <a:pt x="2011" y="100"/>
                    <a:pt x="2010" y="103"/>
                  </a:cubicBezTo>
                  <a:cubicBezTo>
                    <a:pt x="2009" y="101"/>
                    <a:pt x="2008" y="99"/>
                    <a:pt x="2008" y="98"/>
                  </a:cubicBezTo>
                  <a:cubicBezTo>
                    <a:pt x="2008" y="89"/>
                    <a:pt x="2009" y="82"/>
                    <a:pt x="2009" y="82"/>
                  </a:cubicBezTo>
                  <a:cubicBezTo>
                    <a:pt x="2007" y="97"/>
                    <a:pt x="2007" y="97"/>
                    <a:pt x="2007" y="97"/>
                  </a:cubicBezTo>
                  <a:cubicBezTo>
                    <a:pt x="2006" y="94"/>
                    <a:pt x="2005" y="92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89"/>
                    <a:pt x="2004" y="89"/>
                    <a:pt x="2003" y="88"/>
                  </a:cubicBezTo>
                  <a:cubicBezTo>
                    <a:pt x="2003" y="83"/>
                    <a:pt x="2003" y="78"/>
                    <a:pt x="2003" y="73"/>
                  </a:cubicBezTo>
                  <a:cubicBezTo>
                    <a:pt x="2006" y="70"/>
                    <a:pt x="2009" y="66"/>
                    <a:pt x="2012" y="63"/>
                  </a:cubicBezTo>
                  <a:cubicBezTo>
                    <a:pt x="2009" y="66"/>
                    <a:pt x="2006" y="69"/>
                    <a:pt x="2003" y="71"/>
                  </a:cubicBezTo>
                  <a:cubicBezTo>
                    <a:pt x="2003" y="65"/>
                    <a:pt x="2002" y="60"/>
                    <a:pt x="2002" y="60"/>
                  </a:cubicBezTo>
                  <a:cubicBezTo>
                    <a:pt x="2002" y="64"/>
                    <a:pt x="2002" y="68"/>
                    <a:pt x="2002" y="72"/>
                  </a:cubicBezTo>
                  <a:cubicBezTo>
                    <a:pt x="2000" y="74"/>
                    <a:pt x="1999" y="75"/>
                    <a:pt x="1998" y="77"/>
                  </a:cubicBezTo>
                  <a:cubicBezTo>
                    <a:pt x="1997" y="70"/>
                    <a:pt x="1997" y="64"/>
                    <a:pt x="1997" y="64"/>
                  </a:cubicBezTo>
                  <a:cubicBezTo>
                    <a:pt x="1997" y="66"/>
                    <a:pt x="1997" y="71"/>
                    <a:pt x="1996" y="78"/>
                  </a:cubicBezTo>
                  <a:cubicBezTo>
                    <a:pt x="1993" y="81"/>
                    <a:pt x="1991" y="85"/>
                    <a:pt x="1989" y="88"/>
                  </a:cubicBezTo>
                  <a:cubicBezTo>
                    <a:pt x="1989" y="64"/>
                    <a:pt x="1988" y="42"/>
                    <a:pt x="1988" y="42"/>
                  </a:cubicBezTo>
                  <a:cubicBezTo>
                    <a:pt x="1989" y="55"/>
                    <a:pt x="1986" y="77"/>
                    <a:pt x="1984" y="96"/>
                  </a:cubicBezTo>
                  <a:cubicBezTo>
                    <a:pt x="1982" y="100"/>
                    <a:pt x="1980" y="104"/>
                    <a:pt x="1979" y="107"/>
                  </a:cubicBezTo>
                  <a:cubicBezTo>
                    <a:pt x="1978" y="107"/>
                    <a:pt x="1978" y="106"/>
                    <a:pt x="1978" y="106"/>
                  </a:cubicBezTo>
                  <a:cubicBezTo>
                    <a:pt x="1979" y="87"/>
                    <a:pt x="1982" y="70"/>
                    <a:pt x="1982" y="70"/>
                  </a:cubicBezTo>
                  <a:cubicBezTo>
                    <a:pt x="1980" y="74"/>
                    <a:pt x="1977" y="98"/>
                    <a:pt x="1975" y="117"/>
                  </a:cubicBezTo>
                  <a:cubicBezTo>
                    <a:pt x="1975" y="118"/>
                    <a:pt x="1975" y="119"/>
                    <a:pt x="1975" y="120"/>
                  </a:cubicBezTo>
                  <a:cubicBezTo>
                    <a:pt x="1975" y="119"/>
                    <a:pt x="1975" y="119"/>
                    <a:pt x="1975" y="118"/>
                  </a:cubicBezTo>
                  <a:cubicBezTo>
                    <a:pt x="1975" y="119"/>
                    <a:pt x="1975" y="119"/>
                    <a:pt x="1975" y="120"/>
                  </a:cubicBezTo>
                  <a:cubicBezTo>
                    <a:pt x="1974" y="121"/>
                    <a:pt x="1974" y="121"/>
                    <a:pt x="1974" y="122"/>
                  </a:cubicBezTo>
                  <a:cubicBezTo>
                    <a:pt x="1974" y="115"/>
                    <a:pt x="1974" y="108"/>
                    <a:pt x="1974" y="101"/>
                  </a:cubicBezTo>
                  <a:cubicBezTo>
                    <a:pt x="1974" y="101"/>
                    <a:pt x="1974" y="100"/>
                    <a:pt x="1974" y="100"/>
                  </a:cubicBezTo>
                  <a:cubicBezTo>
                    <a:pt x="1974" y="100"/>
                    <a:pt x="1974" y="101"/>
                    <a:pt x="1974" y="101"/>
                  </a:cubicBezTo>
                  <a:cubicBezTo>
                    <a:pt x="1974" y="98"/>
                    <a:pt x="1974" y="94"/>
                    <a:pt x="1973" y="91"/>
                  </a:cubicBezTo>
                  <a:cubicBezTo>
                    <a:pt x="1975" y="88"/>
                    <a:pt x="1977" y="85"/>
                    <a:pt x="1979" y="83"/>
                  </a:cubicBezTo>
                  <a:cubicBezTo>
                    <a:pt x="1977" y="85"/>
                    <a:pt x="1975" y="87"/>
                    <a:pt x="1973" y="90"/>
                  </a:cubicBezTo>
                  <a:cubicBezTo>
                    <a:pt x="1973" y="79"/>
                    <a:pt x="1972" y="69"/>
                    <a:pt x="1972" y="61"/>
                  </a:cubicBezTo>
                  <a:cubicBezTo>
                    <a:pt x="1971" y="73"/>
                    <a:pt x="1969" y="87"/>
                    <a:pt x="1967" y="100"/>
                  </a:cubicBezTo>
                  <a:cubicBezTo>
                    <a:pt x="1963" y="107"/>
                    <a:pt x="1960" y="115"/>
                    <a:pt x="1958" y="123"/>
                  </a:cubicBezTo>
                  <a:cubicBezTo>
                    <a:pt x="1959" y="109"/>
                    <a:pt x="1960" y="92"/>
                    <a:pt x="1961" y="80"/>
                  </a:cubicBezTo>
                  <a:cubicBezTo>
                    <a:pt x="1963" y="73"/>
                    <a:pt x="1964" y="67"/>
                    <a:pt x="1964" y="61"/>
                  </a:cubicBezTo>
                  <a:cubicBezTo>
                    <a:pt x="1964" y="60"/>
                    <a:pt x="1964" y="60"/>
                    <a:pt x="1964" y="60"/>
                  </a:cubicBezTo>
                  <a:cubicBezTo>
                    <a:pt x="1955" y="75"/>
                    <a:pt x="1951" y="88"/>
                    <a:pt x="1949" y="102"/>
                  </a:cubicBezTo>
                  <a:cubicBezTo>
                    <a:pt x="1949" y="102"/>
                    <a:pt x="1949" y="101"/>
                    <a:pt x="1949" y="101"/>
                  </a:cubicBezTo>
                  <a:cubicBezTo>
                    <a:pt x="1950" y="68"/>
                    <a:pt x="1953" y="30"/>
                    <a:pt x="1953" y="30"/>
                  </a:cubicBezTo>
                  <a:cubicBezTo>
                    <a:pt x="1951" y="38"/>
                    <a:pt x="1948" y="60"/>
                    <a:pt x="1946" y="83"/>
                  </a:cubicBezTo>
                  <a:cubicBezTo>
                    <a:pt x="1943" y="87"/>
                    <a:pt x="1940" y="92"/>
                    <a:pt x="1938" y="97"/>
                  </a:cubicBezTo>
                  <a:cubicBezTo>
                    <a:pt x="1938" y="91"/>
                    <a:pt x="1937" y="85"/>
                    <a:pt x="1937" y="79"/>
                  </a:cubicBezTo>
                  <a:cubicBezTo>
                    <a:pt x="1937" y="78"/>
                    <a:pt x="1937" y="78"/>
                    <a:pt x="1938" y="78"/>
                  </a:cubicBezTo>
                  <a:cubicBezTo>
                    <a:pt x="1937" y="78"/>
                    <a:pt x="1937" y="78"/>
                    <a:pt x="1937" y="78"/>
                  </a:cubicBezTo>
                  <a:cubicBezTo>
                    <a:pt x="1935" y="58"/>
                    <a:pt x="1934" y="41"/>
                    <a:pt x="1934" y="41"/>
                  </a:cubicBezTo>
                  <a:cubicBezTo>
                    <a:pt x="1935" y="52"/>
                    <a:pt x="1935" y="67"/>
                    <a:pt x="1934" y="82"/>
                  </a:cubicBezTo>
                  <a:cubicBezTo>
                    <a:pt x="1932" y="84"/>
                    <a:pt x="1930" y="87"/>
                    <a:pt x="1928" y="92"/>
                  </a:cubicBezTo>
                  <a:cubicBezTo>
                    <a:pt x="1927" y="82"/>
                    <a:pt x="1928" y="72"/>
                    <a:pt x="1928" y="68"/>
                  </a:cubicBezTo>
                  <a:cubicBezTo>
                    <a:pt x="1927" y="77"/>
                    <a:pt x="1926" y="88"/>
                    <a:pt x="1924" y="99"/>
                  </a:cubicBezTo>
                  <a:cubicBezTo>
                    <a:pt x="1922" y="94"/>
                    <a:pt x="1921" y="89"/>
                    <a:pt x="1919" y="84"/>
                  </a:cubicBezTo>
                  <a:cubicBezTo>
                    <a:pt x="1921" y="90"/>
                    <a:pt x="1922" y="96"/>
                    <a:pt x="1923" y="101"/>
                  </a:cubicBezTo>
                  <a:cubicBezTo>
                    <a:pt x="1923" y="105"/>
                    <a:pt x="1922" y="109"/>
                    <a:pt x="1921" y="113"/>
                  </a:cubicBezTo>
                  <a:cubicBezTo>
                    <a:pt x="1921" y="110"/>
                    <a:pt x="1921" y="108"/>
                    <a:pt x="1921" y="105"/>
                  </a:cubicBezTo>
                  <a:cubicBezTo>
                    <a:pt x="1920" y="108"/>
                    <a:pt x="1920" y="115"/>
                    <a:pt x="1920" y="119"/>
                  </a:cubicBezTo>
                  <a:cubicBezTo>
                    <a:pt x="1919" y="120"/>
                    <a:pt x="1919" y="122"/>
                    <a:pt x="1919" y="124"/>
                  </a:cubicBezTo>
                  <a:cubicBezTo>
                    <a:pt x="1918" y="125"/>
                    <a:pt x="1918" y="127"/>
                    <a:pt x="1918" y="128"/>
                  </a:cubicBezTo>
                  <a:cubicBezTo>
                    <a:pt x="1917" y="124"/>
                    <a:pt x="1916" y="120"/>
                    <a:pt x="1915" y="116"/>
                  </a:cubicBezTo>
                  <a:cubicBezTo>
                    <a:pt x="1916" y="108"/>
                    <a:pt x="1917" y="100"/>
                    <a:pt x="1917" y="94"/>
                  </a:cubicBezTo>
                  <a:cubicBezTo>
                    <a:pt x="1918" y="92"/>
                    <a:pt x="1918" y="91"/>
                    <a:pt x="1919" y="89"/>
                  </a:cubicBezTo>
                  <a:cubicBezTo>
                    <a:pt x="1918" y="90"/>
                    <a:pt x="1918" y="91"/>
                    <a:pt x="1917" y="92"/>
                  </a:cubicBezTo>
                  <a:cubicBezTo>
                    <a:pt x="1918" y="87"/>
                    <a:pt x="1918" y="83"/>
                    <a:pt x="1918" y="83"/>
                  </a:cubicBezTo>
                  <a:cubicBezTo>
                    <a:pt x="1918" y="85"/>
                    <a:pt x="1917" y="89"/>
                    <a:pt x="1916" y="93"/>
                  </a:cubicBezTo>
                  <a:cubicBezTo>
                    <a:pt x="1915" y="96"/>
                    <a:pt x="1913" y="99"/>
                    <a:pt x="1912" y="102"/>
                  </a:cubicBezTo>
                  <a:cubicBezTo>
                    <a:pt x="1911" y="101"/>
                    <a:pt x="1911" y="100"/>
                    <a:pt x="1911" y="99"/>
                  </a:cubicBezTo>
                  <a:cubicBezTo>
                    <a:pt x="1913" y="80"/>
                    <a:pt x="1915" y="62"/>
                    <a:pt x="1915" y="62"/>
                  </a:cubicBezTo>
                  <a:cubicBezTo>
                    <a:pt x="1913" y="66"/>
                    <a:pt x="1911" y="80"/>
                    <a:pt x="1909" y="95"/>
                  </a:cubicBezTo>
                  <a:cubicBezTo>
                    <a:pt x="1909" y="94"/>
                    <a:pt x="1908" y="92"/>
                    <a:pt x="1907" y="90"/>
                  </a:cubicBezTo>
                  <a:cubicBezTo>
                    <a:pt x="1908" y="92"/>
                    <a:pt x="1909" y="94"/>
                    <a:pt x="1909" y="96"/>
                  </a:cubicBezTo>
                  <a:cubicBezTo>
                    <a:pt x="1909" y="101"/>
                    <a:pt x="1908" y="106"/>
                    <a:pt x="1908" y="110"/>
                  </a:cubicBezTo>
                  <a:cubicBezTo>
                    <a:pt x="1907" y="113"/>
                    <a:pt x="1906" y="116"/>
                    <a:pt x="1905" y="118"/>
                  </a:cubicBezTo>
                  <a:cubicBezTo>
                    <a:pt x="1903" y="94"/>
                    <a:pt x="1898" y="64"/>
                    <a:pt x="1898" y="64"/>
                  </a:cubicBezTo>
                  <a:cubicBezTo>
                    <a:pt x="1898" y="64"/>
                    <a:pt x="1898" y="73"/>
                    <a:pt x="1899" y="82"/>
                  </a:cubicBezTo>
                  <a:cubicBezTo>
                    <a:pt x="1900" y="88"/>
                    <a:pt x="1899" y="98"/>
                    <a:pt x="1897" y="108"/>
                  </a:cubicBezTo>
                  <a:cubicBezTo>
                    <a:pt x="1896" y="111"/>
                    <a:pt x="1895" y="114"/>
                    <a:pt x="1894" y="117"/>
                  </a:cubicBezTo>
                  <a:cubicBezTo>
                    <a:pt x="1894" y="108"/>
                    <a:pt x="1893" y="99"/>
                    <a:pt x="1891" y="90"/>
                  </a:cubicBezTo>
                  <a:cubicBezTo>
                    <a:pt x="1894" y="78"/>
                    <a:pt x="1899" y="66"/>
                    <a:pt x="1898" y="56"/>
                  </a:cubicBezTo>
                  <a:cubicBezTo>
                    <a:pt x="1895" y="62"/>
                    <a:pt x="1892" y="67"/>
                    <a:pt x="1890" y="72"/>
                  </a:cubicBezTo>
                  <a:cubicBezTo>
                    <a:pt x="1893" y="34"/>
                    <a:pt x="1886" y="19"/>
                    <a:pt x="1886" y="19"/>
                  </a:cubicBezTo>
                  <a:cubicBezTo>
                    <a:pt x="1886" y="19"/>
                    <a:pt x="1889" y="31"/>
                    <a:pt x="1888" y="54"/>
                  </a:cubicBezTo>
                  <a:cubicBezTo>
                    <a:pt x="1887" y="61"/>
                    <a:pt x="1886" y="74"/>
                    <a:pt x="1885" y="88"/>
                  </a:cubicBezTo>
                  <a:cubicBezTo>
                    <a:pt x="1883" y="92"/>
                    <a:pt x="1882" y="97"/>
                    <a:pt x="1882" y="101"/>
                  </a:cubicBezTo>
                  <a:cubicBezTo>
                    <a:pt x="1881" y="98"/>
                    <a:pt x="1880" y="95"/>
                    <a:pt x="1878" y="91"/>
                  </a:cubicBezTo>
                  <a:cubicBezTo>
                    <a:pt x="1879" y="89"/>
                    <a:pt x="1879" y="87"/>
                    <a:pt x="1880" y="85"/>
                  </a:cubicBezTo>
                  <a:cubicBezTo>
                    <a:pt x="1879" y="87"/>
                    <a:pt x="1879" y="88"/>
                    <a:pt x="1878" y="90"/>
                  </a:cubicBezTo>
                  <a:cubicBezTo>
                    <a:pt x="1878" y="89"/>
                    <a:pt x="1877" y="88"/>
                    <a:pt x="1877" y="87"/>
                  </a:cubicBezTo>
                  <a:cubicBezTo>
                    <a:pt x="1877" y="83"/>
                    <a:pt x="1877" y="78"/>
                    <a:pt x="1877" y="74"/>
                  </a:cubicBezTo>
                  <a:cubicBezTo>
                    <a:pt x="1877" y="46"/>
                    <a:pt x="1867" y="40"/>
                    <a:pt x="1867" y="40"/>
                  </a:cubicBezTo>
                  <a:cubicBezTo>
                    <a:pt x="1867" y="40"/>
                    <a:pt x="1873" y="44"/>
                    <a:pt x="1873" y="70"/>
                  </a:cubicBezTo>
                  <a:cubicBezTo>
                    <a:pt x="1873" y="84"/>
                    <a:pt x="1868" y="108"/>
                    <a:pt x="1863" y="125"/>
                  </a:cubicBezTo>
                  <a:cubicBezTo>
                    <a:pt x="1863" y="123"/>
                    <a:pt x="1863" y="120"/>
                    <a:pt x="1862" y="118"/>
                  </a:cubicBezTo>
                  <a:cubicBezTo>
                    <a:pt x="1863" y="111"/>
                    <a:pt x="1864" y="105"/>
                    <a:pt x="1864" y="98"/>
                  </a:cubicBezTo>
                  <a:cubicBezTo>
                    <a:pt x="1863" y="101"/>
                    <a:pt x="1862" y="104"/>
                    <a:pt x="1862" y="107"/>
                  </a:cubicBezTo>
                  <a:cubicBezTo>
                    <a:pt x="1862" y="107"/>
                    <a:pt x="1862" y="106"/>
                    <a:pt x="1862" y="106"/>
                  </a:cubicBezTo>
                  <a:cubicBezTo>
                    <a:pt x="1862" y="97"/>
                    <a:pt x="1863" y="83"/>
                    <a:pt x="1869" y="75"/>
                  </a:cubicBezTo>
                  <a:cubicBezTo>
                    <a:pt x="1866" y="77"/>
                    <a:pt x="1863" y="82"/>
                    <a:pt x="1861" y="87"/>
                  </a:cubicBezTo>
                  <a:cubicBezTo>
                    <a:pt x="1862" y="78"/>
                    <a:pt x="1862" y="71"/>
                    <a:pt x="1862" y="71"/>
                  </a:cubicBezTo>
                  <a:cubicBezTo>
                    <a:pt x="1861" y="75"/>
                    <a:pt x="1858" y="97"/>
                    <a:pt x="1854" y="116"/>
                  </a:cubicBezTo>
                  <a:cubicBezTo>
                    <a:pt x="1854" y="114"/>
                    <a:pt x="1854" y="112"/>
                    <a:pt x="1853" y="110"/>
                  </a:cubicBezTo>
                  <a:cubicBezTo>
                    <a:pt x="1854" y="99"/>
                    <a:pt x="1855" y="87"/>
                    <a:pt x="1856" y="78"/>
                  </a:cubicBezTo>
                  <a:cubicBezTo>
                    <a:pt x="1858" y="71"/>
                    <a:pt x="1860" y="63"/>
                    <a:pt x="1862" y="55"/>
                  </a:cubicBezTo>
                  <a:cubicBezTo>
                    <a:pt x="1862" y="54"/>
                    <a:pt x="1862" y="52"/>
                    <a:pt x="1862" y="51"/>
                  </a:cubicBezTo>
                  <a:cubicBezTo>
                    <a:pt x="1860" y="54"/>
                    <a:pt x="1859" y="57"/>
                    <a:pt x="1858" y="60"/>
                  </a:cubicBezTo>
                  <a:cubicBezTo>
                    <a:pt x="1858" y="60"/>
                    <a:pt x="1858" y="59"/>
                    <a:pt x="1858" y="59"/>
                  </a:cubicBezTo>
                  <a:cubicBezTo>
                    <a:pt x="1858" y="60"/>
                    <a:pt x="1858" y="60"/>
                    <a:pt x="1858" y="60"/>
                  </a:cubicBezTo>
                  <a:cubicBezTo>
                    <a:pt x="1854" y="70"/>
                    <a:pt x="1851" y="80"/>
                    <a:pt x="1848" y="89"/>
                  </a:cubicBezTo>
                  <a:cubicBezTo>
                    <a:pt x="1854" y="30"/>
                    <a:pt x="1851" y="15"/>
                    <a:pt x="1850" y="13"/>
                  </a:cubicBezTo>
                  <a:cubicBezTo>
                    <a:pt x="1850" y="15"/>
                    <a:pt x="1851" y="22"/>
                    <a:pt x="1847" y="56"/>
                  </a:cubicBezTo>
                  <a:cubicBezTo>
                    <a:pt x="1845" y="68"/>
                    <a:pt x="1844" y="80"/>
                    <a:pt x="1842" y="91"/>
                  </a:cubicBezTo>
                  <a:cubicBezTo>
                    <a:pt x="1841" y="85"/>
                    <a:pt x="1839" y="79"/>
                    <a:pt x="1837" y="74"/>
                  </a:cubicBezTo>
                  <a:cubicBezTo>
                    <a:pt x="1838" y="51"/>
                    <a:pt x="1839" y="31"/>
                    <a:pt x="1839" y="31"/>
                  </a:cubicBezTo>
                  <a:cubicBezTo>
                    <a:pt x="1837" y="38"/>
                    <a:pt x="1835" y="53"/>
                    <a:pt x="1834" y="69"/>
                  </a:cubicBezTo>
                  <a:cubicBezTo>
                    <a:pt x="1833" y="68"/>
                    <a:pt x="1832" y="67"/>
                    <a:pt x="1831" y="65"/>
                  </a:cubicBezTo>
                  <a:cubicBezTo>
                    <a:pt x="1832" y="67"/>
                    <a:pt x="1833" y="69"/>
                    <a:pt x="1834" y="71"/>
                  </a:cubicBezTo>
                  <a:cubicBezTo>
                    <a:pt x="1834" y="71"/>
                    <a:pt x="1834" y="72"/>
                    <a:pt x="1834" y="73"/>
                  </a:cubicBezTo>
                  <a:cubicBezTo>
                    <a:pt x="1831" y="77"/>
                    <a:pt x="1828" y="81"/>
                    <a:pt x="1826" y="86"/>
                  </a:cubicBezTo>
                  <a:cubicBezTo>
                    <a:pt x="1825" y="85"/>
                    <a:pt x="1825" y="84"/>
                    <a:pt x="1824" y="83"/>
                  </a:cubicBezTo>
                  <a:cubicBezTo>
                    <a:pt x="1822" y="61"/>
                    <a:pt x="1819" y="38"/>
                    <a:pt x="1816" y="28"/>
                  </a:cubicBezTo>
                  <a:cubicBezTo>
                    <a:pt x="1816" y="28"/>
                    <a:pt x="1820" y="54"/>
                    <a:pt x="1823" y="83"/>
                  </a:cubicBezTo>
                  <a:cubicBezTo>
                    <a:pt x="1822" y="82"/>
                    <a:pt x="1821" y="81"/>
                    <a:pt x="1820" y="80"/>
                  </a:cubicBezTo>
                  <a:cubicBezTo>
                    <a:pt x="1822" y="81"/>
                    <a:pt x="1823" y="82"/>
                    <a:pt x="1824" y="84"/>
                  </a:cubicBezTo>
                  <a:cubicBezTo>
                    <a:pt x="1824" y="85"/>
                    <a:pt x="1824" y="86"/>
                    <a:pt x="1824" y="88"/>
                  </a:cubicBezTo>
                  <a:cubicBezTo>
                    <a:pt x="1824" y="86"/>
                    <a:pt x="1824" y="85"/>
                    <a:pt x="1824" y="84"/>
                  </a:cubicBezTo>
                  <a:cubicBezTo>
                    <a:pt x="1824" y="85"/>
                    <a:pt x="1825" y="86"/>
                    <a:pt x="1826" y="87"/>
                  </a:cubicBezTo>
                  <a:cubicBezTo>
                    <a:pt x="1825" y="88"/>
                    <a:pt x="1825" y="89"/>
                    <a:pt x="1824" y="90"/>
                  </a:cubicBezTo>
                  <a:cubicBezTo>
                    <a:pt x="1824" y="88"/>
                    <a:pt x="1824" y="88"/>
                    <a:pt x="1824" y="88"/>
                  </a:cubicBezTo>
                  <a:cubicBezTo>
                    <a:pt x="1824" y="88"/>
                    <a:pt x="1824" y="89"/>
                    <a:pt x="1824" y="90"/>
                  </a:cubicBezTo>
                  <a:cubicBezTo>
                    <a:pt x="1822" y="95"/>
                    <a:pt x="1821" y="100"/>
                    <a:pt x="1819" y="105"/>
                  </a:cubicBezTo>
                  <a:cubicBezTo>
                    <a:pt x="1819" y="105"/>
                    <a:pt x="1819" y="105"/>
                    <a:pt x="1819" y="105"/>
                  </a:cubicBezTo>
                  <a:cubicBezTo>
                    <a:pt x="1819" y="104"/>
                    <a:pt x="1819" y="104"/>
                    <a:pt x="1819" y="103"/>
                  </a:cubicBezTo>
                  <a:cubicBezTo>
                    <a:pt x="1819" y="104"/>
                    <a:pt x="1819" y="104"/>
                    <a:pt x="1819" y="105"/>
                  </a:cubicBezTo>
                  <a:cubicBezTo>
                    <a:pt x="1816" y="95"/>
                    <a:pt x="1814" y="87"/>
                    <a:pt x="1812" y="81"/>
                  </a:cubicBezTo>
                  <a:cubicBezTo>
                    <a:pt x="1813" y="85"/>
                    <a:pt x="1814" y="90"/>
                    <a:pt x="1815" y="95"/>
                  </a:cubicBezTo>
                  <a:cubicBezTo>
                    <a:pt x="1815" y="100"/>
                    <a:pt x="1814" y="104"/>
                    <a:pt x="1813" y="109"/>
                  </a:cubicBezTo>
                  <a:cubicBezTo>
                    <a:pt x="1814" y="104"/>
                    <a:pt x="1815" y="100"/>
                    <a:pt x="1815" y="95"/>
                  </a:cubicBezTo>
                  <a:cubicBezTo>
                    <a:pt x="1816" y="100"/>
                    <a:pt x="1817" y="105"/>
                    <a:pt x="1818" y="110"/>
                  </a:cubicBezTo>
                  <a:cubicBezTo>
                    <a:pt x="1818" y="110"/>
                    <a:pt x="1818" y="111"/>
                    <a:pt x="1818" y="111"/>
                  </a:cubicBezTo>
                  <a:cubicBezTo>
                    <a:pt x="1817" y="116"/>
                    <a:pt x="1815" y="122"/>
                    <a:pt x="1812" y="127"/>
                  </a:cubicBezTo>
                  <a:cubicBezTo>
                    <a:pt x="1812" y="125"/>
                    <a:pt x="1811" y="123"/>
                    <a:pt x="1811" y="120"/>
                  </a:cubicBezTo>
                  <a:cubicBezTo>
                    <a:pt x="1812" y="117"/>
                    <a:pt x="1813" y="113"/>
                    <a:pt x="1813" y="109"/>
                  </a:cubicBezTo>
                  <a:cubicBezTo>
                    <a:pt x="1813" y="112"/>
                    <a:pt x="1812" y="116"/>
                    <a:pt x="1811" y="119"/>
                  </a:cubicBezTo>
                  <a:cubicBezTo>
                    <a:pt x="1809" y="111"/>
                    <a:pt x="1807" y="103"/>
                    <a:pt x="1807" y="95"/>
                  </a:cubicBezTo>
                  <a:cubicBezTo>
                    <a:pt x="1807" y="96"/>
                    <a:pt x="1807" y="96"/>
                    <a:pt x="1807" y="96"/>
                  </a:cubicBezTo>
                  <a:cubicBezTo>
                    <a:pt x="1807" y="98"/>
                    <a:pt x="1807" y="98"/>
                    <a:pt x="1807" y="98"/>
                  </a:cubicBezTo>
                  <a:cubicBezTo>
                    <a:pt x="1807" y="97"/>
                    <a:pt x="1807" y="96"/>
                    <a:pt x="1807" y="95"/>
                  </a:cubicBezTo>
                  <a:cubicBezTo>
                    <a:pt x="1807" y="84"/>
                    <a:pt x="1805" y="69"/>
                    <a:pt x="1799" y="60"/>
                  </a:cubicBezTo>
                  <a:cubicBezTo>
                    <a:pt x="1803" y="70"/>
                    <a:pt x="1805" y="82"/>
                    <a:pt x="1805" y="93"/>
                  </a:cubicBezTo>
                  <a:cubicBezTo>
                    <a:pt x="1805" y="101"/>
                    <a:pt x="1803" y="109"/>
                    <a:pt x="1801" y="116"/>
                  </a:cubicBezTo>
                  <a:cubicBezTo>
                    <a:pt x="1799" y="115"/>
                    <a:pt x="1799" y="117"/>
                    <a:pt x="1800" y="120"/>
                  </a:cubicBezTo>
                  <a:cubicBezTo>
                    <a:pt x="1800" y="121"/>
                    <a:pt x="1799" y="121"/>
                    <a:pt x="1799" y="122"/>
                  </a:cubicBezTo>
                  <a:cubicBezTo>
                    <a:pt x="1798" y="119"/>
                    <a:pt x="1797" y="115"/>
                    <a:pt x="1796" y="112"/>
                  </a:cubicBezTo>
                  <a:cubicBezTo>
                    <a:pt x="1797" y="107"/>
                    <a:pt x="1797" y="103"/>
                    <a:pt x="1797" y="98"/>
                  </a:cubicBezTo>
                  <a:cubicBezTo>
                    <a:pt x="1797" y="90"/>
                    <a:pt x="1796" y="82"/>
                    <a:pt x="1794" y="74"/>
                  </a:cubicBezTo>
                  <a:cubicBezTo>
                    <a:pt x="1793" y="83"/>
                    <a:pt x="1793" y="93"/>
                    <a:pt x="1793" y="102"/>
                  </a:cubicBezTo>
                  <a:cubicBezTo>
                    <a:pt x="1790" y="94"/>
                    <a:pt x="1787" y="86"/>
                    <a:pt x="1785" y="81"/>
                  </a:cubicBezTo>
                  <a:cubicBezTo>
                    <a:pt x="1785" y="86"/>
                    <a:pt x="1785" y="86"/>
                    <a:pt x="1785" y="86"/>
                  </a:cubicBezTo>
                  <a:cubicBezTo>
                    <a:pt x="1785" y="97"/>
                    <a:pt x="1788" y="108"/>
                    <a:pt x="1792" y="118"/>
                  </a:cubicBezTo>
                  <a:cubicBezTo>
                    <a:pt x="1791" y="119"/>
                    <a:pt x="1791" y="120"/>
                    <a:pt x="1791" y="121"/>
                  </a:cubicBezTo>
                  <a:cubicBezTo>
                    <a:pt x="1791" y="123"/>
                    <a:pt x="1790" y="126"/>
                    <a:pt x="1789" y="128"/>
                  </a:cubicBezTo>
                  <a:cubicBezTo>
                    <a:pt x="1786" y="121"/>
                    <a:pt x="1784" y="113"/>
                    <a:pt x="1782" y="106"/>
                  </a:cubicBezTo>
                  <a:cubicBezTo>
                    <a:pt x="1782" y="101"/>
                    <a:pt x="1781" y="96"/>
                    <a:pt x="1780" y="92"/>
                  </a:cubicBezTo>
                  <a:cubicBezTo>
                    <a:pt x="1780" y="91"/>
                    <a:pt x="1780" y="90"/>
                    <a:pt x="1780" y="89"/>
                  </a:cubicBezTo>
                  <a:cubicBezTo>
                    <a:pt x="1780" y="90"/>
                    <a:pt x="1780" y="90"/>
                    <a:pt x="1780" y="91"/>
                  </a:cubicBezTo>
                  <a:cubicBezTo>
                    <a:pt x="1779" y="85"/>
                    <a:pt x="1777" y="79"/>
                    <a:pt x="1774" y="73"/>
                  </a:cubicBezTo>
                  <a:cubicBezTo>
                    <a:pt x="1774" y="73"/>
                    <a:pt x="1774" y="72"/>
                    <a:pt x="1774" y="71"/>
                  </a:cubicBezTo>
                  <a:cubicBezTo>
                    <a:pt x="1774" y="71"/>
                    <a:pt x="1773" y="72"/>
                    <a:pt x="1773" y="73"/>
                  </a:cubicBezTo>
                  <a:cubicBezTo>
                    <a:pt x="1773" y="72"/>
                    <a:pt x="1773" y="71"/>
                    <a:pt x="1772" y="71"/>
                  </a:cubicBezTo>
                  <a:cubicBezTo>
                    <a:pt x="1772" y="72"/>
                    <a:pt x="1773" y="73"/>
                    <a:pt x="1773" y="73"/>
                  </a:cubicBezTo>
                  <a:cubicBezTo>
                    <a:pt x="1770" y="79"/>
                    <a:pt x="1768" y="85"/>
                    <a:pt x="1766" y="91"/>
                  </a:cubicBezTo>
                  <a:cubicBezTo>
                    <a:pt x="1766" y="90"/>
                    <a:pt x="1766" y="90"/>
                    <a:pt x="1766" y="89"/>
                  </a:cubicBezTo>
                  <a:cubicBezTo>
                    <a:pt x="1766" y="90"/>
                    <a:pt x="1766" y="91"/>
                    <a:pt x="1766" y="92"/>
                  </a:cubicBezTo>
                  <a:cubicBezTo>
                    <a:pt x="1765" y="96"/>
                    <a:pt x="1765" y="101"/>
                    <a:pt x="1764" y="106"/>
                  </a:cubicBezTo>
                  <a:cubicBezTo>
                    <a:pt x="1763" y="113"/>
                    <a:pt x="1760" y="121"/>
                    <a:pt x="1757" y="128"/>
                  </a:cubicBezTo>
                  <a:cubicBezTo>
                    <a:pt x="1756" y="126"/>
                    <a:pt x="1756" y="123"/>
                    <a:pt x="1755" y="121"/>
                  </a:cubicBezTo>
                  <a:cubicBezTo>
                    <a:pt x="1755" y="120"/>
                    <a:pt x="1755" y="119"/>
                    <a:pt x="1755" y="118"/>
                  </a:cubicBezTo>
                  <a:cubicBezTo>
                    <a:pt x="1758" y="108"/>
                    <a:pt x="1761" y="97"/>
                    <a:pt x="1761" y="86"/>
                  </a:cubicBezTo>
                  <a:cubicBezTo>
                    <a:pt x="1761" y="81"/>
                    <a:pt x="1761" y="81"/>
                    <a:pt x="1761" y="81"/>
                  </a:cubicBezTo>
                  <a:cubicBezTo>
                    <a:pt x="1759" y="86"/>
                    <a:pt x="1756" y="94"/>
                    <a:pt x="1753" y="102"/>
                  </a:cubicBezTo>
                  <a:cubicBezTo>
                    <a:pt x="1753" y="93"/>
                    <a:pt x="1754" y="83"/>
                    <a:pt x="1752" y="74"/>
                  </a:cubicBezTo>
                  <a:cubicBezTo>
                    <a:pt x="1750" y="82"/>
                    <a:pt x="1749" y="90"/>
                    <a:pt x="1749" y="98"/>
                  </a:cubicBezTo>
                  <a:cubicBezTo>
                    <a:pt x="1749" y="103"/>
                    <a:pt x="1750" y="107"/>
                    <a:pt x="1750" y="112"/>
                  </a:cubicBezTo>
                  <a:cubicBezTo>
                    <a:pt x="1749" y="115"/>
                    <a:pt x="1748" y="119"/>
                    <a:pt x="1747" y="122"/>
                  </a:cubicBezTo>
                  <a:cubicBezTo>
                    <a:pt x="1744" y="112"/>
                    <a:pt x="1741" y="103"/>
                    <a:pt x="1741" y="93"/>
                  </a:cubicBezTo>
                  <a:cubicBezTo>
                    <a:pt x="1741" y="82"/>
                    <a:pt x="1743" y="70"/>
                    <a:pt x="1747" y="60"/>
                  </a:cubicBezTo>
                  <a:cubicBezTo>
                    <a:pt x="1742" y="69"/>
                    <a:pt x="1740" y="84"/>
                    <a:pt x="1740" y="95"/>
                  </a:cubicBezTo>
                  <a:cubicBezTo>
                    <a:pt x="1740" y="96"/>
                    <a:pt x="1740" y="97"/>
                    <a:pt x="1740" y="98"/>
                  </a:cubicBezTo>
                  <a:cubicBezTo>
                    <a:pt x="1739" y="96"/>
                    <a:pt x="1739" y="96"/>
                    <a:pt x="1739" y="96"/>
                  </a:cubicBezTo>
                  <a:cubicBezTo>
                    <a:pt x="1739" y="95"/>
                    <a:pt x="1739" y="95"/>
                    <a:pt x="1739" y="95"/>
                  </a:cubicBezTo>
                  <a:cubicBezTo>
                    <a:pt x="1739" y="103"/>
                    <a:pt x="1738" y="111"/>
                    <a:pt x="1736" y="119"/>
                  </a:cubicBezTo>
                  <a:cubicBezTo>
                    <a:pt x="1735" y="116"/>
                    <a:pt x="1734" y="112"/>
                    <a:pt x="1733" y="109"/>
                  </a:cubicBezTo>
                  <a:cubicBezTo>
                    <a:pt x="1734" y="113"/>
                    <a:pt x="1735" y="117"/>
                    <a:pt x="1735" y="120"/>
                  </a:cubicBezTo>
                  <a:cubicBezTo>
                    <a:pt x="1735" y="123"/>
                    <a:pt x="1734" y="125"/>
                    <a:pt x="1734" y="127"/>
                  </a:cubicBezTo>
                  <a:cubicBezTo>
                    <a:pt x="1732" y="122"/>
                    <a:pt x="1730" y="116"/>
                    <a:pt x="1728" y="111"/>
                  </a:cubicBezTo>
                  <a:cubicBezTo>
                    <a:pt x="1728" y="109"/>
                    <a:pt x="1728" y="108"/>
                    <a:pt x="1727" y="107"/>
                  </a:cubicBezTo>
                  <a:cubicBezTo>
                    <a:pt x="1727" y="106"/>
                    <a:pt x="1727" y="104"/>
                    <a:pt x="1727" y="103"/>
                  </a:cubicBezTo>
                  <a:cubicBezTo>
                    <a:pt x="1727" y="104"/>
                    <a:pt x="1727" y="105"/>
                    <a:pt x="1727" y="105"/>
                  </a:cubicBezTo>
                  <a:cubicBezTo>
                    <a:pt x="1726" y="99"/>
                    <a:pt x="1724" y="93"/>
                    <a:pt x="1721" y="87"/>
                  </a:cubicBezTo>
                  <a:cubicBezTo>
                    <a:pt x="1722" y="84"/>
                    <a:pt x="1724" y="82"/>
                    <a:pt x="1726" y="80"/>
                  </a:cubicBezTo>
                  <a:cubicBezTo>
                    <a:pt x="1724" y="82"/>
                    <a:pt x="1722" y="84"/>
                    <a:pt x="1720" y="86"/>
                  </a:cubicBezTo>
                  <a:cubicBezTo>
                    <a:pt x="1718" y="81"/>
                    <a:pt x="1715" y="77"/>
                    <a:pt x="1712" y="73"/>
                  </a:cubicBezTo>
                  <a:cubicBezTo>
                    <a:pt x="1715" y="77"/>
                    <a:pt x="1717" y="83"/>
                    <a:pt x="1718" y="90"/>
                  </a:cubicBezTo>
                  <a:cubicBezTo>
                    <a:pt x="1716" y="94"/>
                    <a:pt x="1714" y="99"/>
                    <a:pt x="1714" y="103"/>
                  </a:cubicBezTo>
                  <a:cubicBezTo>
                    <a:pt x="1712" y="97"/>
                    <a:pt x="1710" y="91"/>
                    <a:pt x="1708" y="85"/>
                  </a:cubicBezTo>
                  <a:cubicBezTo>
                    <a:pt x="1710" y="91"/>
                    <a:pt x="1710" y="97"/>
                    <a:pt x="1710" y="103"/>
                  </a:cubicBezTo>
                  <a:cubicBezTo>
                    <a:pt x="1710" y="108"/>
                    <a:pt x="1709" y="114"/>
                    <a:pt x="1709" y="119"/>
                  </a:cubicBezTo>
                  <a:cubicBezTo>
                    <a:pt x="1707" y="111"/>
                    <a:pt x="1706" y="104"/>
                    <a:pt x="1706" y="96"/>
                  </a:cubicBezTo>
                  <a:cubicBezTo>
                    <a:pt x="1706" y="87"/>
                    <a:pt x="1710" y="73"/>
                    <a:pt x="1715" y="65"/>
                  </a:cubicBezTo>
                  <a:cubicBezTo>
                    <a:pt x="1706" y="76"/>
                    <a:pt x="1702" y="96"/>
                    <a:pt x="1702" y="108"/>
                  </a:cubicBezTo>
                  <a:cubicBezTo>
                    <a:pt x="1702" y="119"/>
                    <a:pt x="1705" y="130"/>
                    <a:pt x="1705" y="141"/>
                  </a:cubicBezTo>
                  <a:cubicBezTo>
                    <a:pt x="1705" y="146"/>
                    <a:pt x="1705" y="150"/>
                    <a:pt x="1704" y="154"/>
                  </a:cubicBezTo>
                  <a:cubicBezTo>
                    <a:pt x="1698" y="135"/>
                    <a:pt x="1703" y="113"/>
                    <a:pt x="1699" y="93"/>
                  </a:cubicBezTo>
                  <a:cubicBezTo>
                    <a:pt x="1696" y="79"/>
                    <a:pt x="1691" y="64"/>
                    <a:pt x="1685" y="51"/>
                  </a:cubicBezTo>
                  <a:cubicBezTo>
                    <a:pt x="1684" y="52"/>
                    <a:pt x="1684" y="54"/>
                    <a:pt x="1684" y="55"/>
                  </a:cubicBezTo>
                  <a:cubicBezTo>
                    <a:pt x="1691" y="76"/>
                    <a:pt x="1693" y="92"/>
                    <a:pt x="1694" y="105"/>
                  </a:cubicBezTo>
                  <a:cubicBezTo>
                    <a:pt x="1693" y="109"/>
                    <a:pt x="1692" y="114"/>
                    <a:pt x="1692" y="118"/>
                  </a:cubicBezTo>
                  <a:cubicBezTo>
                    <a:pt x="1690" y="101"/>
                    <a:pt x="1686" y="82"/>
                    <a:pt x="1677" y="75"/>
                  </a:cubicBezTo>
                  <a:cubicBezTo>
                    <a:pt x="1683" y="83"/>
                    <a:pt x="1685" y="97"/>
                    <a:pt x="1685" y="106"/>
                  </a:cubicBezTo>
                  <a:cubicBezTo>
                    <a:pt x="1685" y="106"/>
                    <a:pt x="1685" y="107"/>
                    <a:pt x="1685" y="107"/>
                  </a:cubicBezTo>
                  <a:cubicBezTo>
                    <a:pt x="1684" y="104"/>
                    <a:pt x="1683" y="101"/>
                    <a:pt x="1683" y="98"/>
                  </a:cubicBezTo>
                  <a:cubicBezTo>
                    <a:pt x="1683" y="105"/>
                    <a:pt x="1683" y="111"/>
                    <a:pt x="1684" y="118"/>
                  </a:cubicBezTo>
                  <a:cubicBezTo>
                    <a:pt x="1684" y="122"/>
                    <a:pt x="1683" y="126"/>
                    <a:pt x="1682" y="130"/>
                  </a:cubicBezTo>
                  <a:cubicBezTo>
                    <a:pt x="1681" y="124"/>
                    <a:pt x="1679" y="118"/>
                    <a:pt x="1678" y="113"/>
                  </a:cubicBezTo>
                  <a:cubicBezTo>
                    <a:pt x="1679" y="121"/>
                    <a:pt x="1681" y="128"/>
                    <a:pt x="1681" y="136"/>
                  </a:cubicBezTo>
                  <a:cubicBezTo>
                    <a:pt x="1680" y="140"/>
                    <a:pt x="1679" y="144"/>
                    <a:pt x="1679" y="148"/>
                  </a:cubicBezTo>
                  <a:cubicBezTo>
                    <a:pt x="1679" y="147"/>
                    <a:pt x="1678" y="147"/>
                    <a:pt x="1678" y="146"/>
                  </a:cubicBezTo>
                  <a:cubicBezTo>
                    <a:pt x="1679" y="129"/>
                    <a:pt x="1676" y="106"/>
                    <a:pt x="1669" y="91"/>
                  </a:cubicBezTo>
                  <a:cubicBezTo>
                    <a:pt x="1670" y="88"/>
                    <a:pt x="1670" y="85"/>
                    <a:pt x="1672" y="83"/>
                  </a:cubicBezTo>
                  <a:cubicBezTo>
                    <a:pt x="1670" y="85"/>
                    <a:pt x="1669" y="88"/>
                    <a:pt x="1668" y="90"/>
                  </a:cubicBezTo>
                  <a:cubicBezTo>
                    <a:pt x="1668" y="88"/>
                    <a:pt x="1667" y="87"/>
                    <a:pt x="1666" y="85"/>
                  </a:cubicBezTo>
                  <a:cubicBezTo>
                    <a:pt x="1667" y="87"/>
                    <a:pt x="1668" y="89"/>
                    <a:pt x="1668" y="91"/>
                  </a:cubicBezTo>
                  <a:cubicBezTo>
                    <a:pt x="1667" y="95"/>
                    <a:pt x="1666" y="98"/>
                    <a:pt x="1665" y="101"/>
                  </a:cubicBezTo>
                  <a:cubicBezTo>
                    <a:pt x="1664" y="94"/>
                    <a:pt x="1662" y="87"/>
                    <a:pt x="1659" y="79"/>
                  </a:cubicBezTo>
                  <a:cubicBezTo>
                    <a:pt x="1659" y="78"/>
                    <a:pt x="1659" y="76"/>
                    <a:pt x="1659" y="75"/>
                  </a:cubicBezTo>
                  <a:cubicBezTo>
                    <a:pt x="1659" y="76"/>
                    <a:pt x="1659" y="77"/>
                    <a:pt x="1658" y="78"/>
                  </a:cubicBezTo>
                  <a:cubicBezTo>
                    <a:pt x="1656" y="71"/>
                    <a:pt x="1653" y="64"/>
                    <a:pt x="1648" y="56"/>
                  </a:cubicBezTo>
                  <a:cubicBezTo>
                    <a:pt x="1648" y="66"/>
                    <a:pt x="1652" y="78"/>
                    <a:pt x="1655" y="90"/>
                  </a:cubicBezTo>
                  <a:cubicBezTo>
                    <a:pt x="1653" y="99"/>
                    <a:pt x="1653" y="108"/>
                    <a:pt x="1652" y="117"/>
                  </a:cubicBezTo>
                  <a:cubicBezTo>
                    <a:pt x="1651" y="112"/>
                    <a:pt x="1649" y="107"/>
                    <a:pt x="1648" y="103"/>
                  </a:cubicBezTo>
                  <a:cubicBezTo>
                    <a:pt x="1650" y="109"/>
                    <a:pt x="1648" y="132"/>
                    <a:pt x="1648" y="140"/>
                  </a:cubicBezTo>
                  <a:cubicBezTo>
                    <a:pt x="1648" y="144"/>
                    <a:pt x="1648" y="147"/>
                    <a:pt x="1648" y="151"/>
                  </a:cubicBezTo>
                  <a:cubicBezTo>
                    <a:pt x="1648" y="151"/>
                    <a:pt x="1648" y="151"/>
                    <a:pt x="1648" y="151"/>
                  </a:cubicBezTo>
                  <a:cubicBezTo>
                    <a:pt x="1648" y="144"/>
                    <a:pt x="1647" y="137"/>
                    <a:pt x="1645" y="129"/>
                  </a:cubicBezTo>
                  <a:cubicBezTo>
                    <a:pt x="1643" y="119"/>
                    <a:pt x="1642" y="110"/>
                    <a:pt x="1643" y="100"/>
                  </a:cubicBezTo>
                  <a:cubicBezTo>
                    <a:pt x="1642" y="107"/>
                    <a:pt x="1642" y="113"/>
                    <a:pt x="1642" y="119"/>
                  </a:cubicBezTo>
                  <a:cubicBezTo>
                    <a:pt x="1640" y="114"/>
                    <a:pt x="1638" y="108"/>
                    <a:pt x="1636" y="103"/>
                  </a:cubicBezTo>
                  <a:cubicBezTo>
                    <a:pt x="1636" y="99"/>
                    <a:pt x="1637" y="95"/>
                    <a:pt x="1639" y="90"/>
                  </a:cubicBezTo>
                  <a:cubicBezTo>
                    <a:pt x="1637" y="94"/>
                    <a:pt x="1636" y="98"/>
                    <a:pt x="1635" y="102"/>
                  </a:cubicBezTo>
                  <a:cubicBezTo>
                    <a:pt x="1632" y="97"/>
                    <a:pt x="1630" y="93"/>
                    <a:pt x="1627" y="89"/>
                  </a:cubicBezTo>
                  <a:cubicBezTo>
                    <a:pt x="1630" y="93"/>
                    <a:pt x="1630" y="99"/>
                    <a:pt x="1630" y="103"/>
                  </a:cubicBezTo>
                  <a:cubicBezTo>
                    <a:pt x="1630" y="104"/>
                    <a:pt x="1631" y="109"/>
                    <a:pt x="1631" y="115"/>
                  </a:cubicBezTo>
                  <a:cubicBezTo>
                    <a:pt x="1630" y="120"/>
                    <a:pt x="1630" y="124"/>
                    <a:pt x="1629" y="129"/>
                  </a:cubicBezTo>
                  <a:cubicBezTo>
                    <a:pt x="1628" y="125"/>
                    <a:pt x="1627" y="122"/>
                    <a:pt x="1627" y="119"/>
                  </a:cubicBezTo>
                  <a:cubicBezTo>
                    <a:pt x="1627" y="115"/>
                    <a:pt x="1627" y="108"/>
                    <a:pt x="1626" y="105"/>
                  </a:cubicBezTo>
                  <a:cubicBezTo>
                    <a:pt x="1625" y="108"/>
                    <a:pt x="1625" y="110"/>
                    <a:pt x="1625" y="113"/>
                  </a:cubicBezTo>
                  <a:cubicBezTo>
                    <a:pt x="1624" y="109"/>
                    <a:pt x="1623" y="106"/>
                    <a:pt x="1623" y="103"/>
                  </a:cubicBezTo>
                  <a:cubicBezTo>
                    <a:pt x="1624" y="97"/>
                    <a:pt x="1625" y="90"/>
                    <a:pt x="1628" y="84"/>
                  </a:cubicBezTo>
                  <a:cubicBezTo>
                    <a:pt x="1625" y="90"/>
                    <a:pt x="1623" y="95"/>
                    <a:pt x="1622" y="101"/>
                  </a:cubicBezTo>
                  <a:cubicBezTo>
                    <a:pt x="1617" y="86"/>
                    <a:pt x="1614" y="83"/>
                    <a:pt x="1609" y="78"/>
                  </a:cubicBezTo>
                  <a:cubicBezTo>
                    <a:pt x="1616" y="84"/>
                    <a:pt x="1619" y="97"/>
                    <a:pt x="1620" y="107"/>
                  </a:cubicBezTo>
                  <a:cubicBezTo>
                    <a:pt x="1619" y="114"/>
                    <a:pt x="1617" y="120"/>
                    <a:pt x="1616" y="126"/>
                  </a:cubicBezTo>
                  <a:cubicBezTo>
                    <a:pt x="1615" y="121"/>
                    <a:pt x="1614" y="115"/>
                    <a:pt x="1612" y="109"/>
                  </a:cubicBezTo>
                  <a:cubicBezTo>
                    <a:pt x="1613" y="106"/>
                    <a:pt x="1613" y="103"/>
                    <a:pt x="1614" y="100"/>
                  </a:cubicBezTo>
                  <a:cubicBezTo>
                    <a:pt x="1613" y="102"/>
                    <a:pt x="1613" y="104"/>
                    <a:pt x="1612" y="108"/>
                  </a:cubicBezTo>
                  <a:cubicBezTo>
                    <a:pt x="1611" y="106"/>
                    <a:pt x="1610" y="103"/>
                    <a:pt x="1610" y="101"/>
                  </a:cubicBezTo>
                  <a:cubicBezTo>
                    <a:pt x="1610" y="100"/>
                    <a:pt x="1610" y="99"/>
                    <a:pt x="1611" y="98"/>
                  </a:cubicBezTo>
                  <a:cubicBezTo>
                    <a:pt x="1610" y="99"/>
                    <a:pt x="1610" y="100"/>
                    <a:pt x="1610" y="101"/>
                  </a:cubicBezTo>
                  <a:cubicBezTo>
                    <a:pt x="1607" y="94"/>
                    <a:pt x="1604" y="87"/>
                    <a:pt x="1600" y="81"/>
                  </a:cubicBezTo>
                  <a:cubicBezTo>
                    <a:pt x="1604" y="88"/>
                    <a:pt x="1605" y="99"/>
                    <a:pt x="1605" y="106"/>
                  </a:cubicBezTo>
                  <a:cubicBezTo>
                    <a:pt x="1605" y="111"/>
                    <a:pt x="1604" y="115"/>
                    <a:pt x="1604" y="120"/>
                  </a:cubicBezTo>
                  <a:cubicBezTo>
                    <a:pt x="1602" y="126"/>
                    <a:pt x="1600" y="133"/>
                    <a:pt x="1599" y="139"/>
                  </a:cubicBezTo>
                  <a:cubicBezTo>
                    <a:pt x="1599" y="137"/>
                    <a:pt x="1599" y="136"/>
                    <a:pt x="1599" y="135"/>
                  </a:cubicBezTo>
                  <a:cubicBezTo>
                    <a:pt x="1600" y="127"/>
                    <a:pt x="1600" y="120"/>
                    <a:pt x="1601" y="113"/>
                  </a:cubicBezTo>
                  <a:cubicBezTo>
                    <a:pt x="1600" y="117"/>
                    <a:pt x="1600" y="123"/>
                    <a:pt x="1599" y="129"/>
                  </a:cubicBezTo>
                  <a:cubicBezTo>
                    <a:pt x="1599" y="120"/>
                    <a:pt x="1599" y="111"/>
                    <a:pt x="1597" y="103"/>
                  </a:cubicBezTo>
                  <a:cubicBezTo>
                    <a:pt x="1598" y="101"/>
                    <a:pt x="1599" y="100"/>
                    <a:pt x="1599" y="99"/>
                  </a:cubicBezTo>
                  <a:cubicBezTo>
                    <a:pt x="1599" y="100"/>
                    <a:pt x="1598" y="101"/>
                    <a:pt x="1597" y="102"/>
                  </a:cubicBezTo>
                  <a:cubicBezTo>
                    <a:pt x="1595" y="88"/>
                    <a:pt x="1591" y="75"/>
                    <a:pt x="1582" y="60"/>
                  </a:cubicBezTo>
                  <a:cubicBezTo>
                    <a:pt x="1582" y="61"/>
                    <a:pt x="1582" y="61"/>
                    <a:pt x="1582" y="61"/>
                  </a:cubicBezTo>
                  <a:cubicBezTo>
                    <a:pt x="1582" y="76"/>
                    <a:pt x="1592" y="94"/>
                    <a:pt x="1592" y="111"/>
                  </a:cubicBezTo>
                  <a:cubicBezTo>
                    <a:pt x="1591" y="115"/>
                    <a:pt x="1590" y="120"/>
                    <a:pt x="1589" y="125"/>
                  </a:cubicBezTo>
                  <a:cubicBezTo>
                    <a:pt x="1585" y="109"/>
                    <a:pt x="1578" y="94"/>
                    <a:pt x="1567" y="83"/>
                  </a:cubicBezTo>
                  <a:cubicBezTo>
                    <a:pt x="1574" y="90"/>
                    <a:pt x="1578" y="101"/>
                    <a:pt x="1580" y="111"/>
                  </a:cubicBezTo>
                  <a:cubicBezTo>
                    <a:pt x="1579" y="111"/>
                    <a:pt x="1579" y="110"/>
                    <a:pt x="1579" y="109"/>
                  </a:cubicBezTo>
                  <a:cubicBezTo>
                    <a:pt x="1579" y="117"/>
                    <a:pt x="1580" y="126"/>
                    <a:pt x="1580" y="134"/>
                  </a:cubicBezTo>
                  <a:cubicBezTo>
                    <a:pt x="1580" y="136"/>
                    <a:pt x="1580" y="138"/>
                    <a:pt x="1580" y="140"/>
                  </a:cubicBezTo>
                  <a:cubicBezTo>
                    <a:pt x="1577" y="127"/>
                    <a:pt x="1576" y="113"/>
                    <a:pt x="1572" y="100"/>
                  </a:cubicBezTo>
                  <a:cubicBezTo>
                    <a:pt x="1574" y="109"/>
                    <a:pt x="1574" y="123"/>
                    <a:pt x="1574" y="135"/>
                  </a:cubicBezTo>
                  <a:cubicBezTo>
                    <a:pt x="1575" y="138"/>
                    <a:pt x="1575" y="141"/>
                    <a:pt x="1575" y="144"/>
                  </a:cubicBezTo>
                  <a:cubicBezTo>
                    <a:pt x="1575" y="143"/>
                    <a:pt x="1575" y="142"/>
                    <a:pt x="1575" y="142"/>
                  </a:cubicBezTo>
                  <a:cubicBezTo>
                    <a:pt x="1574" y="139"/>
                    <a:pt x="1574" y="137"/>
                    <a:pt x="1574" y="135"/>
                  </a:cubicBezTo>
                  <a:cubicBezTo>
                    <a:pt x="1574" y="130"/>
                    <a:pt x="1573" y="125"/>
                    <a:pt x="1572" y="120"/>
                  </a:cubicBezTo>
                  <a:cubicBezTo>
                    <a:pt x="1572" y="119"/>
                    <a:pt x="1572" y="119"/>
                    <a:pt x="1572" y="118"/>
                  </a:cubicBezTo>
                  <a:cubicBezTo>
                    <a:pt x="1572" y="119"/>
                    <a:pt x="1572" y="119"/>
                    <a:pt x="1572" y="120"/>
                  </a:cubicBezTo>
                  <a:cubicBezTo>
                    <a:pt x="1571" y="116"/>
                    <a:pt x="1569" y="112"/>
                    <a:pt x="1568" y="108"/>
                  </a:cubicBezTo>
                  <a:cubicBezTo>
                    <a:pt x="1569" y="106"/>
                    <a:pt x="1569" y="105"/>
                    <a:pt x="1570" y="103"/>
                  </a:cubicBezTo>
                  <a:cubicBezTo>
                    <a:pt x="1569" y="105"/>
                    <a:pt x="1568" y="106"/>
                    <a:pt x="1568" y="107"/>
                  </a:cubicBezTo>
                  <a:cubicBezTo>
                    <a:pt x="1561" y="91"/>
                    <a:pt x="1551" y="76"/>
                    <a:pt x="1534" y="63"/>
                  </a:cubicBezTo>
                  <a:cubicBezTo>
                    <a:pt x="1540" y="68"/>
                    <a:pt x="1544" y="74"/>
                    <a:pt x="1548" y="79"/>
                  </a:cubicBezTo>
                  <a:cubicBezTo>
                    <a:pt x="1547" y="81"/>
                    <a:pt x="1545" y="85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0" y="94"/>
                    <a:pt x="1538" y="98"/>
                    <a:pt x="1536" y="103"/>
                  </a:cubicBezTo>
                  <a:cubicBezTo>
                    <a:pt x="1535" y="100"/>
                    <a:pt x="1535" y="98"/>
                    <a:pt x="1534" y="96"/>
                  </a:cubicBezTo>
                  <a:cubicBezTo>
                    <a:pt x="1534" y="99"/>
                    <a:pt x="1535" y="103"/>
                    <a:pt x="1535" y="106"/>
                  </a:cubicBezTo>
                  <a:cubicBezTo>
                    <a:pt x="1534" y="108"/>
                    <a:pt x="1533" y="111"/>
                    <a:pt x="1532" y="113"/>
                  </a:cubicBezTo>
                  <a:cubicBezTo>
                    <a:pt x="1531" y="111"/>
                    <a:pt x="1531" y="109"/>
                    <a:pt x="1530" y="107"/>
                  </a:cubicBezTo>
                  <a:cubicBezTo>
                    <a:pt x="1531" y="100"/>
                    <a:pt x="1532" y="93"/>
                    <a:pt x="1532" y="88"/>
                  </a:cubicBezTo>
                  <a:cubicBezTo>
                    <a:pt x="1532" y="87"/>
                    <a:pt x="1532" y="87"/>
                    <a:pt x="1532" y="87"/>
                  </a:cubicBezTo>
                  <a:cubicBezTo>
                    <a:pt x="1530" y="92"/>
                    <a:pt x="1529" y="97"/>
                    <a:pt x="1528" y="102"/>
                  </a:cubicBezTo>
                  <a:cubicBezTo>
                    <a:pt x="1525" y="96"/>
                    <a:pt x="1523" y="90"/>
                    <a:pt x="1520" y="84"/>
                  </a:cubicBezTo>
                  <a:cubicBezTo>
                    <a:pt x="1523" y="90"/>
                    <a:pt x="1525" y="97"/>
                    <a:pt x="1527" y="104"/>
                  </a:cubicBezTo>
                  <a:cubicBezTo>
                    <a:pt x="1526" y="108"/>
                    <a:pt x="1526" y="111"/>
                    <a:pt x="1525" y="115"/>
                  </a:cubicBezTo>
                  <a:cubicBezTo>
                    <a:pt x="1523" y="110"/>
                    <a:pt x="1521" y="106"/>
                    <a:pt x="1519" y="102"/>
                  </a:cubicBezTo>
                  <a:cubicBezTo>
                    <a:pt x="1521" y="107"/>
                    <a:pt x="1522" y="114"/>
                    <a:pt x="1523" y="121"/>
                  </a:cubicBezTo>
                  <a:cubicBezTo>
                    <a:pt x="1522" y="126"/>
                    <a:pt x="1520" y="131"/>
                    <a:pt x="1519" y="135"/>
                  </a:cubicBezTo>
                  <a:cubicBezTo>
                    <a:pt x="1517" y="132"/>
                    <a:pt x="1516" y="129"/>
                    <a:pt x="1515" y="125"/>
                  </a:cubicBezTo>
                  <a:cubicBezTo>
                    <a:pt x="1516" y="118"/>
                    <a:pt x="1517" y="111"/>
                    <a:pt x="1518" y="104"/>
                  </a:cubicBezTo>
                  <a:cubicBezTo>
                    <a:pt x="1517" y="109"/>
                    <a:pt x="1515" y="114"/>
                    <a:pt x="1513" y="120"/>
                  </a:cubicBezTo>
                  <a:cubicBezTo>
                    <a:pt x="1512" y="115"/>
                    <a:pt x="1511" y="111"/>
                    <a:pt x="1510" y="107"/>
                  </a:cubicBezTo>
                  <a:cubicBezTo>
                    <a:pt x="1510" y="103"/>
                    <a:pt x="1511" y="98"/>
                    <a:pt x="1511" y="94"/>
                  </a:cubicBezTo>
                  <a:cubicBezTo>
                    <a:pt x="1511" y="91"/>
                    <a:pt x="1510" y="88"/>
                    <a:pt x="1510" y="85"/>
                  </a:cubicBezTo>
                  <a:cubicBezTo>
                    <a:pt x="1509" y="89"/>
                    <a:pt x="1508" y="93"/>
                    <a:pt x="1507" y="99"/>
                  </a:cubicBezTo>
                  <a:cubicBezTo>
                    <a:pt x="1504" y="91"/>
                    <a:pt x="1500" y="84"/>
                    <a:pt x="1495" y="77"/>
                  </a:cubicBezTo>
                  <a:cubicBezTo>
                    <a:pt x="1498" y="86"/>
                    <a:pt x="1502" y="95"/>
                    <a:pt x="1505" y="104"/>
                  </a:cubicBezTo>
                  <a:cubicBezTo>
                    <a:pt x="1505" y="106"/>
                    <a:pt x="1505" y="107"/>
                    <a:pt x="1505" y="109"/>
                  </a:cubicBezTo>
                  <a:cubicBezTo>
                    <a:pt x="1504" y="107"/>
                    <a:pt x="1503" y="105"/>
                    <a:pt x="1502" y="103"/>
                  </a:cubicBezTo>
                  <a:cubicBezTo>
                    <a:pt x="1502" y="103"/>
                    <a:pt x="1502" y="102"/>
                    <a:pt x="1502" y="102"/>
                  </a:cubicBezTo>
                  <a:cubicBezTo>
                    <a:pt x="1502" y="102"/>
                    <a:pt x="1502" y="103"/>
                    <a:pt x="1502" y="103"/>
                  </a:cubicBezTo>
                  <a:cubicBezTo>
                    <a:pt x="1497" y="94"/>
                    <a:pt x="1492" y="86"/>
                    <a:pt x="1485" y="79"/>
                  </a:cubicBezTo>
                  <a:cubicBezTo>
                    <a:pt x="1487" y="75"/>
                    <a:pt x="1489" y="71"/>
                    <a:pt x="1491" y="68"/>
                  </a:cubicBezTo>
                  <a:cubicBezTo>
                    <a:pt x="1489" y="69"/>
                    <a:pt x="1486" y="73"/>
                    <a:pt x="1484" y="77"/>
                  </a:cubicBezTo>
                  <a:cubicBezTo>
                    <a:pt x="1480" y="73"/>
                    <a:pt x="1476" y="69"/>
                    <a:pt x="1471" y="65"/>
                  </a:cubicBezTo>
                  <a:cubicBezTo>
                    <a:pt x="1476" y="70"/>
                    <a:pt x="1480" y="75"/>
                    <a:pt x="1483" y="79"/>
                  </a:cubicBezTo>
                  <a:cubicBezTo>
                    <a:pt x="1480" y="86"/>
                    <a:pt x="1477" y="96"/>
                    <a:pt x="1474" y="105"/>
                  </a:cubicBezTo>
                  <a:cubicBezTo>
                    <a:pt x="1471" y="99"/>
                    <a:pt x="1467" y="94"/>
                    <a:pt x="1464" y="88"/>
                  </a:cubicBezTo>
                  <a:cubicBezTo>
                    <a:pt x="1464" y="87"/>
                    <a:pt x="1464" y="86"/>
                    <a:pt x="1465" y="85"/>
                  </a:cubicBezTo>
                  <a:cubicBezTo>
                    <a:pt x="1464" y="86"/>
                    <a:pt x="1464" y="87"/>
                    <a:pt x="1464" y="88"/>
                  </a:cubicBezTo>
                  <a:cubicBezTo>
                    <a:pt x="1463" y="87"/>
                    <a:pt x="1462" y="86"/>
                    <a:pt x="1461" y="85"/>
                  </a:cubicBezTo>
                  <a:cubicBezTo>
                    <a:pt x="1462" y="86"/>
                    <a:pt x="1463" y="87"/>
                    <a:pt x="1463" y="88"/>
                  </a:cubicBezTo>
                  <a:cubicBezTo>
                    <a:pt x="1462" y="91"/>
                    <a:pt x="1461" y="93"/>
                    <a:pt x="1460" y="95"/>
                  </a:cubicBezTo>
                  <a:cubicBezTo>
                    <a:pt x="1459" y="94"/>
                    <a:pt x="1459" y="92"/>
                    <a:pt x="1458" y="91"/>
                  </a:cubicBezTo>
                  <a:cubicBezTo>
                    <a:pt x="1459" y="92"/>
                    <a:pt x="1459" y="94"/>
                    <a:pt x="1460" y="95"/>
                  </a:cubicBezTo>
                  <a:cubicBezTo>
                    <a:pt x="1456" y="103"/>
                    <a:pt x="1453" y="112"/>
                    <a:pt x="1451" y="121"/>
                  </a:cubicBezTo>
                  <a:cubicBezTo>
                    <a:pt x="1450" y="112"/>
                    <a:pt x="1449" y="103"/>
                    <a:pt x="1449" y="97"/>
                  </a:cubicBezTo>
                  <a:cubicBezTo>
                    <a:pt x="1447" y="100"/>
                    <a:pt x="1446" y="105"/>
                    <a:pt x="1445" y="110"/>
                  </a:cubicBezTo>
                  <a:cubicBezTo>
                    <a:pt x="1445" y="92"/>
                    <a:pt x="1444" y="61"/>
                    <a:pt x="1442" y="57"/>
                  </a:cubicBezTo>
                  <a:cubicBezTo>
                    <a:pt x="1441" y="79"/>
                    <a:pt x="1442" y="100"/>
                    <a:pt x="1442" y="122"/>
                  </a:cubicBezTo>
                  <a:cubicBezTo>
                    <a:pt x="1442" y="123"/>
                    <a:pt x="1442" y="124"/>
                    <a:pt x="1442" y="125"/>
                  </a:cubicBezTo>
                  <a:cubicBezTo>
                    <a:pt x="1440" y="114"/>
                    <a:pt x="1436" y="103"/>
                    <a:pt x="1431" y="94"/>
                  </a:cubicBezTo>
                  <a:cubicBezTo>
                    <a:pt x="1430" y="89"/>
                    <a:pt x="1430" y="84"/>
                    <a:pt x="1431" y="80"/>
                  </a:cubicBezTo>
                  <a:cubicBezTo>
                    <a:pt x="1430" y="83"/>
                    <a:pt x="1429" y="87"/>
                    <a:pt x="1428" y="90"/>
                  </a:cubicBezTo>
                  <a:cubicBezTo>
                    <a:pt x="1426" y="88"/>
                    <a:pt x="1424" y="85"/>
                    <a:pt x="1422" y="83"/>
                  </a:cubicBezTo>
                  <a:cubicBezTo>
                    <a:pt x="1424" y="86"/>
                    <a:pt x="1426" y="89"/>
                    <a:pt x="1428" y="92"/>
                  </a:cubicBezTo>
                  <a:cubicBezTo>
                    <a:pt x="1427" y="96"/>
                    <a:pt x="1426" y="100"/>
                    <a:pt x="1426" y="103"/>
                  </a:cubicBezTo>
                  <a:cubicBezTo>
                    <a:pt x="1425" y="102"/>
                    <a:pt x="1425" y="101"/>
                    <a:pt x="1425" y="100"/>
                  </a:cubicBezTo>
                  <a:cubicBezTo>
                    <a:pt x="1425" y="101"/>
                    <a:pt x="1425" y="102"/>
                    <a:pt x="1426" y="104"/>
                  </a:cubicBezTo>
                  <a:cubicBezTo>
                    <a:pt x="1425" y="106"/>
                    <a:pt x="1425" y="109"/>
                    <a:pt x="1424" y="111"/>
                  </a:cubicBezTo>
                  <a:cubicBezTo>
                    <a:pt x="1422" y="107"/>
                    <a:pt x="1421" y="103"/>
                    <a:pt x="1419" y="99"/>
                  </a:cubicBezTo>
                  <a:cubicBezTo>
                    <a:pt x="1418" y="91"/>
                    <a:pt x="1418" y="82"/>
                    <a:pt x="1419" y="74"/>
                  </a:cubicBezTo>
                  <a:cubicBezTo>
                    <a:pt x="1418" y="80"/>
                    <a:pt x="1416" y="86"/>
                    <a:pt x="1415" y="92"/>
                  </a:cubicBezTo>
                  <a:cubicBezTo>
                    <a:pt x="1414" y="91"/>
                    <a:pt x="1413" y="89"/>
                    <a:pt x="1412" y="88"/>
                  </a:cubicBezTo>
                  <a:cubicBezTo>
                    <a:pt x="1413" y="89"/>
                    <a:pt x="1414" y="91"/>
                    <a:pt x="1415" y="93"/>
                  </a:cubicBezTo>
                  <a:cubicBezTo>
                    <a:pt x="1414" y="95"/>
                    <a:pt x="1414" y="97"/>
                    <a:pt x="1414" y="98"/>
                  </a:cubicBezTo>
                  <a:cubicBezTo>
                    <a:pt x="1411" y="93"/>
                    <a:pt x="1409" y="88"/>
                    <a:pt x="1405" y="84"/>
                  </a:cubicBezTo>
                  <a:cubicBezTo>
                    <a:pt x="1408" y="88"/>
                    <a:pt x="1410" y="95"/>
                    <a:pt x="1413" y="103"/>
                  </a:cubicBezTo>
                  <a:cubicBezTo>
                    <a:pt x="1412" y="106"/>
                    <a:pt x="1411" y="110"/>
                    <a:pt x="1411" y="113"/>
                  </a:cubicBezTo>
                  <a:cubicBezTo>
                    <a:pt x="1408" y="108"/>
                    <a:pt x="1406" y="102"/>
                    <a:pt x="1403" y="96"/>
                  </a:cubicBezTo>
                  <a:cubicBezTo>
                    <a:pt x="1403" y="91"/>
                    <a:pt x="1404" y="86"/>
                    <a:pt x="1405" y="83"/>
                  </a:cubicBezTo>
                  <a:cubicBezTo>
                    <a:pt x="1404" y="87"/>
                    <a:pt x="1403" y="90"/>
                    <a:pt x="1401" y="93"/>
                  </a:cubicBezTo>
                  <a:cubicBezTo>
                    <a:pt x="1396" y="83"/>
                    <a:pt x="1389" y="74"/>
                    <a:pt x="1380" y="64"/>
                  </a:cubicBezTo>
                  <a:cubicBezTo>
                    <a:pt x="1389" y="74"/>
                    <a:pt x="1395" y="86"/>
                    <a:pt x="1400" y="97"/>
                  </a:cubicBezTo>
                  <a:cubicBezTo>
                    <a:pt x="1399" y="99"/>
                    <a:pt x="1399" y="101"/>
                    <a:pt x="1398" y="103"/>
                  </a:cubicBezTo>
                  <a:cubicBezTo>
                    <a:pt x="1397" y="98"/>
                    <a:pt x="1396" y="93"/>
                    <a:pt x="1394" y="88"/>
                  </a:cubicBezTo>
                  <a:cubicBezTo>
                    <a:pt x="1394" y="91"/>
                    <a:pt x="1395" y="98"/>
                    <a:pt x="1397" y="106"/>
                  </a:cubicBezTo>
                  <a:cubicBezTo>
                    <a:pt x="1397" y="108"/>
                    <a:pt x="1396" y="109"/>
                    <a:pt x="1396" y="110"/>
                  </a:cubicBezTo>
                  <a:cubicBezTo>
                    <a:pt x="1390" y="97"/>
                    <a:pt x="1383" y="83"/>
                    <a:pt x="1372" y="72"/>
                  </a:cubicBezTo>
                  <a:cubicBezTo>
                    <a:pt x="1370" y="61"/>
                    <a:pt x="1368" y="51"/>
                    <a:pt x="1366" y="41"/>
                  </a:cubicBezTo>
                  <a:cubicBezTo>
                    <a:pt x="1366" y="48"/>
                    <a:pt x="1366" y="55"/>
                    <a:pt x="1366" y="61"/>
                  </a:cubicBezTo>
                  <a:cubicBezTo>
                    <a:pt x="1366" y="63"/>
                    <a:pt x="1366" y="64"/>
                    <a:pt x="1366" y="66"/>
                  </a:cubicBezTo>
                  <a:cubicBezTo>
                    <a:pt x="1365" y="65"/>
                    <a:pt x="1365" y="65"/>
                    <a:pt x="1365" y="65"/>
                  </a:cubicBezTo>
                  <a:cubicBezTo>
                    <a:pt x="1365" y="65"/>
                    <a:pt x="1365" y="65"/>
                    <a:pt x="1366" y="66"/>
                  </a:cubicBezTo>
                  <a:cubicBezTo>
                    <a:pt x="1366" y="75"/>
                    <a:pt x="1367" y="85"/>
                    <a:pt x="1367" y="94"/>
                  </a:cubicBezTo>
                  <a:cubicBezTo>
                    <a:pt x="1365" y="88"/>
                    <a:pt x="1362" y="81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3" y="67"/>
                    <a:pt x="1346" y="59"/>
                    <a:pt x="1336" y="50"/>
                  </a:cubicBezTo>
                  <a:cubicBezTo>
                    <a:pt x="1339" y="54"/>
                    <a:pt x="1341" y="58"/>
                    <a:pt x="1343" y="61"/>
                  </a:cubicBezTo>
                  <a:cubicBezTo>
                    <a:pt x="1342" y="64"/>
                    <a:pt x="1342" y="68"/>
                    <a:pt x="1341" y="73"/>
                  </a:cubicBezTo>
                  <a:cubicBezTo>
                    <a:pt x="1339" y="70"/>
                    <a:pt x="1336" y="67"/>
                    <a:pt x="1334" y="65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2" y="62"/>
                    <a:pt x="1330" y="61"/>
                    <a:pt x="1328" y="59"/>
                  </a:cubicBezTo>
                  <a:cubicBezTo>
                    <a:pt x="1330" y="61"/>
                    <a:pt x="1332" y="63"/>
                    <a:pt x="1333" y="65"/>
                  </a:cubicBezTo>
                  <a:cubicBezTo>
                    <a:pt x="1332" y="67"/>
                    <a:pt x="1330" y="69"/>
                    <a:pt x="1329" y="72"/>
                  </a:cubicBezTo>
                  <a:cubicBezTo>
                    <a:pt x="1328" y="67"/>
                    <a:pt x="1328" y="61"/>
                    <a:pt x="1327" y="56"/>
                  </a:cubicBezTo>
                  <a:cubicBezTo>
                    <a:pt x="1328" y="54"/>
                    <a:pt x="1329" y="53"/>
                    <a:pt x="1330" y="51"/>
                  </a:cubicBezTo>
                  <a:cubicBezTo>
                    <a:pt x="1329" y="52"/>
                    <a:pt x="1328" y="53"/>
                    <a:pt x="1327" y="55"/>
                  </a:cubicBezTo>
                  <a:cubicBezTo>
                    <a:pt x="1325" y="45"/>
                    <a:pt x="1323" y="35"/>
                    <a:pt x="1320" y="26"/>
                  </a:cubicBezTo>
                  <a:cubicBezTo>
                    <a:pt x="1319" y="30"/>
                    <a:pt x="1319" y="34"/>
                    <a:pt x="1319" y="37"/>
                  </a:cubicBezTo>
                  <a:cubicBezTo>
                    <a:pt x="1319" y="45"/>
                    <a:pt x="1320" y="53"/>
                    <a:pt x="1321" y="60"/>
                  </a:cubicBezTo>
                  <a:cubicBezTo>
                    <a:pt x="1317" y="65"/>
                    <a:pt x="1313" y="69"/>
                    <a:pt x="1308" y="75"/>
                  </a:cubicBezTo>
                  <a:cubicBezTo>
                    <a:pt x="1308" y="72"/>
                    <a:pt x="1307" y="70"/>
                    <a:pt x="1306" y="67"/>
                  </a:cubicBezTo>
                  <a:cubicBezTo>
                    <a:pt x="1306" y="70"/>
                    <a:pt x="1307" y="73"/>
                    <a:pt x="1307" y="76"/>
                  </a:cubicBezTo>
                  <a:cubicBezTo>
                    <a:pt x="1306" y="77"/>
                    <a:pt x="1306" y="78"/>
                    <a:pt x="1306" y="78"/>
                  </a:cubicBezTo>
                  <a:cubicBezTo>
                    <a:pt x="1304" y="75"/>
                    <a:pt x="1302" y="72"/>
                    <a:pt x="1300" y="68"/>
                  </a:cubicBezTo>
                  <a:cubicBezTo>
                    <a:pt x="1300" y="65"/>
                    <a:pt x="1301" y="63"/>
                    <a:pt x="1301" y="62"/>
                  </a:cubicBezTo>
                  <a:cubicBezTo>
                    <a:pt x="1300" y="63"/>
                    <a:pt x="1299" y="65"/>
                    <a:pt x="1298" y="67"/>
                  </a:cubicBezTo>
                  <a:cubicBezTo>
                    <a:pt x="1292" y="57"/>
                    <a:pt x="1283" y="47"/>
                    <a:pt x="1270" y="34"/>
                  </a:cubicBezTo>
                  <a:cubicBezTo>
                    <a:pt x="1283" y="49"/>
                    <a:pt x="1291" y="60"/>
                    <a:pt x="1298" y="69"/>
                  </a:cubicBezTo>
                  <a:cubicBezTo>
                    <a:pt x="1297" y="72"/>
                    <a:pt x="1296" y="75"/>
                    <a:pt x="1296" y="79"/>
                  </a:cubicBezTo>
                  <a:cubicBezTo>
                    <a:pt x="1290" y="68"/>
                    <a:pt x="1282" y="58"/>
                    <a:pt x="1270" y="52"/>
                  </a:cubicBezTo>
                  <a:cubicBezTo>
                    <a:pt x="1284" y="60"/>
                    <a:pt x="1291" y="72"/>
                    <a:pt x="1296" y="84"/>
                  </a:cubicBezTo>
                  <a:cubicBezTo>
                    <a:pt x="1296" y="86"/>
                    <a:pt x="1296" y="89"/>
                    <a:pt x="1296" y="92"/>
                  </a:cubicBezTo>
                  <a:cubicBezTo>
                    <a:pt x="1294" y="94"/>
                    <a:pt x="1292" y="97"/>
                    <a:pt x="1290" y="100"/>
                  </a:cubicBezTo>
                  <a:cubicBezTo>
                    <a:pt x="1289" y="96"/>
                    <a:pt x="1289" y="93"/>
                    <a:pt x="1288" y="90"/>
                  </a:cubicBezTo>
                  <a:cubicBezTo>
                    <a:pt x="1289" y="93"/>
                    <a:pt x="1289" y="97"/>
                    <a:pt x="1289" y="101"/>
                  </a:cubicBezTo>
                  <a:cubicBezTo>
                    <a:pt x="1288" y="102"/>
                    <a:pt x="1288" y="104"/>
                    <a:pt x="1287" y="105"/>
                  </a:cubicBezTo>
                  <a:cubicBezTo>
                    <a:pt x="1286" y="104"/>
                    <a:pt x="1286" y="103"/>
                    <a:pt x="1285" y="102"/>
                  </a:cubicBezTo>
                  <a:cubicBezTo>
                    <a:pt x="1284" y="97"/>
                    <a:pt x="1283" y="93"/>
                    <a:pt x="1282" y="88"/>
                  </a:cubicBezTo>
                  <a:cubicBezTo>
                    <a:pt x="1283" y="84"/>
                    <a:pt x="1284" y="79"/>
                    <a:pt x="1284" y="75"/>
                  </a:cubicBezTo>
                  <a:cubicBezTo>
                    <a:pt x="1283" y="78"/>
                    <a:pt x="1282" y="80"/>
                    <a:pt x="1281" y="83"/>
                  </a:cubicBezTo>
                  <a:cubicBezTo>
                    <a:pt x="1280" y="81"/>
                    <a:pt x="1280" y="80"/>
                    <a:pt x="1280" y="79"/>
                  </a:cubicBezTo>
                  <a:cubicBezTo>
                    <a:pt x="1280" y="81"/>
                    <a:pt x="1280" y="82"/>
                    <a:pt x="1280" y="83"/>
                  </a:cubicBezTo>
                  <a:cubicBezTo>
                    <a:pt x="1280" y="84"/>
                    <a:pt x="1279" y="86"/>
                    <a:pt x="1278" y="87"/>
                  </a:cubicBezTo>
                  <a:cubicBezTo>
                    <a:pt x="1276" y="83"/>
                    <a:pt x="1275" y="79"/>
                    <a:pt x="1273" y="75"/>
                  </a:cubicBezTo>
                  <a:cubicBezTo>
                    <a:pt x="1273" y="80"/>
                    <a:pt x="1274" y="86"/>
                    <a:pt x="1276" y="93"/>
                  </a:cubicBezTo>
                  <a:cubicBezTo>
                    <a:pt x="1275" y="94"/>
                    <a:pt x="1275" y="94"/>
                    <a:pt x="1275" y="95"/>
                  </a:cubicBezTo>
                  <a:cubicBezTo>
                    <a:pt x="1274" y="90"/>
                    <a:pt x="1272" y="85"/>
                    <a:pt x="1270" y="81"/>
                  </a:cubicBezTo>
                  <a:cubicBezTo>
                    <a:pt x="1272" y="86"/>
                    <a:pt x="1273" y="91"/>
                    <a:pt x="1274" y="97"/>
                  </a:cubicBezTo>
                  <a:cubicBezTo>
                    <a:pt x="1272" y="100"/>
                    <a:pt x="1271" y="103"/>
                    <a:pt x="1270" y="105"/>
                  </a:cubicBezTo>
                  <a:cubicBezTo>
                    <a:pt x="1267" y="84"/>
                    <a:pt x="1261" y="63"/>
                    <a:pt x="1241" y="42"/>
                  </a:cubicBezTo>
                  <a:cubicBezTo>
                    <a:pt x="1249" y="58"/>
                    <a:pt x="1255" y="70"/>
                    <a:pt x="1259" y="81"/>
                  </a:cubicBezTo>
                  <a:cubicBezTo>
                    <a:pt x="1259" y="84"/>
                    <a:pt x="1259" y="86"/>
                    <a:pt x="1259" y="89"/>
                  </a:cubicBezTo>
                  <a:cubicBezTo>
                    <a:pt x="1257" y="86"/>
                    <a:pt x="1256" y="84"/>
                    <a:pt x="1254" y="81"/>
                  </a:cubicBezTo>
                  <a:cubicBezTo>
                    <a:pt x="1253" y="79"/>
                    <a:pt x="1251" y="76"/>
                    <a:pt x="1250" y="74"/>
                  </a:cubicBezTo>
                  <a:cubicBezTo>
                    <a:pt x="1250" y="72"/>
                    <a:pt x="1250" y="69"/>
                    <a:pt x="1250" y="67"/>
                  </a:cubicBezTo>
                  <a:cubicBezTo>
                    <a:pt x="1250" y="69"/>
                    <a:pt x="1250" y="70"/>
                    <a:pt x="1249" y="72"/>
                  </a:cubicBezTo>
                  <a:cubicBezTo>
                    <a:pt x="1246" y="66"/>
                    <a:pt x="1242" y="59"/>
                    <a:pt x="1237" y="53"/>
                  </a:cubicBezTo>
                  <a:cubicBezTo>
                    <a:pt x="1237" y="48"/>
                    <a:pt x="1237" y="42"/>
                    <a:pt x="1237" y="37"/>
                  </a:cubicBezTo>
                  <a:cubicBezTo>
                    <a:pt x="1237" y="34"/>
                    <a:pt x="1237" y="30"/>
                    <a:pt x="1237" y="26"/>
                  </a:cubicBezTo>
                  <a:cubicBezTo>
                    <a:pt x="1235" y="33"/>
                    <a:pt x="1233" y="40"/>
                    <a:pt x="1232" y="47"/>
                  </a:cubicBezTo>
                  <a:cubicBezTo>
                    <a:pt x="1229" y="44"/>
                    <a:pt x="1225" y="41"/>
                    <a:pt x="1222" y="38"/>
                  </a:cubicBezTo>
                  <a:cubicBezTo>
                    <a:pt x="1225" y="41"/>
                    <a:pt x="1228" y="45"/>
                    <a:pt x="1231" y="49"/>
                  </a:cubicBezTo>
                  <a:cubicBezTo>
                    <a:pt x="1231" y="51"/>
                    <a:pt x="1231" y="53"/>
                    <a:pt x="1230" y="55"/>
                  </a:cubicBezTo>
                  <a:cubicBezTo>
                    <a:pt x="1229" y="53"/>
                    <a:pt x="1228" y="52"/>
                    <a:pt x="1226" y="51"/>
                  </a:cubicBezTo>
                  <a:cubicBezTo>
                    <a:pt x="1227" y="53"/>
                    <a:pt x="1229" y="54"/>
                    <a:pt x="1230" y="56"/>
                  </a:cubicBezTo>
                  <a:cubicBezTo>
                    <a:pt x="1229" y="61"/>
                    <a:pt x="1228" y="67"/>
                    <a:pt x="1228" y="72"/>
                  </a:cubicBezTo>
                  <a:cubicBezTo>
                    <a:pt x="1226" y="69"/>
                    <a:pt x="1224" y="66"/>
                    <a:pt x="1223" y="64"/>
                  </a:cubicBezTo>
                  <a:cubicBezTo>
                    <a:pt x="1223" y="67"/>
                    <a:pt x="1225" y="70"/>
                    <a:pt x="1227" y="74"/>
                  </a:cubicBezTo>
                  <a:cubicBezTo>
                    <a:pt x="1226" y="81"/>
                    <a:pt x="1225" y="87"/>
                    <a:pt x="1224" y="92"/>
                  </a:cubicBezTo>
                  <a:cubicBezTo>
                    <a:pt x="1220" y="109"/>
                    <a:pt x="1216" y="126"/>
                    <a:pt x="1214" y="143"/>
                  </a:cubicBezTo>
                  <a:cubicBezTo>
                    <a:pt x="1215" y="126"/>
                    <a:pt x="1216" y="109"/>
                    <a:pt x="1216" y="91"/>
                  </a:cubicBezTo>
                  <a:cubicBezTo>
                    <a:pt x="1216" y="87"/>
                    <a:pt x="1216" y="61"/>
                    <a:pt x="1212" y="59"/>
                  </a:cubicBezTo>
                  <a:cubicBezTo>
                    <a:pt x="1217" y="76"/>
                    <a:pt x="1203" y="122"/>
                    <a:pt x="1200" y="146"/>
                  </a:cubicBezTo>
                  <a:cubicBezTo>
                    <a:pt x="1200" y="148"/>
                    <a:pt x="1200" y="150"/>
                    <a:pt x="1200" y="152"/>
                  </a:cubicBezTo>
                  <a:cubicBezTo>
                    <a:pt x="1200" y="150"/>
                    <a:pt x="1200" y="148"/>
                    <a:pt x="1200" y="146"/>
                  </a:cubicBezTo>
                  <a:cubicBezTo>
                    <a:pt x="1202" y="123"/>
                    <a:pt x="1201" y="97"/>
                    <a:pt x="1199" y="75"/>
                  </a:cubicBezTo>
                  <a:cubicBezTo>
                    <a:pt x="1196" y="97"/>
                    <a:pt x="1188" y="119"/>
                    <a:pt x="1188" y="141"/>
                  </a:cubicBezTo>
                  <a:cubicBezTo>
                    <a:pt x="1188" y="146"/>
                    <a:pt x="1189" y="152"/>
                    <a:pt x="1189" y="158"/>
                  </a:cubicBezTo>
                  <a:cubicBezTo>
                    <a:pt x="1187" y="150"/>
                    <a:pt x="1187" y="140"/>
                    <a:pt x="1187" y="133"/>
                  </a:cubicBezTo>
                  <a:cubicBezTo>
                    <a:pt x="1187" y="109"/>
                    <a:pt x="1191" y="85"/>
                    <a:pt x="1191" y="61"/>
                  </a:cubicBezTo>
                  <a:cubicBezTo>
                    <a:pt x="1191" y="55"/>
                    <a:pt x="1191" y="48"/>
                    <a:pt x="1191" y="41"/>
                  </a:cubicBezTo>
                  <a:cubicBezTo>
                    <a:pt x="1183" y="71"/>
                    <a:pt x="1179" y="110"/>
                    <a:pt x="1179" y="140"/>
                  </a:cubicBezTo>
                  <a:cubicBezTo>
                    <a:pt x="1179" y="145"/>
                    <a:pt x="1179" y="149"/>
                    <a:pt x="1180" y="153"/>
                  </a:cubicBezTo>
                  <a:cubicBezTo>
                    <a:pt x="1179" y="135"/>
                    <a:pt x="1174" y="116"/>
                    <a:pt x="1170" y="98"/>
                  </a:cubicBezTo>
                  <a:cubicBezTo>
                    <a:pt x="1172" y="110"/>
                    <a:pt x="1168" y="124"/>
                    <a:pt x="1168" y="136"/>
                  </a:cubicBezTo>
                  <a:cubicBezTo>
                    <a:pt x="1168" y="140"/>
                    <a:pt x="1168" y="143"/>
                    <a:pt x="1168" y="147"/>
                  </a:cubicBezTo>
                  <a:cubicBezTo>
                    <a:pt x="1165" y="125"/>
                    <a:pt x="1160" y="103"/>
                    <a:pt x="1151" y="83"/>
                  </a:cubicBezTo>
                  <a:cubicBezTo>
                    <a:pt x="1154" y="90"/>
                    <a:pt x="1154" y="108"/>
                    <a:pt x="1154" y="115"/>
                  </a:cubicBezTo>
                  <a:cubicBezTo>
                    <a:pt x="1154" y="127"/>
                    <a:pt x="1154" y="138"/>
                    <a:pt x="1156" y="150"/>
                  </a:cubicBezTo>
                  <a:cubicBezTo>
                    <a:pt x="1147" y="126"/>
                    <a:pt x="1144" y="99"/>
                    <a:pt x="1137" y="74"/>
                  </a:cubicBezTo>
                  <a:cubicBezTo>
                    <a:pt x="1140" y="91"/>
                    <a:pt x="1137" y="110"/>
                    <a:pt x="1137" y="128"/>
                  </a:cubicBezTo>
                  <a:cubicBezTo>
                    <a:pt x="1137" y="132"/>
                    <a:pt x="1137" y="136"/>
                    <a:pt x="1137" y="140"/>
                  </a:cubicBezTo>
                  <a:cubicBezTo>
                    <a:pt x="1138" y="145"/>
                    <a:pt x="1138" y="149"/>
                    <a:pt x="1139" y="154"/>
                  </a:cubicBezTo>
                  <a:cubicBezTo>
                    <a:pt x="1138" y="149"/>
                    <a:pt x="1137" y="145"/>
                    <a:pt x="1137" y="140"/>
                  </a:cubicBezTo>
                  <a:cubicBezTo>
                    <a:pt x="1134" y="120"/>
                    <a:pt x="1131" y="99"/>
                    <a:pt x="1126" y="80"/>
                  </a:cubicBezTo>
                  <a:cubicBezTo>
                    <a:pt x="1128" y="102"/>
                    <a:pt x="1118" y="126"/>
                    <a:pt x="1118" y="149"/>
                  </a:cubicBezTo>
                  <a:cubicBezTo>
                    <a:pt x="1118" y="156"/>
                    <a:pt x="1118" y="156"/>
                    <a:pt x="1118" y="156"/>
                  </a:cubicBezTo>
                  <a:cubicBezTo>
                    <a:pt x="1114" y="147"/>
                    <a:pt x="1114" y="132"/>
                    <a:pt x="1114" y="122"/>
                  </a:cubicBezTo>
                  <a:cubicBezTo>
                    <a:pt x="1114" y="100"/>
                    <a:pt x="1116" y="79"/>
                    <a:pt x="1115" y="57"/>
                  </a:cubicBezTo>
                  <a:cubicBezTo>
                    <a:pt x="1112" y="62"/>
                    <a:pt x="1111" y="112"/>
                    <a:pt x="1111" y="120"/>
                  </a:cubicBezTo>
                  <a:cubicBezTo>
                    <a:pt x="1111" y="133"/>
                    <a:pt x="1112" y="146"/>
                    <a:pt x="1115" y="159"/>
                  </a:cubicBezTo>
                  <a:cubicBezTo>
                    <a:pt x="1110" y="135"/>
                    <a:pt x="1104" y="108"/>
                    <a:pt x="1092" y="85"/>
                  </a:cubicBezTo>
                  <a:cubicBezTo>
                    <a:pt x="1103" y="106"/>
                    <a:pt x="1098" y="132"/>
                    <a:pt x="1105" y="154"/>
                  </a:cubicBezTo>
                  <a:cubicBezTo>
                    <a:pt x="1097" y="142"/>
                    <a:pt x="1095" y="122"/>
                    <a:pt x="1092" y="106"/>
                  </a:cubicBezTo>
                  <a:cubicBezTo>
                    <a:pt x="1094" y="120"/>
                    <a:pt x="1092" y="134"/>
                    <a:pt x="1094" y="148"/>
                  </a:cubicBezTo>
                  <a:cubicBezTo>
                    <a:pt x="1095" y="151"/>
                    <a:pt x="1096" y="153"/>
                    <a:pt x="1096" y="155"/>
                  </a:cubicBezTo>
                  <a:cubicBezTo>
                    <a:pt x="1095" y="153"/>
                    <a:pt x="1095" y="151"/>
                    <a:pt x="1094" y="148"/>
                  </a:cubicBezTo>
                  <a:cubicBezTo>
                    <a:pt x="1090" y="127"/>
                    <a:pt x="1077" y="75"/>
                    <a:pt x="1066" y="68"/>
                  </a:cubicBezTo>
                  <a:cubicBezTo>
                    <a:pt x="1083" y="90"/>
                    <a:pt x="1080" y="127"/>
                    <a:pt x="1085" y="153"/>
                  </a:cubicBezTo>
                  <a:cubicBezTo>
                    <a:pt x="1080" y="134"/>
                    <a:pt x="1073" y="113"/>
                    <a:pt x="1064" y="95"/>
                  </a:cubicBezTo>
                  <a:cubicBezTo>
                    <a:pt x="1071" y="115"/>
                    <a:pt x="1070" y="136"/>
                    <a:pt x="1079" y="155"/>
                  </a:cubicBezTo>
                  <a:cubicBezTo>
                    <a:pt x="1066" y="144"/>
                    <a:pt x="1059" y="117"/>
                    <a:pt x="1055" y="102"/>
                  </a:cubicBezTo>
                  <a:cubicBezTo>
                    <a:pt x="1056" y="120"/>
                    <a:pt x="1060" y="143"/>
                    <a:pt x="1071" y="158"/>
                  </a:cubicBezTo>
                  <a:cubicBezTo>
                    <a:pt x="1057" y="144"/>
                    <a:pt x="1052" y="103"/>
                    <a:pt x="1047" y="85"/>
                  </a:cubicBezTo>
                  <a:cubicBezTo>
                    <a:pt x="1046" y="88"/>
                    <a:pt x="1046" y="91"/>
                    <a:pt x="1046" y="94"/>
                  </a:cubicBezTo>
                  <a:cubicBezTo>
                    <a:pt x="1046" y="113"/>
                    <a:pt x="1052" y="142"/>
                    <a:pt x="1063" y="159"/>
                  </a:cubicBezTo>
                  <a:cubicBezTo>
                    <a:pt x="1050" y="143"/>
                    <a:pt x="1044" y="123"/>
                    <a:pt x="1038" y="104"/>
                  </a:cubicBezTo>
                  <a:cubicBezTo>
                    <a:pt x="1042" y="122"/>
                    <a:pt x="1042" y="140"/>
                    <a:pt x="1051" y="158"/>
                  </a:cubicBezTo>
                  <a:cubicBezTo>
                    <a:pt x="1041" y="147"/>
                    <a:pt x="1037" y="132"/>
                    <a:pt x="1033" y="117"/>
                  </a:cubicBezTo>
                  <a:cubicBezTo>
                    <a:pt x="1034" y="105"/>
                    <a:pt x="1035" y="93"/>
                    <a:pt x="1036" y="84"/>
                  </a:cubicBezTo>
                  <a:cubicBezTo>
                    <a:pt x="1034" y="92"/>
                    <a:pt x="1033" y="101"/>
                    <a:pt x="1031" y="109"/>
                  </a:cubicBezTo>
                  <a:cubicBezTo>
                    <a:pt x="1029" y="102"/>
                    <a:pt x="1027" y="95"/>
                    <a:pt x="1025" y="89"/>
                  </a:cubicBezTo>
                  <a:cubicBezTo>
                    <a:pt x="1028" y="64"/>
                    <a:pt x="1032" y="40"/>
                    <a:pt x="1032" y="40"/>
                  </a:cubicBezTo>
                  <a:cubicBezTo>
                    <a:pt x="1027" y="51"/>
                    <a:pt x="1022" y="77"/>
                    <a:pt x="1019" y="100"/>
                  </a:cubicBezTo>
                  <a:cubicBezTo>
                    <a:pt x="1017" y="95"/>
                    <a:pt x="1015" y="90"/>
                    <a:pt x="1013" y="86"/>
                  </a:cubicBezTo>
                  <a:cubicBezTo>
                    <a:pt x="1012" y="70"/>
                    <a:pt x="1011" y="58"/>
                    <a:pt x="1011" y="60"/>
                  </a:cubicBezTo>
                  <a:cubicBezTo>
                    <a:pt x="1011" y="61"/>
                    <a:pt x="1010" y="69"/>
                    <a:pt x="1009" y="80"/>
                  </a:cubicBezTo>
                  <a:cubicBezTo>
                    <a:pt x="1008" y="79"/>
                    <a:pt x="1008" y="78"/>
                    <a:pt x="1007" y="78"/>
                  </a:cubicBezTo>
                  <a:cubicBezTo>
                    <a:pt x="1008" y="79"/>
                    <a:pt x="1008" y="80"/>
                    <a:pt x="1009" y="81"/>
                  </a:cubicBezTo>
                  <a:cubicBezTo>
                    <a:pt x="1009" y="87"/>
                    <a:pt x="1008" y="95"/>
                    <a:pt x="1007" y="102"/>
                  </a:cubicBezTo>
                  <a:cubicBezTo>
                    <a:pt x="1007" y="102"/>
                    <a:pt x="1007" y="102"/>
                    <a:pt x="1007" y="102"/>
                  </a:cubicBezTo>
                  <a:cubicBezTo>
                    <a:pt x="1007" y="103"/>
                    <a:pt x="1007" y="103"/>
                    <a:pt x="1007" y="103"/>
                  </a:cubicBezTo>
                  <a:cubicBezTo>
                    <a:pt x="1006" y="113"/>
                    <a:pt x="1006" y="123"/>
                    <a:pt x="1005" y="130"/>
                  </a:cubicBezTo>
                  <a:cubicBezTo>
                    <a:pt x="1005" y="130"/>
                    <a:pt x="1005" y="129"/>
                    <a:pt x="1004" y="128"/>
                  </a:cubicBezTo>
                  <a:cubicBezTo>
                    <a:pt x="1004" y="107"/>
                    <a:pt x="1000" y="69"/>
                    <a:pt x="998" y="47"/>
                  </a:cubicBezTo>
                  <a:cubicBezTo>
                    <a:pt x="998" y="64"/>
                    <a:pt x="997" y="87"/>
                    <a:pt x="996" y="107"/>
                  </a:cubicBezTo>
                  <a:cubicBezTo>
                    <a:pt x="995" y="105"/>
                    <a:pt x="994" y="104"/>
                    <a:pt x="994" y="102"/>
                  </a:cubicBezTo>
                  <a:cubicBezTo>
                    <a:pt x="994" y="104"/>
                    <a:pt x="995" y="106"/>
                    <a:pt x="996" y="107"/>
                  </a:cubicBezTo>
                  <a:cubicBezTo>
                    <a:pt x="995" y="114"/>
                    <a:pt x="995" y="121"/>
                    <a:pt x="994" y="126"/>
                  </a:cubicBezTo>
                  <a:cubicBezTo>
                    <a:pt x="994" y="125"/>
                    <a:pt x="993" y="123"/>
                    <a:pt x="993" y="122"/>
                  </a:cubicBezTo>
                  <a:cubicBezTo>
                    <a:pt x="992" y="93"/>
                    <a:pt x="988" y="46"/>
                    <a:pt x="988" y="46"/>
                  </a:cubicBezTo>
                  <a:cubicBezTo>
                    <a:pt x="988" y="65"/>
                    <a:pt x="981" y="142"/>
                    <a:pt x="981" y="142"/>
                  </a:cubicBezTo>
                  <a:cubicBezTo>
                    <a:pt x="975" y="106"/>
                    <a:pt x="982" y="0"/>
                    <a:pt x="982" y="0"/>
                  </a:cubicBezTo>
                  <a:cubicBezTo>
                    <a:pt x="976" y="16"/>
                    <a:pt x="970" y="131"/>
                    <a:pt x="970" y="131"/>
                  </a:cubicBezTo>
                  <a:cubicBezTo>
                    <a:pt x="968" y="36"/>
                    <a:pt x="964" y="32"/>
                    <a:pt x="964" y="32"/>
                  </a:cubicBezTo>
                  <a:cubicBezTo>
                    <a:pt x="966" y="43"/>
                    <a:pt x="963" y="76"/>
                    <a:pt x="960" y="103"/>
                  </a:cubicBezTo>
                  <a:cubicBezTo>
                    <a:pt x="959" y="102"/>
                    <a:pt x="958" y="100"/>
                    <a:pt x="957" y="99"/>
                  </a:cubicBezTo>
                  <a:cubicBezTo>
                    <a:pt x="958" y="101"/>
                    <a:pt x="959" y="103"/>
                    <a:pt x="960" y="104"/>
                  </a:cubicBezTo>
                  <a:cubicBezTo>
                    <a:pt x="959" y="112"/>
                    <a:pt x="958" y="120"/>
                    <a:pt x="957" y="126"/>
                  </a:cubicBezTo>
                  <a:cubicBezTo>
                    <a:pt x="957" y="124"/>
                    <a:pt x="957" y="123"/>
                    <a:pt x="957" y="122"/>
                  </a:cubicBezTo>
                  <a:cubicBezTo>
                    <a:pt x="958" y="94"/>
                    <a:pt x="956" y="48"/>
                    <a:pt x="956" y="48"/>
                  </a:cubicBezTo>
                  <a:cubicBezTo>
                    <a:pt x="955" y="55"/>
                    <a:pt x="952" y="82"/>
                    <a:pt x="949" y="106"/>
                  </a:cubicBezTo>
                  <a:cubicBezTo>
                    <a:pt x="948" y="104"/>
                    <a:pt x="948" y="102"/>
                    <a:pt x="947" y="100"/>
                  </a:cubicBezTo>
                  <a:cubicBezTo>
                    <a:pt x="950" y="60"/>
                    <a:pt x="954" y="9"/>
                    <a:pt x="954" y="9"/>
                  </a:cubicBezTo>
                  <a:cubicBezTo>
                    <a:pt x="949" y="23"/>
                    <a:pt x="942" y="83"/>
                    <a:pt x="939" y="117"/>
                  </a:cubicBezTo>
                  <a:cubicBezTo>
                    <a:pt x="938" y="114"/>
                    <a:pt x="937" y="111"/>
                    <a:pt x="937" y="108"/>
                  </a:cubicBezTo>
                  <a:cubicBezTo>
                    <a:pt x="936" y="90"/>
                    <a:pt x="934" y="72"/>
                    <a:pt x="934" y="72"/>
                  </a:cubicBezTo>
                  <a:cubicBezTo>
                    <a:pt x="935" y="76"/>
                    <a:pt x="934" y="84"/>
                    <a:pt x="933" y="94"/>
                  </a:cubicBezTo>
                  <a:cubicBezTo>
                    <a:pt x="932" y="91"/>
                    <a:pt x="930" y="88"/>
                    <a:pt x="929" y="84"/>
                  </a:cubicBezTo>
                  <a:cubicBezTo>
                    <a:pt x="931" y="88"/>
                    <a:pt x="932" y="92"/>
                    <a:pt x="933" y="96"/>
                  </a:cubicBezTo>
                  <a:cubicBezTo>
                    <a:pt x="932" y="99"/>
                    <a:pt x="932" y="103"/>
                    <a:pt x="931" y="107"/>
                  </a:cubicBezTo>
                  <a:cubicBezTo>
                    <a:pt x="931" y="106"/>
                    <a:pt x="931" y="106"/>
                    <a:pt x="931" y="105"/>
                  </a:cubicBezTo>
                  <a:cubicBezTo>
                    <a:pt x="930" y="107"/>
                    <a:pt x="930" y="112"/>
                    <a:pt x="930" y="116"/>
                  </a:cubicBezTo>
                  <a:cubicBezTo>
                    <a:pt x="929" y="121"/>
                    <a:pt x="929" y="126"/>
                    <a:pt x="928" y="130"/>
                  </a:cubicBezTo>
                  <a:cubicBezTo>
                    <a:pt x="928" y="129"/>
                    <a:pt x="928" y="128"/>
                    <a:pt x="928" y="127"/>
                  </a:cubicBezTo>
                  <a:cubicBezTo>
                    <a:pt x="928" y="101"/>
                    <a:pt x="923" y="63"/>
                    <a:pt x="922" y="54"/>
                  </a:cubicBezTo>
                  <a:cubicBezTo>
                    <a:pt x="923" y="61"/>
                    <a:pt x="921" y="79"/>
                    <a:pt x="920" y="96"/>
                  </a:cubicBezTo>
                  <a:cubicBezTo>
                    <a:pt x="919" y="94"/>
                    <a:pt x="918" y="92"/>
                    <a:pt x="918" y="90"/>
                  </a:cubicBezTo>
                  <a:cubicBezTo>
                    <a:pt x="918" y="92"/>
                    <a:pt x="919" y="95"/>
                    <a:pt x="920" y="97"/>
                  </a:cubicBezTo>
                  <a:cubicBezTo>
                    <a:pt x="918" y="118"/>
                    <a:pt x="916" y="137"/>
                    <a:pt x="916" y="137"/>
                  </a:cubicBezTo>
                  <a:cubicBezTo>
                    <a:pt x="916" y="136"/>
                    <a:pt x="916" y="134"/>
                    <a:pt x="915" y="133"/>
                  </a:cubicBezTo>
                  <a:cubicBezTo>
                    <a:pt x="915" y="125"/>
                    <a:pt x="915" y="118"/>
                    <a:pt x="915" y="110"/>
                  </a:cubicBezTo>
                  <a:cubicBezTo>
                    <a:pt x="913" y="76"/>
                    <a:pt x="913" y="40"/>
                    <a:pt x="913" y="40"/>
                  </a:cubicBezTo>
                  <a:cubicBezTo>
                    <a:pt x="912" y="49"/>
                    <a:pt x="908" y="79"/>
                    <a:pt x="903" y="104"/>
                  </a:cubicBezTo>
                  <a:cubicBezTo>
                    <a:pt x="903" y="99"/>
                    <a:pt x="902" y="95"/>
                    <a:pt x="902" y="90"/>
                  </a:cubicBezTo>
                  <a:cubicBezTo>
                    <a:pt x="903" y="67"/>
                    <a:pt x="903" y="45"/>
                    <a:pt x="903" y="45"/>
                  </a:cubicBezTo>
                  <a:cubicBezTo>
                    <a:pt x="903" y="53"/>
                    <a:pt x="897" y="75"/>
                    <a:pt x="891" y="96"/>
                  </a:cubicBezTo>
                  <a:cubicBezTo>
                    <a:pt x="889" y="93"/>
                    <a:pt x="888" y="89"/>
                    <a:pt x="886" y="85"/>
                  </a:cubicBezTo>
                  <a:cubicBezTo>
                    <a:pt x="893" y="51"/>
                    <a:pt x="901" y="17"/>
                    <a:pt x="901" y="17"/>
                  </a:cubicBezTo>
                  <a:cubicBezTo>
                    <a:pt x="896" y="24"/>
                    <a:pt x="881" y="95"/>
                    <a:pt x="874" y="130"/>
                  </a:cubicBezTo>
                  <a:cubicBezTo>
                    <a:pt x="874" y="130"/>
                    <a:pt x="874" y="130"/>
                    <a:pt x="874" y="130"/>
                  </a:cubicBezTo>
                  <a:cubicBezTo>
                    <a:pt x="878" y="100"/>
                    <a:pt x="875" y="63"/>
                    <a:pt x="874" y="52"/>
                  </a:cubicBezTo>
                  <a:cubicBezTo>
                    <a:pt x="876" y="72"/>
                    <a:pt x="870" y="109"/>
                    <a:pt x="866" y="128"/>
                  </a:cubicBezTo>
                  <a:cubicBezTo>
                    <a:pt x="866" y="126"/>
                    <a:pt x="866" y="123"/>
                    <a:pt x="865" y="120"/>
                  </a:cubicBezTo>
                  <a:cubicBezTo>
                    <a:pt x="867" y="99"/>
                    <a:pt x="869" y="71"/>
                    <a:pt x="870" y="65"/>
                  </a:cubicBezTo>
                  <a:cubicBezTo>
                    <a:pt x="869" y="71"/>
                    <a:pt x="866" y="89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59" y="125"/>
                    <a:pt x="855" y="143"/>
                    <a:pt x="855" y="143"/>
                  </a:cubicBezTo>
                  <a:cubicBezTo>
                    <a:pt x="865" y="38"/>
                    <a:pt x="858" y="25"/>
                    <a:pt x="858" y="25"/>
                  </a:cubicBezTo>
                  <a:cubicBezTo>
                    <a:pt x="861" y="42"/>
                    <a:pt x="858" y="72"/>
                    <a:pt x="853" y="96"/>
                  </a:cubicBezTo>
                  <a:cubicBezTo>
                    <a:pt x="852" y="89"/>
                    <a:pt x="850" y="80"/>
                    <a:pt x="847" y="73"/>
                  </a:cubicBezTo>
                  <a:cubicBezTo>
                    <a:pt x="846" y="65"/>
                    <a:pt x="846" y="60"/>
                    <a:pt x="846" y="60"/>
                  </a:cubicBezTo>
                  <a:cubicBezTo>
                    <a:pt x="846" y="63"/>
                    <a:pt x="846" y="67"/>
                    <a:pt x="846" y="71"/>
                  </a:cubicBezTo>
                  <a:cubicBezTo>
                    <a:pt x="844" y="69"/>
                    <a:pt x="843" y="67"/>
                    <a:pt x="842" y="65"/>
                  </a:cubicBezTo>
                  <a:cubicBezTo>
                    <a:pt x="843" y="67"/>
                    <a:pt x="844" y="70"/>
                    <a:pt x="845" y="73"/>
                  </a:cubicBezTo>
                  <a:cubicBezTo>
                    <a:pt x="845" y="82"/>
                    <a:pt x="844" y="92"/>
                    <a:pt x="843" y="101"/>
                  </a:cubicBezTo>
                  <a:cubicBezTo>
                    <a:pt x="842" y="95"/>
                    <a:pt x="839" y="88"/>
                    <a:pt x="834" y="83"/>
                  </a:cubicBezTo>
                  <a:cubicBezTo>
                    <a:pt x="834" y="74"/>
                    <a:pt x="835" y="68"/>
                    <a:pt x="835" y="68"/>
                  </a:cubicBezTo>
                  <a:cubicBezTo>
                    <a:pt x="834" y="72"/>
                    <a:pt x="833" y="76"/>
                    <a:pt x="832" y="81"/>
                  </a:cubicBezTo>
                  <a:cubicBezTo>
                    <a:pt x="832" y="81"/>
                    <a:pt x="831" y="81"/>
                    <a:pt x="831" y="80"/>
                  </a:cubicBezTo>
                  <a:cubicBezTo>
                    <a:pt x="831" y="81"/>
                    <a:pt x="832" y="81"/>
                    <a:pt x="832" y="82"/>
                  </a:cubicBezTo>
                  <a:cubicBezTo>
                    <a:pt x="830" y="101"/>
                    <a:pt x="828" y="130"/>
                    <a:pt x="828" y="142"/>
                  </a:cubicBezTo>
                  <a:cubicBezTo>
                    <a:pt x="828" y="143"/>
                    <a:pt x="827" y="144"/>
                    <a:pt x="827" y="144"/>
                  </a:cubicBezTo>
                  <a:cubicBezTo>
                    <a:pt x="827" y="140"/>
                    <a:pt x="826" y="136"/>
                    <a:pt x="826" y="131"/>
                  </a:cubicBezTo>
                  <a:cubicBezTo>
                    <a:pt x="828" y="121"/>
                    <a:pt x="829" y="112"/>
                    <a:pt x="830" y="103"/>
                  </a:cubicBezTo>
                  <a:cubicBezTo>
                    <a:pt x="829" y="108"/>
                    <a:pt x="828" y="112"/>
                    <a:pt x="827" y="117"/>
                  </a:cubicBezTo>
                  <a:cubicBezTo>
                    <a:pt x="828" y="85"/>
                    <a:pt x="834" y="45"/>
                    <a:pt x="834" y="45"/>
                  </a:cubicBezTo>
                  <a:cubicBezTo>
                    <a:pt x="827" y="60"/>
                    <a:pt x="823" y="95"/>
                    <a:pt x="820" y="120"/>
                  </a:cubicBezTo>
                  <a:cubicBezTo>
                    <a:pt x="820" y="123"/>
                    <a:pt x="819" y="125"/>
                    <a:pt x="818" y="127"/>
                  </a:cubicBezTo>
                  <a:cubicBezTo>
                    <a:pt x="818" y="103"/>
                    <a:pt x="818" y="70"/>
                    <a:pt x="818" y="70"/>
                  </a:cubicBezTo>
                  <a:cubicBezTo>
                    <a:pt x="817" y="72"/>
                    <a:pt x="817" y="76"/>
                    <a:pt x="816" y="81"/>
                  </a:cubicBezTo>
                  <a:cubicBezTo>
                    <a:pt x="815" y="73"/>
                    <a:pt x="813" y="66"/>
                    <a:pt x="810" y="60"/>
                  </a:cubicBezTo>
                  <a:cubicBezTo>
                    <a:pt x="811" y="52"/>
                    <a:pt x="812" y="46"/>
                    <a:pt x="812" y="46"/>
                  </a:cubicBezTo>
                  <a:cubicBezTo>
                    <a:pt x="809" y="51"/>
                    <a:pt x="807" y="64"/>
                    <a:pt x="806" y="79"/>
                  </a:cubicBezTo>
                  <a:cubicBezTo>
                    <a:pt x="805" y="77"/>
                    <a:pt x="805" y="75"/>
                    <a:pt x="805" y="74"/>
                  </a:cubicBezTo>
                  <a:cubicBezTo>
                    <a:pt x="803" y="83"/>
                    <a:pt x="803" y="92"/>
                    <a:pt x="803" y="102"/>
                  </a:cubicBezTo>
                  <a:cubicBezTo>
                    <a:pt x="803" y="108"/>
                    <a:pt x="802" y="115"/>
                    <a:pt x="802" y="121"/>
                  </a:cubicBezTo>
                  <a:cubicBezTo>
                    <a:pt x="801" y="123"/>
                    <a:pt x="801" y="125"/>
                    <a:pt x="800" y="127"/>
                  </a:cubicBezTo>
                  <a:cubicBezTo>
                    <a:pt x="801" y="35"/>
                    <a:pt x="798" y="34"/>
                    <a:pt x="798" y="34"/>
                  </a:cubicBezTo>
                  <a:cubicBezTo>
                    <a:pt x="800" y="49"/>
                    <a:pt x="796" y="77"/>
                    <a:pt x="792" y="102"/>
                  </a:cubicBezTo>
                  <a:cubicBezTo>
                    <a:pt x="791" y="94"/>
                    <a:pt x="790" y="85"/>
                    <a:pt x="785" y="76"/>
                  </a:cubicBezTo>
                  <a:cubicBezTo>
                    <a:pt x="786" y="70"/>
                    <a:pt x="786" y="66"/>
                    <a:pt x="786" y="66"/>
                  </a:cubicBezTo>
                  <a:cubicBezTo>
                    <a:pt x="786" y="68"/>
                    <a:pt x="785" y="71"/>
                    <a:pt x="784" y="74"/>
                  </a:cubicBezTo>
                  <a:cubicBezTo>
                    <a:pt x="784" y="73"/>
                    <a:pt x="783" y="72"/>
                    <a:pt x="783" y="71"/>
                  </a:cubicBezTo>
                  <a:cubicBezTo>
                    <a:pt x="783" y="73"/>
                    <a:pt x="784" y="74"/>
                    <a:pt x="784" y="76"/>
                  </a:cubicBezTo>
                  <a:cubicBezTo>
                    <a:pt x="782" y="83"/>
                    <a:pt x="780" y="93"/>
                    <a:pt x="779" y="103"/>
                  </a:cubicBezTo>
                  <a:cubicBezTo>
                    <a:pt x="778" y="98"/>
                    <a:pt x="778" y="94"/>
                    <a:pt x="776" y="89"/>
                  </a:cubicBezTo>
                  <a:cubicBezTo>
                    <a:pt x="777" y="96"/>
                    <a:pt x="776" y="104"/>
                    <a:pt x="773" y="112"/>
                  </a:cubicBezTo>
                  <a:cubicBezTo>
                    <a:pt x="773" y="92"/>
                    <a:pt x="772" y="70"/>
                    <a:pt x="771" y="62"/>
                  </a:cubicBezTo>
                  <a:cubicBezTo>
                    <a:pt x="772" y="67"/>
                    <a:pt x="771" y="74"/>
                    <a:pt x="771" y="82"/>
                  </a:cubicBezTo>
                  <a:cubicBezTo>
                    <a:pt x="769" y="87"/>
                    <a:pt x="767" y="94"/>
                    <a:pt x="764" y="101"/>
                  </a:cubicBezTo>
                  <a:cubicBezTo>
                    <a:pt x="764" y="91"/>
                    <a:pt x="764" y="82"/>
                    <a:pt x="764" y="75"/>
                  </a:cubicBezTo>
                  <a:cubicBezTo>
                    <a:pt x="763" y="86"/>
                    <a:pt x="761" y="102"/>
                    <a:pt x="759" y="116"/>
                  </a:cubicBezTo>
                  <a:cubicBezTo>
                    <a:pt x="757" y="123"/>
                    <a:pt x="755" y="130"/>
                    <a:pt x="753" y="136"/>
                  </a:cubicBezTo>
                  <a:cubicBezTo>
                    <a:pt x="753" y="118"/>
                    <a:pt x="756" y="89"/>
                    <a:pt x="756" y="89"/>
                  </a:cubicBezTo>
                  <a:cubicBezTo>
                    <a:pt x="755" y="93"/>
                    <a:pt x="754" y="99"/>
                    <a:pt x="751" y="106"/>
                  </a:cubicBezTo>
                  <a:cubicBezTo>
                    <a:pt x="751" y="104"/>
                    <a:pt x="751" y="101"/>
                    <a:pt x="750" y="99"/>
                  </a:cubicBezTo>
                  <a:cubicBezTo>
                    <a:pt x="750" y="96"/>
                    <a:pt x="750" y="96"/>
                    <a:pt x="750" y="96"/>
                  </a:cubicBezTo>
                  <a:cubicBezTo>
                    <a:pt x="749" y="95"/>
                    <a:pt x="749" y="95"/>
                    <a:pt x="749" y="95"/>
                  </a:cubicBezTo>
                  <a:cubicBezTo>
                    <a:pt x="749" y="104"/>
                    <a:pt x="747" y="113"/>
                    <a:pt x="745" y="122"/>
                  </a:cubicBezTo>
                  <a:cubicBezTo>
                    <a:pt x="744" y="127"/>
                    <a:pt x="742" y="131"/>
                    <a:pt x="741" y="134"/>
                  </a:cubicBezTo>
                  <a:cubicBezTo>
                    <a:pt x="741" y="130"/>
                    <a:pt x="740" y="126"/>
                    <a:pt x="740" y="122"/>
                  </a:cubicBezTo>
                  <a:cubicBezTo>
                    <a:pt x="744" y="102"/>
                    <a:pt x="751" y="76"/>
                    <a:pt x="751" y="76"/>
                  </a:cubicBezTo>
                  <a:cubicBezTo>
                    <a:pt x="746" y="82"/>
                    <a:pt x="742" y="94"/>
                    <a:pt x="737" y="105"/>
                  </a:cubicBezTo>
                  <a:cubicBezTo>
                    <a:pt x="737" y="102"/>
                    <a:pt x="736" y="98"/>
                    <a:pt x="734" y="95"/>
                  </a:cubicBezTo>
                  <a:cubicBezTo>
                    <a:pt x="735" y="74"/>
                    <a:pt x="732" y="62"/>
                    <a:pt x="732" y="62"/>
                  </a:cubicBezTo>
                  <a:cubicBezTo>
                    <a:pt x="733" y="69"/>
                    <a:pt x="733" y="78"/>
                    <a:pt x="732" y="88"/>
                  </a:cubicBezTo>
                  <a:cubicBezTo>
                    <a:pt x="729" y="83"/>
                    <a:pt x="726" y="78"/>
                    <a:pt x="722" y="73"/>
                  </a:cubicBezTo>
                  <a:cubicBezTo>
                    <a:pt x="727" y="80"/>
                    <a:pt x="729" y="92"/>
                    <a:pt x="730" y="102"/>
                  </a:cubicBezTo>
                  <a:cubicBezTo>
                    <a:pt x="729" y="108"/>
                    <a:pt x="728" y="115"/>
                    <a:pt x="727" y="120"/>
                  </a:cubicBezTo>
                  <a:cubicBezTo>
                    <a:pt x="726" y="113"/>
                    <a:pt x="725" y="106"/>
                    <a:pt x="723" y="100"/>
                  </a:cubicBezTo>
                  <a:cubicBezTo>
                    <a:pt x="724" y="89"/>
                    <a:pt x="725" y="82"/>
                    <a:pt x="725" y="82"/>
                  </a:cubicBezTo>
                  <a:cubicBezTo>
                    <a:pt x="723" y="98"/>
                    <a:pt x="723" y="98"/>
                    <a:pt x="723" y="98"/>
                  </a:cubicBezTo>
                  <a:cubicBezTo>
                    <a:pt x="722" y="94"/>
                    <a:pt x="721" y="91"/>
                    <a:pt x="719" y="88"/>
                  </a:cubicBezTo>
                  <a:cubicBezTo>
                    <a:pt x="719" y="73"/>
                    <a:pt x="719" y="60"/>
                    <a:pt x="719" y="60"/>
                  </a:cubicBezTo>
                  <a:cubicBezTo>
                    <a:pt x="719" y="72"/>
                    <a:pt x="716" y="90"/>
                    <a:pt x="716" y="90"/>
                  </a:cubicBezTo>
                  <a:cubicBezTo>
                    <a:pt x="714" y="84"/>
                    <a:pt x="714" y="64"/>
                    <a:pt x="714" y="64"/>
                  </a:cubicBezTo>
                  <a:cubicBezTo>
                    <a:pt x="714" y="68"/>
                    <a:pt x="712" y="83"/>
                    <a:pt x="710" y="98"/>
                  </a:cubicBezTo>
                  <a:cubicBezTo>
                    <a:pt x="710" y="96"/>
                    <a:pt x="710" y="95"/>
                    <a:pt x="709" y="93"/>
                  </a:cubicBezTo>
                  <a:cubicBezTo>
                    <a:pt x="708" y="88"/>
                    <a:pt x="706" y="82"/>
                    <a:pt x="705" y="76"/>
                  </a:cubicBezTo>
                  <a:cubicBezTo>
                    <a:pt x="705" y="57"/>
                    <a:pt x="704" y="42"/>
                    <a:pt x="704" y="42"/>
                  </a:cubicBezTo>
                  <a:cubicBezTo>
                    <a:pt x="705" y="49"/>
                    <a:pt x="704" y="59"/>
                    <a:pt x="703" y="70"/>
                  </a:cubicBezTo>
                  <a:cubicBezTo>
                    <a:pt x="701" y="64"/>
                    <a:pt x="698" y="57"/>
                    <a:pt x="695" y="51"/>
                  </a:cubicBezTo>
                  <a:cubicBezTo>
                    <a:pt x="695" y="52"/>
                    <a:pt x="694" y="54"/>
                    <a:pt x="694" y="55"/>
                  </a:cubicBezTo>
                  <a:cubicBezTo>
                    <a:pt x="698" y="65"/>
                    <a:pt x="700" y="74"/>
                    <a:pt x="702" y="82"/>
                  </a:cubicBezTo>
                  <a:cubicBezTo>
                    <a:pt x="701" y="88"/>
                    <a:pt x="700" y="94"/>
                    <a:pt x="699" y="100"/>
                  </a:cubicBezTo>
                  <a:cubicBezTo>
                    <a:pt x="698" y="96"/>
                    <a:pt x="697" y="92"/>
                    <a:pt x="696" y="88"/>
                  </a:cubicBezTo>
                  <a:cubicBezTo>
                    <a:pt x="697" y="78"/>
                    <a:pt x="698" y="70"/>
                    <a:pt x="698" y="70"/>
                  </a:cubicBezTo>
                  <a:cubicBezTo>
                    <a:pt x="697" y="72"/>
                    <a:pt x="696" y="78"/>
                    <a:pt x="695" y="85"/>
                  </a:cubicBezTo>
                  <a:cubicBezTo>
                    <a:pt x="693" y="82"/>
                    <a:pt x="691" y="79"/>
                    <a:pt x="689" y="76"/>
                  </a:cubicBezTo>
                  <a:cubicBezTo>
                    <a:pt x="688" y="71"/>
                    <a:pt x="688" y="66"/>
                    <a:pt x="688" y="61"/>
                  </a:cubicBezTo>
                  <a:cubicBezTo>
                    <a:pt x="688" y="73"/>
                    <a:pt x="685" y="88"/>
                    <a:pt x="683" y="101"/>
                  </a:cubicBezTo>
                  <a:cubicBezTo>
                    <a:pt x="681" y="95"/>
                    <a:pt x="679" y="90"/>
                    <a:pt x="677" y="86"/>
                  </a:cubicBezTo>
                  <a:cubicBezTo>
                    <a:pt x="678" y="73"/>
                    <a:pt x="678" y="64"/>
                    <a:pt x="678" y="64"/>
                  </a:cubicBezTo>
                  <a:cubicBezTo>
                    <a:pt x="678" y="71"/>
                    <a:pt x="676" y="82"/>
                    <a:pt x="674" y="95"/>
                  </a:cubicBezTo>
                  <a:cubicBezTo>
                    <a:pt x="672" y="87"/>
                    <a:pt x="670" y="79"/>
                    <a:pt x="666" y="71"/>
                  </a:cubicBezTo>
                  <a:cubicBezTo>
                    <a:pt x="668" y="49"/>
                    <a:pt x="669" y="30"/>
                    <a:pt x="669" y="30"/>
                  </a:cubicBezTo>
                  <a:cubicBezTo>
                    <a:pt x="667" y="35"/>
                    <a:pt x="665" y="49"/>
                    <a:pt x="663" y="65"/>
                  </a:cubicBezTo>
                  <a:cubicBezTo>
                    <a:pt x="662" y="62"/>
                    <a:pt x="660" y="59"/>
                    <a:pt x="658" y="56"/>
                  </a:cubicBezTo>
                  <a:cubicBezTo>
                    <a:pt x="658" y="63"/>
                    <a:pt x="660" y="70"/>
                    <a:pt x="662" y="78"/>
                  </a:cubicBezTo>
                  <a:cubicBezTo>
                    <a:pt x="661" y="87"/>
                    <a:pt x="660" y="97"/>
                    <a:pt x="659" y="106"/>
                  </a:cubicBezTo>
                  <a:cubicBezTo>
                    <a:pt x="659" y="105"/>
                    <a:pt x="659" y="104"/>
                    <a:pt x="658" y="103"/>
                  </a:cubicBezTo>
                  <a:cubicBezTo>
                    <a:pt x="659" y="104"/>
                    <a:pt x="659" y="106"/>
                    <a:pt x="659" y="109"/>
                  </a:cubicBezTo>
                  <a:cubicBezTo>
                    <a:pt x="658" y="120"/>
                    <a:pt x="657" y="131"/>
                    <a:pt x="657" y="138"/>
                  </a:cubicBezTo>
                  <a:cubicBezTo>
                    <a:pt x="657" y="137"/>
                    <a:pt x="656" y="135"/>
                    <a:pt x="656" y="134"/>
                  </a:cubicBezTo>
                  <a:cubicBezTo>
                    <a:pt x="655" y="99"/>
                    <a:pt x="650" y="41"/>
                    <a:pt x="650" y="41"/>
                  </a:cubicBezTo>
                  <a:cubicBezTo>
                    <a:pt x="652" y="58"/>
                    <a:pt x="650" y="86"/>
                    <a:pt x="648" y="108"/>
                  </a:cubicBezTo>
                  <a:cubicBezTo>
                    <a:pt x="647" y="105"/>
                    <a:pt x="645" y="102"/>
                    <a:pt x="644" y="99"/>
                  </a:cubicBezTo>
                  <a:cubicBezTo>
                    <a:pt x="644" y="86"/>
                    <a:pt x="644" y="73"/>
                    <a:pt x="644" y="67"/>
                  </a:cubicBezTo>
                  <a:cubicBezTo>
                    <a:pt x="643" y="75"/>
                    <a:pt x="642" y="85"/>
                    <a:pt x="641" y="94"/>
                  </a:cubicBezTo>
                  <a:cubicBezTo>
                    <a:pt x="640" y="92"/>
                    <a:pt x="639" y="91"/>
                    <a:pt x="638" y="89"/>
                  </a:cubicBezTo>
                  <a:cubicBezTo>
                    <a:pt x="639" y="91"/>
                    <a:pt x="640" y="94"/>
                    <a:pt x="640" y="97"/>
                  </a:cubicBezTo>
                  <a:cubicBezTo>
                    <a:pt x="639" y="104"/>
                    <a:pt x="638" y="110"/>
                    <a:pt x="636" y="116"/>
                  </a:cubicBezTo>
                  <a:cubicBezTo>
                    <a:pt x="635" y="110"/>
                    <a:pt x="634" y="105"/>
                    <a:pt x="632" y="101"/>
                  </a:cubicBezTo>
                  <a:cubicBezTo>
                    <a:pt x="633" y="91"/>
                    <a:pt x="634" y="83"/>
                    <a:pt x="634" y="83"/>
                  </a:cubicBezTo>
                  <a:cubicBezTo>
                    <a:pt x="634" y="86"/>
                    <a:pt x="633" y="92"/>
                    <a:pt x="631" y="98"/>
                  </a:cubicBezTo>
                  <a:cubicBezTo>
                    <a:pt x="630" y="94"/>
                    <a:pt x="629" y="91"/>
                    <a:pt x="628" y="89"/>
                  </a:cubicBezTo>
                  <a:cubicBezTo>
                    <a:pt x="629" y="74"/>
                    <a:pt x="631" y="62"/>
                    <a:pt x="631" y="62"/>
                  </a:cubicBezTo>
                  <a:cubicBezTo>
                    <a:pt x="629" y="65"/>
                    <a:pt x="628" y="75"/>
                    <a:pt x="626" y="87"/>
                  </a:cubicBezTo>
                  <a:cubicBezTo>
                    <a:pt x="624" y="83"/>
                    <a:pt x="622" y="81"/>
                    <a:pt x="619" y="78"/>
                  </a:cubicBezTo>
                  <a:cubicBezTo>
                    <a:pt x="622" y="81"/>
                    <a:pt x="624" y="84"/>
                    <a:pt x="626" y="89"/>
                  </a:cubicBezTo>
                  <a:cubicBezTo>
                    <a:pt x="625" y="96"/>
                    <a:pt x="624" y="105"/>
                    <a:pt x="623" y="113"/>
                  </a:cubicBezTo>
                  <a:cubicBezTo>
                    <a:pt x="622" y="108"/>
                    <a:pt x="621" y="104"/>
                    <a:pt x="619" y="100"/>
                  </a:cubicBezTo>
                  <a:cubicBezTo>
                    <a:pt x="618" y="86"/>
                    <a:pt x="616" y="73"/>
                    <a:pt x="615" y="68"/>
                  </a:cubicBezTo>
                  <a:cubicBezTo>
                    <a:pt x="615" y="71"/>
                    <a:pt x="616" y="76"/>
                    <a:pt x="615" y="86"/>
                  </a:cubicBezTo>
                  <a:cubicBezTo>
                    <a:pt x="615" y="87"/>
                    <a:pt x="615" y="88"/>
                    <a:pt x="615" y="90"/>
                  </a:cubicBezTo>
                  <a:cubicBezTo>
                    <a:pt x="614" y="87"/>
                    <a:pt x="612" y="84"/>
                    <a:pt x="610" y="81"/>
                  </a:cubicBezTo>
                  <a:cubicBezTo>
                    <a:pt x="613" y="85"/>
                    <a:pt x="614" y="91"/>
                    <a:pt x="614" y="96"/>
                  </a:cubicBezTo>
                  <a:cubicBezTo>
                    <a:pt x="613" y="105"/>
                    <a:pt x="611" y="115"/>
                    <a:pt x="609" y="124"/>
                  </a:cubicBezTo>
                  <a:cubicBezTo>
                    <a:pt x="609" y="113"/>
                    <a:pt x="608" y="102"/>
                    <a:pt x="606" y="91"/>
                  </a:cubicBezTo>
                  <a:cubicBezTo>
                    <a:pt x="606" y="77"/>
                    <a:pt x="606" y="77"/>
                    <a:pt x="606" y="77"/>
                  </a:cubicBezTo>
                  <a:cubicBezTo>
                    <a:pt x="609" y="35"/>
                    <a:pt x="602" y="19"/>
                    <a:pt x="602" y="19"/>
                  </a:cubicBezTo>
                  <a:cubicBezTo>
                    <a:pt x="602" y="19"/>
                    <a:pt x="605" y="31"/>
                    <a:pt x="604" y="54"/>
                  </a:cubicBezTo>
                  <a:cubicBezTo>
                    <a:pt x="604" y="59"/>
                    <a:pt x="603" y="68"/>
                    <a:pt x="602" y="78"/>
                  </a:cubicBezTo>
                  <a:cubicBezTo>
                    <a:pt x="599" y="72"/>
                    <a:pt x="596" y="66"/>
                    <a:pt x="592" y="60"/>
                  </a:cubicBezTo>
                  <a:cubicBezTo>
                    <a:pt x="592" y="61"/>
                    <a:pt x="592" y="61"/>
                    <a:pt x="592" y="61"/>
                  </a:cubicBezTo>
                  <a:cubicBezTo>
                    <a:pt x="592" y="62"/>
                    <a:pt x="592" y="63"/>
                    <a:pt x="592" y="64"/>
                  </a:cubicBezTo>
                  <a:cubicBezTo>
                    <a:pt x="591" y="44"/>
                    <a:pt x="583" y="40"/>
                    <a:pt x="583" y="40"/>
                  </a:cubicBezTo>
                  <a:cubicBezTo>
                    <a:pt x="583" y="40"/>
                    <a:pt x="589" y="44"/>
                    <a:pt x="589" y="70"/>
                  </a:cubicBezTo>
                  <a:cubicBezTo>
                    <a:pt x="589" y="76"/>
                    <a:pt x="588" y="85"/>
                    <a:pt x="586" y="94"/>
                  </a:cubicBezTo>
                  <a:cubicBezTo>
                    <a:pt x="584" y="90"/>
                    <a:pt x="581" y="86"/>
                    <a:pt x="578" y="83"/>
                  </a:cubicBezTo>
                  <a:cubicBezTo>
                    <a:pt x="581" y="87"/>
                    <a:pt x="584" y="92"/>
                    <a:pt x="586" y="97"/>
                  </a:cubicBezTo>
                  <a:cubicBezTo>
                    <a:pt x="585" y="100"/>
                    <a:pt x="585" y="103"/>
                    <a:pt x="584" y="106"/>
                  </a:cubicBezTo>
                  <a:cubicBezTo>
                    <a:pt x="584" y="104"/>
                    <a:pt x="583" y="102"/>
                    <a:pt x="583" y="100"/>
                  </a:cubicBezTo>
                  <a:cubicBezTo>
                    <a:pt x="583" y="102"/>
                    <a:pt x="583" y="105"/>
                    <a:pt x="584" y="108"/>
                  </a:cubicBezTo>
                  <a:cubicBezTo>
                    <a:pt x="583" y="111"/>
                    <a:pt x="582" y="114"/>
                    <a:pt x="581" y="117"/>
                  </a:cubicBezTo>
                  <a:cubicBezTo>
                    <a:pt x="580" y="113"/>
                    <a:pt x="579" y="108"/>
                    <a:pt x="577" y="104"/>
                  </a:cubicBezTo>
                  <a:cubicBezTo>
                    <a:pt x="577" y="87"/>
                    <a:pt x="578" y="71"/>
                    <a:pt x="578" y="71"/>
                  </a:cubicBezTo>
                  <a:cubicBezTo>
                    <a:pt x="578" y="73"/>
                    <a:pt x="576" y="84"/>
                    <a:pt x="573" y="97"/>
                  </a:cubicBezTo>
                  <a:cubicBezTo>
                    <a:pt x="572" y="95"/>
                    <a:pt x="571" y="93"/>
                    <a:pt x="570" y="92"/>
                  </a:cubicBezTo>
                  <a:cubicBezTo>
                    <a:pt x="571" y="81"/>
                    <a:pt x="572" y="72"/>
                    <a:pt x="573" y="66"/>
                  </a:cubicBezTo>
                  <a:cubicBezTo>
                    <a:pt x="572" y="73"/>
                    <a:pt x="571" y="81"/>
                    <a:pt x="569" y="90"/>
                  </a:cubicBezTo>
                  <a:cubicBezTo>
                    <a:pt x="568" y="88"/>
                    <a:pt x="566" y="86"/>
                    <a:pt x="565" y="83"/>
                  </a:cubicBezTo>
                  <a:cubicBezTo>
                    <a:pt x="568" y="26"/>
                    <a:pt x="566" y="12"/>
                    <a:pt x="566" y="12"/>
                  </a:cubicBezTo>
                  <a:cubicBezTo>
                    <a:pt x="566" y="12"/>
                    <a:pt x="566" y="18"/>
                    <a:pt x="563" y="56"/>
                  </a:cubicBezTo>
                  <a:cubicBezTo>
                    <a:pt x="562" y="64"/>
                    <a:pt x="561" y="71"/>
                    <a:pt x="560" y="78"/>
                  </a:cubicBezTo>
                  <a:cubicBezTo>
                    <a:pt x="558" y="76"/>
                    <a:pt x="556" y="73"/>
                    <a:pt x="553" y="71"/>
                  </a:cubicBezTo>
                  <a:cubicBezTo>
                    <a:pt x="554" y="48"/>
                    <a:pt x="555" y="31"/>
                    <a:pt x="555" y="31"/>
                  </a:cubicBezTo>
                  <a:cubicBezTo>
                    <a:pt x="553" y="37"/>
                    <a:pt x="551" y="52"/>
                    <a:pt x="550" y="68"/>
                  </a:cubicBezTo>
                  <a:cubicBezTo>
                    <a:pt x="548" y="66"/>
                    <a:pt x="546" y="65"/>
                    <a:pt x="544" y="63"/>
                  </a:cubicBezTo>
                  <a:cubicBezTo>
                    <a:pt x="547" y="65"/>
                    <a:pt x="548" y="67"/>
                    <a:pt x="550" y="69"/>
                  </a:cubicBezTo>
                  <a:cubicBezTo>
                    <a:pt x="549" y="82"/>
                    <a:pt x="549" y="96"/>
                    <a:pt x="548" y="109"/>
                  </a:cubicBezTo>
                  <a:cubicBezTo>
                    <a:pt x="547" y="104"/>
                    <a:pt x="545" y="99"/>
                    <a:pt x="544" y="96"/>
                  </a:cubicBezTo>
                  <a:cubicBezTo>
                    <a:pt x="545" y="104"/>
                    <a:pt x="546" y="112"/>
                    <a:pt x="548" y="120"/>
                  </a:cubicBezTo>
                  <a:cubicBezTo>
                    <a:pt x="548" y="123"/>
                    <a:pt x="548" y="126"/>
                    <a:pt x="548" y="128"/>
                  </a:cubicBezTo>
                  <a:cubicBezTo>
                    <a:pt x="547" y="125"/>
                    <a:pt x="545" y="122"/>
                    <a:pt x="544" y="118"/>
                  </a:cubicBezTo>
                  <a:cubicBezTo>
                    <a:pt x="539" y="80"/>
                    <a:pt x="532" y="28"/>
                    <a:pt x="532" y="28"/>
                  </a:cubicBezTo>
                  <a:cubicBezTo>
                    <a:pt x="532" y="39"/>
                    <a:pt x="530" y="72"/>
                    <a:pt x="528" y="100"/>
                  </a:cubicBezTo>
                  <a:cubicBezTo>
                    <a:pt x="528" y="98"/>
                    <a:pt x="527" y="97"/>
                    <a:pt x="526" y="96"/>
                  </a:cubicBezTo>
                  <a:cubicBezTo>
                    <a:pt x="527" y="97"/>
                    <a:pt x="528" y="99"/>
                    <a:pt x="528" y="100"/>
                  </a:cubicBezTo>
                  <a:cubicBezTo>
                    <a:pt x="528" y="110"/>
                    <a:pt x="527" y="120"/>
                    <a:pt x="526" y="128"/>
                  </a:cubicBezTo>
                  <a:cubicBezTo>
                    <a:pt x="526" y="128"/>
                    <a:pt x="526" y="127"/>
                    <a:pt x="526" y="127"/>
                  </a:cubicBezTo>
                  <a:cubicBezTo>
                    <a:pt x="526" y="109"/>
                    <a:pt x="524" y="87"/>
                    <a:pt x="523" y="71"/>
                  </a:cubicBezTo>
                  <a:cubicBezTo>
                    <a:pt x="524" y="68"/>
                    <a:pt x="525" y="66"/>
                    <a:pt x="526" y="64"/>
                  </a:cubicBezTo>
                  <a:cubicBezTo>
                    <a:pt x="525" y="65"/>
                    <a:pt x="524" y="67"/>
                    <a:pt x="523" y="69"/>
                  </a:cubicBezTo>
                  <a:cubicBezTo>
                    <a:pt x="522" y="61"/>
                    <a:pt x="521" y="55"/>
                    <a:pt x="521" y="53"/>
                  </a:cubicBezTo>
                  <a:cubicBezTo>
                    <a:pt x="521" y="52"/>
                    <a:pt x="522" y="52"/>
                    <a:pt x="522" y="51"/>
                  </a:cubicBezTo>
                  <a:cubicBezTo>
                    <a:pt x="522" y="51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19" y="54"/>
                    <a:pt x="517" y="56"/>
                    <a:pt x="516" y="57"/>
                  </a:cubicBezTo>
                  <a:cubicBezTo>
                    <a:pt x="516" y="54"/>
                    <a:pt x="516" y="52"/>
                    <a:pt x="517" y="50"/>
                  </a:cubicBezTo>
                  <a:cubicBezTo>
                    <a:pt x="520" y="46"/>
                    <a:pt x="523" y="42"/>
                    <a:pt x="527" y="38"/>
                  </a:cubicBezTo>
                  <a:cubicBezTo>
                    <a:pt x="523" y="41"/>
                    <a:pt x="520" y="44"/>
                    <a:pt x="517" y="47"/>
                  </a:cubicBezTo>
                  <a:cubicBezTo>
                    <a:pt x="517" y="43"/>
                    <a:pt x="518" y="40"/>
                    <a:pt x="518" y="40"/>
                  </a:cubicBezTo>
                  <a:cubicBezTo>
                    <a:pt x="517" y="43"/>
                    <a:pt x="516" y="46"/>
                    <a:pt x="515" y="50"/>
                  </a:cubicBezTo>
                  <a:cubicBezTo>
                    <a:pt x="507" y="58"/>
                    <a:pt x="502" y="66"/>
                    <a:pt x="498" y="75"/>
                  </a:cubicBezTo>
                  <a:cubicBezTo>
                    <a:pt x="498" y="70"/>
                    <a:pt x="497" y="66"/>
                    <a:pt x="497" y="63"/>
                  </a:cubicBezTo>
                  <a:cubicBezTo>
                    <a:pt x="500" y="57"/>
                    <a:pt x="503" y="50"/>
                    <a:pt x="507" y="42"/>
                  </a:cubicBezTo>
                  <a:cubicBezTo>
                    <a:pt x="498" y="52"/>
                    <a:pt x="492" y="61"/>
                    <a:pt x="488" y="71"/>
                  </a:cubicBezTo>
                  <a:cubicBezTo>
                    <a:pt x="487" y="70"/>
                    <a:pt x="487" y="70"/>
                    <a:pt x="486" y="69"/>
                  </a:cubicBezTo>
                  <a:cubicBezTo>
                    <a:pt x="486" y="68"/>
                    <a:pt x="486" y="67"/>
                    <a:pt x="486" y="65"/>
                  </a:cubicBezTo>
                  <a:cubicBezTo>
                    <a:pt x="492" y="53"/>
                    <a:pt x="500" y="41"/>
                    <a:pt x="511" y="25"/>
                  </a:cubicBezTo>
                  <a:cubicBezTo>
                    <a:pt x="500" y="40"/>
                    <a:pt x="492" y="51"/>
                    <a:pt x="485" y="63"/>
                  </a:cubicBezTo>
                  <a:cubicBezTo>
                    <a:pt x="483" y="45"/>
                    <a:pt x="482" y="30"/>
                    <a:pt x="482" y="30"/>
                  </a:cubicBezTo>
                  <a:cubicBezTo>
                    <a:pt x="482" y="35"/>
                    <a:pt x="482" y="49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7"/>
                    <a:pt x="482" y="69"/>
                    <a:pt x="482" y="71"/>
                  </a:cubicBezTo>
                  <a:cubicBezTo>
                    <a:pt x="480" y="74"/>
                    <a:pt x="479" y="78"/>
                    <a:pt x="478" y="81"/>
                  </a:cubicBezTo>
                  <a:cubicBezTo>
                    <a:pt x="479" y="78"/>
                    <a:pt x="480" y="76"/>
                    <a:pt x="482" y="73"/>
                  </a:cubicBezTo>
                  <a:cubicBezTo>
                    <a:pt x="481" y="79"/>
                    <a:pt x="481" y="85"/>
                    <a:pt x="481" y="91"/>
                  </a:cubicBezTo>
                  <a:cubicBezTo>
                    <a:pt x="481" y="93"/>
                    <a:pt x="480" y="95"/>
                    <a:pt x="480" y="97"/>
                  </a:cubicBezTo>
                  <a:cubicBezTo>
                    <a:pt x="479" y="96"/>
                    <a:pt x="478" y="95"/>
                    <a:pt x="478" y="94"/>
                  </a:cubicBezTo>
                  <a:cubicBezTo>
                    <a:pt x="478" y="91"/>
                    <a:pt x="477" y="88"/>
                    <a:pt x="477" y="85"/>
                  </a:cubicBezTo>
                  <a:cubicBezTo>
                    <a:pt x="477" y="83"/>
                    <a:pt x="478" y="82"/>
                    <a:pt x="478" y="81"/>
                  </a:cubicBezTo>
                  <a:cubicBezTo>
                    <a:pt x="478" y="82"/>
                    <a:pt x="477" y="83"/>
                    <a:pt x="477" y="84"/>
                  </a:cubicBezTo>
                  <a:cubicBezTo>
                    <a:pt x="476" y="72"/>
                    <a:pt x="476" y="62"/>
                    <a:pt x="475" y="55"/>
                  </a:cubicBezTo>
                  <a:cubicBezTo>
                    <a:pt x="476" y="54"/>
                    <a:pt x="477" y="53"/>
                    <a:pt x="479" y="52"/>
                  </a:cubicBezTo>
                  <a:cubicBezTo>
                    <a:pt x="477" y="53"/>
                    <a:pt x="476" y="54"/>
                    <a:pt x="475" y="54"/>
                  </a:cubicBezTo>
                  <a:cubicBezTo>
                    <a:pt x="475" y="49"/>
                    <a:pt x="475" y="46"/>
                    <a:pt x="475" y="46"/>
                  </a:cubicBezTo>
                  <a:cubicBezTo>
                    <a:pt x="475" y="48"/>
                    <a:pt x="474" y="51"/>
                    <a:pt x="474" y="55"/>
                  </a:cubicBezTo>
                  <a:cubicBezTo>
                    <a:pt x="471" y="57"/>
                    <a:pt x="468" y="59"/>
                    <a:pt x="465" y="62"/>
                  </a:cubicBezTo>
                  <a:cubicBezTo>
                    <a:pt x="465" y="58"/>
                    <a:pt x="465" y="54"/>
                    <a:pt x="466" y="50"/>
                  </a:cubicBezTo>
                  <a:cubicBezTo>
                    <a:pt x="469" y="45"/>
                    <a:pt x="474" y="40"/>
                    <a:pt x="479" y="34"/>
                  </a:cubicBezTo>
                  <a:cubicBezTo>
                    <a:pt x="474" y="39"/>
                    <a:pt x="470" y="44"/>
                    <a:pt x="466" y="48"/>
                  </a:cubicBezTo>
                  <a:cubicBezTo>
                    <a:pt x="467" y="21"/>
                    <a:pt x="468" y="0"/>
                    <a:pt x="468" y="0"/>
                  </a:cubicBezTo>
                  <a:cubicBezTo>
                    <a:pt x="464" y="10"/>
                    <a:pt x="462" y="35"/>
                    <a:pt x="461" y="53"/>
                  </a:cubicBezTo>
                  <a:cubicBezTo>
                    <a:pt x="460" y="54"/>
                    <a:pt x="459" y="55"/>
                    <a:pt x="459" y="56"/>
                  </a:cubicBezTo>
                  <a:cubicBezTo>
                    <a:pt x="457" y="44"/>
                    <a:pt x="454" y="33"/>
                    <a:pt x="454" y="33"/>
                  </a:cubicBezTo>
                  <a:cubicBezTo>
                    <a:pt x="456" y="39"/>
                    <a:pt x="455" y="49"/>
                    <a:pt x="454" y="62"/>
                  </a:cubicBezTo>
                  <a:cubicBezTo>
                    <a:pt x="452" y="63"/>
                    <a:pt x="451" y="65"/>
                    <a:pt x="450" y="67"/>
                  </a:cubicBezTo>
                  <a:cubicBezTo>
                    <a:pt x="449" y="65"/>
                    <a:pt x="448" y="63"/>
                    <a:pt x="447" y="62"/>
                  </a:cubicBezTo>
                  <a:cubicBezTo>
                    <a:pt x="447" y="63"/>
                    <a:pt x="448" y="65"/>
                    <a:pt x="449" y="68"/>
                  </a:cubicBezTo>
                  <a:cubicBezTo>
                    <a:pt x="447" y="72"/>
                    <a:pt x="445" y="75"/>
                    <a:pt x="443" y="78"/>
                  </a:cubicBezTo>
                  <a:cubicBezTo>
                    <a:pt x="442" y="61"/>
                    <a:pt x="442" y="48"/>
                    <a:pt x="442" y="48"/>
                  </a:cubicBezTo>
                  <a:cubicBezTo>
                    <a:pt x="442" y="52"/>
                    <a:pt x="440" y="65"/>
                    <a:pt x="438" y="80"/>
                  </a:cubicBezTo>
                  <a:cubicBezTo>
                    <a:pt x="438" y="82"/>
                    <a:pt x="437" y="85"/>
                    <a:pt x="436" y="87"/>
                  </a:cubicBezTo>
                  <a:cubicBezTo>
                    <a:pt x="435" y="86"/>
                    <a:pt x="435" y="86"/>
                    <a:pt x="434" y="85"/>
                  </a:cubicBezTo>
                  <a:cubicBezTo>
                    <a:pt x="437" y="48"/>
                    <a:pt x="440" y="9"/>
                    <a:pt x="440" y="9"/>
                  </a:cubicBezTo>
                  <a:cubicBezTo>
                    <a:pt x="436" y="20"/>
                    <a:pt x="432" y="57"/>
                    <a:pt x="428" y="89"/>
                  </a:cubicBezTo>
                  <a:cubicBezTo>
                    <a:pt x="427" y="91"/>
                    <a:pt x="427" y="92"/>
                    <a:pt x="426" y="93"/>
                  </a:cubicBezTo>
                  <a:cubicBezTo>
                    <a:pt x="425" y="92"/>
                    <a:pt x="424" y="90"/>
                    <a:pt x="423" y="89"/>
                  </a:cubicBezTo>
                  <a:cubicBezTo>
                    <a:pt x="426" y="72"/>
                    <a:pt x="429" y="55"/>
                    <a:pt x="429" y="37"/>
                  </a:cubicBezTo>
                  <a:cubicBezTo>
                    <a:pt x="429" y="34"/>
                    <a:pt x="429" y="30"/>
                    <a:pt x="429" y="26"/>
                  </a:cubicBezTo>
                  <a:cubicBezTo>
                    <a:pt x="422" y="45"/>
                    <a:pt x="421" y="66"/>
                    <a:pt x="417" y="86"/>
                  </a:cubicBezTo>
                  <a:cubicBezTo>
                    <a:pt x="417" y="85"/>
                    <a:pt x="416" y="84"/>
                    <a:pt x="416" y="84"/>
                  </a:cubicBezTo>
                  <a:cubicBezTo>
                    <a:pt x="416" y="84"/>
                    <a:pt x="417" y="85"/>
                    <a:pt x="417" y="86"/>
                  </a:cubicBezTo>
                  <a:cubicBezTo>
                    <a:pt x="417" y="88"/>
                    <a:pt x="416" y="90"/>
                    <a:pt x="416" y="92"/>
                  </a:cubicBezTo>
                  <a:cubicBezTo>
                    <a:pt x="415" y="94"/>
                    <a:pt x="415" y="96"/>
                    <a:pt x="414" y="98"/>
                  </a:cubicBezTo>
                  <a:cubicBezTo>
                    <a:pt x="414" y="97"/>
                    <a:pt x="413" y="96"/>
                    <a:pt x="412" y="95"/>
                  </a:cubicBezTo>
                  <a:cubicBezTo>
                    <a:pt x="412" y="86"/>
                    <a:pt x="411" y="78"/>
                    <a:pt x="410" y="72"/>
                  </a:cubicBezTo>
                  <a:cubicBezTo>
                    <a:pt x="413" y="67"/>
                    <a:pt x="417" y="63"/>
                    <a:pt x="421" y="59"/>
                  </a:cubicBezTo>
                  <a:cubicBezTo>
                    <a:pt x="417" y="62"/>
                    <a:pt x="413" y="66"/>
                    <a:pt x="410" y="70"/>
                  </a:cubicBezTo>
                  <a:cubicBezTo>
                    <a:pt x="409" y="64"/>
                    <a:pt x="409" y="60"/>
                    <a:pt x="408" y="57"/>
                  </a:cubicBezTo>
                  <a:cubicBezTo>
                    <a:pt x="410" y="54"/>
                    <a:pt x="411" y="52"/>
                    <a:pt x="412" y="50"/>
                  </a:cubicBezTo>
                  <a:cubicBezTo>
                    <a:pt x="411" y="51"/>
                    <a:pt x="409" y="53"/>
                    <a:pt x="408" y="54"/>
                  </a:cubicBezTo>
                  <a:cubicBezTo>
                    <a:pt x="408" y="53"/>
                    <a:pt x="408" y="52"/>
                    <a:pt x="408" y="52"/>
                  </a:cubicBezTo>
                  <a:cubicBezTo>
                    <a:pt x="408" y="53"/>
                    <a:pt x="408" y="54"/>
                    <a:pt x="408" y="54"/>
                  </a:cubicBezTo>
                  <a:cubicBezTo>
                    <a:pt x="406" y="56"/>
                    <a:pt x="404" y="58"/>
                    <a:pt x="402" y="60"/>
                  </a:cubicBezTo>
                  <a:cubicBezTo>
                    <a:pt x="401" y="54"/>
                    <a:pt x="400" y="48"/>
                    <a:pt x="399" y="44"/>
                  </a:cubicBezTo>
                  <a:cubicBezTo>
                    <a:pt x="400" y="49"/>
                    <a:pt x="399" y="56"/>
                    <a:pt x="398" y="64"/>
                  </a:cubicBezTo>
                  <a:cubicBezTo>
                    <a:pt x="397" y="66"/>
                    <a:pt x="396" y="68"/>
                    <a:pt x="395" y="69"/>
                  </a:cubicBezTo>
                  <a:cubicBezTo>
                    <a:pt x="393" y="67"/>
                    <a:pt x="392" y="66"/>
                    <a:pt x="390" y="64"/>
                  </a:cubicBezTo>
                  <a:cubicBezTo>
                    <a:pt x="392" y="66"/>
                    <a:pt x="393" y="67"/>
                    <a:pt x="395" y="69"/>
                  </a:cubicBezTo>
                  <a:cubicBezTo>
                    <a:pt x="393" y="71"/>
                    <a:pt x="392" y="73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0" y="76"/>
                    <a:pt x="389" y="77"/>
                    <a:pt x="388" y="79"/>
                  </a:cubicBezTo>
                  <a:cubicBezTo>
                    <a:pt x="388" y="79"/>
                    <a:pt x="388" y="79"/>
                    <a:pt x="388" y="79"/>
                  </a:cubicBezTo>
                  <a:cubicBezTo>
                    <a:pt x="389" y="60"/>
                    <a:pt x="389" y="45"/>
                    <a:pt x="389" y="45"/>
                  </a:cubicBezTo>
                  <a:cubicBezTo>
                    <a:pt x="389" y="50"/>
                    <a:pt x="387" y="61"/>
                    <a:pt x="384" y="73"/>
                  </a:cubicBezTo>
                  <a:cubicBezTo>
                    <a:pt x="383" y="73"/>
                    <a:pt x="383" y="73"/>
                    <a:pt x="383" y="72"/>
                  </a:cubicBezTo>
                  <a:cubicBezTo>
                    <a:pt x="383" y="70"/>
                    <a:pt x="383" y="68"/>
                    <a:pt x="383" y="66"/>
                  </a:cubicBezTo>
                  <a:cubicBezTo>
                    <a:pt x="383" y="65"/>
                    <a:pt x="383" y="65"/>
                    <a:pt x="384" y="65"/>
                  </a:cubicBezTo>
                  <a:cubicBezTo>
                    <a:pt x="383" y="65"/>
                    <a:pt x="383" y="65"/>
                    <a:pt x="383" y="66"/>
                  </a:cubicBezTo>
                  <a:cubicBezTo>
                    <a:pt x="383" y="64"/>
                    <a:pt x="383" y="63"/>
                    <a:pt x="383" y="61"/>
                  </a:cubicBezTo>
                  <a:cubicBezTo>
                    <a:pt x="383" y="55"/>
                    <a:pt x="383" y="49"/>
                    <a:pt x="382" y="42"/>
                  </a:cubicBezTo>
                  <a:cubicBezTo>
                    <a:pt x="385" y="27"/>
                    <a:pt x="387" y="17"/>
                    <a:pt x="387" y="17"/>
                  </a:cubicBezTo>
                  <a:cubicBezTo>
                    <a:pt x="384" y="22"/>
                    <a:pt x="377" y="49"/>
                    <a:pt x="371" y="78"/>
                  </a:cubicBezTo>
                  <a:cubicBezTo>
                    <a:pt x="371" y="78"/>
                    <a:pt x="371" y="79"/>
                    <a:pt x="371" y="79"/>
                  </a:cubicBezTo>
                  <a:cubicBezTo>
                    <a:pt x="369" y="76"/>
                    <a:pt x="367" y="72"/>
                    <a:pt x="364" y="69"/>
                  </a:cubicBezTo>
                  <a:cubicBezTo>
                    <a:pt x="366" y="67"/>
                    <a:pt x="367" y="66"/>
                    <a:pt x="369" y="64"/>
                  </a:cubicBezTo>
                  <a:cubicBezTo>
                    <a:pt x="367" y="66"/>
                    <a:pt x="365" y="67"/>
                    <a:pt x="364" y="69"/>
                  </a:cubicBezTo>
                  <a:cubicBezTo>
                    <a:pt x="363" y="68"/>
                    <a:pt x="362" y="67"/>
                    <a:pt x="361" y="66"/>
                  </a:cubicBezTo>
                  <a:cubicBezTo>
                    <a:pt x="361" y="60"/>
                    <a:pt x="361" y="55"/>
                    <a:pt x="360" y="52"/>
                  </a:cubicBezTo>
                  <a:cubicBezTo>
                    <a:pt x="361" y="56"/>
                    <a:pt x="361" y="60"/>
                    <a:pt x="360" y="64"/>
                  </a:cubicBezTo>
                  <a:cubicBezTo>
                    <a:pt x="357" y="60"/>
                    <a:pt x="352" y="55"/>
                    <a:pt x="347" y="50"/>
                  </a:cubicBezTo>
                  <a:cubicBezTo>
                    <a:pt x="350" y="55"/>
                    <a:pt x="353" y="60"/>
                    <a:pt x="356" y="65"/>
                  </a:cubicBezTo>
                  <a:cubicBezTo>
                    <a:pt x="355" y="68"/>
                    <a:pt x="355" y="71"/>
                    <a:pt x="354" y="76"/>
                  </a:cubicBezTo>
                  <a:cubicBezTo>
                    <a:pt x="352" y="74"/>
                    <a:pt x="350" y="71"/>
                    <a:pt x="348" y="68"/>
                  </a:cubicBezTo>
                  <a:cubicBezTo>
                    <a:pt x="347" y="54"/>
                    <a:pt x="346" y="41"/>
                    <a:pt x="345" y="33"/>
                  </a:cubicBezTo>
                  <a:cubicBezTo>
                    <a:pt x="346" y="42"/>
                    <a:pt x="345" y="53"/>
                    <a:pt x="344" y="65"/>
                  </a:cubicBezTo>
                  <a:cubicBezTo>
                    <a:pt x="342" y="63"/>
                    <a:pt x="340" y="61"/>
                    <a:pt x="338" y="59"/>
                  </a:cubicBezTo>
                  <a:cubicBezTo>
                    <a:pt x="340" y="61"/>
                    <a:pt x="342" y="63"/>
                    <a:pt x="344" y="65"/>
                  </a:cubicBezTo>
                  <a:cubicBezTo>
                    <a:pt x="343" y="72"/>
                    <a:pt x="342" y="80"/>
                    <a:pt x="341" y="87"/>
                  </a:cubicBezTo>
                  <a:cubicBezTo>
                    <a:pt x="341" y="87"/>
                    <a:pt x="341" y="87"/>
                    <a:pt x="341" y="87"/>
                  </a:cubicBezTo>
                  <a:cubicBezTo>
                    <a:pt x="341" y="85"/>
                    <a:pt x="340" y="84"/>
                    <a:pt x="340" y="83"/>
                  </a:cubicBezTo>
                  <a:cubicBezTo>
                    <a:pt x="340" y="82"/>
                    <a:pt x="340" y="82"/>
                    <a:pt x="340" y="81"/>
                  </a:cubicBezTo>
                  <a:cubicBezTo>
                    <a:pt x="340" y="82"/>
                    <a:pt x="340" y="82"/>
                    <a:pt x="340" y="83"/>
                  </a:cubicBezTo>
                  <a:cubicBezTo>
                    <a:pt x="339" y="81"/>
                    <a:pt x="338" y="79"/>
                    <a:pt x="337" y="77"/>
                  </a:cubicBezTo>
                  <a:cubicBezTo>
                    <a:pt x="338" y="79"/>
                    <a:pt x="339" y="81"/>
                    <a:pt x="339" y="83"/>
                  </a:cubicBezTo>
                  <a:cubicBezTo>
                    <a:pt x="338" y="85"/>
                    <a:pt x="337" y="86"/>
                    <a:pt x="336" y="88"/>
                  </a:cubicBezTo>
                  <a:cubicBezTo>
                    <a:pt x="337" y="86"/>
                    <a:pt x="338" y="85"/>
                    <a:pt x="339" y="83"/>
                  </a:cubicBezTo>
                  <a:cubicBezTo>
                    <a:pt x="340" y="85"/>
                    <a:pt x="340" y="86"/>
                    <a:pt x="340" y="88"/>
                  </a:cubicBezTo>
                  <a:cubicBezTo>
                    <a:pt x="338" y="91"/>
                    <a:pt x="337" y="95"/>
                    <a:pt x="335" y="98"/>
                  </a:cubicBezTo>
                  <a:cubicBezTo>
                    <a:pt x="335" y="97"/>
                    <a:pt x="335" y="97"/>
                    <a:pt x="334" y="97"/>
                  </a:cubicBezTo>
                  <a:cubicBezTo>
                    <a:pt x="334" y="95"/>
                    <a:pt x="334" y="94"/>
                    <a:pt x="334" y="93"/>
                  </a:cubicBezTo>
                  <a:cubicBezTo>
                    <a:pt x="334" y="91"/>
                    <a:pt x="335" y="89"/>
                    <a:pt x="336" y="88"/>
                  </a:cubicBezTo>
                  <a:cubicBezTo>
                    <a:pt x="335" y="89"/>
                    <a:pt x="334" y="91"/>
                    <a:pt x="334" y="92"/>
                  </a:cubicBezTo>
                  <a:cubicBezTo>
                    <a:pt x="333" y="92"/>
                    <a:pt x="333" y="91"/>
                    <a:pt x="333" y="91"/>
                  </a:cubicBezTo>
                  <a:cubicBezTo>
                    <a:pt x="333" y="74"/>
                    <a:pt x="332" y="60"/>
                    <a:pt x="332" y="60"/>
                  </a:cubicBezTo>
                  <a:cubicBezTo>
                    <a:pt x="332" y="65"/>
                    <a:pt x="332" y="73"/>
                    <a:pt x="331" y="81"/>
                  </a:cubicBezTo>
                  <a:cubicBezTo>
                    <a:pt x="330" y="79"/>
                    <a:pt x="330" y="76"/>
                    <a:pt x="329" y="74"/>
                  </a:cubicBezTo>
                  <a:cubicBezTo>
                    <a:pt x="330" y="79"/>
                    <a:pt x="330" y="83"/>
                    <a:pt x="330" y="88"/>
                  </a:cubicBezTo>
                  <a:cubicBezTo>
                    <a:pt x="329" y="86"/>
                    <a:pt x="328" y="84"/>
                    <a:pt x="327" y="83"/>
                  </a:cubicBezTo>
                  <a:cubicBezTo>
                    <a:pt x="328" y="85"/>
                    <a:pt x="329" y="87"/>
                    <a:pt x="330" y="89"/>
                  </a:cubicBezTo>
                  <a:cubicBezTo>
                    <a:pt x="330" y="89"/>
                    <a:pt x="330" y="89"/>
                    <a:pt x="330" y="89"/>
                  </a:cubicBezTo>
                  <a:cubicBezTo>
                    <a:pt x="330" y="93"/>
                    <a:pt x="329" y="97"/>
                    <a:pt x="329" y="101"/>
                  </a:cubicBezTo>
                  <a:cubicBezTo>
                    <a:pt x="328" y="103"/>
                    <a:pt x="327" y="104"/>
                    <a:pt x="327" y="106"/>
                  </a:cubicBezTo>
                  <a:cubicBezTo>
                    <a:pt x="325" y="100"/>
                    <a:pt x="324" y="95"/>
                    <a:pt x="322" y="90"/>
                  </a:cubicBezTo>
                  <a:cubicBezTo>
                    <a:pt x="323" y="88"/>
                    <a:pt x="325" y="85"/>
                    <a:pt x="327" y="83"/>
                  </a:cubicBezTo>
                  <a:cubicBezTo>
                    <a:pt x="325" y="85"/>
                    <a:pt x="323" y="87"/>
                    <a:pt x="321" y="89"/>
                  </a:cubicBezTo>
                  <a:cubicBezTo>
                    <a:pt x="321" y="88"/>
                    <a:pt x="321" y="87"/>
                    <a:pt x="320" y="87"/>
                  </a:cubicBezTo>
                  <a:cubicBezTo>
                    <a:pt x="320" y="76"/>
                    <a:pt x="321" y="68"/>
                    <a:pt x="321" y="68"/>
                  </a:cubicBezTo>
                  <a:cubicBezTo>
                    <a:pt x="320" y="72"/>
                    <a:pt x="319" y="77"/>
                    <a:pt x="318" y="82"/>
                  </a:cubicBezTo>
                  <a:cubicBezTo>
                    <a:pt x="318" y="81"/>
                    <a:pt x="318" y="80"/>
                    <a:pt x="318" y="80"/>
                  </a:cubicBezTo>
                  <a:cubicBezTo>
                    <a:pt x="318" y="80"/>
                    <a:pt x="318" y="81"/>
                    <a:pt x="318" y="82"/>
                  </a:cubicBezTo>
                  <a:cubicBezTo>
                    <a:pt x="317" y="80"/>
                    <a:pt x="316" y="78"/>
                    <a:pt x="314" y="75"/>
                  </a:cubicBezTo>
                  <a:cubicBezTo>
                    <a:pt x="315" y="65"/>
                    <a:pt x="316" y="56"/>
                    <a:pt x="317" y="48"/>
                  </a:cubicBezTo>
                  <a:cubicBezTo>
                    <a:pt x="316" y="55"/>
                    <a:pt x="315" y="64"/>
                    <a:pt x="313" y="73"/>
                  </a:cubicBezTo>
                  <a:cubicBezTo>
                    <a:pt x="311" y="70"/>
                    <a:pt x="309" y="67"/>
                    <a:pt x="307" y="64"/>
                  </a:cubicBezTo>
                  <a:cubicBezTo>
                    <a:pt x="307" y="62"/>
                    <a:pt x="307" y="59"/>
                    <a:pt x="307" y="57"/>
                  </a:cubicBezTo>
                  <a:cubicBezTo>
                    <a:pt x="306" y="58"/>
                    <a:pt x="306" y="60"/>
                    <a:pt x="305" y="62"/>
                  </a:cubicBezTo>
                  <a:cubicBezTo>
                    <a:pt x="303" y="59"/>
                    <a:pt x="300" y="55"/>
                    <a:pt x="297" y="52"/>
                  </a:cubicBezTo>
                  <a:cubicBezTo>
                    <a:pt x="297" y="48"/>
                    <a:pt x="298" y="46"/>
                    <a:pt x="298" y="46"/>
                  </a:cubicBezTo>
                  <a:cubicBezTo>
                    <a:pt x="297" y="48"/>
                    <a:pt x="297" y="49"/>
                    <a:pt x="296" y="51"/>
                  </a:cubicBezTo>
                  <a:cubicBezTo>
                    <a:pt x="293" y="47"/>
                    <a:pt x="289" y="43"/>
                    <a:pt x="285" y="39"/>
                  </a:cubicBezTo>
                  <a:cubicBezTo>
                    <a:pt x="285" y="37"/>
                    <a:pt x="285" y="35"/>
                    <a:pt x="285" y="34"/>
                  </a:cubicBezTo>
                  <a:cubicBezTo>
                    <a:pt x="285" y="34"/>
                    <a:pt x="285" y="36"/>
                    <a:pt x="285" y="39"/>
                  </a:cubicBezTo>
                  <a:cubicBezTo>
                    <a:pt x="283" y="37"/>
                    <a:pt x="282" y="36"/>
                    <a:pt x="280" y="34"/>
                  </a:cubicBezTo>
                  <a:cubicBezTo>
                    <a:pt x="282" y="36"/>
                    <a:pt x="283" y="38"/>
                    <a:pt x="285" y="40"/>
                  </a:cubicBezTo>
                  <a:cubicBezTo>
                    <a:pt x="285" y="40"/>
                    <a:pt x="285" y="40"/>
                    <a:pt x="285" y="41"/>
                  </a:cubicBezTo>
                  <a:cubicBezTo>
                    <a:pt x="285" y="40"/>
                    <a:pt x="285" y="40"/>
                    <a:pt x="285" y="40"/>
                  </a:cubicBezTo>
                  <a:cubicBezTo>
                    <a:pt x="289" y="45"/>
                    <a:pt x="293" y="49"/>
                    <a:pt x="296" y="53"/>
                  </a:cubicBezTo>
                  <a:cubicBezTo>
                    <a:pt x="295" y="55"/>
                    <a:pt x="295" y="59"/>
                    <a:pt x="294" y="62"/>
                  </a:cubicBezTo>
                  <a:cubicBezTo>
                    <a:pt x="292" y="60"/>
                    <a:pt x="289" y="58"/>
                    <a:pt x="286" y="56"/>
                  </a:cubicBezTo>
                  <a:cubicBezTo>
                    <a:pt x="285" y="50"/>
                    <a:pt x="285" y="44"/>
                    <a:pt x="285" y="41"/>
                  </a:cubicBezTo>
                  <a:cubicBezTo>
                    <a:pt x="285" y="45"/>
                    <a:pt x="285" y="50"/>
                    <a:pt x="284" y="55"/>
                  </a:cubicBezTo>
                  <a:cubicBezTo>
                    <a:pt x="283" y="54"/>
                    <a:pt x="282" y="53"/>
                    <a:pt x="280" y="52"/>
                  </a:cubicBezTo>
                  <a:cubicBezTo>
                    <a:pt x="282" y="53"/>
                    <a:pt x="283" y="54"/>
                    <a:pt x="284" y="55"/>
                  </a:cubicBezTo>
                  <a:cubicBezTo>
                    <a:pt x="284" y="64"/>
                    <a:pt x="283" y="73"/>
                    <a:pt x="281" y="83"/>
                  </a:cubicBezTo>
                  <a:cubicBezTo>
                    <a:pt x="281" y="82"/>
                    <a:pt x="281" y="81"/>
                    <a:pt x="281" y="81"/>
                  </a:cubicBezTo>
                  <a:cubicBezTo>
                    <a:pt x="281" y="82"/>
                    <a:pt x="281" y="82"/>
                    <a:pt x="281" y="83"/>
                  </a:cubicBezTo>
                  <a:cubicBezTo>
                    <a:pt x="281" y="88"/>
                    <a:pt x="280" y="92"/>
                    <a:pt x="279" y="97"/>
                  </a:cubicBezTo>
                  <a:cubicBezTo>
                    <a:pt x="278" y="89"/>
                    <a:pt x="275" y="81"/>
                    <a:pt x="272" y="73"/>
                  </a:cubicBezTo>
                  <a:cubicBezTo>
                    <a:pt x="272" y="72"/>
                    <a:pt x="272" y="71"/>
                    <a:pt x="272" y="71"/>
                  </a:cubicBezTo>
                  <a:cubicBezTo>
                    <a:pt x="273" y="70"/>
                    <a:pt x="274" y="69"/>
                    <a:pt x="275" y="68"/>
                  </a:cubicBezTo>
                  <a:cubicBezTo>
                    <a:pt x="277" y="72"/>
                    <a:pt x="279" y="76"/>
                    <a:pt x="281" y="81"/>
                  </a:cubicBezTo>
                  <a:cubicBezTo>
                    <a:pt x="279" y="76"/>
                    <a:pt x="278" y="72"/>
                    <a:pt x="275" y="67"/>
                  </a:cubicBezTo>
                  <a:cubicBezTo>
                    <a:pt x="276" y="67"/>
                    <a:pt x="277" y="66"/>
                    <a:pt x="277" y="65"/>
                  </a:cubicBezTo>
                  <a:cubicBezTo>
                    <a:pt x="277" y="66"/>
                    <a:pt x="276" y="66"/>
                    <a:pt x="275" y="67"/>
                  </a:cubicBezTo>
                  <a:cubicBezTo>
                    <a:pt x="269" y="54"/>
                    <a:pt x="259" y="41"/>
                    <a:pt x="247" y="25"/>
                  </a:cubicBezTo>
                  <a:cubicBezTo>
                    <a:pt x="259" y="42"/>
                    <a:pt x="268" y="55"/>
                    <a:pt x="275" y="68"/>
                  </a:cubicBezTo>
                  <a:cubicBezTo>
                    <a:pt x="274" y="68"/>
                    <a:pt x="273" y="69"/>
                    <a:pt x="272" y="70"/>
                  </a:cubicBezTo>
                  <a:cubicBezTo>
                    <a:pt x="272" y="68"/>
                    <a:pt x="272" y="66"/>
                    <a:pt x="272" y="66"/>
                  </a:cubicBezTo>
                  <a:cubicBezTo>
                    <a:pt x="272" y="68"/>
                    <a:pt x="272" y="69"/>
                    <a:pt x="271" y="71"/>
                  </a:cubicBezTo>
                  <a:cubicBezTo>
                    <a:pt x="271" y="71"/>
                    <a:pt x="271" y="71"/>
                    <a:pt x="271" y="71"/>
                  </a:cubicBezTo>
                  <a:cubicBezTo>
                    <a:pt x="267" y="61"/>
                    <a:pt x="260" y="52"/>
                    <a:pt x="251" y="42"/>
                  </a:cubicBezTo>
                  <a:cubicBezTo>
                    <a:pt x="258" y="55"/>
                    <a:pt x="263" y="65"/>
                    <a:pt x="267" y="75"/>
                  </a:cubicBezTo>
                  <a:cubicBezTo>
                    <a:pt x="266" y="76"/>
                    <a:pt x="265" y="77"/>
                    <a:pt x="264" y="77"/>
                  </a:cubicBezTo>
                  <a:cubicBezTo>
                    <a:pt x="262" y="73"/>
                    <a:pt x="260" y="70"/>
                    <a:pt x="258" y="68"/>
                  </a:cubicBezTo>
                  <a:cubicBezTo>
                    <a:pt x="258" y="63"/>
                    <a:pt x="257" y="60"/>
                    <a:pt x="257" y="60"/>
                  </a:cubicBezTo>
                  <a:cubicBezTo>
                    <a:pt x="257" y="62"/>
                    <a:pt x="257" y="64"/>
                    <a:pt x="257" y="67"/>
                  </a:cubicBezTo>
                  <a:cubicBezTo>
                    <a:pt x="251" y="57"/>
                    <a:pt x="243" y="47"/>
                    <a:pt x="232" y="38"/>
                  </a:cubicBezTo>
                  <a:cubicBezTo>
                    <a:pt x="243" y="49"/>
                    <a:pt x="251" y="60"/>
                    <a:pt x="257" y="71"/>
                  </a:cubicBezTo>
                  <a:cubicBezTo>
                    <a:pt x="256" y="75"/>
                    <a:pt x="256" y="80"/>
                    <a:pt x="256" y="85"/>
                  </a:cubicBezTo>
                  <a:cubicBezTo>
                    <a:pt x="255" y="84"/>
                    <a:pt x="255" y="84"/>
                    <a:pt x="254" y="83"/>
                  </a:cubicBezTo>
                  <a:cubicBezTo>
                    <a:pt x="255" y="84"/>
                    <a:pt x="255" y="85"/>
                    <a:pt x="256" y="86"/>
                  </a:cubicBezTo>
                  <a:cubicBezTo>
                    <a:pt x="255" y="87"/>
                    <a:pt x="255" y="88"/>
                    <a:pt x="255" y="89"/>
                  </a:cubicBezTo>
                  <a:cubicBezTo>
                    <a:pt x="253" y="92"/>
                    <a:pt x="252" y="94"/>
                    <a:pt x="250" y="97"/>
                  </a:cubicBezTo>
                  <a:cubicBezTo>
                    <a:pt x="250" y="93"/>
                    <a:pt x="250" y="90"/>
                    <a:pt x="250" y="87"/>
                  </a:cubicBezTo>
                  <a:cubicBezTo>
                    <a:pt x="251" y="84"/>
                    <a:pt x="252" y="82"/>
                    <a:pt x="253" y="80"/>
                  </a:cubicBezTo>
                  <a:cubicBezTo>
                    <a:pt x="253" y="81"/>
                    <a:pt x="254" y="82"/>
                    <a:pt x="254" y="83"/>
                  </a:cubicBezTo>
                  <a:cubicBezTo>
                    <a:pt x="254" y="81"/>
                    <a:pt x="253" y="80"/>
                    <a:pt x="253" y="79"/>
                  </a:cubicBezTo>
                  <a:cubicBezTo>
                    <a:pt x="253" y="79"/>
                    <a:pt x="253" y="78"/>
                    <a:pt x="254" y="77"/>
                  </a:cubicBezTo>
                  <a:cubicBezTo>
                    <a:pt x="253" y="77"/>
                    <a:pt x="253" y="78"/>
                    <a:pt x="252" y="79"/>
                  </a:cubicBezTo>
                  <a:cubicBezTo>
                    <a:pt x="251" y="77"/>
                    <a:pt x="251" y="76"/>
                    <a:pt x="250" y="75"/>
                  </a:cubicBezTo>
                  <a:cubicBezTo>
                    <a:pt x="251" y="77"/>
                    <a:pt x="251" y="78"/>
                    <a:pt x="252" y="79"/>
                  </a:cubicBezTo>
                  <a:cubicBezTo>
                    <a:pt x="251" y="80"/>
                    <a:pt x="251" y="81"/>
                    <a:pt x="250" y="82"/>
                  </a:cubicBezTo>
                  <a:cubicBezTo>
                    <a:pt x="250" y="73"/>
                    <a:pt x="250" y="68"/>
                    <a:pt x="250" y="68"/>
                  </a:cubicBezTo>
                  <a:cubicBezTo>
                    <a:pt x="250" y="72"/>
                    <a:pt x="249" y="78"/>
                    <a:pt x="248" y="85"/>
                  </a:cubicBezTo>
                  <a:cubicBezTo>
                    <a:pt x="246" y="90"/>
                    <a:pt x="244" y="94"/>
                    <a:pt x="242" y="99"/>
                  </a:cubicBezTo>
                  <a:cubicBezTo>
                    <a:pt x="242" y="98"/>
                    <a:pt x="241" y="97"/>
                    <a:pt x="241" y="96"/>
                  </a:cubicBezTo>
                  <a:cubicBezTo>
                    <a:pt x="242" y="92"/>
                    <a:pt x="242" y="89"/>
                    <a:pt x="242" y="89"/>
                  </a:cubicBezTo>
                  <a:cubicBezTo>
                    <a:pt x="242" y="91"/>
                    <a:pt x="241" y="92"/>
                    <a:pt x="241" y="94"/>
                  </a:cubicBezTo>
                  <a:cubicBezTo>
                    <a:pt x="240" y="91"/>
                    <a:pt x="239" y="88"/>
                    <a:pt x="239" y="85"/>
                  </a:cubicBezTo>
                  <a:cubicBezTo>
                    <a:pt x="238" y="88"/>
                    <a:pt x="238" y="91"/>
                    <a:pt x="238" y="94"/>
                  </a:cubicBezTo>
                  <a:cubicBezTo>
                    <a:pt x="238" y="97"/>
                    <a:pt x="238" y="100"/>
                    <a:pt x="238" y="103"/>
                  </a:cubicBezTo>
                  <a:cubicBezTo>
                    <a:pt x="237" y="107"/>
                    <a:pt x="236" y="112"/>
                    <a:pt x="234" y="116"/>
                  </a:cubicBezTo>
                  <a:cubicBezTo>
                    <a:pt x="233" y="112"/>
                    <a:pt x="231" y="108"/>
                    <a:pt x="230" y="104"/>
                  </a:cubicBezTo>
                  <a:cubicBezTo>
                    <a:pt x="231" y="109"/>
                    <a:pt x="232" y="115"/>
                    <a:pt x="233" y="120"/>
                  </a:cubicBezTo>
                  <a:cubicBezTo>
                    <a:pt x="231" y="124"/>
                    <a:pt x="230" y="127"/>
                    <a:pt x="228" y="130"/>
                  </a:cubicBezTo>
                  <a:cubicBezTo>
                    <a:pt x="227" y="128"/>
                    <a:pt x="227" y="126"/>
                    <a:pt x="226" y="123"/>
                  </a:cubicBezTo>
                  <a:cubicBezTo>
                    <a:pt x="227" y="115"/>
                    <a:pt x="229" y="106"/>
                    <a:pt x="231" y="99"/>
                  </a:cubicBezTo>
                  <a:cubicBezTo>
                    <a:pt x="232" y="98"/>
                    <a:pt x="232" y="97"/>
                    <a:pt x="232" y="96"/>
                  </a:cubicBezTo>
                  <a:cubicBezTo>
                    <a:pt x="232" y="96"/>
                    <a:pt x="232" y="97"/>
                    <a:pt x="232" y="97"/>
                  </a:cubicBezTo>
                  <a:cubicBezTo>
                    <a:pt x="234" y="86"/>
                    <a:pt x="237" y="76"/>
                    <a:pt x="237" y="76"/>
                  </a:cubicBezTo>
                  <a:cubicBezTo>
                    <a:pt x="232" y="83"/>
                    <a:pt x="227" y="96"/>
                    <a:pt x="222" y="109"/>
                  </a:cubicBezTo>
                  <a:cubicBezTo>
                    <a:pt x="222" y="107"/>
                    <a:pt x="222" y="106"/>
                    <a:pt x="221" y="104"/>
                  </a:cubicBezTo>
                  <a:cubicBezTo>
                    <a:pt x="223" y="97"/>
                    <a:pt x="226" y="90"/>
                    <a:pt x="229" y="84"/>
                  </a:cubicBezTo>
                  <a:cubicBezTo>
                    <a:pt x="226" y="90"/>
                    <a:pt x="223" y="96"/>
                    <a:pt x="221" y="102"/>
                  </a:cubicBezTo>
                  <a:cubicBezTo>
                    <a:pt x="221" y="102"/>
                    <a:pt x="220" y="101"/>
                    <a:pt x="220" y="101"/>
                  </a:cubicBezTo>
                  <a:cubicBezTo>
                    <a:pt x="222" y="77"/>
                    <a:pt x="218" y="62"/>
                    <a:pt x="218" y="62"/>
                  </a:cubicBezTo>
                  <a:cubicBezTo>
                    <a:pt x="219" y="69"/>
                    <a:pt x="219" y="80"/>
                    <a:pt x="218" y="91"/>
                  </a:cubicBezTo>
                  <a:cubicBezTo>
                    <a:pt x="217" y="89"/>
                    <a:pt x="217" y="88"/>
                    <a:pt x="216" y="87"/>
                  </a:cubicBezTo>
                  <a:cubicBezTo>
                    <a:pt x="216" y="88"/>
                    <a:pt x="216" y="88"/>
                    <a:pt x="216" y="88"/>
                  </a:cubicBezTo>
                  <a:cubicBezTo>
                    <a:pt x="216" y="90"/>
                    <a:pt x="217" y="93"/>
                    <a:pt x="217" y="96"/>
                  </a:cubicBezTo>
                  <a:cubicBezTo>
                    <a:pt x="216" y="101"/>
                    <a:pt x="216" y="105"/>
                    <a:pt x="215" y="110"/>
                  </a:cubicBezTo>
                  <a:cubicBezTo>
                    <a:pt x="214" y="109"/>
                    <a:pt x="214" y="107"/>
                    <a:pt x="213" y="106"/>
                  </a:cubicBezTo>
                  <a:cubicBezTo>
                    <a:pt x="214" y="103"/>
                    <a:pt x="214" y="99"/>
                    <a:pt x="215" y="96"/>
                  </a:cubicBezTo>
                  <a:cubicBezTo>
                    <a:pt x="214" y="98"/>
                    <a:pt x="213" y="100"/>
                    <a:pt x="212" y="103"/>
                  </a:cubicBezTo>
                  <a:cubicBezTo>
                    <a:pt x="211" y="101"/>
                    <a:pt x="210" y="99"/>
                    <a:pt x="210" y="98"/>
                  </a:cubicBezTo>
                  <a:cubicBezTo>
                    <a:pt x="210" y="89"/>
                    <a:pt x="211" y="82"/>
                    <a:pt x="211" y="82"/>
                  </a:cubicBezTo>
                  <a:cubicBezTo>
                    <a:pt x="209" y="97"/>
                    <a:pt x="209" y="97"/>
                    <a:pt x="209" y="97"/>
                  </a:cubicBezTo>
                  <a:cubicBezTo>
                    <a:pt x="208" y="94"/>
                    <a:pt x="207" y="92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89"/>
                    <a:pt x="206" y="89"/>
                    <a:pt x="205" y="88"/>
                  </a:cubicBezTo>
                  <a:cubicBezTo>
                    <a:pt x="205" y="83"/>
                    <a:pt x="205" y="78"/>
                    <a:pt x="205" y="73"/>
                  </a:cubicBezTo>
                  <a:cubicBezTo>
                    <a:pt x="208" y="70"/>
                    <a:pt x="211" y="66"/>
                    <a:pt x="214" y="63"/>
                  </a:cubicBezTo>
                  <a:cubicBezTo>
                    <a:pt x="211" y="66"/>
                    <a:pt x="208" y="69"/>
                    <a:pt x="205" y="71"/>
                  </a:cubicBezTo>
                  <a:cubicBezTo>
                    <a:pt x="205" y="65"/>
                    <a:pt x="205" y="60"/>
                    <a:pt x="205" y="60"/>
                  </a:cubicBezTo>
                  <a:cubicBezTo>
                    <a:pt x="205" y="64"/>
                    <a:pt x="204" y="68"/>
                    <a:pt x="204" y="72"/>
                  </a:cubicBezTo>
                  <a:cubicBezTo>
                    <a:pt x="203" y="74"/>
                    <a:pt x="201" y="75"/>
                    <a:pt x="200" y="77"/>
                  </a:cubicBezTo>
                  <a:cubicBezTo>
                    <a:pt x="200" y="70"/>
                    <a:pt x="200" y="64"/>
                    <a:pt x="200" y="64"/>
                  </a:cubicBezTo>
                  <a:cubicBezTo>
                    <a:pt x="200" y="66"/>
                    <a:pt x="199" y="71"/>
                    <a:pt x="198" y="78"/>
                  </a:cubicBezTo>
                  <a:cubicBezTo>
                    <a:pt x="196" y="81"/>
                    <a:pt x="193" y="85"/>
                    <a:pt x="191" y="88"/>
                  </a:cubicBezTo>
                  <a:cubicBezTo>
                    <a:pt x="191" y="64"/>
                    <a:pt x="191" y="42"/>
                    <a:pt x="191" y="42"/>
                  </a:cubicBezTo>
                  <a:cubicBezTo>
                    <a:pt x="191" y="55"/>
                    <a:pt x="188" y="77"/>
                    <a:pt x="186" y="96"/>
                  </a:cubicBezTo>
                  <a:cubicBezTo>
                    <a:pt x="184" y="100"/>
                    <a:pt x="182" y="104"/>
                    <a:pt x="181" y="107"/>
                  </a:cubicBezTo>
                  <a:cubicBezTo>
                    <a:pt x="181" y="107"/>
                    <a:pt x="180" y="106"/>
                    <a:pt x="180" y="106"/>
                  </a:cubicBezTo>
                  <a:cubicBezTo>
                    <a:pt x="182" y="87"/>
                    <a:pt x="184" y="70"/>
                    <a:pt x="184" y="70"/>
                  </a:cubicBezTo>
                  <a:cubicBezTo>
                    <a:pt x="182" y="74"/>
                    <a:pt x="179" y="98"/>
                    <a:pt x="177" y="118"/>
                  </a:cubicBezTo>
                  <a:cubicBezTo>
                    <a:pt x="177" y="118"/>
                    <a:pt x="177" y="119"/>
                    <a:pt x="177" y="120"/>
                  </a:cubicBezTo>
                  <a:cubicBezTo>
                    <a:pt x="177" y="119"/>
                    <a:pt x="177" y="119"/>
                    <a:pt x="177" y="118"/>
                  </a:cubicBezTo>
                  <a:cubicBezTo>
                    <a:pt x="177" y="119"/>
                    <a:pt x="177" y="119"/>
                    <a:pt x="177" y="120"/>
                  </a:cubicBezTo>
                  <a:cubicBezTo>
                    <a:pt x="177" y="121"/>
                    <a:pt x="176" y="121"/>
                    <a:pt x="176" y="122"/>
                  </a:cubicBezTo>
                  <a:cubicBezTo>
                    <a:pt x="176" y="115"/>
                    <a:pt x="176" y="108"/>
                    <a:pt x="176" y="101"/>
                  </a:cubicBezTo>
                  <a:cubicBezTo>
                    <a:pt x="176" y="101"/>
                    <a:pt x="176" y="100"/>
                    <a:pt x="176" y="100"/>
                  </a:cubicBezTo>
                  <a:cubicBezTo>
                    <a:pt x="176" y="100"/>
                    <a:pt x="176" y="101"/>
                    <a:pt x="176" y="101"/>
                  </a:cubicBezTo>
                  <a:cubicBezTo>
                    <a:pt x="176" y="98"/>
                    <a:pt x="176" y="94"/>
                    <a:pt x="176" y="91"/>
                  </a:cubicBezTo>
                  <a:cubicBezTo>
                    <a:pt x="177" y="88"/>
                    <a:pt x="179" y="85"/>
                    <a:pt x="181" y="83"/>
                  </a:cubicBezTo>
                  <a:cubicBezTo>
                    <a:pt x="179" y="85"/>
                    <a:pt x="177" y="87"/>
                    <a:pt x="176" y="90"/>
                  </a:cubicBezTo>
                  <a:cubicBezTo>
                    <a:pt x="175" y="79"/>
                    <a:pt x="174" y="69"/>
                    <a:pt x="174" y="61"/>
                  </a:cubicBezTo>
                  <a:cubicBezTo>
                    <a:pt x="174" y="73"/>
                    <a:pt x="172" y="87"/>
                    <a:pt x="169" y="100"/>
                  </a:cubicBezTo>
                  <a:cubicBezTo>
                    <a:pt x="165" y="107"/>
                    <a:pt x="162" y="115"/>
                    <a:pt x="160" y="123"/>
                  </a:cubicBezTo>
                  <a:cubicBezTo>
                    <a:pt x="161" y="109"/>
                    <a:pt x="162" y="92"/>
                    <a:pt x="163" y="80"/>
                  </a:cubicBezTo>
                  <a:cubicBezTo>
                    <a:pt x="165" y="73"/>
                    <a:pt x="167" y="67"/>
                    <a:pt x="167" y="61"/>
                  </a:cubicBezTo>
                  <a:cubicBezTo>
                    <a:pt x="166" y="60"/>
                    <a:pt x="166" y="60"/>
                    <a:pt x="166" y="60"/>
                  </a:cubicBezTo>
                  <a:cubicBezTo>
                    <a:pt x="157" y="75"/>
                    <a:pt x="153" y="88"/>
                    <a:pt x="151" y="102"/>
                  </a:cubicBezTo>
                  <a:cubicBezTo>
                    <a:pt x="151" y="102"/>
                    <a:pt x="151" y="101"/>
                    <a:pt x="151" y="101"/>
                  </a:cubicBezTo>
                  <a:cubicBezTo>
                    <a:pt x="152" y="68"/>
                    <a:pt x="155" y="30"/>
                    <a:pt x="155" y="30"/>
                  </a:cubicBezTo>
                  <a:cubicBezTo>
                    <a:pt x="153" y="38"/>
                    <a:pt x="150" y="60"/>
                    <a:pt x="148" y="83"/>
                  </a:cubicBezTo>
                  <a:cubicBezTo>
                    <a:pt x="145" y="87"/>
                    <a:pt x="143" y="92"/>
                    <a:pt x="140" y="97"/>
                  </a:cubicBezTo>
                  <a:cubicBezTo>
                    <a:pt x="140" y="91"/>
                    <a:pt x="139" y="85"/>
                    <a:pt x="139" y="79"/>
                  </a:cubicBezTo>
                  <a:cubicBezTo>
                    <a:pt x="139" y="78"/>
                    <a:pt x="139" y="78"/>
                    <a:pt x="140" y="78"/>
                  </a:cubicBezTo>
                  <a:cubicBezTo>
                    <a:pt x="139" y="78"/>
                    <a:pt x="139" y="78"/>
                    <a:pt x="139" y="78"/>
                  </a:cubicBezTo>
                  <a:cubicBezTo>
                    <a:pt x="137" y="58"/>
                    <a:pt x="136" y="41"/>
                    <a:pt x="136" y="41"/>
                  </a:cubicBezTo>
                  <a:cubicBezTo>
                    <a:pt x="137" y="52"/>
                    <a:pt x="137" y="67"/>
                    <a:pt x="136" y="82"/>
                  </a:cubicBezTo>
                  <a:cubicBezTo>
                    <a:pt x="134" y="84"/>
                    <a:pt x="132" y="87"/>
                    <a:pt x="130" y="92"/>
                  </a:cubicBezTo>
                  <a:cubicBezTo>
                    <a:pt x="130" y="82"/>
                    <a:pt x="130" y="72"/>
                    <a:pt x="130" y="68"/>
                  </a:cubicBezTo>
                  <a:cubicBezTo>
                    <a:pt x="129" y="77"/>
                    <a:pt x="128" y="88"/>
                    <a:pt x="126" y="99"/>
                  </a:cubicBezTo>
                  <a:cubicBezTo>
                    <a:pt x="125" y="94"/>
                    <a:pt x="123" y="89"/>
                    <a:pt x="121" y="84"/>
                  </a:cubicBezTo>
                  <a:cubicBezTo>
                    <a:pt x="123" y="90"/>
                    <a:pt x="125" y="96"/>
                    <a:pt x="126" y="101"/>
                  </a:cubicBezTo>
                  <a:cubicBezTo>
                    <a:pt x="125" y="105"/>
                    <a:pt x="124" y="109"/>
                    <a:pt x="123" y="113"/>
                  </a:cubicBezTo>
                  <a:cubicBezTo>
                    <a:pt x="123" y="110"/>
                    <a:pt x="123" y="108"/>
                    <a:pt x="123" y="105"/>
                  </a:cubicBezTo>
                  <a:cubicBezTo>
                    <a:pt x="122" y="108"/>
                    <a:pt x="122" y="115"/>
                    <a:pt x="122" y="119"/>
                  </a:cubicBezTo>
                  <a:cubicBezTo>
                    <a:pt x="122" y="120"/>
                    <a:pt x="121" y="122"/>
                    <a:pt x="121" y="124"/>
                  </a:cubicBezTo>
                  <a:cubicBezTo>
                    <a:pt x="120" y="125"/>
                    <a:pt x="120" y="127"/>
                    <a:pt x="120" y="128"/>
                  </a:cubicBezTo>
                  <a:cubicBezTo>
                    <a:pt x="119" y="124"/>
                    <a:pt x="118" y="120"/>
                    <a:pt x="117" y="116"/>
                  </a:cubicBezTo>
                  <a:cubicBezTo>
                    <a:pt x="118" y="108"/>
                    <a:pt x="119" y="100"/>
                    <a:pt x="119" y="94"/>
                  </a:cubicBezTo>
                  <a:cubicBezTo>
                    <a:pt x="120" y="92"/>
                    <a:pt x="120" y="91"/>
                    <a:pt x="121" y="89"/>
                  </a:cubicBezTo>
                  <a:cubicBezTo>
                    <a:pt x="121" y="90"/>
                    <a:pt x="120" y="91"/>
                    <a:pt x="119" y="92"/>
                  </a:cubicBezTo>
                  <a:cubicBezTo>
                    <a:pt x="120" y="87"/>
                    <a:pt x="120" y="83"/>
                    <a:pt x="120" y="83"/>
                  </a:cubicBezTo>
                  <a:cubicBezTo>
                    <a:pt x="120" y="85"/>
                    <a:pt x="119" y="89"/>
                    <a:pt x="118" y="93"/>
                  </a:cubicBezTo>
                  <a:cubicBezTo>
                    <a:pt x="117" y="96"/>
                    <a:pt x="115" y="99"/>
                    <a:pt x="114" y="102"/>
                  </a:cubicBezTo>
                  <a:cubicBezTo>
                    <a:pt x="113" y="101"/>
                    <a:pt x="113" y="100"/>
                    <a:pt x="113" y="99"/>
                  </a:cubicBezTo>
                  <a:cubicBezTo>
                    <a:pt x="115" y="80"/>
                    <a:pt x="117" y="62"/>
                    <a:pt x="117" y="62"/>
                  </a:cubicBezTo>
                  <a:cubicBezTo>
                    <a:pt x="115" y="66"/>
                    <a:pt x="113" y="80"/>
                    <a:pt x="111" y="95"/>
                  </a:cubicBezTo>
                  <a:cubicBezTo>
                    <a:pt x="111" y="94"/>
                    <a:pt x="110" y="92"/>
                    <a:pt x="109" y="90"/>
                  </a:cubicBezTo>
                  <a:cubicBezTo>
                    <a:pt x="110" y="92"/>
                    <a:pt x="111" y="94"/>
                    <a:pt x="111" y="96"/>
                  </a:cubicBezTo>
                  <a:cubicBezTo>
                    <a:pt x="111" y="101"/>
                    <a:pt x="110" y="106"/>
                    <a:pt x="110" y="110"/>
                  </a:cubicBezTo>
                  <a:cubicBezTo>
                    <a:pt x="109" y="113"/>
                    <a:pt x="108" y="116"/>
                    <a:pt x="107" y="118"/>
                  </a:cubicBezTo>
                  <a:cubicBezTo>
                    <a:pt x="106" y="94"/>
                    <a:pt x="101" y="64"/>
                    <a:pt x="101" y="64"/>
                  </a:cubicBezTo>
                  <a:cubicBezTo>
                    <a:pt x="101" y="64"/>
                    <a:pt x="101" y="73"/>
                    <a:pt x="101" y="82"/>
                  </a:cubicBezTo>
                  <a:cubicBezTo>
                    <a:pt x="102" y="88"/>
                    <a:pt x="101" y="98"/>
                    <a:pt x="99" y="108"/>
                  </a:cubicBezTo>
                  <a:cubicBezTo>
                    <a:pt x="98" y="111"/>
                    <a:pt x="97" y="114"/>
                    <a:pt x="96" y="117"/>
                  </a:cubicBezTo>
                  <a:cubicBezTo>
                    <a:pt x="96" y="108"/>
                    <a:pt x="95" y="99"/>
                    <a:pt x="93" y="90"/>
                  </a:cubicBezTo>
                  <a:cubicBezTo>
                    <a:pt x="97" y="78"/>
                    <a:pt x="101" y="66"/>
                    <a:pt x="100" y="56"/>
                  </a:cubicBezTo>
                  <a:cubicBezTo>
                    <a:pt x="97" y="62"/>
                    <a:pt x="95" y="67"/>
                    <a:pt x="92" y="72"/>
                  </a:cubicBezTo>
                  <a:cubicBezTo>
                    <a:pt x="95" y="34"/>
                    <a:pt x="88" y="19"/>
                    <a:pt x="88" y="19"/>
                  </a:cubicBezTo>
                  <a:cubicBezTo>
                    <a:pt x="88" y="19"/>
                    <a:pt x="92" y="31"/>
                    <a:pt x="90" y="54"/>
                  </a:cubicBezTo>
                  <a:cubicBezTo>
                    <a:pt x="89" y="61"/>
                    <a:pt x="88" y="74"/>
                    <a:pt x="87" y="88"/>
                  </a:cubicBezTo>
                  <a:cubicBezTo>
                    <a:pt x="85" y="92"/>
                    <a:pt x="85" y="97"/>
                    <a:pt x="84" y="101"/>
                  </a:cubicBezTo>
                  <a:cubicBezTo>
                    <a:pt x="83" y="98"/>
                    <a:pt x="82" y="95"/>
                    <a:pt x="81" y="91"/>
                  </a:cubicBezTo>
                  <a:cubicBezTo>
                    <a:pt x="81" y="89"/>
                    <a:pt x="81" y="87"/>
                    <a:pt x="82" y="85"/>
                  </a:cubicBezTo>
                  <a:cubicBezTo>
                    <a:pt x="81" y="87"/>
                    <a:pt x="81" y="88"/>
                    <a:pt x="80" y="90"/>
                  </a:cubicBezTo>
                  <a:cubicBezTo>
                    <a:pt x="80" y="89"/>
                    <a:pt x="79" y="88"/>
                    <a:pt x="79" y="87"/>
                  </a:cubicBezTo>
                  <a:cubicBezTo>
                    <a:pt x="79" y="83"/>
                    <a:pt x="79" y="78"/>
                    <a:pt x="79" y="74"/>
                  </a:cubicBezTo>
                  <a:cubicBezTo>
                    <a:pt x="79" y="46"/>
                    <a:pt x="69" y="40"/>
                    <a:pt x="69" y="40"/>
                  </a:cubicBezTo>
                  <a:cubicBezTo>
                    <a:pt x="69" y="40"/>
                    <a:pt x="75" y="44"/>
                    <a:pt x="75" y="70"/>
                  </a:cubicBezTo>
                  <a:cubicBezTo>
                    <a:pt x="75" y="84"/>
                    <a:pt x="70" y="108"/>
                    <a:pt x="65" y="125"/>
                  </a:cubicBezTo>
                  <a:cubicBezTo>
                    <a:pt x="65" y="123"/>
                    <a:pt x="65" y="120"/>
                    <a:pt x="64" y="118"/>
                  </a:cubicBezTo>
                  <a:cubicBezTo>
                    <a:pt x="65" y="111"/>
                    <a:pt x="66" y="105"/>
                    <a:pt x="66" y="98"/>
                  </a:cubicBezTo>
                  <a:cubicBezTo>
                    <a:pt x="65" y="101"/>
                    <a:pt x="64" y="104"/>
                    <a:pt x="64" y="107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4" y="97"/>
                    <a:pt x="65" y="83"/>
                    <a:pt x="72" y="75"/>
                  </a:cubicBezTo>
                  <a:cubicBezTo>
                    <a:pt x="68" y="77"/>
                    <a:pt x="65" y="82"/>
                    <a:pt x="63" y="87"/>
                  </a:cubicBezTo>
                  <a:cubicBezTo>
                    <a:pt x="64" y="78"/>
                    <a:pt x="64" y="71"/>
                    <a:pt x="64" y="71"/>
                  </a:cubicBezTo>
                  <a:cubicBezTo>
                    <a:pt x="64" y="75"/>
                    <a:pt x="60" y="97"/>
                    <a:pt x="56" y="116"/>
                  </a:cubicBezTo>
                  <a:cubicBezTo>
                    <a:pt x="56" y="114"/>
                    <a:pt x="56" y="112"/>
                    <a:pt x="55" y="110"/>
                  </a:cubicBezTo>
                  <a:cubicBezTo>
                    <a:pt x="56" y="99"/>
                    <a:pt x="57" y="87"/>
                    <a:pt x="58" y="78"/>
                  </a:cubicBezTo>
                  <a:cubicBezTo>
                    <a:pt x="60" y="71"/>
                    <a:pt x="62" y="63"/>
                    <a:pt x="65" y="55"/>
                  </a:cubicBezTo>
                  <a:cubicBezTo>
                    <a:pt x="65" y="54"/>
                    <a:pt x="64" y="52"/>
                    <a:pt x="64" y="51"/>
                  </a:cubicBezTo>
                  <a:cubicBezTo>
                    <a:pt x="62" y="54"/>
                    <a:pt x="61" y="57"/>
                    <a:pt x="60" y="60"/>
                  </a:cubicBezTo>
                  <a:cubicBezTo>
                    <a:pt x="60" y="60"/>
                    <a:pt x="60" y="59"/>
                    <a:pt x="60" y="59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56" y="70"/>
                    <a:pt x="53" y="80"/>
                    <a:pt x="51" y="89"/>
                  </a:cubicBezTo>
                  <a:cubicBezTo>
                    <a:pt x="56" y="30"/>
                    <a:pt x="53" y="15"/>
                    <a:pt x="52" y="13"/>
                  </a:cubicBezTo>
                  <a:cubicBezTo>
                    <a:pt x="52" y="15"/>
                    <a:pt x="53" y="22"/>
                    <a:pt x="49" y="56"/>
                  </a:cubicBezTo>
                  <a:cubicBezTo>
                    <a:pt x="47" y="68"/>
                    <a:pt x="46" y="80"/>
                    <a:pt x="44" y="91"/>
                  </a:cubicBezTo>
                  <a:cubicBezTo>
                    <a:pt x="43" y="85"/>
                    <a:pt x="41" y="79"/>
                    <a:pt x="39" y="74"/>
                  </a:cubicBezTo>
                  <a:cubicBezTo>
                    <a:pt x="40" y="51"/>
                    <a:pt x="41" y="31"/>
                    <a:pt x="41" y="31"/>
                  </a:cubicBezTo>
                  <a:cubicBezTo>
                    <a:pt x="39" y="38"/>
                    <a:pt x="38" y="53"/>
                    <a:pt x="36" y="69"/>
                  </a:cubicBezTo>
                  <a:cubicBezTo>
                    <a:pt x="35" y="68"/>
                    <a:pt x="34" y="67"/>
                    <a:pt x="33" y="65"/>
                  </a:cubicBezTo>
                  <a:cubicBezTo>
                    <a:pt x="34" y="67"/>
                    <a:pt x="35" y="69"/>
                    <a:pt x="36" y="71"/>
                  </a:cubicBezTo>
                  <a:cubicBezTo>
                    <a:pt x="36" y="71"/>
                    <a:pt x="36" y="72"/>
                    <a:pt x="36" y="73"/>
                  </a:cubicBezTo>
                  <a:cubicBezTo>
                    <a:pt x="33" y="77"/>
                    <a:pt x="31" y="81"/>
                    <a:pt x="28" y="86"/>
                  </a:cubicBezTo>
                  <a:cubicBezTo>
                    <a:pt x="28" y="85"/>
                    <a:pt x="27" y="84"/>
                    <a:pt x="26" y="83"/>
                  </a:cubicBezTo>
                  <a:cubicBezTo>
                    <a:pt x="24" y="61"/>
                    <a:pt x="21" y="38"/>
                    <a:pt x="18" y="28"/>
                  </a:cubicBezTo>
                  <a:cubicBezTo>
                    <a:pt x="18" y="28"/>
                    <a:pt x="22" y="54"/>
                    <a:pt x="26" y="83"/>
                  </a:cubicBezTo>
                  <a:cubicBezTo>
                    <a:pt x="25" y="82"/>
                    <a:pt x="24" y="81"/>
                    <a:pt x="22" y="80"/>
                  </a:cubicBezTo>
                  <a:cubicBezTo>
                    <a:pt x="24" y="81"/>
                    <a:pt x="25" y="82"/>
                    <a:pt x="26" y="84"/>
                  </a:cubicBezTo>
                  <a:cubicBezTo>
                    <a:pt x="26" y="85"/>
                    <a:pt x="26" y="86"/>
                    <a:pt x="26" y="88"/>
                  </a:cubicBezTo>
                  <a:cubicBezTo>
                    <a:pt x="26" y="86"/>
                    <a:pt x="26" y="85"/>
                    <a:pt x="26" y="84"/>
                  </a:cubicBezTo>
                  <a:cubicBezTo>
                    <a:pt x="27" y="85"/>
                    <a:pt x="27" y="86"/>
                    <a:pt x="28" y="87"/>
                  </a:cubicBezTo>
                  <a:cubicBezTo>
                    <a:pt x="27" y="88"/>
                    <a:pt x="27" y="89"/>
                    <a:pt x="26" y="90"/>
                  </a:cubicBezTo>
                  <a:cubicBezTo>
                    <a:pt x="26" y="89"/>
                    <a:pt x="26" y="88"/>
                    <a:pt x="26" y="88"/>
                  </a:cubicBezTo>
                  <a:cubicBezTo>
                    <a:pt x="26" y="88"/>
                    <a:pt x="26" y="89"/>
                    <a:pt x="26" y="90"/>
                  </a:cubicBezTo>
                  <a:cubicBezTo>
                    <a:pt x="24" y="95"/>
                    <a:pt x="23" y="100"/>
                    <a:pt x="21" y="105"/>
                  </a:cubicBezTo>
                  <a:cubicBezTo>
                    <a:pt x="21" y="105"/>
                    <a:pt x="21" y="105"/>
                    <a:pt x="21" y="105"/>
                  </a:cubicBezTo>
                  <a:cubicBezTo>
                    <a:pt x="21" y="104"/>
                    <a:pt x="22" y="104"/>
                    <a:pt x="22" y="103"/>
                  </a:cubicBezTo>
                  <a:cubicBezTo>
                    <a:pt x="22" y="104"/>
                    <a:pt x="21" y="104"/>
                    <a:pt x="21" y="105"/>
                  </a:cubicBezTo>
                  <a:cubicBezTo>
                    <a:pt x="19" y="95"/>
                    <a:pt x="16" y="87"/>
                    <a:pt x="14" y="81"/>
                  </a:cubicBezTo>
                  <a:cubicBezTo>
                    <a:pt x="15" y="85"/>
                    <a:pt x="16" y="90"/>
                    <a:pt x="17" y="95"/>
                  </a:cubicBezTo>
                  <a:cubicBezTo>
                    <a:pt x="17" y="100"/>
                    <a:pt x="16" y="104"/>
                    <a:pt x="15" y="109"/>
                  </a:cubicBezTo>
                  <a:cubicBezTo>
                    <a:pt x="17" y="104"/>
                    <a:pt x="17" y="100"/>
                    <a:pt x="17" y="95"/>
                  </a:cubicBezTo>
                  <a:cubicBezTo>
                    <a:pt x="18" y="100"/>
                    <a:pt x="19" y="105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19" y="116"/>
                    <a:pt x="17" y="122"/>
                    <a:pt x="15" y="127"/>
                  </a:cubicBezTo>
                  <a:cubicBezTo>
                    <a:pt x="14" y="125"/>
                    <a:pt x="14" y="123"/>
                    <a:pt x="13" y="120"/>
                  </a:cubicBezTo>
                  <a:cubicBezTo>
                    <a:pt x="14" y="117"/>
                    <a:pt x="15" y="113"/>
                    <a:pt x="15" y="109"/>
                  </a:cubicBezTo>
                  <a:cubicBezTo>
                    <a:pt x="15" y="112"/>
                    <a:pt x="14" y="116"/>
                    <a:pt x="13" y="119"/>
                  </a:cubicBezTo>
                  <a:cubicBezTo>
                    <a:pt x="11" y="111"/>
                    <a:pt x="10" y="103"/>
                    <a:pt x="10" y="95"/>
                  </a:cubicBezTo>
                  <a:cubicBezTo>
                    <a:pt x="9" y="96"/>
                    <a:pt x="9" y="96"/>
                    <a:pt x="9" y="96"/>
                  </a:cubicBezTo>
                  <a:cubicBezTo>
                    <a:pt x="9" y="98"/>
                    <a:pt x="9" y="98"/>
                    <a:pt x="9" y="98"/>
                  </a:cubicBezTo>
                  <a:cubicBezTo>
                    <a:pt x="9" y="97"/>
                    <a:pt x="9" y="96"/>
                    <a:pt x="9" y="95"/>
                  </a:cubicBezTo>
                  <a:cubicBezTo>
                    <a:pt x="9" y="84"/>
                    <a:pt x="7" y="69"/>
                    <a:pt x="1" y="60"/>
                  </a:cubicBezTo>
                  <a:cubicBezTo>
                    <a:pt x="6" y="70"/>
                    <a:pt x="7" y="82"/>
                    <a:pt x="7" y="93"/>
                  </a:cubicBezTo>
                  <a:cubicBezTo>
                    <a:pt x="7" y="101"/>
                    <a:pt x="5" y="109"/>
                    <a:pt x="3" y="116"/>
                  </a:cubicBezTo>
                  <a:cubicBezTo>
                    <a:pt x="1" y="115"/>
                    <a:pt x="1" y="117"/>
                    <a:pt x="2" y="120"/>
                  </a:cubicBezTo>
                  <a:cubicBezTo>
                    <a:pt x="2" y="121"/>
                    <a:pt x="2" y="121"/>
                    <a:pt x="1" y="122"/>
                  </a:cubicBezTo>
                  <a:cubicBezTo>
                    <a:pt x="1" y="121"/>
                    <a:pt x="1" y="120"/>
                    <a:pt x="0" y="119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90" y="166"/>
                    <a:pt x="179" y="166"/>
                    <a:pt x="269" y="166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306" y="166"/>
                    <a:pt x="342" y="166"/>
                    <a:pt x="379" y="166"/>
                  </a:cubicBezTo>
                  <a:cubicBezTo>
                    <a:pt x="416" y="166"/>
                    <a:pt x="453" y="166"/>
                    <a:pt x="490" y="166"/>
                  </a:cubicBezTo>
                  <a:cubicBezTo>
                    <a:pt x="490" y="166"/>
                    <a:pt x="490" y="166"/>
                    <a:pt x="490" y="166"/>
                  </a:cubicBezTo>
                  <a:cubicBezTo>
                    <a:pt x="746" y="166"/>
                    <a:pt x="1002" y="166"/>
                    <a:pt x="1258" y="166"/>
                  </a:cubicBezTo>
                  <a:cubicBezTo>
                    <a:pt x="1258" y="166"/>
                    <a:pt x="1258" y="166"/>
                    <a:pt x="1258" y="166"/>
                  </a:cubicBezTo>
                  <a:cubicBezTo>
                    <a:pt x="1430" y="166"/>
                    <a:pt x="1602" y="166"/>
                    <a:pt x="1773" y="166"/>
                  </a:cubicBezTo>
                  <a:cubicBezTo>
                    <a:pt x="1871" y="166"/>
                    <a:pt x="1969" y="166"/>
                    <a:pt x="2066" y="166"/>
                  </a:cubicBezTo>
                  <a:cubicBezTo>
                    <a:pt x="2066" y="166"/>
                    <a:pt x="2066" y="166"/>
                    <a:pt x="2066" y="166"/>
                  </a:cubicBezTo>
                  <a:cubicBezTo>
                    <a:pt x="2103" y="166"/>
                    <a:pt x="2140" y="166"/>
                    <a:pt x="2177" y="166"/>
                  </a:cubicBezTo>
                  <a:cubicBezTo>
                    <a:pt x="2214" y="166"/>
                    <a:pt x="2251" y="166"/>
                    <a:pt x="2288" y="166"/>
                  </a:cubicBezTo>
                  <a:cubicBezTo>
                    <a:pt x="2288" y="166"/>
                    <a:pt x="2288" y="166"/>
                    <a:pt x="2288" y="166"/>
                  </a:cubicBezTo>
                  <a:cubicBezTo>
                    <a:pt x="2544" y="166"/>
                    <a:pt x="2800" y="166"/>
                    <a:pt x="3056" y="166"/>
                  </a:cubicBezTo>
                  <a:cubicBezTo>
                    <a:pt x="3056" y="166"/>
                    <a:pt x="3056" y="166"/>
                    <a:pt x="3056" y="166"/>
                  </a:cubicBezTo>
                  <a:cubicBezTo>
                    <a:pt x="3228" y="166"/>
                    <a:pt x="3400" y="166"/>
                    <a:pt x="3571" y="166"/>
                  </a:cubicBezTo>
                  <a:cubicBezTo>
                    <a:pt x="3669" y="166"/>
                    <a:pt x="3767" y="166"/>
                    <a:pt x="3864" y="166"/>
                  </a:cubicBezTo>
                  <a:cubicBezTo>
                    <a:pt x="3864" y="166"/>
                    <a:pt x="3864" y="166"/>
                    <a:pt x="3864" y="166"/>
                  </a:cubicBezTo>
                  <a:cubicBezTo>
                    <a:pt x="3901" y="166"/>
                    <a:pt x="3938" y="166"/>
                    <a:pt x="3975" y="166"/>
                  </a:cubicBezTo>
                  <a:cubicBezTo>
                    <a:pt x="4012" y="166"/>
                    <a:pt x="4049" y="166"/>
                    <a:pt x="4086" y="166"/>
                  </a:cubicBezTo>
                  <a:cubicBezTo>
                    <a:pt x="4086" y="166"/>
                    <a:pt x="4086" y="166"/>
                    <a:pt x="4086" y="166"/>
                  </a:cubicBezTo>
                  <a:cubicBezTo>
                    <a:pt x="4312" y="166"/>
                    <a:pt x="4537" y="166"/>
                    <a:pt x="4763" y="166"/>
                  </a:cubicBezTo>
                  <a:cubicBezTo>
                    <a:pt x="4763" y="137"/>
                    <a:pt x="4763" y="137"/>
                    <a:pt x="4763" y="137"/>
                  </a:cubicBezTo>
                  <a:cubicBezTo>
                    <a:pt x="4760" y="119"/>
                    <a:pt x="4755" y="101"/>
                    <a:pt x="4748" y="85"/>
                  </a:cubicBezTo>
                  <a:close/>
                  <a:moveTo>
                    <a:pt x="1" y="154"/>
                  </a:moveTo>
                  <a:cubicBezTo>
                    <a:pt x="1" y="154"/>
                    <a:pt x="1" y="154"/>
                    <a:pt x="1" y="154"/>
                  </a:cubicBezTo>
                  <a:cubicBezTo>
                    <a:pt x="1" y="152"/>
                    <a:pt x="2" y="151"/>
                    <a:pt x="2" y="150"/>
                  </a:cubicBezTo>
                  <a:cubicBezTo>
                    <a:pt x="2" y="150"/>
                    <a:pt x="2" y="151"/>
                    <a:pt x="2" y="151"/>
                  </a:cubicBezTo>
                  <a:cubicBezTo>
                    <a:pt x="2" y="152"/>
                    <a:pt x="1" y="153"/>
                    <a:pt x="1" y="154"/>
                  </a:cubicBezTo>
                  <a:close/>
                  <a:moveTo>
                    <a:pt x="7" y="119"/>
                  </a:move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19"/>
                  </a:cubicBezTo>
                  <a:close/>
                  <a:moveTo>
                    <a:pt x="6" y="138"/>
                  </a:moveTo>
                  <a:cubicBezTo>
                    <a:pt x="6" y="137"/>
                    <a:pt x="5" y="135"/>
                    <a:pt x="5" y="134"/>
                  </a:cubicBezTo>
                  <a:cubicBezTo>
                    <a:pt x="5" y="134"/>
                    <a:pt x="5" y="134"/>
                    <a:pt x="5" y="133"/>
                  </a:cubicBezTo>
                  <a:cubicBezTo>
                    <a:pt x="5" y="134"/>
                    <a:pt x="6" y="135"/>
                    <a:pt x="6" y="137"/>
                  </a:cubicBezTo>
                  <a:cubicBezTo>
                    <a:pt x="6" y="137"/>
                    <a:pt x="6" y="138"/>
                    <a:pt x="6" y="138"/>
                  </a:cubicBezTo>
                  <a:close/>
                  <a:moveTo>
                    <a:pt x="5" y="133"/>
                  </a:moveTo>
                  <a:cubicBezTo>
                    <a:pt x="5" y="132"/>
                    <a:pt x="5" y="131"/>
                    <a:pt x="6" y="130"/>
                  </a:cubicBezTo>
                  <a:cubicBezTo>
                    <a:pt x="6" y="131"/>
                    <a:pt x="7" y="133"/>
                    <a:pt x="7" y="134"/>
                  </a:cubicBezTo>
                  <a:cubicBezTo>
                    <a:pt x="7" y="135"/>
                    <a:pt x="7" y="135"/>
                    <a:pt x="7" y="136"/>
                  </a:cubicBezTo>
                  <a:cubicBezTo>
                    <a:pt x="6" y="134"/>
                    <a:pt x="5" y="133"/>
                    <a:pt x="5" y="133"/>
                  </a:cubicBezTo>
                  <a:close/>
                  <a:moveTo>
                    <a:pt x="8" y="145"/>
                  </a:moveTo>
                  <a:cubicBezTo>
                    <a:pt x="8" y="144"/>
                    <a:pt x="7" y="143"/>
                    <a:pt x="7" y="143"/>
                  </a:cubicBezTo>
                  <a:cubicBezTo>
                    <a:pt x="8" y="142"/>
                    <a:pt x="8" y="141"/>
                    <a:pt x="8" y="140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8" y="141"/>
                    <a:pt x="8" y="142"/>
                    <a:pt x="8" y="143"/>
                  </a:cubicBezTo>
                  <a:cubicBezTo>
                    <a:pt x="8" y="143"/>
                    <a:pt x="8" y="144"/>
                    <a:pt x="8" y="145"/>
                  </a:cubicBezTo>
                  <a:close/>
                  <a:moveTo>
                    <a:pt x="18" y="134"/>
                  </a:moveTo>
                  <a:cubicBezTo>
                    <a:pt x="18" y="134"/>
                    <a:pt x="18" y="133"/>
                    <a:pt x="18" y="133"/>
                  </a:cubicBezTo>
                  <a:cubicBezTo>
                    <a:pt x="18" y="132"/>
                    <a:pt x="18" y="130"/>
                    <a:pt x="18" y="129"/>
                  </a:cubicBezTo>
                  <a:cubicBezTo>
                    <a:pt x="18" y="130"/>
                    <a:pt x="18" y="132"/>
                    <a:pt x="18" y="134"/>
                  </a:cubicBezTo>
                  <a:close/>
                  <a:moveTo>
                    <a:pt x="28" y="120"/>
                  </a:moveTo>
                  <a:cubicBezTo>
                    <a:pt x="28" y="117"/>
                    <a:pt x="28" y="115"/>
                    <a:pt x="28" y="112"/>
                  </a:cubicBezTo>
                  <a:cubicBezTo>
                    <a:pt x="28" y="111"/>
                    <a:pt x="28" y="111"/>
                    <a:pt x="28" y="110"/>
                  </a:cubicBezTo>
                  <a:cubicBezTo>
                    <a:pt x="28" y="114"/>
                    <a:pt x="29" y="116"/>
                    <a:pt x="29" y="119"/>
                  </a:cubicBezTo>
                  <a:cubicBezTo>
                    <a:pt x="29" y="119"/>
                    <a:pt x="29" y="120"/>
                    <a:pt x="28" y="120"/>
                  </a:cubicBezTo>
                  <a:close/>
                  <a:moveTo>
                    <a:pt x="30" y="115"/>
                  </a:moveTo>
                  <a:cubicBezTo>
                    <a:pt x="29" y="112"/>
                    <a:pt x="29" y="108"/>
                    <a:pt x="28" y="104"/>
                  </a:cubicBezTo>
                  <a:cubicBezTo>
                    <a:pt x="29" y="101"/>
                    <a:pt x="29" y="97"/>
                    <a:pt x="30" y="93"/>
                  </a:cubicBezTo>
                  <a:cubicBezTo>
                    <a:pt x="31" y="98"/>
                    <a:pt x="32" y="102"/>
                    <a:pt x="32" y="104"/>
                  </a:cubicBezTo>
                  <a:cubicBezTo>
                    <a:pt x="32" y="108"/>
                    <a:pt x="31" y="111"/>
                    <a:pt x="30" y="115"/>
                  </a:cubicBezTo>
                  <a:close/>
                  <a:moveTo>
                    <a:pt x="35" y="102"/>
                  </a:moveTo>
                  <a:cubicBezTo>
                    <a:pt x="35" y="102"/>
                    <a:pt x="35" y="102"/>
                    <a:pt x="35" y="103"/>
                  </a:cubicBezTo>
                  <a:cubicBezTo>
                    <a:pt x="34" y="99"/>
                    <a:pt x="33" y="94"/>
                    <a:pt x="31" y="90"/>
                  </a:cubicBezTo>
                  <a:cubicBezTo>
                    <a:pt x="32" y="84"/>
                    <a:pt x="34" y="78"/>
                    <a:pt x="36" y="73"/>
                  </a:cubicBezTo>
                  <a:cubicBezTo>
                    <a:pt x="36" y="83"/>
                    <a:pt x="35" y="93"/>
                    <a:pt x="35" y="102"/>
                  </a:cubicBezTo>
                  <a:close/>
                  <a:moveTo>
                    <a:pt x="41" y="111"/>
                  </a:moveTo>
                  <a:cubicBezTo>
                    <a:pt x="41" y="111"/>
                    <a:pt x="41" y="111"/>
                    <a:pt x="41" y="111"/>
                  </a:cubicBezTo>
                  <a:cubicBezTo>
                    <a:pt x="41" y="114"/>
                    <a:pt x="40" y="116"/>
                    <a:pt x="40" y="119"/>
                  </a:cubicBezTo>
                  <a:cubicBezTo>
                    <a:pt x="39" y="114"/>
                    <a:pt x="39" y="108"/>
                    <a:pt x="39" y="103"/>
                  </a:cubicBezTo>
                  <a:cubicBezTo>
                    <a:pt x="39" y="97"/>
                    <a:pt x="39" y="91"/>
                    <a:pt x="41" y="85"/>
                  </a:cubicBezTo>
                  <a:cubicBezTo>
                    <a:pt x="40" y="87"/>
                    <a:pt x="39" y="89"/>
                    <a:pt x="38" y="92"/>
                  </a:cubicBezTo>
                  <a:cubicBezTo>
                    <a:pt x="38" y="87"/>
                    <a:pt x="39" y="82"/>
                    <a:pt x="39" y="77"/>
                  </a:cubicBezTo>
                  <a:cubicBezTo>
                    <a:pt x="41" y="83"/>
                    <a:pt x="43" y="90"/>
                    <a:pt x="43" y="96"/>
                  </a:cubicBezTo>
                  <a:cubicBezTo>
                    <a:pt x="43" y="101"/>
                    <a:pt x="42" y="106"/>
                    <a:pt x="41" y="111"/>
                  </a:cubicBezTo>
                  <a:close/>
                  <a:moveTo>
                    <a:pt x="48" y="127"/>
                  </a:moveTo>
                  <a:cubicBezTo>
                    <a:pt x="47" y="132"/>
                    <a:pt x="46" y="134"/>
                    <a:pt x="46" y="134"/>
                  </a:cubicBezTo>
                  <a:cubicBezTo>
                    <a:pt x="47" y="129"/>
                    <a:pt x="47" y="125"/>
                    <a:pt x="48" y="120"/>
                  </a:cubicBezTo>
                  <a:cubicBezTo>
                    <a:pt x="48" y="123"/>
                    <a:pt x="48" y="125"/>
                    <a:pt x="48" y="127"/>
                  </a:cubicBezTo>
                  <a:close/>
                  <a:moveTo>
                    <a:pt x="79" y="92"/>
                  </a:moveTo>
                  <a:cubicBezTo>
                    <a:pt x="79" y="91"/>
                    <a:pt x="79" y="90"/>
                    <a:pt x="79" y="89"/>
                  </a:cubicBezTo>
                  <a:cubicBezTo>
                    <a:pt x="79" y="89"/>
                    <a:pt x="79" y="90"/>
                    <a:pt x="80" y="91"/>
                  </a:cubicBezTo>
                  <a:cubicBezTo>
                    <a:pt x="79" y="91"/>
                    <a:pt x="79" y="92"/>
                    <a:pt x="79" y="92"/>
                  </a:cubicBezTo>
                  <a:close/>
                  <a:moveTo>
                    <a:pt x="82" y="130"/>
                  </a:moveTo>
                  <a:cubicBezTo>
                    <a:pt x="81" y="132"/>
                    <a:pt x="81" y="134"/>
                    <a:pt x="81" y="136"/>
                  </a:cubicBezTo>
                  <a:cubicBezTo>
                    <a:pt x="80" y="127"/>
                    <a:pt x="80" y="119"/>
                    <a:pt x="80" y="110"/>
                  </a:cubicBezTo>
                  <a:cubicBezTo>
                    <a:pt x="80" y="105"/>
                    <a:pt x="80" y="99"/>
                    <a:pt x="80" y="93"/>
                  </a:cubicBezTo>
                  <a:cubicBezTo>
                    <a:pt x="82" y="99"/>
                    <a:pt x="82" y="104"/>
                    <a:pt x="83" y="109"/>
                  </a:cubicBezTo>
                  <a:cubicBezTo>
                    <a:pt x="82" y="116"/>
                    <a:pt x="82" y="123"/>
                    <a:pt x="82" y="130"/>
                  </a:cubicBezTo>
                  <a:close/>
                  <a:moveTo>
                    <a:pt x="91" y="140"/>
                  </a:moveTo>
                  <a:cubicBezTo>
                    <a:pt x="91" y="140"/>
                    <a:pt x="91" y="139"/>
                    <a:pt x="91" y="139"/>
                  </a:cubicBezTo>
                  <a:cubicBezTo>
                    <a:pt x="92" y="100"/>
                    <a:pt x="92" y="100"/>
                    <a:pt x="92" y="100"/>
                  </a:cubicBezTo>
                  <a:cubicBezTo>
                    <a:pt x="92" y="106"/>
                    <a:pt x="93" y="113"/>
                    <a:pt x="93" y="119"/>
                  </a:cubicBezTo>
                  <a:cubicBezTo>
                    <a:pt x="93" y="122"/>
                    <a:pt x="93" y="126"/>
                    <a:pt x="93" y="129"/>
                  </a:cubicBezTo>
                  <a:cubicBezTo>
                    <a:pt x="92" y="133"/>
                    <a:pt x="92" y="136"/>
                    <a:pt x="91" y="140"/>
                  </a:cubicBezTo>
                  <a:close/>
                  <a:moveTo>
                    <a:pt x="112" y="105"/>
                  </a:moveTo>
                  <a:cubicBezTo>
                    <a:pt x="112" y="104"/>
                    <a:pt x="112" y="102"/>
                    <a:pt x="112" y="101"/>
                  </a:cubicBezTo>
                  <a:cubicBezTo>
                    <a:pt x="113" y="102"/>
                    <a:pt x="113" y="103"/>
                    <a:pt x="113" y="103"/>
                  </a:cubicBezTo>
                  <a:cubicBezTo>
                    <a:pt x="113" y="104"/>
                    <a:pt x="112" y="105"/>
                    <a:pt x="112" y="105"/>
                  </a:cubicBezTo>
                  <a:close/>
                  <a:moveTo>
                    <a:pt x="135" y="101"/>
                  </a:moveTo>
                  <a:cubicBezTo>
                    <a:pt x="135" y="101"/>
                    <a:pt x="135" y="101"/>
                    <a:pt x="134" y="100"/>
                  </a:cubicBezTo>
                  <a:cubicBezTo>
                    <a:pt x="135" y="101"/>
                    <a:pt x="135" y="101"/>
                    <a:pt x="135" y="101"/>
                  </a:cubicBezTo>
                  <a:cubicBezTo>
                    <a:pt x="134" y="111"/>
                    <a:pt x="133" y="119"/>
                    <a:pt x="132" y="126"/>
                  </a:cubicBezTo>
                  <a:cubicBezTo>
                    <a:pt x="131" y="122"/>
                    <a:pt x="131" y="118"/>
                    <a:pt x="130" y="114"/>
                  </a:cubicBezTo>
                  <a:cubicBezTo>
                    <a:pt x="130" y="109"/>
                    <a:pt x="130" y="103"/>
                    <a:pt x="130" y="98"/>
                  </a:cubicBezTo>
                  <a:cubicBezTo>
                    <a:pt x="131" y="92"/>
                    <a:pt x="133" y="87"/>
                    <a:pt x="136" y="82"/>
                  </a:cubicBezTo>
                  <a:cubicBezTo>
                    <a:pt x="136" y="89"/>
                    <a:pt x="135" y="95"/>
                    <a:pt x="135" y="101"/>
                  </a:cubicBezTo>
                  <a:close/>
                  <a:moveTo>
                    <a:pt x="145" y="117"/>
                  </a:moveTo>
                  <a:cubicBezTo>
                    <a:pt x="144" y="114"/>
                    <a:pt x="144" y="110"/>
                    <a:pt x="144" y="106"/>
                  </a:cubicBezTo>
                  <a:cubicBezTo>
                    <a:pt x="144" y="99"/>
                    <a:pt x="144" y="90"/>
                    <a:pt x="148" y="83"/>
                  </a:cubicBezTo>
                  <a:cubicBezTo>
                    <a:pt x="146" y="95"/>
                    <a:pt x="145" y="107"/>
                    <a:pt x="145" y="117"/>
                  </a:cubicBezTo>
                  <a:close/>
                  <a:moveTo>
                    <a:pt x="150" y="108"/>
                  </a:moveTo>
                  <a:cubicBezTo>
                    <a:pt x="150" y="106"/>
                    <a:pt x="151" y="104"/>
                    <a:pt x="151" y="102"/>
                  </a:cubicBezTo>
                  <a:cubicBezTo>
                    <a:pt x="151" y="102"/>
                    <a:pt x="151" y="102"/>
                    <a:pt x="151" y="103"/>
                  </a:cubicBezTo>
                  <a:cubicBezTo>
                    <a:pt x="151" y="104"/>
                    <a:pt x="151" y="106"/>
                    <a:pt x="150" y="108"/>
                  </a:cubicBezTo>
                  <a:close/>
                  <a:moveTo>
                    <a:pt x="156" y="111"/>
                  </a:moveTo>
                  <a:cubicBezTo>
                    <a:pt x="156" y="103"/>
                    <a:pt x="159" y="95"/>
                    <a:pt x="161" y="87"/>
                  </a:cubicBezTo>
                  <a:cubicBezTo>
                    <a:pt x="160" y="95"/>
                    <a:pt x="158" y="104"/>
                    <a:pt x="157" y="113"/>
                  </a:cubicBezTo>
                  <a:cubicBezTo>
                    <a:pt x="156" y="112"/>
                    <a:pt x="156" y="112"/>
                    <a:pt x="156" y="111"/>
                  </a:cubicBezTo>
                  <a:close/>
                  <a:moveTo>
                    <a:pt x="180" y="110"/>
                  </a:moveTo>
                  <a:cubicBezTo>
                    <a:pt x="180" y="109"/>
                    <a:pt x="180" y="108"/>
                    <a:pt x="180" y="107"/>
                  </a:cubicBezTo>
                  <a:cubicBezTo>
                    <a:pt x="180" y="107"/>
                    <a:pt x="180" y="108"/>
                    <a:pt x="180" y="108"/>
                  </a:cubicBezTo>
                  <a:cubicBezTo>
                    <a:pt x="180" y="109"/>
                    <a:pt x="180" y="109"/>
                    <a:pt x="180" y="110"/>
                  </a:cubicBezTo>
                  <a:close/>
                  <a:moveTo>
                    <a:pt x="191" y="125"/>
                  </a:moveTo>
                  <a:cubicBezTo>
                    <a:pt x="191" y="123"/>
                    <a:pt x="191" y="122"/>
                    <a:pt x="191" y="120"/>
                  </a:cubicBezTo>
                  <a:cubicBezTo>
                    <a:pt x="191" y="121"/>
                    <a:pt x="191" y="122"/>
                    <a:pt x="191" y="123"/>
                  </a:cubicBezTo>
                  <a:cubicBezTo>
                    <a:pt x="191" y="123"/>
                    <a:pt x="191" y="124"/>
                    <a:pt x="191" y="125"/>
                  </a:cubicBezTo>
                  <a:close/>
                  <a:moveTo>
                    <a:pt x="194" y="115"/>
                  </a:moveTo>
                  <a:cubicBezTo>
                    <a:pt x="194" y="117"/>
                    <a:pt x="193" y="118"/>
                    <a:pt x="193" y="119"/>
                  </a:cubicBezTo>
                  <a:cubicBezTo>
                    <a:pt x="192" y="118"/>
                    <a:pt x="191" y="116"/>
                    <a:pt x="191" y="114"/>
                  </a:cubicBezTo>
                  <a:cubicBezTo>
                    <a:pt x="191" y="110"/>
                    <a:pt x="191" y="105"/>
                    <a:pt x="191" y="100"/>
                  </a:cubicBezTo>
                  <a:cubicBezTo>
                    <a:pt x="193" y="94"/>
                    <a:pt x="195" y="89"/>
                    <a:pt x="198" y="84"/>
                  </a:cubicBezTo>
                  <a:cubicBezTo>
                    <a:pt x="197" y="93"/>
                    <a:pt x="195" y="105"/>
                    <a:pt x="194" y="115"/>
                  </a:cubicBezTo>
                  <a:close/>
                  <a:moveTo>
                    <a:pt x="202" y="90"/>
                  </a:moveTo>
                  <a:cubicBezTo>
                    <a:pt x="201" y="88"/>
                    <a:pt x="200" y="84"/>
                    <a:pt x="200" y="80"/>
                  </a:cubicBezTo>
                  <a:cubicBezTo>
                    <a:pt x="200" y="80"/>
                    <a:pt x="200" y="80"/>
                    <a:pt x="200" y="80"/>
                  </a:cubicBezTo>
                  <a:cubicBezTo>
                    <a:pt x="201" y="81"/>
                    <a:pt x="202" y="83"/>
                    <a:pt x="203" y="84"/>
                  </a:cubicBezTo>
                  <a:cubicBezTo>
                    <a:pt x="202" y="88"/>
                    <a:pt x="202" y="90"/>
                    <a:pt x="202" y="90"/>
                  </a:cubicBezTo>
                  <a:close/>
                  <a:moveTo>
                    <a:pt x="203" y="83"/>
                  </a:moveTo>
                  <a:cubicBezTo>
                    <a:pt x="202" y="81"/>
                    <a:pt x="201" y="80"/>
                    <a:pt x="201" y="79"/>
                  </a:cubicBezTo>
                  <a:cubicBezTo>
                    <a:pt x="202" y="78"/>
                    <a:pt x="203" y="76"/>
                    <a:pt x="204" y="75"/>
                  </a:cubicBezTo>
                  <a:cubicBezTo>
                    <a:pt x="203" y="78"/>
                    <a:pt x="203" y="81"/>
                    <a:pt x="203" y="83"/>
                  </a:cubicBezTo>
                  <a:close/>
                  <a:moveTo>
                    <a:pt x="209" y="104"/>
                  </a:moveTo>
                  <a:cubicBezTo>
                    <a:pt x="210" y="105"/>
                    <a:pt x="210" y="107"/>
                    <a:pt x="210" y="109"/>
                  </a:cubicBezTo>
                  <a:cubicBezTo>
                    <a:pt x="210" y="111"/>
                    <a:pt x="209" y="112"/>
                    <a:pt x="209" y="114"/>
                  </a:cubicBezTo>
                  <a:cubicBezTo>
                    <a:pt x="209" y="110"/>
                    <a:pt x="209" y="107"/>
                    <a:pt x="209" y="104"/>
                  </a:cubicBezTo>
                  <a:close/>
                  <a:moveTo>
                    <a:pt x="205" y="91"/>
                  </a:moveTo>
                  <a:cubicBezTo>
                    <a:pt x="206" y="91"/>
                    <a:pt x="206" y="91"/>
                    <a:pt x="206" y="91"/>
                  </a:cubicBezTo>
                  <a:cubicBezTo>
                    <a:pt x="206" y="91"/>
                    <a:pt x="206" y="91"/>
                    <a:pt x="205" y="91"/>
                  </a:cubicBezTo>
                  <a:close/>
                  <a:moveTo>
                    <a:pt x="206" y="124"/>
                  </a:moveTo>
                  <a:cubicBezTo>
                    <a:pt x="206" y="114"/>
                    <a:pt x="206" y="102"/>
                    <a:pt x="205" y="91"/>
                  </a:cubicBezTo>
                  <a:cubicBezTo>
                    <a:pt x="206" y="91"/>
                    <a:pt x="206" y="91"/>
                    <a:pt x="206" y="91"/>
                  </a:cubicBezTo>
                  <a:cubicBezTo>
                    <a:pt x="207" y="94"/>
                    <a:pt x="208" y="98"/>
                    <a:pt x="209" y="101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6" y="121"/>
                    <a:pt x="206" y="122"/>
                    <a:pt x="206" y="124"/>
                  </a:cubicBezTo>
                  <a:close/>
                  <a:moveTo>
                    <a:pt x="208" y="136"/>
                  </a:moveTo>
                  <a:cubicBezTo>
                    <a:pt x="208" y="134"/>
                    <a:pt x="208" y="133"/>
                    <a:pt x="208" y="131"/>
                  </a:cubicBezTo>
                  <a:cubicBezTo>
                    <a:pt x="209" y="126"/>
                    <a:pt x="211" y="121"/>
                    <a:pt x="212" y="116"/>
                  </a:cubicBezTo>
                  <a:cubicBezTo>
                    <a:pt x="212" y="118"/>
                    <a:pt x="212" y="121"/>
                    <a:pt x="213" y="123"/>
                  </a:cubicBezTo>
                  <a:cubicBezTo>
                    <a:pt x="213" y="124"/>
                    <a:pt x="212" y="124"/>
                    <a:pt x="212" y="124"/>
                  </a:cubicBezTo>
                  <a:cubicBezTo>
                    <a:pt x="211" y="128"/>
                    <a:pt x="210" y="132"/>
                    <a:pt x="208" y="136"/>
                  </a:cubicBezTo>
                  <a:close/>
                  <a:moveTo>
                    <a:pt x="212" y="141"/>
                  </a:moveTo>
                  <a:cubicBezTo>
                    <a:pt x="212" y="141"/>
                    <a:pt x="213" y="141"/>
                    <a:pt x="213" y="140"/>
                  </a:cubicBezTo>
                  <a:cubicBezTo>
                    <a:pt x="213" y="139"/>
                    <a:pt x="213" y="137"/>
                    <a:pt x="214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4" y="137"/>
                    <a:pt x="213" y="139"/>
                    <a:pt x="212" y="141"/>
                  </a:cubicBezTo>
                  <a:close/>
                  <a:moveTo>
                    <a:pt x="219" y="119"/>
                  </a:moveTo>
                  <a:cubicBezTo>
                    <a:pt x="219" y="119"/>
                    <a:pt x="218" y="118"/>
                    <a:pt x="218" y="118"/>
                  </a:cubicBezTo>
                  <a:cubicBezTo>
                    <a:pt x="218" y="116"/>
                    <a:pt x="219" y="115"/>
                    <a:pt x="219" y="113"/>
                  </a:cubicBezTo>
                  <a:cubicBezTo>
                    <a:pt x="219" y="112"/>
                    <a:pt x="219" y="112"/>
                    <a:pt x="219" y="111"/>
                  </a:cubicBezTo>
                  <a:cubicBezTo>
                    <a:pt x="220" y="112"/>
                    <a:pt x="220" y="113"/>
                    <a:pt x="220" y="115"/>
                  </a:cubicBezTo>
                  <a:cubicBezTo>
                    <a:pt x="220" y="116"/>
                    <a:pt x="219" y="118"/>
                    <a:pt x="219" y="119"/>
                  </a:cubicBezTo>
                  <a:close/>
                  <a:moveTo>
                    <a:pt x="226" y="136"/>
                  </a:moveTo>
                  <a:cubicBezTo>
                    <a:pt x="225" y="135"/>
                    <a:pt x="225" y="134"/>
                    <a:pt x="224" y="133"/>
                  </a:cubicBezTo>
                  <a:cubicBezTo>
                    <a:pt x="224" y="132"/>
                    <a:pt x="224" y="132"/>
                    <a:pt x="224" y="131"/>
                  </a:cubicBezTo>
                  <a:cubicBezTo>
                    <a:pt x="225" y="133"/>
                    <a:pt x="225" y="134"/>
                    <a:pt x="226" y="136"/>
                  </a:cubicBezTo>
                  <a:cubicBezTo>
                    <a:pt x="226" y="136"/>
                    <a:pt x="226" y="136"/>
                    <a:pt x="226" y="136"/>
                  </a:cubicBezTo>
                  <a:close/>
                  <a:moveTo>
                    <a:pt x="240" y="118"/>
                  </a:moveTo>
                  <a:cubicBezTo>
                    <a:pt x="240" y="118"/>
                    <a:pt x="240" y="117"/>
                    <a:pt x="240" y="117"/>
                  </a:cubicBezTo>
                  <a:cubicBezTo>
                    <a:pt x="240" y="117"/>
                    <a:pt x="240" y="117"/>
                    <a:pt x="240" y="117"/>
                  </a:cubicBezTo>
                  <a:cubicBezTo>
                    <a:pt x="240" y="118"/>
                    <a:pt x="240" y="118"/>
                    <a:pt x="240" y="118"/>
                  </a:cubicBezTo>
                  <a:close/>
                  <a:moveTo>
                    <a:pt x="246" y="105"/>
                  </a:moveTo>
                  <a:cubicBezTo>
                    <a:pt x="245" y="106"/>
                    <a:pt x="244" y="107"/>
                    <a:pt x="244" y="109"/>
                  </a:cubicBezTo>
                  <a:cubicBezTo>
                    <a:pt x="244" y="107"/>
                    <a:pt x="243" y="106"/>
                    <a:pt x="243" y="104"/>
                  </a:cubicBezTo>
                  <a:cubicBezTo>
                    <a:pt x="244" y="101"/>
                    <a:pt x="246" y="98"/>
                    <a:pt x="247" y="94"/>
                  </a:cubicBezTo>
                  <a:cubicBezTo>
                    <a:pt x="247" y="98"/>
                    <a:pt x="246" y="101"/>
                    <a:pt x="246" y="105"/>
                  </a:cubicBezTo>
                  <a:close/>
                  <a:moveTo>
                    <a:pt x="252" y="138"/>
                  </a:moveTo>
                  <a:cubicBezTo>
                    <a:pt x="251" y="137"/>
                    <a:pt x="251" y="136"/>
                    <a:pt x="251" y="135"/>
                  </a:cubicBezTo>
                  <a:cubicBezTo>
                    <a:pt x="251" y="133"/>
                    <a:pt x="251" y="131"/>
                    <a:pt x="251" y="129"/>
                  </a:cubicBezTo>
                  <a:cubicBezTo>
                    <a:pt x="251" y="131"/>
                    <a:pt x="251" y="133"/>
                    <a:pt x="252" y="134"/>
                  </a:cubicBezTo>
                  <a:cubicBezTo>
                    <a:pt x="252" y="135"/>
                    <a:pt x="252" y="137"/>
                    <a:pt x="252" y="138"/>
                  </a:cubicBezTo>
                  <a:close/>
                  <a:moveTo>
                    <a:pt x="253" y="123"/>
                  </a:moveTo>
                  <a:cubicBezTo>
                    <a:pt x="252" y="121"/>
                    <a:pt x="251" y="118"/>
                    <a:pt x="251" y="116"/>
                  </a:cubicBezTo>
                  <a:cubicBezTo>
                    <a:pt x="252" y="112"/>
                    <a:pt x="253" y="107"/>
                    <a:pt x="254" y="103"/>
                  </a:cubicBezTo>
                  <a:cubicBezTo>
                    <a:pt x="254" y="110"/>
                    <a:pt x="253" y="117"/>
                    <a:pt x="253" y="123"/>
                  </a:cubicBezTo>
                  <a:close/>
                  <a:moveTo>
                    <a:pt x="258" y="69"/>
                  </a:moveTo>
                  <a:cubicBezTo>
                    <a:pt x="260" y="72"/>
                    <a:pt x="262" y="75"/>
                    <a:pt x="264" y="79"/>
                  </a:cubicBezTo>
                  <a:cubicBezTo>
                    <a:pt x="263" y="79"/>
                    <a:pt x="263" y="79"/>
                    <a:pt x="263" y="79"/>
                  </a:cubicBezTo>
                  <a:cubicBezTo>
                    <a:pt x="262" y="76"/>
                    <a:pt x="260" y="72"/>
                    <a:pt x="258" y="69"/>
                  </a:cubicBezTo>
                  <a:cubicBezTo>
                    <a:pt x="258" y="69"/>
                    <a:pt x="258" y="69"/>
                    <a:pt x="258" y="69"/>
                  </a:cubicBezTo>
                  <a:close/>
                  <a:moveTo>
                    <a:pt x="258" y="74"/>
                  </a:moveTo>
                  <a:cubicBezTo>
                    <a:pt x="259" y="76"/>
                    <a:pt x="260" y="79"/>
                    <a:pt x="261" y="81"/>
                  </a:cubicBezTo>
                  <a:cubicBezTo>
                    <a:pt x="260" y="82"/>
                    <a:pt x="259" y="83"/>
                    <a:pt x="259" y="85"/>
                  </a:cubicBezTo>
                  <a:cubicBezTo>
                    <a:pt x="258" y="81"/>
                    <a:pt x="258" y="77"/>
                    <a:pt x="258" y="74"/>
                  </a:cubicBezTo>
                  <a:close/>
                  <a:moveTo>
                    <a:pt x="259" y="120"/>
                  </a:moveTo>
                  <a:cubicBezTo>
                    <a:pt x="259" y="115"/>
                    <a:pt x="259" y="111"/>
                    <a:pt x="259" y="106"/>
                  </a:cubicBezTo>
                  <a:cubicBezTo>
                    <a:pt x="260" y="109"/>
                    <a:pt x="260" y="112"/>
                    <a:pt x="261" y="114"/>
                  </a:cubicBezTo>
                  <a:cubicBezTo>
                    <a:pt x="260" y="116"/>
                    <a:pt x="260" y="118"/>
                    <a:pt x="259" y="120"/>
                  </a:cubicBezTo>
                  <a:close/>
                  <a:moveTo>
                    <a:pt x="262" y="109"/>
                  </a:moveTo>
                  <a:cubicBezTo>
                    <a:pt x="261" y="107"/>
                    <a:pt x="260" y="104"/>
                    <a:pt x="259" y="102"/>
                  </a:cubicBezTo>
                  <a:cubicBezTo>
                    <a:pt x="259" y="99"/>
                    <a:pt x="259" y="97"/>
                    <a:pt x="259" y="94"/>
                  </a:cubicBezTo>
                  <a:cubicBezTo>
                    <a:pt x="260" y="98"/>
                    <a:pt x="262" y="102"/>
                    <a:pt x="263" y="107"/>
                  </a:cubicBezTo>
                  <a:cubicBezTo>
                    <a:pt x="263" y="108"/>
                    <a:pt x="262" y="108"/>
                    <a:pt x="262" y="109"/>
                  </a:cubicBezTo>
                  <a:close/>
                  <a:moveTo>
                    <a:pt x="266" y="96"/>
                  </a:moveTo>
                  <a:cubicBezTo>
                    <a:pt x="265" y="98"/>
                    <a:pt x="264" y="101"/>
                    <a:pt x="264" y="104"/>
                  </a:cubicBezTo>
                  <a:cubicBezTo>
                    <a:pt x="262" y="100"/>
                    <a:pt x="261" y="96"/>
                    <a:pt x="259" y="92"/>
                  </a:cubicBezTo>
                  <a:cubicBezTo>
                    <a:pt x="259" y="92"/>
                    <a:pt x="259" y="92"/>
                    <a:pt x="259" y="92"/>
                  </a:cubicBezTo>
                  <a:cubicBezTo>
                    <a:pt x="260" y="89"/>
                    <a:pt x="261" y="86"/>
                    <a:pt x="263" y="84"/>
                  </a:cubicBezTo>
                  <a:cubicBezTo>
                    <a:pt x="264" y="87"/>
                    <a:pt x="265" y="90"/>
                    <a:pt x="266" y="93"/>
                  </a:cubicBezTo>
                  <a:cubicBezTo>
                    <a:pt x="266" y="94"/>
                    <a:pt x="266" y="95"/>
                    <a:pt x="266" y="96"/>
                  </a:cubicBezTo>
                  <a:close/>
                  <a:moveTo>
                    <a:pt x="267" y="90"/>
                  </a:moveTo>
                  <a:cubicBezTo>
                    <a:pt x="266" y="87"/>
                    <a:pt x="265" y="84"/>
                    <a:pt x="264" y="82"/>
                  </a:cubicBezTo>
                  <a:cubicBezTo>
                    <a:pt x="264" y="81"/>
                    <a:pt x="264" y="81"/>
                    <a:pt x="265" y="81"/>
                  </a:cubicBezTo>
                  <a:cubicBezTo>
                    <a:pt x="266" y="83"/>
                    <a:pt x="267" y="86"/>
                    <a:pt x="267" y="89"/>
                  </a:cubicBezTo>
                  <a:cubicBezTo>
                    <a:pt x="267" y="89"/>
                    <a:pt x="267" y="89"/>
                    <a:pt x="267" y="90"/>
                  </a:cubicBezTo>
                  <a:close/>
                  <a:moveTo>
                    <a:pt x="265" y="79"/>
                  </a:moveTo>
                  <a:cubicBezTo>
                    <a:pt x="266" y="78"/>
                    <a:pt x="267" y="77"/>
                    <a:pt x="268" y="76"/>
                  </a:cubicBezTo>
                  <a:cubicBezTo>
                    <a:pt x="268" y="78"/>
                    <a:pt x="269" y="79"/>
                    <a:pt x="269" y="80"/>
                  </a:cubicBezTo>
                  <a:cubicBezTo>
                    <a:pt x="269" y="82"/>
                    <a:pt x="268" y="84"/>
                    <a:pt x="268" y="85"/>
                  </a:cubicBezTo>
                  <a:cubicBezTo>
                    <a:pt x="267" y="83"/>
                    <a:pt x="266" y="81"/>
                    <a:pt x="265" y="79"/>
                  </a:cubicBezTo>
                  <a:close/>
                  <a:moveTo>
                    <a:pt x="268" y="116"/>
                  </a:moveTo>
                  <a:cubicBezTo>
                    <a:pt x="269" y="111"/>
                    <a:pt x="269" y="106"/>
                    <a:pt x="269" y="102"/>
                  </a:cubicBezTo>
                  <a:cubicBezTo>
                    <a:pt x="270" y="105"/>
                    <a:pt x="271" y="108"/>
                    <a:pt x="272" y="111"/>
                  </a:cubicBezTo>
                  <a:cubicBezTo>
                    <a:pt x="271" y="113"/>
                    <a:pt x="270" y="116"/>
                    <a:pt x="269" y="118"/>
                  </a:cubicBezTo>
                  <a:cubicBezTo>
                    <a:pt x="269" y="117"/>
                    <a:pt x="268" y="117"/>
                    <a:pt x="268" y="116"/>
                  </a:cubicBezTo>
                  <a:close/>
                  <a:moveTo>
                    <a:pt x="273" y="130"/>
                  </a:moveTo>
                  <a:cubicBezTo>
                    <a:pt x="272" y="128"/>
                    <a:pt x="272" y="127"/>
                    <a:pt x="271" y="125"/>
                  </a:cubicBezTo>
                  <a:cubicBezTo>
                    <a:pt x="272" y="123"/>
                    <a:pt x="272" y="122"/>
                    <a:pt x="273" y="120"/>
                  </a:cubicBezTo>
                  <a:cubicBezTo>
                    <a:pt x="273" y="122"/>
                    <a:pt x="273" y="124"/>
                    <a:pt x="274" y="127"/>
                  </a:cubicBezTo>
                  <a:cubicBezTo>
                    <a:pt x="273" y="128"/>
                    <a:pt x="273" y="129"/>
                    <a:pt x="273" y="130"/>
                  </a:cubicBezTo>
                  <a:close/>
                  <a:moveTo>
                    <a:pt x="275" y="105"/>
                  </a:moveTo>
                  <a:cubicBezTo>
                    <a:pt x="273" y="100"/>
                    <a:pt x="272" y="95"/>
                    <a:pt x="270" y="91"/>
                  </a:cubicBezTo>
                  <a:cubicBezTo>
                    <a:pt x="270" y="89"/>
                    <a:pt x="270" y="87"/>
                    <a:pt x="271" y="85"/>
                  </a:cubicBezTo>
                  <a:cubicBezTo>
                    <a:pt x="273" y="91"/>
                    <a:pt x="274" y="97"/>
                    <a:pt x="276" y="103"/>
                  </a:cubicBezTo>
                  <a:cubicBezTo>
                    <a:pt x="275" y="104"/>
                    <a:pt x="275" y="105"/>
                    <a:pt x="275" y="105"/>
                  </a:cubicBezTo>
                  <a:close/>
                  <a:moveTo>
                    <a:pt x="277" y="111"/>
                  </a:moveTo>
                  <a:cubicBezTo>
                    <a:pt x="276" y="110"/>
                    <a:pt x="276" y="110"/>
                    <a:pt x="276" y="109"/>
                  </a:cubicBezTo>
                  <a:cubicBezTo>
                    <a:pt x="276" y="109"/>
                    <a:pt x="276" y="108"/>
                    <a:pt x="277" y="107"/>
                  </a:cubicBezTo>
                  <a:cubicBezTo>
                    <a:pt x="277" y="108"/>
                    <a:pt x="277" y="109"/>
                    <a:pt x="277" y="109"/>
                  </a:cubicBezTo>
                  <a:cubicBezTo>
                    <a:pt x="277" y="110"/>
                    <a:pt x="277" y="110"/>
                    <a:pt x="277" y="111"/>
                  </a:cubicBezTo>
                  <a:close/>
                  <a:moveTo>
                    <a:pt x="287" y="94"/>
                  </a:moveTo>
                  <a:cubicBezTo>
                    <a:pt x="287" y="95"/>
                    <a:pt x="288" y="95"/>
                    <a:pt x="288" y="96"/>
                  </a:cubicBezTo>
                  <a:cubicBezTo>
                    <a:pt x="288" y="97"/>
                    <a:pt x="287" y="97"/>
                    <a:pt x="287" y="98"/>
                  </a:cubicBezTo>
                  <a:cubicBezTo>
                    <a:pt x="287" y="96"/>
                    <a:pt x="287" y="95"/>
                    <a:pt x="287" y="94"/>
                  </a:cubicBezTo>
                  <a:close/>
                  <a:moveTo>
                    <a:pt x="289" y="109"/>
                  </a:moveTo>
                  <a:cubicBezTo>
                    <a:pt x="288" y="106"/>
                    <a:pt x="288" y="104"/>
                    <a:pt x="287" y="102"/>
                  </a:cubicBezTo>
                  <a:cubicBezTo>
                    <a:pt x="287" y="101"/>
                    <a:pt x="287" y="99"/>
                    <a:pt x="287" y="98"/>
                  </a:cubicBezTo>
                  <a:cubicBezTo>
                    <a:pt x="287" y="98"/>
                    <a:pt x="288" y="97"/>
                    <a:pt x="288" y="97"/>
                  </a:cubicBezTo>
                  <a:cubicBezTo>
                    <a:pt x="288" y="98"/>
                    <a:pt x="289" y="100"/>
                    <a:pt x="289" y="102"/>
                  </a:cubicBezTo>
                  <a:cubicBezTo>
                    <a:pt x="289" y="104"/>
                    <a:pt x="289" y="107"/>
                    <a:pt x="289" y="109"/>
                  </a:cubicBezTo>
                  <a:close/>
                  <a:moveTo>
                    <a:pt x="291" y="84"/>
                  </a:moveTo>
                  <a:cubicBezTo>
                    <a:pt x="291" y="89"/>
                    <a:pt x="290" y="94"/>
                    <a:pt x="290" y="98"/>
                  </a:cubicBezTo>
                  <a:cubicBezTo>
                    <a:pt x="289" y="97"/>
                    <a:pt x="289" y="96"/>
                    <a:pt x="288" y="95"/>
                  </a:cubicBezTo>
                  <a:cubicBezTo>
                    <a:pt x="289" y="94"/>
                    <a:pt x="290" y="92"/>
                    <a:pt x="290" y="91"/>
                  </a:cubicBezTo>
                  <a:cubicBezTo>
                    <a:pt x="290" y="92"/>
                    <a:pt x="289" y="94"/>
                    <a:pt x="288" y="95"/>
                  </a:cubicBezTo>
                  <a:cubicBezTo>
                    <a:pt x="288" y="94"/>
                    <a:pt x="287" y="93"/>
                    <a:pt x="287" y="92"/>
                  </a:cubicBezTo>
                  <a:cubicBezTo>
                    <a:pt x="287" y="90"/>
                    <a:pt x="287" y="88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75"/>
                    <a:pt x="286" y="65"/>
                    <a:pt x="286" y="56"/>
                  </a:cubicBezTo>
                  <a:cubicBezTo>
                    <a:pt x="289" y="58"/>
                    <a:pt x="292" y="61"/>
                    <a:pt x="294" y="63"/>
                  </a:cubicBezTo>
                  <a:cubicBezTo>
                    <a:pt x="293" y="69"/>
                    <a:pt x="292" y="76"/>
                    <a:pt x="291" y="84"/>
                  </a:cubicBezTo>
                  <a:cubicBezTo>
                    <a:pt x="291" y="82"/>
                    <a:pt x="290" y="81"/>
                    <a:pt x="290" y="79"/>
                  </a:cubicBezTo>
                  <a:cubicBezTo>
                    <a:pt x="290" y="81"/>
                    <a:pt x="291" y="83"/>
                    <a:pt x="291" y="84"/>
                  </a:cubicBezTo>
                  <a:close/>
                  <a:moveTo>
                    <a:pt x="293" y="139"/>
                  </a:moveTo>
                  <a:cubicBezTo>
                    <a:pt x="292" y="134"/>
                    <a:pt x="292" y="128"/>
                    <a:pt x="292" y="121"/>
                  </a:cubicBezTo>
                  <a:cubicBezTo>
                    <a:pt x="292" y="125"/>
                    <a:pt x="293" y="129"/>
                    <a:pt x="293" y="133"/>
                  </a:cubicBezTo>
                  <a:cubicBezTo>
                    <a:pt x="293" y="135"/>
                    <a:pt x="293" y="137"/>
                    <a:pt x="293" y="139"/>
                  </a:cubicBezTo>
                  <a:close/>
                  <a:moveTo>
                    <a:pt x="292" y="104"/>
                  </a:moveTo>
                  <a:cubicBezTo>
                    <a:pt x="292" y="102"/>
                    <a:pt x="293" y="99"/>
                    <a:pt x="293" y="96"/>
                  </a:cubicBezTo>
                  <a:cubicBezTo>
                    <a:pt x="293" y="100"/>
                    <a:pt x="293" y="104"/>
                    <a:pt x="293" y="107"/>
                  </a:cubicBezTo>
                  <a:cubicBezTo>
                    <a:pt x="293" y="106"/>
                    <a:pt x="293" y="105"/>
                    <a:pt x="292" y="104"/>
                  </a:cubicBezTo>
                  <a:close/>
                  <a:moveTo>
                    <a:pt x="304" y="85"/>
                  </a:moveTo>
                  <a:cubicBezTo>
                    <a:pt x="303" y="90"/>
                    <a:pt x="303" y="96"/>
                    <a:pt x="302" y="103"/>
                  </a:cubicBezTo>
                  <a:cubicBezTo>
                    <a:pt x="301" y="101"/>
                    <a:pt x="301" y="100"/>
                    <a:pt x="300" y="99"/>
                  </a:cubicBezTo>
                  <a:cubicBezTo>
                    <a:pt x="300" y="96"/>
                    <a:pt x="299" y="93"/>
                    <a:pt x="298" y="90"/>
                  </a:cubicBezTo>
                  <a:cubicBezTo>
                    <a:pt x="299" y="93"/>
                    <a:pt x="299" y="96"/>
                    <a:pt x="299" y="99"/>
                  </a:cubicBezTo>
                  <a:cubicBezTo>
                    <a:pt x="299" y="104"/>
                    <a:pt x="299" y="112"/>
                    <a:pt x="298" y="120"/>
                  </a:cubicBezTo>
                  <a:cubicBezTo>
                    <a:pt x="297" y="110"/>
                    <a:pt x="295" y="100"/>
                    <a:pt x="293" y="91"/>
                  </a:cubicBezTo>
                  <a:cubicBezTo>
                    <a:pt x="294" y="81"/>
                    <a:pt x="295" y="72"/>
                    <a:pt x="295" y="65"/>
                  </a:cubicBezTo>
                  <a:cubicBezTo>
                    <a:pt x="299" y="69"/>
                    <a:pt x="302" y="74"/>
                    <a:pt x="304" y="79"/>
                  </a:cubicBezTo>
                  <a:cubicBezTo>
                    <a:pt x="304" y="81"/>
                    <a:pt x="304" y="83"/>
                    <a:pt x="304" y="85"/>
                  </a:cubicBezTo>
                  <a:close/>
                  <a:moveTo>
                    <a:pt x="304" y="75"/>
                  </a:moveTo>
                  <a:cubicBezTo>
                    <a:pt x="304" y="75"/>
                    <a:pt x="304" y="75"/>
                    <a:pt x="304" y="75"/>
                  </a:cubicBezTo>
                  <a:cubicBezTo>
                    <a:pt x="304" y="73"/>
                    <a:pt x="304" y="72"/>
                    <a:pt x="304" y="70"/>
                  </a:cubicBezTo>
                  <a:cubicBezTo>
                    <a:pt x="304" y="70"/>
                    <a:pt x="304" y="72"/>
                    <a:pt x="304" y="75"/>
                  </a:cubicBezTo>
                  <a:cubicBezTo>
                    <a:pt x="301" y="71"/>
                    <a:pt x="299" y="67"/>
                    <a:pt x="296" y="64"/>
                  </a:cubicBezTo>
                  <a:cubicBezTo>
                    <a:pt x="296" y="60"/>
                    <a:pt x="296" y="57"/>
                    <a:pt x="297" y="54"/>
                  </a:cubicBezTo>
                  <a:cubicBezTo>
                    <a:pt x="300" y="58"/>
                    <a:pt x="303" y="62"/>
                    <a:pt x="305" y="65"/>
                  </a:cubicBezTo>
                  <a:cubicBezTo>
                    <a:pt x="305" y="68"/>
                    <a:pt x="305" y="71"/>
                    <a:pt x="304" y="75"/>
                  </a:cubicBezTo>
                  <a:close/>
                  <a:moveTo>
                    <a:pt x="308" y="117"/>
                  </a:moveTo>
                  <a:cubicBezTo>
                    <a:pt x="307" y="119"/>
                    <a:pt x="307" y="122"/>
                    <a:pt x="306" y="125"/>
                  </a:cubicBezTo>
                  <a:cubicBezTo>
                    <a:pt x="306" y="124"/>
                    <a:pt x="306" y="123"/>
                    <a:pt x="306" y="122"/>
                  </a:cubicBezTo>
                  <a:cubicBezTo>
                    <a:pt x="306" y="110"/>
                    <a:pt x="307" y="98"/>
                    <a:pt x="307" y="87"/>
                  </a:cubicBezTo>
                  <a:cubicBezTo>
                    <a:pt x="308" y="92"/>
                    <a:pt x="309" y="98"/>
                    <a:pt x="310" y="103"/>
                  </a:cubicBezTo>
                  <a:cubicBezTo>
                    <a:pt x="309" y="108"/>
                    <a:pt x="309" y="112"/>
                    <a:pt x="308" y="117"/>
                  </a:cubicBezTo>
                  <a:close/>
                  <a:moveTo>
                    <a:pt x="311" y="89"/>
                  </a:moveTo>
                  <a:cubicBezTo>
                    <a:pt x="310" y="86"/>
                    <a:pt x="309" y="83"/>
                    <a:pt x="307" y="80"/>
                  </a:cubicBezTo>
                  <a:cubicBezTo>
                    <a:pt x="307" y="76"/>
                    <a:pt x="307" y="72"/>
                    <a:pt x="307" y="68"/>
                  </a:cubicBezTo>
                  <a:cubicBezTo>
                    <a:pt x="309" y="71"/>
                    <a:pt x="311" y="74"/>
                    <a:pt x="313" y="78"/>
                  </a:cubicBezTo>
                  <a:cubicBezTo>
                    <a:pt x="312" y="81"/>
                    <a:pt x="312" y="85"/>
                    <a:pt x="311" y="89"/>
                  </a:cubicBezTo>
                  <a:close/>
                  <a:moveTo>
                    <a:pt x="317" y="96"/>
                  </a:moveTo>
                  <a:cubicBezTo>
                    <a:pt x="316" y="97"/>
                    <a:pt x="315" y="98"/>
                    <a:pt x="315" y="99"/>
                  </a:cubicBezTo>
                  <a:cubicBezTo>
                    <a:pt x="314" y="98"/>
                    <a:pt x="314" y="97"/>
                    <a:pt x="314" y="96"/>
                  </a:cubicBezTo>
                  <a:cubicBezTo>
                    <a:pt x="314" y="91"/>
                    <a:pt x="314" y="86"/>
                    <a:pt x="314" y="80"/>
                  </a:cubicBezTo>
                  <a:cubicBezTo>
                    <a:pt x="315" y="83"/>
                    <a:pt x="317" y="86"/>
                    <a:pt x="317" y="88"/>
                  </a:cubicBezTo>
                  <a:cubicBezTo>
                    <a:pt x="317" y="91"/>
                    <a:pt x="317" y="93"/>
                    <a:pt x="317" y="96"/>
                  </a:cubicBezTo>
                  <a:close/>
                  <a:moveTo>
                    <a:pt x="338" y="105"/>
                  </a:moveTo>
                  <a:cubicBezTo>
                    <a:pt x="338" y="103"/>
                    <a:pt x="337" y="102"/>
                    <a:pt x="336" y="101"/>
                  </a:cubicBezTo>
                  <a:cubicBezTo>
                    <a:pt x="338" y="96"/>
                    <a:pt x="339" y="92"/>
                    <a:pt x="341" y="89"/>
                  </a:cubicBezTo>
                  <a:cubicBezTo>
                    <a:pt x="341" y="89"/>
                    <a:pt x="341" y="89"/>
                    <a:pt x="341" y="90"/>
                  </a:cubicBezTo>
                  <a:cubicBezTo>
                    <a:pt x="340" y="95"/>
                    <a:pt x="339" y="100"/>
                    <a:pt x="338" y="105"/>
                  </a:cubicBezTo>
                  <a:close/>
                  <a:moveTo>
                    <a:pt x="354" y="81"/>
                  </a:moveTo>
                  <a:cubicBezTo>
                    <a:pt x="355" y="81"/>
                    <a:pt x="355" y="81"/>
                    <a:pt x="355" y="81"/>
                  </a:cubicBezTo>
                  <a:cubicBezTo>
                    <a:pt x="355" y="81"/>
                    <a:pt x="355" y="81"/>
                    <a:pt x="354" y="81"/>
                  </a:cubicBezTo>
                  <a:cubicBezTo>
                    <a:pt x="354" y="81"/>
                    <a:pt x="354" y="81"/>
                    <a:pt x="354" y="81"/>
                  </a:cubicBezTo>
                  <a:close/>
                  <a:moveTo>
                    <a:pt x="354" y="88"/>
                  </a:moveTo>
                  <a:cubicBezTo>
                    <a:pt x="354" y="89"/>
                    <a:pt x="354" y="89"/>
                    <a:pt x="354" y="89"/>
                  </a:cubicBezTo>
                  <a:cubicBezTo>
                    <a:pt x="354" y="90"/>
                    <a:pt x="354" y="91"/>
                    <a:pt x="354" y="91"/>
                  </a:cubicBezTo>
                  <a:cubicBezTo>
                    <a:pt x="354" y="90"/>
                    <a:pt x="354" y="89"/>
                    <a:pt x="354" y="88"/>
                  </a:cubicBezTo>
                  <a:close/>
                  <a:moveTo>
                    <a:pt x="345" y="122"/>
                  </a:moveTo>
                  <a:cubicBezTo>
                    <a:pt x="345" y="122"/>
                    <a:pt x="345" y="123"/>
                    <a:pt x="345" y="123"/>
                  </a:cubicBezTo>
                  <a:cubicBezTo>
                    <a:pt x="345" y="123"/>
                    <a:pt x="345" y="123"/>
                    <a:pt x="345" y="123"/>
                  </a:cubicBezTo>
                  <a:cubicBezTo>
                    <a:pt x="345" y="123"/>
                    <a:pt x="345" y="122"/>
                    <a:pt x="345" y="122"/>
                  </a:cubicBezTo>
                  <a:cubicBezTo>
                    <a:pt x="345" y="120"/>
                    <a:pt x="346" y="118"/>
                    <a:pt x="346" y="115"/>
                  </a:cubicBezTo>
                  <a:cubicBezTo>
                    <a:pt x="346" y="115"/>
                    <a:pt x="346" y="115"/>
                    <a:pt x="346" y="115"/>
                  </a:cubicBezTo>
                  <a:cubicBezTo>
                    <a:pt x="346" y="116"/>
                    <a:pt x="346" y="117"/>
                    <a:pt x="346" y="118"/>
                  </a:cubicBezTo>
                  <a:cubicBezTo>
                    <a:pt x="346" y="119"/>
                    <a:pt x="345" y="121"/>
                    <a:pt x="345" y="122"/>
                  </a:cubicBezTo>
                  <a:close/>
                  <a:moveTo>
                    <a:pt x="348" y="70"/>
                  </a:moveTo>
                  <a:cubicBezTo>
                    <a:pt x="350" y="73"/>
                    <a:pt x="352" y="76"/>
                    <a:pt x="354" y="79"/>
                  </a:cubicBezTo>
                  <a:cubicBezTo>
                    <a:pt x="353" y="81"/>
                    <a:pt x="353" y="82"/>
                    <a:pt x="353" y="84"/>
                  </a:cubicBezTo>
                  <a:cubicBezTo>
                    <a:pt x="353" y="84"/>
                    <a:pt x="353" y="84"/>
                    <a:pt x="352" y="84"/>
                  </a:cubicBezTo>
                  <a:cubicBezTo>
                    <a:pt x="352" y="82"/>
                    <a:pt x="351" y="81"/>
                    <a:pt x="350" y="79"/>
                  </a:cubicBezTo>
                  <a:cubicBezTo>
                    <a:pt x="351" y="81"/>
                    <a:pt x="352" y="83"/>
                    <a:pt x="352" y="84"/>
                  </a:cubicBezTo>
                  <a:cubicBezTo>
                    <a:pt x="351" y="87"/>
                    <a:pt x="349" y="90"/>
                    <a:pt x="348" y="93"/>
                  </a:cubicBezTo>
                  <a:cubicBezTo>
                    <a:pt x="348" y="85"/>
                    <a:pt x="348" y="77"/>
                    <a:pt x="348" y="70"/>
                  </a:cubicBezTo>
                  <a:close/>
                  <a:moveTo>
                    <a:pt x="350" y="98"/>
                  </a:moveTo>
                  <a:cubicBezTo>
                    <a:pt x="350" y="98"/>
                    <a:pt x="350" y="97"/>
                    <a:pt x="350" y="96"/>
                  </a:cubicBezTo>
                  <a:cubicBezTo>
                    <a:pt x="350" y="97"/>
                    <a:pt x="350" y="98"/>
                    <a:pt x="350" y="98"/>
                  </a:cubicBezTo>
                  <a:cubicBezTo>
                    <a:pt x="350" y="99"/>
                    <a:pt x="350" y="100"/>
                    <a:pt x="350" y="100"/>
                  </a:cubicBezTo>
                  <a:cubicBezTo>
                    <a:pt x="349" y="99"/>
                    <a:pt x="349" y="98"/>
                    <a:pt x="349" y="97"/>
                  </a:cubicBezTo>
                  <a:cubicBezTo>
                    <a:pt x="349" y="95"/>
                    <a:pt x="350" y="93"/>
                    <a:pt x="351" y="90"/>
                  </a:cubicBezTo>
                  <a:cubicBezTo>
                    <a:pt x="351" y="93"/>
                    <a:pt x="350" y="96"/>
                    <a:pt x="350" y="98"/>
                  </a:cubicBezTo>
                  <a:close/>
                  <a:moveTo>
                    <a:pt x="357" y="100"/>
                  </a:moveTo>
                  <a:cubicBezTo>
                    <a:pt x="355" y="104"/>
                    <a:pt x="354" y="107"/>
                    <a:pt x="353" y="110"/>
                  </a:cubicBezTo>
                  <a:cubicBezTo>
                    <a:pt x="352" y="110"/>
                    <a:pt x="352" y="109"/>
                    <a:pt x="352" y="109"/>
                  </a:cubicBezTo>
                  <a:cubicBezTo>
                    <a:pt x="352" y="106"/>
                    <a:pt x="353" y="102"/>
                    <a:pt x="353" y="99"/>
                  </a:cubicBezTo>
                  <a:cubicBezTo>
                    <a:pt x="354" y="95"/>
                    <a:pt x="354" y="92"/>
                    <a:pt x="354" y="90"/>
                  </a:cubicBezTo>
                  <a:cubicBezTo>
                    <a:pt x="355" y="93"/>
                    <a:pt x="356" y="96"/>
                    <a:pt x="357" y="100"/>
                  </a:cubicBezTo>
                  <a:cubicBezTo>
                    <a:pt x="357" y="100"/>
                    <a:pt x="357" y="100"/>
                    <a:pt x="357" y="100"/>
                  </a:cubicBezTo>
                  <a:close/>
                  <a:moveTo>
                    <a:pt x="357" y="97"/>
                  </a:moveTo>
                  <a:cubicBezTo>
                    <a:pt x="356" y="95"/>
                    <a:pt x="355" y="92"/>
                    <a:pt x="354" y="89"/>
                  </a:cubicBezTo>
                  <a:cubicBezTo>
                    <a:pt x="354" y="89"/>
                    <a:pt x="354" y="89"/>
                    <a:pt x="354" y="88"/>
                  </a:cubicBezTo>
                  <a:cubicBezTo>
                    <a:pt x="354" y="89"/>
                    <a:pt x="354" y="89"/>
                    <a:pt x="354" y="89"/>
                  </a:cubicBezTo>
                  <a:cubicBezTo>
                    <a:pt x="354" y="89"/>
                    <a:pt x="354" y="88"/>
                    <a:pt x="354" y="88"/>
                  </a:cubicBezTo>
                  <a:cubicBezTo>
                    <a:pt x="354" y="87"/>
                    <a:pt x="354" y="86"/>
                    <a:pt x="354" y="85"/>
                  </a:cubicBezTo>
                  <a:cubicBezTo>
                    <a:pt x="355" y="84"/>
                    <a:pt x="355" y="83"/>
                    <a:pt x="355" y="82"/>
                  </a:cubicBezTo>
                  <a:cubicBezTo>
                    <a:pt x="357" y="84"/>
                    <a:pt x="358" y="86"/>
                    <a:pt x="358" y="88"/>
                  </a:cubicBezTo>
                  <a:cubicBezTo>
                    <a:pt x="358" y="91"/>
                    <a:pt x="358" y="94"/>
                    <a:pt x="357" y="97"/>
                  </a:cubicBezTo>
                  <a:close/>
                  <a:moveTo>
                    <a:pt x="360" y="135"/>
                  </a:moveTo>
                  <a:cubicBezTo>
                    <a:pt x="359" y="136"/>
                    <a:pt x="359" y="137"/>
                    <a:pt x="359" y="138"/>
                  </a:cubicBezTo>
                  <a:cubicBezTo>
                    <a:pt x="359" y="137"/>
                    <a:pt x="359" y="136"/>
                    <a:pt x="360" y="135"/>
                  </a:cubicBezTo>
                  <a:cubicBezTo>
                    <a:pt x="360" y="135"/>
                    <a:pt x="360" y="135"/>
                    <a:pt x="360" y="135"/>
                  </a:cubicBezTo>
                  <a:close/>
                  <a:moveTo>
                    <a:pt x="359" y="83"/>
                  </a:moveTo>
                  <a:cubicBezTo>
                    <a:pt x="358" y="82"/>
                    <a:pt x="358" y="81"/>
                    <a:pt x="357" y="80"/>
                  </a:cubicBezTo>
                  <a:cubicBezTo>
                    <a:pt x="358" y="78"/>
                    <a:pt x="359" y="77"/>
                    <a:pt x="360" y="75"/>
                  </a:cubicBezTo>
                  <a:cubicBezTo>
                    <a:pt x="360" y="78"/>
                    <a:pt x="359" y="81"/>
                    <a:pt x="359" y="83"/>
                  </a:cubicBezTo>
                  <a:close/>
                  <a:moveTo>
                    <a:pt x="360" y="74"/>
                  </a:moveTo>
                  <a:cubicBezTo>
                    <a:pt x="359" y="76"/>
                    <a:pt x="357" y="77"/>
                    <a:pt x="356" y="79"/>
                  </a:cubicBezTo>
                  <a:cubicBezTo>
                    <a:pt x="356" y="78"/>
                    <a:pt x="355" y="78"/>
                    <a:pt x="355" y="77"/>
                  </a:cubicBezTo>
                  <a:cubicBezTo>
                    <a:pt x="355" y="72"/>
                    <a:pt x="356" y="67"/>
                    <a:pt x="356" y="65"/>
                  </a:cubicBezTo>
                  <a:cubicBezTo>
                    <a:pt x="357" y="67"/>
                    <a:pt x="359" y="70"/>
                    <a:pt x="360" y="72"/>
                  </a:cubicBezTo>
                  <a:cubicBezTo>
                    <a:pt x="360" y="73"/>
                    <a:pt x="360" y="73"/>
                    <a:pt x="360" y="74"/>
                  </a:cubicBezTo>
                  <a:close/>
                  <a:moveTo>
                    <a:pt x="362" y="75"/>
                  </a:moveTo>
                  <a:cubicBezTo>
                    <a:pt x="364" y="78"/>
                    <a:pt x="365" y="81"/>
                    <a:pt x="367" y="84"/>
                  </a:cubicBezTo>
                  <a:cubicBezTo>
                    <a:pt x="365" y="86"/>
                    <a:pt x="364" y="88"/>
                    <a:pt x="363" y="90"/>
                  </a:cubicBezTo>
                  <a:cubicBezTo>
                    <a:pt x="363" y="89"/>
                    <a:pt x="362" y="89"/>
                    <a:pt x="362" y="89"/>
                  </a:cubicBezTo>
                  <a:cubicBezTo>
                    <a:pt x="362" y="84"/>
                    <a:pt x="362" y="79"/>
                    <a:pt x="362" y="75"/>
                  </a:cubicBezTo>
                  <a:close/>
                  <a:moveTo>
                    <a:pt x="364" y="110"/>
                  </a:moveTo>
                  <a:cubicBezTo>
                    <a:pt x="364" y="107"/>
                    <a:pt x="363" y="104"/>
                    <a:pt x="362" y="101"/>
                  </a:cubicBezTo>
                  <a:cubicBezTo>
                    <a:pt x="362" y="101"/>
                    <a:pt x="362" y="100"/>
                    <a:pt x="362" y="100"/>
                  </a:cubicBezTo>
                  <a:cubicBezTo>
                    <a:pt x="362" y="100"/>
                    <a:pt x="363" y="99"/>
                    <a:pt x="363" y="99"/>
                  </a:cubicBezTo>
                  <a:cubicBezTo>
                    <a:pt x="364" y="101"/>
                    <a:pt x="365" y="104"/>
                    <a:pt x="365" y="106"/>
                  </a:cubicBezTo>
                  <a:cubicBezTo>
                    <a:pt x="365" y="108"/>
                    <a:pt x="365" y="109"/>
                    <a:pt x="364" y="110"/>
                  </a:cubicBezTo>
                  <a:close/>
                  <a:moveTo>
                    <a:pt x="365" y="93"/>
                  </a:moveTo>
                  <a:cubicBezTo>
                    <a:pt x="366" y="91"/>
                    <a:pt x="367" y="88"/>
                    <a:pt x="368" y="86"/>
                  </a:cubicBezTo>
                  <a:cubicBezTo>
                    <a:pt x="368" y="87"/>
                    <a:pt x="369" y="87"/>
                    <a:pt x="369" y="88"/>
                  </a:cubicBezTo>
                  <a:cubicBezTo>
                    <a:pt x="368" y="91"/>
                    <a:pt x="368" y="94"/>
                    <a:pt x="367" y="97"/>
                  </a:cubicBezTo>
                  <a:cubicBezTo>
                    <a:pt x="366" y="96"/>
                    <a:pt x="366" y="95"/>
                    <a:pt x="365" y="93"/>
                  </a:cubicBezTo>
                  <a:close/>
                  <a:moveTo>
                    <a:pt x="368" y="130"/>
                  </a:moveTo>
                  <a:cubicBezTo>
                    <a:pt x="368" y="129"/>
                    <a:pt x="368" y="128"/>
                    <a:pt x="368" y="126"/>
                  </a:cubicBezTo>
                  <a:cubicBezTo>
                    <a:pt x="368" y="124"/>
                    <a:pt x="368" y="121"/>
                    <a:pt x="369" y="119"/>
                  </a:cubicBezTo>
                  <a:cubicBezTo>
                    <a:pt x="369" y="120"/>
                    <a:pt x="370" y="122"/>
                    <a:pt x="370" y="124"/>
                  </a:cubicBezTo>
                  <a:cubicBezTo>
                    <a:pt x="369" y="126"/>
                    <a:pt x="369" y="128"/>
                    <a:pt x="368" y="130"/>
                  </a:cubicBezTo>
                  <a:close/>
                  <a:moveTo>
                    <a:pt x="372" y="108"/>
                  </a:moveTo>
                  <a:cubicBezTo>
                    <a:pt x="372" y="107"/>
                    <a:pt x="371" y="106"/>
                    <a:pt x="371" y="105"/>
                  </a:cubicBezTo>
                  <a:cubicBezTo>
                    <a:pt x="372" y="102"/>
                    <a:pt x="372" y="99"/>
                    <a:pt x="373" y="96"/>
                  </a:cubicBezTo>
                  <a:cubicBezTo>
                    <a:pt x="373" y="96"/>
                    <a:pt x="373" y="97"/>
                    <a:pt x="373" y="97"/>
                  </a:cubicBezTo>
                  <a:cubicBezTo>
                    <a:pt x="373" y="101"/>
                    <a:pt x="373" y="105"/>
                    <a:pt x="372" y="108"/>
                  </a:cubicBezTo>
                  <a:close/>
                  <a:moveTo>
                    <a:pt x="374" y="86"/>
                  </a:moveTo>
                  <a:cubicBezTo>
                    <a:pt x="374" y="86"/>
                    <a:pt x="374" y="86"/>
                    <a:pt x="374" y="86"/>
                  </a:cubicBezTo>
                  <a:cubicBezTo>
                    <a:pt x="375" y="85"/>
                    <a:pt x="375" y="84"/>
                    <a:pt x="375" y="83"/>
                  </a:cubicBezTo>
                  <a:cubicBezTo>
                    <a:pt x="375" y="84"/>
                    <a:pt x="375" y="85"/>
                    <a:pt x="374" y="86"/>
                  </a:cubicBezTo>
                  <a:close/>
                  <a:moveTo>
                    <a:pt x="382" y="80"/>
                  </a:moveTo>
                  <a:cubicBezTo>
                    <a:pt x="382" y="77"/>
                    <a:pt x="382" y="75"/>
                    <a:pt x="383" y="73"/>
                  </a:cubicBezTo>
                  <a:cubicBezTo>
                    <a:pt x="383" y="73"/>
                    <a:pt x="383" y="74"/>
                    <a:pt x="384" y="74"/>
                  </a:cubicBezTo>
                  <a:cubicBezTo>
                    <a:pt x="383" y="76"/>
                    <a:pt x="383" y="78"/>
                    <a:pt x="382" y="80"/>
                  </a:cubicBezTo>
                  <a:close/>
                  <a:moveTo>
                    <a:pt x="394" y="93"/>
                  </a:moveTo>
                  <a:cubicBezTo>
                    <a:pt x="393" y="95"/>
                    <a:pt x="393" y="96"/>
                    <a:pt x="392" y="97"/>
                  </a:cubicBezTo>
                  <a:cubicBezTo>
                    <a:pt x="392" y="94"/>
                    <a:pt x="392" y="91"/>
                    <a:pt x="392" y="88"/>
                  </a:cubicBezTo>
                  <a:cubicBezTo>
                    <a:pt x="392" y="89"/>
                    <a:pt x="393" y="91"/>
                    <a:pt x="394" y="93"/>
                  </a:cubicBezTo>
                  <a:close/>
                  <a:moveTo>
                    <a:pt x="395" y="88"/>
                  </a:moveTo>
                  <a:cubicBezTo>
                    <a:pt x="394" y="86"/>
                    <a:pt x="393" y="85"/>
                    <a:pt x="392" y="84"/>
                  </a:cubicBezTo>
                  <a:cubicBezTo>
                    <a:pt x="394" y="81"/>
                    <a:pt x="395" y="78"/>
                    <a:pt x="397" y="75"/>
                  </a:cubicBezTo>
                  <a:cubicBezTo>
                    <a:pt x="396" y="79"/>
                    <a:pt x="396" y="84"/>
                    <a:pt x="395" y="88"/>
                  </a:cubicBezTo>
                  <a:close/>
                  <a:moveTo>
                    <a:pt x="404" y="77"/>
                  </a:moveTo>
                  <a:cubicBezTo>
                    <a:pt x="404" y="77"/>
                    <a:pt x="404" y="77"/>
                    <a:pt x="404" y="77"/>
                  </a:cubicBezTo>
                  <a:cubicBezTo>
                    <a:pt x="404" y="74"/>
                    <a:pt x="403" y="70"/>
                    <a:pt x="403" y="66"/>
                  </a:cubicBezTo>
                  <a:cubicBezTo>
                    <a:pt x="403" y="65"/>
                    <a:pt x="404" y="64"/>
                    <a:pt x="404" y="63"/>
                  </a:cubicBezTo>
                  <a:cubicBezTo>
                    <a:pt x="405" y="67"/>
                    <a:pt x="405" y="72"/>
                    <a:pt x="404" y="77"/>
                  </a:cubicBezTo>
                  <a:close/>
                  <a:moveTo>
                    <a:pt x="407" y="72"/>
                  </a:moveTo>
                  <a:cubicBezTo>
                    <a:pt x="407" y="67"/>
                    <a:pt x="406" y="64"/>
                    <a:pt x="405" y="61"/>
                  </a:cubicBezTo>
                  <a:cubicBezTo>
                    <a:pt x="406" y="60"/>
                    <a:pt x="407" y="58"/>
                    <a:pt x="408" y="57"/>
                  </a:cubicBezTo>
                  <a:cubicBezTo>
                    <a:pt x="409" y="62"/>
                    <a:pt x="408" y="67"/>
                    <a:pt x="407" y="72"/>
                  </a:cubicBezTo>
                  <a:close/>
                  <a:moveTo>
                    <a:pt x="423" y="89"/>
                  </a:moveTo>
                  <a:cubicBezTo>
                    <a:pt x="424" y="91"/>
                    <a:pt x="425" y="92"/>
                    <a:pt x="426" y="94"/>
                  </a:cubicBezTo>
                  <a:cubicBezTo>
                    <a:pt x="425" y="95"/>
                    <a:pt x="424" y="97"/>
                    <a:pt x="424" y="98"/>
                  </a:cubicBezTo>
                  <a:cubicBezTo>
                    <a:pt x="423" y="97"/>
                    <a:pt x="423" y="96"/>
                    <a:pt x="422" y="95"/>
                  </a:cubicBezTo>
                  <a:cubicBezTo>
                    <a:pt x="423" y="93"/>
                    <a:pt x="423" y="91"/>
                    <a:pt x="423" y="89"/>
                  </a:cubicBezTo>
                  <a:close/>
                  <a:moveTo>
                    <a:pt x="422" y="101"/>
                  </a:moveTo>
                  <a:cubicBezTo>
                    <a:pt x="422" y="101"/>
                    <a:pt x="422" y="100"/>
                    <a:pt x="422" y="100"/>
                  </a:cubicBezTo>
                  <a:cubicBezTo>
                    <a:pt x="422" y="100"/>
                    <a:pt x="422" y="101"/>
                    <a:pt x="423" y="101"/>
                  </a:cubicBezTo>
                  <a:cubicBezTo>
                    <a:pt x="422" y="101"/>
                    <a:pt x="422" y="101"/>
                    <a:pt x="422" y="101"/>
                  </a:cubicBezTo>
                  <a:close/>
                  <a:moveTo>
                    <a:pt x="424" y="122"/>
                  </a:moveTo>
                  <a:cubicBezTo>
                    <a:pt x="424" y="121"/>
                    <a:pt x="424" y="120"/>
                    <a:pt x="423" y="119"/>
                  </a:cubicBezTo>
                  <a:cubicBezTo>
                    <a:pt x="423" y="117"/>
                    <a:pt x="423" y="115"/>
                    <a:pt x="423" y="112"/>
                  </a:cubicBezTo>
                  <a:cubicBezTo>
                    <a:pt x="423" y="110"/>
                    <a:pt x="424" y="108"/>
                    <a:pt x="424" y="106"/>
                  </a:cubicBezTo>
                  <a:cubicBezTo>
                    <a:pt x="424" y="108"/>
                    <a:pt x="425" y="110"/>
                    <a:pt x="425" y="112"/>
                  </a:cubicBezTo>
                  <a:cubicBezTo>
                    <a:pt x="425" y="115"/>
                    <a:pt x="425" y="119"/>
                    <a:pt x="424" y="122"/>
                  </a:cubicBezTo>
                  <a:close/>
                  <a:moveTo>
                    <a:pt x="426" y="103"/>
                  </a:moveTo>
                  <a:cubicBezTo>
                    <a:pt x="426" y="102"/>
                    <a:pt x="425" y="101"/>
                    <a:pt x="425" y="100"/>
                  </a:cubicBezTo>
                  <a:cubicBezTo>
                    <a:pt x="425" y="99"/>
                    <a:pt x="426" y="97"/>
                    <a:pt x="426" y="96"/>
                  </a:cubicBezTo>
                  <a:cubicBezTo>
                    <a:pt x="426" y="97"/>
                    <a:pt x="427" y="97"/>
                    <a:pt x="427" y="98"/>
                  </a:cubicBezTo>
                  <a:cubicBezTo>
                    <a:pt x="427" y="100"/>
                    <a:pt x="427" y="101"/>
                    <a:pt x="426" y="103"/>
                  </a:cubicBezTo>
                  <a:close/>
                  <a:moveTo>
                    <a:pt x="427" y="96"/>
                  </a:moveTo>
                  <a:cubicBezTo>
                    <a:pt x="427" y="95"/>
                    <a:pt x="427" y="95"/>
                    <a:pt x="427" y="95"/>
                  </a:cubicBezTo>
                  <a:cubicBezTo>
                    <a:pt x="427" y="93"/>
                    <a:pt x="427" y="92"/>
                    <a:pt x="428" y="91"/>
                  </a:cubicBezTo>
                  <a:cubicBezTo>
                    <a:pt x="428" y="93"/>
                    <a:pt x="427" y="94"/>
                    <a:pt x="427" y="96"/>
                  </a:cubicBezTo>
                  <a:close/>
                  <a:moveTo>
                    <a:pt x="433" y="95"/>
                  </a:moveTo>
                  <a:cubicBezTo>
                    <a:pt x="434" y="92"/>
                    <a:pt x="434" y="89"/>
                    <a:pt x="434" y="86"/>
                  </a:cubicBezTo>
                  <a:cubicBezTo>
                    <a:pt x="435" y="86"/>
                    <a:pt x="435" y="87"/>
                    <a:pt x="436" y="88"/>
                  </a:cubicBezTo>
                  <a:cubicBezTo>
                    <a:pt x="435" y="90"/>
                    <a:pt x="434" y="92"/>
                    <a:pt x="433" y="95"/>
                  </a:cubicBezTo>
                  <a:close/>
                  <a:moveTo>
                    <a:pt x="444" y="99"/>
                  </a:moveTo>
                  <a:cubicBezTo>
                    <a:pt x="444" y="99"/>
                    <a:pt x="443" y="98"/>
                    <a:pt x="443" y="97"/>
                  </a:cubicBezTo>
                  <a:cubicBezTo>
                    <a:pt x="443" y="93"/>
                    <a:pt x="443" y="89"/>
                    <a:pt x="443" y="84"/>
                  </a:cubicBezTo>
                  <a:cubicBezTo>
                    <a:pt x="445" y="80"/>
                    <a:pt x="447" y="76"/>
                    <a:pt x="450" y="72"/>
                  </a:cubicBezTo>
                  <a:cubicBezTo>
                    <a:pt x="450" y="74"/>
                    <a:pt x="450" y="78"/>
                    <a:pt x="451" y="82"/>
                  </a:cubicBezTo>
                  <a:cubicBezTo>
                    <a:pt x="448" y="88"/>
                    <a:pt x="446" y="93"/>
                    <a:pt x="444" y="99"/>
                  </a:cubicBezTo>
                  <a:close/>
                  <a:moveTo>
                    <a:pt x="452" y="75"/>
                  </a:moveTo>
                  <a:cubicBezTo>
                    <a:pt x="452" y="73"/>
                    <a:pt x="451" y="71"/>
                    <a:pt x="451" y="69"/>
                  </a:cubicBezTo>
                  <a:cubicBezTo>
                    <a:pt x="452" y="68"/>
                    <a:pt x="453" y="67"/>
                    <a:pt x="453" y="66"/>
                  </a:cubicBezTo>
                  <a:cubicBezTo>
                    <a:pt x="453" y="69"/>
                    <a:pt x="453" y="72"/>
                    <a:pt x="452" y="75"/>
                  </a:cubicBezTo>
                  <a:close/>
                  <a:moveTo>
                    <a:pt x="460" y="72"/>
                  </a:moveTo>
                  <a:cubicBezTo>
                    <a:pt x="460" y="71"/>
                    <a:pt x="460" y="70"/>
                    <a:pt x="460" y="70"/>
                  </a:cubicBezTo>
                  <a:cubicBezTo>
                    <a:pt x="460" y="69"/>
                    <a:pt x="460" y="69"/>
                    <a:pt x="460" y="69"/>
                  </a:cubicBezTo>
                  <a:cubicBezTo>
                    <a:pt x="460" y="71"/>
                    <a:pt x="460" y="72"/>
                    <a:pt x="460" y="72"/>
                  </a:cubicBezTo>
                  <a:close/>
                  <a:moveTo>
                    <a:pt x="460" y="67"/>
                  </a:moveTo>
                  <a:cubicBezTo>
                    <a:pt x="460" y="67"/>
                    <a:pt x="460" y="68"/>
                    <a:pt x="460" y="68"/>
                  </a:cubicBezTo>
                  <a:cubicBezTo>
                    <a:pt x="460" y="65"/>
                    <a:pt x="459" y="61"/>
                    <a:pt x="459" y="58"/>
                  </a:cubicBezTo>
                  <a:cubicBezTo>
                    <a:pt x="460" y="57"/>
                    <a:pt x="460" y="56"/>
                    <a:pt x="461" y="56"/>
                  </a:cubicBezTo>
                  <a:cubicBezTo>
                    <a:pt x="461" y="60"/>
                    <a:pt x="460" y="64"/>
                    <a:pt x="460" y="67"/>
                  </a:cubicBezTo>
                  <a:close/>
                  <a:moveTo>
                    <a:pt x="468" y="123"/>
                  </a:moveTo>
                  <a:cubicBezTo>
                    <a:pt x="467" y="124"/>
                    <a:pt x="466" y="126"/>
                    <a:pt x="466" y="127"/>
                  </a:cubicBezTo>
                  <a:cubicBezTo>
                    <a:pt x="466" y="124"/>
                    <a:pt x="466" y="122"/>
                    <a:pt x="466" y="119"/>
                  </a:cubicBezTo>
                  <a:cubicBezTo>
                    <a:pt x="467" y="116"/>
                    <a:pt x="468" y="112"/>
                    <a:pt x="469" y="109"/>
                  </a:cubicBezTo>
                  <a:cubicBezTo>
                    <a:pt x="469" y="111"/>
                    <a:pt x="469" y="112"/>
                    <a:pt x="469" y="114"/>
                  </a:cubicBezTo>
                  <a:cubicBezTo>
                    <a:pt x="469" y="117"/>
                    <a:pt x="468" y="120"/>
                    <a:pt x="468" y="123"/>
                  </a:cubicBezTo>
                  <a:close/>
                  <a:moveTo>
                    <a:pt x="470" y="110"/>
                  </a:moveTo>
                  <a:cubicBezTo>
                    <a:pt x="470" y="111"/>
                    <a:pt x="470" y="112"/>
                    <a:pt x="470" y="112"/>
                  </a:cubicBezTo>
                  <a:cubicBezTo>
                    <a:pt x="469" y="111"/>
                    <a:pt x="469" y="110"/>
                    <a:pt x="469" y="109"/>
                  </a:cubicBezTo>
                  <a:cubicBezTo>
                    <a:pt x="469" y="107"/>
                    <a:pt x="470" y="105"/>
                    <a:pt x="471" y="102"/>
                  </a:cubicBezTo>
                  <a:cubicBezTo>
                    <a:pt x="470" y="105"/>
                    <a:pt x="470" y="108"/>
                    <a:pt x="470" y="110"/>
                  </a:cubicBezTo>
                  <a:close/>
                  <a:moveTo>
                    <a:pt x="472" y="83"/>
                  </a:moveTo>
                  <a:cubicBezTo>
                    <a:pt x="472" y="83"/>
                    <a:pt x="472" y="84"/>
                    <a:pt x="471" y="85"/>
                  </a:cubicBezTo>
                  <a:cubicBezTo>
                    <a:pt x="470" y="87"/>
                    <a:pt x="470" y="89"/>
                    <a:pt x="469" y="91"/>
                  </a:cubicBezTo>
                  <a:cubicBezTo>
                    <a:pt x="468" y="91"/>
                    <a:pt x="468" y="91"/>
                    <a:pt x="468" y="91"/>
                  </a:cubicBezTo>
                  <a:cubicBezTo>
                    <a:pt x="468" y="91"/>
                    <a:pt x="468" y="91"/>
                    <a:pt x="469" y="91"/>
                  </a:cubicBezTo>
                  <a:cubicBezTo>
                    <a:pt x="468" y="92"/>
                    <a:pt x="467" y="94"/>
                    <a:pt x="466" y="96"/>
                  </a:cubicBezTo>
                  <a:cubicBezTo>
                    <a:pt x="467" y="90"/>
                    <a:pt x="467" y="85"/>
                    <a:pt x="469" y="79"/>
                  </a:cubicBezTo>
                  <a:cubicBezTo>
                    <a:pt x="467" y="85"/>
                    <a:pt x="466" y="90"/>
                    <a:pt x="465" y="95"/>
                  </a:cubicBezTo>
                  <a:cubicBezTo>
                    <a:pt x="465" y="85"/>
                    <a:pt x="465" y="74"/>
                    <a:pt x="465" y="63"/>
                  </a:cubicBezTo>
                  <a:cubicBezTo>
                    <a:pt x="468" y="60"/>
                    <a:pt x="471" y="58"/>
                    <a:pt x="474" y="55"/>
                  </a:cubicBezTo>
                  <a:cubicBezTo>
                    <a:pt x="474" y="62"/>
                    <a:pt x="473" y="72"/>
                    <a:pt x="472" y="83"/>
                  </a:cubicBezTo>
                  <a:close/>
                  <a:moveTo>
                    <a:pt x="478" y="105"/>
                  </a:moveTo>
                  <a:cubicBezTo>
                    <a:pt x="478" y="102"/>
                    <a:pt x="478" y="99"/>
                    <a:pt x="478" y="96"/>
                  </a:cubicBezTo>
                  <a:cubicBezTo>
                    <a:pt x="478" y="97"/>
                    <a:pt x="479" y="99"/>
                    <a:pt x="479" y="100"/>
                  </a:cubicBezTo>
                  <a:cubicBezTo>
                    <a:pt x="479" y="102"/>
                    <a:pt x="479" y="103"/>
                    <a:pt x="478" y="105"/>
                  </a:cubicBezTo>
                  <a:cubicBezTo>
                    <a:pt x="478" y="105"/>
                    <a:pt x="478" y="105"/>
                    <a:pt x="478" y="105"/>
                  </a:cubicBezTo>
                  <a:close/>
                  <a:moveTo>
                    <a:pt x="480" y="130"/>
                  </a:moveTo>
                  <a:cubicBezTo>
                    <a:pt x="480" y="130"/>
                    <a:pt x="479" y="130"/>
                    <a:pt x="479" y="130"/>
                  </a:cubicBezTo>
                  <a:cubicBezTo>
                    <a:pt x="479" y="129"/>
                    <a:pt x="479" y="128"/>
                    <a:pt x="479" y="127"/>
                  </a:cubicBezTo>
                  <a:cubicBezTo>
                    <a:pt x="479" y="128"/>
                    <a:pt x="480" y="128"/>
                    <a:pt x="480" y="129"/>
                  </a:cubicBezTo>
                  <a:cubicBezTo>
                    <a:pt x="480" y="129"/>
                    <a:pt x="480" y="130"/>
                    <a:pt x="480" y="130"/>
                  </a:cubicBezTo>
                  <a:close/>
                  <a:moveTo>
                    <a:pt x="486" y="74"/>
                  </a:moveTo>
                  <a:cubicBezTo>
                    <a:pt x="486" y="73"/>
                    <a:pt x="486" y="71"/>
                    <a:pt x="486" y="70"/>
                  </a:cubicBezTo>
                  <a:cubicBezTo>
                    <a:pt x="487" y="70"/>
                    <a:pt x="487" y="71"/>
                    <a:pt x="487" y="72"/>
                  </a:cubicBezTo>
                  <a:cubicBezTo>
                    <a:pt x="487" y="72"/>
                    <a:pt x="487" y="73"/>
                    <a:pt x="486" y="74"/>
                  </a:cubicBezTo>
                  <a:close/>
                  <a:moveTo>
                    <a:pt x="490" y="139"/>
                  </a:moveTo>
                  <a:cubicBezTo>
                    <a:pt x="490" y="140"/>
                    <a:pt x="490" y="141"/>
                    <a:pt x="490" y="142"/>
                  </a:cubicBezTo>
                  <a:cubicBezTo>
                    <a:pt x="490" y="142"/>
                    <a:pt x="490" y="141"/>
                    <a:pt x="490" y="139"/>
                  </a:cubicBezTo>
                  <a:cubicBezTo>
                    <a:pt x="490" y="138"/>
                    <a:pt x="490" y="137"/>
                    <a:pt x="491" y="136"/>
                  </a:cubicBezTo>
                  <a:cubicBezTo>
                    <a:pt x="491" y="137"/>
                    <a:pt x="491" y="137"/>
                    <a:pt x="491" y="137"/>
                  </a:cubicBezTo>
                  <a:cubicBezTo>
                    <a:pt x="491" y="138"/>
                    <a:pt x="490" y="139"/>
                    <a:pt x="490" y="139"/>
                  </a:cubicBezTo>
                  <a:close/>
                  <a:moveTo>
                    <a:pt x="492" y="122"/>
                  </a:moveTo>
                  <a:cubicBezTo>
                    <a:pt x="492" y="122"/>
                    <a:pt x="492" y="122"/>
                    <a:pt x="492" y="122"/>
                  </a:cubicBezTo>
                  <a:cubicBezTo>
                    <a:pt x="492" y="121"/>
                    <a:pt x="492" y="121"/>
                    <a:pt x="492" y="121"/>
                  </a:cubicBezTo>
                  <a:cubicBezTo>
                    <a:pt x="492" y="121"/>
                    <a:pt x="492" y="122"/>
                    <a:pt x="492" y="122"/>
                  </a:cubicBezTo>
                  <a:close/>
                  <a:moveTo>
                    <a:pt x="493" y="110"/>
                  </a:moveTo>
                  <a:cubicBezTo>
                    <a:pt x="492" y="112"/>
                    <a:pt x="491" y="114"/>
                    <a:pt x="491" y="116"/>
                  </a:cubicBezTo>
                  <a:cubicBezTo>
                    <a:pt x="490" y="116"/>
                    <a:pt x="490" y="117"/>
                    <a:pt x="490" y="117"/>
                  </a:cubicBezTo>
                  <a:cubicBezTo>
                    <a:pt x="490" y="113"/>
                    <a:pt x="489" y="108"/>
                    <a:pt x="489" y="104"/>
                  </a:cubicBezTo>
                  <a:cubicBezTo>
                    <a:pt x="490" y="101"/>
                    <a:pt x="491" y="98"/>
                    <a:pt x="492" y="96"/>
                  </a:cubicBezTo>
                  <a:cubicBezTo>
                    <a:pt x="492" y="95"/>
                    <a:pt x="492" y="95"/>
                    <a:pt x="492" y="95"/>
                  </a:cubicBezTo>
                  <a:cubicBezTo>
                    <a:pt x="492" y="98"/>
                    <a:pt x="493" y="101"/>
                    <a:pt x="493" y="104"/>
                  </a:cubicBezTo>
                  <a:cubicBezTo>
                    <a:pt x="493" y="106"/>
                    <a:pt x="493" y="108"/>
                    <a:pt x="493" y="110"/>
                  </a:cubicBezTo>
                  <a:close/>
                  <a:moveTo>
                    <a:pt x="494" y="99"/>
                  </a:moveTo>
                  <a:cubicBezTo>
                    <a:pt x="493" y="97"/>
                    <a:pt x="493" y="96"/>
                    <a:pt x="492" y="94"/>
                  </a:cubicBezTo>
                  <a:cubicBezTo>
                    <a:pt x="493" y="93"/>
                    <a:pt x="494" y="92"/>
                    <a:pt x="494" y="91"/>
                  </a:cubicBezTo>
                  <a:cubicBezTo>
                    <a:pt x="494" y="94"/>
                    <a:pt x="494" y="96"/>
                    <a:pt x="494" y="99"/>
                  </a:cubicBezTo>
                  <a:close/>
                  <a:moveTo>
                    <a:pt x="488" y="91"/>
                  </a:moveTo>
                  <a:cubicBezTo>
                    <a:pt x="488" y="89"/>
                    <a:pt x="488" y="88"/>
                    <a:pt x="488" y="87"/>
                  </a:cubicBezTo>
                  <a:cubicBezTo>
                    <a:pt x="489" y="83"/>
                    <a:pt x="490" y="80"/>
                    <a:pt x="491" y="76"/>
                  </a:cubicBezTo>
                  <a:cubicBezTo>
                    <a:pt x="493" y="78"/>
                    <a:pt x="494" y="80"/>
                    <a:pt x="495" y="82"/>
                  </a:cubicBezTo>
                  <a:cubicBezTo>
                    <a:pt x="492" y="85"/>
                    <a:pt x="490" y="88"/>
                    <a:pt x="488" y="91"/>
                  </a:cubicBezTo>
                  <a:close/>
                  <a:moveTo>
                    <a:pt x="495" y="79"/>
                  </a:moveTo>
                  <a:cubicBezTo>
                    <a:pt x="494" y="77"/>
                    <a:pt x="493" y="76"/>
                    <a:pt x="492" y="75"/>
                  </a:cubicBezTo>
                  <a:cubicBezTo>
                    <a:pt x="493" y="72"/>
                    <a:pt x="495" y="68"/>
                    <a:pt x="496" y="65"/>
                  </a:cubicBezTo>
                  <a:cubicBezTo>
                    <a:pt x="496" y="68"/>
                    <a:pt x="496" y="73"/>
                    <a:pt x="495" y="79"/>
                  </a:cubicBezTo>
                  <a:close/>
                  <a:moveTo>
                    <a:pt x="514" y="54"/>
                  </a:moveTo>
                  <a:cubicBezTo>
                    <a:pt x="513" y="56"/>
                    <a:pt x="512" y="58"/>
                    <a:pt x="512" y="61"/>
                  </a:cubicBezTo>
                  <a:cubicBezTo>
                    <a:pt x="508" y="65"/>
                    <a:pt x="505" y="69"/>
                    <a:pt x="501" y="74"/>
                  </a:cubicBezTo>
                  <a:cubicBezTo>
                    <a:pt x="504" y="67"/>
                    <a:pt x="509" y="60"/>
                    <a:pt x="514" y="54"/>
                  </a:cubicBezTo>
                  <a:close/>
                  <a:moveTo>
                    <a:pt x="499" y="89"/>
                  </a:moveTo>
                  <a:cubicBezTo>
                    <a:pt x="499" y="90"/>
                    <a:pt x="500" y="91"/>
                    <a:pt x="500" y="92"/>
                  </a:cubicBezTo>
                  <a:cubicBezTo>
                    <a:pt x="500" y="92"/>
                    <a:pt x="500" y="93"/>
                    <a:pt x="499" y="94"/>
                  </a:cubicBezTo>
                  <a:cubicBezTo>
                    <a:pt x="499" y="92"/>
                    <a:pt x="499" y="91"/>
                    <a:pt x="499" y="89"/>
                  </a:cubicBezTo>
                  <a:close/>
                  <a:moveTo>
                    <a:pt x="502" y="127"/>
                  </a:moveTo>
                  <a:cubicBezTo>
                    <a:pt x="501" y="125"/>
                    <a:pt x="501" y="124"/>
                    <a:pt x="500" y="122"/>
                  </a:cubicBezTo>
                  <a:cubicBezTo>
                    <a:pt x="500" y="117"/>
                    <a:pt x="500" y="111"/>
                    <a:pt x="500" y="105"/>
                  </a:cubicBezTo>
                  <a:cubicBezTo>
                    <a:pt x="501" y="104"/>
                    <a:pt x="502" y="102"/>
                    <a:pt x="503" y="101"/>
                  </a:cubicBezTo>
                  <a:cubicBezTo>
                    <a:pt x="502" y="102"/>
                    <a:pt x="501" y="103"/>
                    <a:pt x="500" y="105"/>
                  </a:cubicBezTo>
                  <a:cubicBezTo>
                    <a:pt x="500" y="102"/>
                    <a:pt x="499" y="99"/>
                    <a:pt x="499" y="96"/>
                  </a:cubicBezTo>
                  <a:cubicBezTo>
                    <a:pt x="500" y="95"/>
                    <a:pt x="500" y="94"/>
                    <a:pt x="501" y="93"/>
                  </a:cubicBezTo>
                  <a:cubicBezTo>
                    <a:pt x="502" y="95"/>
                    <a:pt x="503" y="97"/>
                    <a:pt x="503" y="100"/>
                  </a:cubicBezTo>
                  <a:cubicBezTo>
                    <a:pt x="503" y="100"/>
                    <a:pt x="503" y="100"/>
                    <a:pt x="503" y="101"/>
                  </a:cubicBezTo>
                  <a:cubicBezTo>
                    <a:pt x="503" y="101"/>
                    <a:pt x="503" y="100"/>
                    <a:pt x="503" y="100"/>
                  </a:cubicBezTo>
                  <a:cubicBezTo>
                    <a:pt x="504" y="101"/>
                    <a:pt x="504" y="102"/>
                    <a:pt x="505" y="103"/>
                  </a:cubicBezTo>
                  <a:cubicBezTo>
                    <a:pt x="503" y="112"/>
                    <a:pt x="502" y="120"/>
                    <a:pt x="502" y="127"/>
                  </a:cubicBezTo>
                  <a:close/>
                  <a:moveTo>
                    <a:pt x="503" y="87"/>
                  </a:moveTo>
                  <a:cubicBezTo>
                    <a:pt x="503" y="86"/>
                    <a:pt x="504" y="84"/>
                    <a:pt x="505" y="83"/>
                  </a:cubicBezTo>
                  <a:cubicBezTo>
                    <a:pt x="504" y="84"/>
                    <a:pt x="503" y="86"/>
                    <a:pt x="502" y="87"/>
                  </a:cubicBezTo>
                  <a:cubicBezTo>
                    <a:pt x="501" y="86"/>
                    <a:pt x="500" y="85"/>
                    <a:pt x="499" y="83"/>
                  </a:cubicBezTo>
                  <a:cubicBezTo>
                    <a:pt x="503" y="78"/>
                    <a:pt x="507" y="72"/>
                    <a:pt x="511" y="67"/>
                  </a:cubicBezTo>
                  <a:cubicBezTo>
                    <a:pt x="510" y="72"/>
                    <a:pt x="509" y="76"/>
                    <a:pt x="508" y="81"/>
                  </a:cubicBezTo>
                  <a:cubicBezTo>
                    <a:pt x="508" y="80"/>
                    <a:pt x="507" y="79"/>
                    <a:pt x="507" y="79"/>
                  </a:cubicBezTo>
                  <a:cubicBezTo>
                    <a:pt x="507" y="78"/>
                    <a:pt x="508" y="77"/>
                    <a:pt x="509" y="75"/>
                  </a:cubicBezTo>
                  <a:cubicBezTo>
                    <a:pt x="508" y="76"/>
                    <a:pt x="507" y="77"/>
                    <a:pt x="507" y="79"/>
                  </a:cubicBezTo>
                  <a:cubicBezTo>
                    <a:pt x="506" y="78"/>
                    <a:pt x="506" y="77"/>
                    <a:pt x="505" y="77"/>
                  </a:cubicBezTo>
                  <a:cubicBezTo>
                    <a:pt x="506" y="78"/>
                    <a:pt x="506" y="79"/>
                    <a:pt x="506" y="79"/>
                  </a:cubicBezTo>
                  <a:cubicBezTo>
                    <a:pt x="506" y="80"/>
                    <a:pt x="505" y="81"/>
                    <a:pt x="505" y="83"/>
                  </a:cubicBezTo>
                  <a:cubicBezTo>
                    <a:pt x="505" y="82"/>
                    <a:pt x="506" y="81"/>
                    <a:pt x="506" y="80"/>
                  </a:cubicBezTo>
                  <a:cubicBezTo>
                    <a:pt x="507" y="81"/>
                    <a:pt x="507" y="82"/>
                    <a:pt x="508" y="84"/>
                  </a:cubicBezTo>
                  <a:cubicBezTo>
                    <a:pt x="507" y="87"/>
                    <a:pt x="507" y="90"/>
                    <a:pt x="506" y="93"/>
                  </a:cubicBezTo>
                  <a:cubicBezTo>
                    <a:pt x="505" y="91"/>
                    <a:pt x="504" y="89"/>
                    <a:pt x="503" y="87"/>
                  </a:cubicBezTo>
                  <a:close/>
                  <a:moveTo>
                    <a:pt x="508" y="144"/>
                  </a:moveTo>
                  <a:cubicBezTo>
                    <a:pt x="507" y="144"/>
                    <a:pt x="507" y="143"/>
                    <a:pt x="507" y="143"/>
                  </a:cubicBezTo>
                  <a:cubicBezTo>
                    <a:pt x="507" y="140"/>
                    <a:pt x="507" y="136"/>
                    <a:pt x="508" y="131"/>
                  </a:cubicBezTo>
                  <a:cubicBezTo>
                    <a:pt x="509" y="128"/>
                    <a:pt x="509" y="126"/>
                    <a:pt x="509" y="125"/>
                  </a:cubicBezTo>
                  <a:cubicBezTo>
                    <a:pt x="509" y="125"/>
                    <a:pt x="509" y="124"/>
                    <a:pt x="509" y="124"/>
                  </a:cubicBezTo>
                  <a:cubicBezTo>
                    <a:pt x="509" y="124"/>
                    <a:pt x="508" y="124"/>
                    <a:pt x="508" y="124"/>
                  </a:cubicBezTo>
                  <a:cubicBezTo>
                    <a:pt x="508" y="122"/>
                    <a:pt x="508" y="120"/>
                    <a:pt x="509" y="118"/>
                  </a:cubicBezTo>
                  <a:cubicBezTo>
                    <a:pt x="509" y="121"/>
                    <a:pt x="510" y="125"/>
                    <a:pt x="510" y="128"/>
                  </a:cubicBezTo>
                  <a:cubicBezTo>
                    <a:pt x="509" y="136"/>
                    <a:pt x="508" y="141"/>
                    <a:pt x="508" y="144"/>
                  </a:cubicBezTo>
                  <a:close/>
                  <a:moveTo>
                    <a:pt x="514" y="107"/>
                  </a:moveTo>
                  <a:cubicBezTo>
                    <a:pt x="513" y="105"/>
                    <a:pt x="512" y="102"/>
                    <a:pt x="510" y="100"/>
                  </a:cubicBezTo>
                  <a:cubicBezTo>
                    <a:pt x="511" y="97"/>
                    <a:pt x="511" y="95"/>
                    <a:pt x="511" y="93"/>
                  </a:cubicBezTo>
                  <a:cubicBezTo>
                    <a:pt x="512" y="96"/>
                    <a:pt x="514" y="99"/>
                    <a:pt x="515" y="102"/>
                  </a:cubicBezTo>
                  <a:cubicBezTo>
                    <a:pt x="515" y="104"/>
                    <a:pt x="514" y="105"/>
                    <a:pt x="514" y="107"/>
                  </a:cubicBezTo>
                  <a:close/>
                  <a:moveTo>
                    <a:pt x="515" y="159"/>
                  </a:move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5" y="159"/>
                    <a:pt x="515" y="159"/>
                  </a:cubicBezTo>
                  <a:close/>
                  <a:moveTo>
                    <a:pt x="516" y="96"/>
                  </a:moveTo>
                  <a:cubicBezTo>
                    <a:pt x="515" y="93"/>
                    <a:pt x="514" y="91"/>
                    <a:pt x="512" y="88"/>
                  </a:cubicBezTo>
                  <a:cubicBezTo>
                    <a:pt x="515" y="85"/>
                    <a:pt x="517" y="82"/>
                    <a:pt x="518" y="79"/>
                  </a:cubicBezTo>
                  <a:cubicBezTo>
                    <a:pt x="518" y="84"/>
                    <a:pt x="517" y="90"/>
                    <a:pt x="516" y="96"/>
                  </a:cubicBezTo>
                  <a:close/>
                  <a:moveTo>
                    <a:pt x="519" y="75"/>
                  </a:moveTo>
                  <a:cubicBezTo>
                    <a:pt x="517" y="78"/>
                    <a:pt x="514" y="82"/>
                    <a:pt x="512" y="86"/>
                  </a:cubicBezTo>
                  <a:cubicBezTo>
                    <a:pt x="513" y="77"/>
                    <a:pt x="514" y="68"/>
                    <a:pt x="515" y="61"/>
                  </a:cubicBezTo>
                  <a:cubicBezTo>
                    <a:pt x="517" y="58"/>
                    <a:pt x="519" y="55"/>
                    <a:pt x="521" y="53"/>
                  </a:cubicBezTo>
                  <a:cubicBezTo>
                    <a:pt x="521" y="58"/>
                    <a:pt x="520" y="66"/>
                    <a:pt x="519" y="75"/>
                  </a:cubicBezTo>
                  <a:close/>
                  <a:moveTo>
                    <a:pt x="526" y="139"/>
                  </a:moveTo>
                  <a:cubicBezTo>
                    <a:pt x="526" y="139"/>
                    <a:pt x="526" y="139"/>
                    <a:pt x="526" y="139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9"/>
                    <a:pt x="526" y="139"/>
                    <a:pt x="526" y="139"/>
                  </a:cubicBezTo>
                  <a:close/>
                  <a:moveTo>
                    <a:pt x="551" y="137"/>
                  </a:moveTo>
                  <a:cubicBezTo>
                    <a:pt x="551" y="136"/>
                    <a:pt x="550" y="135"/>
                    <a:pt x="550" y="133"/>
                  </a:cubicBezTo>
                  <a:cubicBezTo>
                    <a:pt x="550" y="132"/>
                    <a:pt x="550" y="130"/>
                    <a:pt x="550" y="128"/>
                  </a:cubicBezTo>
                  <a:cubicBezTo>
                    <a:pt x="551" y="131"/>
                    <a:pt x="551" y="133"/>
                    <a:pt x="552" y="135"/>
                  </a:cubicBezTo>
                  <a:cubicBezTo>
                    <a:pt x="552" y="136"/>
                    <a:pt x="552" y="137"/>
                    <a:pt x="551" y="137"/>
                  </a:cubicBezTo>
                  <a:close/>
                  <a:moveTo>
                    <a:pt x="558" y="99"/>
                  </a:moveTo>
                  <a:cubicBezTo>
                    <a:pt x="556" y="95"/>
                    <a:pt x="554" y="92"/>
                    <a:pt x="552" y="90"/>
                  </a:cubicBezTo>
                  <a:cubicBezTo>
                    <a:pt x="554" y="93"/>
                    <a:pt x="556" y="97"/>
                    <a:pt x="557" y="101"/>
                  </a:cubicBezTo>
                  <a:cubicBezTo>
                    <a:pt x="556" y="110"/>
                    <a:pt x="555" y="118"/>
                    <a:pt x="554" y="125"/>
                  </a:cubicBezTo>
                  <a:cubicBezTo>
                    <a:pt x="553" y="122"/>
                    <a:pt x="552" y="119"/>
                    <a:pt x="551" y="116"/>
                  </a:cubicBezTo>
                  <a:cubicBezTo>
                    <a:pt x="551" y="102"/>
                    <a:pt x="552" y="86"/>
                    <a:pt x="553" y="72"/>
                  </a:cubicBezTo>
                  <a:cubicBezTo>
                    <a:pt x="556" y="75"/>
                    <a:pt x="558" y="79"/>
                    <a:pt x="560" y="82"/>
                  </a:cubicBezTo>
                  <a:cubicBezTo>
                    <a:pt x="559" y="88"/>
                    <a:pt x="558" y="93"/>
                    <a:pt x="558" y="99"/>
                  </a:cubicBezTo>
                  <a:close/>
                  <a:moveTo>
                    <a:pt x="561" y="142"/>
                  </a:moveTo>
                  <a:cubicBezTo>
                    <a:pt x="561" y="134"/>
                    <a:pt x="562" y="127"/>
                    <a:pt x="562" y="121"/>
                  </a:cubicBezTo>
                  <a:cubicBezTo>
                    <a:pt x="563" y="123"/>
                    <a:pt x="563" y="125"/>
                    <a:pt x="563" y="127"/>
                  </a:cubicBezTo>
                  <a:cubicBezTo>
                    <a:pt x="562" y="136"/>
                    <a:pt x="561" y="142"/>
                    <a:pt x="561" y="142"/>
                  </a:cubicBezTo>
                  <a:close/>
                  <a:moveTo>
                    <a:pt x="564" y="144"/>
                  </a:moveTo>
                  <a:cubicBezTo>
                    <a:pt x="564" y="142"/>
                    <a:pt x="564" y="140"/>
                    <a:pt x="565" y="137"/>
                  </a:cubicBezTo>
                  <a:cubicBezTo>
                    <a:pt x="565" y="138"/>
                    <a:pt x="565" y="138"/>
                    <a:pt x="565" y="138"/>
                  </a:cubicBezTo>
                  <a:cubicBezTo>
                    <a:pt x="564" y="142"/>
                    <a:pt x="564" y="144"/>
                    <a:pt x="564" y="144"/>
                  </a:cubicBezTo>
                  <a:close/>
                  <a:moveTo>
                    <a:pt x="563" y="110"/>
                  </a:moveTo>
                  <a:cubicBezTo>
                    <a:pt x="563" y="103"/>
                    <a:pt x="564" y="96"/>
                    <a:pt x="564" y="90"/>
                  </a:cubicBezTo>
                  <a:cubicBezTo>
                    <a:pt x="566" y="93"/>
                    <a:pt x="567" y="96"/>
                    <a:pt x="568" y="99"/>
                  </a:cubicBezTo>
                  <a:cubicBezTo>
                    <a:pt x="567" y="105"/>
                    <a:pt x="566" y="111"/>
                    <a:pt x="565" y="116"/>
                  </a:cubicBezTo>
                  <a:cubicBezTo>
                    <a:pt x="564" y="114"/>
                    <a:pt x="564" y="112"/>
                    <a:pt x="563" y="110"/>
                  </a:cubicBezTo>
                  <a:close/>
                  <a:moveTo>
                    <a:pt x="568" y="124"/>
                  </a:moveTo>
                  <a:cubicBezTo>
                    <a:pt x="568" y="123"/>
                    <a:pt x="567" y="122"/>
                    <a:pt x="567" y="121"/>
                  </a:cubicBezTo>
                  <a:cubicBezTo>
                    <a:pt x="568" y="115"/>
                    <a:pt x="568" y="109"/>
                    <a:pt x="569" y="103"/>
                  </a:cubicBezTo>
                  <a:cubicBezTo>
                    <a:pt x="570" y="105"/>
                    <a:pt x="570" y="107"/>
                    <a:pt x="571" y="109"/>
                  </a:cubicBezTo>
                  <a:cubicBezTo>
                    <a:pt x="570" y="114"/>
                    <a:pt x="569" y="119"/>
                    <a:pt x="568" y="124"/>
                  </a:cubicBezTo>
                  <a:close/>
                  <a:moveTo>
                    <a:pt x="574" y="146"/>
                  </a:moveTo>
                  <a:cubicBezTo>
                    <a:pt x="574" y="145"/>
                    <a:pt x="574" y="145"/>
                    <a:pt x="574" y="145"/>
                  </a:cubicBezTo>
                  <a:cubicBezTo>
                    <a:pt x="574" y="144"/>
                    <a:pt x="574" y="143"/>
                    <a:pt x="574" y="142"/>
                  </a:cubicBezTo>
                  <a:cubicBezTo>
                    <a:pt x="574" y="142"/>
                    <a:pt x="574" y="143"/>
                    <a:pt x="574" y="144"/>
                  </a:cubicBezTo>
                  <a:cubicBezTo>
                    <a:pt x="574" y="145"/>
                    <a:pt x="574" y="145"/>
                    <a:pt x="574" y="146"/>
                  </a:cubicBezTo>
                  <a:close/>
                  <a:moveTo>
                    <a:pt x="597" y="118"/>
                  </a:moveTo>
                  <a:cubicBezTo>
                    <a:pt x="596" y="114"/>
                    <a:pt x="595" y="111"/>
                    <a:pt x="593" y="107"/>
                  </a:cubicBezTo>
                  <a:cubicBezTo>
                    <a:pt x="593" y="96"/>
                    <a:pt x="593" y="84"/>
                    <a:pt x="593" y="74"/>
                  </a:cubicBezTo>
                  <a:cubicBezTo>
                    <a:pt x="593" y="70"/>
                    <a:pt x="593" y="67"/>
                    <a:pt x="592" y="65"/>
                  </a:cubicBezTo>
                  <a:cubicBezTo>
                    <a:pt x="593" y="74"/>
                    <a:pt x="597" y="84"/>
                    <a:pt x="600" y="94"/>
                  </a:cubicBezTo>
                  <a:cubicBezTo>
                    <a:pt x="599" y="102"/>
                    <a:pt x="598" y="110"/>
                    <a:pt x="597" y="118"/>
                  </a:cubicBezTo>
                  <a:close/>
                  <a:moveTo>
                    <a:pt x="626" y="124"/>
                  </a:moveTo>
                  <a:cubicBezTo>
                    <a:pt x="626" y="122"/>
                    <a:pt x="625" y="120"/>
                    <a:pt x="625" y="117"/>
                  </a:cubicBezTo>
                  <a:cubicBezTo>
                    <a:pt x="626" y="109"/>
                    <a:pt x="627" y="100"/>
                    <a:pt x="627" y="92"/>
                  </a:cubicBezTo>
                  <a:cubicBezTo>
                    <a:pt x="629" y="96"/>
                    <a:pt x="630" y="100"/>
                    <a:pt x="630" y="104"/>
                  </a:cubicBezTo>
                  <a:cubicBezTo>
                    <a:pt x="629" y="111"/>
                    <a:pt x="627" y="118"/>
                    <a:pt x="626" y="124"/>
                  </a:cubicBezTo>
                  <a:close/>
                  <a:moveTo>
                    <a:pt x="667" y="133"/>
                  </a:moveTo>
                  <a:cubicBezTo>
                    <a:pt x="666" y="130"/>
                    <a:pt x="665" y="126"/>
                    <a:pt x="664" y="122"/>
                  </a:cubicBezTo>
                  <a:cubicBezTo>
                    <a:pt x="664" y="112"/>
                    <a:pt x="665" y="100"/>
                    <a:pt x="665" y="88"/>
                  </a:cubicBezTo>
                  <a:cubicBezTo>
                    <a:pt x="667" y="96"/>
                    <a:pt x="669" y="104"/>
                    <a:pt x="670" y="111"/>
                  </a:cubicBezTo>
                  <a:cubicBezTo>
                    <a:pt x="670" y="117"/>
                    <a:pt x="670" y="117"/>
                    <a:pt x="670" y="117"/>
                  </a:cubicBezTo>
                  <a:cubicBezTo>
                    <a:pt x="668" y="123"/>
                    <a:pt x="667" y="129"/>
                    <a:pt x="667" y="133"/>
                  </a:cubicBezTo>
                  <a:close/>
                  <a:moveTo>
                    <a:pt x="679" y="110"/>
                  </a:moveTo>
                  <a:cubicBezTo>
                    <a:pt x="679" y="113"/>
                    <a:pt x="679" y="116"/>
                    <a:pt x="679" y="119"/>
                  </a:cubicBezTo>
                  <a:cubicBezTo>
                    <a:pt x="678" y="122"/>
                    <a:pt x="678" y="124"/>
                    <a:pt x="677" y="127"/>
                  </a:cubicBezTo>
                  <a:cubicBezTo>
                    <a:pt x="677" y="119"/>
                    <a:pt x="676" y="111"/>
                    <a:pt x="675" y="104"/>
                  </a:cubicBezTo>
                  <a:cubicBezTo>
                    <a:pt x="676" y="98"/>
                    <a:pt x="676" y="91"/>
                    <a:pt x="677" y="86"/>
                  </a:cubicBezTo>
                  <a:cubicBezTo>
                    <a:pt x="679" y="93"/>
                    <a:pt x="679" y="102"/>
                    <a:pt x="679" y="110"/>
                  </a:cubicBezTo>
                  <a:close/>
                  <a:moveTo>
                    <a:pt x="689" y="142"/>
                  </a:moveTo>
                  <a:cubicBezTo>
                    <a:pt x="689" y="142"/>
                    <a:pt x="689" y="141"/>
                    <a:pt x="690" y="138"/>
                  </a:cubicBezTo>
                  <a:cubicBezTo>
                    <a:pt x="691" y="120"/>
                    <a:pt x="690" y="96"/>
                    <a:pt x="689" y="77"/>
                  </a:cubicBezTo>
                  <a:cubicBezTo>
                    <a:pt x="691" y="81"/>
                    <a:pt x="693" y="86"/>
                    <a:pt x="694" y="92"/>
                  </a:cubicBezTo>
                  <a:cubicBezTo>
                    <a:pt x="692" y="108"/>
                    <a:pt x="690" y="129"/>
                    <a:pt x="690" y="138"/>
                  </a:cubicBezTo>
                  <a:cubicBezTo>
                    <a:pt x="690" y="139"/>
                    <a:pt x="689" y="141"/>
                    <a:pt x="689" y="142"/>
                  </a:cubicBezTo>
                  <a:close/>
                  <a:moveTo>
                    <a:pt x="693" y="129"/>
                  </a:moveTo>
                  <a:cubicBezTo>
                    <a:pt x="693" y="119"/>
                    <a:pt x="694" y="107"/>
                    <a:pt x="695" y="97"/>
                  </a:cubicBezTo>
                  <a:cubicBezTo>
                    <a:pt x="695" y="100"/>
                    <a:pt x="695" y="103"/>
                    <a:pt x="695" y="106"/>
                  </a:cubicBezTo>
                  <a:cubicBezTo>
                    <a:pt x="695" y="114"/>
                    <a:pt x="694" y="121"/>
                    <a:pt x="693" y="129"/>
                  </a:cubicBezTo>
                  <a:close/>
                  <a:moveTo>
                    <a:pt x="705" y="125"/>
                  </a:moveTo>
                  <a:cubicBezTo>
                    <a:pt x="705" y="120"/>
                    <a:pt x="705" y="113"/>
                    <a:pt x="705" y="107"/>
                  </a:cubicBezTo>
                  <a:cubicBezTo>
                    <a:pt x="705" y="114"/>
                    <a:pt x="705" y="120"/>
                    <a:pt x="705" y="125"/>
                  </a:cubicBezTo>
                  <a:close/>
                  <a:moveTo>
                    <a:pt x="720" y="112"/>
                  </a:moveTo>
                  <a:cubicBezTo>
                    <a:pt x="720" y="105"/>
                    <a:pt x="720" y="98"/>
                    <a:pt x="719" y="91"/>
                  </a:cubicBezTo>
                  <a:cubicBezTo>
                    <a:pt x="720" y="95"/>
                    <a:pt x="720" y="99"/>
                    <a:pt x="720" y="103"/>
                  </a:cubicBezTo>
                  <a:cubicBezTo>
                    <a:pt x="720" y="106"/>
                    <a:pt x="720" y="109"/>
                    <a:pt x="720" y="112"/>
                  </a:cubicBezTo>
                  <a:close/>
                  <a:moveTo>
                    <a:pt x="730" y="129"/>
                  </a:moveTo>
                  <a:cubicBezTo>
                    <a:pt x="730" y="129"/>
                    <a:pt x="730" y="129"/>
                    <a:pt x="730" y="130"/>
                  </a:cubicBezTo>
                  <a:cubicBezTo>
                    <a:pt x="729" y="132"/>
                    <a:pt x="728" y="134"/>
                    <a:pt x="728" y="137"/>
                  </a:cubicBezTo>
                  <a:cubicBezTo>
                    <a:pt x="728" y="136"/>
                    <a:pt x="728" y="136"/>
                    <a:pt x="728" y="136"/>
                  </a:cubicBezTo>
                  <a:cubicBezTo>
                    <a:pt x="728" y="134"/>
                    <a:pt x="729" y="132"/>
                    <a:pt x="730" y="130"/>
                  </a:cubicBezTo>
                  <a:cubicBezTo>
                    <a:pt x="730" y="129"/>
                    <a:pt x="730" y="129"/>
                    <a:pt x="730" y="129"/>
                  </a:cubicBezTo>
                  <a:cubicBezTo>
                    <a:pt x="730" y="129"/>
                    <a:pt x="730" y="129"/>
                    <a:pt x="730" y="129"/>
                  </a:cubicBezTo>
                  <a:close/>
                  <a:moveTo>
                    <a:pt x="767" y="130"/>
                  </a:moveTo>
                  <a:cubicBezTo>
                    <a:pt x="766" y="132"/>
                    <a:pt x="765" y="134"/>
                    <a:pt x="765" y="136"/>
                  </a:cubicBezTo>
                  <a:cubicBezTo>
                    <a:pt x="764" y="131"/>
                    <a:pt x="764" y="126"/>
                    <a:pt x="764" y="121"/>
                  </a:cubicBezTo>
                  <a:cubicBezTo>
                    <a:pt x="766" y="115"/>
                    <a:pt x="768" y="110"/>
                    <a:pt x="769" y="104"/>
                  </a:cubicBezTo>
                  <a:cubicBezTo>
                    <a:pt x="768" y="114"/>
                    <a:pt x="767" y="123"/>
                    <a:pt x="767" y="130"/>
                  </a:cubicBezTo>
                  <a:close/>
                  <a:moveTo>
                    <a:pt x="782" y="124"/>
                  </a:moveTo>
                  <a:cubicBezTo>
                    <a:pt x="782" y="110"/>
                    <a:pt x="784" y="94"/>
                    <a:pt x="785" y="83"/>
                  </a:cubicBezTo>
                  <a:cubicBezTo>
                    <a:pt x="785" y="87"/>
                    <a:pt x="785" y="91"/>
                    <a:pt x="785" y="95"/>
                  </a:cubicBezTo>
                  <a:cubicBezTo>
                    <a:pt x="785" y="105"/>
                    <a:pt x="784" y="114"/>
                    <a:pt x="782" y="124"/>
                  </a:cubicBezTo>
                  <a:close/>
                  <a:moveTo>
                    <a:pt x="799" y="160"/>
                  </a:move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60"/>
                  </a:cubicBezTo>
                  <a:close/>
                  <a:moveTo>
                    <a:pt x="811" y="116"/>
                  </a:moveTo>
                  <a:cubicBezTo>
                    <a:pt x="810" y="121"/>
                    <a:pt x="808" y="127"/>
                    <a:pt x="806" y="132"/>
                  </a:cubicBezTo>
                  <a:cubicBezTo>
                    <a:pt x="806" y="127"/>
                    <a:pt x="806" y="121"/>
                    <a:pt x="806" y="115"/>
                  </a:cubicBezTo>
                  <a:cubicBezTo>
                    <a:pt x="807" y="110"/>
                    <a:pt x="808" y="104"/>
                    <a:pt x="808" y="98"/>
                  </a:cubicBezTo>
                  <a:cubicBezTo>
                    <a:pt x="808" y="95"/>
                    <a:pt x="807" y="92"/>
                    <a:pt x="807" y="89"/>
                  </a:cubicBezTo>
                  <a:cubicBezTo>
                    <a:pt x="808" y="78"/>
                    <a:pt x="809" y="68"/>
                    <a:pt x="810" y="60"/>
                  </a:cubicBezTo>
                  <a:cubicBezTo>
                    <a:pt x="813" y="68"/>
                    <a:pt x="815" y="78"/>
                    <a:pt x="815" y="87"/>
                  </a:cubicBezTo>
                  <a:cubicBezTo>
                    <a:pt x="814" y="95"/>
                    <a:pt x="813" y="106"/>
                    <a:pt x="811" y="116"/>
                  </a:cubicBezTo>
                  <a:close/>
                  <a:moveTo>
                    <a:pt x="819" y="136"/>
                  </a:moveTo>
                  <a:cubicBezTo>
                    <a:pt x="819" y="137"/>
                    <a:pt x="819" y="138"/>
                    <a:pt x="818" y="139"/>
                  </a:cubicBezTo>
                  <a:cubicBezTo>
                    <a:pt x="818" y="137"/>
                    <a:pt x="818" y="135"/>
                    <a:pt x="818" y="133"/>
                  </a:cubicBezTo>
                  <a:cubicBezTo>
                    <a:pt x="819" y="130"/>
                    <a:pt x="819" y="128"/>
                    <a:pt x="820" y="125"/>
                  </a:cubicBezTo>
                  <a:cubicBezTo>
                    <a:pt x="820" y="129"/>
                    <a:pt x="819" y="133"/>
                    <a:pt x="819" y="136"/>
                  </a:cubicBezTo>
                  <a:close/>
                  <a:moveTo>
                    <a:pt x="835" y="126"/>
                  </a:moveTo>
                  <a:cubicBezTo>
                    <a:pt x="834" y="113"/>
                    <a:pt x="834" y="96"/>
                    <a:pt x="834" y="84"/>
                  </a:cubicBezTo>
                  <a:cubicBezTo>
                    <a:pt x="838" y="90"/>
                    <a:pt x="840" y="100"/>
                    <a:pt x="840" y="104"/>
                  </a:cubicBezTo>
                  <a:cubicBezTo>
                    <a:pt x="840" y="110"/>
                    <a:pt x="838" y="118"/>
                    <a:pt x="835" y="126"/>
                  </a:cubicBezTo>
                  <a:close/>
                  <a:moveTo>
                    <a:pt x="846" y="128"/>
                  </a:moveTo>
                  <a:cubicBezTo>
                    <a:pt x="848" y="113"/>
                    <a:pt x="847" y="91"/>
                    <a:pt x="847" y="76"/>
                  </a:cubicBezTo>
                  <a:cubicBezTo>
                    <a:pt x="849" y="83"/>
                    <a:pt x="851" y="90"/>
                    <a:pt x="851" y="96"/>
                  </a:cubicBezTo>
                  <a:cubicBezTo>
                    <a:pt x="851" y="107"/>
                    <a:pt x="849" y="117"/>
                    <a:pt x="846" y="128"/>
                  </a:cubicBezTo>
                  <a:close/>
                  <a:moveTo>
                    <a:pt x="886" y="112"/>
                  </a:moveTo>
                  <a:cubicBezTo>
                    <a:pt x="886" y="110"/>
                    <a:pt x="886" y="108"/>
                    <a:pt x="886" y="106"/>
                  </a:cubicBezTo>
                  <a:cubicBezTo>
                    <a:pt x="886" y="108"/>
                    <a:pt x="885" y="112"/>
                    <a:pt x="885" y="115"/>
                  </a:cubicBezTo>
                  <a:cubicBezTo>
                    <a:pt x="880" y="131"/>
                    <a:pt x="876" y="144"/>
                    <a:pt x="876" y="144"/>
                  </a:cubicBezTo>
                  <a:cubicBezTo>
                    <a:pt x="877" y="133"/>
                    <a:pt x="881" y="110"/>
                    <a:pt x="886" y="86"/>
                  </a:cubicBezTo>
                  <a:cubicBezTo>
                    <a:pt x="888" y="90"/>
                    <a:pt x="889" y="95"/>
                    <a:pt x="890" y="99"/>
                  </a:cubicBezTo>
                  <a:cubicBezTo>
                    <a:pt x="888" y="103"/>
                    <a:pt x="887" y="108"/>
                    <a:pt x="886" y="112"/>
                  </a:cubicBezTo>
                  <a:close/>
                  <a:moveTo>
                    <a:pt x="899" y="133"/>
                  </a:moveTo>
                  <a:cubicBezTo>
                    <a:pt x="899" y="133"/>
                    <a:pt x="899" y="134"/>
                    <a:pt x="898" y="134"/>
                  </a:cubicBezTo>
                  <a:cubicBezTo>
                    <a:pt x="898" y="134"/>
                    <a:pt x="898" y="134"/>
                    <a:pt x="898" y="134"/>
                  </a:cubicBezTo>
                  <a:cubicBezTo>
                    <a:pt x="898" y="134"/>
                    <a:pt x="899" y="133"/>
                    <a:pt x="899" y="133"/>
                  </a:cubicBezTo>
                  <a:cubicBezTo>
                    <a:pt x="899" y="126"/>
                    <a:pt x="900" y="117"/>
                    <a:pt x="901" y="107"/>
                  </a:cubicBezTo>
                  <a:cubicBezTo>
                    <a:pt x="901" y="110"/>
                    <a:pt x="901" y="114"/>
                    <a:pt x="901" y="117"/>
                  </a:cubicBezTo>
                  <a:cubicBezTo>
                    <a:pt x="900" y="123"/>
                    <a:pt x="899" y="129"/>
                    <a:pt x="899" y="133"/>
                  </a:cubicBezTo>
                  <a:close/>
                  <a:moveTo>
                    <a:pt x="903" y="159"/>
                  </a:move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lose/>
                  <a:moveTo>
                    <a:pt x="944" y="143"/>
                  </a:moveTo>
                  <a:cubicBezTo>
                    <a:pt x="944" y="142"/>
                    <a:pt x="944" y="142"/>
                    <a:pt x="944" y="141"/>
                  </a:cubicBezTo>
                  <a:cubicBezTo>
                    <a:pt x="944" y="135"/>
                    <a:pt x="945" y="127"/>
                    <a:pt x="946" y="117"/>
                  </a:cubicBezTo>
                  <a:cubicBezTo>
                    <a:pt x="946" y="121"/>
                    <a:pt x="946" y="125"/>
                    <a:pt x="946" y="129"/>
                  </a:cubicBezTo>
                  <a:cubicBezTo>
                    <a:pt x="945" y="135"/>
                    <a:pt x="945" y="139"/>
                    <a:pt x="944" y="143"/>
                  </a:cubicBezTo>
                  <a:close/>
                  <a:moveTo>
                    <a:pt x="948" y="117"/>
                  </a:moveTo>
                  <a:cubicBezTo>
                    <a:pt x="947" y="115"/>
                    <a:pt x="947" y="113"/>
                    <a:pt x="946" y="111"/>
                  </a:cubicBezTo>
                  <a:cubicBezTo>
                    <a:pt x="946" y="108"/>
                    <a:pt x="947" y="104"/>
                    <a:pt x="947" y="100"/>
                  </a:cubicBezTo>
                  <a:cubicBezTo>
                    <a:pt x="948" y="103"/>
                    <a:pt x="948" y="106"/>
                    <a:pt x="949" y="108"/>
                  </a:cubicBezTo>
                  <a:cubicBezTo>
                    <a:pt x="948" y="111"/>
                    <a:pt x="948" y="114"/>
                    <a:pt x="948" y="117"/>
                  </a:cubicBezTo>
                  <a:close/>
                  <a:moveTo>
                    <a:pt x="956" y="133"/>
                  </a:moveTo>
                  <a:cubicBezTo>
                    <a:pt x="956" y="133"/>
                    <a:pt x="956" y="133"/>
                    <a:pt x="956" y="133"/>
                  </a:cubicBezTo>
                  <a:cubicBezTo>
                    <a:pt x="957" y="130"/>
                    <a:pt x="957" y="127"/>
                    <a:pt x="957" y="124"/>
                  </a:cubicBezTo>
                  <a:cubicBezTo>
                    <a:pt x="957" y="125"/>
                    <a:pt x="957" y="126"/>
                    <a:pt x="957" y="128"/>
                  </a:cubicBezTo>
                  <a:cubicBezTo>
                    <a:pt x="957" y="130"/>
                    <a:pt x="957" y="131"/>
                    <a:pt x="956" y="133"/>
                  </a:cubicBezTo>
                  <a:close/>
                  <a:moveTo>
                    <a:pt x="993" y="142"/>
                  </a:moveTo>
                  <a:cubicBezTo>
                    <a:pt x="993" y="139"/>
                    <a:pt x="993" y="134"/>
                    <a:pt x="993" y="128"/>
                  </a:cubicBezTo>
                  <a:cubicBezTo>
                    <a:pt x="993" y="130"/>
                    <a:pt x="994" y="132"/>
                    <a:pt x="994" y="133"/>
                  </a:cubicBezTo>
                  <a:cubicBezTo>
                    <a:pt x="993" y="139"/>
                    <a:pt x="993" y="142"/>
                    <a:pt x="993" y="142"/>
                  </a:cubicBezTo>
                  <a:close/>
                  <a:moveTo>
                    <a:pt x="1015" y="135"/>
                  </a:moveTo>
                  <a:cubicBezTo>
                    <a:pt x="1014" y="134"/>
                    <a:pt x="1014" y="134"/>
                    <a:pt x="1014" y="133"/>
                  </a:cubicBezTo>
                  <a:cubicBezTo>
                    <a:pt x="1014" y="121"/>
                    <a:pt x="1014" y="103"/>
                    <a:pt x="1013" y="88"/>
                  </a:cubicBezTo>
                  <a:cubicBezTo>
                    <a:pt x="1015" y="94"/>
                    <a:pt x="1017" y="100"/>
                    <a:pt x="1018" y="106"/>
                  </a:cubicBezTo>
                  <a:cubicBezTo>
                    <a:pt x="1017" y="118"/>
                    <a:pt x="1015" y="128"/>
                    <a:pt x="1015" y="135"/>
                  </a:cubicBezTo>
                  <a:close/>
                  <a:moveTo>
                    <a:pt x="1021" y="145"/>
                  </a:moveTo>
                  <a:cubicBezTo>
                    <a:pt x="1021" y="141"/>
                    <a:pt x="1021" y="136"/>
                    <a:pt x="1022" y="129"/>
                  </a:cubicBezTo>
                  <a:cubicBezTo>
                    <a:pt x="1022" y="133"/>
                    <a:pt x="1022" y="136"/>
                    <a:pt x="1023" y="139"/>
                  </a:cubicBezTo>
                  <a:cubicBezTo>
                    <a:pt x="1022" y="143"/>
                    <a:pt x="1021" y="145"/>
                    <a:pt x="1021" y="145"/>
                  </a:cubicBezTo>
                  <a:close/>
                  <a:moveTo>
                    <a:pt x="1027" y="159"/>
                  </a:moveTo>
                  <a:cubicBezTo>
                    <a:pt x="1027" y="159"/>
                    <a:pt x="1027" y="159"/>
                    <a:pt x="1027" y="159"/>
                  </a:cubicBezTo>
                  <a:cubicBezTo>
                    <a:pt x="1027" y="159"/>
                    <a:pt x="1027" y="158"/>
                    <a:pt x="1027" y="158"/>
                  </a:cubicBezTo>
                  <a:cubicBezTo>
                    <a:pt x="1027" y="159"/>
                    <a:pt x="1028" y="160"/>
                    <a:pt x="1028" y="160"/>
                  </a:cubicBezTo>
                  <a:cubicBezTo>
                    <a:pt x="1028" y="160"/>
                    <a:pt x="1027" y="159"/>
                    <a:pt x="1027" y="159"/>
                  </a:cubicBezTo>
                  <a:close/>
                  <a:moveTo>
                    <a:pt x="1028" y="121"/>
                  </a:moveTo>
                  <a:cubicBezTo>
                    <a:pt x="1026" y="117"/>
                    <a:pt x="1025" y="114"/>
                    <a:pt x="1023" y="110"/>
                  </a:cubicBezTo>
                  <a:cubicBezTo>
                    <a:pt x="1024" y="105"/>
                    <a:pt x="1024" y="99"/>
                    <a:pt x="1025" y="94"/>
                  </a:cubicBezTo>
                  <a:cubicBezTo>
                    <a:pt x="1026" y="100"/>
                    <a:pt x="1027" y="108"/>
                    <a:pt x="1029" y="116"/>
                  </a:cubicBezTo>
                  <a:cubicBezTo>
                    <a:pt x="1029" y="118"/>
                    <a:pt x="1028" y="119"/>
                    <a:pt x="1028" y="121"/>
                  </a:cubicBezTo>
                  <a:close/>
                  <a:moveTo>
                    <a:pt x="1036" y="142"/>
                  </a:moveTo>
                  <a:cubicBezTo>
                    <a:pt x="1035" y="138"/>
                    <a:pt x="1033" y="134"/>
                    <a:pt x="1031" y="129"/>
                  </a:cubicBezTo>
                  <a:cubicBezTo>
                    <a:pt x="1031" y="129"/>
                    <a:pt x="1031" y="128"/>
                    <a:pt x="1032" y="127"/>
                  </a:cubicBezTo>
                  <a:cubicBezTo>
                    <a:pt x="1033" y="132"/>
                    <a:pt x="1035" y="137"/>
                    <a:pt x="1036" y="142"/>
                  </a:cubicBezTo>
                  <a:cubicBezTo>
                    <a:pt x="1039" y="149"/>
                    <a:pt x="1041" y="153"/>
                    <a:pt x="1041" y="155"/>
                  </a:cubicBezTo>
                  <a:cubicBezTo>
                    <a:pt x="1040" y="151"/>
                    <a:pt x="1038" y="147"/>
                    <a:pt x="1036" y="142"/>
                  </a:cubicBezTo>
                  <a:close/>
                  <a:moveTo>
                    <a:pt x="1261" y="88"/>
                  </a:moveTo>
                  <a:cubicBezTo>
                    <a:pt x="1262" y="90"/>
                    <a:pt x="1263" y="93"/>
                    <a:pt x="1263" y="95"/>
                  </a:cubicBezTo>
                  <a:cubicBezTo>
                    <a:pt x="1263" y="94"/>
                    <a:pt x="1262" y="93"/>
                    <a:pt x="1261" y="92"/>
                  </a:cubicBezTo>
                  <a:cubicBezTo>
                    <a:pt x="1261" y="90"/>
                    <a:pt x="1261" y="89"/>
                    <a:pt x="1261" y="88"/>
                  </a:cubicBezTo>
                  <a:close/>
                  <a:moveTo>
                    <a:pt x="1249" y="84"/>
                  </a:moveTo>
                  <a:cubicBezTo>
                    <a:pt x="1252" y="88"/>
                    <a:pt x="1254" y="92"/>
                    <a:pt x="1257" y="96"/>
                  </a:cubicBezTo>
                  <a:cubicBezTo>
                    <a:pt x="1257" y="97"/>
                    <a:pt x="1258" y="99"/>
                    <a:pt x="1258" y="100"/>
                  </a:cubicBezTo>
                  <a:cubicBezTo>
                    <a:pt x="1258" y="104"/>
                    <a:pt x="1257" y="108"/>
                    <a:pt x="1256" y="112"/>
                  </a:cubicBezTo>
                  <a:cubicBezTo>
                    <a:pt x="1254" y="105"/>
                    <a:pt x="1251" y="98"/>
                    <a:pt x="1248" y="92"/>
                  </a:cubicBezTo>
                  <a:cubicBezTo>
                    <a:pt x="1249" y="89"/>
                    <a:pt x="1249" y="86"/>
                    <a:pt x="1249" y="84"/>
                  </a:cubicBezTo>
                  <a:close/>
                  <a:moveTo>
                    <a:pt x="1254" y="111"/>
                  </a:moveTo>
                  <a:cubicBezTo>
                    <a:pt x="1251" y="108"/>
                    <a:pt x="1249" y="105"/>
                    <a:pt x="1247" y="102"/>
                  </a:cubicBezTo>
                  <a:cubicBezTo>
                    <a:pt x="1247" y="99"/>
                    <a:pt x="1248" y="96"/>
                    <a:pt x="1248" y="93"/>
                  </a:cubicBezTo>
                  <a:cubicBezTo>
                    <a:pt x="1250" y="99"/>
                    <a:pt x="1252" y="105"/>
                    <a:pt x="1254" y="111"/>
                  </a:cubicBezTo>
                  <a:close/>
                  <a:moveTo>
                    <a:pt x="1236" y="56"/>
                  </a:moveTo>
                  <a:cubicBezTo>
                    <a:pt x="1241" y="62"/>
                    <a:pt x="1244" y="68"/>
                    <a:pt x="1248" y="74"/>
                  </a:cubicBezTo>
                  <a:cubicBezTo>
                    <a:pt x="1244" y="69"/>
                    <a:pt x="1240" y="64"/>
                    <a:pt x="1236" y="60"/>
                  </a:cubicBezTo>
                  <a:cubicBezTo>
                    <a:pt x="1236" y="59"/>
                    <a:pt x="1236" y="57"/>
                    <a:pt x="1236" y="56"/>
                  </a:cubicBezTo>
                  <a:close/>
                  <a:moveTo>
                    <a:pt x="1235" y="64"/>
                  </a:moveTo>
                  <a:cubicBezTo>
                    <a:pt x="1239" y="69"/>
                    <a:pt x="1243" y="74"/>
                    <a:pt x="1247" y="80"/>
                  </a:cubicBezTo>
                  <a:cubicBezTo>
                    <a:pt x="1246" y="82"/>
                    <a:pt x="1245" y="83"/>
                    <a:pt x="1245" y="85"/>
                  </a:cubicBezTo>
                  <a:cubicBezTo>
                    <a:pt x="1245" y="84"/>
                    <a:pt x="1244" y="83"/>
                    <a:pt x="1244" y="83"/>
                  </a:cubicBezTo>
                  <a:cubicBezTo>
                    <a:pt x="1244" y="83"/>
                    <a:pt x="1245" y="84"/>
                    <a:pt x="1245" y="85"/>
                  </a:cubicBezTo>
                  <a:cubicBezTo>
                    <a:pt x="1244" y="88"/>
                    <a:pt x="1243" y="91"/>
                    <a:pt x="1242" y="94"/>
                  </a:cubicBezTo>
                  <a:cubicBezTo>
                    <a:pt x="1239" y="90"/>
                    <a:pt x="1236" y="85"/>
                    <a:pt x="1233" y="80"/>
                  </a:cubicBezTo>
                  <a:cubicBezTo>
                    <a:pt x="1234" y="75"/>
                    <a:pt x="1235" y="69"/>
                    <a:pt x="1235" y="64"/>
                  </a:cubicBezTo>
                  <a:close/>
                  <a:moveTo>
                    <a:pt x="1226" y="139"/>
                  </a:moveTo>
                  <a:cubicBezTo>
                    <a:pt x="1226" y="120"/>
                    <a:pt x="1229" y="101"/>
                    <a:pt x="1233" y="83"/>
                  </a:cubicBezTo>
                  <a:cubicBezTo>
                    <a:pt x="1235" y="87"/>
                    <a:pt x="1238" y="91"/>
                    <a:pt x="1241" y="95"/>
                  </a:cubicBezTo>
                  <a:cubicBezTo>
                    <a:pt x="1235" y="114"/>
                    <a:pt x="1229" y="133"/>
                    <a:pt x="1227" y="152"/>
                  </a:cubicBezTo>
                  <a:cubicBezTo>
                    <a:pt x="1226" y="148"/>
                    <a:pt x="1226" y="143"/>
                    <a:pt x="1226" y="139"/>
                  </a:cubicBezTo>
                  <a:close/>
                  <a:moveTo>
                    <a:pt x="1245" y="143"/>
                  </a:moveTo>
                  <a:cubicBezTo>
                    <a:pt x="1245" y="142"/>
                    <a:pt x="1244" y="141"/>
                    <a:pt x="1243" y="140"/>
                  </a:cubicBezTo>
                  <a:cubicBezTo>
                    <a:pt x="1244" y="141"/>
                    <a:pt x="1244" y="143"/>
                    <a:pt x="1245" y="144"/>
                  </a:cubicBezTo>
                  <a:cubicBezTo>
                    <a:pt x="1243" y="147"/>
                    <a:pt x="1242" y="149"/>
                    <a:pt x="1241" y="152"/>
                  </a:cubicBezTo>
                  <a:cubicBezTo>
                    <a:pt x="1241" y="146"/>
                    <a:pt x="1242" y="141"/>
                    <a:pt x="1243" y="135"/>
                  </a:cubicBezTo>
                  <a:cubicBezTo>
                    <a:pt x="1244" y="137"/>
                    <a:pt x="1245" y="139"/>
                    <a:pt x="1246" y="142"/>
                  </a:cubicBezTo>
                  <a:cubicBezTo>
                    <a:pt x="1246" y="142"/>
                    <a:pt x="1246" y="142"/>
                    <a:pt x="1245" y="143"/>
                  </a:cubicBezTo>
                  <a:close/>
                  <a:moveTo>
                    <a:pt x="1244" y="127"/>
                  </a:moveTo>
                  <a:cubicBezTo>
                    <a:pt x="1245" y="119"/>
                    <a:pt x="1246" y="111"/>
                    <a:pt x="1247" y="103"/>
                  </a:cubicBezTo>
                  <a:cubicBezTo>
                    <a:pt x="1250" y="107"/>
                    <a:pt x="1253" y="112"/>
                    <a:pt x="1255" y="116"/>
                  </a:cubicBezTo>
                  <a:cubicBezTo>
                    <a:pt x="1254" y="122"/>
                    <a:pt x="1252" y="127"/>
                    <a:pt x="1250" y="133"/>
                  </a:cubicBezTo>
                  <a:cubicBezTo>
                    <a:pt x="1248" y="131"/>
                    <a:pt x="1246" y="128"/>
                    <a:pt x="1244" y="127"/>
                  </a:cubicBezTo>
                  <a:close/>
                  <a:moveTo>
                    <a:pt x="1256" y="140"/>
                  </a:moveTo>
                  <a:cubicBezTo>
                    <a:pt x="1256" y="140"/>
                    <a:pt x="1255" y="140"/>
                    <a:pt x="1255" y="140"/>
                  </a:cubicBezTo>
                  <a:cubicBezTo>
                    <a:pt x="1256" y="135"/>
                    <a:pt x="1257" y="130"/>
                    <a:pt x="1258" y="125"/>
                  </a:cubicBezTo>
                  <a:cubicBezTo>
                    <a:pt x="1258" y="127"/>
                    <a:pt x="1259" y="129"/>
                    <a:pt x="1259" y="130"/>
                  </a:cubicBezTo>
                  <a:cubicBezTo>
                    <a:pt x="1258" y="134"/>
                    <a:pt x="1257" y="137"/>
                    <a:pt x="1256" y="140"/>
                  </a:cubicBezTo>
                  <a:close/>
                  <a:moveTo>
                    <a:pt x="1262" y="122"/>
                  </a:moveTo>
                  <a:cubicBezTo>
                    <a:pt x="1261" y="120"/>
                    <a:pt x="1260" y="119"/>
                    <a:pt x="1259" y="117"/>
                  </a:cubicBezTo>
                  <a:cubicBezTo>
                    <a:pt x="1259" y="114"/>
                    <a:pt x="1260" y="110"/>
                    <a:pt x="1260" y="107"/>
                  </a:cubicBezTo>
                  <a:cubicBezTo>
                    <a:pt x="1261" y="111"/>
                    <a:pt x="1262" y="115"/>
                    <a:pt x="1263" y="120"/>
                  </a:cubicBezTo>
                  <a:cubicBezTo>
                    <a:pt x="1263" y="120"/>
                    <a:pt x="1263" y="121"/>
                    <a:pt x="1262" y="122"/>
                  </a:cubicBezTo>
                  <a:close/>
                  <a:moveTo>
                    <a:pt x="1264" y="151"/>
                  </a:moveTo>
                  <a:cubicBezTo>
                    <a:pt x="1264" y="151"/>
                    <a:pt x="1264" y="151"/>
                    <a:pt x="1264" y="151"/>
                  </a:cubicBezTo>
                  <a:cubicBezTo>
                    <a:pt x="1264" y="150"/>
                    <a:pt x="1264" y="150"/>
                    <a:pt x="1264" y="149"/>
                  </a:cubicBezTo>
                  <a:cubicBezTo>
                    <a:pt x="1264" y="149"/>
                    <a:pt x="1264" y="149"/>
                    <a:pt x="1264" y="149"/>
                  </a:cubicBezTo>
                  <a:cubicBezTo>
                    <a:pt x="1264" y="150"/>
                    <a:pt x="1264" y="150"/>
                    <a:pt x="1264" y="151"/>
                  </a:cubicBezTo>
                  <a:close/>
                  <a:moveTo>
                    <a:pt x="1264" y="118"/>
                  </a:moveTo>
                  <a:cubicBezTo>
                    <a:pt x="1263" y="112"/>
                    <a:pt x="1262" y="107"/>
                    <a:pt x="1261" y="102"/>
                  </a:cubicBezTo>
                  <a:cubicBezTo>
                    <a:pt x="1261" y="102"/>
                    <a:pt x="1261" y="102"/>
                    <a:pt x="1261" y="101"/>
                  </a:cubicBezTo>
                  <a:cubicBezTo>
                    <a:pt x="1263" y="105"/>
                    <a:pt x="1265" y="108"/>
                    <a:pt x="1267" y="112"/>
                  </a:cubicBezTo>
                  <a:cubicBezTo>
                    <a:pt x="1266" y="113"/>
                    <a:pt x="1265" y="115"/>
                    <a:pt x="1265" y="116"/>
                  </a:cubicBezTo>
                  <a:cubicBezTo>
                    <a:pt x="1265" y="117"/>
                    <a:pt x="1264" y="117"/>
                    <a:pt x="1264" y="118"/>
                  </a:cubicBezTo>
                  <a:close/>
                  <a:moveTo>
                    <a:pt x="1267" y="143"/>
                  </a:moveTo>
                  <a:cubicBezTo>
                    <a:pt x="1267" y="143"/>
                    <a:pt x="1266" y="142"/>
                    <a:pt x="1266" y="142"/>
                  </a:cubicBezTo>
                  <a:cubicBezTo>
                    <a:pt x="1267" y="141"/>
                    <a:pt x="1267" y="141"/>
                    <a:pt x="1267" y="140"/>
                  </a:cubicBezTo>
                  <a:cubicBezTo>
                    <a:pt x="1267" y="141"/>
                    <a:pt x="1267" y="141"/>
                    <a:pt x="1267" y="142"/>
                  </a:cubicBezTo>
                  <a:cubicBezTo>
                    <a:pt x="1267" y="142"/>
                    <a:pt x="1267" y="142"/>
                    <a:pt x="1267" y="143"/>
                  </a:cubicBezTo>
                  <a:close/>
                  <a:moveTo>
                    <a:pt x="1272" y="151"/>
                  </a:moveTo>
                  <a:cubicBezTo>
                    <a:pt x="1272" y="151"/>
                    <a:pt x="1272" y="151"/>
                    <a:pt x="1272" y="151"/>
                  </a:cubicBezTo>
                  <a:cubicBezTo>
                    <a:pt x="1272" y="151"/>
                    <a:pt x="1272" y="152"/>
                    <a:pt x="1272" y="152"/>
                  </a:cubicBezTo>
                  <a:cubicBezTo>
                    <a:pt x="1272" y="152"/>
                    <a:pt x="1272" y="152"/>
                    <a:pt x="1272" y="151"/>
                  </a:cubicBezTo>
                  <a:close/>
                  <a:moveTo>
                    <a:pt x="1274" y="126"/>
                  </a:moveTo>
                  <a:cubicBezTo>
                    <a:pt x="1274" y="128"/>
                    <a:pt x="1273" y="129"/>
                    <a:pt x="1272" y="131"/>
                  </a:cubicBezTo>
                  <a:cubicBezTo>
                    <a:pt x="1272" y="129"/>
                    <a:pt x="1272" y="127"/>
                    <a:pt x="1272" y="125"/>
                  </a:cubicBezTo>
                  <a:cubicBezTo>
                    <a:pt x="1272" y="124"/>
                    <a:pt x="1272" y="123"/>
                    <a:pt x="1273" y="122"/>
                  </a:cubicBezTo>
                  <a:cubicBezTo>
                    <a:pt x="1273" y="123"/>
                    <a:pt x="1274" y="124"/>
                    <a:pt x="1274" y="125"/>
                  </a:cubicBezTo>
                  <a:lnTo>
                    <a:pt x="1274" y="126"/>
                  </a:lnTo>
                  <a:close/>
                  <a:moveTo>
                    <a:pt x="1282" y="91"/>
                  </a:moveTo>
                  <a:cubicBezTo>
                    <a:pt x="1282" y="93"/>
                    <a:pt x="1282" y="94"/>
                    <a:pt x="1282" y="96"/>
                  </a:cubicBezTo>
                  <a:cubicBezTo>
                    <a:pt x="1282" y="95"/>
                    <a:pt x="1282" y="94"/>
                    <a:pt x="1281" y="93"/>
                  </a:cubicBezTo>
                  <a:cubicBezTo>
                    <a:pt x="1281" y="93"/>
                    <a:pt x="1282" y="92"/>
                    <a:pt x="1282" y="91"/>
                  </a:cubicBezTo>
                  <a:close/>
                  <a:moveTo>
                    <a:pt x="1280" y="117"/>
                  </a:moveTo>
                  <a:cubicBezTo>
                    <a:pt x="1279" y="113"/>
                    <a:pt x="1278" y="110"/>
                    <a:pt x="1278" y="106"/>
                  </a:cubicBezTo>
                  <a:cubicBezTo>
                    <a:pt x="1278" y="106"/>
                    <a:pt x="1278" y="105"/>
                    <a:pt x="1278" y="104"/>
                  </a:cubicBezTo>
                  <a:cubicBezTo>
                    <a:pt x="1279" y="107"/>
                    <a:pt x="1280" y="111"/>
                    <a:pt x="1281" y="114"/>
                  </a:cubicBezTo>
                  <a:cubicBezTo>
                    <a:pt x="1281" y="115"/>
                    <a:pt x="1280" y="116"/>
                    <a:pt x="1280" y="117"/>
                  </a:cubicBezTo>
                  <a:close/>
                  <a:moveTo>
                    <a:pt x="1283" y="127"/>
                  </a:moveTo>
                  <a:cubicBezTo>
                    <a:pt x="1282" y="127"/>
                    <a:pt x="1282" y="126"/>
                    <a:pt x="1282" y="126"/>
                  </a:cubicBezTo>
                  <a:cubicBezTo>
                    <a:pt x="1282" y="125"/>
                    <a:pt x="1282" y="125"/>
                    <a:pt x="1283" y="124"/>
                  </a:cubicBezTo>
                  <a:cubicBezTo>
                    <a:pt x="1283" y="125"/>
                    <a:pt x="1283" y="126"/>
                    <a:pt x="1283" y="127"/>
                  </a:cubicBezTo>
                  <a:close/>
                  <a:moveTo>
                    <a:pt x="1289" y="141"/>
                  </a:moveTo>
                  <a:cubicBezTo>
                    <a:pt x="1289" y="140"/>
                    <a:pt x="1289" y="140"/>
                    <a:pt x="1289" y="140"/>
                  </a:cubicBezTo>
                  <a:cubicBezTo>
                    <a:pt x="1289" y="139"/>
                    <a:pt x="1289" y="139"/>
                    <a:pt x="1289" y="139"/>
                  </a:cubicBezTo>
                  <a:cubicBezTo>
                    <a:pt x="1289" y="139"/>
                    <a:pt x="1289" y="140"/>
                    <a:pt x="1289" y="141"/>
                  </a:cubicBezTo>
                  <a:close/>
                  <a:moveTo>
                    <a:pt x="1321" y="64"/>
                  </a:moveTo>
                  <a:cubicBezTo>
                    <a:pt x="1322" y="69"/>
                    <a:pt x="1323" y="75"/>
                    <a:pt x="1324" y="80"/>
                  </a:cubicBezTo>
                  <a:cubicBezTo>
                    <a:pt x="1322" y="83"/>
                    <a:pt x="1321" y="85"/>
                    <a:pt x="1319" y="87"/>
                  </a:cubicBezTo>
                  <a:cubicBezTo>
                    <a:pt x="1319" y="86"/>
                    <a:pt x="1318" y="84"/>
                    <a:pt x="1317" y="83"/>
                  </a:cubicBezTo>
                  <a:cubicBezTo>
                    <a:pt x="1318" y="84"/>
                    <a:pt x="1319" y="86"/>
                    <a:pt x="1319" y="87"/>
                  </a:cubicBezTo>
                  <a:cubicBezTo>
                    <a:pt x="1318" y="90"/>
                    <a:pt x="1316" y="92"/>
                    <a:pt x="1315" y="94"/>
                  </a:cubicBezTo>
                  <a:cubicBezTo>
                    <a:pt x="1313" y="89"/>
                    <a:pt x="1312" y="85"/>
                    <a:pt x="1310" y="80"/>
                  </a:cubicBezTo>
                  <a:cubicBezTo>
                    <a:pt x="1314" y="74"/>
                    <a:pt x="1318" y="69"/>
                    <a:pt x="1321" y="64"/>
                  </a:cubicBezTo>
                  <a:close/>
                  <a:moveTo>
                    <a:pt x="1292" y="108"/>
                  </a:moveTo>
                  <a:cubicBezTo>
                    <a:pt x="1293" y="106"/>
                    <a:pt x="1295" y="104"/>
                    <a:pt x="1296" y="101"/>
                  </a:cubicBezTo>
                  <a:cubicBezTo>
                    <a:pt x="1296" y="107"/>
                    <a:pt x="1297" y="112"/>
                    <a:pt x="1298" y="117"/>
                  </a:cubicBezTo>
                  <a:cubicBezTo>
                    <a:pt x="1297" y="119"/>
                    <a:pt x="1295" y="120"/>
                    <a:pt x="1294" y="122"/>
                  </a:cubicBezTo>
                  <a:cubicBezTo>
                    <a:pt x="1294" y="117"/>
                    <a:pt x="1293" y="113"/>
                    <a:pt x="1292" y="108"/>
                  </a:cubicBezTo>
                  <a:close/>
                  <a:moveTo>
                    <a:pt x="1299" y="134"/>
                  </a:moveTo>
                  <a:cubicBezTo>
                    <a:pt x="1298" y="131"/>
                    <a:pt x="1297" y="128"/>
                    <a:pt x="1296" y="126"/>
                  </a:cubicBezTo>
                  <a:cubicBezTo>
                    <a:pt x="1297" y="125"/>
                    <a:pt x="1298" y="123"/>
                    <a:pt x="1298" y="122"/>
                  </a:cubicBezTo>
                  <a:cubicBezTo>
                    <a:pt x="1299" y="124"/>
                    <a:pt x="1299" y="125"/>
                    <a:pt x="1299" y="127"/>
                  </a:cubicBezTo>
                  <a:cubicBezTo>
                    <a:pt x="1299" y="129"/>
                    <a:pt x="1299" y="131"/>
                    <a:pt x="1299" y="134"/>
                  </a:cubicBezTo>
                  <a:close/>
                  <a:moveTo>
                    <a:pt x="1298" y="98"/>
                  </a:moveTo>
                  <a:cubicBezTo>
                    <a:pt x="1298" y="98"/>
                    <a:pt x="1298" y="98"/>
                    <a:pt x="1299" y="97"/>
                  </a:cubicBezTo>
                  <a:cubicBezTo>
                    <a:pt x="1299" y="101"/>
                    <a:pt x="1299" y="105"/>
                    <a:pt x="1299" y="108"/>
                  </a:cubicBezTo>
                  <a:cubicBezTo>
                    <a:pt x="1299" y="105"/>
                    <a:pt x="1298" y="101"/>
                    <a:pt x="1298" y="98"/>
                  </a:cubicBezTo>
                  <a:close/>
                  <a:moveTo>
                    <a:pt x="1298" y="82"/>
                  </a:moveTo>
                  <a:cubicBezTo>
                    <a:pt x="1298" y="78"/>
                    <a:pt x="1298" y="74"/>
                    <a:pt x="1299" y="72"/>
                  </a:cubicBezTo>
                  <a:cubicBezTo>
                    <a:pt x="1301" y="75"/>
                    <a:pt x="1302" y="78"/>
                    <a:pt x="1304" y="80"/>
                  </a:cubicBezTo>
                  <a:cubicBezTo>
                    <a:pt x="1302" y="82"/>
                    <a:pt x="1301" y="84"/>
                    <a:pt x="1299" y="86"/>
                  </a:cubicBezTo>
                  <a:cubicBezTo>
                    <a:pt x="1299" y="85"/>
                    <a:pt x="1298" y="83"/>
                    <a:pt x="1298" y="82"/>
                  </a:cubicBezTo>
                  <a:close/>
                  <a:moveTo>
                    <a:pt x="1302" y="92"/>
                  </a:moveTo>
                  <a:cubicBezTo>
                    <a:pt x="1303" y="90"/>
                    <a:pt x="1305" y="88"/>
                    <a:pt x="1306" y="86"/>
                  </a:cubicBezTo>
                  <a:cubicBezTo>
                    <a:pt x="1307" y="88"/>
                    <a:pt x="1308" y="91"/>
                    <a:pt x="1309" y="93"/>
                  </a:cubicBezTo>
                  <a:cubicBezTo>
                    <a:pt x="1309" y="96"/>
                    <a:pt x="1309" y="99"/>
                    <a:pt x="1310" y="102"/>
                  </a:cubicBezTo>
                  <a:cubicBezTo>
                    <a:pt x="1309" y="104"/>
                    <a:pt x="1308" y="105"/>
                    <a:pt x="1306" y="106"/>
                  </a:cubicBezTo>
                  <a:cubicBezTo>
                    <a:pt x="1305" y="102"/>
                    <a:pt x="1304" y="97"/>
                    <a:pt x="1302" y="92"/>
                  </a:cubicBezTo>
                  <a:close/>
                  <a:moveTo>
                    <a:pt x="1307" y="108"/>
                  </a:moveTo>
                  <a:cubicBezTo>
                    <a:pt x="1308" y="106"/>
                    <a:pt x="1309" y="104"/>
                    <a:pt x="1310" y="103"/>
                  </a:cubicBezTo>
                  <a:cubicBezTo>
                    <a:pt x="1312" y="118"/>
                    <a:pt x="1314" y="133"/>
                    <a:pt x="1316" y="149"/>
                  </a:cubicBezTo>
                  <a:cubicBezTo>
                    <a:pt x="1313" y="137"/>
                    <a:pt x="1311" y="122"/>
                    <a:pt x="1307" y="108"/>
                  </a:cubicBezTo>
                  <a:close/>
                  <a:moveTo>
                    <a:pt x="1315" y="95"/>
                  </a:moveTo>
                  <a:cubicBezTo>
                    <a:pt x="1317" y="93"/>
                    <a:pt x="1318" y="91"/>
                    <a:pt x="1320" y="89"/>
                  </a:cubicBezTo>
                  <a:cubicBezTo>
                    <a:pt x="1326" y="103"/>
                    <a:pt x="1327" y="120"/>
                    <a:pt x="1327" y="136"/>
                  </a:cubicBezTo>
                  <a:cubicBezTo>
                    <a:pt x="1324" y="122"/>
                    <a:pt x="1320" y="109"/>
                    <a:pt x="1315" y="95"/>
                  </a:cubicBezTo>
                  <a:close/>
                  <a:moveTo>
                    <a:pt x="1320" y="89"/>
                  </a:moveTo>
                  <a:cubicBezTo>
                    <a:pt x="1322" y="87"/>
                    <a:pt x="1323" y="85"/>
                    <a:pt x="1324" y="83"/>
                  </a:cubicBezTo>
                  <a:cubicBezTo>
                    <a:pt x="1325" y="90"/>
                    <a:pt x="1327" y="98"/>
                    <a:pt x="1328" y="105"/>
                  </a:cubicBezTo>
                  <a:cubicBezTo>
                    <a:pt x="1325" y="99"/>
                    <a:pt x="1323" y="94"/>
                    <a:pt x="1320" y="89"/>
                  </a:cubicBezTo>
                  <a:close/>
                  <a:moveTo>
                    <a:pt x="1333" y="92"/>
                  </a:moveTo>
                  <a:cubicBezTo>
                    <a:pt x="1331" y="87"/>
                    <a:pt x="1330" y="81"/>
                    <a:pt x="1329" y="74"/>
                  </a:cubicBezTo>
                  <a:cubicBezTo>
                    <a:pt x="1331" y="71"/>
                    <a:pt x="1333" y="68"/>
                    <a:pt x="1334" y="65"/>
                  </a:cubicBezTo>
                  <a:cubicBezTo>
                    <a:pt x="1336" y="69"/>
                    <a:pt x="1339" y="72"/>
                    <a:pt x="1341" y="75"/>
                  </a:cubicBezTo>
                  <a:cubicBezTo>
                    <a:pt x="1341" y="77"/>
                    <a:pt x="1341" y="79"/>
                    <a:pt x="1341" y="81"/>
                  </a:cubicBezTo>
                  <a:cubicBezTo>
                    <a:pt x="1340" y="80"/>
                    <a:pt x="1340" y="80"/>
                    <a:pt x="1339" y="79"/>
                  </a:cubicBezTo>
                  <a:cubicBezTo>
                    <a:pt x="1340" y="80"/>
                    <a:pt x="1340" y="81"/>
                    <a:pt x="1341" y="81"/>
                  </a:cubicBezTo>
                  <a:cubicBezTo>
                    <a:pt x="1340" y="86"/>
                    <a:pt x="1340" y="90"/>
                    <a:pt x="1340" y="91"/>
                  </a:cubicBezTo>
                  <a:cubicBezTo>
                    <a:pt x="1340" y="95"/>
                    <a:pt x="1340" y="100"/>
                    <a:pt x="1341" y="104"/>
                  </a:cubicBezTo>
                  <a:cubicBezTo>
                    <a:pt x="1340" y="101"/>
                    <a:pt x="1340" y="99"/>
                    <a:pt x="1339" y="96"/>
                  </a:cubicBezTo>
                  <a:cubicBezTo>
                    <a:pt x="1340" y="100"/>
                    <a:pt x="1340" y="104"/>
                    <a:pt x="1341" y="108"/>
                  </a:cubicBezTo>
                  <a:cubicBezTo>
                    <a:pt x="1341" y="120"/>
                    <a:pt x="1342" y="132"/>
                    <a:pt x="1342" y="143"/>
                  </a:cubicBezTo>
                  <a:cubicBezTo>
                    <a:pt x="1340" y="126"/>
                    <a:pt x="1337" y="109"/>
                    <a:pt x="1333" y="92"/>
                  </a:cubicBezTo>
                  <a:close/>
                  <a:moveTo>
                    <a:pt x="1356" y="125"/>
                  </a:moveTo>
                  <a:cubicBezTo>
                    <a:pt x="1353" y="116"/>
                    <a:pt x="1351" y="108"/>
                    <a:pt x="1348" y="99"/>
                  </a:cubicBezTo>
                  <a:cubicBezTo>
                    <a:pt x="1346" y="93"/>
                    <a:pt x="1345" y="87"/>
                    <a:pt x="1345" y="82"/>
                  </a:cubicBezTo>
                  <a:cubicBezTo>
                    <a:pt x="1350" y="91"/>
                    <a:pt x="1353" y="100"/>
                    <a:pt x="1356" y="109"/>
                  </a:cubicBezTo>
                  <a:cubicBezTo>
                    <a:pt x="1356" y="114"/>
                    <a:pt x="1356" y="120"/>
                    <a:pt x="1356" y="125"/>
                  </a:cubicBezTo>
                  <a:close/>
                  <a:moveTo>
                    <a:pt x="1356" y="97"/>
                  </a:moveTo>
                  <a:cubicBezTo>
                    <a:pt x="1353" y="90"/>
                    <a:pt x="1349" y="83"/>
                    <a:pt x="1344" y="77"/>
                  </a:cubicBezTo>
                  <a:cubicBezTo>
                    <a:pt x="1344" y="72"/>
                    <a:pt x="1343" y="67"/>
                    <a:pt x="1344" y="63"/>
                  </a:cubicBezTo>
                  <a:cubicBezTo>
                    <a:pt x="1349" y="70"/>
                    <a:pt x="1353" y="77"/>
                    <a:pt x="1357" y="85"/>
                  </a:cubicBezTo>
                  <a:cubicBezTo>
                    <a:pt x="1357" y="89"/>
                    <a:pt x="1357" y="93"/>
                    <a:pt x="1356" y="97"/>
                  </a:cubicBezTo>
                  <a:close/>
                  <a:moveTo>
                    <a:pt x="1366" y="119"/>
                  </a:moveTo>
                  <a:cubicBezTo>
                    <a:pt x="1365" y="110"/>
                    <a:pt x="1363" y="102"/>
                    <a:pt x="1361" y="93"/>
                  </a:cubicBezTo>
                  <a:cubicBezTo>
                    <a:pt x="1363" y="98"/>
                    <a:pt x="1366" y="104"/>
                    <a:pt x="1367" y="109"/>
                  </a:cubicBezTo>
                  <a:cubicBezTo>
                    <a:pt x="1368" y="112"/>
                    <a:pt x="1368" y="114"/>
                    <a:pt x="1369" y="116"/>
                  </a:cubicBezTo>
                  <a:cubicBezTo>
                    <a:pt x="1369" y="120"/>
                    <a:pt x="1369" y="124"/>
                    <a:pt x="1369" y="127"/>
                  </a:cubicBezTo>
                  <a:cubicBezTo>
                    <a:pt x="1368" y="125"/>
                    <a:pt x="1367" y="122"/>
                    <a:pt x="1366" y="119"/>
                  </a:cubicBezTo>
                  <a:close/>
                  <a:moveTo>
                    <a:pt x="1377" y="151"/>
                  </a:moveTo>
                  <a:cubicBezTo>
                    <a:pt x="1377" y="151"/>
                    <a:pt x="1377" y="151"/>
                    <a:pt x="1377" y="151"/>
                  </a:cubicBezTo>
                  <a:cubicBezTo>
                    <a:pt x="1377" y="151"/>
                    <a:pt x="1377" y="150"/>
                    <a:pt x="1377" y="150"/>
                  </a:cubicBezTo>
                  <a:cubicBezTo>
                    <a:pt x="1377" y="150"/>
                    <a:pt x="1377" y="150"/>
                    <a:pt x="1377" y="150"/>
                  </a:cubicBezTo>
                  <a:cubicBezTo>
                    <a:pt x="1377" y="151"/>
                    <a:pt x="1377" y="151"/>
                    <a:pt x="1377" y="151"/>
                  </a:cubicBezTo>
                  <a:close/>
                  <a:moveTo>
                    <a:pt x="1383" y="114"/>
                  </a:moveTo>
                  <a:cubicBezTo>
                    <a:pt x="1381" y="105"/>
                    <a:pt x="1378" y="96"/>
                    <a:pt x="1374" y="88"/>
                  </a:cubicBezTo>
                  <a:cubicBezTo>
                    <a:pt x="1378" y="97"/>
                    <a:pt x="1380" y="110"/>
                    <a:pt x="1382" y="122"/>
                  </a:cubicBezTo>
                  <a:cubicBezTo>
                    <a:pt x="1381" y="127"/>
                    <a:pt x="1380" y="132"/>
                    <a:pt x="1379" y="136"/>
                  </a:cubicBezTo>
                  <a:cubicBezTo>
                    <a:pt x="1378" y="134"/>
                    <a:pt x="1378" y="133"/>
                    <a:pt x="1377" y="131"/>
                  </a:cubicBezTo>
                  <a:cubicBezTo>
                    <a:pt x="1377" y="117"/>
                    <a:pt x="1376" y="102"/>
                    <a:pt x="1374" y="87"/>
                  </a:cubicBezTo>
                  <a:cubicBezTo>
                    <a:pt x="1374" y="87"/>
                    <a:pt x="1374" y="88"/>
                    <a:pt x="1374" y="88"/>
                  </a:cubicBezTo>
                  <a:cubicBezTo>
                    <a:pt x="1374" y="88"/>
                    <a:pt x="1374" y="87"/>
                    <a:pt x="1374" y="87"/>
                  </a:cubicBezTo>
                  <a:cubicBezTo>
                    <a:pt x="1373" y="82"/>
                    <a:pt x="1373" y="78"/>
                    <a:pt x="1372" y="73"/>
                  </a:cubicBezTo>
                  <a:cubicBezTo>
                    <a:pt x="1379" y="81"/>
                    <a:pt x="1383" y="91"/>
                    <a:pt x="1386" y="101"/>
                  </a:cubicBezTo>
                  <a:cubicBezTo>
                    <a:pt x="1385" y="105"/>
                    <a:pt x="1384" y="109"/>
                    <a:pt x="1383" y="114"/>
                  </a:cubicBezTo>
                  <a:close/>
                  <a:moveTo>
                    <a:pt x="1390" y="138"/>
                  </a:moveTo>
                  <a:cubicBezTo>
                    <a:pt x="1389" y="137"/>
                    <a:pt x="1389" y="136"/>
                    <a:pt x="1389" y="135"/>
                  </a:cubicBezTo>
                  <a:cubicBezTo>
                    <a:pt x="1389" y="124"/>
                    <a:pt x="1385" y="112"/>
                    <a:pt x="1386" y="101"/>
                  </a:cubicBezTo>
                  <a:cubicBezTo>
                    <a:pt x="1389" y="110"/>
                    <a:pt x="1391" y="119"/>
                    <a:pt x="1392" y="128"/>
                  </a:cubicBezTo>
                  <a:cubicBezTo>
                    <a:pt x="1391" y="132"/>
                    <a:pt x="1390" y="135"/>
                    <a:pt x="1390" y="138"/>
                  </a:cubicBezTo>
                  <a:close/>
                  <a:moveTo>
                    <a:pt x="1405" y="136"/>
                  </a:moveTo>
                  <a:cubicBezTo>
                    <a:pt x="1405" y="135"/>
                    <a:pt x="1404" y="134"/>
                    <a:pt x="1404" y="133"/>
                  </a:cubicBezTo>
                  <a:cubicBezTo>
                    <a:pt x="1403" y="131"/>
                    <a:pt x="1403" y="129"/>
                    <a:pt x="1402" y="128"/>
                  </a:cubicBezTo>
                  <a:cubicBezTo>
                    <a:pt x="1402" y="127"/>
                    <a:pt x="1402" y="127"/>
                    <a:pt x="1402" y="127"/>
                  </a:cubicBezTo>
                  <a:cubicBezTo>
                    <a:pt x="1403" y="129"/>
                    <a:pt x="1403" y="131"/>
                    <a:pt x="1404" y="133"/>
                  </a:cubicBezTo>
                  <a:cubicBezTo>
                    <a:pt x="1404" y="134"/>
                    <a:pt x="1405" y="135"/>
                    <a:pt x="1405" y="136"/>
                  </a:cubicBezTo>
                  <a:cubicBezTo>
                    <a:pt x="1405" y="136"/>
                    <a:pt x="1405" y="136"/>
                    <a:pt x="1405" y="136"/>
                  </a:cubicBezTo>
                  <a:close/>
                  <a:moveTo>
                    <a:pt x="1406" y="133"/>
                  </a:moveTo>
                  <a:cubicBezTo>
                    <a:pt x="1405" y="129"/>
                    <a:pt x="1404" y="125"/>
                    <a:pt x="1402" y="120"/>
                  </a:cubicBezTo>
                  <a:cubicBezTo>
                    <a:pt x="1402" y="119"/>
                    <a:pt x="1402" y="117"/>
                    <a:pt x="1402" y="115"/>
                  </a:cubicBezTo>
                  <a:cubicBezTo>
                    <a:pt x="1402" y="112"/>
                    <a:pt x="1402" y="109"/>
                    <a:pt x="1403" y="105"/>
                  </a:cubicBezTo>
                  <a:cubicBezTo>
                    <a:pt x="1405" y="112"/>
                    <a:pt x="1406" y="119"/>
                    <a:pt x="1408" y="126"/>
                  </a:cubicBezTo>
                  <a:cubicBezTo>
                    <a:pt x="1407" y="128"/>
                    <a:pt x="1407" y="130"/>
                    <a:pt x="1406" y="133"/>
                  </a:cubicBezTo>
                  <a:close/>
                  <a:moveTo>
                    <a:pt x="1420" y="139"/>
                  </a:moveTo>
                  <a:cubicBezTo>
                    <a:pt x="1420" y="139"/>
                    <a:pt x="1420" y="139"/>
                    <a:pt x="1420" y="139"/>
                  </a:cubicBezTo>
                  <a:cubicBezTo>
                    <a:pt x="1420" y="137"/>
                    <a:pt x="1420" y="135"/>
                    <a:pt x="1420" y="133"/>
                  </a:cubicBezTo>
                  <a:cubicBezTo>
                    <a:pt x="1420" y="134"/>
                    <a:pt x="1420" y="134"/>
                    <a:pt x="1420" y="135"/>
                  </a:cubicBezTo>
                  <a:cubicBezTo>
                    <a:pt x="1420" y="136"/>
                    <a:pt x="1420" y="138"/>
                    <a:pt x="1420" y="139"/>
                  </a:cubicBezTo>
                  <a:close/>
                  <a:moveTo>
                    <a:pt x="1441" y="150"/>
                  </a:moveTo>
                  <a:cubicBezTo>
                    <a:pt x="1440" y="148"/>
                    <a:pt x="1439" y="147"/>
                    <a:pt x="1439" y="146"/>
                  </a:cubicBezTo>
                  <a:cubicBezTo>
                    <a:pt x="1438" y="131"/>
                    <a:pt x="1434" y="116"/>
                    <a:pt x="1432" y="101"/>
                  </a:cubicBezTo>
                  <a:cubicBezTo>
                    <a:pt x="1437" y="115"/>
                    <a:pt x="1439" y="132"/>
                    <a:pt x="1441" y="146"/>
                  </a:cubicBezTo>
                  <a:cubicBezTo>
                    <a:pt x="1441" y="147"/>
                    <a:pt x="1441" y="148"/>
                    <a:pt x="1441" y="150"/>
                  </a:cubicBezTo>
                  <a:close/>
                  <a:moveTo>
                    <a:pt x="1445" y="143"/>
                  </a:moveTo>
                  <a:cubicBezTo>
                    <a:pt x="1445" y="142"/>
                    <a:pt x="1445" y="141"/>
                    <a:pt x="1445" y="140"/>
                  </a:cubicBezTo>
                  <a:cubicBezTo>
                    <a:pt x="1445" y="139"/>
                    <a:pt x="1445" y="139"/>
                    <a:pt x="1445" y="139"/>
                  </a:cubicBezTo>
                  <a:cubicBezTo>
                    <a:pt x="1445" y="140"/>
                    <a:pt x="1445" y="141"/>
                    <a:pt x="1445" y="142"/>
                  </a:cubicBezTo>
                  <a:cubicBezTo>
                    <a:pt x="1445" y="142"/>
                    <a:pt x="1445" y="143"/>
                    <a:pt x="1445" y="143"/>
                  </a:cubicBezTo>
                  <a:close/>
                  <a:moveTo>
                    <a:pt x="1458" y="139"/>
                  </a:moveTo>
                  <a:cubicBezTo>
                    <a:pt x="1457" y="142"/>
                    <a:pt x="1456" y="145"/>
                    <a:pt x="1455" y="147"/>
                  </a:cubicBezTo>
                  <a:cubicBezTo>
                    <a:pt x="1455" y="146"/>
                    <a:pt x="1454" y="145"/>
                    <a:pt x="1454" y="144"/>
                  </a:cubicBezTo>
                  <a:cubicBezTo>
                    <a:pt x="1456" y="132"/>
                    <a:pt x="1456" y="120"/>
                    <a:pt x="1458" y="108"/>
                  </a:cubicBezTo>
                  <a:cubicBezTo>
                    <a:pt x="1460" y="116"/>
                    <a:pt x="1459" y="128"/>
                    <a:pt x="1458" y="139"/>
                  </a:cubicBezTo>
                  <a:close/>
                  <a:moveTo>
                    <a:pt x="1458" y="108"/>
                  </a:moveTo>
                  <a:cubicBezTo>
                    <a:pt x="1459" y="104"/>
                    <a:pt x="1459" y="100"/>
                    <a:pt x="1461" y="97"/>
                  </a:cubicBezTo>
                  <a:cubicBezTo>
                    <a:pt x="1462" y="100"/>
                    <a:pt x="1463" y="103"/>
                    <a:pt x="1464" y="107"/>
                  </a:cubicBezTo>
                  <a:cubicBezTo>
                    <a:pt x="1463" y="112"/>
                    <a:pt x="1463" y="117"/>
                    <a:pt x="1462" y="122"/>
                  </a:cubicBezTo>
                  <a:cubicBezTo>
                    <a:pt x="1460" y="116"/>
                    <a:pt x="1459" y="111"/>
                    <a:pt x="1458" y="108"/>
                  </a:cubicBezTo>
                  <a:close/>
                  <a:moveTo>
                    <a:pt x="1466" y="134"/>
                  </a:moveTo>
                  <a:cubicBezTo>
                    <a:pt x="1465" y="132"/>
                    <a:pt x="1464" y="130"/>
                    <a:pt x="1464" y="128"/>
                  </a:cubicBezTo>
                  <a:cubicBezTo>
                    <a:pt x="1464" y="121"/>
                    <a:pt x="1464" y="114"/>
                    <a:pt x="1464" y="107"/>
                  </a:cubicBezTo>
                  <a:cubicBezTo>
                    <a:pt x="1466" y="113"/>
                    <a:pt x="1467" y="118"/>
                    <a:pt x="1468" y="124"/>
                  </a:cubicBezTo>
                  <a:cubicBezTo>
                    <a:pt x="1467" y="128"/>
                    <a:pt x="1466" y="131"/>
                    <a:pt x="1466" y="134"/>
                  </a:cubicBezTo>
                  <a:close/>
                  <a:moveTo>
                    <a:pt x="1470" y="118"/>
                  </a:moveTo>
                  <a:cubicBezTo>
                    <a:pt x="1468" y="114"/>
                    <a:pt x="1466" y="109"/>
                    <a:pt x="1464" y="105"/>
                  </a:cubicBezTo>
                  <a:cubicBezTo>
                    <a:pt x="1465" y="102"/>
                    <a:pt x="1465" y="99"/>
                    <a:pt x="1466" y="96"/>
                  </a:cubicBezTo>
                  <a:cubicBezTo>
                    <a:pt x="1465" y="99"/>
                    <a:pt x="1465" y="102"/>
                    <a:pt x="1464" y="105"/>
                  </a:cubicBezTo>
                  <a:cubicBezTo>
                    <a:pt x="1463" y="102"/>
                    <a:pt x="1462" y="99"/>
                    <a:pt x="1461" y="96"/>
                  </a:cubicBezTo>
                  <a:cubicBezTo>
                    <a:pt x="1461" y="94"/>
                    <a:pt x="1462" y="91"/>
                    <a:pt x="1463" y="89"/>
                  </a:cubicBezTo>
                  <a:cubicBezTo>
                    <a:pt x="1467" y="95"/>
                    <a:pt x="1470" y="102"/>
                    <a:pt x="1472" y="109"/>
                  </a:cubicBezTo>
                  <a:cubicBezTo>
                    <a:pt x="1472" y="112"/>
                    <a:pt x="1471" y="115"/>
                    <a:pt x="1470" y="118"/>
                  </a:cubicBezTo>
                  <a:close/>
                  <a:moveTo>
                    <a:pt x="1473" y="151"/>
                  </a:moveTo>
                  <a:cubicBezTo>
                    <a:pt x="1473" y="151"/>
                    <a:pt x="1473" y="151"/>
                    <a:pt x="1472" y="151"/>
                  </a:cubicBezTo>
                  <a:cubicBezTo>
                    <a:pt x="1473" y="150"/>
                    <a:pt x="1473" y="148"/>
                    <a:pt x="1473" y="147"/>
                  </a:cubicBezTo>
                  <a:cubicBezTo>
                    <a:pt x="1473" y="147"/>
                    <a:pt x="1473" y="148"/>
                    <a:pt x="1473" y="148"/>
                  </a:cubicBezTo>
                  <a:cubicBezTo>
                    <a:pt x="1473" y="149"/>
                    <a:pt x="1473" y="150"/>
                    <a:pt x="1473" y="151"/>
                  </a:cubicBezTo>
                  <a:close/>
                  <a:moveTo>
                    <a:pt x="1477" y="136"/>
                  </a:moveTo>
                  <a:cubicBezTo>
                    <a:pt x="1476" y="134"/>
                    <a:pt x="1475" y="132"/>
                    <a:pt x="1475" y="130"/>
                  </a:cubicBezTo>
                  <a:cubicBezTo>
                    <a:pt x="1475" y="127"/>
                    <a:pt x="1475" y="123"/>
                    <a:pt x="1476" y="120"/>
                  </a:cubicBezTo>
                  <a:cubicBezTo>
                    <a:pt x="1477" y="123"/>
                    <a:pt x="1478" y="127"/>
                    <a:pt x="1479" y="130"/>
                  </a:cubicBezTo>
                  <a:cubicBezTo>
                    <a:pt x="1478" y="132"/>
                    <a:pt x="1477" y="134"/>
                    <a:pt x="1477" y="136"/>
                  </a:cubicBezTo>
                  <a:close/>
                  <a:moveTo>
                    <a:pt x="1483" y="150"/>
                  </a:moveTo>
                  <a:cubicBezTo>
                    <a:pt x="1483" y="149"/>
                    <a:pt x="1482" y="147"/>
                    <a:pt x="1481" y="146"/>
                  </a:cubicBezTo>
                  <a:cubicBezTo>
                    <a:pt x="1482" y="145"/>
                    <a:pt x="1482" y="145"/>
                    <a:pt x="1482" y="144"/>
                  </a:cubicBezTo>
                  <a:cubicBezTo>
                    <a:pt x="1483" y="146"/>
                    <a:pt x="1483" y="147"/>
                    <a:pt x="1484" y="149"/>
                  </a:cubicBezTo>
                  <a:cubicBezTo>
                    <a:pt x="1484" y="149"/>
                    <a:pt x="1483" y="149"/>
                    <a:pt x="1483" y="150"/>
                  </a:cubicBezTo>
                  <a:close/>
                  <a:moveTo>
                    <a:pt x="1481" y="122"/>
                  </a:moveTo>
                  <a:cubicBezTo>
                    <a:pt x="1480" y="118"/>
                    <a:pt x="1478" y="115"/>
                    <a:pt x="1477" y="111"/>
                  </a:cubicBezTo>
                  <a:cubicBezTo>
                    <a:pt x="1478" y="101"/>
                    <a:pt x="1480" y="90"/>
                    <a:pt x="1484" y="81"/>
                  </a:cubicBezTo>
                  <a:cubicBezTo>
                    <a:pt x="1487" y="86"/>
                    <a:pt x="1490" y="91"/>
                    <a:pt x="1492" y="97"/>
                  </a:cubicBezTo>
                  <a:cubicBezTo>
                    <a:pt x="1490" y="101"/>
                    <a:pt x="1488" y="105"/>
                    <a:pt x="1486" y="109"/>
                  </a:cubicBezTo>
                  <a:cubicBezTo>
                    <a:pt x="1484" y="102"/>
                    <a:pt x="1483" y="96"/>
                    <a:pt x="1481" y="91"/>
                  </a:cubicBezTo>
                  <a:cubicBezTo>
                    <a:pt x="1482" y="99"/>
                    <a:pt x="1483" y="106"/>
                    <a:pt x="1484" y="114"/>
                  </a:cubicBezTo>
                  <a:cubicBezTo>
                    <a:pt x="1483" y="117"/>
                    <a:pt x="1482" y="119"/>
                    <a:pt x="1481" y="122"/>
                  </a:cubicBezTo>
                  <a:close/>
                  <a:moveTo>
                    <a:pt x="1488" y="141"/>
                  </a:moveTo>
                  <a:cubicBezTo>
                    <a:pt x="1487" y="138"/>
                    <a:pt x="1486" y="135"/>
                    <a:pt x="1485" y="131"/>
                  </a:cubicBezTo>
                  <a:cubicBezTo>
                    <a:pt x="1485" y="129"/>
                    <a:pt x="1486" y="127"/>
                    <a:pt x="1486" y="124"/>
                  </a:cubicBezTo>
                  <a:cubicBezTo>
                    <a:pt x="1487" y="130"/>
                    <a:pt x="1488" y="135"/>
                    <a:pt x="1489" y="140"/>
                  </a:cubicBezTo>
                  <a:cubicBezTo>
                    <a:pt x="1489" y="140"/>
                    <a:pt x="1489" y="141"/>
                    <a:pt x="1488" y="141"/>
                  </a:cubicBezTo>
                  <a:close/>
                  <a:moveTo>
                    <a:pt x="1491" y="150"/>
                  </a:moveTo>
                  <a:cubicBezTo>
                    <a:pt x="1491" y="150"/>
                    <a:pt x="1491" y="149"/>
                    <a:pt x="1491" y="149"/>
                  </a:cubicBezTo>
                  <a:cubicBezTo>
                    <a:pt x="1491" y="149"/>
                    <a:pt x="1491" y="149"/>
                    <a:pt x="1491" y="149"/>
                  </a:cubicBezTo>
                  <a:cubicBezTo>
                    <a:pt x="1491" y="149"/>
                    <a:pt x="1491" y="150"/>
                    <a:pt x="1491" y="150"/>
                  </a:cubicBezTo>
                  <a:cubicBezTo>
                    <a:pt x="1491" y="150"/>
                    <a:pt x="1491" y="150"/>
                    <a:pt x="1491" y="150"/>
                  </a:cubicBezTo>
                  <a:close/>
                  <a:moveTo>
                    <a:pt x="1488" y="114"/>
                  </a:moveTo>
                  <a:cubicBezTo>
                    <a:pt x="1489" y="108"/>
                    <a:pt x="1490" y="103"/>
                    <a:pt x="1492" y="97"/>
                  </a:cubicBezTo>
                  <a:cubicBezTo>
                    <a:pt x="1494" y="103"/>
                    <a:pt x="1496" y="110"/>
                    <a:pt x="1498" y="116"/>
                  </a:cubicBezTo>
                  <a:cubicBezTo>
                    <a:pt x="1496" y="121"/>
                    <a:pt x="1495" y="126"/>
                    <a:pt x="1493" y="131"/>
                  </a:cubicBezTo>
                  <a:cubicBezTo>
                    <a:pt x="1491" y="126"/>
                    <a:pt x="1489" y="120"/>
                    <a:pt x="1488" y="114"/>
                  </a:cubicBezTo>
                  <a:close/>
                  <a:moveTo>
                    <a:pt x="1495" y="139"/>
                  </a:moveTo>
                  <a:cubicBezTo>
                    <a:pt x="1497" y="134"/>
                    <a:pt x="1498" y="129"/>
                    <a:pt x="1499" y="124"/>
                  </a:cubicBezTo>
                  <a:cubicBezTo>
                    <a:pt x="1500" y="125"/>
                    <a:pt x="1500" y="126"/>
                    <a:pt x="1500" y="128"/>
                  </a:cubicBezTo>
                  <a:cubicBezTo>
                    <a:pt x="1499" y="132"/>
                    <a:pt x="1497" y="136"/>
                    <a:pt x="1496" y="141"/>
                  </a:cubicBezTo>
                  <a:cubicBezTo>
                    <a:pt x="1496" y="140"/>
                    <a:pt x="1495" y="139"/>
                    <a:pt x="1495" y="139"/>
                  </a:cubicBezTo>
                  <a:close/>
                  <a:moveTo>
                    <a:pt x="1500" y="150"/>
                  </a:moveTo>
                  <a:cubicBezTo>
                    <a:pt x="1500" y="150"/>
                    <a:pt x="1499" y="149"/>
                    <a:pt x="1499" y="149"/>
                  </a:cubicBezTo>
                  <a:cubicBezTo>
                    <a:pt x="1500" y="147"/>
                    <a:pt x="1501" y="144"/>
                    <a:pt x="1502" y="141"/>
                  </a:cubicBezTo>
                  <a:cubicBezTo>
                    <a:pt x="1502" y="143"/>
                    <a:pt x="1503" y="144"/>
                    <a:pt x="1503" y="145"/>
                  </a:cubicBezTo>
                  <a:cubicBezTo>
                    <a:pt x="1502" y="147"/>
                    <a:pt x="1501" y="149"/>
                    <a:pt x="1500" y="150"/>
                  </a:cubicBezTo>
                  <a:close/>
                  <a:moveTo>
                    <a:pt x="1511" y="126"/>
                  </a:moveTo>
                  <a:cubicBezTo>
                    <a:pt x="1510" y="123"/>
                    <a:pt x="1509" y="120"/>
                    <a:pt x="1508" y="117"/>
                  </a:cubicBezTo>
                  <a:cubicBezTo>
                    <a:pt x="1509" y="116"/>
                    <a:pt x="1509" y="115"/>
                    <a:pt x="1509" y="114"/>
                  </a:cubicBezTo>
                  <a:cubicBezTo>
                    <a:pt x="1509" y="116"/>
                    <a:pt x="1510" y="117"/>
                    <a:pt x="1510" y="119"/>
                  </a:cubicBezTo>
                  <a:cubicBezTo>
                    <a:pt x="1511" y="121"/>
                    <a:pt x="1511" y="123"/>
                    <a:pt x="1512" y="125"/>
                  </a:cubicBezTo>
                  <a:cubicBezTo>
                    <a:pt x="1512" y="125"/>
                    <a:pt x="1511" y="125"/>
                    <a:pt x="1511" y="126"/>
                  </a:cubicBezTo>
                  <a:close/>
                  <a:moveTo>
                    <a:pt x="1516" y="142"/>
                  </a:moveTo>
                  <a:cubicBezTo>
                    <a:pt x="1515" y="139"/>
                    <a:pt x="1515" y="136"/>
                    <a:pt x="1514" y="133"/>
                  </a:cubicBezTo>
                  <a:cubicBezTo>
                    <a:pt x="1514" y="133"/>
                    <a:pt x="1514" y="133"/>
                    <a:pt x="1514" y="133"/>
                  </a:cubicBezTo>
                  <a:cubicBezTo>
                    <a:pt x="1515" y="136"/>
                    <a:pt x="1516" y="138"/>
                    <a:pt x="1516" y="141"/>
                  </a:cubicBezTo>
                  <a:cubicBezTo>
                    <a:pt x="1516" y="141"/>
                    <a:pt x="1516" y="141"/>
                    <a:pt x="1516" y="142"/>
                  </a:cubicBezTo>
                  <a:close/>
                  <a:moveTo>
                    <a:pt x="1518" y="148"/>
                  </a:move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lose/>
                  <a:moveTo>
                    <a:pt x="1521" y="141"/>
                  </a:moveTo>
                  <a:cubicBezTo>
                    <a:pt x="1521" y="141"/>
                    <a:pt x="1521" y="141"/>
                    <a:pt x="1521" y="141"/>
                  </a:cubicBezTo>
                  <a:cubicBezTo>
                    <a:pt x="1522" y="137"/>
                    <a:pt x="1523" y="133"/>
                    <a:pt x="1525" y="129"/>
                  </a:cubicBezTo>
                  <a:cubicBezTo>
                    <a:pt x="1525" y="129"/>
                    <a:pt x="1525" y="130"/>
                    <a:pt x="1525" y="131"/>
                  </a:cubicBezTo>
                  <a:cubicBezTo>
                    <a:pt x="1523" y="135"/>
                    <a:pt x="1522" y="138"/>
                    <a:pt x="1521" y="141"/>
                  </a:cubicBezTo>
                  <a:close/>
                  <a:moveTo>
                    <a:pt x="1528" y="122"/>
                  </a:moveTo>
                  <a:cubicBezTo>
                    <a:pt x="1528" y="121"/>
                    <a:pt x="1527" y="120"/>
                    <a:pt x="1527" y="119"/>
                  </a:cubicBezTo>
                  <a:cubicBezTo>
                    <a:pt x="1528" y="117"/>
                    <a:pt x="1528" y="114"/>
                    <a:pt x="1529" y="111"/>
                  </a:cubicBezTo>
                  <a:cubicBezTo>
                    <a:pt x="1530" y="113"/>
                    <a:pt x="1530" y="115"/>
                    <a:pt x="1531" y="117"/>
                  </a:cubicBezTo>
                  <a:cubicBezTo>
                    <a:pt x="1530" y="119"/>
                    <a:pt x="1529" y="121"/>
                    <a:pt x="1528" y="122"/>
                  </a:cubicBezTo>
                  <a:close/>
                  <a:moveTo>
                    <a:pt x="1538" y="147"/>
                  </a:moveTo>
                  <a:cubicBezTo>
                    <a:pt x="1537" y="145"/>
                    <a:pt x="1537" y="144"/>
                    <a:pt x="1536" y="142"/>
                  </a:cubicBezTo>
                  <a:cubicBezTo>
                    <a:pt x="1536" y="140"/>
                    <a:pt x="1535" y="138"/>
                    <a:pt x="1534" y="136"/>
                  </a:cubicBezTo>
                  <a:cubicBezTo>
                    <a:pt x="1534" y="136"/>
                    <a:pt x="1534" y="135"/>
                    <a:pt x="1534" y="134"/>
                  </a:cubicBezTo>
                  <a:cubicBezTo>
                    <a:pt x="1535" y="137"/>
                    <a:pt x="1536" y="139"/>
                    <a:pt x="1536" y="142"/>
                  </a:cubicBezTo>
                  <a:cubicBezTo>
                    <a:pt x="1537" y="143"/>
                    <a:pt x="1537" y="145"/>
                    <a:pt x="1538" y="147"/>
                  </a:cubicBezTo>
                  <a:cubicBezTo>
                    <a:pt x="1538" y="147"/>
                    <a:pt x="1538" y="147"/>
                    <a:pt x="1538" y="147"/>
                  </a:cubicBezTo>
                  <a:close/>
                  <a:moveTo>
                    <a:pt x="1541" y="138"/>
                  </a:moveTo>
                  <a:cubicBezTo>
                    <a:pt x="1539" y="133"/>
                    <a:pt x="1538" y="128"/>
                    <a:pt x="1536" y="124"/>
                  </a:cubicBezTo>
                  <a:cubicBezTo>
                    <a:pt x="1536" y="121"/>
                    <a:pt x="1537" y="118"/>
                    <a:pt x="1537" y="116"/>
                  </a:cubicBezTo>
                  <a:cubicBezTo>
                    <a:pt x="1538" y="123"/>
                    <a:pt x="1540" y="129"/>
                    <a:pt x="1542" y="136"/>
                  </a:cubicBezTo>
                  <a:cubicBezTo>
                    <a:pt x="1542" y="137"/>
                    <a:pt x="1541" y="137"/>
                    <a:pt x="1541" y="138"/>
                  </a:cubicBezTo>
                  <a:close/>
                  <a:moveTo>
                    <a:pt x="1538" y="109"/>
                  </a:moveTo>
                  <a:cubicBezTo>
                    <a:pt x="1539" y="103"/>
                    <a:pt x="1541" y="97"/>
                    <a:pt x="1543" y="91"/>
                  </a:cubicBezTo>
                  <a:cubicBezTo>
                    <a:pt x="1545" y="96"/>
                    <a:pt x="1547" y="101"/>
                    <a:pt x="1549" y="106"/>
                  </a:cubicBezTo>
                  <a:cubicBezTo>
                    <a:pt x="1547" y="112"/>
                    <a:pt x="1546" y="120"/>
                    <a:pt x="1544" y="127"/>
                  </a:cubicBezTo>
                  <a:cubicBezTo>
                    <a:pt x="1542" y="121"/>
                    <a:pt x="1540" y="115"/>
                    <a:pt x="1538" y="109"/>
                  </a:cubicBezTo>
                  <a:close/>
                  <a:moveTo>
                    <a:pt x="1545" y="148"/>
                  </a:move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8"/>
                    <a:pt x="1545" y="148"/>
                  </a:cubicBezTo>
                  <a:close/>
                  <a:moveTo>
                    <a:pt x="1547" y="136"/>
                  </a:moveTo>
                  <a:cubicBezTo>
                    <a:pt x="1549" y="127"/>
                    <a:pt x="1549" y="118"/>
                    <a:pt x="1549" y="109"/>
                  </a:cubicBezTo>
                  <a:cubicBezTo>
                    <a:pt x="1551" y="115"/>
                    <a:pt x="1552" y="121"/>
                    <a:pt x="1553" y="127"/>
                  </a:cubicBezTo>
                  <a:cubicBezTo>
                    <a:pt x="1551" y="131"/>
                    <a:pt x="1550" y="135"/>
                    <a:pt x="1549" y="139"/>
                  </a:cubicBezTo>
                  <a:cubicBezTo>
                    <a:pt x="1548" y="138"/>
                    <a:pt x="1548" y="137"/>
                    <a:pt x="1547" y="136"/>
                  </a:cubicBezTo>
                  <a:close/>
                  <a:moveTo>
                    <a:pt x="1554" y="148"/>
                  </a:moveTo>
                  <a:cubicBezTo>
                    <a:pt x="1553" y="148"/>
                    <a:pt x="1553" y="147"/>
                    <a:pt x="1552" y="146"/>
                  </a:cubicBezTo>
                  <a:cubicBezTo>
                    <a:pt x="1553" y="143"/>
                    <a:pt x="1554" y="140"/>
                    <a:pt x="1554" y="137"/>
                  </a:cubicBezTo>
                  <a:cubicBezTo>
                    <a:pt x="1555" y="140"/>
                    <a:pt x="1555" y="142"/>
                    <a:pt x="1556" y="144"/>
                  </a:cubicBezTo>
                  <a:cubicBezTo>
                    <a:pt x="1555" y="146"/>
                    <a:pt x="1554" y="147"/>
                    <a:pt x="1554" y="148"/>
                  </a:cubicBezTo>
                  <a:close/>
                  <a:moveTo>
                    <a:pt x="1549" y="103"/>
                  </a:moveTo>
                  <a:cubicBezTo>
                    <a:pt x="1549" y="102"/>
                    <a:pt x="1549" y="102"/>
                    <a:pt x="1549" y="102"/>
                  </a:cubicBezTo>
                  <a:cubicBezTo>
                    <a:pt x="1549" y="102"/>
                    <a:pt x="1549" y="103"/>
                    <a:pt x="1549" y="103"/>
                  </a:cubicBezTo>
                  <a:cubicBezTo>
                    <a:pt x="1547" y="98"/>
                    <a:pt x="1545" y="94"/>
                    <a:pt x="1543" y="91"/>
                  </a:cubicBezTo>
                  <a:cubicBezTo>
                    <a:pt x="1544" y="87"/>
                    <a:pt x="1546" y="83"/>
                    <a:pt x="1548" y="80"/>
                  </a:cubicBezTo>
                  <a:cubicBezTo>
                    <a:pt x="1554" y="89"/>
                    <a:pt x="1558" y="99"/>
                    <a:pt x="1560" y="109"/>
                  </a:cubicBezTo>
                  <a:cubicBezTo>
                    <a:pt x="1559" y="112"/>
                    <a:pt x="1557" y="116"/>
                    <a:pt x="1556" y="119"/>
                  </a:cubicBezTo>
                  <a:cubicBezTo>
                    <a:pt x="1554" y="114"/>
                    <a:pt x="1552" y="108"/>
                    <a:pt x="1549" y="103"/>
                  </a:cubicBezTo>
                  <a:close/>
                  <a:moveTo>
                    <a:pt x="1557" y="123"/>
                  </a:moveTo>
                  <a:cubicBezTo>
                    <a:pt x="1558" y="118"/>
                    <a:pt x="1559" y="114"/>
                    <a:pt x="1560" y="110"/>
                  </a:cubicBezTo>
                  <a:cubicBezTo>
                    <a:pt x="1561" y="115"/>
                    <a:pt x="1562" y="120"/>
                    <a:pt x="1563" y="125"/>
                  </a:cubicBezTo>
                  <a:cubicBezTo>
                    <a:pt x="1562" y="128"/>
                    <a:pt x="1561" y="130"/>
                    <a:pt x="1560" y="133"/>
                  </a:cubicBezTo>
                  <a:cubicBezTo>
                    <a:pt x="1559" y="129"/>
                    <a:pt x="1558" y="126"/>
                    <a:pt x="1557" y="123"/>
                  </a:cubicBezTo>
                  <a:close/>
                  <a:moveTo>
                    <a:pt x="1564" y="150"/>
                  </a:moveTo>
                  <a:cubicBezTo>
                    <a:pt x="1564" y="147"/>
                    <a:pt x="1563" y="144"/>
                    <a:pt x="1562" y="140"/>
                  </a:cubicBezTo>
                  <a:cubicBezTo>
                    <a:pt x="1563" y="137"/>
                    <a:pt x="1563" y="135"/>
                    <a:pt x="1563" y="132"/>
                  </a:cubicBezTo>
                  <a:cubicBezTo>
                    <a:pt x="1564" y="137"/>
                    <a:pt x="1564" y="143"/>
                    <a:pt x="1564" y="149"/>
                  </a:cubicBezTo>
                  <a:cubicBezTo>
                    <a:pt x="1564" y="150"/>
                    <a:pt x="1564" y="150"/>
                    <a:pt x="1564" y="150"/>
                  </a:cubicBezTo>
                  <a:close/>
                  <a:moveTo>
                    <a:pt x="1593" y="152"/>
                  </a:moveTo>
                  <a:cubicBezTo>
                    <a:pt x="1593" y="148"/>
                    <a:pt x="1593" y="145"/>
                    <a:pt x="1592" y="141"/>
                  </a:cubicBezTo>
                  <a:cubicBezTo>
                    <a:pt x="1592" y="136"/>
                    <a:pt x="1593" y="131"/>
                    <a:pt x="1593" y="125"/>
                  </a:cubicBezTo>
                  <a:cubicBezTo>
                    <a:pt x="1593" y="134"/>
                    <a:pt x="1593" y="142"/>
                    <a:pt x="1593" y="151"/>
                  </a:cubicBezTo>
                  <a:cubicBezTo>
                    <a:pt x="1593" y="151"/>
                    <a:pt x="1593" y="151"/>
                    <a:pt x="1593" y="152"/>
                  </a:cubicBezTo>
                  <a:close/>
                  <a:moveTo>
                    <a:pt x="1659" y="128"/>
                  </a:moveTo>
                  <a:cubicBezTo>
                    <a:pt x="1659" y="132"/>
                    <a:pt x="1658" y="136"/>
                    <a:pt x="1657" y="140"/>
                  </a:cubicBezTo>
                  <a:cubicBezTo>
                    <a:pt x="1657" y="136"/>
                    <a:pt x="1656" y="133"/>
                    <a:pt x="1655" y="129"/>
                  </a:cubicBezTo>
                  <a:cubicBezTo>
                    <a:pt x="1655" y="126"/>
                    <a:pt x="1655" y="122"/>
                    <a:pt x="1655" y="119"/>
                  </a:cubicBezTo>
                  <a:cubicBezTo>
                    <a:pt x="1655" y="112"/>
                    <a:pt x="1656" y="104"/>
                    <a:pt x="1657" y="97"/>
                  </a:cubicBezTo>
                  <a:cubicBezTo>
                    <a:pt x="1658" y="102"/>
                    <a:pt x="1659" y="107"/>
                    <a:pt x="1659" y="111"/>
                  </a:cubicBezTo>
                  <a:cubicBezTo>
                    <a:pt x="1659" y="122"/>
                    <a:pt x="1659" y="122"/>
                    <a:pt x="1659" y="122"/>
                  </a:cubicBezTo>
                  <a:cubicBezTo>
                    <a:pt x="1659" y="124"/>
                    <a:pt x="1659" y="126"/>
                    <a:pt x="1659" y="128"/>
                  </a:cubicBezTo>
                  <a:close/>
                  <a:moveTo>
                    <a:pt x="1667" y="151"/>
                  </a:moveTo>
                  <a:cubicBezTo>
                    <a:pt x="1667" y="152"/>
                    <a:pt x="1667" y="152"/>
                    <a:pt x="1667" y="152"/>
                  </a:cubicBezTo>
                  <a:cubicBezTo>
                    <a:pt x="1667" y="152"/>
                    <a:pt x="1667" y="152"/>
                    <a:pt x="1667" y="152"/>
                  </a:cubicBezTo>
                  <a:cubicBezTo>
                    <a:pt x="1667" y="136"/>
                    <a:pt x="1667" y="123"/>
                    <a:pt x="1666" y="109"/>
                  </a:cubicBezTo>
                  <a:cubicBezTo>
                    <a:pt x="1666" y="104"/>
                    <a:pt x="1667" y="99"/>
                    <a:pt x="1668" y="93"/>
                  </a:cubicBezTo>
                  <a:cubicBezTo>
                    <a:pt x="1669" y="99"/>
                    <a:pt x="1669" y="105"/>
                    <a:pt x="1669" y="110"/>
                  </a:cubicBezTo>
                  <a:cubicBezTo>
                    <a:pt x="1669" y="124"/>
                    <a:pt x="1667" y="138"/>
                    <a:pt x="1667" y="151"/>
                  </a:cubicBezTo>
                  <a:close/>
                  <a:moveTo>
                    <a:pt x="1694" y="110"/>
                  </a:moveTo>
                  <a:cubicBezTo>
                    <a:pt x="1694" y="109"/>
                    <a:pt x="1694" y="107"/>
                    <a:pt x="1694" y="106"/>
                  </a:cubicBezTo>
                  <a:cubicBezTo>
                    <a:pt x="1694" y="110"/>
                    <a:pt x="1695" y="113"/>
                    <a:pt x="1695" y="116"/>
                  </a:cubicBezTo>
                  <a:cubicBezTo>
                    <a:pt x="1694" y="114"/>
                    <a:pt x="1694" y="112"/>
                    <a:pt x="1694" y="110"/>
                  </a:cubicBezTo>
                  <a:close/>
                  <a:moveTo>
                    <a:pt x="1720" y="120"/>
                  </a:moveTo>
                  <a:cubicBezTo>
                    <a:pt x="1718" y="114"/>
                    <a:pt x="1717" y="109"/>
                    <a:pt x="1717" y="104"/>
                  </a:cubicBezTo>
                  <a:cubicBezTo>
                    <a:pt x="1717" y="102"/>
                    <a:pt x="1717" y="98"/>
                    <a:pt x="1719" y="93"/>
                  </a:cubicBezTo>
                  <a:cubicBezTo>
                    <a:pt x="1720" y="100"/>
                    <a:pt x="1720" y="107"/>
                    <a:pt x="1720" y="112"/>
                  </a:cubicBezTo>
                  <a:cubicBezTo>
                    <a:pt x="1720" y="115"/>
                    <a:pt x="1720" y="117"/>
                    <a:pt x="1720" y="120"/>
                  </a:cubicBezTo>
                  <a:close/>
                  <a:moveTo>
                    <a:pt x="1730" y="145"/>
                  </a:moveTo>
                  <a:cubicBezTo>
                    <a:pt x="1730" y="145"/>
                    <a:pt x="1730" y="145"/>
                    <a:pt x="1730" y="144"/>
                  </a:cubicBezTo>
                  <a:cubicBezTo>
                    <a:pt x="1730" y="139"/>
                    <a:pt x="1730" y="134"/>
                    <a:pt x="1730" y="129"/>
                  </a:cubicBezTo>
                  <a:cubicBezTo>
                    <a:pt x="1731" y="132"/>
                    <a:pt x="1731" y="135"/>
                    <a:pt x="1731" y="137"/>
                  </a:cubicBezTo>
                  <a:cubicBezTo>
                    <a:pt x="1731" y="140"/>
                    <a:pt x="1730" y="142"/>
                    <a:pt x="1730" y="145"/>
                  </a:cubicBezTo>
                  <a:close/>
                  <a:moveTo>
                    <a:pt x="1741" y="145"/>
                  </a:moveTo>
                  <a:cubicBezTo>
                    <a:pt x="1741" y="144"/>
                    <a:pt x="1740" y="143"/>
                    <a:pt x="1740" y="143"/>
                  </a:cubicBezTo>
                  <a:cubicBezTo>
                    <a:pt x="1740" y="142"/>
                    <a:pt x="1740" y="141"/>
                    <a:pt x="1740" y="140"/>
                  </a:cubicBezTo>
                  <a:cubicBezTo>
                    <a:pt x="1741" y="141"/>
                    <a:pt x="1741" y="142"/>
                    <a:pt x="1741" y="143"/>
                  </a:cubicBezTo>
                  <a:cubicBezTo>
                    <a:pt x="1741" y="143"/>
                    <a:pt x="1741" y="144"/>
                    <a:pt x="1741" y="145"/>
                  </a:cubicBezTo>
                  <a:close/>
                  <a:moveTo>
                    <a:pt x="1742" y="138"/>
                  </a:moveTo>
                  <a:cubicBezTo>
                    <a:pt x="1742" y="136"/>
                    <a:pt x="1741" y="135"/>
                    <a:pt x="1741" y="133"/>
                  </a:cubicBezTo>
                  <a:cubicBezTo>
                    <a:pt x="1741" y="129"/>
                    <a:pt x="1741" y="124"/>
                    <a:pt x="1741" y="119"/>
                  </a:cubicBezTo>
                  <a:cubicBezTo>
                    <a:pt x="1742" y="124"/>
                    <a:pt x="1743" y="129"/>
                    <a:pt x="1744" y="134"/>
                  </a:cubicBezTo>
                  <a:cubicBezTo>
                    <a:pt x="1743" y="135"/>
                    <a:pt x="1743" y="137"/>
                    <a:pt x="1742" y="138"/>
                  </a:cubicBezTo>
                  <a:close/>
                  <a:moveTo>
                    <a:pt x="1747" y="154"/>
                  </a:moveTo>
                  <a:cubicBezTo>
                    <a:pt x="1747" y="153"/>
                    <a:pt x="1747" y="152"/>
                    <a:pt x="1747" y="151"/>
                  </a:cubicBezTo>
                  <a:cubicBezTo>
                    <a:pt x="1747" y="151"/>
                    <a:pt x="1747" y="150"/>
                    <a:pt x="1747" y="150"/>
                  </a:cubicBezTo>
                  <a:cubicBezTo>
                    <a:pt x="1747" y="151"/>
                    <a:pt x="1747" y="152"/>
                    <a:pt x="1747" y="154"/>
                  </a:cubicBezTo>
                  <a:cubicBezTo>
                    <a:pt x="1747" y="154"/>
                    <a:pt x="1747" y="154"/>
                    <a:pt x="1747" y="154"/>
                  </a:cubicBezTo>
                  <a:close/>
                  <a:moveTo>
                    <a:pt x="1753" y="139"/>
                  </a:moveTo>
                  <a:cubicBezTo>
                    <a:pt x="1752" y="136"/>
                    <a:pt x="1751" y="134"/>
                    <a:pt x="1751" y="132"/>
                  </a:cubicBezTo>
                  <a:cubicBezTo>
                    <a:pt x="1751" y="129"/>
                    <a:pt x="1752" y="127"/>
                    <a:pt x="1753" y="125"/>
                  </a:cubicBezTo>
                  <a:cubicBezTo>
                    <a:pt x="1753" y="128"/>
                    <a:pt x="1754" y="131"/>
                    <a:pt x="1755" y="134"/>
                  </a:cubicBezTo>
                  <a:cubicBezTo>
                    <a:pt x="1754" y="136"/>
                    <a:pt x="1754" y="137"/>
                    <a:pt x="1753" y="139"/>
                  </a:cubicBezTo>
                  <a:close/>
                  <a:moveTo>
                    <a:pt x="1773" y="114"/>
                  </a:moveTo>
                  <a:cubicBezTo>
                    <a:pt x="1772" y="108"/>
                    <a:pt x="1771" y="101"/>
                    <a:pt x="1771" y="95"/>
                  </a:cubicBezTo>
                  <a:cubicBezTo>
                    <a:pt x="1771" y="88"/>
                    <a:pt x="1772" y="81"/>
                    <a:pt x="1773" y="75"/>
                  </a:cubicBezTo>
                  <a:cubicBezTo>
                    <a:pt x="1775" y="81"/>
                    <a:pt x="1775" y="88"/>
                    <a:pt x="1775" y="95"/>
                  </a:cubicBezTo>
                  <a:cubicBezTo>
                    <a:pt x="1775" y="101"/>
                    <a:pt x="1774" y="108"/>
                    <a:pt x="1773" y="114"/>
                  </a:cubicBezTo>
                  <a:close/>
                  <a:moveTo>
                    <a:pt x="1793" y="139"/>
                  </a:moveTo>
                  <a:cubicBezTo>
                    <a:pt x="1793" y="137"/>
                    <a:pt x="1792" y="136"/>
                    <a:pt x="1792" y="134"/>
                  </a:cubicBezTo>
                  <a:cubicBezTo>
                    <a:pt x="1792" y="131"/>
                    <a:pt x="1793" y="128"/>
                    <a:pt x="1794" y="125"/>
                  </a:cubicBezTo>
                  <a:cubicBezTo>
                    <a:pt x="1794" y="127"/>
                    <a:pt x="1795" y="129"/>
                    <a:pt x="1796" y="132"/>
                  </a:cubicBezTo>
                  <a:cubicBezTo>
                    <a:pt x="1795" y="134"/>
                    <a:pt x="1794" y="136"/>
                    <a:pt x="1793" y="139"/>
                  </a:cubicBezTo>
                  <a:close/>
                  <a:moveTo>
                    <a:pt x="1799" y="154"/>
                  </a:moveTo>
                  <a:cubicBezTo>
                    <a:pt x="1799" y="154"/>
                    <a:pt x="1799" y="154"/>
                    <a:pt x="1799" y="154"/>
                  </a:cubicBezTo>
                  <a:cubicBezTo>
                    <a:pt x="1799" y="152"/>
                    <a:pt x="1799" y="151"/>
                    <a:pt x="1800" y="150"/>
                  </a:cubicBezTo>
                  <a:cubicBezTo>
                    <a:pt x="1800" y="150"/>
                    <a:pt x="1800" y="151"/>
                    <a:pt x="1800" y="151"/>
                  </a:cubicBezTo>
                  <a:cubicBezTo>
                    <a:pt x="1799" y="152"/>
                    <a:pt x="1799" y="153"/>
                    <a:pt x="1799" y="154"/>
                  </a:cubicBezTo>
                  <a:close/>
                  <a:moveTo>
                    <a:pt x="1805" y="119"/>
                  </a:move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19"/>
                  </a:cubicBezTo>
                  <a:close/>
                  <a:moveTo>
                    <a:pt x="1804" y="138"/>
                  </a:moveTo>
                  <a:cubicBezTo>
                    <a:pt x="1804" y="137"/>
                    <a:pt x="1803" y="135"/>
                    <a:pt x="1803" y="134"/>
                  </a:cubicBezTo>
                  <a:cubicBezTo>
                    <a:pt x="1803" y="134"/>
                    <a:pt x="1803" y="134"/>
                    <a:pt x="1803" y="133"/>
                  </a:cubicBezTo>
                  <a:cubicBezTo>
                    <a:pt x="1803" y="134"/>
                    <a:pt x="1804" y="135"/>
                    <a:pt x="1804" y="137"/>
                  </a:cubicBezTo>
                  <a:cubicBezTo>
                    <a:pt x="1804" y="137"/>
                    <a:pt x="1804" y="138"/>
                    <a:pt x="1804" y="138"/>
                  </a:cubicBezTo>
                  <a:close/>
                  <a:moveTo>
                    <a:pt x="1803" y="133"/>
                  </a:moveTo>
                  <a:cubicBezTo>
                    <a:pt x="1803" y="132"/>
                    <a:pt x="1803" y="131"/>
                    <a:pt x="1803" y="130"/>
                  </a:cubicBezTo>
                  <a:cubicBezTo>
                    <a:pt x="1804" y="131"/>
                    <a:pt x="1805" y="133"/>
                    <a:pt x="1805" y="134"/>
                  </a:cubicBezTo>
                  <a:cubicBezTo>
                    <a:pt x="1805" y="135"/>
                    <a:pt x="1805" y="135"/>
                    <a:pt x="1805" y="136"/>
                  </a:cubicBezTo>
                  <a:cubicBezTo>
                    <a:pt x="1804" y="134"/>
                    <a:pt x="1803" y="133"/>
                    <a:pt x="1803" y="133"/>
                  </a:cubicBezTo>
                  <a:close/>
                  <a:moveTo>
                    <a:pt x="1806" y="145"/>
                  </a:moveTo>
                  <a:cubicBezTo>
                    <a:pt x="1805" y="144"/>
                    <a:pt x="1805" y="143"/>
                    <a:pt x="1805" y="143"/>
                  </a:cubicBezTo>
                  <a:cubicBezTo>
                    <a:pt x="1805" y="142"/>
                    <a:pt x="1806" y="141"/>
                    <a:pt x="1806" y="140"/>
                  </a:cubicBezTo>
                  <a:cubicBezTo>
                    <a:pt x="1806" y="140"/>
                    <a:pt x="1806" y="140"/>
                    <a:pt x="1806" y="140"/>
                  </a:cubicBezTo>
                  <a:cubicBezTo>
                    <a:pt x="1806" y="141"/>
                    <a:pt x="1806" y="142"/>
                    <a:pt x="1806" y="143"/>
                  </a:cubicBezTo>
                  <a:cubicBezTo>
                    <a:pt x="1806" y="143"/>
                    <a:pt x="1806" y="144"/>
                    <a:pt x="1806" y="145"/>
                  </a:cubicBezTo>
                  <a:close/>
                  <a:moveTo>
                    <a:pt x="1816" y="134"/>
                  </a:moveTo>
                  <a:cubicBezTo>
                    <a:pt x="1816" y="134"/>
                    <a:pt x="1816" y="133"/>
                    <a:pt x="1816" y="133"/>
                  </a:cubicBezTo>
                  <a:cubicBezTo>
                    <a:pt x="1816" y="132"/>
                    <a:pt x="1816" y="130"/>
                    <a:pt x="1816" y="129"/>
                  </a:cubicBezTo>
                  <a:cubicBezTo>
                    <a:pt x="1816" y="130"/>
                    <a:pt x="1816" y="132"/>
                    <a:pt x="1816" y="134"/>
                  </a:cubicBezTo>
                  <a:close/>
                  <a:moveTo>
                    <a:pt x="1826" y="120"/>
                  </a:moveTo>
                  <a:cubicBezTo>
                    <a:pt x="1826" y="117"/>
                    <a:pt x="1826" y="115"/>
                    <a:pt x="1826" y="112"/>
                  </a:cubicBezTo>
                  <a:cubicBezTo>
                    <a:pt x="1826" y="111"/>
                    <a:pt x="1826" y="111"/>
                    <a:pt x="1826" y="110"/>
                  </a:cubicBezTo>
                  <a:cubicBezTo>
                    <a:pt x="1826" y="113"/>
                    <a:pt x="1826" y="116"/>
                    <a:pt x="1827" y="119"/>
                  </a:cubicBezTo>
                  <a:cubicBezTo>
                    <a:pt x="1827" y="119"/>
                    <a:pt x="1826" y="120"/>
                    <a:pt x="1826" y="120"/>
                  </a:cubicBezTo>
                  <a:close/>
                  <a:moveTo>
                    <a:pt x="1828" y="115"/>
                  </a:moveTo>
                  <a:cubicBezTo>
                    <a:pt x="1827" y="112"/>
                    <a:pt x="1827" y="108"/>
                    <a:pt x="1826" y="104"/>
                  </a:cubicBezTo>
                  <a:cubicBezTo>
                    <a:pt x="1827" y="101"/>
                    <a:pt x="1827" y="97"/>
                    <a:pt x="1828" y="93"/>
                  </a:cubicBezTo>
                  <a:cubicBezTo>
                    <a:pt x="1829" y="98"/>
                    <a:pt x="1829" y="102"/>
                    <a:pt x="1829" y="104"/>
                  </a:cubicBezTo>
                  <a:cubicBezTo>
                    <a:pt x="1829" y="108"/>
                    <a:pt x="1829" y="111"/>
                    <a:pt x="1828" y="115"/>
                  </a:cubicBezTo>
                  <a:close/>
                  <a:moveTo>
                    <a:pt x="1833" y="102"/>
                  </a:moveTo>
                  <a:cubicBezTo>
                    <a:pt x="1833" y="102"/>
                    <a:pt x="1833" y="102"/>
                    <a:pt x="1832" y="103"/>
                  </a:cubicBezTo>
                  <a:cubicBezTo>
                    <a:pt x="1832" y="99"/>
                    <a:pt x="1831" y="94"/>
                    <a:pt x="1828" y="90"/>
                  </a:cubicBezTo>
                  <a:cubicBezTo>
                    <a:pt x="1830" y="84"/>
                    <a:pt x="1832" y="78"/>
                    <a:pt x="1834" y="73"/>
                  </a:cubicBezTo>
                  <a:cubicBezTo>
                    <a:pt x="1833" y="83"/>
                    <a:pt x="1833" y="93"/>
                    <a:pt x="1833" y="102"/>
                  </a:cubicBezTo>
                  <a:close/>
                  <a:moveTo>
                    <a:pt x="1839" y="111"/>
                  </a:moveTo>
                  <a:cubicBezTo>
                    <a:pt x="1839" y="111"/>
                    <a:pt x="1839" y="111"/>
                    <a:pt x="1839" y="111"/>
                  </a:cubicBezTo>
                  <a:cubicBezTo>
                    <a:pt x="1839" y="114"/>
                    <a:pt x="1838" y="116"/>
                    <a:pt x="1838" y="119"/>
                  </a:cubicBezTo>
                  <a:cubicBezTo>
                    <a:pt x="1837" y="114"/>
                    <a:pt x="1837" y="108"/>
                    <a:pt x="1837" y="103"/>
                  </a:cubicBezTo>
                  <a:cubicBezTo>
                    <a:pt x="1837" y="97"/>
                    <a:pt x="1837" y="91"/>
                    <a:pt x="1839" y="85"/>
                  </a:cubicBezTo>
                  <a:cubicBezTo>
                    <a:pt x="1838" y="87"/>
                    <a:pt x="1837" y="89"/>
                    <a:pt x="1836" y="92"/>
                  </a:cubicBezTo>
                  <a:cubicBezTo>
                    <a:pt x="1836" y="87"/>
                    <a:pt x="1836" y="82"/>
                    <a:pt x="1837" y="77"/>
                  </a:cubicBezTo>
                  <a:cubicBezTo>
                    <a:pt x="1839" y="83"/>
                    <a:pt x="1840" y="90"/>
                    <a:pt x="1840" y="96"/>
                  </a:cubicBezTo>
                  <a:cubicBezTo>
                    <a:pt x="1840" y="101"/>
                    <a:pt x="1840" y="106"/>
                    <a:pt x="1839" y="111"/>
                  </a:cubicBezTo>
                  <a:close/>
                  <a:moveTo>
                    <a:pt x="1845" y="127"/>
                  </a:moveTo>
                  <a:cubicBezTo>
                    <a:pt x="1844" y="132"/>
                    <a:pt x="1844" y="134"/>
                    <a:pt x="1844" y="134"/>
                  </a:cubicBezTo>
                  <a:cubicBezTo>
                    <a:pt x="1844" y="129"/>
                    <a:pt x="1845" y="125"/>
                    <a:pt x="1845" y="120"/>
                  </a:cubicBezTo>
                  <a:cubicBezTo>
                    <a:pt x="1845" y="123"/>
                    <a:pt x="1845" y="125"/>
                    <a:pt x="1845" y="127"/>
                  </a:cubicBezTo>
                  <a:close/>
                  <a:moveTo>
                    <a:pt x="1877" y="92"/>
                  </a:moveTo>
                  <a:cubicBezTo>
                    <a:pt x="1877" y="91"/>
                    <a:pt x="1877" y="90"/>
                    <a:pt x="1877" y="89"/>
                  </a:cubicBezTo>
                  <a:cubicBezTo>
                    <a:pt x="1877" y="89"/>
                    <a:pt x="1877" y="90"/>
                    <a:pt x="1877" y="91"/>
                  </a:cubicBezTo>
                  <a:cubicBezTo>
                    <a:pt x="1877" y="91"/>
                    <a:pt x="1877" y="92"/>
                    <a:pt x="1877" y="92"/>
                  </a:cubicBezTo>
                  <a:close/>
                  <a:moveTo>
                    <a:pt x="1880" y="130"/>
                  </a:moveTo>
                  <a:cubicBezTo>
                    <a:pt x="1879" y="132"/>
                    <a:pt x="1879" y="134"/>
                    <a:pt x="1879" y="136"/>
                  </a:cubicBezTo>
                  <a:cubicBezTo>
                    <a:pt x="1878" y="127"/>
                    <a:pt x="1877" y="119"/>
                    <a:pt x="1877" y="110"/>
                  </a:cubicBezTo>
                  <a:cubicBezTo>
                    <a:pt x="1877" y="105"/>
                    <a:pt x="1877" y="99"/>
                    <a:pt x="1878" y="93"/>
                  </a:cubicBezTo>
                  <a:cubicBezTo>
                    <a:pt x="1879" y="99"/>
                    <a:pt x="1880" y="104"/>
                    <a:pt x="1881" y="109"/>
                  </a:cubicBezTo>
                  <a:cubicBezTo>
                    <a:pt x="1880" y="116"/>
                    <a:pt x="1880" y="123"/>
                    <a:pt x="1880" y="130"/>
                  </a:cubicBezTo>
                  <a:close/>
                  <a:moveTo>
                    <a:pt x="1889" y="140"/>
                  </a:moveTo>
                  <a:cubicBezTo>
                    <a:pt x="1889" y="140"/>
                    <a:pt x="1889" y="139"/>
                    <a:pt x="1889" y="139"/>
                  </a:cubicBezTo>
                  <a:cubicBezTo>
                    <a:pt x="1890" y="100"/>
                    <a:pt x="1890" y="100"/>
                    <a:pt x="1890" y="100"/>
                  </a:cubicBezTo>
                  <a:cubicBezTo>
                    <a:pt x="1890" y="106"/>
                    <a:pt x="1891" y="113"/>
                    <a:pt x="1891" y="119"/>
                  </a:cubicBezTo>
                  <a:cubicBezTo>
                    <a:pt x="1891" y="122"/>
                    <a:pt x="1891" y="126"/>
                    <a:pt x="1891" y="129"/>
                  </a:cubicBezTo>
                  <a:cubicBezTo>
                    <a:pt x="1890" y="133"/>
                    <a:pt x="1890" y="136"/>
                    <a:pt x="1889" y="140"/>
                  </a:cubicBezTo>
                  <a:close/>
                  <a:moveTo>
                    <a:pt x="1910" y="105"/>
                  </a:moveTo>
                  <a:cubicBezTo>
                    <a:pt x="1910" y="104"/>
                    <a:pt x="1910" y="102"/>
                    <a:pt x="1910" y="101"/>
                  </a:cubicBezTo>
                  <a:cubicBezTo>
                    <a:pt x="1910" y="102"/>
                    <a:pt x="1911" y="103"/>
                    <a:pt x="1911" y="103"/>
                  </a:cubicBezTo>
                  <a:cubicBezTo>
                    <a:pt x="1910" y="104"/>
                    <a:pt x="1910" y="105"/>
                    <a:pt x="1910" y="105"/>
                  </a:cubicBezTo>
                  <a:close/>
                  <a:moveTo>
                    <a:pt x="1933" y="101"/>
                  </a:moveTo>
                  <a:cubicBezTo>
                    <a:pt x="1932" y="101"/>
                    <a:pt x="1932" y="101"/>
                    <a:pt x="1932" y="100"/>
                  </a:cubicBezTo>
                  <a:cubicBezTo>
                    <a:pt x="1932" y="101"/>
                    <a:pt x="1932" y="101"/>
                    <a:pt x="1933" y="101"/>
                  </a:cubicBezTo>
                  <a:cubicBezTo>
                    <a:pt x="1932" y="111"/>
                    <a:pt x="1931" y="119"/>
                    <a:pt x="1930" y="126"/>
                  </a:cubicBezTo>
                  <a:cubicBezTo>
                    <a:pt x="1929" y="122"/>
                    <a:pt x="1929" y="118"/>
                    <a:pt x="1928" y="114"/>
                  </a:cubicBezTo>
                  <a:cubicBezTo>
                    <a:pt x="1928" y="109"/>
                    <a:pt x="1928" y="103"/>
                    <a:pt x="1928" y="98"/>
                  </a:cubicBezTo>
                  <a:cubicBezTo>
                    <a:pt x="1929" y="92"/>
                    <a:pt x="1931" y="87"/>
                    <a:pt x="1934" y="82"/>
                  </a:cubicBezTo>
                  <a:cubicBezTo>
                    <a:pt x="1933" y="89"/>
                    <a:pt x="1933" y="95"/>
                    <a:pt x="1933" y="101"/>
                  </a:cubicBezTo>
                  <a:close/>
                  <a:moveTo>
                    <a:pt x="1942" y="117"/>
                  </a:moveTo>
                  <a:cubicBezTo>
                    <a:pt x="1942" y="114"/>
                    <a:pt x="1942" y="110"/>
                    <a:pt x="1942" y="106"/>
                  </a:cubicBezTo>
                  <a:cubicBezTo>
                    <a:pt x="1942" y="99"/>
                    <a:pt x="1942" y="90"/>
                    <a:pt x="1945" y="83"/>
                  </a:cubicBezTo>
                  <a:cubicBezTo>
                    <a:pt x="1944" y="95"/>
                    <a:pt x="1943" y="107"/>
                    <a:pt x="1942" y="117"/>
                  </a:cubicBezTo>
                  <a:close/>
                  <a:moveTo>
                    <a:pt x="1948" y="108"/>
                  </a:moveTo>
                  <a:cubicBezTo>
                    <a:pt x="1948" y="106"/>
                    <a:pt x="1948" y="104"/>
                    <a:pt x="1949" y="102"/>
                  </a:cubicBezTo>
                  <a:cubicBezTo>
                    <a:pt x="1949" y="102"/>
                    <a:pt x="1949" y="102"/>
                    <a:pt x="1949" y="103"/>
                  </a:cubicBezTo>
                  <a:cubicBezTo>
                    <a:pt x="1949" y="104"/>
                    <a:pt x="1948" y="106"/>
                    <a:pt x="1948" y="108"/>
                  </a:cubicBezTo>
                  <a:close/>
                  <a:moveTo>
                    <a:pt x="1954" y="111"/>
                  </a:moveTo>
                  <a:cubicBezTo>
                    <a:pt x="1954" y="103"/>
                    <a:pt x="1957" y="95"/>
                    <a:pt x="1959" y="87"/>
                  </a:cubicBezTo>
                  <a:cubicBezTo>
                    <a:pt x="1958" y="95"/>
                    <a:pt x="1956" y="104"/>
                    <a:pt x="1954" y="113"/>
                  </a:cubicBezTo>
                  <a:cubicBezTo>
                    <a:pt x="1954" y="112"/>
                    <a:pt x="1954" y="112"/>
                    <a:pt x="1954" y="111"/>
                  </a:cubicBezTo>
                  <a:close/>
                  <a:moveTo>
                    <a:pt x="1978" y="110"/>
                  </a:moveTo>
                  <a:cubicBezTo>
                    <a:pt x="1978" y="109"/>
                    <a:pt x="1978" y="108"/>
                    <a:pt x="1978" y="107"/>
                  </a:cubicBezTo>
                  <a:cubicBezTo>
                    <a:pt x="1978" y="107"/>
                    <a:pt x="1978" y="108"/>
                    <a:pt x="1978" y="108"/>
                  </a:cubicBezTo>
                  <a:cubicBezTo>
                    <a:pt x="1978" y="109"/>
                    <a:pt x="1978" y="109"/>
                    <a:pt x="1978" y="110"/>
                  </a:cubicBezTo>
                  <a:close/>
                  <a:moveTo>
                    <a:pt x="1989" y="125"/>
                  </a:moveTo>
                  <a:cubicBezTo>
                    <a:pt x="1989" y="123"/>
                    <a:pt x="1989" y="122"/>
                    <a:pt x="1989" y="120"/>
                  </a:cubicBezTo>
                  <a:cubicBezTo>
                    <a:pt x="1989" y="121"/>
                    <a:pt x="1989" y="122"/>
                    <a:pt x="1989" y="123"/>
                  </a:cubicBezTo>
                  <a:cubicBezTo>
                    <a:pt x="1989" y="123"/>
                    <a:pt x="1989" y="124"/>
                    <a:pt x="1989" y="125"/>
                  </a:cubicBezTo>
                  <a:close/>
                  <a:moveTo>
                    <a:pt x="1992" y="115"/>
                  </a:moveTo>
                  <a:cubicBezTo>
                    <a:pt x="1991" y="117"/>
                    <a:pt x="1991" y="118"/>
                    <a:pt x="1990" y="119"/>
                  </a:cubicBezTo>
                  <a:cubicBezTo>
                    <a:pt x="1990" y="118"/>
                    <a:pt x="1989" y="116"/>
                    <a:pt x="1989" y="114"/>
                  </a:cubicBezTo>
                  <a:cubicBezTo>
                    <a:pt x="1989" y="110"/>
                    <a:pt x="1989" y="105"/>
                    <a:pt x="1989" y="100"/>
                  </a:cubicBezTo>
                  <a:cubicBezTo>
                    <a:pt x="1990" y="94"/>
                    <a:pt x="1993" y="89"/>
                    <a:pt x="1996" y="84"/>
                  </a:cubicBezTo>
                  <a:cubicBezTo>
                    <a:pt x="1995" y="93"/>
                    <a:pt x="1993" y="105"/>
                    <a:pt x="1992" y="115"/>
                  </a:cubicBezTo>
                  <a:close/>
                  <a:moveTo>
                    <a:pt x="1999" y="90"/>
                  </a:moveTo>
                  <a:cubicBezTo>
                    <a:pt x="1999" y="88"/>
                    <a:pt x="1998" y="84"/>
                    <a:pt x="1998" y="80"/>
                  </a:cubicBezTo>
                  <a:cubicBezTo>
                    <a:pt x="1998" y="80"/>
                    <a:pt x="1998" y="80"/>
                    <a:pt x="1998" y="80"/>
                  </a:cubicBezTo>
                  <a:cubicBezTo>
                    <a:pt x="1999" y="81"/>
                    <a:pt x="2000" y="83"/>
                    <a:pt x="2000" y="84"/>
                  </a:cubicBezTo>
                  <a:cubicBezTo>
                    <a:pt x="2000" y="88"/>
                    <a:pt x="1999" y="90"/>
                    <a:pt x="1999" y="90"/>
                  </a:cubicBezTo>
                  <a:close/>
                  <a:moveTo>
                    <a:pt x="2001" y="83"/>
                  </a:moveTo>
                  <a:cubicBezTo>
                    <a:pt x="2000" y="81"/>
                    <a:pt x="1999" y="80"/>
                    <a:pt x="1998" y="79"/>
                  </a:cubicBezTo>
                  <a:cubicBezTo>
                    <a:pt x="1999" y="78"/>
                    <a:pt x="2000" y="76"/>
                    <a:pt x="2002" y="75"/>
                  </a:cubicBezTo>
                  <a:cubicBezTo>
                    <a:pt x="2001" y="78"/>
                    <a:pt x="2001" y="81"/>
                    <a:pt x="2001" y="83"/>
                  </a:cubicBezTo>
                  <a:close/>
                  <a:moveTo>
                    <a:pt x="2007" y="104"/>
                  </a:moveTo>
                  <a:cubicBezTo>
                    <a:pt x="2008" y="105"/>
                    <a:pt x="2008" y="107"/>
                    <a:pt x="2008" y="109"/>
                  </a:cubicBezTo>
                  <a:cubicBezTo>
                    <a:pt x="2008" y="111"/>
                    <a:pt x="2007" y="112"/>
                    <a:pt x="2007" y="114"/>
                  </a:cubicBezTo>
                  <a:cubicBezTo>
                    <a:pt x="2007" y="110"/>
                    <a:pt x="2007" y="107"/>
                    <a:pt x="2007" y="104"/>
                  </a:cubicBezTo>
                  <a:close/>
                  <a:moveTo>
                    <a:pt x="2003" y="91"/>
                  </a:moveTo>
                  <a:cubicBezTo>
                    <a:pt x="2003" y="91"/>
                    <a:pt x="2003" y="91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lose/>
                  <a:moveTo>
                    <a:pt x="2003" y="124"/>
                  </a:moveTo>
                  <a:cubicBezTo>
                    <a:pt x="2004" y="114"/>
                    <a:pt x="2004" y="102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ubicBezTo>
                    <a:pt x="2005" y="94"/>
                    <a:pt x="2006" y="98"/>
                    <a:pt x="2007" y="101"/>
                  </a:cubicBezTo>
                  <a:cubicBezTo>
                    <a:pt x="2005" y="120"/>
                    <a:pt x="2005" y="120"/>
                    <a:pt x="2005" y="120"/>
                  </a:cubicBezTo>
                  <a:cubicBezTo>
                    <a:pt x="2004" y="121"/>
                    <a:pt x="2004" y="122"/>
                    <a:pt x="2003" y="124"/>
                  </a:cubicBezTo>
                  <a:close/>
                  <a:moveTo>
                    <a:pt x="2006" y="136"/>
                  </a:moveTo>
                  <a:cubicBezTo>
                    <a:pt x="2006" y="134"/>
                    <a:pt x="2006" y="133"/>
                    <a:pt x="2006" y="131"/>
                  </a:cubicBezTo>
                  <a:cubicBezTo>
                    <a:pt x="2007" y="126"/>
                    <a:pt x="2008" y="121"/>
                    <a:pt x="2009" y="116"/>
                  </a:cubicBezTo>
                  <a:cubicBezTo>
                    <a:pt x="2010" y="118"/>
                    <a:pt x="2010" y="121"/>
                    <a:pt x="2010" y="123"/>
                  </a:cubicBezTo>
                  <a:cubicBezTo>
                    <a:pt x="2010" y="124"/>
                    <a:pt x="2010" y="124"/>
                    <a:pt x="2010" y="124"/>
                  </a:cubicBezTo>
                  <a:cubicBezTo>
                    <a:pt x="2009" y="128"/>
                    <a:pt x="2007" y="132"/>
                    <a:pt x="2006" y="136"/>
                  </a:cubicBezTo>
                  <a:close/>
                  <a:moveTo>
                    <a:pt x="2010" y="141"/>
                  </a:moveTo>
                  <a:cubicBezTo>
                    <a:pt x="2010" y="141"/>
                    <a:pt x="2010" y="141"/>
                    <a:pt x="2010" y="141"/>
                  </a:cubicBezTo>
                  <a:cubicBezTo>
                    <a:pt x="2011" y="139"/>
                    <a:pt x="2011" y="137"/>
                    <a:pt x="2012" y="135"/>
                  </a:cubicBezTo>
                  <a:cubicBezTo>
                    <a:pt x="2012" y="135"/>
                    <a:pt x="2012" y="135"/>
                    <a:pt x="2012" y="135"/>
                  </a:cubicBezTo>
                  <a:cubicBezTo>
                    <a:pt x="2012" y="137"/>
                    <a:pt x="2011" y="139"/>
                    <a:pt x="2010" y="141"/>
                  </a:cubicBezTo>
                  <a:close/>
                  <a:moveTo>
                    <a:pt x="2017" y="119"/>
                  </a:moveTo>
                  <a:cubicBezTo>
                    <a:pt x="2016" y="119"/>
                    <a:pt x="2016" y="118"/>
                    <a:pt x="2016" y="118"/>
                  </a:cubicBezTo>
                  <a:cubicBezTo>
                    <a:pt x="2016" y="116"/>
                    <a:pt x="2017" y="115"/>
                    <a:pt x="2017" y="113"/>
                  </a:cubicBezTo>
                  <a:cubicBezTo>
                    <a:pt x="2017" y="112"/>
                    <a:pt x="2017" y="112"/>
                    <a:pt x="2017" y="111"/>
                  </a:cubicBezTo>
                  <a:cubicBezTo>
                    <a:pt x="2018" y="112"/>
                    <a:pt x="2018" y="113"/>
                    <a:pt x="2018" y="115"/>
                  </a:cubicBezTo>
                  <a:cubicBezTo>
                    <a:pt x="2018" y="116"/>
                    <a:pt x="2017" y="118"/>
                    <a:pt x="2017" y="119"/>
                  </a:cubicBezTo>
                  <a:close/>
                  <a:moveTo>
                    <a:pt x="2024" y="136"/>
                  </a:moveTo>
                  <a:cubicBezTo>
                    <a:pt x="2023" y="135"/>
                    <a:pt x="2023" y="134"/>
                    <a:pt x="2022" y="133"/>
                  </a:cubicBezTo>
                  <a:cubicBezTo>
                    <a:pt x="2022" y="132"/>
                    <a:pt x="2022" y="132"/>
                    <a:pt x="2022" y="131"/>
                  </a:cubicBezTo>
                  <a:cubicBezTo>
                    <a:pt x="2023" y="133"/>
                    <a:pt x="2023" y="134"/>
                    <a:pt x="2024" y="136"/>
                  </a:cubicBezTo>
                  <a:cubicBezTo>
                    <a:pt x="2024" y="136"/>
                    <a:pt x="2024" y="136"/>
                    <a:pt x="2024" y="136"/>
                  </a:cubicBezTo>
                  <a:close/>
                  <a:moveTo>
                    <a:pt x="2038" y="118"/>
                  </a:moveTo>
                  <a:cubicBezTo>
                    <a:pt x="2038" y="118"/>
                    <a:pt x="2038" y="117"/>
                    <a:pt x="2038" y="117"/>
                  </a:cubicBezTo>
                  <a:cubicBezTo>
                    <a:pt x="2038" y="117"/>
                    <a:pt x="2038" y="117"/>
                    <a:pt x="2038" y="117"/>
                  </a:cubicBezTo>
                  <a:cubicBezTo>
                    <a:pt x="2038" y="118"/>
                    <a:pt x="2038" y="118"/>
                    <a:pt x="2038" y="118"/>
                  </a:cubicBezTo>
                  <a:close/>
                  <a:moveTo>
                    <a:pt x="2044" y="105"/>
                  </a:moveTo>
                  <a:cubicBezTo>
                    <a:pt x="2043" y="106"/>
                    <a:pt x="2042" y="107"/>
                    <a:pt x="2042" y="109"/>
                  </a:cubicBezTo>
                  <a:cubicBezTo>
                    <a:pt x="2041" y="107"/>
                    <a:pt x="2041" y="106"/>
                    <a:pt x="2041" y="104"/>
                  </a:cubicBezTo>
                  <a:cubicBezTo>
                    <a:pt x="2042" y="101"/>
                    <a:pt x="2044" y="98"/>
                    <a:pt x="2045" y="94"/>
                  </a:cubicBezTo>
                  <a:cubicBezTo>
                    <a:pt x="2044" y="98"/>
                    <a:pt x="2044" y="101"/>
                    <a:pt x="2044" y="105"/>
                  </a:cubicBezTo>
                  <a:close/>
                  <a:moveTo>
                    <a:pt x="2049" y="138"/>
                  </a:moveTo>
                  <a:cubicBezTo>
                    <a:pt x="2049" y="137"/>
                    <a:pt x="2049" y="136"/>
                    <a:pt x="2048" y="135"/>
                  </a:cubicBezTo>
                  <a:cubicBezTo>
                    <a:pt x="2048" y="133"/>
                    <a:pt x="2048" y="131"/>
                    <a:pt x="2048" y="129"/>
                  </a:cubicBezTo>
                  <a:cubicBezTo>
                    <a:pt x="2049" y="131"/>
                    <a:pt x="2049" y="133"/>
                    <a:pt x="2050" y="134"/>
                  </a:cubicBezTo>
                  <a:cubicBezTo>
                    <a:pt x="2050" y="135"/>
                    <a:pt x="2050" y="137"/>
                    <a:pt x="2049" y="138"/>
                  </a:cubicBezTo>
                  <a:close/>
                  <a:moveTo>
                    <a:pt x="2051" y="123"/>
                  </a:moveTo>
                  <a:cubicBezTo>
                    <a:pt x="2050" y="121"/>
                    <a:pt x="2049" y="118"/>
                    <a:pt x="2049" y="116"/>
                  </a:cubicBezTo>
                  <a:cubicBezTo>
                    <a:pt x="2050" y="112"/>
                    <a:pt x="2051" y="107"/>
                    <a:pt x="2052" y="103"/>
                  </a:cubicBezTo>
                  <a:cubicBezTo>
                    <a:pt x="2052" y="110"/>
                    <a:pt x="2051" y="117"/>
                    <a:pt x="2051" y="123"/>
                  </a:cubicBezTo>
                  <a:close/>
                  <a:moveTo>
                    <a:pt x="2056" y="69"/>
                  </a:moveTo>
                  <a:cubicBezTo>
                    <a:pt x="2058" y="72"/>
                    <a:pt x="2060" y="75"/>
                    <a:pt x="2061" y="79"/>
                  </a:cubicBezTo>
                  <a:cubicBezTo>
                    <a:pt x="2061" y="79"/>
                    <a:pt x="2061" y="79"/>
                    <a:pt x="2061" y="79"/>
                  </a:cubicBezTo>
                  <a:cubicBezTo>
                    <a:pt x="2059" y="76"/>
                    <a:pt x="2058" y="72"/>
                    <a:pt x="2056" y="69"/>
                  </a:cubicBezTo>
                  <a:cubicBezTo>
                    <a:pt x="2056" y="69"/>
                    <a:pt x="2056" y="69"/>
                    <a:pt x="2056" y="69"/>
                  </a:cubicBezTo>
                  <a:close/>
                  <a:moveTo>
                    <a:pt x="2056" y="74"/>
                  </a:moveTo>
                  <a:cubicBezTo>
                    <a:pt x="2057" y="76"/>
                    <a:pt x="2058" y="79"/>
                    <a:pt x="2059" y="81"/>
                  </a:cubicBezTo>
                  <a:cubicBezTo>
                    <a:pt x="2058" y="82"/>
                    <a:pt x="2057" y="83"/>
                    <a:pt x="2056" y="85"/>
                  </a:cubicBezTo>
                  <a:cubicBezTo>
                    <a:pt x="2056" y="81"/>
                    <a:pt x="2056" y="77"/>
                    <a:pt x="2056" y="74"/>
                  </a:cubicBezTo>
                  <a:close/>
                  <a:moveTo>
                    <a:pt x="2057" y="120"/>
                  </a:moveTo>
                  <a:cubicBezTo>
                    <a:pt x="2057" y="115"/>
                    <a:pt x="2057" y="111"/>
                    <a:pt x="2057" y="106"/>
                  </a:cubicBezTo>
                  <a:cubicBezTo>
                    <a:pt x="2058" y="109"/>
                    <a:pt x="2058" y="112"/>
                    <a:pt x="2059" y="114"/>
                  </a:cubicBezTo>
                  <a:cubicBezTo>
                    <a:pt x="2058" y="116"/>
                    <a:pt x="2058" y="118"/>
                    <a:pt x="2057" y="120"/>
                  </a:cubicBezTo>
                  <a:close/>
                  <a:moveTo>
                    <a:pt x="2060" y="109"/>
                  </a:moveTo>
                  <a:cubicBezTo>
                    <a:pt x="2059" y="107"/>
                    <a:pt x="2058" y="104"/>
                    <a:pt x="2057" y="102"/>
                  </a:cubicBezTo>
                  <a:cubicBezTo>
                    <a:pt x="2057" y="99"/>
                    <a:pt x="2057" y="97"/>
                    <a:pt x="2057" y="94"/>
                  </a:cubicBezTo>
                  <a:cubicBezTo>
                    <a:pt x="2058" y="98"/>
                    <a:pt x="2059" y="102"/>
                    <a:pt x="2061" y="107"/>
                  </a:cubicBezTo>
                  <a:cubicBezTo>
                    <a:pt x="2061" y="108"/>
                    <a:pt x="2060" y="108"/>
                    <a:pt x="2060" y="109"/>
                  </a:cubicBezTo>
                  <a:close/>
                  <a:moveTo>
                    <a:pt x="2064" y="96"/>
                  </a:moveTo>
                  <a:cubicBezTo>
                    <a:pt x="2063" y="98"/>
                    <a:pt x="2062" y="101"/>
                    <a:pt x="2062" y="104"/>
                  </a:cubicBezTo>
                  <a:cubicBezTo>
                    <a:pt x="2060" y="100"/>
                    <a:pt x="2058" y="96"/>
                    <a:pt x="2057" y="92"/>
                  </a:cubicBezTo>
                  <a:cubicBezTo>
                    <a:pt x="2057" y="92"/>
                    <a:pt x="2057" y="92"/>
                    <a:pt x="2057" y="92"/>
                  </a:cubicBezTo>
                  <a:cubicBezTo>
                    <a:pt x="2058" y="89"/>
                    <a:pt x="2059" y="86"/>
                    <a:pt x="2061" y="84"/>
                  </a:cubicBezTo>
                  <a:cubicBezTo>
                    <a:pt x="2062" y="87"/>
                    <a:pt x="2063" y="90"/>
                    <a:pt x="2064" y="93"/>
                  </a:cubicBezTo>
                  <a:cubicBezTo>
                    <a:pt x="2064" y="94"/>
                    <a:pt x="2064" y="95"/>
                    <a:pt x="2064" y="96"/>
                  </a:cubicBezTo>
                  <a:close/>
                  <a:moveTo>
                    <a:pt x="2065" y="90"/>
                  </a:moveTo>
                  <a:cubicBezTo>
                    <a:pt x="2064" y="87"/>
                    <a:pt x="2063" y="84"/>
                    <a:pt x="2062" y="82"/>
                  </a:cubicBezTo>
                  <a:cubicBezTo>
                    <a:pt x="2062" y="81"/>
                    <a:pt x="2062" y="81"/>
                    <a:pt x="2062" y="81"/>
                  </a:cubicBezTo>
                  <a:cubicBezTo>
                    <a:pt x="2063" y="83"/>
                    <a:pt x="2064" y="86"/>
                    <a:pt x="2065" y="89"/>
                  </a:cubicBezTo>
                  <a:cubicBezTo>
                    <a:pt x="2065" y="89"/>
                    <a:pt x="2065" y="89"/>
                    <a:pt x="2065" y="90"/>
                  </a:cubicBezTo>
                  <a:close/>
                  <a:moveTo>
                    <a:pt x="2063" y="79"/>
                  </a:moveTo>
                  <a:cubicBezTo>
                    <a:pt x="2064" y="78"/>
                    <a:pt x="2065" y="77"/>
                    <a:pt x="2065" y="77"/>
                  </a:cubicBezTo>
                  <a:cubicBezTo>
                    <a:pt x="2066" y="78"/>
                    <a:pt x="2066" y="79"/>
                    <a:pt x="2067" y="80"/>
                  </a:cubicBezTo>
                  <a:cubicBezTo>
                    <a:pt x="2067" y="82"/>
                    <a:pt x="2066" y="84"/>
                    <a:pt x="2066" y="85"/>
                  </a:cubicBezTo>
                  <a:cubicBezTo>
                    <a:pt x="2065" y="83"/>
                    <a:pt x="2064" y="81"/>
                    <a:pt x="2063" y="79"/>
                  </a:cubicBezTo>
                  <a:close/>
                  <a:moveTo>
                    <a:pt x="2066" y="116"/>
                  </a:moveTo>
                  <a:cubicBezTo>
                    <a:pt x="2066" y="111"/>
                    <a:pt x="2067" y="106"/>
                    <a:pt x="2067" y="102"/>
                  </a:cubicBezTo>
                  <a:cubicBezTo>
                    <a:pt x="2068" y="105"/>
                    <a:pt x="2069" y="108"/>
                    <a:pt x="2070" y="111"/>
                  </a:cubicBezTo>
                  <a:cubicBezTo>
                    <a:pt x="2069" y="113"/>
                    <a:pt x="2068" y="116"/>
                    <a:pt x="2067" y="118"/>
                  </a:cubicBezTo>
                  <a:cubicBezTo>
                    <a:pt x="2067" y="117"/>
                    <a:pt x="2066" y="117"/>
                    <a:pt x="2066" y="116"/>
                  </a:cubicBezTo>
                  <a:close/>
                  <a:moveTo>
                    <a:pt x="2071" y="130"/>
                  </a:moveTo>
                  <a:cubicBezTo>
                    <a:pt x="2070" y="128"/>
                    <a:pt x="2070" y="127"/>
                    <a:pt x="2069" y="125"/>
                  </a:cubicBezTo>
                  <a:cubicBezTo>
                    <a:pt x="2070" y="123"/>
                    <a:pt x="2070" y="122"/>
                    <a:pt x="2071" y="120"/>
                  </a:cubicBezTo>
                  <a:cubicBezTo>
                    <a:pt x="2071" y="122"/>
                    <a:pt x="2071" y="124"/>
                    <a:pt x="2071" y="127"/>
                  </a:cubicBezTo>
                  <a:cubicBezTo>
                    <a:pt x="2071" y="128"/>
                    <a:pt x="2071" y="129"/>
                    <a:pt x="2071" y="130"/>
                  </a:cubicBezTo>
                  <a:close/>
                  <a:moveTo>
                    <a:pt x="2073" y="105"/>
                  </a:moveTo>
                  <a:cubicBezTo>
                    <a:pt x="2071" y="100"/>
                    <a:pt x="2070" y="95"/>
                    <a:pt x="2068" y="91"/>
                  </a:cubicBezTo>
                  <a:cubicBezTo>
                    <a:pt x="2068" y="89"/>
                    <a:pt x="2068" y="87"/>
                    <a:pt x="2069" y="85"/>
                  </a:cubicBezTo>
                  <a:cubicBezTo>
                    <a:pt x="2071" y="91"/>
                    <a:pt x="2072" y="97"/>
                    <a:pt x="2074" y="103"/>
                  </a:cubicBezTo>
                  <a:cubicBezTo>
                    <a:pt x="2073" y="104"/>
                    <a:pt x="2073" y="105"/>
                    <a:pt x="2073" y="105"/>
                  </a:cubicBezTo>
                  <a:close/>
                  <a:moveTo>
                    <a:pt x="2074" y="111"/>
                  </a:moveTo>
                  <a:cubicBezTo>
                    <a:pt x="2074" y="110"/>
                    <a:pt x="2074" y="110"/>
                    <a:pt x="2074" y="109"/>
                  </a:cubicBezTo>
                  <a:cubicBezTo>
                    <a:pt x="2074" y="109"/>
                    <a:pt x="2074" y="108"/>
                    <a:pt x="2075" y="107"/>
                  </a:cubicBezTo>
                  <a:cubicBezTo>
                    <a:pt x="2075" y="108"/>
                    <a:pt x="2075" y="109"/>
                    <a:pt x="2075" y="109"/>
                  </a:cubicBezTo>
                  <a:cubicBezTo>
                    <a:pt x="2075" y="110"/>
                    <a:pt x="2075" y="110"/>
                    <a:pt x="2074" y="111"/>
                  </a:cubicBezTo>
                  <a:close/>
                  <a:moveTo>
                    <a:pt x="2085" y="94"/>
                  </a:moveTo>
                  <a:cubicBezTo>
                    <a:pt x="2085" y="95"/>
                    <a:pt x="2085" y="95"/>
                    <a:pt x="2086" y="96"/>
                  </a:cubicBezTo>
                  <a:cubicBezTo>
                    <a:pt x="2085" y="97"/>
                    <a:pt x="2085" y="97"/>
                    <a:pt x="2085" y="98"/>
                  </a:cubicBezTo>
                  <a:cubicBezTo>
                    <a:pt x="2085" y="96"/>
                    <a:pt x="2085" y="95"/>
                    <a:pt x="2085" y="94"/>
                  </a:cubicBezTo>
                  <a:close/>
                  <a:moveTo>
                    <a:pt x="2087" y="109"/>
                  </a:moveTo>
                  <a:cubicBezTo>
                    <a:pt x="2086" y="106"/>
                    <a:pt x="2086" y="104"/>
                    <a:pt x="2085" y="102"/>
                  </a:cubicBezTo>
                  <a:cubicBezTo>
                    <a:pt x="2085" y="101"/>
                    <a:pt x="2085" y="99"/>
                    <a:pt x="2085" y="98"/>
                  </a:cubicBezTo>
                  <a:cubicBezTo>
                    <a:pt x="2085" y="98"/>
                    <a:pt x="2086" y="97"/>
                    <a:pt x="2086" y="97"/>
                  </a:cubicBezTo>
                  <a:cubicBezTo>
                    <a:pt x="2086" y="98"/>
                    <a:pt x="2087" y="100"/>
                    <a:pt x="2087" y="102"/>
                  </a:cubicBezTo>
                  <a:cubicBezTo>
                    <a:pt x="2087" y="104"/>
                    <a:pt x="2087" y="107"/>
                    <a:pt x="2087" y="109"/>
                  </a:cubicBezTo>
                  <a:close/>
                  <a:moveTo>
                    <a:pt x="2089" y="84"/>
                  </a:moveTo>
                  <a:cubicBezTo>
                    <a:pt x="2089" y="89"/>
                    <a:pt x="2088" y="94"/>
                    <a:pt x="2088" y="98"/>
                  </a:cubicBezTo>
                  <a:cubicBezTo>
                    <a:pt x="2087" y="97"/>
                    <a:pt x="2087" y="96"/>
                    <a:pt x="2086" y="95"/>
                  </a:cubicBezTo>
                  <a:cubicBezTo>
                    <a:pt x="2087" y="94"/>
                    <a:pt x="2088" y="92"/>
                    <a:pt x="2088" y="91"/>
                  </a:cubicBezTo>
                  <a:cubicBezTo>
                    <a:pt x="2088" y="92"/>
                    <a:pt x="2087" y="94"/>
                    <a:pt x="2086" y="95"/>
                  </a:cubicBezTo>
                  <a:cubicBezTo>
                    <a:pt x="2086" y="94"/>
                    <a:pt x="2085" y="93"/>
                    <a:pt x="2085" y="92"/>
                  </a:cubicBezTo>
                  <a:cubicBezTo>
                    <a:pt x="2085" y="90"/>
                    <a:pt x="2085" y="88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4" y="75"/>
                    <a:pt x="2084" y="65"/>
                    <a:pt x="2084" y="56"/>
                  </a:cubicBezTo>
                  <a:cubicBezTo>
                    <a:pt x="2087" y="58"/>
                    <a:pt x="2089" y="61"/>
                    <a:pt x="2092" y="63"/>
                  </a:cubicBezTo>
                  <a:cubicBezTo>
                    <a:pt x="2091" y="69"/>
                    <a:pt x="2090" y="76"/>
                    <a:pt x="2089" y="84"/>
                  </a:cubicBezTo>
                  <a:cubicBezTo>
                    <a:pt x="2089" y="82"/>
                    <a:pt x="2088" y="81"/>
                    <a:pt x="2088" y="79"/>
                  </a:cubicBezTo>
                  <a:cubicBezTo>
                    <a:pt x="2088" y="81"/>
                    <a:pt x="2089" y="83"/>
                    <a:pt x="2089" y="84"/>
                  </a:cubicBezTo>
                  <a:close/>
                  <a:moveTo>
                    <a:pt x="2090" y="139"/>
                  </a:moveTo>
                  <a:cubicBezTo>
                    <a:pt x="2090" y="134"/>
                    <a:pt x="2090" y="128"/>
                    <a:pt x="2090" y="121"/>
                  </a:cubicBezTo>
                  <a:cubicBezTo>
                    <a:pt x="2090" y="125"/>
                    <a:pt x="2090" y="129"/>
                    <a:pt x="2091" y="133"/>
                  </a:cubicBezTo>
                  <a:cubicBezTo>
                    <a:pt x="2091" y="135"/>
                    <a:pt x="2091" y="137"/>
                    <a:pt x="2090" y="139"/>
                  </a:cubicBezTo>
                  <a:close/>
                  <a:moveTo>
                    <a:pt x="2090" y="104"/>
                  </a:moveTo>
                  <a:cubicBezTo>
                    <a:pt x="2090" y="102"/>
                    <a:pt x="2090" y="99"/>
                    <a:pt x="2091" y="96"/>
                  </a:cubicBezTo>
                  <a:cubicBezTo>
                    <a:pt x="2091" y="100"/>
                    <a:pt x="2091" y="104"/>
                    <a:pt x="2091" y="107"/>
                  </a:cubicBezTo>
                  <a:cubicBezTo>
                    <a:pt x="2091" y="106"/>
                    <a:pt x="2091" y="105"/>
                    <a:pt x="2090" y="104"/>
                  </a:cubicBezTo>
                  <a:close/>
                  <a:moveTo>
                    <a:pt x="2102" y="85"/>
                  </a:moveTo>
                  <a:cubicBezTo>
                    <a:pt x="2101" y="90"/>
                    <a:pt x="2100" y="96"/>
                    <a:pt x="2099" y="103"/>
                  </a:cubicBezTo>
                  <a:cubicBezTo>
                    <a:pt x="2099" y="101"/>
                    <a:pt x="2099" y="100"/>
                    <a:pt x="2098" y="99"/>
                  </a:cubicBezTo>
                  <a:cubicBezTo>
                    <a:pt x="2098" y="96"/>
                    <a:pt x="2097" y="93"/>
                    <a:pt x="2096" y="90"/>
                  </a:cubicBezTo>
                  <a:cubicBezTo>
                    <a:pt x="2097" y="93"/>
                    <a:pt x="2097" y="96"/>
                    <a:pt x="2097" y="99"/>
                  </a:cubicBezTo>
                  <a:cubicBezTo>
                    <a:pt x="2097" y="104"/>
                    <a:pt x="2096" y="112"/>
                    <a:pt x="2096" y="120"/>
                  </a:cubicBezTo>
                  <a:cubicBezTo>
                    <a:pt x="2095" y="110"/>
                    <a:pt x="2093" y="100"/>
                    <a:pt x="2091" y="91"/>
                  </a:cubicBezTo>
                  <a:cubicBezTo>
                    <a:pt x="2092" y="81"/>
                    <a:pt x="2093" y="72"/>
                    <a:pt x="2093" y="65"/>
                  </a:cubicBezTo>
                  <a:cubicBezTo>
                    <a:pt x="2097" y="69"/>
                    <a:pt x="2100" y="74"/>
                    <a:pt x="2102" y="79"/>
                  </a:cubicBezTo>
                  <a:cubicBezTo>
                    <a:pt x="2102" y="81"/>
                    <a:pt x="2102" y="83"/>
                    <a:pt x="2102" y="85"/>
                  </a:cubicBezTo>
                  <a:close/>
                  <a:moveTo>
                    <a:pt x="2102" y="75"/>
                  </a:moveTo>
                  <a:cubicBezTo>
                    <a:pt x="2102" y="75"/>
                    <a:pt x="2102" y="75"/>
                    <a:pt x="2102" y="75"/>
                  </a:cubicBezTo>
                  <a:cubicBezTo>
                    <a:pt x="2102" y="73"/>
                    <a:pt x="2102" y="72"/>
                    <a:pt x="2101" y="70"/>
                  </a:cubicBezTo>
                  <a:cubicBezTo>
                    <a:pt x="2101" y="70"/>
                    <a:pt x="2102" y="72"/>
                    <a:pt x="2102" y="75"/>
                  </a:cubicBezTo>
                  <a:cubicBezTo>
                    <a:pt x="2099" y="71"/>
                    <a:pt x="2097" y="67"/>
                    <a:pt x="2093" y="64"/>
                  </a:cubicBezTo>
                  <a:cubicBezTo>
                    <a:pt x="2094" y="60"/>
                    <a:pt x="2094" y="57"/>
                    <a:pt x="2095" y="54"/>
                  </a:cubicBezTo>
                  <a:cubicBezTo>
                    <a:pt x="2098" y="58"/>
                    <a:pt x="2101" y="62"/>
                    <a:pt x="2103" y="65"/>
                  </a:cubicBezTo>
                  <a:cubicBezTo>
                    <a:pt x="2103" y="68"/>
                    <a:pt x="2102" y="71"/>
                    <a:pt x="2102" y="75"/>
                  </a:cubicBezTo>
                  <a:close/>
                  <a:moveTo>
                    <a:pt x="2106" y="117"/>
                  </a:moveTo>
                  <a:cubicBezTo>
                    <a:pt x="2105" y="120"/>
                    <a:pt x="2104" y="122"/>
                    <a:pt x="2104" y="125"/>
                  </a:cubicBezTo>
                  <a:cubicBezTo>
                    <a:pt x="2104" y="124"/>
                    <a:pt x="2104" y="123"/>
                    <a:pt x="2104" y="122"/>
                  </a:cubicBezTo>
                  <a:cubicBezTo>
                    <a:pt x="2104" y="110"/>
                    <a:pt x="2104" y="98"/>
                    <a:pt x="2105" y="87"/>
                  </a:cubicBezTo>
                  <a:cubicBezTo>
                    <a:pt x="2106" y="92"/>
                    <a:pt x="2107" y="98"/>
                    <a:pt x="2108" y="103"/>
                  </a:cubicBezTo>
                  <a:cubicBezTo>
                    <a:pt x="2107" y="108"/>
                    <a:pt x="2106" y="112"/>
                    <a:pt x="2106" y="117"/>
                  </a:cubicBezTo>
                  <a:close/>
                  <a:moveTo>
                    <a:pt x="2109" y="89"/>
                  </a:moveTo>
                  <a:cubicBezTo>
                    <a:pt x="2108" y="86"/>
                    <a:pt x="2106" y="83"/>
                    <a:pt x="2105" y="80"/>
                  </a:cubicBezTo>
                  <a:cubicBezTo>
                    <a:pt x="2105" y="76"/>
                    <a:pt x="2105" y="72"/>
                    <a:pt x="2105" y="68"/>
                  </a:cubicBezTo>
                  <a:cubicBezTo>
                    <a:pt x="2107" y="71"/>
                    <a:pt x="2109" y="74"/>
                    <a:pt x="2111" y="78"/>
                  </a:cubicBezTo>
                  <a:cubicBezTo>
                    <a:pt x="2110" y="81"/>
                    <a:pt x="2110" y="85"/>
                    <a:pt x="2109" y="89"/>
                  </a:cubicBezTo>
                  <a:close/>
                  <a:moveTo>
                    <a:pt x="2114" y="96"/>
                  </a:moveTo>
                  <a:cubicBezTo>
                    <a:pt x="2114" y="97"/>
                    <a:pt x="2113" y="98"/>
                    <a:pt x="2113" y="99"/>
                  </a:cubicBezTo>
                  <a:cubicBezTo>
                    <a:pt x="2112" y="98"/>
                    <a:pt x="2112" y="97"/>
                    <a:pt x="2112" y="96"/>
                  </a:cubicBezTo>
                  <a:cubicBezTo>
                    <a:pt x="2112" y="91"/>
                    <a:pt x="2112" y="86"/>
                    <a:pt x="2112" y="80"/>
                  </a:cubicBezTo>
                  <a:cubicBezTo>
                    <a:pt x="2113" y="83"/>
                    <a:pt x="2114" y="86"/>
                    <a:pt x="2115" y="88"/>
                  </a:cubicBezTo>
                  <a:cubicBezTo>
                    <a:pt x="2115" y="91"/>
                    <a:pt x="2115" y="93"/>
                    <a:pt x="2114" y="96"/>
                  </a:cubicBezTo>
                  <a:close/>
                  <a:moveTo>
                    <a:pt x="2136" y="105"/>
                  </a:moveTo>
                  <a:cubicBezTo>
                    <a:pt x="2135" y="103"/>
                    <a:pt x="2135" y="102"/>
                    <a:pt x="2134" y="101"/>
                  </a:cubicBezTo>
                  <a:cubicBezTo>
                    <a:pt x="2136" y="96"/>
                    <a:pt x="2137" y="92"/>
                    <a:pt x="2138" y="89"/>
                  </a:cubicBezTo>
                  <a:cubicBezTo>
                    <a:pt x="2138" y="89"/>
                    <a:pt x="2139" y="89"/>
                    <a:pt x="2139" y="90"/>
                  </a:cubicBezTo>
                  <a:cubicBezTo>
                    <a:pt x="2138" y="95"/>
                    <a:pt x="2137" y="100"/>
                    <a:pt x="2136" y="105"/>
                  </a:cubicBezTo>
                  <a:close/>
                  <a:moveTo>
                    <a:pt x="2152" y="81"/>
                  </a:moveTo>
                  <a:cubicBezTo>
                    <a:pt x="2152" y="81"/>
                    <a:pt x="2153" y="81"/>
                    <a:pt x="2153" y="81"/>
                  </a:cubicBezTo>
                  <a:cubicBezTo>
                    <a:pt x="2152" y="81"/>
                    <a:pt x="2152" y="81"/>
                    <a:pt x="2152" y="81"/>
                  </a:cubicBezTo>
                  <a:cubicBezTo>
                    <a:pt x="2152" y="81"/>
                    <a:pt x="2152" y="81"/>
                    <a:pt x="2152" y="81"/>
                  </a:cubicBezTo>
                  <a:close/>
                  <a:moveTo>
                    <a:pt x="2152" y="88"/>
                  </a:moveTo>
                  <a:cubicBezTo>
                    <a:pt x="2152" y="89"/>
                    <a:pt x="2152" y="89"/>
                    <a:pt x="2152" y="89"/>
                  </a:cubicBezTo>
                  <a:cubicBezTo>
                    <a:pt x="2152" y="90"/>
                    <a:pt x="2152" y="91"/>
                    <a:pt x="2152" y="91"/>
                  </a:cubicBezTo>
                  <a:cubicBezTo>
                    <a:pt x="2152" y="90"/>
                    <a:pt x="2152" y="89"/>
                    <a:pt x="2152" y="88"/>
                  </a:cubicBezTo>
                  <a:close/>
                  <a:moveTo>
                    <a:pt x="2143" y="122"/>
                  </a:moveTo>
                  <a:cubicBezTo>
                    <a:pt x="2143" y="122"/>
                    <a:pt x="2143" y="123"/>
                    <a:pt x="2143" y="123"/>
                  </a:cubicBezTo>
                  <a:cubicBezTo>
                    <a:pt x="2143" y="123"/>
                    <a:pt x="2143" y="123"/>
                    <a:pt x="2143" y="123"/>
                  </a:cubicBezTo>
                  <a:cubicBezTo>
                    <a:pt x="2143" y="123"/>
                    <a:pt x="2143" y="122"/>
                    <a:pt x="2143" y="122"/>
                  </a:cubicBezTo>
                  <a:cubicBezTo>
                    <a:pt x="2143" y="120"/>
                    <a:pt x="2144" y="118"/>
                    <a:pt x="2144" y="115"/>
                  </a:cubicBezTo>
                  <a:cubicBezTo>
                    <a:pt x="2144" y="115"/>
                    <a:pt x="2144" y="115"/>
                    <a:pt x="2144" y="115"/>
                  </a:cubicBezTo>
                  <a:cubicBezTo>
                    <a:pt x="2144" y="116"/>
                    <a:pt x="2144" y="117"/>
                    <a:pt x="2144" y="118"/>
                  </a:cubicBezTo>
                  <a:cubicBezTo>
                    <a:pt x="2144" y="119"/>
                    <a:pt x="2143" y="121"/>
                    <a:pt x="2143" y="122"/>
                  </a:cubicBezTo>
                  <a:close/>
                  <a:moveTo>
                    <a:pt x="2145" y="70"/>
                  </a:moveTo>
                  <a:cubicBezTo>
                    <a:pt x="2148" y="73"/>
                    <a:pt x="2150" y="76"/>
                    <a:pt x="2151" y="79"/>
                  </a:cubicBezTo>
                  <a:cubicBezTo>
                    <a:pt x="2151" y="81"/>
                    <a:pt x="2151" y="82"/>
                    <a:pt x="2150" y="84"/>
                  </a:cubicBezTo>
                  <a:cubicBezTo>
                    <a:pt x="2150" y="84"/>
                    <a:pt x="2150" y="84"/>
                    <a:pt x="2150" y="84"/>
                  </a:cubicBezTo>
                  <a:cubicBezTo>
                    <a:pt x="2150" y="82"/>
                    <a:pt x="2149" y="81"/>
                    <a:pt x="2148" y="79"/>
                  </a:cubicBezTo>
                  <a:cubicBezTo>
                    <a:pt x="2149" y="81"/>
                    <a:pt x="2149" y="83"/>
                    <a:pt x="2150" y="84"/>
                  </a:cubicBezTo>
                  <a:cubicBezTo>
                    <a:pt x="2149" y="87"/>
                    <a:pt x="2147" y="90"/>
                    <a:pt x="2145" y="93"/>
                  </a:cubicBezTo>
                  <a:cubicBezTo>
                    <a:pt x="2146" y="85"/>
                    <a:pt x="2146" y="77"/>
                    <a:pt x="2145" y="70"/>
                  </a:cubicBezTo>
                  <a:close/>
                  <a:moveTo>
                    <a:pt x="2148" y="98"/>
                  </a:moveTo>
                  <a:cubicBezTo>
                    <a:pt x="2148" y="98"/>
                    <a:pt x="2148" y="97"/>
                    <a:pt x="2147" y="96"/>
                  </a:cubicBezTo>
                  <a:cubicBezTo>
                    <a:pt x="2148" y="97"/>
                    <a:pt x="2148" y="98"/>
                    <a:pt x="2148" y="98"/>
                  </a:cubicBezTo>
                  <a:cubicBezTo>
                    <a:pt x="2148" y="99"/>
                    <a:pt x="2148" y="100"/>
                    <a:pt x="2147" y="100"/>
                  </a:cubicBezTo>
                  <a:cubicBezTo>
                    <a:pt x="2147" y="99"/>
                    <a:pt x="2147" y="98"/>
                    <a:pt x="2146" y="97"/>
                  </a:cubicBezTo>
                  <a:cubicBezTo>
                    <a:pt x="2147" y="95"/>
                    <a:pt x="2148" y="93"/>
                    <a:pt x="2149" y="90"/>
                  </a:cubicBezTo>
                  <a:cubicBezTo>
                    <a:pt x="2149" y="93"/>
                    <a:pt x="2148" y="96"/>
                    <a:pt x="2148" y="98"/>
                  </a:cubicBezTo>
                  <a:close/>
                  <a:moveTo>
                    <a:pt x="2155" y="100"/>
                  </a:moveTo>
                  <a:cubicBezTo>
                    <a:pt x="2153" y="104"/>
                    <a:pt x="2152" y="107"/>
                    <a:pt x="2150" y="110"/>
                  </a:cubicBezTo>
                  <a:cubicBezTo>
                    <a:pt x="2150" y="110"/>
                    <a:pt x="2150" y="109"/>
                    <a:pt x="2150" y="109"/>
                  </a:cubicBezTo>
                  <a:cubicBezTo>
                    <a:pt x="2150" y="106"/>
                    <a:pt x="2151" y="102"/>
                    <a:pt x="2151" y="99"/>
                  </a:cubicBezTo>
                  <a:cubicBezTo>
                    <a:pt x="2152" y="95"/>
                    <a:pt x="2152" y="92"/>
                    <a:pt x="2152" y="90"/>
                  </a:cubicBezTo>
                  <a:cubicBezTo>
                    <a:pt x="2153" y="93"/>
                    <a:pt x="2154" y="96"/>
                    <a:pt x="2155" y="100"/>
                  </a:cubicBezTo>
                  <a:cubicBezTo>
                    <a:pt x="2155" y="100"/>
                    <a:pt x="2155" y="100"/>
                    <a:pt x="2155" y="100"/>
                  </a:cubicBezTo>
                  <a:close/>
                  <a:moveTo>
                    <a:pt x="2155" y="97"/>
                  </a:moveTo>
                  <a:cubicBezTo>
                    <a:pt x="2154" y="95"/>
                    <a:pt x="2153" y="92"/>
                    <a:pt x="2152" y="89"/>
                  </a:cubicBezTo>
                  <a:cubicBezTo>
                    <a:pt x="2152" y="89"/>
                    <a:pt x="2152" y="89"/>
                    <a:pt x="2152" y="88"/>
                  </a:cubicBezTo>
                  <a:cubicBezTo>
                    <a:pt x="2152" y="89"/>
                    <a:pt x="2152" y="89"/>
                    <a:pt x="2152" y="89"/>
                  </a:cubicBezTo>
                  <a:cubicBezTo>
                    <a:pt x="2152" y="89"/>
                    <a:pt x="2152" y="88"/>
                    <a:pt x="2152" y="88"/>
                  </a:cubicBezTo>
                  <a:cubicBezTo>
                    <a:pt x="2152" y="87"/>
                    <a:pt x="2152" y="86"/>
                    <a:pt x="2152" y="85"/>
                  </a:cubicBezTo>
                  <a:cubicBezTo>
                    <a:pt x="2152" y="84"/>
                    <a:pt x="2153" y="83"/>
                    <a:pt x="2153" y="82"/>
                  </a:cubicBezTo>
                  <a:cubicBezTo>
                    <a:pt x="2154" y="84"/>
                    <a:pt x="2155" y="86"/>
                    <a:pt x="2156" y="88"/>
                  </a:cubicBezTo>
                  <a:cubicBezTo>
                    <a:pt x="2156" y="91"/>
                    <a:pt x="2156" y="94"/>
                    <a:pt x="2155" y="97"/>
                  </a:cubicBezTo>
                  <a:close/>
                  <a:moveTo>
                    <a:pt x="2157" y="135"/>
                  </a:moveTo>
                  <a:cubicBezTo>
                    <a:pt x="2157" y="136"/>
                    <a:pt x="2157" y="137"/>
                    <a:pt x="2157" y="138"/>
                  </a:cubicBezTo>
                  <a:cubicBezTo>
                    <a:pt x="2157" y="137"/>
                    <a:pt x="2157" y="136"/>
                    <a:pt x="2157" y="135"/>
                  </a:cubicBezTo>
                  <a:cubicBezTo>
                    <a:pt x="2157" y="135"/>
                    <a:pt x="2157" y="135"/>
                    <a:pt x="2157" y="135"/>
                  </a:cubicBezTo>
                  <a:close/>
                  <a:moveTo>
                    <a:pt x="2157" y="83"/>
                  </a:moveTo>
                  <a:cubicBezTo>
                    <a:pt x="2156" y="82"/>
                    <a:pt x="2155" y="81"/>
                    <a:pt x="2155" y="80"/>
                  </a:cubicBezTo>
                  <a:cubicBezTo>
                    <a:pt x="2156" y="78"/>
                    <a:pt x="2157" y="77"/>
                    <a:pt x="2158" y="75"/>
                  </a:cubicBezTo>
                  <a:cubicBezTo>
                    <a:pt x="2157" y="78"/>
                    <a:pt x="2157" y="81"/>
                    <a:pt x="2157" y="83"/>
                  </a:cubicBezTo>
                  <a:close/>
                  <a:moveTo>
                    <a:pt x="2158" y="74"/>
                  </a:moveTo>
                  <a:cubicBezTo>
                    <a:pt x="2156" y="76"/>
                    <a:pt x="2155" y="77"/>
                    <a:pt x="2154" y="79"/>
                  </a:cubicBezTo>
                  <a:cubicBezTo>
                    <a:pt x="2153" y="78"/>
                    <a:pt x="2153" y="78"/>
                    <a:pt x="2153" y="77"/>
                  </a:cubicBezTo>
                  <a:cubicBezTo>
                    <a:pt x="2153" y="72"/>
                    <a:pt x="2153" y="67"/>
                    <a:pt x="2154" y="65"/>
                  </a:cubicBezTo>
                  <a:cubicBezTo>
                    <a:pt x="2155" y="67"/>
                    <a:pt x="2156" y="70"/>
                    <a:pt x="2158" y="72"/>
                  </a:cubicBezTo>
                  <a:cubicBezTo>
                    <a:pt x="2158" y="73"/>
                    <a:pt x="2158" y="73"/>
                    <a:pt x="2158" y="74"/>
                  </a:cubicBezTo>
                  <a:close/>
                  <a:moveTo>
                    <a:pt x="2160" y="75"/>
                  </a:moveTo>
                  <a:cubicBezTo>
                    <a:pt x="2161" y="78"/>
                    <a:pt x="2163" y="81"/>
                    <a:pt x="2165" y="84"/>
                  </a:cubicBezTo>
                  <a:cubicBezTo>
                    <a:pt x="2163" y="86"/>
                    <a:pt x="2162" y="88"/>
                    <a:pt x="2161" y="90"/>
                  </a:cubicBezTo>
                  <a:cubicBezTo>
                    <a:pt x="2161" y="89"/>
                    <a:pt x="2160" y="89"/>
                    <a:pt x="2160" y="89"/>
                  </a:cubicBezTo>
                  <a:cubicBezTo>
                    <a:pt x="2160" y="84"/>
                    <a:pt x="2160" y="79"/>
                    <a:pt x="2160" y="75"/>
                  </a:cubicBezTo>
                  <a:close/>
                  <a:moveTo>
                    <a:pt x="2162" y="110"/>
                  </a:moveTo>
                  <a:cubicBezTo>
                    <a:pt x="2162" y="107"/>
                    <a:pt x="2161" y="104"/>
                    <a:pt x="2160" y="101"/>
                  </a:cubicBezTo>
                  <a:cubicBezTo>
                    <a:pt x="2160" y="101"/>
                    <a:pt x="2160" y="100"/>
                    <a:pt x="2160" y="100"/>
                  </a:cubicBezTo>
                  <a:cubicBezTo>
                    <a:pt x="2160" y="100"/>
                    <a:pt x="2161" y="99"/>
                    <a:pt x="2161" y="99"/>
                  </a:cubicBezTo>
                  <a:cubicBezTo>
                    <a:pt x="2162" y="101"/>
                    <a:pt x="2162" y="104"/>
                    <a:pt x="2163" y="106"/>
                  </a:cubicBezTo>
                  <a:cubicBezTo>
                    <a:pt x="2163" y="108"/>
                    <a:pt x="2163" y="109"/>
                    <a:pt x="2162" y="110"/>
                  </a:cubicBezTo>
                  <a:close/>
                  <a:moveTo>
                    <a:pt x="2163" y="93"/>
                  </a:moveTo>
                  <a:cubicBezTo>
                    <a:pt x="2164" y="91"/>
                    <a:pt x="2165" y="88"/>
                    <a:pt x="2166" y="86"/>
                  </a:cubicBezTo>
                  <a:cubicBezTo>
                    <a:pt x="2166" y="87"/>
                    <a:pt x="2167" y="87"/>
                    <a:pt x="2167" y="88"/>
                  </a:cubicBezTo>
                  <a:cubicBezTo>
                    <a:pt x="2166" y="91"/>
                    <a:pt x="2166" y="94"/>
                    <a:pt x="2165" y="97"/>
                  </a:cubicBezTo>
                  <a:cubicBezTo>
                    <a:pt x="2164" y="96"/>
                    <a:pt x="2163" y="95"/>
                    <a:pt x="2163" y="93"/>
                  </a:cubicBezTo>
                  <a:close/>
                  <a:moveTo>
                    <a:pt x="2166" y="130"/>
                  </a:moveTo>
                  <a:cubicBezTo>
                    <a:pt x="2166" y="129"/>
                    <a:pt x="2166" y="128"/>
                    <a:pt x="2166" y="126"/>
                  </a:cubicBezTo>
                  <a:cubicBezTo>
                    <a:pt x="2166" y="124"/>
                    <a:pt x="2166" y="121"/>
                    <a:pt x="2167" y="119"/>
                  </a:cubicBezTo>
                  <a:cubicBezTo>
                    <a:pt x="2167" y="120"/>
                    <a:pt x="2168" y="122"/>
                    <a:pt x="2168" y="124"/>
                  </a:cubicBezTo>
                  <a:cubicBezTo>
                    <a:pt x="2167" y="126"/>
                    <a:pt x="2167" y="128"/>
                    <a:pt x="2166" y="130"/>
                  </a:cubicBezTo>
                  <a:close/>
                  <a:moveTo>
                    <a:pt x="2170" y="108"/>
                  </a:moveTo>
                  <a:cubicBezTo>
                    <a:pt x="2170" y="107"/>
                    <a:pt x="2169" y="106"/>
                    <a:pt x="2169" y="105"/>
                  </a:cubicBezTo>
                  <a:cubicBezTo>
                    <a:pt x="2169" y="102"/>
                    <a:pt x="2170" y="99"/>
                    <a:pt x="2171" y="96"/>
                  </a:cubicBezTo>
                  <a:cubicBezTo>
                    <a:pt x="2171" y="96"/>
                    <a:pt x="2171" y="97"/>
                    <a:pt x="2171" y="97"/>
                  </a:cubicBezTo>
                  <a:cubicBezTo>
                    <a:pt x="2171" y="101"/>
                    <a:pt x="2170" y="105"/>
                    <a:pt x="2170" y="108"/>
                  </a:cubicBezTo>
                  <a:close/>
                  <a:moveTo>
                    <a:pt x="2172" y="86"/>
                  </a:moveTo>
                  <a:cubicBezTo>
                    <a:pt x="2172" y="86"/>
                    <a:pt x="2172" y="86"/>
                    <a:pt x="2172" y="86"/>
                  </a:cubicBezTo>
                  <a:cubicBezTo>
                    <a:pt x="2172" y="85"/>
                    <a:pt x="2173" y="84"/>
                    <a:pt x="2173" y="83"/>
                  </a:cubicBezTo>
                  <a:cubicBezTo>
                    <a:pt x="2173" y="84"/>
                    <a:pt x="2172" y="85"/>
                    <a:pt x="2172" y="86"/>
                  </a:cubicBezTo>
                  <a:close/>
                  <a:moveTo>
                    <a:pt x="2180" y="80"/>
                  </a:moveTo>
                  <a:cubicBezTo>
                    <a:pt x="2180" y="77"/>
                    <a:pt x="2180" y="75"/>
                    <a:pt x="2180" y="73"/>
                  </a:cubicBezTo>
                  <a:cubicBezTo>
                    <a:pt x="2181" y="73"/>
                    <a:pt x="2181" y="74"/>
                    <a:pt x="2181" y="74"/>
                  </a:cubicBezTo>
                  <a:cubicBezTo>
                    <a:pt x="2181" y="76"/>
                    <a:pt x="2181" y="78"/>
                    <a:pt x="2180" y="80"/>
                  </a:cubicBezTo>
                  <a:close/>
                  <a:moveTo>
                    <a:pt x="2192" y="93"/>
                  </a:moveTo>
                  <a:cubicBezTo>
                    <a:pt x="2191" y="95"/>
                    <a:pt x="2191" y="96"/>
                    <a:pt x="2190" y="97"/>
                  </a:cubicBezTo>
                  <a:cubicBezTo>
                    <a:pt x="2190" y="94"/>
                    <a:pt x="2190" y="91"/>
                    <a:pt x="2189" y="88"/>
                  </a:cubicBezTo>
                  <a:cubicBezTo>
                    <a:pt x="2190" y="89"/>
                    <a:pt x="2191" y="91"/>
                    <a:pt x="2192" y="93"/>
                  </a:cubicBezTo>
                  <a:cubicBezTo>
                    <a:pt x="2192" y="93"/>
                    <a:pt x="2192" y="93"/>
                    <a:pt x="2192" y="93"/>
                  </a:cubicBezTo>
                  <a:close/>
                  <a:moveTo>
                    <a:pt x="2193" y="88"/>
                  </a:moveTo>
                  <a:cubicBezTo>
                    <a:pt x="2192" y="86"/>
                    <a:pt x="2191" y="85"/>
                    <a:pt x="2190" y="84"/>
                  </a:cubicBezTo>
                  <a:cubicBezTo>
                    <a:pt x="2191" y="81"/>
                    <a:pt x="2193" y="78"/>
                    <a:pt x="2195" y="75"/>
                  </a:cubicBezTo>
                  <a:cubicBezTo>
                    <a:pt x="2194" y="79"/>
                    <a:pt x="2193" y="84"/>
                    <a:pt x="2193" y="88"/>
                  </a:cubicBezTo>
                  <a:close/>
                  <a:moveTo>
                    <a:pt x="2202" y="77"/>
                  </a:moveTo>
                  <a:cubicBezTo>
                    <a:pt x="2202" y="77"/>
                    <a:pt x="2202" y="77"/>
                    <a:pt x="2202" y="77"/>
                  </a:cubicBezTo>
                  <a:cubicBezTo>
                    <a:pt x="2202" y="74"/>
                    <a:pt x="2201" y="70"/>
                    <a:pt x="2201" y="66"/>
                  </a:cubicBezTo>
                  <a:cubicBezTo>
                    <a:pt x="2201" y="65"/>
                    <a:pt x="2202" y="64"/>
                    <a:pt x="2202" y="63"/>
                  </a:cubicBezTo>
                  <a:cubicBezTo>
                    <a:pt x="2203" y="67"/>
                    <a:pt x="2203" y="72"/>
                    <a:pt x="2202" y="77"/>
                  </a:cubicBezTo>
                  <a:close/>
                  <a:moveTo>
                    <a:pt x="2205" y="72"/>
                  </a:moveTo>
                  <a:cubicBezTo>
                    <a:pt x="2205" y="67"/>
                    <a:pt x="2204" y="64"/>
                    <a:pt x="2203" y="61"/>
                  </a:cubicBezTo>
                  <a:cubicBezTo>
                    <a:pt x="2204" y="60"/>
                    <a:pt x="2205" y="58"/>
                    <a:pt x="2206" y="57"/>
                  </a:cubicBezTo>
                  <a:cubicBezTo>
                    <a:pt x="2206" y="62"/>
                    <a:pt x="2206" y="67"/>
                    <a:pt x="2205" y="72"/>
                  </a:cubicBezTo>
                  <a:close/>
                  <a:moveTo>
                    <a:pt x="2221" y="89"/>
                  </a:moveTo>
                  <a:cubicBezTo>
                    <a:pt x="2222" y="91"/>
                    <a:pt x="2223" y="92"/>
                    <a:pt x="2223" y="94"/>
                  </a:cubicBezTo>
                  <a:cubicBezTo>
                    <a:pt x="2223" y="95"/>
                    <a:pt x="2222" y="97"/>
                    <a:pt x="2222" y="98"/>
                  </a:cubicBezTo>
                  <a:cubicBezTo>
                    <a:pt x="2221" y="97"/>
                    <a:pt x="2221" y="96"/>
                    <a:pt x="2220" y="95"/>
                  </a:cubicBezTo>
                  <a:cubicBezTo>
                    <a:pt x="2220" y="93"/>
                    <a:pt x="2221" y="91"/>
                    <a:pt x="2221" y="89"/>
                  </a:cubicBezTo>
                  <a:close/>
                  <a:moveTo>
                    <a:pt x="2220" y="101"/>
                  </a:moveTo>
                  <a:cubicBezTo>
                    <a:pt x="2220" y="101"/>
                    <a:pt x="2220" y="100"/>
                    <a:pt x="2220" y="100"/>
                  </a:cubicBezTo>
                  <a:cubicBezTo>
                    <a:pt x="2220" y="100"/>
                    <a:pt x="2220" y="101"/>
                    <a:pt x="2220" y="101"/>
                  </a:cubicBezTo>
                  <a:cubicBezTo>
                    <a:pt x="2220" y="101"/>
                    <a:pt x="2220" y="101"/>
                    <a:pt x="2220" y="101"/>
                  </a:cubicBezTo>
                  <a:close/>
                  <a:moveTo>
                    <a:pt x="2222" y="122"/>
                  </a:moveTo>
                  <a:cubicBezTo>
                    <a:pt x="2222" y="121"/>
                    <a:pt x="2221" y="120"/>
                    <a:pt x="2221" y="119"/>
                  </a:cubicBezTo>
                  <a:cubicBezTo>
                    <a:pt x="2221" y="117"/>
                    <a:pt x="2221" y="115"/>
                    <a:pt x="2221" y="112"/>
                  </a:cubicBezTo>
                  <a:cubicBezTo>
                    <a:pt x="2221" y="110"/>
                    <a:pt x="2221" y="108"/>
                    <a:pt x="2222" y="106"/>
                  </a:cubicBezTo>
                  <a:cubicBezTo>
                    <a:pt x="2222" y="108"/>
                    <a:pt x="2223" y="110"/>
                    <a:pt x="2223" y="112"/>
                  </a:cubicBezTo>
                  <a:cubicBezTo>
                    <a:pt x="2223" y="115"/>
                    <a:pt x="2223" y="119"/>
                    <a:pt x="2222" y="122"/>
                  </a:cubicBezTo>
                  <a:close/>
                  <a:moveTo>
                    <a:pt x="2224" y="103"/>
                  </a:moveTo>
                  <a:cubicBezTo>
                    <a:pt x="2224" y="102"/>
                    <a:pt x="2223" y="101"/>
                    <a:pt x="2223" y="100"/>
                  </a:cubicBezTo>
                  <a:cubicBezTo>
                    <a:pt x="2223" y="99"/>
                    <a:pt x="2224" y="97"/>
                    <a:pt x="2224" y="96"/>
                  </a:cubicBezTo>
                  <a:cubicBezTo>
                    <a:pt x="2224" y="97"/>
                    <a:pt x="2225" y="97"/>
                    <a:pt x="2225" y="98"/>
                  </a:cubicBezTo>
                  <a:cubicBezTo>
                    <a:pt x="2225" y="100"/>
                    <a:pt x="2224" y="101"/>
                    <a:pt x="2224" y="103"/>
                  </a:cubicBezTo>
                  <a:close/>
                  <a:moveTo>
                    <a:pt x="2225" y="96"/>
                  </a:moveTo>
                  <a:cubicBezTo>
                    <a:pt x="2225" y="95"/>
                    <a:pt x="2225" y="95"/>
                    <a:pt x="2224" y="95"/>
                  </a:cubicBezTo>
                  <a:cubicBezTo>
                    <a:pt x="2225" y="93"/>
                    <a:pt x="2225" y="92"/>
                    <a:pt x="2226" y="91"/>
                  </a:cubicBezTo>
                  <a:cubicBezTo>
                    <a:pt x="2225" y="93"/>
                    <a:pt x="2225" y="94"/>
                    <a:pt x="2225" y="96"/>
                  </a:cubicBezTo>
                  <a:close/>
                  <a:moveTo>
                    <a:pt x="2231" y="95"/>
                  </a:moveTo>
                  <a:cubicBezTo>
                    <a:pt x="2231" y="92"/>
                    <a:pt x="2232" y="89"/>
                    <a:pt x="2232" y="86"/>
                  </a:cubicBezTo>
                  <a:cubicBezTo>
                    <a:pt x="2232" y="86"/>
                    <a:pt x="2233" y="87"/>
                    <a:pt x="2233" y="88"/>
                  </a:cubicBezTo>
                  <a:cubicBezTo>
                    <a:pt x="2233" y="90"/>
                    <a:pt x="2232" y="92"/>
                    <a:pt x="2231" y="95"/>
                  </a:cubicBezTo>
                  <a:close/>
                  <a:moveTo>
                    <a:pt x="2242" y="99"/>
                  </a:moveTo>
                  <a:cubicBezTo>
                    <a:pt x="2242" y="99"/>
                    <a:pt x="2241" y="98"/>
                    <a:pt x="2241" y="97"/>
                  </a:cubicBezTo>
                  <a:cubicBezTo>
                    <a:pt x="2241" y="93"/>
                    <a:pt x="2241" y="89"/>
                    <a:pt x="2241" y="84"/>
                  </a:cubicBezTo>
                  <a:cubicBezTo>
                    <a:pt x="2242" y="80"/>
                    <a:pt x="2245" y="76"/>
                    <a:pt x="2247" y="72"/>
                  </a:cubicBezTo>
                  <a:cubicBezTo>
                    <a:pt x="2248" y="74"/>
                    <a:pt x="2248" y="78"/>
                    <a:pt x="2249" y="82"/>
                  </a:cubicBezTo>
                  <a:cubicBezTo>
                    <a:pt x="2246" y="88"/>
                    <a:pt x="2244" y="93"/>
                    <a:pt x="2242" y="99"/>
                  </a:cubicBezTo>
                  <a:close/>
                  <a:moveTo>
                    <a:pt x="2250" y="75"/>
                  </a:moveTo>
                  <a:cubicBezTo>
                    <a:pt x="2250" y="73"/>
                    <a:pt x="2249" y="71"/>
                    <a:pt x="2249" y="69"/>
                  </a:cubicBezTo>
                  <a:cubicBezTo>
                    <a:pt x="2250" y="68"/>
                    <a:pt x="2250" y="67"/>
                    <a:pt x="2251" y="66"/>
                  </a:cubicBezTo>
                  <a:cubicBezTo>
                    <a:pt x="2251" y="69"/>
                    <a:pt x="2250" y="72"/>
                    <a:pt x="2250" y="75"/>
                  </a:cubicBezTo>
                  <a:close/>
                  <a:moveTo>
                    <a:pt x="2258" y="72"/>
                  </a:moveTo>
                  <a:cubicBezTo>
                    <a:pt x="2258" y="71"/>
                    <a:pt x="2258" y="70"/>
                    <a:pt x="2258" y="70"/>
                  </a:cubicBezTo>
                  <a:cubicBezTo>
                    <a:pt x="2258" y="69"/>
                    <a:pt x="2258" y="69"/>
                    <a:pt x="2258" y="69"/>
                  </a:cubicBezTo>
                  <a:cubicBezTo>
                    <a:pt x="2258" y="71"/>
                    <a:pt x="2258" y="72"/>
                    <a:pt x="2258" y="72"/>
                  </a:cubicBezTo>
                  <a:close/>
                  <a:moveTo>
                    <a:pt x="2258" y="67"/>
                  </a:moveTo>
                  <a:cubicBezTo>
                    <a:pt x="2258" y="67"/>
                    <a:pt x="2258" y="68"/>
                    <a:pt x="2258" y="68"/>
                  </a:cubicBezTo>
                  <a:cubicBezTo>
                    <a:pt x="2258" y="65"/>
                    <a:pt x="2257" y="61"/>
                    <a:pt x="2257" y="58"/>
                  </a:cubicBezTo>
                  <a:cubicBezTo>
                    <a:pt x="2257" y="57"/>
                    <a:pt x="2258" y="56"/>
                    <a:pt x="2259" y="56"/>
                  </a:cubicBezTo>
                  <a:cubicBezTo>
                    <a:pt x="2258" y="60"/>
                    <a:pt x="2258" y="64"/>
                    <a:pt x="2258" y="67"/>
                  </a:cubicBezTo>
                  <a:close/>
                  <a:moveTo>
                    <a:pt x="2266" y="123"/>
                  </a:moveTo>
                  <a:cubicBezTo>
                    <a:pt x="2265" y="124"/>
                    <a:pt x="2264" y="126"/>
                    <a:pt x="2264" y="127"/>
                  </a:cubicBezTo>
                  <a:cubicBezTo>
                    <a:pt x="2264" y="124"/>
                    <a:pt x="2264" y="122"/>
                    <a:pt x="2264" y="119"/>
                  </a:cubicBezTo>
                  <a:cubicBezTo>
                    <a:pt x="2265" y="116"/>
                    <a:pt x="2266" y="112"/>
                    <a:pt x="2267" y="109"/>
                  </a:cubicBezTo>
                  <a:cubicBezTo>
                    <a:pt x="2267" y="111"/>
                    <a:pt x="2267" y="112"/>
                    <a:pt x="2267" y="114"/>
                  </a:cubicBezTo>
                  <a:cubicBezTo>
                    <a:pt x="2267" y="117"/>
                    <a:pt x="2266" y="120"/>
                    <a:pt x="2266" y="123"/>
                  </a:cubicBezTo>
                  <a:close/>
                  <a:moveTo>
                    <a:pt x="2268" y="110"/>
                  </a:moveTo>
                  <a:cubicBezTo>
                    <a:pt x="2268" y="111"/>
                    <a:pt x="2268" y="112"/>
                    <a:pt x="2267" y="112"/>
                  </a:cubicBezTo>
                  <a:cubicBezTo>
                    <a:pt x="2267" y="111"/>
                    <a:pt x="2267" y="110"/>
                    <a:pt x="2267" y="109"/>
                  </a:cubicBezTo>
                  <a:cubicBezTo>
                    <a:pt x="2267" y="107"/>
                    <a:pt x="2268" y="105"/>
                    <a:pt x="2268" y="102"/>
                  </a:cubicBezTo>
                  <a:cubicBezTo>
                    <a:pt x="2268" y="105"/>
                    <a:pt x="2268" y="107"/>
                    <a:pt x="2268" y="110"/>
                  </a:cubicBezTo>
                  <a:close/>
                  <a:moveTo>
                    <a:pt x="2270" y="83"/>
                  </a:moveTo>
                  <a:cubicBezTo>
                    <a:pt x="2270" y="83"/>
                    <a:pt x="2270" y="84"/>
                    <a:pt x="2269" y="85"/>
                  </a:cubicBezTo>
                  <a:cubicBezTo>
                    <a:pt x="2268" y="87"/>
                    <a:pt x="2267" y="89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2"/>
                    <a:pt x="2265" y="94"/>
                    <a:pt x="2264" y="96"/>
                  </a:cubicBezTo>
                  <a:cubicBezTo>
                    <a:pt x="2264" y="90"/>
                    <a:pt x="2265" y="85"/>
                    <a:pt x="2267" y="79"/>
                  </a:cubicBezTo>
                  <a:cubicBezTo>
                    <a:pt x="2265" y="85"/>
                    <a:pt x="2264" y="90"/>
                    <a:pt x="2262" y="95"/>
                  </a:cubicBezTo>
                  <a:cubicBezTo>
                    <a:pt x="2262" y="85"/>
                    <a:pt x="2263" y="74"/>
                    <a:pt x="2263" y="63"/>
                  </a:cubicBezTo>
                  <a:cubicBezTo>
                    <a:pt x="2266" y="60"/>
                    <a:pt x="2269" y="58"/>
                    <a:pt x="2272" y="55"/>
                  </a:cubicBezTo>
                  <a:cubicBezTo>
                    <a:pt x="2272" y="62"/>
                    <a:pt x="2271" y="72"/>
                    <a:pt x="2270" y="83"/>
                  </a:cubicBezTo>
                  <a:close/>
                  <a:moveTo>
                    <a:pt x="2276" y="105"/>
                  </a:moveTo>
                  <a:cubicBezTo>
                    <a:pt x="2276" y="102"/>
                    <a:pt x="2276" y="99"/>
                    <a:pt x="2276" y="96"/>
                  </a:cubicBezTo>
                  <a:cubicBezTo>
                    <a:pt x="2276" y="97"/>
                    <a:pt x="2277" y="99"/>
                    <a:pt x="2277" y="100"/>
                  </a:cubicBezTo>
                  <a:cubicBezTo>
                    <a:pt x="2277" y="102"/>
                    <a:pt x="2277" y="103"/>
                    <a:pt x="2276" y="105"/>
                  </a:cubicBezTo>
                  <a:cubicBezTo>
                    <a:pt x="2276" y="105"/>
                    <a:pt x="2276" y="105"/>
                    <a:pt x="2276" y="105"/>
                  </a:cubicBezTo>
                  <a:close/>
                  <a:moveTo>
                    <a:pt x="2277" y="130"/>
                  </a:moveTo>
                  <a:cubicBezTo>
                    <a:pt x="2277" y="130"/>
                    <a:pt x="2277" y="130"/>
                    <a:pt x="2277" y="130"/>
                  </a:cubicBezTo>
                  <a:cubicBezTo>
                    <a:pt x="2277" y="129"/>
                    <a:pt x="2277" y="128"/>
                    <a:pt x="2277" y="127"/>
                  </a:cubicBezTo>
                  <a:cubicBezTo>
                    <a:pt x="2277" y="128"/>
                    <a:pt x="2277" y="128"/>
                    <a:pt x="2278" y="129"/>
                  </a:cubicBezTo>
                  <a:cubicBezTo>
                    <a:pt x="2277" y="129"/>
                    <a:pt x="2277" y="130"/>
                    <a:pt x="2277" y="130"/>
                  </a:cubicBezTo>
                  <a:close/>
                  <a:moveTo>
                    <a:pt x="2284" y="74"/>
                  </a:moveTo>
                  <a:cubicBezTo>
                    <a:pt x="2284" y="73"/>
                    <a:pt x="2284" y="71"/>
                    <a:pt x="2284" y="70"/>
                  </a:cubicBezTo>
                  <a:cubicBezTo>
                    <a:pt x="2284" y="70"/>
                    <a:pt x="2285" y="71"/>
                    <a:pt x="2285" y="72"/>
                  </a:cubicBezTo>
                  <a:cubicBezTo>
                    <a:pt x="2285" y="72"/>
                    <a:pt x="2285" y="73"/>
                    <a:pt x="2284" y="74"/>
                  </a:cubicBezTo>
                  <a:close/>
                  <a:moveTo>
                    <a:pt x="2288" y="139"/>
                  </a:moveTo>
                  <a:cubicBezTo>
                    <a:pt x="2288" y="140"/>
                    <a:pt x="2288" y="141"/>
                    <a:pt x="2288" y="142"/>
                  </a:cubicBezTo>
                  <a:cubicBezTo>
                    <a:pt x="2288" y="142"/>
                    <a:pt x="2288" y="141"/>
                    <a:pt x="2288" y="139"/>
                  </a:cubicBezTo>
                  <a:cubicBezTo>
                    <a:pt x="2288" y="138"/>
                    <a:pt x="2288" y="137"/>
                    <a:pt x="2288" y="136"/>
                  </a:cubicBezTo>
                  <a:cubicBezTo>
                    <a:pt x="2288" y="137"/>
                    <a:pt x="2288" y="137"/>
                    <a:pt x="2288" y="137"/>
                  </a:cubicBezTo>
                  <a:cubicBezTo>
                    <a:pt x="2288" y="138"/>
                    <a:pt x="2288" y="139"/>
                    <a:pt x="2288" y="139"/>
                  </a:cubicBezTo>
                  <a:close/>
                  <a:moveTo>
                    <a:pt x="2290" y="122"/>
                  </a:moveTo>
                  <a:cubicBezTo>
                    <a:pt x="2290" y="122"/>
                    <a:pt x="2290" y="122"/>
                    <a:pt x="2290" y="122"/>
                  </a:cubicBezTo>
                  <a:cubicBezTo>
                    <a:pt x="2290" y="121"/>
                    <a:pt x="2290" y="121"/>
                    <a:pt x="2290" y="121"/>
                  </a:cubicBezTo>
                  <a:cubicBezTo>
                    <a:pt x="2290" y="121"/>
                    <a:pt x="2290" y="122"/>
                    <a:pt x="2290" y="122"/>
                  </a:cubicBezTo>
                  <a:close/>
                  <a:moveTo>
                    <a:pt x="2291" y="110"/>
                  </a:moveTo>
                  <a:cubicBezTo>
                    <a:pt x="2290" y="112"/>
                    <a:pt x="2289" y="114"/>
                    <a:pt x="2288" y="116"/>
                  </a:cubicBezTo>
                  <a:cubicBezTo>
                    <a:pt x="2288" y="116"/>
                    <a:pt x="2288" y="117"/>
                    <a:pt x="2288" y="117"/>
                  </a:cubicBezTo>
                  <a:cubicBezTo>
                    <a:pt x="2288" y="113"/>
                    <a:pt x="2287" y="108"/>
                    <a:pt x="2287" y="104"/>
                  </a:cubicBezTo>
                  <a:cubicBezTo>
                    <a:pt x="2288" y="101"/>
                    <a:pt x="2288" y="98"/>
                    <a:pt x="2289" y="96"/>
                  </a:cubicBezTo>
                  <a:cubicBezTo>
                    <a:pt x="2290" y="95"/>
                    <a:pt x="2290" y="95"/>
                    <a:pt x="2290" y="95"/>
                  </a:cubicBezTo>
                  <a:cubicBezTo>
                    <a:pt x="2290" y="98"/>
                    <a:pt x="2291" y="101"/>
                    <a:pt x="2291" y="104"/>
                  </a:cubicBezTo>
                  <a:cubicBezTo>
                    <a:pt x="2291" y="106"/>
                    <a:pt x="2291" y="108"/>
                    <a:pt x="2291" y="110"/>
                  </a:cubicBezTo>
                  <a:close/>
                  <a:moveTo>
                    <a:pt x="2292" y="99"/>
                  </a:moveTo>
                  <a:cubicBezTo>
                    <a:pt x="2291" y="97"/>
                    <a:pt x="2291" y="96"/>
                    <a:pt x="2290" y="94"/>
                  </a:cubicBezTo>
                  <a:cubicBezTo>
                    <a:pt x="2291" y="93"/>
                    <a:pt x="2292" y="92"/>
                    <a:pt x="2292" y="91"/>
                  </a:cubicBezTo>
                  <a:cubicBezTo>
                    <a:pt x="2292" y="94"/>
                    <a:pt x="2292" y="96"/>
                    <a:pt x="2292" y="99"/>
                  </a:cubicBezTo>
                  <a:close/>
                  <a:moveTo>
                    <a:pt x="2286" y="91"/>
                  </a:moveTo>
                  <a:cubicBezTo>
                    <a:pt x="2286" y="89"/>
                    <a:pt x="2286" y="88"/>
                    <a:pt x="2285" y="87"/>
                  </a:cubicBezTo>
                  <a:cubicBezTo>
                    <a:pt x="2287" y="83"/>
                    <a:pt x="2288" y="80"/>
                    <a:pt x="2289" y="76"/>
                  </a:cubicBezTo>
                  <a:cubicBezTo>
                    <a:pt x="2290" y="78"/>
                    <a:pt x="2292" y="80"/>
                    <a:pt x="2293" y="82"/>
                  </a:cubicBezTo>
                  <a:cubicBezTo>
                    <a:pt x="2290" y="85"/>
                    <a:pt x="2288" y="88"/>
                    <a:pt x="2286" y="91"/>
                  </a:cubicBezTo>
                  <a:close/>
                  <a:moveTo>
                    <a:pt x="2293" y="79"/>
                  </a:moveTo>
                  <a:cubicBezTo>
                    <a:pt x="2292" y="77"/>
                    <a:pt x="2291" y="76"/>
                    <a:pt x="2290" y="75"/>
                  </a:cubicBezTo>
                  <a:cubicBezTo>
                    <a:pt x="2291" y="72"/>
                    <a:pt x="2293" y="68"/>
                    <a:pt x="2294" y="65"/>
                  </a:cubicBezTo>
                  <a:cubicBezTo>
                    <a:pt x="2294" y="68"/>
                    <a:pt x="2294" y="73"/>
                    <a:pt x="2293" y="79"/>
                  </a:cubicBezTo>
                  <a:close/>
                  <a:moveTo>
                    <a:pt x="2311" y="54"/>
                  </a:moveTo>
                  <a:cubicBezTo>
                    <a:pt x="2311" y="56"/>
                    <a:pt x="2310" y="58"/>
                    <a:pt x="2310" y="61"/>
                  </a:cubicBezTo>
                  <a:cubicBezTo>
                    <a:pt x="2306" y="65"/>
                    <a:pt x="2302" y="69"/>
                    <a:pt x="2299" y="74"/>
                  </a:cubicBezTo>
                  <a:cubicBezTo>
                    <a:pt x="2302" y="67"/>
                    <a:pt x="2306" y="60"/>
                    <a:pt x="2311" y="54"/>
                  </a:cubicBezTo>
                  <a:close/>
                  <a:moveTo>
                    <a:pt x="2297" y="89"/>
                  </a:moveTo>
                  <a:cubicBezTo>
                    <a:pt x="2297" y="90"/>
                    <a:pt x="2298" y="91"/>
                    <a:pt x="2298" y="92"/>
                  </a:cubicBezTo>
                  <a:cubicBezTo>
                    <a:pt x="2298" y="92"/>
                    <a:pt x="2297" y="93"/>
                    <a:pt x="2297" y="94"/>
                  </a:cubicBezTo>
                  <a:cubicBezTo>
                    <a:pt x="2297" y="92"/>
                    <a:pt x="2297" y="91"/>
                    <a:pt x="2297" y="89"/>
                  </a:cubicBezTo>
                  <a:close/>
                  <a:moveTo>
                    <a:pt x="2299" y="127"/>
                  </a:moveTo>
                  <a:cubicBezTo>
                    <a:pt x="2299" y="125"/>
                    <a:pt x="2299" y="124"/>
                    <a:pt x="2298" y="122"/>
                  </a:cubicBezTo>
                  <a:cubicBezTo>
                    <a:pt x="2298" y="117"/>
                    <a:pt x="2298" y="111"/>
                    <a:pt x="2298" y="105"/>
                  </a:cubicBezTo>
                  <a:cubicBezTo>
                    <a:pt x="2299" y="104"/>
                    <a:pt x="2299" y="102"/>
                    <a:pt x="2300" y="101"/>
                  </a:cubicBezTo>
                  <a:cubicBezTo>
                    <a:pt x="2299" y="102"/>
                    <a:pt x="2299" y="103"/>
                    <a:pt x="2298" y="105"/>
                  </a:cubicBezTo>
                  <a:cubicBezTo>
                    <a:pt x="2297" y="102"/>
                    <a:pt x="2297" y="99"/>
                    <a:pt x="2297" y="96"/>
                  </a:cubicBezTo>
                  <a:cubicBezTo>
                    <a:pt x="2298" y="95"/>
                    <a:pt x="2298" y="94"/>
                    <a:pt x="2298" y="93"/>
                  </a:cubicBezTo>
                  <a:cubicBezTo>
                    <a:pt x="2299" y="95"/>
                    <a:pt x="2300" y="97"/>
                    <a:pt x="2301" y="100"/>
                  </a:cubicBezTo>
                  <a:cubicBezTo>
                    <a:pt x="2301" y="100"/>
                    <a:pt x="2301" y="100"/>
                    <a:pt x="2300" y="101"/>
                  </a:cubicBezTo>
                  <a:cubicBezTo>
                    <a:pt x="2301" y="101"/>
                    <a:pt x="2301" y="100"/>
                    <a:pt x="2301" y="100"/>
                  </a:cubicBezTo>
                  <a:cubicBezTo>
                    <a:pt x="2302" y="101"/>
                    <a:pt x="2302" y="102"/>
                    <a:pt x="2303" y="103"/>
                  </a:cubicBezTo>
                  <a:cubicBezTo>
                    <a:pt x="2301" y="112"/>
                    <a:pt x="2300" y="120"/>
                    <a:pt x="2299" y="127"/>
                  </a:cubicBezTo>
                  <a:close/>
                  <a:moveTo>
                    <a:pt x="2300" y="87"/>
                  </a:moveTo>
                  <a:cubicBezTo>
                    <a:pt x="2301" y="86"/>
                    <a:pt x="2302" y="84"/>
                    <a:pt x="2303" y="83"/>
                  </a:cubicBezTo>
                  <a:cubicBezTo>
                    <a:pt x="2302" y="84"/>
                    <a:pt x="2301" y="86"/>
                    <a:pt x="2300" y="87"/>
                  </a:cubicBezTo>
                  <a:cubicBezTo>
                    <a:pt x="2299" y="86"/>
                    <a:pt x="2298" y="85"/>
                    <a:pt x="2297" y="83"/>
                  </a:cubicBezTo>
                  <a:cubicBezTo>
                    <a:pt x="2301" y="78"/>
                    <a:pt x="2305" y="72"/>
                    <a:pt x="2308" y="67"/>
                  </a:cubicBezTo>
                  <a:cubicBezTo>
                    <a:pt x="2308" y="72"/>
                    <a:pt x="2307" y="76"/>
                    <a:pt x="2306" y="81"/>
                  </a:cubicBezTo>
                  <a:cubicBezTo>
                    <a:pt x="2306" y="80"/>
                    <a:pt x="2305" y="79"/>
                    <a:pt x="2305" y="79"/>
                  </a:cubicBezTo>
                  <a:cubicBezTo>
                    <a:pt x="2305" y="78"/>
                    <a:pt x="2306" y="77"/>
                    <a:pt x="2307" y="75"/>
                  </a:cubicBezTo>
                  <a:cubicBezTo>
                    <a:pt x="2306" y="76"/>
                    <a:pt x="2305" y="77"/>
                    <a:pt x="2305" y="79"/>
                  </a:cubicBezTo>
                  <a:cubicBezTo>
                    <a:pt x="2304" y="78"/>
                    <a:pt x="2304" y="77"/>
                    <a:pt x="2303" y="77"/>
                  </a:cubicBezTo>
                  <a:cubicBezTo>
                    <a:pt x="2303" y="78"/>
                    <a:pt x="2304" y="79"/>
                    <a:pt x="2304" y="79"/>
                  </a:cubicBezTo>
                  <a:cubicBezTo>
                    <a:pt x="2304" y="80"/>
                    <a:pt x="2303" y="81"/>
                    <a:pt x="2303" y="83"/>
                  </a:cubicBezTo>
                  <a:cubicBezTo>
                    <a:pt x="2303" y="82"/>
                    <a:pt x="2304" y="81"/>
                    <a:pt x="2304" y="80"/>
                  </a:cubicBezTo>
                  <a:cubicBezTo>
                    <a:pt x="2305" y="81"/>
                    <a:pt x="2305" y="82"/>
                    <a:pt x="2306" y="84"/>
                  </a:cubicBezTo>
                  <a:cubicBezTo>
                    <a:pt x="2305" y="87"/>
                    <a:pt x="2305" y="90"/>
                    <a:pt x="2304" y="93"/>
                  </a:cubicBezTo>
                  <a:cubicBezTo>
                    <a:pt x="2303" y="91"/>
                    <a:pt x="2302" y="89"/>
                    <a:pt x="2300" y="87"/>
                  </a:cubicBezTo>
                  <a:close/>
                  <a:moveTo>
                    <a:pt x="2305" y="144"/>
                  </a:moveTo>
                  <a:cubicBezTo>
                    <a:pt x="2305" y="144"/>
                    <a:pt x="2305" y="143"/>
                    <a:pt x="2305" y="143"/>
                  </a:cubicBezTo>
                  <a:cubicBezTo>
                    <a:pt x="2305" y="140"/>
                    <a:pt x="2305" y="136"/>
                    <a:pt x="2305" y="131"/>
                  </a:cubicBezTo>
                  <a:cubicBezTo>
                    <a:pt x="2306" y="128"/>
                    <a:pt x="2307" y="126"/>
                    <a:pt x="2307" y="125"/>
                  </a:cubicBezTo>
                  <a:cubicBezTo>
                    <a:pt x="2307" y="125"/>
                    <a:pt x="2307" y="124"/>
                    <a:pt x="2307" y="124"/>
                  </a:cubicBezTo>
                  <a:cubicBezTo>
                    <a:pt x="2306" y="124"/>
                    <a:pt x="2306" y="124"/>
                    <a:pt x="2306" y="124"/>
                  </a:cubicBezTo>
                  <a:cubicBezTo>
                    <a:pt x="2306" y="122"/>
                    <a:pt x="2306" y="120"/>
                    <a:pt x="2306" y="118"/>
                  </a:cubicBezTo>
                  <a:cubicBezTo>
                    <a:pt x="2307" y="121"/>
                    <a:pt x="2308" y="125"/>
                    <a:pt x="2308" y="128"/>
                  </a:cubicBezTo>
                  <a:cubicBezTo>
                    <a:pt x="2307" y="136"/>
                    <a:pt x="2306" y="141"/>
                    <a:pt x="2305" y="144"/>
                  </a:cubicBezTo>
                  <a:close/>
                  <a:moveTo>
                    <a:pt x="2312" y="107"/>
                  </a:moveTo>
                  <a:cubicBezTo>
                    <a:pt x="2311" y="105"/>
                    <a:pt x="2310" y="102"/>
                    <a:pt x="2308" y="100"/>
                  </a:cubicBezTo>
                  <a:cubicBezTo>
                    <a:pt x="2309" y="97"/>
                    <a:pt x="2309" y="95"/>
                    <a:pt x="2309" y="93"/>
                  </a:cubicBezTo>
                  <a:cubicBezTo>
                    <a:pt x="2310" y="96"/>
                    <a:pt x="2312" y="99"/>
                    <a:pt x="2313" y="102"/>
                  </a:cubicBezTo>
                  <a:cubicBezTo>
                    <a:pt x="2313" y="104"/>
                    <a:pt x="2312" y="105"/>
                    <a:pt x="2312" y="107"/>
                  </a:cubicBezTo>
                  <a:close/>
                  <a:moveTo>
                    <a:pt x="2313" y="159"/>
                  </a:moveTo>
                  <a:cubicBezTo>
                    <a:pt x="2313" y="159"/>
                    <a:pt x="2313" y="159"/>
                    <a:pt x="2313" y="159"/>
                  </a:cubicBezTo>
                  <a:cubicBezTo>
                    <a:pt x="2313" y="159"/>
                    <a:pt x="2313" y="159"/>
                    <a:pt x="2314" y="159"/>
                  </a:cubicBezTo>
                  <a:cubicBezTo>
                    <a:pt x="2313" y="159"/>
                    <a:pt x="2313" y="159"/>
                    <a:pt x="2313" y="159"/>
                  </a:cubicBezTo>
                  <a:close/>
                  <a:moveTo>
                    <a:pt x="2314" y="96"/>
                  </a:moveTo>
                  <a:cubicBezTo>
                    <a:pt x="2313" y="93"/>
                    <a:pt x="2311" y="91"/>
                    <a:pt x="2310" y="88"/>
                  </a:cubicBezTo>
                  <a:cubicBezTo>
                    <a:pt x="2312" y="85"/>
                    <a:pt x="2314" y="82"/>
                    <a:pt x="2316" y="79"/>
                  </a:cubicBezTo>
                  <a:cubicBezTo>
                    <a:pt x="2316" y="84"/>
                    <a:pt x="2315" y="90"/>
                    <a:pt x="2314" y="96"/>
                  </a:cubicBezTo>
                  <a:close/>
                  <a:moveTo>
                    <a:pt x="2317" y="75"/>
                  </a:moveTo>
                  <a:cubicBezTo>
                    <a:pt x="2315" y="78"/>
                    <a:pt x="2312" y="82"/>
                    <a:pt x="2310" y="86"/>
                  </a:cubicBezTo>
                  <a:cubicBezTo>
                    <a:pt x="2311" y="77"/>
                    <a:pt x="2312" y="68"/>
                    <a:pt x="2313" y="61"/>
                  </a:cubicBezTo>
                  <a:cubicBezTo>
                    <a:pt x="2315" y="58"/>
                    <a:pt x="2317" y="55"/>
                    <a:pt x="2319" y="53"/>
                  </a:cubicBezTo>
                  <a:cubicBezTo>
                    <a:pt x="2319" y="58"/>
                    <a:pt x="2318" y="66"/>
                    <a:pt x="2317" y="75"/>
                  </a:cubicBezTo>
                  <a:close/>
                  <a:moveTo>
                    <a:pt x="2324" y="139"/>
                  </a:moveTo>
                  <a:cubicBezTo>
                    <a:pt x="2324" y="139"/>
                    <a:pt x="2324" y="139"/>
                    <a:pt x="2323" y="139"/>
                  </a:cubicBezTo>
                  <a:cubicBezTo>
                    <a:pt x="2323" y="138"/>
                    <a:pt x="2323" y="138"/>
                    <a:pt x="2324" y="138"/>
                  </a:cubicBezTo>
                  <a:cubicBezTo>
                    <a:pt x="2324" y="138"/>
                    <a:pt x="2324" y="138"/>
                    <a:pt x="2324" y="138"/>
                  </a:cubicBezTo>
                  <a:cubicBezTo>
                    <a:pt x="2324" y="139"/>
                    <a:pt x="2324" y="139"/>
                    <a:pt x="2324" y="139"/>
                  </a:cubicBezTo>
                  <a:close/>
                  <a:moveTo>
                    <a:pt x="2349" y="137"/>
                  </a:moveTo>
                  <a:cubicBezTo>
                    <a:pt x="2349" y="136"/>
                    <a:pt x="2348" y="135"/>
                    <a:pt x="2348" y="133"/>
                  </a:cubicBezTo>
                  <a:cubicBezTo>
                    <a:pt x="2348" y="132"/>
                    <a:pt x="2348" y="130"/>
                    <a:pt x="2348" y="128"/>
                  </a:cubicBezTo>
                  <a:cubicBezTo>
                    <a:pt x="2348" y="131"/>
                    <a:pt x="2349" y="133"/>
                    <a:pt x="2350" y="135"/>
                  </a:cubicBezTo>
                  <a:cubicBezTo>
                    <a:pt x="2350" y="136"/>
                    <a:pt x="2349" y="137"/>
                    <a:pt x="2349" y="137"/>
                  </a:cubicBezTo>
                  <a:close/>
                  <a:moveTo>
                    <a:pt x="2355" y="99"/>
                  </a:moveTo>
                  <a:cubicBezTo>
                    <a:pt x="2354" y="95"/>
                    <a:pt x="2352" y="92"/>
                    <a:pt x="2350" y="90"/>
                  </a:cubicBezTo>
                  <a:cubicBezTo>
                    <a:pt x="2352" y="93"/>
                    <a:pt x="2354" y="97"/>
                    <a:pt x="2355" y="101"/>
                  </a:cubicBezTo>
                  <a:cubicBezTo>
                    <a:pt x="2354" y="110"/>
                    <a:pt x="2353" y="118"/>
                    <a:pt x="2351" y="125"/>
                  </a:cubicBezTo>
                  <a:cubicBezTo>
                    <a:pt x="2350" y="122"/>
                    <a:pt x="2349" y="119"/>
                    <a:pt x="2349" y="116"/>
                  </a:cubicBezTo>
                  <a:cubicBezTo>
                    <a:pt x="2349" y="102"/>
                    <a:pt x="2350" y="86"/>
                    <a:pt x="2351" y="72"/>
                  </a:cubicBezTo>
                  <a:cubicBezTo>
                    <a:pt x="2353" y="75"/>
                    <a:pt x="2356" y="79"/>
                    <a:pt x="2358" y="82"/>
                  </a:cubicBezTo>
                  <a:cubicBezTo>
                    <a:pt x="2357" y="88"/>
                    <a:pt x="2356" y="93"/>
                    <a:pt x="2355" y="99"/>
                  </a:cubicBezTo>
                  <a:close/>
                  <a:moveTo>
                    <a:pt x="2358" y="142"/>
                  </a:moveTo>
                  <a:cubicBezTo>
                    <a:pt x="2359" y="134"/>
                    <a:pt x="2360" y="127"/>
                    <a:pt x="2360" y="121"/>
                  </a:cubicBezTo>
                  <a:cubicBezTo>
                    <a:pt x="2360" y="123"/>
                    <a:pt x="2361" y="125"/>
                    <a:pt x="2361" y="127"/>
                  </a:cubicBezTo>
                  <a:cubicBezTo>
                    <a:pt x="2360" y="136"/>
                    <a:pt x="2358" y="142"/>
                    <a:pt x="2358" y="142"/>
                  </a:cubicBezTo>
                  <a:close/>
                  <a:moveTo>
                    <a:pt x="2362" y="144"/>
                  </a:moveTo>
                  <a:cubicBezTo>
                    <a:pt x="2362" y="142"/>
                    <a:pt x="2362" y="140"/>
                    <a:pt x="2363" y="137"/>
                  </a:cubicBezTo>
                  <a:cubicBezTo>
                    <a:pt x="2363" y="138"/>
                    <a:pt x="2363" y="138"/>
                    <a:pt x="2363" y="138"/>
                  </a:cubicBezTo>
                  <a:cubicBezTo>
                    <a:pt x="2362" y="142"/>
                    <a:pt x="2362" y="144"/>
                    <a:pt x="2362" y="144"/>
                  </a:cubicBezTo>
                  <a:close/>
                  <a:moveTo>
                    <a:pt x="2361" y="110"/>
                  </a:moveTo>
                  <a:cubicBezTo>
                    <a:pt x="2361" y="103"/>
                    <a:pt x="2362" y="96"/>
                    <a:pt x="2362" y="90"/>
                  </a:cubicBezTo>
                  <a:cubicBezTo>
                    <a:pt x="2364" y="93"/>
                    <a:pt x="2365" y="96"/>
                    <a:pt x="2366" y="99"/>
                  </a:cubicBezTo>
                  <a:cubicBezTo>
                    <a:pt x="2365" y="105"/>
                    <a:pt x="2364" y="111"/>
                    <a:pt x="2363" y="116"/>
                  </a:cubicBezTo>
                  <a:cubicBezTo>
                    <a:pt x="2362" y="114"/>
                    <a:pt x="2362" y="112"/>
                    <a:pt x="2361" y="110"/>
                  </a:cubicBezTo>
                  <a:close/>
                  <a:moveTo>
                    <a:pt x="2366" y="124"/>
                  </a:moveTo>
                  <a:cubicBezTo>
                    <a:pt x="2365" y="123"/>
                    <a:pt x="2365" y="122"/>
                    <a:pt x="2365" y="121"/>
                  </a:cubicBezTo>
                  <a:cubicBezTo>
                    <a:pt x="2365" y="115"/>
                    <a:pt x="2366" y="109"/>
                    <a:pt x="2367" y="103"/>
                  </a:cubicBezTo>
                  <a:cubicBezTo>
                    <a:pt x="2368" y="105"/>
                    <a:pt x="2368" y="107"/>
                    <a:pt x="2369" y="109"/>
                  </a:cubicBezTo>
                  <a:cubicBezTo>
                    <a:pt x="2368" y="114"/>
                    <a:pt x="2367" y="119"/>
                    <a:pt x="2366" y="124"/>
                  </a:cubicBezTo>
                  <a:close/>
                  <a:moveTo>
                    <a:pt x="2371" y="146"/>
                  </a:moveTo>
                  <a:cubicBezTo>
                    <a:pt x="2371" y="145"/>
                    <a:pt x="2371" y="145"/>
                    <a:pt x="2371" y="145"/>
                  </a:cubicBezTo>
                  <a:cubicBezTo>
                    <a:pt x="2372" y="144"/>
                    <a:pt x="2372" y="143"/>
                    <a:pt x="2372" y="141"/>
                  </a:cubicBezTo>
                  <a:cubicBezTo>
                    <a:pt x="2372" y="142"/>
                    <a:pt x="2372" y="143"/>
                    <a:pt x="2372" y="144"/>
                  </a:cubicBezTo>
                  <a:cubicBezTo>
                    <a:pt x="2372" y="145"/>
                    <a:pt x="2372" y="145"/>
                    <a:pt x="2371" y="146"/>
                  </a:cubicBezTo>
                  <a:close/>
                  <a:moveTo>
                    <a:pt x="2395" y="118"/>
                  </a:moveTo>
                  <a:cubicBezTo>
                    <a:pt x="2394" y="114"/>
                    <a:pt x="2392" y="111"/>
                    <a:pt x="2391" y="107"/>
                  </a:cubicBezTo>
                  <a:cubicBezTo>
                    <a:pt x="2391" y="96"/>
                    <a:pt x="2391" y="84"/>
                    <a:pt x="2391" y="74"/>
                  </a:cubicBezTo>
                  <a:cubicBezTo>
                    <a:pt x="2391" y="70"/>
                    <a:pt x="2391" y="67"/>
                    <a:pt x="2390" y="65"/>
                  </a:cubicBezTo>
                  <a:cubicBezTo>
                    <a:pt x="2391" y="74"/>
                    <a:pt x="2395" y="84"/>
                    <a:pt x="2398" y="94"/>
                  </a:cubicBezTo>
                  <a:cubicBezTo>
                    <a:pt x="2397" y="102"/>
                    <a:pt x="2396" y="110"/>
                    <a:pt x="2395" y="118"/>
                  </a:cubicBezTo>
                  <a:close/>
                  <a:moveTo>
                    <a:pt x="2424" y="124"/>
                  </a:moveTo>
                  <a:cubicBezTo>
                    <a:pt x="2423" y="122"/>
                    <a:pt x="2423" y="120"/>
                    <a:pt x="2422" y="117"/>
                  </a:cubicBezTo>
                  <a:cubicBezTo>
                    <a:pt x="2423" y="109"/>
                    <a:pt x="2424" y="100"/>
                    <a:pt x="2425" y="92"/>
                  </a:cubicBezTo>
                  <a:cubicBezTo>
                    <a:pt x="2427" y="96"/>
                    <a:pt x="2428" y="100"/>
                    <a:pt x="2428" y="104"/>
                  </a:cubicBezTo>
                  <a:cubicBezTo>
                    <a:pt x="2427" y="111"/>
                    <a:pt x="2425" y="118"/>
                    <a:pt x="2424" y="124"/>
                  </a:cubicBezTo>
                  <a:close/>
                  <a:moveTo>
                    <a:pt x="2464" y="133"/>
                  </a:moveTo>
                  <a:cubicBezTo>
                    <a:pt x="2464" y="130"/>
                    <a:pt x="2463" y="126"/>
                    <a:pt x="2462" y="122"/>
                  </a:cubicBezTo>
                  <a:cubicBezTo>
                    <a:pt x="2462" y="112"/>
                    <a:pt x="2462" y="100"/>
                    <a:pt x="2463" y="88"/>
                  </a:cubicBezTo>
                  <a:cubicBezTo>
                    <a:pt x="2465" y="96"/>
                    <a:pt x="2467" y="104"/>
                    <a:pt x="2467" y="111"/>
                  </a:cubicBezTo>
                  <a:cubicBezTo>
                    <a:pt x="2468" y="117"/>
                    <a:pt x="2468" y="117"/>
                    <a:pt x="2468" y="117"/>
                  </a:cubicBezTo>
                  <a:cubicBezTo>
                    <a:pt x="2466" y="123"/>
                    <a:pt x="2465" y="129"/>
                    <a:pt x="2464" y="133"/>
                  </a:cubicBezTo>
                  <a:close/>
                  <a:moveTo>
                    <a:pt x="2477" y="110"/>
                  </a:moveTo>
                  <a:cubicBezTo>
                    <a:pt x="2477" y="113"/>
                    <a:pt x="2477" y="116"/>
                    <a:pt x="2477" y="119"/>
                  </a:cubicBezTo>
                  <a:cubicBezTo>
                    <a:pt x="2476" y="122"/>
                    <a:pt x="2476" y="124"/>
                    <a:pt x="2475" y="127"/>
                  </a:cubicBezTo>
                  <a:cubicBezTo>
                    <a:pt x="2475" y="119"/>
                    <a:pt x="2474" y="111"/>
                    <a:pt x="2473" y="104"/>
                  </a:cubicBezTo>
                  <a:cubicBezTo>
                    <a:pt x="2474" y="98"/>
                    <a:pt x="2474" y="91"/>
                    <a:pt x="2475" y="86"/>
                  </a:cubicBezTo>
                  <a:cubicBezTo>
                    <a:pt x="2477" y="93"/>
                    <a:pt x="2477" y="102"/>
                    <a:pt x="2477" y="110"/>
                  </a:cubicBezTo>
                  <a:close/>
                  <a:moveTo>
                    <a:pt x="2487" y="142"/>
                  </a:moveTo>
                  <a:cubicBezTo>
                    <a:pt x="2487" y="142"/>
                    <a:pt x="2487" y="141"/>
                    <a:pt x="2488" y="138"/>
                  </a:cubicBezTo>
                  <a:cubicBezTo>
                    <a:pt x="2489" y="120"/>
                    <a:pt x="2488" y="96"/>
                    <a:pt x="2487" y="77"/>
                  </a:cubicBezTo>
                  <a:cubicBezTo>
                    <a:pt x="2489" y="81"/>
                    <a:pt x="2491" y="86"/>
                    <a:pt x="2492" y="92"/>
                  </a:cubicBezTo>
                  <a:cubicBezTo>
                    <a:pt x="2490" y="108"/>
                    <a:pt x="2488" y="129"/>
                    <a:pt x="2488" y="138"/>
                  </a:cubicBezTo>
                  <a:cubicBezTo>
                    <a:pt x="2487" y="139"/>
                    <a:pt x="2487" y="141"/>
                    <a:pt x="2487" y="142"/>
                  </a:cubicBezTo>
                  <a:close/>
                  <a:moveTo>
                    <a:pt x="2491" y="129"/>
                  </a:moveTo>
                  <a:cubicBezTo>
                    <a:pt x="2491" y="119"/>
                    <a:pt x="2492" y="107"/>
                    <a:pt x="2493" y="97"/>
                  </a:cubicBezTo>
                  <a:cubicBezTo>
                    <a:pt x="2493" y="100"/>
                    <a:pt x="2493" y="103"/>
                    <a:pt x="2493" y="106"/>
                  </a:cubicBezTo>
                  <a:cubicBezTo>
                    <a:pt x="2493" y="114"/>
                    <a:pt x="2492" y="121"/>
                    <a:pt x="2491" y="129"/>
                  </a:cubicBezTo>
                  <a:close/>
                  <a:moveTo>
                    <a:pt x="2502" y="125"/>
                  </a:moveTo>
                  <a:cubicBezTo>
                    <a:pt x="2503" y="120"/>
                    <a:pt x="2503" y="113"/>
                    <a:pt x="2503" y="107"/>
                  </a:cubicBezTo>
                  <a:cubicBezTo>
                    <a:pt x="2503" y="114"/>
                    <a:pt x="2503" y="120"/>
                    <a:pt x="2502" y="125"/>
                  </a:cubicBezTo>
                  <a:close/>
                  <a:moveTo>
                    <a:pt x="2517" y="112"/>
                  </a:moveTo>
                  <a:cubicBezTo>
                    <a:pt x="2517" y="105"/>
                    <a:pt x="2517" y="98"/>
                    <a:pt x="2517" y="91"/>
                  </a:cubicBezTo>
                  <a:cubicBezTo>
                    <a:pt x="2518" y="95"/>
                    <a:pt x="2518" y="99"/>
                    <a:pt x="2518" y="103"/>
                  </a:cubicBezTo>
                  <a:cubicBezTo>
                    <a:pt x="2518" y="106"/>
                    <a:pt x="2518" y="109"/>
                    <a:pt x="2517" y="112"/>
                  </a:cubicBezTo>
                  <a:close/>
                  <a:moveTo>
                    <a:pt x="2528" y="129"/>
                  </a:moveTo>
                  <a:cubicBezTo>
                    <a:pt x="2528" y="129"/>
                    <a:pt x="2528" y="129"/>
                    <a:pt x="2527" y="130"/>
                  </a:cubicBezTo>
                  <a:cubicBezTo>
                    <a:pt x="2527" y="132"/>
                    <a:pt x="2526" y="134"/>
                    <a:pt x="2526" y="137"/>
                  </a:cubicBezTo>
                  <a:cubicBezTo>
                    <a:pt x="2526" y="136"/>
                    <a:pt x="2526" y="136"/>
                    <a:pt x="2526" y="136"/>
                  </a:cubicBezTo>
                  <a:cubicBezTo>
                    <a:pt x="2526" y="134"/>
                    <a:pt x="2527" y="132"/>
                    <a:pt x="2527" y="130"/>
                  </a:cubicBezTo>
                  <a:cubicBezTo>
                    <a:pt x="2528" y="129"/>
                    <a:pt x="2528" y="129"/>
                    <a:pt x="2528" y="129"/>
                  </a:cubicBezTo>
                  <a:cubicBezTo>
                    <a:pt x="2528" y="129"/>
                    <a:pt x="2528" y="129"/>
                    <a:pt x="2528" y="129"/>
                  </a:cubicBezTo>
                  <a:close/>
                  <a:moveTo>
                    <a:pt x="2564" y="130"/>
                  </a:moveTo>
                  <a:cubicBezTo>
                    <a:pt x="2564" y="132"/>
                    <a:pt x="2563" y="134"/>
                    <a:pt x="2562" y="136"/>
                  </a:cubicBezTo>
                  <a:cubicBezTo>
                    <a:pt x="2562" y="131"/>
                    <a:pt x="2562" y="126"/>
                    <a:pt x="2562" y="121"/>
                  </a:cubicBezTo>
                  <a:cubicBezTo>
                    <a:pt x="2564" y="115"/>
                    <a:pt x="2566" y="110"/>
                    <a:pt x="2567" y="104"/>
                  </a:cubicBezTo>
                  <a:cubicBezTo>
                    <a:pt x="2566" y="114"/>
                    <a:pt x="2565" y="123"/>
                    <a:pt x="2564" y="130"/>
                  </a:cubicBezTo>
                  <a:close/>
                  <a:moveTo>
                    <a:pt x="2580" y="124"/>
                  </a:moveTo>
                  <a:cubicBezTo>
                    <a:pt x="2580" y="110"/>
                    <a:pt x="2582" y="94"/>
                    <a:pt x="2583" y="83"/>
                  </a:cubicBezTo>
                  <a:cubicBezTo>
                    <a:pt x="2583" y="87"/>
                    <a:pt x="2583" y="91"/>
                    <a:pt x="2583" y="95"/>
                  </a:cubicBezTo>
                  <a:cubicBezTo>
                    <a:pt x="2583" y="105"/>
                    <a:pt x="2582" y="114"/>
                    <a:pt x="2580" y="124"/>
                  </a:cubicBezTo>
                  <a:close/>
                  <a:moveTo>
                    <a:pt x="2596" y="160"/>
                  </a:moveTo>
                  <a:cubicBezTo>
                    <a:pt x="2596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6" y="160"/>
                  </a:cubicBezTo>
                  <a:close/>
                  <a:moveTo>
                    <a:pt x="2609" y="116"/>
                  </a:moveTo>
                  <a:cubicBezTo>
                    <a:pt x="2608" y="121"/>
                    <a:pt x="2606" y="127"/>
                    <a:pt x="2604" y="132"/>
                  </a:cubicBezTo>
                  <a:cubicBezTo>
                    <a:pt x="2604" y="127"/>
                    <a:pt x="2604" y="121"/>
                    <a:pt x="2604" y="115"/>
                  </a:cubicBezTo>
                  <a:cubicBezTo>
                    <a:pt x="2605" y="110"/>
                    <a:pt x="2605" y="104"/>
                    <a:pt x="2605" y="98"/>
                  </a:cubicBezTo>
                  <a:cubicBezTo>
                    <a:pt x="2605" y="95"/>
                    <a:pt x="2605" y="92"/>
                    <a:pt x="2605" y="89"/>
                  </a:cubicBezTo>
                  <a:cubicBezTo>
                    <a:pt x="2606" y="78"/>
                    <a:pt x="2607" y="68"/>
                    <a:pt x="2608" y="60"/>
                  </a:cubicBezTo>
                  <a:cubicBezTo>
                    <a:pt x="2611" y="68"/>
                    <a:pt x="2613" y="78"/>
                    <a:pt x="2613" y="87"/>
                  </a:cubicBezTo>
                  <a:cubicBezTo>
                    <a:pt x="2612" y="95"/>
                    <a:pt x="2611" y="106"/>
                    <a:pt x="2609" y="116"/>
                  </a:cubicBezTo>
                  <a:close/>
                  <a:moveTo>
                    <a:pt x="2617" y="136"/>
                  </a:moveTo>
                  <a:cubicBezTo>
                    <a:pt x="2617" y="137"/>
                    <a:pt x="2616" y="138"/>
                    <a:pt x="2616" y="139"/>
                  </a:cubicBezTo>
                  <a:cubicBezTo>
                    <a:pt x="2616" y="137"/>
                    <a:pt x="2616" y="135"/>
                    <a:pt x="2616" y="133"/>
                  </a:cubicBezTo>
                  <a:cubicBezTo>
                    <a:pt x="2617" y="130"/>
                    <a:pt x="2617" y="128"/>
                    <a:pt x="2618" y="125"/>
                  </a:cubicBezTo>
                  <a:cubicBezTo>
                    <a:pt x="2618" y="129"/>
                    <a:pt x="2617" y="133"/>
                    <a:pt x="2617" y="136"/>
                  </a:cubicBezTo>
                  <a:close/>
                  <a:moveTo>
                    <a:pt x="2633" y="126"/>
                  </a:moveTo>
                  <a:cubicBezTo>
                    <a:pt x="2632" y="113"/>
                    <a:pt x="2632" y="96"/>
                    <a:pt x="2632" y="84"/>
                  </a:cubicBezTo>
                  <a:cubicBezTo>
                    <a:pt x="2636" y="90"/>
                    <a:pt x="2638" y="100"/>
                    <a:pt x="2638" y="104"/>
                  </a:cubicBezTo>
                  <a:cubicBezTo>
                    <a:pt x="2638" y="110"/>
                    <a:pt x="2635" y="118"/>
                    <a:pt x="2633" y="126"/>
                  </a:cubicBezTo>
                  <a:close/>
                  <a:moveTo>
                    <a:pt x="2644" y="128"/>
                  </a:moveTo>
                  <a:cubicBezTo>
                    <a:pt x="2645" y="113"/>
                    <a:pt x="2645" y="91"/>
                    <a:pt x="2645" y="76"/>
                  </a:cubicBezTo>
                  <a:cubicBezTo>
                    <a:pt x="2647" y="83"/>
                    <a:pt x="2649" y="90"/>
                    <a:pt x="2649" y="96"/>
                  </a:cubicBezTo>
                  <a:cubicBezTo>
                    <a:pt x="2649" y="107"/>
                    <a:pt x="2646" y="117"/>
                    <a:pt x="2644" y="128"/>
                  </a:cubicBezTo>
                  <a:close/>
                  <a:moveTo>
                    <a:pt x="2684" y="112"/>
                  </a:moveTo>
                  <a:cubicBezTo>
                    <a:pt x="2684" y="110"/>
                    <a:pt x="2684" y="108"/>
                    <a:pt x="2683" y="105"/>
                  </a:cubicBezTo>
                  <a:cubicBezTo>
                    <a:pt x="2684" y="108"/>
                    <a:pt x="2683" y="112"/>
                    <a:pt x="2683" y="115"/>
                  </a:cubicBezTo>
                  <a:cubicBezTo>
                    <a:pt x="2678" y="131"/>
                    <a:pt x="2674" y="144"/>
                    <a:pt x="2674" y="144"/>
                  </a:cubicBezTo>
                  <a:cubicBezTo>
                    <a:pt x="2675" y="133"/>
                    <a:pt x="2679" y="110"/>
                    <a:pt x="2684" y="86"/>
                  </a:cubicBezTo>
                  <a:cubicBezTo>
                    <a:pt x="2686" y="90"/>
                    <a:pt x="2687" y="95"/>
                    <a:pt x="2688" y="99"/>
                  </a:cubicBezTo>
                  <a:cubicBezTo>
                    <a:pt x="2686" y="103"/>
                    <a:pt x="2685" y="108"/>
                    <a:pt x="2684" y="112"/>
                  </a:cubicBezTo>
                  <a:close/>
                  <a:moveTo>
                    <a:pt x="2696" y="133"/>
                  </a:moveTo>
                  <a:cubicBezTo>
                    <a:pt x="2696" y="133"/>
                    <a:pt x="2696" y="134"/>
                    <a:pt x="2696" y="134"/>
                  </a:cubicBezTo>
                  <a:cubicBezTo>
                    <a:pt x="2696" y="134"/>
                    <a:pt x="2696" y="134"/>
                    <a:pt x="2696" y="134"/>
                  </a:cubicBezTo>
                  <a:cubicBezTo>
                    <a:pt x="2696" y="134"/>
                    <a:pt x="2696" y="133"/>
                    <a:pt x="2696" y="133"/>
                  </a:cubicBezTo>
                  <a:cubicBezTo>
                    <a:pt x="2697" y="126"/>
                    <a:pt x="2698" y="117"/>
                    <a:pt x="2699" y="107"/>
                  </a:cubicBezTo>
                  <a:cubicBezTo>
                    <a:pt x="2699" y="110"/>
                    <a:pt x="2699" y="114"/>
                    <a:pt x="2699" y="117"/>
                  </a:cubicBezTo>
                  <a:cubicBezTo>
                    <a:pt x="2698" y="123"/>
                    <a:pt x="2697" y="129"/>
                    <a:pt x="2696" y="133"/>
                  </a:cubicBezTo>
                  <a:close/>
                  <a:moveTo>
                    <a:pt x="2701" y="159"/>
                  </a:move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lose/>
                  <a:moveTo>
                    <a:pt x="2742" y="143"/>
                  </a:moveTo>
                  <a:cubicBezTo>
                    <a:pt x="2742" y="142"/>
                    <a:pt x="2742" y="142"/>
                    <a:pt x="2742" y="141"/>
                  </a:cubicBezTo>
                  <a:cubicBezTo>
                    <a:pt x="2742" y="135"/>
                    <a:pt x="2743" y="127"/>
                    <a:pt x="2743" y="117"/>
                  </a:cubicBezTo>
                  <a:cubicBezTo>
                    <a:pt x="2744" y="121"/>
                    <a:pt x="2744" y="125"/>
                    <a:pt x="2744" y="129"/>
                  </a:cubicBezTo>
                  <a:cubicBezTo>
                    <a:pt x="2743" y="135"/>
                    <a:pt x="2743" y="139"/>
                    <a:pt x="2742" y="143"/>
                  </a:cubicBezTo>
                  <a:close/>
                  <a:moveTo>
                    <a:pt x="2746" y="117"/>
                  </a:moveTo>
                  <a:cubicBezTo>
                    <a:pt x="2745" y="115"/>
                    <a:pt x="2744" y="113"/>
                    <a:pt x="2744" y="111"/>
                  </a:cubicBezTo>
                  <a:cubicBezTo>
                    <a:pt x="2744" y="108"/>
                    <a:pt x="2744" y="104"/>
                    <a:pt x="2745" y="100"/>
                  </a:cubicBezTo>
                  <a:cubicBezTo>
                    <a:pt x="2746" y="103"/>
                    <a:pt x="2746" y="106"/>
                    <a:pt x="2747" y="108"/>
                  </a:cubicBezTo>
                  <a:cubicBezTo>
                    <a:pt x="2746" y="111"/>
                    <a:pt x="2746" y="114"/>
                    <a:pt x="2746" y="117"/>
                  </a:cubicBezTo>
                  <a:close/>
                  <a:moveTo>
                    <a:pt x="2754" y="133"/>
                  </a:moveTo>
                  <a:cubicBezTo>
                    <a:pt x="2754" y="133"/>
                    <a:pt x="2754" y="133"/>
                    <a:pt x="2754" y="133"/>
                  </a:cubicBezTo>
                  <a:cubicBezTo>
                    <a:pt x="2754" y="130"/>
                    <a:pt x="2755" y="127"/>
                    <a:pt x="2755" y="124"/>
                  </a:cubicBezTo>
                  <a:cubicBezTo>
                    <a:pt x="2755" y="125"/>
                    <a:pt x="2755" y="126"/>
                    <a:pt x="2755" y="128"/>
                  </a:cubicBezTo>
                  <a:cubicBezTo>
                    <a:pt x="2755" y="130"/>
                    <a:pt x="2754" y="131"/>
                    <a:pt x="2754" y="133"/>
                  </a:cubicBezTo>
                  <a:close/>
                  <a:moveTo>
                    <a:pt x="2791" y="142"/>
                  </a:moveTo>
                  <a:cubicBezTo>
                    <a:pt x="2791" y="139"/>
                    <a:pt x="2791" y="134"/>
                    <a:pt x="2791" y="128"/>
                  </a:cubicBezTo>
                  <a:cubicBezTo>
                    <a:pt x="2791" y="130"/>
                    <a:pt x="2791" y="132"/>
                    <a:pt x="2792" y="133"/>
                  </a:cubicBezTo>
                  <a:cubicBezTo>
                    <a:pt x="2791" y="139"/>
                    <a:pt x="2791" y="142"/>
                    <a:pt x="2791" y="142"/>
                  </a:cubicBezTo>
                  <a:close/>
                  <a:moveTo>
                    <a:pt x="2812" y="135"/>
                  </a:moveTo>
                  <a:cubicBezTo>
                    <a:pt x="2812" y="134"/>
                    <a:pt x="2812" y="134"/>
                    <a:pt x="2812" y="133"/>
                  </a:cubicBezTo>
                  <a:cubicBezTo>
                    <a:pt x="2812" y="121"/>
                    <a:pt x="2812" y="103"/>
                    <a:pt x="2811" y="88"/>
                  </a:cubicBezTo>
                  <a:cubicBezTo>
                    <a:pt x="2813" y="94"/>
                    <a:pt x="2815" y="100"/>
                    <a:pt x="2816" y="106"/>
                  </a:cubicBezTo>
                  <a:cubicBezTo>
                    <a:pt x="2814" y="118"/>
                    <a:pt x="2813" y="128"/>
                    <a:pt x="2812" y="135"/>
                  </a:cubicBezTo>
                  <a:close/>
                  <a:moveTo>
                    <a:pt x="2819" y="145"/>
                  </a:moveTo>
                  <a:cubicBezTo>
                    <a:pt x="2819" y="141"/>
                    <a:pt x="2819" y="136"/>
                    <a:pt x="2819" y="129"/>
                  </a:cubicBezTo>
                  <a:cubicBezTo>
                    <a:pt x="2820" y="133"/>
                    <a:pt x="2820" y="136"/>
                    <a:pt x="2821" y="139"/>
                  </a:cubicBezTo>
                  <a:cubicBezTo>
                    <a:pt x="2820" y="143"/>
                    <a:pt x="2819" y="145"/>
                    <a:pt x="2819" y="145"/>
                  </a:cubicBezTo>
                  <a:close/>
                  <a:moveTo>
                    <a:pt x="2824" y="159"/>
                  </a:moveTo>
                  <a:cubicBezTo>
                    <a:pt x="2825" y="159"/>
                    <a:pt x="2825" y="159"/>
                    <a:pt x="2825" y="159"/>
                  </a:cubicBezTo>
                  <a:cubicBezTo>
                    <a:pt x="2825" y="159"/>
                    <a:pt x="2825" y="158"/>
                    <a:pt x="2825" y="158"/>
                  </a:cubicBezTo>
                  <a:cubicBezTo>
                    <a:pt x="2825" y="159"/>
                    <a:pt x="2826" y="160"/>
                    <a:pt x="2826" y="160"/>
                  </a:cubicBezTo>
                  <a:cubicBezTo>
                    <a:pt x="2825" y="160"/>
                    <a:pt x="2825" y="159"/>
                    <a:pt x="2824" y="159"/>
                  </a:cubicBezTo>
                  <a:close/>
                  <a:moveTo>
                    <a:pt x="2826" y="121"/>
                  </a:moveTo>
                  <a:cubicBezTo>
                    <a:pt x="2824" y="117"/>
                    <a:pt x="2823" y="114"/>
                    <a:pt x="2821" y="110"/>
                  </a:cubicBezTo>
                  <a:cubicBezTo>
                    <a:pt x="2822" y="105"/>
                    <a:pt x="2822" y="99"/>
                    <a:pt x="2823" y="94"/>
                  </a:cubicBezTo>
                  <a:cubicBezTo>
                    <a:pt x="2823" y="100"/>
                    <a:pt x="2825" y="108"/>
                    <a:pt x="2827" y="116"/>
                  </a:cubicBezTo>
                  <a:cubicBezTo>
                    <a:pt x="2826" y="118"/>
                    <a:pt x="2826" y="119"/>
                    <a:pt x="2826" y="121"/>
                  </a:cubicBezTo>
                  <a:close/>
                  <a:moveTo>
                    <a:pt x="2834" y="142"/>
                  </a:moveTo>
                  <a:cubicBezTo>
                    <a:pt x="2833" y="138"/>
                    <a:pt x="2831" y="134"/>
                    <a:pt x="2829" y="129"/>
                  </a:cubicBezTo>
                  <a:cubicBezTo>
                    <a:pt x="2829" y="129"/>
                    <a:pt x="2829" y="128"/>
                    <a:pt x="2829" y="127"/>
                  </a:cubicBezTo>
                  <a:cubicBezTo>
                    <a:pt x="2831" y="132"/>
                    <a:pt x="2832" y="137"/>
                    <a:pt x="2834" y="142"/>
                  </a:cubicBezTo>
                  <a:cubicBezTo>
                    <a:pt x="2837" y="149"/>
                    <a:pt x="2839" y="153"/>
                    <a:pt x="2839" y="155"/>
                  </a:cubicBezTo>
                  <a:cubicBezTo>
                    <a:pt x="2837" y="151"/>
                    <a:pt x="2836" y="147"/>
                    <a:pt x="2834" y="142"/>
                  </a:cubicBezTo>
                  <a:close/>
                  <a:moveTo>
                    <a:pt x="3059" y="87"/>
                  </a:moveTo>
                  <a:cubicBezTo>
                    <a:pt x="3060" y="90"/>
                    <a:pt x="3061" y="92"/>
                    <a:pt x="3061" y="95"/>
                  </a:cubicBezTo>
                  <a:cubicBezTo>
                    <a:pt x="3061" y="94"/>
                    <a:pt x="3060" y="93"/>
                    <a:pt x="3059" y="92"/>
                  </a:cubicBezTo>
                  <a:cubicBezTo>
                    <a:pt x="3059" y="90"/>
                    <a:pt x="3059" y="89"/>
                    <a:pt x="3059" y="87"/>
                  </a:cubicBezTo>
                  <a:close/>
                  <a:moveTo>
                    <a:pt x="3047" y="84"/>
                  </a:moveTo>
                  <a:cubicBezTo>
                    <a:pt x="3050" y="87"/>
                    <a:pt x="3052" y="92"/>
                    <a:pt x="3055" y="96"/>
                  </a:cubicBezTo>
                  <a:cubicBezTo>
                    <a:pt x="3055" y="97"/>
                    <a:pt x="3056" y="99"/>
                    <a:pt x="3056" y="100"/>
                  </a:cubicBezTo>
                  <a:cubicBezTo>
                    <a:pt x="3056" y="104"/>
                    <a:pt x="3055" y="108"/>
                    <a:pt x="3054" y="112"/>
                  </a:cubicBezTo>
                  <a:cubicBezTo>
                    <a:pt x="3052" y="105"/>
                    <a:pt x="3049" y="98"/>
                    <a:pt x="3046" y="91"/>
                  </a:cubicBezTo>
                  <a:cubicBezTo>
                    <a:pt x="3046" y="89"/>
                    <a:pt x="3047" y="86"/>
                    <a:pt x="3047" y="84"/>
                  </a:cubicBezTo>
                  <a:close/>
                  <a:moveTo>
                    <a:pt x="3052" y="111"/>
                  </a:moveTo>
                  <a:cubicBezTo>
                    <a:pt x="3049" y="108"/>
                    <a:pt x="3047" y="105"/>
                    <a:pt x="3045" y="102"/>
                  </a:cubicBezTo>
                  <a:cubicBezTo>
                    <a:pt x="3045" y="99"/>
                    <a:pt x="3046" y="96"/>
                    <a:pt x="3046" y="93"/>
                  </a:cubicBezTo>
                  <a:cubicBezTo>
                    <a:pt x="3048" y="98"/>
                    <a:pt x="3050" y="105"/>
                    <a:pt x="3052" y="111"/>
                  </a:cubicBezTo>
                  <a:close/>
                  <a:moveTo>
                    <a:pt x="3034" y="56"/>
                  </a:moveTo>
                  <a:cubicBezTo>
                    <a:pt x="3039" y="62"/>
                    <a:pt x="3042" y="68"/>
                    <a:pt x="3045" y="74"/>
                  </a:cubicBezTo>
                  <a:cubicBezTo>
                    <a:pt x="3042" y="69"/>
                    <a:pt x="3038" y="64"/>
                    <a:pt x="3034" y="60"/>
                  </a:cubicBezTo>
                  <a:cubicBezTo>
                    <a:pt x="3034" y="59"/>
                    <a:pt x="3034" y="57"/>
                    <a:pt x="3034" y="56"/>
                  </a:cubicBezTo>
                  <a:close/>
                  <a:moveTo>
                    <a:pt x="3033" y="64"/>
                  </a:moveTo>
                  <a:cubicBezTo>
                    <a:pt x="3037" y="69"/>
                    <a:pt x="3041" y="74"/>
                    <a:pt x="3044" y="80"/>
                  </a:cubicBezTo>
                  <a:cubicBezTo>
                    <a:pt x="3044" y="81"/>
                    <a:pt x="3043" y="83"/>
                    <a:pt x="3043" y="85"/>
                  </a:cubicBezTo>
                  <a:cubicBezTo>
                    <a:pt x="3042" y="84"/>
                    <a:pt x="3042" y="83"/>
                    <a:pt x="3042" y="83"/>
                  </a:cubicBezTo>
                  <a:cubicBezTo>
                    <a:pt x="3042" y="83"/>
                    <a:pt x="3042" y="84"/>
                    <a:pt x="3043" y="85"/>
                  </a:cubicBezTo>
                  <a:cubicBezTo>
                    <a:pt x="3042" y="88"/>
                    <a:pt x="3041" y="91"/>
                    <a:pt x="3040" y="94"/>
                  </a:cubicBezTo>
                  <a:cubicBezTo>
                    <a:pt x="3037" y="89"/>
                    <a:pt x="3034" y="85"/>
                    <a:pt x="3031" y="80"/>
                  </a:cubicBezTo>
                  <a:cubicBezTo>
                    <a:pt x="3032" y="75"/>
                    <a:pt x="3033" y="69"/>
                    <a:pt x="3033" y="64"/>
                  </a:cubicBezTo>
                  <a:close/>
                  <a:moveTo>
                    <a:pt x="3024" y="139"/>
                  </a:moveTo>
                  <a:cubicBezTo>
                    <a:pt x="3024" y="120"/>
                    <a:pt x="3027" y="101"/>
                    <a:pt x="3030" y="83"/>
                  </a:cubicBezTo>
                  <a:cubicBezTo>
                    <a:pt x="3033" y="87"/>
                    <a:pt x="3036" y="91"/>
                    <a:pt x="3039" y="95"/>
                  </a:cubicBezTo>
                  <a:cubicBezTo>
                    <a:pt x="3033" y="114"/>
                    <a:pt x="3027" y="133"/>
                    <a:pt x="3025" y="152"/>
                  </a:cubicBezTo>
                  <a:cubicBezTo>
                    <a:pt x="3024" y="148"/>
                    <a:pt x="3024" y="143"/>
                    <a:pt x="3024" y="139"/>
                  </a:cubicBezTo>
                  <a:close/>
                  <a:moveTo>
                    <a:pt x="3043" y="143"/>
                  </a:moveTo>
                  <a:cubicBezTo>
                    <a:pt x="3043" y="142"/>
                    <a:pt x="3042" y="141"/>
                    <a:pt x="3041" y="140"/>
                  </a:cubicBezTo>
                  <a:cubicBezTo>
                    <a:pt x="3042" y="141"/>
                    <a:pt x="3042" y="143"/>
                    <a:pt x="3043" y="144"/>
                  </a:cubicBezTo>
                  <a:cubicBezTo>
                    <a:pt x="3041" y="146"/>
                    <a:pt x="3040" y="149"/>
                    <a:pt x="3038" y="152"/>
                  </a:cubicBezTo>
                  <a:cubicBezTo>
                    <a:pt x="3039" y="146"/>
                    <a:pt x="3040" y="140"/>
                    <a:pt x="3041" y="135"/>
                  </a:cubicBezTo>
                  <a:cubicBezTo>
                    <a:pt x="3042" y="137"/>
                    <a:pt x="3043" y="139"/>
                    <a:pt x="3044" y="142"/>
                  </a:cubicBezTo>
                  <a:cubicBezTo>
                    <a:pt x="3044" y="142"/>
                    <a:pt x="3043" y="142"/>
                    <a:pt x="3043" y="143"/>
                  </a:cubicBezTo>
                  <a:close/>
                  <a:moveTo>
                    <a:pt x="3042" y="126"/>
                  </a:moveTo>
                  <a:cubicBezTo>
                    <a:pt x="3043" y="118"/>
                    <a:pt x="3044" y="110"/>
                    <a:pt x="3045" y="102"/>
                  </a:cubicBezTo>
                  <a:cubicBezTo>
                    <a:pt x="3048" y="107"/>
                    <a:pt x="3051" y="112"/>
                    <a:pt x="3053" y="116"/>
                  </a:cubicBezTo>
                  <a:cubicBezTo>
                    <a:pt x="3052" y="122"/>
                    <a:pt x="3050" y="127"/>
                    <a:pt x="3048" y="133"/>
                  </a:cubicBezTo>
                  <a:cubicBezTo>
                    <a:pt x="3045" y="130"/>
                    <a:pt x="3043" y="128"/>
                    <a:pt x="3042" y="126"/>
                  </a:cubicBezTo>
                  <a:close/>
                  <a:moveTo>
                    <a:pt x="3054" y="140"/>
                  </a:moveTo>
                  <a:cubicBezTo>
                    <a:pt x="3053" y="140"/>
                    <a:pt x="3053" y="140"/>
                    <a:pt x="3053" y="140"/>
                  </a:cubicBezTo>
                  <a:cubicBezTo>
                    <a:pt x="3054" y="135"/>
                    <a:pt x="3055" y="130"/>
                    <a:pt x="3056" y="125"/>
                  </a:cubicBezTo>
                  <a:cubicBezTo>
                    <a:pt x="3056" y="127"/>
                    <a:pt x="3057" y="128"/>
                    <a:pt x="3057" y="130"/>
                  </a:cubicBezTo>
                  <a:cubicBezTo>
                    <a:pt x="3056" y="133"/>
                    <a:pt x="3055" y="137"/>
                    <a:pt x="3054" y="140"/>
                  </a:cubicBezTo>
                  <a:close/>
                  <a:moveTo>
                    <a:pt x="3060" y="122"/>
                  </a:moveTo>
                  <a:cubicBezTo>
                    <a:pt x="3059" y="120"/>
                    <a:pt x="3058" y="119"/>
                    <a:pt x="3057" y="117"/>
                  </a:cubicBezTo>
                  <a:cubicBezTo>
                    <a:pt x="3057" y="114"/>
                    <a:pt x="3058" y="110"/>
                    <a:pt x="3058" y="106"/>
                  </a:cubicBezTo>
                  <a:cubicBezTo>
                    <a:pt x="3059" y="111"/>
                    <a:pt x="3060" y="115"/>
                    <a:pt x="3061" y="120"/>
                  </a:cubicBezTo>
                  <a:cubicBezTo>
                    <a:pt x="3061" y="120"/>
                    <a:pt x="3061" y="121"/>
                    <a:pt x="3060" y="122"/>
                  </a:cubicBezTo>
                  <a:close/>
                  <a:moveTo>
                    <a:pt x="3062" y="151"/>
                  </a:moveTo>
                  <a:cubicBezTo>
                    <a:pt x="3061" y="151"/>
                    <a:pt x="3061" y="151"/>
                    <a:pt x="3061" y="151"/>
                  </a:cubicBezTo>
                  <a:cubicBezTo>
                    <a:pt x="3062" y="150"/>
                    <a:pt x="3062" y="150"/>
                    <a:pt x="3062" y="149"/>
                  </a:cubicBezTo>
                  <a:cubicBezTo>
                    <a:pt x="3062" y="149"/>
                    <a:pt x="3062" y="149"/>
                    <a:pt x="3062" y="149"/>
                  </a:cubicBezTo>
                  <a:cubicBezTo>
                    <a:pt x="3062" y="150"/>
                    <a:pt x="3062" y="150"/>
                    <a:pt x="3062" y="151"/>
                  </a:cubicBezTo>
                  <a:close/>
                  <a:moveTo>
                    <a:pt x="3062" y="117"/>
                  </a:moveTo>
                  <a:cubicBezTo>
                    <a:pt x="3061" y="112"/>
                    <a:pt x="3060" y="107"/>
                    <a:pt x="3058" y="102"/>
                  </a:cubicBezTo>
                  <a:cubicBezTo>
                    <a:pt x="3058" y="102"/>
                    <a:pt x="3059" y="101"/>
                    <a:pt x="3059" y="101"/>
                  </a:cubicBezTo>
                  <a:cubicBezTo>
                    <a:pt x="3061" y="105"/>
                    <a:pt x="3063" y="108"/>
                    <a:pt x="3065" y="112"/>
                  </a:cubicBezTo>
                  <a:cubicBezTo>
                    <a:pt x="3064" y="113"/>
                    <a:pt x="3063" y="115"/>
                    <a:pt x="3063" y="116"/>
                  </a:cubicBezTo>
                  <a:cubicBezTo>
                    <a:pt x="3062" y="117"/>
                    <a:pt x="3062" y="117"/>
                    <a:pt x="3062" y="117"/>
                  </a:cubicBezTo>
                  <a:close/>
                  <a:moveTo>
                    <a:pt x="3065" y="143"/>
                  </a:moveTo>
                  <a:cubicBezTo>
                    <a:pt x="3064" y="142"/>
                    <a:pt x="3064" y="142"/>
                    <a:pt x="3064" y="142"/>
                  </a:cubicBezTo>
                  <a:cubicBezTo>
                    <a:pt x="3064" y="141"/>
                    <a:pt x="3065" y="141"/>
                    <a:pt x="3065" y="140"/>
                  </a:cubicBezTo>
                  <a:cubicBezTo>
                    <a:pt x="3065" y="140"/>
                    <a:pt x="3065" y="141"/>
                    <a:pt x="3065" y="141"/>
                  </a:cubicBezTo>
                  <a:cubicBezTo>
                    <a:pt x="3065" y="142"/>
                    <a:pt x="3065" y="142"/>
                    <a:pt x="3065" y="143"/>
                  </a:cubicBezTo>
                  <a:close/>
                  <a:moveTo>
                    <a:pt x="3068" y="131"/>
                  </a:move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lose/>
                  <a:moveTo>
                    <a:pt x="3070" y="151"/>
                  </a:moveTo>
                  <a:cubicBezTo>
                    <a:pt x="3070" y="151"/>
                    <a:pt x="3070" y="151"/>
                    <a:pt x="3070" y="151"/>
                  </a:cubicBezTo>
                  <a:cubicBezTo>
                    <a:pt x="3070" y="151"/>
                    <a:pt x="3070" y="151"/>
                    <a:pt x="3070" y="152"/>
                  </a:cubicBezTo>
                  <a:cubicBezTo>
                    <a:pt x="3070" y="152"/>
                    <a:pt x="3070" y="151"/>
                    <a:pt x="3070" y="151"/>
                  </a:cubicBezTo>
                  <a:close/>
                  <a:moveTo>
                    <a:pt x="3072" y="126"/>
                  </a:moveTo>
                  <a:cubicBezTo>
                    <a:pt x="3072" y="128"/>
                    <a:pt x="3071" y="129"/>
                    <a:pt x="3070" y="131"/>
                  </a:cubicBezTo>
                  <a:cubicBezTo>
                    <a:pt x="3070" y="129"/>
                    <a:pt x="3070" y="127"/>
                    <a:pt x="3070" y="125"/>
                  </a:cubicBezTo>
                  <a:cubicBezTo>
                    <a:pt x="3070" y="124"/>
                    <a:pt x="3070" y="123"/>
                    <a:pt x="3071" y="122"/>
                  </a:cubicBezTo>
                  <a:cubicBezTo>
                    <a:pt x="3071" y="123"/>
                    <a:pt x="3072" y="124"/>
                    <a:pt x="3072" y="125"/>
                  </a:cubicBezTo>
                  <a:lnTo>
                    <a:pt x="3072" y="126"/>
                  </a:lnTo>
                  <a:close/>
                  <a:moveTo>
                    <a:pt x="3080" y="91"/>
                  </a:moveTo>
                  <a:cubicBezTo>
                    <a:pt x="3080" y="92"/>
                    <a:pt x="3080" y="94"/>
                    <a:pt x="3080" y="96"/>
                  </a:cubicBezTo>
                  <a:cubicBezTo>
                    <a:pt x="3080" y="95"/>
                    <a:pt x="3080" y="94"/>
                    <a:pt x="3079" y="93"/>
                  </a:cubicBezTo>
                  <a:cubicBezTo>
                    <a:pt x="3079" y="92"/>
                    <a:pt x="3079" y="91"/>
                    <a:pt x="3080" y="91"/>
                  </a:cubicBezTo>
                  <a:close/>
                  <a:moveTo>
                    <a:pt x="3078" y="117"/>
                  </a:moveTo>
                  <a:cubicBezTo>
                    <a:pt x="3077" y="113"/>
                    <a:pt x="3076" y="109"/>
                    <a:pt x="3076" y="106"/>
                  </a:cubicBezTo>
                  <a:cubicBezTo>
                    <a:pt x="3076" y="105"/>
                    <a:pt x="3076" y="105"/>
                    <a:pt x="3076" y="104"/>
                  </a:cubicBezTo>
                  <a:cubicBezTo>
                    <a:pt x="3077" y="107"/>
                    <a:pt x="3078" y="111"/>
                    <a:pt x="3079" y="114"/>
                  </a:cubicBezTo>
                  <a:cubicBezTo>
                    <a:pt x="3079" y="115"/>
                    <a:pt x="3078" y="116"/>
                    <a:pt x="3078" y="117"/>
                  </a:cubicBezTo>
                  <a:close/>
                  <a:moveTo>
                    <a:pt x="3081" y="127"/>
                  </a:moveTo>
                  <a:cubicBezTo>
                    <a:pt x="3080" y="127"/>
                    <a:pt x="3080" y="126"/>
                    <a:pt x="3080" y="126"/>
                  </a:cubicBezTo>
                  <a:cubicBezTo>
                    <a:pt x="3080" y="125"/>
                    <a:pt x="3080" y="125"/>
                    <a:pt x="3081" y="124"/>
                  </a:cubicBezTo>
                  <a:cubicBezTo>
                    <a:pt x="3081" y="125"/>
                    <a:pt x="3081" y="126"/>
                    <a:pt x="3081" y="127"/>
                  </a:cubicBezTo>
                  <a:close/>
                  <a:moveTo>
                    <a:pt x="3087" y="141"/>
                  </a:moveTo>
                  <a:cubicBezTo>
                    <a:pt x="3087" y="140"/>
                    <a:pt x="3087" y="140"/>
                    <a:pt x="3087" y="140"/>
                  </a:cubicBezTo>
                  <a:cubicBezTo>
                    <a:pt x="3087" y="140"/>
                    <a:pt x="3087" y="140"/>
                    <a:pt x="3087" y="140"/>
                  </a:cubicBezTo>
                  <a:cubicBezTo>
                    <a:pt x="3087" y="139"/>
                    <a:pt x="3087" y="139"/>
                    <a:pt x="3087" y="139"/>
                  </a:cubicBezTo>
                  <a:cubicBezTo>
                    <a:pt x="3087" y="139"/>
                    <a:pt x="3087" y="140"/>
                    <a:pt x="3087" y="141"/>
                  </a:cubicBezTo>
                  <a:close/>
                  <a:moveTo>
                    <a:pt x="3119" y="64"/>
                  </a:moveTo>
                  <a:cubicBezTo>
                    <a:pt x="3120" y="69"/>
                    <a:pt x="3121" y="75"/>
                    <a:pt x="3122" y="80"/>
                  </a:cubicBezTo>
                  <a:cubicBezTo>
                    <a:pt x="3120" y="82"/>
                    <a:pt x="3119" y="85"/>
                    <a:pt x="3117" y="87"/>
                  </a:cubicBezTo>
                  <a:cubicBezTo>
                    <a:pt x="3117" y="86"/>
                    <a:pt x="3116" y="84"/>
                    <a:pt x="3115" y="83"/>
                  </a:cubicBezTo>
                  <a:cubicBezTo>
                    <a:pt x="3116" y="84"/>
                    <a:pt x="3117" y="86"/>
                    <a:pt x="3117" y="87"/>
                  </a:cubicBezTo>
                  <a:cubicBezTo>
                    <a:pt x="3116" y="90"/>
                    <a:pt x="3114" y="92"/>
                    <a:pt x="3113" y="94"/>
                  </a:cubicBezTo>
                  <a:cubicBezTo>
                    <a:pt x="3111" y="89"/>
                    <a:pt x="3110" y="85"/>
                    <a:pt x="3108" y="80"/>
                  </a:cubicBezTo>
                  <a:cubicBezTo>
                    <a:pt x="3112" y="74"/>
                    <a:pt x="3116" y="69"/>
                    <a:pt x="3119" y="64"/>
                  </a:cubicBezTo>
                  <a:close/>
                  <a:moveTo>
                    <a:pt x="3097" y="72"/>
                  </a:moveTo>
                  <a:cubicBezTo>
                    <a:pt x="3099" y="75"/>
                    <a:pt x="3100" y="77"/>
                    <a:pt x="3102" y="80"/>
                  </a:cubicBezTo>
                  <a:cubicBezTo>
                    <a:pt x="3100" y="82"/>
                    <a:pt x="3099" y="84"/>
                    <a:pt x="3097" y="86"/>
                  </a:cubicBezTo>
                  <a:cubicBezTo>
                    <a:pt x="3097" y="85"/>
                    <a:pt x="3096" y="83"/>
                    <a:pt x="3096" y="82"/>
                  </a:cubicBezTo>
                  <a:cubicBezTo>
                    <a:pt x="3096" y="78"/>
                    <a:pt x="3096" y="74"/>
                    <a:pt x="3097" y="72"/>
                  </a:cubicBezTo>
                  <a:close/>
                  <a:moveTo>
                    <a:pt x="3090" y="108"/>
                  </a:moveTo>
                  <a:cubicBezTo>
                    <a:pt x="3091" y="106"/>
                    <a:pt x="3093" y="104"/>
                    <a:pt x="3094" y="101"/>
                  </a:cubicBezTo>
                  <a:cubicBezTo>
                    <a:pt x="3094" y="106"/>
                    <a:pt x="3095" y="112"/>
                    <a:pt x="3096" y="117"/>
                  </a:cubicBezTo>
                  <a:cubicBezTo>
                    <a:pt x="3095" y="119"/>
                    <a:pt x="3093" y="120"/>
                    <a:pt x="3092" y="122"/>
                  </a:cubicBezTo>
                  <a:cubicBezTo>
                    <a:pt x="3092" y="117"/>
                    <a:pt x="3091" y="113"/>
                    <a:pt x="3090" y="108"/>
                  </a:cubicBezTo>
                  <a:close/>
                  <a:moveTo>
                    <a:pt x="3097" y="134"/>
                  </a:moveTo>
                  <a:cubicBezTo>
                    <a:pt x="3096" y="131"/>
                    <a:pt x="3095" y="128"/>
                    <a:pt x="3094" y="126"/>
                  </a:cubicBezTo>
                  <a:cubicBezTo>
                    <a:pt x="3095" y="124"/>
                    <a:pt x="3095" y="123"/>
                    <a:pt x="3096" y="122"/>
                  </a:cubicBezTo>
                  <a:cubicBezTo>
                    <a:pt x="3097" y="123"/>
                    <a:pt x="3097" y="125"/>
                    <a:pt x="3097" y="127"/>
                  </a:cubicBezTo>
                  <a:cubicBezTo>
                    <a:pt x="3097" y="129"/>
                    <a:pt x="3097" y="131"/>
                    <a:pt x="3097" y="134"/>
                  </a:cubicBezTo>
                  <a:close/>
                  <a:moveTo>
                    <a:pt x="3096" y="98"/>
                  </a:moveTo>
                  <a:cubicBezTo>
                    <a:pt x="3096" y="98"/>
                    <a:pt x="3096" y="97"/>
                    <a:pt x="3097" y="97"/>
                  </a:cubicBezTo>
                  <a:cubicBezTo>
                    <a:pt x="3097" y="101"/>
                    <a:pt x="3097" y="105"/>
                    <a:pt x="3097" y="108"/>
                  </a:cubicBezTo>
                  <a:cubicBezTo>
                    <a:pt x="3097" y="105"/>
                    <a:pt x="3096" y="101"/>
                    <a:pt x="3096" y="98"/>
                  </a:cubicBezTo>
                  <a:close/>
                  <a:moveTo>
                    <a:pt x="3100" y="92"/>
                  </a:moveTo>
                  <a:cubicBezTo>
                    <a:pt x="3101" y="90"/>
                    <a:pt x="3103" y="88"/>
                    <a:pt x="3104" y="86"/>
                  </a:cubicBezTo>
                  <a:cubicBezTo>
                    <a:pt x="3105" y="88"/>
                    <a:pt x="3106" y="91"/>
                    <a:pt x="3107" y="93"/>
                  </a:cubicBezTo>
                  <a:cubicBezTo>
                    <a:pt x="3107" y="96"/>
                    <a:pt x="3107" y="99"/>
                    <a:pt x="3108" y="102"/>
                  </a:cubicBezTo>
                  <a:cubicBezTo>
                    <a:pt x="3107" y="104"/>
                    <a:pt x="3106" y="105"/>
                    <a:pt x="3104" y="106"/>
                  </a:cubicBezTo>
                  <a:cubicBezTo>
                    <a:pt x="3103" y="102"/>
                    <a:pt x="3102" y="97"/>
                    <a:pt x="3100" y="92"/>
                  </a:cubicBezTo>
                  <a:close/>
                  <a:moveTo>
                    <a:pt x="3105" y="107"/>
                  </a:moveTo>
                  <a:cubicBezTo>
                    <a:pt x="3106" y="106"/>
                    <a:pt x="3107" y="104"/>
                    <a:pt x="3108" y="102"/>
                  </a:cubicBezTo>
                  <a:cubicBezTo>
                    <a:pt x="3110" y="118"/>
                    <a:pt x="3112" y="133"/>
                    <a:pt x="3114" y="149"/>
                  </a:cubicBezTo>
                  <a:cubicBezTo>
                    <a:pt x="3111" y="137"/>
                    <a:pt x="3108" y="122"/>
                    <a:pt x="3105" y="107"/>
                  </a:cubicBezTo>
                  <a:close/>
                  <a:moveTo>
                    <a:pt x="3113" y="95"/>
                  </a:moveTo>
                  <a:cubicBezTo>
                    <a:pt x="3115" y="93"/>
                    <a:pt x="3116" y="91"/>
                    <a:pt x="3118" y="89"/>
                  </a:cubicBezTo>
                  <a:cubicBezTo>
                    <a:pt x="3124" y="103"/>
                    <a:pt x="3125" y="120"/>
                    <a:pt x="3125" y="136"/>
                  </a:cubicBezTo>
                  <a:cubicBezTo>
                    <a:pt x="3122" y="122"/>
                    <a:pt x="3118" y="109"/>
                    <a:pt x="3113" y="95"/>
                  </a:cubicBezTo>
                  <a:close/>
                  <a:moveTo>
                    <a:pt x="3118" y="88"/>
                  </a:moveTo>
                  <a:cubicBezTo>
                    <a:pt x="3120" y="86"/>
                    <a:pt x="3121" y="85"/>
                    <a:pt x="3122" y="83"/>
                  </a:cubicBezTo>
                  <a:cubicBezTo>
                    <a:pt x="3123" y="90"/>
                    <a:pt x="3125" y="98"/>
                    <a:pt x="3126" y="105"/>
                  </a:cubicBezTo>
                  <a:cubicBezTo>
                    <a:pt x="3123" y="99"/>
                    <a:pt x="3121" y="93"/>
                    <a:pt x="3118" y="88"/>
                  </a:cubicBezTo>
                  <a:close/>
                  <a:moveTo>
                    <a:pt x="3131" y="92"/>
                  </a:moveTo>
                  <a:cubicBezTo>
                    <a:pt x="3129" y="86"/>
                    <a:pt x="3128" y="80"/>
                    <a:pt x="3127" y="74"/>
                  </a:cubicBezTo>
                  <a:cubicBezTo>
                    <a:pt x="3129" y="71"/>
                    <a:pt x="3131" y="68"/>
                    <a:pt x="3132" y="65"/>
                  </a:cubicBezTo>
                  <a:cubicBezTo>
                    <a:pt x="3134" y="69"/>
                    <a:pt x="3137" y="72"/>
                    <a:pt x="3139" y="75"/>
                  </a:cubicBezTo>
                  <a:cubicBezTo>
                    <a:pt x="3139" y="77"/>
                    <a:pt x="3139" y="79"/>
                    <a:pt x="3139" y="81"/>
                  </a:cubicBezTo>
                  <a:cubicBezTo>
                    <a:pt x="3138" y="80"/>
                    <a:pt x="3138" y="80"/>
                    <a:pt x="3137" y="79"/>
                  </a:cubicBezTo>
                  <a:cubicBezTo>
                    <a:pt x="3138" y="80"/>
                    <a:pt x="3138" y="81"/>
                    <a:pt x="3139" y="81"/>
                  </a:cubicBezTo>
                  <a:cubicBezTo>
                    <a:pt x="3138" y="86"/>
                    <a:pt x="3138" y="90"/>
                    <a:pt x="3138" y="91"/>
                  </a:cubicBezTo>
                  <a:cubicBezTo>
                    <a:pt x="3138" y="95"/>
                    <a:pt x="3138" y="100"/>
                    <a:pt x="3139" y="104"/>
                  </a:cubicBezTo>
                  <a:cubicBezTo>
                    <a:pt x="3138" y="101"/>
                    <a:pt x="3138" y="99"/>
                    <a:pt x="3137" y="96"/>
                  </a:cubicBezTo>
                  <a:cubicBezTo>
                    <a:pt x="3138" y="100"/>
                    <a:pt x="3138" y="104"/>
                    <a:pt x="3139" y="108"/>
                  </a:cubicBezTo>
                  <a:cubicBezTo>
                    <a:pt x="3139" y="120"/>
                    <a:pt x="3140" y="132"/>
                    <a:pt x="3140" y="143"/>
                  </a:cubicBezTo>
                  <a:cubicBezTo>
                    <a:pt x="3138" y="126"/>
                    <a:pt x="3135" y="109"/>
                    <a:pt x="3131" y="92"/>
                  </a:cubicBezTo>
                  <a:close/>
                  <a:moveTo>
                    <a:pt x="3154" y="125"/>
                  </a:moveTo>
                  <a:cubicBezTo>
                    <a:pt x="3151" y="116"/>
                    <a:pt x="3149" y="108"/>
                    <a:pt x="3146" y="99"/>
                  </a:cubicBezTo>
                  <a:cubicBezTo>
                    <a:pt x="3144" y="93"/>
                    <a:pt x="3143" y="87"/>
                    <a:pt x="3143" y="82"/>
                  </a:cubicBezTo>
                  <a:cubicBezTo>
                    <a:pt x="3148" y="91"/>
                    <a:pt x="3151" y="100"/>
                    <a:pt x="3154" y="109"/>
                  </a:cubicBezTo>
                  <a:cubicBezTo>
                    <a:pt x="3154" y="114"/>
                    <a:pt x="3154" y="120"/>
                    <a:pt x="3154" y="125"/>
                  </a:cubicBezTo>
                  <a:close/>
                  <a:moveTo>
                    <a:pt x="3154" y="97"/>
                  </a:moveTo>
                  <a:cubicBezTo>
                    <a:pt x="3151" y="90"/>
                    <a:pt x="3147" y="83"/>
                    <a:pt x="3142" y="77"/>
                  </a:cubicBezTo>
                  <a:cubicBezTo>
                    <a:pt x="3142" y="72"/>
                    <a:pt x="3141" y="67"/>
                    <a:pt x="3142" y="63"/>
                  </a:cubicBezTo>
                  <a:cubicBezTo>
                    <a:pt x="3147" y="70"/>
                    <a:pt x="3151" y="77"/>
                    <a:pt x="3155" y="85"/>
                  </a:cubicBezTo>
                  <a:cubicBezTo>
                    <a:pt x="3155" y="89"/>
                    <a:pt x="3155" y="93"/>
                    <a:pt x="3154" y="97"/>
                  </a:cubicBezTo>
                  <a:close/>
                  <a:moveTo>
                    <a:pt x="3164" y="119"/>
                  </a:moveTo>
                  <a:cubicBezTo>
                    <a:pt x="3163" y="110"/>
                    <a:pt x="3161" y="102"/>
                    <a:pt x="3159" y="93"/>
                  </a:cubicBezTo>
                  <a:cubicBezTo>
                    <a:pt x="3161" y="98"/>
                    <a:pt x="3164" y="104"/>
                    <a:pt x="3165" y="109"/>
                  </a:cubicBezTo>
                  <a:cubicBezTo>
                    <a:pt x="3166" y="112"/>
                    <a:pt x="3166" y="114"/>
                    <a:pt x="3167" y="116"/>
                  </a:cubicBezTo>
                  <a:cubicBezTo>
                    <a:pt x="3167" y="120"/>
                    <a:pt x="3167" y="124"/>
                    <a:pt x="3167" y="127"/>
                  </a:cubicBezTo>
                  <a:cubicBezTo>
                    <a:pt x="3166" y="125"/>
                    <a:pt x="3165" y="122"/>
                    <a:pt x="3164" y="119"/>
                  </a:cubicBezTo>
                  <a:close/>
                  <a:moveTo>
                    <a:pt x="3175" y="151"/>
                  </a:moveTo>
                  <a:cubicBezTo>
                    <a:pt x="3175" y="151"/>
                    <a:pt x="3175" y="151"/>
                    <a:pt x="3175" y="151"/>
                  </a:cubicBezTo>
                  <a:cubicBezTo>
                    <a:pt x="3175" y="151"/>
                    <a:pt x="3175" y="150"/>
                    <a:pt x="3175" y="150"/>
                  </a:cubicBezTo>
                  <a:cubicBezTo>
                    <a:pt x="3175" y="150"/>
                    <a:pt x="3175" y="150"/>
                    <a:pt x="3175" y="150"/>
                  </a:cubicBezTo>
                  <a:cubicBezTo>
                    <a:pt x="3175" y="151"/>
                    <a:pt x="3175" y="151"/>
                    <a:pt x="3175" y="151"/>
                  </a:cubicBezTo>
                  <a:close/>
                  <a:moveTo>
                    <a:pt x="3181" y="114"/>
                  </a:moveTo>
                  <a:cubicBezTo>
                    <a:pt x="3179" y="105"/>
                    <a:pt x="3176" y="96"/>
                    <a:pt x="3172" y="88"/>
                  </a:cubicBezTo>
                  <a:cubicBezTo>
                    <a:pt x="3176" y="97"/>
                    <a:pt x="3178" y="110"/>
                    <a:pt x="3180" y="122"/>
                  </a:cubicBezTo>
                  <a:cubicBezTo>
                    <a:pt x="3179" y="127"/>
                    <a:pt x="3178" y="132"/>
                    <a:pt x="3177" y="136"/>
                  </a:cubicBezTo>
                  <a:cubicBezTo>
                    <a:pt x="3176" y="134"/>
                    <a:pt x="3176" y="133"/>
                    <a:pt x="3175" y="131"/>
                  </a:cubicBezTo>
                  <a:cubicBezTo>
                    <a:pt x="3175" y="117"/>
                    <a:pt x="3174" y="102"/>
                    <a:pt x="3172" y="87"/>
                  </a:cubicBezTo>
                  <a:cubicBezTo>
                    <a:pt x="3172" y="87"/>
                    <a:pt x="3172" y="88"/>
                    <a:pt x="3172" y="88"/>
                  </a:cubicBezTo>
                  <a:cubicBezTo>
                    <a:pt x="3172" y="88"/>
                    <a:pt x="3172" y="87"/>
                    <a:pt x="3172" y="87"/>
                  </a:cubicBezTo>
                  <a:cubicBezTo>
                    <a:pt x="3171" y="82"/>
                    <a:pt x="3171" y="78"/>
                    <a:pt x="3170" y="73"/>
                  </a:cubicBezTo>
                  <a:cubicBezTo>
                    <a:pt x="3177" y="81"/>
                    <a:pt x="3181" y="91"/>
                    <a:pt x="3184" y="101"/>
                  </a:cubicBezTo>
                  <a:cubicBezTo>
                    <a:pt x="3183" y="105"/>
                    <a:pt x="3182" y="109"/>
                    <a:pt x="3181" y="114"/>
                  </a:cubicBezTo>
                  <a:close/>
                  <a:moveTo>
                    <a:pt x="3188" y="139"/>
                  </a:moveTo>
                  <a:cubicBezTo>
                    <a:pt x="3187" y="137"/>
                    <a:pt x="3187" y="136"/>
                    <a:pt x="3187" y="135"/>
                  </a:cubicBezTo>
                  <a:cubicBezTo>
                    <a:pt x="3187" y="124"/>
                    <a:pt x="3183" y="112"/>
                    <a:pt x="3184" y="101"/>
                  </a:cubicBezTo>
                  <a:cubicBezTo>
                    <a:pt x="3187" y="110"/>
                    <a:pt x="3189" y="119"/>
                    <a:pt x="3190" y="128"/>
                  </a:cubicBezTo>
                  <a:cubicBezTo>
                    <a:pt x="3189" y="132"/>
                    <a:pt x="3188" y="135"/>
                    <a:pt x="3188" y="139"/>
                  </a:cubicBezTo>
                  <a:close/>
                  <a:moveTo>
                    <a:pt x="3203" y="136"/>
                  </a:moveTo>
                  <a:cubicBezTo>
                    <a:pt x="3203" y="135"/>
                    <a:pt x="3202" y="134"/>
                    <a:pt x="3202" y="133"/>
                  </a:cubicBezTo>
                  <a:cubicBezTo>
                    <a:pt x="3201" y="131"/>
                    <a:pt x="3201" y="129"/>
                    <a:pt x="3200" y="128"/>
                  </a:cubicBezTo>
                  <a:cubicBezTo>
                    <a:pt x="3200" y="127"/>
                    <a:pt x="3200" y="127"/>
                    <a:pt x="3200" y="127"/>
                  </a:cubicBezTo>
                  <a:cubicBezTo>
                    <a:pt x="3201" y="129"/>
                    <a:pt x="3201" y="131"/>
                    <a:pt x="3202" y="133"/>
                  </a:cubicBezTo>
                  <a:cubicBezTo>
                    <a:pt x="3202" y="134"/>
                    <a:pt x="3203" y="135"/>
                    <a:pt x="3203" y="136"/>
                  </a:cubicBezTo>
                  <a:cubicBezTo>
                    <a:pt x="3203" y="136"/>
                    <a:pt x="3203" y="136"/>
                    <a:pt x="3203" y="136"/>
                  </a:cubicBezTo>
                  <a:close/>
                  <a:moveTo>
                    <a:pt x="3204" y="133"/>
                  </a:moveTo>
                  <a:cubicBezTo>
                    <a:pt x="3203" y="129"/>
                    <a:pt x="3202" y="125"/>
                    <a:pt x="3200" y="120"/>
                  </a:cubicBezTo>
                  <a:cubicBezTo>
                    <a:pt x="3200" y="119"/>
                    <a:pt x="3200" y="117"/>
                    <a:pt x="3200" y="115"/>
                  </a:cubicBezTo>
                  <a:cubicBezTo>
                    <a:pt x="3200" y="112"/>
                    <a:pt x="3200" y="109"/>
                    <a:pt x="3201" y="105"/>
                  </a:cubicBezTo>
                  <a:cubicBezTo>
                    <a:pt x="3203" y="112"/>
                    <a:pt x="3204" y="119"/>
                    <a:pt x="3206" y="126"/>
                  </a:cubicBezTo>
                  <a:cubicBezTo>
                    <a:pt x="3205" y="128"/>
                    <a:pt x="3205" y="130"/>
                    <a:pt x="3204" y="133"/>
                  </a:cubicBezTo>
                  <a:close/>
                  <a:moveTo>
                    <a:pt x="3218" y="139"/>
                  </a:moveTo>
                  <a:cubicBezTo>
                    <a:pt x="3218" y="139"/>
                    <a:pt x="3218" y="139"/>
                    <a:pt x="3218" y="139"/>
                  </a:cubicBezTo>
                  <a:cubicBezTo>
                    <a:pt x="3218" y="137"/>
                    <a:pt x="3218" y="135"/>
                    <a:pt x="3218" y="133"/>
                  </a:cubicBezTo>
                  <a:cubicBezTo>
                    <a:pt x="3218" y="134"/>
                    <a:pt x="3218" y="134"/>
                    <a:pt x="3218" y="135"/>
                  </a:cubicBezTo>
                  <a:cubicBezTo>
                    <a:pt x="3218" y="136"/>
                    <a:pt x="3218" y="138"/>
                    <a:pt x="3218" y="139"/>
                  </a:cubicBezTo>
                  <a:close/>
                  <a:moveTo>
                    <a:pt x="3239" y="150"/>
                  </a:moveTo>
                  <a:cubicBezTo>
                    <a:pt x="3238" y="148"/>
                    <a:pt x="3237" y="147"/>
                    <a:pt x="3237" y="146"/>
                  </a:cubicBezTo>
                  <a:cubicBezTo>
                    <a:pt x="3236" y="131"/>
                    <a:pt x="3232" y="116"/>
                    <a:pt x="3230" y="101"/>
                  </a:cubicBezTo>
                  <a:cubicBezTo>
                    <a:pt x="3235" y="115"/>
                    <a:pt x="3237" y="132"/>
                    <a:pt x="3239" y="146"/>
                  </a:cubicBezTo>
                  <a:cubicBezTo>
                    <a:pt x="3239" y="147"/>
                    <a:pt x="3239" y="148"/>
                    <a:pt x="3239" y="150"/>
                  </a:cubicBezTo>
                  <a:close/>
                  <a:moveTo>
                    <a:pt x="3243" y="143"/>
                  </a:moveTo>
                  <a:cubicBezTo>
                    <a:pt x="3243" y="142"/>
                    <a:pt x="3243" y="141"/>
                    <a:pt x="3243" y="140"/>
                  </a:cubicBezTo>
                  <a:cubicBezTo>
                    <a:pt x="3243" y="139"/>
                    <a:pt x="3243" y="139"/>
                    <a:pt x="3243" y="139"/>
                  </a:cubicBezTo>
                  <a:cubicBezTo>
                    <a:pt x="3243" y="140"/>
                    <a:pt x="3243" y="141"/>
                    <a:pt x="3243" y="142"/>
                  </a:cubicBezTo>
                  <a:cubicBezTo>
                    <a:pt x="3243" y="142"/>
                    <a:pt x="3243" y="143"/>
                    <a:pt x="3243" y="143"/>
                  </a:cubicBezTo>
                  <a:close/>
                  <a:moveTo>
                    <a:pt x="3256" y="139"/>
                  </a:moveTo>
                  <a:cubicBezTo>
                    <a:pt x="3255" y="142"/>
                    <a:pt x="3254" y="145"/>
                    <a:pt x="3253" y="147"/>
                  </a:cubicBezTo>
                  <a:cubicBezTo>
                    <a:pt x="3253" y="146"/>
                    <a:pt x="3252" y="145"/>
                    <a:pt x="3252" y="144"/>
                  </a:cubicBezTo>
                  <a:cubicBezTo>
                    <a:pt x="3254" y="132"/>
                    <a:pt x="3254" y="120"/>
                    <a:pt x="3256" y="108"/>
                  </a:cubicBezTo>
                  <a:cubicBezTo>
                    <a:pt x="3257" y="104"/>
                    <a:pt x="3257" y="100"/>
                    <a:pt x="3259" y="97"/>
                  </a:cubicBezTo>
                  <a:cubicBezTo>
                    <a:pt x="3260" y="100"/>
                    <a:pt x="3261" y="103"/>
                    <a:pt x="3262" y="107"/>
                  </a:cubicBezTo>
                  <a:cubicBezTo>
                    <a:pt x="3261" y="112"/>
                    <a:pt x="3261" y="117"/>
                    <a:pt x="3260" y="122"/>
                  </a:cubicBezTo>
                  <a:cubicBezTo>
                    <a:pt x="3258" y="116"/>
                    <a:pt x="3257" y="111"/>
                    <a:pt x="3256" y="108"/>
                  </a:cubicBezTo>
                  <a:cubicBezTo>
                    <a:pt x="3258" y="116"/>
                    <a:pt x="3257" y="128"/>
                    <a:pt x="3256" y="139"/>
                  </a:cubicBezTo>
                  <a:close/>
                  <a:moveTo>
                    <a:pt x="3264" y="134"/>
                  </a:moveTo>
                  <a:cubicBezTo>
                    <a:pt x="3263" y="132"/>
                    <a:pt x="3262" y="130"/>
                    <a:pt x="3262" y="128"/>
                  </a:cubicBezTo>
                  <a:cubicBezTo>
                    <a:pt x="3262" y="121"/>
                    <a:pt x="3262" y="114"/>
                    <a:pt x="3262" y="107"/>
                  </a:cubicBezTo>
                  <a:cubicBezTo>
                    <a:pt x="3264" y="113"/>
                    <a:pt x="3265" y="118"/>
                    <a:pt x="3266" y="124"/>
                  </a:cubicBezTo>
                  <a:cubicBezTo>
                    <a:pt x="3265" y="128"/>
                    <a:pt x="3264" y="131"/>
                    <a:pt x="3264" y="134"/>
                  </a:cubicBezTo>
                  <a:close/>
                  <a:moveTo>
                    <a:pt x="3268" y="118"/>
                  </a:moveTo>
                  <a:cubicBezTo>
                    <a:pt x="3266" y="114"/>
                    <a:pt x="3264" y="109"/>
                    <a:pt x="3262" y="105"/>
                  </a:cubicBezTo>
                  <a:cubicBezTo>
                    <a:pt x="3263" y="102"/>
                    <a:pt x="3263" y="99"/>
                    <a:pt x="3264" y="96"/>
                  </a:cubicBezTo>
                  <a:cubicBezTo>
                    <a:pt x="3263" y="99"/>
                    <a:pt x="3263" y="102"/>
                    <a:pt x="3262" y="105"/>
                  </a:cubicBezTo>
                  <a:cubicBezTo>
                    <a:pt x="3261" y="102"/>
                    <a:pt x="3260" y="99"/>
                    <a:pt x="3259" y="96"/>
                  </a:cubicBezTo>
                  <a:cubicBezTo>
                    <a:pt x="3259" y="94"/>
                    <a:pt x="3260" y="91"/>
                    <a:pt x="3261" y="89"/>
                  </a:cubicBezTo>
                  <a:cubicBezTo>
                    <a:pt x="3265" y="95"/>
                    <a:pt x="3268" y="102"/>
                    <a:pt x="3270" y="109"/>
                  </a:cubicBezTo>
                  <a:cubicBezTo>
                    <a:pt x="3270" y="112"/>
                    <a:pt x="3269" y="115"/>
                    <a:pt x="3268" y="118"/>
                  </a:cubicBezTo>
                  <a:close/>
                  <a:moveTo>
                    <a:pt x="3271" y="151"/>
                  </a:moveTo>
                  <a:cubicBezTo>
                    <a:pt x="3271" y="151"/>
                    <a:pt x="3271" y="151"/>
                    <a:pt x="3270" y="151"/>
                  </a:cubicBezTo>
                  <a:cubicBezTo>
                    <a:pt x="3271" y="150"/>
                    <a:pt x="3271" y="148"/>
                    <a:pt x="3271" y="147"/>
                  </a:cubicBezTo>
                  <a:cubicBezTo>
                    <a:pt x="3271" y="147"/>
                    <a:pt x="3271" y="148"/>
                    <a:pt x="3271" y="148"/>
                  </a:cubicBezTo>
                  <a:cubicBezTo>
                    <a:pt x="3271" y="149"/>
                    <a:pt x="3271" y="150"/>
                    <a:pt x="3271" y="151"/>
                  </a:cubicBezTo>
                  <a:close/>
                  <a:moveTo>
                    <a:pt x="3275" y="136"/>
                  </a:moveTo>
                  <a:cubicBezTo>
                    <a:pt x="3274" y="134"/>
                    <a:pt x="3273" y="132"/>
                    <a:pt x="3273" y="130"/>
                  </a:cubicBezTo>
                  <a:cubicBezTo>
                    <a:pt x="3273" y="127"/>
                    <a:pt x="3273" y="123"/>
                    <a:pt x="3274" y="120"/>
                  </a:cubicBezTo>
                  <a:cubicBezTo>
                    <a:pt x="3275" y="123"/>
                    <a:pt x="3276" y="127"/>
                    <a:pt x="3276" y="130"/>
                  </a:cubicBezTo>
                  <a:cubicBezTo>
                    <a:pt x="3276" y="132"/>
                    <a:pt x="3275" y="134"/>
                    <a:pt x="3275" y="136"/>
                  </a:cubicBezTo>
                  <a:close/>
                  <a:moveTo>
                    <a:pt x="3281" y="150"/>
                  </a:moveTo>
                  <a:cubicBezTo>
                    <a:pt x="3281" y="149"/>
                    <a:pt x="3280" y="147"/>
                    <a:pt x="3279" y="146"/>
                  </a:cubicBezTo>
                  <a:cubicBezTo>
                    <a:pt x="3280" y="145"/>
                    <a:pt x="3280" y="145"/>
                    <a:pt x="3280" y="144"/>
                  </a:cubicBezTo>
                  <a:cubicBezTo>
                    <a:pt x="3281" y="146"/>
                    <a:pt x="3281" y="147"/>
                    <a:pt x="3282" y="149"/>
                  </a:cubicBezTo>
                  <a:cubicBezTo>
                    <a:pt x="3281" y="149"/>
                    <a:pt x="3281" y="149"/>
                    <a:pt x="3281" y="150"/>
                  </a:cubicBezTo>
                  <a:close/>
                  <a:moveTo>
                    <a:pt x="3279" y="122"/>
                  </a:moveTo>
                  <a:cubicBezTo>
                    <a:pt x="3278" y="118"/>
                    <a:pt x="3276" y="115"/>
                    <a:pt x="3275" y="111"/>
                  </a:cubicBezTo>
                  <a:cubicBezTo>
                    <a:pt x="3276" y="101"/>
                    <a:pt x="3278" y="90"/>
                    <a:pt x="3282" y="81"/>
                  </a:cubicBezTo>
                  <a:cubicBezTo>
                    <a:pt x="3285" y="86"/>
                    <a:pt x="3288" y="91"/>
                    <a:pt x="3290" y="97"/>
                  </a:cubicBezTo>
                  <a:cubicBezTo>
                    <a:pt x="3288" y="101"/>
                    <a:pt x="3286" y="105"/>
                    <a:pt x="3284" y="109"/>
                  </a:cubicBezTo>
                  <a:cubicBezTo>
                    <a:pt x="3282" y="102"/>
                    <a:pt x="3281" y="96"/>
                    <a:pt x="3279" y="91"/>
                  </a:cubicBezTo>
                  <a:cubicBezTo>
                    <a:pt x="3280" y="99"/>
                    <a:pt x="3281" y="106"/>
                    <a:pt x="3282" y="114"/>
                  </a:cubicBezTo>
                  <a:cubicBezTo>
                    <a:pt x="3281" y="117"/>
                    <a:pt x="3280" y="119"/>
                    <a:pt x="3279" y="122"/>
                  </a:cubicBezTo>
                  <a:close/>
                  <a:moveTo>
                    <a:pt x="3286" y="141"/>
                  </a:moveTo>
                  <a:cubicBezTo>
                    <a:pt x="3285" y="138"/>
                    <a:pt x="3284" y="135"/>
                    <a:pt x="3283" y="131"/>
                  </a:cubicBezTo>
                  <a:cubicBezTo>
                    <a:pt x="3283" y="129"/>
                    <a:pt x="3284" y="127"/>
                    <a:pt x="3284" y="124"/>
                  </a:cubicBezTo>
                  <a:cubicBezTo>
                    <a:pt x="3285" y="130"/>
                    <a:pt x="3286" y="135"/>
                    <a:pt x="3287" y="140"/>
                  </a:cubicBezTo>
                  <a:cubicBezTo>
                    <a:pt x="3287" y="140"/>
                    <a:pt x="3287" y="141"/>
                    <a:pt x="3286" y="141"/>
                  </a:cubicBezTo>
                  <a:close/>
                  <a:moveTo>
                    <a:pt x="3289" y="150"/>
                  </a:moveTo>
                  <a:cubicBezTo>
                    <a:pt x="3289" y="150"/>
                    <a:pt x="3289" y="149"/>
                    <a:pt x="3289" y="149"/>
                  </a:cubicBezTo>
                  <a:cubicBezTo>
                    <a:pt x="3289" y="149"/>
                    <a:pt x="3289" y="149"/>
                    <a:pt x="3289" y="149"/>
                  </a:cubicBezTo>
                  <a:cubicBezTo>
                    <a:pt x="3289" y="149"/>
                    <a:pt x="3289" y="150"/>
                    <a:pt x="3289" y="150"/>
                  </a:cubicBezTo>
                  <a:cubicBezTo>
                    <a:pt x="3289" y="150"/>
                    <a:pt x="3289" y="150"/>
                    <a:pt x="3289" y="150"/>
                  </a:cubicBezTo>
                  <a:close/>
                  <a:moveTo>
                    <a:pt x="3286" y="114"/>
                  </a:moveTo>
                  <a:cubicBezTo>
                    <a:pt x="3287" y="108"/>
                    <a:pt x="3288" y="103"/>
                    <a:pt x="3290" y="97"/>
                  </a:cubicBezTo>
                  <a:cubicBezTo>
                    <a:pt x="3292" y="103"/>
                    <a:pt x="3294" y="110"/>
                    <a:pt x="3296" y="116"/>
                  </a:cubicBezTo>
                  <a:cubicBezTo>
                    <a:pt x="3294" y="121"/>
                    <a:pt x="3293" y="126"/>
                    <a:pt x="3291" y="131"/>
                  </a:cubicBezTo>
                  <a:cubicBezTo>
                    <a:pt x="3289" y="126"/>
                    <a:pt x="3287" y="120"/>
                    <a:pt x="3286" y="114"/>
                  </a:cubicBezTo>
                  <a:close/>
                  <a:moveTo>
                    <a:pt x="3293" y="139"/>
                  </a:moveTo>
                  <a:cubicBezTo>
                    <a:pt x="3295" y="134"/>
                    <a:pt x="3296" y="129"/>
                    <a:pt x="3297" y="124"/>
                  </a:cubicBezTo>
                  <a:cubicBezTo>
                    <a:pt x="3298" y="125"/>
                    <a:pt x="3298" y="126"/>
                    <a:pt x="3298" y="128"/>
                  </a:cubicBezTo>
                  <a:cubicBezTo>
                    <a:pt x="3297" y="132"/>
                    <a:pt x="3295" y="136"/>
                    <a:pt x="3294" y="141"/>
                  </a:cubicBezTo>
                  <a:cubicBezTo>
                    <a:pt x="3294" y="140"/>
                    <a:pt x="3293" y="139"/>
                    <a:pt x="3293" y="139"/>
                  </a:cubicBezTo>
                  <a:close/>
                  <a:moveTo>
                    <a:pt x="3298" y="150"/>
                  </a:moveTo>
                  <a:cubicBezTo>
                    <a:pt x="3298" y="150"/>
                    <a:pt x="3297" y="149"/>
                    <a:pt x="3297" y="149"/>
                  </a:cubicBezTo>
                  <a:cubicBezTo>
                    <a:pt x="3298" y="147"/>
                    <a:pt x="3299" y="144"/>
                    <a:pt x="3300" y="141"/>
                  </a:cubicBezTo>
                  <a:cubicBezTo>
                    <a:pt x="3300" y="143"/>
                    <a:pt x="3301" y="144"/>
                    <a:pt x="3301" y="145"/>
                  </a:cubicBezTo>
                  <a:cubicBezTo>
                    <a:pt x="3300" y="147"/>
                    <a:pt x="3299" y="149"/>
                    <a:pt x="3298" y="150"/>
                  </a:cubicBezTo>
                  <a:close/>
                  <a:moveTo>
                    <a:pt x="3309" y="126"/>
                  </a:moveTo>
                  <a:cubicBezTo>
                    <a:pt x="3308" y="123"/>
                    <a:pt x="3307" y="120"/>
                    <a:pt x="3306" y="117"/>
                  </a:cubicBezTo>
                  <a:cubicBezTo>
                    <a:pt x="3307" y="116"/>
                    <a:pt x="3307" y="115"/>
                    <a:pt x="3307" y="114"/>
                  </a:cubicBezTo>
                  <a:cubicBezTo>
                    <a:pt x="3307" y="116"/>
                    <a:pt x="3308" y="117"/>
                    <a:pt x="3308" y="119"/>
                  </a:cubicBezTo>
                  <a:cubicBezTo>
                    <a:pt x="3309" y="121"/>
                    <a:pt x="3309" y="123"/>
                    <a:pt x="3310" y="125"/>
                  </a:cubicBezTo>
                  <a:cubicBezTo>
                    <a:pt x="3309" y="125"/>
                    <a:pt x="3309" y="125"/>
                    <a:pt x="3309" y="126"/>
                  </a:cubicBezTo>
                  <a:close/>
                  <a:moveTo>
                    <a:pt x="3314" y="142"/>
                  </a:moveTo>
                  <a:cubicBezTo>
                    <a:pt x="3313" y="139"/>
                    <a:pt x="3313" y="136"/>
                    <a:pt x="3312" y="133"/>
                  </a:cubicBezTo>
                  <a:cubicBezTo>
                    <a:pt x="3312" y="133"/>
                    <a:pt x="3312" y="133"/>
                    <a:pt x="3312" y="133"/>
                  </a:cubicBezTo>
                  <a:cubicBezTo>
                    <a:pt x="3313" y="136"/>
                    <a:pt x="3313" y="138"/>
                    <a:pt x="3314" y="141"/>
                  </a:cubicBezTo>
                  <a:cubicBezTo>
                    <a:pt x="3314" y="141"/>
                    <a:pt x="3314" y="141"/>
                    <a:pt x="3314" y="142"/>
                  </a:cubicBezTo>
                  <a:close/>
                  <a:moveTo>
                    <a:pt x="3316" y="148"/>
                  </a:move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lose/>
                  <a:moveTo>
                    <a:pt x="3319" y="141"/>
                  </a:moveTo>
                  <a:cubicBezTo>
                    <a:pt x="3319" y="141"/>
                    <a:pt x="3319" y="141"/>
                    <a:pt x="3319" y="141"/>
                  </a:cubicBezTo>
                  <a:cubicBezTo>
                    <a:pt x="3320" y="137"/>
                    <a:pt x="3321" y="133"/>
                    <a:pt x="3323" y="129"/>
                  </a:cubicBezTo>
                  <a:cubicBezTo>
                    <a:pt x="3323" y="129"/>
                    <a:pt x="3323" y="130"/>
                    <a:pt x="3323" y="131"/>
                  </a:cubicBezTo>
                  <a:cubicBezTo>
                    <a:pt x="3321" y="135"/>
                    <a:pt x="3320" y="138"/>
                    <a:pt x="3319" y="141"/>
                  </a:cubicBezTo>
                  <a:close/>
                  <a:moveTo>
                    <a:pt x="3326" y="122"/>
                  </a:moveTo>
                  <a:cubicBezTo>
                    <a:pt x="3326" y="121"/>
                    <a:pt x="3325" y="120"/>
                    <a:pt x="3325" y="119"/>
                  </a:cubicBezTo>
                  <a:cubicBezTo>
                    <a:pt x="3326" y="117"/>
                    <a:pt x="3326" y="114"/>
                    <a:pt x="3327" y="111"/>
                  </a:cubicBezTo>
                  <a:cubicBezTo>
                    <a:pt x="3328" y="113"/>
                    <a:pt x="3328" y="115"/>
                    <a:pt x="3329" y="117"/>
                  </a:cubicBezTo>
                  <a:cubicBezTo>
                    <a:pt x="3328" y="119"/>
                    <a:pt x="3327" y="121"/>
                    <a:pt x="3326" y="122"/>
                  </a:cubicBezTo>
                  <a:close/>
                  <a:moveTo>
                    <a:pt x="3336" y="147"/>
                  </a:moveTo>
                  <a:cubicBezTo>
                    <a:pt x="3335" y="145"/>
                    <a:pt x="3335" y="144"/>
                    <a:pt x="3334" y="142"/>
                  </a:cubicBezTo>
                  <a:cubicBezTo>
                    <a:pt x="3334" y="140"/>
                    <a:pt x="3333" y="138"/>
                    <a:pt x="3332" y="136"/>
                  </a:cubicBezTo>
                  <a:cubicBezTo>
                    <a:pt x="3332" y="136"/>
                    <a:pt x="3332" y="135"/>
                    <a:pt x="3332" y="134"/>
                  </a:cubicBezTo>
                  <a:cubicBezTo>
                    <a:pt x="3333" y="137"/>
                    <a:pt x="3334" y="139"/>
                    <a:pt x="3334" y="142"/>
                  </a:cubicBezTo>
                  <a:cubicBezTo>
                    <a:pt x="3335" y="144"/>
                    <a:pt x="3335" y="145"/>
                    <a:pt x="3336" y="147"/>
                  </a:cubicBezTo>
                  <a:close/>
                  <a:moveTo>
                    <a:pt x="3339" y="138"/>
                  </a:moveTo>
                  <a:cubicBezTo>
                    <a:pt x="3337" y="133"/>
                    <a:pt x="3336" y="128"/>
                    <a:pt x="3334" y="124"/>
                  </a:cubicBezTo>
                  <a:cubicBezTo>
                    <a:pt x="3334" y="121"/>
                    <a:pt x="3335" y="118"/>
                    <a:pt x="3335" y="116"/>
                  </a:cubicBezTo>
                  <a:cubicBezTo>
                    <a:pt x="3336" y="123"/>
                    <a:pt x="3338" y="129"/>
                    <a:pt x="3340" y="136"/>
                  </a:cubicBezTo>
                  <a:cubicBezTo>
                    <a:pt x="3340" y="137"/>
                    <a:pt x="3339" y="137"/>
                    <a:pt x="3339" y="138"/>
                  </a:cubicBezTo>
                  <a:close/>
                  <a:moveTo>
                    <a:pt x="3336" y="109"/>
                  </a:moveTo>
                  <a:cubicBezTo>
                    <a:pt x="3337" y="103"/>
                    <a:pt x="3339" y="97"/>
                    <a:pt x="3341" y="91"/>
                  </a:cubicBezTo>
                  <a:cubicBezTo>
                    <a:pt x="3343" y="96"/>
                    <a:pt x="3345" y="101"/>
                    <a:pt x="3347" y="106"/>
                  </a:cubicBezTo>
                  <a:cubicBezTo>
                    <a:pt x="3345" y="112"/>
                    <a:pt x="3344" y="120"/>
                    <a:pt x="3342" y="127"/>
                  </a:cubicBezTo>
                  <a:cubicBezTo>
                    <a:pt x="3340" y="121"/>
                    <a:pt x="3338" y="115"/>
                    <a:pt x="3336" y="109"/>
                  </a:cubicBezTo>
                  <a:close/>
                  <a:moveTo>
                    <a:pt x="3343" y="148"/>
                  </a:move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8"/>
                    <a:pt x="3343" y="148"/>
                  </a:cubicBezTo>
                  <a:close/>
                  <a:moveTo>
                    <a:pt x="3345" y="136"/>
                  </a:moveTo>
                  <a:cubicBezTo>
                    <a:pt x="3347" y="127"/>
                    <a:pt x="3347" y="118"/>
                    <a:pt x="3347" y="109"/>
                  </a:cubicBezTo>
                  <a:cubicBezTo>
                    <a:pt x="3349" y="115"/>
                    <a:pt x="3350" y="121"/>
                    <a:pt x="3351" y="127"/>
                  </a:cubicBezTo>
                  <a:cubicBezTo>
                    <a:pt x="3349" y="131"/>
                    <a:pt x="3348" y="135"/>
                    <a:pt x="3347" y="139"/>
                  </a:cubicBezTo>
                  <a:cubicBezTo>
                    <a:pt x="3346" y="138"/>
                    <a:pt x="3346" y="137"/>
                    <a:pt x="3345" y="136"/>
                  </a:cubicBezTo>
                  <a:close/>
                  <a:moveTo>
                    <a:pt x="3352" y="148"/>
                  </a:moveTo>
                  <a:cubicBezTo>
                    <a:pt x="3351" y="148"/>
                    <a:pt x="3351" y="147"/>
                    <a:pt x="3350" y="146"/>
                  </a:cubicBezTo>
                  <a:cubicBezTo>
                    <a:pt x="3351" y="143"/>
                    <a:pt x="3352" y="140"/>
                    <a:pt x="3352" y="137"/>
                  </a:cubicBezTo>
                  <a:cubicBezTo>
                    <a:pt x="3353" y="140"/>
                    <a:pt x="3353" y="142"/>
                    <a:pt x="3354" y="144"/>
                  </a:cubicBezTo>
                  <a:cubicBezTo>
                    <a:pt x="3353" y="146"/>
                    <a:pt x="3352" y="147"/>
                    <a:pt x="3352" y="148"/>
                  </a:cubicBezTo>
                  <a:close/>
                  <a:moveTo>
                    <a:pt x="3347" y="103"/>
                  </a:moveTo>
                  <a:cubicBezTo>
                    <a:pt x="3347" y="102"/>
                    <a:pt x="3347" y="102"/>
                    <a:pt x="3347" y="102"/>
                  </a:cubicBezTo>
                  <a:cubicBezTo>
                    <a:pt x="3347" y="102"/>
                    <a:pt x="3347" y="103"/>
                    <a:pt x="3347" y="103"/>
                  </a:cubicBezTo>
                  <a:cubicBezTo>
                    <a:pt x="3345" y="98"/>
                    <a:pt x="3343" y="94"/>
                    <a:pt x="3341" y="91"/>
                  </a:cubicBezTo>
                  <a:cubicBezTo>
                    <a:pt x="3342" y="87"/>
                    <a:pt x="3344" y="83"/>
                    <a:pt x="3346" y="80"/>
                  </a:cubicBezTo>
                  <a:cubicBezTo>
                    <a:pt x="3352" y="89"/>
                    <a:pt x="3356" y="99"/>
                    <a:pt x="3358" y="109"/>
                  </a:cubicBezTo>
                  <a:cubicBezTo>
                    <a:pt x="3357" y="112"/>
                    <a:pt x="3355" y="116"/>
                    <a:pt x="3354" y="119"/>
                  </a:cubicBezTo>
                  <a:cubicBezTo>
                    <a:pt x="3352" y="114"/>
                    <a:pt x="3350" y="108"/>
                    <a:pt x="3347" y="103"/>
                  </a:cubicBezTo>
                  <a:close/>
                  <a:moveTo>
                    <a:pt x="3355" y="123"/>
                  </a:moveTo>
                  <a:cubicBezTo>
                    <a:pt x="3356" y="118"/>
                    <a:pt x="3357" y="114"/>
                    <a:pt x="3358" y="110"/>
                  </a:cubicBezTo>
                  <a:cubicBezTo>
                    <a:pt x="3359" y="115"/>
                    <a:pt x="3360" y="120"/>
                    <a:pt x="3361" y="125"/>
                  </a:cubicBezTo>
                  <a:cubicBezTo>
                    <a:pt x="3360" y="128"/>
                    <a:pt x="3359" y="130"/>
                    <a:pt x="3358" y="133"/>
                  </a:cubicBezTo>
                  <a:cubicBezTo>
                    <a:pt x="3357" y="129"/>
                    <a:pt x="3356" y="126"/>
                    <a:pt x="3355" y="123"/>
                  </a:cubicBezTo>
                  <a:close/>
                  <a:moveTo>
                    <a:pt x="3362" y="150"/>
                  </a:moveTo>
                  <a:cubicBezTo>
                    <a:pt x="3362" y="147"/>
                    <a:pt x="3361" y="144"/>
                    <a:pt x="3360" y="140"/>
                  </a:cubicBezTo>
                  <a:cubicBezTo>
                    <a:pt x="3361" y="137"/>
                    <a:pt x="3361" y="135"/>
                    <a:pt x="3361" y="132"/>
                  </a:cubicBezTo>
                  <a:cubicBezTo>
                    <a:pt x="3362" y="137"/>
                    <a:pt x="3362" y="143"/>
                    <a:pt x="3362" y="149"/>
                  </a:cubicBezTo>
                  <a:cubicBezTo>
                    <a:pt x="3362" y="150"/>
                    <a:pt x="3362" y="150"/>
                    <a:pt x="3362" y="150"/>
                  </a:cubicBezTo>
                  <a:close/>
                  <a:moveTo>
                    <a:pt x="3391" y="152"/>
                  </a:moveTo>
                  <a:cubicBezTo>
                    <a:pt x="3391" y="148"/>
                    <a:pt x="3391" y="145"/>
                    <a:pt x="3390" y="141"/>
                  </a:cubicBezTo>
                  <a:cubicBezTo>
                    <a:pt x="3390" y="136"/>
                    <a:pt x="3391" y="131"/>
                    <a:pt x="3391" y="125"/>
                  </a:cubicBezTo>
                  <a:cubicBezTo>
                    <a:pt x="3391" y="134"/>
                    <a:pt x="3391" y="142"/>
                    <a:pt x="3391" y="151"/>
                  </a:cubicBezTo>
                  <a:cubicBezTo>
                    <a:pt x="3391" y="151"/>
                    <a:pt x="3391" y="151"/>
                    <a:pt x="3391" y="152"/>
                  </a:cubicBezTo>
                  <a:close/>
                  <a:moveTo>
                    <a:pt x="3457" y="128"/>
                  </a:moveTo>
                  <a:cubicBezTo>
                    <a:pt x="3457" y="132"/>
                    <a:pt x="3456" y="136"/>
                    <a:pt x="3455" y="140"/>
                  </a:cubicBezTo>
                  <a:cubicBezTo>
                    <a:pt x="3455" y="136"/>
                    <a:pt x="3454" y="133"/>
                    <a:pt x="3453" y="129"/>
                  </a:cubicBezTo>
                  <a:cubicBezTo>
                    <a:pt x="3453" y="126"/>
                    <a:pt x="3453" y="122"/>
                    <a:pt x="3453" y="119"/>
                  </a:cubicBezTo>
                  <a:cubicBezTo>
                    <a:pt x="3453" y="112"/>
                    <a:pt x="3454" y="104"/>
                    <a:pt x="3455" y="97"/>
                  </a:cubicBezTo>
                  <a:cubicBezTo>
                    <a:pt x="3456" y="102"/>
                    <a:pt x="3457" y="107"/>
                    <a:pt x="3457" y="111"/>
                  </a:cubicBezTo>
                  <a:cubicBezTo>
                    <a:pt x="3457" y="122"/>
                    <a:pt x="3457" y="122"/>
                    <a:pt x="3457" y="122"/>
                  </a:cubicBezTo>
                  <a:cubicBezTo>
                    <a:pt x="3457" y="124"/>
                    <a:pt x="3457" y="126"/>
                    <a:pt x="3457" y="128"/>
                  </a:cubicBezTo>
                  <a:close/>
                  <a:moveTo>
                    <a:pt x="3465" y="151"/>
                  </a:moveTo>
                  <a:cubicBezTo>
                    <a:pt x="3465" y="152"/>
                    <a:pt x="3465" y="152"/>
                    <a:pt x="3465" y="152"/>
                  </a:cubicBezTo>
                  <a:cubicBezTo>
                    <a:pt x="3465" y="152"/>
                    <a:pt x="3465" y="152"/>
                    <a:pt x="3465" y="152"/>
                  </a:cubicBezTo>
                  <a:cubicBezTo>
                    <a:pt x="3465" y="136"/>
                    <a:pt x="3465" y="123"/>
                    <a:pt x="3464" y="109"/>
                  </a:cubicBezTo>
                  <a:cubicBezTo>
                    <a:pt x="3464" y="104"/>
                    <a:pt x="3465" y="99"/>
                    <a:pt x="3466" y="93"/>
                  </a:cubicBezTo>
                  <a:cubicBezTo>
                    <a:pt x="3467" y="99"/>
                    <a:pt x="3467" y="105"/>
                    <a:pt x="3467" y="110"/>
                  </a:cubicBezTo>
                  <a:cubicBezTo>
                    <a:pt x="3467" y="124"/>
                    <a:pt x="3465" y="138"/>
                    <a:pt x="3465" y="151"/>
                  </a:cubicBezTo>
                  <a:close/>
                  <a:moveTo>
                    <a:pt x="3492" y="110"/>
                  </a:moveTo>
                  <a:cubicBezTo>
                    <a:pt x="3492" y="109"/>
                    <a:pt x="3492" y="107"/>
                    <a:pt x="3492" y="106"/>
                  </a:cubicBezTo>
                  <a:cubicBezTo>
                    <a:pt x="3492" y="110"/>
                    <a:pt x="3493" y="113"/>
                    <a:pt x="3492" y="116"/>
                  </a:cubicBezTo>
                  <a:cubicBezTo>
                    <a:pt x="3492" y="114"/>
                    <a:pt x="3492" y="112"/>
                    <a:pt x="3492" y="110"/>
                  </a:cubicBezTo>
                  <a:close/>
                  <a:moveTo>
                    <a:pt x="3518" y="120"/>
                  </a:moveTo>
                  <a:cubicBezTo>
                    <a:pt x="3516" y="114"/>
                    <a:pt x="3515" y="109"/>
                    <a:pt x="3515" y="104"/>
                  </a:cubicBezTo>
                  <a:cubicBezTo>
                    <a:pt x="3515" y="102"/>
                    <a:pt x="3515" y="98"/>
                    <a:pt x="3517" y="93"/>
                  </a:cubicBezTo>
                  <a:cubicBezTo>
                    <a:pt x="3518" y="100"/>
                    <a:pt x="3518" y="107"/>
                    <a:pt x="3518" y="112"/>
                  </a:cubicBezTo>
                  <a:cubicBezTo>
                    <a:pt x="3518" y="115"/>
                    <a:pt x="3518" y="117"/>
                    <a:pt x="3518" y="120"/>
                  </a:cubicBezTo>
                  <a:close/>
                  <a:moveTo>
                    <a:pt x="3528" y="145"/>
                  </a:moveTo>
                  <a:cubicBezTo>
                    <a:pt x="3528" y="145"/>
                    <a:pt x="3528" y="144"/>
                    <a:pt x="3528" y="144"/>
                  </a:cubicBezTo>
                  <a:cubicBezTo>
                    <a:pt x="3528" y="139"/>
                    <a:pt x="3528" y="134"/>
                    <a:pt x="3528" y="129"/>
                  </a:cubicBezTo>
                  <a:cubicBezTo>
                    <a:pt x="3529" y="132"/>
                    <a:pt x="3529" y="134"/>
                    <a:pt x="3529" y="137"/>
                  </a:cubicBezTo>
                  <a:cubicBezTo>
                    <a:pt x="3529" y="140"/>
                    <a:pt x="3528" y="142"/>
                    <a:pt x="3528" y="145"/>
                  </a:cubicBezTo>
                  <a:close/>
                  <a:moveTo>
                    <a:pt x="3539" y="145"/>
                  </a:moveTo>
                  <a:cubicBezTo>
                    <a:pt x="3539" y="144"/>
                    <a:pt x="3538" y="143"/>
                    <a:pt x="3538" y="143"/>
                  </a:cubicBezTo>
                  <a:cubicBezTo>
                    <a:pt x="3538" y="142"/>
                    <a:pt x="3538" y="141"/>
                    <a:pt x="3538" y="140"/>
                  </a:cubicBezTo>
                  <a:cubicBezTo>
                    <a:pt x="3539" y="141"/>
                    <a:pt x="3539" y="142"/>
                    <a:pt x="3539" y="143"/>
                  </a:cubicBezTo>
                  <a:cubicBezTo>
                    <a:pt x="3539" y="143"/>
                    <a:pt x="3539" y="144"/>
                    <a:pt x="3539" y="145"/>
                  </a:cubicBezTo>
                  <a:close/>
                  <a:moveTo>
                    <a:pt x="3540" y="138"/>
                  </a:moveTo>
                  <a:cubicBezTo>
                    <a:pt x="3540" y="136"/>
                    <a:pt x="3539" y="135"/>
                    <a:pt x="3539" y="133"/>
                  </a:cubicBezTo>
                  <a:cubicBezTo>
                    <a:pt x="3539" y="129"/>
                    <a:pt x="3539" y="124"/>
                    <a:pt x="3539" y="119"/>
                  </a:cubicBezTo>
                  <a:cubicBezTo>
                    <a:pt x="3540" y="124"/>
                    <a:pt x="3541" y="129"/>
                    <a:pt x="3542" y="134"/>
                  </a:cubicBezTo>
                  <a:cubicBezTo>
                    <a:pt x="3541" y="135"/>
                    <a:pt x="3541" y="137"/>
                    <a:pt x="3540" y="138"/>
                  </a:cubicBezTo>
                  <a:close/>
                  <a:moveTo>
                    <a:pt x="3545" y="154"/>
                  </a:moveTo>
                  <a:cubicBezTo>
                    <a:pt x="3545" y="153"/>
                    <a:pt x="3545" y="152"/>
                    <a:pt x="3545" y="151"/>
                  </a:cubicBezTo>
                  <a:cubicBezTo>
                    <a:pt x="3545" y="151"/>
                    <a:pt x="3545" y="150"/>
                    <a:pt x="3545" y="150"/>
                  </a:cubicBezTo>
                  <a:cubicBezTo>
                    <a:pt x="3545" y="151"/>
                    <a:pt x="3545" y="152"/>
                    <a:pt x="3545" y="154"/>
                  </a:cubicBezTo>
                  <a:close/>
                  <a:moveTo>
                    <a:pt x="3551" y="139"/>
                  </a:moveTo>
                  <a:cubicBezTo>
                    <a:pt x="3550" y="136"/>
                    <a:pt x="3549" y="134"/>
                    <a:pt x="3548" y="132"/>
                  </a:cubicBezTo>
                  <a:cubicBezTo>
                    <a:pt x="3549" y="129"/>
                    <a:pt x="3550" y="127"/>
                    <a:pt x="3551" y="125"/>
                  </a:cubicBezTo>
                  <a:cubicBezTo>
                    <a:pt x="3551" y="128"/>
                    <a:pt x="3552" y="131"/>
                    <a:pt x="3553" y="134"/>
                  </a:cubicBezTo>
                  <a:cubicBezTo>
                    <a:pt x="3552" y="136"/>
                    <a:pt x="3552" y="137"/>
                    <a:pt x="3551" y="139"/>
                  </a:cubicBezTo>
                  <a:close/>
                  <a:moveTo>
                    <a:pt x="3571" y="114"/>
                  </a:moveTo>
                  <a:cubicBezTo>
                    <a:pt x="3570" y="108"/>
                    <a:pt x="3569" y="101"/>
                    <a:pt x="3569" y="95"/>
                  </a:cubicBezTo>
                  <a:cubicBezTo>
                    <a:pt x="3569" y="88"/>
                    <a:pt x="3570" y="81"/>
                    <a:pt x="3571" y="75"/>
                  </a:cubicBezTo>
                  <a:cubicBezTo>
                    <a:pt x="3573" y="81"/>
                    <a:pt x="3573" y="88"/>
                    <a:pt x="3573" y="95"/>
                  </a:cubicBezTo>
                  <a:cubicBezTo>
                    <a:pt x="3573" y="101"/>
                    <a:pt x="3572" y="108"/>
                    <a:pt x="3571" y="114"/>
                  </a:cubicBezTo>
                  <a:close/>
                  <a:moveTo>
                    <a:pt x="3591" y="139"/>
                  </a:moveTo>
                  <a:cubicBezTo>
                    <a:pt x="3591" y="137"/>
                    <a:pt x="3590" y="136"/>
                    <a:pt x="3590" y="134"/>
                  </a:cubicBezTo>
                  <a:cubicBezTo>
                    <a:pt x="3590" y="131"/>
                    <a:pt x="3591" y="128"/>
                    <a:pt x="3592" y="125"/>
                  </a:cubicBezTo>
                  <a:cubicBezTo>
                    <a:pt x="3592" y="127"/>
                    <a:pt x="3593" y="129"/>
                    <a:pt x="3594" y="132"/>
                  </a:cubicBezTo>
                  <a:cubicBezTo>
                    <a:pt x="3593" y="134"/>
                    <a:pt x="3592" y="136"/>
                    <a:pt x="3591" y="139"/>
                  </a:cubicBezTo>
                  <a:close/>
                  <a:moveTo>
                    <a:pt x="3597" y="154"/>
                  </a:moveTo>
                  <a:cubicBezTo>
                    <a:pt x="3597" y="154"/>
                    <a:pt x="3597" y="154"/>
                    <a:pt x="3597" y="154"/>
                  </a:cubicBezTo>
                  <a:cubicBezTo>
                    <a:pt x="3597" y="152"/>
                    <a:pt x="3597" y="151"/>
                    <a:pt x="3598" y="150"/>
                  </a:cubicBezTo>
                  <a:cubicBezTo>
                    <a:pt x="3598" y="150"/>
                    <a:pt x="3598" y="151"/>
                    <a:pt x="3598" y="151"/>
                  </a:cubicBezTo>
                  <a:cubicBezTo>
                    <a:pt x="3597" y="152"/>
                    <a:pt x="3597" y="153"/>
                    <a:pt x="3597" y="154"/>
                  </a:cubicBezTo>
                  <a:close/>
                  <a:moveTo>
                    <a:pt x="3603" y="119"/>
                  </a:move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19"/>
                  </a:cubicBezTo>
                  <a:close/>
                  <a:moveTo>
                    <a:pt x="3602" y="138"/>
                  </a:moveTo>
                  <a:cubicBezTo>
                    <a:pt x="3601" y="137"/>
                    <a:pt x="3601" y="135"/>
                    <a:pt x="3601" y="134"/>
                  </a:cubicBezTo>
                  <a:cubicBezTo>
                    <a:pt x="3601" y="134"/>
                    <a:pt x="3601" y="134"/>
                    <a:pt x="3601" y="134"/>
                  </a:cubicBezTo>
                  <a:cubicBezTo>
                    <a:pt x="3601" y="134"/>
                    <a:pt x="3602" y="135"/>
                    <a:pt x="3602" y="137"/>
                  </a:cubicBezTo>
                  <a:cubicBezTo>
                    <a:pt x="3602" y="137"/>
                    <a:pt x="3602" y="138"/>
                    <a:pt x="3602" y="138"/>
                  </a:cubicBezTo>
                  <a:close/>
                  <a:moveTo>
                    <a:pt x="3601" y="133"/>
                  </a:moveTo>
                  <a:cubicBezTo>
                    <a:pt x="3601" y="132"/>
                    <a:pt x="3601" y="131"/>
                    <a:pt x="3601" y="130"/>
                  </a:cubicBezTo>
                  <a:cubicBezTo>
                    <a:pt x="3602" y="131"/>
                    <a:pt x="3603" y="133"/>
                    <a:pt x="3603" y="134"/>
                  </a:cubicBezTo>
                  <a:cubicBezTo>
                    <a:pt x="3603" y="135"/>
                    <a:pt x="3603" y="135"/>
                    <a:pt x="3603" y="136"/>
                  </a:cubicBezTo>
                  <a:cubicBezTo>
                    <a:pt x="3602" y="134"/>
                    <a:pt x="3601" y="133"/>
                    <a:pt x="3601" y="133"/>
                  </a:cubicBezTo>
                  <a:close/>
                  <a:moveTo>
                    <a:pt x="3604" y="145"/>
                  </a:moveTo>
                  <a:cubicBezTo>
                    <a:pt x="3603" y="144"/>
                    <a:pt x="3603" y="143"/>
                    <a:pt x="3603" y="143"/>
                  </a:cubicBezTo>
                  <a:cubicBezTo>
                    <a:pt x="3603" y="142"/>
                    <a:pt x="3604" y="141"/>
                    <a:pt x="3604" y="140"/>
                  </a:cubicBezTo>
                  <a:cubicBezTo>
                    <a:pt x="3604" y="140"/>
                    <a:pt x="3604" y="140"/>
                    <a:pt x="3604" y="140"/>
                  </a:cubicBezTo>
                  <a:cubicBezTo>
                    <a:pt x="3604" y="141"/>
                    <a:pt x="3604" y="142"/>
                    <a:pt x="3604" y="143"/>
                  </a:cubicBezTo>
                  <a:cubicBezTo>
                    <a:pt x="3604" y="143"/>
                    <a:pt x="3604" y="144"/>
                    <a:pt x="3604" y="145"/>
                  </a:cubicBezTo>
                  <a:close/>
                  <a:moveTo>
                    <a:pt x="3614" y="134"/>
                  </a:moveTo>
                  <a:cubicBezTo>
                    <a:pt x="3614" y="134"/>
                    <a:pt x="3614" y="133"/>
                    <a:pt x="3614" y="133"/>
                  </a:cubicBezTo>
                  <a:cubicBezTo>
                    <a:pt x="3614" y="132"/>
                    <a:pt x="3614" y="130"/>
                    <a:pt x="3614" y="129"/>
                  </a:cubicBezTo>
                  <a:cubicBezTo>
                    <a:pt x="3614" y="130"/>
                    <a:pt x="3614" y="132"/>
                    <a:pt x="3614" y="134"/>
                  </a:cubicBezTo>
                  <a:close/>
                  <a:moveTo>
                    <a:pt x="3624" y="120"/>
                  </a:moveTo>
                  <a:cubicBezTo>
                    <a:pt x="3624" y="117"/>
                    <a:pt x="3624" y="115"/>
                    <a:pt x="3624" y="112"/>
                  </a:cubicBezTo>
                  <a:cubicBezTo>
                    <a:pt x="3624" y="111"/>
                    <a:pt x="3624" y="111"/>
                    <a:pt x="3624" y="110"/>
                  </a:cubicBezTo>
                  <a:cubicBezTo>
                    <a:pt x="3624" y="113"/>
                    <a:pt x="3624" y="116"/>
                    <a:pt x="3625" y="119"/>
                  </a:cubicBezTo>
                  <a:cubicBezTo>
                    <a:pt x="3625" y="119"/>
                    <a:pt x="3624" y="120"/>
                    <a:pt x="3624" y="120"/>
                  </a:cubicBezTo>
                  <a:close/>
                  <a:moveTo>
                    <a:pt x="3626" y="115"/>
                  </a:moveTo>
                  <a:cubicBezTo>
                    <a:pt x="3625" y="112"/>
                    <a:pt x="3625" y="108"/>
                    <a:pt x="3624" y="104"/>
                  </a:cubicBezTo>
                  <a:cubicBezTo>
                    <a:pt x="3625" y="101"/>
                    <a:pt x="3625" y="97"/>
                    <a:pt x="3626" y="93"/>
                  </a:cubicBezTo>
                  <a:cubicBezTo>
                    <a:pt x="3627" y="98"/>
                    <a:pt x="3627" y="102"/>
                    <a:pt x="3627" y="104"/>
                  </a:cubicBezTo>
                  <a:cubicBezTo>
                    <a:pt x="3627" y="108"/>
                    <a:pt x="3627" y="111"/>
                    <a:pt x="3626" y="115"/>
                  </a:cubicBezTo>
                  <a:close/>
                  <a:moveTo>
                    <a:pt x="3631" y="102"/>
                  </a:moveTo>
                  <a:cubicBezTo>
                    <a:pt x="3631" y="102"/>
                    <a:pt x="3631" y="102"/>
                    <a:pt x="3630" y="103"/>
                  </a:cubicBezTo>
                  <a:cubicBezTo>
                    <a:pt x="3630" y="99"/>
                    <a:pt x="3629" y="94"/>
                    <a:pt x="3626" y="90"/>
                  </a:cubicBezTo>
                  <a:cubicBezTo>
                    <a:pt x="3628" y="84"/>
                    <a:pt x="3630" y="78"/>
                    <a:pt x="3632" y="73"/>
                  </a:cubicBezTo>
                  <a:cubicBezTo>
                    <a:pt x="3631" y="83"/>
                    <a:pt x="3631" y="93"/>
                    <a:pt x="3631" y="102"/>
                  </a:cubicBezTo>
                  <a:close/>
                  <a:moveTo>
                    <a:pt x="3637" y="110"/>
                  </a:moveTo>
                  <a:cubicBezTo>
                    <a:pt x="3637" y="111"/>
                    <a:pt x="3637" y="111"/>
                    <a:pt x="3637" y="111"/>
                  </a:cubicBezTo>
                  <a:cubicBezTo>
                    <a:pt x="3637" y="114"/>
                    <a:pt x="3636" y="116"/>
                    <a:pt x="3636" y="119"/>
                  </a:cubicBezTo>
                  <a:cubicBezTo>
                    <a:pt x="3635" y="114"/>
                    <a:pt x="3635" y="108"/>
                    <a:pt x="3635" y="103"/>
                  </a:cubicBezTo>
                  <a:cubicBezTo>
                    <a:pt x="3635" y="97"/>
                    <a:pt x="3635" y="91"/>
                    <a:pt x="3637" y="85"/>
                  </a:cubicBezTo>
                  <a:cubicBezTo>
                    <a:pt x="3636" y="87"/>
                    <a:pt x="3635" y="89"/>
                    <a:pt x="3634" y="92"/>
                  </a:cubicBezTo>
                  <a:cubicBezTo>
                    <a:pt x="3634" y="87"/>
                    <a:pt x="3634" y="82"/>
                    <a:pt x="3635" y="77"/>
                  </a:cubicBezTo>
                  <a:cubicBezTo>
                    <a:pt x="3637" y="83"/>
                    <a:pt x="3638" y="90"/>
                    <a:pt x="3638" y="96"/>
                  </a:cubicBezTo>
                  <a:cubicBezTo>
                    <a:pt x="3638" y="101"/>
                    <a:pt x="3638" y="106"/>
                    <a:pt x="3637" y="110"/>
                  </a:cubicBezTo>
                  <a:close/>
                  <a:moveTo>
                    <a:pt x="3643" y="127"/>
                  </a:moveTo>
                  <a:cubicBezTo>
                    <a:pt x="3642" y="132"/>
                    <a:pt x="3642" y="134"/>
                    <a:pt x="3642" y="134"/>
                  </a:cubicBezTo>
                  <a:cubicBezTo>
                    <a:pt x="3642" y="129"/>
                    <a:pt x="3643" y="125"/>
                    <a:pt x="3643" y="120"/>
                  </a:cubicBezTo>
                  <a:cubicBezTo>
                    <a:pt x="3643" y="123"/>
                    <a:pt x="3643" y="125"/>
                    <a:pt x="3643" y="127"/>
                  </a:cubicBezTo>
                  <a:close/>
                  <a:moveTo>
                    <a:pt x="3675" y="92"/>
                  </a:moveTo>
                  <a:cubicBezTo>
                    <a:pt x="3675" y="91"/>
                    <a:pt x="3675" y="90"/>
                    <a:pt x="3675" y="89"/>
                  </a:cubicBezTo>
                  <a:cubicBezTo>
                    <a:pt x="3675" y="89"/>
                    <a:pt x="3675" y="90"/>
                    <a:pt x="3675" y="91"/>
                  </a:cubicBezTo>
                  <a:cubicBezTo>
                    <a:pt x="3675" y="91"/>
                    <a:pt x="3675" y="92"/>
                    <a:pt x="3675" y="92"/>
                  </a:cubicBezTo>
                  <a:close/>
                  <a:moveTo>
                    <a:pt x="3677" y="130"/>
                  </a:moveTo>
                  <a:cubicBezTo>
                    <a:pt x="3677" y="132"/>
                    <a:pt x="3677" y="134"/>
                    <a:pt x="3677" y="136"/>
                  </a:cubicBezTo>
                  <a:cubicBezTo>
                    <a:pt x="3676" y="127"/>
                    <a:pt x="3675" y="119"/>
                    <a:pt x="3675" y="110"/>
                  </a:cubicBezTo>
                  <a:cubicBezTo>
                    <a:pt x="3675" y="105"/>
                    <a:pt x="3675" y="99"/>
                    <a:pt x="3676" y="93"/>
                  </a:cubicBezTo>
                  <a:cubicBezTo>
                    <a:pt x="3677" y="99"/>
                    <a:pt x="3678" y="104"/>
                    <a:pt x="3679" y="109"/>
                  </a:cubicBezTo>
                  <a:cubicBezTo>
                    <a:pt x="3678" y="116"/>
                    <a:pt x="3678" y="123"/>
                    <a:pt x="3677" y="130"/>
                  </a:cubicBezTo>
                  <a:close/>
                  <a:moveTo>
                    <a:pt x="3687" y="140"/>
                  </a:moveTo>
                  <a:cubicBezTo>
                    <a:pt x="3687" y="140"/>
                    <a:pt x="3687" y="139"/>
                    <a:pt x="3687" y="139"/>
                  </a:cubicBezTo>
                  <a:cubicBezTo>
                    <a:pt x="3688" y="100"/>
                    <a:pt x="3688" y="100"/>
                    <a:pt x="3688" y="100"/>
                  </a:cubicBezTo>
                  <a:cubicBezTo>
                    <a:pt x="3688" y="106"/>
                    <a:pt x="3689" y="113"/>
                    <a:pt x="3689" y="119"/>
                  </a:cubicBezTo>
                  <a:cubicBezTo>
                    <a:pt x="3689" y="122"/>
                    <a:pt x="3689" y="126"/>
                    <a:pt x="3689" y="129"/>
                  </a:cubicBezTo>
                  <a:cubicBezTo>
                    <a:pt x="3688" y="133"/>
                    <a:pt x="3688" y="136"/>
                    <a:pt x="3687" y="140"/>
                  </a:cubicBezTo>
                  <a:close/>
                  <a:moveTo>
                    <a:pt x="3708" y="105"/>
                  </a:moveTo>
                  <a:cubicBezTo>
                    <a:pt x="3708" y="104"/>
                    <a:pt x="3708" y="102"/>
                    <a:pt x="3708" y="101"/>
                  </a:cubicBezTo>
                  <a:cubicBezTo>
                    <a:pt x="3708" y="102"/>
                    <a:pt x="3709" y="103"/>
                    <a:pt x="3709" y="103"/>
                  </a:cubicBezTo>
                  <a:cubicBezTo>
                    <a:pt x="3708" y="104"/>
                    <a:pt x="3708" y="105"/>
                    <a:pt x="3708" y="105"/>
                  </a:cubicBezTo>
                  <a:close/>
                  <a:moveTo>
                    <a:pt x="3731" y="101"/>
                  </a:moveTo>
                  <a:cubicBezTo>
                    <a:pt x="3730" y="101"/>
                    <a:pt x="3730" y="101"/>
                    <a:pt x="3730" y="100"/>
                  </a:cubicBezTo>
                  <a:cubicBezTo>
                    <a:pt x="3730" y="101"/>
                    <a:pt x="3730" y="101"/>
                    <a:pt x="3731" y="101"/>
                  </a:cubicBezTo>
                  <a:cubicBezTo>
                    <a:pt x="3730" y="111"/>
                    <a:pt x="3729" y="119"/>
                    <a:pt x="3728" y="126"/>
                  </a:cubicBezTo>
                  <a:cubicBezTo>
                    <a:pt x="3727" y="122"/>
                    <a:pt x="3727" y="118"/>
                    <a:pt x="3726" y="114"/>
                  </a:cubicBezTo>
                  <a:cubicBezTo>
                    <a:pt x="3726" y="109"/>
                    <a:pt x="3726" y="103"/>
                    <a:pt x="3726" y="98"/>
                  </a:cubicBezTo>
                  <a:cubicBezTo>
                    <a:pt x="3727" y="92"/>
                    <a:pt x="3729" y="87"/>
                    <a:pt x="3732" y="82"/>
                  </a:cubicBezTo>
                  <a:cubicBezTo>
                    <a:pt x="3731" y="89"/>
                    <a:pt x="3731" y="95"/>
                    <a:pt x="3731" y="101"/>
                  </a:cubicBezTo>
                  <a:close/>
                  <a:moveTo>
                    <a:pt x="3740" y="117"/>
                  </a:moveTo>
                  <a:cubicBezTo>
                    <a:pt x="3740" y="114"/>
                    <a:pt x="3740" y="110"/>
                    <a:pt x="3740" y="106"/>
                  </a:cubicBezTo>
                  <a:cubicBezTo>
                    <a:pt x="3740" y="99"/>
                    <a:pt x="3740" y="90"/>
                    <a:pt x="3743" y="83"/>
                  </a:cubicBezTo>
                  <a:cubicBezTo>
                    <a:pt x="3742" y="95"/>
                    <a:pt x="3741" y="107"/>
                    <a:pt x="3740" y="117"/>
                  </a:cubicBezTo>
                  <a:close/>
                  <a:moveTo>
                    <a:pt x="3746" y="108"/>
                  </a:moveTo>
                  <a:cubicBezTo>
                    <a:pt x="3746" y="106"/>
                    <a:pt x="3746" y="104"/>
                    <a:pt x="3746" y="102"/>
                  </a:cubicBezTo>
                  <a:cubicBezTo>
                    <a:pt x="3747" y="102"/>
                    <a:pt x="3747" y="102"/>
                    <a:pt x="3747" y="103"/>
                  </a:cubicBezTo>
                  <a:cubicBezTo>
                    <a:pt x="3747" y="104"/>
                    <a:pt x="3746" y="106"/>
                    <a:pt x="3746" y="108"/>
                  </a:cubicBezTo>
                  <a:close/>
                  <a:moveTo>
                    <a:pt x="3752" y="111"/>
                  </a:moveTo>
                  <a:cubicBezTo>
                    <a:pt x="3752" y="103"/>
                    <a:pt x="3755" y="95"/>
                    <a:pt x="3757" y="87"/>
                  </a:cubicBezTo>
                  <a:cubicBezTo>
                    <a:pt x="3756" y="95"/>
                    <a:pt x="3754" y="104"/>
                    <a:pt x="3752" y="113"/>
                  </a:cubicBezTo>
                  <a:cubicBezTo>
                    <a:pt x="3752" y="112"/>
                    <a:pt x="3752" y="112"/>
                    <a:pt x="3752" y="111"/>
                  </a:cubicBezTo>
                  <a:close/>
                  <a:moveTo>
                    <a:pt x="3776" y="110"/>
                  </a:moveTo>
                  <a:cubicBezTo>
                    <a:pt x="3776" y="109"/>
                    <a:pt x="3776" y="108"/>
                    <a:pt x="3776" y="107"/>
                  </a:cubicBezTo>
                  <a:cubicBezTo>
                    <a:pt x="3776" y="107"/>
                    <a:pt x="3776" y="108"/>
                    <a:pt x="3776" y="108"/>
                  </a:cubicBezTo>
                  <a:cubicBezTo>
                    <a:pt x="3776" y="109"/>
                    <a:pt x="3776" y="109"/>
                    <a:pt x="3776" y="110"/>
                  </a:cubicBezTo>
                  <a:close/>
                  <a:moveTo>
                    <a:pt x="3787" y="125"/>
                  </a:moveTo>
                  <a:cubicBezTo>
                    <a:pt x="3787" y="123"/>
                    <a:pt x="3787" y="122"/>
                    <a:pt x="3787" y="120"/>
                  </a:cubicBezTo>
                  <a:cubicBezTo>
                    <a:pt x="3787" y="121"/>
                    <a:pt x="3787" y="122"/>
                    <a:pt x="3787" y="123"/>
                  </a:cubicBezTo>
                  <a:cubicBezTo>
                    <a:pt x="3787" y="123"/>
                    <a:pt x="3787" y="124"/>
                    <a:pt x="3787" y="125"/>
                  </a:cubicBezTo>
                  <a:close/>
                  <a:moveTo>
                    <a:pt x="3790" y="115"/>
                  </a:moveTo>
                  <a:cubicBezTo>
                    <a:pt x="3789" y="117"/>
                    <a:pt x="3789" y="118"/>
                    <a:pt x="3788" y="119"/>
                  </a:cubicBezTo>
                  <a:cubicBezTo>
                    <a:pt x="3788" y="118"/>
                    <a:pt x="3787" y="116"/>
                    <a:pt x="3787" y="114"/>
                  </a:cubicBezTo>
                  <a:cubicBezTo>
                    <a:pt x="3787" y="110"/>
                    <a:pt x="3787" y="105"/>
                    <a:pt x="3787" y="100"/>
                  </a:cubicBezTo>
                  <a:cubicBezTo>
                    <a:pt x="3788" y="94"/>
                    <a:pt x="3791" y="89"/>
                    <a:pt x="3794" y="84"/>
                  </a:cubicBezTo>
                  <a:cubicBezTo>
                    <a:pt x="3793" y="93"/>
                    <a:pt x="3791" y="105"/>
                    <a:pt x="3790" y="115"/>
                  </a:cubicBezTo>
                  <a:close/>
                  <a:moveTo>
                    <a:pt x="3797" y="90"/>
                  </a:moveTo>
                  <a:cubicBezTo>
                    <a:pt x="3797" y="88"/>
                    <a:pt x="3796" y="84"/>
                    <a:pt x="3796" y="80"/>
                  </a:cubicBezTo>
                  <a:cubicBezTo>
                    <a:pt x="3796" y="80"/>
                    <a:pt x="3796" y="80"/>
                    <a:pt x="3796" y="80"/>
                  </a:cubicBezTo>
                  <a:cubicBezTo>
                    <a:pt x="3797" y="81"/>
                    <a:pt x="3798" y="83"/>
                    <a:pt x="3798" y="84"/>
                  </a:cubicBezTo>
                  <a:cubicBezTo>
                    <a:pt x="3798" y="88"/>
                    <a:pt x="3797" y="90"/>
                    <a:pt x="3797" y="90"/>
                  </a:cubicBezTo>
                  <a:close/>
                  <a:moveTo>
                    <a:pt x="3799" y="83"/>
                  </a:moveTo>
                  <a:cubicBezTo>
                    <a:pt x="3798" y="81"/>
                    <a:pt x="3797" y="80"/>
                    <a:pt x="3796" y="79"/>
                  </a:cubicBezTo>
                  <a:cubicBezTo>
                    <a:pt x="3797" y="78"/>
                    <a:pt x="3798" y="76"/>
                    <a:pt x="3800" y="75"/>
                  </a:cubicBezTo>
                  <a:cubicBezTo>
                    <a:pt x="3799" y="78"/>
                    <a:pt x="3799" y="81"/>
                    <a:pt x="3799" y="83"/>
                  </a:cubicBezTo>
                  <a:close/>
                  <a:moveTo>
                    <a:pt x="3805" y="104"/>
                  </a:moveTo>
                  <a:cubicBezTo>
                    <a:pt x="3806" y="105"/>
                    <a:pt x="3806" y="107"/>
                    <a:pt x="3806" y="109"/>
                  </a:cubicBezTo>
                  <a:cubicBezTo>
                    <a:pt x="3806" y="111"/>
                    <a:pt x="3805" y="112"/>
                    <a:pt x="3805" y="114"/>
                  </a:cubicBezTo>
                  <a:cubicBezTo>
                    <a:pt x="3805" y="110"/>
                    <a:pt x="3805" y="107"/>
                    <a:pt x="3805" y="104"/>
                  </a:cubicBezTo>
                  <a:close/>
                  <a:moveTo>
                    <a:pt x="3801" y="91"/>
                  </a:move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lose/>
                  <a:moveTo>
                    <a:pt x="3801" y="124"/>
                  </a:moveTo>
                  <a:cubicBezTo>
                    <a:pt x="3802" y="114"/>
                    <a:pt x="3802" y="102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3" y="94"/>
                    <a:pt x="3804" y="98"/>
                    <a:pt x="3805" y="101"/>
                  </a:cubicBezTo>
                  <a:cubicBezTo>
                    <a:pt x="3803" y="120"/>
                    <a:pt x="3803" y="120"/>
                    <a:pt x="3803" y="120"/>
                  </a:cubicBezTo>
                  <a:cubicBezTo>
                    <a:pt x="3802" y="121"/>
                    <a:pt x="3802" y="122"/>
                    <a:pt x="3801" y="124"/>
                  </a:cubicBezTo>
                  <a:close/>
                  <a:moveTo>
                    <a:pt x="3804" y="136"/>
                  </a:moveTo>
                  <a:cubicBezTo>
                    <a:pt x="3804" y="134"/>
                    <a:pt x="3804" y="133"/>
                    <a:pt x="3804" y="131"/>
                  </a:cubicBezTo>
                  <a:cubicBezTo>
                    <a:pt x="3805" y="126"/>
                    <a:pt x="3806" y="121"/>
                    <a:pt x="3807" y="116"/>
                  </a:cubicBezTo>
                  <a:cubicBezTo>
                    <a:pt x="3808" y="118"/>
                    <a:pt x="3808" y="121"/>
                    <a:pt x="3808" y="123"/>
                  </a:cubicBezTo>
                  <a:cubicBezTo>
                    <a:pt x="3808" y="124"/>
                    <a:pt x="3808" y="124"/>
                    <a:pt x="3808" y="124"/>
                  </a:cubicBezTo>
                  <a:cubicBezTo>
                    <a:pt x="3807" y="128"/>
                    <a:pt x="3805" y="132"/>
                    <a:pt x="3804" y="136"/>
                  </a:cubicBezTo>
                  <a:close/>
                  <a:moveTo>
                    <a:pt x="3808" y="141"/>
                  </a:moveTo>
                  <a:cubicBezTo>
                    <a:pt x="3808" y="141"/>
                    <a:pt x="3808" y="141"/>
                    <a:pt x="3808" y="141"/>
                  </a:cubicBezTo>
                  <a:cubicBezTo>
                    <a:pt x="3809" y="139"/>
                    <a:pt x="3809" y="137"/>
                    <a:pt x="3810" y="135"/>
                  </a:cubicBezTo>
                  <a:cubicBezTo>
                    <a:pt x="3810" y="135"/>
                    <a:pt x="3810" y="135"/>
                    <a:pt x="3810" y="135"/>
                  </a:cubicBezTo>
                  <a:cubicBezTo>
                    <a:pt x="3810" y="137"/>
                    <a:pt x="3809" y="139"/>
                    <a:pt x="3808" y="141"/>
                  </a:cubicBezTo>
                  <a:close/>
                  <a:moveTo>
                    <a:pt x="3815" y="119"/>
                  </a:moveTo>
                  <a:cubicBezTo>
                    <a:pt x="3814" y="119"/>
                    <a:pt x="3814" y="118"/>
                    <a:pt x="3814" y="118"/>
                  </a:cubicBezTo>
                  <a:cubicBezTo>
                    <a:pt x="3814" y="116"/>
                    <a:pt x="3815" y="115"/>
                    <a:pt x="3815" y="113"/>
                  </a:cubicBezTo>
                  <a:cubicBezTo>
                    <a:pt x="3815" y="112"/>
                    <a:pt x="3815" y="112"/>
                    <a:pt x="3815" y="111"/>
                  </a:cubicBezTo>
                  <a:cubicBezTo>
                    <a:pt x="3816" y="112"/>
                    <a:pt x="3816" y="113"/>
                    <a:pt x="3816" y="115"/>
                  </a:cubicBezTo>
                  <a:cubicBezTo>
                    <a:pt x="3816" y="116"/>
                    <a:pt x="3815" y="118"/>
                    <a:pt x="3815" y="119"/>
                  </a:cubicBezTo>
                  <a:close/>
                  <a:moveTo>
                    <a:pt x="3822" y="136"/>
                  </a:moveTo>
                  <a:cubicBezTo>
                    <a:pt x="3821" y="135"/>
                    <a:pt x="3821" y="134"/>
                    <a:pt x="3820" y="133"/>
                  </a:cubicBezTo>
                  <a:cubicBezTo>
                    <a:pt x="3820" y="132"/>
                    <a:pt x="3820" y="132"/>
                    <a:pt x="3820" y="131"/>
                  </a:cubicBezTo>
                  <a:cubicBezTo>
                    <a:pt x="3821" y="133"/>
                    <a:pt x="3821" y="134"/>
                    <a:pt x="3822" y="136"/>
                  </a:cubicBezTo>
                  <a:cubicBezTo>
                    <a:pt x="3822" y="136"/>
                    <a:pt x="3822" y="136"/>
                    <a:pt x="3822" y="136"/>
                  </a:cubicBezTo>
                  <a:close/>
                  <a:moveTo>
                    <a:pt x="3836" y="118"/>
                  </a:moveTo>
                  <a:cubicBezTo>
                    <a:pt x="3836" y="117"/>
                    <a:pt x="3836" y="117"/>
                    <a:pt x="3836" y="117"/>
                  </a:cubicBezTo>
                  <a:cubicBezTo>
                    <a:pt x="3836" y="117"/>
                    <a:pt x="3836" y="117"/>
                    <a:pt x="3836" y="117"/>
                  </a:cubicBezTo>
                  <a:cubicBezTo>
                    <a:pt x="3836" y="118"/>
                    <a:pt x="3836" y="118"/>
                    <a:pt x="3836" y="118"/>
                  </a:cubicBezTo>
                  <a:close/>
                  <a:moveTo>
                    <a:pt x="3842" y="105"/>
                  </a:moveTo>
                  <a:cubicBezTo>
                    <a:pt x="3841" y="106"/>
                    <a:pt x="3840" y="107"/>
                    <a:pt x="3840" y="109"/>
                  </a:cubicBezTo>
                  <a:cubicBezTo>
                    <a:pt x="3839" y="107"/>
                    <a:pt x="3839" y="106"/>
                    <a:pt x="3839" y="104"/>
                  </a:cubicBezTo>
                  <a:cubicBezTo>
                    <a:pt x="3840" y="101"/>
                    <a:pt x="3841" y="98"/>
                    <a:pt x="3843" y="94"/>
                  </a:cubicBezTo>
                  <a:cubicBezTo>
                    <a:pt x="3842" y="98"/>
                    <a:pt x="3842" y="101"/>
                    <a:pt x="3842" y="105"/>
                  </a:cubicBezTo>
                  <a:close/>
                  <a:moveTo>
                    <a:pt x="3847" y="138"/>
                  </a:moveTo>
                  <a:cubicBezTo>
                    <a:pt x="3847" y="137"/>
                    <a:pt x="3847" y="136"/>
                    <a:pt x="3846" y="135"/>
                  </a:cubicBezTo>
                  <a:cubicBezTo>
                    <a:pt x="3846" y="133"/>
                    <a:pt x="3846" y="131"/>
                    <a:pt x="3846" y="129"/>
                  </a:cubicBezTo>
                  <a:cubicBezTo>
                    <a:pt x="3847" y="131"/>
                    <a:pt x="3847" y="133"/>
                    <a:pt x="3848" y="134"/>
                  </a:cubicBezTo>
                  <a:cubicBezTo>
                    <a:pt x="3848" y="135"/>
                    <a:pt x="3848" y="137"/>
                    <a:pt x="3847" y="138"/>
                  </a:cubicBezTo>
                  <a:close/>
                  <a:moveTo>
                    <a:pt x="3849" y="123"/>
                  </a:moveTo>
                  <a:cubicBezTo>
                    <a:pt x="3848" y="121"/>
                    <a:pt x="3847" y="118"/>
                    <a:pt x="3847" y="116"/>
                  </a:cubicBezTo>
                  <a:cubicBezTo>
                    <a:pt x="3848" y="112"/>
                    <a:pt x="3849" y="107"/>
                    <a:pt x="3850" y="103"/>
                  </a:cubicBezTo>
                  <a:cubicBezTo>
                    <a:pt x="3850" y="110"/>
                    <a:pt x="3849" y="117"/>
                    <a:pt x="3849" y="123"/>
                  </a:cubicBezTo>
                  <a:close/>
                  <a:moveTo>
                    <a:pt x="3854" y="69"/>
                  </a:moveTo>
                  <a:cubicBezTo>
                    <a:pt x="3856" y="72"/>
                    <a:pt x="3858" y="75"/>
                    <a:pt x="3859" y="79"/>
                  </a:cubicBezTo>
                  <a:cubicBezTo>
                    <a:pt x="3859" y="79"/>
                    <a:pt x="3859" y="79"/>
                    <a:pt x="3859" y="79"/>
                  </a:cubicBezTo>
                  <a:cubicBezTo>
                    <a:pt x="3857" y="76"/>
                    <a:pt x="3856" y="72"/>
                    <a:pt x="3854" y="69"/>
                  </a:cubicBezTo>
                  <a:cubicBezTo>
                    <a:pt x="3854" y="69"/>
                    <a:pt x="3854" y="69"/>
                    <a:pt x="3854" y="69"/>
                  </a:cubicBezTo>
                  <a:close/>
                  <a:moveTo>
                    <a:pt x="3854" y="74"/>
                  </a:moveTo>
                  <a:cubicBezTo>
                    <a:pt x="3855" y="76"/>
                    <a:pt x="3856" y="79"/>
                    <a:pt x="3857" y="81"/>
                  </a:cubicBezTo>
                  <a:cubicBezTo>
                    <a:pt x="3856" y="82"/>
                    <a:pt x="3855" y="83"/>
                    <a:pt x="3854" y="85"/>
                  </a:cubicBezTo>
                  <a:cubicBezTo>
                    <a:pt x="3854" y="81"/>
                    <a:pt x="3854" y="77"/>
                    <a:pt x="3854" y="74"/>
                  </a:cubicBezTo>
                  <a:close/>
                  <a:moveTo>
                    <a:pt x="3855" y="120"/>
                  </a:moveTo>
                  <a:cubicBezTo>
                    <a:pt x="3855" y="115"/>
                    <a:pt x="3855" y="111"/>
                    <a:pt x="3855" y="106"/>
                  </a:cubicBezTo>
                  <a:cubicBezTo>
                    <a:pt x="3856" y="109"/>
                    <a:pt x="3856" y="112"/>
                    <a:pt x="3857" y="114"/>
                  </a:cubicBezTo>
                  <a:cubicBezTo>
                    <a:pt x="3856" y="116"/>
                    <a:pt x="3856" y="118"/>
                    <a:pt x="3855" y="120"/>
                  </a:cubicBezTo>
                  <a:close/>
                  <a:moveTo>
                    <a:pt x="3858" y="109"/>
                  </a:moveTo>
                  <a:cubicBezTo>
                    <a:pt x="3857" y="107"/>
                    <a:pt x="3856" y="104"/>
                    <a:pt x="3855" y="102"/>
                  </a:cubicBezTo>
                  <a:cubicBezTo>
                    <a:pt x="3855" y="99"/>
                    <a:pt x="3855" y="97"/>
                    <a:pt x="3855" y="94"/>
                  </a:cubicBezTo>
                  <a:cubicBezTo>
                    <a:pt x="3856" y="98"/>
                    <a:pt x="3857" y="102"/>
                    <a:pt x="3859" y="107"/>
                  </a:cubicBezTo>
                  <a:cubicBezTo>
                    <a:pt x="3859" y="108"/>
                    <a:pt x="3858" y="108"/>
                    <a:pt x="3858" y="109"/>
                  </a:cubicBezTo>
                  <a:close/>
                  <a:moveTo>
                    <a:pt x="3862" y="96"/>
                  </a:moveTo>
                  <a:cubicBezTo>
                    <a:pt x="3861" y="98"/>
                    <a:pt x="3860" y="101"/>
                    <a:pt x="3860" y="104"/>
                  </a:cubicBezTo>
                  <a:cubicBezTo>
                    <a:pt x="3858" y="100"/>
                    <a:pt x="3856" y="96"/>
                    <a:pt x="3855" y="92"/>
                  </a:cubicBezTo>
                  <a:cubicBezTo>
                    <a:pt x="3855" y="92"/>
                    <a:pt x="3855" y="92"/>
                    <a:pt x="3855" y="92"/>
                  </a:cubicBezTo>
                  <a:cubicBezTo>
                    <a:pt x="3856" y="89"/>
                    <a:pt x="3857" y="86"/>
                    <a:pt x="3859" y="84"/>
                  </a:cubicBezTo>
                  <a:cubicBezTo>
                    <a:pt x="3860" y="87"/>
                    <a:pt x="3861" y="90"/>
                    <a:pt x="3862" y="93"/>
                  </a:cubicBezTo>
                  <a:cubicBezTo>
                    <a:pt x="3862" y="94"/>
                    <a:pt x="3862" y="95"/>
                    <a:pt x="3862" y="96"/>
                  </a:cubicBezTo>
                  <a:close/>
                  <a:moveTo>
                    <a:pt x="3863" y="90"/>
                  </a:moveTo>
                  <a:cubicBezTo>
                    <a:pt x="3862" y="87"/>
                    <a:pt x="3861" y="84"/>
                    <a:pt x="3860" y="82"/>
                  </a:cubicBezTo>
                  <a:cubicBezTo>
                    <a:pt x="3860" y="81"/>
                    <a:pt x="3860" y="81"/>
                    <a:pt x="3860" y="81"/>
                  </a:cubicBezTo>
                  <a:cubicBezTo>
                    <a:pt x="3861" y="83"/>
                    <a:pt x="3862" y="86"/>
                    <a:pt x="3863" y="89"/>
                  </a:cubicBezTo>
                  <a:cubicBezTo>
                    <a:pt x="3863" y="89"/>
                    <a:pt x="3863" y="89"/>
                    <a:pt x="3863" y="90"/>
                  </a:cubicBezTo>
                  <a:close/>
                  <a:moveTo>
                    <a:pt x="3861" y="79"/>
                  </a:moveTo>
                  <a:cubicBezTo>
                    <a:pt x="3862" y="78"/>
                    <a:pt x="3863" y="77"/>
                    <a:pt x="3863" y="76"/>
                  </a:cubicBezTo>
                  <a:cubicBezTo>
                    <a:pt x="3864" y="78"/>
                    <a:pt x="3864" y="79"/>
                    <a:pt x="3865" y="80"/>
                  </a:cubicBezTo>
                  <a:cubicBezTo>
                    <a:pt x="3865" y="82"/>
                    <a:pt x="3864" y="84"/>
                    <a:pt x="3864" y="85"/>
                  </a:cubicBezTo>
                  <a:cubicBezTo>
                    <a:pt x="3863" y="83"/>
                    <a:pt x="3862" y="81"/>
                    <a:pt x="3861" y="79"/>
                  </a:cubicBezTo>
                  <a:close/>
                  <a:moveTo>
                    <a:pt x="3864" y="116"/>
                  </a:moveTo>
                  <a:cubicBezTo>
                    <a:pt x="3864" y="111"/>
                    <a:pt x="3865" y="106"/>
                    <a:pt x="3865" y="102"/>
                  </a:cubicBezTo>
                  <a:cubicBezTo>
                    <a:pt x="3866" y="105"/>
                    <a:pt x="3867" y="108"/>
                    <a:pt x="3868" y="111"/>
                  </a:cubicBezTo>
                  <a:cubicBezTo>
                    <a:pt x="3867" y="113"/>
                    <a:pt x="3866" y="116"/>
                    <a:pt x="3865" y="118"/>
                  </a:cubicBezTo>
                  <a:cubicBezTo>
                    <a:pt x="3865" y="117"/>
                    <a:pt x="3864" y="117"/>
                    <a:pt x="3864" y="116"/>
                  </a:cubicBezTo>
                  <a:close/>
                  <a:moveTo>
                    <a:pt x="3869" y="130"/>
                  </a:moveTo>
                  <a:cubicBezTo>
                    <a:pt x="3868" y="128"/>
                    <a:pt x="3868" y="127"/>
                    <a:pt x="3867" y="125"/>
                  </a:cubicBezTo>
                  <a:cubicBezTo>
                    <a:pt x="3868" y="123"/>
                    <a:pt x="3868" y="122"/>
                    <a:pt x="3869" y="120"/>
                  </a:cubicBezTo>
                  <a:cubicBezTo>
                    <a:pt x="3869" y="122"/>
                    <a:pt x="3869" y="124"/>
                    <a:pt x="3869" y="127"/>
                  </a:cubicBezTo>
                  <a:cubicBezTo>
                    <a:pt x="3869" y="128"/>
                    <a:pt x="3869" y="129"/>
                    <a:pt x="3869" y="130"/>
                  </a:cubicBezTo>
                  <a:close/>
                  <a:moveTo>
                    <a:pt x="3871" y="105"/>
                  </a:moveTo>
                  <a:cubicBezTo>
                    <a:pt x="3869" y="100"/>
                    <a:pt x="3868" y="95"/>
                    <a:pt x="3866" y="91"/>
                  </a:cubicBezTo>
                  <a:cubicBezTo>
                    <a:pt x="3866" y="89"/>
                    <a:pt x="3866" y="87"/>
                    <a:pt x="3866" y="85"/>
                  </a:cubicBezTo>
                  <a:cubicBezTo>
                    <a:pt x="3869" y="91"/>
                    <a:pt x="3870" y="97"/>
                    <a:pt x="3872" y="103"/>
                  </a:cubicBezTo>
                  <a:cubicBezTo>
                    <a:pt x="3871" y="104"/>
                    <a:pt x="3871" y="105"/>
                    <a:pt x="3871" y="105"/>
                  </a:cubicBezTo>
                  <a:close/>
                  <a:moveTo>
                    <a:pt x="3872" y="111"/>
                  </a:moveTo>
                  <a:cubicBezTo>
                    <a:pt x="3872" y="110"/>
                    <a:pt x="3872" y="110"/>
                    <a:pt x="3872" y="109"/>
                  </a:cubicBezTo>
                  <a:cubicBezTo>
                    <a:pt x="3872" y="109"/>
                    <a:pt x="3872" y="108"/>
                    <a:pt x="3873" y="107"/>
                  </a:cubicBezTo>
                  <a:cubicBezTo>
                    <a:pt x="3873" y="108"/>
                    <a:pt x="3873" y="109"/>
                    <a:pt x="3873" y="109"/>
                  </a:cubicBezTo>
                  <a:cubicBezTo>
                    <a:pt x="3873" y="110"/>
                    <a:pt x="3873" y="110"/>
                    <a:pt x="3872" y="111"/>
                  </a:cubicBezTo>
                  <a:close/>
                  <a:moveTo>
                    <a:pt x="3883" y="94"/>
                  </a:moveTo>
                  <a:cubicBezTo>
                    <a:pt x="3883" y="95"/>
                    <a:pt x="3883" y="95"/>
                    <a:pt x="3884" y="96"/>
                  </a:cubicBezTo>
                  <a:cubicBezTo>
                    <a:pt x="3883" y="97"/>
                    <a:pt x="3883" y="97"/>
                    <a:pt x="3883" y="98"/>
                  </a:cubicBezTo>
                  <a:cubicBezTo>
                    <a:pt x="3883" y="96"/>
                    <a:pt x="3883" y="95"/>
                    <a:pt x="3883" y="94"/>
                  </a:cubicBezTo>
                  <a:close/>
                  <a:moveTo>
                    <a:pt x="3885" y="109"/>
                  </a:moveTo>
                  <a:cubicBezTo>
                    <a:pt x="3884" y="106"/>
                    <a:pt x="3884" y="104"/>
                    <a:pt x="3883" y="102"/>
                  </a:cubicBezTo>
                  <a:cubicBezTo>
                    <a:pt x="3883" y="101"/>
                    <a:pt x="3883" y="99"/>
                    <a:pt x="3883" y="98"/>
                  </a:cubicBezTo>
                  <a:cubicBezTo>
                    <a:pt x="3883" y="98"/>
                    <a:pt x="3884" y="97"/>
                    <a:pt x="3884" y="97"/>
                  </a:cubicBezTo>
                  <a:cubicBezTo>
                    <a:pt x="3884" y="98"/>
                    <a:pt x="3885" y="100"/>
                    <a:pt x="3885" y="102"/>
                  </a:cubicBezTo>
                  <a:cubicBezTo>
                    <a:pt x="3885" y="104"/>
                    <a:pt x="3885" y="107"/>
                    <a:pt x="3885" y="109"/>
                  </a:cubicBezTo>
                  <a:close/>
                  <a:moveTo>
                    <a:pt x="3887" y="84"/>
                  </a:moveTo>
                  <a:cubicBezTo>
                    <a:pt x="3886" y="89"/>
                    <a:pt x="3886" y="94"/>
                    <a:pt x="3886" y="98"/>
                  </a:cubicBezTo>
                  <a:cubicBezTo>
                    <a:pt x="3885" y="97"/>
                    <a:pt x="3885" y="96"/>
                    <a:pt x="3884" y="95"/>
                  </a:cubicBezTo>
                  <a:cubicBezTo>
                    <a:pt x="3885" y="94"/>
                    <a:pt x="3886" y="92"/>
                    <a:pt x="3886" y="91"/>
                  </a:cubicBezTo>
                  <a:cubicBezTo>
                    <a:pt x="3886" y="92"/>
                    <a:pt x="3885" y="94"/>
                    <a:pt x="3884" y="95"/>
                  </a:cubicBezTo>
                  <a:cubicBezTo>
                    <a:pt x="3884" y="94"/>
                    <a:pt x="3883" y="93"/>
                    <a:pt x="3883" y="92"/>
                  </a:cubicBezTo>
                  <a:cubicBezTo>
                    <a:pt x="3883" y="90"/>
                    <a:pt x="3883" y="88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2" y="75"/>
                    <a:pt x="3882" y="65"/>
                    <a:pt x="3882" y="56"/>
                  </a:cubicBezTo>
                  <a:cubicBezTo>
                    <a:pt x="3885" y="58"/>
                    <a:pt x="3887" y="61"/>
                    <a:pt x="3890" y="63"/>
                  </a:cubicBezTo>
                  <a:cubicBezTo>
                    <a:pt x="3889" y="69"/>
                    <a:pt x="3888" y="76"/>
                    <a:pt x="3887" y="84"/>
                  </a:cubicBezTo>
                  <a:cubicBezTo>
                    <a:pt x="3887" y="82"/>
                    <a:pt x="3886" y="81"/>
                    <a:pt x="3886" y="79"/>
                  </a:cubicBezTo>
                  <a:cubicBezTo>
                    <a:pt x="3886" y="81"/>
                    <a:pt x="3887" y="83"/>
                    <a:pt x="3887" y="84"/>
                  </a:cubicBezTo>
                  <a:close/>
                  <a:moveTo>
                    <a:pt x="3888" y="139"/>
                  </a:moveTo>
                  <a:cubicBezTo>
                    <a:pt x="3888" y="134"/>
                    <a:pt x="3888" y="128"/>
                    <a:pt x="3888" y="121"/>
                  </a:cubicBezTo>
                  <a:cubicBezTo>
                    <a:pt x="3888" y="125"/>
                    <a:pt x="3888" y="129"/>
                    <a:pt x="3889" y="133"/>
                  </a:cubicBezTo>
                  <a:cubicBezTo>
                    <a:pt x="3889" y="135"/>
                    <a:pt x="3889" y="137"/>
                    <a:pt x="3888" y="139"/>
                  </a:cubicBezTo>
                  <a:close/>
                  <a:moveTo>
                    <a:pt x="3888" y="104"/>
                  </a:moveTo>
                  <a:cubicBezTo>
                    <a:pt x="3888" y="102"/>
                    <a:pt x="3888" y="99"/>
                    <a:pt x="3889" y="96"/>
                  </a:cubicBezTo>
                  <a:cubicBezTo>
                    <a:pt x="3889" y="100"/>
                    <a:pt x="3889" y="104"/>
                    <a:pt x="3889" y="107"/>
                  </a:cubicBezTo>
                  <a:cubicBezTo>
                    <a:pt x="3889" y="106"/>
                    <a:pt x="3889" y="105"/>
                    <a:pt x="3888" y="104"/>
                  </a:cubicBezTo>
                  <a:close/>
                  <a:moveTo>
                    <a:pt x="3900" y="85"/>
                  </a:moveTo>
                  <a:cubicBezTo>
                    <a:pt x="3899" y="90"/>
                    <a:pt x="3898" y="96"/>
                    <a:pt x="3897" y="103"/>
                  </a:cubicBezTo>
                  <a:cubicBezTo>
                    <a:pt x="3897" y="101"/>
                    <a:pt x="3897" y="100"/>
                    <a:pt x="3896" y="99"/>
                  </a:cubicBezTo>
                  <a:cubicBezTo>
                    <a:pt x="3896" y="96"/>
                    <a:pt x="3895" y="93"/>
                    <a:pt x="3894" y="90"/>
                  </a:cubicBezTo>
                  <a:cubicBezTo>
                    <a:pt x="3895" y="93"/>
                    <a:pt x="3895" y="96"/>
                    <a:pt x="3895" y="99"/>
                  </a:cubicBezTo>
                  <a:cubicBezTo>
                    <a:pt x="3895" y="104"/>
                    <a:pt x="3894" y="112"/>
                    <a:pt x="3894" y="120"/>
                  </a:cubicBezTo>
                  <a:cubicBezTo>
                    <a:pt x="3893" y="110"/>
                    <a:pt x="3891" y="100"/>
                    <a:pt x="3889" y="91"/>
                  </a:cubicBezTo>
                  <a:cubicBezTo>
                    <a:pt x="3890" y="81"/>
                    <a:pt x="3891" y="72"/>
                    <a:pt x="3891" y="65"/>
                  </a:cubicBezTo>
                  <a:cubicBezTo>
                    <a:pt x="3895" y="69"/>
                    <a:pt x="3898" y="74"/>
                    <a:pt x="3900" y="79"/>
                  </a:cubicBezTo>
                  <a:cubicBezTo>
                    <a:pt x="3900" y="81"/>
                    <a:pt x="3900" y="83"/>
                    <a:pt x="3900" y="85"/>
                  </a:cubicBezTo>
                  <a:close/>
                  <a:moveTo>
                    <a:pt x="3900" y="75"/>
                  </a:moveTo>
                  <a:cubicBezTo>
                    <a:pt x="3900" y="75"/>
                    <a:pt x="3900" y="75"/>
                    <a:pt x="3900" y="75"/>
                  </a:cubicBezTo>
                  <a:cubicBezTo>
                    <a:pt x="3900" y="73"/>
                    <a:pt x="3900" y="72"/>
                    <a:pt x="3899" y="70"/>
                  </a:cubicBezTo>
                  <a:cubicBezTo>
                    <a:pt x="3899" y="70"/>
                    <a:pt x="3900" y="72"/>
                    <a:pt x="3900" y="75"/>
                  </a:cubicBezTo>
                  <a:cubicBezTo>
                    <a:pt x="3897" y="71"/>
                    <a:pt x="3895" y="67"/>
                    <a:pt x="3891" y="64"/>
                  </a:cubicBezTo>
                  <a:cubicBezTo>
                    <a:pt x="3892" y="60"/>
                    <a:pt x="3892" y="57"/>
                    <a:pt x="3893" y="54"/>
                  </a:cubicBezTo>
                  <a:cubicBezTo>
                    <a:pt x="3896" y="58"/>
                    <a:pt x="3899" y="62"/>
                    <a:pt x="3901" y="65"/>
                  </a:cubicBezTo>
                  <a:cubicBezTo>
                    <a:pt x="3901" y="68"/>
                    <a:pt x="3900" y="71"/>
                    <a:pt x="3900" y="75"/>
                  </a:cubicBezTo>
                  <a:close/>
                  <a:moveTo>
                    <a:pt x="3904" y="117"/>
                  </a:moveTo>
                  <a:cubicBezTo>
                    <a:pt x="3903" y="119"/>
                    <a:pt x="3902" y="122"/>
                    <a:pt x="3902" y="125"/>
                  </a:cubicBezTo>
                  <a:cubicBezTo>
                    <a:pt x="3902" y="124"/>
                    <a:pt x="3902" y="123"/>
                    <a:pt x="3902" y="122"/>
                  </a:cubicBezTo>
                  <a:cubicBezTo>
                    <a:pt x="3902" y="110"/>
                    <a:pt x="3902" y="98"/>
                    <a:pt x="3903" y="87"/>
                  </a:cubicBezTo>
                  <a:cubicBezTo>
                    <a:pt x="3904" y="92"/>
                    <a:pt x="3905" y="98"/>
                    <a:pt x="3906" y="103"/>
                  </a:cubicBezTo>
                  <a:cubicBezTo>
                    <a:pt x="3905" y="108"/>
                    <a:pt x="3904" y="112"/>
                    <a:pt x="3904" y="117"/>
                  </a:cubicBezTo>
                  <a:close/>
                  <a:moveTo>
                    <a:pt x="3907" y="89"/>
                  </a:moveTo>
                  <a:cubicBezTo>
                    <a:pt x="3906" y="86"/>
                    <a:pt x="3904" y="83"/>
                    <a:pt x="3903" y="80"/>
                  </a:cubicBezTo>
                  <a:cubicBezTo>
                    <a:pt x="3903" y="76"/>
                    <a:pt x="3903" y="72"/>
                    <a:pt x="3903" y="68"/>
                  </a:cubicBezTo>
                  <a:cubicBezTo>
                    <a:pt x="3905" y="71"/>
                    <a:pt x="3907" y="74"/>
                    <a:pt x="3909" y="78"/>
                  </a:cubicBezTo>
                  <a:cubicBezTo>
                    <a:pt x="3908" y="81"/>
                    <a:pt x="3908" y="85"/>
                    <a:pt x="3907" y="89"/>
                  </a:cubicBezTo>
                  <a:close/>
                  <a:moveTo>
                    <a:pt x="3912" y="96"/>
                  </a:moveTo>
                  <a:cubicBezTo>
                    <a:pt x="3912" y="97"/>
                    <a:pt x="3911" y="98"/>
                    <a:pt x="3911" y="99"/>
                  </a:cubicBezTo>
                  <a:cubicBezTo>
                    <a:pt x="3910" y="98"/>
                    <a:pt x="3910" y="97"/>
                    <a:pt x="3910" y="96"/>
                  </a:cubicBezTo>
                  <a:cubicBezTo>
                    <a:pt x="3910" y="91"/>
                    <a:pt x="3910" y="86"/>
                    <a:pt x="3910" y="80"/>
                  </a:cubicBezTo>
                  <a:cubicBezTo>
                    <a:pt x="3911" y="83"/>
                    <a:pt x="3912" y="86"/>
                    <a:pt x="3913" y="88"/>
                  </a:cubicBezTo>
                  <a:cubicBezTo>
                    <a:pt x="3913" y="91"/>
                    <a:pt x="3913" y="93"/>
                    <a:pt x="3912" y="96"/>
                  </a:cubicBezTo>
                  <a:close/>
                  <a:moveTo>
                    <a:pt x="3934" y="105"/>
                  </a:moveTo>
                  <a:cubicBezTo>
                    <a:pt x="3933" y="103"/>
                    <a:pt x="3933" y="102"/>
                    <a:pt x="3932" y="101"/>
                  </a:cubicBezTo>
                  <a:cubicBezTo>
                    <a:pt x="3934" y="96"/>
                    <a:pt x="3935" y="92"/>
                    <a:pt x="3936" y="89"/>
                  </a:cubicBezTo>
                  <a:cubicBezTo>
                    <a:pt x="3936" y="89"/>
                    <a:pt x="3937" y="89"/>
                    <a:pt x="3937" y="90"/>
                  </a:cubicBezTo>
                  <a:cubicBezTo>
                    <a:pt x="3936" y="95"/>
                    <a:pt x="3935" y="100"/>
                    <a:pt x="3934" y="105"/>
                  </a:cubicBezTo>
                  <a:close/>
                  <a:moveTo>
                    <a:pt x="3950" y="81"/>
                  </a:moveTo>
                  <a:cubicBezTo>
                    <a:pt x="3950" y="81"/>
                    <a:pt x="3950" y="81"/>
                    <a:pt x="3951" y="81"/>
                  </a:cubicBezTo>
                  <a:cubicBezTo>
                    <a:pt x="3950" y="81"/>
                    <a:pt x="3950" y="81"/>
                    <a:pt x="3950" y="81"/>
                  </a:cubicBezTo>
                  <a:cubicBezTo>
                    <a:pt x="3950" y="81"/>
                    <a:pt x="3950" y="81"/>
                    <a:pt x="3950" y="81"/>
                  </a:cubicBezTo>
                  <a:close/>
                  <a:moveTo>
                    <a:pt x="3950" y="88"/>
                  </a:moveTo>
                  <a:cubicBezTo>
                    <a:pt x="3950" y="89"/>
                    <a:pt x="3950" y="89"/>
                    <a:pt x="3950" y="89"/>
                  </a:cubicBezTo>
                  <a:cubicBezTo>
                    <a:pt x="3950" y="90"/>
                    <a:pt x="3950" y="91"/>
                    <a:pt x="3949" y="91"/>
                  </a:cubicBezTo>
                  <a:cubicBezTo>
                    <a:pt x="3950" y="90"/>
                    <a:pt x="3950" y="89"/>
                    <a:pt x="3950" y="88"/>
                  </a:cubicBezTo>
                  <a:close/>
                  <a:moveTo>
                    <a:pt x="3941" y="122"/>
                  </a:moveTo>
                  <a:cubicBezTo>
                    <a:pt x="3941" y="122"/>
                    <a:pt x="3941" y="123"/>
                    <a:pt x="3941" y="123"/>
                  </a:cubicBezTo>
                  <a:cubicBezTo>
                    <a:pt x="3941" y="123"/>
                    <a:pt x="3941" y="123"/>
                    <a:pt x="3941" y="123"/>
                  </a:cubicBezTo>
                  <a:cubicBezTo>
                    <a:pt x="3941" y="123"/>
                    <a:pt x="3941" y="122"/>
                    <a:pt x="3941" y="122"/>
                  </a:cubicBezTo>
                  <a:cubicBezTo>
                    <a:pt x="3941" y="120"/>
                    <a:pt x="3942" y="118"/>
                    <a:pt x="3942" y="115"/>
                  </a:cubicBezTo>
                  <a:cubicBezTo>
                    <a:pt x="3942" y="115"/>
                    <a:pt x="3942" y="115"/>
                    <a:pt x="3942" y="115"/>
                  </a:cubicBezTo>
                  <a:cubicBezTo>
                    <a:pt x="3942" y="116"/>
                    <a:pt x="3942" y="117"/>
                    <a:pt x="3942" y="118"/>
                  </a:cubicBezTo>
                  <a:cubicBezTo>
                    <a:pt x="3942" y="119"/>
                    <a:pt x="3941" y="121"/>
                    <a:pt x="3941" y="122"/>
                  </a:cubicBezTo>
                  <a:close/>
                  <a:moveTo>
                    <a:pt x="3943" y="70"/>
                  </a:moveTo>
                  <a:cubicBezTo>
                    <a:pt x="3946" y="73"/>
                    <a:pt x="3948" y="76"/>
                    <a:pt x="3949" y="79"/>
                  </a:cubicBezTo>
                  <a:cubicBezTo>
                    <a:pt x="3949" y="81"/>
                    <a:pt x="3949" y="82"/>
                    <a:pt x="3948" y="84"/>
                  </a:cubicBezTo>
                  <a:cubicBezTo>
                    <a:pt x="3948" y="84"/>
                    <a:pt x="3948" y="84"/>
                    <a:pt x="3948" y="84"/>
                  </a:cubicBezTo>
                  <a:cubicBezTo>
                    <a:pt x="3948" y="82"/>
                    <a:pt x="3947" y="81"/>
                    <a:pt x="3946" y="79"/>
                  </a:cubicBezTo>
                  <a:cubicBezTo>
                    <a:pt x="3947" y="81"/>
                    <a:pt x="3947" y="83"/>
                    <a:pt x="3948" y="84"/>
                  </a:cubicBezTo>
                  <a:cubicBezTo>
                    <a:pt x="3946" y="87"/>
                    <a:pt x="3945" y="90"/>
                    <a:pt x="3943" y="93"/>
                  </a:cubicBezTo>
                  <a:cubicBezTo>
                    <a:pt x="3944" y="85"/>
                    <a:pt x="3944" y="77"/>
                    <a:pt x="3943" y="70"/>
                  </a:cubicBezTo>
                  <a:close/>
                  <a:moveTo>
                    <a:pt x="3946" y="98"/>
                  </a:moveTo>
                  <a:cubicBezTo>
                    <a:pt x="3946" y="98"/>
                    <a:pt x="3946" y="97"/>
                    <a:pt x="3945" y="96"/>
                  </a:cubicBezTo>
                  <a:cubicBezTo>
                    <a:pt x="3946" y="97"/>
                    <a:pt x="3946" y="98"/>
                    <a:pt x="3946" y="98"/>
                  </a:cubicBezTo>
                  <a:cubicBezTo>
                    <a:pt x="3946" y="99"/>
                    <a:pt x="3946" y="100"/>
                    <a:pt x="3945" y="100"/>
                  </a:cubicBezTo>
                  <a:cubicBezTo>
                    <a:pt x="3945" y="99"/>
                    <a:pt x="3945" y="98"/>
                    <a:pt x="3944" y="97"/>
                  </a:cubicBezTo>
                  <a:cubicBezTo>
                    <a:pt x="3945" y="95"/>
                    <a:pt x="3946" y="93"/>
                    <a:pt x="3947" y="90"/>
                  </a:cubicBezTo>
                  <a:cubicBezTo>
                    <a:pt x="3947" y="93"/>
                    <a:pt x="3946" y="96"/>
                    <a:pt x="3946" y="98"/>
                  </a:cubicBezTo>
                  <a:close/>
                  <a:moveTo>
                    <a:pt x="3953" y="100"/>
                  </a:moveTo>
                  <a:cubicBezTo>
                    <a:pt x="3951" y="104"/>
                    <a:pt x="3950" y="107"/>
                    <a:pt x="3948" y="110"/>
                  </a:cubicBezTo>
                  <a:cubicBezTo>
                    <a:pt x="3948" y="110"/>
                    <a:pt x="3948" y="109"/>
                    <a:pt x="3948" y="109"/>
                  </a:cubicBezTo>
                  <a:cubicBezTo>
                    <a:pt x="3948" y="106"/>
                    <a:pt x="3949" y="102"/>
                    <a:pt x="3949" y="99"/>
                  </a:cubicBezTo>
                  <a:cubicBezTo>
                    <a:pt x="3950" y="95"/>
                    <a:pt x="3950" y="92"/>
                    <a:pt x="3950" y="90"/>
                  </a:cubicBezTo>
                  <a:cubicBezTo>
                    <a:pt x="3951" y="93"/>
                    <a:pt x="3952" y="96"/>
                    <a:pt x="3953" y="100"/>
                  </a:cubicBezTo>
                  <a:cubicBezTo>
                    <a:pt x="3953" y="100"/>
                    <a:pt x="3953" y="100"/>
                    <a:pt x="3953" y="100"/>
                  </a:cubicBezTo>
                  <a:close/>
                  <a:moveTo>
                    <a:pt x="3953" y="97"/>
                  </a:moveTo>
                  <a:cubicBezTo>
                    <a:pt x="3952" y="95"/>
                    <a:pt x="3951" y="92"/>
                    <a:pt x="3950" y="89"/>
                  </a:cubicBezTo>
                  <a:cubicBezTo>
                    <a:pt x="3950" y="89"/>
                    <a:pt x="3950" y="89"/>
                    <a:pt x="3950" y="88"/>
                  </a:cubicBezTo>
                  <a:cubicBezTo>
                    <a:pt x="3950" y="89"/>
                    <a:pt x="3950" y="89"/>
                    <a:pt x="3950" y="89"/>
                  </a:cubicBezTo>
                  <a:cubicBezTo>
                    <a:pt x="3950" y="89"/>
                    <a:pt x="3950" y="88"/>
                    <a:pt x="3950" y="88"/>
                  </a:cubicBezTo>
                  <a:cubicBezTo>
                    <a:pt x="3950" y="87"/>
                    <a:pt x="3950" y="86"/>
                    <a:pt x="3950" y="85"/>
                  </a:cubicBezTo>
                  <a:cubicBezTo>
                    <a:pt x="3950" y="84"/>
                    <a:pt x="3951" y="83"/>
                    <a:pt x="3951" y="82"/>
                  </a:cubicBezTo>
                  <a:cubicBezTo>
                    <a:pt x="3952" y="84"/>
                    <a:pt x="3953" y="86"/>
                    <a:pt x="3954" y="88"/>
                  </a:cubicBezTo>
                  <a:cubicBezTo>
                    <a:pt x="3954" y="91"/>
                    <a:pt x="3954" y="94"/>
                    <a:pt x="3953" y="97"/>
                  </a:cubicBezTo>
                  <a:close/>
                  <a:moveTo>
                    <a:pt x="3955" y="135"/>
                  </a:moveTo>
                  <a:cubicBezTo>
                    <a:pt x="3955" y="136"/>
                    <a:pt x="3955" y="137"/>
                    <a:pt x="3955" y="138"/>
                  </a:cubicBezTo>
                  <a:cubicBezTo>
                    <a:pt x="3955" y="137"/>
                    <a:pt x="3955" y="136"/>
                    <a:pt x="3955" y="135"/>
                  </a:cubicBezTo>
                  <a:cubicBezTo>
                    <a:pt x="3955" y="135"/>
                    <a:pt x="3955" y="135"/>
                    <a:pt x="3955" y="135"/>
                  </a:cubicBezTo>
                  <a:close/>
                  <a:moveTo>
                    <a:pt x="3955" y="83"/>
                  </a:moveTo>
                  <a:cubicBezTo>
                    <a:pt x="3954" y="82"/>
                    <a:pt x="3953" y="81"/>
                    <a:pt x="3953" y="80"/>
                  </a:cubicBezTo>
                  <a:cubicBezTo>
                    <a:pt x="3954" y="78"/>
                    <a:pt x="3955" y="77"/>
                    <a:pt x="3956" y="75"/>
                  </a:cubicBezTo>
                  <a:cubicBezTo>
                    <a:pt x="3955" y="78"/>
                    <a:pt x="3955" y="81"/>
                    <a:pt x="3955" y="83"/>
                  </a:cubicBezTo>
                  <a:close/>
                  <a:moveTo>
                    <a:pt x="3956" y="74"/>
                  </a:moveTo>
                  <a:cubicBezTo>
                    <a:pt x="3954" y="76"/>
                    <a:pt x="3953" y="77"/>
                    <a:pt x="3952" y="79"/>
                  </a:cubicBezTo>
                  <a:cubicBezTo>
                    <a:pt x="3951" y="78"/>
                    <a:pt x="3951" y="78"/>
                    <a:pt x="3951" y="77"/>
                  </a:cubicBezTo>
                  <a:cubicBezTo>
                    <a:pt x="3951" y="72"/>
                    <a:pt x="3951" y="67"/>
                    <a:pt x="3952" y="65"/>
                  </a:cubicBezTo>
                  <a:cubicBezTo>
                    <a:pt x="3953" y="67"/>
                    <a:pt x="3954" y="70"/>
                    <a:pt x="3956" y="72"/>
                  </a:cubicBezTo>
                  <a:cubicBezTo>
                    <a:pt x="3956" y="73"/>
                    <a:pt x="3956" y="73"/>
                    <a:pt x="3956" y="74"/>
                  </a:cubicBezTo>
                  <a:close/>
                  <a:moveTo>
                    <a:pt x="3958" y="75"/>
                  </a:moveTo>
                  <a:cubicBezTo>
                    <a:pt x="3959" y="78"/>
                    <a:pt x="3961" y="81"/>
                    <a:pt x="3963" y="84"/>
                  </a:cubicBezTo>
                  <a:cubicBezTo>
                    <a:pt x="3961" y="86"/>
                    <a:pt x="3960" y="88"/>
                    <a:pt x="3959" y="90"/>
                  </a:cubicBezTo>
                  <a:cubicBezTo>
                    <a:pt x="3959" y="89"/>
                    <a:pt x="3958" y="89"/>
                    <a:pt x="3958" y="89"/>
                  </a:cubicBezTo>
                  <a:cubicBezTo>
                    <a:pt x="3958" y="84"/>
                    <a:pt x="3958" y="79"/>
                    <a:pt x="3958" y="75"/>
                  </a:cubicBezTo>
                  <a:close/>
                  <a:moveTo>
                    <a:pt x="3960" y="110"/>
                  </a:moveTo>
                  <a:cubicBezTo>
                    <a:pt x="3960" y="107"/>
                    <a:pt x="3959" y="104"/>
                    <a:pt x="3958" y="101"/>
                  </a:cubicBezTo>
                  <a:cubicBezTo>
                    <a:pt x="3958" y="100"/>
                    <a:pt x="3958" y="100"/>
                    <a:pt x="3958" y="100"/>
                  </a:cubicBezTo>
                  <a:cubicBezTo>
                    <a:pt x="3958" y="100"/>
                    <a:pt x="3959" y="99"/>
                    <a:pt x="3959" y="99"/>
                  </a:cubicBezTo>
                  <a:cubicBezTo>
                    <a:pt x="3960" y="101"/>
                    <a:pt x="3960" y="104"/>
                    <a:pt x="3961" y="106"/>
                  </a:cubicBezTo>
                  <a:cubicBezTo>
                    <a:pt x="3961" y="108"/>
                    <a:pt x="3961" y="109"/>
                    <a:pt x="3960" y="110"/>
                  </a:cubicBezTo>
                  <a:close/>
                  <a:moveTo>
                    <a:pt x="3961" y="93"/>
                  </a:moveTo>
                  <a:cubicBezTo>
                    <a:pt x="3962" y="91"/>
                    <a:pt x="3963" y="88"/>
                    <a:pt x="3964" y="86"/>
                  </a:cubicBezTo>
                  <a:cubicBezTo>
                    <a:pt x="3964" y="87"/>
                    <a:pt x="3965" y="87"/>
                    <a:pt x="3965" y="88"/>
                  </a:cubicBezTo>
                  <a:cubicBezTo>
                    <a:pt x="3964" y="91"/>
                    <a:pt x="3964" y="94"/>
                    <a:pt x="3963" y="97"/>
                  </a:cubicBezTo>
                  <a:cubicBezTo>
                    <a:pt x="3962" y="96"/>
                    <a:pt x="3961" y="95"/>
                    <a:pt x="3961" y="93"/>
                  </a:cubicBezTo>
                  <a:close/>
                  <a:moveTo>
                    <a:pt x="3964" y="130"/>
                  </a:moveTo>
                  <a:cubicBezTo>
                    <a:pt x="3964" y="129"/>
                    <a:pt x="3964" y="128"/>
                    <a:pt x="3964" y="126"/>
                  </a:cubicBezTo>
                  <a:cubicBezTo>
                    <a:pt x="3964" y="124"/>
                    <a:pt x="3964" y="121"/>
                    <a:pt x="3965" y="119"/>
                  </a:cubicBezTo>
                  <a:cubicBezTo>
                    <a:pt x="3965" y="120"/>
                    <a:pt x="3966" y="122"/>
                    <a:pt x="3966" y="124"/>
                  </a:cubicBezTo>
                  <a:cubicBezTo>
                    <a:pt x="3965" y="126"/>
                    <a:pt x="3965" y="128"/>
                    <a:pt x="3964" y="130"/>
                  </a:cubicBezTo>
                  <a:close/>
                  <a:moveTo>
                    <a:pt x="3968" y="108"/>
                  </a:moveTo>
                  <a:cubicBezTo>
                    <a:pt x="3968" y="107"/>
                    <a:pt x="3967" y="106"/>
                    <a:pt x="3967" y="105"/>
                  </a:cubicBezTo>
                  <a:cubicBezTo>
                    <a:pt x="3967" y="102"/>
                    <a:pt x="3968" y="99"/>
                    <a:pt x="3969" y="96"/>
                  </a:cubicBezTo>
                  <a:cubicBezTo>
                    <a:pt x="3969" y="96"/>
                    <a:pt x="3969" y="97"/>
                    <a:pt x="3969" y="97"/>
                  </a:cubicBezTo>
                  <a:cubicBezTo>
                    <a:pt x="3969" y="101"/>
                    <a:pt x="3968" y="105"/>
                    <a:pt x="3968" y="108"/>
                  </a:cubicBezTo>
                  <a:close/>
                  <a:moveTo>
                    <a:pt x="3970" y="86"/>
                  </a:moveTo>
                  <a:cubicBezTo>
                    <a:pt x="3970" y="86"/>
                    <a:pt x="3970" y="86"/>
                    <a:pt x="3970" y="86"/>
                  </a:cubicBezTo>
                  <a:cubicBezTo>
                    <a:pt x="3970" y="85"/>
                    <a:pt x="3971" y="84"/>
                    <a:pt x="3971" y="83"/>
                  </a:cubicBezTo>
                  <a:cubicBezTo>
                    <a:pt x="3971" y="84"/>
                    <a:pt x="3970" y="85"/>
                    <a:pt x="3970" y="86"/>
                  </a:cubicBezTo>
                  <a:close/>
                  <a:moveTo>
                    <a:pt x="3978" y="80"/>
                  </a:moveTo>
                  <a:cubicBezTo>
                    <a:pt x="3978" y="77"/>
                    <a:pt x="3978" y="75"/>
                    <a:pt x="3978" y="73"/>
                  </a:cubicBezTo>
                  <a:cubicBezTo>
                    <a:pt x="3979" y="73"/>
                    <a:pt x="3979" y="74"/>
                    <a:pt x="3979" y="74"/>
                  </a:cubicBezTo>
                  <a:cubicBezTo>
                    <a:pt x="3979" y="76"/>
                    <a:pt x="3979" y="78"/>
                    <a:pt x="3978" y="80"/>
                  </a:cubicBezTo>
                  <a:close/>
                  <a:moveTo>
                    <a:pt x="3990" y="93"/>
                  </a:moveTo>
                  <a:cubicBezTo>
                    <a:pt x="3989" y="95"/>
                    <a:pt x="3989" y="96"/>
                    <a:pt x="3988" y="97"/>
                  </a:cubicBezTo>
                  <a:cubicBezTo>
                    <a:pt x="3988" y="94"/>
                    <a:pt x="3988" y="91"/>
                    <a:pt x="3987" y="88"/>
                  </a:cubicBezTo>
                  <a:cubicBezTo>
                    <a:pt x="3988" y="89"/>
                    <a:pt x="3989" y="91"/>
                    <a:pt x="3990" y="93"/>
                  </a:cubicBezTo>
                  <a:close/>
                  <a:moveTo>
                    <a:pt x="3991" y="88"/>
                  </a:moveTo>
                  <a:cubicBezTo>
                    <a:pt x="3990" y="86"/>
                    <a:pt x="3989" y="85"/>
                    <a:pt x="3988" y="84"/>
                  </a:cubicBezTo>
                  <a:cubicBezTo>
                    <a:pt x="3989" y="81"/>
                    <a:pt x="3991" y="78"/>
                    <a:pt x="3993" y="75"/>
                  </a:cubicBezTo>
                  <a:cubicBezTo>
                    <a:pt x="3992" y="79"/>
                    <a:pt x="3991" y="84"/>
                    <a:pt x="3991" y="88"/>
                  </a:cubicBezTo>
                  <a:close/>
                  <a:moveTo>
                    <a:pt x="4000" y="77"/>
                  </a:moveTo>
                  <a:cubicBezTo>
                    <a:pt x="4000" y="77"/>
                    <a:pt x="4000" y="77"/>
                    <a:pt x="4000" y="77"/>
                  </a:cubicBezTo>
                  <a:cubicBezTo>
                    <a:pt x="4000" y="74"/>
                    <a:pt x="3999" y="70"/>
                    <a:pt x="3999" y="66"/>
                  </a:cubicBezTo>
                  <a:cubicBezTo>
                    <a:pt x="3999" y="65"/>
                    <a:pt x="4000" y="64"/>
                    <a:pt x="4000" y="63"/>
                  </a:cubicBezTo>
                  <a:cubicBezTo>
                    <a:pt x="4001" y="67"/>
                    <a:pt x="4001" y="72"/>
                    <a:pt x="4000" y="77"/>
                  </a:cubicBezTo>
                  <a:close/>
                  <a:moveTo>
                    <a:pt x="4003" y="72"/>
                  </a:moveTo>
                  <a:cubicBezTo>
                    <a:pt x="4003" y="67"/>
                    <a:pt x="4002" y="64"/>
                    <a:pt x="4001" y="61"/>
                  </a:cubicBezTo>
                  <a:cubicBezTo>
                    <a:pt x="4002" y="60"/>
                    <a:pt x="4003" y="58"/>
                    <a:pt x="4004" y="57"/>
                  </a:cubicBezTo>
                  <a:cubicBezTo>
                    <a:pt x="4004" y="62"/>
                    <a:pt x="4004" y="67"/>
                    <a:pt x="4003" y="72"/>
                  </a:cubicBezTo>
                  <a:close/>
                  <a:moveTo>
                    <a:pt x="4019" y="89"/>
                  </a:moveTo>
                  <a:cubicBezTo>
                    <a:pt x="4020" y="91"/>
                    <a:pt x="4021" y="92"/>
                    <a:pt x="4021" y="94"/>
                  </a:cubicBezTo>
                  <a:cubicBezTo>
                    <a:pt x="4021" y="95"/>
                    <a:pt x="4020" y="97"/>
                    <a:pt x="4020" y="98"/>
                  </a:cubicBezTo>
                  <a:cubicBezTo>
                    <a:pt x="4019" y="97"/>
                    <a:pt x="4019" y="96"/>
                    <a:pt x="4018" y="95"/>
                  </a:cubicBezTo>
                  <a:cubicBezTo>
                    <a:pt x="4018" y="93"/>
                    <a:pt x="4019" y="91"/>
                    <a:pt x="4019" y="89"/>
                  </a:cubicBezTo>
                  <a:close/>
                  <a:moveTo>
                    <a:pt x="4018" y="101"/>
                  </a:moveTo>
                  <a:cubicBezTo>
                    <a:pt x="4018" y="101"/>
                    <a:pt x="4018" y="100"/>
                    <a:pt x="4018" y="100"/>
                  </a:cubicBezTo>
                  <a:cubicBezTo>
                    <a:pt x="4018" y="100"/>
                    <a:pt x="4018" y="101"/>
                    <a:pt x="4018" y="101"/>
                  </a:cubicBezTo>
                  <a:cubicBezTo>
                    <a:pt x="4018" y="101"/>
                    <a:pt x="4018" y="101"/>
                    <a:pt x="4018" y="101"/>
                  </a:cubicBezTo>
                  <a:close/>
                  <a:moveTo>
                    <a:pt x="4020" y="122"/>
                  </a:moveTo>
                  <a:cubicBezTo>
                    <a:pt x="4020" y="121"/>
                    <a:pt x="4019" y="120"/>
                    <a:pt x="4019" y="119"/>
                  </a:cubicBezTo>
                  <a:cubicBezTo>
                    <a:pt x="4019" y="117"/>
                    <a:pt x="4019" y="115"/>
                    <a:pt x="4019" y="112"/>
                  </a:cubicBezTo>
                  <a:cubicBezTo>
                    <a:pt x="4019" y="110"/>
                    <a:pt x="4019" y="108"/>
                    <a:pt x="4020" y="106"/>
                  </a:cubicBezTo>
                  <a:cubicBezTo>
                    <a:pt x="4020" y="108"/>
                    <a:pt x="4021" y="110"/>
                    <a:pt x="4021" y="112"/>
                  </a:cubicBezTo>
                  <a:cubicBezTo>
                    <a:pt x="4021" y="115"/>
                    <a:pt x="4021" y="119"/>
                    <a:pt x="4020" y="122"/>
                  </a:cubicBezTo>
                  <a:close/>
                  <a:moveTo>
                    <a:pt x="4022" y="103"/>
                  </a:moveTo>
                  <a:cubicBezTo>
                    <a:pt x="4022" y="102"/>
                    <a:pt x="4021" y="101"/>
                    <a:pt x="4021" y="100"/>
                  </a:cubicBezTo>
                  <a:cubicBezTo>
                    <a:pt x="4021" y="99"/>
                    <a:pt x="4022" y="97"/>
                    <a:pt x="4022" y="96"/>
                  </a:cubicBezTo>
                  <a:cubicBezTo>
                    <a:pt x="4022" y="97"/>
                    <a:pt x="4023" y="97"/>
                    <a:pt x="4023" y="98"/>
                  </a:cubicBezTo>
                  <a:cubicBezTo>
                    <a:pt x="4023" y="100"/>
                    <a:pt x="4022" y="101"/>
                    <a:pt x="4022" y="103"/>
                  </a:cubicBezTo>
                  <a:close/>
                  <a:moveTo>
                    <a:pt x="4023" y="96"/>
                  </a:moveTo>
                  <a:cubicBezTo>
                    <a:pt x="4023" y="95"/>
                    <a:pt x="4023" y="95"/>
                    <a:pt x="4022" y="95"/>
                  </a:cubicBezTo>
                  <a:cubicBezTo>
                    <a:pt x="4023" y="93"/>
                    <a:pt x="4023" y="92"/>
                    <a:pt x="4024" y="91"/>
                  </a:cubicBezTo>
                  <a:cubicBezTo>
                    <a:pt x="4023" y="93"/>
                    <a:pt x="4023" y="94"/>
                    <a:pt x="4023" y="96"/>
                  </a:cubicBezTo>
                  <a:close/>
                  <a:moveTo>
                    <a:pt x="4029" y="95"/>
                  </a:moveTo>
                  <a:cubicBezTo>
                    <a:pt x="4029" y="92"/>
                    <a:pt x="4030" y="89"/>
                    <a:pt x="4030" y="86"/>
                  </a:cubicBezTo>
                  <a:cubicBezTo>
                    <a:pt x="4030" y="86"/>
                    <a:pt x="4031" y="87"/>
                    <a:pt x="4031" y="88"/>
                  </a:cubicBezTo>
                  <a:cubicBezTo>
                    <a:pt x="4031" y="90"/>
                    <a:pt x="4030" y="92"/>
                    <a:pt x="4029" y="95"/>
                  </a:cubicBezTo>
                  <a:close/>
                  <a:moveTo>
                    <a:pt x="4040" y="99"/>
                  </a:moveTo>
                  <a:cubicBezTo>
                    <a:pt x="4040" y="99"/>
                    <a:pt x="4039" y="98"/>
                    <a:pt x="4039" y="97"/>
                  </a:cubicBezTo>
                  <a:cubicBezTo>
                    <a:pt x="4039" y="93"/>
                    <a:pt x="4039" y="89"/>
                    <a:pt x="4039" y="84"/>
                  </a:cubicBezTo>
                  <a:cubicBezTo>
                    <a:pt x="4040" y="80"/>
                    <a:pt x="4043" y="76"/>
                    <a:pt x="4045" y="72"/>
                  </a:cubicBezTo>
                  <a:cubicBezTo>
                    <a:pt x="4046" y="74"/>
                    <a:pt x="4046" y="78"/>
                    <a:pt x="4047" y="82"/>
                  </a:cubicBezTo>
                  <a:cubicBezTo>
                    <a:pt x="4044" y="88"/>
                    <a:pt x="4042" y="93"/>
                    <a:pt x="4040" y="99"/>
                  </a:cubicBezTo>
                  <a:close/>
                  <a:moveTo>
                    <a:pt x="4048" y="75"/>
                  </a:moveTo>
                  <a:cubicBezTo>
                    <a:pt x="4048" y="73"/>
                    <a:pt x="4047" y="71"/>
                    <a:pt x="4047" y="69"/>
                  </a:cubicBezTo>
                  <a:cubicBezTo>
                    <a:pt x="4048" y="68"/>
                    <a:pt x="4048" y="67"/>
                    <a:pt x="4049" y="66"/>
                  </a:cubicBezTo>
                  <a:cubicBezTo>
                    <a:pt x="4049" y="69"/>
                    <a:pt x="4048" y="72"/>
                    <a:pt x="4048" y="75"/>
                  </a:cubicBezTo>
                  <a:close/>
                  <a:moveTo>
                    <a:pt x="4056" y="72"/>
                  </a:moveTo>
                  <a:cubicBezTo>
                    <a:pt x="4056" y="71"/>
                    <a:pt x="4056" y="70"/>
                    <a:pt x="4056" y="70"/>
                  </a:cubicBezTo>
                  <a:cubicBezTo>
                    <a:pt x="4056" y="69"/>
                    <a:pt x="4056" y="69"/>
                    <a:pt x="4056" y="69"/>
                  </a:cubicBezTo>
                  <a:cubicBezTo>
                    <a:pt x="4056" y="71"/>
                    <a:pt x="4056" y="72"/>
                    <a:pt x="4056" y="72"/>
                  </a:cubicBezTo>
                  <a:close/>
                  <a:moveTo>
                    <a:pt x="4056" y="67"/>
                  </a:moveTo>
                  <a:cubicBezTo>
                    <a:pt x="4056" y="67"/>
                    <a:pt x="4056" y="68"/>
                    <a:pt x="4056" y="68"/>
                  </a:cubicBezTo>
                  <a:cubicBezTo>
                    <a:pt x="4056" y="65"/>
                    <a:pt x="4055" y="61"/>
                    <a:pt x="4055" y="58"/>
                  </a:cubicBezTo>
                  <a:cubicBezTo>
                    <a:pt x="4055" y="57"/>
                    <a:pt x="4056" y="56"/>
                    <a:pt x="4057" y="56"/>
                  </a:cubicBezTo>
                  <a:cubicBezTo>
                    <a:pt x="4056" y="60"/>
                    <a:pt x="4056" y="64"/>
                    <a:pt x="4056" y="67"/>
                  </a:cubicBezTo>
                  <a:close/>
                  <a:moveTo>
                    <a:pt x="4064" y="123"/>
                  </a:moveTo>
                  <a:cubicBezTo>
                    <a:pt x="4063" y="124"/>
                    <a:pt x="4062" y="126"/>
                    <a:pt x="4062" y="127"/>
                  </a:cubicBezTo>
                  <a:cubicBezTo>
                    <a:pt x="4062" y="124"/>
                    <a:pt x="4062" y="122"/>
                    <a:pt x="4061" y="119"/>
                  </a:cubicBezTo>
                  <a:cubicBezTo>
                    <a:pt x="4063" y="116"/>
                    <a:pt x="4064" y="112"/>
                    <a:pt x="4065" y="109"/>
                  </a:cubicBezTo>
                  <a:cubicBezTo>
                    <a:pt x="4065" y="111"/>
                    <a:pt x="4065" y="112"/>
                    <a:pt x="4065" y="114"/>
                  </a:cubicBezTo>
                  <a:cubicBezTo>
                    <a:pt x="4065" y="117"/>
                    <a:pt x="4064" y="120"/>
                    <a:pt x="4064" y="123"/>
                  </a:cubicBezTo>
                  <a:close/>
                  <a:moveTo>
                    <a:pt x="4066" y="110"/>
                  </a:moveTo>
                  <a:cubicBezTo>
                    <a:pt x="4066" y="111"/>
                    <a:pt x="4066" y="112"/>
                    <a:pt x="4065" y="112"/>
                  </a:cubicBezTo>
                  <a:cubicBezTo>
                    <a:pt x="4065" y="111"/>
                    <a:pt x="4065" y="110"/>
                    <a:pt x="4065" y="109"/>
                  </a:cubicBezTo>
                  <a:cubicBezTo>
                    <a:pt x="4065" y="107"/>
                    <a:pt x="4066" y="105"/>
                    <a:pt x="4066" y="102"/>
                  </a:cubicBezTo>
                  <a:cubicBezTo>
                    <a:pt x="4066" y="105"/>
                    <a:pt x="4066" y="108"/>
                    <a:pt x="4066" y="110"/>
                  </a:cubicBezTo>
                  <a:close/>
                  <a:moveTo>
                    <a:pt x="4068" y="83"/>
                  </a:moveTo>
                  <a:cubicBezTo>
                    <a:pt x="4068" y="83"/>
                    <a:pt x="4068" y="84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6" y="87"/>
                    <a:pt x="4065" y="89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2"/>
                    <a:pt x="4063" y="94"/>
                    <a:pt x="4062" y="96"/>
                  </a:cubicBezTo>
                  <a:cubicBezTo>
                    <a:pt x="4062" y="90"/>
                    <a:pt x="4063" y="85"/>
                    <a:pt x="4065" y="79"/>
                  </a:cubicBezTo>
                  <a:cubicBezTo>
                    <a:pt x="4063" y="85"/>
                    <a:pt x="4062" y="90"/>
                    <a:pt x="4060" y="95"/>
                  </a:cubicBezTo>
                  <a:cubicBezTo>
                    <a:pt x="4060" y="85"/>
                    <a:pt x="4061" y="74"/>
                    <a:pt x="4061" y="63"/>
                  </a:cubicBezTo>
                  <a:cubicBezTo>
                    <a:pt x="4064" y="60"/>
                    <a:pt x="4067" y="58"/>
                    <a:pt x="4070" y="55"/>
                  </a:cubicBezTo>
                  <a:cubicBezTo>
                    <a:pt x="4070" y="62"/>
                    <a:pt x="4069" y="72"/>
                    <a:pt x="4068" y="83"/>
                  </a:cubicBezTo>
                  <a:close/>
                  <a:moveTo>
                    <a:pt x="4074" y="105"/>
                  </a:moveTo>
                  <a:cubicBezTo>
                    <a:pt x="4074" y="102"/>
                    <a:pt x="4074" y="99"/>
                    <a:pt x="4074" y="96"/>
                  </a:cubicBezTo>
                  <a:cubicBezTo>
                    <a:pt x="4074" y="97"/>
                    <a:pt x="4075" y="99"/>
                    <a:pt x="4075" y="100"/>
                  </a:cubicBezTo>
                  <a:cubicBezTo>
                    <a:pt x="4075" y="102"/>
                    <a:pt x="4075" y="103"/>
                    <a:pt x="4074" y="105"/>
                  </a:cubicBezTo>
                  <a:cubicBezTo>
                    <a:pt x="4074" y="105"/>
                    <a:pt x="4074" y="105"/>
                    <a:pt x="4074" y="105"/>
                  </a:cubicBezTo>
                  <a:close/>
                  <a:moveTo>
                    <a:pt x="4075" y="130"/>
                  </a:moveTo>
                  <a:cubicBezTo>
                    <a:pt x="4075" y="130"/>
                    <a:pt x="4075" y="130"/>
                    <a:pt x="4075" y="130"/>
                  </a:cubicBezTo>
                  <a:cubicBezTo>
                    <a:pt x="4075" y="129"/>
                    <a:pt x="4075" y="128"/>
                    <a:pt x="4075" y="127"/>
                  </a:cubicBezTo>
                  <a:cubicBezTo>
                    <a:pt x="4075" y="128"/>
                    <a:pt x="4075" y="128"/>
                    <a:pt x="4076" y="129"/>
                  </a:cubicBezTo>
                  <a:cubicBezTo>
                    <a:pt x="4075" y="129"/>
                    <a:pt x="4075" y="130"/>
                    <a:pt x="4075" y="130"/>
                  </a:cubicBezTo>
                  <a:close/>
                  <a:moveTo>
                    <a:pt x="4082" y="74"/>
                  </a:moveTo>
                  <a:cubicBezTo>
                    <a:pt x="4082" y="73"/>
                    <a:pt x="4082" y="71"/>
                    <a:pt x="4082" y="70"/>
                  </a:cubicBezTo>
                  <a:cubicBezTo>
                    <a:pt x="4082" y="70"/>
                    <a:pt x="4083" y="71"/>
                    <a:pt x="4083" y="72"/>
                  </a:cubicBezTo>
                  <a:cubicBezTo>
                    <a:pt x="4083" y="72"/>
                    <a:pt x="4083" y="73"/>
                    <a:pt x="4082" y="74"/>
                  </a:cubicBezTo>
                  <a:close/>
                  <a:moveTo>
                    <a:pt x="4086" y="139"/>
                  </a:moveTo>
                  <a:cubicBezTo>
                    <a:pt x="4086" y="140"/>
                    <a:pt x="4086" y="141"/>
                    <a:pt x="4086" y="142"/>
                  </a:cubicBezTo>
                  <a:cubicBezTo>
                    <a:pt x="4086" y="142"/>
                    <a:pt x="4086" y="141"/>
                    <a:pt x="4086" y="139"/>
                  </a:cubicBezTo>
                  <a:cubicBezTo>
                    <a:pt x="4086" y="138"/>
                    <a:pt x="4086" y="137"/>
                    <a:pt x="4086" y="136"/>
                  </a:cubicBezTo>
                  <a:cubicBezTo>
                    <a:pt x="4086" y="137"/>
                    <a:pt x="4086" y="137"/>
                    <a:pt x="4086" y="137"/>
                  </a:cubicBezTo>
                  <a:cubicBezTo>
                    <a:pt x="4086" y="138"/>
                    <a:pt x="4086" y="139"/>
                    <a:pt x="4086" y="139"/>
                  </a:cubicBezTo>
                  <a:close/>
                  <a:moveTo>
                    <a:pt x="4088" y="122"/>
                  </a:moveTo>
                  <a:cubicBezTo>
                    <a:pt x="4088" y="122"/>
                    <a:pt x="4088" y="122"/>
                    <a:pt x="4087" y="122"/>
                  </a:cubicBezTo>
                  <a:cubicBezTo>
                    <a:pt x="4088" y="121"/>
                    <a:pt x="4088" y="121"/>
                    <a:pt x="4088" y="121"/>
                  </a:cubicBezTo>
                  <a:cubicBezTo>
                    <a:pt x="4088" y="121"/>
                    <a:pt x="4088" y="122"/>
                    <a:pt x="4088" y="122"/>
                  </a:cubicBezTo>
                  <a:close/>
                  <a:moveTo>
                    <a:pt x="4089" y="110"/>
                  </a:moveTo>
                  <a:cubicBezTo>
                    <a:pt x="4088" y="112"/>
                    <a:pt x="4087" y="114"/>
                    <a:pt x="4086" y="116"/>
                  </a:cubicBezTo>
                  <a:cubicBezTo>
                    <a:pt x="4086" y="116"/>
                    <a:pt x="4086" y="117"/>
                    <a:pt x="4086" y="117"/>
                  </a:cubicBezTo>
                  <a:cubicBezTo>
                    <a:pt x="4086" y="113"/>
                    <a:pt x="4085" y="108"/>
                    <a:pt x="4085" y="104"/>
                  </a:cubicBezTo>
                  <a:cubicBezTo>
                    <a:pt x="4086" y="101"/>
                    <a:pt x="4086" y="98"/>
                    <a:pt x="4087" y="96"/>
                  </a:cubicBezTo>
                  <a:cubicBezTo>
                    <a:pt x="4088" y="95"/>
                    <a:pt x="4088" y="95"/>
                    <a:pt x="4088" y="95"/>
                  </a:cubicBezTo>
                  <a:cubicBezTo>
                    <a:pt x="4088" y="98"/>
                    <a:pt x="4089" y="101"/>
                    <a:pt x="4089" y="104"/>
                  </a:cubicBezTo>
                  <a:cubicBezTo>
                    <a:pt x="4089" y="106"/>
                    <a:pt x="4089" y="108"/>
                    <a:pt x="4089" y="110"/>
                  </a:cubicBezTo>
                  <a:close/>
                  <a:moveTo>
                    <a:pt x="4090" y="99"/>
                  </a:moveTo>
                  <a:cubicBezTo>
                    <a:pt x="4089" y="97"/>
                    <a:pt x="4089" y="96"/>
                    <a:pt x="4088" y="94"/>
                  </a:cubicBezTo>
                  <a:cubicBezTo>
                    <a:pt x="4089" y="93"/>
                    <a:pt x="4090" y="92"/>
                    <a:pt x="4090" y="91"/>
                  </a:cubicBezTo>
                  <a:cubicBezTo>
                    <a:pt x="4090" y="94"/>
                    <a:pt x="4090" y="96"/>
                    <a:pt x="4090" y="99"/>
                  </a:cubicBezTo>
                  <a:close/>
                  <a:moveTo>
                    <a:pt x="4084" y="91"/>
                  </a:moveTo>
                  <a:cubicBezTo>
                    <a:pt x="4084" y="89"/>
                    <a:pt x="4084" y="88"/>
                    <a:pt x="4083" y="87"/>
                  </a:cubicBezTo>
                  <a:cubicBezTo>
                    <a:pt x="4085" y="83"/>
                    <a:pt x="4086" y="80"/>
                    <a:pt x="4087" y="76"/>
                  </a:cubicBezTo>
                  <a:cubicBezTo>
                    <a:pt x="4088" y="78"/>
                    <a:pt x="4090" y="80"/>
                    <a:pt x="4091" y="82"/>
                  </a:cubicBezTo>
                  <a:cubicBezTo>
                    <a:pt x="4088" y="85"/>
                    <a:pt x="4086" y="88"/>
                    <a:pt x="4084" y="91"/>
                  </a:cubicBezTo>
                  <a:close/>
                  <a:moveTo>
                    <a:pt x="4091" y="79"/>
                  </a:moveTo>
                  <a:cubicBezTo>
                    <a:pt x="4090" y="77"/>
                    <a:pt x="4089" y="76"/>
                    <a:pt x="4088" y="75"/>
                  </a:cubicBezTo>
                  <a:cubicBezTo>
                    <a:pt x="4089" y="72"/>
                    <a:pt x="4091" y="68"/>
                    <a:pt x="4092" y="65"/>
                  </a:cubicBezTo>
                  <a:cubicBezTo>
                    <a:pt x="4092" y="68"/>
                    <a:pt x="4092" y="73"/>
                    <a:pt x="4091" y="79"/>
                  </a:cubicBezTo>
                  <a:close/>
                  <a:moveTo>
                    <a:pt x="4109" y="54"/>
                  </a:moveTo>
                  <a:cubicBezTo>
                    <a:pt x="4109" y="56"/>
                    <a:pt x="4108" y="58"/>
                    <a:pt x="4108" y="61"/>
                  </a:cubicBezTo>
                  <a:cubicBezTo>
                    <a:pt x="4104" y="65"/>
                    <a:pt x="4100" y="69"/>
                    <a:pt x="4097" y="74"/>
                  </a:cubicBezTo>
                  <a:cubicBezTo>
                    <a:pt x="4100" y="67"/>
                    <a:pt x="4104" y="60"/>
                    <a:pt x="4109" y="54"/>
                  </a:cubicBezTo>
                  <a:close/>
                  <a:moveTo>
                    <a:pt x="4095" y="89"/>
                  </a:moveTo>
                  <a:cubicBezTo>
                    <a:pt x="4095" y="90"/>
                    <a:pt x="4096" y="91"/>
                    <a:pt x="4096" y="92"/>
                  </a:cubicBezTo>
                  <a:cubicBezTo>
                    <a:pt x="4096" y="92"/>
                    <a:pt x="4095" y="93"/>
                    <a:pt x="4095" y="94"/>
                  </a:cubicBezTo>
                  <a:cubicBezTo>
                    <a:pt x="4095" y="92"/>
                    <a:pt x="4095" y="91"/>
                    <a:pt x="4095" y="89"/>
                  </a:cubicBezTo>
                  <a:close/>
                  <a:moveTo>
                    <a:pt x="4097" y="127"/>
                  </a:moveTo>
                  <a:cubicBezTo>
                    <a:pt x="4097" y="125"/>
                    <a:pt x="4097" y="124"/>
                    <a:pt x="4096" y="122"/>
                  </a:cubicBezTo>
                  <a:cubicBezTo>
                    <a:pt x="4096" y="117"/>
                    <a:pt x="4096" y="111"/>
                    <a:pt x="4096" y="105"/>
                  </a:cubicBezTo>
                  <a:cubicBezTo>
                    <a:pt x="4097" y="104"/>
                    <a:pt x="4097" y="102"/>
                    <a:pt x="4098" y="101"/>
                  </a:cubicBezTo>
                  <a:cubicBezTo>
                    <a:pt x="4097" y="102"/>
                    <a:pt x="4097" y="103"/>
                    <a:pt x="4096" y="105"/>
                  </a:cubicBezTo>
                  <a:cubicBezTo>
                    <a:pt x="4095" y="102"/>
                    <a:pt x="4095" y="99"/>
                    <a:pt x="4095" y="96"/>
                  </a:cubicBezTo>
                  <a:cubicBezTo>
                    <a:pt x="4096" y="95"/>
                    <a:pt x="4096" y="94"/>
                    <a:pt x="4096" y="93"/>
                  </a:cubicBezTo>
                  <a:cubicBezTo>
                    <a:pt x="4097" y="95"/>
                    <a:pt x="4098" y="97"/>
                    <a:pt x="4099" y="100"/>
                  </a:cubicBezTo>
                  <a:cubicBezTo>
                    <a:pt x="4099" y="100"/>
                    <a:pt x="4099" y="100"/>
                    <a:pt x="4098" y="101"/>
                  </a:cubicBezTo>
                  <a:cubicBezTo>
                    <a:pt x="4099" y="100"/>
                    <a:pt x="4099" y="100"/>
                    <a:pt x="4099" y="100"/>
                  </a:cubicBezTo>
                  <a:cubicBezTo>
                    <a:pt x="4100" y="101"/>
                    <a:pt x="4100" y="102"/>
                    <a:pt x="4101" y="103"/>
                  </a:cubicBezTo>
                  <a:cubicBezTo>
                    <a:pt x="4099" y="112"/>
                    <a:pt x="4098" y="120"/>
                    <a:pt x="4097" y="127"/>
                  </a:cubicBezTo>
                  <a:close/>
                  <a:moveTo>
                    <a:pt x="4098" y="87"/>
                  </a:moveTo>
                  <a:cubicBezTo>
                    <a:pt x="4099" y="86"/>
                    <a:pt x="4100" y="84"/>
                    <a:pt x="4101" y="83"/>
                  </a:cubicBezTo>
                  <a:cubicBezTo>
                    <a:pt x="4100" y="84"/>
                    <a:pt x="4099" y="86"/>
                    <a:pt x="4098" y="87"/>
                  </a:cubicBezTo>
                  <a:cubicBezTo>
                    <a:pt x="4097" y="86"/>
                    <a:pt x="4096" y="85"/>
                    <a:pt x="4095" y="83"/>
                  </a:cubicBezTo>
                  <a:cubicBezTo>
                    <a:pt x="4099" y="78"/>
                    <a:pt x="4103" y="72"/>
                    <a:pt x="4106" y="67"/>
                  </a:cubicBezTo>
                  <a:cubicBezTo>
                    <a:pt x="4106" y="72"/>
                    <a:pt x="4105" y="76"/>
                    <a:pt x="4104" y="81"/>
                  </a:cubicBezTo>
                  <a:cubicBezTo>
                    <a:pt x="4104" y="80"/>
                    <a:pt x="4103" y="79"/>
                    <a:pt x="4103" y="79"/>
                  </a:cubicBezTo>
                  <a:cubicBezTo>
                    <a:pt x="4103" y="78"/>
                    <a:pt x="4104" y="77"/>
                    <a:pt x="4105" y="75"/>
                  </a:cubicBezTo>
                  <a:cubicBezTo>
                    <a:pt x="4104" y="76"/>
                    <a:pt x="4103" y="77"/>
                    <a:pt x="4103" y="79"/>
                  </a:cubicBezTo>
                  <a:cubicBezTo>
                    <a:pt x="4102" y="78"/>
                    <a:pt x="4102" y="77"/>
                    <a:pt x="4101" y="77"/>
                  </a:cubicBezTo>
                  <a:cubicBezTo>
                    <a:pt x="4101" y="78"/>
                    <a:pt x="4102" y="79"/>
                    <a:pt x="4102" y="79"/>
                  </a:cubicBezTo>
                  <a:cubicBezTo>
                    <a:pt x="4102" y="80"/>
                    <a:pt x="4101" y="81"/>
                    <a:pt x="4101" y="83"/>
                  </a:cubicBezTo>
                  <a:cubicBezTo>
                    <a:pt x="4101" y="82"/>
                    <a:pt x="4102" y="81"/>
                    <a:pt x="4102" y="80"/>
                  </a:cubicBezTo>
                  <a:cubicBezTo>
                    <a:pt x="4103" y="81"/>
                    <a:pt x="4103" y="82"/>
                    <a:pt x="4104" y="84"/>
                  </a:cubicBezTo>
                  <a:cubicBezTo>
                    <a:pt x="4103" y="87"/>
                    <a:pt x="4103" y="90"/>
                    <a:pt x="4102" y="93"/>
                  </a:cubicBezTo>
                  <a:cubicBezTo>
                    <a:pt x="4101" y="91"/>
                    <a:pt x="4100" y="89"/>
                    <a:pt x="4098" y="87"/>
                  </a:cubicBezTo>
                  <a:close/>
                  <a:moveTo>
                    <a:pt x="4103" y="144"/>
                  </a:moveTo>
                  <a:cubicBezTo>
                    <a:pt x="4103" y="144"/>
                    <a:pt x="4103" y="143"/>
                    <a:pt x="4103" y="143"/>
                  </a:cubicBezTo>
                  <a:cubicBezTo>
                    <a:pt x="4103" y="140"/>
                    <a:pt x="4103" y="136"/>
                    <a:pt x="4103" y="131"/>
                  </a:cubicBezTo>
                  <a:cubicBezTo>
                    <a:pt x="4104" y="128"/>
                    <a:pt x="4105" y="126"/>
                    <a:pt x="4105" y="125"/>
                  </a:cubicBezTo>
                  <a:cubicBezTo>
                    <a:pt x="4105" y="125"/>
                    <a:pt x="4105" y="124"/>
                    <a:pt x="4105" y="124"/>
                  </a:cubicBezTo>
                  <a:cubicBezTo>
                    <a:pt x="4104" y="124"/>
                    <a:pt x="4104" y="124"/>
                    <a:pt x="4104" y="124"/>
                  </a:cubicBezTo>
                  <a:cubicBezTo>
                    <a:pt x="4104" y="122"/>
                    <a:pt x="4104" y="120"/>
                    <a:pt x="4104" y="118"/>
                  </a:cubicBezTo>
                  <a:cubicBezTo>
                    <a:pt x="4105" y="121"/>
                    <a:pt x="4106" y="125"/>
                    <a:pt x="4106" y="128"/>
                  </a:cubicBezTo>
                  <a:cubicBezTo>
                    <a:pt x="4105" y="136"/>
                    <a:pt x="4104" y="141"/>
                    <a:pt x="4103" y="144"/>
                  </a:cubicBezTo>
                  <a:close/>
                  <a:moveTo>
                    <a:pt x="4110" y="107"/>
                  </a:moveTo>
                  <a:cubicBezTo>
                    <a:pt x="4109" y="105"/>
                    <a:pt x="4108" y="102"/>
                    <a:pt x="4106" y="100"/>
                  </a:cubicBezTo>
                  <a:cubicBezTo>
                    <a:pt x="4107" y="97"/>
                    <a:pt x="4107" y="95"/>
                    <a:pt x="4107" y="93"/>
                  </a:cubicBezTo>
                  <a:cubicBezTo>
                    <a:pt x="4108" y="96"/>
                    <a:pt x="4110" y="99"/>
                    <a:pt x="4111" y="102"/>
                  </a:cubicBezTo>
                  <a:cubicBezTo>
                    <a:pt x="4111" y="104"/>
                    <a:pt x="4110" y="105"/>
                    <a:pt x="4110" y="107"/>
                  </a:cubicBezTo>
                  <a:close/>
                  <a:moveTo>
                    <a:pt x="4111" y="159"/>
                  </a:moveTo>
                  <a:cubicBezTo>
                    <a:pt x="4111" y="159"/>
                    <a:pt x="4111" y="159"/>
                    <a:pt x="4111" y="159"/>
                  </a:cubicBezTo>
                  <a:cubicBezTo>
                    <a:pt x="4111" y="159"/>
                    <a:pt x="4111" y="159"/>
                    <a:pt x="4112" y="159"/>
                  </a:cubicBezTo>
                  <a:cubicBezTo>
                    <a:pt x="4111" y="159"/>
                    <a:pt x="4111" y="159"/>
                    <a:pt x="4111" y="159"/>
                  </a:cubicBezTo>
                  <a:close/>
                  <a:moveTo>
                    <a:pt x="4112" y="96"/>
                  </a:moveTo>
                  <a:cubicBezTo>
                    <a:pt x="4111" y="93"/>
                    <a:pt x="4109" y="91"/>
                    <a:pt x="4108" y="88"/>
                  </a:cubicBezTo>
                  <a:cubicBezTo>
                    <a:pt x="4110" y="85"/>
                    <a:pt x="4112" y="82"/>
                    <a:pt x="4114" y="79"/>
                  </a:cubicBezTo>
                  <a:cubicBezTo>
                    <a:pt x="4114" y="84"/>
                    <a:pt x="4113" y="90"/>
                    <a:pt x="4112" y="96"/>
                  </a:cubicBezTo>
                  <a:close/>
                  <a:moveTo>
                    <a:pt x="4115" y="75"/>
                  </a:moveTo>
                  <a:cubicBezTo>
                    <a:pt x="4113" y="78"/>
                    <a:pt x="4110" y="82"/>
                    <a:pt x="4108" y="86"/>
                  </a:cubicBezTo>
                  <a:cubicBezTo>
                    <a:pt x="4109" y="77"/>
                    <a:pt x="4110" y="68"/>
                    <a:pt x="4111" y="61"/>
                  </a:cubicBezTo>
                  <a:cubicBezTo>
                    <a:pt x="4113" y="58"/>
                    <a:pt x="4115" y="55"/>
                    <a:pt x="4117" y="53"/>
                  </a:cubicBezTo>
                  <a:cubicBezTo>
                    <a:pt x="4117" y="58"/>
                    <a:pt x="4116" y="66"/>
                    <a:pt x="4115" y="75"/>
                  </a:cubicBezTo>
                  <a:close/>
                  <a:moveTo>
                    <a:pt x="4122" y="139"/>
                  </a:moveTo>
                  <a:cubicBezTo>
                    <a:pt x="4122" y="139"/>
                    <a:pt x="4121" y="139"/>
                    <a:pt x="4121" y="139"/>
                  </a:cubicBezTo>
                  <a:cubicBezTo>
                    <a:pt x="4121" y="138"/>
                    <a:pt x="4121" y="138"/>
                    <a:pt x="4122" y="138"/>
                  </a:cubicBezTo>
                  <a:cubicBezTo>
                    <a:pt x="4122" y="138"/>
                    <a:pt x="4122" y="138"/>
                    <a:pt x="4122" y="138"/>
                  </a:cubicBezTo>
                  <a:cubicBezTo>
                    <a:pt x="4122" y="139"/>
                    <a:pt x="4122" y="139"/>
                    <a:pt x="4122" y="139"/>
                  </a:cubicBezTo>
                  <a:close/>
                  <a:moveTo>
                    <a:pt x="4147" y="137"/>
                  </a:moveTo>
                  <a:cubicBezTo>
                    <a:pt x="4147" y="136"/>
                    <a:pt x="4146" y="135"/>
                    <a:pt x="4146" y="133"/>
                  </a:cubicBezTo>
                  <a:cubicBezTo>
                    <a:pt x="4146" y="132"/>
                    <a:pt x="4146" y="130"/>
                    <a:pt x="4146" y="128"/>
                  </a:cubicBezTo>
                  <a:cubicBezTo>
                    <a:pt x="4146" y="131"/>
                    <a:pt x="4147" y="133"/>
                    <a:pt x="4148" y="135"/>
                  </a:cubicBezTo>
                  <a:cubicBezTo>
                    <a:pt x="4148" y="136"/>
                    <a:pt x="4147" y="137"/>
                    <a:pt x="4147" y="137"/>
                  </a:cubicBezTo>
                  <a:close/>
                  <a:moveTo>
                    <a:pt x="4153" y="99"/>
                  </a:moveTo>
                  <a:cubicBezTo>
                    <a:pt x="4152" y="95"/>
                    <a:pt x="4150" y="92"/>
                    <a:pt x="4148" y="90"/>
                  </a:cubicBezTo>
                  <a:cubicBezTo>
                    <a:pt x="4150" y="93"/>
                    <a:pt x="4152" y="97"/>
                    <a:pt x="4153" y="101"/>
                  </a:cubicBezTo>
                  <a:cubicBezTo>
                    <a:pt x="4152" y="110"/>
                    <a:pt x="4151" y="118"/>
                    <a:pt x="4149" y="125"/>
                  </a:cubicBezTo>
                  <a:cubicBezTo>
                    <a:pt x="4148" y="122"/>
                    <a:pt x="4147" y="119"/>
                    <a:pt x="4147" y="116"/>
                  </a:cubicBezTo>
                  <a:cubicBezTo>
                    <a:pt x="4147" y="102"/>
                    <a:pt x="4148" y="86"/>
                    <a:pt x="4149" y="72"/>
                  </a:cubicBezTo>
                  <a:cubicBezTo>
                    <a:pt x="4151" y="75"/>
                    <a:pt x="4154" y="79"/>
                    <a:pt x="4156" y="82"/>
                  </a:cubicBezTo>
                  <a:cubicBezTo>
                    <a:pt x="4155" y="88"/>
                    <a:pt x="4154" y="93"/>
                    <a:pt x="4153" y="99"/>
                  </a:cubicBezTo>
                  <a:close/>
                  <a:moveTo>
                    <a:pt x="4156" y="142"/>
                  </a:moveTo>
                  <a:cubicBezTo>
                    <a:pt x="4157" y="134"/>
                    <a:pt x="4158" y="127"/>
                    <a:pt x="4158" y="121"/>
                  </a:cubicBezTo>
                  <a:cubicBezTo>
                    <a:pt x="4158" y="123"/>
                    <a:pt x="4159" y="125"/>
                    <a:pt x="4159" y="127"/>
                  </a:cubicBezTo>
                  <a:cubicBezTo>
                    <a:pt x="4158" y="136"/>
                    <a:pt x="4156" y="142"/>
                    <a:pt x="4156" y="142"/>
                  </a:cubicBezTo>
                  <a:close/>
                  <a:moveTo>
                    <a:pt x="4160" y="144"/>
                  </a:moveTo>
                  <a:cubicBezTo>
                    <a:pt x="4160" y="142"/>
                    <a:pt x="4160" y="140"/>
                    <a:pt x="4161" y="137"/>
                  </a:cubicBezTo>
                  <a:cubicBezTo>
                    <a:pt x="4161" y="138"/>
                    <a:pt x="4161" y="138"/>
                    <a:pt x="4161" y="138"/>
                  </a:cubicBezTo>
                  <a:cubicBezTo>
                    <a:pt x="4160" y="142"/>
                    <a:pt x="4160" y="144"/>
                    <a:pt x="4160" y="144"/>
                  </a:cubicBezTo>
                  <a:close/>
                  <a:moveTo>
                    <a:pt x="4159" y="110"/>
                  </a:moveTo>
                  <a:cubicBezTo>
                    <a:pt x="4159" y="103"/>
                    <a:pt x="4160" y="96"/>
                    <a:pt x="4160" y="90"/>
                  </a:cubicBezTo>
                  <a:cubicBezTo>
                    <a:pt x="4162" y="93"/>
                    <a:pt x="4163" y="96"/>
                    <a:pt x="4164" y="99"/>
                  </a:cubicBezTo>
                  <a:cubicBezTo>
                    <a:pt x="4163" y="105"/>
                    <a:pt x="4162" y="111"/>
                    <a:pt x="4161" y="116"/>
                  </a:cubicBezTo>
                  <a:cubicBezTo>
                    <a:pt x="4160" y="114"/>
                    <a:pt x="4159" y="112"/>
                    <a:pt x="4159" y="110"/>
                  </a:cubicBezTo>
                  <a:close/>
                  <a:moveTo>
                    <a:pt x="4164" y="124"/>
                  </a:moveTo>
                  <a:cubicBezTo>
                    <a:pt x="4163" y="123"/>
                    <a:pt x="4163" y="122"/>
                    <a:pt x="4163" y="121"/>
                  </a:cubicBezTo>
                  <a:cubicBezTo>
                    <a:pt x="4163" y="115"/>
                    <a:pt x="4164" y="109"/>
                    <a:pt x="4165" y="103"/>
                  </a:cubicBezTo>
                  <a:cubicBezTo>
                    <a:pt x="4165" y="105"/>
                    <a:pt x="4166" y="107"/>
                    <a:pt x="4167" y="109"/>
                  </a:cubicBezTo>
                  <a:cubicBezTo>
                    <a:pt x="4166" y="114"/>
                    <a:pt x="4165" y="119"/>
                    <a:pt x="4164" y="124"/>
                  </a:cubicBezTo>
                  <a:close/>
                  <a:moveTo>
                    <a:pt x="4169" y="146"/>
                  </a:moveTo>
                  <a:cubicBezTo>
                    <a:pt x="4169" y="145"/>
                    <a:pt x="4169" y="145"/>
                    <a:pt x="4169" y="145"/>
                  </a:cubicBezTo>
                  <a:cubicBezTo>
                    <a:pt x="4170" y="144"/>
                    <a:pt x="4170" y="143"/>
                    <a:pt x="4170" y="141"/>
                  </a:cubicBezTo>
                  <a:cubicBezTo>
                    <a:pt x="4170" y="142"/>
                    <a:pt x="4170" y="143"/>
                    <a:pt x="4170" y="144"/>
                  </a:cubicBezTo>
                  <a:cubicBezTo>
                    <a:pt x="4170" y="145"/>
                    <a:pt x="4170" y="145"/>
                    <a:pt x="4169" y="146"/>
                  </a:cubicBezTo>
                  <a:close/>
                  <a:moveTo>
                    <a:pt x="4193" y="118"/>
                  </a:moveTo>
                  <a:cubicBezTo>
                    <a:pt x="4192" y="114"/>
                    <a:pt x="4190" y="111"/>
                    <a:pt x="4189" y="107"/>
                  </a:cubicBezTo>
                  <a:cubicBezTo>
                    <a:pt x="4189" y="96"/>
                    <a:pt x="4189" y="84"/>
                    <a:pt x="4189" y="74"/>
                  </a:cubicBezTo>
                  <a:cubicBezTo>
                    <a:pt x="4189" y="70"/>
                    <a:pt x="4189" y="67"/>
                    <a:pt x="4188" y="65"/>
                  </a:cubicBezTo>
                  <a:cubicBezTo>
                    <a:pt x="4189" y="74"/>
                    <a:pt x="4193" y="84"/>
                    <a:pt x="4196" y="94"/>
                  </a:cubicBezTo>
                  <a:cubicBezTo>
                    <a:pt x="4195" y="102"/>
                    <a:pt x="4194" y="110"/>
                    <a:pt x="4193" y="118"/>
                  </a:cubicBezTo>
                  <a:close/>
                  <a:moveTo>
                    <a:pt x="4222" y="124"/>
                  </a:moveTo>
                  <a:cubicBezTo>
                    <a:pt x="4221" y="122"/>
                    <a:pt x="4221" y="120"/>
                    <a:pt x="4220" y="117"/>
                  </a:cubicBezTo>
                  <a:cubicBezTo>
                    <a:pt x="4221" y="109"/>
                    <a:pt x="4222" y="100"/>
                    <a:pt x="4223" y="92"/>
                  </a:cubicBezTo>
                  <a:cubicBezTo>
                    <a:pt x="4225" y="96"/>
                    <a:pt x="4226" y="100"/>
                    <a:pt x="4226" y="104"/>
                  </a:cubicBezTo>
                  <a:cubicBezTo>
                    <a:pt x="4225" y="111"/>
                    <a:pt x="4223" y="118"/>
                    <a:pt x="4222" y="124"/>
                  </a:cubicBezTo>
                  <a:close/>
                  <a:moveTo>
                    <a:pt x="4262" y="133"/>
                  </a:moveTo>
                  <a:cubicBezTo>
                    <a:pt x="4262" y="130"/>
                    <a:pt x="4261" y="126"/>
                    <a:pt x="4260" y="122"/>
                  </a:cubicBezTo>
                  <a:cubicBezTo>
                    <a:pt x="4260" y="112"/>
                    <a:pt x="4260" y="100"/>
                    <a:pt x="4261" y="88"/>
                  </a:cubicBezTo>
                  <a:cubicBezTo>
                    <a:pt x="4263" y="96"/>
                    <a:pt x="4265" y="104"/>
                    <a:pt x="4265" y="111"/>
                  </a:cubicBezTo>
                  <a:cubicBezTo>
                    <a:pt x="4266" y="117"/>
                    <a:pt x="4266" y="117"/>
                    <a:pt x="4266" y="117"/>
                  </a:cubicBezTo>
                  <a:cubicBezTo>
                    <a:pt x="4264" y="123"/>
                    <a:pt x="4263" y="129"/>
                    <a:pt x="4262" y="133"/>
                  </a:cubicBezTo>
                  <a:close/>
                  <a:moveTo>
                    <a:pt x="4275" y="110"/>
                  </a:moveTo>
                  <a:cubicBezTo>
                    <a:pt x="4275" y="113"/>
                    <a:pt x="4275" y="116"/>
                    <a:pt x="4275" y="119"/>
                  </a:cubicBezTo>
                  <a:cubicBezTo>
                    <a:pt x="4274" y="122"/>
                    <a:pt x="4274" y="124"/>
                    <a:pt x="4273" y="127"/>
                  </a:cubicBezTo>
                  <a:cubicBezTo>
                    <a:pt x="4273" y="119"/>
                    <a:pt x="4272" y="111"/>
                    <a:pt x="4271" y="104"/>
                  </a:cubicBezTo>
                  <a:cubicBezTo>
                    <a:pt x="4272" y="98"/>
                    <a:pt x="4272" y="91"/>
                    <a:pt x="4273" y="86"/>
                  </a:cubicBezTo>
                  <a:cubicBezTo>
                    <a:pt x="4275" y="93"/>
                    <a:pt x="4275" y="102"/>
                    <a:pt x="4275" y="110"/>
                  </a:cubicBezTo>
                  <a:close/>
                  <a:moveTo>
                    <a:pt x="4285" y="142"/>
                  </a:moveTo>
                  <a:cubicBezTo>
                    <a:pt x="4285" y="142"/>
                    <a:pt x="4285" y="141"/>
                    <a:pt x="4286" y="138"/>
                  </a:cubicBezTo>
                  <a:cubicBezTo>
                    <a:pt x="4287" y="120"/>
                    <a:pt x="4286" y="96"/>
                    <a:pt x="4285" y="77"/>
                  </a:cubicBezTo>
                  <a:cubicBezTo>
                    <a:pt x="4287" y="81"/>
                    <a:pt x="4289" y="86"/>
                    <a:pt x="4290" y="92"/>
                  </a:cubicBezTo>
                  <a:cubicBezTo>
                    <a:pt x="4288" y="108"/>
                    <a:pt x="4286" y="129"/>
                    <a:pt x="4286" y="138"/>
                  </a:cubicBezTo>
                  <a:cubicBezTo>
                    <a:pt x="4285" y="139"/>
                    <a:pt x="4285" y="141"/>
                    <a:pt x="4285" y="142"/>
                  </a:cubicBezTo>
                  <a:close/>
                  <a:moveTo>
                    <a:pt x="4289" y="129"/>
                  </a:moveTo>
                  <a:cubicBezTo>
                    <a:pt x="4289" y="119"/>
                    <a:pt x="4290" y="107"/>
                    <a:pt x="4291" y="97"/>
                  </a:cubicBezTo>
                  <a:cubicBezTo>
                    <a:pt x="4291" y="100"/>
                    <a:pt x="4291" y="103"/>
                    <a:pt x="4291" y="106"/>
                  </a:cubicBezTo>
                  <a:cubicBezTo>
                    <a:pt x="4291" y="114"/>
                    <a:pt x="4290" y="121"/>
                    <a:pt x="4289" y="129"/>
                  </a:cubicBezTo>
                  <a:close/>
                  <a:moveTo>
                    <a:pt x="4300" y="125"/>
                  </a:moveTo>
                  <a:cubicBezTo>
                    <a:pt x="4301" y="120"/>
                    <a:pt x="4301" y="113"/>
                    <a:pt x="4301" y="107"/>
                  </a:cubicBezTo>
                  <a:cubicBezTo>
                    <a:pt x="4301" y="114"/>
                    <a:pt x="4301" y="120"/>
                    <a:pt x="4300" y="125"/>
                  </a:cubicBezTo>
                  <a:close/>
                  <a:moveTo>
                    <a:pt x="4315" y="112"/>
                  </a:moveTo>
                  <a:cubicBezTo>
                    <a:pt x="4315" y="105"/>
                    <a:pt x="4315" y="98"/>
                    <a:pt x="4315" y="91"/>
                  </a:cubicBezTo>
                  <a:cubicBezTo>
                    <a:pt x="4316" y="95"/>
                    <a:pt x="4316" y="99"/>
                    <a:pt x="4316" y="103"/>
                  </a:cubicBezTo>
                  <a:cubicBezTo>
                    <a:pt x="4316" y="106"/>
                    <a:pt x="4316" y="109"/>
                    <a:pt x="4315" y="112"/>
                  </a:cubicBezTo>
                  <a:close/>
                  <a:moveTo>
                    <a:pt x="4326" y="129"/>
                  </a:moveTo>
                  <a:cubicBezTo>
                    <a:pt x="4326" y="129"/>
                    <a:pt x="4326" y="129"/>
                    <a:pt x="4325" y="130"/>
                  </a:cubicBezTo>
                  <a:cubicBezTo>
                    <a:pt x="4325" y="132"/>
                    <a:pt x="4324" y="134"/>
                    <a:pt x="4324" y="137"/>
                  </a:cubicBezTo>
                  <a:cubicBezTo>
                    <a:pt x="4324" y="136"/>
                    <a:pt x="4324" y="136"/>
                    <a:pt x="4324" y="136"/>
                  </a:cubicBezTo>
                  <a:cubicBezTo>
                    <a:pt x="4324" y="134"/>
                    <a:pt x="4325" y="132"/>
                    <a:pt x="4325" y="130"/>
                  </a:cubicBezTo>
                  <a:cubicBezTo>
                    <a:pt x="4326" y="129"/>
                    <a:pt x="4326" y="129"/>
                    <a:pt x="4326" y="129"/>
                  </a:cubicBezTo>
                  <a:cubicBezTo>
                    <a:pt x="4326" y="129"/>
                    <a:pt x="4326" y="129"/>
                    <a:pt x="4326" y="129"/>
                  </a:cubicBezTo>
                  <a:close/>
                  <a:moveTo>
                    <a:pt x="4362" y="130"/>
                  </a:moveTo>
                  <a:cubicBezTo>
                    <a:pt x="4362" y="132"/>
                    <a:pt x="4361" y="134"/>
                    <a:pt x="4360" y="136"/>
                  </a:cubicBezTo>
                  <a:cubicBezTo>
                    <a:pt x="4360" y="131"/>
                    <a:pt x="4360" y="126"/>
                    <a:pt x="4360" y="121"/>
                  </a:cubicBezTo>
                  <a:cubicBezTo>
                    <a:pt x="4362" y="115"/>
                    <a:pt x="4364" y="110"/>
                    <a:pt x="4365" y="104"/>
                  </a:cubicBezTo>
                  <a:cubicBezTo>
                    <a:pt x="4364" y="114"/>
                    <a:pt x="4363" y="123"/>
                    <a:pt x="4362" y="130"/>
                  </a:cubicBezTo>
                  <a:close/>
                  <a:moveTo>
                    <a:pt x="4378" y="124"/>
                  </a:moveTo>
                  <a:cubicBezTo>
                    <a:pt x="4378" y="110"/>
                    <a:pt x="4380" y="94"/>
                    <a:pt x="4381" y="83"/>
                  </a:cubicBezTo>
                  <a:cubicBezTo>
                    <a:pt x="4381" y="87"/>
                    <a:pt x="4381" y="91"/>
                    <a:pt x="4381" y="95"/>
                  </a:cubicBezTo>
                  <a:cubicBezTo>
                    <a:pt x="4381" y="105"/>
                    <a:pt x="4380" y="114"/>
                    <a:pt x="4378" y="124"/>
                  </a:cubicBezTo>
                  <a:close/>
                  <a:moveTo>
                    <a:pt x="4394" y="160"/>
                  </a:moveTo>
                  <a:cubicBezTo>
                    <a:pt x="4394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4" y="160"/>
                  </a:cubicBezTo>
                  <a:close/>
                  <a:moveTo>
                    <a:pt x="4407" y="116"/>
                  </a:moveTo>
                  <a:cubicBezTo>
                    <a:pt x="4406" y="121"/>
                    <a:pt x="4404" y="127"/>
                    <a:pt x="4402" y="132"/>
                  </a:cubicBezTo>
                  <a:cubicBezTo>
                    <a:pt x="4402" y="127"/>
                    <a:pt x="4402" y="121"/>
                    <a:pt x="4402" y="115"/>
                  </a:cubicBezTo>
                  <a:cubicBezTo>
                    <a:pt x="4403" y="110"/>
                    <a:pt x="4403" y="104"/>
                    <a:pt x="4403" y="98"/>
                  </a:cubicBezTo>
                  <a:cubicBezTo>
                    <a:pt x="4403" y="95"/>
                    <a:pt x="4403" y="92"/>
                    <a:pt x="4403" y="89"/>
                  </a:cubicBezTo>
                  <a:cubicBezTo>
                    <a:pt x="4404" y="78"/>
                    <a:pt x="4405" y="68"/>
                    <a:pt x="4406" y="60"/>
                  </a:cubicBezTo>
                  <a:cubicBezTo>
                    <a:pt x="4409" y="68"/>
                    <a:pt x="4411" y="78"/>
                    <a:pt x="4411" y="87"/>
                  </a:cubicBezTo>
                  <a:cubicBezTo>
                    <a:pt x="4410" y="95"/>
                    <a:pt x="4409" y="106"/>
                    <a:pt x="4407" y="116"/>
                  </a:cubicBezTo>
                  <a:close/>
                  <a:moveTo>
                    <a:pt x="4415" y="136"/>
                  </a:moveTo>
                  <a:cubicBezTo>
                    <a:pt x="4415" y="137"/>
                    <a:pt x="4414" y="138"/>
                    <a:pt x="4414" y="139"/>
                  </a:cubicBezTo>
                  <a:cubicBezTo>
                    <a:pt x="4414" y="137"/>
                    <a:pt x="4414" y="135"/>
                    <a:pt x="4414" y="133"/>
                  </a:cubicBezTo>
                  <a:cubicBezTo>
                    <a:pt x="4415" y="130"/>
                    <a:pt x="4415" y="128"/>
                    <a:pt x="4416" y="125"/>
                  </a:cubicBezTo>
                  <a:cubicBezTo>
                    <a:pt x="4416" y="129"/>
                    <a:pt x="4415" y="133"/>
                    <a:pt x="4415" y="136"/>
                  </a:cubicBezTo>
                  <a:close/>
                  <a:moveTo>
                    <a:pt x="4431" y="126"/>
                  </a:moveTo>
                  <a:cubicBezTo>
                    <a:pt x="4430" y="113"/>
                    <a:pt x="4430" y="96"/>
                    <a:pt x="4430" y="84"/>
                  </a:cubicBezTo>
                  <a:cubicBezTo>
                    <a:pt x="4434" y="90"/>
                    <a:pt x="4436" y="100"/>
                    <a:pt x="4436" y="104"/>
                  </a:cubicBezTo>
                  <a:cubicBezTo>
                    <a:pt x="4436" y="110"/>
                    <a:pt x="4433" y="118"/>
                    <a:pt x="4431" y="126"/>
                  </a:cubicBezTo>
                  <a:close/>
                  <a:moveTo>
                    <a:pt x="4442" y="128"/>
                  </a:moveTo>
                  <a:cubicBezTo>
                    <a:pt x="4443" y="113"/>
                    <a:pt x="4443" y="91"/>
                    <a:pt x="4443" y="76"/>
                  </a:cubicBezTo>
                  <a:cubicBezTo>
                    <a:pt x="4445" y="83"/>
                    <a:pt x="4447" y="90"/>
                    <a:pt x="4447" y="96"/>
                  </a:cubicBezTo>
                  <a:cubicBezTo>
                    <a:pt x="4447" y="107"/>
                    <a:pt x="4444" y="117"/>
                    <a:pt x="4442" y="128"/>
                  </a:cubicBezTo>
                  <a:close/>
                  <a:moveTo>
                    <a:pt x="4482" y="112"/>
                  </a:moveTo>
                  <a:cubicBezTo>
                    <a:pt x="4482" y="110"/>
                    <a:pt x="4482" y="108"/>
                    <a:pt x="4481" y="105"/>
                  </a:cubicBezTo>
                  <a:cubicBezTo>
                    <a:pt x="4482" y="108"/>
                    <a:pt x="4481" y="112"/>
                    <a:pt x="4481" y="115"/>
                  </a:cubicBezTo>
                  <a:cubicBezTo>
                    <a:pt x="4476" y="131"/>
                    <a:pt x="4472" y="144"/>
                    <a:pt x="4472" y="144"/>
                  </a:cubicBezTo>
                  <a:cubicBezTo>
                    <a:pt x="4473" y="133"/>
                    <a:pt x="4477" y="110"/>
                    <a:pt x="4482" y="86"/>
                  </a:cubicBezTo>
                  <a:cubicBezTo>
                    <a:pt x="4484" y="90"/>
                    <a:pt x="4485" y="95"/>
                    <a:pt x="4486" y="99"/>
                  </a:cubicBezTo>
                  <a:cubicBezTo>
                    <a:pt x="4484" y="103"/>
                    <a:pt x="4483" y="108"/>
                    <a:pt x="4482" y="112"/>
                  </a:cubicBezTo>
                  <a:close/>
                  <a:moveTo>
                    <a:pt x="4494" y="133"/>
                  </a:moveTo>
                  <a:cubicBezTo>
                    <a:pt x="4494" y="133"/>
                    <a:pt x="4494" y="134"/>
                    <a:pt x="4494" y="134"/>
                  </a:cubicBezTo>
                  <a:cubicBezTo>
                    <a:pt x="4494" y="134"/>
                    <a:pt x="4494" y="134"/>
                    <a:pt x="4494" y="134"/>
                  </a:cubicBezTo>
                  <a:cubicBezTo>
                    <a:pt x="4494" y="134"/>
                    <a:pt x="4494" y="133"/>
                    <a:pt x="4494" y="133"/>
                  </a:cubicBezTo>
                  <a:cubicBezTo>
                    <a:pt x="4495" y="126"/>
                    <a:pt x="4496" y="117"/>
                    <a:pt x="4497" y="107"/>
                  </a:cubicBezTo>
                  <a:cubicBezTo>
                    <a:pt x="4497" y="110"/>
                    <a:pt x="4497" y="114"/>
                    <a:pt x="4497" y="117"/>
                  </a:cubicBezTo>
                  <a:cubicBezTo>
                    <a:pt x="4496" y="123"/>
                    <a:pt x="4495" y="129"/>
                    <a:pt x="4494" y="133"/>
                  </a:cubicBezTo>
                  <a:close/>
                  <a:moveTo>
                    <a:pt x="4499" y="159"/>
                  </a:move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lose/>
                  <a:moveTo>
                    <a:pt x="4540" y="143"/>
                  </a:moveTo>
                  <a:cubicBezTo>
                    <a:pt x="4540" y="142"/>
                    <a:pt x="4540" y="142"/>
                    <a:pt x="4540" y="141"/>
                  </a:cubicBezTo>
                  <a:cubicBezTo>
                    <a:pt x="4540" y="135"/>
                    <a:pt x="4541" y="127"/>
                    <a:pt x="4541" y="117"/>
                  </a:cubicBezTo>
                  <a:cubicBezTo>
                    <a:pt x="4542" y="121"/>
                    <a:pt x="4542" y="125"/>
                    <a:pt x="4542" y="129"/>
                  </a:cubicBezTo>
                  <a:cubicBezTo>
                    <a:pt x="4541" y="135"/>
                    <a:pt x="4541" y="139"/>
                    <a:pt x="4540" y="143"/>
                  </a:cubicBezTo>
                  <a:close/>
                  <a:moveTo>
                    <a:pt x="4544" y="117"/>
                  </a:moveTo>
                  <a:cubicBezTo>
                    <a:pt x="4543" y="115"/>
                    <a:pt x="4542" y="113"/>
                    <a:pt x="4542" y="111"/>
                  </a:cubicBezTo>
                  <a:cubicBezTo>
                    <a:pt x="4542" y="108"/>
                    <a:pt x="4542" y="104"/>
                    <a:pt x="4543" y="100"/>
                  </a:cubicBezTo>
                  <a:cubicBezTo>
                    <a:pt x="4544" y="103"/>
                    <a:pt x="4544" y="106"/>
                    <a:pt x="4545" y="108"/>
                  </a:cubicBezTo>
                  <a:cubicBezTo>
                    <a:pt x="4544" y="111"/>
                    <a:pt x="4544" y="114"/>
                    <a:pt x="4544" y="117"/>
                  </a:cubicBezTo>
                  <a:close/>
                  <a:moveTo>
                    <a:pt x="4552" y="133"/>
                  </a:moveTo>
                  <a:cubicBezTo>
                    <a:pt x="4552" y="133"/>
                    <a:pt x="4552" y="133"/>
                    <a:pt x="4552" y="133"/>
                  </a:cubicBezTo>
                  <a:cubicBezTo>
                    <a:pt x="4552" y="130"/>
                    <a:pt x="4553" y="127"/>
                    <a:pt x="4553" y="124"/>
                  </a:cubicBezTo>
                  <a:cubicBezTo>
                    <a:pt x="4553" y="125"/>
                    <a:pt x="4553" y="126"/>
                    <a:pt x="4553" y="128"/>
                  </a:cubicBezTo>
                  <a:cubicBezTo>
                    <a:pt x="4553" y="130"/>
                    <a:pt x="4552" y="131"/>
                    <a:pt x="4552" y="133"/>
                  </a:cubicBezTo>
                  <a:close/>
                  <a:moveTo>
                    <a:pt x="4589" y="142"/>
                  </a:moveTo>
                  <a:cubicBezTo>
                    <a:pt x="4589" y="139"/>
                    <a:pt x="4589" y="134"/>
                    <a:pt x="4589" y="128"/>
                  </a:cubicBezTo>
                  <a:cubicBezTo>
                    <a:pt x="4589" y="130"/>
                    <a:pt x="4589" y="132"/>
                    <a:pt x="4590" y="133"/>
                  </a:cubicBezTo>
                  <a:cubicBezTo>
                    <a:pt x="4589" y="139"/>
                    <a:pt x="4589" y="142"/>
                    <a:pt x="4589" y="142"/>
                  </a:cubicBezTo>
                  <a:close/>
                  <a:moveTo>
                    <a:pt x="4610" y="135"/>
                  </a:moveTo>
                  <a:cubicBezTo>
                    <a:pt x="4610" y="134"/>
                    <a:pt x="4610" y="134"/>
                    <a:pt x="4610" y="133"/>
                  </a:cubicBezTo>
                  <a:cubicBezTo>
                    <a:pt x="4610" y="121"/>
                    <a:pt x="4610" y="103"/>
                    <a:pt x="4609" y="88"/>
                  </a:cubicBezTo>
                  <a:cubicBezTo>
                    <a:pt x="4611" y="94"/>
                    <a:pt x="4613" y="100"/>
                    <a:pt x="4614" y="106"/>
                  </a:cubicBezTo>
                  <a:cubicBezTo>
                    <a:pt x="4612" y="118"/>
                    <a:pt x="4611" y="128"/>
                    <a:pt x="4610" y="135"/>
                  </a:cubicBezTo>
                  <a:close/>
                  <a:moveTo>
                    <a:pt x="4617" y="145"/>
                  </a:moveTo>
                  <a:cubicBezTo>
                    <a:pt x="4617" y="141"/>
                    <a:pt x="4617" y="136"/>
                    <a:pt x="4617" y="129"/>
                  </a:cubicBezTo>
                  <a:cubicBezTo>
                    <a:pt x="4618" y="133"/>
                    <a:pt x="4618" y="136"/>
                    <a:pt x="4619" y="139"/>
                  </a:cubicBezTo>
                  <a:cubicBezTo>
                    <a:pt x="4618" y="143"/>
                    <a:pt x="4617" y="145"/>
                    <a:pt x="4617" y="145"/>
                  </a:cubicBezTo>
                  <a:close/>
                  <a:moveTo>
                    <a:pt x="4622" y="159"/>
                  </a:moveTo>
                  <a:cubicBezTo>
                    <a:pt x="4623" y="159"/>
                    <a:pt x="4623" y="159"/>
                    <a:pt x="4623" y="159"/>
                  </a:cubicBezTo>
                  <a:cubicBezTo>
                    <a:pt x="4623" y="159"/>
                    <a:pt x="4623" y="158"/>
                    <a:pt x="4623" y="158"/>
                  </a:cubicBezTo>
                  <a:cubicBezTo>
                    <a:pt x="4623" y="159"/>
                    <a:pt x="4624" y="160"/>
                    <a:pt x="4624" y="160"/>
                  </a:cubicBezTo>
                  <a:cubicBezTo>
                    <a:pt x="4623" y="160"/>
                    <a:pt x="4623" y="159"/>
                    <a:pt x="4622" y="159"/>
                  </a:cubicBezTo>
                  <a:close/>
                  <a:moveTo>
                    <a:pt x="4624" y="121"/>
                  </a:moveTo>
                  <a:cubicBezTo>
                    <a:pt x="4622" y="117"/>
                    <a:pt x="4621" y="114"/>
                    <a:pt x="4619" y="110"/>
                  </a:cubicBezTo>
                  <a:cubicBezTo>
                    <a:pt x="4620" y="105"/>
                    <a:pt x="4620" y="99"/>
                    <a:pt x="4621" y="94"/>
                  </a:cubicBezTo>
                  <a:cubicBezTo>
                    <a:pt x="4621" y="100"/>
                    <a:pt x="4623" y="108"/>
                    <a:pt x="4625" y="116"/>
                  </a:cubicBezTo>
                  <a:cubicBezTo>
                    <a:pt x="4624" y="118"/>
                    <a:pt x="4624" y="119"/>
                    <a:pt x="4624" y="121"/>
                  </a:cubicBezTo>
                  <a:close/>
                  <a:moveTo>
                    <a:pt x="4632" y="142"/>
                  </a:moveTo>
                  <a:cubicBezTo>
                    <a:pt x="4631" y="138"/>
                    <a:pt x="4629" y="134"/>
                    <a:pt x="4627" y="129"/>
                  </a:cubicBezTo>
                  <a:cubicBezTo>
                    <a:pt x="4627" y="129"/>
                    <a:pt x="4627" y="128"/>
                    <a:pt x="4627" y="127"/>
                  </a:cubicBezTo>
                  <a:cubicBezTo>
                    <a:pt x="4629" y="132"/>
                    <a:pt x="4630" y="137"/>
                    <a:pt x="4632" y="142"/>
                  </a:cubicBezTo>
                  <a:cubicBezTo>
                    <a:pt x="4635" y="149"/>
                    <a:pt x="4636" y="153"/>
                    <a:pt x="4637" y="155"/>
                  </a:cubicBezTo>
                  <a:cubicBezTo>
                    <a:pt x="4635" y="151"/>
                    <a:pt x="4634" y="147"/>
                    <a:pt x="4632" y="142"/>
                  </a:cubicBezTo>
                  <a:close/>
                  <a:moveTo>
                    <a:pt x="4458" y="105"/>
                  </a:moveTo>
                  <a:cubicBezTo>
                    <a:pt x="4458" y="103"/>
                    <a:pt x="4458" y="101"/>
                    <a:pt x="4457" y="99"/>
                  </a:cubicBezTo>
                  <a:cubicBezTo>
                    <a:pt x="4457" y="101"/>
                    <a:pt x="4458" y="103"/>
                    <a:pt x="4458" y="105"/>
                  </a:cubicBezTo>
                  <a:close/>
                  <a:moveTo>
                    <a:pt x="4466" y="65"/>
                  </a:moveTo>
                  <a:cubicBezTo>
                    <a:pt x="4466" y="64"/>
                    <a:pt x="4466" y="63"/>
                    <a:pt x="4466" y="63"/>
                  </a:cubicBezTo>
                  <a:cubicBezTo>
                    <a:pt x="4466" y="63"/>
                    <a:pt x="4466" y="64"/>
                    <a:pt x="4466" y="65"/>
                  </a:cubicBezTo>
                  <a:close/>
                  <a:moveTo>
                    <a:pt x="4065" y="79"/>
                  </a:moveTo>
                  <a:cubicBezTo>
                    <a:pt x="4066" y="76"/>
                    <a:pt x="4067" y="73"/>
                    <a:pt x="4068" y="70"/>
                  </a:cubicBezTo>
                  <a:cubicBezTo>
                    <a:pt x="4067" y="73"/>
                    <a:pt x="4066" y="76"/>
                    <a:pt x="4065" y="79"/>
                  </a:cubicBezTo>
                  <a:close/>
                  <a:moveTo>
                    <a:pt x="3886" y="79"/>
                  </a:moveTo>
                  <a:cubicBezTo>
                    <a:pt x="3885" y="76"/>
                    <a:pt x="3884" y="73"/>
                    <a:pt x="3882" y="70"/>
                  </a:cubicBezTo>
                  <a:cubicBezTo>
                    <a:pt x="3884" y="73"/>
                    <a:pt x="3885" y="76"/>
                    <a:pt x="3886" y="79"/>
                  </a:cubicBezTo>
                  <a:close/>
                  <a:moveTo>
                    <a:pt x="2267" y="79"/>
                  </a:moveTo>
                  <a:cubicBezTo>
                    <a:pt x="2268" y="76"/>
                    <a:pt x="2269" y="73"/>
                    <a:pt x="2270" y="70"/>
                  </a:cubicBezTo>
                  <a:cubicBezTo>
                    <a:pt x="2269" y="73"/>
                    <a:pt x="2268" y="76"/>
                    <a:pt x="2267" y="79"/>
                  </a:cubicBezTo>
                  <a:close/>
                  <a:moveTo>
                    <a:pt x="3115" y="83"/>
                  </a:moveTo>
                  <a:cubicBezTo>
                    <a:pt x="3114" y="81"/>
                    <a:pt x="3113" y="79"/>
                    <a:pt x="3112" y="78"/>
                  </a:cubicBezTo>
                  <a:cubicBezTo>
                    <a:pt x="3113" y="79"/>
                    <a:pt x="3114" y="81"/>
                    <a:pt x="3115" y="83"/>
                  </a:cubicBezTo>
                  <a:close/>
                  <a:moveTo>
                    <a:pt x="290" y="79"/>
                  </a:moveTo>
                  <a:cubicBezTo>
                    <a:pt x="289" y="76"/>
                    <a:pt x="288" y="73"/>
                    <a:pt x="287" y="70"/>
                  </a:cubicBezTo>
                  <a:cubicBezTo>
                    <a:pt x="288" y="73"/>
                    <a:pt x="289" y="76"/>
                    <a:pt x="290" y="79"/>
                  </a:cubicBezTo>
                  <a:close/>
                  <a:moveTo>
                    <a:pt x="469" y="79"/>
                  </a:moveTo>
                  <a:cubicBezTo>
                    <a:pt x="470" y="76"/>
                    <a:pt x="471" y="73"/>
                    <a:pt x="472" y="70"/>
                  </a:cubicBezTo>
                  <a:cubicBezTo>
                    <a:pt x="471" y="73"/>
                    <a:pt x="470" y="76"/>
                    <a:pt x="469" y="79"/>
                  </a:cubicBezTo>
                  <a:close/>
                  <a:moveTo>
                    <a:pt x="1317" y="83"/>
                  </a:moveTo>
                  <a:cubicBezTo>
                    <a:pt x="1316" y="81"/>
                    <a:pt x="1315" y="79"/>
                    <a:pt x="1314" y="78"/>
                  </a:cubicBezTo>
                  <a:cubicBezTo>
                    <a:pt x="1315" y="79"/>
                    <a:pt x="1316" y="81"/>
                    <a:pt x="1317" y="83"/>
                  </a:cubicBezTo>
                  <a:close/>
                  <a:moveTo>
                    <a:pt x="3042" y="83"/>
                  </a:moveTo>
                  <a:cubicBezTo>
                    <a:pt x="3040" y="80"/>
                    <a:pt x="3039" y="77"/>
                    <a:pt x="3038" y="75"/>
                  </a:cubicBezTo>
                  <a:cubicBezTo>
                    <a:pt x="3039" y="78"/>
                    <a:pt x="3040" y="80"/>
                    <a:pt x="3042" y="83"/>
                  </a:cubicBezTo>
                  <a:close/>
                  <a:moveTo>
                    <a:pt x="2683" y="105"/>
                  </a:moveTo>
                  <a:cubicBezTo>
                    <a:pt x="2683" y="103"/>
                    <a:pt x="2683" y="101"/>
                    <a:pt x="2683" y="99"/>
                  </a:cubicBezTo>
                  <a:cubicBezTo>
                    <a:pt x="2683" y="101"/>
                    <a:pt x="2683" y="103"/>
                    <a:pt x="2683" y="105"/>
                  </a:cubicBezTo>
                  <a:close/>
                  <a:moveTo>
                    <a:pt x="2088" y="79"/>
                  </a:moveTo>
                  <a:cubicBezTo>
                    <a:pt x="2087" y="76"/>
                    <a:pt x="2086" y="73"/>
                    <a:pt x="2084" y="70"/>
                  </a:cubicBezTo>
                  <a:cubicBezTo>
                    <a:pt x="2086" y="73"/>
                    <a:pt x="2087" y="76"/>
                    <a:pt x="2088" y="79"/>
                  </a:cubicBezTo>
                  <a:close/>
                  <a:moveTo>
                    <a:pt x="4481" y="105"/>
                  </a:moveTo>
                  <a:cubicBezTo>
                    <a:pt x="4481" y="103"/>
                    <a:pt x="4481" y="101"/>
                    <a:pt x="4481" y="99"/>
                  </a:cubicBezTo>
                  <a:cubicBezTo>
                    <a:pt x="4481" y="101"/>
                    <a:pt x="4481" y="103"/>
                    <a:pt x="4481" y="105"/>
                  </a:cubicBezTo>
                  <a:close/>
                  <a:moveTo>
                    <a:pt x="1244" y="83"/>
                  </a:moveTo>
                  <a:cubicBezTo>
                    <a:pt x="1242" y="80"/>
                    <a:pt x="1241" y="77"/>
                    <a:pt x="1240" y="75"/>
                  </a:cubicBezTo>
                  <a:cubicBezTo>
                    <a:pt x="1241" y="78"/>
                    <a:pt x="1242" y="80"/>
                    <a:pt x="1244" y="83"/>
                  </a:cubicBezTo>
                  <a:close/>
                  <a:moveTo>
                    <a:pt x="3941" y="33"/>
                  </a:moveTo>
                  <a:cubicBezTo>
                    <a:pt x="3941" y="30"/>
                    <a:pt x="3941" y="28"/>
                    <a:pt x="3940" y="25"/>
                  </a:cubicBezTo>
                  <a:cubicBezTo>
                    <a:pt x="3940" y="25"/>
                    <a:pt x="3941" y="28"/>
                    <a:pt x="3941" y="33"/>
                  </a:cubicBezTo>
                  <a:close/>
                  <a:moveTo>
                    <a:pt x="3210" y="88"/>
                  </a:moveTo>
                  <a:cubicBezTo>
                    <a:pt x="3209" y="86"/>
                    <a:pt x="3208" y="83"/>
                    <a:pt x="3206" y="81"/>
                  </a:cubicBezTo>
                  <a:cubicBezTo>
                    <a:pt x="3207" y="83"/>
                    <a:pt x="3209" y="86"/>
                    <a:pt x="3210" y="88"/>
                  </a:cubicBezTo>
                  <a:close/>
                  <a:moveTo>
                    <a:pt x="3068" y="81"/>
                  </a:moveTo>
                  <a:cubicBezTo>
                    <a:pt x="3062" y="61"/>
                    <a:pt x="3051" y="46"/>
                    <a:pt x="3035" y="25"/>
                  </a:cubicBezTo>
                  <a:cubicBezTo>
                    <a:pt x="3051" y="48"/>
                    <a:pt x="3061" y="64"/>
                    <a:pt x="3068" y="81"/>
                  </a:cubicBezTo>
                  <a:close/>
                  <a:moveTo>
                    <a:pt x="3078" y="79"/>
                  </a:moveTo>
                  <a:cubicBezTo>
                    <a:pt x="3077" y="76"/>
                    <a:pt x="3076" y="73"/>
                    <a:pt x="3074" y="70"/>
                  </a:cubicBezTo>
                  <a:cubicBezTo>
                    <a:pt x="3075" y="73"/>
                    <a:pt x="3077" y="76"/>
                    <a:pt x="3078" y="79"/>
                  </a:cubicBezTo>
                  <a:close/>
                  <a:moveTo>
                    <a:pt x="3317" y="102"/>
                  </a:moveTo>
                  <a:cubicBezTo>
                    <a:pt x="3316" y="100"/>
                    <a:pt x="3315" y="97"/>
                    <a:pt x="3314" y="96"/>
                  </a:cubicBezTo>
                  <a:cubicBezTo>
                    <a:pt x="3315" y="98"/>
                    <a:pt x="3316" y="100"/>
                    <a:pt x="3317" y="102"/>
                  </a:cubicBezTo>
                  <a:close/>
                  <a:moveTo>
                    <a:pt x="3531" y="109"/>
                  </a:moveTo>
                  <a:cubicBezTo>
                    <a:pt x="3530" y="104"/>
                    <a:pt x="3530" y="99"/>
                    <a:pt x="3529" y="95"/>
                  </a:cubicBezTo>
                  <a:cubicBezTo>
                    <a:pt x="3529" y="99"/>
                    <a:pt x="3530" y="104"/>
                    <a:pt x="3531" y="109"/>
                  </a:cubicBezTo>
                  <a:close/>
                  <a:moveTo>
                    <a:pt x="3370" y="100"/>
                  </a:moveTo>
                  <a:cubicBezTo>
                    <a:pt x="3370" y="97"/>
                    <a:pt x="3369" y="95"/>
                    <a:pt x="3368" y="93"/>
                  </a:cubicBezTo>
                  <a:cubicBezTo>
                    <a:pt x="3369" y="96"/>
                    <a:pt x="3370" y="98"/>
                    <a:pt x="3370" y="100"/>
                  </a:cubicBezTo>
                  <a:close/>
                  <a:moveTo>
                    <a:pt x="3610" y="81"/>
                  </a:moveTo>
                  <a:cubicBezTo>
                    <a:pt x="3608" y="75"/>
                    <a:pt x="3606" y="70"/>
                    <a:pt x="3604" y="67"/>
                  </a:cubicBezTo>
                  <a:cubicBezTo>
                    <a:pt x="3604" y="67"/>
                    <a:pt x="3607" y="72"/>
                    <a:pt x="3610" y="81"/>
                  </a:cubicBezTo>
                  <a:close/>
                  <a:moveTo>
                    <a:pt x="2720" y="54"/>
                  </a:moveTo>
                  <a:cubicBezTo>
                    <a:pt x="2720" y="53"/>
                    <a:pt x="2719" y="52"/>
                    <a:pt x="2719" y="52"/>
                  </a:cubicBezTo>
                  <a:cubicBezTo>
                    <a:pt x="2720" y="53"/>
                    <a:pt x="2720" y="53"/>
                    <a:pt x="2720" y="54"/>
                  </a:cubicBezTo>
                  <a:close/>
                  <a:moveTo>
                    <a:pt x="2715" y="90"/>
                  </a:moveTo>
                  <a:cubicBezTo>
                    <a:pt x="2715" y="89"/>
                    <a:pt x="2714" y="87"/>
                    <a:pt x="2713" y="86"/>
                  </a:cubicBezTo>
                  <a:cubicBezTo>
                    <a:pt x="2714" y="87"/>
                    <a:pt x="2715" y="89"/>
                    <a:pt x="2715" y="90"/>
                  </a:cubicBezTo>
                  <a:close/>
                  <a:moveTo>
                    <a:pt x="2835" y="54"/>
                  </a:moveTo>
                  <a:cubicBezTo>
                    <a:pt x="2835" y="54"/>
                    <a:pt x="2835" y="65"/>
                    <a:pt x="2834" y="84"/>
                  </a:cubicBezTo>
                  <a:cubicBezTo>
                    <a:pt x="2836" y="72"/>
                    <a:pt x="2837" y="60"/>
                    <a:pt x="2835" y="54"/>
                  </a:cubicBezTo>
                  <a:close/>
                  <a:moveTo>
                    <a:pt x="2890" y="106"/>
                  </a:moveTo>
                  <a:cubicBezTo>
                    <a:pt x="2890" y="103"/>
                    <a:pt x="2889" y="100"/>
                    <a:pt x="2889" y="96"/>
                  </a:cubicBezTo>
                  <a:cubicBezTo>
                    <a:pt x="2889" y="99"/>
                    <a:pt x="2890" y="103"/>
                    <a:pt x="2890" y="106"/>
                  </a:cubicBezTo>
                  <a:close/>
                  <a:moveTo>
                    <a:pt x="2795" y="47"/>
                  </a:moveTo>
                  <a:cubicBezTo>
                    <a:pt x="2795" y="39"/>
                    <a:pt x="2795" y="33"/>
                    <a:pt x="2793" y="30"/>
                  </a:cubicBezTo>
                  <a:cubicBezTo>
                    <a:pt x="2793" y="30"/>
                    <a:pt x="2794" y="37"/>
                    <a:pt x="2795" y="47"/>
                  </a:cubicBezTo>
                  <a:close/>
                  <a:moveTo>
                    <a:pt x="3995" y="44"/>
                  </a:moveTo>
                  <a:cubicBezTo>
                    <a:pt x="3995" y="43"/>
                    <a:pt x="3995" y="41"/>
                    <a:pt x="3995" y="40"/>
                  </a:cubicBezTo>
                  <a:cubicBezTo>
                    <a:pt x="3995" y="40"/>
                    <a:pt x="3995" y="42"/>
                    <a:pt x="3995" y="44"/>
                  </a:cubicBezTo>
                  <a:close/>
                  <a:moveTo>
                    <a:pt x="4211" y="68"/>
                  </a:moveTo>
                  <a:cubicBezTo>
                    <a:pt x="4211" y="65"/>
                    <a:pt x="4210" y="64"/>
                    <a:pt x="4210" y="64"/>
                  </a:cubicBezTo>
                  <a:cubicBezTo>
                    <a:pt x="4210" y="64"/>
                    <a:pt x="4211" y="66"/>
                    <a:pt x="4211" y="68"/>
                  </a:cubicBezTo>
                  <a:close/>
                  <a:moveTo>
                    <a:pt x="3956" y="52"/>
                  </a:moveTo>
                  <a:cubicBezTo>
                    <a:pt x="3956" y="50"/>
                    <a:pt x="3956" y="49"/>
                    <a:pt x="3956" y="49"/>
                  </a:cubicBezTo>
                  <a:cubicBezTo>
                    <a:pt x="3956" y="50"/>
                    <a:pt x="3956" y="51"/>
                    <a:pt x="3956" y="52"/>
                  </a:cubicBezTo>
                  <a:close/>
                  <a:moveTo>
                    <a:pt x="2672" y="52"/>
                  </a:moveTo>
                  <a:cubicBezTo>
                    <a:pt x="2672" y="50"/>
                    <a:pt x="2672" y="49"/>
                    <a:pt x="2672" y="49"/>
                  </a:cubicBezTo>
                  <a:cubicBezTo>
                    <a:pt x="2672" y="50"/>
                    <a:pt x="2672" y="51"/>
                    <a:pt x="2672" y="52"/>
                  </a:cubicBezTo>
                  <a:close/>
                  <a:moveTo>
                    <a:pt x="4169" y="66"/>
                  </a:moveTo>
                  <a:cubicBezTo>
                    <a:pt x="4169" y="63"/>
                    <a:pt x="4169" y="61"/>
                    <a:pt x="4170" y="59"/>
                  </a:cubicBezTo>
                  <a:cubicBezTo>
                    <a:pt x="4170" y="59"/>
                    <a:pt x="4169" y="62"/>
                    <a:pt x="4169" y="66"/>
                  </a:cubicBezTo>
                  <a:close/>
                  <a:moveTo>
                    <a:pt x="4178" y="100"/>
                  </a:moveTo>
                  <a:cubicBezTo>
                    <a:pt x="4178" y="97"/>
                    <a:pt x="4177" y="95"/>
                    <a:pt x="4177" y="93"/>
                  </a:cubicBezTo>
                  <a:cubicBezTo>
                    <a:pt x="4177" y="96"/>
                    <a:pt x="4178" y="98"/>
                    <a:pt x="4178" y="100"/>
                  </a:cubicBezTo>
                  <a:close/>
                  <a:moveTo>
                    <a:pt x="3772" y="100"/>
                  </a:moveTo>
                  <a:cubicBezTo>
                    <a:pt x="3773" y="98"/>
                    <a:pt x="3773" y="96"/>
                    <a:pt x="3774" y="93"/>
                  </a:cubicBezTo>
                  <a:cubicBezTo>
                    <a:pt x="3773" y="95"/>
                    <a:pt x="3773" y="97"/>
                    <a:pt x="3772" y="100"/>
                  </a:cubicBezTo>
                  <a:close/>
                  <a:moveTo>
                    <a:pt x="3923" y="83"/>
                  </a:moveTo>
                  <a:cubicBezTo>
                    <a:pt x="3922" y="81"/>
                    <a:pt x="3921" y="79"/>
                    <a:pt x="3920" y="78"/>
                  </a:cubicBezTo>
                  <a:cubicBezTo>
                    <a:pt x="3921" y="79"/>
                    <a:pt x="3922" y="81"/>
                    <a:pt x="3923" y="83"/>
                  </a:cubicBezTo>
                  <a:close/>
                  <a:moveTo>
                    <a:pt x="3726" y="68"/>
                  </a:moveTo>
                  <a:cubicBezTo>
                    <a:pt x="3726" y="66"/>
                    <a:pt x="3726" y="65"/>
                    <a:pt x="3726" y="64"/>
                  </a:cubicBezTo>
                  <a:cubicBezTo>
                    <a:pt x="3726" y="64"/>
                    <a:pt x="3726" y="65"/>
                    <a:pt x="3726" y="68"/>
                  </a:cubicBezTo>
                  <a:close/>
                  <a:moveTo>
                    <a:pt x="3705" y="90"/>
                  </a:moveTo>
                  <a:cubicBezTo>
                    <a:pt x="3705" y="89"/>
                    <a:pt x="3704" y="87"/>
                    <a:pt x="3703" y="86"/>
                  </a:cubicBezTo>
                  <a:cubicBezTo>
                    <a:pt x="3704" y="87"/>
                    <a:pt x="3704" y="89"/>
                    <a:pt x="3705" y="90"/>
                  </a:cubicBezTo>
                  <a:close/>
                  <a:moveTo>
                    <a:pt x="3648" y="13"/>
                  </a:moveTo>
                  <a:cubicBezTo>
                    <a:pt x="3648" y="12"/>
                    <a:pt x="3648" y="12"/>
                    <a:pt x="3648" y="12"/>
                  </a:cubicBezTo>
                  <a:cubicBezTo>
                    <a:pt x="3648" y="12"/>
                    <a:pt x="3648" y="13"/>
                    <a:pt x="3648" y="13"/>
                  </a:cubicBezTo>
                  <a:close/>
                  <a:moveTo>
                    <a:pt x="3770" y="61"/>
                  </a:moveTo>
                  <a:cubicBezTo>
                    <a:pt x="3770" y="55"/>
                    <a:pt x="3769" y="49"/>
                    <a:pt x="3768" y="44"/>
                  </a:cubicBezTo>
                  <a:cubicBezTo>
                    <a:pt x="3768" y="44"/>
                    <a:pt x="3769" y="51"/>
                    <a:pt x="3770" y="61"/>
                  </a:cubicBezTo>
                  <a:close/>
                </a:path>
              </a:pathLst>
            </a:custGeom>
            <a:gradFill rotWithShape="0">
              <a:gsLst>
                <a:gs pos="0">
                  <a:srgbClr val="01210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Freeform 29"/>
            <p:cNvSpPr/>
            <p:nvPr/>
          </p:nvSpPr>
          <p:spPr>
            <a:xfrm flipV="1">
              <a:off x="14798520" y="3010320"/>
              <a:ext cx="15131880" cy="528120"/>
            </a:xfrm>
            <a:custGeom>
              <a:avLst/>
              <a:gdLst/>
              <a:ahLst/>
              <a:rect l="l" t="t" r="r" b="b"/>
              <a:pathLst>
                <a:path w="4763" h="166">
                  <a:moveTo>
                    <a:pt x="1928" y="68"/>
                  </a:moveTo>
                  <a:cubicBezTo>
                    <a:pt x="1928" y="66"/>
                    <a:pt x="1928" y="65"/>
                    <a:pt x="1928" y="64"/>
                  </a:cubicBezTo>
                  <a:cubicBezTo>
                    <a:pt x="1928" y="65"/>
                    <a:pt x="1928" y="66"/>
                    <a:pt x="1928" y="68"/>
                  </a:cubicBezTo>
                  <a:close/>
                  <a:moveTo>
                    <a:pt x="1972" y="61"/>
                  </a:moveTo>
                  <a:cubicBezTo>
                    <a:pt x="1972" y="55"/>
                    <a:pt x="1971" y="49"/>
                    <a:pt x="1970" y="44"/>
                  </a:cubicBezTo>
                  <a:cubicBezTo>
                    <a:pt x="1970" y="44"/>
                    <a:pt x="1971" y="51"/>
                    <a:pt x="1972" y="61"/>
                  </a:cubicBezTo>
                  <a:close/>
                  <a:moveTo>
                    <a:pt x="1907" y="90"/>
                  </a:moveTo>
                  <a:cubicBezTo>
                    <a:pt x="1907" y="89"/>
                    <a:pt x="1906" y="87"/>
                    <a:pt x="1905" y="86"/>
                  </a:cubicBezTo>
                  <a:cubicBezTo>
                    <a:pt x="1906" y="87"/>
                    <a:pt x="1906" y="89"/>
                    <a:pt x="1907" y="90"/>
                  </a:cubicBezTo>
                  <a:close/>
                  <a:moveTo>
                    <a:pt x="1733" y="109"/>
                  </a:moveTo>
                  <a:cubicBezTo>
                    <a:pt x="1732" y="104"/>
                    <a:pt x="1732" y="99"/>
                    <a:pt x="1731" y="95"/>
                  </a:cubicBezTo>
                  <a:cubicBezTo>
                    <a:pt x="1731" y="99"/>
                    <a:pt x="1732" y="104"/>
                    <a:pt x="1733" y="109"/>
                  </a:cubicBezTo>
                  <a:close/>
                  <a:moveTo>
                    <a:pt x="1412" y="88"/>
                  </a:moveTo>
                  <a:cubicBezTo>
                    <a:pt x="1411" y="86"/>
                    <a:pt x="1410" y="83"/>
                    <a:pt x="1408" y="81"/>
                  </a:cubicBezTo>
                  <a:cubicBezTo>
                    <a:pt x="1409" y="83"/>
                    <a:pt x="1411" y="86"/>
                    <a:pt x="1412" y="88"/>
                  </a:cubicBezTo>
                  <a:close/>
                  <a:moveTo>
                    <a:pt x="1519" y="102"/>
                  </a:moveTo>
                  <a:cubicBezTo>
                    <a:pt x="1518" y="100"/>
                    <a:pt x="1517" y="97"/>
                    <a:pt x="1516" y="96"/>
                  </a:cubicBezTo>
                  <a:cubicBezTo>
                    <a:pt x="1517" y="98"/>
                    <a:pt x="1518" y="100"/>
                    <a:pt x="1519" y="102"/>
                  </a:cubicBezTo>
                  <a:close/>
                  <a:moveTo>
                    <a:pt x="1280" y="79"/>
                  </a:moveTo>
                  <a:cubicBezTo>
                    <a:pt x="1279" y="76"/>
                    <a:pt x="1278" y="73"/>
                    <a:pt x="1276" y="70"/>
                  </a:cubicBezTo>
                  <a:cubicBezTo>
                    <a:pt x="1278" y="73"/>
                    <a:pt x="1279" y="76"/>
                    <a:pt x="1280" y="79"/>
                  </a:cubicBezTo>
                  <a:close/>
                  <a:moveTo>
                    <a:pt x="1270" y="81"/>
                  </a:moveTo>
                  <a:cubicBezTo>
                    <a:pt x="1264" y="61"/>
                    <a:pt x="1253" y="46"/>
                    <a:pt x="1237" y="25"/>
                  </a:cubicBezTo>
                  <a:cubicBezTo>
                    <a:pt x="1253" y="48"/>
                    <a:pt x="1263" y="64"/>
                    <a:pt x="1270" y="81"/>
                  </a:cubicBezTo>
                  <a:close/>
                  <a:moveTo>
                    <a:pt x="1572" y="100"/>
                  </a:moveTo>
                  <a:cubicBezTo>
                    <a:pt x="1572" y="97"/>
                    <a:pt x="1571" y="95"/>
                    <a:pt x="1570" y="93"/>
                  </a:cubicBezTo>
                  <a:cubicBezTo>
                    <a:pt x="1571" y="96"/>
                    <a:pt x="1572" y="98"/>
                    <a:pt x="1572" y="100"/>
                  </a:cubicBezTo>
                  <a:close/>
                  <a:moveTo>
                    <a:pt x="1812" y="81"/>
                  </a:moveTo>
                  <a:cubicBezTo>
                    <a:pt x="1810" y="75"/>
                    <a:pt x="1808" y="70"/>
                    <a:pt x="1806" y="67"/>
                  </a:cubicBezTo>
                  <a:cubicBezTo>
                    <a:pt x="1806" y="67"/>
                    <a:pt x="1809" y="72"/>
                    <a:pt x="1812" y="81"/>
                  </a:cubicBezTo>
                  <a:close/>
                  <a:moveTo>
                    <a:pt x="1850" y="13"/>
                  </a:moveTo>
                  <a:cubicBezTo>
                    <a:pt x="1850" y="12"/>
                    <a:pt x="1850" y="12"/>
                    <a:pt x="1850" y="12"/>
                  </a:cubicBezTo>
                  <a:cubicBezTo>
                    <a:pt x="1850" y="12"/>
                    <a:pt x="1850" y="13"/>
                    <a:pt x="1850" y="13"/>
                  </a:cubicBezTo>
                  <a:close/>
                  <a:moveTo>
                    <a:pt x="1974" y="100"/>
                  </a:moveTo>
                  <a:cubicBezTo>
                    <a:pt x="1975" y="98"/>
                    <a:pt x="1975" y="96"/>
                    <a:pt x="1976" y="93"/>
                  </a:cubicBezTo>
                  <a:cubicBezTo>
                    <a:pt x="1975" y="95"/>
                    <a:pt x="1975" y="97"/>
                    <a:pt x="1974" y="100"/>
                  </a:cubicBezTo>
                  <a:close/>
                  <a:moveTo>
                    <a:pt x="2660" y="105"/>
                  </a:moveTo>
                  <a:cubicBezTo>
                    <a:pt x="2660" y="103"/>
                    <a:pt x="2660" y="101"/>
                    <a:pt x="2659" y="99"/>
                  </a:cubicBezTo>
                  <a:cubicBezTo>
                    <a:pt x="2659" y="101"/>
                    <a:pt x="2660" y="103"/>
                    <a:pt x="2660" y="105"/>
                  </a:cubicBezTo>
                  <a:close/>
                  <a:moveTo>
                    <a:pt x="2371" y="66"/>
                  </a:moveTo>
                  <a:cubicBezTo>
                    <a:pt x="2371" y="63"/>
                    <a:pt x="2371" y="61"/>
                    <a:pt x="2372" y="59"/>
                  </a:cubicBezTo>
                  <a:cubicBezTo>
                    <a:pt x="2372" y="59"/>
                    <a:pt x="2371" y="62"/>
                    <a:pt x="2371" y="66"/>
                  </a:cubicBezTo>
                  <a:close/>
                  <a:moveTo>
                    <a:pt x="2380" y="100"/>
                  </a:moveTo>
                  <a:cubicBezTo>
                    <a:pt x="2380" y="97"/>
                    <a:pt x="2379" y="95"/>
                    <a:pt x="2379" y="93"/>
                  </a:cubicBezTo>
                  <a:cubicBezTo>
                    <a:pt x="2379" y="96"/>
                    <a:pt x="2380" y="98"/>
                    <a:pt x="2380" y="100"/>
                  </a:cubicBezTo>
                  <a:close/>
                  <a:moveTo>
                    <a:pt x="2413" y="68"/>
                  </a:moveTo>
                  <a:cubicBezTo>
                    <a:pt x="2413" y="65"/>
                    <a:pt x="2412" y="64"/>
                    <a:pt x="2412" y="64"/>
                  </a:cubicBezTo>
                  <a:cubicBezTo>
                    <a:pt x="2412" y="64"/>
                    <a:pt x="2413" y="66"/>
                    <a:pt x="2413" y="68"/>
                  </a:cubicBezTo>
                  <a:close/>
                  <a:moveTo>
                    <a:pt x="2486" y="61"/>
                  </a:moveTo>
                  <a:cubicBezTo>
                    <a:pt x="2486" y="55"/>
                    <a:pt x="2485" y="49"/>
                    <a:pt x="2484" y="44"/>
                  </a:cubicBezTo>
                  <a:cubicBezTo>
                    <a:pt x="2484" y="44"/>
                    <a:pt x="2485" y="51"/>
                    <a:pt x="2486" y="61"/>
                  </a:cubicBezTo>
                  <a:close/>
                  <a:moveTo>
                    <a:pt x="2562" y="68"/>
                  </a:moveTo>
                  <a:cubicBezTo>
                    <a:pt x="2562" y="68"/>
                    <a:pt x="2562" y="71"/>
                    <a:pt x="2562" y="75"/>
                  </a:cubicBezTo>
                  <a:cubicBezTo>
                    <a:pt x="2562" y="72"/>
                    <a:pt x="2562" y="70"/>
                    <a:pt x="2562" y="68"/>
                  </a:cubicBezTo>
                  <a:close/>
                  <a:moveTo>
                    <a:pt x="2197" y="44"/>
                  </a:moveTo>
                  <a:cubicBezTo>
                    <a:pt x="2197" y="43"/>
                    <a:pt x="2197" y="41"/>
                    <a:pt x="2197" y="40"/>
                  </a:cubicBezTo>
                  <a:cubicBezTo>
                    <a:pt x="2197" y="40"/>
                    <a:pt x="2197" y="42"/>
                    <a:pt x="2197" y="44"/>
                  </a:cubicBezTo>
                  <a:close/>
                  <a:moveTo>
                    <a:pt x="2125" y="83"/>
                  </a:moveTo>
                  <a:cubicBezTo>
                    <a:pt x="2124" y="81"/>
                    <a:pt x="2123" y="79"/>
                    <a:pt x="2122" y="78"/>
                  </a:cubicBezTo>
                  <a:cubicBezTo>
                    <a:pt x="2123" y="79"/>
                    <a:pt x="2124" y="81"/>
                    <a:pt x="2125" y="83"/>
                  </a:cubicBezTo>
                  <a:close/>
                  <a:moveTo>
                    <a:pt x="2569" y="62"/>
                  </a:moveTo>
                  <a:cubicBezTo>
                    <a:pt x="2569" y="61"/>
                    <a:pt x="2569" y="60"/>
                    <a:pt x="2569" y="60"/>
                  </a:cubicBezTo>
                  <a:cubicBezTo>
                    <a:pt x="2569" y="60"/>
                    <a:pt x="2569" y="61"/>
                    <a:pt x="2569" y="62"/>
                  </a:cubicBezTo>
                  <a:close/>
                  <a:moveTo>
                    <a:pt x="2158" y="52"/>
                  </a:moveTo>
                  <a:cubicBezTo>
                    <a:pt x="2158" y="50"/>
                    <a:pt x="2158" y="49"/>
                    <a:pt x="2158" y="49"/>
                  </a:cubicBezTo>
                  <a:cubicBezTo>
                    <a:pt x="2158" y="50"/>
                    <a:pt x="2158" y="51"/>
                    <a:pt x="2158" y="52"/>
                  </a:cubicBezTo>
                  <a:close/>
                  <a:moveTo>
                    <a:pt x="2143" y="33"/>
                  </a:moveTo>
                  <a:cubicBezTo>
                    <a:pt x="2143" y="30"/>
                    <a:pt x="2143" y="28"/>
                    <a:pt x="2142" y="25"/>
                  </a:cubicBezTo>
                  <a:cubicBezTo>
                    <a:pt x="2142" y="25"/>
                    <a:pt x="2143" y="28"/>
                    <a:pt x="2143" y="33"/>
                  </a:cubicBezTo>
                  <a:close/>
                  <a:moveTo>
                    <a:pt x="2441" y="67"/>
                  </a:moveTo>
                  <a:cubicBezTo>
                    <a:pt x="2442" y="66"/>
                    <a:pt x="2442" y="65"/>
                    <a:pt x="2441" y="64"/>
                  </a:cubicBezTo>
                  <a:cubicBezTo>
                    <a:pt x="2441" y="64"/>
                    <a:pt x="2441" y="65"/>
                    <a:pt x="2441" y="67"/>
                  </a:cubicBezTo>
                  <a:close/>
                  <a:moveTo>
                    <a:pt x="130" y="68"/>
                  </a:moveTo>
                  <a:cubicBezTo>
                    <a:pt x="130" y="66"/>
                    <a:pt x="130" y="65"/>
                    <a:pt x="130" y="64"/>
                  </a:cubicBezTo>
                  <a:cubicBezTo>
                    <a:pt x="130" y="64"/>
                    <a:pt x="130" y="65"/>
                    <a:pt x="130" y="68"/>
                  </a:cubicBezTo>
                  <a:close/>
                  <a:moveTo>
                    <a:pt x="360" y="52"/>
                  </a:moveTo>
                  <a:cubicBezTo>
                    <a:pt x="360" y="50"/>
                    <a:pt x="360" y="49"/>
                    <a:pt x="360" y="49"/>
                  </a:cubicBezTo>
                  <a:cubicBezTo>
                    <a:pt x="360" y="50"/>
                    <a:pt x="360" y="51"/>
                    <a:pt x="360" y="52"/>
                  </a:cubicBezTo>
                  <a:close/>
                  <a:moveTo>
                    <a:pt x="345" y="33"/>
                  </a:moveTo>
                  <a:cubicBezTo>
                    <a:pt x="345" y="30"/>
                    <a:pt x="345" y="28"/>
                    <a:pt x="344" y="25"/>
                  </a:cubicBezTo>
                  <a:cubicBezTo>
                    <a:pt x="344" y="25"/>
                    <a:pt x="345" y="28"/>
                    <a:pt x="345" y="33"/>
                  </a:cubicBezTo>
                  <a:close/>
                  <a:moveTo>
                    <a:pt x="327" y="83"/>
                  </a:moveTo>
                  <a:cubicBezTo>
                    <a:pt x="326" y="81"/>
                    <a:pt x="325" y="79"/>
                    <a:pt x="324" y="78"/>
                  </a:cubicBezTo>
                  <a:cubicBezTo>
                    <a:pt x="325" y="79"/>
                    <a:pt x="326" y="81"/>
                    <a:pt x="327" y="83"/>
                  </a:cubicBezTo>
                  <a:close/>
                  <a:moveTo>
                    <a:pt x="399" y="44"/>
                  </a:moveTo>
                  <a:cubicBezTo>
                    <a:pt x="399" y="43"/>
                    <a:pt x="399" y="41"/>
                    <a:pt x="399" y="40"/>
                  </a:cubicBezTo>
                  <a:cubicBezTo>
                    <a:pt x="399" y="40"/>
                    <a:pt x="399" y="42"/>
                    <a:pt x="399" y="44"/>
                  </a:cubicBezTo>
                  <a:close/>
                  <a:moveTo>
                    <a:pt x="176" y="100"/>
                  </a:moveTo>
                  <a:cubicBezTo>
                    <a:pt x="177" y="98"/>
                    <a:pt x="177" y="96"/>
                    <a:pt x="178" y="93"/>
                  </a:cubicBezTo>
                  <a:cubicBezTo>
                    <a:pt x="177" y="95"/>
                    <a:pt x="177" y="97"/>
                    <a:pt x="176" y="100"/>
                  </a:cubicBezTo>
                  <a:close/>
                  <a:moveTo>
                    <a:pt x="573" y="66"/>
                  </a:moveTo>
                  <a:cubicBezTo>
                    <a:pt x="573" y="63"/>
                    <a:pt x="574" y="61"/>
                    <a:pt x="574" y="59"/>
                  </a:cubicBezTo>
                  <a:cubicBezTo>
                    <a:pt x="574" y="59"/>
                    <a:pt x="573" y="62"/>
                    <a:pt x="573" y="66"/>
                  </a:cubicBezTo>
                  <a:close/>
                  <a:moveTo>
                    <a:pt x="14" y="81"/>
                  </a:moveTo>
                  <a:cubicBezTo>
                    <a:pt x="12" y="75"/>
                    <a:pt x="10" y="70"/>
                    <a:pt x="9" y="67"/>
                  </a:cubicBezTo>
                  <a:cubicBezTo>
                    <a:pt x="9" y="67"/>
                    <a:pt x="11" y="72"/>
                    <a:pt x="14" y="81"/>
                  </a:cubicBezTo>
                  <a:close/>
                  <a:moveTo>
                    <a:pt x="52" y="13"/>
                  </a:move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3"/>
                    <a:pt x="52" y="13"/>
                  </a:cubicBezTo>
                  <a:close/>
                  <a:moveTo>
                    <a:pt x="583" y="100"/>
                  </a:moveTo>
                  <a:cubicBezTo>
                    <a:pt x="582" y="97"/>
                    <a:pt x="582" y="95"/>
                    <a:pt x="581" y="93"/>
                  </a:cubicBezTo>
                  <a:cubicBezTo>
                    <a:pt x="581" y="96"/>
                    <a:pt x="582" y="98"/>
                    <a:pt x="583" y="100"/>
                  </a:cubicBezTo>
                  <a:close/>
                  <a:moveTo>
                    <a:pt x="2668" y="65"/>
                  </a:moveTo>
                  <a:cubicBezTo>
                    <a:pt x="2668" y="64"/>
                    <a:pt x="2668" y="63"/>
                    <a:pt x="2668" y="63"/>
                  </a:cubicBezTo>
                  <a:cubicBezTo>
                    <a:pt x="2668" y="63"/>
                    <a:pt x="2668" y="64"/>
                    <a:pt x="2668" y="65"/>
                  </a:cubicBezTo>
                  <a:close/>
                  <a:moveTo>
                    <a:pt x="109" y="90"/>
                  </a:moveTo>
                  <a:cubicBezTo>
                    <a:pt x="109" y="89"/>
                    <a:pt x="108" y="87"/>
                    <a:pt x="107" y="86"/>
                  </a:cubicBezTo>
                  <a:cubicBezTo>
                    <a:pt x="108" y="87"/>
                    <a:pt x="109" y="89"/>
                    <a:pt x="109" y="90"/>
                  </a:cubicBezTo>
                  <a:close/>
                  <a:moveTo>
                    <a:pt x="174" y="61"/>
                  </a:moveTo>
                  <a:cubicBezTo>
                    <a:pt x="174" y="55"/>
                    <a:pt x="174" y="49"/>
                    <a:pt x="172" y="44"/>
                  </a:cubicBezTo>
                  <a:cubicBezTo>
                    <a:pt x="172" y="44"/>
                    <a:pt x="173" y="51"/>
                    <a:pt x="174" y="61"/>
                  </a:cubicBezTo>
                  <a:close/>
                  <a:moveTo>
                    <a:pt x="615" y="68"/>
                  </a:moveTo>
                  <a:cubicBezTo>
                    <a:pt x="615" y="65"/>
                    <a:pt x="614" y="64"/>
                    <a:pt x="614" y="64"/>
                  </a:cubicBezTo>
                  <a:cubicBezTo>
                    <a:pt x="614" y="64"/>
                    <a:pt x="615" y="66"/>
                    <a:pt x="615" y="68"/>
                  </a:cubicBezTo>
                  <a:close/>
                  <a:moveTo>
                    <a:pt x="922" y="54"/>
                  </a:moveTo>
                  <a:cubicBezTo>
                    <a:pt x="922" y="53"/>
                    <a:pt x="922" y="52"/>
                    <a:pt x="922" y="52"/>
                  </a:cubicBezTo>
                  <a:cubicBezTo>
                    <a:pt x="922" y="53"/>
                    <a:pt x="922" y="53"/>
                    <a:pt x="922" y="54"/>
                  </a:cubicBezTo>
                  <a:close/>
                  <a:moveTo>
                    <a:pt x="870" y="65"/>
                  </a:moveTo>
                  <a:cubicBezTo>
                    <a:pt x="870" y="64"/>
                    <a:pt x="870" y="63"/>
                    <a:pt x="870" y="63"/>
                  </a:cubicBezTo>
                  <a:cubicBezTo>
                    <a:pt x="870" y="63"/>
                    <a:pt x="870" y="64"/>
                    <a:pt x="870" y="65"/>
                  </a:cubicBezTo>
                  <a:close/>
                  <a:moveTo>
                    <a:pt x="874" y="52"/>
                  </a:moveTo>
                  <a:cubicBezTo>
                    <a:pt x="874" y="50"/>
                    <a:pt x="874" y="49"/>
                    <a:pt x="874" y="49"/>
                  </a:cubicBezTo>
                  <a:cubicBezTo>
                    <a:pt x="874" y="50"/>
                    <a:pt x="874" y="51"/>
                    <a:pt x="874" y="52"/>
                  </a:cubicBezTo>
                  <a:close/>
                  <a:moveTo>
                    <a:pt x="918" y="90"/>
                  </a:moveTo>
                  <a:cubicBezTo>
                    <a:pt x="917" y="89"/>
                    <a:pt x="916" y="87"/>
                    <a:pt x="915" y="86"/>
                  </a:cubicBezTo>
                  <a:cubicBezTo>
                    <a:pt x="916" y="87"/>
                    <a:pt x="917" y="89"/>
                    <a:pt x="918" y="90"/>
                  </a:cubicBezTo>
                  <a:close/>
                  <a:moveTo>
                    <a:pt x="1037" y="54"/>
                  </a:moveTo>
                  <a:cubicBezTo>
                    <a:pt x="1037" y="54"/>
                    <a:pt x="1037" y="65"/>
                    <a:pt x="1036" y="84"/>
                  </a:cubicBezTo>
                  <a:cubicBezTo>
                    <a:pt x="1038" y="72"/>
                    <a:pt x="1039" y="60"/>
                    <a:pt x="1037" y="54"/>
                  </a:cubicBezTo>
                  <a:close/>
                  <a:moveTo>
                    <a:pt x="998" y="47"/>
                  </a:moveTo>
                  <a:cubicBezTo>
                    <a:pt x="997" y="39"/>
                    <a:pt x="997" y="33"/>
                    <a:pt x="996" y="30"/>
                  </a:cubicBezTo>
                  <a:cubicBezTo>
                    <a:pt x="996" y="30"/>
                    <a:pt x="996" y="37"/>
                    <a:pt x="998" y="47"/>
                  </a:cubicBezTo>
                  <a:close/>
                  <a:moveTo>
                    <a:pt x="688" y="61"/>
                  </a:moveTo>
                  <a:cubicBezTo>
                    <a:pt x="688" y="55"/>
                    <a:pt x="687" y="49"/>
                    <a:pt x="686" y="44"/>
                  </a:cubicBezTo>
                  <a:cubicBezTo>
                    <a:pt x="686" y="44"/>
                    <a:pt x="687" y="51"/>
                    <a:pt x="688" y="61"/>
                  </a:cubicBezTo>
                  <a:close/>
                  <a:moveTo>
                    <a:pt x="862" y="105"/>
                  </a:moveTo>
                  <a:cubicBezTo>
                    <a:pt x="862" y="103"/>
                    <a:pt x="862" y="101"/>
                    <a:pt x="861" y="99"/>
                  </a:cubicBezTo>
                  <a:cubicBezTo>
                    <a:pt x="861" y="101"/>
                    <a:pt x="862" y="103"/>
                    <a:pt x="862" y="105"/>
                  </a:cubicBezTo>
                  <a:close/>
                  <a:moveTo>
                    <a:pt x="644" y="67"/>
                  </a:moveTo>
                  <a:cubicBezTo>
                    <a:pt x="644" y="66"/>
                    <a:pt x="644" y="65"/>
                    <a:pt x="644" y="64"/>
                  </a:cubicBezTo>
                  <a:cubicBezTo>
                    <a:pt x="644" y="64"/>
                    <a:pt x="644" y="65"/>
                    <a:pt x="644" y="67"/>
                  </a:cubicBezTo>
                  <a:close/>
                  <a:moveTo>
                    <a:pt x="1092" y="106"/>
                  </a:moveTo>
                  <a:cubicBezTo>
                    <a:pt x="1092" y="103"/>
                    <a:pt x="1092" y="100"/>
                    <a:pt x="1091" y="96"/>
                  </a:cubicBezTo>
                  <a:cubicBezTo>
                    <a:pt x="1091" y="99"/>
                    <a:pt x="1092" y="103"/>
                    <a:pt x="1092" y="106"/>
                  </a:cubicBezTo>
                  <a:close/>
                  <a:moveTo>
                    <a:pt x="764" y="68"/>
                  </a:moveTo>
                  <a:cubicBezTo>
                    <a:pt x="764" y="68"/>
                    <a:pt x="764" y="71"/>
                    <a:pt x="764" y="75"/>
                  </a:cubicBezTo>
                  <a:cubicBezTo>
                    <a:pt x="764" y="72"/>
                    <a:pt x="764" y="70"/>
                    <a:pt x="764" y="68"/>
                  </a:cubicBezTo>
                  <a:close/>
                  <a:moveTo>
                    <a:pt x="771" y="62"/>
                  </a:moveTo>
                  <a:cubicBezTo>
                    <a:pt x="771" y="61"/>
                    <a:pt x="771" y="60"/>
                    <a:pt x="771" y="60"/>
                  </a:cubicBezTo>
                  <a:cubicBezTo>
                    <a:pt x="771" y="60"/>
                    <a:pt x="771" y="61"/>
                    <a:pt x="771" y="62"/>
                  </a:cubicBezTo>
                  <a:close/>
                  <a:moveTo>
                    <a:pt x="4239" y="67"/>
                  </a:moveTo>
                  <a:cubicBezTo>
                    <a:pt x="4239" y="66"/>
                    <a:pt x="4240" y="65"/>
                    <a:pt x="4239" y="64"/>
                  </a:cubicBezTo>
                  <a:cubicBezTo>
                    <a:pt x="4239" y="64"/>
                    <a:pt x="4239" y="65"/>
                    <a:pt x="4239" y="67"/>
                  </a:cubicBezTo>
                  <a:close/>
                  <a:moveTo>
                    <a:pt x="4593" y="47"/>
                  </a:moveTo>
                  <a:cubicBezTo>
                    <a:pt x="4593" y="39"/>
                    <a:pt x="4593" y="33"/>
                    <a:pt x="4591" y="30"/>
                  </a:cubicBezTo>
                  <a:cubicBezTo>
                    <a:pt x="4591" y="30"/>
                    <a:pt x="4592" y="37"/>
                    <a:pt x="4593" y="47"/>
                  </a:cubicBezTo>
                  <a:close/>
                  <a:moveTo>
                    <a:pt x="4518" y="54"/>
                  </a:moveTo>
                  <a:cubicBezTo>
                    <a:pt x="4518" y="53"/>
                    <a:pt x="4517" y="52"/>
                    <a:pt x="4517" y="52"/>
                  </a:cubicBezTo>
                  <a:cubicBezTo>
                    <a:pt x="4518" y="53"/>
                    <a:pt x="4518" y="53"/>
                    <a:pt x="4518" y="54"/>
                  </a:cubicBezTo>
                  <a:close/>
                  <a:moveTo>
                    <a:pt x="4633" y="54"/>
                  </a:moveTo>
                  <a:cubicBezTo>
                    <a:pt x="4633" y="54"/>
                    <a:pt x="4633" y="65"/>
                    <a:pt x="4632" y="84"/>
                  </a:cubicBezTo>
                  <a:cubicBezTo>
                    <a:pt x="4634" y="72"/>
                    <a:pt x="4635" y="60"/>
                    <a:pt x="4633" y="54"/>
                  </a:cubicBezTo>
                  <a:close/>
                  <a:moveTo>
                    <a:pt x="4513" y="90"/>
                  </a:moveTo>
                  <a:cubicBezTo>
                    <a:pt x="4513" y="89"/>
                    <a:pt x="4512" y="87"/>
                    <a:pt x="4511" y="86"/>
                  </a:cubicBezTo>
                  <a:cubicBezTo>
                    <a:pt x="4512" y="87"/>
                    <a:pt x="4513" y="89"/>
                    <a:pt x="4513" y="90"/>
                  </a:cubicBezTo>
                  <a:close/>
                  <a:moveTo>
                    <a:pt x="4688" y="106"/>
                  </a:moveTo>
                  <a:cubicBezTo>
                    <a:pt x="4688" y="103"/>
                    <a:pt x="4687" y="100"/>
                    <a:pt x="4687" y="96"/>
                  </a:cubicBezTo>
                  <a:cubicBezTo>
                    <a:pt x="4687" y="99"/>
                    <a:pt x="4688" y="103"/>
                    <a:pt x="4688" y="106"/>
                  </a:cubicBezTo>
                  <a:close/>
                  <a:moveTo>
                    <a:pt x="886" y="106"/>
                  </a:moveTo>
                  <a:cubicBezTo>
                    <a:pt x="886" y="103"/>
                    <a:pt x="885" y="101"/>
                    <a:pt x="885" y="99"/>
                  </a:cubicBezTo>
                  <a:cubicBezTo>
                    <a:pt x="885" y="101"/>
                    <a:pt x="885" y="103"/>
                    <a:pt x="886" y="106"/>
                  </a:cubicBezTo>
                  <a:close/>
                  <a:moveTo>
                    <a:pt x="4284" y="61"/>
                  </a:moveTo>
                  <a:cubicBezTo>
                    <a:pt x="4284" y="55"/>
                    <a:pt x="4283" y="49"/>
                    <a:pt x="4282" y="44"/>
                  </a:cubicBezTo>
                  <a:cubicBezTo>
                    <a:pt x="4282" y="44"/>
                    <a:pt x="4283" y="51"/>
                    <a:pt x="4284" y="61"/>
                  </a:cubicBezTo>
                  <a:close/>
                  <a:moveTo>
                    <a:pt x="4367" y="62"/>
                  </a:moveTo>
                  <a:cubicBezTo>
                    <a:pt x="4367" y="61"/>
                    <a:pt x="4367" y="60"/>
                    <a:pt x="4367" y="60"/>
                  </a:cubicBezTo>
                  <a:cubicBezTo>
                    <a:pt x="4367" y="60"/>
                    <a:pt x="4367" y="61"/>
                    <a:pt x="4367" y="62"/>
                  </a:cubicBezTo>
                  <a:close/>
                  <a:moveTo>
                    <a:pt x="4470" y="52"/>
                  </a:moveTo>
                  <a:cubicBezTo>
                    <a:pt x="4470" y="50"/>
                    <a:pt x="4470" y="49"/>
                    <a:pt x="4470" y="49"/>
                  </a:cubicBezTo>
                  <a:cubicBezTo>
                    <a:pt x="4470" y="50"/>
                    <a:pt x="4470" y="51"/>
                    <a:pt x="4470" y="52"/>
                  </a:cubicBezTo>
                  <a:close/>
                  <a:moveTo>
                    <a:pt x="4360" y="68"/>
                  </a:moveTo>
                  <a:cubicBezTo>
                    <a:pt x="4360" y="68"/>
                    <a:pt x="4360" y="71"/>
                    <a:pt x="4360" y="75"/>
                  </a:cubicBezTo>
                  <a:cubicBezTo>
                    <a:pt x="4360" y="72"/>
                    <a:pt x="4360" y="70"/>
                    <a:pt x="4360" y="68"/>
                  </a:cubicBezTo>
                  <a:close/>
                  <a:moveTo>
                    <a:pt x="4748" y="85"/>
                  </a:moveTo>
                  <a:cubicBezTo>
                    <a:pt x="4748" y="84"/>
                    <a:pt x="4748" y="84"/>
                    <a:pt x="4747" y="83"/>
                  </a:cubicBezTo>
                  <a:cubicBezTo>
                    <a:pt x="4748" y="84"/>
                    <a:pt x="4748" y="84"/>
                    <a:pt x="4748" y="85"/>
                  </a:cubicBezTo>
                  <a:close/>
                  <a:moveTo>
                    <a:pt x="4748" y="85"/>
                  </a:moveTo>
                  <a:cubicBezTo>
                    <a:pt x="4750" y="92"/>
                    <a:pt x="4750" y="108"/>
                    <a:pt x="4750" y="115"/>
                  </a:cubicBezTo>
                  <a:cubicBezTo>
                    <a:pt x="4750" y="127"/>
                    <a:pt x="4750" y="138"/>
                    <a:pt x="4752" y="150"/>
                  </a:cubicBezTo>
                  <a:cubicBezTo>
                    <a:pt x="4743" y="126"/>
                    <a:pt x="4740" y="99"/>
                    <a:pt x="4733" y="74"/>
                  </a:cubicBezTo>
                  <a:cubicBezTo>
                    <a:pt x="4736" y="91"/>
                    <a:pt x="4732" y="110"/>
                    <a:pt x="4732" y="128"/>
                  </a:cubicBezTo>
                  <a:cubicBezTo>
                    <a:pt x="4732" y="132"/>
                    <a:pt x="4733" y="136"/>
                    <a:pt x="4733" y="140"/>
                  </a:cubicBezTo>
                  <a:cubicBezTo>
                    <a:pt x="4733" y="145"/>
                    <a:pt x="4734" y="149"/>
                    <a:pt x="4735" y="154"/>
                  </a:cubicBezTo>
                  <a:cubicBezTo>
                    <a:pt x="4734" y="149"/>
                    <a:pt x="4733" y="145"/>
                    <a:pt x="4733" y="140"/>
                  </a:cubicBezTo>
                  <a:cubicBezTo>
                    <a:pt x="4730" y="120"/>
                    <a:pt x="4727" y="99"/>
                    <a:pt x="4722" y="80"/>
                  </a:cubicBezTo>
                  <a:cubicBezTo>
                    <a:pt x="4724" y="102"/>
                    <a:pt x="4714" y="126"/>
                    <a:pt x="4714" y="149"/>
                  </a:cubicBezTo>
                  <a:cubicBezTo>
                    <a:pt x="4714" y="156"/>
                    <a:pt x="4714" y="156"/>
                    <a:pt x="4714" y="156"/>
                  </a:cubicBezTo>
                  <a:cubicBezTo>
                    <a:pt x="4710" y="147"/>
                    <a:pt x="4710" y="132"/>
                    <a:pt x="4710" y="122"/>
                  </a:cubicBezTo>
                  <a:cubicBezTo>
                    <a:pt x="4710" y="100"/>
                    <a:pt x="4712" y="79"/>
                    <a:pt x="4711" y="57"/>
                  </a:cubicBezTo>
                  <a:cubicBezTo>
                    <a:pt x="4708" y="62"/>
                    <a:pt x="4707" y="112"/>
                    <a:pt x="4707" y="120"/>
                  </a:cubicBezTo>
                  <a:cubicBezTo>
                    <a:pt x="4707" y="133"/>
                    <a:pt x="4708" y="146"/>
                    <a:pt x="4711" y="159"/>
                  </a:cubicBezTo>
                  <a:cubicBezTo>
                    <a:pt x="4706" y="135"/>
                    <a:pt x="4700" y="108"/>
                    <a:pt x="4688" y="85"/>
                  </a:cubicBezTo>
                  <a:cubicBezTo>
                    <a:pt x="4699" y="106"/>
                    <a:pt x="4694" y="132"/>
                    <a:pt x="4701" y="154"/>
                  </a:cubicBezTo>
                  <a:cubicBezTo>
                    <a:pt x="4693" y="142"/>
                    <a:pt x="4691" y="122"/>
                    <a:pt x="4688" y="106"/>
                  </a:cubicBezTo>
                  <a:cubicBezTo>
                    <a:pt x="4690" y="120"/>
                    <a:pt x="4688" y="134"/>
                    <a:pt x="4690" y="148"/>
                  </a:cubicBezTo>
                  <a:cubicBezTo>
                    <a:pt x="4691" y="151"/>
                    <a:pt x="4692" y="153"/>
                    <a:pt x="4692" y="155"/>
                  </a:cubicBezTo>
                  <a:cubicBezTo>
                    <a:pt x="4691" y="153"/>
                    <a:pt x="4691" y="151"/>
                    <a:pt x="4690" y="148"/>
                  </a:cubicBezTo>
                  <a:cubicBezTo>
                    <a:pt x="4685" y="128"/>
                    <a:pt x="4673" y="75"/>
                    <a:pt x="4661" y="68"/>
                  </a:cubicBezTo>
                  <a:cubicBezTo>
                    <a:pt x="4678" y="90"/>
                    <a:pt x="4676" y="127"/>
                    <a:pt x="4680" y="153"/>
                  </a:cubicBezTo>
                  <a:cubicBezTo>
                    <a:pt x="4676" y="134"/>
                    <a:pt x="4669" y="113"/>
                    <a:pt x="4660" y="95"/>
                  </a:cubicBezTo>
                  <a:cubicBezTo>
                    <a:pt x="4667" y="115"/>
                    <a:pt x="4666" y="136"/>
                    <a:pt x="4675" y="155"/>
                  </a:cubicBezTo>
                  <a:cubicBezTo>
                    <a:pt x="4662" y="144"/>
                    <a:pt x="4655" y="117"/>
                    <a:pt x="4651" y="102"/>
                  </a:cubicBezTo>
                  <a:cubicBezTo>
                    <a:pt x="4651" y="120"/>
                    <a:pt x="4656" y="143"/>
                    <a:pt x="4667" y="158"/>
                  </a:cubicBezTo>
                  <a:cubicBezTo>
                    <a:pt x="4653" y="144"/>
                    <a:pt x="4648" y="103"/>
                    <a:pt x="4643" y="85"/>
                  </a:cubicBezTo>
                  <a:cubicBezTo>
                    <a:pt x="4642" y="88"/>
                    <a:pt x="4642" y="91"/>
                    <a:pt x="4642" y="94"/>
                  </a:cubicBezTo>
                  <a:cubicBezTo>
                    <a:pt x="4642" y="113"/>
                    <a:pt x="4647" y="142"/>
                    <a:pt x="4659" y="159"/>
                  </a:cubicBezTo>
                  <a:cubicBezTo>
                    <a:pt x="4645" y="143"/>
                    <a:pt x="4640" y="123"/>
                    <a:pt x="4634" y="104"/>
                  </a:cubicBezTo>
                  <a:cubicBezTo>
                    <a:pt x="4638" y="122"/>
                    <a:pt x="4638" y="140"/>
                    <a:pt x="4647" y="158"/>
                  </a:cubicBezTo>
                  <a:cubicBezTo>
                    <a:pt x="4637" y="147"/>
                    <a:pt x="4632" y="132"/>
                    <a:pt x="4628" y="117"/>
                  </a:cubicBezTo>
                  <a:cubicBezTo>
                    <a:pt x="4630" y="105"/>
                    <a:pt x="4631" y="93"/>
                    <a:pt x="4632" y="84"/>
                  </a:cubicBezTo>
                  <a:cubicBezTo>
                    <a:pt x="4630" y="92"/>
                    <a:pt x="4628" y="101"/>
                    <a:pt x="4626" y="109"/>
                  </a:cubicBezTo>
                  <a:cubicBezTo>
                    <a:pt x="4625" y="102"/>
                    <a:pt x="4623" y="95"/>
                    <a:pt x="4621" y="89"/>
                  </a:cubicBezTo>
                  <a:cubicBezTo>
                    <a:pt x="4624" y="64"/>
                    <a:pt x="4628" y="40"/>
                    <a:pt x="4628" y="40"/>
                  </a:cubicBezTo>
                  <a:cubicBezTo>
                    <a:pt x="4623" y="51"/>
                    <a:pt x="4618" y="77"/>
                    <a:pt x="4615" y="100"/>
                  </a:cubicBezTo>
                  <a:cubicBezTo>
                    <a:pt x="4613" y="95"/>
                    <a:pt x="4610" y="90"/>
                    <a:pt x="4609" y="86"/>
                  </a:cubicBezTo>
                  <a:cubicBezTo>
                    <a:pt x="4608" y="70"/>
                    <a:pt x="4606" y="58"/>
                    <a:pt x="4606" y="60"/>
                  </a:cubicBezTo>
                  <a:cubicBezTo>
                    <a:pt x="4606" y="61"/>
                    <a:pt x="4606" y="69"/>
                    <a:pt x="4605" y="80"/>
                  </a:cubicBezTo>
                  <a:cubicBezTo>
                    <a:pt x="4604" y="79"/>
                    <a:pt x="4604" y="78"/>
                    <a:pt x="4603" y="78"/>
                  </a:cubicBezTo>
                  <a:cubicBezTo>
                    <a:pt x="4604" y="79"/>
                    <a:pt x="4604" y="80"/>
                    <a:pt x="4605" y="81"/>
                  </a:cubicBezTo>
                  <a:cubicBezTo>
                    <a:pt x="4604" y="87"/>
                    <a:pt x="4604" y="95"/>
                    <a:pt x="4603" y="102"/>
                  </a:cubicBezTo>
                  <a:cubicBezTo>
                    <a:pt x="4603" y="102"/>
                    <a:pt x="4603" y="102"/>
                    <a:pt x="4603" y="102"/>
                  </a:cubicBezTo>
                  <a:cubicBezTo>
                    <a:pt x="4603" y="103"/>
                    <a:pt x="4603" y="103"/>
                    <a:pt x="4603" y="103"/>
                  </a:cubicBezTo>
                  <a:cubicBezTo>
                    <a:pt x="4602" y="113"/>
                    <a:pt x="4602" y="123"/>
                    <a:pt x="4601" y="130"/>
                  </a:cubicBezTo>
                  <a:cubicBezTo>
                    <a:pt x="4601" y="130"/>
                    <a:pt x="4600" y="129"/>
                    <a:pt x="4600" y="128"/>
                  </a:cubicBezTo>
                  <a:cubicBezTo>
                    <a:pt x="4600" y="107"/>
                    <a:pt x="4596" y="69"/>
                    <a:pt x="4593" y="47"/>
                  </a:cubicBezTo>
                  <a:cubicBezTo>
                    <a:pt x="4594" y="64"/>
                    <a:pt x="4593" y="87"/>
                    <a:pt x="4592" y="107"/>
                  </a:cubicBezTo>
                  <a:cubicBezTo>
                    <a:pt x="4591" y="105"/>
                    <a:pt x="4590" y="104"/>
                    <a:pt x="4589" y="102"/>
                  </a:cubicBezTo>
                  <a:cubicBezTo>
                    <a:pt x="4590" y="104"/>
                    <a:pt x="4591" y="106"/>
                    <a:pt x="4591" y="107"/>
                  </a:cubicBezTo>
                  <a:cubicBezTo>
                    <a:pt x="4591" y="114"/>
                    <a:pt x="4591" y="121"/>
                    <a:pt x="4590" y="126"/>
                  </a:cubicBezTo>
                  <a:cubicBezTo>
                    <a:pt x="4590" y="125"/>
                    <a:pt x="4589" y="123"/>
                    <a:pt x="4589" y="122"/>
                  </a:cubicBezTo>
                  <a:cubicBezTo>
                    <a:pt x="4588" y="93"/>
                    <a:pt x="4584" y="46"/>
                    <a:pt x="4584" y="46"/>
                  </a:cubicBezTo>
                  <a:cubicBezTo>
                    <a:pt x="4583" y="65"/>
                    <a:pt x="4577" y="142"/>
                    <a:pt x="4577" y="142"/>
                  </a:cubicBezTo>
                  <a:cubicBezTo>
                    <a:pt x="4571" y="106"/>
                    <a:pt x="4578" y="0"/>
                    <a:pt x="4578" y="0"/>
                  </a:cubicBezTo>
                  <a:cubicBezTo>
                    <a:pt x="4572" y="16"/>
                    <a:pt x="4566" y="131"/>
                    <a:pt x="4566" y="131"/>
                  </a:cubicBezTo>
                  <a:cubicBezTo>
                    <a:pt x="4564" y="36"/>
                    <a:pt x="4560" y="32"/>
                    <a:pt x="4560" y="32"/>
                  </a:cubicBezTo>
                  <a:cubicBezTo>
                    <a:pt x="4562" y="43"/>
                    <a:pt x="4559" y="76"/>
                    <a:pt x="4556" y="103"/>
                  </a:cubicBezTo>
                  <a:cubicBezTo>
                    <a:pt x="4555" y="102"/>
                    <a:pt x="4554" y="100"/>
                    <a:pt x="4553" y="99"/>
                  </a:cubicBezTo>
                  <a:cubicBezTo>
                    <a:pt x="4554" y="101"/>
                    <a:pt x="4555" y="103"/>
                    <a:pt x="4556" y="104"/>
                  </a:cubicBezTo>
                  <a:cubicBezTo>
                    <a:pt x="4555" y="112"/>
                    <a:pt x="4554" y="120"/>
                    <a:pt x="4553" y="126"/>
                  </a:cubicBezTo>
                  <a:cubicBezTo>
                    <a:pt x="4553" y="124"/>
                    <a:pt x="4553" y="123"/>
                    <a:pt x="4553" y="122"/>
                  </a:cubicBezTo>
                  <a:cubicBezTo>
                    <a:pt x="4553" y="94"/>
                    <a:pt x="4552" y="48"/>
                    <a:pt x="4552" y="48"/>
                  </a:cubicBezTo>
                  <a:cubicBezTo>
                    <a:pt x="4551" y="55"/>
                    <a:pt x="4548" y="82"/>
                    <a:pt x="4545" y="106"/>
                  </a:cubicBezTo>
                  <a:cubicBezTo>
                    <a:pt x="4544" y="104"/>
                    <a:pt x="4543" y="102"/>
                    <a:pt x="4543" y="100"/>
                  </a:cubicBezTo>
                  <a:cubicBezTo>
                    <a:pt x="4546" y="60"/>
                    <a:pt x="4550" y="9"/>
                    <a:pt x="4550" y="9"/>
                  </a:cubicBezTo>
                  <a:cubicBezTo>
                    <a:pt x="4545" y="23"/>
                    <a:pt x="4538" y="83"/>
                    <a:pt x="4535" y="117"/>
                  </a:cubicBezTo>
                  <a:cubicBezTo>
                    <a:pt x="4534" y="114"/>
                    <a:pt x="4533" y="111"/>
                    <a:pt x="4532" y="108"/>
                  </a:cubicBezTo>
                  <a:cubicBezTo>
                    <a:pt x="4532" y="90"/>
                    <a:pt x="4530" y="72"/>
                    <a:pt x="4530" y="72"/>
                  </a:cubicBezTo>
                  <a:cubicBezTo>
                    <a:pt x="4530" y="76"/>
                    <a:pt x="4530" y="84"/>
                    <a:pt x="4529" y="94"/>
                  </a:cubicBezTo>
                  <a:cubicBezTo>
                    <a:pt x="4528" y="91"/>
                    <a:pt x="4526" y="88"/>
                    <a:pt x="4525" y="84"/>
                  </a:cubicBezTo>
                  <a:cubicBezTo>
                    <a:pt x="4526" y="88"/>
                    <a:pt x="4528" y="92"/>
                    <a:pt x="4528" y="96"/>
                  </a:cubicBezTo>
                  <a:cubicBezTo>
                    <a:pt x="4528" y="99"/>
                    <a:pt x="4528" y="103"/>
                    <a:pt x="4527" y="107"/>
                  </a:cubicBezTo>
                  <a:cubicBezTo>
                    <a:pt x="4527" y="106"/>
                    <a:pt x="4527" y="106"/>
                    <a:pt x="4527" y="105"/>
                  </a:cubicBezTo>
                  <a:cubicBezTo>
                    <a:pt x="4526" y="107"/>
                    <a:pt x="4526" y="112"/>
                    <a:pt x="4526" y="116"/>
                  </a:cubicBezTo>
                  <a:cubicBezTo>
                    <a:pt x="4525" y="121"/>
                    <a:pt x="4525" y="126"/>
                    <a:pt x="4524" y="130"/>
                  </a:cubicBezTo>
                  <a:cubicBezTo>
                    <a:pt x="4524" y="129"/>
                    <a:pt x="4524" y="128"/>
                    <a:pt x="4524" y="127"/>
                  </a:cubicBezTo>
                  <a:cubicBezTo>
                    <a:pt x="4524" y="101"/>
                    <a:pt x="4519" y="63"/>
                    <a:pt x="4518" y="54"/>
                  </a:cubicBezTo>
                  <a:cubicBezTo>
                    <a:pt x="4518" y="61"/>
                    <a:pt x="4517" y="79"/>
                    <a:pt x="4516" y="96"/>
                  </a:cubicBezTo>
                  <a:cubicBezTo>
                    <a:pt x="4515" y="94"/>
                    <a:pt x="4514" y="92"/>
                    <a:pt x="4513" y="90"/>
                  </a:cubicBezTo>
                  <a:cubicBezTo>
                    <a:pt x="4514" y="93"/>
                    <a:pt x="4515" y="95"/>
                    <a:pt x="4516" y="97"/>
                  </a:cubicBezTo>
                  <a:cubicBezTo>
                    <a:pt x="4514" y="118"/>
                    <a:pt x="4511" y="137"/>
                    <a:pt x="4511" y="137"/>
                  </a:cubicBezTo>
                  <a:cubicBezTo>
                    <a:pt x="4511" y="136"/>
                    <a:pt x="4511" y="134"/>
                    <a:pt x="4511" y="133"/>
                  </a:cubicBezTo>
                  <a:cubicBezTo>
                    <a:pt x="4511" y="125"/>
                    <a:pt x="4511" y="118"/>
                    <a:pt x="4510" y="110"/>
                  </a:cubicBezTo>
                  <a:cubicBezTo>
                    <a:pt x="4509" y="76"/>
                    <a:pt x="4508" y="40"/>
                    <a:pt x="4508" y="40"/>
                  </a:cubicBezTo>
                  <a:cubicBezTo>
                    <a:pt x="4508" y="49"/>
                    <a:pt x="4503" y="79"/>
                    <a:pt x="4499" y="104"/>
                  </a:cubicBezTo>
                  <a:cubicBezTo>
                    <a:pt x="4499" y="99"/>
                    <a:pt x="4498" y="95"/>
                    <a:pt x="4497" y="90"/>
                  </a:cubicBezTo>
                  <a:cubicBezTo>
                    <a:pt x="4498" y="67"/>
                    <a:pt x="4499" y="45"/>
                    <a:pt x="4499" y="45"/>
                  </a:cubicBezTo>
                  <a:cubicBezTo>
                    <a:pt x="4499" y="53"/>
                    <a:pt x="4493" y="75"/>
                    <a:pt x="4486" y="96"/>
                  </a:cubicBezTo>
                  <a:cubicBezTo>
                    <a:pt x="4485" y="93"/>
                    <a:pt x="4484" y="89"/>
                    <a:pt x="4482" y="85"/>
                  </a:cubicBezTo>
                  <a:cubicBezTo>
                    <a:pt x="4489" y="51"/>
                    <a:pt x="4497" y="17"/>
                    <a:pt x="4497" y="17"/>
                  </a:cubicBezTo>
                  <a:cubicBezTo>
                    <a:pt x="4492" y="24"/>
                    <a:pt x="4477" y="95"/>
                    <a:pt x="4470" y="130"/>
                  </a:cubicBezTo>
                  <a:cubicBezTo>
                    <a:pt x="4470" y="130"/>
                    <a:pt x="4470" y="130"/>
                    <a:pt x="4470" y="130"/>
                  </a:cubicBezTo>
                  <a:cubicBezTo>
                    <a:pt x="4474" y="100"/>
                    <a:pt x="4471" y="63"/>
                    <a:pt x="4470" y="52"/>
                  </a:cubicBezTo>
                  <a:cubicBezTo>
                    <a:pt x="4472" y="72"/>
                    <a:pt x="4466" y="109"/>
                    <a:pt x="4462" y="128"/>
                  </a:cubicBezTo>
                  <a:cubicBezTo>
                    <a:pt x="4462" y="126"/>
                    <a:pt x="4462" y="123"/>
                    <a:pt x="4461" y="120"/>
                  </a:cubicBezTo>
                  <a:cubicBezTo>
                    <a:pt x="4463" y="99"/>
                    <a:pt x="4465" y="71"/>
                    <a:pt x="4466" y="65"/>
                  </a:cubicBezTo>
                  <a:cubicBezTo>
                    <a:pt x="4465" y="71"/>
                    <a:pt x="4462" y="89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4" y="125"/>
                    <a:pt x="4451" y="143"/>
                    <a:pt x="4451" y="143"/>
                  </a:cubicBezTo>
                  <a:cubicBezTo>
                    <a:pt x="4461" y="38"/>
                    <a:pt x="4454" y="25"/>
                    <a:pt x="4454" y="25"/>
                  </a:cubicBezTo>
                  <a:cubicBezTo>
                    <a:pt x="4457" y="42"/>
                    <a:pt x="4454" y="72"/>
                    <a:pt x="4449" y="96"/>
                  </a:cubicBezTo>
                  <a:cubicBezTo>
                    <a:pt x="4448" y="89"/>
                    <a:pt x="4446" y="80"/>
                    <a:pt x="4443" y="73"/>
                  </a:cubicBezTo>
                  <a:cubicBezTo>
                    <a:pt x="4442" y="65"/>
                    <a:pt x="4442" y="60"/>
                    <a:pt x="4442" y="60"/>
                  </a:cubicBezTo>
                  <a:cubicBezTo>
                    <a:pt x="4442" y="63"/>
                    <a:pt x="4442" y="67"/>
                    <a:pt x="4441" y="71"/>
                  </a:cubicBezTo>
                  <a:cubicBezTo>
                    <a:pt x="4440" y="69"/>
                    <a:pt x="4439" y="67"/>
                    <a:pt x="4437" y="65"/>
                  </a:cubicBezTo>
                  <a:cubicBezTo>
                    <a:pt x="4439" y="67"/>
                    <a:pt x="4440" y="70"/>
                    <a:pt x="4441" y="73"/>
                  </a:cubicBezTo>
                  <a:cubicBezTo>
                    <a:pt x="4441" y="82"/>
                    <a:pt x="4440" y="92"/>
                    <a:pt x="4438" y="101"/>
                  </a:cubicBezTo>
                  <a:cubicBezTo>
                    <a:pt x="4438" y="95"/>
                    <a:pt x="4435" y="88"/>
                    <a:pt x="4430" y="83"/>
                  </a:cubicBezTo>
                  <a:cubicBezTo>
                    <a:pt x="4430" y="74"/>
                    <a:pt x="4431" y="68"/>
                    <a:pt x="4431" y="68"/>
                  </a:cubicBezTo>
                  <a:cubicBezTo>
                    <a:pt x="4430" y="72"/>
                    <a:pt x="4429" y="76"/>
                    <a:pt x="4428" y="81"/>
                  </a:cubicBezTo>
                  <a:cubicBezTo>
                    <a:pt x="4428" y="81"/>
                    <a:pt x="4427" y="81"/>
                    <a:pt x="4427" y="80"/>
                  </a:cubicBezTo>
                  <a:cubicBezTo>
                    <a:pt x="4427" y="81"/>
                    <a:pt x="4428" y="81"/>
                    <a:pt x="4428" y="82"/>
                  </a:cubicBezTo>
                  <a:cubicBezTo>
                    <a:pt x="4425" y="101"/>
                    <a:pt x="4424" y="130"/>
                    <a:pt x="4424" y="142"/>
                  </a:cubicBezTo>
                  <a:cubicBezTo>
                    <a:pt x="4424" y="143"/>
                    <a:pt x="4423" y="144"/>
                    <a:pt x="4423" y="144"/>
                  </a:cubicBezTo>
                  <a:cubicBezTo>
                    <a:pt x="4422" y="141"/>
                    <a:pt x="4422" y="136"/>
                    <a:pt x="4422" y="131"/>
                  </a:cubicBezTo>
                  <a:cubicBezTo>
                    <a:pt x="4423" y="121"/>
                    <a:pt x="4425" y="112"/>
                    <a:pt x="4426" y="103"/>
                  </a:cubicBezTo>
                  <a:cubicBezTo>
                    <a:pt x="4425" y="108"/>
                    <a:pt x="4424" y="112"/>
                    <a:pt x="4423" y="117"/>
                  </a:cubicBezTo>
                  <a:cubicBezTo>
                    <a:pt x="4424" y="85"/>
                    <a:pt x="4430" y="45"/>
                    <a:pt x="4430" y="45"/>
                  </a:cubicBezTo>
                  <a:cubicBezTo>
                    <a:pt x="4423" y="60"/>
                    <a:pt x="4418" y="95"/>
                    <a:pt x="4416" y="120"/>
                  </a:cubicBezTo>
                  <a:cubicBezTo>
                    <a:pt x="4416" y="123"/>
                    <a:pt x="4415" y="125"/>
                    <a:pt x="4414" y="127"/>
                  </a:cubicBezTo>
                  <a:cubicBezTo>
                    <a:pt x="4413" y="103"/>
                    <a:pt x="4413" y="70"/>
                    <a:pt x="4413" y="70"/>
                  </a:cubicBezTo>
                  <a:cubicBezTo>
                    <a:pt x="4413" y="72"/>
                    <a:pt x="4413" y="76"/>
                    <a:pt x="4412" y="81"/>
                  </a:cubicBezTo>
                  <a:cubicBezTo>
                    <a:pt x="4411" y="73"/>
                    <a:pt x="4409" y="66"/>
                    <a:pt x="4406" y="60"/>
                  </a:cubicBezTo>
                  <a:cubicBezTo>
                    <a:pt x="4407" y="52"/>
                    <a:pt x="4407" y="46"/>
                    <a:pt x="4407" y="46"/>
                  </a:cubicBezTo>
                  <a:cubicBezTo>
                    <a:pt x="4405" y="51"/>
                    <a:pt x="4403" y="64"/>
                    <a:pt x="4402" y="79"/>
                  </a:cubicBezTo>
                  <a:cubicBezTo>
                    <a:pt x="4401" y="77"/>
                    <a:pt x="4401" y="75"/>
                    <a:pt x="4400" y="74"/>
                  </a:cubicBezTo>
                  <a:cubicBezTo>
                    <a:pt x="4399" y="83"/>
                    <a:pt x="4399" y="92"/>
                    <a:pt x="4399" y="102"/>
                  </a:cubicBezTo>
                  <a:cubicBezTo>
                    <a:pt x="4399" y="108"/>
                    <a:pt x="4398" y="115"/>
                    <a:pt x="4397" y="121"/>
                  </a:cubicBezTo>
                  <a:cubicBezTo>
                    <a:pt x="4397" y="123"/>
                    <a:pt x="4396" y="125"/>
                    <a:pt x="4396" y="127"/>
                  </a:cubicBezTo>
                  <a:cubicBezTo>
                    <a:pt x="4396" y="35"/>
                    <a:pt x="4394" y="34"/>
                    <a:pt x="4394" y="34"/>
                  </a:cubicBezTo>
                  <a:cubicBezTo>
                    <a:pt x="4396" y="49"/>
                    <a:pt x="4392" y="77"/>
                    <a:pt x="4388" y="102"/>
                  </a:cubicBezTo>
                  <a:cubicBezTo>
                    <a:pt x="4387" y="94"/>
                    <a:pt x="4385" y="85"/>
                    <a:pt x="4381" y="76"/>
                  </a:cubicBezTo>
                  <a:cubicBezTo>
                    <a:pt x="4382" y="70"/>
                    <a:pt x="4382" y="66"/>
                    <a:pt x="4382" y="66"/>
                  </a:cubicBezTo>
                  <a:cubicBezTo>
                    <a:pt x="4382" y="68"/>
                    <a:pt x="4381" y="71"/>
                    <a:pt x="4380" y="74"/>
                  </a:cubicBezTo>
                  <a:cubicBezTo>
                    <a:pt x="4380" y="73"/>
                    <a:pt x="4379" y="72"/>
                    <a:pt x="4378" y="71"/>
                  </a:cubicBezTo>
                  <a:cubicBezTo>
                    <a:pt x="4379" y="73"/>
                    <a:pt x="4379" y="74"/>
                    <a:pt x="4380" y="76"/>
                  </a:cubicBezTo>
                  <a:cubicBezTo>
                    <a:pt x="4378" y="83"/>
                    <a:pt x="4376" y="93"/>
                    <a:pt x="4374" y="103"/>
                  </a:cubicBezTo>
                  <a:cubicBezTo>
                    <a:pt x="4374" y="98"/>
                    <a:pt x="4373" y="94"/>
                    <a:pt x="4372" y="89"/>
                  </a:cubicBezTo>
                  <a:cubicBezTo>
                    <a:pt x="4373" y="96"/>
                    <a:pt x="4371" y="104"/>
                    <a:pt x="4369" y="112"/>
                  </a:cubicBezTo>
                  <a:cubicBezTo>
                    <a:pt x="4369" y="92"/>
                    <a:pt x="4368" y="70"/>
                    <a:pt x="4367" y="62"/>
                  </a:cubicBezTo>
                  <a:cubicBezTo>
                    <a:pt x="4367" y="67"/>
                    <a:pt x="4367" y="74"/>
                    <a:pt x="4367" y="82"/>
                  </a:cubicBezTo>
                  <a:cubicBezTo>
                    <a:pt x="4365" y="87"/>
                    <a:pt x="4362" y="94"/>
                    <a:pt x="4360" y="101"/>
                  </a:cubicBezTo>
                  <a:cubicBezTo>
                    <a:pt x="4360" y="91"/>
                    <a:pt x="4360" y="82"/>
                    <a:pt x="4360" y="75"/>
                  </a:cubicBezTo>
                  <a:cubicBezTo>
                    <a:pt x="4359" y="86"/>
                    <a:pt x="4357" y="102"/>
                    <a:pt x="4355" y="116"/>
                  </a:cubicBezTo>
                  <a:cubicBezTo>
                    <a:pt x="4353" y="123"/>
                    <a:pt x="4351" y="130"/>
                    <a:pt x="4349" y="136"/>
                  </a:cubicBezTo>
                  <a:cubicBezTo>
                    <a:pt x="4349" y="118"/>
                    <a:pt x="4352" y="89"/>
                    <a:pt x="4352" y="89"/>
                  </a:cubicBezTo>
                  <a:cubicBezTo>
                    <a:pt x="4351" y="93"/>
                    <a:pt x="4349" y="99"/>
                    <a:pt x="4347" y="106"/>
                  </a:cubicBezTo>
                  <a:cubicBezTo>
                    <a:pt x="4347" y="104"/>
                    <a:pt x="4347" y="101"/>
                    <a:pt x="4346" y="99"/>
                  </a:cubicBezTo>
                  <a:cubicBezTo>
                    <a:pt x="4346" y="96"/>
                    <a:pt x="4346" y="96"/>
                    <a:pt x="4346" y="96"/>
                  </a:cubicBezTo>
                  <a:cubicBezTo>
                    <a:pt x="4345" y="95"/>
                    <a:pt x="4345" y="95"/>
                    <a:pt x="4345" y="95"/>
                  </a:cubicBezTo>
                  <a:cubicBezTo>
                    <a:pt x="4345" y="104"/>
                    <a:pt x="4343" y="113"/>
                    <a:pt x="4341" y="122"/>
                  </a:cubicBezTo>
                  <a:cubicBezTo>
                    <a:pt x="4339" y="127"/>
                    <a:pt x="4338" y="131"/>
                    <a:pt x="4336" y="134"/>
                  </a:cubicBezTo>
                  <a:cubicBezTo>
                    <a:pt x="4336" y="130"/>
                    <a:pt x="4336" y="126"/>
                    <a:pt x="4336" y="122"/>
                  </a:cubicBezTo>
                  <a:cubicBezTo>
                    <a:pt x="4340" y="102"/>
                    <a:pt x="4347" y="76"/>
                    <a:pt x="4347" y="76"/>
                  </a:cubicBezTo>
                  <a:cubicBezTo>
                    <a:pt x="4342" y="82"/>
                    <a:pt x="4337" y="94"/>
                    <a:pt x="4333" y="105"/>
                  </a:cubicBezTo>
                  <a:cubicBezTo>
                    <a:pt x="4332" y="102"/>
                    <a:pt x="4331" y="98"/>
                    <a:pt x="4330" y="95"/>
                  </a:cubicBezTo>
                  <a:cubicBezTo>
                    <a:pt x="4331" y="74"/>
                    <a:pt x="4327" y="62"/>
                    <a:pt x="4327" y="62"/>
                  </a:cubicBezTo>
                  <a:cubicBezTo>
                    <a:pt x="4329" y="69"/>
                    <a:pt x="4329" y="78"/>
                    <a:pt x="4328" y="88"/>
                  </a:cubicBezTo>
                  <a:cubicBezTo>
                    <a:pt x="4325" y="83"/>
                    <a:pt x="4322" y="78"/>
                    <a:pt x="4318" y="73"/>
                  </a:cubicBezTo>
                  <a:cubicBezTo>
                    <a:pt x="4322" y="80"/>
                    <a:pt x="4325" y="92"/>
                    <a:pt x="4326" y="102"/>
                  </a:cubicBezTo>
                  <a:cubicBezTo>
                    <a:pt x="4325" y="108"/>
                    <a:pt x="4324" y="115"/>
                    <a:pt x="4323" y="120"/>
                  </a:cubicBezTo>
                  <a:cubicBezTo>
                    <a:pt x="4322" y="113"/>
                    <a:pt x="4321" y="106"/>
                    <a:pt x="4319" y="100"/>
                  </a:cubicBezTo>
                  <a:cubicBezTo>
                    <a:pt x="4320" y="89"/>
                    <a:pt x="4320" y="82"/>
                    <a:pt x="4320" y="82"/>
                  </a:cubicBezTo>
                  <a:cubicBezTo>
                    <a:pt x="4319" y="98"/>
                    <a:pt x="4319" y="98"/>
                    <a:pt x="4319" y="98"/>
                  </a:cubicBezTo>
                  <a:cubicBezTo>
                    <a:pt x="4318" y="94"/>
                    <a:pt x="4317" y="91"/>
                    <a:pt x="4315" y="88"/>
                  </a:cubicBezTo>
                  <a:cubicBezTo>
                    <a:pt x="4315" y="73"/>
                    <a:pt x="4314" y="60"/>
                    <a:pt x="4314" y="60"/>
                  </a:cubicBezTo>
                  <a:cubicBezTo>
                    <a:pt x="4314" y="72"/>
                    <a:pt x="4311" y="90"/>
                    <a:pt x="4311" y="90"/>
                  </a:cubicBezTo>
                  <a:cubicBezTo>
                    <a:pt x="4309" y="84"/>
                    <a:pt x="4309" y="64"/>
                    <a:pt x="4309" y="64"/>
                  </a:cubicBezTo>
                  <a:cubicBezTo>
                    <a:pt x="4309" y="68"/>
                    <a:pt x="4308" y="83"/>
                    <a:pt x="4306" y="98"/>
                  </a:cubicBezTo>
                  <a:cubicBezTo>
                    <a:pt x="4306" y="96"/>
                    <a:pt x="4305" y="95"/>
                    <a:pt x="4305" y="93"/>
                  </a:cubicBezTo>
                  <a:cubicBezTo>
                    <a:pt x="4304" y="88"/>
                    <a:pt x="4302" y="82"/>
                    <a:pt x="4300" y="76"/>
                  </a:cubicBezTo>
                  <a:cubicBezTo>
                    <a:pt x="4300" y="57"/>
                    <a:pt x="4300" y="42"/>
                    <a:pt x="4300" y="42"/>
                  </a:cubicBezTo>
                  <a:cubicBezTo>
                    <a:pt x="4300" y="49"/>
                    <a:pt x="4300" y="59"/>
                    <a:pt x="4299" y="70"/>
                  </a:cubicBezTo>
                  <a:cubicBezTo>
                    <a:pt x="4296" y="64"/>
                    <a:pt x="4294" y="57"/>
                    <a:pt x="4291" y="51"/>
                  </a:cubicBezTo>
                  <a:cubicBezTo>
                    <a:pt x="4290" y="52"/>
                    <a:pt x="4290" y="54"/>
                    <a:pt x="4290" y="55"/>
                  </a:cubicBezTo>
                  <a:cubicBezTo>
                    <a:pt x="4293" y="65"/>
                    <a:pt x="4296" y="74"/>
                    <a:pt x="4297" y="82"/>
                  </a:cubicBezTo>
                  <a:cubicBezTo>
                    <a:pt x="4297" y="88"/>
                    <a:pt x="4296" y="94"/>
                    <a:pt x="4295" y="100"/>
                  </a:cubicBezTo>
                  <a:cubicBezTo>
                    <a:pt x="4294" y="96"/>
                    <a:pt x="4293" y="92"/>
                    <a:pt x="4292" y="88"/>
                  </a:cubicBezTo>
                  <a:cubicBezTo>
                    <a:pt x="4293" y="78"/>
                    <a:pt x="4294" y="70"/>
                    <a:pt x="4294" y="70"/>
                  </a:cubicBezTo>
                  <a:cubicBezTo>
                    <a:pt x="4293" y="72"/>
                    <a:pt x="4292" y="78"/>
                    <a:pt x="4291" y="85"/>
                  </a:cubicBezTo>
                  <a:cubicBezTo>
                    <a:pt x="4289" y="82"/>
                    <a:pt x="4287" y="79"/>
                    <a:pt x="4285" y="76"/>
                  </a:cubicBezTo>
                  <a:cubicBezTo>
                    <a:pt x="4284" y="71"/>
                    <a:pt x="4284" y="66"/>
                    <a:pt x="4284" y="61"/>
                  </a:cubicBezTo>
                  <a:cubicBezTo>
                    <a:pt x="4283" y="73"/>
                    <a:pt x="4281" y="87"/>
                    <a:pt x="4279" y="101"/>
                  </a:cubicBezTo>
                  <a:cubicBezTo>
                    <a:pt x="4277" y="95"/>
                    <a:pt x="4275" y="90"/>
                    <a:pt x="4273" y="86"/>
                  </a:cubicBezTo>
                  <a:cubicBezTo>
                    <a:pt x="4274" y="73"/>
                    <a:pt x="4274" y="64"/>
                    <a:pt x="4274" y="64"/>
                  </a:cubicBezTo>
                  <a:cubicBezTo>
                    <a:pt x="4274" y="71"/>
                    <a:pt x="4272" y="82"/>
                    <a:pt x="4270" y="95"/>
                  </a:cubicBezTo>
                  <a:cubicBezTo>
                    <a:pt x="4268" y="87"/>
                    <a:pt x="4266" y="79"/>
                    <a:pt x="4262" y="71"/>
                  </a:cubicBezTo>
                  <a:cubicBezTo>
                    <a:pt x="4264" y="49"/>
                    <a:pt x="4265" y="30"/>
                    <a:pt x="4265" y="30"/>
                  </a:cubicBezTo>
                  <a:cubicBezTo>
                    <a:pt x="4263" y="35"/>
                    <a:pt x="4261" y="49"/>
                    <a:pt x="4259" y="65"/>
                  </a:cubicBezTo>
                  <a:cubicBezTo>
                    <a:pt x="4258" y="62"/>
                    <a:pt x="4256" y="59"/>
                    <a:pt x="4254" y="56"/>
                  </a:cubicBezTo>
                  <a:cubicBezTo>
                    <a:pt x="4254" y="63"/>
                    <a:pt x="4256" y="70"/>
                    <a:pt x="4258" y="78"/>
                  </a:cubicBezTo>
                  <a:cubicBezTo>
                    <a:pt x="4257" y="87"/>
                    <a:pt x="4256" y="97"/>
                    <a:pt x="4255" y="106"/>
                  </a:cubicBezTo>
                  <a:cubicBezTo>
                    <a:pt x="4255" y="105"/>
                    <a:pt x="4255" y="104"/>
                    <a:pt x="4254" y="103"/>
                  </a:cubicBezTo>
                  <a:cubicBezTo>
                    <a:pt x="4255" y="104"/>
                    <a:pt x="4255" y="106"/>
                    <a:pt x="4255" y="109"/>
                  </a:cubicBezTo>
                  <a:cubicBezTo>
                    <a:pt x="4254" y="120"/>
                    <a:pt x="4253" y="131"/>
                    <a:pt x="4253" y="138"/>
                  </a:cubicBezTo>
                  <a:cubicBezTo>
                    <a:pt x="4253" y="137"/>
                    <a:pt x="4252" y="135"/>
                    <a:pt x="4252" y="134"/>
                  </a:cubicBezTo>
                  <a:cubicBezTo>
                    <a:pt x="4251" y="99"/>
                    <a:pt x="4245" y="41"/>
                    <a:pt x="4245" y="41"/>
                  </a:cubicBezTo>
                  <a:cubicBezTo>
                    <a:pt x="4247" y="58"/>
                    <a:pt x="4246" y="86"/>
                    <a:pt x="4244" y="108"/>
                  </a:cubicBezTo>
                  <a:cubicBezTo>
                    <a:pt x="4242" y="105"/>
                    <a:pt x="4241" y="102"/>
                    <a:pt x="4239" y="99"/>
                  </a:cubicBezTo>
                  <a:cubicBezTo>
                    <a:pt x="4239" y="86"/>
                    <a:pt x="4239" y="73"/>
                    <a:pt x="4239" y="67"/>
                  </a:cubicBezTo>
                  <a:cubicBezTo>
                    <a:pt x="4239" y="75"/>
                    <a:pt x="4238" y="85"/>
                    <a:pt x="4237" y="94"/>
                  </a:cubicBezTo>
                  <a:cubicBezTo>
                    <a:pt x="4236" y="92"/>
                    <a:pt x="4235" y="91"/>
                    <a:pt x="4234" y="89"/>
                  </a:cubicBezTo>
                  <a:cubicBezTo>
                    <a:pt x="4235" y="91"/>
                    <a:pt x="4236" y="94"/>
                    <a:pt x="4236" y="97"/>
                  </a:cubicBezTo>
                  <a:cubicBezTo>
                    <a:pt x="4235" y="103"/>
                    <a:pt x="4234" y="110"/>
                    <a:pt x="4232" y="116"/>
                  </a:cubicBezTo>
                  <a:cubicBezTo>
                    <a:pt x="4231" y="110"/>
                    <a:pt x="4230" y="105"/>
                    <a:pt x="4228" y="101"/>
                  </a:cubicBezTo>
                  <a:cubicBezTo>
                    <a:pt x="4229" y="91"/>
                    <a:pt x="4230" y="83"/>
                    <a:pt x="4230" y="83"/>
                  </a:cubicBezTo>
                  <a:cubicBezTo>
                    <a:pt x="4230" y="86"/>
                    <a:pt x="4229" y="92"/>
                    <a:pt x="4227" y="98"/>
                  </a:cubicBezTo>
                  <a:cubicBezTo>
                    <a:pt x="4226" y="94"/>
                    <a:pt x="4225" y="91"/>
                    <a:pt x="4224" y="89"/>
                  </a:cubicBezTo>
                  <a:cubicBezTo>
                    <a:pt x="4225" y="74"/>
                    <a:pt x="4226" y="62"/>
                    <a:pt x="4226" y="62"/>
                  </a:cubicBezTo>
                  <a:cubicBezTo>
                    <a:pt x="4225" y="65"/>
                    <a:pt x="4224" y="75"/>
                    <a:pt x="4222" y="87"/>
                  </a:cubicBezTo>
                  <a:cubicBezTo>
                    <a:pt x="4220" y="83"/>
                    <a:pt x="4218" y="81"/>
                    <a:pt x="4215" y="78"/>
                  </a:cubicBezTo>
                  <a:cubicBezTo>
                    <a:pt x="4218" y="81"/>
                    <a:pt x="4220" y="84"/>
                    <a:pt x="4222" y="89"/>
                  </a:cubicBezTo>
                  <a:cubicBezTo>
                    <a:pt x="4221" y="96"/>
                    <a:pt x="4220" y="105"/>
                    <a:pt x="4219" y="113"/>
                  </a:cubicBezTo>
                  <a:cubicBezTo>
                    <a:pt x="4218" y="108"/>
                    <a:pt x="4217" y="104"/>
                    <a:pt x="4215" y="100"/>
                  </a:cubicBezTo>
                  <a:cubicBezTo>
                    <a:pt x="4214" y="86"/>
                    <a:pt x="4212" y="74"/>
                    <a:pt x="4211" y="68"/>
                  </a:cubicBezTo>
                  <a:cubicBezTo>
                    <a:pt x="4211" y="71"/>
                    <a:pt x="4212" y="76"/>
                    <a:pt x="4211" y="86"/>
                  </a:cubicBezTo>
                  <a:cubicBezTo>
                    <a:pt x="4211" y="87"/>
                    <a:pt x="4211" y="88"/>
                    <a:pt x="4211" y="90"/>
                  </a:cubicBezTo>
                  <a:cubicBezTo>
                    <a:pt x="4210" y="87"/>
                    <a:pt x="4208" y="84"/>
                    <a:pt x="4206" y="81"/>
                  </a:cubicBezTo>
                  <a:cubicBezTo>
                    <a:pt x="4209" y="85"/>
                    <a:pt x="4210" y="91"/>
                    <a:pt x="4210" y="96"/>
                  </a:cubicBezTo>
                  <a:cubicBezTo>
                    <a:pt x="4209" y="105"/>
                    <a:pt x="4207" y="115"/>
                    <a:pt x="4205" y="124"/>
                  </a:cubicBezTo>
                  <a:cubicBezTo>
                    <a:pt x="4205" y="113"/>
                    <a:pt x="4204" y="102"/>
                    <a:pt x="4202" y="91"/>
                  </a:cubicBezTo>
                  <a:cubicBezTo>
                    <a:pt x="4202" y="77"/>
                    <a:pt x="4202" y="77"/>
                    <a:pt x="4202" y="77"/>
                  </a:cubicBezTo>
                  <a:cubicBezTo>
                    <a:pt x="4205" y="35"/>
                    <a:pt x="4198" y="19"/>
                    <a:pt x="4198" y="19"/>
                  </a:cubicBezTo>
                  <a:cubicBezTo>
                    <a:pt x="4198" y="19"/>
                    <a:pt x="4201" y="31"/>
                    <a:pt x="4200" y="54"/>
                  </a:cubicBezTo>
                  <a:cubicBezTo>
                    <a:pt x="4199" y="59"/>
                    <a:pt x="4199" y="68"/>
                    <a:pt x="4197" y="78"/>
                  </a:cubicBezTo>
                  <a:cubicBezTo>
                    <a:pt x="4195" y="72"/>
                    <a:pt x="4192" y="66"/>
                    <a:pt x="4188" y="60"/>
                  </a:cubicBezTo>
                  <a:cubicBezTo>
                    <a:pt x="4188" y="61"/>
                    <a:pt x="4188" y="61"/>
                    <a:pt x="4188" y="61"/>
                  </a:cubicBezTo>
                  <a:cubicBezTo>
                    <a:pt x="4188" y="62"/>
                    <a:pt x="4188" y="63"/>
                    <a:pt x="4188" y="64"/>
                  </a:cubicBezTo>
                  <a:cubicBezTo>
                    <a:pt x="4186" y="44"/>
                    <a:pt x="4179" y="40"/>
                    <a:pt x="4179" y="40"/>
                  </a:cubicBezTo>
                  <a:cubicBezTo>
                    <a:pt x="4179" y="40"/>
                    <a:pt x="4185" y="44"/>
                    <a:pt x="4185" y="70"/>
                  </a:cubicBezTo>
                  <a:cubicBezTo>
                    <a:pt x="4185" y="76"/>
                    <a:pt x="4184" y="85"/>
                    <a:pt x="4182" y="94"/>
                  </a:cubicBezTo>
                  <a:cubicBezTo>
                    <a:pt x="4180" y="90"/>
                    <a:pt x="4177" y="86"/>
                    <a:pt x="4174" y="83"/>
                  </a:cubicBezTo>
                  <a:cubicBezTo>
                    <a:pt x="4177" y="87"/>
                    <a:pt x="4180" y="92"/>
                    <a:pt x="4182" y="97"/>
                  </a:cubicBezTo>
                  <a:cubicBezTo>
                    <a:pt x="4181" y="100"/>
                    <a:pt x="4181" y="103"/>
                    <a:pt x="4180" y="106"/>
                  </a:cubicBezTo>
                  <a:cubicBezTo>
                    <a:pt x="4179" y="104"/>
                    <a:pt x="4179" y="102"/>
                    <a:pt x="4178" y="100"/>
                  </a:cubicBezTo>
                  <a:cubicBezTo>
                    <a:pt x="4179" y="102"/>
                    <a:pt x="4179" y="105"/>
                    <a:pt x="4180" y="108"/>
                  </a:cubicBezTo>
                  <a:cubicBezTo>
                    <a:pt x="4179" y="111"/>
                    <a:pt x="4178" y="114"/>
                    <a:pt x="4177" y="117"/>
                  </a:cubicBezTo>
                  <a:cubicBezTo>
                    <a:pt x="4176" y="113"/>
                    <a:pt x="4174" y="108"/>
                    <a:pt x="4172" y="104"/>
                  </a:cubicBezTo>
                  <a:cubicBezTo>
                    <a:pt x="4173" y="87"/>
                    <a:pt x="4174" y="71"/>
                    <a:pt x="4174" y="71"/>
                  </a:cubicBezTo>
                  <a:cubicBezTo>
                    <a:pt x="4173" y="73"/>
                    <a:pt x="4171" y="84"/>
                    <a:pt x="4169" y="97"/>
                  </a:cubicBezTo>
                  <a:cubicBezTo>
                    <a:pt x="4168" y="95"/>
                    <a:pt x="4167" y="93"/>
                    <a:pt x="4166" y="92"/>
                  </a:cubicBezTo>
                  <a:cubicBezTo>
                    <a:pt x="4167" y="81"/>
                    <a:pt x="4168" y="72"/>
                    <a:pt x="4169" y="66"/>
                  </a:cubicBezTo>
                  <a:cubicBezTo>
                    <a:pt x="4168" y="73"/>
                    <a:pt x="4167" y="81"/>
                    <a:pt x="4165" y="90"/>
                  </a:cubicBezTo>
                  <a:cubicBezTo>
                    <a:pt x="4164" y="88"/>
                    <a:pt x="4162" y="86"/>
                    <a:pt x="4160" y="83"/>
                  </a:cubicBezTo>
                  <a:cubicBezTo>
                    <a:pt x="4164" y="26"/>
                    <a:pt x="4162" y="12"/>
                    <a:pt x="4162" y="12"/>
                  </a:cubicBezTo>
                  <a:cubicBezTo>
                    <a:pt x="4162" y="12"/>
                    <a:pt x="4162" y="18"/>
                    <a:pt x="4159" y="56"/>
                  </a:cubicBezTo>
                  <a:cubicBezTo>
                    <a:pt x="4158" y="64"/>
                    <a:pt x="4157" y="71"/>
                    <a:pt x="4156" y="78"/>
                  </a:cubicBezTo>
                  <a:cubicBezTo>
                    <a:pt x="4154" y="76"/>
                    <a:pt x="4151" y="73"/>
                    <a:pt x="4149" y="71"/>
                  </a:cubicBezTo>
                  <a:cubicBezTo>
                    <a:pt x="4150" y="48"/>
                    <a:pt x="4151" y="31"/>
                    <a:pt x="4151" y="31"/>
                  </a:cubicBezTo>
                  <a:cubicBezTo>
                    <a:pt x="4149" y="37"/>
                    <a:pt x="4147" y="52"/>
                    <a:pt x="4146" y="68"/>
                  </a:cubicBezTo>
                  <a:cubicBezTo>
                    <a:pt x="4144" y="66"/>
                    <a:pt x="4142" y="65"/>
                    <a:pt x="4140" y="63"/>
                  </a:cubicBezTo>
                  <a:cubicBezTo>
                    <a:pt x="4142" y="65"/>
                    <a:pt x="4144" y="67"/>
                    <a:pt x="4146" y="69"/>
                  </a:cubicBezTo>
                  <a:cubicBezTo>
                    <a:pt x="4145" y="82"/>
                    <a:pt x="4145" y="96"/>
                    <a:pt x="4144" y="109"/>
                  </a:cubicBezTo>
                  <a:cubicBezTo>
                    <a:pt x="4143" y="104"/>
                    <a:pt x="4141" y="99"/>
                    <a:pt x="4140" y="96"/>
                  </a:cubicBezTo>
                  <a:cubicBezTo>
                    <a:pt x="4141" y="104"/>
                    <a:pt x="4142" y="112"/>
                    <a:pt x="4144" y="120"/>
                  </a:cubicBezTo>
                  <a:cubicBezTo>
                    <a:pt x="4144" y="123"/>
                    <a:pt x="4144" y="126"/>
                    <a:pt x="4144" y="128"/>
                  </a:cubicBezTo>
                  <a:cubicBezTo>
                    <a:pt x="4143" y="125"/>
                    <a:pt x="4141" y="122"/>
                    <a:pt x="4140" y="118"/>
                  </a:cubicBezTo>
                  <a:cubicBezTo>
                    <a:pt x="4135" y="80"/>
                    <a:pt x="4128" y="28"/>
                    <a:pt x="4128" y="28"/>
                  </a:cubicBezTo>
                  <a:cubicBezTo>
                    <a:pt x="4128" y="39"/>
                    <a:pt x="4126" y="72"/>
                    <a:pt x="4124" y="100"/>
                  </a:cubicBezTo>
                  <a:cubicBezTo>
                    <a:pt x="4124" y="98"/>
                    <a:pt x="4123" y="97"/>
                    <a:pt x="4122" y="96"/>
                  </a:cubicBezTo>
                  <a:cubicBezTo>
                    <a:pt x="4123" y="97"/>
                    <a:pt x="4124" y="99"/>
                    <a:pt x="4124" y="100"/>
                  </a:cubicBezTo>
                  <a:cubicBezTo>
                    <a:pt x="4124" y="110"/>
                    <a:pt x="4123" y="120"/>
                    <a:pt x="4122" y="128"/>
                  </a:cubicBezTo>
                  <a:cubicBezTo>
                    <a:pt x="4122" y="128"/>
                    <a:pt x="4122" y="127"/>
                    <a:pt x="4122" y="127"/>
                  </a:cubicBezTo>
                  <a:cubicBezTo>
                    <a:pt x="4122" y="109"/>
                    <a:pt x="4120" y="87"/>
                    <a:pt x="4119" y="71"/>
                  </a:cubicBezTo>
                  <a:cubicBezTo>
                    <a:pt x="4120" y="68"/>
                    <a:pt x="4121" y="66"/>
                    <a:pt x="4122" y="64"/>
                  </a:cubicBezTo>
                  <a:cubicBezTo>
                    <a:pt x="4121" y="65"/>
                    <a:pt x="4120" y="67"/>
                    <a:pt x="4118" y="69"/>
                  </a:cubicBezTo>
                  <a:cubicBezTo>
                    <a:pt x="4118" y="61"/>
                    <a:pt x="4117" y="55"/>
                    <a:pt x="4117" y="53"/>
                  </a:cubicBezTo>
                  <a:cubicBezTo>
                    <a:pt x="4117" y="52"/>
                    <a:pt x="4118" y="52"/>
                    <a:pt x="4118" y="51"/>
                  </a:cubicBezTo>
                  <a:cubicBezTo>
                    <a:pt x="4118" y="51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5" y="54"/>
                    <a:pt x="4113" y="56"/>
                    <a:pt x="4111" y="57"/>
                  </a:cubicBezTo>
                  <a:cubicBezTo>
                    <a:pt x="4112" y="54"/>
                    <a:pt x="4112" y="52"/>
                    <a:pt x="4112" y="50"/>
                  </a:cubicBezTo>
                  <a:cubicBezTo>
                    <a:pt x="4116" y="46"/>
                    <a:pt x="4119" y="42"/>
                    <a:pt x="4123" y="38"/>
                  </a:cubicBezTo>
                  <a:cubicBezTo>
                    <a:pt x="4119" y="41"/>
                    <a:pt x="4116" y="44"/>
                    <a:pt x="4113" y="47"/>
                  </a:cubicBezTo>
                  <a:cubicBezTo>
                    <a:pt x="4113" y="43"/>
                    <a:pt x="4114" y="40"/>
                    <a:pt x="4114" y="40"/>
                  </a:cubicBezTo>
                  <a:cubicBezTo>
                    <a:pt x="4113" y="43"/>
                    <a:pt x="4111" y="46"/>
                    <a:pt x="4110" y="50"/>
                  </a:cubicBezTo>
                  <a:cubicBezTo>
                    <a:pt x="4103" y="58"/>
                    <a:pt x="4098" y="66"/>
                    <a:pt x="4094" y="75"/>
                  </a:cubicBezTo>
                  <a:cubicBezTo>
                    <a:pt x="4093" y="70"/>
                    <a:pt x="4093" y="66"/>
                    <a:pt x="4093" y="63"/>
                  </a:cubicBezTo>
                  <a:cubicBezTo>
                    <a:pt x="4096" y="57"/>
                    <a:pt x="4099" y="50"/>
                    <a:pt x="4103" y="42"/>
                  </a:cubicBezTo>
                  <a:cubicBezTo>
                    <a:pt x="4094" y="52"/>
                    <a:pt x="4088" y="61"/>
                    <a:pt x="4084" y="71"/>
                  </a:cubicBezTo>
                  <a:cubicBezTo>
                    <a:pt x="4083" y="70"/>
                    <a:pt x="4082" y="70"/>
                    <a:pt x="4082" y="69"/>
                  </a:cubicBezTo>
                  <a:cubicBezTo>
                    <a:pt x="4082" y="68"/>
                    <a:pt x="4082" y="67"/>
                    <a:pt x="4081" y="65"/>
                  </a:cubicBezTo>
                  <a:cubicBezTo>
                    <a:pt x="4088" y="53"/>
                    <a:pt x="4096" y="41"/>
                    <a:pt x="4107" y="25"/>
                  </a:cubicBezTo>
                  <a:cubicBezTo>
                    <a:pt x="4096" y="40"/>
                    <a:pt x="4088" y="51"/>
                    <a:pt x="4081" y="64"/>
                  </a:cubicBezTo>
                  <a:cubicBezTo>
                    <a:pt x="4079" y="45"/>
                    <a:pt x="4077" y="30"/>
                    <a:pt x="4077" y="30"/>
                  </a:cubicBezTo>
                  <a:cubicBezTo>
                    <a:pt x="4078" y="35"/>
                    <a:pt x="4078" y="49"/>
                    <a:pt x="4078" y="65"/>
                  </a:cubicBezTo>
                  <a:cubicBezTo>
                    <a:pt x="4078" y="65"/>
                    <a:pt x="4077" y="65"/>
                    <a:pt x="4077" y="65"/>
                  </a:cubicBezTo>
                  <a:cubicBezTo>
                    <a:pt x="4077" y="65"/>
                    <a:pt x="4078" y="65"/>
                    <a:pt x="4078" y="65"/>
                  </a:cubicBezTo>
                  <a:cubicBezTo>
                    <a:pt x="4078" y="67"/>
                    <a:pt x="4078" y="69"/>
                    <a:pt x="4077" y="71"/>
                  </a:cubicBezTo>
                  <a:cubicBezTo>
                    <a:pt x="4076" y="74"/>
                    <a:pt x="4075" y="78"/>
                    <a:pt x="4074" y="81"/>
                  </a:cubicBezTo>
                  <a:cubicBezTo>
                    <a:pt x="4075" y="78"/>
                    <a:pt x="4076" y="76"/>
                    <a:pt x="4077" y="73"/>
                  </a:cubicBezTo>
                  <a:cubicBezTo>
                    <a:pt x="4077" y="79"/>
                    <a:pt x="4077" y="85"/>
                    <a:pt x="4077" y="91"/>
                  </a:cubicBezTo>
                  <a:cubicBezTo>
                    <a:pt x="4076" y="93"/>
                    <a:pt x="4076" y="95"/>
                    <a:pt x="4076" y="97"/>
                  </a:cubicBezTo>
                  <a:cubicBezTo>
                    <a:pt x="4075" y="96"/>
                    <a:pt x="4074" y="95"/>
                    <a:pt x="4074" y="94"/>
                  </a:cubicBezTo>
                  <a:cubicBezTo>
                    <a:pt x="4073" y="91"/>
                    <a:pt x="4073" y="88"/>
                    <a:pt x="4073" y="85"/>
                  </a:cubicBezTo>
                  <a:cubicBezTo>
                    <a:pt x="4073" y="83"/>
                    <a:pt x="4074" y="82"/>
                    <a:pt x="4074" y="81"/>
                  </a:cubicBezTo>
                  <a:cubicBezTo>
                    <a:pt x="4074" y="82"/>
                    <a:pt x="4073" y="83"/>
                    <a:pt x="4073" y="84"/>
                  </a:cubicBezTo>
                  <a:cubicBezTo>
                    <a:pt x="4072" y="72"/>
                    <a:pt x="4071" y="62"/>
                    <a:pt x="4071" y="55"/>
                  </a:cubicBezTo>
                  <a:cubicBezTo>
                    <a:pt x="4072" y="54"/>
                    <a:pt x="4073" y="53"/>
                    <a:pt x="4075" y="52"/>
                  </a:cubicBezTo>
                  <a:cubicBezTo>
                    <a:pt x="4073" y="53"/>
                    <a:pt x="4072" y="54"/>
                    <a:pt x="4071" y="54"/>
                  </a:cubicBezTo>
                  <a:cubicBezTo>
                    <a:pt x="4071" y="49"/>
                    <a:pt x="4070" y="46"/>
                    <a:pt x="4070" y="46"/>
                  </a:cubicBezTo>
                  <a:cubicBezTo>
                    <a:pt x="4070" y="48"/>
                    <a:pt x="4070" y="51"/>
                    <a:pt x="4070" y="55"/>
                  </a:cubicBezTo>
                  <a:cubicBezTo>
                    <a:pt x="4067" y="57"/>
                    <a:pt x="4064" y="59"/>
                    <a:pt x="4061" y="62"/>
                  </a:cubicBezTo>
                  <a:cubicBezTo>
                    <a:pt x="4061" y="58"/>
                    <a:pt x="4061" y="54"/>
                    <a:pt x="4061" y="50"/>
                  </a:cubicBezTo>
                  <a:cubicBezTo>
                    <a:pt x="4065" y="45"/>
                    <a:pt x="4070" y="40"/>
                    <a:pt x="4075" y="34"/>
                  </a:cubicBezTo>
                  <a:cubicBezTo>
                    <a:pt x="4070" y="39"/>
                    <a:pt x="4065" y="44"/>
                    <a:pt x="4061" y="48"/>
                  </a:cubicBezTo>
                  <a:cubicBezTo>
                    <a:pt x="4062" y="21"/>
                    <a:pt x="4064" y="0"/>
                    <a:pt x="4064" y="0"/>
                  </a:cubicBezTo>
                  <a:cubicBezTo>
                    <a:pt x="4060" y="10"/>
                    <a:pt x="4058" y="35"/>
                    <a:pt x="4057" y="53"/>
                  </a:cubicBezTo>
                  <a:cubicBezTo>
                    <a:pt x="4056" y="54"/>
                    <a:pt x="4055" y="55"/>
                    <a:pt x="4055" y="56"/>
                  </a:cubicBezTo>
                  <a:cubicBezTo>
                    <a:pt x="4053" y="44"/>
                    <a:pt x="4050" y="33"/>
                    <a:pt x="4050" y="33"/>
                  </a:cubicBezTo>
                  <a:cubicBezTo>
                    <a:pt x="4051" y="39"/>
                    <a:pt x="4051" y="49"/>
                    <a:pt x="4050" y="62"/>
                  </a:cubicBezTo>
                  <a:cubicBezTo>
                    <a:pt x="4048" y="63"/>
                    <a:pt x="4047" y="65"/>
                    <a:pt x="4046" y="67"/>
                  </a:cubicBezTo>
                  <a:cubicBezTo>
                    <a:pt x="4045" y="65"/>
                    <a:pt x="4044" y="63"/>
                    <a:pt x="4043" y="62"/>
                  </a:cubicBezTo>
                  <a:cubicBezTo>
                    <a:pt x="4043" y="63"/>
                    <a:pt x="4044" y="65"/>
                    <a:pt x="4045" y="68"/>
                  </a:cubicBezTo>
                  <a:cubicBezTo>
                    <a:pt x="4042" y="72"/>
                    <a:pt x="4040" y="75"/>
                    <a:pt x="4039" y="78"/>
                  </a:cubicBezTo>
                  <a:cubicBezTo>
                    <a:pt x="4038" y="61"/>
                    <a:pt x="4038" y="48"/>
                    <a:pt x="4038" y="48"/>
                  </a:cubicBezTo>
                  <a:cubicBezTo>
                    <a:pt x="4037" y="52"/>
                    <a:pt x="4036" y="65"/>
                    <a:pt x="4034" y="80"/>
                  </a:cubicBezTo>
                  <a:cubicBezTo>
                    <a:pt x="4033" y="82"/>
                    <a:pt x="4033" y="85"/>
                    <a:pt x="4032" y="87"/>
                  </a:cubicBezTo>
                  <a:cubicBezTo>
                    <a:pt x="4031" y="86"/>
                    <a:pt x="4031" y="86"/>
                    <a:pt x="4030" y="85"/>
                  </a:cubicBezTo>
                  <a:cubicBezTo>
                    <a:pt x="4033" y="48"/>
                    <a:pt x="4036" y="9"/>
                    <a:pt x="4036" y="9"/>
                  </a:cubicBezTo>
                  <a:cubicBezTo>
                    <a:pt x="4032" y="20"/>
                    <a:pt x="4028" y="57"/>
                    <a:pt x="4024" y="89"/>
                  </a:cubicBezTo>
                  <a:cubicBezTo>
                    <a:pt x="4023" y="91"/>
                    <a:pt x="4022" y="92"/>
                    <a:pt x="4022" y="93"/>
                  </a:cubicBezTo>
                  <a:cubicBezTo>
                    <a:pt x="4021" y="92"/>
                    <a:pt x="4020" y="90"/>
                    <a:pt x="4019" y="89"/>
                  </a:cubicBezTo>
                  <a:cubicBezTo>
                    <a:pt x="4022" y="72"/>
                    <a:pt x="4025" y="55"/>
                    <a:pt x="4025" y="37"/>
                  </a:cubicBezTo>
                  <a:cubicBezTo>
                    <a:pt x="4025" y="34"/>
                    <a:pt x="4025" y="30"/>
                    <a:pt x="4025" y="26"/>
                  </a:cubicBezTo>
                  <a:cubicBezTo>
                    <a:pt x="4018" y="45"/>
                    <a:pt x="4017" y="66"/>
                    <a:pt x="4013" y="86"/>
                  </a:cubicBezTo>
                  <a:cubicBezTo>
                    <a:pt x="4012" y="85"/>
                    <a:pt x="4012" y="84"/>
                    <a:pt x="4011" y="84"/>
                  </a:cubicBezTo>
                  <a:cubicBezTo>
                    <a:pt x="4012" y="84"/>
                    <a:pt x="4012" y="85"/>
                    <a:pt x="4013" y="86"/>
                  </a:cubicBezTo>
                  <a:cubicBezTo>
                    <a:pt x="4012" y="88"/>
                    <a:pt x="4012" y="90"/>
                    <a:pt x="4012" y="92"/>
                  </a:cubicBezTo>
                  <a:cubicBezTo>
                    <a:pt x="4011" y="94"/>
                    <a:pt x="4011" y="96"/>
                    <a:pt x="4010" y="98"/>
                  </a:cubicBezTo>
                  <a:cubicBezTo>
                    <a:pt x="4010" y="97"/>
                    <a:pt x="4009" y="96"/>
                    <a:pt x="4008" y="94"/>
                  </a:cubicBezTo>
                  <a:cubicBezTo>
                    <a:pt x="4008" y="86"/>
                    <a:pt x="4007" y="78"/>
                    <a:pt x="4006" y="72"/>
                  </a:cubicBezTo>
                  <a:cubicBezTo>
                    <a:pt x="4009" y="67"/>
                    <a:pt x="4013" y="63"/>
                    <a:pt x="4017" y="59"/>
                  </a:cubicBezTo>
                  <a:cubicBezTo>
                    <a:pt x="4013" y="62"/>
                    <a:pt x="4009" y="66"/>
                    <a:pt x="4006" y="70"/>
                  </a:cubicBezTo>
                  <a:cubicBezTo>
                    <a:pt x="4005" y="64"/>
                    <a:pt x="4005" y="60"/>
                    <a:pt x="4004" y="57"/>
                  </a:cubicBezTo>
                  <a:cubicBezTo>
                    <a:pt x="4005" y="54"/>
                    <a:pt x="4007" y="52"/>
                    <a:pt x="4008" y="50"/>
                  </a:cubicBezTo>
                  <a:cubicBezTo>
                    <a:pt x="4007" y="51"/>
                    <a:pt x="4005" y="53"/>
                    <a:pt x="4004" y="54"/>
                  </a:cubicBezTo>
                  <a:cubicBezTo>
                    <a:pt x="4004" y="53"/>
                    <a:pt x="4004" y="52"/>
                    <a:pt x="4004" y="52"/>
                  </a:cubicBezTo>
                  <a:cubicBezTo>
                    <a:pt x="4004" y="53"/>
                    <a:pt x="4004" y="54"/>
                    <a:pt x="4004" y="54"/>
                  </a:cubicBezTo>
                  <a:cubicBezTo>
                    <a:pt x="4002" y="56"/>
                    <a:pt x="4000" y="58"/>
                    <a:pt x="3998" y="60"/>
                  </a:cubicBezTo>
                  <a:cubicBezTo>
                    <a:pt x="3997" y="54"/>
                    <a:pt x="3996" y="48"/>
                    <a:pt x="3995" y="44"/>
                  </a:cubicBezTo>
                  <a:cubicBezTo>
                    <a:pt x="3996" y="49"/>
                    <a:pt x="3995" y="56"/>
                    <a:pt x="3994" y="64"/>
                  </a:cubicBezTo>
                  <a:cubicBezTo>
                    <a:pt x="3993" y="66"/>
                    <a:pt x="3992" y="68"/>
                    <a:pt x="3991" y="69"/>
                  </a:cubicBezTo>
                  <a:cubicBezTo>
                    <a:pt x="3989" y="67"/>
                    <a:pt x="3988" y="66"/>
                    <a:pt x="3986" y="64"/>
                  </a:cubicBezTo>
                  <a:cubicBezTo>
                    <a:pt x="3988" y="66"/>
                    <a:pt x="3989" y="67"/>
                    <a:pt x="3991" y="69"/>
                  </a:cubicBezTo>
                  <a:cubicBezTo>
                    <a:pt x="3989" y="71"/>
                    <a:pt x="3988" y="73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6" y="76"/>
                    <a:pt x="3985" y="77"/>
                    <a:pt x="3984" y="79"/>
                  </a:cubicBezTo>
                  <a:cubicBezTo>
                    <a:pt x="3984" y="79"/>
                    <a:pt x="3984" y="79"/>
                    <a:pt x="3984" y="79"/>
                  </a:cubicBezTo>
                  <a:cubicBezTo>
                    <a:pt x="3985" y="60"/>
                    <a:pt x="3985" y="45"/>
                    <a:pt x="3985" y="45"/>
                  </a:cubicBezTo>
                  <a:cubicBezTo>
                    <a:pt x="3985" y="50"/>
                    <a:pt x="3983" y="61"/>
                    <a:pt x="3980" y="73"/>
                  </a:cubicBezTo>
                  <a:cubicBezTo>
                    <a:pt x="3979" y="73"/>
                    <a:pt x="3979" y="73"/>
                    <a:pt x="3978" y="72"/>
                  </a:cubicBezTo>
                  <a:cubicBezTo>
                    <a:pt x="3979" y="70"/>
                    <a:pt x="3979" y="68"/>
                    <a:pt x="3979" y="66"/>
                  </a:cubicBezTo>
                  <a:cubicBezTo>
                    <a:pt x="3979" y="65"/>
                    <a:pt x="3979" y="65"/>
                    <a:pt x="3980" y="65"/>
                  </a:cubicBezTo>
                  <a:cubicBezTo>
                    <a:pt x="3979" y="65"/>
                    <a:pt x="3979" y="65"/>
                    <a:pt x="3979" y="66"/>
                  </a:cubicBezTo>
                  <a:cubicBezTo>
                    <a:pt x="3979" y="64"/>
                    <a:pt x="3979" y="63"/>
                    <a:pt x="3979" y="61"/>
                  </a:cubicBezTo>
                  <a:cubicBezTo>
                    <a:pt x="3979" y="55"/>
                    <a:pt x="3979" y="49"/>
                    <a:pt x="3978" y="42"/>
                  </a:cubicBezTo>
                  <a:cubicBezTo>
                    <a:pt x="3981" y="27"/>
                    <a:pt x="3983" y="17"/>
                    <a:pt x="3983" y="17"/>
                  </a:cubicBezTo>
                  <a:cubicBezTo>
                    <a:pt x="3980" y="22"/>
                    <a:pt x="3973" y="49"/>
                    <a:pt x="3967" y="78"/>
                  </a:cubicBezTo>
                  <a:cubicBezTo>
                    <a:pt x="3967" y="78"/>
                    <a:pt x="3967" y="79"/>
                    <a:pt x="3966" y="79"/>
                  </a:cubicBezTo>
                  <a:cubicBezTo>
                    <a:pt x="3965" y="76"/>
                    <a:pt x="3962" y="72"/>
                    <a:pt x="3960" y="69"/>
                  </a:cubicBezTo>
                  <a:cubicBezTo>
                    <a:pt x="3961" y="67"/>
                    <a:pt x="3963" y="66"/>
                    <a:pt x="3965" y="64"/>
                  </a:cubicBezTo>
                  <a:cubicBezTo>
                    <a:pt x="3963" y="66"/>
                    <a:pt x="3961" y="67"/>
                    <a:pt x="3960" y="69"/>
                  </a:cubicBezTo>
                  <a:cubicBezTo>
                    <a:pt x="3959" y="68"/>
                    <a:pt x="3958" y="67"/>
                    <a:pt x="3957" y="66"/>
                  </a:cubicBezTo>
                  <a:cubicBezTo>
                    <a:pt x="3957" y="60"/>
                    <a:pt x="3956" y="55"/>
                    <a:pt x="3956" y="52"/>
                  </a:cubicBezTo>
                  <a:cubicBezTo>
                    <a:pt x="3956" y="56"/>
                    <a:pt x="3956" y="60"/>
                    <a:pt x="3956" y="64"/>
                  </a:cubicBezTo>
                  <a:cubicBezTo>
                    <a:pt x="3952" y="60"/>
                    <a:pt x="3948" y="55"/>
                    <a:pt x="3943" y="50"/>
                  </a:cubicBezTo>
                  <a:cubicBezTo>
                    <a:pt x="3945" y="55"/>
                    <a:pt x="3949" y="60"/>
                    <a:pt x="3952" y="65"/>
                  </a:cubicBezTo>
                  <a:cubicBezTo>
                    <a:pt x="3951" y="68"/>
                    <a:pt x="3951" y="71"/>
                    <a:pt x="3950" y="76"/>
                  </a:cubicBezTo>
                  <a:cubicBezTo>
                    <a:pt x="3948" y="74"/>
                    <a:pt x="3946" y="71"/>
                    <a:pt x="3943" y="68"/>
                  </a:cubicBezTo>
                  <a:cubicBezTo>
                    <a:pt x="3943" y="54"/>
                    <a:pt x="3942" y="41"/>
                    <a:pt x="3941" y="33"/>
                  </a:cubicBezTo>
                  <a:cubicBezTo>
                    <a:pt x="3942" y="42"/>
                    <a:pt x="3941" y="53"/>
                    <a:pt x="3940" y="65"/>
                  </a:cubicBezTo>
                  <a:cubicBezTo>
                    <a:pt x="3938" y="63"/>
                    <a:pt x="3936" y="61"/>
                    <a:pt x="3934" y="59"/>
                  </a:cubicBezTo>
                  <a:cubicBezTo>
                    <a:pt x="3936" y="61"/>
                    <a:pt x="3938" y="63"/>
                    <a:pt x="3940" y="65"/>
                  </a:cubicBezTo>
                  <a:cubicBezTo>
                    <a:pt x="3939" y="72"/>
                    <a:pt x="3938" y="80"/>
                    <a:pt x="3937" y="87"/>
                  </a:cubicBezTo>
                  <a:cubicBezTo>
                    <a:pt x="3937" y="87"/>
                    <a:pt x="3937" y="87"/>
                    <a:pt x="3937" y="87"/>
                  </a:cubicBezTo>
                  <a:cubicBezTo>
                    <a:pt x="3936" y="85"/>
                    <a:pt x="3936" y="84"/>
                    <a:pt x="3935" y="83"/>
                  </a:cubicBezTo>
                  <a:cubicBezTo>
                    <a:pt x="3936" y="82"/>
                    <a:pt x="3936" y="82"/>
                    <a:pt x="3936" y="81"/>
                  </a:cubicBezTo>
                  <a:cubicBezTo>
                    <a:pt x="3936" y="82"/>
                    <a:pt x="3936" y="82"/>
                    <a:pt x="3935" y="83"/>
                  </a:cubicBezTo>
                  <a:cubicBezTo>
                    <a:pt x="3935" y="81"/>
                    <a:pt x="3934" y="79"/>
                    <a:pt x="3933" y="77"/>
                  </a:cubicBezTo>
                  <a:cubicBezTo>
                    <a:pt x="3934" y="79"/>
                    <a:pt x="3934" y="81"/>
                    <a:pt x="3935" y="83"/>
                  </a:cubicBezTo>
                  <a:cubicBezTo>
                    <a:pt x="3934" y="85"/>
                    <a:pt x="3933" y="86"/>
                    <a:pt x="3932" y="88"/>
                  </a:cubicBezTo>
                  <a:cubicBezTo>
                    <a:pt x="3933" y="86"/>
                    <a:pt x="3934" y="85"/>
                    <a:pt x="3935" y="83"/>
                  </a:cubicBezTo>
                  <a:cubicBezTo>
                    <a:pt x="3935" y="85"/>
                    <a:pt x="3936" y="86"/>
                    <a:pt x="3936" y="88"/>
                  </a:cubicBezTo>
                  <a:cubicBezTo>
                    <a:pt x="3934" y="91"/>
                    <a:pt x="3933" y="95"/>
                    <a:pt x="3931" y="98"/>
                  </a:cubicBezTo>
                  <a:cubicBezTo>
                    <a:pt x="3931" y="97"/>
                    <a:pt x="3931" y="97"/>
                    <a:pt x="3930" y="97"/>
                  </a:cubicBezTo>
                  <a:cubicBezTo>
                    <a:pt x="3930" y="95"/>
                    <a:pt x="3930" y="94"/>
                    <a:pt x="3930" y="93"/>
                  </a:cubicBezTo>
                  <a:cubicBezTo>
                    <a:pt x="3930" y="91"/>
                    <a:pt x="3931" y="89"/>
                    <a:pt x="3932" y="88"/>
                  </a:cubicBezTo>
                  <a:cubicBezTo>
                    <a:pt x="3931" y="89"/>
                    <a:pt x="3930" y="91"/>
                    <a:pt x="3929" y="92"/>
                  </a:cubicBezTo>
                  <a:cubicBezTo>
                    <a:pt x="3929" y="92"/>
                    <a:pt x="3929" y="91"/>
                    <a:pt x="3929" y="91"/>
                  </a:cubicBezTo>
                  <a:cubicBezTo>
                    <a:pt x="3929" y="74"/>
                    <a:pt x="3928" y="60"/>
                    <a:pt x="3928" y="60"/>
                  </a:cubicBezTo>
                  <a:cubicBezTo>
                    <a:pt x="3928" y="65"/>
                    <a:pt x="3927" y="73"/>
                    <a:pt x="3927" y="81"/>
                  </a:cubicBezTo>
                  <a:cubicBezTo>
                    <a:pt x="3926" y="79"/>
                    <a:pt x="3926" y="76"/>
                    <a:pt x="3925" y="74"/>
                  </a:cubicBezTo>
                  <a:cubicBezTo>
                    <a:pt x="3926" y="79"/>
                    <a:pt x="3926" y="83"/>
                    <a:pt x="3926" y="88"/>
                  </a:cubicBezTo>
                  <a:cubicBezTo>
                    <a:pt x="3925" y="86"/>
                    <a:pt x="3924" y="84"/>
                    <a:pt x="3923" y="83"/>
                  </a:cubicBezTo>
                  <a:cubicBezTo>
                    <a:pt x="3924" y="85"/>
                    <a:pt x="3925" y="87"/>
                    <a:pt x="3926" y="89"/>
                  </a:cubicBezTo>
                  <a:cubicBezTo>
                    <a:pt x="3926" y="89"/>
                    <a:pt x="3926" y="89"/>
                    <a:pt x="3926" y="89"/>
                  </a:cubicBezTo>
                  <a:cubicBezTo>
                    <a:pt x="3926" y="93"/>
                    <a:pt x="3925" y="97"/>
                    <a:pt x="3925" y="101"/>
                  </a:cubicBezTo>
                  <a:cubicBezTo>
                    <a:pt x="3924" y="103"/>
                    <a:pt x="3923" y="104"/>
                    <a:pt x="3923" y="106"/>
                  </a:cubicBezTo>
                  <a:cubicBezTo>
                    <a:pt x="3921" y="100"/>
                    <a:pt x="3920" y="95"/>
                    <a:pt x="3918" y="90"/>
                  </a:cubicBezTo>
                  <a:cubicBezTo>
                    <a:pt x="3919" y="88"/>
                    <a:pt x="3921" y="85"/>
                    <a:pt x="3922" y="83"/>
                  </a:cubicBezTo>
                  <a:cubicBezTo>
                    <a:pt x="3921" y="85"/>
                    <a:pt x="3919" y="87"/>
                    <a:pt x="3917" y="89"/>
                  </a:cubicBezTo>
                  <a:cubicBezTo>
                    <a:pt x="3917" y="88"/>
                    <a:pt x="3916" y="87"/>
                    <a:pt x="3916" y="87"/>
                  </a:cubicBezTo>
                  <a:cubicBezTo>
                    <a:pt x="3916" y="76"/>
                    <a:pt x="3917" y="68"/>
                    <a:pt x="3917" y="68"/>
                  </a:cubicBezTo>
                  <a:cubicBezTo>
                    <a:pt x="3916" y="72"/>
                    <a:pt x="3915" y="77"/>
                    <a:pt x="3914" y="82"/>
                  </a:cubicBezTo>
                  <a:cubicBezTo>
                    <a:pt x="3914" y="81"/>
                    <a:pt x="3914" y="80"/>
                    <a:pt x="3914" y="80"/>
                  </a:cubicBezTo>
                  <a:cubicBezTo>
                    <a:pt x="3914" y="80"/>
                    <a:pt x="3914" y="81"/>
                    <a:pt x="3914" y="82"/>
                  </a:cubicBezTo>
                  <a:cubicBezTo>
                    <a:pt x="3913" y="80"/>
                    <a:pt x="3912" y="78"/>
                    <a:pt x="3910" y="75"/>
                  </a:cubicBezTo>
                  <a:cubicBezTo>
                    <a:pt x="3911" y="65"/>
                    <a:pt x="3912" y="56"/>
                    <a:pt x="3913" y="48"/>
                  </a:cubicBezTo>
                  <a:cubicBezTo>
                    <a:pt x="3912" y="55"/>
                    <a:pt x="3910" y="64"/>
                    <a:pt x="3909" y="73"/>
                  </a:cubicBezTo>
                  <a:cubicBezTo>
                    <a:pt x="3907" y="70"/>
                    <a:pt x="3905" y="67"/>
                    <a:pt x="3903" y="64"/>
                  </a:cubicBezTo>
                  <a:cubicBezTo>
                    <a:pt x="3903" y="62"/>
                    <a:pt x="3903" y="59"/>
                    <a:pt x="3903" y="57"/>
                  </a:cubicBezTo>
                  <a:cubicBezTo>
                    <a:pt x="3902" y="58"/>
                    <a:pt x="3902" y="60"/>
                    <a:pt x="3901" y="62"/>
                  </a:cubicBezTo>
                  <a:cubicBezTo>
                    <a:pt x="3899" y="59"/>
                    <a:pt x="3896" y="55"/>
                    <a:pt x="3893" y="52"/>
                  </a:cubicBezTo>
                  <a:cubicBezTo>
                    <a:pt x="3893" y="48"/>
                    <a:pt x="3893" y="46"/>
                    <a:pt x="3893" y="46"/>
                  </a:cubicBezTo>
                  <a:cubicBezTo>
                    <a:pt x="3893" y="48"/>
                    <a:pt x="3893" y="49"/>
                    <a:pt x="3892" y="51"/>
                  </a:cubicBezTo>
                  <a:cubicBezTo>
                    <a:pt x="3889" y="47"/>
                    <a:pt x="3885" y="43"/>
                    <a:pt x="3881" y="39"/>
                  </a:cubicBezTo>
                  <a:cubicBezTo>
                    <a:pt x="3881" y="37"/>
                    <a:pt x="3881" y="35"/>
                    <a:pt x="3880" y="34"/>
                  </a:cubicBezTo>
                  <a:cubicBezTo>
                    <a:pt x="3880" y="34"/>
                    <a:pt x="3881" y="36"/>
                    <a:pt x="3881" y="39"/>
                  </a:cubicBezTo>
                  <a:cubicBezTo>
                    <a:pt x="3879" y="37"/>
                    <a:pt x="3878" y="36"/>
                    <a:pt x="3876" y="34"/>
                  </a:cubicBezTo>
                  <a:cubicBezTo>
                    <a:pt x="3878" y="36"/>
                    <a:pt x="3879" y="38"/>
                    <a:pt x="3881" y="40"/>
                  </a:cubicBezTo>
                  <a:cubicBezTo>
                    <a:pt x="3881" y="40"/>
                    <a:pt x="3881" y="40"/>
                    <a:pt x="3881" y="41"/>
                  </a:cubicBezTo>
                  <a:cubicBezTo>
                    <a:pt x="3881" y="40"/>
                    <a:pt x="3881" y="40"/>
                    <a:pt x="3881" y="40"/>
                  </a:cubicBezTo>
                  <a:cubicBezTo>
                    <a:pt x="3885" y="45"/>
                    <a:pt x="3888" y="49"/>
                    <a:pt x="3892" y="53"/>
                  </a:cubicBezTo>
                  <a:cubicBezTo>
                    <a:pt x="3891" y="55"/>
                    <a:pt x="3890" y="59"/>
                    <a:pt x="3890" y="62"/>
                  </a:cubicBezTo>
                  <a:cubicBezTo>
                    <a:pt x="3887" y="60"/>
                    <a:pt x="3885" y="58"/>
                    <a:pt x="3882" y="56"/>
                  </a:cubicBezTo>
                  <a:cubicBezTo>
                    <a:pt x="3881" y="50"/>
                    <a:pt x="3881" y="44"/>
                    <a:pt x="3881" y="41"/>
                  </a:cubicBezTo>
                  <a:cubicBezTo>
                    <a:pt x="3881" y="45"/>
                    <a:pt x="3881" y="50"/>
                    <a:pt x="3880" y="55"/>
                  </a:cubicBezTo>
                  <a:cubicBezTo>
                    <a:pt x="3879" y="54"/>
                    <a:pt x="3878" y="53"/>
                    <a:pt x="3876" y="52"/>
                  </a:cubicBezTo>
                  <a:cubicBezTo>
                    <a:pt x="3878" y="53"/>
                    <a:pt x="3879" y="54"/>
                    <a:pt x="3880" y="55"/>
                  </a:cubicBezTo>
                  <a:cubicBezTo>
                    <a:pt x="3880" y="64"/>
                    <a:pt x="3879" y="73"/>
                    <a:pt x="3877" y="83"/>
                  </a:cubicBezTo>
                  <a:cubicBezTo>
                    <a:pt x="3877" y="82"/>
                    <a:pt x="3877" y="81"/>
                    <a:pt x="3877" y="81"/>
                  </a:cubicBezTo>
                  <a:cubicBezTo>
                    <a:pt x="3877" y="82"/>
                    <a:pt x="3877" y="82"/>
                    <a:pt x="3877" y="83"/>
                  </a:cubicBezTo>
                  <a:cubicBezTo>
                    <a:pt x="3876" y="88"/>
                    <a:pt x="3876" y="92"/>
                    <a:pt x="3875" y="97"/>
                  </a:cubicBezTo>
                  <a:cubicBezTo>
                    <a:pt x="3873" y="89"/>
                    <a:pt x="3871" y="81"/>
                    <a:pt x="3868" y="73"/>
                  </a:cubicBezTo>
                  <a:cubicBezTo>
                    <a:pt x="3868" y="72"/>
                    <a:pt x="3868" y="71"/>
                    <a:pt x="3868" y="71"/>
                  </a:cubicBezTo>
                  <a:cubicBezTo>
                    <a:pt x="3869" y="70"/>
                    <a:pt x="3870" y="69"/>
                    <a:pt x="3871" y="68"/>
                  </a:cubicBezTo>
                  <a:cubicBezTo>
                    <a:pt x="3873" y="72"/>
                    <a:pt x="3875" y="76"/>
                    <a:pt x="3877" y="81"/>
                  </a:cubicBezTo>
                  <a:cubicBezTo>
                    <a:pt x="3875" y="76"/>
                    <a:pt x="3873" y="72"/>
                    <a:pt x="3871" y="67"/>
                  </a:cubicBezTo>
                  <a:cubicBezTo>
                    <a:pt x="3872" y="67"/>
                    <a:pt x="3872" y="66"/>
                    <a:pt x="3873" y="65"/>
                  </a:cubicBezTo>
                  <a:cubicBezTo>
                    <a:pt x="3872" y="66"/>
                    <a:pt x="3872" y="66"/>
                    <a:pt x="3871" y="67"/>
                  </a:cubicBezTo>
                  <a:cubicBezTo>
                    <a:pt x="3865" y="54"/>
                    <a:pt x="3855" y="41"/>
                    <a:pt x="3843" y="25"/>
                  </a:cubicBezTo>
                  <a:cubicBezTo>
                    <a:pt x="3855" y="42"/>
                    <a:pt x="3864" y="55"/>
                    <a:pt x="3870" y="68"/>
                  </a:cubicBezTo>
                  <a:cubicBezTo>
                    <a:pt x="3870" y="68"/>
                    <a:pt x="3869" y="69"/>
                    <a:pt x="3868" y="70"/>
                  </a:cubicBezTo>
                  <a:cubicBezTo>
                    <a:pt x="3868" y="68"/>
                    <a:pt x="3868" y="66"/>
                    <a:pt x="3868" y="66"/>
                  </a:cubicBezTo>
                  <a:cubicBezTo>
                    <a:pt x="3868" y="68"/>
                    <a:pt x="3868" y="69"/>
                    <a:pt x="3867" y="71"/>
                  </a:cubicBezTo>
                  <a:cubicBezTo>
                    <a:pt x="3867" y="71"/>
                    <a:pt x="3867" y="71"/>
                    <a:pt x="3867" y="71"/>
                  </a:cubicBezTo>
                  <a:cubicBezTo>
                    <a:pt x="3863" y="61"/>
                    <a:pt x="3856" y="52"/>
                    <a:pt x="3847" y="42"/>
                  </a:cubicBezTo>
                  <a:cubicBezTo>
                    <a:pt x="3854" y="55"/>
                    <a:pt x="3859" y="65"/>
                    <a:pt x="3863" y="75"/>
                  </a:cubicBezTo>
                  <a:cubicBezTo>
                    <a:pt x="3862" y="76"/>
                    <a:pt x="3861" y="77"/>
                    <a:pt x="3860" y="77"/>
                  </a:cubicBezTo>
                  <a:cubicBezTo>
                    <a:pt x="3858" y="73"/>
                    <a:pt x="3856" y="70"/>
                    <a:pt x="3854" y="68"/>
                  </a:cubicBezTo>
                  <a:cubicBezTo>
                    <a:pt x="3853" y="63"/>
                    <a:pt x="3853" y="60"/>
                    <a:pt x="3853" y="60"/>
                  </a:cubicBezTo>
                  <a:cubicBezTo>
                    <a:pt x="3853" y="62"/>
                    <a:pt x="3853" y="64"/>
                    <a:pt x="3853" y="67"/>
                  </a:cubicBezTo>
                  <a:cubicBezTo>
                    <a:pt x="3847" y="57"/>
                    <a:pt x="3839" y="47"/>
                    <a:pt x="3828" y="38"/>
                  </a:cubicBezTo>
                  <a:cubicBezTo>
                    <a:pt x="3838" y="49"/>
                    <a:pt x="3846" y="60"/>
                    <a:pt x="3852" y="71"/>
                  </a:cubicBezTo>
                  <a:cubicBezTo>
                    <a:pt x="3852" y="75"/>
                    <a:pt x="3852" y="80"/>
                    <a:pt x="3851" y="85"/>
                  </a:cubicBezTo>
                  <a:cubicBezTo>
                    <a:pt x="3851" y="84"/>
                    <a:pt x="3851" y="83"/>
                    <a:pt x="3850" y="83"/>
                  </a:cubicBezTo>
                  <a:cubicBezTo>
                    <a:pt x="3850" y="84"/>
                    <a:pt x="3851" y="85"/>
                    <a:pt x="3851" y="86"/>
                  </a:cubicBezTo>
                  <a:cubicBezTo>
                    <a:pt x="3851" y="87"/>
                    <a:pt x="3851" y="88"/>
                    <a:pt x="3851" y="89"/>
                  </a:cubicBezTo>
                  <a:cubicBezTo>
                    <a:pt x="3849" y="92"/>
                    <a:pt x="3848" y="94"/>
                    <a:pt x="3846" y="97"/>
                  </a:cubicBezTo>
                  <a:cubicBezTo>
                    <a:pt x="3846" y="93"/>
                    <a:pt x="3846" y="90"/>
                    <a:pt x="3846" y="87"/>
                  </a:cubicBezTo>
                  <a:cubicBezTo>
                    <a:pt x="3847" y="84"/>
                    <a:pt x="3848" y="82"/>
                    <a:pt x="3848" y="80"/>
                  </a:cubicBezTo>
                  <a:cubicBezTo>
                    <a:pt x="3849" y="81"/>
                    <a:pt x="3849" y="82"/>
                    <a:pt x="3850" y="83"/>
                  </a:cubicBezTo>
                  <a:cubicBezTo>
                    <a:pt x="3849" y="81"/>
                    <a:pt x="3849" y="80"/>
                    <a:pt x="3848" y="79"/>
                  </a:cubicBezTo>
                  <a:cubicBezTo>
                    <a:pt x="3849" y="79"/>
                    <a:pt x="3849" y="78"/>
                    <a:pt x="3849" y="77"/>
                  </a:cubicBezTo>
                  <a:cubicBezTo>
                    <a:pt x="3849" y="77"/>
                    <a:pt x="3848" y="78"/>
                    <a:pt x="3848" y="79"/>
                  </a:cubicBezTo>
                  <a:cubicBezTo>
                    <a:pt x="3847" y="77"/>
                    <a:pt x="3847" y="76"/>
                    <a:pt x="3846" y="75"/>
                  </a:cubicBezTo>
                  <a:cubicBezTo>
                    <a:pt x="3847" y="77"/>
                    <a:pt x="3847" y="78"/>
                    <a:pt x="3848" y="79"/>
                  </a:cubicBezTo>
                  <a:cubicBezTo>
                    <a:pt x="3847" y="80"/>
                    <a:pt x="3846" y="81"/>
                    <a:pt x="3846" y="82"/>
                  </a:cubicBezTo>
                  <a:cubicBezTo>
                    <a:pt x="3846" y="73"/>
                    <a:pt x="3846" y="68"/>
                    <a:pt x="3846" y="68"/>
                  </a:cubicBezTo>
                  <a:cubicBezTo>
                    <a:pt x="3845" y="72"/>
                    <a:pt x="3845" y="78"/>
                    <a:pt x="3844" y="85"/>
                  </a:cubicBezTo>
                  <a:cubicBezTo>
                    <a:pt x="3841" y="90"/>
                    <a:pt x="3839" y="94"/>
                    <a:pt x="3838" y="99"/>
                  </a:cubicBezTo>
                  <a:cubicBezTo>
                    <a:pt x="3837" y="98"/>
                    <a:pt x="3837" y="97"/>
                    <a:pt x="3837" y="96"/>
                  </a:cubicBezTo>
                  <a:cubicBezTo>
                    <a:pt x="3837" y="92"/>
                    <a:pt x="3838" y="89"/>
                    <a:pt x="3838" y="89"/>
                  </a:cubicBezTo>
                  <a:cubicBezTo>
                    <a:pt x="3838" y="91"/>
                    <a:pt x="3837" y="92"/>
                    <a:pt x="3837" y="94"/>
                  </a:cubicBezTo>
                  <a:cubicBezTo>
                    <a:pt x="3836" y="91"/>
                    <a:pt x="3835" y="88"/>
                    <a:pt x="3835" y="85"/>
                  </a:cubicBezTo>
                  <a:cubicBezTo>
                    <a:pt x="3834" y="88"/>
                    <a:pt x="3834" y="91"/>
                    <a:pt x="3834" y="94"/>
                  </a:cubicBezTo>
                  <a:cubicBezTo>
                    <a:pt x="3834" y="97"/>
                    <a:pt x="3834" y="100"/>
                    <a:pt x="3834" y="103"/>
                  </a:cubicBezTo>
                  <a:cubicBezTo>
                    <a:pt x="3833" y="107"/>
                    <a:pt x="3831" y="112"/>
                    <a:pt x="3830" y="116"/>
                  </a:cubicBezTo>
                  <a:cubicBezTo>
                    <a:pt x="3828" y="112"/>
                    <a:pt x="3827" y="108"/>
                    <a:pt x="3826" y="104"/>
                  </a:cubicBezTo>
                  <a:cubicBezTo>
                    <a:pt x="3827" y="109"/>
                    <a:pt x="3828" y="115"/>
                    <a:pt x="3828" y="120"/>
                  </a:cubicBezTo>
                  <a:cubicBezTo>
                    <a:pt x="3827" y="124"/>
                    <a:pt x="3825" y="127"/>
                    <a:pt x="3824" y="130"/>
                  </a:cubicBezTo>
                  <a:cubicBezTo>
                    <a:pt x="3823" y="128"/>
                    <a:pt x="3822" y="126"/>
                    <a:pt x="3822" y="123"/>
                  </a:cubicBezTo>
                  <a:cubicBezTo>
                    <a:pt x="3823" y="115"/>
                    <a:pt x="3825" y="106"/>
                    <a:pt x="3827" y="98"/>
                  </a:cubicBezTo>
                  <a:cubicBezTo>
                    <a:pt x="3828" y="98"/>
                    <a:pt x="3828" y="97"/>
                    <a:pt x="3828" y="96"/>
                  </a:cubicBezTo>
                  <a:cubicBezTo>
                    <a:pt x="3828" y="96"/>
                    <a:pt x="3828" y="97"/>
                    <a:pt x="3827" y="97"/>
                  </a:cubicBezTo>
                  <a:cubicBezTo>
                    <a:pt x="3830" y="86"/>
                    <a:pt x="3833" y="76"/>
                    <a:pt x="3833" y="76"/>
                  </a:cubicBezTo>
                  <a:cubicBezTo>
                    <a:pt x="3828" y="83"/>
                    <a:pt x="3822" y="96"/>
                    <a:pt x="3818" y="109"/>
                  </a:cubicBezTo>
                  <a:cubicBezTo>
                    <a:pt x="3818" y="107"/>
                    <a:pt x="3817" y="106"/>
                    <a:pt x="3817" y="104"/>
                  </a:cubicBezTo>
                  <a:cubicBezTo>
                    <a:pt x="3819" y="97"/>
                    <a:pt x="3822" y="90"/>
                    <a:pt x="3825" y="84"/>
                  </a:cubicBezTo>
                  <a:cubicBezTo>
                    <a:pt x="3822" y="90"/>
                    <a:pt x="3819" y="96"/>
                    <a:pt x="3817" y="102"/>
                  </a:cubicBezTo>
                  <a:cubicBezTo>
                    <a:pt x="3816" y="102"/>
                    <a:pt x="3816" y="101"/>
                    <a:pt x="3816" y="101"/>
                  </a:cubicBezTo>
                  <a:cubicBezTo>
                    <a:pt x="3818" y="77"/>
                    <a:pt x="3814" y="62"/>
                    <a:pt x="3814" y="62"/>
                  </a:cubicBezTo>
                  <a:cubicBezTo>
                    <a:pt x="3815" y="69"/>
                    <a:pt x="3815" y="80"/>
                    <a:pt x="3813" y="91"/>
                  </a:cubicBezTo>
                  <a:cubicBezTo>
                    <a:pt x="3813" y="89"/>
                    <a:pt x="3813" y="88"/>
                    <a:pt x="3812" y="87"/>
                  </a:cubicBezTo>
                  <a:cubicBezTo>
                    <a:pt x="3812" y="88"/>
                    <a:pt x="3812" y="88"/>
                    <a:pt x="3812" y="88"/>
                  </a:cubicBezTo>
                  <a:cubicBezTo>
                    <a:pt x="3812" y="90"/>
                    <a:pt x="3812" y="93"/>
                    <a:pt x="3813" y="96"/>
                  </a:cubicBezTo>
                  <a:cubicBezTo>
                    <a:pt x="3812" y="101"/>
                    <a:pt x="3812" y="105"/>
                    <a:pt x="3811" y="110"/>
                  </a:cubicBezTo>
                  <a:cubicBezTo>
                    <a:pt x="3810" y="109"/>
                    <a:pt x="3810" y="107"/>
                    <a:pt x="3809" y="106"/>
                  </a:cubicBezTo>
                  <a:cubicBezTo>
                    <a:pt x="3810" y="103"/>
                    <a:pt x="3810" y="99"/>
                    <a:pt x="3811" y="96"/>
                  </a:cubicBezTo>
                  <a:cubicBezTo>
                    <a:pt x="3810" y="98"/>
                    <a:pt x="3809" y="100"/>
                    <a:pt x="3808" y="103"/>
                  </a:cubicBezTo>
                  <a:cubicBezTo>
                    <a:pt x="3807" y="101"/>
                    <a:pt x="3806" y="99"/>
                    <a:pt x="3806" y="98"/>
                  </a:cubicBezTo>
                  <a:cubicBezTo>
                    <a:pt x="3806" y="89"/>
                    <a:pt x="3807" y="82"/>
                    <a:pt x="3807" y="82"/>
                  </a:cubicBezTo>
                  <a:cubicBezTo>
                    <a:pt x="3805" y="97"/>
                    <a:pt x="3805" y="97"/>
                    <a:pt x="3805" y="97"/>
                  </a:cubicBezTo>
                  <a:cubicBezTo>
                    <a:pt x="3804" y="94"/>
                    <a:pt x="3803" y="92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89"/>
                    <a:pt x="3802" y="89"/>
                    <a:pt x="3801" y="88"/>
                  </a:cubicBezTo>
                  <a:cubicBezTo>
                    <a:pt x="3801" y="83"/>
                    <a:pt x="3801" y="78"/>
                    <a:pt x="3801" y="73"/>
                  </a:cubicBezTo>
                  <a:cubicBezTo>
                    <a:pt x="3804" y="70"/>
                    <a:pt x="3807" y="66"/>
                    <a:pt x="3810" y="63"/>
                  </a:cubicBezTo>
                  <a:cubicBezTo>
                    <a:pt x="3807" y="66"/>
                    <a:pt x="3804" y="69"/>
                    <a:pt x="3801" y="71"/>
                  </a:cubicBezTo>
                  <a:cubicBezTo>
                    <a:pt x="3801" y="65"/>
                    <a:pt x="3800" y="60"/>
                    <a:pt x="3800" y="60"/>
                  </a:cubicBezTo>
                  <a:cubicBezTo>
                    <a:pt x="3800" y="64"/>
                    <a:pt x="3800" y="68"/>
                    <a:pt x="3800" y="72"/>
                  </a:cubicBezTo>
                  <a:cubicBezTo>
                    <a:pt x="3798" y="74"/>
                    <a:pt x="3797" y="75"/>
                    <a:pt x="3796" y="77"/>
                  </a:cubicBezTo>
                  <a:cubicBezTo>
                    <a:pt x="3795" y="70"/>
                    <a:pt x="3795" y="64"/>
                    <a:pt x="3795" y="64"/>
                  </a:cubicBezTo>
                  <a:cubicBezTo>
                    <a:pt x="3795" y="66"/>
                    <a:pt x="3795" y="71"/>
                    <a:pt x="3794" y="78"/>
                  </a:cubicBezTo>
                  <a:cubicBezTo>
                    <a:pt x="3791" y="81"/>
                    <a:pt x="3789" y="85"/>
                    <a:pt x="3787" y="88"/>
                  </a:cubicBezTo>
                  <a:cubicBezTo>
                    <a:pt x="3787" y="64"/>
                    <a:pt x="3786" y="42"/>
                    <a:pt x="3786" y="42"/>
                  </a:cubicBezTo>
                  <a:cubicBezTo>
                    <a:pt x="3787" y="55"/>
                    <a:pt x="3784" y="77"/>
                    <a:pt x="3782" y="96"/>
                  </a:cubicBezTo>
                  <a:cubicBezTo>
                    <a:pt x="3780" y="100"/>
                    <a:pt x="3778" y="104"/>
                    <a:pt x="3777" y="107"/>
                  </a:cubicBezTo>
                  <a:cubicBezTo>
                    <a:pt x="3776" y="107"/>
                    <a:pt x="3776" y="106"/>
                    <a:pt x="3776" y="106"/>
                  </a:cubicBezTo>
                  <a:cubicBezTo>
                    <a:pt x="3777" y="87"/>
                    <a:pt x="3780" y="70"/>
                    <a:pt x="3780" y="70"/>
                  </a:cubicBezTo>
                  <a:cubicBezTo>
                    <a:pt x="3778" y="74"/>
                    <a:pt x="3775" y="98"/>
                    <a:pt x="3773" y="117"/>
                  </a:cubicBezTo>
                  <a:cubicBezTo>
                    <a:pt x="3773" y="118"/>
                    <a:pt x="3773" y="119"/>
                    <a:pt x="3773" y="120"/>
                  </a:cubicBezTo>
                  <a:cubicBezTo>
                    <a:pt x="3773" y="119"/>
                    <a:pt x="3773" y="119"/>
                    <a:pt x="3773" y="118"/>
                  </a:cubicBezTo>
                  <a:cubicBezTo>
                    <a:pt x="3773" y="119"/>
                    <a:pt x="3773" y="119"/>
                    <a:pt x="3773" y="120"/>
                  </a:cubicBezTo>
                  <a:cubicBezTo>
                    <a:pt x="3772" y="121"/>
                    <a:pt x="3772" y="121"/>
                    <a:pt x="3772" y="122"/>
                  </a:cubicBezTo>
                  <a:cubicBezTo>
                    <a:pt x="3772" y="115"/>
                    <a:pt x="3772" y="108"/>
                    <a:pt x="3772" y="101"/>
                  </a:cubicBezTo>
                  <a:cubicBezTo>
                    <a:pt x="3772" y="101"/>
                    <a:pt x="3772" y="100"/>
                    <a:pt x="3772" y="100"/>
                  </a:cubicBezTo>
                  <a:cubicBezTo>
                    <a:pt x="3772" y="100"/>
                    <a:pt x="3772" y="101"/>
                    <a:pt x="3772" y="101"/>
                  </a:cubicBezTo>
                  <a:cubicBezTo>
                    <a:pt x="3772" y="98"/>
                    <a:pt x="3772" y="94"/>
                    <a:pt x="3771" y="91"/>
                  </a:cubicBezTo>
                  <a:cubicBezTo>
                    <a:pt x="3773" y="88"/>
                    <a:pt x="3775" y="85"/>
                    <a:pt x="3777" y="83"/>
                  </a:cubicBezTo>
                  <a:cubicBezTo>
                    <a:pt x="3775" y="85"/>
                    <a:pt x="3773" y="87"/>
                    <a:pt x="3771" y="90"/>
                  </a:cubicBezTo>
                  <a:cubicBezTo>
                    <a:pt x="3771" y="79"/>
                    <a:pt x="3770" y="69"/>
                    <a:pt x="3770" y="61"/>
                  </a:cubicBezTo>
                  <a:cubicBezTo>
                    <a:pt x="3769" y="73"/>
                    <a:pt x="3767" y="87"/>
                    <a:pt x="3765" y="100"/>
                  </a:cubicBezTo>
                  <a:cubicBezTo>
                    <a:pt x="3761" y="107"/>
                    <a:pt x="3758" y="115"/>
                    <a:pt x="3756" y="123"/>
                  </a:cubicBezTo>
                  <a:cubicBezTo>
                    <a:pt x="3757" y="109"/>
                    <a:pt x="3758" y="92"/>
                    <a:pt x="3759" y="80"/>
                  </a:cubicBezTo>
                  <a:cubicBezTo>
                    <a:pt x="3761" y="73"/>
                    <a:pt x="3762" y="67"/>
                    <a:pt x="3762" y="61"/>
                  </a:cubicBezTo>
                  <a:cubicBezTo>
                    <a:pt x="3762" y="60"/>
                    <a:pt x="3762" y="60"/>
                    <a:pt x="3762" y="60"/>
                  </a:cubicBezTo>
                  <a:cubicBezTo>
                    <a:pt x="3753" y="75"/>
                    <a:pt x="3749" y="88"/>
                    <a:pt x="3747" y="102"/>
                  </a:cubicBezTo>
                  <a:cubicBezTo>
                    <a:pt x="3747" y="102"/>
                    <a:pt x="3747" y="101"/>
                    <a:pt x="3747" y="101"/>
                  </a:cubicBezTo>
                  <a:cubicBezTo>
                    <a:pt x="3748" y="68"/>
                    <a:pt x="3751" y="30"/>
                    <a:pt x="3751" y="30"/>
                  </a:cubicBezTo>
                  <a:cubicBezTo>
                    <a:pt x="3748" y="38"/>
                    <a:pt x="3746" y="60"/>
                    <a:pt x="3743" y="83"/>
                  </a:cubicBezTo>
                  <a:cubicBezTo>
                    <a:pt x="3741" y="87"/>
                    <a:pt x="3738" y="92"/>
                    <a:pt x="3736" y="97"/>
                  </a:cubicBezTo>
                  <a:cubicBezTo>
                    <a:pt x="3736" y="91"/>
                    <a:pt x="3735" y="85"/>
                    <a:pt x="3735" y="79"/>
                  </a:cubicBezTo>
                  <a:cubicBezTo>
                    <a:pt x="3735" y="78"/>
                    <a:pt x="3735" y="78"/>
                    <a:pt x="3736" y="78"/>
                  </a:cubicBezTo>
                  <a:cubicBezTo>
                    <a:pt x="3735" y="78"/>
                    <a:pt x="3735" y="78"/>
                    <a:pt x="3735" y="78"/>
                  </a:cubicBezTo>
                  <a:cubicBezTo>
                    <a:pt x="3733" y="58"/>
                    <a:pt x="3732" y="41"/>
                    <a:pt x="3732" y="41"/>
                  </a:cubicBezTo>
                  <a:cubicBezTo>
                    <a:pt x="3733" y="52"/>
                    <a:pt x="3733" y="67"/>
                    <a:pt x="3732" y="82"/>
                  </a:cubicBezTo>
                  <a:cubicBezTo>
                    <a:pt x="3730" y="84"/>
                    <a:pt x="3728" y="87"/>
                    <a:pt x="3726" y="92"/>
                  </a:cubicBezTo>
                  <a:cubicBezTo>
                    <a:pt x="3725" y="82"/>
                    <a:pt x="3726" y="72"/>
                    <a:pt x="3726" y="68"/>
                  </a:cubicBezTo>
                  <a:cubicBezTo>
                    <a:pt x="3725" y="77"/>
                    <a:pt x="3724" y="88"/>
                    <a:pt x="3722" y="99"/>
                  </a:cubicBezTo>
                  <a:cubicBezTo>
                    <a:pt x="3720" y="94"/>
                    <a:pt x="3719" y="89"/>
                    <a:pt x="3717" y="84"/>
                  </a:cubicBezTo>
                  <a:cubicBezTo>
                    <a:pt x="3719" y="90"/>
                    <a:pt x="3720" y="96"/>
                    <a:pt x="3721" y="101"/>
                  </a:cubicBezTo>
                  <a:cubicBezTo>
                    <a:pt x="3721" y="105"/>
                    <a:pt x="3720" y="109"/>
                    <a:pt x="3719" y="113"/>
                  </a:cubicBezTo>
                  <a:cubicBezTo>
                    <a:pt x="3719" y="110"/>
                    <a:pt x="3719" y="108"/>
                    <a:pt x="3719" y="105"/>
                  </a:cubicBezTo>
                  <a:cubicBezTo>
                    <a:pt x="3718" y="108"/>
                    <a:pt x="3718" y="115"/>
                    <a:pt x="3718" y="119"/>
                  </a:cubicBezTo>
                  <a:cubicBezTo>
                    <a:pt x="3717" y="120"/>
                    <a:pt x="3717" y="122"/>
                    <a:pt x="3717" y="124"/>
                  </a:cubicBezTo>
                  <a:cubicBezTo>
                    <a:pt x="3716" y="125"/>
                    <a:pt x="3716" y="127"/>
                    <a:pt x="3716" y="128"/>
                  </a:cubicBezTo>
                  <a:cubicBezTo>
                    <a:pt x="3715" y="124"/>
                    <a:pt x="3714" y="120"/>
                    <a:pt x="3713" y="116"/>
                  </a:cubicBezTo>
                  <a:cubicBezTo>
                    <a:pt x="3714" y="108"/>
                    <a:pt x="3714" y="100"/>
                    <a:pt x="3715" y="94"/>
                  </a:cubicBezTo>
                  <a:cubicBezTo>
                    <a:pt x="3716" y="92"/>
                    <a:pt x="3716" y="91"/>
                    <a:pt x="3717" y="89"/>
                  </a:cubicBezTo>
                  <a:cubicBezTo>
                    <a:pt x="3716" y="90"/>
                    <a:pt x="3716" y="91"/>
                    <a:pt x="3715" y="92"/>
                  </a:cubicBezTo>
                  <a:cubicBezTo>
                    <a:pt x="3716" y="87"/>
                    <a:pt x="3716" y="83"/>
                    <a:pt x="3716" y="83"/>
                  </a:cubicBezTo>
                  <a:cubicBezTo>
                    <a:pt x="3716" y="85"/>
                    <a:pt x="3715" y="89"/>
                    <a:pt x="3714" y="93"/>
                  </a:cubicBezTo>
                  <a:cubicBezTo>
                    <a:pt x="3713" y="96"/>
                    <a:pt x="3711" y="99"/>
                    <a:pt x="3710" y="102"/>
                  </a:cubicBezTo>
                  <a:cubicBezTo>
                    <a:pt x="3709" y="101"/>
                    <a:pt x="3709" y="100"/>
                    <a:pt x="3709" y="99"/>
                  </a:cubicBezTo>
                  <a:cubicBezTo>
                    <a:pt x="3711" y="80"/>
                    <a:pt x="3713" y="62"/>
                    <a:pt x="3713" y="62"/>
                  </a:cubicBezTo>
                  <a:cubicBezTo>
                    <a:pt x="3711" y="66"/>
                    <a:pt x="3709" y="80"/>
                    <a:pt x="3707" y="95"/>
                  </a:cubicBezTo>
                  <a:cubicBezTo>
                    <a:pt x="3707" y="94"/>
                    <a:pt x="3706" y="92"/>
                    <a:pt x="3705" y="90"/>
                  </a:cubicBezTo>
                  <a:cubicBezTo>
                    <a:pt x="3706" y="92"/>
                    <a:pt x="3707" y="94"/>
                    <a:pt x="3707" y="96"/>
                  </a:cubicBezTo>
                  <a:cubicBezTo>
                    <a:pt x="3707" y="101"/>
                    <a:pt x="3706" y="106"/>
                    <a:pt x="3706" y="110"/>
                  </a:cubicBezTo>
                  <a:cubicBezTo>
                    <a:pt x="3705" y="113"/>
                    <a:pt x="3704" y="116"/>
                    <a:pt x="3703" y="118"/>
                  </a:cubicBezTo>
                  <a:cubicBezTo>
                    <a:pt x="3701" y="94"/>
                    <a:pt x="3696" y="64"/>
                    <a:pt x="3696" y="64"/>
                  </a:cubicBezTo>
                  <a:cubicBezTo>
                    <a:pt x="3696" y="64"/>
                    <a:pt x="3696" y="73"/>
                    <a:pt x="3697" y="82"/>
                  </a:cubicBezTo>
                  <a:cubicBezTo>
                    <a:pt x="3698" y="88"/>
                    <a:pt x="3697" y="98"/>
                    <a:pt x="3695" y="108"/>
                  </a:cubicBezTo>
                  <a:cubicBezTo>
                    <a:pt x="3694" y="111"/>
                    <a:pt x="3693" y="114"/>
                    <a:pt x="3692" y="117"/>
                  </a:cubicBezTo>
                  <a:cubicBezTo>
                    <a:pt x="3692" y="108"/>
                    <a:pt x="3691" y="99"/>
                    <a:pt x="3689" y="90"/>
                  </a:cubicBezTo>
                  <a:cubicBezTo>
                    <a:pt x="3692" y="78"/>
                    <a:pt x="3697" y="66"/>
                    <a:pt x="3696" y="56"/>
                  </a:cubicBezTo>
                  <a:cubicBezTo>
                    <a:pt x="3693" y="62"/>
                    <a:pt x="3690" y="67"/>
                    <a:pt x="3688" y="72"/>
                  </a:cubicBezTo>
                  <a:cubicBezTo>
                    <a:pt x="3691" y="34"/>
                    <a:pt x="3684" y="19"/>
                    <a:pt x="3684" y="19"/>
                  </a:cubicBezTo>
                  <a:cubicBezTo>
                    <a:pt x="3684" y="19"/>
                    <a:pt x="3687" y="31"/>
                    <a:pt x="3686" y="54"/>
                  </a:cubicBezTo>
                  <a:cubicBezTo>
                    <a:pt x="3685" y="61"/>
                    <a:pt x="3684" y="74"/>
                    <a:pt x="3682" y="88"/>
                  </a:cubicBezTo>
                  <a:cubicBezTo>
                    <a:pt x="3681" y="92"/>
                    <a:pt x="3680" y="97"/>
                    <a:pt x="3680" y="101"/>
                  </a:cubicBezTo>
                  <a:cubicBezTo>
                    <a:pt x="3679" y="98"/>
                    <a:pt x="3678" y="95"/>
                    <a:pt x="3676" y="91"/>
                  </a:cubicBezTo>
                  <a:cubicBezTo>
                    <a:pt x="3677" y="89"/>
                    <a:pt x="3677" y="87"/>
                    <a:pt x="3678" y="85"/>
                  </a:cubicBezTo>
                  <a:cubicBezTo>
                    <a:pt x="3677" y="87"/>
                    <a:pt x="3677" y="88"/>
                    <a:pt x="3676" y="90"/>
                  </a:cubicBezTo>
                  <a:cubicBezTo>
                    <a:pt x="3676" y="89"/>
                    <a:pt x="3675" y="88"/>
                    <a:pt x="3675" y="87"/>
                  </a:cubicBezTo>
                  <a:cubicBezTo>
                    <a:pt x="3675" y="83"/>
                    <a:pt x="3675" y="78"/>
                    <a:pt x="3675" y="74"/>
                  </a:cubicBezTo>
                  <a:cubicBezTo>
                    <a:pt x="3675" y="46"/>
                    <a:pt x="3665" y="40"/>
                    <a:pt x="3665" y="40"/>
                  </a:cubicBezTo>
                  <a:cubicBezTo>
                    <a:pt x="3665" y="40"/>
                    <a:pt x="3671" y="44"/>
                    <a:pt x="3671" y="70"/>
                  </a:cubicBezTo>
                  <a:cubicBezTo>
                    <a:pt x="3671" y="84"/>
                    <a:pt x="3666" y="108"/>
                    <a:pt x="3661" y="125"/>
                  </a:cubicBezTo>
                  <a:cubicBezTo>
                    <a:pt x="3661" y="123"/>
                    <a:pt x="3661" y="120"/>
                    <a:pt x="3660" y="118"/>
                  </a:cubicBezTo>
                  <a:cubicBezTo>
                    <a:pt x="3661" y="111"/>
                    <a:pt x="3662" y="105"/>
                    <a:pt x="3662" y="98"/>
                  </a:cubicBezTo>
                  <a:cubicBezTo>
                    <a:pt x="3661" y="101"/>
                    <a:pt x="3660" y="104"/>
                    <a:pt x="3660" y="107"/>
                  </a:cubicBezTo>
                  <a:cubicBezTo>
                    <a:pt x="3660" y="107"/>
                    <a:pt x="3660" y="106"/>
                    <a:pt x="3660" y="106"/>
                  </a:cubicBezTo>
                  <a:cubicBezTo>
                    <a:pt x="3660" y="97"/>
                    <a:pt x="3661" y="83"/>
                    <a:pt x="3667" y="75"/>
                  </a:cubicBezTo>
                  <a:cubicBezTo>
                    <a:pt x="3664" y="77"/>
                    <a:pt x="3661" y="82"/>
                    <a:pt x="3659" y="87"/>
                  </a:cubicBezTo>
                  <a:cubicBezTo>
                    <a:pt x="3660" y="78"/>
                    <a:pt x="3660" y="71"/>
                    <a:pt x="3660" y="71"/>
                  </a:cubicBezTo>
                  <a:cubicBezTo>
                    <a:pt x="3659" y="75"/>
                    <a:pt x="3656" y="97"/>
                    <a:pt x="3652" y="116"/>
                  </a:cubicBezTo>
                  <a:cubicBezTo>
                    <a:pt x="3652" y="114"/>
                    <a:pt x="3652" y="112"/>
                    <a:pt x="3651" y="110"/>
                  </a:cubicBezTo>
                  <a:cubicBezTo>
                    <a:pt x="3652" y="99"/>
                    <a:pt x="3653" y="87"/>
                    <a:pt x="3654" y="78"/>
                  </a:cubicBezTo>
                  <a:cubicBezTo>
                    <a:pt x="3656" y="71"/>
                    <a:pt x="3658" y="63"/>
                    <a:pt x="3660" y="55"/>
                  </a:cubicBezTo>
                  <a:cubicBezTo>
                    <a:pt x="3660" y="54"/>
                    <a:pt x="3660" y="52"/>
                    <a:pt x="3660" y="51"/>
                  </a:cubicBezTo>
                  <a:cubicBezTo>
                    <a:pt x="3658" y="54"/>
                    <a:pt x="3657" y="57"/>
                    <a:pt x="3656" y="60"/>
                  </a:cubicBezTo>
                  <a:cubicBezTo>
                    <a:pt x="3656" y="60"/>
                    <a:pt x="3656" y="59"/>
                    <a:pt x="3656" y="59"/>
                  </a:cubicBezTo>
                  <a:cubicBezTo>
                    <a:pt x="3656" y="60"/>
                    <a:pt x="3656" y="60"/>
                    <a:pt x="3656" y="60"/>
                  </a:cubicBezTo>
                  <a:cubicBezTo>
                    <a:pt x="3652" y="70"/>
                    <a:pt x="3649" y="80"/>
                    <a:pt x="3646" y="89"/>
                  </a:cubicBezTo>
                  <a:cubicBezTo>
                    <a:pt x="3652" y="30"/>
                    <a:pt x="3649" y="15"/>
                    <a:pt x="3648" y="13"/>
                  </a:cubicBezTo>
                  <a:cubicBezTo>
                    <a:pt x="3648" y="15"/>
                    <a:pt x="3649" y="22"/>
                    <a:pt x="3645" y="56"/>
                  </a:cubicBezTo>
                  <a:cubicBezTo>
                    <a:pt x="3643" y="68"/>
                    <a:pt x="3642" y="80"/>
                    <a:pt x="3640" y="91"/>
                  </a:cubicBezTo>
                  <a:cubicBezTo>
                    <a:pt x="3639" y="85"/>
                    <a:pt x="3637" y="79"/>
                    <a:pt x="3635" y="74"/>
                  </a:cubicBezTo>
                  <a:cubicBezTo>
                    <a:pt x="3636" y="51"/>
                    <a:pt x="3637" y="31"/>
                    <a:pt x="3637" y="31"/>
                  </a:cubicBezTo>
                  <a:cubicBezTo>
                    <a:pt x="3635" y="38"/>
                    <a:pt x="3633" y="53"/>
                    <a:pt x="3632" y="69"/>
                  </a:cubicBezTo>
                  <a:cubicBezTo>
                    <a:pt x="3631" y="68"/>
                    <a:pt x="3630" y="67"/>
                    <a:pt x="3629" y="65"/>
                  </a:cubicBezTo>
                  <a:cubicBezTo>
                    <a:pt x="3630" y="67"/>
                    <a:pt x="3631" y="69"/>
                    <a:pt x="3632" y="71"/>
                  </a:cubicBezTo>
                  <a:cubicBezTo>
                    <a:pt x="3632" y="71"/>
                    <a:pt x="3632" y="72"/>
                    <a:pt x="3632" y="73"/>
                  </a:cubicBezTo>
                  <a:cubicBezTo>
                    <a:pt x="3629" y="77"/>
                    <a:pt x="3626" y="81"/>
                    <a:pt x="3624" y="86"/>
                  </a:cubicBezTo>
                  <a:cubicBezTo>
                    <a:pt x="3623" y="85"/>
                    <a:pt x="3623" y="84"/>
                    <a:pt x="3622" y="83"/>
                  </a:cubicBezTo>
                  <a:cubicBezTo>
                    <a:pt x="3619" y="61"/>
                    <a:pt x="3617" y="38"/>
                    <a:pt x="3614" y="28"/>
                  </a:cubicBezTo>
                  <a:cubicBezTo>
                    <a:pt x="3614" y="28"/>
                    <a:pt x="3617" y="54"/>
                    <a:pt x="3621" y="83"/>
                  </a:cubicBezTo>
                  <a:cubicBezTo>
                    <a:pt x="3620" y="82"/>
                    <a:pt x="3619" y="81"/>
                    <a:pt x="3618" y="80"/>
                  </a:cubicBezTo>
                  <a:cubicBezTo>
                    <a:pt x="3620" y="81"/>
                    <a:pt x="3621" y="82"/>
                    <a:pt x="3622" y="84"/>
                  </a:cubicBezTo>
                  <a:cubicBezTo>
                    <a:pt x="3622" y="85"/>
                    <a:pt x="3622" y="86"/>
                    <a:pt x="3622" y="88"/>
                  </a:cubicBezTo>
                  <a:cubicBezTo>
                    <a:pt x="3622" y="86"/>
                    <a:pt x="3622" y="85"/>
                    <a:pt x="3622" y="84"/>
                  </a:cubicBezTo>
                  <a:cubicBezTo>
                    <a:pt x="3622" y="85"/>
                    <a:pt x="3623" y="86"/>
                    <a:pt x="3624" y="87"/>
                  </a:cubicBezTo>
                  <a:cubicBezTo>
                    <a:pt x="3623" y="88"/>
                    <a:pt x="3623" y="89"/>
                    <a:pt x="3622" y="90"/>
                  </a:cubicBezTo>
                  <a:cubicBezTo>
                    <a:pt x="3622" y="89"/>
                    <a:pt x="3622" y="88"/>
                    <a:pt x="3622" y="88"/>
                  </a:cubicBezTo>
                  <a:cubicBezTo>
                    <a:pt x="3622" y="88"/>
                    <a:pt x="3622" y="89"/>
                    <a:pt x="3622" y="90"/>
                  </a:cubicBezTo>
                  <a:cubicBezTo>
                    <a:pt x="3620" y="95"/>
                    <a:pt x="3619" y="100"/>
                    <a:pt x="3617" y="105"/>
                  </a:cubicBezTo>
                  <a:cubicBezTo>
                    <a:pt x="3617" y="105"/>
                    <a:pt x="3617" y="105"/>
                    <a:pt x="3617" y="105"/>
                  </a:cubicBezTo>
                  <a:cubicBezTo>
                    <a:pt x="3617" y="104"/>
                    <a:pt x="3617" y="104"/>
                    <a:pt x="3617" y="103"/>
                  </a:cubicBezTo>
                  <a:cubicBezTo>
                    <a:pt x="3617" y="104"/>
                    <a:pt x="3617" y="104"/>
                    <a:pt x="3617" y="105"/>
                  </a:cubicBezTo>
                  <a:cubicBezTo>
                    <a:pt x="3614" y="95"/>
                    <a:pt x="3612" y="87"/>
                    <a:pt x="3610" y="81"/>
                  </a:cubicBezTo>
                  <a:cubicBezTo>
                    <a:pt x="3611" y="85"/>
                    <a:pt x="3612" y="90"/>
                    <a:pt x="3613" y="95"/>
                  </a:cubicBezTo>
                  <a:cubicBezTo>
                    <a:pt x="3613" y="100"/>
                    <a:pt x="3612" y="104"/>
                    <a:pt x="3611" y="109"/>
                  </a:cubicBezTo>
                  <a:cubicBezTo>
                    <a:pt x="3612" y="104"/>
                    <a:pt x="3613" y="100"/>
                    <a:pt x="3613" y="95"/>
                  </a:cubicBezTo>
                  <a:cubicBezTo>
                    <a:pt x="3614" y="100"/>
                    <a:pt x="3615" y="105"/>
                    <a:pt x="3616" y="110"/>
                  </a:cubicBezTo>
                  <a:cubicBezTo>
                    <a:pt x="3616" y="110"/>
                    <a:pt x="3616" y="111"/>
                    <a:pt x="3616" y="111"/>
                  </a:cubicBezTo>
                  <a:cubicBezTo>
                    <a:pt x="3615" y="116"/>
                    <a:pt x="3613" y="122"/>
                    <a:pt x="3610" y="127"/>
                  </a:cubicBezTo>
                  <a:cubicBezTo>
                    <a:pt x="3610" y="125"/>
                    <a:pt x="3609" y="123"/>
                    <a:pt x="3609" y="120"/>
                  </a:cubicBezTo>
                  <a:cubicBezTo>
                    <a:pt x="3610" y="117"/>
                    <a:pt x="3611" y="113"/>
                    <a:pt x="3611" y="109"/>
                  </a:cubicBezTo>
                  <a:cubicBezTo>
                    <a:pt x="3611" y="112"/>
                    <a:pt x="3610" y="116"/>
                    <a:pt x="3609" y="119"/>
                  </a:cubicBezTo>
                  <a:cubicBezTo>
                    <a:pt x="3607" y="111"/>
                    <a:pt x="3605" y="103"/>
                    <a:pt x="3605" y="95"/>
                  </a:cubicBezTo>
                  <a:cubicBezTo>
                    <a:pt x="3605" y="96"/>
                    <a:pt x="3605" y="96"/>
                    <a:pt x="3605" y="96"/>
                  </a:cubicBezTo>
                  <a:cubicBezTo>
                    <a:pt x="3605" y="98"/>
                    <a:pt x="3605" y="98"/>
                    <a:pt x="3605" y="98"/>
                  </a:cubicBezTo>
                  <a:cubicBezTo>
                    <a:pt x="3605" y="97"/>
                    <a:pt x="3605" y="96"/>
                    <a:pt x="3605" y="95"/>
                  </a:cubicBezTo>
                  <a:cubicBezTo>
                    <a:pt x="3605" y="84"/>
                    <a:pt x="3603" y="69"/>
                    <a:pt x="3597" y="60"/>
                  </a:cubicBezTo>
                  <a:cubicBezTo>
                    <a:pt x="3601" y="70"/>
                    <a:pt x="3603" y="82"/>
                    <a:pt x="3603" y="93"/>
                  </a:cubicBezTo>
                  <a:cubicBezTo>
                    <a:pt x="3603" y="101"/>
                    <a:pt x="3601" y="109"/>
                    <a:pt x="3599" y="116"/>
                  </a:cubicBezTo>
                  <a:cubicBezTo>
                    <a:pt x="3597" y="115"/>
                    <a:pt x="3597" y="117"/>
                    <a:pt x="3598" y="120"/>
                  </a:cubicBezTo>
                  <a:cubicBezTo>
                    <a:pt x="3598" y="121"/>
                    <a:pt x="3597" y="121"/>
                    <a:pt x="3597" y="122"/>
                  </a:cubicBezTo>
                  <a:cubicBezTo>
                    <a:pt x="3596" y="119"/>
                    <a:pt x="3595" y="115"/>
                    <a:pt x="3594" y="112"/>
                  </a:cubicBezTo>
                  <a:cubicBezTo>
                    <a:pt x="3595" y="107"/>
                    <a:pt x="3595" y="103"/>
                    <a:pt x="3595" y="98"/>
                  </a:cubicBezTo>
                  <a:cubicBezTo>
                    <a:pt x="3595" y="90"/>
                    <a:pt x="3594" y="82"/>
                    <a:pt x="3592" y="74"/>
                  </a:cubicBezTo>
                  <a:cubicBezTo>
                    <a:pt x="3591" y="83"/>
                    <a:pt x="3591" y="93"/>
                    <a:pt x="3591" y="102"/>
                  </a:cubicBezTo>
                  <a:cubicBezTo>
                    <a:pt x="3588" y="94"/>
                    <a:pt x="3585" y="86"/>
                    <a:pt x="3583" y="81"/>
                  </a:cubicBezTo>
                  <a:cubicBezTo>
                    <a:pt x="3583" y="86"/>
                    <a:pt x="3583" y="86"/>
                    <a:pt x="3583" y="86"/>
                  </a:cubicBezTo>
                  <a:cubicBezTo>
                    <a:pt x="3583" y="97"/>
                    <a:pt x="3586" y="108"/>
                    <a:pt x="3590" y="118"/>
                  </a:cubicBezTo>
                  <a:cubicBezTo>
                    <a:pt x="3589" y="119"/>
                    <a:pt x="3589" y="120"/>
                    <a:pt x="3589" y="121"/>
                  </a:cubicBezTo>
                  <a:cubicBezTo>
                    <a:pt x="3589" y="123"/>
                    <a:pt x="3588" y="126"/>
                    <a:pt x="3587" y="128"/>
                  </a:cubicBezTo>
                  <a:cubicBezTo>
                    <a:pt x="3584" y="121"/>
                    <a:pt x="3582" y="113"/>
                    <a:pt x="3580" y="106"/>
                  </a:cubicBezTo>
                  <a:cubicBezTo>
                    <a:pt x="3580" y="101"/>
                    <a:pt x="3579" y="96"/>
                    <a:pt x="3578" y="92"/>
                  </a:cubicBezTo>
                  <a:cubicBezTo>
                    <a:pt x="3578" y="91"/>
                    <a:pt x="3578" y="90"/>
                    <a:pt x="3578" y="89"/>
                  </a:cubicBezTo>
                  <a:cubicBezTo>
                    <a:pt x="3578" y="90"/>
                    <a:pt x="3578" y="90"/>
                    <a:pt x="3578" y="91"/>
                  </a:cubicBezTo>
                  <a:cubicBezTo>
                    <a:pt x="3577" y="85"/>
                    <a:pt x="3575" y="79"/>
                    <a:pt x="3572" y="73"/>
                  </a:cubicBezTo>
                  <a:cubicBezTo>
                    <a:pt x="3572" y="72"/>
                    <a:pt x="3572" y="72"/>
                    <a:pt x="3572" y="71"/>
                  </a:cubicBezTo>
                  <a:cubicBezTo>
                    <a:pt x="3572" y="71"/>
                    <a:pt x="3571" y="72"/>
                    <a:pt x="3571" y="73"/>
                  </a:cubicBezTo>
                  <a:cubicBezTo>
                    <a:pt x="3571" y="72"/>
                    <a:pt x="3571" y="71"/>
                    <a:pt x="3570" y="71"/>
                  </a:cubicBezTo>
                  <a:cubicBezTo>
                    <a:pt x="3570" y="72"/>
                    <a:pt x="3571" y="73"/>
                    <a:pt x="3571" y="73"/>
                  </a:cubicBezTo>
                  <a:cubicBezTo>
                    <a:pt x="3568" y="79"/>
                    <a:pt x="3566" y="85"/>
                    <a:pt x="3564" y="91"/>
                  </a:cubicBezTo>
                  <a:cubicBezTo>
                    <a:pt x="3564" y="90"/>
                    <a:pt x="3564" y="90"/>
                    <a:pt x="3564" y="89"/>
                  </a:cubicBezTo>
                  <a:cubicBezTo>
                    <a:pt x="3564" y="90"/>
                    <a:pt x="3564" y="91"/>
                    <a:pt x="3564" y="92"/>
                  </a:cubicBezTo>
                  <a:cubicBezTo>
                    <a:pt x="3563" y="96"/>
                    <a:pt x="3563" y="101"/>
                    <a:pt x="3562" y="106"/>
                  </a:cubicBezTo>
                  <a:cubicBezTo>
                    <a:pt x="3561" y="113"/>
                    <a:pt x="3558" y="121"/>
                    <a:pt x="3555" y="128"/>
                  </a:cubicBezTo>
                  <a:cubicBezTo>
                    <a:pt x="3554" y="126"/>
                    <a:pt x="3554" y="123"/>
                    <a:pt x="3553" y="121"/>
                  </a:cubicBezTo>
                  <a:cubicBezTo>
                    <a:pt x="3553" y="120"/>
                    <a:pt x="3553" y="119"/>
                    <a:pt x="3553" y="118"/>
                  </a:cubicBezTo>
                  <a:cubicBezTo>
                    <a:pt x="3556" y="108"/>
                    <a:pt x="3559" y="97"/>
                    <a:pt x="3559" y="86"/>
                  </a:cubicBezTo>
                  <a:cubicBezTo>
                    <a:pt x="3559" y="81"/>
                    <a:pt x="3559" y="81"/>
                    <a:pt x="3559" y="81"/>
                  </a:cubicBezTo>
                  <a:cubicBezTo>
                    <a:pt x="3557" y="86"/>
                    <a:pt x="3554" y="94"/>
                    <a:pt x="3551" y="102"/>
                  </a:cubicBezTo>
                  <a:cubicBezTo>
                    <a:pt x="3551" y="93"/>
                    <a:pt x="3551" y="83"/>
                    <a:pt x="3550" y="74"/>
                  </a:cubicBezTo>
                  <a:cubicBezTo>
                    <a:pt x="3548" y="82"/>
                    <a:pt x="3547" y="90"/>
                    <a:pt x="3547" y="98"/>
                  </a:cubicBezTo>
                  <a:cubicBezTo>
                    <a:pt x="3547" y="103"/>
                    <a:pt x="3548" y="107"/>
                    <a:pt x="3548" y="112"/>
                  </a:cubicBezTo>
                  <a:cubicBezTo>
                    <a:pt x="3547" y="115"/>
                    <a:pt x="3546" y="119"/>
                    <a:pt x="3545" y="122"/>
                  </a:cubicBezTo>
                  <a:cubicBezTo>
                    <a:pt x="3542" y="112"/>
                    <a:pt x="3539" y="103"/>
                    <a:pt x="3539" y="93"/>
                  </a:cubicBezTo>
                  <a:cubicBezTo>
                    <a:pt x="3539" y="82"/>
                    <a:pt x="3541" y="70"/>
                    <a:pt x="3545" y="60"/>
                  </a:cubicBezTo>
                  <a:cubicBezTo>
                    <a:pt x="3540" y="69"/>
                    <a:pt x="3538" y="84"/>
                    <a:pt x="3538" y="95"/>
                  </a:cubicBezTo>
                  <a:cubicBezTo>
                    <a:pt x="3538" y="96"/>
                    <a:pt x="3538" y="97"/>
                    <a:pt x="3538" y="98"/>
                  </a:cubicBezTo>
                  <a:cubicBezTo>
                    <a:pt x="3537" y="96"/>
                    <a:pt x="3537" y="96"/>
                    <a:pt x="3537" y="96"/>
                  </a:cubicBezTo>
                  <a:cubicBezTo>
                    <a:pt x="3537" y="95"/>
                    <a:pt x="3537" y="95"/>
                    <a:pt x="3537" y="95"/>
                  </a:cubicBezTo>
                  <a:cubicBezTo>
                    <a:pt x="3537" y="103"/>
                    <a:pt x="3536" y="111"/>
                    <a:pt x="3534" y="119"/>
                  </a:cubicBezTo>
                  <a:cubicBezTo>
                    <a:pt x="3533" y="116"/>
                    <a:pt x="3532" y="112"/>
                    <a:pt x="3531" y="109"/>
                  </a:cubicBezTo>
                  <a:cubicBezTo>
                    <a:pt x="3532" y="113"/>
                    <a:pt x="3533" y="117"/>
                    <a:pt x="3533" y="120"/>
                  </a:cubicBezTo>
                  <a:cubicBezTo>
                    <a:pt x="3533" y="123"/>
                    <a:pt x="3532" y="125"/>
                    <a:pt x="3532" y="127"/>
                  </a:cubicBezTo>
                  <a:cubicBezTo>
                    <a:pt x="3530" y="122"/>
                    <a:pt x="3528" y="116"/>
                    <a:pt x="3526" y="111"/>
                  </a:cubicBezTo>
                  <a:cubicBezTo>
                    <a:pt x="3526" y="109"/>
                    <a:pt x="3526" y="108"/>
                    <a:pt x="3525" y="107"/>
                  </a:cubicBezTo>
                  <a:cubicBezTo>
                    <a:pt x="3525" y="106"/>
                    <a:pt x="3525" y="104"/>
                    <a:pt x="3525" y="103"/>
                  </a:cubicBezTo>
                  <a:cubicBezTo>
                    <a:pt x="3525" y="104"/>
                    <a:pt x="3525" y="105"/>
                    <a:pt x="3525" y="105"/>
                  </a:cubicBezTo>
                  <a:cubicBezTo>
                    <a:pt x="3524" y="99"/>
                    <a:pt x="3522" y="93"/>
                    <a:pt x="3519" y="87"/>
                  </a:cubicBezTo>
                  <a:cubicBezTo>
                    <a:pt x="3520" y="84"/>
                    <a:pt x="3522" y="82"/>
                    <a:pt x="3524" y="80"/>
                  </a:cubicBezTo>
                  <a:cubicBezTo>
                    <a:pt x="3522" y="82"/>
                    <a:pt x="3520" y="84"/>
                    <a:pt x="3518" y="86"/>
                  </a:cubicBezTo>
                  <a:cubicBezTo>
                    <a:pt x="3516" y="81"/>
                    <a:pt x="3513" y="77"/>
                    <a:pt x="3510" y="73"/>
                  </a:cubicBezTo>
                  <a:cubicBezTo>
                    <a:pt x="3513" y="77"/>
                    <a:pt x="3515" y="83"/>
                    <a:pt x="3516" y="90"/>
                  </a:cubicBezTo>
                  <a:cubicBezTo>
                    <a:pt x="3514" y="94"/>
                    <a:pt x="3512" y="99"/>
                    <a:pt x="3512" y="103"/>
                  </a:cubicBezTo>
                  <a:cubicBezTo>
                    <a:pt x="3510" y="97"/>
                    <a:pt x="3508" y="91"/>
                    <a:pt x="3506" y="85"/>
                  </a:cubicBezTo>
                  <a:cubicBezTo>
                    <a:pt x="3508" y="91"/>
                    <a:pt x="3508" y="97"/>
                    <a:pt x="3508" y="103"/>
                  </a:cubicBezTo>
                  <a:cubicBezTo>
                    <a:pt x="3508" y="108"/>
                    <a:pt x="3507" y="114"/>
                    <a:pt x="3507" y="119"/>
                  </a:cubicBezTo>
                  <a:cubicBezTo>
                    <a:pt x="3505" y="111"/>
                    <a:pt x="3504" y="104"/>
                    <a:pt x="3504" y="96"/>
                  </a:cubicBezTo>
                  <a:cubicBezTo>
                    <a:pt x="3504" y="87"/>
                    <a:pt x="3508" y="73"/>
                    <a:pt x="3513" y="65"/>
                  </a:cubicBezTo>
                  <a:cubicBezTo>
                    <a:pt x="3504" y="76"/>
                    <a:pt x="3500" y="96"/>
                    <a:pt x="3500" y="108"/>
                  </a:cubicBezTo>
                  <a:cubicBezTo>
                    <a:pt x="3500" y="119"/>
                    <a:pt x="3503" y="130"/>
                    <a:pt x="3503" y="141"/>
                  </a:cubicBezTo>
                  <a:cubicBezTo>
                    <a:pt x="3503" y="146"/>
                    <a:pt x="3503" y="150"/>
                    <a:pt x="3502" y="154"/>
                  </a:cubicBezTo>
                  <a:cubicBezTo>
                    <a:pt x="3496" y="135"/>
                    <a:pt x="3501" y="113"/>
                    <a:pt x="3497" y="93"/>
                  </a:cubicBezTo>
                  <a:cubicBezTo>
                    <a:pt x="3494" y="79"/>
                    <a:pt x="3489" y="64"/>
                    <a:pt x="3483" y="51"/>
                  </a:cubicBezTo>
                  <a:cubicBezTo>
                    <a:pt x="3482" y="52"/>
                    <a:pt x="3482" y="54"/>
                    <a:pt x="3482" y="55"/>
                  </a:cubicBezTo>
                  <a:cubicBezTo>
                    <a:pt x="3489" y="76"/>
                    <a:pt x="3491" y="92"/>
                    <a:pt x="3492" y="105"/>
                  </a:cubicBezTo>
                  <a:cubicBezTo>
                    <a:pt x="3491" y="109"/>
                    <a:pt x="3490" y="114"/>
                    <a:pt x="3490" y="118"/>
                  </a:cubicBezTo>
                  <a:cubicBezTo>
                    <a:pt x="3488" y="101"/>
                    <a:pt x="3484" y="82"/>
                    <a:pt x="3475" y="75"/>
                  </a:cubicBezTo>
                  <a:cubicBezTo>
                    <a:pt x="3481" y="83"/>
                    <a:pt x="3483" y="97"/>
                    <a:pt x="3483" y="106"/>
                  </a:cubicBezTo>
                  <a:cubicBezTo>
                    <a:pt x="3483" y="106"/>
                    <a:pt x="3483" y="107"/>
                    <a:pt x="3483" y="107"/>
                  </a:cubicBezTo>
                  <a:cubicBezTo>
                    <a:pt x="3482" y="104"/>
                    <a:pt x="3481" y="101"/>
                    <a:pt x="3481" y="98"/>
                  </a:cubicBezTo>
                  <a:cubicBezTo>
                    <a:pt x="3481" y="105"/>
                    <a:pt x="3481" y="111"/>
                    <a:pt x="3482" y="118"/>
                  </a:cubicBezTo>
                  <a:cubicBezTo>
                    <a:pt x="3482" y="122"/>
                    <a:pt x="3481" y="126"/>
                    <a:pt x="3480" y="130"/>
                  </a:cubicBezTo>
                  <a:cubicBezTo>
                    <a:pt x="3479" y="124"/>
                    <a:pt x="3477" y="118"/>
                    <a:pt x="3476" y="113"/>
                  </a:cubicBezTo>
                  <a:cubicBezTo>
                    <a:pt x="3477" y="121"/>
                    <a:pt x="3479" y="128"/>
                    <a:pt x="3479" y="136"/>
                  </a:cubicBezTo>
                  <a:cubicBezTo>
                    <a:pt x="3478" y="140"/>
                    <a:pt x="3477" y="144"/>
                    <a:pt x="3477" y="148"/>
                  </a:cubicBezTo>
                  <a:cubicBezTo>
                    <a:pt x="3477" y="147"/>
                    <a:pt x="3476" y="147"/>
                    <a:pt x="3476" y="146"/>
                  </a:cubicBezTo>
                  <a:cubicBezTo>
                    <a:pt x="3477" y="129"/>
                    <a:pt x="3474" y="106"/>
                    <a:pt x="3467" y="91"/>
                  </a:cubicBezTo>
                  <a:cubicBezTo>
                    <a:pt x="3468" y="88"/>
                    <a:pt x="3468" y="85"/>
                    <a:pt x="3470" y="83"/>
                  </a:cubicBezTo>
                  <a:cubicBezTo>
                    <a:pt x="3468" y="85"/>
                    <a:pt x="3467" y="88"/>
                    <a:pt x="3466" y="90"/>
                  </a:cubicBezTo>
                  <a:cubicBezTo>
                    <a:pt x="3466" y="88"/>
                    <a:pt x="3465" y="87"/>
                    <a:pt x="3464" y="85"/>
                  </a:cubicBezTo>
                  <a:cubicBezTo>
                    <a:pt x="3465" y="87"/>
                    <a:pt x="3466" y="89"/>
                    <a:pt x="3466" y="91"/>
                  </a:cubicBezTo>
                  <a:cubicBezTo>
                    <a:pt x="3465" y="95"/>
                    <a:pt x="3464" y="98"/>
                    <a:pt x="3463" y="101"/>
                  </a:cubicBezTo>
                  <a:cubicBezTo>
                    <a:pt x="3461" y="94"/>
                    <a:pt x="3460" y="87"/>
                    <a:pt x="3457" y="79"/>
                  </a:cubicBezTo>
                  <a:cubicBezTo>
                    <a:pt x="3457" y="78"/>
                    <a:pt x="3457" y="76"/>
                    <a:pt x="3457" y="75"/>
                  </a:cubicBezTo>
                  <a:cubicBezTo>
                    <a:pt x="3457" y="76"/>
                    <a:pt x="3457" y="77"/>
                    <a:pt x="3456" y="78"/>
                  </a:cubicBezTo>
                  <a:cubicBezTo>
                    <a:pt x="3454" y="71"/>
                    <a:pt x="3450" y="64"/>
                    <a:pt x="3446" y="56"/>
                  </a:cubicBezTo>
                  <a:cubicBezTo>
                    <a:pt x="3446" y="66"/>
                    <a:pt x="3450" y="78"/>
                    <a:pt x="3453" y="90"/>
                  </a:cubicBezTo>
                  <a:cubicBezTo>
                    <a:pt x="3451" y="99"/>
                    <a:pt x="3451" y="108"/>
                    <a:pt x="3450" y="117"/>
                  </a:cubicBezTo>
                  <a:cubicBezTo>
                    <a:pt x="3449" y="112"/>
                    <a:pt x="3447" y="107"/>
                    <a:pt x="3446" y="103"/>
                  </a:cubicBezTo>
                  <a:cubicBezTo>
                    <a:pt x="3448" y="109"/>
                    <a:pt x="3446" y="132"/>
                    <a:pt x="3446" y="140"/>
                  </a:cubicBezTo>
                  <a:cubicBezTo>
                    <a:pt x="3446" y="144"/>
                    <a:pt x="3446" y="147"/>
                    <a:pt x="3446" y="151"/>
                  </a:cubicBezTo>
                  <a:cubicBezTo>
                    <a:pt x="3446" y="151"/>
                    <a:pt x="3446" y="151"/>
                    <a:pt x="3446" y="151"/>
                  </a:cubicBezTo>
                  <a:cubicBezTo>
                    <a:pt x="3446" y="144"/>
                    <a:pt x="3445" y="137"/>
                    <a:pt x="3443" y="129"/>
                  </a:cubicBezTo>
                  <a:cubicBezTo>
                    <a:pt x="3441" y="119"/>
                    <a:pt x="3440" y="110"/>
                    <a:pt x="3441" y="100"/>
                  </a:cubicBezTo>
                  <a:cubicBezTo>
                    <a:pt x="3440" y="107"/>
                    <a:pt x="3440" y="113"/>
                    <a:pt x="3440" y="119"/>
                  </a:cubicBezTo>
                  <a:cubicBezTo>
                    <a:pt x="3438" y="114"/>
                    <a:pt x="3436" y="108"/>
                    <a:pt x="3434" y="103"/>
                  </a:cubicBezTo>
                  <a:cubicBezTo>
                    <a:pt x="3434" y="99"/>
                    <a:pt x="3435" y="95"/>
                    <a:pt x="3437" y="90"/>
                  </a:cubicBezTo>
                  <a:cubicBezTo>
                    <a:pt x="3435" y="94"/>
                    <a:pt x="3434" y="98"/>
                    <a:pt x="3433" y="102"/>
                  </a:cubicBezTo>
                  <a:cubicBezTo>
                    <a:pt x="3430" y="97"/>
                    <a:pt x="3428" y="93"/>
                    <a:pt x="3425" y="89"/>
                  </a:cubicBezTo>
                  <a:cubicBezTo>
                    <a:pt x="3428" y="93"/>
                    <a:pt x="3428" y="99"/>
                    <a:pt x="3428" y="103"/>
                  </a:cubicBezTo>
                  <a:cubicBezTo>
                    <a:pt x="3428" y="104"/>
                    <a:pt x="3429" y="109"/>
                    <a:pt x="3429" y="115"/>
                  </a:cubicBezTo>
                  <a:cubicBezTo>
                    <a:pt x="3428" y="120"/>
                    <a:pt x="3427" y="124"/>
                    <a:pt x="3427" y="129"/>
                  </a:cubicBezTo>
                  <a:cubicBezTo>
                    <a:pt x="3426" y="125"/>
                    <a:pt x="3425" y="122"/>
                    <a:pt x="3425" y="119"/>
                  </a:cubicBezTo>
                  <a:cubicBezTo>
                    <a:pt x="3425" y="115"/>
                    <a:pt x="3425" y="108"/>
                    <a:pt x="3424" y="105"/>
                  </a:cubicBezTo>
                  <a:cubicBezTo>
                    <a:pt x="3423" y="108"/>
                    <a:pt x="3423" y="110"/>
                    <a:pt x="3423" y="113"/>
                  </a:cubicBezTo>
                  <a:cubicBezTo>
                    <a:pt x="3422" y="109"/>
                    <a:pt x="3421" y="106"/>
                    <a:pt x="3421" y="103"/>
                  </a:cubicBezTo>
                  <a:cubicBezTo>
                    <a:pt x="3422" y="97"/>
                    <a:pt x="3423" y="90"/>
                    <a:pt x="3426" y="84"/>
                  </a:cubicBezTo>
                  <a:cubicBezTo>
                    <a:pt x="3423" y="90"/>
                    <a:pt x="3421" y="95"/>
                    <a:pt x="3420" y="101"/>
                  </a:cubicBezTo>
                  <a:cubicBezTo>
                    <a:pt x="3415" y="86"/>
                    <a:pt x="3412" y="83"/>
                    <a:pt x="3407" y="78"/>
                  </a:cubicBezTo>
                  <a:cubicBezTo>
                    <a:pt x="3414" y="84"/>
                    <a:pt x="3417" y="97"/>
                    <a:pt x="3418" y="107"/>
                  </a:cubicBezTo>
                  <a:cubicBezTo>
                    <a:pt x="3417" y="114"/>
                    <a:pt x="3415" y="120"/>
                    <a:pt x="3414" y="126"/>
                  </a:cubicBezTo>
                  <a:cubicBezTo>
                    <a:pt x="3413" y="121"/>
                    <a:pt x="3412" y="115"/>
                    <a:pt x="3410" y="109"/>
                  </a:cubicBezTo>
                  <a:cubicBezTo>
                    <a:pt x="3411" y="106"/>
                    <a:pt x="3411" y="103"/>
                    <a:pt x="3412" y="100"/>
                  </a:cubicBezTo>
                  <a:cubicBezTo>
                    <a:pt x="3411" y="102"/>
                    <a:pt x="3411" y="104"/>
                    <a:pt x="3410" y="108"/>
                  </a:cubicBezTo>
                  <a:cubicBezTo>
                    <a:pt x="3409" y="106"/>
                    <a:pt x="3408" y="103"/>
                    <a:pt x="3408" y="101"/>
                  </a:cubicBezTo>
                  <a:cubicBezTo>
                    <a:pt x="3408" y="100"/>
                    <a:pt x="3408" y="99"/>
                    <a:pt x="3409" y="98"/>
                  </a:cubicBezTo>
                  <a:cubicBezTo>
                    <a:pt x="3408" y="99"/>
                    <a:pt x="3408" y="100"/>
                    <a:pt x="3408" y="101"/>
                  </a:cubicBezTo>
                  <a:cubicBezTo>
                    <a:pt x="3405" y="94"/>
                    <a:pt x="3402" y="87"/>
                    <a:pt x="3398" y="81"/>
                  </a:cubicBezTo>
                  <a:cubicBezTo>
                    <a:pt x="3402" y="88"/>
                    <a:pt x="3403" y="99"/>
                    <a:pt x="3403" y="106"/>
                  </a:cubicBezTo>
                  <a:cubicBezTo>
                    <a:pt x="3403" y="111"/>
                    <a:pt x="3402" y="115"/>
                    <a:pt x="3402" y="120"/>
                  </a:cubicBezTo>
                  <a:cubicBezTo>
                    <a:pt x="3400" y="126"/>
                    <a:pt x="3398" y="133"/>
                    <a:pt x="3397" y="139"/>
                  </a:cubicBezTo>
                  <a:cubicBezTo>
                    <a:pt x="3397" y="135"/>
                    <a:pt x="3397" y="135"/>
                    <a:pt x="3397" y="135"/>
                  </a:cubicBezTo>
                  <a:cubicBezTo>
                    <a:pt x="3398" y="127"/>
                    <a:pt x="3398" y="120"/>
                    <a:pt x="3399" y="113"/>
                  </a:cubicBezTo>
                  <a:cubicBezTo>
                    <a:pt x="3398" y="117"/>
                    <a:pt x="3398" y="123"/>
                    <a:pt x="3397" y="129"/>
                  </a:cubicBezTo>
                  <a:cubicBezTo>
                    <a:pt x="3397" y="120"/>
                    <a:pt x="3397" y="111"/>
                    <a:pt x="3395" y="103"/>
                  </a:cubicBezTo>
                  <a:cubicBezTo>
                    <a:pt x="3396" y="101"/>
                    <a:pt x="3397" y="100"/>
                    <a:pt x="3397" y="99"/>
                  </a:cubicBezTo>
                  <a:cubicBezTo>
                    <a:pt x="3397" y="100"/>
                    <a:pt x="3396" y="101"/>
                    <a:pt x="3395" y="102"/>
                  </a:cubicBezTo>
                  <a:cubicBezTo>
                    <a:pt x="3393" y="88"/>
                    <a:pt x="3389" y="75"/>
                    <a:pt x="3380" y="60"/>
                  </a:cubicBezTo>
                  <a:cubicBezTo>
                    <a:pt x="3380" y="61"/>
                    <a:pt x="3380" y="61"/>
                    <a:pt x="3380" y="61"/>
                  </a:cubicBezTo>
                  <a:cubicBezTo>
                    <a:pt x="3380" y="76"/>
                    <a:pt x="3390" y="94"/>
                    <a:pt x="3390" y="111"/>
                  </a:cubicBezTo>
                  <a:cubicBezTo>
                    <a:pt x="3389" y="115"/>
                    <a:pt x="3388" y="120"/>
                    <a:pt x="3387" y="125"/>
                  </a:cubicBezTo>
                  <a:cubicBezTo>
                    <a:pt x="3383" y="109"/>
                    <a:pt x="3376" y="94"/>
                    <a:pt x="3365" y="83"/>
                  </a:cubicBezTo>
                  <a:cubicBezTo>
                    <a:pt x="3372" y="90"/>
                    <a:pt x="3376" y="101"/>
                    <a:pt x="3378" y="111"/>
                  </a:cubicBezTo>
                  <a:cubicBezTo>
                    <a:pt x="3377" y="111"/>
                    <a:pt x="3377" y="110"/>
                    <a:pt x="3377" y="109"/>
                  </a:cubicBezTo>
                  <a:cubicBezTo>
                    <a:pt x="3377" y="117"/>
                    <a:pt x="3378" y="126"/>
                    <a:pt x="3378" y="134"/>
                  </a:cubicBezTo>
                  <a:cubicBezTo>
                    <a:pt x="3378" y="136"/>
                    <a:pt x="3378" y="138"/>
                    <a:pt x="3378" y="140"/>
                  </a:cubicBezTo>
                  <a:cubicBezTo>
                    <a:pt x="3375" y="127"/>
                    <a:pt x="3374" y="113"/>
                    <a:pt x="3370" y="100"/>
                  </a:cubicBezTo>
                  <a:cubicBezTo>
                    <a:pt x="3372" y="109"/>
                    <a:pt x="3372" y="123"/>
                    <a:pt x="3372" y="135"/>
                  </a:cubicBezTo>
                  <a:cubicBezTo>
                    <a:pt x="3373" y="138"/>
                    <a:pt x="3373" y="141"/>
                    <a:pt x="3373" y="144"/>
                  </a:cubicBezTo>
                  <a:cubicBezTo>
                    <a:pt x="3373" y="143"/>
                    <a:pt x="3373" y="142"/>
                    <a:pt x="3373" y="142"/>
                  </a:cubicBezTo>
                  <a:cubicBezTo>
                    <a:pt x="3372" y="139"/>
                    <a:pt x="3372" y="137"/>
                    <a:pt x="3372" y="135"/>
                  </a:cubicBezTo>
                  <a:cubicBezTo>
                    <a:pt x="3372" y="130"/>
                    <a:pt x="3371" y="125"/>
                    <a:pt x="3370" y="120"/>
                  </a:cubicBezTo>
                  <a:cubicBezTo>
                    <a:pt x="3370" y="119"/>
                    <a:pt x="3370" y="119"/>
                    <a:pt x="3370" y="118"/>
                  </a:cubicBezTo>
                  <a:cubicBezTo>
                    <a:pt x="3370" y="119"/>
                    <a:pt x="3370" y="119"/>
                    <a:pt x="3370" y="120"/>
                  </a:cubicBezTo>
                  <a:cubicBezTo>
                    <a:pt x="3369" y="116"/>
                    <a:pt x="3367" y="112"/>
                    <a:pt x="3366" y="108"/>
                  </a:cubicBezTo>
                  <a:cubicBezTo>
                    <a:pt x="3366" y="106"/>
                    <a:pt x="3367" y="105"/>
                    <a:pt x="3368" y="103"/>
                  </a:cubicBezTo>
                  <a:cubicBezTo>
                    <a:pt x="3367" y="105"/>
                    <a:pt x="3366" y="106"/>
                    <a:pt x="3366" y="107"/>
                  </a:cubicBezTo>
                  <a:cubicBezTo>
                    <a:pt x="3359" y="91"/>
                    <a:pt x="3349" y="76"/>
                    <a:pt x="3332" y="63"/>
                  </a:cubicBezTo>
                  <a:cubicBezTo>
                    <a:pt x="3338" y="68"/>
                    <a:pt x="3342" y="74"/>
                    <a:pt x="3346" y="79"/>
                  </a:cubicBezTo>
                  <a:cubicBezTo>
                    <a:pt x="3345" y="81"/>
                    <a:pt x="3343" y="85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38" y="94"/>
                    <a:pt x="3336" y="98"/>
                    <a:pt x="3334" y="103"/>
                  </a:cubicBezTo>
                  <a:cubicBezTo>
                    <a:pt x="3333" y="100"/>
                    <a:pt x="3333" y="98"/>
                    <a:pt x="3332" y="96"/>
                  </a:cubicBezTo>
                  <a:cubicBezTo>
                    <a:pt x="3332" y="99"/>
                    <a:pt x="3333" y="103"/>
                    <a:pt x="3333" y="106"/>
                  </a:cubicBezTo>
                  <a:cubicBezTo>
                    <a:pt x="3332" y="108"/>
                    <a:pt x="3331" y="111"/>
                    <a:pt x="3330" y="113"/>
                  </a:cubicBezTo>
                  <a:cubicBezTo>
                    <a:pt x="3329" y="111"/>
                    <a:pt x="3329" y="109"/>
                    <a:pt x="3328" y="107"/>
                  </a:cubicBezTo>
                  <a:cubicBezTo>
                    <a:pt x="3329" y="100"/>
                    <a:pt x="3330" y="93"/>
                    <a:pt x="3330" y="88"/>
                  </a:cubicBezTo>
                  <a:cubicBezTo>
                    <a:pt x="3330" y="87"/>
                    <a:pt x="3330" y="87"/>
                    <a:pt x="3330" y="87"/>
                  </a:cubicBezTo>
                  <a:cubicBezTo>
                    <a:pt x="3328" y="92"/>
                    <a:pt x="3327" y="97"/>
                    <a:pt x="3326" y="102"/>
                  </a:cubicBezTo>
                  <a:cubicBezTo>
                    <a:pt x="3323" y="96"/>
                    <a:pt x="3321" y="90"/>
                    <a:pt x="3318" y="84"/>
                  </a:cubicBezTo>
                  <a:cubicBezTo>
                    <a:pt x="3321" y="90"/>
                    <a:pt x="3323" y="97"/>
                    <a:pt x="3325" y="104"/>
                  </a:cubicBezTo>
                  <a:cubicBezTo>
                    <a:pt x="3324" y="108"/>
                    <a:pt x="3324" y="111"/>
                    <a:pt x="3323" y="115"/>
                  </a:cubicBezTo>
                  <a:cubicBezTo>
                    <a:pt x="3321" y="110"/>
                    <a:pt x="3319" y="106"/>
                    <a:pt x="3317" y="102"/>
                  </a:cubicBezTo>
                  <a:cubicBezTo>
                    <a:pt x="3319" y="107"/>
                    <a:pt x="3320" y="114"/>
                    <a:pt x="3321" y="121"/>
                  </a:cubicBezTo>
                  <a:cubicBezTo>
                    <a:pt x="3320" y="126"/>
                    <a:pt x="3318" y="131"/>
                    <a:pt x="3317" y="135"/>
                  </a:cubicBezTo>
                  <a:cubicBezTo>
                    <a:pt x="3315" y="132"/>
                    <a:pt x="3314" y="129"/>
                    <a:pt x="3313" y="125"/>
                  </a:cubicBezTo>
                  <a:cubicBezTo>
                    <a:pt x="3314" y="118"/>
                    <a:pt x="3315" y="111"/>
                    <a:pt x="3316" y="104"/>
                  </a:cubicBezTo>
                  <a:cubicBezTo>
                    <a:pt x="3315" y="109"/>
                    <a:pt x="3313" y="114"/>
                    <a:pt x="3311" y="120"/>
                  </a:cubicBezTo>
                  <a:cubicBezTo>
                    <a:pt x="3310" y="115"/>
                    <a:pt x="3309" y="111"/>
                    <a:pt x="3308" y="107"/>
                  </a:cubicBezTo>
                  <a:cubicBezTo>
                    <a:pt x="3308" y="103"/>
                    <a:pt x="3309" y="98"/>
                    <a:pt x="3309" y="94"/>
                  </a:cubicBezTo>
                  <a:cubicBezTo>
                    <a:pt x="3309" y="91"/>
                    <a:pt x="3308" y="88"/>
                    <a:pt x="3308" y="85"/>
                  </a:cubicBezTo>
                  <a:cubicBezTo>
                    <a:pt x="3307" y="89"/>
                    <a:pt x="3306" y="93"/>
                    <a:pt x="3305" y="99"/>
                  </a:cubicBezTo>
                  <a:cubicBezTo>
                    <a:pt x="3302" y="91"/>
                    <a:pt x="3298" y="84"/>
                    <a:pt x="3293" y="77"/>
                  </a:cubicBezTo>
                  <a:cubicBezTo>
                    <a:pt x="3296" y="86"/>
                    <a:pt x="3300" y="95"/>
                    <a:pt x="3303" y="104"/>
                  </a:cubicBezTo>
                  <a:cubicBezTo>
                    <a:pt x="3303" y="106"/>
                    <a:pt x="3303" y="107"/>
                    <a:pt x="3303" y="109"/>
                  </a:cubicBezTo>
                  <a:cubicBezTo>
                    <a:pt x="3302" y="107"/>
                    <a:pt x="3301" y="105"/>
                    <a:pt x="3300" y="103"/>
                  </a:cubicBezTo>
                  <a:cubicBezTo>
                    <a:pt x="3300" y="103"/>
                    <a:pt x="3300" y="102"/>
                    <a:pt x="3300" y="102"/>
                  </a:cubicBezTo>
                  <a:cubicBezTo>
                    <a:pt x="3300" y="102"/>
                    <a:pt x="3300" y="103"/>
                    <a:pt x="3300" y="103"/>
                  </a:cubicBezTo>
                  <a:cubicBezTo>
                    <a:pt x="3295" y="94"/>
                    <a:pt x="3290" y="86"/>
                    <a:pt x="3283" y="79"/>
                  </a:cubicBezTo>
                  <a:cubicBezTo>
                    <a:pt x="3285" y="75"/>
                    <a:pt x="3287" y="71"/>
                    <a:pt x="3289" y="68"/>
                  </a:cubicBezTo>
                  <a:cubicBezTo>
                    <a:pt x="3287" y="69"/>
                    <a:pt x="3284" y="73"/>
                    <a:pt x="3282" y="77"/>
                  </a:cubicBezTo>
                  <a:cubicBezTo>
                    <a:pt x="3278" y="73"/>
                    <a:pt x="3274" y="69"/>
                    <a:pt x="3269" y="65"/>
                  </a:cubicBezTo>
                  <a:cubicBezTo>
                    <a:pt x="3274" y="70"/>
                    <a:pt x="3278" y="75"/>
                    <a:pt x="3281" y="79"/>
                  </a:cubicBezTo>
                  <a:cubicBezTo>
                    <a:pt x="3278" y="86"/>
                    <a:pt x="3275" y="96"/>
                    <a:pt x="3272" y="105"/>
                  </a:cubicBezTo>
                  <a:cubicBezTo>
                    <a:pt x="3269" y="99"/>
                    <a:pt x="3265" y="94"/>
                    <a:pt x="3262" y="88"/>
                  </a:cubicBezTo>
                  <a:cubicBezTo>
                    <a:pt x="3262" y="87"/>
                    <a:pt x="3262" y="86"/>
                    <a:pt x="3263" y="85"/>
                  </a:cubicBezTo>
                  <a:cubicBezTo>
                    <a:pt x="3262" y="86"/>
                    <a:pt x="3262" y="87"/>
                    <a:pt x="3262" y="88"/>
                  </a:cubicBezTo>
                  <a:cubicBezTo>
                    <a:pt x="3261" y="87"/>
                    <a:pt x="3260" y="86"/>
                    <a:pt x="3259" y="85"/>
                  </a:cubicBezTo>
                  <a:cubicBezTo>
                    <a:pt x="3260" y="86"/>
                    <a:pt x="3261" y="87"/>
                    <a:pt x="3261" y="88"/>
                  </a:cubicBezTo>
                  <a:cubicBezTo>
                    <a:pt x="3260" y="91"/>
                    <a:pt x="3259" y="93"/>
                    <a:pt x="3258" y="95"/>
                  </a:cubicBezTo>
                  <a:cubicBezTo>
                    <a:pt x="3257" y="94"/>
                    <a:pt x="3257" y="92"/>
                    <a:pt x="3256" y="91"/>
                  </a:cubicBezTo>
                  <a:cubicBezTo>
                    <a:pt x="3257" y="92"/>
                    <a:pt x="3257" y="94"/>
                    <a:pt x="3258" y="95"/>
                  </a:cubicBezTo>
                  <a:cubicBezTo>
                    <a:pt x="3254" y="103"/>
                    <a:pt x="3251" y="112"/>
                    <a:pt x="3249" y="121"/>
                  </a:cubicBezTo>
                  <a:cubicBezTo>
                    <a:pt x="3248" y="112"/>
                    <a:pt x="3247" y="103"/>
                    <a:pt x="3247" y="97"/>
                  </a:cubicBezTo>
                  <a:cubicBezTo>
                    <a:pt x="3245" y="100"/>
                    <a:pt x="3244" y="105"/>
                    <a:pt x="3243" y="110"/>
                  </a:cubicBezTo>
                  <a:cubicBezTo>
                    <a:pt x="3243" y="92"/>
                    <a:pt x="3242" y="61"/>
                    <a:pt x="3240" y="57"/>
                  </a:cubicBezTo>
                  <a:cubicBezTo>
                    <a:pt x="3239" y="79"/>
                    <a:pt x="3240" y="100"/>
                    <a:pt x="3240" y="122"/>
                  </a:cubicBezTo>
                  <a:cubicBezTo>
                    <a:pt x="3240" y="123"/>
                    <a:pt x="3240" y="124"/>
                    <a:pt x="3240" y="125"/>
                  </a:cubicBezTo>
                  <a:cubicBezTo>
                    <a:pt x="3238" y="114"/>
                    <a:pt x="3234" y="103"/>
                    <a:pt x="3229" y="94"/>
                  </a:cubicBezTo>
                  <a:cubicBezTo>
                    <a:pt x="3228" y="89"/>
                    <a:pt x="3228" y="84"/>
                    <a:pt x="3229" y="80"/>
                  </a:cubicBezTo>
                  <a:cubicBezTo>
                    <a:pt x="3228" y="83"/>
                    <a:pt x="3227" y="87"/>
                    <a:pt x="3226" y="90"/>
                  </a:cubicBezTo>
                  <a:cubicBezTo>
                    <a:pt x="3224" y="88"/>
                    <a:pt x="3222" y="85"/>
                    <a:pt x="3220" y="83"/>
                  </a:cubicBezTo>
                  <a:cubicBezTo>
                    <a:pt x="3222" y="86"/>
                    <a:pt x="3224" y="89"/>
                    <a:pt x="3226" y="92"/>
                  </a:cubicBezTo>
                  <a:cubicBezTo>
                    <a:pt x="3225" y="96"/>
                    <a:pt x="3224" y="100"/>
                    <a:pt x="3224" y="103"/>
                  </a:cubicBezTo>
                  <a:cubicBezTo>
                    <a:pt x="3223" y="102"/>
                    <a:pt x="3223" y="101"/>
                    <a:pt x="3223" y="100"/>
                  </a:cubicBezTo>
                  <a:cubicBezTo>
                    <a:pt x="3223" y="101"/>
                    <a:pt x="3223" y="102"/>
                    <a:pt x="3224" y="104"/>
                  </a:cubicBezTo>
                  <a:cubicBezTo>
                    <a:pt x="3223" y="106"/>
                    <a:pt x="3223" y="109"/>
                    <a:pt x="3222" y="111"/>
                  </a:cubicBezTo>
                  <a:cubicBezTo>
                    <a:pt x="3220" y="107"/>
                    <a:pt x="3219" y="103"/>
                    <a:pt x="3217" y="99"/>
                  </a:cubicBezTo>
                  <a:cubicBezTo>
                    <a:pt x="3216" y="91"/>
                    <a:pt x="3216" y="82"/>
                    <a:pt x="3217" y="74"/>
                  </a:cubicBezTo>
                  <a:cubicBezTo>
                    <a:pt x="3216" y="80"/>
                    <a:pt x="3214" y="86"/>
                    <a:pt x="3213" y="92"/>
                  </a:cubicBezTo>
                  <a:cubicBezTo>
                    <a:pt x="3212" y="91"/>
                    <a:pt x="3211" y="89"/>
                    <a:pt x="3210" y="88"/>
                  </a:cubicBezTo>
                  <a:cubicBezTo>
                    <a:pt x="3211" y="89"/>
                    <a:pt x="3212" y="91"/>
                    <a:pt x="3213" y="93"/>
                  </a:cubicBezTo>
                  <a:cubicBezTo>
                    <a:pt x="3212" y="95"/>
                    <a:pt x="3212" y="97"/>
                    <a:pt x="3212" y="98"/>
                  </a:cubicBezTo>
                  <a:cubicBezTo>
                    <a:pt x="3209" y="93"/>
                    <a:pt x="3207" y="88"/>
                    <a:pt x="3203" y="84"/>
                  </a:cubicBezTo>
                  <a:cubicBezTo>
                    <a:pt x="3206" y="88"/>
                    <a:pt x="3208" y="95"/>
                    <a:pt x="3211" y="103"/>
                  </a:cubicBezTo>
                  <a:cubicBezTo>
                    <a:pt x="3210" y="106"/>
                    <a:pt x="3209" y="110"/>
                    <a:pt x="3209" y="113"/>
                  </a:cubicBezTo>
                  <a:cubicBezTo>
                    <a:pt x="3206" y="108"/>
                    <a:pt x="3204" y="102"/>
                    <a:pt x="3201" y="96"/>
                  </a:cubicBezTo>
                  <a:cubicBezTo>
                    <a:pt x="3201" y="91"/>
                    <a:pt x="3202" y="86"/>
                    <a:pt x="3203" y="83"/>
                  </a:cubicBezTo>
                  <a:cubicBezTo>
                    <a:pt x="3202" y="87"/>
                    <a:pt x="3201" y="90"/>
                    <a:pt x="3199" y="93"/>
                  </a:cubicBezTo>
                  <a:cubicBezTo>
                    <a:pt x="3194" y="83"/>
                    <a:pt x="3187" y="74"/>
                    <a:pt x="3178" y="64"/>
                  </a:cubicBezTo>
                  <a:cubicBezTo>
                    <a:pt x="3187" y="74"/>
                    <a:pt x="3193" y="86"/>
                    <a:pt x="3198" y="97"/>
                  </a:cubicBezTo>
                  <a:cubicBezTo>
                    <a:pt x="3197" y="99"/>
                    <a:pt x="3197" y="101"/>
                    <a:pt x="3196" y="103"/>
                  </a:cubicBezTo>
                  <a:cubicBezTo>
                    <a:pt x="3195" y="98"/>
                    <a:pt x="3194" y="93"/>
                    <a:pt x="3192" y="88"/>
                  </a:cubicBezTo>
                  <a:cubicBezTo>
                    <a:pt x="3192" y="91"/>
                    <a:pt x="3193" y="98"/>
                    <a:pt x="3195" y="106"/>
                  </a:cubicBezTo>
                  <a:cubicBezTo>
                    <a:pt x="3195" y="108"/>
                    <a:pt x="3194" y="109"/>
                    <a:pt x="3194" y="110"/>
                  </a:cubicBezTo>
                  <a:cubicBezTo>
                    <a:pt x="3188" y="97"/>
                    <a:pt x="3181" y="83"/>
                    <a:pt x="3170" y="72"/>
                  </a:cubicBezTo>
                  <a:cubicBezTo>
                    <a:pt x="3168" y="61"/>
                    <a:pt x="3166" y="51"/>
                    <a:pt x="3164" y="41"/>
                  </a:cubicBezTo>
                  <a:cubicBezTo>
                    <a:pt x="3164" y="48"/>
                    <a:pt x="3164" y="55"/>
                    <a:pt x="3164" y="61"/>
                  </a:cubicBezTo>
                  <a:cubicBezTo>
                    <a:pt x="3164" y="63"/>
                    <a:pt x="3164" y="64"/>
                    <a:pt x="3164" y="66"/>
                  </a:cubicBezTo>
                  <a:cubicBezTo>
                    <a:pt x="3163" y="65"/>
                    <a:pt x="3163" y="65"/>
                    <a:pt x="3163" y="65"/>
                  </a:cubicBezTo>
                  <a:cubicBezTo>
                    <a:pt x="3163" y="65"/>
                    <a:pt x="3163" y="65"/>
                    <a:pt x="3164" y="66"/>
                  </a:cubicBezTo>
                  <a:cubicBezTo>
                    <a:pt x="3164" y="75"/>
                    <a:pt x="3165" y="85"/>
                    <a:pt x="3165" y="94"/>
                  </a:cubicBezTo>
                  <a:cubicBezTo>
                    <a:pt x="3163" y="88"/>
                    <a:pt x="3160" y="81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1" y="67"/>
                    <a:pt x="3144" y="59"/>
                    <a:pt x="3134" y="50"/>
                  </a:cubicBezTo>
                  <a:cubicBezTo>
                    <a:pt x="3137" y="54"/>
                    <a:pt x="3139" y="58"/>
                    <a:pt x="3141" y="61"/>
                  </a:cubicBezTo>
                  <a:cubicBezTo>
                    <a:pt x="3140" y="64"/>
                    <a:pt x="3140" y="68"/>
                    <a:pt x="3139" y="73"/>
                  </a:cubicBezTo>
                  <a:cubicBezTo>
                    <a:pt x="3137" y="70"/>
                    <a:pt x="3134" y="67"/>
                    <a:pt x="3132" y="65"/>
                  </a:cubicBezTo>
                  <a:cubicBezTo>
                    <a:pt x="3132" y="64"/>
                    <a:pt x="3132" y="64"/>
                    <a:pt x="3132" y="64"/>
                  </a:cubicBezTo>
                  <a:cubicBezTo>
                    <a:pt x="3132" y="64"/>
                    <a:pt x="3132" y="64"/>
                    <a:pt x="3131" y="64"/>
                  </a:cubicBezTo>
                  <a:cubicBezTo>
                    <a:pt x="3130" y="62"/>
                    <a:pt x="3128" y="61"/>
                    <a:pt x="3126" y="59"/>
                  </a:cubicBezTo>
                  <a:cubicBezTo>
                    <a:pt x="3128" y="61"/>
                    <a:pt x="3129" y="63"/>
                    <a:pt x="3131" y="65"/>
                  </a:cubicBezTo>
                  <a:cubicBezTo>
                    <a:pt x="3130" y="67"/>
                    <a:pt x="3128" y="69"/>
                    <a:pt x="3127" y="72"/>
                  </a:cubicBezTo>
                  <a:cubicBezTo>
                    <a:pt x="3126" y="66"/>
                    <a:pt x="3126" y="61"/>
                    <a:pt x="3125" y="56"/>
                  </a:cubicBezTo>
                  <a:cubicBezTo>
                    <a:pt x="3126" y="54"/>
                    <a:pt x="3127" y="53"/>
                    <a:pt x="3128" y="51"/>
                  </a:cubicBezTo>
                  <a:cubicBezTo>
                    <a:pt x="3127" y="52"/>
                    <a:pt x="3126" y="53"/>
                    <a:pt x="3124" y="55"/>
                  </a:cubicBezTo>
                  <a:cubicBezTo>
                    <a:pt x="3123" y="45"/>
                    <a:pt x="3121" y="35"/>
                    <a:pt x="3118" y="26"/>
                  </a:cubicBezTo>
                  <a:cubicBezTo>
                    <a:pt x="3117" y="30"/>
                    <a:pt x="3117" y="34"/>
                    <a:pt x="3117" y="37"/>
                  </a:cubicBezTo>
                  <a:cubicBezTo>
                    <a:pt x="3117" y="45"/>
                    <a:pt x="3118" y="53"/>
                    <a:pt x="3119" y="60"/>
                  </a:cubicBezTo>
                  <a:cubicBezTo>
                    <a:pt x="3115" y="64"/>
                    <a:pt x="3111" y="69"/>
                    <a:pt x="3106" y="74"/>
                  </a:cubicBezTo>
                  <a:cubicBezTo>
                    <a:pt x="3106" y="72"/>
                    <a:pt x="3105" y="70"/>
                    <a:pt x="3104" y="67"/>
                  </a:cubicBezTo>
                  <a:cubicBezTo>
                    <a:pt x="3104" y="70"/>
                    <a:pt x="3105" y="73"/>
                    <a:pt x="3105" y="76"/>
                  </a:cubicBezTo>
                  <a:cubicBezTo>
                    <a:pt x="3104" y="77"/>
                    <a:pt x="3104" y="77"/>
                    <a:pt x="3104" y="78"/>
                  </a:cubicBezTo>
                  <a:cubicBezTo>
                    <a:pt x="3102" y="75"/>
                    <a:pt x="3100" y="72"/>
                    <a:pt x="3098" y="68"/>
                  </a:cubicBezTo>
                  <a:cubicBezTo>
                    <a:pt x="3098" y="65"/>
                    <a:pt x="3099" y="63"/>
                    <a:pt x="3099" y="62"/>
                  </a:cubicBezTo>
                  <a:cubicBezTo>
                    <a:pt x="3098" y="63"/>
                    <a:pt x="3097" y="65"/>
                    <a:pt x="3096" y="67"/>
                  </a:cubicBezTo>
                  <a:cubicBezTo>
                    <a:pt x="3090" y="57"/>
                    <a:pt x="3081" y="47"/>
                    <a:pt x="3068" y="34"/>
                  </a:cubicBezTo>
                  <a:cubicBezTo>
                    <a:pt x="3081" y="49"/>
                    <a:pt x="3089" y="60"/>
                    <a:pt x="3096" y="69"/>
                  </a:cubicBezTo>
                  <a:cubicBezTo>
                    <a:pt x="3095" y="72"/>
                    <a:pt x="3094" y="75"/>
                    <a:pt x="3094" y="79"/>
                  </a:cubicBezTo>
                  <a:cubicBezTo>
                    <a:pt x="3088" y="68"/>
                    <a:pt x="3080" y="58"/>
                    <a:pt x="3068" y="52"/>
                  </a:cubicBezTo>
                  <a:cubicBezTo>
                    <a:pt x="3082" y="60"/>
                    <a:pt x="3089" y="72"/>
                    <a:pt x="3094" y="84"/>
                  </a:cubicBezTo>
                  <a:cubicBezTo>
                    <a:pt x="3094" y="86"/>
                    <a:pt x="3094" y="89"/>
                    <a:pt x="3094" y="91"/>
                  </a:cubicBezTo>
                  <a:cubicBezTo>
                    <a:pt x="3092" y="94"/>
                    <a:pt x="3090" y="97"/>
                    <a:pt x="3088" y="100"/>
                  </a:cubicBezTo>
                  <a:cubicBezTo>
                    <a:pt x="3087" y="96"/>
                    <a:pt x="3087" y="93"/>
                    <a:pt x="3086" y="90"/>
                  </a:cubicBezTo>
                  <a:cubicBezTo>
                    <a:pt x="3087" y="93"/>
                    <a:pt x="3087" y="97"/>
                    <a:pt x="3087" y="101"/>
                  </a:cubicBezTo>
                  <a:cubicBezTo>
                    <a:pt x="3086" y="102"/>
                    <a:pt x="3085" y="104"/>
                    <a:pt x="3085" y="105"/>
                  </a:cubicBezTo>
                  <a:cubicBezTo>
                    <a:pt x="3084" y="104"/>
                    <a:pt x="3084" y="103"/>
                    <a:pt x="3083" y="102"/>
                  </a:cubicBezTo>
                  <a:cubicBezTo>
                    <a:pt x="3082" y="97"/>
                    <a:pt x="3081" y="93"/>
                    <a:pt x="3080" y="88"/>
                  </a:cubicBezTo>
                  <a:cubicBezTo>
                    <a:pt x="3081" y="83"/>
                    <a:pt x="3082" y="79"/>
                    <a:pt x="3082" y="75"/>
                  </a:cubicBezTo>
                  <a:cubicBezTo>
                    <a:pt x="3081" y="78"/>
                    <a:pt x="3080" y="80"/>
                    <a:pt x="3079" y="82"/>
                  </a:cubicBezTo>
                  <a:cubicBezTo>
                    <a:pt x="3078" y="81"/>
                    <a:pt x="3078" y="80"/>
                    <a:pt x="3078" y="79"/>
                  </a:cubicBezTo>
                  <a:cubicBezTo>
                    <a:pt x="3078" y="80"/>
                    <a:pt x="3078" y="82"/>
                    <a:pt x="3078" y="83"/>
                  </a:cubicBezTo>
                  <a:cubicBezTo>
                    <a:pt x="3078" y="84"/>
                    <a:pt x="3077" y="86"/>
                    <a:pt x="3076" y="87"/>
                  </a:cubicBezTo>
                  <a:cubicBezTo>
                    <a:pt x="3074" y="83"/>
                    <a:pt x="3073" y="79"/>
                    <a:pt x="3071" y="75"/>
                  </a:cubicBezTo>
                  <a:cubicBezTo>
                    <a:pt x="3071" y="80"/>
                    <a:pt x="3072" y="86"/>
                    <a:pt x="3073" y="93"/>
                  </a:cubicBezTo>
                  <a:cubicBezTo>
                    <a:pt x="3073" y="94"/>
                    <a:pt x="3073" y="94"/>
                    <a:pt x="3073" y="94"/>
                  </a:cubicBezTo>
                  <a:cubicBezTo>
                    <a:pt x="3072" y="90"/>
                    <a:pt x="3070" y="85"/>
                    <a:pt x="3068" y="81"/>
                  </a:cubicBezTo>
                  <a:cubicBezTo>
                    <a:pt x="3070" y="86"/>
                    <a:pt x="3071" y="91"/>
                    <a:pt x="3072" y="97"/>
                  </a:cubicBezTo>
                  <a:cubicBezTo>
                    <a:pt x="3070" y="100"/>
                    <a:pt x="3069" y="102"/>
                    <a:pt x="3068" y="105"/>
                  </a:cubicBezTo>
                  <a:cubicBezTo>
                    <a:pt x="3065" y="83"/>
                    <a:pt x="3059" y="63"/>
                    <a:pt x="3039" y="42"/>
                  </a:cubicBezTo>
                  <a:cubicBezTo>
                    <a:pt x="3047" y="58"/>
                    <a:pt x="3053" y="70"/>
                    <a:pt x="3057" y="81"/>
                  </a:cubicBezTo>
                  <a:cubicBezTo>
                    <a:pt x="3057" y="83"/>
                    <a:pt x="3057" y="86"/>
                    <a:pt x="3057" y="89"/>
                  </a:cubicBezTo>
                  <a:cubicBezTo>
                    <a:pt x="3055" y="86"/>
                    <a:pt x="3053" y="84"/>
                    <a:pt x="3052" y="81"/>
                  </a:cubicBezTo>
                  <a:cubicBezTo>
                    <a:pt x="3051" y="79"/>
                    <a:pt x="3049" y="76"/>
                    <a:pt x="3048" y="73"/>
                  </a:cubicBezTo>
                  <a:cubicBezTo>
                    <a:pt x="3048" y="71"/>
                    <a:pt x="3048" y="69"/>
                    <a:pt x="3048" y="67"/>
                  </a:cubicBezTo>
                  <a:cubicBezTo>
                    <a:pt x="3048" y="69"/>
                    <a:pt x="3047" y="70"/>
                    <a:pt x="3047" y="72"/>
                  </a:cubicBezTo>
                  <a:cubicBezTo>
                    <a:pt x="3044" y="66"/>
                    <a:pt x="3040" y="59"/>
                    <a:pt x="3035" y="53"/>
                  </a:cubicBezTo>
                  <a:cubicBezTo>
                    <a:pt x="3035" y="48"/>
                    <a:pt x="3035" y="42"/>
                    <a:pt x="3035" y="37"/>
                  </a:cubicBezTo>
                  <a:cubicBezTo>
                    <a:pt x="3035" y="34"/>
                    <a:pt x="3035" y="30"/>
                    <a:pt x="3035" y="26"/>
                  </a:cubicBezTo>
                  <a:cubicBezTo>
                    <a:pt x="3032" y="33"/>
                    <a:pt x="3031" y="40"/>
                    <a:pt x="3029" y="47"/>
                  </a:cubicBezTo>
                  <a:cubicBezTo>
                    <a:pt x="3026" y="44"/>
                    <a:pt x="3023" y="41"/>
                    <a:pt x="3020" y="38"/>
                  </a:cubicBezTo>
                  <a:cubicBezTo>
                    <a:pt x="3023" y="41"/>
                    <a:pt x="3026" y="45"/>
                    <a:pt x="3029" y="49"/>
                  </a:cubicBezTo>
                  <a:cubicBezTo>
                    <a:pt x="3029" y="51"/>
                    <a:pt x="3028" y="53"/>
                    <a:pt x="3028" y="55"/>
                  </a:cubicBezTo>
                  <a:cubicBezTo>
                    <a:pt x="3027" y="53"/>
                    <a:pt x="3025" y="52"/>
                    <a:pt x="3024" y="51"/>
                  </a:cubicBezTo>
                  <a:cubicBezTo>
                    <a:pt x="3025" y="53"/>
                    <a:pt x="3027" y="54"/>
                    <a:pt x="3028" y="56"/>
                  </a:cubicBezTo>
                  <a:cubicBezTo>
                    <a:pt x="3027" y="61"/>
                    <a:pt x="3026" y="66"/>
                    <a:pt x="3026" y="72"/>
                  </a:cubicBezTo>
                  <a:cubicBezTo>
                    <a:pt x="3024" y="69"/>
                    <a:pt x="3022" y="66"/>
                    <a:pt x="3021" y="64"/>
                  </a:cubicBezTo>
                  <a:cubicBezTo>
                    <a:pt x="3021" y="66"/>
                    <a:pt x="3023" y="70"/>
                    <a:pt x="3025" y="74"/>
                  </a:cubicBezTo>
                  <a:cubicBezTo>
                    <a:pt x="3024" y="80"/>
                    <a:pt x="3023" y="86"/>
                    <a:pt x="3022" y="92"/>
                  </a:cubicBezTo>
                  <a:cubicBezTo>
                    <a:pt x="3018" y="109"/>
                    <a:pt x="3014" y="126"/>
                    <a:pt x="3012" y="143"/>
                  </a:cubicBezTo>
                  <a:cubicBezTo>
                    <a:pt x="3013" y="126"/>
                    <a:pt x="3014" y="109"/>
                    <a:pt x="3014" y="91"/>
                  </a:cubicBezTo>
                  <a:cubicBezTo>
                    <a:pt x="3014" y="87"/>
                    <a:pt x="3014" y="61"/>
                    <a:pt x="3010" y="59"/>
                  </a:cubicBezTo>
                  <a:cubicBezTo>
                    <a:pt x="3015" y="76"/>
                    <a:pt x="3001" y="122"/>
                    <a:pt x="2998" y="146"/>
                  </a:cubicBezTo>
                  <a:cubicBezTo>
                    <a:pt x="2998" y="148"/>
                    <a:pt x="2998" y="150"/>
                    <a:pt x="2997" y="152"/>
                  </a:cubicBezTo>
                  <a:cubicBezTo>
                    <a:pt x="2997" y="150"/>
                    <a:pt x="2998" y="148"/>
                    <a:pt x="2998" y="146"/>
                  </a:cubicBezTo>
                  <a:cubicBezTo>
                    <a:pt x="3000" y="123"/>
                    <a:pt x="2998" y="98"/>
                    <a:pt x="2997" y="75"/>
                  </a:cubicBezTo>
                  <a:cubicBezTo>
                    <a:pt x="2994" y="97"/>
                    <a:pt x="2986" y="119"/>
                    <a:pt x="2986" y="141"/>
                  </a:cubicBezTo>
                  <a:cubicBezTo>
                    <a:pt x="2986" y="146"/>
                    <a:pt x="2986" y="152"/>
                    <a:pt x="2987" y="158"/>
                  </a:cubicBezTo>
                  <a:cubicBezTo>
                    <a:pt x="2985" y="150"/>
                    <a:pt x="2985" y="140"/>
                    <a:pt x="2985" y="133"/>
                  </a:cubicBezTo>
                  <a:cubicBezTo>
                    <a:pt x="2985" y="109"/>
                    <a:pt x="2989" y="85"/>
                    <a:pt x="2989" y="61"/>
                  </a:cubicBezTo>
                  <a:cubicBezTo>
                    <a:pt x="2989" y="55"/>
                    <a:pt x="2989" y="48"/>
                    <a:pt x="2988" y="41"/>
                  </a:cubicBezTo>
                  <a:cubicBezTo>
                    <a:pt x="2981" y="71"/>
                    <a:pt x="2977" y="110"/>
                    <a:pt x="2977" y="140"/>
                  </a:cubicBezTo>
                  <a:cubicBezTo>
                    <a:pt x="2977" y="145"/>
                    <a:pt x="2977" y="149"/>
                    <a:pt x="2977" y="153"/>
                  </a:cubicBezTo>
                  <a:cubicBezTo>
                    <a:pt x="2976" y="135"/>
                    <a:pt x="2972" y="116"/>
                    <a:pt x="2968" y="98"/>
                  </a:cubicBezTo>
                  <a:cubicBezTo>
                    <a:pt x="2970" y="110"/>
                    <a:pt x="2966" y="124"/>
                    <a:pt x="2966" y="136"/>
                  </a:cubicBezTo>
                  <a:cubicBezTo>
                    <a:pt x="2966" y="140"/>
                    <a:pt x="2966" y="143"/>
                    <a:pt x="2966" y="147"/>
                  </a:cubicBezTo>
                  <a:cubicBezTo>
                    <a:pt x="2963" y="125"/>
                    <a:pt x="2958" y="103"/>
                    <a:pt x="2949" y="83"/>
                  </a:cubicBezTo>
                  <a:cubicBezTo>
                    <a:pt x="2952" y="90"/>
                    <a:pt x="2952" y="108"/>
                    <a:pt x="2952" y="115"/>
                  </a:cubicBezTo>
                  <a:cubicBezTo>
                    <a:pt x="2952" y="127"/>
                    <a:pt x="2952" y="138"/>
                    <a:pt x="2954" y="150"/>
                  </a:cubicBezTo>
                  <a:cubicBezTo>
                    <a:pt x="2945" y="126"/>
                    <a:pt x="2942" y="99"/>
                    <a:pt x="2935" y="74"/>
                  </a:cubicBezTo>
                  <a:cubicBezTo>
                    <a:pt x="2938" y="91"/>
                    <a:pt x="2934" y="110"/>
                    <a:pt x="2934" y="128"/>
                  </a:cubicBezTo>
                  <a:cubicBezTo>
                    <a:pt x="2934" y="132"/>
                    <a:pt x="2935" y="136"/>
                    <a:pt x="2935" y="140"/>
                  </a:cubicBezTo>
                  <a:cubicBezTo>
                    <a:pt x="2935" y="145"/>
                    <a:pt x="2936" y="149"/>
                    <a:pt x="2937" y="154"/>
                  </a:cubicBezTo>
                  <a:cubicBezTo>
                    <a:pt x="2936" y="149"/>
                    <a:pt x="2935" y="145"/>
                    <a:pt x="2935" y="140"/>
                  </a:cubicBezTo>
                  <a:cubicBezTo>
                    <a:pt x="2932" y="120"/>
                    <a:pt x="2929" y="99"/>
                    <a:pt x="2924" y="80"/>
                  </a:cubicBezTo>
                  <a:cubicBezTo>
                    <a:pt x="2926" y="102"/>
                    <a:pt x="2916" y="126"/>
                    <a:pt x="2916" y="149"/>
                  </a:cubicBezTo>
                  <a:cubicBezTo>
                    <a:pt x="2916" y="156"/>
                    <a:pt x="2916" y="156"/>
                    <a:pt x="2916" y="156"/>
                  </a:cubicBezTo>
                  <a:cubicBezTo>
                    <a:pt x="2912" y="147"/>
                    <a:pt x="2912" y="132"/>
                    <a:pt x="2912" y="122"/>
                  </a:cubicBezTo>
                  <a:cubicBezTo>
                    <a:pt x="2912" y="100"/>
                    <a:pt x="2914" y="79"/>
                    <a:pt x="2913" y="57"/>
                  </a:cubicBezTo>
                  <a:cubicBezTo>
                    <a:pt x="2910" y="62"/>
                    <a:pt x="2909" y="112"/>
                    <a:pt x="2909" y="120"/>
                  </a:cubicBezTo>
                  <a:cubicBezTo>
                    <a:pt x="2909" y="133"/>
                    <a:pt x="2910" y="146"/>
                    <a:pt x="2913" y="159"/>
                  </a:cubicBezTo>
                  <a:cubicBezTo>
                    <a:pt x="2908" y="135"/>
                    <a:pt x="2902" y="108"/>
                    <a:pt x="2890" y="85"/>
                  </a:cubicBezTo>
                  <a:cubicBezTo>
                    <a:pt x="2901" y="106"/>
                    <a:pt x="2896" y="132"/>
                    <a:pt x="2903" y="154"/>
                  </a:cubicBezTo>
                  <a:cubicBezTo>
                    <a:pt x="2895" y="142"/>
                    <a:pt x="2893" y="122"/>
                    <a:pt x="2890" y="106"/>
                  </a:cubicBezTo>
                  <a:cubicBezTo>
                    <a:pt x="2892" y="120"/>
                    <a:pt x="2890" y="134"/>
                    <a:pt x="2892" y="148"/>
                  </a:cubicBezTo>
                  <a:cubicBezTo>
                    <a:pt x="2893" y="151"/>
                    <a:pt x="2894" y="153"/>
                    <a:pt x="2894" y="155"/>
                  </a:cubicBezTo>
                  <a:cubicBezTo>
                    <a:pt x="2893" y="153"/>
                    <a:pt x="2893" y="151"/>
                    <a:pt x="2892" y="148"/>
                  </a:cubicBezTo>
                  <a:cubicBezTo>
                    <a:pt x="2887" y="128"/>
                    <a:pt x="2875" y="75"/>
                    <a:pt x="2863" y="68"/>
                  </a:cubicBezTo>
                  <a:cubicBezTo>
                    <a:pt x="2880" y="90"/>
                    <a:pt x="2878" y="127"/>
                    <a:pt x="2882" y="153"/>
                  </a:cubicBezTo>
                  <a:cubicBezTo>
                    <a:pt x="2878" y="134"/>
                    <a:pt x="2871" y="113"/>
                    <a:pt x="2862" y="95"/>
                  </a:cubicBezTo>
                  <a:cubicBezTo>
                    <a:pt x="2869" y="115"/>
                    <a:pt x="2868" y="136"/>
                    <a:pt x="2877" y="155"/>
                  </a:cubicBezTo>
                  <a:cubicBezTo>
                    <a:pt x="2864" y="144"/>
                    <a:pt x="2857" y="117"/>
                    <a:pt x="2853" y="102"/>
                  </a:cubicBezTo>
                  <a:cubicBezTo>
                    <a:pt x="2853" y="120"/>
                    <a:pt x="2858" y="143"/>
                    <a:pt x="2869" y="158"/>
                  </a:cubicBezTo>
                  <a:cubicBezTo>
                    <a:pt x="2855" y="144"/>
                    <a:pt x="2850" y="103"/>
                    <a:pt x="2845" y="85"/>
                  </a:cubicBezTo>
                  <a:cubicBezTo>
                    <a:pt x="2844" y="88"/>
                    <a:pt x="2844" y="91"/>
                    <a:pt x="2844" y="94"/>
                  </a:cubicBezTo>
                  <a:cubicBezTo>
                    <a:pt x="2844" y="113"/>
                    <a:pt x="2849" y="142"/>
                    <a:pt x="2861" y="159"/>
                  </a:cubicBezTo>
                  <a:cubicBezTo>
                    <a:pt x="2847" y="143"/>
                    <a:pt x="2842" y="123"/>
                    <a:pt x="2836" y="104"/>
                  </a:cubicBezTo>
                  <a:cubicBezTo>
                    <a:pt x="2840" y="122"/>
                    <a:pt x="2840" y="140"/>
                    <a:pt x="2849" y="158"/>
                  </a:cubicBezTo>
                  <a:cubicBezTo>
                    <a:pt x="2839" y="147"/>
                    <a:pt x="2834" y="132"/>
                    <a:pt x="2830" y="117"/>
                  </a:cubicBezTo>
                  <a:cubicBezTo>
                    <a:pt x="2832" y="105"/>
                    <a:pt x="2833" y="93"/>
                    <a:pt x="2834" y="84"/>
                  </a:cubicBezTo>
                  <a:cubicBezTo>
                    <a:pt x="2832" y="92"/>
                    <a:pt x="2830" y="101"/>
                    <a:pt x="2828" y="109"/>
                  </a:cubicBezTo>
                  <a:cubicBezTo>
                    <a:pt x="2827" y="102"/>
                    <a:pt x="2825" y="95"/>
                    <a:pt x="2823" y="89"/>
                  </a:cubicBezTo>
                  <a:cubicBezTo>
                    <a:pt x="2826" y="64"/>
                    <a:pt x="2830" y="40"/>
                    <a:pt x="2830" y="40"/>
                  </a:cubicBezTo>
                  <a:cubicBezTo>
                    <a:pt x="2825" y="51"/>
                    <a:pt x="2820" y="77"/>
                    <a:pt x="2817" y="100"/>
                  </a:cubicBezTo>
                  <a:cubicBezTo>
                    <a:pt x="2815" y="95"/>
                    <a:pt x="2812" y="90"/>
                    <a:pt x="2811" y="86"/>
                  </a:cubicBezTo>
                  <a:cubicBezTo>
                    <a:pt x="2810" y="70"/>
                    <a:pt x="2808" y="58"/>
                    <a:pt x="2808" y="60"/>
                  </a:cubicBezTo>
                  <a:cubicBezTo>
                    <a:pt x="2808" y="61"/>
                    <a:pt x="2808" y="69"/>
                    <a:pt x="2807" y="80"/>
                  </a:cubicBezTo>
                  <a:cubicBezTo>
                    <a:pt x="2806" y="79"/>
                    <a:pt x="2806" y="78"/>
                    <a:pt x="2805" y="78"/>
                  </a:cubicBezTo>
                  <a:cubicBezTo>
                    <a:pt x="2806" y="79"/>
                    <a:pt x="2806" y="80"/>
                    <a:pt x="2807" y="81"/>
                  </a:cubicBezTo>
                  <a:cubicBezTo>
                    <a:pt x="2806" y="87"/>
                    <a:pt x="2806" y="95"/>
                    <a:pt x="2805" y="102"/>
                  </a:cubicBezTo>
                  <a:cubicBezTo>
                    <a:pt x="2805" y="102"/>
                    <a:pt x="2805" y="102"/>
                    <a:pt x="2805" y="102"/>
                  </a:cubicBezTo>
                  <a:cubicBezTo>
                    <a:pt x="2805" y="103"/>
                    <a:pt x="2805" y="103"/>
                    <a:pt x="2805" y="103"/>
                  </a:cubicBezTo>
                  <a:cubicBezTo>
                    <a:pt x="2804" y="113"/>
                    <a:pt x="2804" y="123"/>
                    <a:pt x="2803" y="130"/>
                  </a:cubicBezTo>
                  <a:cubicBezTo>
                    <a:pt x="2803" y="130"/>
                    <a:pt x="2802" y="129"/>
                    <a:pt x="2802" y="128"/>
                  </a:cubicBezTo>
                  <a:cubicBezTo>
                    <a:pt x="2802" y="107"/>
                    <a:pt x="2798" y="69"/>
                    <a:pt x="2795" y="47"/>
                  </a:cubicBezTo>
                  <a:cubicBezTo>
                    <a:pt x="2796" y="64"/>
                    <a:pt x="2795" y="87"/>
                    <a:pt x="2794" y="107"/>
                  </a:cubicBezTo>
                  <a:cubicBezTo>
                    <a:pt x="2793" y="105"/>
                    <a:pt x="2792" y="104"/>
                    <a:pt x="2791" y="102"/>
                  </a:cubicBezTo>
                  <a:cubicBezTo>
                    <a:pt x="2792" y="104"/>
                    <a:pt x="2793" y="106"/>
                    <a:pt x="2793" y="107"/>
                  </a:cubicBezTo>
                  <a:cubicBezTo>
                    <a:pt x="2793" y="114"/>
                    <a:pt x="2793" y="121"/>
                    <a:pt x="2792" y="126"/>
                  </a:cubicBezTo>
                  <a:cubicBezTo>
                    <a:pt x="2792" y="125"/>
                    <a:pt x="2791" y="123"/>
                    <a:pt x="2791" y="122"/>
                  </a:cubicBezTo>
                  <a:cubicBezTo>
                    <a:pt x="2790" y="93"/>
                    <a:pt x="2786" y="46"/>
                    <a:pt x="2786" y="46"/>
                  </a:cubicBezTo>
                  <a:cubicBezTo>
                    <a:pt x="2785" y="65"/>
                    <a:pt x="2779" y="142"/>
                    <a:pt x="2779" y="142"/>
                  </a:cubicBezTo>
                  <a:cubicBezTo>
                    <a:pt x="2773" y="106"/>
                    <a:pt x="2780" y="0"/>
                    <a:pt x="2780" y="0"/>
                  </a:cubicBezTo>
                  <a:cubicBezTo>
                    <a:pt x="2774" y="16"/>
                    <a:pt x="2768" y="131"/>
                    <a:pt x="2768" y="131"/>
                  </a:cubicBezTo>
                  <a:cubicBezTo>
                    <a:pt x="2766" y="36"/>
                    <a:pt x="2762" y="32"/>
                    <a:pt x="2762" y="32"/>
                  </a:cubicBezTo>
                  <a:cubicBezTo>
                    <a:pt x="2764" y="43"/>
                    <a:pt x="2761" y="76"/>
                    <a:pt x="2758" y="103"/>
                  </a:cubicBezTo>
                  <a:cubicBezTo>
                    <a:pt x="2757" y="102"/>
                    <a:pt x="2756" y="100"/>
                    <a:pt x="2755" y="99"/>
                  </a:cubicBezTo>
                  <a:cubicBezTo>
                    <a:pt x="2756" y="101"/>
                    <a:pt x="2757" y="103"/>
                    <a:pt x="2758" y="104"/>
                  </a:cubicBezTo>
                  <a:cubicBezTo>
                    <a:pt x="2757" y="112"/>
                    <a:pt x="2756" y="120"/>
                    <a:pt x="2755" y="126"/>
                  </a:cubicBezTo>
                  <a:cubicBezTo>
                    <a:pt x="2755" y="124"/>
                    <a:pt x="2755" y="123"/>
                    <a:pt x="2755" y="122"/>
                  </a:cubicBezTo>
                  <a:cubicBezTo>
                    <a:pt x="2755" y="94"/>
                    <a:pt x="2754" y="48"/>
                    <a:pt x="2754" y="48"/>
                  </a:cubicBezTo>
                  <a:cubicBezTo>
                    <a:pt x="2753" y="55"/>
                    <a:pt x="2750" y="82"/>
                    <a:pt x="2747" y="106"/>
                  </a:cubicBezTo>
                  <a:cubicBezTo>
                    <a:pt x="2746" y="104"/>
                    <a:pt x="2745" y="102"/>
                    <a:pt x="2745" y="100"/>
                  </a:cubicBezTo>
                  <a:cubicBezTo>
                    <a:pt x="2748" y="60"/>
                    <a:pt x="2752" y="9"/>
                    <a:pt x="2752" y="9"/>
                  </a:cubicBezTo>
                  <a:cubicBezTo>
                    <a:pt x="2747" y="23"/>
                    <a:pt x="2740" y="83"/>
                    <a:pt x="2737" y="117"/>
                  </a:cubicBezTo>
                  <a:cubicBezTo>
                    <a:pt x="2736" y="114"/>
                    <a:pt x="2735" y="111"/>
                    <a:pt x="2734" y="108"/>
                  </a:cubicBezTo>
                  <a:cubicBezTo>
                    <a:pt x="2734" y="90"/>
                    <a:pt x="2732" y="72"/>
                    <a:pt x="2732" y="72"/>
                  </a:cubicBezTo>
                  <a:cubicBezTo>
                    <a:pt x="2732" y="76"/>
                    <a:pt x="2732" y="84"/>
                    <a:pt x="2731" y="94"/>
                  </a:cubicBezTo>
                  <a:cubicBezTo>
                    <a:pt x="2730" y="91"/>
                    <a:pt x="2728" y="88"/>
                    <a:pt x="2727" y="84"/>
                  </a:cubicBezTo>
                  <a:cubicBezTo>
                    <a:pt x="2728" y="88"/>
                    <a:pt x="2730" y="92"/>
                    <a:pt x="2730" y="96"/>
                  </a:cubicBezTo>
                  <a:cubicBezTo>
                    <a:pt x="2730" y="99"/>
                    <a:pt x="2730" y="103"/>
                    <a:pt x="2729" y="107"/>
                  </a:cubicBezTo>
                  <a:cubicBezTo>
                    <a:pt x="2729" y="106"/>
                    <a:pt x="2729" y="106"/>
                    <a:pt x="2729" y="105"/>
                  </a:cubicBezTo>
                  <a:cubicBezTo>
                    <a:pt x="2728" y="107"/>
                    <a:pt x="2728" y="112"/>
                    <a:pt x="2728" y="116"/>
                  </a:cubicBezTo>
                  <a:cubicBezTo>
                    <a:pt x="2727" y="121"/>
                    <a:pt x="2727" y="126"/>
                    <a:pt x="2726" y="130"/>
                  </a:cubicBezTo>
                  <a:cubicBezTo>
                    <a:pt x="2726" y="129"/>
                    <a:pt x="2726" y="128"/>
                    <a:pt x="2726" y="127"/>
                  </a:cubicBezTo>
                  <a:cubicBezTo>
                    <a:pt x="2726" y="101"/>
                    <a:pt x="2721" y="63"/>
                    <a:pt x="2720" y="54"/>
                  </a:cubicBezTo>
                  <a:cubicBezTo>
                    <a:pt x="2720" y="61"/>
                    <a:pt x="2719" y="79"/>
                    <a:pt x="2718" y="96"/>
                  </a:cubicBezTo>
                  <a:cubicBezTo>
                    <a:pt x="2717" y="94"/>
                    <a:pt x="2716" y="92"/>
                    <a:pt x="2715" y="90"/>
                  </a:cubicBezTo>
                  <a:cubicBezTo>
                    <a:pt x="2716" y="93"/>
                    <a:pt x="2717" y="95"/>
                    <a:pt x="2718" y="97"/>
                  </a:cubicBezTo>
                  <a:cubicBezTo>
                    <a:pt x="2716" y="118"/>
                    <a:pt x="2714" y="137"/>
                    <a:pt x="2714" y="137"/>
                  </a:cubicBezTo>
                  <a:cubicBezTo>
                    <a:pt x="2713" y="136"/>
                    <a:pt x="2713" y="134"/>
                    <a:pt x="2713" y="133"/>
                  </a:cubicBezTo>
                  <a:cubicBezTo>
                    <a:pt x="2713" y="125"/>
                    <a:pt x="2713" y="118"/>
                    <a:pt x="2712" y="110"/>
                  </a:cubicBezTo>
                  <a:cubicBezTo>
                    <a:pt x="2711" y="76"/>
                    <a:pt x="2710" y="40"/>
                    <a:pt x="2710" y="40"/>
                  </a:cubicBezTo>
                  <a:cubicBezTo>
                    <a:pt x="2710" y="49"/>
                    <a:pt x="2705" y="79"/>
                    <a:pt x="2701" y="104"/>
                  </a:cubicBezTo>
                  <a:cubicBezTo>
                    <a:pt x="2701" y="99"/>
                    <a:pt x="2700" y="95"/>
                    <a:pt x="2699" y="90"/>
                  </a:cubicBezTo>
                  <a:cubicBezTo>
                    <a:pt x="2700" y="67"/>
                    <a:pt x="2701" y="45"/>
                    <a:pt x="2701" y="45"/>
                  </a:cubicBezTo>
                  <a:cubicBezTo>
                    <a:pt x="2701" y="53"/>
                    <a:pt x="2695" y="75"/>
                    <a:pt x="2688" y="96"/>
                  </a:cubicBezTo>
                  <a:cubicBezTo>
                    <a:pt x="2687" y="93"/>
                    <a:pt x="2686" y="89"/>
                    <a:pt x="2684" y="85"/>
                  </a:cubicBezTo>
                  <a:cubicBezTo>
                    <a:pt x="2691" y="51"/>
                    <a:pt x="2699" y="17"/>
                    <a:pt x="2699" y="17"/>
                  </a:cubicBezTo>
                  <a:cubicBezTo>
                    <a:pt x="2694" y="24"/>
                    <a:pt x="2679" y="95"/>
                    <a:pt x="2672" y="130"/>
                  </a:cubicBezTo>
                  <a:cubicBezTo>
                    <a:pt x="2672" y="130"/>
                    <a:pt x="2672" y="130"/>
                    <a:pt x="2672" y="130"/>
                  </a:cubicBezTo>
                  <a:cubicBezTo>
                    <a:pt x="2676" y="100"/>
                    <a:pt x="2673" y="63"/>
                    <a:pt x="2672" y="52"/>
                  </a:cubicBezTo>
                  <a:cubicBezTo>
                    <a:pt x="2674" y="72"/>
                    <a:pt x="2668" y="109"/>
                    <a:pt x="2664" y="128"/>
                  </a:cubicBezTo>
                  <a:cubicBezTo>
                    <a:pt x="2664" y="126"/>
                    <a:pt x="2664" y="123"/>
                    <a:pt x="2663" y="120"/>
                  </a:cubicBezTo>
                  <a:cubicBezTo>
                    <a:pt x="2665" y="99"/>
                    <a:pt x="2667" y="71"/>
                    <a:pt x="2668" y="65"/>
                  </a:cubicBezTo>
                  <a:cubicBezTo>
                    <a:pt x="2667" y="71"/>
                    <a:pt x="2664" y="89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56" y="125"/>
                    <a:pt x="2653" y="143"/>
                    <a:pt x="2653" y="143"/>
                  </a:cubicBezTo>
                  <a:cubicBezTo>
                    <a:pt x="2663" y="38"/>
                    <a:pt x="2656" y="25"/>
                    <a:pt x="2656" y="25"/>
                  </a:cubicBezTo>
                  <a:cubicBezTo>
                    <a:pt x="2659" y="42"/>
                    <a:pt x="2656" y="72"/>
                    <a:pt x="2651" y="96"/>
                  </a:cubicBezTo>
                  <a:cubicBezTo>
                    <a:pt x="2650" y="89"/>
                    <a:pt x="2648" y="80"/>
                    <a:pt x="2645" y="73"/>
                  </a:cubicBezTo>
                  <a:cubicBezTo>
                    <a:pt x="2644" y="65"/>
                    <a:pt x="2644" y="60"/>
                    <a:pt x="2644" y="60"/>
                  </a:cubicBezTo>
                  <a:cubicBezTo>
                    <a:pt x="2644" y="63"/>
                    <a:pt x="2644" y="67"/>
                    <a:pt x="2643" y="71"/>
                  </a:cubicBezTo>
                  <a:cubicBezTo>
                    <a:pt x="2642" y="69"/>
                    <a:pt x="2641" y="67"/>
                    <a:pt x="2639" y="65"/>
                  </a:cubicBezTo>
                  <a:cubicBezTo>
                    <a:pt x="2641" y="67"/>
                    <a:pt x="2642" y="70"/>
                    <a:pt x="2643" y="73"/>
                  </a:cubicBezTo>
                  <a:cubicBezTo>
                    <a:pt x="2643" y="82"/>
                    <a:pt x="2642" y="92"/>
                    <a:pt x="2640" y="101"/>
                  </a:cubicBezTo>
                  <a:cubicBezTo>
                    <a:pt x="2640" y="95"/>
                    <a:pt x="2637" y="88"/>
                    <a:pt x="2632" y="83"/>
                  </a:cubicBezTo>
                  <a:cubicBezTo>
                    <a:pt x="2632" y="74"/>
                    <a:pt x="2633" y="68"/>
                    <a:pt x="2633" y="68"/>
                  </a:cubicBezTo>
                  <a:cubicBezTo>
                    <a:pt x="2632" y="72"/>
                    <a:pt x="2631" y="76"/>
                    <a:pt x="2630" y="81"/>
                  </a:cubicBezTo>
                  <a:cubicBezTo>
                    <a:pt x="2630" y="81"/>
                    <a:pt x="2629" y="81"/>
                    <a:pt x="2629" y="80"/>
                  </a:cubicBezTo>
                  <a:cubicBezTo>
                    <a:pt x="2629" y="81"/>
                    <a:pt x="2630" y="81"/>
                    <a:pt x="2630" y="82"/>
                  </a:cubicBezTo>
                  <a:cubicBezTo>
                    <a:pt x="2627" y="101"/>
                    <a:pt x="2626" y="130"/>
                    <a:pt x="2626" y="142"/>
                  </a:cubicBezTo>
                  <a:cubicBezTo>
                    <a:pt x="2626" y="143"/>
                    <a:pt x="2625" y="144"/>
                    <a:pt x="2625" y="144"/>
                  </a:cubicBezTo>
                  <a:cubicBezTo>
                    <a:pt x="2624" y="141"/>
                    <a:pt x="2624" y="136"/>
                    <a:pt x="2624" y="131"/>
                  </a:cubicBezTo>
                  <a:cubicBezTo>
                    <a:pt x="2625" y="121"/>
                    <a:pt x="2627" y="112"/>
                    <a:pt x="2628" y="103"/>
                  </a:cubicBezTo>
                  <a:cubicBezTo>
                    <a:pt x="2627" y="108"/>
                    <a:pt x="2626" y="112"/>
                    <a:pt x="2625" y="117"/>
                  </a:cubicBezTo>
                  <a:cubicBezTo>
                    <a:pt x="2626" y="85"/>
                    <a:pt x="2632" y="45"/>
                    <a:pt x="2632" y="45"/>
                  </a:cubicBezTo>
                  <a:cubicBezTo>
                    <a:pt x="2625" y="60"/>
                    <a:pt x="2620" y="95"/>
                    <a:pt x="2618" y="120"/>
                  </a:cubicBezTo>
                  <a:cubicBezTo>
                    <a:pt x="2618" y="123"/>
                    <a:pt x="2617" y="125"/>
                    <a:pt x="2616" y="127"/>
                  </a:cubicBezTo>
                  <a:cubicBezTo>
                    <a:pt x="2616" y="103"/>
                    <a:pt x="2615" y="70"/>
                    <a:pt x="2615" y="70"/>
                  </a:cubicBezTo>
                  <a:cubicBezTo>
                    <a:pt x="2615" y="72"/>
                    <a:pt x="2615" y="76"/>
                    <a:pt x="2614" y="81"/>
                  </a:cubicBezTo>
                  <a:cubicBezTo>
                    <a:pt x="2613" y="73"/>
                    <a:pt x="2611" y="66"/>
                    <a:pt x="2608" y="60"/>
                  </a:cubicBezTo>
                  <a:cubicBezTo>
                    <a:pt x="2609" y="52"/>
                    <a:pt x="2609" y="46"/>
                    <a:pt x="2609" y="46"/>
                  </a:cubicBezTo>
                  <a:cubicBezTo>
                    <a:pt x="2607" y="51"/>
                    <a:pt x="2605" y="64"/>
                    <a:pt x="2604" y="79"/>
                  </a:cubicBezTo>
                  <a:cubicBezTo>
                    <a:pt x="2603" y="77"/>
                    <a:pt x="2603" y="75"/>
                    <a:pt x="2602" y="74"/>
                  </a:cubicBezTo>
                  <a:cubicBezTo>
                    <a:pt x="2601" y="83"/>
                    <a:pt x="2601" y="92"/>
                    <a:pt x="2601" y="102"/>
                  </a:cubicBezTo>
                  <a:cubicBezTo>
                    <a:pt x="2601" y="108"/>
                    <a:pt x="2600" y="115"/>
                    <a:pt x="2599" y="121"/>
                  </a:cubicBezTo>
                  <a:cubicBezTo>
                    <a:pt x="2599" y="123"/>
                    <a:pt x="2599" y="125"/>
                    <a:pt x="2598" y="127"/>
                  </a:cubicBezTo>
                  <a:cubicBezTo>
                    <a:pt x="2598" y="35"/>
                    <a:pt x="2596" y="34"/>
                    <a:pt x="2596" y="34"/>
                  </a:cubicBezTo>
                  <a:cubicBezTo>
                    <a:pt x="2598" y="49"/>
                    <a:pt x="2594" y="77"/>
                    <a:pt x="2590" y="102"/>
                  </a:cubicBezTo>
                  <a:cubicBezTo>
                    <a:pt x="2589" y="94"/>
                    <a:pt x="2587" y="85"/>
                    <a:pt x="2583" y="76"/>
                  </a:cubicBezTo>
                  <a:cubicBezTo>
                    <a:pt x="2584" y="70"/>
                    <a:pt x="2584" y="66"/>
                    <a:pt x="2584" y="66"/>
                  </a:cubicBezTo>
                  <a:cubicBezTo>
                    <a:pt x="2584" y="68"/>
                    <a:pt x="2583" y="71"/>
                    <a:pt x="2582" y="74"/>
                  </a:cubicBezTo>
                  <a:cubicBezTo>
                    <a:pt x="2582" y="73"/>
                    <a:pt x="2581" y="72"/>
                    <a:pt x="2580" y="71"/>
                  </a:cubicBezTo>
                  <a:cubicBezTo>
                    <a:pt x="2581" y="73"/>
                    <a:pt x="2581" y="74"/>
                    <a:pt x="2582" y="76"/>
                  </a:cubicBezTo>
                  <a:cubicBezTo>
                    <a:pt x="2580" y="83"/>
                    <a:pt x="2578" y="93"/>
                    <a:pt x="2577" y="103"/>
                  </a:cubicBezTo>
                  <a:cubicBezTo>
                    <a:pt x="2576" y="98"/>
                    <a:pt x="2575" y="94"/>
                    <a:pt x="2574" y="89"/>
                  </a:cubicBezTo>
                  <a:cubicBezTo>
                    <a:pt x="2575" y="96"/>
                    <a:pt x="2573" y="104"/>
                    <a:pt x="2571" y="112"/>
                  </a:cubicBezTo>
                  <a:cubicBezTo>
                    <a:pt x="2571" y="92"/>
                    <a:pt x="2570" y="70"/>
                    <a:pt x="2569" y="62"/>
                  </a:cubicBezTo>
                  <a:cubicBezTo>
                    <a:pt x="2569" y="67"/>
                    <a:pt x="2569" y="74"/>
                    <a:pt x="2569" y="82"/>
                  </a:cubicBezTo>
                  <a:cubicBezTo>
                    <a:pt x="2567" y="87"/>
                    <a:pt x="2564" y="94"/>
                    <a:pt x="2562" y="101"/>
                  </a:cubicBezTo>
                  <a:cubicBezTo>
                    <a:pt x="2562" y="91"/>
                    <a:pt x="2562" y="82"/>
                    <a:pt x="2562" y="75"/>
                  </a:cubicBezTo>
                  <a:cubicBezTo>
                    <a:pt x="2561" y="86"/>
                    <a:pt x="2559" y="102"/>
                    <a:pt x="2557" y="116"/>
                  </a:cubicBezTo>
                  <a:cubicBezTo>
                    <a:pt x="2555" y="123"/>
                    <a:pt x="2553" y="130"/>
                    <a:pt x="2551" y="136"/>
                  </a:cubicBezTo>
                  <a:cubicBezTo>
                    <a:pt x="2551" y="118"/>
                    <a:pt x="2554" y="89"/>
                    <a:pt x="2554" y="89"/>
                  </a:cubicBezTo>
                  <a:cubicBezTo>
                    <a:pt x="2553" y="93"/>
                    <a:pt x="2552" y="99"/>
                    <a:pt x="2549" y="106"/>
                  </a:cubicBezTo>
                  <a:cubicBezTo>
                    <a:pt x="2549" y="104"/>
                    <a:pt x="2549" y="101"/>
                    <a:pt x="2548" y="99"/>
                  </a:cubicBezTo>
                  <a:cubicBezTo>
                    <a:pt x="2548" y="96"/>
                    <a:pt x="2548" y="96"/>
                    <a:pt x="2548" y="96"/>
                  </a:cubicBezTo>
                  <a:cubicBezTo>
                    <a:pt x="2547" y="95"/>
                    <a:pt x="2547" y="95"/>
                    <a:pt x="2547" y="95"/>
                  </a:cubicBezTo>
                  <a:cubicBezTo>
                    <a:pt x="2547" y="104"/>
                    <a:pt x="2545" y="113"/>
                    <a:pt x="2543" y="122"/>
                  </a:cubicBezTo>
                  <a:cubicBezTo>
                    <a:pt x="2541" y="127"/>
                    <a:pt x="2540" y="131"/>
                    <a:pt x="2538" y="134"/>
                  </a:cubicBezTo>
                  <a:cubicBezTo>
                    <a:pt x="2538" y="130"/>
                    <a:pt x="2538" y="126"/>
                    <a:pt x="2538" y="122"/>
                  </a:cubicBezTo>
                  <a:cubicBezTo>
                    <a:pt x="2542" y="102"/>
                    <a:pt x="2549" y="76"/>
                    <a:pt x="2549" y="76"/>
                  </a:cubicBezTo>
                  <a:cubicBezTo>
                    <a:pt x="2544" y="82"/>
                    <a:pt x="2539" y="94"/>
                    <a:pt x="2535" y="105"/>
                  </a:cubicBezTo>
                  <a:cubicBezTo>
                    <a:pt x="2535" y="102"/>
                    <a:pt x="2534" y="98"/>
                    <a:pt x="2532" y="95"/>
                  </a:cubicBezTo>
                  <a:cubicBezTo>
                    <a:pt x="2533" y="74"/>
                    <a:pt x="2529" y="62"/>
                    <a:pt x="2529" y="62"/>
                  </a:cubicBezTo>
                  <a:cubicBezTo>
                    <a:pt x="2531" y="69"/>
                    <a:pt x="2531" y="78"/>
                    <a:pt x="2530" y="88"/>
                  </a:cubicBezTo>
                  <a:cubicBezTo>
                    <a:pt x="2527" y="83"/>
                    <a:pt x="2524" y="78"/>
                    <a:pt x="2520" y="73"/>
                  </a:cubicBezTo>
                  <a:cubicBezTo>
                    <a:pt x="2524" y="80"/>
                    <a:pt x="2527" y="92"/>
                    <a:pt x="2528" y="102"/>
                  </a:cubicBezTo>
                  <a:cubicBezTo>
                    <a:pt x="2527" y="108"/>
                    <a:pt x="2526" y="115"/>
                    <a:pt x="2525" y="120"/>
                  </a:cubicBezTo>
                  <a:cubicBezTo>
                    <a:pt x="2524" y="113"/>
                    <a:pt x="2523" y="106"/>
                    <a:pt x="2521" y="100"/>
                  </a:cubicBezTo>
                  <a:cubicBezTo>
                    <a:pt x="2522" y="89"/>
                    <a:pt x="2522" y="82"/>
                    <a:pt x="2522" y="82"/>
                  </a:cubicBezTo>
                  <a:cubicBezTo>
                    <a:pt x="2521" y="98"/>
                    <a:pt x="2521" y="98"/>
                    <a:pt x="2521" y="98"/>
                  </a:cubicBezTo>
                  <a:cubicBezTo>
                    <a:pt x="2520" y="94"/>
                    <a:pt x="2519" y="91"/>
                    <a:pt x="2517" y="88"/>
                  </a:cubicBezTo>
                  <a:cubicBezTo>
                    <a:pt x="2517" y="73"/>
                    <a:pt x="2516" y="60"/>
                    <a:pt x="2516" y="60"/>
                  </a:cubicBezTo>
                  <a:cubicBezTo>
                    <a:pt x="2516" y="72"/>
                    <a:pt x="2513" y="90"/>
                    <a:pt x="2513" y="90"/>
                  </a:cubicBezTo>
                  <a:cubicBezTo>
                    <a:pt x="2511" y="84"/>
                    <a:pt x="2511" y="64"/>
                    <a:pt x="2511" y="64"/>
                  </a:cubicBezTo>
                  <a:cubicBezTo>
                    <a:pt x="2511" y="68"/>
                    <a:pt x="2510" y="83"/>
                    <a:pt x="2508" y="98"/>
                  </a:cubicBezTo>
                  <a:cubicBezTo>
                    <a:pt x="2508" y="96"/>
                    <a:pt x="2507" y="95"/>
                    <a:pt x="2507" y="93"/>
                  </a:cubicBezTo>
                  <a:cubicBezTo>
                    <a:pt x="2506" y="88"/>
                    <a:pt x="2504" y="82"/>
                    <a:pt x="2502" y="76"/>
                  </a:cubicBezTo>
                  <a:cubicBezTo>
                    <a:pt x="2502" y="57"/>
                    <a:pt x="2502" y="42"/>
                    <a:pt x="2502" y="42"/>
                  </a:cubicBezTo>
                  <a:cubicBezTo>
                    <a:pt x="2502" y="49"/>
                    <a:pt x="2502" y="59"/>
                    <a:pt x="2501" y="70"/>
                  </a:cubicBezTo>
                  <a:cubicBezTo>
                    <a:pt x="2498" y="64"/>
                    <a:pt x="2496" y="57"/>
                    <a:pt x="2493" y="51"/>
                  </a:cubicBezTo>
                  <a:cubicBezTo>
                    <a:pt x="2492" y="52"/>
                    <a:pt x="2492" y="54"/>
                    <a:pt x="2492" y="55"/>
                  </a:cubicBezTo>
                  <a:cubicBezTo>
                    <a:pt x="2496" y="65"/>
                    <a:pt x="2498" y="74"/>
                    <a:pt x="2499" y="82"/>
                  </a:cubicBezTo>
                  <a:cubicBezTo>
                    <a:pt x="2499" y="88"/>
                    <a:pt x="2498" y="94"/>
                    <a:pt x="2497" y="100"/>
                  </a:cubicBezTo>
                  <a:cubicBezTo>
                    <a:pt x="2496" y="96"/>
                    <a:pt x="2495" y="92"/>
                    <a:pt x="2494" y="88"/>
                  </a:cubicBezTo>
                  <a:cubicBezTo>
                    <a:pt x="2495" y="78"/>
                    <a:pt x="2496" y="70"/>
                    <a:pt x="2496" y="70"/>
                  </a:cubicBezTo>
                  <a:cubicBezTo>
                    <a:pt x="2495" y="72"/>
                    <a:pt x="2494" y="78"/>
                    <a:pt x="2493" y="85"/>
                  </a:cubicBezTo>
                  <a:cubicBezTo>
                    <a:pt x="2491" y="82"/>
                    <a:pt x="2489" y="79"/>
                    <a:pt x="2487" y="76"/>
                  </a:cubicBezTo>
                  <a:cubicBezTo>
                    <a:pt x="2486" y="71"/>
                    <a:pt x="2486" y="66"/>
                    <a:pt x="2486" y="61"/>
                  </a:cubicBezTo>
                  <a:cubicBezTo>
                    <a:pt x="2485" y="73"/>
                    <a:pt x="2483" y="87"/>
                    <a:pt x="2481" y="101"/>
                  </a:cubicBezTo>
                  <a:cubicBezTo>
                    <a:pt x="2479" y="95"/>
                    <a:pt x="2477" y="90"/>
                    <a:pt x="2475" y="86"/>
                  </a:cubicBezTo>
                  <a:cubicBezTo>
                    <a:pt x="2476" y="73"/>
                    <a:pt x="2476" y="64"/>
                    <a:pt x="2476" y="64"/>
                  </a:cubicBezTo>
                  <a:cubicBezTo>
                    <a:pt x="2476" y="71"/>
                    <a:pt x="2474" y="82"/>
                    <a:pt x="2472" y="95"/>
                  </a:cubicBezTo>
                  <a:cubicBezTo>
                    <a:pt x="2470" y="87"/>
                    <a:pt x="2468" y="79"/>
                    <a:pt x="2464" y="71"/>
                  </a:cubicBezTo>
                  <a:cubicBezTo>
                    <a:pt x="2466" y="49"/>
                    <a:pt x="2467" y="30"/>
                    <a:pt x="2467" y="30"/>
                  </a:cubicBezTo>
                  <a:cubicBezTo>
                    <a:pt x="2465" y="35"/>
                    <a:pt x="2463" y="49"/>
                    <a:pt x="2461" y="65"/>
                  </a:cubicBezTo>
                  <a:cubicBezTo>
                    <a:pt x="2460" y="62"/>
                    <a:pt x="2458" y="59"/>
                    <a:pt x="2456" y="56"/>
                  </a:cubicBezTo>
                  <a:cubicBezTo>
                    <a:pt x="2456" y="63"/>
                    <a:pt x="2458" y="70"/>
                    <a:pt x="2460" y="78"/>
                  </a:cubicBezTo>
                  <a:cubicBezTo>
                    <a:pt x="2459" y="87"/>
                    <a:pt x="2458" y="97"/>
                    <a:pt x="2457" y="106"/>
                  </a:cubicBezTo>
                  <a:cubicBezTo>
                    <a:pt x="2457" y="105"/>
                    <a:pt x="2457" y="104"/>
                    <a:pt x="2456" y="103"/>
                  </a:cubicBezTo>
                  <a:cubicBezTo>
                    <a:pt x="2457" y="104"/>
                    <a:pt x="2457" y="106"/>
                    <a:pt x="2457" y="109"/>
                  </a:cubicBezTo>
                  <a:cubicBezTo>
                    <a:pt x="2456" y="120"/>
                    <a:pt x="2455" y="131"/>
                    <a:pt x="2455" y="138"/>
                  </a:cubicBezTo>
                  <a:cubicBezTo>
                    <a:pt x="2455" y="137"/>
                    <a:pt x="2454" y="135"/>
                    <a:pt x="2454" y="134"/>
                  </a:cubicBezTo>
                  <a:cubicBezTo>
                    <a:pt x="2453" y="99"/>
                    <a:pt x="2448" y="41"/>
                    <a:pt x="2448" y="41"/>
                  </a:cubicBezTo>
                  <a:cubicBezTo>
                    <a:pt x="2449" y="58"/>
                    <a:pt x="2448" y="86"/>
                    <a:pt x="2446" y="108"/>
                  </a:cubicBezTo>
                  <a:cubicBezTo>
                    <a:pt x="2444" y="105"/>
                    <a:pt x="2443" y="102"/>
                    <a:pt x="2441" y="99"/>
                  </a:cubicBezTo>
                  <a:cubicBezTo>
                    <a:pt x="2441" y="86"/>
                    <a:pt x="2441" y="73"/>
                    <a:pt x="2441" y="67"/>
                  </a:cubicBezTo>
                  <a:cubicBezTo>
                    <a:pt x="2441" y="75"/>
                    <a:pt x="2440" y="85"/>
                    <a:pt x="2439" y="94"/>
                  </a:cubicBezTo>
                  <a:cubicBezTo>
                    <a:pt x="2438" y="92"/>
                    <a:pt x="2437" y="91"/>
                    <a:pt x="2436" y="89"/>
                  </a:cubicBezTo>
                  <a:cubicBezTo>
                    <a:pt x="2437" y="91"/>
                    <a:pt x="2438" y="94"/>
                    <a:pt x="2438" y="97"/>
                  </a:cubicBezTo>
                  <a:cubicBezTo>
                    <a:pt x="2437" y="104"/>
                    <a:pt x="2436" y="110"/>
                    <a:pt x="2434" y="116"/>
                  </a:cubicBezTo>
                  <a:cubicBezTo>
                    <a:pt x="2433" y="110"/>
                    <a:pt x="2432" y="105"/>
                    <a:pt x="2430" y="101"/>
                  </a:cubicBezTo>
                  <a:cubicBezTo>
                    <a:pt x="2431" y="91"/>
                    <a:pt x="2432" y="83"/>
                    <a:pt x="2432" y="83"/>
                  </a:cubicBezTo>
                  <a:cubicBezTo>
                    <a:pt x="2432" y="86"/>
                    <a:pt x="2431" y="92"/>
                    <a:pt x="2429" y="98"/>
                  </a:cubicBezTo>
                  <a:cubicBezTo>
                    <a:pt x="2428" y="94"/>
                    <a:pt x="2427" y="91"/>
                    <a:pt x="2426" y="89"/>
                  </a:cubicBezTo>
                  <a:cubicBezTo>
                    <a:pt x="2427" y="74"/>
                    <a:pt x="2428" y="62"/>
                    <a:pt x="2428" y="62"/>
                  </a:cubicBezTo>
                  <a:cubicBezTo>
                    <a:pt x="2427" y="65"/>
                    <a:pt x="2426" y="75"/>
                    <a:pt x="2424" y="87"/>
                  </a:cubicBezTo>
                  <a:cubicBezTo>
                    <a:pt x="2422" y="83"/>
                    <a:pt x="2420" y="81"/>
                    <a:pt x="2417" y="78"/>
                  </a:cubicBezTo>
                  <a:cubicBezTo>
                    <a:pt x="2420" y="81"/>
                    <a:pt x="2422" y="84"/>
                    <a:pt x="2424" y="89"/>
                  </a:cubicBezTo>
                  <a:cubicBezTo>
                    <a:pt x="2423" y="96"/>
                    <a:pt x="2422" y="105"/>
                    <a:pt x="2421" y="113"/>
                  </a:cubicBezTo>
                  <a:cubicBezTo>
                    <a:pt x="2420" y="108"/>
                    <a:pt x="2419" y="104"/>
                    <a:pt x="2417" y="100"/>
                  </a:cubicBezTo>
                  <a:cubicBezTo>
                    <a:pt x="2416" y="86"/>
                    <a:pt x="2414" y="74"/>
                    <a:pt x="2413" y="68"/>
                  </a:cubicBezTo>
                  <a:cubicBezTo>
                    <a:pt x="2413" y="71"/>
                    <a:pt x="2414" y="76"/>
                    <a:pt x="2413" y="86"/>
                  </a:cubicBezTo>
                  <a:cubicBezTo>
                    <a:pt x="2413" y="87"/>
                    <a:pt x="2413" y="88"/>
                    <a:pt x="2413" y="90"/>
                  </a:cubicBezTo>
                  <a:cubicBezTo>
                    <a:pt x="2412" y="87"/>
                    <a:pt x="2410" y="84"/>
                    <a:pt x="2408" y="81"/>
                  </a:cubicBezTo>
                  <a:cubicBezTo>
                    <a:pt x="2411" y="85"/>
                    <a:pt x="2412" y="91"/>
                    <a:pt x="2412" y="96"/>
                  </a:cubicBezTo>
                  <a:cubicBezTo>
                    <a:pt x="2411" y="105"/>
                    <a:pt x="2409" y="115"/>
                    <a:pt x="2407" y="124"/>
                  </a:cubicBezTo>
                  <a:cubicBezTo>
                    <a:pt x="2407" y="113"/>
                    <a:pt x="2406" y="102"/>
                    <a:pt x="2404" y="91"/>
                  </a:cubicBezTo>
                  <a:cubicBezTo>
                    <a:pt x="2404" y="77"/>
                    <a:pt x="2404" y="77"/>
                    <a:pt x="2404" y="77"/>
                  </a:cubicBezTo>
                  <a:cubicBezTo>
                    <a:pt x="2407" y="35"/>
                    <a:pt x="2400" y="19"/>
                    <a:pt x="2400" y="19"/>
                  </a:cubicBezTo>
                  <a:cubicBezTo>
                    <a:pt x="2400" y="19"/>
                    <a:pt x="2403" y="31"/>
                    <a:pt x="2402" y="54"/>
                  </a:cubicBezTo>
                  <a:cubicBezTo>
                    <a:pt x="2401" y="59"/>
                    <a:pt x="2401" y="68"/>
                    <a:pt x="2400" y="78"/>
                  </a:cubicBezTo>
                  <a:cubicBezTo>
                    <a:pt x="2397" y="72"/>
                    <a:pt x="2394" y="66"/>
                    <a:pt x="2390" y="60"/>
                  </a:cubicBezTo>
                  <a:cubicBezTo>
                    <a:pt x="2390" y="61"/>
                    <a:pt x="2390" y="61"/>
                    <a:pt x="2390" y="61"/>
                  </a:cubicBezTo>
                  <a:cubicBezTo>
                    <a:pt x="2390" y="62"/>
                    <a:pt x="2390" y="63"/>
                    <a:pt x="2390" y="64"/>
                  </a:cubicBezTo>
                  <a:cubicBezTo>
                    <a:pt x="2388" y="44"/>
                    <a:pt x="2381" y="40"/>
                    <a:pt x="2381" y="40"/>
                  </a:cubicBezTo>
                  <a:cubicBezTo>
                    <a:pt x="2381" y="40"/>
                    <a:pt x="2387" y="44"/>
                    <a:pt x="2387" y="70"/>
                  </a:cubicBezTo>
                  <a:cubicBezTo>
                    <a:pt x="2387" y="76"/>
                    <a:pt x="2386" y="85"/>
                    <a:pt x="2384" y="94"/>
                  </a:cubicBezTo>
                  <a:cubicBezTo>
                    <a:pt x="2382" y="90"/>
                    <a:pt x="2379" y="86"/>
                    <a:pt x="2376" y="83"/>
                  </a:cubicBezTo>
                  <a:cubicBezTo>
                    <a:pt x="2379" y="87"/>
                    <a:pt x="2382" y="92"/>
                    <a:pt x="2384" y="97"/>
                  </a:cubicBezTo>
                  <a:cubicBezTo>
                    <a:pt x="2383" y="100"/>
                    <a:pt x="2383" y="103"/>
                    <a:pt x="2382" y="106"/>
                  </a:cubicBezTo>
                  <a:cubicBezTo>
                    <a:pt x="2381" y="104"/>
                    <a:pt x="2381" y="102"/>
                    <a:pt x="2380" y="100"/>
                  </a:cubicBezTo>
                  <a:cubicBezTo>
                    <a:pt x="2381" y="102"/>
                    <a:pt x="2381" y="105"/>
                    <a:pt x="2382" y="108"/>
                  </a:cubicBezTo>
                  <a:cubicBezTo>
                    <a:pt x="2381" y="111"/>
                    <a:pt x="2380" y="114"/>
                    <a:pt x="2379" y="117"/>
                  </a:cubicBezTo>
                  <a:cubicBezTo>
                    <a:pt x="2378" y="113"/>
                    <a:pt x="2376" y="108"/>
                    <a:pt x="2374" y="104"/>
                  </a:cubicBezTo>
                  <a:cubicBezTo>
                    <a:pt x="2375" y="87"/>
                    <a:pt x="2376" y="71"/>
                    <a:pt x="2376" y="71"/>
                  </a:cubicBezTo>
                  <a:cubicBezTo>
                    <a:pt x="2375" y="73"/>
                    <a:pt x="2373" y="84"/>
                    <a:pt x="2371" y="97"/>
                  </a:cubicBezTo>
                  <a:cubicBezTo>
                    <a:pt x="2370" y="95"/>
                    <a:pt x="2369" y="93"/>
                    <a:pt x="2368" y="92"/>
                  </a:cubicBezTo>
                  <a:cubicBezTo>
                    <a:pt x="2369" y="81"/>
                    <a:pt x="2370" y="72"/>
                    <a:pt x="2371" y="66"/>
                  </a:cubicBezTo>
                  <a:cubicBezTo>
                    <a:pt x="2370" y="73"/>
                    <a:pt x="2369" y="81"/>
                    <a:pt x="2367" y="90"/>
                  </a:cubicBezTo>
                  <a:cubicBezTo>
                    <a:pt x="2366" y="88"/>
                    <a:pt x="2364" y="86"/>
                    <a:pt x="2362" y="83"/>
                  </a:cubicBezTo>
                  <a:cubicBezTo>
                    <a:pt x="2366" y="26"/>
                    <a:pt x="2364" y="12"/>
                    <a:pt x="2364" y="12"/>
                  </a:cubicBezTo>
                  <a:cubicBezTo>
                    <a:pt x="2364" y="12"/>
                    <a:pt x="2364" y="18"/>
                    <a:pt x="2361" y="56"/>
                  </a:cubicBezTo>
                  <a:cubicBezTo>
                    <a:pt x="2360" y="64"/>
                    <a:pt x="2359" y="71"/>
                    <a:pt x="2358" y="78"/>
                  </a:cubicBezTo>
                  <a:cubicBezTo>
                    <a:pt x="2356" y="76"/>
                    <a:pt x="2353" y="73"/>
                    <a:pt x="2351" y="71"/>
                  </a:cubicBezTo>
                  <a:cubicBezTo>
                    <a:pt x="2352" y="48"/>
                    <a:pt x="2353" y="31"/>
                    <a:pt x="2353" y="31"/>
                  </a:cubicBezTo>
                  <a:cubicBezTo>
                    <a:pt x="2351" y="37"/>
                    <a:pt x="2349" y="52"/>
                    <a:pt x="2348" y="68"/>
                  </a:cubicBezTo>
                  <a:cubicBezTo>
                    <a:pt x="2346" y="66"/>
                    <a:pt x="2344" y="65"/>
                    <a:pt x="2342" y="63"/>
                  </a:cubicBezTo>
                  <a:cubicBezTo>
                    <a:pt x="2344" y="65"/>
                    <a:pt x="2346" y="67"/>
                    <a:pt x="2348" y="69"/>
                  </a:cubicBezTo>
                  <a:cubicBezTo>
                    <a:pt x="2347" y="82"/>
                    <a:pt x="2347" y="96"/>
                    <a:pt x="2346" y="109"/>
                  </a:cubicBezTo>
                  <a:cubicBezTo>
                    <a:pt x="2345" y="104"/>
                    <a:pt x="2343" y="99"/>
                    <a:pt x="2342" y="96"/>
                  </a:cubicBezTo>
                  <a:cubicBezTo>
                    <a:pt x="2343" y="104"/>
                    <a:pt x="2344" y="112"/>
                    <a:pt x="2346" y="120"/>
                  </a:cubicBezTo>
                  <a:cubicBezTo>
                    <a:pt x="2346" y="123"/>
                    <a:pt x="2346" y="126"/>
                    <a:pt x="2346" y="128"/>
                  </a:cubicBezTo>
                  <a:cubicBezTo>
                    <a:pt x="2345" y="125"/>
                    <a:pt x="2343" y="122"/>
                    <a:pt x="2342" y="118"/>
                  </a:cubicBezTo>
                  <a:cubicBezTo>
                    <a:pt x="2337" y="80"/>
                    <a:pt x="2330" y="28"/>
                    <a:pt x="2330" y="28"/>
                  </a:cubicBezTo>
                  <a:cubicBezTo>
                    <a:pt x="2330" y="39"/>
                    <a:pt x="2328" y="72"/>
                    <a:pt x="2326" y="100"/>
                  </a:cubicBezTo>
                  <a:cubicBezTo>
                    <a:pt x="2326" y="98"/>
                    <a:pt x="2325" y="97"/>
                    <a:pt x="2324" y="96"/>
                  </a:cubicBezTo>
                  <a:cubicBezTo>
                    <a:pt x="2325" y="97"/>
                    <a:pt x="2326" y="99"/>
                    <a:pt x="2326" y="100"/>
                  </a:cubicBezTo>
                  <a:cubicBezTo>
                    <a:pt x="2326" y="110"/>
                    <a:pt x="2325" y="120"/>
                    <a:pt x="2324" y="128"/>
                  </a:cubicBezTo>
                  <a:cubicBezTo>
                    <a:pt x="2324" y="128"/>
                    <a:pt x="2324" y="127"/>
                    <a:pt x="2324" y="127"/>
                  </a:cubicBezTo>
                  <a:cubicBezTo>
                    <a:pt x="2324" y="109"/>
                    <a:pt x="2322" y="87"/>
                    <a:pt x="2321" y="71"/>
                  </a:cubicBezTo>
                  <a:cubicBezTo>
                    <a:pt x="2322" y="68"/>
                    <a:pt x="2323" y="66"/>
                    <a:pt x="2324" y="64"/>
                  </a:cubicBezTo>
                  <a:cubicBezTo>
                    <a:pt x="2323" y="65"/>
                    <a:pt x="2322" y="67"/>
                    <a:pt x="2320" y="69"/>
                  </a:cubicBezTo>
                  <a:cubicBezTo>
                    <a:pt x="2320" y="61"/>
                    <a:pt x="2319" y="55"/>
                    <a:pt x="2319" y="53"/>
                  </a:cubicBezTo>
                  <a:cubicBezTo>
                    <a:pt x="2319" y="52"/>
                    <a:pt x="2320" y="52"/>
                    <a:pt x="2320" y="51"/>
                  </a:cubicBezTo>
                  <a:cubicBezTo>
                    <a:pt x="2320" y="51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7" y="54"/>
                    <a:pt x="2315" y="56"/>
                    <a:pt x="2313" y="57"/>
                  </a:cubicBezTo>
                  <a:cubicBezTo>
                    <a:pt x="2314" y="54"/>
                    <a:pt x="2314" y="52"/>
                    <a:pt x="2314" y="50"/>
                  </a:cubicBezTo>
                  <a:cubicBezTo>
                    <a:pt x="2318" y="46"/>
                    <a:pt x="2321" y="42"/>
                    <a:pt x="2325" y="38"/>
                  </a:cubicBezTo>
                  <a:cubicBezTo>
                    <a:pt x="2321" y="41"/>
                    <a:pt x="2318" y="44"/>
                    <a:pt x="2315" y="47"/>
                  </a:cubicBezTo>
                  <a:cubicBezTo>
                    <a:pt x="2315" y="43"/>
                    <a:pt x="2316" y="40"/>
                    <a:pt x="2316" y="40"/>
                  </a:cubicBezTo>
                  <a:cubicBezTo>
                    <a:pt x="2315" y="43"/>
                    <a:pt x="2313" y="46"/>
                    <a:pt x="2312" y="50"/>
                  </a:cubicBezTo>
                  <a:cubicBezTo>
                    <a:pt x="2305" y="58"/>
                    <a:pt x="2300" y="66"/>
                    <a:pt x="2296" y="75"/>
                  </a:cubicBezTo>
                  <a:cubicBezTo>
                    <a:pt x="2295" y="70"/>
                    <a:pt x="2295" y="66"/>
                    <a:pt x="2295" y="63"/>
                  </a:cubicBezTo>
                  <a:cubicBezTo>
                    <a:pt x="2298" y="57"/>
                    <a:pt x="2301" y="50"/>
                    <a:pt x="2305" y="42"/>
                  </a:cubicBezTo>
                  <a:cubicBezTo>
                    <a:pt x="2296" y="52"/>
                    <a:pt x="2290" y="61"/>
                    <a:pt x="2286" y="71"/>
                  </a:cubicBezTo>
                  <a:cubicBezTo>
                    <a:pt x="2285" y="70"/>
                    <a:pt x="2284" y="70"/>
                    <a:pt x="2284" y="69"/>
                  </a:cubicBezTo>
                  <a:cubicBezTo>
                    <a:pt x="2284" y="68"/>
                    <a:pt x="2284" y="67"/>
                    <a:pt x="2283" y="65"/>
                  </a:cubicBezTo>
                  <a:cubicBezTo>
                    <a:pt x="2290" y="53"/>
                    <a:pt x="2298" y="41"/>
                    <a:pt x="2309" y="25"/>
                  </a:cubicBezTo>
                  <a:cubicBezTo>
                    <a:pt x="2298" y="40"/>
                    <a:pt x="2290" y="51"/>
                    <a:pt x="2283" y="63"/>
                  </a:cubicBezTo>
                  <a:cubicBezTo>
                    <a:pt x="2281" y="45"/>
                    <a:pt x="2279" y="30"/>
                    <a:pt x="2279" y="30"/>
                  </a:cubicBezTo>
                  <a:cubicBezTo>
                    <a:pt x="2280" y="35"/>
                    <a:pt x="2280" y="49"/>
                    <a:pt x="2280" y="65"/>
                  </a:cubicBezTo>
                  <a:cubicBezTo>
                    <a:pt x="2280" y="65"/>
                    <a:pt x="2279" y="65"/>
                    <a:pt x="2279" y="65"/>
                  </a:cubicBezTo>
                  <a:cubicBezTo>
                    <a:pt x="2279" y="65"/>
                    <a:pt x="2280" y="65"/>
                    <a:pt x="2280" y="65"/>
                  </a:cubicBezTo>
                  <a:cubicBezTo>
                    <a:pt x="2280" y="67"/>
                    <a:pt x="2280" y="69"/>
                    <a:pt x="2279" y="71"/>
                  </a:cubicBezTo>
                  <a:cubicBezTo>
                    <a:pt x="2278" y="74"/>
                    <a:pt x="2277" y="78"/>
                    <a:pt x="2276" y="81"/>
                  </a:cubicBezTo>
                  <a:cubicBezTo>
                    <a:pt x="2277" y="78"/>
                    <a:pt x="2278" y="76"/>
                    <a:pt x="2279" y="73"/>
                  </a:cubicBezTo>
                  <a:cubicBezTo>
                    <a:pt x="2279" y="79"/>
                    <a:pt x="2279" y="85"/>
                    <a:pt x="2279" y="91"/>
                  </a:cubicBezTo>
                  <a:cubicBezTo>
                    <a:pt x="2278" y="93"/>
                    <a:pt x="2278" y="95"/>
                    <a:pt x="2278" y="97"/>
                  </a:cubicBezTo>
                  <a:cubicBezTo>
                    <a:pt x="2277" y="96"/>
                    <a:pt x="2276" y="95"/>
                    <a:pt x="2276" y="94"/>
                  </a:cubicBezTo>
                  <a:cubicBezTo>
                    <a:pt x="2275" y="91"/>
                    <a:pt x="2275" y="88"/>
                    <a:pt x="2275" y="85"/>
                  </a:cubicBezTo>
                  <a:cubicBezTo>
                    <a:pt x="2275" y="83"/>
                    <a:pt x="2276" y="82"/>
                    <a:pt x="2276" y="81"/>
                  </a:cubicBezTo>
                  <a:cubicBezTo>
                    <a:pt x="2276" y="82"/>
                    <a:pt x="2275" y="83"/>
                    <a:pt x="2275" y="84"/>
                  </a:cubicBezTo>
                  <a:cubicBezTo>
                    <a:pt x="2274" y="72"/>
                    <a:pt x="2273" y="62"/>
                    <a:pt x="2273" y="55"/>
                  </a:cubicBezTo>
                  <a:cubicBezTo>
                    <a:pt x="2274" y="54"/>
                    <a:pt x="2275" y="53"/>
                    <a:pt x="2277" y="52"/>
                  </a:cubicBezTo>
                  <a:cubicBezTo>
                    <a:pt x="2275" y="53"/>
                    <a:pt x="2274" y="54"/>
                    <a:pt x="2273" y="54"/>
                  </a:cubicBezTo>
                  <a:cubicBezTo>
                    <a:pt x="2273" y="49"/>
                    <a:pt x="2272" y="46"/>
                    <a:pt x="2272" y="46"/>
                  </a:cubicBezTo>
                  <a:cubicBezTo>
                    <a:pt x="2272" y="48"/>
                    <a:pt x="2272" y="51"/>
                    <a:pt x="2272" y="55"/>
                  </a:cubicBezTo>
                  <a:cubicBezTo>
                    <a:pt x="2269" y="57"/>
                    <a:pt x="2266" y="59"/>
                    <a:pt x="2263" y="62"/>
                  </a:cubicBezTo>
                  <a:cubicBezTo>
                    <a:pt x="2263" y="58"/>
                    <a:pt x="2263" y="54"/>
                    <a:pt x="2263" y="50"/>
                  </a:cubicBezTo>
                  <a:cubicBezTo>
                    <a:pt x="2267" y="45"/>
                    <a:pt x="2272" y="40"/>
                    <a:pt x="2277" y="34"/>
                  </a:cubicBezTo>
                  <a:cubicBezTo>
                    <a:pt x="2272" y="39"/>
                    <a:pt x="2267" y="44"/>
                    <a:pt x="2263" y="48"/>
                  </a:cubicBezTo>
                  <a:cubicBezTo>
                    <a:pt x="2265" y="21"/>
                    <a:pt x="2266" y="0"/>
                    <a:pt x="2266" y="0"/>
                  </a:cubicBezTo>
                  <a:cubicBezTo>
                    <a:pt x="2262" y="10"/>
                    <a:pt x="2260" y="35"/>
                    <a:pt x="2259" y="53"/>
                  </a:cubicBezTo>
                  <a:cubicBezTo>
                    <a:pt x="2258" y="54"/>
                    <a:pt x="2257" y="55"/>
                    <a:pt x="2257" y="56"/>
                  </a:cubicBezTo>
                  <a:cubicBezTo>
                    <a:pt x="2255" y="44"/>
                    <a:pt x="2252" y="33"/>
                    <a:pt x="2252" y="33"/>
                  </a:cubicBezTo>
                  <a:cubicBezTo>
                    <a:pt x="2253" y="39"/>
                    <a:pt x="2253" y="49"/>
                    <a:pt x="2252" y="62"/>
                  </a:cubicBezTo>
                  <a:cubicBezTo>
                    <a:pt x="2250" y="63"/>
                    <a:pt x="2249" y="65"/>
                    <a:pt x="2248" y="67"/>
                  </a:cubicBezTo>
                  <a:cubicBezTo>
                    <a:pt x="2247" y="65"/>
                    <a:pt x="2246" y="63"/>
                    <a:pt x="2245" y="62"/>
                  </a:cubicBezTo>
                  <a:cubicBezTo>
                    <a:pt x="2245" y="63"/>
                    <a:pt x="2246" y="65"/>
                    <a:pt x="2247" y="68"/>
                  </a:cubicBezTo>
                  <a:cubicBezTo>
                    <a:pt x="2244" y="72"/>
                    <a:pt x="2242" y="75"/>
                    <a:pt x="2241" y="78"/>
                  </a:cubicBezTo>
                  <a:cubicBezTo>
                    <a:pt x="2240" y="61"/>
                    <a:pt x="2240" y="48"/>
                    <a:pt x="2240" y="48"/>
                  </a:cubicBezTo>
                  <a:cubicBezTo>
                    <a:pt x="2239" y="52"/>
                    <a:pt x="2238" y="65"/>
                    <a:pt x="2236" y="80"/>
                  </a:cubicBezTo>
                  <a:cubicBezTo>
                    <a:pt x="2235" y="82"/>
                    <a:pt x="2235" y="85"/>
                    <a:pt x="2234" y="87"/>
                  </a:cubicBezTo>
                  <a:cubicBezTo>
                    <a:pt x="2233" y="86"/>
                    <a:pt x="2233" y="86"/>
                    <a:pt x="2232" y="85"/>
                  </a:cubicBezTo>
                  <a:cubicBezTo>
                    <a:pt x="2235" y="48"/>
                    <a:pt x="2238" y="9"/>
                    <a:pt x="2238" y="9"/>
                  </a:cubicBezTo>
                  <a:cubicBezTo>
                    <a:pt x="2234" y="20"/>
                    <a:pt x="2230" y="57"/>
                    <a:pt x="2226" y="89"/>
                  </a:cubicBezTo>
                  <a:cubicBezTo>
                    <a:pt x="2225" y="91"/>
                    <a:pt x="2224" y="92"/>
                    <a:pt x="2224" y="93"/>
                  </a:cubicBezTo>
                  <a:cubicBezTo>
                    <a:pt x="2223" y="92"/>
                    <a:pt x="2222" y="90"/>
                    <a:pt x="2221" y="89"/>
                  </a:cubicBezTo>
                  <a:cubicBezTo>
                    <a:pt x="2224" y="72"/>
                    <a:pt x="2227" y="55"/>
                    <a:pt x="2227" y="37"/>
                  </a:cubicBezTo>
                  <a:cubicBezTo>
                    <a:pt x="2227" y="34"/>
                    <a:pt x="2227" y="30"/>
                    <a:pt x="2227" y="26"/>
                  </a:cubicBezTo>
                  <a:cubicBezTo>
                    <a:pt x="2220" y="45"/>
                    <a:pt x="2219" y="66"/>
                    <a:pt x="2215" y="86"/>
                  </a:cubicBezTo>
                  <a:cubicBezTo>
                    <a:pt x="2214" y="85"/>
                    <a:pt x="2214" y="84"/>
                    <a:pt x="2214" y="84"/>
                  </a:cubicBezTo>
                  <a:cubicBezTo>
                    <a:pt x="2214" y="84"/>
                    <a:pt x="2214" y="85"/>
                    <a:pt x="2215" y="86"/>
                  </a:cubicBezTo>
                  <a:cubicBezTo>
                    <a:pt x="2214" y="88"/>
                    <a:pt x="2214" y="90"/>
                    <a:pt x="2214" y="92"/>
                  </a:cubicBezTo>
                  <a:cubicBezTo>
                    <a:pt x="2213" y="94"/>
                    <a:pt x="2213" y="96"/>
                    <a:pt x="2212" y="98"/>
                  </a:cubicBezTo>
                  <a:cubicBezTo>
                    <a:pt x="2212" y="97"/>
                    <a:pt x="2211" y="96"/>
                    <a:pt x="2210" y="95"/>
                  </a:cubicBezTo>
                  <a:cubicBezTo>
                    <a:pt x="2210" y="86"/>
                    <a:pt x="2209" y="78"/>
                    <a:pt x="2208" y="72"/>
                  </a:cubicBezTo>
                  <a:cubicBezTo>
                    <a:pt x="2211" y="67"/>
                    <a:pt x="2215" y="63"/>
                    <a:pt x="2219" y="59"/>
                  </a:cubicBezTo>
                  <a:cubicBezTo>
                    <a:pt x="2215" y="62"/>
                    <a:pt x="2211" y="66"/>
                    <a:pt x="2208" y="70"/>
                  </a:cubicBezTo>
                  <a:cubicBezTo>
                    <a:pt x="2207" y="64"/>
                    <a:pt x="2207" y="60"/>
                    <a:pt x="2206" y="57"/>
                  </a:cubicBezTo>
                  <a:cubicBezTo>
                    <a:pt x="2207" y="54"/>
                    <a:pt x="2209" y="52"/>
                    <a:pt x="2210" y="50"/>
                  </a:cubicBezTo>
                  <a:cubicBezTo>
                    <a:pt x="2209" y="51"/>
                    <a:pt x="2207" y="53"/>
                    <a:pt x="2206" y="54"/>
                  </a:cubicBezTo>
                  <a:cubicBezTo>
                    <a:pt x="2206" y="53"/>
                    <a:pt x="2206" y="52"/>
                    <a:pt x="2206" y="52"/>
                  </a:cubicBezTo>
                  <a:cubicBezTo>
                    <a:pt x="2206" y="53"/>
                    <a:pt x="2206" y="54"/>
                    <a:pt x="2206" y="54"/>
                  </a:cubicBezTo>
                  <a:cubicBezTo>
                    <a:pt x="2204" y="56"/>
                    <a:pt x="2202" y="58"/>
                    <a:pt x="2200" y="60"/>
                  </a:cubicBezTo>
                  <a:cubicBezTo>
                    <a:pt x="2199" y="54"/>
                    <a:pt x="2198" y="48"/>
                    <a:pt x="2197" y="44"/>
                  </a:cubicBezTo>
                  <a:cubicBezTo>
                    <a:pt x="2198" y="49"/>
                    <a:pt x="2197" y="56"/>
                    <a:pt x="2196" y="64"/>
                  </a:cubicBezTo>
                  <a:cubicBezTo>
                    <a:pt x="2195" y="66"/>
                    <a:pt x="2194" y="68"/>
                    <a:pt x="2193" y="69"/>
                  </a:cubicBezTo>
                  <a:cubicBezTo>
                    <a:pt x="2191" y="67"/>
                    <a:pt x="2190" y="66"/>
                    <a:pt x="2188" y="64"/>
                  </a:cubicBezTo>
                  <a:cubicBezTo>
                    <a:pt x="2190" y="66"/>
                    <a:pt x="2191" y="67"/>
                    <a:pt x="2193" y="69"/>
                  </a:cubicBezTo>
                  <a:cubicBezTo>
                    <a:pt x="2191" y="71"/>
                    <a:pt x="2190" y="73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8" y="76"/>
                    <a:pt x="2187" y="77"/>
                    <a:pt x="2186" y="79"/>
                  </a:cubicBezTo>
                  <a:cubicBezTo>
                    <a:pt x="2186" y="79"/>
                    <a:pt x="2186" y="79"/>
                    <a:pt x="2186" y="79"/>
                  </a:cubicBezTo>
                  <a:cubicBezTo>
                    <a:pt x="2187" y="60"/>
                    <a:pt x="2187" y="45"/>
                    <a:pt x="2187" y="45"/>
                  </a:cubicBezTo>
                  <a:cubicBezTo>
                    <a:pt x="2187" y="50"/>
                    <a:pt x="2185" y="61"/>
                    <a:pt x="2182" y="73"/>
                  </a:cubicBezTo>
                  <a:cubicBezTo>
                    <a:pt x="2181" y="73"/>
                    <a:pt x="2181" y="73"/>
                    <a:pt x="2180" y="72"/>
                  </a:cubicBezTo>
                  <a:cubicBezTo>
                    <a:pt x="2181" y="70"/>
                    <a:pt x="2181" y="68"/>
                    <a:pt x="2181" y="66"/>
                  </a:cubicBezTo>
                  <a:cubicBezTo>
                    <a:pt x="2181" y="65"/>
                    <a:pt x="2181" y="65"/>
                    <a:pt x="2182" y="65"/>
                  </a:cubicBezTo>
                  <a:cubicBezTo>
                    <a:pt x="2181" y="65"/>
                    <a:pt x="2181" y="65"/>
                    <a:pt x="2181" y="66"/>
                  </a:cubicBezTo>
                  <a:cubicBezTo>
                    <a:pt x="2181" y="64"/>
                    <a:pt x="2181" y="63"/>
                    <a:pt x="2181" y="61"/>
                  </a:cubicBezTo>
                  <a:cubicBezTo>
                    <a:pt x="2181" y="55"/>
                    <a:pt x="2181" y="49"/>
                    <a:pt x="2180" y="42"/>
                  </a:cubicBezTo>
                  <a:cubicBezTo>
                    <a:pt x="2183" y="27"/>
                    <a:pt x="2185" y="17"/>
                    <a:pt x="2185" y="17"/>
                  </a:cubicBezTo>
                  <a:cubicBezTo>
                    <a:pt x="2182" y="22"/>
                    <a:pt x="2175" y="49"/>
                    <a:pt x="2169" y="78"/>
                  </a:cubicBezTo>
                  <a:cubicBezTo>
                    <a:pt x="2169" y="78"/>
                    <a:pt x="2169" y="78"/>
                    <a:pt x="2168" y="79"/>
                  </a:cubicBezTo>
                  <a:cubicBezTo>
                    <a:pt x="2167" y="76"/>
                    <a:pt x="2164" y="72"/>
                    <a:pt x="2162" y="69"/>
                  </a:cubicBezTo>
                  <a:cubicBezTo>
                    <a:pt x="2163" y="67"/>
                    <a:pt x="2165" y="66"/>
                    <a:pt x="2167" y="64"/>
                  </a:cubicBezTo>
                  <a:cubicBezTo>
                    <a:pt x="2165" y="66"/>
                    <a:pt x="2163" y="67"/>
                    <a:pt x="2162" y="69"/>
                  </a:cubicBezTo>
                  <a:cubicBezTo>
                    <a:pt x="2161" y="68"/>
                    <a:pt x="2160" y="67"/>
                    <a:pt x="2159" y="66"/>
                  </a:cubicBezTo>
                  <a:cubicBezTo>
                    <a:pt x="2159" y="60"/>
                    <a:pt x="2158" y="55"/>
                    <a:pt x="2158" y="52"/>
                  </a:cubicBezTo>
                  <a:cubicBezTo>
                    <a:pt x="2158" y="56"/>
                    <a:pt x="2158" y="60"/>
                    <a:pt x="2158" y="64"/>
                  </a:cubicBezTo>
                  <a:cubicBezTo>
                    <a:pt x="2154" y="60"/>
                    <a:pt x="2150" y="55"/>
                    <a:pt x="2145" y="50"/>
                  </a:cubicBezTo>
                  <a:cubicBezTo>
                    <a:pt x="2148" y="55"/>
                    <a:pt x="2151" y="60"/>
                    <a:pt x="2154" y="65"/>
                  </a:cubicBezTo>
                  <a:cubicBezTo>
                    <a:pt x="2153" y="68"/>
                    <a:pt x="2153" y="71"/>
                    <a:pt x="2152" y="76"/>
                  </a:cubicBezTo>
                  <a:cubicBezTo>
                    <a:pt x="2150" y="74"/>
                    <a:pt x="2148" y="71"/>
                    <a:pt x="2145" y="68"/>
                  </a:cubicBezTo>
                  <a:cubicBezTo>
                    <a:pt x="2145" y="54"/>
                    <a:pt x="2144" y="41"/>
                    <a:pt x="2143" y="33"/>
                  </a:cubicBezTo>
                  <a:cubicBezTo>
                    <a:pt x="2144" y="42"/>
                    <a:pt x="2143" y="53"/>
                    <a:pt x="2142" y="65"/>
                  </a:cubicBezTo>
                  <a:cubicBezTo>
                    <a:pt x="2140" y="63"/>
                    <a:pt x="2138" y="61"/>
                    <a:pt x="2136" y="59"/>
                  </a:cubicBezTo>
                  <a:cubicBezTo>
                    <a:pt x="2138" y="61"/>
                    <a:pt x="2140" y="63"/>
                    <a:pt x="2142" y="65"/>
                  </a:cubicBezTo>
                  <a:cubicBezTo>
                    <a:pt x="2141" y="72"/>
                    <a:pt x="2140" y="80"/>
                    <a:pt x="2139" y="87"/>
                  </a:cubicBezTo>
                  <a:cubicBezTo>
                    <a:pt x="2139" y="87"/>
                    <a:pt x="2139" y="87"/>
                    <a:pt x="2139" y="87"/>
                  </a:cubicBezTo>
                  <a:cubicBezTo>
                    <a:pt x="2138" y="85"/>
                    <a:pt x="2138" y="84"/>
                    <a:pt x="2137" y="83"/>
                  </a:cubicBezTo>
                  <a:cubicBezTo>
                    <a:pt x="2138" y="82"/>
                    <a:pt x="2138" y="82"/>
                    <a:pt x="2138" y="81"/>
                  </a:cubicBezTo>
                  <a:cubicBezTo>
                    <a:pt x="2138" y="82"/>
                    <a:pt x="2138" y="82"/>
                    <a:pt x="2137" y="83"/>
                  </a:cubicBezTo>
                  <a:cubicBezTo>
                    <a:pt x="2137" y="81"/>
                    <a:pt x="2136" y="79"/>
                    <a:pt x="2135" y="77"/>
                  </a:cubicBezTo>
                  <a:cubicBezTo>
                    <a:pt x="2136" y="79"/>
                    <a:pt x="2136" y="81"/>
                    <a:pt x="2137" y="83"/>
                  </a:cubicBezTo>
                  <a:cubicBezTo>
                    <a:pt x="2136" y="85"/>
                    <a:pt x="2135" y="86"/>
                    <a:pt x="2134" y="88"/>
                  </a:cubicBezTo>
                  <a:cubicBezTo>
                    <a:pt x="2135" y="86"/>
                    <a:pt x="2136" y="85"/>
                    <a:pt x="2137" y="83"/>
                  </a:cubicBezTo>
                  <a:cubicBezTo>
                    <a:pt x="2137" y="85"/>
                    <a:pt x="2138" y="86"/>
                    <a:pt x="2138" y="88"/>
                  </a:cubicBezTo>
                  <a:cubicBezTo>
                    <a:pt x="2136" y="91"/>
                    <a:pt x="2135" y="95"/>
                    <a:pt x="2133" y="98"/>
                  </a:cubicBezTo>
                  <a:cubicBezTo>
                    <a:pt x="2133" y="97"/>
                    <a:pt x="2133" y="97"/>
                    <a:pt x="2132" y="97"/>
                  </a:cubicBezTo>
                  <a:cubicBezTo>
                    <a:pt x="2132" y="95"/>
                    <a:pt x="2132" y="94"/>
                    <a:pt x="2132" y="93"/>
                  </a:cubicBezTo>
                  <a:cubicBezTo>
                    <a:pt x="2132" y="91"/>
                    <a:pt x="2133" y="89"/>
                    <a:pt x="2134" y="88"/>
                  </a:cubicBezTo>
                  <a:cubicBezTo>
                    <a:pt x="2133" y="89"/>
                    <a:pt x="2132" y="91"/>
                    <a:pt x="2131" y="92"/>
                  </a:cubicBezTo>
                  <a:cubicBezTo>
                    <a:pt x="2131" y="92"/>
                    <a:pt x="2131" y="91"/>
                    <a:pt x="2131" y="91"/>
                  </a:cubicBezTo>
                  <a:cubicBezTo>
                    <a:pt x="2131" y="74"/>
                    <a:pt x="2130" y="60"/>
                    <a:pt x="2130" y="60"/>
                  </a:cubicBezTo>
                  <a:cubicBezTo>
                    <a:pt x="2130" y="65"/>
                    <a:pt x="2130" y="73"/>
                    <a:pt x="2129" y="81"/>
                  </a:cubicBezTo>
                  <a:cubicBezTo>
                    <a:pt x="2128" y="79"/>
                    <a:pt x="2128" y="76"/>
                    <a:pt x="2127" y="74"/>
                  </a:cubicBezTo>
                  <a:cubicBezTo>
                    <a:pt x="2128" y="79"/>
                    <a:pt x="2128" y="83"/>
                    <a:pt x="2128" y="88"/>
                  </a:cubicBezTo>
                  <a:cubicBezTo>
                    <a:pt x="2127" y="86"/>
                    <a:pt x="2126" y="84"/>
                    <a:pt x="2125" y="83"/>
                  </a:cubicBezTo>
                  <a:cubicBezTo>
                    <a:pt x="2126" y="85"/>
                    <a:pt x="2127" y="87"/>
                    <a:pt x="2128" y="89"/>
                  </a:cubicBezTo>
                  <a:cubicBezTo>
                    <a:pt x="2128" y="89"/>
                    <a:pt x="2128" y="89"/>
                    <a:pt x="2128" y="89"/>
                  </a:cubicBezTo>
                  <a:cubicBezTo>
                    <a:pt x="2128" y="93"/>
                    <a:pt x="2127" y="97"/>
                    <a:pt x="2127" y="101"/>
                  </a:cubicBezTo>
                  <a:cubicBezTo>
                    <a:pt x="2126" y="103"/>
                    <a:pt x="2125" y="104"/>
                    <a:pt x="2125" y="106"/>
                  </a:cubicBezTo>
                  <a:cubicBezTo>
                    <a:pt x="2123" y="100"/>
                    <a:pt x="2122" y="95"/>
                    <a:pt x="2120" y="90"/>
                  </a:cubicBezTo>
                  <a:cubicBezTo>
                    <a:pt x="2121" y="88"/>
                    <a:pt x="2123" y="85"/>
                    <a:pt x="2124" y="83"/>
                  </a:cubicBezTo>
                  <a:cubicBezTo>
                    <a:pt x="2123" y="85"/>
                    <a:pt x="2121" y="87"/>
                    <a:pt x="2119" y="89"/>
                  </a:cubicBezTo>
                  <a:cubicBezTo>
                    <a:pt x="2119" y="88"/>
                    <a:pt x="2118" y="87"/>
                    <a:pt x="2118" y="87"/>
                  </a:cubicBezTo>
                  <a:cubicBezTo>
                    <a:pt x="2118" y="76"/>
                    <a:pt x="2119" y="68"/>
                    <a:pt x="2119" y="68"/>
                  </a:cubicBezTo>
                  <a:cubicBezTo>
                    <a:pt x="2118" y="72"/>
                    <a:pt x="2117" y="77"/>
                    <a:pt x="2116" y="82"/>
                  </a:cubicBezTo>
                  <a:cubicBezTo>
                    <a:pt x="2116" y="81"/>
                    <a:pt x="2116" y="80"/>
                    <a:pt x="2116" y="80"/>
                  </a:cubicBezTo>
                  <a:cubicBezTo>
                    <a:pt x="2116" y="80"/>
                    <a:pt x="2116" y="81"/>
                    <a:pt x="2116" y="82"/>
                  </a:cubicBezTo>
                  <a:cubicBezTo>
                    <a:pt x="2115" y="80"/>
                    <a:pt x="2114" y="78"/>
                    <a:pt x="2112" y="75"/>
                  </a:cubicBezTo>
                  <a:cubicBezTo>
                    <a:pt x="2113" y="65"/>
                    <a:pt x="2114" y="56"/>
                    <a:pt x="2115" y="48"/>
                  </a:cubicBezTo>
                  <a:cubicBezTo>
                    <a:pt x="2114" y="55"/>
                    <a:pt x="2112" y="64"/>
                    <a:pt x="2111" y="73"/>
                  </a:cubicBezTo>
                  <a:cubicBezTo>
                    <a:pt x="2109" y="70"/>
                    <a:pt x="2107" y="67"/>
                    <a:pt x="2105" y="64"/>
                  </a:cubicBezTo>
                  <a:cubicBezTo>
                    <a:pt x="2105" y="62"/>
                    <a:pt x="2105" y="59"/>
                    <a:pt x="2105" y="57"/>
                  </a:cubicBezTo>
                  <a:cubicBezTo>
                    <a:pt x="2104" y="58"/>
                    <a:pt x="2104" y="60"/>
                    <a:pt x="2103" y="62"/>
                  </a:cubicBezTo>
                  <a:cubicBezTo>
                    <a:pt x="2101" y="59"/>
                    <a:pt x="2098" y="55"/>
                    <a:pt x="2095" y="52"/>
                  </a:cubicBezTo>
                  <a:cubicBezTo>
                    <a:pt x="2095" y="48"/>
                    <a:pt x="2095" y="46"/>
                    <a:pt x="2095" y="46"/>
                  </a:cubicBezTo>
                  <a:cubicBezTo>
                    <a:pt x="2095" y="48"/>
                    <a:pt x="2095" y="49"/>
                    <a:pt x="2094" y="51"/>
                  </a:cubicBezTo>
                  <a:cubicBezTo>
                    <a:pt x="2091" y="47"/>
                    <a:pt x="2087" y="43"/>
                    <a:pt x="2083" y="39"/>
                  </a:cubicBezTo>
                  <a:cubicBezTo>
                    <a:pt x="2083" y="37"/>
                    <a:pt x="2083" y="35"/>
                    <a:pt x="2082" y="34"/>
                  </a:cubicBezTo>
                  <a:cubicBezTo>
                    <a:pt x="2082" y="34"/>
                    <a:pt x="2083" y="36"/>
                    <a:pt x="2083" y="39"/>
                  </a:cubicBezTo>
                  <a:cubicBezTo>
                    <a:pt x="2081" y="37"/>
                    <a:pt x="2080" y="36"/>
                    <a:pt x="2078" y="34"/>
                  </a:cubicBezTo>
                  <a:cubicBezTo>
                    <a:pt x="2080" y="36"/>
                    <a:pt x="2081" y="38"/>
                    <a:pt x="2083" y="40"/>
                  </a:cubicBezTo>
                  <a:cubicBezTo>
                    <a:pt x="2083" y="40"/>
                    <a:pt x="2083" y="40"/>
                    <a:pt x="2083" y="41"/>
                  </a:cubicBezTo>
                  <a:cubicBezTo>
                    <a:pt x="2083" y="40"/>
                    <a:pt x="2083" y="40"/>
                    <a:pt x="2083" y="40"/>
                  </a:cubicBezTo>
                  <a:cubicBezTo>
                    <a:pt x="2087" y="45"/>
                    <a:pt x="2090" y="49"/>
                    <a:pt x="2094" y="53"/>
                  </a:cubicBezTo>
                  <a:cubicBezTo>
                    <a:pt x="2093" y="55"/>
                    <a:pt x="2092" y="59"/>
                    <a:pt x="2092" y="62"/>
                  </a:cubicBezTo>
                  <a:cubicBezTo>
                    <a:pt x="2089" y="60"/>
                    <a:pt x="2087" y="58"/>
                    <a:pt x="2084" y="56"/>
                  </a:cubicBezTo>
                  <a:cubicBezTo>
                    <a:pt x="2083" y="50"/>
                    <a:pt x="2083" y="44"/>
                    <a:pt x="2083" y="41"/>
                  </a:cubicBezTo>
                  <a:cubicBezTo>
                    <a:pt x="2083" y="45"/>
                    <a:pt x="2083" y="50"/>
                    <a:pt x="2082" y="55"/>
                  </a:cubicBezTo>
                  <a:cubicBezTo>
                    <a:pt x="2081" y="54"/>
                    <a:pt x="2080" y="53"/>
                    <a:pt x="2078" y="52"/>
                  </a:cubicBezTo>
                  <a:cubicBezTo>
                    <a:pt x="2080" y="53"/>
                    <a:pt x="2081" y="54"/>
                    <a:pt x="2082" y="55"/>
                  </a:cubicBezTo>
                  <a:cubicBezTo>
                    <a:pt x="2082" y="64"/>
                    <a:pt x="2081" y="73"/>
                    <a:pt x="2079" y="83"/>
                  </a:cubicBezTo>
                  <a:cubicBezTo>
                    <a:pt x="2079" y="82"/>
                    <a:pt x="2079" y="81"/>
                    <a:pt x="2079" y="81"/>
                  </a:cubicBezTo>
                  <a:cubicBezTo>
                    <a:pt x="2079" y="82"/>
                    <a:pt x="2079" y="82"/>
                    <a:pt x="2079" y="83"/>
                  </a:cubicBezTo>
                  <a:cubicBezTo>
                    <a:pt x="2078" y="88"/>
                    <a:pt x="2078" y="92"/>
                    <a:pt x="2077" y="97"/>
                  </a:cubicBezTo>
                  <a:cubicBezTo>
                    <a:pt x="2075" y="89"/>
                    <a:pt x="2073" y="81"/>
                    <a:pt x="2070" y="73"/>
                  </a:cubicBezTo>
                  <a:cubicBezTo>
                    <a:pt x="2070" y="72"/>
                    <a:pt x="2070" y="71"/>
                    <a:pt x="2070" y="71"/>
                  </a:cubicBezTo>
                  <a:cubicBezTo>
                    <a:pt x="2071" y="70"/>
                    <a:pt x="2072" y="69"/>
                    <a:pt x="2073" y="68"/>
                  </a:cubicBezTo>
                  <a:cubicBezTo>
                    <a:pt x="2075" y="72"/>
                    <a:pt x="2077" y="76"/>
                    <a:pt x="2079" y="81"/>
                  </a:cubicBezTo>
                  <a:cubicBezTo>
                    <a:pt x="2077" y="76"/>
                    <a:pt x="2075" y="72"/>
                    <a:pt x="2073" y="67"/>
                  </a:cubicBezTo>
                  <a:cubicBezTo>
                    <a:pt x="2074" y="67"/>
                    <a:pt x="2074" y="66"/>
                    <a:pt x="2075" y="65"/>
                  </a:cubicBezTo>
                  <a:cubicBezTo>
                    <a:pt x="2074" y="66"/>
                    <a:pt x="2074" y="66"/>
                    <a:pt x="2073" y="67"/>
                  </a:cubicBezTo>
                  <a:cubicBezTo>
                    <a:pt x="2067" y="54"/>
                    <a:pt x="2057" y="41"/>
                    <a:pt x="2045" y="25"/>
                  </a:cubicBezTo>
                  <a:cubicBezTo>
                    <a:pt x="2057" y="42"/>
                    <a:pt x="2066" y="55"/>
                    <a:pt x="2072" y="68"/>
                  </a:cubicBezTo>
                  <a:cubicBezTo>
                    <a:pt x="2072" y="68"/>
                    <a:pt x="2071" y="69"/>
                    <a:pt x="2070" y="70"/>
                  </a:cubicBezTo>
                  <a:cubicBezTo>
                    <a:pt x="2070" y="68"/>
                    <a:pt x="2070" y="66"/>
                    <a:pt x="2070" y="66"/>
                  </a:cubicBezTo>
                  <a:cubicBezTo>
                    <a:pt x="2070" y="68"/>
                    <a:pt x="2070" y="69"/>
                    <a:pt x="2069" y="71"/>
                  </a:cubicBezTo>
                  <a:cubicBezTo>
                    <a:pt x="2069" y="71"/>
                    <a:pt x="2069" y="71"/>
                    <a:pt x="2069" y="71"/>
                  </a:cubicBezTo>
                  <a:cubicBezTo>
                    <a:pt x="2065" y="61"/>
                    <a:pt x="2058" y="52"/>
                    <a:pt x="2049" y="42"/>
                  </a:cubicBezTo>
                  <a:cubicBezTo>
                    <a:pt x="2056" y="55"/>
                    <a:pt x="2061" y="65"/>
                    <a:pt x="2065" y="75"/>
                  </a:cubicBezTo>
                  <a:cubicBezTo>
                    <a:pt x="2064" y="76"/>
                    <a:pt x="2063" y="77"/>
                    <a:pt x="2062" y="77"/>
                  </a:cubicBezTo>
                  <a:cubicBezTo>
                    <a:pt x="2060" y="73"/>
                    <a:pt x="2058" y="70"/>
                    <a:pt x="2056" y="68"/>
                  </a:cubicBezTo>
                  <a:cubicBezTo>
                    <a:pt x="2055" y="63"/>
                    <a:pt x="2055" y="60"/>
                    <a:pt x="2055" y="60"/>
                  </a:cubicBezTo>
                  <a:cubicBezTo>
                    <a:pt x="2055" y="61"/>
                    <a:pt x="2055" y="64"/>
                    <a:pt x="2055" y="67"/>
                  </a:cubicBezTo>
                  <a:cubicBezTo>
                    <a:pt x="2049" y="57"/>
                    <a:pt x="2041" y="47"/>
                    <a:pt x="2030" y="38"/>
                  </a:cubicBezTo>
                  <a:cubicBezTo>
                    <a:pt x="2040" y="49"/>
                    <a:pt x="2048" y="60"/>
                    <a:pt x="2054" y="71"/>
                  </a:cubicBezTo>
                  <a:cubicBezTo>
                    <a:pt x="2054" y="75"/>
                    <a:pt x="2054" y="80"/>
                    <a:pt x="2053" y="85"/>
                  </a:cubicBezTo>
                  <a:cubicBezTo>
                    <a:pt x="2053" y="84"/>
                    <a:pt x="2053" y="84"/>
                    <a:pt x="2052" y="83"/>
                  </a:cubicBezTo>
                  <a:cubicBezTo>
                    <a:pt x="2052" y="84"/>
                    <a:pt x="2053" y="85"/>
                    <a:pt x="2053" y="86"/>
                  </a:cubicBezTo>
                  <a:cubicBezTo>
                    <a:pt x="2053" y="87"/>
                    <a:pt x="2053" y="88"/>
                    <a:pt x="2053" y="89"/>
                  </a:cubicBezTo>
                  <a:cubicBezTo>
                    <a:pt x="2051" y="92"/>
                    <a:pt x="2050" y="94"/>
                    <a:pt x="2048" y="97"/>
                  </a:cubicBezTo>
                  <a:cubicBezTo>
                    <a:pt x="2048" y="93"/>
                    <a:pt x="2048" y="90"/>
                    <a:pt x="2048" y="87"/>
                  </a:cubicBezTo>
                  <a:cubicBezTo>
                    <a:pt x="2049" y="84"/>
                    <a:pt x="2050" y="82"/>
                    <a:pt x="2050" y="80"/>
                  </a:cubicBezTo>
                  <a:cubicBezTo>
                    <a:pt x="2051" y="81"/>
                    <a:pt x="2051" y="82"/>
                    <a:pt x="2052" y="83"/>
                  </a:cubicBezTo>
                  <a:cubicBezTo>
                    <a:pt x="2052" y="81"/>
                    <a:pt x="2051" y="80"/>
                    <a:pt x="2050" y="79"/>
                  </a:cubicBezTo>
                  <a:cubicBezTo>
                    <a:pt x="2051" y="79"/>
                    <a:pt x="2051" y="78"/>
                    <a:pt x="2051" y="77"/>
                  </a:cubicBezTo>
                  <a:cubicBezTo>
                    <a:pt x="2051" y="77"/>
                    <a:pt x="2050" y="78"/>
                    <a:pt x="2050" y="79"/>
                  </a:cubicBezTo>
                  <a:cubicBezTo>
                    <a:pt x="2049" y="77"/>
                    <a:pt x="2049" y="76"/>
                    <a:pt x="2048" y="75"/>
                  </a:cubicBezTo>
                  <a:cubicBezTo>
                    <a:pt x="2049" y="77"/>
                    <a:pt x="2049" y="78"/>
                    <a:pt x="2050" y="79"/>
                  </a:cubicBezTo>
                  <a:cubicBezTo>
                    <a:pt x="2049" y="80"/>
                    <a:pt x="2048" y="81"/>
                    <a:pt x="2048" y="82"/>
                  </a:cubicBezTo>
                  <a:cubicBezTo>
                    <a:pt x="2048" y="73"/>
                    <a:pt x="2048" y="68"/>
                    <a:pt x="2048" y="68"/>
                  </a:cubicBezTo>
                  <a:cubicBezTo>
                    <a:pt x="2047" y="72"/>
                    <a:pt x="2047" y="78"/>
                    <a:pt x="2046" y="85"/>
                  </a:cubicBezTo>
                  <a:cubicBezTo>
                    <a:pt x="2043" y="90"/>
                    <a:pt x="2041" y="94"/>
                    <a:pt x="2040" y="99"/>
                  </a:cubicBezTo>
                  <a:cubicBezTo>
                    <a:pt x="2040" y="98"/>
                    <a:pt x="2039" y="97"/>
                    <a:pt x="2039" y="96"/>
                  </a:cubicBezTo>
                  <a:cubicBezTo>
                    <a:pt x="2039" y="92"/>
                    <a:pt x="2040" y="89"/>
                    <a:pt x="2040" y="89"/>
                  </a:cubicBezTo>
                  <a:cubicBezTo>
                    <a:pt x="2040" y="91"/>
                    <a:pt x="2039" y="92"/>
                    <a:pt x="2039" y="94"/>
                  </a:cubicBezTo>
                  <a:cubicBezTo>
                    <a:pt x="2038" y="91"/>
                    <a:pt x="2037" y="88"/>
                    <a:pt x="2037" y="85"/>
                  </a:cubicBezTo>
                  <a:cubicBezTo>
                    <a:pt x="2036" y="88"/>
                    <a:pt x="2036" y="91"/>
                    <a:pt x="2036" y="94"/>
                  </a:cubicBezTo>
                  <a:cubicBezTo>
                    <a:pt x="2036" y="97"/>
                    <a:pt x="2036" y="100"/>
                    <a:pt x="2036" y="103"/>
                  </a:cubicBezTo>
                  <a:cubicBezTo>
                    <a:pt x="2035" y="107"/>
                    <a:pt x="2033" y="112"/>
                    <a:pt x="2032" y="116"/>
                  </a:cubicBezTo>
                  <a:cubicBezTo>
                    <a:pt x="2030" y="112"/>
                    <a:pt x="2029" y="108"/>
                    <a:pt x="2028" y="104"/>
                  </a:cubicBezTo>
                  <a:cubicBezTo>
                    <a:pt x="2029" y="109"/>
                    <a:pt x="2030" y="115"/>
                    <a:pt x="2030" y="120"/>
                  </a:cubicBezTo>
                  <a:cubicBezTo>
                    <a:pt x="2029" y="124"/>
                    <a:pt x="2027" y="127"/>
                    <a:pt x="2026" y="130"/>
                  </a:cubicBezTo>
                  <a:cubicBezTo>
                    <a:pt x="2025" y="128"/>
                    <a:pt x="2024" y="126"/>
                    <a:pt x="2024" y="123"/>
                  </a:cubicBezTo>
                  <a:cubicBezTo>
                    <a:pt x="2025" y="115"/>
                    <a:pt x="2027" y="106"/>
                    <a:pt x="2029" y="98"/>
                  </a:cubicBezTo>
                  <a:cubicBezTo>
                    <a:pt x="2030" y="98"/>
                    <a:pt x="2030" y="97"/>
                    <a:pt x="2030" y="96"/>
                  </a:cubicBezTo>
                  <a:cubicBezTo>
                    <a:pt x="2030" y="96"/>
                    <a:pt x="2030" y="97"/>
                    <a:pt x="2029" y="97"/>
                  </a:cubicBezTo>
                  <a:cubicBezTo>
                    <a:pt x="2032" y="86"/>
                    <a:pt x="2035" y="76"/>
                    <a:pt x="2035" y="76"/>
                  </a:cubicBezTo>
                  <a:cubicBezTo>
                    <a:pt x="2030" y="83"/>
                    <a:pt x="2024" y="96"/>
                    <a:pt x="2020" y="109"/>
                  </a:cubicBezTo>
                  <a:cubicBezTo>
                    <a:pt x="2020" y="107"/>
                    <a:pt x="2019" y="106"/>
                    <a:pt x="2019" y="104"/>
                  </a:cubicBezTo>
                  <a:cubicBezTo>
                    <a:pt x="2021" y="97"/>
                    <a:pt x="2024" y="90"/>
                    <a:pt x="2027" y="84"/>
                  </a:cubicBezTo>
                  <a:cubicBezTo>
                    <a:pt x="2024" y="90"/>
                    <a:pt x="2021" y="96"/>
                    <a:pt x="2019" y="102"/>
                  </a:cubicBezTo>
                  <a:cubicBezTo>
                    <a:pt x="2018" y="102"/>
                    <a:pt x="2018" y="101"/>
                    <a:pt x="2018" y="101"/>
                  </a:cubicBezTo>
                  <a:cubicBezTo>
                    <a:pt x="2020" y="77"/>
                    <a:pt x="2016" y="62"/>
                    <a:pt x="2016" y="62"/>
                  </a:cubicBezTo>
                  <a:cubicBezTo>
                    <a:pt x="2017" y="69"/>
                    <a:pt x="2017" y="80"/>
                    <a:pt x="2015" y="91"/>
                  </a:cubicBezTo>
                  <a:cubicBezTo>
                    <a:pt x="2015" y="89"/>
                    <a:pt x="2015" y="88"/>
                    <a:pt x="2014" y="87"/>
                  </a:cubicBezTo>
                  <a:cubicBezTo>
                    <a:pt x="2014" y="88"/>
                    <a:pt x="2014" y="88"/>
                    <a:pt x="2014" y="88"/>
                  </a:cubicBezTo>
                  <a:cubicBezTo>
                    <a:pt x="2014" y="90"/>
                    <a:pt x="2014" y="93"/>
                    <a:pt x="2015" y="96"/>
                  </a:cubicBezTo>
                  <a:cubicBezTo>
                    <a:pt x="2014" y="101"/>
                    <a:pt x="2014" y="105"/>
                    <a:pt x="2013" y="110"/>
                  </a:cubicBezTo>
                  <a:cubicBezTo>
                    <a:pt x="2012" y="109"/>
                    <a:pt x="2012" y="107"/>
                    <a:pt x="2011" y="106"/>
                  </a:cubicBezTo>
                  <a:cubicBezTo>
                    <a:pt x="2012" y="103"/>
                    <a:pt x="2012" y="99"/>
                    <a:pt x="2013" y="96"/>
                  </a:cubicBezTo>
                  <a:cubicBezTo>
                    <a:pt x="2012" y="98"/>
                    <a:pt x="2011" y="100"/>
                    <a:pt x="2010" y="103"/>
                  </a:cubicBezTo>
                  <a:cubicBezTo>
                    <a:pt x="2009" y="101"/>
                    <a:pt x="2008" y="99"/>
                    <a:pt x="2008" y="98"/>
                  </a:cubicBezTo>
                  <a:cubicBezTo>
                    <a:pt x="2008" y="89"/>
                    <a:pt x="2009" y="82"/>
                    <a:pt x="2009" y="82"/>
                  </a:cubicBezTo>
                  <a:cubicBezTo>
                    <a:pt x="2007" y="97"/>
                    <a:pt x="2007" y="97"/>
                    <a:pt x="2007" y="97"/>
                  </a:cubicBezTo>
                  <a:cubicBezTo>
                    <a:pt x="2006" y="94"/>
                    <a:pt x="2005" y="92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89"/>
                    <a:pt x="2004" y="89"/>
                    <a:pt x="2003" y="88"/>
                  </a:cubicBezTo>
                  <a:cubicBezTo>
                    <a:pt x="2003" y="83"/>
                    <a:pt x="2003" y="78"/>
                    <a:pt x="2003" y="73"/>
                  </a:cubicBezTo>
                  <a:cubicBezTo>
                    <a:pt x="2006" y="70"/>
                    <a:pt x="2009" y="66"/>
                    <a:pt x="2012" y="63"/>
                  </a:cubicBezTo>
                  <a:cubicBezTo>
                    <a:pt x="2009" y="66"/>
                    <a:pt x="2006" y="69"/>
                    <a:pt x="2003" y="71"/>
                  </a:cubicBezTo>
                  <a:cubicBezTo>
                    <a:pt x="2003" y="65"/>
                    <a:pt x="2002" y="60"/>
                    <a:pt x="2002" y="60"/>
                  </a:cubicBezTo>
                  <a:cubicBezTo>
                    <a:pt x="2002" y="64"/>
                    <a:pt x="2002" y="68"/>
                    <a:pt x="2002" y="72"/>
                  </a:cubicBezTo>
                  <a:cubicBezTo>
                    <a:pt x="2000" y="74"/>
                    <a:pt x="1999" y="75"/>
                    <a:pt x="1998" y="77"/>
                  </a:cubicBezTo>
                  <a:cubicBezTo>
                    <a:pt x="1997" y="70"/>
                    <a:pt x="1997" y="64"/>
                    <a:pt x="1997" y="64"/>
                  </a:cubicBezTo>
                  <a:cubicBezTo>
                    <a:pt x="1997" y="66"/>
                    <a:pt x="1997" y="71"/>
                    <a:pt x="1996" y="78"/>
                  </a:cubicBezTo>
                  <a:cubicBezTo>
                    <a:pt x="1993" y="81"/>
                    <a:pt x="1991" y="85"/>
                    <a:pt x="1989" y="88"/>
                  </a:cubicBezTo>
                  <a:cubicBezTo>
                    <a:pt x="1989" y="64"/>
                    <a:pt x="1988" y="42"/>
                    <a:pt x="1988" y="42"/>
                  </a:cubicBezTo>
                  <a:cubicBezTo>
                    <a:pt x="1989" y="55"/>
                    <a:pt x="1986" y="77"/>
                    <a:pt x="1984" y="96"/>
                  </a:cubicBezTo>
                  <a:cubicBezTo>
                    <a:pt x="1982" y="100"/>
                    <a:pt x="1980" y="104"/>
                    <a:pt x="1979" y="107"/>
                  </a:cubicBezTo>
                  <a:cubicBezTo>
                    <a:pt x="1978" y="107"/>
                    <a:pt x="1978" y="106"/>
                    <a:pt x="1978" y="106"/>
                  </a:cubicBezTo>
                  <a:cubicBezTo>
                    <a:pt x="1979" y="87"/>
                    <a:pt x="1982" y="70"/>
                    <a:pt x="1982" y="70"/>
                  </a:cubicBezTo>
                  <a:cubicBezTo>
                    <a:pt x="1980" y="74"/>
                    <a:pt x="1977" y="98"/>
                    <a:pt x="1975" y="117"/>
                  </a:cubicBezTo>
                  <a:cubicBezTo>
                    <a:pt x="1975" y="118"/>
                    <a:pt x="1975" y="119"/>
                    <a:pt x="1975" y="120"/>
                  </a:cubicBezTo>
                  <a:cubicBezTo>
                    <a:pt x="1975" y="119"/>
                    <a:pt x="1975" y="119"/>
                    <a:pt x="1975" y="118"/>
                  </a:cubicBezTo>
                  <a:cubicBezTo>
                    <a:pt x="1975" y="119"/>
                    <a:pt x="1975" y="119"/>
                    <a:pt x="1975" y="120"/>
                  </a:cubicBezTo>
                  <a:cubicBezTo>
                    <a:pt x="1974" y="121"/>
                    <a:pt x="1974" y="121"/>
                    <a:pt x="1974" y="122"/>
                  </a:cubicBezTo>
                  <a:cubicBezTo>
                    <a:pt x="1974" y="115"/>
                    <a:pt x="1974" y="108"/>
                    <a:pt x="1974" y="101"/>
                  </a:cubicBezTo>
                  <a:cubicBezTo>
                    <a:pt x="1974" y="101"/>
                    <a:pt x="1974" y="100"/>
                    <a:pt x="1974" y="100"/>
                  </a:cubicBezTo>
                  <a:cubicBezTo>
                    <a:pt x="1974" y="100"/>
                    <a:pt x="1974" y="101"/>
                    <a:pt x="1974" y="101"/>
                  </a:cubicBezTo>
                  <a:cubicBezTo>
                    <a:pt x="1974" y="98"/>
                    <a:pt x="1974" y="94"/>
                    <a:pt x="1973" y="91"/>
                  </a:cubicBezTo>
                  <a:cubicBezTo>
                    <a:pt x="1975" y="88"/>
                    <a:pt x="1977" y="85"/>
                    <a:pt x="1979" y="83"/>
                  </a:cubicBezTo>
                  <a:cubicBezTo>
                    <a:pt x="1977" y="85"/>
                    <a:pt x="1975" y="87"/>
                    <a:pt x="1973" y="90"/>
                  </a:cubicBezTo>
                  <a:cubicBezTo>
                    <a:pt x="1973" y="79"/>
                    <a:pt x="1972" y="69"/>
                    <a:pt x="1972" y="61"/>
                  </a:cubicBezTo>
                  <a:cubicBezTo>
                    <a:pt x="1971" y="73"/>
                    <a:pt x="1969" y="87"/>
                    <a:pt x="1967" y="100"/>
                  </a:cubicBezTo>
                  <a:cubicBezTo>
                    <a:pt x="1963" y="107"/>
                    <a:pt x="1960" y="115"/>
                    <a:pt x="1958" y="123"/>
                  </a:cubicBezTo>
                  <a:cubicBezTo>
                    <a:pt x="1959" y="109"/>
                    <a:pt x="1960" y="92"/>
                    <a:pt x="1961" y="80"/>
                  </a:cubicBezTo>
                  <a:cubicBezTo>
                    <a:pt x="1963" y="73"/>
                    <a:pt x="1964" y="67"/>
                    <a:pt x="1964" y="61"/>
                  </a:cubicBezTo>
                  <a:cubicBezTo>
                    <a:pt x="1964" y="60"/>
                    <a:pt x="1964" y="60"/>
                    <a:pt x="1964" y="60"/>
                  </a:cubicBezTo>
                  <a:cubicBezTo>
                    <a:pt x="1955" y="75"/>
                    <a:pt x="1951" y="88"/>
                    <a:pt x="1949" y="102"/>
                  </a:cubicBezTo>
                  <a:cubicBezTo>
                    <a:pt x="1949" y="102"/>
                    <a:pt x="1949" y="101"/>
                    <a:pt x="1949" y="101"/>
                  </a:cubicBezTo>
                  <a:cubicBezTo>
                    <a:pt x="1950" y="68"/>
                    <a:pt x="1953" y="30"/>
                    <a:pt x="1953" y="30"/>
                  </a:cubicBezTo>
                  <a:cubicBezTo>
                    <a:pt x="1951" y="38"/>
                    <a:pt x="1948" y="60"/>
                    <a:pt x="1946" y="83"/>
                  </a:cubicBezTo>
                  <a:cubicBezTo>
                    <a:pt x="1943" y="87"/>
                    <a:pt x="1940" y="92"/>
                    <a:pt x="1938" y="97"/>
                  </a:cubicBezTo>
                  <a:cubicBezTo>
                    <a:pt x="1938" y="91"/>
                    <a:pt x="1937" y="85"/>
                    <a:pt x="1937" y="79"/>
                  </a:cubicBezTo>
                  <a:cubicBezTo>
                    <a:pt x="1937" y="78"/>
                    <a:pt x="1937" y="78"/>
                    <a:pt x="1938" y="78"/>
                  </a:cubicBezTo>
                  <a:cubicBezTo>
                    <a:pt x="1937" y="78"/>
                    <a:pt x="1937" y="78"/>
                    <a:pt x="1937" y="78"/>
                  </a:cubicBezTo>
                  <a:cubicBezTo>
                    <a:pt x="1935" y="58"/>
                    <a:pt x="1934" y="41"/>
                    <a:pt x="1934" y="41"/>
                  </a:cubicBezTo>
                  <a:cubicBezTo>
                    <a:pt x="1935" y="52"/>
                    <a:pt x="1935" y="67"/>
                    <a:pt x="1934" y="82"/>
                  </a:cubicBezTo>
                  <a:cubicBezTo>
                    <a:pt x="1932" y="84"/>
                    <a:pt x="1930" y="87"/>
                    <a:pt x="1928" y="92"/>
                  </a:cubicBezTo>
                  <a:cubicBezTo>
                    <a:pt x="1927" y="82"/>
                    <a:pt x="1928" y="72"/>
                    <a:pt x="1928" y="68"/>
                  </a:cubicBezTo>
                  <a:cubicBezTo>
                    <a:pt x="1927" y="77"/>
                    <a:pt x="1926" y="88"/>
                    <a:pt x="1924" y="99"/>
                  </a:cubicBezTo>
                  <a:cubicBezTo>
                    <a:pt x="1922" y="94"/>
                    <a:pt x="1921" y="89"/>
                    <a:pt x="1919" y="84"/>
                  </a:cubicBezTo>
                  <a:cubicBezTo>
                    <a:pt x="1921" y="90"/>
                    <a:pt x="1922" y="96"/>
                    <a:pt x="1923" y="101"/>
                  </a:cubicBezTo>
                  <a:cubicBezTo>
                    <a:pt x="1923" y="105"/>
                    <a:pt x="1922" y="109"/>
                    <a:pt x="1921" y="113"/>
                  </a:cubicBezTo>
                  <a:cubicBezTo>
                    <a:pt x="1921" y="110"/>
                    <a:pt x="1921" y="108"/>
                    <a:pt x="1921" y="105"/>
                  </a:cubicBezTo>
                  <a:cubicBezTo>
                    <a:pt x="1920" y="108"/>
                    <a:pt x="1920" y="115"/>
                    <a:pt x="1920" y="119"/>
                  </a:cubicBezTo>
                  <a:cubicBezTo>
                    <a:pt x="1919" y="120"/>
                    <a:pt x="1919" y="122"/>
                    <a:pt x="1919" y="124"/>
                  </a:cubicBezTo>
                  <a:cubicBezTo>
                    <a:pt x="1918" y="125"/>
                    <a:pt x="1918" y="127"/>
                    <a:pt x="1918" y="128"/>
                  </a:cubicBezTo>
                  <a:cubicBezTo>
                    <a:pt x="1917" y="124"/>
                    <a:pt x="1916" y="120"/>
                    <a:pt x="1915" y="116"/>
                  </a:cubicBezTo>
                  <a:cubicBezTo>
                    <a:pt x="1916" y="108"/>
                    <a:pt x="1917" y="100"/>
                    <a:pt x="1917" y="94"/>
                  </a:cubicBezTo>
                  <a:cubicBezTo>
                    <a:pt x="1918" y="92"/>
                    <a:pt x="1918" y="91"/>
                    <a:pt x="1919" y="89"/>
                  </a:cubicBezTo>
                  <a:cubicBezTo>
                    <a:pt x="1918" y="90"/>
                    <a:pt x="1918" y="91"/>
                    <a:pt x="1917" y="92"/>
                  </a:cubicBezTo>
                  <a:cubicBezTo>
                    <a:pt x="1918" y="87"/>
                    <a:pt x="1918" y="83"/>
                    <a:pt x="1918" y="83"/>
                  </a:cubicBezTo>
                  <a:cubicBezTo>
                    <a:pt x="1918" y="85"/>
                    <a:pt x="1917" y="89"/>
                    <a:pt x="1916" y="93"/>
                  </a:cubicBezTo>
                  <a:cubicBezTo>
                    <a:pt x="1915" y="96"/>
                    <a:pt x="1913" y="99"/>
                    <a:pt x="1912" y="102"/>
                  </a:cubicBezTo>
                  <a:cubicBezTo>
                    <a:pt x="1911" y="101"/>
                    <a:pt x="1911" y="100"/>
                    <a:pt x="1911" y="99"/>
                  </a:cubicBezTo>
                  <a:cubicBezTo>
                    <a:pt x="1913" y="80"/>
                    <a:pt x="1915" y="62"/>
                    <a:pt x="1915" y="62"/>
                  </a:cubicBezTo>
                  <a:cubicBezTo>
                    <a:pt x="1913" y="66"/>
                    <a:pt x="1911" y="80"/>
                    <a:pt x="1909" y="95"/>
                  </a:cubicBezTo>
                  <a:cubicBezTo>
                    <a:pt x="1909" y="94"/>
                    <a:pt x="1908" y="92"/>
                    <a:pt x="1907" y="90"/>
                  </a:cubicBezTo>
                  <a:cubicBezTo>
                    <a:pt x="1908" y="92"/>
                    <a:pt x="1909" y="94"/>
                    <a:pt x="1909" y="96"/>
                  </a:cubicBezTo>
                  <a:cubicBezTo>
                    <a:pt x="1909" y="101"/>
                    <a:pt x="1908" y="106"/>
                    <a:pt x="1908" y="110"/>
                  </a:cubicBezTo>
                  <a:cubicBezTo>
                    <a:pt x="1907" y="113"/>
                    <a:pt x="1906" y="116"/>
                    <a:pt x="1905" y="118"/>
                  </a:cubicBezTo>
                  <a:cubicBezTo>
                    <a:pt x="1903" y="94"/>
                    <a:pt x="1898" y="64"/>
                    <a:pt x="1898" y="64"/>
                  </a:cubicBezTo>
                  <a:cubicBezTo>
                    <a:pt x="1898" y="64"/>
                    <a:pt x="1898" y="73"/>
                    <a:pt x="1899" y="82"/>
                  </a:cubicBezTo>
                  <a:cubicBezTo>
                    <a:pt x="1900" y="88"/>
                    <a:pt x="1899" y="98"/>
                    <a:pt x="1897" y="108"/>
                  </a:cubicBezTo>
                  <a:cubicBezTo>
                    <a:pt x="1896" y="111"/>
                    <a:pt x="1895" y="114"/>
                    <a:pt x="1894" y="117"/>
                  </a:cubicBezTo>
                  <a:cubicBezTo>
                    <a:pt x="1894" y="108"/>
                    <a:pt x="1893" y="99"/>
                    <a:pt x="1891" y="90"/>
                  </a:cubicBezTo>
                  <a:cubicBezTo>
                    <a:pt x="1894" y="78"/>
                    <a:pt x="1899" y="66"/>
                    <a:pt x="1898" y="56"/>
                  </a:cubicBezTo>
                  <a:cubicBezTo>
                    <a:pt x="1895" y="62"/>
                    <a:pt x="1892" y="67"/>
                    <a:pt x="1890" y="72"/>
                  </a:cubicBezTo>
                  <a:cubicBezTo>
                    <a:pt x="1893" y="34"/>
                    <a:pt x="1886" y="19"/>
                    <a:pt x="1886" y="19"/>
                  </a:cubicBezTo>
                  <a:cubicBezTo>
                    <a:pt x="1886" y="19"/>
                    <a:pt x="1889" y="31"/>
                    <a:pt x="1888" y="54"/>
                  </a:cubicBezTo>
                  <a:cubicBezTo>
                    <a:pt x="1887" y="61"/>
                    <a:pt x="1886" y="74"/>
                    <a:pt x="1885" y="88"/>
                  </a:cubicBezTo>
                  <a:cubicBezTo>
                    <a:pt x="1883" y="92"/>
                    <a:pt x="1882" y="97"/>
                    <a:pt x="1882" y="101"/>
                  </a:cubicBezTo>
                  <a:cubicBezTo>
                    <a:pt x="1881" y="98"/>
                    <a:pt x="1880" y="95"/>
                    <a:pt x="1878" y="91"/>
                  </a:cubicBezTo>
                  <a:cubicBezTo>
                    <a:pt x="1879" y="89"/>
                    <a:pt x="1879" y="87"/>
                    <a:pt x="1880" y="85"/>
                  </a:cubicBezTo>
                  <a:cubicBezTo>
                    <a:pt x="1879" y="87"/>
                    <a:pt x="1879" y="88"/>
                    <a:pt x="1878" y="90"/>
                  </a:cubicBezTo>
                  <a:cubicBezTo>
                    <a:pt x="1878" y="89"/>
                    <a:pt x="1877" y="88"/>
                    <a:pt x="1877" y="87"/>
                  </a:cubicBezTo>
                  <a:cubicBezTo>
                    <a:pt x="1877" y="83"/>
                    <a:pt x="1877" y="78"/>
                    <a:pt x="1877" y="74"/>
                  </a:cubicBezTo>
                  <a:cubicBezTo>
                    <a:pt x="1877" y="46"/>
                    <a:pt x="1867" y="40"/>
                    <a:pt x="1867" y="40"/>
                  </a:cubicBezTo>
                  <a:cubicBezTo>
                    <a:pt x="1867" y="40"/>
                    <a:pt x="1873" y="44"/>
                    <a:pt x="1873" y="70"/>
                  </a:cubicBezTo>
                  <a:cubicBezTo>
                    <a:pt x="1873" y="84"/>
                    <a:pt x="1868" y="108"/>
                    <a:pt x="1863" y="125"/>
                  </a:cubicBezTo>
                  <a:cubicBezTo>
                    <a:pt x="1863" y="123"/>
                    <a:pt x="1863" y="120"/>
                    <a:pt x="1862" y="118"/>
                  </a:cubicBezTo>
                  <a:cubicBezTo>
                    <a:pt x="1863" y="111"/>
                    <a:pt x="1864" y="105"/>
                    <a:pt x="1864" y="98"/>
                  </a:cubicBezTo>
                  <a:cubicBezTo>
                    <a:pt x="1863" y="101"/>
                    <a:pt x="1862" y="104"/>
                    <a:pt x="1862" y="107"/>
                  </a:cubicBezTo>
                  <a:cubicBezTo>
                    <a:pt x="1862" y="107"/>
                    <a:pt x="1862" y="106"/>
                    <a:pt x="1862" y="106"/>
                  </a:cubicBezTo>
                  <a:cubicBezTo>
                    <a:pt x="1862" y="97"/>
                    <a:pt x="1863" y="83"/>
                    <a:pt x="1869" y="75"/>
                  </a:cubicBezTo>
                  <a:cubicBezTo>
                    <a:pt x="1866" y="77"/>
                    <a:pt x="1863" y="82"/>
                    <a:pt x="1861" y="87"/>
                  </a:cubicBezTo>
                  <a:cubicBezTo>
                    <a:pt x="1862" y="78"/>
                    <a:pt x="1862" y="71"/>
                    <a:pt x="1862" y="71"/>
                  </a:cubicBezTo>
                  <a:cubicBezTo>
                    <a:pt x="1861" y="75"/>
                    <a:pt x="1858" y="97"/>
                    <a:pt x="1854" y="116"/>
                  </a:cubicBezTo>
                  <a:cubicBezTo>
                    <a:pt x="1854" y="114"/>
                    <a:pt x="1854" y="112"/>
                    <a:pt x="1853" y="110"/>
                  </a:cubicBezTo>
                  <a:cubicBezTo>
                    <a:pt x="1854" y="99"/>
                    <a:pt x="1855" y="87"/>
                    <a:pt x="1856" y="78"/>
                  </a:cubicBezTo>
                  <a:cubicBezTo>
                    <a:pt x="1858" y="71"/>
                    <a:pt x="1860" y="63"/>
                    <a:pt x="1862" y="55"/>
                  </a:cubicBezTo>
                  <a:cubicBezTo>
                    <a:pt x="1862" y="54"/>
                    <a:pt x="1862" y="52"/>
                    <a:pt x="1862" y="51"/>
                  </a:cubicBezTo>
                  <a:cubicBezTo>
                    <a:pt x="1860" y="54"/>
                    <a:pt x="1859" y="57"/>
                    <a:pt x="1858" y="60"/>
                  </a:cubicBezTo>
                  <a:cubicBezTo>
                    <a:pt x="1858" y="60"/>
                    <a:pt x="1858" y="59"/>
                    <a:pt x="1858" y="59"/>
                  </a:cubicBezTo>
                  <a:cubicBezTo>
                    <a:pt x="1858" y="60"/>
                    <a:pt x="1858" y="60"/>
                    <a:pt x="1858" y="60"/>
                  </a:cubicBezTo>
                  <a:cubicBezTo>
                    <a:pt x="1854" y="70"/>
                    <a:pt x="1851" y="80"/>
                    <a:pt x="1848" y="89"/>
                  </a:cubicBezTo>
                  <a:cubicBezTo>
                    <a:pt x="1854" y="30"/>
                    <a:pt x="1851" y="15"/>
                    <a:pt x="1850" y="13"/>
                  </a:cubicBezTo>
                  <a:cubicBezTo>
                    <a:pt x="1850" y="15"/>
                    <a:pt x="1851" y="22"/>
                    <a:pt x="1847" y="56"/>
                  </a:cubicBezTo>
                  <a:cubicBezTo>
                    <a:pt x="1845" y="68"/>
                    <a:pt x="1844" y="80"/>
                    <a:pt x="1842" y="91"/>
                  </a:cubicBezTo>
                  <a:cubicBezTo>
                    <a:pt x="1841" y="85"/>
                    <a:pt x="1839" y="79"/>
                    <a:pt x="1837" y="74"/>
                  </a:cubicBezTo>
                  <a:cubicBezTo>
                    <a:pt x="1838" y="51"/>
                    <a:pt x="1839" y="31"/>
                    <a:pt x="1839" y="31"/>
                  </a:cubicBezTo>
                  <a:cubicBezTo>
                    <a:pt x="1837" y="38"/>
                    <a:pt x="1835" y="53"/>
                    <a:pt x="1834" y="69"/>
                  </a:cubicBezTo>
                  <a:cubicBezTo>
                    <a:pt x="1833" y="68"/>
                    <a:pt x="1832" y="67"/>
                    <a:pt x="1831" y="65"/>
                  </a:cubicBezTo>
                  <a:cubicBezTo>
                    <a:pt x="1832" y="67"/>
                    <a:pt x="1833" y="69"/>
                    <a:pt x="1834" y="71"/>
                  </a:cubicBezTo>
                  <a:cubicBezTo>
                    <a:pt x="1834" y="71"/>
                    <a:pt x="1834" y="72"/>
                    <a:pt x="1834" y="73"/>
                  </a:cubicBezTo>
                  <a:cubicBezTo>
                    <a:pt x="1831" y="77"/>
                    <a:pt x="1828" y="81"/>
                    <a:pt x="1826" y="86"/>
                  </a:cubicBezTo>
                  <a:cubicBezTo>
                    <a:pt x="1825" y="85"/>
                    <a:pt x="1825" y="84"/>
                    <a:pt x="1824" y="83"/>
                  </a:cubicBezTo>
                  <a:cubicBezTo>
                    <a:pt x="1822" y="61"/>
                    <a:pt x="1819" y="38"/>
                    <a:pt x="1816" y="28"/>
                  </a:cubicBezTo>
                  <a:cubicBezTo>
                    <a:pt x="1816" y="28"/>
                    <a:pt x="1820" y="54"/>
                    <a:pt x="1823" y="83"/>
                  </a:cubicBezTo>
                  <a:cubicBezTo>
                    <a:pt x="1822" y="82"/>
                    <a:pt x="1821" y="81"/>
                    <a:pt x="1820" y="80"/>
                  </a:cubicBezTo>
                  <a:cubicBezTo>
                    <a:pt x="1822" y="81"/>
                    <a:pt x="1823" y="82"/>
                    <a:pt x="1824" y="84"/>
                  </a:cubicBezTo>
                  <a:cubicBezTo>
                    <a:pt x="1824" y="85"/>
                    <a:pt x="1824" y="86"/>
                    <a:pt x="1824" y="88"/>
                  </a:cubicBezTo>
                  <a:cubicBezTo>
                    <a:pt x="1824" y="86"/>
                    <a:pt x="1824" y="85"/>
                    <a:pt x="1824" y="84"/>
                  </a:cubicBezTo>
                  <a:cubicBezTo>
                    <a:pt x="1824" y="85"/>
                    <a:pt x="1825" y="86"/>
                    <a:pt x="1826" y="87"/>
                  </a:cubicBezTo>
                  <a:cubicBezTo>
                    <a:pt x="1825" y="88"/>
                    <a:pt x="1825" y="89"/>
                    <a:pt x="1824" y="90"/>
                  </a:cubicBezTo>
                  <a:cubicBezTo>
                    <a:pt x="1824" y="88"/>
                    <a:pt x="1824" y="88"/>
                    <a:pt x="1824" y="88"/>
                  </a:cubicBezTo>
                  <a:cubicBezTo>
                    <a:pt x="1824" y="88"/>
                    <a:pt x="1824" y="89"/>
                    <a:pt x="1824" y="90"/>
                  </a:cubicBezTo>
                  <a:cubicBezTo>
                    <a:pt x="1822" y="95"/>
                    <a:pt x="1821" y="100"/>
                    <a:pt x="1819" y="105"/>
                  </a:cubicBezTo>
                  <a:cubicBezTo>
                    <a:pt x="1819" y="105"/>
                    <a:pt x="1819" y="105"/>
                    <a:pt x="1819" y="105"/>
                  </a:cubicBezTo>
                  <a:cubicBezTo>
                    <a:pt x="1819" y="104"/>
                    <a:pt x="1819" y="104"/>
                    <a:pt x="1819" y="103"/>
                  </a:cubicBezTo>
                  <a:cubicBezTo>
                    <a:pt x="1819" y="104"/>
                    <a:pt x="1819" y="104"/>
                    <a:pt x="1819" y="105"/>
                  </a:cubicBezTo>
                  <a:cubicBezTo>
                    <a:pt x="1816" y="95"/>
                    <a:pt x="1814" y="87"/>
                    <a:pt x="1812" y="81"/>
                  </a:cubicBezTo>
                  <a:cubicBezTo>
                    <a:pt x="1813" y="85"/>
                    <a:pt x="1814" y="90"/>
                    <a:pt x="1815" y="95"/>
                  </a:cubicBezTo>
                  <a:cubicBezTo>
                    <a:pt x="1815" y="100"/>
                    <a:pt x="1814" y="104"/>
                    <a:pt x="1813" y="109"/>
                  </a:cubicBezTo>
                  <a:cubicBezTo>
                    <a:pt x="1814" y="104"/>
                    <a:pt x="1815" y="100"/>
                    <a:pt x="1815" y="95"/>
                  </a:cubicBezTo>
                  <a:cubicBezTo>
                    <a:pt x="1816" y="100"/>
                    <a:pt x="1817" y="105"/>
                    <a:pt x="1818" y="110"/>
                  </a:cubicBezTo>
                  <a:cubicBezTo>
                    <a:pt x="1818" y="110"/>
                    <a:pt x="1818" y="111"/>
                    <a:pt x="1818" y="111"/>
                  </a:cubicBezTo>
                  <a:cubicBezTo>
                    <a:pt x="1817" y="116"/>
                    <a:pt x="1815" y="122"/>
                    <a:pt x="1812" y="127"/>
                  </a:cubicBezTo>
                  <a:cubicBezTo>
                    <a:pt x="1812" y="125"/>
                    <a:pt x="1811" y="123"/>
                    <a:pt x="1811" y="120"/>
                  </a:cubicBezTo>
                  <a:cubicBezTo>
                    <a:pt x="1812" y="117"/>
                    <a:pt x="1813" y="113"/>
                    <a:pt x="1813" y="109"/>
                  </a:cubicBezTo>
                  <a:cubicBezTo>
                    <a:pt x="1813" y="112"/>
                    <a:pt x="1812" y="116"/>
                    <a:pt x="1811" y="119"/>
                  </a:cubicBezTo>
                  <a:cubicBezTo>
                    <a:pt x="1809" y="111"/>
                    <a:pt x="1807" y="103"/>
                    <a:pt x="1807" y="95"/>
                  </a:cubicBezTo>
                  <a:cubicBezTo>
                    <a:pt x="1807" y="96"/>
                    <a:pt x="1807" y="96"/>
                    <a:pt x="1807" y="96"/>
                  </a:cubicBezTo>
                  <a:cubicBezTo>
                    <a:pt x="1807" y="98"/>
                    <a:pt x="1807" y="98"/>
                    <a:pt x="1807" y="98"/>
                  </a:cubicBezTo>
                  <a:cubicBezTo>
                    <a:pt x="1807" y="97"/>
                    <a:pt x="1807" y="96"/>
                    <a:pt x="1807" y="95"/>
                  </a:cubicBezTo>
                  <a:cubicBezTo>
                    <a:pt x="1807" y="84"/>
                    <a:pt x="1805" y="69"/>
                    <a:pt x="1799" y="60"/>
                  </a:cubicBezTo>
                  <a:cubicBezTo>
                    <a:pt x="1803" y="70"/>
                    <a:pt x="1805" y="82"/>
                    <a:pt x="1805" y="93"/>
                  </a:cubicBezTo>
                  <a:cubicBezTo>
                    <a:pt x="1805" y="101"/>
                    <a:pt x="1803" y="109"/>
                    <a:pt x="1801" y="116"/>
                  </a:cubicBezTo>
                  <a:cubicBezTo>
                    <a:pt x="1799" y="115"/>
                    <a:pt x="1799" y="117"/>
                    <a:pt x="1800" y="120"/>
                  </a:cubicBezTo>
                  <a:cubicBezTo>
                    <a:pt x="1800" y="121"/>
                    <a:pt x="1799" y="121"/>
                    <a:pt x="1799" y="122"/>
                  </a:cubicBezTo>
                  <a:cubicBezTo>
                    <a:pt x="1798" y="119"/>
                    <a:pt x="1797" y="115"/>
                    <a:pt x="1796" y="112"/>
                  </a:cubicBezTo>
                  <a:cubicBezTo>
                    <a:pt x="1797" y="107"/>
                    <a:pt x="1797" y="103"/>
                    <a:pt x="1797" y="98"/>
                  </a:cubicBezTo>
                  <a:cubicBezTo>
                    <a:pt x="1797" y="90"/>
                    <a:pt x="1796" y="82"/>
                    <a:pt x="1794" y="74"/>
                  </a:cubicBezTo>
                  <a:cubicBezTo>
                    <a:pt x="1793" y="83"/>
                    <a:pt x="1793" y="93"/>
                    <a:pt x="1793" y="102"/>
                  </a:cubicBezTo>
                  <a:cubicBezTo>
                    <a:pt x="1790" y="94"/>
                    <a:pt x="1787" y="86"/>
                    <a:pt x="1785" y="81"/>
                  </a:cubicBezTo>
                  <a:cubicBezTo>
                    <a:pt x="1785" y="86"/>
                    <a:pt x="1785" y="86"/>
                    <a:pt x="1785" y="86"/>
                  </a:cubicBezTo>
                  <a:cubicBezTo>
                    <a:pt x="1785" y="97"/>
                    <a:pt x="1788" y="108"/>
                    <a:pt x="1792" y="118"/>
                  </a:cubicBezTo>
                  <a:cubicBezTo>
                    <a:pt x="1791" y="119"/>
                    <a:pt x="1791" y="120"/>
                    <a:pt x="1791" y="121"/>
                  </a:cubicBezTo>
                  <a:cubicBezTo>
                    <a:pt x="1791" y="123"/>
                    <a:pt x="1790" y="126"/>
                    <a:pt x="1789" y="128"/>
                  </a:cubicBezTo>
                  <a:cubicBezTo>
                    <a:pt x="1786" y="121"/>
                    <a:pt x="1784" y="113"/>
                    <a:pt x="1782" y="106"/>
                  </a:cubicBezTo>
                  <a:cubicBezTo>
                    <a:pt x="1782" y="101"/>
                    <a:pt x="1781" y="96"/>
                    <a:pt x="1780" y="92"/>
                  </a:cubicBezTo>
                  <a:cubicBezTo>
                    <a:pt x="1780" y="91"/>
                    <a:pt x="1780" y="90"/>
                    <a:pt x="1780" y="89"/>
                  </a:cubicBezTo>
                  <a:cubicBezTo>
                    <a:pt x="1780" y="90"/>
                    <a:pt x="1780" y="90"/>
                    <a:pt x="1780" y="91"/>
                  </a:cubicBezTo>
                  <a:cubicBezTo>
                    <a:pt x="1779" y="85"/>
                    <a:pt x="1777" y="79"/>
                    <a:pt x="1774" y="73"/>
                  </a:cubicBezTo>
                  <a:cubicBezTo>
                    <a:pt x="1774" y="73"/>
                    <a:pt x="1774" y="72"/>
                    <a:pt x="1774" y="71"/>
                  </a:cubicBezTo>
                  <a:cubicBezTo>
                    <a:pt x="1774" y="71"/>
                    <a:pt x="1773" y="72"/>
                    <a:pt x="1773" y="73"/>
                  </a:cubicBezTo>
                  <a:cubicBezTo>
                    <a:pt x="1773" y="72"/>
                    <a:pt x="1773" y="71"/>
                    <a:pt x="1772" y="71"/>
                  </a:cubicBezTo>
                  <a:cubicBezTo>
                    <a:pt x="1772" y="72"/>
                    <a:pt x="1773" y="73"/>
                    <a:pt x="1773" y="73"/>
                  </a:cubicBezTo>
                  <a:cubicBezTo>
                    <a:pt x="1770" y="79"/>
                    <a:pt x="1768" y="85"/>
                    <a:pt x="1766" y="91"/>
                  </a:cubicBezTo>
                  <a:cubicBezTo>
                    <a:pt x="1766" y="90"/>
                    <a:pt x="1766" y="90"/>
                    <a:pt x="1766" y="89"/>
                  </a:cubicBezTo>
                  <a:cubicBezTo>
                    <a:pt x="1766" y="90"/>
                    <a:pt x="1766" y="91"/>
                    <a:pt x="1766" y="92"/>
                  </a:cubicBezTo>
                  <a:cubicBezTo>
                    <a:pt x="1765" y="96"/>
                    <a:pt x="1765" y="101"/>
                    <a:pt x="1764" y="106"/>
                  </a:cubicBezTo>
                  <a:cubicBezTo>
                    <a:pt x="1763" y="113"/>
                    <a:pt x="1760" y="121"/>
                    <a:pt x="1757" y="128"/>
                  </a:cubicBezTo>
                  <a:cubicBezTo>
                    <a:pt x="1756" y="126"/>
                    <a:pt x="1756" y="123"/>
                    <a:pt x="1755" y="121"/>
                  </a:cubicBezTo>
                  <a:cubicBezTo>
                    <a:pt x="1755" y="120"/>
                    <a:pt x="1755" y="119"/>
                    <a:pt x="1755" y="118"/>
                  </a:cubicBezTo>
                  <a:cubicBezTo>
                    <a:pt x="1758" y="108"/>
                    <a:pt x="1761" y="97"/>
                    <a:pt x="1761" y="86"/>
                  </a:cubicBezTo>
                  <a:cubicBezTo>
                    <a:pt x="1761" y="81"/>
                    <a:pt x="1761" y="81"/>
                    <a:pt x="1761" y="81"/>
                  </a:cubicBezTo>
                  <a:cubicBezTo>
                    <a:pt x="1759" y="86"/>
                    <a:pt x="1756" y="94"/>
                    <a:pt x="1753" y="102"/>
                  </a:cubicBezTo>
                  <a:cubicBezTo>
                    <a:pt x="1753" y="93"/>
                    <a:pt x="1754" y="83"/>
                    <a:pt x="1752" y="74"/>
                  </a:cubicBezTo>
                  <a:cubicBezTo>
                    <a:pt x="1750" y="82"/>
                    <a:pt x="1749" y="90"/>
                    <a:pt x="1749" y="98"/>
                  </a:cubicBezTo>
                  <a:cubicBezTo>
                    <a:pt x="1749" y="103"/>
                    <a:pt x="1750" y="107"/>
                    <a:pt x="1750" y="112"/>
                  </a:cubicBezTo>
                  <a:cubicBezTo>
                    <a:pt x="1749" y="115"/>
                    <a:pt x="1748" y="119"/>
                    <a:pt x="1747" y="122"/>
                  </a:cubicBezTo>
                  <a:cubicBezTo>
                    <a:pt x="1744" y="112"/>
                    <a:pt x="1741" y="103"/>
                    <a:pt x="1741" y="93"/>
                  </a:cubicBezTo>
                  <a:cubicBezTo>
                    <a:pt x="1741" y="82"/>
                    <a:pt x="1743" y="70"/>
                    <a:pt x="1747" y="60"/>
                  </a:cubicBezTo>
                  <a:cubicBezTo>
                    <a:pt x="1742" y="69"/>
                    <a:pt x="1740" y="84"/>
                    <a:pt x="1740" y="95"/>
                  </a:cubicBezTo>
                  <a:cubicBezTo>
                    <a:pt x="1740" y="96"/>
                    <a:pt x="1740" y="97"/>
                    <a:pt x="1740" y="98"/>
                  </a:cubicBezTo>
                  <a:cubicBezTo>
                    <a:pt x="1739" y="96"/>
                    <a:pt x="1739" y="96"/>
                    <a:pt x="1739" y="96"/>
                  </a:cubicBezTo>
                  <a:cubicBezTo>
                    <a:pt x="1739" y="95"/>
                    <a:pt x="1739" y="95"/>
                    <a:pt x="1739" y="95"/>
                  </a:cubicBezTo>
                  <a:cubicBezTo>
                    <a:pt x="1739" y="103"/>
                    <a:pt x="1738" y="111"/>
                    <a:pt x="1736" y="119"/>
                  </a:cubicBezTo>
                  <a:cubicBezTo>
                    <a:pt x="1735" y="116"/>
                    <a:pt x="1734" y="112"/>
                    <a:pt x="1733" y="109"/>
                  </a:cubicBezTo>
                  <a:cubicBezTo>
                    <a:pt x="1734" y="113"/>
                    <a:pt x="1735" y="117"/>
                    <a:pt x="1735" y="120"/>
                  </a:cubicBezTo>
                  <a:cubicBezTo>
                    <a:pt x="1735" y="123"/>
                    <a:pt x="1734" y="125"/>
                    <a:pt x="1734" y="127"/>
                  </a:cubicBezTo>
                  <a:cubicBezTo>
                    <a:pt x="1732" y="122"/>
                    <a:pt x="1730" y="116"/>
                    <a:pt x="1728" y="111"/>
                  </a:cubicBezTo>
                  <a:cubicBezTo>
                    <a:pt x="1728" y="109"/>
                    <a:pt x="1728" y="108"/>
                    <a:pt x="1727" y="107"/>
                  </a:cubicBezTo>
                  <a:cubicBezTo>
                    <a:pt x="1727" y="106"/>
                    <a:pt x="1727" y="104"/>
                    <a:pt x="1727" y="103"/>
                  </a:cubicBezTo>
                  <a:cubicBezTo>
                    <a:pt x="1727" y="104"/>
                    <a:pt x="1727" y="105"/>
                    <a:pt x="1727" y="105"/>
                  </a:cubicBezTo>
                  <a:cubicBezTo>
                    <a:pt x="1726" y="99"/>
                    <a:pt x="1724" y="93"/>
                    <a:pt x="1721" y="87"/>
                  </a:cubicBezTo>
                  <a:cubicBezTo>
                    <a:pt x="1722" y="84"/>
                    <a:pt x="1724" y="82"/>
                    <a:pt x="1726" y="80"/>
                  </a:cubicBezTo>
                  <a:cubicBezTo>
                    <a:pt x="1724" y="82"/>
                    <a:pt x="1722" y="84"/>
                    <a:pt x="1720" y="86"/>
                  </a:cubicBezTo>
                  <a:cubicBezTo>
                    <a:pt x="1718" y="81"/>
                    <a:pt x="1715" y="77"/>
                    <a:pt x="1712" y="73"/>
                  </a:cubicBezTo>
                  <a:cubicBezTo>
                    <a:pt x="1715" y="77"/>
                    <a:pt x="1717" y="83"/>
                    <a:pt x="1718" y="90"/>
                  </a:cubicBezTo>
                  <a:cubicBezTo>
                    <a:pt x="1716" y="94"/>
                    <a:pt x="1714" y="99"/>
                    <a:pt x="1714" y="103"/>
                  </a:cubicBezTo>
                  <a:cubicBezTo>
                    <a:pt x="1712" y="97"/>
                    <a:pt x="1710" y="91"/>
                    <a:pt x="1708" y="85"/>
                  </a:cubicBezTo>
                  <a:cubicBezTo>
                    <a:pt x="1710" y="91"/>
                    <a:pt x="1710" y="97"/>
                    <a:pt x="1710" y="103"/>
                  </a:cubicBezTo>
                  <a:cubicBezTo>
                    <a:pt x="1710" y="108"/>
                    <a:pt x="1709" y="114"/>
                    <a:pt x="1709" y="119"/>
                  </a:cubicBezTo>
                  <a:cubicBezTo>
                    <a:pt x="1707" y="111"/>
                    <a:pt x="1706" y="104"/>
                    <a:pt x="1706" y="96"/>
                  </a:cubicBezTo>
                  <a:cubicBezTo>
                    <a:pt x="1706" y="87"/>
                    <a:pt x="1710" y="73"/>
                    <a:pt x="1715" y="65"/>
                  </a:cubicBezTo>
                  <a:cubicBezTo>
                    <a:pt x="1706" y="76"/>
                    <a:pt x="1702" y="96"/>
                    <a:pt x="1702" y="108"/>
                  </a:cubicBezTo>
                  <a:cubicBezTo>
                    <a:pt x="1702" y="119"/>
                    <a:pt x="1705" y="130"/>
                    <a:pt x="1705" y="141"/>
                  </a:cubicBezTo>
                  <a:cubicBezTo>
                    <a:pt x="1705" y="146"/>
                    <a:pt x="1705" y="150"/>
                    <a:pt x="1704" y="154"/>
                  </a:cubicBezTo>
                  <a:cubicBezTo>
                    <a:pt x="1698" y="135"/>
                    <a:pt x="1703" y="113"/>
                    <a:pt x="1699" y="93"/>
                  </a:cubicBezTo>
                  <a:cubicBezTo>
                    <a:pt x="1696" y="79"/>
                    <a:pt x="1691" y="64"/>
                    <a:pt x="1685" y="51"/>
                  </a:cubicBezTo>
                  <a:cubicBezTo>
                    <a:pt x="1684" y="52"/>
                    <a:pt x="1684" y="54"/>
                    <a:pt x="1684" y="55"/>
                  </a:cubicBezTo>
                  <a:cubicBezTo>
                    <a:pt x="1691" y="76"/>
                    <a:pt x="1693" y="92"/>
                    <a:pt x="1694" y="105"/>
                  </a:cubicBezTo>
                  <a:cubicBezTo>
                    <a:pt x="1693" y="109"/>
                    <a:pt x="1692" y="114"/>
                    <a:pt x="1692" y="118"/>
                  </a:cubicBezTo>
                  <a:cubicBezTo>
                    <a:pt x="1690" y="101"/>
                    <a:pt x="1686" y="82"/>
                    <a:pt x="1677" y="75"/>
                  </a:cubicBezTo>
                  <a:cubicBezTo>
                    <a:pt x="1683" y="83"/>
                    <a:pt x="1685" y="97"/>
                    <a:pt x="1685" y="106"/>
                  </a:cubicBezTo>
                  <a:cubicBezTo>
                    <a:pt x="1685" y="106"/>
                    <a:pt x="1685" y="107"/>
                    <a:pt x="1685" y="107"/>
                  </a:cubicBezTo>
                  <a:cubicBezTo>
                    <a:pt x="1684" y="104"/>
                    <a:pt x="1683" y="101"/>
                    <a:pt x="1683" y="98"/>
                  </a:cubicBezTo>
                  <a:cubicBezTo>
                    <a:pt x="1683" y="105"/>
                    <a:pt x="1683" y="111"/>
                    <a:pt x="1684" y="118"/>
                  </a:cubicBezTo>
                  <a:cubicBezTo>
                    <a:pt x="1684" y="122"/>
                    <a:pt x="1683" y="126"/>
                    <a:pt x="1682" y="130"/>
                  </a:cubicBezTo>
                  <a:cubicBezTo>
                    <a:pt x="1681" y="124"/>
                    <a:pt x="1679" y="118"/>
                    <a:pt x="1678" y="113"/>
                  </a:cubicBezTo>
                  <a:cubicBezTo>
                    <a:pt x="1679" y="121"/>
                    <a:pt x="1681" y="128"/>
                    <a:pt x="1681" y="136"/>
                  </a:cubicBezTo>
                  <a:cubicBezTo>
                    <a:pt x="1680" y="140"/>
                    <a:pt x="1679" y="144"/>
                    <a:pt x="1679" y="148"/>
                  </a:cubicBezTo>
                  <a:cubicBezTo>
                    <a:pt x="1679" y="147"/>
                    <a:pt x="1678" y="147"/>
                    <a:pt x="1678" y="146"/>
                  </a:cubicBezTo>
                  <a:cubicBezTo>
                    <a:pt x="1679" y="129"/>
                    <a:pt x="1676" y="106"/>
                    <a:pt x="1669" y="91"/>
                  </a:cubicBezTo>
                  <a:cubicBezTo>
                    <a:pt x="1670" y="88"/>
                    <a:pt x="1670" y="85"/>
                    <a:pt x="1672" y="83"/>
                  </a:cubicBezTo>
                  <a:cubicBezTo>
                    <a:pt x="1670" y="85"/>
                    <a:pt x="1669" y="88"/>
                    <a:pt x="1668" y="90"/>
                  </a:cubicBezTo>
                  <a:cubicBezTo>
                    <a:pt x="1668" y="88"/>
                    <a:pt x="1667" y="87"/>
                    <a:pt x="1666" y="85"/>
                  </a:cubicBezTo>
                  <a:cubicBezTo>
                    <a:pt x="1667" y="87"/>
                    <a:pt x="1668" y="89"/>
                    <a:pt x="1668" y="91"/>
                  </a:cubicBezTo>
                  <a:cubicBezTo>
                    <a:pt x="1667" y="95"/>
                    <a:pt x="1666" y="98"/>
                    <a:pt x="1665" y="101"/>
                  </a:cubicBezTo>
                  <a:cubicBezTo>
                    <a:pt x="1664" y="94"/>
                    <a:pt x="1662" y="87"/>
                    <a:pt x="1659" y="79"/>
                  </a:cubicBezTo>
                  <a:cubicBezTo>
                    <a:pt x="1659" y="78"/>
                    <a:pt x="1659" y="76"/>
                    <a:pt x="1659" y="75"/>
                  </a:cubicBezTo>
                  <a:cubicBezTo>
                    <a:pt x="1659" y="76"/>
                    <a:pt x="1659" y="77"/>
                    <a:pt x="1658" y="78"/>
                  </a:cubicBezTo>
                  <a:cubicBezTo>
                    <a:pt x="1656" y="71"/>
                    <a:pt x="1653" y="64"/>
                    <a:pt x="1648" y="56"/>
                  </a:cubicBezTo>
                  <a:cubicBezTo>
                    <a:pt x="1648" y="66"/>
                    <a:pt x="1652" y="78"/>
                    <a:pt x="1655" y="90"/>
                  </a:cubicBezTo>
                  <a:cubicBezTo>
                    <a:pt x="1653" y="99"/>
                    <a:pt x="1653" y="108"/>
                    <a:pt x="1652" y="117"/>
                  </a:cubicBezTo>
                  <a:cubicBezTo>
                    <a:pt x="1651" y="112"/>
                    <a:pt x="1649" y="107"/>
                    <a:pt x="1648" y="103"/>
                  </a:cubicBezTo>
                  <a:cubicBezTo>
                    <a:pt x="1650" y="109"/>
                    <a:pt x="1648" y="132"/>
                    <a:pt x="1648" y="140"/>
                  </a:cubicBezTo>
                  <a:cubicBezTo>
                    <a:pt x="1648" y="144"/>
                    <a:pt x="1648" y="147"/>
                    <a:pt x="1648" y="151"/>
                  </a:cubicBezTo>
                  <a:cubicBezTo>
                    <a:pt x="1648" y="151"/>
                    <a:pt x="1648" y="151"/>
                    <a:pt x="1648" y="151"/>
                  </a:cubicBezTo>
                  <a:cubicBezTo>
                    <a:pt x="1648" y="144"/>
                    <a:pt x="1647" y="137"/>
                    <a:pt x="1645" y="129"/>
                  </a:cubicBezTo>
                  <a:cubicBezTo>
                    <a:pt x="1643" y="119"/>
                    <a:pt x="1642" y="110"/>
                    <a:pt x="1643" y="100"/>
                  </a:cubicBezTo>
                  <a:cubicBezTo>
                    <a:pt x="1642" y="107"/>
                    <a:pt x="1642" y="113"/>
                    <a:pt x="1642" y="119"/>
                  </a:cubicBezTo>
                  <a:cubicBezTo>
                    <a:pt x="1640" y="114"/>
                    <a:pt x="1638" y="108"/>
                    <a:pt x="1636" y="103"/>
                  </a:cubicBezTo>
                  <a:cubicBezTo>
                    <a:pt x="1636" y="99"/>
                    <a:pt x="1637" y="95"/>
                    <a:pt x="1639" y="90"/>
                  </a:cubicBezTo>
                  <a:cubicBezTo>
                    <a:pt x="1637" y="94"/>
                    <a:pt x="1636" y="98"/>
                    <a:pt x="1635" y="102"/>
                  </a:cubicBezTo>
                  <a:cubicBezTo>
                    <a:pt x="1632" y="97"/>
                    <a:pt x="1630" y="93"/>
                    <a:pt x="1627" y="89"/>
                  </a:cubicBezTo>
                  <a:cubicBezTo>
                    <a:pt x="1630" y="93"/>
                    <a:pt x="1630" y="99"/>
                    <a:pt x="1630" y="103"/>
                  </a:cubicBezTo>
                  <a:cubicBezTo>
                    <a:pt x="1630" y="104"/>
                    <a:pt x="1631" y="109"/>
                    <a:pt x="1631" y="115"/>
                  </a:cubicBezTo>
                  <a:cubicBezTo>
                    <a:pt x="1630" y="120"/>
                    <a:pt x="1630" y="124"/>
                    <a:pt x="1629" y="129"/>
                  </a:cubicBezTo>
                  <a:cubicBezTo>
                    <a:pt x="1628" y="125"/>
                    <a:pt x="1627" y="122"/>
                    <a:pt x="1627" y="119"/>
                  </a:cubicBezTo>
                  <a:cubicBezTo>
                    <a:pt x="1627" y="115"/>
                    <a:pt x="1627" y="108"/>
                    <a:pt x="1626" y="105"/>
                  </a:cubicBezTo>
                  <a:cubicBezTo>
                    <a:pt x="1625" y="108"/>
                    <a:pt x="1625" y="110"/>
                    <a:pt x="1625" y="113"/>
                  </a:cubicBezTo>
                  <a:cubicBezTo>
                    <a:pt x="1624" y="109"/>
                    <a:pt x="1623" y="106"/>
                    <a:pt x="1623" y="103"/>
                  </a:cubicBezTo>
                  <a:cubicBezTo>
                    <a:pt x="1624" y="97"/>
                    <a:pt x="1625" y="90"/>
                    <a:pt x="1628" y="84"/>
                  </a:cubicBezTo>
                  <a:cubicBezTo>
                    <a:pt x="1625" y="90"/>
                    <a:pt x="1623" y="95"/>
                    <a:pt x="1622" y="101"/>
                  </a:cubicBezTo>
                  <a:cubicBezTo>
                    <a:pt x="1617" y="86"/>
                    <a:pt x="1614" y="83"/>
                    <a:pt x="1609" y="78"/>
                  </a:cubicBezTo>
                  <a:cubicBezTo>
                    <a:pt x="1616" y="84"/>
                    <a:pt x="1619" y="97"/>
                    <a:pt x="1620" y="107"/>
                  </a:cubicBezTo>
                  <a:cubicBezTo>
                    <a:pt x="1619" y="114"/>
                    <a:pt x="1617" y="120"/>
                    <a:pt x="1616" y="126"/>
                  </a:cubicBezTo>
                  <a:cubicBezTo>
                    <a:pt x="1615" y="121"/>
                    <a:pt x="1614" y="115"/>
                    <a:pt x="1612" y="109"/>
                  </a:cubicBezTo>
                  <a:cubicBezTo>
                    <a:pt x="1613" y="106"/>
                    <a:pt x="1613" y="103"/>
                    <a:pt x="1614" y="100"/>
                  </a:cubicBezTo>
                  <a:cubicBezTo>
                    <a:pt x="1613" y="102"/>
                    <a:pt x="1613" y="104"/>
                    <a:pt x="1612" y="108"/>
                  </a:cubicBezTo>
                  <a:cubicBezTo>
                    <a:pt x="1611" y="106"/>
                    <a:pt x="1610" y="103"/>
                    <a:pt x="1610" y="101"/>
                  </a:cubicBezTo>
                  <a:cubicBezTo>
                    <a:pt x="1610" y="100"/>
                    <a:pt x="1610" y="99"/>
                    <a:pt x="1611" y="98"/>
                  </a:cubicBezTo>
                  <a:cubicBezTo>
                    <a:pt x="1610" y="99"/>
                    <a:pt x="1610" y="100"/>
                    <a:pt x="1610" y="101"/>
                  </a:cubicBezTo>
                  <a:cubicBezTo>
                    <a:pt x="1607" y="94"/>
                    <a:pt x="1604" y="87"/>
                    <a:pt x="1600" y="81"/>
                  </a:cubicBezTo>
                  <a:cubicBezTo>
                    <a:pt x="1604" y="88"/>
                    <a:pt x="1605" y="99"/>
                    <a:pt x="1605" y="106"/>
                  </a:cubicBezTo>
                  <a:cubicBezTo>
                    <a:pt x="1605" y="111"/>
                    <a:pt x="1604" y="115"/>
                    <a:pt x="1604" y="120"/>
                  </a:cubicBezTo>
                  <a:cubicBezTo>
                    <a:pt x="1602" y="126"/>
                    <a:pt x="1600" y="133"/>
                    <a:pt x="1599" y="139"/>
                  </a:cubicBezTo>
                  <a:cubicBezTo>
                    <a:pt x="1599" y="137"/>
                    <a:pt x="1599" y="136"/>
                    <a:pt x="1599" y="135"/>
                  </a:cubicBezTo>
                  <a:cubicBezTo>
                    <a:pt x="1600" y="127"/>
                    <a:pt x="1600" y="120"/>
                    <a:pt x="1601" y="113"/>
                  </a:cubicBezTo>
                  <a:cubicBezTo>
                    <a:pt x="1600" y="117"/>
                    <a:pt x="1600" y="123"/>
                    <a:pt x="1599" y="129"/>
                  </a:cubicBezTo>
                  <a:cubicBezTo>
                    <a:pt x="1599" y="120"/>
                    <a:pt x="1599" y="111"/>
                    <a:pt x="1597" y="103"/>
                  </a:cubicBezTo>
                  <a:cubicBezTo>
                    <a:pt x="1598" y="101"/>
                    <a:pt x="1599" y="100"/>
                    <a:pt x="1599" y="99"/>
                  </a:cubicBezTo>
                  <a:cubicBezTo>
                    <a:pt x="1599" y="100"/>
                    <a:pt x="1598" y="101"/>
                    <a:pt x="1597" y="102"/>
                  </a:cubicBezTo>
                  <a:cubicBezTo>
                    <a:pt x="1595" y="88"/>
                    <a:pt x="1591" y="75"/>
                    <a:pt x="1582" y="60"/>
                  </a:cubicBezTo>
                  <a:cubicBezTo>
                    <a:pt x="1582" y="61"/>
                    <a:pt x="1582" y="61"/>
                    <a:pt x="1582" y="61"/>
                  </a:cubicBezTo>
                  <a:cubicBezTo>
                    <a:pt x="1582" y="76"/>
                    <a:pt x="1592" y="94"/>
                    <a:pt x="1592" y="111"/>
                  </a:cubicBezTo>
                  <a:cubicBezTo>
                    <a:pt x="1591" y="115"/>
                    <a:pt x="1590" y="120"/>
                    <a:pt x="1589" y="125"/>
                  </a:cubicBezTo>
                  <a:cubicBezTo>
                    <a:pt x="1585" y="109"/>
                    <a:pt x="1578" y="94"/>
                    <a:pt x="1567" y="83"/>
                  </a:cubicBezTo>
                  <a:cubicBezTo>
                    <a:pt x="1574" y="90"/>
                    <a:pt x="1578" y="101"/>
                    <a:pt x="1580" y="111"/>
                  </a:cubicBezTo>
                  <a:cubicBezTo>
                    <a:pt x="1579" y="111"/>
                    <a:pt x="1579" y="110"/>
                    <a:pt x="1579" y="109"/>
                  </a:cubicBezTo>
                  <a:cubicBezTo>
                    <a:pt x="1579" y="117"/>
                    <a:pt x="1580" y="126"/>
                    <a:pt x="1580" y="134"/>
                  </a:cubicBezTo>
                  <a:cubicBezTo>
                    <a:pt x="1580" y="136"/>
                    <a:pt x="1580" y="138"/>
                    <a:pt x="1580" y="140"/>
                  </a:cubicBezTo>
                  <a:cubicBezTo>
                    <a:pt x="1577" y="127"/>
                    <a:pt x="1576" y="113"/>
                    <a:pt x="1572" y="100"/>
                  </a:cubicBezTo>
                  <a:cubicBezTo>
                    <a:pt x="1574" y="109"/>
                    <a:pt x="1574" y="123"/>
                    <a:pt x="1574" y="135"/>
                  </a:cubicBezTo>
                  <a:cubicBezTo>
                    <a:pt x="1575" y="138"/>
                    <a:pt x="1575" y="141"/>
                    <a:pt x="1575" y="144"/>
                  </a:cubicBezTo>
                  <a:cubicBezTo>
                    <a:pt x="1575" y="143"/>
                    <a:pt x="1575" y="142"/>
                    <a:pt x="1575" y="142"/>
                  </a:cubicBezTo>
                  <a:cubicBezTo>
                    <a:pt x="1574" y="139"/>
                    <a:pt x="1574" y="137"/>
                    <a:pt x="1574" y="135"/>
                  </a:cubicBezTo>
                  <a:cubicBezTo>
                    <a:pt x="1574" y="130"/>
                    <a:pt x="1573" y="125"/>
                    <a:pt x="1572" y="120"/>
                  </a:cubicBezTo>
                  <a:cubicBezTo>
                    <a:pt x="1572" y="119"/>
                    <a:pt x="1572" y="119"/>
                    <a:pt x="1572" y="118"/>
                  </a:cubicBezTo>
                  <a:cubicBezTo>
                    <a:pt x="1572" y="119"/>
                    <a:pt x="1572" y="119"/>
                    <a:pt x="1572" y="120"/>
                  </a:cubicBezTo>
                  <a:cubicBezTo>
                    <a:pt x="1571" y="116"/>
                    <a:pt x="1569" y="112"/>
                    <a:pt x="1568" y="108"/>
                  </a:cubicBezTo>
                  <a:cubicBezTo>
                    <a:pt x="1569" y="106"/>
                    <a:pt x="1569" y="105"/>
                    <a:pt x="1570" y="103"/>
                  </a:cubicBezTo>
                  <a:cubicBezTo>
                    <a:pt x="1569" y="105"/>
                    <a:pt x="1568" y="106"/>
                    <a:pt x="1568" y="107"/>
                  </a:cubicBezTo>
                  <a:cubicBezTo>
                    <a:pt x="1561" y="91"/>
                    <a:pt x="1551" y="76"/>
                    <a:pt x="1534" y="63"/>
                  </a:cubicBezTo>
                  <a:cubicBezTo>
                    <a:pt x="1540" y="68"/>
                    <a:pt x="1544" y="74"/>
                    <a:pt x="1548" y="79"/>
                  </a:cubicBezTo>
                  <a:cubicBezTo>
                    <a:pt x="1547" y="81"/>
                    <a:pt x="1545" y="85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0" y="94"/>
                    <a:pt x="1538" y="98"/>
                    <a:pt x="1536" y="103"/>
                  </a:cubicBezTo>
                  <a:cubicBezTo>
                    <a:pt x="1535" y="100"/>
                    <a:pt x="1535" y="98"/>
                    <a:pt x="1534" y="96"/>
                  </a:cubicBezTo>
                  <a:cubicBezTo>
                    <a:pt x="1534" y="99"/>
                    <a:pt x="1535" y="103"/>
                    <a:pt x="1535" y="106"/>
                  </a:cubicBezTo>
                  <a:cubicBezTo>
                    <a:pt x="1534" y="108"/>
                    <a:pt x="1533" y="111"/>
                    <a:pt x="1532" y="113"/>
                  </a:cubicBezTo>
                  <a:cubicBezTo>
                    <a:pt x="1531" y="111"/>
                    <a:pt x="1531" y="109"/>
                    <a:pt x="1530" y="107"/>
                  </a:cubicBezTo>
                  <a:cubicBezTo>
                    <a:pt x="1531" y="100"/>
                    <a:pt x="1532" y="93"/>
                    <a:pt x="1532" y="88"/>
                  </a:cubicBezTo>
                  <a:cubicBezTo>
                    <a:pt x="1532" y="87"/>
                    <a:pt x="1532" y="87"/>
                    <a:pt x="1532" y="87"/>
                  </a:cubicBezTo>
                  <a:cubicBezTo>
                    <a:pt x="1530" y="92"/>
                    <a:pt x="1529" y="97"/>
                    <a:pt x="1528" y="102"/>
                  </a:cubicBezTo>
                  <a:cubicBezTo>
                    <a:pt x="1525" y="96"/>
                    <a:pt x="1523" y="90"/>
                    <a:pt x="1520" y="84"/>
                  </a:cubicBezTo>
                  <a:cubicBezTo>
                    <a:pt x="1523" y="90"/>
                    <a:pt x="1525" y="97"/>
                    <a:pt x="1527" y="104"/>
                  </a:cubicBezTo>
                  <a:cubicBezTo>
                    <a:pt x="1526" y="108"/>
                    <a:pt x="1526" y="111"/>
                    <a:pt x="1525" y="115"/>
                  </a:cubicBezTo>
                  <a:cubicBezTo>
                    <a:pt x="1523" y="110"/>
                    <a:pt x="1521" y="106"/>
                    <a:pt x="1519" y="102"/>
                  </a:cubicBezTo>
                  <a:cubicBezTo>
                    <a:pt x="1521" y="107"/>
                    <a:pt x="1522" y="114"/>
                    <a:pt x="1523" y="121"/>
                  </a:cubicBezTo>
                  <a:cubicBezTo>
                    <a:pt x="1522" y="126"/>
                    <a:pt x="1520" y="131"/>
                    <a:pt x="1519" y="135"/>
                  </a:cubicBezTo>
                  <a:cubicBezTo>
                    <a:pt x="1517" y="132"/>
                    <a:pt x="1516" y="129"/>
                    <a:pt x="1515" y="125"/>
                  </a:cubicBezTo>
                  <a:cubicBezTo>
                    <a:pt x="1516" y="118"/>
                    <a:pt x="1517" y="111"/>
                    <a:pt x="1518" y="104"/>
                  </a:cubicBezTo>
                  <a:cubicBezTo>
                    <a:pt x="1517" y="109"/>
                    <a:pt x="1515" y="114"/>
                    <a:pt x="1513" y="120"/>
                  </a:cubicBezTo>
                  <a:cubicBezTo>
                    <a:pt x="1512" y="115"/>
                    <a:pt x="1511" y="111"/>
                    <a:pt x="1510" y="107"/>
                  </a:cubicBezTo>
                  <a:cubicBezTo>
                    <a:pt x="1510" y="103"/>
                    <a:pt x="1511" y="98"/>
                    <a:pt x="1511" y="94"/>
                  </a:cubicBezTo>
                  <a:cubicBezTo>
                    <a:pt x="1511" y="91"/>
                    <a:pt x="1510" y="88"/>
                    <a:pt x="1510" y="85"/>
                  </a:cubicBezTo>
                  <a:cubicBezTo>
                    <a:pt x="1509" y="89"/>
                    <a:pt x="1508" y="93"/>
                    <a:pt x="1507" y="99"/>
                  </a:cubicBezTo>
                  <a:cubicBezTo>
                    <a:pt x="1504" y="91"/>
                    <a:pt x="1500" y="84"/>
                    <a:pt x="1495" y="77"/>
                  </a:cubicBezTo>
                  <a:cubicBezTo>
                    <a:pt x="1498" y="86"/>
                    <a:pt x="1502" y="95"/>
                    <a:pt x="1505" y="104"/>
                  </a:cubicBezTo>
                  <a:cubicBezTo>
                    <a:pt x="1505" y="106"/>
                    <a:pt x="1505" y="107"/>
                    <a:pt x="1505" y="109"/>
                  </a:cubicBezTo>
                  <a:cubicBezTo>
                    <a:pt x="1504" y="107"/>
                    <a:pt x="1503" y="105"/>
                    <a:pt x="1502" y="103"/>
                  </a:cubicBezTo>
                  <a:cubicBezTo>
                    <a:pt x="1502" y="103"/>
                    <a:pt x="1502" y="102"/>
                    <a:pt x="1502" y="102"/>
                  </a:cubicBezTo>
                  <a:cubicBezTo>
                    <a:pt x="1502" y="102"/>
                    <a:pt x="1502" y="103"/>
                    <a:pt x="1502" y="103"/>
                  </a:cubicBezTo>
                  <a:cubicBezTo>
                    <a:pt x="1497" y="94"/>
                    <a:pt x="1492" y="86"/>
                    <a:pt x="1485" y="79"/>
                  </a:cubicBezTo>
                  <a:cubicBezTo>
                    <a:pt x="1487" y="75"/>
                    <a:pt x="1489" y="71"/>
                    <a:pt x="1491" y="68"/>
                  </a:cubicBezTo>
                  <a:cubicBezTo>
                    <a:pt x="1489" y="69"/>
                    <a:pt x="1486" y="73"/>
                    <a:pt x="1484" y="77"/>
                  </a:cubicBezTo>
                  <a:cubicBezTo>
                    <a:pt x="1480" y="73"/>
                    <a:pt x="1476" y="69"/>
                    <a:pt x="1471" y="65"/>
                  </a:cubicBezTo>
                  <a:cubicBezTo>
                    <a:pt x="1476" y="70"/>
                    <a:pt x="1480" y="75"/>
                    <a:pt x="1483" y="79"/>
                  </a:cubicBezTo>
                  <a:cubicBezTo>
                    <a:pt x="1480" y="86"/>
                    <a:pt x="1477" y="96"/>
                    <a:pt x="1474" y="105"/>
                  </a:cubicBezTo>
                  <a:cubicBezTo>
                    <a:pt x="1471" y="99"/>
                    <a:pt x="1467" y="94"/>
                    <a:pt x="1464" y="88"/>
                  </a:cubicBezTo>
                  <a:cubicBezTo>
                    <a:pt x="1464" y="87"/>
                    <a:pt x="1464" y="86"/>
                    <a:pt x="1465" y="85"/>
                  </a:cubicBezTo>
                  <a:cubicBezTo>
                    <a:pt x="1464" y="86"/>
                    <a:pt x="1464" y="87"/>
                    <a:pt x="1464" y="88"/>
                  </a:cubicBezTo>
                  <a:cubicBezTo>
                    <a:pt x="1463" y="87"/>
                    <a:pt x="1462" y="86"/>
                    <a:pt x="1461" y="85"/>
                  </a:cubicBezTo>
                  <a:cubicBezTo>
                    <a:pt x="1462" y="86"/>
                    <a:pt x="1463" y="87"/>
                    <a:pt x="1463" y="88"/>
                  </a:cubicBezTo>
                  <a:cubicBezTo>
                    <a:pt x="1462" y="91"/>
                    <a:pt x="1461" y="93"/>
                    <a:pt x="1460" y="95"/>
                  </a:cubicBezTo>
                  <a:cubicBezTo>
                    <a:pt x="1459" y="94"/>
                    <a:pt x="1459" y="92"/>
                    <a:pt x="1458" y="91"/>
                  </a:cubicBezTo>
                  <a:cubicBezTo>
                    <a:pt x="1459" y="92"/>
                    <a:pt x="1459" y="94"/>
                    <a:pt x="1460" y="95"/>
                  </a:cubicBezTo>
                  <a:cubicBezTo>
                    <a:pt x="1456" y="103"/>
                    <a:pt x="1453" y="112"/>
                    <a:pt x="1451" y="121"/>
                  </a:cubicBezTo>
                  <a:cubicBezTo>
                    <a:pt x="1450" y="112"/>
                    <a:pt x="1449" y="103"/>
                    <a:pt x="1449" y="97"/>
                  </a:cubicBezTo>
                  <a:cubicBezTo>
                    <a:pt x="1447" y="100"/>
                    <a:pt x="1446" y="105"/>
                    <a:pt x="1445" y="110"/>
                  </a:cubicBezTo>
                  <a:cubicBezTo>
                    <a:pt x="1445" y="92"/>
                    <a:pt x="1444" y="61"/>
                    <a:pt x="1442" y="57"/>
                  </a:cubicBezTo>
                  <a:cubicBezTo>
                    <a:pt x="1441" y="79"/>
                    <a:pt x="1442" y="100"/>
                    <a:pt x="1442" y="122"/>
                  </a:cubicBezTo>
                  <a:cubicBezTo>
                    <a:pt x="1442" y="123"/>
                    <a:pt x="1442" y="124"/>
                    <a:pt x="1442" y="125"/>
                  </a:cubicBezTo>
                  <a:cubicBezTo>
                    <a:pt x="1440" y="114"/>
                    <a:pt x="1436" y="103"/>
                    <a:pt x="1431" y="94"/>
                  </a:cubicBezTo>
                  <a:cubicBezTo>
                    <a:pt x="1430" y="89"/>
                    <a:pt x="1430" y="84"/>
                    <a:pt x="1431" y="80"/>
                  </a:cubicBezTo>
                  <a:cubicBezTo>
                    <a:pt x="1430" y="83"/>
                    <a:pt x="1429" y="87"/>
                    <a:pt x="1428" y="90"/>
                  </a:cubicBezTo>
                  <a:cubicBezTo>
                    <a:pt x="1426" y="88"/>
                    <a:pt x="1424" y="85"/>
                    <a:pt x="1422" y="83"/>
                  </a:cubicBezTo>
                  <a:cubicBezTo>
                    <a:pt x="1424" y="86"/>
                    <a:pt x="1426" y="89"/>
                    <a:pt x="1428" y="92"/>
                  </a:cubicBezTo>
                  <a:cubicBezTo>
                    <a:pt x="1427" y="96"/>
                    <a:pt x="1426" y="100"/>
                    <a:pt x="1426" y="103"/>
                  </a:cubicBezTo>
                  <a:cubicBezTo>
                    <a:pt x="1425" y="102"/>
                    <a:pt x="1425" y="101"/>
                    <a:pt x="1425" y="100"/>
                  </a:cubicBezTo>
                  <a:cubicBezTo>
                    <a:pt x="1425" y="101"/>
                    <a:pt x="1425" y="102"/>
                    <a:pt x="1426" y="104"/>
                  </a:cubicBezTo>
                  <a:cubicBezTo>
                    <a:pt x="1425" y="106"/>
                    <a:pt x="1425" y="109"/>
                    <a:pt x="1424" y="111"/>
                  </a:cubicBezTo>
                  <a:cubicBezTo>
                    <a:pt x="1422" y="107"/>
                    <a:pt x="1421" y="103"/>
                    <a:pt x="1419" y="99"/>
                  </a:cubicBezTo>
                  <a:cubicBezTo>
                    <a:pt x="1418" y="91"/>
                    <a:pt x="1418" y="82"/>
                    <a:pt x="1419" y="74"/>
                  </a:cubicBezTo>
                  <a:cubicBezTo>
                    <a:pt x="1418" y="80"/>
                    <a:pt x="1416" y="86"/>
                    <a:pt x="1415" y="92"/>
                  </a:cubicBezTo>
                  <a:cubicBezTo>
                    <a:pt x="1414" y="91"/>
                    <a:pt x="1413" y="89"/>
                    <a:pt x="1412" y="88"/>
                  </a:cubicBezTo>
                  <a:cubicBezTo>
                    <a:pt x="1413" y="89"/>
                    <a:pt x="1414" y="91"/>
                    <a:pt x="1415" y="93"/>
                  </a:cubicBezTo>
                  <a:cubicBezTo>
                    <a:pt x="1414" y="95"/>
                    <a:pt x="1414" y="97"/>
                    <a:pt x="1414" y="98"/>
                  </a:cubicBezTo>
                  <a:cubicBezTo>
                    <a:pt x="1411" y="93"/>
                    <a:pt x="1409" y="88"/>
                    <a:pt x="1405" y="84"/>
                  </a:cubicBezTo>
                  <a:cubicBezTo>
                    <a:pt x="1408" y="88"/>
                    <a:pt x="1410" y="95"/>
                    <a:pt x="1413" y="103"/>
                  </a:cubicBezTo>
                  <a:cubicBezTo>
                    <a:pt x="1412" y="106"/>
                    <a:pt x="1411" y="110"/>
                    <a:pt x="1411" y="113"/>
                  </a:cubicBezTo>
                  <a:cubicBezTo>
                    <a:pt x="1408" y="108"/>
                    <a:pt x="1406" y="102"/>
                    <a:pt x="1403" y="96"/>
                  </a:cubicBezTo>
                  <a:cubicBezTo>
                    <a:pt x="1403" y="91"/>
                    <a:pt x="1404" y="86"/>
                    <a:pt x="1405" y="83"/>
                  </a:cubicBezTo>
                  <a:cubicBezTo>
                    <a:pt x="1404" y="87"/>
                    <a:pt x="1403" y="90"/>
                    <a:pt x="1401" y="93"/>
                  </a:cubicBezTo>
                  <a:cubicBezTo>
                    <a:pt x="1396" y="83"/>
                    <a:pt x="1389" y="74"/>
                    <a:pt x="1380" y="64"/>
                  </a:cubicBezTo>
                  <a:cubicBezTo>
                    <a:pt x="1389" y="74"/>
                    <a:pt x="1395" y="86"/>
                    <a:pt x="1400" y="97"/>
                  </a:cubicBezTo>
                  <a:cubicBezTo>
                    <a:pt x="1399" y="99"/>
                    <a:pt x="1399" y="101"/>
                    <a:pt x="1398" y="103"/>
                  </a:cubicBezTo>
                  <a:cubicBezTo>
                    <a:pt x="1397" y="98"/>
                    <a:pt x="1396" y="93"/>
                    <a:pt x="1394" y="88"/>
                  </a:cubicBezTo>
                  <a:cubicBezTo>
                    <a:pt x="1394" y="91"/>
                    <a:pt x="1395" y="98"/>
                    <a:pt x="1397" y="106"/>
                  </a:cubicBezTo>
                  <a:cubicBezTo>
                    <a:pt x="1397" y="108"/>
                    <a:pt x="1396" y="109"/>
                    <a:pt x="1396" y="110"/>
                  </a:cubicBezTo>
                  <a:cubicBezTo>
                    <a:pt x="1390" y="97"/>
                    <a:pt x="1383" y="83"/>
                    <a:pt x="1372" y="72"/>
                  </a:cubicBezTo>
                  <a:cubicBezTo>
                    <a:pt x="1370" y="61"/>
                    <a:pt x="1368" y="51"/>
                    <a:pt x="1366" y="41"/>
                  </a:cubicBezTo>
                  <a:cubicBezTo>
                    <a:pt x="1366" y="48"/>
                    <a:pt x="1366" y="55"/>
                    <a:pt x="1366" y="61"/>
                  </a:cubicBezTo>
                  <a:cubicBezTo>
                    <a:pt x="1366" y="63"/>
                    <a:pt x="1366" y="64"/>
                    <a:pt x="1366" y="66"/>
                  </a:cubicBezTo>
                  <a:cubicBezTo>
                    <a:pt x="1365" y="65"/>
                    <a:pt x="1365" y="65"/>
                    <a:pt x="1365" y="65"/>
                  </a:cubicBezTo>
                  <a:cubicBezTo>
                    <a:pt x="1365" y="65"/>
                    <a:pt x="1365" y="65"/>
                    <a:pt x="1366" y="66"/>
                  </a:cubicBezTo>
                  <a:cubicBezTo>
                    <a:pt x="1366" y="75"/>
                    <a:pt x="1367" y="85"/>
                    <a:pt x="1367" y="94"/>
                  </a:cubicBezTo>
                  <a:cubicBezTo>
                    <a:pt x="1365" y="88"/>
                    <a:pt x="1362" y="81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3" y="67"/>
                    <a:pt x="1346" y="59"/>
                    <a:pt x="1336" y="50"/>
                  </a:cubicBezTo>
                  <a:cubicBezTo>
                    <a:pt x="1339" y="54"/>
                    <a:pt x="1341" y="58"/>
                    <a:pt x="1343" y="61"/>
                  </a:cubicBezTo>
                  <a:cubicBezTo>
                    <a:pt x="1342" y="64"/>
                    <a:pt x="1342" y="68"/>
                    <a:pt x="1341" y="73"/>
                  </a:cubicBezTo>
                  <a:cubicBezTo>
                    <a:pt x="1339" y="70"/>
                    <a:pt x="1336" y="67"/>
                    <a:pt x="1334" y="65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2" y="62"/>
                    <a:pt x="1330" y="61"/>
                    <a:pt x="1328" y="59"/>
                  </a:cubicBezTo>
                  <a:cubicBezTo>
                    <a:pt x="1330" y="61"/>
                    <a:pt x="1332" y="63"/>
                    <a:pt x="1333" y="65"/>
                  </a:cubicBezTo>
                  <a:cubicBezTo>
                    <a:pt x="1332" y="67"/>
                    <a:pt x="1330" y="69"/>
                    <a:pt x="1329" y="72"/>
                  </a:cubicBezTo>
                  <a:cubicBezTo>
                    <a:pt x="1328" y="67"/>
                    <a:pt x="1328" y="61"/>
                    <a:pt x="1327" y="56"/>
                  </a:cubicBezTo>
                  <a:cubicBezTo>
                    <a:pt x="1328" y="54"/>
                    <a:pt x="1329" y="53"/>
                    <a:pt x="1330" y="51"/>
                  </a:cubicBezTo>
                  <a:cubicBezTo>
                    <a:pt x="1329" y="52"/>
                    <a:pt x="1328" y="53"/>
                    <a:pt x="1327" y="55"/>
                  </a:cubicBezTo>
                  <a:cubicBezTo>
                    <a:pt x="1325" y="45"/>
                    <a:pt x="1323" y="35"/>
                    <a:pt x="1320" y="26"/>
                  </a:cubicBezTo>
                  <a:cubicBezTo>
                    <a:pt x="1319" y="30"/>
                    <a:pt x="1319" y="34"/>
                    <a:pt x="1319" y="37"/>
                  </a:cubicBezTo>
                  <a:cubicBezTo>
                    <a:pt x="1319" y="45"/>
                    <a:pt x="1320" y="53"/>
                    <a:pt x="1321" y="60"/>
                  </a:cubicBezTo>
                  <a:cubicBezTo>
                    <a:pt x="1317" y="65"/>
                    <a:pt x="1313" y="69"/>
                    <a:pt x="1308" y="75"/>
                  </a:cubicBezTo>
                  <a:cubicBezTo>
                    <a:pt x="1308" y="72"/>
                    <a:pt x="1307" y="70"/>
                    <a:pt x="1306" y="67"/>
                  </a:cubicBezTo>
                  <a:cubicBezTo>
                    <a:pt x="1306" y="70"/>
                    <a:pt x="1307" y="73"/>
                    <a:pt x="1307" y="76"/>
                  </a:cubicBezTo>
                  <a:cubicBezTo>
                    <a:pt x="1306" y="77"/>
                    <a:pt x="1306" y="78"/>
                    <a:pt x="1306" y="78"/>
                  </a:cubicBezTo>
                  <a:cubicBezTo>
                    <a:pt x="1304" y="75"/>
                    <a:pt x="1302" y="72"/>
                    <a:pt x="1300" y="68"/>
                  </a:cubicBezTo>
                  <a:cubicBezTo>
                    <a:pt x="1300" y="65"/>
                    <a:pt x="1301" y="63"/>
                    <a:pt x="1301" y="62"/>
                  </a:cubicBezTo>
                  <a:cubicBezTo>
                    <a:pt x="1300" y="63"/>
                    <a:pt x="1299" y="65"/>
                    <a:pt x="1298" y="67"/>
                  </a:cubicBezTo>
                  <a:cubicBezTo>
                    <a:pt x="1292" y="57"/>
                    <a:pt x="1283" y="47"/>
                    <a:pt x="1270" y="34"/>
                  </a:cubicBezTo>
                  <a:cubicBezTo>
                    <a:pt x="1283" y="49"/>
                    <a:pt x="1291" y="60"/>
                    <a:pt x="1298" y="69"/>
                  </a:cubicBezTo>
                  <a:cubicBezTo>
                    <a:pt x="1297" y="72"/>
                    <a:pt x="1296" y="75"/>
                    <a:pt x="1296" y="79"/>
                  </a:cubicBezTo>
                  <a:cubicBezTo>
                    <a:pt x="1290" y="68"/>
                    <a:pt x="1282" y="58"/>
                    <a:pt x="1270" y="52"/>
                  </a:cubicBezTo>
                  <a:cubicBezTo>
                    <a:pt x="1284" y="60"/>
                    <a:pt x="1291" y="72"/>
                    <a:pt x="1296" y="84"/>
                  </a:cubicBezTo>
                  <a:cubicBezTo>
                    <a:pt x="1296" y="86"/>
                    <a:pt x="1296" y="89"/>
                    <a:pt x="1296" y="92"/>
                  </a:cubicBezTo>
                  <a:cubicBezTo>
                    <a:pt x="1294" y="94"/>
                    <a:pt x="1292" y="97"/>
                    <a:pt x="1290" y="100"/>
                  </a:cubicBezTo>
                  <a:cubicBezTo>
                    <a:pt x="1289" y="96"/>
                    <a:pt x="1289" y="93"/>
                    <a:pt x="1288" y="90"/>
                  </a:cubicBezTo>
                  <a:cubicBezTo>
                    <a:pt x="1289" y="93"/>
                    <a:pt x="1289" y="97"/>
                    <a:pt x="1289" y="101"/>
                  </a:cubicBezTo>
                  <a:cubicBezTo>
                    <a:pt x="1288" y="102"/>
                    <a:pt x="1288" y="104"/>
                    <a:pt x="1287" y="105"/>
                  </a:cubicBezTo>
                  <a:cubicBezTo>
                    <a:pt x="1286" y="104"/>
                    <a:pt x="1286" y="103"/>
                    <a:pt x="1285" y="102"/>
                  </a:cubicBezTo>
                  <a:cubicBezTo>
                    <a:pt x="1284" y="97"/>
                    <a:pt x="1283" y="93"/>
                    <a:pt x="1282" y="88"/>
                  </a:cubicBezTo>
                  <a:cubicBezTo>
                    <a:pt x="1283" y="84"/>
                    <a:pt x="1284" y="79"/>
                    <a:pt x="1284" y="75"/>
                  </a:cubicBezTo>
                  <a:cubicBezTo>
                    <a:pt x="1283" y="78"/>
                    <a:pt x="1282" y="80"/>
                    <a:pt x="1281" y="83"/>
                  </a:cubicBezTo>
                  <a:cubicBezTo>
                    <a:pt x="1280" y="81"/>
                    <a:pt x="1280" y="80"/>
                    <a:pt x="1280" y="79"/>
                  </a:cubicBezTo>
                  <a:cubicBezTo>
                    <a:pt x="1280" y="81"/>
                    <a:pt x="1280" y="82"/>
                    <a:pt x="1280" y="83"/>
                  </a:cubicBezTo>
                  <a:cubicBezTo>
                    <a:pt x="1280" y="84"/>
                    <a:pt x="1279" y="86"/>
                    <a:pt x="1278" y="87"/>
                  </a:cubicBezTo>
                  <a:cubicBezTo>
                    <a:pt x="1276" y="83"/>
                    <a:pt x="1275" y="79"/>
                    <a:pt x="1273" y="75"/>
                  </a:cubicBezTo>
                  <a:cubicBezTo>
                    <a:pt x="1273" y="80"/>
                    <a:pt x="1274" y="86"/>
                    <a:pt x="1276" y="93"/>
                  </a:cubicBezTo>
                  <a:cubicBezTo>
                    <a:pt x="1275" y="94"/>
                    <a:pt x="1275" y="94"/>
                    <a:pt x="1275" y="95"/>
                  </a:cubicBezTo>
                  <a:cubicBezTo>
                    <a:pt x="1274" y="90"/>
                    <a:pt x="1272" y="85"/>
                    <a:pt x="1270" y="81"/>
                  </a:cubicBezTo>
                  <a:cubicBezTo>
                    <a:pt x="1272" y="86"/>
                    <a:pt x="1273" y="91"/>
                    <a:pt x="1274" y="97"/>
                  </a:cubicBezTo>
                  <a:cubicBezTo>
                    <a:pt x="1272" y="100"/>
                    <a:pt x="1271" y="103"/>
                    <a:pt x="1270" y="105"/>
                  </a:cubicBezTo>
                  <a:cubicBezTo>
                    <a:pt x="1267" y="84"/>
                    <a:pt x="1261" y="63"/>
                    <a:pt x="1241" y="42"/>
                  </a:cubicBezTo>
                  <a:cubicBezTo>
                    <a:pt x="1249" y="58"/>
                    <a:pt x="1255" y="70"/>
                    <a:pt x="1259" y="81"/>
                  </a:cubicBezTo>
                  <a:cubicBezTo>
                    <a:pt x="1259" y="84"/>
                    <a:pt x="1259" y="86"/>
                    <a:pt x="1259" y="89"/>
                  </a:cubicBezTo>
                  <a:cubicBezTo>
                    <a:pt x="1257" y="86"/>
                    <a:pt x="1256" y="84"/>
                    <a:pt x="1254" y="81"/>
                  </a:cubicBezTo>
                  <a:cubicBezTo>
                    <a:pt x="1253" y="79"/>
                    <a:pt x="1251" y="76"/>
                    <a:pt x="1250" y="74"/>
                  </a:cubicBezTo>
                  <a:cubicBezTo>
                    <a:pt x="1250" y="72"/>
                    <a:pt x="1250" y="69"/>
                    <a:pt x="1250" y="67"/>
                  </a:cubicBezTo>
                  <a:cubicBezTo>
                    <a:pt x="1250" y="69"/>
                    <a:pt x="1250" y="70"/>
                    <a:pt x="1249" y="72"/>
                  </a:cubicBezTo>
                  <a:cubicBezTo>
                    <a:pt x="1246" y="66"/>
                    <a:pt x="1242" y="59"/>
                    <a:pt x="1237" y="53"/>
                  </a:cubicBezTo>
                  <a:cubicBezTo>
                    <a:pt x="1237" y="48"/>
                    <a:pt x="1237" y="42"/>
                    <a:pt x="1237" y="37"/>
                  </a:cubicBezTo>
                  <a:cubicBezTo>
                    <a:pt x="1237" y="34"/>
                    <a:pt x="1237" y="30"/>
                    <a:pt x="1237" y="26"/>
                  </a:cubicBezTo>
                  <a:cubicBezTo>
                    <a:pt x="1235" y="33"/>
                    <a:pt x="1233" y="40"/>
                    <a:pt x="1232" y="47"/>
                  </a:cubicBezTo>
                  <a:cubicBezTo>
                    <a:pt x="1229" y="44"/>
                    <a:pt x="1225" y="41"/>
                    <a:pt x="1222" y="38"/>
                  </a:cubicBezTo>
                  <a:cubicBezTo>
                    <a:pt x="1225" y="41"/>
                    <a:pt x="1228" y="45"/>
                    <a:pt x="1231" y="49"/>
                  </a:cubicBezTo>
                  <a:cubicBezTo>
                    <a:pt x="1231" y="51"/>
                    <a:pt x="1231" y="53"/>
                    <a:pt x="1230" y="55"/>
                  </a:cubicBezTo>
                  <a:cubicBezTo>
                    <a:pt x="1229" y="53"/>
                    <a:pt x="1228" y="52"/>
                    <a:pt x="1226" y="51"/>
                  </a:cubicBezTo>
                  <a:cubicBezTo>
                    <a:pt x="1227" y="53"/>
                    <a:pt x="1229" y="54"/>
                    <a:pt x="1230" y="56"/>
                  </a:cubicBezTo>
                  <a:cubicBezTo>
                    <a:pt x="1229" y="61"/>
                    <a:pt x="1228" y="67"/>
                    <a:pt x="1228" y="72"/>
                  </a:cubicBezTo>
                  <a:cubicBezTo>
                    <a:pt x="1226" y="69"/>
                    <a:pt x="1224" y="66"/>
                    <a:pt x="1223" y="64"/>
                  </a:cubicBezTo>
                  <a:cubicBezTo>
                    <a:pt x="1223" y="67"/>
                    <a:pt x="1225" y="70"/>
                    <a:pt x="1227" y="74"/>
                  </a:cubicBezTo>
                  <a:cubicBezTo>
                    <a:pt x="1226" y="81"/>
                    <a:pt x="1225" y="87"/>
                    <a:pt x="1224" y="92"/>
                  </a:cubicBezTo>
                  <a:cubicBezTo>
                    <a:pt x="1220" y="109"/>
                    <a:pt x="1216" y="126"/>
                    <a:pt x="1214" y="143"/>
                  </a:cubicBezTo>
                  <a:cubicBezTo>
                    <a:pt x="1215" y="126"/>
                    <a:pt x="1216" y="109"/>
                    <a:pt x="1216" y="91"/>
                  </a:cubicBezTo>
                  <a:cubicBezTo>
                    <a:pt x="1216" y="87"/>
                    <a:pt x="1216" y="61"/>
                    <a:pt x="1212" y="59"/>
                  </a:cubicBezTo>
                  <a:cubicBezTo>
                    <a:pt x="1217" y="76"/>
                    <a:pt x="1203" y="122"/>
                    <a:pt x="1200" y="146"/>
                  </a:cubicBezTo>
                  <a:cubicBezTo>
                    <a:pt x="1200" y="148"/>
                    <a:pt x="1200" y="150"/>
                    <a:pt x="1200" y="152"/>
                  </a:cubicBezTo>
                  <a:cubicBezTo>
                    <a:pt x="1200" y="150"/>
                    <a:pt x="1200" y="148"/>
                    <a:pt x="1200" y="146"/>
                  </a:cubicBezTo>
                  <a:cubicBezTo>
                    <a:pt x="1202" y="123"/>
                    <a:pt x="1201" y="97"/>
                    <a:pt x="1199" y="75"/>
                  </a:cubicBezTo>
                  <a:cubicBezTo>
                    <a:pt x="1196" y="97"/>
                    <a:pt x="1188" y="119"/>
                    <a:pt x="1188" y="141"/>
                  </a:cubicBezTo>
                  <a:cubicBezTo>
                    <a:pt x="1188" y="146"/>
                    <a:pt x="1189" y="152"/>
                    <a:pt x="1189" y="158"/>
                  </a:cubicBezTo>
                  <a:cubicBezTo>
                    <a:pt x="1187" y="150"/>
                    <a:pt x="1187" y="140"/>
                    <a:pt x="1187" y="133"/>
                  </a:cubicBezTo>
                  <a:cubicBezTo>
                    <a:pt x="1187" y="109"/>
                    <a:pt x="1191" y="85"/>
                    <a:pt x="1191" y="61"/>
                  </a:cubicBezTo>
                  <a:cubicBezTo>
                    <a:pt x="1191" y="55"/>
                    <a:pt x="1191" y="48"/>
                    <a:pt x="1191" y="41"/>
                  </a:cubicBezTo>
                  <a:cubicBezTo>
                    <a:pt x="1183" y="71"/>
                    <a:pt x="1179" y="110"/>
                    <a:pt x="1179" y="140"/>
                  </a:cubicBezTo>
                  <a:cubicBezTo>
                    <a:pt x="1179" y="145"/>
                    <a:pt x="1179" y="149"/>
                    <a:pt x="1180" y="153"/>
                  </a:cubicBezTo>
                  <a:cubicBezTo>
                    <a:pt x="1179" y="135"/>
                    <a:pt x="1174" y="116"/>
                    <a:pt x="1170" y="98"/>
                  </a:cubicBezTo>
                  <a:cubicBezTo>
                    <a:pt x="1172" y="110"/>
                    <a:pt x="1168" y="124"/>
                    <a:pt x="1168" y="136"/>
                  </a:cubicBezTo>
                  <a:cubicBezTo>
                    <a:pt x="1168" y="140"/>
                    <a:pt x="1168" y="143"/>
                    <a:pt x="1168" y="147"/>
                  </a:cubicBezTo>
                  <a:cubicBezTo>
                    <a:pt x="1165" y="125"/>
                    <a:pt x="1160" y="103"/>
                    <a:pt x="1151" y="83"/>
                  </a:cubicBezTo>
                  <a:cubicBezTo>
                    <a:pt x="1154" y="90"/>
                    <a:pt x="1154" y="108"/>
                    <a:pt x="1154" y="115"/>
                  </a:cubicBezTo>
                  <a:cubicBezTo>
                    <a:pt x="1154" y="127"/>
                    <a:pt x="1154" y="138"/>
                    <a:pt x="1156" y="150"/>
                  </a:cubicBezTo>
                  <a:cubicBezTo>
                    <a:pt x="1147" y="126"/>
                    <a:pt x="1144" y="99"/>
                    <a:pt x="1137" y="74"/>
                  </a:cubicBezTo>
                  <a:cubicBezTo>
                    <a:pt x="1140" y="91"/>
                    <a:pt x="1137" y="110"/>
                    <a:pt x="1137" y="128"/>
                  </a:cubicBezTo>
                  <a:cubicBezTo>
                    <a:pt x="1137" y="132"/>
                    <a:pt x="1137" y="136"/>
                    <a:pt x="1137" y="140"/>
                  </a:cubicBezTo>
                  <a:cubicBezTo>
                    <a:pt x="1138" y="145"/>
                    <a:pt x="1138" y="149"/>
                    <a:pt x="1139" y="154"/>
                  </a:cubicBezTo>
                  <a:cubicBezTo>
                    <a:pt x="1138" y="149"/>
                    <a:pt x="1137" y="145"/>
                    <a:pt x="1137" y="140"/>
                  </a:cubicBezTo>
                  <a:cubicBezTo>
                    <a:pt x="1134" y="120"/>
                    <a:pt x="1131" y="99"/>
                    <a:pt x="1126" y="80"/>
                  </a:cubicBezTo>
                  <a:cubicBezTo>
                    <a:pt x="1128" y="102"/>
                    <a:pt x="1118" y="126"/>
                    <a:pt x="1118" y="149"/>
                  </a:cubicBezTo>
                  <a:cubicBezTo>
                    <a:pt x="1118" y="156"/>
                    <a:pt x="1118" y="156"/>
                    <a:pt x="1118" y="156"/>
                  </a:cubicBezTo>
                  <a:cubicBezTo>
                    <a:pt x="1114" y="147"/>
                    <a:pt x="1114" y="132"/>
                    <a:pt x="1114" y="122"/>
                  </a:cubicBezTo>
                  <a:cubicBezTo>
                    <a:pt x="1114" y="100"/>
                    <a:pt x="1116" y="79"/>
                    <a:pt x="1115" y="57"/>
                  </a:cubicBezTo>
                  <a:cubicBezTo>
                    <a:pt x="1112" y="62"/>
                    <a:pt x="1111" y="112"/>
                    <a:pt x="1111" y="120"/>
                  </a:cubicBezTo>
                  <a:cubicBezTo>
                    <a:pt x="1111" y="133"/>
                    <a:pt x="1112" y="146"/>
                    <a:pt x="1115" y="159"/>
                  </a:cubicBezTo>
                  <a:cubicBezTo>
                    <a:pt x="1110" y="135"/>
                    <a:pt x="1104" y="108"/>
                    <a:pt x="1092" y="85"/>
                  </a:cubicBezTo>
                  <a:cubicBezTo>
                    <a:pt x="1103" y="106"/>
                    <a:pt x="1098" y="132"/>
                    <a:pt x="1105" y="154"/>
                  </a:cubicBezTo>
                  <a:cubicBezTo>
                    <a:pt x="1097" y="142"/>
                    <a:pt x="1095" y="122"/>
                    <a:pt x="1092" y="106"/>
                  </a:cubicBezTo>
                  <a:cubicBezTo>
                    <a:pt x="1094" y="120"/>
                    <a:pt x="1092" y="134"/>
                    <a:pt x="1094" y="148"/>
                  </a:cubicBezTo>
                  <a:cubicBezTo>
                    <a:pt x="1095" y="151"/>
                    <a:pt x="1096" y="153"/>
                    <a:pt x="1096" y="155"/>
                  </a:cubicBezTo>
                  <a:cubicBezTo>
                    <a:pt x="1095" y="153"/>
                    <a:pt x="1095" y="151"/>
                    <a:pt x="1094" y="148"/>
                  </a:cubicBezTo>
                  <a:cubicBezTo>
                    <a:pt x="1090" y="127"/>
                    <a:pt x="1077" y="75"/>
                    <a:pt x="1066" y="68"/>
                  </a:cubicBezTo>
                  <a:cubicBezTo>
                    <a:pt x="1083" y="90"/>
                    <a:pt x="1080" y="127"/>
                    <a:pt x="1085" y="153"/>
                  </a:cubicBezTo>
                  <a:cubicBezTo>
                    <a:pt x="1080" y="134"/>
                    <a:pt x="1073" y="113"/>
                    <a:pt x="1064" y="95"/>
                  </a:cubicBezTo>
                  <a:cubicBezTo>
                    <a:pt x="1071" y="115"/>
                    <a:pt x="1070" y="136"/>
                    <a:pt x="1079" y="155"/>
                  </a:cubicBezTo>
                  <a:cubicBezTo>
                    <a:pt x="1066" y="144"/>
                    <a:pt x="1059" y="117"/>
                    <a:pt x="1055" y="102"/>
                  </a:cubicBezTo>
                  <a:cubicBezTo>
                    <a:pt x="1056" y="120"/>
                    <a:pt x="1060" y="143"/>
                    <a:pt x="1071" y="158"/>
                  </a:cubicBezTo>
                  <a:cubicBezTo>
                    <a:pt x="1057" y="144"/>
                    <a:pt x="1052" y="103"/>
                    <a:pt x="1047" y="85"/>
                  </a:cubicBezTo>
                  <a:cubicBezTo>
                    <a:pt x="1046" y="88"/>
                    <a:pt x="1046" y="91"/>
                    <a:pt x="1046" y="94"/>
                  </a:cubicBezTo>
                  <a:cubicBezTo>
                    <a:pt x="1046" y="113"/>
                    <a:pt x="1052" y="142"/>
                    <a:pt x="1063" y="159"/>
                  </a:cubicBezTo>
                  <a:cubicBezTo>
                    <a:pt x="1050" y="143"/>
                    <a:pt x="1044" y="123"/>
                    <a:pt x="1038" y="104"/>
                  </a:cubicBezTo>
                  <a:cubicBezTo>
                    <a:pt x="1042" y="122"/>
                    <a:pt x="1042" y="140"/>
                    <a:pt x="1051" y="158"/>
                  </a:cubicBezTo>
                  <a:cubicBezTo>
                    <a:pt x="1041" y="147"/>
                    <a:pt x="1037" y="132"/>
                    <a:pt x="1033" y="117"/>
                  </a:cubicBezTo>
                  <a:cubicBezTo>
                    <a:pt x="1034" y="105"/>
                    <a:pt x="1035" y="93"/>
                    <a:pt x="1036" y="84"/>
                  </a:cubicBezTo>
                  <a:cubicBezTo>
                    <a:pt x="1034" y="92"/>
                    <a:pt x="1033" y="101"/>
                    <a:pt x="1031" y="109"/>
                  </a:cubicBezTo>
                  <a:cubicBezTo>
                    <a:pt x="1029" y="102"/>
                    <a:pt x="1027" y="95"/>
                    <a:pt x="1025" y="89"/>
                  </a:cubicBezTo>
                  <a:cubicBezTo>
                    <a:pt x="1028" y="64"/>
                    <a:pt x="1032" y="40"/>
                    <a:pt x="1032" y="40"/>
                  </a:cubicBezTo>
                  <a:cubicBezTo>
                    <a:pt x="1027" y="51"/>
                    <a:pt x="1022" y="77"/>
                    <a:pt x="1019" y="100"/>
                  </a:cubicBezTo>
                  <a:cubicBezTo>
                    <a:pt x="1017" y="95"/>
                    <a:pt x="1015" y="90"/>
                    <a:pt x="1013" y="86"/>
                  </a:cubicBezTo>
                  <a:cubicBezTo>
                    <a:pt x="1012" y="70"/>
                    <a:pt x="1011" y="58"/>
                    <a:pt x="1011" y="60"/>
                  </a:cubicBezTo>
                  <a:cubicBezTo>
                    <a:pt x="1011" y="61"/>
                    <a:pt x="1010" y="69"/>
                    <a:pt x="1009" y="80"/>
                  </a:cubicBezTo>
                  <a:cubicBezTo>
                    <a:pt x="1008" y="79"/>
                    <a:pt x="1008" y="78"/>
                    <a:pt x="1007" y="78"/>
                  </a:cubicBezTo>
                  <a:cubicBezTo>
                    <a:pt x="1008" y="79"/>
                    <a:pt x="1008" y="80"/>
                    <a:pt x="1009" y="81"/>
                  </a:cubicBezTo>
                  <a:cubicBezTo>
                    <a:pt x="1009" y="87"/>
                    <a:pt x="1008" y="95"/>
                    <a:pt x="1007" y="102"/>
                  </a:cubicBezTo>
                  <a:cubicBezTo>
                    <a:pt x="1007" y="102"/>
                    <a:pt x="1007" y="102"/>
                    <a:pt x="1007" y="102"/>
                  </a:cubicBezTo>
                  <a:cubicBezTo>
                    <a:pt x="1007" y="103"/>
                    <a:pt x="1007" y="103"/>
                    <a:pt x="1007" y="103"/>
                  </a:cubicBezTo>
                  <a:cubicBezTo>
                    <a:pt x="1006" y="113"/>
                    <a:pt x="1006" y="123"/>
                    <a:pt x="1005" y="130"/>
                  </a:cubicBezTo>
                  <a:cubicBezTo>
                    <a:pt x="1005" y="130"/>
                    <a:pt x="1005" y="129"/>
                    <a:pt x="1004" y="128"/>
                  </a:cubicBezTo>
                  <a:cubicBezTo>
                    <a:pt x="1004" y="107"/>
                    <a:pt x="1000" y="69"/>
                    <a:pt x="998" y="47"/>
                  </a:cubicBezTo>
                  <a:cubicBezTo>
                    <a:pt x="998" y="64"/>
                    <a:pt x="997" y="87"/>
                    <a:pt x="996" y="107"/>
                  </a:cubicBezTo>
                  <a:cubicBezTo>
                    <a:pt x="995" y="105"/>
                    <a:pt x="994" y="104"/>
                    <a:pt x="994" y="102"/>
                  </a:cubicBezTo>
                  <a:cubicBezTo>
                    <a:pt x="994" y="104"/>
                    <a:pt x="995" y="106"/>
                    <a:pt x="996" y="107"/>
                  </a:cubicBezTo>
                  <a:cubicBezTo>
                    <a:pt x="995" y="114"/>
                    <a:pt x="995" y="121"/>
                    <a:pt x="994" y="126"/>
                  </a:cubicBezTo>
                  <a:cubicBezTo>
                    <a:pt x="994" y="125"/>
                    <a:pt x="993" y="123"/>
                    <a:pt x="993" y="122"/>
                  </a:cubicBezTo>
                  <a:cubicBezTo>
                    <a:pt x="992" y="93"/>
                    <a:pt x="988" y="46"/>
                    <a:pt x="988" y="46"/>
                  </a:cubicBezTo>
                  <a:cubicBezTo>
                    <a:pt x="988" y="65"/>
                    <a:pt x="981" y="142"/>
                    <a:pt x="981" y="142"/>
                  </a:cubicBezTo>
                  <a:cubicBezTo>
                    <a:pt x="975" y="106"/>
                    <a:pt x="982" y="0"/>
                    <a:pt x="982" y="0"/>
                  </a:cubicBezTo>
                  <a:cubicBezTo>
                    <a:pt x="976" y="16"/>
                    <a:pt x="970" y="131"/>
                    <a:pt x="970" y="131"/>
                  </a:cubicBezTo>
                  <a:cubicBezTo>
                    <a:pt x="968" y="36"/>
                    <a:pt x="964" y="32"/>
                    <a:pt x="964" y="32"/>
                  </a:cubicBezTo>
                  <a:cubicBezTo>
                    <a:pt x="966" y="43"/>
                    <a:pt x="963" y="76"/>
                    <a:pt x="960" y="103"/>
                  </a:cubicBezTo>
                  <a:cubicBezTo>
                    <a:pt x="959" y="102"/>
                    <a:pt x="958" y="100"/>
                    <a:pt x="957" y="99"/>
                  </a:cubicBezTo>
                  <a:cubicBezTo>
                    <a:pt x="958" y="101"/>
                    <a:pt x="959" y="103"/>
                    <a:pt x="960" y="104"/>
                  </a:cubicBezTo>
                  <a:cubicBezTo>
                    <a:pt x="959" y="112"/>
                    <a:pt x="958" y="120"/>
                    <a:pt x="957" y="126"/>
                  </a:cubicBezTo>
                  <a:cubicBezTo>
                    <a:pt x="957" y="124"/>
                    <a:pt x="957" y="123"/>
                    <a:pt x="957" y="122"/>
                  </a:cubicBezTo>
                  <a:cubicBezTo>
                    <a:pt x="958" y="94"/>
                    <a:pt x="956" y="48"/>
                    <a:pt x="956" y="48"/>
                  </a:cubicBezTo>
                  <a:cubicBezTo>
                    <a:pt x="955" y="55"/>
                    <a:pt x="952" y="82"/>
                    <a:pt x="949" y="106"/>
                  </a:cubicBezTo>
                  <a:cubicBezTo>
                    <a:pt x="948" y="104"/>
                    <a:pt x="948" y="102"/>
                    <a:pt x="947" y="100"/>
                  </a:cubicBezTo>
                  <a:cubicBezTo>
                    <a:pt x="950" y="60"/>
                    <a:pt x="954" y="9"/>
                    <a:pt x="954" y="9"/>
                  </a:cubicBezTo>
                  <a:cubicBezTo>
                    <a:pt x="949" y="23"/>
                    <a:pt x="942" y="83"/>
                    <a:pt x="939" y="117"/>
                  </a:cubicBezTo>
                  <a:cubicBezTo>
                    <a:pt x="938" y="114"/>
                    <a:pt x="937" y="111"/>
                    <a:pt x="937" y="108"/>
                  </a:cubicBezTo>
                  <a:cubicBezTo>
                    <a:pt x="936" y="90"/>
                    <a:pt x="934" y="72"/>
                    <a:pt x="934" y="72"/>
                  </a:cubicBezTo>
                  <a:cubicBezTo>
                    <a:pt x="935" y="76"/>
                    <a:pt x="934" y="84"/>
                    <a:pt x="933" y="94"/>
                  </a:cubicBezTo>
                  <a:cubicBezTo>
                    <a:pt x="932" y="91"/>
                    <a:pt x="930" y="88"/>
                    <a:pt x="929" y="84"/>
                  </a:cubicBezTo>
                  <a:cubicBezTo>
                    <a:pt x="931" y="88"/>
                    <a:pt x="932" y="92"/>
                    <a:pt x="933" y="96"/>
                  </a:cubicBezTo>
                  <a:cubicBezTo>
                    <a:pt x="932" y="99"/>
                    <a:pt x="932" y="103"/>
                    <a:pt x="931" y="107"/>
                  </a:cubicBezTo>
                  <a:cubicBezTo>
                    <a:pt x="931" y="106"/>
                    <a:pt x="931" y="106"/>
                    <a:pt x="931" y="105"/>
                  </a:cubicBezTo>
                  <a:cubicBezTo>
                    <a:pt x="930" y="107"/>
                    <a:pt x="930" y="112"/>
                    <a:pt x="930" y="116"/>
                  </a:cubicBezTo>
                  <a:cubicBezTo>
                    <a:pt x="929" y="121"/>
                    <a:pt x="929" y="126"/>
                    <a:pt x="928" y="130"/>
                  </a:cubicBezTo>
                  <a:cubicBezTo>
                    <a:pt x="928" y="129"/>
                    <a:pt x="928" y="128"/>
                    <a:pt x="928" y="127"/>
                  </a:cubicBezTo>
                  <a:cubicBezTo>
                    <a:pt x="928" y="101"/>
                    <a:pt x="923" y="63"/>
                    <a:pt x="922" y="54"/>
                  </a:cubicBezTo>
                  <a:cubicBezTo>
                    <a:pt x="923" y="61"/>
                    <a:pt x="921" y="79"/>
                    <a:pt x="920" y="96"/>
                  </a:cubicBezTo>
                  <a:cubicBezTo>
                    <a:pt x="919" y="94"/>
                    <a:pt x="918" y="92"/>
                    <a:pt x="918" y="90"/>
                  </a:cubicBezTo>
                  <a:cubicBezTo>
                    <a:pt x="918" y="92"/>
                    <a:pt x="919" y="95"/>
                    <a:pt x="920" y="97"/>
                  </a:cubicBezTo>
                  <a:cubicBezTo>
                    <a:pt x="918" y="118"/>
                    <a:pt x="916" y="137"/>
                    <a:pt x="916" y="137"/>
                  </a:cubicBezTo>
                  <a:cubicBezTo>
                    <a:pt x="916" y="136"/>
                    <a:pt x="916" y="134"/>
                    <a:pt x="915" y="133"/>
                  </a:cubicBezTo>
                  <a:cubicBezTo>
                    <a:pt x="915" y="125"/>
                    <a:pt x="915" y="118"/>
                    <a:pt x="915" y="110"/>
                  </a:cubicBezTo>
                  <a:cubicBezTo>
                    <a:pt x="913" y="76"/>
                    <a:pt x="913" y="40"/>
                    <a:pt x="913" y="40"/>
                  </a:cubicBezTo>
                  <a:cubicBezTo>
                    <a:pt x="912" y="49"/>
                    <a:pt x="908" y="79"/>
                    <a:pt x="903" y="104"/>
                  </a:cubicBezTo>
                  <a:cubicBezTo>
                    <a:pt x="903" y="99"/>
                    <a:pt x="902" y="95"/>
                    <a:pt x="902" y="90"/>
                  </a:cubicBezTo>
                  <a:cubicBezTo>
                    <a:pt x="903" y="67"/>
                    <a:pt x="903" y="45"/>
                    <a:pt x="903" y="45"/>
                  </a:cubicBezTo>
                  <a:cubicBezTo>
                    <a:pt x="903" y="53"/>
                    <a:pt x="897" y="75"/>
                    <a:pt x="891" y="96"/>
                  </a:cubicBezTo>
                  <a:cubicBezTo>
                    <a:pt x="889" y="93"/>
                    <a:pt x="888" y="89"/>
                    <a:pt x="886" y="85"/>
                  </a:cubicBezTo>
                  <a:cubicBezTo>
                    <a:pt x="893" y="51"/>
                    <a:pt x="901" y="17"/>
                    <a:pt x="901" y="17"/>
                  </a:cubicBezTo>
                  <a:cubicBezTo>
                    <a:pt x="896" y="24"/>
                    <a:pt x="881" y="95"/>
                    <a:pt x="874" y="130"/>
                  </a:cubicBezTo>
                  <a:cubicBezTo>
                    <a:pt x="874" y="130"/>
                    <a:pt x="874" y="130"/>
                    <a:pt x="874" y="130"/>
                  </a:cubicBezTo>
                  <a:cubicBezTo>
                    <a:pt x="878" y="100"/>
                    <a:pt x="875" y="63"/>
                    <a:pt x="874" y="52"/>
                  </a:cubicBezTo>
                  <a:cubicBezTo>
                    <a:pt x="876" y="72"/>
                    <a:pt x="870" y="109"/>
                    <a:pt x="866" y="128"/>
                  </a:cubicBezTo>
                  <a:cubicBezTo>
                    <a:pt x="866" y="126"/>
                    <a:pt x="866" y="123"/>
                    <a:pt x="865" y="120"/>
                  </a:cubicBezTo>
                  <a:cubicBezTo>
                    <a:pt x="867" y="99"/>
                    <a:pt x="869" y="71"/>
                    <a:pt x="870" y="65"/>
                  </a:cubicBezTo>
                  <a:cubicBezTo>
                    <a:pt x="869" y="71"/>
                    <a:pt x="866" y="89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59" y="125"/>
                    <a:pt x="855" y="143"/>
                    <a:pt x="855" y="143"/>
                  </a:cubicBezTo>
                  <a:cubicBezTo>
                    <a:pt x="865" y="38"/>
                    <a:pt x="858" y="25"/>
                    <a:pt x="858" y="25"/>
                  </a:cubicBezTo>
                  <a:cubicBezTo>
                    <a:pt x="861" y="42"/>
                    <a:pt x="858" y="72"/>
                    <a:pt x="853" y="96"/>
                  </a:cubicBezTo>
                  <a:cubicBezTo>
                    <a:pt x="852" y="89"/>
                    <a:pt x="850" y="80"/>
                    <a:pt x="847" y="73"/>
                  </a:cubicBezTo>
                  <a:cubicBezTo>
                    <a:pt x="846" y="65"/>
                    <a:pt x="846" y="60"/>
                    <a:pt x="846" y="60"/>
                  </a:cubicBezTo>
                  <a:cubicBezTo>
                    <a:pt x="846" y="63"/>
                    <a:pt x="846" y="67"/>
                    <a:pt x="846" y="71"/>
                  </a:cubicBezTo>
                  <a:cubicBezTo>
                    <a:pt x="844" y="69"/>
                    <a:pt x="843" y="67"/>
                    <a:pt x="842" y="65"/>
                  </a:cubicBezTo>
                  <a:cubicBezTo>
                    <a:pt x="843" y="67"/>
                    <a:pt x="844" y="70"/>
                    <a:pt x="845" y="73"/>
                  </a:cubicBezTo>
                  <a:cubicBezTo>
                    <a:pt x="845" y="82"/>
                    <a:pt x="844" y="92"/>
                    <a:pt x="843" y="101"/>
                  </a:cubicBezTo>
                  <a:cubicBezTo>
                    <a:pt x="842" y="95"/>
                    <a:pt x="839" y="88"/>
                    <a:pt x="834" y="83"/>
                  </a:cubicBezTo>
                  <a:cubicBezTo>
                    <a:pt x="834" y="74"/>
                    <a:pt x="835" y="68"/>
                    <a:pt x="835" y="68"/>
                  </a:cubicBezTo>
                  <a:cubicBezTo>
                    <a:pt x="834" y="72"/>
                    <a:pt x="833" y="76"/>
                    <a:pt x="832" y="81"/>
                  </a:cubicBezTo>
                  <a:cubicBezTo>
                    <a:pt x="832" y="81"/>
                    <a:pt x="831" y="81"/>
                    <a:pt x="831" y="80"/>
                  </a:cubicBezTo>
                  <a:cubicBezTo>
                    <a:pt x="831" y="81"/>
                    <a:pt x="832" y="81"/>
                    <a:pt x="832" y="82"/>
                  </a:cubicBezTo>
                  <a:cubicBezTo>
                    <a:pt x="830" y="101"/>
                    <a:pt x="828" y="130"/>
                    <a:pt x="828" y="142"/>
                  </a:cubicBezTo>
                  <a:cubicBezTo>
                    <a:pt x="828" y="143"/>
                    <a:pt x="827" y="144"/>
                    <a:pt x="827" y="144"/>
                  </a:cubicBezTo>
                  <a:cubicBezTo>
                    <a:pt x="827" y="140"/>
                    <a:pt x="826" y="136"/>
                    <a:pt x="826" y="131"/>
                  </a:cubicBezTo>
                  <a:cubicBezTo>
                    <a:pt x="828" y="121"/>
                    <a:pt x="829" y="112"/>
                    <a:pt x="830" y="103"/>
                  </a:cubicBezTo>
                  <a:cubicBezTo>
                    <a:pt x="829" y="108"/>
                    <a:pt x="828" y="112"/>
                    <a:pt x="827" y="117"/>
                  </a:cubicBezTo>
                  <a:cubicBezTo>
                    <a:pt x="828" y="85"/>
                    <a:pt x="834" y="45"/>
                    <a:pt x="834" y="45"/>
                  </a:cubicBezTo>
                  <a:cubicBezTo>
                    <a:pt x="827" y="60"/>
                    <a:pt x="823" y="95"/>
                    <a:pt x="820" y="120"/>
                  </a:cubicBezTo>
                  <a:cubicBezTo>
                    <a:pt x="820" y="123"/>
                    <a:pt x="819" y="125"/>
                    <a:pt x="818" y="127"/>
                  </a:cubicBezTo>
                  <a:cubicBezTo>
                    <a:pt x="818" y="103"/>
                    <a:pt x="818" y="70"/>
                    <a:pt x="818" y="70"/>
                  </a:cubicBezTo>
                  <a:cubicBezTo>
                    <a:pt x="817" y="72"/>
                    <a:pt x="817" y="76"/>
                    <a:pt x="816" y="81"/>
                  </a:cubicBezTo>
                  <a:cubicBezTo>
                    <a:pt x="815" y="73"/>
                    <a:pt x="813" y="66"/>
                    <a:pt x="810" y="60"/>
                  </a:cubicBezTo>
                  <a:cubicBezTo>
                    <a:pt x="811" y="52"/>
                    <a:pt x="812" y="46"/>
                    <a:pt x="812" y="46"/>
                  </a:cubicBezTo>
                  <a:cubicBezTo>
                    <a:pt x="809" y="51"/>
                    <a:pt x="807" y="64"/>
                    <a:pt x="806" y="79"/>
                  </a:cubicBezTo>
                  <a:cubicBezTo>
                    <a:pt x="805" y="77"/>
                    <a:pt x="805" y="75"/>
                    <a:pt x="805" y="74"/>
                  </a:cubicBezTo>
                  <a:cubicBezTo>
                    <a:pt x="803" y="83"/>
                    <a:pt x="803" y="92"/>
                    <a:pt x="803" y="102"/>
                  </a:cubicBezTo>
                  <a:cubicBezTo>
                    <a:pt x="803" y="108"/>
                    <a:pt x="802" y="115"/>
                    <a:pt x="802" y="121"/>
                  </a:cubicBezTo>
                  <a:cubicBezTo>
                    <a:pt x="801" y="123"/>
                    <a:pt x="801" y="125"/>
                    <a:pt x="800" y="127"/>
                  </a:cubicBezTo>
                  <a:cubicBezTo>
                    <a:pt x="801" y="35"/>
                    <a:pt x="798" y="34"/>
                    <a:pt x="798" y="34"/>
                  </a:cubicBezTo>
                  <a:cubicBezTo>
                    <a:pt x="800" y="49"/>
                    <a:pt x="796" y="77"/>
                    <a:pt x="792" y="102"/>
                  </a:cubicBezTo>
                  <a:cubicBezTo>
                    <a:pt x="791" y="94"/>
                    <a:pt x="790" y="85"/>
                    <a:pt x="785" y="76"/>
                  </a:cubicBezTo>
                  <a:cubicBezTo>
                    <a:pt x="786" y="70"/>
                    <a:pt x="786" y="66"/>
                    <a:pt x="786" y="66"/>
                  </a:cubicBezTo>
                  <a:cubicBezTo>
                    <a:pt x="786" y="68"/>
                    <a:pt x="785" y="71"/>
                    <a:pt x="784" y="74"/>
                  </a:cubicBezTo>
                  <a:cubicBezTo>
                    <a:pt x="784" y="73"/>
                    <a:pt x="783" y="72"/>
                    <a:pt x="783" y="71"/>
                  </a:cubicBezTo>
                  <a:cubicBezTo>
                    <a:pt x="783" y="73"/>
                    <a:pt x="784" y="74"/>
                    <a:pt x="784" y="76"/>
                  </a:cubicBezTo>
                  <a:cubicBezTo>
                    <a:pt x="782" y="83"/>
                    <a:pt x="780" y="93"/>
                    <a:pt x="779" y="103"/>
                  </a:cubicBezTo>
                  <a:cubicBezTo>
                    <a:pt x="778" y="98"/>
                    <a:pt x="778" y="94"/>
                    <a:pt x="776" y="89"/>
                  </a:cubicBezTo>
                  <a:cubicBezTo>
                    <a:pt x="777" y="96"/>
                    <a:pt x="776" y="104"/>
                    <a:pt x="773" y="112"/>
                  </a:cubicBezTo>
                  <a:cubicBezTo>
                    <a:pt x="773" y="92"/>
                    <a:pt x="772" y="70"/>
                    <a:pt x="771" y="62"/>
                  </a:cubicBezTo>
                  <a:cubicBezTo>
                    <a:pt x="772" y="67"/>
                    <a:pt x="771" y="74"/>
                    <a:pt x="771" y="82"/>
                  </a:cubicBezTo>
                  <a:cubicBezTo>
                    <a:pt x="769" y="87"/>
                    <a:pt x="767" y="94"/>
                    <a:pt x="764" y="101"/>
                  </a:cubicBezTo>
                  <a:cubicBezTo>
                    <a:pt x="764" y="91"/>
                    <a:pt x="764" y="82"/>
                    <a:pt x="764" y="75"/>
                  </a:cubicBezTo>
                  <a:cubicBezTo>
                    <a:pt x="763" y="86"/>
                    <a:pt x="761" y="102"/>
                    <a:pt x="759" y="116"/>
                  </a:cubicBezTo>
                  <a:cubicBezTo>
                    <a:pt x="757" y="123"/>
                    <a:pt x="755" y="130"/>
                    <a:pt x="753" y="136"/>
                  </a:cubicBezTo>
                  <a:cubicBezTo>
                    <a:pt x="753" y="118"/>
                    <a:pt x="756" y="89"/>
                    <a:pt x="756" y="89"/>
                  </a:cubicBezTo>
                  <a:cubicBezTo>
                    <a:pt x="755" y="93"/>
                    <a:pt x="754" y="99"/>
                    <a:pt x="751" y="106"/>
                  </a:cubicBezTo>
                  <a:cubicBezTo>
                    <a:pt x="751" y="104"/>
                    <a:pt x="751" y="101"/>
                    <a:pt x="750" y="99"/>
                  </a:cubicBezTo>
                  <a:cubicBezTo>
                    <a:pt x="750" y="96"/>
                    <a:pt x="750" y="96"/>
                    <a:pt x="750" y="96"/>
                  </a:cubicBezTo>
                  <a:cubicBezTo>
                    <a:pt x="749" y="95"/>
                    <a:pt x="749" y="95"/>
                    <a:pt x="749" y="95"/>
                  </a:cubicBezTo>
                  <a:cubicBezTo>
                    <a:pt x="749" y="104"/>
                    <a:pt x="747" y="113"/>
                    <a:pt x="745" y="122"/>
                  </a:cubicBezTo>
                  <a:cubicBezTo>
                    <a:pt x="744" y="127"/>
                    <a:pt x="742" y="131"/>
                    <a:pt x="741" y="134"/>
                  </a:cubicBezTo>
                  <a:cubicBezTo>
                    <a:pt x="741" y="130"/>
                    <a:pt x="740" y="126"/>
                    <a:pt x="740" y="122"/>
                  </a:cubicBezTo>
                  <a:cubicBezTo>
                    <a:pt x="744" y="102"/>
                    <a:pt x="751" y="76"/>
                    <a:pt x="751" y="76"/>
                  </a:cubicBezTo>
                  <a:cubicBezTo>
                    <a:pt x="746" y="82"/>
                    <a:pt x="742" y="94"/>
                    <a:pt x="737" y="105"/>
                  </a:cubicBezTo>
                  <a:cubicBezTo>
                    <a:pt x="737" y="102"/>
                    <a:pt x="736" y="98"/>
                    <a:pt x="734" y="95"/>
                  </a:cubicBezTo>
                  <a:cubicBezTo>
                    <a:pt x="735" y="74"/>
                    <a:pt x="732" y="62"/>
                    <a:pt x="732" y="62"/>
                  </a:cubicBezTo>
                  <a:cubicBezTo>
                    <a:pt x="733" y="69"/>
                    <a:pt x="733" y="78"/>
                    <a:pt x="732" y="88"/>
                  </a:cubicBezTo>
                  <a:cubicBezTo>
                    <a:pt x="729" y="83"/>
                    <a:pt x="726" y="78"/>
                    <a:pt x="722" y="73"/>
                  </a:cubicBezTo>
                  <a:cubicBezTo>
                    <a:pt x="727" y="80"/>
                    <a:pt x="729" y="92"/>
                    <a:pt x="730" y="102"/>
                  </a:cubicBezTo>
                  <a:cubicBezTo>
                    <a:pt x="729" y="108"/>
                    <a:pt x="728" y="115"/>
                    <a:pt x="727" y="120"/>
                  </a:cubicBezTo>
                  <a:cubicBezTo>
                    <a:pt x="726" y="113"/>
                    <a:pt x="725" y="106"/>
                    <a:pt x="723" y="100"/>
                  </a:cubicBezTo>
                  <a:cubicBezTo>
                    <a:pt x="724" y="89"/>
                    <a:pt x="725" y="82"/>
                    <a:pt x="725" y="82"/>
                  </a:cubicBezTo>
                  <a:cubicBezTo>
                    <a:pt x="723" y="98"/>
                    <a:pt x="723" y="98"/>
                    <a:pt x="723" y="98"/>
                  </a:cubicBezTo>
                  <a:cubicBezTo>
                    <a:pt x="722" y="94"/>
                    <a:pt x="721" y="91"/>
                    <a:pt x="719" y="88"/>
                  </a:cubicBezTo>
                  <a:cubicBezTo>
                    <a:pt x="719" y="73"/>
                    <a:pt x="719" y="60"/>
                    <a:pt x="719" y="60"/>
                  </a:cubicBezTo>
                  <a:cubicBezTo>
                    <a:pt x="719" y="72"/>
                    <a:pt x="716" y="90"/>
                    <a:pt x="716" y="90"/>
                  </a:cubicBezTo>
                  <a:cubicBezTo>
                    <a:pt x="714" y="84"/>
                    <a:pt x="714" y="64"/>
                    <a:pt x="714" y="64"/>
                  </a:cubicBezTo>
                  <a:cubicBezTo>
                    <a:pt x="714" y="68"/>
                    <a:pt x="712" y="83"/>
                    <a:pt x="710" y="98"/>
                  </a:cubicBezTo>
                  <a:cubicBezTo>
                    <a:pt x="710" y="96"/>
                    <a:pt x="710" y="95"/>
                    <a:pt x="709" y="93"/>
                  </a:cubicBezTo>
                  <a:cubicBezTo>
                    <a:pt x="708" y="88"/>
                    <a:pt x="706" y="82"/>
                    <a:pt x="705" y="76"/>
                  </a:cubicBezTo>
                  <a:cubicBezTo>
                    <a:pt x="705" y="57"/>
                    <a:pt x="704" y="42"/>
                    <a:pt x="704" y="42"/>
                  </a:cubicBezTo>
                  <a:cubicBezTo>
                    <a:pt x="705" y="49"/>
                    <a:pt x="704" y="59"/>
                    <a:pt x="703" y="70"/>
                  </a:cubicBezTo>
                  <a:cubicBezTo>
                    <a:pt x="701" y="64"/>
                    <a:pt x="698" y="57"/>
                    <a:pt x="695" y="51"/>
                  </a:cubicBezTo>
                  <a:cubicBezTo>
                    <a:pt x="695" y="52"/>
                    <a:pt x="694" y="54"/>
                    <a:pt x="694" y="55"/>
                  </a:cubicBezTo>
                  <a:cubicBezTo>
                    <a:pt x="698" y="65"/>
                    <a:pt x="700" y="74"/>
                    <a:pt x="702" y="82"/>
                  </a:cubicBezTo>
                  <a:cubicBezTo>
                    <a:pt x="701" y="88"/>
                    <a:pt x="700" y="94"/>
                    <a:pt x="699" y="100"/>
                  </a:cubicBezTo>
                  <a:cubicBezTo>
                    <a:pt x="698" y="96"/>
                    <a:pt x="697" y="92"/>
                    <a:pt x="696" y="88"/>
                  </a:cubicBezTo>
                  <a:cubicBezTo>
                    <a:pt x="697" y="78"/>
                    <a:pt x="698" y="70"/>
                    <a:pt x="698" y="70"/>
                  </a:cubicBezTo>
                  <a:cubicBezTo>
                    <a:pt x="697" y="72"/>
                    <a:pt x="696" y="78"/>
                    <a:pt x="695" y="85"/>
                  </a:cubicBezTo>
                  <a:cubicBezTo>
                    <a:pt x="693" y="82"/>
                    <a:pt x="691" y="79"/>
                    <a:pt x="689" y="76"/>
                  </a:cubicBezTo>
                  <a:cubicBezTo>
                    <a:pt x="688" y="71"/>
                    <a:pt x="688" y="66"/>
                    <a:pt x="688" y="61"/>
                  </a:cubicBezTo>
                  <a:cubicBezTo>
                    <a:pt x="688" y="73"/>
                    <a:pt x="685" y="88"/>
                    <a:pt x="683" y="101"/>
                  </a:cubicBezTo>
                  <a:cubicBezTo>
                    <a:pt x="681" y="95"/>
                    <a:pt x="679" y="90"/>
                    <a:pt x="677" y="86"/>
                  </a:cubicBezTo>
                  <a:cubicBezTo>
                    <a:pt x="678" y="73"/>
                    <a:pt x="678" y="64"/>
                    <a:pt x="678" y="64"/>
                  </a:cubicBezTo>
                  <a:cubicBezTo>
                    <a:pt x="678" y="71"/>
                    <a:pt x="676" y="82"/>
                    <a:pt x="674" y="95"/>
                  </a:cubicBezTo>
                  <a:cubicBezTo>
                    <a:pt x="672" y="87"/>
                    <a:pt x="670" y="79"/>
                    <a:pt x="666" y="71"/>
                  </a:cubicBezTo>
                  <a:cubicBezTo>
                    <a:pt x="668" y="49"/>
                    <a:pt x="669" y="30"/>
                    <a:pt x="669" y="30"/>
                  </a:cubicBezTo>
                  <a:cubicBezTo>
                    <a:pt x="667" y="35"/>
                    <a:pt x="665" y="49"/>
                    <a:pt x="663" y="65"/>
                  </a:cubicBezTo>
                  <a:cubicBezTo>
                    <a:pt x="662" y="62"/>
                    <a:pt x="660" y="59"/>
                    <a:pt x="658" y="56"/>
                  </a:cubicBezTo>
                  <a:cubicBezTo>
                    <a:pt x="658" y="63"/>
                    <a:pt x="660" y="70"/>
                    <a:pt x="662" y="78"/>
                  </a:cubicBezTo>
                  <a:cubicBezTo>
                    <a:pt x="661" y="87"/>
                    <a:pt x="660" y="97"/>
                    <a:pt x="659" y="106"/>
                  </a:cubicBezTo>
                  <a:cubicBezTo>
                    <a:pt x="659" y="105"/>
                    <a:pt x="659" y="104"/>
                    <a:pt x="658" y="103"/>
                  </a:cubicBezTo>
                  <a:cubicBezTo>
                    <a:pt x="659" y="104"/>
                    <a:pt x="659" y="106"/>
                    <a:pt x="659" y="109"/>
                  </a:cubicBezTo>
                  <a:cubicBezTo>
                    <a:pt x="658" y="120"/>
                    <a:pt x="657" y="131"/>
                    <a:pt x="657" y="138"/>
                  </a:cubicBezTo>
                  <a:cubicBezTo>
                    <a:pt x="657" y="137"/>
                    <a:pt x="656" y="135"/>
                    <a:pt x="656" y="134"/>
                  </a:cubicBezTo>
                  <a:cubicBezTo>
                    <a:pt x="655" y="99"/>
                    <a:pt x="650" y="41"/>
                    <a:pt x="650" y="41"/>
                  </a:cubicBezTo>
                  <a:cubicBezTo>
                    <a:pt x="652" y="58"/>
                    <a:pt x="650" y="86"/>
                    <a:pt x="648" y="108"/>
                  </a:cubicBezTo>
                  <a:cubicBezTo>
                    <a:pt x="647" y="105"/>
                    <a:pt x="645" y="102"/>
                    <a:pt x="644" y="99"/>
                  </a:cubicBezTo>
                  <a:cubicBezTo>
                    <a:pt x="644" y="86"/>
                    <a:pt x="644" y="73"/>
                    <a:pt x="644" y="67"/>
                  </a:cubicBezTo>
                  <a:cubicBezTo>
                    <a:pt x="643" y="75"/>
                    <a:pt x="642" y="85"/>
                    <a:pt x="641" y="94"/>
                  </a:cubicBezTo>
                  <a:cubicBezTo>
                    <a:pt x="640" y="92"/>
                    <a:pt x="639" y="91"/>
                    <a:pt x="638" y="89"/>
                  </a:cubicBezTo>
                  <a:cubicBezTo>
                    <a:pt x="639" y="91"/>
                    <a:pt x="640" y="94"/>
                    <a:pt x="640" y="97"/>
                  </a:cubicBezTo>
                  <a:cubicBezTo>
                    <a:pt x="639" y="104"/>
                    <a:pt x="638" y="110"/>
                    <a:pt x="636" y="116"/>
                  </a:cubicBezTo>
                  <a:cubicBezTo>
                    <a:pt x="635" y="110"/>
                    <a:pt x="634" y="105"/>
                    <a:pt x="632" y="101"/>
                  </a:cubicBezTo>
                  <a:cubicBezTo>
                    <a:pt x="633" y="91"/>
                    <a:pt x="634" y="83"/>
                    <a:pt x="634" y="83"/>
                  </a:cubicBezTo>
                  <a:cubicBezTo>
                    <a:pt x="634" y="86"/>
                    <a:pt x="633" y="92"/>
                    <a:pt x="631" y="98"/>
                  </a:cubicBezTo>
                  <a:cubicBezTo>
                    <a:pt x="630" y="94"/>
                    <a:pt x="629" y="91"/>
                    <a:pt x="628" y="89"/>
                  </a:cubicBezTo>
                  <a:cubicBezTo>
                    <a:pt x="629" y="74"/>
                    <a:pt x="631" y="62"/>
                    <a:pt x="631" y="62"/>
                  </a:cubicBezTo>
                  <a:cubicBezTo>
                    <a:pt x="629" y="65"/>
                    <a:pt x="628" y="75"/>
                    <a:pt x="626" y="87"/>
                  </a:cubicBezTo>
                  <a:cubicBezTo>
                    <a:pt x="624" y="83"/>
                    <a:pt x="622" y="81"/>
                    <a:pt x="619" y="78"/>
                  </a:cubicBezTo>
                  <a:cubicBezTo>
                    <a:pt x="622" y="81"/>
                    <a:pt x="624" y="84"/>
                    <a:pt x="626" y="89"/>
                  </a:cubicBezTo>
                  <a:cubicBezTo>
                    <a:pt x="625" y="96"/>
                    <a:pt x="624" y="105"/>
                    <a:pt x="623" y="113"/>
                  </a:cubicBezTo>
                  <a:cubicBezTo>
                    <a:pt x="622" y="108"/>
                    <a:pt x="621" y="104"/>
                    <a:pt x="619" y="100"/>
                  </a:cubicBezTo>
                  <a:cubicBezTo>
                    <a:pt x="618" y="86"/>
                    <a:pt x="616" y="73"/>
                    <a:pt x="615" y="68"/>
                  </a:cubicBezTo>
                  <a:cubicBezTo>
                    <a:pt x="615" y="71"/>
                    <a:pt x="616" y="76"/>
                    <a:pt x="615" y="86"/>
                  </a:cubicBezTo>
                  <a:cubicBezTo>
                    <a:pt x="615" y="87"/>
                    <a:pt x="615" y="88"/>
                    <a:pt x="615" y="90"/>
                  </a:cubicBezTo>
                  <a:cubicBezTo>
                    <a:pt x="614" y="87"/>
                    <a:pt x="612" y="84"/>
                    <a:pt x="610" y="81"/>
                  </a:cubicBezTo>
                  <a:cubicBezTo>
                    <a:pt x="613" y="85"/>
                    <a:pt x="614" y="91"/>
                    <a:pt x="614" y="96"/>
                  </a:cubicBezTo>
                  <a:cubicBezTo>
                    <a:pt x="613" y="105"/>
                    <a:pt x="611" y="115"/>
                    <a:pt x="609" y="124"/>
                  </a:cubicBezTo>
                  <a:cubicBezTo>
                    <a:pt x="609" y="113"/>
                    <a:pt x="608" y="102"/>
                    <a:pt x="606" y="91"/>
                  </a:cubicBezTo>
                  <a:cubicBezTo>
                    <a:pt x="606" y="77"/>
                    <a:pt x="606" y="77"/>
                    <a:pt x="606" y="77"/>
                  </a:cubicBezTo>
                  <a:cubicBezTo>
                    <a:pt x="609" y="35"/>
                    <a:pt x="602" y="19"/>
                    <a:pt x="602" y="19"/>
                  </a:cubicBezTo>
                  <a:cubicBezTo>
                    <a:pt x="602" y="19"/>
                    <a:pt x="605" y="31"/>
                    <a:pt x="604" y="54"/>
                  </a:cubicBezTo>
                  <a:cubicBezTo>
                    <a:pt x="604" y="59"/>
                    <a:pt x="603" y="68"/>
                    <a:pt x="602" y="78"/>
                  </a:cubicBezTo>
                  <a:cubicBezTo>
                    <a:pt x="599" y="72"/>
                    <a:pt x="596" y="66"/>
                    <a:pt x="592" y="60"/>
                  </a:cubicBezTo>
                  <a:cubicBezTo>
                    <a:pt x="592" y="61"/>
                    <a:pt x="592" y="61"/>
                    <a:pt x="592" y="61"/>
                  </a:cubicBezTo>
                  <a:cubicBezTo>
                    <a:pt x="592" y="62"/>
                    <a:pt x="592" y="63"/>
                    <a:pt x="592" y="64"/>
                  </a:cubicBezTo>
                  <a:cubicBezTo>
                    <a:pt x="591" y="44"/>
                    <a:pt x="583" y="40"/>
                    <a:pt x="583" y="40"/>
                  </a:cubicBezTo>
                  <a:cubicBezTo>
                    <a:pt x="583" y="40"/>
                    <a:pt x="589" y="44"/>
                    <a:pt x="589" y="70"/>
                  </a:cubicBezTo>
                  <a:cubicBezTo>
                    <a:pt x="589" y="76"/>
                    <a:pt x="588" y="85"/>
                    <a:pt x="586" y="94"/>
                  </a:cubicBezTo>
                  <a:cubicBezTo>
                    <a:pt x="584" y="90"/>
                    <a:pt x="581" y="86"/>
                    <a:pt x="578" y="83"/>
                  </a:cubicBezTo>
                  <a:cubicBezTo>
                    <a:pt x="581" y="87"/>
                    <a:pt x="584" y="92"/>
                    <a:pt x="586" y="97"/>
                  </a:cubicBezTo>
                  <a:cubicBezTo>
                    <a:pt x="585" y="100"/>
                    <a:pt x="585" y="103"/>
                    <a:pt x="584" y="106"/>
                  </a:cubicBezTo>
                  <a:cubicBezTo>
                    <a:pt x="584" y="104"/>
                    <a:pt x="583" y="102"/>
                    <a:pt x="583" y="100"/>
                  </a:cubicBezTo>
                  <a:cubicBezTo>
                    <a:pt x="583" y="102"/>
                    <a:pt x="583" y="105"/>
                    <a:pt x="584" y="108"/>
                  </a:cubicBezTo>
                  <a:cubicBezTo>
                    <a:pt x="583" y="111"/>
                    <a:pt x="582" y="114"/>
                    <a:pt x="581" y="117"/>
                  </a:cubicBezTo>
                  <a:cubicBezTo>
                    <a:pt x="580" y="113"/>
                    <a:pt x="579" y="108"/>
                    <a:pt x="577" y="104"/>
                  </a:cubicBezTo>
                  <a:cubicBezTo>
                    <a:pt x="577" y="87"/>
                    <a:pt x="578" y="71"/>
                    <a:pt x="578" y="71"/>
                  </a:cubicBezTo>
                  <a:cubicBezTo>
                    <a:pt x="578" y="73"/>
                    <a:pt x="576" y="84"/>
                    <a:pt x="573" y="97"/>
                  </a:cubicBezTo>
                  <a:cubicBezTo>
                    <a:pt x="572" y="95"/>
                    <a:pt x="571" y="93"/>
                    <a:pt x="570" y="92"/>
                  </a:cubicBezTo>
                  <a:cubicBezTo>
                    <a:pt x="571" y="81"/>
                    <a:pt x="572" y="72"/>
                    <a:pt x="573" y="66"/>
                  </a:cubicBezTo>
                  <a:cubicBezTo>
                    <a:pt x="572" y="73"/>
                    <a:pt x="571" y="81"/>
                    <a:pt x="569" y="90"/>
                  </a:cubicBezTo>
                  <a:cubicBezTo>
                    <a:pt x="568" y="88"/>
                    <a:pt x="566" y="86"/>
                    <a:pt x="565" y="83"/>
                  </a:cubicBezTo>
                  <a:cubicBezTo>
                    <a:pt x="568" y="26"/>
                    <a:pt x="566" y="12"/>
                    <a:pt x="566" y="12"/>
                  </a:cubicBezTo>
                  <a:cubicBezTo>
                    <a:pt x="566" y="12"/>
                    <a:pt x="566" y="18"/>
                    <a:pt x="563" y="56"/>
                  </a:cubicBezTo>
                  <a:cubicBezTo>
                    <a:pt x="562" y="64"/>
                    <a:pt x="561" y="71"/>
                    <a:pt x="560" y="78"/>
                  </a:cubicBezTo>
                  <a:cubicBezTo>
                    <a:pt x="558" y="76"/>
                    <a:pt x="556" y="73"/>
                    <a:pt x="553" y="71"/>
                  </a:cubicBezTo>
                  <a:cubicBezTo>
                    <a:pt x="554" y="48"/>
                    <a:pt x="555" y="31"/>
                    <a:pt x="555" y="31"/>
                  </a:cubicBezTo>
                  <a:cubicBezTo>
                    <a:pt x="553" y="37"/>
                    <a:pt x="551" y="52"/>
                    <a:pt x="550" y="68"/>
                  </a:cubicBezTo>
                  <a:cubicBezTo>
                    <a:pt x="548" y="66"/>
                    <a:pt x="546" y="65"/>
                    <a:pt x="544" y="63"/>
                  </a:cubicBezTo>
                  <a:cubicBezTo>
                    <a:pt x="547" y="65"/>
                    <a:pt x="548" y="67"/>
                    <a:pt x="550" y="69"/>
                  </a:cubicBezTo>
                  <a:cubicBezTo>
                    <a:pt x="549" y="82"/>
                    <a:pt x="549" y="96"/>
                    <a:pt x="548" y="109"/>
                  </a:cubicBezTo>
                  <a:cubicBezTo>
                    <a:pt x="547" y="104"/>
                    <a:pt x="545" y="99"/>
                    <a:pt x="544" y="96"/>
                  </a:cubicBezTo>
                  <a:cubicBezTo>
                    <a:pt x="545" y="104"/>
                    <a:pt x="546" y="112"/>
                    <a:pt x="548" y="120"/>
                  </a:cubicBezTo>
                  <a:cubicBezTo>
                    <a:pt x="548" y="123"/>
                    <a:pt x="548" y="126"/>
                    <a:pt x="548" y="128"/>
                  </a:cubicBezTo>
                  <a:cubicBezTo>
                    <a:pt x="547" y="125"/>
                    <a:pt x="545" y="122"/>
                    <a:pt x="544" y="118"/>
                  </a:cubicBezTo>
                  <a:cubicBezTo>
                    <a:pt x="539" y="80"/>
                    <a:pt x="532" y="28"/>
                    <a:pt x="532" y="28"/>
                  </a:cubicBezTo>
                  <a:cubicBezTo>
                    <a:pt x="532" y="39"/>
                    <a:pt x="530" y="72"/>
                    <a:pt x="528" y="100"/>
                  </a:cubicBezTo>
                  <a:cubicBezTo>
                    <a:pt x="528" y="98"/>
                    <a:pt x="527" y="97"/>
                    <a:pt x="526" y="96"/>
                  </a:cubicBezTo>
                  <a:cubicBezTo>
                    <a:pt x="527" y="97"/>
                    <a:pt x="528" y="99"/>
                    <a:pt x="528" y="100"/>
                  </a:cubicBezTo>
                  <a:cubicBezTo>
                    <a:pt x="528" y="110"/>
                    <a:pt x="527" y="120"/>
                    <a:pt x="526" y="128"/>
                  </a:cubicBezTo>
                  <a:cubicBezTo>
                    <a:pt x="526" y="128"/>
                    <a:pt x="526" y="127"/>
                    <a:pt x="526" y="127"/>
                  </a:cubicBezTo>
                  <a:cubicBezTo>
                    <a:pt x="526" y="109"/>
                    <a:pt x="524" y="87"/>
                    <a:pt x="523" y="71"/>
                  </a:cubicBezTo>
                  <a:cubicBezTo>
                    <a:pt x="524" y="68"/>
                    <a:pt x="525" y="66"/>
                    <a:pt x="526" y="64"/>
                  </a:cubicBezTo>
                  <a:cubicBezTo>
                    <a:pt x="525" y="65"/>
                    <a:pt x="524" y="67"/>
                    <a:pt x="523" y="69"/>
                  </a:cubicBezTo>
                  <a:cubicBezTo>
                    <a:pt x="522" y="61"/>
                    <a:pt x="521" y="55"/>
                    <a:pt x="521" y="53"/>
                  </a:cubicBezTo>
                  <a:cubicBezTo>
                    <a:pt x="521" y="52"/>
                    <a:pt x="522" y="52"/>
                    <a:pt x="522" y="51"/>
                  </a:cubicBezTo>
                  <a:cubicBezTo>
                    <a:pt x="522" y="51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19" y="54"/>
                    <a:pt x="517" y="56"/>
                    <a:pt x="516" y="57"/>
                  </a:cubicBezTo>
                  <a:cubicBezTo>
                    <a:pt x="516" y="54"/>
                    <a:pt x="516" y="52"/>
                    <a:pt x="517" y="50"/>
                  </a:cubicBezTo>
                  <a:cubicBezTo>
                    <a:pt x="520" y="46"/>
                    <a:pt x="523" y="42"/>
                    <a:pt x="527" y="38"/>
                  </a:cubicBezTo>
                  <a:cubicBezTo>
                    <a:pt x="523" y="41"/>
                    <a:pt x="520" y="44"/>
                    <a:pt x="517" y="47"/>
                  </a:cubicBezTo>
                  <a:cubicBezTo>
                    <a:pt x="517" y="43"/>
                    <a:pt x="518" y="40"/>
                    <a:pt x="518" y="40"/>
                  </a:cubicBezTo>
                  <a:cubicBezTo>
                    <a:pt x="517" y="43"/>
                    <a:pt x="516" y="46"/>
                    <a:pt x="515" y="50"/>
                  </a:cubicBezTo>
                  <a:cubicBezTo>
                    <a:pt x="507" y="58"/>
                    <a:pt x="502" y="66"/>
                    <a:pt x="498" y="75"/>
                  </a:cubicBezTo>
                  <a:cubicBezTo>
                    <a:pt x="498" y="70"/>
                    <a:pt x="497" y="66"/>
                    <a:pt x="497" y="63"/>
                  </a:cubicBezTo>
                  <a:cubicBezTo>
                    <a:pt x="500" y="57"/>
                    <a:pt x="503" y="50"/>
                    <a:pt x="507" y="42"/>
                  </a:cubicBezTo>
                  <a:cubicBezTo>
                    <a:pt x="498" y="52"/>
                    <a:pt x="492" y="61"/>
                    <a:pt x="488" y="71"/>
                  </a:cubicBezTo>
                  <a:cubicBezTo>
                    <a:pt x="487" y="70"/>
                    <a:pt x="487" y="70"/>
                    <a:pt x="486" y="69"/>
                  </a:cubicBezTo>
                  <a:cubicBezTo>
                    <a:pt x="486" y="68"/>
                    <a:pt x="486" y="67"/>
                    <a:pt x="486" y="65"/>
                  </a:cubicBezTo>
                  <a:cubicBezTo>
                    <a:pt x="492" y="53"/>
                    <a:pt x="500" y="41"/>
                    <a:pt x="511" y="25"/>
                  </a:cubicBezTo>
                  <a:cubicBezTo>
                    <a:pt x="500" y="40"/>
                    <a:pt x="492" y="51"/>
                    <a:pt x="485" y="63"/>
                  </a:cubicBezTo>
                  <a:cubicBezTo>
                    <a:pt x="483" y="45"/>
                    <a:pt x="482" y="30"/>
                    <a:pt x="482" y="30"/>
                  </a:cubicBezTo>
                  <a:cubicBezTo>
                    <a:pt x="482" y="35"/>
                    <a:pt x="482" y="49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7"/>
                    <a:pt x="482" y="69"/>
                    <a:pt x="482" y="71"/>
                  </a:cubicBezTo>
                  <a:cubicBezTo>
                    <a:pt x="480" y="74"/>
                    <a:pt x="479" y="78"/>
                    <a:pt x="478" y="81"/>
                  </a:cubicBezTo>
                  <a:cubicBezTo>
                    <a:pt x="479" y="78"/>
                    <a:pt x="480" y="76"/>
                    <a:pt x="482" y="73"/>
                  </a:cubicBezTo>
                  <a:cubicBezTo>
                    <a:pt x="481" y="79"/>
                    <a:pt x="481" y="85"/>
                    <a:pt x="481" y="91"/>
                  </a:cubicBezTo>
                  <a:cubicBezTo>
                    <a:pt x="481" y="93"/>
                    <a:pt x="480" y="95"/>
                    <a:pt x="480" y="97"/>
                  </a:cubicBezTo>
                  <a:cubicBezTo>
                    <a:pt x="479" y="96"/>
                    <a:pt x="478" y="95"/>
                    <a:pt x="478" y="94"/>
                  </a:cubicBezTo>
                  <a:cubicBezTo>
                    <a:pt x="478" y="91"/>
                    <a:pt x="477" y="88"/>
                    <a:pt x="477" y="85"/>
                  </a:cubicBezTo>
                  <a:cubicBezTo>
                    <a:pt x="477" y="83"/>
                    <a:pt x="478" y="82"/>
                    <a:pt x="478" y="81"/>
                  </a:cubicBezTo>
                  <a:cubicBezTo>
                    <a:pt x="478" y="82"/>
                    <a:pt x="477" y="83"/>
                    <a:pt x="477" y="84"/>
                  </a:cubicBezTo>
                  <a:cubicBezTo>
                    <a:pt x="476" y="72"/>
                    <a:pt x="476" y="62"/>
                    <a:pt x="475" y="55"/>
                  </a:cubicBezTo>
                  <a:cubicBezTo>
                    <a:pt x="476" y="54"/>
                    <a:pt x="477" y="53"/>
                    <a:pt x="479" y="52"/>
                  </a:cubicBezTo>
                  <a:cubicBezTo>
                    <a:pt x="477" y="53"/>
                    <a:pt x="476" y="54"/>
                    <a:pt x="475" y="54"/>
                  </a:cubicBezTo>
                  <a:cubicBezTo>
                    <a:pt x="475" y="49"/>
                    <a:pt x="475" y="46"/>
                    <a:pt x="475" y="46"/>
                  </a:cubicBezTo>
                  <a:cubicBezTo>
                    <a:pt x="475" y="48"/>
                    <a:pt x="474" y="51"/>
                    <a:pt x="474" y="55"/>
                  </a:cubicBezTo>
                  <a:cubicBezTo>
                    <a:pt x="471" y="57"/>
                    <a:pt x="468" y="59"/>
                    <a:pt x="465" y="62"/>
                  </a:cubicBezTo>
                  <a:cubicBezTo>
                    <a:pt x="465" y="58"/>
                    <a:pt x="465" y="54"/>
                    <a:pt x="466" y="50"/>
                  </a:cubicBezTo>
                  <a:cubicBezTo>
                    <a:pt x="469" y="45"/>
                    <a:pt x="474" y="40"/>
                    <a:pt x="479" y="34"/>
                  </a:cubicBezTo>
                  <a:cubicBezTo>
                    <a:pt x="474" y="39"/>
                    <a:pt x="470" y="44"/>
                    <a:pt x="466" y="48"/>
                  </a:cubicBezTo>
                  <a:cubicBezTo>
                    <a:pt x="467" y="21"/>
                    <a:pt x="468" y="0"/>
                    <a:pt x="468" y="0"/>
                  </a:cubicBezTo>
                  <a:cubicBezTo>
                    <a:pt x="464" y="10"/>
                    <a:pt x="462" y="35"/>
                    <a:pt x="461" y="53"/>
                  </a:cubicBezTo>
                  <a:cubicBezTo>
                    <a:pt x="460" y="54"/>
                    <a:pt x="459" y="55"/>
                    <a:pt x="459" y="56"/>
                  </a:cubicBezTo>
                  <a:cubicBezTo>
                    <a:pt x="457" y="44"/>
                    <a:pt x="454" y="33"/>
                    <a:pt x="454" y="33"/>
                  </a:cubicBezTo>
                  <a:cubicBezTo>
                    <a:pt x="456" y="39"/>
                    <a:pt x="455" y="49"/>
                    <a:pt x="454" y="62"/>
                  </a:cubicBezTo>
                  <a:cubicBezTo>
                    <a:pt x="452" y="63"/>
                    <a:pt x="451" y="65"/>
                    <a:pt x="450" y="67"/>
                  </a:cubicBezTo>
                  <a:cubicBezTo>
                    <a:pt x="449" y="65"/>
                    <a:pt x="448" y="63"/>
                    <a:pt x="447" y="62"/>
                  </a:cubicBezTo>
                  <a:cubicBezTo>
                    <a:pt x="447" y="63"/>
                    <a:pt x="448" y="65"/>
                    <a:pt x="449" y="68"/>
                  </a:cubicBezTo>
                  <a:cubicBezTo>
                    <a:pt x="447" y="72"/>
                    <a:pt x="445" y="75"/>
                    <a:pt x="443" y="78"/>
                  </a:cubicBezTo>
                  <a:cubicBezTo>
                    <a:pt x="442" y="61"/>
                    <a:pt x="442" y="48"/>
                    <a:pt x="442" y="48"/>
                  </a:cubicBezTo>
                  <a:cubicBezTo>
                    <a:pt x="442" y="52"/>
                    <a:pt x="440" y="65"/>
                    <a:pt x="438" y="80"/>
                  </a:cubicBezTo>
                  <a:cubicBezTo>
                    <a:pt x="438" y="82"/>
                    <a:pt x="437" y="85"/>
                    <a:pt x="436" y="87"/>
                  </a:cubicBezTo>
                  <a:cubicBezTo>
                    <a:pt x="435" y="86"/>
                    <a:pt x="435" y="86"/>
                    <a:pt x="434" y="85"/>
                  </a:cubicBezTo>
                  <a:cubicBezTo>
                    <a:pt x="437" y="48"/>
                    <a:pt x="440" y="9"/>
                    <a:pt x="440" y="9"/>
                  </a:cubicBezTo>
                  <a:cubicBezTo>
                    <a:pt x="436" y="20"/>
                    <a:pt x="432" y="57"/>
                    <a:pt x="428" y="89"/>
                  </a:cubicBezTo>
                  <a:cubicBezTo>
                    <a:pt x="427" y="91"/>
                    <a:pt x="427" y="92"/>
                    <a:pt x="426" y="93"/>
                  </a:cubicBezTo>
                  <a:cubicBezTo>
                    <a:pt x="425" y="92"/>
                    <a:pt x="424" y="90"/>
                    <a:pt x="423" y="89"/>
                  </a:cubicBezTo>
                  <a:cubicBezTo>
                    <a:pt x="426" y="72"/>
                    <a:pt x="429" y="55"/>
                    <a:pt x="429" y="37"/>
                  </a:cubicBezTo>
                  <a:cubicBezTo>
                    <a:pt x="429" y="34"/>
                    <a:pt x="429" y="30"/>
                    <a:pt x="429" y="26"/>
                  </a:cubicBezTo>
                  <a:cubicBezTo>
                    <a:pt x="422" y="45"/>
                    <a:pt x="421" y="66"/>
                    <a:pt x="417" y="86"/>
                  </a:cubicBezTo>
                  <a:cubicBezTo>
                    <a:pt x="417" y="85"/>
                    <a:pt x="416" y="84"/>
                    <a:pt x="416" y="84"/>
                  </a:cubicBezTo>
                  <a:cubicBezTo>
                    <a:pt x="416" y="84"/>
                    <a:pt x="417" y="85"/>
                    <a:pt x="417" y="86"/>
                  </a:cubicBezTo>
                  <a:cubicBezTo>
                    <a:pt x="417" y="88"/>
                    <a:pt x="416" y="90"/>
                    <a:pt x="416" y="92"/>
                  </a:cubicBezTo>
                  <a:cubicBezTo>
                    <a:pt x="415" y="94"/>
                    <a:pt x="415" y="96"/>
                    <a:pt x="414" y="98"/>
                  </a:cubicBezTo>
                  <a:cubicBezTo>
                    <a:pt x="414" y="97"/>
                    <a:pt x="413" y="96"/>
                    <a:pt x="412" y="95"/>
                  </a:cubicBezTo>
                  <a:cubicBezTo>
                    <a:pt x="412" y="86"/>
                    <a:pt x="411" y="78"/>
                    <a:pt x="410" y="72"/>
                  </a:cubicBezTo>
                  <a:cubicBezTo>
                    <a:pt x="413" y="67"/>
                    <a:pt x="417" y="63"/>
                    <a:pt x="421" y="59"/>
                  </a:cubicBezTo>
                  <a:cubicBezTo>
                    <a:pt x="417" y="62"/>
                    <a:pt x="413" y="66"/>
                    <a:pt x="410" y="70"/>
                  </a:cubicBezTo>
                  <a:cubicBezTo>
                    <a:pt x="409" y="64"/>
                    <a:pt x="409" y="60"/>
                    <a:pt x="408" y="57"/>
                  </a:cubicBezTo>
                  <a:cubicBezTo>
                    <a:pt x="410" y="54"/>
                    <a:pt x="411" y="52"/>
                    <a:pt x="412" y="50"/>
                  </a:cubicBezTo>
                  <a:cubicBezTo>
                    <a:pt x="411" y="51"/>
                    <a:pt x="409" y="53"/>
                    <a:pt x="408" y="54"/>
                  </a:cubicBezTo>
                  <a:cubicBezTo>
                    <a:pt x="408" y="53"/>
                    <a:pt x="408" y="52"/>
                    <a:pt x="408" y="52"/>
                  </a:cubicBezTo>
                  <a:cubicBezTo>
                    <a:pt x="408" y="53"/>
                    <a:pt x="408" y="54"/>
                    <a:pt x="408" y="54"/>
                  </a:cubicBezTo>
                  <a:cubicBezTo>
                    <a:pt x="406" y="56"/>
                    <a:pt x="404" y="58"/>
                    <a:pt x="402" y="60"/>
                  </a:cubicBezTo>
                  <a:cubicBezTo>
                    <a:pt x="401" y="54"/>
                    <a:pt x="400" y="48"/>
                    <a:pt x="399" y="44"/>
                  </a:cubicBezTo>
                  <a:cubicBezTo>
                    <a:pt x="400" y="49"/>
                    <a:pt x="399" y="56"/>
                    <a:pt x="398" y="64"/>
                  </a:cubicBezTo>
                  <a:cubicBezTo>
                    <a:pt x="397" y="66"/>
                    <a:pt x="396" y="68"/>
                    <a:pt x="395" y="69"/>
                  </a:cubicBezTo>
                  <a:cubicBezTo>
                    <a:pt x="393" y="67"/>
                    <a:pt x="392" y="66"/>
                    <a:pt x="390" y="64"/>
                  </a:cubicBezTo>
                  <a:cubicBezTo>
                    <a:pt x="392" y="66"/>
                    <a:pt x="393" y="67"/>
                    <a:pt x="395" y="69"/>
                  </a:cubicBezTo>
                  <a:cubicBezTo>
                    <a:pt x="393" y="71"/>
                    <a:pt x="392" y="73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0" y="76"/>
                    <a:pt x="389" y="77"/>
                    <a:pt x="388" y="79"/>
                  </a:cubicBezTo>
                  <a:cubicBezTo>
                    <a:pt x="388" y="79"/>
                    <a:pt x="388" y="79"/>
                    <a:pt x="388" y="79"/>
                  </a:cubicBezTo>
                  <a:cubicBezTo>
                    <a:pt x="389" y="60"/>
                    <a:pt x="389" y="45"/>
                    <a:pt x="389" y="45"/>
                  </a:cubicBezTo>
                  <a:cubicBezTo>
                    <a:pt x="389" y="50"/>
                    <a:pt x="387" y="61"/>
                    <a:pt x="384" y="73"/>
                  </a:cubicBezTo>
                  <a:cubicBezTo>
                    <a:pt x="383" y="73"/>
                    <a:pt x="383" y="73"/>
                    <a:pt x="383" y="72"/>
                  </a:cubicBezTo>
                  <a:cubicBezTo>
                    <a:pt x="383" y="70"/>
                    <a:pt x="383" y="68"/>
                    <a:pt x="383" y="66"/>
                  </a:cubicBezTo>
                  <a:cubicBezTo>
                    <a:pt x="383" y="65"/>
                    <a:pt x="383" y="65"/>
                    <a:pt x="384" y="65"/>
                  </a:cubicBezTo>
                  <a:cubicBezTo>
                    <a:pt x="383" y="65"/>
                    <a:pt x="383" y="65"/>
                    <a:pt x="383" y="66"/>
                  </a:cubicBezTo>
                  <a:cubicBezTo>
                    <a:pt x="383" y="64"/>
                    <a:pt x="383" y="63"/>
                    <a:pt x="383" y="61"/>
                  </a:cubicBezTo>
                  <a:cubicBezTo>
                    <a:pt x="383" y="55"/>
                    <a:pt x="383" y="49"/>
                    <a:pt x="382" y="42"/>
                  </a:cubicBezTo>
                  <a:cubicBezTo>
                    <a:pt x="385" y="27"/>
                    <a:pt x="387" y="17"/>
                    <a:pt x="387" y="17"/>
                  </a:cubicBezTo>
                  <a:cubicBezTo>
                    <a:pt x="384" y="22"/>
                    <a:pt x="377" y="49"/>
                    <a:pt x="371" y="78"/>
                  </a:cubicBezTo>
                  <a:cubicBezTo>
                    <a:pt x="371" y="78"/>
                    <a:pt x="371" y="79"/>
                    <a:pt x="371" y="79"/>
                  </a:cubicBezTo>
                  <a:cubicBezTo>
                    <a:pt x="369" y="76"/>
                    <a:pt x="367" y="72"/>
                    <a:pt x="364" y="69"/>
                  </a:cubicBezTo>
                  <a:cubicBezTo>
                    <a:pt x="366" y="67"/>
                    <a:pt x="367" y="66"/>
                    <a:pt x="369" y="64"/>
                  </a:cubicBezTo>
                  <a:cubicBezTo>
                    <a:pt x="367" y="66"/>
                    <a:pt x="365" y="67"/>
                    <a:pt x="364" y="69"/>
                  </a:cubicBezTo>
                  <a:cubicBezTo>
                    <a:pt x="363" y="68"/>
                    <a:pt x="362" y="67"/>
                    <a:pt x="361" y="66"/>
                  </a:cubicBezTo>
                  <a:cubicBezTo>
                    <a:pt x="361" y="60"/>
                    <a:pt x="361" y="55"/>
                    <a:pt x="360" y="52"/>
                  </a:cubicBezTo>
                  <a:cubicBezTo>
                    <a:pt x="361" y="56"/>
                    <a:pt x="361" y="60"/>
                    <a:pt x="360" y="64"/>
                  </a:cubicBezTo>
                  <a:cubicBezTo>
                    <a:pt x="357" y="60"/>
                    <a:pt x="352" y="55"/>
                    <a:pt x="347" y="50"/>
                  </a:cubicBezTo>
                  <a:cubicBezTo>
                    <a:pt x="350" y="55"/>
                    <a:pt x="353" y="60"/>
                    <a:pt x="356" y="65"/>
                  </a:cubicBezTo>
                  <a:cubicBezTo>
                    <a:pt x="355" y="68"/>
                    <a:pt x="355" y="71"/>
                    <a:pt x="354" y="76"/>
                  </a:cubicBezTo>
                  <a:cubicBezTo>
                    <a:pt x="352" y="74"/>
                    <a:pt x="350" y="71"/>
                    <a:pt x="348" y="68"/>
                  </a:cubicBezTo>
                  <a:cubicBezTo>
                    <a:pt x="347" y="54"/>
                    <a:pt x="346" y="41"/>
                    <a:pt x="345" y="33"/>
                  </a:cubicBezTo>
                  <a:cubicBezTo>
                    <a:pt x="346" y="42"/>
                    <a:pt x="345" y="53"/>
                    <a:pt x="344" y="65"/>
                  </a:cubicBezTo>
                  <a:cubicBezTo>
                    <a:pt x="342" y="63"/>
                    <a:pt x="340" y="61"/>
                    <a:pt x="338" y="59"/>
                  </a:cubicBezTo>
                  <a:cubicBezTo>
                    <a:pt x="340" y="61"/>
                    <a:pt x="342" y="63"/>
                    <a:pt x="344" y="65"/>
                  </a:cubicBezTo>
                  <a:cubicBezTo>
                    <a:pt x="343" y="72"/>
                    <a:pt x="342" y="80"/>
                    <a:pt x="341" y="87"/>
                  </a:cubicBezTo>
                  <a:cubicBezTo>
                    <a:pt x="341" y="87"/>
                    <a:pt x="341" y="87"/>
                    <a:pt x="341" y="87"/>
                  </a:cubicBezTo>
                  <a:cubicBezTo>
                    <a:pt x="341" y="85"/>
                    <a:pt x="340" y="84"/>
                    <a:pt x="340" y="83"/>
                  </a:cubicBezTo>
                  <a:cubicBezTo>
                    <a:pt x="340" y="82"/>
                    <a:pt x="340" y="82"/>
                    <a:pt x="340" y="81"/>
                  </a:cubicBezTo>
                  <a:cubicBezTo>
                    <a:pt x="340" y="82"/>
                    <a:pt x="340" y="82"/>
                    <a:pt x="340" y="83"/>
                  </a:cubicBezTo>
                  <a:cubicBezTo>
                    <a:pt x="339" y="81"/>
                    <a:pt x="338" y="79"/>
                    <a:pt x="337" y="77"/>
                  </a:cubicBezTo>
                  <a:cubicBezTo>
                    <a:pt x="338" y="79"/>
                    <a:pt x="339" y="81"/>
                    <a:pt x="339" y="83"/>
                  </a:cubicBezTo>
                  <a:cubicBezTo>
                    <a:pt x="338" y="85"/>
                    <a:pt x="337" y="86"/>
                    <a:pt x="336" y="88"/>
                  </a:cubicBezTo>
                  <a:cubicBezTo>
                    <a:pt x="337" y="86"/>
                    <a:pt x="338" y="85"/>
                    <a:pt x="339" y="83"/>
                  </a:cubicBezTo>
                  <a:cubicBezTo>
                    <a:pt x="340" y="85"/>
                    <a:pt x="340" y="86"/>
                    <a:pt x="340" y="88"/>
                  </a:cubicBezTo>
                  <a:cubicBezTo>
                    <a:pt x="338" y="91"/>
                    <a:pt x="337" y="95"/>
                    <a:pt x="335" y="98"/>
                  </a:cubicBezTo>
                  <a:cubicBezTo>
                    <a:pt x="335" y="97"/>
                    <a:pt x="335" y="97"/>
                    <a:pt x="334" y="97"/>
                  </a:cubicBezTo>
                  <a:cubicBezTo>
                    <a:pt x="334" y="95"/>
                    <a:pt x="334" y="94"/>
                    <a:pt x="334" y="93"/>
                  </a:cubicBezTo>
                  <a:cubicBezTo>
                    <a:pt x="334" y="91"/>
                    <a:pt x="335" y="89"/>
                    <a:pt x="336" y="88"/>
                  </a:cubicBezTo>
                  <a:cubicBezTo>
                    <a:pt x="335" y="89"/>
                    <a:pt x="334" y="91"/>
                    <a:pt x="334" y="92"/>
                  </a:cubicBezTo>
                  <a:cubicBezTo>
                    <a:pt x="333" y="92"/>
                    <a:pt x="333" y="91"/>
                    <a:pt x="333" y="91"/>
                  </a:cubicBezTo>
                  <a:cubicBezTo>
                    <a:pt x="333" y="74"/>
                    <a:pt x="332" y="60"/>
                    <a:pt x="332" y="60"/>
                  </a:cubicBezTo>
                  <a:cubicBezTo>
                    <a:pt x="332" y="65"/>
                    <a:pt x="332" y="73"/>
                    <a:pt x="331" y="81"/>
                  </a:cubicBezTo>
                  <a:cubicBezTo>
                    <a:pt x="330" y="79"/>
                    <a:pt x="330" y="76"/>
                    <a:pt x="329" y="74"/>
                  </a:cubicBezTo>
                  <a:cubicBezTo>
                    <a:pt x="330" y="79"/>
                    <a:pt x="330" y="83"/>
                    <a:pt x="330" y="88"/>
                  </a:cubicBezTo>
                  <a:cubicBezTo>
                    <a:pt x="329" y="86"/>
                    <a:pt x="328" y="84"/>
                    <a:pt x="327" y="83"/>
                  </a:cubicBezTo>
                  <a:cubicBezTo>
                    <a:pt x="328" y="85"/>
                    <a:pt x="329" y="87"/>
                    <a:pt x="330" y="89"/>
                  </a:cubicBezTo>
                  <a:cubicBezTo>
                    <a:pt x="330" y="89"/>
                    <a:pt x="330" y="89"/>
                    <a:pt x="330" y="89"/>
                  </a:cubicBezTo>
                  <a:cubicBezTo>
                    <a:pt x="330" y="93"/>
                    <a:pt x="329" y="97"/>
                    <a:pt x="329" y="101"/>
                  </a:cubicBezTo>
                  <a:cubicBezTo>
                    <a:pt x="328" y="103"/>
                    <a:pt x="327" y="104"/>
                    <a:pt x="327" y="106"/>
                  </a:cubicBezTo>
                  <a:cubicBezTo>
                    <a:pt x="325" y="100"/>
                    <a:pt x="324" y="95"/>
                    <a:pt x="322" y="90"/>
                  </a:cubicBezTo>
                  <a:cubicBezTo>
                    <a:pt x="323" y="88"/>
                    <a:pt x="325" y="85"/>
                    <a:pt x="327" y="83"/>
                  </a:cubicBezTo>
                  <a:cubicBezTo>
                    <a:pt x="325" y="85"/>
                    <a:pt x="323" y="87"/>
                    <a:pt x="321" y="89"/>
                  </a:cubicBezTo>
                  <a:cubicBezTo>
                    <a:pt x="321" y="88"/>
                    <a:pt x="321" y="87"/>
                    <a:pt x="320" y="87"/>
                  </a:cubicBezTo>
                  <a:cubicBezTo>
                    <a:pt x="320" y="76"/>
                    <a:pt x="321" y="68"/>
                    <a:pt x="321" y="68"/>
                  </a:cubicBezTo>
                  <a:cubicBezTo>
                    <a:pt x="320" y="72"/>
                    <a:pt x="319" y="77"/>
                    <a:pt x="318" y="82"/>
                  </a:cubicBezTo>
                  <a:cubicBezTo>
                    <a:pt x="318" y="81"/>
                    <a:pt x="318" y="80"/>
                    <a:pt x="318" y="80"/>
                  </a:cubicBezTo>
                  <a:cubicBezTo>
                    <a:pt x="318" y="80"/>
                    <a:pt x="318" y="81"/>
                    <a:pt x="318" y="82"/>
                  </a:cubicBezTo>
                  <a:cubicBezTo>
                    <a:pt x="317" y="80"/>
                    <a:pt x="316" y="78"/>
                    <a:pt x="314" y="75"/>
                  </a:cubicBezTo>
                  <a:cubicBezTo>
                    <a:pt x="315" y="65"/>
                    <a:pt x="316" y="56"/>
                    <a:pt x="317" y="48"/>
                  </a:cubicBezTo>
                  <a:cubicBezTo>
                    <a:pt x="316" y="55"/>
                    <a:pt x="315" y="64"/>
                    <a:pt x="313" y="73"/>
                  </a:cubicBezTo>
                  <a:cubicBezTo>
                    <a:pt x="311" y="70"/>
                    <a:pt x="309" y="67"/>
                    <a:pt x="307" y="64"/>
                  </a:cubicBezTo>
                  <a:cubicBezTo>
                    <a:pt x="307" y="62"/>
                    <a:pt x="307" y="59"/>
                    <a:pt x="307" y="57"/>
                  </a:cubicBezTo>
                  <a:cubicBezTo>
                    <a:pt x="306" y="58"/>
                    <a:pt x="306" y="60"/>
                    <a:pt x="305" y="62"/>
                  </a:cubicBezTo>
                  <a:cubicBezTo>
                    <a:pt x="303" y="59"/>
                    <a:pt x="300" y="55"/>
                    <a:pt x="297" y="52"/>
                  </a:cubicBezTo>
                  <a:cubicBezTo>
                    <a:pt x="297" y="48"/>
                    <a:pt x="298" y="46"/>
                    <a:pt x="298" y="46"/>
                  </a:cubicBezTo>
                  <a:cubicBezTo>
                    <a:pt x="297" y="48"/>
                    <a:pt x="297" y="49"/>
                    <a:pt x="296" y="51"/>
                  </a:cubicBezTo>
                  <a:cubicBezTo>
                    <a:pt x="293" y="47"/>
                    <a:pt x="289" y="43"/>
                    <a:pt x="285" y="39"/>
                  </a:cubicBezTo>
                  <a:cubicBezTo>
                    <a:pt x="285" y="37"/>
                    <a:pt x="285" y="35"/>
                    <a:pt x="285" y="34"/>
                  </a:cubicBezTo>
                  <a:cubicBezTo>
                    <a:pt x="285" y="34"/>
                    <a:pt x="285" y="36"/>
                    <a:pt x="285" y="39"/>
                  </a:cubicBezTo>
                  <a:cubicBezTo>
                    <a:pt x="283" y="37"/>
                    <a:pt x="282" y="36"/>
                    <a:pt x="280" y="34"/>
                  </a:cubicBezTo>
                  <a:cubicBezTo>
                    <a:pt x="282" y="36"/>
                    <a:pt x="283" y="38"/>
                    <a:pt x="285" y="40"/>
                  </a:cubicBezTo>
                  <a:cubicBezTo>
                    <a:pt x="285" y="40"/>
                    <a:pt x="285" y="40"/>
                    <a:pt x="285" y="41"/>
                  </a:cubicBezTo>
                  <a:cubicBezTo>
                    <a:pt x="285" y="40"/>
                    <a:pt x="285" y="40"/>
                    <a:pt x="285" y="40"/>
                  </a:cubicBezTo>
                  <a:cubicBezTo>
                    <a:pt x="289" y="45"/>
                    <a:pt x="293" y="49"/>
                    <a:pt x="296" y="53"/>
                  </a:cubicBezTo>
                  <a:cubicBezTo>
                    <a:pt x="295" y="55"/>
                    <a:pt x="295" y="59"/>
                    <a:pt x="294" y="62"/>
                  </a:cubicBezTo>
                  <a:cubicBezTo>
                    <a:pt x="292" y="60"/>
                    <a:pt x="289" y="58"/>
                    <a:pt x="286" y="56"/>
                  </a:cubicBezTo>
                  <a:cubicBezTo>
                    <a:pt x="285" y="50"/>
                    <a:pt x="285" y="44"/>
                    <a:pt x="285" y="41"/>
                  </a:cubicBezTo>
                  <a:cubicBezTo>
                    <a:pt x="285" y="45"/>
                    <a:pt x="285" y="50"/>
                    <a:pt x="284" y="55"/>
                  </a:cubicBezTo>
                  <a:cubicBezTo>
                    <a:pt x="283" y="54"/>
                    <a:pt x="282" y="53"/>
                    <a:pt x="280" y="52"/>
                  </a:cubicBezTo>
                  <a:cubicBezTo>
                    <a:pt x="282" y="53"/>
                    <a:pt x="283" y="54"/>
                    <a:pt x="284" y="55"/>
                  </a:cubicBezTo>
                  <a:cubicBezTo>
                    <a:pt x="284" y="64"/>
                    <a:pt x="283" y="73"/>
                    <a:pt x="281" y="83"/>
                  </a:cubicBezTo>
                  <a:cubicBezTo>
                    <a:pt x="281" y="82"/>
                    <a:pt x="281" y="81"/>
                    <a:pt x="281" y="81"/>
                  </a:cubicBezTo>
                  <a:cubicBezTo>
                    <a:pt x="281" y="82"/>
                    <a:pt x="281" y="82"/>
                    <a:pt x="281" y="83"/>
                  </a:cubicBezTo>
                  <a:cubicBezTo>
                    <a:pt x="281" y="88"/>
                    <a:pt x="280" y="92"/>
                    <a:pt x="279" y="97"/>
                  </a:cubicBezTo>
                  <a:cubicBezTo>
                    <a:pt x="278" y="89"/>
                    <a:pt x="275" y="81"/>
                    <a:pt x="272" y="73"/>
                  </a:cubicBezTo>
                  <a:cubicBezTo>
                    <a:pt x="272" y="72"/>
                    <a:pt x="272" y="71"/>
                    <a:pt x="272" y="71"/>
                  </a:cubicBezTo>
                  <a:cubicBezTo>
                    <a:pt x="273" y="70"/>
                    <a:pt x="274" y="69"/>
                    <a:pt x="275" y="68"/>
                  </a:cubicBezTo>
                  <a:cubicBezTo>
                    <a:pt x="277" y="72"/>
                    <a:pt x="279" y="76"/>
                    <a:pt x="281" y="81"/>
                  </a:cubicBezTo>
                  <a:cubicBezTo>
                    <a:pt x="279" y="76"/>
                    <a:pt x="278" y="72"/>
                    <a:pt x="275" y="67"/>
                  </a:cubicBezTo>
                  <a:cubicBezTo>
                    <a:pt x="276" y="67"/>
                    <a:pt x="277" y="66"/>
                    <a:pt x="277" y="65"/>
                  </a:cubicBezTo>
                  <a:cubicBezTo>
                    <a:pt x="277" y="66"/>
                    <a:pt x="276" y="66"/>
                    <a:pt x="275" y="67"/>
                  </a:cubicBezTo>
                  <a:cubicBezTo>
                    <a:pt x="269" y="54"/>
                    <a:pt x="259" y="41"/>
                    <a:pt x="247" y="25"/>
                  </a:cubicBezTo>
                  <a:cubicBezTo>
                    <a:pt x="259" y="42"/>
                    <a:pt x="268" y="55"/>
                    <a:pt x="275" y="68"/>
                  </a:cubicBezTo>
                  <a:cubicBezTo>
                    <a:pt x="274" y="68"/>
                    <a:pt x="273" y="69"/>
                    <a:pt x="272" y="70"/>
                  </a:cubicBezTo>
                  <a:cubicBezTo>
                    <a:pt x="272" y="68"/>
                    <a:pt x="272" y="66"/>
                    <a:pt x="272" y="66"/>
                  </a:cubicBezTo>
                  <a:cubicBezTo>
                    <a:pt x="272" y="68"/>
                    <a:pt x="272" y="69"/>
                    <a:pt x="271" y="71"/>
                  </a:cubicBezTo>
                  <a:cubicBezTo>
                    <a:pt x="271" y="71"/>
                    <a:pt x="271" y="71"/>
                    <a:pt x="271" y="71"/>
                  </a:cubicBezTo>
                  <a:cubicBezTo>
                    <a:pt x="267" y="61"/>
                    <a:pt x="260" y="52"/>
                    <a:pt x="251" y="42"/>
                  </a:cubicBezTo>
                  <a:cubicBezTo>
                    <a:pt x="258" y="55"/>
                    <a:pt x="263" y="65"/>
                    <a:pt x="267" y="75"/>
                  </a:cubicBezTo>
                  <a:cubicBezTo>
                    <a:pt x="266" y="76"/>
                    <a:pt x="265" y="77"/>
                    <a:pt x="264" y="77"/>
                  </a:cubicBezTo>
                  <a:cubicBezTo>
                    <a:pt x="262" y="73"/>
                    <a:pt x="260" y="70"/>
                    <a:pt x="258" y="68"/>
                  </a:cubicBezTo>
                  <a:cubicBezTo>
                    <a:pt x="258" y="63"/>
                    <a:pt x="257" y="60"/>
                    <a:pt x="257" y="60"/>
                  </a:cubicBezTo>
                  <a:cubicBezTo>
                    <a:pt x="257" y="62"/>
                    <a:pt x="257" y="64"/>
                    <a:pt x="257" y="67"/>
                  </a:cubicBezTo>
                  <a:cubicBezTo>
                    <a:pt x="251" y="57"/>
                    <a:pt x="243" y="47"/>
                    <a:pt x="232" y="38"/>
                  </a:cubicBezTo>
                  <a:cubicBezTo>
                    <a:pt x="243" y="49"/>
                    <a:pt x="251" y="60"/>
                    <a:pt x="257" y="71"/>
                  </a:cubicBezTo>
                  <a:cubicBezTo>
                    <a:pt x="256" y="75"/>
                    <a:pt x="256" y="80"/>
                    <a:pt x="256" y="85"/>
                  </a:cubicBezTo>
                  <a:cubicBezTo>
                    <a:pt x="255" y="84"/>
                    <a:pt x="255" y="84"/>
                    <a:pt x="254" y="83"/>
                  </a:cubicBezTo>
                  <a:cubicBezTo>
                    <a:pt x="255" y="84"/>
                    <a:pt x="255" y="85"/>
                    <a:pt x="256" y="86"/>
                  </a:cubicBezTo>
                  <a:cubicBezTo>
                    <a:pt x="255" y="87"/>
                    <a:pt x="255" y="88"/>
                    <a:pt x="255" y="89"/>
                  </a:cubicBezTo>
                  <a:cubicBezTo>
                    <a:pt x="253" y="92"/>
                    <a:pt x="252" y="94"/>
                    <a:pt x="250" y="97"/>
                  </a:cubicBezTo>
                  <a:cubicBezTo>
                    <a:pt x="250" y="93"/>
                    <a:pt x="250" y="90"/>
                    <a:pt x="250" y="87"/>
                  </a:cubicBezTo>
                  <a:cubicBezTo>
                    <a:pt x="251" y="84"/>
                    <a:pt x="252" y="82"/>
                    <a:pt x="253" y="80"/>
                  </a:cubicBezTo>
                  <a:cubicBezTo>
                    <a:pt x="253" y="81"/>
                    <a:pt x="254" y="82"/>
                    <a:pt x="254" y="83"/>
                  </a:cubicBezTo>
                  <a:cubicBezTo>
                    <a:pt x="254" y="81"/>
                    <a:pt x="253" y="80"/>
                    <a:pt x="253" y="79"/>
                  </a:cubicBezTo>
                  <a:cubicBezTo>
                    <a:pt x="253" y="79"/>
                    <a:pt x="253" y="78"/>
                    <a:pt x="254" y="77"/>
                  </a:cubicBezTo>
                  <a:cubicBezTo>
                    <a:pt x="253" y="77"/>
                    <a:pt x="253" y="78"/>
                    <a:pt x="252" y="79"/>
                  </a:cubicBezTo>
                  <a:cubicBezTo>
                    <a:pt x="251" y="77"/>
                    <a:pt x="251" y="76"/>
                    <a:pt x="250" y="75"/>
                  </a:cubicBezTo>
                  <a:cubicBezTo>
                    <a:pt x="251" y="77"/>
                    <a:pt x="251" y="78"/>
                    <a:pt x="252" y="79"/>
                  </a:cubicBezTo>
                  <a:cubicBezTo>
                    <a:pt x="251" y="80"/>
                    <a:pt x="251" y="81"/>
                    <a:pt x="250" y="82"/>
                  </a:cubicBezTo>
                  <a:cubicBezTo>
                    <a:pt x="250" y="73"/>
                    <a:pt x="250" y="68"/>
                    <a:pt x="250" y="68"/>
                  </a:cubicBezTo>
                  <a:cubicBezTo>
                    <a:pt x="250" y="72"/>
                    <a:pt x="249" y="78"/>
                    <a:pt x="248" y="85"/>
                  </a:cubicBezTo>
                  <a:cubicBezTo>
                    <a:pt x="246" y="90"/>
                    <a:pt x="244" y="94"/>
                    <a:pt x="242" y="99"/>
                  </a:cubicBezTo>
                  <a:cubicBezTo>
                    <a:pt x="242" y="98"/>
                    <a:pt x="241" y="97"/>
                    <a:pt x="241" y="96"/>
                  </a:cubicBezTo>
                  <a:cubicBezTo>
                    <a:pt x="242" y="92"/>
                    <a:pt x="242" y="89"/>
                    <a:pt x="242" y="89"/>
                  </a:cubicBezTo>
                  <a:cubicBezTo>
                    <a:pt x="242" y="91"/>
                    <a:pt x="241" y="92"/>
                    <a:pt x="241" y="94"/>
                  </a:cubicBezTo>
                  <a:cubicBezTo>
                    <a:pt x="240" y="91"/>
                    <a:pt x="239" y="88"/>
                    <a:pt x="239" y="85"/>
                  </a:cubicBezTo>
                  <a:cubicBezTo>
                    <a:pt x="238" y="88"/>
                    <a:pt x="238" y="91"/>
                    <a:pt x="238" y="94"/>
                  </a:cubicBezTo>
                  <a:cubicBezTo>
                    <a:pt x="238" y="97"/>
                    <a:pt x="238" y="100"/>
                    <a:pt x="238" y="103"/>
                  </a:cubicBezTo>
                  <a:cubicBezTo>
                    <a:pt x="237" y="107"/>
                    <a:pt x="236" y="112"/>
                    <a:pt x="234" y="116"/>
                  </a:cubicBezTo>
                  <a:cubicBezTo>
                    <a:pt x="233" y="112"/>
                    <a:pt x="231" y="108"/>
                    <a:pt x="230" y="104"/>
                  </a:cubicBezTo>
                  <a:cubicBezTo>
                    <a:pt x="231" y="109"/>
                    <a:pt x="232" y="115"/>
                    <a:pt x="233" y="120"/>
                  </a:cubicBezTo>
                  <a:cubicBezTo>
                    <a:pt x="231" y="124"/>
                    <a:pt x="230" y="127"/>
                    <a:pt x="228" y="130"/>
                  </a:cubicBezTo>
                  <a:cubicBezTo>
                    <a:pt x="227" y="128"/>
                    <a:pt x="227" y="126"/>
                    <a:pt x="226" y="123"/>
                  </a:cubicBezTo>
                  <a:cubicBezTo>
                    <a:pt x="227" y="115"/>
                    <a:pt x="229" y="106"/>
                    <a:pt x="231" y="99"/>
                  </a:cubicBezTo>
                  <a:cubicBezTo>
                    <a:pt x="232" y="98"/>
                    <a:pt x="232" y="97"/>
                    <a:pt x="232" y="96"/>
                  </a:cubicBezTo>
                  <a:cubicBezTo>
                    <a:pt x="232" y="96"/>
                    <a:pt x="232" y="97"/>
                    <a:pt x="232" y="97"/>
                  </a:cubicBezTo>
                  <a:cubicBezTo>
                    <a:pt x="234" y="86"/>
                    <a:pt x="237" y="76"/>
                    <a:pt x="237" y="76"/>
                  </a:cubicBezTo>
                  <a:cubicBezTo>
                    <a:pt x="232" y="83"/>
                    <a:pt x="227" y="96"/>
                    <a:pt x="222" y="109"/>
                  </a:cubicBezTo>
                  <a:cubicBezTo>
                    <a:pt x="222" y="107"/>
                    <a:pt x="222" y="106"/>
                    <a:pt x="221" y="104"/>
                  </a:cubicBezTo>
                  <a:cubicBezTo>
                    <a:pt x="223" y="97"/>
                    <a:pt x="226" y="90"/>
                    <a:pt x="229" y="84"/>
                  </a:cubicBezTo>
                  <a:cubicBezTo>
                    <a:pt x="226" y="90"/>
                    <a:pt x="223" y="96"/>
                    <a:pt x="221" y="102"/>
                  </a:cubicBezTo>
                  <a:cubicBezTo>
                    <a:pt x="221" y="102"/>
                    <a:pt x="220" y="101"/>
                    <a:pt x="220" y="101"/>
                  </a:cubicBezTo>
                  <a:cubicBezTo>
                    <a:pt x="222" y="77"/>
                    <a:pt x="218" y="62"/>
                    <a:pt x="218" y="62"/>
                  </a:cubicBezTo>
                  <a:cubicBezTo>
                    <a:pt x="219" y="69"/>
                    <a:pt x="219" y="80"/>
                    <a:pt x="218" y="91"/>
                  </a:cubicBezTo>
                  <a:cubicBezTo>
                    <a:pt x="217" y="89"/>
                    <a:pt x="217" y="88"/>
                    <a:pt x="216" y="87"/>
                  </a:cubicBezTo>
                  <a:cubicBezTo>
                    <a:pt x="216" y="88"/>
                    <a:pt x="216" y="88"/>
                    <a:pt x="216" y="88"/>
                  </a:cubicBezTo>
                  <a:cubicBezTo>
                    <a:pt x="216" y="90"/>
                    <a:pt x="217" y="93"/>
                    <a:pt x="217" y="96"/>
                  </a:cubicBezTo>
                  <a:cubicBezTo>
                    <a:pt x="216" y="101"/>
                    <a:pt x="216" y="105"/>
                    <a:pt x="215" y="110"/>
                  </a:cubicBezTo>
                  <a:cubicBezTo>
                    <a:pt x="214" y="109"/>
                    <a:pt x="214" y="107"/>
                    <a:pt x="213" y="106"/>
                  </a:cubicBezTo>
                  <a:cubicBezTo>
                    <a:pt x="214" y="103"/>
                    <a:pt x="214" y="99"/>
                    <a:pt x="215" y="96"/>
                  </a:cubicBezTo>
                  <a:cubicBezTo>
                    <a:pt x="214" y="98"/>
                    <a:pt x="213" y="100"/>
                    <a:pt x="212" y="103"/>
                  </a:cubicBezTo>
                  <a:cubicBezTo>
                    <a:pt x="211" y="101"/>
                    <a:pt x="210" y="99"/>
                    <a:pt x="210" y="98"/>
                  </a:cubicBezTo>
                  <a:cubicBezTo>
                    <a:pt x="210" y="89"/>
                    <a:pt x="211" y="82"/>
                    <a:pt x="211" y="82"/>
                  </a:cubicBezTo>
                  <a:cubicBezTo>
                    <a:pt x="209" y="97"/>
                    <a:pt x="209" y="97"/>
                    <a:pt x="209" y="97"/>
                  </a:cubicBezTo>
                  <a:cubicBezTo>
                    <a:pt x="208" y="94"/>
                    <a:pt x="207" y="92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89"/>
                    <a:pt x="206" y="89"/>
                    <a:pt x="205" y="88"/>
                  </a:cubicBezTo>
                  <a:cubicBezTo>
                    <a:pt x="205" y="83"/>
                    <a:pt x="205" y="78"/>
                    <a:pt x="205" y="73"/>
                  </a:cubicBezTo>
                  <a:cubicBezTo>
                    <a:pt x="208" y="70"/>
                    <a:pt x="211" y="66"/>
                    <a:pt x="214" y="63"/>
                  </a:cubicBezTo>
                  <a:cubicBezTo>
                    <a:pt x="211" y="66"/>
                    <a:pt x="208" y="69"/>
                    <a:pt x="205" y="71"/>
                  </a:cubicBezTo>
                  <a:cubicBezTo>
                    <a:pt x="205" y="65"/>
                    <a:pt x="205" y="60"/>
                    <a:pt x="205" y="60"/>
                  </a:cubicBezTo>
                  <a:cubicBezTo>
                    <a:pt x="205" y="64"/>
                    <a:pt x="204" y="68"/>
                    <a:pt x="204" y="72"/>
                  </a:cubicBezTo>
                  <a:cubicBezTo>
                    <a:pt x="203" y="74"/>
                    <a:pt x="201" y="75"/>
                    <a:pt x="200" y="77"/>
                  </a:cubicBezTo>
                  <a:cubicBezTo>
                    <a:pt x="200" y="70"/>
                    <a:pt x="200" y="64"/>
                    <a:pt x="200" y="64"/>
                  </a:cubicBezTo>
                  <a:cubicBezTo>
                    <a:pt x="200" y="66"/>
                    <a:pt x="199" y="71"/>
                    <a:pt x="198" y="78"/>
                  </a:cubicBezTo>
                  <a:cubicBezTo>
                    <a:pt x="196" y="81"/>
                    <a:pt x="193" y="85"/>
                    <a:pt x="191" y="88"/>
                  </a:cubicBezTo>
                  <a:cubicBezTo>
                    <a:pt x="191" y="64"/>
                    <a:pt x="191" y="42"/>
                    <a:pt x="191" y="42"/>
                  </a:cubicBezTo>
                  <a:cubicBezTo>
                    <a:pt x="191" y="55"/>
                    <a:pt x="188" y="77"/>
                    <a:pt x="186" y="96"/>
                  </a:cubicBezTo>
                  <a:cubicBezTo>
                    <a:pt x="184" y="100"/>
                    <a:pt x="182" y="104"/>
                    <a:pt x="181" y="107"/>
                  </a:cubicBezTo>
                  <a:cubicBezTo>
                    <a:pt x="181" y="107"/>
                    <a:pt x="180" y="106"/>
                    <a:pt x="180" y="106"/>
                  </a:cubicBezTo>
                  <a:cubicBezTo>
                    <a:pt x="182" y="87"/>
                    <a:pt x="184" y="70"/>
                    <a:pt x="184" y="70"/>
                  </a:cubicBezTo>
                  <a:cubicBezTo>
                    <a:pt x="182" y="74"/>
                    <a:pt x="179" y="98"/>
                    <a:pt x="177" y="118"/>
                  </a:cubicBezTo>
                  <a:cubicBezTo>
                    <a:pt x="177" y="118"/>
                    <a:pt x="177" y="119"/>
                    <a:pt x="177" y="120"/>
                  </a:cubicBezTo>
                  <a:cubicBezTo>
                    <a:pt x="177" y="119"/>
                    <a:pt x="177" y="119"/>
                    <a:pt x="177" y="118"/>
                  </a:cubicBezTo>
                  <a:cubicBezTo>
                    <a:pt x="177" y="119"/>
                    <a:pt x="177" y="119"/>
                    <a:pt x="177" y="120"/>
                  </a:cubicBezTo>
                  <a:cubicBezTo>
                    <a:pt x="177" y="121"/>
                    <a:pt x="176" y="121"/>
                    <a:pt x="176" y="122"/>
                  </a:cubicBezTo>
                  <a:cubicBezTo>
                    <a:pt x="176" y="115"/>
                    <a:pt x="176" y="108"/>
                    <a:pt x="176" y="101"/>
                  </a:cubicBezTo>
                  <a:cubicBezTo>
                    <a:pt x="176" y="101"/>
                    <a:pt x="176" y="100"/>
                    <a:pt x="176" y="100"/>
                  </a:cubicBezTo>
                  <a:cubicBezTo>
                    <a:pt x="176" y="100"/>
                    <a:pt x="176" y="101"/>
                    <a:pt x="176" y="101"/>
                  </a:cubicBezTo>
                  <a:cubicBezTo>
                    <a:pt x="176" y="98"/>
                    <a:pt x="176" y="94"/>
                    <a:pt x="176" y="91"/>
                  </a:cubicBezTo>
                  <a:cubicBezTo>
                    <a:pt x="177" y="88"/>
                    <a:pt x="179" y="85"/>
                    <a:pt x="181" y="83"/>
                  </a:cubicBezTo>
                  <a:cubicBezTo>
                    <a:pt x="179" y="85"/>
                    <a:pt x="177" y="87"/>
                    <a:pt x="176" y="90"/>
                  </a:cubicBezTo>
                  <a:cubicBezTo>
                    <a:pt x="175" y="79"/>
                    <a:pt x="174" y="69"/>
                    <a:pt x="174" y="61"/>
                  </a:cubicBezTo>
                  <a:cubicBezTo>
                    <a:pt x="174" y="73"/>
                    <a:pt x="172" y="87"/>
                    <a:pt x="169" y="100"/>
                  </a:cubicBezTo>
                  <a:cubicBezTo>
                    <a:pt x="165" y="107"/>
                    <a:pt x="162" y="115"/>
                    <a:pt x="160" y="123"/>
                  </a:cubicBezTo>
                  <a:cubicBezTo>
                    <a:pt x="161" y="109"/>
                    <a:pt x="162" y="92"/>
                    <a:pt x="163" y="80"/>
                  </a:cubicBezTo>
                  <a:cubicBezTo>
                    <a:pt x="165" y="73"/>
                    <a:pt x="167" y="67"/>
                    <a:pt x="167" y="61"/>
                  </a:cubicBezTo>
                  <a:cubicBezTo>
                    <a:pt x="166" y="60"/>
                    <a:pt x="166" y="60"/>
                    <a:pt x="166" y="60"/>
                  </a:cubicBezTo>
                  <a:cubicBezTo>
                    <a:pt x="157" y="75"/>
                    <a:pt x="153" y="88"/>
                    <a:pt x="151" y="102"/>
                  </a:cubicBezTo>
                  <a:cubicBezTo>
                    <a:pt x="151" y="102"/>
                    <a:pt x="151" y="101"/>
                    <a:pt x="151" y="101"/>
                  </a:cubicBezTo>
                  <a:cubicBezTo>
                    <a:pt x="152" y="68"/>
                    <a:pt x="155" y="30"/>
                    <a:pt x="155" y="30"/>
                  </a:cubicBezTo>
                  <a:cubicBezTo>
                    <a:pt x="153" y="38"/>
                    <a:pt x="150" y="60"/>
                    <a:pt x="148" y="83"/>
                  </a:cubicBezTo>
                  <a:cubicBezTo>
                    <a:pt x="145" y="87"/>
                    <a:pt x="143" y="92"/>
                    <a:pt x="140" y="97"/>
                  </a:cubicBezTo>
                  <a:cubicBezTo>
                    <a:pt x="140" y="91"/>
                    <a:pt x="139" y="85"/>
                    <a:pt x="139" y="79"/>
                  </a:cubicBezTo>
                  <a:cubicBezTo>
                    <a:pt x="139" y="78"/>
                    <a:pt x="139" y="78"/>
                    <a:pt x="140" y="78"/>
                  </a:cubicBezTo>
                  <a:cubicBezTo>
                    <a:pt x="139" y="78"/>
                    <a:pt x="139" y="78"/>
                    <a:pt x="139" y="78"/>
                  </a:cubicBezTo>
                  <a:cubicBezTo>
                    <a:pt x="137" y="58"/>
                    <a:pt x="136" y="41"/>
                    <a:pt x="136" y="41"/>
                  </a:cubicBezTo>
                  <a:cubicBezTo>
                    <a:pt x="137" y="52"/>
                    <a:pt x="137" y="67"/>
                    <a:pt x="136" y="82"/>
                  </a:cubicBezTo>
                  <a:cubicBezTo>
                    <a:pt x="134" y="84"/>
                    <a:pt x="132" y="87"/>
                    <a:pt x="130" y="92"/>
                  </a:cubicBezTo>
                  <a:cubicBezTo>
                    <a:pt x="130" y="82"/>
                    <a:pt x="130" y="72"/>
                    <a:pt x="130" y="68"/>
                  </a:cubicBezTo>
                  <a:cubicBezTo>
                    <a:pt x="129" y="77"/>
                    <a:pt x="128" y="88"/>
                    <a:pt x="126" y="99"/>
                  </a:cubicBezTo>
                  <a:cubicBezTo>
                    <a:pt x="125" y="94"/>
                    <a:pt x="123" y="89"/>
                    <a:pt x="121" y="84"/>
                  </a:cubicBezTo>
                  <a:cubicBezTo>
                    <a:pt x="123" y="90"/>
                    <a:pt x="125" y="96"/>
                    <a:pt x="126" y="101"/>
                  </a:cubicBezTo>
                  <a:cubicBezTo>
                    <a:pt x="125" y="105"/>
                    <a:pt x="124" y="109"/>
                    <a:pt x="123" y="113"/>
                  </a:cubicBezTo>
                  <a:cubicBezTo>
                    <a:pt x="123" y="110"/>
                    <a:pt x="123" y="108"/>
                    <a:pt x="123" y="105"/>
                  </a:cubicBezTo>
                  <a:cubicBezTo>
                    <a:pt x="122" y="108"/>
                    <a:pt x="122" y="115"/>
                    <a:pt x="122" y="119"/>
                  </a:cubicBezTo>
                  <a:cubicBezTo>
                    <a:pt x="122" y="120"/>
                    <a:pt x="121" y="122"/>
                    <a:pt x="121" y="124"/>
                  </a:cubicBezTo>
                  <a:cubicBezTo>
                    <a:pt x="120" y="125"/>
                    <a:pt x="120" y="127"/>
                    <a:pt x="120" y="128"/>
                  </a:cubicBezTo>
                  <a:cubicBezTo>
                    <a:pt x="119" y="124"/>
                    <a:pt x="118" y="120"/>
                    <a:pt x="117" y="116"/>
                  </a:cubicBezTo>
                  <a:cubicBezTo>
                    <a:pt x="118" y="108"/>
                    <a:pt x="119" y="100"/>
                    <a:pt x="119" y="94"/>
                  </a:cubicBezTo>
                  <a:cubicBezTo>
                    <a:pt x="120" y="92"/>
                    <a:pt x="120" y="91"/>
                    <a:pt x="121" y="89"/>
                  </a:cubicBezTo>
                  <a:cubicBezTo>
                    <a:pt x="121" y="90"/>
                    <a:pt x="120" y="91"/>
                    <a:pt x="119" y="92"/>
                  </a:cubicBezTo>
                  <a:cubicBezTo>
                    <a:pt x="120" y="87"/>
                    <a:pt x="120" y="83"/>
                    <a:pt x="120" y="83"/>
                  </a:cubicBezTo>
                  <a:cubicBezTo>
                    <a:pt x="120" y="85"/>
                    <a:pt x="119" y="89"/>
                    <a:pt x="118" y="93"/>
                  </a:cubicBezTo>
                  <a:cubicBezTo>
                    <a:pt x="117" y="96"/>
                    <a:pt x="115" y="99"/>
                    <a:pt x="114" y="102"/>
                  </a:cubicBezTo>
                  <a:cubicBezTo>
                    <a:pt x="113" y="101"/>
                    <a:pt x="113" y="100"/>
                    <a:pt x="113" y="99"/>
                  </a:cubicBezTo>
                  <a:cubicBezTo>
                    <a:pt x="115" y="80"/>
                    <a:pt x="117" y="62"/>
                    <a:pt x="117" y="62"/>
                  </a:cubicBezTo>
                  <a:cubicBezTo>
                    <a:pt x="115" y="66"/>
                    <a:pt x="113" y="80"/>
                    <a:pt x="111" y="95"/>
                  </a:cubicBezTo>
                  <a:cubicBezTo>
                    <a:pt x="111" y="94"/>
                    <a:pt x="110" y="92"/>
                    <a:pt x="109" y="90"/>
                  </a:cubicBezTo>
                  <a:cubicBezTo>
                    <a:pt x="110" y="92"/>
                    <a:pt x="111" y="94"/>
                    <a:pt x="111" y="96"/>
                  </a:cubicBezTo>
                  <a:cubicBezTo>
                    <a:pt x="111" y="101"/>
                    <a:pt x="110" y="106"/>
                    <a:pt x="110" y="110"/>
                  </a:cubicBezTo>
                  <a:cubicBezTo>
                    <a:pt x="109" y="113"/>
                    <a:pt x="108" y="116"/>
                    <a:pt x="107" y="118"/>
                  </a:cubicBezTo>
                  <a:cubicBezTo>
                    <a:pt x="106" y="94"/>
                    <a:pt x="101" y="64"/>
                    <a:pt x="101" y="64"/>
                  </a:cubicBezTo>
                  <a:cubicBezTo>
                    <a:pt x="101" y="64"/>
                    <a:pt x="101" y="73"/>
                    <a:pt x="101" y="82"/>
                  </a:cubicBezTo>
                  <a:cubicBezTo>
                    <a:pt x="102" y="88"/>
                    <a:pt x="101" y="98"/>
                    <a:pt x="99" y="108"/>
                  </a:cubicBezTo>
                  <a:cubicBezTo>
                    <a:pt x="98" y="111"/>
                    <a:pt x="97" y="114"/>
                    <a:pt x="96" y="117"/>
                  </a:cubicBezTo>
                  <a:cubicBezTo>
                    <a:pt x="96" y="108"/>
                    <a:pt x="95" y="99"/>
                    <a:pt x="93" y="90"/>
                  </a:cubicBezTo>
                  <a:cubicBezTo>
                    <a:pt x="97" y="78"/>
                    <a:pt x="101" y="66"/>
                    <a:pt x="100" y="56"/>
                  </a:cubicBezTo>
                  <a:cubicBezTo>
                    <a:pt x="97" y="62"/>
                    <a:pt x="95" y="67"/>
                    <a:pt x="92" y="72"/>
                  </a:cubicBezTo>
                  <a:cubicBezTo>
                    <a:pt x="95" y="34"/>
                    <a:pt x="88" y="19"/>
                    <a:pt x="88" y="19"/>
                  </a:cubicBezTo>
                  <a:cubicBezTo>
                    <a:pt x="88" y="19"/>
                    <a:pt x="92" y="31"/>
                    <a:pt x="90" y="54"/>
                  </a:cubicBezTo>
                  <a:cubicBezTo>
                    <a:pt x="89" y="61"/>
                    <a:pt x="88" y="74"/>
                    <a:pt x="87" y="88"/>
                  </a:cubicBezTo>
                  <a:cubicBezTo>
                    <a:pt x="85" y="92"/>
                    <a:pt x="85" y="97"/>
                    <a:pt x="84" y="101"/>
                  </a:cubicBezTo>
                  <a:cubicBezTo>
                    <a:pt x="83" y="98"/>
                    <a:pt x="82" y="95"/>
                    <a:pt x="81" y="91"/>
                  </a:cubicBezTo>
                  <a:cubicBezTo>
                    <a:pt x="81" y="89"/>
                    <a:pt x="81" y="87"/>
                    <a:pt x="82" y="85"/>
                  </a:cubicBezTo>
                  <a:cubicBezTo>
                    <a:pt x="81" y="87"/>
                    <a:pt x="81" y="88"/>
                    <a:pt x="80" y="90"/>
                  </a:cubicBezTo>
                  <a:cubicBezTo>
                    <a:pt x="80" y="89"/>
                    <a:pt x="79" y="88"/>
                    <a:pt x="79" y="87"/>
                  </a:cubicBezTo>
                  <a:cubicBezTo>
                    <a:pt x="79" y="83"/>
                    <a:pt x="79" y="78"/>
                    <a:pt x="79" y="74"/>
                  </a:cubicBezTo>
                  <a:cubicBezTo>
                    <a:pt x="79" y="46"/>
                    <a:pt x="69" y="40"/>
                    <a:pt x="69" y="40"/>
                  </a:cubicBezTo>
                  <a:cubicBezTo>
                    <a:pt x="69" y="40"/>
                    <a:pt x="75" y="44"/>
                    <a:pt x="75" y="70"/>
                  </a:cubicBezTo>
                  <a:cubicBezTo>
                    <a:pt x="75" y="84"/>
                    <a:pt x="70" y="108"/>
                    <a:pt x="65" y="125"/>
                  </a:cubicBezTo>
                  <a:cubicBezTo>
                    <a:pt x="65" y="123"/>
                    <a:pt x="65" y="120"/>
                    <a:pt x="64" y="118"/>
                  </a:cubicBezTo>
                  <a:cubicBezTo>
                    <a:pt x="65" y="111"/>
                    <a:pt x="66" y="105"/>
                    <a:pt x="66" y="98"/>
                  </a:cubicBezTo>
                  <a:cubicBezTo>
                    <a:pt x="65" y="101"/>
                    <a:pt x="64" y="104"/>
                    <a:pt x="64" y="107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4" y="97"/>
                    <a:pt x="65" y="83"/>
                    <a:pt x="72" y="75"/>
                  </a:cubicBezTo>
                  <a:cubicBezTo>
                    <a:pt x="68" y="77"/>
                    <a:pt x="65" y="82"/>
                    <a:pt x="63" y="87"/>
                  </a:cubicBezTo>
                  <a:cubicBezTo>
                    <a:pt x="64" y="78"/>
                    <a:pt x="64" y="71"/>
                    <a:pt x="64" y="71"/>
                  </a:cubicBezTo>
                  <a:cubicBezTo>
                    <a:pt x="64" y="75"/>
                    <a:pt x="60" y="97"/>
                    <a:pt x="56" y="116"/>
                  </a:cubicBezTo>
                  <a:cubicBezTo>
                    <a:pt x="56" y="114"/>
                    <a:pt x="56" y="112"/>
                    <a:pt x="55" y="110"/>
                  </a:cubicBezTo>
                  <a:cubicBezTo>
                    <a:pt x="56" y="99"/>
                    <a:pt x="57" y="87"/>
                    <a:pt x="58" y="78"/>
                  </a:cubicBezTo>
                  <a:cubicBezTo>
                    <a:pt x="60" y="71"/>
                    <a:pt x="62" y="63"/>
                    <a:pt x="65" y="55"/>
                  </a:cubicBezTo>
                  <a:cubicBezTo>
                    <a:pt x="65" y="54"/>
                    <a:pt x="64" y="52"/>
                    <a:pt x="64" y="51"/>
                  </a:cubicBezTo>
                  <a:cubicBezTo>
                    <a:pt x="62" y="54"/>
                    <a:pt x="61" y="57"/>
                    <a:pt x="60" y="60"/>
                  </a:cubicBezTo>
                  <a:cubicBezTo>
                    <a:pt x="60" y="60"/>
                    <a:pt x="60" y="59"/>
                    <a:pt x="60" y="59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56" y="70"/>
                    <a:pt x="53" y="80"/>
                    <a:pt x="51" y="89"/>
                  </a:cubicBezTo>
                  <a:cubicBezTo>
                    <a:pt x="56" y="30"/>
                    <a:pt x="53" y="15"/>
                    <a:pt x="52" y="13"/>
                  </a:cubicBezTo>
                  <a:cubicBezTo>
                    <a:pt x="52" y="15"/>
                    <a:pt x="53" y="22"/>
                    <a:pt x="49" y="56"/>
                  </a:cubicBezTo>
                  <a:cubicBezTo>
                    <a:pt x="47" y="68"/>
                    <a:pt x="46" y="80"/>
                    <a:pt x="44" y="91"/>
                  </a:cubicBezTo>
                  <a:cubicBezTo>
                    <a:pt x="43" y="85"/>
                    <a:pt x="41" y="79"/>
                    <a:pt x="39" y="74"/>
                  </a:cubicBezTo>
                  <a:cubicBezTo>
                    <a:pt x="40" y="51"/>
                    <a:pt x="41" y="31"/>
                    <a:pt x="41" y="31"/>
                  </a:cubicBezTo>
                  <a:cubicBezTo>
                    <a:pt x="39" y="38"/>
                    <a:pt x="38" y="53"/>
                    <a:pt x="36" y="69"/>
                  </a:cubicBezTo>
                  <a:cubicBezTo>
                    <a:pt x="35" y="68"/>
                    <a:pt x="34" y="67"/>
                    <a:pt x="33" y="65"/>
                  </a:cubicBezTo>
                  <a:cubicBezTo>
                    <a:pt x="34" y="67"/>
                    <a:pt x="35" y="69"/>
                    <a:pt x="36" y="71"/>
                  </a:cubicBezTo>
                  <a:cubicBezTo>
                    <a:pt x="36" y="71"/>
                    <a:pt x="36" y="72"/>
                    <a:pt x="36" y="73"/>
                  </a:cubicBezTo>
                  <a:cubicBezTo>
                    <a:pt x="33" y="77"/>
                    <a:pt x="31" y="81"/>
                    <a:pt x="28" y="86"/>
                  </a:cubicBezTo>
                  <a:cubicBezTo>
                    <a:pt x="28" y="85"/>
                    <a:pt x="27" y="84"/>
                    <a:pt x="26" y="83"/>
                  </a:cubicBezTo>
                  <a:cubicBezTo>
                    <a:pt x="24" y="61"/>
                    <a:pt x="21" y="38"/>
                    <a:pt x="18" y="28"/>
                  </a:cubicBezTo>
                  <a:cubicBezTo>
                    <a:pt x="18" y="28"/>
                    <a:pt x="22" y="54"/>
                    <a:pt x="26" y="83"/>
                  </a:cubicBezTo>
                  <a:cubicBezTo>
                    <a:pt x="25" y="82"/>
                    <a:pt x="24" y="81"/>
                    <a:pt x="22" y="80"/>
                  </a:cubicBezTo>
                  <a:cubicBezTo>
                    <a:pt x="24" y="81"/>
                    <a:pt x="25" y="82"/>
                    <a:pt x="26" y="84"/>
                  </a:cubicBezTo>
                  <a:cubicBezTo>
                    <a:pt x="26" y="85"/>
                    <a:pt x="26" y="86"/>
                    <a:pt x="26" y="88"/>
                  </a:cubicBezTo>
                  <a:cubicBezTo>
                    <a:pt x="26" y="86"/>
                    <a:pt x="26" y="85"/>
                    <a:pt x="26" y="84"/>
                  </a:cubicBezTo>
                  <a:cubicBezTo>
                    <a:pt x="27" y="85"/>
                    <a:pt x="27" y="86"/>
                    <a:pt x="28" y="87"/>
                  </a:cubicBezTo>
                  <a:cubicBezTo>
                    <a:pt x="27" y="88"/>
                    <a:pt x="27" y="89"/>
                    <a:pt x="26" y="90"/>
                  </a:cubicBezTo>
                  <a:cubicBezTo>
                    <a:pt x="26" y="89"/>
                    <a:pt x="26" y="88"/>
                    <a:pt x="26" y="88"/>
                  </a:cubicBezTo>
                  <a:cubicBezTo>
                    <a:pt x="26" y="88"/>
                    <a:pt x="26" y="89"/>
                    <a:pt x="26" y="90"/>
                  </a:cubicBezTo>
                  <a:cubicBezTo>
                    <a:pt x="24" y="95"/>
                    <a:pt x="23" y="100"/>
                    <a:pt x="21" y="105"/>
                  </a:cubicBezTo>
                  <a:cubicBezTo>
                    <a:pt x="21" y="105"/>
                    <a:pt x="21" y="105"/>
                    <a:pt x="21" y="105"/>
                  </a:cubicBezTo>
                  <a:cubicBezTo>
                    <a:pt x="21" y="104"/>
                    <a:pt x="22" y="104"/>
                    <a:pt x="22" y="103"/>
                  </a:cubicBezTo>
                  <a:cubicBezTo>
                    <a:pt x="22" y="104"/>
                    <a:pt x="21" y="104"/>
                    <a:pt x="21" y="105"/>
                  </a:cubicBezTo>
                  <a:cubicBezTo>
                    <a:pt x="19" y="95"/>
                    <a:pt x="16" y="87"/>
                    <a:pt x="14" y="81"/>
                  </a:cubicBezTo>
                  <a:cubicBezTo>
                    <a:pt x="15" y="85"/>
                    <a:pt x="16" y="90"/>
                    <a:pt x="17" y="95"/>
                  </a:cubicBezTo>
                  <a:cubicBezTo>
                    <a:pt x="17" y="100"/>
                    <a:pt x="16" y="104"/>
                    <a:pt x="15" y="109"/>
                  </a:cubicBezTo>
                  <a:cubicBezTo>
                    <a:pt x="17" y="104"/>
                    <a:pt x="17" y="100"/>
                    <a:pt x="17" y="95"/>
                  </a:cubicBezTo>
                  <a:cubicBezTo>
                    <a:pt x="18" y="100"/>
                    <a:pt x="19" y="105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19" y="116"/>
                    <a:pt x="17" y="122"/>
                    <a:pt x="15" y="127"/>
                  </a:cubicBezTo>
                  <a:cubicBezTo>
                    <a:pt x="14" y="125"/>
                    <a:pt x="14" y="123"/>
                    <a:pt x="13" y="120"/>
                  </a:cubicBezTo>
                  <a:cubicBezTo>
                    <a:pt x="14" y="117"/>
                    <a:pt x="15" y="113"/>
                    <a:pt x="15" y="109"/>
                  </a:cubicBezTo>
                  <a:cubicBezTo>
                    <a:pt x="15" y="112"/>
                    <a:pt x="14" y="116"/>
                    <a:pt x="13" y="119"/>
                  </a:cubicBezTo>
                  <a:cubicBezTo>
                    <a:pt x="11" y="111"/>
                    <a:pt x="10" y="103"/>
                    <a:pt x="10" y="95"/>
                  </a:cubicBezTo>
                  <a:cubicBezTo>
                    <a:pt x="9" y="96"/>
                    <a:pt x="9" y="96"/>
                    <a:pt x="9" y="96"/>
                  </a:cubicBezTo>
                  <a:cubicBezTo>
                    <a:pt x="9" y="98"/>
                    <a:pt x="9" y="98"/>
                    <a:pt x="9" y="98"/>
                  </a:cubicBezTo>
                  <a:cubicBezTo>
                    <a:pt x="9" y="97"/>
                    <a:pt x="9" y="96"/>
                    <a:pt x="9" y="95"/>
                  </a:cubicBezTo>
                  <a:cubicBezTo>
                    <a:pt x="9" y="84"/>
                    <a:pt x="7" y="69"/>
                    <a:pt x="1" y="60"/>
                  </a:cubicBezTo>
                  <a:cubicBezTo>
                    <a:pt x="6" y="70"/>
                    <a:pt x="7" y="82"/>
                    <a:pt x="7" y="93"/>
                  </a:cubicBezTo>
                  <a:cubicBezTo>
                    <a:pt x="7" y="101"/>
                    <a:pt x="5" y="109"/>
                    <a:pt x="3" y="116"/>
                  </a:cubicBezTo>
                  <a:cubicBezTo>
                    <a:pt x="1" y="115"/>
                    <a:pt x="1" y="117"/>
                    <a:pt x="2" y="120"/>
                  </a:cubicBezTo>
                  <a:cubicBezTo>
                    <a:pt x="2" y="121"/>
                    <a:pt x="2" y="121"/>
                    <a:pt x="1" y="122"/>
                  </a:cubicBezTo>
                  <a:cubicBezTo>
                    <a:pt x="1" y="121"/>
                    <a:pt x="1" y="120"/>
                    <a:pt x="0" y="119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90" y="166"/>
                    <a:pt x="179" y="166"/>
                    <a:pt x="269" y="166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306" y="166"/>
                    <a:pt x="342" y="166"/>
                    <a:pt x="379" y="166"/>
                  </a:cubicBezTo>
                  <a:cubicBezTo>
                    <a:pt x="416" y="166"/>
                    <a:pt x="453" y="166"/>
                    <a:pt x="490" y="166"/>
                  </a:cubicBezTo>
                  <a:cubicBezTo>
                    <a:pt x="490" y="166"/>
                    <a:pt x="490" y="166"/>
                    <a:pt x="490" y="166"/>
                  </a:cubicBezTo>
                  <a:cubicBezTo>
                    <a:pt x="746" y="166"/>
                    <a:pt x="1002" y="166"/>
                    <a:pt x="1258" y="166"/>
                  </a:cubicBezTo>
                  <a:cubicBezTo>
                    <a:pt x="1258" y="166"/>
                    <a:pt x="1258" y="166"/>
                    <a:pt x="1258" y="166"/>
                  </a:cubicBezTo>
                  <a:cubicBezTo>
                    <a:pt x="1430" y="166"/>
                    <a:pt x="1602" y="166"/>
                    <a:pt x="1773" y="166"/>
                  </a:cubicBezTo>
                  <a:cubicBezTo>
                    <a:pt x="1871" y="166"/>
                    <a:pt x="1969" y="166"/>
                    <a:pt x="2066" y="166"/>
                  </a:cubicBezTo>
                  <a:cubicBezTo>
                    <a:pt x="2066" y="166"/>
                    <a:pt x="2066" y="166"/>
                    <a:pt x="2066" y="166"/>
                  </a:cubicBezTo>
                  <a:cubicBezTo>
                    <a:pt x="2103" y="166"/>
                    <a:pt x="2140" y="166"/>
                    <a:pt x="2177" y="166"/>
                  </a:cubicBezTo>
                  <a:cubicBezTo>
                    <a:pt x="2214" y="166"/>
                    <a:pt x="2251" y="166"/>
                    <a:pt x="2288" y="166"/>
                  </a:cubicBezTo>
                  <a:cubicBezTo>
                    <a:pt x="2288" y="166"/>
                    <a:pt x="2288" y="166"/>
                    <a:pt x="2288" y="166"/>
                  </a:cubicBezTo>
                  <a:cubicBezTo>
                    <a:pt x="2544" y="166"/>
                    <a:pt x="2800" y="166"/>
                    <a:pt x="3056" y="166"/>
                  </a:cubicBezTo>
                  <a:cubicBezTo>
                    <a:pt x="3056" y="166"/>
                    <a:pt x="3056" y="166"/>
                    <a:pt x="3056" y="166"/>
                  </a:cubicBezTo>
                  <a:cubicBezTo>
                    <a:pt x="3228" y="166"/>
                    <a:pt x="3400" y="166"/>
                    <a:pt x="3571" y="166"/>
                  </a:cubicBezTo>
                  <a:cubicBezTo>
                    <a:pt x="3669" y="166"/>
                    <a:pt x="3767" y="166"/>
                    <a:pt x="3864" y="166"/>
                  </a:cubicBezTo>
                  <a:cubicBezTo>
                    <a:pt x="3864" y="166"/>
                    <a:pt x="3864" y="166"/>
                    <a:pt x="3864" y="166"/>
                  </a:cubicBezTo>
                  <a:cubicBezTo>
                    <a:pt x="3901" y="166"/>
                    <a:pt x="3938" y="166"/>
                    <a:pt x="3975" y="166"/>
                  </a:cubicBezTo>
                  <a:cubicBezTo>
                    <a:pt x="4012" y="166"/>
                    <a:pt x="4049" y="166"/>
                    <a:pt x="4086" y="166"/>
                  </a:cubicBezTo>
                  <a:cubicBezTo>
                    <a:pt x="4086" y="166"/>
                    <a:pt x="4086" y="166"/>
                    <a:pt x="4086" y="166"/>
                  </a:cubicBezTo>
                  <a:cubicBezTo>
                    <a:pt x="4312" y="166"/>
                    <a:pt x="4537" y="166"/>
                    <a:pt x="4763" y="166"/>
                  </a:cubicBezTo>
                  <a:cubicBezTo>
                    <a:pt x="4763" y="137"/>
                    <a:pt x="4763" y="137"/>
                    <a:pt x="4763" y="137"/>
                  </a:cubicBezTo>
                  <a:cubicBezTo>
                    <a:pt x="4760" y="119"/>
                    <a:pt x="4755" y="101"/>
                    <a:pt x="4748" y="85"/>
                  </a:cubicBezTo>
                  <a:close/>
                  <a:moveTo>
                    <a:pt x="1" y="154"/>
                  </a:moveTo>
                  <a:cubicBezTo>
                    <a:pt x="1" y="154"/>
                    <a:pt x="1" y="154"/>
                    <a:pt x="1" y="154"/>
                  </a:cubicBezTo>
                  <a:cubicBezTo>
                    <a:pt x="1" y="152"/>
                    <a:pt x="2" y="151"/>
                    <a:pt x="2" y="150"/>
                  </a:cubicBezTo>
                  <a:cubicBezTo>
                    <a:pt x="2" y="150"/>
                    <a:pt x="2" y="151"/>
                    <a:pt x="2" y="151"/>
                  </a:cubicBezTo>
                  <a:cubicBezTo>
                    <a:pt x="2" y="152"/>
                    <a:pt x="1" y="153"/>
                    <a:pt x="1" y="154"/>
                  </a:cubicBezTo>
                  <a:close/>
                  <a:moveTo>
                    <a:pt x="7" y="119"/>
                  </a:move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19"/>
                  </a:cubicBezTo>
                  <a:close/>
                  <a:moveTo>
                    <a:pt x="6" y="138"/>
                  </a:moveTo>
                  <a:cubicBezTo>
                    <a:pt x="6" y="137"/>
                    <a:pt x="5" y="135"/>
                    <a:pt x="5" y="134"/>
                  </a:cubicBezTo>
                  <a:cubicBezTo>
                    <a:pt x="5" y="134"/>
                    <a:pt x="5" y="134"/>
                    <a:pt x="5" y="133"/>
                  </a:cubicBezTo>
                  <a:cubicBezTo>
                    <a:pt x="5" y="134"/>
                    <a:pt x="6" y="135"/>
                    <a:pt x="6" y="137"/>
                  </a:cubicBezTo>
                  <a:cubicBezTo>
                    <a:pt x="6" y="137"/>
                    <a:pt x="6" y="138"/>
                    <a:pt x="6" y="138"/>
                  </a:cubicBezTo>
                  <a:close/>
                  <a:moveTo>
                    <a:pt x="5" y="133"/>
                  </a:moveTo>
                  <a:cubicBezTo>
                    <a:pt x="5" y="132"/>
                    <a:pt x="5" y="131"/>
                    <a:pt x="6" y="130"/>
                  </a:cubicBezTo>
                  <a:cubicBezTo>
                    <a:pt x="6" y="131"/>
                    <a:pt x="7" y="133"/>
                    <a:pt x="7" y="134"/>
                  </a:cubicBezTo>
                  <a:cubicBezTo>
                    <a:pt x="7" y="135"/>
                    <a:pt x="7" y="135"/>
                    <a:pt x="7" y="136"/>
                  </a:cubicBezTo>
                  <a:cubicBezTo>
                    <a:pt x="6" y="134"/>
                    <a:pt x="5" y="133"/>
                    <a:pt x="5" y="133"/>
                  </a:cubicBezTo>
                  <a:close/>
                  <a:moveTo>
                    <a:pt x="8" y="145"/>
                  </a:moveTo>
                  <a:cubicBezTo>
                    <a:pt x="8" y="144"/>
                    <a:pt x="7" y="143"/>
                    <a:pt x="7" y="143"/>
                  </a:cubicBezTo>
                  <a:cubicBezTo>
                    <a:pt x="8" y="142"/>
                    <a:pt x="8" y="141"/>
                    <a:pt x="8" y="140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8" y="141"/>
                    <a:pt x="8" y="142"/>
                    <a:pt x="8" y="143"/>
                  </a:cubicBezTo>
                  <a:cubicBezTo>
                    <a:pt x="8" y="143"/>
                    <a:pt x="8" y="144"/>
                    <a:pt x="8" y="145"/>
                  </a:cubicBezTo>
                  <a:close/>
                  <a:moveTo>
                    <a:pt x="18" y="134"/>
                  </a:moveTo>
                  <a:cubicBezTo>
                    <a:pt x="18" y="134"/>
                    <a:pt x="18" y="133"/>
                    <a:pt x="18" y="133"/>
                  </a:cubicBezTo>
                  <a:cubicBezTo>
                    <a:pt x="18" y="132"/>
                    <a:pt x="18" y="130"/>
                    <a:pt x="18" y="129"/>
                  </a:cubicBezTo>
                  <a:cubicBezTo>
                    <a:pt x="18" y="130"/>
                    <a:pt x="18" y="132"/>
                    <a:pt x="18" y="134"/>
                  </a:cubicBezTo>
                  <a:close/>
                  <a:moveTo>
                    <a:pt x="28" y="120"/>
                  </a:moveTo>
                  <a:cubicBezTo>
                    <a:pt x="28" y="117"/>
                    <a:pt x="28" y="115"/>
                    <a:pt x="28" y="112"/>
                  </a:cubicBezTo>
                  <a:cubicBezTo>
                    <a:pt x="28" y="111"/>
                    <a:pt x="28" y="111"/>
                    <a:pt x="28" y="110"/>
                  </a:cubicBezTo>
                  <a:cubicBezTo>
                    <a:pt x="28" y="114"/>
                    <a:pt x="29" y="116"/>
                    <a:pt x="29" y="119"/>
                  </a:cubicBezTo>
                  <a:cubicBezTo>
                    <a:pt x="29" y="119"/>
                    <a:pt x="29" y="120"/>
                    <a:pt x="28" y="120"/>
                  </a:cubicBezTo>
                  <a:close/>
                  <a:moveTo>
                    <a:pt x="30" y="115"/>
                  </a:moveTo>
                  <a:cubicBezTo>
                    <a:pt x="29" y="112"/>
                    <a:pt x="29" y="108"/>
                    <a:pt x="28" y="104"/>
                  </a:cubicBezTo>
                  <a:cubicBezTo>
                    <a:pt x="29" y="101"/>
                    <a:pt x="29" y="97"/>
                    <a:pt x="30" y="93"/>
                  </a:cubicBezTo>
                  <a:cubicBezTo>
                    <a:pt x="31" y="98"/>
                    <a:pt x="32" y="102"/>
                    <a:pt x="32" y="104"/>
                  </a:cubicBezTo>
                  <a:cubicBezTo>
                    <a:pt x="32" y="108"/>
                    <a:pt x="31" y="111"/>
                    <a:pt x="30" y="115"/>
                  </a:cubicBezTo>
                  <a:close/>
                  <a:moveTo>
                    <a:pt x="35" y="102"/>
                  </a:moveTo>
                  <a:cubicBezTo>
                    <a:pt x="35" y="102"/>
                    <a:pt x="35" y="102"/>
                    <a:pt x="35" y="103"/>
                  </a:cubicBezTo>
                  <a:cubicBezTo>
                    <a:pt x="34" y="99"/>
                    <a:pt x="33" y="94"/>
                    <a:pt x="31" y="90"/>
                  </a:cubicBezTo>
                  <a:cubicBezTo>
                    <a:pt x="32" y="84"/>
                    <a:pt x="34" y="78"/>
                    <a:pt x="36" y="73"/>
                  </a:cubicBezTo>
                  <a:cubicBezTo>
                    <a:pt x="36" y="83"/>
                    <a:pt x="35" y="93"/>
                    <a:pt x="35" y="102"/>
                  </a:cubicBezTo>
                  <a:close/>
                  <a:moveTo>
                    <a:pt x="41" y="111"/>
                  </a:moveTo>
                  <a:cubicBezTo>
                    <a:pt x="41" y="111"/>
                    <a:pt x="41" y="111"/>
                    <a:pt x="41" y="111"/>
                  </a:cubicBezTo>
                  <a:cubicBezTo>
                    <a:pt x="41" y="114"/>
                    <a:pt x="40" y="116"/>
                    <a:pt x="40" y="119"/>
                  </a:cubicBezTo>
                  <a:cubicBezTo>
                    <a:pt x="39" y="114"/>
                    <a:pt x="39" y="108"/>
                    <a:pt x="39" y="103"/>
                  </a:cubicBezTo>
                  <a:cubicBezTo>
                    <a:pt x="39" y="97"/>
                    <a:pt x="39" y="91"/>
                    <a:pt x="41" y="85"/>
                  </a:cubicBezTo>
                  <a:cubicBezTo>
                    <a:pt x="40" y="87"/>
                    <a:pt x="39" y="89"/>
                    <a:pt x="38" y="92"/>
                  </a:cubicBezTo>
                  <a:cubicBezTo>
                    <a:pt x="38" y="87"/>
                    <a:pt x="39" y="82"/>
                    <a:pt x="39" y="77"/>
                  </a:cubicBezTo>
                  <a:cubicBezTo>
                    <a:pt x="41" y="83"/>
                    <a:pt x="43" y="90"/>
                    <a:pt x="43" y="96"/>
                  </a:cubicBezTo>
                  <a:cubicBezTo>
                    <a:pt x="43" y="101"/>
                    <a:pt x="42" y="106"/>
                    <a:pt x="41" y="111"/>
                  </a:cubicBezTo>
                  <a:close/>
                  <a:moveTo>
                    <a:pt x="48" y="127"/>
                  </a:moveTo>
                  <a:cubicBezTo>
                    <a:pt x="47" y="132"/>
                    <a:pt x="46" y="134"/>
                    <a:pt x="46" y="134"/>
                  </a:cubicBezTo>
                  <a:cubicBezTo>
                    <a:pt x="47" y="129"/>
                    <a:pt x="47" y="125"/>
                    <a:pt x="48" y="120"/>
                  </a:cubicBezTo>
                  <a:cubicBezTo>
                    <a:pt x="48" y="123"/>
                    <a:pt x="48" y="125"/>
                    <a:pt x="48" y="127"/>
                  </a:cubicBezTo>
                  <a:close/>
                  <a:moveTo>
                    <a:pt x="79" y="92"/>
                  </a:moveTo>
                  <a:cubicBezTo>
                    <a:pt x="79" y="91"/>
                    <a:pt x="79" y="90"/>
                    <a:pt x="79" y="89"/>
                  </a:cubicBezTo>
                  <a:cubicBezTo>
                    <a:pt x="79" y="89"/>
                    <a:pt x="79" y="90"/>
                    <a:pt x="80" y="91"/>
                  </a:cubicBezTo>
                  <a:cubicBezTo>
                    <a:pt x="79" y="91"/>
                    <a:pt x="79" y="92"/>
                    <a:pt x="79" y="92"/>
                  </a:cubicBezTo>
                  <a:close/>
                  <a:moveTo>
                    <a:pt x="82" y="130"/>
                  </a:moveTo>
                  <a:cubicBezTo>
                    <a:pt x="81" y="132"/>
                    <a:pt x="81" y="134"/>
                    <a:pt x="81" y="136"/>
                  </a:cubicBezTo>
                  <a:cubicBezTo>
                    <a:pt x="80" y="127"/>
                    <a:pt x="80" y="119"/>
                    <a:pt x="80" y="110"/>
                  </a:cubicBezTo>
                  <a:cubicBezTo>
                    <a:pt x="80" y="105"/>
                    <a:pt x="80" y="99"/>
                    <a:pt x="80" y="93"/>
                  </a:cubicBezTo>
                  <a:cubicBezTo>
                    <a:pt x="82" y="99"/>
                    <a:pt x="82" y="104"/>
                    <a:pt x="83" y="109"/>
                  </a:cubicBezTo>
                  <a:cubicBezTo>
                    <a:pt x="82" y="116"/>
                    <a:pt x="82" y="123"/>
                    <a:pt x="82" y="130"/>
                  </a:cubicBezTo>
                  <a:close/>
                  <a:moveTo>
                    <a:pt x="91" y="140"/>
                  </a:moveTo>
                  <a:cubicBezTo>
                    <a:pt x="91" y="140"/>
                    <a:pt x="91" y="139"/>
                    <a:pt x="91" y="139"/>
                  </a:cubicBezTo>
                  <a:cubicBezTo>
                    <a:pt x="92" y="100"/>
                    <a:pt x="92" y="100"/>
                    <a:pt x="92" y="100"/>
                  </a:cubicBezTo>
                  <a:cubicBezTo>
                    <a:pt x="92" y="106"/>
                    <a:pt x="93" y="113"/>
                    <a:pt x="93" y="119"/>
                  </a:cubicBezTo>
                  <a:cubicBezTo>
                    <a:pt x="93" y="122"/>
                    <a:pt x="93" y="126"/>
                    <a:pt x="93" y="129"/>
                  </a:cubicBezTo>
                  <a:cubicBezTo>
                    <a:pt x="92" y="133"/>
                    <a:pt x="92" y="136"/>
                    <a:pt x="91" y="140"/>
                  </a:cubicBezTo>
                  <a:close/>
                  <a:moveTo>
                    <a:pt x="112" y="105"/>
                  </a:moveTo>
                  <a:cubicBezTo>
                    <a:pt x="112" y="104"/>
                    <a:pt x="112" y="102"/>
                    <a:pt x="112" y="101"/>
                  </a:cubicBezTo>
                  <a:cubicBezTo>
                    <a:pt x="113" y="102"/>
                    <a:pt x="113" y="103"/>
                    <a:pt x="113" y="103"/>
                  </a:cubicBezTo>
                  <a:cubicBezTo>
                    <a:pt x="113" y="104"/>
                    <a:pt x="112" y="105"/>
                    <a:pt x="112" y="105"/>
                  </a:cubicBezTo>
                  <a:close/>
                  <a:moveTo>
                    <a:pt x="135" y="101"/>
                  </a:moveTo>
                  <a:cubicBezTo>
                    <a:pt x="135" y="101"/>
                    <a:pt x="135" y="101"/>
                    <a:pt x="134" y="100"/>
                  </a:cubicBezTo>
                  <a:cubicBezTo>
                    <a:pt x="135" y="101"/>
                    <a:pt x="135" y="101"/>
                    <a:pt x="135" y="101"/>
                  </a:cubicBezTo>
                  <a:cubicBezTo>
                    <a:pt x="134" y="111"/>
                    <a:pt x="133" y="119"/>
                    <a:pt x="132" y="126"/>
                  </a:cubicBezTo>
                  <a:cubicBezTo>
                    <a:pt x="131" y="122"/>
                    <a:pt x="131" y="118"/>
                    <a:pt x="130" y="114"/>
                  </a:cubicBezTo>
                  <a:cubicBezTo>
                    <a:pt x="130" y="109"/>
                    <a:pt x="130" y="103"/>
                    <a:pt x="130" y="98"/>
                  </a:cubicBezTo>
                  <a:cubicBezTo>
                    <a:pt x="131" y="92"/>
                    <a:pt x="133" y="87"/>
                    <a:pt x="136" y="82"/>
                  </a:cubicBezTo>
                  <a:cubicBezTo>
                    <a:pt x="136" y="89"/>
                    <a:pt x="135" y="95"/>
                    <a:pt x="135" y="101"/>
                  </a:cubicBezTo>
                  <a:close/>
                  <a:moveTo>
                    <a:pt x="145" y="117"/>
                  </a:moveTo>
                  <a:cubicBezTo>
                    <a:pt x="144" y="114"/>
                    <a:pt x="144" y="110"/>
                    <a:pt x="144" y="106"/>
                  </a:cubicBezTo>
                  <a:cubicBezTo>
                    <a:pt x="144" y="99"/>
                    <a:pt x="144" y="90"/>
                    <a:pt x="148" y="83"/>
                  </a:cubicBezTo>
                  <a:cubicBezTo>
                    <a:pt x="146" y="95"/>
                    <a:pt x="145" y="107"/>
                    <a:pt x="145" y="117"/>
                  </a:cubicBezTo>
                  <a:close/>
                  <a:moveTo>
                    <a:pt x="150" y="108"/>
                  </a:moveTo>
                  <a:cubicBezTo>
                    <a:pt x="150" y="106"/>
                    <a:pt x="151" y="104"/>
                    <a:pt x="151" y="102"/>
                  </a:cubicBezTo>
                  <a:cubicBezTo>
                    <a:pt x="151" y="102"/>
                    <a:pt x="151" y="102"/>
                    <a:pt x="151" y="103"/>
                  </a:cubicBezTo>
                  <a:cubicBezTo>
                    <a:pt x="151" y="104"/>
                    <a:pt x="151" y="106"/>
                    <a:pt x="150" y="108"/>
                  </a:cubicBezTo>
                  <a:close/>
                  <a:moveTo>
                    <a:pt x="156" y="111"/>
                  </a:moveTo>
                  <a:cubicBezTo>
                    <a:pt x="156" y="103"/>
                    <a:pt x="159" y="95"/>
                    <a:pt x="161" y="87"/>
                  </a:cubicBezTo>
                  <a:cubicBezTo>
                    <a:pt x="160" y="95"/>
                    <a:pt x="158" y="104"/>
                    <a:pt x="157" y="113"/>
                  </a:cubicBezTo>
                  <a:cubicBezTo>
                    <a:pt x="156" y="112"/>
                    <a:pt x="156" y="112"/>
                    <a:pt x="156" y="111"/>
                  </a:cubicBezTo>
                  <a:close/>
                  <a:moveTo>
                    <a:pt x="180" y="110"/>
                  </a:moveTo>
                  <a:cubicBezTo>
                    <a:pt x="180" y="109"/>
                    <a:pt x="180" y="108"/>
                    <a:pt x="180" y="107"/>
                  </a:cubicBezTo>
                  <a:cubicBezTo>
                    <a:pt x="180" y="107"/>
                    <a:pt x="180" y="108"/>
                    <a:pt x="180" y="108"/>
                  </a:cubicBezTo>
                  <a:cubicBezTo>
                    <a:pt x="180" y="109"/>
                    <a:pt x="180" y="109"/>
                    <a:pt x="180" y="110"/>
                  </a:cubicBezTo>
                  <a:close/>
                  <a:moveTo>
                    <a:pt x="191" y="125"/>
                  </a:moveTo>
                  <a:cubicBezTo>
                    <a:pt x="191" y="123"/>
                    <a:pt x="191" y="122"/>
                    <a:pt x="191" y="120"/>
                  </a:cubicBezTo>
                  <a:cubicBezTo>
                    <a:pt x="191" y="121"/>
                    <a:pt x="191" y="122"/>
                    <a:pt x="191" y="123"/>
                  </a:cubicBezTo>
                  <a:cubicBezTo>
                    <a:pt x="191" y="123"/>
                    <a:pt x="191" y="124"/>
                    <a:pt x="191" y="125"/>
                  </a:cubicBezTo>
                  <a:close/>
                  <a:moveTo>
                    <a:pt x="194" y="115"/>
                  </a:moveTo>
                  <a:cubicBezTo>
                    <a:pt x="194" y="117"/>
                    <a:pt x="193" y="118"/>
                    <a:pt x="193" y="119"/>
                  </a:cubicBezTo>
                  <a:cubicBezTo>
                    <a:pt x="192" y="118"/>
                    <a:pt x="191" y="116"/>
                    <a:pt x="191" y="114"/>
                  </a:cubicBezTo>
                  <a:cubicBezTo>
                    <a:pt x="191" y="110"/>
                    <a:pt x="191" y="105"/>
                    <a:pt x="191" y="100"/>
                  </a:cubicBezTo>
                  <a:cubicBezTo>
                    <a:pt x="193" y="94"/>
                    <a:pt x="195" y="89"/>
                    <a:pt x="198" y="84"/>
                  </a:cubicBezTo>
                  <a:cubicBezTo>
                    <a:pt x="197" y="93"/>
                    <a:pt x="195" y="105"/>
                    <a:pt x="194" y="115"/>
                  </a:cubicBezTo>
                  <a:close/>
                  <a:moveTo>
                    <a:pt x="202" y="90"/>
                  </a:moveTo>
                  <a:cubicBezTo>
                    <a:pt x="201" y="88"/>
                    <a:pt x="200" y="84"/>
                    <a:pt x="200" y="80"/>
                  </a:cubicBezTo>
                  <a:cubicBezTo>
                    <a:pt x="200" y="80"/>
                    <a:pt x="200" y="80"/>
                    <a:pt x="200" y="80"/>
                  </a:cubicBezTo>
                  <a:cubicBezTo>
                    <a:pt x="201" y="81"/>
                    <a:pt x="202" y="83"/>
                    <a:pt x="203" y="84"/>
                  </a:cubicBezTo>
                  <a:cubicBezTo>
                    <a:pt x="202" y="88"/>
                    <a:pt x="202" y="90"/>
                    <a:pt x="202" y="90"/>
                  </a:cubicBezTo>
                  <a:close/>
                  <a:moveTo>
                    <a:pt x="203" y="83"/>
                  </a:moveTo>
                  <a:cubicBezTo>
                    <a:pt x="202" y="81"/>
                    <a:pt x="201" y="80"/>
                    <a:pt x="201" y="79"/>
                  </a:cubicBezTo>
                  <a:cubicBezTo>
                    <a:pt x="202" y="78"/>
                    <a:pt x="203" y="76"/>
                    <a:pt x="204" y="75"/>
                  </a:cubicBezTo>
                  <a:cubicBezTo>
                    <a:pt x="203" y="78"/>
                    <a:pt x="203" y="81"/>
                    <a:pt x="203" y="83"/>
                  </a:cubicBezTo>
                  <a:close/>
                  <a:moveTo>
                    <a:pt x="209" y="104"/>
                  </a:moveTo>
                  <a:cubicBezTo>
                    <a:pt x="210" y="105"/>
                    <a:pt x="210" y="107"/>
                    <a:pt x="210" y="109"/>
                  </a:cubicBezTo>
                  <a:cubicBezTo>
                    <a:pt x="210" y="111"/>
                    <a:pt x="209" y="112"/>
                    <a:pt x="209" y="114"/>
                  </a:cubicBezTo>
                  <a:cubicBezTo>
                    <a:pt x="209" y="110"/>
                    <a:pt x="209" y="107"/>
                    <a:pt x="209" y="104"/>
                  </a:cubicBezTo>
                  <a:close/>
                  <a:moveTo>
                    <a:pt x="205" y="91"/>
                  </a:moveTo>
                  <a:cubicBezTo>
                    <a:pt x="206" y="91"/>
                    <a:pt x="206" y="91"/>
                    <a:pt x="206" y="91"/>
                  </a:cubicBezTo>
                  <a:cubicBezTo>
                    <a:pt x="206" y="91"/>
                    <a:pt x="206" y="91"/>
                    <a:pt x="205" y="91"/>
                  </a:cubicBezTo>
                  <a:close/>
                  <a:moveTo>
                    <a:pt x="206" y="124"/>
                  </a:moveTo>
                  <a:cubicBezTo>
                    <a:pt x="206" y="114"/>
                    <a:pt x="206" y="102"/>
                    <a:pt x="205" y="91"/>
                  </a:cubicBezTo>
                  <a:cubicBezTo>
                    <a:pt x="206" y="91"/>
                    <a:pt x="206" y="91"/>
                    <a:pt x="206" y="91"/>
                  </a:cubicBezTo>
                  <a:cubicBezTo>
                    <a:pt x="207" y="94"/>
                    <a:pt x="208" y="98"/>
                    <a:pt x="209" y="101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6" y="121"/>
                    <a:pt x="206" y="122"/>
                    <a:pt x="206" y="124"/>
                  </a:cubicBezTo>
                  <a:close/>
                  <a:moveTo>
                    <a:pt x="208" y="136"/>
                  </a:moveTo>
                  <a:cubicBezTo>
                    <a:pt x="208" y="134"/>
                    <a:pt x="208" y="133"/>
                    <a:pt x="208" y="131"/>
                  </a:cubicBezTo>
                  <a:cubicBezTo>
                    <a:pt x="209" y="126"/>
                    <a:pt x="211" y="121"/>
                    <a:pt x="212" y="116"/>
                  </a:cubicBezTo>
                  <a:cubicBezTo>
                    <a:pt x="212" y="118"/>
                    <a:pt x="212" y="121"/>
                    <a:pt x="213" y="123"/>
                  </a:cubicBezTo>
                  <a:cubicBezTo>
                    <a:pt x="213" y="124"/>
                    <a:pt x="212" y="124"/>
                    <a:pt x="212" y="124"/>
                  </a:cubicBezTo>
                  <a:cubicBezTo>
                    <a:pt x="211" y="128"/>
                    <a:pt x="210" y="132"/>
                    <a:pt x="208" y="136"/>
                  </a:cubicBezTo>
                  <a:close/>
                  <a:moveTo>
                    <a:pt x="212" y="141"/>
                  </a:moveTo>
                  <a:cubicBezTo>
                    <a:pt x="212" y="141"/>
                    <a:pt x="213" y="141"/>
                    <a:pt x="213" y="140"/>
                  </a:cubicBezTo>
                  <a:cubicBezTo>
                    <a:pt x="213" y="139"/>
                    <a:pt x="213" y="137"/>
                    <a:pt x="214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4" y="137"/>
                    <a:pt x="213" y="139"/>
                    <a:pt x="212" y="141"/>
                  </a:cubicBezTo>
                  <a:close/>
                  <a:moveTo>
                    <a:pt x="219" y="119"/>
                  </a:moveTo>
                  <a:cubicBezTo>
                    <a:pt x="219" y="119"/>
                    <a:pt x="218" y="118"/>
                    <a:pt x="218" y="118"/>
                  </a:cubicBezTo>
                  <a:cubicBezTo>
                    <a:pt x="218" y="116"/>
                    <a:pt x="219" y="115"/>
                    <a:pt x="219" y="113"/>
                  </a:cubicBezTo>
                  <a:cubicBezTo>
                    <a:pt x="219" y="112"/>
                    <a:pt x="219" y="112"/>
                    <a:pt x="219" y="111"/>
                  </a:cubicBezTo>
                  <a:cubicBezTo>
                    <a:pt x="220" y="112"/>
                    <a:pt x="220" y="113"/>
                    <a:pt x="220" y="115"/>
                  </a:cubicBezTo>
                  <a:cubicBezTo>
                    <a:pt x="220" y="116"/>
                    <a:pt x="219" y="118"/>
                    <a:pt x="219" y="119"/>
                  </a:cubicBezTo>
                  <a:close/>
                  <a:moveTo>
                    <a:pt x="226" y="136"/>
                  </a:moveTo>
                  <a:cubicBezTo>
                    <a:pt x="225" y="135"/>
                    <a:pt x="225" y="134"/>
                    <a:pt x="224" y="133"/>
                  </a:cubicBezTo>
                  <a:cubicBezTo>
                    <a:pt x="224" y="132"/>
                    <a:pt x="224" y="132"/>
                    <a:pt x="224" y="131"/>
                  </a:cubicBezTo>
                  <a:cubicBezTo>
                    <a:pt x="225" y="133"/>
                    <a:pt x="225" y="134"/>
                    <a:pt x="226" y="136"/>
                  </a:cubicBezTo>
                  <a:cubicBezTo>
                    <a:pt x="226" y="136"/>
                    <a:pt x="226" y="136"/>
                    <a:pt x="226" y="136"/>
                  </a:cubicBezTo>
                  <a:close/>
                  <a:moveTo>
                    <a:pt x="240" y="118"/>
                  </a:moveTo>
                  <a:cubicBezTo>
                    <a:pt x="240" y="118"/>
                    <a:pt x="240" y="117"/>
                    <a:pt x="240" y="117"/>
                  </a:cubicBezTo>
                  <a:cubicBezTo>
                    <a:pt x="240" y="117"/>
                    <a:pt x="240" y="117"/>
                    <a:pt x="240" y="117"/>
                  </a:cubicBezTo>
                  <a:cubicBezTo>
                    <a:pt x="240" y="118"/>
                    <a:pt x="240" y="118"/>
                    <a:pt x="240" y="118"/>
                  </a:cubicBezTo>
                  <a:close/>
                  <a:moveTo>
                    <a:pt x="246" y="105"/>
                  </a:moveTo>
                  <a:cubicBezTo>
                    <a:pt x="245" y="106"/>
                    <a:pt x="244" y="107"/>
                    <a:pt x="244" y="109"/>
                  </a:cubicBezTo>
                  <a:cubicBezTo>
                    <a:pt x="244" y="107"/>
                    <a:pt x="243" y="106"/>
                    <a:pt x="243" y="104"/>
                  </a:cubicBezTo>
                  <a:cubicBezTo>
                    <a:pt x="244" y="101"/>
                    <a:pt x="246" y="98"/>
                    <a:pt x="247" y="94"/>
                  </a:cubicBezTo>
                  <a:cubicBezTo>
                    <a:pt x="247" y="98"/>
                    <a:pt x="246" y="101"/>
                    <a:pt x="246" y="105"/>
                  </a:cubicBezTo>
                  <a:close/>
                  <a:moveTo>
                    <a:pt x="252" y="138"/>
                  </a:moveTo>
                  <a:cubicBezTo>
                    <a:pt x="251" y="137"/>
                    <a:pt x="251" y="136"/>
                    <a:pt x="251" y="135"/>
                  </a:cubicBezTo>
                  <a:cubicBezTo>
                    <a:pt x="251" y="133"/>
                    <a:pt x="251" y="131"/>
                    <a:pt x="251" y="129"/>
                  </a:cubicBezTo>
                  <a:cubicBezTo>
                    <a:pt x="251" y="131"/>
                    <a:pt x="251" y="133"/>
                    <a:pt x="252" y="134"/>
                  </a:cubicBezTo>
                  <a:cubicBezTo>
                    <a:pt x="252" y="135"/>
                    <a:pt x="252" y="137"/>
                    <a:pt x="252" y="138"/>
                  </a:cubicBezTo>
                  <a:close/>
                  <a:moveTo>
                    <a:pt x="253" y="123"/>
                  </a:moveTo>
                  <a:cubicBezTo>
                    <a:pt x="252" y="121"/>
                    <a:pt x="251" y="118"/>
                    <a:pt x="251" y="116"/>
                  </a:cubicBezTo>
                  <a:cubicBezTo>
                    <a:pt x="252" y="112"/>
                    <a:pt x="253" y="107"/>
                    <a:pt x="254" y="103"/>
                  </a:cubicBezTo>
                  <a:cubicBezTo>
                    <a:pt x="254" y="110"/>
                    <a:pt x="253" y="117"/>
                    <a:pt x="253" y="123"/>
                  </a:cubicBezTo>
                  <a:close/>
                  <a:moveTo>
                    <a:pt x="258" y="69"/>
                  </a:moveTo>
                  <a:cubicBezTo>
                    <a:pt x="260" y="72"/>
                    <a:pt x="262" y="75"/>
                    <a:pt x="264" y="79"/>
                  </a:cubicBezTo>
                  <a:cubicBezTo>
                    <a:pt x="263" y="79"/>
                    <a:pt x="263" y="79"/>
                    <a:pt x="263" y="79"/>
                  </a:cubicBezTo>
                  <a:cubicBezTo>
                    <a:pt x="262" y="76"/>
                    <a:pt x="260" y="72"/>
                    <a:pt x="258" y="69"/>
                  </a:cubicBezTo>
                  <a:cubicBezTo>
                    <a:pt x="258" y="69"/>
                    <a:pt x="258" y="69"/>
                    <a:pt x="258" y="69"/>
                  </a:cubicBezTo>
                  <a:close/>
                  <a:moveTo>
                    <a:pt x="258" y="74"/>
                  </a:moveTo>
                  <a:cubicBezTo>
                    <a:pt x="259" y="76"/>
                    <a:pt x="260" y="79"/>
                    <a:pt x="261" y="81"/>
                  </a:cubicBezTo>
                  <a:cubicBezTo>
                    <a:pt x="260" y="82"/>
                    <a:pt x="259" y="83"/>
                    <a:pt x="259" y="85"/>
                  </a:cubicBezTo>
                  <a:cubicBezTo>
                    <a:pt x="258" y="81"/>
                    <a:pt x="258" y="77"/>
                    <a:pt x="258" y="74"/>
                  </a:cubicBezTo>
                  <a:close/>
                  <a:moveTo>
                    <a:pt x="259" y="120"/>
                  </a:moveTo>
                  <a:cubicBezTo>
                    <a:pt x="259" y="115"/>
                    <a:pt x="259" y="111"/>
                    <a:pt x="259" y="106"/>
                  </a:cubicBezTo>
                  <a:cubicBezTo>
                    <a:pt x="260" y="109"/>
                    <a:pt x="260" y="112"/>
                    <a:pt x="261" y="114"/>
                  </a:cubicBezTo>
                  <a:cubicBezTo>
                    <a:pt x="260" y="116"/>
                    <a:pt x="260" y="118"/>
                    <a:pt x="259" y="120"/>
                  </a:cubicBezTo>
                  <a:close/>
                  <a:moveTo>
                    <a:pt x="262" y="109"/>
                  </a:moveTo>
                  <a:cubicBezTo>
                    <a:pt x="261" y="107"/>
                    <a:pt x="260" y="104"/>
                    <a:pt x="259" y="102"/>
                  </a:cubicBezTo>
                  <a:cubicBezTo>
                    <a:pt x="259" y="99"/>
                    <a:pt x="259" y="97"/>
                    <a:pt x="259" y="94"/>
                  </a:cubicBezTo>
                  <a:cubicBezTo>
                    <a:pt x="260" y="98"/>
                    <a:pt x="262" y="102"/>
                    <a:pt x="263" y="107"/>
                  </a:cubicBezTo>
                  <a:cubicBezTo>
                    <a:pt x="263" y="108"/>
                    <a:pt x="262" y="108"/>
                    <a:pt x="262" y="109"/>
                  </a:cubicBezTo>
                  <a:close/>
                  <a:moveTo>
                    <a:pt x="266" y="96"/>
                  </a:moveTo>
                  <a:cubicBezTo>
                    <a:pt x="265" y="98"/>
                    <a:pt x="264" y="101"/>
                    <a:pt x="264" y="104"/>
                  </a:cubicBezTo>
                  <a:cubicBezTo>
                    <a:pt x="262" y="100"/>
                    <a:pt x="261" y="96"/>
                    <a:pt x="259" y="92"/>
                  </a:cubicBezTo>
                  <a:cubicBezTo>
                    <a:pt x="259" y="92"/>
                    <a:pt x="259" y="92"/>
                    <a:pt x="259" y="92"/>
                  </a:cubicBezTo>
                  <a:cubicBezTo>
                    <a:pt x="260" y="89"/>
                    <a:pt x="261" y="86"/>
                    <a:pt x="263" y="84"/>
                  </a:cubicBezTo>
                  <a:cubicBezTo>
                    <a:pt x="264" y="87"/>
                    <a:pt x="265" y="90"/>
                    <a:pt x="266" y="93"/>
                  </a:cubicBezTo>
                  <a:cubicBezTo>
                    <a:pt x="266" y="94"/>
                    <a:pt x="266" y="95"/>
                    <a:pt x="266" y="96"/>
                  </a:cubicBezTo>
                  <a:close/>
                  <a:moveTo>
                    <a:pt x="267" y="90"/>
                  </a:moveTo>
                  <a:cubicBezTo>
                    <a:pt x="266" y="87"/>
                    <a:pt x="265" y="84"/>
                    <a:pt x="264" y="82"/>
                  </a:cubicBezTo>
                  <a:cubicBezTo>
                    <a:pt x="264" y="81"/>
                    <a:pt x="264" y="81"/>
                    <a:pt x="265" y="81"/>
                  </a:cubicBezTo>
                  <a:cubicBezTo>
                    <a:pt x="266" y="83"/>
                    <a:pt x="267" y="86"/>
                    <a:pt x="267" y="89"/>
                  </a:cubicBezTo>
                  <a:cubicBezTo>
                    <a:pt x="267" y="89"/>
                    <a:pt x="267" y="89"/>
                    <a:pt x="267" y="90"/>
                  </a:cubicBezTo>
                  <a:close/>
                  <a:moveTo>
                    <a:pt x="265" y="79"/>
                  </a:moveTo>
                  <a:cubicBezTo>
                    <a:pt x="266" y="78"/>
                    <a:pt x="267" y="77"/>
                    <a:pt x="268" y="76"/>
                  </a:cubicBezTo>
                  <a:cubicBezTo>
                    <a:pt x="268" y="78"/>
                    <a:pt x="269" y="79"/>
                    <a:pt x="269" y="80"/>
                  </a:cubicBezTo>
                  <a:cubicBezTo>
                    <a:pt x="269" y="82"/>
                    <a:pt x="268" y="84"/>
                    <a:pt x="268" y="85"/>
                  </a:cubicBezTo>
                  <a:cubicBezTo>
                    <a:pt x="267" y="83"/>
                    <a:pt x="266" y="81"/>
                    <a:pt x="265" y="79"/>
                  </a:cubicBezTo>
                  <a:close/>
                  <a:moveTo>
                    <a:pt x="268" y="116"/>
                  </a:moveTo>
                  <a:cubicBezTo>
                    <a:pt x="269" y="111"/>
                    <a:pt x="269" y="106"/>
                    <a:pt x="269" y="102"/>
                  </a:cubicBezTo>
                  <a:cubicBezTo>
                    <a:pt x="270" y="105"/>
                    <a:pt x="271" y="108"/>
                    <a:pt x="272" y="111"/>
                  </a:cubicBezTo>
                  <a:cubicBezTo>
                    <a:pt x="271" y="113"/>
                    <a:pt x="270" y="116"/>
                    <a:pt x="269" y="118"/>
                  </a:cubicBezTo>
                  <a:cubicBezTo>
                    <a:pt x="269" y="117"/>
                    <a:pt x="268" y="117"/>
                    <a:pt x="268" y="116"/>
                  </a:cubicBezTo>
                  <a:close/>
                  <a:moveTo>
                    <a:pt x="273" y="130"/>
                  </a:moveTo>
                  <a:cubicBezTo>
                    <a:pt x="272" y="128"/>
                    <a:pt x="272" y="127"/>
                    <a:pt x="271" y="125"/>
                  </a:cubicBezTo>
                  <a:cubicBezTo>
                    <a:pt x="272" y="123"/>
                    <a:pt x="272" y="122"/>
                    <a:pt x="273" y="120"/>
                  </a:cubicBezTo>
                  <a:cubicBezTo>
                    <a:pt x="273" y="122"/>
                    <a:pt x="273" y="124"/>
                    <a:pt x="274" y="127"/>
                  </a:cubicBezTo>
                  <a:cubicBezTo>
                    <a:pt x="273" y="128"/>
                    <a:pt x="273" y="129"/>
                    <a:pt x="273" y="130"/>
                  </a:cubicBezTo>
                  <a:close/>
                  <a:moveTo>
                    <a:pt x="275" y="105"/>
                  </a:moveTo>
                  <a:cubicBezTo>
                    <a:pt x="273" y="100"/>
                    <a:pt x="272" y="95"/>
                    <a:pt x="270" y="91"/>
                  </a:cubicBezTo>
                  <a:cubicBezTo>
                    <a:pt x="270" y="89"/>
                    <a:pt x="270" y="87"/>
                    <a:pt x="271" y="85"/>
                  </a:cubicBezTo>
                  <a:cubicBezTo>
                    <a:pt x="273" y="91"/>
                    <a:pt x="274" y="97"/>
                    <a:pt x="276" y="103"/>
                  </a:cubicBezTo>
                  <a:cubicBezTo>
                    <a:pt x="275" y="104"/>
                    <a:pt x="275" y="105"/>
                    <a:pt x="275" y="105"/>
                  </a:cubicBezTo>
                  <a:close/>
                  <a:moveTo>
                    <a:pt x="277" y="111"/>
                  </a:moveTo>
                  <a:cubicBezTo>
                    <a:pt x="276" y="110"/>
                    <a:pt x="276" y="110"/>
                    <a:pt x="276" y="109"/>
                  </a:cubicBezTo>
                  <a:cubicBezTo>
                    <a:pt x="276" y="109"/>
                    <a:pt x="276" y="108"/>
                    <a:pt x="277" y="107"/>
                  </a:cubicBezTo>
                  <a:cubicBezTo>
                    <a:pt x="277" y="108"/>
                    <a:pt x="277" y="109"/>
                    <a:pt x="277" y="109"/>
                  </a:cubicBezTo>
                  <a:cubicBezTo>
                    <a:pt x="277" y="110"/>
                    <a:pt x="277" y="110"/>
                    <a:pt x="277" y="111"/>
                  </a:cubicBezTo>
                  <a:close/>
                  <a:moveTo>
                    <a:pt x="287" y="94"/>
                  </a:moveTo>
                  <a:cubicBezTo>
                    <a:pt x="287" y="95"/>
                    <a:pt x="288" y="95"/>
                    <a:pt x="288" y="96"/>
                  </a:cubicBezTo>
                  <a:cubicBezTo>
                    <a:pt x="288" y="97"/>
                    <a:pt x="287" y="97"/>
                    <a:pt x="287" y="98"/>
                  </a:cubicBezTo>
                  <a:cubicBezTo>
                    <a:pt x="287" y="96"/>
                    <a:pt x="287" y="95"/>
                    <a:pt x="287" y="94"/>
                  </a:cubicBezTo>
                  <a:close/>
                  <a:moveTo>
                    <a:pt x="289" y="109"/>
                  </a:moveTo>
                  <a:cubicBezTo>
                    <a:pt x="288" y="106"/>
                    <a:pt x="288" y="104"/>
                    <a:pt x="287" y="102"/>
                  </a:cubicBezTo>
                  <a:cubicBezTo>
                    <a:pt x="287" y="101"/>
                    <a:pt x="287" y="99"/>
                    <a:pt x="287" y="98"/>
                  </a:cubicBezTo>
                  <a:cubicBezTo>
                    <a:pt x="287" y="98"/>
                    <a:pt x="288" y="97"/>
                    <a:pt x="288" y="97"/>
                  </a:cubicBezTo>
                  <a:cubicBezTo>
                    <a:pt x="288" y="98"/>
                    <a:pt x="289" y="100"/>
                    <a:pt x="289" y="102"/>
                  </a:cubicBezTo>
                  <a:cubicBezTo>
                    <a:pt x="289" y="104"/>
                    <a:pt x="289" y="107"/>
                    <a:pt x="289" y="109"/>
                  </a:cubicBezTo>
                  <a:close/>
                  <a:moveTo>
                    <a:pt x="291" y="84"/>
                  </a:moveTo>
                  <a:cubicBezTo>
                    <a:pt x="291" y="89"/>
                    <a:pt x="290" y="94"/>
                    <a:pt x="290" y="98"/>
                  </a:cubicBezTo>
                  <a:cubicBezTo>
                    <a:pt x="289" y="97"/>
                    <a:pt x="289" y="96"/>
                    <a:pt x="288" y="95"/>
                  </a:cubicBezTo>
                  <a:cubicBezTo>
                    <a:pt x="289" y="94"/>
                    <a:pt x="290" y="92"/>
                    <a:pt x="290" y="91"/>
                  </a:cubicBezTo>
                  <a:cubicBezTo>
                    <a:pt x="290" y="92"/>
                    <a:pt x="289" y="94"/>
                    <a:pt x="288" y="95"/>
                  </a:cubicBezTo>
                  <a:cubicBezTo>
                    <a:pt x="288" y="94"/>
                    <a:pt x="287" y="93"/>
                    <a:pt x="287" y="92"/>
                  </a:cubicBezTo>
                  <a:cubicBezTo>
                    <a:pt x="287" y="90"/>
                    <a:pt x="287" y="88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75"/>
                    <a:pt x="286" y="65"/>
                    <a:pt x="286" y="56"/>
                  </a:cubicBezTo>
                  <a:cubicBezTo>
                    <a:pt x="289" y="58"/>
                    <a:pt x="292" y="61"/>
                    <a:pt x="294" y="63"/>
                  </a:cubicBezTo>
                  <a:cubicBezTo>
                    <a:pt x="293" y="69"/>
                    <a:pt x="292" y="76"/>
                    <a:pt x="291" y="84"/>
                  </a:cubicBezTo>
                  <a:cubicBezTo>
                    <a:pt x="291" y="82"/>
                    <a:pt x="290" y="81"/>
                    <a:pt x="290" y="79"/>
                  </a:cubicBezTo>
                  <a:cubicBezTo>
                    <a:pt x="290" y="81"/>
                    <a:pt x="291" y="83"/>
                    <a:pt x="291" y="84"/>
                  </a:cubicBezTo>
                  <a:close/>
                  <a:moveTo>
                    <a:pt x="293" y="139"/>
                  </a:moveTo>
                  <a:cubicBezTo>
                    <a:pt x="292" y="134"/>
                    <a:pt x="292" y="128"/>
                    <a:pt x="292" y="121"/>
                  </a:cubicBezTo>
                  <a:cubicBezTo>
                    <a:pt x="292" y="125"/>
                    <a:pt x="293" y="129"/>
                    <a:pt x="293" y="133"/>
                  </a:cubicBezTo>
                  <a:cubicBezTo>
                    <a:pt x="293" y="135"/>
                    <a:pt x="293" y="137"/>
                    <a:pt x="293" y="139"/>
                  </a:cubicBezTo>
                  <a:close/>
                  <a:moveTo>
                    <a:pt x="292" y="104"/>
                  </a:moveTo>
                  <a:cubicBezTo>
                    <a:pt x="292" y="102"/>
                    <a:pt x="293" y="99"/>
                    <a:pt x="293" y="96"/>
                  </a:cubicBezTo>
                  <a:cubicBezTo>
                    <a:pt x="293" y="100"/>
                    <a:pt x="293" y="104"/>
                    <a:pt x="293" y="107"/>
                  </a:cubicBezTo>
                  <a:cubicBezTo>
                    <a:pt x="293" y="106"/>
                    <a:pt x="293" y="105"/>
                    <a:pt x="292" y="104"/>
                  </a:cubicBezTo>
                  <a:close/>
                  <a:moveTo>
                    <a:pt x="304" y="85"/>
                  </a:moveTo>
                  <a:cubicBezTo>
                    <a:pt x="303" y="90"/>
                    <a:pt x="303" y="96"/>
                    <a:pt x="302" y="103"/>
                  </a:cubicBezTo>
                  <a:cubicBezTo>
                    <a:pt x="301" y="101"/>
                    <a:pt x="301" y="100"/>
                    <a:pt x="300" y="99"/>
                  </a:cubicBezTo>
                  <a:cubicBezTo>
                    <a:pt x="300" y="96"/>
                    <a:pt x="299" y="93"/>
                    <a:pt x="298" y="90"/>
                  </a:cubicBezTo>
                  <a:cubicBezTo>
                    <a:pt x="299" y="93"/>
                    <a:pt x="299" y="96"/>
                    <a:pt x="299" y="99"/>
                  </a:cubicBezTo>
                  <a:cubicBezTo>
                    <a:pt x="299" y="104"/>
                    <a:pt x="299" y="112"/>
                    <a:pt x="298" y="120"/>
                  </a:cubicBezTo>
                  <a:cubicBezTo>
                    <a:pt x="297" y="110"/>
                    <a:pt x="295" y="100"/>
                    <a:pt x="293" y="91"/>
                  </a:cubicBezTo>
                  <a:cubicBezTo>
                    <a:pt x="294" y="81"/>
                    <a:pt x="295" y="72"/>
                    <a:pt x="295" y="65"/>
                  </a:cubicBezTo>
                  <a:cubicBezTo>
                    <a:pt x="299" y="69"/>
                    <a:pt x="302" y="74"/>
                    <a:pt x="304" y="79"/>
                  </a:cubicBezTo>
                  <a:cubicBezTo>
                    <a:pt x="304" y="81"/>
                    <a:pt x="304" y="83"/>
                    <a:pt x="304" y="85"/>
                  </a:cubicBezTo>
                  <a:close/>
                  <a:moveTo>
                    <a:pt x="304" y="75"/>
                  </a:moveTo>
                  <a:cubicBezTo>
                    <a:pt x="304" y="75"/>
                    <a:pt x="304" y="75"/>
                    <a:pt x="304" y="75"/>
                  </a:cubicBezTo>
                  <a:cubicBezTo>
                    <a:pt x="304" y="73"/>
                    <a:pt x="304" y="72"/>
                    <a:pt x="304" y="70"/>
                  </a:cubicBezTo>
                  <a:cubicBezTo>
                    <a:pt x="304" y="70"/>
                    <a:pt x="304" y="72"/>
                    <a:pt x="304" y="75"/>
                  </a:cubicBezTo>
                  <a:cubicBezTo>
                    <a:pt x="301" y="71"/>
                    <a:pt x="299" y="67"/>
                    <a:pt x="296" y="64"/>
                  </a:cubicBezTo>
                  <a:cubicBezTo>
                    <a:pt x="296" y="60"/>
                    <a:pt x="296" y="57"/>
                    <a:pt x="297" y="54"/>
                  </a:cubicBezTo>
                  <a:cubicBezTo>
                    <a:pt x="300" y="58"/>
                    <a:pt x="303" y="62"/>
                    <a:pt x="305" y="65"/>
                  </a:cubicBezTo>
                  <a:cubicBezTo>
                    <a:pt x="305" y="68"/>
                    <a:pt x="305" y="71"/>
                    <a:pt x="304" y="75"/>
                  </a:cubicBezTo>
                  <a:close/>
                  <a:moveTo>
                    <a:pt x="308" y="117"/>
                  </a:moveTo>
                  <a:cubicBezTo>
                    <a:pt x="307" y="119"/>
                    <a:pt x="307" y="122"/>
                    <a:pt x="306" y="125"/>
                  </a:cubicBezTo>
                  <a:cubicBezTo>
                    <a:pt x="306" y="124"/>
                    <a:pt x="306" y="123"/>
                    <a:pt x="306" y="122"/>
                  </a:cubicBezTo>
                  <a:cubicBezTo>
                    <a:pt x="306" y="110"/>
                    <a:pt x="307" y="98"/>
                    <a:pt x="307" y="87"/>
                  </a:cubicBezTo>
                  <a:cubicBezTo>
                    <a:pt x="308" y="92"/>
                    <a:pt x="309" y="98"/>
                    <a:pt x="310" y="103"/>
                  </a:cubicBezTo>
                  <a:cubicBezTo>
                    <a:pt x="309" y="108"/>
                    <a:pt x="309" y="112"/>
                    <a:pt x="308" y="117"/>
                  </a:cubicBezTo>
                  <a:close/>
                  <a:moveTo>
                    <a:pt x="311" y="89"/>
                  </a:moveTo>
                  <a:cubicBezTo>
                    <a:pt x="310" y="86"/>
                    <a:pt x="309" y="83"/>
                    <a:pt x="307" y="80"/>
                  </a:cubicBezTo>
                  <a:cubicBezTo>
                    <a:pt x="307" y="76"/>
                    <a:pt x="307" y="72"/>
                    <a:pt x="307" y="68"/>
                  </a:cubicBezTo>
                  <a:cubicBezTo>
                    <a:pt x="309" y="71"/>
                    <a:pt x="311" y="74"/>
                    <a:pt x="313" y="78"/>
                  </a:cubicBezTo>
                  <a:cubicBezTo>
                    <a:pt x="312" y="81"/>
                    <a:pt x="312" y="85"/>
                    <a:pt x="311" y="89"/>
                  </a:cubicBezTo>
                  <a:close/>
                  <a:moveTo>
                    <a:pt x="317" y="96"/>
                  </a:moveTo>
                  <a:cubicBezTo>
                    <a:pt x="316" y="97"/>
                    <a:pt x="315" y="98"/>
                    <a:pt x="315" y="99"/>
                  </a:cubicBezTo>
                  <a:cubicBezTo>
                    <a:pt x="314" y="98"/>
                    <a:pt x="314" y="97"/>
                    <a:pt x="314" y="96"/>
                  </a:cubicBezTo>
                  <a:cubicBezTo>
                    <a:pt x="314" y="91"/>
                    <a:pt x="314" y="86"/>
                    <a:pt x="314" y="80"/>
                  </a:cubicBezTo>
                  <a:cubicBezTo>
                    <a:pt x="315" y="83"/>
                    <a:pt x="317" y="86"/>
                    <a:pt x="317" y="88"/>
                  </a:cubicBezTo>
                  <a:cubicBezTo>
                    <a:pt x="317" y="91"/>
                    <a:pt x="317" y="93"/>
                    <a:pt x="317" y="96"/>
                  </a:cubicBezTo>
                  <a:close/>
                  <a:moveTo>
                    <a:pt x="338" y="105"/>
                  </a:moveTo>
                  <a:cubicBezTo>
                    <a:pt x="338" y="103"/>
                    <a:pt x="337" y="102"/>
                    <a:pt x="336" y="101"/>
                  </a:cubicBezTo>
                  <a:cubicBezTo>
                    <a:pt x="338" y="96"/>
                    <a:pt x="339" y="92"/>
                    <a:pt x="341" y="89"/>
                  </a:cubicBezTo>
                  <a:cubicBezTo>
                    <a:pt x="341" y="89"/>
                    <a:pt x="341" y="89"/>
                    <a:pt x="341" y="90"/>
                  </a:cubicBezTo>
                  <a:cubicBezTo>
                    <a:pt x="340" y="95"/>
                    <a:pt x="339" y="100"/>
                    <a:pt x="338" y="105"/>
                  </a:cubicBezTo>
                  <a:close/>
                  <a:moveTo>
                    <a:pt x="354" y="81"/>
                  </a:moveTo>
                  <a:cubicBezTo>
                    <a:pt x="355" y="81"/>
                    <a:pt x="355" y="81"/>
                    <a:pt x="355" y="81"/>
                  </a:cubicBezTo>
                  <a:cubicBezTo>
                    <a:pt x="355" y="81"/>
                    <a:pt x="355" y="81"/>
                    <a:pt x="354" y="81"/>
                  </a:cubicBezTo>
                  <a:cubicBezTo>
                    <a:pt x="354" y="81"/>
                    <a:pt x="354" y="81"/>
                    <a:pt x="354" y="81"/>
                  </a:cubicBezTo>
                  <a:close/>
                  <a:moveTo>
                    <a:pt x="354" y="88"/>
                  </a:moveTo>
                  <a:cubicBezTo>
                    <a:pt x="354" y="89"/>
                    <a:pt x="354" y="89"/>
                    <a:pt x="354" y="89"/>
                  </a:cubicBezTo>
                  <a:cubicBezTo>
                    <a:pt x="354" y="90"/>
                    <a:pt x="354" y="91"/>
                    <a:pt x="354" y="91"/>
                  </a:cubicBezTo>
                  <a:cubicBezTo>
                    <a:pt x="354" y="90"/>
                    <a:pt x="354" y="89"/>
                    <a:pt x="354" y="88"/>
                  </a:cubicBezTo>
                  <a:close/>
                  <a:moveTo>
                    <a:pt x="345" y="122"/>
                  </a:moveTo>
                  <a:cubicBezTo>
                    <a:pt x="345" y="122"/>
                    <a:pt x="345" y="123"/>
                    <a:pt x="345" y="123"/>
                  </a:cubicBezTo>
                  <a:cubicBezTo>
                    <a:pt x="345" y="123"/>
                    <a:pt x="345" y="123"/>
                    <a:pt x="345" y="123"/>
                  </a:cubicBezTo>
                  <a:cubicBezTo>
                    <a:pt x="345" y="123"/>
                    <a:pt x="345" y="122"/>
                    <a:pt x="345" y="122"/>
                  </a:cubicBezTo>
                  <a:cubicBezTo>
                    <a:pt x="345" y="120"/>
                    <a:pt x="346" y="118"/>
                    <a:pt x="346" y="115"/>
                  </a:cubicBezTo>
                  <a:cubicBezTo>
                    <a:pt x="346" y="115"/>
                    <a:pt x="346" y="115"/>
                    <a:pt x="346" y="115"/>
                  </a:cubicBezTo>
                  <a:cubicBezTo>
                    <a:pt x="346" y="116"/>
                    <a:pt x="346" y="117"/>
                    <a:pt x="346" y="118"/>
                  </a:cubicBezTo>
                  <a:cubicBezTo>
                    <a:pt x="346" y="119"/>
                    <a:pt x="345" y="121"/>
                    <a:pt x="345" y="122"/>
                  </a:cubicBezTo>
                  <a:close/>
                  <a:moveTo>
                    <a:pt x="348" y="70"/>
                  </a:moveTo>
                  <a:cubicBezTo>
                    <a:pt x="350" y="73"/>
                    <a:pt x="352" y="76"/>
                    <a:pt x="354" y="79"/>
                  </a:cubicBezTo>
                  <a:cubicBezTo>
                    <a:pt x="353" y="81"/>
                    <a:pt x="353" y="82"/>
                    <a:pt x="353" y="84"/>
                  </a:cubicBezTo>
                  <a:cubicBezTo>
                    <a:pt x="353" y="84"/>
                    <a:pt x="353" y="84"/>
                    <a:pt x="352" y="84"/>
                  </a:cubicBezTo>
                  <a:cubicBezTo>
                    <a:pt x="352" y="82"/>
                    <a:pt x="351" y="81"/>
                    <a:pt x="350" y="79"/>
                  </a:cubicBezTo>
                  <a:cubicBezTo>
                    <a:pt x="351" y="81"/>
                    <a:pt x="352" y="83"/>
                    <a:pt x="352" y="84"/>
                  </a:cubicBezTo>
                  <a:cubicBezTo>
                    <a:pt x="351" y="87"/>
                    <a:pt x="349" y="90"/>
                    <a:pt x="348" y="93"/>
                  </a:cubicBezTo>
                  <a:cubicBezTo>
                    <a:pt x="348" y="85"/>
                    <a:pt x="348" y="77"/>
                    <a:pt x="348" y="70"/>
                  </a:cubicBezTo>
                  <a:close/>
                  <a:moveTo>
                    <a:pt x="350" y="98"/>
                  </a:moveTo>
                  <a:cubicBezTo>
                    <a:pt x="350" y="98"/>
                    <a:pt x="350" y="97"/>
                    <a:pt x="350" y="96"/>
                  </a:cubicBezTo>
                  <a:cubicBezTo>
                    <a:pt x="350" y="97"/>
                    <a:pt x="350" y="98"/>
                    <a:pt x="350" y="98"/>
                  </a:cubicBezTo>
                  <a:cubicBezTo>
                    <a:pt x="350" y="99"/>
                    <a:pt x="350" y="100"/>
                    <a:pt x="350" y="100"/>
                  </a:cubicBezTo>
                  <a:cubicBezTo>
                    <a:pt x="349" y="99"/>
                    <a:pt x="349" y="98"/>
                    <a:pt x="349" y="97"/>
                  </a:cubicBezTo>
                  <a:cubicBezTo>
                    <a:pt x="349" y="95"/>
                    <a:pt x="350" y="93"/>
                    <a:pt x="351" y="90"/>
                  </a:cubicBezTo>
                  <a:cubicBezTo>
                    <a:pt x="351" y="93"/>
                    <a:pt x="350" y="96"/>
                    <a:pt x="350" y="98"/>
                  </a:cubicBezTo>
                  <a:close/>
                  <a:moveTo>
                    <a:pt x="357" y="100"/>
                  </a:moveTo>
                  <a:cubicBezTo>
                    <a:pt x="355" y="104"/>
                    <a:pt x="354" y="107"/>
                    <a:pt x="353" y="110"/>
                  </a:cubicBezTo>
                  <a:cubicBezTo>
                    <a:pt x="352" y="110"/>
                    <a:pt x="352" y="109"/>
                    <a:pt x="352" y="109"/>
                  </a:cubicBezTo>
                  <a:cubicBezTo>
                    <a:pt x="352" y="106"/>
                    <a:pt x="353" y="102"/>
                    <a:pt x="353" y="99"/>
                  </a:cubicBezTo>
                  <a:cubicBezTo>
                    <a:pt x="354" y="95"/>
                    <a:pt x="354" y="92"/>
                    <a:pt x="354" y="90"/>
                  </a:cubicBezTo>
                  <a:cubicBezTo>
                    <a:pt x="355" y="93"/>
                    <a:pt x="356" y="96"/>
                    <a:pt x="357" y="100"/>
                  </a:cubicBezTo>
                  <a:cubicBezTo>
                    <a:pt x="357" y="100"/>
                    <a:pt x="357" y="100"/>
                    <a:pt x="357" y="100"/>
                  </a:cubicBezTo>
                  <a:close/>
                  <a:moveTo>
                    <a:pt x="357" y="97"/>
                  </a:moveTo>
                  <a:cubicBezTo>
                    <a:pt x="356" y="95"/>
                    <a:pt x="355" y="92"/>
                    <a:pt x="354" y="89"/>
                  </a:cubicBezTo>
                  <a:cubicBezTo>
                    <a:pt x="354" y="89"/>
                    <a:pt x="354" y="89"/>
                    <a:pt x="354" y="88"/>
                  </a:cubicBezTo>
                  <a:cubicBezTo>
                    <a:pt x="354" y="89"/>
                    <a:pt x="354" y="89"/>
                    <a:pt x="354" y="89"/>
                  </a:cubicBezTo>
                  <a:cubicBezTo>
                    <a:pt x="354" y="89"/>
                    <a:pt x="354" y="88"/>
                    <a:pt x="354" y="88"/>
                  </a:cubicBezTo>
                  <a:cubicBezTo>
                    <a:pt x="354" y="87"/>
                    <a:pt x="354" y="86"/>
                    <a:pt x="354" y="85"/>
                  </a:cubicBezTo>
                  <a:cubicBezTo>
                    <a:pt x="355" y="84"/>
                    <a:pt x="355" y="83"/>
                    <a:pt x="355" y="82"/>
                  </a:cubicBezTo>
                  <a:cubicBezTo>
                    <a:pt x="357" y="84"/>
                    <a:pt x="358" y="86"/>
                    <a:pt x="358" y="88"/>
                  </a:cubicBezTo>
                  <a:cubicBezTo>
                    <a:pt x="358" y="91"/>
                    <a:pt x="358" y="94"/>
                    <a:pt x="357" y="97"/>
                  </a:cubicBezTo>
                  <a:close/>
                  <a:moveTo>
                    <a:pt x="360" y="135"/>
                  </a:moveTo>
                  <a:cubicBezTo>
                    <a:pt x="359" y="136"/>
                    <a:pt x="359" y="137"/>
                    <a:pt x="359" y="138"/>
                  </a:cubicBezTo>
                  <a:cubicBezTo>
                    <a:pt x="359" y="137"/>
                    <a:pt x="359" y="136"/>
                    <a:pt x="360" y="135"/>
                  </a:cubicBezTo>
                  <a:cubicBezTo>
                    <a:pt x="360" y="135"/>
                    <a:pt x="360" y="135"/>
                    <a:pt x="360" y="135"/>
                  </a:cubicBezTo>
                  <a:close/>
                  <a:moveTo>
                    <a:pt x="359" y="83"/>
                  </a:moveTo>
                  <a:cubicBezTo>
                    <a:pt x="358" y="82"/>
                    <a:pt x="358" y="81"/>
                    <a:pt x="357" y="80"/>
                  </a:cubicBezTo>
                  <a:cubicBezTo>
                    <a:pt x="358" y="78"/>
                    <a:pt x="359" y="77"/>
                    <a:pt x="360" y="75"/>
                  </a:cubicBezTo>
                  <a:cubicBezTo>
                    <a:pt x="360" y="78"/>
                    <a:pt x="359" y="81"/>
                    <a:pt x="359" y="83"/>
                  </a:cubicBezTo>
                  <a:close/>
                  <a:moveTo>
                    <a:pt x="360" y="74"/>
                  </a:moveTo>
                  <a:cubicBezTo>
                    <a:pt x="359" y="76"/>
                    <a:pt x="357" y="77"/>
                    <a:pt x="356" y="79"/>
                  </a:cubicBezTo>
                  <a:cubicBezTo>
                    <a:pt x="356" y="78"/>
                    <a:pt x="355" y="78"/>
                    <a:pt x="355" y="77"/>
                  </a:cubicBezTo>
                  <a:cubicBezTo>
                    <a:pt x="355" y="72"/>
                    <a:pt x="356" y="67"/>
                    <a:pt x="356" y="65"/>
                  </a:cubicBezTo>
                  <a:cubicBezTo>
                    <a:pt x="357" y="67"/>
                    <a:pt x="359" y="70"/>
                    <a:pt x="360" y="72"/>
                  </a:cubicBezTo>
                  <a:cubicBezTo>
                    <a:pt x="360" y="73"/>
                    <a:pt x="360" y="73"/>
                    <a:pt x="360" y="74"/>
                  </a:cubicBezTo>
                  <a:close/>
                  <a:moveTo>
                    <a:pt x="362" y="75"/>
                  </a:moveTo>
                  <a:cubicBezTo>
                    <a:pt x="364" y="78"/>
                    <a:pt x="365" y="81"/>
                    <a:pt x="367" y="84"/>
                  </a:cubicBezTo>
                  <a:cubicBezTo>
                    <a:pt x="365" y="86"/>
                    <a:pt x="364" y="88"/>
                    <a:pt x="363" y="90"/>
                  </a:cubicBezTo>
                  <a:cubicBezTo>
                    <a:pt x="363" y="89"/>
                    <a:pt x="362" y="89"/>
                    <a:pt x="362" y="89"/>
                  </a:cubicBezTo>
                  <a:cubicBezTo>
                    <a:pt x="362" y="84"/>
                    <a:pt x="362" y="79"/>
                    <a:pt x="362" y="75"/>
                  </a:cubicBezTo>
                  <a:close/>
                  <a:moveTo>
                    <a:pt x="364" y="110"/>
                  </a:moveTo>
                  <a:cubicBezTo>
                    <a:pt x="364" y="107"/>
                    <a:pt x="363" y="104"/>
                    <a:pt x="362" y="101"/>
                  </a:cubicBezTo>
                  <a:cubicBezTo>
                    <a:pt x="362" y="101"/>
                    <a:pt x="362" y="100"/>
                    <a:pt x="362" y="100"/>
                  </a:cubicBezTo>
                  <a:cubicBezTo>
                    <a:pt x="362" y="100"/>
                    <a:pt x="363" y="99"/>
                    <a:pt x="363" y="99"/>
                  </a:cubicBezTo>
                  <a:cubicBezTo>
                    <a:pt x="364" y="101"/>
                    <a:pt x="365" y="104"/>
                    <a:pt x="365" y="106"/>
                  </a:cubicBezTo>
                  <a:cubicBezTo>
                    <a:pt x="365" y="108"/>
                    <a:pt x="365" y="109"/>
                    <a:pt x="364" y="110"/>
                  </a:cubicBezTo>
                  <a:close/>
                  <a:moveTo>
                    <a:pt x="365" y="93"/>
                  </a:moveTo>
                  <a:cubicBezTo>
                    <a:pt x="366" y="91"/>
                    <a:pt x="367" y="88"/>
                    <a:pt x="368" y="86"/>
                  </a:cubicBezTo>
                  <a:cubicBezTo>
                    <a:pt x="368" y="87"/>
                    <a:pt x="369" y="87"/>
                    <a:pt x="369" y="88"/>
                  </a:cubicBezTo>
                  <a:cubicBezTo>
                    <a:pt x="368" y="91"/>
                    <a:pt x="368" y="94"/>
                    <a:pt x="367" y="97"/>
                  </a:cubicBezTo>
                  <a:cubicBezTo>
                    <a:pt x="366" y="96"/>
                    <a:pt x="366" y="95"/>
                    <a:pt x="365" y="93"/>
                  </a:cubicBezTo>
                  <a:close/>
                  <a:moveTo>
                    <a:pt x="368" y="130"/>
                  </a:moveTo>
                  <a:cubicBezTo>
                    <a:pt x="368" y="129"/>
                    <a:pt x="368" y="128"/>
                    <a:pt x="368" y="126"/>
                  </a:cubicBezTo>
                  <a:cubicBezTo>
                    <a:pt x="368" y="124"/>
                    <a:pt x="368" y="121"/>
                    <a:pt x="369" y="119"/>
                  </a:cubicBezTo>
                  <a:cubicBezTo>
                    <a:pt x="369" y="120"/>
                    <a:pt x="370" y="122"/>
                    <a:pt x="370" y="124"/>
                  </a:cubicBezTo>
                  <a:cubicBezTo>
                    <a:pt x="369" y="126"/>
                    <a:pt x="369" y="128"/>
                    <a:pt x="368" y="130"/>
                  </a:cubicBezTo>
                  <a:close/>
                  <a:moveTo>
                    <a:pt x="372" y="108"/>
                  </a:moveTo>
                  <a:cubicBezTo>
                    <a:pt x="372" y="107"/>
                    <a:pt x="371" y="106"/>
                    <a:pt x="371" y="105"/>
                  </a:cubicBezTo>
                  <a:cubicBezTo>
                    <a:pt x="372" y="102"/>
                    <a:pt x="372" y="99"/>
                    <a:pt x="373" y="96"/>
                  </a:cubicBezTo>
                  <a:cubicBezTo>
                    <a:pt x="373" y="96"/>
                    <a:pt x="373" y="97"/>
                    <a:pt x="373" y="97"/>
                  </a:cubicBezTo>
                  <a:cubicBezTo>
                    <a:pt x="373" y="101"/>
                    <a:pt x="373" y="105"/>
                    <a:pt x="372" y="108"/>
                  </a:cubicBezTo>
                  <a:close/>
                  <a:moveTo>
                    <a:pt x="374" y="86"/>
                  </a:moveTo>
                  <a:cubicBezTo>
                    <a:pt x="374" y="86"/>
                    <a:pt x="374" y="86"/>
                    <a:pt x="374" y="86"/>
                  </a:cubicBezTo>
                  <a:cubicBezTo>
                    <a:pt x="375" y="85"/>
                    <a:pt x="375" y="84"/>
                    <a:pt x="375" y="83"/>
                  </a:cubicBezTo>
                  <a:cubicBezTo>
                    <a:pt x="375" y="84"/>
                    <a:pt x="375" y="85"/>
                    <a:pt x="374" y="86"/>
                  </a:cubicBezTo>
                  <a:close/>
                  <a:moveTo>
                    <a:pt x="382" y="80"/>
                  </a:moveTo>
                  <a:cubicBezTo>
                    <a:pt x="382" y="77"/>
                    <a:pt x="382" y="75"/>
                    <a:pt x="383" y="73"/>
                  </a:cubicBezTo>
                  <a:cubicBezTo>
                    <a:pt x="383" y="73"/>
                    <a:pt x="383" y="74"/>
                    <a:pt x="384" y="74"/>
                  </a:cubicBezTo>
                  <a:cubicBezTo>
                    <a:pt x="383" y="76"/>
                    <a:pt x="383" y="78"/>
                    <a:pt x="382" y="80"/>
                  </a:cubicBezTo>
                  <a:close/>
                  <a:moveTo>
                    <a:pt x="394" y="93"/>
                  </a:moveTo>
                  <a:cubicBezTo>
                    <a:pt x="393" y="95"/>
                    <a:pt x="393" y="96"/>
                    <a:pt x="392" y="97"/>
                  </a:cubicBezTo>
                  <a:cubicBezTo>
                    <a:pt x="392" y="94"/>
                    <a:pt x="392" y="91"/>
                    <a:pt x="392" y="88"/>
                  </a:cubicBezTo>
                  <a:cubicBezTo>
                    <a:pt x="392" y="89"/>
                    <a:pt x="393" y="91"/>
                    <a:pt x="394" y="93"/>
                  </a:cubicBezTo>
                  <a:close/>
                  <a:moveTo>
                    <a:pt x="395" y="88"/>
                  </a:moveTo>
                  <a:cubicBezTo>
                    <a:pt x="394" y="86"/>
                    <a:pt x="393" y="85"/>
                    <a:pt x="392" y="84"/>
                  </a:cubicBezTo>
                  <a:cubicBezTo>
                    <a:pt x="394" y="81"/>
                    <a:pt x="395" y="78"/>
                    <a:pt x="397" y="75"/>
                  </a:cubicBezTo>
                  <a:cubicBezTo>
                    <a:pt x="396" y="79"/>
                    <a:pt x="396" y="84"/>
                    <a:pt x="395" y="88"/>
                  </a:cubicBezTo>
                  <a:close/>
                  <a:moveTo>
                    <a:pt x="404" y="77"/>
                  </a:moveTo>
                  <a:cubicBezTo>
                    <a:pt x="404" y="77"/>
                    <a:pt x="404" y="77"/>
                    <a:pt x="404" y="77"/>
                  </a:cubicBezTo>
                  <a:cubicBezTo>
                    <a:pt x="404" y="74"/>
                    <a:pt x="403" y="70"/>
                    <a:pt x="403" y="66"/>
                  </a:cubicBezTo>
                  <a:cubicBezTo>
                    <a:pt x="403" y="65"/>
                    <a:pt x="404" y="64"/>
                    <a:pt x="404" y="63"/>
                  </a:cubicBezTo>
                  <a:cubicBezTo>
                    <a:pt x="405" y="67"/>
                    <a:pt x="405" y="72"/>
                    <a:pt x="404" y="77"/>
                  </a:cubicBezTo>
                  <a:close/>
                  <a:moveTo>
                    <a:pt x="407" y="72"/>
                  </a:moveTo>
                  <a:cubicBezTo>
                    <a:pt x="407" y="67"/>
                    <a:pt x="406" y="64"/>
                    <a:pt x="405" y="61"/>
                  </a:cubicBezTo>
                  <a:cubicBezTo>
                    <a:pt x="406" y="60"/>
                    <a:pt x="407" y="58"/>
                    <a:pt x="408" y="57"/>
                  </a:cubicBezTo>
                  <a:cubicBezTo>
                    <a:pt x="409" y="62"/>
                    <a:pt x="408" y="67"/>
                    <a:pt x="407" y="72"/>
                  </a:cubicBezTo>
                  <a:close/>
                  <a:moveTo>
                    <a:pt x="423" y="89"/>
                  </a:moveTo>
                  <a:cubicBezTo>
                    <a:pt x="424" y="91"/>
                    <a:pt x="425" y="92"/>
                    <a:pt x="426" y="94"/>
                  </a:cubicBezTo>
                  <a:cubicBezTo>
                    <a:pt x="425" y="95"/>
                    <a:pt x="424" y="97"/>
                    <a:pt x="424" y="98"/>
                  </a:cubicBezTo>
                  <a:cubicBezTo>
                    <a:pt x="423" y="97"/>
                    <a:pt x="423" y="96"/>
                    <a:pt x="422" y="95"/>
                  </a:cubicBezTo>
                  <a:cubicBezTo>
                    <a:pt x="423" y="93"/>
                    <a:pt x="423" y="91"/>
                    <a:pt x="423" y="89"/>
                  </a:cubicBezTo>
                  <a:close/>
                  <a:moveTo>
                    <a:pt x="422" y="101"/>
                  </a:moveTo>
                  <a:cubicBezTo>
                    <a:pt x="422" y="101"/>
                    <a:pt x="422" y="100"/>
                    <a:pt x="422" y="100"/>
                  </a:cubicBezTo>
                  <a:cubicBezTo>
                    <a:pt x="422" y="100"/>
                    <a:pt x="422" y="101"/>
                    <a:pt x="423" y="101"/>
                  </a:cubicBezTo>
                  <a:cubicBezTo>
                    <a:pt x="422" y="101"/>
                    <a:pt x="422" y="101"/>
                    <a:pt x="422" y="101"/>
                  </a:cubicBezTo>
                  <a:close/>
                  <a:moveTo>
                    <a:pt x="424" y="122"/>
                  </a:moveTo>
                  <a:cubicBezTo>
                    <a:pt x="424" y="121"/>
                    <a:pt x="424" y="120"/>
                    <a:pt x="423" y="119"/>
                  </a:cubicBezTo>
                  <a:cubicBezTo>
                    <a:pt x="423" y="117"/>
                    <a:pt x="423" y="115"/>
                    <a:pt x="423" y="112"/>
                  </a:cubicBezTo>
                  <a:cubicBezTo>
                    <a:pt x="423" y="110"/>
                    <a:pt x="424" y="108"/>
                    <a:pt x="424" y="106"/>
                  </a:cubicBezTo>
                  <a:cubicBezTo>
                    <a:pt x="424" y="108"/>
                    <a:pt x="425" y="110"/>
                    <a:pt x="425" y="112"/>
                  </a:cubicBezTo>
                  <a:cubicBezTo>
                    <a:pt x="425" y="115"/>
                    <a:pt x="425" y="119"/>
                    <a:pt x="424" y="122"/>
                  </a:cubicBezTo>
                  <a:close/>
                  <a:moveTo>
                    <a:pt x="426" y="103"/>
                  </a:moveTo>
                  <a:cubicBezTo>
                    <a:pt x="426" y="102"/>
                    <a:pt x="425" y="101"/>
                    <a:pt x="425" y="100"/>
                  </a:cubicBezTo>
                  <a:cubicBezTo>
                    <a:pt x="425" y="99"/>
                    <a:pt x="426" y="97"/>
                    <a:pt x="426" y="96"/>
                  </a:cubicBezTo>
                  <a:cubicBezTo>
                    <a:pt x="426" y="97"/>
                    <a:pt x="427" y="97"/>
                    <a:pt x="427" y="98"/>
                  </a:cubicBezTo>
                  <a:cubicBezTo>
                    <a:pt x="427" y="100"/>
                    <a:pt x="427" y="101"/>
                    <a:pt x="426" y="103"/>
                  </a:cubicBezTo>
                  <a:close/>
                  <a:moveTo>
                    <a:pt x="427" y="96"/>
                  </a:moveTo>
                  <a:cubicBezTo>
                    <a:pt x="427" y="95"/>
                    <a:pt x="427" y="95"/>
                    <a:pt x="427" y="95"/>
                  </a:cubicBezTo>
                  <a:cubicBezTo>
                    <a:pt x="427" y="93"/>
                    <a:pt x="427" y="92"/>
                    <a:pt x="428" y="91"/>
                  </a:cubicBezTo>
                  <a:cubicBezTo>
                    <a:pt x="428" y="93"/>
                    <a:pt x="427" y="94"/>
                    <a:pt x="427" y="96"/>
                  </a:cubicBezTo>
                  <a:close/>
                  <a:moveTo>
                    <a:pt x="433" y="95"/>
                  </a:moveTo>
                  <a:cubicBezTo>
                    <a:pt x="434" y="92"/>
                    <a:pt x="434" y="89"/>
                    <a:pt x="434" y="86"/>
                  </a:cubicBezTo>
                  <a:cubicBezTo>
                    <a:pt x="435" y="86"/>
                    <a:pt x="435" y="87"/>
                    <a:pt x="436" y="88"/>
                  </a:cubicBezTo>
                  <a:cubicBezTo>
                    <a:pt x="435" y="90"/>
                    <a:pt x="434" y="92"/>
                    <a:pt x="433" y="95"/>
                  </a:cubicBezTo>
                  <a:close/>
                  <a:moveTo>
                    <a:pt x="444" y="99"/>
                  </a:moveTo>
                  <a:cubicBezTo>
                    <a:pt x="444" y="99"/>
                    <a:pt x="443" y="98"/>
                    <a:pt x="443" y="97"/>
                  </a:cubicBezTo>
                  <a:cubicBezTo>
                    <a:pt x="443" y="93"/>
                    <a:pt x="443" y="89"/>
                    <a:pt x="443" y="84"/>
                  </a:cubicBezTo>
                  <a:cubicBezTo>
                    <a:pt x="445" y="80"/>
                    <a:pt x="447" y="76"/>
                    <a:pt x="450" y="72"/>
                  </a:cubicBezTo>
                  <a:cubicBezTo>
                    <a:pt x="450" y="74"/>
                    <a:pt x="450" y="78"/>
                    <a:pt x="451" y="82"/>
                  </a:cubicBezTo>
                  <a:cubicBezTo>
                    <a:pt x="448" y="88"/>
                    <a:pt x="446" y="93"/>
                    <a:pt x="444" y="99"/>
                  </a:cubicBezTo>
                  <a:close/>
                  <a:moveTo>
                    <a:pt x="452" y="75"/>
                  </a:moveTo>
                  <a:cubicBezTo>
                    <a:pt x="452" y="73"/>
                    <a:pt x="451" y="71"/>
                    <a:pt x="451" y="69"/>
                  </a:cubicBezTo>
                  <a:cubicBezTo>
                    <a:pt x="452" y="68"/>
                    <a:pt x="453" y="67"/>
                    <a:pt x="453" y="66"/>
                  </a:cubicBezTo>
                  <a:cubicBezTo>
                    <a:pt x="453" y="69"/>
                    <a:pt x="453" y="72"/>
                    <a:pt x="452" y="75"/>
                  </a:cubicBezTo>
                  <a:close/>
                  <a:moveTo>
                    <a:pt x="460" y="72"/>
                  </a:moveTo>
                  <a:cubicBezTo>
                    <a:pt x="460" y="71"/>
                    <a:pt x="460" y="70"/>
                    <a:pt x="460" y="70"/>
                  </a:cubicBezTo>
                  <a:cubicBezTo>
                    <a:pt x="460" y="69"/>
                    <a:pt x="460" y="69"/>
                    <a:pt x="460" y="69"/>
                  </a:cubicBezTo>
                  <a:cubicBezTo>
                    <a:pt x="460" y="71"/>
                    <a:pt x="460" y="72"/>
                    <a:pt x="460" y="72"/>
                  </a:cubicBezTo>
                  <a:close/>
                  <a:moveTo>
                    <a:pt x="460" y="67"/>
                  </a:moveTo>
                  <a:cubicBezTo>
                    <a:pt x="460" y="67"/>
                    <a:pt x="460" y="68"/>
                    <a:pt x="460" y="68"/>
                  </a:cubicBezTo>
                  <a:cubicBezTo>
                    <a:pt x="460" y="65"/>
                    <a:pt x="459" y="61"/>
                    <a:pt x="459" y="58"/>
                  </a:cubicBezTo>
                  <a:cubicBezTo>
                    <a:pt x="460" y="57"/>
                    <a:pt x="460" y="56"/>
                    <a:pt x="461" y="56"/>
                  </a:cubicBezTo>
                  <a:cubicBezTo>
                    <a:pt x="461" y="60"/>
                    <a:pt x="460" y="64"/>
                    <a:pt x="460" y="67"/>
                  </a:cubicBezTo>
                  <a:close/>
                  <a:moveTo>
                    <a:pt x="468" y="123"/>
                  </a:moveTo>
                  <a:cubicBezTo>
                    <a:pt x="467" y="124"/>
                    <a:pt x="466" y="126"/>
                    <a:pt x="466" y="127"/>
                  </a:cubicBezTo>
                  <a:cubicBezTo>
                    <a:pt x="466" y="124"/>
                    <a:pt x="466" y="122"/>
                    <a:pt x="466" y="119"/>
                  </a:cubicBezTo>
                  <a:cubicBezTo>
                    <a:pt x="467" y="116"/>
                    <a:pt x="468" y="112"/>
                    <a:pt x="469" y="109"/>
                  </a:cubicBezTo>
                  <a:cubicBezTo>
                    <a:pt x="469" y="111"/>
                    <a:pt x="469" y="112"/>
                    <a:pt x="469" y="114"/>
                  </a:cubicBezTo>
                  <a:cubicBezTo>
                    <a:pt x="469" y="117"/>
                    <a:pt x="468" y="120"/>
                    <a:pt x="468" y="123"/>
                  </a:cubicBezTo>
                  <a:close/>
                  <a:moveTo>
                    <a:pt x="470" y="110"/>
                  </a:moveTo>
                  <a:cubicBezTo>
                    <a:pt x="470" y="111"/>
                    <a:pt x="470" y="112"/>
                    <a:pt x="470" y="112"/>
                  </a:cubicBezTo>
                  <a:cubicBezTo>
                    <a:pt x="469" y="111"/>
                    <a:pt x="469" y="110"/>
                    <a:pt x="469" y="109"/>
                  </a:cubicBezTo>
                  <a:cubicBezTo>
                    <a:pt x="469" y="107"/>
                    <a:pt x="470" y="105"/>
                    <a:pt x="471" y="102"/>
                  </a:cubicBezTo>
                  <a:cubicBezTo>
                    <a:pt x="470" y="105"/>
                    <a:pt x="470" y="108"/>
                    <a:pt x="470" y="110"/>
                  </a:cubicBezTo>
                  <a:close/>
                  <a:moveTo>
                    <a:pt x="472" y="83"/>
                  </a:moveTo>
                  <a:cubicBezTo>
                    <a:pt x="472" y="83"/>
                    <a:pt x="472" y="84"/>
                    <a:pt x="471" y="85"/>
                  </a:cubicBezTo>
                  <a:cubicBezTo>
                    <a:pt x="470" y="87"/>
                    <a:pt x="470" y="89"/>
                    <a:pt x="469" y="91"/>
                  </a:cubicBezTo>
                  <a:cubicBezTo>
                    <a:pt x="468" y="91"/>
                    <a:pt x="468" y="91"/>
                    <a:pt x="468" y="91"/>
                  </a:cubicBezTo>
                  <a:cubicBezTo>
                    <a:pt x="468" y="91"/>
                    <a:pt x="468" y="91"/>
                    <a:pt x="469" y="91"/>
                  </a:cubicBezTo>
                  <a:cubicBezTo>
                    <a:pt x="468" y="92"/>
                    <a:pt x="467" y="94"/>
                    <a:pt x="466" y="96"/>
                  </a:cubicBezTo>
                  <a:cubicBezTo>
                    <a:pt x="467" y="90"/>
                    <a:pt x="467" y="85"/>
                    <a:pt x="469" y="79"/>
                  </a:cubicBezTo>
                  <a:cubicBezTo>
                    <a:pt x="467" y="85"/>
                    <a:pt x="466" y="90"/>
                    <a:pt x="465" y="95"/>
                  </a:cubicBezTo>
                  <a:cubicBezTo>
                    <a:pt x="465" y="85"/>
                    <a:pt x="465" y="74"/>
                    <a:pt x="465" y="63"/>
                  </a:cubicBezTo>
                  <a:cubicBezTo>
                    <a:pt x="468" y="60"/>
                    <a:pt x="471" y="58"/>
                    <a:pt x="474" y="55"/>
                  </a:cubicBezTo>
                  <a:cubicBezTo>
                    <a:pt x="474" y="62"/>
                    <a:pt x="473" y="72"/>
                    <a:pt x="472" y="83"/>
                  </a:cubicBezTo>
                  <a:close/>
                  <a:moveTo>
                    <a:pt x="478" y="105"/>
                  </a:moveTo>
                  <a:cubicBezTo>
                    <a:pt x="478" y="102"/>
                    <a:pt x="478" y="99"/>
                    <a:pt x="478" y="96"/>
                  </a:cubicBezTo>
                  <a:cubicBezTo>
                    <a:pt x="478" y="97"/>
                    <a:pt x="479" y="99"/>
                    <a:pt x="479" y="100"/>
                  </a:cubicBezTo>
                  <a:cubicBezTo>
                    <a:pt x="479" y="102"/>
                    <a:pt x="479" y="103"/>
                    <a:pt x="478" y="105"/>
                  </a:cubicBezTo>
                  <a:cubicBezTo>
                    <a:pt x="478" y="105"/>
                    <a:pt x="478" y="105"/>
                    <a:pt x="478" y="105"/>
                  </a:cubicBezTo>
                  <a:close/>
                  <a:moveTo>
                    <a:pt x="480" y="130"/>
                  </a:moveTo>
                  <a:cubicBezTo>
                    <a:pt x="480" y="130"/>
                    <a:pt x="479" y="130"/>
                    <a:pt x="479" y="130"/>
                  </a:cubicBezTo>
                  <a:cubicBezTo>
                    <a:pt x="479" y="129"/>
                    <a:pt x="479" y="128"/>
                    <a:pt x="479" y="127"/>
                  </a:cubicBezTo>
                  <a:cubicBezTo>
                    <a:pt x="479" y="128"/>
                    <a:pt x="480" y="128"/>
                    <a:pt x="480" y="129"/>
                  </a:cubicBezTo>
                  <a:cubicBezTo>
                    <a:pt x="480" y="129"/>
                    <a:pt x="480" y="130"/>
                    <a:pt x="480" y="130"/>
                  </a:cubicBezTo>
                  <a:close/>
                  <a:moveTo>
                    <a:pt x="486" y="74"/>
                  </a:moveTo>
                  <a:cubicBezTo>
                    <a:pt x="486" y="73"/>
                    <a:pt x="486" y="71"/>
                    <a:pt x="486" y="70"/>
                  </a:cubicBezTo>
                  <a:cubicBezTo>
                    <a:pt x="487" y="70"/>
                    <a:pt x="487" y="71"/>
                    <a:pt x="487" y="72"/>
                  </a:cubicBezTo>
                  <a:cubicBezTo>
                    <a:pt x="487" y="72"/>
                    <a:pt x="487" y="73"/>
                    <a:pt x="486" y="74"/>
                  </a:cubicBezTo>
                  <a:close/>
                  <a:moveTo>
                    <a:pt x="490" y="139"/>
                  </a:moveTo>
                  <a:cubicBezTo>
                    <a:pt x="490" y="140"/>
                    <a:pt x="490" y="141"/>
                    <a:pt x="490" y="142"/>
                  </a:cubicBezTo>
                  <a:cubicBezTo>
                    <a:pt x="490" y="142"/>
                    <a:pt x="490" y="141"/>
                    <a:pt x="490" y="139"/>
                  </a:cubicBezTo>
                  <a:cubicBezTo>
                    <a:pt x="490" y="138"/>
                    <a:pt x="490" y="137"/>
                    <a:pt x="491" y="136"/>
                  </a:cubicBezTo>
                  <a:cubicBezTo>
                    <a:pt x="491" y="137"/>
                    <a:pt x="491" y="137"/>
                    <a:pt x="491" y="137"/>
                  </a:cubicBezTo>
                  <a:cubicBezTo>
                    <a:pt x="491" y="138"/>
                    <a:pt x="490" y="139"/>
                    <a:pt x="490" y="139"/>
                  </a:cubicBezTo>
                  <a:close/>
                  <a:moveTo>
                    <a:pt x="492" y="122"/>
                  </a:moveTo>
                  <a:cubicBezTo>
                    <a:pt x="492" y="122"/>
                    <a:pt x="492" y="122"/>
                    <a:pt x="492" y="122"/>
                  </a:cubicBezTo>
                  <a:cubicBezTo>
                    <a:pt x="492" y="121"/>
                    <a:pt x="492" y="121"/>
                    <a:pt x="492" y="121"/>
                  </a:cubicBezTo>
                  <a:cubicBezTo>
                    <a:pt x="492" y="121"/>
                    <a:pt x="492" y="122"/>
                    <a:pt x="492" y="122"/>
                  </a:cubicBezTo>
                  <a:close/>
                  <a:moveTo>
                    <a:pt x="493" y="110"/>
                  </a:moveTo>
                  <a:cubicBezTo>
                    <a:pt x="492" y="112"/>
                    <a:pt x="491" y="114"/>
                    <a:pt x="491" y="116"/>
                  </a:cubicBezTo>
                  <a:cubicBezTo>
                    <a:pt x="490" y="116"/>
                    <a:pt x="490" y="117"/>
                    <a:pt x="490" y="117"/>
                  </a:cubicBezTo>
                  <a:cubicBezTo>
                    <a:pt x="490" y="113"/>
                    <a:pt x="489" y="108"/>
                    <a:pt x="489" y="104"/>
                  </a:cubicBezTo>
                  <a:cubicBezTo>
                    <a:pt x="490" y="101"/>
                    <a:pt x="491" y="98"/>
                    <a:pt x="492" y="96"/>
                  </a:cubicBezTo>
                  <a:cubicBezTo>
                    <a:pt x="492" y="95"/>
                    <a:pt x="492" y="95"/>
                    <a:pt x="492" y="95"/>
                  </a:cubicBezTo>
                  <a:cubicBezTo>
                    <a:pt x="492" y="98"/>
                    <a:pt x="493" y="101"/>
                    <a:pt x="493" y="104"/>
                  </a:cubicBezTo>
                  <a:cubicBezTo>
                    <a:pt x="493" y="106"/>
                    <a:pt x="493" y="108"/>
                    <a:pt x="493" y="110"/>
                  </a:cubicBezTo>
                  <a:close/>
                  <a:moveTo>
                    <a:pt x="494" y="99"/>
                  </a:moveTo>
                  <a:cubicBezTo>
                    <a:pt x="493" y="97"/>
                    <a:pt x="493" y="96"/>
                    <a:pt x="492" y="94"/>
                  </a:cubicBezTo>
                  <a:cubicBezTo>
                    <a:pt x="493" y="93"/>
                    <a:pt x="494" y="92"/>
                    <a:pt x="494" y="91"/>
                  </a:cubicBezTo>
                  <a:cubicBezTo>
                    <a:pt x="494" y="94"/>
                    <a:pt x="494" y="96"/>
                    <a:pt x="494" y="99"/>
                  </a:cubicBezTo>
                  <a:close/>
                  <a:moveTo>
                    <a:pt x="488" y="91"/>
                  </a:moveTo>
                  <a:cubicBezTo>
                    <a:pt x="488" y="89"/>
                    <a:pt x="488" y="88"/>
                    <a:pt x="488" y="87"/>
                  </a:cubicBezTo>
                  <a:cubicBezTo>
                    <a:pt x="489" y="83"/>
                    <a:pt x="490" y="80"/>
                    <a:pt x="491" y="76"/>
                  </a:cubicBezTo>
                  <a:cubicBezTo>
                    <a:pt x="493" y="78"/>
                    <a:pt x="494" y="80"/>
                    <a:pt x="495" y="82"/>
                  </a:cubicBezTo>
                  <a:cubicBezTo>
                    <a:pt x="492" y="85"/>
                    <a:pt x="490" y="88"/>
                    <a:pt x="488" y="91"/>
                  </a:cubicBezTo>
                  <a:close/>
                  <a:moveTo>
                    <a:pt x="495" y="79"/>
                  </a:moveTo>
                  <a:cubicBezTo>
                    <a:pt x="494" y="77"/>
                    <a:pt x="493" y="76"/>
                    <a:pt x="492" y="75"/>
                  </a:cubicBezTo>
                  <a:cubicBezTo>
                    <a:pt x="493" y="72"/>
                    <a:pt x="495" y="68"/>
                    <a:pt x="496" y="65"/>
                  </a:cubicBezTo>
                  <a:cubicBezTo>
                    <a:pt x="496" y="68"/>
                    <a:pt x="496" y="73"/>
                    <a:pt x="495" y="79"/>
                  </a:cubicBezTo>
                  <a:close/>
                  <a:moveTo>
                    <a:pt x="514" y="54"/>
                  </a:moveTo>
                  <a:cubicBezTo>
                    <a:pt x="513" y="56"/>
                    <a:pt x="512" y="58"/>
                    <a:pt x="512" y="61"/>
                  </a:cubicBezTo>
                  <a:cubicBezTo>
                    <a:pt x="508" y="65"/>
                    <a:pt x="505" y="69"/>
                    <a:pt x="501" y="74"/>
                  </a:cubicBezTo>
                  <a:cubicBezTo>
                    <a:pt x="504" y="67"/>
                    <a:pt x="509" y="60"/>
                    <a:pt x="514" y="54"/>
                  </a:cubicBezTo>
                  <a:close/>
                  <a:moveTo>
                    <a:pt x="499" y="89"/>
                  </a:moveTo>
                  <a:cubicBezTo>
                    <a:pt x="499" y="90"/>
                    <a:pt x="500" y="91"/>
                    <a:pt x="500" y="92"/>
                  </a:cubicBezTo>
                  <a:cubicBezTo>
                    <a:pt x="500" y="92"/>
                    <a:pt x="500" y="93"/>
                    <a:pt x="499" y="94"/>
                  </a:cubicBezTo>
                  <a:cubicBezTo>
                    <a:pt x="499" y="92"/>
                    <a:pt x="499" y="91"/>
                    <a:pt x="499" y="89"/>
                  </a:cubicBezTo>
                  <a:close/>
                  <a:moveTo>
                    <a:pt x="502" y="127"/>
                  </a:moveTo>
                  <a:cubicBezTo>
                    <a:pt x="501" y="125"/>
                    <a:pt x="501" y="124"/>
                    <a:pt x="500" y="122"/>
                  </a:cubicBezTo>
                  <a:cubicBezTo>
                    <a:pt x="500" y="117"/>
                    <a:pt x="500" y="111"/>
                    <a:pt x="500" y="105"/>
                  </a:cubicBezTo>
                  <a:cubicBezTo>
                    <a:pt x="501" y="104"/>
                    <a:pt x="502" y="102"/>
                    <a:pt x="503" y="101"/>
                  </a:cubicBezTo>
                  <a:cubicBezTo>
                    <a:pt x="502" y="102"/>
                    <a:pt x="501" y="103"/>
                    <a:pt x="500" y="105"/>
                  </a:cubicBezTo>
                  <a:cubicBezTo>
                    <a:pt x="500" y="102"/>
                    <a:pt x="499" y="99"/>
                    <a:pt x="499" y="96"/>
                  </a:cubicBezTo>
                  <a:cubicBezTo>
                    <a:pt x="500" y="95"/>
                    <a:pt x="500" y="94"/>
                    <a:pt x="501" y="93"/>
                  </a:cubicBezTo>
                  <a:cubicBezTo>
                    <a:pt x="502" y="95"/>
                    <a:pt x="503" y="97"/>
                    <a:pt x="503" y="100"/>
                  </a:cubicBezTo>
                  <a:cubicBezTo>
                    <a:pt x="503" y="100"/>
                    <a:pt x="503" y="100"/>
                    <a:pt x="503" y="101"/>
                  </a:cubicBezTo>
                  <a:cubicBezTo>
                    <a:pt x="503" y="101"/>
                    <a:pt x="503" y="100"/>
                    <a:pt x="503" y="100"/>
                  </a:cubicBezTo>
                  <a:cubicBezTo>
                    <a:pt x="504" y="101"/>
                    <a:pt x="504" y="102"/>
                    <a:pt x="505" y="103"/>
                  </a:cubicBezTo>
                  <a:cubicBezTo>
                    <a:pt x="503" y="112"/>
                    <a:pt x="502" y="120"/>
                    <a:pt x="502" y="127"/>
                  </a:cubicBezTo>
                  <a:close/>
                  <a:moveTo>
                    <a:pt x="503" y="87"/>
                  </a:moveTo>
                  <a:cubicBezTo>
                    <a:pt x="503" y="86"/>
                    <a:pt x="504" y="84"/>
                    <a:pt x="505" y="83"/>
                  </a:cubicBezTo>
                  <a:cubicBezTo>
                    <a:pt x="504" y="84"/>
                    <a:pt x="503" y="86"/>
                    <a:pt x="502" y="87"/>
                  </a:cubicBezTo>
                  <a:cubicBezTo>
                    <a:pt x="501" y="86"/>
                    <a:pt x="500" y="85"/>
                    <a:pt x="499" y="83"/>
                  </a:cubicBezTo>
                  <a:cubicBezTo>
                    <a:pt x="503" y="78"/>
                    <a:pt x="507" y="72"/>
                    <a:pt x="511" y="67"/>
                  </a:cubicBezTo>
                  <a:cubicBezTo>
                    <a:pt x="510" y="72"/>
                    <a:pt x="509" y="76"/>
                    <a:pt x="508" y="81"/>
                  </a:cubicBezTo>
                  <a:cubicBezTo>
                    <a:pt x="508" y="80"/>
                    <a:pt x="507" y="79"/>
                    <a:pt x="507" y="79"/>
                  </a:cubicBezTo>
                  <a:cubicBezTo>
                    <a:pt x="507" y="78"/>
                    <a:pt x="508" y="77"/>
                    <a:pt x="509" y="75"/>
                  </a:cubicBezTo>
                  <a:cubicBezTo>
                    <a:pt x="508" y="76"/>
                    <a:pt x="507" y="77"/>
                    <a:pt x="507" y="79"/>
                  </a:cubicBezTo>
                  <a:cubicBezTo>
                    <a:pt x="506" y="78"/>
                    <a:pt x="506" y="77"/>
                    <a:pt x="505" y="77"/>
                  </a:cubicBezTo>
                  <a:cubicBezTo>
                    <a:pt x="506" y="78"/>
                    <a:pt x="506" y="79"/>
                    <a:pt x="506" y="79"/>
                  </a:cubicBezTo>
                  <a:cubicBezTo>
                    <a:pt x="506" y="80"/>
                    <a:pt x="505" y="81"/>
                    <a:pt x="505" y="83"/>
                  </a:cubicBezTo>
                  <a:cubicBezTo>
                    <a:pt x="505" y="82"/>
                    <a:pt x="506" y="81"/>
                    <a:pt x="506" y="80"/>
                  </a:cubicBezTo>
                  <a:cubicBezTo>
                    <a:pt x="507" y="81"/>
                    <a:pt x="507" y="82"/>
                    <a:pt x="508" y="84"/>
                  </a:cubicBezTo>
                  <a:cubicBezTo>
                    <a:pt x="507" y="87"/>
                    <a:pt x="507" y="90"/>
                    <a:pt x="506" y="93"/>
                  </a:cubicBezTo>
                  <a:cubicBezTo>
                    <a:pt x="505" y="91"/>
                    <a:pt x="504" y="89"/>
                    <a:pt x="503" y="87"/>
                  </a:cubicBezTo>
                  <a:close/>
                  <a:moveTo>
                    <a:pt x="508" y="144"/>
                  </a:moveTo>
                  <a:cubicBezTo>
                    <a:pt x="507" y="144"/>
                    <a:pt x="507" y="143"/>
                    <a:pt x="507" y="143"/>
                  </a:cubicBezTo>
                  <a:cubicBezTo>
                    <a:pt x="507" y="140"/>
                    <a:pt x="507" y="136"/>
                    <a:pt x="508" y="131"/>
                  </a:cubicBezTo>
                  <a:cubicBezTo>
                    <a:pt x="509" y="128"/>
                    <a:pt x="509" y="126"/>
                    <a:pt x="509" y="125"/>
                  </a:cubicBezTo>
                  <a:cubicBezTo>
                    <a:pt x="509" y="125"/>
                    <a:pt x="509" y="124"/>
                    <a:pt x="509" y="124"/>
                  </a:cubicBezTo>
                  <a:cubicBezTo>
                    <a:pt x="509" y="124"/>
                    <a:pt x="508" y="124"/>
                    <a:pt x="508" y="124"/>
                  </a:cubicBezTo>
                  <a:cubicBezTo>
                    <a:pt x="508" y="122"/>
                    <a:pt x="508" y="120"/>
                    <a:pt x="509" y="118"/>
                  </a:cubicBezTo>
                  <a:cubicBezTo>
                    <a:pt x="509" y="121"/>
                    <a:pt x="510" y="125"/>
                    <a:pt x="510" y="128"/>
                  </a:cubicBezTo>
                  <a:cubicBezTo>
                    <a:pt x="509" y="136"/>
                    <a:pt x="508" y="141"/>
                    <a:pt x="508" y="144"/>
                  </a:cubicBezTo>
                  <a:close/>
                  <a:moveTo>
                    <a:pt x="514" y="107"/>
                  </a:moveTo>
                  <a:cubicBezTo>
                    <a:pt x="513" y="105"/>
                    <a:pt x="512" y="102"/>
                    <a:pt x="510" y="100"/>
                  </a:cubicBezTo>
                  <a:cubicBezTo>
                    <a:pt x="511" y="97"/>
                    <a:pt x="511" y="95"/>
                    <a:pt x="511" y="93"/>
                  </a:cubicBezTo>
                  <a:cubicBezTo>
                    <a:pt x="512" y="96"/>
                    <a:pt x="514" y="99"/>
                    <a:pt x="515" y="102"/>
                  </a:cubicBezTo>
                  <a:cubicBezTo>
                    <a:pt x="515" y="104"/>
                    <a:pt x="514" y="105"/>
                    <a:pt x="514" y="107"/>
                  </a:cubicBezTo>
                  <a:close/>
                  <a:moveTo>
                    <a:pt x="515" y="159"/>
                  </a:move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5" y="159"/>
                    <a:pt x="515" y="159"/>
                  </a:cubicBezTo>
                  <a:close/>
                  <a:moveTo>
                    <a:pt x="516" y="96"/>
                  </a:moveTo>
                  <a:cubicBezTo>
                    <a:pt x="515" y="93"/>
                    <a:pt x="514" y="91"/>
                    <a:pt x="512" y="88"/>
                  </a:cubicBezTo>
                  <a:cubicBezTo>
                    <a:pt x="515" y="85"/>
                    <a:pt x="517" y="82"/>
                    <a:pt x="518" y="79"/>
                  </a:cubicBezTo>
                  <a:cubicBezTo>
                    <a:pt x="518" y="84"/>
                    <a:pt x="517" y="90"/>
                    <a:pt x="516" y="96"/>
                  </a:cubicBezTo>
                  <a:close/>
                  <a:moveTo>
                    <a:pt x="519" y="75"/>
                  </a:moveTo>
                  <a:cubicBezTo>
                    <a:pt x="517" y="78"/>
                    <a:pt x="514" y="82"/>
                    <a:pt x="512" y="86"/>
                  </a:cubicBezTo>
                  <a:cubicBezTo>
                    <a:pt x="513" y="77"/>
                    <a:pt x="514" y="68"/>
                    <a:pt x="515" y="61"/>
                  </a:cubicBezTo>
                  <a:cubicBezTo>
                    <a:pt x="517" y="58"/>
                    <a:pt x="519" y="55"/>
                    <a:pt x="521" y="53"/>
                  </a:cubicBezTo>
                  <a:cubicBezTo>
                    <a:pt x="521" y="58"/>
                    <a:pt x="520" y="66"/>
                    <a:pt x="519" y="75"/>
                  </a:cubicBezTo>
                  <a:close/>
                  <a:moveTo>
                    <a:pt x="526" y="139"/>
                  </a:moveTo>
                  <a:cubicBezTo>
                    <a:pt x="526" y="139"/>
                    <a:pt x="526" y="139"/>
                    <a:pt x="526" y="139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9"/>
                    <a:pt x="526" y="139"/>
                    <a:pt x="526" y="139"/>
                  </a:cubicBezTo>
                  <a:close/>
                  <a:moveTo>
                    <a:pt x="551" y="137"/>
                  </a:moveTo>
                  <a:cubicBezTo>
                    <a:pt x="551" y="136"/>
                    <a:pt x="550" y="135"/>
                    <a:pt x="550" y="133"/>
                  </a:cubicBezTo>
                  <a:cubicBezTo>
                    <a:pt x="550" y="132"/>
                    <a:pt x="550" y="130"/>
                    <a:pt x="550" y="128"/>
                  </a:cubicBezTo>
                  <a:cubicBezTo>
                    <a:pt x="551" y="131"/>
                    <a:pt x="551" y="133"/>
                    <a:pt x="552" y="135"/>
                  </a:cubicBezTo>
                  <a:cubicBezTo>
                    <a:pt x="552" y="136"/>
                    <a:pt x="552" y="137"/>
                    <a:pt x="551" y="137"/>
                  </a:cubicBezTo>
                  <a:close/>
                  <a:moveTo>
                    <a:pt x="558" y="99"/>
                  </a:moveTo>
                  <a:cubicBezTo>
                    <a:pt x="556" y="95"/>
                    <a:pt x="554" y="92"/>
                    <a:pt x="552" y="90"/>
                  </a:cubicBezTo>
                  <a:cubicBezTo>
                    <a:pt x="554" y="93"/>
                    <a:pt x="556" y="97"/>
                    <a:pt x="557" y="101"/>
                  </a:cubicBezTo>
                  <a:cubicBezTo>
                    <a:pt x="556" y="110"/>
                    <a:pt x="555" y="118"/>
                    <a:pt x="554" y="125"/>
                  </a:cubicBezTo>
                  <a:cubicBezTo>
                    <a:pt x="553" y="122"/>
                    <a:pt x="552" y="119"/>
                    <a:pt x="551" y="116"/>
                  </a:cubicBezTo>
                  <a:cubicBezTo>
                    <a:pt x="551" y="102"/>
                    <a:pt x="552" y="86"/>
                    <a:pt x="553" y="72"/>
                  </a:cubicBezTo>
                  <a:cubicBezTo>
                    <a:pt x="556" y="75"/>
                    <a:pt x="558" y="79"/>
                    <a:pt x="560" y="82"/>
                  </a:cubicBezTo>
                  <a:cubicBezTo>
                    <a:pt x="559" y="88"/>
                    <a:pt x="558" y="93"/>
                    <a:pt x="558" y="99"/>
                  </a:cubicBezTo>
                  <a:close/>
                  <a:moveTo>
                    <a:pt x="561" y="142"/>
                  </a:moveTo>
                  <a:cubicBezTo>
                    <a:pt x="561" y="134"/>
                    <a:pt x="562" y="127"/>
                    <a:pt x="562" y="121"/>
                  </a:cubicBezTo>
                  <a:cubicBezTo>
                    <a:pt x="563" y="123"/>
                    <a:pt x="563" y="125"/>
                    <a:pt x="563" y="127"/>
                  </a:cubicBezTo>
                  <a:cubicBezTo>
                    <a:pt x="562" y="136"/>
                    <a:pt x="561" y="142"/>
                    <a:pt x="561" y="142"/>
                  </a:cubicBezTo>
                  <a:close/>
                  <a:moveTo>
                    <a:pt x="564" y="144"/>
                  </a:moveTo>
                  <a:cubicBezTo>
                    <a:pt x="564" y="142"/>
                    <a:pt x="564" y="140"/>
                    <a:pt x="565" y="137"/>
                  </a:cubicBezTo>
                  <a:cubicBezTo>
                    <a:pt x="565" y="138"/>
                    <a:pt x="565" y="138"/>
                    <a:pt x="565" y="138"/>
                  </a:cubicBezTo>
                  <a:cubicBezTo>
                    <a:pt x="564" y="142"/>
                    <a:pt x="564" y="144"/>
                    <a:pt x="564" y="144"/>
                  </a:cubicBezTo>
                  <a:close/>
                  <a:moveTo>
                    <a:pt x="563" y="110"/>
                  </a:moveTo>
                  <a:cubicBezTo>
                    <a:pt x="563" y="103"/>
                    <a:pt x="564" y="96"/>
                    <a:pt x="564" y="90"/>
                  </a:cubicBezTo>
                  <a:cubicBezTo>
                    <a:pt x="566" y="93"/>
                    <a:pt x="567" y="96"/>
                    <a:pt x="568" y="99"/>
                  </a:cubicBezTo>
                  <a:cubicBezTo>
                    <a:pt x="567" y="105"/>
                    <a:pt x="566" y="111"/>
                    <a:pt x="565" y="116"/>
                  </a:cubicBezTo>
                  <a:cubicBezTo>
                    <a:pt x="564" y="114"/>
                    <a:pt x="564" y="112"/>
                    <a:pt x="563" y="110"/>
                  </a:cubicBezTo>
                  <a:close/>
                  <a:moveTo>
                    <a:pt x="568" y="124"/>
                  </a:moveTo>
                  <a:cubicBezTo>
                    <a:pt x="568" y="123"/>
                    <a:pt x="567" y="122"/>
                    <a:pt x="567" y="121"/>
                  </a:cubicBezTo>
                  <a:cubicBezTo>
                    <a:pt x="568" y="115"/>
                    <a:pt x="568" y="109"/>
                    <a:pt x="569" y="103"/>
                  </a:cubicBezTo>
                  <a:cubicBezTo>
                    <a:pt x="570" y="105"/>
                    <a:pt x="570" y="107"/>
                    <a:pt x="571" y="109"/>
                  </a:cubicBezTo>
                  <a:cubicBezTo>
                    <a:pt x="570" y="114"/>
                    <a:pt x="569" y="119"/>
                    <a:pt x="568" y="124"/>
                  </a:cubicBezTo>
                  <a:close/>
                  <a:moveTo>
                    <a:pt x="574" y="146"/>
                  </a:moveTo>
                  <a:cubicBezTo>
                    <a:pt x="574" y="145"/>
                    <a:pt x="574" y="145"/>
                    <a:pt x="574" y="145"/>
                  </a:cubicBezTo>
                  <a:cubicBezTo>
                    <a:pt x="574" y="144"/>
                    <a:pt x="574" y="143"/>
                    <a:pt x="574" y="142"/>
                  </a:cubicBezTo>
                  <a:cubicBezTo>
                    <a:pt x="574" y="142"/>
                    <a:pt x="574" y="143"/>
                    <a:pt x="574" y="144"/>
                  </a:cubicBezTo>
                  <a:cubicBezTo>
                    <a:pt x="574" y="145"/>
                    <a:pt x="574" y="145"/>
                    <a:pt x="574" y="146"/>
                  </a:cubicBezTo>
                  <a:close/>
                  <a:moveTo>
                    <a:pt x="597" y="118"/>
                  </a:moveTo>
                  <a:cubicBezTo>
                    <a:pt x="596" y="114"/>
                    <a:pt x="595" y="111"/>
                    <a:pt x="593" y="107"/>
                  </a:cubicBezTo>
                  <a:cubicBezTo>
                    <a:pt x="593" y="96"/>
                    <a:pt x="593" y="84"/>
                    <a:pt x="593" y="74"/>
                  </a:cubicBezTo>
                  <a:cubicBezTo>
                    <a:pt x="593" y="70"/>
                    <a:pt x="593" y="67"/>
                    <a:pt x="592" y="65"/>
                  </a:cubicBezTo>
                  <a:cubicBezTo>
                    <a:pt x="593" y="74"/>
                    <a:pt x="597" y="84"/>
                    <a:pt x="600" y="94"/>
                  </a:cubicBezTo>
                  <a:cubicBezTo>
                    <a:pt x="599" y="102"/>
                    <a:pt x="598" y="110"/>
                    <a:pt x="597" y="118"/>
                  </a:cubicBezTo>
                  <a:close/>
                  <a:moveTo>
                    <a:pt x="626" y="124"/>
                  </a:moveTo>
                  <a:cubicBezTo>
                    <a:pt x="626" y="122"/>
                    <a:pt x="625" y="120"/>
                    <a:pt x="625" y="117"/>
                  </a:cubicBezTo>
                  <a:cubicBezTo>
                    <a:pt x="626" y="109"/>
                    <a:pt x="627" y="100"/>
                    <a:pt x="627" y="92"/>
                  </a:cubicBezTo>
                  <a:cubicBezTo>
                    <a:pt x="629" y="96"/>
                    <a:pt x="630" y="100"/>
                    <a:pt x="630" y="104"/>
                  </a:cubicBezTo>
                  <a:cubicBezTo>
                    <a:pt x="629" y="111"/>
                    <a:pt x="627" y="118"/>
                    <a:pt x="626" y="124"/>
                  </a:cubicBezTo>
                  <a:close/>
                  <a:moveTo>
                    <a:pt x="667" y="133"/>
                  </a:moveTo>
                  <a:cubicBezTo>
                    <a:pt x="666" y="130"/>
                    <a:pt x="665" y="126"/>
                    <a:pt x="664" y="122"/>
                  </a:cubicBezTo>
                  <a:cubicBezTo>
                    <a:pt x="664" y="112"/>
                    <a:pt x="665" y="100"/>
                    <a:pt x="665" y="88"/>
                  </a:cubicBezTo>
                  <a:cubicBezTo>
                    <a:pt x="667" y="96"/>
                    <a:pt x="669" y="104"/>
                    <a:pt x="670" y="111"/>
                  </a:cubicBezTo>
                  <a:cubicBezTo>
                    <a:pt x="670" y="117"/>
                    <a:pt x="670" y="117"/>
                    <a:pt x="670" y="117"/>
                  </a:cubicBezTo>
                  <a:cubicBezTo>
                    <a:pt x="668" y="123"/>
                    <a:pt x="667" y="129"/>
                    <a:pt x="667" y="133"/>
                  </a:cubicBezTo>
                  <a:close/>
                  <a:moveTo>
                    <a:pt x="679" y="110"/>
                  </a:moveTo>
                  <a:cubicBezTo>
                    <a:pt x="679" y="113"/>
                    <a:pt x="679" y="116"/>
                    <a:pt x="679" y="119"/>
                  </a:cubicBezTo>
                  <a:cubicBezTo>
                    <a:pt x="678" y="122"/>
                    <a:pt x="678" y="124"/>
                    <a:pt x="677" y="127"/>
                  </a:cubicBezTo>
                  <a:cubicBezTo>
                    <a:pt x="677" y="119"/>
                    <a:pt x="676" y="111"/>
                    <a:pt x="675" y="104"/>
                  </a:cubicBezTo>
                  <a:cubicBezTo>
                    <a:pt x="676" y="98"/>
                    <a:pt x="676" y="91"/>
                    <a:pt x="677" y="86"/>
                  </a:cubicBezTo>
                  <a:cubicBezTo>
                    <a:pt x="679" y="93"/>
                    <a:pt x="679" y="102"/>
                    <a:pt x="679" y="110"/>
                  </a:cubicBezTo>
                  <a:close/>
                  <a:moveTo>
                    <a:pt x="689" y="142"/>
                  </a:moveTo>
                  <a:cubicBezTo>
                    <a:pt x="689" y="142"/>
                    <a:pt x="689" y="141"/>
                    <a:pt x="690" y="138"/>
                  </a:cubicBezTo>
                  <a:cubicBezTo>
                    <a:pt x="691" y="120"/>
                    <a:pt x="690" y="96"/>
                    <a:pt x="689" y="77"/>
                  </a:cubicBezTo>
                  <a:cubicBezTo>
                    <a:pt x="691" y="81"/>
                    <a:pt x="693" y="86"/>
                    <a:pt x="694" y="92"/>
                  </a:cubicBezTo>
                  <a:cubicBezTo>
                    <a:pt x="692" y="108"/>
                    <a:pt x="690" y="129"/>
                    <a:pt x="690" y="138"/>
                  </a:cubicBezTo>
                  <a:cubicBezTo>
                    <a:pt x="690" y="139"/>
                    <a:pt x="689" y="141"/>
                    <a:pt x="689" y="142"/>
                  </a:cubicBezTo>
                  <a:close/>
                  <a:moveTo>
                    <a:pt x="693" y="129"/>
                  </a:moveTo>
                  <a:cubicBezTo>
                    <a:pt x="693" y="119"/>
                    <a:pt x="694" y="107"/>
                    <a:pt x="695" y="97"/>
                  </a:cubicBezTo>
                  <a:cubicBezTo>
                    <a:pt x="695" y="100"/>
                    <a:pt x="695" y="103"/>
                    <a:pt x="695" y="106"/>
                  </a:cubicBezTo>
                  <a:cubicBezTo>
                    <a:pt x="695" y="114"/>
                    <a:pt x="694" y="121"/>
                    <a:pt x="693" y="129"/>
                  </a:cubicBezTo>
                  <a:close/>
                  <a:moveTo>
                    <a:pt x="705" y="125"/>
                  </a:moveTo>
                  <a:cubicBezTo>
                    <a:pt x="705" y="120"/>
                    <a:pt x="705" y="113"/>
                    <a:pt x="705" y="107"/>
                  </a:cubicBezTo>
                  <a:cubicBezTo>
                    <a:pt x="705" y="114"/>
                    <a:pt x="705" y="120"/>
                    <a:pt x="705" y="125"/>
                  </a:cubicBezTo>
                  <a:close/>
                  <a:moveTo>
                    <a:pt x="720" y="112"/>
                  </a:moveTo>
                  <a:cubicBezTo>
                    <a:pt x="720" y="105"/>
                    <a:pt x="720" y="98"/>
                    <a:pt x="719" y="91"/>
                  </a:cubicBezTo>
                  <a:cubicBezTo>
                    <a:pt x="720" y="95"/>
                    <a:pt x="720" y="99"/>
                    <a:pt x="720" y="103"/>
                  </a:cubicBezTo>
                  <a:cubicBezTo>
                    <a:pt x="720" y="106"/>
                    <a:pt x="720" y="109"/>
                    <a:pt x="720" y="112"/>
                  </a:cubicBezTo>
                  <a:close/>
                  <a:moveTo>
                    <a:pt x="730" y="129"/>
                  </a:moveTo>
                  <a:cubicBezTo>
                    <a:pt x="730" y="129"/>
                    <a:pt x="730" y="129"/>
                    <a:pt x="730" y="130"/>
                  </a:cubicBezTo>
                  <a:cubicBezTo>
                    <a:pt x="729" y="132"/>
                    <a:pt x="728" y="134"/>
                    <a:pt x="728" y="137"/>
                  </a:cubicBezTo>
                  <a:cubicBezTo>
                    <a:pt x="728" y="136"/>
                    <a:pt x="728" y="136"/>
                    <a:pt x="728" y="136"/>
                  </a:cubicBezTo>
                  <a:cubicBezTo>
                    <a:pt x="728" y="134"/>
                    <a:pt x="729" y="132"/>
                    <a:pt x="730" y="130"/>
                  </a:cubicBezTo>
                  <a:cubicBezTo>
                    <a:pt x="730" y="129"/>
                    <a:pt x="730" y="129"/>
                    <a:pt x="730" y="129"/>
                  </a:cubicBezTo>
                  <a:cubicBezTo>
                    <a:pt x="730" y="129"/>
                    <a:pt x="730" y="129"/>
                    <a:pt x="730" y="129"/>
                  </a:cubicBezTo>
                  <a:close/>
                  <a:moveTo>
                    <a:pt x="767" y="130"/>
                  </a:moveTo>
                  <a:cubicBezTo>
                    <a:pt x="766" y="132"/>
                    <a:pt x="765" y="134"/>
                    <a:pt x="765" y="136"/>
                  </a:cubicBezTo>
                  <a:cubicBezTo>
                    <a:pt x="764" y="131"/>
                    <a:pt x="764" y="126"/>
                    <a:pt x="764" y="121"/>
                  </a:cubicBezTo>
                  <a:cubicBezTo>
                    <a:pt x="766" y="115"/>
                    <a:pt x="768" y="110"/>
                    <a:pt x="769" y="104"/>
                  </a:cubicBezTo>
                  <a:cubicBezTo>
                    <a:pt x="768" y="114"/>
                    <a:pt x="767" y="123"/>
                    <a:pt x="767" y="130"/>
                  </a:cubicBezTo>
                  <a:close/>
                  <a:moveTo>
                    <a:pt x="782" y="124"/>
                  </a:moveTo>
                  <a:cubicBezTo>
                    <a:pt x="782" y="110"/>
                    <a:pt x="784" y="94"/>
                    <a:pt x="785" y="83"/>
                  </a:cubicBezTo>
                  <a:cubicBezTo>
                    <a:pt x="785" y="87"/>
                    <a:pt x="785" y="91"/>
                    <a:pt x="785" y="95"/>
                  </a:cubicBezTo>
                  <a:cubicBezTo>
                    <a:pt x="785" y="105"/>
                    <a:pt x="784" y="114"/>
                    <a:pt x="782" y="124"/>
                  </a:cubicBezTo>
                  <a:close/>
                  <a:moveTo>
                    <a:pt x="799" y="160"/>
                  </a:move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60"/>
                  </a:cubicBezTo>
                  <a:close/>
                  <a:moveTo>
                    <a:pt x="811" y="116"/>
                  </a:moveTo>
                  <a:cubicBezTo>
                    <a:pt x="810" y="121"/>
                    <a:pt x="808" y="127"/>
                    <a:pt x="806" y="132"/>
                  </a:cubicBezTo>
                  <a:cubicBezTo>
                    <a:pt x="806" y="127"/>
                    <a:pt x="806" y="121"/>
                    <a:pt x="806" y="115"/>
                  </a:cubicBezTo>
                  <a:cubicBezTo>
                    <a:pt x="807" y="110"/>
                    <a:pt x="808" y="104"/>
                    <a:pt x="808" y="98"/>
                  </a:cubicBezTo>
                  <a:cubicBezTo>
                    <a:pt x="808" y="95"/>
                    <a:pt x="807" y="92"/>
                    <a:pt x="807" y="89"/>
                  </a:cubicBezTo>
                  <a:cubicBezTo>
                    <a:pt x="808" y="78"/>
                    <a:pt x="809" y="68"/>
                    <a:pt x="810" y="60"/>
                  </a:cubicBezTo>
                  <a:cubicBezTo>
                    <a:pt x="813" y="68"/>
                    <a:pt x="815" y="78"/>
                    <a:pt x="815" y="87"/>
                  </a:cubicBezTo>
                  <a:cubicBezTo>
                    <a:pt x="814" y="95"/>
                    <a:pt x="813" y="106"/>
                    <a:pt x="811" y="116"/>
                  </a:cubicBezTo>
                  <a:close/>
                  <a:moveTo>
                    <a:pt x="819" y="136"/>
                  </a:moveTo>
                  <a:cubicBezTo>
                    <a:pt x="819" y="137"/>
                    <a:pt x="819" y="138"/>
                    <a:pt x="818" y="139"/>
                  </a:cubicBezTo>
                  <a:cubicBezTo>
                    <a:pt x="818" y="137"/>
                    <a:pt x="818" y="135"/>
                    <a:pt x="818" y="133"/>
                  </a:cubicBezTo>
                  <a:cubicBezTo>
                    <a:pt x="819" y="130"/>
                    <a:pt x="819" y="128"/>
                    <a:pt x="820" y="125"/>
                  </a:cubicBezTo>
                  <a:cubicBezTo>
                    <a:pt x="820" y="129"/>
                    <a:pt x="819" y="133"/>
                    <a:pt x="819" y="136"/>
                  </a:cubicBezTo>
                  <a:close/>
                  <a:moveTo>
                    <a:pt x="835" y="126"/>
                  </a:moveTo>
                  <a:cubicBezTo>
                    <a:pt x="834" y="113"/>
                    <a:pt x="834" y="96"/>
                    <a:pt x="834" y="84"/>
                  </a:cubicBezTo>
                  <a:cubicBezTo>
                    <a:pt x="838" y="90"/>
                    <a:pt x="840" y="100"/>
                    <a:pt x="840" y="104"/>
                  </a:cubicBezTo>
                  <a:cubicBezTo>
                    <a:pt x="840" y="110"/>
                    <a:pt x="838" y="118"/>
                    <a:pt x="835" y="126"/>
                  </a:cubicBezTo>
                  <a:close/>
                  <a:moveTo>
                    <a:pt x="846" y="128"/>
                  </a:moveTo>
                  <a:cubicBezTo>
                    <a:pt x="848" y="113"/>
                    <a:pt x="847" y="91"/>
                    <a:pt x="847" y="76"/>
                  </a:cubicBezTo>
                  <a:cubicBezTo>
                    <a:pt x="849" y="83"/>
                    <a:pt x="851" y="90"/>
                    <a:pt x="851" y="96"/>
                  </a:cubicBezTo>
                  <a:cubicBezTo>
                    <a:pt x="851" y="107"/>
                    <a:pt x="849" y="117"/>
                    <a:pt x="846" y="128"/>
                  </a:cubicBezTo>
                  <a:close/>
                  <a:moveTo>
                    <a:pt x="886" y="112"/>
                  </a:moveTo>
                  <a:cubicBezTo>
                    <a:pt x="886" y="110"/>
                    <a:pt x="886" y="108"/>
                    <a:pt x="886" y="106"/>
                  </a:cubicBezTo>
                  <a:cubicBezTo>
                    <a:pt x="886" y="108"/>
                    <a:pt x="885" y="112"/>
                    <a:pt x="885" y="115"/>
                  </a:cubicBezTo>
                  <a:cubicBezTo>
                    <a:pt x="880" y="131"/>
                    <a:pt x="876" y="144"/>
                    <a:pt x="876" y="144"/>
                  </a:cubicBezTo>
                  <a:cubicBezTo>
                    <a:pt x="877" y="133"/>
                    <a:pt x="881" y="110"/>
                    <a:pt x="886" y="86"/>
                  </a:cubicBezTo>
                  <a:cubicBezTo>
                    <a:pt x="888" y="90"/>
                    <a:pt x="889" y="95"/>
                    <a:pt x="890" y="99"/>
                  </a:cubicBezTo>
                  <a:cubicBezTo>
                    <a:pt x="888" y="103"/>
                    <a:pt x="887" y="108"/>
                    <a:pt x="886" y="112"/>
                  </a:cubicBezTo>
                  <a:close/>
                  <a:moveTo>
                    <a:pt x="899" y="133"/>
                  </a:moveTo>
                  <a:cubicBezTo>
                    <a:pt x="899" y="133"/>
                    <a:pt x="899" y="134"/>
                    <a:pt x="898" y="134"/>
                  </a:cubicBezTo>
                  <a:cubicBezTo>
                    <a:pt x="898" y="134"/>
                    <a:pt x="898" y="134"/>
                    <a:pt x="898" y="134"/>
                  </a:cubicBezTo>
                  <a:cubicBezTo>
                    <a:pt x="898" y="134"/>
                    <a:pt x="899" y="133"/>
                    <a:pt x="899" y="133"/>
                  </a:cubicBezTo>
                  <a:cubicBezTo>
                    <a:pt x="899" y="126"/>
                    <a:pt x="900" y="117"/>
                    <a:pt x="901" y="107"/>
                  </a:cubicBezTo>
                  <a:cubicBezTo>
                    <a:pt x="901" y="110"/>
                    <a:pt x="901" y="114"/>
                    <a:pt x="901" y="117"/>
                  </a:cubicBezTo>
                  <a:cubicBezTo>
                    <a:pt x="900" y="123"/>
                    <a:pt x="899" y="129"/>
                    <a:pt x="899" y="133"/>
                  </a:cubicBezTo>
                  <a:close/>
                  <a:moveTo>
                    <a:pt x="903" y="159"/>
                  </a:move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lose/>
                  <a:moveTo>
                    <a:pt x="944" y="143"/>
                  </a:moveTo>
                  <a:cubicBezTo>
                    <a:pt x="944" y="142"/>
                    <a:pt x="944" y="142"/>
                    <a:pt x="944" y="141"/>
                  </a:cubicBezTo>
                  <a:cubicBezTo>
                    <a:pt x="944" y="135"/>
                    <a:pt x="945" y="127"/>
                    <a:pt x="946" y="117"/>
                  </a:cubicBezTo>
                  <a:cubicBezTo>
                    <a:pt x="946" y="121"/>
                    <a:pt x="946" y="125"/>
                    <a:pt x="946" y="129"/>
                  </a:cubicBezTo>
                  <a:cubicBezTo>
                    <a:pt x="945" y="135"/>
                    <a:pt x="945" y="139"/>
                    <a:pt x="944" y="143"/>
                  </a:cubicBezTo>
                  <a:close/>
                  <a:moveTo>
                    <a:pt x="948" y="117"/>
                  </a:moveTo>
                  <a:cubicBezTo>
                    <a:pt x="947" y="115"/>
                    <a:pt x="947" y="113"/>
                    <a:pt x="946" y="111"/>
                  </a:cubicBezTo>
                  <a:cubicBezTo>
                    <a:pt x="946" y="108"/>
                    <a:pt x="947" y="104"/>
                    <a:pt x="947" y="100"/>
                  </a:cubicBezTo>
                  <a:cubicBezTo>
                    <a:pt x="948" y="103"/>
                    <a:pt x="948" y="106"/>
                    <a:pt x="949" y="108"/>
                  </a:cubicBezTo>
                  <a:cubicBezTo>
                    <a:pt x="948" y="111"/>
                    <a:pt x="948" y="114"/>
                    <a:pt x="948" y="117"/>
                  </a:cubicBezTo>
                  <a:close/>
                  <a:moveTo>
                    <a:pt x="956" y="133"/>
                  </a:moveTo>
                  <a:cubicBezTo>
                    <a:pt x="956" y="133"/>
                    <a:pt x="956" y="133"/>
                    <a:pt x="956" y="133"/>
                  </a:cubicBezTo>
                  <a:cubicBezTo>
                    <a:pt x="957" y="130"/>
                    <a:pt x="957" y="127"/>
                    <a:pt x="957" y="124"/>
                  </a:cubicBezTo>
                  <a:cubicBezTo>
                    <a:pt x="957" y="125"/>
                    <a:pt x="957" y="126"/>
                    <a:pt x="957" y="128"/>
                  </a:cubicBezTo>
                  <a:cubicBezTo>
                    <a:pt x="957" y="130"/>
                    <a:pt x="957" y="131"/>
                    <a:pt x="956" y="133"/>
                  </a:cubicBezTo>
                  <a:close/>
                  <a:moveTo>
                    <a:pt x="993" y="142"/>
                  </a:moveTo>
                  <a:cubicBezTo>
                    <a:pt x="993" y="139"/>
                    <a:pt x="993" y="134"/>
                    <a:pt x="993" y="128"/>
                  </a:cubicBezTo>
                  <a:cubicBezTo>
                    <a:pt x="993" y="130"/>
                    <a:pt x="994" y="132"/>
                    <a:pt x="994" y="133"/>
                  </a:cubicBezTo>
                  <a:cubicBezTo>
                    <a:pt x="993" y="139"/>
                    <a:pt x="993" y="142"/>
                    <a:pt x="993" y="142"/>
                  </a:cubicBezTo>
                  <a:close/>
                  <a:moveTo>
                    <a:pt x="1015" y="135"/>
                  </a:moveTo>
                  <a:cubicBezTo>
                    <a:pt x="1014" y="134"/>
                    <a:pt x="1014" y="134"/>
                    <a:pt x="1014" y="133"/>
                  </a:cubicBezTo>
                  <a:cubicBezTo>
                    <a:pt x="1014" y="121"/>
                    <a:pt x="1014" y="103"/>
                    <a:pt x="1013" y="88"/>
                  </a:cubicBezTo>
                  <a:cubicBezTo>
                    <a:pt x="1015" y="94"/>
                    <a:pt x="1017" y="100"/>
                    <a:pt x="1018" y="106"/>
                  </a:cubicBezTo>
                  <a:cubicBezTo>
                    <a:pt x="1017" y="118"/>
                    <a:pt x="1015" y="128"/>
                    <a:pt x="1015" y="135"/>
                  </a:cubicBezTo>
                  <a:close/>
                  <a:moveTo>
                    <a:pt x="1021" y="145"/>
                  </a:moveTo>
                  <a:cubicBezTo>
                    <a:pt x="1021" y="141"/>
                    <a:pt x="1021" y="136"/>
                    <a:pt x="1022" y="129"/>
                  </a:cubicBezTo>
                  <a:cubicBezTo>
                    <a:pt x="1022" y="133"/>
                    <a:pt x="1022" y="136"/>
                    <a:pt x="1023" y="139"/>
                  </a:cubicBezTo>
                  <a:cubicBezTo>
                    <a:pt x="1022" y="143"/>
                    <a:pt x="1021" y="145"/>
                    <a:pt x="1021" y="145"/>
                  </a:cubicBezTo>
                  <a:close/>
                  <a:moveTo>
                    <a:pt x="1027" y="159"/>
                  </a:moveTo>
                  <a:cubicBezTo>
                    <a:pt x="1027" y="159"/>
                    <a:pt x="1027" y="159"/>
                    <a:pt x="1027" y="159"/>
                  </a:cubicBezTo>
                  <a:cubicBezTo>
                    <a:pt x="1027" y="159"/>
                    <a:pt x="1027" y="158"/>
                    <a:pt x="1027" y="158"/>
                  </a:cubicBezTo>
                  <a:cubicBezTo>
                    <a:pt x="1027" y="159"/>
                    <a:pt x="1028" y="160"/>
                    <a:pt x="1028" y="160"/>
                  </a:cubicBezTo>
                  <a:cubicBezTo>
                    <a:pt x="1028" y="160"/>
                    <a:pt x="1027" y="159"/>
                    <a:pt x="1027" y="159"/>
                  </a:cubicBezTo>
                  <a:close/>
                  <a:moveTo>
                    <a:pt x="1028" y="121"/>
                  </a:moveTo>
                  <a:cubicBezTo>
                    <a:pt x="1026" y="117"/>
                    <a:pt x="1025" y="114"/>
                    <a:pt x="1023" y="110"/>
                  </a:cubicBezTo>
                  <a:cubicBezTo>
                    <a:pt x="1024" y="105"/>
                    <a:pt x="1024" y="99"/>
                    <a:pt x="1025" y="94"/>
                  </a:cubicBezTo>
                  <a:cubicBezTo>
                    <a:pt x="1026" y="100"/>
                    <a:pt x="1027" y="108"/>
                    <a:pt x="1029" y="116"/>
                  </a:cubicBezTo>
                  <a:cubicBezTo>
                    <a:pt x="1029" y="118"/>
                    <a:pt x="1028" y="119"/>
                    <a:pt x="1028" y="121"/>
                  </a:cubicBezTo>
                  <a:close/>
                  <a:moveTo>
                    <a:pt x="1036" y="142"/>
                  </a:moveTo>
                  <a:cubicBezTo>
                    <a:pt x="1035" y="138"/>
                    <a:pt x="1033" y="134"/>
                    <a:pt x="1031" y="129"/>
                  </a:cubicBezTo>
                  <a:cubicBezTo>
                    <a:pt x="1031" y="129"/>
                    <a:pt x="1031" y="128"/>
                    <a:pt x="1032" y="127"/>
                  </a:cubicBezTo>
                  <a:cubicBezTo>
                    <a:pt x="1033" y="132"/>
                    <a:pt x="1035" y="137"/>
                    <a:pt x="1036" y="142"/>
                  </a:cubicBezTo>
                  <a:cubicBezTo>
                    <a:pt x="1039" y="149"/>
                    <a:pt x="1041" y="153"/>
                    <a:pt x="1041" y="155"/>
                  </a:cubicBezTo>
                  <a:cubicBezTo>
                    <a:pt x="1040" y="151"/>
                    <a:pt x="1038" y="147"/>
                    <a:pt x="1036" y="142"/>
                  </a:cubicBezTo>
                  <a:close/>
                  <a:moveTo>
                    <a:pt x="1261" y="88"/>
                  </a:moveTo>
                  <a:cubicBezTo>
                    <a:pt x="1262" y="90"/>
                    <a:pt x="1263" y="93"/>
                    <a:pt x="1263" y="95"/>
                  </a:cubicBezTo>
                  <a:cubicBezTo>
                    <a:pt x="1263" y="94"/>
                    <a:pt x="1262" y="93"/>
                    <a:pt x="1261" y="92"/>
                  </a:cubicBezTo>
                  <a:cubicBezTo>
                    <a:pt x="1261" y="90"/>
                    <a:pt x="1261" y="89"/>
                    <a:pt x="1261" y="88"/>
                  </a:cubicBezTo>
                  <a:close/>
                  <a:moveTo>
                    <a:pt x="1249" y="84"/>
                  </a:moveTo>
                  <a:cubicBezTo>
                    <a:pt x="1252" y="88"/>
                    <a:pt x="1254" y="92"/>
                    <a:pt x="1257" y="96"/>
                  </a:cubicBezTo>
                  <a:cubicBezTo>
                    <a:pt x="1257" y="97"/>
                    <a:pt x="1258" y="99"/>
                    <a:pt x="1258" y="100"/>
                  </a:cubicBezTo>
                  <a:cubicBezTo>
                    <a:pt x="1258" y="104"/>
                    <a:pt x="1257" y="108"/>
                    <a:pt x="1256" y="112"/>
                  </a:cubicBezTo>
                  <a:cubicBezTo>
                    <a:pt x="1254" y="105"/>
                    <a:pt x="1251" y="98"/>
                    <a:pt x="1248" y="92"/>
                  </a:cubicBezTo>
                  <a:cubicBezTo>
                    <a:pt x="1249" y="89"/>
                    <a:pt x="1249" y="86"/>
                    <a:pt x="1249" y="84"/>
                  </a:cubicBezTo>
                  <a:close/>
                  <a:moveTo>
                    <a:pt x="1254" y="111"/>
                  </a:moveTo>
                  <a:cubicBezTo>
                    <a:pt x="1251" y="108"/>
                    <a:pt x="1249" y="105"/>
                    <a:pt x="1247" y="102"/>
                  </a:cubicBezTo>
                  <a:cubicBezTo>
                    <a:pt x="1247" y="99"/>
                    <a:pt x="1248" y="96"/>
                    <a:pt x="1248" y="93"/>
                  </a:cubicBezTo>
                  <a:cubicBezTo>
                    <a:pt x="1250" y="99"/>
                    <a:pt x="1252" y="105"/>
                    <a:pt x="1254" y="111"/>
                  </a:cubicBezTo>
                  <a:close/>
                  <a:moveTo>
                    <a:pt x="1236" y="56"/>
                  </a:moveTo>
                  <a:cubicBezTo>
                    <a:pt x="1241" y="62"/>
                    <a:pt x="1244" y="68"/>
                    <a:pt x="1248" y="74"/>
                  </a:cubicBezTo>
                  <a:cubicBezTo>
                    <a:pt x="1244" y="69"/>
                    <a:pt x="1240" y="64"/>
                    <a:pt x="1236" y="60"/>
                  </a:cubicBezTo>
                  <a:cubicBezTo>
                    <a:pt x="1236" y="59"/>
                    <a:pt x="1236" y="57"/>
                    <a:pt x="1236" y="56"/>
                  </a:cubicBezTo>
                  <a:close/>
                  <a:moveTo>
                    <a:pt x="1235" y="64"/>
                  </a:moveTo>
                  <a:cubicBezTo>
                    <a:pt x="1239" y="69"/>
                    <a:pt x="1243" y="74"/>
                    <a:pt x="1247" y="80"/>
                  </a:cubicBezTo>
                  <a:cubicBezTo>
                    <a:pt x="1246" y="82"/>
                    <a:pt x="1245" y="83"/>
                    <a:pt x="1245" y="85"/>
                  </a:cubicBezTo>
                  <a:cubicBezTo>
                    <a:pt x="1245" y="84"/>
                    <a:pt x="1244" y="83"/>
                    <a:pt x="1244" y="83"/>
                  </a:cubicBezTo>
                  <a:cubicBezTo>
                    <a:pt x="1244" y="83"/>
                    <a:pt x="1245" y="84"/>
                    <a:pt x="1245" y="85"/>
                  </a:cubicBezTo>
                  <a:cubicBezTo>
                    <a:pt x="1244" y="88"/>
                    <a:pt x="1243" y="91"/>
                    <a:pt x="1242" y="94"/>
                  </a:cubicBezTo>
                  <a:cubicBezTo>
                    <a:pt x="1239" y="90"/>
                    <a:pt x="1236" y="85"/>
                    <a:pt x="1233" y="80"/>
                  </a:cubicBezTo>
                  <a:cubicBezTo>
                    <a:pt x="1234" y="75"/>
                    <a:pt x="1235" y="69"/>
                    <a:pt x="1235" y="64"/>
                  </a:cubicBezTo>
                  <a:close/>
                  <a:moveTo>
                    <a:pt x="1226" y="139"/>
                  </a:moveTo>
                  <a:cubicBezTo>
                    <a:pt x="1226" y="120"/>
                    <a:pt x="1229" y="101"/>
                    <a:pt x="1233" y="83"/>
                  </a:cubicBezTo>
                  <a:cubicBezTo>
                    <a:pt x="1235" y="87"/>
                    <a:pt x="1238" y="91"/>
                    <a:pt x="1241" y="95"/>
                  </a:cubicBezTo>
                  <a:cubicBezTo>
                    <a:pt x="1235" y="114"/>
                    <a:pt x="1229" y="133"/>
                    <a:pt x="1227" y="152"/>
                  </a:cubicBezTo>
                  <a:cubicBezTo>
                    <a:pt x="1226" y="148"/>
                    <a:pt x="1226" y="143"/>
                    <a:pt x="1226" y="139"/>
                  </a:cubicBezTo>
                  <a:close/>
                  <a:moveTo>
                    <a:pt x="1245" y="143"/>
                  </a:moveTo>
                  <a:cubicBezTo>
                    <a:pt x="1245" y="142"/>
                    <a:pt x="1244" y="141"/>
                    <a:pt x="1243" y="140"/>
                  </a:cubicBezTo>
                  <a:cubicBezTo>
                    <a:pt x="1244" y="141"/>
                    <a:pt x="1244" y="143"/>
                    <a:pt x="1245" y="144"/>
                  </a:cubicBezTo>
                  <a:cubicBezTo>
                    <a:pt x="1243" y="147"/>
                    <a:pt x="1242" y="149"/>
                    <a:pt x="1241" y="152"/>
                  </a:cubicBezTo>
                  <a:cubicBezTo>
                    <a:pt x="1241" y="146"/>
                    <a:pt x="1242" y="141"/>
                    <a:pt x="1243" y="135"/>
                  </a:cubicBezTo>
                  <a:cubicBezTo>
                    <a:pt x="1244" y="137"/>
                    <a:pt x="1245" y="139"/>
                    <a:pt x="1246" y="142"/>
                  </a:cubicBezTo>
                  <a:cubicBezTo>
                    <a:pt x="1246" y="142"/>
                    <a:pt x="1246" y="142"/>
                    <a:pt x="1245" y="143"/>
                  </a:cubicBezTo>
                  <a:close/>
                  <a:moveTo>
                    <a:pt x="1244" y="127"/>
                  </a:moveTo>
                  <a:cubicBezTo>
                    <a:pt x="1245" y="119"/>
                    <a:pt x="1246" y="111"/>
                    <a:pt x="1247" y="103"/>
                  </a:cubicBezTo>
                  <a:cubicBezTo>
                    <a:pt x="1250" y="107"/>
                    <a:pt x="1253" y="112"/>
                    <a:pt x="1255" y="116"/>
                  </a:cubicBezTo>
                  <a:cubicBezTo>
                    <a:pt x="1254" y="122"/>
                    <a:pt x="1252" y="127"/>
                    <a:pt x="1250" y="133"/>
                  </a:cubicBezTo>
                  <a:cubicBezTo>
                    <a:pt x="1248" y="131"/>
                    <a:pt x="1246" y="128"/>
                    <a:pt x="1244" y="127"/>
                  </a:cubicBezTo>
                  <a:close/>
                  <a:moveTo>
                    <a:pt x="1256" y="140"/>
                  </a:moveTo>
                  <a:cubicBezTo>
                    <a:pt x="1256" y="140"/>
                    <a:pt x="1255" y="140"/>
                    <a:pt x="1255" y="140"/>
                  </a:cubicBezTo>
                  <a:cubicBezTo>
                    <a:pt x="1256" y="135"/>
                    <a:pt x="1257" y="130"/>
                    <a:pt x="1258" y="125"/>
                  </a:cubicBezTo>
                  <a:cubicBezTo>
                    <a:pt x="1258" y="127"/>
                    <a:pt x="1259" y="129"/>
                    <a:pt x="1259" y="130"/>
                  </a:cubicBezTo>
                  <a:cubicBezTo>
                    <a:pt x="1258" y="134"/>
                    <a:pt x="1257" y="137"/>
                    <a:pt x="1256" y="140"/>
                  </a:cubicBezTo>
                  <a:close/>
                  <a:moveTo>
                    <a:pt x="1262" y="122"/>
                  </a:moveTo>
                  <a:cubicBezTo>
                    <a:pt x="1261" y="120"/>
                    <a:pt x="1260" y="119"/>
                    <a:pt x="1259" y="117"/>
                  </a:cubicBezTo>
                  <a:cubicBezTo>
                    <a:pt x="1259" y="114"/>
                    <a:pt x="1260" y="110"/>
                    <a:pt x="1260" y="107"/>
                  </a:cubicBezTo>
                  <a:cubicBezTo>
                    <a:pt x="1261" y="111"/>
                    <a:pt x="1262" y="115"/>
                    <a:pt x="1263" y="120"/>
                  </a:cubicBezTo>
                  <a:cubicBezTo>
                    <a:pt x="1263" y="120"/>
                    <a:pt x="1263" y="121"/>
                    <a:pt x="1262" y="122"/>
                  </a:cubicBezTo>
                  <a:close/>
                  <a:moveTo>
                    <a:pt x="1264" y="151"/>
                  </a:moveTo>
                  <a:cubicBezTo>
                    <a:pt x="1264" y="151"/>
                    <a:pt x="1264" y="151"/>
                    <a:pt x="1264" y="151"/>
                  </a:cubicBezTo>
                  <a:cubicBezTo>
                    <a:pt x="1264" y="150"/>
                    <a:pt x="1264" y="150"/>
                    <a:pt x="1264" y="149"/>
                  </a:cubicBezTo>
                  <a:cubicBezTo>
                    <a:pt x="1264" y="149"/>
                    <a:pt x="1264" y="149"/>
                    <a:pt x="1264" y="149"/>
                  </a:cubicBezTo>
                  <a:cubicBezTo>
                    <a:pt x="1264" y="150"/>
                    <a:pt x="1264" y="150"/>
                    <a:pt x="1264" y="151"/>
                  </a:cubicBezTo>
                  <a:close/>
                  <a:moveTo>
                    <a:pt x="1264" y="118"/>
                  </a:moveTo>
                  <a:cubicBezTo>
                    <a:pt x="1263" y="112"/>
                    <a:pt x="1262" y="107"/>
                    <a:pt x="1261" y="102"/>
                  </a:cubicBezTo>
                  <a:cubicBezTo>
                    <a:pt x="1261" y="102"/>
                    <a:pt x="1261" y="102"/>
                    <a:pt x="1261" y="101"/>
                  </a:cubicBezTo>
                  <a:cubicBezTo>
                    <a:pt x="1263" y="105"/>
                    <a:pt x="1265" y="108"/>
                    <a:pt x="1267" y="112"/>
                  </a:cubicBezTo>
                  <a:cubicBezTo>
                    <a:pt x="1266" y="113"/>
                    <a:pt x="1265" y="115"/>
                    <a:pt x="1265" y="116"/>
                  </a:cubicBezTo>
                  <a:cubicBezTo>
                    <a:pt x="1265" y="117"/>
                    <a:pt x="1264" y="117"/>
                    <a:pt x="1264" y="118"/>
                  </a:cubicBezTo>
                  <a:close/>
                  <a:moveTo>
                    <a:pt x="1267" y="143"/>
                  </a:moveTo>
                  <a:cubicBezTo>
                    <a:pt x="1267" y="143"/>
                    <a:pt x="1266" y="142"/>
                    <a:pt x="1266" y="142"/>
                  </a:cubicBezTo>
                  <a:cubicBezTo>
                    <a:pt x="1267" y="141"/>
                    <a:pt x="1267" y="141"/>
                    <a:pt x="1267" y="140"/>
                  </a:cubicBezTo>
                  <a:cubicBezTo>
                    <a:pt x="1267" y="141"/>
                    <a:pt x="1267" y="141"/>
                    <a:pt x="1267" y="142"/>
                  </a:cubicBezTo>
                  <a:cubicBezTo>
                    <a:pt x="1267" y="142"/>
                    <a:pt x="1267" y="142"/>
                    <a:pt x="1267" y="143"/>
                  </a:cubicBezTo>
                  <a:close/>
                  <a:moveTo>
                    <a:pt x="1272" y="151"/>
                  </a:moveTo>
                  <a:cubicBezTo>
                    <a:pt x="1272" y="151"/>
                    <a:pt x="1272" y="151"/>
                    <a:pt x="1272" y="151"/>
                  </a:cubicBezTo>
                  <a:cubicBezTo>
                    <a:pt x="1272" y="151"/>
                    <a:pt x="1272" y="152"/>
                    <a:pt x="1272" y="152"/>
                  </a:cubicBezTo>
                  <a:cubicBezTo>
                    <a:pt x="1272" y="152"/>
                    <a:pt x="1272" y="152"/>
                    <a:pt x="1272" y="151"/>
                  </a:cubicBezTo>
                  <a:close/>
                  <a:moveTo>
                    <a:pt x="1274" y="126"/>
                  </a:moveTo>
                  <a:cubicBezTo>
                    <a:pt x="1274" y="128"/>
                    <a:pt x="1273" y="129"/>
                    <a:pt x="1272" y="131"/>
                  </a:cubicBezTo>
                  <a:cubicBezTo>
                    <a:pt x="1272" y="129"/>
                    <a:pt x="1272" y="127"/>
                    <a:pt x="1272" y="125"/>
                  </a:cubicBezTo>
                  <a:cubicBezTo>
                    <a:pt x="1272" y="124"/>
                    <a:pt x="1272" y="123"/>
                    <a:pt x="1273" y="122"/>
                  </a:cubicBezTo>
                  <a:cubicBezTo>
                    <a:pt x="1273" y="123"/>
                    <a:pt x="1274" y="124"/>
                    <a:pt x="1274" y="125"/>
                  </a:cubicBezTo>
                  <a:lnTo>
                    <a:pt x="1274" y="126"/>
                  </a:lnTo>
                  <a:close/>
                  <a:moveTo>
                    <a:pt x="1282" y="91"/>
                  </a:moveTo>
                  <a:cubicBezTo>
                    <a:pt x="1282" y="93"/>
                    <a:pt x="1282" y="94"/>
                    <a:pt x="1282" y="96"/>
                  </a:cubicBezTo>
                  <a:cubicBezTo>
                    <a:pt x="1282" y="95"/>
                    <a:pt x="1282" y="94"/>
                    <a:pt x="1281" y="93"/>
                  </a:cubicBezTo>
                  <a:cubicBezTo>
                    <a:pt x="1281" y="93"/>
                    <a:pt x="1282" y="92"/>
                    <a:pt x="1282" y="91"/>
                  </a:cubicBezTo>
                  <a:close/>
                  <a:moveTo>
                    <a:pt x="1280" y="117"/>
                  </a:moveTo>
                  <a:cubicBezTo>
                    <a:pt x="1279" y="113"/>
                    <a:pt x="1278" y="110"/>
                    <a:pt x="1278" y="106"/>
                  </a:cubicBezTo>
                  <a:cubicBezTo>
                    <a:pt x="1278" y="106"/>
                    <a:pt x="1278" y="105"/>
                    <a:pt x="1278" y="104"/>
                  </a:cubicBezTo>
                  <a:cubicBezTo>
                    <a:pt x="1279" y="107"/>
                    <a:pt x="1280" y="111"/>
                    <a:pt x="1281" y="114"/>
                  </a:cubicBezTo>
                  <a:cubicBezTo>
                    <a:pt x="1281" y="115"/>
                    <a:pt x="1280" y="116"/>
                    <a:pt x="1280" y="117"/>
                  </a:cubicBezTo>
                  <a:close/>
                  <a:moveTo>
                    <a:pt x="1283" y="127"/>
                  </a:moveTo>
                  <a:cubicBezTo>
                    <a:pt x="1282" y="127"/>
                    <a:pt x="1282" y="126"/>
                    <a:pt x="1282" y="126"/>
                  </a:cubicBezTo>
                  <a:cubicBezTo>
                    <a:pt x="1282" y="125"/>
                    <a:pt x="1282" y="125"/>
                    <a:pt x="1283" y="124"/>
                  </a:cubicBezTo>
                  <a:cubicBezTo>
                    <a:pt x="1283" y="125"/>
                    <a:pt x="1283" y="126"/>
                    <a:pt x="1283" y="127"/>
                  </a:cubicBezTo>
                  <a:close/>
                  <a:moveTo>
                    <a:pt x="1289" y="141"/>
                  </a:moveTo>
                  <a:cubicBezTo>
                    <a:pt x="1289" y="140"/>
                    <a:pt x="1289" y="140"/>
                    <a:pt x="1289" y="140"/>
                  </a:cubicBezTo>
                  <a:cubicBezTo>
                    <a:pt x="1289" y="139"/>
                    <a:pt x="1289" y="139"/>
                    <a:pt x="1289" y="139"/>
                  </a:cubicBezTo>
                  <a:cubicBezTo>
                    <a:pt x="1289" y="139"/>
                    <a:pt x="1289" y="140"/>
                    <a:pt x="1289" y="141"/>
                  </a:cubicBezTo>
                  <a:close/>
                  <a:moveTo>
                    <a:pt x="1321" y="64"/>
                  </a:moveTo>
                  <a:cubicBezTo>
                    <a:pt x="1322" y="69"/>
                    <a:pt x="1323" y="75"/>
                    <a:pt x="1324" y="80"/>
                  </a:cubicBezTo>
                  <a:cubicBezTo>
                    <a:pt x="1322" y="83"/>
                    <a:pt x="1321" y="85"/>
                    <a:pt x="1319" y="87"/>
                  </a:cubicBezTo>
                  <a:cubicBezTo>
                    <a:pt x="1319" y="86"/>
                    <a:pt x="1318" y="84"/>
                    <a:pt x="1317" y="83"/>
                  </a:cubicBezTo>
                  <a:cubicBezTo>
                    <a:pt x="1318" y="84"/>
                    <a:pt x="1319" y="86"/>
                    <a:pt x="1319" y="87"/>
                  </a:cubicBezTo>
                  <a:cubicBezTo>
                    <a:pt x="1318" y="90"/>
                    <a:pt x="1316" y="92"/>
                    <a:pt x="1315" y="94"/>
                  </a:cubicBezTo>
                  <a:cubicBezTo>
                    <a:pt x="1313" y="89"/>
                    <a:pt x="1312" y="85"/>
                    <a:pt x="1310" y="80"/>
                  </a:cubicBezTo>
                  <a:cubicBezTo>
                    <a:pt x="1314" y="74"/>
                    <a:pt x="1318" y="69"/>
                    <a:pt x="1321" y="64"/>
                  </a:cubicBezTo>
                  <a:close/>
                  <a:moveTo>
                    <a:pt x="1292" y="108"/>
                  </a:moveTo>
                  <a:cubicBezTo>
                    <a:pt x="1293" y="106"/>
                    <a:pt x="1295" y="104"/>
                    <a:pt x="1296" y="101"/>
                  </a:cubicBezTo>
                  <a:cubicBezTo>
                    <a:pt x="1296" y="107"/>
                    <a:pt x="1297" y="112"/>
                    <a:pt x="1298" y="117"/>
                  </a:cubicBezTo>
                  <a:cubicBezTo>
                    <a:pt x="1297" y="119"/>
                    <a:pt x="1295" y="120"/>
                    <a:pt x="1294" y="122"/>
                  </a:cubicBezTo>
                  <a:cubicBezTo>
                    <a:pt x="1294" y="117"/>
                    <a:pt x="1293" y="113"/>
                    <a:pt x="1292" y="108"/>
                  </a:cubicBezTo>
                  <a:close/>
                  <a:moveTo>
                    <a:pt x="1299" y="134"/>
                  </a:moveTo>
                  <a:cubicBezTo>
                    <a:pt x="1298" y="131"/>
                    <a:pt x="1297" y="128"/>
                    <a:pt x="1296" y="126"/>
                  </a:cubicBezTo>
                  <a:cubicBezTo>
                    <a:pt x="1297" y="125"/>
                    <a:pt x="1298" y="123"/>
                    <a:pt x="1298" y="122"/>
                  </a:cubicBezTo>
                  <a:cubicBezTo>
                    <a:pt x="1299" y="124"/>
                    <a:pt x="1299" y="125"/>
                    <a:pt x="1299" y="127"/>
                  </a:cubicBezTo>
                  <a:cubicBezTo>
                    <a:pt x="1299" y="129"/>
                    <a:pt x="1299" y="131"/>
                    <a:pt x="1299" y="134"/>
                  </a:cubicBezTo>
                  <a:close/>
                  <a:moveTo>
                    <a:pt x="1298" y="98"/>
                  </a:moveTo>
                  <a:cubicBezTo>
                    <a:pt x="1298" y="98"/>
                    <a:pt x="1298" y="98"/>
                    <a:pt x="1299" y="97"/>
                  </a:cubicBezTo>
                  <a:cubicBezTo>
                    <a:pt x="1299" y="101"/>
                    <a:pt x="1299" y="105"/>
                    <a:pt x="1299" y="108"/>
                  </a:cubicBezTo>
                  <a:cubicBezTo>
                    <a:pt x="1299" y="105"/>
                    <a:pt x="1298" y="101"/>
                    <a:pt x="1298" y="98"/>
                  </a:cubicBezTo>
                  <a:close/>
                  <a:moveTo>
                    <a:pt x="1298" y="82"/>
                  </a:moveTo>
                  <a:cubicBezTo>
                    <a:pt x="1298" y="78"/>
                    <a:pt x="1298" y="74"/>
                    <a:pt x="1299" y="72"/>
                  </a:cubicBezTo>
                  <a:cubicBezTo>
                    <a:pt x="1301" y="75"/>
                    <a:pt x="1302" y="78"/>
                    <a:pt x="1304" y="80"/>
                  </a:cubicBezTo>
                  <a:cubicBezTo>
                    <a:pt x="1302" y="82"/>
                    <a:pt x="1301" y="84"/>
                    <a:pt x="1299" y="86"/>
                  </a:cubicBezTo>
                  <a:cubicBezTo>
                    <a:pt x="1299" y="85"/>
                    <a:pt x="1298" y="83"/>
                    <a:pt x="1298" y="82"/>
                  </a:cubicBezTo>
                  <a:close/>
                  <a:moveTo>
                    <a:pt x="1302" y="92"/>
                  </a:moveTo>
                  <a:cubicBezTo>
                    <a:pt x="1303" y="90"/>
                    <a:pt x="1305" y="88"/>
                    <a:pt x="1306" y="86"/>
                  </a:cubicBezTo>
                  <a:cubicBezTo>
                    <a:pt x="1307" y="88"/>
                    <a:pt x="1308" y="91"/>
                    <a:pt x="1309" y="93"/>
                  </a:cubicBezTo>
                  <a:cubicBezTo>
                    <a:pt x="1309" y="96"/>
                    <a:pt x="1309" y="99"/>
                    <a:pt x="1310" y="102"/>
                  </a:cubicBezTo>
                  <a:cubicBezTo>
                    <a:pt x="1309" y="104"/>
                    <a:pt x="1308" y="105"/>
                    <a:pt x="1306" y="106"/>
                  </a:cubicBezTo>
                  <a:cubicBezTo>
                    <a:pt x="1305" y="102"/>
                    <a:pt x="1304" y="97"/>
                    <a:pt x="1302" y="92"/>
                  </a:cubicBezTo>
                  <a:close/>
                  <a:moveTo>
                    <a:pt x="1307" y="108"/>
                  </a:moveTo>
                  <a:cubicBezTo>
                    <a:pt x="1308" y="106"/>
                    <a:pt x="1309" y="104"/>
                    <a:pt x="1310" y="103"/>
                  </a:cubicBezTo>
                  <a:cubicBezTo>
                    <a:pt x="1312" y="118"/>
                    <a:pt x="1314" y="133"/>
                    <a:pt x="1316" y="149"/>
                  </a:cubicBezTo>
                  <a:cubicBezTo>
                    <a:pt x="1313" y="137"/>
                    <a:pt x="1311" y="122"/>
                    <a:pt x="1307" y="108"/>
                  </a:cubicBezTo>
                  <a:close/>
                  <a:moveTo>
                    <a:pt x="1315" y="95"/>
                  </a:moveTo>
                  <a:cubicBezTo>
                    <a:pt x="1317" y="93"/>
                    <a:pt x="1318" y="91"/>
                    <a:pt x="1320" y="89"/>
                  </a:cubicBezTo>
                  <a:cubicBezTo>
                    <a:pt x="1326" y="103"/>
                    <a:pt x="1327" y="120"/>
                    <a:pt x="1327" y="136"/>
                  </a:cubicBezTo>
                  <a:cubicBezTo>
                    <a:pt x="1324" y="122"/>
                    <a:pt x="1320" y="109"/>
                    <a:pt x="1315" y="95"/>
                  </a:cubicBezTo>
                  <a:close/>
                  <a:moveTo>
                    <a:pt x="1320" y="89"/>
                  </a:moveTo>
                  <a:cubicBezTo>
                    <a:pt x="1322" y="87"/>
                    <a:pt x="1323" y="85"/>
                    <a:pt x="1324" y="83"/>
                  </a:cubicBezTo>
                  <a:cubicBezTo>
                    <a:pt x="1325" y="90"/>
                    <a:pt x="1327" y="98"/>
                    <a:pt x="1328" y="105"/>
                  </a:cubicBezTo>
                  <a:cubicBezTo>
                    <a:pt x="1325" y="99"/>
                    <a:pt x="1323" y="94"/>
                    <a:pt x="1320" y="89"/>
                  </a:cubicBezTo>
                  <a:close/>
                  <a:moveTo>
                    <a:pt x="1333" y="92"/>
                  </a:moveTo>
                  <a:cubicBezTo>
                    <a:pt x="1331" y="87"/>
                    <a:pt x="1330" y="81"/>
                    <a:pt x="1329" y="74"/>
                  </a:cubicBezTo>
                  <a:cubicBezTo>
                    <a:pt x="1331" y="71"/>
                    <a:pt x="1333" y="68"/>
                    <a:pt x="1334" y="65"/>
                  </a:cubicBezTo>
                  <a:cubicBezTo>
                    <a:pt x="1336" y="69"/>
                    <a:pt x="1339" y="72"/>
                    <a:pt x="1341" y="75"/>
                  </a:cubicBezTo>
                  <a:cubicBezTo>
                    <a:pt x="1341" y="77"/>
                    <a:pt x="1341" y="79"/>
                    <a:pt x="1341" y="81"/>
                  </a:cubicBezTo>
                  <a:cubicBezTo>
                    <a:pt x="1340" y="80"/>
                    <a:pt x="1340" y="80"/>
                    <a:pt x="1339" y="79"/>
                  </a:cubicBezTo>
                  <a:cubicBezTo>
                    <a:pt x="1340" y="80"/>
                    <a:pt x="1340" y="81"/>
                    <a:pt x="1341" y="81"/>
                  </a:cubicBezTo>
                  <a:cubicBezTo>
                    <a:pt x="1340" y="86"/>
                    <a:pt x="1340" y="90"/>
                    <a:pt x="1340" y="91"/>
                  </a:cubicBezTo>
                  <a:cubicBezTo>
                    <a:pt x="1340" y="95"/>
                    <a:pt x="1340" y="100"/>
                    <a:pt x="1341" y="104"/>
                  </a:cubicBezTo>
                  <a:cubicBezTo>
                    <a:pt x="1340" y="101"/>
                    <a:pt x="1340" y="99"/>
                    <a:pt x="1339" y="96"/>
                  </a:cubicBezTo>
                  <a:cubicBezTo>
                    <a:pt x="1340" y="100"/>
                    <a:pt x="1340" y="104"/>
                    <a:pt x="1341" y="108"/>
                  </a:cubicBezTo>
                  <a:cubicBezTo>
                    <a:pt x="1341" y="120"/>
                    <a:pt x="1342" y="132"/>
                    <a:pt x="1342" y="143"/>
                  </a:cubicBezTo>
                  <a:cubicBezTo>
                    <a:pt x="1340" y="126"/>
                    <a:pt x="1337" y="109"/>
                    <a:pt x="1333" y="92"/>
                  </a:cubicBezTo>
                  <a:close/>
                  <a:moveTo>
                    <a:pt x="1356" y="125"/>
                  </a:moveTo>
                  <a:cubicBezTo>
                    <a:pt x="1353" y="116"/>
                    <a:pt x="1351" y="108"/>
                    <a:pt x="1348" y="99"/>
                  </a:cubicBezTo>
                  <a:cubicBezTo>
                    <a:pt x="1346" y="93"/>
                    <a:pt x="1345" y="87"/>
                    <a:pt x="1345" y="82"/>
                  </a:cubicBezTo>
                  <a:cubicBezTo>
                    <a:pt x="1350" y="91"/>
                    <a:pt x="1353" y="100"/>
                    <a:pt x="1356" y="109"/>
                  </a:cubicBezTo>
                  <a:cubicBezTo>
                    <a:pt x="1356" y="114"/>
                    <a:pt x="1356" y="120"/>
                    <a:pt x="1356" y="125"/>
                  </a:cubicBezTo>
                  <a:close/>
                  <a:moveTo>
                    <a:pt x="1356" y="97"/>
                  </a:moveTo>
                  <a:cubicBezTo>
                    <a:pt x="1353" y="90"/>
                    <a:pt x="1349" y="83"/>
                    <a:pt x="1344" y="77"/>
                  </a:cubicBezTo>
                  <a:cubicBezTo>
                    <a:pt x="1344" y="72"/>
                    <a:pt x="1343" y="67"/>
                    <a:pt x="1344" y="63"/>
                  </a:cubicBezTo>
                  <a:cubicBezTo>
                    <a:pt x="1349" y="70"/>
                    <a:pt x="1353" y="77"/>
                    <a:pt x="1357" y="85"/>
                  </a:cubicBezTo>
                  <a:cubicBezTo>
                    <a:pt x="1357" y="89"/>
                    <a:pt x="1357" y="93"/>
                    <a:pt x="1356" y="97"/>
                  </a:cubicBezTo>
                  <a:close/>
                  <a:moveTo>
                    <a:pt x="1366" y="119"/>
                  </a:moveTo>
                  <a:cubicBezTo>
                    <a:pt x="1365" y="110"/>
                    <a:pt x="1363" y="102"/>
                    <a:pt x="1361" y="93"/>
                  </a:cubicBezTo>
                  <a:cubicBezTo>
                    <a:pt x="1363" y="98"/>
                    <a:pt x="1366" y="104"/>
                    <a:pt x="1367" y="109"/>
                  </a:cubicBezTo>
                  <a:cubicBezTo>
                    <a:pt x="1368" y="112"/>
                    <a:pt x="1368" y="114"/>
                    <a:pt x="1369" y="116"/>
                  </a:cubicBezTo>
                  <a:cubicBezTo>
                    <a:pt x="1369" y="120"/>
                    <a:pt x="1369" y="124"/>
                    <a:pt x="1369" y="127"/>
                  </a:cubicBezTo>
                  <a:cubicBezTo>
                    <a:pt x="1368" y="125"/>
                    <a:pt x="1367" y="122"/>
                    <a:pt x="1366" y="119"/>
                  </a:cubicBezTo>
                  <a:close/>
                  <a:moveTo>
                    <a:pt x="1377" y="151"/>
                  </a:moveTo>
                  <a:cubicBezTo>
                    <a:pt x="1377" y="151"/>
                    <a:pt x="1377" y="151"/>
                    <a:pt x="1377" y="151"/>
                  </a:cubicBezTo>
                  <a:cubicBezTo>
                    <a:pt x="1377" y="151"/>
                    <a:pt x="1377" y="150"/>
                    <a:pt x="1377" y="150"/>
                  </a:cubicBezTo>
                  <a:cubicBezTo>
                    <a:pt x="1377" y="150"/>
                    <a:pt x="1377" y="150"/>
                    <a:pt x="1377" y="150"/>
                  </a:cubicBezTo>
                  <a:cubicBezTo>
                    <a:pt x="1377" y="151"/>
                    <a:pt x="1377" y="151"/>
                    <a:pt x="1377" y="151"/>
                  </a:cubicBezTo>
                  <a:close/>
                  <a:moveTo>
                    <a:pt x="1383" y="114"/>
                  </a:moveTo>
                  <a:cubicBezTo>
                    <a:pt x="1381" y="105"/>
                    <a:pt x="1378" y="96"/>
                    <a:pt x="1374" y="88"/>
                  </a:cubicBezTo>
                  <a:cubicBezTo>
                    <a:pt x="1378" y="97"/>
                    <a:pt x="1380" y="110"/>
                    <a:pt x="1382" y="122"/>
                  </a:cubicBezTo>
                  <a:cubicBezTo>
                    <a:pt x="1381" y="127"/>
                    <a:pt x="1380" y="132"/>
                    <a:pt x="1379" y="136"/>
                  </a:cubicBezTo>
                  <a:cubicBezTo>
                    <a:pt x="1378" y="134"/>
                    <a:pt x="1378" y="133"/>
                    <a:pt x="1377" y="131"/>
                  </a:cubicBezTo>
                  <a:cubicBezTo>
                    <a:pt x="1377" y="117"/>
                    <a:pt x="1376" y="102"/>
                    <a:pt x="1374" y="87"/>
                  </a:cubicBezTo>
                  <a:cubicBezTo>
                    <a:pt x="1374" y="87"/>
                    <a:pt x="1374" y="88"/>
                    <a:pt x="1374" y="88"/>
                  </a:cubicBezTo>
                  <a:cubicBezTo>
                    <a:pt x="1374" y="88"/>
                    <a:pt x="1374" y="87"/>
                    <a:pt x="1374" y="87"/>
                  </a:cubicBezTo>
                  <a:cubicBezTo>
                    <a:pt x="1373" y="82"/>
                    <a:pt x="1373" y="78"/>
                    <a:pt x="1372" y="73"/>
                  </a:cubicBezTo>
                  <a:cubicBezTo>
                    <a:pt x="1379" y="81"/>
                    <a:pt x="1383" y="91"/>
                    <a:pt x="1386" y="101"/>
                  </a:cubicBezTo>
                  <a:cubicBezTo>
                    <a:pt x="1385" y="105"/>
                    <a:pt x="1384" y="109"/>
                    <a:pt x="1383" y="114"/>
                  </a:cubicBezTo>
                  <a:close/>
                  <a:moveTo>
                    <a:pt x="1390" y="138"/>
                  </a:moveTo>
                  <a:cubicBezTo>
                    <a:pt x="1389" y="137"/>
                    <a:pt x="1389" y="136"/>
                    <a:pt x="1389" y="135"/>
                  </a:cubicBezTo>
                  <a:cubicBezTo>
                    <a:pt x="1389" y="124"/>
                    <a:pt x="1385" y="112"/>
                    <a:pt x="1386" y="101"/>
                  </a:cubicBezTo>
                  <a:cubicBezTo>
                    <a:pt x="1389" y="110"/>
                    <a:pt x="1391" y="119"/>
                    <a:pt x="1392" y="128"/>
                  </a:cubicBezTo>
                  <a:cubicBezTo>
                    <a:pt x="1391" y="132"/>
                    <a:pt x="1390" y="135"/>
                    <a:pt x="1390" y="138"/>
                  </a:cubicBezTo>
                  <a:close/>
                  <a:moveTo>
                    <a:pt x="1405" y="136"/>
                  </a:moveTo>
                  <a:cubicBezTo>
                    <a:pt x="1405" y="135"/>
                    <a:pt x="1404" y="134"/>
                    <a:pt x="1404" y="133"/>
                  </a:cubicBezTo>
                  <a:cubicBezTo>
                    <a:pt x="1403" y="131"/>
                    <a:pt x="1403" y="129"/>
                    <a:pt x="1402" y="128"/>
                  </a:cubicBezTo>
                  <a:cubicBezTo>
                    <a:pt x="1402" y="127"/>
                    <a:pt x="1402" y="127"/>
                    <a:pt x="1402" y="127"/>
                  </a:cubicBezTo>
                  <a:cubicBezTo>
                    <a:pt x="1403" y="129"/>
                    <a:pt x="1403" y="131"/>
                    <a:pt x="1404" y="133"/>
                  </a:cubicBezTo>
                  <a:cubicBezTo>
                    <a:pt x="1404" y="134"/>
                    <a:pt x="1405" y="135"/>
                    <a:pt x="1405" y="136"/>
                  </a:cubicBezTo>
                  <a:cubicBezTo>
                    <a:pt x="1405" y="136"/>
                    <a:pt x="1405" y="136"/>
                    <a:pt x="1405" y="136"/>
                  </a:cubicBezTo>
                  <a:close/>
                  <a:moveTo>
                    <a:pt x="1406" y="133"/>
                  </a:moveTo>
                  <a:cubicBezTo>
                    <a:pt x="1405" y="129"/>
                    <a:pt x="1404" y="125"/>
                    <a:pt x="1402" y="120"/>
                  </a:cubicBezTo>
                  <a:cubicBezTo>
                    <a:pt x="1402" y="119"/>
                    <a:pt x="1402" y="117"/>
                    <a:pt x="1402" y="115"/>
                  </a:cubicBezTo>
                  <a:cubicBezTo>
                    <a:pt x="1402" y="112"/>
                    <a:pt x="1402" y="109"/>
                    <a:pt x="1403" y="105"/>
                  </a:cubicBezTo>
                  <a:cubicBezTo>
                    <a:pt x="1405" y="112"/>
                    <a:pt x="1406" y="119"/>
                    <a:pt x="1408" y="126"/>
                  </a:cubicBezTo>
                  <a:cubicBezTo>
                    <a:pt x="1407" y="128"/>
                    <a:pt x="1407" y="130"/>
                    <a:pt x="1406" y="133"/>
                  </a:cubicBezTo>
                  <a:close/>
                  <a:moveTo>
                    <a:pt x="1420" y="139"/>
                  </a:moveTo>
                  <a:cubicBezTo>
                    <a:pt x="1420" y="139"/>
                    <a:pt x="1420" y="139"/>
                    <a:pt x="1420" y="139"/>
                  </a:cubicBezTo>
                  <a:cubicBezTo>
                    <a:pt x="1420" y="137"/>
                    <a:pt x="1420" y="135"/>
                    <a:pt x="1420" y="133"/>
                  </a:cubicBezTo>
                  <a:cubicBezTo>
                    <a:pt x="1420" y="134"/>
                    <a:pt x="1420" y="134"/>
                    <a:pt x="1420" y="135"/>
                  </a:cubicBezTo>
                  <a:cubicBezTo>
                    <a:pt x="1420" y="136"/>
                    <a:pt x="1420" y="138"/>
                    <a:pt x="1420" y="139"/>
                  </a:cubicBezTo>
                  <a:close/>
                  <a:moveTo>
                    <a:pt x="1441" y="150"/>
                  </a:moveTo>
                  <a:cubicBezTo>
                    <a:pt x="1440" y="148"/>
                    <a:pt x="1439" y="147"/>
                    <a:pt x="1439" y="146"/>
                  </a:cubicBezTo>
                  <a:cubicBezTo>
                    <a:pt x="1438" y="131"/>
                    <a:pt x="1434" y="116"/>
                    <a:pt x="1432" y="101"/>
                  </a:cubicBezTo>
                  <a:cubicBezTo>
                    <a:pt x="1437" y="115"/>
                    <a:pt x="1439" y="132"/>
                    <a:pt x="1441" y="146"/>
                  </a:cubicBezTo>
                  <a:cubicBezTo>
                    <a:pt x="1441" y="147"/>
                    <a:pt x="1441" y="148"/>
                    <a:pt x="1441" y="150"/>
                  </a:cubicBezTo>
                  <a:close/>
                  <a:moveTo>
                    <a:pt x="1445" y="143"/>
                  </a:moveTo>
                  <a:cubicBezTo>
                    <a:pt x="1445" y="142"/>
                    <a:pt x="1445" y="141"/>
                    <a:pt x="1445" y="140"/>
                  </a:cubicBezTo>
                  <a:cubicBezTo>
                    <a:pt x="1445" y="139"/>
                    <a:pt x="1445" y="139"/>
                    <a:pt x="1445" y="139"/>
                  </a:cubicBezTo>
                  <a:cubicBezTo>
                    <a:pt x="1445" y="140"/>
                    <a:pt x="1445" y="141"/>
                    <a:pt x="1445" y="142"/>
                  </a:cubicBezTo>
                  <a:cubicBezTo>
                    <a:pt x="1445" y="142"/>
                    <a:pt x="1445" y="143"/>
                    <a:pt x="1445" y="143"/>
                  </a:cubicBezTo>
                  <a:close/>
                  <a:moveTo>
                    <a:pt x="1458" y="139"/>
                  </a:moveTo>
                  <a:cubicBezTo>
                    <a:pt x="1457" y="142"/>
                    <a:pt x="1456" y="145"/>
                    <a:pt x="1455" y="147"/>
                  </a:cubicBezTo>
                  <a:cubicBezTo>
                    <a:pt x="1455" y="146"/>
                    <a:pt x="1454" y="145"/>
                    <a:pt x="1454" y="144"/>
                  </a:cubicBezTo>
                  <a:cubicBezTo>
                    <a:pt x="1456" y="132"/>
                    <a:pt x="1456" y="120"/>
                    <a:pt x="1458" y="108"/>
                  </a:cubicBezTo>
                  <a:cubicBezTo>
                    <a:pt x="1460" y="116"/>
                    <a:pt x="1459" y="128"/>
                    <a:pt x="1458" y="139"/>
                  </a:cubicBezTo>
                  <a:close/>
                  <a:moveTo>
                    <a:pt x="1458" y="108"/>
                  </a:moveTo>
                  <a:cubicBezTo>
                    <a:pt x="1459" y="104"/>
                    <a:pt x="1459" y="100"/>
                    <a:pt x="1461" y="97"/>
                  </a:cubicBezTo>
                  <a:cubicBezTo>
                    <a:pt x="1462" y="100"/>
                    <a:pt x="1463" y="103"/>
                    <a:pt x="1464" y="107"/>
                  </a:cubicBezTo>
                  <a:cubicBezTo>
                    <a:pt x="1463" y="112"/>
                    <a:pt x="1463" y="117"/>
                    <a:pt x="1462" y="122"/>
                  </a:cubicBezTo>
                  <a:cubicBezTo>
                    <a:pt x="1460" y="116"/>
                    <a:pt x="1459" y="111"/>
                    <a:pt x="1458" y="108"/>
                  </a:cubicBezTo>
                  <a:close/>
                  <a:moveTo>
                    <a:pt x="1466" y="134"/>
                  </a:moveTo>
                  <a:cubicBezTo>
                    <a:pt x="1465" y="132"/>
                    <a:pt x="1464" y="130"/>
                    <a:pt x="1464" y="128"/>
                  </a:cubicBezTo>
                  <a:cubicBezTo>
                    <a:pt x="1464" y="121"/>
                    <a:pt x="1464" y="114"/>
                    <a:pt x="1464" y="107"/>
                  </a:cubicBezTo>
                  <a:cubicBezTo>
                    <a:pt x="1466" y="113"/>
                    <a:pt x="1467" y="118"/>
                    <a:pt x="1468" y="124"/>
                  </a:cubicBezTo>
                  <a:cubicBezTo>
                    <a:pt x="1467" y="128"/>
                    <a:pt x="1466" y="131"/>
                    <a:pt x="1466" y="134"/>
                  </a:cubicBezTo>
                  <a:close/>
                  <a:moveTo>
                    <a:pt x="1470" y="118"/>
                  </a:moveTo>
                  <a:cubicBezTo>
                    <a:pt x="1468" y="114"/>
                    <a:pt x="1466" y="109"/>
                    <a:pt x="1464" y="105"/>
                  </a:cubicBezTo>
                  <a:cubicBezTo>
                    <a:pt x="1465" y="102"/>
                    <a:pt x="1465" y="99"/>
                    <a:pt x="1466" y="96"/>
                  </a:cubicBezTo>
                  <a:cubicBezTo>
                    <a:pt x="1465" y="99"/>
                    <a:pt x="1465" y="102"/>
                    <a:pt x="1464" y="105"/>
                  </a:cubicBezTo>
                  <a:cubicBezTo>
                    <a:pt x="1463" y="102"/>
                    <a:pt x="1462" y="99"/>
                    <a:pt x="1461" y="96"/>
                  </a:cubicBezTo>
                  <a:cubicBezTo>
                    <a:pt x="1461" y="94"/>
                    <a:pt x="1462" y="91"/>
                    <a:pt x="1463" y="89"/>
                  </a:cubicBezTo>
                  <a:cubicBezTo>
                    <a:pt x="1467" y="95"/>
                    <a:pt x="1470" y="102"/>
                    <a:pt x="1472" y="109"/>
                  </a:cubicBezTo>
                  <a:cubicBezTo>
                    <a:pt x="1472" y="112"/>
                    <a:pt x="1471" y="115"/>
                    <a:pt x="1470" y="118"/>
                  </a:cubicBezTo>
                  <a:close/>
                  <a:moveTo>
                    <a:pt x="1473" y="151"/>
                  </a:moveTo>
                  <a:cubicBezTo>
                    <a:pt x="1473" y="151"/>
                    <a:pt x="1473" y="151"/>
                    <a:pt x="1472" y="151"/>
                  </a:cubicBezTo>
                  <a:cubicBezTo>
                    <a:pt x="1473" y="150"/>
                    <a:pt x="1473" y="148"/>
                    <a:pt x="1473" y="147"/>
                  </a:cubicBezTo>
                  <a:cubicBezTo>
                    <a:pt x="1473" y="147"/>
                    <a:pt x="1473" y="148"/>
                    <a:pt x="1473" y="148"/>
                  </a:cubicBezTo>
                  <a:cubicBezTo>
                    <a:pt x="1473" y="149"/>
                    <a:pt x="1473" y="150"/>
                    <a:pt x="1473" y="151"/>
                  </a:cubicBezTo>
                  <a:close/>
                  <a:moveTo>
                    <a:pt x="1477" y="136"/>
                  </a:moveTo>
                  <a:cubicBezTo>
                    <a:pt x="1476" y="134"/>
                    <a:pt x="1475" y="132"/>
                    <a:pt x="1475" y="130"/>
                  </a:cubicBezTo>
                  <a:cubicBezTo>
                    <a:pt x="1475" y="127"/>
                    <a:pt x="1475" y="123"/>
                    <a:pt x="1476" y="120"/>
                  </a:cubicBezTo>
                  <a:cubicBezTo>
                    <a:pt x="1477" y="123"/>
                    <a:pt x="1478" y="127"/>
                    <a:pt x="1479" y="130"/>
                  </a:cubicBezTo>
                  <a:cubicBezTo>
                    <a:pt x="1478" y="132"/>
                    <a:pt x="1477" y="134"/>
                    <a:pt x="1477" y="136"/>
                  </a:cubicBezTo>
                  <a:close/>
                  <a:moveTo>
                    <a:pt x="1483" y="150"/>
                  </a:moveTo>
                  <a:cubicBezTo>
                    <a:pt x="1483" y="149"/>
                    <a:pt x="1482" y="147"/>
                    <a:pt x="1481" y="146"/>
                  </a:cubicBezTo>
                  <a:cubicBezTo>
                    <a:pt x="1482" y="145"/>
                    <a:pt x="1482" y="145"/>
                    <a:pt x="1482" y="144"/>
                  </a:cubicBezTo>
                  <a:cubicBezTo>
                    <a:pt x="1483" y="146"/>
                    <a:pt x="1483" y="147"/>
                    <a:pt x="1484" y="149"/>
                  </a:cubicBezTo>
                  <a:cubicBezTo>
                    <a:pt x="1484" y="149"/>
                    <a:pt x="1483" y="149"/>
                    <a:pt x="1483" y="150"/>
                  </a:cubicBezTo>
                  <a:close/>
                  <a:moveTo>
                    <a:pt x="1481" y="122"/>
                  </a:moveTo>
                  <a:cubicBezTo>
                    <a:pt x="1480" y="118"/>
                    <a:pt x="1478" y="115"/>
                    <a:pt x="1477" y="111"/>
                  </a:cubicBezTo>
                  <a:cubicBezTo>
                    <a:pt x="1478" y="101"/>
                    <a:pt x="1480" y="90"/>
                    <a:pt x="1484" y="81"/>
                  </a:cubicBezTo>
                  <a:cubicBezTo>
                    <a:pt x="1487" y="86"/>
                    <a:pt x="1490" y="91"/>
                    <a:pt x="1492" y="97"/>
                  </a:cubicBezTo>
                  <a:cubicBezTo>
                    <a:pt x="1490" y="101"/>
                    <a:pt x="1488" y="105"/>
                    <a:pt x="1486" y="109"/>
                  </a:cubicBezTo>
                  <a:cubicBezTo>
                    <a:pt x="1484" y="102"/>
                    <a:pt x="1483" y="96"/>
                    <a:pt x="1481" y="91"/>
                  </a:cubicBezTo>
                  <a:cubicBezTo>
                    <a:pt x="1482" y="99"/>
                    <a:pt x="1483" y="106"/>
                    <a:pt x="1484" y="114"/>
                  </a:cubicBezTo>
                  <a:cubicBezTo>
                    <a:pt x="1483" y="117"/>
                    <a:pt x="1482" y="119"/>
                    <a:pt x="1481" y="122"/>
                  </a:cubicBezTo>
                  <a:close/>
                  <a:moveTo>
                    <a:pt x="1488" y="141"/>
                  </a:moveTo>
                  <a:cubicBezTo>
                    <a:pt x="1487" y="138"/>
                    <a:pt x="1486" y="135"/>
                    <a:pt x="1485" y="131"/>
                  </a:cubicBezTo>
                  <a:cubicBezTo>
                    <a:pt x="1485" y="129"/>
                    <a:pt x="1486" y="127"/>
                    <a:pt x="1486" y="124"/>
                  </a:cubicBezTo>
                  <a:cubicBezTo>
                    <a:pt x="1487" y="130"/>
                    <a:pt x="1488" y="135"/>
                    <a:pt x="1489" y="140"/>
                  </a:cubicBezTo>
                  <a:cubicBezTo>
                    <a:pt x="1489" y="140"/>
                    <a:pt x="1489" y="141"/>
                    <a:pt x="1488" y="141"/>
                  </a:cubicBezTo>
                  <a:close/>
                  <a:moveTo>
                    <a:pt x="1491" y="150"/>
                  </a:moveTo>
                  <a:cubicBezTo>
                    <a:pt x="1491" y="150"/>
                    <a:pt x="1491" y="149"/>
                    <a:pt x="1491" y="149"/>
                  </a:cubicBezTo>
                  <a:cubicBezTo>
                    <a:pt x="1491" y="149"/>
                    <a:pt x="1491" y="149"/>
                    <a:pt x="1491" y="149"/>
                  </a:cubicBezTo>
                  <a:cubicBezTo>
                    <a:pt x="1491" y="149"/>
                    <a:pt x="1491" y="150"/>
                    <a:pt x="1491" y="150"/>
                  </a:cubicBezTo>
                  <a:cubicBezTo>
                    <a:pt x="1491" y="150"/>
                    <a:pt x="1491" y="150"/>
                    <a:pt x="1491" y="150"/>
                  </a:cubicBezTo>
                  <a:close/>
                  <a:moveTo>
                    <a:pt x="1488" y="114"/>
                  </a:moveTo>
                  <a:cubicBezTo>
                    <a:pt x="1489" y="108"/>
                    <a:pt x="1490" y="103"/>
                    <a:pt x="1492" y="97"/>
                  </a:cubicBezTo>
                  <a:cubicBezTo>
                    <a:pt x="1494" y="103"/>
                    <a:pt x="1496" y="110"/>
                    <a:pt x="1498" y="116"/>
                  </a:cubicBezTo>
                  <a:cubicBezTo>
                    <a:pt x="1496" y="121"/>
                    <a:pt x="1495" y="126"/>
                    <a:pt x="1493" y="131"/>
                  </a:cubicBezTo>
                  <a:cubicBezTo>
                    <a:pt x="1491" y="126"/>
                    <a:pt x="1489" y="120"/>
                    <a:pt x="1488" y="114"/>
                  </a:cubicBezTo>
                  <a:close/>
                  <a:moveTo>
                    <a:pt x="1495" y="139"/>
                  </a:moveTo>
                  <a:cubicBezTo>
                    <a:pt x="1497" y="134"/>
                    <a:pt x="1498" y="129"/>
                    <a:pt x="1499" y="124"/>
                  </a:cubicBezTo>
                  <a:cubicBezTo>
                    <a:pt x="1500" y="125"/>
                    <a:pt x="1500" y="126"/>
                    <a:pt x="1500" y="128"/>
                  </a:cubicBezTo>
                  <a:cubicBezTo>
                    <a:pt x="1499" y="132"/>
                    <a:pt x="1497" y="136"/>
                    <a:pt x="1496" y="141"/>
                  </a:cubicBezTo>
                  <a:cubicBezTo>
                    <a:pt x="1496" y="140"/>
                    <a:pt x="1495" y="139"/>
                    <a:pt x="1495" y="139"/>
                  </a:cubicBezTo>
                  <a:close/>
                  <a:moveTo>
                    <a:pt x="1500" y="150"/>
                  </a:moveTo>
                  <a:cubicBezTo>
                    <a:pt x="1500" y="150"/>
                    <a:pt x="1499" y="149"/>
                    <a:pt x="1499" y="149"/>
                  </a:cubicBezTo>
                  <a:cubicBezTo>
                    <a:pt x="1500" y="147"/>
                    <a:pt x="1501" y="144"/>
                    <a:pt x="1502" y="141"/>
                  </a:cubicBezTo>
                  <a:cubicBezTo>
                    <a:pt x="1502" y="143"/>
                    <a:pt x="1503" y="144"/>
                    <a:pt x="1503" y="145"/>
                  </a:cubicBezTo>
                  <a:cubicBezTo>
                    <a:pt x="1502" y="147"/>
                    <a:pt x="1501" y="149"/>
                    <a:pt x="1500" y="150"/>
                  </a:cubicBezTo>
                  <a:close/>
                  <a:moveTo>
                    <a:pt x="1511" y="126"/>
                  </a:moveTo>
                  <a:cubicBezTo>
                    <a:pt x="1510" y="123"/>
                    <a:pt x="1509" y="120"/>
                    <a:pt x="1508" y="117"/>
                  </a:cubicBezTo>
                  <a:cubicBezTo>
                    <a:pt x="1509" y="116"/>
                    <a:pt x="1509" y="115"/>
                    <a:pt x="1509" y="114"/>
                  </a:cubicBezTo>
                  <a:cubicBezTo>
                    <a:pt x="1509" y="116"/>
                    <a:pt x="1510" y="117"/>
                    <a:pt x="1510" y="119"/>
                  </a:cubicBezTo>
                  <a:cubicBezTo>
                    <a:pt x="1511" y="121"/>
                    <a:pt x="1511" y="123"/>
                    <a:pt x="1512" y="125"/>
                  </a:cubicBezTo>
                  <a:cubicBezTo>
                    <a:pt x="1512" y="125"/>
                    <a:pt x="1511" y="125"/>
                    <a:pt x="1511" y="126"/>
                  </a:cubicBezTo>
                  <a:close/>
                  <a:moveTo>
                    <a:pt x="1516" y="142"/>
                  </a:moveTo>
                  <a:cubicBezTo>
                    <a:pt x="1515" y="139"/>
                    <a:pt x="1515" y="136"/>
                    <a:pt x="1514" y="133"/>
                  </a:cubicBezTo>
                  <a:cubicBezTo>
                    <a:pt x="1514" y="133"/>
                    <a:pt x="1514" y="133"/>
                    <a:pt x="1514" y="133"/>
                  </a:cubicBezTo>
                  <a:cubicBezTo>
                    <a:pt x="1515" y="136"/>
                    <a:pt x="1516" y="138"/>
                    <a:pt x="1516" y="141"/>
                  </a:cubicBezTo>
                  <a:cubicBezTo>
                    <a:pt x="1516" y="141"/>
                    <a:pt x="1516" y="141"/>
                    <a:pt x="1516" y="142"/>
                  </a:cubicBezTo>
                  <a:close/>
                  <a:moveTo>
                    <a:pt x="1518" y="148"/>
                  </a:move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lose/>
                  <a:moveTo>
                    <a:pt x="1521" y="141"/>
                  </a:moveTo>
                  <a:cubicBezTo>
                    <a:pt x="1521" y="141"/>
                    <a:pt x="1521" y="141"/>
                    <a:pt x="1521" y="141"/>
                  </a:cubicBezTo>
                  <a:cubicBezTo>
                    <a:pt x="1522" y="137"/>
                    <a:pt x="1523" y="133"/>
                    <a:pt x="1525" y="129"/>
                  </a:cubicBezTo>
                  <a:cubicBezTo>
                    <a:pt x="1525" y="129"/>
                    <a:pt x="1525" y="130"/>
                    <a:pt x="1525" y="131"/>
                  </a:cubicBezTo>
                  <a:cubicBezTo>
                    <a:pt x="1523" y="135"/>
                    <a:pt x="1522" y="138"/>
                    <a:pt x="1521" y="141"/>
                  </a:cubicBezTo>
                  <a:close/>
                  <a:moveTo>
                    <a:pt x="1528" y="122"/>
                  </a:moveTo>
                  <a:cubicBezTo>
                    <a:pt x="1528" y="121"/>
                    <a:pt x="1527" y="120"/>
                    <a:pt x="1527" y="119"/>
                  </a:cubicBezTo>
                  <a:cubicBezTo>
                    <a:pt x="1528" y="117"/>
                    <a:pt x="1528" y="114"/>
                    <a:pt x="1529" y="111"/>
                  </a:cubicBezTo>
                  <a:cubicBezTo>
                    <a:pt x="1530" y="113"/>
                    <a:pt x="1530" y="115"/>
                    <a:pt x="1531" y="117"/>
                  </a:cubicBezTo>
                  <a:cubicBezTo>
                    <a:pt x="1530" y="119"/>
                    <a:pt x="1529" y="121"/>
                    <a:pt x="1528" y="122"/>
                  </a:cubicBezTo>
                  <a:close/>
                  <a:moveTo>
                    <a:pt x="1538" y="147"/>
                  </a:moveTo>
                  <a:cubicBezTo>
                    <a:pt x="1537" y="145"/>
                    <a:pt x="1537" y="144"/>
                    <a:pt x="1536" y="142"/>
                  </a:cubicBezTo>
                  <a:cubicBezTo>
                    <a:pt x="1536" y="140"/>
                    <a:pt x="1535" y="138"/>
                    <a:pt x="1534" y="136"/>
                  </a:cubicBezTo>
                  <a:cubicBezTo>
                    <a:pt x="1534" y="136"/>
                    <a:pt x="1534" y="135"/>
                    <a:pt x="1534" y="134"/>
                  </a:cubicBezTo>
                  <a:cubicBezTo>
                    <a:pt x="1535" y="137"/>
                    <a:pt x="1536" y="139"/>
                    <a:pt x="1536" y="142"/>
                  </a:cubicBezTo>
                  <a:cubicBezTo>
                    <a:pt x="1537" y="143"/>
                    <a:pt x="1537" y="145"/>
                    <a:pt x="1538" y="147"/>
                  </a:cubicBezTo>
                  <a:cubicBezTo>
                    <a:pt x="1538" y="147"/>
                    <a:pt x="1538" y="147"/>
                    <a:pt x="1538" y="147"/>
                  </a:cubicBezTo>
                  <a:close/>
                  <a:moveTo>
                    <a:pt x="1541" y="138"/>
                  </a:moveTo>
                  <a:cubicBezTo>
                    <a:pt x="1539" y="133"/>
                    <a:pt x="1538" y="128"/>
                    <a:pt x="1536" y="124"/>
                  </a:cubicBezTo>
                  <a:cubicBezTo>
                    <a:pt x="1536" y="121"/>
                    <a:pt x="1537" y="118"/>
                    <a:pt x="1537" y="116"/>
                  </a:cubicBezTo>
                  <a:cubicBezTo>
                    <a:pt x="1538" y="123"/>
                    <a:pt x="1540" y="129"/>
                    <a:pt x="1542" y="136"/>
                  </a:cubicBezTo>
                  <a:cubicBezTo>
                    <a:pt x="1542" y="137"/>
                    <a:pt x="1541" y="137"/>
                    <a:pt x="1541" y="138"/>
                  </a:cubicBezTo>
                  <a:close/>
                  <a:moveTo>
                    <a:pt x="1538" y="109"/>
                  </a:moveTo>
                  <a:cubicBezTo>
                    <a:pt x="1539" y="103"/>
                    <a:pt x="1541" y="97"/>
                    <a:pt x="1543" y="91"/>
                  </a:cubicBezTo>
                  <a:cubicBezTo>
                    <a:pt x="1545" y="96"/>
                    <a:pt x="1547" y="101"/>
                    <a:pt x="1549" y="106"/>
                  </a:cubicBezTo>
                  <a:cubicBezTo>
                    <a:pt x="1547" y="112"/>
                    <a:pt x="1546" y="120"/>
                    <a:pt x="1544" y="127"/>
                  </a:cubicBezTo>
                  <a:cubicBezTo>
                    <a:pt x="1542" y="121"/>
                    <a:pt x="1540" y="115"/>
                    <a:pt x="1538" y="109"/>
                  </a:cubicBezTo>
                  <a:close/>
                  <a:moveTo>
                    <a:pt x="1545" y="148"/>
                  </a:move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8"/>
                    <a:pt x="1545" y="148"/>
                  </a:cubicBezTo>
                  <a:close/>
                  <a:moveTo>
                    <a:pt x="1547" y="136"/>
                  </a:moveTo>
                  <a:cubicBezTo>
                    <a:pt x="1549" y="127"/>
                    <a:pt x="1549" y="118"/>
                    <a:pt x="1549" y="109"/>
                  </a:cubicBezTo>
                  <a:cubicBezTo>
                    <a:pt x="1551" y="115"/>
                    <a:pt x="1552" y="121"/>
                    <a:pt x="1553" y="127"/>
                  </a:cubicBezTo>
                  <a:cubicBezTo>
                    <a:pt x="1551" y="131"/>
                    <a:pt x="1550" y="135"/>
                    <a:pt x="1549" y="139"/>
                  </a:cubicBezTo>
                  <a:cubicBezTo>
                    <a:pt x="1548" y="138"/>
                    <a:pt x="1548" y="137"/>
                    <a:pt x="1547" y="136"/>
                  </a:cubicBezTo>
                  <a:close/>
                  <a:moveTo>
                    <a:pt x="1554" y="148"/>
                  </a:moveTo>
                  <a:cubicBezTo>
                    <a:pt x="1553" y="148"/>
                    <a:pt x="1553" y="147"/>
                    <a:pt x="1552" y="146"/>
                  </a:cubicBezTo>
                  <a:cubicBezTo>
                    <a:pt x="1553" y="143"/>
                    <a:pt x="1554" y="140"/>
                    <a:pt x="1554" y="137"/>
                  </a:cubicBezTo>
                  <a:cubicBezTo>
                    <a:pt x="1555" y="140"/>
                    <a:pt x="1555" y="142"/>
                    <a:pt x="1556" y="144"/>
                  </a:cubicBezTo>
                  <a:cubicBezTo>
                    <a:pt x="1555" y="146"/>
                    <a:pt x="1554" y="147"/>
                    <a:pt x="1554" y="148"/>
                  </a:cubicBezTo>
                  <a:close/>
                  <a:moveTo>
                    <a:pt x="1549" y="103"/>
                  </a:moveTo>
                  <a:cubicBezTo>
                    <a:pt x="1549" y="102"/>
                    <a:pt x="1549" y="102"/>
                    <a:pt x="1549" y="102"/>
                  </a:cubicBezTo>
                  <a:cubicBezTo>
                    <a:pt x="1549" y="102"/>
                    <a:pt x="1549" y="103"/>
                    <a:pt x="1549" y="103"/>
                  </a:cubicBezTo>
                  <a:cubicBezTo>
                    <a:pt x="1547" y="98"/>
                    <a:pt x="1545" y="94"/>
                    <a:pt x="1543" y="91"/>
                  </a:cubicBezTo>
                  <a:cubicBezTo>
                    <a:pt x="1544" y="87"/>
                    <a:pt x="1546" y="83"/>
                    <a:pt x="1548" y="80"/>
                  </a:cubicBezTo>
                  <a:cubicBezTo>
                    <a:pt x="1554" y="89"/>
                    <a:pt x="1558" y="99"/>
                    <a:pt x="1560" y="109"/>
                  </a:cubicBezTo>
                  <a:cubicBezTo>
                    <a:pt x="1559" y="112"/>
                    <a:pt x="1557" y="116"/>
                    <a:pt x="1556" y="119"/>
                  </a:cubicBezTo>
                  <a:cubicBezTo>
                    <a:pt x="1554" y="114"/>
                    <a:pt x="1552" y="108"/>
                    <a:pt x="1549" y="103"/>
                  </a:cubicBezTo>
                  <a:close/>
                  <a:moveTo>
                    <a:pt x="1557" y="123"/>
                  </a:moveTo>
                  <a:cubicBezTo>
                    <a:pt x="1558" y="118"/>
                    <a:pt x="1559" y="114"/>
                    <a:pt x="1560" y="110"/>
                  </a:cubicBezTo>
                  <a:cubicBezTo>
                    <a:pt x="1561" y="115"/>
                    <a:pt x="1562" y="120"/>
                    <a:pt x="1563" y="125"/>
                  </a:cubicBezTo>
                  <a:cubicBezTo>
                    <a:pt x="1562" y="128"/>
                    <a:pt x="1561" y="130"/>
                    <a:pt x="1560" y="133"/>
                  </a:cubicBezTo>
                  <a:cubicBezTo>
                    <a:pt x="1559" y="129"/>
                    <a:pt x="1558" y="126"/>
                    <a:pt x="1557" y="123"/>
                  </a:cubicBezTo>
                  <a:close/>
                  <a:moveTo>
                    <a:pt x="1564" y="150"/>
                  </a:moveTo>
                  <a:cubicBezTo>
                    <a:pt x="1564" y="147"/>
                    <a:pt x="1563" y="144"/>
                    <a:pt x="1562" y="140"/>
                  </a:cubicBezTo>
                  <a:cubicBezTo>
                    <a:pt x="1563" y="137"/>
                    <a:pt x="1563" y="135"/>
                    <a:pt x="1563" y="132"/>
                  </a:cubicBezTo>
                  <a:cubicBezTo>
                    <a:pt x="1564" y="137"/>
                    <a:pt x="1564" y="143"/>
                    <a:pt x="1564" y="149"/>
                  </a:cubicBezTo>
                  <a:cubicBezTo>
                    <a:pt x="1564" y="150"/>
                    <a:pt x="1564" y="150"/>
                    <a:pt x="1564" y="150"/>
                  </a:cubicBezTo>
                  <a:close/>
                  <a:moveTo>
                    <a:pt x="1593" y="152"/>
                  </a:moveTo>
                  <a:cubicBezTo>
                    <a:pt x="1593" y="148"/>
                    <a:pt x="1593" y="145"/>
                    <a:pt x="1592" y="141"/>
                  </a:cubicBezTo>
                  <a:cubicBezTo>
                    <a:pt x="1592" y="136"/>
                    <a:pt x="1593" y="131"/>
                    <a:pt x="1593" y="125"/>
                  </a:cubicBezTo>
                  <a:cubicBezTo>
                    <a:pt x="1593" y="134"/>
                    <a:pt x="1593" y="142"/>
                    <a:pt x="1593" y="151"/>
                  </a:cubicBezTo>
                  <a:cubicBezTo>
                    <a:pt x="1593" y="151"/>
                    <a:pt x="1593" y="151"/>
                    <a:pt x="1593" y="152"/>
                  </a:cubicBezTo>
                  <a:close/>
                  <a:moveTo>
                    <a:pt x="1659" y="128"/>
                  </a:moveTo>
                  <a:cubicBezTo>
                    <a:pt x="1659" y="132"/>
                    <a:pt x="1658" y="136"/>
                    <a:pt x="1657" y="140"/>
                  </a:cubicBezTo>
                  <a:cubicBezTo>
                    <a:pt x="1657" y="136"/>
                    <a:pt x="1656" y="133"/>
                    <a:pt x="1655" y="129"/>
                  </a:cubicBezTo>
                  <a:cubicBezTo>
                    <a:pt x="1655" y="126"/>
                    <a:pt x="1655" y="122"/>
                    <a:pt x="1655" y="119"/>
                  </a:cubicBezTo>
                  <a:cubicBezTo>
                    <a:pt x="1655" y="112"/>
                    <a:pt x="1656" y="104"/>
                    <a:pt x="1657" y="97"/>
                  </a:cubicBezTo>
                  <a:cubicBezTo>
                    <a:pt x="1658" y="102"/>
                    <a:pt x="1659" y="107"/>
                    <a:pt x="1659" y="111"/>
                  </a:cubicBezTo>
                  <a:cubicBezTo>
                    <a:pt x="1659" y="122"/>
                    <a:pt x="1659" y="122"/>
                    <a:pt x="1659" y="122"/>
                  </a:cubicBezTo>
                  <a:cubicBezTo>
                    <a:pt x="1659" y="124"/>
                    <a:pt x="1659" y="126"/>
                    <a:pt x="1659" y="128"/>
                  </a:cubicBezTo>
                  <a:close/>
                  <a:moveTo>
                    <a:pt x="1667" y="151"/>
                  </a:moveTo>
                  <a:cubicBezTo>
                    <a:pt x="1667" y="152"/>
                    <a:pt x="1667" y="152"/>
                    <a:pt x="1667" y="152"/>
                  </a:cubicBezTo>
                  <a:cubicBezTo>
                    <a:pt x="1667" y="152"/>
                    <a:pt x="1667" y="152"/>
                    <a:pt x="1667" y="152"/>
                  </a:cubicBezTo>
                  <a:cubicBezTo>
                    <a:pt x="1667" y="136"/>
                    <a:pt x="1667" y="123"/>
                    <a:pt x="1666" y="109"/>
                  </a:cubicBezTo>
                  <a:cubicBezTo>
                    <a:pt x="1666" y="104"/>
                    <a:pt x="1667" y="99"/>
                    <a:pt x="1668" y="93"/>
                  </a:cubicBezTo>
                  <a:cubicBezTo>
                    <a:pt x="1669" y="99"/>
                    <a:pt x="1669" y="105"/>
                    <a:pt x="1669" y="110"/>
                  </a:cubicBezTo>
                  <a:cubicBezTo>
                    <a:pt x="1669" y="124"/>
                    <a:pt x="1667" y="138"/>
                    <a:pt x="1667" y="151"/>
                  </a:cubicBezTo>
                  <a:close/>
                  <a:moveTo>
                    <a:pt x="1694" y="110"/>
                  </a:moveTo>
                  <a:cubicBezTo>
                    <a:pt x="1694" y="109"/>
                    <a:pt x="1694" y="107"/>
                    <a:pt x="1694" y="106"/>
                  </a:cubicBezTo>
                  <a:cubicBezTo>
                    <a:pt x="1694" y="110"/>
                    <a:pt x="1695" y="113"/>
                    <a:pt x="1695" y="116"/>
                  </a:cubicBezTo>
                  <a:cubicBezTo>
                    <a:pt x="1694" y="114"/>
                    <a:pt x="1694" y="112"/>
                    <a:pt x="1694" y="110"/>
                  </a:cubicBezTo>
                  <a:close/>
                  <a:moveTo>
                    <a:pt x="1720" y="120"/>
                  </a:moveTo>
                  <a:cubicBezTo>
                    <a:pt x="1718" y="114"/>
                    <a:pt x="1717" y="109"/>
                    <a:pt x="1717" y="104"/>
                  </a:cubicBezTo>
                  <a:cubicBezTo>
                    <a:pt x="1717" y="102"/>
                    <a:pt x="1717" y="98"/>
                    <a:pt x="1719" y="93"/>
                  </a:cubicBezTo>
                  <a:cubicBezTo>
                    <a:pt x="1720" y="100"/>
                    <a:pt x="1720" y="107"/>
                    <a:pt x="1720" y="112"/>
                  </a:cubicBezTo>
                  <a:cubicBezTo>
                    <a:pt x="1720" y="115"/>
                    <a:pt x="1720" y="117"/>
                    <a:pt x="1720" y="120"/>
                  </a:cubicBezTo>
                  <a:close/>
                  <a:moveTo>
                    <a:pt x="1730" y="145"/>
                  </a:moveTo>
                  <a:cubicBezTo>
                    <a:pt x="1730" y="145"/>
                    <a:pt x="1730" y="145"/>
                    <a:pt x="1730" y="144"/>
                  </a:cubicBezTo>
                  <a:cubicBezTo>
                    <a:pt x="1730" y="139"/>
                    <a:pt x="1730" y="134"/>
                    <a:pt x="1730" y="129"/>
                  </a:cubicBezTo>
                  <a:cubicBezTo>
                    <a:pt x="1731" y="132"/>
                    <a:pt x="1731" y="135"/>
                    <a:pt x="1731" y="137"/>
                  </a:cubicBezTo>
                  <a:cubicBezTo>
                    <a:pt x="1731" y="140"/>
                    <a:pt x="1730" y="142"/>
                    <a:pt x="1730" y="145"/>
                  </a:cubicBezTo>
                  <a:close/>
                  <a:moveTo>
                    <a:pt x="1741" y="145"/>
                  </a:moveTo>
                  <a:cubicBezTo>
                    <a:pt x="1741" y="144"/>
                    <a:pt x="1740" y="143"/>
                    <a:pt x="1740" y="143"/>
                  </a:cubicBezTo>
                  <a:cubicBezTo>
                    <a:pt x="1740" y="142"/>
                    <a:pt x="1740" y="141"/>
                    <a:pt x="1740" y="140"/>
                  </a:cubicBezTo>
                  <a:cubicBezTo>
                    <a:pt x="1741" y="141"/>
                    <a:pt x="1741" y="142"/>
                    <a:pt x="1741" y="143"/>
                  </a:cubicBezTo>
                  <a:cubicBezTo>
                    <a:pt x="1741" y="143"/>
                    <a:pt x="1741" y="144"/>
                    <a:pt x="1741" y="145"/>
                  </a:cubicBezTo>
                  <a:close/>
                  <a:moveTo>
                    <a:pt x="1742" y="138"/>
                  </a:moveTo>
                  <a:cubicBezTo>
                    <a:pt x="1742" y="136"/>
                    <a:pt x="1741" y="135"/>
                    <a:pt x="1741" y="133"/>
                  </a:cubicBezTo>
                  <a:cubicBezTo>
                    <a:pt x="1741" y="129"/>
                    <a:pt x="1741" y="124"/>
                    <a:pt x="1741" y="119"/>
                  </a:cubicBezTo>
                  <a:cubicBezTo>
                    <a:pt x="1742" y="124"/>
                    <a:pt x="1743" y="129"/>
                    <a:pt x="1744" y="134"/>
                  </a:cubicBezTo>
                  <a:cubicBezTo>
                    <a:pt x="1743" y="135"/>
                    <a:pt x="1743" y="137"/>
                    <a:pt x="1742" y="138"/>
                  </a:cubicBezTo>
                  <a:close/>
                  <a:moveTo>
                    <a:pt x="1747" y="154"/>
                  </a:moveTo>
                  <a:cubicBezTo>
                    <a:pt x="1747" y="153"/>
                    <a:pt x="1747" y="152"/>
                    <a:pt x="1747" y="151"/>
                  </a:cubicBezTo>
                  <a:cubicBezTo>
                    <a:pt x="1747" y="151"/>
                    <a:pt x="1747" y="150"/>
                    <a:pt x="1747" y="150"/>
                  </a:cubicBezTo>
                  <a:cubicBezTo>
                    <a:pt x="1747" y="151"/>
                    <a:pt x="1747" y="152"/>
                    <a:pt x="1747" y="154"/>
                  </a:cubicBezTo>
                  <a:cubicBezTo>
                    <a:pt x="1747" y="154"/>
                    <a:pt x="1747" y="154"/>
                    <a:pt x="1747" y="154"/>
                  </a:cubicBezTo>
                  <a:close/>
                  <a:moveTo>
                    <a:pt x="1753" y="139"/>
                  </a:moveTo>
                  <a:cubicBezTo>
                    <a:pt x="1752" y="136"/>
                    <a:pt x="1751" y="134"/>
                    <a:pt x="1751" y="132"/>
                  </a:cubicBezTo>
                  <a:cubicBezTo>
                    <a:pt x="1751" y="129"/>
                    <a:pt x="1752" y="127"/>
                    <a:pt x="1753" y="125"/>
                  </a:cubicBezTo>
                  <a:cubicBezTo>
                    <a:pt x="1753" y="128"/>
                    <a:pt x="1754" y="131"/>
                    <a:pt x="1755" y="134"/>
                  </a:cubicBezTo>
                  <a:cubicBezTo>
                    <a:pt x="1754" y="136"/>
                    <a:pt x="1754" y="137"/>
                    <a:pt x="1753" y="139"/>
                  </a:cubicBezTo>
                  <a:close/>
                  <a:moveTo>
                    <a:pt x="1773" y="114"/>
                  </a:moveTo>
                  <a:cubicBezTo>
                    <a:pt x="1772" y="108"/>
                    <a:pt x="1771" y="101"/>
                    <a:pt x="1771" y="95"/>
                  </a:cubicBezTo>
                  <a:cubicBezTo>
                    <a:pt x="1771" y="88"/>
                    <a:pt x="1772" y="81"/>
                    <a:pt x="1773" y="75"/>
                  </a:cubicBezTo>
                  <a:cubicBezTo>
                    <a:pt x="1775" y="81"/>
                    <a:pt x="1775" y="88"/>
                    <a:pt x="1775" y="95"/>
                  </a:cubicBezTo>
                  <a:cubicBezTo>
                    <a:pt x="1775" y="101"/>
                    <a:pt x="1774" y="108"/>
                    <a:pt x="1773" y="114"/>
                  </a:cubicBezTo>
                  <a:close/>
                  <a:moveTo>
                    <a:pt x="1793" y="139"/>
                  </a:moveTo>
                  <a:cubicBezTo>
                    <a:pt x="1793" y="137"/>
                    <a:pt x="1792" y="136"/>
                    <a:pt x="1792" y="134"/>
                  </a:cubicBezTo>
                  <a:cubicBezTo>
                    <a:pt x="1792" y="131"/>
                    <a:pt x="1793" y="128"/>
                    <a:pt x="1794" y="125"/>
                  </a:cubicBezTo>
                  <a:cubicBezTo>
                    <a:pt x="1794" y="127"/>
                    <a:pt x="1795" y="129"/>
                    <a:pt x="1796" y="132"/>
                  </a:cubicBezTo>
                  <a:cubicBezTo>
                    <a:pt x="1795" y="134"/>
                    <a:pt x="1794" y="136"/>
                    <a:pt x="1793" y="139"/>
                  </a:cubicBezTo>
                  <a:close/>
                  <a:moveTo>
                    <a:pt x="1799" y="154"/>
                  </a:moveTo>
                  <a:cubicBezTo>
                    <a:pt x="1799" y="154"/>
                    <a:pt x="1799" y="154"/>
                    <a:pt x="1799" y="154"/>
                  </a:cubicBezTo>
                  <a:cubicBezTo>
                    <a:pt x="1799" y="152"/>
                    <a:pt x="1799" y="151"/>
                    <a:pt x="1800" y="150"/>
                  </a:cubicBezTo>
                  <a:cubicBezTo>
                    <a:pt x="1800" y="150"/>
                    <a:pt x="1800" y="151"/>
                    <a:pt x="1800" y="151"/>
                  </a:cubicBezTo>
                  <a:cubicBezTo>
                    <a:pt x="1799" y="152"/>
                    <a:pt x="1799" y="153"/>
                    <a:pt x="1799" y="154"/>
                  </a:cubicBezTo>
                  <a:close/>
                  <a:moveTo>
                    <a:pt x="1805" y="119"/>
                  </a:move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19"/>
                  </a:cubicBezTo>
                  <a:close/>
                  <a:moveTo>
                    <a:pt x="1804" y="138"/>
                  </a:moveTo>
                  <a:cubicBezTo>
                    <a:pt x="1804" y="137"/>
                    <a:pt x="1803" y="135"/>
                    <a:pt x="1803" y="134"/>
                  </a:cubicBezTo>
                  <a:cubicBezTo>
                    <a:pt x="1803" y="134"/>
                    <a:pt x="1803" y="134"/>
                    <a:pt x="1803" y="133"/>
                  </a:cubicBezTo>
                  <a:cubicBezTo>
                    <a:pt x="1803" y="134"/>
                    <a:pt x="1804" y="135"/>
                    <a:pt x="1804" y="137"/>
                  </a:cubicBezTo>
                  <a:cubicBezTo>
                    <a:pt x="1804" y="137"/>
                    <a:pt x="1804" y="138"/>
                    <a:pt x="1804" y="138"/>
                  </a:cubicBezTo>
                  <a:close/>
                  <a:moveTo>
                    <a:pt x="1803" y="133"/>
                  </a:moveTo>
                  <a:cubicBezTo>
                    <a:pt x="1803" y="132"/>
                    <a:pt x="1803" y="131"/>
                    <a:pt x="1803" y="130"/>
                  </a:cubicBezTo>
                  <a:cubicBezTo>
                    <a:pt x="1804" y="131"/>
                    <a:pt x="1805" y="133"/>
                    <a:pt x="1805" y="134"/>
                  </a:cubicBezTo>
                  <a:cubicBezTo>
                    <a:pt x="1805" y="135"/>
                    <a:pt x="1805" y="135"/>
                    <a:pt x="1805" y="136"/>
                  </a:cubicBezTo>
                  <a:cubicBezTo>
                    <a:pt x="1804" y="134"/>
                    <a:pt x="1803" y="133"/>
                    <a:pt x="1803" y="133"/>
                  </a:cubicBezTo>
                  <a:close/>
                  <a:moveTo>
                    <a:pt x="1806" y="145"/>
                  </a:moveTo>
                  <a:cubicBezTo>
                    <a:pt x="1805" y="144"/>
                    <a:pt x="1805" y="143"/>
                    <a:pt x="1805" y="143"/>
                  </a:cubicBezTo>
                  <a:cubicBezTo>
                    <a:pt x="1805" y="142"/>
                    <a:pt x="1806" y="141"/>
                    <a:pt x="1806" y="140"/>
                  </a:cubicBezTo>
                  <a:cubicBezTo>
                    <a:pt x="1806" y="140"/>
                    <a:pt x="1806" y="140"/>
                    <a:pt x="1806" y="140"/>
                  </a:cubicBezTo>
                  <a:cubicBezTo>
                    <a:pt x="1806" y="141"/>
                    <a:pt x="1806" y="142"/>
                    <a:pt x="1806" y="143"/>
                  </a:cubicBezTo>
                  <a:cubicBezTo>
                    <a:pt x="1806" y="143"/>
                    <a:pt x="1806" y="144"/>
                    <a:pt x="1806" y="145"/>
                  </a:cubicBezTo>
                  <a:close/>
                  <a:moveTo>
                    <a:pt x="1816" y="134"/>
                  </a:moveTo>
                  <a:cubicBezTo>
                    <a:pt x="1816" y="134"/>
                    <a:pt x="1816" y="133"/>
                    <a:pt x="1816" y="133"/>
                  </a:cubicBezTo>
                  <a:cubicBezTo>
                    <a:pt x="1816" y="132"/>
                    <a:pt x="1816" y="130"/>
                    <a:pt x="1816" y="129"/>
                  </a:cubicBezTo>
                  <a:cubicBezTo>
                    <a:pt x="1816" y="130"/>
                    <a:pt x="1816" y="132"/>
                    <a:pt x="1816" y="134"/>
                  </a:cubicBezTo>
                  <a:close/>
                  <a:moveTo>
                    <a:pt x="1826" y="120"/>
                  </a:moveTo>
                  <a:cubicBezTo>
                    <a:pt x="1826" y="117"/>
                    <a:pt x="1826" y="115"/>
                    <a:pt x="1826" y="112"/>
                  </a:cubicBezTo>
                  <a:cubicBezTo>
                    <a:pt x="1826" y="111"/>
                    <a:pt x="1826" y="111"/>
                    <a:pt x="1826" y="110"/>
                  </a:cubicBezTo>
                  <a:cubicBezTo>
                    <a:pt x="1826" y="113"/>
                    <a:pt x="1826" y="116"/>
                    <a:pt x="1827" y="119"/>
                  </a:cubicBezTo>
                  <a:cubicBezTo>
                    <a:pt x="1827" y="119"/>
                    <a:pt x="1826" y="120"/>
                    <a:pt x="1826" y="120"/>
                  </a:cubicBezTo>
                  <a:close/>
                  <a:moveTo>
                    <a:pt x="1828" y="115"/>
                  </a:moveTo>
                  <a:cubicBezTo>
                    <a:pt x="1827" y="112"/>
                    <a:pt x="1827" y="108"/>
                    <a:pt x="1826" y="104"/>
                  </a:cubicBezTo>
                  <a:cubicBezTo>
                    <a:pt x="1827" y="101"/>
                    <a:pt x="1827" y="97"/>
                    <a:pt x="1828" y="93"/>
                  </a:cubicBezTo>
                  <a:cubicBezTo>
                    <a:pt x="1829" y="98"/>
                    <a:pt x="1829" y="102"/>
                    <a:pt x="1829" y="104"/>
                  </a:cubicBezTo>
                  <a:cubicBezTo>
                    <a:pt x="1829" y="108"/>
                    <a:pt x="1829" y="111"/>
                    <a:pt x="1828" y="115"/>
                  </a:cubicBezTo>
                  <a:close/>
                  <a:moveTo>
                    <a:pt x="1833" y="102"/>
                  </a:moveTo>
                  <a:cubicBezTo>
                    <a:pt x="1833" y="102"/>
                    <a:pt x="1833" y="102"/>
                    <a:pt x="1832" y="103"/>
                  </a:cubicBezTo>
                  <a:cubicBezTo>
                    <a:pt x="1832" y="99"/>
                    <a:pt x="1831" y="94"/>
                    <a:pt x="1828" y="90"/>
                  </a:cubicBezTo>
                  <a:cubicBezTo>
                    <a:pt x="1830" y="84"/>
                    <a:pt x="1832" y="78"/>
                    <a:pt x="1834" y="73"/>
                  </a:cubicBezTo>
                  <a:cubicBezTo>
                    <a:pt x="1833" y="83"/>
                    <a:pt x="1833" y="93"/>
                    <a:pt x="1833" y="102"/>
                  </a:cubicBezTo>
                  <a:close/>
                  <a:moveTo>
                    <a:pt x="1839" y="111"/>
                  </a:moveTo>
                  <a:cubicBezTo>
                    <a:pt x="1839" y="111"/>
                    <a:pt x="1839" y="111"/>
                    <a:pt x="1839" y="111"/>
                  </a:cubicBezTo>
                  <a:cubicBezTo>
                    <a:pt x="1839" y="114"/>
                    <a:pt x="1838" y="116"/>
                    <a:pt x="1838" y="119"/>
                  </a:cubicBezTo>
                  <a:cubicBezTo>
                    <a:pt x="1837" y="114"/>
                    <a:pt x="1837" y="108"/>
                    <a:pt x="1837" y="103"/>
                  </a:cubicBezTo>
                  <a:cubicBezTo>
                    <a:pt x="1837" y="97"/>
                    <a:pt x="1837" y="91"/>
                    <a:pt x="1839" y="85"/>
                  </a:cubicBezTo>
                  <a:cubicBezTo>
                    <a:pt x="1838" y="87"/>
                    <a:pt x="1837" y="89"/>
                    <a:pt x="1836" y="92"/>
                  </a:cubicBezTo>
                  <a:cubicBezTo>
                    <a:pt x="1836" y="87"/>
                    <a:pt x="1836" y="82"/>
                    <a:pt x="1837" y="77"/>
                  </a:cubicBezTo>
                  <a:cubicBezTo>
                    <a:pt x="1839" y="83"/>
                    <a:pt x="1840" y="90"/>
                    <a:pt x="1840" y="96"/>
                  </a:cubicBezTo>
                  <a:cubicBezTo>
                    <a:pt x="1840" y="101"/>
                    <a:pt x="1840" y="106"/>
                    <a:pt x="1839" y="111"/>
                  </a:cubicBezTo>
                  <a:close/>
                  <a:moveTo>
                    <a:pt x="1845" y="127"/>
                  </a:moveTo>
                  <a:cubicBezTo>
                    <a:pt x="1844" y="132"/>
                    <a:pt x="1844" y="134"/>
                    <a:pt x="1844" y="134"/>
                  </a:cubicBezTo>
                  <a:cubicBezTo>
                    <a:pt x="1844" y="129"/>
                    <a:pt x="1845" y="125"/>
                    <a:pt x="1845" y="120"/>
                  </a:cubicBezTo>
                  <a:cubicBezTo>
                    <a:pt x="1845" y="123"/>
                    <a:pt x="1845" y="125"/>
                    <a:pt x="1845" y="127"/>
                  </a:cubicBezTo>
                  <a:close/>
                  <a:moveTo>
                    <a:pt x="1877" y="92"/>
                  </a:moveTo>
                  <a:cubicBezTo>
                    <a:pt x="1877" y="91"/>
                    <a:pt x="1877" y="90"/>
                    <a:pt x="1877" y="89"/>
                  </a:cubicBezTo>
                  <a:cubicBezTo>
                    <a:pt x="1877" y="89"/>
                    <a:pt x="1877" y="90"/>
                    <a:pt x="1877" y="91"/>
                  </a:cubicBezTo>
                  <a:cubicBezTo>
                    <a:pt x="1877" y="91"/>
                    <a:pt x="1877" y="92"/>
                    <a:pt x="1877" y="92"/>
                  </a:cubicBezTo>
                  <a:close/>
                  <a:moveTo>
                    <a:pt x="1880" y="130"/>
                  </a:moveTo>
                  <a:cubicBezTo>
                    <a:pt x="1879" y="132"/>
                    <a:pt x="1879" y="134"/>
                    <a:pt x="1879" y="136"/>
                  </a:cubicBezTo>
                  <a:cubicBezTo>
                    <a:pt x="1878" y="127"/>
                    <a:pt x="1877" y="119"/>
                    <a:pt x="1877" y="110"/>
                  </a:cubicBezTo>
                  <a:cubicBezTo>
                    <a:pt x="1877" y="105"/>
                    <a:pt x="1877" y="99"/>
                    <a:pt x="1878" y="93"/>
                  </a:cubicBezTo>
                  <a:cubicBezTo>
                    <a:pt x="1879" y="99"/>
                    <a:pt x="1880" y="104"/>
                    <a:pt x="1881" y="109"/>
                  </a:cubicBezTo>
                  <a:cubicBezTo>
                    <a:pt x="1880" y="116"/>
                    <a:pt x="1880" y="123"/>
                    <a:pt x="1880" y="130"/>
                  </a:cubicBezTo>
                  <a:close/>
                  <a:moveTo>
                    <a:pt x="1889" y="140"/>
                  </a:moveTo>
                  <a:cubicBezTo>
                    <a:pt x="1889" y="140"/>
                    <a:pt x="1889" y="139"/>
                    <a:pt x="1889" y="139"/>
                  </a:cubicBezTo>
                  <a:cubicBezTo>
                    <a:pt x="1890" y="100"/>
                    <a:pt x="1890" y="100"/>
                    <a:pt x="1890" y="100"/>
                  </a:cubicBezTo>
                  <a:cubicBezTo>
                    <a:pt x="1890" y="106"/>
                    <a:pt x="1891" y="113"/>
                    <a:pt x="1891" y="119"/>
                  </a:cubicBezTo>
                  <a:cubicBezTo>
                    <a:pt x="1891" y="122"/>
                    <a:pt x="1891" y="126"/>
                    <a:pt x="1891" y="129"/>
                  </a:cubicBezTo>
                  <a:cubicBezTo>
                    <a:pt x="1890" y="133"/>
                    <a:pt x="1890" y="136"/>
                    <a:pt x="1889" y="140"/>
                  </a:cubicBezTo>
                  <a:close/>
                  <a:moveTo>
                    <a:pt x="1910" y="105"/>
                  </a:moveTo>
                  <a:cubicBezTo>
                    <a:pt x="1910" y="104"/>
                    <a:pt x="1910" y="102"/>
                    <a:pt x="1910" y="101"/>
                  </a:cubicBezTo>
                  <a:cubicBezTo>
                    <a:pt x="1910" y="102"/>
                    <a:pt x="1911" y="103"/>
                    <a:pt x="1911" y="103"/>
                  </a:cubicBezTo>
                  <a:cubicBezTo>
                    <a:pt x="1910" y="104"/>
                    <a:pt x="1910" y="105"/>
                    <a:pt x="1910" y="105"/>
                  </a:cubicBezTo>
                  <a:close/>
                  <a:moveTo>
                    <a:pt x="1933" y="101"/>
                  </a:moveTo>
                  <a:cubicBezTo>
                    <a:pt x="1932" y="101"/>
                    <a:pt x="1932" y="101"/>
                    <a:pt x="1932" y="100"/>
                  </a:cubicBezTo>
                  <a:cubicBezTo>
                    <a:pt x="1932" y="101"/>
                    <a:pt x="1932" y="101"/>
                    <a:pt x="1933" y="101"/>
                  </a:cubicBezTo>
                  <a:cubicBezTo>
                    <a:pt x="1932" y="111"/>
                    <a:pt x="1931" y="119"/>
                    <a:pt x="1930" y="126"/>
                  </a:cubicBezTo>
                  <a:cubicBezTo>
                    <a:pt x="1929" y="122"/>
                    <a:pt x="1929" y="118"/>
                    <a:pt x="1928" y="114"/>
                  </a:cubicBezTo>
                  <a:cubicBezTo>
                    <a:pt x="1928" y="109"/>
                    <a:pt x="1928" y="103"/>
                    <a:pt x="1928" y="98"/>
                  </a:cubicBezTo>
                  <a:cubicBezTo>
                    <a:pt x="1929" y="92"/>
                    <a:pt x="1931" y="87"/>
                    <a:pt x="1934" y="82"/>
                  </a:cubicBezTo>
                  <a:cubicBezTo>
                    <a:pt x="1933" y="89"/>
                    <a:pt x="1933" y="95"/>
                    <a:pt x="1933" y="101"/>
                  </a:cubicBezTo>
                  <a:close/>
                  <a:moveTo>
                    <a:pt x="1942" y="117"/>
                  </a:moveTo>
                  <a:cubicBezTo>
                    <a:pt x="1942" y="114"/>
                    <a:pt x="1942" y="110"/>
                    <a:pt x="1942" y="106"/>
                  </a:cubicBezTo>
                  <a:cubicBezTo>
                    <a:pt x="1942" y="99"/>
                    <a:pt x="1942" y="90"/>
                    <a:pt x="1945" y="83"/>
                  </a:cubicBezTo>
                  <a:cubicBezTo>
                    <a:pt x="1944" y="95"/>
                    <a:pt x="1943" y="107"/>
                    <a:pt x="1942" y="117"/>
                  </a:cubicBezTo>
                  <a:close/>
                  <a:moveTo>
                    <a:pt x="1948" y="108"/>
                  </a:moveTo>
                  <a:cubicBezTo>
                    <a:pt x="1948" y="106"/>
                    <a:pt x="1948" y="104"/>
                    <a:pt x="1949" y="102"/>
                  </a:cubicBezTo>
                  <a:cubicBezTo>
                    <a:pt x="1949" y="102"/>
                    <a:pt x="1949" y="102"/>
                    <a:pt x="1949" y="103"/>
                  </a:cubicBezTo>
                  <a:cubicBezTo>
                    <a:pt x="1949" y="104"/>
                    <a:pt x="1948" y="106"/>
                    <a:pt x="1948" y="108"/>
                  </a:cubicBezTo>
                  <a:close/>
                  <a:moveTo>
                    <a:pt x="1954" y="111"/>
                  </a:moveTo>
                  <a:cubicBezTo>
                    <a:pt x="1954" y="103"/>
                    <a:pt x="1957" y="95"/>
                    <a:pt x="1959" y="87"/>
                  </a:cubicBezTo>
                  <a:cubicBezTo>
                    <a:pt x="1958" y="95"/>
                    <a:pt x="1956" y="104"/>
                    <a:pt x="1954" y="113"/>
                  </a:cubicBezTo>
                  <a:cubicBezTo>
                    <a:pt x="1954" y="112"/>
                    <a:pt x="1954" y="112"/>
                    <a:pt x="1954" y="111"/>
                  </a:cubicBezTo>
                  <a:close/>
                  <a:moveTo>
                    <a:pt x="1978" y="110"/>
                  </a:moveTo>
                  <a:cubicBezTo>
                    <a:pt x="1978" y="109"/>
                    <a:pt x="1978" y="108"/>
                    <a:pt x="1978" y="107"/>
                  </a:cubicBezTo>
                  <a:cubicBezTo>
                    <a:pt x="1978" y="107"/>
                    <a:pt x="1978" y="108"/>
                    <a:pt x="1978" y="108"/>
                  </a:cubicBezTo>
                  <a:cubicBezTo>
                    <a:pt x="1978" y="109"/>
                    <a:pt x="1978" y="109"/>
                    <a:pt x="1978" y="110"/>
                  </a:cubicBezTo>
                  <a:close/>
                  <a:moveTo>
                    <a:pt x="1989" y="125"/>
                  </a:moveTo>
                  <a:cubicBezTo>
                    <a:pt x="1989" y="123"/>
                    <a:pt x="1989" y="122"/>
                    <a:pt x="1989" y="120"/>
                  </a:cubicBezTo>
                  <a:cubicBezTo>
                    <a:pt x="1989" y="121"/>
                    <a:pt x="1989" y="122"/>
                    <a:pt x="1989" y="123"/>
                  </a:cubicBezTo>
                  <a:cubicBezTo>
                    <a:pt x="1989" y="123"/>
                    <a:pt x="1989" y="124"/>
                    <a:pt x="1989" y="125"/>
                  </a:cubicBezTo>
                  <a:close/>
                  <a:moveTo>
                    <a:pt x="1992" y="115"/>
                  </a:moveTo>
                  <a:cubicBezTo>
                    <a:pt x="1991" y="117"/>
                    <a:pt x="1991" y="118"/>
                    <a:pt x="1990" y="119"/>
                  </a:cubicBezTo>
                  <a:cubicBezTo>
                    <a:pt x="1990" y="118"/>
                    <a:pt x="1989" y="116"/>
                    <a:pt x="1989" y="114"/>
                  </a:cubicBezTo>
                  <a:cubicBezTo>
                    <a:pt x="1989" y="110"/>
                    <a:pt x="1989" y="105"/>
                    <a:pt x="1989" y="100"/>
                  </a:cubicBezTo>
                  <a:cubicBezTo>
                    <a:pt x="1990" y="94"/>
                    <a:pt x="1993" y="89"/>
                    <a:pt x="1996" y="84"/>
                  </a:cubicBezTo>
                  <a:cubicBezTo>
                    <a:pt x="1995" y="93"/>
                    <a:pt x="1993" y="105"/>
                    <a:pt x="1992" y="115"/>
                  </a:cubicBezTo>
                  <a:close/>
                  <a:moveTo>
                    <a:pt x="1999" y="90"/>
                  </a:moveTo>
                  <a:cubicBezTo>
                    <a:pt x="1999" y="88"/>
                    <a:pt x="1998" y="84"/>
                    <a:pt x="1998" y="80"/>
                  </a:cubicBezTo>
                  <a:cubicBezTo>
                    <a:pt x="1998" y="80"/>
                    <a:pt x="1998" y="80"/>
                    <a:pt x="1998" y="80"/>
                  </a:cubicBezTo>
                  <a:cubicBezTo>
                    <a:pt x="1999" y="81"/>
                    <a:pt x="2000" y="83"/>
                    <a:pt x="2000" y="84"/>
                  </a:cubicBezTo>
                  <a:cubicBezTo>
                    <a:pt x="2000" y="88"/>
                    <a:pt x="1999" y="90"/>
                    <a:pt x="1999" y="90"/>
                  </a:cubicBezTo>
                  <a:close/>
                  <a:moveTo>
                    <a:pt x="2001" y="83"/>
                  </a:moveTo>
                  <a:cubicBezTo>
                    <a:pt x="2000" y="81"/>
                    <a:pt x="1999" y="80"/>
                    <a:pt x="1998" y="79"/>
                  </a:cubicBezTo>
                  <a:cubicBezTo>
                    <a:pt x="1999" y="78"/>
                    <a:pt x="2000" y="76"/>
                    <a:pt x="2002" y="75"/>
                  </a:cubicBezTo>
                  <a:cubicBezTo>
                    <a:pt x="2001" y="78"/>
                    <a:pt x="2001" y="81"/>
                    <a:pt x="2001" y="83"/>
                  </a:cubicBezTo>
                  <a:close/>
                  <a:moveTo>
                    <a:pt x="2007" y="104"/>
                  </a:moveTo>
                  <a:cubicBezTo>
                    <a:pt x="2008" y="105"/>
                    <a:pt x="2008" y="107"/>
                    <a:pt x="2008" y="109"/>
                  </a:cubicBezTo>
                  <a:cubicBezTo>
                    <a:pt x="2008" y="111"/>
                    <a:pt x="2007" y="112"/>
                    <a:pt x="2007" y="114"/>
                  </a:cubicBezTo>
                  <a:cubicBezTo>
                    <a:pt x="2007" y="110"/>
                    <a:pt x="2007" y="107"/>
                    <a:pt x="2007" y="104"/>
                  </a:cubicBezTo>
                  <a:close/>
                  <a:moveTo>
                    <a:pt x="2003" y="91"/>
                  </a:moveTo>
                  <a:cubicBezTo>
                    <a:pt x="2003" y="91"/>
                    <a:pt x="2003" y="91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lose/>
                  <a:moveTo>
                    <a:pt x="2003" y="124"/>
                  </a:moveTo>
                  <a:cubicBezTo>
                    <a:pt x="2004" y="114"/>
                    <a:pt x="2004" y="102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ubicBezTo>
                    <a:pt x="2005" y="94"/>
                    <a:pt x="2006" y="98"/>
                    <a:pt x="2007" y="101"/>
                  </a:cubicBezTo>
                  <a:cubicBezTo>
                    <a:pt x="2005" y="120"/>
                    <a:pt x="2005" y="120"/>
                    <a:pt x="2005" y="120"/>
                  </a:cubicBezTo>
                  <a:cubicBezTo>
                    <a:pt x="2004" y="121"/>
                    <a:pt x="2004" y="122"/>
                    <a:pt x="2003" y="124"/>
                  </a:cubicBezTo>
                  <a:close/>
                  <a:moveTo>
                    <a:pt x="2006" y="136"/>
                  </a:moveTo>
                  <a:cubicBezTo>
                    <a:pt x="2006" y="134"/>
                    <a:pt x="2006" y="133"/>
                    <a:pt x="2006" y="131"/>
                  </a:cubicBezTo>
                  <a:cubicBezTo>
                    <a:pt x="2007" y="126"/>
                    <a:pt x="2008" y="121"/>
                    <a:pt x="2009" y="116"/>
                  </a:cubicBezTo>
                  <a:cubicBezTo>
                    <a:pt x="2010" y="118"/>
                    <a:pt x="2010" y="121"/>
                    <a:pt x="2010" y="123"/>
                  </a:cubicBezTo>
                  <a:cubicBezTo>
                    <a:pt x="2010" y="124"/>
                    <a:pt x="2010" y="124"/>
                    <a:pt x="2010" y="124"/>
                  </a:cubicBezTo>
                  <a:cubicBezTo>
                    <a:pt x="2009" y="128"/>
                    <a:pt x="2007" y="132"/>
                    <a:pt x="2006" y="136"/>
                  </a:cubicBezTo>
                  <a:close/>
                  <a:moveTo>
                    <a:pt x="2010" y="141"/>
                  </a:moveTo>
                  <a:cubicBezTo>
                    <a:pt x="2010" y="141"/>
                    <a:pt x="2010" y="141"/>
                    <a:pt x="2010" y="141"/>
                  </a:cubicBezTo>
                  <a:cubicBezTo>
                    <a:pt x="2011" y="139"/>
                    <a:pt x="2011" y="137"/>
                    <a:pt x="2012" y="135"/>
                  </a:cubicBezTo>
                  <a:cubicBezTo>
                    <a:pt x="2012" y="135"/>
                    <a:pt x="2012" y="135"/>
                    <a:pt x="2012" y="135"/>
                  </a:cubicBezTo>
                  <a:cubicBezTo>
                    <a:pt x="2012" y="137"/>
                    <a:pt x="2011" y="139"/>
                    <a:pt x="2010" y="141"/>
                  </a:cubicBezTo>
                  <a:close/>
                  <a:moveTo>
                    <a:pt x="2017" y="119"/>
                  </a:moveTo>
                  <a:cubicBezTo>
                    <a:pt x="2016" y="119"/>
                    <a:pt x="2016" y="118"/>
                    <a:pt x="2016" y="118"/>
                  </a:cubicBezTo>
                  <a:cubicBezTo>
                    <a:pt x="2016" y="116"/>
                    <a:pt x="2017" y="115"/>
                    <a:pt x="2017" y="113"/>
                  </a:cubicBezTo>
                  <a:cubicBezTo>
                    <a:pt x="2017" y="112"/>
                    <a:pt x="2017" y="112"/>
                    <a:pt x="2017" y="111"/>
                  </a:cubicBezTo>
                  <a:cubicBezTo>
                    <a:pt x="2018" y="112"/>
                    <a:pt x="2018" y="113"/>
                    <a:pt x="2018" y="115"/>
                  </a:cubicBezTo>
                  <a:cubicBezTo>
                    <a:pt x="2018" y="116"/>
                    <a:pt x="2017" y="118"/>
                    <a:pt x="2017" y="119"/>
                  </a:cubicBezTo>
                  <a:close/>
                  <a:moveTo>
                    <a:pt x="2024" y="136"/>
                  </a:moveTo>
                  <a:cubicBezTo>
                    <a:pt x="2023" y="135"/>
                    <a:pt x="2023" y="134"/>
                    <a:pt x="2022" y="133"/>
                  </a:cubicBezTo>
                  <a:cubicBezTo>
                    <a:pt x="2022" y="132"/>
                    <a:pt x="2022" y="132"/>
                    <a:pt x="2022" y="131"/>
                  </a:cubicBezTo>
                  <a:cubicBezTo>
                    <a:pt x="2023" y="133"/>
                    <a:pt x="2023" y="134"/>
                    <a:pt x="2024" y="136"/>
                  </a:cubicBezTo>
                  <a:cubicBezTo>
                    <a:pt x="2024" y="136"/>
                    <a:pt x="2024" y="136"/>
                    <a:pt x="2024" y="136"/>
                  </a:cubicBezTo>
                  <a:close/>
                  <a:moveTo>
                    <a:pt x="2038" y="118"/>
                  </a:moveTo>
                  <a:cubicBezTo>
                    <a:pt x="2038" y="118"/>
                    <a:pt x="2038" y="117"/>
                    <a:pt x="2038" y="117"/>
                  </a:cubicBezTo>
                  <a:cubicBezTo>
                    <a:pt x="2038" y="117"/>
                    <a:pt x="2038" y="117"/>
                    <a:pt x="2038" y="117"/>
                  </a:cubicBezTo>
                  <a:cubicBezTo>
                    <a:pt x="2038" y="118"/>
                    <a:pt x="2038" y="118"/>
                    <a:pt x="2038" y="118"/>
                  </a:cubicBezTo>
                  <a:close/>
                  <a:moveTo>
                    <a:pt x="2044" y="105"/>
                  </a:moveTo>
                  <a:cubicBezTo>
                    <a:pt x="2043" y="106"/>
                    <a:pt x="2042" y="107"/>
                    <a:pt x="2042" y="109"/>
                  </a:cubicBezTo>
                  <a:cubicBezTo>
                    <a:pt x="2041" y="107"/>
                    <a:pt x="2041" y="106"/>
                    <a:pt x="2041" y="104"/>
                  </a:cubicBezTo>
                  <a:cubicBezTo>
                    <a:pt x="2042" y="101"/>
                    <a:pt x="2044" y="98"/>
                    <a:pt x="2045" y="94"/>
                  </a:cubicBezTo>
                  <a:cubicBezTo>
                    <a:pt x="2044" y="98"/>
                    <a:pt x="2044" y="101"/>
                    <a:pt x="2044" y="105"/>
                  </a:cubicBezTo>
                  <a:close/>
                  <a:moveTo>
                    <a:pt x="2049" y="138"/>
                  </a:moveTo>
                  <a:cubicBezTo>
                    <a:pt x="2049" y="137"/>
                    <a:pt x="2049" y="136"/>
                    <a:pt x="2048" y="135"/>
                  </a:cubicBezTo>
                  <a:cubicBezTo>
                    <a:pt x="2048" y="133"/>
                    <a:pt x="2048" y="131"/>
                    <a:pt x="2048" y="129"/>
                  </a:cubicBezTo>
                  <a:cubicBezTo>
                    <a:pt x="2049" y="131"/>
                    <a:pt x="2049" y="133"/>
                    <a:pt x="2050" y="134"/>
                  </a:cubicBezTo>
                  <a:cubicBezTo>
                    <a:pt x="2050" y="135"/>
                    <a:pt x="2050" y="137"/>
                    <a:pt x="2049" y="138"/>
                  </a:cubicBezTo>
                  <a:close/>
                  <a:moveTo>
                    <a:pt x="2051" y="123"/>
                  </a:moveTo>
                  <a:cubicBezTo>
                    <a:pt x="2050" y="121"/>
                    <a:pt x="2049" y="118"/>
                    <a:pt x="2049" y="116"/>
                  </a:cubicBezTo>
                  <a:cubicBezTo>
                    <a:pt x="2050" y="112"/>
                    <a:pt x="2051" y="107"/>
                    <a:pt x="2052" y="103"/>
                  </a:cubicBezTo>
                  <a:cubicBezTo>
                    <a:pt x="2052" y="110"/>
                    <a:pt x="2051" y="117"/>
                    <a:pt x="2051" y="123"/>
                  </a:cubicBezTo>
                  <a:close/>
                  <a:moveTo>
                    <a:pt x="2056" y="69"/>
                  </a:moveTo>
                  <a:cubicBezTo>
                    <a:pt x="2058" y="72"/>
                    <a:pt x="2060" y="75"/>
                    <a:pt x="2061" y="79"/>
                  </a:cubicBezTo>
                  <a:cubicBezTo>
                    <a:pt x="2061" y="79"/>
                    <a:pt x="2061" y="79"/>
                    <a:pt x="2061" y="79"/>
                  </a:cubicBezTo>
                  <a:cubicBezTo>
                    <a:pt x="2059" y="76"/>
                    <a:pt x="2058" y="72"/>
                    <a:pt x="2056" y="69"/>
                  </a:cubicBezTo>
                  <a:cubicBezTo>
                    <a:pt x="2056" y="69"/>
                    <a:pt x="2056" y="69"/>
                    <a:pt x="2056" y="69"/>
                  </a:cubicBezTo>
                  <a:close/>
                  <a:moveTo>
                    <a:pt x="2056" y="74"/>
                  </a:moveTo>
                  <a:cubicBezTo>
                    <a:pt x="2057" y="76"/>
                    <a:pt x="2058" y="79"/>
                    <a:pt x="2059" y="81"/>
                  </a:cubicBezTo>
                  <a:cubicBezTo>
                    <a:pt x="2058" y="82"/>
                    <a:pt x="2057" y="83"/>
                    <a:pt x="2056" y="85"/>
                  </a:cubicBezTo>
                  <a:cubicBezTo>
                    <a:pt x="2056" y="81"/>
                    <a:pt x="2056" y="77"/>
                    <a:pt x="2056" y="74"/>
                  </a:cubicBezTo>
                  <a:close/>
                  <a:moveTo>
                    <a:pt x="2057" y="120"/>
                  </a:moveTo>
                  <a:cubicBezTo>
                    <a:pt x="2057" y="115"/>
                    <a:pt x="2057" y="111"/>
                    <a:pt x="2057" y="106"/>
                  </a:cubicBezTo>
                  <a:cubicBezTo>
                    <a:pt x="2058" y="109"/>
                    <a:pt x="2058" y="112"/>
                    <a:pt x="2059" y="114"/>
                  </a:cubicBezTo>
                  <a:cubicBezTo>
                    <a:pt x="2058" y="116"/>
                    <a:pt x="2058" y="118"/>
                    <a:pt x="2057" y="120"/>
                  </a:cubicBezTo>
                  <a:close/>
                  <a:moveTo>
                    <a:pt x="2060" y="109"/>
                  </a:moveTo>
                  <a:cubicBezTo>
                    <a:pt x="2059" y="107"/>
                    <a:pt x="2058" y="104"/>
                    <a:pt x="2057" y="102"/>
                  </a:cubicBezTo>
                  <a:cubicBezTo>
                    <a:pt x="2057" y="99"/>
                    <a:pt x="2057" y="97"/>
                    <a:pt x="2057" y="94"/>
                  </a:cubicBezTo>
                  <a:cubicBezTo>
                    <a:pt x="2058" y="98"/>
                    <a:pt x="2059" y="102"/>
                    <a:pt x="2061" y="107"/>
                  </a:cubicBezTo>
                  <a:cubicBezTo>
                    <a:pt x="2061" y="108"/>
                    <a:pt x="2060" y="108"/>
                    <a:pt x="2060" y="109"/>
                  </a:cubicBezTo>
                  <a:close/>
                  <a:moveTo>
                    <a:pt x="2064" y="96"/>
                  </a:moveTo>
                  <a:cubicBezTo>
                    <a:pt x="2063" y="98"/>
                    <a:pt x="2062" y="101"/>
                    <a:pt x="2062" y="104"/>
                  </a:cubicBezTo>
                  <a:cubicBezTo>
                    <a:pt x="2060" y="100"/>
                    <a:pt x="2058" y="96"/>
                    <a:pt x="2057" y="92"/>
                  </a:cubicBezTo>
                  <a:cubicBezTo>
                    <a:pt x="2057" y="92"/>
                    <a:pt x="2057" y="92"/>
                    <a:pt x="2057" y="92"/>
                  </a:cubicBezTo>
                  <a:cubicBezTo>
                    <a:pt x="2058" y="89"/>
                    <a:pt x="2059" y="86"/>
                    <a:pt x="2061" y="84"/>
                  </a:cubicBezTo>
                  <a:cubicBezTo>
                    <a:pt x="2062" y="87"/>
                    <a:pt x="2063" y="90"/>
                    <a:pt x="2064" y="93"/>
                  </a:cubicBezTo>
                  <a:cubicBezTo>
                    <a:pt x="2064" y="94"/>
                    <a:pt x="2064" y="95"/>
                    <a:pt x="2064" y="96"/>
                  </a:cubicBezTo>
                  <a:close/>
                  <a:moveTo>
                    <a:pt x="2065" y="90"/>
                  </a:moveTo>
                  <a:cubicBezTo>
                    <a:pt x="2064" y="87"/>
                    <a:pt x="2063" y="84"/>
                    <a:pt x="2062" y="82"/>
                  </a:cubicBezTo>
                  <a:cubicBezTo>
                    <a:pt x="2062" y="81"/>
                    <a:pt x="2062" y="81"/>
                    <a:pt x="2062" y="81"/>
                  </a:cubicBezTo>
                  <a:cubicBezTo>
                    <a:pt x="2063" y="83"/>
                    <a:pt x="2064" y="86"/>
                    <a:pt x="2065" y="89"/>
                  </a:cubicBezTo>
                  <a:cubicBezTo>
                    <a:pt x="2065" y="89"/>
                    <a:pt x="2065" y="89"/>
                    <a:pt x="2065" y="90"/>
                  </a:cubicBezTo>
                  <a:close/>
                  <a:moveTo>
                    <a:pt x="2063" y="79"/>
                  </a:moveTo>
                  <a:cubicBezTo>
                    <a:pt x="2064" y="78"/>
                    <a:pt x="2065" y="77"/>
                    <a:pt x="2065" y="77"/>
                  </a:cubicBezTo>
                  <a:cubicBezTo>
                    <a:pt x="2066" y="78"/>
                    <a:pt x="2066" y="79"/>
                    <a:pt x="2067" y="80"/>
                  </a:cubicBezTo>
                  <a:cubicBezTo>
                    <a:pt x="2067" y="82"/>
                    <a:pt x="2066" y="84"/>
                    <a:pt x="2066" y="85"/>
                  </a:cubicBezTo>
                  <a:cubicBezTo>
                    <a:pt x="2065" y="83"/>
                    <a:pt x="2064" y="81"/>
                    <a:pt x="2063" y="79"/>
                  </a:cubicBezTo>
                  <a:close/>
                  <a:moveTo>
                    <a:pt x="2066" y="116"/>
                  </a:moveTo>
                  <a:cubicBezTo>
                    <a:pt x="2066" y="111"/>
                    <a:pt x="2067" y="106"/>
                    <a:pt x="2067" y="102"/>
                  </a:cubicBezTo>
                  <a:cubicBezTo>
                    <a:pt x="2068" y="105"/>
                    <a:pt x="2069" y="108"/>
                    <a:pt x="2070" y="111"/>
                  </a:cubicBezTo>
                  <a:cubicBezTo>
                    <a:pt x="2069" y="113"/>
                    <a:pt x="2068" y="116"/>
                    <a:pt x="2067" y="118"/>
                  </a:cubicBezTo>
                  <a:cubicBezTo>
                    <a:pt x="2067" y="117"/>
                    <a:pt x="2066" y="117"/>
                    <a:pt x="2066" y="116"/>
                  </a:cubicBezTo>
                  <a:close/>
                  <a:moveTo>
                    <a:pt x="2071" y="130"/>
                  </a:moveTo>
                  <a:cubicBezTo>
                    <a:pt x="2070" y="128"/>
                    <a:pt x="2070" y="127"/>
                    <a:pt x="2069" y="125"/>
                  </a:cubicBezTo>
                  <a:cubicBezTo>
                    <a:pt x="2070" y="123"/>
                    <a:pt x="2070" y="122"/>
                    <a:pt x="2071" y="120"/>
                  </a:cubicBezTo>
                  <a:cubicBezTo>
                    <a:pt x="2071" y="122"/>
                    <a:pt x="2071" y="124"/>
                    <a:pt x="2071" y="127"/>
                  </a:cubicBezTo>
                  <a:cubicBezTo>
                    <a:pt x="2071" y="128"/>
                    <a:pt x="2071" y="129"/>
                    <a:pt x="2071" y="130"/>
                  </a:cubicBezTo>
                  <a:close/>
                  <a:moveTo>
                    <a:pt x="2073" y="105"/>
                  </a:moveTo>
                  <a:cubicBezTo>
                    <a:pt x="2071" y="100"/>
                    <a:pt x="2070" y="95"/>
                    <a:pt x="2068" y="91"/>
                  </a:cubicBezTo>
                  <a:cubicBezTo>
                    <a:pt x="2068" y="89"/>
                    <a:pt x="2068" y="87"/>
                    <a:pt x="2069" y="85"/>
                  </a:cubicBezTo>
                  <a:cubicBezTo>
                    <a:pt x="2071" y="91"/>
                    <a:pt x="2072" y="97"/>
                    <a:pt x="2074" y="103"/>
                  </a:cubicBezTo>
                  <a:cubicBezTo>
                    <a:pt x="2073" y="104"/>
                    <a:pt x="2073" y="105"/>
                    <a:pt x="2073" y="105"/>
                  </a:cubicBezTo>
                  <a:close/>
                  <a:moveTo>
                    <a:pt x="2074" y="111"/>
                  </a:moveTo>
                  <a:cubicBezTo>
                    <a:pt x="2074" y="110"/>
                    <a:pt x="2074" y="110"/>
                    <a:pt x="2074" y="109"/>
                  </a:cubicBezTo>
                  <a:cubicBezTo>
                    <a:pt x="2074" y="109"/>
                    <a:pt x="2074" y="108"/>
                    <a:pt x="2075" y="107"/>
                  </a:cubicBezTo>
                  <a:cubicBezTo>
                    <a:pt x="2075" y="108"/>
                    <a:pt x="2075" y="109"/>
                    <a:pt x="2075" y="109"/>
                  </a:cubicBezTo>
                  <a:cubicBezTo>
                    <a:pt x="2075" y="110"/>
                    <a:pt x="2075" y="110"/>
                    <a:pt x="2074" y="111"/>
                  </a:cubicBezTo>
                  <a:close/>
                  <a:moveTo>
                    <a:pt x="2085" y="94"/>
                  </a:moveTo>
                  <a:cubicBezTo>
                    <a:pt x="2085" y="95"/>
                    <a:pt x="2085" y="95"/>
                    <a:pt x="2086" y="96"/>
                  </a:cubicBezTo>
                  <a:cubicBezTo>
                    <a:pt x="2085" y="97"/>
                    <a:pt x="2085" y="97"/>
                    <a:pt x="2085" y="98"/>
                  </a:cubicBezTo>
                  <a:cubicBezTo>
                    <a:pt x="2085" y="96"/>
                    <a:pt x="2085" y="95"/>
                    <a:pt x="2085" y="94"/>
                  </a:cubicBezTo>
                  <a:close/>
                  <a:moveTo>
                    <a:pt x="2087" y="109"/>
                  </a:moveTo>
                  <a:cubicBezTo>
                    <a:pt x="2086" y="106"/>
                    <a:pt x="2086" y="104"/>
                    <a:pt x="2085" y="102"/>
                  </a:cubicBezTo>
                  <a:cubicBezTo>
                    <a:pt x="2085" y="101"/>
                    <a:pt x="2085" y="99"/>
                    <a:pt x="2085" y="98"/>
                  </a:cubicBezTo>
                  <a:cubicBezTo>
                    <a:pt x="2085" y="98"/>
                    <a:pt x="2086" y="97"/>
                    <a:pt x="2086" y="97"/>
                  </a:cubicBezTo>
                  <a:cubicBezTo>
                    <a:pt x="2086" y="98"/>
                    <a:pt x="2087" y="100"/>
                    <a:pt x="2087" y="102"/>
                  </a:cubicBezTo>
                  <a:cubicBezTo>
                    <a:pt x="2087" y="104"/>
                    <a:pt x="2087" y="107"/>
                    <a:pt x="2087" y="109"/>
                  </a:cubicBezTo>
                  <a:close/>
                  <a:moveTo>
                    <a:pt x="2089" y="84"/>
                  </a:moveTo>
                  <a:cubicBezTo>
                    <a:pt x="2089" y="89"/>
                    <a:pt x="2088" y="94"/>
                    <a:pt x="2088" y="98"/>
                  </a:cubicBezTo>
                  <a:cubicBezTo>
                    <a:pt x="2087" y="97"/>
                    <a:pt x="2087" y="96"/>
                    <a:pt x="2086" y="95"/>
                  </a:cubicBezTo>
                  <a:cubicBezTo>
                    <a:pt x="2087" y="94"/>
                    <a:pt x="2088" y="92"/>
                    <a:pt x="2088" y="91"/>
                  </a:cubicBezTo>
                  <a:cubicBezTo>
                    <a:pt x="2088" y="92"/>
                    <a:pt x="2087" y="94"/>
                    <a:pt x="2086" y="95"/>
                  </a:cubicBezTo>
                  <a:cubicBezTo>
                    <a:pt x="2086" y="94"/>
                    <a:pt x="2085" y="93"/>
                    <a:pt x="2085" y="92"/>
                  </a:cubicBezTo>
                  <a:cubicBezTo>
                    <a:pt x="2085" y="90"/>
                    <a:pt x="2085" y="88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4" y="75"/>
                    <a:pt x="2084" y="65"/>
                    <a:pt x="2084" y="56"/>
                  </a:cubicBezTo>
                  <a:cubicBezTo>
                    <a:pt x="2087" y="58"/>
                    <a:pt x="2089" y="61"/>
                    <a:pt x="2092" y="63"/>
                  </a:cubicBezTo>
                  <a:cubicBezTo>
                    <a:pt x="2091" y="69"/>
                    <a:pt x="2090" y="76"/>
                    <a:pt x="2089" y="84"/>
                  </a:cubicBezTo>
                  <a:cubicBezTo>
                    <a:pt x="2089" y="82"/>
                    <a:pt x="2088" y="81"/>
                    <a:pt x="2088" y="79"/>
                  </a:cubicBezTo>
                  <a:cubicBezTo>
                    <a:pt x="2088" y="81"/>
                    <a:pt x="2089" y="83"/>
                    <a:pt x="2089" y="84"/>
                  </a:cubicBezTo>
                  <a:close/>
                  <a:moveTo>
                    <a:pt x="2090" y="139"/>
                  </a:moveTo>
                  <a:cubicBezTo>
                    <a:pt x="2090" y="134"/>
                    <a:pt x="2090" y="128"/>
                    <a:pt x="2090" y="121"/>
                  </a:cubicBezTo>
                  <a:cubicBezTo>
                    <a:pt x="2090" y="125"/>
                    <a:pt x="2090" y="129"/>
                    <a:pt x="2091" y="133"/>
                  </a:cubicBezTo>
                  <a:cubicBezTo>
                    <a:pt x="2091" y="135"/>
                    <a:pt x="2091" y="137"/>
                    <a:pt x="2090" y="139"/>
                  </a:cubicBezTo>
                  <a:close/>
                  <a:moveTo>
                    <a:pt x="2090" y="104"/>
                  </a:moveTo>
                  <a:cubicBezTo>
                    <a:pt x="2090" y="102"/>
                    <a:pt x="2090" y="99"/>
                    <a:pt x="2091" y="96"/>
                  </a:cubicBezTo>
                  <a:cubicBezTo>
                    <a:pt x="2091" y="100"/>
                    <a:pt x="2091" y="104"/>
                    <a:pt x="2091" y="107"/>
                  </a:cubicBezTo>
                  <a:cubicBezTo>
                    <a:pt x="2091" y="106"/>
                    <a:pt x="2091" y="105"/>
                    <a:pt x="2090" y="104"/>
                  </a:cubicBezTo>
                  <a:close/>
                  <a:moveTo>
                    <a:pt x="2102" y="85"/>
                  </a:moveTo>
                  <a:cubicBezTo>
                    <a:pt x="2101" y="90"/>
                    <a:pt x="2100" y="96"/>
                    <a:pt x="2099" y="103"/>
                  </a:cubicBezTo>
                  <a:cubicBezTo>
                    <a:pt x="2099" y="101"/>
                    <a:pt x="2099" y="100"/>
                    <a:pt x="2098" y="99"/>
                  </a:cubicBezTo>
                  <a:cubicBezTo>
                    <a:pt x="2098" y="96"/>
                    <a:pt x="2097" y="93"/>
                    <a:pt x="2096" y="90"/>
                  </a:cubicBezTo>
                  <a:cubicBezTo>
                    <a:pt x="2097" y="93"/>
                    <a:pt x="2097" y="96"/>
                    <a:pt x="2097" y="99"/>
                  </a:cubicBezTo>
                  <a:cubicBezTo>
                    <a:pt x="2097" y="104"/>
                    <a:pt x="2096" y="112"/>
                    <a:pt x="2096" y="120"/>
                  </a:cubicBezTo>
                  <a:cubicBezTo>
                    <a:pt x="2095" y="110"/>
                    <a:pt x="2093" y="100"/>
                    <a:pt x="2091" y="91"/>
                  </a:cubicBezTo>
                  <a:cubicBezTo>
                    <a:pt x="2092" y="81"/>
                    <a:pt x="2093" y="72"/>
                    <a:pt x="2093" y="65"/>
                  </a:cubicBezTo>
                  <a:cubicBezTo>
                    <a:pt x="2097" y="69"/>
                    <a:pt x="2100" y="74"/>
                    <a:pt x="2102" y="79"/>
                  </a:cubicBezTo>
                  <a:cubicBezTo>
                    <a:pt x="2102" y="81"/>
                    <a:pt x="2102" y="83"/>
                    <a:pt x="2102" y="85"/>
                  </a:cubicBezTo>
                  <a:close/>
                  <a:moveTo>
                    <a:pt x="2102" y="75"/>
                  </a:moveTo>
                  <a:cubicBezTo>
                    <a:pt x="2102" y="75"/>
                    <a:pt x="2102" y="75"/>
                    <a:pt x="2102" y="75"/>
                  </a:cubicBezTo>
                  <a:cubicBezTo>
                    <a:pt x="2102" y="73"/>
                    <a:pt x="2102" y="72"/>
                    <a:pt x="2101" y="70"/>
                  </a:cubicBezTo>
                  <a:cubicBezTo>
                    <a:pt x="2101" y="70"/>
                    <a:pt x="2102" y="72"/>
                    <a:pt x="2102" y="75"/>
                  </a:cubicBezTo>
                  <a:cubicBezTo>
                    <a:pt x="2099" y="71"/>
                    <a:pt x="2097" y="67"/>
                    <a:pt x="2093" y="64"/>
                  </a:cubicBezTo>
                  <a:cubicBezTo>
                    <a:pt x="2094" y="60"/>
                    <a:pt x="2094" y="57"/>
                    <a:pt x="2095" y="54"/>
                  </a:cubicBezTo>
                  <a:cubicBezTo>
                    <a:pt x="2098" y="58"/>
                    <a:pt x="2101" y="62"/>
                    <a:pt x="2103" y="65"/>
                  </a:cubicBezTo>
                  <a:cubicBezTo>
                    <a:pt x="2103" y="68"/>
                    <a:pt x="2102" y="71"/>
                    <a:pt x="2102" y="75"/>
                  </a:cubicBezTo>
                  <a:close/>
                  <a:moveTo>
                    <a:pt x="2106" y="117"/>
                  </a:moveTo>
                  <a:cubicBezTo>
                    <a:pt x="2105" y="120"/>
                    <a:pt x="2104" y="122"/>
                    <a:pt x="2104" y="125"/>
                  </a:cubicBezTo>
                  <a:cubicBezTo>
                    <a:pt x="2104" y="124"/>
                    <a:pt x="2104" y="123"/>
                    <a:pt x="2104" y="122"/>
                  </a:cubicBezTo>
                  <a:cubicBezTo>
                    <a:pt x="2104" y="110"/>
                    <a:pt x="2104" y="98"/>
                    <a:pt x="2105" y="87"/>
                  </a:cubicBezTo>
                  <a:cubicBezTo>
                    <a:pt x="2106" y="92"/>
                    <a:pt x="2107" y="98"/>
                    <a:pt x="2108" y="103"/>
                  </a:cubicBezTo>
                  <a:cubicBezTo>
                    <a:pt x="2107" y="108"/>
                    <a:pt x="2106" y="112"/>
                    <a:pt x="2106" y="117"/>
                  </a:cubicBezTo>
                  <a:close/>
                  <a:moveTo>
                    <a:pt x="2109" y="89"/>
                  </a:moveTo>
                  <a:cubicBezTo>
                    <a:pt x="2108" y="86"/>
                    <a:pt x="2106" y="83"/>
                    <a:pt x="2105" y="80"/>
                  </a:cubicBezTo>
                  <a:cubicBezTo>
                    <a:pt x="2105" y="76"/>
                    <a:pt x="2105" y="72"/>
                    <a:pt x="2105" y="68"/>
                  </a:cubicBezTo>
                  <a:cubicBezTo>
                    <a:pt x="2107" y="71"/>
                    <a:pt x="2109" y="74"/>
                    <a:pt x="2111" y="78"/>
                  </a:cubicBezTo>
                  <a:cubicBezTo>
                    <a:pt x="2110" y="81"/>
                    <a:pt x="2110" y="85"/>
                    <a:pt x="2109" y="89"/>
                  </a:cubicBezTo>
                  <a:close/>
                  <a:moveTo>
                    <a:pt x="2114" y="96"/>
                  </a:moveTo>
                  <a:cubicBezTo>
                    <a:pt x="2114" y="97"/>
                    <a:pt x="2113" y="98"/>
                    <a:pt x="2113" y="99"/>
                  </a:cubicBezTo>
                  <a:cubicBezTo>
                    <a:pt x="2112" y="98"/>
                    <a:pt x="2112" y="97"/>
                    <a:pt x="2112" y="96"/>
                  </a:cubicBezTo>
                  <a:cubicBezTo>
                    <a:pt x="2112" y="91"/>
                    <a:pt x="2112" y="86"/>
                    <a:pt x="2112" y="80"/>
                  </a:cubicBezTo>
                  <a:cubicBezTo>
                    <a:pt x="2113" y="83"/>
                    <a:pt x="2114" y="86"/>
                    <a:pt x="2115" y="88"/>
                  </a:cubicBezTo>
                  <a:cubicBezTo>
                    <a:pt x="2115" y="91"/>
                    <a:pt x="2115" y="93"/>
                    <a:pt x="2114" y="96"/>
                  </a:cubicBezTo>
                  <a:close/>
                  <a:moveTo>
                    <a:pt x="2136" y="105"/>
                  </a:moveTo>
                  <a:cubicBezTo>
                    <a:pt x="2135" y="103"/>
                    <a:pt x="2135" y="102"/>
                    <a:pt x="2134" y="101"/>
                  </a:cubicBezTo>
                  <a:cubicBezTo>
                    <a:pt x="2136" y="96"/>
                    <a:pt x="2137" y="92"/>
                    <a:pt x="2138" y="89"/>
                  </a:cubicBezTo>
                  <a:cubicBezTo>
                    <a:pt x="2138" y="89"/>
                    <a:pt x="2139" y="89"/>
                    <a:pt x="2139" y="90"/>
                  </a:cubicBezTo>
                  <a:cubicBezTo>
                    <a:pt x="2138" y="95"/>
                    <a:pt x="2137" y="100"/>
                    <a:pt x="2136" y="105"/>
                  </a:cubicBezTo>
                  <a:close/>
                  <a:moveTo>
                    <a:pt x="2152" y="81"/>
                  </a:moveTo>
                  <a:cubicBezTo>
                    <a:pt x="2152" y="81"/>
                    <a:pt x="2153" y="81"/>
                    <a:pt x="2153" y="81"/>
                  </a:cubicBezTo>
                  <a:cubicBezTo>
                    <a:pt x="2152" y="81"/>
                    <a:pt x="2152" y="81"/>
                    <a:pt x="2152" y="81"/>
                  </a:cubicBezTo>
                  <a:cubicBezTo>
                    <a:pt x="2152" y="81"/>
                    <a:pt x="2152" y="81"/>
                    <a:pt x="2152" y="81"/>
                  </a:cubicBezTo>
                  <a:close/>
                  <a:moveTo>
                    <a:pt x="2152" y="88"/>
                  </a:moveTo>
                  <a:cubicBezTo>
                    <a:pt x="2152" y="89"/>
                    <a:pt x="2152" y="89"/>
                    <a:pt x="2152" y="89"/>
                  </a:cubicBezTo>
                  <a:cubicBezTo>
                    <a:pt x="2152" y="90"/>
                    <a:pt x="2152" y="91"/>
                    <a:pt x="2152" y="91"/>
                  </a:cubicBezTo>
                  <a:cubicBezTo>
                    <a:pt x="2152" y="90"/>
                    <a:pt x="2152" y="89"/>
                    <a:pt x="2152" y="88"/>
                  </a:cubicBezTo>
                  <a:close/>
                  <a:moveTo>
                    <a:pt x="2143" y="122"/>
                  </a:moveTo>
                  <a:cubicBezTo>
                    <a:pt x="2143" y="122"/>
                    <a:pt x="2143" y="123"/>
                    <a:pt x="2143" y="123"/>
                  </a:cubicBezTo>
                  <a:cubicBezTo>
                    <a:pt x="2143" y="123"/>
                    <a:pt x="2143" y="123"/>
                    <a:pt x="2143" y="123"/>
                  </a:cubicBezTo>
                  <a:cubicBezTo>
                    <a:pt x="2143" y="123"/>
                    <a:pt x="2143" y="122"/>
                    <a:pt x="2143" y="122"/>
                  </a:cubicBezTo>
                  <a:cubicBezTo>
                    <a:pt x="2143" y="120"/>
                    <a:pt x="2144" y="118"/>
                    <a:pt x="2144" y="115"/>
                  </a:cubicBezTo>
                  <a:cubicBezTo>
                    <a:pt x="2144" y="115"/>
                    <a:pt x="2144" y="115"/>
                    <a:pt x="2144" y="115"/>
                  </a:cubicBezTo>
                  <a:cubicBezTo>
                    <a:pt x="2144" y="116"/>
                    <a:pt x="2144" y="117"/>
                    <a:pt x="2144" y="118"/>
                  </a:cubicBezTo>
                  <a:cubicBezTo>
                    <a:pt x="2144" y="119"/>
                    <a:pt x="2143" y="121"/>
                    <a:pt x="2143" y="122"/>
                  </a:cubicBezTo>
                  <a:close/>
                  <a:moveTo>
                    <a:pt x="2145" y="70"/>
                  </a:moveTo>
                  <a:cubicBezTo>
                    <a:pt x="2148" y="73"/>
                    <a:pt x="2150" y="76"/>
                    <a:pt x="2151" y="79"/>
                  </a:cubicBezTo>
                  <a:cubicBezTo>
                    <a:pt x="2151" y="81"/>
                    <a:pt x="2151" y="82"/>
                    <a:pt x="2150" y="84"/>
                  </a:cubicBezTo>
                  <a:cubicBezTo>
                    <a:pt x="2150" y="84"/>
                    <a:pt x="2150" y="84"/>
                    <a:pt x="2150" y="84"/>
                  </a:cubicBezTo>
                  <a:cubicBezTo>
                    <a:pt x="2150" y="82"/>
                    <a:pt x="2149" y="81"/>
                    <a:pt x="2148" y="79"/>
                  </a:cubicBezTo>
                  <a:cubicBezTo>
                    <a:pt x="2149" y="81"/>
                    <a:pt x="2149" y="83"/>
                    <a:pt x="2150" y="84"/>
                  </a:cubicBezTo>
                  <a:cubicBezTo>
                    <a:pt x="2149" y="87"/>
                    <a:pt x="2147" y="90"/>
                    <a:pt x="2145" y="93"/>
                  </a:cubicBezTo>
                  <a:cubicBezTo>
                    <a:pt x="2146" y="85"/>
                    <a:pt x="2146" y="77"/>
                    <a:pt x="2145" y="70"/>
                  </a:cubicBezTo>
                  <a:close/>
                  <a:moveTo>
                    <a:pt x="2148" y="98"/>
                  </a:moveTo>
                  <a:cubicBezTo>
                    <a:pt x="2148" y="98"/>
                    <a:pt x="2148" y="97"/>
                    <a:pt x="2147" y="96"/>
                  </a:cubicBezTo>
                  <a:cubicBezTo>
                    <a:pt x="2148" y="97"/>
                    <a:pt x="2148" y="98"/>
                    <a:pt x="2148" y="98"/>
                  </a:cubicBezTo>
                  <a:cubicBezTo>
                    <a:pt x="2148" y="99"/>
                    <a:pt x="2148" y="100"/>
                    <a:pt x="2147" y="100"/>
                  </a:cubicBezTo>
                  <a:cubicBezTo>
                    <a:pt x="2147" y="99"/>
                    <a:pt x="2147" y="98"/>
                    <a:pt x="2146" y="97"/>
                  </a:cubicBezTo>
                  <a:cubicBezTo>
                    <a:pt x="2147" y="95"/>
                    <a:pt x="2148" y="93"/>
                    <a:pt x="2149" y="90"/>
                  </a:cubicBezTo>
                  <a:cubicBezTo>
                    <a:pt x="2149" y="93"/>
                    <a:pt x="2148" y="96"/>
                    <a:pt x="2148" y="98"/>
                  </a:cubicBezTo>
                  <a:close/>
                  <a:moveTo>
                    <a:pt x="2155" y="100"/>
                  </a:moveTo>
                  <a:cubicBezTo>
                    <a:pt x="2153" y="104"/>
                    <a:pt x="2152" y="107"/>
                    <a:pt x="2150" y="110"/>
                  </a:cubicBezTo>
                  <a:cubicBezTo>
                    <a:pt x="2150" y="110"/>
                    <a:pt x="2150" y="109"/>
                    <a:pt x="2150" y="109"/>
                  </a:cubicBezTo>
                  <a:cubicBezTo>
                    <a:pt x="2150" y="106"/>
                    <a:pt x="2151" y="102"/>
                    <a:pt x="2151" y="99"/>
                  </a:cubicBezTo>
                  <a:cubicBezTo>
                    <a:pt x="2152" y="95"/>
                    <a:pt x="2152" y="92"/>
                    <a:pt x="2152" y="90"/>
                  </a:cubicBezTo>
                  <a:cubicBezTo>
                    <a:pt x="2153" y="93"/>
                    <a:pt x="2154" y="96"/>
                    <a:pt x="2155" y="100"/>
                  </a:cubicBezTo>
                  <a:cubicBezTo>
                    <a:pt x="2155" y="100"/>
                    <a:pt x="2155" y="100"/>
                    <a:pt x="2155" y="100"/>
                  </a:cubicBezTo>
                  <a:close/>
                  <a:moveTo>
                    <a:pt x="2155" y="97"/>
                  </a:moveTo>
                  <a:cubicBezTo>
                    <a:pt x="2154" y="95"/>
                    <a:pt x="2153" y="92"/>
                    <a:pt x="2152" y="89"/>
                  </a:cubicBezTo>
                  <a:cubicBezTo>
                    <a:pt x="2152" y="89"/>
                    <a:pt x="2152" y="89"/>
                    <a:pt x="2152" y="88"/>
                  </a:cubicBezTo>
                  <a:cubicBezTo>
                    <a:pt x="2152" y="89"/>
                    <a:pt x="2152" y="89"/>
                    <a:pt x="2152" y="89"/>
                  </a:cubicBezTo>
                  <a:cubicBezTo>
                    <a:pt x="2152" y="89"/>
                    <a:pt x="2152" y="88"/>
                    <a:pt x="2152" y="88"/>
                  </a:cubicBezTo>
                  <a:cubicBezTo>
                    <a:pt x="2152" y="87"/>
                    <a:pt x="2152" y="86"/>
                    <a:pt x="2152" y="85"/>
                  </a:cubicBezTo>
                  <a:cubicBezTo>
                    <a:pt x="2152" y="84"/>
                    <a:pt x="2153" y="83"/>
                    <a:pt x="2153" y="82"/>
                  </a:cubicBezTo>
                  <a:cubicBezTo>
                    <a:pt x="2154" y="84"/>
                    <a:pt x="2155" y="86"/>
                    <a:pt x="2156" y="88"/>
                  </a:cubicBezTo>
                  <a:cubicBezTo>
                    <a:pt x="2156" y="91"/>
                    <a:pt x="2156" y="94"/>
                    <a:pt x="2155" y="97"/>
                  </a:cubicBezTo>
                  <a:close/>
                  <a:moveTo>
                    <a:pt x="2157" y="135"/>
                  </a:moveTo>
                  <a:cubicBezTo>
                    <a:pt x="2157" y="136"/>
                    <a:pt x="2157" y="137"/>
                    <a:pt x="2157" y="138"/>
                  </a:cubicBezTo>
                  <a:cubicBezTo>
                    <a:pt x="2157" y="137"/>
                    <a:pt x="2157" y="136"/>
                    <a:pt x="2157" y="135"/>
                  </a:cubicBezTo>
                  <a:cubicBezTo>
                    <a:pt x="2157" y="135"/>
                    <a:pt x="2157" y="135"/>
                    <a:pt x="2157" y="135"/>
                  </a:cubicBezTo>
                  <a:close/>
                  <a:moveTo>
                    <a:pt x="2157" y="83"/>
                  </a:moveTo>
                  <a:cubicBezTo>
                    <a:pt x="2156" y="82"/>
                    <a:pt x="2155" y="81"/>
                    <a:pt x="2155" y="80"/>
                  </a:cubicBezTo>
                  <a:cubicBezTo>
                    <a:pt x="2156" y="78"/>
                    <a:pt x="2157" y="77"/>
                    <a:pt x="2158" y="75"/>
                  </a:cubicBezTo>
                  <a:cubicBezTo>
                    <a:pt x="2157" y="78"/>
                    <a:pt x="2157" y="81"/>
                    <a:pt x="2157" y="83"/>
                  </a:cubicBezTo>
                  <a:close/>
                  <a:moveTo>
                    <a:pt x="2158" y="74"/>
                  </a:moveTo>
                  <a:cubicBezTo>
                    <a:pt x="2156" y="76"/>
                    <a:pt x="2155" y="77"/>
                    <a:pt x="2154" y="79"/>
                  </a:cubicBezTo>
                  <a:cubicBezTo>
                    <a:pt x="2153" y="78"/>
                    <a:pt x="2153" y="78"/>
                    <a:pt x="2153" y="77"/>
                  </a:cubicBezTo>
                  <a:cubicBezTo>
                    <a:pt x="2153" y="72"/>
                    <a:pt x="2153" y="67"/>
                    <a:pt x="2154" y="65"/>
                  </a:cubicBezTo>
                  <a:cubicBezTo>
                    <a:pt x="2155" y="67"/>
                    <a:pt x="2156" y="70"/>
                    <a:pt x="2158" y="72"/>
                  </a:cubicBezTo>
                  <a:cubicBezTo>
                    <a:pt x="2158" y="73"/>
                    <a:pt x="2158" y="73"/>
                    <a:pt x="2158" y="74"/>
                  </a:cubicBezTo>
                  <a:close/>
                  <a:moveTo>
                    <a:pt x="2160" y="75"/>
                  </a:moveTo>
                  <a:cubicBezTo>
                    <a:pt x="2161" y="78"/>
                    <a:pt x="2163" y="81"/>
                    <a:pt x="2165" y="84"/>
                  </a:cubicBezTo>
                  <a:cubicBezTo>
                    <a:pt x="2163" y="86"/>
                    <a:pt x="2162" y="88"/>
                    <a:pt x="2161" y="90"/>
                  </a:cubicBezTo>
                  <a:cubicBezTo>
                    <a:pt x="2161" y="89"/>
                    <a:pt x="2160" y="89"/>
                    <a:pt x="2160" y="89"/>
                  </a:cubicBezTo>
                  <a:cubicBezTo>
                    <a:pt x="2160" y="84"/>
                    <a:pt x="2160" y="79"/>
                    <a:pt x="2160" y="75"/>
                  </a:cubicBezTo>
                  <a:close/>
                  <a:moveTo>
                    <a:pt x="2162" y="110"/>
                  </a:moveTo>
                  <a:cubicBezTo>
                    <a:pt x="2162" y="107"/>
                    <a:pt x="2161" y="104"/>
                    <a:pt x="2160" y="101"/>
                  </a:cubicBezTo>
                  <a:cubicBezTo>
                    <a:pt x="2160" y="101"/>
                    <a:pt x="2160" y="100"/>
                    <a:pt x="2160" y="100"/>
                  </a:cubicBezTo>
                  <a:cubicBezTo>
                    <a:pt x="2160" y="100"/>
                    <a:pt x="2161" y="99"/>
                    <a:pt x="2161" y="99"/>
                  </a:cubicBezTo>
                  <a:cubicBezTo>
                    <a:pt x="2162" y="101"/>
                    <a:pt x="2162" y="104"/>
                    <a:pt x="2163" y="106"/>
                  </a:cubicBezTo>
                  <a:cubicBezTo>
                    <a:pt x="2163" y="108"/>
                    <a:pt x="2163" y="109"/>
                    <a:pt x="2162" y="110"/>
                  </a:cubicBezTo>
                  <a:close/>
                  <a:moveTo>
                    <a:pt x="2163" y="93"/>
                  </a:moveTo>
                  <a:cubicBezTo>
                    <a:pt x="2164" y="91"/>
                    <a:pt x="2165" y="88"/>
                    <a:pt x="2166" y="86"/>
                  </a:cubicBezTo>
                  <a:cubicBezTo>
                    <a:pt x="2166" y="87"/>
                    <a:pt x="2167" y="87"/>
                    <a:pt x="2167" y="88"/>
                  </a:cubicBezTo>
                  <a:cubicBezTo>
                    <a:pt x="2166" y="91"/>
                    <a:pt x="2166" y="94"/>
                    <a:pt x="2165" y="97"/>
                  </a:cubicBezTo>
                  <a:cubicBezTo>
                    <a:pt x="2164" y="96"/>
                    <a:pt x="2163" y="95"/>
                    <a:pt x="2163" y="93"/>
                  </a:cubicBezTo>
                  <a:close/>
                  <a:moveTo>
                    <a:pt x="2166" y="130"/>
                  </a:moveTo>
                  <a:cubicBezTo>
                    <a:pt x="2166" y="129"/>
                    <a:pt x="2166" y="128"/>
                    <a:pt x="2166" y="126"/>
                  </a:cubicBezTo>
                  <a:cubicBezTo>
                    <a:pt x="2166" y="124"/>
                    <a:pt x="2166" y="121"/>
                    <a:pt x="2167" y="119"/>
                  </a:cubicBezTo>
                  <a:cubicBezTo>
                    <a:pt x="2167" y="120"/>
                    <a:pt x="2168" y="122"/>
                    <a:pt x="2168" y="124"/>
                  </a:cubicBezTo>
                  <a:cubicBezTo>
                    <a:pt x="2167" y="126"/>
                    <a:pt x="2167" y="128"/>
                    <a:pt x="2166" y="130"/>
                  </a:cubicBezTo>
                  <a:close/>
                  <a:moveTo>
                    <a:pt x="2170" y="108"/>
                  </a:moveTo>
                  <a:cubicBezTo>
                    <a:pt x="2170" y="107"/>
                    <a:pt x="2169" y="106"/>
                    <a:pt x="2169" y="105"/>
                  </a:cubicBezTo>
                  <a:cubicBezTo>
                    <a:pt x="2169" y="102"/>
                    <a:pt x="2170" y="99"/>
                    <a:pt x="2171" y="96"/>
                  </a:cubicBezTo>
                  <a:cubicBezTo>
                    <a:pt x="2171" y="96"/>
                    <a:pt x="2171" y="97"/>
                    <a:pt x="2171" y="97"/>
                  </a:cubicBezTo>
                  <a:cubicBezTo>
                    <a:pt x="2171" y="101"/>
                    <a:pt x="2170" y="105"/>
                    <a:pt x="2170" y="108"/>
                  </a:cubicBezTo>
                  <a:close/>
                  <a:moveTo>
                    <a:pt x="2172" y="86"/>
                  </a:moveTo>
                  <a:cubicBezTo>
                    <a:pt x="2172" y="86"/>
                    <a:pt x="2172" y="86"/>
                    <a:pt x="2172" y="86"/>
                  </a:cubicBezTo>
                  <a:cubicBezTo>
                    <a:pt x="2172" y="85"/>
                    <a:pt x="2173" y="84"/>
                    <a:pt x="2173" y="83"/>
                  </a:cubicBezTo>
                  <a:cubicBezTo>
                    <a:pt x="2173" y="84"/>
                    <a:pt x="2172" y="85"/>
                    <a:pt x="2172" y="86"/>
                  </a:cubicBezTo>
                  <a:close/>
                  <a:moveTo>
                    <a:pt x="2180" y="80"/>
                  </a:moveTo>
                  <a:cubicBezTo>
                    <a:pt x="2180" y="77"/>
                    <a:pt x="2180" y="75"/>
                    <a:pt x="2180" y="73"/>
                  </a:cubicBezTo>
                  <a:cubicBezTo>
                    <a:pt x="2181" y="73"/>
                    <a:pt x="2181" y="74"/>
                    <a:pt x="2181" y="74"/>
                  </a:cubicBezTo>
                  <a:cubicBezTo>
                    <a:pt x="2181" y="76"/>
                    <a:pt x="2181" y="78"/>
                    <a:pt x="2180" y="80"/>
                  </a:cubicBezTo>
                  <a:close/>
                  <a:moveTo>
                    <a:pt x="2192" y="93"/>
                  </a:moveTo>
                  <a:cubicBezTo>
                    <a:pt x="2191" y="95"/>
                    <a:pt x="2191" y="96"/>
                    <a:pt x="2190" y="97"/>
                  </a:cubicBezTo>
                  <a:cubicBezTo>
                    <a:pt x="2190" y="94"/>
                    <a:pt x="2190" y="91"/>
                    <a:pt x="2189" y="88"/>
                  </a:cubicBezTo>
                  <a:cubicBezTo>
                    <a:pt x="2190" y="89"/>
                    <a:pt x="2191" y="91"/>
                    <a:pt x="2192" y="93"/>
                  </a:cubicBezTo>
                  <a:cubicBezTo>
                    <a:pt x="2192" y="93"/>
                    <a:pt x="2192" y="93"/>
                    <a:pt x="2192" y="93"/>
                  </a:cubicBezTo>
                  <a:close/>
                  <a:moveTo>
                    <a:pt x="2193" y="88"/>
                  </a:moveTo>
                  <a:cubicBezTo>
                    <a:pt x="2192" y="86"/>
                    <a:pt x="2191" y="85"/>
                    <a:pt x="2190" y="84"/>
                  </a:cubicBezTo>
                  <a:cubicBezTo>
                    <a:pt x="2191" y="81"/>
                    <a:pt x="2193" y="78"/>
                    <a:pt x="2195" y="75"/>
                  </a:cubicBezTo>
                  <a:cubicBezTo>
                    <a:pt x="2194" y="79"/>
                    <a:pt x="2193" y="84"/>
                    <a:pt x="2193" y="88"/>
                  </a:cubicBezTo>
                  <a:close/>
                  <a:moveTo>
                    <a:pt x="2202" y="77"/>
                  </a:moveTo>
                  <a:cubicBezTo>
                    <a:pt x="2202" y="77"/>
                    <a:pt x="2202" y="77"/>
                    <a:pt x="2202" y="77"/>
                  </a:cubicBezTo>
                  <a:cubicBezTo>
                    <a:pt x="2202" y="74"/>
                    <a:pt x="2201" y="70"/>
                    <a:pt x="2201" y="66"/>
                  </a:cubicBezTo>
                  <a:cubicBezTo>
                    <a:pt x="2201" y="65"/>
                    <a:pt x="2202" y="64"/>
                    <a:pt x="2202" y="63"/>
                  </a:cubicBezTo>
                  <a:cubicBezTo>
                    <a:pt x="2203" y="67"/>
                    <a:pt x="2203" y="72"/>
                    <a:pt x="2202" y="77"/>
                  </a:cubicBezTo>
                  <a:close/>
                  <a:moveTo>
                    <a:pt x="2205" y="72"/>
                  </a:moveTo>
                  <a:cubicBezTo>
                    <a:pt x="2205" y="67"/>
                    <a:pt x="2204" y="64"/>
                    <a:pt x="2203" y="61"/>
                  </a:cubicBezTo>
                  <a:cubicBezTo>
                    <a:pt x="2204" y="60"/>
                    <a:pt x="2205" y="58"/>
                    <a:pt x="2206" y="57"/>
                  </a:cubicBezTo>
                  <a:cubicBezTo>
                    <a:pt x="2206" y="62"/>
                    <a:pt x="2206" y="67"/>
                    <a:pt x="2205" y="72"/>
                  </a:cubicBezTo>
                  <a:close/>
                  <a:moveTo>
                    <a:pt x="2221" y="89"/>
                  </a:moveTo>
                  <a:cubicBezTo>
                    <a:pt x="2222" y="91"/>
                    <a:pt x="2223" y="92"/>
                    <a:pt x="2223" y="94"/>
                  </a:cubicBezTo>
                  <a:cubicBezTo>
                    <a:pt x="2223" y="95"/>
                    <a:pt x="2222" y="97"/>
                    <a:pt x="2222" y="98"/>
                  </a:cubicBezTo>
                  <a:cubicBezTo>
                    <a:pt x="2221" y="97"/>
                    <a:pt x="2221" y="96"/>
                    <a:pt x="2220" y="95"/>
                  </a:cubicBezTo>
                  <a:cubicBezTo>
                    <a:pt x="2220" y="93"/>
                    <a:pt x="2221" y="91"/>
                    <a:pt x="2221" y="89"/>
                  </a:cubicBezTo>
                  <a:close/>
                  <a:moveTo>
                    <a:pt x="2220" y="101"/>
                  </a:moveTo>
                  <a:cubicBezTo>
                    <a:pt x="2220" y="101"/>
                    <a:pt x="2220" y="100"/>
                    <a:pt x="2220" y="100"/>
                  </a:cubicBezTo>
                  <a:cubicBezTo>
                    <a:pt x="2220" y="100"/>
                    <a:pt x="2220" y="101"/>
                    <a:pt x="2220" y="101"/>
                  </a:cubicBezTo>
                  <a:cubicBezTo>
                    <a:pt x="2220" y="101"/>
                    <a:pt x="2220" y="101"/>
                    <a:pt x="2220" y="101"/>
                  </a:cubicBezTo>
                  <a:close/>
                  <a:moveTo>
                    <a:pt x="2222" y="122"/>
                  </a:moveTo>
                  <a:cubicBezTo>
                    <a:pt x="2222" y="121"/>
                    <a:pt x="2221" y="120"/>
                    <a:pt x="2221" y="119"/>
                  </a:cubicBezTo>
                  <a:cubicBezTo>
                    <a:pt x="2221" y="117"/>
                    <a:pt x="2221" y="115"/>
                    <a:pt x="2221" y="112"/>
                  </a:cubicBezTo>
                  <a:cubicBezTo>
                    <a:pt x="2221" y="110"/>
                    <a:pt x="2221" y="108"/>
                    <a:pt x="2222" y="106"/>
                  </a:cubicBezTo>
                  <a:cubicBezTo>
                    <a:pt x="2222" y="108"/>
                    <a:pt x="2223" y="110"/>
                    <a:pt x="2223" y="112"/>
                  </a:cubicBezTo>
                  <a:cubicBezTo>
                    <a:pt x="2223" y="115"/>
                    <a:pt x="2223" y="119"/>
                    <a:pt x="2222" y="122"/>
                  </a:cubicBezTo>
                  <a:close/>
                  <a:moveTo>
                    <a:pt x="2224" y="103"/>
                  </a:moveTo>
                  <a:cubicBezTo>
                    <a:pt x="2224" y="102"/>
                    <a:pt x="2223" y="101"/>
                    <a:pt x="2223" y="100"/>
                  </a:cubicBezTo>
                  <a:cubicBezTo>
                    <a:pt x="2223" y="99"/>
                    <a:pt x="2224" y="97"/>
                    <a:pt x="2224" y="96"/>
                  </a:cubicBezTo>
                  <a:cubicBezTo>
                    <a:pt x="2224" y="97"/>
                    <a:pt x="2225" y="97"/>
                    <a:pt x="2225" y="98"/>
                  </a:cubicBezTo>
                  <a:cubicBezTo>
                    <a:pt x="2225" y="100"/>
                    <a:pt x="2224" y="101"/>
                    <a:pt x="2224" y="103"/>
                  </a:cubicBezTo>
                  <a:close/>
                  <a:moveTo>
                    <a:pt x="2225" y="96"/>
                  </a:moveTo>
                  <a:cubicBezTo>
                    <a:pt x="2225" y="95"/>
                    <a:pt x="2225" y="95"/>
                    <a:pt x="2224" y="95"/>
                  </a:cubicBezTo>
                  <a:cubicBezTo>
                    <a:pt x="2225" y="93"/>
                    <a:pt x="2225" y="92"/>
                    <a:pt x="2226" y="91"/>
                  </a:cubicBezTo>
                  <a:cubicBezTo>
                    <a:pt x="2225" y="93"/>
                    <a:pt x="2225" y="94"/>
                    <a:pt x="2225" y="96"/>
                  </a:cubicBezTo>
                  <a:close/>
                  <a:moveTo>
                    <a:pt x="2231" y="95"/>
                  </a:moveTo>
                  <a:cubicBezTo>
                    <a:pt x="2231" y="92"/>
                    <a:pt x="2232" y="89"/>
                    <a:pt x="2232" y="86"/>
                  </a:cubicBezTo>
                  <a:cubicBezTo>
                    <a:pt x="2232" y="86"/>
                    <a:pt x="2233" y="87"/>
                    <a:pt x="2233" y="88"/>
                  </a:cubicBezTo>
                  <a:cubicBezTo>
                    <a:pt x="2233" y="90"/>
                    <a:pt x="2232" y="92"/>
                    <a:pt x="2231" y="95"/>
                  </a:cubicBezTo>
                  <a:close/>
                  <a:moveTo>
                    <a:pt x="2242" y="99"/>
                  </a:moveTo>
                  <a:cubicBezTo>
                    <a:pt x="2242" y="99"/>
                    <a:pt x="2241" y="98"/>
                    <a:pt x="2241" y="97"/>
                  </a:cubicBezTo>
                  <a:cubicBezTo>
                    <a:pt x="2241" y="93"/>
                    <a:pt x="2241" y="89"/>
                    <a:pt x="2241" y="84"/>
                  </a:cubicBezTo>
                  <a:cubicBezTo>
                    <a:pt x="2242" y="80"/>
                    <a:pt x="2245" y="76"/>
                    <a:pt x="2247" y="72"/>
                  </a:cubicBezTo>
                  <a:cubicBezTo>
                    <a:pt x="2248" y="74"/>
                    <a:pt x="2248" y="78"/>
                    <a:pt x="2249" y="82"/>
                  </a:cubicBezTo>
                  <a:cubicBezTo>
                    <a:pt x="2246" y="88"/>
                    <a:pt x="2244" y="93"/>
                    <a:pt x="2242" y="99"/>
                  </a:cubicBezTo>
                  <a:close/>
                  <a:moveTo>
                    <a:pt x="2250" y="75"/>
                  </a:moveTo>
                  <a:cubicBezTo>
                    <a:pt x="2250" y="73"/>
                    <a:pt x="2249" y="71"/>
                    <a:pt x="2249" y="69"/>
                  </a:cubicBezTo>
                  <a:cubicBezTo>
                    <a:pt x="2250" y="68"/>
                    <a:pt x="2250" y="67"/>
                    <a:pt x="2251" y="66"/>
                  </a:cubicBezTo>
                  <a:cubicBezTo>
                    <a:pt x="2251" y="69"/>
                    <a:pt x="2250" y="72"/>
                    <a:pt x="2250" y="75"/>
                  </a:cubicBezTo>
                  <a:close/>
                  <a:moveTo>
                    <a:pt x="2258" y="72"/>
                  </a:moveTo>
                  <a:cubicBezTo>
                    <a:pt x="2258" y="71"/>
                    <a:pt x="2258" y="70"/>
                    <a:pt x="2258" y="70"/>
                  </a:cubicBezTo>
                  <a:cubicBezTo>
                    <a:pt x="2258" y="69"/>
                    <a:pt x="2258" y="69"/>
                    <a:pt x="2258" y="69"/>
                  </a:cubicBezTo>
                  <a:cubicBezTo>
                    <a:pt x="2258" y="71"/>
                    <a:pt x="2258" y="72"/>
                    <a:pt x="2258" y="72"/>
                  </a:cubicBezTo>
                  <a:close/>
                  <a:moveTo>
                    <a:pt x="2258" y="67"/>
                  </a:moveTo>
                  <a:cubicBezTo>
                    <a:pt x="2258" y="67"/>
                    <a:pt x="2258" y="68"/>
                    <a:pt x="2258" y="68"/>
                  </a:cubicBezTo>
                  <a:cubicBezTo>
                    <a:pt x="2258" y="65"/>
                    <a:pt x="2257" y="61"/>
                    <a:pt x="2257" y="58"/>
                  </a:cubicBezTo>
                  <a:cubicBezTo>
                    <a:pt x="2257" y="57"/>
                    <a:pt x="2258" y="56"/>
                    <a:pt x="2259" y="56"/>
                  </a:cubicBezTo>
                  <a:cubicBezTo>
                    <a:pt x="2258" y="60"/>
                    <a:pt x="2258" y="64"/>
                    <a:pt x="2258" y="67"/>
                  </a:cubicBezTo>
                  <a:close/>
                  <a:moveTo>
                    <a:pt x="2266" y="123"/>
                  </a:moveTo>
                  <a:cubicBezTo>
                    <a:pt x="2265" y="124"/>
                    <a:pt x="2264" y="126"/>
                    <a:pt x="2264" y="127"/>
                  </a:cubicBezTo>
                  <a:cubicBezTo>
                    <a:pt x="2264" y="124"/>
                    <a:pt x="2264" y="122"/>
                    <a:pt x="2264" y="119"/>
                  </a:cubicBezTo>
                  <a:cubicBezTo>
                    <a:pt x="2265" y="116"/>
                    <a:pt x="2266" y="112"/>
                    <a:pt x="2267" y="109"/>
                  </a:cubicBezTo>
                  <a:cubicBezTo>
                    <a:pt x="2267" y="111"/>
                    <a:pt x="2267" y="112"/>
                    <a:pt x="2267" y="114"/>
                  </a:cubicBezTo>
                  <a:cubicBezTo>
                    <a:pt x="2267" y="117"/>
                    <a:pt x="2266" y="120"/>
                    <a:pt x="2266" y="123"/>
                  </a:cubicBezTo>
                  <a:close/>
                  <a:moveTo>
                    <a:pt x="2268" y="110"/>
                  </a:moveTo>
                  <a:cubicBezTo>
                    <a:pt x="2268" y="111"/>
                    <a:pt x="2268" y="112"/>
                    <a:pt x="2267" y="112"/>
                  </a:cubicBezTo>
                  <a:cubicBezTo>
                    <a:pt x="2267" y="111"/>
                    <a:pt x="2267" y="110"/>
                    <a:pt x="2267" y="109"/>
                  </a:cubicBezTo>
                  <a:cubicBezTo>
                    <a:pt x="2267" y="107"/>
                    <a:pt x="2268" y="105"/>
                    <a:pt x="2268" y="102"/>
                  </a:cubicBezTo>
                  <a:cubicBezTo>
                    <a:pt x="2268" y="105"/>
                    <a:pt x="2268" y="107"/>
                    <a:pt x="2268" y="110"/>
                  </a:cubicBezTo>
                  <a:close/>
                  <a:moveTo>
                    <a:pt x="2270" y="83"/>
                  </a:moveTo>
                  <a:cubicBezTo>
                    <a:pt x="2270" y="83"/>
                    <a:pt x="2270" y="84"/>
                    <a:pt x="2269" y="85"/>
                  </a:cubicBezTo>
                  <a:cubicBezTo>
                    <a:pt x="2268" y="87"/>
                    <a:pt x="2267" y="89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2"/>
                    <a:pt x="2265" y="94"/>
                    <a:pt x="2264" y="96"/>
                  </a:cubicBezTo>
                  <a:cubicBezTo>
                    <a:pt x="2264" y="90"/>
                    <a:pt x="2265" y="85"/>
                    <a:pt x="2267" y="79"/>
                  </a:cubicBezTo>
                  <a:cubicBezTo>
                    <a:pt x="2265" y="85"/>
                    <a:pt x="2264" y="90"/>
                    <a:pt x="2262" y="95"/>
                  </a:cubicBezTo>
                  <a:cubicBezTo>
                    <a:pt x="2262" y="85"/>
                    <a:pt x="2263" y="74"/>
                    <a:pt x="2263" y="63"/>
                  </a:cubicBezTo>
                  <a:cubicBezTo>
                    <a:pt x="2266" y="60"/>
                    <a:pt x="2269" y="58"/>
                    <a:pt x="2272" y="55"/>
                  </a:cubicBezTo>
                  <a:cubicBezTo>
                    <a:pt x="2272" y="62"/>
                    <a:pt x="2271" y="72"/>
                    <a:pt x="2270" y="83"/>
                  </a:cubicBezTo>
                  <a:close/>
                  <a:moveTo>
                    <a:pt x="2276" y="105"/>
                  </a:moveTo>
                  <a:cubicBezTo>
                    <a:pt x="2276" y="102"/>
                    <a:pt x="2276" y="99"/>
                    <a:pt x="2276" y="96"/>
                  </a:cubicBezTo>
                  <a:cubicBezTo>
                    <a:pt x="2276" y="97"/>
                    <a:pt x="2277" y="99"/>
                    <a:pt x="2277" y="100"/>
                  </a:cubicBezTo>
                  <a:cubicBezTo>
                    <a:pt x="2277" y="102"/>
                    <a:pt x="2277" y="103"/>
                    <a:pt x="2276" y="105"/>
                  </a:cubicBezTo>
                  <a:cubicBezTo>
                    <a:pt x="2276" y="105"/>
                    <a:pt x="2276" y="105"/>
                    <a:pt x="2276" y="105"/>
                  </a:cubicBezTo>
                  <a:close/>
                  <a:moveTo>
                    <a:pt x="2277" y="130"/>
                  </a:moveTo>
                  <a:cubicBezTo>
                    <a:pt x="2277" y="130"/>
                    <a:pt x="2277" y="130"/>
                    <a:pt x="2277" y="130"/>
                  </a:cubicBezTo>
                  <a:cubicBezTo>
                    <a:pt x="2277" y="129"/>
                    <a:pt x="2277" y="128"/>
                    <a:pt x="2277" y="127"/>
                  </a:cubicBezTo>
                  <a:cubicBezTo>
                    <a:pt x="2277" y="128"/>
                    <a:pt x="2277" y="128"/>
                    <a:pt x="2278" y="129"/>
                  </a:cubicBezTo>
                  <a:cubicBezTo>
                    <a:pt x="2277" y="129"/>
                    <a:pt x="2277" y="130"/>
                    <a:pt x="2277" y="130"/>
                  </a:cubicBezTo>
                  <a:close/>
                  <a:moveTo>
                    <a:pt x="2284" y="74"/>
                  </a:moveTo>
                  <a:cubicBezTo>
                    <a:pt x="2284" y="73"/>
                    <a:pt x="2284" y="71"/>
                    <a:pt x="2284" y="70"/>
                  </a:cubicBezTo>
                  <a:cubicBezTo>
                    <a:pt x="2284" y="70"/>
                    <a:pt x="2285" y="71"/>
                    <a:pt x="2285" y="72"/>
                  </a:cubicBezTo>
                  <a:cubicBezTo>
                    <a:pt x="2285" y="72"/>
                    <a:pt x="2285" y="73"/>
                    <a:pt x="2284" y="74"/>
                  </a:cubicBezTo>
                  <a:close/>
                  <a:moveTo>
                    <a:pt x="2288" y="139"/>
                  </a:moveTo>
                  <a:cubicBezTo>
                    <a:pt x="2288" y="140"/>
                    <a:pt x="2288" y="141"/>
                    <a:pt x="2288" y="142"/>
                  </a:cubicBezTo>
                  <a:cubicBezTo>
                    <a:pt x="2288" y="142"/>
                    <a:pt x="2288" y="141"/>
                    <a:pt x="2288" y="139"/>
                  </a:cubicBezTo>
                  <a:cubicBezTo>
                    <a:pt x="2288" y="138"/>
                    <a:pt x="2288" y="137"/>
                    <a:pt x="2288" y="136"/>
                  </a:cubicBezTo>
                  <a:cubicBezTo>
                    <a:pt x="2288" y="137"/>
                    <a:pt x="2288" y="137"/>
                    <a:pt x="2288" y="137"/>
                  </a:cubicBezTo>
                  <a:cubicBezTo>
                    <a:pt x="2288" y="138"/>
                    <a:pt x="2288" y="139"/>
                    <a:pt x="2288" y="139"/>
                  </a:cubicBezTo>
                  <a:close/>
                  <a:moveTo>
                    <a:pt x="2290" y="122"/>
                  </a:moveTo>
                  <a:cubicBezTo>
                    <a:pt x="2290" y="122"/>
                    <a:pt x="2290" y="122"/>
                    <a:pt x="2290" y="122"/>
                  </a:cubicBezTo>
                  <a:cubicBezTo>
                    <a:pt x="2290" y="121"/>
                    <a:pt x="2290" y="121"/>
                    <a:pt x="2290" y="121"/>
                  </a:cubicBezTo>
                  <a:cubicBezTo>
                    <a:pt x="2290" y="121"/>
                    <a:pt x="2290" y="122"/>
                    <a:pt x="2290" y="122"/>
                  </a:cubicBezTo>
                  <a:close/>
                  <a:moveTo>
                    <a:pt x="2291" y="110"/>
                  </a:moveTo>
                  <a:cubicBezTo>
                    <a:pt x="2290" y="112"/>
                    <a:pt x="2289" y="114"/>
                    <a:pt x="2288" y="116"/>
                  </a:cubicBezTo>
                  <a:cubicBezTo>
                    <a:pt x="2288" y="116"/>
                    <a:pt x="2288" y="117"/>
                    <a:pt x="2288" y="117"/>
                  </a:cubicBezTo>
                  <a:cubicBezTo>
                    <a:pt x="2288" y="113"/>
                    <a:pt x="2287" y="108"/>
                    <a:pt x="2287" y="104"/>
                  </a:cubicBezTo>
                  <a:cubicBezTo>
                    <a:pt x="2288" y="101"/>
                    <a:pt x="2288" y="98"/>
                    <a:pt x="2289" y="96"/>
                  </a:cubicBezTo>
                  <a:cubicBezTo>
                    <a:pt x="2290" y="95"/>
                    <a:pt x="2290" y="95"/>
                    <a:pt x="2290" y="95"/>
                  </a:cubicBezTo>
                  <a:cubicBezTo>
                    <a:pt x="2290" y="98"/>
                    <a:pt x="2291" y="101"/>
                    <a:pt x="2291" y="104"/>
                  </a:cubicBezTo>
                  <a:cubicBezTo>
                    <a:pt x="2291" y="106"/>
                    <a:pt x="2291" y="108"/>
                    <a:pt x="2291" y="110"/>
                  </a:cubicBezTo>
                  <a:close/>
                  <a:moveTo>
                    <a:pt x="2292" y="99"/>
                  </a:moveTo>
                  <a:cubicBezTo>
                    <a:pt x="2291" y="97"/>
                    <a:pt x="2291" y="96"/>
                    <a:pt x="2290" y="94"/>
                  </a:cubicBezTo>
                  <a:cubicBezTo>
                    <a:pt x="2291" y="93"/>
                    <a:pt x="2292" y="92"/>
                    <a:pt x="2292" y="91"/>
                  </a:cubicBezTo>
                  <a:cubicBezTo>
                    <a:pt x="2292" y="94"/>
                    <a:pt x="2292" y="96"/>
                    <a:pt x="2292" y="99"/>
                  </a:cubicBezTo>
                  <a:close/>
                  <a:moveTo>
                    <a:pt x="2286" y="91"/>
                  </a:moveTo>
                  <a:cubicBezTo>
                    <a:pt x="2286" y="89"/>
                    <a:pt x="2286" y="88"/>
                    <a:pt x="2285" y="87"/>
                  </a:cubicBezTo>
                  <a:cubicBezTo>
                    <a:pt x="2287" y="83"/>
                    <a:pt x="2288" y="80"/>
                    <a:pt x="2289" y="76"/>
                  </a:cubicBezTo>
                  <a:cubicBezTo>
                    <a:pt x="2290" y="78"/>
                    <a:pt x="2292" y="80"/>
                    <a:pt x="2293" y="82"/>
                  </a:cubicBezTo>
                  <a:cubicBezTo>
                    <a:pt x="2290" y="85"/>
                    <a:pt x="2288" y="88"/>
                    <a:pt x="2286" y="91"/>
                  </a:cubicBezTo>
                  <a:close/>
                  <a:moveTo>
                    <a:pt x="2293" y="79"/>
                  </a:moveTo>
                  <a:cubicBezTo>
                    <a:pt x="2292" y="77"/>
                    <a:pt x="2291" y="76"/>
                    <a:pt x="2290" y="75"/>
                  </a:cubicBezTo>
                  <a:cubicBezTo>
                    <a:pt x="2291" y="72"/>
                    <a:pt x="2293" y="68"/>
                    <a:pt x="2294" y="65"/>
                  </a:cubicBezTo>
                  <a:cubicBezTo>
                    <a:pt x="2294" y="68"/>
                    <a:pt x="2294" y="73"/>
                    <a:pt x="2293" y="79"/>
                  </a:cubicBezTo>
                  <a:close/>
                  <a:moveTo>
                    <a:pt x="2311" y="54"/>
                  </a:moveTo>
                  <a:cubicBezTo>
                    <a:pt x="2311" y="56"/>
                    <a:pt x="2310" y="58"/>
                    <a:pt x="2310" y="61"/>
                  </a:cubicBezTo>
                  <a:cubicBezTo>
                    <a:pt x="2306" y="65"/>
                    <a:pt x="2302" y="69"/>
                    <a:pt x="2299" y="74"/>
                  </a:cubicBezTo>
                  <a:cubicBezTo>
                    <a:pt x="2302" y="67"/>
                    <a:pt x="2306" y="60"/>
                    <a:pt x="2311" y="54"/>
                  </a:cubicBezTo>
                  <a:close/>
                  <a:moveTo>
                    <a:pt x="2297" y="89"/>
                  </a:moveTo>
                  <a:cubicBezTo>
                    <a:pt x="2297" y="90"/>
                    <a:pt x="2298" y="91"/>
                    <a:pt x="2298" y="92"/>
                  </a:cubicBezTo>
                  <a:cubicBezTo>
                    <a:pt x="2298" y="92"/>
                    <a:pt x="2297" y="93"/>
                    <a:pt x="2297" y="94"/>
                  </a:cubicBezTo>
                  <a:cubicBezTo>
                    <a:pt x="2297" y="92"/>
                    <a:pt x="2297" y="91"/>
                    <a:pt x="2297" y="89"/>
                  </a:cubicBezTo>
                  <a:close/>
                  <a:moveTo>
                    <a:pt x="2299" y="127"/>
                  </a:moveTo>
                  <a:cubicBezTo>
                    <a:pt x="2299" y="125"/>
                    <a:pt x="2299" y="124"/>
                    <a:pt x="2298" y="122"/>
                  </a:cubicBezTo>
                  <a:cubicBezTo>
                    <a:pt x="2298" y="117"/>
                    <a:pt x="2298" y="111"/>
                    <a:pt x="2298" y="105"/>
                  </a:cubicBezTo>
                  <a:cubicBezTo>
                    <a:pt x="2299" y="104"/>
                    <a:pt x="2299" y="102"/>
                    <a:pt x="2300" y="101"/>
                  </a:cubicBezTo>
                  <a:cubicBezTo>
                    <a:pt x="2299" y="102"/>
                    <a:pt x="2299" y="103"/>
                    <a:pt x="2298" y="105"/>
                  </a:cubicBezTo>
                  <a:cubicBezTo>
                    <a:pt x="2297" y="102"/>
                    <a:pt x="2297" y="99"/>
                    <a:pt x="2297" y="96"/>
                  </a:cubicBezTo>
                  <a:cubicBezTo>
                    <a:pt x="2298" y="95"/>
                    <a:pt x="2298" y="94"/>
                    <a:pt x="2298" y="93"/>
                  </a:cubicBezTo>
                  <a:cubicBezTo>
                    <a:pt x="2299" y="95"/>
                    <a:pt x="2300" y="97"/>
                    <a:pt x="2301" y="100"/>
                  </a:cubicBezTo>
                  <a:cubicBezTo>
                    <a:pt x="2301" y="100"/>
                    <a:pt x="2301" y="100"/>
                    <a:pt x="2300" y="101"/>
                  </a:cubicBezTo>
                  <a:cubicBezTo>
                    <a:pt x="2301" y="101"/>
                    <a:pt x="2301" y="100"/>
                    <a:pt x="2301" y="100"/>
                  </a:cubicBezTo>
                  <a:cubicBezTo>
                    <a:pt x="2302" y="101"/>
                    <a:pt x="2302" y="102"/>
                    <a:pt x="2303" y="103"/>
                  </a:cubicBezTo>
                  <a:cubicBezTo>
                    <a:pt x="2301" y="112"/>
                    <a:pt x="2300" y="120"/>
                    <a:pt x="2299" y="127"/>
                  </a:cubicBezTo>
                  <a:close/>
                  <a:moveTo>
                    <a:pt x="2300" y="87"/>
                  </a:moveTo>
                  <a:cubicBezTo>
                    <a:pt x="2301" y="86"/>
                    <a:pt x="2302" y="84"/>
                    <a:pt x="2303" y="83"/>
                  </a:cubicBezTo>
                  <a:cubicBezTo>
                    <a:pt x="2302" y="84"/>
                    <a:pt x="2301" y="86"/>
                    <a:pt x="2300" y="87"/>
                  </a:cubicBezTo>
                  <a:cubicBezTo>
                    <a:pt x="2299" y="86"/>
                    <a:pt x="2298" y="85"/>
                    <a:pt x="2297" y="83"/>
                  </a:cubicBezTo>
                  <a:cubicBezTo>
                    <a:pt x="2301" y="78"/>
                    <a:pt x="2305" y="72"/>
                    <a:pt x="2308" y="67"/>
                  </a:cubicBezTo>
                  <a:cubicBezTo>
                    <a:pt x="2308" y="72"/>
                    <a:pt x="2307" y="76"/>
                    <a:pt x="2306" y="81"/>
                  </a:cubicBezTo>
                  <a:cubicBezTo>
                    <a:pt x="2306" y="80"/>
                    <a:pt x="2305" y="79"/>
                    <a:pt x="2305" y="79"/>
                  </a:cubicBezTo>
                  <a:cubicBezTo>
                    <a:pt x="2305" y="78"/>
                    <a:pt x="2306" y="77"/>
                    <a:pt x="2307" y="75"/>
                  </a:cubicBezTo>
                  <a:cubicBezTo>
                    <a:pt x="2306" y="76"/>
                    <a:pt x="2305" y="77"/>
                    <a:pt x="2305" y="79"/>
                  </a:cubicBezTo>
                  <a:cubicBezTo>
                    <a:pt x="2304" y="78"/>
                    <a:pt x="2304" y="77"/>
                    <a:pt x="2303" y="77"/>
                  </a:cubicBezTo>
                  <a:cubicBezTo>
                    <a:pt x="2303" y="78"/>
                    <a:pt x="2304" y="79"/>
                    <a:pt x="2304" y="79"/>
                  </a:cubicBezTo>
                  <a:cubicBezTo>
                    <a:pt x="2304" y="80"/>
                    <a:pt x="2303" y="81"/>
                    <a:pt x="2303" y="83"/>
                  </a:cubicBezTo>
                  <a:cubicBezTo>
                    <a:pt x="2303" y="82"/>
                    <a:pt x="2304" y="81"/>
                    <a:pt x="2304" y="80"/>
                  </a:cubicBezTo>
                  <a:cubicBezTo>
                    <a:pt x="2305" y="81"/>
                    <a:pt x="2305" y="82"/>
                    <a:pt x="2306" y="84"/>
                  </a:cubicBezTo>
                  <a:cubicBezTo>
                    <a:pt x="2305" y="87"/>
                    <a:pt x="2305" y="90"/>
                    <a:pt x="2304" y="93"/>
                  </a:cubicBezTo>
                  <a:cubicBezTo>
                    <a:pt x="2303" y="91"/>
                    <a:pt x="2302" y="89"/>
                    <a:pt x="2300" y="87"/>
                  </a:cubicBezTo>
                  <a:close/>
                  <a:moveTo>
                    <a:pt x="2305" y="144"/>
                  </a:moveTo>
                  <a:cubicBezTo>
                    <a:pt x="2305" y="144"/>
                    <a:pt x="2305" y="143"/>
                    <a:pt x="2305" y="143"/>
                  </a:cubicBezTo>
                  <a:cubicBezTo>
                    <a:pt x="2305" y="140"/>
                    <a:pt x="2305" y="136"/>
                    <a:pt x="2305" y="131"/>
                  </a:cubicBezTo>
                  <a:cubicBezTo>
                    <a:pt x="2306" y="128"/>
                    <a:pt x="2307" y="126"/>
                    <a:pt x="2307" y="125"/>
                  </a:cubicBezTo>
                  <a:cubicBezTo>
                    <a:pt x="2307" y="125"/>
                    <a:pt x="2307" y="124"/>
                    <a:pt x="2307" y="124"/>
                  </a:cubicBezTo>
                  <a:cubicBezTo>
                    <a:pt x="2306" y="124"/>
                    <a:pt x="2306" y="124"/>
                    <a:pt x="2306" y="124"/>
                  </a:cubicBezTo>
                  <a:cubicBezTo>
                    <a:pt x="2306" y="122"/>
                    <a:pt x="2306" y="120"/>
                    <a:pt x="2306" y="118"/>
                  </a:cubicBezTo>
                  <a:cubicBezTo>
                    <a:pt x="2307" y="121"/>
                    <a:pt x="2308" y="125"/>
                    <a:pt x="2308" y="128"/>
                  </a:cubicBezTo>
                  <a:cubicBezTo>
                    <a:pt x="2307" y="136"/>
                    <a:pt x="2306" y="141"/>
                    <a:pt x="2305" y="144"/>
                  </a:cubicBezTo>
                  <a:close/>
                  <a:moveTo>
                    <a:pt x="2312" y="107"/>
                  </a:moveTo>
                  <a:cubicBezTo>
                    <a:pt x="2311" y="105"/>
                    <a:pt x="2310" y="102"/>
                    <a:pt x="2308" y="100"/>
                  </a:cubicBezTo>
                  <a:cubicBezTo>
                    <a:pt x="2309" y="97"/>
                    <a:pt x="2309" y="95"/>
                    <a:pt x="2309" y="93"/>
                  </a:cubicBezTo>
                  <a:cubicBezTo>
                    <a:pt x="2310" y="96"/>
                    <a:pt x="2312" y="99"/>
                    <a:pt x="2313" y="102"/>
                  </a:cubicBezTo>
                  <a:cubicBezTo>
                    <a:pt x="2313" y="104"/>
                    <a:pt x="2312" y="105"/>
                    <a:pt x="2312" y="107"/>
                  </a:cubicBezTo>
                  <a:close/>
                  <a:moveTo>
                    <a:pt x="2313" y="159"/>
                  </a:moveTo>
                  <a:cubicBezTo>
                    <a:pt x="2313" y="159"/>
                    <a:pt x="2313" y="159"/>
                    <a:pt x="2313" y="159"/>
                  </a:cubicBezTo>
                  <a:cubicBezTo>
                    <a:pt x="2313" y="159"/>
                    <a:pt x="2313" y="159"/>
                    <a:pt x="2314" y="159"/>
                  </a:cubicBezTo>
                  <a:cubicBezTo>
                    <a:pt x="2313" y="159"/>
                    <a:pt x="2313" y="159"/>
                    <a:pt x="2313" y="159"/>
                  </a:cubicBezTo>
                  <a:close/>
                  <a:moveTo>
                    <a:pt x="2314" y="96"/>
                  </a:moveTo>
                  <a:cubicBezTo>
                    <a:pt x="2313" y="93"/>
                    <a:pt x="2311" y="91"/>
                    <a:pt x="2310" y="88"/>
                  </a:cubicBezTo>
                  <a:cubicBezTo>
                    <a:pt x="2312" y="85"/>
                    <a:pt x="2314" y="82"/>
                    <a:pt x="2316" y="79"/>
                  </a:cubicBezTo>
                  <a:cubicBezTo>
                    <a:pt x="2316" y="84"/>
                    <a:pt x="2315" y="90"/>
                    <a:pt x="2314" y="96"/>
                  </a:cubicBezTo>
                  <a:close/>
                  <a:moveTo>
                    <a:pt x="2317" y="75"/>
                  </a:moveTo>
                  <a:cubicBezTo>
                    <a:pt x="2315" y="78"/>
                    <a:pt x="2312" y="82"/>
                    <a:pt x="2310" y="86"/>
                  </a:cubicBezTo>
                  <a:cubicBezTo>
                    <a:pt x="2311" y="77"/>
                    <a:pt x="2312" y="68"/>
                    <a:pt x="2313" y="61"/>
                  </a:cubicBezTo>
                  <a:cubicBezTo>
                    <a:pt x="2315" y="58"/>
                    <a:pt x="2317" y="55"/>
                    <a:pt x="2319" y="53"/>
                  </a:cubicBezTo>
                  <a:cubicBezTo>
                    <a:pt x="2319" y="58"/>
                    <a:pt x="2318" y="66"/>
                    <a:pt x="2317" y="75"/>
                  </a:cubicBezTo>
                  <a:close/>
                  <a:moveTo>
                    <a:pt x="2324" y="139"/>
                  </a:moveTo>
                  <a:cubicBezTo>
                    <a:pt x="2324" y="139"/>
                    <a:pt x="2324" y="139"/>
                    <a:pt x="2323" y="139"/>
                  </a:cubicBezTo>
                  <a:cubicBezTo>
                    <a:pt x="2323" y="138"/>
                    <a:pt x="2323" y="138"/>
                    <a:pt x="2324" y="138"/>
                  </a:cubicBezTo>
                  <a:cubicBezTo>
                    <a:pt x="2324" y="138"/>
                    <a:pt x="2324" y="138"/>
                    <a:pt x="2324" y="138"/>
                  </a:cubicBezTo>
                  <a:cubicBezTo>
                    <a:pt x="2324" y="139"/>
                    <a:pt x="2324" y="139"/>
                    <a:pt x="2324" y="139"/>
                  </a:cubicBezTo>
                  <a:close/>
                  <a:moveTo>
                    <a:pt x="2349" y="137"/>
                  </a:moveTo>
                  <a:cubicBezTo>
                    <a:pt x="2349" y="136"/>
                    <a:pt x="2348" y="135"/>
                    <a:pt x="2348" y="133"/>
                  </a:cubicBezTo>
                  <a:cubicBezTo>
                    <a:pt x="2348" y="132"/>
                    <a:pt x="2348" y="130"/>
                    <a:pt x="2348" y="128"/>
                  </a:cubicBezTo>
                  <a:cubicBezTo>
                    <a:pt x="2348" y="131"/>
                    <a:pt x="2349" y="133"/>
                    <a:pt x="2350" y="135"/>
                  </a:cubicBezTo>
                  <a:cubicBezTo>
                    <a:pt x="2350" y="136"/>
                    <a:pt x="2349" y="137"/>
                    <a:pt x="2349" y="137"/>
                  </a:cubicBezTo>
                  <a:close/>
                  <a:moveTo>
                    <a:pt x="2355" y="99"/>
                  </a:moveTo>
                  <a:cubicBezTo>
                    <a:pt x="2354" y="95"/>
                    <a:pt x="2352" y="92"/>
                    <a:pt x="2350" y="90"/>
                  </a:cubicBezTo>
                  <a:cubicBezTo>
                    <a:pt x="2352" y="93"/>
                    <a:pt x="2354" y="97"/>
                    <a:pt x="2355" y="101"/>
                  </a:cubicBezTo>
                  <a:cubicBezTo>
                    <a:pt x="2354" y="110"/>
                    <a:pt x="2353" y="118"/>
                    <a:pt x="2351" y="125"/>
                  </a:cubicBezTo>
                  <a:cubicBezTo>
                    <a:pt x="2350" y="122"/>
                    <a:pt x="2349" y="119"/>
                    <a:pt x="2349" y="116"/>
                  </a:cubicBezTo>
                  <a:cubicBezTo>
                    <a:pt x="2349" y="102"/>
                    <a:pt x="2350" y="86"/>
                    <a:pt x="2351" y="72"/>
                  </a:cubicBezTo>
                  <a:cubicBezTo>
                    <a:pt x="2353" y="75"/>
                    <a:pt x="2356" y="79"/>
                    <a:pt x="2358" y="82"/>
                  </a:cubicBezTo>
                  <a:cubicBezTo>
                    <a:pt x="2357" y="88"/>
                    <a:pt x="2356" y="93"/>
                    <a:pt x="2355" y="99"/>
                  </a:cubicBezTo>
                  <a:close/>
                  <a:moveTo>
                    <a:pt x="2358" y="142"/>
                  </a:moveTo>
                  <a:cubicBezTo>
                    <a:pt x="2359" y="134"/>
                    <a:pt x="2360" y="127"/>
                    <a:pt x="2360" y="121"/>
                  </a:cubicBezTo>
                  <a:cubicBezTo>
                    <a:pt x="2360" y="123"/>
                    <a:pt x="2361" y="125"/>
                    <a:pt x="2361" y="127"/>
                  </a:cubicBezTo>
                  <a:cubicBezTo>
                    <a:pt x="2360" y="136"/>
                    <a:pt x="2358" y="142"/>
                    <a:pt x="2358" y="142"/>
                  </a:cubicBezTo>
                  <a:close/>
                  <a:moveTo>
                    <a:pt x="2362" y="144"/>
                  </a:moveTo>
                  <a:cubicBezTo>
                    <a:pt x="2362" y="142"/>
                    <a:pt x="2362" y="140"/>
                    <a:pt x="2363" y="137"/>
                  </a:cubicBezTo>
                  <a:cubicBezTo>
                    <a:pt x="2363" y="138"/>
                    <a:pt x="2363" y="138"/>
                    <a:pt x="2363" y="138"/>
                  </a:cubicBezTo>
                  <a:cubicBezTo>
                    <a:pt x="2362" y="142"/>
                    <a:pt x="2362" y="144"/>
                    <a:pt x="2362" y="144"/>
                  </a:cubicBezTo>
                  <a:close/>
                  <a:moveTo>
                    <a:pt x="2361" y="110"/>
                  </a:moveTo>
                  <a:cubicBezTo>
                    <a:pt x="2361" y="103"/>
                    <a:pt x="2362" y="96"/>
                    <a:pt x="2362" y="90"/>
                  </a:cubicBezTo>
                  <a:cubicBezTo>
                    <a:pt x="2364" y="93"/>
                    <a:pt x="2365" y="96"/>
                    <a:pt x="2366" y="99"/>
                  </a:cubicBezTo>
                  <a:cubicBezTo>
                    <a:pt x="2365" y="105"/>
                    <a:pt x="2364" y="111"/>
                    <a:pt x="2363" y="116"/>
                  </a:cubicBezTo>
                  <a:cubicBezTo>
                    <a:pt x="2362" y="114"/>
                    <a:pt x="2362" y="112"/>
                    <a:pt x="2361" y="110"/>
                  </a:cubicBezTo>
                  <a:close/>
                  <a:moveTo>
                    <a:pt x="2366" y="124"/>
                  </a:moveTo>
                  <a:cubicBezTo>
                    <a:pt x="2365" y="123"/>
                    <a:pt x="2365" y="122"/>
                    <a:pt x="2365" y="121"/>
                  </a:cubicBezTo>
                  <a:cubicBezTo>
                    <a:pt x="2365" y="115"/>
                    <a:pt x="2366" y="109"/>
                    <a:pt x="2367" y="103"/>
                  </a:cubicBezTo>
                  <a:cubicBezTo>
                    <a:pt x="2368" y="105"/>
                    <a:pt x="2368" y="107"/>
                    <a:pt x="2369" y="109"/>
                  </a:cubicBezTo>
                  <a:cubicBezTo>
                    <a:pt x="2368" y="114"/>
                    <a:pt x="2367" y="119"/>
                    <a:pt x="2366" y="124"/>
                  </a:cubicBezTo>
                  <a:close/>
                  <a:moveTo>
                    <a:pt x="2371" y="146"/>
                  </a:moveTo>
                  <a:cubicBezTo>
                    <a:pt x="2371" y="145"/>
                    <a:pt x="2371" y="145"/>
                    <a:pt x="2371" y="145"/>
                  </a:cubicBezTo>
                  <a:cubicBezTo>
                    <a:pt x="2372" y="144"/>
                    <a:pt x="2372" y="143"/>
                    <a:pt x="2372" y="141"/>
                  </a:cubicBezTo>
                  <a:cubicBezTo>
                    <a:pt x="2372" y="142"/>
                    <a:pt x="2372" y="143"/>
                    <a:pt x="2372" y="144"/>
                  </a:cubicBezTo>
                  <a:cubicBezTo>
                    <a:pt x="2372" y="145"/>
                    <a:pt x="2372" y="145"/>
                    <a:pt x="2371" y="146"/>
                  </a:cubicBezTo>
                  <a:close/>
                  <a:moveTo>
                    <a:pt x="2395" y="118"/>
                  </a:moveTo>
                  <a:cubicBezTo>
                    <a:pt x="2394" y="114"/>
                    <a:pt x="2392" y="111"/>
                    <a:pt x="2391" y="107"/>
                  </a:cubicBezTo>
                  <a:cubicBezTo>
                    <a:pt x="2391" y="96"/>
                    <a:pt x="2391" y="84"/>
                    <a:pt x="2391" y="74"/>
                  </a:cubicBezTo>
                  <a:cubicBezTo>
                    <a:pt x="2391" y="70"/>
                    <a:pt x="2391" y="67"/>
                    <a:pt x="2390" y="65"/>
                  </a:cubicBezTo>
                  <a:cubicBezTo>
                    <a:pt x="2391" y="74"/>
                    <a:pt x="2395" y="84"/>
                    <a:pt x="2398" y="94"/>
                  </a:cubicBezTo>
                  <a:cubicBezTo>
                    <a:pt x="2397" y="102"/>
                    <a:pt x="2396" y="110"/>
                    <a:pt x="2395" y="118"/>
                  </a:cubicBezTo>
                  <a:close/>
                  <a:moveTo>
                    <a:pt x="2424" y="124"/>
                  </a:moveTo>
                  <a:cubicBezTo>
                    <a:pt x="2423" y="122"/>
                    <a:pt x="2423" y="120"/>
                    <a:pt x="2422" y="117"/>
                  </a:cubicBezTo>
                  <a:cubicBezTo>
                    <a:pt x="2423" y="109"/>
                    <a:pt x="2424" y="100"/>
                    <a:pt x="2425" y="92"/>
                  </a:cubicBezTo>
                  <a:cubicBezTo>
                    <a:pt x="2427" y="96"/>
                    <a:pt x="2428" y="100"/>
                    <a:pt x="2428" y="104"/>
                  </a:cubicBezTo>
                  <a:cubicBezTo>
                    <a:pt x="2427" y="111"/>
                    <a:pt x="2425" y="118"/>
                    <a:pt x="2424" y="124"/>
                  </a:cubicBezTo>
                  <a:close/>
                  <a:moveTo>
                    <a:pt x="2464" y="133"/>
                  </a:moveTo>
                  <a:cubicBezTo>
                    <a:pt x="2464" y="130"/>
                    <a:pt x="2463" y="126"/>
                    <a:pt x="2462" y="122"/>
                  </a:cubicBezTo>
                  <a:cubicBezTo>
                    <a:pt x="2462" y="112"/>
                    <a:pt x="2462" y="100"/>
                    <a:pt x="2463" y="88"/>
                  </a:cubicBezTo>
                  <a:cubicBezTo>
                    <a:pt x="2465" y="96"/>
                    <a:pt x="2467" y="104"/>
                    <a:pt x="2467" y="111"/>
                  </a:cubicBezTo>
                  <a:cubicBezTo>
                    <a:pt x="2468" y="117"/>
                    <a:pt x="2468" y="117"/>
                    <a:pt x="2468" y="117"/>
                  </a:cubicBezTo>
                  <a:cubicBezTo>
                    <a:pt x="2466" y="123"/>
                    <a:pt x="2465" y="129"/>
                    <a:pt x="2464" y="133"/>
                  </a:cubicBezTo>
                  <a:close/>
                  <a:moveTo>
                    <a:pt x="2477" y="110"/>
                  </a:moveTo>
                  <a:cubicBezTo>
                    <a:pt x="2477" y="113"/>
                    <a:pt x="2477" y="116"/>
                    <a:pt x="2477" y="119"/>
                  </a:cubicBezTo>
                  <a:cubicBezTo>
                    <a:pt x="2476" y="122"/>
                    <a:pt x="2476" y="124"/>
                    <a:pt x="2475" y="127"/>
                  </a:cubicBezTo>
                  <a:cubicBezTo>
                    <a:pt x="2475" y="119"/>
                    <a:pt x="2474" y="111"/>
                    <a:pt x="2473" y="104"/>
                  </a:cubicBezTo>
                  <a:cubicBezTo>
                    <a:pt x="2474" y="98"/>
                    <a:pt x="2474" y="91"/>
                    <a:pt x="2475" y="86"/>
                  </a:cubicBezTo>
                  <a:cubicBezTo>
                    <a:pt x="2477" y="93"/>
                    <a:pt x="2477" y="102"/>
                    <a:pt x="2477" y="110"/>
                  </a:cubicBezTo>
                  <a:close/>
                  <a:moveTo>
                    <a:pt x="2487" y="142"/>
                  </a:moveTo>
                  <a:cubicBezTo>
                    <a:pt x="2487" y="142"/>
                    <a:pt x="2487" y="141"/>
                    <a:pt x="2488" y="138"/>
                  </a:cubicBezTo>
                  <a:cubicBezTo>
                    <a:pt x="2489" y="120"/>
                    <a:pt x="2488" y="96"/>
                    <a:pt x="2487" y="77"/>
                  </a:cubicBezTo>
                  <a:cubicBezTo>
                    <a:pt x="2489" y="81"/>
                    <a:pt x="2491" y="86"/>
                    <a:pt x="2492" y="92"/>
                  </a:cubicBezTo>
                  <a:cubicBezTo>
                    <a:pt x="2490" y="108"/>
                    <a:pt x="2488" y="129"/>
                    <a:pt x="2488" y="138"/>
                  </a:cubicBezTo>
                  <a:cubicBezTo>
                    <a:pt x="2487" y="139"/>
                    <a:pt x="2487" y="141"/>
                    <a:pt x="2487" y="142"/>
                  </a:cubicBezTo>
                  <a:close/>
                  <a:moveTo>
                    <a:pt x="2491" y="129"/>
                  </a:moveTo>
                  <a:cubicBezTo>
                    <a:pt x="2491" y="119"/>
                    <a:pt x="2492" y="107"/>
                    <a:pt x="2493" y="97"/>
                  </a:cubicBezTo>
                  <a:cubicBezTo>
                    <a:pt x="2493" y="100"/>
                    <a:pt x="2493" y="103"/>
                    <a:pt x="2493" y="106"/>
                  </a:cubicBezTo>
                  <a:cubicBezTo>
                    <a:pt x="2493" y="114"/>
                    <a:pt x="2492" y="121"/>
                    <a:pt x="2491" y="129"/>
                  </a:cubicBezTo>
                  <a:close/>
                  <a:moveTo>
                    <a:pt x="2502" y="125"/>
                  </a:moveTo>
                  <a:cubicBezTo>
                    <a:pt x="2503" y="120"/>
                    <a:pt x="2503" y="113"/>
                    <a:pt x="2503" y="107"/>
                  </a:cubicBezTo>
                  <a:cubicBezTo>
                    <a:pt x="2503" y="114"/>
                    <a:pt x="2503" y="120"/>
                    <a:pt x="2502" y="125"/>
                  </a:cubicBezTo>
                  <a:close/>
                  <a:moveTo>
                    <a:pt x="2517" y="112"/>
                  </a:moveTo>
                  <a:cubicBezTo>
                    <a:pt x="2517" y="105"/>
                    <a:pt x="2517" y="98"/>
                    <a:pt x="2517" y="91"/>
                  </a:cubicBezTo>
                  <a:cubicBezTo>
                    <a:pt x="2518" y="95"/>
                    <a:pt x="2518" y="99"/>
                    <a:pt x="2518" y="103"/>
                  </a:cubicBezTo>
                  <a:cubicBezTo>
                    <a:pt x="2518" y="106"/>
                    <a:pt x="2518" y="109"/>
                    <a:pt x="2517" y="112"/>
                  </a:cubicBezTo>
                  <a:close/>
                  <a:moveTo>
                    <a:pt x="2528" y="129"/>
                  </a:moveTo>
                  <a:cubicBezTo>
                    <a:pt x="2528" y="129"/>
                    <a:pt x="2528" y="129"/>
                    <a:pt x="2527" y="130"/>
                  </a:cubicBezTo>
                  <a:cubicBezTo>
                    <a:pt x="2527" y="132"/>
                    <a:pt x="2526" y="134"/>
                    <a:pt x="2526" y="137"/>
                  </a:cubicBezTo>
                  <a:cubicBezTo>
                    <a:pt x="2526" y="136"/>
                    <a:pt x="2526" y="136"/>
                    <a:pt x="2526" y="136"/>
                  </a:cubicBezTo>
                  <a:cubicBezTo>
                    <a:pt x="2526" y="134"/>
                    <a:pt x="2527" y="132"/>
                    <a:pt x="2527" y="130"/>
                  </a:cubicBezTo>
                  <a:cubicBezTo>
                    <a:pt x="2528" y="129"/>
                    <a:pt x="2528" y="129"/>
                    <a:pt x="2528" y="129"/>
                  </a:cubicBezTo>
                  <a:cubicBezTo>
                    <a:pt x="2528" y="129"/>
                    <a:pt x="2528" y="129"/>
                    <a:pt x="2528" y="129"/>
                  </a:cubicBezTo>
                  <a:close/>
                  <a:moveTo>
                    <a:pt x="2564" y="130"/>
                  </a:moveTo>
                  <a:cubicBezTo>
                    <a:pt x="2564" y="132"/>
                    <a:pt x="2563" y="134"/>
                    <a:pt x="2562" y="136"/>
                  </a:cubicBezTo>
                  <a:cubicBezTo>
                    <a:pt x="2562" y="131"/>
                    <a:pt x="2562" y="126"/>
                    <a:pt x="2562" y="121"/>
                  </a:cubicBezTo>
                  <a:cubicBezTo>
                    <a:pt x="2564" y="115"/>
                    <a:pt x="2566" y="110"/>
                    <a:pt x="2567" y="104"/>
                  </a:cubicBezTo>
                  <a:cubicBezTo>
                    <a:pt x="2566" y="114"/>
                    <a:pt x="2565" y="123"/>
                    <a:pt x="2564" y="130"/>
                  </a:cubicBezTo>
                  <a:close/>
                  <a:moveTo>
                    <a:pt x="2580" y="124"/>
                  </a:moveTo>
                  <a:cubicBezTo>
                    <a:pt x="2580" y="110"/>
                    <a:pt x="2582" y="94"/>
                    <a:pt x="2583" y="83"/>
                  </a:cubicBezTo>
                  <a:cubicBezTo>
                    <a:pt x="2583" y="87"/>
                    <a:pt x="2583" y="91"/>
                    <a:pt x="2583" y="95"/>
                  </a:cubicBezTo>
                  <a:cubicBezTo>
                    <a:pt x="2583" y="105"/>
                    <a:pt x="2582" y="114"/>
                    <a:pt x="2580" y="124"/>
                  </a:cubicBezTo>
                  <a:close/>
                  <a:moveTo>
                    <a:pt x="2596" y="160"/>
                  </a:moveTo>
                  <a:cubicBezTo>
                    <a:pt x="2596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6" y="160"/>
                  </a:cubicBezTo>
                  <a:close/>
                  <a:moveTo>
                    <a:pt x="2609" y="116"/>
                  </a:moveTo>
                  <a:cubicBezTo>
                    <a:pt x="2608" y="121"/>
                    <a:pt x="2606" y="127"/>
                    <a:pt x="2604" y="132"/>
                  </a:cubicBezTo>
                  <a:cubicBezTo>
                    <a:pt x="2604" y="127"/>
                    <a:pt x="2604" y="121"/>
                    <a:pt x="2604" y="115"/>
                  </a:cubicBezTo>
                  <a:cubicBezTo>
                    <a:pt x="2605" y="110"/>
                    <a:pt x="2605" y="104"/>
                    <a:pt x="2605" y="98"/>
                  </a:cubicBezTo>
                  <a:cubicBezTo>
                    <a:pt x="2605" y="95"/>
                    <a:pt x="2605" y="92"/>
                    <a:pt x="2605" y="89"/>
                  </a:cubicBezTo>
                  <a:cubicBezTo>
                    <a:pt x="2606" y="78"/>
                    <a:pt x="2607" y="68"/>
                    <a:pt x="2608" y="60"/>
                  </a:cubicBezTo>
                  <a:cubicBezTo>
                    <a:pt x="2611" y="68"/>
                    <a:pt x="2613" y="78"/>
                    <a:pt x="2613" y="87"/>
                  </a:cubicBezTo>
                  <a:cubicBezTo>
                    <a:pt x="2612" y="95"/>
                    <a:pt x="2611" y="106"/>
                    <a:pt x="2609" y="116"/>
                  </a:cubicBezTo>
                  <a:close/>
                  <a:moveTo>
                    <a:pt x="2617" y="136"/>
                  </a:moveTo>
                  <a:cubicBezTo>
                    <a:pt x="2617" y="137"/>
                    <a:pt x="2616" y="138"/>
                    <a:pt x="2616" y="139"/>
                  </a:cubicBezTo>
                  <a:cubicBezTo>
                    <a:pt x="2616" y="137"/>
                    <a:pt x="2616" y="135"/>
                    <a:pt x="2616" y="133"/>
                  </a:cubicBezTo>
                  <a:cubicBezTo>
                    <a:pt x="2617" y="130"/>
                    <a:pt x="2617" y="128"/>
                    <a:pt x="2618" y="125"/>
                  </a:cubicBezTo>
                  <a:cubicBezTo>
                    <a:pt x="2618" y="129"/>
                    <a:pt x="2617" y="133"/>
                    <a:pt x="2617" y="136"/>
                  </a:cubicBezTo>
                  <a:close/>
                  <a:moveTo>
                    <a:pt x="2633" y="126"/>
                  </a:moveTo>
                  <a:cubicBezTo>
                    <a:pt x="2632" y="113"/>
                    <a:pt x="2632" y="96"/>
                    <a:pt x="2632" y="84"/>
                  </a:cubicBezTo>
                  <a:cubicBezTo>
                    <a:pt x="2636" y="90"/>
                    <a:pt x="2638" y="100"/>
                    <a:pt x="2638" y="104"/>
                  </a:cubicBezTo>
                  <a:cubicBezTo>
                    <a:pt x="2638" y="110"/>
                    <a:pt x="2635" y="118"/>
                    <a:pt x="2633" y="126"/>
                  </a:cubicBezTo>
                  <a:close/>
                  <a:moveTo>
                    <a:pt x="2644" y="128"/>
                  </a:moveTo>
                  <a:cubicBezTo>
                    <a:pt x="2645" y="113"/>
                    <a:pt x="2645" y="91"/>
                    <a:pt x="2645" y="76"/>
                  </a:cubicBezTo>
                  <a:cubicBezTo>
                    <a:pt x="2647" y="83"/>
                    <a:pt x="2649" y="90"/>
                    <a:pt x="2649" y="96"/>
                  </a:cubicBezTo>
                  <a:cubicBezTo>
                    <a:pt x="2649" y="107"/>
                    <a:pt x="2646" y="117"/>
                    <a:pt x="2644" y="128"/>
                  </a:cubicBezTo>
                  <a:close/>
                  <a:moveTo>
                    <a:pt x="2684" y="112"/>
                  </a:moveTo>
                  <a:cubicBezTo>
                    <a:pt x="2684" y="110"/>
                    <a:pt x="2684" y="108"/>
                    <a:pt x="2683" y="105"/>
                  </a:cubicBezTo>
                  <a:cubicBezTo>
                    <a:pt x="2684" y="108"/>
                    <a:pt x="2683" y="112"/>
                    <a:pt x="2683" y="115"/>
                  </a:cubicBezTo>
                  <a:cubicBezTo>
                    <a:pt x="2678" y="131"/>
                    <a:pt x="2674" y="144"/>
                    <a:pt x="2674" y="144"/>
                  </a:cubicBezTo>
                  <a:cubicBezTo>
                    <a:pt x="2675" y="133"/>
                    <a:pt x="2679" y="110"/>
                    <a:pt x="2684" y="86"/>
                  </a:cubicBezTo>
                  <a:cubicBezTo>
                    <a:pt x="2686" y="90"/>
                    <a:pt x="2687" y="95"/>
                    <a:pt x="2688" y="99"/>
                  </a:cubicBezTo>
                  <a:cubicBezTo>
                    <a:pt x="2686" y="103"/>
                    <a:pt x="2685" y="108"/>
                    <a:pt x="2684" y="112"/>
                  </a:cubicBezTo>
                  <a:close/>
                  <a:moveTo>
                    <a:pt x="2696" y="133"/>
                  </a:moveTo>
                  <a:cubicBezTo>
                    <a:pt x="2696" y="133"/>
                    <a:pt x="2696" y="134"/>
                    <a:pt x="2696" y="134"/>
                  </a:cubicBezTo>
                  <a:cubicBezTo>
                    <a:pt x="2696" y="134"/>
                    <a:pt x="2696" y="134"/>
                    <a:pt x="2696" y="134"/>
                  </a:cubicBezTo>
                  <a:cubicBezTo>
                    <a:pt x="2696" y="134"/>
                    <a:pt x="2696" y="133"/>
                    <a:pt x="2696" y="133"/>
                  </a:cubicBezTo>
                  <a:cubicBezTo>
                    <a:pt x="2697" y="126"/>
                    <a:pt x="2698" y="117"/>
                    <a:pt x="2699" y="107"/>
                  </a:cubicBezTo>
                  <a:cubicBezTo>
                    <a:pt x="2699" y="110"/>
                    <a:pt x="2699" y="114"/>
                    <a:pt x="2699" y="117"/>
                  </a:cubicBezTo>
                  <a:cubicBezTo>
                    <a:pt x="2698" y="123"/>
                    <a:pt x="2697" y="129"/>
                    <a:pt x="2696" y="133"/>
                  </a:cubicBezTo>
                  <a:close/>
                  <a:moveTo>
                    <a:pt x="2701" y="159"/>
                  </a:move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lose/>
                  <a:moveTo>
                    <a:pt x="2742" y="143"/>
                  </a:moveTo>
                  <a:cubicBezTo>
                    <a:pt x="2742" y="142"/>
                    <a:pt x="2742" y="142"/>
                    <a:pt x="2742" y="141"/>
                  </a:cubicBezTo>
                  <a:cubicBezTo>
                    <a:pt x="2742" y="135"/>
                    <a:pt x="2743" y="127"/>
                    <a:pt x="2743" y="117"/>
                  </a:cubicBezTo>
                  <a:cubicBezTo>
                    <a:pt x="2744" y="121"/>
                    <a:pt x="2744" y="125"/>
                    <a:pt x="2744" y="129"/>
                  </a:cubicBezTo>
                  <a:cubicBezTo>
                    <a:pt x="2743" y="135"/>
                    <a:pt x="2743" y="139"/>
                    <a:pt x="2742" y="143"/>
                  </a:cubicBezTo>
                  <a:close/>
                  <a:moveTo>
                    <a:pt x="2746" y="117"/>
                  </a:moveTo>
                  <a:cubicBezTo>
                    <a:pt x="2745" y="115"/>
                    <a:pt x="2744" y="113"/>
                    <a:pt x="2744" y="111"/>
                  </a:cubicBezTo>
                  <a:cubicBezTo>
                    <a:pt x="2744" y="108"/>
                    <a:pt x="2744" y="104"/>
                    <a:pt x="2745" y="100"/>
                  </a:cubicBezTo>
                  <a:cubicBezTo>
                    <a:pt x="2746" y="103"/>
                    <a:pt x="2746" y="106"/>
                    <a:pt x="2747" y="108"/>
                  </a:cubicBezTo>
                  <a:cubicBezTo>
                    <a:pt x="2746" y="111"/>
                    <a:pt x="2746" y="114"/>
                    <a:pt x="2746" y="117"/>
                  </a:cubicBezTo>
                  <a:close/>
                  <a:moveTo>
                    <a:pt x="2754" y="133"/>
                  </a:moveTo>
                  <a:cubicBezTo>
                    <a:pt x="2754" y="133"/>
                    <a:pt x="2754" y="133"/>
                    <a:pt x="2754" y="133"/>
                  </a:cubicBezTo>
                  <a:cubicBezTo>
                    <a:pt x="2754" y="130"/>
                    <a:pt x="2755" y="127"/>
                    <a:pt x="2755" y="124"/>
                  </a:cubicBezTo>
                  <a:cubicBezTo>
                    <a:pt x="2755" y="125"/>
                    <a:pt x="2755" y="126"/>
                    <a:pt x="2755" y="128"/>
                  </a:cubicBezTo>
                  <a:cubicBezTo>
                    <a:pt x="2755" y="130"/>
                    <a:pt x="2754" y="131"/>
                    <a:pt x="2754" y="133"/>
                  </a:cubicBezTo>
                  <a:close/>
                  <a:moveTo>
                    <a:pt x="2791" y="142"/>
                  </a:moveTo>
                  <a:cubicBezTo>
                    <a:pt x="2791" y="139"/>
                    <a:pt x="2791" y="134"/>
                    <a:pt x="2791" y="128"/>
                  </a:cubicBezTo>
                  <a:cubicBezTo>
                    <a:pt x="2791" y="130"/>
                    <a:pt x="2791" y="132"/>
                    <a:pt x="2792" y="133"/>
                  </a:cubicBezTo>
                  <a:cubicBezTo>
                    <a:pt x="2791" y="139"/>
                    <a:pt x="2791" y="142"/>
                    <a:pt x="2791" y="142"/>
                  </a:cubicBezTo>
                  <a:close/>
                  <a:moveTo>
                    <a:pt x="2812" y="135"/>
                  </a:moveTo>
                  <a:cubicBezTo>
                    <a:pt x="2812" y="134"/>
                    <a:pt x="2812" y="134"/>
                    <a:pt x="2812" y="133"/>
                  </a:cubicBezTo>
                  <a:cubicBezTo>
                    <a:pt x="2812" y="121"/>
                    <a:pt x="2812" y="103"/>
                    <a:pt x="2811" y="88"/>
                  </a:cubicBezTo>
                  <a:cubicBezTo>
                    <a:pt x="2813" y="94"/>
                    <a:pt x="2815" y="100"/>
                    <a:pt x="2816" y="106"/>
                  </a:cubicBezTo>
                  <a:cubicBezTo>
                    <a:pt x="2814" y="118"/>
                    <a:pt x="2813" y="128"/>
                    <a:pt x="2812" y="135"/>
                  </a:cubicBezTo>
                  <a:close/>
                  <a:moveTo>
                    <a:pt x="2819" y="145"/>
                  </a:moveTo>
                  <a:cubicBezTo>
                    <a:pt x="2819" y="141"/>
                    <a:pt x="2819" y="136"/>
                    <a:pt x="2819" y="129"/>
                  </a:cubicBezTo>
                  <a:cubicBezTo>
                    <a:pt x="2820" y="133"/>
                    <a:pt x="2820" y="136"/>
                    <a:pt x="2821" y="139"/>
                  </a:cubicBezTo>
                  <a:cubicBezTo>
                    <a:pt x="2820" y="143"/>
                    <a:pt x="2819" y="145"/>
                    <a:pt x="2819" y="145"/>
                  </a:cubicBezTo>
                  <a:close/>
                  <a:moveTo>
                    <a:pt x="2824" y="159"/>
                  </a:moveTo>
                  <a:cubicBezTo>
                    <a:pt x="2825" y="159"/>
                    <a:pt x="2825" y="159"/>
                    <a:pt x="2825" y="159"/>
                  </a:cubicBezTo>
                  <a:cubicBezTo>
                    <a:pt x="2825" y="159"/>
                    <a:pt x="2825" y="158"/>
                    <a:pt x="2825" y="158"/>
                  </a:cubicBezTo>
                  <a:cubicBezTo>
                    <a:pt x="2825" y="159"/>
                    <a:pt x="2826" y="160"/>
                    <a:pt x="2826" y="160"/>
                  </a:cubicBezTo>
                  <a:cubicBezTo>
                    <a:pt x="2825" y="160"/>
                    <a:pt x="2825" y="159"/>
                    <a:pt x="2824" y="159"/>
                  </a:cubicBezTo>
                  <a:close/>
                  <a:moveTo>
                    <a:pt x="2826" y="121"/>
                  </a:moveTo>
                  <a:cubicBezTo>
                    <a:pt x="2824" y="117"/>
                    <a:pt x="2823" y="114"/>
                    <a:pt x="2821" y="110"/>
                  </a:cubicBezTo>
                  <a:cubicBezTo>
                    <a:pt x="2822" y="105"/>
                    <a:pt x="2822" y="99"/>
                    <a:pt x="2823" y="94"/>
                  </a:cubicBezTo>
                  <a:cubicBezTo>
                    <a:pt x="2823" y="100"/>
                    <a:pt x="2825" y="108"/>
                    <a:pt x="2827" y="116"/>
                  </a:cubicBezTo>
                  <a:cubicBezTo>
                    <a:pt x="2826" y="118"/>
                    <a:pt x="2826" y="119"/>
                    <a:pt x="2826" y="121"/>
                  </a:cubicBezTo>
                  <a:close/>
                  <a:moveTo>
                    <a:pt x="2834" y="142"/>
                  </a:moveTo>
                  <a:cubicBezTo>
                    <a:pt x="2833" y="138"/>
                    <a:pt x="2831" y="134"/>
                    <a:pt x="2829" y="129"/>
                  </a:cubicBezTo>
                  <a:cubicBezTo>
                    <a:pt x="2829" y="129"/>
                    <a:pt x="2829" y="128"/>
                    <a:pt x="2829" y="127"/>
                  </a:cubicBezTo>
                  <a:cubicBezTo>
                    <a:pt x="2831" y="132"/>
                    <a:pt x="2832" y="137"/>
                    <a:pt x="2834" y="142"/>
                  </a:cubicBezTo>
                  <a:cubicBezTo>
                    <a:pt x="2837" y="149"/>
                    <a:pt x="2839" y="153"/>
                    <a:pt x="2839" y="155"/>
                  </a:cubicBezTo>
                  <a:cubicBezTo>
                    <a:pt x="2837" y="151"/>
                    <a:pt x="2836" y="147"/>
                    <a:pt x="2834" y="142"/>
                  </a:cubicBezTo>
                  <a:close/>
                  <a:moveTo>
                    <a:pt x="3059" y="87"/>
                  </a:moveTo>
                  <a:cubicBezTo>
                    <a:pt x="3060" y="90"/>
                    <a:pt x="3061" y="92"/>
                    <a:pt x="3061" y="95"/>
                  </a:cubicBezTo>
                  <a:cubicBezTo>
                    <a:pt x="3061" y="94"/>
                    <a:pt x="3060" y="93"/>
                    <a:pt x="3059" y="92"/>
                  </a:cubicBezTo>
                  <a:cubicBezTo>
                    <a:pt x="3059" y="90"/>
                    <a:pt x="3059" y="89"/>
                    <a:pt x="3059" y="87"/>
                  </a:cubicBezTo>
                  <a:close/>
                  <a:moveTo>
                    <a:pt x="3047" y="84"/>
                  </a:moveTo>
                  <a:cubicBezTo>
                    <a:pt x="3050" y="87"/>
                    <a:pt x="3052" y="92"/>
                    <a:pt x="3055" y="96"/>
                  </a:cubicBezTo>
                  <a:cubicBezTo>
                    <a:pt x="3055" y="97"/>
                    <a:pt x="3056" y="99"/>
                    <a:pt x="3056" y="100"/>
                  </a:cubicBezTo>
                  <a:cubicBezTo>
                    <a:pt x="3056" y="104"/>
                    <a:pt x="3055" y="108"/>
                    <a:pt x="3054" y="112"/>
                  </a:cubicBezTo>
                  <a:cubicBezTo>
                    <a:pt x="3052" y="105"/>
                    <a:pt x="3049" y="98"/>
                    <a:pt x="3046" y="91"/>
                  </a:cubicBezTo>
                  <a:cubicBezTo>
                    <a:pt x="3046" y="89"/>
                    <a:pt x="3047" y="86"/>
                    <a:pt x="3047" y="84"/>
                  </a:cubicBezTo>
                  <a:close/>
                  <a:moveTo>
                    <a:pt x="3052" y="111"/>
                  </a:moveTo>
                  <a:cubicBezTo>
                    <a:pt x="3049" y="108"/>
                    <a:pt x="3047" y="105"/>
                    <a:pt x="3045" y="102"/>
                  </a:cubicBezTo>
                  <a:cubicBezTo>
                    <a:pt x="3045" y="99"/>
                    <a:pt x="3046" y="96"/>
                    <a:pt x="3046" y="93"/>
                  </a:cubicBezTo>
                  <a:cubicBezTo>
                    <a:pt x="3048" y="98"/>
                    <a:pt x="3050" y="105"/>
                    <a:pt x="3052" y="111"/>
                  </a:cubicBezTo>
                  <a:close/>
                  <a:moveTo>
                    <a:pt x="3034" y="56"/>
                  </a:moveTo>
                  <a:cubicBezTo>
                    <a:pt x="3039" y="62"/>
                    <a:pt x="3042" y="68"/>
                    <a:pt x="3045" y="74"/>
                  </a:cubicBezTo>
                  <a:cubicBezTo>
                    <a:pt x="3042" y="69"/>
                    <a:pt x="3038" y="64"/>
                    <a:pt x="3034" y="60"/>
                  </a:cubicBezTo>
                  <a:cubicBezTo>
                    <a:pt x="3034" y="59"/>
                    <a:pt x="3034" y="57"/>
                    <a:pt x="3034" y="56"/>
                  </a:cubicBezTo>
                  <a:close/>
                  <a:moveTo>
                    <a:pt x="3033" y="64"/>
                  </a:moveTo>
                  <a:cubicBezTo>
                    <a:pt x="3037" y="69"/>
                    <a:pt x="3041" y="74"/>
                    <a:pt x="3044" y="80"/>
                  </a:cubicBezTo>
                  <a:cubicBezTo>
                    <a:pt x="3044" y="81"/>
                    <a:pt x="3043" y="83"/>
                    <a:pt x="3043" y="85"/>
                  </a:cubicBezTo>
                  <a:cubicBezTo>
                    <a:pt x="3042" y="84"/>
                    <a:pt x="3042" y="83"/>
                    <a:pt x="3042" y="83"/>
                  </a:cubicBezTo>
                  <a:cubicBezTo>
                    <a:pt x="3042" y="83"/>
                    <a:pt x="3042" y="84"/>
                    <a:pt x="3043" y="85"/>
                  </a:cubicBezTo>
                  <a:cubicBezTo>
                    <a:pt x="3042" y="88"/>
                    <a:pt x="3041" y="91"/>
                    <a:pt x="3040" y="94"/>
                  </a:cubicBezTo>
                  <a:cubicBezTo>
                    <a:pt x="3037" y="89"/>
                    <a:pt x="3034" y="85"/>
                    <a:pt x="3031" y="80"/>
                  </a:cubicBezTo>
                  <a:cubicBezTo>
                    <a:pt x="3032" y="75"/>
                    <a:pt x="3033" y="69"/>
                    <a:pt x="3033" y="64"/>
                  </a:cubicBezTo>
                  <a:close/>
                  <a:moveTo>
                    <a:pt x="3024" y="139"/>
                  </a:moveTo>
                  <a:cubicBezTo>
                    <a:pt x="3024" y="120"/>
                    <a:pt x="3027" y="101"/>
                    <a:pt x="3030" y="83"/>
                  </a:cubicBezTo>
                  <a:cubicBezTo>
                    <a:pt x="3033" y="87"/>
                    <a:pt x="3036" y="91"/>
                    <a:pt x="3039" y="95"/>
                  </a:cubicBezTo>
                  <a:cubicBezTo>
                    <a:pt x="3033" y="114"/>
                    <a:pt x="3027" y="133"/>
                    <a:pt x="3025" y="152"/>
                  </a:cubicBezTo>
                  <a:cubicBezTo>
                    <a:pt x="3024" y="148"/>
                    <a:pt x="3024" y="143"/>
                    <a:pt x="3024" y="139"/>
                  </a:cubicBezTo>
                  <a:close/>
                  <a:moveTo>
                    <a:pt x="3043" y="143"/>
                  </a:moveTo>
                  <a:cubicBezTo>
                    <a:pt x="3043" y="142"/>
                    <a:pt x="3042" y="141"/>
                    <a:pt x="3041" y="140"/>
                  </a:cubicBezTo>
                  <a:cubicBezTo>
                    <a:pt x="3042" y="141"/>
                    <a:pt x="3042" y="143"/>
                    <a:pt x="3043" y="144"/>
                  </a:cubicBezTo>
                  <a:cubicBezTo>
                    <a:pt x="3041" y="146"/>
                    <a:pt x="3040" y="149"/>
                    <a:pt x="3038" y="152"/>
                  </a:cubicBezTo>
                  <a:cubicBezTo>
                    <a:pt x="3039" y="146"/>
                    <a:pt x="3040" y="140"/>
                    <a:pt x="3041" y="135"/>
                  </a:cubicBezTo>
                  <a:cubicBezTo>
                    <a:pt x="3042" y="137"/>
                    <a:pt x="3043" y="139"/>
                    <a:pt x="3044" y="142"/>
                  </a:cubicBezTo>
                  <a:cubicBezTo>
                    <a:pt x="3044" y="142"/>
                    <a:pt x="3043" y="142"/>
                    <a:pt x="3043" y="143"/>
                  </a:cubicBezTo>
                  <a:close/>
                  <a:moveTo>
                    <a:pt x="3042" y="126"/>
                  </a:moveTo>
                  <a:cubicBezTo>
                    <a:pt x="3043" y="118"/>
                    <a:pt x="3044" y="110"/>
                    <a:pt x="3045" y="102"/>
                  </a:cubicBezTo>
                  <a:cubicBezTo>
                    <a:pt x="3048" y="107"/>
                    <a:pt x="3051" y="112"/>
                    <a:pt x="3053" y="116"/>
                  </a:cubicBezTo>
                  <a:cubicBezTo>
                    <a:pt x="3052" y="122"/>
                    <a:pt x="3050" y="127"/>
                    <a:pt x="3048" y="133"/>
                  </a:cubicBezTo>
                  <a:cubicBezTo>
                    <a:pt x="3045" y="130"/>
                    <a:pt x="3043" y="128"/>
                    <a:pt x="3042" y="126"/>
                  </a:cubicBezTo>
                  <a:close/>
                  <a:moveTo>
                    <a:pt x="3054" y="140"/>
                  </a:moveTo>
                  <a:cubicBezTo>
                    <a:pt x="3053" y="140"/>
                    <a:pt x="3053" y="140"/>
                    <a:pt x="3053" y="140"/>
                  </a:cubicBezTo>
                  <a:cubicBezTo>
                    <a:pt x="3054" y="135"/>
                    <a:pt x="3055" y="130"/>
                    <a:pt x="3056" y="125"/>
                  </a:cubicBezTo>
                  <a:cubicBezTo>
                    <a:pt x="3056" y="127"/>
                    <a:pt x="3057" y="128"/>
                    <a:pt x="3057" y="130"/>
                  </a:cubicBezTo>
                  <a:cubicBezTo>
                    <a:pt x="3056" y="133"/>
                    <a:pt x="3055" y="137"/>
                    <a:pt x="3054" y="140"/>
                  </a:cubicBezTo>
                  <a:close/>
                  <a:moveTo>
                    <a:pt x="3060" y="122"/>
                  </a:moveTo>
                  <a:cubicBezTo>
                    <a:pt x="3059" y="120"/>
                    <a:pt x="3058" y="119"/>
                    <a:pt x="3057" y="117"/>
                  </a:cubicBezTo>
                  <a:cubicBezTo>
                    <a:pt x="3057" y="114"/>
                    <a:pt x="3058" y="110"/>
                    <a:pt x="3058" y="106"/>
                  </a:cubicBezTo>
                  <a:cubicBezTo>
                    <a:pt x="3059" y="111"/>
                    <a:pt x="3060" y="115"/>
                    <a:pt x="3061" y="120"/>
                  </a:cubicBezTo>
                  <a:cubicBezTo>
                    <a:pt x="3061" y="120"/>
                    <a:pt x="3061" y="121"/>
                    <a:pt x="3060" y="122"/>
                  </a:cubicBezTo>
                  <a:close/>
                  <a:moveTo>
                    <a:pt x="3062" y="151"/>
                  </a:moveTo>
                  <a:cubicBezTo>
                    <a:pt x="3061" y="151"/>
                    <a:pt x="3061" y="151"/>
                    <a:pt x="3061" y="151"/>
                  </a:cubicBezTo>
                  <a:cubicBezTo>
                    <a:pt x="3062" y="150"/>
                    <a:pt x="3062" y="150"/>
                    <a:pt x="3062" y="149"/>
                  </a:cubicBezTo>
                  <a:cubicBezTo>
                    <a:pt x="3062" y="149"/>
                    <a:pt x="3062" y="149"/>
                    <a:pt x="3062" y="149"/>
                  </a:cubicBezTo>
                  <a:cubicBezTo>
                    <a:pt x="3062" y="150"/>
                    <a:pt x="3062" y="150"/>
                    <a:pt x="3062" y="151"/>
                  </a:cubicBezTo>
                  <a:close/>
                  <a:moveTo>
                    <a:pt x="3062" y="117"/>
                  </a:moveTo>
                  <a:cubicBezTo>
                    <a:pt x="3061" y="112"/>
                    <a:pt x="3060" y="107"/>
                    <a:pt x="3058" y="102"/>
                  </a:cubicBezTo>
                  <a:cubicBezTo>
                    <a:pt x="3058" y="102"/>
                    <a:pt x="3059" y="101"/>
                    <a:pt x="3059" y="101"/>
                  </a:cubicBezTo>
                  <a:cubicBezTo>
                    <a:pt x="3061" y="105"/>
                    <a:pt x="3063" y="108"/>
                    <a:pt x="3065" y="112"/>
                  </a:cubicBezTo>
                  <a:cubicBezTo>
                    <a:pt x="3064" y="113"/>
                    <a:pt x="3063" y="115"/>
                    <a:pt x="3063" y="116"/>
                  </a:cubicBezTo>
                  <a:cubicBezTo>
                    <a:pt x="3062" y="117"/>
                    <a:pt x="3062" y="117"/>
                    <a:pt x="3062" y="117"/>
                  </a:cubicBezTo>
                  <a:close/>
                  <a:moveTo>
                    <a:pt x="3065" y="143"/>
                  </a:moveTo>
                  <a:cubicBezTo>
                    <a:pt x="3064" y="142"/>
                    <a:pt x="3064" y="142"/>
                    <a:pt x="3064" y="142"/>
                  </a:cubicBezTo>
                  <a:cubicBezTo>
                    <a:pt x="3064" y="141"/>
                    <a:pt x="3065" y="141"/>
                    <a:pt x="3065" y="140"/>
                  </a:cubicBezTo>
                  <a:cubicBezTo>
                    <a:pt x="3065" y="140"/>
                    <a:pt x="3065" y="141"/>
                    <a:pt x="3065" y="141"/>
                  </a:cubicBezTo>
                  <a:cubicBezTo>
                    <a:pt x="3065" y="142"/>
                    <a:pt x="3065" y="142"/>
                    <a:pt x="3065" y="143"/>
                  </a:cubicBezTo>
                  <a:close/>
                  <a:moveTo>
                    <a:pt x="3068" y="131"/>
                  </a:move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lose/>
                  <a:moveTo>
                    <a:pt x="3070" y="151"/>
                  </a:moveTo>
                  <a:cubicBezTo>
                    <a:pt x="3070" y="151"/>
                    <a:pt x="3070" y="151"/>
                    <a:pt x="3070" y="151"/>
                  </a:cubicBezTo>
                  <a:cubicBezTo>
                    <a:pt x="3070" y="151"/>
                    <a:pt x="3070" y="151"/>
                    <a:pt x="3070" y="152"/>
                  </a:cubicBezTo>
                  <a:cubicBezTo>
                    <a:pt x="3070" y="152"/>
                    <a:pt x="3070" y="151"/>
                    <a:pt x="3070" y="151"/>
                  </a:cubicBezTo>
                  <a:close/>
                  <a:moveTo>
                    <a:pt x="3072" y="126"/>
                  </a:moveTo>
                  <a:cubicBezTo>
                    <a:pt x="3072" y="128"/>
                    <a:pt x="3071" y="129"/>
                    <a:pt x="3070" y="131"/>
                  </a:cubicBezTo>
                  <a:cubicBezTo>
                    <a:pt x="3070" y="129"/>
                    <a:pt x="3070" y="127"/>
                    <a:pt x="3070" y="125"/>
                  </a:cubicBezTo>
                  <a:cubicBezTo>
                    <a:pt x="3070" y="124"/>
                    <a:pt x="3070" y="123"/>
                    <a:pt x="3071" y="122"/>
                  </a:cubicBezTo>
                  <a:cubicBezTo>
                    <a:pt x="3071" y="123"/>
                    <a:pt x="3072" y="124"/>
                    <a:pt x="3072" y="125"/>
                  </a:cubicBezTo>
                  <a:lnTo>
                    <a:pt x="3072" y="126"/>
                  </a:lnTo>
                  <a:close/>
                  <a:moveTo>
                    <a:pt x="3080" y="91"/>
                  </a:moveTo>
                  <a:cubicBezTo>
                    <a:pt x="3080" y="92"/>
                    <a:pt x="3080" y="94"/>
                    <a:pt x="3080" y="96"/>
                  </a:cubicBezTo>
                  <a:cubicBezTo>
                    <a:pt x="3080" y="95"/>
                    <a:pt x="3080" y="94"/>
                    <a:pt x="3079" y="93"/>
                  </a:cubicBezTo>
                  <a:cubicBezTo>
                    <a:pt x="3079" y="92"/>
                    <a:pt x="3079" y="91"/>
                    <a:pt x="3080" y="91"/>
                  </a:cubicBezTo>
                  <a:close/>
                  <a:moveTo>
                    <a:pt x="3078" y="117"/>
                  </a:moveTo>
                  <a:cubicBezTo>
                    <a:pt x="3077" y="113"/>
                    <a:pt x="3076" y="109"/>
                    <a:pt x="3076" y="106"/>
                  </a:cubicBezTo>
                  <a:cubicBezTo>
                    <a:pt x="3076" y="105"/>
                    <a:pt x="3076" y="105"/>
                    <a:pt x="3076" y="104"/>
                  </a:cubicBezTo>
                  <a:cubicBezTo>
                    <a:pt x="3077" y="107"/>
                    <a:pt x="3078" y="111"/>
                    <a:pt x="3079" y="114"/>
                  </a:cubicBezTo>
                  <a:cubicBezTo>
                    <a:pt x="3079" y="115"/>
                    <a:pt x="3078" y="116"/>
                    <a:pt x="3078" y="117"/>
                  </a:cubicBezTo>
                  <a:close/>
                  <a:moveTo>
                    <a:pt x="3081" y="127"/>
                  </a:moveTo>
                  <a:cubicBezTo>
                    <a:pt x="3080" y="127"/>
                    <a:pt x="3080" y="126"/>
                    <a:pt x="3080" y="126"/>
                  </a:cubicBezTo>
                  <a:cubicBezTo>
                    <a:pt x="3080" y="125"/>
                    <a:pt x="3080" y="125"/>
                    <a:pt x="3081" y="124"/>
                  </a:cubicBezTo>
                  <a:cubicBezTo>
                    <a:pt x="3081" y="125"/>
                    <a:pt x="3081" y="126"/>
                    <a:pt x="3081" y="127"/>
                  </a:cubicBezTo>
                  <a:close/>
                  <a:moveTo>
                    <a:pt x="3087" y="141"/>
                  </a:moveTo>
                  <a:cubicBezTo>
                    <a:pt x="3087" y="140"/>
                    <a:pt x="3087" y="140"/>
                    <a:pt x="3087" y="140"/>
                  </a:cubicBezTo>
                  <a:cubicBezTo>
                    <a:pt x="3087" y="140"/>
                    <a:pt x="3087" y="140"/>
                    <a:pt x="3087" y="140"/>
                  </a:cubicBezTo>
                  <a:cubicBezTo>
                    <a:pt x="3087" y="139"/>
                    <a:pt x="3087" y="139"/>
                    <a:pt x="3087" y="139"/>
                  </a:cubicBezTo>
                  <a:cubicBezTo>
                    <a:pt x="3087" y="139"/>
                    <a:pt x="3087" y="140"/>
                    <a:pt x="3087" y="141"/>
                  </a:cubicBezTo>
                  <a:close/>
                  <a:moveTo>
                    <a:pt x="3119" y="64"/>
                  </a:moveTo>
                  <a:cubicBezTo>
                    <a:pt x="3120" y="69"/>
                    <a:pt x="3121" y="75"/>
                    <a:pt x="3122" y="80"/>
                  </a:cubicBezTo>
                  <a:cubicBezTo>
                    <a:pt x="3120" y="82"/>
                    <a:pt x="3119" y="85"/>
                    <a:pt x="3117" y="87"/>
                  </a:cubicBezTo>
                  <a:cubicBezTo>
                    <a:pt x="3117" y="86"/>
                    <a:pt x="3116" y="84"/>
                    <a:pt x="3115" y="83"/>
                  </a:cubicBezTo>
                  <a:cubicBezTo>
                    <a:pt x="3116" y="84"/>
                    <a:pt x="3117" y="86"/>
                    <a:pt x="3117" y="87"/>
                  </a:cubicBezTo>
                  <a:cubicBezTo>
                    <a:pt x="3116" y="90"/>
                    <a:pt x="3114" y="92"/>
                    <a:pt x="3113" y="94"/>
                  </a:cubicBezTo>
                  <a:cubicBezTo>
                    <a:pt x="3111" y="89"/>
                    <a:pt x="3110" y="85"/>
                    <a:pt x="3108" y="80"/>
                  </a:cubicBezTo>
                  <a:cubicBezTo>
                    <a:pt x="3112" y="74"/>
                    <a:pt x="3116" y="69"/>
                    <a:pt x="3119" y="64"/>
                  </a:cubicBezTo>
                  <a:close/>
                  <a:moveTo>
                    <a:pt x="3097" y="72"/>
                  </a:moveTo>
                  <a:cubicBezTo>
                    <a:pt x="3099" y="75"/>
                    <a:pt x="3100" y="77"/>
                    <a:pt x="3102" y="80"/>
                  </a:cubicBezTo>
                  <a:cubicBezTo>
                    <a:pt x="3100" y="82"/>
                    <a:pt x="3099" y="84"/>
                    <a:pt x="3097" y="86"/>
                  </a:cubicBezTo>
                  <a:cubicBezTo>
                    <a:pt x="3097" y="85"/>
                    <a:pt x="3096" y="83"/>
                    <a:pt x="3096" y="82"/>
                  </a:cubicBezTo>
                  <a:cubicBezTo>
                    <a:pt x="3096" y="78"/>
                    <a:pt x="3096" y="74"/>
                    <a:pt x="3097" y="72"/>
                  </a:cubicBezTo>
                  <a:close/>
                  <a:moveTo>
                    <a:pt x="3090" y="108"/>
                  </a:moveTo>
                  <a:cubicBezTo>
                    <a:pt x="3091" y="106"/>
                    <a:pt x="3093" y="104"/>
                    <a:pt x="3094" y="101"/>
                  </a:cubicBezTo>
                  <a:cubicBezTo>
                    <a:pt x="3094" y="106"/>
                    <a:pt x="3095" y="112"/>
                    <a:pt x="3096" y="117"/>
                  </a:cubicBezTo>
                  <a:cubicBezTo>
                    <a:pt x="3095" y="119"/>
                    <a:pt x="3093" y="120"/>
                    <a:pt x="3092" y="122"/>
                  </a:cubicBezTo>
                  <a:cubicBezTo>
                    <a:pt x="3092" y="117"/>
                    <a:pt x="3091" y="113"/>
                    <a:pt x="3090" y="108"/>
                  </a:cubicBezTo>
                  <a:close/>
                  <a:moveTo>
                    <a:pt x="3097" y="134"/>
                  </a:moveTo>
                  <a:cubicBezTo>
                    <a:pt x="3096" y="131"/>
                    <a:pt x="3095" y="128"/>
                    <a:pt x="3094" y="126"/>
                  </a:cubicBezTo>
                  <a:cubicBezTo>
                    <a:pt x="3095" y="124"/>
                    <a:pt x="3095" y="123"/>
                    <a:pt x="3096" y="122"/>
                  </a:cubicBezTo>
                  <a:cubicBezTo>
                    <a:pt x="3097" y="123"/>
                    <a:pt x="3097" y="125"/>
                    <a:pt x="3097" y="127"/>
                  </a:cubicBezTo>
                  <a:cubicBezTo>
                    <a:pt x="3097" y="129"/>
                    <a:pt x="3097" y="131"/>
                    <a:pt x="3097" y="134"/>
                  </a:cubicBezTo>
                  <a:close/>
                  <a:moveTo>
                    <a:pt x="3096" y="98"/>
                  </a:moveTo>
                  <a:cubicBezTo>
                    <a:pt x="3096" y="98"/>
                    <a:pt x="3096" y="97"/>
                    <a:pt x="3097" y="97"/>
                  </a:cubicBezTo>
                  <a:cubicBezTo>
                    <a:pt x="3097" y="101"/>
                    <a:pt x="3097" y="105"/>
                    <a:pt x="3097" y="108"/>
                  </a:cubicBezTo>
                  <a:cubicBezTo>
                    <a:pt x="3097" y="105"/>
                    <a:pt x="3096" y="101"/>
                    <a:pt x="3096" y="98"/>
                  </a:cubicBezTo>
                  <a:close/>
                  <a:moveTo>
                    <a:pt x="3100" y="92"/>
                  </a:moveTo>
                  <a:cubicBezTo>
                    <a:pt x="3101" y="90"/>
                    <a:pt x="3103" y="88"/>
                    <a:pt x="3104" y="86"/>
                  </a:cubicBezTo>
                  <a:cubicBezTo>
                    <a:pt x="3105" y="88"/>
                    <a:pt x="3106" y="91"/>
                    <a:pt x="3107" y="93"/>
                  </a:cubicBezTo>
                  <a:cubicBezTo>
                    <a:pt x="3107" y="96"/>
                    <a:pt x="3107" y="99"/>
                    <a:pt x="3108" y="102"/>
                  </a:cubicBezTo>
                  <a:cubicBezTo>
                    <a:pt x="3107" y="104"/>
                    <a:pt x="3106" y="105"/>
                    <a:pt x="3104" y="106"/>
                  </a:cubicBezTo>
                  <a:cubicBezTo>
                    <a:pt x="3103" y="102"/>
                    <a:pt x="3102" y="97"/>
                    <a:pt x="3100" y="92"/>
                  </a:cubicBezTo>
                  <a:close/>
                  <a:moveTo>
                    <a:pt x="3105" y="107"/>
                  </a:moveTo>
                  <a:cubicBezTo>
                    <a:pt x="3106" y="106"/>
                    <a:pt x="3107" y="104"/>
                    <a:pt x="3108" y="102"/>
                  </a:cubicBezTo>
                  <a:cubicBezTo>
                    <a:pt x="3110" y="118"/>
                    <a:pt x="3112" y="133"/>
                    <a:pt x="3114" y="149"/>
                  </a:cubicBezTo>
                  <a:cubicBezTo>
                    <a:pt x="3111" y="137"/>
                    <a:pt x="3108" y="122"/>
                    <a:pt x="3105" y="107"/>
                  </a:cubicBezTo>
                  <a:close/>
                  <a:moveTo>
                    <a:pt x="3113" y="95"/>
                  </a:moveTo>
                  <a:cubicBezTo>
                    <a:pt x="3115" y="93"/>
                    <a:pt x="3116" y="91"/>
                    <a:pt x="3118" y="89"/>
                  </a:cubicBezTo>
                  <a:cubicBezTo>
                    <a:pt x="3124" y="103"/>
                    <a:pt x="3125" y="120"/>
                    <a:pt x="3125" y="136"/>
                  </a:cubicBezTo>
                  <a:cubicBezTo>
                    <a:pt x="3122" y="122"/>
                    <a:pt x="3118" y="109"/>
                    <a:pt x="3113" y="95"/>
                  </a:cubicBezTo>
                  <a:close/>
                  <a:moveTo>
                    <a:pt x="3118" y="88"/>
                  </a:moveTo>
                  <a:cubicBezTo>
                    <a:pt x="3120" y="86"/>
                    <a:pt x="3121" y="85"/>
                    <a:pt x="3122" y="83"/>
                  </a:cubicBezTo>
                  <a:cubicBezTo>
                    <a:pt x="3123" y="90"/>
                    <a:pt x="3125" y="98"/>
                    <a:pt x="3126" y="105"/>
                  </a:cubicBezTo>
                  <a:cubicBezTo>
                    <a:pt x="3123" y="99"/>
                    <a:pt x="3121" y="93"/>
                    <a:pt x="3118" y="88"/>
                  </a:cubicBezTo>
                  <a:close/>
                  <a:moveTo>
                    <a:pt x="3131" y="92"/>
                  </a:moveTo>
                  <a:cubicBezTo>
                    <a:pt x="3129" y="86"/>
                    <a:pt x="3128" y="80"/>
                    <a:pt x="3127" y="74"/>
                  </a:cubicBezTo>
                  <a:cubicBezTo>
                    <a:pt x="3129" y="71"/>
                    <a:pt x="3131" y="68"/>
                    <a:pt x="3132" y="65"/>
                  </a:cubicBezTo>
                  <a:cubicBezTo>
                    <a:pt x="3134" y="69"/>
                    <a:pt x="3137" y="72"/>
                    <a:pt x="3139" y="75"/>
                  </a:cubicBezTo>
                  <a:cubicBezTo>
                    <a:pt x="3139" y="77"/>
                    <a:pt x="3139" y="79"/>
                    <a:pt x="3139" y="81"/>
                  </a:cubicBezTo>
                  <a:cubicBezTo>
                    <a:pt x="3138" y="80"/>
                    <a:pt x="3138" y="80"/>
                    <a:pt x="3137" y="79"/>
                  </a:cubicBezTo>
                  <a:cubicBezTo>
                    <a:pt x="3138" y="80"/>
                    <a:pt x="3138" y="81"/>
                    <a:pt x="3139" y="81"/>
                  </a:cubicBezTo>
                  <a:cubicBezTo>
                    <a:pt x="3138" y="86"/>
                    <a:pt x="3138" y="90"/>
                    <a:pt x="3138" y="91"/>
                  </a:cubicBezTo>
                  <a:cubicBezTo>
                    <a:pt x="3138" y="95"/>
                    <a:pt x="3138" y="100"/>
                    <a:pt x="3139" y="104"/>
                  </a:cubicBezTo>
                  <a:cubicBezTo>
                    <a:pt x="3138" y="101"/>
                    <a:pt x="3138" y="99"/>
                    <a:pt x="3137" y="96"/>
                  </a:cubicBezTo>
                  <a:cubicBezTo>
                    <a:pt x="3138" y="100"/>
                    <a:pt x="3138" y="104"/>
                    <a:pt x="3139" y="108"/>
                  </a:cubicBezTo>
                  <a:cubicBezTo>
                    <a:pt x="3139" y="120"/>
                    <a:pt x="3140" y="132"/>
                    <a:pt x="3140" y="143"/>
                  </a:cubicBezTo>
                  <a:cubicBezTo>
                    <a:pt x="3138" y="126"/>
                    <a:pt x="3135" y="109"/>
                    <a:pt x="3131" y="92"/>
                  </a:cubicBezTo>
                  <a:close/>
                  <a:moveTo>
                    <a:pt x="3154" y="125"/>
                  </a:moveTo>
                  <a:cubicBezTo>
                    <a:pt x="3151" y="116"/>
                    <a:pt x="3149" y="108"/>
                    <a:pt x="3146" y="99"/>
                  </a:cubicBezTo>
                  <a:cubicBezTo>
                    <a:pt x="3144" y="93"/>
                    <a:pt x="3143" y="87"/>
                    <a:pt x="3143" y="82"/>
                  </a:cubicBezTo>
                  <a:cubicBezTo>
                    <a:pt x="3148" y="91"/>
                    <a:pt x="3151" y="100"/>
                    <a:pt x="3154" y="109"/>
                  </a:cubicBezTo>
                  <a:cubicBezTo>
                    <a:pt x="3154" y="114"/>
                    <a:pt x="3154" y="120"/>
                    <a:pt x="3154" y="125"/>
                  </a:cubicBezTo>
                  <a:close/>
                  <a:moveTo>
                    <a:pt x="3154" y="97"/>
                  </a:moveTo>
                  <a:cubicBezTo>
                    <a:pt x="3151" y="90"/>
                    <a:pt x="3147" y="83"/>
                    <a:pt x="3142" y="77"/>
                  </a:cubicBezTo>
                  <a:cubicBezTo>
                    <a:pt x="3142" y="72"/>
                    <a:pt x="3141" y="67"/>
                    <a:pt x="3142" y="63"/>
                  </a:cubicBezTo>
                  <a:cubicBezTo>
                    <a:pt x="3147" y="70"/>
                    <a:pt x="3151" y="77"/>
                    <a:pt x="3155" y="85"/>
                  </a:cubicBezTo>
                  <a:cubicBezTo>
                    <a:pt x="3155" y="89"/>
                    <a:pt x="3155" y="93"/>
                    <a:pt x="3154" y="97"/>
                  </a:cubicBezTo>
                  <a:close/>
                  <a:moveTo>
                    <a:pt x="3164" y="119"/>
                  </a:moveTo>
                  <a:cubicBezTo>
                    <a:pt x="3163" y="110"/>
                    <a:pt x="3161" y="102"/>
                    <a:pt x="3159" y="93"/>
                  </a:cubicBezTo>
                  <a:cubicBezTo>
                    <a:pt x="3161" y="98"/>
                    <a:pt x="3164" y="104"/>
                    <a:pt x="3165" y="109"/>
                  </a:cubicBezTo>
                  <a:cubicBezTo>
                    <a:pt x="3166" y="112"/>
                    <a:pt x="3166" y="114"/>
                    <a:pt x="3167" y="116"/>
                  </a:cubicBezTo>
                  <a:cubicBezTo>
                    <a:pt x="3167" y="120"/>
                    <a:pt x="3167" y="124"/>
                    <a:pt x="3167" y="127"/>
                  </a:cubicBezTo>
                  <a:cubicBezTo>
                    <a:pt x="3166" y="125"/>
                    <a:pt x="3165" y="122"/>
                    <a:pt x="3164" y="119"/>
                  </a:cubicBezTo>
                  <a:close/>
                  <a:moveTo>
                    <a:pt x="3175" y="151"/>
                  </a:moveTo>
                  <a:cubicBezTo>
                    <a:pt x="3175" y="151"/>
                    <a:pt x="3175" y="151"/>
                    <a:pt x="3175" y="151"/>
                  </a:cubicBezTo>
                  <a:cubicBezTo>
                    <a:pt x="3175" y="151"/>
                    <a:pt x="3175" y="150"/>
                    <a:pt x="3175" y="150"/>
                  </a:cubicBezTo>
                  <a:cubicBezTo>
                    <a:pt x="3175" y="150"/>
                    <a:pt x="3175" y="150"/>
                    <a:pt x="3175" y="150"/>
                  </a:cubicBezTo>
                  <a:cubicBezTo>
                    <a:pt x="3175" y="151"/>
                    <a:pt x="3175" y="151"/>
                    <a:pt x="3175" y="151"/>
                  </a:cubicBezTo>
                  <a:close/>
                  <a:moveTo>
                    <a:pt x="3181" y="114"/>
                  </a:moveTo>
                  <a:cubicBezTo>
                    <a:pt x="3179" y="105"/>
                    <a:pt x="3176" y="96"/>
                    <a:pt x="3172" y="88"/>
                  </a:cubicBezTo>
                  <a:cubicBezTo>
                    <a:pt x="3176" y="97"/>
                    <a:pt x="3178" y="110"/>
                    <a:pt x="3180" y="122"/>
                  </a:cubicBezTo>
                  <a:cubicBezTo>
                    <a:pt x="3179" y="127"/>
                    <a:pt x="3178" y="132"/>
                    <a:pt x="3177" y="136"/>
                  </a:cubicBezTo>
                  <a:cubicBezTo>
                    <a:pt x="3176" y="134"/>
                    <a:pt x="3176" y="133"/>
                    <a:pt x="3175" y="131"/>
                  </a:cubicBezTo>
                  <a:cubicBezTo>
                    <a:pt x="3175" y="117"/>
                    <a:pt x="3174" y="102"/>
                    <a:pt x="3172" y="87"/>
                  </a:cubicBezTo>
                  <a:cubicBezTo>
                    <a:pt x="3172" y="87"/>
                    <a:pt x="3172" y="88"/>
                    <a:pt x="3172" y="88"/>
                  </a:cubicBezTo>
                  <a:cubicBezTo>
                    <a:pt x="3172" y="88"/>
                    <a:pt x="3172" y="87"/>
                    <a:pt x="3172" y="87"/>
                  </a:cubicBezTo>
                  <a:cubicBezTo>
                    <a:pt x="3171" y="82"/>
                    <a:pt x="3171" y="78"/>
                    <a:pt x="3170" y="73"/>
                  </a:cubicBezTo>
                  <a:cubicBezTo>
                    <a:pt x="3177" y="81"/>
                    <a:pt x="3181" y="91"/>
                    <a:pt x="3184" y="101"/>
                  </a:cubicBezTo>
                  <a:cubicBezTo>
                    <a:pt x="3183" y="105"/>
                    <a:pt x="3182" y="109"/>
                    <a:pt x="3181" y="114"/>
                  </a:cubicBezTo>
                  <a:close/>
                  <a:moveTo>
                    <a:pt x="3188" y="139"/>
                  </a:moveTo>
                  <a:cubicBezTo>
                    <a:pt x="3187" y="137"/>
                    <a:pt x="3187" y="136"/>
                    <a:pt x="3187" y="135"/>
                  </a:cubicBezTo>
                  <a:cubicBezTo>
                    <a:pt x="3187" y="124"/>
                    <a:pt x="3183" y="112"/>
                    <a:pt x="3184" y="101"/>
                  </a:cubicBezTo>
                  <a:cubicBezTo>
                    <a:pt x="3187" y="110"/>
                    <a:pt x="3189" y="119"/>
                    <a:pt x="3190" y="128"/>
                  </a:cubicBezTo>
                  <a:cubicBezTo>
                    <a:pt x="3189" y="132"/>
                    <a:pt x="3188" y="135"/>
                    <a:pt x="3188" y="139"/>
                  </a:cubicBezTo>
                  <a:close/>
                  <a:moveTo>
                    <a:pt x="3203" y="136"/>
                  </a:moveTo>
                  <a:cubicBezTo>
                    <a:pt x="3203" y="135"/>
                    <a:pt x="3202" y="134"/>
                    <a:pt x="3202" y="133"/>
                  </a:cubicBezTo>
                  <a:cubicBezTo>
                    <a:pt x="3201" y="131"/>
                    <a:pt x="3201" y="129"/>
                    <a:pt x="3200" y="128"/>
                  </a:cubicBezTo>
                  <a:cubicBezTo>
                    <a:pt x="3200" y="127"/>
                    <a:pt x="3200" y="127"/>
                    <a:pt x="3200" y="127"/>
                  </a:cubicBezTo>
                  <a:cubicBezTo>
                    <a:pt x="3201" y="129"/>
                    <a:pt x="3201" y="131"/>
                    <a:pt x="3202" y="133"/>
                  </a:cubicBezTo>
                  <a:cubicBezTo>
                    <a:pt x="3202" y="134"/>
                    <a:pt x="3203" y="135"/>
                    <a:pt x="3203" y="136"/>
                  </a:cubicBezTo>
                  <a:cubicBezTo>
                    <a:pt x="3203" y="136"/>
                    <a:pt x="3203" y="136"/>
                    <a:pt x="3203" y="136"/>
                  </a:cubicBezTo>
                  <a:close/>
                  <a:moveTo>
                    <a:pt x="3204" y="133"/>
                  </a:moveTo>
                  <a:cubicBezTo>
                    <a:pt x="3203" y="129"/>
                    <a:pt x="3202" y="125"/>
                    <a:pt x="3200" y="120"/>
                  </a:cubicBezTo>
                  <a:cubicBezTo>
                    <a:pt x="3200" y="119"/>
                    <a:pt x="3200" y="117"/>
                    <a:pt x="3200" y="115"/>
                  </a:cubicBezTo>
                  <a:cubicBezTo>
                    <a:pt x="3200" y="112"/>
                    <a:pt x="3200" y="109"/>
                    <a:pt x="3201" y="105"/>
                  </a:cubicBezTo>
                  <a:cubicBezTo>
                    <a:pt x="3203" y="112"/>
                    <a:pt x="3204" y="119"/>
                    <a:pt x="3206" y="126"/>
                  </a:cubicBezTo>
                  <a:cubicBezTo>
                    <a:pt x="3205" y="128"/>
                    <a:pt x="3205" y="130"/>
                    <a:pt x="3204" y="133"/>
                  </a:cubicBezTo>
                  <a:close/>
                  <a:moveTo>
                    <a:pt x="3218" y="139"/>
                  </a:moveTo>
                  <a:cubicBezTo>
                    <a:pt x="3218" y="139"/>
                    <a:pt x="3218" y="139"/>
                    <a:pt x="3218" y="139"/>
                  </a:cubicBezTo>
                  <a:cubicBezTo>
                    <a:pt x="3218" y="137"/>
                    <a:pt x="3218" y="135"/>
                    <a:pt x="3218" y="133"/>
                  </a:cubicBezTo>
                  <a:cubicBezTo>
                    <a:pt x="3218" y="134"/>
                    <a:pt x="3218" y="134"/>
                    <a:pt x="3218" y="135"/>
                  </a:cubicBezTo>
                  <a:cubicBezTo>
                    <a:pt x="3218" y="136"/>
                    <a:pt x="3218" y="138"/>
                    <a:pt x="3218" y="139"/>
                  </a:cubicBezTo>
                  <a:close/>
                  <a:moveTo>
                    <a:pt x="3239" y="150"/>
                  </a:moveTo>
                  <a:cubicBezTo>
                    <a:pt x="3238" y="148"/>
                    <a:pt x="3237" y="147"/>
                    <a:pt x="3237" y="146"/>
                  </a:cubicBezTo>
                  <a:cubicBezTo>
                    <a:pt x="3236" y="131"/>
                    <a:pt x="3232" y="116"/>
                    <a:pt x="3230" y="101"/>
                  </a:cubicBezTo>
                  <a:cubicBezTo>
                    <a:pt x="3235" y="115"/>
                    <a:pt x="3237" y="132"/>
                    <a:pt x="3239" y="146"/>
                  </a:cubicBezTo>
                  <a:cubicBezTo>
                    <a:pt x="3239" y="147"/>
                    <a:pt x="3239" y="148"/>
                    <a:pt x="3239" y="150"/>
                  </a:cubicBezTo>
                  <a:close/>
                  <a:moveTo>
                    <a:pt x="3243" y="143"/>
                  </a:moveTo>
                  <a:cubicBezTo>
                    <a:pt x="3243" y="142"/>
                    <a:pt x="3243" y="141"/>
                    <a:pt x="3243" y="140"/>
                  </a:cubicBezTo>
                  <a:cubicBezTo>
                    <a:pt x="3243" y="139"/>
                    <a:pt x="3243" y="139"/>
                    <a:pt x="3243" y="139"/>
                  </a:cubicBezTo>
                  <a:cubicBezTo>
                    <a:pt x="3243" y="140"/>
                    <a:pt x="3243" y="141"/>
                    <a:pt x="3243" y="142"/>
                  </a:cubicBezTo>
                  <a:cubicBezTo>
                    <a:pt x="3243" y="142"/>
                    <a:pt x="3243" y="143"/>
                    <a:pt x="3243" y="143"/>
                  </a:cubicBezTo>
                  <a:close/>
                  <a:moveTo>
                    <a:pt x="3256" y="139"/>
                  </a:moveTo>
                  <a:cubicBezTo>
                    <a:pt x="3255" y="142"/>
                    <a:pt x="3254" y="145"/>
                    <a:pt x="3253" y="147"/>
                  </a:cubicBezTo>
                  <a:cubicBezTo>
                    <a:pt x="3253" y="146"/>
                    <a:pt x="3252" y="145"/>
                    <a:pt x="3252" y="144"/>
                  </a:cubicBezTo>
                  <a:cubicBezTo>
                    <a:pt x="3254" y="132"/>
                    <a:pt x="3254" y="120"/>
                    <a:pt x="3256" y="108"/>
                  </a:cubicBezTo>
                  <a:cubicBezTo>
                    <a:pt x="3257" y="104"/>
                    <a:pt x="3257" y="100"/>
                    <a:pt x="3259" y="97"/>
                  </a:cubicBezTo>
                  <a:cubicBezTo>
                    <a:pt x="3260" y="100"/>
                    <a:pt x="3261" y="103"/>
                    <a:pt x="3262" y="107"/>
                  </a:cubicBezTo>
                  <a:cubicBezTo>
                    <a:pt x="3261" y="112"/>
                    <a:pt x="3261" y="117"/>
                    <a:pt x="3260" y="122"/>
                  </a:cubicBezTo>
                  <a:cubicBezTo>
                    <a:pt x="3258" y="116"/>
                    <a:pt x="3257" y="111"/>
                    <a:pt x="3256" y="108"/>
                  </a:cubicBezTo>
                  <a:cubicBezTo>
                    <a:pt x="3258" y="116"/>
                    <a:pt x="3257" y="128"/>
                    <a:pt x="3256" y="139"/>
                  </a:cubicBezTo>
                  <a:close/>
                  <a:moveTo>
                    <a:pt x="3264" y="134"/>
                  </a:moveTo>
                  <a:cubicBezTo>
                    <a:pt x="3263" y="132"/>
                    <a:pt x="3262" y="130"/>
                    <a:pt x="3262" y="128"/>
                  </a:cubicBezTo>
                  <a:cubicBezTo>
                    <a:pt x="3262" y="121"/>
                    <a:pt x="3262" y="114"/>
                    <a:pt x="3262" y="107"/>
                  </a:cubicBezTo>
                  <a:cubicBezTo>
                    <a:pt x="3264" y="113"/>
                    <a:pt x="3265" y="118"/>
                    <a:pt x="3266" y="124"/>
                  </a:cubicBezTo>
                  <a:cubicBezTo>
                    <a:pt x="3265" y="128"/>
                    <a:pt x="3264" y="131"/>
                    <a:pt x="3264" y="134"/>
                  </a:cubicBezTo>
                  <a:close/>
                  <a:moveTo>
                    <a:pt x="3268" y="118"/>
                  </a:moveTo>
                  <a:cubicBezTo>
                    <a:pt x="3266" y="114"/>
                    <a:pt x="3264" y="109"/>
                    <a:pt x="3262" y="105"/>
                  </a:cubicBezTo>
                  <a:cubicBezTo>
                    <a:pt x="3263" y="102"/>
                    <a:pt x="3263" y="99"/>
                    <a:pt x="3264" y="96"/>
                  </a:cubicBezTo>
                  <a:cubicBezTo>
                    <a:pt x="3263" y="99"/>
                    <a:pt x="3263" y="102"/>
                    <a:pt x="3262" y="105"/>
                  </a:cubicBezTo>
                  <a:cubicBezTo>
                    <a:pt x="3261" y="102"/>
                    <a:pt x="3260" y="99"/>
                    <a:pt x="3259" y="96"/>
                  </a:cubicBezTo>
                  <a:cubicBezTo>
                    <a:pt x="3259" y="94"/>
                    <a:pt x="3260" y="91"/>
                    <a:pt x="3261" y="89"/>
                  </a:cubicBezTo>
                  <a:cubicBezTo>
                    <a:pt x="3265" y="95"/>
                    <a:pt x="3268" y="102"/>
                    <a:pt x="3270" y="109"/>
                  </a:cubicBezTo>
                  <a:cubicBezTo>
                    <a:pt x="3270" y="112"/>
                    <a:pt x="3269" y="115"/>
                    <a:pt x="3268" y="118"/>
                  </a:cubicBezTo>
                  <a:close/>
                  <a:moveTo>
                    <a:pt x="3271" y="151"/>
                  </a:moveTo>
                  <a:cubicBezTo>
                    <a:pt x="3271" y="151"/>
                    <a:pt x="3271" y="151"/>
                    <a:pt x="3270" y="151"/>
                  </a:cubicBezTo>
                  <a:cubicBezTo>
                    <a:pt x="3271" y="150"/>
                    <a:pt x="3271" y="148"/>
                    <a:pt x="3271" y="147"/>
                  </a:cubicBezTo>
                  <a:cubicBezTo>
                    <a:pt x="3271" y="147"/>
                    <a:pt x="3271" y="148"/>
                    <a:pt x="3271" y="148"/>
                  </a:cubicBezTo>
                  <a:cubicBezTo>
                    <a:pt x="3271" y="149"/>
                    <a:pt x="3271" y="150"/>
                    <a:pt x="3271" y="151"/>
                  </a:cubicBezTo>
                  <a:close/>
                  <a:moveTo>
                    <a:pt x="3275" y="136"/>
                  </a:moveTo>
                  <a:cubicBezTo>
                    <a:pt x="3274" y="134"/>
                    <a:pt x="3273" y="132"/>
                    <a:pt x="3273" y="130"/>
                  </a:cubicBezTo>
                  <a:cubicBezTo>
                    <a:pt x="3273" y="127"/>
                    <a:pt x="3273" y="123"/>
                    <a:pt x="3274" y="120"/>
                  </a:cubicBezTo>
                  <a:cubicBezTo>
                    <a:pt x="3275" y="123"/>
                    <a:pt x="3276" y="127"/>
                    <a:pt x="3276" y="130"/>
                  </a:cubicBezTo>
                  <a:cubicBezTo>
                    <a:pt x="3276" y="132"/>
                    <a:pt x="3275" y="134"/>
                    <a:pt x="3275" y="136"/>
                  </a:cubicBezTo>
                  <a:close/>
                  <a:moveTo>
                    <a:pt x="3281" y="150"/>
                  </a:moveTo>
                  <a:cubicBezTo>
                    <a:pt x="3281" y="149"/>
                    <a:pt x="3280" y="147"/>
                    <a:pt x="3279" y="146"/>
                  </a:cubicBezTo>
                  <a:cubicBezTo>
                    <a:pt x="3280" y="145"/>
                    <a:pt x="3280" y="145"/>
                    <a:pt x="3280" y="144"/>
                  </a:cubicBezTo>
                  <a:cubicBezTo>
                    <a:pt x="3281" y="146"/>
                    <a:pt x="3281" y="147"/>
                    <a:pt x="3282" y="149"/>
                  </a:cubicBezTo>
                  <a:cubicBezTo>
                    <a:pt x="3281" y="149"/>
                    <a:pt x="3281" y="149"/>
                    <a:pt x="3281" y="150"/>
                  </a:cubicBezTo>
                  <a:close/>
                  <a:moveTo>
                    <a:pt x="3279" y="122"/>
                  </a:moveTo>
                  <a:cubicBezTo>
                    <a:pt x="3278" y="118"/>
                    <a:pt x="3276" y="115"/>
                    <a:pt x="3275" y="111"/>
                  </a:cubicBezTo>
                  <a:cubicBezTo>
                    <a:pt x="3276" y="101"/>
                    <a:pt x="3278" y="90"/>
                    <a:pt x="3282" y="81"/>
                  </a:cubicBezTo>
                  <a:cubicBezTo>
                    <a:pt x="3285" y="86"/>
                    <a:pt x="3288" y="91"/>
                    <a:pt x="3290" y="97"/>
                  </a:cubicBezTo>
                  <a:cubicBezTo>
                    <a:pt x="3288" y="101"/>
                    <a:pt x="3286" y="105"/>
                    <a:pt x="3284" y="109"/>
                  </a:cubicBezTo>
                  <a:cubicBezTo>
                    <a:pt x="3282" y="102"/>
                    <a:pt x="3281" y="96"/>
                    <a:pt x="3279" y="91"/>
                  </a:cubicBezTo>
                  <a:cubicBezTo>
                    <a:pt x="3280" y="99"/>
                    <a:pt x="3281" y="106"/>
                    <a:pt x="3282" y="114"/>
                  </a:cubicBezTo>
                  <a:cubicBezTo>
                    <a:pt x="3281" y="117"/>
                    <a:pt x="3280" y="119"/>
                    <a:pt x="3279" y="122"/>
                  </a:cubicBezTo>
                  <a:close/>
                  <a:moveTo>
                    <a:pt x="3286" y="141"/>
                  </a:moveTo>
                  <a:cubicBezTo>
                    <a:pt x="3285" y="138"/>
                    <a:pt x="3284" y="135"/>
                    <a:pt x="3283" y="131"/>
                  </a:cubicBezTo>
                  <a:cubicBezTo>
                    <a:pt x="3283" y="129"/>
                    <a:pt x="3284" y="127"/>
                    <a:pt x="3284" y="124"/>
                  </a:cubicBezTo>
                  <a:cubicBezTo>
                    <a:pt x="3285" y="130"/>
                    <a:pt x="3286" y="135"/>
                    <a:pt x="3287" y="140"/>
                  </a:cubicBezTo>
                  <a:cubicBezTo>
                    <a:pt x="3287" y="140"/>
                    <a:pt x="3287" y="141"/>
                    <a:pt x="3286" y="141"/>
                  </a:cubicBezTo>
                  <a:close/>
                  <a:moveTo>
                    <a:pt x="3289" y="150"/>
                  </a:moveTo>
                  <a:cubicBezTo>
                    <a:pt x="3289" y="150"/>
                    <a:pt x="3289" y="149"/>
                    <a:pt x="3289" y="149"/>
                  </a:cubicBezTo>
                  <a:cubicBezTo>
                    <a:pt x="3289" y="149"/>
                    <a:pt x="3289" y="149"/>
                    <a:pt x="3289" y="149"/>
                  </a:cubicBezTo>
                  <a:cubicBezTo>
                    <a:pt x="3289" y="149"/>
                    <a:pt x="3289" y="150"/>
                    <a:pt x="3289" y="150"/>
                  </a:cubicBezTo>
                  <a:cubicBezTo>
                    <a:pt x="3289" y="150"/>
                    <a:pt x="3289" y="150"/>
                    <a:pt x="3289" y="150"/>
                  </a:cubicBezTo>
                  <a:close/>
                  <a:moveTo>
                    <a:pt x="3286" y="114"/>
                  </a:moveTo>
                  <a:cubicBezTo>
                    <a:pt x="3287" y="108"/>
                    <a:pt x="3288" y="103"/>
                    <a:pt x="3290" y="97"/>
                  </a:cubicBezTo>
                  <a:cubicBezTo>
                    <a:pt x="3292" y="103"/>
                    <a:pt x="3294" y="110"/>
                    <a:pt x="3296" y="116"/>
                  </a:cubicBezTo>
                  <a:cubicBezTo>
                    <a:pt x="3294" y="121"/>
                    <a:pt x="3293" y="126"/>
                    <a:pt x="3291" y="131"/>
                  </a:cubicBezTo>
                  <a:cubicBezTo>
                    <a:pt x="3289" y="126"/>
                    <a:pt x="3287" y="120"/>
                    <a:pt x="3286" y="114"/>
                  </a:cubicBezTo>
                  <a:close/>
                  <a:moveTo>
                    <a:pt x="3293" y="139"/>
                  </a:moveTo>
                  <a:cubicBezTo>
                    <a:pt x="3295" y="134"/>
                    <a:pt x="3296" y="129"/>
                    <a:pt x="3297" y="124"/>
                  </a:cubicBezTo>
                  <a:cubicBezTo>
                    <a:pt x="3298" y="125"/>
                    <a:pt x="3298" y="126"/>
                    <a:pt x="3298" y="128"/>
                  </a:cubicBezTo>
                  <a:cubicBezTo>
                    <a:pt x="3297" y="132"/>
                    <a:pt x="3295" y="136"/>
                    <a:pt x="3294" y="141"/>
                  </a:cubicBezTo>
                  <a:cubicBezTo>
                    <a:pt x="3294" y="140"/>
                    <a:pt x="3293" y="139"/>
                    <a:pt x="3293" y="139"/>
                  </a:cubicBezTo>
                  <a:close/>
                  <a:moveTo>
                    <a:pt x="3298" y="150"/>
                  </a:moveTo>
                  <a:cubicBezTo>
                    <a:pt x="3298" y="150"/>
                    <a:pt x="3297" y="149"/>
                    <a:pt x="3297" y="149"/>
                  </a:cubicBezTo>
                  <a:cubicBezTo>
                    <a:pt x="3298" y="147"/>
                    <a:pt x="3299" y="144"/>
                    <a:pt x="3300" y="141"/>
                  </a:cubicBezTo>
                  <a:cubicBezTo>
                    <a:pt x="3300" y="143"/>
                    <a:pt x="3301" y="144"/>
                    <a:pt x="3301" y="145"/>
                  </a:cubicBezTo>
                  <a:cubicBezTo>
                    <a:pt x="3300" y="147"/>
                    <a:pt x="3299" y="149"/>
                    <a:pt x="3298" y="150"/>
                  </a:cubicBezTo>
                  <a:close/>
                  <a:moveTo>
                    <a:pt x="3309" y="126"/>
                  </a:moveTo>
                  <a:cubicBezTo>
                    <a:pt x="3308" y="123"/>
                    <a:pt x="3307" y="120"/>
                    <a:pt x="3306" y="117"/>
                  </a:cubicBezTo>
                  <a:cubicBezTo>
                    <a:pt x="3307" y="116"/>
                    <a:pt x="3307" y="115"/>
                    <a:pt x="3307" y="114"/>
                  </a:cubicBezTo>
                  <a:cubicBezTo>
                    <a:pt x="3307" y="116"/>
                    <a:pt x="3308" y="117"/>
                    <a:pt x="3308" y="119"/>
                  </a:cubicBezTo>
                  <a:cubicBezTo>
                    <a:pt x="3309" y="121"/>
                    <a:pt x="3309" y="123"/>
                    <a:pt x="3310" y="125"/>
                  </a:cubicBezTo>
                  <a:cubicBezTo>
                    <a:pt x="3309" y="125"/>
                    <a:pt x="3309" y="125"/>
                    <a:pt x="3309" y="126"/>
                  </a:cubicBezTo>
                  <a:close/>
                  <a:moveTo>
                    <a:pt x="3314" y="142"/>
                  </a:moveTo>
                  <a:cubicBezTo>
                    <a:pt x="3313" y="139"/>
                    <a:pt x="3313" y="136"/>
                    <a:pt x="3312" y="133"/>
                  </a:cubicBezTo>
                  <a:cubicBezTo>
                    <a:pt x="3312" y="133"/>
                    <a:pt x="3312" y="133"/>
                    <a:pt x="3312" y="133"/>
                  </a:cubicBezTo>
                  <a:cubicBezTo>
                    <a:pt x="3313" y="136"/>
                    <a:pt x="3313" y="138"/>
                    <a:pt x="3314" y="141"/>
                  </a:cubicBezTo>
                  <a:cubicBezTo>
                    <a:pt x="3314" y="141"/>
                    <a:pt x="3314" y="141"/>
                    <a:pt x="3314" y="142"/>
                  </a:cubicBezTo>
                  <a:close/>
                  <a:moveTo>
                    <a:pt x="3316" y="148"/>
                  </a:move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lose/>
                  <a:moveTo>
                    <a:pt x="3319" y="141"/>
                  </a:moveTo>
                  <a:cubicBezTo>
                    <a:pt x="3319" y="141"/>
                    <a:pt x="3319" y="141"/>
                    <a:pt x="3319" y="141"/>
                  </a:cubicBezTo>
                  <a:cubicBezTo>
                    <a:pt x="3320" y="137"/>
                    <a:pt x="3321" y="133"/>
                    <a:pt x="3323" y="129"/>
                  </a:cubicBezTo>
                  <a:cubicBezTo>
                    <a:pt x="3323" y="129"/>
                    <a:pt x="3323" y="130"/>
                    <a:pt x="3323" y="131"/>
                  </a:cubicBezTo>
                  <a:cubicBezTo>
                    <a:pt x="3321" y="135"/>
                    <a:pt x="3320" y="138"/>
                    <a:pt x="3319" y="141"/>
                  </a:cubicBezTo>
                  <a:close/>
                  <a:moveTo>
                    <a:pt x="3326" y="122"/>
                  </a:moveTo>
                  <a:cubicBezTo>
                    <a:pt x="3326" y="121"/>
                    <a:pt x="3325" y="120"/>
                    <a:pt x="3325" y="119"/>
                  </a:cubicBezTo>
                  <a:cubicBezTo>
                    <a:pt x="3326" y="117"/>
                    <a:pt x="3326" y="114"/>
                    <a:pt x="3327" y="111"/>
                  </a:cubicBezTo>
                  <a:cubicBezTo>
                    <a:pt x="3328" y="113"/>
                    <a:pt x="3328" y="115"/>
                    <a:pt x="3329" y="117"/>
                  </a:cubicBezTo>
                  <a:cubicBezTo>
                    <a:pt x="3328" y="119"/>
                    <a:pt x="3327" y="121"/>
                    <a:pt x="3326" y="122"/>
                  </a:cubicBezTo>
                  <a:close/>
                  <a:moveTo>
                    <a:pt x="3336" y="147"/>
                  </a:moveTo>
                  <a:cubicBezTo>
                    <a:pt x="3335" y="145"/>
                    <a:pt x="3335" y="144"/>
                    <a:pt x="3334" y="142"/>
                  </a:cubicBezTo>
                  <a:cubicBezTo>
                    <a:pt x="3334" y="140"/>
                    <a:pt x="3333" y="138"/>
                    <a:pt x="3332" y="136"/>
                  </a:cubicBezTo>
                  <a:cubicBezTo>
                    <a:pt x="3332" y="136"/>
                    <a:pt x="3332" y="135"/>
                    <a:pt x="3332" y="134"/>
                  </a:cubicBezTo>
                  <a:cubicBezTo>
                    <a:pt x="3333" y="137"/>
                    <a:pt x="3334" y="139"/>
                    <a:pt x="3334" y="142"/>
                  </a:cubicBezTo>
                  <a:cubicBezTo>
                    <a:pt x="3335" y="144"/>
                    <a:pt x="3335" y="145"/>
                    <a:pt x="3336" y="147"/>
                  </a:cubicBezTo>
                  <a:close/>
                  <a:moveTo>
                    <a:pt x="3339" y="138"/>
                  </a:moveTo>
                  <a:cubicBezTo>
                    <a:pt x="3337" y="133"/>
                    <a:pt x="3336" y="128"/>
                    <a:pt x="3334" y="124"/>
                  </a:cubicBezTo>
                  <a:cubicBezTo>
                    <a:pt x="3334" y="121"/>
                    <a:pt x="3335" y="118"/>
                    <a:pt x="3335" y="116"/>
                  </a:cubicBezTo>
                  <a:cubicBezTo>
                    <a:pt x="3336" y="123"/>
                    <a:pt x="3338" y="129"/>
                    <a:pt x="3340" y="136"/>
                  </a:cubicBezTo>
                  <a:cubicBezTo>
                    <a:pt x="3340" y="137"/>
                    <a:pt x="3339" y="137"/>
                    <a:pt x="3339" y="138"/>
                  </a:cubicBezTo>
                  <a:close/>
                  <a:moveTo>
                    <a:pt x="3336" y="109"/>
                  </a:moveTo>
                  <a:cubicBezTo>
                    <a:pt x="3337" y="103"/>
                    <a:pt x="3339" y="97"/>
                    <a:pt x="3341" y="91"/>
                  </a:cubicBezTo>
                  <a:cubicBezTo>
                    <a:pt x="3343" y="96"/>
                    <a:pt x="3345" y="101"/>
                    <a:pt x="3347" y="106"/>
                  </a:cubicBezTo>
                  <a:cubicBezTo>
                    <a:pt x="3345" y="112"/>
                    <a:pt x="3344" y="120"/>
                    <a:pt x="3342" y="127"/>
                  </a:cubicBezTo>
                  <a:cubicBezTo>
                    <a:pt x="3340" y="121"/>
                    <a:pt x="3338" y="115"/>
                    <a:pt x="3336" y="109"/>
                  </a:cubicBezTo>
                  <a:close/>
                  <a:moveTo>
                    <a:pt x="3343" y="148"/>
                  </a:move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8"/>
                    <a:pt x="3343" y="148"/>
                  </a:cubicBezTo>
                  <a:close/>
                  <a:moveTo>
                    <a:pt x="3345" y="136"/>
                  </a:moveTo>
                  <a:cubicBezTo>
                    <a:pt x="3347" y="127"/>
                    <a:pt x="3347" y="118"/>
                    <a:pt x="3347" y="109"/>
                  </a:cubicBezTo>
                  <a:cubicBezTo>
                    <a:pt x="3349" y="115"/>
                    <a:pt x="3350" y="121"/>
                    <a:pt x="3351" y="127"/>
                  </a:cubicBezTo>
                  <a:cubicBezTo>
                    <a:pt x="3349" y="131"/>
                    <a:pt x="3348" y="135"/>
                    <a:pt x="3347" y="139"/>
                  </a:cubicBezTo>
                  <a:cubicBezTo>
                    <a:pt x="3346" y="138"/>
                    <a:pt x="3346" y="137"/>
                    <a:pt x="3345" y="136"/>
                  </a:cubicBezTo>
                  <a:close/>
                  <a:moveTo>
                    <a:pt x="3352" y="148"/>
                  </a:moveTo>
                  <a:cubicBezTo>
                    <a:pt x="3351" y="148"/>
                    <a:pt x="3351" y="147"/>
                    <a:pt x="3350" y="146"/>
                  </a:cubicBezTo>
                  <a:cubicBezTo>
                    <a:pt x="3351" y="143"/>
                    <a:pt x="3352" y="140"/>
                    <a:pt x="3352" y="137"/>
                  </a:cubicBezTo>
                  <a:cubicBezTo>
                    <a:pt x="3353" y="140"/>
                    <a:pt x="3353" y="142"/>
                    <a:pt x="3354" y="144"/>
                  </a:cubicBezTo>
                  <a:cubicBezTo>
                    <a:pt x="3353" y="146"/>
                    <a:pt x="3352" y="147"/>
                    <a:pt x="3352" y="148"/>
                  </a:cubicBezTo>
                  <a:close/>
                  <a:moveTo>
                    <a:pt x="3347" y="103"/>
                  </a:moveTo>
                  <a:cubicBezTo>
                    <a:pt x="3347" y="102"/>
                    <a:pt x="3347" y="102"/>
                    <a:pt x="3347" y="102"/>
                  </a:cubicBezTo>
                  <a:cubicBezTo>
                    <a:pt x="3347" y="102"/>
                    <a:pt x="3347" y="103"/>
                    <a:pt x="3347" y="103"/>
                  </a:cubicBezTo>
                  <a:cubicBezTo>
                    <a:pt x="3345" y="98"/>
                    <a:pt x="3343" y="94"/>
                    <a:pt x="3341" y="91"/>
                  </a:cubicBezTo>
                  <a:cubicBezTo>
                    <a:pt x="3342" y="87"/>
                    <a:pt x="3344" y="83"/>
                    <a:pt x="3346" y="80"/>
                  </a:cubicBezTo>
                  <a:cubicBezTo>
                    <a:pt x="3352" y="89"/>
                    <a:pt x="3356" y="99"/>
                    <a:pt x="3358" y="109"/>
                  </a:cubicBezTo>
                  <a:cubicBezTo>
                    <a:pt x="3357" y="112"/>
                    <a:pt x="3355" y="116"/>
                    <a:pt x="3354" y="119"/>
                  </a:cubicBezTo>
                  <a:cubicBezTo>
                    <a:pt x="3352" y="114"/>
                    <a:pt x="3350" y="108"/>
                    <a:pt x="3347" y="103"/>
                  </a:cubicBezTo>
                  <a:close/>
                  <a:moveTo>
                    <a:pt x="3355" y="123"/>
                  </a:moveTo>
                  <a:cubicBezTo>
                    <a:pt x="3356" y="118"/>
                    <a:pt x="3357" y="114"/>
                    <a:pt x="3358" y="110"/>
                  </a:cubicBezTo>
                  <a:cubicBezTo>
                    <a:pt x="3359" y="115"/>
                    <a:pt x="3360" y="120"/>
                    <a:pt x="3361" y="125"/>
                  </a:cubicBezTo>
                  <a:cubicBezTo>
                    <a:pt x="3360" y="128"/>
                    <a:pt x="3359" y="130"/>
                    <a:pt x="3358" y="133"/>
                  </a:cubicBezTo>
                  <a:cubicBezTo>
                    <a:pt x="3357" y="129"/>
                    <a:pt x="3356" y="126"/>
                    <a:pt x="3355" y="123"/>
                  </a:cubicBezTo>
                  <a:close/>
                  <a:moveTo>
                    <a:pt x="3362" y="150"/>
                  </a:moveTo>
                  <a:cubicBezTo>
                    <a:pt x="3362" y="147"/>
                    <a:pt x="3361" y="144"/>
                    <a:pt x="3360" y="140"/>
                  </a:cubicBezTo>
                  <a:cubicBezTo>
                    <a:pt x="3361" y="137"/>
                    <a:pt x="3361" y="135"/>
                    <a:pt x="3361" y="132"/>
                  </a:cubicBezTo>
                  <a:cubicBezTo>
                    <a:pt x="3362" y="137"/>
                    <a:pt x="3362" y="143"/>
                    <a:pt x="3362" y="149"/>
                  </a:cubicBezTo>
                  <a:cubicBezTo>
                    <a:pt x="3362" y="150"/>
                    <a:pt x="3362" y="150"/>
                    <a:pt x="3362" y="150"/>
                  </a:cubicBezTo>
                  <a:close/>
                  <a:moveTo>
                    <a:pt x="3391" y="152"/>
                  </a:moveTo>
                  <a:cubicBezTo>
                    <a:pt x="3391" y="148"/>
                    <a:pt x="3391" y="145"/>
                    <a:pt x="3390" y="141"/>
                  </a:cubicBezTo>
                  <a:cubicBezTo>
                    <a:pt x="3390" y="136"/>
                    <a:pt x="3391" y="131"/>
                    <a:pt x="3391" y="125"/>
                  </a:cubicBezTo>
                  <a:cubicBezTo>
                    <a:pt x="3391" y="134"/>
                    <a:pt x="3391" y="142"/>
                    <a:pt x="3391" y="151"/>
                  </a:cubicBezTo>
                  <a:cubicBezTo>
                    <a:pt x="3391" y="151"/>
                    <a:pt x="3391" y="151"/>
                    <a:pt x="3391" y="152"/>
                  </a:cubicBezTo>
                  <a:close/>
                  <a:moveTo>
                    <a:pt x="3457" y="128"/>
                  </a:moveTo>
                  <a:cubicBezTo>
                    <a:pt x="3457" y="132"/>
                    <a:pt x="3456" y="136"/>
                    <a:pt x="3455" y="140"/>
                  </a:cubicBezTo>
                  <a:cubicBezTo>
                    <a:pt x="3455" y="136"/>
                    <a:pt x="3454" y="133"/>
                    <a:pt x="3453" y="129"/>
                  </a:cubicBezTo>
                  <a:cubicBezTo>
                    <a:pt x="3453" y="126"/>
                    <a:pt x="3453" y="122"/>
                    <a:pt x="3453" y="119"/>
                  </a:cubicBezTo>
                  <a:cubicBezTo>
                    <a:pt x="3453" y="112"/>
                    <a:pt x="3454" y="104"/>
                    <a:pt x="3455" y="97"/>
                  </a:cubicBezTo>
                  <a:cubicBezTo>
                    <a:pt x="3456" y="102"/>
                    <a:pt x="3457" y="107"/>
                    <a:pt x="3457" y="111"/>
                  </a:cubicBezTo>
                  <a:cubicBezTo>
                    <a:pt x="3457" y="122"/>
                    <a:pt x="3457" y="122"/>
                    <a:pt x="3457" y="122"/>
                  </a:cubicBezTo>
                  <a:cubicBezTo>
                    <a:pt x="3457" y="124"/>
                    <a:pt x="3457" y="126"/>
                    <a:pt x="3457" y="128"/>
                  </a:cubicBezTo>
                  <a:close/>
                  <a:moveTo>
                    <a:pt x="3465" y="151"/>
                  </a:moveTo>
                  <a:cubicBezTo>
                    <a:pt x="3465" y="152"/>
                    <a:pt x="3465" y="152"/>
                    <a:pt x="3465" y="152"/>
                  </a:cubicBezTo>
                  <a:cubicBezTo>
                    <a:pt x="3465" y="152"/>
                    <a:pt x="3465" y="152"/>
                    <a:pt x="3465" y="152"/>
                  </a:cubicBezTo>
                  <a:cubicBezTo>
                    <a:pt x="3465" y="136"/>
                    <a:pt x="3465" y="123"/>
                    <a:pt x="3464" y="109"/>
                  </a:cubicBezTo>
                  <a:cubicBezTo>
                    <a:pt x="3464" y="104"/>
                    <a:pt x="3465" y="99"/>
                    <a:pt x="3466" y="93"/>
                  </a:cubicBezTo>
                  <a:cubicBezTo>
                    <a:pt x="3467" y="99"/>
                    <a:pt x="3467" y="105"/>
                    <a:pt x="3467" y="110"/>
                  </a:cubicBezTo>
                  <a:cubicBezTo>
                    <a:pt x="3467" y="124"/>
                    <a:pt x="3465" y="138"/>
                    <a:pt x="3465" y="151"/>
                  </a:cubicBezTo>
                  <a:close/>
                  <a:moveTo>
                    <a:pt x="3492" y="110"/>
                  </a:moveTo>
                  <a:cubicBezTo>
                    <a:pt x="3492" y="109"/>
                    <a:pt x="3492" y="107"/>
                    <a:pt x="3492" y="106"/>
                  </a:cubicBezTo>
                  <a:cubicBezTo>
                    <a:pt x="3492" y="110"/>
                    <a:pt x="3493" y="113"/>
                    <a:pt x="3492" y="116"/>
                  </a:cubicBezTo>
                  <a:cubicBezTo>
                    <a:pt x="3492" y="114"/>
                    <a:pt x="3492" y="112"/>
                    <a:pt x="3492" y="110"/>
                  </a:cubicBezTo>
                  <a:close/>
                  <a:moveTo>
                    <a:pt x="3518" y="120"/>
                  </a:moveTo>
                  <a:cubicBezTo>
                    <a:pt x="3516" y="114"/>
                    <a:pt x="3515" y="109"/>
                    <a:pt x="3515" y="104"/>
                  </a:cubicBezTo>
                  <a:cubicBezTo>
                    <a:pt x="3515" y="102"/>
                    <a:pt x="3515" y="98"/>
                    <a:pt x="3517" y="93"/>
                  </a:cubicBezTo>
                  <a:cubicBezTo>
                    <a:pt x="3518" y="100"/>
                    <a:pt x="3518" y="107"/>
                    <a:pt x="3518" y="112"/>
                  </a:cubicBezTo>
                  <a:cubicBezTo>
                    <a:pt x="3518" y="115"/>
                    <a:pt x="3518" y="117"/>
                    <a:pt x="3518" y="120"/>
                  </a:cubicBezTo>
                  <a:close/>
                  <a:moveTo>
                    <a:pt x="3528" y="145"/>
                  </a:moveTo>
                  <a:cubicBezTo>
                    <a:pt x="3528" y="145"/>
                    <a:pt x="3528" y="144"/>
                    <a:pt x="3528" y="144"/>
                  </a:cubicBezTo>
                  <a:cubicBezTo>
                    <a:pt x="3528" y="139"/>
                    <a:pt x="3528" y="134"/>
                    <a:pt x="3528" y="129"/>
                  </a:cubicBezTo>
                  <a:cubicBezTo>
                    <a:pt x="3529" y="132"/>
                    <a:pt x="3529" y="134"/>
                    <a:pt x="3529" y="137"/>
                  </a:cubicBezTo>
                  <a:cubicBezTo>
                    <a:pt x="3529" y="140"/>
                    <a:pt x="3528" y="142"/>
                    <a:pt x="3528" y="145"/>
                  </a:cubicBezTo>
                  <a:close/>
                  <a:moveTo>
                    <a:pt x="3539" y="145"/>
                  </a:moveTo>
                  <a:cubicBezTo>
                    <a:pt x="3539" y="144"/>
                    <a:pt x="3538" y="143"/>
                    <a:pt x="3538" y="143"/>
                  </a:cubicBezTo>
                  <a:cubicBezTo>
                    <a:pt x="3538" y="142"/>
                    <a:pt x="3538" y="141"/>
                    <a:pt x="3538" y="140"/>
                  </a:cubicBezTo>
                  <a:cubicBezTo>
                    <a:pt x="3539" y="141"/>
                    <a:pt x="3539" y="142"/>
                    <a:pt x="3539" y="143"/>
                  </a:cubicBezTo>
                  <a:cubicBezTo>
                    <a:pt x="3539" y="143"/>
                    <a:pt x="3539" y="144"/>
                    <a:pt x="3539" y="145"/>
                  </a:cubicBezTo>
                  <a:close/>
                  <a:moveTo>
                    <a:pt x="3540" y="138"/>
                  </a:moveTo>
                  <a:cubicBezTo>
                    <a:pt x="3540" y="136"/>
                    <a:pt x="3539" y="135"/>
                    <a:pt x="3539" y="133"/>
                  </a:cubicBezTo>
                  <a:cubicBezTo>
                    <a:pt x="3539" y="129"/>
                    <a:pt x="3539" y="124"/>
                    <a:pt x="3539" y="119"/>
                  </a:cubicBezTo>
                  <a:cubicBezTo>
                    <a:pt x="3540" y="124"/>
                    <a:pt x="3541" y="129"/>
                    <a:pt x="3542" y="134"/>
                  </a:cubicBezTo>
                  <a:cubicBezTo>
                    <a:pt x="3541" y="135"/>
                    <a:pt x="3541" y="137"/>
                    <a:pt x="3540" y="138"/>
                  </a:cubicBezTo>
                  <a:close/>
                  <a:moveTo>
                    <a:pt x="3545" y="154"/>
                  </a:moveTo>
                  <a:cubicBezTo>
                    <a:pt x="3545" y="153"/>
                    <a:pt x="3545" y="152"/>
                    <a:pt x="3545" y="151"/>
                  </a:cubicBezTo>
                  <a:cubicBezTo>
                    <a:pt x="3545" y="151"/>
                    <a:pt x="3545" y="150"/>
                    <a:pt x="3545" y="150"/>
                  </a:cubicBezTo>
                  <a:cubicBezTo>
                    <a:pt x="3545" y="151"/>
                    <a:pt x="3545" y="152"/>
                    <a:pt x="3545" y="154"/>
                  </a:cubicBezTo>
                  <a:close/>
                  <a:moveTo>
                    <a:pt x="3551" y="139"/>
                  </a:moveTo>
                  <a:cubicBezTo>
                    <a:pt x="3550" y="136"/>
                    <a:pt x="3549" y="134"/>
                    <a:pt x="3548" y="132"/>
                  </a:cubicBezTo>
                  <a:cubicBezTo>
                    <a:pt x="3549" y="129"/>
                    <a:pt x="3550" y="127"/>
                    <a:pt x="3551" y="125"/>
                  </a:cubicBezTo>
                  <a:cubicBezTo>
                    <a:pt x="3551" y="128"/>
                    <a:pt x="3552" y="131"/>
                    <a:pt x="3553" y="134"/>
                  </a:cubicBezTo>
                  <a:cubicBezTo>
                    <a:pt x="3552" y="136"/>
                    <a:pt x="3552" y="137"/>
                    <a:pt x="3551" y="139"/>
                  </a:cubicBezTo>
                  <a:close/>
                  <a:moveTo>
                    <a:pt x="3571" y="114"/>
                  </a:moveTo>
                  <a:cubicBezTo>
                    <a:pt x="3570" y="108"/>
                    <a:pt x="3569" y="101"/>
                    <a:pt x="3569" y="95"/>
                  </a:cubicBezTo>
                  <a:cubicBezTo>
                    <a:pt x="3569" y="88"/>
                    <a:pt x="3570" y="81"/>
                    <a:pt x="3571" y="75"/>
                  </a:cubicBezTo>
                  <a:cubicBezTo>
                    <a:pt x="3573" y="81"/>
                    <a:pt x="3573" y="88"/>
                    <a:pt x="3573" y="95"/>
                  </a:cubicBezTo>
                  <a:cubicBezTo>
                    <a:pt x="3573" y="101"/>
                    <a:pt x="3572" y="108"/>
                    <a:pt x="3571" y="114"/>
                  </a:cubicBezTo>
                  <a:close/>
                  <a:moveTo>
                    <a:pt x="3591" y="139"/>
                  </a:moveTo>
                  <a:cubicBezTo>
                    <a:pt x="3591" y="137"/>
                    <a:pt x="3590" y="136"/>
                    <a:pt x="3590" y="134"/>
                  </a:cubicBezTo>
                  <a:cubicBezTo>
                    <a:pt x="3590" y="131"/>
                    <a:pt x="3591" y="128"/>
                    <a:pt x="3592" y="125"/>
                  </a:cubicBezTo>
                  <a:cubicBezTo>
                    <a:pt x="3592" y="127"/>
                    <a:pt x="3593" y="129"/>
                    <a:pt x="3594" y="132"/>
                  </a:cubicBezTo>
                  <a:cubicBezTo>
                    <a:pt x="3593" y="134"/>
                    <a:pt x="3592" y="136"/>
                    <a:pt x="3591" y="139"/>
                  </a:cubicBezTo>
                  <a:close/>
                  <a:moveTo>
                    <a:pt x="3597" y="154"/>
                  </a:moveTo>
                  <a:cubicBezTo>
                    <a:pt x="3597" y="154"/>
                    <a:pt x="3597" y="154"/>
                    <a:pt x="3597" y="154"/>
                  </a:cubicBezTo>
                  <a:cubicBezTo>
                    <a:pt x="3597" y="152"/>
                    <a:pt x="3597" y="151"/>
                    <a:pt x="3598" y="150"/>
                  </a:cubicBezTo>
                  <a:cubicBezTo>
                    <a:pt x="3598" y="150"/>
                    <a:pt x="3598" y="151"/>
                    <a:pt x="3598" y="151"/>
                  </a:cubicBezTo>
                  <a:cubicBezTo>
                    <a:pt x="3597" y="152"/>
                    <a:pt x="3597" y="153"/>
                    <a:pt x="3597" y="154"/>
                  </a:cubicBezTo>
                  <a:close/>
                  <a:moveTo>
                    <a:pt x="3603" y="119"/>
                  </a:move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19"/>
                  </a:cubicBezTo>
                  <a:close/>
                  <a:moveTo>
                    <a:pt x="3602" y="138"/>
                  </a:moveTo>
                  <a:cubicBezTo>
                    <a:pt x="3601" y="137"/>
                    <a:pt x="3601" y="135"/>
                    <a:pt x="3601" y="134"/>
                  </a:cubicBezTo>
                  <a:cubicBezTo>
                    <a:pt x="3601" y="134"/>
                    <a:pt x="3601" y="134"/>
                    <a:pt x="3601" y="134"/>
                  </a:cubicBezTo>
                  <a:cubicBezTo>
                    <a:pt x="3601" y="134"/>
                    <a:pt x="3602" y="135"/>
                    <a:pt x="3602" y="137"/>
                  </a:cubicBezTo>
                  <a:cubicBezTo>
                    <a:pt x="3602" y="137"/>
                    <a:pt x="3602" y="138"/>
                    <a:pt x="3602" y="138"/>
                  </a:cubicBezTo>
                  <a:close/>
                  <a:moveTo>
                    <a:pt x="3601" y="133"/>
                  </a:moveTo>
                  <a:cubicBezTo>
                    <a:pt x="3601" y="132"/>
                    <a:pt x="3601" y="131"/>
                    <a:pt x="3601" y="130"/>
                  </a:cubicBezTo>
                  <a:cubicBezTo>
                    <a:pt x="3602" y="131"/>
                    <a:pt x="3603" y="133"/>
                    <a:pt x="3603" y="134"/>
                  </a:cubicBezTo>
                  <a:cubicBezTo>
                    <a:pt x="3603" y="135"/>
                    <a:pt x="3603" y="135"/>
                    <a:pt x="3603" y="136"/>
                  </a:cubicBezTo>
                  <a:cubicBezTo>
                    <a:pt x="3602" y="134"/>
                    <a:pt x="3601" y="133"/>
                    <a:pt x="3601" y="133"/>
                  </a:cubicBezTo>
                  <a:close/>
                  <a:moveTo>
                    <a:pt x="3604" y="145"/>
                  </a:moveTo>
                  <a:cubicBezTo>
                    <a:pt x="3603" y="144"/>
                    <a:pt x="3603" y="143"/>
                    <a:pt x="3603" y="143"/>
                  </a:cubicBezTo>
                  <a:cubicBezTo>
                    <a:pt x="3603" y="142"/>
                    <a:pt x="3604" y="141"/>
                    <a:pt x="3604" y="140"/>
                  </a:cubicBezTo>
                  <a:cubicBezTo>
                    <a:pt x="3604" y="140"/>
                    <a:pt x="3604" y="140"/>
                    <a:pt x="3604" y="140"/>
                  </a:cubicBezTo>
                  <a:cubicBezTo>
                    <a:pt x="3604" y="141"/>
                    <a:pt x="3604" y="142"/>
                    <a:pt x="3604" y="143"/>
                  </a:cubicBezTo>
                  <a:cubicBezTo>
                    <a:pt x="3604" y="143"/>
                    <a:pt x="3604" y="144"/>
                    <a:pt x="3604" y="145"/>
                  </a:cubicBezTo>
                  <a:close/>
                  <a:moveTo>
                    <a:pt x="3614" y="134"/>
                  </a:moveTo>
                  <a:cubicBezTo>
                    <a:pt x="3614" y="134"/>
                    <a:pt x="3614" y="133"/>
                    <a:pt x="3614" y="133"/>
                  </a:cubicBezTo>
                  <a:cubicBezTo>
                    <a:pt x="3614" y="132"/>
                    <a:pt x="3614" y="130"/>
                    <a:pt x="3614" y="129"/>
                  </a:cubicBezTo>
                  <a:cubicBezTo>
                    <a:pt x="3614" y="130"/>
                    <a:pt x="3614" y="132"/>
                    <a:pt x="3614" y="134"/>
                  </a:cubicBezTo>
                  <a:close/>
                  <a:moveTo>
                    <a:pt x="3624" y="120"/>
                  </a:moveTo>
                  <a:cubicBezTo>
                    <a:pt x="3624" y="117"/>
                    <a:pt x="3624" y="115"/>
                    <a:pt x="3624" y="112"/>
                  </a:cubicBezTo>
                  <a:cubicBezTo>
                    <a:pt x="3624" y="111"/>
                    <a:pt x="3624" y="111"/>
                    <a:pt x="3624" y="110"/>
                  </a:cubicBezTo>
                  <a:cubicBezTo>
                    <a:pt x="3624" y="113"/>
                    <a:pt x="3624" y="116"/>
                    <a:pt x="3625" y="119"/>
                  </a:cubicBezTo>
                  <a:cubicBezTo>
                    <a:pt x="3625" y="119"/>
                    <a:pt x="3624" y="120"/>
                    <a:pt x="3624" y="120"/>
                  </a:cubicBezTo>
                  <a:close/>
                  <a:moveTo>
                    <a:pt x="3626" y="115"/>
                  </a:moveTo>
                  <a:cubicBezTo>
                    <a:pt x="3625" y="112"/>
                    <a:pt x="3625" y="108"/>
                    <a:pt x="3624" y="104"/>
                  </a:cubicBezTo>
                  <a:cubicBezTo>
                    <a:pt x="3625" y="101"/>
                    <a:pt x="3625" y="97"/>
                    <a:pt x="3626" y="93"/>
                  </a:cubicBezTo>
                  <a:cubicBezTo>
                    <a:pt x="3627" y="98"/>
                    <a:pt x="3627" y="102"/>
                    <a:pt x="3627" y="104"/>
                  </a:cubicBezTo>
                  <a:cubicBezTo>
                    <a:pt x="3627" y="108"/>
                    <a:pt x="3627" y="111"/>
                    <a:pt x="3626" y="115"/>
                  </a:cubicBezTo>
                  <a:close/>
                  <a:moveTo>
                    <a:pt x="3631" y="102"/>
                  </a:moveTo>
                  <a:cubicBezTo>
                    <a:pt x="3631" y="102"/>
                    <a:pt x="3631" y="102"/>
                    <a:pt x="3630" y="103"/>
                  </a:cubicBezTo>
                  <a:cubicBezTo>
                    <a:pt x="3630" y="99"/>
                    <a:pt x="3629" y="94"/>
                    <a:pt x="3626" y="90"/>
                  </a:cubicBezTo>
                  <a:cubicBezTo>
                    <a:pt x="3628" y="84"/>
                    <a:pt x="3630" y="78"/>
                    <a:pt x="3632" y="73"/>
                  </a:cubicBezTo>
                  <a:cubicBezTo>
                    <a:pt x="3631" y="83"/>
                    <a:pt x="3631" y="93"/>
                    <a:pt x="3631" y="102"/>
                  </a:cubicBezTo>
                  <a:close/>
                  <a:moveTo>
                    <a:pt x="3637" y="110"/>
                  </a:moveTo>
                  <a:cubicBezTo>
                    <a:pt x="3637" y="111"/>
                    <a:pt x="3637" y="111"/>
                    <a:pt x="3637" y="111"/>
                  </a:cubicBezTo>
                  <a:cubicBezTo>
                    <a:pt x="3637" y="114"/>
                    <a:pt x="3636" y="116"/>
                    <a:pt x="3636" y="119"/>
                  </a:cubicBezTo>
                  <a:cubicBezTo>
                    <a:pt x="3635" y="114"/>
                    <a:pt x="3635" y="108"/>
                    <a:pt x="3635" y="103"/>
                  </a:cubicBezTo>
                  <a:cubicBezTo>
                    <a:pt x="3635" y="97"/>
                    <a:pt x="3635" y="91"/>
                    <a:pt x="3637" y="85"/>
                  </a:cubicBezTo>
                  <a:cubicBezTo>
                    <a:pt x="3636" y="87"/>
                    <a:pt x="3635" y="89"/>
                    <a:pt x="3634" y="92"/>
                  </a:cubicBezTo>
                  <a:cubicBezTo>
                    <a:pt x="3634" y="87"/>
                    <a:pt x="3634" y="82"/>
                    <a:pt x="3635" y="77"/>
                  </a:cubicBezTo>
                  <a:cubicBezTo>
                    <a:pt x="3637" y="83"/>
                    <a:pt x="3638" y="90"/>
                    <a:pt x="3638" y="96"/>
                  </a:cubicBezTo>
                  <a:cubicBezTo>
                    <a:pt x="3638" y="101"/>
                    <a:pt x="3638" y="106"/>
                    <a:pt x="3637" y="110"/>
                  </a:cubicBezTo>
                  <a:close/>
                  <a:moveTo>
                    <a:pt x="3643" y="127"/>
                  </a:moveTo>
                  <a:cubicBezTo>
                    <a:pt x="3642" y="132"/>
                    <a:pt x="3642" y="134"/>
                    <a:pt x="3642" y="134"/>
                  </a:cubicBezTo>
                  <a:cubicBezTo>
                    <a:pt x="3642" y="129"/>
                    <a:pt x="3643" y="125"/>
                    <a:pt x="3643" y="120"/>
                  </a:cubicBezTo>
                  <a:cubicBezTo>
                    <a:pt x="3643" y="123"/>
                    <a:pt x="3643" y="125"/>
                    <a:pt x="3643" y="127"/>
                  </a:cubicBezTo>
                  <a:close/>
                  <a:moveTo>
                    <a:pt x="3675" y="92"/>
                  </a:moveTo>
                  <a:cubicBezTo>
                    <a:pt x="3675" y="91"/>
                    <a:pt x="3675" y="90"/>
                    <a:pt x="3675" y="89"/>
                  </a:cubicBezTo>
                  <a:cubicBezTo>
                    <a:pt x="3675" y="89"/>
                    <a:pt x="3675" y="90"/>
                    <a:pt x="3675" y="91"/>
                  </a:cubicBezTo>
                  <a:cubicBezTo>
                    <a:pt x="3675" y="91"/>
                    <a:pt x="3675" y="92"/>
                    <a:pt x="3675" y="92"/>
                  </a:cubicBezTo>
                  <a:close/>
                  <a:moveTo>
                    <a:pt x="3677" y="130"/>
                  </a:moveTo>
                  <a:cubicBezTo>
                    <a:pt x="3677" y="132"/>
                    <a:pt x="3677" y="134"/>
                    <a:pt x="3677" y="136"/>
                  </a:cubicBezTo>
                  <a:cubicBezTo>
                    <a:pt x="3676" y="127"/>
                    <a:pt x="3675" y="119"/>
                    <a:pt x="3675" y="110"/>
                  </a:cubicBezTo>
                  <a:cubicBezTo>
                    <a:pt x="3675" y="105"/>
                    <a:pt x="3675" y="99"/>
                    <a:pt x="3676" y="93"/>
                  </a:cubicBezTo>
                  <a:cubicBezTo>
                    <a:pt x="3677" y="99"/>
                    <a:pt x="3678" y="104"/>
                    <a:pt x="3679" y="109"/>
                  </a:cubicBezTo>
                  <a:cubicBezTo>
                    <a:pt x="3678" y="116"/>
                    <a:pt x="3678" y="123"/>
                    <a:pt x="3677" y="130"/>
                  </a:cubicBezTo>
                  <a:close/>
                  <a:moveTo>
                    <a:pt x="3687" y="140"/>
                  </a:moveTo>
                  <a:cubicBezTo>
                    <a:pt x="3687" y="140"/>
                    <a:pt x="3687" y="139"/>
                    <a:pt x="3687" y="139"/>
                  </a:cubicBezTo>
                  <a:cubicBezTo>
                    <a:pt x="3688" y="100"/>
                    <a:pt x="3688" y="100"/>
                    <a:pt x="3688" y="100"/>
                  </a:cubicBezTo>
                  <a:cubicBezTo>
                    <a:pt x="3688" y="106"/>
                    <a:pt x="3689" y="113"/>
                    <a:pt x="3689" y="119"/>
                  </a:cubicBezTo>
                  <a:cubicBezTo>
                    <a:pt x="3689" y="122"/>
                    <a:pt x="3689" y="126"/>
                    <a:pt x="3689" y="129"/>
                  </a:cubicBezTo>
                  <a:cubicBezTo>
                    <a:pt x="3688" y="133"/>
                    <a:pt x="3688" y="136"/>
                    <a:pt x="3687" y="140"/>
                  </a:cubicBezTo>
                  <a:close/>
                  <a:moveTo>
                    <a:pt x="3708" y="105"/>
                  </a:moveTo>
                  <a:cubicBezTo>
                    <a:pt x="3708" y="104"/>
                    <a:pt x="3708" y="102"/>
                    <a:pt x="3708" y="101"/>
                  </a:cubicBezTo>
                  <a:cubicBezTo>
                    <a:pt x="3708" y="102"/>
                    <a:pt x="3709" y="103"/>
                    <a:pt x="3709" y="103"/>
                  </a:cubicBezTo>
                  <a:cubicBezTo>
                    <a:pt x="3708" y="104"/>
                    <a:pt x="3708" y="105"/>
                    <a:pt x="3708" y="105"/>
                  </a:cubicBezTo>
                  <a:close/>
                  <a:moveTo>
                    <a:pt x="3731" y="101"/>
                  </a:moveTo>
                  <a:cubicBezTo>
                    <a:pt x="3730" y="101"/>
                    <a:pt x="3730" y="101"/>
                    <a:pt x="3730" y="100"/>
                  </a:cubicBezTo>
                  <a:cubicBezTo>
                    <a:pt x="3730" y="101"/>
                    <a:pt x="3730" y="101"/>
                    <a:pt x="3731" y="101"/>
                  </a:cubicBezTo>
                  <a:cubicBezTo>
                    <a:pt x="3730" y="111"/>
                    <a:pt x="3729" y="119"/>
                    <a:pt x="3728" y="126"/>
                  </a:cubicBezTo>
                  <a:cubicBezTo>
                    <a:pt x="3727" y="122"/>
                    <a:pt x="3727" y="118"/>
                    <a:pt x="3726" y="114"/>
                  </a:cubicBezTo>
                  <a:cubicBezTo>
                    <a:pt x="3726" y="109"/>
                    <a:pt x="3726" y="103"/>
                    <a:pt x="3726" y="98"/>
                  </a:cubicBezTo>
                  <a:cubicBezTo>
                    <a:pt x="3727" y="92"/>
                    <a:pt x="3729" y="87"/>
                    <a:pt x="3732" y="82"/>
                  </a:cubicBezTo>
                  <a:cubicBezTo>
                    <a:pt x="3731" y="89"/>
                    <a:pt x="3731" y="95"/>
                    <a:pt x="3731" y="101"/>
                  </a:cubicBezTo>
                  <a:close/>
                  <a:moveTo>
                    <a:pt x="3740" y="117"/>
                  </a:moveTo>
                  <a:cubicBezTo>
                    <a:pt x="3740" y="114"/>
                    <a:pt x="3740" y="110"/>
                    <a:pt x="3740" y="106"/>
                  </a:cubicBezTo>
                  <a:cubicBezTo>
                    <a:pt x="3740" y="99"/>
                    <a:pt x="3740" y="90"/>
                    <a:pt x="3743" y="83"/>
                  </a:cubicBezTo>
                  <a:cubicBezTo>
                    <a:pt x="3742" y="95"/>
                    <a:pt x="3741" y="107"/>
                    <a:pt x="3740" y="117"/>
                  </a:cubicBezTo>
                  <a:close/>
                  <a:moveTo>
                    <a:pt x="3746" y="108"/>
                  </a:moveTo>
                  <a:cubicBezTo>
                    <a:pt x="3746" y="106"/>
                    <a:pt x="3746" y="104"/>
                    <a:pt x="3746" y="102"/>
                  </a:cubicBezTo>
                  <a:cubicBezTo>
                    <a:pt x="3747" y="102"/>
                    <a:pt x="3747" y="102"/>
                    <a:pt x="3747" y="103"/>
                  </a:cubicBezTo>
                  <a:cubicBezTo>
                    <a:pt x="3747" y="104"/>
                    <a:pt x="3746" y="106"/>
                    <a:pt x="3746" y="108"/>
                  </a:cubicBezTo>
                  <a:close/>
                  <a:moveTo>
                    <a:pt x="3752" y="111"/>
                  </a:moveTo>
                  <a:cubicBezTo>
                    <a:pt x="3752" y="103"/>
                    <a:pt x="3755" y="95"/>
                    <a:pt x="3757" y="87"/>
                  </a:cubicBezTo>
                  <a:cubicBezTo>
                    <a:pt x="3756" y="95"/>
                    <a:pt x="3754" y="104"/>
                    <a:pt x="3752" y="113"/>
                  </a:cubicBezTo>
                  <a:cubicBezTo>
                    <a:pt x="3752" y="112"/>
                    <a:pt x="3752" y="112"/>
                    <a:pt x="3752" y="111"/>
                  </a:cubicBezTo>
                  <a:close/>
                  <a:moveTo>
                    <a:pt x="3776" y="110"/>
                  </a:moveTo>
                  <a:cubicBezTo>
                    <a:pt x="3776" y="109"/>
                    <a:pt x="3776" y="108"/>
                    <a:pt x="3776" y="107"/>
                  </a:cubicBezTo>
                  <a:cubicBezTo>
                    <a:pt x="3776" y="107"/>
                    <a:pt x="3776" y="108"/>
                    <a:pt x="3776" y="108"/>
                  </a:cubicBezTo>
                  <a:cubicBezTo>
                    <a:pt x="3776" y="109"/>
                    <a:pt x="3776" y="109"/>
                    <a:pt x="3776" y="110"/>
                  </a:cubicBezTo>
                  <a:close/>
                  <a:moveTo>
                    <a:pt x="3787" y="125"/>
                  </a:moveTo>
                  <a:cubicBezTo>
                    <a:pt x="3787" y="123"/>
                    <a:pt x="3787" y="122"/>
                    <a:pt x="3787" y="120"/>
                  </a:cubicBezTo>
                  <a:cubicBezTo>
                    <a:pt x="3787" y="121"/>
                    <a:pt x="3787" y="122"/>
                    <a:pt x="3787" y="123"/>
                  </a:cubicBezTo>
                  <a:cubicBezTo>
                    <a:pt x="3787" y="123"/>
                    <a:pt x="3787" y="124"/>
                    <a:pt x="3787" y="125"/>
                  </a:cubicBezTo>
                  <a:close/>
                  <a:moveTo>
                    <a:pt x="3790" y="115"/>
                  </a:moveTo>
                  <a:cubicBezTo>
                    <a:pt x="3789" y="117"/>
                    <a:pt x="3789" y="118"/>
                    <a:pt x="3788" y="119"/>
                  </a:cubicBezTo>
                  <a:cubicBezTo>
                    <a:pt x="3788" y="118"/>
                    <a:pt x="3787" y="116"/>
                    <a:pt x="3787" y="114"/>
                  </a:cubicBezTo>
                  <a:cubicBezTo>
                    <a:pt x="3787" y="110"/>
                    <a:pt x="3787" y="105"/>
                    <a:pt x="3787" y="100"/>
                  </a:cubicBezTo>
                  <a:cubicBezTo>
                    <a:pt x="3788" y="94"/>
                    <a:pt x="3791" y="89"/>
                    <a:pt x="3794" y="84"/>
                  </a:cubicBezTo>
                  <a:cubicBezTo>
                    <a:pt x="3793" y="93"/>
                    <a:pt x="3791" y="105"/>
                    <a:pt x="3790" y="115"/>
                  </a:cubicBezTo>
                  <a:close/>
                  <a:moveTo>
                    <a:pt x="3797" y="90"/>
                  </a:moveTo>
                  <a:cubicBezTo>
                    <a:pt x="3797" y="88"/>
                    <a:pt x="3796" y="84"/>
                    <a:pt x="3796" y="80"/>
                  </a:cubicBezTo>
                  <a:cubicBezTo>
                    <a:pt x="3796" y="80"/>
                    <a:pt x="3796" y="80"/>
                    <a:pt x="3796" y="80"/>
                  </a:cubicBezTo>
                  <a:cubicBezTo>
                    <a:pt x="3797" y="81"/>
                    <a:pt x="3798" y="83"/>
                    <a:pt x="3798" y="84"/>
                  </a:cubicBezTo>
                  <a:cubicBezTo>
                    <a:pt x="3798" y="88"/>
                    <a:pt x="3797" y="90"/>
                    <a:pt x="3797" y="90"/>
                  </a:cubicBezTo>
                  <a:close/>
                  <a:moveTo>
                    <a:pt x="3799" y="83"/>
                  </a:moveTo>
                  <a:cubicBezTo>
                    <a:pt x="3798" y="81"/>
                    <a:pt x="3797" y="80"/>
                    <a:pt x="3796" y="79"/>
                  </a:cubicBezTo>
                  <a:cubicBezTo>
                    <a:pt x="3797" y="78"/>
                    <a:pt x="3798" y="76"/>
                    <a:pt x="3800" y="75"/>
                  </a:cubicBezTo>
                  <a:cubicBezTo>
                    <a:pt x="3799" y="78"/>
                    <a:pt x="3799" y="81"/>
                    <a:pt x="3799" y="83"/>
                  </a:cubicBezTo>
                  <a:close/>
                  <a:moveTo>
                    <a:pt x="3805" y="104"/>
                  </a:moveTo>
                  <a:cubicBezTo>
                    <a:pt x="3806" y="105"/>
                    <a:pt x="3806" y="107"/>
                    <a:pt x="3806" y="109"/>
                  </a:cubicBezTo>
                  <a:cubicBezTo>
                    <a:pt x="3806" y="111"/>
                    <a:pt x="3805" y="112"/>
                    <a:pt x="3805" y="114"/>
                  </a:cubicBezTo>
                  <a:cubicBezTo>
                    <a:pt x="3805" y="110"/>
                    <a:pt x="3805" y="107"/>
                    <a:pt x="3805" y="104"/>
                  </a:cubicBezTo>
                  <a:close/>
                  <a:moveTo>
                    <a:pt x="3801" y="91"/>
                  </a:move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lose/>
                  <a:moveTo>
                    <a:pt x="3801" y="124"/>
                  </a:moveTo>
                  <a:cubicBezTo>
                    <a:pt x="3802" y="114"/>
                    <a:pt x="3802" y="102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3" y="94"/>
                    <a:pt x="3804" y="98"/>
                    <a:pt x="3805" y="101"/>
                  </a:cubicBezTo>
                  <a:cubicBezTo>
                    <a:pt x="3803" y="120"/>
                    <a:pt x="3803" y="120"/>
                    <a:pt x="3803" y="120"/>
                  </a:cubicBezTo>
                  <a:cubicBezTo>
                    <a:pt x="3802" y="121"/>
                    <a:pt x="3802" y="122"/>
                    <a:pt x="3801" y="124"/>
                  </a:cubicBezTo>
                  <a:close/>
                  <a:moveTo>
                    <a:pt x="3804" y="136"/>
                  </a:moveTo>
                  <a:cubicBezTo>
                    <a:pt x="3804" y="134"/>
                    <a:pt x="3804" y="133"/>
                    <a:pt x="3804" y="131"/>
                  </a:cubicBezTo>
                  <a:cubicBezTo>
                    <a:pt x="3805" y="126"/>
                    <a:pt x="3806" y="121"/>
                    <a:pt x="3807" y="116"/>
                  </a:cubicBezTo>
                  <a:cubicBezTo>
                    <a:pt x="3808" y="118"/>
                    <a:pt x="3808" y="121"/>
                    <a:pt x="3808" y="123"/>
                  </a:cubicBezTo>
                  <a:cubicBezTo>
                    <a:pt x="3808" y="124"/>
                    <a:pt x="3808" y="124"/>
                    <a:pt x="3808" y="124"/>
                  </a:cubicBezTo>
                  <a:cubicBezTo>
                    <a:pt x="3807" y="128"/>
                    <a:pt x="3805" y="132"/>
                    <a:pt x="3804" y="136"/>
                  </a:cubicBezTo>
                  <a:close/>
                  <a:moveTo>
                    <a:pt x="3808" y="141"/>
                  </a:moveTo>
                  <a:cubicBezTo>
                    <a:pt x="3808" y="141"/>
                    <a:pt x="3808" y="141"/>
                    <a:pt x="3808" y="141"/>
                  </a:cubicBezTo>
                  <a:cubicBezTo>
                    <a:pt x="3809" y="139"/>
                    <a:pt x="3809" y="137"/>
                    <a:pt x="3810" y="135"/>
                  </a:cubicBezTo>
                  <a:cubicBezTo>
                    <a:pt x="3810" y="135"/>
                    <a:pt x="3810" y="135"/>
                    <a:pt x="3810" y="135"/>
                  </a:cubicBezTo>
                  <a:cubicBezTo>
                    <a:pt x="3810" y="137"/>
                    <a:pt x="3809" y="139"/>
                    <a:pt x="3808" y="141"/>
                  </a:cubicBezTo>
                  <a:close/>
                  <a:moveTo>
                    <a:pt x="3815" y="119"/>
                  </a:moveTo>
                  <a:cubicBezTo>
                    <a:pt x="3814" y="119"/>
                    <a:pt x="3814" y="118"/>
                    <a:pt x="3814" y="118"/>
                  </a:cubicBezTo>
                  <a:cubicBezTo>
                    <a:pt x="3814" y="116"/>
                    <a:pt x="3815" y="115"/>
                    <a:pt x="3815" y="113"/>
                  </a:cubicBezTo>
                  <a:cubicBezTo>
                    <a:pt x="3815" y="112"/>
                    <a:pt x="3815" y="112"/>
                    <a:pt x="3815" y="111"/>
                  </a:cubicBezTo>
                  <a:cubicBezTo>
                    <a:pt x="3816" y="112"/>
                    <a:pt x="3816" y="113"/>
                    <a:pt x="3816" y="115"/>
                  </a:cubicBezTo>
                  <a:cubicBezTo>
                    <a:pt x="3816" y="116"/>
                    <a:pt x="3815" y="118"/>
                    <a:pt x="3815" y="119"/>
                  </a:cubicBezTo>
                  <a:close/>
                  <a:moveTo>
                    <a:pt x="3822" y="136"/>
                  </a:moveTo>
                  <a:cubicBezTo>
                    <a:pt x="3821" y="135"/>
                    <a:pt x="3821" y="134"/>
                    <a:pt x="3820" y="133"/>
                  </a:cubicBezTo>
                  <a:cubicBezTo>
                    <a:pt x="3820" y="132"/>
                    <a:pt x="3820" y="132"/>
                    <a:pt x="3820" y="131"/>
                  </a:cubicBezTo>
                  <a:cubicBezTo>
                    <a:pt x="3821" y="133"/>
                    <a:pt x="3821" y="134"/>
                    <a:pt x="3822" y="136"/>
                  </a:cubicBezTo>
                  <a:cubicBezTo>
                    <a:pt x="3822" y="136"/>
                    <a:pt x="3822" y="136"/>
                    <a:pt x="3822" y="136"/>
                  </a:cubicBezTo>
                  <a:close/>
                  <a:moveTo>
                    <a:pt x="3836" y="118"/>
                  </a:moveTo>
                  <a:cubicBezTo>
                    <a:pt x="3836" y="117"/>
                    <a:pt x="3836" y="117"/>
                    <a:pt x="3836" y="117"/>
                  </a:cubicBezTo>
                  <a:cubicBezTo>
                    <a:pt x="3836" y="117"/>
                    <a:pt x="3836" y="117"/>
                    <a:pt x="3836" y="117"/>
                  </a:cubicBezTo>
                  <a:cubicBezTo>
                    <a:pt x="3836" y="118"/>
                    <a:pt x="3836" y="118"/>
                    <a:pt x="3836" y="118"/>
                  </a:cubicBezTo>
                  <a:close/>
                  <a:moveTo>
                    <a:pt x="3842" y="105"/>
                  </a:moveTo>
                  <a:cubicBezTo>
                    <a:pt x="3841" y="106"/>
                    <a:pt x="3840" y="107"/>
                    <a:pt x="3840" y="109"/>
                  </a:cubicBezTo>
                  <a:cubicBezTo>
                    <a:pt x="3839" y="107"/>
                    <a:pt x="3839" y="106"/>
                    <a:pt x="3839" y="104"/>
                  </a:cubicBezTo>
                  <a:cubicBezTo>
                    <a:pt x="3840" y="101"/>
                    <a:pt x="3841" y="98"/>
                    <a:pt x="3843" y="94"/>
                  </a:cubicBezTo>
                  <a:cubicBezTo>
                    <a:pt x="3842" y="98"/>
                    <a:pt x="3842" y="101"/>
                    <a:pt x="3842" y="105"/>
                  </a:cubicBezTo>
                  <a:close/>
                  <a:moveTo>
                    <a:pt x="3847" y="138"/>
                  </a:moveTo>
                  <a:cubicBezTo>
                    <a:pt x="3847" y="137"/>
                    <a:pt x="3847" y="136"/>
                    <a:pt x="3846" y="135"/>
                  </a:cubicBezTo>
                  <a:cubicBezTo>
                    <a:pt x="3846" y="133"/>
                    <a:pt x="3846" y="131"/>
                    <a:pt x="3846" y="129"/>
                  </a:cubicBezTo>
                  <a:cubicBezTo>
                    <a:pt x="3847" y="131"/>
                    <a:pt x="3847" y="133"/>
                    <a:pt x="3848" y="134"/>
                  </a:cubicBezTo>
                  <a:cubicBezTo>
                    <a:pt x="3848" y="135"/>
                    <a:pt x="3848" y="137"/>
                    <a:pt x="3847" y="138"/>
                  </a:cubicBezTo>
                  <a:close/>
                  <a:moveTo>
                    <a:pt x="3849" y="123"/>
                  </a:moveTo>
                  <a:cubicBezTo>
                    <a:pt x="3848" y="121"/>
                    <a:pt x="3847" y="118"/>
                    <a:pt x="3847" y="116"/>
                  </a:cubicBezTo>
                  <a:cubicBezTo>
                    <a:pt x="3848" y="112"/>
                    <a:pt x="3849" y="107"/>
                    <a:pt x="3850" y="103"/>
                  </a:cubicBezTo>
                  <a:cubicBezTo>
                    <a:pt x="3850" y="110"/>
                    <a:pt x="3849" y="117"/>
                    <a:pt x="3849" y="123"/>
                  </a:cubicBezTo>
                  <a:close/>
                  <a:moveTo>
                    <a:pt x="3854" y="69"/>
                  </a:moveTo>
                  <a:cubicBezTo>
                    <a:pt x="3856" y="72"/>
                    <a:pt x="3858" y="75"/>
                    <a:pt x="3859" y="79"/>
                  </a:cubicBezTo>
                  <a:cubicBezTo>
                    <a:pt x="3859" y="79"/>
                    <a:pt x="3859" y="79"/>
                    <a:pt x="3859" y="79"/>
                  </a:cubicBezTo>
                  <a:cubicBezTo>
                    <a:pt x="3857" y="76"/>
                    <a:pt x="3856" y="72"/>
                    <a:pt x="3854" y="69"/>
                  </a:cubicBezTo>
                  <a:cubicBezTo>
                    <a:pt x="3854" y="69"/>
                    <a:pt x="3854" y="69"/>
                    <a:pt x="3854" y="69"/>
                  </a:cubicBezTo>
                  <a:close/>
                  <a:moveTo>
                    <a:pt x="3854" y="74"/>
                  </a:moveTo>
                  <a:cubicBezTo>
                    <a:pt x="3855" y="76"/>
                    <a:pt x="3856" y="79"/>
                    <a:pt x="3857" y="81"/>
                  </a:cubicBezTo>
                  <a:cubicBezTo>
                    <a:pt x="3856" y="82"/>
                    <a:pt x="3855" y="83"/>
                    <a:pt x="3854" y="85"/>
                  </a:cubicBezTo>
                  <a:cubicBezTo>
                    <a:pt x="3854" y="81"/>
                    <a:pt x="3854" y="77"/>
                    <a:pt x="3854" y="74"/>
                  </a:cubicBezTo>
                  <a:close/>
                  <a:moveTo>
                    <a:pt x="3855" y="120"/>
                  </a:moveTo>
                  <a:cubicBezTo>
                    <a:pt x="3855" y="115"/>
                    <a:pt x="3855" y="111"/>
                    <a:pt x="3855" y="106"/>
                  </a:cubicBezTo>
                  <a:cubicBezTo>
                    <a:pt x="3856" y="109"/>
                    <a:pt x="3856" y="112"/>
                    <a:pt x="3857" y="114"/>
                  </a:cubicBezTo>
                  <a:cubicBezTo>
                    <a:pt x="3856" y="116"/>
                    <a:pt x="3856" y="118"/>
                    <a:pt x="3855" y="120"/>
                  </a:cubicBezTo>
                  <a:close/>
                  <a:moveTo>
                    <a:pt x="3858" y="109"/>
                  </a:moveTo>
                  <a:cubicBezTo>
                    <a:pt x="3857" y="107"/>
                    <a:pt x="3856" y="104"/>
                    <a:pt x="3855" y="102"/>
                  </a:cubicBezTo>
                  <a:cubicBezTo>
                    <a:pt x="3855" y="99"/>
                    <a:pt x="3855" y="97"/>
                    <a:pt x="3855" y="94"/>
                  </a:cubicBezTo>
                  <a:cubicBezTo>
                    <a:pt x="3856" y="98"/>
                    <a:pt x="3857" y="102"/>
                    <a:pt x="3859" y="107"/>
                  </a:cubicBezTo>
                  <a:cubicBezTo>
                    <a:pt x="3859" y="108"/>
                    <a:pt x="3858" y="108"/>
                    <a:pt x="3858" y="109"/>
                  </a:cubicBezTo>
                  <a:close/>
                  <a:moveTo>
                    <a:pt x="3862" y="96"/>
                  </a:moveTo>
                  <a:cubicBezTo>
                    <a:pt x="3861" y="98"/>
                    <a:pt x="3860" y="101"/>
                    <a:pt x="3860" y="104"/>
                  </a:cubicBezTo>
                  <a:cubicBezTo>
                    <a:pt x="3858" y="100"/>
                    <a:pt x="3856" y="96"/>
                    <a:pt x="3855" y="92"/>
                  </a:cubicBezTo>
                  <a:cubicBezTo>
                    <a:pt x="3855" y="92"/>
                    <a:pt x="3855" y="92"/>
                    <a:pt x="3855" y="92"/>
                  </a:cubicBezTo>
                  <a:cubicBezTo>
                    <a:pt x="3856" y="89"/>
                    <a:pt x="3857" y="86"/>
                    <a:pt x="3859" y="84"/>
                  </a:cubicBezTo>
                  <a:cubicBezTo>
                    <a:pt x="3860" y="87"/>
                    <a:pt x="3861" y="90"/>
                    <a:pt x="3862" y="93"/>
                  </a:cubicBezTo>
                  <a:cubicBezTo>
                    <a:pt x="3862" y="94"/>
                    <a:pt x="3862" y="95"/>
                    <a:pt x="3862" y="96"/>
                  </a:cubicBezTo>
                  <a:close/>
                  <a:moveTo>
                    <a:pt x="3863" y="90"/>
                  </a:moveTo>
                  <a:cubicBezTo>
                    <a:pt x="3862" y="87"/>
                    <a:pt x="3861" y="84"/>
                    <a:pt x="3860" y="82"/>
                  </a:cubicBezTo>
                  <a:cubicBezTo>
                    <a:pt x="3860" y="81"/>
                    <a:pt x="3860" y="81"/>
                    <a:pt x="3860" y="81"/>
                  </a:cubicBezTo>
                  <a:cubicBezTo>
                    <a:pt x="3861" y="83"/>
                    <a:pt x="3862" y="86"/>
                    <a:pt x="3863" y="89"/>
                  </a:cubicBezTo>
                  <a:cubicBezTo>
                    <a:pt x="3863" y="89"/>
                    <a:pt x="3863" y="89"/>
                    <a:pt x="3863" y="90"/>
                  </a:cubicBezTo>
                  <a:close/>
                  <a:moveTo>
                    <a:pt x="3861" y="79"/>
                  </a:moveTo>
                  <a:cubicBezTo>
                    <a:pt x="3862" y="78"/>
                    <a:pt x="3863" y="77"/>
                    <a:pt x="3863" y="76"/>
                  </a:cubicBezTo>
                  <a:cubicBezTo>
                    <a:pt x="3864" y="78"/>
                    <a:pt x="3864" y="79"/>
                    <a:pt x="3865" y="80"/>
                  </a:cubicBezTo>
                  <a:cubicBezTo>
                    <a:pt x="3865" y="82"/>
                    <a:pt x="3864" y="84"/>
                    <a:pt x="3864" y="85"/>
                  </a:cubicBezTo>
                  <a:cubicBezTo>
                    <a:pt x="3863" y="83"/>
                    <a:pt x="3862" y="81"/>
                    <a:pt x="3861" y="79"/>
                  </a:cubicBezTo>
                  <a:close/>
                  <a:moveTo>
                    <a:pt x="3864" y="116"/>
                  </a:moveTo>
                  <a:cubicBezTo>
                    <a:pt x="3864" y="111"/>
                    <a:pt x="3865" y="106"/>
                    <a:pt x="3865" y="102"/>
                  </a:cubicBezTo>
                  <a:cubicBezTo>
                    <a:pt x="3866" y="105"/>
                    <a:pt x="3867" y="108"/>
                    <a:pt x="3868" y="111"/>
                  </a:cubicBezTo>
                  <a:cubicBezTo>
                    <a:pt x="3867" y="113"/>
                    <a:pt x="3866" y="116"/>
                    <a:pt x="3865" y="118"/>
                  </a:cubicBezTo>
                  <a:cubicBezTo>
                    <a:pt x="3865" y="117"/>
                    <a:pt x="3864" y="117"/>
                    <a:pt x="3864" y="116"/>
                  </a:cubicBezTo>
                  <a:close/>
                  <a:moveTo>
                    <a:pt x="3869" y="130"/>
                  </a:moveTo>
                  <a:cubicBezTo>
                    <a:pt x="3868" y="128"/>
                    <a:pt x="3868" y="127"/>
                    <a:pt x="3867" y="125"/>
                  </a:cubicBezTo>
                  <a:cubicBezTo>
                    <a:pt x="3868" y="123"/>
                    <a:pt x="3868" y="122"/>
                    <a:pt x="3869" y="120"/>
                  </a:cubicBezTo>
                  <a:cubicBezTo>
                    <a:pt x="3869" y="122"/>
                    <a:pt x="3869" y="124"/>
                    <a:pt x="3869" y="127"/>
                  </a:cubicBezTo>
                  <a:cubicBezTo>
                    <a:pt x="3869" y="128"/>
                    <a:pt x="3869" y="129"/>
                    <a:pt x="3869" y="130"/>
                  </a:cubicBezTo>
                  <a:close/>
                  <a:moveTo>
                    <a:pt x="3871" y="105"/>
                  </a:moveTo>
                  <a:cubicBezTo>
                    <a:pt x="3869" y="100"/>
                    <a:pt x="3868" y="95"/>
                    <a:pt x="3866" y="91"/>
                  </a:cubicBezTo>
                  <a:cubicBezTo>
                    <a:pt x="3866" y="89"/>
                    <a:pt x="3866" y="87"/>
                    <a:pt x="3866" y="85"/>
                  </a:cubicBezTo>
                  <a:cubicBezTo>
                    <a:pt x="3869" y="91"/>
                    <a:pt x="3870" y="97"/>
                    <a:pt x="3872" y="103"/>
                  </a:cubicBezTo>
                  <a:cubicBezTo>
                    <a:pt x="3871" y="104"/>
                    <a:pt x="3871" y="105"/>
                    <a:pt x="3871" y="105"/>
                  </a:cubicBezTo>
                  <a:close/>
                  <a:moveTo>
                    <a:pt x="3872" y="111"/>
                  </a:moveTo>
                  <a:cubicBezTo>
                    <a:pt x="3872" y="110"/>
                    <a:pt x="3872" y="110"/>
                    <a:pt x="3872" y="109"/>
                  </a:cubicBezTo>
                  <a:cubicBezTo>
                    <a:pt x="3872" y="109"/>
                    <a:pt x="3872" y="108"/>
                    <a:pt x="3873" y="107"/>
                  </a:cubicBezTo>
                  <a:cubicBezTo>
                    <a:pt x="3873" y="108"/>
                    <a:pt x="3873" y="109"/>
                    <a:pt x="3873" y="109"/>
                  </a:cubicBezTo>
                  <a:cubicBezTo>
                    <a:pt x="3873" y="110"/>
                    <a:pt x="3873" y="110"/>
                    <a:pt x="3872" y="111"/>
                  </a:cubicBezTo>
                  <a:close/>
                  <a:moveTo>
                    <a:pt x="3883" y="94"/>
                  </a:moveTo>
                  <a:cubicBezTo>
                    <a:pt x="3883" y="95"/>
                    <a:pt x="3883" y="95"/>
                    <a:pt x="3884" y="96"/>
                  </a:cubicBezTo>
                  <a:cubicBezTo>
                    <a:pt x="3883" y="97"/>
                    <a:pt x="3883" y="97"/>
                    <a:pt x="3883" y="98"/>
                  </a:cubicBezTo>
                  <a:cubicBezTo>
                    <a:pt x="3883" y="96"/>
                    <a:pt x="3883" y="95"/>
                    <a:pt x="3883" y="94"/>
                  </a:cubicBezTo>
                  <a:close/>
                  <a:moveTo>
                    <a:pt x="3885" y="109"/>
                  </a:moveTo>
                  <a:cubicBezTo>
                    <a:pt x="3884" y="106"/>
                    <a:pt x="3884" y="104"/>
                    <a:pt x="3883" y="102"/>
                  </a:cubicBezTo>
                  <a:cubicBezTo>
                    <a:pt x="3883" y="101"/>
                    <a:pt x="3883" y="99"/>
                    <a:pt x="3883" y="98"/>
                  </a:cubicBezTo>
                  <a:cubicBezTo>
                    <a:pt x="3883" y="98"/>
                    <a:pt x="3884" y="97"/>
                    <a:pt x="3884" y="97"/>
                  </a:cubicBezTo>
                  <a:cubicBezTo>
                    <a:pt x="3884" y="98"/>
                    <a:pt x="3885" y="100"/>
                    <a:pt x="3885" y="102"/>
                  </a:cubicBezTo>
                  <a:cubicBezTo>
                    <a:pt x="3885" y="104"/>
                    <a:pt x="3885" y="107"/>
                    <a:pt x="3885" y="109"/>
                  </a:cubicBezTo>
                  <a:close/>
                  <a:moveTo>
                    <a:pt x="3887" y="84"/>
                  </a:moveTo>
                  <a:cubicBezTo>
                    <a:pt x="3886" y="89"/>
                    <a:pt x="3886" y="94"/>
                    <a:pt x="3886" y="98"/>
                  </a:cubicBezTo>
                  <a:cubicBezTo>
                    <a:pt x="3885" y="97"/>
                    <a:pt x="3885" y="96"/>
                    <a:pt x="3884" y="95"/>
                  </a:cubicBezTo>
                  <a:cubicBezTo>
                    <a:pt x="3885" y="94"/>
                    <a:pt x="3886" y="92"/>
                    <a:pt x="3886" y="91"/>
                  </a:cubicBezTo>
                  <a:cubicBezTo>
                    <a:pt x="3886" y="92"/>
                    <a:pt x="3885" y="94"/>
                    <a:pt x="3884" y="95"/>
                  </a:cubicBezTo>
                  <a:cubicBezTo>
                    <a:pt x="3884" y="94"/>
                    <a:pt x="3883" y="93"/>
                    <a:pt x="3883" y="92"/>
                  </a:cubicBezTo>
                  <a:cubicBezTo>
                    <a:pt x="3883" y="90"/>
                    <a:pt x="3883" y="88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2" y="75"/>
                    <a:pt x="3882" y="65"/>
                    <a:pt x="3882" y="56"/>
                  </a:cubicBezTo>
                  <a:cubicBezTo>
                    <a:pt x="3885" y="58"/>
                    <a:pt x="3887" y="61"/>
                    <a:pt x="3890" y="63"/>
                  </a:cubicBezTo>
                  <a:cubicBezTo>
                    <a:pt x="3889" y="69"/>
                    <a:pt x="3888" y="76"/>
                    <a:pt x="3887" y="84"/>
                  </a:cubicBezTo>
                  <a:cubicBezTo>
                    <a:pt x="3887" y="82"/>
                    <a:pt x="3886" y="81"/>
                    <a:pt x="3886" y="79"/>
                  </a:cubicBezTo>
                  <a:cubicBezTo>
                    <a:pt x="3886" y="81"/>
                    <a:pt x="3887" y="83"/>
                    <a:pt x="3887" y="84"/>
                  </a:cubicBezTo>
                  <a:close/>
                  <a:moveTo>
                    <a:pt x="3888" y="139"/>
                  </a:moveTo>
                  <a:cubicBezTo>
                    <a:pt x="3888" y="134"/>
                    <a:pt x="3888" y="128"/>
                    <a:pt x="3888" y="121"/>
                  </a:cubicBezTo>
                  <a:cubicBezTo>
                    <a:pt x="3888" y="125"/>
                    <a:pt x="3888" y="129"/>
                    <a:pt x="3889" y="133"/>
                  </a:cubicBezTo>
                  <a:cubicBezTo>
                    <a:pt x="3889" y="135"/>
                    <a:pt x="3889" y="137"/>
                    <a:pt x="3888" y="139"/>
                  </a:cubicBezTo>
                  <a:close/>
                  <a:moveTo>
                    <a:pt x="3888" y="104"/>
                  </a:moveTo>
                  <a:cubicBezTo>
                    <a:pt x="3888" y="102"/>
                    <a:pt x="3888" y="99"/>
                    <a:pt x="3889" y="96"/>
                  </a:cubicBezTo>
                  <a:cubicBezTo>
                    <a:pt x="3889" y="100"/>
                    <a:pt x="3889" y="104"/>
                    <a:pt x="3889" y="107"/>
                  </a:cubicBezTo>
                  <a:cubicBezTo>
                    <a:pt x="3889" y="106"/>
                    <a:pt x="3889" y="105"/>
                    <a:pt x="3888" y="104"/>
                  </a:cubicBezTo>
                  <a:close/>
                  <a:moveTo>
                    <a:pt x="3900" y="85"/>
                  </a:moveTo>
                  <a:cubicBezTo>
                    <a:pt x="3899" y="90"/>
                    <a:pt x="3898" y="96"/>
                    <a:pt x="3897" y="103"/>
                  </a:cubicBezTo>
                  <a:cubicBezTo>
                    <a:pt x="3897" y="101"/>
                    <a:pt x="3897" y="100"/>
                    <a:pt x="3896" y="99"/>
                  </a:cubicBezTo>
                  <a:cubicBezTo>
                    <a:pt x="3896" y="96"/>
                    <a:pt x="3895" y="93"/>
                    <a:pt x="3894" y="90"/>
                  </a:cubicBezTo>
                  <a:cubicBezTo>
                    <a:pt x="3895" y="93"/>
                    <a:pt x="3895" y="96"/>
                    <a:pt x="3895" y="99"/>
                  </a:cubicBezTo>
                  <a:cubicBezTo>
                    <a:pt x="3895" y="104"/>
                    <a:pt x="3894" y="112"/>
                    <a:pt x="3894" y="120"/>
                  </a:cubicBezTo>
                  <a:cubicBezTo>
                    <a:pt x="3893" y="110"/>
                    <a:pt x="3891" y="100"/>
                    <a:pt x="3889" y="91"/>
                  </a:cubicBezTo>
                  <a:cubicBezTo>
                    <a:pt x="3890" y="81"/>
                    <a:pt x="3891" y="72"/>
                    <a:pt x="3891" y="65"/>
                  </a:cubicBezTo>
                  <a:cubicBezTo>
                    <a:pt x="3895" y="69"/>
                    <a:pt x="3898" y="74"/>
                    <a:pt x="3900" y="79"/>
                  </a:cubicBezTo>
                  <a:cubicBezTo>
                    <a:pt x="3900" y="81"/>
                    <a:pt x="3900" y="83"/>
                    <a:pt x="3900" y="85"/>
                  </a:cubicBezTo>
                  <a:close/>
                  <a:moveTo>
                    <a:pt x="3900" y="75"/>
                  </a:moveTo>
                  <a:cubicBezTo>
                    <a:pt x="3900" y="75"/>
                    <a:pt x="3900" y="75"/>
                    <a:pt x="3900" y="75"/>
                  </a:cubicBezTo>
                  <a:cubicBezTo>
                    <a:pt x="3900" y="73"/>
                    <a:pt x="3900" y="72"/>
                    <a:pt x="3899" y="70"/>
                  </a:cubicBezTo>
                  <a:cubicBezTo>
                    <a:pt x="3899" y="70"/>
                    <a:pt x="3900" y="72"/>
                    <a:pt x="3900" y="75"/>
                  </a:cubicBezTo>
                  <a:cubicBezTo>
                    <a:pt x="3897" y="71"/>
                    <a:pt x="3895" y="67"/>
                    <a:pt x="3891" y="64"/>
                  </a:cubicBezTo>
                  <a:cubicBezTo>
                    <a:pt x="3892" y="60"/>
                    <a:pt x="3892" y="57"/>
                    <a:pt x="3893" y="54"/>
                  </a:cubicBezTo>
                  <a:cubicBezTo>
                    <a:pt x="3896" y="58"/>
                    <a:pt x="3899" y="62"/>
                    <a:pt x="3901" y="65"/>
                  </a:cubicBezTo>
                  <a:cubicBezTo>
                    <a:pt x="3901" y="68"/>
                    <a:pt x="3900" y="71"/>
                    <a:pt x="3900" y="75"/>
                  </a:cubicBezTo>
                  <a:close/>
                  <a:moveTo>
                    <a:pt x="3904" y="117"/>
                  </a:moveTo>
                  <a:cubicBezTo>
                    <a:pt x="3903" y="119"/>
                    <a:pt x="3902" y="122"/>
                    <a:pt x="3902" y="125"/>
                  </a:cubicBezTo>
                  <a:cubicBezTo>
                    <a:pt x="3902" y="124"/>
                    <a:pt x="3902" y="123"/>
                    <a:pt x="3902" y="122"/>
                  </a:cubicBezTo>
                  <a:cubicBezTo>
                    <a:pt x="3902" y="110"/>
                    <a:pt x="3902" y="98"/>
                    <a:pt x="3903" y="87"/>
                  </a:cubicBezTo>
                  <a:cubicBezTo>
                    <a:pt x="3904" y="92"/>
                    <a:pt x="3905" y="98"/>
                    <a:pt x="3906" y="103"/>
                  </a:cubicBezTo>
                  <a:cubicBezTo>
                    <a:pt x="3905" y="108"/>
                    <a:pt x="3904" y="112"/>
                    <a:pt x="3904" y="117"/>
                  </a:cubicBezTo>
                  <a:close/>
                  <a:moveTo>
                    <a:pt x="3907" y="89"/>
                  </a:moveTo>
                  <a:cubicBezTo>
                    <a:pt x="3906" y="86"/>
                    <a:pt x="3904" y="83"/>
                    <a:pt x="3903" y="80"/>
                  </a:cubicBezTo>
                  <a:cubicBezTo>
                    <a:pt x="3903" y="76"/>
                    <a:pt x="3903" y="72"/>
                    <a:pt x="3903" y="68"/>
                  </a:cubicBezTo>
                  <a:cubicBezTo>
                    <a:pt x="3905" y="71"/>
                    <a:pt x="3907" y="74"/>
                    <a:pt x="3909" y="78"/>
                  </a:cubicBezTo>
                  <a:cubicBezTo>
                    <a:pt x="3908" y="81"/>
                    <a:pt x="3908" y="85"/>
                    <a:pt x="3907" y="89"/>
                  </a:cubicBezTo>
                  <a:close/>
                  <a:moveTo>
                    <a:pt x="3912" y="96"/>
                  </a:moveTo>
                  <a:cubicBezTo>
                    <a:pt x="3912" y="97"/>
                    <a:pt x="3911" y="98"/>
                    <a:pt x="3911" y="99"/>
                  </a:cubicBezTo>
                  <a:cubicBezTo>
                    <a:pt x="3910" y="98"/>
                    <a:pt x="3910" y="97"/>
                    <a:pt x="3910" y="96"/>
                  </a:cubicBezTo>
                  <a:cubicBezTo>
                    <a:pt x="3910" y="91"/>
                    <a:pt x="3910" y="86"/>
                    <a:pt x="3910" y="80"/>
                  </a:cubicBezTo>
                  <a:cubicBezTo>
                    <a:pt x="3911" y="83"/>
                    <a:pt x="3912" y="86"/>
                    <a:pt x="3913" y="88"/>
                  </a:cubicBezTo>
                  <a:cubicBezTo>
                    <a:pt x="3913" y="91"/>
                    <a:pt x="3913" y="93"/>
                    <a:pt x="3912" y="96"/>
                  </a:cubicBezTo>
                  <a:close/>
                  <a:moveTo>
                    <a:pt x="3934" y="105"/>
                  </a:moveTo>
                  <a:cubicBezTo>
                    <a:pt x="3933" y="103"/>
                    <a:pt x="3933" y="102"/>
                    <a:pt x="3932" y="101"/>
                  </a:cubicBezTo>
                  <a:cubicBezTo>
                    <a:pt x="3934" y="96"/>
                    <a:pt x="3935" y="92"/>
                    <a:pt x="3936" y="89"/>
                  </a:cubicBezTo>
                  <a:cubicBezTo>
                    <a:pt x="3936" y="89"/>
                    <a:pt x="3937" y="89"/>
                    <a:pt x="3937" y="90"/>
                  </a:cubicBezTo>
                  <a:cubicBezTo>
                    <a:pt x="3936" y="95"/>
                    <a:pt x="3935" y="100"/>
                    <a:pt x="3934" y="105"/>
                  </a:cubicBezTo>
                  <a:close/>
                  <a:moveTo>
                    <a:pt x="3950" y="81"/>
                  </a:moveTo>
                  <a:cubicBezTo>
                    <a:pt x="3950" y="81"/>
                    <a:pt x="3950" y="81"/>
                    <a:pt x="3951" y="81"/>
                  </a:cubicBezTo>
                  <a:cubicBezTo>
                    <a:pt x="3950" y="81"/>
                    <a:pt x="3950" y="81"/>
                    <a:pt x="3950" y="81"/>
                  </a:cubicBezTo>
                  <a:cubicBezTo>
                    <a:pt x="3950" y="81"/>
                    <a:pt x="3950" y="81"/>
                    <a:pt x="3950" y="81"/>
                  </a:cubicBezTo>
                  <a:close/>
                  <a:moveTo>
                    <a:pt x="3950" y="88"/>
                  </a:moveTo>
                  <a:cubicBezTo>
                    <a:pt x="3950" y="89"/>
                    <a:pt x="3950" y="89"/>
                    <a:pt x="3950" y="89"/>
                  </a:cubicBezTo>
                  <a:cubicBezTo>
                    <a:pt x="3950" y="90"/>
                    <a:pt x="3950" y="91"/>
                    <a:pt x="3949" y="91"/>
                  </a:cubicBezTo>
                  <a:cubicBezTo>
                    <a:pt x="3950" y="90"/>
                    <a:pt x="3950" y="89"/>
                    <a:pt x="3950" y="88"/>
                  </a:cubicBezTo>
                  <a:close/>
                  <a:moveTo>
                    <a:pt x="3941" y="122"/>
                  </a:moveTo>
                  <a:cubicBezTo>
                    <a:pt x="3941" y="122"/>
                    <a:pt x="3941" y="123"/>
                    <a:pt x="3941" y="123"/>
                  </a:cubicBezTo>
                  <a:cubicBezTo>
                    <a:pt x="3941" y="123"/>
                    <a:pt x="3941" y="123"/>
                    <a:pt x="3941" y="123"/>
                  </a:cubicBezTo>
                  <a:cubicBezTo>
                    <a:pt x="3941" y="123"/>
                    <a:pt x="3941" y="122"/>
                    <a:pt x="3941" y="122"/>
                  </a:cubicBezTo>
                  <a:cubicBezTo>
                    <a:pt x="3941" y="120"/>
                    <a:pt x="3942" y="118"/>
                    <a:pt x="3942" y="115"/>
                  </a:cubicBezTo>
                  <a:cubicBezTo>
                    <a:pt x="3942" y="115"/>
                    <a:pt x="3942" y="115"/>
                    <a:pt x="3942" y="115"/>
                  </a:cubicBezTo>
                  <a:cubicBezTo>
                    <a:pt x="3942" y="116"/>
                    <a:pt x="3942" y="117"/>
                    <a:pt x="3942" y="118"/>
                  </a:cubicBezTo>
                  <a:cubicBezTo>
                    <a:pt x="3942" y="119"/>
                    <a:pt x="3941" y="121"/>
                    <a:pt x="3941" y="122"/>
                  </a:cubicBezTo>
                  <a:close/>
                  <a:moveTo>
                    <a:pt x="3943" y="70"/>
                  </a:moveTo>
                  <a:cubicBezTo>
                    <a:pt x="3946" y="73"/>
                    <a:pt x="3948" y="76"/>
                    <a:pt x="3949" y="79"/>
                  </a:cubicBezTo>
                  <a:cubicBezTo>
                    <a:pt x="3949" y="81"/>
                    <a:pt x="3949" y="82"/>
                    <a:pt x="3948" y="84"/>
                  </a:cubicBezTo>
                  <a:cubicBezTo>
                    <a:pt x="3948" y="84"/>
                    <a:pt x="3948" y="84"/>
                    <a:pt x="3948" y="84"/>
                  </a:cubicBezTo>
                  <a:cubicBezTo>
                    <a:pt x="3948" y="82"/>
                    <a:pt x="3947" y="81"/>
                    <a:pt x="3946" y="79"/>
                  </a:cubicBezTo>
                  <a:cubicBezTo>
                    <a:pt x="3947" y="81"/>
                    <a:pt x="3947" y="83"/>
                    <a:pt x="3948" y="84"/>
                  </a:cubicBezTo>
                  <a:cubicBezTo>
                    <a:pt x="3946" y="87"/>
                    <a:pt x="3945" y="90"/>
                    <a:pt x="3943" y="93"/>
                  </a:cubicBezTo>
                  <a:cubicBezTo>
                    <a:pt x="3944" y="85"/>
                    <a:pt x="3944" y="77"/>
                    <a:pt x="3943" y="70"/>
                  </a:cubicBezTo>
                  <a:close/>
                  <a:moveTo>
                    <a:pt x="3946" y="98"/>
                  </a:moveTo>
                  <a:cubicBezTo>
                    <a:pt x="3946" y="98"/>
                    <a:pt x="3946" y="97"/>
                    <a:pt x="3945" y="96"/>
                  </a:cubicBezTo>
                  <a:cubicBezTo>
                    <a:pt x="3946" y="97"/>
                    <a:pt x="3946" y="98"/>
                    <a:pt x="3946" y="98"/>
                  </a:cubicBezTo>
                  <a:cubicBezTo>
                    <a:pt x="3946" y="99"/>
                    <a:pt x="3946" y="100"/>
                    <a:pt x="3945" y="100"/>
                  </a:cubicBezTo>
                  <a:cubicBezTo>
                    <a:pt x="3945" y="99"/>
                    <a:pt x="3945" y="98"/>
                    <a:pt x="3944" y="97"/>
                  </a:cubicBezTo>
                  <a:cubicBezTo>
                    <a:pt x="3945" y="95"/>
                    <a:pt x="3946" y="93"/>
                    <a:pt x="3947" y="90"/>
                  </a:cubicBezTo>
                  <a:cubicBezTo>
                    <a:pt x="3947" y="93"/>
                    <a:pt x="3946" y="96"/>
                    <a:pt x="3946" y="98"/>
                  </a:cubicBezTo>
                  <a:close/>
                  <a:moveTo>
                    <a:pt x="3953" y="100"/>
                  </a:moveTo>
                  <a:cubicBezTo>
                    <a:pt x="3951" y="104"/>
                    <a:pt x="3950" y="107"/>
                    <a:pt x="3948" y="110"/>
                  </a:cubicBezTo>
                  <a:cubicBezTo>
                    <a:pt x="3948" y="110"/>
                    <a:pt x="3948" y="109"/>
                    <a:pt x="3948" y="109"/>
                  </a:cubicBezTo>
                  <a:cubicBezTo>
                    <a:pt x="3948" y="106"/>
                    <a:pt x="3949" y="102"/>
                    <a:pt x="3949" y="99"/>
                  </a:cubicBezTo>
                  <a:cubicBezTo>
                    <a:pt x="3950" y="95"/>
                    <a:pt x="3950" y="92"/>
                    <a:pt x="3950" y="90"/>
                  </a:cubicBezTo>
                  <a:cubicBezTo>
                    <a:pt x="3951" y="93"/>
                    <a:pt x="3952" y="96"/>
                    <a:pt x="3953" y="100"/>
                  </a:cubicBezTo>
                  <a:cubicBezTo>
                    <a:pt x="3953" y="100"/>
                    <a:pt x="3953" y="100"/>
                    <a:pt x="3953" y="100"/>
                  </a:cubicBezTo>
                  <a:close/>
                  <a:moveTo>
                    <a:pt x="3953" y="97"/>
                  </a:moveTo>
                  <a:cubicBezTo>
                    <a:pt x="3952" y="95"/>
                    <a:pt x="3951" y="92"/>
                    <a:pt x="3950" y="89"/>
                  </a:cubicBezTo>
                  <a:cubicBezTo>
                    <a:pt x="3950" y="89"/>
                    <a:pt x="3950" y="89"/>
                    <a:pt x="3950" y="88"/>
                  </a:cubicBezTo>
                  <a:cubicBezTo>
                    <a:pt x="3950" y="89"/>
                    <a:pt x="3950" y="89"/>
                    <a:pt x="3950" y="89"/>
                  </a:cubicBezTo>
                  <a:cubicBezTo>
                    <a:pt x="3950" y="89"/>
                    <a:pt x="3950" y="88"/>
                    <a:pt x="3950" y="88"/>
                  </a:cubicBezTo>
                  <a:cubicBezTo>
                    <a:pt x="3950" y="87"/>
                    <a:pt x="3950" y="86"/>
                    <a:pt x="3950" y="85"/>
                  </a:cubicBezTo>
                  <a:cubicBezTo>
                    <a:pt x="3950" y="84"/>
                    <a:pt x="3951" y="83"/>
                    <a:pt x="3951" y="82"/>
                  </a:cubicBezTo>
                  <a:cubicBezTo>
                    <a:pt x="3952" y="84"/>
                    <a:pt x="3953" y="86"/>
                    <a:pt x="3954" y="88"/>
                  </a:cubicBezTo>
                  <a:cubicBezTo>
                    <a:pt x="3954" y="91"/>
                    <a:pt x="3954" y="94"/>
                    <a:pt x="3953" y="97"/>
                  </a:cubicBezTo>
                  <a:close/>
                  <a:moveTo>
                    <a:pt x="3955" y="135"/>
                  </a:moveTo>
                  <a:cubicBezTo>
                    <a:pt x="3955" y="136"/>
                    <a:pt x="3955" y="137"/>
                    <a:pt x="3955" y="138"/>
                  </a:cubicBezTo>
                  <a:cubicBezTo>
                    <a:pt x="3955" y="137"/>
                    <a:pt x="3955" y="136"/>
                    <a:pt x="3955" y="135"/>
                  </a:cubicBezTo>
                  <a:cubicBezTo>
                    <a:pt x="3955" y="135"/>
                    <a:pt x="3955" y="135"/>
                    <a:pt x="3955" y="135"/>
                  </a:cubicBezTo>
                  <a:close/>
                  <a:moveTo>
                    <a:pt x="3955" y="83"/>
                  </a:moveTo>
                  <a:cubicBezTo>
                    <a:pt x="3954" y="82"/>
                    <a:pt x="3953" y="81"/>
                    <a:pt x="3953" y="80"/>
                  </a:cubicBezTo>
                  <a:cubicBezTo>
                    <a:pt x="3954" y="78"/>
                    <a:pt x="3955" y="77"/>
                    <a:pt x="3956" y="75"/>
                  </a:cubicBezTo>
                  <a:cubicBezTo>
                    <a:pt x="3955" y="78"/>
                    <a:pt x="3955" y="81"/>
                    <a:pt x="3955" y="83"/>
                  </a:cubicBezTo>
                  <a:close/>
                  <a:moveTo>
                    <a:pt x="3956" y="74"/>
                  </a:moveTo>
                  <a:cubicBezTo>
                    <a:pt x="3954" y="76"/>
                    <a:pt x="3953" y="77"/>
                    <a:pt x="3952" y="79"/>
                  </a:cubicBezTo>
                  <a:cubicBezTo>
                    <a:pt x="3951" y="78"/>
                    <a:pt x="3951" y="78"/>
                    <a:pt x="3951" y="77"/>
                  </a:cubicBezTo>
                  <a:cubicBezTo>
                    <a:pt x="3951" y="72"/>
                    <a:pt x="3951" y="67"/>
                    <a:pt x="3952" y="65"/>
                  </a:cubicBezTo>
                  <a:cubicBezTo>
                    <a:pt x="3953" y="67"/>
                    <a:pt x="3954" y="70"/>
                    <a:pt x="3956" y="72"/>
                  </a:cubicBezTo>
                  <a:cubicBezTo>
                    <a:pt x="3956" y="73"/>
                    <a:pt x="3956" y="73"/>
                    <a:pt x="3956" y="74"/>
                  </a:cubicBezTo>
                  <a:close/>
                  <a:moveTo>
                    <a:pt x="3958" y="75"/>
                  </a:moveTo>
                  <a:cubicBezTo>
                    <a:pt x="3959" y="78"/>
                    <a:pt x="3961" y="81"/>
                    <a:pt x="3963" y="84"/>
                  </a:cubicBezTo>
                  <a:cubicBezTo>
                    <a:pt x="3961" y="86"/>
                    <a:pt x="3960" y="88"/>
                    <a:pt x="3959" y="90"/>
                  </a:cubicBezTo>
                  <a:cubicBezTo>
                    <a:pt x="3959" y="89"/>
                    <a:pt x="3958" y="89"/>
                    <a:pt x="3958" y="89"/>
                  </a:cubicBezTo>
                  <a:cubicBezTo>
                    <a:pt x="3958" y="84"/>
                    <a:pt x="3958" y="79"/>
                    <a:pt x="3958" y="75"/>
                  </a:cubicBezTo>
                  <a:close/>
                  <a:moveTo>
                    <a:pt x="3960" y="110"/>
                  </a:moveTo>
                  <a:cubicBezTo>
                    <a:pt x="3960" y="107"/>
                    <a:pt x="3959" y="104"/>
                    <a:pt x="3958" y="101"/>
                  </a:cubicBezTo>
                  <a:cubicBezTo>
                    <a:pt x="3958" y="100"/>
                    <a:pt x="3958" y="100"/>
                    <a:pt x="3958" y="100"/>
                  </a:cubicBezTo>
                  <a:cubicBezTo>
                    <a:pt x="3958" y="100"/>
                    <a:pt x="3959" y="99"/>
                    <a:pt x="3959" y="99"/>
                  </a:cubicBezTo>
                  <a:cubicBezTo>
                    <a:pt x="3960" y="101"/>
                    <a:pt x="3960" y="104"/>
                    <a:pt x="3961" y="106"/>
                  </a:cubicBezTo>
                  <a:cubicBezTo>
                    <a:pt x="3961" y="108"/>
                    <a:pt x="3961" y="109"/>
                    <a:pt x="3960" y="110"/>
                  </a:cubicBezTo>
                  <a:close/>
                  <a:moveTo>
                    <a:pt x="3961" y="93"/>
                  </a:moveTo>
                  <a:cubicBezTo>
                    <a:pt x="3962" y="91"/>
                    <a:pt x="3963" y="88"/>
                    <a:pt x="3964" y="86"/>
                  </a:cubicBezTo>
                  <a:cubicBezTo>
                    <a:pt x="3964" y="87"/>
                    <a:pt x="3965" y="87"/>
                    <a:pt x="3965" y="88"/>
                  </a:cubicBezTo>
                  <a:cubicBezTo>
                    <a:pt x="3964" y="91"/>
                    <a:pt x="3964" y="94"/>
                    <a:pt x="3963" y="97"/>
                  </a:cubicBezTo>
                  <a:cubicBezTo>
                    <a:pt x="3962" y="96"/>
                    <a:pt x="3961" y="95"/>
                    <a:pt x="3961" y="93"/>
                  </a:cubicBezTo>
                  <a:close/>
                  <a:moveTo>
                    <a:pt x="3964" y="130"/>
                  </a:moveTo>
                  <a:cubicBezTo>
                    <a:pt x="3964" y="129"/>
                    <a:pt x="3964" y="128"/>
                    <a:pt x="3964" y="126"/>
                  </a:cubicBezTo>
                  <a:cubicBezTo>
                    <a:pt x="3964" y="124"/>
                    <a:pt x="3964" y="121"/>
                    <a:pt x="3965" y="119"/>
                  </a:cubicBezTo>
                  <a:cubicBezTo>
                    <a:pt x="3965" y="120"/>
                    <a:pt x="3966" y="122"/>
                    <a:pt x="3966" y="124"/>
                  </a:cubicBezTo>
                  <a:cubicBezTo>
                    <a:pt x="3965" y="126"/>
                    <a:pt x="3965" y="128"/>
                    <a:pt x="3964" y="130"/>
                  </a:cubicBezTo>
                  <a:close/>
                  <a:moveTo>
                    <a:pt x="3968" y="108"/>
                  </a:moveTo>
                  <a:cubicBezTo>
                    <a:pt x="3968" y="107"/>
                    <a:pt x="3967" y="106"/>
                    <a:pt x="3967" y="105"/>
                  </a:cubicBezTo>
                  <a:cubicBezTo>
                    <a:pt x="3967" y="102"/>
                    <a:pt x="3968" y="99"/>
                    <a:pt x="3969" y="96"/>
                  </a:cubicBezTo>
                  <a:cubicBezTo>
                    <a:pt x="3969" y="96"/>
                    <a:pt x="3969" y="97"/>
                    <a:pt x="3969" y="97"/>
                  </a:cubicBezTo>
                  <a:cubicBezTo>
                    <a:pt x="3969" y="101"/>
                    <a:pt x="3968" y="105"/>
                    <a:pt x="3968" y="108"/>
                  </a:cubicBezTo>
                  <a:close/>
                  <a:moveTo>
                    <a:pt x="3970" y="86"/>
                  </a:moveTo>
                  <a:cubicBezTo>
                    <a:pt x="3970" y="86"/>
                    <a:pt x="3970" y="86"/>
                    <a:pt x="3970" y="86"/>
                  </a:cubicBezTo>
                  <a:cubicBezTo>
                    <a:pt x="3970" y="85"/>
                    <a:pt x="3971" y="84"/>
                    <a:pt x="3971" y="83"/>
                  </a:cubicBezTo>
                  <a:cubicBezTo>
                    <a:pt x="3971" y="84"/>
                    <a:pt x="3970" y="85"/>
                    <a:pt x="3970" y="86"/>
                  </a:cubicBezTo>
                  <a:close/>
                  <a:moveTo>
                    <a:pt x="3978" y="80"/>
                  </a:moveTo>
                  <a:cubicBezTo>
                    <a:pt x="3978" y="77"/>
                    <a:pt x="3978" y="75"/>
                    <a:pt x="3978" y="73"/>
                  </a:cubicBezTo>
                  <a:cubicBezTo>
                    <a:pt x="3979" y="73"/>
                    <a:pt x="3979" y="74"/>
                    <a:pt x="3979" y="74"/>
                  </a:cubicBezTo>
                  <a:cubicBezTo>
                    <a:pt x="3979" y="76"/>
                    <a:pt x="3979" y="78"/>
                    <a:pt x="3978" y="80"/>
                  </a:cubicBezTo>
                  <a:close/>
                  <a:moveTo>
                    <a:pt x="3990" y="93"/>
                  </a:moveTo>
                  <a:cubicBezTo>
                    <a:pt x="3989" y="95"/>
                    <a:pt x="3989" y="96"/>
                    <a:pt x="3988" y="97"/>
                  </a:cubicBezTo>
                  <a:cubicBezTo>
                    <a:pt x="3988" y="94"/>
                    <a:pt x="3988" y="91"/>
                    <a:pt x="3987" y="88"/>
                  </a:cubicBezTo>
                  <a:cubicBezTo>
                    <a:pt x="3988" y="89"/>
                    <a:pt x="3989" y="91"/>
                    <a:pt x="3990" y="93"/>
                  </a:cubicBezTo>
                  <a:close/>
                  <a:moveTo>
                    <a:pt x="3991" y="88"/>
                  </a:moveTo>
                  <a:cubicBezTo>
                    <a:pt x="3990" y="86"/>
                    <a:pt x="3989" y="85"/>
                    <a:pt x="3988" y="84"/>
                  </a:cubicBezTo>
                  <a:cubicBezTo>
                    <a:pt x="3989" y="81"/>
                    <a:pt x="3991" y="78"/>
                    <a:pt x="3993" y="75"/>
                  </a:cubicBezTo>
                  <a:cubicBezTo>
                    <a:pt x="3992" y="79"/>
                    <a:pt x="3991" y="84"/>
                    <a:pt x="3991" y="88"/>
                  </a:cubicBezTo>
                  <a:close/>
                  <a:moveTo>
                    <a:pt x="4000" y="77"/>
                  </a:moveTo>
                  <a:cubicBezTo>
                    <a:pt x="4000" y="77"/>
                    <a:pt x="4000" y="77"/>
                    <a:pt x="4000" y="77"/>
                  </a:cubicBezTo>
                  <a:cubicBezTo>
                    <a:pt x="4000" y="74"/>
                    <a:pt x="3999" y="70"/>
                    <a:pt x="3999" y="66"/>
                  </a:cubicBezTo>
                  <a:cubicBezTo>
                    <a:pt x="3999" y="65"/>
                    <a:pt x="4000" y="64"/>
                    <a:pt x="4000" y="63"/>
                  </a:cubicBezTo>
                  <a:cubicBezTo>
                    <a:pt x="4001" y="67"/>
                    <a:pt x="4001" y="72"/>
                    <a:pt x="4000" y="77"/>
                  </a:cubicBezTo>
                  <a:close/>
                  <a:moveTo>
                    <a:pt x="4003" y="72"/>
                  </a:moveTo>
                  <a:cubicBezTo>
                    <a:pt x="4003" y="67"/>
                    <a:pt x="4002" y="64"/>
                    <a:pt x="4001" y="61"/>
                  </a:cubicBezTo>
                  <a:cubicBezTo>
                    <a:pt x="4002" y="60"/>
                    <a:pt x="4003" y="58"/>
                    <a:pt x="4004" y="57"/>
                  </a:cubicBezTo>
                  <a:cubicBezTo>
                    <a:pt x="4004" y="62"/>
                    <a:pt x="4004" y="67"/>
                    <a:pt x="4003" y="72"/>
                  </a:cubicBezTo>
                  <a:close/>
                  <a:moveTo>
                    <a:pt x="4019" y="89"/>
                  </a:moveTo>
                  <a:cubicBezTo>
                    <a:pt x="4020" y="91"/>
                    <a:pt x="4021" y="92"/>
                    <a:pt x="4021" y="94"/>
                  </a:cubicBezTo>
                  <a:cubicBezTo>
                    <a:pt x="4021" y="95"/>
                    <a:pt x="4020" y="97"/>
                    <a:pt x="4020" y="98"/>
                  </a:cubicBezTo>
                  <a:cubicBezTo>
                    <a:pt x="4019" y="97"/>
                    <a:pt x="4019" y="96"/>
                    <a:pt x="4018" y="95"/>
                  </a:cubicBezTo>
                  <a:cubicBezTo>
                    <a:pt x="4018" y="93"/>
                    <a:pt x="4019" y="91"/>
                    <a:pt x="4019" y="89"/>
                  </a:cubicBezTo>
                  <a:close/>
                  <a:moveTo>
                    <a:pt x="4018" y="101"/>
                  </a:moveTo>
                  <a:cubicBezTo>
                    <a:pt x="4018" y="101"/>
                    <a:pt x="4018" y="100"/>
                    <a:pt x="4018" y="100"/>
                  </a:cubicBezTo>
                  <a:cubicBezTo>
                    <a:pt x="4018" y="100"/>
                    <a:pt x="4018" y="101"/>
                    <a:pt x="4018" y="101"/>
                  </a:cubicBezTo>
                  <a:cubicBezTo>
                    <a:pt x="4018" y="101"/>
                    <a:pt x="4018" y="101"/>
                    <a:pt x="4018" y="101"/>
                  </a:cubicBezTo>
                  <a:close/>
                  <a:moveTo>
                    <a:pt x="4020" y="122"/>
                  </a:moveTo>
                  <a:cubicBezTo>
                    <a:pt x="4020" y="121"/>
                    <a:pt x="4019" y="120"/>
                    <a:pt x="4019" y="119"/>
                  </a:cubicBezTo>
                  <a:cubicBezTo>
                    <a:pt x="4019" y="117"/>
                    <a:pt x="4019" y="115"/>
                    <a:pt x="4019" y="112"/>
                  </a:cubicBezTo>
                  <a:cubicBezTo>
                    <a:pt x="4019" y="110"/>
                    <a:pt x="4019" y="108"/>
                    <a:pt x="4020" y="106"/>
                  </a:cubicBezTo>
                  <a:cubicBezTo>
                    <a:pt x="4020" y="108"/>
                    <a:pt x="4021" y="110"/>
                    <a:pt x="4021" y="112"/>
                  </a:cubicBezTo>
                  <a:cubicBezTo>
                    <a:pt x="4021" y="115"/>
                    <a:pt x="4021" y="119"/>
                    <a:pt x="4020" y="122"/>
                  </a:cubicBezTo>
                  <a:close/>
                  <a:moveTo>
                    <a:pt x="4022" y="103"/>
                  </a:moveTo>
                  <a:cubicBezTo>
                    <a:pt x="4022" y="102"/>
                    <a:pt x="4021" y="101"/>
                    <a:pt x="4021" y="100"/>
                  </a:cubicBezTo>
                  <a:cubicBezTo>
                    <a:pt x="4021" y="99"/>
                    <a:pt x="4022" y="97"/>
                    <a:pt x="4022" y="96"/>
                  </a:cubicBezTo>
                  <a:cubicBezTo>
                    <a:pt x="4022" y="97"/>
                    <a:pt x="4023" y="97"/>
                    <a:pt x="4023" y="98"/>
                  </a:cubicBezTo>
                  <a:cubicBezTo>
                    <a:pt x="4023" y="100"/>
                    <a:pt x="4022" y="101"/>
                    <a:pt x="4022" y="103"/>
                  </a:cubicBezTo>
                  <a:close/>
                  <a:moveTo>
                    <a:pt x="4023" y="96"/>
                  </a:moveTo>
                  <a:cubicBezTo>
                    <a:pt x="4023" y="95"/>
                    <a:pt x="4023" y="95"/>
                    <a:pt x="4022" y="95"/>
                  </a:cubicBezTo>
                  <a:cubicBezTo>
                    <a:pt x="4023" y="93"/>
                    <a:pt x="4023" y="92"/>
                    <a:pt x="4024" y="91"/>
                  </a:cubicBezTo>
                  <a:cubicBezTo>
                    <a:pt x="4023" y="93"/>
                    <a:pt x="4023" y="94"/>
                    <a:pt x="4023" y="96"/>
                  </a:cubicBezTo>
                  <a:close/>
                  <a:moveTo>
                    <a:pt x="4029" y="95"/>
                  </a:moveTo>
                  <a:cubicBezTo>
                    <a:pt x="4029" y="92"/>
                    <a:pt x="4030" y="89"/>
                    <a:pt x="4030" y="86"/>
                  </a:cubicBezTo>
                  <a:cubicBezTo>
                    <a:pt x="4030" y="86"/>
                    <a:pt x="4031" y="87"/>
                    <a:pt x="4031" y="88"/>
                  </a:cubicBezTo>
                  <a:cubicBezTo>
                    <a:pt x="4031" y="90"/>
                    <a:pt x="4030" y="92"/>
                    <a:pt x="4029" y="95"/>
                  </a:cubicBezTo>
                  <a:close/>
                  <a:moveTo>
                    <a:pt x="4040" y="99"/>
                  </a:moveTo>
                  <a:cubicBezTo>
                    <a:pt x="4040" y="99"/>
                    <a:pt x="4039" y="98"/>
                    <a:pt x="4039" y="97"/>
                  </a:cubicBezTo>
                  <a:cubicBezTo>
                    <a:pt x="4039" y="93"/>
                    <a:pt x="4039" y="89"/>
                    <a:pt x="4039" y="84"/>
                  </a:cubicBezTo>
                  <a:cubicBezTo>
                    <a:pt x="4040" y="80"/>
                    <a:pt x="4043" y="76"/>
                    <a:pt x="4045" y="72"/>
                  </a:cubicBezTo>
                  <a:cubicBezTo>
                    <a:pt x="4046" y="74"/>
                    <a:pt x="4046" y="78"/>
                    <a:pt x="4047" y="82"/>
                  </a:cubicBezTo>
                  <a:cubicBezTo>
                    <a:pt x="4044" y="88"/>
                    <a:pt x="4042" y="93"/>
                    <a:pt x="4040" y="99"/>
                  </a:cubicBezTo>
                  <a:close/>
                  <a:moveTo>
                    <a:pt x="4048" y="75"/>
                  </a:moveTo>
                  <a:cubicBezTo>
                    <a:pt x="4048" y="73"/>
                    <a:pt x="4047" y="71"/>
                    <a:pt x="4047" y="69"/>
                  </a:cubicBezTo>
                  <a:cubicBezTo>
                    <a:pt x="4048" y="68"/>
                    <a:pt x="4048" y="67"/>
                    <a:pt x="4049" y="66"/>
                  </a:cubicBezTo>
                  <a:cubicBezTo>
                    <a:pt x="4049" y="69"/>
                    <a:pt x="4048" y="72"/>
                    <a:pt x="4048" y="75"/>
                  </a:cubicBezTo>
                  <a:close/>
                  <a:moveTo>
                    <a:pt x="4056" y="72"/>
                  </a:moveTo>
                  <a:cubicBezTo>
                    <a:pt x="4056" y="71"/>
                    <a:pt x="4056" y="70"/>
                    <a:pt x="4056" y="70"/>
                  </a:cubicBezTo>
                  <a:cubicBezTo>
                    <a:pt x="4056" y="69"/>
                    <a:pt x="4056" y="69"/>
                    <a:pt x="4056" y="69"/>
                  </a:cubicBezTo>
                  <a:cubicBezTo>
                    <a:pt x="4056" y="71"/>
                    <a:pt x="4056" y="72"/>
                    <a:pt x="4056" y="72"/>
                  </a:cubicBezTo>
                  <a:close/>
                  <a:moveTo>
                    <a:pt x="4056" y="67"/>
                  </a:moveTo>
                  <a:cubicBezTo>
                    <a:pt x="4056" y="67"/>
                    <a:pt x="4056" y="68"/>
                    <a:pt x="4056" y="68"/>
                  </a:cubicBezTo>
                  <a:cubicBezTo>
                    <a:pt x="4056" y="65"/>
                    <a:pt x="4055" y="61"/>
                    <a:pt x="4055" y="58"/>
                  </a:cubicBezTo>
                  <a:cubicBezTo>
                    <a:pt x="4055" y="57"/>
                    <a:pt x="4056" y="56"/>
                    <a:pt x="4057" y="56"/>
                  </a:cubicBezTo>
                  <a:cubicBezTo>
                    <a:pt x="4056" y="60"/>
                    <a:pt x="4056" y="64"/>
                    <a:pt x="4056" y="67"/>
                  </a:cubicBezTo>
                  <a:close/>
                  <a:moveTo>
                    <a:pt x="4064" y="123"/>
                  </a:moveTo>
                  <a:cubicBezTo>
                    <a:pt x="4063" y="124"/>
                    <a:pt x="4062" y="126"/>
                    <a:pt x="4062" y="127"/>
                  </a:cubicBezTo>
                  <a:cubicBezTo>
                    <a:pt x="4062" y="124"/>
                    <a:pt x="4062" y="122"/>
                    <a:pt x="4061" y="119"/>
                  </a:cubicBezTo>
                  <a:cubicBezTo>
                    <a:pt x="4063" y="116"/>
                    <a:pt x="4064" y="112"/>
                    <a:pt x="4065" y="109"/>
                  </a:cubicBezTo>
                  <a:cubicBezTo>
                    <a:pt x="4065" y="111"/>
                    <a:pt x="4065" y="112"/>
                    <a:pt x="4065" y="114"/>
                  </a:cubicBezTo>
                  <a:cubicBezTo>
                    <a:pt x="4065" y="117"/>
                    <a:pt x="4064" y="120"/>
                    <a:pt x="4064" y="123"/>
                  </a:cubicBezTo>
                  <a:close/>
                  <a:moveTo>
                    <a:pt x="4066" y="110"/>
                  </a:moveTo>
                  <a:cubicBezTo>
                    <a:pt x="4066" y="111"/>
                    <a:pt x="4066" y="112"/>
                    <a:pt x="4065" y="112"/>
                  </a:cubicBezTo>
                  <a:cubicBezTo>
                    <a:pt x="4065" y="111"/>
                    <a:pt x="4065" y="110"/>
                    <a:pt x="4065" y="109"/>
                  </a:cubicBezTo>
                  <a:cubicBezTo>
                    <a:pt x="4065" y="107"/>
                    <a:pt x="4066" y="105"/>
                    <a:pt x="4066" y="102"/>
                  </a:cubicBezTo>
                  <a:cubicBezTo>
                    <a:pt x="4066" y="105"/>
                    <a:pt x="4066" y="108"/>
                    <a:pt x="4066" y="110"/>
                  </a:cubicBezTo>
                  <a:close/>
                  <a:moveTo>
                    <a:pt x="4068" y="83"/>
                  </a:moveTo>
                  <a:cubicBezTo>
                    <a:pt x="4068" y="83"/>
                    <a:pt x="4068" y="84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6" y="87"/>
                    <a:pt x="4065" y="89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2"/>
                    <a:pt x="4063" y="94"/>
                    <a:pt x="4062" y="96"/>
                  </a:cubicBezTo>
                  <a:cubicBezTo>
                    <a:pt x="4062" y="90"/>
                    <a:pt x="4063" y="85"/>
                    <a:pt x="4065" y="79"/>
                  </a:cubicBezTo>
                  <a:cubicBezTo>
                    <a:pt x="4063" y="85"/>
                    <a:pt x="4062" y="90"/>
                    <a:pt x="4060" y="95"/>
                  </a:cubicBezTo>
                  <a:cubicBezTo>
                    <a:pt x="4060" y="85"/>
                    <a:pt x="4061" y="74"/>
                    <a:pt x="4061" y="63"/>
                  </a:cubicBezTo>
                  <a:cubicBezTo>
                    <a:pt x="4064" y="60"/>
                    <a:pt x="4067" y="58"/>
                    <a:pt x="4070" y="55"/>
                  </a:cubicBezTo>
                  <a:cubicBezTo>
                    <a:pt x="4070" y="62"/>
                    <a:pt x="4069" y="72"/>
                    <a:pt x="4068" y="83"/>
                  </a:cubicBezTo>
                  <a:close/>
                  <a:moveTo>
                    <a:pt x="4074" y="105"/>
                  </a:moveTo>
                  <a:cubicBezTo>
                    <a:pt x="4074" y="102"/>
                    <a:pt x="4074" y="99"/>
                    <a:pt x="4074" y="96"/>
                  </a:cubicBezTo>
                  <a:cubicBezTo>
                    <a:pt x="4074" y="97"/>
                    <a:pt x="4075" y="99"/>
                    <a:pt x="4075" y="100"/>
                  </a:cubicBezTo>
                  <a:cubicBezTo>
                    <a:pt x="4075" y="102"/>
                    <a:pt x="4075" y="103"/>
                    <a:pt x="4074" y="105"/>
                  </a:cubicBezTo>
                  <a:cubicBezTo>
                    <a:pt x="4074" y="105"/>
                    <a:pt x="4074" y="105"/>
                    <a:pt x="4074" y="105"/>
                  </a:cubicBezTo>
                  <a:close/>
                  <a:moveTo>
                    <a:pt x="4075" y="130"/>
                  </a:moveTo>
                  <a:cubicBezTo>
                    <a:pt x="4075" y="130"/>
                    <a:pt x="4075" y="130"/>
                    <a:pt x="4075" y="130"/>
                  </a:cubicBezTo>
                  <a:cubicBezTo>
                    <a:pt x="4075" y="129"/>
                    <a:pt x="4075" y="128"/>
                    <a:pt x="4075" y="127"/>
                  </a:cubicBezTo>
                  <a:cubicBezTo>
                    <a:pt x="4075" y="128"/>
                    <a:pt x="4075" y="128"/>
                    <a:pt x="4076" y="129"/>
                  </a:cubicBezTo>
                  <a:cubicBezTo>
                    <a:pt x="4075" y="129"/>
                    <a:pt x="4075" y="130"/>
                    <a:pt x="4075" y="130"/>
                  </a:cubicBezTo>
                  <a:close/>
                  <a:moveTo>
                    <a:pt x="4082" y="74"/>
                  </a:moveTo>
                  <a:cubicBezTo>
                    <a:pt x="4082" y="73"/>
                    <a:pt x="4082" y="71"/>
                    <a:pt x="4082" y="70"/>
                  </a:cubicBezTo>
                  <a:cubicBezTo>
                    <a:pt x="4082" y="70"/>
                    <a:pt x="4083" y="71"/>
                    <a:pt x="4083" y="72"/>
                  </a:cubicBezTo>
                  <a:cubicBezTo>
                    <a:pt x="4083" y="72"/>
                    <a:pt x="4083" y="73"/>
                    <a:pt x="4082" y="74"/>
                  </a:cubicBezTo>
                  <a:close/>
                  <a:moveTo>
                    <a:pt x="4086" y="139"/>
                  </a:moveTo>
                  <a:cubicBezTo>
                    <a:pt x="4086" y="140"/>
                    <a:pt x="4086" y="141"/>
                    <a:pt x="4086" y="142"/>
                  </a:cubicBezTo>
                  <a:cubicBezTo>
                    <a:pt x="4086" y="142"/>
                    <a:pt x="4086" y="141"/>
                    <a:pt x="4086" y="139"/>
                  </a:cubicBezTo>
                  <a:cubicBezTo>
                    <a:pt x="4086" y="138"/>
                    <a:pt x="4086" y="137"/>
                    <a:pt x="4086" y="136"/>
                  </a:cubicBezTo>
                  <a:cubicBezTo>
                    <a:pt x="4086" y="137"/>
                    <a:pt x="4086" y="137"/>
                    <a:pt x="4086" y="137"/>
                  </a:cubicBezTo>
                  <a:cubicBezTo>
                    <a:pt x="4086" y="138"/>
                    <a:pt x="4086" y="139"/>
                    <a:pt x="4086" y="139"/>
                  </a:cubicBezTo>
                  <a:close/>
                  <a:moveTo>
                    <a:pt x="4088" y="122"/>
                  </a:moveTo>
                  <a:cubicBezTo>
                    <a:pt x="4088" y="122"/>
                    <a:pt x="4088" y="122"/>
                    <a:pt x="4087" y="122"/>
                  </a:cubicBezTo>
                  <a:cubicBezTo>
                    <a:pt x="4088" y="121"/>
                    <a:pt x="4088" y="121"/>
                    <a:pt x="4088" y="121"/>
                  </a:cubicBezTo>
                  <a:cubicBezTo>
                    <a:pt x="4088" y="121"/>
                    <a:pt x="4088" y="122"/>
                    <a:pt x="4088" y="122"/>
                  </a:cubicBezTo>
                  <a:close/>
                  <a:moveTo>
                    <a:pt x="4089" y="110"/>
                  </a:moveTo>
                  <a:cubicBezTo>
                    <a:pt x="4088" y="112"/>
                    <a:pt x="4087" y="114"/>
                    <a:pt x="4086" y="116"/>
                  </a:cubicBezTo>
                  <a:cubicBezTo>
                    <a:pt x="4086" y="116"/>
                    <a:pt x="4086" y="117"/>
                    <a:pt x="4086" y="117"/>
                  </a:cubicBezTo>
                  <a:cubicBezTo>
                    <a:pt x="4086" y="113"/>
                    <a:pt x="4085" y="108"/>
                    <a:pt x="4085" y="104"/>
                  </a:cubicBezTo>
                  <a:cubicBezTo>
                    <a:pt x="4086" y="101"/>
                    <a:pt x="4086" y="98"/>
                    <a:pt x="4087" y="96"/>
                  </a:cubicBezTo>
                  <a:cubicBezTo>
                    <a:pt x="4088" y="95"/>
                    <a:pt x="4088" y="95"/>
                    <a:pt x="4088" y="95"/>
                  </a:cubicBezTo>
                  <a:cubicBezTo>
                    <a:pt x="4088" y="98"/>
                    <a:pt x="4089" y="101"/>
                    <a:pt x="4089" y="104"/>
                  </a:cubicBezTo>
                  <a:cubicBezTo>
                    <a:pt x="4089" y="106"/>
                    <a:pt x="4089" y="108"/>
                    <a:pt x="4089" y="110"/>
                  </a:cubicBezTo>
                  <a:close/>
                  <a:moveTo>
                    <a:pt x="4090" y="99"/>
                  </a:moveTo>
                  <a:cubicBezTo>
                    <a:pt x="4089" y="97"/>
                    <a:pt x="4089" y="96"/>
                    <a:pt x="4088" y="94"/>
                  </a:cubicBezTo>
                  <a:cubicBezTo>
                    <a:pt x="4089" y="93"/>
                    <a:pt x="4090" y="92"/>
                    <a:pt x="4090" y="91"/>
                  </a:cubicBezTo>
                  <a:cubicBezTo>
                    <a:pt x="4090" y="94"/>
                    <a:pt x="4090" y="96"/>
                    <a:pt x="4090" y="99"/>
                  </a:cubicBezTo>
                  <a:close/>
                  <a:moveTo>
                    <a:pt x="4084" y="91"/>
                  </a:moveTo>
                  <a:cubicBezTo>
                    <a:pt x="4084" y="89"/>
                    <a:pt x="4084" y="88"/>
                    <a:pt x="4083" y="87"/>
                  </a:cubicBezTo>
                  <a:cubicBezTo>
                    <a:pt x="4085" y="83"/>
                    <a:pt x="4086" y="80"/>
                    <a:pt x="4087" y="76"/>
                  </a:cubicBezTo>
                  <a:cubicBezTo>
                    <a:pt x="4088" y="78"/>
                    <a:pt x="4090" y="80"/>
                    <a:pt x="4091" y="82"/>
                  </a:cubicBezTo>
                  <a:cubicBezTo>
                    <a:pt x="4088" y="85"/>
                    <a:pt x="4086" y="88"/>
                    <a:pt x="4084" y="91"/>
                  </a:cubicBezTo>
                  <a:close/>
                  <a:moveTo>
                    <a:pt x="4091" y="79"/>
                  </a:moveTo>
                  <a:cubicBezTo>
                    <a:pt x="4090" y="77"/>
                    <a:pt x="4089" y="76"/>
                    <a:pt x="4088" y="75"/>
                  </a:cubicBezTo>
                  <a:cubicBezTo>
                    <a:pt x="4089" y="72"/>
                    <a:pt x="4091" y="68"/>
                    <a:pt x="4092" y="65"/>
                  </a:cubicBezTo>
                  <a:cubicBezTo>
                    <a:pt x="4092" y="68"/>
                    <a:pt x="4092" y="73"/>
                    <a:pt x="4091" y="79"/>
                  </a:cubicBezTo>
                  <a:close/>
                  <a:moveTo>
                    <a:pt x="4109" y="54"/>
                  </a:moveTo>
                  <a:cubicBezTo>
                    <a:pt x="4109" y="56"/>
                    <a:pt x="4108" y="58"/>
                    <a:pt x="4108" y="61"/>
                  </a:cubicBezTo>
                  <a:cubicBezTo>
                    <a:pt x="4104" y="65"/>
                    <a:pt x="4100" y="69"/>
                    <a:pt x="4097" y="74"/>
                  </a:cubicBezTo>
                  <a:cubicBezTo>
                    <a:pt x="4100" y="67"/>
                    <a:pt x="4104" y="60"/>
                    <a:pt x="4109" y="54"/>
                  </a:cubicBezTo>
                  <a:close/>
                  <a:moveTo>
                    <a:pt x="4095" y="89"/>
                  </a:moveTo>
                  <a:cubicBezTo>
                    <a:pt x="4095" y="90"/>
                    <a:pt x="4096" y="91"/>
                    <a:pt x="4096" y="92"/>
                  </a:cubicBezTo>
                  <a:cubicBezTo>
                    <a:pt x="4096" y="92"/>
                    <a:pt x="4095" y="93"/>
                    <a:pt x="4095" y="94"/>
                  </a:cubicBezTo>
                  <a:cubicBezTo>
                    <a:pt x="4095" y="92"/>
                    <a:pt x="4095" y="91"/>
                    <a:pt x="4095" y="89"/>
                  </a:cubicBezTo>
                  <a:close/>
                  <a:moveTo>
                    <a:pt x="4097" y="127"/>
                  </a:moveTo>
                  <a:cubicBezTo>
                    <a:pt x="4097" y="125"/>
                    <a:pt x="4097" y="124"/>
                    <a:pt x="4096" y="122"/>
                  </a:cubicBezTo>
                  <a:cubicBezTo>
                    <a:pt x="4096" y="117"/>
                    <a:pt x="4096" y="111"/>
                    <a:pt x="4096" y="105"/>
                  </a:cubicBezTo>
                  <a:cubicBezTo>
                    <a:pt x="4097" y="104"/>
                    <a:pt x="4097" y="102"/>
                    <a:pt x="4098" y="101"/>
                  </a:cubicBezTo>
                  <a:cubicBezTo>
                    <a:pt x="4097" y="102"/>
                    <a:pt x="4097" y="103"/>
                    <a:pt x="4096" y="105"/>
                  </a:cubicBezTo>
                  <a:cubicBezTo>
                    <a:pt x="4095" y="102"/>
                    <a:pt x="4095" y="99"/>
                    <a:pt x="4095" y="96"/>
                  </a:cubicBezTo>
                  <a:cubicBezTo>
                    <a:pt x="4096" y="95"/>
                    <a:pt x="4096" y="94"/>
                    <a:pt x="4096" y="93"/>
                  </a:cubicBezTo>
                  <a:cubicBezTo>
                    <a:pt x="4097" y="95"/>
                    <a:pt x="4098" y="97"/>
                    <a:pt x="4099" y="100"/>
                  </a:cubicBezTo>
                  <a:cubicBezTo>
                    <a:pt x="4099" y="100"/>
                    <a:pt x="4099" y="100"/>
                    <a:pt x="4098" y="101"/>
                  </a:cubicBezTo>
                  <a:cubicBezTo>
                    <a:pt x="4099" y="100"/>
                    <a:pt x="4099" y="100"/>
                    <a:pt x="4099" y="100"/>
                  </a:cubicBezTo>
                  <a:cubicBezTo>
                    <a:pt x="4100" y="101"/>
                    <a:pt x="4100" y="102"/>
                    <a:pt x="4101" y="103"/>
                  </a:cubicBezTo>
                  <a:cubicBezTo>
                    <a:pt x="4099" y="112"/>
                    <a:pt x="4098" y="120"/>
                    <a:pt x="4097" y="127"/>
                  </a:cubicBezTo>
                  <a:close/>
                  <a:moveTo>
                    <a:pt x="4098" y="87"/>
                  </a:moveTo>
                  <a:cubicBezTo>
                    <a:pt x="4099" y="86"/>
                    <a:pt x="4100" y="84"/>
                    <a:pt x="4101" y="83"/>
                  </a:cubicBezTo>
                  <a:cubicBezTo>
                    <a:pt x="4100" y="84"/>
                    <a:pt x="4099" y="86"/>
                    <a:pt x="4098" y="87"/>
                  </a:cubicBezTo>
                  <a:cubicBezTo>
                    <a:pt x="4097" y="86"/>
                    <a:pt x="4096" y="85"/>
                    <a:pt x="4095" y="83"/>
                  </a:cubicBezTo>
                  <a:cubicBezTo>
                    <a:pt x="4099" y="78"/>
                    <a:pt x="4103" y="72"/>
                    <a:pt x="4106" y="67"/>
                  </a:cubicBezTo>
                  <a:cubicBezTo>
                    <a:pt x="4106" y="72"/>
                    <a:pt x="4105" y="76"/>
                    <a:pt x="4104" y="81"/>
                  </a:cubicBezTo>
                  <a:cubicBezTo>
                    <a:pt x="4104" y="80"/>
                    <a:pt x="4103" y="79"/>
                    <a:pt x="4103" y="79"/>
                  </a:cubicBezTo>
                  <a:cubicBezTo>
                    <a:pt x="4103" y="78"/>
                    <a:pt x="4104" y="77"/>
                    <a:pt x="4105" y="75"/>
                  </a:cubicBezTo>
                  <a:cubicBezTo>
                    <a:pt x="4104" y="76"/>
                    <a:pt x="4103" y="77"/>
                    <a:pt x="4103" y="79"/>
                  </a:cubicBezTo>
                  <a:cubicBezTo>
                    <a:pt x="4102" y="78"/>
                    <a:pt x="4102" y="77"/>
                    <a:pt x="4101" y="77"/>
                  </a:cubicBezTo>
                  <a:cubicBezTo>
                    <a:pt x="4101" y="78"/>
                    <a:pt x="4102" y="79"/>
                    <a:pt x="4102" y="79"/>
                  </a:cubicBezTo>
                  <a:cubicBezTo>
                    <a:pt x="4102" y="80"/>
                    <a:pt x="4101" y="81"/>
                    <a:pt x="4101" y="83"/>
                  </a:cubicBezTo>
                  <a:cubicBezTo>
                    <a:pt x="4101" y="82"/>
                    <a:pt x="4102" y="81"/>
                    <a:pt x="4102" y="80"/>
                  </a:cubicBezTo>
                  <a:cubicBezTo>
                    <a:pt x="4103" y="81"/>
                    <a:pt x="4103" y="82"/>
                    <a:pt x="4104" y="84"/>
                  </a:cubicBezTo>
                  <a:cubicBezTo>
                    <a:pt x="4103" y="87"/>
                    <a:pt x="4103" y="90"/>
                    <a:pt x="4102" y="93"/>
                  </a:cubicBezTo>
                  <a:cubicBezTo>
                    <a:pt x="4101" y="91"/>
                    <a:pt x="4100" y="89"/>
                    <a:pt x="4098" y="87"/>
                  </a:cubicBezTo>
                  <a:close/>
                  <a:moveTo>
                    <a:pt x="4103" y="144"/>
                  </a:moveTo>
                  <a:cubicBezTo>
                    <a:pt x="4103" y="144"/>
                    <a:pt x="4103" y="143"/>
                    <a:pt x="4103" y="143"/>
                  </a:cubicBezTo>
                  <a:cubicBezTo>
                    <a:pt x="4103" y="140"/>
                    <a:pt x="4103" y="136"/>
                    <a:pt x="4103" y="131"/>
                  </a:cubicBezTo>
                  <a:cubicBezTo>
                    <a:pt x="4104" y="128"/>
                    <a:pt x="4105" y="126"/>
                    <a:pt x="4105" y="125"/>
                  </a:cubicBezTo>
                  <a:cubicBezTo>
                    <a:pt x="4105" y="125"/>
                    <a:pt x="4105" y="124"/>
                    <a:pt x="4105" y="124"/>
                  </a:cubicBezTo>
                  <a:cubicBezTo>
                    <a:pt x="4104" y="124"/>
                    <a:pt x="4104" y="124"/>
                    <a:pt x="4104" y="124"/>
                  </a:cubicBezTo>
                  <a:cubicBezTo>
                    <a:pt x="4104" y="122"/>
                    <a:pt x="4104" y="120"/>
                    <a:pt x="4104" y="118"/>
                  </a:cubicBezTo>
                  <a:cubicBezTo>
                    <a:pt x="4105" y="121"/>
                    <a:pt x="4106" y="125"/>
                    <a:pt x="4106" y="128"/>
                  </a:cubicBezTo>
                  <a:cubicBezTo>
                    <a:pt x="4105" y="136"/>
                    <a:pt x="4104" y="141"/>
                    <a:pt x="4103" y="144"/>
                  </a:cubicBezTo>
                  <a:close/>
                  <a:moveTo>
                    <a:pt x="4110" y="107"/>
                  </a:moveTo>
                  <a:cubicBezTo>
                    <a:pt x="4109" y="105"/>
                    <a:pt x="4108" y="102"/>
                    <a:pt x="4106" y="100"/>
                  </a:cubicBezTo>
                  <a:cubicBezTo>
                    <a:pt x="4107" y="97"/>
                    <a:pt x="4107" y="95"/>
                    <a:pt x="4107" y="93"/>
                  </a:cubicBezTo>
                  <a:cubicBezTo>
                    <a:pt x="4108" y="96"/>
                    <a:pt x="4110" y="99"/>
                    <a:pt x="4111" y="102"/>
                  </a:cubicBezTo>
                  <a:cubicBezTo>
                    <a:pt x="4111" y="104"/>
                    <a:pt x="4110" y="105"/>
                    <a:pt x="4110" y="107"/>
                  </a:cubicBezTo>
                  <a:close/>
                  <a:moveTo>
                    <a:pt x="4111" y="159"/>
                  </a:moveTo>
                  <a:cubicBezTo>
                    <a:pt x="4111" y="159"/>
                    <a:pt x="4111" y="159"/>
                    <a:pt x="4111" y="159"/>
                  </a:cubicBezTo>
                  <a:cubicBezTo>
                    <a:pt x="4111" y="159"/>
                    <a:pt x="4111" y="159"/>
                    <a:pt x="4112" y="159"/>
                  </a:cubicBezTo>
                  <a:cubicBezTo>
                    <a:pt x="4111" y="159"/>
                    <a:pt x="4111" y="159"/>
                    <a:pt x="4111" y="159"/>
                  </a:cubicBezTo>
                  <a:close/>
                  <a:moveTo>
                    <a:pt x="4112" y="96"/>
                  </a:moveTo>
                  <a:cubicBezTo>
                    <a:pt x="4111" y="93"/>
                    <a:pt x="4109" y="91"/>
                    <a:pt x="4108" y="88"/>
                  </a:cubicBezTo>
                  <a:cubicBezTo>
                    <a:pt x="4110" y="85"/>
                    <a:pt x="4112" y="82"/>
                    <a:pt x="4114" y="79"/>
                  </a:cubicBezTo>
                  <a:cubicBezTo>
                    <a:pt x="4114" y="84"/>
                    <a:pt x="4113" y="90"/>
                    <a:pt x="4112" y="96"/>
                  </a:cubicBezTo>
                  <a:close/>
                  <a:moveTo>
                    <a:pt x="4115" y="75"/>
                  </a:moveTo>
                  <a:cubicBezTo>
                    <a:pt x="4113" y="78"/>
                    <a:pt x="4110" y="82"/>
                    <a:pt x="4108" y="86"/>
                  </a:cubicBezTo>
                  <a:cubicBezTo>
                    <a:pt x="4109" y="77"/>
                    <a:pt x="4110" y="68"/>
                    <a:pt x="4111" y="61"/>
                  </a:cubicBezTo>
                  <a:cubicBezTo>
                    <a:pt x="4113" y="58"/>
                    <a:pt x="4115" y="55"/>
                    <a:pt x="4117" y="53"/>
                  </a:cubicBezTo>
                  <a:cubicBezTo>
                    <a:pt x="4117" y="58"/>
                    <a:pt x="4116" y="66"/>
                    <a:pt x="4115" y="75"/>
                  </a:cubicBezTo>
                  <a:close/>
                  <a:moveTo>
                    <a:pt x="4122" y="139"/>
                  </a:moveTo>
                  <a:cubicBezTo>
                    <a:pt x="4122" y="139"/>
                    <a:pt x="4121" y="139"/>
                    <a:pt x="4121" y="139"/>
                  </a:cubicBezTo>
                  <a:cubicBezTo>
                    <a:pt x="4121" y="138"/>
                    <a:pt x="4121" y="138"/>
                    <a:pt x="4122" y="138"/>
                  </a:cubicBezTo>
                  <a:cubicBezTo>
                    <a:pt x="4122" y="138"/>
                    <a:pt x="4122" y="138"/>
                    <a:pt x="4122" y="138"/>
                  </a:cubicBezTo>
                  <a:cubicBezTo>
                    <a:pt x="4122" y="139"/>
                    <a:pt x="4122" y="139"/>
                    <a:pt x="4122" y="139"/>
                  </a:cubicBezTo>
                  <a:close/>
                  <a:moveTo>
                    <a:pt x="4147" y="137"/>
                  </a:moveTo>
                  <a:cubicBezTo>
                    <a:pt x="4147" y="136"/>
                    <a:pt x="4146" y="135"/>
                    <a:pt x="4146" y="133"/>
                  </a:cubicBezTo>
                  <a:cubicBezTo>
                    <a:pt x="4146" y="132"/>
                    <a:pt x="4146" y="130"/>
                    <a:pt x="4146" y="128"/>
                  </a:cubicBezTo>
                  <a:cubicBezTo>
                    <a:pt x="4146" y="131"/>
                    <a:pt x="4147" y="133"/>
                    <a:pt x="4148" y="135"/>
                  </a:cubicBezTo>
                  <a:cubicBezTo>
                    <a:pt x="4148" y="136"/>
                    <a:pt x="4147" y="137"/>
                    <a:pt x="4147" y="137"/>
                  </a:cubicBezTo>
                  <a:close/>
                  <a:moveTo>
                    <a:pt x="4153" y="99"/>
                  </a:moveTo>
                  <a:cubicBezTo>
                    <a:pt x="4152" y="95"/>
                    <a:pt x="4150" y="92"/>
                    <a:pt x="4148" y="90"/>
                  </a:cubicBezTo>
                  <a:cubicBezTo>
                    <a:pt x="4150" y="93"/>
                    <a:pt x="4152" y="97"/>
                    <a:pt x="4153" y="101"/>
                  </a:cubicBezTo>
                  <a:cubicBezTo>
                    <a:pt x="4152" y="110"/>
                    <a:pt x="4151" y="118"/>
                    <a:pt x="4149" y="125"/>
                  </a:cubicBezTo>
                  <a:cubicBezTo>
                    <a:pt x="4148" y="122"/>
                    <a:pt x="4147" y="119"/>
                    <a:pt x="4147" y="116"/>
                  </a:cubicBezTo>
                  <a:cubicBezTo>
                    <a:pt x="4147" y="102"/>
                    <a:pt x="4148" y="86"/>
                    <a:pt x="4149" y="72"/>
                  </a:cubicBezTo>
                  <a:cubicBezTo>
                    <a:pt x="4151" y="75"/>
                    <a:pt x="4154" y="79"/>
                    <a:pt x="4156" y="82"/>
                  </a:cubicBezTo>
                  <a:cubicBezTo>
                    <a:pt x="4155" y="88"/>
                    <a:pt x="4154" y="93"/>
                    <a:pt x="4153" y="99"/>
                  </a:cubicBezTo>
                  <a:close/>
                  <a:moveTo>
                    <a:pt x="4156" y="142"/>
                  </a:moveTo>
                  <a:cubicBezTo>
                    <a:pt x="4157" y="134"/>
                    <a:pt x="4158" y="127"/>
                    <a:pt x="4158" y="121"/>
                  </a:cubicBezTo>
                  <a:cubicBezTo>
                    <a:pt x="4158" y="123"/>
                    <a:pt x="4159" y="125"/>
                    <a:pt x="4159" y="127"/>
                  </a:cubicBezTo>
                  <a:cubicBezTo>
                    <a:pt x="4158" y="136"/>
                    <a:pt x="4156" y="142"/>
                    <a:pt x="4156" y="142"/>
                  </a:cubicBezTo>
                  <a:close/>
                  <a:moveTo>
                    <a:pt x="4160" y="144"/>
                  </a:moveTo>
                  <a:cubicBezTo>
                    <a:pt x="4160" y="142"/>
                    <a:pt x="4160" y="140"/>
                    <a:pt x="4161" y="137"/>
                  </a:cubicBezTo>
                  <a:cubicBezTo>
                    <a:pt x="4161" y="138"/>
                    <a:pt x="4161" y="138"/>
                    <a:pt x="4161" y="138"/>
                  </a:cubicBezTo>
                  <a:cubicBezTo>
                    <a:pt x="4160" y="142"/>
                    <a:pt x="4160" y="144"/>
                    <a:pt x="4160" y="144"/>
                  </a:cubicBezTo>
                  <a:close/>
                  <a:moveTo>
                    <a:pt x="4159" y="110"/>
                  </a:moveTo>
                  <a:cubicBezTo>
                    <a:pt x="4159" y="103"/>
                    <a:pt x="4160" y="96"/>
                    <a:pt x="4160" y="90"/>
                  </a:cubicBezTo>
                  <a:cubicBezTo>
                    <a:pt x="4162" y="93"/>
                    <a:pt x="4163" y="96"/>
                    <a:pt x="4164" y="99"/>
                  </a:cubicBezTo>
                  <a:cubicBezTo>
                    <a:pt x="4163" y="105"/>
                    <a:pt x="4162" y="111"/>
                    <a:pt x="4161" y="116"/>
                  </a:cubicBezTo>
                  <a:cubicBezTo>
                    <a:pt x="4160" y="114"/>
                    <a:pt x="4159" y="112"/>
                    <a:pt x="4159" y="110"/>
                  </a:cubicBezTo>
                  <a:close/>
                  <a:moveTo>
                    <a:pt x="4164" y="124"/>
                  </a:moveTo>
                  <a:cubicBezTo>
                    <a:pt x="4163" y="123"/>
                    <a:pt x="4163" y="122"/>
                    <a:pt x="4163" y="121"/>
                  </a:cubicBezTo>
                  <a:cubicBezTo>
                    <a:pt x="4163" y="115"/>
                    <a:pt x="4164" y="109"/>
                    <a:pt x="4165" y="103"/>
                  </a:cubicBezTo>
                  <a:cubicBezTo>
                    <a:pt x="4165" y="105"/>
                    <a:pt x="4166" y="107"/>
                    <a:pt x="4167" y="109"/>
                  </a:cubicBezTo>
                  <a:cubicBezTo>
                    <a:pt x="4166" y="114"/>
                    <a:pt x="4165" y="119"/>
                    <a:pt x="4164" y="124"/>
                  </a:cubicBezTo>
                  <a:close/>
                  <a:moveTo>
                    <a:pt x="4169" y="146"/>
                  </a:moveTo>
                  <a:cubicBezTo>
                    <a:pt x="4169" y="145"/>
                    <a:pt x="4169" y="145"/>
                    <a:pt x="4169" y="145"/>
                  </a:cubicBezTo>
                  <a:cubicBezTo>
                    <a:pt x="4170" y="144"/>
                    <a:pt x="4170" y="143"/>
                    <a:pt x="4170" y="141"/>
                  </a:cubicBezTo>
                  <a:cubicBezTo>
                    <a:pt x="4170" y="142"/>
                    <a:pt x="4170" y="143"/>
                    <a:pt x="4170" y="144"/>
                  </a:cubicBezTo>
                  <a:cubicBezTo>
                    <a:pt x="4170" y="145"/>
                    <a:pt x="4170" y="145"/>
                    <a:pt x="4169" y="146"/>
                  </a:cubicBezTo>
                  <a:close/>
                  <a:moveTo>
                    <a:pt x="4193" y="118"/>
                  </a:moveTo>
                  <a:cubicBezTo>
                    <a:pt x="4192" y="114"/>
                    <a:pt x="4190" y="111"/>
                    <a:pt x="4189" y="107"/>
                  </a:cubicBezTo>
                  <a:cubicBezTo>
                    <a:pt x="4189" y="96"/>
                    <a:pt x="4189" y="84"/>
                    <a:pt x="4189" y="74"/>
                  </a:cubicBezTo>
                  <a:cubicBezTo>
                    <a:pt x="4189" y="70"/>
                    <a:pt x="4189" y="67"/>
                    <a:pt x="4188" y="65"/>
                  </a:cubicBezTo>
                  <a:cubicBezTo>
                    <a:pt x="4189" y="74"/>
                    <a:pt x="4193" y="84"/>
                    <a:pt x="4196" y="94"/>
                  </a:cubicBezTo>
                  <a:cubicBezTo>
                    <a:pt x="4195" y="102"/>
                    <a:pt x="4194" y="110"/>
                    <a:pt x="4193" y="118"/>
                  </a:cubicBezTo>
                  <a:close/>
                  <a:moveTo>
                    <a:pt x="4222" y="124"/>
                  </a:moveTo>
                  <a:cubicBezTo>
                    <a:pt x="4221" y="122"/>
                    <a:pt x="4221" y="120"/>
                    <a:pt x="4220" y="117"/>
                  </a:cubicBezTo>
                  <a:cubicBezTo>
                    <a:pt x="4221" y="109"/>
                    <a:pt x="4222" y="100"/>
                    <a:pt x="4223" y="92"/>
                  </a:cubicBezTo>
                  <a:cubicBezTo>
                    <a:pt x="4225" y="96"/>
                    <a:pt x="4226" y="100"/>
                    <a:pt x="4226" y="104"/>
                  </a:cubicBezTo>
                  <a:cubicBezTo>
                    <a:pt x="4225" y="111"/>
                    <a:pt x="4223" y="118"/>
                    <a:pt x="4222" y="124"/>
                  </a:cubicBezTo>
                  <a:close/>
                  <a:moveTo>
                    <a:pt x="4262" y="133"/>
                  </a:moveTo>
                  <a:cubicBezTo>
                    <a:pt x="4262" y="130"/>
                    <a:pt x="4261" y="126"/>
                    <a:pt x="4260" y="122"/>
                  </a:cubicBezTo>
                  <a:cubicBezTo>
                    <a:pt x="4260" y="112"/>
                    <a:pt x="4260" y="100"/>
                    <a:pt x="4261" y="88"/>
                  </a:cubicBezTo>
                  <a:cubicBezTo>
                    <a:pt x="4263" y="96"/>
                    <a:pt x="4265" y="104"/>
                    <a:pt x="4265" y="111"/>
                  </a:cubicBezTo>
                  <a:cubicBezTo>
                    <a:pt x="4266" y="117"/>
                    <a:pt x="4266" y="117"/>
                    <a:pt x="4266" y="117"/>
                  </a:cubicBezTo>
                  <a:cubicBezTo>
                    <a:pt x="4264" y="123"/>
                    <a:pt x="4263" y="129"/>
                    <a:pt x="4262" y="133"/>
                  </a:cubicBezTo>
                  <a:close/>
                  <a:moveTo>
                    <a:pt x="4275" y="110"/>
                  </a:moveTo>
                  <a:cubicBezTo>
                    <a:pt x="4275" y="113"/>
                    <a:pt x="4275" y="116"/>
                    <a:pt x="4275" y="119"/>
                  </a:cubicBezTo>
                  <a:cubicBezTo>
                    <a:pt x="4274" y="122"/>
                    <a:pt x="4274" y="124"/>
                    <a:pt x="4273" y="127"/>
                  </a:cubicBezTo>
                  <a:cubicBezTo>
                    <a:pt x="4273" y="119"/>
                    <a:pt x="4272" y="111"/>
                    <a:pt x="4271" y="104"/>
                  </a:cubicBezTo>
                  <a:cubicBezTo>
                    <a:pt x="4272" y="98"/>
                    <a:pt x="4272" y="91"/>
                    <a:pt x="4273" y="86"/>
                  </a:cubicBezTo>
                  <a:cubicBezTo>
                    <a:pt x="4275" y="93"/>
                    <a:pt x="4275" y="102"/>
                    <a:pt x="4275" y="110"/>
                  </a:cubicBezTo>
                  <a:close/>
                  <a:moveTo>
                    <a:pt x="4285" y="142"/>
                  </a:moveTo>
                  <a:cubicBezTo>
                    <a:pt x="4285" y="142"/>
                    <a:pt x="4285" y="141"/>
                    <a:pt x="4286" y="138"/>
                  </a:cubicBezTo>
                  <a:cubicBezTo>
                    <a:pt x="4287" y="120"/>
                    <a:pt x="4286" y="96"/>
                    <a:pt x="4285" y="77"/>
                  </a:cubicBezTo>
                  <a:cubicBezTo>
                    <a:pt x="4287" y="81"/>
                    <a:pt x="4289" y="86"/>
                    <a:pt x="4290" y="92"/>
                  </a:cubicBezTo>
                  <a:cubicBezTo>
                    <a:pt x="4288" y="108"/>
                    <a:pt x="4286" y="129"/>
                    <a:pt x="4286" y="138"/>
                  </a:cubicBezTo>
                  <a:cubicBezTo>
                    <a:pt x="4285" y="139"/>
                    <a:pt x="4285" y="141"/>
                    <a:pt x="4285" y="142"/>
                  </a:cubicBezTo>
                  <a:close/>
                  <a:moveTo>
                    <a:pt x="4289" y="129"/>
                  </a:moveTo>
                  <a:cubicBezTo>
                    <a:pt x="4289" y="119"/>
                    <a:pt x="4290" y="107"/>
                    <a:pt x="4291" y="97"/>
                  </a:cubicBezTo>
                  <a:cubicBezTo>
                    <a:pt x="4291" y="100"/>
                    <a:pt x="4291" y="103"/>
                    <a:pt x="4291" y="106"/>
                  </a:cubicBezTo>
                  <a:cubicBezTo>
                    <a:pt x="4291" y="114"/>
                    <a:pt x="4290" y="121"/>
                    <a:pt x="4289" y="129"/>
                  </a:cubicBezTo>
                  <a:close/>
                  <a:moveTo>
                    <a:pt x="4300" y="125"/>
                  </a:moveTo>
                  <a:cubicBezTo>
                    <a:pt x="4301" y="120"/>
                    <a:pt x="4301" y="113"/>
                    <a:pt x="4301" y="107"/>
                  </a:cubicBezTo>
                  <a:cubicBezTo>
                    <a:pt x="4301" y="114"/>
                    <a:pt x="4301" y="120"/>
                    <a:pt x="4300" y="125"/>
                  </a:cubicBezTo>
                  <a:close/>
                  <a:moveTo>
                    <a:pt x="4315" y="112"/>
                  </a:moveTo>
                  <a:cubicBezTo>
                    <a:pt x="4315" y="105"/>
                    <a:pt x="4315" y="98"/>
                    <a:pt x="4315" y="91"/>
                  </a:cubicBezTo>
                  <a:cubicBezTo>
                    <a:pt x="4316" y="95"/>
                    <a:pt x="4316" y="99"/>
                    <a:pt x="4316" y="103"/>
                  </a:cubicBezTo>
                  <a:cubicBezTo>
                    <a:pt x="4316" y="106"/>
                    <a:pt x="4316" y="109"/>
                    <a:pt x="4315" y="112"/>
                  </a:cubicBezTo>
                  <a:close/>
                  <a:moveTo>
                    <a:pt x="4326" y="129"/>
                  </a:moveTo>
                  <a:cubicBezTo>
                    <a:pt x="4326" y="129"/>
                    <a:pt x="4326" y="129"/>
                    <a:pt x="4325" y="130"/>
                  </a:cubicBezTo>
                  <a:cubicBezTo>
                    <a:pt x="4325" y="132"/>
                    <a:pt x="4324" y="134"/>
                    <a:pt x="4324" y="137"/>
                  </a:cubicBezTo>
                  <a:cubicBezTo>
                    <a:pt x="4324" y="136"/>
                    <a:pt x="4324" y="136"/>
                    <a:pt x="4324" y="136"/>
                  </a:cubicBezTo>
                  <a:cubicBezTo>
                    <a:pt x="4324" y="134"/>
                    <a:pt x="4325" y="132"/>
                    <a:pt x="4325" y="130"/>
                  </a:cubicBezTo>
                  <a:cubicBezTo>
                    <a:pt x="4326" y="129"/>
                    <a:pt x="4326" y="129"/>
                    <a:pt x="4326" y="129"/>
                  </a:cubicBezTo>
                  <a:cubicBezTo>
                    <a:pt x="4326" y="129"/>
                    <a:pt x="4326" y="129"/>
                    <a:pt x="4326" y="129"/>
                  </a:cubicBezTo>
                  <a:close/>
                  <a:moveTo>
                    <a:pt x="4362" y="130"/>
                  </a:moveTo>
                  <a:cubicBezTo>
                    <a:pt x="4362" y="132"/>
                    <a:pt x="4361" y="134"/>
                    <a:pt x="4360" y="136"/>
                  </a:cubicBezTo>
                  <a:cubicBezTo>
                    <a:pt x="4360" y="131"/>
                    <a:pt x="4360" y="126"/>
                    <a:pt x="4360" y="121"/>
                  </a:cubicBezTo>
                  <a:cubicBezTo>
                    <a:pt x="4362" y="115"/>
                    <a:pt x="4364" y="110"/>
                    <a:pt x="4365" y="104"/>
                  </a:cubicBezTo>
                  <a:cubicBezTo>
                    <a:pt x="4364" y="114"/>
                    <a:pt x="4363" y="123"/>
                    <a:pt x="4362" y="130"/>
                  </a:cubicBezTo>
                  <a:close/>
                  <a:moveTo>
                    <a:pt x="4378" y="124"/>
                  </a:moveTo>
                  <a:cubicBezTo>
                    <a:pt x="4378" y="110"/>
                    <a:pt x="4380" y="94"/>
                    <a:pt x="4381" y="83"/>
                  </a:cubicBezTo>
                  <a:cubicBezTo>
                    <a:pt x="4381" y="87"/>
                    <a:pt x="4381" y="91"/>
                    <a:pt x="4381" y="95"/>
                  </a:cubicBezTo>
                  <a:cubicBezTo>
                    <a:pt x="4381" y="105"/>
                    <a:pt x="4380" y="114"/>
                    <a:pt x="4378" y="124"/>
                  </a:cubicBezTo>
                  <a:close/>
                  <a:moveTo>
                    <a:pt x="4394" y="160"/>
                  </a:moveTo>
                  <a:cubicBezTo>
                    <a:pt x="4394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4" y="160"/>
                  </a:cubicBezTo>
                  <a:close/>
                  <a:moveTo>
                    <a:pt x="4407" y="116"/>
                  </a:moveTo>
                  <a:cubicBezTo>
                    <a:pt x="4406" y="121"/>
                    <a:pt x="4404" y="127"/>
                    <a:pt x="4402" y="132"/>
                  </a:cubicBezTo>
                  <a:cubicBezTo>
                    <a:pt x="4402" y="127"/>
                    <a:pt x="4402" y="121"/>
                    <a:pt x="4402" y="115"/>
                  </a:cubicBezTo>
                  <a:cubicBezTo>
                    <a:pt x="4403" y="110"/>
                    <a:pt x="4403" y="104"/>
                    <a:pt x="4403" y="98"/>
                  </a:cubicBezTo>
                  <a:cubicBezTo>
                    <a:pt x="4403" y="95"/>
                    <a:pt x="4403" y="92"/>
                    <a:pt x="4403" y="89"/>
                  </a:cubicBezTo>
                  <a:cubicBezTo>
                    <a:pt x="4404" y="78"/>
                    <a:pt x="4405" y="68"/>
                    <a:pt x="4406" y="60"/>
                  </a:cubicBezTo>
                  <a:cubicBezTo>
                    <a:pt x="4409" y="68"/>
                    <a:pt x="4411" y="78"/>
                    <a:pt x="4411" y="87"/>
                  </a:cubicBezTo>
                  <a:cubicBezTo>
                    <a:pt x="4410" y="95"/>
                    <a:pt x="4409" y="106"/>
                    <a:pt x="4407" y="116"/>
                  </a:cubicBezTo>
                  <a:close/>
                  <a:moveTo>
                    <a:pt x="4415" y="136"/>
                  </a:moveTo>
                  <a:cubicBezTo>
                    <a:pt x="4415" y="137"/>
                    <a:pt x="4414" y="138"/>
                    <a:pt x="4414" y="139"/>
                  </a:cubicBezTo>
                  <a:cubicBezTo>
                    <a:pt x="4414" y="137"/>
                    <a:pt x="4414" y="135"/>
                    <a:pt x="4414" y="133"/>
                  </a:cubicBezTo>
                  <a:cubicBezTo>
                    <a:pt x="4415" y="130"/>
                    <a:pt x="4415" y="128"/>
                    <a:pt x="4416" y="125"/>
                  </a:cubicBezTo>
                  <a:cubicBezTo>
                    <a:pt x="4416" y="129"/>
                    <a:pt x="4415" y="133"/>
                    <a:pt x="4415" y="136"/>
                  </a:cubicBezTo>
                  <a:close/>
                  <a:moveTo>
                    <a:pt x="4431" y="126"/>
                  </a:moveTo>
                  <a:cubicBezTo>
                    <a:pt x="4430" y="113"/>
                    <a:pt x="4430" y="96"/>
                    <a:pt x="4430" y="84"/>
                  </a:cubicBezTo>
                  <a:cubicBezTo>
                    <a:pt x="4434" y="90"/>
                    <a:pt x="4436" y="100"/>
                    <a:pt x="4436" y="104"/>
                  </a:cubicBezTo>
                  <a:cubicBezTo>
                    <a:pt x="4436" y="110"/>
                    <a:pt x="4433" y="118"/>
                    <a:pt x="4431" y="126"/>
                  </a:cubicBezTo>
                  <a:close/>
                  <a:moveTo>
                    <a:pt x="4442" y="128"/>
                  </a:moveTo>
                  <a:cubicBezTo>
                    <a:pt x="4443" y="113"/>
                    <a:pt x="4443" y="91"/>
                    <a:pt x="4443" y="76"/>
                  </a:cubicBezTo>
                  <a:cubicBezTo>
                    <a:pt x="4445" y="83"/>
                    <a:pt x="4447" y="90"/>
                    <a:pt x="4447" y="96"/>
                  </a:cubicBezTo>
                  <a:cubicBezTo>
                    <a:pt x="4447" y="107"/>
                    <a:pt x="4444" y="117"/>
                    <a:pt x="4442" y="128"/>
                  </a:cubicBezTo>
                  <a:close/>
                  <a:moveTo>
                    <a:pt x="4482" y="112"/>
                  </a:moveTo>
                  <a:cubicBezTo>
                    <a:pt x="4482" y="110"/>
                    <a:pt x="4482" y="108"/>
                    <a:pt x="4481" y="105"/>
                  </a:cubicBezTo>
                  <a:cubicBezTo>
                    <a:pt x="4482" y="108"/>
                    <a:pt x="4481" y="112"/>
                    <a:pt x="4481" y="115"/>
                  </a:cubicBezTo>
                  <a:cubicBezTo>
                    <a:pt x="4476" y="131"/>
                    <a:pt x="4472" y="144"/>
                    <a:pt x="4472" y="144"/>
                  </a:cubicBezTo>
                  <a:cubicBezTo>
                    <a:pt x="4473" y="133"/>
                    <a:pt x="4477" y="110"/>
                    <a:pt x="4482" y="86"/>
                  </a:cubicBezTo>
                  <a:cubicBezTo>
                    <a:pt x="4484" y="90"/>
                    <a:pt x="4485" y="95"/>
                    <a:pt x="4486" y="99"/>
                  </a:cubicBezTo>
                  <a:cubicBezTo>
                    <a:pt x="4484" y="103"/>
                    <a:pt x="4483" y="108"/>
                    <a:pt x="4482" y="112"/>
                  </a:cubicBezTo>
                  <a:close/>
                  <a:moveTo>
                    <a:pt x="4494" y="133"/>
                  </a:moveTo>
                  <a:cubicBezTo>
                    <a:pt x="4494" y="133"/>
                    <a:pt x="4494" y="134"/>
                    <a:pt x="4494" y="134"/>
                  </a:cubicBezTo>
                  <a:cubicBezTo>
                    <a:pt x="4494" y="134"/>
                    <a:pt x="4494" y="134"/>
                    <a:pt x="4494" y="134"/>
                  </a:cubicBezTo>
                  <a:cubicBezTo>
                    <a:pt x="4494" y="134"/>
                    <a:pt x="4494" y="133"/>
                    <a:pt x="4494" y="133"/>
                  </a:cubicBezTo>
                  <a:cubicBezTo>
                    <a:pt x="4495" y="126"/>
                    <a:pt x="4496" y="117"/>
                    <a:pt x="4497" y="107"/>
                  </a:cubicBezTo>
                  <a:cubicBezTo>
                    <a:pt x="4497" y="110"/>
                    <a:pt x="4497" y="114"/>
                    <a:pt x="4497" y="117"/>
                  </a:cubicBezTo>
                  <a:cubicBezTo>
                    <a:pt x="4496" y="123"/>
                    <a:pt x="4495" y="129"/>
                    <a:pt x="4494" y="133"/>
                  </a:cubicBezTo>
                  <a:close/>
                  <a:moveTo>
                    <a:pt x="4499" y="159"/>
                  </a:move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lose/>
                  <a:moveTo>
                    <a:pt x="4540" y="143"/>
                  </a:moveTo>
                  <a:cubicBezTo>
                    <a:pt x="4540" y="142"/>
                    <a:pt x="4540" y="142"/>
                    <a:pt x="4540" y="141"/>
                  </a:cubicBezTo>
                  <a:cubicBezTo>
                    <a:pt x="4540" y="135"/>
                    <a:pt x="4541" y="127"/>
                    <a:pt x="4541" y="117"/>
                  </a:cubicBezTo>
                  <a:cubicBezTo>
                    <a:pt x="4542" y="121"/>
                    <a:pt x="4542" y="125"/>
                    <a:pt x="4542" y="129"/>
                  </a:cubicBezTo>
                  <a:cubicBezTo>
                    <a:pt x="4541" y="135"/>
                    <a:pt x="4541" y="139"/>
                    <a:pt x="4540" y="143"/>
                  </a:cubicBezTo>
                  <a:close/>
                  <a:moveTo>
                    <a:pt x="4544" y="117"/>
                  </a:moveTo>
                  <a:cubicBezTo>
                    <a:pt x="4543" y="115"/>
                    <a:pt x="4542" y="113"/>
                    <a:pt x="4542" y="111"/>
                  </a:cubicBezTo>
                  <a:cubicBezTo>
                    <a:pt x="4542" y="108"/>
                    <a:pt x="4542" y="104"/>
                    <a:pt x="4543" y="100"/>
                  </a:cubicBezTo>
                  <a:cubicBezTo>
                    <a:pt x="4544" y="103"/>
                    <a:pt x="4544" y="106"/>
                    <a:pt x="4545" y="108"/>
                  </a:cubicBezTo>
                  <a:cubicBezTo>
                    <a:pt x="4544" y="111"/>
                    <a:pt x="4544" y="114"/>
                    <a:pt x="4544" y="117"/>
                  </a:cubicBezTo>
                  <a:close/>
                  <a:moveTo>
                    <a:pt x="4552" y="133"/>
                  </a:moveTo>
                  <a:cubicBezTo>
                    <a:pt x="4552" y="133"/>
                    <a:pt x="4552" y="133"/>
                    <a:pt x="4552" y="133"/>
                  </a:cubicBezTo>
                  <a:cubicBezTo>
                    <a:pt x="4552" y="130"/>
                    <a:pt x="4553" y="127"/>
                    <a:pt x="4553" y="124"/>
                  </a:cubicBezTo>
                  <a:cubicBezTo>
                    <a:pt x="4553" y="125"/>
                    <a:pt x="4553" y="126"/>
                    <a:pt x="4553" y="128"/>
                  </a:cubicBezTo>
                  <a:cubicBezTo>
                    <a:pt x="4553" y="130"/>
                    <a:pt x="4552" y="131"/>
                    <a:pt x="4552" y="133"/>
                  </a:cubicBezTo>
                  <a:close/>
                  <a:moveTo>
                    <a:pt x="4589" y="142"/>
                  </a:moveTo>
                  <a:cubicBezTo>
                    <a:pt x="4589" y="139"/>
                    <a:pt x="4589" y="134"/>
                    <a:pt x="4589" y="128"/>
                  </a:cubicBezTo>
                  <a:cubicBezTo>
                    <a:pt x="4589" y="130"/>
                    <a:pt x="4589" y="132"/>
                    <a:pt x="4590" y="133"/>
                  </a:cubicBezTo>
                  <a:cubicBezTo>
                    <a:pt x="4589" y="139"/>
                    <a:pt x="4589" y="142"/>
                    <a:pt x="4589" y="142"/>
                  </a:cubicBezTo>
                  <a:close/>
                  <a:moveTo>
                    <a:pt x="4610" y="135"/>
                  </a:moveTo>
                  <a:cubicBezTo>
                    <a:pt x="4610" y="134"/>
                    <a:pt x="4610" y="134"/>
                    <a:pt x="4610" y="133"/>
                  </a:cubicBezTo>
                  <a:cubicBezTo>
                    <a:pt x="4610" y="121"/>
                    <a:pt x="4610" y="103"/>
                    <a:pt x="4609" y="88"/>
                  </a:cubicBezTo>
                  <a:cubicBezTo>
                    <a:pt x="4611" y="94"/>
                    <a:pt x="4613" y="100"/>
                    <a:pt x="4614" y="106"/>
                  </a:cubicBezTo>
                  <a:cubicBezTo>
                    <a:pt x="4612" y="118"/>
                    <a:pt x="4611" y="128"/>
                    <a:pt x="4610" y="135"/>
                  </a:cubicBezTo>
                  <a:close/>
                  <a:moveTo>
                    <a:pt x="4617" y="145"/>
                  </a:moveTo>
                  <a:cubicBezTo>
                    <a:pt x="4617" y="141"/>
                    <a:pt x="4617" y="136"/>
                    <a:pt x="4617" y="129"/>
                  </a:cubicBezTo>
                  <a:cubicBezTo>
                    <a:pt x="4618" y="133"/>
                    <a:pt x="4618" y="136"/>
                    <a:pt x="4619" y="139"/>
                  </a:cubicBezTo>
                  <a:cubicBezTo>
                    <a:pt x="4618" y="143"/>
                    <a:pt x="4617" y="145"/>
                    <a:pt x="4617" y="145"/>
                  </a:cubicBezTo>
                  <a:close/>
                  <a:moveTo>
                    <a:pt x="4622" y="159"/>
                  </a:moveTo>
                  <a:cubicBezTo>
                    <a:pt x="4623" y="159"/>
                    <a:pt x="4623" y="159"/>
                    <a:pt x="4623" y="159"/>
                  </a:cubicBezTo>
                  <a:cubicBezTo>
                    <a:pt x="4623" y="159"/>
                    <a:pt x="4623" y="158"/>
                    <a:pt x="4623" y="158"/>
                  </a:cubicBezTo>
                  <a:cubicBezTo>
                    <a:pt x="4623" y="159"/>
                    <a:pt x="4624" y="160"/>
                    <a:pt x="4624" y="160"/>
                  </a:cubicBezTo>
                  <a:cubicBezTo>
                    <a:pt x="4623" y="160"/>
                    <a:pt x="4623" y="159"/>
                    <a:pt x="4622" y="159"/>
                  </a:cubicBezTo>
                  <a:close/>
                  <a:moveTo>
                    <a:pt x="4624" y="121"/>
                  </a:moveTo>
                  <a:cubicBezTo>
                    <a:pt x="4622" y="117"/>
                    <a:pt x="4621" y="114"/>
                    <a:pt x="4619" y="110"/>
                  </a:cubicBezTo>
                  <a:cubicBezTo>
                    <a:pt x="4620" y="105"/>
                    <a:pt x="4620" y="99"/>
                    <a:pt x="4621" y="94"/>
                  </a:cubicBezTo>
                  <a:cubicBezTo>
                    <a:pt x="4621" y="100"/>
                    <a:pt x="4623" y="108"/>
                    <a:pt x="4625" y="116"/>
                  </a:cubicBezTo>
                  <a:cubicBezTo>
                    <a:pt x="4624" y="118"/>
                    <a:pt x="4624" y="119"/>
                    <a:pt x="4624" y="121"/>
                  </a:cubicBezTo>
                  <a:close/>
                  <a:moveTo>
                    <a:pt x="4632" y="142"/>
                  </a:moveTo>
                  <a:cubicBezTo>
                    <a:pt x="4631" y="138"/>
                    <a:pt x="4629" y="134"/>
                    <a:pt x="4627" y="129"/>
                  </a:cubicBezTo>
                  <a:cubicBezTo>
                    <a:pt x="4627" y="129"/>
                    <a:pt x="4627" y="128"/>
                    <a:pt x="4627" y="127"/>
                  </a:cubicBezTo>
                  <a:cubicBezTo>
                    <a:pt x="4629" y="132"/>
                    <a:pt x="4630" y="137"/>
                    <a:pt x="4632" y="142"/>
                  </a:cubicBezTo>
                  <a:cubicBezTo>
                    <a:pt x="4635" y="149"/>
                    <a:pt x="4636" y="153"/>
                    <a:pt x="4637" y="155"/>
                  </a:cubicBezTo>
                  <a:cubicBezTo>
                    <a:pt x="4635" y="151"/>
                    <a:pt x="4634" y="147"/>
                    <a:pt x="4632" y="142"/>
                  </a:cubicBezTo>
                  <a:close/>
                  <a:moveTo>
                    <a:pt x="4458" y="105"/>
                  </a:moveTo>
                  <a:cubicBezTo>
                    <a:pt x="4458" y="103"/>
                    <a:pt x="4458" y="101"/>
                    <a:pt x="4457" y="99"/>
                  </a:cubicBezTo>
                  <a:cubicBezTo>
                    <a:pt x="4457" y="101"/>
                    <a:pt x="4458" y="103"/>
                    <a:pt x="4458" y="105"/>
                  </a:cubicBezTo>
                  <a:close/>
                  <a:moveTo>
                    <a:pt x="4466" y="65"/>
                  </a:moveTo>
                  <a:cubicBezTo>
                    <a:pt x="4466" y="64"/>
                    <a:pt x="4466" y="63"/>
                    <a:pt x="4466" y="63"/>
                  </a:cubicBezTo>
                  <a:cubicBezTo>
                    <a:pt x="4466" y="63"/>
                    <a:pt x="4466" y="64"/>
                    <a:pt x="4466" y="65"/>
                  </a:cubicBezTo>
                  <a:close/>
                  <a:moveTo>
                    <a:pt x="4065" y="79"/>
                  </a:moveTo>
                  <a:cubicBezTo>
                    <a:pt x="4066" y="76"/>
                    <a:pt x="4067" y="73"/>
                    <a:pt x="4068" y="70"/>
                  </a:cubicBezTo>
                  <a:cubicBezTo>
                    <a:pt x="4067" y="73"/>
                    <a:pt x="4066" y="76"/>
                    <a:pt x="4065" y="79"/>
                  </a:cubicBezTo>
                  <a:close/>
                  <a:moveTo>
                    <a:pt x="3886" y="79"/>
                  </a:moveTo>
                  <a:cubicBezTo>
                    <a:pt x="3885" y="76"/>
                    <a:pt x="3884" y="73"/>
                    <a:pt x="3882" y="70"/>
                  </a:cubicBezTo>
                  <a:cubicBezTo>
                    <a:pt x="3884" y="73"/>
                    <a:pt x="3885" y="76"/>
                    <a:pt x="3886" y="79"/>
                  </a:cubicBezTo>
                  <a:close/>
                  <a:moveTo>
                    <a:pt x="2267" y="79"/>
                  </a:moveTo>
                  <a:cubicBezTo>
                    <a:pt x="2268" y="76"/>
                    <a:pt x="2269" y="73"/>
                    <a:pt x="2270" y="70"/>
                  </a:cubicBezTo>
                  <a:cubicBezTo>
                    <a:pt x="2269" y="73"/>
                    <a:pt x="2268" y="76"/>
                    <a:pt x="2267" y="79"/>
                  </a:cubicBezTo>
                  <a:close/>
                  <a:moveTo>
                    <a:pt x="3115" y="83"/>
                  </a:moveTo>
                  <a:cubicBezTo>
                    <a:pt x="3114" y="81"/>
                    <a:pt x="3113" y="79"/>
                    <a:pt x="3112" y="78"/>
                  </a:cubicBezTo>
                  <a:cubicBezTo>
                    <a:pt x="3113" y="79"/>
                    <a:pt x="3114" y="81"/>
                    <a:pt x="3115" y="83"/>
                  </a:cubicBezTo>
                  <a:close/>
                  <a:moveTo>
                    <a:pt x="290" y="79"/>
                  </a:moveTo>
                  <a:cubicBezTo>
                    <a:pt x="289" y="76"/>
                    <a:pt x="288" y="73"/>
                    <a:pt x="287" y="70"/>
                  </a:cubicBezTo>
                  <a:cubicBezTo>
                    <a:pt x="288" y="73"/>
                    <a:pt x="289" y="76"/>
                    <a:pt x="290" y="79"/>
                  </a:cubicBezTo>
                  <a:close/>
                  <a:moveTo>
                    <a:pt x="469" y="79"/>
                  </a:moveTo>
                  <a:cubicBezTo>
                    <a:pt x="470" y="76"/>
                    <a:pt x="471" y="73"/>
                    <a:pt x="472" y="70"/>
                  </a:cubicBezTo>
                  <a:cubicBezTo>
                    <a:pt x="471" y="73"/>
                    <a:pt x="470" y="76"/>
                    <a:pt x="469" y="79"/>
                  </a:cubicBezTo>
                  <a:close/>
                  <a:moveTo>
                    <a:pt x="1317" y="83"/>
                  </a:moveTo>
                  <a:cubicBezTo>
                    <a:pt x="1316" y="81"/>
                    <a:pt x="1315" y="79"/>
                    <a:pt x="1314" y="78"/>
                  </a:cubicBezTo>
                  <a:cubicBezTo>
                    <a:pt x="1315" y="79"/>
                    <a:pt x="1316" y="81"/>
                    <a:pt x="1317" y="83"/>
                  </a:cubicBezTo>
                  <a:close/>
                  <a:moveTo>
                    <a:pt x="3042" y="83"/>
                  </a:moveTo>
                  <a:cubicBezTo>
                    <a:pt x="3040" y="80"/>
                    <a:pt x="3039" y="77"/>
                    <a:pt x="3038" y="75"/>
                  </a:cubicBezTo>
                  <a:cubicBezTo>
                    <a:pt x="3039" y="78"/>
                    <a:pt x="3040" y="80"/>
                    <a:pt x="3042" y="83"/>
                  </a:cubicBezTo>
                  <a:close/>
                  <a:moveTo>
                    <a:pt x="2683" y="105"/>
                  </a:moveTo>
                  <a:cubicBezTo>
                    <a:pt x="2683" y="103"/>
                    <a:pt x="2683" y="101"/>
                    <a:pt x="2683" y="99"/>
                  </a:cubicBezTo>
                  <a:cubicBezTo>
                    <a:pt x="2683" y="101"/>
                    <a:pt x="2683" y="103"/>
                    <a:pt x="2683" y="105"/>
                  </a:cubicBezTo>
                  <a:close/>
                  <a:moveTo>
                    <a:pt x="2088" y="79"/>
                  </a:moveTo>
                  <a:cubicBezTo>
                    <a:pt x="2087" y="76"/>
                    <a:pt x="2086" y="73"/>
                    <a:pt x="2084" y="70"/>
                  </a:cubicBezTo>
                  <a:cubicBezTo>
                    <a:pt x="2086" y="73"/>
                    <a:pt x="2087" y="76"/>
                    <a:pt x="2088" y="79"/>
                  </a:cubicBezTo>
                  <a:close/>
                  <a:moveTo>
                    <a:pt x="4481" y="105"/>
                  </a:moveTo>
                  <a:cubicBezTo>
                    <a:pt x="4481" y="103"/>
                    <a:pt x="4481" y="101"/>
                    <a:pt x="4481" y="99"/>
                  </a:cubicBezTo>
                  <a:cubicBezTo>
                    <a:pt x="4481" y="101"/>
                    <a:pt x="4481" y="103"/>
                    <a:pt x="4481" y="105"/>
                  </a:cubicBezTo>
                  <a:close/>
                  <a:moveTo>
                    <a:pt x="1244" y="83"/>
                  </a:moveTo>
                  <a:cubicBezTo>
                    <a:pt x="1242" y="80"/>
                    <a:pt x="1241" y="77"/>
                    <a:pt x="1240" y="75"/>
                  </a:cubicBezTo>
                  <a:cubicBezTo>
                    <a:pt x="1241" y="78"/>
                    <a:pt x="1242" y="80"/>
                    <a:pt x="1244" y="83"/>
                  </a:cubicBezTo>
                  <a:close/>
                  <a:moveTo>
                    <a:pt x="3941" y="33"/>
                  </a:moveTo>
                  <a:cubicBezTo>
                    <a:pt x="3941" y="30"/>
                    <a:pt x="3941" y="28"/>
                    <a:pt x="3940" y="25"/>
                  </a:cubicBezTo>
                  <a:cubicBezTo>
                    <a:pt x="3940" y="25"/>
                    <a:pt x="3941" y="28"/>
                    <a:pt x="3941" y="33"/>
                  </a:cubicBezTo>
                  <a:close/>
                  <a:moveTo>
                    <a:pt x="3210" y="88"/>
                  </a:moveTo>
                  <a:cubicBezTo>
                    <a:pt x="3209" y="86"/>
                    <a:pt x="3208" y="83"/>
                    <a:pt x="3206" y="81"/>
                  </a:cubicBezTo>
                  <a:cubicBezTo>
                    <a:pt x="3207" y="83"/>
                    <a:pt x="3209" y="86"/>
                    <a:pt x="3210" y="88"/>
                  </a:cubicBezTo>
                  <a:close/>
                  <a:moveTo>
                    <a:pt x="3068" y="81"/>
                  </a:moveTo>
                  <a:cubicBezTo>
                    <a:pt x="3062" y="61"/>
                    <a:pt x="3051" y="46"/>
                    <a:pt x="3035" y="25"/>
                  </a:cubicBezTo>
                  <a:cubicBezTo>
                    <a:pt x="3051" y="48"/>
                    <a:pt x="3061" y="64"/>
                    <a:pt x="3068" y="81"/>
                  </a:cubicBezTo>
                  <a:close/>
                  <a:moveTo>
                    <a:pt x="3078" y="79"/>
                  </a:moveTo>
                  <a:cubicBezTo>
                    <a:pt x="3077" y="76"/>
                    <a:pt x="3076" y="73"/>
                    <a:pt x="3074" y="70"/>
                  </a:cubicBezTo>
                  <a:cubicBezTo>
                    <a:pt x="3075" y="73"/>
                    <a:pt x="3077" y="76"/>
                    <a:pt x="3078" y="79"/>
                  </a:cubicBezTo>
                  <a:close/>
                  <a:moveTo>
                    <a:pt x="3317" y="102"/>
                  </a:moveTo>
                  <a:cubicBezTo>
                    <a:pt x="3316" y="100"/>
                    <a:pt x="3315" y="97"/>
                    <a:pt x="3314" y="96"/>
                  </a:cubicBezTo>
                  <a:cubicBezTo>
                    <a:pt x="3315" y="98"/>
                    <a:pt x="3316" y="100"/>
                    <a:pt x="3317" y="102"/>
                  </a:cubicBezTo>
                  <a:close/>
                  <a:moveTo>
                    <a:pt x="3531" y="109"/>
                  </a:moveTo>
                  <a:cubicBezTo>
                    <a:pt x="3530" y="104"/>
                    <a:pt x="3530" y="99"/>
                    <a:pt x="3529" y="95"/>
                  </a:cubicBezTo>
                  <a:cubicBezTo>
                    <a:pt x="3529" y="99"/>
                    <a:pt x="3530" y="104"/>
                    <a:pt x="3531" y="109"/>
                  </a:cubicBezTo>
                  <a:close/>
                  <a:moveTo>
                    <a:pt x="3370" y="100"/>
                  </a:moveTo>
                  <a:cubicBezTo>
                    <a:pt x="3370" y="97"/>
                    <a:pt x="3369" y="95"/>
                    <a:pt x="3368" y="93"/>
                  </a:cubicBezTo>
                  <a:cubicBezTo>
                    <a:pt x="3369" y="96"/>
                    <a:pt x="3370" y="98"/>
                    <a:pt x="3370" y="100"/>
                  </a:cubicBezTo>
                  <a:close/>
                  <a:moveTo>
                    <a:pt x="3610" y="81"/>
                  </a:moveTo>
                  <a:cubicBezTo>
                    <a:pt x="3608" y="75"/>
                    <a:pt x="3606" y="70"/>
                    <a:pt x="3604" y="67"/>
                  </a:cubicBezTo>
                  <a:cubicBezTo>
                    <a:pt x="3604" y="67"/>
                    <a:pt x="3607" y="72"/>
                    <a:pt x="3610" y="81"/>
                  </a:cubicBezTo>
                  <a:close/>
                  <a:moveTo>
                    <a:pt x="2720" y="54"/>
                  </a:moveTo>
                  <a:cubicBezTo>
                    <a:pt x="2720" y="53"/>
                    <a:pt x="2719" y="52"/>
                    <a:pt x="2719" y="52"/>
                  </a:cubicBezTo>
                  <a:cubicBezTo>
                    <a:pt x="2720" y="53"/>
                    <a:pt x="2720" y="53"/>
                    <a:pt x="2720" y="54"/>
                  </a:cubicBezTo>
                  <a:close/>
                  <a:moveTo>
                    <a:pt x="2715" y="90"/>
                  </a:moveTo>
                  <a:cubicBezTo>
                    <a:pt x="2715" y="89"/>
                    <a:pt x="2714" y="87"/>
                    <a:pt x="2713" y="86"/>
                  </a:cubicBezTo>
                  <a:cubicBezTo>
                    <a:pt x="2714" y="87"/>
                    <a:pt x="2715" y="89"/>
                    <a:pt x="2715" y="90"/>
                  </a:cubicBezTo>
                  <a:close/>
                  <a:moveTo>
                    <a:pt x="2835" y="54"/>
                  </a:moveTo>
                  <a:cubicBezTo>
                    <a:pt x="2835" y="54"/>
                    <a:pt x="2835" y="65"/>
                    <a:pt x="2834" y="84"/>
                  </a:cubicBezTo>
                  <a:cubicBezTo>
                    <a:pt x="2836" y="72"/>
                    <a:pt x="2837" y="60"/>
                    <a:pt x="2835" y="54"/>
                  </a:cubicBezTo>
                  <a:close/>
                  <a:moveTo>
                    <a:pt x="2890" y="106"/>
                  </a:moveTo>
                  <a:cubicBezTo>
                    <a:pt x="2890" y="103"/>
                    <a:pt x="2889" y="100"/>
                    <a:pt x="2889" y="96"/>
                  </a:cubicBezTo>
                  <a:cubicBezTo>
                    <a:pt x="2889" y="99"/>
                    <a:pt x="2890" y="103"/>
                    <a:pt x="2890" y="106"/>
                  </a:cubicBezTo>
                  <a:close/>
                  <a:moveTo>
                    <a:pt x="2795" y="47"/>
                  </a:moveTo>
                  <a:cubicBezTo>
                    <a:pt x="2795" y="39"/>
                    <a:pt x="2795" y="33"/>
                    <a:pt x="2793" y="30"/>
                  </a:cubicBezTo>
                  <a:cubicBezTo>
                    <a:pt x="2793" y="30"/>
                    <a:pt x="2794" y="37"/>
                    <a:pt x="2795" y="47"/>
                  </a:cubicBezTo>
                  <a:close/>
                  <a:moveTo>
                    <a:pt x="3995" y="44"/>
                  </a:moveTo>
                  <a:cubicBezTo>
                    <a:pt x="3995" y="43"/>
                    <a:pt x="3995" y="41"/>
                    <a:pt x="3995" y="40"/>
                  </a:cubicBezTo>
                  <a:cubicBezTo>
                    <a:pt x="3995" y="40"/>
                    <a:pt x="3995" y="42"/>
                    <a:pt x="3995" y="44"/>
                  </a:cubicBezTo>
                  <a:close/>
                  <a:moveTo>
                    <a:pt x="4211" y="68"/>
                  </a:moveTo>
                  <a:cubicBezTo>
                    <a:pt x="4211" y="65"/>
                    <a:pt x="4210" y="64"/>
                    <a:pt x="4210" y="64"/>
                  </a:cubicBezTo>
                  <a:cubicBezTo>
                    <a:pt x="4210" y="64"/>
                    <a:pt x="4211" y="66"/>
                    <a:pt x="4211" y="68"/>
                  </a:cubicBezTo>
                  <a:close/>
                  <a:moveTo>
                    <a:pt x="3956" y="52"/>
                  </a:moveTo>
                  <a:cubicBezTo>
                    <a:pt x="3956" y="50"/>
                    <a:pt x="3956" y="49"/>
                    <a:pt x="3956" y="49"/>
                  </a:cubicBezTo>
                  <a:cubicBezTo>
                    <a:pt x="3956" y="50"/>
                    <a:pt x="3956" y="51"/>
                    <a:pt x="3956" y="52"/>
                  </a:cubicBezTo>
                  <a:close/>
                  <a:moveTo>
                    <a:pt x="2672" y="52"/>
                  </a:moveTo>
                  <a:cubicBezTo>
                    <a:pt x="2672" y="50"/>
                    <a:pt x="2672" y="49"/>
                    <a:pt x="2672" y="49"/>
                  </a:cubicBezTo>
                  <a:cubicBezTo>
                    <a:pt x="2672" y="50"/>
                    <a:pt x="2672" y="51"/>
                    <a:pt x="2672" y="52"/>
                  </a:cubicBezTo>
                  <a:close/>
                  <a:moveTo>
                    <a:pt x="4169" y="66"/>
                  </a:moveTo>
                  <a:cubicBezTo>
                    <a:pt x="4169" y="63"/>
                    <a:pt x="4169" y="61"/>
                    <a:pt x="4170" y="59"/>
                  </a:cubicBezTo>
                  <a:cubicBezTo>
                    <a:pt x="4170" y="59"/>
                    <a:pt x="4169" y="62"/>
                    <a:pt x="4169" y="66"/>
                  </a:cubicBezTo>
                  <a:close/>
                  <a:moveTo>
                    <a:pt x="4178" y="100"/>
                  </a:moveTo>
                  <a:cubicBezTo>
                    <a:pt x="4178" y="97"/>
                    <a:pt x="4177" y="95"/>
                    <a:pt x="4177" y="93"/>
                  </a:cubicBezTo>
                  <a:cubicBezTo>
                    <a:pt x="4177" y="96"/>
                    <a:pt x="4178" y="98"/>
                    <a:pt x="4178" y="100"/>
                  </a:cubicBezTo>
                  <a:close/>
                  <a:moveTo>
                    <a:pt x="3772" y="100"/>
                  </a:moveTo>
                  <a:cubicBezTo>
                    <a:pt x="3773" y="98"/>
                    <a:pt x="3773" y="96"/>
                    <a:pt x="3774" y="93"/>
                  </a:cubicBezTo>
                  <a:cubicBezTo>
                    <a:pt x="3773" y="95"/>
                    <a:pt x="3773" y="97"/>
                    <a:pt x="3772" y="100"/>
                  </a:cubicBezTo>
                  <a:close/>
                  <a:moveTo>
                    <a:pt x="3923" y="83"/>
                  </a:moveTo>
                  <a:cubicBezTo>
                    <a:pt x="3922" y="81"/>
                    <a:pt x="3921" y="79"/>
                    <a:pt x="3920" y="78"/>
                  </a:cubicBezTo>
                  <a:cubicBezTo>
                    <a:pt x="3921" y="79"/>
                    <a:pt x="3922" y="81"/>
                    <a:pt x="3923" y="83"/>
                  </a:cubicBezTo>
                  <a:close/>
                  <a:moveTo>
                    <a:pt x="3726" y="68"/>
                  </a:moveTo>
                  <a:cubicBezTo>
                    <a:pt x="3726" y="66"/>
                    <a:pt x="3726" y="65"/>
                    <a:pt x="3726" y="64"/>
                  </a:cubicBezTo>
                  <a:cubicBezTo>
                    <a:pt x="3726" y="64"/>
                    <a:pt x="3726" y="65"/>
                    <a:pt x="3726" y="68"/>
                  </a:cubicBezTo>
                  <a:close/>
                  <a:moveTo>
                    <a:pt x="3705" y="90"/>
                  </a:moveTo>
                  <a:cubicBezTo>
                    <a:pt x="3705" y="89"/>
                    <a:pt x="3704" y="87"/>
                    <a:pt x="3703" y="86"/>
                  </a:cubicBezTo>
                  <a:cubicBezTo>
                    <a:pt x="3704" y="87"/>
                    <a:pt x="3704" y="89"/>
                    <a:pt x="3705" y="90"/>
                  </a:cubicBezTo>
                  <a:close/>
                  <a:moveTo>
                    <a:pt x="3648" y="13"/>
                  </a:moveTo>
                  <a:cubicBezTo>
                    <a:pt x="3648" y="12"/>
                    <a:pt x="3648" y="12"/>
                    <a:pt x="3648" y="12"/>
                  </a:cubicBezTo>
                  <a:cubicBezTo>
                    <a:pt x="3648" y="12"/>
                    <a:pt x="3648" y="13"/>
                    <a:pt x="3648" y="13"/>
                  </a:cubicBezTo>
                  <a:close/>
                  <a:moveTo>
                    <a:pt x="3770" y="61"/>
                  </a:moveTo>
                  <a:cubicBezTo>
                    <a:pt x="3770" y="55"/>
                    <a:pt x="3769" y="49"/>
                    <a:pt x="3768" y="44"/>
                  </a:cubicBezTo>
                  <a:cubicBezTo>
                    <a:pt x="3768" y="44"/>
                    <a:pt x="3769" y="51"/>
                    <a:pt x="3770" y="61"/>
                  </a:cubicBezTo>
                  <a:close/>
                </a:path>
              </a:pathLst>
            </a:custGeom>
            <a:solidFill>
              <a:srgbClr val="00140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1" name="Group 30"/>
            <p:cNvGrpSpPr/>
            <p:nvPr/>
          </p:nvGrpSpPr>
          <p:grpSpPr>
            <a:xfrm>
              <a:off x="14798520" y="2508120"/>
              <a:ext cx="15181200" cy="1064520"/>
              <a:chOff x="14798520" y="2508120"/>
              <a:chExt cx="15181200" cy="1064520"/>
            </a:xfrm>
          </p:grpSpPr>
          <p:sp>
            <p:nvSpPr>
              <p:cNvPr id="2872" name="Freeform 31"/>
              <p:cNvSpPr/>
              <p:nvPr/>
            </p:nvSpPr>
            <p:spPr>
              <a:xfrm>
                <a:off x="14798520" y="2508120"/>
                <a:ext cx="15131880" cy="528120"/>
              </a:xfrm>
              <a:custGeom>
                <a:avLst/>
                <a:gdLst/>
                <a:ahLst/>
                <a:rect l="l" t="t" r="r" b="b"/>
                <a:pathLst>
                  <a:path w="4763" h="166">
                    <a:moveTo>
                      <a:pt x="1928" y="68"/>
                    </a:moveTo>
                    <a:cubicBezTo>
                      <a:pt x="1928" y="66"/>
                      <a:pt x="1928" y="65"/>
                      <a:pt x="1928" y="64"/>
                    </a:cubicBezTo>
                    <a:cubicBezTo>
                      <a:pt x="1928" y="65"/>
                      <a:pt x="1928" y="66"/>
                      <a:pt x="1928" y="68"/>
                    </a:cubicBezTo>
                    <a:close/>
                    <a:moveTo>
                      <a:pt x="1972" y="61"/>
                    </a:moveTo>
                    <a:cubicBezTo>
                      <a:pt x="1972" y="55"/>
                      <a:pt x="1971" y="49"/>
                      <a:pt x="1970" y="44"/>
                    </a:cubicBezTo>
                    <a:cubicBezTo>
                      <a:pt x="1970" y="44"/>
                      <a:pt x="1971" y="51"/>
                      <a:pt x="1972" y="61"/>
                    </a:cubicBezTo>
                    <a:close/>
                    <a:moveTo>
                      <a:pt x="1907" y="90"/>
                    </a:moveTo>
                    <a:cubicBezTo>
                      <a:pt x="1907" y="89"/>
                      <a:pt x="1906" y="87"/>
                      <a:pt x="1905" y="86"/>
                    </a:cubicBezTo>
                    <a:cubicBezTo>
                      <a:pt x="1906" y="87"/>
                      <a:pt x="1906" y="89"/>
                      <a:pt x="1907" y="90"/>
                    </a:cubicBezTo>
                    <a:close/>
                    <a:moveTo>
                      <a:pt x="1733" y="109"/>
                    </a:moveTo>
                    <a:cubicBezTo>
                      <a:pt x="1732" y="104"/>
                      <a:pt x="1732" y="99"/>
                      <a:pt x="1731" y="95"/>
                    </a:cubicBezTo>
                    <a:cubicBezTo>
                      <a:pt x="1731" y="99"/>
                      <a:pt x="1732" y="104"/>
                      <a:pt x="1733" y="109"/>
                    </a:cubicBezTo>
                    <a:close/>
                    <a:moveTo>
                      <a:pt x="1412" y="88"/>
                    </a:moveTo>
                    <a:cubicBezTo>
                      <a:pt x="1411" y="86"/>
                      <a:pt x="1410" y="83"/>
                      <a:pt x="1408" y="81"/>
                    </a:cubicBezTo>
                    <a:cubicBezTo>
                      <a:pt x="1409" y="83"/>
                      <a:pt x="1411" y="86"/>
                      <a:pt x="1412" y="88"/>
                    </a:cubicBezTo>
                    <a:close/>
                    <a:moveTo>
                      <a:pt x="1519" y="102"/>
                    </a:moveTo>
                    <a:cubicBezTo>
                      <a:pt x="1518" y="100"/>
                      <a:pt x="1517" y="97"/>
                      <a:pt x="1516" y="96"/>
                    </a:cubicBezTo>
                    <a:cubicBezTo>
                      <a:pt x="1517" y="98"/>
                      <a:pt x="1518" y="100"/>
                      <a:pt x="1519" y="102"/>
                    </a:cubicBezTo>
                    <a:close/>
                    <a:moveTo>
                      <a:pt x="1280" y="79"/>
                    </a:moveTo>
                    <a:cubicBezTo>
                      <a:pt x="1279" y="76"/>
                      <a:pt x="1278" y="73"/>
                      <a:pt x="1276" y="70"/>
                    </a:cubicBezTo>
                    <a:cubicBezTo>
                      <a:pt x="1278" y="73"/>
                      <a:pt x="1279" y="76"/>
                      <a:pt x="1280" y="79"/>
                    </a:cubicBezTo>
                    <a:close/>
                    <a:moveTo>
                      <a:pt x="1270" y="81"/>
                    </a:moveTo>
                    <a:cubicBezTo>
                      <a:pt x="1264" y="61"/>
                      <a:pt x="1253" y="46"/>
                      <a:pt x="1237" y="25"/>
                    </a:cubicBezTo>
                    <a:cubicBezTo>
                      <a:pt x="1253" y="48"/>
                      <a:pt x="1263" y="64"/>
                      <a:pt x="1270" y="81"/>
                    </a:cubicBezTo>
                    <a:close/>
                    <a:moveTo>
                      <a:pt x="1572" y="100"/>
                    </a:moveTo>
                    <a:cubicBezTo>
                      <a:pt x="1572" y="97"/>
                      <a:pt x="1571" y="95"/>
                      <a:pt x="1570" y="93"/>
                    </a:cubicBezTo>
                    <a:cubicBezTo>
                      <a:pt x="1571" y="96"/>
                      <a:pt x="1572" y="98"/>
                      <a:pt x="1572" y="100"/>
                    </a:cubicBezTo>
                    <a:close/>
                    <a:moveTo>
                      <a:pt x="1812" y="81"/>
                    </a:moveTo>
                    <a:cubicBezTo>
                      <a:pt x="1810" y="75"/>
                      <a:pt x="1808" y="70"/>
                      <a:pt x="1806" y="67"/>
                    </a:cubicBezTo>
                    <a:cubicBezTo>
                      <a:pt x="1806" y="67"/>
                      <a:pt x="1809" y="72"/>
                      <a:pt x="1812" y="81"/>
                    </a:cubicBezTo>
                    <a:close/>
                    <a:moveTo>
                      <a:pt x="1850" y="13"/>
                    </a:moveTo>
                    <a:cubicBezTo>
                      <a:pt x="1850" y="12"/>
                      <a:pt x="1850" y="12"/>
                      <a:pt x="1850" y="12"/>
                    </a:cubicBezTo>
                    <a:cubicBezTo>
                      <a:pt x="1850" y="12"/>
                      <a:pt x="1850" y="13"/>
                      <a:pt x="1850" y="13"/>
                    </a:cubicBezTo>
                    <a:close/>
                    <a:moveTo>
                      <a:pt x="1974" y="100"/>
                    </a:moveTo>
                    <a:cubicBezTo>
                      <a:pt x="1975" y="98"/>
                      <a:pt x="1975" y="96"/>
                      <a:pt x="1976" y="93"/>
                    </a:cubicBezTo>
                    <a:cubicBezTo>
                      <a:pt x="1975" y="95"/>
                      <a:pt x="1975" y="97"/>
                      <a:pt x="1974" y="100"/>
                    </a:cubicBezTo>
                    <a:close/>
                    <a:moveTo>
                      <a:pt x="2660" y="105"/>
                    </a:moveTo>
                    <a:cubicBezTo>
                      <a:pt x="2660" y="103"/>
                      <a:pt x="2660" y="101"/>
                      <a:pt x="2659" y="99"/>
                    </a:cubicBezTo>
                    <a:cubicBezTo>
                      <a:pt x="2659" y="101"/>
                      <a:pt x="2660" y="103"/>
                      <a:pt x="2660" y="105"/>
                    </a:cubicBezTo>
                    <a:close/>
                    <a:moveTo>
                      <a:pt x="2371" y="66"/>
                    </a:moveTo>
                    <a:cubicBezTo>
                      <a:pt x="2371" y="63"/>
                      <a:pt x="2371" y="61"/>
                      <a:pt x="2372" y="59"/>
                    </a:cubicBezTo>
                    <a:cubicBezTo>
                      <a:pt x="2372" y="59"/>
                      <a:pt x="2371" y="62"/>
                      <a:pt x="2371" y="66"/>
                    </a:cubicBezTo>
                    <a:close/>
                    <a:moveTo>
                      <a:pt x="2380" y="100"/>
                    </a:moveTo>
                    <a:cubicBezTo>
                      <a:pt x="2380" y="97"/>
                      <a:pt x="2379" y="95"/>
                      <a:pt x="2379" y="93"/>
                    </a:cubicBezTo>
                    <a:cubicBezTo>
                      <a:pt x="2379" y="96"/>
                      <a:pt x="2380" y="98"/>
                      <a:pt x="2380" y="100"/>
                    </a:cubicBezTo>
                    <a:close/>
                    <a:moveTo>
                      <a:pt x="2413" y="68"/>
                    </a:moveTo>
                    <a:cubicBezTo>
                      <a:pt x="2413" y="65"/>
                      <a:pt x="2412" y="64"/>
                      <a:pt x="2412" y="64"/>
                    </a:cubicBezTo>
                    <a:cubicBezTo>
                      <a:pt x="2412" y="64"/>
                      <a:pt x="2413" y="66"/>
                      <a:pt x="2413" y="68"/>
                    </a:cubicBezTo>
                    <a:close/>
                    <a:moveTo>
                      <a:pt x="2486" y="61"/>
                    </a:moveTo>
                    <a:cubicBezTo>
                      <a:pt x="2486" y="55"/>
                      <a:pt x="2485" y="49"/>
                      <a:pt x="2484" y="44"/>
                    </a:cubicBezTo>
                    <a:cubicBezTo>
                      <a:pt x="2484" y="44"/>
                      <a:pt x="2485" y="51"/>
                      <a:pt x="2486" y="61"/>
                    </a:cubicBezTo>
                    <a:close/>
                    <a:moveTo>
                      <a:pt x="2562" y="68"/>
                    </a:moveTo>
                    <a:cubicBezTo>
                      <a:pt x="2562" y="68"/>
                      <a:pt x="2562" y="71"/>
                      <a:pt x="2562" y="75"/>
                    </a:cubicBezTo>
                    <a:cubicBezTo>
                      <a:pt x="2562" y="72"/>
                      <a:pt x="2562" y="70"/>
                      <a:pt x="2562" y="68"/>
                    </a:cubicBezTo>
                    <a:close/>
                    <a:moveTo>
                      <a:pt x="2197" y="44"/>
                    </a:moveTo>
                    <a:cubicBezTo>
                      <a:pt x="2197" y="43"/>
                      <a:pt x="2197" y="41"/>
                      <a:pt x="2197" y="40"/>
                    </a:cubicBezTo>
                    <a:cubicBezTo>
                      <a:pt x="2197" y="40"/>
                      <a:pt x="2197" y="42"/>
                      <a:pt x="2197" y="44"/>
                    </a:cubicBezTo>
                    <a:close/>
                    <a:moveTo>
                      <a:pt x="2125" y="83"/>
                    </a:moveTo>
                    <a:cubicBezTo>
                      <a:pt x="2124" y="81"/>
                      <a:pt x="2123" y="79"/>
                      <a:pt x="2122" y="78"/>
                    </a:cubicBezTo>
                    <a:cubicBezTo>
                      <a:pt x="2123" y="79"/>
                      <a:pt x="2124" y="81"/>
                      <a:pt x="2125" y="83"/>
                    </a:cubicBezTo>
                    <a:close/>
                    <a:moveTo>
                      <a:pt x="2569" y="62"/>
                    </a:moveTo>
                    <a:cubicBezTo>
                      <a:pt x="2569" y="61"/>
                      <a:pt x="2569" y="60"/>
                      <a:pt x="2569" y="60"/>
                    </a:cubicBezTo>
                    <a:cubicBezTo>
                      <a:pt x="2569" y="60"/>
                      <a:pt x="2569" y="61"/>
                      <a:pt x="2569" y="62"/>
                    </a:cubicBezTo>
                    <a:close/>
                    <a:moveTo>
                      <a:pt x="2158" y="52"/>
                    </a:moveTo>
                    <a:cubicBezTo>
                      <a:pt x="2158" y="50"/>
                      <a:pt x="2158" y="49"/>
                      <a:pt x="2158" y="49"/>
                    </a:cubicBezTo>
                    <a:cubicBezTo>
                      <a:pt x="2158" y="50"/>
                      <a:pt x="2158" y="51"/>
                      <a:pt x="2158" y="52"/>
                    </a:cubicBezTo>
                    <a:close/>
                    <a:moveTo>
                      <a:pt x="2143" y="33"/>
                    </a:moveTo>
                    <a:cubicBezTo>
                      <a:pt x="2143" y="30"/>
                      <a:pt x="2143" y="28"/>
                      <a:pt x="2142" y="25"/>
                    </a:cubicBezTo>
                    <a:cubicBezTo>
                      <a:pt x="2142" y="25"/>
                      <a:pt x="2143" y="28"/>
                      <a:pt x="2143" y="33"/>
                    </a:cubicBezTo>
                    <a:close/>
                    <a:moveTo>
                      <a:pt x="2441" y="67"/>
                    </a:moveTo>
                    <a:cubicBezTo>
                      <a:pt x="2442" y="66"/>
                      <a:pt x="2442" y="65"/>
                      <a:pt x="2441" y="64"/>
                    </a:cubicBezTo>
                    <a:cubicBezTo>
                      <a:pt x="2441" y="64"/>
                      <a:pt x="2441" y="65"/>
                      <a:pt x="2441" y="67"/>
                    </a:cubicBezTo>
                    <a:close/>
                    <a:moveTo>
                      <a:pt x="130" y="68"/>
                    </a:moveTo>
                    <a:cubicBezTo>
                      <a:pt x="130" y="66"/>
                      <a:pt x="130" y="65"/>
                      <a:pt x="130" y="64"/>
                    </a:cubicBezTo>
                    <a:cubicBezTo>
                      <a:pt x="130" y="64"/>
                      <a:pt x="130" y="65"/>
                      <a:pt x="130" y="68"/>
                    </a:cubicBezTo>
                    <a:close/>
                    <a:moveTo>
                      <a:pt x="360" y="52"/>
                    </a:moveTo>
                    <a:cubicBezTo>
                      <a:pt x="360" y="50"/>
                      <a:pt x="360" y="49"/>
                      <a:pt x="360" y="49"/>
                    </a:cubicBezTo>
                    <a:cubicBezTo>
                      <a:pt x="360" y="50"/>
                      <a:pt x="360" y="51"/>
                      <a:pt x="360" y="52"/>
                    </a:cubicBezTo>
                    <a:close/>
                    <a:moveTo>
                      <a:pt x="345" y="33"/>
                    </a:moveTo>
                    <a:cubicBezTo>
                      <a:pt x="345" y="30"/>
                      <a:pt x="345" y="28"/>
                      <a:pt x="344" y="25"/>
                    </a:cubicBezTo>
                    <a:cubicBezTo>
                      <a:pt x="344" y="25"/>
                      <a:pt x="345" y="28"/>
                      <a:pt x="345" y="33"/>
                    </a:cubicBezTo>
                    <a:close/>
                    <a:moveTo>
                      <a:pt x="327" y="83"/>
                    </a:moveTo>
                    <a:cubicBezTo>
                      <a:pt x="326" y="81"/>
                      <a:pt x="325" y="79"/>
                      <a:pt x="324" y="78"/>
                    </a:cubicBezTo>
                    <a:cubicBezTo>
                      <a:pt x="325" y="79"/>
                      <a:pt x="326" y="81"/>
                      <a:pt x="327" y="83"/>
                    </a:cubicBezTo>
                    <a:close/>
                    <a:moveTo>
                      <a:pt x="399" y="44"/>
                    </a:moveTo>
                    <a:cubicBezTo>
                      <a:pt x="399" y="43"/>
                      <a:pt x="399" y="41"/>
                      <a:pt x="399" y="40"/>
                    </a:cubicBezTo>
                    <a:cubicBezTo>
                      <a:pt x="399" y="40"/>
                      <a:pt x="399" y="42"/>
                      <a:pt x="399" y="44"/>
                    </a:cubicBezTo>
                    <a:close/>
                    <a:moveTo>
                      <a:pt x="176" y="100"/>
                    </a:moveTo>
                    <a:cubicBezTo>
                      <a:pt x="177" y="98"/>
                      <a:pt x="177" y="96"/>
                      <a:pt x="178" y="93"/>
                    </a:cubicBezTo>
                    <a:cubicBezTo>
                      <a:pt x="177" y="95"/>
                      <a:pt x="177" y="97"/>
                      <a:pt x="176" y="100"/>
                    </a:cubicBezTo>
                    <a:close/>
                    <a:moveTo>
                      <a:pt x="573" y="66"/>
                    </a:moveTo>
                    <a:cubicBezTo>
                      <a:pt x="573" y="63"/>
                      <a:pt x="574" y="61"/>
                      <a:pt x="574" y="59"/>
                    </a:cubicBezTo>
                    <a:cubicBezTo>
                      <a:pt x="574" y="59"/>
                      <a:pt x="573" y="62"/>
                      <a:pt x="573" y="66"/>
                    </a:cubicBezTo>
                    <a:close/>
                    <a:moveTo>
                      <a:pt x="14" y="81"/>
                    </a:moveTo>
                    <a:cubicBezTo>
                      <a:pt x="12" y="75"/>
                      <a:pt x="10" y="70"/>
                      <a:pt x="9" y="67"/>
                    </a:cubicBezTo>
                    <a:cubicBezTo>
                      <a:pt x="9" y="67"/>
                      <a:pt x="11" y="72"/>
                      <a:pt x="14" y="81"/>
                    </a:cubicBezTo>
                    <a:close/>
                    <a:moveTo>
                      <a:pt x="52" y="13"/>
                    </a:move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3"/>
                      <a:pt x="52" y="13"/>
                    </a:cubicBezTo>
                    <a:close/>
                    <a:moveTo>
                      <a:pt x="583" y="100"/>
                    </a:moveTo>
                    <a:cubicBezTo>
                      <a:pt x="582" y="97"/>
                      <a:pt x="582" y="95"/>
                      <a:pt x="581" y="93"/>
                    </a:cubicBezTo>
                    <a:cubicBezTo>
                      <a:pt x="581" y="96"/>
                      <a:pt x="582" y="98"/>
                      <a:pt x="583" y="100"/>
                    </a:cubicBezTo>
                    <a:close/>
                    <a:moveTo>
                      <a:pt x="2668" y="65"/>
                    </a:moveTo>
                    <a:cubicBezTo>
                      <a:pt x="2668" y="64"/>
                      <a:pt x="2668" y="63"/>
                      <a:pt x="2668" y="63"/>
                    </a:cubicBezTo>
                    <a:cubicBezTo>
                      <a:pt x="2668" y="63"/>
                      <a:pt x="2668" y="64"/>
                      <a:pt x="2668" y="65"/>
                    </a:cubicBezTo>
                    <a:close/>
                    <a:moveTo>
                      <a:pt x="109" y="90"/>
                    </a:moveTo>
                    <a:cubicBezTo>
                      <a:pt x="109" y="89"/>
                      <a:pt x="108" y="87"/>
                      <a:pt x="107" y="86"/>
                    </a:cubicBezTo>
                    <a:cubicBezTo>
                      <a:pt x="108" y="87"/>
                      <a:pt x="109" y="89"/>
                      <a:pt x="109" y="90"/>
                    </a:cubicBezTo>
                    <a:close/>
                    <a:moveTo>
                      <a:pt x="174" y="61"/>
                    </a:moveTo>
                    <a:cubicBezTo>
                      <a:pt x="174" y="55"/>
                      <a:pt x="174" y="49"/>
                      <a:pt x="172" y="44"/>
                    </a:cubicBezTo>
                    <a:cubicBezTo>
                      <a:pt x="172" y="44"/>
                      <a:pt x="173" y="51"/>
                      <a:pt x="174" y="61"/>
                    </a:cubicBezTo>
                    <a:close/>
                    <a:moveTo>
                      <a:pt x="615" y="68"/>
                    </a:moveTo>
                    <a:cubicBezTo>
                      <a:pt x="615" y="65"/>
                      <a:pt x="614" y="64"/>
                      <a:pt x="614" y="64"/>
                    </a:cubicBezTo>
                    <a:cubicBezTo>
                      <a:pt x="614" y="64"/>
                      <a:pt x="615" y="66"/>
                      <a:pt x="615" y="68"/>
                    </a:cubicBezTo>
                    <a:close/>
                    <a:moveTo>
                      <a:pt x="922" y="54"/>
                    </a:moveTo>
                    <a:cubicBezTo>
                      <a:pt x="922" y="53"/>
                      <a:pt x="922" y="52"/>
                      <a:pt x="922" y="52"/>
                    </a:cubicBezTo>
                    <a:cubicBezTo>
                      <a:pt x="922" y="53"/>
                      <a:pt x="922" y="53"/>
                      <a:pt x="922" y="54"/>
                    </a:cubicBezTo>
                    <a:close/>
                    <a:moveTo>
                      <a:pt x="870" y="65"/>
                    </a:moveTo>
                    <a:cubicBezTo>
                      <a:pt x="870" y="64"/>
                      <a:pt x="870" y="63"/>
                      <a:pt x="870" y="63"/>
                    </a:cubicBezTo>
                    <a:cubicBezTo>
                      <a:pt x="870" y="63"/>
                      <a:pt x="870" y="64"/>
                      <a:pt x="870" y="65"/>
                    </a:cubicBezTo>
                    <a:close/>
                    <a:moveTo>
                      <a:pt x="874" y="52"/>
                    </a:moveTo>
                    <a:cubicBezTo>
                      <a:pt x="874" y="50"/>
                      <a:pt x="874" y="49"/>
                      <a:pt x="874" y="49"/>
                    </a:cubicBezTo>
                    <a:cubicBezTo>
                      <a:pt x="874" y="50"/>
                      <a:pt x="874" y="51"/>
                      <a:pt x="874" y="52"/>
                    </a:cubicBezTo>
                    <a:close/>
                    <a:moveTo>
                      <a:pt x="918" y="90"/>
                    </a:moveTo>
                    <a:cubicBezTo>
                      <a:pt x="917" y="89"/>
                      <a:pt x="916" y="87"/>
                      <a:pt x="915" y="86"/>
                    </a:cubicBezTo>
                    <a:cubicBezTo>
                      <a:pt x="916" y="87"/>
                      <a:pt x="917" y="89"/>
                      <a:pt x="918" y="90"/>
                    </a:cubicBezTo>
                    <a:close/>
                    <a:moveTo>
                      <a:pt x="1037" y="54"/>
                    </a:moveTo>
                    <a:cubicBezTo>
                      <a:pt x="1037" y="54"/>
                      <a:pt x="1037" y="65"/>
                      <a:pt x="1036" y="84"/>
                    </a:cubicBezTo>
                    <a:cubicBezTo>
                      <a:pt x="1038" y="72"/>
                      <a:pt x="1039" y="60"/>
                      <a:pt x="1037" y="54"/>
                    </a:cubicBezTo>
                    <a:close/>
                    <a:moveTo>
                      <a:pt x="998" y="47"/>
                    </a:moveTo>
                    <a:cubicBezTo>
                      <a:pt x="997" y="39"/>
                      <a:pt x="997" y="33"/>
                      <a:pt x="996" y="30"/>
                    </a:cubicBezTo>
                    <a:cubicBezTo>
                      <a:pt x="996" y="30"/>
                      <a:pt x="996" y="37"/>
                      <a:pt x="998" y="47"/>
                    </a:cubicBezTo>
                    <a:close/>
                    <a:moveTo>
                      <a:pt x="688" y="61"/>
                    </a:moveTo>
                    <a:cubicBezTo>
                      <a:pt x="688" y="55"/>
                      <a:pt x="687" y="49"/>
                      <a:pt x="686" y="44"/>
                    </a:cubicBezTo>
                    <a:cubicBezTo>
                      <a:pt x="686" y="44"/>
                      <a:pt x="687" y="51"/>
                      <a:pt x="688" y="61"/>
                    </a:cubicBezTo>
                    <a:close/>
                    <a:moveTo>
                      <a:pt x="862" y="105"/>
                    </a:moveTo>
                    <a:cubicBezTo>
                      <a:pt x="862" y="103"/>
                      <a:pt x="862" y="101"/>
                      <a:pt x="861" y="99"/>
                    </a:cubicBezTo>
                    <a:cubicBezTo>
                      <a:pt x="861" y="101"/>
                      <a:pt x="862" y="103"/>
                      <a:pt x="862" y="105"/>
                    </a:cubicBezTo>
                    <a:close/>
                    <a:moveTo>
                      <a:pt x="644" y="67"/>
                    </a:moveTo>
                    <a:cubicBezTo>
                      <a:pt x="644" y="66"/>
                      <a:pt x="644" y="65"/>
                      <a:pt x="644" y="64"/>
                    </a:cubicBezTo>
                    <a:cubicBezTo>
                      <a:pt x="644" y="64"/>
                      <a:pt x="644" y="65"/>
                      <a:pt x="644" y="67"/>
                    </a:cubicBezTo>
                    <a:close/>
                    <a:moveTo>
                      <a:pt x="1092" y="106"/>
                    </a:moveTo>
                    <a:cubicBezTo>
                      <a:pt x="1092" y="103"/>
                      <a:pt x="1092" y="100"/>
                      <a:pt x="1091" y="96"/>
                    </a:cubicBezTo>
                    <a:cubicBezTo>
                      <a:pt x="1091" y="99"/>
                      <a:pt x="1092" y="103"/>
                      <a:pt x="1092" y="106"/>
                    </a:cubicBezTo>
                    <a:close/>
                    <a:moveTo>
                      <a:pt x="764" y="68"/>
                    </a:moveTo>
                    <a:cubicBezTo>
                      <a:pt x="764" y="68"/>
                      <a:pt x="764" y="71"/>
                      <a:pt x="764" y="75"/>
                    </a:cubicBezTo>
                    <a:cubicBezTo>
                      <a:pt x="764" y="72"/>
                      <a:pt x="764" y="70"/>
                      <a:pt x="764" y="68"/>
                    </a:cubicBezTo>
                    <a:close/>
                    <a:moveTo>
                      <a:pt x="771" y="62"/>
                    </a:moveTo>
                    <a:cubicBezTo>
                      <a:pt x="771" y="61"/>
                      <a:pt x="771" y="60"/>
                      <a:pt x="771" y="60"/>
                    </a:cubicBezTo>
                    <a:cubicBezTo>
                      <a:pt x="771" y="60"/>
                      <a:pt x="771" y="61"/>
                      <a:pt x="771" y="62"/>
                    </a:cubicBezTo>
                    <a:close/>
                    <a:moveTo>
                      <a:pt x="4239" y="67"/>
                    </a:moveTo>
                    <a:cubicBezTo>
                      <a:pt x="4239" y="66"/>
                      <a:pt x="4240" y="65"/>
                      <a:pt x="4239" y="64"/>
                    </a:cubicBezTo>
                    <a:cubicBezTo>
                      <a:pt x="4239" y="64"/>
                      <a:pt x="4239" y="65"/>
                      <a:pt x="4239" y="67"/>
                    </a:cubicBezTo>
                    <a:close/>
                    <a:moveTo>
                      <a:pt x="4593" y="47"/>
                    </a:moveTo>
                    <a:cubicBezTo>
                      <a:pt x="4593" y="39"/>
                      <a:pt x="4593" y="33"/>
                      <a:pt x="4591" y="30"/>
                    </a:cubicBezTo>
                    <a:cubicBezTo>
                      <a:pt x="4591" y="30"/>
                      <a:pt x="4592" y="37"/>
                      <a:pt x="4593" y="47"/>
                    </a:cubicBezTo>
                    <a:close/>
                    <a:moveTo>
                      <a:pt x="4518" y="54"/>
                    </a:moveTo>
                    <a:cubicBezTo>
                      <a:pt x="4518" y="53"/>
                      <a:pt x="4517" y="52"/>
                      <a:pt x="4517" y="52"/>
                    </a:cubicBezTo>
                    <a:cubicBezTo>
                      <a:pt x="4518" y="53"/>
                      <a:pt x="4518" y="53"/>
                      <a:pt x="4518" y="54"/>
                    </a:cubicBezTo>
                    <a:close/>
                    <a:moveTo>
                      <a:pt x="4633" y="54"/>
                    </a:moveTo>
                    <a:cubicBezTo>
                      <a:pt x="4633" y="54"/>
                      <a:pt x="4633" y="65"/>
                      <a:pt x="4632" y="84"/>
                    </a:cubicBezTo>
                    <a:cubicBezTo>
                      <a:pt x="4634" y="72"/>
                      <a:pt x="4635" y="60"/>
                      <a:pt x="4633" y="54"/>
                    </a:cubicBezTo>
                    <a:close/>
                    <a:moveTo>
                      <a:pt x="4513" y="90"/>
                    </a:moveTo>
                    <a:cubicBezTo>
                      <a:pt x="4513" y="89"/>
                      <a:pt x="4512" y="87"/>
                      <a:pt x="4511" y="86"/>
                    </a:cubicBezTo>
                    <a:cubicBezTo>
                      <a:pt x="4512" y="87"/>
                      <a:pt x="4513" y="89"/>
                      <a:pt x="4513" y="90"/>
                    </a:cubicBezTo>
                    <a:close/>
                    <a:moveTo>
                      <a:pt x="4688" y="106"/>
                    </a:moveTo>
                    <a:cubicBezTo>
                      <a:pt x="4688" y="103"/>
                      <a:pt x="4687" y="100"/>
                      <a:pt x="4687" y="96"/>
                    </a:cubicBezTo>
                    <a:cubicBezTo>
                      <a:pt x="4687" y="99"/>
                      <a:pt x="4688" y="103"/>
                      <a:pt x="4688" y="106"/>
                    </a:cubicBezTo>
                    <a:close/>
                    <a:moveTo>
                      <a:pt x="886" y="106"/>
                    </a:moveTo>
                    <a:cubicBezTo>
                      <a:pt x="886" y="103"/>
                      <a:pt x="885" y="101"/>
                      <a:pt x="885" y="99"/>
                    </a:cubicBezTo>
                    <a:cubicBezTo>
                      <a:pt x="885" y="101"/>
                      <a:pt x="885" y="103"/>
                      <a:pt x="886" y="106"/>
                    </a:cubicBezTo>
                    <a:close/>
                    <a:moveTo>
                      <a:pt x="4284" y="61"/>
                    </a:moveTo>
                    <a:cubicBezTo>
                      <a:pt x="4284" y="55"/>
                      <a:pt x="4283" y="49"/>
                      <a:pt x="4282" y="44"/>
                    </a:cubicBezTo>
                    <a:cubicBezTo>
                      <a:pt x="4282" y="44"/>
                      <a:pt x="4283" y="51"/>
                      <a:pt x="4284" y="61"/>
                    </a:cubicBezTo>
                    <a:close/>
                    <a:moveTo>
                      <a:pt x="4367" y="62"/>
                    </a:moveTo>
                    <a:cubicBezTo>
                      <a:pt x="4367" y="61"/>
                      <a:pt x="4367" y="60"/>
                      <a:pt x="4367" y="60"/>
                    </a:cubicBezTo>
                    <a:cubicBezTo>
                      <a:pt x="4367" y="60"/>
                      <a:pt x="4367" y="61"/>
                      <a:pt x="4367" y="62"/>
                    </a:cubicBezTo>
                    <a:close/>
                    <a:moveTo>
                      <a:pt x="4470" y="52"/>
                    </a:moveTo>
                    <a:cubicBezTo>
                      <a:pt x="4470" y="50"/>
                      <a:pt x="4470" y="49"/>
                      <a:pt x="4470" y="49"/>
                    </a:cubicBezTo>
                    <a:cubicBezTo>
                      <a:pt x="4470" y="50"/>
                      <a:pt x="4470" y="51"/>
                      <a:pt x="4470" y="52"/>
                    </a:cubicBezTo>
                    <a:close/>
                    <a:moveTo>
                      <a:pt x="4360" y="68"/>
                    </a:moveTo>
                    <a:cubicBezTo>
                      <a:pt x="4360" y="68"/>
                      <a:pt x="4360" y="71"/>
                      <a:pt x="4360" y="75"/>
                    </a:cubicBezTo>
                    <a:cubicBezTo>
                      <a:pt x="4360" y="72"/>
                      <a:pt x="4360" y="70"/>
                      <a:pt x="4360" y="68"/>
                    </a:cubicBezTo>
                    <a:close/>
                    <a:moveTo>
                      <a:pt x="4748" y="85"/>
                    </a:moveTo>
                    <a:cubicBezTo>
                      <a:pt x="4748" y="84"/>
                      <a:pt x="4748" y="84"/>
                      <a:pt x="4747" y="83"/>
                    </a:cubicBezTo>
                    <a:cubicBezTo>
                      <a:pt x="4748" y="84"/>
                      <a:pt x="4748" y="84"/>
                      <a:pt x="4748" y="85"/>
                    </a:cubicBezTo>
                    <a:close/>
                    <a:moveTo>
                      <a:pt x="4748" y="85"/>
                    </a:moveTo>
                    <a:cubicBezTo>
                      <a:pt x="4750" y="92"/>
                      <a:pt x="4750" y="108"/>
                      <a:pt x="4750" y="115"/>
                    </a:cubicBezTo>
                    <a:cubicBezTo>
                      <a:pt x="4750" y="127"/>
                      <a:pt x="4750" y="138"/>
                      <a:pt x="4752" y="150"/>
                    </a:cubicBezTo>
                    <a:cubicBezTo>
                      <a:pt x="4743" y="126"/>
                      <a:pt x="4740" y="99"/>
                      <a:pt x="4733" y="74"/>
                    </a:cubicBezTo>
                    <a:cubicBezTo>
                      <a:pt x="4736" y="91"/>
                      <a:pt x="4732" y="110"/>
                      <a:pt x="4732" y="128"/>
                    </a:cubicBezTo>
                    <a:cubicBezTo>
                      <a:pt x="4732" y="132"/>
                      <a:pt x="4733" y="136"/>
                      <a:pt x="4733" y="140"/>
                    </a:cubicBezTo>
                    <a:cubicBezTo>
                      <a:pt x="4733" y="145"/>
                      <a:pt x="4734" y="149"/>
                      <a:pt x="4735" y="154"/>
                    </a:cubicBezTo>
                    <a:cubicBezTo>
                      <a:pt x="4734" y="149"/>
                      <a:pt x="4733" y="145"/>
                      <a:pt x="4733" y="140"/>
                    </a:cubicBezTo>
                    <a:cubicBezTo>
                      <a:pt x="4730" y="120"/>
                      <a:pt x="4727" y="99"/>
                      <a:pt x="4722" y="80"/>
                    </a:cubicBezTo>
                    <a:cubicBezTo>
                      <a:pt x="4724" y="102"/>
                      <a:pt x="4714" y="126"/>
                      <a:pt x="4714" y="149"/>
                    </a:cubicBezTo>
                    <a:cubicBezTo>
                      <a:pt x="4714" y="156"/>
                      <a:pt x="4714" y="156"/>
                      <a:pt x="4714" y="156"/>
                    </a:cubicBezTo>
                    <a:cubicBezTo>
                      <a:pt x="4710" y="147"/>
                      <a:pt x="4710" y="132"/>
                      <a:pt x="4710" y="122"/>
                    </a:cubicBezTo>
                    <a:cubicBezTo>
                      <a:pt x="4710" y="100"/>
                      <a:pt x="4712" y="79"/>
                      <a:pt x="4711" y="57"/>
                    </a:cubicBezTo>
                    <a:cubicBezTo>
                      <a:pt x="4708" y="62"/>
                      <a:pt x="4707" y="112"/>
                      <a:pt x="4707" y="120"/>
                    </a:cubicBezTo>
                    <a:cubicBezTo>
                      <a:pt x="4707" y="133"/>
                      <a:pt x="4708" y="146"/>
                      <a:pt x="4711" y="159"/>
                    </a:cubicBezTo>
                    <a:cubicBezTo>
                      <a:pt x="4706" y="135"/>
                      <a:pt x="4700" y="108"/>
                      <a:pt x="4688" y="85"/>
                    </a:cubicBezTo>
                    <a:cubicBezTo>
                      <a:pt x="4699" y="106"/>
                      <a:pt x="4694" y="132"/>
                      <a:pt x="4701" y="154"/>
                    </a:cubicBezTo>
                    <a:cubicBezTo>
                      <a:pt x="4693" y="142"/>
                      <a:pt x="4691" y="122"/>
                      <a:pt x="4688" y="106"/>
                    </a:cubicBezTo>
                    <a:cubicBezTo>
                      <a:pt x="4690" y="120"/>
                      <a:pt x="4688" y="134"/>
                      <a:pt x="4690" y="148"/>
                    </a:cubicBezTo>
                    <a:cubicBezTo>
                      <a:pt x="4691" y="151"/>
                      <a:pt x="4692" y="153"/>
                      <a:pt x="4692" y="155"/>
                    </a:cubicBezTo>
                    <a:cubicBezTo>
                      <a:pt x="4691" y="153"/>
                      <a:pt x="4691" y="151"/>
                      <a:pt x="4690" y="148"/>
                    </a:cubicBezTo>
                    <a:cubicBezTo>
                      <a:pt x="4685" y="128"/>
                      <a:pt x="4673" y="75"/>
                      <a:pt x="4661" y="68"/>
                    </a:cubicBezTo>
                    <a:cubicBezTo>
                      <a:pt x="4678" y="90"/>
                      <a:pt x="4676" y="127"/>
                      <a:pt x="4680" y="153"/>
                    </a:cubicBezTo>
                    <a:cubicBezTo>
                      <a:pt x="4676" y="134"/>
                      <a:pt x="4669" y="113"/>
                      <a:pt x="4660" y="95"/>
                    </a:cubicBezTo>
                    <a:cubicBezTo>
                      <a:pt x="4667" y="115"/>
                      <a:pt x="4666" y="136"/>
                      <a:pt x="4675" y="155"/>
                    </a:cubicBezTo>
                    <a:cubicBezTo>
                      <a:pt x="4662" y="144"/>
                      <a:pt x="4655" y="117"/>
                      <a:pt x="4651" y="102"/>
                    </a:cubicBezTo>
                    <a:cubicBezTo>
                      <a:pt x="4651" y="120"/>
                      <a:pt x="4656" y="143"/>
                      <a:pt x="4667" y="158"/>
                    </a:cubicBezTo>
                    <a:cubicBezTo>
                      <a:pt x="4653" y="144"/>
                      <a:pt x="4648" y="103"/>
                      <a:pt x="4643" y="85"/>
                    </a:cubicBezTo>
                    <a:cubicBezTo>
                      <a:pt x="4642" y="88"/>
                      <a:pt x="4642" y="91"/>
                      <a:pt x="4642" y="94"/>
                    </a:cubicBezTo>
                    <a:cubicBezTo>
                      <a:pt x="4642" y="113"/>
                      <a:pt x="4647" y="142"/>
                      <a:pt x="4659" y="159"/>
                    </a:cubicBezTo>
                    <a:cubicBezTo>
                      <a:pt x="4645" y="143"/>
                      <a:pt x="4640" y="123"/>
                      <a:pt x="4634" y="104"/>
                    </a:cubicBezTo>
                    <a:cubicBezTo>
                      <a:pt x="4638" y="122"/>
                      <a:pt x="4638" y="140"/>
                      <a:pt x="4647" y="158"/>
                    </a:cubicBezTo>
                    <a:cubicBezTo>
                      <a:pt x="4637" y="147"/>
                      <a:pt x="4632" y="132"/>
                      <a:pt x="4628" y="117"/>
                    </a:cubicBezTo>
                    <a:cubicBezTo>
                      <a:pt x="4630" y="105"/>
                      <a:pt x="4631" y="93"/>
                      <a:pt x="4632" y="84"/>
                    </a:cubicBezTo>
                    <a:cubicBezTo>
                      <a:pt x="4630" y="92"/>
                      <a:pt x="4628" y="101"/>
                      <a:pt x="4626" y="109"/>
                    </a:cubicBezTo>
                    <a:cubicBezTo>
                      <a:pt x="4625" y="102"/>
                      <a:pt x="4623" y="95"/>
                      <a:pt x="4621" y="89"/>
                    </a:cubicBezTo>
                    <a:cubicBezTo>
                      <a:pt x="4624" y="64"/>
                      <a:pt x="4628" y="40"/>
                      <a:pt x="4628" y="40"/>
                    </a:cubicBezTo>
                    <a:cubicBezTo>
                      <a:pt x="4623" y="51"/>
                      <a:pt x="4618" y="77"/>
                      <a:pt x="4615" y="100"/>
                    </a:cubicBezTo>
                    <a:cubicBezTo>
                      <a:pt x="4613" y="95"/>
                      <a:pt x="4610" y="90"/>
                      <a:pt x="4609" y="86"/>
                    </a:cubicBezTo>
                    <a:cubicBezTo>
                      <a:pt x="4608" y="70"/>
                      <a:pt x="4606" y="58"/>
                      <a:pt x="4606" y="60"/>
                    </a:cubicBezTo>
                    <a:cubicBezTo>
                      <a:pt x="4606" y="61"/>
                      <a:pt x="4606" y="69"/>
                      <a:pt x="4605" y="80"/>
                    </a:cubicBezTo>
                    <a:cubicBezTo>
                      <a:pt x="4604" y="79"/>
                      <a:pt x="4604" y="78"/>
                      <a:pt x="4603" y="78"/>
                    </a:cubicBezTo>
                    <a:cubicBezTo>
                      <a:pt x="4604" y="79"/>
                      <a:pt x="4604" y="80"/>
                      <a:pt x="4605" y="81"/>
                    </a:cubicBezTo>
                    <a:cubicBezTo>
                      <a:pt x="4604" y="87"/>
                      <a:pt x="4604" y="95"/>
                      <a:pt x="4603" y="102"/>
                    </a:cubicBezTo>
                    <a:cubicBezTo>
                      <a:pt x="4603" y="102"/>
                      <a:pt x="4603" y="102"/>
                      <a:pt x="4603" y="102"/>
                    </a:cubicBezTo>
                    <a:cubicBezTo>
                      <a:pt x="4603" y="103"/>
                      <a:pt x="4603" y="103"/>
                      <a:pt x="4603" y="103"/>
                    </a:cubicBezTo>
                    <a:cubicBezTo>
                      <a:pt x="4602" y="113"/>
                      <a:pt x="4602" y="123"/>
                      <a:pt x="4601" y="130"/>
                    </a:cubicBezTo>
                    <a:cubicBezTo>
                      <a:pt x="4601" y="130"/>
                      <a:pt x="4600" y="129"/>
                      <a:pt x="4600" y="128"/>
                    </a:cubicBezTo>
                    <a:cubicBezTo>
                      <a:pt x="4600" y="107"/>
                      <a:pt x="4596" y="69"/>
                      <a:pt x="4593" y="47"/>
                    </a:cubicBezTo>
                    <a:cubicBezTo>
                      <a:pt x="4594" y="64"/>
                      <a:pt x="4593" y="87"/>
                      <a:pt x="4592" y="107"/>
                    </a:cubicBezTo>
                    <a:cubicBezTo>
                      <a:pt x="4591" y="105"/>
                      <a:pt x="4590" y="104"/>
                      <a:pt x="4589" y="102"/>
                    </a:cubicBezTo>
                    <a:cubicBezTo>
                      <a:pt x="4590" y="104"/>
                      <a:pt x="4591" y="106"/>
                      <a:pt x="4591" y="107"/>
                    </a:cubicBezTo>
                    <a:cubicBezTo>
                      <a:pt x="4591" y="114"/>
                      <a:pt x="4591" y="121"/>
                      <a:pt x="4590" y="126"/>
                    </a:cubicBezTo>
                    <a:cubicBezTo>
                      <a:pt x="4590" y="125"/>
                      <a:pt x="4589" y="123"/>
                      <a:pt x="4589" y="122"/>
                    </a:cubicBezTo>
                    <a:cubicBezTo>
                      <a:pt x="4588" y="93"/>
                      <a:pt x="4584" y="46"/>
                      <a:pt x="4584" y="46"/>
                    </a:cubicBezTo>
                    <a:cubicBezTo>
                      <a:pt x="4583" y="65"/>
                      <a:pt x="4577" y="142"/>
                      <a:pt x="4577" y="142"/>
                    </a:cubicBezTo>
                    <a:cubicBezTo>
                      <a:pt x="4571" y="106"/>
                      <a:pt x="4578" y="0"/>
                      <a:pt x="4578" y="0"/>
                    </a:cubicBezTo>
                    <a:cubicBezTo>
                      <a:pt x="4572" y="16"/>
                      <a:pt x="4566" y="131"/>
                      <a:pt x="4566" y="131"/>
                    </a:cubicBezTo>
                    <a:cubicBezTo>
                      <a:pt x="4564" y="36"/>
                      <a:pt x="4560" y="32"/>
                      <a:pt x="4560" y="32"/>
                    </a:cubicBezTo>
                    <a:cubicBezTo>
                      <a:pt x="4562" y="43"/>
                      <a:pt x="4559" y="76"/>
                      <a:pt x="4556" y="103"/>
                    </a:cubicBezTo>
                    <a:cubicBezTo>
                      <a:pt x="4555" y="102"/>
                      <a:pt x="4554" y="100"/>
                      <a:pt x="4553" y="99"/>
                    </a:cubicBezTo>
                    <a:cubicBezTo>
                      <a:pt x="4554" y="101"/>
                      <a:pt x="4555" y="103"/>
                      <a:pt x="4556" y="104"/>
                    </a:cubicBezTo>
                    <a:cubicBezTo>
                      <a:pt x="4555" y="112"/>
                      <a:pt x="4554" y="120"/>
                      <a:pt x="4553" y="126"/>
                    </a:cubicBezTo>
                    <a:cubicBezTo>
                      <a:pt x="4553" y="124"/>
                      <a:pt x="4553" y="123"/>
                      <a:pt x="4553" y="122"/>
                    </a:cubicBezTo>
                    <a:cubicBezTo>
                      <a:pt x="4553" y="94"/>
                      <a:pt x="4552" y="48"/>
                      <a:pt x="4552" y="48"/>
                    </a:cubicBezTo>
                    <a:cubicBezTo>
                      <a:pt x="4551" y="55"/>
                      <a:pt x="4548" y="82"/>
                      <a:pt x="4545" y="106"/>
                    </a:cubicBezTo>
                    <a:cubicBezTo>
                      <a:pt x="4544" y="104"/>
                      <a:pt x="4543" y="102"/>
                      <a:pt x="4543" y="100"/>
                    </a:cubicBezTo>
                    <a:cubicBezTo>
                      <a:pt x="4546" y="60"/>
                      <a:pt x="4550" y="9"/>
                      <a:pt x="4550" y="9"/>
                    </a:cubicBezTo>
                    <a:cubicBezTo>
                      <a:pt x="4545" y="23"/>
                      <a:pt x="4538" y="83"/>
                      <a:pt x="4535" y="117"/>
                    </a:cubicBezTo>
                    <a:cubicBezTo>
                      <a:pt x="4534" y="114"/>
                      <a:pt x="4533" y="111"/>
                      <a:pt x="4532" y="108"/>
                    </a:cubicBezTo>
                    <a:cubicBezTo>
                      <a:pt x="4532" y="90"/>
                      <a:pt x="4530" y="72"/>
                      <a:pt x="4530" y="72"/>
                    </a:cubicBezTo>
                    <a:cubicBezTo>
                      <a:pt x="4530" y="76"/>
                      <a:pt x="4530" y="84"/>
                      <a:pt x="4529" y="94"/>
                    </a:cubicBezTo>
                    <a:cubicBezTo>
                      <a:pt x="4528" y="91"/>
                      <a:pt x="4526" y="88"/>
                      <a:pt x="4525" y="84"/>
                    </a:cubicBezTo>
                    <a:cubicBezTo>
                      <a:pt x="4526" y="88"/>
                      <a:pt x="4528" y="92"/>
                      <a:pt x="4528" y="96"/>
                    </a:cubicBezTo>
                    <a:cubicBezTo>
                      <a:pt x="4528" y="99"/>
                      <a:pt x="4528" y="103"/>
                      <a:pt x="4527" y="107"/>
                    </a:cubicBezTo>
                    <a:cubicBezTo>
                      <a:pt x="4527" y="106"/>
                      <a:pt x="4527" y="106"/>
                      <a:pt x="4527" y="105"/>
                    </a:cubicBezTo>
                    <a:cubicBezTo>
                      <a:pt x="4526" y="107"/>
                      <a:pt x="4526" y="112"/>
                      <a:pt x="4526" y="116"/>
                    </a:cubicBezTo>
                    <a:cubicBezTo>
                      <a:pt x="4525" y="121"/>
                      <a:pt x="4525" y="126"/>
                      <a:pt x="4524" y="130"/>
                    </a:cubicBezTo>
                    <a:cubicBezTo>
                      <a:pt x="4524" y="129"/>
                      <a:pt x="4524" y="128"/>
                      <a:pt x="4524" y="127"/>
                    </a:cubicBezTo>
                    <a:cubicBezTo>
                      <a:pt x="4524" y="101"/>
                      <a:pt x="4519" y="63"/>
                      <a:pt x="4518" y="54"/>
                    </a:cubicBezTo>
                    <a:cubicBezTo>
                      <a:pt x="4518" y="61"/>
                      <a:pt x="4517" y="79"/>
                      <a:pt x="4516" y="96"/>
                    </a:cubicBezTo>
                    <a:cubicBezTo>
                      <a:pt x="4515" y="94"/>
                      <a:pt x="4514" y="92"/>
                      <a:pt x="4513" y="90"/>
                    </a:cubicBezTo>
                    <a:cubicBezTo>
                      <a:pt x="4514" y="93"/>
                      <a:pt x="4515" y="95"/>
                      <a:pt x="4516" y="97"/>
                    </a:cubicBezTo>
                    <a:cubicBezTo>
                      <a:pt x="4514" y="118"/>
                      <a:pt x="4511" y="137"/>
                      <a:pt x="4511" y="137"/>
                    </a:cubicBezTo>
                    <a:cubicBezTo>
                      <a:pt x="4511" y="136"/>
                      <a:pt x="4511" y="134"/>
                      <a:pt x="4511" y="133"/>
                    </a:cubicBezTo>
                    <a:cubicBezTo>
                      <a:pt x="4511" y="125"/>
                      <a:pt x="4511" y="118"/>
                      <a:pt x="4510" y="110"/>
                    </a:cubicBezTo>
                    <a:cubicBezTo>
                      <a:pt x="4509" y="76"/>
                      <a:pt x="4508" y="40"/>
                      <a:pt x="4508" y="40"/>
                    </a:cubicBezTo>
                    <a:cubicBezTo>
                      <a:pt x="4508" y="49"/>
                      <a:pt x="4503" y="79"/>
                      <a:pt x="4499" y="104"/>
                    </a:cubicBezTo>
                    <a:cubicBezTo>
                      <a:pt x="4499" y="99"/>
                      <a:pt x="4498" y="95"/>
                      <a:pt x="4497" y="90"/>
                    </a:cubicBezTo>
                    <a:cubicBezTo>
                      <a:pt x="4498" y="67"/>
                      <a:pt x="4499" y="45"/>
                      <a:pt x="4499" y="45"/>
                    </a:cubicBezTo>
                    <a:cubicBezTo>
                      <a:pt x="4499" y="53"/>
                      <a:pt x="4493" y="75"/>
                      <a:pt x="4486" y="96"/>
                    </a:cubicBezTo>
                    <a:cubicBezTo>
                      <a:pt x="4485" y="93"/>
                      <a:pt x="4484" y="89"/>
                      <a:pt x="4482" y="85"/>
                    </a:cubicBezTo>
                    <a:cubicBezTo>
                      <a:pt x="4489" y="51"/>
                      <a:pt x="4497" y="17"/>
                      <a:pt x="4497" y="17"/>
                    </a:cubicBezTo>
                    <a:cubicBezTo>
                      <a:pt x="4492" y="24"/>
                      <a:pt x="4477" y="95"/>
                      <a:pt x="4470" y="130"/>
                    </a:cubicBezTo>
                    <a:cubicBezTo>
                      <a:pt x="4470" y="130"/>
                      <a:pt x="4470" y="130"/>
                      <a:pt x="4470" y="130"/>
                    </a:cubicBezTo>
                    <a:cubicBezTo>
                      <a:pt x="4474" y="100"/>
                      <a:pt x="4471" y="63"/>
                      <a:pt x="4470" y="52"/>
                    </a:cubicBezTo>
                    <a:cubicBezTo>
                      <a:pt x="4472" y="72"/>
                      <a:pt x="4466" y="109"/>
                      <a:pt x="4462" y="128"/>
                    </a:cubicBezTo>
                    <a:cubicBezTo>
                      <a:pt x="4462" y="126"/>
                      <a:pt x="4462" y="123"/>
                      <a:pt x="4461" y="120"/>
                    </a:cubicBezTo>
                    <a:cubicBezTo>
                      <a:pt x="4463" y="99"/>
                      <a:pt x="4465" y="71"/>
                      <a:pt x="4466" y="65"/>
                    </a:cubicBezTo>
                    <a:cubicBezTo>
                      <a:pt x="4465" y="71"/>
                      <a:pt x="4462" y="89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4" y="125"/>
                      <a:pt x="4451" y="143"/>
                      <a:pt x="4451" y="143"/>
                    </a:cubicBezTo>
                    <a:cubicBezTo>
                      <a:pt x="4461" y="38"/>
                      <a:pt x="4454" y="25"/>
                      <a:pt x="4454" y="25"/>
                    </a:cubicBezTo>
                    <a:cubicBezTo>
                      <a:pt x="4457" y="42"/>
                      <a:pt x="4454" y="72"/>
                      <a:pt x="4449" y="96"/>
                    </a:cubicBezTo>
                    <a:cubicBezTo>
                      <a:pt x="4448" y="89"/>
                      <a:pt x="4446" y="80"/>
                      <a:pt x="4443" y="73"/>
                    </a:cubicBezTo>
                    <a:cubicBezTo>
                      <a:pt x="4442" y="65"/>
                      <a:pt x="4442" y="60"/>
                      <a:pt x="4442" y="60"/>
                    </a:cubicBezTo>
                    <a:cubicBezTo>
                      <a:pt x="4442" y="63"/>
                      <a:pt x="4442" y="67"/>
                      <a:pt x="4441" y="71"/>
                    </a:cubicBezTo>
                    <a:cubicBezTo>
                      <a:pt x="4440" y="69"/>
                      <a:pt x="4439" y="67"/>
                      <a:pt x="4437" y="65"/>
                    </a:cubicBezTo>
                    <a:cubicBezTo>
                      <a:pt x="4439" y="67"/>
                      <a:pt x="4440" y="70"/>
                      <a:pt x="4441" y="73"/>
                    </a:cubicBezTo>
                    <a:cubicBezTo>
                      <a:pt x="4441" y="82"/>
                      <a:pt x="4440" y="92"/>
                      <a:pt x="4438" y="101"/>
                    </a:cubicBezTo>
                    <a:cubicBezTo>
                      <a:pt x="4438" y="95"/>
                      <a:pt x="4435" y="88"/>
                      <a:pt x="4430" y="83"/>
                    </a:cubicBezTo>
                    <a:cubicBezTo>
                      <a:pt x="4430" y="74"/>
                      <a:pt x="4431" y="68"/>
                      <a:pt x="4431" y="68"/>
                    </a:cubicBezTo>
                    <a:cubicBezTo>
                      <a:pt x="4430" y="72"/>
                      <a:pt x="4429" y="76"/>
                      <a:pt x="4428" y="81"/>
                    </a:cubicBezTo>
                    <a:cubicBezTo>
                      <a:pt x="4428" y="81"/>
                      <a:pt x="4427" y="81"/>
                      <a:pt x="4427" y="80"/>
                    </a:cubicBezTo>
                    <a:cubicBezTo>
                      <a:pt x="4427" y="81"/>
                      <a:pt x="4428" y="81"/>
                      <a:pt x="4428" y="82"/>
                    </a:cubicBezTo>
                    <a:cubicBezTo>
                      <a:pt x="4425" y="101"/>
                      <a:pt x="4424" y="130"/>
                      <a:pt x="4424" y="142"/>
                    </a:cubicBezTo>
                    <a:cubicBezTo>
                      <a:pt x="4424" y="143"/>
                      <a:pt x="4423" y="144"/>
                      <a:pt x="4423" y="144"/>
                    </a:cubicBezTo>
                    <a:cubicBezTo>
                      <a:pt x="4422" y="141"/>
                      <a:pt x="4422" y="136"/>
                      <a:pt x="4422" y="131"/>
                    </a:cubicBezTo>
                    <a:cubicBezTo>
                      <a:pt x="4423" y="121"/>
                      <a:pt x="4425" y="112"/>
                      <a:pt x="4426" y="103"/>
                    </a:cubicBezTo>
                    <a:cubicBezTo>
                      <a:pt x="4425" y="108"/>
                      <a:pt x="4424" y="112"/>
                      <a:pt x="4423" y="117"/>
                    </a:cubicBezTo>
                    <a:cubicBezTo>
                      <a:pt x="4424" y="85"/>
                      <a:pt x="4430" y="45"/>
                      <a:pt x="4430" y="45"/>
                    </a:cubicBezTo>
                    <a:cubicBezTo>
                      <a:pt x="4423" y="60"/>
                      <a:pt x="4418" y="95"/>
                      <a:pt x="4416" y="120"/>
                    </a:cubicBezTo>
                    <a:cubicBezTo>
                      <a:pt x="4416" y="123"/>
                      <a:pt x="4415" y="125"/>
                      <a:pt x="4414" y="127"/>
                    </a:cubicBezTo>
                    <a:cubicBezTo>
                      <a:pt x="4413" y="103"/>
                      <a:pt x="4413" y="70"/>
                      <a:pt x="4413" y="70"/>
                    </a:cubicBezTo>
                    <a:cubicBezTo>
                      <a:pt x="4413" y="72"/>
                      <a:pt x="4413" y="76"/>
                      <a:pt x="4412" y="81"/>
                    </a:cubicBezTo>
                    <a:cubicBezTo>
                      <a:pt x="4411" y="73"/>
                      <a:pt x="4409" y="66"/>
                      <a:pt x="4406" y="60"/>
                    </a:cubicBezTo>
                    <a:cubicBezTo>
                      <a:pt x="4407" y="52"/>
                      <a:pt x="4407" y="46"/>
                      <a:pt x="4407" y="46"/>
                    </a:cubicBezTo>
                    <a:cubicBezTo>
                      <a:pt x="4405" y="51"/>
                      <a:pt x="4403" y="64"/>
                      <a:pt x="4402" y="79"/>
                    </a:cubicBezTo>
                    <a:cubicBezTo>
                      <a:pt x="4401" y="77"/>
                      <a:pt x="4401" y="75"/>
                      <a:pt x="4400" y="74"/>
                    </a:cubicBezTo>
                    <a:cubicBezTo>
                      <a:pt x="4399" y="83"/>
                      <a:pt x="4399" y="92"/>
                      <a:pt x="4399" y="102"/>
                    </a:cubicBezTo>
                    <a:cubicBezTo>
                      <a:pt x="4399" y="108"/>
                      <a:pt x="4398" y="115"/>
                      <a:pt x="4397" y="121"/>
                    </a:cubicBezTo>
                    <a:cubicBezTo>
                      <a:pt x="4397" y="123"/>
                      <a:pt x="4396" y="125"/>
                      <a:pt x="4396" y="127"/>
                    </a:cubicBezTo>
                    <a:cubicBezTo>
                      <a:pt x="4396" y="35"/>
                      <a:pt x="4394" y="34"/>
                      <a:pt x="4394" y="34"/>
                    </a:cubicBezTo>
                    <a:cubicBezTo>
                      <a:pt x="4396" y="49"/>
                      <a:pt x="4392" y="77"/>
                      <a:pt x="4388" y="102"/>
                    </a:cubicBezTo>
                    <a:cubicBezTo>
                      <a:pt x="4387" y="94"/>
                      <a:pt x="4385" y="85"/>
                      <a:pt x="4381" y="76"/>
                    </a:cubicBezTo>
                    <a:cubicBezTo>
                      <a:pt x="4382" y="70"/>
                      <a:pt x="4382" y="66"/>
                      <a:pt x="4382" y="66"/>
                    </a:cubicBezTo>
                    <a:cubicBezTo>
                      <a:pt x="4382" y="68"/>
                      <a:pt x="4381" y="71"/>
                      <a:pt x="4380" y="74"/>
                    </a:cubicBezTo>
                    <a:cubicBezTo>
                      <a:pt x="4380" y="73"/>
                      <a:pt x="4379" y="72"/>
                      <a:pt x="4378" y="71"/>
                    </a:cubicBezTo>
                    <a:cubicBezTo>
                      <a:pt x="4379" y="73"/>
                      <a:pt x="4379" y="74"/>
                      <a:pt x="4380" y="76"/>
                    </a:cubicBezTo>
                    <a:cubicBezTo>
                      <a:pt x="4378" y="83"/>
                      <a:pt x="4376" y="93"/>
                      <a:pt x="4374" y="103"/>
                    </a:cubicBezTo>
                    <a:cubicBezTo>
                      <a:pt x="4374" y="98"/>
                      <a:pt x="4373" y="94"/>
                      <a:pt x="4372" y="89"/>
                    </a:cubicBezTo>
                    <a:cubicBezTo>
                      <a:pt x="4373" y="96"/>
                      <a:pt x="4371" y="104"/>
                      <a:pt x="4369" y="112"/>
                    </a:cubicBezTo>
                    <a:cubicBezTo>
                      <a:pt x="4369" y="92"/>
                      <a:pt x="4368" y="70"/>
                      <a:pt x="4367" y="62"/>
                    </a:cubicBezTo>
                    <a:cubicBezTo>
                      <a:pt x="4367" y="67"/>
                      <a:pt x="4367" y="74"/>
                      <a:pt x="4367" y="82"/>
                    </a:cubicBezTo>
                    <a:cubicBezTo>
                      <a:pt x="4365" y="87"/>
                      <a:pt x="4362" y="94"/>
                      <a:pt x="4360" y="101"/>
                    </a:cubicBezTo>
                    <a:cubicBezTo>
                      <a:pt x="4360" y="91"/>
                      <a:pt x="4360" y="82"/>
                      <a:pt x="4360" y="75"/>
                    </a:cubicBezTo>
                    <a:cubicBezTo>
                      <a:pt x="4359" y="86"/>
                      <a:pt x="4357" y="102"/>
                      <a:pt x="4355" y="116"/>
                    </a:cubicBezTo>
                    <a:cubicBezTo>
                      <a:pt x="4353" y="123"/>
                      <a:pt x="4351" y="130"/>
                      <a:pt x="4349" y="136"/>
                    </a:cubicBezTo>
                    <a:cubicBezTo>
                      <a:pt x="4349" y="118"/>
                      <a:pt x="4352" y="89"/>
                      <a:pt x="4352" y="89"/>
                    </a:cubicBezTo>
                    <a:cubicBezTo>
                      <a:pt x="4351" y="93"/>
                      <a:pt x="4349" y="99"/>
                      <a:pt x="4347" y="106"/>
                    </a:cubicBezTo>
                    <a:cubicBezTo>
                      <a:pt x="4347" y="104"/>
                      <a:pt x="4347" y="101"/>
                      <a:pt x="4346" y="99"/>
                    </a:cubicBezTo>
                    <a:cubicBezTo>
                      <a:pt x="4346" y="96"/>
                      <a:pt x="4346" y="96"/>
                      <a:pt x="4346" y="96"/>
                    </a:cubicBezTo>
                    <a:cubicBezTo>
                      <a:pt x="4345" y="95"/>
                      <a:pt x="4345" y="95"/>
                      <a:pt x="4345" y="95"/>
                    </a:cubicBezTo>
                    <a:cubicBezTo>
                      <a:pt x="4345" y="104"/>
                      <a:pt x="4343" y="113"/>
                      <a:pt x="4341" y="122"/>
                    </a:cubicBezTo>
                    <a:cubicBezTo>
                      <a:pt x="4339" y="127"/>
                      <a:pt x="4338" y="131"/>
                      <a:pt x="4336" y="134"/>
                    </a:cubicBezTo>
                    <a:cubicBezTo>
                      <a:pt x="4336" y="130"/>
                      <a:pt x="4336" y="126"/>
                      <a:pt x="4336" y="122"/>
                    </a:cubicBezTo>
                    <a:cubicBezTo>
                      <a:pt x="4340" y="102"/>
                      <a:pt x="4347" y="76"/>
                      <a:pt x="4347" y="76"/>
                    </a:cubicBezTo>
                    <a:cubicBezTo>
                      <a:pt x="4342" y="82"/>
                      <a:pt x="4337" y="94"/>
                      <a:pt x="4333" y="105"/>
                    </a:cubicBezTo>
                    <a:cubicBezTo>
                      <a:pt x="4332" y="102"/>
                      <a:pt x="4331" y="98"/>
                      <a:pt x="4330" y="95"/>
                    </a:cubicBezTo>
                    <a:cubicBezTo>
                      <a:pt x="4331" y="74"/>
                      <a:pt x="4327" y="62"/>
                      <a:pt x="4327" y="62"/>
                    </a:cubicBezTo>
                    <a:cubicBezTo>
                      <a:pt x="4329" y="69"/>
                      <a:pt x="4329" y="78"/>
                      <a:pt x="4328" y="88"/>
                    </a:cubicBezTo>
                    <a:cubicBezTo>
                      <a:pt x="4325" y="83"/>
                      <a:pt x="4322" y="78"/>
                      <a:pt x="4318" y="73"/>
                    </a:cubicBezTo>
                    <a:cubicBezTo>
                      <a:pt x="4322" y="80"/>
                      <a:pt x="4325" y="92"/>
                      <a:pt x="4326" y="102"/>
                    </a:cubicBezTo>
                    <a:cubicBezTo>
                      <a:pt x="4325" y="108"/>
                      <a:pt x="4324" y="115"/>
                      <a:pt x="4323" y="120"/>
                    </a:cubicBezTo>
                    <a:cubicBezTo>
                      <a:pt x="4322" y="113"/>
                      <a:pt x="4321" y="106"/>
                      <a:pt x="4319" y="100"/>
                    </a:cubicBezTo>
                    <a:cubicBezTo>
                      <a:pt x="4320" y="89"/>
                      <a:pt x="4320" y="82"/>
                      <a:pt x="4320" y="82"/>
                    </a:cubicBezTo>
                    <a:cubicBezTo>
                      <a:pt x="4319" y="98"/>
                      <a:pt x="4319" y="98"/>
                      <a:pt x="4319" y="98"/>
                    </a:cubicBezTo>
                    <a:cubicBezTo>
                      <a:pt x="4318" y="94"/>
                      <a:pt x="4317" y="91"/>
                      <a:pt x="4315" y="88"/>
                    </a:cubicBezTo>
                    <a:cubicBezTo>
                      <a:pt x="4315" y="73"/>
                      <a:pt x="4314" y="60"/>
                      <a:pt x="4314" y="60"/>
                    </a:cubicBezTo>
                    <a:cubicBezTo>
                      <a:pt x="4314" y="72"/>
                      <a:pt x="4311" y="90"/>
                      <a:pt x="4311" y="90"/>
                    </a:cubicBezTo>
                    <a:cubicBezTo>
                      <a:pt x="4309" y="84"/>
                      <a:pt x="4309" y="64"/>
                      <a:pt x="4309" y="64"/>
                    </a:cubicBezTo>
                    <a:cubicBezTo>
                      <a:pt x="4309" y="68"/>
                      <a:pt x="4308" y="83"/>
                      <a:pt x="4306" y="98"/>
                    </a:cubicBezTo>
                    <a:cubicBezTo>
                      <a:pt x="4306" y="96"/>
                      <a:pt x="4305" y="95"/>
                      <a:pt x="4305" y="93"/>
                    </a:cubicBezTo>
                    <a:cubicBezTo>
                      <a:pt x="4304" y="88"/>
                      <a:pt x="4302" y="82"/>
                      <a:pt x="4300" y="76"/>
                    </a:cubicBezTo>
                    <a:cubicBezTo>
                      <a:pt x="4300" y="57"/>
                      <a:pt x="4300" y="42"/>
                      <a:pt x="4300" y="42"/>
                    </a:cubicBezTo>
                    <a:cubicBezTo>
                      <a:pt x="4300" y="49"/>
                      <a:pt x="4300" y="59"/>
                      <a:pt x="4299" y="70"/>
                    </a:cubicBezTo>
                    <a:cubicBezTo>
                      <a:pt x="4296" y="64"/>
                      <a:pt x="4294" y="57"/>
                      <a:pt x="4291" y="51"/>
                    </a:cubicBezTo>
                    <a:cubicBezTo>
                      <a:pt x="4290" y="52"/>
                      <a:pt x="4290" y="54"/>
                      <a:pt x="4290" y="55"/>
                    </a:cubicBezTo>
                    <a:cubicBezTo>
                      <a:pt x="4293" y="65"/>
                      <a:pt x="4296" y="74"/>
                      <a:pt x="4297" y="82"/>
                    </a:cubicBezTo>
                    <a:cubicBezTo>
                      <a:pt x="4297" y="88"/>
                      <a:pt x="4296" y="94"/>
                      <a:pt x="4295" y="100"/>
                    </a:cubicBezTo>
                    <a:cubicBezTo>
                      <a:pt x="4294" y="96"/>
                      <a:pt x="4293" y="92"/>
                      <a:pt x="4292" y="88"/>
                    </a:cubicBezTo>
                    <a:cubicBezTo>
                      <a:pt x="4293" y="78"/>
                      <a:pt x="4294" y="70"/>
                      <a:pt x="4294" y="70"/>
                    </a:cubicBezTo>
                    <a:cubicBezTo>
                      <a:pt x="4293" y="72"/>
                      <a:pt x="4292" y="78"/>
                      <a:pt x="4291" y="85"/>
                    </a:cubicBezTo>
                    <a:cubicBezTo>
                      <a:pt x="4289" y="82"/>
                      <a:pt x="4287" y="79"/>
                      <a:pt x="4285" y="76"/>
                    </a:cubicBezTo>
                    <a:cubicBezTo>
                      <a:pt x="4284" y="71"/>
                      <a:pt x="4284" y="66"/>
                      <a:pt x="4284" y="61"/>
                    </a:cubicBezTo>
                    <a:cubicBezTo>
                      <a:pt x="4283" y="73"/>
                      <a:pt x="4281" y="87"/>
                      <a:pt x="4279" y="101"/>
                    </a:cubicBezTo>
                    <a:cubicBezTo>
                      <a:pt x="4277" y="95"/>
                      <a:pt x="4275" y="90"/>
                      <a:pt x="4273" y="86"/>
                    </a:cubicBezTo>
                    <a:cubicBezTo>
                      <a:pt x="4274" y="73"/>
                      <a:pt x="4274" y="64"/>
                      <a:pt x="4274" y="64"/>
                    </a:cubicBezTo>
                    <a:cubicBezTo>
                      <a:pt x="4274" y="71"/>
                      <a:pt x="4272" y="82"/>
                      <a:pt x="4270" y="95"/>
                    </a:cubicBezTo>
                    <a:cubicBezTo>
                      <a:pt x="4268" y="87"/>
                      <a:pt x="4266" y="79"/>
                      <a:pt x="4262" y="71"/>
                    </a:cubicBezTo>
                    <a:cubicBezTo>
                      <a:pt x="4264" y="49"/>
                      <a:pt x="4265" y="30"/>
                      <a:pt x="4265" y="30"/>
                    </a:cubicBezTo>
                    <a:cubicBezTo>
                      <a:pt x="4263" y="35"/>
                      <a:pt x="4261" y="49"/>
                      <a:pt x="4259" y="65"/>
                    </a:cubicBezTo>
                    <a:cubicBezTo>
                      <a:pt x="4258" y="62"/>
                      <a:pt x="4256" y="59"/>
                      <a:pt x="4254" y="56"/>
                    </a:cubicBezTo>
                    <a:cubicBezTo>
                      <a:pt x="4254" y="63"/>
                      <a:pt x="4256" y="70"/>
                      <a:pt x="4258" y="78"/>
                    </a:cubicBezTo>
                    <a:cubicBezTo>
                      <a:pt x="4257" y="87"/>
                      <a:pt x="4256" y="97"/>
                      <a:pt x="4255" y="106"/>
                    </a:cubicBezTo>
                    <a:cubicBezTo>
                      <a:pt x="4255" y="105"/>
                      <a:pt x="4255" y="104"/>
                      <a:pt x="4254" y="103"/>
                    </a:cubicBezTo>
                    <a:cubicBezTo>
                      <a:pt x="4255" y="104"/>
                      <a:pt x="4255" y="106"/>
                      <a:pt x="4255" y="109"/>
                    </a:cubicBezTo>
                    <a:cubicBezTo>
                      <a:pt x="4254" y="120"/>
                      <a:pt x="4253" y="131"/>
                      <a:pt x="4253" y="138"/>
                    </a:cubicBezTo>
                    <a:cubicBezTo>
                      <a:pt x="4253" y="137"/>
                      <a:pt x="4252" y="135"/>
                      <a:pt x="4252" y="134"/>
                    </a:cubicBezTo>
                    <a:cubicBezTo>
                      <a:pt x="4251" y="99"/>
                      <a:pt x="4245" y="41"/>
                      <a:pt x="4245" y="41"/>
                    </a:cubicBezTo>
                    <a:cubicBezTo>
                      <a:pt x="4247" y="58"/>
                      <a:pt x="4246" y="86"/>
                      <a:pt x="4244" y="108"/>
                    </a:cubicBezTo>
                    <a:cubicBezTo>
                      <a:pt x="4242" y="105"/>
                      <a:pt x="4241" y="102"/>
                      <a:pt x="4239" y="99"/>
                    </a:cubicBezTo>
                    <a:cubicBezTo>
                      <a:pt x="4239" y="86"/>
                      <a:pt x="4239" y="73"/>
                      <a:pt x="4239" y="67"/>
                    </a:cubicBezTo>
                    <a:cubicBezTo>
                      <a:pt x="4239" y="75"/>
                      <a:pt x="4238" y="85"/>
                      <a:pt x="4237" y="94"/>
                    </a:cubicBezTo>
                    <a:cubicBezTo>
                      <a:pt x="4236" y="92"/>
                      <a:pt x="4235" y="91"/>
                      <a:pt x="4234" y="89"/>
                    </a:cubicBezTo>
                    <a:cubicBezTo>
                      <a:pt x="4235" y="91"/>
                      <a:pt x="4236" y="94"/>
                      <a:pt x="4236" y="97"/>
                    </a:cubicBezTo>
                    <a:cubicBezTo>
                      <a:pt x="4235" y="103"/>
                      <a:pt x="4234" y="110"/>
                      <a:pt x="4232" y="116"/>
                    </a:cubicBezTo>
                    <a:cubicBezTo>
                      <a:pt x="4231" y="110"/>
                      <a:pt x="4230" y="105"/>
                      <a:pt x="4228" y="101"/>
                    </a:cubicBezTo>
                    <a:cubicBezTo>
                      <a:pt x="4229" y="91"/>
                      <a:pt x="4230" y="83"/>
                      <a:pt x="4230" y="83"/>
                    </a:cubicBezTo>
                    <a:cubicBezTo>
                      <a:pt x="4230" y="86"/>
                      <a:pt x="4229" y="92"/>
                      <a:pt x="4227" y="98"/>
                    </a:cubicBezTo>
                    <a:cubicBezTo>
                      <a:pt x="4226" y="94"/>
                      <a:pt x="4225" y="91"/>
                      <a:pt x="4224" y="89"/>
                    </a:cubicBezTo>
                    <a:cubicBezTo>
                      <a:pt x="4225" y="74"/>
                      <a:pt x="4226" y="62"/>
                      <a:pt x="4226" y="62"/>
                    </a:cubicBezTo>
                    <a:cubicBezTo>
                      <a:pt x="4225" y="65"/>
                      <a:pt x="4224" y="75"/>
                      <a:pt x="4222" y="87"/>
                    </a:cubicBezTo>
                    <a:cubicBezTo>
                      <a:pt x="4220" y="83"/>
                      <a:pt x="4218" y="81"/>
                      <a:pt x="4215" y="78"/>
                    </a:cubicBezTo>
                    <a:cubicBezTo>
                      <a:pt x="4218" y="81"/>
                      <a:pt x="4220" y="84"/>
                      <a:pt x="4222" y="89"/>
                    </a:cubicBezTo>
                    <a:cubicBezTo>
                      <a:pt x="4221" y="96"/>
                      <a:pt x="4220" y="105"/>
                      <a:pt x="4219" y="113"/>
                    </a:cubicBezTo>
                    <a:cubicBezTo>
                      <a:pt x="4218" y="108"/>
                      <a:pt x="4217" y="104"/>
                      <a:pt x="4215" y="100"/>
                    </a:cubicBezTo>
                    <a:cubicBezTo>
                      <a:pt x="4214" y="86"/>
                      <a:pt x="4212" y="74"/>
                      <a:pt x="4211" y="68"/>
                    </a:cubicBezTo>
                    <a:cubicBezTo>
                      <a:pt x="4211" y="71"/>
                      <a:pt x="4212" y="76"/>
                      <a:pt x="4211" y="86"/>
                    </a:cubicBezTo>
                    <a:cubicBezTo>
                      <a:pt x="4211" y="87"/>
                      <a:pt x="4211" y="88"/>
                      <a:pt x="4211" y="90"/>
                    </a:cubicBezTo>
                    <a:cubicBezTo>
                      <a:pt x="4210" y="87"/>
                      <a:pt x="4208" y="84"/>
                      <a:pt x="4206" y="81"/>
                    </a:cubicBezTo>
                    <a:cubicBezTo>
                      <a:pt x="4209" y="85"/>
                      <a:pt x="4210" y="91"/>
                      <a:pt x="4210" y="96"/>
                    </a:cubicBezTo>
                    <a:cubicBezTo>
                      <a:pt x="4209" y="105"/>
                      <a:pt x="4207" y="115"/>
                      <a:pt x="4205" y="124"/>
                    </a:cubicBezTo>
                    <a:cubicBezTo>
                      <a:pt x="4205" y="113"/>
                      <a:pt x="4204" y="102"/>
                      <a:pt x="4202" y="91"/>
                    </a:cubicBezTo>
                    <a:cubicBezTo>
                      <a:pt x="4202" y="77"/>
                      <a:pt x="4202" y="77"/>
                      <a:pt x="4202" y="77"/>
                    </a:cubicBezTo>
                    <a:cubicBezTo>
                      <a:pt x="4205" y="35"/>
                      <a:pt x="4198" y="19"/>
                      <a:pt x="4198" y="19"/>
                    </a:cubicBezTo>
                    <a:cubicBezTo>
                      <a:pt x="4198" y="19"/>
                      <a:pt x="4201" y="31"/>
                      <a:pt x="4200" y="54"/>
                    </a:cubicBezTo>
                    <a:cubicBezTo>
                      <a:pt x="4199" y="59"/>
                      <a:pt x="4199" y="68"/>
                      <a:pt x="4197" y="78"/>
                    </a:cubicBezTo>
                    <a:cubicBezTo>
                      <a:pt x="4195" y="72"/>
                      <a:pt x="4192" y="66"/>
                      <a:pt x="4188" y="60"/>
                    </a:cubicBezTo>
                    <a:cubicBezTo>
                      <a:pt x="4188" y="61"/>
                      <a:pt x="4188" y="61"/>
                      <a:pt x="4188" y="61"/>
                    </a:cubicBezTo>
                    <a:cubicBezTo>
                      <a:pt x="4188" y="62"/>
                      <a:pt x="4188" y="63"/>
                      <a:pt x="4188" y="64"/>
                    </a:cubicBezTo>
                    <a:cubicBezTo>
                      <a:pt x="4186" y="44"/>
                      <a:pt x="4179" y="40"/>
                      <a:pt x="4179" y="40"/>
                    </a:cubicBezTo>
                    <a:cubicBezTo>
                      <a:pt x="4179" y="40"/>
                      <a:pt x="4185" y="44"/>
                      <a:pt x="4185" y="70"/>
                    </a:cubicBezTo>
                    <a:cubicBezTo>
                      <a:pt x="4185" y="76"/>
                      <a:pt x="4184" y="85"/>
                      <a:pt x="4182" y="94"/>
                    </a:cubicBezTo>
                    <a:cubicBezTo>
                      <a:pt x="4180" y="90"/>
                      <a:pt x="4177" y="86"/>
                      <a:pt x="4174" y="83"/>
                    </a:cubicBezTo>
                    <a:cubicBezTo>
                      <a:pt x="4177" y="87"/>
                      <a:pt x="4180" y="92"/>
                      <a:pt x="4182" y="97"/>
                    </a:cubicBezTo>
                    <a:cubicBezTo>
                      <a:pt x="4181" y="100"/>
                      <a:pt x="4181" y="103"/>
                      <a:pt x="4180" y="106"/>
                    </a:cubicBezTo>
                    <a:cubicBezTo>
                      <a:pt x="4179" y="104"/>
                      <a:pt x="4179" y="102"/>
                      <a:pt x="4178" y="100"/>
                    </a:cubicBezTo>
                    <a:cubicBezTo>
                      <a:pt x="4179" y="102"/>
                      <a:pt x="4179" y="105"/>
                      <a:pt x="4180" y="108"/>
                    </a:cubicBezTo>
                    <a:cubicBezTo>
                      <a:pt x="4179" y="111"/>
                      <a:pt x="4178" y="114"/>
                      <a:pt x="4177" y="117"/>
                    </a:cubicBezTo>
                    <a:cubicBezTo>
                      <a:pt x="4176" y="113"/>
                      <a:pt x="4174" y="108"/>
                      <a:pt x="4172" y="104"/>
                    </a:cubicBezTo>
                    <a:cubicBezTo>
                      <a:pt x="4173" y="87"/>
                      <a:pt x="4174" y="71"/>
                      <a:pt x="4174" y="71"/>
                    </a:cubicBezTo>
                    <a:cubicBezTo>
                      <a:pt x="4173" y="73"/>
                      <a:pt x="4171" y="84"/>
                      <a:pt x="4169" y="97"/>
                    </a:cubicBezTo>
                    <a:cubicBezTo>
                      <a:pt x="4168" y="95"/>
                      <a:pt x="4167" y="93"/>
                      <a:pt x="4166" y="92"/>
                    </a:cubicBezTo>
                    <a:cubicBezTo>
                      <a:pt x="4167" y="81"/>
                      <a:pt x="4168" y="72"/>
                      <a:pt x="4169" y="66"/>
                    </a:cubicBezTo>
                    <a:cubicBezTo>
                      <a:pt x="4168" y="73"/>
                      <a:pt x="4167" y="81"/>
                      <a:pt x="4165" y="90"/>
                    </a:cubicBezTo>
                    <a:cubicBezTo>
                      <a:pt x="4164" y="88"/>
                      <a:pt x="4162" y="86"/>
                      <a:pt x="4160" y="83"/>
                    </a:cubicBezTo>
                    <a:cubicBezTo>
                      <a:pt x="4164" y="26"/>
                      <a:pt x="4162" y="12"/>
                      <a:pt x="4162" y="12"/>
                    </a:cubicBezTo>
                    <a:cubicBezTo>
                      <a:pt x="4162" y="12"/>
                      <a:pt x="4162" y="18"/>
                      <a:pt x="4159" y="56"/>
                    </a:cubicBezTo>
                    <a:cubicBezTo>
                      <a:pt x="4158" y="64"/>
                      <a:pt x="4157" y="71"/>
                      <a:pt x="4156" y="78"/>
                    </a:cubicBezTo>
                    <a:cubicBezTo>
                      <a:pt x="4154" y="76"/>
                      <a:pt x="4151" y="73"/>
                      <a:pt x="4149" y="71"/>
                    </a:cubicBezTo>
                    <a:cubicBezTo>
                      <a:pt x="4150" y="48"/>
                      <a:pt x="4151" y="31"/>
                      <a:pt x="4151" y="31"/>
                    </a:cubicBezTo>
                    <a:cubicBezTo>
                      <a:pt x="4149" y="37"/>
                      <a:pt x="4147" y="52"/>
                      <a:pt x="4146" y="68"/>
                    </a:cubicBezTo>
                    <a:cubicBezTo>
                      <a:pt x="4144" y="66"/>
                      <a:pt x="4142" y="65"/>
                      <a:pt x="4140" y="63"/>
                    </a:cubicBezTo>
                    <a:cubicBezTo>
                      <a:pt x="4142" y="65"/>
                      <a:pt x="4144" y="67"/>
                      <a:pt x="4146" y="69"/>
                    </a:cubicBezTo>
                    <a:cubicBezTo>
                      <a:pt x="4145" y="82"/>
                      <a:pt x="4145" y="96"/>
                      <a:pt x="4144" y="109"/>
                    </a:cubicBezTo>
                    <a:cubicBezTo>
                      <a:pt x="4143" y="104"/>
                      <a:pt x="4141" y="99"/>
                      <a:pt x="4140" y="96"/>
                    </a:cubicBezTo>
                    <a:cubicBezTo>
                      <a:pt x="4141" y="104"/>
                      <a:pt x="4142" y="112"/>
                      <a:pt x="4144" y="120"/>
                    </a:cubicBezTo>
                    <a:cubicBezTo>
                      <a:pt x="4144" y="123"/>
                      <a:pt x="4144" y="126"/>
                      <a:pt x="4144" y="128"/>
                    </a:cubicBezTo>
                    <a:cubicBezTo>
                      <a:pt x="4143" y="125"/>
                      <a:pt x="4141" y="122"/>
                      <a:pt x="4140" y="118"/>
                    </a:cubicBezTo>
                    <a:cubicBezTo>
                      <a:pt x="4135" y="80"/>
                      <a:pt x="4128" y="28"/>
                      <a:pt x="4128" y="28"/>
                    </a:cubicBezTo>
                    <a:cubicBezTo>
                      <a:pt x="4128" y="39"/>
                      <a:pt x="4126" y="72"/>
                      <a:pt x="4124" y="100"/>
                    </a:cubicBezTo>
                    <a:cubicBezTo>
                      <a:pt x="4124" y="98"/>
                      <a:pt x="4123" y="97"/>
                      <a:pt x="4122" y="96"/>
                    </a:cubicBezTo>
                    <a:cubicBezTo>
                      <a:pt x="4123" y="97"/>
                      <a:pt x="4124" y="99"/>
                      <a:pt x="4124" y="100"/>
                    </a:cubicBezTo>
                    <a:cubicBezTo>
                      <a:pt x="4124" y="110"/>
                      <a:pt x="4123" y="120"/>
                      <a:pt x="4122" y="128"/>
                    </a:cubicBezTo>
                    <a:cubicBezTo>
                      <a:pt x="4122" y="128"/>
                      <a:pt x="4122" y="127"/>
                      <a:pt x="4122" y="127"/>
                    </a:cubicBezTo>
                    <a:cubicBezTo>
                      <a:pt x="4122" y="109"/>
                      <a:pt x="4120" y="87"/>
                      <a:pt x="4119" y="71"/>
                    </a:cubicBezTo>
                    <a:cubicBezTo>
                      <a:pt x="4120" y="68"/>
                      <a:pt x="4121" y="66"/>
                      <a:pt x="4122" y="64"/>
                    </a:cubicBezTo>
                    <a:cubicBezTo>
                      <a:pt x="4121" y="65"/>
                      <a:pt x="4120" y="67"/>
                      <a:pt x="4118" y="69"/>
                    </a:cubicBezTo>
                    <a:cubicBezTo>
                      <a:pt x="4118" y="61"/>
                      <a:pt x="4117" y="55"/>
                      <a:pt x="4117" y="53"/>
                    </a:cubicBezTo>
                    <a:cubicBezTo>
                      <a:pt x="4117" y="52"/>
                      <a:pt x="4118" y="52"/>
                      <a:pt x="4118" y="51"/>
                    </a:cubicBezTo>
                    <a:cubicBezTo>
                      <a:pt x="4118" y="51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5" y="54"/>
                      <a:pt x="4113" y="56"/>
                      <a:pt x="4111" y="57"/>
                    </a:cubicBezTo>
                    <a:cubicBezTo>
                      <a:pt x="4112" y="54"/>
                      <a:pt x="4112" y="52"/>
                      <a:pt x="4112" y="50"/>
                    </a:cubicBezTo>
                    <a:cubicBezTo>
                      <a:pt x="4116" y="46"/>
                      <a:pt x="4119" y="42"/>
                      <a:pt x="4123" y="38"/>
                    </a:cubicBezTo>
                    <a:cubicBezTo>
                      <a:pt x="4119" y="41"/>
                      <a:pt x="4116" y="44"/>
                      <a:pt x="4113" y="47"/>
                    </a:cubicBezTo>
                    <a:cubicBezTo>
                      <a:pt x="4113" y="43"/>
                      <a:pt x="4114" y="40"/>
                      <a:pt x="4114" y="40"/>
                    </a:cubicBezTo>
                    <a:cubicBezTo>
                      <a:pt x="4113" y="43"/>
                      <a:pt x="4111" y="46"/>
                      <a:pt x="4110" y="50"/>
                    </a:cubicBezTo>
                    <a:cubicBezTo>
                      <a:pt x="4103" y="58"/>
                      <a:pt x="4098" y="66"/>
                      <a:pt x="4094" y="75"/>
                    </a:cubicBezTo>
                    <a:cubicBezTo>
                      <a:pt x="4093" y="70"/>
                      <a:pt x="4093" y="66"/>
                      <a:pt x="4093" y="63"/>
                    </a:cubicBezTo>
                    <a:cubicBezTo>
                      <a:pt x="4096" y="57"/>
                      <a:pt x="4099" y="50"/>
                      <a:pt x="4103" y="42"/>
                    </a:cubicBezTo>
                    <a:cubicBezTo>
                      <a:pt x="4094" y="52"/>
                      <a:pt x="4088" y="61"/>
                      <a:pt x="4084" y="71"/>
                    </a:cubicBezTo>
                    <a:cubicBezTo>
                      <a:pt x="4083" y="70"/>
                      <a:pt x="4082" y="70"/>
                      <a:pt x="4082" y="69"/>
                    </a:cubicBezTo>
                    <a:cubicBezTo>
                      <a:pt x="4082" y="68"/>
                      <a:pt x="4082" y="67"/>
                      <a:pt x="4081" y="65"/>
                    </a:cubicBezTo>
                    <a:cubicBezTo>
                      <a:pt x="4088" y="53"/>
                      <a:pt x="4096" y="41"/>
                      <a:pt x="4107" y="25"/>
                    </a:cubicBezTo>
                    <a:cubicBezTo>
                      <a:pt x="4096" y="40"/>
                      <a:pt x="4088" y="51"/>
                      <a:pt x="4081" y="64"/>
                    </a:cubicBezTo>
                    <a:cubicBezTo>
                      <a:pt x="4079" y="45"/>
                      <a:pt x="4077" y="30"/>
                      <a:pt x="4077" y="30"/>
                    </a:cubicBezTo>
                    <a:cubicBezTo>
                      <a:pt x="4078" y="35"/>
                      <a:pt x="4078" y="49"/>
                      <a:pt x="4078" y="65"/>
                    </a:cubicBezTo>
                    <a:cubicBezTo>
                      <a:pt x="4078" y="65"/>
                      <a:pt x="4077" y="65"/>
                      <a:pt x="4077" y="65"/>
                    </a:cubicBezTo>
                    <a:cubicBezTo>
                      <a:pt x="4077" y="65"/>
                      <a:pt x="4078" y="65"/>
                      <a:pt x="4078" y="65"/>
                    </a:cubicBezTo>
                    <a:cubicBezTo>
                      <a:pt x="4078" y="67"/>
                      <a:pt x="4078" y="69"/>
                      <a:pt x="4077" y="71"/>
                    </a:cubicBezTo>
                    <a:cubicBezTo>
                      <a:pt x="4076" y="74"/>
                      <a:pt x="4075" y="78"/>
                      <a:pt x="4074" y="81"/>
                    </a:cubicBezTo>
                    <a:cubicBezTo>
                      <a:pt x="4075" y="78"/>
                      <a:pt x="4076" y="76"/>
                      <a:pt x="4077" y="73"/>
                    </a:cubicBezTo>
                    <a:cubicBezTo>
                      <a:pt x="4077" y="79"/>
                      <a:pt x="4077" y="85"/>
                      <a:pt x="4077" y="91"/>
                    </a:cubicBezTo>
                    <a:cubicBezTo>
                      <a:pt x="4076" y="93"/>
                      <a:pt x="4076" y="95"/>
                      <a:pt x="4076" y="97"/>
                    </a:cubicBezTo>
                    <a:cubicBezTo>
                      <a:pt x="4075" y="96"/>
                      <a:pt x="4074" y="95"/>
                      <a:pt x="4074" y="94"/>
                    </a:cubicBezTo>
                    <a:cubicBezTo>
                      <a:pt x="4073" y="91"/>
                      <a:pt x="4073" y="88"/>
                      <a:pt x="4073" y="85"/>
                    </a:cubicBezTo>
                    <a:cubicBezTo>
                      <a:pt x="4073" y="83"/>
                      <a:pt x="4074" y="82"/>
                      <a:pt x="4074" y="81"/>
                    </a:cubicBezTo>
                    <a:cubicBezTo>
                      <a:pt x="4074" y="82"/>
                      <a:pt x="4073" y="83"/>
                      <a:pt x="4073" y="84"/>
                    </a:cubicBezTo>
                    <a:cubicBezTo>
                      <a:pt x="4072" y="72"/>
                      <a:pt x="4071" y="62"/>
                      <a:pt x="4071" y="55"/>
                    </a:cubicBezTo>
                    <a:cubicBezTo>
                      <a:pt x="4072" y="54"/>
                      <a:pt x="4073" y="53"/>
                      <a:pt x="4075" y="52"/>
                    </a:cubicBezTo>
                    <a:cubicBezTo>
                      <a:pt x="4073" y="53"/>
                      <a:pt x="4072" y="54"/>
                      <a:pt x="4071" y="54"/>
                    </a:cubicBezTo>
                    <a:cubicBezTo>
                      <a:pt x="4071" y="49"/>
                      <a:pt x="4070" y="46"/>
                      <a:pt x="4070" y="46"/>
                    </a:cubicBezTo>
                    <a:cubicBezTo>
                      <a:pt x="4070" y="48"/>
                      <a:pt x="4070" y="51"/>
                      <a:pt x="4070" y="55"/>
                    </a:cubicBezTo>
                    <a:cubicBezTo>
                      <a:pt x="4067" y="57"/>
                      <a:pt x="4064" y="59"/>
                      <a:pt x="4061" y="62"/>
                    </a:cubicBezTo>
                    <a:cubicBezTo>
                      <a:pt x="4061" y="58"/>
                      <a:pt x="4061" y="54"/>
                      <a:pt x="4061" y="50"/>
                    </a:cubicBezTo>
                    <a:cubicBezTo>
                      <a:pt x="4065" y="45"/>
                      <a:pt x="4070" y="40"/>
                      <a:pt x="4075" y="34"/>
                    </a:cubicBezTo>
                    <a:cubicBezTo>
                      <a:pt x="4070" y="39"/>
                      <a:pt x="4065" y="44"/>
                      <a:pt x="4061" y="48"/>
                    </a:cubicBezTo>
                    <a:cubicBezTo>
                      <a:pt x="4062" y="21"/>
                      <a:pt x="4064" y="0"/>
                      <a:pt x="4064" y="0"/>
                    </a:cubicBezTo>
                    <a:cubicBezTo>
                      <a:pt x="4060" y="10"/>
                      <a:pt x="4058" y="35"/>
                      <a:pt x="4057" y="53"/>
                    </a:cubicBezTo>
                    <a:cubicBezTo>
                      <a:pt x="4056" y="54"/>
                      <a:pt x="4055" y="55"/>
                      <a:pt x="4055" y="56"/>
                    </a:cubicBezTo>
                    <a:cubicBezTo>
                      <a:pt x="4053" y="44"/>
                      <a:pt x="4050" y="33"/>
                      <a:pt x="4050" y="33"/>
                    </a:cubicBezTo>
                    <a:cubicBezTo>
                      <a:pt x="4051" y="39"/>
                      <a:pt x="4051" y="49"/>
                      <a:pt x="4050" y="62"/>
                    </a:cubicBezTo>
                    <a:cubicBezTo>
                      <a:pt x="4048" y="63"/>
                      <a:pt x="4047" y="65"/>
                      <a:pt x="4046" y="67"/>
                    </a:cubicBezTo>
                    <a:cubicBezTo>
                      <a:pt x="4045" y="65"/>
                      <a:pt x="4044" y="63"/>
                      <a:pt x="4043" y="62"/>
                    </a:cubicBezTo>
                    <a:cubicBezTo>
                      <a:pt x="4043" y="63"/>
                      <a:pt x="4044" y="65"/>
                      <a:pt x="4045" y="68"/>
                    </a:cubicBezTo>
                    <a:cubicBezTo>
                      <a:pt x="4042" y="72"/>
                      <a:pt x="4040" y="75"/>
                      <a:pt x="4039" y="78"/>
                    </a:cubicBezTo>
                    <a:cubicBezTo>
                      <a:pt x="4038" y="61"/>
                      <a:pt x="4038" y="48"/>
                      <a:pt x="4038" y="48"/>
                    </a:cubicBezTo>
                    <a:cubicBezTo>
                      <a:pt x="4037" y="52"/>
                      <a:pt x="4036" y="65"/>
                      <a:pt x="4034" y="80"/>
                    </a:cubicBezTo>
                    <a:cubicBezTo>
                      <a:pt x="4033" y="82"/>
                      <a:pt x="4033" y="85"/>
                      <a:pt x="4032" y="87"/>
                    </a:cubicBezTo>
                    <a:cubicBezTo>
                      <a:pt x="4031" y="86"/>
                      <a:pt x="4031" y="86"/>
                      <a:pt x="4030" y="85"/>
                    </a:cubicBezTo>
                    <a:cubicBezTo>
                      <a:pt x="4033" y="48"/>
                      <a:pt x="4036" y="9"/>
                      <a:pt x="4036" y="9"/>
                    </a:cubicBezTo>
                    <a:cubicBezTo>
                      <a:pt x="4032" y="20"/>
                      <a:pt x="4028" y="57"/>
                      <a:pt x="4024" y="89"/>
                    </a:cubicBezTo>
                    <a:cubicBezTo>
                      <a:pt x="4023" y="91"/>
                      <a:pt x="4022" y="92"/>
                      <a:pt x="4022" y="93"/>
                    </a:cubicBezTo>
                    <a:cubicBezTo>
                      <a:pt x="4021" y="92"/>
                      <a:pt x="4020" y="90"/>
                      <a:pt x="4019" y="89"/>
                    </a:cubicBezTo>
                    <a:cubicBezTo>
                      <a:pt x="4022" y="72"/>
                      <a:pt x="4025" y="55"/>
                      <a:pt x="4025" y="37"/>
                    </a:cubicBezTo>
                    <a:cubicBezTo>
                      <a:pt x="4025" y="34"/>
                      <a:pt x="4025" y="30"/>
                      <a:pt x="4025" y="26"/>
                    </a:cubicBezTo>
                    <a:cubicBezTo>
                      <a:pt x="4018" y="45"/>
                      <a:pt x="4017" y="66"/>
                      <a:pt x="4013" y="86"/>
                    </a:cubicBezTo>
                    <a:cubicBezTo>
                      <a:pt x="4012" y="85"/>
                      <a:pt x="4012" y="84"/>
                      <a:pt x="4011" y="84"/>
                    </a:cubicBezTo>
                    <a:cubicBezTo>
                      <a:pt x="4012" y="84"/>
                      <a:pt x="4012" y="85"/>
                      <a:pt x="4013" y="86"/>
                    </a:cubicBezTo>
                    <a:cubicBezTo>
                      <a:pt x="4012" y="88"/>
                      <a:pt x="4012" y="90"/>
                      <a:pt x="4012" y="92"/>
                    </a:cubicBezTo>
                    <a:cubicBezTo>
                      <a:pt x="4011" y="94"/>
                      <a:pt x="4011" y="96"/>
                      <a:pt x="4010" y="98"/>
                    </a:cubicBezTo>
                    <a:cubicBezTo>
                      <a:pt x="4010" y="97"/>
                      <a:pt x="4009" y="96"/>
                      <a:pt x="4008" y="94"/>
                    </a:cubicBezTo>
                    <a:cubicBezTo>
                      <a:pt x="4008" y="86"/>
                      <a:pt x="4007" y="78"/>
                      <a:pt x="4006" y="72"/>
                    </a:cubicBezTo>
                    <a:cubicBezTo>
                      <a:pt x="4009" y="67"/>
                      <a:pt x="4013" y="63"/>
                      <a:pt x="4017" y="59"/>
                    </a:cubicBezTo>
                    <a:cubicBezTo>
                      <a:pt x="4013" y="62"/>
                      <a:pt x="4009" y="66"/>
                      <a:pt x="4006" y="70"/>
                    </a:cubicBezTo>
                    <a:cubicBezTo>
                      <a:pt x="4005" y="64"/>
                      <a:pt x="4005" y="60"/>
                      <a:pt x="4004" y="57"/>
                    </a:cubicBezTo>
                    <a:cubicBezTo>
                      <a:pt x="4005" y="54"/>
                      <a:pt x="4007" y="52"/>
                      <a:pt x="4008" y="50"/>
                    </a:cubicBezTo>
                    <a:cubicBezTo>
                      <a:pt x="4007" y="51"/>
                      <a:pt x="4005" y="53"/>
                      <a:pt x="4004" y="54"/>
                    </a:cubicBezTo>
                    <a:cubicBezTo>
                      <a:pt x="4004" y="53"/>
                      <a:pt x="4004" y="52"/>
                      <a:pt x="4004" y="52"/>
                    </a:cubicBezTo>
                    <a:cubicBezTo>
                      <a:pt x="4004" y="53"/>
                      <a:pt x="4004" y="54"/>
                      <a:pt x="4004" y="54"/>
                    </a:cubicBezTo>
                    <a:cubicBezTo>
                      <a:pt x="4002" y="56"/>
                      <a:pt x="4000" y="58"/>
                      <a:pt x="3998" y="60"/>
                    </a:cubicBezTo>
                    <a:cubicBezTo>
                      <a:pt x="3997" y="54"/>
                      <a:pt x="3996" y="48"/>
                      <a:pt x="3995" y="44"/>
                    </a:cubicBezTo>
                    <a:cubicBezTo>
                      <a:pt x="3996" y="49"/>
                      <a:pt x="3995" y="56"/>
                      <a:pt x="3994" y="64"/>
                    </a:cubicBezTo>
                    <a:cubicBezTo>
                      <a:pt x="3993" y="66"/>
                      <a:pt x="3992" y="68"/>
                      <a:pt x="3991" y="69"/>
                    </a:cubicBezTo>
                    <a:cubicBezTo>
                      <a:pt x="3989" y="67"/>
                      <a:pt x="3988" y="66"/>
                      <a:pt x="3986" y="64"/>
                    </a:cubicBezTo>
                    <a:cubicBezTo>
                      <a:pt x="3988" y="66"/>
                      <a:pt x="3989" y="67"/>
                      <a:pt x="3991" y="69"/>
                    </a:cubicBezTo>
                    <a:cubicBezTo>
                      <a:pt x="3989" y="71"/>
                      <a:pt x="3988" y="73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6" y="76"/>
                      <a:pt x="3985" y="77"/>
                      <a:pt x="3984" y="79"/>
                    </a:cubicBezTo>
                    <a:cubicBezTo>
                      <a:pt x="3984" y="79"/>
                      <a:pt x="3984" y="79"/>
                      <a:pt x="3984" y="79"/>
                    </a:cubicBezTo>
                    <a:cubicBezTo>
                      <a:pt x="3985" y="60"/>
                      <a:pt x="3985" y="45"/>
                      <a:pt x="3985" y="45"/>
                    </a:cubicBezTo>
                    <a:cubicBezTo>
                      <a:pt x="3985" y="50"/>
                      <a:pt x="3983" y="61"/>
                      <a:pt x="3980" y="73"/>
                    </a:cubicBezTo>
                    <a:cubicBezTo>
                      <a:pt x="3979" y="73"/>
                      <a:pt x="3979" y="73"/>
                      <a:pt x="3978" y="72"/>
                    </a:cubicBezTo>
                    <a:cubicBezTo>
                      <a:pt x="3979" y="70"/>
                      <a:pt x="3979" y="68"/>
                      <a:pt x="3979" y="66"/>
                    </a:cubicBezTo>
                    <a:cubicBezTo>
                      <a:pt x="3979" y="65"/>
                      <a:pt x="3979" y="65"/>
                      <a:pt x="3980" y="65"/>
                    </a:cubicBezTo>
                    <a:cubicBezTo>
                      <a:pt x="3979" y="65"/>
                      <a:pt x="3979" y="65"/>
                      <a:pt x="3979" y="66"/>
                    </a:cubicBezTo>
                    <a:cubicBezTo>
                      <a:pt x="3979" y="64"/>
                      <a:pt x="3979" y="63"/>
                      <a:pt x="3979" y="61"/>
                    </a:cubicBezTo>
                    <a:cubicBezTo>
                      <a:pt x="3979" y="55"/>
                      <a:pt x="3979" y="49"/>
                      <a:pt x="3978" y="42"/>
                    </a:cubicBezTo>
                    <a:cubicBezTo>
                      <a:pt x="3981" y="27"/>
                      <a:pt x="3983" y="17"/>
                      <a:pt x="3983" y="17"/>
                    </a:cubicBezTo>
                    <a:cubicBezTo>
                      <a:pt x="3980" y="22"/>
                      <a:pt x="3973" y="49"/>
                      <a:pt x="3967" y="78"/>
                    </a:cubicBezTo>
                    <a:cubicBezTo>
                      <a:pt x="3967" y="78"/>
                      <a:pt x="3967" y="79"/>
                      <a:pt x="3966" y="79"/>
                    </a:cubicBezTo>
                    <a:cubicBezTo>
                      <a:pt x="3965" y="76"/>
                      <a:pt x="3962" y="72"/>
                      <a:pt x="3960" y="69"/>
                    </a:cubicBezTo>
                    <a:cubicBezTo>
                      <a:pt x="3961" y="67"/>
                      <a:pt x="3963" y="66"/>
                      <a:pt x="3965" y="64"/>
                    </a:cubicBezTo>
                    <a:cubicBezTo>
                      <a:pt x="3963" y="66"/>
                      <a:pt x="3961" y="67"/>
                      <a:pt x="3960" y="69"/>
                    </a:cubicBezTo>
                    <a:cubicBezTo>
                      <a:pt x="3959" y="68"/>
                      <a:pt x="3958" y="67"/>
                      <a:pt x="3957" y="66"/>
                    </a:cubicBezTo>
                    <a:cubicBezTo>
                      <a:pt x="3957" y="60"/>
                      <a:pt x="3956" y="55"/>
                      <a:pt x="3956" y="52"/>
                    </a:cubicBezTo>
                    <a:cubicBezTo>
                      <a:pt x="3956" y="56"/>
                      <a:pt x="3956" y="60"/>
                      <a:pt x="3956" y="64"/>
                    </a:cubicBezTo>
                    <a:cubicBezTo>
                      <a:pt x="3952" y="60"/>
                      <a:pt x="3948" y="55"/>
                      <a:pt x="3943" y="50"/>
                    </a:cubicBezTo>
                    <a:cubicBezTo>
                      <a:pt x="3945" y="55"/>
                      <a:pt x="3949" y="60"/>
                      <a:pt x="3952" y="65"/>
                    </a:cubicBezTo>
                    <a:cubicBezTo>
                      <a:pt x="3951" y="68"/>
                      <a:pt x="3951" y="71"/>
                      <a:pt x="3950" y="76"/>
                    </a:cubicBezTo>
                    <a:cubicBezTo>
                      <a:pt x="3948" y="74"/>
                      <a:pt x="3946" y="71"/>
                      <a:pt x="3943" y="68"/>
                    </a:cubicBezTo>
                    <a:cubicBezTo>
                      <a:pt x="3943" y="54"/>
                      <a:pt x="3942" y="41"/>
                      <a:pt x="3941" y="33"/>
                    </a:cubicBezTo>
                    <a:cubicBezTo>
                      <a:pt x="3942" y="42"/>
                      <a:pt x="3941" y="53"/>
                      <a:pt x="3940" y="65"/>
                    </a:cubicBezTo>
                    <a:cubicBezTo>
                      <a:pt x="3938" y="63"/>
                      <a:pt x="3936" y="61"/>
                      <a:pt x="3934" y="59"/>
                    </a:cubicBezTo>
                    <a:cubicBezTo>
                      <a:pt x="3936" y="61"/>
                      <a:pt x="3938" y="63"/>
                      <a:pt x="3940" y="65"/>
                    </a:cubicBezTo>
                    <a:cubicBezTo>
                      <a:pt x="3939" y="72"/>
                      <a:pt x="3938" y="80"/>
                      <a:pt x="3937" y="87"/>
                    </a:cubicBezTo>
                    <a:cubicBezTo>
                      <a:pt x="3937" y="87"/>
                      <a:pt x="3937" y="87"/>
                      <a:pt x="3937" y="87"/>
                    </a:cubicBezTo>
                    <a:cubicBezTo>
                      <a:pt x="3936" y="85"/>
                      <a:pt x="3936" y="84"/>
                      <a:pt x="3935" y="83"/>
                    </a:cubicBezTo>
                    <a:cubicBezTo>
                      <a:pt x="3936" y="82"/>
                      <a:pt x="3936" y="82"/>
                      <a:pt x="3936" y="81"/>
                    </a:cubicBezTo>
                    <a:cubicBezTo>
                      <a:pt x="3936" y="82"/>
                      <a:pt x="3936" y="82"/>
                      <a:pt x="3935" y="83"/>
                    </a:cubicBezTo>
                    <a:cubicBezTo>
                      <a:pt x="3935" y="81"/>
                      <a:pt x="3934" y="79"/>
                      <a:pt x="3933" y="77"/>
                    </a:cubicBezTo>
                    <a:cubicBezTo>
                      <a:pt x="3934" y="79"/>
                      <a:pt x="3934" y="81"/>
                      <a:pt x="3935" y="83"/>
                    </a:cubicBezTo>
                    <a:cubicBezTo>
                      <a:pt x="3934" y="85"/>
                      <a:pt x="3933" y="86"/>
                      <a:pt x="3932" y="88"/>
                    </a:cubicBezTo>
                    <a:cubicBezTo>
                      <a:pt x="3933" y="86"/>
                      <a:pt x="3934" y="85"/>
                      <a:pt x="3935" y="83"/>
                    </a:cubicBezTo>
                    <a:cubicBezTo>
                      <a:pt x="3935" y="85"/>
                      <a:pt x="3936" y="86"/>
                      <a:pt x="3936" y="88"/>
                    </a:cubicBezTo>
                    <a:cubicBezTo>
                      <a:pt x="3934" y="91"/>
                      <a:pt x="3933" y="95"/>
                      <a:pt x="3931" y="98"/>
                    </a:cubicBezTo>
                    <a:cubicBezTo>
                      <a:pt x="3931" y="97"/>
                      <a:pt x="3931" y="97"/>
                      <a:pt x="3930" y="97"/>
                    </a:cubicBezTo>
                    <a:cubicBezTo>
                      <a:pt x="3930" y="95"/>
                      <a:pt x="3930" y="94"/>
                      <a:pt x="3930" y="93"/>
                    </a:cubicBezTo>
                    <a:cubicBezTo>
                      <a:pt x="3930" y="91"/>
                      <a:pt x="3931" y="89"/>
                      <a:pt x="3932" y="88"/>
                    </a:cubicBezTo>
                    <a:cubicBezTo>
                      <a:pt x="3931" y="89"/>
                      <a:pt x="3930" y="91"/>
                      <a:pt x="3929" y="92"/>
                    </a:cubicBezTo>
                    <a:cubicBezTo>
                      <a:pt x="3929" y="92"/>
                      <a:pt x="3929" y="91"/>
                      <a:pt x="3929" y="91"/>
                    </a:cubicBezTo>
                    <a:cubicBezTo>
                      <a:pt x="3929" y="74"/>
                      <a:pt x="3928" y="60"/>
                      <a:pt x="3928" y="60"/>
                    </a:cubicBezTo>
                    <a:cubicBezTo>
                      <a:pt x="3928" y="65"/>
                      <a:pt x="3927" y="73"/>
                      <a:pt x="3927" y="81"/>
                    </a:cubicBezTo>
                    <a:cubicBezTo>
                      <a:pt x="3926" y="79"/>
                      <a:pt x="3926" y="76"/>
                      <a:pt x="3925" y="74"/>
                    </a:cubicBezTo>
                    <a:cubicBezTo>
                      <a:pt x="3926" y="79"/>
                      <a:pt x="3926" y="83"/>
                      <a:pt x="3926" y="88"/>
                    </a:cubicBezTo>
                    <a:cubicBezTo>
                      <a:pt x="3925" y="86"/>
                      <a:pt x="3924" y="84"/>
                      <a:pt x="3923" y="83"/>
                    </a:cubicBezTo>
                    <a:cubicBezTo>
                      <a:pt x="3924" y="85"/>
                      <a:pt x="3925" y="87"/>
                      <a:pt x="3926" y="89"/>
                    </a:cubicBezTo>
                    <a:cubicBezTo>
                      <a:pt x="3926" y="89"/>
                      <a:pt x="3926" y="89"/>
                      <a:pt x="3926" y="89"/>
                    </a:cubicBezTo>
                    <a:cubicBezTo>
                      <a:pt x="3926" y="93"/>
                      <a:pt x="3925" y="97"/>
                      <a:pt x="3925" y="101"/>
                    </a:cubicBezTo>
                    <a:cubicBezTo>
                      <a:pt x="3924" y="103"/>
                      <a:pt x="3923" y="104"/>
                      <a:pt x="3923" y="106"/>
                    </a:cubicBezTo>
                    <a:cubicBezTo>
                      <a:pt x="3921" y="100"/>
                      <a:pt x="3920" y="95"/>
                      <a:pt x="3918" y="90"/>
                    </a:cubicBezTo>
                    <a:cubicBezTo>
                      <a:pt x="3919" y="88"/>
                      <a:pt x="3921" y="85"/>
                      <a:pt x="3922" y="83"/>
                    </a:cubicBezTo>
                    <a:cubicBezTo>
                      <a:pt x="3921" y="85"/>
                      <a:pt x="3919" y="87"/>
                      <a:pt x="3917" y="89"/>
                    </a:cubicBezTo>
                    <a:cubicBezTo>
                      <a:pt x="3917" y="88"/>
                      <a:pt x="3916" y="87"/>
                      <a:pt x="3916" y="87"/>
                    </a:cubicBezTo>
                    <a:cubicBezTo>
                      <a:pt x="3916" y="76"/>
                      <a:pt x="3917" y="68"/>
                      <a:pt x="3917" y="68"/>
                    </a:cubicBezTo>
                    <a:cubicBezTo>
                      <a:pt x="3916" y="72"/>
                      <a:pt x="3915" y="77"/>
                      <a:pt x="3914" y="82"/>
                    </a:cubicBezTo>
                    <a:cubicBezTo>
                      <a:pt x="3914" y="81"/>
                      <a:pt x="3914" y="80"/>
                      <a:pt x="3914" y="80"/>
                    </a:cubicBezTo>
                    <a:cubicBezTo>
                      <a:pt x="3914" y="80"/>
                      <a:pt x="3914" y="81"/>
                      <a:pt x="3914" y="82"/>
                    </a:cubicBezTo>
                    <a:cubicBezTo>
                      <a:pt x="3913" y="80"/>
                      <a:pt x="3912" y="78"/>
                      <a:pt x="3910" y="75"/>
                    </a:cubicBezTo>
                    <a:cubicBezTo>
                      <a:pt x="3911" y="65"/>
                      <a:pt x="3912" y="56"/>
                      <a:pt x="3913" y="48"/>
                    </a:cubicBezTo>
                    <a:cubicBezTo>
                      <a:pt x="3912" y="55"/>
                      <a:pt x="3910" y="64"/>
                      <a:pt x="3909" y="73"/>
                    </a:cubicBezTo>
                    <a:cubicBezTo>
                      <a:pt x="3907" y="70"/>
                      <a:pt x="3905" y="67"/>
                      <a:pt x="3903" y="64"/>
                    </a:cubicBezTo>
                    <a:cubicBezTo>
                      <a:pt x="3903" y="62"/>
                      <a:pt x="3903" y="59"/>
                      <a:pt x="3903" y="57"/>
                    </a:cubicBezTo>
                    <a:cubicBezTo>
                      <a:pt x="3902" y="58"/>
                      <a:pt x="3902" y="60"/>
                      <a:pt x="3901" y="62"/>
                    </a:cubicBezTo>
                    <a:cubicBezTo>
                      <a:pt x="3899" y="59"/>
                      <a:pt x="3896" y="55"/>
                      <a:pt x="3893" y="52"/>
                    </a:cubicBezTo>
                    <a:cubicBezTo>
                      <a:pt x="3893" y="48"/>
                      <a:pt x="3893" y="46"/>
                      <a:pt x="3893" y="46"/>
                    </a:cubicBezTo>
                    <a:cubicBezTo>
                      <a:pt x="3893" y="48"/>
                      <a:pt x="3893" y="49"/>
                      <a:pt x="3892" y="51"/>
                    </a:cubicBezTo>
                    <a:cubicBezTo>
                      <a:pt x="3889" y="47"/>
                      <a:pt x="3885" y="43"/>
                      <a:pt x="3881" y="39"/>
                    </a:cubicBezTo>
                    <a:cubicBezTo>
                      <a:pt x="3881" y="37"/>
                      <a:pt x="3881" y="35"/>
                      <a:pt x="3880" y="34"/>
                    </a:cubicBezTo>
                    <a:cubicBezTo>
                      <a:pt x="3880" y="34"/>
                      <a:pt x="3881" y="36"/>
                      <a:pt x="3881" y="39"/>
                    </a:cubicBezTo>
                    <a:cubicBezTo>
                      <a:pt x="3879" y="37"/>
                      <a:pt x="3878" y="36"/>
                      <a:pt x="3876" y="34"/>
                    </a:cubicBezTo>
                    <a:cubicBezTo>
                      <a:pt x="3878" y="36"/>
                      <a:pt x="3879" y="38"/>
                      <a:pt x="3881" y="40"/>
                    </a:cubicBezTo>
                    <a:cubicBezTo>
                      <a:pt x="3881" y="40"/>
                      <a:pt x="3881" y="40"/>
                      <a:pt x="3881" y="41"/>
                    </a:cubicBezTo>
                    <a:cubicBezTo>
                      <a:pt x="3881" y="40"/>
                      <a:pt x="3881" y="40"/>
                      <a:pt x="3881" y="40"/>
                    </a:cubicBezTo>
                    <a:cubicBezTo>
                      <a:pt x="3885" y="45"/>
                      <a:pt x="3888" y="49"/>
                      <a:pt x="3892" y="53"/>
                    </a:cubicBezTo>
                    <a:cubicBezTo>
                      <a:pt x="3891" y="55"/>
                      <a:pt x="3890" y="59"/>
                      <a:pt x="3890" y="62"/>
                    </a:cubicBezTo>
                    <a:cubicBezTo>
                      <a:pt x="3887" y="60"/>
                      <a:pt x="3885" y="58"/>
                      <a:pt x="3882" y="56"/>
                    </a:cubicBezTo>
                    <a:cubicBezTo>
                      <a:pt x="3881" y="50"/>
                      <a:pt x="3881" y="44"/>
                      <a:pt x="3881" y="41"/>
                    </a:cubicBezTo>
                    <a:cubicBezTo>
                      <a:pt x="3881" y="45"/>
                      <a:pt x="3881" y="50"/>
                      <a:pt x="3880" y="55"/>
                    </a:cubicBezTo>
                    <a:cubicBezTo>
                      <a:pt x="3879" y="54"/>
                      <a:pt x="3878" y="53"/>
                      <a:pt x="3876" y="52"/>
                    </a:cubicBezTo>
                    <a:cubicBezTo>
                      <a:pt x="3878" y="53"/>
                      <a:pt x="3879" y="54"/>
                      <a:pt x="3880" y="55"/>
                    </a:cubicBezTo>
                    <a:cubicBezTo>
                      <a:pt x="3880" y="64"/>
                      <a:pt x="3879" y="73"/>
                      <a:pt x="3877" y="83"/>
                    </a:cubicBezTo>
                    <a:cubicBezTo>
                      <a:pt x="3877" y="82"/>
                      <a:pt x="3877" y="81"/>
                      <a:pt x="3877" y="81"/>
                    </a:cubicBezTo>
                    <a:cubicBezTo>
                      <a:pt x="3877" y="82"/>
                      <a:pt x="3877" y="82"/>
                      <a:pt x="3877" y="83"/>
                    </a:cubicBezTo>
                    <a:cubicBezTo>
                      <a:pt x="3876" y="88"/>
                      <a:pt x="3876" y="92"/>
                      <a:pt x="3875" y="97"/>
                    </a:cubicBezTo>
                    <a:cubicBezTo>
                      <a:pt x="3873" y="89"/>
                      <a:pt x="3871" y="81"/>
                      <a:pt x="3868" y="73"/>
                    </a:cubicBezTo>
                    <a:cubicBezTo>
                      <a:pt x="3868" y="72"/>
                      <a:pt x="3868" y="71"/>
                      <a:pt x="3868" y="71"/>
                    </a:cubicBezTo>
                    <a:cubicBezTo>
                      <a:pt x="3869" y="70"/>
                      <a:pt x="3870" y="69"/>
                      <a:pt x="3871" y="68"/>
                    </a:cubicBezTo>
                    <a:cubicBezTo>
                      <a:pt x="3873" y="72"/>
                      <a:pt x="3875" y="76"/>
                      <a:pt x="3877" y="81"/>
                    </a:cubicBezTo>
                    <a:cubicBezTo>
                      <a:pt x="3875" y="76"/>
                      <a:pt x="3873" y="72"/>
                      <a:pt x="3871" y="67"/>
                    </a:cubicBezTo>
                    <a:cubicBezTo>
                      <a:pt x="3872" y="67"/>
                      <a:pt x="3872" y="66"/>
                      <a:pt x="3873" y="65"/>
                    </a:cubicBezTo>
                    <a:cubicBezTo>
                      <a:pt x="3872" y="66"/>
                      <a:pt x="3872" y="66"/>
                      <a:pt x="3871" y="67"/>
                    </a:cubicBezTo>
                    <a:cubicBezTo>
                      <a:pt x="3865" y="54"/>
                      <a:pt x="3855" y="41"/>
                      <a:pt x="3843" y="25"/>
                    </a:cubicBezTo>
                    <a:cubicBezTo>
                      <a:pt x="3855" y="42"/>
                      <a:pt x="3864" y="55"/>
                      <a:pt x="3870" y="68"/>
                    </a:cubicBezTo>
                    <a:cubicBezTo>
                      <a:pt x="3870" y="68"/>
                      <a:pt x="3869" y="69"/>
                      <a:pt x="3868" y="70"/>
                    </a:cubicBezTo>
                    <a:cubicBezTo>
                      <a:pt x="3868" y="68"/>
                      <a:pt x="3868" y="66"/>
                      <a:pt x="3868" y="66"/>
                    </a:cubicBezTo>
                    <a:cubicBezTo>
                      <a:pt x="3868" y="68"/>
                      <a:pt x="3868" y="69"/>
                      <a:pt x="3867" y="71"/>
                    </a:cubicBezTo>
                    <a:cubicBezTo>
                      <a:pt x="3867" y="71"/>
                      <a:pt x="3867" y="71"/>
                      <a:pt x="3867" y="71"/>
                    </a:cubicBezTo>
                    <a:cubicBezTo>
                      <a:pt x="3863" y="61"/>
                      <a:pt x="3856" y="52"/>
                      <a:pt x="3847" y="42"/>
                    </a:cubicBezTo>
                    <a:cubicBezTo>
                      <a:pt x="3854" y="55"/>
                      <a:pt x="3859" y="65"/>
                      <a:pt x="3863" y="75"/>
                    </a:cubicBezTo>
                    <a:cubicBezTo>
                      <a:pt x="3862" y="76"/>
                      <a:pt x="3861" y="77"/>
                      <a:pt x="3860" y="77"/>
                    </a:cubicBezTo>
                    <a:cubicBezTo>
                      <a:pt x="3858" y="73"/>
                      <a:pt x="3856" y="70"/>
                      <a:pt x="3854" y="68"/>
                    </a:cubicBezTo>
                    <a:cubicBezTo>
                      <a:pt x="3853" y="63"/>
                      <a:pt x="3853" y="60"/>
                      <a:pt x="3853" y="60"/>
                    </a:cubicBezTo>
                    <a:cubicBezTo>
                      <a:pt x="3853" y="62"/>
                      <a:pt x="3853" y="64"/>
                      <a:pt x="3853" y="67"/>
                    </a:cubicBezTo>
                    <a:cubicBezTo>
                      <a:pt x="3847" y="57"/>
                      <a:pt x="3839" y="47"/>
                      <a:pt x="3828" y="38"/>
                    </a:cubicBezTo>
                    <a:cubicBezTo>
                      <a:pt x="3838" y="49"/>
                      <a:pt x="3846" y="60"/>
                      <a:pt x="3852" y="71"/>
                    </a:cubicBezTo>
                    <a:cubicBezTo>
                      <a:pt x="3852" y="75"/>
                      <a:pt x="3852" y="80"/>
                      <a:pt x="3851" y="85"/>
                    </a:cubicBezTo>
                    <a:cubicBezTo>
                      <a:pt x="3851" y="84"/>
                      <a:pt x="3851" y="83"/>
                      <a:pt x="3850" y="83"/>
                    </a:cubicBezTo>
                    <a:cubicBezTo>
                      <a:pt x="3850" y="84"/>
                      <a:pt x="3851" y="85"/>
                      <a:pt x="3851" y="86"/>
                    </a:cubicBezTo>
                    <a:cubicBezTo>
                      <a:pt x="3851" y="87"/>
                      <a:pt x="3851" y="88"/>
                      <a:pt x="3851" y="89"/>
                    </a:cubicBezTo>
                    <a:cubicBezTo>
                      <a:pt x="3849" y="92"/>
                      <a:pt x="3848" y="94"/>
                      <a:pt x="3846" y="97"/>
                    </a:cubicBezTo>
                    <a:cubicBezTo>
                      <a:pt x="3846" y="93"/>
                      <a:pt x="3846" y="90"/>
                      <a:pt x="3846" y="87"/>
                    </a:cubicBezTo>
                    <a:cubicBezTo>
                      <a:pt x="3847" y="84"/>
                      <a:pt x="3848" y="82"/>
                      <a:pt x="3848" y="80"/>
                    </a:cubicBezTo>
                    <a:cubicBezTo>
                      <a:pt x="3849" y="81"/>
                      <a:pt x="3849" y="82"/>
                      <a:pt x="3850" y="83"/>
                    </a:cubicBezTo>
                    <a:cubicBezTo>
                      <a:pt x="3849" y="81"/>
                      <a:pt x="3849" y="80"/>
                      <a:pt x="3848" y="79"/>
                    </a:cubicBezTo>
                    <a:cubicBezTo>
                      <a:pt x="3849" y="79"/>
                      <a:pt x="3849" y="78"/>
                      <a:pt x="3849" y="77"/>
                    </a:cubicBezTo>
                    <a:cubicBezTo>
                      <a:pt x="3849" y="77"/>
                      <a:pt x="3848" y="78"/>
                      <a:pt x="3848" y="79"/>
                    </a:cubicBezTo>
                    <a:cubicBezTo>
                      <a:pt x="3847" y="77"/>
                      <a:pt x="3847" y="76"/>
                      <a:pt x="3846" y="75"/>
                    </a:cubicBezTo>
                    <a:cubicBezTo>
                      <a:pt x="3847" y="77"/>
                      <a:pt x="3847" y="78"/>
                      <a:pt x="3848" y="79"/>
                    </a:cubicBezTo>
                    <a:cubicBezTo>
                      <a:pt x="3847" y="80"/>
                      <a:pt x="3846" y="81"/>
                      <a:pt x="3846" y="82"/>
                    </a:cubicBezTo>
                    <a:cubicBezTo>
                      <a:pt x="3846" y="73"/>
                      <a:pt x="3846" y="68"/>
                      <a:pt x="3846" y="68"/>
                    </a:cubicBezTo>
                    <a:cubicBezTo>
                      <a:pt x="3845" y="72"/>
                      <a:pt x="3845" y="78"/>
                      <a:pt x="3844" y="85"/>
                    </a:cubicBezTo>
                    <a:cubicBezTo>
                      <a:pt x="3841" y="90"/>
                      <a:pt x="3839" y="94"/>
                      <a:pt x="3838" y="99"/>
                    </a:cubicBezTo>
                    <a:cubicBezTo>
                      <a:pt x="3837" y="98"/>
                      <a:pt x="3837" y="97"/>
                      <a:pt x="3837" y="96"/>
                    </a:cubicBezTo>
                    <a:cubicBezTo>
                      <a:pt x="3837" y="92"/>
                      <a:pt x="3838" y="89"/>
                      <a:pt x="3838" y="89"/>
                    </a:cubicBezTo>
                    <a:cubicBezTo>
                      <a:pt x="3838" y="91"/>
                      <a:pt x="3837" y="92"/>
                      <a:pt x="3837" y="94"/>
                    </a:cubicBezTo>
                    <a:cubicBezTo>
                      <a:pt x="3836" y="91"/>
                      <a:pt x="3835" y="88"/>
                      <a:pt x="3835" y="85"/>
                    </a:cubicBezTo>
                    <a:cubicBezTo>
                      <a:pt x="3834" y="88"/>
                      <a:pt x="3834" y="91"/>
                      <a:pt x="3834" y="94"/>
                    </a:cubicBezTo>
                    <a:cubicBezTo>
                      <a:pt x="3834" y="97"/>
                      <a:pt x="3834" y="100"/>
                      <a:pt x="3834" y="103"/>
                    </a:cubicBezTo>
                    <a:cubicBezTo>
                      <a:pt x="3833" y="107"/>
                      <a:pt x="3831" y="112"/>
                      <a:pt x="3830" y="116"/>
                    </a:cubicBezTo>
                    <a:cubicBezTo>
                      <a:pt x="3828" y="112"/>
                      <a:pt x="3827" y="108"/>
                      <a:pt x="3826" y="104"/>
                    </a:cubicBezTo>
                    <a:cubicBezTo>
                      <a:pt x="3827" y="109"/>
                      <a:pt x="3828" y="115"/>
                      <a:pt x="3828" y="120"/>
                    </a:cubicBezTo>
                    <a:cubicBezTo>
                      <a:pt x="3827" y="124"/>
                      <a:pt x="3825" y="127"/>
                      <a:pt x="3824" y="130"/>
                    </a:cubicBezTo>
                    <a:cubicBezTo>
                      <a:pt x="3823" y="128"/>
                      <a:pt x="3822" y="126"/>
                      <a:pt x="3822" y="123"/>
                    </a:cubicBezTo>
                    <a:cubicBezTo>
                      <a:pt x="3823" y="115"/>
                      <a:pt x="3825" y="106"/>
                      <a:pt x="3827" y="98"/>
                    </a:cubicBezTo>
                    <a:cubicBezTo>
                      <a:pt x="3828" y="98"/>
                      <a:pt x="3828" y="97"/>
                      <a:pt x="3828" y="96"/>
                    </a:cubicBezTo>
                    <a:cubicBezTo>
                      <a:pt x="3828" y="96"/>
                      <a:pt x="3828" y="97"/>
                      <a:pt x="3827" y="97"/>
                    </a:cubicBezTo>
                    <a:cubicBezTo>
                      <a:pt x="3830" y="86"/>
                      <a:pt x="3833" y="76"/>
                      <a:pt x="3833" y="76"/>
                    </a:cubicBezTo>
                    <a:cubicBezTo>
                      <a:pt x="3828" y="83"/>
                      <a:pt x="3822" y="96"/>
                      <a:pt x="3818" y="109"/>
                    </a:cubicBezTo>
                    <a:cubicBezTo>
                      <a:pt x="3818" y="107"/>
                      <a:pt x="3817" y="106"/>
                      <a:pt x="3817" y="104"/>
                    </a:cubicBezTo>
                    <a:cubicBezTo>
                      <a:pt x="3819" y="97"/>
                      <a:pt x="3822" y="90"/>
                      <a:pt x="3825" y="84"/>
                    </a:cubicBezTo>
                    <a:cubicBezTo>
                      <a:pt x="3822" y="90"/>
                      <a:pt x="3819" y="96"/>
                      <a:pt x="3817" y="102"/>
                    </a:cubicBezTo>
                    <a:cubicBezTo>
                      <a:pt x="3816" y="102"/>
                      <a:pt x="3816" y="101"/>
                      <a:pt x="3816" y="101"/>
                    </a:cubicBezTo>
                    <a:cubicBezTo>
                      <a:pt x="3818" y="77"/>
                      <a:pt x="3814" y="62"/>
                      <a:pt x="3814" y="62"/>
                    </a:cubicBezTo>
                    <a:cubicBezTo>
                      <a:pt x="3815" y="69"/>
                      <a:pt x="3815" y="80"/>
                      <a:pt x="3813" y="91"/>
                    </a:cubicBezTo>
                    <a:cubicBezTo>
                      <a:pt x="3813" y="89"/>
                      <a:pt x="3813" y="88"/>
                      <a:pt x="3812" y="87"/>
                    </a:cubicBezTo>
                    <a:cubicBezTo>
                      <a:pt x="3812" y="88"/>
                      <a:pt x="3812" y="88"/>
                      <a:pt x="3812" y="88"/>
                    </a:cubicBezTo>
                    <a:cubicBezTo>
                      <a:pt x="3812" y="90"/>
                      <a:pt x="3812" y="93"/>
                      <a:pt x="3813" y="96"/>
                    </a:cubicBezTo>
                    <a:cubicBezTo>
                      <a:pt x="3812" y="101"/>
                      <a:pt x="3812" y="105"/>
                      <a:pt x="3811" y="110"/>
                    </a:cubicBezTo>
                    <a:cubicBezTo>
                      <a:pt x="3810" y="109"/>
                      <a:pt x="3810" y="107"/>
                      <a:pt x="3809" y="106"/>
                    </a:cubicBezTo>
                    <a:cubicBezTo>
                      <a:pt x="3810" y="103"/>
                      <a:pt x="3810" y="99"/>
                      <a:pt x="3811" y="96"/>
                    </a:cubicBezTo>
                    <a:cubicBezTo>
                      <a:pt x="3810" y="98"/>
                      <a:pt x="3809" y="100"/>
                      <a:pt x="3808" y="103"/>
                    </a:cubicBezTo>
                    <a:cubicBezTo>
                      <a:pt x="3807" y="101"/>
                      <a:pt x="3806" y="99"/>
                      <a:pt x="3806" y="98"/>
                    </a:cubicBezTo>
                    <a:cubicBezTo>
                      <a:pt x="3806" y="89"/>
                      <a:pt x="3807" y="82"/>
                      <a:pt x="3807" y="82"/>
                    </a:cubicBezTo>
                    <a:cubicBezTo>
                      <a:pt x="3805" y="97"/>
                      <a:pt x="3805" y="97"/>
                      <a:pt x="3805" y="97"/>
                    </a:cubicBezTo>
                    <a:cubicBezTo>
                      <a:pt x="3804" y="94"/>
                      <a:pt x="3803" y="92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89"/>
                      <a:pt x="3802" y="89"/>
                      <a:pt x="3801" y="88"/>
                    </a:cubicBezTo>
                    <a:cubicBezTo>
                      <a:pt x="3801" y="83"/>
                      <a:pt x="3801" y="78"/>
                      <a:pt x="3801" y="73"/>
                    </a:cubicBezTo>
                    <a:cubicBezTo>
                      <a:pt x="3804" y="70"/>
                      <a:pt x="3807" y="66"/>
                      <a:pt x="3810" y="63"/>
                    </a:cubicBezTo>
                    <a:cubicBezTo>
                      <a:pt x="3807" y="66"/>
                      <a:pt x="3804" y="69"/>
                      <a:pt x="3801" y="71"/>
                    </a:cubicBezTo>
                    <a:cubicBezTo>
                      <a:pt x="3801" y="65"/>
                      <a:pt x="3800" y="60"/>
                      <a:pt x="3800" y="60"/>
                    </a:cubicBezTo>
                    <a:cubicBezTo>
                      <a:pt x="3800" y="64"/>
                      <a:pt x="3800" y="68"/>
                      <a:pt x="3800" y="72"/>
                    </a:cubicBezTo>
                    <a:cubicBezTo>
                      <a:pt x="3798" y="74"/>
                      <a:pt x="3797" y="75"/>
                      <a:pt x="3796" y="77"/>
                    </a:cubicBezTo>
                    <a:cubicBezTo>
                      <a:pt x="3795" y="70"/>
                      <a:pt x="3795" y="64"/>
                      <a:pt x="3795" y="64"/>
                    </a:cubicBezTo>
                    <a:cubicBezTo>
                      <a:pt x="3795" y="66"/>
                      <a:pt x="3795" y="71"/>
                      <a:pt x="3794" y="78"/>
                    </a:cubicBezTo>
                    <a:cubicBezTo>
                      <a:pt x="3791" y="81"/>
                      <a:pt x="3789" y="85"/>
                      <a:pt x="3787" y="88"/>
                    </a:cubicBezTo>
                    <a:cubicBezTo>
                      <a:pt x="3787" y="64"/>
                      <a:pt x="3786" y="42"/>
                      <a:pt x="3786" y="42"/>
                    </a:cubicBezTo>
                    <a:cubicBezTo>
                      <a:pt x="3787" y="55"/>
                      <a:pt x="3784" y="77"/>
                      <a:pt x="3782" y="96"/>
                    </a:cubicBezTo>
                    <a:cubicBezTo>
                      <a:pt x="3780" y="100"/>
                      <a:pt x="3778" y="104"/>
                      <a:pt x="3777" y="107"/>
                    </a:cubicBezTo>
                    <a:cubicBezTo>
                      <a:pt x="3776" y="107"/>
                      <a:pt x="3776" y="106"/>
                      <a:pt x="3776" y="106"/>
                    </a:cubicBezTo>
                    <a:cubicBezTo>
                      <a:pt x="3777" y="87"/>
                      <a:pt x="3780" y="70"/>
                      <a:pt x="3780" y="70"/>
                    </a:cubicBezTo>
                    <a:cubicBezTo>
                      <a:pt x="3778" y="74"/>
                      <a:pt x="3775" y="98"/>
                      <a:pt x="3773" y="117"/>
                    </a:cubicBezTo>
                    <a:cubicBezTo>
                      <a:pt x="3773" y="118"/>
                      <a:pt x="3773" y="119"/>
                      <a:pt x="3773" y="120"/>
                    </a:cubicBezTo>
                    <a:cubicBezTo>
                      <a:pt x="3773" y="119"/>
                      <a:pt x="3773" y="119"/>
                      <a:pt x="3773" y="118"/>
                    </a:cubicBezTo>
                    <a:cubicBezTo>
                      <a:pt x="3773" y="119"/>
                      <a:pt x="3773" y="119"/>
                      <a:pt x="3773" y="120"/>
                    </a:cubicBezTo>
                    <a:cubicBezTo>
                      <a:pt x="3772" y="121"/>
                      <a:pt x="3772" y="121"/>
                      <a:pt x="3772" y="122"/>
                    </a:cubicBezTo>
                    <a:cubicBezTo>
                      <a:pt x="3772" y="115"/>
                      <a:pt x="3772" y="108"/>
                      <a:pt x="3772" y="101"/>
                    </a:cubicBezTo>
                    <a:cubicBezTo>
                      <a:pt x="3772" y="101"/>
                      <a:pt x="3772" y="100"/>
                      <a:pt x="3772" y="100"/>
                    </a:cubicBezTo>
                    <a:cubicBezTo>
                      <a:pt x="3772" y="100"/>
                      <a:pt x="3772" y="101"/>
                      <a:pt x="3772" y="101"/>
                    </a:cubicBezTo>
                    <a:cubicBezTo>
                      <a:pt x="3772" y="98"/>
                      <a:pt x="3772" y="94"/>
                      <a:pt x="3771" y="91"/>
                    </a:cubicBezTo>
                    <a:cubicBezTo>
                      <a:pt x="3773" y="88"/>
                      <a:pt x="3775" y="85"/>
                      <a:pt x="3777" y="83"/>
                    </a:cubicBezTo>
                    <a:cubicBezTo>
                      <a:pt x="3775" y="85"/>
                      <a:pt x="3773" y="87"/>
                      <a:pt x="3771" y="90"/>
                    </a:cubicBezTo>
                    <a:cubicBezTo>
                      <a:pt x="3771" y="79"/>
                      <a:pt x="3770" y="69"/>
                      <a:pt x="3770" y="61"/>
                    </a:cubicBezTo>
                    <a:cubicBezTo>
                      <a:pt x="3769" y="73"/>
                      <a:pt x="3767" y="87"/>
                      <a:pt x="3765" y="100"/>
                    </a:cubicBezTo>
                    <a:cubicBezTo>
                      <a:pt x="3761" y="107"/>
                      <a:pt x="3758" y="115"/>
                      <a:pt x="3756" y="123"/>
                    </a:cubicBezTo>
                    <a:cubicBezTo>
                      <a:pt x="3757" y="109"/>
                      <a:pt x="3758" y="92"/>
                      <a:pt x="3759" y="80"/>
                    </a:cubicBezTo>
                    <a:cubicBezTo>
                      <a:pt x="3761" y="73"/>
                      <a:pt x="3762" y="67"/>
                      <a:pt x="3762" y="61"/>
                    </a:cubicBezTo>
                    <a:cubicBezTo>
                      <a:pt x="3762" y="60"/>
                      <a:pt x="3762" y="60"/>
                      <a:pt x="3762" y="60"/>
                    </a:cubicBezTo>
                    <a:cubicBezTo>
                      <a:pt x="3753" y="75"/>
                      <a:pt x="3749" y="88"/>
                      <a:pt x="3747" y="102"/>
                    </a:cubicBezTo>
                    <a:cubicBezTo>
                      <a:pt x="3747" y="102"/>
                      <a:pt x="3747" y="101"/>
                      <a:pt x="3747" y="101"/>
                    </a:cubicBezTo>
                    <a:cubicBezTo>
                      <a:pt x="3748" y="68"/>
                      <a:pt x="3751" y="30"/>
                      <a:pt x="3751" y="30"/>
                    </a:cubicBezTo>
                    <a:cubicBezTo>
                      <a:pt x="3748" y="38"/>
                      <a:pt x="3746" y="60"/>
                      <a:pt x="3743" y="83"/>
                    </a:cubicBezTo>
                    <a:cubicBezTo>
                      <a:pt x="3741" y="87"/>
                      <a:pt x="3738" y="92"/>
                      <a:pt x="3736" y="97"/>
                    </a:cubicBezTo>
                    <a:cubicBezTo>
                      <a:pt x="3736" y="91"/>
                      <a:pt x="3735" y="85"/>
                      <a:pt x="3735" y="79"/>
                    </a:cubicBezTo>
                    <a:cubicBezTo>
                      <a:pt x="3735" y="78"/>
                      <a:pt x="3735" y="78"/>
                      <a:pt x="3736" y="78"/>
                    </a:cubicBezTo>
                    <a:cubicBezTo>
                      <a:pt x="3735" y="78"/>
                      <a:pt x="3735" y="78"/>
                      <a:pt x="3735" y="78"/>
                    </a:cubicBezTo>
                    <a:cubicBezTo>
                      <a:pt x="3733" y="58"/>
                      <a:pt x="3732" y="41"/>
                      <a:pt x="3732" y="41"/>
                    </a:cubicBezTo>
                    <a:cubicBezTo>
                      <a:pt x="3733" y="52"/>
                      <a:pt x="3733" y="67"/>
                      <a:pt x="3732" y="82"/>
                    </a:cubicBezTo>
                    <a:cubicBezTo>
                      <a:pt x="3730" y="84"/>
                      <a:pt x="3728" y="87"/>
                      <a:pt x="3726" y="92"/>
                    </a:cubicBezTo>
                    <a:cubicBezTo>
                      <a:pt x="3725" y="82"/>
                      <a:pt x="3726" y="72"/>
                      <a:pt x="3726" y="68"/>
                    </a:cubicBezTo>
                    <a:cubicBezTo>
                      <a:pt x="3725" y="77"/>
                      <a:pt x="3724" y="88"/>
                      <a:pt x="3722" y="99"/>
                    </a:cubicBezTo>
                    <a:cubicBezTo>
                      <a:pt x="3720" y="94"/>
                      <a:pt x="3719" y="89"/>
                      <a:pt x="3717" y="84"/>
                    </a:cubicBezTo>
                    <a:cubicBezTo>
                      <a:pt x="3719" y="90"/>
                      <a:pt x="3720" y="96"/>
                      <a:pt x="3721" y="101"/>
                    </a:cubicBezTo>
                    <a:cubicBezTo>
                      <a:pt x="3721" y="105"/>
                      <a:pt x="3720" y="109"/>
                      <a:pt x="3719" y="113"/>
                    </a:cubicBezTo>
                    <a:cubicBezTo>
                      <a:pt x="3719" y="110"/>
                      <a:pt x="3719" y="108"/>
                      <a:pt x="3719" y="105"/>
                    </a:cubicBezTo>
                    <a:cubicBezTo>
                      <a:pt x="3718" y="108"/>
                      <a:pt x="3718" y="115"/>
                      <a:pt x="3718" y="119"/>
                    </a:cubicBezTo>
                    <a:cubicBezTo>
                      <a:pt x="3717" y="120"/>
                      <a:pt x="3717" y="122"/>
                      <a:pt x="3717" y="124"/>
                    </a:cubicBezTo>
                    <a:cubicBezTo>
                      <a:pt x="3716" y="125"/>
                      <a:pt x="3716" y="127"/>
                      <a:pt x="3716" y="128"/>
                    </a:cubicBezTo>
                    <a:cubicBezTo>
                      <a:pt x="3715" y="124"/>
                      <a:pt x="3714" y="120"/>
                      <a:pt x="3713" y="116"/>
                    </a:cubicBezTo>
                    <a:cubicBezTo>
                      <a:pt x="3714" y="108"/>
                      <a:pt x="3714" y="100"/>
                      <a:pt x="3715" y="94"/>
                    </a:cubicBezTo>
                    <a:cubicBezTo>
                      <a:pt x="3716" y="92"/>
                      <a:pt x="3716" y="91"/>
                      <a:pt x="3717" y="89"/>
                    </a:cubicBezTo>
                    <a:cubicBezTo>
                      <a:pt x="3716" y="90"/>
                      <a:pt x="3716" y="91"/>
                      <a:pt x="3715" y="92"/>
                    </a:cubicBezTo>
                    <a:cubicBezTo>
                      <a:pt x="3716" y="87"/>
                      <a:pt x="3716" y="83"/>
                      <a:pt x="3716" y="83"/>
                    </a:cubicBezTo>
                    <a:cubicBezTo>
                      <a:pt x="3716" y="85"/>
                      <a:pt x="3715" y="89"/>
                      <a:pt x="3714" y="93"/>
                    </a:cubicBezTo>
                    <a:cubicBezTo>
                      <a:pt x="3713" y="96"/>
                      <a:pt x="3711" y="99"/>
                      <a:pt x="3710" y="102"/>
                    </a:cubicBezTo>
                    <a:cubicBezTo>
                      <a:pt x="3709" y="101"/>
                      <a:pt x="3709" y="100"/>
                      <a:pt x="3709" y="99"/>
                    </a:cubicBezTo>
                    <a:cubicBezTo>
                      <a:pt x="3711" y="80"/>
                      <a:pt x="3713" y="62"/>
                      <a:pt x="3713" y="62"/>
                    </a:cubicBezTo>
                    <a:cubicBezTo>
                      <a:pt x="3711" y="66"/>
                      <a:pt x="3709" y="80"/>
                      <a:pt x="3707" y="95"/>
                    </a:cubicBezTo>
                    <a:cubicBezTo>
                      <a:pt x="3707" y="94"/>
                      <a:pt x="3706" y="92"/>
                      <a:pt x="3705" y="90"/>
                    </a:cubicBezTo>
                    <a:cubicBezTo>
                      <a:pt x="3706" y="92"/>
                      <a:pt x="3707" y="94"/>
                      <a:pt x="3707" y="96"/>
                    </a:cubicBezTo>
                    <a:cubicBezTo>
                      <a:pt x="3707" y="101"/>
                      <a:pt x="3706" y="106"/>
                      <a:pt x="3706" y="110"/>
                    </a:cubicBezTo>
                    <a:cubicBezTo>
                      <a:pt x="3705" y="113"/>
                      <a:pt x="3704" y="116"/>
                      <a:pt x="3703" y="118"/>
                    </a:cubicBezTo>
                    <a:cubicBezTo>
                      <a:pt x="3701" y="94"/>
                      <a:pt x="3696" y="64"/>
                      <a:pt x="3696" y="64"/>
                    </a:cubicBezTo>
                    <a:cubicBezTo>
                      <a:pt x="3696" y="64"/>
                      <a:pt x="3696" y="73"/>
                      <a:pt x="3697" y="82"/>
                    </a:cubicBezTo>
                    <a:cubicBezTo>
                      <a:pt x="3698" y="88"/>
                      <a:pt x="3697" y="98"/>
                      <a:pt x="3695" y="108"/>
                    </a:cubicBezTo>
                    <a:cubicBezTo>
                      <a:pt x="3694" y="111"/>
                      <a:pt x="3693" y="114"/>
                      <a:pt x="3692" y="117"/>
                    </a:cubicBezTo>
                    <a:cubicBezTo>
                      <a:pt x="3692" y="108"/>
                      <a:pt x="3691" y="99"/>
                      <a:pt x="3689" y="90"/>
                    </a:cubicBezTo>
                    <a:cubicBezTo>
                      <a:pt x="3692" y="78"/>
                      <a:pt x="3697" y="66"/>
                      <a:pt x="3696" y="56"/>
                    </a:cubicBezTo>
                    <a:cubicBezTo>
                      <a:pt x="3693" y="62"/>
                      <a:pt x="3690" y="67"/>
                      <a:pt x="3688" y="72"/>
                    </a:cubicBezTo>
                    <a:cubicBezTo>
                      <a:pt x="3691" y="34"/>
                      <a:pt x="3684" y="19"/>
                      <a:pt x="3684" y="19"/>
                    </a:cubicBezTo>
                    <a:cubicBezTo>
                      <a:pt x="3684" y="19"/>
                      <a:pt x="3687" y="31"/>
                      <a:pt x="3686" y="54"/>
                    </a:cubicBezTo>
                    <a:cubicBezTo>
                      <a:pt x="3685" y="61"/>
                      <a:pt x="3684" y="74"/>
                      <a:pt x="3682" y="88"/>
                    </a:cubicBezTo>
                    <a:cubicBezTo>
                      <a:pt x="3681" y="92"/>
                      <a:pt x="3680" y="97"/>
                      <a:pt x="3680" y="101"/>
                    </a:cubicBezTo>
                    <a:cubicBezTo>
                      <a:pt x="3679" y="98"/>
                      <a:pt x="3678" y="95"/>
                      <a:pt x="3676" y="91"/>
                    </a:cubicBezTo>
                    <a:cubicBezTo>
                      <a:pt x="3677" y="89"/>
                      <a:pt x="3677" y="87"/>
                      <a:pt x="3678" y="85"/>
                    </a:cubicBezTo>
                    <a:cubicBezTo>
                      <a:pt x="3677" y="87"/>
                      <a:pt x="3677" y="88"/>
                      <a:pt x="3676" y="90"/>
                    </a:cubicBezTo>
                    <a:cubicBezTo>
                      <a:pt x="3676" y="89"/>
                      <a:pt x="3675" y="88"/>
                      <a:pt x="3675" y="87"/>
                    </a:cubicBezTo>
                    <a:cubicBezTo>
                      <a:pt x="3675" y="83"/>
                      <a:pt x="3675" y="78"/>
                      <a:pt x="3675" y="74"/>
                    </a:cubicBezTo>
                    <a:cubicBezTo>
                      <a:pt x="3675" y="46"/>
                      <a:pt x="3665" y="40"/>
                      <a:pt x="3665" y="40"/>
                    </a:cubicBezTo>
                    <a:cubicBezTo>
                      <a:pt x="3665" y="40"/>
                      <a:pt x="3671" y="44"/>
                      <a:pt x="3671" y="70"/>
                    </a:cubicBezTo>
                    <a:cubicBezTo>
                      <a:pt x="3671" y="84"/>
                      <a:pt x="3666" y="108"/>
                      <a:pt x="3661" y="125"/>
                    </a:cubicBezTo>
                    <a:cubicBezTo>
                      <a:pt x="3661" y="123"/>
                      <a:pt x="3661" y="120"/>
                      <a:pt x="3660" y="118"/>
                    </a:cubicBezTo>
                    <a:cubicBezTo>
                      <a:pt x="3661" y="111"/>
                      <a:pt x="3662" y="105"/>
                      <a:pt x="3662" y="98"/>
                    </a:cubicBezTo>
                    <a:cubicBezTo>
                      <a:pt x="3661" y="101"/>
                      <a:pt x="3660" y="104"/>
                      <a:pt x="3660" y="107"/>
                    </a:cubicBezTo>
                    <a:cubicBezTo>
                      <a:pt x="3660" y="107"/>
                      <a:pt x="3660" y="106"/>
                      <a:pt x="3660" y="106"/>
                    </a:cubicBezTo>
                    <a:cubicBezTo>
                      <a:pt x="3660" y="97"/>
                      <a:pt x="3661" y="83"/>
                      <a:pt x="3667" y="75"/>
                    </a:cubicBezTo>
                    <a:cubicBezTo>
                      <a:pt x="3664" y="77"/>
                      <a:pt x="3661" y="82"/>
                      <a:pt x="3659" y="87"/>
                    </a:cubicBezTo>
                    <a:cubicBezTo>
                      <a:pt x="3660" y="78"/>
                      <a:pt x="3660" y="71"/>
                      <a:pt x="3660" y="71"/>
                    </a:cubicBezTo>
                    <a:cubicBezTo>
                      <a:pt x="3659" y="75"/>
                      <a:pt x="3656" y="97"/>
                      <a:pt x="3652" y="116"/>
                    </a:cubicBezTo>
                    <a:cubicBezTo>
                      <a:pt x="3652" y="114"/>
                      <a:pt x="3652" y="112"/>
                      <a:pt x="3651" y="110"/>
                    </a:cubicBezTo>
                    <a:cubicBezTo>
                      <a:pt x="3652" y="99"/>
                      <a:pt x="3653" y="87"/>
                      <a:pt x="3654" y="78"/>
                    </a:cubicBezTo>
                    <a:cubicBezTo>
                      <a:pt x="3656" y="71"/>
                      <a:pt x="3658" y="63"/>
                      <a:pt x="3660" y="55"/>
                    </a:cubicBezTo>
                    <a:cubicBezTo>
                      <a:pt x="3660" y="54"/>
                      <a:pt x="3660" y="52"/>
                      <a:pt x="3660" y="51"/>
                    </a:cubicBezTo>
                    <a:cubicBezTo>
                      <a:pt x="3658" y="54"/>
                      <a:pt x="3657" y="57"/>
                      <a:pt x="3656" y="60"/>
                    </a:cubicBezTo>
                    <a:cubicBezTo>
                      <a:pt x="3656" y="60"/>
                      <a:pt x="3656" y="59"/>
                      <a:pt x="3656" y="59"/>
                    </a:cubicBezTo>
                    <a:cubicBezTo>
                      <a:pt x="3656" y="60"/>
                      <a:pt x="3656" y="60"/>
                      <a:pt x="3656" y="60"/>
                    </a:cubicBezTo>
                    <a:cubicBezTo>
                      <a:pt x="3652" y="70"/>
                      <a:pt x="3649" y="80"/>
                      <a:pt x="3646" y="89"/>
                    </a:cubicBezTo>
                    <a:cubicBezTo>
                      <a:pt x="3652" y="30"/>
                      <a:pt x="3649" y="15"/>
                      <a:pt x="3648" y="13"/>
                    </a:cubicBezTo>
                    <a:cubicBezTo>
                      <a:pt x="3648" y="15"/>
                      <a:pt x="3649" y="22"/>
                      <a:pt x="3645" y="56"/>
                    </a:cubicBezTo>
                    <a:cubicBezTo>
                      <a:pt x="3643" y="68"/>
                      <a:pt x="3642" y="80"/>
                      <a:pt x="3640" y="91"/>
                    </a:cubicBezTo>
                    <a:cubicBezTo>
                      <a:pt x="3639" y="85"/>
                      <a:pt x="3637" y="79"/>
                      <a:pt x="3635" y="74"/>
                    </a:cubicBezTo>
                    <a:cubicBezTo>
                      <a:pt x="3636" y="51"/>
                      <a:pt x="3637" y="31"/>
                      <a:pt x="3637" y="31"/>
                    </a:cubicBezTo>
                    <a:cubicBezTo>
                      <a:pt x="3635" y="38"/>
                      <a:pt x="3633" y="53"/>
                      <a:pt x="3632" y="69"/>
                    </a:cubicBezTo>
                    <a:cubicBezTo>
                      <a:pt x="3631" y="68"/>
                      <a:pt x="3630" y="67"/>
                      <a:pt x="3629" y="65"/>
                    </a:cubicBezTo>
                    <a:cubicBezTo>
                      <a:pt x="3630" y="67"/>
                      <a:pt x="3631" y="69"/>
                      <a:pt x="3632" y="71"/>
                    </a:cubicBezTo>
                    <a:cubicBezTo>
                      <a:pt x="3632" y="71"/>
                      <a:pt x="3632" y="72"/>
                      <a:pt x="3632" y="73"/>
                    </a:cubicBezTo>
                    <a:cubicBezTo>
                      <a:pt x="3629" y="77"/>
                      <a:pt x="3626" y="81"/>
                      <a:pt x="3624" y="86"/>
                    </a:cubicBezTo>
                    <a:cubicBezTo>
                      <a:pt x="3623" y="85"/>
                      <a:pt x="3623" y="84"/>
                      <a:pt x="3622" y="83"/>
                    </a:cubicBezTo>
                    <a:cubicBezTo>
                      <a:pt x="3619" y="61"/>
                      <a:pt x="3617" y="38"/>
                      <a:pt x="3614" y="28"/>
                    </a:cubicBezTo>
                    <a:cubicBezTo>
                      <a:pt x="3614" y="28"/>
                      <a:pt x="3617" y="54"/>
                      <a:pt x="3621" y="83"/>
                    </a:cubicBezTo>
                    <a:cubicBezTo>
                      <a:pt x="3620" y="82"/>
                      <a:pt x="3619" y="81"/>
                      <a:pt x="3618" y="80"/>
                    </a:cubicBezTo>
                    <a:cubicBezTo>
                      <a:pt x="3620" y="81"/>
                      <a:pt x="3621" y="82"/>
                      <a:pt x="3622" y="84"/>
                    </a:cubicBezTo>
                    <a:cubicBezTo>
                      <a:pt x="3622" y="85"/>
                      <a:pt x="3622" y="86"/>
                      <a:pt x="3622" y="88"/>
                    </a:cubicBezTo>
                    <a:cubicBezTo>
                      <a:pt x="3622" y="86"/>
                      <a:pt x="3622" y="85"/>
                      <a:pt x="3622" y="84"/>
                    </a:cubicBezTo>
                    <a:cubicBezTo>
                      <a:pt x="3622" y="85"/>
                      <a:pt x="3623" y="86"/>
                      <a:pt x="3624" y="87"/>
                    </a:cubicBezTo>
                    <a:cubicBezTo>
                      <a:pt x="3623" y="88"/>
                      <a:pt x="3623" y="89"/>
                      <a:pt x="3622" y="90"/>
                    </a:cubicBezTo>
                    <a:cubicBezTo>
                      <a:pt x="3622" y="89"/>
                      <a:pt x="3622" y="88"/>
                      <a:pt x="3622" y="88"/>
                    </a:cubicBezTo>
                    <a:cubicBezTo>
                      <a:pt x="3622" y="88"/>
                      <a:pt x="3622" y="89"/>
                      <a:pt x="3622" y="90"/>
                    </a:cubicBezTo>
                    <a:cubicBezTo>
                      <a:pt x="3620" y="95"/>
                      <a:pt x="3619" y="100"/>
                      <a:pt x="3617" y="105"/>
                    </a:cubicBezTo>
                    <a:cubicBezTo>
                      <a:pt x="3617" y="105"/>
                      <a:pt x="3617" y="105"/>
                      <a:pt x="3617" y="105"/>
                    </a:cubicBezTo>
                    <a:cubicBezTo>
                      <a:pt x="3617" y="104"/>
                      <a:pt x="3617" y="104"/>
                      <a:pt x="3617" y="103"/>
                    </a:cubicBezTo>
                    <a:cubicBezTo>
                      <a:pt x="3617" y="104"/>
                      <a:pt x="3617" y="104"/>
                      <a:pt x="3617" y="105"/>
                    </a:cubicBezTo>
                    <a:cubicBezTo>
                      <a:pt x="3614" y="95"/>
                      <a:pt x="3612" y="87"/>
                      <a:pt x="3610" y="81"/>
                    </a:cubicBezTo>
                    <a:cubicBezTo>
                      <a:pt x="3611" y="85"/>
                      <a:pt x="3612" y="90"/>
                      <a:pt x="3613" y="95"/>
                    </a:cubicBezTo>
                    <a:cubicBezTo>
                      <a:pt x="3613" y="100"/>
                      <a:pt x="3612" y="104"/>
                      <a:pt x="3611" y="109"/>
                    </a:cubicBezTo>
                    <a:cubicBezTo>
                      <a:pt x="3612" y="104"/>
                      <a:pt x="3613" y="100"/>
                      <a:pt x="3613" y="95"/>
                    </a:cubicBezTo>
                    <a:cubicBezTo>
                      <a:pt x="3614" y="100"/>
                      <a:pt x="3615" y="105"/>
                      <a:pt x="3616" y="110"/>
                    </a:cubicBezTo>
                    <a:cubicBezTo>
                      <a:pt x="3616" y="110"/>
                      <a:pt x="3616" y="111"/>
                      <a:pt x="3616" y="111"/>
                    </a:cubicBezTo>
                    <a:cubicBezTo>
                      <a:pt x="3615" y="116"/>
                      <a:pt x="3613" y="122"/>
                      <a:pt x="3610" y="127"/>
                    </a:cubicBezTo>
                    <a:cubicBezTo>
                      <a:pt x="3610" y="125"/>
                      <a:pt x="3609" y="123"/>
                      <a:pt x="3609" y="120"/>
                    </a:cubicBezTo>
                    <a:cubicBezTo>
                      <a:pt x="3610" y="117"/>
                      <a:pt x="3611" y="113"/>
                      <a:pt x="3611" y="109"/>
                    </a:cubicBezTo>
                    <a:cubicBezTo>
                      <a:pt x="3611" y="112"/>
                      <a:pt x="3610" y="116"/>
                      <a:pt x="3609" y="119"/>
                    </a:cubicBezTo>
                    <a:cubicBezTo>
                      <a:pt x="3607" y="111"/>
                      <a:pt x="3605" y="103"/>
                      <a:pt x="3605" y="95"/>
                    </a:cubicBezTo>
                    <a:cubicBezTo>
                      <a:pt x="3605" y="96"/>
                      <a:pt x="3605" y="96"/>
                      <a:pt x="3605" y="96"/>
                    </a:cubicBezTo>
                    <a:cubicBezTo>
                      <a:pt x="3605" y="98"/>
                      <a:pt x="3605" y="98"/>
                      <a:pt x="3605" y="98"/>
                    </a:cubicBezTo>
                    <a:cubicBezTo>
                      <a:pt x="3605" y="97"/>
                      <a:pt x="3605" y="96"/>
                      <a:pt x="3605" y="95"/>
                    </a:cubicBezTo>
                    <a:cubicBezTo>
                      <a:pt x="3605" y="84"/>
                      <a:pt x="3603" y="69"/>
                      <a:pt x="3597" y="60"/>
                    </a:cubicBezTo>
                    <a:cubicBezTo>
                      <a:pt x="3601" y="70"/>
                      <a:pt x="3603" y="82"/>
                      <a:pt x="3603" y="93"/>
                    </a:cubicBezTo>
                    <a:cubicBezTo>
                      <a:pt x="3603" y="101"/>
                      <a:pt x="3601" y="109"/>
                      <a:pt x="3599" y="116"/>
                    </a:cubicBezTo>
                    <a:cubicBezTo>
                      <a:pt x="3597" y="115"/>
                      <a:pt x="3597" y="117"/>
                      <a:pt x="3598" y="120"/>
                    </a:cubicBezTo>
                    <a:cubicBezTo>
                      <a:pt x="3598" y="121"/>
                      <a:pt x="3597" y="121"/>
                      <a:pt x="3597" y="122"/>
                    </a:cubicBezTo>
                    <a:cubicBezTo>
                      <a:pt x="3596" y="119"/>
                      <a:pt x="3595" y="115"/>
                      <a:pt x="3594" y="112"/>
                    </a:cubicBezTo>
                    <a:cubicBezTo>
                      <a:pt x="3595" y="107"/>
                      <a:pt x="3595" y="103"/>
                      <a:pt x="3595" y="98"/>
                    </a:cubicBezTo>
                    <a:cubicBezTo>
                      <a:pt x="3595" y="90"/>
                      <a:pt x="3594" y="82"/>
                      <a:pt x="3592" y="74"/>
                    </a:cubicBezTo>
                    <a:cubicBezTo>
                      <a:pt x="3591" y="83"/>
                      <a:pt x="3591" y="93"/>
                      <a:pt x="3591" y="102"/>
                    </a:cubicBezTo>
                    <a:cubicBezTo>
                      <a:pt x="3588" y="94"/>
                      <a:pt x="3585" y="86"/>
                      <a:pt x="3583" y="81"/>
                    </a:cubicBezTo>
                    <a:cubicBezTo>
                      <a:pt x="3583" y="86"/>
                      <a:pt x="3583" y="86"/>
                      <a:pt x="3583" y="86"/>
                    </a:cubicBezTo>
                    <a:cubicBezTo>
                      <a:pt x="3583" y="97"/>
                      <a:pt x="3586" y="108"/>
                      <a:pt x="3590" y="118"/>
                    </a:cubicBezTo>
                    <a:cubicBezTo>
                      <a:pt x="3589" y="119"/>
                      <a:pt x="3589" y="120"/>
                      <a:pt x="3589" y="121"/>
                    </a:cubicBezTo>
                    <a:cubicBezTo>
                      <a:pt x="3589" y="123"/>
                      <a:pt x="3588" y="126"/>
                      <a:pt x="3587" y="128"/>
                    </a:cubicBezTo>
                    <a:cubicBezTo>
                      <a:pt x="3584" y="121"/>
                      <a:pt x="3582" y="113"/>
                      <a:pt x="3580" y="106"/>
                    </a:cubicBezTo>
                    <a:cubicBezTo>
                      <a:pt x="3580" y="101"/>
                      <a:pt x="3579" y="96"/>
                      <a:pt x="3578" y="92"/>
                    </a:cubicBezTo>
                    <a:cubicBezTo>
                      <a:pt x="3578" y="91"/>
                      <a:pt x="3578" y="90"/>
                      <a:pt x="3578" y="89"/>
                    </a:cubicBezTo>
                    <a:cubicBezTo>
                      <a:pt x="3578" y="90"/>
                      <a:pt x="3578" y="90"/>
                      <a:pt x="3578" y="91"/>
                    </a:cubicBezTo>
                    <a:cubicBezTo>
                      <a:pt x="3577" y="85"/>
                      <a:pt x="3575" y="79"/>
                      <a:pt x="3572" y="73"/>
                    </a:cubicBezTo>
                    <a:cubicBezTo>
                      <a:pt x="3572" y="72"/>
                      <a:pt x="3572" y="72"/>
                      <a:pt x="3572" y="71"/>
                    </a:cubicBezTo>
                    <a:cubicBezTo>
                      <a:pt x="3572" y="71"/>
                      <a:pt x="3571" y="72"/>
                      <a:pt x="3571" y="73"/>
                    </a:cubicBezTo>
                    <a:cubicBezTo>
                      <a:pt x="3571" y="72"/>
                      <a:pt x="3571" y="71"/>
                      <a:pt x="3570" y="71"/>
                    </a:cubicBezTo>
                    <a:cubicBezTo>
                      <a:pt x="3570" y="72"/>
                      <a:pt x="3571" y="73"/>
                      <a:pt x="3571" y="73"/>
                    </a:cubicBezTo>
                    <a:cubicBezTo>
                      <a:pt x="3568" y="79"/>
                      <a:pt x="3566" y="85"/>
                      <a:pt x="3564" y="91"/>
                    </a:cubicBezTo>
                    <a:cubicBezTo>
                      <a:pt x="3564" y="90"/>
                      <a:pt x="3564" y="90"/>
                      <a:pt x="3564" y="89"/>
                    </a:cubicBezTo>
                    <a:cubicBezTo>
                      <a:pt x="3564" y="90"/>
                      <a:pt x="3564" y="91"/>
                      <a:pt x="3564" y="92"/>
                    </a:cubicBezTo>
                    <a:cubicBezTo>
                      <a:pt x="3563" y="96"/>
                      <a:pt x="3563" y="101"/>
                      <a:pt x="3562" y="106"/>
                    </a:cubicBezTo>
                    <a:cubicBezTo>
                      <a:pt x="3561" y="113"/>
                      <a:pt x="3558" y="121"/>
                      <a:pt x="3555" y="128"/>
                    </a:cubicBezTo>
                    <a:cubicBezTo>
                      <a:pt x="3554" y="126"/>
                      <a:pt x="3554" y="123"/>
                      <a:pt x="3553" y="121"/>
                    </a:cubicBezTo>
                    <a:cubicBezTo>
                      <a:pt x="3553" y="120"/>
                      <a:pt x="3553" y="119"/>
                      <a:pt x="3553" y="118"/>
                    </a:cubicBezTo>
                    <a:cubicBezTo>
                      <a:pt x="3556" y="108"/>
                      <a:pt x="3559" y="97"/>
                      <a:pt x="3559" y="86"/>
                    </a:cubicBezTo>
                    <a:cubicBezTo>
                      <a:pt x="3559" y="81"/>
                      <a:pt x="3559" y="81"/>
                      <a:pt x="3559" y="81"/>
                    </a:cubicBezTo>
                    <a:cubicBezTo>
                      <a:pt x="3557" y="86"/>
                      <a:pt x="3554" y="94"/>
                      <a:pt x="3551" y="102"/>
                    </a:cubicBezTo>
                    <a:cubicBezTo>
                      <a:pt x="3551" y="93"/>
                      <a:pt x="3551" y="83"/>
                      <a:pt x="3550" y="74"/>
                    </a:cubicBezTo>
                    <a:cubicBezTo>
                      <a:pt x="3548" y="82"/>
                      <a:pt x="3547" y="90"/>
                      <a:pt x="3547" y="98"/>
                    </a:cubicBezTo>
                    <a:cubicBezTo>
                      <a:pt x="3547" y="103"/>
                      <a:pt x="3548" y="107"/>
                      <a:pt x="3548" y="112"/>
                    </a:cubicBezTo>
                    <a:cubicBezTo>
                      <a:pt x="3547" y="115"/>
                      <a:pt x="3546" y="119"/>
                      <a:pt x="3545" y="122"/>
                    </a:cubicBezTo>
                    <a:cubicBezTo>
                      <a:pt x="3542" y="112"/>
                      <a:pt x="3539" y="103"/>
                      <a:pt x="3539" y="93"/>
                    </a:cubicBezTo>
                    <a:cubicBezTo>
                      <a:pt x="3539" y="82"/>
                      <a:pt x="3541" y="70"/>
                      <a:pt x="3545" y="60"/>
                    </a:cubicBezTo>
                    <a:cubicBezTo>
                      <a:pt x="3540" y="69"/>
                      <a:pt x="3538" y="84"/>
                      <a:pt x="3538" y="95"/>
                    </a:cubicBezTo>
                    <a:cubicBezTo>
                      <a:pt x="3538" y="96"/>
                      <a:pt x="3538" y="97"/>
                      <a:pt x="3538" y="98"/>
                    </a:cubicBezTo>
                    <a:cubicBezTo>
                      <a:pt x="3537" y="96"/>
                      <a:pt x="3537" y="96"/>
                      <a:pt x="3537" y="96"/>
                    </a:cubicBezTo>
                    <a:cubicBezTo>
                      <a:pt x="3537" y="95"/>
                      <a:pt x="3537" y="95"/>
                      <a:pt x="3537" y="95"/>
                    </a:cubicBezTo>
                    <a:cubicBezTo>
                      <a:pt x="3537" y="103"/>
                      <a:pt x="3536" y="111"/>
                      <a:pt x="3534" y="119"/>
                    </a:cubicBezTo>
                    <a:cubicBezTo>
                      <a:pt x="3533" y="116"/>
                      <a:pt x="3532" y="112"/>
                      <a:pt x="3531" y="109"/>
                    </a:cubicBezTo>
                    <a:cubicBezTo>
                      <a:pt x="3532" y="113"/>
                      <a:pt x="3533" y="117"/>
                      <a:pt x="3533" y="120"/>
                    </a:cubicBezTo>
                    <a:cubicBezTo>
                      <a:pt x="3533" y="123"/>
                      <a:pt x="3532" y="125"/>
                      <a:pt x="3532" y="127"/>
                    </a:cubicBezTo>
                    <a:cubicBezTo>
                      <a:pt x="3530" y="122"/>
                      <a:pt x="3528" y="116"/>
                      <a:pt x="3526" y="111"/>
                    </a:cubicBezTo>
                    <a:cubicBezTo>
                      <a:pt x="3526" y="109"/>
                      <a:pt x="3526" y="108"/>
                      <a:pt x="3525" y="107"/>
                    </a:cubicBezTo>
                    <a:cubicBezTo>
                      <a:pt x="3525" y="106"/>
                      <a:pt x="3525" y="104"/>
                      <a:pt x="3525" y="103"/>
                    </a:cubicBezTo>
                    <a:cubicBezTo>
                      <a:pt x="3525" y="104"/>
                      <a:pt x="3525" y="105"/>
                      <a:pt x="3525" y="105"/>
                    </a:cubicBezTo>
                    <a:cubicBezTo>
                      <a:pt x="3524" y="99"/>
                      <a:pt x="3522" y="93"/>
                      <a:pt x="3519" y="87"/>
                    </a:cubicBezTo>
                    <a:cubicBezTo>
                      <a:pt x="3520" y="84"/>
                      <a:pt x="3522" y="82"/>
                      <a:pt x="3524" y="80"/>
                    </a:cubicBezTo>
                    <a:cubicBezTo>
                      <a:pt x="3522" y="82"/>
                      <a:pt x="3520" y="84"/>
                      <a:pt x="3518" y="86"/>
                    </a:cubicBezTo>
                    <a:cubicBezTo>
                      <a:pt x="3516" y="81"/>
                      <a:pt x="3513" y="77"/>
                      <a:pt x="3510" y="73"/>
                    </a:cubicBezTo>
                    <a:cubicBezTo>
                      <a:pt x="3513" y="77"/>
                      <a:pt x="3515" y="83"/>
                      <a:pt x="3516" y="90"/>
                    </a:cubicBezTo>
                    <a:cubicBezTo>
                      <a:pt x="3514" y="94"/>
                      <a:pt x="3512" y="99"/>
                      <a:pt x="3512" y="103"/>
                    </a:cubicBezTo>
                    <a:cubicBezTo>
                      <a:pt x="3510" y="97"/>
                      <a:pt x="3508" y="91"/>
                      <a:pt x="3506" y="85"/>
                    </a:cubicBezTo>
                    <a:cubicBezTo>
                      <a:pt x="3508" y="91"/>
                      <a:pt x="3508" y="97"/>
                      <a:pt x="3508" y="103"/>
                    </a:cubicBezTo>
                    <a:cubicBezTo>
                      <a:pt x="3508" y="108"/>
                      <a:pt x="3507" y="114"/>
                      <a:pt x="3507" y="119"/>
                    </a:cubicBezTo>
                    <a:cubicBezTo>
                      <a:pt x="3505" y="111"/>
                      <a:pt x="3504" y="104"/>
                      <a:pt x="3504" y="96"/>
                    </a:cubicBezTo>
                    <a:cubicBezTo>
                      <a:pt x="3504" y="87"/>
                      <a:pt x="3508" y="73"/>
                      <a:pt x="3513" y="65"/>
                    </a:cubicBezTo>
                    <a:cubicBezTo>
                      <a:pt x="3504" y="76"/>
                      <a:pt x="3500" y="96"/>
                      <a:pt x="3500" y="108"/>
                    </a:cubicBezTo>
                    <a:cubicBezTo>
                      <a:pt x="3500" y="119"/>
                      <a:pt x="3503" y="130"/>
                      <a:pt x="3503" y="141"/>
                    </a:cubicBezTo>
                    <a:cubicBezTo>
                      <a:pt x="3503" y="146"/>
                      <a:pt x="3503" y="150"/>
                      <a:pt x="3502" y="154"/>
                    </a:cubicBezTo>
                    <a:cubicBezTo>
                      <a:pt x="3496" y="135"/>
                      <a:pt x="3501" y="113"/>
                      <a:pt x="3497" y="93"/>
                    </a:cubicBezTo>
                    <a:cubicBezTo>
                      <a:pt x="3494" y="79"/>
                      <a:pt x="3489" y="64"/>
                      <a:pt x="3483" y="51"/>
                    </a:cubicBezTo>
                    <a:cubicBezTo>
                      <a:pt x="3482" y="52"/>
                      <a:pt x="3482" y="54"/>
                      <a:pt x="3482" y="55"/>
                    </a:cubicBezTo>
                    <a:cubicBezTo>
                      <a:pt x="3489" y="76"/>
                      <a:pt x="3491" y="92"/>
                      <a:pt x="3492" y="105"/>
                    </a:cubicBezTo>
                    <a:cubicBezTo>
                      <a:pt x="3491" y="109"/>
                      <a:pt x="3490" y="114"/>
                      <a:pt x="3490" y="118"/>
                    </a:cubicBezTo>
                    <a:cubicBezTo>
                      <a:pt x="3488" y="101"/>
                      <a:pt x="3484" y="82"/>
                      <a:pt x="3475" y="75"/>
                    </a:cubicBezTo>
                    <a:cubicBezTo>
                      <a:pt x="3481" y="83"/>
                      <a:pt x="3483" y="97"/>
                      <a:pt x="3483" y="106"/>
                    </a:cubicBezTo>
                    <a:cubicBezTo>
                      <a:pt x="3483" y="106"/>
                      <a:pt x="3483" y="107"/>
                      <a:pt x="3483" y="107"/>
                    </a:cubicBezTo>
                    <a:cubicBezTo>
                      <a:pt x="3482" y="104"/>
                      <a:pt x="3481" y="101"/>
                      <a:pt x="3481" y="98"/>
                    </a:cubicBezTo>
                    <a:cubicBezTo>
                      <a:pt x="3481" y="105"/>
                      <a:pt x="3481" y="111"/>
                      <a:pt x="3482" y="118"/>
                    </a:cubicBezTo>
                    <a:cubicBezTo>
                      <a:pt x="3482" y="122"/>
                      <a:pt x="3481" y="126"/>
                      <a:pt x="3480" y="130"/>
                    </a:cubicBezTo>
                    <a:cubicBezTo>
                      <a:pt x="3479" y="124"/>
                      <a:pt x="3477" y="118"/>
                      <a:pt x="3476" y="113"/>
                    </a:cubicBezTo>
                    <a:cubicBezTo>
                      <a:pt x="3477" y="121"/>
                      <a:pt x="3479" y="128"/>
                      <a:pt x="3479" y="136"/>
                    </a:cubicBezTo>
                    <a:cubicBezTo>
                      <a:pt x="3478" y="140"/>
                      <a:pt x="3477" y="144"/>
                      <a:pt x="3477" y="148"/>
                    </a:cubicBezTo>
                    <a:cubicBezTo>
                      <a:pt x="3477" y="147"/>
                      <a:pt x="3476" y="147"/>
                      <a:pt x="3476" y="146"/>
                    </a:cubicBezTo>
                    <a:cubicBezTo>
                      <a:pt x="3477" y="129"/>
                      <a:pt x="3474" y="106"/>
                      <a:pt x="3467" y="91"/>
                    </a:cubicBezTo>
                    <a:cubicBezTo>
                      <a:pt x="3468" y="88"/>
                      <a:pt x="3468" y="85"/>
                      <a:pt x="3470" y="83"/>
                    </a:cubicBezTo>
                    <a:cubicBezTo>
                      <a:pt x="3468" y="85"/>
                      <a:pt x="3467" y="88"/>
                      <a:pt x="3466" y="90"/>
                    </a:cubicBezTo>
                    <a:cubicBezTo>
                      <a:pt x="3466" y="88"/>
                      <a:pt x="3465" y="87"/>
                      <a:pt x="3464" y="85"/>
                    </a:cubicBezTo>
                    <a:cubicBezTo>
                      <a:pt x="3465" y="87"/>
                      <a:pt x="3466" y="89"/>
                      <a:pt x="3466" y="91"/>
                    </a:cubicBezTo>
                    <a:cubicBezTo>
                      <a:pt x="3465" y="95"/>
                      <a:pt x="3464" y="98"/>
                      <a:pt x="3463" y="101"/>
                    </a:cubicBezTo>
                    <a:cubicBezTo>
                      <a:pt x="3461" y="94"/>
                      <a:pt x="3460" y="87"/>
                      <a:pt x="3457" y="79"/>
                    </a:cubicBezTo>
                    <a:cubicBezTo>
                      <a:pt x="3457" y="78"/>
                      <a:pt x="3457" y="76"/>
                      <a:pt x="3457" y="75"/>
                    </a:cubicBezTo>
                    <a:cubicBezTo>
                      <a:pt x="3457" y="76"/>
                      <a:pt x="3457" y="77"/>
                      <a:pt x="3456" y="78"/>
                    </a:cubicBezTo>
                    <a:cubicBezTo>
                      <a:pt x="3454" y="71"/>
                      <a:pt x="3450" y="64"/>
                      <a:pt x="3446" y="56"/>
                    </a:cubicBezTo>
                    <a:cubicBezTo>
                      <a:pt x="3446" y="66"/>
                      <a:pt x="3450" y="78"/>
                      <a:pt x="3453" y="90"/>
                    </a:cubicBezTo>
                    <a:cubicBezTo>
                      <a:pt x="3451" y="99"/>
                      <a:pt x="3451" y="108"/>
                      <a:pt x="3450" y="117"/>
                    </a:cubicBezTo>
                    <a:cubicBezTo>
                      <a:pt x="3449" y="112"/>
                      <a:pt x="3447" y="107"/>
                      <a:pt x="3446" y="103"/>
                    </a:cubicBezTo>
                    <a:cubicBezTo>
                      <a:pt x="3448" y="109"/>
                      <a:pt x="3446" y="132"/>
                      <a:pt x="3446" y="140"/>
                    </a:cubicBezTo>
                    <a:cubicBezTo>
                      <a:pt x="3446" y="144"/>
                      <a:pt x="3446" y="147"/>
                      <a:pt x="3446" y="151"/>
                    </a:cubicBezTo>
                    <a:cubicBezTo>
                      <a:pt x="3446" y="151"/>
                      <a:pt x="3446" y="151"/>
                      <a:pt x="3446" y="151"/>
                    </a:cubicBezTo>
                    <a:cubicBezTo>
                      <a:pt x="3446" y="144"/>
                      <a:pt x="3445" y="137"/>
                      <a:pt x="3443" y="129"/>
                    </a:cubicBezTo>
                    <a:cubicBezTo>
                      <a:pt x="3441" y="119"/>
                      <a:pt x="3440" y="110"/>
                      <a:pt x="3441" y="100"/>
                    </a:cubicBezTo>
                    <a:cubicBezTo>
                      <a:pt x="3440" y="107"/>
                      <a:pt x="3440" y="113"/>
                      <a:pt x="3440" y="119"/>
                    </a:cubicBezTo>
                    <a:cubicBezTo>
                      <a:pt x="3438" y="114"/>
                      <a:pt x="3436" y="108"/>
                      <a:pt x="3434" y="103"/>
                    </a:cubicBezTo>
                    <a:cubicBezTo>
                      <a:pt x="3434" y="99"/>
                      <a:pt x="3435" y="95"/>
                      <a:pt x="3437" y="90"/>
                    </a:cubicBezTo>
                    <a:cubicBezTo>
                      <a:pt x="3435" y="94"/>
                      <a:pt x="3434" y="98"/>
                      <a:pt x="3433" y="102"/>
                    </a:cubicBezTo>
                    <a:cubicBezTo>
                      <a:pt x="3430" y="97"/>
                      <a:pt x="3428" y="93"/>
                      <a:pt x="3425" y="89"/>
                    </a:cubicBezTo>
                    <a:cubicBezTo>
                      <a:pt x="3428" y="93"/>
                      <a:pt x="3428" y="99"/>
                      <a:pt x="3428" y="103"/>
                    </a:cubicBezTo>
                    <a:cubicBezTo>
                      <a:pt x="3428" y="104"/>
                      <a:pt x="3429" y="109"/>
                      <a:pt x="3429" y="115"/>
                    </a:cubicBezTo>
                    <a:cubicBezTo>
                      <a:pt x="3428" y="120"/>
                      <a:pt x="3427" y="124"/>
                      <a:pt x="3427" y="129"/>
                    </a:cubicBezTo>
                    <a:cubicBezTo>
                      <a:pt x="3426" y="125"/>
                      <a:pt x="3425" y="122"/>
                      <a:pt x="3425" y="119"/>
                    </a:cubicBezTo>
                    <a:cubicBezTo>
                      <a:pt x="3425" y="115"/>
                      <a:pt x="3425" y="108"/>
                      <a:pt x="3424" y="105"/>
                    </a:cubicBezTo>
                    <a:cubicBezTo>
                      <a:pt x="3423" y="108"/>
                      <a:pt x="3423" y="110"/>
                      <a:pt x="3423" y="113"/>
                    </a:cubicBezTo>
                    <a:cubicBezTo>
                      <a:pt x="3422" y="109"/>
                      <a:pt x="3421" y="106"/>
                      <a:pt x="3421" y="103"/>
                    </a:cubicBezTo>
                    <a:cubicBezTo>
                      <a:pt x="3422" y="97"/>
                      <a:pt x="3423" y="90"/>
                      <a:pt x="3426" y="84"/>
                    </a:cubicBezTo>
                    <a:cubicBezTo>
                      <a:pt x="3423" y="90"/>
                      <a:pt x="3421" y="95"/>
                      <a:pt x="3420" y="101"/>
                    </a:cubicBezTo>
                    <a:cubicBezTo>
                      <a:pt x="3415" y="86"/>
                      <a:pt x="3412" y="83"/>
                      <a:pt x="3407" y="78"/>
                    </a:cubicBezTo>
                    <a:cubicBezTo>
                      <a:pt x="3414" y="84"/>
                      <a:pt x="3417" y="97"/>
                      <a:pt x="3418" y="107"/>
                    </a:cubicBezTo>
                    <a:cubicBezTo>
                      <a:pt x="3417" y="114"/>
                      <a:pt x="3415" y="120"/>
                      <a:pt x="3414" y="126"/>
                    </a:cubicBezTo>
                    <a:cubicBezTo>
                      <a:pt x="3413" y="121"/>
                      <a:pt x="3412" y="115"/>
                      <a:pt x="3410" y="109"/>
                    </a:cubicBezTo>
                    <a:cubicBezTo>
                      <a:pt x="3411" y="106"/>
                      <a:pt x="3411" y="103"/>
                      <a:pt x="3412" y="100"/>
                    </a:cubicBezTo>
                    <a:cubicBezTo>
                      <a:pt x="3411" y="102"/>
                      <a:pt x="3411" y="104"/>
                      <a:pt x="3410" y="108"/>
                    </a:cubicBezTo>
                    <a:cubicBezTo>
                      <a:pt x="3409" y="106"/>
                      <a:pt x="3408" y="103"/>
                      <a:pt x="3408" y="101"/>
                    </a:cubicBezTo>
                    <a:cubicBezTo>
                      <a:pt x="3408" y="100"/>
                      <a:pt x="3408" y="99"/>
                      <a:pt x="3409" y="98"/>
                    </a:cubicBezTo>
                    <a:cubicBezTo>
                      <a:pt x="3408" y="99"/>
                      <a:pt x="3408" y="100"/>
                      <a:pt x="3408" y="101"/>
                    </a:cubicBezTo>
                    <a:cubicBezTo>
                      <a:pt x="3405" y="94"/>
                      <a:pt x="3402" y="87"/>
                      <a:pt x="3398" y="81"/>
                    </a:cubicBezTo>
                    <a:cubicBezTo>
                      <a:pt x="3402" y="88"/>
                      <a:pt x="3403" y="99"/>
                      <a:pt x="3403" y="106"/>
                    </a:cubicBezTo>
                    <a:cubicBezTo>
                      <a:pt x="3403" y="111"/>
                      <a:pt x="3402" y="115"/>
                      <a:pt x="3402" y="120"/>
                    </a:cubicBezTo>
                    <a:cubicBezTo>
                      <a:pt x="3400" y="126"/>
                      <a:pt x="3398" y="133"/>
                      <a:pt x="3397" y="139"/>
                    </a:cubicBezTo>
                    <a:cubicBezTo>
                      <a:pt x="3397" y="135"/>
                      <a:pt x="3397" y="135"/>
                      <a:pt x="3397" y="135"/>
                    </a:cubicBezTo>
                    <a:cubicBezTo>
                      <a:pt x="3398" y="127"/>
                      <a:pt x="3398" y="120"/>
                      <a:pt x="3399" y="113"/>
                    </a:cubicBezTo>
                    <a:cubicBezTo>
                      <a:pt x="3398" y="117"/>
                      <a:pt x="3398" y="123"/>
                      <a:pt x="3397" y="129"/>
                    </a:cubicBezTo>
                    <a:cubicBezTo>
                      <a:pt x="3397" y="120"/>
                      <a:pt x="3397" y="111"/>
                      <a:pt x="3395" y="103"/>
                    </a:cubicBezTo>
                    <a:cubicBezTo>
                      <a:pt x="3396" y="101"/>
                      <a:pt x="3397" y="100"/>
                      <a:pt x="3397" y="99"/>
                    </a:cubicBezTo>
                    <a:cubicBezTo>
                      <a:pt x="3397" y="100"/>
                      <a:pt x="3396" y="101"/>
                      <a:pt x="3395" y="102"/>
                    </a:cubicBezTo>
                    <a:cubicBezTo>
                      <a:pt x="3393" y="88"/>
                      <a:pt x="3389" y="75"/>
                      <a:pt x="3380" y="60"/>
                    </a:cubicBezTo>
                    <a:cubicBezTo>
                      <a:pt x="3380" y="61"/>
                      <a:pt x="3380" y="61"/>
                      <a:pt x="3380" y="61"/>
                    </a:cubicBezTo>
                    <a:cubicBezTo>
                      <a:pt x="3380" y="76"/>
                      <a:pt x="3390" y="94"/>
                      <a:pt x="3390" y="111"/>
                    </a:cubicBezTo>
                    <a:cubicBezTo>
                      <a:pt x="3389" y="115"/>
                      <a:pt x="3388" y="120"/>
                      <a:pt x="3387" y="125"/>
                    </a:cubicBezTo>
                    <a:cubicBezTo>
                      <a:pt x="3383" y="109"/>
                      <a:pt x="3376" y="94"/>
                      <a:pt x="3365" y="83"/>
                    </a:cubicBezTo>
                    <a:cubicBezTo>
                      <a:pt x="3372" y="90"/>
                      <a:pt x="3376" y="101"/>
                      <a:pt x="3378" y="111"/>
                    </a:cubicBezTo>
                    <a:cubicBezTo>
                      <a:pt x="3377" y="111"/>
                      <a:pt x="3377" y="110"/>
                      <a:pt x="3377" y="109"/>
                    </a:cubicBezTo>
                    <a:cubicBezTo>
                      <a:pt x="3377" y="117"/>
                      <a:pt x="3378" y="126"/>
                      <a:pt x="3378" y="134"/>
                    </a:cubicBezTo>
                    <a:cubicBezTo>
                      <a:pt x="3378" y="136"/>
                      <a:pt x="3378" y="138"/>
                      <a:pt x="3378" y="140"/>
                    </a:cubicBezTo>
                    <a:cubicBezTo>
                      <a:pt x="3375" y="127"/>
                      <a:pt x="3374" y="113"/>
                      <a:pt x="3370" y="100"/>
                    </a:cubicBezTo>
                    <a:cubicBezTo>
                      <a:pt x="3372" y="109"/>
                      <a:pt x="3372" y="123"/>
                      <a:pt x="3372" y="135"/>
                    </a:cubicBezTo>
                    <a:cubicBezTo>
                      <a:pt x="3373" y="138"/>
                      <a:pt x="3373" y="141"/>
                      <a:pt x="3373" y="144"/>
                    </a:cubicBezTo>
                    <a:cubicBezTo>
                      <a:pt x="3373" y="143"/>
                      <a:pt x="3373" y="142"/>
                      <a:pt x="3373" y="142"/>
                    </a:cubicBezTo>
                    <a:cubicBezTo>
                      <a:pt x="3372" y="139"/>
                      <a:pt x="3372" y="137"/>
                      <a:pt x="3372" y="135"/>
                    </a:cubicBezTo>
                    <a:cubicBezTo>
                      <a:pt x="3372" y="130"/>
                      <a:pt x="3371" y="125"/>
                      <a:pt x="3370" y="120"/>
                    </a:cubicBezTo>
                    <a:cubicBezTo>
                      <a:pt x="3370" y="119"/>
                      <a:pt x="3370" y="119"/>
                      <a:pt x="3370" y="118"/>
                    </a:cubicBezTo>
                    <a:cubicBezTo>
                      <a:pt x="3370" y="119"/>
                      <a:pt x="3370" y="119"/>
                      <a:pt x="3370" y="120"/>
                    </a:cubicBezTo>
                    <a:cubicBezTo>
                      <a:pt x="3369" y="116"/>
                      <a:pt x="3367" y="112"/>
                      <a:pt x="3366" y="108"/>
                    </a:cubicBezTo>
                    <a:cubicBezTo>
                      <a:pt x="3366" y="106"/>
                      <a:pt x="3367" y="105"/>
                      <a:pt x="3368" y="103"/>
                    </a:cubicBezTo>
                    <a:cubicBezTo>
                      <a:pt x="3367" y="105"/>
                      <a:pt x="3366" y="106"/>
                      <a:pt x="3366" y="107"/>
                    </a:cubicBezTo>
                    <a:cubicBezTo>
                      <a:pt x="3359" y="91"/>
                      <a:pt x="3349" y="76"/>
                      <a:pt x="3332" y="63"/>
                    </a:cubicBezTo>
                    <a:cubicBezTo>
                      <a:pt x="3338" y="68"/>
                      <a:pt x="3342" y="74"/>
                      <a:pt x="3346" y="79"/>
                    </a:cubicBezTo>
                    <a:cubicBezTo>
                      <a:pt x="3345" y="81"/>
                      <a:pt x="3343" y="85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38" y="94"/>
                      <a:pt x="3336" y="98"/>
                      <a:pt x="3334" y="103"/>
                    </a:cubicBezTo>
                    <a:cubicBezTo>
                      <a:pt x="3333" y="100"/>
                      <a:pt x="3333" y="98"/>
                      <a:pt x="3332" y="96"/>
                    </a:cubicBezTo>
                    <a:cubicBezTo>
                      <a:pt x="3332" y="99"/>
                      <a:pt x="3333" y="103"/>
                      <a:pt x="3333" y="106"/>
                    </a:cubicBezTo>
                    <a:cubicBezTo>
                      <a:pt x="3332" y="108"/>
                      <a:pt x="3331" y="111"/>
                      <a:pt x="3330" y="113"/>
                    </a:cubicBezTo>
                    <a:cubicBezTo>
                      <a:pt x="3329" y="111"/>
                      <a:pt x="3329" y="109"/>
                      <a:pt x="3328" y="107"/>
                    </a:cubicBezTo>
                    <a:cubicBezTo>
                      <a:pt x="3329" y="100"/>
                      <a:pt x="3330" y="93"/>
                      <a:pt x="3330" y="88"/>
                    </a:cubicBezTo>
                    <a:cubicBezTo>
                      <a:pt x="3330" y="87"/>
                      <a:pt x="3330" y="87"/>
                      <a:pt x="3330" y="87"/>
                    </a:cubicBezTo>
                    <a:cubicBezTo>
                      <a:pt x="3328" y="92"/>
                      <a:pt x="3327" y="97"/>
                      <a:pt x="3326" y="102"/>
                    </a:cubicBezTo>
                    <a:cubicBezTo>
                      <a:pt x="3323" y="96"/>
                      <a:pt x="3321" y="90"/>
                      <a:pt x="3318" y="84"/>
                    </a:cubicBezTo>
                    <a:cubicBezTo>
                      <a:pt x="3321" y="90"/>
                      <a:pt x="3323" y="97"/>
                      <a:pt x="3325" y="104"/>
                    </a:cubicBezTo>
                    <a:cubicBezTo>
                      <a:pt x="3324" y="108"/>
                      <a:pt x="3324" y="111"/>
                      <a:pt x="3323" y="115"/>
                    </a:cubicBezTo>
                    <a:cubicBezTo>
                      <a:pt x="3321" y="110"/>
                      <a:pt x="3319" y="106"/>
                      <a:pt x="3317" y="102"/>
                    </a:cubicBezTo>
                    <a:cubicBezTo>
                      <a:pt x="3319" y="107"/>
                      <a:pt x="3320" y="114"/>
                      <a:pt x="3321" y="121"/>
                    </a:cubicBezTo>
                    <a:cubicBezTo>
                      <a:pt x="3320" y="126"/>
                      <a:pt x="3318" y="131"/>
                      <a:pt x="3317" y="135"/>
                    </a:cubicBezTo>
                    <a:cubicBezTo>
                      <a:pt x="3315" y="132"/>
                      <a:pt x="3314" y="129"/>
                      <a:pt x="3313" y="125"/>
                    </a:cubicBezTo>
                    <a:cubicBezTo>
                      <a:pt x="3314" y="118"/>
                      <a:pt x="3315" y="111"/>
                      <a:pt x="3316" y="104"/>
                    </a:cubicBezTo>
                    <a:cubicBezTo>
                      <a:pt x="3315" y="109"/>
                      <a:pt x="3313" y="114"/>
                      <a:pt x="3311" y="120"/>
                    </a:cubicBezTo>
                    <a:cubicBezTo>
                      <a:pt x="3310" y="115"/>
                      <a:pt x="3309" y="111"/>
                      <a:pt x="3308" y="107"/>
                    </a:cubicBezTo>
                    <a:cubicBezTo>
                      <a:pt x="3308" y="103"/>
                      <a:pt x="3309" y="98"/>
                      <a:pt x="3309" y="94"/>
                    </a:cubicBezTo>
                    <a:cubicBezTo>
                      <a:pt x="3309" y="91"/>
                      <a:pt x="3308" y="88"/>
                      <a:pt x="3308" y="85"/>
                    </a:cubicBezTo>
                    <a:cubicBezTo>
                      <a:pt x="3307" y="89"/>
                      <a:pt x="3306" y="93"/>
                      <a:pt x="3305" y="99"/>
                    </a:cubicBezTo>
                    <a:cubicBezTo>
                      <a:pt x="3302" y="91"/>
                      <a:pt x="3298" y="84"/>
                      <a:pt x="3293" y="77"/>
                    </a:cubicBezTo>
                    <a:cubicBezTo>
                      <a:pt x="3296" y="86"/>
                      <a:pt x="3300" y="95"/>
                      <a:pt x="3303" y="104"/>
                    </a:cubicBezTo>
                    <a:cubicBezTo>
                      <a:pt x="3303" y="106"/>
                      <a:pt x="3303" y="107"/>
                      <a:pt x="3303" y="109"/>
                    </a:cubicBezTo>
                    <a:cubicBezTo>
                      <a:pt x="3302" y="107"/>
                      <a:pt x="3301" y="105"/>
                      <a:pt x="3300" y="103"/>
                    </a:cubicBezTo>
                    <a:cubicBezTo>
                      <a:pt x="3300" y="103"/>
                      <a:pt x="3300" y="102"/>
                      <a:pt x="3300" y="102"/>
                    </a:cubicBezTo>
                    <a:cubicBezTo>
                      <a:pt x="3300" y="102"/>
                      <a:pt x="3300" y="103"/>
                      <a:pt x="3300" y="103"/>
                    </a:cubicBezTo>
                    <a:cubicBezTo>
                      <a:pt x="3295" y="94"/>
                      <a:pt x="3290" y="86"/>
                      <a:pt x="3283" y="79"/>
                    </a:cubicBezTo>
                    <a:cubicBezTo>
                      <a:pt x="3285" y="75"/>
                      <a:pt x="3287" y="71"/>
                      <a:pt x="3289" y="68"/>
                    </a:cubicBezTo>
                    <a:cubicBezTo>
                      <a:pt x="3287" y="69"/>
                      <a:pt x="3284" y="73"/>
                      <a:pt x="3282" y="77"/>
                    </a:cubicBezTo>
                    <a:cubicBezTo>
                      <a:pt x="3278" y="73"/>
                      <a:pt x="3274" y="69"/>
                      <a:pt x="3269" y="65"/>
                    </a:cubicBezTo>
                    <a:cubicBezTo>
                      <a:pt x="3274" y="70"/>
                      <a:pt x="3278" y="75"/>
                      <a:pt x="3281" y="79"/>
                    </a:cubicBezTo>
                    <a:cubicBezTo>
                      <a:pt x="3278" y="86"/>
                      <a:pt x="3275" y="96"/>
                      <a:pt x="3272" y="105"/>
                    </a:cubicBezTo>
                    <a:cubicBezTo>
                      <a:pt x="3269" y="99"/>
                      <a:pt x="3265" y="94"/>
                      <a:pt x="3262" y="88"/>
                    </a:cubicBezTo>
                    <a:cubicBezTo>
                      <a:pt x="3262" y="87"/>
                      <a:pt x="3262" y="86"/>
                      <a:pt x="3263" y="85"/>
                    </a:cubicBezTo>
                    <a:cubicBezTo>
                      <a:pt x="3262" y="86"/>
                      <a:pt x="3262" y="87"/>
                      <a:pt x="3262" y="88"/>
                    </a:cubicBezTo>
                    <a:cubicBezTo>
                      <a:pt x="3261" y="87"/>
                      <a:pt x="3260" y="86"/>
                      <a:pt x="3259" y="85"/>
                    </a:cubicBezTo>
                    <a:cubicBezTo>
                      <a:pt x="3260" y="86"/>
                      <a:pt x="3261" y="87"/>
                      <a:pt x="3261" y="88"/>
                    </a:cubicBezTo>
                    <a:cubicBezTo>
                      <a:pt x="3260" y="91"/>
                      <a:pt x="3259" y="93"/>
                      <a:pt x="3258" y="95"/>
                    </a:cubicBezTo>
                    <a:cubicBezTo>
                      <a:pt x="3257" y="94"/>
                      <a:pt x="3257" y="92"/>
                      <a:pt x="3256" y="91"/>
                    </a:cubicBezTo>
                    <a:cubicBezTo>
                      <a:pt x="3257" y="92"/>
                      <a:pt x="3257" y="94"/>
                      <a:pt x="3258" y="95"/>
                    </a:cubicBezTo>
                    <a:cubicBezTo>
                      <a:pt x="3254" y="103"/>
                      <a:pt x="3251" y="112"/>
                      <a:pt x="3249" y="121"/>
                    </a:cubicBezTo>
                    <a:cubicBezTo>
                      <a:pt x="3248" y="112"/>
                      <a:pt x="3247" y="103"/>
                      <a:pt x="3247" y="97"/>
                    </a:cubicBezTo>
                    <a:cubicBezTo>
                      <a:pt x="3245" y="100"/>
                      <a:pt x="3244" y="105"/>
                      <a:pt x="3243" y="110"/>
                    </a:cubicBezTo>
                    <a:cubicBezTo>
                      <a:pt x="3243" y="92"/>
                      <a:pt x="3242" y="61"/>
                      <a:pt x="3240" y="57"/>
                    </a:cubicBezTo>
                    <a:cubicBezTo>
                      <a:pt x="3239" y="79"/>
                      <a:pt x="3240" y="100"/>
                      <a:pt x="3240" y="122"/>
                    </a:cubicBezTo>
                    <a:cubicBezTo>
                      <a:pt x="3240" y="123"/>
                      <a:pt x="3240" y="124"/>
                      <a:pt x="3240" y="125"/>
                    </a:cubicBezTo>
                    <a:cubicBezTo>
                      <a:pt x="3238" y="114"/>
                      <a:pt x="3234" y="103"/>
                      <a:pt x="3229" y="94"/>
                    </a:cubicBezTo>
                    <a:cubicBezTo>
                      <a:pt x="3228" y="89"/>
                      <a:pt x="3228" y="84"/>
                      <a:pt x="3229" y="80"/>
                    </a:cubicBezTo>
                    <a:cubicBezTo>
                      <a:pt x="3228" y="83"/>
                      <a:pt x="3227" y="87"/>
                      <a:pt x="3226" y="90"/>
                    </a:cubicBezTo>
                    <a:cubicBezTo>
                      <a:pt x="3224" y="88"/>
                      <a:pt x="3222" y="85"/>
                      <a:pt x="3220" y="83"/>
                    </a:cubicBezTo>
                    <a:cubicBezTo>
                      <a:pt x="3222" y="86"/>
                      <a:pt x="3224" y="89"/>
                      <a:pt x="3226" y="92"/>
                    </a:cubicBezTo>
                    <a:cubicBezTo>
                      <a:pt x="3225" y="96"/>
                      <a:pt x="3224" y="100"/>
                      <a:pt x="3224" y="103"/>
                    </a:cubicBezTo>
                    <a:cubicBezTo>
                      <a:pt x="3223" y="102"/>
                      <a:pt x="3223" y="101"/>
                      <a:pt x="3223" y="100"/>
                    </a:cubicBezTo>
                    <a:cubicBezTo>
                      <a:pt x="3223" y="101"/>
                      <a:pt x="3223" y="102"/>
                      <a:pt x="3224" y="104"/>
                    </a:cubicBezTo>
                    <a:cubicBezTo>
                      <a:pt x="3223" y="106"/>
                      <a:pt x="3223" y="109"/>
                      <a:pt x="3222" y="111"/>
                    </a:cubicBezTo>
                    <a:cubicBezTo>
                      <a:pt x="3220" y="107"/>
                      <a:pt x="3219" y="103"/>
                      <a:pt x="3217" y="99"/>
                    </a:cubicBezTo>
                    <a:cubicBezTo>
                      <a:pt x="3216" y="91"/>
                      <a:pt x="3216" y="82"/>
                      <a:pt x="3217" y="74"/>
                    </a:cubicBezTo>
                    <a:cubicBezTo>
                      <a:pt x="3216" y="80"/>
                      <a:pt x="3214" y="86"/>
                      <a:pt x="3213" y="92"/>
                    </a:cubicBezTo>
                    <a:cubicBezTo>
                      <a:pt x="3212" y="91"/>
                      <a:pt x="3211" y="89"/>
                      <a:pt x="3210" y="88"/>
                    </a:cubicBezTo>
                    <a:cubicBezTo>
                      <a:pt x="3211" y="89"/>
                      <a:pt x="3212" y="91"/>
                      <a:pt x="3213" y="93"/>
                    </a:cubicBezTo>
                    <a:cubicBezTo>
                      <a:pt x="3212" y="95"/>
                      <a:pt x="3212" y="97"/>
                      <a:pt x="3212" y="98"/>
                    </a:cubicBezTo>
                    <a:cubicBezTo>
                      <a:pt x="3209" y="93"/>
                      <a:pt x="3207" y="88"/>
                      <a:pt x="3203" y="84"/>
                    </a:cubicBezTo>
                    <a:cubicBezTo>
                      <a:pt x="3206" y="88"/>
                      <a:pt x="3208" y="95"/>
                      <a:pt x="3211" y="103"/>
                    </a:cubicBezTo>
                    <a:cubicBezTo>
                      <a:pt x="3210" y="106"/>
                      <a:pt x="3209" y="110"/>
                      <a:pt x="3209" y="113"/>
                    </a:cubicBezTo>
                    <a:cubicBezTo>
                      <a:pt x="3206" y="108"/>
                      <a:pt x="3204" y="102"/>
                      <a:pt x="3201" y="96"/>
                    </a:cubicBezTo>
                    <a:cubicBezTo>
                      <a:pt x="3201" y="91"/>
                      <a:pt x="3202" y="86"/>
                      <a:pt x="3203" y="83"/>
                    </a:cubicBezTo>
                    <a:cubicBezTo>
                      <a:pt x="3202" y="87"/>
                      <a:pt x="3201" y="90"/>
                      <a:pt x="3199" y="93"/>
                    </a:cubicBezTo>
                    <a:cubicBezTo>
                      <a:pt x="3194" y="83"/>
                      <a:pt x="3187" y="74"/>
                      <a:pt x="3178" y="64"/>
                    </a:cubicBezTo>
                    <a:cubicBezTo>
                      <a:pt x="3187" y="74"/>
                      <a:pt x="3193" y="86"/>
                      <a:pt x="3198" y="97"/>
                    </a:cubicBezTo>
                    <a:cubicBezTo>
                      <a:pt x="3197" y="99"/>
                      <a:pt x="3197" y="101"/>
                      <a:pt x="3196" y="103"/>
                    </a:cubicBezTo>
                    <a:cubicBezTo>
                      <a:pt x="3195" y="98"/>
                      <a:pt x="3194" y="93"/>
                      <a:pt x="3192" y="88"/>
                    </a:cubicBezTo>
                    <a:cubicBezTo>
                      <a:pt x="3192" y="91"/>
                      <a:pt x="3193" y="98"/>
                      <a:pt x="3195" y="106"/>
                    </a:cubicBezTo>
                    <a:cubicBezTo>
                      <a:pt x="3195" y="108"/>
                      <a:pt x="3194" y="109"/>
                      <a:pt x="3194" y="110"/>
                    </a:cubicBezTo>
                    <a:cubicBezTo>
                      <a:pt x="3188" y="97"/>
                      <a:pt x="3181" y="83"/>
                      <a:pt x="3170" y="72"/>
                    </a:cubicBezTo>
                    <a:cubicBezTo>
                      <a:pt x="3168" y="61"/>
                      <a:pt x="3166" y="51"/>
                      <a:pt x="3164" y="41"/>
                    </a:cubicBezTo>
                    <a:cubicBezTo>
                      <a:pt x="3164" y="48"/>
                      <a:pt x="3164" y="55"/>
                      <a:pt x="3164" y="61"/>
                    </a:cubicBezTo>
                    <a:cubicBezTo>
                      <a:pt x="3164" y="63"/>
                      <a:pt x="3164" y="64"/>
                      <a:pt x="3164" y="66"/>
                    </a:cubicBezTo>
                    <a:cubicBezTo>
                      <a:pt x="3163" y="65"/>
                      <a:pt x="3163" y="65"/>
                      <a:pt x="3163" y="65"/>
                    </a:cubicBezTo>
                    <a:cubicBezTo>
                      <a:pt x="3163" y="65"/>
                      <a:pt x="3163" y="65"/>
                      <a:pt x="3164" y="66"/>
                    </a:cubicBezTo>
                    <a:cubicBezTo>
                      <a:pt x="3164" y="75"/>
                      <a:pt x="3165" y="85"/>
                      <a:pt x="3165" y="94"/>
                    </a:cubicBezTo>
                    <a:cubicBezTo>
                      <a:pt x="3163" y="88"/>
                      <a:pt x="3160" y="81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1" y="67"/>
                      <a:pt x="3144" y="59"/>
                      <a:pt x="3134" y="50"/>
                    </a:cubicBezTo>
                    <a:cubicBezTo>
                      <a:pt x="3137" y="54"/>
                      <a:pt x="3139" y="58"/>
                      <a:pt x="3141" y="61"/>
                    </a:cubicBezTo>
                    <a:cubicBezTo>
                      <a:pt x="3140" y="64"/>
                      <a:pt x="3140" y="68"/>
                      <a:pt x="3139" y="73"/>
                    </a:cubicBezTo>
                    <a:cubicBezTo>
                      <a:pt x="3137" y="70"/>
                      <a:pt x="3134" y="67"/>
                      <a:pt x="3132" y="65"/>
                    </a:cubicBezTo>
                    <a:cubicBezTo>
                      <a:pt x="3132" y="64"/>
                      <a:pt x="3132" y="64"/>
                      <a:pt x="3132" y="64"/>
                    </a:cubicBezTo>
                    <a:cubicBezTo>
                      <a:pt x="3132" y="64"/>
                      <a:pt x="3132" y="64"/>
                      <a:pt x="3131" y="64"/>
                    </a:cubicBezTo>
                    <a:cubicBezTo>
                      <a:pt x="3130" y="62"/>
                      <a:pt x="3128" y="61"/>
                      <a:pt x="3126" y="59"/>
                    </a:cubicBezTo>
                    <a:cubicBezTo>
                      <a:pt x="3128" y="61"/>
                      <a:pt x="3129" y="63"/>
                      <a:pt x="3131" y="65"/>
                    </a:cubicBezTo>
                    <a:cubicBezTo>
                      <a:pt x="3130" y="67"/>
                      <a:pt x="3128" y="69"/>
                      <a:pt x="3127" y="72"/>
                    </a:cubicBezTo>
                    <a:cubicBezTo>
                      <a:pt x="3126" y="66"/>
                      <a:pt x="3126" y="61"/>
                      <a:pt x="3125" y="56"/>
                    </a:cubicBezTo>
                    <a:cubicBezTo>
                      <a:pt x="3126" y="54"/>
                      <a:pt x="3127" y="53"/>
                      <a:pt x="3128" y="51"/>
                    </a:cubicBezTo>
                    <a:cubicBezTo>
                      <a:pt x="3127" y="52"/>
                      <a:pt x="3126" y="53"/>
                      <a:pt x="3124" y="55"/>
                    </a:cubicBezTo>
                    <a:cubicBezTo>
                      <a:pt x="3123" y="45"/>
                      <a:pt x="3121" y="35"/>
                      <a:pt x="3118" y="26"/>
                    </a:cubicBezTo>
                    <a:cubicBezTo>
                      <a:pt x="3117" y="30"/>
                      <a:pt x="3117" y="34"/>
                      <a:pt x="3117" y="37"/>
                    </a:cubicBezTo>
                    <a:cubicBezTo>
                      <a:pt x="3117" y="45"/>
                      <a:pt x="3118" y="53"/>
                      <a:pt x="3119" y="60"/>
                    </a:cubicBezTo>
                    <a:cubicBezTo>
                      <a:pt x="3115" y="64"/>
                      <a:pt x="3111" y="69"/>
                      <a:pt x="3106" y="74"/>
                    </a:cubicBezTo>
                    <a:cubicBezTo>
                      <a:pt x="3106" y="72"/>
                      <a:pt x="3105" y="70"/>
                      <a:pt x="3104" y="67"/>
                    </a:cubicBezTo>
                    <a:cubicBezTo>
                      <a:pt x="3104" y="70"/>
                      <a:pt x="3105" y="73"/>
                      <a:pt x="3105" y="76"/>
                    </a:cubicBezTo>
                    <a:cubicBezTo>
                      <a:pt x="3104" y="77"/>
                      <a:pt x="3104" y="77"/>
                      <a:pt x="3104" y="78"/>
                    </a:cubicBezTo>
                    <a:cubicBezTo>
                      <a:pt x="3102" y="75"/>
                      <a:pt x="3100" y="72"/>
                      <a:pt x="3098" y="68"/>
                    </a:cubicBezTo>
                    <a:cubicBezTo>
                      <a:pt x="3098" y="65"/>
                      <a:pt x="3099" y="63"/>
                      <a:pt x="3099" y="62"/>
                    </a:cubicBezTo>
                    <a:cubicBezTo>
                      <a:pt x="3098" y="63"/>
                      <a:pt x="3097" y="65"/>
                      <a:pt x="3096" y="67"/>
                    </a:cubicBezTo>
                    <a:cubicBezTo>
                      <a:pt x="3090" y="57"/>
                      <a:pt x="3081" y="47"/>
                      <a:pt x="3068" y="34"/>
                    </a:cubicBezTo>
                    <a:cubicBezTo>
                      <a:pt x="3081" y="49"/>
                      <a:pt x="3089" y="60"/>
                      <a:pt x="3096" y="69"/>
                    </a:cubicBezTo>
                    <a:cubicBezTo>
                      <a:pt x="3095" y="72"/>
                      <a:pt x="3094" y="75"/>
                      <a:pt x="3094" y="79"/>
                    </a:cubicBezTo>
                    <a:cubicBezTo>
                      <a:pt x="3088" y="68"/>
                      <a:pt x="3080" y="58"/>
                      <a:pt x="3068" y="52"/>
                    </a:cubicBezTo>
                    <a:cubicBezTo>
                      <a:pt x="3082" y="60"/>
                      <a:pt x="3089" y="72"/>
                      <a:pt x="3094" y="84"/>
                    </a:cubicBezTo>
                    <a:cubicBezTo>
                      <a:pt x="3094" y="86"/>
                      <a:pt x="3094" y="89"/>
                      <a:pt x="3094" y="91"/>
                    </a:cubicBezTo>
                    <a:cubicBezTo>
                      <a:pt x="3092" y="94"/>
                      <a:pt x="3090" y="97"/>
                      <a:pt x="3088" y="100"/>
                    </a:cubicBezTo>
                    <a:cubicBezTo>
                      <a:pt x="3087" y="96"/>
                      <a:pt x="3087" y="93"/>
                      <a:pt x="3086" y="90"/>
                    </a:cubicBezTo>
                    <a:cubicBezTo>
                      <a:pt x="3087" y="93"/>
                      <a:pt x="3087" y="97"/>
                      <a:pt x="3087" y="101"/>
                    </a:cubicBezTo>
                    <a:cubicBezTo>
                      <a:pt x="3086" y="102"/>
                      <a:pt x="3085" y="104"/>
                      <a:pt x="3085" y="105"/>
                    </a:cubicBezTo>
                    <a:cubicBezTo>
                      <a:pt x="3084" y="104"/>
                      <a:pt x="3084" y="103"/>
                      <a:pt x="3083" y="102"/>
                    </a:cubicBezTo>
                    <a:cubicBezTo>
                      <a:pt x="3082" y="97"/>
                      <a:pt x="3081" y="93"/>
                      <a:pt x="3080" y="88"/>
                    </a:cubicBezTo>
                    <a:cubicBezTo>
                      <a:pt x="3081" y="83"/>
                      <a:pt x="3082" y="79"/>
                      <a:pt x="3082" y="75"/>
                    </a:cubicBezTo>
                    <a:cubicBezTo>
                      <a:pt x="3081" y="78"/>
                      <a:pt x="3080" y="80"/>
                      <a:pt x="3079" y="82"/>
                    </a:cubicBezTo>
                    <a:cubicBezTo>
                      <a:pt x="3078" y="81"/>
                      <a:pt x="3078" y="80"/>
                      <a:pt x="3078" y="79"/>
                    </a:cubicBezTo>
                    <a:cubicBezTo>
                      <a:pt x="3078" y="80"/>
                      <a:pt x="3078" y="82"/>
                      <a:pt x="3078" y="83"/>
                    </a:cubicBezTo>
                    <a:cubicBezTo>
                      <a:pt x="3078" y="84"/>
                      <a:pt x="3077" y="86"/>
                      <a:pt x="3076" y="87"/>
                    </a:cubicBezTo>
                    <a:cubicBezTo>
                      <a:pt x="3074" y="83"/>
                      <a:pt x="3073" y="79"/>
                      <a:pt x="3071" y="75"/>
                    </a:cubicBezTo>
                    <a:cubicBezTo>
                      <a:pt x="3071" y="80"/>
                      <a:pt x="3072" y="86"/>
                      <a:pt x="3073" y="93"/>
                    </a:cubicBezTo>
                    <a:cubicBezTo>
                      <a:pt x="3073" y="94"/>
                      <a:pt x="3073" y="94"/>
                      <a:pt x="3073" y="94"/>
                    </a:cubicBezTo>
                    <a:cubicBezTo>
                      <a:pt x="3072" y="90"/>
                      <a:pt x="3070" y="85"/>
                      <a:pt x="3068" y="81"/>
                    </a:cubicBezTo>
                    <a:cubicBezTo>
                      <a:pt x="3070" y="86"/>
                      <a:pt x="3071" y="91"/>
                      <a:pt x="3072" y="97"/>
                    </a:cubicBezTo>
                    <a:cubicBezTo>
                      <a:pt x="3070" y="100"/>
                      <a:pt x="3069" y="102"/>
                      <a:pt x="3068" y="105"/>
                    </a:cubicBezTo>
                    <a:cubicBezTo>
                      <a:pt x="3065" y="83"/>
                      <a:pt x="3059" y="63"/>
                      <a:pt x="3039" y="42"/>
                    </a:cubicBezTo>
                    <a:cubicBezTo>
                      <a:pt x="3047" y="58"/>
                      <a:pt x="3053" y="70"/>
                      <a:pt x="3057" y="81"/>
                    </a:cubicBezTo>
                    <a:cubicBezTo>
                      <a:pt x="3057" y="83"/>
                      <a:pt x="3057" y="86"/>
                      <a:pt x="3057" y="89"/>
                    </a:cubicBezTo>
                    <a:cubicBezTo>
                      <a:pt x="3055" y="86"/>
                      <a:pt x="3053" y="84"/>
                      <a:pt x="3052" y="81"/>
                    </a:cubicBezTo>
                    <a:cubicBezTo>
                      <a:pt x="3051" y="79"/>
                      <a:pt x="3049" y="76"/>
                      <a:pt x="3048" y="73"/>
                    </a:cubicBezTo>
                    <a:cubicBezTo>
                      <a:pt x="3048" y="71"/>
                      <a:pt x="3048" y="69"/>
                      <a:pt x="3048" y="67"/>
                    </a:cubicBezTo>
                    <a:cubicBezTo>
                      <a:pt x="3048" y="69"/>
                      <a:pt x="3047" y="70"/>
                      <a:pt x="3047" y="72"/>
                    </a:cubicBezTo>
                    <a:cubicBezTo>
                      <a:pt x="3044" y="66"/>
                      <a:pt x="3040" y="59"/>
                      <a:pt x="3035" y="53"/>
                    </a:cubicBezTo>
                    <a:cubicBezTo>
                      <a:pt x="3035" y="48"/>
                      <a:pt x="3035" y="42"/>
                      <a:pt x="3035" y="37"/>
                    </a:cubicBezTo>
                    <a:cubicBezTo>
                      <a:pt x="3035" y="34"/>
                      <a:pt x="3035" y="30"/>
                      <a:pt x="3035" y="26"/>
                    </a:cubicBezTo>
                    <a:cubicBezTo>
                      <a:pt x="3032" y="33"/>
                      <a:pt x="3031" y="40"/>
                      <a:pt x="3029" y="47"/>
                    </a:cubicBezTo>
                    <a:cubicBezTo>
                      <a:pt x="3026" y="44"/>
                      <a:pt x="3023" y="41"/>
                      <a:pt x="3020" y="38"/>
                    </a:cubicBezTo>
                    <a:cubicBezTo>
                      <a:pt x="3023" y="41"/>
                      <a:pt x="3026" y="45"/>
                      <a:pt x="3029" y="49"/>
                    </a:cubicBezTo>
                    <a:cubicBezTo>
                      <a:pt x="3029" y="51"/>
                      <a:pt x="3028" y="53"/>
                      <a:pt x="3028" y="55"/>
                    </a:cubicBezTo>
                    <a:cubicBezTo>
                      <a:pt x="3027" y="53"/>
                      <a:pt x="3025" y="52"/>
                      <a:pt x="3024" y="51"/>
                    </a:cubicBezTo>
                    <a:cubicBezTo>
                      <a:pt x="3025" y="53"/>
                      <a:pt x="3027" y="54"/>
                      <a:pt x="3028" y="56"/>
                    </a:cubicBezTo>
                    <a:cubicBezTo>
                      <a:pt x="3027" y="61"/>
                      <a:pt x="3026" y="66"/>
                      <a:pt x="3026" y="72"/>
                    </a:cubicBezTo>
                    <a:cubicBezTo>
                      <a:pt x="3024" y="69"/>
                      <a:pt x="3022" y="66"/>
                      <a:pt x="3021" y="64"/>
                    </a:cubicBezTo>
                    <a:cubicBezTo>
                      <a:pt x="3021" y="66"/>
                      <a:pt x="3023" y="70"/>
                      <a:pt x="3025" y="74"/>
                    </a:cubicBezTo>
                    <a:cubicBezTo>
                      <a:pt x="3024" y="80"/>
                      <a:pt x="3023" y="86"/>
                      <a:pt x="3022" y="92"/>
                    </a:cubicBezTo>
                    <a:cubicBezTo>
                      <a:pt x="3018" y="109"/>
                      <a:pt x="3014" y="126"/>
                      <a:pt x="3012" y="143"/>
                    </a:cubicBezTo>
                    <a:cubicBezTo>
                      <a:pt x="3013" y="126"/>
                      <a:pt x="3014" y="109"/>
                      <a:pt x="3014" y="91"/>
                    </a:cubicBezTo>
                    <a:cubicBezTo>
                      <a:pt x="3014" y="87"/>
                      <a:pt x="3014" y="61"/>
                      <a:pt x="3010" y="59"/>
                    </a:cubicBezTo>
                    <a:cubicBezTo>
                      <a:pt x="3015" y="76"/>
                      <a:pt x="3001" y="122"/>
                      <a:pt x="2998" y="146"/>
                    </a:cubicBezTo>
                    <a:cubicBezTo>
                      <a:pt x="2998" y="148"/>
                      <a:pt x="2998" y="150"/>
                      <a:pt x="2997" y="152"/>
                    </a:cubicBezTo>
                    <a:cubicBezTo>
                      <a:pt x="2997" y="150"/>
                      <a:pt x="2998" y="148"/>
                      <a:pt x="2998" y="146"/>
                    </a:cubicBezTo>
                    <a:cubicBezTo>
                      <a:pt x="3000" y="123"/>
                      <a:pt x="2998" y="98"/>
                      <a:pt x="2997" y="75"/>
                    </a:cubicBezTo>
                    <a:cubicBezTo>
                      <a:pt x="2994" y="97"/>
                      <a:pt x="2986" y="119"/>
                      <a:pt x="2986" y="141"/>
                    </a:cubicBezTo>
                    <a:cubicBezTo>
                      <a:pt x="2986" y="146"/>
                      <a:pt x="2986" y="152"/>
                      <a:pt x="2987" y="158"/>
                    </a:cubicBezTo>
                    <a:cubicBezTo>
                      <a:pt x="2985" y="150"/>
                      <a:pt x="2985" y="140"/>
                      <a:pt x="2985" y="133"/>
                    </a:cubicBezTo>
                    <a:cubicBezTo>
                      <a:pt x="2985" y="109"/>
                      <a:pt x="2989" y="85"/>
                      <a:pt x="2989" y="61"/>
                    </a:cubicBezTo>
                    <a:cubicBezTo>
                      <a:pt x="2989" y="55"/>
                      <a:pt x="2989" y="48"/>
                      <a:pt x="2988" y="41"/>
                    </a:cubicBezTo>
                    <a:cubicBezTo>
                      <a:pt x="2981" y="71"/>
                      <a:pt x="2977" y="110"/>
                      <a:pt x="2977" y="140"/>
                    </a:cubicBezTo>
                    <a:cubicBezTo>
                      <a:pt x="2977" y="145"/>
                      <a:pt x="2977" y="149"/>
                      <a:pt x="2977" y="153"/>
                    </a:cubicBezTo>
                    <a:cubicBezTo>
                      <a:pt x="2976" y="135"/>
                      <a:pt x="2972" y="116"/>
                      <a:pt x="2968" y="98"/>
                    </a:cubicBezTo>
                    <a:cubicBezTo>
                      <a:pt x="2970" y="110"/>
                      <a:pt x="2966" y="124"/>
                      <a:pt x="2966" y="136"/>
                    </a:cubicBezTo>
                    <a:cubicBezTo>
                      <a:pt x="2966" y="140"/>
                      <a:pt x="2966" y="143"/>
                      <a:pt x="2966" y="147"/>
                    </a:cubicBezTo>
                    <a:cubicBezTo>
                      <a:pt x="2963" y="125"/>
                      <a:pt x="2958" y="103"/>
                      <a:pt x="2949" y="83"/>
                    </a:cubicBezTo>
                    <a:cubicBezTo>
                      <a:pt x="2952" y="90"/>
                      <a:pt x="2952" y="108"/>
                      <a:pt x="2952" y="115"/>
                    </a:cubicBezTo>
                    <a:cubicBezTo>
                      <a:pt x="2952" y="127"/>
                      <a:pt x="2952" y="138"/>
                      <a:pt x="2954" y="150"/>
                    </a:cubicBezTo>
                    <a:cubicBezTo>
                      <a:pt x="2945" y="126"/>
                      <a:pt x="2942" y="99"/>
                      <a:pt x="2935" y="74"/>
                    </a:cubicBezTo>
                    <a:cubicBezTo>
                      <a:pt x="2938" y="91"/>
                      <a:pt x="2934" y="110"/>
                      <a:pt x="2934" y="128"/>
                    </a:cubicBezTo>
                    <a:cubicBezTo>
                      <a:pt x="2934" y="132"/>
                      <a:pt x="2935" y="136"/>
                      <a:pt x="2935" y="140"/>
                    </a:cubicBezTo>
                    <a:cubicBezTo>
                      <a:pt x="2935" y="145"/>
                      <a:pt x="2936" y="149"/>
                      <a:pt x="2937" y="154"/>
                    </a:cubicBezTo>
                    <a:cubicBezTo>
                      <a:pt x="2936" y="149"/>
                      <a:pt x="2935" y="145"/>
                      <a:pt x="2935" y="140"/>
                    </a:cubicBezTo>
                    <a:cubicBezTo>
                      <a:pt x="2932" y="120"/>
                      <a:pt x="2929" y="99"/>
                      <a:pt x="2924" y="80"/>
                    </a:cubicBezTo>
                    <a:cubicBezTo>
                      <a:pt x="2926" y="102"/>
                      <a:pt x="2916" y="126"/>
                      <a:pt x="2916" y="149"/>
                    </a:cubicBezTo>
                    <a:cubicBezTo>
                      <a:pt x="2916" y="156"/>
                      <a:pt x="2916" y="156"/>
                      <a:pt x="2916" y="156"/>
                    </a:cubicBezTo>
                    <a:cubicBezTo>
                      <a:pt x="2912" y="147"/>
                      <a:pt x="2912" y="132"/>
                      <a:pt x="2912" y="122"/>
                    </a:cubicBezTo>
                    <a:cubicBezTo>
                      <a:pt x="2912" y="100"/>
                      <a:pt x="2914" y="79"/>
                      <a:pt x="2913" y="57"/>
                    </a:cubicBezTo>
                    <a:cubicBezTo>
                      <a:pt x="2910" y="62"/>
                      <a:pt x="2909" y="112"/>
                      <a:pt x="2909" y="120"/>
                    </a:cubicBezTo>
                    <a:cubicBezTo>
                      <a:pt x="2909" y="133"/>
                      <a:pt x="2910" y="146"/>
                      <a:pt x="2913" y="159"/>
                    </a:cubicBezTo>
                    <a:cubicBezTo>
                      <a:pt x="2908" y="135"/>
                      <a:pt x="2902" y="108"/>
                      <a:pt x="2890" y="85"/>
                    </a:cubicBezTo>
                    <a:cubicBezTo>
                      <a:pt x="2901" y="106"/>
                      <a:pt x="2896" y="132"/>
                      <a:pt x="2903" y="154"/>
                    </a:cubicBezTo>
                    <a:cubicBezTo>
                      <a:pt x="2895" y="142"/>
                      <a:pt x="2893" y="122"/>
                      <a:pt x="2890" y="106"/>
                    </a:cubicBezTo>
                    <a:cubicBezTo>
                      <a:pt x="2892" y="120"/>
                      <a:pt x="2890" y="134"/>
                      <a:pt x="2892" y="148"/>
                    </a:cubicBezTo>
                    <a:cubicBezTo>
                      <a:pt x="2893" y="151"/>
                      <a:pt x="2894" y="153"/>
                      <a:pt x="2894" y="155"/>
                    </a:cubicBezTo>
                    <a:cubicBezTo>
                      <a:pt x="2893" y="153"/>
                      <a:pt x="2893" y="151"/>
                      <a:pt x="2892" y="148"/>
                    </a:cubicBezTo>
                    <a:cubicBezTo>
                      <a:pt x="2887" y="128"/>
                      <a:pt x="2875" y="75"/>
                      <a:pt x="2863" y="68"/>
                    </a:cubicBezTo>
                    <a:cubicBezTo>
                      <a:pt x="2880" y="90"/>
                      <a:pt x="2878" y="127"/>
                      <a:pt x="2882" y="153"/>
                    </a:cubicBezTo>
                    <a:cubicBezTo>
                      <a:pt x="2878" y="134"/>
                      <a:pt x="2871" y="113"/>
                      <a:pt x="2862" y="95"/>
                    </a:cubicBezTo>
                    <a:cubicBezTo>
                      <a:pt x="2869" y="115"/>
                      <a:pt x="2868" y="136"/>
                      <a:pt x="2877" y="155"/>
                    </a:cubicBezTo>
                    <a:cubicBezTo>
                      <a:pt x="2864" y="144"/>
                      <a:pt x="2857" y="117"/>
                      <a:pt x="2853" y="102"/>
                    </a:cubicBezTo>
                    <a:cubicBezTo>
                      <a:pt x="2853" y="120"/>
                      <a:pt x="2858" y="143"/>
                      <a:pt x="2869" y="158"/>
                    </a:cubicBezTo>
                    <a:cubicBezTo>
                      <a:pt x="2855" y="144"/>
                      <a:pt x="2850" y="103"/>
                      <a:pt x="2845" y="85"/>
                    </a:cubicBezTo>
                    <a:cubicBezTo>
                      <a:pt x="2844" y="88"/>
                      <a:pt x="2844" y="91"/>
                      <a:pt x="2844" y="94"/>
                    </a:cubicBezTo>
                    <a:cubicBezTo>
                      <a:pt x="2844" y="113"/>
                      <a:pt x="2849" y="142"/>
                      <a:pt x="2861" y="159"/>
                    </a:cubicBezTo>
                    <a:cubicBezTo>
                      <a:pt x="2847" y="143"/>
                      <a:pt x="2842" y="123"/>
                      <a:pt x="2836" y="104"/>
                    </a:cubicBezTo>
                    <a:cubicBezTo>
                      <a:pt x="2840" y="122"/>
                      <a:pt x="2840" y="140"/>
                      <a:pt x="2849" y="158"/>
                    </a:cubicBezTo>
                    <a:cubicBezTo>
                      <a:pt x="2839" y="147"/>
                      <a:pt x="2834" y="132"/>
                      <a:pt x="2830" y="117"/>
                    </a:cubicBezTo>
                    <a:cubicBezTo>
                      <a:pt x="2832" y="105"/>
                      <a:pt x="2833" y="93"/>
                      <a:pt x="2834" y="84"/>
                    </a:cubicBezTo>
                    <a:cubicBezTo>
                      <a:pt x="2832" y="92"/>
                      <a:pt x="2830" y="101"/>
                      <a:pt x="2828" y="109"/>
                    </a:cubicBezTo>
                    <a:cubicBezTo>
                      <a:pt x="2827" y="102"/>
                      <a:pt x="2825" y="95"/>
                      <a:pt x="2823" y="89"/>
                    </a:cubicBezTo>
                    <a:cubicBezTo>
                      <a:pt x="2826" y="64"/>
                      <a:pt x="2830" y="40"/>
                      <a:pt x="2830" y="40"/>
                    </a:cubicBezTo>
                    <a:cubicBezTo>
                      <a:pt x="2825" y="51"/>
                      <a:pt x="2820" y="77"/>
                      <a:pt x="2817" y="100"/>
                    </a:cubicBezTo>
                    <a:cubicBezTo>
                      <a:pt x="2815" y="95"/>
                      <a:pt x="2812" y="90"/>
                      <a:pt x="2811" y="86"/>
                    </a:cubicBezTo>
                    <a:cubicBezTo>
                      <a:pt x="2810" y="70"/>
                      <a:pt x="2808" y="58"/>
                      <a:pt x="2808" y="60"/>
                    </a:cubicBezTo>
                    <a:cubicBezTo>
                      <a:pt x="2808" y="61"/>
                      <a:pt x="2808" y="69"/>
                      <a:pt x="2807" y="80"/>
                    </a:cubicBezTo>
                    <a:cubicBezTo>
                      <a:pt x="2806" y="79"/>
                      <a:pt x="2806" y="78"/>
                      <a:pt x="2805" y="78"/>
                    </a:cubicBezTo>
                    <a:cubicBezTo>
                      <a:pt x="2806" y="79"/>
                      <a:pt x="2806" y="80"/>
                      <a:pt x="2807" y="81"/>
                    </a:cubicBezTo>
                    <a:cubicBezTo>
                      <a:pt x="2806" y="87"/>
                      <a:pt x="2806" y="95"/>
                      <a:pt x="2805" y="102"/>
                    </a:cubicBezTo>
                    <a:cubicBezTo>
                      <a:pt x="2805" y="102"/>
                      <a:pt x="2805" y="102"/>
                      <a:pt x="2805" y="102"/>
                    </a:cubicBezTo>
                    <a:cubicBezTo>
                      <a:pt x="2805" y="103"/>
                      <a:pt x="2805" y="103"/>
                      <a:pt x="2805" y="103"/>
                    </a:cubicBezTo>
                    <a:cubicBezTo>
                      <a:pt x="2804" y="113"/>
                      <a:pt x="2804" y="123"/>
                      <a:pt x="2803" y="130"/>
                    </a:cubicBezTo>
                    <a:cubicBezTo>
                      <a:pt x="2803" y="130"/>
                      <a:pt x="2802" y="129"/>
                      <a:pt x="2802" y="128"/>
                    </a:cubicBezTo>
                    <a:cubicBezTo>
                      <a:pt x="2802" y="107"/>
                      <a:pt x="2798" y="69"/>
                      <a:pt x="2795" y="47"/>
                    </a:cubicBezTo>
                    <a:cubicBezTo>
                      <a:pt x="2796" y="64"/>
                      <a:pt x="2795" y="87"/>
                      <a:pt x="2794" y="107"/>
                    </a:cubicBezTo>
                    <a:cubicBezTo>
                      <a:pt x="2793" y="105"/>
                      <a:pt x="2792" y="104"/>
                      <a:pt x="2791" y="102"/>
                    </a:cubicBezTo>
                    <a:cubicBezTo>
                      <a:pt x="2792" y="104"/>
                      <a:pt x="2793" y="106"/>
                      <a:pt x="2793" y="107"/>
                    </a:cubicBezTo>
                    <a:cubicBezTo>
                      <a:pt x="2793" y="114"/>
                      <a:pt x="2793" y="121"/>
                      <a:pt x="2792" y="126"/>
                    </a:cubicBezTo>
                    <a:cubicBezTo>
                      <a:pt x="2792" y="125"/>
                      <a:pt x="2791" y="123"/>
                      <a:pt x="2791" y="122"/>
                    </a:cubicBezTo>
                    <a:cubicBezTo>
                      <a:pt x="2790" y="93"/>
                      <a:pt x="2786" y="46"/>
                      <a:pt x="2786" y="46"/>
                    </a:cubicBezTo>
                    <a:cubicBezTo>
                      <a:pt x="2785" y="65"/>
                      <a:pt x="2779" y="142"/>
                      <a:pt x="2779" y="142"/>
                    </a:cubicBezTo>
                    <a:cubicBezTo>
                      <a:pt x="2773" y="106"/>
                      <a:pt x="2780" y="0"/>
                      <a:pt x="2780" y="0"/>
                    </a:cubicBezTo>
                    <a:cubicBezTo>
                      <a:pt x="2774" y="16"/>
                      <a:pt x="2768" y="131"/>
                      <a:pt x="2768" y="131"/>
                    </a:cubicBezTo>
                    <a:cubicBezTo>
                      <a:pt x="2766" y="36"/>
                      <a:pt x="2762" y="32"/>
                      <a:pt x="2762" y="32"/>
                    </a:cubicBezTo>
                    <a:cubicBezTo>
                      <a:pt x="2764" y="43"/>
                      <a:pt x="2761" y="76"/>
                      <a:pt x="2758" y="103"/>
                    </a:cubicBezTo>
                    <a:cubicBezTo>
                      <a:pt x="2757" y="102"/>
                      <a:pt x="2756" y="100"/>
                      <a:pt x="2755" y="99"/>
                    </a:cubicBezTo>
                    <a:cubicBezTo>
                      <a:pt x="2756" y="101"/>
                      <a:pt x="2757" y="103"/>
                      <a:pt x="2758" y="104"/>
                    </a:cubicBezTo>
                    <a:cubicBezTo>
                      <a:pt x="2757" y="112"/>
                      <a:pt x="2756" y="120"/>
                      <a:pt x="2755" y="126"/>
                    </a:cubicBezTo>
                    <a:cubicBezTo>
                      <a:pt x="2755" y="124"/>
                      <a:pt x="2755" y="123"/>
                      <a:pt x="2755" y="122"/>
                    </a:cubicBezTo>
                    <a:cubicBezTo>
                      <a:pt x="2755" y="94"/>
                      <a:pt x="2754" y="48"/>
                      <a:pt x="2754" y="48"/>
                    </a:cubicBezTo>
                    <a:cubicBezTo>
                      <a:pt x="2753" y="55"/>
                      <a:pt x="2750" y="82"/>
                      <a:pt x="2747" y="106"/>
                    </a:cubicBezTo>
                    <a:cubicBezTo>
                      <a:pt x="2746" y="104"/>
                      <a:pt x="2745" y="102"/>
                      <a:pt x="2745" y="100"/>
                    </a:cubicBezTo>
                    <a:cubicBezTo>
                      <a:pt x="2748" y="60"/>
                      <a:pt x="2752" y="9"/>
                      <a:pt x="2752" y="9"/>
                    </a:cubicBezTo>
                    <a:cubicBezTo>
                      <a:pt x="2747" y="23"/>
                      <a:pt x="2740" y="83"/>
                      <a:pt x="2737" y="117"/>
                    </a:cubicBezTo>
                    <a:cubicBezTo>
                      <a:pt x="2736" y="114"/>
                      <a:pt x="2735" y="111"/>
                      <a:pt x="2734" y="108"/>
                    </a:cubicBezTo>
                    <a:cubicBezTo>
                      <a:pt x="2734" y="90"/>
                      <a:pt x="2732" y="72"/>
                      <a:pt x="2732" y="72"/>
                    </a:cubicBezTo>
                    <a:cubicBezTo>
                      <a:pt x="2732" y="76"/>
                      <a:pt x="2732" y="84"/>
                      <a:pt x="2731" y="94"/>
                    </a:cubicBezTo>
                    <a:cubicBezTo>
                      <a:pt x="2730" y="91"/>
                      <a:pt x="2728" y="88"/>
                      <a:pt x="2727" y="84"/>
                    </a:cubicBezTo>
                    <a:cubicBezTo>
                      <a:pt x="2728" y="88"/>
                      <a:pt x="2730" y="92"/>
                      <a:pt x="2730" y="96"/>
                    </a:cubicBezTo>
                    <a:cubicBezTo>
                      <a:pt x="2730" y="99"/>
                      <a:pt x="2730" y="103"/>
                      <a:pt x="2729" y="107"/>
                    </a:cubicBezTo>
                    <a:cubicBezTo>
                      <a:pt x="2729" y="106"/>
                      <a:pt x="2729" y="106"/>
                      <a:pt x="2729" y="105"/>
                    </a:cubicBezTo>
                    <a:cubicBezTo>
                      <a:pt x="2728" y="107"/>
                      <a:pt x="2728" y="112"/>
                      <a:pt x="2728" y="116"/>
                    </a:cubicBezTo>
                    <a:cubicBezTo>
                      <a:pt x="2727" y="121"/>
                      <a:pt x="2727" y="126"/>
                      <a:pt x="2726" y="130"/>
                    </a:cubicBezTo>
                    <a:cubicBezTo>
                      <a:pt x="2726" y="129"/>
                      <a:pt x="2726" y="128"/>
                      <a:pt x="2726" y="127"/>
                    </a:cubicBezTo>
                    <a:cubicBezTo>
                      <a:pt x="2726" y="101"/>
                      <a:pt x="2721" y="63"/>
                      <a:pt x="2720" y="54"/>
                    </a:cubicBezTo>
                    <a:cubicBezTo>
                      <a:pt x="2720" y="61"/>
                      <a:pt x="2719" y="79"/>
                      <a:pt x="2718" y="96"/>
                    </a:cubicBezTo>
                    <a:cubicBezTo>
                      <a:pt x="2717" y="94"/>
                      <a:pt x="2716" y="92"/>
                      <a:pt x="2715" y="90"/>
                    </a:cubicBezTo>
                    <a:cubicBezTo>
                      <a:pt x="2716" y="93"/>
                      <a:pt x="2717" y="95"/>
                      <a:pt x="2718" y="97"/>
                    </a:cubicBezTo>
                    <a:cubicBezTo>
                      <a:pt x="2716" y="118"/>
                      <a:pt x="2714" y="137"/>
                      <a:pt x="2714" y="137"/>
                    </a:cubicBezTo>
                    <a:cubicBezTo>
                      <a:pt x="2713" y="136"/>
                      <a:pt x="2713" y="134"/>
                      <a:pt x="2713" y="133"/>
                    </a:cubicBezTo>
                    <a:cubicBezTo>
                      <a:pt x="2713" y="125"/>
                      <a:pt x="2713" y="118"/>
                      <a:pt x="2712" y="110"/>
                    </a:cubicBezTo>
                    <a:cubicBezTo>
                      <a:pt x="2711" y="76"/>
                      <a:pt x="2710" y="40"/>
                      <a:pt x="2710" y="40"/>
                    </a:cubicBezTo>
                    <a:cubicBezTo>
                      <a:pt x="2710" y="49"/>
                      <a:pt x="2705" y="79"/>
                      <a:pt x="2701" y="104"/>
                    </a:cubicBezTo>
                    <a:cubicBezTo>
                      <a:pt x="2701" y="99"/>
                      <a:pt x="2700" y="95"/>
                      <a:pt x="2699" y="90"/>
                    </a:cubicBezTo>
                    <a:cubicBezTo>
                      <a:pt x="2700" y="67"/>
                      <a:pt x="2701" y="45"/>
                      <a:pt x="2701" y="45"/>
                    </a:cubicBezTo>
                    <a:cubicBezTo>
                      <a:pt x="2701" y="53"/>
                      <a:pt x="2695" y="75"/>
                      <a:pt x="2688" y="96"/>
                    </a:cubicBezTo>
                    <a:cubicBezTo>
                      <a:pt x="2687" y="93"/>
                      <a:pt x="2686" y="89"/>
                      <a:pt x="2684" y="85"/>
                    </a:cubicBezTo>
                    <a:cubicBezTo>
                      <a:pt x="2691" y="51"/>
                      <a:pt x="2699" y="17"/>
                      <a:pt x="2699" y="17"/>
                    </a:cubicBezTo>
                    <a:cubicBezTo>
                      <a:pt x="2694" y="24"/>
                      <a:pt x="2679" y="95"/>
                      <a:pt x="2672" y="130"/>
                    </a:cubicBezTo>
                    <a:cubicBezTo>
                      <a:pt x="2672" y="130"/>
                      <a:pt x="2672" y="130"/>
                      <a:pt x="2672" y="130"/>
                    </a:cubicBezTo>
                    <a:cubicBezTo>
                      <a:pt x="2676" y="100"/>
                      <a:pt x="2673" y="63"/>
                      <a:pt x="2672" y="52"/>
                    </a:cubicBezTo>
                    <a:cubicBezTo>
                      <a:pt x="2674" y="72"/>
                      <a:pt x="2668" y="109"/>
                      <a:pt x="2664" y="128"/>
                    </a:cubicBezTo>
                    <a:cubicBezTo>
                      <a:pt x="2664" y="126"/>
                      <a:pt x="2664" y="123"/>
                      <a:pt x="2663" y="120"/>
                    </a:cubicBezTo>
                    <a:cubicBezTo>
                      <a:pt x="2665" y="99"/>
                      <a:pt x="2667" y="71"/>
                      <a:pt x="2668" y="65"/>
                    </a:cubicBezTo>
                    <a:cubicBezTo>
                      <a:pt x="2667" y="71"/>
                      <a:pt x="2664" y="89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56" y="125"/>
                      <a:pt x="2653" y="143"/>
                      <a:pt x="2653" y="143"/>
                    </a:cubicBezTo>
                    <a:cubicBezTo>
                      <a:pt x="2663" y="38"/>
                      <a:pt x="2656" y="25"/>
                      <a:pt x="2656" y="25"/>
                    </a:cubicBezTo>
                    <a:cubicBezTo>
                      <a:pt x="2659" y="42"/>
                      <a:pt x="2656" y="72"/>
                      <a:pt x="2651" y="96"/>
                    </a:cubicBezTo>
                    <a:cubicBezTo>
                      <a:pt x="2650" y="89"/>
                      <a:pt x="2648" y="80"/>
                      <a:pt x="2645" y="73"/>
                    </a:cubicBezTo>
                    <a:cubicBezTo>
                      <a:pt x="2644" y="65"/>
                      <a:pt x="2644" y="60"/>
                      <a:pt x="2644" y="60"/>
                    </a:cubicBezTo>
                    <a:cubicBezTo>
                      <a:pt x="2644" y="63"/>
                      <a:pt x="2644" y="67"/>
                      <a:pt x="2643" y="71"/>
                    </a:cubicBezTo>
                    <a:cubicBezTo>
                      <a:pt x="2642" y="69"/>
                      <a:pt x="2641" y="67"/>
                      <a:pt x="2639" y="65"/>
                    </a:cubicBezTo>
                    <a:cubicBezTo>
                      <a:pt x="2641" y="67"/>
                      <a:pt x="2642" y="70"/>
                      <a:pt x="2643" y="73"/>
                    </a:cubicBezTo>
                    <a:cubicBezTo>
                      <a:pt x="2643" y="82"/>
                      <a:pt x="2642" y="92"/>
                      <a:pt x="2640" y="101"/>
                    </a:cubicBezTo>
                    <a:cubicBezTo>
                      <a:pt x="2640" y="95"/>
                      <a:pt x="2637" y="88"/>
                      <a:pt x="2632" y="83"/>
                    </a:cubicBezTo>
                    <a:cubicBezTo>
                      <a:pt x="2632" y="74"/>
                      <a:pt x="2633" y="68"/>
                      <a:pt x="2633" y="68"/>
                    </a:cubicBezTo>
                    <a:cubicBezTo>
                      <a:pt x="2632" y="72"/>
                      <a:pt x="2631" y="76"/>
                      <a:pt x="2630" y="81"/>
                    </a:cubicBezTo>
                    <a:cubicBezTo>
                      <a:pt x="2630" y="81"/>
                      <a:pt x="2629" y="81"/>
                      <a:pt x="2629" y="80"/>
                    </a:cubicBezTo>
                    <a:cubicBezTo>
                      <a:pt x="2629" y="81"/>
                      <a:pt x="2630" y="81"/>
                      <a:pt x="2630" y="82"/>
                    </a:cubicBezTo>
                    <a:cubicBezTo>
                      <a:pt x="2627" y="101"/>
                      <a:pt x="2626" y="130"/>
                      <a:pt x="2626" y="142"/>
                    </a:cubicBezTo>
                    <a:cubicBezTo>
                      <a:pt x="2626" y="143"/>
                      <a:pt x="2625" y="144"/>
                      <a:pt x="2625" y="144"/>
                    </a:cubicBezTo>
                    <a:cubicBezTo>
                      <a:pt x="2624" y="141"/>
                      <a:pt x="2624" y="136"/>
                      <a:pt x="2624" y="131"/>
                    </a:cubicBezTo>
                    <a:cubicBezTo>
                      <a:pt x="2625" y="121"/>
                      <a:pt x="2627" y="112"/>
                      <a:pt x="2628" y="103"/>
                    </a:cubicBezTo>
                    <a:cubicBezTo>
                      <a:pt x="2627" y="108"/>
                      <a:pt x="2626" y="112"/>
                      <a:pt x="2625" y="117"/>
                    </a:cubicBezTo>
                    <a:cubicBezTo>
                      <a:pt x="2626" y="85"/>
                      <a:pt x="2632" y="45"/>
                      <a:pt x="2632" y="45"/>
                    </a:cubicBezTo>
                    <a:cubicBezTo>
                      <a:pt x="2625" y="60"/>
                      <a:pt x="2620" y="95"/>
                      <a:pt x="2618" y="120"/>
                    </a:cubicBezTo>
                    <a:cubicBezTo>
                      <a:pt x="2618" y="123"/>
                      <a:pt x="2617" y="125"/>
                      <a:pt x="2616" y="127"/>
                    </a:cubicBezTo>
                    <a:cubicBezTo>
                      <a:pt x="2616" y="103"/>
                      <a:pt x="2615" y="70"/>
                      <a:pt x="2615" y="70"/>
                    </a:cubicBezTo>
                    <a:cubicBezTo>
                      <a:pt x="2615" y="72"/>
                      <a:pt x="2615" y="76"/>
                      <a:pt x="2614" y="81"/>
                    </a:cubicBezTo>
                    <a:cubicBezTo>
                      <a:pt x="2613" y="73"/>
                      <a:pt x="2611" y="66"/>
                      <a:pt x="2608" y="60"/>
                    </a:cubicBezTo>
                    <a:cubicBezTo>
                      <a:pt x="2609" y="52"/>
                      <a:pt x="2609" y="46"/>
                      <a:pt x="2609" y="46"/>
                    </a:cubicBezTo>
                    <a:cubicBezTo>
                      <a:pt x="2607" y="51"/>
                      <a:pt x="2605" y="64"/>
                      <a:pt x="2604" y="79"/>
                    </a:cubicBezTo>
                    <a:cubicBezTo>
                      <a:pt x="2603" y="77"/>
                      <a:pt x="2603" y="75"/>
                      <a:pt x="2602" y="74"/>
                    </a:cubicBezTo>
                    <a:cubicBezTo>
                      <a:pt x="2601" y="83"/>
                      <a:pt x="2601" y="92"/>
                      <a:pt x="2601" y="102"/>
                    </a:cubicBezTo>
                    <a:cubicBezTo>
                      <a:pt x="2601" y="108"/>
                      <a:pt x="2600" y="115"/>
                      <a:pt x="2599" y="121"/>
                    </a:cubicBezTo>
                    <a:cubicBezTo>
                      <a:pt x="2599" y="123"/>
                      <a:pt x="2599" y="125"/>
                      <a:pt x="2598" y="127"/>
                    </a:cubicBezTo>
                    <a:cubicBezTo>
                      <a:pt x="2598" y="35"/>
                      <a:pt x="2596" y="34"/>
                      <a:pt x="2596" y="34"/>
                    </a:cubicBezTo>
                    <a:cubicBezTo>
                      <a:pt x="2598" y="49"/>
                      <a:pt x="2594" y="77"/>
                      <a:pt x="2590" y="102"/>
                    </a:cubicBezTo>
                    <a:cubicBezTo>
                      <a:pt x="2589" y="94"/>
                      <a:pt x="2587" y="85"/>
                      <a:pt x="2583" y="76"/>
                    </a:cubicBezTo>
                    <a:cubicBezTo>
                      <a:pt x="2584" y="70"/>
                      <a:pt x="2584" y="66"/>
                      <a:pt x="2584" y="66"/>
                    </a:cubicBezTo>
                    <a:cubicBezTo>
                      <a:pt x="2584" y="68"/>
                      <a:pt x="2583" y="71"/>
                      <a:pt x="2582" y="74"/>
                    </a:cubicBezTo>
                    <a:cubicBezTo>
                      <a:pt x="2582" y="73"/>
                      <a:pt x="2581" y="72"/>
                      <a:pt x="2580" y="71"/>
                    </a:cubicBezTo>
                    <a:cubicBezTo>
                      <a:pt x="2581" y="73"/>
                      <a:pt x="2581" y="74"/>
                      <a:pt x="2582" y="76"/>
                    </a:cubicBezTo>
                    <a:cubicBezTo>
                      <a:pt x="2580" y="83"/>
                      <a:pt x="2578" y="93"/>
                      <a:pt x="2577" y="103"/>
                    </a:cubicBezTo>
                    <a:cubicBezTo>
                      <a:pt x="2576" y="98"/>
                      <a:pt x="2575" y="94"/>
                      <a:pt x="2574" y="89"/>
                    </a:cubicBezTo>
                    <a:cubicBezTo>
                      <a:pt x="2575" y="96"/>
                      <a:pt x="2573" y="104"/>
                      <a:pt x="2571" y="112"/>
                    </a:cubicBezTo>
                    <a:cubicBezTo>
                      <a:pt x="2571" y="92"/>
                      <a:pt x="2570" y="70"/>
                      <a:pt x="2569" y="62"/>
                    </a:cubicBezTo>
                    <a:cubicBezTo>
                      <a:pt x="2569" y="67"/>
                      <a:pt x="2569" y="74"/>
                      <a:pt x="2569" y="82"/>
                    </a:cubicBezTo>
                    <a:cubicBezTo>
                      <a:pt x="2567" y="87"/>
                      <a:pt x="2564" y="94"/>
                      <a:pt x="2562" y="101"/>
                    </a:cubicBezTo>
                    <a:cubicBezTo>
                      <a:pt x="2562" y="91"/>
                      <a:pt x="2562" y="82"/>
                      <a:pt x="2562" y="75"/>
                    </a:cubicBezTo>
                    <a:cubicBezTo>
                      <a:pt x="2561" y="86"/>
                      <a:pt x="2559" y="102"/>
                      <a:pt x="2557" y="116"/>
                    </a:cubicBezTo>
                    <a:cubicBezTo>
                      <a:pt x="2555" y="123"/>
                      <a:pt x="2553" y="130"/>
                      <a:pt x="2551" y="136"/>
                    </a:cubicBezTo>
                    <a:cubicBezTo>
                      <a:pt x="2551" y="118"/>
                      <a:pt x="2554" y="89"/>
                      <a:pt x="2554" y="89"/>
                    </a:cubicBezTo>
                    <a:cubicBezTo>
                      <a:pt x="2553" y="93"/>
                      <a:pt x="2552" y="99"/>
                      <a:pt x="2549" y="106"/>
                    </a:cubicBezTo>
                    <a:cubicBezTo>
                      <a:pt x="2549" y="104"/>
                      <a:pt x="2549" y="101"/>
                      <a:pt x="2548" y="99"/>
                    </a:cubicBezTo>
                    <a:cubicBezTo>
                      <a:pt x="2548" y="96"/>
                      <a:pt x="2548" y="96"/>
                      <a:pt x="2548" y="96"/>
                    </a:cubicBezTo>
                    <a:cubicBezTo>
                      <a:pt x="2547" y="95"/>
                      <a:pt x="2547" y="95"/>
                      <a:pt x="2547" y="95"/>
                    </a:cubicBezTo>
                    <a:cubicBezTo>
                      <a:pt x="2547" y="104"/>
                      <a:pt x="2545" y="113"/>
                      <a:pt x="2543" y="122"/>
                    </a:cubicBezTo>
                    <a:cubicBezTo>
                      <a:pt x="2541" y="127"/>
                      <a:pt x="2540" y="131"/>
                      <a:pt x="2538" y="134"/>
                    </a:cubicBezTo>
                    <a:cubicBezTo>
                      <a:pt x="2538" y="130"/>
                      <a:pt x="2538" y="126"/>
                      <a:pt x="2538" y="122"/>
                    </a:cubicBezTo>
                    <a:cubicBezTo>
                      <a:pt x="2542" y="102"/>
                      <a:pt x="2549" y="76"/>
                      <a:pt x="2549" y="76"/>
                    </a:cubicBezTo>
                    <a:cubicBezTo>
                      <a:pt x="2544" y="82"/>
                      <a:pt x="2539" y="94"/>
                      <a:pt x="2535" y="105"/>
                    </a:cubicBezTo>
                    <a:cubicBezTo>
                      <a:pt x="2535" y="102"/>
                      <a:pt x="2534" y="98"/>
                      <a:pt x="2532" y="95"/>
                    </a:cubicBezTo>
                    <a:cubicBezTo>
                      <a:pt x="2533" y="74"/>
                      <a:pt x="2529" y="62"/>
                      <a:pt x="2529" y="62"/>
                    </a:cubicBezTo>
                    <a:cubicBezTo>
                      <a:pt x="2531" y="69"/>
                      <a:pt x="2531" y="78"/>
                      <a:pt x="2530" y="88"/>
                    </a:cubicBezTo>
                    <a:cubicBezTo>
                      <a:pt x="2527" y="83"/>
                      <a:pt x="2524" y="78"/>
                      <a:pt x="2520" y="73"/>
                    </a:cubicBezTo>
                    <a:cubicBezTo>
                      <a:pt x="2524" y="80"/>
                      <a:pt x="2527" y="92"/>
                      <a:pt x="2528" y="102"/>
                    </a:cubicBezTo>
                    <a:cubicBezTo>
                      <a:pt x="2527" y="108"/>
                      <a:pt x="2526" y="115"/>
                      <a:pt x="2525" y="120"/>
                    </a:cubicBezTo>
                    <a:cubicBezTo>
                      <a:pt x="2524" y="113"/>
                      <a:pt x="2523" y="106"/>
                      <a:pt x="2521" y="100"/>
                    </a:cubicBezTo>
                    <a:cubicBezTo>
                      <a:pt x="2522" y="89"/>
                      <a:pt x="2522" y="82"/>
                      <a:pt x="2522" y="82"/>
                    </a:cubicBezTo>
                    <a:cubicBezTo>
                      <a:pt x="2521" y="98"/>
                      <a:pt x="2521" y="98"/>
                      <a:pt x="2521" y="98"/>
                    </a:cubicBezTo>
                    <a:cubicBezTo>
                      <a:pt x="2520" y="94"/>
                      <a:pt x="2519" y="91"/>
                      <a:pt x="2517" y="88"/>
                    </a:cubicBezTo>
                    <a:cubicBezTo>
                      <a:pt x="2517" y="73"/>
                      <a:pt x="2516" y="60"/>
                      <a:pt x="2516" y="60"/>
                    </a:cubicBezTo>
                    <a:cubicBezTo>
                      <a:pt x="2516" y="72"/>
                      <a:pt x="2513" y="90"/>
                      <a:pt x="2513" y="90"/>
                    </a:cubicBezTo>
                    <a:cubicBezTo>
                      <a:pt x="2511" y="84"/>
                      <a:pt x="2511" y="64"/>
                      <a:pt x="2511" y="64"/>
                    </a:cubicBezTo>
                    <a:cubicBezTo>
                      <a:pt x="2511" y="68"/>
                      <a:pt x="2510" y="83"/>
                      <a:pt x="2508" y="98"/>
                    </a:cubicBezTo>
                    <a:cubicBezTo>
                      <a:pt x="2508" y="96"/>
                      <a:pt x="2507" y="95"/>
                      <a:pt x="2507" y="93"/>
                    </a:cubicBezTo>
                    <a:cubicBezTo>
                      <a:pt x="2506" y="88"/>
                      <a:pt x="2504" y="82"/>
                      <a:pt x="2502" y="76"/>
                    </a:cubicBezTo>
                    <a:cubicBezTo>
                      <a:pt x="2502" y="57"/>
                      <a:pt x="2502" y="42"/>
                      <a:pt x="2502" y="42"/>
                    </a:cubicBezTo>
                    <a:cubicBezTo>
                      <a:pt x="2502" y="49"/>
                      <a:pt x="2502" y="59"/>
                      <a:pt x="2501" y="70"/>
                    </a:cubicBezTo>
                    <a:cubicBezTo>
                      <a:pt x="2498" y="64"/>
                      <a:pt x="2496" y="57"/>
                      <a:pt x="2493" y="51"/>
                    </a:cubicBezTo>
                    <a:cubicBezTo>
                      <a:pt x="2492" y="52"/>
                      <a:pt x="2492" y="54"/>
                      <a:pt x="2492" y="55"/>
                    </a:cubicBezTo>
                    <a:cubicBezTo>
                      <a:pt x="2496" y="65"/>
                      <a:pt x="2498" y="74"/>
                      <a:pt x="2499" y="82"/>
                    </a:cubicBezTo>
                    <a:cubicBezTo>
                      <a:pt x="2499" y="88"/>
                      <a:pt x="2498" y="94"/>
                      <a:pt x="2497" y="100"/>
                    </a:cubicBezTo>
                    <a:cubicBezTo>
                      <a:pt x="2496" y="96"/>
                      <a:pt x="2495" y="92"/>
                      <a:pt x="2494" y="88"/>
                    </a:cubicBezTo>
                    <a:cubicBezTo>
                      <a:pt x="2495" y="78"/>
                      <a:pt x="2496" y="70"/>
                      <a:pt x="2496" y="70"/>
                    </a:cubicBezTo>
                    <a:cubicBezTo>
                      <a:pt x="2495" y="72"/>
                      <a:pt x="2494" y="78"/>
                      <a:pt x="2493" y="85"/>
                    </a:cubicBezTo>
                    <a:cubicBezTo>
                      <a:pt x="2491" y="82"/>
                      <a:pt x="2489" y="79"/>
                      <a:pt x="2487" y="76"/>
                    </a:cubicBezTo>
                    <a:cubicBezTo>
                      <a:pt x="2486" y="71"/>
                      <a:pt x="2486" y="66"/>
                      <a:pt x="2486" y="61"/>
                    </a:cubicBezTo>
                    <a:cubicBezTo>
                      <a:pt x="2485" y="73"/>
                      <a:pt x="2483" y="87"/>
                      <a:pt x="2481" y="101"/>
                    </a:cubicBezTo>
                    <a:cubicBezTo>
                      <a:pt x="2479" y="95"/>
                      <a:pt x="2477" y="90"/>
                      <a:pt x="2475" y="86"/>
                    </a:cubicBezTo>
                    <a:cubicBezTo>
                      <a:pt x="2476" y="73"/>
                      <a:pt x="2476" y="64"/>
                      <a:pt x="2476" y="64"/>
                    </a:cubicBezTo>
                    <a:cubicBezTo>
                      <a:pt x="2476" y="71"/>
                      <a:pt x="2474" y="82"/>
                      <a:pt x="2472" y="95"/>
                    </a:cubicBezTo>
                    <a:cubicBezTo>
                      <a:pt x="2470" y="87"/>
                      <a:pt x="2468" y="79"/>
                      <a:pt x="2464" y="71"/>
                    </a:cubicBezTo>
                    <a:cubicBezTo>
                      <a:pt x="2466" y="49"/>
                      <a:pt x="2467" y="30"/>
                      <a:pt x="2467" y="30"/>
                    </a:cubicBezTo>
                    <a:cubicBezTo>
                      <a:pt x="2465" y="35"/>
                      <a:pt x="2463" y="49"/>
                      <a:pt x="2461" y="65"/>
                    </a:cubicBezTo>
                    <a:cubicBezTo>
                      <a:pt x="2460" y="62"/>
                      <a:pt x="2458" y="59"/>
                      <a:pt x="2456" y="56"/>
                    </a:cubicBezTo>
                    <a:cubicBezTo>
                      <a:pt x="2456" y="63"/>
                      <a:pt x="2458" y="70"/>
                      <a:pt x="2460" y="78"/>
                    </a:cubicBezTo>
                    <a:cubicBezTo>
                      <a:pt x="2459" y="87"/>
                      <a:pt x="2458" y="97"/>
                      <a:pt x="2457" y="106"/>
                    </a:cubicBezTo>
                    <a:cubicBezTo>
                      <a:pt x="2457" y="105"/>
                      <a:pt x="2457" y="104"/>
                      <a:pt x="2456" y="103"/>
                    </a:cubicBezTo>
                    <a:cubicBezTo>
                      <a:pt x="2457" y="104"/>
                      <a:pt x="2457" y="106"/>
                      <a:pt x="2457" y="109"/>
                    </a:cubicBezTo>
                    <a:cubicBezTo>
                      <a:pt x="2456" y="120"/>
                      <a:pt x="2455" y="131"/>
                      <a:pt x="2455" y="138"/>
                    </a:cubicBezTo>
                    <a:cubicBezTo>
                      <a:pt x="2455" y="137"/>
                      <a:pt x="2454" y="135"/>
                      <a:pt x="2454" y="134"/>
                    </a:cubicBezTo>
                    <a:cubicBezTo>
                      <a:pt x="2453" y="99"/>
                      <a:pt x="2448" y="41"/>
                      <a:pt x="2448" y="41"/>
                    </a:cubicBezTo>
                    <a:cubicBezTo>
                      <a:pt x="2449" y="58"/>
                      <a:pt x="2448" y="86"/>
                      <a:pt x="2446" y="108"/>
                    </a:cubicBezTo>
                    <a:cubicBezTo>
                      <a:pt x="2444" y="105"/>
                      <a:pt x="2443" y="102"/>
                      <a:pt x="2441" y="99"/>
                    </a:cubicBezTo>
                    <a:cubicBezTo>
                      <a:pt x="2441" y="86"/>
                      <a:pt x="2441" y="73"/>
                      <a:pt x="2441" y="67"/>
                    </a:cubicBezTo>
                    <a:cubicBezTo>
                      <a:pt x="2441" y="75"/>
                      <a:pt x="2440" y="85"/>
                      <a:pt x="2439" y="94"/>
                    </a:cubicBezTo>
                    <a:cubicBezTo>
                      <a:pt x="2438" y="92"/>
                      <a:pt x="2437" y="91"/>
                      <a:pt x="2436" y="89"/>
                    </a:cubicBezTo>
                    <a:cubicBezTo>
                      <a:pt x="2437" y="91"/>
                      <a:pt x="2438" y="94"/>
                      <a:pt x="2438" y="97"/>
                    </a:cubicBezTo>
                    <a:cubicBezTo>
                      <a:pt x="2437" y="104"/>
                      <a:pt x="2436" y="110"/>
                      <a:pt x="2434" y="116"/>
                    </a:cubicBezTo>
                    <a:cubicBezTo>
                      <a:pt x="2433" y="110"/>
                      <a:pt x="2432" y="105"/>
                      <a:pt x="2430" y="101"/>
                    </a:cubicBezTo>
                    <a:cubicBezTo>
                      <a:pt x="2431" y="91"/>
                      <a:pt x="2432" y="83"/>
                      <a:pt x="2432" y="83"/>
                    </a:cubicBezTo>
                    <a:cubicBezTo>
                      <a:pt x="2432" y="86"/>
                      <a:pt x="2431" y="92"/>
                      <a:pt x="2429" y="98"/>
                    </a:cubicBezTo>
                    <a:cubicBezTo>
                      <a:pt x="2428" y="94"/>
                      <a:pt x="2427" y="91"/>
                      <a:pt x="2426" y="89"/>
                    </a:cubicBezTo>
                    <a:cubicBezTo>
                      <a:pt x="2427" y="74"/>
                      <a:pt x="2428" y="62"/>
                      <a:pt x="2428" y="62"/>
                    </a:cubicBezTo>
                    <a:cubicBezTo>
                      <a:pt x="2427" y="65"/>
                      <a:pt x="2426" y="75"/>
                      <a:pt x="2424" y="87"/>
                    </a:cubicBezTo>
                    <a:cubicBezTo>
                      <a:pt x="2422" y="83"/>
                      <a:pt x="2420" y="81"/>
                      <a:pt x="2417" y="78"/>
                    </a:cubicBezTo>
                    <a:cubicBezTo>
                      <a:pt x="2420" y="81"/>
                      <a:pt x="2422" y="84"/>
                      <a:pt x="2424" y="89"/>
                    </a:cubicBezTo>
                    <a:cubicBezTo>
                      <a:pt x="2423" y="96"/>
                      <a:pt x="2422" y="105"/>
                      <a:pt x="2421" y="113"/>
                    </a:cubicBezTo>
                    <a:cubicBezTo>
                      <a:pt x="2420" y="108"/>
                      <a:pt x="2419" y="104"/>
                      <a:pt x="2417" y="100"/>
                    </a:cubicBezTo>
                    <a:cubicBezTo>
                      <a:pt x="2416" y="86"/>
                      <a:pt x="2414" y="74"/>
                      <a:pt x="2413" y="68"/>
                    </a:cubicBezTo>
                    <a:cubicBezTo>
                      <a:pt x="2413" y="71"/>
                      <a:pt x="2414" y="76"/>
                      <a:pt x="2413" y="86"/>
                    </a:cubicBezTo>
                    <a:cubicBezTo>
                      <a:pt x="2413" y="87"/>
                      <a:pt x="2413" y="88"/>
                      <a:pt x="2413" y="90"/>
                    </a:cubicBezTo>
                    <a:cubicBezTo>
                      <a:pt x="2412" y="87"/>
                      <a:pt x="2410" y="84"/>
                      <a:pt x="2408" y="81"/>
                    </a:cubicBezTo>
                    <a:cubicBezTo>
                      <a:pt x="2411" y="85"/>
                      <a:pt x="2412" y="91"/>
                      <a:pt x="2412" y="96"/>
                    </a:cubicBezTo>
                    <a:cubicBezTo>
                      <a:pt x="2411" y="105"/>
                      <a:pt x="2409" y="115"/>
                      <a:pt x="2407" y="124"/>
                    </a:cubicBezTo>
                    <a:cubicBezTo>
                      <a:pt x="2407" y="113"/>
                      <a:pt x="2406" y="102"/>
                      <a:pt x="2404" y="91"/>
                    </a:cubicBezTo>
                    <a:cubicBezTo>
                      <a:pt x="2404" y="77"/>
                      <a:pt x="2404" y="77"/>
                      <a:pt x="2404" y="77"/>
                    </a:cubicBezTo>
                    <a:cubicBezTo>
                      <a:pt x="2407" y="35"/>
                      <a:pt x="2400" y="19"/>
                      <a:pt x="2400" y="19"/>
                    </a:cubicBezTo>
                    <a:cubicBezTo>
                      <a:pt x="2400" y="19"/>
                      <a:pt x="2403" y="31"/>
                      <a:pt x="2402" y="54"/>
                    </a:cubicBezTo>
                    <a:cubicBezTo>
                      <a:pt x="2401" y="59"/>
                      <a:pt x="2401" y="68"/>
                      <a:pt x="2400" y="78"/>
                    </a:cubicBezTo>
                    <a:cubicBezTo>
                      <a:pt x="2397" y="72"/>
                      <a:pt x="2394" y="66"/>
                      <a:pt x="2390" y="60"/>
                    </a:cubicBezTo>
                    <a:cubicBezTo>
                      <a:pt x="2390" y="61"/>
                      <a:pt x="2390" y="61"/>
                      <a:pt x="2390" y="61"/>
                    </a:cubicBezTo>
                    <a:cubicBezTo>
                      <a:pt x="2390" y="62"/>
                      <a:pt x="2390" y="63"/>
                      <a:pt x="2390" y="64"/>
                    </a:cubicBezTo>
                    <a:cubicBezTo>
                      <a:pt x="2388" y="44"/>
                      <a:pt x="2381" y="40"/>
                      <a:pt x="2381" y="40"/>
                    </a:cubicBezTo>
                    <a:cubicBezTo>
                      <a:pt x="2381" y="40"/>
                      <a:pt x="2387" y="44"/>
                      <a:pt x="2387" y="70"/>
                    </a:cubicBezTo>
                    <a:cubicBezTo>
                      <a:pt x="2387" y="76"/>
                      <a:pt x="2386" y="85"/>
                      <a:pt x="2384" y="94"/>
                    </a:cubicBezTo>
                    <a:cubicBezTo>
                      <a:pt x="2382" y="90"/>
                      <a:pt x="2379" y="86"/>
                      <a:pt x="2376" y="83"/>
                    </a:cubicBezTo>
                    <a:cubicBezTo>
                      <a:pt x="2379" y="87"/>
                      <a:pt x="2382" y="92"/>
                      <a:pt x="2384" y="97"/>
                    </a:cubicBezTo>
                    <a:cubicBezTo>
                      <a:pt x="2383" y="100"/>
                      <a:pt x="2383" y="103"/>
                      <a:pt x="2382" y="106"/>
                    </a:cubicBezTo>
                    <a:cubicBezTo>
                      <a:pt x="2381" y="104"/>
                      <a:pt x="2381" y="102"/>
                      <a:pt x="2380" y="100"/>
                    </a:cubicBezTo>
                    <a:cubicBezTo>
                      <a:pt x="2381" y="102"/>
                      <a:pt x="2381" y="105"/>
                      <a:pt x="2382" y="108"/>
                    </a:cubicBezTo>
                    <a:cubicBezTo>
                      <a:pt x="2381" y="111"/>
                      <a:pt x="2380" y="114"/>
                      <a:pt x="2379" y="117"/>
                    </a:cubicBezTo>
                    <a:cubicBezTo>
                      <a:pt x="2378" y="113"/>
                      <a:pt x="2376" y="108"/>
                      <a:pt x="2374" y="104"/>
                    </a:cubicBezTo>
                    <a:cubicBezTo>
                      <a:pt x="2375" y="87"/>
                      <a:pt x="2376" y="71"/>
                      <a:pt x="2376" y="71"/>
                    </a:cubicBezTo>
                    <a:cubicBezTo>
                      <a:pt x="2375" y="73"/>
                      <a:pt x="2373" y="84"/>
                      <a:pt x="2371" y="97"/>
                    </a:cubicBezTo>
                    <a:cubicBezTo>
                      <a:pt x="2370" y="95"/>
                      <a:pt x="2369" y="93"/>
                      <a:pt x="2368" y="92"/>
                    </a:cubicBezTo>
                    <a:cubicBezTo>
                      <a:pt x="2369" y="81"/>
                      <a:pt x="2370" y="72"/>
                      <a:pt x="2371" y="66"/>
                    </a:cubicBezTo>
                    <a:cubicBezTo>
                      <a:pt x="2370" y="73"/>
                      <a:pt x="2369" y="81"/>
                      <a:pt x="2367" y="90"/>
                    </a:cubicBezTo>
                    <a:cubicBezTo>
                      <a:pt x="2366" y="88"/>
                      <a:pt x="2364" y="86"/>
                      <a:pt x="2362" y="83"/>
                    </a:cubicBezTo>
                    <a:cubicBezTo>
                      <a:pt x="2366" y="26"/>
                      <a:pt x="2364" y="12"/>
                      <a:pt x="2364" y="12"/>
                    </a:cubicBezTo>
                    <a:cubicBezTo>
                      <a:pt x="2364" y="12"/>
                      <a:pt x="2364" y="18"/>
                      <a:pt x="2361" y="56"/>
                    </a:cubicBezTo>
                    <a:cubicBezTo>
                      <a:pt x="2360" y="64"/>
                      <a:pt x="2359" y="71"/>
                      <a:pt x="2358" y="78"/>
                    </a:cubicBezTo>
                    <a:cubicBezTo>
                      <a:pt x="2356" y="76"/>
                      <a:pt x="2353" y="73"/>
                      <a:pt x="2351" y="71"/>
                    </a:cubicBezTo>
                    <a:cubicBezTo>
                      <a:pt x="2352" y="48"/>
                      <a:pt x="2353" y="31"/>
                      <a:pt x="2353" y="31"/>
                    </a:cubicBezTo>
                    <a:cubicBezTo>
                      <a:pt x="2351" y="37"/>
                      <a:pt x="2349" y="52"/>
                      <a:pt x="2348" y="68"/>
                    </a:cubicBezTo>
                    <a:cubicBezTo>
                      <a:pt x="2346" y="66"/>
                      <a:pt x="2344" y="65"/>
                      <a:pt x="2342" y="63"/>
                    </a:cubicBezTo>
                    <a:cubicBezTo>
                      <a:pt x="2344" y="65"/>
                      <a:pt x="2346" y="67"/>
                      <a:pt x="2348" y="69"/>
                    </a:cubicBezTo>
                    <a:cubicBezTo>
                      <a:pt x="2347" y="82"/>
                      <a:pt x="2347" y="96"/>
                      <a:pt x="2346" y="109"/>
                    </a:cubicBezTo>
                    <a:cubicBezTo>
                      <a:pt x="2345" y="104"/>
                      <a:pt x="2343" y="99"/>
                      <a:pt x="2342" y="96"/>
                    </a:cubicBezTo>
                    <a:cubicBezTo>
                      <a:pt x="2343" y="104"/>
                      <a:pt x="2344" y="112"/>
                      <a:pt x="2346" y="120"/>
                    </a:cubicBezTo>
                    <a:cubicBezTo>
                      <a:pt x="2346" y="123"/>
                      <a:pt x="2346" y="126"/>
                      <a:pt x="2346" y="128"/>
                    </a:cubicBezTo>
                    <a:cubicBezTo>
                      <a:pt x="2345" y="125"/>
                      <a:pt x="2343" y="122"/>
                      <a:pt x="2342" y="118"/>
                    </a:cubicBezTo>
                    <a:cubicBezTo>
                      <a:pt x="2337" y="80"/>
                      <a:pt x="2330" y="28"/>
                      <a:pt x="2330" y="28"/>
                    </a:cubicBezTo>
                    <a:cubicBezTo>
                      <a:pt x="2330" y="39"/>
                      <a:pt x="2328" y="72"/>
                      <a:pt x="2326" y="100"/>
                    </a:cubicBezTo>
                    <a:cubicBezTo>
                      <a:pt x="2326" y="98"/>
                      <a:pt x="2325" y="97"/>
                      <a:pt x="2324" y="96"/>
                    </a:cubicBezTo>
                    <a:cubicBezTo>
                      <a:pt x="2325" y="97"/>
                      <a:pt x="2326" y="99"/>
                      <a:pt x="2326" y="100"/>
                    </a:cubicBezTo>
                    <a:cubicBezTo>
                      <a:pt x="2326" y="110"/>
                      <a:pt x="2325" y="120"/>
                      <a:pt x="2324" y="128"/>
                    </a:cubicBezTo>
                    <a:cubicBezTo>
                      <a:pt x="2324" y="128"/>
                      <a:pt x="2324" y="127"/>
                      <a:pt x="2324" y="127"/>
                    </a:cubicBezTo>
                    <a:cubicBezTo>
                      <a:pt x="2324" y="109"/>
                      <a:pt x="2322" y="87"/>
                      <a:pt x="2321" y="71"/>
                    </a:cubicBezTo>
                    <a:cubicBezTo>
                      <a:pt x="2322" y="68"/>
                      <a:pt x="2323" y="66"/>
                      <a:pt x="2324" y="64"/>
                    </a:cubicBezTo>
                    <a:cubicBezTo>
                      <a:pt x="2323" y="65"/>
                      <a:pt x="2322" y="67"/>
                      <a:pt x="2320" y="69"/>
                    </a:cubicBezTo>
                    <a:cubicBezTo>
                      <a:pt x="2320" y="61"/>
                      <a:pt x="2319" y="55"/>
                      <a:pt x="2319" y="53"/>
                    </a:cubicBezTo>
                    <a:cubicBezTo>
                      <a:pt x="2319" y="52"/>
                      <a:pt x="2320" y="52"/>
                      <a:pt x="2320" y="51"/>
                    </a:cubicBezTo>
                    <a:cubicBezTo>
                      <a:pt x="2320" y="51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7" y="54"/>
                      <a:pt x="2315" y="56"/>
                      <a:pt x="2313" y="57"/>
                    </a:cubicBezTo>
                    <a:cubicBezTo>
                      <a:pt x="2314" y="54"/>
                      <a:pt x="2314" y="52"/>
                      <a:pt x="2314" y="50"/>
                    </a:cubicBezTo>
                    <a:cubicBezTo>
                      <a:pt x="2318" y="46"/>
                      <a:pt x="2321" y="42"/>
                      <a:pt x="2325" y="38"/>
                    </a:cubicBezTo>
                    <a:cubicBezTo>
                      <a:pt x="2321" y="41"/>
                      <a:pt x="2318" y="44"/>
                      <a:pt x="2315" y="47"/>
                    </a:cubicBezTo>
                    <a:cubicBezTo>
                      <a:pt x="2315" y="43"/>
                      <a:pt x="2316" y="40"/>
                      <a:pt x="2316" y="40"/>
                    </a:cubicBezTo>
                    <a:cubicBezTo>
                      <a:pt x="2315" y="43"/>
                      <a:pt x="2313" y="46"/>
                      <a:pt x="2312" y="50"/>
                    </a:cubicBezTo>
                    <a:cubicBezTo>
                      <a:pt x="2305" y="58"/>
                      <a:pt x="2300" y="66"/>
                      <a:pt x="2296" y="75"/>
                    </a:cubicBezTo>
                    <a:cubicBezTo>
                      <a:pt x="2295" y="70"/>
                      <a:pt x="2295" y="66"/>
                      <a:pt x="2295" y="63"/>
                    </a:cubicBezTo>
                    <a:cubicBezTo>
                      <a:pt x="2298" y="57"/>
                      <a:pt x="2301" y="50"/>
                      <a:pt x="2305" y="42"/>
                    </a:cubicBezTo>
                    <a:cubicBezTo>
                      <a:pt x="2296" y="52"/>
                      <a:pt x="2290" y="61"/>
                      <a:pt x="2286" y="71"/>
                    </a:cubicBezTo>
                    <a:cubicBezTo>
                      <a:pt x="2285" y="70"/>
                      <a:pt x="2284" y="70"/>
                      <a:pt x="2284" y="69"/>
                    </a:cubicBezTo>
                    <a:cubicBezTo>
                      <a:pt x="2284" y="68"/>
                      <a:pt x="2284" y="67"/>
                      <a:pt x="2283" y="65"/>
                    </a:cubicBezTo>
                    <a:cubicBezTo>
                      <a:pt x="2290" y="53"/>
                      <a:pt x="2298" y="41"/>
                      <a:pt x="2309" y="25"/>
                    </a:cubicBezTo>
                    <a:cubicBezTo>
                      <a:pt x="2298" y="40"/>
                      <a:pt x="2290" y="51"/>
                      <a:pt x="2283" y="63"/>
                    </a:cubicBezTo>
                    <a:cubicBezTo>
                      <a:pt x="2281" y="45"/>
                      <a:pt x="2279" y="30"/>
                      <a:pt x="2279" y="30"/>
                    </a:cubicBezTo>
                    <a:cubicBezTo>
                      <a:pt x="2280" y="35"/>
                      <a:pt x="2280" y="49"/>
                      <a:pt x="2280" y="65"/>
                    </a:cubicBezTo>
                    <a:cubicBezTo>
                      <a:pt x="2280" y="65"/>
                      <a:pt x="2279" y="65"/>
                      <a:pt x="2279" y="65"/>
                    </a:cubicBezTo>
                    <a:cubicBezTo>
                      <a:pt x="2279" y="65"/>
                      <a:pt x="2280" y="65"/>
                      <a:pt x="2280" y="65"/>
                    </a:cubicBezTo>
                    <a:cubicBezTo>
                      <a:pt x="2280" y="67"/>
                      <a:pt x="2280" y="69"/>
                      <a:pt x="2279" y="71"/>
                    </a:cubicBezTo>
                    <a:cubicBezTo>
                      <a:pt x="2278" y="74"/>
                      <a:pt x="2277" y="78"/>
                      <a:pt x="2276" y="81"/>
                    </a:cubicBezTo>
                    <a:cubicBezTo>
                      <a:pt x="2277" y="78"/>
                      <a:pt x="2278" y="76"/>
                      <a:pt x="2279" y="73"/>
                    </a:cubicBezTo>
                    <a:cubicBezTo>
                      <a:pt x="2279" y="79"/>
                      <a:pt x="2279" y="85"/>
                      <a:pt x="2279" y="91"/>
                    </a:cubicBezTo>
                    <a:cubicBezTo>
                      <a:pt x="2278" y="93"/>
                      <a:pt x="2278" y="95"/>
                      <a:pt x="2278" y="97"/>
                    </a:cubicBezTo>
                    <a:cubicBezTo>
                      <a:pt x="2277" y="96"/>
                      <a:pt x="2276" y="95"/>
                      <a:pt x="2276" y="94"/>
                    </a:cubicBezTo>
                    <a:cubicBezTo>
                      <a:pt x="2275" y="91"/>
                      <a:pt x="2275" y="88"/>
                      <a:pt x="2275" y="85"/>
                    </a:cubicBezTo>
                    <a:cubicBezTo>
                      <a:pt x="2275" y="83"/>
                      <a:pt x="2276" y="82"/>
                      <a:pt x="2276" y="81"/>
                    </a:cubicBezTo>
                    <a:cubicBezTo>
                      <a:pt x="2276" y="82"/>
                      <a:pt x="2275" y="83"/>
                      <a:pt x="2275" y="84"/>
                    </a:cubicBezTo>
                    <a:cubicBezTo>
                      <a:pt x="2274" y="72"/>
                      <a:pt x="2273" y="62"/>
                      <a:pt x="2273" y="55"/>
                    </a:cubicBezTo>
                    <a:cubicBezTo>
                      <a:pt x="2274" y="54"/>
                      <a:pt x="2275" y="53"/>
                      <a:pt x="2277" y="52"/>
                    </a:cubicBezTo>
                    <a:cubicBezTo>
                      <a:pt x="2275" y="53"/>
                      <a:pt x="2274" y="54"/>
                      <a:pt x="2273" y="54"/>
                    </a:cubicBezTo>
                    <a:cubicBezTo>
                      <a:pt x="2273" y="49"/>
                      <a:pt x="2272" y="46"/>
                      <a:pt x="2272" y="46"/>
                    </a:cubicBezTo>
                    <a:cubicBezTo>
                      <a:pt x="2272" y="48"/>
                      <a:pt x="2272" y="51"/>
                      <a:pt x="2272" y="55"/>
                    </a:cubicBezTo>
                    <a:cubicBezTo>
                      <a:pt x="2269" y="57"/>
                      <a:pt x="2266" y="59"/>
                      <a:pt x="2263" y="62"/>
                    </a:cubicBezTo>
                    <a:cubicBezTo>
                      <a:pt x="2263" y="58"/>
                      <a:pt x="2263" y="54"/>
                      <a:pt x="2263" y="50"/>
                    </a:cubicBezTo>
                    <a:cubicBezTo>
                      <a:pt x="2267" y="45"/>
                      <a:pt x="2272" y="40"/>
                      <a:pt x="2277" y="34"/>
                    </a:cubicBezTo>
                    <a:cubicBezTo>
                      <a:pt x="2272" y="39"/>
                      <a:pt x="2267" y="44"/>
                      <a:pt x="2263" y="48"/>
                    </a:cubicBezTo>
                    <a:cubicBezTo>
                      <a:pt x="2265" y="21"/>
                      <a:pt x="2266" y="0"/>
                      <a:pt x="2266" y="0"/>
                    </a:cubicBezTo>
                    <a:cubicBezTo>
                      <a:pt x="2262" y="10"/>
                      <a:pt x="2260" y="35"/>
                      <a:pt x="2259" y="53"/>
                    </a:cubicBezTo>
                    <a:cubicBezTo>
                      <a:pt x="2258" y="54"/>
                      <a:pt x="2257" y="55"/>
                      <a:pt x="2257" y="56"/>
                    </a:cubicBezTo>
                    <a:cubicBezTo>
                      <a:pt x="2255" y="44"/>
                      <a:pt x="2252" y="33"/>
                      <a:pt x="2252" y="33"/>
                    </a:cubicBezTo>
                    <a:cubicBezTo>
                      <a:pt x="2253" y="39"/>
                      <a:pt x="2253" y="49"/>
                      <a:pt x="2252" y="62"/>
                    </a:cubicBezTo>
                    <a:cubicBezTo>
                      <a:pt x="2250" y="63"/>
                      <a:pt x="2249" y="65"/>
                      <a:pt x="2248" y="67"/>
                    </a:cubicBezTo>
                    <a:cubicBezTo>
                      <a:pt x="2247" y="65"/>
                      <a:pt x="2246" y="63"/>
                      <a:pt x="2245" y="62"/>
                    </a:cubicBezTo>
                    <a:cubicBezTo>
                      <a:pt x="2245" y="63"/>
                      <a:pt x="2246" y="65"/>
                      <a:pt x="2247" y="68"/>
                    </a:cubicBezTo>
                    <a:cubicBezTo>
                      <a:pt x="2244" y="72"/>
                      <a:pt x="2242" y="75"/>
                      <a:pt x="2241" y="78"/>
                    </a:cubicBezTo>
                    <a:cubicBezTo>
                      <a:pt x="2240" y="61"/>
                      <a:pt x="2240" y="48"/>
                      <a:pt x="2240" y="48"/>
                    </a:cubicBezTo>
                    <a:cubicBezTo>
                      <a:pt x="2239" y="52"/>
                      <a:pt x="2238" y="65"/>
                      <a:pt x="2236" y="80"/>
                    </a:cubicBezTo>
                    <a:cubicBezTo>
                      <a:pt x="2235" y="82"/>
                      <a:pt x="2235" y="85"/>
                      <a:pt x="2234" y="87"/>
                    </a:cubicBezTo>
                    <a:cubicBezTo>
                      <a:pt x="2233" y="86"/>
                      <a:pt x="2233" y="86"/>
                      <a:pt x="2232" y="85"/>
                    </a:cubicBezTo>
                    <a:cubicBezTo>
                      <a:pt x="2235" y="48"/>
                      <a:pt x="2238" y="9"/>
                      <a:pt x="2238" y="9"/>
                    </a:cubicBezTo>
                    <a:cubicBezTo>
                      <a:pt x="2234" y="20"/>
                      <a:pt x="2230" y="57"/>
                      <a:pt x="2226" y="89"/>
                    </a:cubicBezTo>
                    <a:cubicBezTo>
                      <a:pt x="2225" y="91"/>
                      <a:pt x="2224" y="92"/>
                      <a:pt x="2224" y="93"/>
                    </a:cubicBezTo>
                    <a:cubicBezTo>
                      <a:pt x="2223" y="92"/>
                      <a:pt x="2222" y="90"/>
                      <a:pt x="2221" y="89"/>
                    </a:cubicBezTo>
                    <a:cubicBezTo>
                      <a:pt x="2224" y="72"/>
                      <a:pt x="2227" y="55"/>
                      <a:pt x="2227" y="37"/>
                    </a:cubicBezTo>
                    <a:cubicBezTo>
                      <a:pt x="2227" y="34"/>
                      <a:pt x="2227" y="30"/>
                      <a:pt x="2227" y="26"/>
                    </a:cubicBezTo>
                    <a:cubicBezTo>
                      <a:pt x="2220" y="45"/>
                      <a:pt x="2219" y="66"/>
                      <a:pt x="2215" y="86"/>
                    </a:cubicBezTo>
                    <a:cubicBezTo>
                      <a:pt x="2214" y="85"/>
                      <a:pt x="2214" y="84"/>
                      <a:pt x="2214" y="84"/>
                    </a:cubicBezTo>
                    <a:cubicBezTo>
                      <a:pt x="2214" y="84"/>
                      <a:pt x="2214" y="85"/>
                      <a:pt x="2215" y="86"/>
                    </a:cubicBezTo>
                    <a:cubicBezTo>
                      <a:pt x="2214" y="88"/>
                      <a:pt x="2214" y="90"/>
                      <a:pt x="2214" y="92"/>
                    </a:cubicBezTo>
                    <a:cubicBezTo>
                      <a:pt x="2213" y="94"/>
                      <a:pt x="2213" y="96"/>
                      <a:pt x="2212" y="98"/>
                    </a:cubicBezTo>
                    <a:cubicBezTo>
                      <a:pt x="2212" y="97"/>
                      <a:pt x="2211" y="96"/>
                      <a:pt x="2210" y="95"/>
                    </a:cubicBezTo>
                    <a:cubicBezTo>
                      <a:pt x="2210" y="86"/>
                      <a:pt x="2209" y="78"/>
                      <a:pt x="2208" y="72"/>
                    </a:cubicBezTo>
                    <a:cubicBezTo>
                      <a:pt x="2211" y="67"/>
                      <a:pt x="2215" y="63"/>
                      <a:pt x="2219" y="59"/>
                    </a:cubicBezTo>
                    <a:cubicBezTo>
                      <a:pt x="2215" y="62"/>
                      <a:pt x="2211" y="66"/>
                      <a:pt x="2208" y="70"/>
                    </a:cubicBezTo>
                    <a:cubicBezTo>
                      <a:pt x="2207" y="64"/>
                      <a:pt x="2207" y="60"/>
                      <a:pt x="2206" y="57"/>
                    </a:cubicBezTo>
                    <a:cubicBezTo>
                      <a:pt x="2207" y="54"/>
                      <a:pt x="2209" y="52"/>
                      <a:pt x="2210" y="50"/>
                    </a:cubicBezTo>
                    <a:cubicBezTo>
                      <a:pt x="2209" y="51"/>
                      <a:pt x="2207" y="53"/>
                      <a:pt x="2206" y="54"/>
                    </a:cubicBezTo>
                    <a:cubicBezTo>
                      <a:pt x="2206" y="53"/>
                      <a:pt x="2206" y="52"/>
                      <a:pt x="2206" y="52"/>
                    </a:cubicBezTo>
                    <a:cubicBezTo>
                      <a:pt x="2206" y="53"/>
                      <a:pt x="2206" y="54"/>
                      <a:pt x="2206" y="54"/>
                    </a:cubicBezTo>
                    <a:cubicBezTo>
                      <a:pt x="2204" y="56"/>
                      <a:pt x="2202" y="58"/>
                      <a:pt x="2200" y="60"/>
                    </a:cubicBezTo>
                    <a:cubicBezTo>
                      <a:pt x="2199" y="54"/>
                      <a:pt x="2198" y="48"/>
                      <a:pt x="2197" y="44"/>
                    </a:cubicBezTo>
                    <a:cubicBezTo>
                      <a:pt x="2198" y="49"/>
                      <a:pt x="2197" y="56"/>
                      <a:pt x="2196" y="64"/>
                    </a:cubicBezTo>
                    <a:cubicBezTo>
                      <a:pt x="2195" y="66"/>
                      <a:pt x="2194" y="68"/>
                      <a:pt x="2193" y="69"/>
                    </a:cubicBezTo>
                    <a:cubicBezTo>
                      <a:pt x="2191" y="67"/>
                      <a:pt x="2190" y="66"/>
                      <a:pt x="2188" y="64"/>
                    </a:cubicBezTo>
                    <a:cubicBezTo>
                      <a:pt x="2190" y="66"/>
                      <a:pt x="2191" y="67"/>
                      <a:pt x="2193" y="69"/>
                    </a:cubicBezTo>
                    <a:cubicBezTo>
                      <a:pt x="2191" y="71"/>
                      <a:pt x="2190" y="73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8" y="76"/>
                      <a:pt x="2187" y="77"/>
                      <a:pt x="2186" y="79"/>
                    </a:cubicBezTo>
                    <a:cubicBezTo>
                      <a:pt x="2186" y="79"/>
                      <a:pt x="2186" y="79"/>
                      <a:pt x="2186" y="79"/>
                    </a:cubicBezTo>
                    <a:cubicBezTo>
                      <a:pt x="2187" y="60"/>
                      <a:pt x="2187" y="45"/>
                      <a:pt x="2187" y="45"/>
                    </a:cubicBezTo>
                    <a:cubicBezTo>
                      <a:pt x="2187" y="50"/>
                      <a:pt x="2185" y="61"/>
                      <a:pt x="2182" y="73"/>
                    </a:cubicBezTo>
                    <a:cubicBezTo>
                      <a:pt x="2181" y="73"/>
                      <a:pt x="2181" y="73"/>
                      <a:pt x="2180" y="72"/>
                    </a:cubicBezTo>
                    <a:cubicBezTo>
                      <a:pt x="2181" y="70"/>
                      <a:pt x="2181" y="68"/>
                      <a:pt x="2181" y="66"/>
                    </a:cubicBezTo>
                    <a:cubicBezTo>
                      <a:pt x="2181" y="65"/>
                      <a:pt x="2181" y="65"/>
                      <a:pt x="2182" y="65"/>
                    </a:cubicBezTo>
                    <a:cubicBezTo>
                      <a:pt x="2181" y="65"/>
                      <a:pt x="2181" y="65"/>
                      <a:pt x="2181" y="66"/>
                    </a:cubicBezTo>
                    <a:cubicBezTo>
                      <a:pt x="2181" y="64"/>
                      <a:pt x="2181" y="63"/>
                      <a:pt x="2181" y="61"/>
                    </a:cubicBezTo>
                    <a:cubicBezTo>
                      <a:pt x="2181" y="55"/>
                      <a:pt x="2181" y="49"/>
                      <a:pt x="2180" y="42"/>
                    </a:cubicBezTo>
                    <a:cubicBezTo>
                      <a:pt x="2183" y="27"/>
                      <a:pt x="2185" y="17"/>
                      <a:pt x="2185" y="17"/>
                    </a:cubicBezTo>
                    <a:cubicBezTo>
                      <a:pt x="2182" y="22"/>
                      <a:pt x="2175" y="49"/>
                      <a:pt x="2169" y="78"/>
                    </a:cubicBezTo>
                    <a:cubicBezTo>
                      <a:pt x="2169" y="78"/>
                      <a:pt x="2169" y="78"/>
                      <a:pt x="2168" y="79"/>
                    </a:cubicBezTo>
                    <a:cubicBezTo>
                      <a:pt x="2167" y="76"/>
                      <a:pt x="2164" y="72"/>
                      <a:pt x="2162" y="69"/>
                    </a:cubicBezTo>
                    <a:cubicBezTo>
                      <a:pt x="2163" y="67"/>
                      <a:pt x="2165" y="66"/>
                      <a:pt x="2167" y="64"/>
                    </a:cubicBezTo>
                    <a:cubicBezTo>
                      <a:pt x="2165" y="66"/>
                      <a:pt x="2163" y="67"/>
                      <a:pt x="2162" y="69"/>
                    </a:cubicBezTo>
                    <a:cubicBezTo>
                      <a:pt x="2161" y="68"/>
                      <a:pt x="2160" y="67"/>
                      <a:pt x="2159" y="66"/>
                    </a:cubicBezTo>
                    <a:cubicBezTo>
                      <a:pt x="2159" y="60"/>
                      <a:pt x="2158" y="55"/>
                      <a:pt x="2158" y="52"/>
                    </a:cubicBezTo>
                    <a:cubicBezTo>
                      <a:pt x="2158" y="56"/>
                      <a:pt x="2158" y="60"/>
                      <a:pt x="2158" y="64"/>
                    </a:cubicBezTo>
                    <a:cubicBezTo>
                      <a:pt x="2154" y="60"/>
                      <a:pt x="2150" y="55"/>
                      <a:pt x="2145" y="50"/>
                    </a:cubicBezTo>
                    <a:cubicBezTo>
                      <a:pt x="2148" y="55"/>
                      <a:pt x="2151" y="60"/>
                      <a:pt x="2154" y="65"/>
                    </a:cubicBezTo>
                    <a:cubicBezTo>
                      <a:pt x="2153" y="68"/>
                      <a:pt x="2153" y="71"/>
                      <a:pt x="2152" y="76"/>
                    </a:cubicBezTo>
                    <a:cubicBezTo>
                      <a:pt x="2150" y="74"/>
                      <a:pt x="2148" y="71"/>
                      <a:pt x="2145" y="68"/>
                    </a:cubicBezTo>
                    <a:cubicBezTo>
                      <a:pt x="2145" y="54"/>
                      <a:pt x="2144" y="41"/>
                      <a:pt x="2143" y="33"/>
                    </a:cubicBezTo>
                    <a:cubicBezTo>
                      <a:pt x="2144" y="42"/>
                      <a:pt x="2143" y="53"/>
                      <a:pt x="2142" y="65"/>
                    </a:cubicBezTo>
                    <a:cubicBezTo>
                      <a:pt x="2140" y="63"/>
                      <a:pt x="2138" y="61"/>
                      <a:pt x="2136" y="59"/>
                    </a:cubicBezTo>
                    <a:cubicBezTo>
                      <a:pt x="2138" y="61"/>
                      <a:pt x="2140" y="63"/>
                      <a:pt x="2142" y="65"/>
                    </a:cubicBezTo>
                    <a:cubicBezTo>
                      <a:pt x="2141" y="72"/>
                      <a:pt x="2140" y="80"/>
                      <a:pt x="2139" y="87"/>
                    </a:cubicBezTo>
                    <a:cubicBezTo>
                      <a:pt x="2139" y="87"/>
                      <a:pt x="2139" y="87"/>
                      <a:pt x="2139" y="87"/>
                    </a:cubicBezTo>
                    <a:cubicBezTo>
                      <a:pt x="2138" y="85"/>
                      <a:pt x="2138" y="84"/>
                      <a:pt x="2137" y="83"/>
                    </a:cubicBezTo>
                    <a:cubicBezTo>
                      <a:pt x="2138" y="82"/>
                      <a:pt x="2138" y="82"/>
                      <a:pt x="2138" y="81"/>
                    </a:cubicBezTo>
                    <a:cubicBezTo>
                      <a:pt x="2138" y="82"/>
                      <a:pt x="2138" y="82"/>
                      <a:pt x="2137" y="83"/>
                    </a:cubicBezTo>
                    <a:cubicBezTo>
                      <a:pt x="2137" y="81"/>
                      <a:pt x="2136" y="79"/>
                      <a:pt x="2135" y="77"/>
                    </a:cubicBezTo>
                    <a:cubicBezTo>
                      <a:pt x="2136" y="79"/>
                      <a:pt x="2136" y="81"/>
                      <a:pt x="2137" y="83"/>
                    </a:cubicBezTo>
                    <a:cubicBezTo>
                      <a:pt x="2136" y="85"/>
                      <a:pt x="2135" y="86"/>
                      <a:pt x="2134" y="88"/>
                    </a:cubicBezTo>
                    <a:cubicBezTo>
                      <a:pt x="2135" y="86"/>
                      <a:pt x="2136" y="85"/>
                      <a:pt x="2137" y="83"/>
                    </a:cubicBezTo>
                    <a:cubicBezTo>
                      <a:pt x="2137" y="85"/>
                      <a:pt x="2138" y="86"/>
                      <a:pt x="2138" y="88"/>
                    </a:cubicBezTo>
                    <a:cubicBezTo>
                      <a:pt x="2136" y="91"/>
                      <a:pt x="2135" y="95"/>
                      <a:pt x="2133" y="98"/>
                    </a:cubicBezTo>
                    <a:cubicBezTo>
                      <a:pt x="2133" y="97"/>
                      <a:pt x="2133" y="97"/>
                      <a:pt x="2132" y="97"/>
                    </a:cubicBezTo>
                    <a:cubicBezTo>
                      <a:pt x="2132" y="95"/>
                      <a:pt x="2132" y="94"/>
                      <a:pt x="2132" y="93"/>
                    </a:cubicBezTo>
                    <a:cubicBezTo>
                      <a:pt x="2132" y="91"/>
                      <a:pt x="2133" y="89"/>
                      <a:pt x="2134" y="88"/>
                    </a:cubicBezTo>
                    <a:cubicBezTo>
                      <a:pt x="2133" y="89"/>
                      <a:pt x="2132" y="91"/>
                      <a:pt x="2131" y="92"/>
                    </a:cubicBezTo>
                    <a:cubicBezTo>
                      <a:pt x="2131" y="92"/>
                      <a:pt x="2131" y="91"/>
                      <a:pt x="2131" y="91"/>
                    </a:cubicBezTo>
                    <a:cubicBezTo>
                      <a:pt x="2131" y="74"/>
                      <a:pt x="2130" y="60"/>
                      <a:pt x="2130" y="60"/>
                    </a:cubicBezTo>
                    <a:cubicBezTo>
                      <a:pt x="2130" y="65"/>
                      <a:pt x="2130" y="73"/>
                      <a:pt x="2129" y="81"/>
                    </a:cubicBezTo>
                    <a:cubicBezTo>
                      <a:pt x="2128" y="79"/>
                      <a:pt x="2128" y="76"/>
                      <a:pt x="2127" y="74"/>
                    </a:cubicBezTo>
                    <a:cubicBezTo>
                      <a:pt x="2128" y="79"/>
                      <a:pt x="2128" y="83"/>
                      <a:pt x="2128" y="88"/>
                    </a:cubicBezTo>
                    <a:cubicBezTo>
                      <a:pt x="2127" y="86"/>
                      <a:pt x="2126" y="84"/>
                      <a:pt x="2125" y="83"/>
                    </a:cubicBezTo>
                    <a:cubicBezTo>
                      <a:pt x="2126" y="85"/>
                      <a:pt x="2127" y="87"/>
                      <a:pt x="2128" y="89"/>
                    </a:cubicBezTo>
                    <a:cubicBezTo>
                      <a:pt x="2128" y="89"/>
                      <a:pt x="2128" y="89"/>
                      <a:pt x="2128" y="89"/>
                    </a:cubicBezTo>
                    <a:cubicBezTo>
                      <a:pt x="2128" y="93"/>
                      <a:pt x="2127" y="97"/>
                      <a:pt x="2127" y="101"/>
                    </a:cubicBezTo>
                    <a:cubicBezTo>
                      <a:pt x="2126" y="103"/>
                      <a:pt x="2125" y="104"/>
                      <a:pt x="2125" y="106"/>
                    </a:cubicBezTo>
                    <a:cubicBezTo>
                      <a:pt x="2123" y="100"/>
                      <a:pt x="2122" y="95"/>
                      <a:pt x="2120" y="90"/>
                    </a:cubicBezTo>
                    <a:cubicBezTo>
                      <a:pt x="2121" y="88"/>
                      <a:pt x="2123" y="85"/>
                      <a:pt x="2124" y="83"/>
                    </a:cubicBezTo>
                    <a:cubicBezTo>
                      <a:pt x="2123" y="85"/>
                      <a:pt x="2121" y="87"/>
                      <a:pt x="2119" y="89"/>
                    </a:cubicBezTo>
                    <a:cubicBezTo>
                      <a:pt x="2119" y="88"/>
                      <a:pt x="2118" y="87"/>
                      <a:pt x="2118" y="87"/>
                    </a:cubicBezTo>
                    <a:cubicBezTo>
                      <a:pt x="2118" y="76"/>
                      <a:pt x="2119" y="68"/>
                      <a:pt x="2119" y="68"/>
                    </a:cubicBezTo>
                    <a:cubicBezTo>
                      <a:pt x="2118" y="72"/>
                      <a:pt x="2117" y="77"/>
                      <a:pt x="2116" y="82"/>
                    </a:cubicBezTo>
                    <a:cubicBezTo>
                      <a:pt x="2116" y="81"/>
                      <a:pt x="2116" y="80"/>
                      <a:pt x="2116" y="80"/>
                    </a:cubicBezTo>
                    <a:cubicBezTo>
                      <a:pt x="2116" y="80"/>
                      <a:pt x="2116" y="81"/>
                      <a:pt x="2116" y="82"/>
                    </a:cubicBezTo>
                    <a:cubicBezTo>
                      <a:pt x="2115" y="80"/>
                      <a:pt x="2114" y="78"/>
                      <a:pt x="2112" y="75"/>
                    </a:cubicBezTo>
                    <a:cubicBezTo>
                      <a:pt x="2113" y="65"/>
                      <a:pt x="2114" y="56"/>
                      <a:pt x="2115" y="48"/>
                    </a:cubicBezTo>
                    <a:cubicBezTo>
                      <a:pt x="2114" y="55"/>
                      <a:pt x="2112" y="64"/>
                      <a:pt x="2111" y="73"/>
                    </a:cubicBezTo>
                    <a:cubicBezTo>
                      <a:pt x="2109" y="70"/>
                      <a:pt x="2107" y="67"/>
                      <a:pt x="2105" y="64"/>
                    </a:cubicBezTo>
                    <a:cubicBezTo>
                      <a:pt x="2105" y="62"/>
                      <a:pt x="2105" y="59"/>
                      <a:pt x="2105" y="57"/>
                    </a:cubicBezTo>
                    <a:cubicBezTo>
                      <a:pt x="2104" y="58"/>
                      <a:pt x="2104" y="60"/>
                      <a:pt x="2103" y="62"/>
                    </a:cubicBezTo>
                    <a:cubicBezTo>
                      <a:pt x="2101" y="59"/>
                      <a:pt x="2098" y="55"/>
                      <a:pt x="2095" y="52"/>
                    </a:cubicBezTo>
                    <a:cubicBezTo>
                      <a:pt x="2095" y="48"/>
                      <a:pt x="2095" y="46"/>
                      <a:pt x="2095" y="46"/>
                    </a:cubicBezTo>
                    <a:cubicBezTo>
                      <a:pt x="2095" y="48"/>
                      <a:pt x="2095" y="49"/>
                      <a:pt x="2094" y="51"/>
                    </a:cubicBezTo>
                    <a:cubicBezTo>
                      <a:pt x="2091" y="47"/>
                      <a:pt x="2087" y="43"/>
                      <a:pt x="2083" y="39"/>
                    </a:cubicBezTo>
                    <a:cubicBezTo>
                      <a:pt x="2083" y="37"/>
                      <a:pt x="2083" y="35"/>
                      <a:pt x="2082" y="34"/>
                    </a:cubicBezTo>
                    <a:cubicBezTo>
                      <a:pt x="2082" y="34"/>
                      <a:pt x="2083" y="36"/>
                      <a:pt x="2083" y="39"/>
                    </a:cubicBezTo>
                    <a:cubicBezTo>
                      <a:pt x="2081" y="37"/>
                      <a:pt x="2080" y="36"/>
                      <a:pt x="2078" y="34"/>
                    </a:cubicBezTo>
                    <a:cubicBezTo>
                      <a:pt x="2080" y="36"/>
                      <a:pt x="2081" y="38"/>
                      <a:pt x="2083" y="40"/>
                    </a:cubicBezTo>
                    <a:cubicBezTo>
                      <a:pt x="2083" y="40"/>
                      <a:pt x="2083" y="40"/>
                      <a:pt x="2083" y="41"/>
                    </a:cubicBezTo>
                    <a:cubicBezTo>
                      <a:pt x="2083" y="40"/>
                      <a:pt x="2083" y="40"/>
                      <a:pt x="2083" y="40"/>
                    </a:cubicBezTo>
                    <a:cubicBezTo>
                      <a:pt x="2087" y="45"/>
                      <a:pt x="2090" y="49"/>
                      <a:pt x="2094" y="53"/>
                    </a:cubicBezTo>
                    <a:cubicBezTo>
                      <a:pt x="2093" y="55"/>
                      <a:pt x="2092" y="59"/>
                      <a:pt x="2092" y="62"/>
                    </a:cubicBezTo>
                    <a:cubicBezTo>
                      <a:pt x="2089" y="60"/>
                      <a:pt x="2087" y="58"/>
                      <a:pt x="2084" y="56"/>
                    </a:cubicBezTo>
                    <a:cubicBezTo>
                      <a:pt x="2083" y="50"/>
                      <a:pt x="2083" y="44"/>
                      <a:pt x="2083" y="41"/>
                    </a:cubicBezTo>
                    <a:cubicBezTo>
                      <a:pt x="2083" y="45"/>
                      <a:pt x="2083" y="50"/>
                      <a:pt x="2082" y="55"/>
                    </a:cubicBezTo>
                    <a:cubicBezTo>
                      <a:pt x="2081" y="54"/>
                      <a:pt x="2080" y="53"/>
                      <a:pt x="2078" y="52"/>
                    </a:cubicBezTo>
                    <a:cubicBezTo>
                      <a:pt x="2080" y="53"/>
                      <a:pt x="2081" y="54"/>
                      <a:pt x="2082" y="55"/>
                    </a:cubicBezTo>
                    <a:cubicBezTo>
                      <a:pt x="2082" y="64"/>
                      <a:pt x="2081" y="73"/>
                      <a:pt x="2079" y="83"/>
                    </a:cubicBezTo>
                    <a:cubicBezTo>
                      <a:pt x="2079" y="82"/>
                      <a:pt x="2079" y="81"/>
                      <a:pt x="2079" y="81"/>
                    </a:cubicBezTo>
                    <a:cubicBezTo>
                      <a:pt x="2079" y="82"/>
                      <a:pt x="2079" y="82"/>
                      <a:pt x="2079" y="83"/>
                    </a:cubicBezTo>
                    <a:cubicBezTo>
                      <a:pt x="2078" y="88"/>
                      <a:pt x="2078" y="92"/>
                      <a:pt x="2077" y="97"/>
                    </a:cubicBezTo>
                    <a:cubicBezTo>
                      <a:pt x="2075" y="89"/>
                      <a:pt x="2073" y="81"/>
                      <a:pt x="2070" y="73"/>
                    </a:cubicBezTo>
                    <a:cubicBezTo>
                      <a:pt x="2070" y="72"/>
                      <a:pt x="2070" y="71"/>
                      <a:pt x="2070" y="71"/>
                    </a:cubicBezTo>
                    <a:cubicBezTo>
                      <a:pt x="2071" y="70"/>
                      <a:pt x="2072" y="69"/>
                      <a:pt x="2073" y="68"/>
                    </a:cubicBezTo>
                    <a:cubicBezTo>
                      <a:pt x="2075" y="72"/>
                      <a:pt x="2077" y="76"/>
                      <a:pt x="2079" y="81"/>
                    </a:cubicBezTo>
                    <a:cubicBezTo>
                      <a:pt x="2077" y="76"/>
                      <a:pt x="2075" y="72"/>
                      <a:pt x="2073" y="67"/>
                    </a:cubicBezTo>
                    <a:cubicBezTo>
                      <a:pt x="2074" y="67"/>
                      <a:pt x="2074" y="66"/>
                      <a:pt x="2075" y="65"/>
                    </a:cubicBezTo>
                    <a:cubicBezTo>
                      <a:pt x="2074" y="66"/>
                      <a:pt x="2074" y="66"/>
                      <a:pt x="2073" y="67"/>
                    </a:cubicBezTo>
                    <a:cubicBezTo>
                      <a:pt x="2067" y="54"/>
                      <a:pt x="2057" y="41"/>
                      <a:pt x="2045" y="25"/>
                    </a:cubicBezTo>
                    <a:cubicBezTo>
                      <a:pt x="2057" y="42"/>
                      <a:pt x="2066" y="55"/>
                      <a:pt x="2072" y="68"/>
                    </a:cubicBezTo>
                    <a:cubicBezTo>
                      <a:pt x="2072" y="68"/>
                      <a:pt x="2071" y="69"/>
                      <a:pt x="2070" y="70"/>
                    </a:cubicBezTo>
                    <a:cubicBezTo>
                      <a:pt x="2070" y="68"/>
                      <a:pt x="2070" y="66"/>
                      <a:pt x="2070" y="66"/>
                    </a:cubicBezTo>
                    <a:cubicBezTo>
                      <a:pt x="2070" y="68"/>
                      <a:pt x="2070" y="69"/>
                      <a:pt x="2069" y="71"/>
                    </a:cubicBezTo>
                    <a:cubicBezTo>
                      <a:pt x="2069" y="71"/>
                      <a:pt x="2069" y="71"/>
                      <a:pt x="2069" y="71"/>
                    </a:cubicBezTo>
                    <a:cubicBezTo>
                      <a:pt x="2065" y="61"/>
                      <a:pt x="2058" y="52"/>
                      <a:pt x="2049" y="42"/>
                    </a:cubicBezTo>
                    <a:cubicBezTo>
                      <a:pt x="2056" y="55"/>
                      <a:pt x="2061" y="65"/>
                      <a:pt x="2065" y="75"/>
                    </a:cubicBezTo>
                    <a:cubicBezTo>
                      <a:pt x="2064" y="76"/>
                      <a:pt x="2063" y="77"/>
                      <a:pt x="2062" y="77"/>
                    </a:cubicBezTo>
                    <a:cubicBezTo>
                      <a:pt x="2060" y="73"/>
                      <a:pt x="2058" y="70"/>
                      <a:pt x="2056" y="68"/>
                    </a:cubicBezTo>
                    <a:cubicBezTo>
                      <a:pt x="2055" y="63"/>
                      <a:pt x="2055" y="60"/>
                      <a:pt x="2055" y="60"/>
                    </a:cubicBezTo>
                    <a:cubicBezTo>
                      <a:pt x="2055" y="61"/>
                      <a:pt x="2055" y="64"/>
                      <a:pt x="2055" y="67"/>
                    </a:cubicBezTo>
                    <a:cubicBezTo>
                      <a:pt x="2049" y="57"/>
                      <a:pt x="2041" y="47"/>
                      <a:pt x="2030" y="38"/>
                    </a:cubicBezTo>
                    <a:cubicBezTo>
                      <a:pt x="2040" y="49"/>
                      <a:pt x="2048" y="60"/>
                      <a:pt x="2054" y="71"/>
                    </a:cubicBezTo>
                    <a:cubicBezTo>
                      <a:pt x="2054" y="75"/>
                      <a:pt x="2054" y="80"/>
                      <a:pt x="2053" y="85"/>
                    </a:cubicBezTo>
                    <a:cubicBezTo>
                      <a:pt x="2053" y="84"/>
                      <a:pt x="2053" y="84"/>
                      <a:pt x="2052" y="83"/>
                    </a:cubicBezTo>
                    <a:cubicBezTo>
                      <a:pt x="2052" y="84"/>
                      <a:pt x="2053" y="85"/>
                      <a:pt x="2053" y="86"/>
                    </a:cubicBezTo>
                    <a:cubicBezTo>
                      <a:pt x="2053" y="87"/>
                      <a:pt x="2053" y="88"/>
                      <a:pt x="2053" y="89"/>
                    </a:cubicBezTo>
                    <a:cubicBezTo>
                      <a:pt x="2051" y="92"/>
                      <a:pt x="2050" y="94"/>
                      <a:pt x="2048" y="97"/>
                    </a:cubicBezTo>
                    <a:cubicBezTo>
                      <a:pt x="2048" y="93"/>
                      <a:pt x="2048" y="90"/>
                      <a:pt x="2048" y="87"/>
                    </a:cubicBezTo>
                    <a:cubicBezTo>
                      <a:pt x="2049" y="84"/>
                      <a:pt x="2050" y="82"/>
                      <a:pt x="2050" y="80"/>
                    </a:cubicBezTo>
                    <a:cubicBezTo>
                      <a:pt x="2051" y="81"/>
                      <a:pt x="2051" y="82"/>
                      <a:pt x="2052" y="83"/>
                    </a:cubicBezTo>
                    <a:cubicBezTo>
                      <a:pt x="2052" y="81"/>
                      <a:pt x="2051" y="80"/>
                      <a:pt x="2050" y="79"/>
                    </a:cubicBezTo>
                    <a:cubicBezTo>
                      <a:pt x="2051" y="79"/>
                      <a:pt x="2051" y="78"/>
                      <a:pt x="2051" y="77"/>
                    </a:cubicBezTo>
                    <a:cubicBezTo>
                      <a:pt x="2051" y="77"/>
                      <a:pt x="2050" y="78"/>
                      <a:pt x="2050" y="79"/>
                    </a:cubicBezTo>
                    <a:cubicBezTo>
                      <a:pt x="2049" y="77"/>
                      <a:pt x="2049" y="76"/>
                      <a:pt x="2048" y="75"/>
                    </a:cubicBezTo>
                    <a:cubicBezTo>
                      <a:pt x="2049" y="77"/>
                      <a:pt x="2049" y="78"/>
                      <a:pt x="2050" y="79"/>
                    </a:cubicBezTo>
                    <a:cubicBezTo>
                      <a:pt x="2049" y="80"/>
                      <a:pt x="2048" y="81"/>
                      <a:pt x="2048" y="82"/>
                    </a:cubicBezTo>
                    <a:cubicBezTo>
                      <a:pt x="2048" y="73"/>
                      <a:pt x="2048" y="68"/>
                      <a:pt x="2048" y="68"/>
                    </a:cubicBezTo>
                    <a:cubicBezTo>
                      <a:pt x="2047" y="72"/>
                      <a:pt x="2047" y="78"/>
                      <a:pt x="2046" y="85"/>
                    </a:cubicBezTo>
                    <a:cubicBezTo>
                      <a:pt x="2043" y="90"/>
                      <a:pt x="2041" y="94"/>
                      <a:pt x="2040" y="99"/>
                    </a:cubicBezTo>
                    <a:cubicBezTo>
                      <a:pt x="2040" y="98"/>
                      <a:pt x="2039" y="97"/>
                      <a:pt x="2039" y="96"/>
                    </a:cubicBezTo>
                    <a:cubicBezTo>
                      <a:pt x="2039" y="92"/>
                      <a:pt x="2040" y="89"/>
                      <a:pt x="2040" y="89"/>
                    </a:cubicBezTo>
                    <a:cubicBezTo>
                      <a:pt x="2040" y="91"/>
                      <a:pt x="2039" y="92"/>
                      <a:pt x="2039" y="94"/>
                    </a:cubicBezTo>
                    <a:cubicBezTo>
                      <a:pt x="2038" y="91"/>
                      <a:pt x="2037" y="88"/>
                      <a:pt x="2037" y="85"/>
                    </a:cubicBezTo>
                    <a:cubicBezTo>
                      <a:pt x="2036" y="88"/>
                      <a:pt x="2036" y="91"/>
                      <a:pt x="2036" y="94"/>
                    </a:cubicBezTo>
                    <a:cubicBezTo>
                      <a:pt x="2036" y="97"/>
                      <a:pt x="2036" y="100"/>
                      <a:pt x="2036" y="103"/>
                    </a:cubicBezTo>
                    <a:cubicBezTo>
                      <a:pt x="2035" y="107"/>
                      <a:pt x="2033" y="112"/>
                      <a:pt x="2032" y="116"/>
                    </a:cubicBezTo>
                    <a:cubicBezTo>
                      <a:pt x="2030" y="112"/>
                      <a:pt x="2029" y="108"/>
                      <a:pt x="2028" y="104"/>
                    </a:cubicBezTo>
                    <a:cubicBezTo>
                      <a:pt x="2029" y="109"/>
                      <a:pt x="2030" y="115"/>
                      <a:pt x="2030" y="120"/>
                    </a:cubicBezTo>
                    <a:cubicBezTo>
                      <a:pt x="2029" y="124"/>
                      <a:pt x="2027" y="127"/>
                      <a:pt x="2026" y="130"/>
                    </a:cubicBezTo>
                    <a:cubicBezTo>
                      <a:pt x="2025" y="128"/>
                      <a:pt x="2024" y="126"/>
                      <a:pt x="2024" y="123"/>
                    </a:cubicBezTo>
                    <a:cubicBezTo>
                      <a:pt x="2025" y="115"/>
                      <a:pt x="2027" y="106"/>
                      <a:pt x="2029" y="98"/>
                    </a:cubicBezTo>
                    <a:cubicBezTo>
                      <a:pt x="2030" y="98"/>
                      <a:pt x="2030" y="97"/>
                      <a:pt x="2030" y="96"/>
                    </a:cubicBezTo>
                    <a:cubicBezTo>
                      <a:pt x="2030" y="96"/>
                      <a:pt x="2030" y="97"/>
                      <a:pt x="2029" y="97"/>
                    </a:cubicBezTo>
                    <a:cubicBezTo>
                      <a:pt x="2032" y="86"/>
                      <a:pt x="2035" y="76"/>
                      <a:pt x="2035" y="76"/>
                    </a:cubicBezTo>
                    <a:cubicBezTo>
                      <a:pt x="2030" y="83"/>
                      <a:pt x="2024" y="96"/>
                      <a:pt x="2020" y="109"/>
                    </a:cubicBezTo>
                    <a:cubicBezTo>
                      <a:pt x="2020" y="107"/>
                      <a:pt x="2019" y="106"/>
                      <a:pt x="2019" y="104"/>
                    </a:cubicBezTo>
                    <a:cubicBezTo>
                      <a:pt x="2021" y="97"/>
                      <a:pt x="2024" y="90"/>
                      <a:pt x="2027" y="84"/>
                    </a:cubicBezTo>
                    <a:cubicBezTo>
                      <a:pt x="2024" y="90"/>
                      <a:pt x="2021" y="96"/>
                      <a:pt x="2019" y="102"/>
                    </a:cubicBezTo>
                    <a:cubicBezTo>
                      <a:pt x="2018" y="102"/>
                      <a:pt x="2018" y="101"/>
                      <a:pt x="2018" y="101"/>
                    </a:cubicBezTo>
                    <a:cubicBezTo>
                      <a:pt x="2020" y="77"/>
                      <a:pt x="2016" y="62"/>
                      <a:pt x="2016" y="62"/>
                    </a:cubicBezTo>
                    <a:cubicBezTo>
                      <a:pt x="2017" y="69"/>
                      <a:pt x="2017" y="80"/>
                      <a:pt x="2015" y="91"/>
                    </a:cubicBezTo>
                    <a:cubicBezTo>
                      <a:pt x="2015" y="89"/>
                      <a:pt x="2015" y="88"/>
                      <a:pt x="2014" y="87"/>
                    </a:cubicBezTo>
                    <a:cubicBezTo>
                      <a:pt x="2014" y="88"/>
                      <a:pt x="2014" y="88"/>
                      <a:pt x="2014" y="88"/>
                    </a:cubicBezTo>
                    <a:cubicBezTo>
                      <a:pt x="2014" y="90"/>
                      <a:pt x="2014" y="93"/>
                      <a:pt x="2015" y="96"/>
                    </a:cubicBezTo>
                    <a:cubicBezTo>
                      <a:pt x="2014" y="101"/>
                      <a:pt x="2014" y="105"/>
                      <a:pt x="2013" y="110"/>
                    </a:cubicBezTo>
                    <a:cubicBezTo>
                      <a:pt x="2012" y="109"/>
                      <a:pt x="2012" y="107"/>
                      <a:pt x="2011" y="106"/>
                    </a:cubicBezTo>
                    <a:cubicBezTo>
                      <a:pt x="2012" y="103"/>
                      <a:pt x="2012" y="99"/>
                      <a:pt x="2013" y="96"/>
                    </a:cubicBezTo>
                    <a:cubicBezTo>
                      <a:pt x="2012" y="98"/>
                      <a:pt x="2011" y="100"/>
                      <a:pt x="2010" y="103"/>
                    </a:cubicBezTo>
                    <a:cubicBezTo>
                      <a:pt x="2009" y="101"/>
                      <a:pt x="2008" y="99"/>
                      <a:pt x="2008" y="98"/>
                    </a:cubicBezTo>
                    <a:cubicBezTo>
                      <a:pt x="2008" y="89"/>
                      <a:pt x="2009" y="82"/>
                      <a:pt x="2009" y="82"/>
                    </a:cubicBezTo>
                    <a:cubicBezTo>
                      <a:pt x="2007" y="97"/>
                      <a:pt x="2007" y="97"/>
                      <a:pt x="2007" y="97"/>
                    </a:cubicBezTo>
                    <a:cubicBezTo>
                      <a:pt x="2006" y="94"/>
                      <a:pt x="2005" y="92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89"/>
                      <a:pt x="2004" y="89"/>
                      <a:pt x="2003" y="88"/>
                    </a:cubicBezTo>
                    <a:cubicBezTo>
                      <a:pt x="2003" y="83"/>
                      <a:pt x="2003" y="78"/>
                      <a:pt x="2003" y="73"/>
                    </a:cubicBezTo>
                    <a:cubicBezTo>
                      <a:pt x="2006" y="70"/>
                      <a:pt x="2009" y="66"/>
                      <a:pt x="2012" y="63"/>
                    </a:cubicBezTo>
                    <a:cubicBezTo>
                      <a:pt x="2009" y="66"/>
                      <a:pt x="2006" y="69"/>
                      <a:pt x="2003" y="71"/>
                    </a:cubicBezTo>
                    <a:cubicBezTo>
                      <a:pt x="2003" y="65"/>
                      <a:pt x="2002" y="60"/>
                      <a:pt x="2002" y="60"/>
                    </a:cubicBezTo>
                    <a:cubicBezTo>
                      <a:pt x="2002" y="64"/>
                      <a:pt x="2002" y="68"/>
                      <a:pt x="2002" y="72"/>
                    </a:cubicBezTo>
                    <a:cubicBezTo>
                      <a:pt x="2000" y="74"/>
                      <a:pt x="1999" y="75"/>
                      <a:pt x="1998" y="77"/>
                    </a:cubicBezTo>
                    <a:cubicBezTo>
                      <a:pt x="1997" y="70"/>
                      <a:pt x="1997" y="64"/>
                      <a:pt x="1997" y="64"/>
                    </a:cubicBezTo>
                    <a:cubicBezTo>
                      <a:pt x="1997" y="66"/>
                      <a:pt x="1997" y="71"/>
                      <a:pt x="1996" y="78"/>
                    </a:cubicBezTo>
                    <a:cubicBezTo>
                      <a:pt x="1993" y="81"/>
                      <a:pt x="1991" y="85"/>
                      <a:pt x="1989" y="88"/>
                    </a:cubicBezTo>
                    <a:cubicBezTo>
                      <a:pt x="1989" y="64"/>
                      <a:pt x="1988" y="42"/>
                      <a:pt x="1988" y="42"/>
                    </a:cubicBezTo>
                    <a:cubicBezTo>
                      <a:pt x="1989" y="55"/>
                      <a:pt x="1986" y="77"/>
                      <a:pt x="1984" y="96"/>
                    </a:cubicBezTo>
                    <a:cubicBezTo>
                      <a:pt x="1982" y="100"/>
                      <a:pt x="1980" y="104"/>
                      <a:pt x="1979" y="107"/>
                    </a:cubicBezTo>
                    <a:cubicBezTo>
                      <a:pt x="1978" y="107"/>
                      <a:pt x="1978" y="106"/>
                      <a:pt x="1978" y="106"/>
                    </a:cubicBezTo>
                    <a:cubicBezTo>
                      <a:pt x="1979" y="87"/>
                      <a:pt x="1982" y="70"/>
                      <a:pt x="1982" y="70"/>
                    </a:cubicBezTo>
                    <a:cubicBezTo>
                      <a:pt x="1980" y="74"/>
                      <a:pt x="1977" y="98"/>
                      <a:pt x="1975" y="117"/>
                    </a:cubicBezTo>
                    <a:cubicBezTo>
                      <a:pt x="1975" y="118"/>
                      <a:pt x="1975" y="119"/>
                      <a:pt x="1975" y="120"/>
                    </a:cubicBezTo>
                    <a:cubicBezTo>
                      <a:pt x="1975" y="119"/>
                      <a:pt x="1975" y="119"/>
                      <a:pt x="1975" y="118"/>
                    </a:cubicBezTo>
                    <a:cubicBezTo>
                      <a:pt x="1975" y="119"/>
                      <a:pt x="1975" y="119"/>
                      <a:pt x="1975" y="120"/>
                    </a:cubicBezTo>
                    <a:cubicBezTo>
                      <a:pt x="1974" y="121"/>
                      <a:pt x="1974" y="121"/>
                      <a:pt x="1974" y="122"/>
                    </a:cubicBezTo>
                    <a:cubicBezTo>
                      <a:pt x="1974" y="115"/>
                      <a:pt x="1974" y="108"/>
                      <a:pt x="1974" y="101"/>
                    </a:cubicBezTo>
                    <a:cubicBezTo>
                      <a:pt x="1974" y="101"/>
                      <a:pt x="1974" y="100"/>
                      <a:pt x="1974" y="100"/>
                    </a:cubicBezTo>
                    <a:cubicBezTo>
                      <a:pt x="1974" y="100"/>
                      <a:pt x="1974" y="101"/>
                      <a:pt x="1974" y="101"/>
                    </a:cubicBezTo>
                    <a:cubicBezTo>
                      <a:pt x="1974" y="98"/>
                      <a:pt x="1974" y="94"/>
                      <a:pt x="1973" y="91"/>
                    </a:cubicBezTo>
                    <a:cubicBezTo>
                      <a:pt x="1975" y="88"/>
                      <a:pt x="1977" y="85"/>
                      <a:pt x="1979" y="83"/>
                    </a:cubicBezTo>
                    <a:cubicBezTo>
                      <a:pt x="1977" y="85"/>
                      <a:pt x="1975" y="87"/>
                      <a:pt x="1973" y="90"/>
                    </a:cubicBezTo>
                    <a:cubicBezTo>
                      <a:pt x="1973" y="79"/>
                      <a:pt x="1972" y="69"/>
                      <a:pt x="1972" y="61"/>
                    </a:cubicBezTo>
                    <a:cubicBezTo>
                      <a:pt x="1971" y="73"/>
                      <a:pt x="1969" y="87"/>
                      <a:pt x="1967" y="100"/>
                    </a:cubicBezTo>
                    <a:cubicBezTo>
                      <a:pt x="1963" y="107"/>
                      <a:pt x="1960" y="115"/>
                      <a:pt x="1958" y="123"/>
                    </a:cubicBezTo>
                    <a:cubicBezTo>
                      <a:pt x="1959" y="109"/>
                      <a:pt x="1960" y="92"/>
                      <a:pt x="1961" y="80"/>
                    </a:cubicBezTo>
                    <a:cubicBezTo>
                      <a:pt x="1963" y="73"/>
                      <a:pt x="1964" y="67"/>
                      <a:pt x="1964" y="61"/>
                    </a:cubicBezTo>
                    <a:cubicBezTo>
                      <a:pt x="1964" y="60"/>
                      <a:pt x="1964" y="60"/>
                      <a:pt x="1964" y="60"/>
                    </a:cubicBezTo>
                    <a:cubicBezTo>
                      <a:pt x="1955" y="75"/>
                      <a:pt x="1951" y="88"/>
                      <a:pt x="1949" y="102"/>
                    </a:cubicBezTo>
                    <a:cubicBezTo>
                      <a:pt x="1949" y="102"/>
                      <a:pt x="1949" y="101"/>
                      <a:pt x="1949" y="101"/>
                    </a:cubicBezTo>
                    <a:cubicBezTo>
                      <a:pt x="1950" y="68"/>
                      <a:pt x="1953" y="30"/>
                      <a:pt x="1953" y="30"/>
                    </a:cubicBezTo>
                    <a:cubicBezTo>
                      <a:pt x="1951" y="38"/>
                      <a:pt x="1948" y="60"/>
                      <a:pt x="1946" y="83"/>
                    </a:cubicBezTo>
                    <a:cubicBezTo>
                      <a:pt x="1943" y="87"/>
                      <a:pt x="1940" y="92"/>
                      <a:pt x="1938" y="97"/>
                    </a:cubicBezTo>
                    <a:cubicBezTo>
                      <a:pt x="1938" y="91"/>
                      <a:pt x="1937" y="85"/>
                      <a:pt x="1937" y="79"/>
                    </a:cubicBezTo>
                    <a:cubicBezTo>
                      <a:pt x="1937" y="78"/>
                      <a:pt x="1937" y="78"/>
                      <a:pt x="1938" y="78"/>
                    </a:cubicBezTo>
                    <a:cubicBezTo>
                      <a:pt x="1937" y="78"/>
                      <a:pt x="1937" y="78"/>
                      <a:pt x="1937" y="78"/>
                    </a:cubicBezTo>
                    <a:cubicBezTo>
                      <a:pt x="1935" y="58"/>
                      <a:pt x="1934" y="41"/>
                      <a:pt x="1934" y="41"/>
                    </a:cubicBezTo>
                    <a:cubicBezTo>
                      <a:pt x="1935" y="52"/>
                      <a:pt x="1935" y="67"/>
                      <a:pt x="1934" y="82"/>
                    </a:cubicBezTo>
                    <a:cubicBezTo>
                      <a:pt x="1932" y="84"/>
                      <a:pt x="1930" y="87"/>
                      <a:pt x="1928" y="92"/>
                    </a:cubicBezTo>
                    <a:cubicBezTo>
                      <a:pt x="1927" y="82"/>
                      <a:pt x="1928" y="72"/>
                      <a:pt x="1928" y="68"/>
                    </a:cubicBezTo>
                    <a:cubicBezTo>
                      <a:pt x="1927" y="77"/>
                      <a:pt x="1926" y="88"/>
                      <a:pt x="1924" y="99"/>
                    </a:cubicBezTo>
                    <a:cubicBezTo>
                      <a:pt x="1922" y="94"/>
                      <a:pt x="1921" y="89"/>
                      <a:pt x="1919" y="84"/>
                    </a:cubicBezTo>
                    <a:cubicBezTo>
                      <a:pt x="1921" y="90"/>
                      <a:pt x="1922" y="96"/>
                      <a:pt x="1923" y="101"/>
                    </a:cubicBezTo>
                    <a:cubicBezTo>
                      <a:pt x="1923" y="105"/>
                      <a:pt x="1922" y="109"/>
                      <a:pt x="1921" y="113"/>
                    </a:cubicBezTo>
                    <a:cubicBezTo>
                      <a:pt x="1921" y="110"/>
                      <a:pt x="1921" y="108"/>
                      <a:pt x="1921" y="105"/>
                    </a:cubicBezTo>
                    <a:cubicBezTo>
                      <a:pt x="1920" y="108"/>
                      <a:pt x="1920" y="115"/>
                      <a:pt x="1920" y="119"/>
                    </a:cubicBezTo>
                    <a:cubicBezTo>
                      <a:pt x="1919" y="120"/>
                      <a:pt x="1919" y="122"/>
                      <a:pt x="1919" y="124"/>
                    </a:cubicBezTo>
                    <a:cubicBezTo>
                      <a:pt x="1918" y="125"/>
                      <a:pt x="1918" y="127"/>
                      <a:pt x="1918" y="128"/>
                    </a:cubicBezTo>
                    <a:cubicBezTo>
                      <a:pt x="1917" y="124"/>
                      <a:pt x="1916" y="120"/>
                      <a:pt x="1915" y="116"/>
                    </a:cubicBezTo>
                    <a:cubicBezTo>
                      <a:pt x="1916" y="108"/>
                      <a:pt x="1917" y="100"/>
                      <a:pt x="1917" y="94"/>
                    </a:cubicBezTo>
                    <a:cubicBezTo>
                      <a:pt x="1918" y="92"/>
                      <a:pt x="1918" y="91"/>
                      <a:pt x="1919" y="89"/>
                    </a:cubicBezTo>
                    <a:cubicBezTo>
                      <a:pt x="1918" y="90"/>
                      <a:pt x="1918" y="91"/>
                      <a:pt x="1917" y="92"/>
                    </a:cubicBezTo>
                    <a:cubicBezTo>
                      <a:pt x="1918" y="87"/>
                      <a:pt x="1918" y="83"/>
                      <a:pt x="1918" y="83"/>
                    </a:cubicBezTo>
                    <a:cubicBezTo>
                      <a:pt x="1918" y="85"/>
                      <a:pt x="1917" y="89"/>
                      <a:pt x="1916" y="93"/>
                    </a:cubicBezTo>
                    <a:cubicBezTo>
                      <a:pt x="1915" y="96"/>
                      <a:pt x="1913" y="99"/>
                      <a:pt x="1912" y="102"/>
                    </a:cubicBezTo>
                    <a:cubicBezTo>
                      <a:pt x="1911" y="101"/>
                      <a:pt x="1911" y="100"/>
                      <a:pt x="1911" y="99"/>
                    </a:cubicBezTo>
                    <a:cubicBezTo>
                      <a:pt x="1913" y="80"/>
                      <a:pt x="1915" y="62"/>
                      <a:pt x="1915" y="62"/>
                    </a:cubicBezTo>
                    <a:cubicBezTo>
                      <a:pt x="1913" y="66"/>
                      <a:pt x="1911" y="80"/>
                      <a:pt x="1909" y="95"/>
                    </a:cubicBezTo>
                    <a:cubicBezTo>
                      <a:pt x="1909" y="94"/>
                      <a:pt x="1908" y="92"/>
                      <a:pt x="1907" y="90"/>
                    </a:cubicBezTo>
                    <a:cubicBezTo>
                      <a:pt x="1908" y="92"/>
                      <a:pt x="1909" y="94"/>
                      <a:pt x="1909" y="96"/>
                    </a:cubicBezTo>
                    <a:cubicBezTo>
                      <a:pt x="1909" y="101"/>
                      <a:pt x="1908" y="106"/>
                      <a:pt x="1908" y="110"/>
                    </a:cubicBezTo>
                    <a:cubicBezTo>
                      <a:pt x="1907" y="113"/>
                      <a:pt x="1906" y="116"/>
                      <a:pt x="1905" y="118"/>
                    </a:cubicBezTo>
                    <a:cubicBezTo>
                      <a:pt x="1903" y="94"/>
                      <a:pt x="1898" y="64"/>
                      <a:pt x="1898" y="64"/>
                    </a:cubicBezTo>
                    <a:cubicBezTo>
                      <a:pt x="1898" y="64"/>
                      <a:pt x="1898" y="73"/>
                      <a:pt x="1899" y="82"/>
                    </a:cubicBezTo>
                    <a:cubicBezTo>
                      <a:pt x="1900" y="88"/>
                      <a:pt x="1899" y="98"/>
                      <a:pt x="1897" y="108"/>
                    </a:cubicBezTo>
                    <a:cubicBezTo>
                      <a:pt x="1896" y="111"/>
                      <a:pt x="1895" y="114"/>
                      <a:pt x="1894" y="117"/>
                    </a:cubicBezTo>
                    <a:cubicBezTo>
                      <a:pt x="1894" y="108"/>
                      <a:pt x="1893" y="99"/>
                      <a:pt x="1891" y="90"/>
                    </a:cubicBezTo>
                    <a:cubicBezTo>
                      <a:pt x="1894" y="78"/>
                      <a:pt x="1899" y="66"/>
                      <a:pt x="1898" y="56"/>
                    </a:cubicBezTo>
                    <a:cubicBezTo>
                      <a:pt x="1895" y="62"/>
                      <a:pt x="1892" y="67"/>
                      <a:pt x="1890" y="72"/>
                    </a:cubicBezTo>
                    <a:cubicBezTo>
                      <a:pt x="1893" y="34"/>
                      <a:pt x="1886" y="19"/>
                      <a:pt x="1886" y="19"/>
                    </a:cubicBezTo>
                    <a:cubicBezTo>
                      <a:pt x="1886" y="19"/>
                      <a:pt x="1889" y="31"/>
                      <a:pt x="1888" y="54"/>
                    </a:cubicBezTo>
                    <a:cubicBezTo>
                      <a:pt x="1887" y="61"/>
                      <a:pt x="1886" y="74"/>
                      <a:pt x="1885" y="88"/>
                    </a:cubicBezTo>
                    <a:cubicBezTo>
                      <a:pt x="1883" y="92"/>
                      <a:pt x="1882" y="97"/>
                      <a:pt x="1882" y="101"/>
                    </a:cubicBezTo>
                    <a:cubicBezTo>
                      <a:pt x="1881" y="98"/>
                      <a:pt x="1880" y="95"/>
                      <a:pt x="1878" y="91"/>
                    </a:cubicBezTo>
                    <a:cubicBezTo>
                      <a:pt x="1879" y="89"/>
                      <a:pt x="1879" y="87"/>
                      <a:pt x="1880" y="85"/>
                    </a:cubicBezTo>
                    <a:cubicBezTo>
                      <a:pt x="1879" y="87"/>
                      <a:pt x="1879" y="88"/>
                      <a:pt x="1878" y="90"/>
                    </a:cubicBezTo>
                    <a:cubicBezTo>
                      <a:pt x="1878" y="89"/>
                      <a:pt x="1877" y="88"/>
                      <a:pt x="1877" y="87"/>
                    </a:cubicBezTo>
                    <a:cubicBezTo>
                      <a:pt x="1877" y="83"/>
                      <a:pt x="1877" y="78"/>
                      <a:pt x="1877" y="74"/>
                    </a:cubicBezTo>
                    <a:cubicBezTo>
                      <a:pt x="1877" y="46"/>
                      <a:pt x="1867" y="40"/>
                      <a:pt x="1867" y="40"/>
                    </a:cubicBezTo>
                    <a:cubicBezTo>
                      <a:pt x="1867" y="40"/>
                      <a:pt x="1873" y="44"/>
                      <a:pt x="1873" y="70"/>
                    </a:cubicBezTo>
                    <a:cubicBezTo>
                      <a:pt x="1873" y="84"/>
                      <a:pt x="1868" y="108"/>
                      <a:pt x="1863" y="125"/>
                    </a:cubicBezTo>
                    <a:cubicBezTo>
                      <a:pt x="1863" y="123"/>
                      <a:pt x="1863" y="120"/>
                      <a:pt x="1862" y="118"/>
                    </a:cubicBezTo>
                    <a:cubicBezTo>
                      <a:pt x="1863" y="111"/>
                      <a:pt x="1864" y="105"/>
                      <a:pt x="1864" y="98"/>
                    </a:cubicBezTo>
                    <a:cubicBezTo>
                      <a:pt x="1863" y="101"/>
                      <a:pt x="1862" y="104"/>
                      <a:pt x="1862" y="107"/>
                    </a:cubicBezTo>
                    <a:cubicBezTo>
                      <a:pt x="1862" y="107"/>
                      <a:pt x="1862" y="106"/>
                      <a:pt x="1862" y="106"/>
                    </a:cubicBezTo>
                    <a:cubicBezTo>
                      <a:pt x="1862" y="97"/>
                      <a:pt x="1863" y="83"/>
                      <a:pt x="1869" y="75"/>
                    </a:cubicBezTo>
                    <a:cubicBezTo>
                      <a:pt x="1866" y="77"/>
                      <a:pt x="1863" y="82"/>
                      <a:pt x="1861" y="87"/>
                    </a:cubicBezTo>
                    <a:cubicBezTo>
                      <a:pt x="1862" y="78"/>
                      <a:pt x="1862" y="71"/>
                      <a:pt x="1862" y="71"/>
                    </a:cubicBezTo>
                    <a:cubicBezTo>
                      <a:pt x="1861" y="75"/>
                      <a:pt x="1858" y="97"/>
                      <a:pt x="1854" y="116"/>
                    </a:cubicBezTo>
                    <a:cubicBezTo>
                      <a:pt x="1854" y="114"/>
                      <a:pt x="1854" y="112"/>
                      <a:pt x="1853" y="110"/>
                    </a:cubicBezTo>
                    <a:cubicBezTo>
                      <a:pt x="1854" y="99"/>
                      <a:pt x="1855" y="87"/>
                      <a:pt x="1856" y="78"/>
                    </a:cubicBezTo>
                    <a:cubicBezTo>
                      <a:pt x="1858" y="71"/>
                      <a:pt x="1860" y="63"/>
                      <a:pt x="1862" y="55"/>
                    </a:cubicBezTo>
                    <a:cubicBezTo>
                      <a:pt x="1862" y="54"/>
                      <a:pt x="1862" y="52"/>
                      <a:pt x="1862" y="51"/>
                    </a:cubicBezTo>
                    <a:cubicBezTo>
                      <a:pt x="1860" y="54"/>
                      <a:pt x="1859" y="57"/>
                      <a:pt x="1858" y="60"/>
                    </a:cubicBezTo>
                    <a:cubicBezTo>
                      <a:pt x="1858" y="60"/>
                      <a:pt x="1858" y="59"/>
                      <a:pt x="1858" y="59"/>
                    </a:cubicBezTo>
                    <a:cubicBezTo>
                      <a:pt x="1858" y="60"/>
                      <a:pt x="1858" y="60"/>
                      <a:pt x="1858" y="60"/>
                    </a:cubicBezTo>
                    <a:cubicBezTo>
                      <a:pt x="1854" y="70"/>
                      <a:pt x="1851" y="80"/>
                      <a:pt x="1848" y="89"/>
                    </a:cubicBezTo>
                    <a:cubicBezTo>
                      <a:pt x="1854" y="30"/>
                      <a:pt x="1851" y="15"/>
                      <a:pt x="1850" y="13"/>
                    </a:cubicBezTo>
                    <a:cubicBezTo>
                      <a:pt x="1850" y="15"/>
                      <a:pt x="1851" y="22"/>
                      <a:pt x="1847" y="56"/>
                    </a:cubicBezTo>
                    <a:cubicBezTo>
                      <a:pt x="1845" y="68"/>
                      <a:pt x="1844" y="80"/>
                      <a:pt x="1842" y="91"/>
                    </a:cubicBezTo>
                    <a:cubicBezTo>
                      <a:pt x="1841" y="85"/>
                      <a:pt x="1839" y="79"/>
                      <a:pt x="1837" y="74"/>
                    </a:cubicBezTo>
                    <a:cubicBezTo>
                      <a:pt x="1838" y="51"/>
                      <a:pt x="1839" y="31"/>
                      <a:pt x="1839" y="31"/>
                    </a:cubicBezTo>
                    <a:cubicBezTo>
                      <a:pt x="1837" y="38"/>
                      <a:pt x="1835" y="53"/>
                      <a:pt x="1834" y="69"/>
                    </a:cubicBezTo>
                    <a:cubicBezTo>
                      <a:pt x="1833" y="68"/>
                      <a:pt x="1832" y="67"/>
                      <a:pt x="1831" y="65"/>
                    </a:cubicBezTo>
                    <a:cubicBezTo>
                      <a:pt x="1832" y="67"/>
                      <a:pt x="1833" y="69"/>
                      <a:pt x="1834" y="71"/>
                    </a:cubicBezTo>
                    <a:cubicBezTo>
                      <a:pt x="1834" y="71"/>
                      <a:pt x="1834" y="72"/>
                      <a:pt x="1834" y="73"/>
                    </a:cubicBezTo>
                    <a:cubicBezTo>
                      <a:pt x="1831" y="77"/>
                      <a:pt x="1828" y="81"/>
                      <a:pt x="1826" y="86"/>
                    </a:cubicBezTo>
                    <a:cubicBezTo>
                      <a:pt x="1825" y="85"/>
                      <a:pt x="1825" y="84"/>
                      <a:pt x="1824" y="83"/>
                    </a:cubicBezTo>
                    <a:cubicBezTo>
                      <a:pt x="1822" y="61"/>
                      <a:pt x="1819" y="38"/>
                      <a:pt x="1816" y="28"/>
                    </a:cubicBezTo>
                    <a:cubicBezTo>
                      <a:pt x="1816" y="28"/>
                      <a:pt x="1820" y="54"/>
                      <a:pt x="1823" y="83"/>
                    </a:cubicBezTo>
                    <a:cubicBezTo>
                      <a:pt x="1822" y="82"/>
                      <a:pt x="1821" y="81"/>
                      <a:pt x="1820" y="80"/>
                    </a:cubicBezTo>
                    <a:cubicBezTo>
                      <a:pt x="1822" y="81"/>
                      <a:pt x="1823" y="82"/>
                      <a:pt x="1824" y="84"/>
                    </a:cubicBezTo>
                    <a:cubicBezTo>
                      <a:pt x="1824" y="85"/>
                      <a:pt x="1824" y="86"/>
                      <a:pt x="1824" y="88"/>
                    </a:cubicBezTo>
                    <a:cubicBezTo>
                      <a:pt x="1824" y="86"/>
                      <a:pt x="1824" y="85"/>
                      <a:pt x="1824" y="84"/>
                    </a:cubicBezTo>
                    <a:cubicBezTo>
                      <a:pt x="1824" y="85"/>
                      <a:pt x="1825" y="86"/>
                      <a:pt x="1826" y="87"/>
                    </a:cubicBezTo>
                    <a:cubicBezTo>
                      <a:pt x="1825" y="88"/>
                      <a:pt x="1825" y="89"/>
                      <a:pt x="1824" y="90"/>
                    </a:cubicBezTo>
                    <a:cubicBezTo>
                      <a:pt x="1824" y="88"/>
                      <a:pt x="1824" y="88"/>
                      <a:pt x="1824" y="88"/>
                    </a:cubicBezTo>
                    <a:cubicBezTo>
                      <a:pt x="1824" y="88"/>
                      <a:pt x="1824" y="89"/>
                      <a:pt x="1824" y="90"/>
                    </a:cubicBezTo>
                    <a:cubicBezTo>
                      <a:pt x="1822" y="95"/>
                      <a:pt x="1821" y="100"/>
                      <a:pt x="1819" y="105"/>
                    </a:cubicBezTo>
                    <a:cubicBezTo>
                      <a:pt x="1819" y="105"/>
                      <a:pt x="1819" y="105"/>
                      <a:pt x="1819" y="105"/>
                    </a:cubicBezTo>
                    <a:cubicBezTo>
                      <a:pt x="1819" y="104"/>
                      <a:pt x="1819" y="104"/>
                      <a:pt x="1819" y="103"/>
                    </a:cubicBezTo>
                    <a:cubicBezTo>
                      <a:pt x="1819" y="104"/>
                      <a:pt x="1819" y="104"/>
                      <a:pt x="1819" y="105"/>
                    </a:cubicBezTo>
                    <a:cubicBezTo>
                      <a:pt x="1816" y="95"/>
                      <a:pt x="1814" y="87"/>
                      <a:pt x="1812" y="81"/>
                    </a:cubicBezTo>
                    <a:cubicBezTo>
                      <a:pt x="1813" y="85"/>
                      <a:pt x="1814" y="90"/>
                      <a:pt x="1815" y="95"/>
                    </a:cubicBezTo>
                    <a:cubicBezTo>
                      <a:pt x="1815" y="100"/>
                      <a:pt x="1814" y="104"/>
                      <a:pt x="1813" y="109"/>
                    </a:cubicBezTo>
                    <a:cubicBezTo>
                      <a:pt x="1814" y="104"/>
                      <a:pt x="1815" y="100"/>
                      <a:pt x="1815" y="95"/>
                    </a:cubicBezTo>
                    <a:cubicBezTo>
                      <a:pt x="1816" y="100"/>
                      <a:pt x="1817" y="105"/>
                      <a:pt x="1818" y="110"/>
                    </a:cubicBezTo>
                    <a:cubicBezTo>
                      <a:pt x="1818" y="110"/>
                      <a:pt x="1818" y="111"/>
                      <a:pt x="1818" y="111"/>
                    </a:cubicBezTo>
                    <a:cubicBezTo>
                      <a:pt x="1817" y="116"/>
                      <a:pt x="1815" y="122"/>
                      <a:pt x="1812" y="127"/>
                    </a:cubicBezTo>
                    <a:cubicBezTo>
                      <a:pt x="1812" y="125"/>
                      <a:pt x="1811" y="123"/>
                      <a:pt x="1811" y="120"/>
                    </a:cubicBezTo>
                    <a:cubicBezTo>
                      <a:pt x="1812" y="117"/>
                      <a:pt x="1813" y="113"/>
                      <a:pt x="1813" y="109"/>
                    </a:cubicBezTo>
                    <a:cubicBezTo>
                      <a:pt x="1813" y="112"/>
                      <a:pt x="1812" y="116"/>
                      <a:pt x="1811" y="119"/>
                    </a:cubicBezTo>
                    <a:cubicBezTo>
                      <a:pt x="1809" y="111"/>
                      <a:pt x="1807" y="103"/>
                      <a:pt x="1807" y="95"/>
                    </a:cubicBezTo>
                    <a:cubicBezTo>
                      <a:pt x="1807" y="96"/>
                      <a:pt x="1807" y="96"/>
                      <a:pt x="1807" y="96"/>
                    </a:cubicBezTo>
                    <a:cubicBezTo>
                      <a:pt x="1807" y="98"/>
                      <a:pt x="1807" y="98"/>
                      <a:pt x="1807" y="98"/>
                    </a:cubicBezTo>
                    <a:cubicBezTo>
                      <a:pt x="1807" y="97"/>
                      <a:pt x="1807" y="96"/>
                      <a:pt x="1807" y="95"/>
                    </a:cubicBezTo>
                    <a:cubicBezTo>
                      <a:pt x="1807" y="84"/>
                      <a:pt x="1805" y="69"/>
                      <a:pt x="1799" y="60"/>
                    </a:cubicBezTo>
                    <a:cubicBezTo>
                      <a:pt x="1803" y="70"/>
                      <a:pt x="1805" y="82"/>
                      <a:pt x="1805" y="93"/>
                    </a:cubicBezTo>
                    <a:cubicBezTo>
                      <a:pt x="1805" y="101"/>
                      <a:pt x="1803" y="109"/>
                      <a:pt x="1801" y="116"/>
                    </a:cubicBezTo>
                    <a:cubicBezTo>
                      <a:pt x="1799" y="115"/>
                      <a:pt x="1799" y="117"/>
                      <a:pt x="1800" y="120"/>
                    </a:cubicBezTo>
                    <a:cubicBezTo>
                      <a:pt x="1800" y="121"/>
                      <a:pt x="1799" y="121"/>
                      <a:pt x="1799" y="122"/>
                    </a:cubicBezTo>
                    <a:cubicBezTo>
                      <a:pt x="1798" y="119"/>
                      <a:pt x="1797" y="115"/>
                      <a:pt x="1796" y="112"/>
                    </a:cubicBezTo>
                    <a:cubicBezTo>
                      <a:pt x="1797" y="107"/>
                      <a:pt x="1797" y="103"/>
                      <a:pt x="1797" y="98"/>
                    </a:cubicBezTo>
                    <a:cubicBezTo>
                      <a:pt x="1797" y="90"/>
                      <a:pt x="1796" y="82"/>
                      <a:pt x="1794" y="74"/>
                    </a:cubicBezTo>
                    <a:cubicBezTo>
                      <a:pt x="1793" y="83"/>
                      <a:pt x="1793" y="93"/>
                      <a:pt x="1793" y="102"/>
                    </a:cubicBezTo>
                    <a:cubicBezTo>
                      <a:pt x="1790" y="94"/>
                      <a:pt x="1787" y="86"/>
                      <a:pt x="1785" y="81"/>
                    </a:cubicBezTo>
                    <a:cubicBezTo>
                      <a:pt x="1785" y="86"/>
                      <a:pt x="1785" y="86"/>
                      <a:pt x="1785" y="86"/>
                    </a:cubicBezTo>
                    <a:cubicBezTo>
                      <a:pt x="1785" y="97"/>
                      <a:pt x="1788" y="108"/>
                      <a:pt x="1792" y="118"/>
                    </a:cubicBezTo>
                    <a:cubicBezTo>
                      <a:pt x="1791" y="119"/>
                      <a:pt x="1791" y="120"/>
                      <a:pt x="1791" y="121"/>
                    </a:cubicBezTo>
                    <a:cubicBezTo>
                      <a:pt x="1791" y="123"/>
                      <a:pt x="1790" y="126"/>
                      <a:pt x="1789" y="128"/>
                    </a:cubicBezTo>
                    <a:cubicBezTo>
                      <a:pt x="1786" y="121"/>
                      <a:pt x="1784" y="113"/>
                      <a:pt x="1782" y="106"/>
                    </a:cubicBezTo>
                    <a:cubicBezTo>
                      <a:pt x="1782" y="101"/>
                      <a:pt x="1781" y="96"/>
                      <a:pt x="1780" y="92"/>
                    </a:cubicBezTo>
                    <a:cubicBezTo>
                      <a:pt x="1780" y="91"/>
                      <a:pt x="1780" y="90"/>
                      <a:pt x="1780" y="89"/>
                    </a:cubicBezTo>
                    <a:cubicBezTo>
                      <a:pt x="1780" y="90"/>
                      <a:pt x="1780" y="90"/>
                      <a:pt x="1780" y="91"/>
                    </a:cubicBezTo>
                    <a:cubicBezTo>
                      <a:pt x="1779" y="85"/>
                      <a:pt x="1777" y="79"/>
                      <a:pt x="1774" y="73"/>
                    </a:cubicBezTo>
                    <a:cubicBezTo>
                      <a:pt x="1774" y="73"/>
                      <a:pt x="1774" y="72"/>
                      <a:pt x="1774" y="71"/>
                    </a:cubicBezTo>
                    <a:cubicBezTo>
                      <a:pt x="1774" y="71"/>
                      <a:pt x="1773" y="72"/>
                      <a:pt x="1773" y="73"/>
                    </a:cubicBezTo>
                    <a:cubicBezTo>
                      <a:pt x="1773" y="72"/>
                      <a:pt x="1773" y="71"/>
                      <a:pt x="1772" y="71"/>
                    </a:cubicBezTo>
                    <a:cubicBezTo>
                      <a:pt x="1772" y="72"/>
                      <a:pt x="1773" y="73"/>
                      <a:pt x="1773" y="73"/>
                    </a:cubicBezTo>
                    <a:cubicBezTo>
                      <a:pt x="1770" y="79"/>
                      <a:pt x="1768" y="85"/>
                      <a:pt x="1766" y="91"/>
                    </a:cubicBezTo>
                    <a:cubicBezTo>
                      <a:pt x="1766" y="90"/>
                      <a:pt x="1766" y="90"/>
                      <a:pt x="1766" y="89"/>
                    </a:cubicBezTo>
                    <a:cubicBezTo>
                      <a:pt x="1766" y="90"/>
                      <a:pt x="1766" y="91"/>
                      <a:pt x="1766" y="92"/>
                    </a:cubicBezTo>
                    <a:cubicBezTo>
                      <a:pt x="1765" y="96"/>
                      <a:pt x="1765" y="101"/>
                      <a:pt x="1764" y="106"/>
                    </a:cubicBezTo>
                    <a:cubicBezTo>
                      <a:pt x="1763" y="113"/>
                      <a:pt x="1760" y="121"/>
                      <a:pt x="1757" y="128"/>
                    </a:cubicBezTo>
                    <a:cubicBezTo>
                      <a:pt x="1756" y="126"/>
                      <a:pt x="1756" y="123"/>
                      <a:pt x="1755" y="121"/>
                    </a:cubicBezTo>
                    <a:cubicBezTo>
                      <a:pt x="1755" y="120"/>
                      <a:pt x="1755" y="119"/>
                      <a:pt x="1755" y="118"/>
                    </a:cubicBezTo>
                    <a:cubicBezTo>
                      <a:pt x="1758" y="108"/>
                      <a:pt x="1761" y="97"/>
                      <a:pt x="1761" y="86"/>
                    </a:cubicBezTo>
                    <a:cubicBezTo>
                      <a:pt x="1761" y="81"/>
                      <a:pt x="1761" y="81"/>
                      <a:pt x="1761" y="81"/>
                    </a:cubicBezTo>
                    <a:cubicBezTo>
                      <a:pt x="1759" y="86"/>
                      <a:pt x="1756" y="94"/>
                      <a:pt x="1753" y="102"/>
                    </a:cubicBezTo>
                    <a:cubicBezTo>
                      <a:pt x="1753" y="93"/>
                      <a:pt x="1754" y="83"/>
                      <a:pt x="1752" y="74"/>
                    </a:cubicBezTo>
                    <a:cubicBezTo>
                      <a:pt x="1750" y="82"/>
                      <a:pt x="1749" y="90"/>
                      <a:pt x="1749" y="98"/>
                    </a:cubicBezTo>
                    <a:cubicBezTo>
                      <a:pt x="1749" y="103"/>
                      <a:pt x="1750" y="107"/>
                      <a:pt x="1750" y="112"/>
                    </a:cubicBezTo>
                    <a:cubicBezTo>
                      <a:pt x="1749" y="115"/>
                      <a:pt x="1748" y="119"/>
                      <a:pt x="1747" y="122"/>
                    </a:cubicBezTo>
                    <a:cubicBezTo>
                      <a:pt x="1744" y="112"/>
                      <a:pt x="1741" y="103"/>
                      <a:pt x="1741" y="93"/>
                    </a:cubicBezTo>
                    <a:cubicBezTo>
                      <a:pt x="1741" y="82"/>
                      <a:pt x="1743" y="70"/>
                      <a:pt x="1747" y="60"/>
                    </a:cubicBezTo>
                    <a:cubicBezTo>
                      <a:pt x="1742" y="69"/>
                      <a:pt x="1740" y="84"/>
                      <a:pt x="1740" y="95"/>
                    </a:cubicBezTo>
                    <a:cubicBezTo>
                      <a:pt x="1740" y="96"/>
                      <a:pt x="1740" y="97"/>
                      <a:pt x="1740" y="98"/>
                    </a:cubicBezTo>
                    <a:cubicBezTo>
                      <a:pt x="1739" y="96"/>
                      <a:pt x="1739" y="96"/>
                      <a:pt x="1739" y="96"/>
                    </a:cubicBezTo>
                    <a:cubicBezTo>
                      <a:pt x="1739" y="95"/>
                      <a:pt x="1739" y="95"/>
                      <a:pt x="1739" y="95"/>
                    </a:cubicBezTo>
                    <a:cubicBezTo>
                      <a:pt x="1739" y="103"/>
                      <a:pt x="1738" y="111"/>
                      <a:pt x="1736" y="119"/>
                    </a:cubicBezTo>
                    <a:cubicBezTo>
                      <a:pt x="1735" y="116"/>
                      <a:pt x="1734" y="112"/>
                      <a:pt x="1733" y="109"/>
                    </a:cubicBezTo>
                    <a:cubicBezTo>
                      <a:pt x="1734" y="113"/>
                      <a:pt x="1735" y="117"/>
                      <a:pt x="1735" y="120"/>
                    </a:cubicBezTo>
                    <a:cubicBezTo>
                      <a:pt x="1735" y="123"/>
                      <a:pt x="1734" y="125"/>
                      <a:pt x="1734" y="127"/>
                    </a:cubicBezTo>
                    <a:cubicBezTo>
                      <a:pt x="1732" y="122"/>
                      <a:pt x="1730" y="116"/>
                      <a:pt x="1728" y="111"/>
                    </a:cubicBezTo>
                    <a:cubicBezTo>
                      <a:pt x="1728" y="109"/>
                      <a:pt x="1728" y="108"/>
                      <a:pt x="1727" y="107"/>
                    </a:cubicBezTo>
                    <a:cubicBezTo>
                      <a:pt x="1727" y="106"/>
                      <a:pt x="1727" y="104"/>
                      <a:pt x="1727" y="103"/>
                    </a:cubicBezTo>
                    <a:cubicBezTo>
                      <a:pt x="1727" y="104"/>
                      <a:pt x="1727" y="105"/>
                      <a:pt x="1727" y="105"/>
                    </a:cubicBezTo>
                    <a:cubicBezTo>
                      <a:pt x="1726" y="99"/>
                      <a:pt x="1724" y="93"/>
                      <a:pt x="1721" y="87"/>
                    </a:cubicBezTo>
                    <a:cubicBezTo>
                      <a:pt x="1722" y="84"/>
                      <a:pt x="1724" y="82"/>
                      <a:pt x="1726" y="80"/>
                    </a:cubicBezTo>
                    <a:cubicBezTo>
                      <a:pt x="1724" y="82"/>
                      <a:pt x="1722" y="84"/>
                      <a:pt x="1720" y="86"/>
                    </a:cubicBezTo>
                    <a:cubicBezTo>
                      <a:pt x="1718" y="81"/>
                      <a:pt x="1715" y="77"/>
                      <a:pt x="1712" y="73"/>
                    </a:cubicBezTo>
                    <a:cubicBezTo>
                      <a:pt x="1715" y="77"/>
                      <a:pt x="1717" y="83"/>
                      <a:pt x="1718" y="90"/>
                    </a:cubicBezTo>
                    <a:cubicBezTo>
                      <a:pt x="1716" y="94"/>
                      <a:pt x="1714" y="99"/>
                      <a:pt x="1714" y="103"/>
                    </a:cubicBezTo>
                    <a:cubicBezTo>
                      <a:pt x="1712" y="97"/>
                      <a:pt x="1710" y="91"/>
                      <a:pt x="1708" y="85"/>
                    </a:cubicBezTo>
                    <a:cubicBezTo>
                      <a:pt x="1710" y="91"/>
                      <a:pt x="1710" y="97"/>
                      <a:pt x="1710" y="103"/>
                    </a:cubicBezTo>
                    <a:cubicBezTo>
                      <a:pt x="1710" y="108"/>
                      <a:pt x="1709" y="114"/>
                      <a:pt x="1709" y="119"/>
                    </a:cubicBezTo>
                    <a:cubicBezTo>
                      <a:pt x="1707" y="111"/>
                      <a:pt x="1706" y="104"/>
                      <a:pt x="1706" y="96"/>
                    </a:cubicBezTo>
                    <a:cubicBezTo>
                      <a:pt x="1706" y="87"/>
                      <a:pt x="1710" y="73"/>
                      <a:pt x="1715" y="65"/>
                    </a:cubicBezTo>
                    <a:cubicBezTo>
                      <a:pt x="1706" y="76"/>
                      <a:pt x="1702" y="96"/>
                      <a:pt x="1702" y="108"/>
                    </a:cubicBezTo>
                    <a:cubicBezTo>
                      <a:pt x="1702" y="119"/>
                      <a:pt x="1705" y="130"/>
                      <a:pt x="1705" y="141"/>
                    </a:cubicBezTo>
                    <a:cubicBezTo>
                      <a:pt x="1705" y="146"/>
                      <a:pt x="1705" y="150"/>
                      <a:pt x="1704" y="154"/>
                    </a:cubicBezTo>
                    <a:cubicBezTo>
                      <a:pt x="1698" y="135"/>
                      <a:pt x="1703" y="113"/>
                      <a:pt x="1699" y="93"/>
                    </a:cubicBezTo>
                    <a:cubicBezTo>
                      <a:pt x="1696" y="79"/>
                      <a:pt x="1691" y="64"/>
                      <a:pt x="1685" y="51"/>
                    </a:cubicBezTo>
                    <a:cubicBezTo>
                      <a:pt x="1684" y="52"/>
                      <a:pt x="1684" y="54"/>
                      <a:pt x="1684" y="55"/>
                    </a:cubicBezTo>
                    <a:cubicBezTo>
                      <a:pt x="1691" y="76"/>
                      <a:pt x="1693" y="92"/>
                      <a:pt x="1694" y="105"/>
                    </a:cubicBezTo>
                    <a:cubicBezTo>
                      <a:pt x="1693" y="109"/>
                      <a:pt x="1692" y="114"/>
                      <a:pt x="1692" y="118"/>
                    </a:cubicBezTo>
                    <a:cubicBezTo>
                      <a:pt x="1690" y="101"/>
                      <a:pt x="1686" y="82"/>
                      <a:pt x="1677" y="75"/>
                    </a:cubicBezTo>
                    <a:cubicBezTo>
                      <a:pt x="1683" y="83"/>
                      <a:pt x="1685" y="97"/>
                      <a:pt x="1685" y="106"/>
                    </a:cubicBezTo>
                    <a:cubicBezTo>
                      <a:pt x="1685" y="106"/>
                      <a:pt x="1685" y="107"/>
                      <a:pt x="1685" y="107"/>
                    </a:cubicBezTo>
                    <a:cubicBezTo>
                      <a:pt x="1684" y="104"/>
                      <a:pt x="1683" y="101"/>
                      <a:pt x="1683" y="98"/>
                    </a:cubicBezTo>
                    <a:cubicBezTo>
                      <a:pt x="1683" y="105"/>
                      <a:pt x="1683" y="111"/>
                      <a:pt x="1684" y="118"/>
                    </a:cubicBezTo>
                    <a:cubicBezTo>
                      <a:pt x="1684" y="122"/>
                      <a:pt x="1683" y="126"/>
                      <a:pt x="1682" y="130"/>
                    </a:cubicBezTo>
                    <a:cubicBezTo>
                      <a:pt x="1681" y="124"/>
                      <a:pt x="1679" y="118"/>
                      <a:pt x="1678" y="113"/>
                    </a:cubicBezTo>
                    <a:cubicBezTo>
                      <a:pt x="1679" y="121"/>
                      <a:pt x="1681" y="128"/>
                      <a:pt x="1681" y="136"/>
                    </a:cubicBezTo>
                    <a:cubicBezTo>
                      <a:pt x="1680" y="140"/>
                      <a:pt x="1679" y="144"/>
                      <a:pt x="1679" y="148"/>
                    </a:cubicBezTo>
                    <a:cubicBezTo>
                      <a:pt x="1679" y="147"/>
                      <a:pt x="1678" y="147"/>
                      <a:pt x="1678" y="146"/>
                    </a:cubicBezTo>
                    <a:cubicBezTo>
                      <a:pt x="1679" y="129"/>
                      <a:pt x="1676" y="106"/>
                      <a:pt x="1669" y="91"/>
                    </a:cubicBezTo>
                    <a:cubicBezTo>
                      <a:pt x="1670" y="88"/>
                      <a:pt x="1670" y="85"/>
                      <a:pt x="1672" y="83"/>
                    </a:cubicBezTo>
                    <a:cubicBezTo>
                      <a:pt x="1670" y="85"/>
                      <a:pt x="1669" y="88"/>
                      <a:pt x="1668" y="90"/>
                    </a:cubicBezTo>
                    <a:cubicBezTo>
                      <a:pt x="1668" y="88"/>
                      <a:pt x="1667" y="87"/>
                      <a:pt x="1666" y="85"/>
                    </a:cubicBezTo>
                    <a:cubicBezTo>
                      <a:pt x="1667" y="87"/>
                      <a:pt x="1668" y="89"/>
                      <a:pt x="1668" y="91"/>
                    </a:cubicBezTo>
                    <a:cubicBezTo>
                      <a:pt x="1667" y="95"/>
                      <a:pt x="1666" y="98"/>
                      <a:pt x="1665" y="101"/>
                    </a:cubicBezTo>
                    <a:cubicBezTo>
                      <a:pt x="1664" y="94"/>
                      <a:pt x="1662" y="87"/>
                      <a:pt x="1659" y="79"/>
                    </a:cubicBezTo>
                    <a:cubicBezTo>
                      <a:pt x="1659" y="78"/>
                      <a:pt x="1659" y="76"/>
                      <a:pt x="1659" y="75"/>
                    </a:cubicBezTo>
                    <a:cubicBezTo>
                      <a:pt x="1659" y="76"/>
                      <a:pt x="1659" y="77"/>
                      <a:pt x="1658" y="78"/>
                    </a:cubicBezTo>
                    <a:cubicBezTo>
                      <a:pt x="1656" y="71"/>
                      <a:pt x="1653" y="64"/>
                      <a:pt x="1648" y="56"/>
                    </a:cubicBezTo>
                    <a:cubicBezTo>
                      <a:pt x="1648" y="66"/>
                      <a:pt x="1652" y="78"/>
                      <a:pt x="1655" y="90"/>
                    </a:cubicBezTo>
                    <a:cubicBezTo>
                      <a:pt x="1653" y="99"/>
                      <a:pt x="1653" y="108"/>
                      <a:pt x="1652" y="117"/>
                    </a:cubicBezTo>
                    <a:cubicBezTo>
                      <a:pt x="1651" y="112"/>
                      <a:pt x="1649" y="107"/>
                      <a:pt x="1648" y="103"/>
                    </a:cubicBezTo>
                    <a:cubicBezTo>
                      <a:pt x="1650" y="109"/>
                      <a:pt x="1648" y="132"/>
                      <a:pt x="1648" y="140"/>
                    </a:cubicBezTo>
                    <a:cubicBezTo>
                      <a:pt x="1648" y="144"/>
                      <a:pt x="1648" y="147"/>
                      <a:pt x="1648" y="151"/>
                    </a:cubicBezTo>
                    <a:cubicBezTo>
                      <a:pt x="1648" y="151"/>
                      <a:pt x="1648" y="151"/>
                      <a:pt x="1648" y="151"/>
                    </a:cubicBezTo>
                    <a:cubicBezTo>
                      <a:pt x="1648" y="144"/>
                      <a:pt x="1647" y="137"/>
                      <a:pt x="1645" y="129"/>
                    </a:cubicBezTo>
                    <a:cubicBezTo>
                      <a:pt x="1643" y="119"/>
                      <a:pt x="1642" y="110"/>
                      <a:pt x="1643" y="100"/>
                    </a:cubicBezTo>
                    <a:cubicBezTo>
                      <a:pt x="1642" y="107"/>
                      <a:pt x="1642" y="113"/>
                      <a:pt x="1642" y="119"/>
                    </a:cubicBezTo>
                    <a:cubicBezTo>
                      <a:pt x="1640" y="114"/>
                      <a:pt x="1638" y="108"/>
                      <a:pt x="1636" y="103"/>
                    </a:cubicBezTo>
                    <a:cubicBezTo>
                      <a:pt x="1636" y="99"/>
                      <a:pt x="1637" y="95"/>
                      <a:pt x="1639" y="90"/>
                    </a:cubicBezTo>
                    <a:cubicBezTo>
                      <a:pt x="1637" y="94"/>
                      <a:pt x="1636" y="98"/>
                      <a:pt x="1635" y="102"/>
                    </a:cubicBezTo>
                    <a:cubicBezTo>
                      <a:pt x="1632" y="97"/>
                      <a:pt x="1630" y="93"/>
                      <a:pt x="1627" y="89"/>
                    </a:cubicBezTo>
                    <a:cubicBezTo>
                      <a:pt x="1630" y="93"/>
                      <a:pt x="1630" y="99"/>
                      <a:pt x="1630" y="103"/>
                    </a:cubicBezTo>
                    <a:cubicBezTo>
                      <a:pt x="1630" y="104"/>
                      <a:pt x="1631" y="109"/>
                      <a:pt x="1631" y="115"/>
                    </a:cubicBezTo>
                    <a:cubicBezTo>
                      <a:pt x="1630" y="120"/>
                      <a:pt x="1630" y="124"/>
                      <a:pt x="1629" y="129"/>
                    </a:cubicBezTo>
                    <a:cubicBezTo>
                      <a:pt x="1628" y="125"/>
                      <a:pt x="1627" y="122"/>
                      <a:pt x="1627" y="119"/>
                    </a:cubicBezTo>
                    <a:cubicBezTo>
                      <a:pt x="1627" y="115"/>
                      <a:pt x="1627" y="108"/>
                      <a:pt x="1626" y="105"/>
                    </a:cubicBezTo>
                    <a:cubicBezTo>
                      <a:pt x="1625" y="108"/>
                      <a:pt x="1625" y="110"/>
                      <a:pt x="1625" y="113"/>
                    </a:cubicBezTo>
                    <a:cubicBezTo>
                      <a:pt x="1624" y="109"/>
                      <a:pt x="1623" y="106"/>
                      <a:pt x="1623" y="103"/>
                    </a:cubicBezTo>
                    <a:cubicBezTo>
                      <a:pt x="1624" y="97"/>
                      <a:pt x="1625" y="90"/>
                      <a:pt x="1628" y="84"/>
                    </a:cubicBezTo>
                    <a:cubicBezTo>
                      <a:pt x="1625" y="90"/>
                      <a:pt x="1623" y="95"/>
                      <a:pt x="1622" y="101"/>
                    </a:cubicBezTo>
                    <a:cubicBezTo>
                      <a:pt x="1617" y="86"/>
                      <a:pt x="1614" y="83"/>
                      <a:pt x="1609" y="78"/>
                    </a:cubicBezTo>
                    <a:cubicBezTo>
                      <a:pt x="1616" y="84"/>
                      <a:pt x="1619" y="97"/>
                      <a:pt x="1620" y="107"/>
                    </a:cubicBezTo>
                    <a:cubicBezTo>
                      <a:pt x="1619" y="114"/>
                      <a:pt x="1617" y="120"/>
                      <a:pt x="1616" y="126"/>
                    </a:cubicBezTo>
                    <a:cubicBezTo>
                      <a:pt x="1615" y="121"/>
                      <a:pt x="1614" y="115"/>
                      <a:pt x="1612" y="109"/>
                    </a:cubicBezTo>
                    <a:cubicBezTo>
                      <a:pt x="1613" y="106"/>
                      <a:pt x="1613" y="103"/>
                      <a:pt x="1614" y="100"/>
                    </a:cubicBezTo>
                    <a:cubicBezTo>
                      <a:pt x="1613" y="102"/>
                      <a:pt x="1613" y="104"/>
                      <a:pt x="1612" y="108"/>
                    </a:cubicBezTo>
                    <a:cubicBezTo>
                      <a:pt x="1611" y="106"/>
                      <a:pt x="1610" y="103"/>
                      <a:pt x="1610" y="101"/>
                    </a:cubicBezTo>
                    <a:cubicBezTo>
                      <a:pt x="1610" y="100"/>
                      <a:pt x="1610" y="99"/>
                      <a:pt x="1611" y="98"/>
                    </a:cubicBezTo>
                    <a:cubicBezTo>
                      <a:pt x="1610" y="99"/>
                      <a:pt x="1610" y="100"/>
                      <a:pt x="1610" y="101"/>
                    </a:cubicBezTo>
                    <a:cubicBezTo>
                      <a:pt x="1607" y="94"/>
                      <a:pt x="1604" y="87"/>
                      <a:pt x="1600" y="81"/>
                    </a:cubicBezTo>
                    <a:cubicBezTo>
                      <a:pt x="1604" y="88"/>
                      <a:pt x="1605" y="99"/>
                      <a:pt x="1605" y="106"/>
                    </a:cubicBezTo>
                    <a:cubicBezTo>
                      <a:pt x="1605" y="111"/>
                      <a:pt x="1604" y="115"/>
                      <a:pt x="1604" y="120"/>
                    </a:cubicBezTo>
                    <a:cubicBezTo>
                      <a:pt x="1602" y="126"/>
                      <a:pt x="1600" y="133"/>
                      <a:pt x="1599" y="139"/>
                    </a:cubicBezTo>
                    <a:cubicBezTo>
                      <a:pt x="1599" y="137"/>
                      <a:pt x="1599" y="136"/>
                      <a:pt x="1599" y="135"/>
                    </a:cubicBezTo>
                    <a:cubicBezTo>
                      <a:pt x="1600" y="127"/>
                      <a:pt x="1600" y="120"/>
                      <a:pt x="1601" y="113"/>
                    </a:cubicBezTo>
                    <a:cubicBezTo>
                      <a:pt x="1600" y="117"/>
                      <a:pt x="1600" y="123"/>
                      <a:pt x="1599" y="129"/>
                    </a:cubicBezTo>
                    <a:cubicBezTo>
                      <a:pt x="1599" y="120"/>
                      <a:pt x="1599" y="111"/>
                      <a:pt x="1597" y="103"/>
                    </a:cubicBezTo>
                    <a:cubicBezTo>
                      <a:pt x="1598" y="101"/>
                      <a:pt x="1599" y="100"/>
                      <a:pt x="1599" y="99"/>
                    </a:cubicBezTo>
                    <a:cubicBezTo>
                      <a:pt x="1599" y="100"/>
                      <a:pt x="1598" y="101"/>
                      <a:pt x="1597" y="102"/>
                    </a:cubicBezTo>
                    <a:cubicBezTo>
                      <a:pt x="1595" y="88"/>
                      <a:pt x="1591" y="75"/>
                      <a:pt x="1582" y="60"/>
                    </a:cubicBezTo>
                    <a:cubicBezTo>
                      <a:pt x="1582" y="61"/>
                      <a:pt x="1582" y="61"/>
                      <a:pt x="1582" y="61"/>
                    </a:cubicBezTo>
                    <a:cubicBezTo>
                      <a:pt x="1582" y="76"/>
                      <a:pt x="1592" y="94"/>
                      <a:pt x="1592" y="111"/>
                    </a:cubicBezTo>
                    <a:cubicBezTo>
                      <a:pt x="1591" y="115"/>
                      <a:pt x="1590" y="120"/>
                      <a:pt x="1589" y="125"/>
                    </a:cubicBezTo>
                    <a:cubicBezTo>
                      <a:pt x="1585" y="109"/>
                      <a:pt x="1578" y="94"/>
                      <a:pt x="1567" y="83"/>
                    </a:cubicBezTo>
                    <a:cubicBezTo>
                      <a:pt x="1574" y="90"/>
                      <a:pt x="1578" y="101"/>
                      <a:pt x="1580" y="111"/>
                    </a:cubicBezTo>
                    <a:cubicBezTo>
                      <a:pt x="1579" y="111"/>
                      <a:pt x="1579" y="110"/>
                      <a:pt x="1579" y="109"/>
                    </a:cubicBezTo>
                    <a:cubicBezTo>
                      <a:pt x="1579" y="117"/>
                      <a:pt x="1580" y="126"/>
                      <a:pt x="1580" y="134"/>
                    </a:cubicBezTo>
                    <a:cubicBezTo>
                      <a:pt x="1580" y="136"/>
                      <a:pt x="1580" y="138"/>
                      <a:pt x="1580" y="140"/>
                    </a:cubicBezTo>
                    <a:cubicBezTo>
                      <a:pt x="1577" y="127"/>
                      <a:pt x="1576" y="113"/>
                      <a:pt x="1572" y="100"/>
                    </a:cubicBezTo>
                    <a:cubicBezTo>
                      <a:pt x="1574" y="109"/>
                      <a:pt x="1574" y="123"/>
                      <a:pt x="1574" y="135"/>
                    </a:cubicBezTo>
                    <a:cubicBezTo>
                      <a:pt x="1575" y="138"/>
                      <a:pt x="1575" y="141"/>
                      <a:pt x="1575" y="144"/>
                    </a:cubicBezTo>
                    <a:cubicBezTo>
                      <a:pt x="1575" y="143"/>
                      <a:pt x="1575" y="142"/>
                      <a:pt x="1575" y="142"/>
                    </a:cubicBezTo>
                    <a:cubicBezTo>
                      <a:pt x="1574" y="139"/>
                      <a:pt x="1574" y="137"/>
                      <a:pt x="1574" y="135"/>
                    </a:cubicBezTo>
                    <a:cubicBezTo>
                      <a:pt x="1574" y="130"/>
                      <a:pt x="1573" y="125"/>
                      <a:pt x="1572" y="120"/>
                    </a:cubicBezTo>
                    <a:cubicBezTo>
                      <a:pt x="1572" y="119"/>
                      <a:pt x="1572" y="119"/>
                      <a:pt x="1572" y="118"/>
                    </a:cubicBezTo>
                    <a:cubicBezTo>
                      <a:pt x="1572" y="119"/>
                      <a:pt x="1572" y="119"/>
                      <a:pt x="1572" y="120"/>
                    </a:cubicBezTo>
                    <a:cubicBezTo>
                      <a:pt x="1571" y="116"/>
                      <a:pt x="1569" y="112"/>
                      <a:pt x="1568" y="108"/>
                    </a:cubicBezTo>
                    <a:cubicBezTo>
                      <a:pt x="1569" y="106"/>
                      <a:pt x="1569" y="105"/>
                      <a:pt x="1570" y="103"/>
                    </a:cubicBezTo>
                    <a:cubicBezTo>
                      <a:pt x="1569" y="105"/>
                      <a:pt x="1568" y="106"/>
                      <a:pt x="1568" y="107"/>
                    </a:cubicBezTo>
                    <a:cubicBezTo>
                      <a:pt x="1561" y="91"/>
                      <a:pt x="1551" y="76"/>
                      <a:pt x="1534" y="63"/>
                    </a:cubicBezTo>
                    <a:cubicBezTo>
                      <a:pt x="1540" y="68"/>
                      <a:pt x="1544" y="74"/>
                      <a:pt x="1548" y="79"/>
                    </a:cubicBezTo>
                    <a:cubicBezTo>
                      <a:pt x="1547" y="81"/>
                      <a:pt x="1545" y="85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0" y="94"/>
                      <a:pt x="1538" y="98"/>
                      <a:pt x="1536" y="103"/>
                    </a:cubicBezTo>
                    <a:cubicBezTo>
                      <a:pt x="1535" y="100"/>
                      <a:pt x="1535" y="98"/>
                      <a:pt x="1534" y="96"/>
                    </a:cubicBezTo>
                    <a:cubicBezTo>
                      <a:pt x="1534" y="99"/>
                      <a:pt x="1535" y="103"/>
                      <a:pt x="1535" y="106"/>
                    </a:cubicBezTo>
                    <a:cubicBezTo>
                      <a:pt x="1534" y="108"/>
                      <a:pt x="1533" y="111"/>
                      <a:pt x="1532" y="113"/>
                    </a:cubicBezTo>
                    <a:cubicBezTo>
                      <a:pt x="1531" y="111"/>
                      <a:pt x="1531" y="109"/>
                      <a:pt x="1530" y="107"/>
                    </a:cubicBezTo>
                    <a:cubicBezTo>
                      <a:pt x="1531" y="100"/>
                      <a:pt x="1532" y="93"/>
                      <a:pt x="1532" y="88"/>
                    </a:cubicBezTo>
                    <a:cubicBezTo>
                      <a:pt x="1532" y="87"/>
                      <a:pt x="1532" y="87"/>
                      <a:pt x="1532" y="87"/>
                    </a:cubicBezTo>
                    <a:cubicBezTo>
                      <a:pt x="1530" y="92"/>
                      <a:pt x="1529" y="97"/>
                      <a:pt x="1528" y="102"/>
                    </a:cubicBezTo>
                    <a:cubicBezTo>
                      <a:pt x="1525" y="96"/>
                      <a:pt x="1523" y="90"/>
                      <a:pt x="1520" y="84"/>
                    </a:cubicBezTo>
                    <a:cubicBezTo>
                      <a:pt x="1523" y="90"/>
                      <a:pt x="1525" y="97"/>
                      <a:pt x="1527" y="104"/>
                    </a:cubicBezTo>
                    <a:cubicBezTo>
                      <a:pt x="1526" y="108"/>
                      <a:pt x="1526" y="111"/>
                      <a:pt x="1525" y="115"/>
                    </a:cubicBezTo>
                    <a:cubicBezTo>
                      <a:pt x="1523" y="110"/>
                      <a:pt x="1521" y="106"/>
                      <a:pt x="1519" y="102"/>
                    </a:cubicBezTo>
                    <a:cubicBezTo>
                      <a:pt x="1521" y="107"/>
                      <a:pt x="1522" y="114"/>
                      <a:pt x="1523" y="121"/>
                    </a:cubicBezTo>
                    <a:cubicBezTo>
                      <a:pt x="1522" y="126"/>
                      <a:pt x="1520" y="131"/>
                      <a:pt x="1519" y="135"/>
                    </a:cubicBezTo>
                    <a:cubicBezTo>
                      <a:pt x="1517" y="132"/>
                      <a:pt x="1516" y="129"/>
                      <a:pt x="1515" y="125"/>
                    </a:cubicBezTo>
                    <a:cubicBezTo>
                      <a:pt x="1516" y="118"/>
                      <a:pt x="1517" y="111"/>
                      <a:pt x="1518" y="104"/>
                    </a:cubicBezTo>
                    <a:cubicBezTo>
                      <a:pt x="1517" y="109"/>
                      <a:pt x="1515" y="114"/>
                      <a:pt x="1513" y="120"/>
                    </a:cubicBezTo>
                    <a:cubicBezTo>
                      <a:pt x="1512" y="115"/>
                      <a:pt x="1511" y="111"/>
                      <a:pt x="1510" y="107"/>
                    </a:cubicBezTo>
                    <a:cubicBezTo>
                      <a:pt x="1510" y="103"/>
                      <a:pt x="1511" y="98"/>
                      <a:pt x="1511" y="94"/>
                    </a:cubicBezTo>
                    <a:cubicBezTo>
                      <a:pt x="1511" y="91"/>
                      <a:pt x="1510" y="88"/>
                      <a:pt x="1510" y="85"/>
                    </a:cubicBezTo>
                    <a:cubicBezTo>
                      <a:pt x="1509" y="89"/>
                      <a:pt x="1508" y="93"/>
                      <a:pt x="1507" y="99"/>
                    </a:cubicBezTo>
                    <a:cubicBezTo>
                      <a:pt x="1504" y="91"/>
                      <a:pt x="1500" y="84"/>
                      <a:pt x="1495" y="77"/>
                    </a:cubicBezTo>
                    <a:cubicBezTo>
                      <a:pt x="1498" y="86"/>
                      <a:pt x="1502" y="95"/>
                      <a:pt x="1505" y="104"/>
                    </a:cubicBezTo>
                    <a:cubicBezTo>
                      <a:pt x="1505" y="106"/>
                      <a:pt x="1505" y="107"/>
                      <a:pt x="1505" y="109"/>
                    </a:cubicBezTo>
                    <a:cubicBezTo>
                      <a:pt x="1504" y="107"/>
                      <a:pt x="1503" y="105"/>
                      <a:pt x="1502" y="103"/>
                    </a:cubicBezTo>
                    <a:cubicBezTo>
                      <a:pt x="1502" y="103"/>
                      <a:pt x="1502" y="102"/>
                      <a:pt x="1502" y="102"/>
                    </a:cubicBezTo>
                    <a:cubicBezTo>
                      <a:pt x="1502" y="102"/>
                      <a:pt x="1502" y="103"/>
                      <a:pt x="1502" y="103"/>
                    </a:cubicBezTo>
                    <a:cubicBezTo>
                      <a:pt x="1497" y="94"/>
                      <a:pt x="1492" y="86"/>
                      <a:pt x="1485" y="79"/>
                    </a:cubicBezTo>
                    <a:cubicBezTo>
                      <a:pt x="1487" y="75"/>
                      <a:pt x="1489" y="71"/>
                      <a:pt x="1491" y="68"/>
                    </a:cubicBezTo>
                    <a:cubicBezTo>
                      <a:pt x="1489" y="69"/>
                      <a:pt x="1486" y="73"/>
                      <a:pt x="1484" y="77"/>
                    </a:cubicBezTo>
                    <a:cubicBezTo>
                      <a:pt x="1480" y="73"/>
                      <a:pt x="1476" y="69"/>
                      <a:pt x="1471" y="65"/>
                    </a:cubicBezTo>
                    <a:cubicBezTo>
                      <a:pt x="1476" y="70"/>
                      <a:pt x="1480" y="75"/>
                      <a:pt x="1483" y="79"/>
                    </a:cubicBezTo>
                    <a:cubicBezTo>
                      <a:pt x="1480" y="86"/>
                      <a:pt x="1477" y="96"/>
                      <a:pt x="1474" y="105"/>
                    </a:cubicBezTo>
                    <a:cubicBezTo>
                      <a:pt x="1471" y="99"/>
                      <a:pt x="1467" y="94"/>
                      <a:pt x="1464" y="88"/>
                    </a:cubicBezTo>
                    <a:cubicBezTo>
                      <a:pt x="1464" y="87"/>
                      <a:pt x="1464" y="86"/>
                      <a:pt x="1465" y="85"/>
                    </a:cubicBezTo>
                    <a:cubicBezTo>
                      <a:pt x="1464" y="86"/>
                      <a:pt x="1464" y="87"/>
                      <a:pt x="1464" y="88"/>
                    </a:cubicBezTo>
                    <a:cubicBezTo>
                      <a:pt x="1463" y="87"/>
                      <a:pt x="1462" y="86"/>
                      <a:pt x="1461" y="85"/>
                    </a:cubicBezTo>
                    <a:cubicBezTo>
                      <a:pt x="1462" y="86"/>
                      <a:pt x="1463" y="87"/>
                      <a:pt x="1463" y="88"/>
                    </a:cubicBezTo>
                    <a:cubicBezTo>
                      <a:pt x="1462" y="91"/>
                      <a:pt x="1461" y="93"/>
                      <a:pt x="1460" y="95"/>
                    </a:cubicBezTo>
                    <a:cubicBezTo>
                      <a:pt x="1459" y="94"/>
                      <a:pt x="1459" y="92"/>
                      <a:pt x="1458" y="91"/>
                    </a:cubicBezTo>
                    <a:cubicBezTo>
                      <a:pt x="1459" y="92"/>
                      <a:pt x="1459" y="94"/>
                      <a:pt x="1460" y="95"/>
                    </a:cubicBezTo>
                    <a:cubicBezTo>
                      <a:pt x="1456" y="103"/>
                      <a:pt x="1453" y="112"/>
                      <a:pt x="1451" y="121"/>
                    </a:cubicBezTo>
                    <a:cubicBezTo>
                      <a:pt x="1450" y="112"/>
                      <a:pt x="1449" y="103"/>
                      <a:pt x="1449" y="97"/>
                    </a:cubicBezTo>
                    <a:cubicBezTo>
                      <a:pt x="1447" y="100"/>
                      <a:pt x="1446" y="105"/>
                      <a:pt x="1445" y="110"/>
                    </a:cubicBezTo>
                    <a:cubicBezTo>
                      <a:pt x="1445" y="92"/>
                      <a:pt x="1444" y="61"/>
                      <a:pt x="1442" y="57"/>
                    </a:cubicBezTo>
                    <a:cubicBezTo>
                      <a:pt x="1441" y="79"/>
                      <a:pt x="1442" y="100"/>
                      <a:pt x="1442" y="122"/>
                    </a:cubicBezTo>
                    <a:cubicBezTo>
                      <a:pt x="1442" y="123"/>
                      <a:pt x="1442" y="124"/>
                      <a:pt x="1442" y="125"/>
                    </a:cubicBezTo>
                    <a:cubicBezTo>
                      <a:pt x="1440" y="114"/>
                      <a:pt x="1436" y="103"/>
                      <a:pt x="1431" y="94"/>
                    </a:cubicBezTo>
                    <a:cubicBezTo>
                      <a:pt x="1430" y="89"/>
                      <a:pt x="1430" y="84"/>
                      <a:pt x="1431" y="80"/>
                    </a:cubicBezTo>
                    <a:cubicBezTo>
                      <a:pt x="1430" y="83"/>
                      <a:pt x="1429" y="87"/>
                      <a:pt x="1428" y="90"/>
                    </a:cubicBezTo>
                    <a:cubicBezTo>
                      <a:pt x="1426" y="88"/>
                      <a:pt x="1424" y="85"/>
                      <a:pt x="1422" y="83"/>
                    </a:cubicBezTo>
                    <a:cubicBezTo>
                      <a:pt x="1424" y="86"/>
                      <a:pt x="1426" y="89"/>
                      <a:pt x="1428" y="92"/>
                    </a:cubicBezTo>
                    <a:cubicBezTo>
                      <a:pt x="1427" y="96"/>
                      <a:pt x="1426" y="100"/>
                      <a:pt x="1426" y="103"/>
                    </a:cubicBezTo>
                    <a:cubicBezTo>
                      <a:pt x="1425" y="102"/>
                      <a:pt x="1425" y="101"/>
                      <a:pt x="1425" y="100"/>
                    </a:cubicBezTo>
                    <a:cubicBezTo>
                      <a:pt x="1425" y="101"/>
                      <a:pt x="1425" y="102"/>
                      <a:pt x="1426" y="104"/>
                    </a:cubicBezTo>
                    <a:cubicBezTo>
                      <a:pt x="1425" y="106"/>
                      <a:pt x="1425" y="109"/>
                      <a:pt x="1424" y="111"/>
                    </a:cubicBezTo>
                    <a:cubicBezTo>
                      <a:pt x="1422" y="107"/>
                      <a:pt x="1421" y="103"/>
                      <a:pt x="1419" y="99"/>
                    </a:cubicBezTo>
                    <a:cubicBezTo>
                      <a:pt x="1418" y="91"/>
                      <a:pt x="1418" y="82"/>
                      <a:pt x="1419" y="74"/>
                    </a:cubicBezTo>
                    <a:cubicBezTo>
                      <a:pt x="1418" y="80"/>
                      <a:pt x="1416" y="86"/>
                      <a:pt x="1415" y="92"/>
                    </a:cubicBezTo>
                    <a:cubicBezTo>
                      <a:pt x="1414" y="91"/>
                      <a:pt x="1413" y="89"/>
                      <a:pt x="1412" y="88"/>
                    </a:cubicBezTo>
                    <a:cubicBezTo>
                      <a:pt x="1413" y="89"/>
                      <a:pt x="1414" y="91"/>
                      <a:pt x="1415" y="93"/>
                    </a:cubicBezTo>
                    <a:cubicBezTo>
                      <a:pt x="1414" y="95"/>
                      <a:pt x="1414" y="97"/>
                      <a:pt x="1414" y="98"/>
                    </a:cubicBezTo>
                    <a:cubicBezTo>
                      <a:pt x="1411" y="93"/>
                      <a:pt x="1409" y="88"/>
                      <a:pt x="1405" y="84"/>
                    </a:cubicBezTo>
                    <a:cubicBezTo>
                      <a:pt x="1408" y="88"/>
                      <a:pt x="1410" y="95"/>
                      <a:pt x="1413" y="103"/>
                    </a:cubicBezTo>
                    <a:cubicBezTo>
                      <a:pt x="1412" y="106"/>
                      <a:pt x="1411" y="110"/>
                      <a:pt x="1411" y="113"/>
                    </a:cubicBezTo>
                    <a:cubicBezTo>
                      <a:pt x="1408" y="108"/>
                      <a:pt x="1406" y="102"/>
                      <a:pt x="1403" y="96"/>
                    </a:cubicBezTo>
                    <a:cubicBezTo>
                      <a:pt x="1403" y="91"/>
                      <a:pt x="1404" y="86"/>
                      <a:pt x="1405" y="83"/>
                    </a:cubicBezTo>
                    <a:cubicBezTo>
                      <a:pt x="1404" y="87"/>
                      <a:pt x="1403" y="90"/>
                      <a:pt x="1401" y="93"/>
                    </a:cubicBezTo>
                    <a:cubicBezTo>
                      <a:pt x="1396" y="83"/>
                      <a:pt x="1389" y="74"/>
                      <a:pt x="1380" y="64"/>
                    </a:cubicBezTo>
                    <a:cubicBezTo>
                      <a:pt x="1389" y="74"/>
                      <a:pt x="1395" y="86"/>
                      <a:pt x="1400" y="97"/>
                    </a:cubicBezTo>
                    <a:cubicBezTo>
                      <a:pt x="1399" y="99"/>
                      <a:pt x="1399" y="101"/>
                      <a:pt x="1398" y="103"/>
                    </a:cubicBezTo>
                    <a:cubicBezTo>
                      <a:pt x="1397" y="98"/>
                      <a:pt x="1396" y="93"/>
                      <a:pt x="1394" y="88"/>
                    </a:cubicBezTo>
                    <a:cubicBezTo>
                      <a:pt x="1394" y="91"/>
                      <a:pt x="1395" y="98"/>
                      <a:pt x="1397" y="106"/>
                    </a:cubicBezTo>
                    <a:cubicBezTo>
                      <a:pt x="1397" y="108"/>
                      <a:pt x="1396" y="109"/>
                      <a:pt x="1396" y="110"/>
                    </a:cubicBezTo>
                    <a:cubicBezTo>
                      <a:pt x="1390" y="97"/>
                      <a:pt x="1383" y="83"/>
                      <a:pt x="1372" y="72"/>
                    </a:cubicBezTo>
                    <a:cubicBezTo>
                      <a:pt x="1370" y="61"/>
                      <a:pt x="1368" y="51"/>
                      <a:pt x="1366" y="41"/>
                    </a:cubicBezTo>
                    <a:cubicBezTo>
                      <a:pt x="1366" y="48"/>
                      <a:pt x="1366" y="55"/>
                      <a:pt x="1366" y="61"/>
                    </a:cubicBezTo>
                    <a:cubicBezTo>
                      <a:pt x="1366" y="63"/>
                      <a:pt x="1366" y="64"/>
                      <a:pt x="1366" y="66"/>
                    </a:cubicBezTo>
                    <a:cubicBezTo>
                      <a:pt x="1365" y="65"/>
                      <a:pt x="1365" y="65"/>
                      <a:pt x="1365" y="65"/>
                    </a:cubicBezTo>
                    <a:cubicBezTo>
                      <a:pt x="1365" y="65"/>
                      <a:pt x="1365" y="65"/>
                      <a:pt x="1366" y="66"/>
                    </a:cubicBezTo>
                    <a:cubicBezTo>
                      <a:pt x="1366" y="75"/>
                      <a:pt x="1367" y="85"/>
                      <a:pt x="1367" y="94"/>
                    </a:cubicBezTo>
                    <a:cubicBezTo>
                      <a:pt x="1365" y="88"/>
                      <a:pt x="1362" y="81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3" y="67"/>
                      <a:pt x="1346" y="59"/>
                      <a:pt x="1336" y="50"/>
                    </a:cubicBezTo>
                    <a:cubicBezTo>
                      <a:pt x="1339" y="54"/>
                      <a:pt x="1341" y="58"/>
                      <a:pt x="1343" y="61"/>
                    </a:cubicBezTo>
                    <a:cubicBezTo>
                      <a:pt x="1342" y="64"/>
                      <a:pt x="1342" y="68"/>
                      <a:pt x="1341" y="73"/>
                    </a:cubicBezTo>
                    <a:cubicBezTo>
                      <a:pt x="1339" y="70"/>
                      <a:pt x="1336" y="67"/>
                      <a:pt x="1334" y="65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2" y="62"/>
                      <a:pt x="1330" y="61"/>
                      <a:pt x="1328" y="59"/>
                    </a:cubicBezTo>
                    <a:cubicBezTo>
                      <a:pt x="1330" y="61"/>
                      <a:pt x="1332" y="63"/>
                      <a:pt x="1333" y="65"/>
                    </a:cubicBezTo>
                    <a:cubicBezTo>
                      <a:pt x="1332" y="67"/>
                      <a:pt x="1330" y="69"/>
                      <a:pt x="1329" y="72"/>
                    </a:cubicBezTo>
                    <a:cubicBezTo>
                      <a:pt x="1328" y="67"/>
                      <a:pt x="1328" y="61"/>
                      <a:pt x="1327" y="56"/>
                    </a:cubicBezTo>
                    <a:cubicBezTo>
                      <a:pt x="1328" y="54"/>
                      <a:pt x="1329" y="53"/>
                      <a:pt x="1330" y="51"/>
                    </a:cubicBezTo>
                    <a:cubicBezTo>
                      <a:pt x="1329" y="52"/>
                      <a:pt x="1328" y="53"/>
                      <a:pt x="1327" y="55"/>
                    </a:cubicBezTo>
                    <a:cubicBezTo>
                      <a:pt x="1325" y="45"/>
                      <a:pt x="1323" y="35"/>
                      <a:pt x="1320" y="26"/>
                    </a:cubicBezTo>
                    <a:cubicBezTo>
                      <a:pt x="1319" y="30"/>
                      <a:pt x="1319" y="34"/>
                      <a:pt x="1319" y="37"/>
                    </a:cubicBezTo>
                    <a:cubicBezTo>
                      <a:pt x="1319" y="45"/>
                      <a:pt x="1320" y="53"/>
                      <a:pt x="1321" y="60"/>
                    </a:cubicBezTo>
                    <a:cubicBezTo>
                      <a:pt x="1317" y="65"/>
                      <a:pt x="1313" y="69"/>
                      <a:pt x="1308" y="75"/>
                    </a:cubicBezTo>
                    <a:cubicBezTo>
                      <a:pt x="1308" y="72"/>
                      <a:pt x="1307" y="70"/>
                      <a:pt x="1306" y="67"/>
                    </a:cubicBezTo>
                    <a:cubicBezTo>
                      <a:pt x="1306" y="70"/>
                      <a:pt x="1307" y="73"/>
                      <a:pt x="1307" y="76"/>
                    </a:cubicBezTo>
                    <a:cubicBezTo>
                      <a:pt x="1306" y="77"/>
                      <a:pt x="1306" y="78"/>
                      <a:pt x="1306" y="78"/>
                    </a:cubicBezTo>
                    <a:cubicBezTo>
                      <a:pt x="1304" y="75"/>
                      <a:pt x="1302" y="72"/>
                      <a:pt x="1300" y="68"/>
                    </a:cubicBezTo>
                    <a:cubicBezTo>
                      <a:pt x="1300" y="65"/>
                      <a:pt x="1301" y="63"/>
                      <a:pt x="1301" y="62"/>
                    </a:cubicBezTo>
                    <a:cubicBezTo>
                      <a:pt x="1300" y="63"/>
                      <a:pt x="1299" y="65"/>
                      <a:pt x="1298" y="67"/>
                    </a:cubicBezTo>
                    <a:cubicBezTo>
                      <a:pt x="1292" y="57"/>
                      <a:pt x="1283" y="47"/>
                      <a:pt x="1270" y="34"/>
                    </a:cubicBezTo>
                    <a:cubicBezTo>
                      <a:pt x="1283" y="49"/>
                      <a:pt x="1291" y="60"/>
                      <a:pt x="1298" y="69"/>
                    </a:cubicBezTo>
                    <a:cubicBezTo>
                      <a:pt x="1297" y="72"/>
                      <a:pt x="1296" y="75"/>
                      <a:pt x="1296" y="79"/>
                    </a:cubicBezTo>
                    <a:cubicBezTo>
                      <a:pt x="1290" y="68"/>
                      <a:pt x="1282" y="58"/>
                      <a:pt x="1270" y="52"/>
                    </a:cubicBezTo>
                    <a:cubicBezTo>
                      <a:pt x="1284" y="60"/>
                      <a:pt x="1291" y="72"/>
                      <a:pt x="1296" y="84"/>
                    </a:cubicBezTo>
                    <a:cubicBezTo>
                      <a:pt x="1296" y="86"/>
                      <a:pt x="1296" y="89"/>
                      <a:pt x="1296" y="92"/>
                    </a:cubicBezTo>
                    <a:cubicBezTo>
                      <a:pt x="1294" y="94"/>
                      <a:pt x="1292" y="97"/>
                      <a:pt x="1290" y="100"/>
                    </a:cubicBezTo>
                    <a:cubicBezTo>
                      <a:pt x="1289" y="96"/>
                      <a:pt x="1289" y="93"/>
                      <a:pt x="1288" y="90"/>
                    </a:cubicBezTo>
                    <a:cubicBezTo>
                      <a:pt x="1289" y="93"/>
                      <a:pt x="1289" y="97"/>
                      <a:pt x="1289" y="101"/>
                    </a:cubicBezTo>
                    <a:cubicBezTo>
                      <a:pt x="1288" y="102"/>
                      <a:pt x="1288" y="104"/>
                      <a:pt x="1287" y="105"/>
                    </a:cubicBezTo>
                    <a:cubicBezTo>
                      <a:pt x="1286" y="104"/>
                      <a:pt x="1286" y="103"/>
                      <a:pt x="1285" y="102"/>
                    </a:cubicBezTo>
                    <a:cubicBezTo>
                      <a:pt x="1284" y="97"/>
                      <a:pt x="1283" y="93"/>
                      <a:pt x="1282" y="88"/>
                    </a:cubicBezTo>
                    <a:cubicBezTo>
                      <a:pt x="1283" y="84"/>
                      <a:pt x="1284" y="79"/>
                      <a:pt x="1284" y="75"/>
                    </a:cubicBezTo>
                    <a:cubicBezTo>
                      <a:pt x="1283" y="78"/>
                      <a:pt x="1282" y="80"/>
                      <a:pt x="1281" y="83"/>
                    </a:cubicBezTo>
                    <a:cubicBezTo>
                      <a:pt x="1280" y="81"/>
                      <a:pt x="1280" y="80"/>
                      <a:pt x="1280" y="79"/>
                    </a:cubicBezTo>
                    <a:cubicBezTo>
                      <a:pt x="1280" y="81"/>
                      <a:pt x="1280" y="82"/>
                      <a:pt x="1280" y="83"/>
                    </a:cubicBezTo>
                    <a:cubicBezTo>
                      <a:pt x="1280" y="84"/>
                      <a:pt x="1279" y="86"/>
                      <a:pt x="1278" y="87"/>
                    </a:cubicBezTo>
                    <a:cubicBezTo>
                      <a:pt x="1276" y="83"/>
                      <a:pt x="1275" y="79"/>
                      <a:pt x="1273" y="75"/>
                    </a:cubicBezTo>
                    <a:cubicBezTo>
                      <a:pt x="1273" y="80"/>
                      <a:pt x="1274" y="86"/>
                      <a:pt x="1276" y="93"/>
                    </a:cubicBezTo>
                    <a:cubicBezTo>
                      <a:pt x="1275" y="94"/>
                      <a:pt x="1275" y="94"/>
                      <a:pt x="1275" y="95"/>
                    </a:cubicBezTo>
                    <a:cubicBezTo>
                      <a:pt x="1274" y="90"/>
                      <a:pt x="1272" y="85"/>
                      <a:pt x="1270" y="81"/>
                    </a:cubicBezTo>
                    <a:cubicBezTo>
                      <a:pt x="1272" y="86"/>
                      <a:pt x="1273" y="91"/>
                      <a:pt x="1274" y="97"/>
                    </a:cubicBezTo>
                    <a:cubicBezTo>
                      <a:pt x="1272" y="100"/>
                      <a:pt x="1271" y="103"/>
                      <a:pt x="1270" y="105"/>
                    </a:cubicBezTo>
                    <a:cubicBezTo>
                      <a:pt x="1267" y="84"/>
                      <a:pt x="1261" y="63"/>
                      <a:pt x="1241" y="42"/>
                    </a:cubicBezTo>
                    <a:cubicBezTo>
                      <a:pt x="1249" y="58"/>
                      <a:pt x="1255" y="70"/>
                      <a:pt x="1259" y="81"/>
                    </a:cubicBezTo>
                    <a:cubicBezTo>
                      <a:pt x="1259" y="84"/>
                      <a:pt x="1259" y="86"/>
                      <a:pt x="1259" y="89"/>
                    </a:cubicBezTo>
                    <a:cubicBezTo>
                      <a:pt x="1257" y="86"/>
                      <a:pt x="1256" y="84"/>
                      <a:pt x="1254" y="81"/>
                    </a:cubicBezTo>
                    <a:cubicBezTo>
                      <a:pt x="1253" y="79"/>
                      <a:pt x="1251" y="76"/>
                      <a:pt x="1250" y="74"/>
                    </a:cubicBezTo>
                    <a:cubicBezTo>
                      <a:pt x="1250" y="72"/>
                      <a:pt x="1250" y="69"/>
                      <a:pt x="1250" y="67"/>
                    </a:cubicBezTo>
                    <a:cubicBezTo>
                      <a:pt x="1250" y="69"/>
                      <a:pt x="1250" y="70"/>
                      <a:pt x="1249" y="72"/>
                    </a:cubicBezTo>
                    <a:cubicBezTo>
                      <a:pt x="1246" y="66"/>
                      <a:pt x="1242" y="59"/>
                      <a:pt x="1237" y="53"/>
                    </a:cubicBezTo>
                    <a:cubicBezTo>
                      <a:pt x="1237" y="48"/>
                      <a:pt x="1237" y="42"/>
                      <a:pt x="1237" y="37"/>
                    </a:cubicBezTo>
                    <a:cubicBezTo>
                      <a:pt x="1237" y="34"/>
                      <a:pt x="1237" y="30"/>
                      <a:pt x="1237" y="26"/>
                    </a:cubicBezTo>
                    <a:cubicBezTo>
                      <a:pt x="1235" y="33"/>
                      <a:pt x="1233" y="40"/>
                      <a:pt x="1232" y="47"/>
                    </a:cubicBezTo>
                    <a:cubicBezTo>
                      <a:pt x="1229" y="44"/>
                      <a:pt x="1225" y="41"/>
                      <a:pt x="1222" y="38"/>
                    </a:cubicBezTo>
                    <a:cubicBezTo>
                      <a:pt x="1225" y="41"/>
                      <a:pt x="1228" y="45"/>
                      <a:pt x="1231" y="49"/>
                    </a:cubicBezTo>
                    <a:cubicBezTo>
                      <a:pt x="1231" y="51"/>
                      <a:pt x="1231" y="53"/>
                      <a:pt x="1230" y="55"/>
                    </a:cubicBezTo>
                    <a:cubicBezTo>
                      <a:pt x="1229" y="53"/>
                      <a:pt x="1228" y="52"/>
                      <a:pt x="1226" y="51"/>
                    </a:cubicBezTo>
                    <a:cubicBezTo>
                      <a:pt x="1227" y="53"/>
                      <a:pt x="1229" y="54"/>
                      <a:pt x="1230" y="56"/>
                    </a:cubicBezTo>
                    <a:cubicBezTo>
                      <a:pt x="1229" y="61"/>
                      <a:pt x="1228" y="67"/>
                      <a:pt x="1228" y="72"/>
                    </a:cubicBezTo>
                    <a:cubicBezTo>
                      <a:pt x="1226" y="69"/>
                      <a:pt x="1224" y="66"/>
                      <a:pt x="1223" y="64"/>
                    </a:cubicBezTo>
                    <a:cubicBezTo>
                      <a:pt x="1223" y="67"/>
                      <a:pt x="1225" y="70"/>
                      <a:pt x="1227" y="74"/>
                    </a:cubicBezTo>
                    <a:cubicBezTo>
                      <a:pt x="1226" y="81"/>
                      <a:pt x="1225" y="87"/>
                      <a:pt x="1224" y="92"/>
                    </a:cubicBezTo>
                    <a:cubicBezTo>
                      <a:pt x="1220" y="109"/>
                      <a:pt x="1216" y="126"/>
                      <a:pt x="1214" y="143"/>
                    </a:cubicBezTo>
                    <a:cubicBezTo>
                      <a:pt x="1215" y="126"/>
                      <a:pt x="1216" y="109"/>
                      <a:pt x="1216" y="91"/>
                    </a:cubicBezTo>
                    <a:cubicBezTo>
                      <a:pt x="1216" y="87"/>
                      <a:pt x="1216" y="61"/>
                      <a:pt x="1212" y="59"/>
                    </a:cubicBezTo>
                    <a:cubicBezTo>
                      <a:pt x="1217" y="76"/>
                      <a:pt x="1203" y="122"/>
                      <a:pt x="1200" y="146"/>
                    </a:cubicBezTo>
                    <a:cubicBezTo>
                      <a:pt x="1200" y="148"/>
                      <a:pt x="1200" y="150"/>
                      <a:pt x="1200" y="152"/>
                    </a:cubicBezTo>
                    <a:cubicBezTo>
                      <a:pt x="1200" y="150"/>
                      <a:pt x="1200" y="148"/>
                      <a:pt x="1200" y="146"/>
                    </a:cubicBezTo>
                    <a:cubicBezTo>
                      <a:pt x="1202" y="123"/>
                      <a:pt x="1201" y="97"/>
                      <a:pt x="1199" y="75"/>
                    </a:cubicBezTo>
                    <a:cubicBezTo>
                      <a:pt x="1196" y="97"/>
                      <a:pt x="1188" y="119"/>
                      <a:pt x="1188" y="141"/>
                    </a:cubicBezTo>
                    <a:cubicBezTo>
                      <a:pt x="1188" y="146"/>
                      <a:pt x="1189" y="152"/>
                      <a:pt x="1189" y="158"/>
                    </a:cubicBezTo>
                    <a:cubicBezTo>
                      <a:pt x="1187" y="150"/>
                      <a:pt x="1187" y="140"/>
                      <a:pt x="1187" y="133"/>
                    </a:cubicBezTo>
                    <a:cubicBezTo>
                      <a:pt x="1187" y="109"/>
                      <a:pt x="1191" y="85"/>
                      <a:pt x="1191" y="61"/>
                    </a:cubicBezTo>
                    <a:cubicBezTo>
                      <a:pt x="1191" y="55"/>
                      <a:pt x="1191" y="48"/>
                      <a:pt x="1191" y="41"/>
                    </a:cubicBezTo>
                    <a:cubicBezTo>
                      <a:pt x="1183" y="71"/>
                      <a:pt x="1179" y="110"/>
                      <a:pt x="1179" y="140"/>
                    </a:cubicBezTo>
                    <a:cubicBezTo>
                      <a:pt x="1179" y="145"/>
                      <a:pt x="1179" y="149"/>
                      <a:pt x="1180" y="153"/>
                    </a:cubicBezTo>
                    <a:cubicBezTo>
                      <a:pt x="1179" y="135"/>
                      <a:pt x="1174" y="116"/>
                      <a:pt x="1170" y="98"/>
                    </a:cubicBezTo>
                    <a:cubicBezTo>
                      <a:pt x="1172" y="110"/>
                      <a:pt x="1168" y="124"/>
                      <a:pt x="1168" y="136"/>
                    </a:cubicBezTo>
                    <a:cubicBezTo>
                      <a:pt x="1168" y="140"/>
                      <a:pt x="1168" y="143"/>
                      <a:pt x="1168" y="147"/>
                    </a:cubicBezTo>
                    <a:cubicBezTo>
                      <a:pt x="1165" y="125"/>
                      <a:pt x="1160" y="103"/>
                      <a:pt x="1151" y="83"/>
                    </a:cubicBezTo>
                    <a:cubicBezTo>
                      <a:pt x="1154" y="90"/>
                      <a:pt x="1154" y="108"/>
                      <a:pt x="1154" y="115"/>
                    </a:cubicBezTo>
                    <a:cubicBezTo>
                      <a:pt x="1154" y="127"/>
                      <a:pt x="1154" y="138"/>
                      <a:pt x="1156" y="150"/>
                    </a:cubicBezTo>
                    <a:cubicBezTo>
                      <a:pt x="1147" y="126"/>
                      <a:pt x="1144" y="99"/>
                      <a:pt x="1137" y="74"/>
                    </a:cubicBezTo>
                    <a:cubicBezTo>
                      <a:pt x="1140" y="91"/>
                      <a:pt x="1137" y="110"/>
                      <a:pt x="1137" y="128"/>
                    </a:cubicBezTo>
                    <a:cubicBezTo>
                      <a:pt x="1137" y="132"/>
                      <a:pt x="1137" y="136"/>
                      <a:pt x="1137" y="140"/>
                    </a:cubicBezTo>
                    <a:cubicBezTo>
                      <a:pt x="1138" y="145"/>
                      <a:pt x="1138" y="149"/>
                      <a:pt x="1139" y="154"/>
                    </a:cubicBezTo>
                    <a:cubicBezTo>
                      <a:pt x="1138" y="149"/>
                      <a:pt x="1137" y="145"/>
                      <a:pt x="1137" y="140"/>
                    </a:cubicBezTo>
                    <a:cubicBezTo>
                      <a:pt x="1134" y="120"/>
                      <a:pt x="1131" y="99"/>
                      <a:pt x="1126" y="80"/>
                    </a:cubicBezTo>
                    <a:cubicBezTo>
                      <a:pt x="1128" y="102"/>
                      <a:pt x="1118" y="126"/>
                      <a:pt x="1118" y="149"/>
                    </a:cubicBezTo>
                    <a:cubicBezTo>
                      <a:pt x="1118" y="156"/>
                      <a:pt x="1118" y="156"/>
                      <a:pt x="1118" y="156"/>
                    </a:cubicBezTo>
                    <a:cubicBezTo>
                      <a:pt x="1114" y="147"/>
                      <a:pt x="1114" y="132"/>
                      <a:pt x="1114" y="122"/>
                    </a:cubicBezTo>
                    <a:cubicBezTo>
                      <a:pt x="1114" y="100"/>
                      <a:pt x="1116" y="79"/>
                      <a:pt x="1115" y="57"/>
                    </a:cubicBezTo>
                    <a:cubicBezTo>
                      <a:pt x="1112" y="62"/>
                      <a:pt x="1111" y="112"/>
                      <a:pt x="1111" y="120"/>
                    </a:cubicBezTo>
                    <a:cubicBezTo>
                      <a:pt x="1111" y="133"/>
                      <a:pt x="1112" y="146"/>
                      <a:pt x="1115" y="159"/>
                    </a:cubicBezTo>
                    <a:cubicBezTo>
                      <a:pt x="1110" y="135"/>
                      <a:pt x="1104" y="108"/>
                      <a:pt x="1092" y="85"/>
                    </a:cubicBezTo>
                    <a:cubicBezTo>
                      <a:pt x="1103" y="106"/>
                      <a:pt x="1098" y="132"/>
                      <a:pt x="1105" y="154"/>
                    </a:cubicBezTo>
                    <a:cubicBezTo>
                      <a:pt x="1097" y="142"/>
                      <a:pt x="1095" y="122"/>
                      <a:pt x="1092" y="106"/>
                    </a:cubicBezTo>
                    <a:cubicBezTo>
                      <a:pt x="1094" y="120"/>
                      <a:pt x="1092" y="134"/>
                      <a:pt x="1094" y="148"/>
                    </a:cubicBezTo>
                    <a:cubicBezTo>
                      <a:pt x="1095" y="151"/>
                      <a:pt x="1096" y="153"/>
                      <a:pt x="1096" y="155"/>
                    </a:cubicBezTo>
                    <a:cubicBezTo>
                      <a:pt x="1095" y="153"/>
                      <a:pt x="1095" y="151"/>
                      <a:pt x="1094" y="148"/>
                    </a:cubicBezTo>
                    <a:cubicBezTo>
                      <a:pt x="1090" y="127"/>
                      <a:pt x="1077" y="75"/>
                      <a:pt x="1066" y="68"/>
                    </a:cubicBezTo>
                    <a:cubicBezTo>
                      <a:pt x="1083" y="90"/>
                      <a:pt x="1080" y="127"/>
                      <a:pt x="1085" y="153"/>
                    </a:cubicBezTo>
                    <a:cubicBezTo>
                      <a:pt x="1080" y="134"/>
                      <a:pt x="1073" y="113"/>
                      <a:pt x="1064" y="95"/>
                    </a:cubicBezTo>
                    <a:cubicBezTo>
                      <a:pt x="1071" y="115"/>
                      <a:pt x="1070" y="136"/>
                      <a:pt x="1079" y="155"/>
                    </a:cubicBezTo>
                    <a:cubicBezTo>
                      <a:pt x="1066" y="144"/>
                      <a:pt x="1059" y="117"/>
                      <a:pt x="1055" y="102"/>
                    </a:cubicBezTo>
                    <a:cubicBezTo>
                      <a:pt x="1056" y="120"/>
                      <a:pt x="1060" y="143"/>
                      <a:pt x="1071" y="158"/>
                    </a:cubicBezTo>
                    <a:cubicBezTo>
                      <a:pt x="1057" y="144"/>
                      <a:pt x="1052" y="103"/>
                      <a:pt x="1047" y="85"/>
                    </a:cubicBezTo>
                    <a:cubicBezTo>
                      <a:pt x="1046" y="88"/>
                      <a:pt x="1046" y="91"/>
                      <a:pt x="1046" y="94"/>
                    </a:cubicBezTo>
                    <a:cubicBezTo>
                      <a:pt x="1046" y="113"/>
                      <a:pt x="1052" y="142"/>
                      <a:pt x="1063" y="159"/>
                    </a:cubicBezTo>
                    <a:cubicBezTo>
                      <a:pt x="1050" y="143"/>
                      <a:pt x="1044" y="123"/>
                      <a:pt x="1038" y="104"/>
                    </a:cubicBezTo>
                    <a:cubicBezTo>
                      <a:pt x="1042" y="122"/>
                      <a:pt x="1042" y="140"/>
                      <a:pt x="1051" y="158"/>
                    </a:cubicBezTo>
                    <a:cubicBezTo>
                      <a:pt x="1041" y="147"/>
                      <a:pt x="1037" y="132"/>
                      <a:pt x="1033" y="117"/>
                    </a:cubicBezTo>
                    <a:cubicBezTo>
                      <a:pt x="1034" y="105"/>
                      <a:pt x="1035" y="93"/>
                      <a:pt x="1036" y="84"/>
                    </a:cubicBezTo>
                    <a:cubicBezTo>
                      <a:pt x="1034" y="92"/>
                      <a:pt x="1033" y="101"/>
                      <a:pt x="1031" y="109"/>
                    </a:cubicBezTo>
                    <a:cubicBezTo>
                      <a:pt x="1029" y="102"/>
                      <a:pt x="1027" y="95"/>
                      <a:pt x="1025" y="89"/>
                    </a:cubicBezTo>
                    <a:cubicBezTo>
                      <a:pt x="1028" y="64"/>
                      <a:pt x="1032" y="40"/>
                      <a:pt x="1032" y="40"/>
                    </a:cubicBezTo>
                    <a:cubicBezTo>
                      <a:pt x="1027" y="51"/>
                      <a:pt x="1022" y="77"/>
                      <a:pt x="1019" y="100"/>
                    </a:cubicBezTo>
                    <a:cubicBezTo>
                      <a:pt x="1017" y="95"/>
                      <a:pt x="1015" y="90"/>
                      <a:pt x="1013" y="86"/>
                    </a:cubicBezTo>
                    <a:cubicBezTo>
                      <a:pt x="1012" y="70"/>
                      <a:pt x="1011" y="58"/>
                      <a:pt x="1011" y="60"/>
                    </a:cubicBezTo>
                    <a:cubicBezTo>
                      <a:pt x="1011" y="61"/>
                      <a:pt x="1010" y="69"/>
                      <a:pt x="1009" y="80"/>
                    </a:cubicBezTo>
                    <a:cubicBezTo>
                      <a:pt x="1008" y="79"/>
                      <a:pt x="1008" y="78"/>
                      <a:pt x="1007" y="78"/>
                    </a:cubicBezTo>
                    <a:cubicBezTo>
                      <a:pt x="1008" y="79"/>
                      <a:pt x="1008" y="80"/>
                      <a:pt x="1009" y="81"/>
                    </a:cubicBezTo>
                    <a:cubicBezTo>
                      <a:pt x="1009" y="87"/>
                      <a:pt x="1008" y="95"/>
                      <a:pt x="1007" y="102"/>
                    </a:cubicBezTo>
                    <a:cubicBezTo>
                      <a:pt x="1007" y="102"/>
                      <a:pt x="1007" y="102"/>
                      <a:pt x="1007" y="102"/>
                    </a:cubicBezTo>
                    <a:cubicBezTo>
                      <a:pt x="1007" y="103"/>
                      <a:pt x="1007" y="103"/>
                      <a:pt x="1007" y="103"/>
                    </a:cubicBezTo>
                    <a:cubicBezTo>
                      <a:pt x="1006" y="113"/>
                      <a:pt x="1006" y="123"/>
                      <a:pt x="1005" y="130"/>
                    </a:cubicBezTo>
                    <a:cubicBezTo>
                      <a:pt x="1005" y="130"/>
                      <a:pt x="1005" y="129"/>
                      <a:pt x="1004" y="128"/>
                    </a:cubicBezTo>
                    <a:cubicBezTo>
                      <a:pt x="1004" y="107"/>
                      <a:pt x="1000" y="69"/>
                      <a:pt x="998" y="47"/>
                    </a:cubicBezTo>
                    <a:cubicBezTo>
                      <a:pt x="998" y="64"/>
                      <a:pt x="997" y="87"/>
                      <a:pt x="996" y="107"/>
                    </a:cubicBezTo>
                    <a:cubicBezTo>
                      <a:pt x="995" y="105"/>
                      <a:pt x="994" y="104"/>
                      <a:pt x="994" y="102"/>
                    </a:cubicBezTo>
                    <a:cubicBezTo>
                      <a:pt x="994" y="104"/>
                      <a:pt x="995" y="106"/>
                      <a:pt x="996" y="107"/>
                    </a:cubicBezTo>
                    <a:cubicBezTo>
                      <a:pt x="995" y="114"/>
                      <a:pt x="995" y="121"/>
                      <a:pt x="994" y="126"/>
                    </a:cubicBezTo>
                    <a:cubicBezTo>
                      <a:pt x="994" y="125"/>
                      <a:pt x="993" y="123"/>
                      <a:pt x="993" y="122"/>
                    </a:cubicBezTo>
                    <a:cubicBezTo>
                      <a:pt x="992" y="93"/>
                      <a:pt x="988" y="46"/>
                      <a:pt x="988" y="46"/>
                    </a:cubicBezTo>
                    <a:cubicBezTo>
                      <a:pt x="988" y="65"/>
                      <a:pt x="981" y="142"/>
                      <a:pt x="981" y="142"/>
                    </a:cubicBezTo>
                    <a:cubicBezTo>
                      <a:pt x="975" y="106"/>
                      <a:pt x="982" y="0"/>
                      <a:pt x="982" y="0"/>
                    </a:cubicBezTo>
                    <a:cubicBezTo>
                      <a:pt x="976" y="16"/>
                      <a:pt x="970" y="131"/>
                      <a:pt x="970" y="131"/>
                    </a:cubicBezTo>
                    <a:cubicBezTo>
                      <a:pt x="968" y="36"/>
                      <a:pt x="964" y="32"/>
                      <a:pt x="964" y="32"/>
                    </a:cubicBezTo>
                    <a:cubicBezTo>
                      <a:pt x="966" y="43"/>
                      <a:pt x="963" y="76"/>
                      <a:pt x="960" y="103"/>
                    </a:cubicBezTo>
                    <a:cubicBezTo>
                      <a:pt x="959" y="102"/>
                      <a:pt x="958" y="100"/>
                      <a:pt x="957" y="99"/>
                    </a:cubicBezTo>
                    <a:cubicBezTo>
                      <a:pt x="958" y="101"/>
                      <a:pt x="959" y="103"/>
                      <a:pt x="960" y="104"/>
                    </a:cubicBezTo>
                    <a:cubicBezTo>
                      <a:pt x="959" y="112"/>
                      <a:pt x="958" y="120"/>
                      <a:pt x="957" y="126"/>
                    </a:cubicBezTo>
                    <a:cubicBezTo>
                      <a:pt x="957" y="124"/>
                      <a:pt x="957" y="123"/>
                      <a:pt x="957" y="122"/>
                    </a:cubicBezTo>
                    <a:cubicBezTo>
                      <a:pt x="958" y="94"/>
                      <a:pt x="956" y="48"/>
                      <a:pt x="956" y="48"/>
                    </a:cubicBezTo>
                    <a:cubicBezTo>
                      <a:pt x="955" y="55"/>
                      <a:pt x="952" y="82"/>
                      <a:pt x="949" y="106"/>
                    </a:cubicBezTo>
                    <a:cubicBezTo>
                      <a:pt x="948" y="104"/>
                      <a:pt x="948" y="102"/>
                      <a:pt x="947" y="100"/>
                    </a:cubicBezTo>
                    <a:cubicBezTo>
                      <a:pt x="950" y="60"/>
                      <a:pt x="954" y="9"/>
                      <a:pt x="954" y="9"/>
                    </a:cubicBezTo>
                    <a:cubicBezTo>
                      <a:pt x="949" y="23"/>
                      <a:pt x="942" y="83"/>
                      <a:pt x="939" y="117"/>
                    </a:cubicBezTo>
                    <a:cubicBezTo>
                      <a:pt x="938" y="114"/>
                      <a:pt x="937" y="111"/>
                      <a:pt x="937" y="108"/>
                    </a:cubicBezTo>
                    <a:cubicBezTo>
                      <a:pt x="936" y="90"/>
                      <a:pt x="934" y="72"/>
                      <a:pt x="934" y="72"/>
                    </a:cubicBezTo>
                    <a:cubicBezTo>
                      <a:pt x="935" y="76"/>
                      <a:pt x="934" y="84"/>
                      <a:pt x="933" y="94"/>
                    </a:cubicBezTo>
                    <a:cubicBezTo>
                      <a:pt x="932" y="91"/>
                      <a:pt x="930" y="88"/>
                      <a:pt x="929" y="84"/>
                    </a:cubicBezTo>
                    <a:cubicBezTo>
                      <a:pt x="931" y="88"/>
                      <a:pt x="932" y="92"/>
                      <a:pt x="933" y="96"/>
                    </a:cubicBezTo>
                    <a:cubicBezTo>
                      <a:pt x="932" y="99"/>
                      <a:pt x="932" y="103"/>
                      <a:pt x="931" y="107"/>
                    </a:cubicBezTo>
                    <a:cubicBezTo>
                      <a:pt x="931" y="106"/>
                      <a:pt x="931" y="106"/>
                      <a:pt x="931" y="105"/>
                    </a:cubicBezTo>
                    <a:cubicBezTo>
                      <a:pt x="930" y="107"/>
                      <a:pt x="930" y="112"/>
                      <a:pt x="930" y="116"/>
                    </a:cubicBezTo>
                    <a:cubicBezTo>
                      <a:pt x="929" y="121"/>
                      <a:pt x="929" y="126"/>
                      <a:pt x="928" y="130"/>
                    </a:cubicBezTo>
                    <a:cubicBezTo>
                      <a:pt x="928" y="129"/>
                      <a:pt x="928" y="128"/>
                      <a:pt x="928" y="127"/>
                    </a:cubicBezTo>
                    <a:cubicBezTo>
                      <a:pt x="928" y="101"/>
                      <a:pt x="923" y="63"/>
                      <a:pt x="922" y="54"/>
                    </a:cubicBezTo>
                    <a:cubicBezTo>
                      <a:pt x="923" y="61"/>
                      <a:pt x="921" y="79"/>
                      <a:pt x="920" y="96"/>
                    </a:cubicBezTo>
                    <a:cubicBezTo>
                      <a:pt x="919" y="94"/>
                      <a:pt x="918" y="92"/>
                      <a:pt x="918" y="90"/>
                    </a:cubicBezTo>
                    <a:cubicBezTo>
                      <a:pt x="918" y="92"/>
                      <a:pt x="919" y="95"/>
                      <a:pt x="920" y="97"/>
                    </a:cubicBezTo>
                    <a:cubicBezTo>
                      <a:pt x="918" y="118"/>
                      <a:pt x="916" y="137"/>
                      <a:pt x="916" y="137"/>
                    </a:cubicBezTo>
                    <a:cubicBezTo>
                      <a:pt x="916" y="136"/>
                      <a:pt x="916" y="134"/>
                      <a:pt x="915" y="133"/>
                    </a:cubicBezTo>
                    <a:cubicBezTo>
                      <a:pt x="915" y="125"/>
                      <a:pt x="915" y="118"/>
                      <a:pt x="915" y="110"/>
                    </a:cubicBezTo>
                    <a:cubicBezTo>
                      <a:pt x="913" y="76"/>
                      <a:pt x="913" y="40"/>
                      <a:pt x="913" y="40"/>
                    </a:cubicBezTo>
                    <a:cubicBezTo>
                      <a:pt x="912" y="49"/>
                      <a:pt x="908" y="79"/>
                      <a:pt x="903" y="104"/>
                    </a:cubicBezTo>
                    <a:cubicBezTo>
                      <a:pt x="903" y="99"/>
                      <a:pt x="902" y="95"/>
                      <a:pt x="902" y="90"/>
                    </a:cubicBezTo>
                    <a:cubicBezTo>
                      <a:pt x="903" y="67"/>
                      <a:pt x="903" y="45"/>
                      <a:pt x="903" y="45"/>
                    </a:cubicBezTo>
                    <a:cubicBezTo>
                      <a:pt x="903" y="53"/>
                      <a:pt x="897" y="75"/>
                      <a:pt x="891" y="96"/>
                    </a:cubicBezTo>
                    <a:cubicBezTo>
                      <a:pt x="889" y="93"/>
                      <a:pt x="888" y="89"/>
                      <a:pt x="886" y="85"/>
                    </a:cubicBezTo>
                    <a:cubicBezTo>
                      <a:pt x="893" y="51"/>
                      <a:pt x="901" y="17"/>
                      <a:pt x="901" y="17"/>
                    </a:cubicBezTo>
                    <a:cubicBezTo>
                      <a:pt x="896" y="24"/>
                      <a:pt x="881" y="95"/>
                      <a:pt x="874" y="130"/>
                    </a:cubicBezTo>
                    <a:cubicBezTo>
                      <a:pt x="874" y="130"/>
                      <a:pt x="874" y="130"/>
                      <a:pt x="874" y="130"/>
                    </a:cubicBezTo>
                    <a:cubicBezTo>
                      <a:pt x="878" y="100"/>
                      <a:pt x="875" y="63"/>
                      <a:pt x="874" y="52"/>
                    </a:cubicBezTo>
                    <a:cubicBezTo>
                      <a:pt x="876" y="72"/>
                      <a:pt x="870" y="109"/>
                      <a:pt x="866" y="128"/>
                    </a:cubicBezTo>
                    <a:cubicBezTo>
                      <a:pt x="866" y="126"/>
                      <a:pt x="866" y="123"/>
                      <a:pt x="865" y="120"/>
                    </a:cubicBezTo>
                    <a:cubicBezTo>
                      <a:pt x="867" y="99"/>
                      <a:pt x="869" y="71"/>
                      <a:pt x="870" y="65"/>
                    </a:cubicBezTo>
                    <a:cubicBezTo>
                      <a:pt x="869" y="71"/>
                      <a:pt x="866" y="89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59" y="125"/>
                      <a:pt x="855" y="143"/>
                      <a:pt x="855" y="143"/>
                    </a:cubicBezTo>
                    <a:cubicBezTo>
                      <a:pt x="865" y="38"/>
                      <a:pt x="858" y="25"/>
                      <a:pt x="858" y="25"/>
                    </a:cubicBezTo>
                    <a:cubicBezTo>
                      <a:pt x="861" y="42"/>
                      <a:pt x="858" y="72"/>
                      <a:pt x="853" y="96"/>
                    </a:cubicBezTo>
                    <a:cubicBezTo>
                      <a:pt x="852" y="89"/>
                      <a:pt x="850" y="80"/>
                      <a:pt x="847" y="73"/>
                    </a:cubicBezTo>
                    <a:cubicBezTo>
                      <a:pt x="846" y="65"/>
                      <a:pt x="846" y="60"/>
                      <a:pt x="846" y="60"/>
                    </a:cubicBezTo>
                    <a:cubicBezTo>
                      <a:pt x="846" y="63"/>
                      <a:pt x="846" y="67"/>
                      <a:pt x="846" y="71"/>
                    </a:cubicBezTo>
                    <a:cubicBezTo>
                      <a:pt x="844" y="69"/>
                      <a:pt x="843" y="67"/>
                      <a:pt x="842" y="65"/>
                    </a:cubicBezTo>
                    <a:cubicBezTo>
                      <a:pt x="843" y="67"/>
                      <a:pt x="844" y="70"/>
                      <a:pt x="845" y="73"/>
                    </a:cubicBezTo>
                    <a:cubicBezTo>
                      <a:pt x="845" y="82"/>
                      <a:pt x="844" y="92"/>
                      <a:pt x="843" y="101"/>
                    </a:cubicBezTo>
                    <a:cubicBezTo>
                      <a:pt x="842" y="95"/>
                      <a:pt x="839" y="88"/>
                      <a:pt x="834" y="83"/>
                    </a:cubicBezTo>
                    <a:cubicBezTo>
                      <a:pt x="834" y="74"/>
                      <a:pt x="835" y="68"/>
                      <a:pt x="835" y="68"/>
                    </a:cubicBezTo>
                    <a:cubicBezTo>
                      <a:pt x="834" y="72"/>
                      <a:pt x="833" y="76"/>
                      <a:pt x="832" y="81"/>
                    </a:cubicBezTo>
                    <a:cubicBezTo>
                      <a:pt x="832" y="81"/>
                      <a:pt x="831" y="81"/>
                      <a:pt x="831" y="80"/>
                    </a:cubicBezTo>
                    <a:cubicBezTo>
                      <a:pt x="831" y="81"/>
                      <a:pt x="832" y="81"/>
                      <a:pt x="832" y="82"/>
                    </a:cubicBezTo>
                    <a:cubicBezTo>
                      <a:pt x="830" y="101"/>
                      <a:pt x="828" y="130"/>
                      <a:pt x="828" y="142"/>
                    </a:cubicBezTo>
                    <a:cubicBezTo>
                      <a:pt x="828" y="143"/>
                      <a:pt x="827" y="144"/>
                      <a:pt x="827" y="144"/>
                    </a:cubicBezTo>
                    <a:cubicBezTo>
                      <a:pt x="827" y="140"/>
                      <a:pt x="826" y="136"/>
                      <a:pt x="826" y="131"/>
                    </a:cubicBezTo>
                    <a:cubicBezTo>
                      <a:pt x="828" y="121"/>
                      <a:pt x="829" y="112"/>
                      <a:pt x="830" y="103"/>
                    </a:cubicBezTo>
                    <a:cubicBezTo>
                      <a:pt x="829" y="108"/>
                      <a:pt x="828" y="112"/>
                      <a:pt x="827" y="117"/>
                    </a:cubicBezTo>
                    <a:cubicBezTo>
                      <a:pt x="828" y="85"/>
                      <a:pt x="834" y="45"/>
                      <a:pt x="834" y="45"/>
                    </a:cubicBezTo>
                    <a:cubicBezTo>
                      <a:pt x="827" y="60"/>
                      <a:pt x="823" y="95"/>
                      <a:pt x="820" y="120"/>
                    </a:cubicBezTo>
                    <a:cubicBezTo>
                      <a:pt x="820" y="123"/>
                      <a:pt x="819" y="125"/>
                      <a:pt x="818" y="127"/>
                    </a:cubicBezTo>
                    <a:cubicBezTo>
                      <a:pt x="818" y="103"/>
                      <a:pt x="818" y="70"/>
                      <a:pt x="818" y="70"/>
                    </a:cubicBezTo>
                    <a:cubicBezTo>
                      <a:pt x="817" y="72"/>
                      <a:pt x="817" y="76"/>
                      <a:pt x="816" y="81"/>
                    </a:cubicBezTo>
                    <a:cubicBezTo>
                      <a:pt x="815" y="73"/>
                      <a:pt x="813" y="66"/>
                      <a:pt x="810" y="60"/>
                    </a:cubicBezTo>
                    <a:cubicBezTo>
                      <a:pt x="811" y="52"/>
                      <a:pt x="812" y="46"/>
                      <a:pt x="812" y="46"/>
                    </a:cubicBezTo>
                    <a:cubicBezTo>
                      <a:pt x="809" y="51"/>
                      <a:pt x="807" y="64"/>
                      <a:pt x="806" y="79"/>
                    </a:cubicBezTo>
                    <a:cubicBezTo>
                      <a:pt x="805" y="77"/>
                      <a:pt x="805" y="75"/>
                      <a:pt x="805" y="74"/>
                    </a:cubicBezTo>
                    <a:cubicBezTo>
                      <a:pt x="803" y="83"/>
                      <a:pt x="803" y="92"/>
                      <a:pt x="803" y="102"/>
                    </a:cubicBezTo>
                    <a:cubicBezTo>
                      <a:pt x="803" y="108"/>
                      <a:pt x="802" y="115"/>
                      <a:pt x="802" y="121"/>
                    </a:cubicBezTo>
                    <a:cubicBezTo>
                      <a:pt x="801" y="123"/>
                      <a:pt x="801" y="125"/>
                      <a:pt x="800" y="127"/>
                    </a:cubicBezTo>
                    <a:cubicBezTo>
                      <a:pt x="801" y="35"/>
                      <a:pt x="798" y="34"/>
                      <a:pt x="798" y="34"/>
                    </a:cubicBezTo>
                    <a:cubicBezTo>
                      <a:pt x="800" y="49"/>
                      <a:pt x="796" y="77"/>
                      <a:pt x="792" y="102"/>
                    </a:cubicBezTo>
                    <a:cubicBezTo>
                      <a:pt x="791" y="94"/>
                      <a:pt x="790" y="85"/>
                      <a:pt x="785" y="76"/>
                    </a:cubicBezTo>
                    <a:cubicBezTo>
                      <a:pt x="786" y="70"/>
                      <a:pt x="786" y="66"/>
                      <a:pt x="786" y="66"/>
                    </a:cubicBezTo>
                    <a:cubicBezTo>
                      <a:pt x="786" y="68"/>
                      <a:pt x="785" y="71"/>
                      <a:pt x="784" y="74"/>
                    </a:cubicBezTo>
                    <a:cubicBezTo>
                      <a:pt x="784" y="73"/>
                      <a:pt x="783" y="72"/>
                      <a:pt x="783" y="71"/>
                    </a:cubicBezTo>
                    <a:cubicBezTo>
                      <a:pt x="783" y="73"/>
                      <a:pt x="784" y="74"/>
                      <a:pt x="784" y="76"/>
                    </a:cubicBezTo>
                    <a:cubicBezTo>
                      <a:pt x="782" y="83"/>
                      <a:pt x="780" y="93"/>
                      <a:pt x="779" y="103"/>
                    </a:cubicBezTo>
                    <a:cubicBezTo>
                      <a:pt x="778" y="98"/>
                      <a:pt x="778" y="94"/>
                      <a:pt x="776" y="89"/>
                    </a:cubicBezTo>
                    <a:cubicBezTo>
                      <a:pt x="777" y="96"/>
                      <a:pt x="776" y="104"/>
                      <a:pt x="773" y="112"/>
                    </a:cubicBezTo>
                    <a:cubicBezTo>
                      <a:pt x="773" y="92"/>
                      <a:pt x="772" y="70"/>
                      <a:pt x="771" y="62"/>
                    </a:cubicBezTo>
                    <a:cubicBezTo>
                      <a:pt x="772" y="67"/>
                      <a:pt x="771" y="74"/>
                      <a:pt x="771" y="82"/>
                    </a:cubicBezTo>
                    <a:cubicBezTo>
                      <a:pt x="769" y="87"/>
                      <a:pt x="767" y="94"/>
                      <a:pt x="764" y="101"/>
                    </a:cubicBezTo>
                    <a:cubicBezTo>
                      <a:pt x="764" y="91"/>
                      <a:pt x="764" y="82"/>
                      <a:pt x="764" y="75"/>
                    </a:cubicBezTo>
                    <a:cubicBezTo>
                      <a:pt x="763" y="86"/>
                      <a:pt x="761" y="102"/>
                      <a:pt x="759" y="116"/>
                    </a:cubicBezTo>
                    <a:cubicBezTo>
                      <a:pt x="757" y="123"/>
                      <a:pt x="755" y="130"/>
                      <a:pt x="753" y="136"/>
                    </a:cubicBezTo>
                    <a:cubicBezTo>
                      <a:pt x="753" y="118"/>
                      <a:pt x="756" y="89"/>
                      <a:pt x="756" y="89"/>
                    </a:cubicBezTo>
                    <a:cubicBezTo>
                      <a:pt x="755" y="93"/>
                      <a:pt x="754" y="99"/>
                      <a:pt x="751" y="106"/>
                    </a:cubicBezTo>
                    <a:cubicBezTo>
                      <a:pt x="751" y="104"/>
                      <a:pt x="751" y="101"/>
                      <a:pt x="750" y="99"/>
                    </a:cubicBezTo>
                    <a:cubicBezTo>
                      <a:pt x="750" y="96"/>
                      <a:pt x="750" y="96"/>
                      <a:pt x="750" y="96"/>
                    </a:cubicBezTo>
                    <a:cubicBezTo>
                      <a:pt x="749" y="95"/>
                      <a:pt x="749" y="95"/>
                      <a:pt x="749" y="95"/>
                    </a:cubicBezTo>
                    <a:cubicBezTo>
                      <a:pt x="749" y="104"/>
                      <a:pt x="747" y="113"/>
                      <a:pt x="745" y="122"/>
                    </a:cubicBezTo>
                    <a:cubicBezTo>
                      <a:pt x="744" y="127"/>
                      <a:pt x="742" y="131"/>
                      <a:pt x="741" y="134"/>
                    </a:cubicBezTo>
                    <a:cubicBezTo>
                      <a:pt x="741" y="130"/>
                      <a:pt x="740" y="126"/>
                      <a:pt x="740" y="122"/>
                    </a:cubicBezTo>
                    <a:cubicBezTo>
                      <a:pt x="744" y="102"/>
                      <a:pt x="751" y="76"/>
                      <a:pt x="751" y="76"/>
                    </a:cubicBezTo>
                    <a:cubicBezTo>
                      <a:pt x="746" y="82"/>
                      <a:pt x="742" y="94"/>
                      <a:pt x="737" y="105"/>
                    </a:cubicBezTo>
                    <a:cubicBezTo>
                      <a:pt x="737" y="102"/>
                      <a:pt x="736" y="98"/>
                      <a:pt x="734" y="95"/>
                    </a:cubicBezTo>
                    <a:cubicBezTo>
                      <a:pt x="735" y="74"/>
                      <a:pt x="732" y="62"/>
                      <a:pt x="732" y="62"/>
                    </a:cubicBezTo>
                    <a:cubicBezTo>
                      <a:pt x="733" y="69"/>
                      <a:pt x="733" y="78"/>
                      <a:pt x="732" y="88"/>
                    </a:cubicBezTo>
                    <a:cubicBezTo>
                      <a:pt x="729" y="83"/>
                      <a:pt x="726" y="78"/>
                      <a:pt x="722" y="73"/>
                    </a:cubicBezTo>
                    <a:cubicBezTo>
                      <a:pt x="727" y="80"/>
                      <a:pt x="729" y="92"/>
                      <a:pt x="730" y="102"/>
                    </a:cubicBezTo>
                    <a:cubicBezTo>
                      <a:pt x="729" y="108"/>
                      <a:pt x="728" y="115"/>
                      <a:pt x="727" y="120"/>
                    </a:cubicBezTo>
                    <a:cubicBezTo>
                      <a:pt x="726" y="113"/>
                      <a:pt x="725" y="106"/>
                      <a:pt x="723" y="100"/>
                    </a:cubicBezTo>
                    <a:cubicBezTo>
                      <a:pt x="724" y="89"/>
                      <a:pt x="725" y="82"/>
                      <a:pt x="725" y="82"/>
                    </a:cubicBezTo>
                    <a:cubicBezTo>
                      <a:pt x="723" y="98"/>
                      <a:pt x="723" y="98"/>
                      <a:pt x="723" y="98"/>
                    </a:cubicBezTo>
                    <a:cubicBezTo>
                      <a:pt x="722" y="94"/>
                      <a:pt x="721" y="91"/>
                      <a:pt x="719" y="88"/>
                    </a:cubicBezTo>
                    <a:cubicBezTo>
                      <a:pt x="719" y="73"/>
                      <a:pt x="719" y="60"/>
                      <a:pt x="719" y="60"/>
                    </a:cubicBezTo>
                    <a:cubicBezTo>
                      <a:pt x="719" y="72"/>
                      <a:pt x="716" y="90"/>
                      <a:pt x="716" y="90"/>
                    </a:cubicBezTo>
                    <a:cubicBezTo>
                      <a:pt x="714" y="84"/>
                      <a:pt x="714" y="64"/>
                      <a:pt x="714" y="64"/>
                    </a:cubicBezTo>
                    <a:cubicBezTo>
                      <a:pt x="714" y="68"/>
                      <a:pt x="712" y="83"/>
                      <a:pt x="710" y="98"/>
                    </a:cubicBezTo>
                    <a:cubicBezTo>
                      <a:pt x="710" y="96"/>
                      <a:pt x="710" y="95"/>
                      <a:pt x="709" y="93"/>
                    </a:cubicBezTo>
                    <a:cubicBezTo>
                      <a:pt x="708" y="88"/>
                      <a:pt x="706" y="82"/>
                      <a:pt x="705" y="76"/>
                    </a:cubicBezTo>
                    <a:cubicBezTo>
                      <a:pt x="705" y="57"/>
                      <a:pt x="704" y="42"/>
                      <a:pt x="704" y="42"/>
                    </a:cubicBezTo>
                    <a:cubicBezTo>
                      <a:pt x="705" y="49"/>
                      <a:pt x="704" y="59"/>
                      <a:pt x="703" y="70"/>
                    </a:cubicBezTo>
                    <a:cubicBezTo>
                      <a:pt x="701" y="64"/>
                      <a:pt x="698" y="57"/>
                      <a:pt x="695" y="51"/>
                    </a:cubicBezTo>
                    <a:cubicBezTo>
                      <a:pt x="695" y="52"/>
                      <a:pt x="694" y="54"/>
                      <a:pt x="694" y="55"/>
                    </a:cubicBezTo>
                    <a:cubicBezTo>
                      <a:pt x="698" y="65"/>
                      <a:pt x="700" y="74"/>
                      <a:pt x="702" y="82"/>
                    </a:cubicBezTo>
                    <a:cubicBezTo>
                      <a:pt x="701" y="88"/>
                      <a:pt x="700" y="94"/>
                      <a:pt x="699" y="100"/>
                    </a:cubicBezTo>
                    <a:cubicBezTo>
                      <a:pt x="698" y="96"/>
                      <a:pt x="697" y="92"/>
                      <a:pt x="696" y="88"/>
                    </a:cubicBezTo>
                    <a:cubicBezTo>
                      <a:pt x="697" y="78"/>
                      <a:pt x="698" y="70"/>
                      <a:pt x="698" y="70"/>
                    </a:cubicBezTo>
                    <a:cubicBezTo>
                      <a:pt x="697" y="72"/>
                      <a:pt x="696" y="78"/>
                      <a:pt x="695" y="85"/>
                    </a:cubicBezTo>
                    <a:cubicBezTo>
                      <a:pt x="693" y="82"/>
                      <a:pt x="691" y="79"/>
                      <a:pt x="689" y="76"/>
                    </a:cubicBezTo>
                    <a:cubicBezTo>
                      <a:pt x="688" y="71"/>
                      <a:pt x="688" y="66"/>
                      <a:pt x="688" y="61"/>
                    </a:cubicBezTo>
                    <a:cubicBezTo>
                      <a:pt x="688" y="73"/>
                      <a:pt x="685" y="88"/>
                      <a:pt x="683" y="101"/>
                    </a:cubicBezTo>
                    <a:cubicBezTo>
                      <a:pt x="681" y="95"/>
                      <a:pt x="679" y="90"/>
                      <a:pt x="677" y="86"/>
                    </a:cubicBezTo>
                    <a:cubicBezTo>
                      <a:pt x="678" y="73"/>
                      <a:pt x="678" y="64"/>
                      <a:pt x="678" y="64"/>
                    </a:cubicBezTo>
                    <a:cubicBezTo>
                      <a:pt x="678" y="71"/>
                      <a:pt x="676" y="82"/>
                      <a:pt x="674" y="95"/>
                    </a:cubicBezTo>
                    <a:cubicBezTo>
                      <a:pt x="672" y="87"/>
                      <a:pt x="670" y="79"/>
                      <a:pt x="666" y="71"/>
                    </a:cubicBezTo>
                    <a:cubicBezTo>
                      <a:pt x="668" y="49"/>
                      <a:pt x="669" y="30"/>
                      <a:pt x="669" y="30"/>
                    </a:cubicBezTo>
                    <a:cubicBezTo>
                      <a:pt x="667" y="35"/>
                      <a:pt x="665" y="49"/>
                      <a:pt x="663" y="65"/>
                    </a:cubicBezTo>
                    <a:cubicBezTo>
                      <a:pt x="662" y="62"/>
                      <a:pt x="660" y="59"/>
                      <a:pt x="658" y="56"/>
                    </a:cubicBezTo>
                    <a:cubicBezTo>
                      <a:pt x="658" y="63"/>
                      <a:pt x="660" y="70"/>
                      <a:pt x="662" y="78"/>
                    </a:cubicBezTo>
                    <a:cubicBezTo>
                      <a:pt x="661" y="87"/>
                      <a:pt x="660" y="97"/>
                      <a:pt x="659" y="106"/>
                    </a:cubicBezTo>
                    <a:cubicBezTo>
                      <a:pt x="659" y="105"/>
                      <a:pt x="659" y="104"/>
                      <a:pt x="658" y="103"/>
                    </a:cubicBezTo>
                    <a:cubicBezTo>
                      <a:pt x="659" y="104"/>
                      <a:pt x="659" y="106"/>
                      <a:pt x="659" y="109"/>
                    </a:cubicBezTo>
                    <a:cubicBezTo>
                      <a:pt x="658" y="120"/>
                      <a:pt x="657" y="131"/>
                      <a:pt x="657" y="138"/>
                    </a:cubicBezTo>
                    <a:cubicBezTo>
                      <a:pt x="657" y="137"/>
                      <a:pt x="656" y="135"/>
                      <a:pt x="656" y="134"/>
                    </a:cubicBezTo>
                    <a:cubicBezTo>
                      <a:pt x="655" y="99"/>
                      <a:pt x="650" y="41"/>
                      <a:pt x="650" y="41"/>
                    </a:cubicBezTo>
                    <a:cubicBezTo>
                      <a:pt x="652" y="58"/>
                      <a:pt x="650" y="86"/>
                      <a:pt x="648" y="108"/>
                    </a:cubicBezTo>
                    <a:cubicBezTo>
                      <a:pt x="647" y="105"/>
                      <a:pt x="645" y="102"/>
                      <a:pt x="644" y="99"/>
                    </a:cubicBezTo>
                    <a:cubicBezTo>
                      <a:pt x="644" y="86"/>
                      <a:pt x="644" y="73"/>
                      <a:pt x="644" y="67"/>
                    </a:cubicBezTo>
                    <a:cubicBezTo>
                      <a:pt x="643" y="75"/>
                      <a:pt x="642" y="85"/>
                      <a:pt x="641" y="94"/>
                    </a:cubicBezTo>
                    <a:cubicBezTo>
                      <a:pt x="640" y="92"/>
                      <a:pt x="639" y="91"/>
                      <a:pt x="638" y="89"/>
                    </a:cubicBezTo>
                    <a:cubicBezTo>
                      <a:pt x="639" y="91"/>
                      <a:pt x="640" y="94"/>
                      <a:pt x="640" y="97"/>
                    </a:cubicBezTo>
                    <a:cubicBezTo>
                      <a:pt x="639" y="104"/>
                      <a:pt x="638" y="110"/>
                      <a:pt x="636" y="116"/>
                    </a:cubicBezTo>
                    <a:cubicBezTo>
                      <a:pt x="635" y="110"/>
                      <a:pt x="634" y="105"/>
                      <a:pt x="632" y="101"/>
                    </a:cubicBezTo>
                    <a:cubicBezTo>
                      <a:pt x="633" y="91"/>
                      <a:pt x="634" y="83"/>
                      <a:pt x="634" y="83"/>
                    </a:cubicBezTo>
                    <a:cubicBezTo>
                      <a:pt x="634" y="86"/>
                      <a:pt x="633" y="92"/>
                      <a:pt x="631" y="98"/>
                    </a:cubicBezTo>
                    <a:cubicBezTo>
                      <a:pt x="630" y="94"/>
                      <a:pt x="629" y="91"/>
                      <a:pt x="628" y="89"/>
                    </a:cubicBezTo>
                    <a:cubicBezTo>
                      <a:pt x="629" y="74"/>
                      <a:pt x="631" y="62"/>
                      <a:pt x="631" y="62"/>
                    </a:cubicBezTo>
                    <a:cubicBezTo>
                      <a:pt x="629" y="65"/>
                      <a:pt x="628" y="75"/>
                      <a:pt x="626" y="87"/>
                    </a:cubicBezTo>
                    <a:cubicBezTo>
                      <a:pt x="624" y="83"/>
                      <a:pt x="622" y="81"/>
                      <a:pt x="619" y="78"/>
                    </a:cubicBezTo>
                    <a:cubicBezTo>
                      <a:pt x="622" y="81"/>
                      <a:pt x="624" y="84"/>
                      <a:pt x="626" y="89"/>
                    </a:cubicBezTo>
                    <a:cubicBezTo>
                      <a:pt x="625" y="96"/>
                      <a:pt x="624" y="105"/>
                      <a:pt x="623" y="113"/>
                    </a:cubicBezTo>
                    <a:cubicBezTo>
                      <a:pt x="622" y="108"/>
                      <a:pt x="621" y="104"/>
                      <a:pt x="619" y="100"/>
                    </a:cubicBezTo>
                    <a:cubicBezTo>
                      <a:pt x="618" y="86"/>
                      <a:pt x="616" y="73"/>
                      <a:pt x="615" y="68"/>
                    </a:cubicBezTo>
                    <a:cubicBezTo>
                      <a:pt x="615" y="71"/>
                      <a:pt x="616" y="76"/>
                      <a:pt x="615" y="86"/>
                    </a:cubicBezTo>
                    <a:cubicBezTo>
                      <a:pt x="615" y="87"/>
                      <a:pt x="615" y="88"/>
                      <a:pt x="615" y="90"/>
                    </a:cubicBezTo>
                    <a:cubicBezTo>
                      <a:pt x="614" y="87"/>
                      <a:pt x="612" y="84"/>
                      <a:pt x="610" y="81"/>
                    </a:cubicBezTo>
                    <a:cubicBezTo>
                      <a:pt x="613" y="85"/>
                      <a:pt x="614" y="91"/>
                      <a:pt x="614" y="96"/>
                    </a:cubicBezTo>
                    <a:cubicBezTo>
                      <a:pt x="613" y="105"/>
                      <a:pt x="611" y="115"/>
                      <a:pt x="609" y="124"/>
                    </a:cubicBezTo>
                    <a:cubicBezTo>
                      <a:pt x="609" y="113"/>
                      <a:pt x="608" y="102"/>
                      <a:pt x="606" y="91"/>
                    </a:cubicBezTo>
                    <a:cubicBezTo>
                      <a:pt x="606" y="77"/>
                      <a:pt x="606" y="77"/>
                      <a:pt x="606" y="77"/>
                    </a:cubicBezTo>
                    <a:cubicBezTo>
                      <a:pt x="609" y="35"/>
                      <a:pt x="602" y="19"/>
                      <a:pt x="602" y="19"/>
                    </a:cubicBezTo>
                    <a:cubicBezTo>
                      <a:pt x="602" y="19"/>
                      <a:pt x="605" y="31"/>
                      <a:pt x="604" y="54"/>
                    </a:cubicBezTo>
                    <a:cubicBezTo>
                      <a:pt x="604" y="59"/>
                      <a:pt x="603" y="68"/>
                      <a:pt x="602" y="78"/>
                    </a:cubicBezTo>
                    <a:cubicBezTo>
                      <a:pt x="599" y="72"/>
                      <a:pt x="596" y="66"/>
                      <a:pt x="592" y="60"/>
                    </a:cubicBezTo>
                    <a:cubicBezTo>
                      <a:pt x="592" y="61"/>
                      <a:pt x="592" y="61"/>
                      <a:pt x="592" y="61"/>
                    </a:cubicBezTo>
                    <a:cubicBezTo>
                      <a:pt x="592" y="62"/>
                      <a:pt x="592" y="63"/>
                      <a:pt x="592" y="64"/>
                    </a:cubicBezTo>
                    <a:cubicBezTo>
                      <a:pt x="591" y="44"/>
                      <a:pt x="583" y="40"/>
                      <a:pt x="583" y="40"/>
                    </a:cubicBezTo>
                    <a:cubicBezTo>
                      <a:pt x="583" y="40"/>
                      <a:pt x="589" y="44"/>
                      <a:pt x="589" y="70"/>
                    </a:cubicBezTo>
                    <a:cubicBezTo>
                      <a:pt x="589" y="76"/>
                      <a:pt x="588" y="85"/>
                      <a:pt x="586" y="94"/>
                    </a:cubicBezTo>
                    <a:cubicBezTo>
                      <a:pt x="584" y="90"/>
                      <a:pt x="581" y="86"/>
                      <a:pt x="578" y="83"/>
                    </a:cubicBezTo>
                    <a:cubicBezTo>
                      <a:pt x="581" y="87"/>
                      <a:pt x="584" y="92"/>
                      <a:pt x="586" y="97"/>
                    </a:cubicBezTo>
                    <a:cubicBezTo>
                      <a:pt x="585" y="100"/>
                      <a:pt x="585" y="103"/>
                      <a:pt x="584" y="106"/>
                    </a:cubicBezTo>
                    <a:cubicBezTo>
                      <a:pt x="584" y="104"/>
                      <a:pt x="583" y="102"/>
                      <a:pt x="583" y="100"/>
                    </a:cubicBezTo>
                    <a:cubicBezTo>
                      <a:pt x="583" y="102"/>
                      <a:pt x="583" y="105"/>
                      <a:pt x="584" y="108"/>
                    </a:cubicBezTo>
                    <a:cubicBezTo>
                      <a:pt x="583" y="111"/>
                      <a:pt x="582" y="114"/>
                      <a:pt x="581" y="117"/>
                    </a:cubicBezTo>
                    <a:cubicBezTo>
                      <a:pt x="580" y="113"/>
                      <a:pt x="579" y="108"/>
                      <a:pt x="577" y="104"/>
                    </a:cubicBezTo>
                    <a:cubicBezTo>
                      <a:pt x="577" y="87"/>
                      <a:pt x="578" y="71"/>
                      <a:pt x="578" y="71"/>
                    </a:cubicBezTo>
                    <a:cubicBezTo>
                      <a:pt x="578" y="73"/>
                      <a:pt x="576" y="84"/>
                      <a:pt x="573" y="97"/>
                    </a:cubicBezTo>
                    <a:cubicBezTo>
                      <a:pt x="572" y="95"/>
                      <a:pt x="571" y="93"/>
                      <a:pt x="570" y="92"/>
                    </a:cubicBezTo>
                    <a:cubicBezTo>
                      <a:pt x="571" y="81"/>
                      <a:pt x="572" y="72"/>
                      <a:pt x="573" y="66"/>
                    </a:cubicBezTo>
                    <a:cubicBezTo>
                      <a:pt x="572" y="73"/>
                      <a:pt x="571" y="81"/>
                      <a:pt x="569" y="90"/>
                    </a:cubicBezTo>
                    <a:cubicBezTo>
                      <a:pt x="568" y="88"/>
                      <a:pt x="566" y="86"/>
                      <a:pt x="565" y="83"/>
                    </a:cubicBezTo>
                    <a:cubicBezTo>
                      <a:pt x="568" y="26"/>
                      <a:pt x="566" y="12"/>
                      <a:pt x="566" y="12"/>
                    </a:cubicBezTo>
                    <a:cubicBezTo>
                      <a:pt x="566" y="12"/>
                      <a:pt x="566" y="18"/>
                      <a:pt x="563" y="56"/>
                    </a:cubicBezTo>
                    <a:cubicBezTo>
                      <a:pt x="562" y="64"/>
                      <a:pt x="561" y="71"/>
                      <a:pt x="560" y="78"/>
                    </a:cubicBezTo>
                    <a:cubicBezTo>
                      <a:pt x="558" y="76"/>
                      <a:pt x="556" y="73"/>
                      <a:pt x="553" y="71"/>
                    </a:cubicBezTo>
                    <a:cubicBezTo>
                      <a:pt x="554" y="48"/>
                      <a:pt x="555" y="31"/>
                      <a:pt x="555" y="31"/>
                    </a:cubicBezTo>
                    <a:cubicBezTo>
                      <a:pt x="553" y="37"/>
                      <a:pt x="551" y="52"/>
                      <a:pt x="550" y="68"/>
                    </a:cubicBezTo>
                    <a:cubicBezTo>
                      <a:pt x="548" y="66"/>
                      <a:pt x="546" y="65"/>
                      <a:pt x="544" y="63"/>
                    </a:cubicBezTo>
                    <a:cubicBezTo>
                      <a:pt x="547" y="65"/>
                      <a:pt x="548" y="67"/>
                      <a:pt x="550" y="69"/>
                    </a:cubicBezTo>
                    <a:cubicBezTo>
                      <a:pt x="549" y="82"/>
                      <a:pt x="549" y="96"/>
                      <a:pt x="548" y="109"/>
                    </a:cubicBezTo>
                    <a:cubicBezTo>
                      <a:pt x="547" y="104"/>
                      <a:pt x="545" y="99"/>
                      <a:pt x="544" y="96"/>
                    </a:cubicBezTo>
                    <a:cubicBezTo>
                      <a:pt x="545" y="104"/>
                      <a:pt x="546" y="112"/>
                      <a:pt x="548" y="120"/>
                    </a:cubicBezTo>
                    <a:cubicBezTo>
                      <a:pt x="548" y="123"/>
                      <a:pt x="548" y="126"/>
                      <a:pt x="548" y="128"/>
                    </a:cubicBezTo>
                    <a:cubicBezTo>
                      <a:pt x="547" y="125"/>
                      <a:pt x="545" y="122"/>
                      <a:pt x="544" y="118"/>
                    </a:cubicBezTo>
                    <a:cubicBezTo>
                      <a:pt x="539" y="80"/>
                      <a:pt x="532" y="28"/>
                      <a:pt x="532" y="28"/>
                    </a:cubicBezTo>
                    <a:cubicBezTo>
                      <a:pt x="532" y="39"/>
                      <a:pt x="530" y="72"/>
                      <a:pt x="528" y="100"/>
                    </a:cubicBezTo>
                    <a:cubicBezTo>
                      <a:pt x="528" y="98"/>
                      <a:pt x="527" y="97"/>
                      <a:pt x="526" y="96"/>
                    </a:cubicBezTo>
                    <a:cubicBezTo>
                      <a:pt x="527" y="97"/>
                      <a:pt x="528" y="99"/>
                      <a:pt x="528" y="100"/>
                    </a:cubicBezTo>
                    <a:cubicBezTo>
                      <a:pt x="528" y="110"/>
                      <a:pt x="527" y="120"/>
                      <a:pt x="526" y="128"/>
                    </a:cubicBezTo>
                    <a:cubicBezTo>
                      <a:pt x="526" y="128"/>
                      <a:pt x="526" y="127"/>
                      <a:pt x="526" y="127"/>
                    </a:cubicBezTo>
                    <a:cubicBezTo>
                      <a:pt x="526" y="109"/>
                      <a:pt x="524" y="87"/>
                      <a:pt x="523" y="71"/>
                    </a:cubicBezTo>
                    <a:cubicBezTo>
                      <a:pt x="524" y="68"/>
                      <a:pt x="525" y="66"/>
                      <a:pt x="526" y="64"/>
                    </a:cubicBezTo>
                    <a:cubicBezTo>
                      <a:pt x="525" y="65"/>
                      <a:pt x="524" y="67"/>
                      <a:pt x="523" y="69"/>
                    </a:cubicBezTo>
                    <a:cubicBezTo>
                      <a:pt x="522" y="61"/>
                      <a:pt x="521" y="55"/>
                      <a:pt x="521" y="53"/>
                    </a:cubicBezTo>
                    <a:cubicBezTo>
                      <a:pt x="521" y="52"/>
                      <a:pt x="522" y="52"/>
                      <a:pt x="522" y="51"/>
                    </a:cubicBezTo>
                    <a:cubicBezTo>
                      <a:pt x="522" y="51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19" y="54"/>
                      <a:pt x="517" y="56"/>
                      <a:pt x="516" y="57"/>
                    </a:cubicBezTo>
                    <a:cubicBezTo>
                      <a:pt x="516" y="54"/>
                      <a:pt x="516" y="52"/>
                      <a:pt x="517" y="50"/>
                    </a:cubicBezTo>
                    <a:cubicBezTo>
                      <a:pt x="520" y="46"/>
                      <a:pt x="523" y="42"/>
                      <a:pt x="527" y="38"/>
                    </a:cubicBezTo>
                    <a:cubicBezTo>
                      <a:pt x="523" y="41"/>
                      <a:pt x="520" y="44"/>
                      <a:pt x="517" y="47"/>
                    </a:cubicBezTo>
                    <a:cubicBezTo>
                      <a:pt x="517" y="43"/>
                      <a:pt x="518" y="40"/>
                      <a:pt x="518" y="40"/>
                    </a:cubicBezTo>
                    <a:cubicBezTo>
                      <a:pt x="517" y="43"/>
                      <a:pt x="516" y="46"/>
                      <a:pt x="515" y="50"/>
                    </a:cubicBezTo>
                    <a:cubicBezTo>
                      <a:pt x="507" y="58"/>
                      <a:pt x="502" y="66"/>
                      <a:pt x="498" y="75"/>
                    </a:cubicBezTo>
                    <a:cubicBezTo>
                      <a:pt x="498" y="70"/>
                      <a:pt x="497" y="66"/>
                      <a:pt x="497" y="63"/>
                    </a:cubicBezTo>
                    <a:cubicBezTo>
                      <a:pt x="500" y="57"/>
                      <a:pt x="503" y="50"/>
                      <a:pt x="507" y="42"/>
                    </a:cubicBezTo>
                    <a:cubicBezTo>
                      <a:pt x="498" y="52"/>
                      <a:pt x="492" y="61"/>
                      <a:pt x="488" y="71"/>
                    </a:cubicBezTo>
                    <a:cubicBezTo>
                      <a:pt x="487" y="70"/>
                      <a:pt x="487" y="70"/>
                      <a:pt x="486" y="69"/>
                    </a:cubicBezTo>
                    <a:cubicBezTo>
                      <a:pt x="486" y="68"/>
                      <a:pt x="486" y="67"/>
                      <a:pt x="486" y="65"/>
                    </a:cubicBezTo>
                    <a:cubicBezTo>
                      <a:pt x="492" y="53"/>
                      <a:pt x="500" y="41"/>
                      <a:pt x="511" y="25"/>
                    </a:cubicBezTo>
                    <a:cubicBezTo>
                      <a:pt x="500" y="40"/>
                      <a:pt x="492" y="51"/>
                      <a:pt x="485" y="63"/>
                    </a:cubicBezTo>
                    <a:cubicBezTo>
                      <a:pt x="483" y="45"/>
                      <a:pt x="482" y="30"/>
                      <a:pt x="482" y="30"/>
                    </a:cubicBezTo>
                    <a:cubicBezTo>
                      <a:pt x="482" y="35"/>
                      <a:pt x="482" y="49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7"/>
                      <a:pt x="482" y="69"/>
                      <a:pt x="482" y="71"/>
                    </a:cubicBezTo>
                    <a:cubicBezTo>
                      <a:pt x="480" y="74"/>
                      <a:pt x="479" y="78"/>
                      <a:pt x="478" y="81"/>
                    </a:cubicBezTo>
                    <a:cubicBezTo>
                      <a:pt x="479" y="78"/>
                      <a:pt x="480" y="76"/>
                      <a:pt x="482" y="73"/>
                    </a:cubicBezTo>
                    <a:cubicBezTo>
                      <a:pt x="481" y="79"/>
                      <a:pt x="481" y="85"/>
                      <a:pt x="481" y="91"/>
                    </a:cubicBezTo>
                    <a:cubicBezTo>
                      <a:pt x="481" y="93"/>
                      <a:pt x="480" y="95"/>
                      <a:pt x="480" y="97"/>
                    </a:cubicBezTo>
                    <a:cubicBezTo>
                      <a:pt x="479" y="96"/>
                      <a:pt x="478" y="95"/>
                      <a:pt x="478" y="94"/>
                    </a:cubicBezTo>
                    <a:cubicBezTo>
                      <a:pt x="478" y="91"/>
                      <a:pt x="477" y="88"/>
                      <a:pt x="477" y="85"/>
                    </a:cubicBezTo>
                    <a:cubicBezTo>
                      <a:pt x="477" y="83"/>
                      <a:pt x="478" y="82"/>
                      <a:pt x="478" y="81"/>
                    </a:cubicBezTo>
                    <a:cubicBezTo>
                      <a:pt x="478" y="82"/>
                      <a:pt x="477" y="83"/>
                      <a:pt x="477" y="84"/>
                    </a:cubicBezTo>
                    <a:cubicBezTo>
                      <a:pt x="476" y="72"/>
                      <a:pt x="476" y="62"/>
                      <a:pt x="475" y="55"/>
                    </a:cubicBezTo>
                    <a:cubicBezTo>
                      <a:pt x="476" y="54"/>
                      <a:pt x="477" y="53"/>
                      <a:pt x="479" y="52"/>
                    </a:cubicBezTo>
                    <a:cubicBezTo>
                      <a:pt x="477" y="53"/>
                      <a:pt x="476" y="54"/>
                      <a:pt x="475" y="54"/>
                    </a:cubicBezTo>
                    <a:cubicBezTo>
                      <a:pt x="475" y="49"/>
                      <a:pt x="475" y="46"/>
                      <a:pt x="475" y="46"/>
                    </a:cubicBezTo>
                    <a:cubicBezTo>
                      <a:pt x="475" y="48"/>
                      <a:pt x="474" y="51"/>
                      <a:pt x="474" y="55"/>
                    </a:cubicBezTo>
                    <a:cubicBezTo>
                      <a:pt x="471" y="57"/>
                      <a:pt x="468" y="59"/>
                      <a:pt x="465" y="62"/>
                    </a:cubicBezTo>
                    <a:cubicBezTo>
                      <a:pt x="465" y="58"/>
                      <a:pt x="465" y="54"/>
                      <a:pt x="466" y="50"/>
                    </a:cubicBezTo>
                    <a:cubicBezTo>
                      <a:pt x="469" y="45"/>
                      <a:pt x="474" y="40"/>
                      <a:pt x="479" y="34"/>
                    </a:cubicBezTo>
                    <a:cubicBezTo>
                      <a:pt x="474" y="39"/>
                      <a:pt x="470" y="44"/>
                      <a:pt x="466" y="48"/>
                    </a:cubicBezTo>
                    <a:cubicBezTo>
                      <a:pt x="467" y="21"/>
                      <a:pt x="468" y="0"/>
                      <a:pt x="468" y="0"/>
                    </a:cubicBezTo>
                    <a:cubicBezTo>
                      <a:pt x="464" y="10"/>
                      <a:pt x="462" y="35"/>
                      <a:pt x="461" y="53"/>
                    </a:cubicBezTo>
                    <a:cubicBezTo>
                      <a:pt x="460" y="54"/>
                      <a:pt x="459" y="55"/>
                      <a:pt x="459" y="56"/>
                    </a:cubicBezTo>
                    <a:cubicBezTo>
                      <a:pt x="457" y="44"/>
                      <a:pt x="454" y="33"/>
                      <a:pt x="454" y="33"/>
                    </a:cubicBezTo>
                    <a:cubicBezTo>
                      <a:pt x="456" y="39"/>
                      <a:pt x="455" y="49"/>
                      <a:pt x="454" y="62"/>
                    </a:cubicBezTo>
                    <a:cubicBezTo>
                      <a:pt x="452" y="63"/>
                      <a:pt x="451" y="65"/>
                      <a:pt x="450" y="67"/>
                    </a:cubicBezTo>
                    <a:cubicBezTo>
                      <a:pt x="449" y="65"/>
                      <a:pt x="448" y="63"/>
                      <a:pt x="447" y="62"/>
                    </a:cubicBezTo>
                    <a:cubicBezTo>
                      <a:pt x="447" y="63"/>
                      <a:pt x="448" y="65"/>
                      <a:pt x="449" y="68"/>
                    </a:cubicBezTo>
                    <a:cubicBezTo>
                      <a:pt x="447" y="72"/>
                      <a:pt x="445" y="75"/>
                      <a:pt x="443" y="78"/>
                    </a:cubicBezTo>
                    <a:cubicBezTo>
                      <a:pt x="442" y="61"/>
                      <a:pt x="442" y="48"/>
                      <a:pt x="442" y="48"/>
                    </a:cubicBezTo>
                    <a:cubicBezTo>
                      <a:pt x="442" y="52"/>
                      <a:pt x="440" y="65"/>
                      <a:pt x="438" y="80"/>
                    </a:cubicBezTo>
                    <a:cubicBezTo>
                      <a:pt x="438" y="82"/>
                      <a:pt x="437" y="85"/>
                      <a:pt x="436" y="87"/>
                    </a:cubicBezTo>
                    <a:cubicBezTo>
                      <a:pt x="435" y="86"/>
                      <a:pt x="435" y="86"/>
                      <a:pt x="434" y="85"/>
                    </a:cubicBezTo>
                    <a:cubicBezTo>
                      <a:pt x="437" y="48"/>
                      <a:pt x="440" y="9"/>
                      <a:pt x="440" y="9"/>
                    </a:cubicBezTo>
                    <a:cubicBezTo>
                      <a:pt x="436" y="20"/>
                      <a:pt x="432" y="57"/>
                      <a:pt x="428" y="89"/>
                    </a:cubicBezTo>
                    <a:cubicBezTo>
                      <a:pt x="427" y="91"/>
                      <a:pt x="427" y="92"/>
                      <a:pt x="426" y="93"/>
                    </a:cubicBezTo>
                    <a:cubicBezTo>
                      <a:pt x="425" y="92"/>
                      <a:pt x="424" y="90"/>
                      <a:pt x="423" y="89"/>
                    </a:cubicBezTo>
                    <a:cubicBezTo>
                      <a:pt x="426" y="72"/>
                      <a:pt x="429" y="55"/>
                      <a:pt x="429" y="37"/>
                    </a:cubicBezTo>
                    <a:cubicBezTo>
                      <a:pt x="429" y="34"/>
                      <a:pt x="429" y="30"/>
                      <a:pt x="429" y="26"/>
                    </a:cubicBezTo>
                    <a:cubicBezTo>
                      <a:pt x="422" y="45"/>
                      <a:pt x="421" y="66"/>
                      <a:pt x="417" y="86"/>
                    </a:cubicBezTo>
                    <a:cubicBezTo>
                      <a:pt x="417" y="85"/>
                      <a:pt x="416" y="84"/>
                      <a:pt x="416" y="84"/>
                    </a:cubicBezTo>
                    <a:cubicBezTo>
                      <a:pt x="416" y="84"/>
                      <a:pt x="417" y="85"/>
                      <a:pt x="417" y="86"/>
                    </a:cubicBezTo>
                    <a:cubicBezTo>
                      <a:pt x="417" y="88"/>
                      <a:pt x="416" y="90"/>
                      <a:pt x="416" y="92"/>
                    </a:cubicBezTo>
                    <a:cubicBezTo>
                      <a:pt x="415" y="94"/>
                      <a:pt x="415" y="96"/>
                      <a:pt x="414" y="98"/>
                    </a:cubicBezTo>
                    <a:cubicBezTo>
                      <a:pt x="414" y="97"/>
                      <a:pt x="413" y="96"/>
                      <a:pt x="412" y="95"/>
                    </a:cubicBezTo>
                    <a:cubicBezTo>
                      <a:pt x="412" y="86"/>
                      <a:pt x="411" y="78"/>
                      <a:pt x="410" y="72"/>
                    </a:cubicBezTo>
                    <a:cubicBezTo>
                      <a:pt x="413" y="67"/>
                      <a:pt x="417" y="63"/>
                      <a:pt x="421" y="59"/>
                    </a:cubicBezTo>
                    <a:cubicBezTo>
                      <a:pt x="417" y="62"/>
                      <a:pt x="413" y="66"/>
                      <a:pt x="410" y="70"/>
                    </a:cubicBezTo>
                    <a:cubicBezTo>
                      <a:pt x="409" y="64"/>
                      <a:pt x="409" y="60"/>
                      <a:pt x="408" y="57"/>
                    </a:cubicBezTo>
                    <a:cubicBezTo>
                      <a:pt x="410" y="54"/>
                      <a:pt x="411" y="52"/>
                      <a:pt x="412" y="50"/>
                    </a:cubicBezTo>
                    <a:cubicBezTo>
                      <a:pt x="411" y="51"/>
                      <a:pt x="409" y="53"/>
                      <a:pt x="408" y="54"/>
                    </a:cubicBezTo>
                    <a:cubicBezTo>
                      <a:pt x="408" y="53"/>
                      <a:pt x="408" y="52"/>
                      <a:pt x="408" y="52"/>
                    </a:cubicBezTo>
                    <a:cubicBezTo>
                      <a:pt x="408" y="53"/>
                      <a:pt x="408" y="54"/>
                      <a:pt x="408" y="54"/>
                    </a:cubicBezTo>
                    <a:cubicBezTo>
                      <a:pt x="406" y="56"/>
                      <a:pt x="404" y="58"/>
                      <a:pt x="402" y="60"/>
                    </a:cubicBezTo>
                    <a:cubicBezTo>
                      <a:pt x="401" y="54"/>
                      <a:pt x="400" y="48"/>
                      <a:pt x="399" y="44"/>
                    </a:cubicBezTo>
                    <a:cubicBezTo>
                      <a:pt x="400" y="49"/>
                      <a:pt x="399" y="56"/>
                      <a:pt x="398" y="64"/>
                    </a:cubicBezTo>
                    <a:cubicBezTo>
                      <a:pt x="397" y="66"/>
                      <a:pt x="396" y="68"/>
                      <a:pt x="395" y="69"/>
                    </a:cubicBezTo>
                    <a:cubicBezTo>
                      <a:pt x="393" y="67"/>
                      <a:pt x="392" y="66"/>
                      <a:pt x="390" y="64"/>
                    </a:cubicBezTo>
                    <a:cubicBezTo>
                      <a:pt x="392" y="66"/>
                      <a:pt x="393" y="67"/>
                      <a:pt x="395" y="69"/>
                    </a:cubicBezTo>
                    <a:cubicBezTo>
                      <a:pt x="393" y="71"/>
                      <a:pt x="392" y="73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0" y="76"/>
                      <a:pt x="389" y="77"/>
                      <a:pt x="388" y="79"/>
                    </a:cubicBezTo>
                    <a:cubicBezTo>
                      <a:pt x="388" y="79"/>
                      <a:pt x="388" y="79"/>
                      <a:pt x="388" y="79"/>
                    </a:cubicBezTo>
                    <a:cubicBezTo>
                      <a:pt x="389" y="60"/>
                      <a:pt x="389" y="45"/>
                      <a:pt x="389" y="45"/>
                    </a:cubicBezTo>
                    <a:cubicBezTo>
                      <a:pt x="389" y="50"/>
                      <a:pt x="387" y="61"/>
                      <a:pt x="384" y="73"/>
                    </a:cubicBezTo>
                    <a:cubicBezTo>
                      <a:pt x="383" y="73"/>
                      <a:pt x="383" y="73"/>
                      <a:pt x="383" y="72"/>
                    </a:cubicBezTo>
                    <a:cubicBezTo>
                      <a:pt x="383" y="70"/>
                      <a:pt x="383" y="68"/>
                      <a:pt x="383" y="66"/>
                    </a:cubicBezTo>
                    <a:cubicBezTo>
                      <a:pt x="383" y="65"/>
                      <a:pt x="383" y="65"/>
                      <a:pt x="384" y="65"/>
                    </a:cubicBezTo>
                    <a:cubicBezTo>
                      <a:pt x="383" y="65"/>
                      <a:pt x="383" y="65"/>
                      <a:pt x="383" y="66"/>
                    </a:cubicBezTo>
                    <a:cubicBezTo>
                      <a:pt x="383" y="64"/>
                      <a:pt x="383" y="63"/>
                      <a:pt x="383" y="61"/>
                    </a:cubicBezTo>
                    <a:cubicBezTo>
                      <a:pt x="383" y="55"/>
                      <a:pt x="383" y="49"/>
                      <a:pt x="382" y="42"/>
                    </a:cubicBezTo>
                    <a:cubicBezTo>
                      <a:pt x="385" y="27"/>
                      <a:pt x="387" y="17"/>
                      <a:pt x="387" y="17"/>
                    </a:cubicBezTo>
                    <a:cubicBezTo>
                      <a:pt x="384" y="22"/>
                      <a:pt x="377" y="49"/>
                      <a:pt x="371" y="78"/>
                    </a:cubicBezTo>
                    <a:cubicBezTo>
                      <a:pt x="371" y="78"/>
                      <a:pt x="371" y="79"/>
                      <a:pt x="371" y="79"/>
                    </a:cubicBezTo>
                    <a:cubicBezTo>
                      <a:pt x="369" y="76"/>
                      <a:pt x="367" y="72"/>
                      <a:pt x="364" y="69"/>
                    </a:cubicBezTo>
                    <a:cubicBezTo>
                      <a:pt x="366" y="67"/>
                      <a:pt x="367" y="66"/>
                      <a:pt x="369" y="64"/>
                    </a:cubicBezTo>
                    <a:cubicBezTo>
                      <a:pt x="367" y="66"/>
                      <a:pt x="365" y="67"/>
                      <a:pt x="364" y="69"/>
                    </a:cubicBezTo>
                    <a:cubicBezTo>
                      <a:pt x="363" y="68"/>
                      <a:pt x="362" y="67"/>
                      <a:pt x="361" y="66"/>
                    </a:cubicBezTo>
                    <a:cubicBezTo>
                      <a:pt x="361" y="60"/>
                      <a:pt x="361" y="55"/>
                      <a:pt x="360" y="52"/>
                    </a:cubicBezTo>
                    <a:cubicBezTo>
                      <a:pt x="361" y="56"/>
                      <a:pt x="361" y="60"/>
                      <a:pt x="360" y="64"/>
                    </a:cubicBezTo>
                    <a:cubicBezTo>
                      <a:pt x="357" y="60"/>
                      <a:pt x="352" y="55"/>
                      <a:pt x="347" y="50"/>
                    </a:cubicBezTo>
                    <a:cubicBezTo>
                      <a:pt x="350" y="55"/>
                      <a:pt x="353" y="60"/>
                      <a:pt x="356" y="65"/>
                    </a:cubicBezTo>
                    <a:cubicBezTo>
                      <a:pt x="355" y="68"/>
                      <a:pt x="355" y="71"/>
                      <a:pt x="354" y="76"/>
                    </a:cubicBezTo>
                    <a:cubicBezTo>
                      <a:pt x="352" y="74"/>
                      <a:pt x="350" y="71"/>
                      <a:pt x="348" y="68"/>
                    </a:cubicBezTo>
                    <a:cubicBezTo>
                      <a:pt x="347" y="54"/>
                      <a:pt x="346" y="41"/>
                      <a:pt x="345" y="33"/>
                    </a:cubicBezTo>
                    <a:cubicBezTo>
                      <a:pt x="346" y="42"/>
                      <a:pt x="345" y="53"/>
                      <a:pt x="344" y="65"/>
                    </a:cubicBezTo>
                    <a:cubicBezTo>
                      <a:pt x="342" y="63"/>
                      <a:pt x="340" y="61"/>
                      <a:pt x="338" y="59"/>
                    </a:cubicBezTo>
                    <a:cubicBezTo>
                      <a:pt x="340" y="61"/>
                      <a:pt x="342" y="63"/>
                      <a:pt x="344" y="65"/>
                    </a:cubicBezTo>
                    <a:cubicBezTo>
                      <a:pt x="343" y="72"/>
                      <a:pt x="342" y="80"/>
                      <a:pt x="341" y="87"/>
                    </a:cubicBezTo>
                    <a:cubicBezTo>
                      <a:pt x="341" y="87"/>
                      <a:pt x="341" y="87"/>
                      <a:pt x="341" y="87"/>
                    </a:cubicBezTo>
                    <a:cubicBezTo>
                      <a:pt x="341" y="85"/>
                      <a:pt x="340" y="84"/>
                      <a:pt x="340" y="83"/>
                    </a:cubicBezTo>
                    <a:cubicBezTo>
                      <a:pt x="340" y="82"/>
                      <a:pt x="340" y="82"/>
                      <a:pt x="340" y="81"/>
                    </a:cubicBezTo>
                    <a:cubicBezTo>
                      <a:pt x="340" y="82"/>
                      <a:pt x="340" y="82"/>
                      <a:pt x="340" y="83"/>
                    </a:cubicBezTo>
                    <a:cubicBezTo>
                      <a:pt x="339" y="81"/>
                      <a:pt x="338" y="79"/>
                      <a:pt x="337" y="77"/>
                    </a:cubicBezTo>
                    <a:cubicBezTo>
                      <a:pt x="338" y="79"/>
                      <a:pt x="339" y="81"/>
                      <a:pt x="339" y="83"/>
                    </a:cubicBezTo>
                    <a:cubicBezTo>
                      <a:pt x="338" y="85"/>
                      <a:pt x="337" y="86"/>
                      <a:pt x="336" y="88"/>
                    </a:cubicBezTo>
                    <a:cubicBezTo>
                      <a:pt x="337" y="86"/>
                      <a:pt x="338" y="85"/>
                      <a:pt x="339" y="83"/>
                    </a:cubicBezTo>
                    <a:cubicBezTo>
                      <a:pt x="340" y="85"/>
                      <a:pt x="340" y="86"/>
                      <a:pt x="340" y="88"/>
                    </a:cubicBezTo>
                    <a:cubicBezTo>
                      <a:pt x="338" y="91"/>
                      <a:pt x="337" y="95"/>
                      <a:pt x="335" y="98"/>
                    </a:cubicBezTo>
                    <a:cubicBezTo>
                      <a:pt x="335" y="97"/>
                      <a:pt x="335" y="97"/>
                      <a:pt x="334" y="97"/>
                    </a:cubicBezTo>
                    <a:cubicBezTo>
                      <a:pt x="334" y="95"/>
                      <a:pt x="334" y="94"/>
                      <a:pt x="334" y="93"/>
                    </a:cubicBezTo>
                    <a:cubicBezTo>
                      <a:pt x="334" y="91"/>
                      <a:pt x="335" y="89"/>
                      <a:pt x="336" y="88"/>
                    </a:cubicBezTo>
                    <a:cubicBezTo>
                      <a:pt x="335" y="89"/>
                      <a:pt x="334" y="91"/>
                      <a:pt x="334" y="92"/>
                    </a:cubicBezTo>
                    <a:cubicBezTo>
                      <a:pt x="333" y="92"/>
                      <a:pt x="333" y="91"/>
                      <a:pt x="333" y="91"/>
                    </a:cubicBezTo>
                    <a:cubicBezTo>
                      <a:pt x="333" y="74"/>
                      <a:pt x="332" y="60"/>
                      <a:pt x="332" y="60"/>
                    </a:cubicBezTo>
                    <a:cubicBezTo>
                      <a:pt x="332" y="65"/>
                      <a:pt x="332" y="73"/>
                      <a:pt x="331" y="81"/>
                    </a:cubicBezTo>
                    <a:cubicBezTo>
                      <a:pt x="330" y="79"/>
                      <a:pt x="330" y="76"/>
                      <a:pt x="329" y="74"/>
                    </a:cubicBezTo>
                    <a:cubicBezTo>
                      <a:pt x="330" y="79"/>
                      <a:pt x="330" y="83"/>
                      <a:pt x="330" y="88"/>
                    </a:cubicBezTo>
                    <a:cubicBezTo>
                      <a:pt x="329" y="86"/>
                      <a:pt x="328" y="84"/>
                      <a:pt x="327" y="83"/>
                    </a:cubicBezTo>
                    <a:cubicBezTo>
                      <a:pt x="328" y="85"/>
                      <a:pt x="329" y="87"/>
                      <a:pt x="330" y="89"/>
                    </a:cubicBezTo>
                    <a:cubicBezTo>
                      <a:pt x="330" y="89"/>
                      <a:pt x="330" y="89"/>
                      <a:pt x="330" y="89"/>
                    </a:cubicBezTo>
                    <a:cubicBezTo>
                      <a:pt x="330" y="93"/>
                      <a:pt x="329" y="97"/>
                      <a:pt x="329" y="101"/>
                    </a:cubicBezTo>
                    <a:cubicBezTo>
                      <a:pt x="328" y="103"/>
                      <a:pt x="327" y="104"/>
                      <a:pt x="327" y="106"/>
                    </a:cubicBezTo>
                    <a:cubicBezTo>
                      <a:pt x="325" y="100"/>
                      <a:pt x="324" y="95"/>
                      <a:pt x="322" y="90"/>
                    </a:cubicBezTo>
                    <a:cubicBezTo>
                      <a:pt x="323" y="88"/>
                      <a:pt x="325" y="85"/>
                      <a:pt x="327" y="83"/>
                    </a:cubicBezTo>
                    <a:cubicBezTo>
                      <a:pt x="325" y="85"/>
                      <a:pt x="323" y="87"/>
                      <a:pt x="321" y="89"/>
                    </a:cubicBezTo>
                    <a:cubicBezTo>
                      <a:pt x="321" y="88"/>
                      <a:pt x="321" y="87"/>
                      <a:pt x="320" y="87"/>
                    </a:cubicBezTo>
                    <a:cubicBezTo>
                      <a:pt x="320" y="76"/>
                      <a:pt x="321" y="68"/>
                      <a:pt x="321" y="68"/>
                    </a:cubicBezTo>
                    <a:cubicBezTo>
                      <a:pt x="320" y="72"/>
                      <a:pt x="319" y="77"/>
                      <a:pt x="318" y="82"/>
                    </a:cubicBezTo>
                    <a:cubicBezTo>
                      <a:pt x="318" y="81"/>
                      <a:pt x="318" y="80"/>
                      <a:pt x="318" y="80"/>
                    </a:cubicBezTo>
                    <a:cubicBezTo>
                      <a:pt x="318" y="80"/>
                      <a:pt x="318" y="81"/>
                      <a:pt x="318" y="82"/>
                    </a:cubicBezTo>
                    <a:cubicBezTo>
                      <a:pt x="317" y="80"/>
                      <a:pt x="316" y="78"/>
                      <a:pt x="314" y="75"/>
                    </a:cubicBezTo>
                    <a:cubicBezTo>
                      <a:pt x="315" y="65"/>
                      <a:pt x="316" y="56"/>
                      <a:pt x="317" y="48"/>
                    </a:cubicBezTo>
                    <a:cubicBezTo>
                      <a:pt x="316" y="55"/>
                      <a:pt x="315" y="64"/>
                      <a:pt x="313" y="73"/>
                    </a:cubicBezTo>
                    <a:cubicBezTo>
                      <a:pt x="311" y="70"/>
                      <a:pt x="309" y="67"/>
                      <a:pt x="307" y="64"/>
                    </a:cubicBezTo>
                    <a:cubicBezTo>
                      <a:pt x="307" y="62"/>
                      <a:pt x="307" y="59"/>
                      <a:pt x="307" y="57"/>
                    </a:cubicBezTo>
                    <a:cubicBezTo>
                      <a:pt x="306" y="58"/>
                      <a:pt x="306" y="60"/>
                      <a:pt x="305" y="62"/>
                    </a:cubicBezTo>
                    <a:cubicBezTo>
                      <a:pt x="303" y="59"/>
                      <a:pt x="300" y="55"/>
                      <a:pt x="297" y="52"/>
                    </a:cubicBezTo>
                    <a:cubicBezTo>
                      <a:pt x="297" y="48"/>
                      <a:pt x="298" y="46"/>
                      <a:pt x="298" y="46"/>
                    </a:cubicBezTo>
                    <a:cubicBezTo>
                      <a:pt x="297" y="48"/>
                      <a:pt x="297" y="49"/>
                      <a:pt x="296" y="51"/>
                    </a:cubicBezTo>
                    <a:cubicBezTo>
                      <a:pt x="293" y="47"/>
                      <a:pt x="289" y="43"/>
                      <a:pt x="285" y="39"/>
                    </a:cubicBezTo>
                    <a:cubicBezTo>
                      <a:pt x="285" y="37"/>
                      <a:pt x="285" y="35"/>
                      <a:pt x="285" y="34"/>
                    </a:cubicBezTo>
                    <a:cubicBezTo>
                      <a:pt x="285" y="34"/>
                      <a:pt x="285" y="36"/>
                      <a:pt x="285" y="39"/>
                    </a:cubicBezTo>
                    <a:cubicBezTo>
                      <a:pt x="283" y="37"/>
                      <a:pt x="282" y="36"/>
                      <a:pt x="280" y="34"/>
                    </a:cubicBezTo>
                    <a:cubicBezTo>
                      <a:pt x="282" y="36"/>
                      <a:pt x="283" y="38"/>
                      <a:pt x="285" y="40"/>
                    </a:cubicBezTo>
                    <a:cubicBezTo>
                      <a:pt x="285" y="40"/>
                      <a:pt x="285" y="40"/>
                      <a:pt x="285" y="41"/>
                    </a:cubicBezTo>
                    <a:cubicBezTo>
                      <a:pt x="285" y="40"/>
                      <a:pt x="285" y="40"/>
                      <a:pt x="285" y="40"/>
                    </a:cubicBezTo>
                    <a:cubicBezTo>
                      <a:pt x="289" y="45"/>
                      <a:pt x="293" y="49"/>
                      <a:pt x="296" y="53"/>
                    </a:cubicBezTo>
                    <a:cubicBezTo>
                      <a:pt x="295" y="55"/>
                      <a:pt x="295" y="59"/>
                      <a:pt x="294" y="62"/>
                    </a:cubicBezTo>
                    <a:cubicBezTo>
                      <a:pt x="292" y="60"/>
                      <a:pt x="289" y="58"/>
                      <a:pt x="286" y="56"/>
                    </a:cubicBezTo>
                    <a:cubicBezTo>
                      <a:pt x="285" y="50"/>
                      <a:pt x="285" y="44"/>
                      <a:pt x="285" y="41"/>
                    </a:cubicBezTo>
                    <a:cubicBezTo>
                      <a:pt x="285" y="45"/>
                      <a:pt x="285" y="50"/>
                      <a:pt x="284" y="55"/>
                    </a:cubicBezTo>
                    <a:cubicBezTo>
                      <a:pt x="283" y="54"/>
                      <a:pt x="282" y="53"/>
                      <a:pt x="280" y="52"/>
                    </a:cubicBezTo>
                    <a:cubicBezTo>
                      <a:pt x="282" y="53"/>
                      <a:pt x="283" y="54"/>
                      <a:pt x="284" y="55"/>
                    </a:cubicBezTo>
                    <a:cubicBezTo>
                      <a:pt x="284" y="64"/>
                      <a:pt x="283" y="73"/>
                      <a:pt x="281" y="83"/>
                    </a:cubicBezTo>
                    <a:cubicBezTo>
                      <a:pt x="281" y="82"/>
                      <a:pt x="281" y="81"/>
                      <a:pt x="281" y="81"/>
                    </a:cubicBezTo>
                    <a:cubicBezTo>
                      <a:pt x="281" y="82"/>
                      <a:pt x="281" y="82"/>
                      <a:pt x="281" y="83"/>
                    </a:cubicBezTo>
                    <a:cubicBezTo>
                      <a:pt x="281" y="88"/>
                      <a:pt x="280" y="92"/>
                      <a:pt x="279" y="97"/>
                    </a:cubicBezTo>
                    <a:cubicBezTo>
                      <a:pt x="278" y="89"/>
                      <a:pt x="275" y="81"/>
                      <a:pt x="272" y="73"/>
                    </a:cubicBezTo>
                    <a:cubicBezTo>
                      <a:pt x="272" y="72"/>
                      <a:pt x="272" y="71"/>
                      <a:pt x="272" y="71"/>
                    </a:cubicBezTo>
                    <a:cubicBezTo>
                      <a:pt x="273" y="70"/>
                      <a:pt x="274" y="69"/>
                      <a:pt x="275" y="68"/>
                    </a:cubicBezTo>
                    <a:cubicBezTo>
                      <a:pt x="277" y="72"/>
                      <a:pt x="279" y="76"/>
                      <a:pt x="281" y="81"/>
                    </a:cubicBezTo>
                    <a:cubicBezTo>
                      <a:pt x="279" y="76"/>
                      <a:pt x="278" y="72"/>
                      <a:pt x="275" y="67"/>
                    </a:cubicBezTo>
                    <a:cubicBezTo>
                      <a:pt x="276" y="67"/>
                      <a:pt x="277" y="66"/>
                      <a:pt x="277" y="65"/>
                    </a:cubicBezTo>
                    <a:cubicBezTo>
                      <a:pt x="277" y="66"/>
                      <a:pt x="276" y="66"/>
                      <a:pt x="275" y="67"/>
                    </a:cubicBezTo>
                    <a:cubicBezTo>
                      <a:pt x="269" y="54"/>
                      <a:pt x="259" y="41"/>
                      <a:pt x="247" y="25"/>
                    </a:cubicBezTo>
                    <a:cubicBezTo>
                      <a:pt x="259" y="42"/>
                      <a:pt x="268" y="55"/>
                      <a:pt x="275" y="68"/>
                    </a:cubicBezTo>
                    <a:cubicBezTo>
                      <a:pt x="274" y="68"/>
                      <a:pt x="273" y="69"/>
                      <a:pt x="272" y="70"/>
                    </a:cubicBezTo>
                    <a:cubicBezTo>
                      <a:pt x="272" y="68"/>
                      <a:pt x="272" y="66"/>
                      <a:pt x="272" y="66"/>
                    </a:cubicBezTo>
                    <a:cubicBezTo>
                      <a:pt x="272" y="68"/>
                      <a:pt x="272" y="69"/>
                      <a:pt x="271" y="71"/>
                    </a:cubicBezTo>
                    <a:cubicBezTo>
                      <a:pt x="271" y="71"/>
                      <a:pt x="271" y="71"/>
                      <a:pt x="271" y="71"/>
                    </a:cubicBezTo>
                    <a:cubicBezTo>
                      <a:pt x="267" y="61"/>
                      <a:pt x="260" y="52"/>
                      <a:pt x="251" y="42"/>
                    </a:cubicBezTo>
                    <a:cubicBezTo>
                      <a:pt x="258" y="55"/>
                      <a:pt x="263" y="65"/>
                      <a:pt x="267" y="75"/>
                    </a:cubicBezTo>
                    <a:cubicBezTo>
                      <a:pt x="266" y="76"/>
                      <a:pt x="265" y="77"/>
                      <a:pt x="264" y="77"/>
                    </a:cubicBezTo>
                    <a:cubicBezTo>
                      <a:pt x="262" y="73"/>
                      <a:pt x="260" y="70"/>
                      <a:pt x="258" y="68"/>
                    </a:cubicBezTo>
                    <a:cubicBezTo>
                      <a:pt x="258" y="63"/>
                      <a:pt x="257" y="60"/>
                      <a:pt x="257" y="60"/>
                    </a:cubicBezTo>
                    <a:cubicBezTo>
                      <a:pt x="257" y="62"/>
                      <a:pt x="257" y="64"/>
                      <a:pt x="257" y="67"/>
                    </a:cubicBezTo>
                    <a:cubicBezTo>
                      <a:pt x="251" y="57"/>
                      <a:pt x="243" y="47"/>
                      <a:pt x="232" y="38"/>
                    </a:cubicBezTo>
                    <a:cubicBezTo>
                      <a:pt x="243" y="49"/>
                      <a:pt x="251" y="60"/>
                      <a:pt x="257" y="71"/>
                    </a:cubicBezTo>
                    <a:cubicBezTo>
                      <a:pt x="256" y="75"/>
                      <a:pt x="256" y="80"/>
                      <a:pt x="256" y="85"/>
                    </a:cubicBezTo>
                    <a:cubicBezTo>
                      <a:pt x="255" y="84"/>
                      <a:pt x="255" y="84"/>
                      <a:pt x="254" y="83"/>
                    </a:cubicBezTo>
                    <a:cubicBezTo>
                      <a:pt x="255" y="84"/>
                      <a:pt x="255" y="85"/>
                      <a:pt x="256" y="86"/>
                    </a:cubicBezTo>
                    <a:cubicBezTo>
                      <a:pt x="255" y="87"/>
                      <a:pt x="255" y="88"/>
                      <a:pt x="255" y="89"/>
                    </a:cubicBezTo>
                    <a:cubicBezTo>
                      <a:pt x="253" y="92"/>
                      <a:pt x="252" y="94"/>
                      <a:pt x="250" y="97"/>
                    </a:cubicBezTo>
                    <a:cubicBezTo>
                      <a:pt x="250" y="93"/>
                      <a:pt x="250" y="90"/>
                      <a:pt x="250" y="87"/>
                    </a:cubicBezTo>
                    <a:cubicBezTo>
                      <a:pt x="251" y="84"/>
                      <a:pt x="252" y="82"/>
                      <a:pt x="253" y="80"/>
                    </a:cubicBezTo>
                    <a:cubicBezTo>
                      <a:pt x="253" y="81"/>
                      <a:pt x="254" y="82"/>
                      <a:pt x="254" y="83"/>
                    </a:cubicBezTo>
                    <a:cubicBezTo>
                      <a:pt x="254" y="81"/>
                      <a:pt x="253" y="80"/>
                      <a:pt x="253" y="79"/>
                    </a:cubicBezTo>
                    <a:cubicBezTo>
                      <a:pt x="253" y="79"/>
                      <a:pt x="253" y="78"/>
                      <a:pt x="254" y="77"/>
                    </a:cubicBezTo>
                    <a:cubicBezTo>
                      <a:pt x="253" y="77"/>
                      <a:pt x="253" y="78"/>
                      <a:pt x="252" y="79"/>
                    </a:cubicBezTo>
                    <a:cubicBezTo>
                      <a:pt x="251" y="77"/>
                      <a:pt x="251" y="76"/>
                      <a:pt x="250" y="75"/>
                    </a:cubicBezTo>
                    <a:cubicBezTo>
                      <a:pt x="251" y="77"/>
                      <a:pt x="251" y="78"/>
                      <a:pt x="252" y="79"/>
                    </a:cubicBezTo>
                    <a:cubicBezTo>
                      <a:pt x="251" y="80"/>
                      <a:pt x="251" y="81"/>
                      <a:pt x="250" y="82"/>
                    </a:cubicBezTo>
                    <a:cubicBezTo>
                      <a:pt x="250" y="73"/>
                      <a:pt x="250" y="68"/>
                      <a:pt x="250" y="68"/>
                    </a:cubicBezTo>
                    <a:cubicBezTo>
                      <a:pt x="250" y="72"/>
                      <a:pt x="249" y="78"/>
                      <a:pt x="248" y="85"/>
                    </a:cubicBezTo>
                    <a:cubicBezTo>
                      <a:pt x="246" y="90"/>
                      <a:pt x="244" y="94"/>
                      <a:pt x="242" y="99"/>
                    </a:cubicBezTo>
                    <a:cubicBezTo>
                      <a:pt x="242" y="98"/>
                      <a:pt x="241" y="97"/>
                      <a:pt x="241" y="96"/>
                    </a:cubicBezTo>
                    <a:cubicBezTo>
                      <a:pt x="242" y="92"/>
                      <a:pt x="242" y="89"/>
                      <a:pt x="242" y="89"/>
                    </a:cubicBezTo>
                    <a:cubicBezTo>
                      <a:pt x="242" y="91"/>
                      <a:pt x="241" y="92"/>
                      <a:pt x="241" y="94"/>
                    </a:cubicBezTo>
                    <a:cubicBezTo>
                      <a:pt x="240" y="91"/>
                      <a:pt x="239" y="88"/>
                      <a:pt x="239" y="85"/>
                    </a:cubicBezTo>
                    <a:cubicBezTo>
                      <a:pt x="238" y="88"/>
                      <a:pt x="238" y="91"/>
                      <a:pt x="238" y="94"/>
                    </a:cubicBezTo>
                    <a:cubicBezTo>
                      <a:pt x="238" y="97"/>
                      <a:pt x="238" y="100"/>
                      <a:pt x="238" y="103"/>
                    </a:cubicBezTo>
                    <a:cubicBezTo>
                      <a:pt x="237" y="107"/>
                      <a:pt x="236" y="112"/>
                      <a:pt x="234" y="116"/>
                    </a:cubicBezTo>
                    <a:cubicBezTo>
                      <a:pt x="233" y="112"/>
                      <a:pt x="231" y="108"/>
                      <a:pt x="230" y="104"/>
                    </a:cubicBezTo>
                    <a:cubicBezTo>
                      <a:pt x="231" y="109"/>
                      <a:pt x="232" y="115"/>
                      <a:pt x="233" y="120"/>
                    </a:cubicBezTo>
                    <a:cubicBezTo>
                      <a:pt x="231" y="124"/>
                      <a:pt x="230" y="127"/>
                      <a:pt x="228" y="130"/>
                    </a:cubicBezTo>
                    <a:cubicBezTo>
                      <a:pt x="227" y="128"/>
                      <a:pt x="227" y="126"/>
                      <a:pt x="226" y="123"/>
                    </a:cubicBezTo>
                    <a:cubicBezTo>
                      <a:pt x="227" y="115"/>
                      <a:pt x="229" y="106"/>
                      <a:pt x="231" y="99"/>
                    </a:cubicBezTo>
                    <a:cubicBezTo>
                      <a:pt x="232" y="98"/>
                      <a:pt x="232" y="97"/>
                      <a:pt x="232" y="96"/>
                    </a:cubicBezTo>
                    <a:cubicBezTo>
                      <a:pt x="232" y="96"/>
                      <a:pt x="232" y="97"/>
                      <a:pt x="232" y="97"/>
                    </a:cubicBezTo>
                    <a:cubicBezTo>
                      <a:pt x="234" y="86"/>
                      <a:pt x="237" y="76"/>
                      <a:pt x="237" y="76"/>
                    </a:cubicBezTo>
                    <a:cubicBezTo>
                      <a:pt x="232" y="83"/>
                      <a:pt x="227" y="96"/>
                      <a:pt x="222" y="109"/>
                    </a:cubicBezTo>
                    <a:cubicBezTo>
                      <a:pt x="222" y="107"/>
                      <a:pt x="222" y="106"/>
                      <a:pt x="221" y="104"/>
                    </a:cubicBezTo>
                    <a:cubicBezTo>
                      <a:pt x="223" y="97"/>
                      <a:pt x="226" y="90"/>
                      <a:pt x="229" y="84"/>
                    </a:cubicBezTo>
                    <a:cubicBezTo>
                      <a:pt x="226" y="90"/>
                      <a:pt x="223" y="96"/>
                      <a:pt x="221" y="102"/>
                    </a:cubicBezTo>
                    <a:cubicBezTo>
                      <a:pt x="221" y="102"/>
                      <a:pt x="220" y="101"/>
                      <a:pt x="220" y="101"/>
                    </a:cubicBezTo>
                    <a:cubicBezTo>
                      <a:pt x="222" y="77"/>
                      <a:pt x="218" y="62"/>
                      <a:pt x="218" y="62"/>
                    </a:cubicBezTo>
                    <a:cubicBezTo>
                      <a:pt x="219" y="69"/>
                      <a:pt x="219" y="80"/>
                      <a:pt x="218" y="91"/>
                    </a:cubicBezTo>
                    <a:cubicBezTo>
                      <a:pt x="217" y="89"/>
                      <a:pt x="217" y="88"/>
                      <a:pt x="216" y="87"/>
                    </a:cubicBezTo>
                    <a:cubicBezTo>
                      <a:pt x="216" y="88"/>
                      <a:pt x="216" y="88"/>
                      <a:pt x="216" y="88"/>
                    </a:cubicBezTo>
                    <a:cubicBezTo>
                      <a:pt x="216" y="90"/>
                      <a:pt x="217" y="93"/>
                      <a:pt x="217" y="96"/>
                    </a:cubicBezTo>
                    <a:cubicBezTo>
                      <a:pt x="216" y="101"/>
                      <a:pt x="216" y="105"/>
                      <a:pt x="215" y="110"/>
                    </a:cubicBezTo>
                    <a:cubicBezTo>
                      <a:pt x="214" y="109"/>
                      <a:pt x="214" y="107"/>
                      <a:pt x="213" y="106"/>
                    </a:cubicBezTo>
                    <a:cubicBezTo>
                      <a:pt x="214" y="103"/>
                      <a:pt x="214" y="99"/>
                      <a:pt x="215" y="96"/>
                    </a:cubicBezTo>
                    <a:cubicBezTo>
                      <a:pt x="214" y="98"/>
                      <a:pt x="213" y="100"/>
                      <a:pt x="212" y="103"/>
                    </a:cubicBezTo>
                    <a:cubicBezTo>
                      <a:pt x="211" y="101"/>
                      <a:pt x="210" y="99"/>
                      <a:pt x="210" y="98"/>
                    </a:cubicBezTo>
                    <a:cubicBezTo>
                      <a:pt x="210" y="89"/>
                      <a:pt x="211" y="82"/>
                      <a:pt x="211" y="82"/>
                    </a:cubicBezTo>
                    <a:cubicBezTo>
                      <a:pt x="209" y="97"/>
                      <a:pt x="209" y="97"/>
                      <a:pt x="209" y="97"/>
                    </a:cubicBezTo>
                    <a:cubicBezTo>
                      <a:pt x="208" y="94"/>
                      <a:pt x="207" y="92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89"/>
                      <a:pt x="206" y="89"/>
                      <a:pt x="205" y="88"/>
                    </a:cubicBezTo>
                    <a:cubicBezTo>
                      <a:pt x="205" y="83"/>
                      <a:pt x="205" y="78"/>
                      <a:pt x="205" y="73"/>
                    </a:cubicBezTo>
                    <a:cubicBezTo>
                      <a:pt x="208" y="70"/>
                      <a:pt x="211" y="66"/>
                      <a:pt x="214" y="63"/>
                    </a:cubicBezTo>
                    <a:cubicBezTo>
                      <a:pt x="211" y="66"/>
                      <a:pt x="208" y="69"/>
                      <a:pt x="205" y="71"/>
                    </a:cubicBezTo>
                    <a:cubicBezTo>
                      <a:pt x="205" y="65"/>
                      <a:pt x="205" y="60"/>
                      <a:pt x="205" y="60"/>
                    </a:cubicBezTo>
                    <a:cubicBezTo>
                      <a:pt x="205" y="64"/>
                      <a:pt x="204" y="68"/>
                      <a:pt x="204" y="72"/>
                    </a:cubicBezTo>
                    <a:cubicBezTo>
                      <a:pt x="203" y="74"/>
                      <a:pt x="201" y="75"/>
                      <a:pt x="200" y="77"/>
                    </a:cubicBezTo>
                    <a:cubicBezTo>
                      <a:pt x="200" y="70"/>
                      <a:pt x="200" y="64"/>
                      <a:pt x="200" y="64"/>
                    </a:cubicBezTo>
                    <a:cubicBezTo>
                      <a:pt x="200" y="66"/>
                      <a:pt x="199" y="71"/>
                      <a:pt x="198" y="78"/>
                    </a:cubicBezTo>
                    <a:cubicBezTo>
                      <a:pt x="196" y="81"/>
                      <a:pt x="193" y="85"/>
                      <a:pt x="191" y="88"/>
                    </a:cubicBezTo>
                    <a:cubicBezTo>
                      <a:pt x="191" y="64"/>
                      <a:pt x="191" y="42"/>
                      <a:pt x="191" y="42"/>
                    </a:cubicBezTo>
                    <a:cubicBezTo>
                      <a:pt x="191" y="55"/>
                      <a:pt x="188" y="77"/>
                      <a:pt x="186" y="96"/>
                    </a:cubicBezTo>
                    <a:cubicBezTo>
                      <a:pt x="184" y="100"/>
                      <a:pt x="182" y="104"/>
                      <a:pt x="181" y="107"/>
                    </a:cubicBezTo>
                    <a:cubicBezTo>
                      <a:pt x="181" y="107"/>
                      <a:pt x="180" y="106"/>
                      <a:pt x="180" y="106"/>
                    </a:cubicBezTo>
                    <a:cubicBezTo>
                      <a:pt x="182" y="87"/>
                      <a:pt x="184" y="70"/>
                      <a:pt x="184" y="70"/>
                    </a:cubicBezTo>
                    <a:cubicBezTo>
                      <a:pt x="182" y="74"/>
                      <a:pt x="179" y="98"/>
                      <a:pt x="177" y="118"/>
                    </a:cubicBezTo>
                    <a:cubicBezTo>
                      <a:pt x="177" y="118"/>
                      <a:pt x="177" y="119"/>
                      <a:pt x="177" y="120"/>
                    </a:cubicBezTo>
                    <a:cubicBezTo>
                      <a:pt x="177" y="119"/>
                      <a:pt x="177" y="119"/>
                      <a:pt x="177" y="118"/>
                    </a:cubicBezTo>
                    <a:cubicBezTo>
                      <a:pt x="177" y="119"/>
                      <a:pt x="177" y="119"/>
                      <a:pt x="177" y="120"/>
                    </a:cubicBezTo>
                    <a:cubicBezTo>
                      <a:pt x="177" y="121"/>
                      <a:pt x="176" y="121"/>
                      <a:pt x="176" y="122"/>
                    </a:cubicBezTo>
                    <a:cubicBezTo>
                      <a:pt x="176" y="115"/>
                      <a:pt x="176" y="108"/>
                      <a:pt x="176" y="101"/>
                    </a:cubicBezTo>
                    <a:cubicBezTo>
                      <a:pt x="176" y="101"/>
                      <a:pt x="176" y="100"/>
                      <a:pt x="176" y="100"/>
                    </a:cubicBezTo>
                    <a:cubicBezTo>
                      <a:pt x="176" y="100"/>
                      <a:pt x="176" y="101"/>
                      <a:pt x="176" y="101"/>
                    </a:cubicBezTo>
                    <a:cubicBezTo>
                      <a:pt x="176" y="98"/>
                      <a:pt x="176" y="94"/>
                      <a:pt x="176" y="91"/>
                    </a:cubicBezTo>
                    <a:cubicBezTo>
                      <a:pt x="177" y="88"/>
                      <a:pt x="179" y="85"/>
                      <a:pt x="181" y="83"/>
                    </a:cubicBezTo>
                    <a:cubicBezTo>
                      <a:pt x="179" y="85"/>
                      <a:pt x="177" y="87"/>
                      <a:pt x="176" y="90"/>
                    </a:cubicBezTo>
                    <a:cubicBezTo>
                      <a:pt x="175" y="79"/>
                      <a:pt x="174" y="69"/>
                      <a:pt x="174" y="61"/>
                    </a:cubicBezTo>
                    <a:cubicBezTo>
                      <a:pt x="174" y="73"/>
                      <a:pt x="172" y="87"/>
                      <a:pt x="169" y="100"/>
                    </a:cubicBezTo>
                    <a:cubicBezTo>
                      <a:pt x="165" y="107"/>
                      <a:pt x="162" y="115"/>
                      <a:pt x="160" y="123"/>
                    </a:cubicBezTo>
                    <a:cubicBezTo>
                      <a:pt x="161" y="109"/>
                      <a:pt x="162" y="92"/>
                      <a:pt x="163" y="80"/>
                    </a:cubicBezTo>
                    <a:cubicBezTo>
                      <a:pt x="165" y="73"/>
                      <a:pt x="167" y="67"/>
                      <a:pt x="167" y="61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57" y="75"/>
                      <a:pt x="153" y="88"/>
                      <a:pt x="151" y="102"/>
                    </a:cubicBezTo>
                    <a:cubicBezTo>
                      <a:pt x="151" y="102"/>
                      <a:pt x="151" y="101"/>
                      <a:pt x="151" y="101"/>
                    </a:cubicBezTo>
                    <a:cubicBezTo>
                      <a:pt x="152" y="68"/>
                      <a:pt x="155" y="30"/>
                      <a:pt x="155" y="30"/>
                    </a:cubicBezTo>
                    <a:cubicBezTo>
                      <a:pt x="153" y="38"/>
                      <a:pt x="150" y="60"/>
                      <a:pt x="148" y="83"/>
                    </a:cubicBezTo>
                    <a:cubicBezTo>
                      <a:pt x="145" y="87"/>
                      <a:pt x="143" y="92"/>
                      <a:pt x="140" y="97"/>
                    </a:cubicBezTo>
                    <a:cubicBezTo>
                      <a:pt x="140" y="91"/>
                      <a:pt x="139" y="85"/>
                      <a:pt x="139" y="79"/>
                    </a:cubicBezTo>
                    <a:cubicBezTo>
                      <a:pt x="139" y="78"/>
                      <a:pt x="139" y="78"/>
                      <a:pt x="140" y="78"/>
                    </a:cubicBezTo>
                    <a:cubicBezTo>
                      <a:pt x="139" y="78"/>
                      <a:pt x="139" y="78"/>
                      <a:pt x="139" y="78"/>
                    </a:cubicBezTo>
                    <a:cubicBezTo>
                      <a:pt x="137" y="58"/>
                      <a:pt x="136" y="41"/>
                      <a:pt x="136" y="41"/>
                    </a:cubicBezTo>
                    <a:cubicBezTo>
                      <a:pt x="137" y="52"/>
                      <a:pt x="137" y="67"/>
                      <a:pt x="136" y="82"/>
                    </a:cubicBezTo>
                    <a:cubicBezTo>
                      <a:pt x="134" y="84"/>
                      <a:pt x="132" y="87"/>
                      <a:pt x="130" y="92"/>
                    </a:cubicBezTo>
                    <a:cubicBezTo>
                      <a:pt x="130" y="82"/>
                      <a:pt x="130" y="72"/>
                      <a:pt x="130" y="68"/>
                    </a:cubicBezTo>
                    <a:cubicBezTo>
                      <a:pt x="129" y="77"/>
                      <a:pt x="128" y="88"/>
                      <a:pt x="126" y="99"/>
                    </a:cubicBezTo>
                    <a:cubicBezTo>
                      <a:pt x="125" y="94"/>
                      <a:pt x="123" y="89"/>
                      <a:pt x="121" y="84"/>
                    </a:cubicBezTo>
                    <a:cubicBezTo>
                      <a:pt x="123" y="90"/>
                      <a:pt x="125" y="96"/>
                      <a:pt x="126" y="101"/>
                    </a:cubicBezTo>
                    <a:cubicBezTo>
                      <a:pt x="125" y="105"/>
                      <a:pt x="124" y="109"/>
                      <a:pt x="123" y="113"/>
                    </a:cubicBezTo>
                    <a:cubicBezTo>
                      <a:pt x="123" y="110"/>
                      <a:pt x="123" y="108"/>
                      <a:pt x="123" y="105"/>
                    </a:cubicBezTo>
                    <a:cubicBezTo>
                      <a:pt x="122" y="108"/>
                      <a:pt x="122" y="115"/>
                      <a:pt x="122" y="119"/>
                    </a:cubicBezTo>
                    <a:cubicBezTo>
                      <a:pt x="122" y="120"/>
                      <a:pt x="121" y="122"/>
                      <a:pt x="121" y="124"/>
                    </a:cubicBezTo>
                    <a:cubicBezTo>
                      <a:pt x="120" y="125"/>
                      <a:pt x="120" y="127"/>
                      <a:pt x="120" y="128"/>
                    </a:cubicBezTo>
                    <a:cubicBezTo>
                      <a:pt x="119" y="124"/>
                      <a:pt x="118" y="120"/>
                      <a:pt x="117" y="116"/>
                    </a:cubicBezTo>
                    <a:cubicBezTo>
                      <a:pt x="118" y="108"/>
                      <a:pt x="119" y="100"/>
                      <a:pt x="119" y="94"/>
                    </a:cubicBezTo>
                    <a:cubicBezTo>
                      <a:pt x="120" y="92"/>
                      <a:pt x="120" y="91"/>
                      <a:pt x="121" y="89"/>
                    </a:cubicBezTo>
                    <a:cubicBezTo>
                      <a:pt x="121" y="90"/>
                      <a:pt x="120" y="91"/>
                      <a:pt x="119" y="92"/>
                    </a:cubicBezTo>
                    <a:cubicBezTo>
                      <a:pt x="120" y="87"/>
                      <a:pt x="120" y="83"/>
                      <a:pt x="120" y="83"/>
                    </a:cubicBezTo>
                    <a:cubicBezTo>
                      <a:pt x="120" y="85"/>
                      <a:pt x="119" y="89"/>
                      <a:pt x="118" y="93"/>
                    </a:cubicBezTo>
                    <a:cubicBezTo>
                      <a:pt x="117" y="96"/>
                      <a:pt x="115" y="99"/>
                      <a:pt x="114" y="102"/>
                    </a:cubicBezTo>
                    <a:cubicBezTo>
                      <a:pt x="113" y="101"/>
                      <a:pt x="113" y="100"/>
                      <a:pt x="113" y="99"/>
                    </a:cubicBezTo>
                    <a:cubicBezTo>
                      <a:pt x="115" y="80"/>
                      <a:pt x="117" y="62"/>
                      <a:pt x="117" y="62"/>
                    </a:cubicBezTo>
                    <a:cubicBezTo>
                      <a:pt x="115" y="66"/>
                      <a:pt x="113" y="80"/>
                      <a:pt x="111" y="95"/>
                    </a:cubicBezTo>
                    <a:cubicBezTo>
                      <a:pt x="111" y="94"/>
                      <a:pt x="110" y="92"/>
                      <a:pt x="109" y="90"/>
                    </a:cubicBezTo>
                    <a:cubicBezTo>
                      <a:pt x="110" y="92"/>
                      <a:pt x="111" y="94"/>
                      <a:pt x="111" y="96"/>
                    </a:cubicBezTo>
                    <a:cubicBezTo>
                      <a:pt x="111" y="101"/>
                      <a:pt x="110" y="106"/>
                      <a:pt x="110" y="110"/>
                    </a:cubicBezTo>
                    <a:cubicBezTo>
                      <a:pt x="109" y="113"/>
                      <a:pt x="108" y="116"/>
                      <a:pt x="107" y="118"/>
                    </a:cubicBezTo>
                    <a:cubicBezTo>
                      <a:pt x="106" y="94"/>
                      <a:pt x="101" y="64"/>
                      <a:pt x="101" y="64"/>
                    </a:cubicBezTo>
                    <a:cubicBezTo>
                      <a:pt x="101" y="64"/>
                      <a:pt x="101" y="73"/>
                      <a:pt x="101" y="82"/>
                    </a:cubicBezTo>
                    <a:cubicBezTo>
                      <a:pt x="102" y="88"/>
                      <a:pt x="101" y="98"/>
                      <a:pt x="99" y="108"/>
                    </a:cubicBezTo>
                    <a:cubicBezTo>
                      <a:pt x="98" y="111"/>
                      <a:pt x="97" y="114"/>
                      <a:pt x="96" y="117"/>
                    </a:cubicBezTo>
                    <a:cubicBezTo>
                      <a:pt x="96" y="108"/>
                      <a:pt x="95" y="99"/>
                      <a:pt x="93" y="90"/>
                    </a:cubicBezTo>
                    <a:cubicBezTo>
                      <a:pt x="97" y="78"/>
                      <a:pt x="101" y="66"/>
                      <a:pt x="100" y="56"/>
                    </a:cubicBezTo>
                    <a:cubicBezTo>
                      <a:pt x="97" y="62"/>
                      <a:pt x="95" y="67"/>
                      <a:pt x="92" y="72"/>
                    </a:cubicBezTo>
                    <a:cubicBezTo>
                      <a:pt x="95" y="34"/>
                      <a:pt x="88" y="19"/>
                      <a:pt x="88" y="19"/>
                    </a:cubicBezTo>
                    <a:cubicBezTo>
                      <a:pt x="88" y="19"/>
                      <a:pt x="92" y="31"/>
                      <a:pt x="90" y="54"/>
                    </a:cubicBezTo>
                    <a:cubicBezTo>
                      <a:pt x="89" y="61"/>
                      <a:pt x="88" y="74"/>
                      <a:pt x="87" y="88"/>
                    </a:cubicBezTo>
                    <a:cubicBezTo>
                      <a:pt x="85" y="92"/>
                      <a:pt x="85" y="97"/>
                      <a:pt x="84" y="101"/>
                    </a:cubicBezTo>
                    <a:cubicBezTo>
                      <a:pt x="83" y="98"/>
                      <a:pt x="82" y="95"/>
                      <a:pt x="81" y="91"/>
                    </a:cubicBezTo>
                    <a:cubicBezTo>
                      <a:pt x="81" y="89"/>
                      <a:pt x="81" y="87"/>
                      <a:pt x="82" y="85"/>
                    </a:cubicBezTo>
                    <a:cubicBezTo>
                      <a:pt x="81" y="87"/>
                      <a:pt x="81" y="88"/>
                      <a:pt x="80" y="90"/>
                    </a:cubicBezTo>
                    <a:cubicBezTo>
                      <a:pt x="80" y="89"/>
                      <a:pt x="79" y="88"/>
                      <a:pt x="79" y="87"/>
                    </a:cubicBezTo>
                    <a:cubicBezTo>
                      <a:pt x="79" y="83"/>
                      <a:pt x="79" y="78"/>
                      <a:pt x="79" y="74"/>
                    </a:cubicBezTo>
                    <a:cubicBezTo>
                      <a:pt x="79" y="46"/>
                      <a:pt x="69" y="40"/>
                      <a:pt x="69" y="40"/>
                    </a:cubicBezTo>
                    <a:cubicBezTo>
                      <a:pt x="69" y="40"/>
                      <a:pt x="75" y="44"/>
                      <a:pt x="75" y="70"/>
                    </a:cubicBezTo>
                    <a:cubicBezTo>
                      <a:pt x="75" y="84"/>
                      <a:pt x="70" y="108"/>
                      <a:pt x="65" y="125"/>
                    </a:cubicBezTo>
                    <a:cubicBezTo>
                      <a:pt x="65" y="123"/>
                      <a:pt x="65" y="120"/>
                      <a:pt x="64" y="118"/>
                    </a:cubicBezTo>
                    <a:cubicBezTo>
                      <a:pt x="65" y="111"/>
                      <a:pt x="66" y="105"/>
                      <a:pt x="66" y="98"/>
                    </a:cubicBezTo>
                    <a:cubicBezTo>
                      <a:pt x="65" y="101"/>
                      <a:pt x="64" y="104"/>
                      <a:pt x="64" y="107"/>
                    </a:cubicBezTo>
                    <a:cubicBezTo>
                      <a:pt x="64" y="107"/>
                      <a:pt x="64" y="106"/>
                      <a:pt x="64" y="106"/>
                    </a:cubicBezTo>
                    <a:cubicBezTo>
                      <a:pt x="64" y="97"/>
                      <a:pt x="65" y="83"/>
                      <a:pt x="72" y="75"/>
                    </a:cubicBezTo>
                    <a:cubicBezTo>
                      <a:pt x="68" y="77"/>
                      <a:pt x="65" y="82"/>
                      <a:pt x="63" y="87"/>
                    </a:cubicBezTo>
                    <a:cubicBezTo>
                      <a:pt x="64" y="78"/>
                      <a:pt x="64" y="71"/>
                      <a:pt x="64" y="71"/>
                    </a:cubicBezTo>
                    <a:cubicBezTo>
                      <a:pt x="64" y="75"/>
                      <a:pt x="60" y="97"/>
                      <a:pt x="56" y="116"/>
                    </a:cubicBezTo>
                    <a:cubicBezTo>
                      <a:pt x="56" y="114"/>
                      <a:pt x="56" y="112"/>
                      <a:pt x="55" y="110"/>
                    </a:cubicBezTo>
                    <a:cubicBezTo>
                      <a:pt x="56" y="99"/>
                      <a:pt x="57" y="87"/>
                      <a:pt x="58" y="78"/>
                    </a:cubicBezTo>
                    <a:cubicBezTo>
                      <a:pt x="60" y="71"/>
                      <a:pt x="62" y="63"/>
                      <a:pt x="65" y="55"/>
                    </a:cubicBezTo>
                    <a:cubicBezTo>
                      <a:pt x="65" y="54"/>
                      <a:pt x="64" y="52"/>
                      <a:pt x="64" y="51"/>
                    </a:cubicBezTo>
                    <a:cubicBezTo>
                      <a:pt x="62" y="54"/>
                      <a:pt x="61" y="57"/>
                      <a:pt x="60" y="60"/>
                    </a:cubicBezTo>
                    <a:cubicBezTo>
                      <a:pt x="60" y="60"/>
                      <a:pt x="60" y="59"/>
                      <a:pt x="60" y="59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56" y="70"/>
                      <a:pt x="53" y="80"/>
                      <a:pt x="51" y="89"/>
                    </a:cubicBezTo>
                    <a:cubicBezTo>
                      <a:pt x="56" y="30"/>
                      <a:pt x="53" y="15"/>
                      <a:pt x="52" y="13"/>
                    </a:cubicBezTo>
                    <a:cubicBezTo>
                      <a:pt x="52" y="15"/>
                      <a:pt x="53" y="22"/>
                      <a:pt x="49" y="56"/>
                    </a:cubicBezTo>
                    <a:cubicBezTo>
                      <a:pt x="47" y="68"/>
                      <a:pt x="46" y="80"/>
                      <a:pt x="44" y="91"/>
                    </a:cubicBezTo>
                    <a:cubicBezTo>
                      <a:pt x="43" y="85"/>
                      <a:pt x="41" y="79"/>
                      <a:pt x="39" y="74"/>
                    </a:cubicBezTo>
                    <a:cubicBezTo>
                      <a:pt x="40" y="51"/>
                      <a:pt x="41" y="31"/>
                      <a:pt x="41" y="31"/>
                    </a:cubicBezTo>
                    <a:cubicBezTo>
                      <a:pt x="39" y="38"/>
                      <a:pt x="38" y="53"/>
                      <a:pt x="36" y="69"/>
                    </a:cubicBezTo>
                    <a:cubicBezTo>
                      <a:pt x="35" y="68"/>
                      <a:pt x="34" y="67"/>
                      <a:pt x="33" y="65"/>
                    </a:cubicBezTo>
                    <a:cubicBezTo>
                      <a:pt x="34" y="67"/>
                      <a:pt x="35" y="69"/>
                      <a:pt x="36" y="71"/>
                    </a:cubicBezTo>
                    <a:cubicBezTo>
                      <a:pt x="36" y="71"/>
                      <a:pt x="36" y="72"/>
                      <a:pt x="36" y="73"/>
                    </a:cubicBezTo>
                    <a:cubicBezTo>
                      <a:pt x="33" y="77"/>
                      <a:pt x="31" y="81"/>
                      <a:pt x="28" y="86"/>
                    </a:cubicBezTo>
                    <a:cubicBezTo>
                      <a:pt x="28" y="85"/>
                      <a:pt x="27" y="84"/>
                      <a:pt x="26" y="83"/>
                    </a:cubicBezTo>
                    <a:cubicBezTo>
                      <a:pt x="24" y="61"/>
                      <a:pt x="21" y="38"/>
                      <a:pt x="18" y="28"/>
                    </a:cubicBezTo>
                    <a:cubicBezTo>
                      <a:pt x="18" y="28"/>
                      <a:pt x="22" y="54"/>
                      <a:pt x="26" y="83"/>
                    </a:cubicBezTo>
                    <a:cubicBezTo>
                      <a:pt x="25" y="82"/>
                      <a:pt x="24" y="81"/>
                      <a:pt x="22" y="80"/>
                    </a:cubicBezTo>
                    <a:cubicBezTo>
                      <a:pt x="24" y="81"/>
                      <a:pt x="25" y="82"/>
                      <a:pt x="26" y="84"/>
                    </a:cubicBezTo>
                    <a:cubicBezTo>
                      <a:pt x="26" y="85"/>
                      <a:pt x="26" y="86"/>
                      <a:pt x="26" y="88"/>
                    </a:cubicBezTo>
                    <a:cubicBezTo>
                      <a:pt x="26" y="86"/>
                      <a:pt x="26" y="85"/>
                      <a:pt x="26" y="84"/>
                    </a:cubicBezTo>
                    <a:cubicBezTo>
                      <a:pt x="27" y="85"/>
                      <a:pt x="27" y="86"/>
                      <a:pt x="28" y="87"/>
                    </a:cubicBezTo>
                    <a:cubicBezTo>
                      <a:pt x="27" y="88"/>
                      <a:pt x="27" y="89"/>
                      <a:pt x="26" y="90"/>
                    </a:cubicBezTo>
                    <a:cubicBezTo>
                      <a:pt x="26" y="89"/>
                      <a:pt x="26" y="88"/>
                      <a:pt x="26" y="88"/>
                    </a:cubicBezTo>
                    <a:cubicBezTo>
                      <a:pt x="26" y="88"/>
                      <a:pt x="26" y="89"/>
                      <a:pt x="26" y="90"/>
                    </a:cubicBezTo>
                    <a:cubicBezTo>
                      <a:pt x="24" y="95"/>
                      <a:pt x="23" y="100"/>
                      <a:pt x="21" y="105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4"/>
                      <a:pt x="22" y="104"/>
                      <a:pt x="22" y="103"/>
                    </a:cubicBezTo>
                    <a:cubicBezTo>
                      <a:pt x="22" y="104"/>
                      <a:pt x="21" y="104"/>
                      <a:pt x="21" y="105"/>
                    </a:cubicBezTo>
                    <a:cubicBezTo>
                      <a:pt x="19" y="95"/>
                      <a:pt x="16" y="87"/>
                      <a:pt x="14" y="81"/>
                    </a:cubicBezTo>
                    <a:cubicBezTo>
                      <a:pt x="15" y="85"/>
                      <a:pt x="16" y="90"/>
                      <a:pt x="17" y="95"/>
                    </a:cubicBezTo>
                    <a:cubicBezTo>
                      <a:pt x="17" y="100"/>
                      <a:pt x="16" y="104"/>
                      <a:pt x="15" y="109"/>
                    </a:cubicBezTo>
                    <a:cubicBezTo>
                      <a:pt x="17" y="104"/>
                      <a:pt x="17" y="100"/>
                      <a:pt x="17" y="95"/>
                    </a:cubicBezTo>
                    <a:cubicBezTo>
                      <a:pt x="18" y="100"/>
                      <a:pt x="19" y="105"/>
                      <a:pt x="20" y="110"/>
                    </a:cubicBezTo>
                    <a:cubicBezTo>
                      <a:pt x="20" y="110"/>
                      <a:pt x="20" y="111"/>
                      <a:pt x="20" y="111"/>
                    </a:cubicBezTo>
                    <a:cubicBezTo>
                      <a:pt x="19" y="116"/>
                      <a:pt x="17" y="122"/>
                      <a:pt x="15" y="127"/>
                    </a:cubicBezTo>
                    <a:cubicBezTo>
                      <a:pt x="14" y="125"/>
                      <a:pt x="14" y="123"/>
                      <a:pt x="13" y="120"/>
                    </a:cubicBezTo>
                    <a:cubicBezTo>
                      <a:pt x="14" y="117"/>
                      <a:pt x="15" y="113"/>
                      <a:pt x="15" y="109"/>
                    </a:cubicBezTo>
                    <a:cubicBezTo>
                      <a:pt x="15" y="112"/>
                      <a:pt x="14" y="116"/>
                      <a:pt x="13" y="119"/>
                    </a:cubicBezTo>
                    <a:cubicBezTo>
                      <a:pt x="11" y="111"/>
                      <a:pt x="10" y="103"/>
                      <a:pt x="10" y="95"/>
                    </a:cubicBezTo>
                    <a:cubicBezTo>
                      <a:pt x="9" y="96"/>
                      <a:pt x="9" y="96"/>
                      <a:pt x="9" y="96"/>
                    </a:cubicBezTo>
                    <a:cubicBezTo>
                      <a:pt x="9" y="98"/>
                      <a:pt x="9" y="98"/>
                      <a:pt x="9" y="98"/>
                    </a:cubicBezTo>
                    <a:cubicBezTo>
                      <a:pt x="9" y="97"/>
                      <a:pt x="9" y="96"/>
                      <a:pt x="9" y="95"/>
                    </a:cubicBezTo>
                    <a:cubicBezTo>
                      <a:pt x="9" y="84"/>
                      <a:pt x="7" y="69"/>
                      <a:pt x="1" y="60"/>
                    </a:cubicBezTo>
                    <a:cubicBezTo>
                      <a:pt x="6" y="70"/>
                      <a:pt x="7" y="82"/>
                      <a:pt x="7" y="93"/>
                    </a:cubicBezTo>
                    <a:cubicBezTo>
                      <a:pt x="7" y="101"/>
                      <a:pt x="5" y="109"/>
                      <a:pt x="3" y="116"/>
                    </a:cubicBezTo>
                    <a:cubicBezTo>
                      <a:pt x="1" y="115"/>
                      <a:pt x="1" y="117"/>
                      <a:pt x="2" y="120"/>
                    </a:cubicBezTo>
                    <a:cubicBezTo>
                      <a:pt x="2" y="121"/>
                      <a:pt x="2" y="121"/>
                      <a:pt x="1" y="122"/>
                    </a:cubicBezTo>
                    <a:cubicBezTo>
                      <a:pt x="1" y="121"/>
                      <a:pt x="1" y="120"/>
                      <a:pt x="0" y="119"/>
                    </a:cubicBezTo>
                    <a:cubicBezTo>
                      <a:pt x="0" y="166"/>
                      <a:pt x="0" y="166"/>
                      <a:pt x="0" y="166"/>
                    </a:cubicBezTo>
                    <a:cubicBezTo>
                      <a:pt x="90" y="166"/>
                      <a:pt x="179" y="166"/>
                      <a:pt x="269" y="166"/>
                    </a:cubicBezTo>
                    <a:cubicBezTo>
                      <a:pt x="269" y="166"/>
                      <a:pt x="269" y="166"/>
                      <a:pt x="269" y="166"/>
                    </a:cubicBezTo>
                    <a:cubicBezTo>
                      <a:pt x="306" y="166"/>
                      <a:pt x="342" y="166"/>
                      <a:pt x="379" y="166"/>
                    </a:cubicBezTo>
                    <a:cubicBezTo>
                      <a:pt x="416" y="166"/>
                      <a:pt x="453" y="166"/>
                      <a:pt x="490" y="166"/>
                    </a:cubicBezTo>
                    <a:cubicBezTo>
                      <a:pt x="490" y="166"/>
                      <a:pt x="490" y="166"/>
                      <a:pt x="490" y="166"/>
                    </a:cubicBezTo>
                    <a:cubicBezTo>
                      <a:pt x="746" y="166"/>
                      <a:pt x="1002" y="166"/>
                      <a:pt x="1258" y="166"/>
                    </a:cubicBezTo>
                    <a:cubicBezTo>
                      <a:pt x="1258" y="166"/>
                      <a:pt x="1258" y="166"/>
                      <a:pt x="1258" y="166"/>
                    </a:cubicBezTo>
                    <a:cubicBezTo>
                      <a:pt x="1430" y="166"/>
                      <a:pt x="1602" y="166"/>
                      <a:pt x="1773" y="166"/>
                    </a:cubicBezTo>
                    <a:cubicBezTo>
                      <a:pt x="1871" y="166"/>
                      <a:pt x="1969" y="166"/>
                      <a:pt x="2066" y="166"/>
                    </a:cubicBezTo>
                    <a:cubicBezTo>
                      <a:pt x="2066" y="166"/>
                      <a:pt x="2066" y="166"/>
                      <a:pt x="2066" y="166"/>
                    </a:cubicBezTo>
                    <a:cubicBezTo>
                      <a:pt x="2103" y="166"/>
                      <a:pt x="2140" y="166"/>
                      <a:pt x="2177" y="166"/>
                    </a:cubicBezTo>
                    <a:cubicBezTo>
                      <a:pt x="2214" y="166"/>
                      <a:pt x="2251" y="166"/>
                      <a:pt x="2288" y="166"/>
                    </a:cubicBezTo>
                    <a:cubicBezTo>
                      <a:pt x="2288" y="166"/>
                      <a:pt x="2288" y="166"/>
                      <a:pt x="2288" y="166"/>
                    </a:cubicBezTo>
                    <a:cubicBezTo>
                      <a:pt x="2544" y="166"/>
                      <a:pt x="2800" y="166"/>
                      <a:pt x="3056" y="166"/>
                    </a:cubicBezTo>
                    <a:cubicBezTo>
                      <a:pt x="3056" y="166"/>
                      <a:pt x="3056" y="166"/>
                      <a:pt x="3056" y="166"/>
                    </a:cubicBezTo>
                    <a:cubicBezTo>
                      <a:pt x="3228" y="166"/>
                      <a:pt x="3400" y="166"/>
                      <a:pt x="3571" y="166"/>
                    </a:cubicBezTo>
                    <a:cubicBezTo>
                      <a:pt x="3669" y="166"/>
                      <a:pt x="3767" y="166"/>
                      <a:pt x="3864" y="166"/>
                    </a:cubicBezTo>
                    <a:cubicBezTo>
                      <a:pt x="3864" y="166"/>
                      <a:pt x="3864" y="166"/>
                      <a:pt x="3864" y="166"/>
                    </a:cubicBezTo>
                    <a:cubicBezTo>
                      <a:pt x="3901" y="166"/>
                      <a:pt x="3938" y="166"/>
                      <a:pt x="3975" y="166"/>
                    </a:cubicBezTo>
                    <a:cubicBezTo>
                      <a:pt x="4012" y="166"/>
                      <a:pt x="4049" y="166"/>
                      <a:pt x="4086" y="166"/>
                    </a:cubicBezTo>
                    <a:cubicBezTo>
                      <a:pt x="4086" y="166"/>
                      <a:pt x="4086" y="166"/>
                      <a:pt x="4086" y="166"/>
                    </a:cubicBezTo>
                    <a:cubicBezTo>
                      <a:pt x="4312" y="166"/>
                      <a:pt x="4537" y="166"/>
                      <a:pt x="4763" y="166"/>
                    </a:cubicBezTo>
                    <a:cubicBezTo>
                      <a:pt x="4763" y="137"/>
                      <a:pt x="4763" y="137"/>
                      <a:pt x="4763" y="137"/>
                    </a:cubicBezTo>
                    <a:cubicBezTo>
                      <a:pt x="4760" y="119"/>
                      <a:pt x="4755" y="101"/>
                      <a:pt x="4748" y="85"/>
                    </a:cubicBezTo>
                    <a:close/>
                    <a:moveTo>
                      <a:pt x="1" y="154"/>
                    </a:moveTo>
                    <a:cubicBezTo>
                      <a:pt x="1" y="154"/>
                      <a:pt x="1" y="154"/>
                      <a:pt x="1" y="154"/>
                    </a:cubicBezTo>
                    <a:cubicBezTo>
                      <a:pt x="1" y="152"/>
                      <a:pt x="2" y="151"/>
                      <a:pt x="2" y="150"/>
                    </a:cubicBezTo>
                    <a:cubicBezTo>
                      <a:pt x="2" y="150"/>
                      <a:pt x="2" y="151"/>
                      <a:pt x="2" y="151"/>
                    </a:cubicBezTo>
                    <a:cubicBezTo>
                      <a:pt x="2" y="152"/>
                      <a:pt x="1" y="153"/>
                      <a:pt x="1" y="154"/>
                    </a:cubicBezTo>
                    <a:close/>
                    <a:moveTo>
                      <a:pt x="7" y="119"/>
                    </a:move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19"/>
                    </a:cubicBezTo>
                    <a:close/>
                    <a:moveTo>
                      <a:pt x="6" y="138"/>
                    </a:moveTo>
                    <a:cubicBezTo>
                      <a:pt x="6" y="137"/>
                      <a:pt x="5" y="135"/>
                      <a:pt x="5" y="134"/>
                    </a:cubicBezTo>
                    <a:cubicBezTo>
                      <a:pt x="5" y="134"/>
                      <a:pt x="5" y="134"/>
                      <a:pt x="5" y="133"/>
                    </a:cubicBezTo>
                    <a:cubicBezTo>
                      <a:pt x="5" y="134"/>
                      <a:pt x="6" y="135"/>
                      <a:pt x="6" y="137"/>
                    </a:cubicBezTo>
                    <a:cubicBezTo>
                      <a:pt x="6" y="137"/>
                      <a:pt x="6" y="138"/>
                      <a:pt x="6" y="138"/>
                    </a:cubicBezTo>
                    <a:close/>
                    <a:moveTo>
                      <a:pt x="5" y="133"/>
                    </a:moveTo>
                    <a:cubicBezTo>
                      <a:pt x="5" y="132"/>
                      <a:pt x="5" y="131"/>
                      <a:pt x="6" y="130"/>
                    </a:cubicBezTo>
                    <a:cubicBezTo>
                      <a:pt x="6" y="131"/>
                      <a:pt x="7" y="133"/>
                      <a:pt x="7" y="134"/>
                    </a:cubicBezTo>
                    <a:cubicBezTo>
                      <a:pt x="7" y="135"/>
                      <a:pt x="7" y="135"/>
                      <a:pt x="7" y="136"/>
                    </a:cubicBezTo>
                    <a:cubicBezTo>
                      <a:pt x="6" y="134"/>
                      <a:pt x="5" y="133"/>
                      <a:pt x="5" y="133"/>
                    </a:cubicBezTo>
                    <a:close/>
                    <a:moveTo>
                      <a:pt x="8" y="145"/>
                    </a:moveTo>
                    <a:cubicBezTo>
                      <a:pt x="8" y="144"/>
                      <a:pt x="7" y="143"/>
                      <a:pt x="7" y="143"/>
                    </a:cubicBezTo>
                    <a:cubicBezTo>
                      <a:pt x="8" y="142"/>
                      <a:pt x="8" y="141"/>
                      <a:pt x="8" y="14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8" y="141"/>
                      <a:pt x="8" y="142"/>
                      <a:pt x="8" y="143"/>
                    </a:cubicBezTo>
                    <a:cubicBezTo>
                      <a:pt x="8" y="143"/>
                      <a:pt x="8" y="144"/>
                      <a:pt x="8" y="145"/>
                    </a:cubicBezTo>
                    <a:close/>
                    <a:moveTo>
                      <a:pt x="18" y="134"/>
                    </a:moveTo>
                    <a:cubicBezTo>
                      <a:pt x="18" y="134"/>
                      <a:pt x="18" y="133"/>
                      <a:pt x="18" y="133"/>
                    </a:cubicBezTo>
                    <a:cubicBezTo>
                      <a:pt x="18" y="132"/>
                      <a:pt x="18" y="130"/>
                      <a:pt x="18" y="129"/>
                    </a:cubicBezTo>
                    <a:cubicBezTo>
                      <a:pt x="18" y="130"/>
                      <a:pt x="18" y="132"/>
                      <a:pt x="18" y="134"/>
                    </a:cubicBezTo>
                    <a:close/>
                    <a:moveTo>
                      <a:pt x="28" y="120"/>
                    </a:moveTo>
                    <a:cubicBezTo>
                      <a:pt x="28" y="117"/>
                      <a:pt x="28" y="115"/>
                      <a:pt x="28" y="112"/>
                    </a:cubicBezTo>
                    <a:cubicBezTo>
                      <a:pt x="28" y="111"/>
                      <a:pt x="28" y="111"/>
                      <a:pt x="28" y="110"/>
                    </a:cubicBezTo>
                    <a:cubicBezTo>
                      <a:pt x="28" y="114"/>
                      <a:pt x="29" y="116"/>
                      <a:pt x="29" y="119"/>
                    </a:cubicBezTo>
                    <a:cubicBezTo>
                      <a:pt x="29" y="119"/>
                      <a:pt x="29" y="120"/>
                      <a:pt x="28" y="120"/>
                    </a:cubicBezTo>
                    <a:close/>
                    <a:moveTo>
                      <a:pt x="30" y="115"/>
                    </a:moveTo>
                    <a:cubicBezTo>
                      <a:pt x="29" y="112"/>
                      <a:pt x="29" y="108"/>
                      <a:pt x="28" y="104"/>
                    </a:cubicBezTo>
                    <a:cubicBezTo>
                      <a:pt x="29" y="101"/>
                      <a:pt x="29" y="97"/>
                      <a:pt x="30" y="93"/>
                    </a:cubicBezTo>
                    <a:cubicBezTo>
                      <a:pt x="31" y="98"/>
                      <a:pt x="32" y="102"/>
                      <a:pt x="32" y="104"/>
                    </a:cubicBezTo>
                    <a:cubicBezTo>
                      <a:pt x="32" y="108"/>
                      <a:pt x="31" y="111"/>
                      <a:pt x="30" y="115"/>
                    </a:cubicBezTo>
                    <a:close/>
                    <a:moveTo>
                      <a:pt x="35" y="102"/>
                    </a:moveTo>
                    <a:cubicBezTo>
                      <a:pt x="35" y="102"/>
                      <a:pt x="35" y="102"/>
                      <a:pt x="35" y="103"/>
                    </a:cubicBezTo>
                    <a:cubicBezTo>
                      <a:pt x="34" y="99"/>
                      <a:pt x="33" y="94"/>
                      <a:pt x="31" y="90"/>
                    </a:cubicBezTo>
                    <a:cubicBezTo>
                      <a:pt x="32" y="84"/>
                      <a:pt x="34" y="78"/>
                      <a:pt x="36" y="73"/>
                    </a:cubicBezTo>
                    <a:cubicBezTo>
                      <a:pt x="36" y="83"/>
                      <a:pt x="35" y="93"/>
                      <a:pt x="35" y="102"/>
                    </a:cubicBezTo>
                    <a:close/>
                    <a:moveTo>
                      <a:pt x="41" y="111"/>
                    </a:moveTo>
                    <a:cubicBezTo>
                      <a:pt x="41" y="111"/>
                      <a:pt x="41" y="111"/>
                      <a:pt x="41" y="111"/>
                    </a:cubicBezTo>
                    <a:cubicBezTo>
                      <a:pt x="41" y="114"/>
                      <a:pt x="40" y="116"/>
                      <a:pt x="40" y="119"/>
                    </a:cubicBezTo>
                    <a:cubicBezTo>
                      <a:pt x="39" y="114"/>
                      <a:pt x="39" y="108"/>
                      <a:pt x="39" y="103"/>
                    </a:cubicBezTo>
                    <a:cubicBezTo>
                      <a:pt x="39" y="97"/>
                      <a:pt x="39" y="91"/>
                      <a:pt x="41" y="85"/>
                    </a:cubicBezTo>
                    <a:cubicBezTo>
                      <a:pt x="40" y="87"/>
                      <a:pt x="39" y="89"/>
                      <a:pt x="38" y="92"/>
                    </a:cubicBezTo>
                    <a:cubicBezTo>
                      <a:pt x="38" y="87"/>
                      <a:pt x="39" y="82"/>
                      <a:pt x="39" y="77"/>
                    </a:cubicBezTo>
                    <a:cubicBezTo>
                      <a:pt x="41" y="83"/>
                      <a:pt x="43" y="90"/>
                      <a:pt x="43" y="96"/>
                    </a:cubicBezTo>
                    <a:cubicBezTo>
                      <a:pt x="43" y="101"/>
                      <a:pt x="42" y="106"/>
                      <a:pt x="41" y="111"/>
                    </a:cubicBezTo>
                    <a:close/>
                    <a:moveTo>
                      <a:pt x="48" y="127"/>
                    </a:moveTo>
                    <a:cubicBezTo>
                      <a:pt x="47" y="132"/>
                      <a:pt x="46" y="134"/>
                      <a:pt x="46" y="134"/>
                    </a:cubicBezTo>
                    <a:cubicBezTo>
                      <a:pt x="47" y="129"/>
                      <a:pt x="47" y="125"/>
                      <a:pt x="48" y="120"/>
                    </a:cubicBezTo>
                    <a:cubicBezTo>
                      <a:pt x="48" y="123"/>
                      <a:pt x="48" y="125"/>
                      <a:pt x="48" y="127"/>
                    </a:cubicBezTo>
                    <a:close/>
                    <a:moveTo>
                      <a:pt x="79" y="92"/>
                    </a:moveTo>
                    <a:cubicBezTo>
                      <a:pt x="79" y="91"/>
                      <a:pt x="79" y="90"/>
                      <a:pt x="79" y="89"/>
                    </a:cubicBezTo>
                    <a:cubicBezTo>
                      <a:pt x="79" y="89"/>
                      <a:pt x="79" y="90"/>
                      <a:pt x="80" y="91"/>
                    </a:cubicBezTo>
                    <a:cubicBezTo>
                      <a:pt x="79" y="91"/>
                      <a:pt x="79" y="92"/>
                      <a:pt x="79" y="92"/>
                    </a:cubicBezTo>
                    <a:close/>
                    <a:moveTo>
                      <a:pt x="82" y="130"/>
                    </a:moveTo>
                    <a:cubicBezTo>
                      <a:pt x="81" y="132"/>
                      <a:pt x="81" y="134"/>
                      <a:pt x="81" y="136"/>
                    </a:cubicBezTo>
                    <a:cubicBezTo>
                      <a:pt x="80" y="127"/>
                      <a:pt x="80" y="119"/>
                      <a:pt x="80" y="110"/>
                    </a:cubicBezTo>
                    <a:cubicBezTo>
                      <a:pt x="80" y="105"/>
                      <a:pt x="80" y="99"/>
                      <a:pt x="80" y="93"/>
                    </a:cubicBezTo>
                    <a:cubicBezTo>
                      <a:pt x="82" y="99"/>
                      <a:pt x="82" y="104"/>
                      <a:pt x="83" y="109"/>
                    </a:cubicBezTo>
                    <a:cubicBezTo>
                      <a:pt x="82" y="116"/>
                      <a:pt x="82" y="123"/>
                      <a:pt x="82" y="130"/>
                    </a:cubicBezTo>
                    <a:close/>
                    <a:moveTo>
                      <a:pt x="91" y="140"/>
                    </a:moveTo>
                    <a:cubicBezTo>
                      <a:pt x="91" y="140"/>
                      <a:pt x="91" y="139"/>
                      <a:pt x="91" y="139"/>
                    </a:cubicBezTo>
                    <a:cubicBezTo>
                      <a:pt x="92" y="100"/>
                      <a:pt x="92" y="100"/>
                      <a:pt x="92" y="100"/>
                    </a:cubicBezTo>
                    <a:cubicBezTo>
                      <a:pt x="92" y="106"/>
                      <a:pt x="93" y="113"/>
                      <a:pt x="93" y="119"/>
                    </a:cubicBezTo>
                    <a:cubicBezTo>
                      <a:pt x="93" y="122"/>
                      <a:pt x="93" y="126"/>
                      <a:pt x="93" y="129"/>
                    </a:cubicBezTo>
                    <a:cubicBezTo>
                      <a:pt x="92" y="133"/>
                      <a:pt x="92" y="136"/>
                      <a:pt x="91" y="140"/>
                    </a:cubicBezTo>
                    <a:close/>
                    <a:moveTo>
                      <a:pt x="112" y="105"/>
                    </a:moveTo>
                    <a:cubicBezTo>
                      <a:pt x="112" y="104"/>
                      <a:pt x="112" y="102"/>
                      <a:pt x="112" y="101"/>
                    </a:cubicBezTo>
                    <a:cubicBezTo>
                      <a:pt x="113" y="102"/>
                      <a:pt x="113" y="103"/>
                      <a:pt x="113" y="103"/>
                    </a:cubicBezTo>
                    <a:cubicBezTo>
                      <a:pt x="113" y="104"/>
                      <a:pt x="112" y="105"/>
                      <a:pt x="112" y="105"/>
                    </a:cubicBezTo>
                    <a:close/>
                    <a:moveTo>
                      <a:pt x="135" y="101"/>
                    </a:moveTo>
                    <a:cubicBezTo>
                      <a:pt x="135" y="101"/>
                      <a:pt x="135" y="101"/>
                      <a:pt x="134" y="100"/>
                    </a:cubicBezTo>
                    <a:cubicBezTo>
                      <a:pt x="135" y="101"/>
                      <a:pt x="135" y="101"/>
                      <a:pt x="135" y="101"/>
                    </a:cubicBezTo>
                    <a:cubicBezTo>
                      <a:pt x="134" y="111"/>
                      <a:pt x="133" y="119"/>
                      <a:pt x="132" y="126"/>
                    </a:cubicBezTo>
                    <a:cubicBezTo>
                      <a:pt x="131" y="122"/>
                      <a:pt x="131" y="118"/>
                      <a:pt x="130" y="114"/>
                    </a:cubicBezTo>
                    <a:cubicBezTo>
                      <a:pt x="130" y="109"/>
                      <a:pt x="130" y="103"/>
                      <a:pt x="130" y="98"/>
                    </a:cubicBezTo>
                    <a:cubicBezTo>
                      <a:pt x="131" y="92"/>
                      <a:pt x="133" y="87"/>
                      <a:pt x="136" y="82"/>
                    </a:cubicBezTo>
                    <a:cubicBezTo>
                      <a:pt x="136" y="89"/>
                      <a:pt x="135" y="95"/>
                      <a:pt x="135" y="101"/>
                    </a:cubicBezTo>
                    <a:close/>
                    <a:moveTo>
                      <a:pt x="145" y="117"/>
                    </a:moveTo>
                    <a:cubicBezTo>
                      <a:pt x="144" y="114"/>
                      <a:pt x="144" y="110"/>
                      <a:pt x="144" y="106"/>
                    </a:cubicBezTo>
                    <a:cubicBezTo>
                      <a:pt x="144" y="99"/>
                      <a:pt x="144" y="90"/>
                      <a:pt x="148" y="83"/>
                    </a:cubicBezTo>
                    <a:cubicBezTo>
                      <a:pt x="146" y="95"/>
                      <a:pt x="145" y="107"/>
                      <a:pt x="145" y="117"/>
                    </a:cubicBezTo>
                    <a:close/>
                    <a:moveTo>
                      <a:pt x="150" y="108"/>
                    </a:moveTo>
                    <a:cubicBezTo>
                      <a:pt x="150" y="106"/>
                      <a:pt x="151" y="104"/>
                      <a:pt x="151" y="102"/>
                    </a:cubicBezTo>
                    <a:cubicBezTo>
                      <a:pt x="151" y="102"/>
                      <a:pt x="151" y="102"/>
                      <a:pt x="151" y="103"/>
                    </a:cubicBezTo>
                    <a:cubicBezTo>
                      <a:pt x="151" y="104"/>
                      <a:pt x="151" y="106"/>
                      <a:pt x="150" y="108"/>
                    </a:cubicBezTo>
                    <a:close/>
                    <a:moveTo>
                      <a:pt x="156" y="111"/>
                    </a:moveTo>
                    <a:cubicBezTo>
                      <a:pt x="156" y="103"/>
                      <a:pt x="159" y="95"/>
                      <a:pt x="161" y="87"/>
                    </a:cubicBezTo>
                    <a:cubicBezTo>
                      <a:pt x="160" y="95"/>
                      <a:pt x="158" y="104"/>
                      <a:pt x="157" y="113"/>
                    </a:cubicBezTo>
                    <a:cubicBezTo>
                      <a:pt x="156" y="112"/>
                      <a:pt x="156" y="112"/>
                      <a:pt x="156" y="111"/>
                    </a:cubicBezTo>
                    <a:close/>
                    <a:moveTo>
                      <a:pt x="180" y="110"/>
                    </a:moveTo>
                    <a:cubicBezTo>
                      <a:pt x="180" y="109"/>
                      <a:pt x="180" y="108"/>
                      <a:pt x="180" y="107"/>
                    </a:cubicBezTo>
                    <a:cubicBezTo>
                      <a:pt x="180" y="107"/>
                      <a:pt x="180" y="108"/>
                      <a:pt x="180" y="108"/>
                    </a:cubicBezTo>
                    <a:cubicBezTo>
                      <a:pt x="180" y="109"/>
                      <a:pt x="180" y="109"/>
                      <a:pt x="180" y="110"/>
                    </a:cubicBezTo>
                    <a:close/>
                    <a:moveTo>
                      <a:pt x="191" y="125"/>
                    </a:moveTo>
                    <a:cubicBezTo>
                      <a:pt x="191" y="123"/>
                      <a:pt x="191" y="122"/>
                      <a:pt x="191" y="120"/>
                    </a:cubicBezTo>
                    <a:cubicBezTo>
                      <a:pt x="191" y="121"/>
                      <a:pt x="191" y="122"/>
                      <a:pt x="191" y="123"/>
                    </a:cubicBezTo>
                    <a:cubicBezTo>
                      <a:pt x="191" y="123"/>
                      <a:pt x="191" y="124"/>
                      <a:pt x="191" y="125"/>
                    </a:cubicBezTo>
                    <a:close/>
                    <a:moveTo>
                      <a:pt x="194" y="115"/>
                    </a:moveTo>
                    <a:cubicBezTo>
                      <a:pt x="194" y="117"/>
                      <a:pt x="193" y="118"/>
                      <a:pt x="193" y="119"/>
                    </a:cubicBezTo>
                    <a:cubicBezTo>
                      <a:pt x="192" y="118"/>
                      <a:pt x="191" y="116"/>
                      <a:pt x="191" y="114"/>
                    </a:cubicBezTo>
                    <a:cubicBezTo>
                      <a:pt x="191" y="110"/>
                      <a:pt x="191" y="105"/>
                      <a:pt x="191" y="100"/>
                    </a:cubicBezTo>
                    <a:cubicBezTo>
                      <a:pt x="193" y="94"/>
                      <a:pt x="195" y="89"/>
                      <a:pt x="198" y="84"/>
                    </a:cubicBezTo>
                    <a:cubicBezTo>
                      <a:pt x="197" y="93"/>
                      <a:pt x="195" y="105"/>
                      <a:pt x="194" y="115"/>
                    </a:cubicBezTo>
                    <a:close/>
                    <a:moveTo>
                      <a:pt x="202" y="90"/>
                    </a:moveTo>
                    <a:cubicBezTo>
                      <a:pt x="201" y="88"/>
                      <a:pt x="200" y="84"/>
                      <a:pt x="200" y="80"/>
                    </a:cubicBezTo>
                    <a:cubicBezTo>
                      <a:pt x="200" y="80"/>
                      <a:pt x="200" y="80"/>
                      <a:pt x="200" y="80"/>
                    </a:cubicBezTo>
                    <a:cubicBezTo>
                      <a:pt x="201" y="81"/>
                      <a:pt x="202" y="83"/>
                      <a:pt x="203" y="84"/>
                    </a:cubicBezTo>
                    <a:cubicBezTo>
                      <a:pt x="202" y="88"/>
                      <a:pt x="202" y="90"/>
                      <a:pt x="202" y="90"/>
                    </a:cubicBezTo>
                    <a:close/>
                    <a:moveTo>
                      <a:pt x="203" y="83"/>
                    </a:moveTo>
                    <a:cubicBezTo>
                      <a:pt x="202" y="81"/>
                      <a:pt x="201" y="80"/>
                      <a:pt x="201" y="79"/>
                    </a:cubicBezTo>
                    <a:cubicBezTo>
                      <a:pt x="202" y="78"/>
                      <a:pt x="203" y="76"/>
                      <a:pt x="204" y="75"/>
                    </a:cubicBezTo>
                    <a:cubicBezTo>
                      <a:pt x="203" y="78"/>
                      <a:pt x="203" y="81"/>
                      <a:pt x="203" y="83"/>
                    </a:cubicBezTo>
                    <a:close/>
                    <a:moveTo>
                      <a:pt x="209" y="104"/>
                    </a:moveTo>
                    <a:cubicBezTo>
                      <a:pt x="210" y="105"/>
                      <a:pt x="210" y="107"/>
                      <a:pt x="210" y="109"/>
                    </a:cubicBezTo>
                    <a:cubicBezTo>
                      <a:pt x="210" y="111"/>
                      <a:pt x="209" y="112"/>
                      <a:pt x="209" y="114"/>
                    </a:cubicBezTo>
                    <a:cubicBezTo>
                      <a:pt x="209" y="110"/>
                      <a:pt x="209" y="107"/>
                      <a:pt x="209" y="104"/>
                    </a:cubicBezTo>
                    <a:close/>
                    <a:moveTo>
                      <a:pt x="205" y="91"/>
                    </a:moveTo>
                    <a:cubicBezTo>
                      <a:pt x="206" y="91"/>
                      <a:pt x="206" y="91"/>
                      <a:pt x="206" y="91"/>
                    </a:cubicBezTo>
                    <a:cubicBezTo>
                      <a:pt x="206" y="91"/>
                      <a:pt x="206" y="91"/>
                      <a:pt x="205" y="91"/>
                    </a:cubicBezTo>
                    <a:close/>
                    <a:moveTo>
                      <a:pt x="206" y="124"/>
                    </a:moveTo>
                    <a:cubicBezTo>
                      <a:pt x="206" y="114"/>
                      <a:pt x="206" y="102"/>
                      <a:pt x="205" y="91"/>
                    </a:cubicBezTo>
                    <a:cubicBezTo>
                      <a:pt x="206" y="91"/>
                      <a:pt x="206" y="91"/>
                      <a:pt x="206" y="91"/>
                    </a:cubicBezTo>
                    <a:cubicBezTo>
                      <a:pt x="207" y="94"/>
                      <a:pt x="208" y="98"/>
                      <a:pt x="209" y="101"/>
                    </a:cubicBezTo>
                    <a:cubicBezTo>
                      <a:pt x="207" y="120"/>
                      <a:pt x="207" y="120"/>
                      <a:pt x="207" y="120"/>
                    </a:cubicBezTo>
                    <a:cubicBezTo>
                      <a:pt x="206" y="121"/>
                      <a:pt x="206" y="122"/>
                      <a:pt x="206" y="124"/>
                    </a:cubicBezTo>
                    <a:close/>
                    <a:moveTo>
                      <a:pt x="208" y="136"/>
                    </a:moveTo>
                    <a:cubicBezTo>
                      <a:pt x="208" y="134"/>
                      <a:pt x="208" y="133"/>
                      <a:pt x="208" y="131"/>
                    </a:cubicBezTo>
                    <a:cubicBezTo>
                      <a:pt x="209" y="126"/>
                      <a:pt x="211" y="121"/>
                      <a:pt x="212" y="116"/>
                    </a:cubicBezTo>
                    <a:cubicBezTo>
                      <a:pt x="212" y="118"/>
                      <a:pt x="212" y="121"/>
                      <a:pt x="213" y="123"/>
                    </a:cubicBezTo>
                    <a:cubicBezTo>
                      <a:pt x="213" y="124"/>
                      <a:pt x="212" y="124"/>
                      <a:pt x="212" y="124"/>
                    </a:cubicBezTo>
                    <a:cubicBezTo>
                      <a:pt x="211" y="128"/>
                      <a:pt x="210" y="132"/>
                      <a:pt x="208" y="136"/>
                    </a:cubicBezTo>
                    <a:close/>
                    <a:moveTo>
                      <a:pt x="212" y="141"/>
                    </a:moveTo>
                    <a:cubicBezTo>
                      <a:pt x="212" y="141"/>
                      <a:pt x="213" y="141"/>
                      <a:pt x="213" y="140"/>
                    </a:cubicBezTo>
                    <a:cubicBezTo>
                      <a:pt x="213" y="139"/>
                      <a:pt x="213" y="137"/>
                      <a:pt x="214" y="135"/>
                    </a:cubicBezTo>
                    <a:cubicBezTo>
                      <a:pt x="214" y="135"/>
                      <a:pt x="214" y="135"/>
                      <a:pt x="214" y="135"/>
                    </a:cubicBezTo>
                    <a:cubicBezTo>
                      <a:pt x="214" y="137"/>
                      <a:pt x="213" y="139"/>
                      <a:pt x="212" y="141"/>
                    </a:cubicBezTo>
                    <a:close/>
                    <a:moveTo>
                      <a:pt x="219" y="119"/>
                    </a:moveTo>
                    <a:cubicBezTo>
                      <a:pt x="219" y="119"/>
                      <a:pt x="218" y="118"/>
                      <a:pt x="218" y="118"/>
                    </a:cubicBezTo>
                    <a:cubicBezTo>
                      <a:pt x="218" y="116"/>
                      <a:pt x="219" y="115"/>
                      <a:pt x="219" y="113"/>
                    </a:cubicBezTo>
                    <a:cubicBezTo>
                      <a:pt x="219" y="112"/>
                      <a:pt x="219" y="112"/>
                      <a:pt x="219" y="111"/>
                    </a:cubicBezTo>
                    <a:cubicBezTo>
                      <a:pt x="220" y="112"/>
                      <a:pt x="220" y="113"/>
                      <a:pt x="220" y="115"/>
                    </a:cubicBezTo>
                    <a:cubicBezTo>
                      <a:pt x="220" y="116"/>
                      <a:pt x="219" y="118"/>
                      <a:pt x="219" y="119"/>
                    </a:cubicBezTo>
                    <a:close/>
                    <a:moveTo>
                      <a:pt x="226" y="136"/>
                    </a:moveTo>
                    <a:cubicBezTo>
                      <a:pt x="225" y="135"/>
                      <a:pt x="225" y="134"/>
                      <a:pt x="224" y="133"/>
                    </a:cubicBezTo>
                    <a:cubicBezTo>
                      <a:pt x="224" y="132"/>
                      <a:pt x="224" y="132"/>
                      <a:pt x="224" y="131"/>
                    </a:cubicBezTo>
                    <a:cubicBezTo>
                      <a:pt x="225" y="133"/>
                      <a:pt x="225" y="134"/>
                      <a:pt x="226" y="136"/>
                    </a:cubicBezTo>
                    <a:cubicBezTo>
                      <a:pt x="226" y="136"/>
                      <a:pt x="226" y="136"/>
                      <a:pt x="226" y="136"/>
                    </a:cubicBezTo>
                    <a:close/>
                    <a:moveTo>
                      <a:pt x="240" y="118"/>
                    </a:moveTo>
                    <a:cubicBezTo>
                      <a:pt x="240" y="118"/>
                      <a:pt x="240" y="117"/>
                      <a:pt x="240" y="117"/>
                    </a:cubicBezTo>
                    <a:cubicBezTo>
                      <a:pt x="240" y="117"/>
                      <a:pt x="240" y="117"/>
                      <a:pt x="240" y="117"/>
                    </a:cubicBezTo>
                    <a:cubicBezTo>
                      <a:pt x="240" y="118"/>
                      <a:pt x="240" y="118"/>
                      <a:pt x="240" y="118"/>
                    </a:cubicBezTo>
                    <a:close/>
                    <a:moveTo>
                      <a:pt x="246" y="105"/>
                    </a:moveTo>
                    <a:cubicBezTo>
                      <a:pt x="245" y="106"/>
                      <a:pt x="244" y="107"/>
                      <a:pt x="244" y="109"/>
                    </a:cubicBezTo>
                    <a:cubicBezTo>
                      <a:pt x="244" y="107"/>
                      <a:pt x="243" y="106"/>
                      <a:pt x="243" y="104"/>
                    </a:cubicBezTo>
                    <a:cubicBezTo>
                      <a:pt x="244" y="101"/>
                      <a:pt x="246" y="98"/>
                      <a:pt x="247" y="94"/>
                    </a:cubicBezTo>
                    <a:cubicBezTo>
                      <a:pt x="247" y="98"/>
                      <a:pt x="246" y="101"/>
                      <a:pt x="246" y="105"/>
                    </a:cubicBezTo>
                    <a:close/>
                    <a:moveTo>
                      <a:pt x="252" y="138"/>
                    </a:moveTo>
                    <a:cubicBezTo>
                      <a:pt x="251" y="137"/>
                      <a:pt x="251" y="136"/>
                      <a:pt x="251" y="135"/>
                    </a:cubicBezTo>
                    <a:cubicBezTo>
                      <a:pt x="251" y="133"/>
                      <a:pt x="251" y="131"/>
                      <a:pt x="251" y="129"/>
                    </a:cubicBezTo>
                    <a:cubicBezTo>
                      <a:pt x="251" y="131"/>
                      <a:pt x="251" y="133"/>
                      <a:pt x="252" y="134"/>
                    </a:cubicBezTo>
                    <a:cubicBezTo>
                      <a:pt x="252" y="135"/>
                      <a:pt x="252" y="137"/>
                      <a:pt x="252" y="138"/>
                    </a:cubicBezTo>
                    <a:close/>
                    <a:moveTo>
                      <a:pt x="253" y="123"/>
                    </a:moveTo>
                    <a:cubicBezTo>
                      <a:pt x="252" y="121"/>
                      <a:pt x="251" y="118"/>
                      <a:pt x="251" y="116"/>
                    </a:cubicBezTo>
                    <a:cubicBezTo>
                      <a:pt x="252" y="112"/>
                      <a:pt x="253" y="107"/>
                      <a:pt x="254" y="103"/>
                    </a:cubicBezTo>
                    <a:cubicBezTo>
                      <a:pt x="254" y="110"/>
                      <a:pt x="253" y="117"/>
                      <a:pt x="253" y="123"/>
                    </a:cubicBezTo>
                    <a:close/>
                    <a:moveTo>
                      <a:pt x="258" y="69"/>
                    </a:moveTo>
                    <a:cubicBezTo>
                      <a:pt x="260" y="72"/>
                      <a:pt x="262" y="75"/>
                      <a:pt x="264" y="79"/>
                    </a:cubicBezTo>
                    <a:cubicBezTo>
                      <a:pt x="263" y="79"/>
                      <a:pt x="263" y="79"/>
                      <a:pt x="263" y="79"/>
                    </a:cubicBezTo>
                    <a:cubicBezTo>
                      <a:pt x="262" y="76"/>
                      <a:pt x="260" y="72"/>
                      <a:pt x="258" y="69"/>
                    </a:cubicBezTo>
                    <a:cubicBezTo>
                      <a:pt x="258" y="69"/>
                      <a:pt x="258" y="69"/>
                      <a:pt x="258" y="69"/>
                    </a:cubicBezTo>
                    <a:close/>
                    <a:moveTo>
                      <a:pt x="258" y="74"/>
                    </a:moveTo>
                    <a:cubicBezTo>
                      <a:pt x="259" y="76"/>
                      <a:pt x="260" y="79"/>
                      <a:pt x="261" y="81"/>
                    </a:cubicBezTo>
                    <a:cubicBezTo>
                      <a:pt x="260" y="82"/>
                      <a:pt x="259" y="83"/>
                      <a:pt x="259" y="85"/>
                    </a:cubicBezTo>
                    <a:cubicBezTo>
                      <a:pt x="258" y="81"/>
                      <a:pt x="258" y="77"/>
                      <a:pt x="258" y="74"/>
                    </a:cubicBezTo>
                    <a:close/>
                    <a:moveTo>
                      <a:pt x="259" y="120"/>
                    </a:moveTo>
                    <a:cubicBezTo>
                      <a:pt x="259" y="115"/>
                      <a:pt x="259" y="111"/>
                      <a:pt x="259" y="106"/>
                    </a:cubicBezTo>
                    <a:cubicBezTo>
                      <a:pt x="260" y="109"/>
                      <a:pt x="260" y="112"/>
                      <a:pt x="261" y="114"/>
                    </a:cubicBezTo>
                    <a:cubicBezTo>
                      <a:pt x="260" y="116"/>
                      <a:pt x="260" y="118"/>
                      <a:pt x="259" y="120"/>
                    </a:cubicBezTo>
                    <a:close/>
                    <a:moveTo>
                      <a:pt x="262" y="109"/>
                    </a:moveTo>
                    <a:cubicBezTo>
                      <a:pt x="261" y="107"/>
                      <a:pt x="260" y="104"/>
                      <a:pt x="259" y="102"/>
                    </a:cubicBezTo>
                    <a:cubicBezTo>
                      <a:pt x="259" y="99"/>
                      <a:pt x="259" y="97"/>
                      <a:pt x="259" y="94"/>
                    </a:cubicBezTo>
                    <a:cubicBezTo>
                      <a:pt x="260" y="98"/>
                      <a:pt x="262" y="102"/>
                      <a:pt x="263" y="107"/>
                    </a:cubicBezTo>
                    <a:cubicBezTo>
                      <a:pt x="263" y="108"/>
                      <a:pt x="262" y="108"/>
                      <a:pt x="262" y="109"/>
                    </a:cubicBezTo>
                    <a:close/>
                    <a:moveTo>
                      <a:pt x="266" y="96"/>
                    </a:moveTo>
                    <a:cubicBezTo>
                      <a:pt x="265" y="98"/>
                      <a:pt x="264" y="101"/>
                      <a:pt x="264" y="104"/>
                    </a:cubicBezTo>
                    <a:cubicBezTo>
                      <a:pt x="262" y="100"/>
                      <a:pt x="261" y="96"/>
                      <a:pt x="259" y="92"/>
                    </a:cubicBezTo>
                    <a:cubicBezTo>
                      <a:pt x="259" y="92"/>
                      <a:pt x="259" y="92"/>
                      <a:pt x="259" y="92"/>
                    </a:cubicBezTo>
                    <a:cubicBezTo>
                      <a:pt x="260" y="89"/>
                      <a:pt x="261" y="86"/>
                      <a:pt x="263" y="84"/>
                    </a:cubicBezTo>
                    <a:cubicBezTo>
                      <a:pt x="264" y="87"/>
                      <a:pt x="265" y="90"/>
                      <a:pt x="266" y="93"/>
                    </a:cubicBezTo>
                    <a:cubicBezTo>
                      <a:pt x="266" y="94"/>
                      <a:pt x="266" y="95"/>
                      <a:pt x="266" y="96"/>
                    </a:cubicBezTo>
                    <a:close/>
                    <a:moveTo>
                      <a:pt x="267" y="90"/>
                    </a:moveTo>
                    <a:cubicBezTo>
                      <a:pt x="266" y="87"/>
                      <a:pt x="265" y="84"/>
                      <a:pt x="264" y="82"/>
                    </a:cubicBezTo>
                    <a:cubicBezTo>
                      <a:pt x="264" y="81"/>
                      <a:pt x="264" y="81"/>
                      <a:pt x="265" y="81"/>
                    </a:cubicBezTo>
                    <a:cubicBezTo>
                      <a:pt x="266" y="83"/>
                      <a:pt x="267" y="86"/>
                      <a:pt x="267" y="89"/>
                    </a:cubicBezTo>
                    <a:cubicBezTo>
                      <a:pt x="267" y="89"/>
                      <a:pt x="267" y="89"/>
                      <a:pt x="267" y="90"/>
                    </a:cubicBezTo>
                    <a:close/>
                    <a:moveTo>
                      <a:pt x="265" y="79"/>
                    </a:moveTo>
                    <a:cubicBezTo>
                      <a:pt x="266" y="78"/>
                      <a:pt x="267" y="77"/>
                      <a:pt x="268" y="76"/>
                    </a:cubicBezTo>
                    <a:cubicBezTo>
                      <a:pt x="268" y="78"/>
                      <a:pt x="269" y="79"/>
                      <a:pt x="269" y="80"/>
                    </a:cubicBezTo>
                    <a:cubicBezTo>
                      <a:pt x="269" y="82"/>
                      <a:pt x="268" y="84"/>
                      <a:pt x="268" y="85"/>
                    </a:cubicBezTo>
                    <a:cubicBezTo>
                      <a:pt x="267" y="83"/>
                      <a:pt x="266" y="81"/>
                      <a:pt x="265" y="79"/>
                    </a:cubicBezTo>
                    <a:close/>
                    <a:moveTo>
                      <a:pt x="268" y="116"/>
                    </a:moveTo>
                    <a:cubicBezTo>
                      <a:pt x="269" y="111"/>
                      <a:pt x="269" y="106"/>
                      <a:pt x="269" y="102"/>
                    </a:cubicBezTo>
                    <a:cubicBezTo>
                      <a:pt x="270" y="105"/>
                      <a:pt x="271" y="108"/>
                      <a:pt x="272" y="111"/>
                    </a:cubicBezTo>
                    <a:cubicBezTo>
                      <a:pt x="271" y="113"/>
                      <a:pt x="270" y="116"/>
                      <a:pt x="269" y="118"/>
                    </a:cubicBezTo>
                    <a:cubicBezTo>
                      <a:pt x="269" y="117"/>
                      <a:pt x="268" y="117"/>
                      <a:pt x="268" y="116"/>
                    </a:cubicBezTo>
                    <a:close/>
                    <a:moveTo>
                      <a:pt x="273" y="130"/>
                    </a:moveTo>
                    <a:cubicBezTo>
                      <a:pt x="272" y="128"/>
                      <a:pt x="272" y="127"/>
                      <a:pt x="271" y="125"/>
                    </a:cubicBezTo>
                    <a:cubicBezTo>
                      <a:pt x="272" y="123"/>
                      <a:pt x="272" y="122"/>
                      <a:pt x="273" y="120"/>
                    </a:cubicBezTo>
                    <a:cubicBezTo>
                      <a:pt x="273" y="122"/>
                      <a:pt x="273" y="124"/>
                      <a:pt x="274" y="127"/>
                    </a:cubicBezTo>
                    <a:cubicBezTo>
                      <a:pt x="273" y="128"/>
                      <a:pt x="273" y="129"/>
                      <a:pt x="273" y="130"/>
                    </a:cubicBezTo>
                    <a:close/>
                    <a:moveTo>
                      <a:pt x="275" y="105"/>
                    </a:moveTo>
                    <a:cubicBezTo>
                      <a:pt x="273" y="100"/>
                      <a:pt x="272" y="95"/>
                      <a:pt x="270" y="91"/>
                    </a:cubicBezTo>
                    <a:cubicBezTo>
                      <a:pt x="270" y="89"/>
                      <a:pt x="270" y="87"/>
                      <a:pt x="271" y="85"/>
                    </a:cubicBezTo>
                    <a:cubicBezTo>
                      <a:pt x="273" y="91"/>
                      <a:pt x="274" y="97"/>
                      <a:pt x="276" y="103"/>
                    </a:cubicBezTo>
                    <a:cubicBezTo>
                      <a:pt x="275" y="104"/>
                      <a:pt x="275" y="105"/>
                      <a:pt x="275" y="105"/>
                    </a:cubicBezTo>
                    <a:close/>
                    <a:moveTo>
                      <a:pt x="277" y="111"/>
                    </a:moveTo>
                    <a:cubicBezTo>
                      <a:pt x="276" y="110"/>
                      <a:pt x="276" y="110"/>
                      <a:pt x="276" y="109"/>
                    </a:cubicBezTo>
                    <a:cubicBezTo>
                      <a:pt x="276" y="109"/>
                      <a:pt x="276" y="108"/>
                      <a:pt x="277" y="107"/>
                    </a:cubicBezTo>
                    <a:cubicBezTo>
                      <a:pt x="277" y="108"/>
                      <a:pt x="277" y="109"/>
                      <a:pt x="277" y="109"/>
                    </a:cubicBezTo>
                    <a:cubicBezTo>
                      <a:pt x="277" y="110"/>
                      <a:pt x="277" y="110"/>
                      <a:pt x="277" y="111"/>
                    </a:cubicBezTo>
                    <a:close/>
                    <a:moveTo>
                      <a:pt x="287" y="94"/>
                    </a:moveTo>
                    <a:cubicBezTo>
                      <a:pt x="287" y="95"/>
                      <a:pt x="288" y="95"/>
                      <a:pt x="288" y="96"/>
                    </a:cubicBezTo>
                    <a:cubicBezTo>
                      <a:pt x="288" y="97"/>
                      <a:pt x="287" y="97"/>
                      <a:pt x="287" y="98"/>
                    </a:cubicBezTo>
                    <a:cubicBezTo>
                      <a:pt x="287" y="96"/>
                      <a:pt x="287" y="95"/>
                      <a:pt x="287" y="94"/>
                    </a:cubicBezTo>
                    <a:close/>
                    <a:moveTo>
                      <a:pt x="289" y="109"/>
                    </a:moveTo>
                    <a:cubicBezTo>
                      <a:pt x="288" y="106"/>
                      <a:pt x="288" y="104"/>
                      <a:pt x="287" y="102"/>
                    </a:cubicBezTo>
                    <a:cubicBezTo>
                      <a:pt x="287" y="101"/>
                      <a:pt x="287" y="99"/>
                      <a:pt x="287" y="98"/>
                    </a:cubicBezTo>
                    <a:cubicBezTo>
                      <a:pt x="287" y="98"/>
                      <a:pt x="288" y="97"/>
                      <a:pt x="288" y="97"/>
                    </a:cubicBezTo>
                    <a:cubicBezTo>
                      <a:pt x="288" y="98"/>
                      <a:pt x="289" y="100"/>
                      <a:pt x="289" y="102"/>
                    </a:cubicBezTo>
                    <a:cubicBezTo>
                      <a:pt x="289" y="104"/>
                      <a:pt x="289" y="107"/>
                      <a:pt x="289" y="109"/>
                    </a:cubicBezTo>
                    <a:close/>
                    <a:moveTo>
                      <a:pt x="291" y="84"/>
                    </a:moveTo>
                    <a:cubicBezTo>
                      <a:pt x="291" y="89"/>
                      <a:pt x="290" y="94"/>
                      <a:pt x="290" y="98"/>
                    </a:cubicBezTo>
                    <a:cubicBezTo>
                      <a:pt x="289" y="97"/>
                      <a:pt x="289" y="96"/>
                      <a:pt x="288" y="95"/>
                    </a:cubicBezTo>
                    <a:cubicBezTo>
                      <a:pt x="289" y="94"/>
                      <a:pt x="290" y="92"/>
                      <a:pt x="290" y="91"/>
                    </a:cubicBezTo>
                    <a:cubicBezTo>
                      <a:pt x="290" y="92"/>
                      <a:pt x="289" y="94"/>
                      <a:pt x="288" y="95"/>
                    </a:cubicBezTo>
                    <a:cubicBezTo>
                      <a:pt x="288" y="94"/>
                      <a:pt x="287" y="93"/>
                      <a:pt x="287" y="92"/>
                    </a:cubicBezTo>
                    <a:cubicBezTo>
                      <a:pt x="287" y="90"/>
                      <a:pt x="287" y="88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75"/>
                      <a:pt x="286" y="65"/>
                      <a:pt x="286" y="56"/>
                    </a:cubicBezTo>
                    <a:cubicBezTo>
                      <a:pt x="289" y="58"/>
                      <a:pt x="292" y="61"/>
                      <a:pt x="294" y="63"/>
                    </a:cubicBezTo>
                    <a:cubicBezTo>
                      <a:pt x="293" y="69"/>
                      <a:pt x="292" y="76"/>
                      <a:pt x="291" y="84"/>
                    </a:cubicBezTo>
                    <a:cubicBezTo>
                      <a:pt x="291" y="82"/>
                      <a:pt x="290" y="81"/>
                      <a:pt x="290" y="79"/>
                    </a:cubicBezTo>
                    <a:cubicBezTo>
                      <a:pt x="290" y="81"/>
                      <a:pt x="291" y="83"/>
                      <a:pt x="291" y="84"/>
                    </a:cubicBezTo>
                    <a:close/>
                    <a:moveTo>
                      <a:pt x="293" y="139"/>
                    </a:moveTo>
                    <a:cubicBezTo>
                      <a:pt x="292" y="134"/>
                      <a:pt x="292" y="128"/>
                      <a:pt x="292" y="121"/>
                    </a:cubicBezTo>
                    <a:cubicBezTo>
                      <a:pt x="292" y="125"/>
                      <a:pt x="293" y="129"/>
                      <a:pt x="293" y="133"/>
                    </a:cubicBezTo>
                    <a:cubicBezTo>
                      <a:pt x="293" y="135"/>
                      <a:pt x="293" y="137"/>
                      <a:pt x="293" y="139"/>
                    </a:cubicBezTo>
                    <a:close/>
                    <a:moveTo>
                      <a:pt x="292" y="104"/>
                    </a:moveTo>
                    <a:cubicBezTo>
                      <a:pt x="292" y="102"/>
                      <a:pt x="293" y="99"/>
                      <a:pt x="293" y="96"/>
                    </a:cubicBezTo>
                    <a:cubicBezTo>
                      <a:pt x="293" y="100"/>
                      <a:pt x="293" y="104"/>
                      <a:pt x="293" y="107"/>
                    </a:cubicBezTo>
                    <a:cubicBezTo>
                      <a:pt x="293" y="106"/>
                      <a:pt x="293" y="105"/>
                      <a:pt x="292" y="104"/>
                    </a:cubicBezTo>
                    <a:close/>
                    <a:moveTo>
                      <a:pt x="304" y="85"/>
                    </a:moveTo>
                    <a:cubicBezTo>
                      <a:pt x="303" y="90"/>
                      <a:pt x="303" y="96"/>
                      <a:pt x="302" y="103"/>
                    </a:cubicBezTo>
                    <a:cubicBezTo>
                      <a:pt x="301" y="101"/>
                      <a:pt x="301" y="100"/>
                      <a:pt x="300" y="99"/>
                    </a:cubicBezTo>
                    <a:cubicBezTo>
                      <a:pt x="300" y="96"/>
                      <a:pt x="299" y="93"/>
                      <a:pt x="298" y="90"/>
                    </a:cubicBezTo>
                    <a:cubicBezTo>
                      <a:pt x="299" y="93"/>
                      <a:pt x="299" y="96"/>
                      <a:pt x="299" y="99"/>
                    </a:cubicBezTo>
                    <a:cubicBezTo>
                      <a:pt x="299" y="104"/>
                      <a:pt x="299" y="112"/>
                      <a:pt x="298" y="120"/>
                    </a:cubicBezTo>
                    <a:cubicBezTo>
                      <a:pt x="297" y="110"/>
                      <a:pt x="295" y="100"/>
                      <a:pt x="293" y="91"/>
                    </a:cubicBezTo>
                    <a:cubicBezTo>
                      <a:pt x="294" y="81"/>
                      <a:pt x="295" y="72"/>
                      <a:pt x="295" y="65"/>
                    </a:cubicBezTo>
                    <a:cubicBezTo>
                      <a:pt x="299" y="69"/>
                      <a:pt x="302" y="74"/>
                      <a:pt x="304" y="79"/>
                    </a:cubicBezTo>
                    <a:cubicBezTo>
                      <a:pt x="304" y="81"/>
                      <a:pt x="304" y="83"/>
                      <a:pt x="304" y="85"/>
                    </a:cubicBezTo>
                    <a:close/>
                    <a:moveTo>
                      <a:pt x="304" y="75"/>
                    </a:moveTo>
                    <a:cubicBezTo>
                      <a:pt x="304" y="75"/>
                      <a:pt x="304" y="75"/>
                      <a:pt x="304" y="75"/>
                    </a:cubicBezTo>
                    <a:cubicBezTo>
                      <a:pt x="304" y="73"/>
                      <a:pt x="304" y="72"/>
                      <a:pt x="304" y="70"/>
                    </a:cubicBezTo>
                    <a:cubicBezTo>
                      <a:pt x="304" y="70"/>
                      <a:pt x="304" y="72"/>
                      <a:pt x="304" y="75"/>
                    </a:cubicBezTo>
                    <a:cubicBezTo>
                      <a:pt x="301" y="71"/>
                      <a:pt x="299" y="67"/>
                      <a:pt x="296" y="64"/>
                    </a:cubicBezTo>
                    <a:cubicBezTo>
                      <a:pt x="296" y="60"/>
                      <a:pt x="296" y="57"/>
                      <a:pt x="297" y="54"/>
                    </a:cubicBezTo>
                    <a:cubicBezTo>
                      <a:pt x="300" y="58"/>
                      <a:pt x="303" y="62"/>
                      <a:pt x="305" y="65"/>
                    </a:cubicBezTo>
                    <a:cubicBezTo>
                      <a:pt x="305" y="68"/>
                      <a:pt x="305" y="71"/>
                      <a:pt x="304" y="75"/>
                    </a:cubicBezTo>
                    <a:close/>
                    <a:moveTo>
                      <a:pt x="308" y="117"/>
                    </a:moveTo>
                    <a:cubicBezTo>
                      <a:pt x="307" y="119"/>
                      <a:pt x="307" y="122"/>
                      <a:pt x="306" y="125"/>
                    </a:cubicBezTo>
                    <a:cubicBezTo>
                      <a:pt x="306" y="124"/>
                      <a:pt x="306" y="123"/>
                      <a:pt x="306" y="122"/>
                    </a:cubicBezTo>
                    <a:cubicBezTo>
                      <a:pt x="306" y="110"/>
                      <a:pt x="307" y="98"/>
                      <a:pt x="307" y="87"/>
                    </a:cubicBezTo>
                    <a:cubicBezTo>
                      <a:pt x="308" y="92"/>
                      <a:pt x="309" y="98"/>
                      <a:pt x="310" y="103"/>
                    </a:cubicBezTo>
                    <a:cubicBezTo>
                      <a:pt x="309" y="108"/>
                      <a:pt x="309" y="112"/>
                      <a:pt x="308" y="117"/>
                    </a:cubicBezTo>
                    <a:close/>
                    <a:moveTo>
                      <a:pt x="311" y="89"/>
                    </a:moveTo>
                    <a:cubicBezTo>
                      <a:pt x="310" y="86"/>
                      <a:pt x="309" y="83"/>
                      <a:pt x="307" y="80"/>
                    </a:cubicBezTo>
                    <a:cubicBezTo>
                      <a:pt x="307" y="76"/>
                      <a:pt x="307" y="72"/>
                      <a:pt x="307" y="68"/>
                    </a:cubicBezTo>
                    <a:cubicBezTo>
                      <a:pt x="309" y="71"/>
                      <a:pt x="311" y="74"/>
                      <a:pt x="313" y="78"/>
                    </a:cubicBezTo>
                    <a:cubicBezTo>
                      <a:pt x="312" y="81"/>
                      <a:pt x="312" y="85"/>
                      <a:pt x="311" y="89"/>
                    </a:cubicBezTo>
                    <a:close/>
                    <a:moveTo>
                      <a:pt x="317" y="96"/>
                    </a:moveTo>
                    <a:cubicBezTo>
                      <a:pt x="316" y="97"/>
                      <a:pt x="315" y="98"/>
                      <a:pt x="315" y="99"/>
                    </a:cubicBezTo>
                    <a:cubicBezTo>
                      <a:pt x="314" y="98"/>
                      <a:pt x="314" y="97"/>
                      <a:pt x="314" y="96"/>
                    </a:cubicBezTo>
                    <a:cubicBezTo>
                      <a:pt x="314" y="91"/>
                      <a:pt x="314" y="86"/>
                      <a:pt x="314" y="80"/>
                    </a:cubicBezTo>
                    <a:cubicBezTo>
                      <a:pt x="315" y="83"/>
                      <a:pt x="317" y="86"/>
                      <a:pt x="317" y="88"/>
                    </a:cubicBezTo>
                    <a:cubicBezTo>
                      <a:pt x="317" y="91"/>
                      <a:pt x="317" y="93"/>
                      <a:pt x="317" y="96"/>
                    </a:cubicBezTo>
                    <a:close/>
                    <a:moveTo>
                      <a:pt x="338" y="105"/>
                    </a:moveTo>
                    <a:cubicBezTo>
                      <a:pt x="338" y="103"/>
                      <a:pt x="337" y="102"/>
                      <a:pt x="336" y="101"/>
                    </a:cubicBezTo>
                    <a:cubicBezTo>
                      <a:pt x="338" y="96"/>
                      <a:pt x="339" y="92"/>
                      <a:pt x="341" y="89"/>
                    </a:cubicBezTo>
                    <a:cubicBezTo>
                      <a:pt x="341" y="89"/>
                      <a:pt x="341" y="89"/>
                      <a:pt x="341" y="90"/>
                    </a:cubicBezTo>
                    <a:cubicBezTo>
                      <a:pt x="340" y="95"/>
                      <a:pt x="339" y="100"/>
                      <a:pt x="338" y="105"/>
                    </a:cubicBezTo>
                    <a:close/>
                    <a:moveTo>
                      <a:pt x="354" y="81"/>
                    </a:moveTo>
                    <a:cubicBezTo>
                      <a:pt x="355" y="81"/>
                      <a:pt x="355" y="81"/>
                      <a:pt x="355" y="81"/>
                    </a:cubicBezTo>
                    <a:cubicBezTo>
                      <a:pt x="355" y="81"/>
                      <a:pt x="355" y="81"/>
                      <a:pt x="354" y="81"/>
                    </a:cubicBezTo>
                    <a:cubicBezTo>
                      <a:pt x="354" y="81"/>
                      <a:pt x="354" y="81"/>
                      <a:pt x="354" y="81"/>
                    </a:cubicBezTo>
                    <a:close/>
                    <a:moveTo>
                      <a:pt x="354" y="88"/>
                    </a:move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90"/>
                      <a:pt x="354" y="91"/>
                      <a:pt x="354" y="91"/>
                    </a:cubicBezTo>
                    <a:cubicBezTo>
                      <a:pt x="354" y="90"/>
                      <a:pt x="354" y="89"/>
                      <a:pt x="354" y="88"/>
                    </a:cubicBezTo>
                    <a:close/>
                    <a:moveTo>
                      <a:pt x="345" y="122"/>
                    </a:moveTo>
                    <a:cubicBezTo>
                      <a:pt x="345" y="122"/>
                      <a:pt x="345" y="123"/>
                      <a:pt x="345" y="123"/>
                    </a:cubicBezTo>
                    <a:cubicBezTo>
                      <a:pt x="345" y="123"/>
                      <a:pt x="345" y="123"/>
                      <a:pt x="345" y="123"/>
                    </a:cubicBezTo>
                    <a:cubicBezTo>
                      <a:pt x="345" y="123"/>
                      <a:pt x="345" y="122"/>
                      <a:pt x="345" y="122"/>
                    </a:cubicBezTo>
                    <a:cubicBezTo>
                      <a:pt x="345" y="120"/>
                      <a:pt x="346" y="118"/>
                      <a:pt x="346" y="115"/>
                    </a:cubicBezTo>
                    <a:cubicBezTo>
                      <a:pt x="346" y="115"/>
                      <a:pt x="346" y="115"/>
                      <a:pt x="346" y="115"/>
                    </a:cubicBezTo>
                    <a:cubicBezTo>
                      <a:pt x="346" y="116"/>
                      <a:pt x="346" y="117"/>
                      <a:pt x="346" y="118"/>
                    </a:cubicBezTo>
                    <a:cubicBezTo>
                      <a:pt x="346" y="119"/>
                      <a:pt x="345" y="121"/>
                      <a:pt x="345" y="122"/>
                    </a:cubicBezTo>
                    <a:close/>
                    <a:moveTo>
                      <a:pt x="348" y="70"/>
                    </a:moveTo>
                    <a:cubicBezTo>
                      <a:pt x="350" y="73"/>
                      <a:pt x="352" y="76"/>
                      <a:pt x="354" y="79"/>
                    </a:cubicBezTo>
                    <a:cubicBezTo>
                      <a:pt x="353" y="81"/>
                      <a:pt x="353" y="82"/>
                      <a:pt x="353" y="84"/>
                    </a:cubicBezTo>
                    <a:cubicBezTo>
                      <a:pt x="353" y="84"/>
                      <a:pt x="353" y="84"/>
                      <a:pt x="352" y="84"/>
                    </a:cubicBezTo>
                    <a:cubicBezTo>
                      <a:pt x="352" y="82"/>
                      <a:pt x="351" y="81"/>
                      <a:pt x="350" y="79"/>
                    </a:cubicBezTo>
                    <a:cubicBezTo>
                      <a:pt x="351" y="81"/>
                      <a:pt x="352" y="83"/>
                      <a:pt x="352" y="84"/>
                    </a:cubicBezTo>
                    <a:cubicBezTo>
                      <a:pt x="351" y="87"/>
                      <a:pt x="349" y="90"/>
                      <a:pt x="348" y="93"/>
                    </a:cubicBezTo>
                    <a:cubicBezTo>
                      <a:pt x="348" y="85"/>
                      <a:pt x="348" y="77"/>
                      <a:pt x="348" y="70"/>
                    </a:cubicBezTo>
                    <a:close/>
                    <a:moveTo>
                      <a:pt x="350" y="98"/>
                    </a:moveTo>
                    <a:cubicBezTo>
                      <a:pt x="350" y="98"/>
                      <a:pt x="350" y="97"/>
                      <a:pt x="350" y="96"/>
                    </a:cubicBezTo>
                    <a:cubicBezTo>
                      <a:pt x="350" y="97"/>
                      <a:pt x="350" y="98"/>
                      <a:pt x="350" y="98"/>
                    </a:cubicBezTo>
                    <a:cubicBezTo>
                      <a:pt x="350" y="99"/>
                      <a:pt x="350" y="100"/>
                      <a:pt x="350" y="100"/>
                    </a:cubicBezTo>
                    <a:cubicBezTo>
                      <a:pt x="349" y="99"/>
                      <a:pt x="349" y="98"/>
                      <a:pt x="349" y="97"/>
                    </a:cubicBezTo>
                    <a:cubicBezTo>
                      <a:pt x="349" y="95"/>
                      <a:pt x="350" y="93"/>
                      <a:pt x="351" y="90"/>
                    </a:cubicBezTo>
                    <a:cubicBezTo>
                      <a:pt x="351" y="93"/>
                      <a:pt x="350" y="96"/>
                      <a:pt x="350" y="98"/>
                    </a:cubicBezTo>
                    <a:close/>
                    <a:moveTo>
                      <a:pt x="357" y="100"/>
                    </a:moveTo>
                    <a:cubicBezTo>
                      <a:pt x="355" y="104"/>
                      <a:pt x="354" y="107"/>
                      <a:pt x="353" y="110"/>
                    </a:cubicBezTo>
                    <a:cubicBezTo>
                      <a:pt x="352" y="110"/>
                      <a:pt x="352" y="109"/>
                      <a:pt x="352" y="109"/>
                    </a:cubicBezTo>
                    <a:cubicBezTo>
                      <a:pt x="352" y="106"/>
                      <a:pt x="353" y="102"/>
                      <a:pt x="353" y="99"/>
                    </a:cubicBezTo>
                    <a:cubicBezTo>
                      <a:pt x="354" y="95"/>
                      <a:pt x="354" y="92"/>
                      <a:pt x="354" y="90"/>
                    </a:cubicBezTo>
                    <a:cubicBezTo>
                      <a:pt x="355" y="93"/>
                      <a:pt x="356" y="96"/>
                      <a:pt x="357" y="100"/>
                    </a:cubicBezTo>
                    <a:cubicBezTo>
                      <a:pt x="357" y="100"/>
                      <a:pt x="357" y="100"/>
                      <a:pt x="357" y="100"/>
                    </a:cubicBezTo>
                    <a:close/>
                    <a:moveTo>
                      <a:pt x="357" y="97"/>
                    </a:moveTo>
                    <a:cubicBezTo>
                      <a:pt x="356" y="95"/>
                      <a:pt x="355" y="92"/>
                      <a:pt x="354" y="89"/>
                    </a:cubicBezTo>
                    <a:cubicBezTo>
                      <a:pt x="354" y="89"/>
                      <a:pt x="354" y="89"/>
                      <a:pt x="354" y="88"/>
                    </a:cubicBez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89"/>
                      <a:pt x="354" y="88"/>
                      <a:pt x="354" y="88"/>
                    </a:cubicBezTo>
                    <a:cubicBezTo>
                      <a:pt x="354" y="87"/>
                      <a:pt x="354" y="86"/>
                      <a:pt x="354" y="85"/>
                    </a:cubicBezTo>
                    <a:cubicBezTo>
                      <a:pt x="355" y="84"/>
                      <a:pt x="355" y="83"/>
                      <a:pt x="355" y="82"/>
                    </a:cubicBezTo>
                    <a:cubicBezTo>
                      <a:pt x="357" y="84"/>
                      <a:pt x="358" y="86"/>
                      <a:pt x="358" y="88"/>
                    </a:cubicBezTo>
                    <a:cubicBezTo>
                      <a:pt x="358" y="91"/>
                      <a:pt x="358" y="94"/>
                      <a:pt x="357" y="97"/>
                    </a:cubicBezTo>
                    <a:close/>
                    <a:moveTo>
                      <a:pt x="360" y="135"/>
                    </a:moveTo>
                    <a:cubicBezTo>
                      <a:pt x="359" y="136"/>
                      <a:pt x="359" y="137"/>
                      <a:pt x="359" y="138"/>
                    </a:cubicBezTo>
                    <a:cubicBezTo>
                      <a:pt x="359" y="137"/>
                      <a:pt x="359" y="136"/>
                      <a:pt x="360" y="135"/>
                    </a:cubicBezTo>
                    <a:cubicBezTo>
                      <a:pt x="360" y="135"/>
                      <a:pt x="360" y="135"/>
                      <a:pt x="360" y="135"/>
                    </a:cubicBezTo>
                    <a:close/>
                    <a:moveTo>
                      <a:pt x="359" y="83"/>
                    </a:moveTo>
                    <a:cubicBezTo>
                      <a:pt x="358" y="82"/>
                      <a:pt x="358" y="81"/>
                      <a:pt x="357" y="80"/>
                    </a:cubicBezTo>
                    <a:cubicBezTo>
                      <a:pt x="358" y="78"/>
                      <a:pt x="359" y="77"/>
                      <a:pt x="360" y="75"/>
                    </a:cubicBezTo>
                    <a:cubicBezTo>
                      <a:pt x="360" y="78"/>
                      <a:pt x="359" y="81"/>
                      <a:pt x="359" y="83"/>
                    </a:cubicBezTo>
                    <a:close/>
                    <a:moveTo>
                      <a:pt x="360" y="74"/>
                    </a:moveTo>
                    <a:cubicBezTo>
                      <a:pt x="359" y="76"/>
                      <a:pt x="357" y="77"/>
                      <a:pt x="356" y="79"/>
                    </a:cubicBezTo>
                    <a:cubicBezTo>
                      <a:pt x="356" y="78"/>
                      <a:pt x="355" y="78"/>
                      <a:pt x="355" y="77"/>
                    </a:cubicBezTo>
                    <a:cubicBezTo>
                      <a:pt x="355" y="72"/>
                      <a:pt x="356" y="67"/>
                      <a:pt x="356" y="65"/>
                    </a:cubicBezTo>
                    <a:cubicBezTo>
                      <a:pt x="357" y="67"/>
                      <a:pt x="359" y="70"/>
                      <a:pt x="360" y="72"/>
                    </a:cubicBezTo>
                    <a:cubicBezTo>
                      <a:pt x="360" y="73"/>
                      <a:pt x="360" y="73"/>
                      <a:pt x="360" y="74"/>
                    </a:cubicBezTo>
                    <a:close/>
                    <a:moveTo>
                      <a:pt x="362" y="75"/>
                    </a:moveTo>
                    <a:cubicBezTo>
                      <a:pt x="364" y="78"/>
                      <a:pt x="365" y="81"/>
                      <a:pt x="367" y="84"/>
                    </a:cubicBezTo>
                    <a:cubicBezTo>
                      <a:pt x="365" y="86"/>
                      <a:pt x="364" y="88"/>
                      <a:pt x="363" y="90"/>
                    </a:cubicBezTo>
                    <a:cubicBezTo>
                      <a:pt x="363" y="89"/>
                      <a:pt x="362" y="89"/>
                      <a:pt x="362" y="89"/>
                    </a:cubicBezTo>
                    <a:cubicBezTo>
                      <a:pt x="362" y="84"/>
                      <a:pt x="362" y="79"/>
                      <a:pt x="362" y="75"/>
                    </a:cubicBezTo>
                    <a:close/>
                    <a:moveTo>
                      <a:pt x="364" y="110"/>
                    </a:moveTo>
                    <a:cubicBezTo>
                      <a:pt x="364" y="107"/>
                      <a:pt x="363" y="104"/>
                      <a:pt x="362" y="101"/>
                    </a:cubicBezTo>
                    <a:cubicBezTo>
                      <a:pt x="362" y="101"/>
                      <a:pt x="362" y="100"/>
                      <a:pt x="362" y="100"/>
                    </a:cubicBezTo>
                    <a:cubicBezTo>
                      <a:pt x="362" y="100"/>
                      <a:pt x="363" y="99"/>
                      <a:pt x="363" y="99"/>
                    </a:cubicBezTo>
                    <a:cubicBezTo>
                      <a:pt x="364" y="101"/>
                      <a:pt x="365" y="104"/>
                      <a:pt x="365" y="106"/>
                    </a:cubicBezTo>
                    <a:cubicBezTo>
                      <a:pt x="365" y="108"/>
                      <a:pt x="365" y="109"/>
                      <a:pt x="364" y="110"/>
                    </a:cubicBezTo>
                    <a:close/>
                    <a:moveTo>
                      <a:pt x="365" y="93"/>
                    </a:moveTo>
                    <a:cubicBezTo>
                      <a:pt x="366" y="91"/>
                      <a:pt x="367" y="88"/>
                      <a:pt x="368" y="86"/>
                    </a:cubicBezTo>
                    <a:cubicBezTo>
                      <a:pt x="368" y="87"/>
                      <a:pt x="369" y="87"/>
                      <a:pt x="369" y="88"/>
                    </a:cubicBezTo>
                    <a:cubicBezTo>
                      <a:pt x="368" y="91"/>
                      <a:pt x="368" y="94"/>
                      <a:pt x="367" y="97"/>
                    </a:cubicBezTo>
                    <a:cubicBezTo>
                      <a:pt x="366" y="96"/>
                      <a:pt x="366" y="95"/>
                      <a:pt x="365" y="93"/>
                    </a:cubicBezTo>
                    <a:close/>
                    <a:moveTo>
                      <a:pt x="368" y="130"/>
                    </a:moveTo>
                    <a:cubicBezTo>
                      <a:pt x="368" y="129"/>
                      <a:pt x="368" y="128"/>
                      <a:pt x="368" y="126"/>
                    </a:cubicBezTo>
                    <a:cubicBezTo>
                      <a:pt x="368" y="124"/>
                      <a:pt x="368" y="121"/>
                      <a:pt x="369" y="119"/>
                    </a:cubicBezTo>
                    <a:cubicBezTo>
                      <a:pt x="369" y="120"/>
                      <a:pt x="370" y="122"/>
                      <a:pt x="370" y="124"/>
                    </a:cubicBezTo>
                    <a:cubicBezTo>
                      <a:pt x="369" y="126"/>
                      <a:pt x="369" y="128"/>
                      <a:pt x="368" y="130"/>
                    </a:cubicBezTo>
                    <a:close/>
                    <a:moveTo>
                      <a:pt x="372" y="108"/>
                    </a:moveTo>
                    <a:cubicBezTo>
                      <a:pt x="372" y="107"/>
                      <a:pt x="371" y="106"/>
                      <a:pt x="371" y="105"/>
                    </a:cubicBezTo>
                    <a:cubicBezTo>
                      <a:pt x="372" y="102"/>
                      <a:pt x="372" y="99"/>
                      <a:pt x="373" y="96"/>
                    </a:cubicBezTo>
                    <a:cubicBezTo>
                      <a:pt x="373" y="96"/>
                      <a:pt x="373" y="97"/>
                      <a:pt x="373" y="97"/>
                    </a:cubicBezTo>
                    <a:cubicBezTo>
                      <a:pt x="373" y="101"/>
                      <a:pt x="373" y="105"/>
                      <a:pt x="372" y="108"/>
                    </a:cubicBezTo>
                    <a:close/>
                    <a:moveTo>
                      <a:pt x="374" y="86"/>
                    </a:moveTo>
                    <a:cubicBezTo>
                      <a:pt x="374" y="86"/>
                      <a:pt x="374" y="86"/>
                      <a:pt x="374" y="86"/>
                    </a:cubicBezTo>
                    <a:cubicBezTo>
                      <a:pt x="375" y="85"/>
                      <a:pt x="375" y="84"/>
                      <a:pt x="375" y="83"/>
                    </a:cubicBezTo>
                    <a:cubicBezTo>
                      <a:pt x="375" y="84"/>
                      <a:pt x="375" y="85"/>
                      <a:pt x="374" y="86"/>
                    </a:cubicBezTo>
                    <a:close/>
                    <a:moveTo>
                      <a:pt x="382" y="80"/>
                    </a:moveTo>
                    <a:cubicBezTo>
                      <a:pt x="382" y="77"/>
                      <a:pt x="382" y="75"/>
                      <a:pt x="383" y="73"/>
                    </a:cubicBezTo>
                    <a:cubicBezTo>
                      <a:pt x="383" y="73"/>
                      <a:pt x="383" y="74"/>
                      <a:pt x="384" y="74"/>
                    </a:cubicBezTo>
                    <a:cubicBezTo>
                      <a:pt x="383" y="76"/>
                      <a:pt x="383" y="78"/>
                      <a:pt x="382" y="80"/>
                    </a:cubicBezTo>
                    <a:close/>
                    <a:moveTo>
                      <a:pt x="394" y="93"/>
                    </a:moveTo>
                    <a:cubicBezTo>
                      <a:pt x="393" y="95"/>
                      <a:pt x="393" y="96"/>
                      <a:pt x="392" y="97"/>
                    </a:cubicBezTo>
                    <a:cubicBezTo>
                      <a:pt x="392" y="94"/>
                      <a:pt x="392" y="91"/>
                      <a:pt x="392" y="88"/>
                    </a:cubicBezTo>
                    <a:cubicBezTo>
                      <a:pt x="392" y="89"/>
                      <a:pt x="393" y="91"/>
                      <a:pt x="394" y="93"/>
                    </a:cubicBezTo>
                    <a:close/>
                    <a:moveTo>
                      <a:pt x="395" y="88"/>
                    </a:moveTo>
                    <a:cubicBezTo>
                      <a:pt x="394" y="86"/>
                      <a:pt x="393" y="85"/>
                      <a:pt x="392" y="84"/>
                    </a:cubicBezTo>
                    <a:cubicBezTo>
                      <a:pt x="394" y="81"/>
                      <a:pt x="395" y="78"/>
                      <a:pt x="397" y="75"/>
                    </a:cubicBezTo>
                    <a:cubicBezTo>
                      <a:pt x="396" y="79"/>
                      <a:pt x="396" y="84"/>
                      <a:pt x="395" y="88"/>
                    </a:cubicBezTo>
                    <a:close/>
                    <a:moveTo>
                      <a:pt x="404" y="77"/>
                    </a:moveTo>
                    <a:cubicBezTo>
                      <a:pt x="404" y="77"/>
                      <a:pt x="404" y="77"/>
                      <a:pt x="404" y="77"/>
                    </a:cubicBezTo>
                    <a:cubicBezTo>
                      <a:pt x="404" y="74"/>
                      <a:pt x="403" y="70"/>
                      <a:pt x="403" y="66"/>
                    </a:cubicBezTo>
                    <a:cubicBezTo>
                      <a:pt x="403" y="65"/>
                      <a:pt x="404" y="64"/>
                      <a:pt x="404" y="63"/>
                    </a:cubicBezTo>
                    <a:cubicBezTo>
                      <a:pt x="405" y="67"/>
                      <a:pt x="405" y="72"/>
                      <a:pt x="404" y="77"/>
                    </a:cubicBezTo>
                    <a:close/>
                    <a:moveTo>
                      <a:pt x="407" y="72"/>
                    </a:moveTo>
                    <a:cubicBezTo>
                      <a:pt x="407" y="67"/>
                      <a:pt x="406" y="64"/>
                      <a:pt x="405" y="61"/>
                    </a:cubicBezTo>
                    <a:cubicBezTo>
                      <a:pt x="406" y="60"/>
                      <a:pt x="407" y="58"/>
                      <a:pt x="408" y="57"/>
                    </a:cubicBezTo>
                    <a:cubicBezTo>
                      <a:pt x="409" y="62"/>
                      <a:pt x="408" y="67"/>
                      <a:pt x="407" y="72"/>
                    </a:cubicBezTo>
                    <a:close/>
                    <a:moveTo>
                      <a:pt x="423" y="89"/>
                    </a:moveTo>
                    <a:cubicBezTo>
                      <a:pt x="424" y="91"/>
                      <a:pt x="425" y="92"/>
                      <a:pt x="426" y="94"/>
                    </a:cubicBezTo>
                    <a:cubicBezTo>
                      <a:pt x="425" y="95"/>
                      <a:pt x="424" y="97"/>
                      <a:pt x="424" y="98"/>
                    </a:cubicBezTo>
                    <a:cubicBezTo>
                      <a:pt x="423" y="97"/>
                      <a:pt x="423" y="96"/>
                      <a:pt x="422" y="95"/>
                    </a:cubicBezTo>
                    <a:cubicBezTo>
                      <a:pt x="423" y="93"/>
                      <a:pt x="423" y="91"/>
                      <a:pt x="423" y="89"/>
                    </a:cubicBezTo>
                    <a:close/>
                    <a:moveTo>
                      <a:pt x="422" y="101"/>
                    </a:moveTo>
                    <a:cubicBezTo>
                      <a:pt x="422" y="101"/>
                      <a:pt x="422" y="100"/>
                      <a:pt x="422" y="100"/>
                    </a:cubicBezTo>
                    <a:cubicBezTo>
                      <a:pt x="422" y="100"/>
                      <a:pt x="422" y="101"/>
                      <a:pt x="423" y="101"/>
                    </a:cubicBezTo>
                    <a:cubicBezTo>
                      <a:pt x="422" y="101"/>
                      <a:pt x="422" y="101"/>
                      <a:pt x="422" y="101"/>
                    </a:cubicBezTo>
                    <a:close/>
                    <a:moveTo>
                      <a:pt x="424" y="122"/>
                    </a:moveTo>
                    <a:cubicBezTo>
                      <a:pt x="424" y="121"/>
                      <a:pt x="424" y="120"/>
                      <a:pt x="423" y="119"/>
                    </a:cubicBezTo>
                    <a:cubicBezTo>
                      <a:pt x="423" y="117"/>
                      <a:pt x="423" y="115"/>
                      <a:pt x="423" y="112"/>
                    </a:cubicBezTo>
                    <a:cubicBezTo>
                      <a:pt x="423" y="110"/>
                      <a:pt x="424" y="108"/>
                      <a:pt x="424" y="106"/>
                    </a:cubicBezTo>
                    <a:cubicBezTo>
                      <a:pt x="424" y="108"/>
                      <a:pt x="425" y="110"/>
                      <a:pt x="425" y="112"/>
                    </a:cubicBezTo>
                    <a:cubicBezTo>
                      <a:pt x="425" y="115"/>
                      <a:pt x="425" y="119"/>
                      <a:pt x="424" y="122"/>
                    </a:cubicBezTo>
                    <a:close/>
                    <a:moveTo>
                      <a:pt x="426" y="103"/>
                    </a:moveTo>
                    <a:cubicBezTo>
                      <a:pt x="426" y="102"/>
                      <a:pt x="425" y="101"/>
                      <a:pt x="425" y="100"/>
                    </a:cubicBezTo>
                    <a:cubicBezTo>
                      <a:pt x="425" y="99"/>
                      <a:pt x="426" y="97"/>
                      <a:pt x="426" y="96"/>
                    </a:cubicBezTo>
                    <a:cubicBezTo>
                      <a:pt x="426" y="97"/>
                      <a:pt x="427" y="97"/>
                      <a:pt x="427" y="98"/>
                    </a:cubicBezTo>
                    <a:cubicBezTo>
                      <a:pt x="427" y="100"/>
                      <a:pt x="427" y="101"/>
                      <a:pt x="426" y="103"/>
                    </a:cubicBezTo>
                    <a:close/>
                    <a:moveTo>
                      <a:pt x="427" y="96"/>
                    </a:moveTo>
                    <a:cubicBezTo>
                      <a:pt x="427" y="95"/>
                      <a:pt x="427" y="95"/>
                      <a:pt x="427" y="95"/>
                    </a:cubicBezTo>
                    <a:cubicBezTo>
                      <a:pt x="427" y="93"/>
                      <a:pt x="427" y="92"/>
                      <a:pt x="428" y="91"/>
                    </a:cubicBezTo>
                    <a:cubicBezTo>
                      <a:pt x="428" y="93"/>
                      <a:pt x="427" y="94"/>
                      <a:pt x="427" y="96"/>
                    </a:cubicBezTo>
                    <a:close/>
                    <a:moveTo>
                      <a:pt x="433" y="95"/>
                    </a:moveTo>
                    <a:cubicBezTo>
                      <a:pt x="434" y="92"/>
                      <a:pt x="434" y="89"/>
                      <a:pt x="434" y="86"/>
                    </a:cubicBezTo>
                    <a:cubicBezTo>
                      <a:pt x="435" y="86"/>
                      <a:pt x="435" y="87"/>
                      <a:pt x="436" y="88"/>
                    </a:cubicBezTo>
                    <a:cubicBezTo>
                      <a:pt x="435" y="90"/>
                      <a:pt x="434" y="92"/>
                      <a:pt x="433" y="95"/>
                    </a:cubicBezTo>
                    <a:close/>
                    <a:moveTo>
                      <a:pt x="444" y="99"/>
                    </a:moveTo>
                    <a:cubicBezTo>
                      <a:pt x="444" y="99"/>
                      <a:pt x="443" y="98"/>
                      <a:pt x="443" y="97"/>
                    </a:cubicBezTo>
                    <a:cubicBezTo>
                      <a:pt x="443" y="93"/>
                      <a:pt x="443" y="89"/>
                      <a:pt x="443" y="84"/>
                    </a:cubicBezTo>
                    <a:cubicBezTo>
                      <a:pt x="445" y="80"/>
                      <a:pt x="447" y="76"/>
                      <a:pt x="450" y="72"/>
                    </a:cubicBezTo>
                    <a:cubicBezTo>
                      <a:pt x="450" y="74"/>
                      <a:pt x="450" y="78"/>
                      <a:pt x="451" y="82"/>
                    </a:cubicBezTo>
                    <a:cubicBezTo>
                      <a:pt x="448" y="88"/>
                      <a:pt x="446" y="93"/>
                      <a:pt x="444" y="99"/>
                    </a:cubicBezTo>
                    <a:close/>
                    <a:moveTo>
                      <a:pt x="452" y="75"/>
                    </a:moveTo>
                    <a:cubicBezTo>
                      <a:pt x="452" y="73"/>
                      <a:pt x="451" y="71"/>
                      <a:pt x="451" y="69"/>
                    </a:cubicBezTo>
                    <a:cubicBezTo>
                      <a:pt x="452" y="68"/>
                      <a:pt x="453" y="67"/>
                      <a:pt x="453" y="66"/>
                    </a:cubicBezTo>
                    <a:cubicBezTo>
                      <a:pt x="453" y="69"/>
                      <a:pt x="453" y="72"/>
                      <a:pt x="452" y="75"/>
                    </a:cubicBezTo>
                    <a:close/>
                    <a:moveTo>
                      <a:pt x="460" y="72"/>
                    </a:moveTo>
                    <a:cubicBezTo>
                      <a:pt x="460" y="71"/>
                      <a:pt x="460" y="70"/>
                      <a:pt x="460" y="70"/>
                    </a:cubicBezTo>
                    <a:cubicBezTo>
                      <a:pt x="460" y="69"/>
                      <a:pt x="460" y="69"/>
                      <a:pt x="460" y="69"/>
                    </a:cubicBezTo>
                    <a:cubicBezTo>
                      <a:pt x="460" y="71"/>
                      <a:pt x="460" y="72"/>
                      <a:pt x="460" y="72"/>
                    </a:cubicBezTo>
                    <a:close/>
                    <a:moveTo>
                      <a:pt x="460" y="67"/>
                    </a:moveTo>
                    <a:cubicBezTo>
                      <a:pt x="460" y="67"/>
                      <a:pt x="460" y="68"/>
                      <a:pt x="460" y="68"/>
                    </a:cubicBezTo>
                    <a:cubicBezTo>
                      <a:pt x="460" y="65"/>
                      <a:pt x="459" y="61"/>
                      <a:pt x="459" y="58"/>
                    </a:cubicBezTo>
                    <a:cubicBezTo>
                      <a:pt x="460" y="57"/>
                      <a:pt x="460" y="56"/>
                      <a:pt x="461" y="56"/>
                    </a:cubicBezTo>
                    <a:cubicBezTo>
                      <a:pt x="461" y="60"/>
                      <a:pt x="460" y="64"/>
                      <a:pt x="460" y="67"/>
                    </a:cubicBezTo>
                    <a:close/>
                    <a:moveTo>
                      <a:pt x="468" y="123"/>
                    </a:moveTo>
                    <a:cubicBezTo>
                      <a:pt x="467" y="124"/>
                      <a:pt x="466" y="126"/>
                      <a:pt x="466" y="127"/>
                    </a:cubicBezTo>
                    <a:cubicBezTo>
                      <a:pt x="466" y="124"/>
                      <a:pt x="466" y="122"/>
                      <a:pt x="466" y="119"/>
                    </a:cubicBezTo>
                    <a:cubicBezTo>
                      <a:pt x="467" y="116"/>
                      <a:pt x="468" y="112"/>
                      <a:pt x="469" y="109"/>
                    </a:cubicBezTo>
                    <a:cubicBezTo>
                      <a:pt x="469" y="111"/>
                      <a:pt x="469" y="112"/>
                      <a:pt x="469" y="114"/>
                    </a:cubicBezTo>
                    <a:cubicBezTo>
                      <a:pt x="469" y="117"/>
                      <a:pt x="468" y="120"/>
                      <a:pt x="468" y="123"/>
                    </a:cubicBezTo>
                    <a:close/>
                    <a:moveTo>
                      <a:pt x="470" y="110"/>
                    </a:moveTo>
                    <a:cubicBezTo>
                      <a:pt x="470" y="111"/>
                      <a:pt x="470" y="112"/>
                      <a:pt x="470" y="112"/>
                    </a:cubicBezTo>
                    <a:cubicBezTo>
                      <a:pt x="469" y="111"/>
                      <a:pt x="469" y="110"/>
                      <a:pt x="469" y="109"/>
                    </a:cubicBezTo>
                    <a:cubicBezTo>
                      <a:pt x="469" y="107"/>
                      <a:pt x="470" y="105"/>
                      <a:pt x="471" y="102"/>
                    </a:cubicBezTo>
                    <a:cubicBezTo>
                      <a:pt x="470" y="105"/>
                      <a:pt x="470" y="108"/>
                      <a:pt x="470" y="110"/>
                    </a:cubicBezTo>
                    <a:close/>
                    <a:moveTo>
                      <a:pt x="472" y="83"/>
                    </a:moveTo>
                    <a:cubicBezTo>
                      <a:pt x="472" y="83"/>
                      <a:pt x="472" y="84"/>
                      <a:pt x="471" y="85"/>
                    </a:cubicBezTo>
                    <a:cubicBezTo>
                      <a:pt x="470" y="87"/>
                      <a:pt x="470" y="89"/>
                      <a:pt x="469" y="91"/>
                    </a:cubicBezTo>
                    <a:cubicBezTo>
                      <a:pt x="468" y="91"/>
                      <a:pt x="468" y="91"/>
                      <a:pt x="468" y="91"/>
                    </a:cubicBezTo>
                    <a:cubicBezTo>
                      <a:pt x="468" y="91"/>
                      <a:pt x="468" y="91"/>
                      <a:pt x="469" y="91"/>
                    </a:cubicBezTo>
                    <a:cubicBezTo>
                      <a:pt x="468" y="92"/>
                      <a:pt x="467" y="94"/>
                      <a:pt x="466" y="96"/>
                    </a:cubicBezTo>
                    <a:cubicBezTo>
                      <a:pt x="467" y="90"/>
                      <a:pt x="467" y="85"/>
                      <a:pt x="469" y="79"/>
                    </a:cubicBezTo>
                    <a:cubicBezTo>
                      <a:pt x="467" y="85"/>
                      <a:pt x="466" y="90"/>
                      <a:pt x="465" y="95"/>
                    </a:cubicBezTo>
                    <a:cubicBezTo>
                      <a:pt x="465" y="85"/>
                      <a:pt x="465" y="74"/>
                      <a:pt x="465" y="63"/>
                    </a:cubicBezTo>
                    <a:cubicBezTo>
                      <a:pt x="468" y="60"/>
                      <a:pt x="471" y="58"/>
                      <a:pt x="474" y="55"/>
                    </a:cubicBezTo>
                    <a:cubicBezTo>
                      <a:pt x="474" y="62"/>
                      <a:pt x="473" y="72"/>
                      <a:pt x="472" y="83"/>
                    </a:cubicBezTo>
                    <a:close/>
                    <a:moveTo>
                      <a:pt x="478" y="105"/>
                    </a:moveTo>
                    <a:cubicBezTo>
                      <a:pt x="478" y="102"/>
                      <a:pt x="478" y="99"/>
                      <a:pt x="478" y="96"/>
                    </a:cubicBezTo>
                    <a:cubicBezTo>
                      <a:pt x="478" y="97"/>
                      <a:pt x="479" y="99"/>
                      <a:pt x="479" y="100"/>
                    </a:cubicBezTo>
                    <a:cubicBezTo>
                      <a:pt x="479" y="102"/>
                      <a:pt x="479" y="103"/>
                      <a:pt x="478" y="105"/>
                    </a:cubicBezTo>
                    <a:cubicBezTo>
                      <a:pt x="478" y="105"/>
                      <a:pt x="478" y="105"/>
                      <a:pt x="478" y="105"/>
                    </a:cubicBezTo>
                    <a:close/>
                    <a:moveTo>
                      <a:pt x="480" y="130"/>
                    </a:moveTo>
                    <a:cubicBezTo>
                      <a:pt x="480" y="130"/>
                      <a:pt x="479" y="130"/>
                      <a:pt x="479" y="130"/>
                    </a:cubicBezTo>
                    <a:cubicBezTo>
                      <a:pt x="479" y="129"/>
                      <a:pt x="479" y="128"/>
                      <a:pt x="479" y="127"/>
                    </a:cubicBezTo>
                    <a:cubicBezTo>
                      <a:pt x="479" y="128"/>
                      <a:pt x="480" y="128"/>
                      <a:pt x="480" y="129"/>
                    </a:cubicBezTo>
                    <a:cubicBezTo>
                      <a:pt x="480" y="129"/>
                      <a:pt x="480" y="130"/>
                      <a:pt x="480" y="130"/>
                    </a:cubicBezTo>
                    <a:close/>
                    <a:moveTo>
                      <a:pt x="486" y="74"/>
                    </a:moveTo>
                    <a:cubicBezTo>
                      <a:pt x="486" y="73"/>
                      <a:pt x="486" y="71"/>
                      <a:pt x="486" y="70"/>
                    </a:cubicBezTo>
                    <a:cubicBezTo>
                      <a:pt x="487" y="70"/>
                      <a:pt x="487" y="71"/>
                      <a:pt x="487" y="72"/>
                    </a:cubicBezTo>
                    <a:cubicBezTo>
                      <a:pt x="487" y="72"/>
                      <a:pt x="487" y="73"/>
                      <a:pt x="486" y="74"/>
                    </a:cubicBezTo>
                    <a:close/>
                    <a:moveTo>
                      <a:pt x="490" y="139"/>
                    </a:moveTo>
                    <a:cubicBezTo>
                      <a:pt x="490" y="140"/>
                      <a:pt x="490" y="141"/>
                      <a:pt x="490" y="142"/>
                    </a:cubicBezTo>
                    <a:cubicBezTo>
                      <a:pt x="490" y="142"/>
                      <a:pt x="490" y="141"/>
                      <a:pt x="490" y="139"/>
                    </a:cubicBezTo>
                    <a:cubicBezTo>
                      <a:pt x="490" y="138"/>
                      <a:pt x="490" y="137"/>
                      <a:pt x="491" y="136"/>
                    </a:cubicBezTo>
                    <a:cubicBezTo>
                      <a:pt x="491" y="137"/>
                      <a:pt x="491" y="137"/>
                      <a:pt x="491" y="137"/>
                    </a:cubicBezTo>
                    <a:cubicBezTo>
                      <a:pt x="491" y="138"/>
                      <a:pt x="490" y="139"/>
                      <a:pt x="490" y="139"/>
                    </a:cubicBezTo>
                    <a:close/>
                    <a:moveTo>
                      <a:pt x="492" y="122"/>
                    </a:moveTo>
                    <a:cubicBezTo>
                      <a:pt x="492" y="122"/>
                      <a:pt x="492" y="122"/>
                      <a:pt x="492" y="122"/>
                    </a:cubicBezTo>
                    <a:cubicBezTo>
                      <a:pt x="492" y="121"/>
                      <a:pt x="492" y="121"/>
                      <a:pt x="492" y="121"/>
                    </a:cubicBezTo>
                    <a:cubicBezTo>
                      <a:pt x="492" y="121"/>
                      <a:pt x="492" y="122"/>
                      <a:pt x="492" y="122"/>
                    </a:cubicBezTo>
                    <a:close/>
                    <a:moveTo>
                      <a:pt x="493" y="110"/>
                    </a:moveTo>
                    <a:cubicBezTo>
                      <a:pt x="492" y="112"/>
                      <a:pt x="491" y="114"/>
                      <a:pt x="491" y="116"/>
                    </a:cubicBezTo>
                    <a:cubicBezTo>
                      <a:pt x="490" y="116"/>
                      <a:pt x="490" y="117"/>
                      <a:pt x="490" y="117"/>
                    </a:cubicBezTo>
                    <a:cubicBezTo>
                      <a:pt x="490" y="113"/>
                      <a:pt x="489" y="108"/>
                      <a:pt x="489" y="104"/>
                    </a:cubicBezTo>
                    <a:cubicBezTo>
                      <a:pt x="490" y="101"/>
                      <a:pt x="491" y="98"/>
                      <a:pt x="492" y="96"/>
                    </a:cubicBezTo>
                    <a:cubicBezTo>
                      <a:pt x="492" y="95"/>
                      <a:pt x="492" y="95"/>
                      <a:pt x="492" y="95"/>
                    </a:cubicBezTo>
                    <a:cubicBezTo>
                      <a:pt x="492" y="98"/>
                      <a:pt x="493" y="101"/>
                      <a:pt x="493" y="104"/>
                    </a:cubicBezTo>
                    <a:cubicBezTo>
                      <a:pt x="493" y="106"/>
                      <a:pt x="493" y="108"/>
                      <a:pt x="493" y="110"/>
                    </a:cubicBezTo>
                    <a:close/>
                    <a:moveTo>
                      <a:pt x="494" y="99"/>
                    </a:moveTo>
                    <a:cubicBezTo>
                      <a:pt x="493" y="97"/>
                      <a:pt x="493" y="96"/>
                      <a:pt x="492" y="94"/>
                    </a:cubicBezTo>
                    <a:cubicBezTo>
                      <a:pt x="493" y="93"/>
                      <a:pt x="494" y="92"/>
                      <a:pt x="494" y="91"/>
                    </a:cubicBezTo>
                    <a:cubicBezTo>
                      <a:pt x="494" y="94"/>
                      <a:pt x="494" y="96"/>
                      <a:pt x="494" y="99"/>
                    </a:cubicBezTo>
                    <a:close/>
                    <a:moveTo>
                      <a:pt x="488" y="91"/>
                    </a:moveTo>
                    <a:cubicBezTo>
                      <a:pt x="488" y="89"/>
                      <a:pt x="488" y="88"/>
                      <a:pt x="488" y="87"/>
                    </a:cubicBezTo>
                    <a:cubicBezTo>
                      <a:pt x="489" y="83"/>
                      <a:pt x="490" y="80"/>
                      <a:pt x="491" y="76"/>
                    </a:cubicBezTo>
                    <a:cubicBezTo>
                      <a:pt x="493" y="78"/>
                      <a:pt x="494" y="80"/>
                      <a:pt x="495" y="82"/>
                    </a:cubicBezTo>
                    <a:cubicBezTo>
                      <a:pt x="492" y="85"/>
                      <a:pt x="490" y="88"/>
                      <a:pt x="488" y="91"/>
                    </a:cubicBezTo>
                    <a:close/>
                    <a:moveTo>
                      <a:pt x="495" y="79"/>
                    </a:moveTo>
                    <a:cubicBezTo>
                      <a:pt x="494" y="77"/>
                      <a:pt x="493" y="76"/>
                      <a:pt x="492" y="75"/>
                    </a:cubicBezTo>
                    <a:cubicBezTo>
                      <a:pt x="493" y="72"/>
                      <a:pt x="495" y="68"/>
                      <a:pt x="496" y="65"/>
                    </a:cubicBezTo>
                    <a:cubicBezTo>
                      <a:pt x="496" y="68"/>
                      <a:pt x="496" y="73"/>
                      <a:pt x="495" y="79"/>
                    </a:cubicBezTo>
                    <a:close/>
                    <a:moveTo>
                      <a:pt x="514" y="54"/>
                    </a:moveTo>
                    <a:cubicBezTo>
                      <a:pt x="513" y="56"/>
                      <a:pt x="512" y="58"/>
                      <a:pt x="512" y="61"/>
                    </a:cubicBezTo>
                    <a:cubicBezTo>
                      <a:pt x="508" y="65"/>
                      <a:pt x="505" y="69"/>
                      <a:pt x="501" y="74"/>
                    </a:cubicBezTo>
                    <a:cubicBezTo>
                      <a:pt x="504" y="67"/>
                      <a:pt x="509" y="60"/>
                      <a:pt x="514" y="54"/>
                    </a:cubicBezTo>
                    <a:close/>
                    <a:moveTo>
                      <a:pt x="499" y="89"/>
                    </a:moveTo>
                    <a:cubicBezTo>
                      <a:pt x="499" y="90"/>
                      <a:pt x="500" y="91"/>
                      <a:pt x="500" y="92"/>
                    </a:cubicBezTo>
                    <a:cubicBezTo>
                      <a:pt x="500" y="92"/>
                      <a:pt x="500" y="93"/>
                      <a:pt x="499" y="94"/>
                    </a:cubicBezTo>
                    <a:cubicBezTo>
                      <a:pt x="499" y="92"/>
                      <a:pt x="499" y="91"/>
                      <a:pt x="499" y="89"/>
                    </a:cubicBezTo>
                    <a:close/>
                    <a:moveTo>
                      <a:pt x="502" y="127"/>
                    </a:moveTo>
                    <a:cubicBezTo>
                      <a:pt x="501" y="125"/>
                      <a:pt x="501" y="124"/>
                      <a:pt x="500" y="122"/>
                    </a:cubicBezTo>
                    <a:cubicBezTo>
                      <a:pt x="500" y="117"/>
                      <a:pt x="500" y="111"/>
                      <a:pt x="500" y="105"/>
                    </a:cubicBezTo>
                    <a:cubicBezTo>
                      <a:pt x="501" y="104"/>
                      <a:pt x="502" y="102"/>
                      <a:pt x="503" y="101"/>
                    </a:cubicBezTo>
                    <a:cubicBezTo>
                      <a:pt x="502" y="102"/>
                      <a:pt x="501" y="103"/>
                      <a:pt x="500" y="105"/>
                    </a:cubicBezTo>
                    <a:cubicBezTo>
                      <a:pt x="500" y="102"/>
                      <a:pt x="499" y="99"/>
                      <a:pt x="499" y="96"/>
                    </a:cubicBezTo>
                    <a:cubicBezTo>
                      <a:pt x="500" y="95"/>
                      <a:pt x="500" y="94"/>
                      <a:pt x="501" y="93"/>
                    </a:cubicBezTo>
                    <a:cubicBezTo>
                      <a:pt x="502" y="95"/>
                      <a:pt x="503" y="97"/>
                      <a:pt x="503" y="100"/>
                    </a:cubicBezTo>
                    <a:cubicBezTo>
                      <a:pt x="503" y="100"/>
                      <a:pt x="503" y="100"/>
                      <a:pt x="503" y="101"/>
                    </a:cubicBezTo>
                    <a:cubicBezTo>
                      <a:pt x="503" y="101"/>
                      <a:pt x="503" y="100"/>
                      <a:pt x="503" y="100"/>
                    </a:cubicBezTo>
                    <a:cubicBezTo>
                      <a:pt x="504" y="101"/>
                      <a:pt x="504" y="102"/>
                      <a:pt x="505" y="103"/>
                    </a:cubicBezTo>
                    <a:cubicBezTo>
                      <a:pt x="503" y="112"/>
                      <a:pt x="502" y="120"/>
                      <a:pt x="502" y="127"/>
                    </a:cubicBezTo>
                    <a:close/>
                    <a:moveTo>
                      <a:pt x="503" y="87"/>
                    </a:moveTo>
                    <a:cubicBezTo>
                      <a:pt x="503" y="86"/>
                      <a:pt x="504" y="84"/>
                      <a:pt x="505" y="83"/>
                    </a:cubicBezTo>
                    <a:cubicBezTo>
                      <a:pt x="504" y="84"/>
                      <a:pt x="503" y="86"/>
                      <a:pt x="502" y="87"/>
                    </a:cubicBezTo>
                    <a:cubicBezTo>
                      <a:pt x="501" y="86"/>
                      <a:pt x="500" y="85"/>
                      <a:pt x="499" y="83"/>
                    </a:cubicBezTo>
                    <a:cubicBezTo>
                      <a:pt x="503" y="78"/>
                      <a:pt x="507" y="72"/>
                      <a:pt x="511" y="67"/>
                    </a:cubicBezTo>
                    <a:cubicBezTo>
                      <a:pt x="510" y="72"/>
                      <a:pt x="509" y="76"/>
                      <a:pt x="508" y="81"/>
                    </a:cubicBezTo>
                    <a:cubicBezTo>
                      <a:pt x="508" y="80"/>
                      <a:pt x="507" y="79"/>
                      <a:pt x="507" y="79"/>
                    </a:cubicBezTo>
                    <a:cubicBezTo>
                      <a:pt x="507" y="78"/>
                      <a:pt x="508" y="77"/>
                      <a:pt x="509" y="75"/>
                    </a:cubicBezTo>
                    <a:cubicBezTo>
                      <a:pt x="508" y="76"/>
                      <a:pt x="507" y="77"/>
                      <a:pt x="507" y="79"/>
                    </a:cubicBezTo>
                    <a:cubicBezTo>
                      <a:pt x="506" y="78"/>
                      <a:pt x="506" y="77"/>
                      <a:pt x="505" y="77"/>
                    </a:cubicBezTo>
                    <a:cubicBezTo>
                      <a:pt x="506" y="78"/>
                      <a:pt x="506" y="79"/>
                      <a:pt x="506" y="79"/>
                    </a:cubicBezTo>
                    <a:cubicBezTo>
                      <a:pt x="506" y="80"/>
                      <a:pt x="505" y="81"/>
                      <a:pt x="505" y="83"/>
                    </a:cubicBezTo>
                    <a:cubicBezTo>
                      <a:pt x="505" y="82"/>
                      <a:pt x="506" y="81"/>
                      <a:pt x="506" y="80"/>
                    </a:cubicBezTo>
                    <a:cubicBezTo>
                      <a:pt x="507" y="81"/>
                      <a:pt x="507" y="82"/>
                      <a:pt x="508" y="84"/>
                    </a:cubicBezTo>
                    <a:cubicBezTo>
                      <a:pt x="507" y="87"/>
                      <a:pt x="507" y="90"/>
                      <a:pt x="506" y="93"/>
                    </a:cubicBezTo>
                    <a:cubicBezTo>
                      <a:pt x="505" y="91"/>
                      <a:pt x="504" y="89"/>
                      <a:pt x="503" y="87"/>
                    </a:cubicBezTo>
                    <a:close/>
                    <a:moveTo>
                      <a:pt x="508" y="144"/>
                    </a:moveTo>
                    <a:cubicBezTo>
                      <a:pt x="507" y="144"/>
                      <a:pt x="507" y="143"/>
                      <a:pt x="507" y="143"/>
                    </a:cubicBezTo>
                    <a:cubicBezTo>
                      <a:pt x="507" y="140"/>
                      <a:pt x="507" y="136"/>
                      <a:pt x="508" y="131"/>
                    </a:cubicBezTo>
                    <a:cubicBezTo>
                      <a:pt x="509" y="128"/>
                      <a:pt x="509" y="126"/>
                      <a:pt x="509" y="125"/>
                    </a:cubicBezTo>
                    <a:cubicBezTo>
                      <a:pt x="509" y="125"/>
                      <a:pt x="509" y="124"/>
                      <a:pt x="509" y="124"/>
                    </a:cubicBezTo>
                    <a:cubicBezTo>
                      <a:pt x="509" y="124"/>
                      <a:pt x="508" y="124"/>
                      <a:pt x="508" y="124"/>
                    </a:cubicBezTo>
                    <a:cubicBezTo>
                      <a:pt x="508" y="122"/>
                      <a:pt x="508" y="120"/>
                      <a:pt x="509" y="118"/>
                    </a:cubicBezTo>
                    <a:cubicBezTo>
                      <a:pt x="509" y="121"/>
                      <a:pt x="510" y="125"/>
                      <a:pt x="510" y="128"/>
                    </a:cubicBezTo>
                    <a:cubicBezTo>
                      <a:pt x="509" y="136"/>
                      <a:pt x="508" y="141"/>
                      <a:pt x="508" y="144"/>
                    </a:cubicBezTo>
                    <a:close/>
                    <a:moveTo>
                      <a:pt x="514" y="107"/>
                    </a:moveTo>
                    <a:cubicBezTo>
                      <a:pt x="513" y="105"/>
                      <a:pt x="512" y="102"/>
                      <a:pt x="510" y="100"/>
                    </a:cubicBezTo>
                    <a:cubicBezTo>
                      <a:pt x="511" y="97"/>
                      <a:pt x="511" y="95"/>
                      <a:pt x="511" y="93"/>
                    </a:cubicBezTo>
                    <a:cubicBezTo>
                      <a:pt x="512" y="96"/>
                      <a:pt x="514" y="99"/>
                      <a:pt x="515" y="102"/>
                    </a:cubicBezTo>
                    <a:cubicBezTo>
                      <a:pt x="515" y="104"/>
                      <a:pt x="514" y="105"/>
                      <a:pt x="514" y="107"/>
                    </a:cubicBezTo>
                    <a:close/>
                    <a:moveTo>
                      <a:pt x="515" y="159"/>
                    </a:move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5" y="159"/>
                      <a:pt x="515" y="159"/>
                    </a:cubicBezTo>
                    <a:close/>
                    <a:moveTo>
                      <a:pt x="516" y="96"/>
                    </a:moveTo>
                    <a:cubicBezTo>
                      <a:pt x="515" y="93"/>
                      <a:pt x="514" y="91"/>
                      <a:pt x="512" y="88"/>
                    </a:cubicBezTo>
                    <a:cubicBezTo>
                      <a:pt x="515" y="85"/>
                      <a:pt x="517" y="82"/>
                      <a:pt x="518" y="79"/>
                    </a:cubicBezTo>
                    <a:cubicBezTo>
                      <a:pt x="518" y="84"/>
                      <a:pt x="517" y="90"/>
                      <a:pt x="516" y="96"/>
                    </a:cubicBezTo>
                    <a:close/>
                    <a:moveTo>
                      <a:pt x="519" y="75"/>
                    </a:moveTo>
                    <a:cubicBezTo>
                      <a:pt x="517" y="78"/>
                      <a:pt x="514" y="82"/>
                      <a:pt x="512" y="86"/>
                    </a:cubicBezTo>
                    <a:cubicBezTo>
                      <a:pt x="513" y="77"/>
                      <a:pt x="514" y="68"/>
                      <a:pt x="515" y="61"/>
                    </a:cubicBezTo>
                    <a:cubicBezTo>
                      <a:pt x="517" y="58"/>
                      <a:pt x="519" y="55"/>
                      <a:pt x="521" y="53"/>
                    </a:cubicBezTo>
                    <a:cubicBezTo>
                      <a:pt x="521" y="58"/>
                      <a:pt x="520" y="66"/>
                      <a:pt x="519" y="75"/>
                    </a:cubicBezTo>
                    <a:close/>
                    <a:moveTo>
                      <a:pt x="526" y="139"/>
                    </a:moveTo>
                    <a:cubicBezTo>
                      <a:pt x="526" y="139"/>
                      <a:pt x="526" y="139"/>
                      <a:pt x="526" y="139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9"/>
                      <a:pt x="526" y="139"/>
                      <a:pt x="526" y="139"/>
                    </a:cubicBezTo>
                    <a:close/>
                    <a:moveTo>
                      <a:pt x="551" y="137"/>
                    </a:moveTo>
                    <a:cubicBezTo>
                      <a:pt x="551" y="136"/>
                      <a:pt x="550" y="135"/>
                      <a:pt x="550" y="133"/>
                    </a:cubicBezTo>
                    <a:cubicBezTo>
                      <a:pt x="550" y="132"/>
                      <a:pt x="550" y="130"/>
                      <a:pt x="550" y="128"/>
                    </a:cubicBezTo>
                    <a:cubicBezTo>
                      <a:pt x="551" y="131"/>
                      <a:pt x="551" y="133"/>
                      <a:pt x="552" y="135"/>
                    </a:cubicBezTo>
                    <a:cubicBezTo>
                      <a:pt x="552" y="136"/>
                      <a:pt x="552" y="137"/>
                      <a:pt x="551" y="137"/>
                    </a:cubicBezTo>
                    <a:close/>
                    <a:moveTo>
                      <a:pt x="558" y="99"/>
                    </a:moveTo>
                    <a:cubicBezTo>
                      <a:pt x="556" y="95"/>
                      <a:pt x="554" y="92"/>
                      <a:pt x="552" y="90"/>
                    </a:cubicBezTo>
                    <a:cubicBezTo>
                      <a:pt x="554" y="93"/>
                      <a:pt x="556" y="97"/>
                      <a:pt x="557" y="101"/>
                    </a:cubicBezTo>
                    <a:cubicBezTo>
                      <a:pt x="556" y="110"/>
                      <a:pt x="555" y="118"/>
                      <a:pt x="554" y="125"/>
                    </a:cubicBezTo>
                    <a:cubicBezTo>
                      <a:pt x="553" y="122"/>
                      <a:pt x="552" y="119"/>
                      <a:pt x="551" y="116"/>
                    </a:cubicBezTo>
                    <a:cubicBezTo>
                      <a:pt x="551" y="102"/>
                      <a:pt x="552" y="86"/>
                      <a:pt x="553" y="72"/>
                    </a:cubicBezTo>
                    <a:cubicBezTo>
                      <a:pt x="556" y="75"/>
                      <a:pt x="558" y="79"/>
                      <a:pt x="560" y="82"/>
                    </a:cubicBezTo>
                    <a:cubicBezTo>
                      <a:pt x="559" y="88"/>
                      <a:pt x="558" y="93"/>
                      <a:pt x="558" y="99"/>
                    </a:cubicBezTo>
                    <a:close/>
                    <a:moveTo>
                      <a:pt x="561" y="142"/>
                    </a:moveTo>
                    <a:cubicBezTo>
                      <a:pt x="561" y="134"/>
                      <a:pt x="562" y="127"/>
                      <a:pt x="562" y="121"/>
                    </a:cubicBezTo>
                    <a:cubicBezTo>
                      <a:pt x="563" y="123"/>
                      <a:pt x="563" y="125"/>
                      <a:pt x="563" y="127"/>
                    </a:cubicBezTo>
                    <a:cubicBezTo>
                      <a:pt x="562" y="136"/>
                      <a:pt x="561" y="142"/>
                      <a:pt x="561" y="142"/>
                    </a:cubicBezTo>
                    <a:close/>
                    <a:moveTo>
                      <a:pt x="564" y="144"/>
                    </a:moveTo>
                    <a:cubicBezTo>
                      <a:pt x="564" y="142"/>
                      <a:pt x="564" y="140"/>
                      <a:pt x="565" y="137"/>
                    </a:cubicBezTo>
                    <a:cubicBezTo>
                      <a:pt x="565" y="138"/>
                      <a:pt x="565" y="138"/>
                      <a:pt x="565" y="138"/>
                    </a:cubicBezTo>
                    <a:cubicBezTo>
                      <a:pt x="564" y="142"/>
                      <a:pt x="564" y="144"/>
                      <a:pt x="564" y="144"/>
                    </a:cubicBezTo>
                    <a:close/>
                    <a:moveTo>
                      <a:pt x="563" y="110"/>
                    </a:moveTo>
                    <a:cubicBezTo>
                      <a:pt x="563" y="103"/>
                      <a:pt x="564" y="96"/>
                      <a:pt x="564" y="90"/>
                    </a:cubicBezTo>
                    <a:cubicBezTo>
                      <a:pt x="566" y="93"/>
                      <a:pt x="567" y="96"/>
                      <a:pt x="568" y="99"/>
                    </a:cubicBezTo>
                    <a:cubicBezTo>
                      <a:pt x="567" y="105"/>
                      <a:pt x="566" y="111"/>
                      <a:pt x="565" y="116"/>
                    </a:cubicBezTo>
                    <a:cubicBezTo>
                      <a:pt x="564" y="114"/>
                      <a:pt x="564" y="112"/>
                      <a:pt x="563" y="110"/>
                    </a:cubicBezTo>
                    <a:close/>
                    <a:moveTo>
                      <a:pt x="568" y="124"/>
                    </a:moveTo>
                    <a:cubicBezTo>
                      <a:pt x="568" y="123"/>
                      <a:pt x="567" y="122"/>
                      <a:pt x="567" y="121"/>
                    </a:cubicBezTo>
                    <a:cubicBezTo>
                      <a:pt x="568" y="115"/>
                      <a:pt x="568" y="109"/>
                      <a:pt x="569" y="103"/>
                    </a:cubicBezTo>
                    <a:cubicBezTo>
                      <a:pt x="570" y="105"/>
                      <a:pt x="570" y="107"/>
                      <a:pt x="571" y="109"/>
                    </a:cubicBezTo>
                    <a:cubicBezTo>
                      <a:pt x="570" y="114"/>
                      <a:pt x="569" y="119"/>
                      <a:pt x="568" y="124"/>
                    </a:cubicBezTo>
                    <a:close/>
                    <a:moveTo>
                      <a:pt x="574" y="146"/>
                    </a:moveTo>
                    <a:cubicBezTo>
                      <a:pt x="574" y="145"/>
                      <a:pt x="574" y="145"/>
                      <a:pt x="574" y="145"/>
                    </a:cubicBezTo>
                    <a:cubicBezTo>
                      <a:pt x="574" y="144"/>
                      <a:pt x="574" y="143"/>
                      <a:pt x="574" y="142"/>
                    </a:cubicBezTo>
                    <a:cubicBezTo>
                      <a:pt x="574" y="142"/>
                      <a:pt x="574" y="143"/>
                      <a:pt x="574" y="144"/>
                    </a:cubicBezTo>
                    <a:cubicBezTo>
                      <a:pt x="574" y="145"/>
                      <a:pt x="574" y="145"/>
                      <a:pt x="574" y="146"/>
                    </a:cubicBezTo>
                    <a:close/>
                    <a:moveTo>
                      <a:pt x="597" y="118"/>
                    </a:moveTo>
                    <a:cubicBezTo>
                      <a:pt x="596" y="114"/>
                      <a:pt x="595" y="111"/>
                      <a:pt x="593" y="107"/>
                    </a:cubicBezTo>
                    <a:cubicBezTo>
                      <a:pt x="593" y="96"/>
                      <a:pt x="593" y="84"/>
                      <a:pt x="593" y="74"/>
                    </a:cubicBezTo>
                    <a:cubicBezTo>
                      <a:pt x="593" y="70"/>
                      <a:pt x="593" y="67"/>
                      <a:pt x="592" y="65"/>
                    </a:cubicBezTo>
                    <a:cubicBezTo>
                      <a:pt x="593" y="74"/>
                      <a:pt x="597" y="84"/>
                      <a:pt x="600" y="94"/>
                    </a:cubicBezTo>
                    <a:cubicBezTo>
                      <a:pt x="599" y="102"/>
                      <a:pt x="598" y="110"/>
                      <a:pt x="597" y="118"/>
                    </a:cubicBezTo>
                    <a:close/>
                    <a:moveTo>
                      <a:pt x="626" y="124"/>
                    </a:moveTo>
                    <a:cubicBezTo>
                      <a:pt x="626" y="122"/>
                      <a:pt x="625" y="120"/>
                      <a:pt x="625" y="117"/>
                    </a:cubicBezTo>
                    <a:cubicBezTo>
                      <a:pt x="626" y="109"/>
                      <a:pt x="627" y="100"/>
                      <a:pt x="627" y="92"/>
                    </a:cubicBezTo>
                    <a:cubicBezTo>
                      <a:pt x="629" y="96"/>
                      <a:pt x="630" y="100"/>
                      <a:pt x="630" y="104"/>
                    </a:cubicBezTo>
                    <a:cubicBezTo>
                      <a:pt x="629" y="111"/>
                      <a:pt x="627" y="118"/>
                      <a:pt x="626" y="124"/>
                    </a:cubicBezTo>
                    <a:close/>
                    <a:moveTo>
                      <a:pt x="667" y="133"/>
                    </a:moveTo>
                    <a:cubicBezTo>
                      <a:pt x="666" y="130"/>
                      <a:pt x="665" y="126"/>
                      <a:pt x="664" y="122"/>
                    </a:cubicBezTo>
                    <a:cubicBezTo>
                      <a:pt x="664" y="112"/>
                      <a:pt x="665" y="100"/>
                      <a:pt x="665" y="88"/>
                    </a:cubicBezTo>
                    <a:cubicBezTo>
                      <a:pt x="667" y="96"/>
                      <a:pt x="669" y="104"/>
                      <a:pt x="670" y="111"/>
                    </a:cubicBezTo>
                    <a:cubicBezTo>
                      <a:pt x="670" y="117"/>
                      <a:pt x="670" y="117"/>
                      <a:pt x="670" y="117"/>
                    </a:cubicBezTo>
                    <a:cubicBezTo>
                      <a:pt x="668" y="123"/>
                      <a:pt x="667" y="129"/>
                      <a:pt x="667" y="133"/>
                    </a:cubicBezTo>
                    <a:close/>
                    <a:moveTo>
                      <a:pt x="679" y="110"/>
                    </a:moveTo>
                    <a:cubicBezTo>
                      <a:pt x="679" y="113"/>
                      <a:pt x="679" y="116"/>
                      <a:pt x="679" y="119"/>
                    </a:cubicBezTo>
                    <a:cubicBezTo>
                      <a:pt x="678" y="122"/>
                      <a:pt x="678" y="124"/>
                      <a:pt x="677" y="127"/>
                    </a:cubicBezTo>
                    <a:cubicBezTo>
                      <a:pt x="677" y="119"/>
                      <a:pt x="676" y="111"/>
                      <a:pt x="675" y="104"/>
                    </a:cubicBezTo>
                    <a:cubicBezTo>
                      <a:pt x="676" y="98"/>
                      <a:pt x="676" y="91"/>
                      <a:pt x="677" y="86"/>
                    </a:cubicBezTo>
                    <a:cubicBezTo>
                      <a:pt x="679" y="93"/>
                      <a:pt x="679" y="102"/>
                      <a:pt x="679" y="110"/>
                    </a:cubicBezTo>
                    <a:close/>
                    <a:moveTo>
                      <a:pt x="689" y="142"/>
                    </a:moveTo>
                    <a:cubicBezTo>
                      <a:pt x="689" y="142"/>
                      <a:pt x="689" y="141"/>
                      <a:pt x="690" y="138"/>
                    </a:cubicBezTo>
                    <a:cubicBezTo>
                      <a:pt x="691" y="120"/>
                      <a:pt x="690" y="96"/>
                      <a:pt x="689" y="77"/>
                    </a:cubicBezTo>
                    <a:cubicBezTo>
                      <a:pt x="691" y="81"/>
                      <a:pt x="693" y="86"/>
                      <a:pt x="694" y="92"/>
                    </a:cubicBezTo>
                    <a:cubicBezTo>
                      <a:pt x="692" y="108"/>
                      <a:pt x="690" y="129"/>
                      <a:pt x="690" y="138"/>
                    </a:cubicBezTo>
                    <a:cubicBezTo>
                      <a:pt x="690" y="139"/>
                      <a:pt x="689" y="141"/>
                      <a:pt x="689" y="142"/>
                    </a:cubicBezTo>
                    <a:close/>
                    <a:moveTo>
                      <a:pt x="693" y="129"/>
                    </a:moveTo>
                    <a:cubicBezTo>
                      <a:pt x="693" y="119"/>
                      <a:pt x="694" y="107"/>
                      <a:pt x="695" y="97"/>
                    </a:cubicBezTo>
                    <a:cubicBezTo>
                      <a:pt x="695" y="100"/>
                      <a:pt x="695" y="103"/>
                      <a:pt x="695" y="106"/>
                    </a:cubicBezTo>
                    <a:cubicBezTo>
                      <a:pt x="695" y="114"/>
                      <a:pt x="694" y="121"/>
                      <a:pt x="693" y="129"/>
                    </a:cubicBezTo>
                    <a:close/>
                    <a:moveTo>
                      <a:pt x="705" y="125"/>
                    </a:moveTo>
                    <a:cubicBezTo>
                      <a:pt x="705" y="120"/>
                      <a:pt x="705" y="113"/>
                      <a:pt x="705" y="107"/>
                    </a:cubicBezTo>
                    <a:cubicBezTo>
                      <a:pt x="705" y="114"/>
                      <a:pt x="705" y="120"/>
                      <a:pt x="705" y="125"/>
                    </a:cubicBezTo>
                    <a:close/>
                    <a:moveTo>
                      <a:pt x="720" y="112"/>
                    </a:moveTo>
                    <a:cubicBezTo>
                      <a:pt x="720" y="105"/>
                      <a:pt x="720" y="98"/>
                      <a:pt x="719" y="91"/>
                    </a:cubicBezTo>
                    <a:cubicBezTo>
                      <a:pt x="720" y="95"/>
                      <a:pt x="720" y="99"/>
                      <a:pt x="720" y="103"/>
                    </a:cubicBezTo>
                    <a:cubicBezTo>
                      <a:pt x="720" y="106"/>
                      <a:pt x="720" y="109"/>
                      <a:pt x="720" y="112"/>
                    </a:cubicBezTo>
                    <a:close/>
                    <a:moveTo>
                      <a:pt x="730" y="129"/>
                    </a:moveTo>
                    <a:cubicBezTo>
                      <a:pt x="730" y="129"/>
                      <a:pt x="730" y="129"/>
                      <a:pt x="730" y="130"/>
                    </a:cubicBezTo>
                    <a:cubicBezTo>
                      <a:pt x="729" y="132"/>
                      <a:pt x="728" y="134"/>
                      <a:pt x="728" y="137"/>
                    </a:cubicBezTo>
                    <a:cubicBezTo>
                      <a:pt x="728" y="136"/>
                      <a:pt x="728" y="136"/>
                      <a:pt x="728" y="136"/>
                    </a:cubicBezTo>
                    <a:cubicBezTo>
                      <a:pt x="728" y="134"/>
                      <a:pt x="729" y="132"/>
                      <a:pt x="730" y="130"/>
                    </a:cubicBezTo>
                    <a:cubicBezTo>
                      <a:pt x="730" y="129"/>
                      <a:pt x="730" y="129"/>
                      <a:pt x="730" y="129"/>
                    </a:cubicBezTo>
                    <a:cubicBezTo>
                      <a:pt x="730" y="129"/>
                      <a:pt x="730" y="129"/>
                      <a:pt x="730" y="129"/>
                    </a:cubicBezTo>
                    <a:close/>
                    <a:moveTo>
                      <a:pt x="767" y="130"/>
                    </a:moveTo>
                    <a:cubicBezTo>
                      <a:pt x="766" y="132"/>
                      <a:pt x="765" y="134"/>
                      <a:pt x="765" y="136"/>
                    </a:cubicBezTo>
                    <a:cubicBezTo>
                      <a:pt x="764" y="131"/>
                      <a:pt x="764" y="126"/>
                      <a:pt x="764" y="121"/>
                    </a:cubicBezTo>
                    <a:cubicBezTo>
                      <a:pt x="766" y="115"/>
                      <a:pt x="768" y="110"/>
                      <a:pt x="769" y="104"/>
                    </a:cubicBezTo>
                    <a:cubicBezTo>
                      <a:pt x="768" y="114"/>
                      <a:pt x="767" y="123"/>
                      <a:pt x="767" y="130"/>
                    </a:cubicBezTo>
                    <a:close/>
                    <a:moveTo>
                      <a:pt x="782" y="124"/>
                    </a:moveTo>
                    <a:cubicBezTo>
                      <a:pt x="782" y="110"/>
                      <a:pt x="784" y="94"/>
                      <a:pt x="785" y="83"/>
                    </a:cubicBezTo>
                    <a:cubicBezTo>
                      <a:pt x="785" y="87"/>
                      <a:pt x="785" y="91"/>
                      <a:pt x="785" y="95"/>
                    </a:cubicBezTo>
                    <a:cubicBezTo>
                      <a:pt x="785" y="105"/>
                      <a:pt x="784" y="114"/>
                      <a:pt x="782" y="124"/>
                    </a:cubicBezTo>
                    <a:close/>
                    <a:moveTo>
                      <a:pt x="799" y="160"/>
                    </a:move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60"/>
                    </a:cubicBezTo>
                    <a:close/>
                    <a:moveTo>
                      <a:pt x="811" y="116"/>
                    </a:moveTo>
                    <a:cubicBezTo>
                      <a:pt x="810" y="121"/>
                      <a:pt x="808" y="127"/>
                      <a:pt x="806" y="132"/>
                    </a:cubicBezTo>
                    <a:cubicBezTo>
                      <a:pt x="806" y="127"/>
                      <a:pt x="806" y="121"/>
                      <a:pt x="806" y="115"/>
                    </a:cubicBezTo>
                    <a:cubicBezTo>
                      <a:pt x="807" y="110"/>
                      <a:pt x="808" y="104"/>
                      <a:pt x="808" y="98"/>
                    </a:cubicBezTo>
                    <a:cubicBezTo>
                      <a:pt x="808" y="95"/>
                      <a:pt x="807" y="92"/>
                      <a:pt x="807" y="89"/>
                    </a:cubicBezTo>
                    <a:cubicBezTo>
                      <a:pt x="808" y="78"/>
                      <a:pt x="809" y="68"/>
                      <a:pt x="810" y="60"/>
                    </a:cubicBezTo>
                    <a:cubicBezTo>
                      <a:pt x="813" y="68"/>
                      <a:pt x="815" y="78"/>
                      <a:pt x="815" y="87"/>
                    </a:cubicBezTo>
                    <a:cubicBezTo>
                      <a:pt x="814" y="95"/>
                      <a:pt x="813" y="106"/>
                      <a:pt x="811" y="116"/>
                    </a:cubicBezTo>
                    <a:close/>
                    <a:moveTo>
                      <a:pt x="819" y="136"/>
                    </a:moveTo>
                    <a:cubicBezTo>
                      <a:pt x="819" y="137"/>
                      <a:pt x="819" y="138"/>
                      <a:pt x="818" y="139"/>
                    </a:cubicBezTo>
                    <a:cubicBezTo>
                      <a:pt x="818" y="137"/>
                      <a:pt x="818" y="135"/>
                      <a:pt x="818" y="133"/>
                    </a:cubicBezTo>
                    <a:cubicBezTo>
                      <a:pt x="819" y="130"/>
                      <a:pt x="819" y="128"/>
                      <a:pt x="820" y="125"/>
                    </a:cubicBezTo>
                    <a:cubicBezTo>
                      <a:pt x="820" y="129"/>
                      <a:pt x="819" y="133"/>
                      <a:pt x="819" y="136"/>
                    </a:cubicBezTo>
                    <a:close/>
                    <a:moveTo>
                      <a:pt x="835" y="126"/>
                    </a:moveTo>
                    <a:cubicBezTo>
                      <a:pt x="834" y="113"/>
                      <a:pt x="834" y="96"/>
                      <a:pt x="834" y="84"/>
                    </a:cubicBezTo>
                    <a:cubicBezTo>
                      <a:pt x="838" y="90"/>
                      <a:pt x="840" y="100"/>
                      <a:pt x="840" y="104"/>
                    </a:cubicBezTo>
                    <a:cubicBezTo>
                      <a:pt x="840" y="110"/>
                      <a:pt x="838" y="118"/>
                      <a:pt x="835" y="126"/>
                    </a:cubicBezTo>
                    <a:close/>
                    <a:moveTo>
                      <a:pt x="846" y="128"/>
                    </a:moveTo>
                    <a:cubicBezTo>
                      <a:pt x="848" y="113"/>
                      <a:pt x="847" y="91"/>
                      <a:pt x="847" y="76"/>
                    </a:cubicBezTo>
                    <a:cubicBezTo>
                      <a:pt x="849" y="83"/>
                      <a:pt x="851" y="90"/>
                      <a:pt x="851" y="96"/>
                    </a:cubicBezTo>
                    <a:cubicBezTo>
                      <a:pt x="851" y="107"/>
                      <a:pt x="849" y="117"/>
                      <a:pt x="846" y="128"/>
                    </a:cubicBezTo>
                    <a:close/>
                    <a:moveTo>
                      <a:pt x="886" y="112"/>
                    </a:moveTo>
                    <a:cubicBezTo>
                      <a:pt x="886" y="110"/>
                      <a:pt x="886" y="108"/>
                      <a:pt x="886" y="106"/>
                    </a:cubicBezTo>
                    <a:cubicBezTo>
                      <a:pt x="886" y="108"/>
                      <a:pt x="885" y="112"/>
                      <a:pt x="885" y="115"/>
                    </a:cubicBezTo>
                    <a:cubicBezTo>
                      <a:pt x="880" y="131"/>
                      <a:pt x="876" y="144"/>
                      <a:pt x="876" y="144"/>
                    </a:cubicBezTo>
                    <a:cubicBezTo>
                      <a:pt x="877" y="133"/>
                      <a:pt x="881" y="110"/>
                      <a:pt x="886" y="86"/>
                    </a:cubicBezTo>
                    <a:cubicBezTo>
                      <a:pt x="888" y="90"/>
                      <a:pt x="889" y="95"/>
                      <a:pt x="890" y="99"/>
                    </a:cubicBezTo>
                    <a:cubicBezTo>
                      <a:pt x="888" y="103"/>
                      <a:pt x="887" y="108"/>
                      <a:pt x="886" y="112"/>
                    </a:cubicBezTo>
                    <a:close/>
                    <a:moveTo>
                      <a:pt x="899" y="133"/>
                    </a:moveTo>
                    <a:cubicBezTo>
                      <a:pt x="899" y="133"/>
                      <a:pt x="899" y="134"/>
                      <a:pt x="898" y="134"/>
                    </a:cubicBezTo>
                    <a:cubicBezTo>
                      <a:pt x="898" y="134"/>
                      <a:pt x="898" y="134"/>
                      <a:pt x="898" y="134"/>
                    </a:cubicBezTo>
                    <a:cubicBezTo>
                      <a:pt x="898" y="134"/>
                      <a:pt x="899" y="133"/>
                      <a:pt x="899" y="133"/>
                    </a:cubicBezTo>
                    <a:cubicBezTo>
                      <a:pt x="899" y="126"/>
                      <a:pt x="900" y="117"/>
                      <a:pt x="901" y="107"/>
                    </a:cubicBezTo>
                    <a:cubicBezTo>
                      <a:pt x="901" y="110"/>
                      <a:pt x="901" y="114"/>
                      <a:pt x="901" y="117"/>
                    </a:cubicBezTo>
                    <a:cubicBezTo>
                      <a:pt x="900" y="123"/>
                      <a:pt x="899" y="129"/>
                      <a:pt x="899" y="133"/>
                    </a:cubicBezTo>
                    <a:close/>
                    <a:moveTo>
                      <a:pt x="903" y="159"/>
                    </a:move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lose/>
                    <a:moveTo>
                      <a:pt x="944" y="143"/>
                    </a:moveTo>
                    <a:cubicBezTo>
                      <a:pt x="944" y="142"/>
                      <a:pt x="944" y="142"/>
                      <a:pt x="944" y="141"/>
                    </a:cubicBezTo>
                    <a:cubicBezTo>
                      <a:pt x="944" y="135"/>
                      <a:pt x="945" y="127"/>
                      <a:pt x="946" y="117"/>
                    </a:cubicBezTo>
                    <a:cubicBezTo>
                      <a:pt x="946" y="121"/>
                      <a:pt x="946" y="125"/>
                      <a:pt x="946" y="129"/>
                    </a:cubicBezTo>
                    <a:cubicBezTo>
                      <a:pt x="945" y="135"/>
                      <a:pt x="945" y="139"/>
                      <a:pt x="944" y="143"/>
                    </a:cubicBezTo>
                    <a:close/>
                    <a:moveTo>
                      <a:pt x="948" y="117"/>
                    </a:moveTo>
                    <a:cubicBezTo>
                      <a:pt x="947" y="115"/>
                      <a:pt x="947" y="113"/>
                      <a:pt x="946" y="111"/>
                    </a:cubicBezTo>
                    <a:cubicBezTo>
                      <a:pt x="946" y="108"/>
                      <a:pt x="947" y="104"/>
                      <a:pt x="947" y="100"/>
                    </a:cubicBezTo>
                    <a:cubicBezTo>
                      <a:pt x="948" y="103"/>
                      <a:pt x="948" y="106"/>
                      <a:pt x="949" y="108"/>
                    </a:cubicBezTo>
                    <a:cubicBezTo>
                      <a:pt x="948" y="111"/>
                      <a:pt x="948" y="114"/>
                      <a:pt x="948" y="117"/>
                    </a:cubicBezTo>
                    <a:close/>
                    <a:moveTo>
                      <a:pt x="956" y="133"/>
                    </a:moveTo>
                    <a:cubicBezTo>
                      <a:pt x="956" y="133"/>
                      <a:pt x="956" y="133"/>
                      <a:pt x="956" y="133"/>
                    </a:cubicBezTo>
                    <a:cubicBezTo>
                      <a:pt x="957" y="130"/>
                      <a:pt x="957" y="127"/>
                      <a:pt x="957" y="124"/>
                    </a:cubicBezTo>
                    <a:cubicBezTo>
                      <a:pt x="957" y="125"/>
                      <a:pt x="957" y="126"/>
                      <a:pt x="957" y="128"/>
                    </a:cubicBezTo>
                    <a:cubicBezTo>
                      <a:pt x="957" y="130"/>
                      <a:pt x="957" y="131"/>
                      <a:pt x="956" y="133"/>
                    </a:cubicBezTo>
                    <a:close/>
                    <a:moveTo>
                      <a:pt x="993" y="142"/>
                    </a:moveTo>
                    <a:cubicBezTo>
                      <a:pt x="993" y="139"/>
                      <a:pt x="993" y="134"/>
                      <a:pt x="993" y="128"/>
                    </a:cubicBezTo>
                    <a:cubicBezTo>
                      <a:pt x="993" y="130"/>
                      <a:pt x="994" y="132"/>
                      <a:pt x="994" y="133"/>
                    </a:cubicBezTo>
                    <a:cubicBezTo>
                      <a:pt x="993" y="139"/>
                      <a:pt x="993" y="142"/>
                      <a:pt x="993" y="142"/>
                    </a:cubicBezTo>
                    <a:close/>
                    <a:moveTo>
                      <a:pt x="1015" y="135"/>
                    </a:moveTo>
                    <a:cubicBezTo>
                      <a:pt x="1014" y="134"/>
                      <a:pt x="1014" y="134"/>
                      <a:pt x="1014" y="133"/>
                    </a:cubicBezTo>
                    <a:cubicBezTo>
                      <a:pt x="1014" y="121"/>
                      <a:pt x="1014" y="103"/>
                      <a:pt x="1013" y="88"/>
                    </a:cubicBezTo>
                    <a:cubicBezTo>
                      <a:pt x="1015" y="94"/>
                      <a:pt x="1017" y="100"/>
                      <a:pt x="1018" y="106"/>
                    </a:cubicBezTo>
                    <a:cubicBezTo>
                      <a:pt x="1017" y="118"/>
                      <a:pt x="1015" y="128"/>
                      <a:pt x="1015" y="135"/>
                    </a:cubicBezTo>
                    <a:close/>
                    <a:moveTo>
                      <a:pt x="1021" y="145"/>
                    </a:moveTo>
                    <a:cubicBezTo>
                      <a:pt x="1021" y="141"/>
                      <a:pt x="1021" y="136"/>
                      <a:pt x="1022" y="129"/>
                    </a:cubicBezTo>
                    <a:cubicBezTo>
                      <a:pt x="1022" y="133"/>
                      <a:pt x="1022" y="136"/>
                      <a:pt x="1023" y="139"/>
                    </a:cubicBezTo>
                    <a:cubicBezTo>
                      <a:pt x="1022" y="143"/>
                      <a:pt x="1021" y="145"/>
                      <a:pt x="1021" y="145"/>
                    </a:cubicBezTo>
                    <a:close/>
                    <a:moveTo>
                      <a:pt x="1027" y="159"/>
                    </a:moveTo>
                    <a:cubicBezTo>
                      <a:pt x="1027" y="159"/>
                      <a:pt x="1027" y="159"/>
                      <a:pt x="1027" y="159"/>
                    </a:cubicBezTo>
                    <a:cubicBezTo>
                      <a:pt x="1027" y="159"/>
                      <a:pt x="1027" y="158"/>
                      <a:pt x="1027" y="158"/>
                    </a:cubicBezTo>
                    <a:cubicBezTo>
                      <a:pt x="1027" y="159"/>
                      <a:pt x="1028" y="160"/>
                      <a:pt x="1028" y="160"/>
                    </a:cubicBezTo>
                    <a:cubicBezTo>
                      <a:pt x="1028" y="160"/>
                      <a:pt x="1027" y="159"/>
                      <a:pt x="1027" y="159"/>
                    </a:cubicBezTo>
                    <a:close/>
                    <a:moveTo>
                      <a:pt x="1028" y="121"/>
                    </a:moveTo>
                    <a:cubicBezTo>
                      <a:pt x="1026" y="117"/>
                      <a:pt x="1025" y="114"/>
                      <a:pt x="1023" y="110"/>
                    </a:cubicBezTo>
                    <a:cubicBezTo>
                      <a:pt x="1024" y="105"/>
                      <a:pt x="1024" y="99"/>
                      <a:pt x="1025" y="94"/>
                    </a:cubicBezTo>
                    <a:cubicBezTo>
                      <a:pt x="1026" y="100"/>
                      <a:pt x="1027" y="108"/>
                      <a:pt x="1029" y="116"/>
                    </a:cubicBezTo>
                    <a:cubicBezTo>
                      <a:pt x="1029" y="118"/>
                      <a:pt x="1028" y="119"/>
                      <a:pt x="1028" y="121"/>
                    </a:cubicBezTo>
                    <a:close/>
                    <a:moveTo>
                      <a:pt x="1036" y="142"/>
                    </a:moveTo>
                    <a:cubicBezTo>
                      <a:pt x="1035" y="138"/>
                      <a:pt x="1033" y="134"/>
                      <a:pt x="1031" y="129"/>
                    </a:cubicBezTo>
                    <a:cubicBezTo>
                      <a:pt x="1031" y="129"/>
                      <a:pt x="1031" y="128"/>
                      <a:pt x="1032" y="127"/>
                    </a:cubicBezTo>
                    <a:cubicBezTo>
                      <a:pt x="1033" y="132"/>
                      <a:pt x="1035" y="137"/>
                      <a:pt x="1036" y="142"/>
                    </a:cubicBezTo>
                    <a:cubicBezTo>
                      <a:pt x="1039" y="149"/>
                      <a:pt x="1041" y="153"/>
                      <a:pt x="1041" y="155"/>
                    </a:cubicBezTo>
                    <a:cubicBezTo>
                      <a:pt x="1040" y="151"/>
                      <a:pt x="1038" y="147"/>
                      <a:pt x="1036" y="142"/>
                    </a:cubicBezTo>
                    <a:close/>
                    <a:moveTo>
                      <a:pt x="1261" y="88"/>
                    </a:moveTo>
                    <a:cubicBezTo>
                      <a:pt x="1262" y="90"/>
                      <a:pt x="1263" y="93"/>
                      <a:pt x="1263" y="95"/>
                    </a:cubicBezTo>
                    <a:cubicBezTo>
                      <a:pt x="1263" y="94"/>
                      <a:pt x="1262" y="93"/>
                      <a:pt x="1261" y="92"/>
                    </a:cubicBezTo>
                    <a:cubicBezTo>
                      <a:pt x="1261" y="90"/>
                      <a:pt x="1261" y="89"/>
                      <a:pt x="1261" y="88"/>
                    </a:cubicBezTo>
                    <a:close/>
                    <a:moveTo>
                      <a:pt x="1249" y="84"/>
                    </a:moveTo>
                    <a:cubicBezTo>
                      <a:pt x="1252" y="88"/>
                      <a:pt x="1254" y="92"/>
                      <a:pt x="1257" y="96"/>
                    </a:cubicBezTo>
                    <a:cubicBezTo>
                      <a:pt x="1257" y="97"/>
                      <a:pt x="1258" y="99"/>
                      <a:pt x="1258" y="100"/>
                    </a:cubicBezTo>
                    <a:cubicBezTo>
                      <a:pt x="1258" y="104"/>
                      <a:pt x="1257" y="108"/>
                      <a:pt x="1256" y="112"/>
                    </a:cubicBezTo>
                    <a:cubicBezTo>
                      <a:pt x="1254" y="105"/>
                      <a:pt x="1251" y="98"/>
                      <a:pt x="1248" y="92"/>
                    </a:cubicBezTo>
                    <a:cubicBezTo>
                      <a:pt x="1249" y="89"/>
                      <a:pt x="1249" y="86"/>
                      <a:pt x="1249" y="84"/>
                    </a:cubicBezTo>
                    <a:close/>
                    <a:moveTo>
                      <a:pt x="1254" y="111"/>
                    </a:moveTo>
                    <a:cubicBezTo>
                      <a:pt x="1251" y="108"/>
                      <a:pt x="1249" y="105"/>
                      <a:pt x="1247" y="102"/>
                    </a:cubicBezTo>
                    <a:cubicBezTo>
                      <a:pt x="1247" y="99"/>
                      <a:pt x="1248" y="96"/>
                      <a:pt x="1248" y="93"/>
                    </a:cubicBezTo>
                    <a:cubicBezTo>
                      <a:pt x="1250" y="99"/>
                      <a:pt x="1252" y="105"/>
                      <a:pt x="1254" y="111"/>
                    </a:cubicBezTo>
                    <a:close/>
                    <a:moveTo>
                      <a:pt x="1236" y="56"/>
                    </a:moveTo>
                    <a:cubicBezTo>
                      <a:pt x="1241" y="62"/>
                      <a:pt x="1244" y="68"/>
                      <a:pt x="1248" y="74"/>
                    </a:cubicBezTo>
                    <a:cubicBezTo>
                      <a:pt x="1244" y="69"/>
                      <a:pt x="1240" y="64"/>
                      <a:pt x="1236" y="60"/>
                    </a:cubicBezTo>
                    <a:cubicBezTo>
                      <a:pt x="1236" y="59"/>
                      <a:pt x="1236" y="57"/>
                      <a:pt x="1236" y="56"/>
                    </a:cubicBezTo>
                    <a:close/>
                    <a:moveTo>
                      <a:pt x="1235" y="64"/>
                    </a:moveTo>
                    <a:cubicBezTo>
                      <a:pt x="1239" y="69"/>
                      <a:pt x="1243" y="74"/>
                      <a:pt x="1247" y="80"/>
                    </a:cubicBezTo>
                    <a:cubicBezTo>
                      <a:pt x="1246" y="82"/>
                      <a:pt x="1245" y="83"/>
                      <a:pt x="1245" y="85"/>
                    </a:cubicBezTo>
                    <a:cubicBezTo>
                      <a:pt x="1245" y="84"/>
                      <a:pt x="1244" y="83"/>
                      <a:pt x="1244" y="83"/>
                    </a:cubicBezTo>
                    <a:cubicBezTo>
                      <a:pt x="1244" y="83"/>
                      <a:pt x="1245" y="84"/>
                      <a:pt x="1245" y="85"/>
                    </a:cubicBezTo>
                    <a:cubicBezTo>
                      <a:pt x="1244" y="88"/>
                      <a:pt x="1243" y="91"/>
                      <a:pt x="1242" y="94"/>
                    </a:cubicBezTo>
                    <a:cubicBezTo>
                      <a:pt x="1239" y="90"/>
                      <a:pt x="1236" y="85"/>
                      <a:pt x="1233" y="80"/>
                    </a:cubicBezTo>
                    <a:cubicBezTo>
                      <a:pt x="1234" y="75"/>
                      <a:pt x="1235" y="69"/>
                      <a:pt x="1235" y="64"/>
                    </a:cubicBezTo>
                    <a:close/>
                    <a:moveTo>
                      <a:pt x="1226" y="139"/>
                    </a:moveTo>
                    <a:cubicBezTo>
                      <a:pt x="1226" y="120"/>
                      <a:pt x="1229" y="101"/>
                      <a:pt x="1233" y="83"/>
                    </a:cubicBezTo>
                    <a:cubicBezTo>
                      <a:pt x="1235" y="87"/>
                      <a:pt x="1238" y="91"/>
                      <a:pt x="1241" y="95"/>
                    </a:cubicBezTo>
                    <a:cubicBezTo>
                      <a:pt x="1235" y="114"/>
                      <a:pt x="1229" y="133"/>
                      <a:pt x="1227" y="152"/>
                    </a:cubicBezTo>
                    <a:cubicBezTo>
                      <a:pt x="1226" y="148"/>
                      <a:pt x="1226" y="143"/>
                      <a:pt x="1226" y="139"/>
                    </a:cubicBezTo>
                    <a:close/>
                    <a:moveTo>
                      <a:pt x="1245" y="143"/>
                    </a:moveTo>
                    <a:cubicBezTo>
                      <a:pt x="1245" y="142"/>
                      <a:pt x="1244" y="141"/>
                      <a:pt x="1243" y="140"/>
                    </a:cubicBezTo>
                    <a:cubicBezTo>
                      <a:pt x="1244" y="141"/>
                      <a:pt x="1244" y="143"/>
                      <a:pt x="1245" y="144"/>
                    </a:cubicBezTo>
                    <a:cubicBezTo>
                      <a:pt x="1243" y="147"/>
                      <a:pt x="1242" y="149"/>
                      <a:pt x="1241" y="152"/>
                    </a:cubicBezTo>
                    <a:cubicBezTo>
                      <a:pt x="1241" y="146"/>
                      <a:pt x="1242" y="141"/>
                      <a:pt x="1243" y="135"/>
                    </a:cubicBezTo>
                    <a:cubicBezTo>
                      <a:pt x="1244" y="137"/>
                      <a:pt x="1245" y="139"/>
                      <a:pt x="1246" y="142"/>
                    </a:cubicBezTo>
                    <a:cubicBezTo>
                      <a:pt x="1246" y="142"/>
                      <a:pt x="1246" y="142"/>
                      <a:pt x="1245" y="143"/>
                    </a:cubicBezTo>
                    <a:close/>
                    <a:moveTo>
                      <a:pt x="1244" y="127"/>
                    </a:moveTo>
                    <a:cubicBezTo>
                      <a:pt x="1245" y="119"/>
                      <a:pt x="1246" y="111"/>
                      <a:pt x="1247" y="103"/>
                    </a:cubicBezTo>
                    <a:cubicBezTo>
                      <a:pt x="1250" y="107"/>
                      <a:pt x="1253" y="112"/>
                      <a:pt x="1255" y="116"/>
                    </a:cubicBezTo>
                    <a:cubicBezTo>
                      <a:pt x="1254" y="122"/>
                      <a:pt x="1252" y="127"/>
                      <a:pt x="1250" y="133"/>
                    </a:cubicBezTo>
                    <a:cubicBezTo>
                      <a:pt x="1248" y="131"/>
                      <a:pt x="1246" y="128"/>
                      <a:pt x="1244" y="127"/>
                    </a:cubicBezTo>
                    <a:close/>
                    <a:moveTo>
                      <a:pt x="1256" y="140"/>
                    </a:moveTo>
                    <a:cubicBezTo>
                      <a:pt x="1256" y="140"/>
                      <a:pt x="1255" y="140"/>
                      <a:pt x="1255" y="140"/>
                    </a:cubicBezTo>
                    <a:cubicBezTo>
                      <a:pt x="1256" y="135"/>
                      <a:pt x="1257" y="130"/>
                      <a:pt x="1258" y="125"/>
                    </a:cubicBezTo>
                    <a:cubicBezTo>
                      <a:pt x="1258" y="127"/>
                      <a:pt x="1259" y="129"/>
                      <a:pt x="1259" y="130"/>
                    </a:cubicBezTo>
                    <a:cubicBezTo>
                      <a:pt x="1258" y="134"/>
                      <a:pt x="1257" y="137"/>
                      <a:pt x="1256" y="140"/>
                    </a:cubicBezTo>
                    <a:close/>
                    <a:moveTo>
                      <a:pt x="1262" y="122"/>
                    </a:moveTo>
                    <a:cubicBezTo>
                      <a:pt x="1261" y="120"/>
                      <a:pt x="1260" y="119"/>
                      <a:pt x="1259" y="117"/>
                    </a:cubicBezTo>
                    <a:cubicBezTo>
                      <a:pt x="1259" y="114"/>
                      <a:pt x="1260" y="110"/>
                      <a:pt x="1260" y="107"/>
                    </a:cubicBezTo>
                    <a:cubicBezTo>
                      <a:pt x="1261" y="111"/>
                      <a:pt x="1262" y="115"/>
                      <a:pt x="1263" y="120"/>
                    </a:cubicBezTo>
                    <a:cubicBezTo>
                      <a:pt x="1263" y="120"/>
                      <a:pt x="1263" y="121"/>
                      <a:pt x="1262" y="122"/>
                    </a:cubicBezTo>
                    <a:close/>
                    <a:moveTo>
                      <a:pt x="1264" y="151"/>
                    </a:moveTo>
                    <a:cubicBezTo>
                      <a:pt x="1264" y="151"/>
                      <a:pt x="1264" y="151"/>
                      <a:pt x="1264" y="151"/>
                    </a:cubicBezTo>
                    <a:cubicBezTo>
                      <a:pt x="1264" y="150"/>
                      <a:pt x="1264" y="150"/>
                      <a:pt x="1264" y="149"/>
                    </a:cubicBezTo>
                    <a:cubicBezTo>
                      <a:pt x="1264" y="149"/>
                      <a:pt x="1264" y="149"/>
                      <a:pt x="1264" y="149"/>
                    </a:cubicBezTo>
                    <a:cubicBezTo>
                      <a:pt x="1264" y="150"/>
                      <a:pt x="1264" y="150"/>
                      <a:pt x="1264" y="151"/>
                    </a:cubicBezTo>
                    <a:close/>
                    <a:moveTo>
                      <a:pt x="1264" y="118"/>
                    </a:moveTo>
                    <a:cubicBezTo>
                      <a:pt x="1263" y="112"/>
                      <a:pt x="1262" y="107"/>
                      <a:pt x="1261" y="102"/>
                    </a:cubicBezTo>
                    <a:cubicBezTo>
                      <a:pt x="1261" y="102"/>
                      <a:pt x="1261" y="102"/>
                      <a:pt x="1261" y="101"/>
                    </a:cubicBezTo>
                    <a:cubicBezTo>
                      <a:pt x="1263" y="105"/>
                      <a:pt x="1265" y="108"/>
                      <a:pt x="1267" y="112"/>
                    </a:cubicBezTo>
                    <a:cubicBezTo>
                      <a:pt x="1266" y="113"/>
                      <a:pt x="1265" y="115"/>
                      <a:pt x="1265" y="116"/>
                    </a:cubicBezTo>
                    <a:cubicBezTo>
                      <a:pt x="1265" y="117"/>
                      <a:pt x="1264" y="117"/>
                      <a:pt x="1264" y="118"/>
                    </a:cubicBezTo>
                    <a:close/>
                    <a:moveTo>
                      <a:pt x="1267" y="143"/>
                    </a:moveTo>
                    <a:cubicBezTo>
                      <a:pt x="1267" y="143"/>
                      <a:pt x="1266" y="142"/>
                      <a:pt x="1266" y="142"/>
                    </a:cubicBezTo>
                    <a:cubicBezTo>
                      <a:pt x="1267" y="141"/>
                      <a:pt x="1267" y="141"/>
                      <a:pt x="1267" y="140"/>
                    </a:cubicBezTo>
                    <a:cubicBezTo>
                      <a:pt x="1267" y="141"/>
                      <a:pt x="1267" y="141"/>
                      <a:pt x="1267" y="142"/>
                    </a:cubicBezTo>
                    <a:cubicBezTo>
                      <a:pt x="1267" y="142"/>
                      <a:pt x="1267" y="142"/>
                      <a:pt x="1267" y="143"/>
                    </a:cubicBezTo>
                    <a:close/>
                    <a:moveTo>
                      <a:pt x="1272" y="151"/>
                    </a:moveTo>
                    <a:cubicBezTo>
                      <a:pt x="1272" y="151"/>
                      <a:pt x="1272" y="151"/>
                      <a:pt x="1272" y="151"/>
                    </a:cubicBezTo>
                    <a:cubicBezTo>
                      <a:pt x="1272" y="151"/>
                      <a:pt x="1272" y="152"/>
                      <a:pt x="1272" y="152"/>
                    </a:cubicBezTo>
                    <a:cubicBezTo>
                      <a:pt x="1272" y="152"/>
                      <a:pt x="1272" y="152"/>
                      <a:pt x="1272" y="151"/>
                    </a:cubicBezTo>
                    <a:close/>
                    <a:moveTo>
                      <a:pt x="1274" y="126"/>
                    </a:moveTo>
                    <a:cubicBezTo>
                      <a:pt x="1274" y="128"/>
                      <a:pt x="1273" y="129"/>
                      <a:pt x="1272" y="131"/>
                    </a:cubicBezTo>
                    <a:cubicBezTo>
                      <a:pt x="1272" y="129"/>
                      <a:pt x="1272" y="127"/>
                      <a:pt x="1272" y="125"/>
                    </a:cubicBezTo>
                    <a:cubicBezTo>
                      <a:pt x="1272" y="124"/>
                      <a:pt x="1272" y="123"/>
                      <a:pt x="1273" y="122"/>
                    </a:cubicBezTo>
                    <a:cubicBezTo>
                      <a:pt x="1273" y="123"/>
                      <a:pt x="1274" y="124"/>
                      <a:pt x="1274" y="125"/>
                    </a:cubicBezTo>
                    <a:lnTo>
                      <a:pt x="1274" y="126"/>
                    </a:lnTo>
                    <a:close/>
                    <a:moveTo>
                      <a:pt x="1282" y="91"/>
                    </a:moveTo>
                    <a:cubicBezTo>
                      <a:pt x="1282" y="93"/>
                      <a:pt x="1282" y="94"/>
                      <a:pt x="1282" y="96"/>
                    </a:cubicBezTo>
                    <a:cubicBezTo>
                      <a:pt x="1282" y="95"/>
                      <a:pt x="1282" y="94"/>
                      <a:pt x="1281" y="93"/>
                    </a:cubicBezTo>
                    <a:cubicBezTo>
                      <a:pt x="1281" y="93"/>
                      <a:pt x="1282" y="92"/>
                      <a:pt x="1282" y="91"/>
                    </a:cubicBezTo>
                    <a:close/>
                    <a:moveTo>
                      <a:pt x="1280" y="117"/>
                    </a:moveTo>
                    <a:cubicBezTo>
                      <a:pt x="1279" y="113"/>
                      <a:pt x="1278" y="110"/>
                      <a:pt x="1278" y="106"/>
                    </a:cubicBezTo>
                    <a:cubicBezTo>
                      <a:pt x="1278" y="106"/>
                      <a:pt x="1278" y="105"/>
                      <a:pt x="1278" y="104"/>
                    </a:cubicBezTo>
                    <a:cubicBezTo>
                      <a:pt x="1279" y="107"/>
                      <a:pt x="1280" y="111"/>
                      <a:pt x="1281" y="114"/>
                    </a:cubicBezTo>
                    <a:cubicBezTo>
                      <a:pt x="1281" y="115"/>
                      <a:pt x="1280" y="116"/>
                      <a:pt x="1280" y="117"/>
                    </a:cubicBezTo>
                    <a:close/>
                    <a:moveTo>
                      <a:pt x="1283" y="127"/>
                    </a:moveTo>
                    <a:cubicBezTo>
                      <a:pt x="1282" y="127"/>
                      <a:pt x="1282" y="126"/>
                      <a:pt x="1282" y="126"/>
                    </a:cubicBezTo>
                    <a:cubicBezTo>
                      <a:pt x="1282" y="125"/>
                      <a:pt x="1282" y="125"/>
                      <a:pt x="1283" y="124"/>
                    </a:cubicBezTo>
                    <a:cubicBezTo>
                      <a:pt x="1283" y="125"/>
                      <a:pt x="1283" y="126"/>
                      <a:pt x="1283" y="127"/>
                    </a:cubicBezTo>
                    <a:close/>
                    <a:moveTo>
                      <a:pt x="1289" y="141"/>
                    </a:moveTo>
                    <a:cubicBezTo>
                      <a:pt x="1289" y="140"/>
                      <a:pt x="1289" y="140"/>
                      <a:pt x="1289" y="140"/>
                    </a:cubicBezTo>
                    <a:cubicBezTo>
                      <a:pt x="1289" y="139"/>
                      <a:pt x="1289" y="139"/>
                      <a:pt x="1289" y="139"/>
                    </a:cubicBezTo>
                    <a:cubicBezTo>
                      <a:pt x="1289" y="139"/>
                      <a:pt x="1289" y="140"/>
                      <a:pt x="1289" y="141"/>
                    </a:cubicBezTo>
                    <a:close/>
                    <a:moveTo>
                      <a:pt x="1321" y="64"/>
                    </a:moveTo>
                    <a:cubicBezTo>
                      <a:pt x="1322" y="69"/>
                      <a:pt x="1323" y="75"/>
                      <a:pt x="1324" y="80"/>
                    </a:cubicBezTo>
                    <a:cubicBezTo>
                      <a:pt x="1322" y="83"/>
                      <a:pt x="1321" y="85"/>
                      <a:pt x="1319" y="87"/>
                    </a:cubicBezTo>
                    <a:cubicBezTo>
                      <a:pt x="1319" y="86"/>
                      <a:pt x="1318" y="84"/>
                      <a:pt x="1317" y="83"/>
                    </a:cubicBezTo>
                    <a:cubicBezTo>
                      <a:pt x="1318" y="84"/>
                      <a:pt x="1319" y="86"/>
                      <a:pt x="1319" y="87"/>
                    </a:cubicBezTo>
                    <a:cubicBezTo>
                      <a:pt x="1318" y="90"/>
                      <a:pt x="1316" y="92"/>
                      <a:pt x="1315" y="94"/>
                    </a:cubicBezTo>
                    <a:cubicBezTo>
                      <a:pt x="1313" y="89"/>
                      <a:pt x="1312" y="85"/>
                      <a:pt x="1310" y="80"/>
                    </a:cubicBezTo>
                    <a:cubicBezTo>
                      <a:pt x="1314" y="74"/>
                      <a:pt x="1318" y="69"/>
                      <a:pt x="1321" y="64"/>
                    </a:cubicBezTo>
                    <a:close/>
                    <a:moveTo>
                      <a:pt x="1292" y="108"/>
                    </a:moveTo>
                    <a:cubicBezTo>
                      <a:pt x="1293" y="106"/>
                      <a:pt x="1295" y="104"/>
                      <a:pt x="1296" y="101"/>
                    </a:cubicBezTo>
                    <a:cubicBezTo>
                      <a:pt x="1296" y="107"/>
                      <a:pt x="1297" y="112"/>
                      <a:pt x="1298" y="117"/>
                    </a:cubicBezTo>
                    <a:cubicBezTo>
                      <a:pt x="1297" y="119"/>
                      <a:pt x="1295" y="120"/>
                      <a:pt x="1294" y="122"/>
                    </a:cubicBezTo>
                    <a:cubicBezTo>
                      <a:pt x="1294" y="117"/>
                      <a:pt x="1293" y="113"/>
                      <a:pt x="1292" y="108"/>
                    </a:cubicBezTo>
                    <a:close/>
                    <a:moveTo>
                      <a:pt x="1299" y="134"/>
                    </a:moveTo>
                    <a:cubicBezTo>
                      <a:pt x="1298" y="131"/>
                      <a:pt x="1297" y="128"/>
                      <a:pt x="1296" y="126"/>
                    </a:cubicBezTo>
                    <a:cubicBezTo>
                      <a:pt x="1297" y="125"/>
                      <a:pt x="1298" y="123"/>
                      <a:pt x="1298" y="122"/>
                    </a:cubicBezTo>
                    <a:cubicBezTo>
                      <a:pt x="1299" y="124"/>
                      <a:pt x="1299" y="125"/>
                      <a:pt x="1299" y="127"/>
                    </a:cubicBezTo>
                    <a:cubicBezTo>
                      <a:pt x="1299" y="129"/>
                      <a:pt x="1299" y="131"/>
                      <a:pt x="1299" y="134"/>
                    </a:cubicBezTo>
                    <a:close/>
                    <a:moveTo>
                      <a:pt x="1298" y="98"/>
                    </a:moveTo>
                    <a:cubicBezTo>
                      <a:pt x="1298" y="98"/>
                      <a:pt x="1298" y="98"/>
                      <a:pt x="1299" y="97"/>
                    </a:cubicBezTo>
                    <a:cubicBezTo>
                      <a:pt x="1299" y="101"/>
                      <a:pt x="1299" y="105"/>
                      <a:pt x="1299" y="108"/>
                    </a:cubicBezTo>
                    <a:cubicBezTo>
                      <a:pt x="1299" y="105"/>
                      <a:pt x="1298" y="101"/>
                      <a:pt x="1298" y="98"/>
                    </a:cubicBezTo>
                    <a:close/>
                    <a:moveTo>
                      <a:pt x="1298" y="82"/>
                    </a:moveTo>
                    <a:cubicBezTo>
                      <a:pt x="1298" y="78"/>
                      <a:pt x="1298" y="74"/>
                      <a:pt x="1299" y="72"/>
                    </a:cubicBezTo>
                    <a:cubicBezTo>
                      <a:pt x="1301" y="75"/>
                      <a:pt x="1302" y="78"/>
                      <a:pt x="1304" y="80"/>
                    </a:cubicBezTo>
                    <a:cubicBezTo>
                      <a:pt x="1302" y="82"/>
                      <a:pt x="1301" y="84"/>
                      <a:pt x="1299" y="86"/>
                    </a:cubicBezTo>
                    <a:cubicBezTo>
                      <a:pt x="1299" y="85"/>
                      <a:pt x="1298" y="83"/>
                      <a:pt x="1298" y="82"/>
                    </a:cubicBezTo>
                    <a:close/>
                    <a:moveTo>
                      <a:pt x="1302" y="92"/>
                    </a:moveTo>
                    <a:cubicBezTo>
                      <a:pt x="1303" y="90"/>
                      <a:pt x="1305" y="88"/>
                      <a:pt x="1306" y="86"/>
                    </a:cubicBezTo>
                    <a:cubicBezTo>
                      <a:pt x="1307" y="88"/>
                      <a:pt x="1308" y="91"/>
                      <a:pt x="1309" y="93"/>
                    </a:cubicBezTo>
                    <a:cubicBezTo>
                      <a:pt x="1309" y="96"/>
                      <a:pt x="1309" y="99"/>
                      <a:pt x="1310" y="102"/>
                    </a:cubicBezTo>
                    <a:cubicBezTo>
                      <a:pt x="1309" y="104"/>
                      <a:pt x="1308" y="105"/>
                      <a:pt x="1306" y="106"/>
                    </a:cubicBezTo>
                    <a:cubicBezTo>
                      <a:pt x="1305" y="102"/>
                      <a:pt x="1304" y="97"/>
                      <a:pt x="1302" y="92"/>
                    </a:cubicBezTo>
                    <a:close/>
                    <a:moveTo>
                      <a:pt x="1307" y="108"/>
                    </a:moveTo>
                    <a:cubicBezTo>
                      <a:pt x="1308" y="106"/>
                      <a:pt x="1309" y="104"/>
                      <a:pt x="1310" y="103"/>
                    </a:cubicBezTo>
                    <a:cubicBezTo>
                      <a:pt x="1312" y="118"/>
                      <a:pt x="1314" y="133"/>
                      <a:pt x="1316" y="149"/>
                    </a:cubicBezTo>
                    <a:cubicBezTo>
                      <a:pt x="1313" y="137"/>
                      <a:pt x="1311" y="122"/>
                      <a:pt x="1307" y="108"/>
                    </a:cubicBezTo>
                    <a:close/>
                    <a:moveTo>
                      <a:pt x="1315" y="95"/>
                    </a:moveTo>
                    <a:cubicBezTo>
                      <a:pt x="1317" y="93"/>
                      <a:pt x="1318" y="91"/>
                      <a:pt x="1320" y="89"/>
                    </a:cubicBezTo>
                    <a:cubicBezTo>
                      <a:pt x="1326" y="103"/>
                      <a:pt x="1327" y="120"/>
                      <a:pt x="1327" y="136"/>
                    </a:cubicBezTo>
                    <a:cubicBezTo>
                      <a:pt x="1324" y="122"/>
                      <a:pt x="1320" y="109"/>
                      <a:pt x="1315" y="95"/>
                    </a:cubicBezTo>
                    <a:close/>
                    <a:moveTo>
                      <a:pt x="1320" y="89"/>
                    </a:moveTo>
                    <a:cubicBezTo>
                      <a:pt x="1322" y="87"/>
                      <a:pt x="1323" y="85"/>
                      <a:pt x="1324" y="83"/>
                    </a:cubicBezTo>
                    <a:cubicBezTo>
                      <a:pt x="1325" y="90"/>
                      <a:pt x="1327" y="98"/>
                      <a:pt x="1328" y="105"/>
                    </a:cubicBezTo>
                    <a:cubicBezTo>
                      <a:pt x="1325" y="99"/>
                      <a:pt x="1323" y="94"/>
                      <a:pt x="1320" y="89"/>
                    </a:cubicBezTo>
                    <a:close/>
                    <a:moveTo>
                      <a:pt x="1333" y="92"/>
                    </a:moveTo>
                    <a:cubicBezTo>
                      <a:pt x="1331" y="87"/>
                      <a:pt x="1330" y="81"/>
                      <a:pt x="1329" y="74"/>
                    </a:cubicBezTo>
                    <a:cubicBezTo>
                      <a:pt x="1331" y="71"/>
                      <a:pt x="1333" y="68"/>
                      <a:pt x="1334" y="65"/>
                    </a:cubicBezTo>
                    <a:cubicBezTo>
                      <a:pt x="1336" y="69"/>
                      <a:pt x="1339" y="72"/>
                      <a:pt x="1341" y="75"/>
                    </a:cubicBezTo>
                    <a:cubicBezTo>
                      <a:pt x="1341" y="77"/>
                      <a:pt x="1341" y="79"/>
                      <a:pt x="1341" y="81"/>
                    </a:cubicBezTo>
                    <a:cubicBezTo>
                      <a:pt x="1340" y="80"/>
                      <a:pt x="1340" y="80"/>
                      <a:pt x="1339" y="79"/>
                    </a:cubicBezTo>
                    <a:cubicBezTo>
                      <a:pt x="1340" y="80"/>
                      <a:pt x="1340" y="81"/>
                      <a:pt x="1341" y="81"/>
                    </a:cubicBezTo>
                    <a:cubicBezTo>
                      <a:pt x="1340" y="86"/>
                      <a:pt x="1340" y="90"/>
                      <a:pt x="1340" y="91"/>
                    </a:cubicBezTo>
                    <a:cubicBezTo>
                      <a:pt x="1340" y="95"/>
                      <a:pt x="1340" y="100"/>
                      <a:pt x="1341" y="104"/>
                    </a:cubicBezTo>
                    <a:cubicBezTo>
                      <a:pt x="1340" y="101"/>
                      <a:pt x="1340" y="99"/>
                      <a:pt x="1339" y="96"/>
                    </a:cubicBezTo>
                    <a:cubicBezTo>
                      <a:pt x="1340" y="100"/>
                      <a:pt x="1340" y="104"/>
                      <a:pt x="1341" y="108"/>
                    </a:cubicBezTo>
                    <a:cubicBezTo>
                      <a:pt x="1341" y="120"/>
                      <a:pt x="1342" y="132"/>
                      <a:pt x="1342" y="143"/>
                    </a:cubicBezTo>
                    <a:cubicBezTo>
                      <a:pt x="1340" y="126"/>
                      <a:pt x="1337" y="109"/>
                      <a:pt x="1333" y="92"/>
                    </a:cubicBezTo>
                    <a:close/>
                    <a:moveTo>
                      <a:pt x="1356" y="125"/>
                    </a:moveTo>
                    <a:cubicBezTo>
                      <a:pt x="1353" y="116"/>
                      <a:pt x="1351" y="108"/>
                      <a:pt x="1348" y="99"/>
                    </a:cubicBezTo>
                    <a:cubicBezTo>
                      <a:pt x="1346" y="93"/>
                      <a:pt x="1345" y="87"/>
                      <a:pt x="1345" y="82"/>
                    </a:cubicBezTo>
                    <a:cubicBezTo>
                      <a:pt x="1350" y="91"/>
                      <a:pt x="1353" y="100"/>
                      <a:pt x="1356" y="109"/>
                    </a:cubicBezTo>
                    <a:cubicBezTo>
                      <a:pt x="1356" y="114"/>
                      <a:pt x="1356" y="120"/>
                      <a:pt x="1356" y="125"/>
                    </a:cubicBezTo>
                    <a:close/>
                    <a:moveTo>
                      <a:pt x="1356" y="97"/>
                    </a:moveTo>
                    <a:cubicBezTo>
                      <a:pt x="1353" y="90"/>
                      <a:pt x="1349" y="83"/>
                      <a:pt x="1344" y="77"/>
                    </a:cubicBezTo>
                    <a:cubicBezTo>
                      <a:pt x="1344" y="72"/>
                      <a:pt x="1343" y="67"/>
                      <a:pt x="1344" y="63"/>
                    </a:cubicBezTo>
                    <a:cubicBezTo>
                      <a:pt x="1349" y="70"/>
                      <a:pt x="1353" y="77"/>
                      <a:pt x="1357" y="85"/>
                    </a:cubicBezTo>
                    <a:cubicBezTo>
                      <a:pt x="1357" y="89"/>
                      <a:pt x="1357" y="93"/>
                      <a:pt x="1356" y="97"/>
                    </a:cubicBezTo>
                    <a:close/>
                    <a:moveTo>
                      <a:pt x="1366" y="119"/>
                    </a:moveTo>
                    <a:cubicBezTo>
                      <a:pt x="1365" y="110"/>
                      <a:pt x="1363" y="102"/>
                      <a:pt x="1361" y="93"/>
                    </a:cubicBezTo>
                    <a:cubicBezTo>
                      <a:pt x="1363" y="98"/>
                      <a:pt x="1366" y="104"/>
                      <a:pt x="1367" y="109"/>
                    </a:cubicBezTo>
                    <a:cubicBezTo>
                      <a:pt x="1368" y="112"/>
                      <a:pt x="1368" y="114"/>
                      <a:pt x="1369" y="116"/>
                    </a:cubicBezTo>
                    <a:cubicBezTo>
                      <a:pt x="1369" y="120"/>
                      <a:pt x="1369" y="124"/>
                      <a:pt x="1369" y="127"/>
                    </a:cubicBezTo>
                    <a:cubicBezTo>
                      <a:pt x="1368" y="125"/>
                      <a:pt x="1367" y="122"/>
                      <a:pt x="1366" y="119"/>
                    </a:cubicBezTo>
                    <a:close/>
                    <a:moveTo>
                      <a:pt x="1377" y="151"/>
                    </a:moveTo>
                    <a:cubicBezTo>
                      <a:pt x="1377" y="151"/>
                      <a:pt x="1377" y="151"/>
                      <a:pt x="1377" y="151"/>
                    </a:cubicBezTo>
                    <a:cubicBezTo>
                      <a:pt x="1377" y="151"/>
                      <a:pt x="1377" y="150"/>
                      <a:pt x="1377" y="150"/>
                    </a:cubicBezTo>
                    <a:cubicBezTo>
                      <a:pt x="1377" y="150"/>
                      <a:pt x="1377" y="150"/>
                      <a:pt x="1377" y="150"/>
                    </a:cubicBezTo>
                    <a:cubicBezTo>
                      <a:pt x="1377" y="151"/>
                      <a:pt x="1377" y="151"/>
                      <a:pt x="1377" y="151"/>
                    </a:cubicBezTo>
                    <a:close/>
                    <a:moveTo>
                      <a:pt x="1383" y="114"/>
                    </a:moveTo>
                    <a:cubicBezTo>
                      <a:pt x="1381" y="105"/>
                      <a:pt x="1378" y="96"/>
                      <a:pt x="1374" y="88"/>
                    </a:cubicBezTo>
                    <a:cubicBezTo>
                      <a:pt x="1378" y="97"/>
                      <a:pt x="1380" y="110"/>
                      <a:pt x="1382" y="122"/>
                    </a:cubicBezTo>
                    <a:cubicBezTo>
                      <a:pt x="1381" y="127"/>
                      <a:pt x="1380" y="132"/>
                      <a:pt x="1379" y="136"/>
                    </a:cubicBezTo>
                    <a:cubicBezTo>
                      <a:pt x="1378" y="134"/>
                      <a:pt x="1378" y="133"/>
                      <a:pt x="1377" y="131"/>
                    </a:cubicBezTo>
                    <a:cubicBezTo>
                      <a:pt x="1377" y="117"/>
                      <a:pt x="1376" y="102"/>
                      <a:pt x="1374" y="87"/>
                    </a:cubicBezTo>
                    <a:cubicBezTo>
                      <a:pt x="1374" y="87"/>
                      <a:pt x="1374" y="88"/>
                      <a:pt x="1374" y="88"/>
                    </a:cubicBezTo>
                    <a:cubicBezTo>
                      <a:pt x="1374" y="88"/>
                      <a:pt x="1374" y="87"/>
                      <a:pt x="1374" y="87"/>
                    </a:cubicBezTo>
                    <a:cubicBezTo>
                      <a:pt x="1373" y="82"/>
                      <a:pt x="1373" y="78"/>
                      <a:pt x="1372" y="73"/>
                    </a:cubicBezTo>
                    <a:cubicBezTo>
                      <a:pt x="1379" y="81"/>
                      <a:pt x="1383" y="91"/>
                      <a:pt x="1386" y="101"/>
                    </a:cubicBezTo>
                    <a:cubicBezTo>
                      <a:pt x="1385" y="105"/>
                      <a:pt x="1384" y="109"/>
                      <a:pt x="1383" y="114"/>
                    </a:cubicBezTo>
                    <a:close/>
                    <a:moveTo>
                      <a:pt x="1390" y="138"/>
                    </a:moveTo>
                    <a:cubicBezTo>
                      <a:pt x="1389" y="137"/>
                      <a:pt x="1389" y="136"/>
                      <a:pt x="1389" y="135"/>
                    </a:cubicBezTo>
                    <a:cubicBezTo>
                      <a:pt x="1389" y="124"/>
                      <a:pt x="1385" y="112"/>
                      <a:pt x="1386" y="101"/>
                    </a:cubicBezTo>
                    <a:cubicBezTo>
                      <a:pt x="1389" y="110"/>
                      <a:pt x="1391" y="119"/>
                      <a:pt x="1392" y="128"/>
                    </a:cubicBezTo>
                    <a:cubicBezTo>
                      <a:pt x="1391" y="132"/>
                      <a:pt x="1390" y="135"/>
                      <a:pt x="1390" y="138"/>
                    </a:cubicBezTo>
                    <a:close/>
                    <a:moveTo>
                      <a:pt x="1405" y="136"/>
                    </a:moveTo>
                    <a:cubicBezTo>
                      <a:pt x="1405" y="135"/>
                      <a:pt x="1404" y="134"/>
                      <a:pt x="1404" y="133"/>
                    </a:cubicBezTo>
                    <a:cubicBezTo>
                      <a:pt x="1403" y="131"/>
                      <a:pt x="1403" y="129"/>
                      <a:pt x="1402" y="128"/>
                    </a:cubicBezTo>
                    <a:cubicBezTo>
                      <a:pt x="1402" y="127"/>
                      <a:pt x="1402" y="127"/>
                      <a:pt x="1402" y="127"/>
                    </a:cubicBezTo>
                    <a:cubicBezTo>
                      <a:pt x="1403" y="129"/>
                      <a:pt x="1403" y="131"/>
                      <a:pt x="1404" y="133"/>
                    </a:cubicBezTo>
                    <a:cubicBezTo>
                      <a:pt x="1404" y="134"/>
                      <a:pt x="1405" y="135"/>
                      <a:pt x="1405" y="136"/>
                    </a:cubicBezTo>
                    <a:cubicBezTo>
                      <a:pt x="1405" y="136"/>
                      <a:pt x="1405" y="136"/>
                      <a:pt x="1405" y="136"/>
                    </a:cubicBezTo>
                    <a:close/>
                    <a:moveTo>
                      <a:pt x="1406" y="133"/>
                    </a:moveTo>
                    <a:cubicBezTo>
                      <a:pt x="1405" y="129"/>
                      <a:pt x="1404" y="125"/>
                      <a:pt x="1402" y="120"/>
                    </a:cubicBezTo>
                    <a:cubicBezTo>
                      <a:pt x="1402" y="119"/>
                      <a:pt x="1402" y="117"/>
                      <a:pt x="1402" y="115"/>
                    </a:cubicBezTo>
                    <a:cubicBezTo>
                      <a:pt x="1402" y="112"/>
                      <a:pt x="1402" y="109"/>
                      <a:pt x="1403" y="105"/>
                    </a:cubicBezTo>
                    <a:cubicBezTo>
                      <a:pt x="1405" y="112"/>
                      <a:pt x="1406" y="119"/>
                      <a:pt x="1408" y="126"/>
                    </a:cubicBezTo>
                    <a:cubicBezTo>
                      <a:pt x="1407" y="128"/>
                      <a:pt x="1407" y="130"/>
                      <a:pt x="1406" y="133"/>
                    </a:cubicBezTo>
                    <a:close/>
                    <a:moveTo>
                      <a:pt x="1420" y="139"/>
                    </a:moveTo>
                    <a:cubicBezTo>
                      <a:pt x="1420" y="139"/>
                      <a:pt x="1420" y="139"/>
                      <a:pt x="1420" y="139"/>
                    </a:cubicBezTo>
                    <a:cubicBezTo>
                      <a:pt x="1420" y="137"/>
                      <a:pt x="1420" y="135"/>
                      <a:pt x="1420" y="133"/>
                    </a:cubicBezTo>
                    <a:cubicBezTo>
                      <a:pt x="1420" y="134"/>
                      <a:pt x="1420" y="134"/>
                      <a:pt x="1420" y="135"/>
                    </a:cubicBezTo>
                    <a:cubicBezTo>
                      <a:pt x="1420" y="136"/>
                      <a:pt x="1420" y="138"/>
                      <a:pt x="1420" y="139"/>
                    </a:cubicBezTo>
                    <a:close/>
                    <a:moveTo>
                      <a:pt x="1441" y="150"/>
                    </a:moveTo>
                    <a:cubicBezTo>
                      <a:pt x="1440" y="148"/>
                      <a:pt x="1439" y="147"/>
                      <a:pt x="1439" y="146"/>
                    </a:cubicBezTo>
                    <a:cubicBezTo>
                      <a:pt x="1438" y="131"/>
                      <a:pt x="1434" y="116"/>
                      <a:pt x="1432" y="101"/>
                    </a:cubicBezTo>
                    <a:cubicBezTo>
                      <a:pt x="1437" y="115"/>
                      <a:pt x="1439" y="132"/>
                      <a:pt x="1441" y="146"/>
                    </a:cubicBezTo>
                    <a:cubicBezTo>
                      <a:pt x="1441" y="147"/>
                      <a:pt x="1441" y="148"/>
                      <a:pt x="1441" y="150"/>
                    </a:cubicBezTo>
                    <a:close/>
                    <a:moveTo>
                      <a:pt x="1445" y="143"/>
                    </a:moveTo>
                    <a:cubicBezTo>
                      <a:pt x="1445" y="142"/>
                      <a:pt x="1445" y="141"/>
                      <a:pt x="1445" y="140"/>
                    </a:cubicBezTo>
                    <a:cubicBezTo>
                      <a:pt x="1445" y="139"/>
                      <a:pt x="1445" y="139"/>
                      <a:pt x="1445" y="139"/>
                    </a:cubicBezTo>
                    <a:cubicBezTo>
                      <a:pt x="1445" y="140"/>
                      <a:pt x="1445" y="141"/>
                      <a:pt x="1445" y="142"/>
                    </a:cubicBezTo>
                    <a:cubicBezTo>
                      <a:pt x="1445" y="142"/>
                      <a:pt x="1445" y="143"/>
                      <a:pt x="1445" y="143"/>
                    </a:cubicBezTo>
                    <a:close/>
                    <a:moveTo>
                      <a:pt x="1458" y="139"/>
                    </a:moveTo>
                    <a:cubicBezTo>
                      <a:pt x="1457" y="142"/>
                      <a:pt x="1456" y="145"/>
                      <a:pt x="1455" y="147"/>
                    </a:cubicBezTo>
                    <a:cubicBezTo>
                      <a:pt x="1455" y="146"/>
                      <a:pt x="1454" y="145"/>
                      <a:pt x="1454" y="144"/>
                    </a:cubicBezTo>
                    <a:cubicBezTo>
                      <a:pt x="1456" y="132"/>
                      <a:pt x="1456" y="120"/>
                      <a:pt x="1458" y="108"/>
                    </a:cubicBezTo>
                    <a:cubicBezTo>
                      <a:pt x="1460" y="116"/>
                      <a:pt x="1459" y="128"/>
                      <a:pt x="1458" y="139"/>
                    </a:cubicBezTo>
                    <a:close/>
                    <a:moveTo>
                      <a:pt x="1458" y="108"/>
                    </a:moveTo>
                    <a:cubicBezTo>
                      <a:pt x="1459" y="104"/>
                      <a:pt x="1459" y="100"/>
                      <a:pt x="1461" y="97"/>
                    </a:cubicBezTo>
                    <a:cubicBezTo>
                      <a:pt x="1462" y="100"/>
                      <a:pt x="1463" y="103"/>
                      <a:pt x="1464" y="107"/>
                    </a:cubicBezTo>
                    <a:cubicBezTo>
                      <a:pt x="1463" y="112"/>
                      <a:pt x="1463" y="117"/>
                      <a:pt x="1462" y="122"/>
                    </a:cubicBezTo>
                    <a:cubicBezTo>
                      <a:pt x="1460" y="116"/>
                      <a:pt x="1459" y="111"/>
                      <a:pt x="1458" y="108"/>
                    </a:cubicBezTo>
                    <a:close/>
                    <a:moveTo>
                      <a:pt x="1466" y="134"/>
                    </a:moveTo>
                    <a:cubicBezTo>
                      <a:pt x="1465" y="132"/>
                      <a:pt x="1464" y="130"/>
                      <a:pt x="1464" y="128"/>
                    </a:cubicBezTo>
                    <a:cubicBezTo>
                      <a:pt x="1464" y="121"/>
                      <a:pt x="1464" y="114"/>
                      <a:pt x="1464" y="107"/>
                    </a:cubicBezTo>
                    <a:cubicBezTo>
                      <a:pt x="1466" y="113"/>
                      <a:pt x="1467" y="118"/>
                      <a:pt x="1468" y="124"/>
                    </a:cubicBezTo>
                    <a:cubicBezTo>
                      <a:pt x="1467" y="128"/>
                      <a:pt x="1466" y="131"/>
                      <a:pt x="1466" y="134"/>
                    </a:cubicBezTo>
                    <a:close/>
                    <a:moveTo>
                      <a:pt x="1470" y="118"/>
                    </a:moveTo>
                    <a:cubicBezTo>
                      <a:pt x="1468" y="114"/>
                      <a:pt x="1466" y="109"/>
                      <a:pt x="1464" y="105"/>
                    </a:cubicBezTo>
                    <a:cubicBezTo>
                      <a:pt x="1465" y="102"/>
                      <a:pt x="1465" y="99"/>
                      <a:pt x="1466" y="96"/>
                    </a:cubicBezTo>
                    <a:cubicBezTo>
                      <a:pt x="1465" y="99"/>
                      <a:pt x="1465" y="102"/>
                      <a:pt x="1464" y="105"/>
                    </a:cubicBezTo>
                    <a:cubicBezTo>
                      <a:pt x="1463" y="102"/>
                      <a:pt x="1462" y="99"/>
                      <a:pt x="1461" y="96"/>
                    </a:cubicBezTo>
                    <a:cubicBezTo>
                      <a:pt x="1461" y="94"/>
                      <a:pt x="1462" y="91"/>
                      <a:pt x="1463" y="89"/>
                    </a:cubicBezTo>
                    <a:cubicBezTo>
                      <a:pt x="1467" y="95"/>
                      <a:pt x="1470" y="102"/>
                      <a:pt x="1472" y="109"/>
                    </a:cubicBezTo>
                    <a:cubicBezTo>
                      <a:pt x="1472" y="112"/>
                      <a:pt x="1471" y="115"/>
                      <a:pt x="1470" y="118"/>
                    </a:cubicBezTo>
                    <a:close/>
                    <a:moveTo>
                      <a:pt x="1473" y="151"/>
                    </a:moveTo>
                    <a:cubicBezTo>
                      <a:pt x="1473" y="151"/>
                      <a:pt x="1473" y="151"/>
                      <a:pt x="1472" y="151"/>
                    </a:cubicBezTo>
                    <a:cubicBezTo>
                      <a:pt x="1473" y="150"/>
                      <a:pt x="1473" y="148"/>
                      <a:pt x="1473" y="147"/>
                    </a:cubicBezTo>
                    <a:cubicBezTo>
                      <a:pt x="1473" y="147"/>
                      <a:pt x="1473" y="148"/>
                      <a:pt x="1473" y="148"/>
                    </a:cubicBezTo>
                    <a:cubicBezTo>
                      <a:pt x="1473" y="149"/>
                      <a:pt x="1473" y="150"/>
                      <a:pt x="1473" y="151"/>
                    </a:cubicBezTo>
                    <a:close/>
                    <a:moveTo>
                      <a:pt x="1477" y="136"/>
                    </a:moveTo>
                    <a:cubicBezTo>
                      <a:pt x="1476" y="134"/>
                      <a:pt x="1475" y="132"/>
                      <a:pt x="1475" y="130"/>
                    </a:cubicBezTo>
                    <a:cubicBezTo>
                      <a:pt x="1475" y="127"/>
                      <a:pt x="1475" y="123"/>
                      <a:pt x="1476" y="120"/>
                    </a:cubicBezTo>
                    <a:cubicBezTo>
                      <a:pt x="1477" y="123"/>
                      <a:pt x="1478" y="127"/>
                      <a:pt x="1479" y="130"/>
                    </a:cubicBezTo>
                    <a:cubicBezTo>
                      <a:pt x="1478" y="132"/>
                      <a:pt x="1477" y="134"/>
                      <a:pt x="1477" y="136"/>
                    </a:cubicBezTo>
                    <a:close/>
                    <a:moveTo>
                      <a:pt x="1483" y="150"/>
                    </a:moveTo>
                    <a:cubicBezTo>
                      <a:pt x="1483" y="149"/>
                      <a:pt x="1482" y="147"/>
                      <a:pt x="1481" y="146"/>
                    </a:cubicBezTo>
                    <a:cubicBezTo>
                      <a:pt x="1482" y="145"/>
                      <a:pt x="1482" y="145"/>
                      <a:pt x="1482" y="144"/>
                    </a:cubicBezTo>
                    <a:cubicBezTo>
                      <a:pt x="1483" y="146"/>
                      <a:pt x="1483" y="147"/>
                      <a:pt x="1484" y="149"/>
                    </a:cubicBezTo>
                    <a:cubicBezTo>
                      <a:pt x="1484" y="149"/>
                      <a:pt x="1483" y="149"/>
                      <a:pt x="1483" y="150"/>
                    </a:cubicBezTo>
                    <a:close/>
                    <a:moveTo>
                      <a:pt x="1481" y="122"/>
                    </a:moveTo>
                    <a:cubicBezTo>
                      <a:pt x="1480" y="118"/>
                      <a:pt x="1478" y="115"/>
                      <a:pt x="1477" y="111"/>
                    </a:cubicBezTo>
                    <a:cubicBezTo>
                      <a:pt x="1478" y="101"/>
                      <a:pt x="1480" y="90"/>
                      <a:pt x="1484" y="81"/>
                    </a:cubicBezTo>
                    <a:cubicBezTo>
                      <a:pt x="1487" y="86"/>
                      <a:pt x="1490" y="91"/>
                      <a:pt x="1492" y="97"/>
                    </a:cubicBezTo>
                    <a:cubicBezTo>
                      <a:pt x="1490" y="101"/>
                      <a:pt x="1488" y="105"/>
                      <a:pt x="1486" y="109"/>
                    </a:cubicBezTo>
                    <a:cubicBezTo>
                      <a:pt x="1484" y="102"/>
                      <a:pt x="1483" y="96"/>
                      <a:pt x="1481" y="91"/>
                    </a:cubicBezTo>
                    <a:cubicBezTo>
                      <a:pt x="1482" y="99"/>
                      <a:pt x="1483" y="106"/>
                      <a:pt x="1484" y="114"/>
                    </a:cubicBezTo>
                    <a:cubicBezTo>
                      <a:pt x="1483" y="117"/>
                      <a:pt x="1482" y="119"/>
                      <a:pt x="1481" y="122"/>
                    </a:cubicBezTo>
                    <a:close/>
                    <a:moveTo>
                      <a:pt x="1488" y="141"/>
                    </a:moveTo>
                    <a:cubicBezTo>
                      <a:pt x="1487" y="138"/>
                      <a:pt x="1486" y="135"/>
                      <a:pt x="1485" y="131"/>
                    </a:cubicBezTo>
                    <a:cubicBezTo>
                      <a:pt x="1485" y="129"/>
                      <a:pt x="1486" y="127"/>
                      <a:pt x="1486" y="124"/>
                    </a:cubicBezTo>
                    <a:cubicBezTo>
                      <a:pt x="1487" y="130"/>
                      <a:pt x="1488" y="135"/>
                      <a:pt x="1489" y="140"/>
                    </a:cubicBezTo>
                    <a:cubicBezTo>
                      <a:pt x="1489" y="140"/>
                      <a:pt x="1489" y="141"/>
                      <a:pt x="1488" y="141"/>
                    </a:cubicBezTo>
                    <a:close/>
                    <a:moveTo>
                      <a:pt x="1491" y="150"/>
                    </a:moveTo>
                    <a:cubicBezTo>
                      <a:pt x="1491" y="150"/>
                      <a:pt x="1491" y="149"/>
                      <a:pt x="1491" y="149"/>
                    </a:cubicBezTo>
                    <a:cubicBezTo>
                      <a:pt x="1491" y="149"/>
                      <a:pt x="1491" y="149"/>
                      <a:pt x="1491" y="149"/>
                    </a:cubicBezTo>
                    <a:cubicBezTo>
                      <a:pt x="1491" y="149"/>
                      <a:pt x="1491" y="150"/>
                      <a:pt x="1491" y="150"/>
                    </a:cubicBezTo>
                    <a:cubicBezTo>
                      <a:pt x="1491" y="150"/>
                      <a:pt x="1491" y="150"/>
                      <a:pt x="1491" y="150"/>
                    </a:cubicBezTo>
                    <a:close/>
                    <a:moveTo>
                      <a:pt x="1488" y="114"/>
                    </a:moveTo>
                    <a:cubicBezTo>
                      <a:pt x="1489" y="108"/>
                      <a:pt x="1490" y="103"/>
                      <a:pt x="1492" y="97"/>
                    </a:cubicBezTo>
                    <a:cubicBezTo>
                      <a:pt x="1494" y="103"/>
                      <a:pt x="1496" y="110"/>
                      <a:pt x="1498" y="116"/>
                    </a:cubicBezTo>
                    <a:cubicBezTo>
                      <a:pt x="1496" y="121"/>
                      <a:pt x="1495" y="126"/>
                      <a:pt x="1493" y="131"/>
                    </a:cubicBezTo>
                    <a:cubicBezTo>
                      <a:pt x="1491" y="126"/>
                      <a:pt x="1489" y="120"/>
                      <a:pt x="1488" y="114"/>
                    </a:cubicBezTo>
                    <a:close/>
                    <a:moveTo>
                      <a:pt x="1495" y="139"/>
                    </a:moveTo>
                    <a:cubicBezTo>
                      <a:pt x="1497" y="134"/>
                      <a:pt x="1498" y="129"/>
                      <a:pt x="1499" y="124"/>
                    </a:cubicBezTo>
                    <a:cubicBezTo>
                      <a:pt x="1500" y="125"/>
                      <a:pt x="1500" y="126"/>
                      <a:pt x="1500" y="128"/>
                    </a:cubicBezTo>
                    <a:cubicBezTo>
                      <a:pt x="1499" y="132"/>
                      <a:pt x="1497" y="136"/>
                      <a:pt x="1496" y="141"/>
                    </a:cubicBezTo>
                    <a:cubicBezTo>
                      <a:pt x="1496" y="140"/>
                      <a:pt x="1495" y="139"/>
                      <a:pt x="1495" y="139"/>
                    </a:cubicBezTo>
                    <a:close/>
                    <a:moveTo>
                      <a:pt x="1500" y="150"/>
                    </a:moveTo>
                    <a:cubicBezTo>
                      <a:pt x="1500" y="150"/>
                      <a:pt x="1499" y="149"/>
                      <a:pt x="1499" y="149"/>
                    </a:cubicBezTo>
                    <a:cubicBezTo>
                      <a:pt x="1500" y="147"/>
                      <a:pt x="1501" y="144"/>
                      <a:pt x="1502" y="141"/>
                    </a:cubicBezTo>
                    <a:cubicBezTo>
                      <a:pt x="1502" y="143"/>
                      <a:pt x="1503" y="144"/>
                      <a:pt x="1503" y="145"/>
                    </a:cubicBezTo>
                    <a:cubicBezTo>
                      <a:pt x="1502" y="147"/>
                      <a:pt x="1501" y="149"/>
                      <a:pt x="1500" y="150"/>
                    </a:cubicBezTo>
                    <a:close/>
                    <a:moveTo>
                      <a:pt x="1511" y="126"/>
                    </a:moveTo>
                    <a:cubicBezTo>
                      <a:pt x="1510" y="123"/>
                      <a:pt x="1509" y="120"/>
                      <a:pt x="1508" y="117"/>
                    </a:cubicBezTo>
                    <a:cubicBezTo>
                      <a:pt x="1509" y="116"/>
                      <a:pt x="1509" y="115"/>
                      <a:pt x="1509" y="114"/>
                    </a:cubicBezTo>
                    <a:cubicBezTo>
                      <a:pt x="1509" y="116"/>
                      <a:pt x="1510" y="117"/>
                      <a:pt x="1510" y="119"/>
                    </a:cubicBezTo>
                    <a:cubicBezTo>
                      <a:pt x="1511" y="121"/>
                      <a:pt x="1511" y="123"/>
                      <a:pt x="1512" y="125"/>
                    </a:cubicBezTo>
                    <a:cubicBezTo>
                      <a:pt x="1512" y="125"/>
                      <a:pt x="1511" y="125"/>
                      <a:pt x="1511" y="126"/>
                    </a:cubicBezTo>
                    <a:close/>
                    <a:moveTo>
                      <a:pt x="1516" y="142"/>
                    </a:moveTo>
                    <a:cubicBezTo>
                      <a:pt x="1515" y="139"/>
                      <a:pt x="1515" y="136"/>
                      <a:pt x="1514" y="133"/>
                    </a:cubicBezTo>
                    <a:cubicBezTo>
                      <a:pt x="1514" y="133"/>
                      <a:pt x="1514" y="133"/>
                      <a:pt x="1514" y="133"/>
                    </a:cubicBezTo>
                    <a:cubicBezTo>
                      <a:pt x="1515" y="136"/>
                      <a:pt x="1516" y="138"/>
                      <a:pt x="1516" y="141"/>
                    </a:cubicBezTo>
                    <a:cubicBezTo>
                      <a:pt x="1516" y="141"/>
                      <a:pt x="1516" y="141"/>
                      <a:pt x="1516" y="142"/>
                    </a:cubicBezTo>
                    <a:close/>
                    <a:moveTo>
                      <a:pt x="1518" y="148"/>
                    </a:move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lose/>
                    <a:moveTo>
                      <a:pt x="1521" y="141"/>
                    </a:moveTo>
                    <a:cubicBezTo>
                      <a:pt x="1521" y="141"/>
                      <a:pt x="1521" y="141"/>
                      <a:pt x="1521" y="141"/>
                    </a:cubicBezTo>
                    <a:cubicBezTo>
                      <a:pt x="1522" y="137"/>
                      <a:pt x="1523" y="133"/>
                      <a:pt x="1525" y="129"/>
                    </a:cubicBezTo>
                    <a:cubicBezTo>
                      <a:pt x="1525" y="129"/>
                      <a:pt x="1525" y="130"/>
                      <a:pt x="1525" y="131"/>
                    </a:cubicBezTo>
                    <a:cubicBezTo>
                      <a:pt x="1523" y="135"/>
                      <a:pt x="1522" y="138"/>
                      <a:pt x="1521" y="141"/>
                    </a:cubicBezTo>
                    <a:close/>
                    <a:moveTo>
                      <a:pt x="1528" y="122"/>
                    </a:moveTo>
                    <a:cubicBezTo>
                      <a:pt x="1528" y="121"/>
                      <a:pt x="1527" y="120"/>
                      <a:pt x="1527" y="119"/>
                    </a:cubicBezTo>
                    <a:cubicBezTo>
                      <a:pt x="1528" y="117"/>
                      <a:pt x="1528" y="114"/>
                      <a:pt x="1529" y="111"/>
                    </a:cubicBezTo>
                    <a:cubicBezTo>
                      <a:pt x="1530" y="113"/>
                      <a:pt x="1530" y="115"/>
                      <a:pt x="1531" y="117"/>
                    </a:cubicBezTo>
                    <a:cubicBezTo>
                      <a:pt x="1530" y="119"/>
                      <a:pt x="1529" y="121"/>
                      <a:pt x="1528" y="122"/>
                    </a:cubicBezTo>
                    <a:close/>
                    <a:moveTo>
                      <a:pt x="1538" y="147"/>
                    </a:moveTo>
                    <a:cubicBezTo>
                      <a:pt x="1537" y="145"/>
                      <a:pt x="1537" y="144"/>
                      <a:pt x="1536" y="142"/>
                    </a:cubicBezTo>
                    <a:cubicBezTo>
                      <a:pt x="1536" y="140"/>
                      <a:pt x="1535" y="138"/>
                      <a:pt x="1534" y="136"/>
                    </a:cubicBezTo>
                    <a:cubicBezTo>
                      <a:pt x="1534" y="136"/>
                      <a:pt x="1534" y="135"/>
                      <a:pt x="1534" y="134"/>
                    </a:cubicBezTo>
                    <a:cubicBezTo>
                      <a:pt x="1535" y="137"/>
                      <a:pt x="1536" y="139"/>
                      <a:pt x="1536" y="142"/>
                    </a:cubicBezTo>
                    <a:cubicBezTo>
                      <a:pt x="1537" y="143"/>
                      <a:pt x="1537" y="145"/>
                      <a:pt x="1538" y="147"/>
                    </a:cubicBezTo>
                    <a:cubicBezTo>
                      <a:pt x="1538" y="147"/>
                      <a:pt x="1538" y="147"/>
                      <a:pt x="1538" y="147"/>
                    </a:cubicBezTo>
                    <a:close/>
                    <a:moveTo>
                      <a:pt x="1541" y="138"/>
                    </a:moveTo>
                    <a:cubicBezTo>
                      <a:pt x="1539" y="133"/>
                      <a:pt x="1538" y="128"/>
                      <a:pt x="1536" y="124"/>
                    </a:cubicBezTo>
                    <a:cubicBezTo>
                      <a:pt x="1536" y="121"/>
                      <a:pt x="1537" y="118"/>
                      <a:pt x="1537" y="116"/>
                    </a:cubicBezTo>
                    <a:cubicBezTo>
                      <a:pt x="1538" y="123"/>
                      <a:pt x="1540" y="129"/>
                      <a:pt x="1542" y="136"/>
                    </a:cubicBezTo>
                    <a:cubicBezTo>
                      <a:pt x="1542" y="137"/>
                      <a:pt x="1541" y="137"/>
                      <a:pt x="1541" y="138"/>
                    </a:cubicBezTo>
                    <a:close/>
                    <a:moveTo>
                      <a:pt x="1538" y="109"/>
                    </a:moveTo>
                    <a:cubicBezTo>
                      <a:pt x="1539" y="103"/>
                      <a:pt x="1541" y="97"/>
                      <a:pt x="1543" y="91"/>
                    </a:cubicBezTo>
                    <a:cubicBezTo>
                      <a:pt x="1545" y="96"/>
                      <a:pt x="1547" y="101"/>
                      <a:pt x="1549" y="106"/>
                    </a:cubicBezTo>
                    <a:cubicBezTo>
                      <a:pt x="1547" y="112"/>
                      <a:pt x="1546" y="120"/>
                      <a:pt x="1544" y="127"/>
                    </a:cubicBezTo>
                    <a:cubicBezTo>
                      <a:pt x="1542" y="121"/>
                      <a:pt x="1540" y="115"/>
                      <a:pt x="1538" y="109"/>
                    </a:cubicBezTo>
                    <a:close/>
                    <a:moveTo>
                      <a:pt x="1545" y="148"/>
                    </a:move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8"/>
                      <a:pt x="1545" y="148"/>
                    </a:cubicBezTo>
                    <a:close/>
                    <a:moveTo>
                      <a:pt x="1547" y="136"/>
                    </a:moveTo>
                    <a:cubicBezTo>
                      <a:pt x="1549" y="127"/>
                      <a:pt x="1549" y="118"/>
                      <a:pt x="1549" y="109"/>
                    </a:cubicBezTo>
                    <a:cubicBezTo>
                      <a:pt x="1551" y="115"/>
                      <a:pt x="1552" y="121"/>
                      <a:pt x="1553" y="127"/>
                    </a:cubicBezTo>
                    <a:cubicBezTo>
                      <a:pt x="1551" y="131"/>
                      <a:pt x="1550" y="135"/>
                      <a:pt x="1549" y="139"/>
                    </a:cubicBezTo>
                    <a:cubicBezTo>
                      <a:pt x="1548" y="138"/>
                      <a:pt x="1548" y="137"/>
                      <a:pt x="1547" y="136"/>
                    </a:cubicBezTo>
                    <a:close/>
                    <a:moveTo>
                      <a:pt x="1554" y="148"/>
                    </a:moveTo>
                    <a:cubicBezTo>
                      <a:pt x="1553" y="148"/>
                      <a:pt x="1553" y="147"/>
                      <a:pt x="1552" y="146"/>
                    </a:cubicBezTo>
                    <a:cubicBezTo>
                      <a:pt x="1553" y="143"/>
                      <a:pt x="1554" y="140"/>
                      <a:pt x="1554" y="137"/>
                    </a:cubicBezTo>
                    <a:cubicBezTo>
                      <a:pt x="1555" y="140"/>
                      <a:pt x="1555" y="142"/>
                      <a:pt x="1556" y="144"/>
                    </a:cubicBezTo>
                    <a:cubicBezTo>
                      <a:pt x="1555" y="146"/>
                      <a:pt x="1554" y="147"/>
                      <a:pt x="1554" y="148"/>
                    </a:cubicBezTo>
                    <a:close/>
                    <a:moveTo>
                      <a:pt x="1549" y="103"/>
                    </a:moveTo>
                    <a:cubicBezTo>
                      <a:pt x="1549" y="102"/>
                      <a:pt x="1549" y="102"/>
                      <a:pt x="1549" y="102"/>
                    </a:cubicBezTo>
                    <a:cubicBezTo>
                      <a:pt x="1549" y="102"/>
                      <a:pt x="1549" y="103"/>
                      <a:pt x="1549" y="103"/>
                    </a:cubicBezTo>
                    <a:cubicBezTo>
                      <a:pt x="1547" y="98"/>
                      <a:pt x="1545" y="94"/>
                      <a:pt x="1543" y="91"/>
                    </a:cubicBezTo>
                    <a:cubicBezTo>
                      <a:pt x="1544" y="87"/>
                      <a:pt x="1546" y="83"/>
                      <a:pt x="1548" y="80"/>
                    </a:cubicBezTo>
                    <a:cubicBezTo>
                      <a:pt x="1554" y="89"/>
                      <a:pt x="1558" y="99"/>
                      <a:pt x="1560" y="109"/>
                    </a:cubicBezTo>
                    <a:cubicBezTo>
                      <a:pt x="1559" y="112"/>
                      <a:pt x="1557" y="116"/>
                      <a:pt x="1556" y="119"/>
                    </a:cubicBezTo>
                    <a:cubicBezTo>
                      <a:pt x="1554" y="114"/>
                      <a:pt x="1552" y="108"/>
                      <a:pt x="1549" y="103"/>
                    </a:cubicBezTo>
                    <a:close/>
                    <a:moveTo>
                      <a:pt x="1557" y="123"/>
                    </a:moveTo>
                    <a:cubicBezTo>
                      <a:pt x="1558" y="118"/>
                      <a:pt x="1559" y="114"/>
                      <a:pt x="1560" y="110"/>
                    </a:cubicBezTo>
                    <a:cubicBezTo>
                      <a:pt x="1561" y="115"/>
                      <a:pt x="1562" y="120"/>
                      <a:pt x="1563" y="125"/>
                    </a:cubicBezTo>
                    <a:cubicBezTo>
                      <a:pt x="1562" y="128"/>
                      <a:pt x="1561" y="130"/>
                      <a:pt x="1560" y="133"/>
                    </a:cubicBezTo>
                    <a:cubicBezTo>
                      <a:pt x="1559" y="129"/>
                      <a:pt x="1558" y="126"/>
                      <a:pt x="1557" y="123"/>
                    </a:cubicBezTo>
                    <a:close/>
                    <a:moveTo>
                      <a:pt x="1564" y="150"/>
                    </a:moveTo>
                    <a:cubicBezTo>
                      <a:pt x="1564" y="147"/>
                      <a:pt x="1563" y="144"/>
                      <a:pt x="1562" y="140"/>
                    </a:cubicBezTo>
                    <a:cubicBezTo>
                      <a:pt x="1563" y="137"/>
                      <a:pt x="1563" y="135"/>
                      <a:pt x="1563" y="132"/>
                    </a:cubicBezTo>
                    <a:cubicBezTo>
                      <a:pt x="1564" y="137"/>
                      <a:pt x="1564" y="143"/>
                      <a:pt x="1564" y="149"/>
                    </a:cubicBezTo>
                    <a:cubicBezTo>
                      <a:pt x="1564" y="150"/>
                      <a:pt x="1564" y="150"/>
                      <a:pt x="1564" y="150"/>
                    </a:cubicBezTo>
                    <a:close/>
                    <a:moveTo>
                      <a:pt x="1593" y="152"/>
                    </a:moveTo>
                    <a:cubicBezTo>
                      <a:pt x="1593" y="148"/>
                      <a:pt x="1593" y="145"/>
                      <a:pt x="1592" y="141"/>
                    </a:cubicBezTo>
                    <a:cubicBezTo>
                      <a:pt x="1592" y="136"/>
                      <a:pt x="1593" y="131"/>
                      <a:pt x="1593" y="125"/>
                    </a:cubicBezTo>
                    <a:cubicBezTo>
                      <a:pt x="1593" y="134"/>
                      <a:pt x="1593" y="142"/>
                      <a:pt x="1593" y="151"/>
                    </a:cubicBezTo>
                    <a:cubicBezTo>
                      <a:pt x="1593" y="151"/>
                      <a:pt x="1593" y="151"/>
                      <a:pt x="1593" y="152"/>
                    </a:cubicBezTo>
                    <a:close/>
                    <a:moveTo>
                      <a:pt x="1659" y="128"/>
                    </a:moveTo>
                    <a:cubicBezTo>
                      <a:pt x="1659" y="132"/>
                      <a:pt x="1658" y="136"/>
                      <a:pt x="1657" y="140"/>
                    </a:cubicBezTo>
                    <a:cubicBezTo>
                      <a:pt x="1657" y="136"/>
                      <a:pt x="1656" y="133"/>
                      <a:pt x="1655" y="129"/>
                    </a:cubicBezTo>
                    <a:cubicBezTo>
                      <a:pt x="1655" y="126"/>
                      <a:pt x="1655" y="122"/>
                      <a:pt x="1655" y="119"/>
                    </a:cubicBezTo>
                    <a:cubicBezTo>
                      <a:pt x="1655" y="112"/>
                      <a:pt x="1656" y="104"/>
                      <a:pt x="1657" y="97"/>
                    </a:cubicBezTo>
                    <a:cubicBezTo>
                      <a:pt x="1658" y="102"/>
                      <a:pt x="1659" y="107"/>
                      <a:pt x="1659" y="111"/>
                    </a:cubicBezTo>
                    <a:cubicBezTo>
                      <a:pt x="1659" y="122"/>
                      <a:pt x="1659" y="122"/>
                      <a:pt x="1659" y="122"/>
                    </a:cubicBezTo>
                    <a:cubicBezTo>
                      <a:pt x="1659" y="124"/>
                      <a:pt x="1659" y="126"/>
                      <a:pt x="1659" y="128"/>
                    </a:cubicBezTo>
                    <a:close/>
                    <a:moveTo>
                      <a:pt x="1667" y="151"/>
                    </a:move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36"/>
                      <a:pt x="1667" y="123"/>
                      <a:pt x="1666" y="109"/>
                    </a:cubicBezTo>
                    <a:cubicBezTo>
                      <a:pt x="1666" y="104"/>
                      <a:pt x="1667" y="99"/>
                      <a:pt x="1668" y="93"/>
                    </a:cubicBezTo>
                    <a:cubicBezTo>
                      <a:pt x="1669" y="99"/>
                      <a:pt x="1669" y="105"/>
                      <a:pt x="1669" y="110"/>
                    </a:cubicBezTo>
                    <a:cubicBezTo>
                      <a:pt x="1669" y="124"/>
                      <a:pt x="1667" y="138"/>
                      <a:pt x="1667" y="151"/>
                    </a:cubicBezTo>
                    <a:close/>
                    <a:moveTo>
                      <a:pt x="1694" y="110"/>
                    </a:moveTo>
                    <a:cubicBezTo>
                      <a:pt x="1694" y="109"/>
                      <a:pt x="1694" y="107"/>
                      <a:pt x="1694" y="106"/>
                    </a:cubicBezTo>
                    <a:cubicBezTo>
                      <a:pt x="1694" y="110"/>
                      <a:pt x="1695" y="113"/>
                      <a:pt x="1695" y="116"/>
                    </a:cubicBezTo>
                    <a:cubicBezTo>
                      <a:pt x="1694" y="114"/>
                      <a:pt x="1694" y="112"/>
                      <a:pt x="1694" y="110"/>
                    </a:cubicBezTo>
                    <a:close/>
                    <a:moveTo>
                      <a:pt x="1720" y="120"/>
                    </a:moveTo>
                    <a:cubicBezTo>
                      <a:pt x="1718" y="114"/>
                      <a:pt x="1717" y="109"/>
                      <a:pt x="1717" y="104"/>
                    </a:cubicBezTo>
                    <a:cubicBezTo>
                      <a:pt x="1717" y="102"/>
                      <a:pt x="1717" y="98"/>
                      <a:pt x="1719" y="93"/>
                    </a:cubicBezTo>
                    <a:cubicBezTo>
                      <a:pt x="1720" y="100"/>
                      <a:pt x="1720" y="107"/>
                      <a:pt x="1720" y="112"/>
                    </a:cubicBezTo>
                    <a:cubicBezTo>
                      <a:pt x="1720" y="115"/>
                      <a:pt x="1720" y="117"/>
                      <a:pt x="1720" y="120"/>
                    </a:cubicBezTo>
                    <a:close/>
                    <a:moveTo>
                      <a:pt x="1730" y="145"/>
                    </a:moveTo>
                    <a:cubicBezTo>
                      <a:pt x="1730" y="145"/>
                      <a:pt x="1730" y="145"/>
                      <a:pt x="1730" y="144"/>
                    </a:cubicBezTo>
                    <a:cubicBezTo>
                      <a:pt x="1730" y="139"/>
                      <a:pt x="1730" y="134"/>
                      <a:pt x="1730" y="129"/>
                    </a:cubicBezTo>
                    <a:cubicBezTo>
                      <a:pt x="1731" y="132"/>
                      <a:pt x="1731" y="135"/>
                      <a:pt x="1731" y="137"/>
                    </a:cubicBezTo>
                    <a:cubicBezTo>
                      <a:pt x="1731" y="140"/>
                      <a:pt x="1730" y="142"/>
                      <a:pt x="1730" y="145"/>
                    </a:cubicBezTo>
                    <a:close/>
                    <a:moveTo>
                      <a:pt x="1741" y="145"/>
                    </a:moveTo>
                    <a:cubicBezTo>
                      <a:pt x="1741" y="144"/>
                      <a:pt x="1740" y="143"/>
                      <a:pt x="1740" y="143"/>
                    </a:cubicBezTo>
                    <a:cubicBezTo>
                      <a:pt x="1740" y="142"/>
                      <a:pt x="1740" y="141"/>
                      <a:pt x="1740" y="140"/>
                    </a:cubicBezTo>
                    <a:cubicBezTo>
                      <a:pt x="1741" y="141"/>
                      <a:pt x="1741" y="142"/>
                      <a:pt x="1741" y="143"/>
                    </a:cubicBezTo>
                    <a:cubicBezTo>
                      <a:pt x="1741" y="143"/>
                      <a:pt x="1741" y="144"/>
                      <a:pt x="1741" y="145"/>
                    </a:cubicBezTo>
                    <a:close/>
                    <a:moveTo>
                      <a:pt x="1742" y="138"/>
                    </a:moveTo>
                    <a:cubicBezTo>
                      <a:pt x="1742" y="136"/>
                      <a:pt x="1741" y="135"/>
                      <a:pt x="1741" y="133"/>
                    </a:cubicBezTo>
                    <a:cubicBezTo>
                      <a:pt x="1741" y="129"/>
                      <a:pt x="1741" y="124"/>
                      <a:pt x="1741" y="119"/>
                    </a:cubicBezTo>
                    <a:cubicBezTo>
                      <a:pt x="1742" y="124"/>
                      <a:pt x="1743" y="129"/>
                      <a:pt x="1744" y="134"/>
                    </a:cubicBezTo>
                    <a:cubicBezTo>
                      <a:pt x="1743" y="135"/>
                      <a:pt x="1743" y="137"/>
                      <a:pt x="1742" y="138"/>
                    </a:cubicBezTo>
                    <a:close/>
                    <a:moveTo>
                      <a:pt x="1747" y="154"/>
                    </a:moveTo>
                    <a:cubicBezTo>
                      <a:pt x="1747" y="153"/>
                      <a:pt x="1747" y="152"/>
                      <a:pt x="1747" y="151"/>
                    </a:cubicBezTo>
                    <a:cubicBezTo>
                      <a:pt x="1747" y="151"/>
                      <a:pt x="1747" y="150"/>
                      <a:pt x="1747" y="150"/>
                    </a:cubicBezTo>
                    <a:cubicBezTo>
                      <a:pt x="1747" y="151"/>
                      <a:pt x="1747" y="152"/>
                      <a:pt x="1747" y="154"/>
                    </a:cubicBezTo>
                    <a:cubicBezTo>
                      <a:pt x="1747" y="154"/>
                      <a:pt x="1747" y="154"/>
                      <a:pt x="1747" y="154"/>
                    </a:cubicBezTo>
                    <a:close/>
                    <a:moveTo>
                      <a:pt x="1753" y="139"/>
                    </a:moveTo>
                    <a:cubicBezTo>
                      <a:pt x="1752" y="136"/>
                      <a:pt x="1751" y="134"/>
                      <a:pt x="1751" y="132"/>
                    </a:cubicBezTo>
                    <a:cubicBezTo>
                      <a:pt x="1751" y="129"/>
                      <a:pt x="1752" y="127"/>
                      <a:pt x="1753" y="125"/>
                    </a:cubicBezTo>
                    <a:cubicBezTo>
                      <a:pt x="1753" y="128"/>
                      <a:pt x="1754" y="131"/>
                      <a:pt x="1755" y="134"/>
                    </a:cubicBezTo>
                    <a:cubicBezTo>
                      <a:pt x="1754" y="136"/>
                      <a:pt x="1754" y="137"/>
                      <a:pt x="1753" y="139"/>
                    </a:cubicBezTo>
                    <a:close/>
                    <a:moveTo>
                      <a:pt x="1773" y="114"/>
                    </a:moveTo>
                    <a:cubicBezTo>
                      <a:pt x="1772" y="108"/>
                      <a:pt x="1771" y="101"/>
                      <a:pt x="1771" y="95"/>
                    </a:cubicBezTo>
                    <a:cubicBezTo>
                      <a:pt x="1771" y="88"/>
                      <a:pt x="1772" y="81"/>
                      <a:pt x="1773" y="75"/>
                    </a:cubicBezTo>
                    <a:cubicBezTo>
                      <a:pt x="1775" y="81"/>
                      <a:pt x="1775" y="88"/>
                      <a:pt x="1775" y="95"/>
                    </a:cubicBezTo>
                    <a:cubicBezTo>
                      <a:pt x="1775" y="101"/>
                      <a:pt x="1774" y="108"/>
                      <a:pt x="1773" y="114"/>
                    </a:cubicBezTo>
                    <a:close/>
                    <a:moveTo>
                      <a:pt x="1793" y="139"/>
                    </a:moveTo>
                    <a:cubicBezTo>
                      <a:pt x="1793" y="137"/>
                      <a:pt x="1792" y="136"/>
                      <a:pt x="1792" y="134"/>
                    </a:cubicBezTo>
                    <a:cubicBezTo>
                      <a:pt x="1792" y="131"/>
                      <a:pt x="1793" y="128"/>
                      <a:pt x="1794" y="125"/>
                    </a:cubicBezTo>
                    <a:cubicBezTo>
                      <a:pt x="1794" y="127"/>
                      <a:pt x="1795" y="129"/>
                      <a:pt x="1796" y="132"/>
                    </a:cubicBezTo>
                    <a:cubicBezTo>
                      <a:pt x="1795" y="134"/>
                      <a:pt x="1794" y="136"/>
                      <a:pt x="1793" y="139"/>
                    </a:cubicBezTo>
                    <a:close/>
                    <a:moveTo>
                      <a:pt x="1799" y="154"/>
                    </a:moveTo>
                    <a:cubicBezTo>
                      <a:pt x="1799" y="154"/>
                      <a:pt x="1799" y="154"/>
                      <a:pt x="1799" y="154"/>
                    </a:cubicBezTo>
                    <a:cubicBezTo>
                      <a:pt x="1799" y="152"/>
                      <a:pt x="1799" y="151"/>
                      <a:pt x="1800" y="150"/>
                    </a:cubicBezTo>
                    <a:cubicBezTo>
                      <a:pt x="1800" y="150"/>
                      <a:pt x="1800" y="151"/>
                      <a:pt x="1800" y="151"/>
                    </a:cubicBezTo>
                    <a:cubicBezTo>
                      <a:pt x="1799" y="152"/>
                      <a:pt x="1799" y="153"/>
                      <a:pt x="1799" y="154"/>
                    </a:cubicBezTo>
                    <a:close/>
                    <a:moveTo>
                      <a:pt x="1805" y="119"/>
                    </a:move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19"/>
                    </a:cubicBezTo>
                    <a:close/>
                    <a:moveTo>
                      <a:pt x="1804" y="138"/>
                    </a:moveTo>
                    <a:cubicBezTo>
                      <a:pt x="1804" y="137"/>
                      <a:pt x="1803" y="135"/>
                      <a:pt x="1803" y="134"/>
                    </a:cubicBezTo>
                    <a:cubicBezTo>
                      <a:pt x="1803" y="134"/>
                      <a:pt x="1803" y="134"/>
                      <a:pt x="1803" y="133"/>
                    </a:cubicBezTo>
                    <a:cubicBezTo>
                      <a:pt x="1803" y="134"/>
                      <a:pt x="1804" y="135"/>
                      <a:pt x="1804" y="137"/>
                    </a:cubicBezTo>
                    <a:cubicBezTo>
                      <a:pt x="1804" y="137"/>
                      <a:pt x="1804" y="138"/>
                      <a:pt x="1804" y="138"/>
                    </a:cubicBezTo>
                    <a:close/>
                    <a:moveTo>
                      <a:pt x="1803" y="133"/>
                    </a:moveTo>
                    <a:cubicBezTo>
                      <a:pt x="1803" y="132"/>
                      <a:pt x="1803" y="131"/>
                      <a:pt x="1803" y="130"/>
                    </a:cubicBezTo>
                    <a:cubicBezTo>
                      <a:pt x="1804" y="131"/>
                      <a:pt x="1805" y="133"/>
                      <a:pt x="1805" y="134"/>
                    </a:cubicBezTo>
                    <a:cubicBezTo>
                      <a:pt x="1805" y="135"/>
                      <a:pt x="1805" y="135"/>
                      <a:pt x="1805" y="136"/>
                    </a:cubicBezTo>
                    <a:cubicBezTo>
                      <a:pt x="1804" y="134"/>
                      <a:pt x="1803" y="133"/>
                      <a:pt x="1803" y="133"/>
                    </a:cubicBezTo>
                    <a:close/>
                    <a:moveTo>
                      <a:pt x="1806" y="145"/>
                    </a:moveTo>
                    <a:cubicBezTo>
                      <a:pt x="1805" y="144"/>
                      <a:pt x="1805" y="143"/>
                      <a:pt x="1805" y="143"/>
                    </a:cubicBezTo>
                    <a:cubicBezTo>
                      <a:pt x="1805" y="142"/>
                      <a:pt x="1806" y="141"/>
                      <a:pt x="1806" y="140"/>
                    </a:cubicBezTo>
                    <a:cubicBezTo>
                      <a:pt x="1806" y="140"/>
                      <a:pt x="1806" y="140"/>
                      <a:pt x="1806" y="140"/>
                    </a:cubicBezTo>
                    <a:cubicBezTo>
                      <a:pt x="1806" y="141"/>
                      <a:pt x="1806" y="142"/>
                      <a:pt x="1806" y="143"/>
                    </a:cubicBezTo>
                    <a:cubicBezTo>
                      <a:pt x="1806" y="143"/>
                      <a:pt x="1806" y="144"/>
                      <a:pt x="1806" y="145"/>
                    </a:cubicBezTo>
                    <a:close/>
                    <a:moveTo>
                      <a:pt x="1816" y="134"/>
                    </a:moveTo>
                    <a:cubicBezTo>
                      <a:pt x="1816" y="134"/>
                      <a:pt x="1816" y="133"/>
                      <a:pt x="1816" y="133"/>
                    </a:cubicBezTo>
                    <a:cubicBezTo>
                      <a:pt x="1816" y="132"/>
                      <a:pt x="1816" y="130"/>
                      <a:pt x="1816" y="129"/>
                    </a:cubicBezTo>
                    <a:cubicBezTo>
                      <a:pt x="1816" y="130"/>
                      <a:pt x="1816" y="132"/>
                      <a:pt x="1816" y="134"/>
                    </a:cubicBezTo>
                    <a:close/>
                    <a:moveTo>
                      <a:pt x="1826" y="120"/>
                    </a:moveTo>
                    <a:cubicBezTo>
                      <a:pt x="1826" y="117"/>
                      <a:pt x="1826" y="115"/>
                      <a:pt x="1826" y="112"/>
                    </a:cubicBezTo>
                    <a:cubicBezTo>
                      <a:pt x="1826" y="111"/>
                      <a:pt x="1826" y="111"/>
                      <a:pt x="1826" y="110"/>
                    </a:cubicBezTo>
                    <a:cubicBezTo>
                      <a:pt x="1826" y="113"/>
                      <a:pt x="1826" y="116"/>
                      <a:pt x="1827" y="119"/>
                    </a:cubicBezTo>
                    <a:cubicBezTo>
                      <a:pt x="1827" y="119"/>
                      <a:pt x="1826" y="120"/>
                      <a:pt x="1826" y="120"/>
                    </a:cubicBezTo>
                    <a:close/>
                    <a:moveTo>
                      <a:pt x="1828" y="115"/>
                    </a:moveTo>
                    <a:cubicBezTo>
                      <a:pt x="1827" y="112"/>
                      <a:pt x="1827" y="108"/>
                      <a:pt x="1826" y="104"/>
                    </a:cubicBezTo>
                    <a:cubicBezTo>
                      <a:pt x="1827" y="101"/>
                      <a:pt x="1827" y="97"/>
                      <a:pt x="1828" y="93"/>
                    </a:cubicBezTo>
                    <a:cubicBezTo>
                      <a:pt x="1829" y="98"/>
                      <a:pt x="1829" y="102"/>
                      <a:pt x="1829" y="104"/>
                    </a:cubicBezTo>
                    <a:cubicBezTo>
                      <a:pt x="1829" y="108"/>
                      <a:pt x="1829" y="111"/>
                      <a:pt x="1828" y="115"/>
                    </a:cubicBezTo>
                    <a:close/>
                    <a:moveTo>
                      <a:pt x="1833" y="102"/>
                    </a:moveTo>
                    <a:cubicBezTo>
                      <a:pt x="1833" y="102"/>
                      <a:pt x="1833" y="102"/>
                      <a:pt x="1832" y="103"/>
                    </a:cubicBezTo>
                    <a:cubicBezTo>
                      <a:pt x="1832" y="99"/>
                      <a:pt x="1831" y="94"/>
                      <a:pt x="1828" y="90"/>
                    </a:cubicBezTo>
                    <a:cubicBezTo>
                      <a:pt x="1830" y="84"/>
                      <a:pt x="1832" y="78"/>
                      <a:pt x="1834" y="73"/>
                    </a:cubicBezTo>
                    <a:cubicBezTo>
                      <a:pt x="1833" y="83"/>
                      <a:pt x="1833" y="93"/>
                      <a:pt x="1833" y="102"/>
                    </a:cubicBezTo>
                    <a:close/>
                    <a:moveTo>
                      <a:pt x="1839" y="111"/>
                    </a:moveTo>
                    <a:cubicBezTo>
                      <a:pt x="1839" y="111"/>
                      <a:pt x="1839" y="111"/>
                      <a:pt x="1839" y="111"/>
                    </a:cubicBezTo>
                    <a:cubicBezTo>
                      <a:pt x="1839" y="114"/>
                      <a:pt x="1838" y="116"/>
                      <a:pt x="1838" y="119"/>
                    </a:cubicBezTo>
                    <a:cubicBezTo>
                      <a:pt x="1837" y="114"/>
                      <a:pt x="1837" y="108"/>
                      <a:pt x="1837" y="103"/>
                    </a:cubicBezTo>
                    <a:cubicBezTo>
                      <a:pt x="1837" y="97"/>
                      <a:pt x="1837" y="91"/>
                      <a:pt x="1839" y="85"/>
                    </a:cubicBezTo>
                    <a:cubicBezTo>
                      <a:pt x="1838" y="87"/>
                      <a:pt x="1837" y="89"/>
                      <a:pt x="1836" y="92"/>
                    </a:cubicBezTo>
                    <a:cubicBezTo>
                      <a:pt x="1836" y="87"/>
                      <a:pt x="1836" y="82"/>
                      <a:pt x="1837" y="77"/>
                    </a:cubicBezTo>
                    <a:cubicBezTo>
                      <a:pt x="1839" y="83"/>
                      <a:pt x="1840" y="90"/>
                      <a:pt x="1840" y="96"/>
                    </a:cubicBezTo>
                    <a:cubicBezTo>
                      <a:pt x="1840" y="101"/>
                      <a:pt x="1840" y="106"/>
                      <a:pt x="1839" y="111"/>
                    </a:cubicBezTo>
                    <a:close/>
                    <a:moveTo>
                      <a:pt x="1845" y="127"/>
                    </a:moveTo>
                    <a:cubicBezTo>
                      <a:pt x="1844" y="132"/>
                      <a:pt x="1844" y="134"/>
                      <a:pt x="1844" y="134"/>
                    </a:cubicBezTo>
                    <a:cubicBezTo>
                      <a:pt x="1844" y="129"/>
                      <a:pt x="1845" y="125"/>
                      <a:pt x="1845" y="120"/>
                    </a:cubicBezTo>
                    <a:cubicBezTo>
                      <a:pt x="1845" y="123"/>
                      <a:pt x="1845" y="125"/>
                      <a:pt x="1845" y="127"/>
                    </a:cubicBezTo>
                    <a:close/>
                    <a:moveTo>
                      <a:pt x="1877" y="92"/>
                    </a:moveTo>
                    <a:cubicBezTo>
                      <a:pt x="1877" y="91"/>
                      <a:pt x="1877" y="90"/>
                      <a:pt x="1877" y="89"/>
                    </a:cubicBezTo>
                    <a:cubicBezTo>
                      <a:pt x="1877" y="89"/>
                      <a:pt x="1877" y="90"/>
                      <a:pt x="1877" y="91"/>
                    </a:cubicBezTo>
                    <a:cubicBezTo>
                      <a:pt x="1877" y="91"/>
                      <a:pt x="1877" y="92"/>
                      <a:pt x="1877" y="92"/>
                    </a:cubicBezTo>
                    <a:close/>
                    <a:moveTo>
                      <a:pt x="1880" y="130"/>
                    </a:moveTo>
                    <a:cubicBezTo>
                      <a:pt x="1879" y="132"/>
                      <a:pt x="1879" y="134"/>
                      <a:pt x="1879" y="136"/>
                    </a:cubicBezTo>
                    <a:cubicBezTo>
                      <a:pt x="1878" y="127"/>
                      <a:pt x="1877" y="119"/>
                      <a:pt x="1877" y="110"/>
                    </a:cubicBezTo>
                    <a:cubicBezTo>
                      <a:pt x="1877" y="105"/>
                      <a:pt x="1877" y="99"/>
                      <a:pt x="1878" y="93"/>
                    </a:cubicBezTo>
                    <a:cubicBezTo>
                      <a:pt x="1879" y="99"/>
                      <a:pt x="1880" y="104"/>
                      <a:pt x="1881" y="109"/>
                    </a:cubicBezTo>
                    <a:cubicBezTo>
                      <a:pt x="1880" y="116"/>
                      <a:pt x="1880" y="123"/>
                      <a:pt x="1880" y="130"/>
                    </a:cubicBezTo>
                    <a:close/>
                    <a:moveTo>
                      <a:pt x="1889" y="140"/>
                    </a:moveTo>
                    <a:cubicBezTo>
                      <a:pt x="1889" y="140"/>
                      <a:pt x="1889" y="139"/>
                      <a:pt x="1889" y="139"/>
                    </a:cubicBezTo>
                    <a:cubicBezTo>
                      <a:pt x="1890" y="100"/>
                      <a:pt x="1890" y="100"/>
                      <a:pt x="1890" y="100"/>
                    </a:cubicBezTo>
                    <a:cubicBezTo>
                      <a:pt x="1890" y="106"/>
                      <a:pt x="1891" y="113"/>
                      <a:pt x="1891" y="119"/>
                    </a:cubicBezTo>
                    <a:cubicBezTo>
                      <a:pt x="1891" y="122"/>
                      <a:pt x="1891" y="126"/>
                      <a:pt x="1891" y="129"/>
                    </a:cubicBezTo>
                    <a:cubicBezTo>
                      <a:pt x="1890" y="133"/>
                      <a:pt x="1890" y="136"/>
                      <a:pt x="1889" y="140"/>
                    </a:cubicBezTo>
                    <a:close/>
                    <a:moveTo>
                      <a:pt x="1910" y="105"/>
                    </a:moveTo>
                    <a:cubicBezTo>
                      <a:pt x="1910" y="104"/>
                      <a:pt x="1910" y="102"/>
                      <a:pt x="1910" y="101"/>
                    </a:cubicBezTo>
                    <a:cubicBezTo>
                      <a:pt x="1910" y="102"/>
                      <a:pt x="1911" y="103"/>
                      <a:pt x="1911" y="103"/>
                    </a:cubicBezTo>
                    <a:cubicBezTo>
                      <a:pt x="1910" y="104"/>
                      <a:pt x="1910" y="105"/>
                      <a:pt x="1910" y="105"/>
                    </a:cubicBezTo>
                    <a:close/>
                    <a:moveTo>
                      <a:pt x="1933" y="101"/>
                    </a:moveTo>
                    <a:cubicBezTo>
                      <a:pt x="1932" y="101"/>
                      <a:pt x="1932" y="101"/>
                      <a:pt x="1932" y="100"/>
                    </a:cubicBezTo>
                    <a:cubicBezTo>
                      <a:pt x="1932" y="101"/>
                      <a:pt x="1932" y="101"/>
                      <a:pt x="1933" y="101"/>
                    </a:cubicBezTo>
                    <a:cubicBezTo>
                      <a:pt x="1932" y="111"/>
                      <a:pt x="1931" y="119"/>
                      <a:pt x="1930" y="126"/>
                    </a:cubicBezTo>
                    <a:cubicBezTo>
                      <a:pt x="1929" y="122"/>
                      <a:pt x="1929" y="118"/>
                      <a:pt x="1928" y="114"/>
                    </a:cubicBezTo>
                    <a:cubicBezTo>
                      <a:pt x="1928" y="109"/>
                      <a:pt x="1928" y="103"/>
                      <a:pt x="1928" y="98"/>
                    </a:cubicBezTo>
                    <a:cubicBezTo>
                      <a:pt x="1929" y="92"/>
                      <a:pt x="1931" y="87"/>
                      <a:pt x="1934" y="82"/>
                    </a:cubicBezTo>
                    <a:cubicBezTo>
                      <a:pt x="1933" y="89"/>
                      <a:pt x="1933" y="95"/>
                      <a:pt x="1933" y="101"/>
                    </a:cubicBezTo>
                    <a:close/>
                    <a:moveTo>
                      <a:pt x="1942" y="117"/>
                    </a:moveTo>
                    <a:cubicBezTo>
                      <a:pt x="1942" y="114"/>
                      <a:pt x="1942" y="110"/>
                      <a:pt x="1942" y="106"/>
                    </a:cubicBezTo>
                    <a:cubicBezTo>
                      <a:pt x="1942" y="99"/>
                      <a:pt x="1942" y="90"/>
                      <a:pt x="1945" y="83"/>
                    </a:cubicBezTo>
                    <a:cubicBezTo>
                      <a:pt x="1944" y="95"/>
                      <a:pt x="1943" y="107"/>
                      <a:pt x="1942" y="117"/>
                    </a:cubicBezTo>
                    <a:close/>
                    <a:moveTo>
                      <a:pt x="1948" y="108"/>
                    </a:moveTo>
                    <a:cubicBezTo>
                      <a:pt x="1948" y="106"/>
                      <a:pt x="1948" y="104"/>
                      <a:pt x="1949" y="102"/>
                    </a:cubicBezTo>
                    <a:cubicBezTo>
                      <a:pt x="1949" y="102"/>
                      <a:pt x="1949" y="102"/>
                      <a:pt x="1949" y="103"/>
                    </a:cubicBezTo>
                    <a:cubicBezTo>
                      <a:pt x="1949" y="104"/>
                      <a:pt x="1948" y="106"/>
                      <a:pt x="1948" y="108"/>
                    </a:cubicBezTo>
                    <a:close/>
                    <a:moveTo>
                      <a:pt x="1954" y="111"/>
                    </a:moveTo>
                    <a:cubicBezTo>
                      <a:pt x="1954" y="103"/>
                      <a:pt x="1957" y="95"/>
                      <a:pt x="1959" y="87"/>
                    </a:cubicBezTo>
                    <a:cubicBezTo>
                      <a:pt x="1958" y="95"/>
                      <a:pt x="1956" y="104"/>
                      <a:pt x="1954" y="113"/>
                    </a:cubicBezTo>
                    <a:cubicBezTo>
                      <a:pt x="1954" y="112"/>
                      <a:pt x="1954" y="112"/>
                      <a:pt x="1954" y="111"/>
                    </a:cubicBezTo>
                    <a:close/>
                    <a:moveTo>
                      <a:pt x="1978" y="110"/>
                    </a:moveTo>
                    <a:cubicBezTo>
                      <a:pt x="1978" y="109"/>
                      <a:pt x="1978" y="108"/>
                      <a:pt x="1978" y="107"/>
                    </a:cubicBezTo>
                    <a:cubicBezTo>
                      <a:pt x="1978" y="107"/>
                      <a:pt x="1978" y="108"/>
                      <a:pt x="1978" y="108"/>
                    </a:cubicBezTo>
                    <a:cubicBezTo>
                      <a:pt x="1978" y="109"/>
                      <a:pt x="1978" y="109"/>
                      <a:pt x="1978" y="110"/>
                    </a:cubicBezTo>
                    <a:close/>
                    <a:moveTo>
                      <a:pt x="1989" y="125"/>
                    </a:moveTo>
                    <a:cubicBezTo>
                      <a:pt x="1989" y="123"/>
                      <a:pt x="1989" y="122"/>
                      <a:pt x="1989" y="120"/>
                    </a:cubicBezTo>
                    <a:cubicBezTo>
                      <a:pt x="1989" y="121"/>
                      <a:pt x="1989" y="122"/>
                      <a:pt x="1989" y="123"/>
                    </a:cubicBezTo>
                    <a:cubicBezTo>
                      <a:pt x="1989" y="123"/>
                      <a:pt x="1989" y="124"/>
                      <a:pt x="1989" y="125"/>
                    </a:cubicBezTo>
                    <a:close/>
                    <a:moveTo>
                      <a:pt x="1992" y="115"/>
                    </a:moveTo>
                    <a:cubicBezTo>
                      <a:pt x="1991" y="117"/>
                      <a:pt x="1991" y="118"/>
                      <a:pt x="1990" y="119"/>
                    </a:cubicBezTo>
                    <a:cubicBezTo>
                      <a:pt x="1990" y="118"/>
                      <a:pt x="1989" y="116"/>
                      <a:pt x="1989" y="114"/>
                    </a:cubicBezTo>
                    <a:cubicBezTo>
                      <a:pt x="1989" y="110"/>
                      <a:pt x="1989" y="105"/>
                      <a:pt x="1989" y="100"/>
                    </a:cubicBezTo>
                    <a:cubicBezTo>
                      <a:pt x="1990" y="94"/>
                      <a:pt x="1993" y="89"/>
                      <a:pt x="1996" y="84"/>
                    </a:cubicBezTo>
                    <a:cubicBezTo>
                      <a:pt x="1995" y="93"/>
                      <a:pt x="1993" y="105"/>
                      <a:pt x="1992" y="115"/>
                    </a:cubicBezTo>
                    <a:close/>
                    <a:moveTo>
                      <a:pt x="1999" y="90"/>
                    </a:moveTo>
                    <a:cubicBezTo>
                      <a:pt x="1999" y="88"/>
                      <a:pt x="1998" y="84"/>
                      <a:pt x="1998" y="80"/>
                    </a:cubicBezTo>
                    <a:cubicBezTo>
                      <a:pt x="1998" y="80"/>
                      <a:pt x="1998" y="80"/>
                      <a:pt x="1998" y="80"/>
                    </a:cubicBezTo>
                    <a:cubicBezTo>
                      <a:pt x="1999" y="81"/>
                      <a:pt x="2000" y="83"/>
                      <a:pt x="2000" y="84"/>
                    </a:cubicBezTo>
                    <a:cubicBezTo>
                      <a:pt x="2000" y="88"/>
                      <a:pt x="1999" y="90"/>
                      <a:pt x="1999" y="90"/>
                    </a:cubicBezTo>
                    <a:close/>
                    <a:moveTo>
                      <a:pt x="2001" y="83"/>
                    </a:moveTo>
                    <a:cubicBezTo>
                      <a:pt x="2000" y="81"/>
                      <a:pt x="1999" y="80"/>
                      <a:pt x="1998" y="79"/>
                    </a:cubicBezTo>
                    <a:cubicBezTo>
                      <a:pt x="1999" y="78"/>
                      <a:pt x="2000" y="76"/>
                      <a:pt x="2002" y="75"/>
                    </a:cubicBezTo>
                    <a:cubicBezTo>
                      <a:pt x="2001" y="78"/>
                      <a:pt x="2001" y="81"/>
                      <a:pt x="2001" y="83"/>
                    </a:cubicBezTo>
                    <a:close/>
                    <a:moveTo>
                      <a:pt x="2007" y="104"/>
                    </a:moveTo>
                    <a:cubicBezTo>
                      <a:pt x="2008" y="105"/>
                      <a:pt x="2008" y="107"/>
                      <a:pt x="2008" y="109"/>
                    </a:cubicBezTo>
                    <a:cubicBezTo>
                      <a:pt x="2008" y="111"/>
                      <a:pt x="2007" y="112"/>
                      <a:pt x="2007" y="114"/>
                    </a:cubicBezTo>
                    <a:cubicBezTo>
                      <a:pt x="2007" y="110"/>
                      <a:pt x="2007" y="107"/>
                      <a:pt x="2007" y="104"/>
                    </a:cubicBezTo>
                    <a:close/>
                    <a:moveTo>
                      <a:pt x="2003" y="91"/>
                    </a:move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lose/>
                    <a:moveTo>
                      <a:pt x="2003" y="124"/>
                    </a:moveTo>
                    <a:cubicBezTo>
                      <a:pt x="2004" y="114"/>
                      <a:pt x="2004" y="102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5" y="94"/>
                      <a:pt x="2006" y="98"/>
                      <a:pt x="2007" y="101"/>
                    </a:cubicBezTo>
                    <a:cubicBezTo>
                      <a:pt x="2005" y="120"/>
                      <a:pt x="2005" y="120"/>
                      <a:pt x="2005" y="120"/>
                    </a:cubicBezTo>
                    <a:cubicBezTo>
                      <a:pt x="2004" y="121"/>
                      <a:pt x="2004" y="122"/>
                      <a:pt x="2003" y="124"/>
                    </a:cubicBezTo>
                    <a:close/>
                    <a:moveTo>
                      <a:pt x="2006" y="136"/>
                    </a:moveTo>
                    <a:cubicBezTo>
                      <a:pt x="2006" y="134"/>
                      <a:pt x="2006" y="133"/>
                      <a:pt x="2006" y="131"/>
                    </a:cubicBezTo>
                    <a:cubicBezTo>
                      <a:pt x="2007" y="126"/>
                      <a:pt x="2008" y="121"/>
                      <a:pt x="2009" y="116"/>
                    </a:cubicBezTo>
                    <a:cubicBezTo>
                      <a:pt x="2010" y="118"/>
                      <a:pt x="2010" y="121"/>
                      <a:pt x="2010" y="123"/>
                    </a:cubicBezTo>
                    <a:cubicBezTo>
                      <a:pt x="2010" y="124"/>
                      <a:pt x="2010" y="124"/>
                      <a:pt x="2010" y="124"/>
                    </a:cubicBezTo>
                    <a:cubicBezTo>
                      <a:pt x="2009" y="128"/>
                      <a:pt x="2007" y="132"/>
                      <a:pt x="2006" y="136"/>
                    </a:cubicBezTo>
                    <a:close/>
                    <a:moveTo>
                      <a:pt x="2010" y="141"/>
                    </a:moveTo>
                    <a:cubicBezTo>
                      <a:pt x="2010" y="141"/>
                      <a:pt x="2010" y="141"/>
                      <a:pt x="2010" y="141"/>
                    </a:cubicBezTo>
                    <a:cubicBezTo>
                      <a:pt x="2011" y="139"/>
                      <a:pt x="2011" y="137"/>
                      <a:pt x="2012" y="135"/>
                    </a:cubicBezTo>
                    <a:cubicBezTo>
                      <a:pt x="2012" y="135"/>
                      <a:pt x="2012" y="135"/>
                      <a:pt x="2012" y="135"/>
                    </a:cubicBezTo>
                    <a:cubicBezTo>
                      <a:pt x="2012" y="137"/>
                      <a:pt x="2011" y="139"/>
                      <a:pt x="2010" y="141"/>
                    </a:cubicBezTo>
                    <a:close/>
                    <a:moveTo>
                      <a:pt x="2017" y="119"/>
                    </a:moveTo>
                    <a:cubicBezTo>
                      <a:pt x="2016" y="119"/>
                      <a:pt x="2016" y="118"/>
                      <a:pt x="2016" y="118"/>
                    </a:cubicBezTo>
                    <a:cubicBezTo>
                      <a:pt x="2016" y="116"/>
                      <a:pt x="2017" y="115"/>
                      <a:pt x="2017" y="113"/>
                    </a:cubicBezTo>
                    <a:cubicBezTo>
                      <a:pt x="2017" y="112"/>
                      <a:pt x="2017" y="112"/>
                      <a:pt x="2017" y="111"/>
                    </a:cubicBezTo>
                    <a:cubicBezTo>
                      <a:pt x="2018" y="112"/>
                      <a:pt x="2018" y="113"/>
                      <a:pt x="2018" y="115"/>
                    </a:cubicBezTo>
                    <a:cubicBezTo>
                      <a:pt x="2018" y="116"/>
                      <a:pt x="2017" y="118"/>
                      <a:pt x="2017" y="119"/>
                    </a:cubicBezTo>
                    <a:close/>
                    <a:moveTo>
                      <a:pt x="2024" y="136"/>
                    </a:moveTo>
                    <a:cubicBezTo>
                      <a:pt x="2023" y="135"/>
                      <a:pt x="2023" y="134"/>
                      <a:pt x="2022" y="133"/>
                    </a:cubicBezTo>
                    <a:cubicBezTo>
                      <a:pt x="2022" y="132"/>
                      <a:pt x="2022" y="132"/>
                      <a:pt x="2022" y="131"/>
                    </a:cubicBezTo>
                    <a:cubicBezTo>
                      <a:pt x="2023" y="133"/>
                      <a:pt x="2023" y="134"/>
                      <a:pt x="2024" y="136"/>
                    </a:cubicBezTo>
                    <a:cubicBezTo>
                      <a:pt x="2024" y="136"/>
                      <a:pt x="2024" y="136"/>
                      <a:pt x="2024" y="136"/>
                    </a:cubicBezTo>
                    <a:close/>
                    <a:moveTo>
                      <a:pt x="2038" y="118"/>
                    </a:moveTo>
                    <a:cubicBezTo>
                      <a:pt x="2038" y="118"/>
                      <a:pt x="2038" y="117"/>
                      <a:pt x="2038" y="117"/>
                    </a:cubicBezTo>
                    <a:cubicBezTo>
                      <a:pt x="2038" y="117"/>
                      <a:pt x="2038" y="117"/>
                      <a:pt x="2038" y="117"/>
                    </a:cubicBezTo>
                    <a:cubicBezTo>
                      <a:pt x="2038" y="118"/>
                      <a:pt x="2038" y="118"/>
                      <a:pt x="2038" y="118"/>
                    </a:cubicBezTo>
                    <a:close/>
                    <a:moveTo>
                      <a:pt x="2044" y="105"/>
                    </a:moveTo>
                    <a:cubicBezTo>
                      <a:pt x="2043" y="106"/>
                      <a:pt x="2042" y="107"/>
                      <a:pt x="2042" y="109"/>
                    </a:cubicBezTo>
                    <a:cubicBezTo>
                      <a:pt x="2041" y="107"/>
                      <a:pt x="2041" y="106"/>
                      <a:pt x="2041" y="104"/>
                    </a:cubicBezTo>
                    <a:cubicBezTo>
                      <a:pt x="2042" y="101"/>
                      <a:pt x="2044" y="98"/>
                      <a:pt x="2045" y="94"/>
                    </a:cubicBezTo>
                    <a:cubicBezTo>
                      <a:pt x="2044" y="98"/>
                      <a:pt x="2044" y="101"/>
                      <a:pt x="2044" y="105"/>
                    </a:cubicBezTo>
                    <a:close/>
                    <a:moveTo>
                      <a:pt x="2049" y="138"/>
                    </a:moveTo>
                    <a:cubicBezTo>
                      <a:pt x="2049" y="137"/>
                      <a:pt x="2049" y="136"/>
                      <a:pt x="2048" y="135"/>
                    </a:cubicBezTo>
                    <a:cubicBezTo>
                      <a:pt x="2048" y="133"/>
                      <a:pt x="2048" y="131"/>
                      <a:pt x="2048" y="129"/>
                    </a:cubicBezTo>
                    <a:cubicBezTo>
                      <a:pt x="2049" y="131"/>
                      <a:pt x="2049" y="133"/>
                      <a:pt x="2050" y="134"/>
                    </a:cubicBezTo>
                    <a:cubicBezTo>
                      <a:pt x="2050" y="135"/>
                      <a:pt x="2050" y="137"/>
                      <a:pt x="2049" y="138"/>
                    </a:cubicBezTo>
                    <a:close/>
                    <a:moveTo>
                      <a:pt x="2051" y="123"/>
                    </a:moveTo>
                    <a:cubicBezTo>
                      <a:pt x="2050" y="121"/>
                      <a:pt x="2049" y="118"/>
                      <a:pt x="2049" y="116"/>
                    </a:cubicBezTo>
                    <a:cubicBezTo>
                      <a:pt x="2050" y="112"/>
                      <a:pt x="2051" y="107"/>
                      <a:pt x="2052" y="103"/>
                    </a:cubicBezTo>
                    <a:cubicBezTo>
                      <a:pt x="2052" y="110"/>
                      <a:pt x="2051" y="117"/>
                      <a:pt x="2051" y="123"/>
                    </a:cubicBezTo>
                    <a:close/>
                    <a:moveTo>
                      <a:pt x="2056" y="69"/>
                    </a:moveTo>
                    <a:cubicBezTo>
                      <a:pt x="2058" y="72"/>
                      <a:pt x="2060" y="75"/>
                      <a:pt x="2061" y="79"/>
                    </a:cubicBezTo>
                    <a:cubicBezTo>
                      <a:pt x="2061" y="79"/>
                      <a:pt x="2061" y="79"/>
                      <a:pt x="2061" y="79"/>
                    </a:cubicBezTo>
                    <a:cubicBezTo>
                      <a:pt x="2059" y="76"/>
                      <a:pt x="2058" y="72"/>
                      <a:pt x="2056" y="69"/>
                    </a:cubicBezTo>
                    <a:cubicBezTo>
                      <a:pt x="2056" y="69"/>
                      <a:pt x="2056" y="69"/>
                      <a:pt x="2056" y="69"/>
                    </a:cubicBezTo>
                    <a:close/>
                    <a:moveTo>
                      <a:pt x="2056" y="74"/>
                    </a:moveTo>
                    <a:cubicBezTo>
                      <a:pt x="2057" y="76"/>
                      <a:pt x="2058" y="79"/>
                      <a:pt x="2059" y="81"/>
                    </a:cubicBezTo>
                    <a:cubicBezTo>
                      <a:pt x="2058" y="82"/>
                      <a:pt x="2057" y="83"/>
                      <a:pt x="2056" y="85"/>
                    </a:cubicBezTo>
                    <a:cubicBezTo>
                      <a:pt x="2056" y="81"/>
                      <a:pt x="2056" y="77"/>
                      <a:pt x="2056" y="74"/>
                    </a:cubicBezTo>
                    <a:close/>
                    <a:moveTo>
                      <a:pt x="2057" y="120"/>
                    </a:moveTo>
                    <a:cubicBezTo>
                      <a:pt x="2057" y="115"/>
                      <a:pt x="2057" y="111"/>
                      <a:pt x="2057" y="106"/>
                    </a:cubicBezTo>
                    <a:cubicBezTo>
                      <a:pt x="2058" y="109"/>
                      <a:pt x="2058" y="112"/>
                      <a:pt x="2059" y="114"/>
                    </a:cubicBezTo>
                    <a:cubicBezTo>
                      <a:pt x="2058" y="116"/>
                      <a:pt x="2058" y="118"/>
                      <a:pt x="2057" y="120"/>
                    </a:cubicBezTo>
                    <a:close/>
                    <a:moveTo>
                      <a:pt x="2060" y="109"/>
                    </a:moveTo>
                    <a:cubicBezTo>
                      <a:pt x="2059" y="107"/>
                      <a:pt x="2058" y="104"/>
                      <a:pt x="2057" y="102"/>
                    </a:cubicBezTo>
                    <a:cubicBezTo>
                      <a:pt x="2057" y="99"/>
                      <a:pt x="2057" y="97"/>
                      <a:pt x="2057" y="94"/>
                    </a:cubicBezTo>
                    <a:cubicBezTo>
                      <a:pt x="2058" y="98"/>
                      <a:pt x="2059" y="102"/>
                      <a:pt x="2061" y="107"/>
                    </a:cubicBezTo>
                    <a:cubicBezTo>
                      <a:pt x="2061" y="108"/>
                      <a:pt x="2060" y="108"/>
                      <a:pt x="2060" y="109"/>
                    </a:cubicBezTo>
                    <a:close/>
                    <a:moveTo>
                      <a:pt x="2064" y="96"/>
                    </a:moveTo>
                    <a:cubicBezTo>
                      <a:pt x="2063" y="98"/>
                      <a:pt x="2062" y="101"/>
                      <a:pt x="2062" y="104"/>
                    </a:cubicBezTo>
                    <a:cubicBezTo>
                      <a:pt x="2060" y="100"/>
                      <a:pt x="2058" y="96"/>
                      <a:pt x="2057" y="92"/>
                    </a:cubicBezTo>
                    <a:cubicBezTo>
                      <a:pt x="2057" y="92"/>
                      <a:pt x="2057" y="92"/>
                      <a:pt x="2057" y="92"/>
                    </a:cubicBezTo>
                    <a:cubicBezTo>
                      <a:pt x="2058" y="89"/>
                      <a:pt x="2059" y="86"/>
                      <a:pt x="2061" y="84"/>
                    </a:cubicBezTo>
                    <a:cubicBezTo>
                      <a:pt x="2062" y="87"/>
                      <a:pt x="2063" y="90"/>
                      <a:pt x="2064" y="93"/>
                    </a:cubicBezTo>
                    <a:cubicBezTo>
                      <a:pt x="2064" y="94"/>
                      <a:pt x="2064" y="95"/>
                      <a:pt x="2064" y="96"/>
                    </a:cubicBezTo>
                    <a:close/>
                    <a:moveTo>
                      <a:pt x="2065" y="90"/>
                    </a:moveTo>
                    <a:cubicBezTo>
                      <a:pt x="2064" y="87"/>
                      <a:pt x="2063" y="84"/>
                      <a:pt x="2062" y="82"/>
                    </a:cubicBezTo>
                    <a:cubicBezTo>
                      <a:pt x="2062" y="81"/>
                      <a:pt x="2062" y="81"/>
                      <a:pt x="2062" y="81"/>
                    </a:cubicBezTo>
                    <a:cubicBezTo>
                      <a:pt x="2063" y="83"/>
                      <a:pt x="2064" y="86"/>
                      <a:pt x="2065" y="89"/>
                    </a:cubicBezTo>
                    <a:cubicBezTo>
                      <a:pt x="2065" y="89"/>
                      <a:pt x="2065" y="89"/>
                      <a:pt x="2065" y="90"/>
                    </a:cubicBezTo>
                    <a:close/>
                    <a:moveTo>
                      <a:pt x="2063" y="79"/>
                    </a:moveTo>
                    <a:cubicBezTo>
                      <a:pt x="2064" y="78"/>
                      <a:pt x="2065" y="77"/>
                      <a:pt x="2065" y="77"/>
                    </a:cubicBezTo>
                    <a:cubicBezTo>
                      <a:pt x="2066" y="78"/>
                      <a:pt x="2066" y="79"/>
                      <a:pt x="2067" y="80"/>
                    </a:cubicBezTo>
                    <a:cubicBezTo>
                      <a:pt x="2067" y="82"/>
                      <a:pt x="2066" y="84"/>
                      <a:pt x="2066" y="85"/>
                    </a:cubicBezTo>
                    <a:cubicBezTo>
                      <a:pt x="2065" y="83"/>
                      <a:pt x="2064" y="81"/>
                      <a:pt x="2063" y="79"/>
                    </a:cubicBezTo>
                    <a:close/>
                    <a:moveTo>
                      <a:pt x="2066" y="116"/>
                    </a:moveTo>
                    <a:cubicBezTo>
                      <a:pt x="2066" y="111"/>
                      <a:pt x="2067" y="106"/>
                      <a:pt x="2067" y="102"/>
                    </a:cubicBezTo>
                    <a:cubicBezTo>
                      <a:pt x="2068" y="105"/>
                      <a:pt x="2069" y="108"/>
                      <a:pt x="2070" y="111"/>
                    </a:cubicBezTo>
                    <a:cubicBezTo>
                      <a:pt x="2069" y="113"/>
                      <a:pt x="2068" y="116"/>
                      <a:pt x="2067" y="118"/>
                    </a:cubicBezTo>
                    <a:cubicBezTo>
                      <a:pt x="2067" y="117"/>
                      <a:pt x="2066" y="117"/>
                      <a:pt x="2066" y="116"/>
                    </a:cubicBezTo>
                    <a:close/>
                    <a:moveTo>
                      <a:pt x="2071" y="130"/>
                    </a:moveTo>
                    <a:cubicBezTo>
                      <a:pt x="2070" y="128"/>
                      <a:pt x="2070" y="127"/>
                      <a:pt x="2069" y="125"/>
                    </a:cubicBezTo>
                    <a:cubicBezTo>
                      <a:pt x="2070" y="123"/>
                      <a:pt x="2070" y="122"/>
                      <a:pt x="2071" y="120"/>
                    </a:cubicBezTo>
                    <a:cubicBezTo>
                      <a:pt x="2071" y="122"/>
                      <a:pt x="2071" y="124"/>
                      <a:pt x="2071" y="127"/>
                    </a:cubicBezTo>
                    <a:cubicBezTo>
                      <a:pt x="2071" y="128"/>
                      <a:pt x="2071" y="129"/>
                      <a:pt x="2071" y="130"/>
                    </a:cubicBezTo>
                    <a:close/>
                    <a:moveTo>
                      <a:pt x="2073" y="105"/>
                    </a:moveTo>
                    <a:cubicBezTo>
                      <a:pt x="2071" y="100"/>
                      <a:pt x="2070" y="95"/>
                      <a:pt x="2068" y="91"/>
                    </a:cubicBezTo>
                    <a:cubicBezTo>
                      <a:pt x="2068" y="89"/>
                      <a:pt x="2068" y="87"/>
                      <a:pt x="2069" y="85"/>
                    </a:cubicBezTo>
                    <a:cubicBezTo>
                      <a:pt x="2071" y="91"/>
                      <a:pt x="2072" y="97"/>
                      <a:pt x="2074" y="103"/>
                    </a:cubicBezTo>
                    <a:cubicBezTo>
                      <a:pt x="2073" y="104"/>
                      <a:pt x="2073" y="105"/>
                      <a:pt x="2073" y="105"/>
                    </a:cubicBezTo>
                    <a:close/>
                    <a:moveTo>
                      <a:pt x="2074" y="111"/>
                    </a:moveTo>
                    <a:cubicBezTo>
                      <a:pt x="2074" y="110"/>
                      <a:pt x="2074" y="110"/>
                      <a:pt x="2074" y="109"/>
                    </a:cubicBezTo>
                    <a:cubicBezTo>
                      <a:pt x="2074" y="109"/>
                      <a:pt x="2074" y="108"/>
                      <a:pt x="2075" y="107"/>
                    </a:cubicBezTo>
                    <a:cubicBezTo>
                      <a:pt x="2075" y="108"/>
                      <a:pt x="2075" y="109"/>
                      <a:pt x="2075" y="109"/>
                    </a:cubicBezTo>
                    <a:cubicBezTo>
                      <a:pt x="2075" y="110"/>
                      <a:pt x="2075" y="110"/>
                      <a:pt x="2074" y="111"/>
                    </a:cubicBezTo>
                    <a:close/>
                    <a:moveTo>
                      <a:pt x="2085" y="94"/>
                    </a:moveTo>
                    <a:cubicBezTo>
                      <a:pt x="2085" y="95"/>
                      <a:pt x="2085" y="95"/>
                      <a:pt x="2086" y="96"/>
                    </a:cubicBezTo>
                    <a:cubicBezTo>
                      <a:pt x="2085" y="97"/>
                      <a:pt x="2085" y="97"/>
                      <a:pt x="2085" y="98"/>
                    </a:cubicBezTo>
                    <a:cubicBezTo>
                      <a:pt x="2085" y="96"/>
                      <a:pt x="2085" y="95"/>
                      <a:pt x="2085" y="94"/>
                    </a:cubicBezTo>
                    <a:close/>
                    <a:moveTo>
                      <a:pt x="2087" y="109"/>
                    </a:moveTo>
                    <a:cubicBezTo>
                      <a:pt x="2086" y="106"/>
                      <a:pt x="2086" y="104"/>
                      <a:pt x="2085" y="102"/>
                    </a:cubicBezTo>
                    <a:cubicBezTo>
                      <a:pt x="2085" y="101"/>
                      <a:pt x="2085" y="99"/>
                      <a:pt x="2085" y="98"/>
                    </a:cubicBezTo>
                    <a:cubicBezTo>
                      <a:pt x="2085" y="98"/>
                      <a:pt x="2086" y="97"/>
                      <a:pt x="2086" y="97"/>
                    </a:cubicBezTo>
                    <a:cubicBezTo>
                      <a:pt x="2086" y="98"/>
                      <a:pt x="2087" y="100"/>
                      <a:pt x="2087" y="102"/>
                    </a:cubicBezTo>
                    <a:cubicBezTo>
                      <a:pt x="2087" y="104"/>
                      <a:pt x="2087" y="107"/>
                      <a:pt x="2087" y="109"/>
                    </a:cubicBezTo>
                    <a:close/>
                    <a:moveTo>
                      <a:pt x="2089" y="84"/>
                    </a:moveTo>
                    <a:cubicBezTo>
                      <a:pt x="2089" y="89"/>
                      <a:pt x="2088" y="94"/>
                      <a:pt x="2088" y="98"/>
                    </a:cubicBezTo>
                    <a:cubicBezTo>
                      <a:pt x="2087" y="97"/>
                      <a:pt x="2087" y="96"/>
                      <a:pt x="2086" y="95"/>
                    </a:cubicBezTo>
                    <a:cubicBezTo>
                      <a:pt x="2087" y="94"/>
                      <a:pt x="2088" y="92"/>
                      <a:pt x="2088" y="91"/>
                    </a:cubicBezTo>
                    <a:cubicBezTo>
                      <a:pt x="2088" y="92"/>
                      <a:pt x="2087" y="94"/>
                      <a:pt x="2086" y="95"/>
                    </a:cubicBezTo>
                    <a:cubicBezTo>
                      <a:pt x="2086" y="94"/>
                      <a:pt x="2085" y="93"/>
                      <a:pt x="2085" y="92"/>
                    </a:cubicBezTo>
                    <a:cubicBezTo>
                      <a:pt x="2085" y="90"/>
                      <a:pt x="2085" y="88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4" y="75"/>
                      <a:pt x="2084" y="65"/>
                      <a:pt x="2084" y="56"/>
                    </a:cubicBezTo>
                    <a:cubicBezTo>
                      <a:pt x="2087" y="58"/>
                      <a:pt x="2089" y="61"/>
                      <a:pt x="2092" y="63"/>
                    </a:cubicBezTo>
                    <a:cubicBezTo>
                      <a:pt x="2091" y="69"/>
                      <a:pt x="2090" y="76"/>
                      <a:pt x="2089" y="84"/>
                    </a:cubicBezTo>
                    <a:cubicBezTo>
                      <a:pt x="2089" y="82"/>
                      <a:pt x="2088" y="81"/>
                      <a:pt x="2088" y="79"/>
                    </a:cubicBezTo>
                    <a:cubicBezTo>
                      <a:pt x="2088" y="81"/>
                      <a:pt x="2089" y="83"/>
                      <a:pt x="2089" y="84"/>
                    </a:cubicBezTo>
                    <a:close/>
                    <a:moveTo>
                      <a:pt x="2090" y="139"/>
                    </a:moveTo>
                    <a:cubicBezTo>
                      <a:pt x="2090" y="134"/>
                      <a:pt x="2090" y="128"/>
                      <a:pt x="2090" y="121"/>
                    </a:cubicBezTo>
                    <a:cubicBezTo>
                      <a:pt x="2090" y="125"/>
                      <a:pt x="2090" y="129"/>
                      <a:pt x="2091" y="133"/>
                    </a:cubicBezTo>
                    <a:cubicBezTo>
                      <a:pt x="2091" y="135"/>
                      <a:pt x="2091" y="137"/>
                      <a:pt x="2090" y="139"/>
                    </a:cubicBezTo>
                    <a:close/>
                    <a:moveTo>
                      <a:pt x="2090" y="104"/>
                    </a:moveTo>
                    <a:cubicBezTo>
                      <a:pt x="2090" y="102"/>
                      <a:pt x="2090" y="99"/>
                      <a:pt x="2091" y="96"/>
                    </a:cubicBezTo>
                    <a:cubicBezTo>
                      <a:pt x="2091" y="100"/>
                      <a:pt x="2091" y="104"/>
                      <a:pt x="2091" y="107"/>
                    </a:cubicBezTo>
                    <a:cubicBezTo>
                      <a:pt x="2091" y="106"/>
                      <a:pt x="2091" y="105"/>
                      <a:pt x="2090" y="104"/>
                    </a:cubicBezTo>
                    <a:close/>
                    <a:moveTo>
                      <a:pt x="2102" y="85"/>
                    </a:moveTo>
                    <a:cubicBezTo>
                      <a:pt x="2101" y="90"/>
                      <a:pt x="2100" y="96"/>
                      <a:pt x="2099" y="103"/>
                    </a:cubicBezTo>
                    <a:cubicBezTo>
                      <a:pt x="2099" y="101"/>
                      <a:pt x="2099" y="100"/>
                      <a:pt x="2098" y="99"/>
                    </a:cubicBezTo>
                    <a:cubicBezTo>
                      <a:pt x="2098" y="96"/>
                      <a:pt x="2097" y="93"/>
                      <a:pt x="2096" y="90"/>
                    </a:cubicBezTo>
                    <a:cubicBezTo>
                      <a:pt x="2097" y="93"/>
                      <a:pt x="2097" y="96"/>
                      <a:pt x="2097" y="99"/>
                    </a:cubicBezTo>
                    <a:cubicBezTo>
                      <a:pt x="2097" y="104"/>
                      <a:pt x="2096" y="112"/>
                      <a:pt x="2096" y="120"/>
                    </a:cubicBezTo>
                    <a:cubicBezTo>
                      <a:pt x="2095" y="110"/>
                      <a:pt x="2093" y="100"/>
                      <a:pt x="2091" y="91"/>
                    </a:cubicBezTo>
                    <a:cubicBezTo>
                      <a:pt x="2092" y="81"/>
                      <a:pt x="2093" y="72"/>
                      <a:pt x="2093" y="65"/>
                    </a:cubicBezTo>
                    <a:cubicBezTo>
                      <a:pt x="2097" y="69"/>
                      <a:pt x="2100" y="74"/>
                      <a:pt x="2102" y="79"/>
                    </a:cubicBezTo>
                    <a:cubicBezTo>
                      <a:pt x="2102" y="81"/>
                      <a:pt x="2102" y="83"/>
                      <a:pt x="2102" y="85"/>
                    </a:cubicBezTo>
                    <a:close/>
                    <a:moveTo>
                      <a:pt x="2102" y="75"/>
                    </a:moveTo>
                    <a:cubicBezTo>
                      <a:pt x="2102" y="75"/>
                      <a:pt x="2102" y="75"/>
                      <a:pt x="2102" y="75"/>
                    </a:cubicBezTo>
                    <a:cubicBezTo>
                      <a:pt x="2102" y="73"/>
                      <a:pt x="2102" y="72"/>
                      <a:pt x="2101" y="70"/>
                    </a:cubicBezTo>
                    <a:cubicBezTo>
                      <a:pt x="2101" y="70"/>
                      <a:pt x="2102" y="72"/>
                      <a:pt x="2102" y="75"/>
                    </a:cubicBezTo>
                    <a:cubicBezTo>
                      <a:pt x="2099" y="71"/>
                      <a:pt x="2097" y="67"/>
                      <a:pt x="2093" y="64"/>
                    </a:cubicBezTo>
                    <a:cubicBezTo>
                      <a:pt x="2094" y="60"/>
                      <a:pt x="2094" y="57"/>
                      <a:pt x="2095" y="54"/>
                    </a:cubicBezTo>
                    <a:cubicBezTo>
                      <a:pt x="2098" y="58"/>
                      <a:pt x="2101" y="62"/>
                      <a:pt x="2103" y="65"/>
                    </a:cubicBezTo>
                    <a:cubicBezTo>
                      <a:pt x="2103" y="68"/>
                      <a:pt x="2102" y="71"/>
                      <a:pt x="2102" y="75"/>
                    </a:cubicBezTo>
                    <a:close/>
                    <a:moveTo>
                      <a:pt x="2106" y="117"/>
                    </a:moveTo>
                    <a:cubicBezTo>
                      <a:pt x="2105" y="120"/>
                      <a:pt x="2104" y="122"/>
                      <a:pt x="2104" y="125"/>
                    </a:cubicBezTo>
                    <a:cubicBezTo>
                      <a:pt x="2104" y="124"/>
                      <a:pt x="2104" y="123"/>
                      <a:pt x="2104" y="122"/>
                    </a:cubicBezTo>
                    <a:cubicBezTo>
                      <a:pt x="2104" y="110"/>
                      <a:pt x="2104" y="98"/>
                      <a:pt x="2105" y="87"/>
                    </a:cubicBezTo>
                    <a:cubicBezTo>
                      <a:pt x="2106" y="92"/>
                      <a:pt x="2107" y="98"/>
                      <a:pt x="2108" y="103"/>
                    </a:cubicBezTo>
                    <a:cubicBezTo>
                      <a:pt x="2107" y="108"/>
                      <a:pt x="2106" y="112"/>
                      <a:pt x="2106" y="117"/>
                    </a:cubicBezTo>
                    <a:close/>
                    <a:moveTo>
                      <a:pt x="2109" y="89"/>
                    </a:moveTo>
                    <a:cubicBezTo>
                      <a:pt x="2108" y="86"/>
                      <a:pt x="2106" y="83"/>
                      <a:pt x="2105" y="80"/>
                    </a:cubicBezTo>
                    <a:cubicBezTo>
                      <a:pt x="2105" y="76"/>
                      <a:pt x="2105" y="72"/>
                      <a:pt x="2105" y="68"/>
                    </a:cubicBezTo>
                    <a:cubicBezTo>
                      <a:pt x="2107" y="71"/>
                      <a:pt x="2109" y="74"/>
                      <a:pt x="2111" y="78"/>
                    </a:cubicBezTo>
                    <a:cubicBezTo>
                      <a:pt x="2110" y="81"/>
                      <a:pt x="2110" y="85"/>
                      <a:pt x="2109" y="89"/>
                    </a:cubicBezTo>
                    <a:close/>
                    <a:moveTo>
                      <a:pt x="2114" y="96"/>
                    </a:moveTo>
                    <a:cubicBezTo>
                      <a:pt x="2114" y="97"/>
                      <a:pt x="2113" y="98"/>
                      <a:pt x="2113" y="99"/>
                    </a:cubicBezTo>
                    <a:cubicBezTo>
                      <a:pt x="2112" y="98"/>
                      <a:pt x="2112" y="97"/>
                      <a:pt x="2112" y="96"/>
                    </a:cubicBezTo>
                    <a:cubicBezTo>
                      <a:pt x="2112" y="91"/>
                      <a:pt x="2112" y="86"/>
                      <a:pt x="2112" y="80"/>
                    </a:cubicBezTo>
                    <a:cubicBezTo>
                      <a:pt x="2113" y="83"/>
                      <a:pt x="2114" y="86"/>
                      <a:pt x="2115" y="88"/>
                    </a:cubicBezTo>
                    <a:cubicBezTo>
                      <a:pt x="2115" y="91"/>
                      <a:pt x="2115" y="93"/>
                      <a:pt x="2114" y="96"/>
                    </a:cubicBezTo>
                    <a:close/>
                    <a:moveTo>
                      <a:pt x="2136" y="105"/>
                    </a:moveTo>
                    <a:cubicBezTo>
                      <a:pt x="2135" y="103"/>
                      <a:pt x="2135" y="102"/>
                      <a:pt x="2134" y="101"/>
                    </a:cubicBezTo>
                    <a:cubicBezTo>
                      <a:pt x="2136" y="96"/>
                      <a:pt x="2137" y="92"/>
                      <a:pt x="2138" y="89"/>
                    </a:cubicBezTo>
                    <a:cubicBezTo>
                      <a:pt x="2138" y="89"/>
                      <a:pt x="2139" y="89"/>
                      <a:pt x="2139" y="90"/>
                    </a:cubicBezTo>
                    <a:cubicBezTo>
                      <a:pt x="2138" y="95"/>
                      <a:pt x="2137" y="100"/>
                      <a:pt x="2136" y="105"/>
                    </a:cubicBezTo>
                    <a:close/>
                    <a:moveTo>
                      <a:pt x="2152" y="81"/>
                    </a:moveTo>
                    <a:cubicBezTo>
                      <a:pt x="2152" y="81"/>
                      <a:pt x="2153" y="81"/>
                      <a:pt x="2153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lose/>
                    <a:moveTo>
                      <a:pt x="2152" y="88"/>
                    </a:move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90"/>
                      <a:pt x="2152" y="91"/>
                      <a:pt x="2152" y="91"/>
                    </a:cubicBezTo>
                    <a:cubicBezTo>
                      <a:pt x="2152" y="90"/>
                      <a:pt x="2152" y="89"/>
                      <a:pt x="2152" y="88"/>
                    </a:cubicBezTo>
                    <a:close/>
                    <a:moveTo>
                      <a:pt x="2143" y="122"/>
                    </a:moveTo>
                    <a:cubicBezTo>
                      <a:pt x="2143" y="122"/>
                      <a:pt x="2143" y="123"/>
                      <a:pt x="2143" y="123"/>
                    </a:cubicBezTo>
                    <a:cubicBezTo>
                      <a:pt x="2143" y="123"/>
                      <a:pt x="2143" y="123"/>
                      <a:pt x="2143" y="123"/>
                    </a:cubicBezTo>
                    <a:cubicBezTo>
                      <a:pt x="2143" y="123"/>
                      <a:pt x="2143" y="122"/>
                      <a:pt x="2143" y="122"/>
                    </a:cubicBezTo>
                    <a:cubicBezTo>
                      <a:pt x="2143" y="120"/>
                      <a:pt x="2144" y="118"/>
                      <a:pt x="2144" y="115"/>
                    </a:cubicBezTo>
                    <a:cubicBezTo>
                      <a:pt x="2144" y="115"/>
                      <a:pt x="2144" y="115"/>
                      <a:pt x="2144" y="115"/>
                    </a:cubicBezTo>
                    <a:cubicBezTo>
                      <a:pt x="2144" y="116"/>
                      <a:pt x="2144" y="117"/>
                      <a:pt x="2144" y="118"/>
                    </a:cubicBezTo>
                    <a:cubicBezTo>
                      <a:pt x="2144" y="119"/>
                      <a:pt x="2143" y="121"/>
                      <a:pt x="2143" y="122"/>
                    </a:cubicBezTo>
                    <a:close/>
                    <a:moveTo>
                      <a:pt x="2145" y="70"/>
                    </a:moveTo>
                    <a:cubicBezTo>
                      <a:pt x="2148" y="73"/>
                      <a:pt x="2150" y="76"/>
                      <a:pt x="2151" y="79"/>
                    </a:cubicBezTo>
                    <a:cubicBezTo>
                      <a:pt x="2151" y="81"/>
                      <a:pt x="2151" y="82"/>
                      <a:pt x="2150" y="84"/>
                    </a:cubicBezTo>
                    <a:cubicBezTo>
                      <a:pt x="2150" y="84"/>
                      <a:pt x="2150" y="84"/>
                      <a:pt x="2150" y="84"/>
                    </a:cubicBezTo>
                    <a:cubicBezTo>
                      <a:pt x="2150" y="82"/>
                      <a:pt x="2149" y="81"/>
                      <a:pt x="2148" y="79"/>
                    </a:cubicBezTo>
                    <a:cubicBezTo>
                      <a:pt x="2149" y="81"/>
                      <a:pt x="2149" y="83"/>
                      <a:pt x="2150" y="84"/>
                    </a:cubicBezTo>
                    <a:cubicBezTo>
                      <a:pt x="2149" y="87"/>
                      <a:pt x="2147" y="90"/>
                      <a:pt x="2145" y="93"/>
                    </a:cubicBezTo>
                    <a:cubicBezTo>
                      <a:pt x="2146" y="85"/>
                      <a:pt x="2146" y="77"/>
                      <a:pt x="2145" y="70"/>
                    </a:cubicBezTo>
                    <a:close/>
                    <a:moveTo>
                      <a:pt x="2148" y="98"/>
                    </a:moveTo>
                    <a:cubicBezTo>
                      <a:pt x="2148" y="98"/>
                      <a:pt x="2148" y="97"/>
                      <a:pt x="2147" y="96"/>
                    </a:cubicBezTo>
                    <a:cubicBezTo>
                      <a:pt x="2148" y="97"/>
                      <a:pt x="2148" y="98"/>
                      <a:pt x="2148" y="98"/>
                    </a:cubicBezTo>
                    <a:cubicBezTo>
                      <a:pt x="2148" y="99"/>
                      <a:pt x="2148" y="100"/>
                      <a:pt x="2147" y="100"/>
                    </a:cubicBezTo>
                    <a:cubicBezTo>
                      <a:pt x="2147" y="99"/>
                      <a:pt x="2147" y="98"/>
                      <a:pt x="2146" y="97"/>
                    </a:cubicBezTo>
                    <a:cubicBezTo>
                      <a:pt x="2147" y="95"/>
                      <a:pt x="2148" y="93"/>
                      <a:pt x="2149" y="90"/>
                    </a:cubicBezTo>
                    <a:cubicBezTo>
                      <a:pt x="2149" y="93"/>
                      <a:pt x="2148" y="96"/>
                      <a:pt x="2148" y="98"/>
                    </a:cubicBezTo>
                    <a:close/>
                    <a:moveTo>
                      <a:pt x="2155" y="100"/>
                    </a:moveTo>
                    <a:cubicBezTo>
                      <a:pt x="2153" y="104"/>
                      <a:pt x="2152" y="107"/>
                      <a:pt x="2150" y="110"/>
                    </a:cubicBezTo>
                    <a:cubicBezTo>
                      <a:pt x="2150" y="110"/>
                      <a:pt x="2150" y="109"/>
                      <a:pt x="2150" y="109"/>
                    </a:cubicBezTo>
                    <a:cubicBezTo>
                      <a:pt x="2150" y="106"/>
                      <a:pt x="2151" y="102"/>
                      <a:pt x="2151" y="99"/>
                    </a:cubicBezTo>
                    <a:cubicBezTo>
                      <a:pt x="2152" y="95"/>
                      <a:pt x="2152" y="92"/>
                      <a:pt x="2152" y="90"/>
                    </a:cubicBezTo>
                    <a:cubicBezTo>
                      <a:pt x="2153" y="93"/>
                      <a:pt x="2154" y="96"/>
                      <a:pt x="2155" y="100"/>
                    </a:cubicBezTo>
                    <a:cubicBezTo>
                      <a:pt x="2155" y="100"/>
                      <a:pt x="2155" y="100"/>
                      <a:pt x="2155" y="100"/>
                    </a:cubicBezTo>
                    <a:close/>
                    <a:moveTo>
                      <a:pt x="2155" y="97"/>
                    </a:moveTo>
                    <a:cubicBezTo>
                      <a:pt x="2154" y="95"/>
                      <a:pt x="2153" y="92"/>
                      <a:pt x="2152" y="89"/>
                    </a:cubicBezTo>
                    <a:cubicBezTo>
                      <a:pt x="2152" y="89"/>
                      <a:pt x="2152" y="89"/>
                      <a:pt x="2152" y="88"/>
                    </a:cubicBez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89"/>
                      <a:pt x="2152" y="88"/>
                      <a:pt x="2152" y="88"/>
                    </a:cubicBezTo>
                    <a:cubicBezTo>
                      <a:pt x="2152" y="87"/>
                      <a:pt x="2152" y="86"/>
                      <a:pt x="2152" y="85"/>
                    </a:cubicBezTo>
                    <a:cubicBezTo>
                      <a:pt x="2152" y="84"/>
                      <a:pt x="2153" y="83"/>
                      <a:pt x="2153" y="82"/>
                    </a:cubicBezTo>
                    <a:cubicBezTo>
                      <a:pt x="2154" y="84"/>
                      <a:pt x="2155" y="86"/>
                      <a:pt x="2156" y="88"/>
                    </a:cubicBezTo>
                    <a:cubicBezTo>
                      <a:pt x="2156" y="91"/>
                      <a:pt x="2156" y="94"/>
                      <a:pt x="2155" y="97"/>
                    </a:cubicBezTo>
                    <a:close/>
                    <a:moveTo>
                      <a:pt x="2157" y="135"/>
                    </a:moveTo>
                    <a:cubicBezTo>
                      <a:pt x="2157" y="136"/>
                      <a:pt x="2157" y="137"/>
                      <a:pt x="2157" y="138"/>
                    </a:cubicBezTo>
                    <a:cubicBezTo>
                      <a:pt x="2157" y="137"/>
                      <a:pt x="2157" y="136"/>
                      <a:pt x="2157" y="135"/>
                    </a:cubicBezTo>
                    <a:cubicBezTo>
                      <a:pt x="2157" y="135"/>
                      <a:pt x="2157" y="135"/>
                      <a:pt x="2157" y="135"/>
                    </a:cubicBezTo>
                    <a:close/>
                    <a:moveTo>
                      <a:pt x="2157" y="83"/>
                    </a:moveTo>
                    <a:cubicBezTo>
                      <a:pt x="2156" y="82"/>
                      <a:pt x="2155" y="81"/>
                      <a:pt x="2155" y="80"/>
                    </a:cubicBezTo>
                    <a:cubicBezTo>
                      <a:pt x="2156" y="78"/>
                      <a:pt x="2157" y="77"/>
                      <a:pt x="2158" y="75"/>
                    </a:cubicBezTo>
                    <a:cubicBezTo>
                      <a:pt x="2157" y="78"/>
                      <a:pt x="2157" y="81"/>
                      <a:pt x="2157" y="83"/>
                    </a:cubicBezTo>
                    <a:close/>
                    <a:moveTo>
                      <a:pt x="2158" y="74"/>
                    </a:moveTo>
                    <a:cubicBezTo>
                      <a:pt x="2156" y="76"/>
                      <a:pt x="2155" y="77"/>
                      <a:pt x="2154" y="79"/>
                    </a:cubicBezTo>
                    <a:cubicBezTo>
                      <a:pt x="2153" y="78"/>
                      <a:pt x="2153" y="78"/>
                      <a:pt x="2153" y="77"/>
                    </a:cubicBezTo>
                    <a:cubicBezTo>
                      <a:pt x="2153" y="72"/>
                      <a:pt x="2153" y="67"/>
                      <a:pt x="2154" y="65"/>
                    </a:cubicBezTo>
                    <a:cubicBezTo>
                      <a:pt x="2155" y="67"/>
                      <a:pt x="2156" y="70"/>
                      <a:pt x="2158" y="72"/>
                    </a:cubicBezTo>
                    <a:cubicBezTo>
                      <a:pt x="2158" y="73"/>
                      <a:pt x="2158" y="73"/>
                      <a:pt x="2158" y="74"/>
                    </a:cubicBezTo>
                    <a:close/>
                    <a:moveTo>
                      <a:pt x="2160" y="75"/>
                    </a:moveTo>
                    <a:cubicBezTo>
                      <a:pt x="2161" y="78"/>
                      <a:pt x="2163" y="81"/>
                      <a:pt x="2165" y="84"/>
                    </a:cubicBezTo>
                    <a:cubicBezTo>
                      <a:pt x="2163" y="86"/>
                      <a:pt x="2162" y="88"/>
                      <a:pt x="2161" y="90"/>
                    </a:cubicBezTo>
                    <a:cubicBezTo>
                      <a:pt x="2161" y="89"/>
                      <a:pt x="2160" y="89"/>
                      <a:pt x="2160" y="89"/>
                    </a:cubicBezTo>
                    <a:cubicBezTo>
                      <a:pt x="2160" y="84"/>
                      <a:pt x="2160" y="79"/>
                      <a:pt x="2160" y="75"/>
                    </a:cubicBezTo>
                    <a:close/>
                    <a:moveTo>
                      <a:pt x="2162" y="110"/>
                    </a:moveTo>
                    <a:cubicBezTo>
                      <a:pt x="2162" y="107"/>
                      <a:pt x="2161" y="104"/>
                      <a:pt x="2160" y="101"/>
                    </a:cubicBezTo>
                    <a:cubicBezTo>
                      <a:pt x="2160" y="101"/>
                      <a:pt x="2160" y="100"/>
                      <a:pt x="2160" y="100"/>
                    </a:cubicBezTo>
                    <a:cubicBezTo>
                      <a:pt x="2160" y="100"/>
                      <a:pt x="2161" y="99"/>
                      <a:pt x="2161" y="99"/>
                    </a:cubicBezTo>
                    <a:cubicBezTo>
                      <a:pt x="2162" y="101"/>
                      <a:pt x="2162" y="104"/>
                      <a:pt x="2163" y="106"/>
                    </a:cubicBezTo>
                    <a:cubicBezTo>
                      <a:pt x="2163" y="108"/>
                      <a:pt x="2163" y="109"/>
                      <a:pt x="2162" y="110"/>
                    </a:cubicBezTo>
                    <a:close/>
                    <a:moveTo>
                      <a:pt x="2163" y="93"/>
                    </a:moveTo>
                    <a:cubicBezTo>
                      <a:pt x="2164" y="91"/>
                      <a:pt x="2165" y="88"/>
                      <a:pt x="2166" y="86"/>
                    </a:cubicBezTo>
                    <a:cubicBezTo>
                      <a:pt x="2166" y="87"/>
                      <a:pt x="2167" y="87"/>
                      <a:pt x="2167" y="88"/>
                    </a:cubicBezTo>
                    <a:cubicBezTo>
                      <a:pt x="2166" y="91"/>
                      <a:pt x="2166" y="94"/>
                      <a:pt x="2165" y="97"/>
                    </a:cubicBezTo>
                    <a:cubicBezTo>
                      <a:pt x="2164" y="96"/>
                      <a:pt x="2163" y="95"/>
                      <a:pt x="2163" y="93"/>
                    </a:cubicBezTo>
                    <a:close/>
                    <a:moveTo>
                      <a:pt x="2166" y="130"/>
                    </a:moveTo>
                    <a:cubicBezTo>
                      <a:pt x="2166" y="129"/>
                      <a:pt x="2166" y="128"/>
                      <a:pt x="2166" y="126"/>
                    </a:cubicBezTo>
                    <a:cubicBezTo>
                      <a:pt x="2166" y="124"/>
                      <a:pt x="2166" y="121"/>
                      <a:pt x="2167" y="119"/>
                    </a:cubicBezTo>
                    <a:cubicBezTo>
                      <a:pt x="2167" y="120"/>
                      <a:pt x="2168" y="122"/>
                      <a:pt x="2168" y="124"/>
                    </a:cubicBezTo>
                    <a:cubicBezTo>
                      <a:pt x="2167" y="126"/>
                      <a:pt x="2167" y="128"/>
                      <a:pt x="2166" y="130"/>
                    </a:cubicBezTo>
                    <a:close/>
                    <a:moveTo>
                      <a:pt x="2170" y="108"/>
                    </a:moveTo>
                    <a:cubicBezTo>
                      <a:pt x="2170" y="107"/>
                      <a:pt x="2169" y="106"/>
                      <a:pt x="2169" y="105"/>
                    </a:cubicBezTo>
                    <a:cubicBezTo>
                      <a:pt x="2169" y="102"/>
                      <a:pt x="2170" y="99"/>
                      <a:pt x="2171" y="96"/>
                    </a:cubicBezTo>
                    <a:cubicBezTo>
                      <a:pt x="2171" y="96"/>
                      <a:pt x="2171" y="97"/>
                      <a:pt x="2171" y="97"/>
                    </a:cubicBezTo>
                    <a:cubicBezTo>
                      <a:pt x="2171" y="101"/>
                      <a:pt x="2170" y="105"/>
                      <a:pt x="2170" y="108"/>
                    </a:cubicBezTo>
                    <a:close/>
                    <a:moveTo>
                      <a:pt x="2172" y="86"/>
                    </a:moveTo>
                    <a:cubicBezTo>
                      <a:pt x="2172" y="86"/>
                      <a:pt x="2172" y="86"/>
                      <a:pt x="2172" y="86"/>
                    </a:cubicBezTo>
                    <a:cubicBezTo>
                      <a:pt x="2172" y="85"/>
                      <a:pt x="2173" y="84"/>
                      <a:pt x="2173" y="83"/>
                    </a:cubicBezTo>
                    <a:cubicBezTo>
                      <a:pt x="2173" y="84"/>
                      <a:pt x="2172" y="85"/>
                      <a:pt x="2172" y="86"/>
                    </a:cubicBezTo>
                    <a:close/>
                    <a:moveTo>
                      <a:pt x="2180" y="80"/>
                    </a:moveTo>
                    <a:cubicBezTo>
                      <a:pt x="2180" y="77"/>
                      <a:pt x="2180" y="75"/>
                      <a:pt x="2180" y="73"/>
                    </a:cubicBezTo>
                    <a:cubicBezTo>
                      <a:pt x="2181" y="73"/>
                      <a:pt x="2181" y="74"/>
                      <a:pt x="2181" y="74"/>
                    </a:cubicBezTo>
                    <a:cubicBezTo>
                      <a:pt x="2181" y="76"/>
                      <a:pt x="2181" y="78"/>
                      <a:pt x="2180" y="80"/>
                    </a:cubicBezTo>
                    <a:close/>
                    <a:moveTo>
                      <a:pt x="2192" y="93"/>
                    </a:moveTo>
                    <a:cubicBezTo>
                      <a:pt x="2191" y="95"/>
                      <a:pt x="2191" y="96"/>
                      <a:pt x="2190" y="97"/>
                    </a:cubicBezTo>
                    <a:cubicBezTo>
                      <a:pt x="2190" y="94"/>
                      <a:pt x="2190" y="91"/>
                      <a:pt x="2189" y="88"/>
                    </a:cubicBezTo>
                    <a:cubicBezTo>
                      <a:pt x="2190" y="89"/>
                      <a:pt x="2191" y="91"/>
                      <a:pt x="2192" y="93"/>
                    </a:cubicBezTo>
                    <a:cubicBezTo>
                      <a:pt x="2192" y="93"/>
                      <a:pt x="2192" y="93"/>
                      <a:pt x="2192" y="93"/>
                    </a:cubicBezTo>
                    <a:close/>
                    <a:moveTo>
                      <a:pt x="2193" y="88"/>
                    </a:moveTo>
                    <a:cubicBezTo>
                      <a:pt x="2192" y="86"/>
                      <a:pt x="2191" y="85"/>
                      <a:pt x="2190" y="84"/>
                    </a:cubicBezTo>
                    <a:cubicBezTo>
                      <a:pt x="2191" y="81"/>
                      <a:pt x="2193" y="78"/>
                      <a:pt x="2195" y="75"/>
                    </a:cubicBezTo>
                    <a:cubicBezTo>
                      <a:pt x="2194" y="79"/>
                      <a:pt x="2193" y="84"/>
                      <a:pt x="2193" y="88"/>
                    </a:cubicBezTo>
                    <a:close/>
                    <a:moveTo>
                      <a:pt x="2202" y="77"/>
                    </a:moveTo>
                    <a:cubicBezTo>
                      <a:pt x="2202" y="77"/>
                      <a:pt x="2202" y="77"/>
                      <a:pt x="2202" y="77"/>
                    </a:cubicBezTo>
                    <a:cubicBezTo>
                      <a:pt x="2202" y="74"/>
                      <a:pt x="2201" y="70"/>
                      <a:pt x="2201" y="66"/>
                    </a:cubicBezTo>
                    <a:cubicBezTo>
                      <a:pt x="2201" y="65"/>
                      <a:pt x="2202" y="64"/>
                      <a:pt x="2202" y="63"/>
                    </a:cubicBezTo>
                    <a:cubicBezTo>
                      <a:pt x="2203" y="67"/>
                      <a:pt x="2203" y="72"/>
                      <a:pt x="2202" y="77"/>
                    </a:cubicBezTo>
                    <a:close/>
                    <a:moveTo>
                      <a:pt x="2205" y="72"/>
                    </a:moveTo>
                    <a:cubicBezTo>
                      <a:pt x="2205" y="67"/>
                      <a:pt x="2204" y="64"/>
                      <a:pt x="2203" y="61"/>
                    </a:cubicBezTo>
                    <a:cubicBezTo>
                      <a:pt x="2204" y="60"/>
                      <a:pt x="2205" y="58"/>
                      <a:pt x="2206" y="57"/>
                    </a:cubicBezTo>
                    <a:cubicBezTo>
                      <a:pt x="2206" y="62"/>
                      <a:pt x="2206" y="67"/>
                      <a:pt x="2205" y="72"/>
                    </a:cubicBezTo>
                    <a:close/>
                    <a:moveTo>
                      <a:pt x="2221" y="89"/>
                    </a:moveTo>
                    <a:cubicBezTo>
                      <a:pt x="2222" y="91"/>
                      <a:pt x="2223" y="92"/>
                      <a:pt x="2223" y="94"/>
                    </a:cubicBezTo>
                    <a:cubicBezTo>
                      <a:pt x="2223" y="95"/>
                      <a:pt x="2222" y="97"/>
                      <a:pt x="2222" y="98"/>
                    </a:cubicBezTo>
                    <a:cubicBezTo>
                      <a:pt x="2221" y="97"/>
                      <a:pt x="2221" y="96"/>
                      <a:pt x="2220" y="95"/>
                    </a:cubicBezTo>
                    <a:cubicBezTo>
                      <a:pt x="2220" y="93"/>
                      <a:pt x="2221" y="91"/>
                      <a:pt x="2221" y="89"/>
                    </a:cubicBezTo>
                    <a:close/>
                    <a:moveTo>
                      <a:pt x="2220" y="101"/>
                    </a:moveTo>
                    <a:cubicBezTo>
                      <a:pt x="2220" y="101"/>
                      <a:pt x="2220" y="100"/>
                      <a:pt x="2220" y="100"/>
                    </a:cubicBezTo>
                    <a:cubicBezTo>
                      <a:pt x="2220" y="100"/>
                      <a:pt x="2220" y="101"/>
                      <a:pt x="2220" y="101"/>
                    </a:cubicBezTo>
                    <a:cubicBezTo>
                      <a:pt x="2220" y="101"/>
                      <a:pt x="2220" y="101"/>
                      <a:pt x="2220" y="101"/>
                    </a:cubicBezTo>
                    <a:close/>
                    <a:moveTo>
                      <a:pt x="2222" y="122"/>
                    </a:moveTo>
                    <a:cubicBezTo>
                      <a:pt x="2222" y="121"/>
                      <a:pt x="2221" y="120"/>
                      <a:pt x="2221" y="119"/>
                    </a:cubicBezTo>
                    <a:cubicBezTo>
                      <a:pt x="2221" y="117"/>
                      <a:pt x="2221" y="115"/>
                      <a:pt x="2221" y="112"/>
                    </a:cubicBezTo>
                    <a:cubicBezTo>
                      <a:pt x="2221" y="110"/>
                      <a:pt x="2221" y="108"/>
                      <a:pt x="2222" y="106"/>
                    </a:cubicBezTo>
                    <a:cubicBezTo>
                      <a:pt x="2222" y="108"/>
                      <a:pt x="2223" y="110"/>
                      <a:pt x="2223" y="112"/>
                    </a:cubicBezTo>
                    <a:cubicBezTo>
                      <a:pt x="2223" y="115"/>
                      <a:pt x="2223" y="119"/>
                      <a:pt x="2222" y="122"/>
                    </a:cubicBezTo>
                    <a:close/>
                    <a:moveTo>
                      <a:pt x="2224" y="103"/>
                    </a:moveTo>
                    <a:cubicBezTo>
                      <a:pt x="2224" y="102"/>
                      <a:pt x="2223" y="101"/>
                      <a:pt x="2223" y="100"/>
                    </a:cubicBezTo>
                    <a:cubicBezTo>
                      <a:pt x="2223" y="99"/>
                      <a:pt x="2224" y="97"/>
                      <a:pt x="2224" y="96"/>
                    </a:cubicBezTo>
                    <a:cubicBezTo>
                      <a:pt x="2224" y="97"/>
                      <a:pt x="2225" y="97"/>
                      <a:pt x="2225" y="98"/>
                    </a:cubicBezTo>
                    <a:cubicBezTo>
                      <a:pt x="2225" y="100"/>
                      <a:pt x="2224" y="101"/>
                      <a:pt x="2224" y="103"/>
                    </a:cubicBezTo>
                    <a:close/>
                    <a:moveTo>
                      <a:pt x="2225" y="96"/>
                    </a:moveTo>
                    <a:cubicBezTo>
                      <a:pt x="2225" y="95"/>
                      <a:pt x="2225" y="95"/>
                      <a:pt x="2224" y="95"/>
                    </a:cubicBezTo>
                    <a:cubicBezTo>
                      <a:pt x="2225" y="93"/>
                      <a:pt x="2225" y="92"/>
                      <a:pt x="2226" y="91"/>
                    </a:cubicBezTo>
                    <a:cubicBezTo>
                      <a:pt x="2225" y="93"/>
                      <a:pt x="2225" y="94"/>
                      <a:pt x="2225" y="96"/>
                    </a:cubicBezTo>
                    <a:close/>
                    <a:moveTo>
                      <a:pt x="2231" y="95"/>
                    </a:moveTo>
                    <a:cubicBezTo>
                      <a:pt x="2231" y="92"/>
                      <a:pt x="2232" y="89"/>
                      <a:pt x="2232" y="86"/>
                    </a:cubicBezTo>
                    <a:cubicBezTo>
                      <a:pt x="2232" y="86"/>
                      <a:pt x="2233" y="87"/>
                      <a:pt x="2233" y="88"/>
                    </a:cubicBezTo>
                    <a:cubicBezTo>
                      <a:pt x="2233" y="90"/>
                      <a:pt x="2232" y="92"/>
                      <a:pt x="2231" y="95"/>
                    </a:cubicBezTo>
                    <a:close/>
                    <a:moveTo>
                      <a:pt x="2242" y="99"/>
                    </a:moveTo>
                    <a:cubicBezTo>
                      <a:pt x="2242" y="99"/>
                      <a:pt x="2241" y="98"/>
                      <a:pt x="2241" y="97"/>
                    </a:cubicBezTo>
                    <a:cubicBezTo>
                      <a:pt x="2241" y="93"/>
                      <a:pt x="2241" y="89"/>
                      <a:pt x="2241" y="84"/>
                    </a:cubicBezTo>
                    <a:cubicBezTo>
                      <a:pt x="2242" y="80"/>
                      <a:pt x="2245" y="76"/>
                      <a:pt x="2247" y="72"/>
                    </a:cubicBezTo>
                    <a:cubicBezTo>
                      <a:pt x="2248" y="74"/>
                      <a:pt x="2248" y="78"/>
                      <a:pt x="2249" y="82"/>
                    </a:cubicBezTo>
                    <a:cubicBezTo>
                      <a:pt x="2246" y="88"/>
                      <a:pt x="2244" y="93"/>
                      <a:pt x="2242" y="99"/>
                    </a:cubicBezTo>
                    <a:close/>
                    <a:moveTo>
                      <a:pt x="2250" y="75"/>
                    </a:moveTo>
                    <a:cubicBezTo>
                      <a:pt x="2250" y="73"/>
                      <a:pt x="2249" y="71"/>
                      <a:pt x="2249" y="69"/>
                    </a:cubicBezTo>
                    <a:cubicBezTo>
                      <a:pt x="2250" y="68"/>
                      <a:pt x="2250" y="67"/>
                      <a:pt x="2251" y="66"/>
                    </a:cubicBezTo>
                    <a:cubicBezTo>
                      <a:pt x="2251" y="69"/>
                      <a:pt x="2250" y="72"/>
                      <a:pt x="2250" y="75"/>
                    </a:cubicBezTo>
                    <a:close/>
                    <a:moveTo>
                      <a:pt x="2258" y="72"/>
                    </a:moveTo>
                    <a:cubicBezTo>
                      <a:pt x="2258" y="71"/>
                      <a:pt x="2258" y="70"/>
                      <a:pt x="2258" y="70"/>
                    </a:cubicBezTo>
                    <a:cubicBezTo>
                      <a:pt x="2258" y="69"/>
                      <a:pt x="2258" y="69"/>
                      <a:pt x="2258" y="69"/>
                    </a:cubicBezTo>
                    <a:cubicBezTo>
                      <a:pt x="2258" y="71"/>
                      <a:pt x="2258" y="72"/>
                      <a:pt x="2258" y="72"/>
                    </a:cubicBezTo>
                    <a:close/>
                    <a:moveTo>
                      <a:pt x="2258" y="67"/>
                    </a:moveTo>
                    <a:cubicBezTo>
                      <a:pt x="2258" y="67"/>
                      <a:pt x="2258" y="68"/>
                      <a:pt x="2258" y="68"/>
                    </a:cubicBezTo>
                    <a:cubicBezTo>
                      <a:pt x="2258" y="65"/>
                      <a:pt x="2257" y="61"/>
                      <a:pt x="2257" y="58"/>
                    </a:cubicBezTo>
                    <a:cubicBezTo>
                      <a:pt x="2257" y="57"/>
                      <a:pt x="2258" y="56"/>
                      <a:pt x="2259" y="56"/>
                    </a:cubicBezTo>
                    <a:cubicBezTo>
                      <a:pt x="2258" y="60"/>
                      <a:pt x="2258" y="64"/>
                      <a:pt x="2258" y="67"/>
                    </a:cubicBezTo>
                    <a:close/>
                    <a:moveTo>
                      <a:pt x="2266" y="123"/>
                    </a:moveTo>
                    <a:cubicBezTo>
                      <a:pt x="2265" y="124"/>
                      <a:pt x="2264" y="126"/>
                      <a:pt x="2264" y="127"/>
                    </a:cubicBezTo>
                    <a:cubicBezTo>
                      <a:pt x="2264" y="124"/>
                      <a:pt x="2264" y="122"/>
                      <a:pt x="2264" y="119"/>
                    </a:cubicBezTo>
                    <a:cubicBezTo>
                      <a:pt x="2265" y="116"/>
                      <a:pt x="2266" y="112"/>
                      <a:pt x="2267" y="109"/>
                    </a:cubicBezTo>
                    <a:cubicBezTo>
                      <a:pt x="2267" y="111"/>
                      <a:pt x="2267" y="112"/>
                      <a:pt x="2267" y="114"/>
                    </a:cubicBezTo>
                    <a:cubicBezTo>
                      <a:pt x="2267" y="117"/>
                      <a:pt x="2266" y="120"/>
                      <a:pt x="2266" y="123"/>
                    </a:cubicBezTo>
                    <a:close/>
                    <a:moveTo>
                      <a:pt x="2268" y="110"/>
                    </a:moveTo>
                    <a:cubicBezTo>
                      <a:pt x="2268" y="111"/>
                      <a:pt x="2268" y="112"/>
                      <a:pt x="2267" y="112"/>
                    </a:cubicBezTo>
                    <a:cubicBezTo>
                      <a:pt x="2267" y="111"/>
                      <a:pt x="2267" y="110"/>
                      <a:pt x="2267" y="109"/>
                    </a:cubicBezTo>
                    <a:cubicBezTo>
                      <a:pt x="2267" y="107"/>
                      <a:pt x="2268" y="105"/>
                      <a:pt x="2268" y="102"/>
                    </a:cubicBezTo>
                    <a:cubicBezTo>
                      <a:pt x="2268" y="105"/>
                      <a:pt x="2268" y="107"/>
                      <a:pt x="2268" y="110"/>
                    </a:cubicBezTo>
                    <a:close/>
                    <a:moveTo>
                      <a:pt x="2270" y="83"/>
                    </a:moveTo>
                    <a:cubicBezTo>
                      <a:pt x="2270" y="83"/>
                      <a:pt x="2270" y="84"/>
                      <a:pt x="2269" y="85"/>
                    </a:cubicBezTo>
                    <a:cubicBezTo>
                      <a:pt x="2268" y="87"/>
                      <a:pt x="2267" y="89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2"/>
                      <a:pt x="2265" y="94"/>
                      <a:pt x="2264" y="96"/>
                    </a:cubicBezTo>
                    <a:cubicBezTo>
                      <a:pt x="2264" y="90"/>
                      <a:pt x="2265" y="85"/>
                      <a:pt x="2267" y="79"/>
                    </a:cubicBezTo>
                    <a:cubicBezTo>
                      <a:pt x="2265" y="85"/>
                      <a:pt x="2264" y="90"/>
                      <a:pt x="2262" y="95"/>
                    </a:cubicBezTo>
                    <a:cubicBezTo>
                      <a:pt x="2262" y="85"/>
                      <a:pt x="2263" y="74"/>
                      <a:pt x="2263" y="63"/>
                    </a:cubicBezTo>
                    <a:cubicBezTo>
                      <a:pt x="2266" y="60"/>
                      <a:pt x="2269" y="58"/>
                      <a:pt x="2272" y="55"/>
                    </a:cubicBezTo>
                    <a:cubicBezTo>
                      <a:pt x="2272" y="62"/>
                      <a:pt x="2271" y="72"/>
                      <a:pt x="2270" y="83"/>
                    </a:cubicBezTo>
                    <a:close/>
                    <a:moveTo>
                      <a:pt x="2276" y="105"/>
                    </a:moveTo>
                    <a:cubicBezTo>
                      <a:pt x="2276" y="102"/>
                      <a:pt x="2276" y="99"/>
                      <a:pt x="2276" y="96"/>
                    </a:cubicBezTo>
                    <a:cubicBezTo>
                      <a:pt x="2276" y="97"/>
                      <a:pt x="2277" y="99"/>
                      <a:pt x="2277" y="100"/>
                    </a:cubicBezTo>
                    <a:cubicBezTo>
                      <a:pt x="2277" y="102"/>
                      <a:pt x="2277" y="103"/>
                      <a:pt x="2276" y="105"/>
                    </a:cubicBezTo>
                    <a:cubicBezTo>
                      <a:pt x="2276" y="105"/>
                      <a:pt x="2276" y="105"/>
                      <a:pt x="2276" y="105"/>
                    </a:cubicBezTo>
                    <a:close/>
                    <a:moveTo>
                      <a:pt x="2277" y="130"/>
                    </a:moveTo>
                    <a:cubicBezTo>
                      <a:pt x="2277" y="130"/>
                      <a:pt x="2277" y="130"/>
                      <a:pt x="2277" y="130"/>
                    </a:cubicBezTo>
                    <a:cubicBezTo>
                      <a:pt x="2277" y="129"/>
                      <a:pt x="2277" y="128"/>
                      <a:pt x="2277" y="127"/>
                    </a:cubicBezTo>
                    <a:cubicBezTo>
                      <a:pt x="2277" y="128"/>
                      <a:pt x="2277" y="128"/>
                      <a:pt x="2278" y="129"/>
                    </a:cubicBezTo>
                    <a:cubicBezTo>
                      <a:pt x="2277" y="129"/>
                      <a:pt x="2277" y="130"/>
                      <a:pt x="2277" y="130"/>
                    </a:cubicBezTo>
                    <a:close/>
                    <a:moveTo>
                      <a:pt x="2284" y="74"/>
                    </a:moveTo>
                    <a:cubicBezTo>
                      <a:pt x="2284" y="73"/>
                      <a:pt x="2284" y="71"/>
                      <a:pt x="2284" y="70"/>
                    </a:cubicBezTo>
                    <a:cubicBezTo>
                      <a:pt x="2284" y="70"/>
                      <a:pt x="2285" y="71"/>
                      <a:pt x="2285" y="72"/>
                    </a:cubicBezTo>
                    <a:cubicBezTo>
                      <a:pt x="2285" y="72"/>
                      <a:pt x="2285" y="73"/>
                      <a:pt x="2284" y="74"/>
                    </a:cubicBezTo>
                    <a:close/>
                    <a:moveTo>
                      <a:pt x="2288" y="139"/>
                    </a:moveTo>
                    <a:cubicBezTo>
                      <a:pt x="2288" y="140"/>
                      <a:pt x="2288" y="141"/>
                      <a:pt x="2288" y="142"/>
                    </a:cubicBezTo>
                    <a:cubicBezTo>
                      <a:pt x="2288" y="142"/>
                      <a:pt x="2288" y="141"/>
                      <a:pt x="2288" y="139"/>
                    </a:cubicBezTo>
                    <a:cubicBezTo>
                      <a:pt x="2288" y="138"/>
                      <a:pt x="2288" y="137"/>
                      <a:pt x="2288" y="136"/>
                    </a:cubicBezTo>
                    <a:cubicBezTo>
                      <a:pt x="2288" y="137"/>
                      <a:pt x="2288" y="137"/>
                      <a:pt x="2288" y="137"/>
                    </a:cubicBezTo>
                    <a:cubicBezTo>
                      <a:pt x="2288" y="138"/>
                      <a:pt x="2288" y="139"/>
                      <a:pt x="2288" y="139"/>
                    </a:cubicBezTo>
                    <a:close/>
                    <a:moveTo>
                      <a:pt x="2290" y="122"/>
                    </a:moveTo>
                    <a:cubicBezTo>
                      <a:pt x="2290" y="122"/>
                      <a:pt x="2290" y="122"/>
                      <a:pt x="2290" y="122"/>
                    </a:cubicBezTo>
                    <a:cubicBezTo>
                      <a:pt x="2290" y="121"/>
                      <a:pt x="2290" y="121"/>
                      <a:pt x="2290" y="121"/>
                    </a:cubicBezTo>
                    <a:cubicBezTo>
                      <a:pt x="2290" y="121"/>
                      <a:pt x="2290" y="122"/>
                      <a:pt x="2290" y="122"/>
                    </a:cubicBezTo>
                    <a:close/>
                    <a:moveTo>
                      <a:pt x="2291" y="110"/>
                    </a:moveTo>
                    <a:cubicBezTo>
                      <a:pt x="2290" y="112"/>
                      <a:pt x="2289" y="114"/>
                      <a:pt x="2288" y="116"/>
                    </a:cubicBezTo>
                    <a:cubicBezTo>
                      <a:pt x="2288" y="116"/>
                      <a:pt x="2288" y="117"/>
                      <a:pt x="2288" y="117"/>
                    </a:cubicBezTo>
                    <a:cubicBezTo>
                      <a:pt x="2288" y="113"/>
                      <a:pt x="2287" y="108"/>
                      <a:pt x="2287" y="104"/>
                    </a:cubicBezTo>
                    <a:cubicBezTo>
                      <a:pt x="2288" y="101"/>
                      <a:pt x="2288" y="98"/>
                      <a:pt x="2289" y="96"/>
                    </a:cubicBezTo>
                    <a:cubicBezTo>
                      <a:pt x="2290" y="95"/>
                      <a:pt x="2290" y="95"/>
                      <a:pt x="2290" y="95"/>
                    </a:cubicBezTo>
                    <a:cubicBezTo>
                      <a:pt x="2290" y="98"/>
                      <a:pt x="2291" y="101"/>
                      <a:pt x="2291" y="104"/>
                    </a:cubicBezTo>
                    <a:cubicBezTo>
                      <a:pt x="2291" y="106"/>
                      <a:pt x="2291" y="108"/>
                      <a:pt x="2291" y="110"/>
                    </a:cubicBezTo>
                    <a:close/>
                    <a:moveTo>
                      <a:pt x="2292" y="99"/>
                    </a:moveTo>
                    <a:cubicBezTo>
                      <a:pt x="2291" y="97"/>
                      <a:pt x="2291" y="96"/>
                      <a:pt x="2290" y="94"/>
                    </a:cubicBezTo>
                    <a:cubicBezTo>
                      <a:pt x="2291" y="93"/>
                      <a:pt x="2292" y="92"/>
                      <a:pt x="2292" y="91"/>
                    </a:cubicBezTo>
                    <a:cubicBezTo>
                      <a:pt x="2292" y="94"/>
                      <a:pt x="2292" y="96"/>
                      <a:pt x="2292" y="99"/>
                    </a:cubicBezTo>
                    <a:close/>
                    <a:moveTo>
                      <a:pt x="2286" y="91"/>
                    </a:moveTo>
                    <a:cubicBezTo>
                      <a:pt x="2286" y="89"/>
                      <a:pt x="2286" y="88"/>
                      <a:pt x="2285" y="87"/>
                    </a:cubicBezTo>
                    <a:cubicBezTo>
                      <a:pt x="2287" y="83"/>
                      <a:pt x="2288" y="80"/>
                      <a:pt x="2289" y="76"/>
                    </a:cubicBezTo>
                    <a:cubicBezTo>
                      <a:pt x="2290" y="78"/>
                      <a:pt x="2292" y="80"/>
                      <a:pt x="2293" y="82"/>
                    </a:cubicBezTo>
                    <a:cubicBezTo>
                      <a:pt x="2290" y="85"/>
                      <a:pt x="2288" y="88"/>
                      <a:pt x="2286" y="91"/>
                    </a:cubicBezTo>
                    <a:close/>
                    <a:moveTo>
                      <a:pt x="2293" y="79"/>
                    </a:moveTo>
                    <a:cubicBezTo>
                      <a:pt x="2292" y="77"/>
                      <a:pt x="2291" y="76"/>
                      <a:pt x="2290" y="75"/>
                    </a:cubicBezTo>
                    <a:cubicBezTo>
                      <a:pt x="2291" y="72"/>
                      <a:pt x="2293" y="68"/>
                      <a:pt x="2294" y="65"/>
                    </a:cubicBezTo>
                    <a:cubicBezTo>
                      <a:pt x="2294" y="68"/>
                      <a:pt x="2294" y="73"/>
                      <a:pt x="2293" y="79"/>
                    </a:cubicBezTo>
                    <a:close/>
                    <a:moveTo>
                      <a:pt x="2311" y="54"/>
                    </a:moveTo>
                    <a:cubicBezTo>
                      <a:pt x="2311" y="56"/>
                      <a:pt x="2310" y="58"/>
                      <a:pt x="2310" y="61"/>
                    </a:cubicBezTo>
                    <a:cubicBezTo>
                      <a:pt x="2306" y="65"/>
                      <a:pt x="2302" y="69"/>
                      <a:pt x="2299" y="74"/>
                    </a:cubicBezTo>
                    <a:cubicBezTo>
                      <a:pt x="2302" y="67"/>
                      <a:pt x="2306" y="60"/>
                      <a:pt x="2311" y="54"/>
                    </a:cubicBezTo>
                    <a:close/>
                    <a:moveTo>
                      <a:pt x="2297" y="89"/>
                    </a:moveTo>
                    <a:cubicBezTo>
                      <a:pt x="2297" y="90"/>
                      <a:pt x="2298" y="91"/>
                      <a:pt x="2298" y="92"/>
                    </a:cubicBezTo>
                    <a:cubicBezTo>
                      <a:pt x="2298" y="92"/>
                      <a:pt x="2297" y="93"/>
                      <a:pt x="2297" y="94"/>
                    </a:cubicBezTo>
                    <a:cubicBezTo>
                      <a:pt x="2297" y="92"/>
                      <a:pt x="2297" y="91"/>
                      <a:pt x="2297" y="89"/>
                    </a:cubicBezTo>
                    <a:close/>
                    <a:moveTo>
                      <a:pt x="2299" y="127"/>
                    </a:moveTo>
                    <a:cubicBezTo>
                      <a:pt x="2299" y="125"/>
                      <a:pt x="2299" y="124"/>
                      <a:pt x="2298" y="122"/>
                    </a:cubicBezTo>
                    <a:cubicBezTo>
                      <a:pt x="2298" y="117"/>
                      <a:pt x="2298" y="111"/>
                      <a:pt x="2298" y="105"/>
                    </a:cubicBezTo>
                    <a:cubicBezTo>
                      <a:pt x="2299" y="104"/>
                      <a:pt x="2299" y="102"/>
                      <a:pt x="2300" y="101"/>
                    </a:cubicBezTo>
                    <a:cubicBezTo>
                      <a:pt x="2299" y="102"/>
                      <a:pt x="2299" y="103"/>
                      <a:pt x="2298" y="105"/>
                    </a:cubicBezTo>
                    <a:cubicBezTo>
                      <a:pt x="2297" y="102"/>
                      <a:pt x="2297" y="99"/>
                      <a:pt x="2297" y="96"/>
                    </a:cubicBezTo>
                    <a:cubicBezTo>
                      <a:pt x="2298" y="95"/>
                      <a:pt x="2298" y="94"/>
                      <a:pt x="2298" y="93"/>
                    </a:cubicBezTo>
                    <a:cubicBezTo>
                      <a:pt x="2299" y="95"/>
                      <a:pt x="2300" y="97"/>
                      <a:pt x="2301" y="100"/>
                    </a:cubicBezTo>
                    <a:cubicBezTo>
                      <a:pt x="2301" y="100"/>
                      <a:pt x="2301" y="100"/>
                      <a:pt x="2300" y="101"/>
                    </a:cubicBezTo>
                    <a:cubicBezTo>
                      <a:pt x="2301" y="101"/>
                      <a:pt x="2301" y="100"/>
                      <a:pt x="2301" y="100"/>
                    </a:cubicBezTo>
                    <a:cubicBezTo>
                      <a:pt x="2302" y="101"/>
                      <a:pt x="2302" y="102"/>
                      <a:pt x="2303" y="103"/>
                    </a:cubicBezTo>
                    <a:cubicBezTo>
                      <a:pt x="2301" y="112"/>
                      <a:pt x="2300" y="120"/>
                      <a:pt x="2299" y="127"/>
                    </a:cubicBezTo>
                    <a:close/>
                    <a:moveTo>
                      <a:pt x="2300" y="87"/>
                    </a:moveTo>
                    <a:cubicBezTo>
                      <a:pt x="2301" y="86"/>
                      <a:pt x="2302" y="84"/>
                      <a:pt x="2303" y="83"/>
                    </a:cubicBezTo>
                    <a:cubicBezTo>
                      <a:pt x="2302" y="84"/>
                      <a:pt x="2301" y="86"/>
                      <a:pt x="2300" y="87"/>
                    </a:cubicBezTo>
                    <a:cubicBezTo>
                      <a:pt x="2299" y="86"/>
                      <a:pt x="2298" y="85"/>
                      <a:pt x="2297" y="83"/>
                    </a:cubicBezTo>
                    <a:cubicBezTo>
                      <a:pt x="2301" y="78"/>
                      <a:pt x="2305" y="72"/>
                      <a:pt x="2308" y="67"/>
                    </a:cubicBezTo>
                    <a:cubicBezTo>
                      <a:pt x="2308" y="72"/>
                      <a:pt x="2307" y="76"/>
                      <a:pt x="2306" y="81"/>
                    </a:cubicBezTo>
                    <a:cubicBezTo>
                      <a:pt x="2306" y="80"/>
                      <a:pt x="2305" y="79"/>
                      <a:pt x="2305" y="79"/>
                    </a:cubicBezTo>
                    <a:cubicBezTo>
                      <a:pt x="2305" y="78"/>
                      <a:pt x="2306" y="77"/>
                      <a:pt x="2307" y="75"/>
                    </a:cubicBezTo>
                    <a:cubicBezTo>
                      <a:pt x="2306" y="76"/>
                      <a:pt x="2305" y="77"/>
                      <a:pt x="2305" y="79"/>
                    </a:cubicBezTo>
                    <a:cubicBezTo>
                      <a:pt x="2304" y="78"/>
                      <a:pt x="2304" y="77"/>
                      <a:pt x="2303" y="77"/>
                    </a:cubicBezTo>
                    <a:cubicBezTo>
                      <a:pt x="2303" y="78"/>
                      <a:pt x="2304" y="79"/>
                      <a:pt x="2304" y="79"/>
                    </a:cubicBezTo>
                    <a:cubicBezTo>
                      <a:pt x="2304" y="80"/>
                      <a:pt x="2303" y="81"/>
                      <a:pt x="2303" y="83"/>
                    </a:cubicBezTo>
                    <a:cubicBezTo>
                      <a:pt x="2303" y="82"/>
                      <a:pt x="2304" y="81"/>
                      <a:pt x="2304" y="80"/>
                    </a:cubicBezTo>
                    <a:cubicBezTo>
                      <a:pt x="2305" y="81"/>
                      <a:pt x="2305" y="82"/>
                      <a:pt x="2306" y="84"/>
                    </a:cubicBezTo>
                    <a:cubicBezTo>
                      <a:pt x="2305" y="87"/>
                      <a:pt x="2305" y="90"/>
                      <a:pt x="2304" y="93"/>
                    </a:cubicBezTo>
                    <a:cubicBezTo>
                      <a:pt x="2303" y="91"/>
                      <a:pt x="2302" y="89"/>
                      <a:pt x="2300" y="87"/>
                    </a:cubicBezTo>
                    <a:close/>
                    <a:moveTo>
                      <a:pt x="2305" y="144"/>
                    </a:moveTo>
                    <a:cubicBezTo>
                      <a:pt x="2305" y="144"/>
                      <a:pt x="2305" y="143"/>
                      <a:pt x="2305" y="143"/>
                    </a:cubicBezTo>
                    <a:cubicBezTo>
                      <a:pt x="2305" y="140"/>
                      <a:pt x="2305" y="136"/>
                      <a:pt x="2305" y="131"/>
                    </a:cubicBezTo>
                    <a:cubicBezTo>
                      <a:pt x="2306" y="128"/>
                      <a:pt x="2307" y="126"/>
                      <a:pt x="2307" y="125"/>
                    </a:cubicBezTo>
                    <a:cubicBezTo>
                      <a:pt x="2307" y="125"/>
                      <a:pt x="2307" y="124"/>
                      <a:pt x="2307" y="124"/>
                    </a:cubicBezTo>
                    <a:cubicBezTo>
                      <a:pt x="2306" y="124"/>
                      <a:pt x="2306" y="124"/>
                      <a:pt x="2306" y="124"/>
                    </a:cubicBezTo>
                    <a:cubicBezTo>
                      <a:pt x="2306" y="122"/>
                      <a:pt x="2306" y="120"/>
                      <a:pt x="2306" y="118"/>
                    </a:cubicBezTo>
                    <a:cubicBezTo>
                      <a:pt x="2307" y="121"/>
                      <a:pt x="2308" y="125"/>
                      <a:pt x="2308" y="128"/>
                    </a:cubicBezTo>
                    <a:cubicBezTo>
                      <a:pt x="2307" y="136"/>
                      <a:pt x="2306" y="141"/>
                      <a:pt x="2305" y="144"/>
                    </a:cubicBezTo>
                    <a:close/>
                    <a:moveTo>
                      <a:pt x="2312" y="107"/>
                    </a:moveTo>
                    <a:cubicBezTo>
                      <a:pt x="2311" y="105"/>
                      <a:pt x="2310" y="102"/>
                      <a:pt x="2308" y="100"/>
                    </a:cubicBezTo>
                    <a:cubicBezTo>
                      <a:pt x="2309" y="97"/>
                      <a:pt x="2309" y="95"/>
                      <a:pt x="2309" y="93"/>
                    </a:cubicBezTo>
                    <a:cubicBezTo>
                      <a:pt x="2310" y="96"/>
                      <a:pt x="2312" y="99"/>
                      <a:pt x="2313" y="102"/>
                    </a:cubicBezTo>
                    <a:cubicBezTo>
                      <a:pt x="2313" y="104"/>
                      <a:pt x="2312" y="105"/>
                      <a:pt x="2312" y="107"/>
                    </a:cubicBezTo>
                    <a:close/>
                    <a:moveTo>
                      <a:pt x="2313" y="159"/>
                    </a:moveTo>
                    <a:cubicBezTo>
                      <a:pt x="2313" y="159"/>
                      <a:pt x="2313" y="159"/>
                      <a:pt x="2313" y="159"/>
                    </a:cubicBezTo>
                    <a:cubicBezTo>
                      <a:pt x="2313" y="159"/>
                      <a:pt x="2313" y="159"/>
                      <a:pt x="2314" y="159"/>
                    </a:cubicBezTo>
                    <a:cubicBezTo>
                      <a:pt x="2313" y="159"/>
                      <a:pt x="2313" y="159"/>
                      <a:pt x="2313" y="159"/>
                    </a:cubicBezTo>
                    <a:close/>
                    <a:moveTo>
                      <a:pt x="2314" y="96"/>
                    </a:moveTo>
                    <a:cubicBezTo>
                      <a:pt x="2313" y="93"/>
                      <a:pt x="2311" y="91"/>
                      <a:pt x="2310" y="88"/>
                    </a:cubicBezTo>
                    <a:cubicBezTo>
                      <a:pt x="2312" y="85"/>
                      <a:pt x="2314" y="82"/>
                      <a:pt x="2316" y="79"/>
                    </a:cubicBezTo>
                    <a:cubicBezTo>
                      <a:pt x="2316" y="84"/>
                      <a:pt x="2315" y="90"/>
                      <a:pt x="2314" y="96"/>
                    </a:cubicBezTo>
                    <a:close/>
                    <a:moveTo>
                      <a:pt x="2317" y="75"/>
                    </a:moveTo>
                    <a:cubicBezTo>
                      <a:pt x="2315" y="78"/>
                      <a:pt x="2312" y="82"/>
                      <a:pt x="2310" y="86"/>
                    </a:cubicBezTo>
                    <a:cubicBezTo>
                      <a:pt x="2311" y="77"/>
                      <a:pt x="2312" y="68"/>
                      <a:pt x="2313" y="61"/>
                    </a:cubicBezTo>
                    <a:cubicBezTo>
                      <a:pt x="2315" y="58"/>
                      <a:pt x="2317" y="55"/>
                      <a:pt x="2319" y="53"/>
                    </a:cubicBezTo>
                    <a:cubicBezTo>
                      <a:pt x="2319" y="58"/>
                      <a:pt x="2318" y="66"/>
                      <a:pt x="2317" y="75"/>
                    </a:cubicBezTo>
                    <a:close/>
                    <a:moveTo>
                      <a:pt x="2324" y="139"/>
                    </a:moveTo>
                    <a:cubicBezTo>
                      <a:pt x="2324" y="139"/>
                      <a:pt x="2324" y="139"/>
                      <a:pt x="2323" y="139"/>
                    </a:cubicBezTo>
                    <a:cubicBezTo>
                      <a:pt x="2323" y="138"/>
                      <a:pt x="2323" y="138"/>
                      <a:pt x="2324" y="138"/>
                    </a:cubicBezTo>
                    <a:cubicBezTo>
                      <a:pt x="2324" y="138"/>
                      <a:pt x="2324" y="138"/>
                      <a:pt x="2324" y="138"/>
                    </a:cubicBezTo>
                    <a:cubicBezTo>
                      <a:pt x="2324" y="139"/>
                      <a:pt x="2324" y="139"/>
                      <a:pt x="2324" y="139"/>
                    </a:cubicBezTo>
                    <a:close/>
                    <a:moveTo>
                      <a:pt x="2349" y="137"/>
                    </a:moveTo>
                    <a:cubicBezTo>
                      <a:pt x="2349" y="136"/>
                      <a:pt x="2348" y="135"/>
                      <a:pt x="2348" y="133"/>
                    </a:cubicBezTo>
                    <a:cubicBezTo>
                      <a:pt x="2348" y="132"/>
                      <a:pt x="2348" y="130"/>
                      <a:pt x="2348" y="128"/>
                    </a:cubicBezTo>
                    <a:cubicBezTo>
                      <a:pt x="2348" y="131"/>
                      <a:pt x="2349" y="133"/>
                      <a:pt x="2350" y="135"/>
                    </a:cubicBezTo>
                    <a:cubicBezTo>
                      <a:pt x="2350" y="136"/>
                      <a:pt x="2349" y="137"/>
                      <a:pt x="2349" y="137"/>
                    </a:cubicBezTo>
                    <a:close/>
                    <a:moveTo>
                      <a:pt x="2355" y="99"/>
                    </a:moveTo>
                    <a:cubicBezTo>
                      <a:pt x="2354" y="95"/>
                      <a:pt x="2352" y="92"/>
                      <a:pt x="2350" y="90"/>
                    </a:cubicBezTo>
                    <a:cubicBezTo>
                      <a:pt x="2352" y="93"/>
                      <a:pt x="2354" y="97"/>
                      <a:pt x="2355" y="101"/>
                    </a:cubicBezTo>
                    <a:cubicBezTo>
                      <a:pt x="2354" y="110"/>
                      <a:pt x="2353" y="118"/>
                      <a:pt x="2351" y="125"/>
                    </a:cubicBezTo>
                    <a:cubicBezTo>
                      <a:pt x="2350" y="122"/>
                      <a:pt x="2349" y="119"/>
                      <a:pt x="2349" y="116"/>
                    </a:cubicBezTo>
                    <a:cubicBezTo>
                      <a:pt x="2349" y="102"/>
                      <a:pt x="2350" y="86"/>
                      <a:pt x="2351" y="72"/>
                    </a:cubicBezTo>
                    <a:cubicBezTo>
                      <a:pt x="2353" y="75"/>
                      <a:pt x="2356" y="79"/>
                      <a:pt x="2358" y="82"/>
                    </a:cubicBezTo>
                    <a:cubicBezTo>
                      <a:pt x="2357" y="88"/>
                      <a:pt x="2356" y="93"/>
                      <a:pt x="2355" y="99"/>
                    </a:cubicBezTo>
                    <a:close/>
                    <a:moveTo>
                      <a:pt x="2358" y="142"/>
                    </a:moveTo>
                    <a:cubicBezTo>
                      <a:pt x="2359" y="134"/>
                      <a:pt x="2360" y="127"/>
                      <a:pt x="2360" y="121"/>
                    </a:cubicBezTo>
                    <a:cubicBezTo>
                      <a:pt x="2360" y="123"/>
                      <a:pt x="2361" y="125"/>
                      <a:pt x="2361" y="127"/>
                    </a:cubicBezTo>
                    <a:cubicBezTo>
                      <a:pt x="2360" y="136"/>
                      <a:pt x="2358" y="142"/>
                      <a:pt x="2358" y="142"/>
                    </a:cubicBezTo>
                    <a:close/>
                    <a:moveTo>
                      <a:pt x="2362" y="144"/>
                    </a:moveTo>
                    <a:cubicBezTo>
                      <a:pt x="2362" y="142"/>
                      <a:pt x="2362" y="140"/>
                      <a:pt x="2363" y="137"/>
                    </a:cubicBezTo>
                    <a:cubicBezTo>
                      <a:pt x="2363" y="138"/>
                      <a:pt x="2363" y="138"/>
                      <a:pt x="2363" y="138"/>
                    </a:cubicBezTo>
                    <a:cubicBezTo>
                      <a:pt x="2362" y="142"/>
                      <a:pt x="2362" y="144"/>
                      <a:pt x="2362" y="144"/>
                    </a:cubicBezTo>
                    <a:close/>
                    <a:moveTo>
                      <a:pt x="2361" y="110"/>
                    </a:moveTo>
                    <a:cubicBezTo>
                      <a:pt x="2361" y="103"/>
                      <a:pt x="2362" y="96"/>
                      <a:pt x="2362" y="90"/>
                    </a:cubicBezTo>
                    <a:cubicBezTo>
                      <a:pt x="2364" y="93"/>
                      <a:pt x="2365" y="96"/>
                      <a:pt x="2366" y="99"/>
                    </a:cubicBezTo>
                    <a:cubicBezTo>
                      <a:pt x="2365" y="105"/>
                      <a:pt x="2364" y="111"/>
                      <a:pt x="2363" y="116"/>
                    </a:cubicBezTo>
                    <a:cubicBezTo>
                      <a:pt x="2362" y="114"/>
                      <a:pt x="2362" y="112"/>
                      <a:pt x="2361" y="110"/>
                    </a:cubicBezTo>
                    <a:close/>
                    <a:moveTo>
                      <a:pt x="2366" y="124"/>
                    </a:moveTo>
                    <a:cubicBezTo>
                      <a:pt x="2365" y="123"/>
                      <a:pt x="2365" y="122"/>
                      <a:pt x="2365" y="121"/>
                    </a:cubicBezTo>
                    <a:cubicBezTo>
                      <a:pt x="2365" y="115"/>
                      <a:pt x="2366" y="109"/>
                      <a:pt x="2367" y="103"/>
                    </a:cubicBezTo>
                    <a:cubicBezTo>
                      <a:pt x="2368" y="105"/>
                      <a:pt x="2368" y="107"/>
                      <a:pt x="2369" y="109"/>
                    </a:cubicBezTo>
                    <a:cubicBezTo>
                      <a:pt x="2368" y="114"/>
                      <a:pt x="2367" y="119"/>
                      <a:pt x="2366" y="124"/>
                    </a:cubicBezTo>
                    <a:close/>
                    <a:moveTo>
                      <a:pt x="2371" y="146"/>
                    </a:moveTo>
                    <a:cubicBezTo>
                      <a:pt x="2371" y="145"/>
                      <a:pt x="2371" y="145"/>
                      <a:pt x="2371" y="145"/>
                    </a:cubicBezTo>
                    <a:cubicBezTo>
                      <a:pt x="2372" y="144"/>
                      <a:pt x="2372" y="143"/>
                      <a:pt x="2372" y="141"/>
                    </a:cubicBezTo>
                    <a:cubicBezTo>
                      <a:pt x="2372" y="142"/>
                      <a:pt x="2372" y="143"/>
                      <a:pt x="2372" y="144"/>
                    </a:cubicBezTo>
                    <a:cubicBezTo>
                      <a:pt x="2372" y="145"/>
                      <a:pt x="2372" y="145"/>
                      <a:pt x="2371" y="146"/>
                    </a:cubicBezTo>
                    <a:close/>
                    <a:moveTo>
                      <a:pt x="2395" y="118"/>
                    </a:moveTo>
                    <a:cubicBezTo>
                      <a:pt x="2394" y="114"/>
                      <a:pt x="2392" y="111"/>
                      <a:pt x="2391" y="107"/>
                    </a:cubicBezTo>
                    <a:cubicBezTo>
                      <a:pt x="2391" y="96"/>
                      <a:pt x="2391" y="84"/>
                      <a:pt x="2391" y="74"/>
                    </a:cubicBezTo>
                    <a:cubicBezTo>
                      <a:pt x="2391" y="70"/>
                      <a:pt x="2391" y="67"/>
                      <a:pt x="2390" y="65"/>
                    </a:cubicBezTo>
                    <a:cubicBezTo>
                      <a:pt x="2391" y="74"/>
                      <a:pt x="2395" y="84"/>
                      <a:pt x="2398" y="94"/>
                    </a:cubicBezTo>
                    <a:cubicBezTo>
                      <a:pt x="2397" y="102"/>
                      <a:pt x="2396" y="110"/>
                      <a:pt x="2395" y="118"/>
                    </a:cubicBezTo>
                    <a:close/>
                    <a:moveTo>
                      <a:pt x="2424" y="124"/>
                    </a:moveTo>
                    <a:cubicBezTo>
                      <a:pt x="2423" y="122"/>
                      <a:pt x="2423" y="120"/>
                      <a:pt x="2422" y="117"/>
                    </a:cubicBezTo>
                    <a:cubicBezTo>
                      <a:pt x="2423" y="109"/>
                      <a:pt x="2424" y="100"/>
                      <a:pt x="2425" y="92"/>
                    </a:cubicBezTo>
                    <a:cubicBezTo>
                      <a:pt x="2427" y="96"/>
                      <a:pt x="2428" y="100"/>
                      <a:pt x="2428" y="104"/>
                    </a:cubicBezTo>
                    <a:cubicBezTo>
                      <a:pt x="2427" y="111"/>
                      <a:pt x="2425" y="118"/>
                      <a:pt x="2424" y="124"/>
                    </a:cubicBezTo>
                    <a:close/>
                    <a:moveTo>
                      <a:pt x="2464" y="133"/>
                    </a:moveTo>
                    <a:cubicBezTo>
                      <a:pt x="2464" y="130"/>
                      <a:pt x="2463" y="126"/>
                      <a:pt x="2462" y="122"/>
                    </a:cubicBezTo>
                    <a:cubicBezTo>
                      <a:pt x="2462" y="112"/>
                      <a:pt x="2462" y="100"/>
                      <a:pt x="2463" y="88"/>
                    </a:cubicBezTo>
                    <a:cubicBezTo>
                      <a:pt x="2465" y="96"/>
                      <a:pt x="2467" y="104"/>
                      <a:pt x="2467" y="111"/>
                    </a:cubicBezTo>
                    <a:cubicBezTo>
                      <a:pt x="2468" y="117"/>
                      <a:pt x="2468" y="117"/>
                      <a:pt x="2468" y="117"/>
                    </a:cubicBezTo>
                    <a:cubicBezTo>
                      <a:pt x="2466" y="123"/>
                      <a:pt x="2465" y="129"/>
                      <a:pt x="2464" y="133"/>
                    </a:cubicBezTo>
                    <a:close/>
                    <a:moveTo>
                      <a:pt x="2477" y="110"/>
                    </a:moveTo>
                    <a:cubicBezTo>
                      <a:pt x="2477" y="113"/>
                      <a:pt x="2477" y="116"/>
                      <a:pt x="2477" y="119"/>
                    </a:cubicBezTo>
                    <a:cubicBezTo>
                      <a:pt x="2476" y="122"/>
                      <a:pt x="2476" y="124"/>
                      <a:pt x="2475" y="127"/>
                    </a:cubicBezTo>
                    <a:cubicBezTo>
                      <a:pt x="2475" y="119"/>
                      <a:pt x="2474" y="111"/>
                      <a:pt x="2473" y="104"/>
                    </a:cubicBezTo>
                    <a:cubicBezTo>
                      <a:pt x="2474" y="98"/>
                      <a:pt x="2474" y="91"/>
                      <a:pt x="2475" y="86"/>
                    </a:cubicBezTo>
                    <a:cubicBezTo>
                      <a:pt x="2477" y="93"/>
                      <a:pt x="2477" y="102"/>
                      <a:pt x="2477" y="110"/>
                    </a:cubicBezTo>
                    <a:close/>
                    <a:moveTo>
                      <a:pt x="2487" y="142"/>
                    </a:moveTo>
                    <a:cubicBezTo>
                      <a:pt x="2487" y="142"/>
                      <a:pt x="2487" y="141"/>
                      <a:pt x="2488" y="138"/>
                    </a:cubicBezTo>
                    <a:cubicBezTo>
                      <a:pt x="2489" y="120"/>
                      <a:pt x="2488" y="96"/>
                      <a:pt x="2487" y="77"/>
                    </a:cubicBezTo>
                    <a:cubicBezTo>
                      <a:pt x="2489" y="81"/>
                      <a:pt x="2491" y="86"/>
                      <a:pt x="2492" y="92"/>
                    </a:cubicBezTo>
                    <a:cubicBezTo>
                      <a:pt x="2490" y="108"/>
                      <a:pt x="2488" y="129"/>
                      <a:pt x="2488" y="138"/>
                    </a:cubicBezTo>
                    <a:cubicBezTo>
                      <a:pt x="2487" y="139"/>
                      <a:pt x="2487" y="141"/>
                      <a:pt x="2487" y="142"/>
                    </a:cubicBezTo>
                    <a:close/>
                    <a:moveTo>
                      <a:pt x="2491" y="129"/>
                    </a:moveTo>
                    <a:cubicBezTo>
                      <a:pt x="2491" y="119"/>
                      <a:pt x="2492" y="107"/>
                      <a:pt x="2493" y="97"/>
                    </a:cubicBezTo>
                    <a:cubicBezTo>
                      <a:pt x="2493" y="100"/>
                      <a:pt x="2493" y="103"/>
                      <a:pt x="2493" y="106"/>
                    </a:cubicBezTo>
                    <a:cubicBezTo>
                      <a:pt x="2493" y="114"/>
                      <a:pt x="2492" y="121"/>
                      <a:pt x="2491" y="129"/>
                    </a:cubicBezTo>
                    <a:close/>
                    <a:moveTo>
                      <a:pt x="2502" y="125"/>
                    </a:moveTo>
                    <a:cubicBezTo>
                      <a:pt x="2503" y="120"/>
                      <a:pt x="2503" y="113"/>
                      <a:pt x="2503" y="107"/>
                    </a:cubicBezTo>
                    <a:cubicBezTo>
                      <a:pt x="2503" y="114"/>
                      <a:pt x="2503" y="120"/>
                      <a:pt x="2502" y="125"/>
                    </a:cubicBezTo>
                    <a:close/>
                    <a:moveTo>
                      <a:pt x="2517" y="112"/>
                    </a:moveTo>
                    <a:cubicBezTo>
                      <a:pt x="2517" y="105"/>
                      <a:pt x="2517" y="98"/>
                      <a:pt x="2517" y="91"/>
                    </a:cubicBezTo>
                    <a:cubicBezTo>
                      <a:pt x="2518" y="95"/>
                      <a:pt x="2518" y="99"/>
                      <a:pt x="2518" y="103"/>
                    </a:cubicBezTo>
                    <a:cubicBezTo>
                      <a:pt x="2518" y="106"/>
                      <a:pt x="2518" y="109"/>
                      <a:pt x="2517" y="112"/>
                    </a:cubicBezTo>
                    <a:close/>
                    <a:moveTo>
                      <a:pt x="2528" y="129"/>
                    </a:moveTo>
                    <a:cubicBezTo>
                      <a:pt x="2528" y="129"/>
                      <a:pt x="2528" y="129"/>
                      <a:pt x="2527" y="130"/>
                    </a:cubicBezTo>
                    <a:cubicBezTo>
                      <a:pt x="2527" y="132"/>
                      <a:pt x="2526" y="134"/>
                      <a:pt x="2526" y="137"/>
                    </a:cubicBezTo>
                    <a:cubicBezTo>
                      <a:pt x="2526" y="136"/>
                      <a:pt x="2526" y="136"/>
                      <a:pt x="2526" y="136"/>
                    </a:cubicBezTo>
                    <a:cubicBezTo>
                      <a:pt x="2526" y="134"/>
                      <a:pt x="2527" y="132"/>
                      <a:pt x="2527" y="130"/>
                    </a:cubicBezTo>
                    <a:cubicBezTo>
                      <a:pt x="2528" y="129"/>
                      <a:pt x="2528" y="129"/>
                      <a:pt x="2528" y="129"/>
                    </a:cubicBezTo>
                    <a:cubicBezTo>
                      <a:pt x="2528" y="129"/>
                      <a:pt x="2528" y="129"/>
                      <a:pt x="2528" y="129"/>
                    </a:cubicBezTo>
                    <a:close/>
                    <a:moveTo>
                      <a:pt x="2564" y="130"/>
                    </a:moveTo>
                    <a:cubicBezTo>
                      <a:pt x="2564" y="132"/>
                      <a:pt x="2563" y="134"/>
                      <a:pt x="2562" y="136"/>
                    </a:cubicBezTo>
                    <a:cubicBezTo>
                      <a:pt x="2562" y="131"/>
                      <a:pt x="2562" y="126"/>
                      <a:pt x="2562" y="121"/>
                    </a:cubicBezTo>
                    <a:cubicBezTo>
                      <a:pt x="2564" y="115"/>
                      <a:pt x="2566" y="110"/>
                      <a:pt x="2567" y="104"/>
                    </a:cubicBezTo>
                    <a:cubicBezTo>
                      <a:pt x="2566" y="114"/>
                      <a:pt x="2565" y="123"/>
                      <a:pt x="2564" y="130"/>
                    </a:cubicBezTo>
                    <a:close/>
                    <a:moveTo>
                      <a:pt x="2580" y="124"/>
                    </a:moveTo>
                    <a:cubicBezTo>
                      <a:pt x="2580" y="110"/>
                      <a:pt x="2582" y="94"/>
                      <a:pt x="2583" y="83"/>
                    </a:cubicBezTo>
                    <a:cubicBezTo>
                      <a:pt x="2583" y="87"/>
                      <a:pt x="2583" y="91"/>
                      <a:pt x="2583" y="95"/>
                    </a:cubicBezTo>
                    <a:cubicBezTo>
                      <a:pt x="2583" y="105"/>
                      <a:pt x="2582" y="114"/>
                      <a:pt x="2580" y="124"/>
                    </a:cubicBezTo>
                    <a:close/>
                    <a:moveTo>
                      <a:pt x="2596" y="160"/>
                    </a:moveTo>
                    <a:cubicBezTo>
                      <a:pt x="2596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6" y="160"/>
                    </a:cubicBezTo>
                    <a:close/>
                    <a:moveTo>
                      <a:pt x="2609" y="116"/>
                    </a:moveTo>
                    <a:cubicBezTo>
                      <a:pt x="2608" y="121"/>
                      <a:pt x="2606" y="127"/>
                      <a:pt x="2604" y="132"/>
                    </a:cubicBezTo>
                    <a:cubicBezTo>
                      <a:pt x="2604" y="127"/>
                      <a:pt x="2604" y="121"/>
                      <a:pt x="2604" y="115"/>
                    </a:cubicBezTo>
                    <a:cubicBezTo>
                      <a:pt x="2605" y="110"/>
                      <a:pt x="2605" y="104"/>
                      <a:pt x="2605" y="98"/>
                    </a:cubicBezTo>
                    <a:cubicBezTo>
                      <a:pt x="2605" y="95"/>
                      <a:pt x="2605" y="92"/>
                      <a:pt x="2605" y="89"/>
                    </a:cubicBezTo>
                    <a:cubicBezTo>
                      <a:pt x="2606" y="78"/>
                      <a:pt x="2607" y="68"/>
                      <a:pt x="2608" y="60"/>
                    </a:cubicBezTo>
                    <a:cubicBezTo>
                      <a:pt x="2611" y="68"/>
                      <a:pt x="2613" y="78"/>
                      <a:pt x="2613" y="87"/>
                    </a:cubicBezTo>
                    <a:cubicBezTo>
                      <a:pt x="2612" y="95"/>
                      <a:pt x="2611" y="106"/>
                      <a:pt x="2609" y="116"/>
                    </a:cubicBezTo>
                    <a:close/>
                    <a:moveTo>
                      <a:pt x="2617" y="136"/>
                    </a:moveTo>
                    <a:cubicBezTo>
                      <a:pt x="2617" y="137"/>
                      <a:pt x="2616" y="138"/>
                      <a:pt x="2616" y="139"/>
                    </a:cubicBezTo>
                    <a:cubicBezTo>
                      <a:pt x="2616" y="137"/>
                      <a:pt x="2616" y="135"/>
                      <a:pt x="2616" y="133"/>
                    </a:cubicBezTo>
                    <a:cubicBezTo>
                      <a:pt x="2617" y="130"/>
                      <a:pt x="2617" y="128"/>
                      <a:pt x="2618" y="125"/>
                    </a:cubicBezTo>
                    <a:cubicBezTo>
                      <a:pt x="2618" y="129"/>
                      <a:pt x="2617" y="133"/>
                      <a:pt x="2617" y="136"/>
                    </a:cubicBezTo>
                    <a:close/>
                    <a:moveTo>
                      <a:pt x="2633" y="126"/>
                    </a:moveTo>
                    <a:cubicBezTo>
                      <a:pt x="2632" y="113"/>
                      <a:pt x="2632" y="96"/>
                      <a:pt x="2632" y="84"/>
                    </a:cubicBezTo>
                    <a:cubicBezTo>
                      <a:pt x="2636" y="90"/>
                      <a:pt x="2638" y="100"/>
                      <a:pt x="2638" y="104"/>
                    </a:cubicBezTo>
                    <a:cubicBezTo>
                      <a:pt x="2638" y="110"/>
                      <a:pt x="2635" y="118"/>
                      <a:pt x="2633" y="126"/>
                    </a:cubicBezTo>
                    <a:close/>
                    <a:moveTo>
                      <a:pt x="2644" y="128"/>
                    </a:moveTo>
                    <a:cubicBezTo>
                      <a:pt x="2645" y="113"/>
                      <a:pt x="2645" y="91"/>
                      <a:pt x="2645" y="76"/>
                    </a:cubicBezTo>
                    <a:cubicBezTo>
                      <a:pt x="2647" y="83"/>
                      <a:pt x="2649" y="90"/>
                      <a:pt x="2649" y="96"/>
                    </a:cubicBezTo>
                    <a:cubicBezTo>
                      <a:pt x="2649" y="107"/>
                      <a:pt x="2646" y="117"/>
                      <a:pt x="2644" y="128"/>
                    </a:cubicBezTo>
                    <a:close/>
                    <a:moveTo>
                      <a:pt x="2684" y="112"/>
                    </a:moveTo>
                    <a:cubicBezTo>
                      <a:pt x="2684" y="110"/>
                      <a:pt x="2684" y="108"/>
                      <a:pt x="2683" y="105"/>
                    </a:cubicBezTo>
                    <a:cubicBezTo>
                      <a:pt x="2684" y="108"/>
                      <a:pt x="2683" y="112"/>
                      <a:pt x="2683" y="115"/>
                    </a:cubicBezTo>
                    <a:cubicBezTo>
                      <a:pt x="2678" y="131"/>
                      <a:pt x="2674" y="144"/>
                      <a:pt x="2674" y="144"/>
                    </a:cubicBezTo>
                    <a:cubicBezTo>
                      <a:pt x="2675" y="133"/>
                      <a:pt x="2679" y="110"/>
                      <a:pt x="2684" y="86"/>
                    </a:cubicBezTo>
                    <a:cubicBezTo>
                      <a:pt x="2686" y="90"/>
                      <a:pt x="2687" y="95"/>
                      <a:pt x="2688" y="99"/>
                    </a:cubicBezTo>
                    <a:cubicBezTo>
                      <a:pt x="2686" y="103"/>
                      <a:pt x="2685" y="108"/>
                      <a:pt x="2684" y="112"/>
                    </a:cubicBezTo>
                    <a:close/>
                    <a:moveTo>
                      <a:pt x="2696" y="133"/>
                    </a:moveTo>
                    <a:cubicBezTo>
                      <a:pt x="2696" y="133"/>
                      <a:pt x="2696" y="134"/>
                      <a:pt x="2696" y="134"/>
                    </a:cubicBezTo>
                    <a:cubicBezTo>
                      <a:pt x="2696" y="134"/>
                      <a:pt x="2696" y="134"/>
                      <a:pt x="2696" y="134"/>
                    </a:cubicBezTo>
                    <a:cubicBezTo>
                      <a:pt x="2696" y="134"/>
                      <a:pt x="2696" y="133"/>
                      <a:pt x="2696" y="133"/>
                    </a:cubicBezTo>
                    <a:cubicBezTo>
                      <a:pt x="2697" y="126"/>
                      <a:pt x="2698" y="117"/>
                      <a:pt x="2699" y="107"/>
                    </a:cubicBezTo>
                    <a:cubicBezTo>
                      <a:pt x="2699" y="110"/>
                      <a:pt x="2699" y="114"/>
                      <a:pt x="2699" y="117"/>
                    </a:cubicBezTo>
                    <a:cubicBezTo>
                      <a:pt x="2698" y="123"/>
                      <a:pt x="2697" y="129"/>
                      <a:pt x="2696" y="133"/>
                    </a:cubicBezTo>
                    <a:close/>
                    <a:moveTo>
                      <a:pt x="2701" y="159"/>
                    </a:move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lose/>
                    <a:moveTo>
                      <a:pt x="2742" y="143"/>
                    </a:moveTo>
                    <a:cubicBezTo>
                      <a:pt x="2742" y="142"/>
                      <a:pt x="2742" y="142"/>
                      <a:pt x="2742" y="141"/>
                    </a:cubicBezTo>
                    <a:cubicBezTo>
                      <a:pt x="2742" y="135"/>
                      <a:pt x="2743" y="127"/>
                      <a:pt x="2743" y="117"/>
                    </a:cubicBezTo>
                    <a:cubicBezTo>
                      <a:pt x="2744" y="121"/>
                      <a:pt x="2744" y="125"/>
                      <a:pt x="2744" y="129"/>
                    </a:cubicBezTo>
                    <a:cubicBezTo>
                      <a:pt x="2743" y="135"/>
                      <a:pt x="2743" y="139"/>
                      <a:pt x="2742" y="143"/>
                    </a:cubicBezTo>
                    <a:close/>
                    <a:moveTo>
                      <a:pt x="2746" y="117"/>
                    </a:moveTo>
                    <a:cubicBezTo>
                      <a:pt x="2745" y="115"/>
                      <a:pt x="2744" y="113"/>
                      <a:pt x="2744" y="111"/>
                    </a:cubicBezTo>
                    <a:cubicBezTo>
                      <a:pt x="2744" y="108"/>
                      <a:pt x="2744" y="104"/>
                      <a:pt x="2745" y="100"/>
                    </a:cubicBezTo>
                    <a:cubicBezTo>
                      <a:pt x="2746" y="103"/>
                      <a:pt x="2746" y="106"/>
                      <a:pt x="2747" y="108"/>
                    </a:cubicBezTo>
                    <a:cubicBezTo>
                      <a:pt x="2746" y="111"/>
                      <a:pt x="2746" y="114"/>
                      <a:pt x="2746" y="117"/>
                    </a:cubicBezTo>
                    <a:close/>
                    <a:moveTo>
                      <a:pt x="2754" y="133"/>
                    </a:moveTo>
                    <a:cubicBezTo>
                      <a:pt x="2754" y="133"/>
                      <a:pt x="2754" y="133"/>
                      <a:pt x="2754" y="133"/>
                    </a:cubicBezTo>
                    <a:cubicBezTo>
                      <a:pt x="2754" y="130"/>
                      <a:pt x="2755" y="127"/>
                      <a:pt x="2755" y="124"/>
                    </a:cubicBezTo>
                    <a:cubicBezTo>
                      <a:pt x="2755" y="125"/>
                      <a:pt x="2755" y="126"/>
                      <a:pt x="2755" y="128"/>
                    </a:cubicBezTo>
                    <a:cubicBezTo>
                      <a:pt x="2755" y="130"/>
                      <a:pt x="2754" y="131"/>
                      <a:pt x="2754" y="133"/>
                    </a:cubicBezTo>
                    <a:close/>
                    <a:moveTo>
                      <a:pt x="2791" y="142"/>
                    </a:moveTo>
                    <a:cubicBezTo>
                      <a:pt x="2791" y="139"/>
                      <a:pt x="2791" y="134"/>
                      <a:pt x="2791" y="128"/>
                    </a:cubicBezTo>
                    <a:cubicBezTo>
                      <a:pt x="2791" y="130"/>
                      <a:pt x="2791" y="132"/>
                      <a:pt x="2792" y="133"/>
                    </a:cubicBezTo>
                    <a:cubicBezTo>
                      <a:pt x="2791" y="139"/>
                      <a:pt x="2791" y="142"/>
                      <a:pt x="2791" y="142"/>
                    </a:cubicBezTo>
                    <a:close/>
                    <a:moveTo>
                      <a:pt x="2812" y="135"/>
                    </a:moveTo>
                    <a:cubicBezTo>
                      <a:pt x="2812" y="134"/>
                      <a:pt x="2812" y="134"/>
                      <a:pt x="2812" y="133"/>
                    </a:cubicBezTo>
                    <a:cubicBezTo>
                      <a:pt x="2812" y="121"/>
                      <a:pt x="2812" y="103"/>
                      <a:pt x="2811" y="88"/>
                    </a:cubicBezTo>
                    <a:cubicBezTo>
                      <a:pt x="2813" y="94"/>
                      <a:pt x="2815" y="100"/>
                      <a:pt x="2816" y="106"/>
                    </a:cubicBezTo>
                    <a:cubicBezTo>
                      <a:pt x="2814" y="118"/>
                      <a:pt x="2813" y="128"/>
                      <a:pt x="2812" y="135"/>
                    </a:cubicBezTo>
                    <a:close/>
                    <a:moveTo>
                      <a:pt x="2819" y="145"/>
                    </a:moveTo>
                    <a:cubicBezTo>
                      <a:pt x="2819" y="141"/>
                      <a:pt x="2819" y="136"/>
                      <a:pt x="2819" y="129"/>
                    </a:cubicBezTo>
                    <a:cubicBezTo>
                      <a:pt x="2820" y="133"/>
                      <a:pt x="2820" y="136"/>
                      <a:pt x="2821" y="139"/>
                    </a:cubicBezTo>
                    <a:cubicBezTo>
                      <a:pt x="2820" y="143"/>
                      <a:pt x="2819" y="145"/>
                      <a:pt x="2819" y="145"/>
                    </a:cubicBezTo>
                    <a:close/>
                    <a:moveTo>
                      <a:pt x="2824" y="159"/>
                    </a:moveTo>
                    <a:cubicBezTo>
                      <a:pt x="2825" y="159"/>
                      <a:pt x="2825" y="159"/>
                      <a:pt x="2825" y="159"/>
                    </a:cubicBezTo>
                    <a:cubicBezTo>
                      <a:pt x="2825" y="159"/>
                      <a:pt x="2825" y="158"/>
                      <a:pt x="2825" y="158"/>
                    </a:cubicBezTo>
                    <a:cubicBezTo>
                      <a:pt x="2825" y="159"/>
                      <a:pt x="2826" y="160"/>
                      <a:pt x="2826" y="160"/>
                    </a:cubicBezTo>
                    <a:cubicBezTo>
                      <a:pt x="2825" y="160"/>
                      <a:pt x="2825" y="159"/>
                      <a:pt x="2824" y="159"/>
                    </a:cubicBezTo>
                    <a:close/>
                    <a:moveTo>
                      <a:pt x="2826" y="121"/>
                    </a:moveTo>
                    <a:cubicBezTo>
                      <a:pt x="2824" y="117"/>
                      <a:pt x="2823" y="114"/>
                      <a:pt x="2821" y="110"/>
                    </a:cubicBezTo>
                    <a:cubicBezTo>
                      <a:pt x="2822" y="105"/>
                      <a:pt x="2822" y="99"/>
                      <a:pt x="2823" y="94"/>
                    </a:cubicBezTo>
                    <a:cubicBezTo>
                      <a:pt x="2823" y="100"/>
                      <a:pt x="2825" y="108"/>
                      <a:pt x="2827" y="116"/>
                    </a:cubicBezTo>
                    <a:cubicBezTo>
                      <a:pt x="2826" y="118"/>
                      <a:pt x="2826" y="119"/>
                      <a:pt x="2826" y="121"/>
                    </a:cubicBezTo>
                    <a:close/>
                    <a:moveTo>
                      <a:pt x="2834" y="142"/>
                    </a:moveTo>
                    <a:cubicBezTo>
                      <a:pt x="2833" y="138"/>
                      <a:pt x="2831" y="134"/>
                      <a:pt x="2829" y="129"/>
                    </a:cubicBezTo>
                    <a:cubicBezTo>
                      <a:pt x="2829" y="129"/>
                      <a:pt x="2829" y="128"/>
                      <a:pt x="2829" y="127"/>
                    </a:cubicBezTo>
                    <a:cubicBezTo>
                      <a:pt x="2831" y="132"/>
                      <a:pt x="2832" y="137"/>
                      <a:pt x="2834" y="142"/>
                    </a:cubicBezTo>
                    <a:cubicBezTo>
                      <a:pt x="2837" y="149"/>
                      <a:pt x="2839" y="153"/>
                      <a:pt x="2839" y="155"/>
                    </a:cubicBezTo>
                    <a:cubicBezTo>
                      <a:pt x="2837" y="151"/>
                      <a:pt x="2836" y="147"/>
                      <a:pt x="2834" y="142"/>
                    </a:cubicBezTo>
                    <a:close/>
                    <a:moveTo>
                      <a:pt x="3059" y="87"/>
                    </a:moveTo>
                    <a:cubicBezTo>
                      <a:pt x="3060" y="90"/>
                      <a:pt x="3061" y="92"/>
                      <a:pt x="3061" y="95"/>
                    </a:cubicBezTo>
                    <a:cubicBezTo>
                      <a:pt x="3061" y="94"/>
                      <a:pt x="3060" y="93"/>
                      <a:pt x="3059" y="92"/>
                    </a:cubicBezTo>
                    <a:cubicBezTo>
                      <a:pt x="3059" y="90"/>
                      <a:pt x="3059" y="89"/>
                      <a:pt x="3059" y="87"/>
                    </a:cubicBezTo>
                    <a:close/>
                    <a:moveTo>
                      <a:pt x="3047" y="84"/>
                    </a:moveTo>
                    <a:cubicBezTo>
                      <a:pt x="3050" y="87"/>
                      <a:pt x="3052" y="92"/>
                      <a:pt x="3055" y="96"/>
                    </a:cubicBezTo>
                    <a:cubicBezTo>
                      <a:pt x="3055" y="97"/>
                      <a:pt x="3056" y="99"/>
                      <a:pt x="3056" y="100"/>
                    </a:cubicBezTo>
                    <a:cubicBezTo>
                      <a:pt x="3056" y="104"/>
                      <a:pt x="3055" y="108"/>
                      <a:pt x="3054" y="112"/>
                    </a:cubicBezTo>
                    <a:cubicBezTo>
                      <a:pt x="3052" y="105"/>
                      <a:pt x="3049" y="98"/>
                      <a:pt x="3046" y="91"/>
                    </a:cubicBezTo>
                    <a:cubicBezTo>
                      <a:pt x="3046" y="89"/>
                      <a:pt x="3047" y="86"/>
                      <a:pt x="3047" y="84"/>
                    </a:cubicBezTo>
                    <a:close/>
                    <a:moveTo>
                      <a:pt x="3052" y="111"/>
                    </a:moveTo>
                    <a:cubicBezTo>
                      <a:pt x="3049" y="108"/>
                      <a:pt x="3047" y="105"/>
                      <a:pt x="3045" y="102"/>
                    </a:cubicBezTo>
                    <a:cubicBezTo>
                      <a:pt x="3045" y="99"/>
                      <a:pt x="3046" y="96"/>
                      <a:pt x="3046" y="93"/>
                    </a:cubicBezTo>
                    <a:cubicBezTo>
                      <a:pt x="3048" y="98"/>
                      <a:pt x="3050" y="105"/>
                      <a:pt x="3052" y="111"/>
                    </a:cubicBezTo>
                    <a:close/>
                    <a:moveTo>
                      <a:pt x="3034" y="56"/>
                    </a:moveTo>
                    <a:cubicBezTo>
                      <a:pt x="3039" y="62"/>
                      <a:pt x="3042" y="68"/>
                      <a:pt x="3045" y="74"/>
                    </a:cubicBezTo>
                    <a:cubicBezTo>
                      <a:pt x="3042" y="69"/>
                      <a:pt x="3038" y="64"/>
                      <a:pt x="3034" y="60"/>
                    </a:cubicBezTo>
                    <a:cubicBezTo>
                      <a:pt x="3034" y="59"/>
                      <a:pt x="3034" y="57"/>
                      <a:pt x="3034" y="56"/>
                    </a:cubicBezTo>
                    <a:close/>
                    <a:moveTo>
                      <a:pt x="3033" y="64"/>
                    </a:moveTo>
                    <a:cubicBezTo>
                      <a:pt x="3037" y="69"/>
                      <a:pt x="3041" y="74"/>
                      <a:pt x="3044" y="80"/>
                    </a:cubicBezTo>
                    <a:cubicBezTo>
                      <a:pt x="3044" y="81"/>
                      <a:pt x="3043" y="83"/>
                      <a:pt x="3043" y="85"/>
                    </a:cubicBezTo>
                    <a:cubicBezTo>
                      <a:pt x="3042" y="84"/>
                      <a:pt x="3042" y="83"/>
                      <a:pt x="3042" y="83"/>
                    </a:cubicBezTo>
                    <a:cubicBezTo>
                      <a:pt x="3042" y="83"/>
                      <a:pt x="3042" y="84"/>
                      <a:pt x="3043" y="85"/>
                    </a:cubicBezTo>
                    <a:cubicBezTo>
                      <a:pt x="3042" y="88"/>
                      <a:pt x="3041" y="91"/>
                      <a:pt x="3040" y="94"/>
                    </a:cubicBezTo>
                    <a:cubicBezTo>
                      <a:pt x="3037" y="89"/>
                      <a:pt x="3034" y="85"/>
                      <a:pt x="3031" y="80"/>
                    </a:cubicBezTo>
                    <a:cubicBezTo>
                      <a:pt x="3032" y="75"/>
                      <a:pt x="3033" y="69"/>
                      <a:pt x="3033" y="64"/>
                    </a:cubicBezTo>
                    <a:close/>
                    <a:moveTo>
                      <a:pt x="3024" y="139"/>
                    </a:moveTo>
                    <a:cubicBezTo>
                      <a:pt x="3024" y="120"/>
                      <a:pt x="3027" y="101"/>
                      <a:pt x="3030" y="83"/>
                    </a:cubicBezTo>
                    <a:cubicBezTo>
                      <a:pt x="3033" y="87"/>
                      <a:pt x="3036" y="91"/>
                      <a:pt x="3039" y="95"/>
                    </a:cubicBezTo>
                    <a:cubicBezTo>
                      <a:pt x="3033" y="114"/>
                      <a:pt x="3027" y="133"/>
                      <a:pt x="3025" y="152"/>
                    </a:cubicBezTo>
                    <a:cubicBezTo>
                      <a:pt x="3024" y="148"/>
                      <a:pt x="3024" y="143"/>
                      <a:pt x="3024" y="139"/>
                    </a:cubicBezTo>
                    <a:close/>
                    <a:moveTo>
                      <a:pt x="3043" y="143"/>
                    </a:moveTo>
                    <a:cubicBezTo>
                      <a:pt x="3043" y="142"/>
                      <a:pt x="3042" y="141"/>
                      <a:pt x="3041" y="140"/>
                    </a:cubicBezTo>
                    <a:cubicBezTo>
                      <a:pt x="3042" y="141"/>
                      <a:pt x="3042" y="143"/>
                      <a:pt x="3043" y="144"/>
                    </a:cubicBezTo>
                    <a:cubicBezTo>
                      <a:pt x="3041" y="146"/>
                      <a:pt x="3040" y="149"/>
                      <a:pt x="3038" y="152"/>
                    </a:cubicBezTo>
                    <a:cubicBezTo>
                      <a:pt x="3039" y="146"/>
                      <a:pt x="3040" y="140"/>
                      <a:pt x="3041" y="135"/>
                    </a:cubicBezTo>
                    <a:cubicBezTo>
                      <a:pt x="3042" y="137"/>
                      <a:pt x="3043" y="139"/>
                      <a:pt x="3044" y="142"/>
                    </a:cubicBezTo>
                    <a:cubicBezTo>
                      <a:pt x="3044" y="142"/>
                      <a:pt x="3043" y="142"/>
                      <a:pt x="3043" y="143"/>
                    </a:cubicBezTo>
                    <a:close/>
                    <a:moveTo>
                      <a:pt x="3042" y="126"/>
                    </a:moveTo>
                    <a:cubicBezTo>
                      <a:pt x="3043" y="118"/>
                      <a:pt x="3044" y="110"/>
                      <a:pt x="3045" y="102"/>
                    </a:cubicBezTo>
                    <a:cubicBezTo>
                      <a:pt x="3048" y="107"/>
                      <a:pt x="3051" y="112"/>
                      <a:pt x="3053" y="116"/>
                    </a:cubicBezTo>
                    <a:cubicBezTo>
                      <a:pt x="3052" y="122"/>
                      <a:pt x="3050" y="127"/>
                      <a:pt x="3048" y="133"/>
                    </a:cubicBezTo>
                    <a:cubicBezTo>
                      <a:pt x="3045" y="130"/>
                      <a:pt x="3043" y="128"/>
                      <a:pt x="3042" y="126"/>
                    </a:cubicBezTo>
                    <a:close/>
                    <a:moveTo>
                      <a:pt x="3054" y="140"/>
                    </a:moveTo>
                    <a:cubicBezTo>
                      <a:pt x="3053" y="140"/>
                      <a:pt x="3053" y="140"/>
                      <a:pt x="3053" y="140"/>
                    </a:cubicBezTo>
                    <a:cubicBezTo>
                      <a:pt x="3054" y="135"/>
                      <a:pt x="3055" y="130"/>
                      <a:pt x="3056" y="125"/>
                    </a:cubicBezTo>
                    <a:cubicBezTo>
                      <a:pt x="3056" y="127"/>
                      <a:pt x="3057" y="128"/>
                      <a:pt x="3057" y="130"/>
                    </a:cubicBezTo>
                    <a:cubicBezTo>
                      <a:pt x="3056" y="133"/>
                      <a:pt x="3055" y="137"/>
                      <a:pt x="3054" y="140"/>
                    </a:cubicBezTo>
                    <a:close/>
                    <a:moveTo>
                      <a:pt x="3060" y="122"/>
                    </a:moveTo>
                    <a:cubicBezTo>
                      <a:pt x="3059" y="120"/>
                      <a:pt x="3058" y="119"/>
                      <a:pt x="3057" y="117"/>
                    </a:cubicBezTo>
                    <a:cubicBezTo>
                      <a:pt x="3057" y="114"/>
                      <a:pt x="3058" y="110"/>
                      <a:pt x="3058" y="106"/>
                    </a:cubicBezTo>
                    <a:cubicBezTo>
                      <a:pt x="3059" y="111"/>
                      <a:pt x="3060" y="115"/>
                      <a:pt x="3061" y="120"/>
                    </a:cubicBezTo>
                    <a:cubicBezTo>
                      <a:pt x="3061" y="120"/>
                      <a:pt x="3061" y="121"/>
                      <a:pt x="3060" y="122"/>
                    </a:cubicBezTo>
                    <a:close/>
                    <a:moveTo>
                      <a:pt x="3062" y="151"/>
                    </a:moveTo>
                    <a:cubicBezTo>
                      <a:pt x="3061" y="151"/>
                      <a:pt x="3061" y="151"/>
                      <a:pt x="3061" y="151"/>
                    </a:cubicBezTo>
                    <a:cubicBezTo>
                      <a:pt x="3062" y="150"/>
                      <a:pt x="3062" y="150"/>
                      <a:pt x="3062" y="149"/>
                    </a:cubicBezTo>
                    <a:cubicBezTo>
                      <a:pt x="3062" y="149"/>
                      <a:pt x="3062" y="149"/>
                      <a:pt x="3062" y="149"/>
                    </a:cubicBezTo>
                    <a:cubicBezTo>
                      <a:pt x="3062" y="150"/>
                      <a:pt x="3062" y="150"/>
                      <a:pt x="3062" y="151"/>
                    </a:cubicBezTo>
                    <a:close/>
                    <a:moveTo>
                      <a:pt x="3062" y="117"/>
                    </a:moveTo>
                    <a:cubicBezTo>
                      <a:pt x="3061" y="112"/>
                      <a:pt x="3060" y="107"/>
                      <a:pt x="3058" y="102"/>
                    </a:cubicBezTo>
                    <a:cubicBezTo>
                      <a:pt x="3058" y="102"/>
                      <a:pt x="3059" y="101"/>
                      <a:pt x="3059" y="101"/>
                    </a:cubicBezTo>
                    <a:cubicBezTo>
                      <a:pt x="3061" y="105"/>
                      <a:pt x="3063" y="108"/>
                      <a:pt x="3065" y="112"/>
                    </a:cubicBezTo>
                    <a:cubicBezTo>
                      <a:pt x="3064" y="113"/>
                      <a:pt x="3063" y="115"/>
                      <a:pt x="3063" y="116"/>
                    </a:cubicBezTo>
                    <a:cubicBezTo>
                      <a:pt x="3062" y="117"/>
                      <a:pt x="3062" y="117"/>
                      <a:pt x="3062" y="117"/>
                    </a:cubicBezTo>
                    <a:close/>
                    <a:moveTo>
                      <a:pt x="3065" y="143"/>
                    </a:moveTo>
                    <a:cubicBezTo>
                      <a:pt x="3064" y="142"/>
                      <a:pt x="3064" y="142"/>
                      <a:pt x="3064" y="142"/>
                    </a:cubicBezTo>
                    <a:cubicBezTo>
                      <a:pt x="3064" y="141"/>
                      <a:pt x="3065" y="141"/>
                      <a:pt x="3065" y="140"/>
                    </a:cubicBezTo>
                    <a:cubicBezTo>
                      <a:pt x="3065" y="140"/>
                      <a:pt x="3065" y="141"/>
                      <a:pt x="3065" y="141"/>
                    </a:cubicBezTo>
                    <a:cubicBezTo>
                      <a:pt x="3065" y="142"/>
                      <a:pt x="3065" y="142"/>
                      <a:pt x="3065" y="143"/>
                    </a:cubicBezTo>
                    <a:close/>
                    <a:moveTo>
                      <a:pt x="3068" y="131"/>
                    </a:move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lose/>
                    <a:moveTo>
                      <a:pt x="3070" y="151"/>
                    </a:moveTo>
                    <a:cubicBezTo>
                      <a:pt x="3070" y="151"/>
                      <a:pt x="3070" y="151"/>
                      <a:pt x="3070" y="151"/>
                    </a:cubicBezTo>
                    <a:cubicBezTo>
                      <a:pt x="3070" y="151"/>
                      <a:pt x="3070" y="151"/>
                      <a:pt x="3070" y="152"/>
                    </a:cubicBezTo>
                    <a:cubicBezTo>
                      <a:pt x="3070" y="152"/>
                      <a:pt x="3070" y="151"/>
                      <a:pt x="3070" y="151"/>
                    </a:cubicBezTo>
                    <a:close/>
                    <a:moveTo>
                      <a:pt x="3072" y="126"/>
                    </a:moveTo>
                    <a:cubicBezTo>
                      <a:pt x="3072" y="128"/>
                      <a:pt x="3071" y="129"/>
                      <a:pt x="3070" y="131"/>
                    </a:cubicBezTo>
                    <a:cubicBezTo>
                      <a:pt x="3070" y="129"/>
                      <a:pt x="3070" y="127"/>
                      <a:pt x="3070" y="125"/>
                    </a:cubicBezTo>
                    <a:cubicBezTo>
                      <a:pt x="3070" y="124"/>
                      <a:pt x="3070" y="123"/>
                      <a:pt x="3071" y="122"/>
                    </a:cubicBezTo>
                    <a:cubicBezTo>
                      <a:pt x="3071" y="123"/>
                      <a:pt x="3072" y="124"/>
                      <a:pt x="3072" y="125"/>
                    </a:cubicBezTo>
                    <a:lnTo>
                      <a:pt x="3072" y="126"/>
                    </a:lnTo>
                    <a:close/>
                    <a:moveTo>
                      <a:pt x="3080" y="91"/>
                    </a:moveTo>
                    <a:cubicBezTo>
                      <a:pt x="3080" y="92"/>
                      <a:pt x="3080" y="94"/>
                      <a:pt x="3080" y="96"/>
                    </a:cubicBezTo>
                    <a:cubicBezTo>
                      <a:pt x="3080" y="95"/>
                      <a:pt x="3080" y="94"/>
                      <a:pt x="3079" y="93"/>
                    </a:cubicBezTo>
                    <a:cubicBezTo>
                      <a:pt x="3079" y="92"/>
                      <a:pt x="3079" y="91"/>
                      <a:pt x="3080" y="91"/>
                    </a:cubicBezTo>
                    <a:close/>
                    <a:moveTo>
                      <a:pt x="3078" y="117"/>
                    </a:moveTo>
                    <a:cubicBezTo>
                      <a:pt x="3077" y="113"/>
                      <a:pt x="3076" y="109"/>
                      <a:pt x="3076" y="106"/>
                    </a:cubicBezTo>
                    <a:cubicBezTo>
                      <a:pt x="3076" y="105"/>
                      <a:pt x="3076" y="105"/>
                      <a:pt x="3076" y="104"/>
                    </a:cubicBezTo>
                    <a:cubicBezTo>
                      <a:pt x="3077" y="107"/>
                      <a:pt x="3078" y="111"/>
                      <a:pt x="3079" y="114"/>
                    </a:cubicBezTo>
                    <a:cubicBezTo>
                      <a:pt x="3079" y="115"/>
                      <a:pt x="3078" y="116"/>
                      <a:pt x="3078" y="117"/>
                    </a:cubicBezTo>
                    <a:close/>
                    <a:moveTo>
                      <a:pt x="3081" y="127"/>
                    </a:moveTo>
                    <a:cubicBezTo>
                      <a:pt x="3080" y="127"/>
                      <a:pt x="3080" y="126"/>
                      <a:pt x="3080" y="126"/>
                    </a:cubicBezTo>
                    <a:cubicBezTo>
                      <a:pt x="3080" y="125"/>
                      <a:pt x="3080" y="125"/>
                      <a:pt x="3081" y="124"/>
                    </a:cubicBezTo>
                    <a:cubicBezTo>
                      <a:pt x="3081" y="125"/>
                      <a:pt x="3081" y="126"/>
                      <a:pt x="3081" y="127"/>
                    </a:cubicBezTo>
                    <a:close/>
                    <a:moveTo>
                      <a:pt x="3087" y="141"/>
                    </a:move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39"/>
                      <a:pt x="3087" y="139"/>
                      <a:pt x="3087" y="139"/>
                    </a:cubicBezTo>
                    <a:cubicBezTo>
                      <a:pt x="3087" y="139"/>
                      <a:pt x="3087" y="140"/>
                      <a:pt x="3087" y="141"/>
                    </a:cubicBezTo>
                    <a:close/>
                    <a:moveTo>
                      <a:pt x="3119" y="64"/>
                    </a:moveTo>
                    <a:cubicBezTo>
                      <a:pt x="3120" y="69"/>
                      <a:pt x="3121" y="75"/>
                      <a:pt x="3122" y="80"/>
                    </a:cubicBezTo>
                    <a:cubicBezTo>
                      <a:pt x="3120" y="82"/>
                      <a:pt x="3119" y="85"/>
                      <a:pt x="3117" y="87"/>
                    </a:cubicBezTo>
                    <a:cubicBezTo>
                      <a:pt x="3117" y="86"/>
                      <a:pt x="3116" y="84"/>
                      <a:pt x="3115" y="83"/>
                    </a:cubicBezTo>
                    <a:cubicBezTo>
                      <a:pt x="3116" y="84"/>
                      <a:pt x="3117" y="86"/>
                      <a:pt x="3117" y="87"/>
                    </a:cubicBezTo>
                    <a:cubicBezTo>
                      <a:pt x="3116" y="90"/>
                      <a:pt x="3114" y="92"/>
                      <a:pt x="3113" y="94"/>
                    </a:cubicBezTo>
                    <a:cubicBezTo>
                      <a:pt x="3111" y="89"/>
                      <a:pt x="3110" y="85"/>
                      <a:pt x="3108" y="80"/>
                    </a:cubicBezTo>
                    <a:cubicBezTo>
                      <a:pt x="3112" y="74"/>
                      <a:pt x="3116" y="69"/>
                      <a:pt x="3119" y="64"/>
                    </a:cubicBezTo>
                    <a:close/>
                    <a:moveTo>
                      <a:pt x="3097" y="72"/>
                    </a:moveTo>
                    <a:cubicBezTo>
                      <a:pt x="3099" y="75"/>
                      <a:pt x="3100" y="77"/>
                      <a:pt x="3102" y="80"/>
                    </a:cubicBezTo>
                    <a:cubicBezTo>
                      <a:pt x="3100" y="82"/>
                      <a:pt x="3099" y="84"/>
                      <a:pt x="3097" y="86"/>
                    </a:cubicBezTo>
                    <a:cubicBezTo>
                      <a:pt x="3097" y="85"/>
                      <a:pt x="3096" y="83"/>
                      <a:pt x="3096" y="82"/>
                    </a:cubicBezTo>
                    <a:cubicBezTo>
                      <a:pt x="3096" y="78"/>
                      <a:pt x="3096" y="74"/>
                      <a:pt x="3097" y="72"/>
                    </a:cubicBezTo>
                    <a:close/>
                    <a:moveTo>
                      <a:pt x="3090" y="108"/>
                    </a:moveTo>
                    <a:cubicBezTo>
                      <a:pt x="3091" y="106"/>
                      <a:pt x="3093" y="104"/>
                      <a:pt x="3094" y="101"/>
                    </a:cubicBezTo>
                    <a:cubicBezTo>
                      <a:pt x="3094" y="106"/>
                      <a:pt x="3095" y="112"/>
                      <a:pt x="3096" y="117"/>
                    </a:cubicBezTo>
                    <a:cubicBezTo>
                      <a:pt x="3095" y="119"/>
                      <a:pt x="3093" y="120"/>
                      <a:pt x="3092" y="122"/>
                    </a:cubicBezTo>
                    <a:cubicBezTo>
                      <a:pt x="3092" y="117"/>
                      <a:pt x="3091" y="113"/>
                      <a:pt x="3090" y="108"/>
                    </a:cubicBezTo>
                    <a:close/>
                    <a:moveTo>
                      <a:pt x="3097" y="134"/>
                    </a:moveTo>
                    <a:cubicBezTo>
                      <a:pt x="3096" y="131"/>
                      <a:pt x="3095" y="128"/>
                      <a:pt x="3094" y="126"/>
                    </a:cubicBezTo>
                    <a:cubicBezTo>
                      <a:pt x="3095" y="124"/>
                      <a:pt x="3095" y="123"/>
                      <a:pt x="3096" y="122"/>
                    </a:cubicBezTo>
                    <a:cubicBezTo>
                      <a:pt x="3097" y="123"/>
                      <a:pt x="3097" y="125"/>
                      <a:pt x="3097" y="127"/>
                    </a:cubicBezTo>
                    <a:cubicBezTo>
                      <a:pt x="3097" y="129"/>
                      <a:pt x="3097" y="131"/>
                      <a:pt x="3097" y="134"/>
                    </a:cubicBezTo>
                    <a:close/>
                    <a:moveTo>
                      <a:pt x="3096" y="98"/>
                    </a:moveTo>
                    <a:cubicBezTo>
                      <a:pt x="3096" y="98"/>
                      <a:pt x="3096" y="97"/>
                      <a:pt x="3097" y="97"/>
                    </a:cubicBezTo>
                    <a:cubicBezTo>
                      <a:pt x="3097" y="101"/>
                      <a:pt x="3097" y="105"/>
                      <a:pt x="3097" y="108"/>
                    </a:cubicBezTo>
                    <a:cubicBezTo>
                      <a:pt x="3097" y="105"/>
                      <a:pt x="3096" y="101"/>
                      <a:pt x="3096" y="98"/>
                    </a:cubicBezTo>
                    <a:close/>
                    <a:moveTo>
                      <a:pt x="3100" y="92"/>
                    </a:moveTo>
                    <a:cubicBezTo>
                      <a:pt x="3101" y="90"/>
                      <a:pt x="3103" y="88"/>
                      <a:pt x="3104" y="86"/>
                    </a:cubicBezTo>
                    <a:cubicBezTo>
                      <a:pt x="3105" y="88"/>
                      <a:pt x="3106" y="91"/>
                      <a:pt x="3107" y="93"/>
                    </a:cubicBezTo>
                    <a:cubicBezTo>
                      <a:pt x="3107" y="96"/>
                      <a:pt x="3107" y="99"/>
                      <a:pt x="3108" y="102"/>
                    </a:cubicBezTo>
                    <a:cubicBezTo>
                      <a:pt x="3107" y="104"/>
                      <a:pt x="3106" y="105"/>
                      <a:pt x="3104" y="106"/>
                    </a:cubicBezTo>
                    <a:cubicBezTo>
                      <a:pt x="3103" y="102"/>
                      <a:pt x="3102" y="97"/>
                      <a:pt x="3100" y="92"/>
                    </a:cubicBezTo>
                    <a:close/>
                    <a:moveTo>
                      <a:pt x="3105" y="107"/>
                    </a:moveTo>
                    <a:cubicBezTo>
                      <a:pt x="3106" y="106"/>
                      <a:pt x="3107" y="104"/>
                      <a:pt x="3108" y="102"/>
                    </a:cubicBezTo>
                    <a:cubicBezTo>
                      <a:pt x="3110" y="118"/>
                      <a:pt x="3112" y="133"/>
                      <a:pt x="3114" y="149"/>
                    </a:cubicBezTo>
                    <a:cubicBezTo>
                      <a:pt x="3111" y="137"/>
                      <a:pt x="3108" y="122"/>
                      <a:pt x="3105" y="107"/>
                    </a:cubicBezTo>
                    <a:close/>
                    <a:moveTo>
                      <a:pt x="3113" y="95"/>
                    </a:moveTo>
                    <a:cubicBezTo>
                      <a:pt x="3115" y="93"/>
                      <a:pt x="3116" y="91"/>
                      <a:pt x="3118" y="89"/>
                    </a:cubicBezTo>
                    <a:cubicBezTo>
                      <a:pt x="3124" y="103"/>
                      <a:pt x="3125" y="120"/>
                      <a:pt x="3125" y="136"/>
                    </a:cubicBezTo>
                    <a:cubicBezTo>
                      <a:pt x="3122" y="122"/>
                      <a:pt x="3118" y="109"/>
                      <a:pt x="3113" y="95"/>
                    </a:cubicBezTo>
                    <a:close/>
                    <a:moveTo>
                      <a:pt x="3118" y="88"/>
                    </a:moveTo>
                    <a:cubicBezTo>
                      <a:pt x="3120" y="86"/>
                      <a:pt x="3121" y="85"/>
                      <a:pt x="3122" y="83"/>
                    </a:cubicBezTo>
                    <a:cubicBezTo>
                      <a:pt x="3123" y="90"/>
                      <a:pt x="3125" y="98"/>
                      <a:pt x="3126" y="105"/>
                    </a:cubicBezTo>
                    <a:cubicBezTo>
                      <a:pt x="3123" y="99"/>
                      <a:pt x="3121" y="93"/>
                      <a:pt x="3118" y="88"/>
                    </a:cubicBezTo>
                    <a:close/>
                    <a:moveTo>
                      <a:pt x="3131" y="92"/>
                    </a:moveTo>
                    <a:cubicBezTo>
                      <a:pt x="3129" y="86"/>
                      <a:pt x="3128" y="80"/>
                      <a:pt x="3127" y="74"/>
                    </a:cubicBezTo>
                    <a:cubicBezTo>
                      <a:pt x="3129" y="71"/>
                      <a:pt x="3131" y="68"/>
                      <a:pt x="3132" y="65"/>
                    </a:cubicBezTo>
                    <a:cubicBezTo>
                      <a:pt x="3134" y="69"/>
                      <a:pt x="3137" y="72"/>
                      <a:pt x="3139" y="75"/>
                    </a:cubicBezTo>
                    <a:cubicBezTo>
                      <a:pt x="3139" y="77"/>
                      <a:pt x="3139" y="79"/>
                      <a:pt x="3139" y="81"/>
                    </a:cubicBezTo>
                    <a:cubicBezTo>
                      <a:pt x="3138" y="80"/>
                      <a:pt x="3138" y="80"/>
                      <a:pt x="3137" y="79"/>
                    </a:cubicBezTo>
                    <a:cubicBezTo>
                      <a:pt x="3138" y="80"/>
                      <a:pt x="3138" y="81"/>
                      <a:pt x="3139" y="81"/>
                    </a:cubicBezTo>
                    <a:cubicBezTo>
                      <a:pt x="3138" y="86"/>
                      <a:pt x="3138" y="90"/>
                      <a:pt x="3138" y="91"/>
                    </a:cubicBezTo>
                    <a:cubicBezTo>
                      <a:pt x="3138" y="95"/>
                      <a:pt x="3138" y="100"/>
                      <a:pt x="3139" y="104"/>
                    </a:cubicBezTo>
                    <a:cubicBezTo>
                      <a:pt x="3138" y="101"/>
                      <a:pt x="3138" y="99"/>
                      <a:pt x="3137" y="96"/>
                    </a:cubicBezTo>
                    <a:cubicBezTo>
                      <a:pt x="3138" y="100"/>
                      <a:pt x="3138" y="104"/>
                      <a:pt x="3139" y="108"/>
                    </a:cubicBezTo>
                    <a:cubicBezTo>
                      <a:pt x="3139" y="120"/>
                      <a:pt x="3140" y="132"/>
                      <a:pt x="3140" y="143"/>
                    </a:cubicBezTo>
                    <a:cubicBezTo>
                      <a:pt x="3138" y="126"/>
                      <a:pt x="3135" y="109"/>
                      <a:pt x="3131" y="92"/>
                    </a:cubicBezTo>
                    <a:close/>
                    <a:moveTo>
                      <a:pt x="3154" y="125"/>
                    </a:moveTo>
                    <a:cubicBezTo>
                      <a:pt x="3151" y="116"/>
                      <a:pt x="3149" y="108"/>
                      <a:pt x="3146" y="99"/>
                    </a:cubicBezTo>
                    <a:cubicBezTo>
                      <a:pt x="3144" y="93"/>
                      <a:pt x="3143" y="87"/>
                      <a:pt x="3143" y="82"/>
                    </a:cubicBezTo>
                    <a:cubicBezTo>
                      <a:pt x="3148" y="91"/>
                      <a:pt x="3151" y="100"/>
                      <a:pt x="3154" y="109"/>
                    </a:cubicBezTo>
                    <a:cubicBezTo>
                      <a:pt x="3154" y="114"/>
                      <a:pt x="3154" y="120"/>
                      <a:pt x="3154" y="125"/>
                    </a:cubicBezTo>
                    <a:close/>
                    <a:moveTo>
                      <a:pt x="3154" y="97"/>
                    </a:moveTo>
                    <a:cubicBezTo>
                      <a:pt x="3151" y="90"/>
                      <a:pt x="3147" y="83"/>
                      <a:pt x="3142" y="77"/>
                    </a:cubicBezTo>
                    <a:cubicBezTo>
                      <a:pt x="3142" y="72"/>
                      <a:pt x="3141" y="67"/>
                      <a:pt x="3142" y="63"/>
                    </a:cubicBezTo>
                    <a:cubicBezTo>
                      <a:pt x="3147" y="70"/>
                      <a:pt x="3151" y="77"/>
                      <a:pt x="3155" y="85"/>
                    </a:cubicBezTo>
                    <a:cubicBezTo>
                      <a:pt x="3155" y="89"/>
                      <a:pt x="3155" y="93"/>
                      <a:pt x="3154" y="97"/>
                    </a:cubicBezTo>
                    <a:close/>
                    <a:moveTo>
                      <a:pt x="3164" y="119"/>
                    </a:moveTo>
                    <a:cubicBezTo>
                      <a:pt x="3163" y="110"/>
                      <a:pt x="3161" y="102"/>
                      <a:pt x="3159" y="93"/>
                    </a:cubicBezTo>
                    <a:cubicBezTo>
                      <a:pt x="3161" y="98"/>
                      <a:pt x="3164" y="104"/>
                      <a:pt x="3165" y="109"/>
                    </a:cubicBezTo>
                    <a:cubicBezTo>
                      <a:pt x="3166" y="112"/>
                      <a:pt x="3166" y="114"/>
                      <a:pt x="3167" y="116"/>
                    </a:cubicBezTo>
                    <a:cubicBezTo>
                      <a:pt x="3167" y="120"/>
                      <a:pt x="3167" y="124"/>
                      <a:pt x="3167" y="127"/>
                    </a:cubicBezTo>
                    <a:cubicBezTo>
                      <a:pt x="3166" y="125"/>
                      <a:pt x="3165" y="122"/>
                      <a:pt x="3164" y="119"/>
                    </a:cubicBezTo>
                    <a:close/>
                    <a:moveTo>
                      <a:pt x="3175" y="151"/>
                    </a:moveTo>
                    <a:cubicBezTo>
                      <a:pt x="3175" y="151"/>
                      <a:pt x="3175" y="151"/>
                      <a:pt x="3175" y="151"/>
                    </a:cubicBezTo>
                    <a:cubicBezTo>
                      <a:pt x="3175" y="151"/>
                      <a:pt x="3175" y="150"/>
                      <a:pt x="3175" y="150"/>
                    </a:cubicBezTo>
                    <a:cubicBezTo>
                      <a:pt x="3175" y="150"/>
                      <a:pt x="3175" y="150"/>
                      <a:pt x="3175" y="150"/>
                    </a:cubicBezTo>
                    <a:cubicBezTo>
                      <a:pt x="3175" y="151"/>
                      <a:pt x="3175" y="151"/>
                      <a:pt x="3175" y="151"/>
                    </a:cubicBezTo>
                    <a:close/>
                    <a:moveTo>
                      <a:pt x="3181" y="114"/>
                    </a:moveTo>
                    <a:cubicBezTo>
                      <a:pt x="3179" y="105"/>
                      <a:pt x="3176" y="96"/>
                      <a:pt x="3172" y="88"/>
                    </a:cubicBezTo>
                    <a:cubicBezTo>
                      <a:pt x="3176" y="97"/>
                      <a:pt x="3178" y="110"/>
                      <a:pt x="3180" y="122"/>
                    </a:cubicBezTo>
                    <a:cubicBezTo>
                      <a:pt x="3179" y="127"/>
                      <a:pt x="3178" y="132"/>
                      <a:pt x="3177" y="136"/>
                    </a:cubicBezTo>
                    <a:cubicBezTo>
                      <a:pt x="3176" y="134"/>
                      <a:pt x="3176" y="133"/>
                      <a:pt x="3175" y="131"/>
                    </a:cubicBezTo>
                    <a:cubicBezTo>
                      <a:pt x="3175" y="117"/>
                      <a:pt x="3174" y="102"/>
                      <a:pt x="3172" y="87"/>
                    </a:cubicBezTo>
                    <a:cubicBezTo>
                      <a:pt x="3172" y="87"/>
                      <a:pt x="3172" y="88"/>
                      <a:pt x="3172" y="88"/>
                    </a:cubicBezTo>
                    <a:cubicBezTo>
                      <a:pt x="3172" y="88"/>
                      <a:pt x="3172" y="87"/>
                      <a:pt x="3172" y="87"/>
                    </a:cubicBezTo>
                    <a:cubicBezTo>
                      <a:pt x="3171" y="82"/>
                      <a:pt x="3171" y="78"/>
                      <a:pt x="3170" y="73"/>
                    </a:cubicBezTo>
                    <a:cubicBezTo>
                      <a:pt x="3177" y="81"/>
                      <a:pt x="3181" y="91"/>
                      <a:pt x="3184" y="101"/>
                    </a:cubicBezTo>
                    <a:cubicBezTo>
                      <a:pt x="3183" y="105"/>
                      <a:pt x="3182" y="109"/>
                      <a:pt x="3181" y="114"/>
                    </a:cubicBezTo>
                    <a:close/>
                    <a:moveTo>
                      <a:pt x="3188" y="139"/>
                    </a:moveTo>
                    <a:cubicBezTo>
                      <a:pt x="3187" y="137"/>
                      <a:pt x="3187" y="136"/>
                      <a:pt x="3187" y="135"/>
                    </a:cubicBezTo>
                    <a:cubicBezTo>
                      <a:pt x="3187" y="124"/>
                      <a:pt x="3183" y="112"/>
                      <a:pt x="3184" y="101"/>
                    </a:cubicBezTo>
                    <a:cubicBezTo>
                      <a:pt x="3187" y="110"/>
                      <a:pt x="3189" y="119"/>
                      <a:pt x="3190" y="128"/>
                    </a:cubicBezTo>
                    <a:cubicBezTo>
                      <a:pt x="3189" y="132"/>
                      <a:pt x="3188" y="135"/>
                      <a:pt x="3188" y="139"/>
                    </a:cubicBezTo>
                    <a:close/>
                    <a:moveTo>
                      <a:pt x="3203" y="136"/>
                    </a:moveTo>
                    <a:cubicBezTo>
                      <a:pt x="3203" y="135"/>
                      <a:pt x="3202" y="134"/>
                      <a:pt x="3202" y="133"/>
                    </a:cubicBezTo>
                    <a:cubicBezTo>
                      <a:pt x="3201" y="131"/>
                      <a:pt x="3201" y="129"/>
                      <a:pt x="3200" y="128"/>
                    </a:cubicBezTo>
                    <a:cubicBezTo>
                      <a:pt x="3200" y="127"/>
                      <a:pt x="3200" y="127"/>
                      <a:pt x="3200" y="127"/>
                    </a:cubicBezTo>
                    <a:cubicBezTo>
                      <a:pt x="3201" y="129"/>
                      <a:pt x="3201" y="131"/>
                      <a:pt x="3202" y="133"/>
                    </a:cubicBezTo>
                    <a:cubicBezTo>
                      <a:pt x="3202" y="134"/>
                      <a:pt x="3203" y="135"/>
                      <a:pt x="3203" y="136"/>
                    </a:cubicBezTo>
                    <a:cubicBezTo>
                      <a:pt x="3203" y="136"/>
                      <a:pt x="3203" y="136"/>
                      <a:pt x="3203" y="136"/>
                    </a:cubicBezTo>
                    <a:close/>
                    <a:moveTo>
                      <a:pt x="3204" y="133"/>
                    </a:moveTo>
                    <a:cubicBezTo>
                      <a:pt x="3203" y="129"/>
                      <a:pt x="3202" y="125"/>
                      <a:pt x="3200" y="120"/>
                    </a:cubicBezTo>
                    <a:cubicBezTo>
                      <a:pt x="3200" y="119"/>
                      <a:pt x="3200" y="117"/>
                      <a:pt x="3200" y="115"/>
                    </a:cubicBezTo>
                    <a:cubicBezTo>
                      <a:pt x="3200" y="112"/>
                      <a:pt x="3200" y="109"/>
                      <a:pt x="3201" y="105"/>
                    </a:cubicBezTo>
                    <a:cubicBezTo>
                      <a:pt x="3203" y="112"/>
                      <a:pt x="3204" y="119"/>
                      <a:pt x="3206" y="126"/>
                    </a:cubicBezTo>
                    <a:cubicBezTo>
                      <a:pt x="3205" y="128"/>
                      <a:pt x="3205" y="130"/>
                      <a:pt x="3204" y="133"/>
                    </a:cubicBezTo>
                    <a:close/>
                    <a:moveTo>
                      <a:pt x="3218" y="139"/>
                    </a:moveTo>
                    <a:cubicBezTo>
                      <a:pt x="3218" y="139"/>
                      <a:pt x="3218" y="139"/>
                      <a:pt x="3218" y="139"/>
                    </a:cubicBezTo>
                    <a:cubicBezTo>
                      <a:pt x="3218" y="137"/>
                      <a:pt x="3218" y="135"/>
                      <a:pt x="3218" y="133"/>
                    </a:cubicBezTo>
                    <a:cubicBezTo>
                      <a:pt x="3218" y="134"/>
                      <a:pt x="3218" y="134"/>
                      <a:pt x="3218" y="135"/>
                    </a:cubicBezTo>
                    <a:cubicBezTo>
                      <a:pt x="3218" y="136"/>
                      <a:pt x="3218" y="138"/>
                      <a:pt x="3218" y="139"/>
                    </a:cubicBezTo>
                    <a:close/>
                    <a:moveTo>
                      <a:pt x="3239" y="150"/>
                    </a:moveTo>
                    <a:cubicBezTo>
                      <a:pt x="3238" y="148"/>
                      <a:pt x="3237" y="147"/>
                      <a:pt x="3237" y="146"/>
                    </a:cubicBezTo>
                    <a:cubicBezTo>
                      <a:pt x="3236" y="131"/>
                      <a:pt x="3232" y="116"/>
                      <a:pt x="3230" y="101"/>
                    </a:cubicBezTo>
                    <a:cubicBezTo>
                      <a:pt x="3235" y="115"/>
                      <a:pt x="3237" y="132"/>
                      <a:pt x="3239" y="146"/>
                    </a:cubicBezTo>
                    <a:cubicBezTo>
                      <a:pt x="3239" y="147"/>
                      <a:pt x="3239" y="148"/>
                      <a:pt x="3239" y="150"/>
                    </a:cubicBezTo>
                    <a:close/>
                    <a:moveTo>
                      <a:pt x="3243" y="143"/>
                    </a:moveTo>
                    <a:cubicBezTo>
                      <a:pt x="3243" y="142"/>
                      <a:pt x="3243" y="141"/>
                      <a:pt x="3243" y="140"/>
                    </a:cubicBezTo>
                    <a:cubicBezTo>
                      <a:pt x="3243" y="139"/>
                      <a:pt x="3243" y="139"/>
                      <a:pt x="3243" y="139"/>
                    </a:cubicBezTo>
                    <a:cubicBezTo>
                      <a:pt x="3243" y="140"/>
                      <a:pt x="3243" y="141"/>
                      <a:pt x="3243" y="142"/>
                    </a:cubicBezTo>
                    <a:cubicBezTo>
                      <a:pt x="3243" y="142"/>
                      <a:pt x="3243" y="143"/>
                      <a:pt x="3243" y="143"/>
                    </a:cubicBezTo>
                    <a:close/>
                    <a:moveTo>
                      <a:pt x="3256" y="139"/>
                    </a:moveTo>
                    <a:cubicBezTo>
                      <a:pt x="3255" y="142"/>
                      <a:pt x="3254" y="145"/>
                      <a:pt x="3253" y="147"/>
                    </a:cubicBezTo>
                    <a:cubicBezTo>
                      <a:pt x="3253" y="146"/>
                      <a:pt x="3252" y="145"/>
                      <a:pt x="3252" y="144"/>
                    </a:cubicBezTo>
                    <a:cubicBezTo>
                      <a:pt x="3254" y="132"/>
                      <a:pt x="3254" y="120"/>
                      <a:pt x="3256" y="108"/>
                    </a:cubicBezTo>
                    <a:cubicBezTo>
                      <a:pt x="3257" y="104"/>
                      <a:pt x="3257" y="100"/>
                      <a:pt x="3259" y="97"/>
                    </a:cubicBezTo>
                    <a:cubicBezTo>
                      <a:pt x="3260" y="100"/>
                      <a:pt x="3261" y="103"/>
                      <a:pt x="3262" y="107"/>
                    </a:cubicBezTo>
                    <a:cubicBezTo>
                      <a:pt x="3261" y="112"/>
                      <a:pt x="3261" y="117"/>
                      <a:pt x="3260" y="122"/>
                    </a:cubicBezTo>
                    <a:cubicBezTo>
                      <a:pt x="3258" y="116"/>
                      <a:pt x="3257" y="111"/>
                      <a:pt x="3256" y="108"/>
                    </a:cubicBezTo>
                    <a:cubicBezTo>
                      <a:pt x="3258" y="116"/>
                      <a:pt x="3257" y="128"/>
                      <a:pt x="3256" y="139"/>
                    </a:cubicBezTo>
                    <a:close/>
                    <a:moveTo>
                      <a:pt x="3264" y="134"/>
                    </a:moveTo>
                    <a:cubicBezTo>
                      <a:pt x="3263" y="132"/>
                      <a:pt x="3262" y="130"/>
                      <a:pt x="3262" y="128"/>
                    </a:cubicBezTo>
                    <a:cubicBezTo>
                      <a:pt x="3262" y="121"/>
                      <a:pt x="3262" y="114"/>
                      <a:pt x="3262" y="107"/>
                    </a:cubicBezTo>
                    <a:cubicBezTo>
                      <a:pt x="3264" y="113"/>
                      <a:pt x="3265" y="118"/>
                      <a:pt x="3266" y="124"/>
                    </a:cubicBezTo>
                    <a:cubicBezTo>
                      <a:pt x="3265" y="128"/>
                      <a:pt x="3264" y="131"/>
                      <a:pt x="3264" y="134"/>
                    </a:cubicBezTo>
                    <a:close/>
                    <a:moveTo>
                      <a:pt x="3268" y="118"/>
                    </a:moveTo>
                    <a:cubicBezTo>
                      <a:pt x="3266" y="114"/>
                      <a:pt x="3264" y="109"/>
                      <a:pt x="3262" y="105"/>
                    </a:cubicBezTo>
                    <a:cubicBezTo>
                      <a:pt x="3263" y="102"/>
                      <a:pt x="3263" y="99"/>
                      <a:pt x="3264" y="96"/>
                    </a:cubicBezTo>
                    <a:cubicBezTo>
                      <a:pt x="3263" y="99"/>
                      <a:pt x="3263" y="102"/>
                      <a:pt x="3262" y="105"/>
                    </a:cubicBezTo>
                    <a:cubicBezTo>
                      <a:pt x="3261" y="102"/>
                      <a:pt x="3260" y="99"/>
                      <a:pt x="3259" y="96"/>
                    </a:cubicBezTo>
                    <a:cubicBezTo>
                      <a:pt x="3259" y="94"/>
                      <a:pt x="3260" y="91"/>
                      <a:pt x="3261" y="89"/>
                    </a:cubicBezTo>
                    <a:cubicBezTo>
                      <a:pt x="3265" y="95"/>
                      <a:pt x="3268" y="102"/>
                      <a:pt x="3270" y="109"/>
                    </a:cubicBezTo>
                    <a:cubicBezTo>
                      <a:pt x="3270" y="112"/>
                      <a:pt x="3269" y="115"/>
                      <a:pt x="3268" y="118"/>
                    </a:cubicBezTo>
                    <a:close/>
                    <a:moveTo>
                      <a:pt x="3271" y="151"/>
                    </a:moveTo>
                    <a:cubicBezTo>
                      <a:pt x="3271" y="151"/>
                      <a:pt x="3271" y="151"/>
                      <a:pt x="3270" y="151"/>
                    </a:cubicBezTo>
                    <a:cubicBezTo>
                      <a:pt x="3271" y="150"/>
                      <a:pt x="3271" y="148"/>
                      <a:pt x="3271" y="147"/>
                    </a:cubicBezTo>
                    <a:cubicBezTo>
                      <a:pt x="3271" y="147"/>
                      <a:pt x="3271" y="148"/>
                      <a:pt x="3271" y="148"/>
                    </a:cubicBezTo>
                    <a:cubicBezTo>
                      <a:pt x="3271" y="149"/>
                      <a:pt x="3271" y="150"/>
                      <a:pt x="3271" y="151"/>
                    </a:cubicBezTo>
                    <a:close/>
                    <a:moveTo>
                      <a:pt x="3275" y="136"/>
                    </a:moveTo>
                    <a:cubicBezTo>
                      <a:pt x="3274" y="134"/>
                      <a:pt x="3273" y="132"/>
                      <a:pt x="3273" y="130"/>
                    </a:cubicBezTo>
                    <a:cubicBezTo>
                      <a:pt x="3273" y="127"/>
                      <a:pt x="3273" y="123"/>
                      <a:pt x="3274" y="120"/>
                    </a:cubicBezTo>
                    <a:cubicBezTo>
                      <a:pt x="3275" y="123"/>
                      <a:pt x="3276" y="127"/>
                      <a:pt x="3276" y="130"/>
                    </a:cubicBezTo>
                    <a:cubicBezTo>
                      <a:pt x="3276" y="132"/>
                      <a:pt x="3275" y="134"/>
                      <a:pt x="3275" y="136"/>
                    </a:cubicBezTo>
                    <a:close/>
                    <a:moveTo>
                      <a:pt x="3281" y="150"/>
                    </a:moveTo>
                    <a:cubicBezTo>
                      <a:pt x="3281" y="149"/>
                      <a:pt x="3280" y="147"/>
                      <a:pt x="3279" y="146"/>
                    </a:cubicBezTo>
                    <a:cubicBezTo>
                      <a:pt x="3280" y="145"/>
                      <a:pt x="3280" y="145"/>
                      <a:pt x="3280" y="144"/>
                    </a:cubicBezTo>
                    <a:cubicBezTo>
                      <a:pt x="3281" y="146"/>
                      <a:pt x="3281" y="147"/>
                      <a:pt x="3282" y="149"/>
                    </a:cubicBezTo>
                    <a:cubicBezTo>
                      <a:pt x="3281" y="149"/>
                      <a:pt x="3281" y="149"/>
                      <a:pt x="3281" y="150"/>
                    </a:cubicBezTo>
                    <a:close/>
                    <a:moveTo>
                      <a:pt x="3279" y="122"/>
                    </a:moveTo>
                    <a:cubicBezTo>
                      <a:pt x="3278" y="118"/>
                      <a:pt x="3276" y="115"/>
                      <a:pt x="3275" y="111"/>
                    </a:cubicBezTo>
                    <a:cubicBezTo>
                      <a:pt x="3276" y="101"/>
                      <a:pt x="3278" y="90"/>
                      <a:pt x="3282" y="81"/>
                    </a:cubicBezTo>
                    <a:cubicBezTo>
                      <a:pt x="3285" y="86"/>
                      <a:pt x="3288" y="91"/>
                      <a:pt x="3290" y="97"/>
                    </a:cubicBezTo>
                    <a:cubicBezTo>
                      <a:pt x="3288" y="101"/>
                      <a:pt x="3286" y="105"/>
                      <a:pt x="3284" y="109"/>
                    </a:cubicBezTo>
                    <a:cubicBezTo>
                      <a:pt x="3282" y="102"/>
                      <a:pt x="3281" y="96"/>
                      <a:pt x="3279" y="91"/>
                    </a:cubicBezTo>
                    <a:cubicBezTo>
                      <a:pt x="3280" y="99"/>
                      <a:pt x="3281" y="106"/>
                      <a:pt x="3282" y="114"/>
                    </a:cubicBezTo>
                    <a:cubicBezTo>
                      <a:pt x="3281" y="117"/>
                      <a:pt x="3280" y="119"/>
                      <a:pt x="3279" y="122"/>
                    </a:cubicBezTo>
                    <a:close/>
                    <a:moveTo>
                      <a:pt x="3286" y="141"/>
                    </a:moveTo>
                    <a:cubicBezTo>
                      <a:pt x="3285" y="138"/>
                      <a:pt x="3284" y="135"/>
                      <a:pt x="3283" y="131"/>
                    </a:cubicBezTo>
                    <a:cubicBezTo>
                      <a:pt x="3283" y="129"/>
                      <a:pt x="3284" y="127"/>
                      <a:pt x="3284" y="124"/>
                    </a:cubicBezTo>
                    <a:cubicBezTo>
                      <a:pt x="3285" y="130"/>
                      <a:pt x="3286" y="135"/>
                      <a:pt x="3287" y="140"/>
                    </a:cubicBezTo>
                    <a:cubicBezTo>
                      <a:pt x="3287" y="140"/>
                      <a:pt x="3287" y="141"/>
                      <a:pt x="3286" y="141"/>
                    </a:cubicBezTo>
                    <a:close/>
                    <a:moveTo>
                      <a:pt x="3289" y="150"/>
                    </a:moveTo>
                    <a:cubicBezTo>
                      <a:pt x="3289" y="150"/>
                      <a:pt x="3289" y="149"/>
                      <a:pt x="3289" y="149"/>
                    </a:cubicBezTo>
                    <a:cubicBezTo>
                      <a:pt x="3289" y="149"/>
                      <a:pt x="3289" y="149"/>
                      <a:pt x="3289" y="149"/>
                    </a:cubicBezTo>
                    <a:cubicBezTo>
                      <a:pt x="3289" y="149"/>
                      <a:pt x="3289" y="150"/>
                      <a:pt x="3289" y="150"/>
                    </a:cubicBezTo>
                    <a:cubicBezTo>
                      <a:pt x="3289" y="150"/>
                      <a:pt x="3289" y="150"/>
                      <a:pt x="3289" y="150"/>
                    </a:cubicBezTo>
                    <a:close/>
                    <a:moveTo>
                      <a:pt x="3286" y="114"/>
                    </a:moveTo>
                    <a:cubicBezTo>
                      <a:pt x="3287" y="108"/>
                      <a:pt x="3288" y="103"/>
                      <a:pt x="3290" y="97"/>
                    </a:cubicBezTo>
                    <a:cubicBezTo>
                      <a:pt x="3292" y="103"/>
                      <a:pt x="3294" y="110"/>
                      <a:pt x="3296" y="116"/>
                    </a:cubicBezTo>
                    <a:cubicBezTo>
                      <a:pt x="3294" y="121"/>
                      <a:pt x="3293" y="126"/>
                      <a:pt x="3291" y="131"/>
                    </a:cubicBezTo>
                    <a:cubicBezTo>
                      <a:pt x="3289" y="126"/>
                      <a:pt x="3287" y="120"/>
                      <a:pt x="3286" y="114"/>
                    </a:cubicBezTo>
                    <a:close/>
                    <a:moveTo>
                      <a:pt x="3293" y="139"/>
                    </a:moveTo>
                    <a:cubicBezTo>
                      <a:pt x="3295" y="134"/>
                      <a:pt x="3296" y="129"/>
                      <a:pt x="3297" y="124"/>
                    </a:cubicBezTo>
                    <a:cubicBezTo>
                      <a:pt x="3298" y="125"/>
                      <a:pt x="3298" y="126"/>
                      <a:pt x="3298" y="128"/>
                    </a:cubicBezTo>
                    <a:cubicBezTo>
                      <a:pt x="3297" y="132"/>
                      <a:pt x="3295" y="136"/>
                      <a:pt x="3294" y="141"/>
                    </a:cubicBezTo>
                    <a:cubicBezTo>
                      <a:pt x="3294" y="140"/>
                      <a:pt x="3293" y="139"/>
                      <a:pt x="3293" y="139"/>
                    </a:cubicBezTo>
                    <a:close/>
                    <a:moveTo>
                      <a:pt x="3298" y="150"/>
                    </a:moveTo>
                    <a:cubicBezTo>
                      <a:pt x="3298" y="150"/>
                      <a:pt x="3297" y="149"/>
                      <a:pt x="3297" y="149"/>
                    </a:cubicBezTo>
                    <a:cubicBezTo>
                      <a:pt x="3298" y="147"/>
                      <a:pt x="3299" y="144"/>
                      <a:pt x="3300" y="141"/>
                    </a:cubicBezTo>
                    <a:cubicBezTo>
                      <a:pt x="3300" y="143"/>
                      <a:pt x="3301" y="144"/>
                      <a:pt x="3301" y="145"/>
                    </a:cubicBezTo>
                    <a:cubicBezTo>
                      <a:pt x="3300" y="147"/>
                      <a:pt x="3299" y="149"/>
                      <a:pt x="3298" y="150"/>
                    </a:cubicBezTo>
                    <a:close/>
                    <a:moveTo>
                      <a:pt x="3309" y="126"/>
                    </a:moveTo>
                    <a:cubicBezTo>
                      <a:pt x="3308" y="123"/>
                      <a:pt x="3307" y="120"/>
                      <a:pt x="3306" y="117"/>
                    </a:cubicBezTo>
                    <a:cubicBezTo>
                      <a:pt x="3307" y="116"/>
                      <a:pt x="3307" y="115"/>
                      <a:pt x="3307" y="114"/>
                    </a:cubicBezTo>
                    <a:cubicBezTo>
                      <a:pt x="3307" y="116"/>
                      <a:pt x="3308" y="117"/>
                      <a:pt x="3308" y="119"/>
                    </a:cubicBezTo>
                    <a:cubicBezTo>
                      <a:pt x="3309" y="121"/>
                      <a:pt x="3309" y="123"/>
                      <a:pt x="3310" y="125"/>
                    </a:cubicBezTo>
                    <a:cubicBezTo>
                      <a:pt x="3309" y="125"/>
                      <a:pt x="3309" y="125"/>
                      <a:pt x="3309" y="126"/>
                    </a:cubicBezTo>
                    <a:close/>
                    <a:moveTo>
                      <a:pt x="3314" y="142"/>
                    </a:moveTo>
                    <a:cubicBezTo>
                      <a:pt x="3313" y="139"/>
                      <a:pt x="3313" y="136"/>
                      <a:pt x="3312" y="133"/>
                    </a:cubicBezTo>
                    <a:cubicBezTo>
                      <a:pt x="3312" y="133"/>
                      <a:pt x="3312" y="133"/>
                      <a:pt x="3312" y="133"/>
                    </a:cubicBezTo>
                    <a:cubicBezTo>
                      <a:pt x="3313" y="136"/>
                      <a:pt x="3313" y="138"/>
                      <a:pt x="3314" y="141"/>
                    </a:cubicBezTo>
                    <a:cubicBezTo>
                      <a:pt x="3314" y="141"/>
                      <a:pt x="3314" y="141"/>
                      <a:pt x="3314" y="142"/>
                    </a:cubicBezTo>
                    <a:close/>
                    <a:moveTo>
                      <a:pt x="3316" y="148"/>
                    </a:move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lose/>
                    <a:moveTo>
                      <a:pt x="3319" y="141"/>
                    </a:moveTo>
                    <a:cubicBezTo>
                      <a:pt x="3319" y="141"/>
                      <a:pt x="3319" y="141"/>
                      <a:pt x="3319" y="141"/>
                    </a:cubicBezTo>
                    <a:cubicBezTo>
                      <a:pt x="3320" y="137"/>
                      <a:pt x="3321" y="133"/>
                      <a:pt x="3323" y="129"/>
                    </a:cubicBezTo>
                    <a:cubicBezTo>
                      <a:pt x="3323" y="129"/>
                      <a:pt x="3323" y="130"/>
                      <a:pt x="3323" y="131"/>
                    </a:cubicBezTo>
                    <a:cubicBezTo>
                      <a:pt x="3321" y="135"/>
                      <a:pt x="3320" y="138"/>
                      <a:pt x="3319" y="141"/>
                    </a:cubicBezTo>
                    <a:close/>
                    <a:moveTo>
                      <a:pt x="3326" y="122"/>
                    </a:moveTo>
                    <a:cubicBezTo>
                      <a:pt x="3326" y="121"/>
                      <a:pt x="3325" y="120"/>
                      <a:pt x="3325" y="119"/>
                    </a:cubicBezTo>
                    <a:cubicBezTo>
                      <a:pt x="3326" y="117"/>
                      <a:pt x="3326" y="114"/>
                      <a:pt x="3327" y="111"/>
                    </a:cubicBezTo>
                    <a:cubicBezTo>
                      <a:pt x="3328" y="113"/>
                      <a:pt x="3328" y="115"/>
                      <a:pt x="3329" y="117"/>
                    </a:cubicBezTo>
                    <a:cubicBezTo>
                      <a:pt x="3328" y="119"/>
                      <a:pt x="3327" y="121"/>
                      <a:pt x="3326" y="122"/>
                    </a:cubicBezTo>
                    <a:close/>
                    <a:moveTo>
                      <a:pt x="3336" y="147"/>
                    </a:moveTo>
                    <a:cubicBezTo>
                      <a:pt x="3335" y="145"/>
                      <a:pt x="3335" y="144"/>
                      <a:pt x="3334" y="142"/>
                    </a:cubicBezTo>
                    <a:cubicBezTo>
                      <a:pt x="3334" y="140"/>
                      <a:pt x="3333" y="138"/>
                      <a:pt x="3332" y="136"/>
                    </a:cubicBezTo>
                    <a:cubicBezTo>
                      <a:pt x="3332" y="136"/>
                      <a:pt x="3332" y="135"/>
                      <a:pt x="3332" y="134"/>
                    </a:cubicBezTo>
                    <a:cubicBezTo>
                      <a:pt x="3333" y="137"/>
                      <a:pt x="3334" y="139"/>
                      <a:pt x="3334" y="142"/>
                    </a:cubicBezTo>
                    <a:cubicBezTo>
                      <a:pt x="3335" y="144"/>
                      <a:pt x="3335" y="145"/>
                      <a:pt x="3336" y="147"/>
                    </a:cubicBezTo>
                    <a:close/>
                    <a:moveTo>
                      <a:pt x="3339" y="138"/>
                    </a:moveTo>
                    <a:cubicBezTo>
                      <a:pt x="3337" y="133"/>
                      <a:pt x="3336" y="128"/>
                      <a:pt x="3334" y="124"/>
                    </a:cubicBezTo>
                    <a:cubicBezTo>
                      <a:pt x="3334" y="121"/>
                      <a:pt x="3335" y="118"/>
                      <a:pt x="3335" y="116"/>
                    </a:cubicBezTo>
                    <a:cubicBezTo>
                      <a:pt x="3336" y="123"/>
                      <a:pt x="3338" y="129"/>
                      <a:pt x="3340" y="136"/>
                    </a:cubicBezTo>
                    <a:cubicBezTo>
                      <a:pt x="3340" y="137"/>
                      <a:pt x="3339" y="137"/>
                      <a:pt x="3339" y="138"/>
                    </a:cubicBezTo>
                    <a:close/>
                    <a:moveTo>
                      <a:pt x="3336" y="109"/>
                    </a:moveTo>
                    <a:cubicBezTo>
                      <a:pt x="3337" y="103"/>
                      <a:pt x="3339" y="97"/>
                      <a:pt x="3341" y="91"/>
                    </a:cubicBezTo>
                    <a:cubicBezTo>
                      <a:pt x="3343" y="96"/>
                      <a:pt x="3345" y="101"/>
                      <a:pt x="3347" y="106"/>
                    </a:cubicBezTo>
                    <a:cubicBezTo>
                      <a:pt x="3345" y="112"/>
                      <a:pt x="3344" y="120"/>
                      <a:pt x="3342" y="127"/>
                    </a:cubicBezTo>
                    <a:cubicBezTo>
                      <a:pt x="3340" y="121"/>
                      <a:pt x="3338" y="115"/>
                      <a:pt x="3336" y="109"/>
                    </a:cubicBezTo>
                    <a:close/>
                    <a:moveTo>
                      <a:pt x="3343" y="148"/>
                    </a:move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8"/>
                      <a:pt x="3343" y="148"/>
                    </a:cubicBezTo>
                    <a:close/>
                    <a:moveTo>
                      <a:pt x="3345" y="136"/>
                    </a:moveTo>
                    <a:cubicBezTo>
                      <a:pt x="3347" y="127"/>
                      <a:pt x="3347" y="118"/>
                      <a:pt x="3347" y="109"/>
                    </a:cubicBezTo>
                    <a:cubicBezTo>
                      <a:pt x="3349" y="115"/>
                      <a:pt x="3350" y="121"/>
                      <a:pt x="3351" y="127"/>
                    </a:cubicBezTo>
                    <a:cubicBezTo>
                      <a:pt x="3349" y="131"/>
                      <a:pt x="3348" y="135"/>
                      <a:pt x="3347" y="139"/>
                    </a:cubicBezTo>
                    <a:cubicBezTo>
                      <a:pt x="3346" y="138"/>
                      <a:pt x="3346" y="137"/>
                      <a:pt x="3345" y="136"/>
                    </a:cubicBezTo>
                    <a:close/>
                    <a:moveTo>
                      <a:pt x="3352" y="148"/>
                    </a:moveTo>
                    <a:cubicBezTo>
                      <a:pt x="3351" y="148"/>
                      <a:pt x="3351" y="147"/>
                      <a:pt x="3350" y="146"/>
                    </a:cubicBezTo>
                    <a:cubicBezTo>
                      <a:pt x="3351" y="143"/>
                      <a:pt x="3352" y="140"/>
                      <a:pt x="3352" y="137"/>
                    </a:cubicBezTo>
                    <a:cubicBezTo>
                      <a:pt x="3353" y="140"/>
                      <a:pt x="3353" y="142"/>
                      <a:pt x="3354" y="144"/>
                    </a:cubicBezTo>
                    <a:cubicBezTo>
                      <a:pt x="3353" y="146"/>
                      <a:pt x="3352" y="147"/>
                      <a:pt x="3352" y="148"/>
                    </a:cubicBezTo>
                    <a:close/>
                    <a:moveTo>
                      <a:pt x="3347" y="103"/>
                    </a:moveTo>
                    <a:cubicBezTo>
                      <a:pt x="3347" y="102"/>
                      <a:pt x="3347" y="102"/>
                      <a:pt x="3347" y="102"/>
                    </a:cubicBezTo>
                    <a:cubicBezTo>
                      <a:pt x="3347" y="102"/>
                      <a:pt x="3347" y="103"/>
                      <a:pt x="3347" y="103"/>
                    </a:cubicBezTo>
                    <a:cubicBezTo>
                      <a:pt x="3345" y="98"/>
                      <a:pt x="3343" y="94"/>
                      <a:pt x="3341" y="91"/>
                    </a:cubicBezTo>
                    <a:cubicBezTo>
                      <a:pt x="3342" y="87"/>
                      <a:pt x="3344" y="83"/>
                      <a:pt x="3346" y="80"/>
                    </a:cubicBezTo>
                    <a:cubicBezTo>
                      <a:pt x="3352" y="89"/>
                      <a:pt x="3356" y="99"/>
                      <a:pt x="3358" y="109"/>
                    </a:cubicBezTo>
                    <a:cubicBezTo>
                      <a:pt x="3357" y="112"/>
                      <a:pt x="3355" y="116"/>
                      <a:pt x="3354" y="119"/>
                    </a:cubicBezTo>
                    <a:cubicBezTo>
                      <a:pt x="3352" y="114"/>
                      <a:pt x="3350" y="108"/>
                      <a:pt x="3347" y="103"/>
                    </a:cubicBezTo>
                    <a:close/>
                    <a:moveTo>
                      <a:pt x="3355" y="123"/>
                    </a:moveTo>
                    <a:cubicBezTo>
                      <a:pt x="3356" y="118"/>
                      <a:pt x="3357" y="114"/>
                      <a:pt x="3358" y="110"/>
                    </a:cubicBezTo>
                    <a:cubicBezTo>
                      <a:pt x="3359" y="115"/>
                      <a:pt x="3360" y="120"/>
                      <a:pt x="3361" y="125"/>
                    </a:cubicBezTo>
                    <a:cubicBezTo>
                      <a:pt x="3360" y="128"/>
                      <a:pt x="3359" y="130"/>
                      <a:pt x="3358" y="133"/>
                    </a:cubicBezTo>
                    <a:cubicBezTo>
                      <a:pt x="3357" y="129"/>
                      <a:pt x="3356" y="126"/>
                      <a:pt x="3355" y="123"/>
                    </a:cubicBezTo>
                    <a:close/>
                    <a:moveTo>
                      <a:pt x="3362" y="150"/>
                    </a:moveTo>
                    <a:cubicBezTo>
                      <a:pt x="3362" y="147"/>
                      <a:pt x="3361" y="144"/>
                      <a:pt x="3360" y="140"/>
                    </a:cubicBezTo>
                    <a:cubicBezTo>
                      <a:pt x="3361" y="137"/>
                      <a:pt x="3361" y="135"/>
                      <a:pt x="3361" y="132"/>
                    </a:cubicBezTo>
                    <a:cubicBezTo>
                      <a:pt x="3362" y="137"/>
                      <a:pt x="3362" y="143"/>
                      <a:pt x="3362" y="149"/>
                    </a:cubicBezTo>
                    <a:cubicBezTo>
                      <a:pt x="3362" y="150"/>
                      <a:pt x="3362" y="150"/>
                      <a:pt x="3362" y="150"/>
                    </a:cubicBezTo>
                    <a:close/>
                    <a:moveTo>
                      <a:pt x="3391" y="152"/>
                    </a:moveTo>
                    <a:cubicBezTo>
                      <a:pt x="3391" y="148"/>
                      <a:pt x="3391" y="145"/>
                      <a:pt x="3390" y="141"/>
                    </a:cubicBezTo>
                    <a:cubicBezTo>
                      <a:pt x="3390" y="136"/>
                      <a:pt x="3391" y="131"/>
                      <a:pt x="3391" y="125"/>
                    </a:cubicBezTo>
                    <a:cubicBezTo>
                      <a:pt x="3391" y="134"/>
                      <a:pt x="3391" y="142"/>
                      <a:pt x="3391" y="151"/>
                    </a:cubicBezTo>
                    <a:cubicBezTo>
                      <a:pt x="3391" y="151"/>
                      <a:pt x="3391" y="151"/>
                      <a:pt x="3391" y="152"/>
                    </a:cubicBezTo>
                    <a:close/>
                    <a:moveTo>
                      <a:pt x="3457" y="128"/>
                    </a:moveTo>
                    <a:cubicBezTo>
                      <a:pt x="3457" y="132"/>
                      <a:pt x="3456" y="136"/>
                      <a:pt x="3455" y="140"/>
                    </a:cubicBezTo>
                    <a:cubicBezTo>
                      <a:pt x="3455" y="136"/>
                      <a:pt x="3454" y="133"/>
                      <a:pt x="3453" y="129"/>
                    </a:cubicBezTo>
                    <a:cubicBezTo>
                      <a:pt x="3453" y="126"/>
                      <a:pt x="3453" y="122"/>
                      <a:pt x="3453" y="119"/>
                    </a:cubicBezTo>
                    <a:cubicBezTo>
                      <a:pt x="3453" y="112"/>
                      <a:pt x="3454" y="104"/>
                      <a:pt x="3455" y="97"/>
                    </a:cubicBezTo>
                    <a:cubicBezTo>
                      <a:pt x="3456" y="102"/>
                      <a:pt x="3457" y="107"/>
                      <a:pt x="3457" y="111"/>
                    </a:cubicBezTo>
                    <a:cubicBezTo>
                      <a:pt x="3457" y="122"/>
                      <a:pt x="3457" y="122"/>
                      <a:pt x="3457" y="122"/>
                    </a:cubicBezTo>
                    <a:cubicBezTo>
                      <a:pt x="3457" y="124"/>
                      <a:pt x="3457" y="126"/>
                      <a:pt x="3457" y="128"/>
                    </a:cubicBezTo>
                    <a:close/>
                    <a:moveTo>
                      <a:pt x="3465" y="151"/>
                    </a:move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36"/>
                      <a:pt x="3465" y="123"/>
                      <a:pt x="3464" y="109"/>
                    </a:cubicBezTo>
                    <a:cubicBezTo>
                      <a:pt x="3464" y="104"/>
                      <a:pt x="3465" y="99"/>
                      <a:pt x="3466" y="93"/>
                    </a:cubicBezTo>
                    <a:cubicBezTo>
                      <a:pt x="3467" y="99"/>
                      <a:pt x="3467" y="105"/>
                      <a:pt x="3467" y="110"/>
                    </a:cubicBezTo>
                    <a:cubicBezTo>
                      <a:pt x="3467" y="124"/>
                      <a:pt x="3465" y="138"/>
                      <a:pt x="3465" y="151"/>
                    </a:cubicBezTo>
                    <a:close/>
                    <a:moveTo>
                      <a:pt x="3492" y="110"/>
                    </a:moveTo>
                    <a:cubicBezTo>
                      <a:pt x="3492" y="109"/>
                      <a:pt x="3492" y="107"/>
                      <a:pt x="3492" y="106"/>
                    </a:cubicBezTo>
                    <a:cubicBezTo>
                      <a:pt x="3492" y="110"/>
                      <a:pt x="3493" y="113"/>
                      <a:pt x="3492" y="116"/>
                    </a:cubicBezTo>
                    <a:cubicBezTo>
                      <a:pt x="3492" y="114"/>
                      <a:pt x="3492" y="112"/>
                      <a:pt x="3492" y="110"/>
                    </a:cubicBezTo>
                    <a:close/>
                    <a:moveTo>
                      <a:pt x="3518" y="120"/>
                    </a:moveTo>
                    <a:cubicBezTo>
                      <a:pt x="3516" y="114"/>
                      <a:pt x="3515" y="109"/>
                      <a:pt x="3515" y="104"/>
                    </a:cubicBezTo>
                    <a:cubicBezTo>
                      <a:pt x="3515" y="102"/>
                      <a:pt x="3515" y="98"/>
                      <a:pt x="3517" y="93"/>
                    </a:cubicBezTo>
                    <a:cubicBezTo>
                      <a:pt x="3518" y="100"/>
                      <a:pt x="3518" y="107"/>
                      <a:pt x="3518" y="112"/>
                    </a:cubicBezTo>
                    <a:cubicBezTo>
                      <a:pt x="3518" y="115"/>
                      <a:pt x="3518" y="117"/>
                      <a:pt x="3518" y="120"/>
                    </a:cubicBezTo>
                    <a:close/>
                    <a:moveTo>
                      <a:pt x="3528" y="145"/>
                    </a:moveTo>
                    <a:cubicBezTo>
                      <a:pt x="3528" y="145"/>
                      <a:pt x="3528" y="144"/>
                      <a:pt x="3528" y="144"/>
                    </a:cubicBezTo>
                    <a:cubicBezTo>
                      <a:pt x="3528" y="139"/>
                      <a:pt x="3528" y="134"/>
                      <a:pt x="3528" y="129"/>
                    </a:cubicBezTo>
                    <a:cubicBezTo>
                      <a:pt x="3529" y="132"/>
                      <a:pt x="3529" y="134"/>
                      <a:pt x="3529" y="137"/>
                    </a:cubicBezTo>
                    <a:cubicBezTo>
                      <a:pt x="3529" y="140"/>
                      <a:pt x="3528" y="142"/>
                      <a:pt x="3528" y="145"/>
                    </a:cubicBezTo>
                    <a:close/>
                    <a:moveTo>
                      <a:pt x="3539" y="145"/>
                    </a:moveTo>
                    <a:cubicBezTo>
                      <a:pt x="3539" y="144"/>
                      <a:pt x="3538" y="143"/>
                      <a:pt x="3538" y="143"/>
                    </a:cubicBezTo>
                    <a:cubicBezTo>
                      <a:pt x="3538" y="142"/>
                      <a:pt x="3538" y="141"/>
                      <a:pt x="3538" y="140"/>
                    </a:cubicBezTo>
                    <a:cubicBezTo>
                      <a:pt x="3539" y="141"/>
                      <a:pt x="3539" y="142"/>
                      <a:pt x="3539" y="143"/>
                    </a:cubicBezTo>
                    <a:cubicBezTo>
                      <a:pt x="3539" y="143"/>
                      <a:pt x="3539" y="144"/>
                      <a:pt x="3539" y="145"/>
                    </a:cubicBezTo>
                    <a:close/>
                    <a:moveTo>
                      <a:pt x="3540" y="138"/>
                    </a:moveTo>
                    <a:cubicBezTo>
                      <a:pt x="3540" y="136"/>
                      <a:pt x="3539" y="135"/>
                      <a:pt x="3539" y="133"/>
                    </a:cubicBezTo>
                    <a:cubicBezTo>
                      <a:pt x="3539" y="129"/>
                      <a:pt x="3539" y="124"/>
                      <a:pt x="3539" y="119"/>
                    </a:cubicBezTo>
                    <a:cubicBezTo>
                      <a:pt x="3540" y="124"/>
                      <a:pt x="3541" y="129"/>
                      <a:pt x="3542" y="134"/>
                    </a:cubicBezTo>
                    <a:cubicBezTo>
                      <a:pt x="3541" y="135"/>
                      <a:pt x="3541" y="137"/>
                      <a:pt x="3540" y="138"/>
                    </a:cubicBezTo>
                    <a:close/>
                    <a:moveTo>
                      <a:pt x="3545" y="154"/>
                    </a:moveTo>
                    <a:cubicBezTo>
                      <a:pt x="3545" y="153"/>
                      <a:pt x="3545" y="152"/>
                      <a:pt x="3545" y="151"/>
                    </a:cubicBezTo>
                    <a:cubicBezTo>
                      <a:pt x="3545" y="151"/>
                      <a:pt x="3545" y="150"/>
                      <a:pt x="3545" y="150"/>
                    </a:cubicBezTo>
                    <a:cubicBezTo>
                      <a:pt x="3545" y="151"/>
                      <a:pt x="3545" y="152"/>
                      <a:pt x="3545" y="154"/>
                    </a:cubicBezTo>
                    <a:close/>
                    <a:moveTo>
                      <a:pt x="3551" y="139"/>
                    </a:moveTo>
                    <a:cubicBezTo>
                      <a:pt x="3550" y="136"/>
                      <a:pt x="3549" y="134"/>
                      <a:pt x="3548" y="132"/>
                    </a:cubicBezTo>
                    <a:cubicBezTo>
                      <a:pt x="3549" y="129"/>
                      <a:pt x="3550" y="127"/>
                      <a:pt x="3551" y="125"/>
                    </a:cubicBezTo>
                    <a:cubicBezTo>
                      <a:pt x="3551" y="128"/>
                      <a:pt x="3552" y="131"/>
                      <a:pt x="3553" y="134"/>
                    </a:cubicBezTo>
                    <a:cubicBezTo>
                      <a:pt x="3552" y="136"/>
                      <a:pt x="3552" y="137"/>
                      <a:pt x="3551" y="139"/>
                    </a:cubicBezTo>
                    <a:close/>
                    <a:moveTo>
                      <a:pt x="3571" y="114"/>
                    </a:moveTo>
                    <a:cubicBezTo>
                      <a:pt x="3570" y="108"/>
                      <a:pt x="3569" y="101"/>
                      <a:pt x="3569" y="95"/>
                    </a:cubicBezTo>
                    <a:cubicBezTo>
                      <a:pt x="3569" y="88"/>
                      <a:pt x="3570" y="81"/>
                      <a:pt x="3571" y="75"/>
                    </a:cubicBezTo>
                    <a:cubicBezTo>
                      <a:pt x="3573" y="81"/>
                      <a:pt x="3573" y="88"/>
                      <a:pt x="3573" y="95"/>
                    </a:cubicBezTo>
                    <a:cubicBezTo>
                      <a:pt x="3573" y="101"/>
                      <a:pt x="3572" y="108"/>
                      <a:pt x="3571" y="114"/>
                    </a:cubicBezTo>
                    <a:close/>
                    <a:moveTo>
                      <a:pt x="3591" y="139"/>
                    </a:moveTo>
                    <a:cubicBezTo>
                      <a:pt x="3591" y="137"/>
                      <a:pt x="3590" y="136"/>
                      <a:pt x="3590" y="134"/>
                    </a:cubicBezTo>
                    <a:cubicBezTo>
                      <a:pt x="3590" y="131"/>
                      <a:pt x="3591" y="128"/>
                      <a:pt x="3592" y="125"/>
                    </a:cubicBezTo>
                    <a:cubicBezTo>
                      <a:pt x="3592" y="127"/>
                      <a:pt x="3593" y="129"/>
                      <a:pt x="3594" y="132"/>
                    </a:cubicBezTo>
                    <a:cubicBezTo>
                      <a:pt x="3593" y="134"/>
                      <a:pt x="3592" y="136"/>
                      <a:pt x="3591" y="139"/>
                    </a:cubicBezTo>
                    <a:close/>
                    <a:moveTo>
                      <a:pt x="3597" y="154"/>
                    </a:moveTo>
                    <a:cubicBezTo>
                      <a:pt x="3597" y="154"/>
                      <a:pt x="3597" y="154"/>
                      <a:pt x="3597" y="154"/>
                    </a:cubicBezTo>
                    <a:cubicBezTo>
                      <a:pt x="3597" y="152"/>
                      <a:pt x="3597" y="151"/>
                      <a:pt x="3598" y="150"/>
                    </a:cubicBezTo>
                    <a:cubicBezTo>
                      <a:pt x="3598" y="150"/>
                      <a:pt x="3598" y="151"/>
                      <a:pt x="3598" y="151"/>
                    </a:cubicBezTo>
                    <a:cubicBezTo>
                      <a:pt x="3597" y="152"/>
                      <a:pt x="3597" y="153"/>
                      <a:pt x="3597" y="154"/>
                    </a:cubicBezTo>
                    <a:close/>
                    <a:moveTo>
                      <a:pt x="3603" y="119"/>
                    </a:move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19"/>
                    </a:cubicBezTo>
                    <a:close/>
                    <a:moveTo>
                      <a:pt x="3602" y="138"/>
                    </a:moveTo>
                    <a:cubicBezTo>
                      <a:pt x="3601" y="137"/>
                      <a:pt x="3601" y="135"/>
                      <a:pt x="3601" y="134"/>
                    </a:cubicBezTo>
                    <a:cubicBezTo>
                      <a:pt x="3601" y="134"/>
                      <a:pt x="3601" y="134"/>
                      <a:pt x="3601" y="134"/>
                    </a:cubicBezTo>
                    <a:cubicBezTo>
                      <a:pt x="3601" y="134"/>
                      <a:pt x="3602" y="135"/>
                      <a:pt x="3602" y="137"/>
                    </a:cubicBezTo>
                    <a:cubicBezTo>
                      <a:pt x="3602" y="137"/>
                      <a:pt x="3602" y="138"/>
                      <a:pt x="3602" y="138"/>
                    </a:cubicBezTo>
                    <a:close/>
                    <a:moveTo>
                      <a:pt x="3601" y="133"/>
                    </a:moveTo>
                    <a:cubicBezTo>
                      <a:pt x="3601" y="132"/>
                      <a:pt x="3601" y="131"/>
                      <a:pt x="3601" y="130"/>
                    </a:cubicBezTo>
                    <a:cubicBezTo>
                      <a:pt x="3602" y="131"/>
                      <a:pt x="3603" y="133"/>
                      <a:pt x="3603" y="134"/>
                    </a:cubicBezTo>
                    <a:cubicBezTo>
                      <a:pt x="3603" y="135"/>
                      <a:pt x="3603" y="135"/>
                      <a:pt x="3603" y="136"/>
                    </a:cubicBezTo>
                    <a:cubicBezTo>
                      <a:pt x="3602" y="134"/>
                      <a:pt x="3601" y="133"/>
                      <a:pt x="3601" y="133"/>
                    </a:cubicBezTo>
                    <a:close/>
                    <a:moveTo>
                      <a:pt x="3604" y="145"/>
                    </a:moveTo>
                    <a:cubicBezTo>
                      <a:pt x="3603" y="144"/>
                      <a:pt x="3603" y="143"/>
                      <a:pt x="3603" y="143"/>
                    </a:cubicBezTo>
                    <a:cubicBezTo>
                      <a:pt x="3603" y="142"/>
                      <a:pt x="3604" y="141"/>
                      <a:pt x="3604" y="140"/>
                    </a:cubicBezTo>
                    <a:cubicBezTo>
                      <a:pt x="3604" y="140"/>
                      <a:pt x="3604" y="140"/>
                      <a:pt x="3604" y="140"/>
                    </a:cubicBezTo>
                    <a:cubicBezTo>
                      <a:pt x="3604" y="141"/>
                      <a:pt x="3604" y="142"/>
                      <a:pt x="3604" y="143"/>
                    </a:cubicBezTo>
                    <a:cubicBezTo>
                      <a:pt x="3604" y="143"/>
                      <a:pt x="3604" y="144"/>
                      <a:pt x="3604" y="145"/>
                    </a:cubicBezTo>
                    <a:close/>
                    <a:moveTo>
                      <a:pt x="3614" y="134"/>
                    </a:moveTo>
                    <a:cubicBezTo>
                      <a:pt x="3614" y="134"/>
                      <a:pt x="3614" y="133"/>
                      <a:pt x="3614" y="133"/>
                    </a:cubicBezTo>
                    <a:cubicBezTo>
                      <a:pt x="3614" y="132"/>
                      <a:pt x="3614" y="130"/>
                      <a:pt x="3614" y="129"/>
                    </a:cubicBezTo>
                    <a:cubicBezTo>
                      <a:pt x="3614" y="130"/>
                      <a:pt x="3614" y="132"/>
                      <a:pt x="3614" y="134"/>
                    </a:cubicBezTo>
                    <a:close/>
                    <a:moveTo>
                      <a:pt x="3624" y="120"/>
                    </a:moveTo>
                    <a:cubicBezTo>
                      <a:pt x="3624" y="117"/>
                      <a:pt x="3624" y="115"/>
                      <a:pt x="3624" y="112"/>
                    </a:cubicBezTo>
                    <a:cubicBezTo>
                      <a:pt x="3624" y="111"/>
                      <a:pt x="3624" y="111"/>
                      <a:pt x="3624" y="110"/>
                    </a:cubicBezTo>
                    <a:cubicBezTo>
                      <a:pt x="3624" y="113"/>
                      <a:pt x="3624" y="116"/>
                      <a:pt x="3625" y="119"/>
                    </a:cubicBezTo>
                    <a:cubicBezTo>
                      <a:pt x="3625" y="119"/>
                      <a:pt x="3624" y="120"/>
                      <a:pt x="3624" y="120"/>
                    </a:cubicBezTo>
                    <a:close/>
                    <a:moveTo>
                      <a:pt x="3626" y="115"/>
                    </a:moveTo>
                    <a:cubicBezTo>
                      <a:pt x="3625" y="112"/>
                      <a:pt x="3625" y="108"/>
                      <a:pt x="3624" y="104"/>
                    </a:cubicBezTo>
                    <a:cubicBezTo>
                      <a:pt x="3625" y="101"/>
                      <a:pt x="3625" y="97"/>
                      <a:pt x="3626" y="93"/>
                    </a:cubicBezTo>
                    <a:cubicBezTo>
                      <a:pt x="3627" y="98"/>
                      <a:pt x="3627" y="102"/>
                      <a:pt x="3627" y="104"/>
                    </a:cubicBezTo>
                    <a:cubicBezTo>
                      <a:pt x="3627" y="108"/>
                      <a:pt x="3627" y="111"/>
                      <a:pt x="3626" y="115"/>
                    </a:cubicBezTo>
                    <a:close/>
                    <a:moveTo>
                      <a:pt x="3631" y="102"/>
                    </a:moveTo>
                    <a:cubicBezTo>
                      <a:pt x="3631" y="102"/>
                      <a:pt x="3631" y="102"/>
                      <a:pt x="3630" y="103"/>
                    </a:cubicBezTo>
                    <a:cubicBezTo>
                      <a:pt x="3630" y="99"/>
                      <a:pt x="3629" y="94"/>
                      <a:pt x="3626" y="90"/>
                    </a:cubicBezTo>
                    <a:cubicBezTo>
                      <a:pt x="3628" y="84"/>
                      <a:pt x="3630" y="78"/>
                      <a:pt x="3632" y="73"/>
                    </a:cubicBezTo>
                    <a:cubicBezTo>
                      <a:pt x="3631" y="83"/>
                      <a:pt x="3631" y="93"/>
                      <a:pt x="3631" y="102"/>
                    </a:cubicBezTo>
                    <a:close/>
                    <a:moveTo>
                      <a:pt x="3637" y="110"/>
                    </a:moveTo>
                    <a:cubicBezTo>
                      <a:pt x="3637" y="111"/>
                      <a:pt x="3637" y="111"/>
                      <a:pt x="3637" y="111"/>
                    </a:cubicBezTo>
                    <a:cubicBezTo>
                      <a:pt x="3637" y="114"/>
                      <a:pt x="3636" y="116"/>
                      <a:pt x="3636" y="119"/>
                    </a:cubicBezTo>
                    <a:cubicBezTo>
                      <a:pt x="3635" y="114"/>
                      <a:pt x="3635" y="108"/>
                      <a:pt x="3635" y="103"/>
                    </a:cubicBezTo>
                    <a:cubicBezTo>
                      <a:pt x="3635" y="97"/>
                      <a:pt x="3635" y="91"/>
                      <a:pt x="3637" y="85"/>
                    </a:cubicBezTo>
                    <a:cubicBezTo>
                      <a:pt x="3636" y="87"/>
                      <a:pt x="3635" y="89"/>
                      <a:pt x="3634" y="92"/>
                    </a:cubicBezTo>
                    <a:cubicBezTo>
                      <a:pt x="3634" y="87"/>
                      <a:pt x="3634" y="82"/>
                      <a:pt x="3635" y="77"/>
                    </a:cubicBezTo>
                    <a:cubicBezTo>
                      <a:pt x="3637" y="83"/>
                      <a:pt x="3638" y="90"/>
                      <a:pt x="3638" y="96"/>
                    </a:cubicBezTo>
                    <a:cubicBezTo>
                      <a:pt x="3638" y="101"/>
                      <a:pt x="3638" y="106"/>
                      <a:pt x="3637" y="110"/>
                    </a:cubicBezTo>
                    <a:close/>
                    <a:moveTo>
                      <a:pt x="3643" y="127"/>
                    </a:moveTo>
                    <a:cubicBezTo>
                      <a:pt x="3642" y="132"/>
                      <a:pt x="3642" y="134"/>
                      <a:pt x="3642" y="134"/>
                    </a:cubicBezTo>
                    <a:cubicBezTo>
                      <a:pt x="3642" y="129"/>
                      <a:pt x="3643" y="125"/>
                      <a:pt x="3643" y="120"/>
                    </a:cubicBezTo>
                    <a:cubicBezTo>
                      <a:pt x="3643" y="123"/>
                      <a:pt x="3643" y="125"/>
                      <a:pt x="3643" y="127"/>
                    </a:cubicBezTo>
                    <a:close/>
                    <a:moveTo>
                      <a:pt x="3675" y="92"/>
                    </a:moveTo>
                    <a:cubicBezTo>
                      <a:pt x="3675" y="91"/>
                      <a:pt x="3675" y="90"/>
                      <a:pt x="3675" y="89"/>
                    </a:cubicBezTo>
                    <a:cubicBezTo>
                      <a:pt x="3675" y="89"/>
                      <a:pt x="3675" y="90"/>
                      <a:pt x="3675" y="91"/>
                    </a:cubicBezTo>
                    <a:cubicBezTo>
                      <a:pt x="3675" y="91"/>
                      <a:pt x="3675" y="92"/>
                      <a:pt x="3675" y="92"/>
                    </a:cubicBezTo>
                    <a:close/>
                    <a:moveTo>
                      <a:pt x="3677" y="130"/>
                    </a:moveTo>
                    <a:cubicBezTo>
                      <a:pt x="3677" y="132"/>
                      <a:pt x="3677" y="134"/>
                      <a:pt x="3677" y="136"/>
                    </a:cubicBezTo>
                    <a:cubicBezTo>
                      <a:pt x="3676" y="127"/>
                      <a:pt x="3675" y="119"/>
                      <a:pt x="3675" y="110"/>
                    </a:cubicBezTo>
                    <a:cubicBezTo>
                      <a:pt x="3675" y="105"/>
                      <a:pt x="3675" y="99"/>
                      <a:pt x="3676" y="93"/>
                    </a:cubicBezTo>
                    <a:cubicBezTo>
                      <a:pt x="3677" y="99"/>
                      <a:pt x="3678" y="104"/>
                      <a:pt x="3679" y="109"/>
                    </a:cubicBezTo>
                    <a:cubicBezTo>
                      <a:pt x="3678" y="116"/>
                      <a:pt x="3678" y="123"/>
                      <a:pt x="3677" y="130"/>
                    </a:cubicBezTo>
                    <a:close/>
                    <a:moveTo>
                      <a:pt x="3687" y="140"/>
                    </a:moveTo>
                    <a:cubicBezTo>
                      <a:pt x="3687" y="140"/>
                      <a:pt x="3687" y="139"/>
                      <a:pt x="3687" y="139"/>
                    </a:cubicBezTo>
                    <a:cubicBezTo>
                      <a:pt x="3688" y="100"/>
                      <a:pt x="3688" y="100"/>
                      <a:pt x="3688" y="100"/>
                    </a:cubicBezTo>
                    <a:cubicBezTo>
                      <a:pt x="3688" y="106"/>
                      <a:pt x="3689" y="113"/>
                      <a:pt x="3689" y="119"/>
                    </a:cubicBezTo>
                    <a:cubicBezTo>
                      <a:pt x="3689" y="122"/>
                      <a:pt x="3689" y="126"/>
                      <a:pt x="3689" y="129"/>
                    </a:cubicBezTo>
                    <a:cubicBezTo>
                      <a:pt x="3688" y="133"/>
                      <a:pt x="3688" y="136"/>
                      <a:pt x="3687" y="140"/>
                    </a:cubicBezTo>
                    <a:close/>
                    <a:moveTo>
                      <a:pt x="3708" y="105"/>
                    </a:moveTo>
                    <a:cubicBezTo>
                      <a:pt x="3708" y="104"/>
                      <a:pt x="3708" y="102"/>
                      <a:pt x="3708" y="101"/>
                    </a:cubicBezTo>
                    <a:cubicBezTo>
                      <a:pt x="3708" y="102"/>
                      <a:pt x="3709" y="103"/>
                      <a:pt x="3709" y="103"/>
                    </a:cubicBezTo>
                    <a:cubicBezTo>
                      <a:pt x="3708" y="104"/>
                      <a:pt x="3708" y="105"/>
                      <a:pt x="3708" y="105"/>
                    </a:cubicBezTo>
                    <a:close/>
                    <a:moveTo>
                      <a:pt x="3731" y="101"/>
                    </a:moveTo>
                    <a:cubicBezTo>
                      <a:pt x="3730" y="101"/>
                      <a:pt x="3730" y="101"/>
                      <a:pt x="3730" y="100"/>
                    </a:cubicBezTo>
                    <a:cubicBezTo>
                      <a:pt x="3730" y="101"/>
                      <a:pt x="3730" y="101"/>
                      <a:pt x="3731" y="101"/>
                    </a:cubicBezTo>
                    <a:cubicBezTo>
                      <a:pt x="3730" y="111"/>
                      <a:pt x="3729" y="119"/>
                      <a:pt x="3728" y="126"/>
                    </a:cubicBezTo>
                    <a:cubicBezTo>
                      <a:pt x="3727" y="122"/>
                      <a:pt x="3727" y="118"/>
                      <a:pt x="3726" y="114"/>
                    </a:cubicBezTo>
                    <a:cubicBezTo>
                      <a:pt x="3726" y="109"/>
                      <a:pt x="3726" y="103"/>
                      <a:pt x="3726" y="98"/>
                    </a:cubicBezTo>
                    <a:cubicBezTo>
                      <a:pt x="3727" y="92"/>
                      <a:pt x="3729" y="87"/>
                      <a:pt x="3732" y="82"/>
                    </a:cubicBezTo>
                    <a:cubicBezTo>
                      <a:pt x="3731" y="89"/>
                      <a:pt x="3731" y="95"/>
                      <a:pt x="3731" y="101"/>
                    </a:cubicBezTo>
                    <a:close/>
                    <a:moveTo>
                      <a:pt x="3740" y="117"/>
                    </a:moveTo>
                    <a:cubicBezTo>
                      <a:pt x="3740" y="114"/>
                      <a:pt x="3740" y="110"/>
                      <a:pt x="3740" y="106"/>
                    </a:cubicBezTo>
                    <a:cubicBezTo>
                      <a:pt x="3740" y="99"/>
                      <a:pt x="3740" y="90"/>
                      <a:pt x="3743" y="83"/>
                    </a:cubicBezTo>
                    <a:cubicBezTo>
                      <a:pt x="3742" y="95"/>
                      <a:pt x="3741" y="107"/>
                      <a:pt x="3740" y="117"/>
                    </a:cubicBezTo>
                    <a:close/>
                    <a:moveTo>
                      <a:pt x="3746" y="108"/>
                    </a:moveTo>
                    <a:cubicBezTo>
                      <a:pt x="3746" y="106"/>
                      <a:pt x="3746" y="104"/>
                      <a:pt x="3746" y="102"/>
                    </a:cubicBezTo>
                    <a:cubicBezTo>
                      <a:pt x="3747" y="102"/>
                      <a:pt x="3747" y="102"/>
                      <a:pt x="3747" y="103"/>
                    </a:cubicBezTo>
                    <a:cubicBezTo>
                      <a:pt x="3747" y="104"/>
                      <a:pt x="3746" y="106"/>
                      <a:pt x="3746" y="108"/>
                    </a:cubicBezTo>
                    <a:close/>
                    <a:moveTo>
                      <a:pt x="3752" y="111"/>
                    </a:moveTo>
                    <a:cubicBezTo>
                      <a:pt x="3752" y="103"/>
                      <a:pt x="3755" y="95"/>
                      <a:pt x="3757" y="87"/>
                    </a:cubicBezTo>
                    <a:cubicBezTo>
                      <a:pt x="3756" y="95"/>
                      <a:pt x="3754" y="104"/>
                      <a:pt x="3752" y="113"/>
                    </a:cubicBezTo>
                    <a:cubicBezTo>
                      <a:pt x="3752" y="112"/>
                      <a:pt x="3752" y="112"/>
                      <a:pt x="3752" y="111"/>
                    </a:cubicBezTo>
                    <a:close/>
                    <a:moveTo>
                      <a:pt x="3776" y="110"/>
                    </a:moveTo>
                    <a:cubicBezTo>
                      <a:pt x="3776" y="109"/>
                      <a:pt x="3776" y="108"/>
                      <a:pt x="3776" y="107"/>
                    </a:cubicBezTo>
                    <a:cubicBezTo>
                      <a:pt x="3776" y="107"/>
                      <a:pt x="3776" y="108"/>
                      <a:pt x="3776" y="108"/>
                    </a:cubicBezTo>
                    <a:cubicBezTo>
                      <a:pt x="3776" y="109"/>
                      <a:pt x="3776" y="109"/>
                      <a:pt x="3776" y="110"/>
                    </a:cubicBezTo>
                    <a:close/>
                    <a:moveTo>
                      <a:pt x="3787" y="125"/>
                    </a:moveTo>
                    <a:cubicBezTo>
                      <a:pt x="3787" y="123"/>
                      <a:pt x="3787" y="122"/>
                      <a:pt x="3787" y="120"/>
                    </a:cubicBezTo>
                    <a:cubicBezTo>
                      <a:pt x="3787" y="121"/>
                      <a:pt x="3787" y="122"/>
                      <a:pt x="3787" y="123"/>
                    </a:cubicBezTo>
                    <a:cubicBezTo>
                      <a:pt x="3787" y="123"/>
                      <a:pt x="3787" y="124"/>
                      <a:pt x="3787" y="125"/>
                    </a:cubicBezTo>
                    <a:close/>
                    <a:moveTo>
                      <a:pt x="3790" y="115"/>
                    </a:moveTo>
                    <a:cubicBezTo>
                      <a:pt x="3789" y="117"/>
                      <a:pt x="3789" y="118"/>
                      <a:pt x="3788" y="119"/>
                    </a:cubicBezTo>
                    <a:cubicBezTo>
                      <a:pt x="3788" y="118"/>
                      <a:pt x="3787" y="116"/>
                      <a:pt x="3787" y="114"/>
                    </a:cubicBezTo>
                    <a:cubicBezTo>
                      <a:pt x="3787" y="110"/>
                      <a:pt x="3787" y="105"/>
                      <a:pt x="3787" y="100"/>
                    </a:cubicBezTo>
                    <a:cubicBezTo>
                      <a:pt x="3788" y="94"/>
                      <a:pt x="3791" y="89"/>
                      <a:pt x="3794" y="84"/>
                    </a:cubicBezTo>
                    <a:cubicBezTo>
                      <a:pt x="3793" y="93"/>
                      <a:pt x="3791" y="105"/>
                      <a:pt x="3790" y="115"/>
                    </a:cubicBezTo>
                    <a:close/>
                    <a:moveTo>
                      <a:pt x="3797" y="90"/>
                    </a:moveTo>
                    <a:cubicBezTo>
                      <a:pt x="3797" y="88"/>
                      <a:pt x="3796" y="84"/>
                      <a:pt x="3796" y="80"/>
                    </a:cubicBezTo>
                    <a:cubicBezTo>
                      <a:pt x="3796" y="80"/>
                      <a:pt x="3796" y="80"/>
                      <a:pt x="3796" y="80"/>
                    </a:cubicBezTo>
                    <a:cubicBezTo>
                      <a:pt x="3797" y="81"/>
                      <a:pt x="3798" y="83"/>
                      <a:pt x="3798" y="84"/>
                    </a:cubicBezTo>
                    <a:cubicBezTo>
                      <a:pt x="3798" y="88"/>
                      <a:pt x="3797" y="90"/>
                      <a:pt x="3797" y="90"/>
                    </a:cubicBezTo>
                    <a:close/>
                    <a:moveTo>
                      <a:pt x="3799" y="83"/>
                    </a:moveTo>
                    <a:cubicBezTo>
                      <a:pt x="3798" y="81"/>
                      <a:pt x="3797" y="80"/>
                      <a:pt x="3796" y="79"/>
                    </a:cubicBezTo>
                    <a:cubicBezTo>
                      <a:pt x="3797" y="78"/>
                      <a:pt x="3798" y="76"/>
                      <a:pt x="3800" y="75"/>
                    </a:cubicBezTo>
                    <a:cubicBezTo>
                      <a:pt x="3799" y="78"/>
                      <a:pt x="3799" y="81"/>
                      <a:pt x="3799" y="83"/>
                    </a:cubicBezTo>
                    <a:close/>
                    <a:moveTo>
                      <a:pt x="3805" y="104"/>
                    </a:moveTo>
                    <a:cubicBezTo>
                      <a:pt x="3806" y="105"/>
                      <a:pt x="3806" y="107"/>
                      <a:pt x="3806" y="109"/>
                    </a:cubicBezTo>
                    <a:cubicBezTo>
                      <a:pt x="3806" y="111"/>
                      <a:pt x="3805" y="112"/>
                      <a:pt x="3805" y="114"/>
                    </a:cubicBezTo>
                    <a:cubicBezTo>
                      <a:pt x="3805" y="110"/>
                      <a:pt x="3805" y="107"/>
                      <a:pt x="3805" y="104"/>
                    </a:cubicBezTo>
                    <a:close/>
                    <a:moveTo>
                      <a:pt x="3801" y="91"/>
                    </a:move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lose/>
                    <a:moveTo>
                      <a:pt x="3801" y="124"/>
                    </a:moveTo>
                    <a:cubicBezTo>
                      <a:pt x="3802" y="114"/>
                      <a:pt x="3802" y="102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3" y="94"/>
                      <a:pt x="3804" y="98"/>
                      <a:pt x="3805" y="101"/>
                    </a:cubicBezTo>
                    <a:cubicBezTo>
                      <a:pt x="3803" y="120"/>
                      <a:pt x="3803" y="120"/>
                      <a:pt x="3803" y="120"/>
                    </a:cubicBezTo>
                    <a:cubicBezTo>
                      <a:pt x="3802" y="121"/>
                      <a:pt x="3802" y="122"/>
                      <a:pt x="3801" y="124"/>
                    </a:cubicBezTo>
                    <a:close/>
                    <a:moveTo>
                      <a:pt x="3804" y="136"/>
                    </a:moveTo>
                    <a:cubicBezTo>
                      <a:pt x="3804" y="134"/>
                      <a:pt x="3804" y="133"/>
                      <a:pt x="3804" y="131"/>
                    </a:cubicBezTo>
                    <a:cubicBezTo>
                      <a:pt x="3805" y="126"/>
                      <a:pt x="3806" y="121"/>
                      <a:pt x="3807" y="116"/>
                    </a:cubicBezTo>
                    <a:cubicBezTo>
                      <a:pt x="3808" y="118"/>
                      <a:pt x="3808" y="121"/>
                      <a:pt x="3808" y="123"/>
                    </a:cubicBezTo>
                    <a:cubicBezTo>
                      <a:pt x="3808" y="124"/>
                      <a:pt x="3808" y="124"/>
                      <a:pt x="3808" y="124"/>
                    </a:cubicBezTo>
                    <a:cubicBezTo>
                      <a:pt x="3807" y="128"/>
                      <a:pt x="3805" y="132"/>
                      <a:pt x="3804" y="136"/>
                    </a:cubicBezTo>
                    <a:close/>
                    <a:moveTo>
                      <a:pt x="3808" y="141"/>
                    </a:moveTo>
                    <a:cubicBezTo>
                      <a:pt x="3808" y="141"/>
                      <a:pt x="3808" y="141"/>
                      <a:pt x="3808" y="141"/>
                    </a:cubicBezTo>
                    <a:cubicBezTo>
                      <a:pt x="3809" y="139"/>
                      <a:pt x="3809" y="137"/>
                      <a:pt x="3810" y="135"/>
                    </a:cubicBezTo>
                    <a:cubicBezTo>
                      <a:pt x="3810" y="135"/>
                      <a:pt x="3810" y="135"/>
                      <a:pt x="3810" y="135"/>
                    </a:cubicBezTo>
                    <a:cubicBezTo>
                      <a:pt x="3810" y="137"/>
                      <a:pt x="3809" y="139"/>
                      <a:pt x="3808" y="141"/>
                    </a:cubicBezTo>
                    <a:close/>
                    <a:moveTo>
                      <a:pt x="3815" y="119"/>
                    </a:moveTo>
                    <a:cubicBezTo>
                      <a:pt x="3814" y="119"/>
                      <a:pt x="3814" y="118"/>
                      <a:pt x="3814" y="118"/>
                    </a:cubicBezTo>
                    <a:cubicBezTo>
                      <a:pt x="3814" y="116"/>
                      <a:pt x="3815" y="115"/>
                      <a:pt x="3815" y="113"/>
                    </a:cubicBezTo>
                    <a:cubicBezTo>
                      <a:pt x="3815" y="112"/>
                      <a:pt x="3815" y="112"/>
                      <a:pt x="3815" y="111"/>
                    </a:cubicBezTo>
                    <a:cubicBezTo>
                      <a:pt x="3816" y="112"/>
                      <a:pt x="3816" y="113"/>
                      <a:pt x="3816" y="115"/>
                    </a:cubicBezTo>
                    <a:cubicBezTo>
                      <a:pt x="3816" y="116"/>
                      <a:pt x="3815" y="118"/>
                      <a:pt x="3815" y="119"/>
                    </a:cubicBezTo>
                    <a:close/>
                    <a:moveTo>
                      <a:pt x="3822" y="136"/>
                    </a:moveTo>
                    <a:cubicBezTo>
                      <a:pt x="3821" y="135"/>
                      <a:pt x="3821" y="134"/>
                      <a:pt x="3820" y="133"/>
                    </a:cubicBezTo>
                    <a:cubicBezTo>
                      <a:pt x="3820" y="132"/>
                      <a:pt x="3820" y="132"/>
                      <a:pt x="3820" y="131"/>
                    </a:cubicBezTo>
                    <a:cubicBezTo>
                      <a:pt x="3821" y="133"/>
                      <a:pt x="3821" y="134"/>
                      <a:pt x="3822" y="136"/>
                    </a:cubicBezTo>
                    <a:cubicBezTo>
                      <a:pt x="3822" y="136"/>
                      <a:pt x="3822" y="136"/>
                      <a:pt x="3822" y="136"/>
                    </a:cubicBezTo>
                    <a:close/>
                    <a:moveTo>
                      <a:pt x="3836" y="118"/>
                    </a:move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8"/>
                      <a:pt x="3836" y="118"/>
                      <a:pt x="3836" y="118"/>
                    </a:cubicBezTo>
                    <a:close/>
                    <a:moveTo>
                      <a:pt x="3842" y="105"/>
                    </a:moveTo>
                    <a:cubicBezTo>
                      <a:pt x="3841" y="106"/>
                      <a:pt x="3840" y="107"/>
                      <a:pt x="3840" y="109"/>
                    </a:cubicBezTo>
                    <a:cubicBezTo>
                      <a:pt x="3839" y="107"/>
                      <a:pt x="3839" y="106"/>
                      <a:pt x="3839" y="104"/>
                    </a:cubicBezTo>
                    <a:cubicBezTo>
                      <a:pt x="3840" y="101"/>
                      <a:pt x="3841" y="98"/>
                      <a:pt x="3843" y="94"/>
                    </a:cubicBezTo>
                    <a:cubicBezTo>
                      <a:pt x="3842" y="98"/>
                      <a:pt x="3842" y="101"/>
                      <a:pt x="3842" y="105"/>
                    </a:cubicBezTo>
                    <a:close/>
                    <a:moveTo>
                      <a:pt x="3847" y="138"/>
                    </a:moveTo>
                    <a:cubicBezTo>
                      <a:pt x="3847" y="137"/>
                      <a:pt x="3847" y="136"/>
                      <a:pt x="3846" y="135"/>
                    </a:cubicBezTo>
                    <a:cubicBezTo>
                      <a:pt x="3846" y="133"/>
                      <a:pt x="3846" y="131"/>
                      <a:pt x="3846" y="129"/>
                    </a:cubicBezTo>
                    <a:cubicBezTo>
                      <a:pt x="3847" y="131"/>
                      <a:pt x="3847" y="133"/>
                      <a:pt x="3848" y="134"/>
                    </a:cubicBezTo>
                    <a:cubicBezTo>
                      <a:pt x="3848" y="135"/>
                      <a:pt x="3848" y="137"/>
                      <a:pt x="3847" y="138"/>
                    </a:cubicBezTo>
                    <a:close/>
                    <a:moveTo>
                      <a:pt x="3849" y="123"/>
                    </a:moveTo>
                    <a:cubicBezTo>
                      <a:pt x="3848" y="121"/>
                      <a:pt x="3847" y="118"/>
                      <a:pt x="3847" y="116"/>
                    </a:cubicBezTo>
                    <a:cubicBezTo>
                      <a:pt x="3848" y="112"/>
                      <a:pt x="3849" y="107"/>
                      <a:pt x="3850" y="103"/>
                    </a:cubicBezTo>
                    <a:cubicBezTo>
                      <a:pt x="3850" y="110"/>
                      <a:pt x="3849" y="117"/>
                      <a:pt x="3849" y="123"/>
                    </a:cubicBezTo>
                    <a:close/>
                    <a:moveTo>
                      <a:pt x="3854" y="69"/>
                    </a:moveTo>
                    <a:cubicBezTo>
                      <a:pt x="3856" y="72"/>
                      <a:pt x="3858" y="75"/>
                      <a:pt x="3859" y="79"/>
                    </a:cubicBezTo>
                    <a:cubicBezTo>
                      <a:pt x="3859" y="79"/>
                      <a:pt x="3859" y="79"/>
                      <a:pt x="3859" y="79"/>
                    </a:cubicBezTo>
                    <a:cubicBezTo>
                      <a:pt x="3857" y="76"/>
                      <a:pt x="3856" y="72"/>
                      <a:pt x="3854" y="69"/>
                    </a:cubicBezTo>
                    <a:cubicBezTo>
                      <a:pt x="3854" y="69"/>
                      <a:pt x="3854" y="69"/>
                      <a:pt x="3854" y="69"/>
                    </a:cubicBezTo>
                    <a:close/>
                    <a:moveTo>
                      <a:pt x="3854" y="74"/>
                    </a:moveTo>
                    <a:cubicBezTo>
                      <a:pt x="3855" y="76"/>
                      <a:pt x="3856" y="79"/>
                      <a:pt x="3857" y="81"/>
                    </a:cubicBezTo>
                    <a:cubicBezTo>
                      <a:pt x="3856" y="82"/>
                      <a:pt x="3855" y="83"/>
                      <a:pt x="3854" y="85"/>
                    </a:cubicBezTo>
                    <a:cubicBezTo>
                      <a:pt x="3854" y="81"/>
                      <a:pt x="3854" y="77"/>
                      <a:pt x="3854" y="74"/>
                    </a:cubicBezTo>
                    <a:close/>
                    <a:moveTo>
                      <a:pt x="3855" y="120"/>
                    </a:moveTo>
                    <a:cubicBezTo>
                      <a:pt x="3855" y="115"/>
                      <a:pt x="3855" y="111"/>
                      <a:pt x="3855" y="106"/>
                    </a:cubicBezTo>
                    <a:cubicBezTo>
                      <a:pt x="3856" y="109"/>
                      <a:pt x="3856" y="112"/>
                      <a:pt x="3857" y="114"/>
                    </a:cubicBezTo>
                    <a:cubicBezTo>
                      <a:pt x="3856" y="116"/>
                      <a:pt x="3856" y="118"/>
                      <a:pt x="3855" y="120"/>
                    </a:cubicBezTo>
                    <a:close/>
                    <a:moveTo>
                      <a:pt x="3858" y="109"/>
                    </a:moveTo>
                    <a:cubicBezTo>
                      <a:pt x="3857" y="107"/>
                      <a:pt x="3856" y="104"/>
                      <a:pt x="3855" y="102"/>
                    </a:cubicBezTo>
                    <a:cubicBezTo>
                      <a:pt x="3855" y="99"/>
                      <a:pt x="3855" y="97"/>
                      <a:pt x="3855" y="94"/>
                    </a:cubicBezTo>
                    <a:cubicBezTo>
                      <a:pt x="3856" y="98"/>
                      <a:pt x="3857" y="102"/>
                      <a:pt x="3859" y="107"/>
                    </a:cubicBezTo>
                    <a:cubicBezTo>
                      <a:pt x="3859" y="108"/>
                      <a:pt x="3858" y="108"/>
                      <a:pt x="3858" y="109"/>
                    </a:cubicBezTo>
                    <a:close/>
                    <a:moveTo>
                      <a:pt x="3862" y="96"/>
                    </a:moveTo>
                    <a:cubicBezTo>
                      <a:pt x="3861" y="98"/>
                      <a:pt x="3860" y="101"/>
                      <a:pt x="3860" y="104"/>
                    </a:cubicBezTo>
                    <a:cubicBezTo>
                      <a:pt x="3858" y="100"/>
                      <a:pt x="3856" y="96"/>
                      <a:pt x="3855" y="92"/>
                    </a:cubicBezTo>
                    <a:cubicBezTo>
                      <a:pt x="3855" y="92"/>
                      <a:pt x="3855" y="92"/>
                      <a:pt x="3855" y="92"/>
                    </a:cubicBezTo>
                    <a:cubicBezTo>
                      <a:pt x="3856" y="89"/>
                      <a:pt x="3857" y="86"/>
                      <a:pt x="3859" y="84"/>
                    </a:cubicBezTo>
                    <a:cubicBezTo>
                      <a:pt x="3860" y="87"/>
                      <a:pt x="3861" y="90"/>
                      <a:pt x="3862" y="93"/>
                    </a:cubicBezTo>
                    <a:cubicBezTo>
                      <a:pt x="3862" y="94"/>
                      <a:pt x="3862" y="95"/>
                      <a:pt x="3862" y="96"/>
                    </a:cubicBezTo>
                    <a:close/>
                    <a:moveTo>
                      <a:pt x="3863" y="90"/>
                    </a:moveTo>
                    <a:cubicBezTo>
                      <a:pt x="3862" y="87"/>
                      <a:pt x="3861" y="84"/>
                      <a:pt x="3860" y="82"/>
                    </a:cubicBezTo>
                    <a:cubicBezTo>
                      <a:pt x="3860" y="81"/>
                      <a:pt x="3860" y="81"/>
                      <a:pt x="3860" y="81"/>
                    </a:cubicBezTo>
                    <a:cubicBezTo>
                      <a:pt x="3861" y="83"/>
                      <a:pt x="3862" y="86"/>
                      <a:pt x="3863" y="89"/>
                    </a:cubicBezTo>
                    <a:cubicBezTo>
                      <a:pt x="3863" y="89"/>
                      <a:pt x="3863" y="89"/>
                      <a:pt x="3863" y="90"/>
                    </a:cubicBezTo>
                    <a:close/>
                    <a:moveTo>
                      <a:pt x="3861" y="79"/>
                    </a:moveTo>
                    <a:cubicBezTo>
                      <a:pt x="3862" y="78"/>
                      <a:pt x="3863" y="77"/>
                      <a:pt x="3863" y="76"/>
                    </a:cubicBezTo>
                    <a:cubicBezTo>
                      <a:pt x="3864" y="78"/>
                      <a:pt x="3864" y="79"/>
                      <a:pt x="3865" y="80"/>
                    </a:cubicBezTo>
                    <a:cubicBezTo>
                      <a:pt x="3865" y="82"/>
                      <a:pt x="3864" y="84"/>
                      <a:pt x="3864" y="85"/>
                    </a:cubicBezTo>
                    <a:cubicBezTo>
                      <a:pt x="3863" y="83"/>
                      <a:pt x="3862" y="81"/>
                      <a:pt x="3861" y="79"/>
                    </a:cubicBezTo>
                    <a:close/>
                    <a:moveTo>
                      <a:pt x="3864" y="116"/>
                    </a:moveTo>
                    <a:cubicBezTo>
                      <a:pt x="3864" y="111"/>
                      <a:pt x="3865" y="106"/>
                      <a:pt x="3865" y="102"/>
                    </a:cubicBezTo>
                    <a:cubicBezTo>
                      <a:pt x="3866" y="105"/>
                      <a:pt x="3867" y="108"/>
                      <a:pt x="3868" y="111"/>
                    </a:cubicBezTo>
                    <a:cubicBezTo>
                      <a:pt x="3867" y="113"/>
                      <a:pt x="3866" y="116"/>
                      <a:pt x="3865" y="118"/>
                    </a:cubicBezTo>
                    <a:cubicBezTo>
                      <a:pt x="3865" y="117"/>
                      <a:pt x="3864" y="117"/>
                      <a:pt x="3864" y="116"/>
                    </a:cubicBezTo>
                    <a:close/>
                    <a:moveTo>
                      <a:pt x="3869" y="130"/>
                    </a:moveTo>
                    <a:cubicBezTo>
                      <a:pt x="3868" y="128"/>
                      <a:pt x="3868" y="127"/>
                      <a:pt x="3867" y="125"/>
                    </a:cubicBezTo>
                    <a:cubicBezTo>
                      <a:pt x="3868" y="123"/>
                      <a:pt x="3868" y="122"/>
                      <a:pt x="3869" y="120"/>
                    </a:cubicBezTo>
                    <a:cubicBezTo>
                      <a:pt x="3869" y="122"/>
                      <a:pt x="3869" y="124"/>
                      <a:pt x="3869" y="127"/>
                    </a:cubicBezTo>
                    <a:cubicBezTo>
                      <a:pt x="3869" y="128"/>
                      <a:pt x="3869" y="129"/>
                      <a:pt x="3869" y="130"/>
                    </a:cubicBezTo>
                    <a:close/>
                    <a:moveTo>
                      <a:pt x="3871" y="105"/>
                    </a:moveTo>
                    <a:cubicBezTo>
                      <a:pt x="3869" y="100"/>
                      <a:pt x="3868" y="95"/>
                      <a:pt x="3866" y="91"/>
                    </a:cubicBezTo>
                    <a:cubicBezTo>
                      <a:pt x="3866" y="89"/>
                      <a:pt x="3866" y="87"/>
                      <a:pt x="3866" y="85"/>
                    </a:cubicBezTo>
                    <a:cubicBezTo>
                      <a:pt x="3869" y="91"/>
                      <a:pt x="3870" y="97"/>
                      <a:pt x="3872" y="103"/>
                    </a:cubicBezTo>
                    <a:cubicBezTo>
                      <a:pt x="3871" y="104"/>
                      <a:pt x="3871" y="105"/>
                      <a:pt x="3871" y="105"/>
                    </a:cubicBezTo>
                    <a:close/>
                    <a:moveTo>
                      <a:pt x="3872" y="111"/>
                    </a:moveTo>
                    <a:cubicBezTo>
                      <a:pt x="3872" y="110"/>
                      <a:pt x="3872" y="110"/>
                      <a:pt x="3872" y="109"/>
                    </a:cubicBezTo>
                    <a:cubicBezTo>
                      <a:pt x="3872" y="109"/>
                      <a:pt x="3872" y="108"/>
                      <a:pt x="3873" y="107"/>
                    </a:cubicBezTo>
                    <a:cubicBezTo>
                      <a:pt x="3873" y="108"/>
                      <a:pt x="3873" y="109"/>
                      <a:pt x="3873" y="109"/>
                    </a:cubicBezTo>
                    <a:cubicBezTo>
                      <a:pt x="3873" y="110"/>
                      <a:pt x="3873" y="110"/>
                      <a:pt x="3872" y="111"/>
                    </a:cubicBezTo>
                    <a:close/>
                    <a:moveTo>
                      <a:pt x="3883" y="94"/>
                    </a:moveTo>
                    <a:cubicBezTo>
                      <a:pt x="3883" y="95"/>
                      <a:pt x="3883" y="95"/>
                      <a:pt x="3884" y="96"/>
                    </a:cubicBezTo>
                    <a:cubicBezTo>
                      <a:pt x="3883" y="97"/>
                      <a:pt x="3883" y="97"/>
                      <a:pt x="3883" y="98"/>
                    </a:cubicBezTo>
                    <a:cubicBezTo>
                      <a:pt x="3883" y="96"/>
                      <a:pt x="3883" y="95"/>
                      <a:pt x="3883" y="94"/>
                    </a:cubicBezTo>
                    <a:close/>
                    <a:moveTo>
                      <a:pt x="3885" y="109"/>
                    </a:moveTo>
                    <a:cubicBezTo>
                      <a:pt x="3884" y="106"/>
                      <a:pt x="3884" y="104"/>
                      <a:pt x="3883" y="102"/>
                    </a:cubicBezTo>
                    <a:cubicBezTo>
                      <a:pt x="3883" y="101"/>
                      <a:pt x="3883" y="99"/>
                      <a:pt x="3883" y="98"/>
                    </a:cubicBezTo>
                    <a:cubicBezTo>
                      <a:pt x="3883" y="98"/>
                      <a:pt x="3884" y="97"/>
                      <a:pt x="3884" y="97"/>
                    </a:cubicBezTo>
                    <a:cubicBezTo>
                      <a:pt x="3884" y="98"/>
                      <a:pt x="3885" y="100"/>
                      <a:pt x="3885" y="102"/>
                    </a:cubicBezTo>
                    <a:cubicBezTo>
                      <a:pt x="3885" y="104"/>
                      <a:pt x="3885" y="107"/>
                      <a:pt x="3885" y="109"/>
                    </a:cubicBezTo>
                    <a:close/>
                    <a:moveTo>
                      <a:pt x="3887" y="84"/>
                    </a:moveTo>
                    <a:cubicBezTo>
                      <a:pt x="3886" y="89"/>
                      <a:pt x="3886" y="94"/>
                      <a:pt x="3886" y="98"/>
                    </a:cubicBezTo>
                    <a:cubicBezTo>
                      <a:pt x="3885" y="97"/>
                      <a:pt x="3885" y="96"/>
                      <a:pt x="3884" y="95"/>
                    </a:cubicBezTo>
                    <a:cubicBezTo>
                      <a:pt x="3885" y="94"/>
                      <a:pt x="3886" y="92"/>
                      <a:pt x="3886" y="91"/>
                    </a:cubicBezTo>
                    <a:cubicBezTo>
                      <a:pt x="3886" y="92"/>
                      <a:pt x="3885" y="94"/>
                      <a:pt x="3884" y="95"/>
                    </a:cubicBezTo>
                    <a:cubicBezTo>
                      <a:pt x="3884" y="94"/>
                      <a:pt x="3883" y="93"/>
                      <a:pt x="3883" y="92"/>
                    </a:cubicBezTo>
                    <a:cubicBezTo>
                      <a:pt x="3883" y="90"/>
                      <a:pt x="3883" y="88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2" y="75"/>
                      <a:pt x="3882" y="65"/>
                      <a:pt x="3882" y="56"/>
                    </a:cubicBezTo>
                    <a:cubicBezTo>
                      <a:pt x="3885" y="58"/>
                      <a:pt x="3887" y="61"/>
                      <a:pt x="3890" y="63"/>
                    </a:cubicBezTo>
                    <a:cubicBezTo>
                      <a:pt x="3889" y="69"/>
                      <a:pt x="3888" y="76"/>
                      <a:pt x="3887" y="84"/>
                    </a:cubicBezTo>
                    <a:cubicBezTo>
                      <a:pt x="3887" y="82"/>
                      <a:pt x="3886" y="81"/>
                      <a:pt x="3886" y="79"/>
                    </a:cubicBezTo>
                    <a:cubicBezTo>
                      <a:pt x="3886" y="81"/>
                      <a:pt x="3887" y="83"/>
                      <a:pt x="3887" y="84"/>
                    </a:cubicBezTo>
                    <a:close/>
                    <a:moveTo>
                      <a:pt x="3888" y="139"/>
                    </a:moveTo>
                    <a:cubicBezTo>
                      <a:pt x="3888" y="134"/>
                      <a:pt x="3888" y="128"/>
                      <a:pt x="3888" y="121"/>
                    </a:cubicBezTo>
                    <a:cubicBezTo>
                      <a:pt x="3888" y="125"/>
                      <a:pt x="3888" y="129"/>
                      <a:pt x="3889" y="133"/>
                    </a:cubicBezTo>
                    <a:cubicBezTo>
                      <a:pt x="3889" y="135"/>
                      <a:pt x="3889" y="137"/>
                      <a:pt x="3888" y="139"/>
                    </a:cubicBezTo>
                    <a:close/>
                    <a:moveTo>
                      <a:pt x="3888" y="104"/>
                    </a:moveTo>
                    <a:cubicBezTo>
                      <a:pt x="3888" y="102"/>
                      <a:pt x="3888" y="99"/>
                      <a:pt x="3889" y="96"/>
                    </a:cubicBezTo>
                    <a:cubicBezTo>
                      <a:pt x="3889" y="100"/>
                      <a:pt x="3889" y="104"/>
                      <a:pt x="3889" y="107"/>
                    </a:cubicBezTo>
                    <a:cubicBezTo>
                      <a:pt x="3889" y="106"/>
                      <a:pt x="3889" y="105"/>
                      <a:pt x="3888" y="104"/>
                    </a:cubicBezTo>
                    <a:close/>
                    <a:moveTo>
                      <a:pt x="3900" y="85"/>
                    </a:moveTo>
                    <a:cubicBezTo>
                      <a:pt x="3899" y="90"/>
                      <a:pt x="3898" y="96"/>
                      <a:pt x="3897" y="103"/>
                    </a:cubicBezTo>
                    <a:cubicBezTo>
                      <a:pt x="3897" y="101"/>
                      <a:pt x="3897" y="100"/>
                      <a:pt x="3896" y="99"/>
                    </a:cubicBezTo>
                    <a:cubicBezTo>
                      <a:pt x="3896" y="96"/>
                      <a:pt x="3895" y="93"/>
                      <a:pt x="3894" y="90"/>
                    </a:cubicBezTo>
                    <a:cubicBezTo>
                      <a:pt x="3895" y="93"/>
                      <a:pt x="3895" y="96"/>
                      <a:pt x="3895" y="99"/>
                    </a:cubicBezTo>
                    <a:cubicBezTo>
                      <a:pt x="3895" y="104"/>
                      <a:pt x="3894" y="112"/>
                      <a:pt x="3894" y="120"/>
                    </a:cubicBezTo>
                    <a:cubicBezTo>
                      <a:pt x="3893" y="110"/>
                      <a:pt x="3891" y="100"/>
                      <a:pt x="3889" y="91"/>
                    </a:cubicBezTo>
                    <a:cubicBezTo>
                      <a:pt x="3890" y="81"/>
                      <a:pt x="3891" y="72"/>
                      <a:pt x="3891" y="65"/>
                    </a:cubicBezTo>
                    <a:cubicBezTo>
                      <a:pt x="3895" y="69"/>
                      <a:pt x="3898" y="74"/>
                      <a:pt x="3900" y="79"/>
                    </a:cubicBezTo>
                    <a:cubicBezTo>
                      <a:pt x="3900" y="81"/>
                      <a:pt x="3900" y="83"/>
                      <a:pt x="3900" y="85"/>
                    </a:cubicBezTo>
                    <a:close/>
                    <a:moveTo>
                      <a:pt x="3900" y="75"/>
                    </a:moveTo>
                    <a:cubicBezTo>
                      <a:pt x="3900" y="75"/>
                      <a:pt x="3900" y="75"/>
                      <a:pt x="3900" y="75"/>
                    </a:cubicBezTo>
                    <a:cubicBezTo>
                      <a:pt x="3900" y="73"/>
                      <a:pt x="3900" y="72"/>
                      <a:pt x="3899" y="70"/>
                    </a:cubicBezTo>
                    <a:cubicBezTo>
                      <a:pt x="3899" y="70"/>
                      <a:pt x="3900" y="72"/>
                      <a:pt x="3900" y="75"/>
                    </a:cubicBezTo>
                    <a:cubicBezTo>
                      <a:pt x="3897" y="71"/>
                      <a:pt x="3895" y="67"/>
                      <a:pt x="3891" y="64"/>
                    </a:cubicBezTo>
                    <a:cubicBezTo>
                      <a:pt x="3892" y="60"/>
                      <a:pt x="3892" y="57"/>
                      <a:pt x="3893" y="54"/>
                    </a:cubicBezTo>
                    <a:cubicBezTo>
                      <a:pt x="3896" y="58"/>
                      <a:pt x="3899" y="62"/>
                      <a:pt x="3901" y="65"/>
                    </a:cubicBezTo>
                    <a:cubicBezTo>
                      <a:pt x="3901" y="68"/>
                      <a:pt x="3900" y="71"/>
                      <a:pt x="3900" y="75"/>
                    </a:cubicBezTo>
                    <a:close/>
                    <a:moveTo>
                      <a:pt x="3904" y="117"/>
                    </a:moveTo>
                    <a:cubicBezTo>
                      <a:pt x="3903" y="119"/>
                      <a:pt x="3902" y="122"/>
                      <a:pt x="3902" y="125"/>
                    </a:cubicBezTo>
                    <a:cubicBezTo>
                      <a:pt x="3902" y="124"/>
                      <a:pt x="3902" y="123"/>
                      <a:pt x="3902" y="122"/>
                    </a:cubicBezTo>
                    <a:cubicBezTo>
                      <a:pt x="3902" y="110"/>
                      <a:pt x="3902" y="98"/>
                      <a:pt x="3903" y="87"/>
                    </a:cubicBezTo>
                    <a:cubicBezTo>
                      <a:pt x="3904" y="92"/>
                      <a:pt x="3905" y="98"/>
                      <a:pt x="3906" y="103"/>
                    </a:cubicBezTo>
                    <a:cubicBezTo>
                      <a:pt x="3905" y="108"/>
                      <a:pt x="3904" y="112"/>
                      <a:pt x="3904" y="117"/>
                    </a:cubicBezTo>
                    <a:close/>
                    <a:moveTo>
                      <a:pt x="3907" y="89"/>
                    </a:moveTo>
                    <a:cubicBezTo>
                      <a:pt x="3906" y="86"/>
                      <a:pt x="3904" y="83"/>
                      <a:pt x="3903" y="80"/>
                    </a:cubicBezTo>
                    <a:cubicBezTo>
                      <a:pt x="3903" y="76"/>
                      <a:pt x="3903" y="72"/>
                      <a:pt x="3903" y="68"/>
                    </a:cubicBezTo>
                    <a:cubicBezTo>
                      <a:pt x="3905" y="71"/>
                      <a:pt x="3907" y="74"/>
                      <a:pt x="3909" y="78"/>
                    </a:cubicBezTo>
                    <a:cubicBezTo>
                      <a:pt x="3908" y="81"/>
                      <a:pt x="3908" y="85"/>
                      <a:pt x="3907" y="89"/>
                    </a:cubicBezTo>
                    <a:close/>
                    <a:moveTo>
                      <a:pt x="3912" y="96"/>
                    </a:moveTo>
                    <a:cubicBezTo>
                      <a:pt x="3912" y="97"/>
                      <a:pt x="3911" y="98"/>
                      <a:pt x="3911" y="99"/>
                    </a:cubicBezTo>
                    <a:cubicBezTo>
                      <a:pt x="3910" y="98"/>
                      <a:pt x="3910" y="97"/>
                      <a:pt x="3910" y="96"/>
                    </a:cubicBezTo>
                    <a:cubicBezTo>
                      <a:pt x="3910" y="91"/>
                      <a:pt x="3910" y="86"/>
                      <a:pt x="3910" y="80"/>
                    </a:cubicBezTo>
                    <a:cubicBezTo>
                      <a:pt x="3911" y="83"/>
                      <a:pt x="3912" y="86"/>
                      <a:pt x="3913" y="88"/>
                    </a:cubicBezTo>
                    <a:cubicBezTo>
                      <a:pt x="3913" y="91"/>
                      <a:pt x="3913" y="93"/>
                      <a:pt x="3912" y="96"/>
                    </a:cubicBezTo>
                    <a:close/>
                    <a:moveTo>
                      <a:pt x="3934" y="105"/>
                    </a:moveTo>
                    <a:cubicBezTo>
                      <a:pt x="3933" y="103"/>
                      <a:pt x="3933" y="102"/>
                      <a:pt x="3932" y="101"/>
                    </a:cubicBezTo>
                    <a:cubicBezTo>
                      <a:pt x="3934" y="96"/>
                      <a:pt x="3935" y="92"/>
                      <a:pt x="3936" y="89"/>
                    </a:cubicBezTo>
                    <a:cubicBezTo>
                      <a:pt x="3936" y="89"/>
                      <a:pt x="3937" y="89"/>
                      <a:pt x="3937" y="90"/>
                    </a:cubicBezTo>
                    <a:cubicBezTo>
                      <a:pt x="3936" y="95"/>
                      <a:pt x="3935" y="100"/>
                      <a:pt x="3934" y="105"/>
                    </a:cubicBezTo>
                    <a:close/>
                    <a:moveTo>
                      <a:pt x="3950" y="81"/>
                    </a:moveTo>
                    <a:cubicBezTo>
                      <a:pt x="3950" y="81"/>
                      <a:pt x="3950" y="81"/>
                      <a:pt x="3951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lose/>
                    <a:moveTo>
                      <a:pt x="3950" y="88"/>
                    </a:move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90"/>
                      <a:pt x="3950" y="91"/>
                      <a:pt x="3949" y="91"/>
                    </a:cubicBezTo>
                    <a:cubicBezTo>
                      <a:pt x="3950" y="90"/>
                      <a:pt x="3950" y="89"/>
                      <a:pt x="3950" y="88"/>
                    </a:cubicBezTo>
                    <a:close/>
                    <a:moveTo>
                      <a:pt x="3941" y="122"/>
                    </a:moveTo>
                    <a:cubicBezTo>
                      <a:pt x="3941" y="122"/>
                      <a:pt x="3941" y="123"/>
                      <a:pt x="3941" y="123"/>
                    </a:cubicBezTo>
                    <a:cubicBezTo>
                      <a:pt x="3941" y="123"/>
                      <a:pt x="3941" y="123"/>
                      <a:pt x="3941" y="123"/>
                    </a:cubicBezTo>
                    <a:cubicBezTo>
                      <a:pt x="3941" y="123"/>
                      <a:pt x="3941" y="122"/>
                      <a:pt x="3941" y="122"/>
                    </a:cubicBezTo>
                    <a:cubicBezTo>
                      <a:pt x="3941" y="120"/>
                      <a:pt x="3942" y="118"/>
                      <a:pt x="3942" y="115"/>
                    </a:cubicBezTo>
                    <a:cubicBezTo>
                      <a:pt x="3942" y="115"/>
                      <a:pt x="3942" y="115"/>
                      <a:pt x="3942" y="115"/>
                    </a:cubicBezTo>
                    <a:cubicBezTo>
                      <a:pt x="3942" y="116"/>
                      <a:pt x="3942" y="117"/>
                      <a:pt x="3942" y="118"/>
                    </a:cubicBezTo>
                    <a:cubicBezTo>
                      <a:pt x="3942" y="119"/>
                      <a:pt x="3941" y="121"/>
                      <a:pt x="3941" y="122"/>
                    </a:cubicBezTo>
                    <a:close/>
                    <a:moveTo>
                      <a:pt x="3943" y="70"/>
                    </a:moveTo>
                    <a:cubicBezTo>
                      <a:pt x="3946" y="73"/>
                      <a:pt x="3948" y="76"/>
                      <a:pt x="3949" y="79"/>
                    </a:cubicBezTo>
                    <a:cubicBezTo>
                      <a:pt x="3949" y="81"/>
                      <a:pt x="3949" y="82"/>
                      <a:pt x="3948" y="84"/>
                    </a:cubicBezTo>
                    <a:cubicBezTo>
                      <a:pt x="3948" y="84"/>
                      <a:pt x="3948" y="84"/>
                      <a:pt x="3948" y="84"/>
                    </a:cubicBezTo>
                    <a:cubicBezTo>
                      <a:pt x="3948" y="82"/>
                      <a:pt x="3947" y="81"/>
                      <a:pt x="3946" y="79"/>
                    </a:cubicBezTo>
                    <a:cubicBezTo>
                      <a:pt x="3947" y="81"/>
                      <a:pt x="3947" y="83"/>
                      <a:pt x="3948" y="84"/>
                    </a:cubicBezTo>
                    <a:cubicBezTo>
                      <a:pt x="3946" y="87"/>
                      <a:pt x="3945" y="90"/>
                      <a:pt x="3943" y="93"/>
                    </a:cubicBezTo>
                    <a:cubicBezTo>
                      <a:pt x="3944" y="85"/>
                      <a:pt x="3944" y="77"/>
                      <a:pt x="3943" y="70"/>
                    </a:cubicBezTo>
                    <a:close/>
                    <a:moveTo>
                      <a:pt x="3946" y="98"/>
                    </a:moveTo>
                    <a:cubicBezTo>
                      <a:pt x="3946" y="98"/>
                      <a:pt x="3946" y="97"/>
                      <a:pt x="3945" y="96"/>
                    </a:cubicBezTo>
                    <a:cubicBezTo>
                      <a:pt x="3946" y="97"/>
                      <a:pt x="3946" y="98"/>
                      <a:pt x="3946" y="98"/>
                    </a:cubicBezTo>
                    <a:cubicBezTo>
                      <a:pt x="3946" y="99"/>
                      <a:pt x="3946" y="100"/>
                      <a:pt x="3945" y="100"/>
                    </a:cubicBezTo>
                    <a:cubicBezTo>
                      <a:pt x="3945" y="99"/>
                      <a:pt x="3945" y="98"/>
                      <a:pt x="3944" y="97"/>
                    </a:cubicBezTo>
                    <a:cubicBezTo>
                      <a:pt x="3945" y="95"/>
                      <a:pt x="3946" y="93"/>
                      <a:pt x="3947" y="90"/>
                    </a:cubicBezTo>
                    <a:cubicBezTo>
                      <a:pt x="3947" y="93"/>
                      <a:pt x="3946" y="96"/>
                      <a:pt x="3946" y="98"/>
                    </a:cubicBezTo>
                    <a:close/>
                    <a:moveTo>
                      <a:pt x="3953" y="100"/>
                    </a:moveTo>
                    <a:cubicBezTo>
                      <a:pt x="3951" y="104"/>
                      <a:pt x="3950" y="107"/>
                      <a:pt x="3948" y="110"/>
                    </a:cubicBezTo>
                    <a:cubicBezTo>
                      <a:pt x="3948" y="110"/>
                      <a:pt x="3948" y="109"/>
                      <a:pt x="3948" y="109"/>
                    </a:cubicBezTo>
                    <a:cubicBezTo>
                      <a:pt x="3948" y="106"/>
                      <a:pt x="3949" y="102"/>
                      <a:pt x="3949" y="99"/>
                    </a:cubicBezTo>
                    <a:cubicBezTo>
                      <a:pt x="3950" y="95"/>
                      <a:pt x="3950" y="92"/>
                      <a:pt x="3950" y="90"/>
                    </a:cubicBezTo>
                    <a:cubicBezTo>
                      <a:pt x="3951" y="93"/>
                      <a:pt x="3952" y="96"/>
                      <a:pt x="3953" y="100"/>
                    </a:cubicBezTo>
                    <a:cubicBezTo>
                      <a:pt x="3953" y="100"/>
                      <a:pt x="3953" y="100"/>
                      <a:pt x="3953" y="100"/>
                    </a:cubicBezTo>
                    <a:close/>
                    <a:moveTo>
                      <a:pt x="3953" y="97"/>
                    </a:moveTo>
                    <a:cubicBezTo>
                      <a:pt x="3952" y="95"/>
                      <a:pt x="3951" y="92"/>
                      <a:pt x="3950" y="89"/>
                    </a:cubicBezTo>
                    <a:cubicBezTo>
                      <a:pt x="3950" y="89"/>
                      <a:pt x="3950" y="89"/>
                      <a:pt x="3950" y="88"/>
                    </a:cubicBez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89"/>
                      <a:pt x="3950" y="88"/>
                      <a:pt x="3950" y="88"/>
                    </a:cubicBezTo>
                    <a:cubicBezTo>
                      <a:pt x="3950" y="87"/>
                      <a:pt x="3950" y="86"/>
                      <a:pt x="3950" y="85"/>
                    </a:cubicBezTo>
                    <a:cubicBezTo>
                      <a:pt x="3950" y="84"/>
                      <a:pt x="3951" y="83"/>
                      <a:pt x="3951" y="82"/>
                    </a:cubicBezTo>
                    <a:cubicBezTo>
                      <a:pt x="3952" y="84"/>
                      <a:pt x="3953" y="86"/>
                      <a:pt x="3954" y="88"/>
                    </a:cubicBezTo>
                    <a:cubicBezTo>
                      <a:pt x="3954" y="91"/>
                      <a:pt x="3954" y="94"/>
                      <a:pt x="3953" y="97"/>
                    </a:cubicBezTo>
                    <a:close/>
                    <a:moveTo>
                      <a:pt x="3955" y="135"/>
                    </a:moveTo>
                    <a:cubicBezTo>
                      <a:pt x="3955" y="136"/>
                      <a:pt x="3955" y="137"/>
                      <a:pt x="3955" y="138"/>
                    </a:cubicBezTo>
                    <a:cubicBezTo>
                      <a:pt x="3955" y="137"/>
                      <a:pt x="3955" y="136"/>
                      <a:pt x="3955" y="135"/>
                    </a:cubicBezTo>
                    <a:cubicBezTo>
                      <a:pt x="3955" y="135"/>
                      <a:pt x="3955" y="135"/>
                      <a:pt x="3955" y="135"/>
                    </a:cubicBezTo>
                    <a:close/>
                    <a:moveTo>
                      <a:pt x="3955" y="83"/>
                    </a:moveTo>
                    <a:cubicBezTo>
                      <a:pt x="3954" y="82"/>
                      <a:pt x="3953" y="81"/>
                      <a:pt x="3953" y="80"/>
                    </a:cubicBezTo>
                    <a:cubicBezTo>
                      <a:pt x="3954" y="78"/>
                      <a:pt x="3955" y="77"/>
                      <a:pt x="3956" y="75"/>
                    </a:cubicBezTo>
                    <a:cubicBezTo>
                      <a:pt x="3955" y="78"/>
                      <a:pt x="3955" y="81"/>
                      <a:pt x="3955" y="83"/>
                    </a:cubicBezTo>
                    <a:close/>
                    <a:moveTo>
                      <a:pt x="3956" y="74"/>
                    </a:moveTo>
                    <a:cubicBezTo>
                      <a:pt x="3954" y="76"/>
                      <a:pt x="3953" y="77"/>
                      <a:pt x="3952" y="79"/>
                    </a:cubicBezTo>
                    <a:cubicBezTo>
                      <a:pt x="3951" y="78"/>
                      <a:pt x="3951" y="78"/>
                      <a:pt x="3951" y="77"/>
                    </a:cubicBezTo>
                    <a:cubicBezTo>
                      <a:pt x="3951" y="72"/>
                      <a:pt x="3951" y="67"/>
                      <a:pt x="3952" y="65"/>
                    </a:cubicBezTo>
                    <a:cubicBezTo>
                      <a:pt x="3953" y="67"/>
                      <a:pt x="3954" y="70"/>
                      <a:pt x="3956" y="72"/>
                    </a:cubicBezTo>
                    <a:cubicBezTo>
                      <a:pt x="3956" y="73"/>
                      <a:pt x="3956" y="73"/>
                      <a:pt x="3956" y="74"/>
                    </a:cubicBezTo>
                    <a:close/>
                    <a:moveTo>
                      <a:pt x="3958" y="75"/>
                    </a:moveTo>
                    <a:cubicBezTo>
                      <a:pt x="3959" y="78"/>
                      <a:pt x="3961" y="81"/>
                      <a:pt x="3963" y="84"/>
                    </a:cubicBezTo>
                    <a:cubicBezTo>
                      <a:pt x="3961" y="86"/>
                      <a:pt x="3960" y="88"/>
                      <a:pt x="3959" y="90"/>
                    </a:cubicBezTo>
                    <a:cubicBezTo>
                      <a:pt x="3959" y="89"/>
                      <a:pt x="3958" y="89"/>
                      <a:pt x="3958" y="89"/>
                    </a:cubicBezTo>
                    <a:cubicBezTo>
                      <a:pt x="3958" y="84"/>
                      <a:pt x="3958" y="79"/>
                      <a:pt x="3958" y="75"/>
                    </a:cubicBezTo>
                    <a:close/>
                    <a:moveTo>
                      <a:pt x="3960" y="110"/>
                    </a:moveTo>
                    <a:cubicBezTo>
                      <a:pt x="3960" y="107"/>
                      <a:pt x="3959" y="104"/>
                      <a:pt x="3958" y="101"/>
                    </a:cubicBezTo>
                    <a:cubicBezTo>
                      <a:pt x="3958" y="100"/>
                      <a:pt x="3958" y="100"/>
                      <a:pt x="3958" y="100"/>
                    </a:cubicBezTo>
                    <a:cubicBezTo>
                      <a:pt x="3958" y="100"/>
                      <a:pt x="3959" y="99"/>
                      <a:pt x="3959" y="99"/>
                    </a:cubicBezTo>
                    <a:cubicBezTo>
                      <a:pt x="3960" y="101"/>
                      <a:pt x="3960" y="104"/>
                      <a:pt x="3961" y="106"/>
                    </a:cubicBezTo>
                    <a:cubicBezTo>
                      <a:pt x="3961" y="108"/>
                      <a:pt x="3961" y="109"/>
                      <a:pt x="3960" y="110"/>
                    </a:cubicBezTo>
                    <a:close/>
                    <a:moveTo>
                      <a:pt x="3961" y="93"/>
                    </a:moveTo>
                    <a:cubicBezTo>
                      <a:pt x="3962" y="91"/>
                      <a:pt x="3963" y="88"/>
                      <a:pt x="3964" y="86"/>
                    </a:cubicBezTo>
                    <a:cubicBezTo>
                      <a:pt x="3964" y="87"/>
                      <a:pt x="3965" y="87"/>
                      <a:pt x="3965" y="88"/>
                    </a:cubicBezTo>
                    <a:cubicBezTo>
                      <a:pt x="3964" y="91"/>
                      <a:pt x="3964" y="94"/>
                      <a:pt x="3963" y="97"/>
                    </a:cubicBezTo>
                    <a:cubicBezTo>
                      <a:pt x="3962" y="96"/>
                      <a:pt x="3961" y="95"/>
                      <a:pt x="3961" y="93"/>
                    </a:cubicBezTo>
                    <a:close/>
                    <a:moveTo>
                      <a:pt x="3964" y="130"/>
                    </a:moveTo>
                    <a:cubicBezTo>
                      <a:pt x="3964" y="129"/>
                      <a:pt x="3964" y="128"/>
                      <a:pt x="3964" y="126"/>
                    </a:cubicBezTo>
                    <a:cubicBezTo>
                      <a:pt x="3964" y="124"/>
                      <a:pt x="3964" y="121"/>
                      <a:pt x="3965" y="119"/>
                    </a:cubicBezTo>
                    <a:cubicBezTo>
                      <a:pt x="3965" y="120"/>
                      <a:pt x="3966" y="122"/>
                      <a:pt x="3966" y="124"/>
                    </a:cubicBezTo>
                    <a:cubicBezTo>
                      <a:pt x="3965" y="126"/>
                      <a:pt x="3965" y="128"/>
                      <a:pt x="3964" y="130"/>
                    </a:cubicBezTo>
                    <a:close/>
                    <a:moveTo>
                      <a:pt x="3968" y="108"/>
                    </a:moveTo>
                    <a:cubicBezTo>
                      <a:pt x="3968" y="107"/>
                      <a:pt x="3967" y="106"/>
                      <a:pt x="3967" y="105"/>
                    </a:cubicBezTo>
                    <a:cubicBezTo>
                      <a:pt x="3967" y="102"/>
                      <a:pt x="3968" y="99"/>
                      <a:pt x="3969" y="96"/>
                    </a:cubicBezTo>
                    <a:cubicBezTo>
                      <a:pt x="3969" y="96"/>
                      <a:pt x="3969" y="97"/>
                      <a:pt x="3969" y="97"/>
                    </a:cubicBezTo>
                    <a:cubicBezTo>
                      <a:pt x="3969" y="101"/>
                      <a:pt x="3968" y="105"/>
                      <a:pt x="3968" y="108"/>
                    </a:cubicBezTo>
                    <a:close/>
                    <a:moveTo>
                      <a:pt x="3970" y="86"/>
                    </a:moveTo>
                    <a:cubicBezTo>
                      <a:pt x="3970" y="86"/>
                      <a:pt x="3970" y="86"/>
                      <a:pt x="3970" y="86"/>
                    </a:cubicBezTo>
                    <a:cubicBezTo>
                      <a:pt x="3970" y="85"/>
                      <a:pt x="3971" y="84"/>
                      <a:pt x="3971" y="83"/>
                    </a:cubicBezTo>
                    <a:cubicBezTo>
                      <a:pt x="3971" y="84"/>
                      <a:pt x="3970" y="85"/>
                      <a:pt x="3970" y="86"/>
                    </a:cubicBezTo>
                    <a:close/>
                    <a:moveTo>
                      <a:pt x="3978" y="80"/>
                    </a:moveTo>
                    <a:cubicBezTo>
                      <a:pt x="3978" y="77"/>
                      <a:pt x="3978" y="75"/>
                      <a:pt x="3978" y="73"/>
                    </a:cubicBezTo>
                    <a:cubicBezTo>
                      <a:pt x="3979" y="73"/>
                      <a:pt x="3979" y="74"/>
                      <a:pt x="3979" y="74"/>
                    </a:cubicBezTo>
                    <a:cubicBezTo>
                      <a:pt x="3979" y="76"/>
                      <a:pt x="3979" y="78"/>
                      <a:pt x="3978" y="80"/>
                    </a:cubicBezTo>
                    <a:close/>
                    <a:moveTo>
                      <a:pt x="3990" y="93"/>
                    </a:moveTo>
                    <a:cubicBezTo>
                      <a:pt x="3989" y="95"/>
                      <a:pt x="3989" y="96"/>
                      <a:pt x="3988" y="97"/>
                    </a:cubicBezTo>
                    <a:cubicBezTo>
                      <a:pt x="3988" y="94"/>
                      <a:pt x="3988" y="91"/>
                      <a:pt x="3987" y="88"/>
                    </a:cubicBezTo>
                    <a:cubicBezTo>
                      <a:pt x="3988" y="89"/>
                      <a:pt x="3989" y="91"/>
                      <a:pt x="3990" y="93"/>
                    </a:cubicBezTo>
                    <a:close/>
                    <a:moveTo>
                      <a:pt x="3991" y="88"/>
                    </a:moveTo>
                    <a:cubicBezTo>
                      <a:pt x="3990" y="86"/>
                      <a:pt x="3989" y="85"/>
                      <a:pt x="3988" y="84"/>
                    </a:cubicBezTo>
                    <a:cubicBezTo>
                      <a:pt x="3989" y="81"/>
                      <a:pt x="3991" y="78"/>
                      <a:pt x="3993" y="75"/>
                    </a:cubicBezTo>
                    <a:cubicBezTo>
                      <a:pt x="3992" y="79"/>
                      <a:pt x="3991" y="84"/>
                      <a:pt x="3991" y="88"/>
                    </a:cubicBezTo>
                    <a:close/>
                    <a:moveTo>
                      <a:pt x="4000" y="77"/>
                    </a:moveTo>
                    <a:cubicBezTo>
                      <a:pt x="4000" y="77"/>
                      <a:pt x="4000" y="77"/>
                      <a:pt x="4000" y="77"/>
                    </a:cubicBezTo>
                    <a:cubicBezTo>
                      <a:pt x="4000" y="74"/>
                      <a:pt x="3999" y="70"/>
                      <a:pt x="3999" y="66"/>
                    </a:cubicBezTo>
                    <a:cubicBezTo>
                      <a:pt x="3999" y="65"/>
                      <a:pt x="4000" y="64"/>
                      <a:pt x="4000" y="63"/>
                    </a:cubicBezTo>
                    <a:cubicBezTo>
                      <a:pt x="4001" y="67"/>
                      <a:pt x="4001" y="72"/>
                      <a:pt x="4000" y="77"/>
                    </a:cubicBezTo>
                    <a:close/>
                    <a:moveTo>
                      <a:pt x="4003" y="72"/>
                    </a:moveTo>
                    <a:cubicBezTo>
                      <a:pt x="4003" y="67"/>
                      <a:pt x="4002" y="64"/>
                      <a:pt x="4001" y="61"/>
                    </a:cubicBezTo>
                    <a:cubicBezTo>
                      <a:pt x="4002" y="60"/>
                      <a:pt x="4003" y="58"/>
                      <a:pt x="4004" y="57"/>
                    </a:cubicBezTo>
                    <a:cubicBezTo>
                      <a:pt x="4004" y="62"/>
                      <a:pt x="4004" y="67"/>
                      <a:pt x="4003" y="72"/>
                    </a:cubicBezTo>
                    <a:close/>
                    <a:moveTo>
                      <a:pt x="4019" y="89"/>
                    </a:moveTo>
                    <a:cubicBezTo>
                      <a:pt x="4020" y="91"/>
                      <a:pt x="4021" y="92"/>
                      <a:pt x="4021" y="94"/>
                    </a:cubicBezTo>
                    <a:cubicBezTo>
                      <a:pt x="4021" y="95"/>
                      <a:pt x="4020" y="97"/>
                      <a:pt x="4020" y="98"/>
                    </a:cubicBezTo>
                    <a:cubicBezTo>
                      <a:pt x="4019" y="97"/>
                      <a:pt x="4019" y="96"/>
                      <a:pt x="4018" y="95"/>
                    </a:cubicBezTo>
                    <a:cubicBezTo>
                      <a:pt x="4018" y="93"/>
                      <a:pt x="4019" y="91"/>
                      <a:pt x="4019" y="89"/>
                    </a:cubicBezTo>
                    <a:close/>
                    <a:moveTo>
                      <a:pt x="4018" y="101"/>
                    </a:moveTo>
                    <a:cubicBezTo>
                      <a:pt x="4018" y="101"/>
                      <a:pt x="4018" y="100"/>
                      <a:pt x="4018" y="100"/>
                    </a:cubicBezTo>
                    <a:cubicBezTo>
                      <a:pt x="4018" y="100"/>
                      <a:pt x="4018" y="101"/>
                      <a:pt x="4018" y="101"/>
                    </a:cubicBezTo>
                    <a:cubicBezTo>
                      <a:pt x="4018" y="101"/>
                      <a:pt x="4018" y="101"/>
                      <a:pt x="4018" y="101"/>
                    </a:cubicBezTo>
                    <a:close/>
                    <a:moveTo>
                      <a:pt x="4020" y="122"/>
                    </a:moveTo>
                    <a:cubicBezTo>
                      <a:pt x="4020" y="121"/>
                      <a:pt x="4019" y="120"/>
                      <a:pt x="4019" y="119"/>
                    </a:cubicBezTo>
                    <a:cubicBezTo>
                      <a:pt x="4019" y="117"/>
                      <a:pt x="4019" y="115"/>
                      <a:pt x="4019" y="112"/>
                    </a:cubicBezTo>
                    <a:cubicBezTo>
                      <a:pt x="4019" y="110"/>
                      <a:pt x="4019" y="108"/>
                      <a:pt x="4020" y="106"/>
                    </a:cubicBezTo>
                    <a:cubicBezTo>
                      <a:pt x="4020" y="108"/>
                      <a:pt x="4021" y="110"/>
                      <a:pt x="4021" y="112"/>
                    </a:cubicBezTo>
                    <a:cubicBezTo>
                      <a:pt x="4021" y="115"/>
                      <a:pt x="4021" y="119"/>
                      <a:pt x="4020" y="122"/>
                    </a:cubicBezTo>
                    <a:close/>
                    <a:moveTo>
                      <a:pt x="4022" y="103"/>
                    </a:moveTo>
                    <a:cubicBezTo>
                      <a:pt x="4022" y="102"/>
                      <a:pt x="4021" y="101"/>
                      <a:pt x="4021" y="100"/>
                    </a:cubicBezTo>
                    <a:cubicBezTo>
                      <a:pt x="4021" y="99"/>
                      <a:pt x="4022" y="97"/>
                      <a:pt x="4022" y="96"/>
                    </a:cubicBezTo>
                    <a:cubicBezTo>
                      <a:pt x="4022" y="97"/>
                      <a:pt x="4023" y="97"/>
                      <a:pt x="4023" y="98"/>
                    </a:cubicBezTo>
                    <a:cubicBezTo>
                      <a:pt x="4023" y="100"/>
                      <a:pt x="4022" y="101"/>
                      <a:pt x="4022" y="103"/>
                    </a:cubicBezTo>
                    <a:close/>
                    <a:moveTo>
                      <a:pt x="4023" y="96"/>
                    </a:moveTo>
                    <a:cubicBezTo>
                      <a:pt x="4023" y="95"/>
                      <a:pt x="4023" y="95"/>
                      <a:pt x="4022" y="95"/>
                    </a:cubicBezTo>
                    <a:cubicBezTo>
                      <a:pt x="4023" y="93"/>
                      <a:pt x="4023" y="92"/>
                      <a:pt x="4024" y="91"/>
                    </a:cubicBezTo>
                    <a:cubicBezTo>
                      <a:pt x="4023" y="93"/>
                      <a:pt x="4023" y="94"/>
                      <a:pt x="4023" y="96"/>
                    </a:cubicBezTo>
                    <a:close/>
                    <a:moveTo>
                      <a:pt x="4029" y="95"/>
                    </a:moveTo>
                    <a:cubicBezTo>
                      <a:pt x="4029" y="92"/>
                      <a:pt x="4030" y="89"/>
                      <a:pt x="4030" y="86"/>
                    </a:cubicBezTo>
                    <a:cubicBezTo>
                      <a:pt x="4030" y="86"/>
                      <a:pt x="4031" y="87"/>
                      <a:pt x="4031" y="88"/>
                    </a:cubicBezTo>
                    <a:cubicBezTo>
                      <a:pt x="4031" y="90"/>
                      <a:pt x="4030" y="92"/>
                      <a:pt x="4029" y="95"/>
                    </a:cubicBezTo>
                    <a:close/>
                    <a:moveTo>
                      <a:pt x="4040" y="99"/>
                    </a:moveTo>
                    <a:cubicBezTo>
                      <a:pt x="4040" y="99"/>
                      <a:pt x="4039" y="98"/>
                      <a:pt x="4039" y="97"/>
                    </a:cubicBezTo>
                    <a:cubicBezTo>
                      <a:pt x="4039" y="93"/>
                      <a:pt x="4039" y="89"/>
                      <a:pt x="4039" y="84"/>
                    </a:cubicBezTo>
                    <a:cubicBezTo>
                      <a:pt x="4040" y="80"/>
                      <a:pt x="4043" y="76"/>
                      <a:pt x="4045" y="72"/>
                    </a:cubicBezTo>
                    <a:cubicBezTo>
                      <a:pt x="4046" y="74"/>
                      <a:pt x="4046" y="78"/>
                      <a:pt x="4047" y="82"/>
                    </a:cubicBezTo>
                    <a:cubicBezTo>
                      <a:pt x="4044" y="88"/>
                      <a:pt x="4042" y="93"/>
                      <a:pt x="4040" y="99"/>
                    </a:cubicBezTo>
                    <a:close/>
                    <a:moveTo>
                      <a:pt x="4048" y="75"/>
                    </a:moveTo>
                    <a:cubicBezTo>
                      <a:pt x="4048" y="73"/>
                      <a:pt x="4047" y="71"/>
                      <a:pt x="4047" y="69"/>
                    </a:cubicBezTo>
                    <a:cubicBezTo>
                      <a:pt x="4048" y="68"/>
                      <a:pt x="4048" y="67"/>
                      <a:pt x="4049" y="66"/>
                    </a:cubicBezTo>
                    <a:cubicBezTo>
                      <a:pt x="4049" y="69"/>
                      <a:pt x="4048" y="72"/>
                      <a:pt x="4048" y="75"/>
                    </a:cubicBezTo>
                    <a:close/>
                    <a:moveTo>
                      <a:pt x="4056" y="72"/>
                    </a:moveTo>
                    <a:cubicBezTo>
                      <a:pt x="4056" y="71"/>
                      <a:pt x="4056" y="70"/>
                      <a:pt x="4056" y="70"/>
                    </a:cubicBezTo>
                    <a:cubicBezTo>
                      <a:pt x="4056" y="69"/>
                      <a:pt x="4056" y="69"/>
                      <a:pt x="4056" y="69"/>
                    </a:cubicBezTo>
                    <a:cubicBezTo>
                      <a:pt x="4056" y="71"/>
                      <a:pt x="4056" y="72"/>
                      <a:pt x="4056" y="72"/>
                    </a:cubicBezTo>
                    <a:close/>
                    <a:moveTo>
                      <a:pt x="4056" y="67"/>
                    </a:moveTo>
                    <a:cubicBezTo>
                      <a:pt x="4056" y="67"/>
                      <a:pt x="4056" y="68"/>
                      <a:pt x="4056" y="68"/>
                    </a:cubicBezTo>
                    <a:cubicBezTo>
                      <a:pt x="4056" y="65"/>
                      <a:pt x="4055" y="61"/>
                      <a:pt x="4055" y="58"/>
                    </a:cubicBezTo>
                    <a:cubicBezTo>
                      <a:pt x="4055" y="57"/>
                      <a:pt x="4056" y="56"/>
                      <a:pt x="4057" y="56"/>
                    </a:cubicBezTo>
                    <a:cubicBezTo>
                      <a:pt x="4056" y="60"/>
                      <a:pt x="4056" y="64"/>
                      <a:pt x="4056" y="67"/>
                    </a:cubicBezTo>
                    <a:close/>
                    <a:moveTo>
                      <a:pt x="4064" y="123"/>
                    </a:moveTo>
                    <a:cubicBezTo>
                      <a:pt x="4063" y="124"/>
                      <a:pt x="4062" y="126"/>
                      <a:pt x="4062" y="127"/>
                    </a:cubicBezTo>
                    <a:cubicBezTo>
                      <a:pt x="4062" y="124"/>
                      <a:pt x="4062" y="122"/>
                      <a:pt x="4061" y="119"/>
                    </a:cubicBezTo>
                    <a:cubicBezTo>
                      <a:pt x="4063" y="116"/>
                      <a:pt x="4064" y="112"/>
                      <a:pt x="4065" y="109"/>
                    </a:cubicBezTo>
                    <a:cubicBezTo>
                      <a:pt x="4065" y="111"/>
                      <a:pt x="4065" y="112"/>
                      <a:pt x="4065" y="114"/>
                    </a:cubicBezTo>
                    <a:cubicBezTo>
                      <a:pt x="4065" y="117"/>
                      <a:pt x="4064" y="120"/>
                      <a:pt x="4064" y="123"/>
                    </a:cubicBezTo>
                    <a:close/>
                    <a:moveTo>
                      <a:pt x="4066" y="110"/>
                    </a:moveTo>
                    <a:cubicBezTo>
                      <a:pt x="4066" y="111"/>
                      <a:pt x="4066" y="112"/>
                      <a:pt x="4065" y="112"/>
                    </a:cubicBezTo>
                    <a:cubicBezTo>
                      <a:pt x="4065" y="111"/>
                      <a:pt x="4065" y="110"/>
                      <a:pt x="4065" y="109"/>
                    </a:cubicBezTo>
                    <a:cubicBezTo>
                      <a:pt x="4065" y="107"/>
                      <a:pt x="4066" y="105"/>
                      <a:pt x="4066" y="102"/>
                    </a:cubicBezTo>
                    <a:cubicBezTo>
                      <a:pt x="4066" y="105"/>
                      <a:pt x="4066" y="108"/>
                      <a:pt x="4066" y="110"/>
                    </a:cubicBezTo>
                    <a:close/>
                    <a:moveTo>
                      <a:pt x="4068" y="83"/>
                    </a:moveTo>
                    <a:cubicBezTo>
                      <a:pt x="4068" y="83"/>
                      <a:pt x="4068" y="84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6" y="87"/>
                      <a:pt x="4065" y="89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2"/>
                      <a:pt x="4063" y="94"/>
                      <a:pt x="4062" y="96"/>
                    </a:cubicBezTo>
                    <a:cubicBezTo>
                      <a:pt x="4062" y="90"/>
                      <a:pt x="4063" y="85"/>
                      <a:pt x="4065" y="79"/>
                    </a:cubicBezTo>
                    <a:cubicBezTo>
                      <a:pt x="4063" y="85"/>
                      <a:pt x="4062" y="90"/>
                      <a:pt x="4060" y="95"/>
                    </a:cubicBezTo>
                    <a:cubicBezTo>
                      <a:pt x="4060" y="85"/>
                      <a:pt x="4061" y="74"/>
                      <a:pt x="4061" y="63"/>
                    </a:cubicBezTo>
                    <a:cubicBezTo>
                      <a:pt x="4064" y="60"/>
                      <a:pt x="4067" y="58"/>
                      <a:pt x="4070" y="55"/>
                    </a:cubicBezTo>
                    <a:cubicBezTo>
                      <a:pt x="4070" y="62"/>
                      <a:pt x="4069" y="72"/>
                      <a:pt x="4068" y="83"/>
                    </a:cubicBezTo>
                    <a:close/>
                    <a:moveTo>
                      <a:pt x="4074" y="105"/>
                    </a:moveTo>
                    <a:cubicBezTo>
                      <a:pt x="4074" y="102"/>
                      <a:pt x="4074" y="99"/>
                      <a:pt x="4074" y="96"/>
                    </a:cubicBezTo>
                    <a:cubicBezTo>
                      <a:pt x="4074" y="97"/>
                      <a:pt x="4075" y="99"/>
                      <a:pt x="4075" y="100"/>
                    </a:cubicBezTo>
                    <a:cubicBezTo>
                      <a:pt x="4075" y="102"/>
                      <a:pt x="4075" y="103"/>
                      <a:pt x="4074" y="105"/>
                    </a:cubicBezTo>
                    <a:cubicBezTo>
                      <a:pt x="4074" y="105"/>
                      <a:pt x="4074" y="105"/>
                      <a:pt x="4074" y="105"/>
                    </a:cubicBezTo>
                    <a:close/>
                    <a:moveTo>
                      <a:pt x="4075" y="130"/>
                    </a:moveTo>
                    <a:cubicBezTo>
                      <a:pt x="4075" y="130"/>
                      <a:pt x="4075" y="130"/>
                      <a:pt x="4075" y="130"/>
                    </a:cubicBezTo>
                    <a:cubicBezTo>
                      <a:pt x="4075" y="129"/>
                      <a:pt x="4075" y="128"/>
                      <a:pt x="4075" y="127"/>
                    </a:cubicBezTo>
                    <a:cubicBezTo>
                      <a:pt x="4075" y="128"/>
                      <a:pt x="4075" y="128"/>
                      <a:pt x="4076" y="129"/>
                    </a:cubicBezTo>
                    <a:cubicBezTo>
                      <a:pt x="4075" y="129"/>
                      <a:pt x="4075" y="130"/>
                      <a:pt x="4075" y="130"/>
                    </a:cubicBezTo>
                    <a:close/>
                    <a:moveTo>
                      <a:pt x="4082" y="74"/>
                    </a:moveTo>
                    <a:cubicBezTo>
                      <a:pt x="4082" y="73"/>
                      <a:pt x="4082" y="71"/>
                      <a:pt x="4082" y="70"/>
                    </a:cubicBezTo>
                    <a:cubicBezTo>
                      <a:pt x="4082" y="70"/>
                      <a:pt x="4083" y="71"/>
                      <a:pt x="4083" y="72"/>
                    </a:cubicBezTo>
                    <a:cubicBezTo>
                      <a:pt x="4083" y="72"/>
                      <a:pt x="4083" y="73"/>
                      <a:pt x="4082" y="74"/>
                    </a:cubicBezTo>
                    <a:close/>
                    <a:moveTo>
                      <a:pt x="4086" y="139"/>
                    </a:moveTo>
                    <a:cubicBezTo>
                      <a:pt x="4086" y="140"/>
                      <a:pt x="4086" y="141"/>
                      <a:pt x="4086" y="142"/>
                    </a:cubicBezTo>
                    <a:cubicBezTo>
                      <a:pt x="4086" y="142"/>
                      <a:pt x="4086" y="141"/>
                      <a:pt x="4086" y="139"/>
                    </a:cubicBezTo>
                    <a:cubicBezTo>
                      <a:pt x="4086" y="138"/>
                      <a:pt x="4086" y="137"/>
                      <a:pt x="4086" y="136"/>
                    </a:cubicBezTo>
                    <a:cubicBezTo>
                      <a:pt x="4086" y="137"/>
                      <a:pt x="4086" y="137"/>
                      <a:pt x="4086" y="137"/>
                    </a:cubicBezTo>
                    <a:cubicBezTo>
                      <a:pt x="4086" y="138"/>
                      <a:pt x="4086" y="139"/>
                      <a:pt x="4086" y="139"/>
                    </a:cubicBezTo>
                    <a:close/>
                    <a:moveTo>
                      <a:pt x="4088" y="122"/>
                    </a:moveTo>
                    <a:cubicBezTo>
                      <a:pt x="4088" y="122"/>
                      <a:pt x="4088" y="122"/>
                      <a:pt x="4087" y="122"/>
                    </a:cubicBezTo>
                    <a:cubicBezTo>
                      <a:pt x="4088" y="121"/>
                      <a:pt x="4088" y="121"/>
                      <a:pt x="4088" y="121"/>
                    </a:cubicBezTo>
                    <a:cubicBezTo>
                      <a:pt x="4088" y="121"/>
                      <a:pt x="4088" y="122"/>
                      <a:pt x="4088" y="122"/>
                    </a:cubicBezTo>
                    <a:close/>
                    <a:moveTo>
                      <a:pt x="4089" y="110"/>
                    </a:moveTo>
                    <a:cubicBezTo>
                      <a:pt x="4088" y="112"/>
                      <a:pt x="4087" y="114"/>
                      <a:pt x="4086" y="116"/>
                    </a:cubicBezTo>
                    <a:cubicBezTo>
                      <a:pt x="4086" y="116"/>
                      <a:pt x="4086" y="117"/>
                      <a:pt x="4086" y="117"/>
                    </a:cubicBezTo>
                    <a:cubicBezTo>
                      <a:pt x="4086" y="113"/>
                      <a:pt x="4085" y="108"/>
                      <a:pt x="4085" y="104"/>
                    </a:cubicBezTo>
                    <a:cubicBezTo>
                      <a:pt x="4086" y="101"/>
                      <a:pt x="4086" y="98"/>
                      <a:pt x="4087" y="96"/>
                    </a:cubicBezTo>
                    <a:cubicBezTo>
                      <a:pt x="4088" y="95"/>
                      <a:pt x="4088" y="95"/>
                      <a:pt x="4088" y="95"/>
                    </a:cubicBezTo>
                    <a:cubicBezTo>
                      <a:pt x="4088" y="98"/>
                      <a:pt x="4089" y="101"/>
                      <a:pt x="4089" y="104"/>
                    </a:cubicBezTo>
                    <a:cubicBezTo>
                      <a:pt x="4089" y="106"/>
                      <a:pt x="4089" y="108"/>
                      <a:pt x="4089" y="110"/>
                    </a:cubicBezTo>
                    <a:close/>
                    <a:moveTo>
                      <a:pt x="4090" y="99"/>
                    </a:moveTo>
                    <a:cubicBezTo>
                      <a:pt x="4089" y="97"/>
                      <a:pt x="4089" y="96"/>
                      <a:pt x="4088" y="94"/>
                    </a:cubicBezTo>
                    <a:cubicBezTo>
                      <a:pt x="4089" y="93"/>
                      <a:pt x="4090" y="92"/>
                      <a:pt x="4090" y="91"/>
                    </a:cubicBezTo>
                    <a:cubicBezTo>
                      <a:pt x="4090" y="94"/>
                      <a:pt x="4090" y="96"/>
                      <a:pt x="4090" y="99"/>
                    </a:cubicBezTo>
                    <a:close/>
                    <a:moveTo>
                      <a:pt x="4084" y="91"/>
                    </a:moveTo>
                    <a:cubicBezTo>
                      <a:pt x="4084" y="89"/>
                      <a:pt x="4084" y="88"/>
                      <a:pt x="4083" y="87"/>
                    </a:cubicBezTo>
                    <a:cubicBezTo>
                      <a:pt x="4085" y="83"/>
                      <a:pt x="4086" y="80"/>
                      <a:pt x="4087" y="76"/>
                    </a:cubicBezTo>
                    <a:cubicBezTo>
                      <a:pt x="4088" y="78"/>
                      <a:pt x="4090" y="80"/>
                      <a:pt x="4091" y="82"/>
                    </a:cubicBezTo>
                    <a:cubicBezTo>
                      <a:pt x="4088" y="85"/>
                      <a:pt x="4086" y="88"/>
                      <a:pt x="4084" y="91"/>
                    </a:cubicBezTo>
                    <a:close/>
                    <a:moveTo>
                      <a:pt x="4091" y="79"/>
                    </a:moveTo>
                    <a:cubicBezTo>
                      <a:pt x="4090" y="77"/>
                      <a:pt x="4089" y="76"/>
                      <a:pt x="4088" y="75"/>
                    </a:cubicBezTo>
                    <a:cubicBezTo>
                      <a:pt x="4089" y="72"/>
                      <a:pt x="4091" y="68"/>
                      <a:pt x="4092" y="65"/>
                    </a:cubicBezTo>
                    <a:cubicBezTo>
                      <a:pt x="4092" y="68"/>
                      <a:pt x="4092" y="73"/>
                      <a:pt x="4091" y="79"/>
                    </a:cubicBezTo>
                    <a:close/>
                    <a:moveTo>
                      <a:pt x="4109" y="54"/>
                    </a:moveTo>
                    <a:cubicBezTo>
                      <a:pt x="4109" y="56"/>
                      <a:pt x="4108" y="58"/>
                      <a:pt x="4108" y="61"/>
                    </a:cubicBezTo>
                    <a:cubicBezTo>
                      <a:pt x="4104" y="65"/>
                      <a:pt x="4100" y="69"/>
                      <a:pt x="4097" y="74"/>
                    </a:cubicBezTo>
                    <a:cubicBezTo>
                      <a:pt x="4100" y="67"/>
                      <a:pt x="4104" y="60"/>
                      <a:pt x="4109" y="54"/>
                    </a:cubicBezTo>
                    <a:close/>
                    <a:moveTo>
                      <a:pt x="4095" y="89"/>
                    </a:moveTo>
                    <a:cubicBezTo>
                      <a:pt x="4095" y="90"/>
                      <a:pt x="4096" y="91"/>
                      <a:pt x="4096" y="92"/>
                    </a:cubicBezTo>
                    <a:cubicBezTo>
                      <a:pt x="4096" y="92"/>
                      <a:pt x="4095" y="93"/>
                      <a:pt x="4095" y="94"/>
                    </a:cubicBezTo>
                    <a:cubicBezTo>
                      <a:pt x="4095" y="92"/>
                      <a:pt x="4095" y="91"/>
                      <a:pt x="4095" y="89"/>
                    </a:cubicBezTo>
                    <a:close/>
                    <a:moveTo>
                      <a:pt x="4097" y="127"/>
                    </a:moveTo>
                    <a:cubicBezTo>
                      <a:pt x="4097" y="125"/>
                      <a:pt x="4097" y="124"/>
                      <a:pt x="4096" y="122"/>
                    </a:cubicBezTo>
                    <a:cubicBezTo>
                      <a:pt x="4096" y="117"/>
                      <a:pt x="4096" y="111"/>
                      <a:pt x="4096" y="105"/>
                    </a:cubicBezTo>
                    <a:cubicBezTo>
                      <a:pt x="4097" y="104"/>
                      <a:pt x="4097" y="102"/>
                      <a:pt x="4098" y="101"/>
                    </a:cubicBezTo>
                    <a:cubicBezTo>
                      <a:pt x="4097" y="102"/>
                      <a:pt x="4097" y="103"/>
                      <a:pt x="4096" y="105"/>
                    </a:cubicBezTo>
                    <a:cubicBezTo>
                      <a:pt x="4095" y="102"/>
                      <a:pt x="4095" y="99"/>
                      <a:pt x="4095" y="96"/>
                    </a:cubicBezTo>
                    <a:cubicBezTo>
                      <a:pt x="4096" y="95"/>
                      <a:pt x="4096" y="94"/>
                      <a:pt x="4096" y="93"/>
                    </a:cubicBezTo>
                    <a:cubicBezTo>
                      <a:pt x="4097" y="95"/>
                      <a:pt x="4098" y="97"/>
                      <a:pt x="4099" y="100"/>
                    </a:cubicBezTo>
                    <a:cubicBezTo>
                      <a:pt x="4099" y="100"/>
                      <a:pt x="4099" y="100"/>
                      <a:pt x="4098" y="101"/>
                    </a:cubicBezTo>
                    <a:cubicBezTo>
                      <a:pt x="4099" y="100"/>
                      <a:pt x="4099" y="100"/>
                      <a:pt x="4099" y="100"/>
                    </a:cubicBezTo>
                    <a:cubicBezTo>
                      <a:pt x="4100" y="101"/>
                      <a:pt x="4100" y="102"/>
                      <a:pt x="4101" y="103"/>
                    </a:cubicBezTo>
                    <a:cubicBezTo>
                      <a:pt x="4099" y="112"/>
                      <a:pt x="4098" y="120"/>
                      <a:pt x="4097" y="127"/>
                    </a:cubicBezTo>
                    <a:close/>
                    <a:moveTo>
                      <a:pt x="4098" y="87"/>
                    </a:moveTo>
                    <a:cubicBezTo>
                      <a:pt x="4099" y="86"/>
                      <a:pt x="4100" y="84"/>
                      <a:pt x="4101" y="83"/>
                    </a:cubicBezTo>
                    <a:cubicBezTo>
                      <a:pt x="4100" y="84"/>
                      <a:pt x="4099" y="86"/>
                      <a:pt x="4098" y="87"/>
                    </a:cubicBezTo>
                    <a:cubicBezTo>
                      <a:pt x="4097" y="86"/>
                      <a:pt x="4096" y="85"/>
                      <a:pt x="4095" y="83"/>
                    </a:cubicBezTo>
                    <a:cubicBezTo>
                      <a:pt x="4099" y="78"/>
                      <a:pt x="4103" y="72"/>
                      <a:pt x="4106" y="67"/>
                    </a:cubicBezTo>
                    <a:cubicBezTo>
                      <a:pt x="4106" y="72"/>
                      <a:pt x="4105" y="76"/>
                      <a:pt x="4104" y="81"/>
                    </a:cubicBezTo>
                    <a:cubicBezTo>
                      <a:pt x="4104" y="80"/>
                      <a:pt x="4103" y="79"/>
                      <a:pt x="4103" y="79"/>
                    </a:cubicBezTo>
                    <a:cubicBezTo>
                      <a:pt x="4103" y="78"/>
                      <a:pt x="4104" y="77"/>
                      <a:pt x="4105" y="75"/>
                    </a:cubicBezTo>
                    <a:cubicBezTo>
                      <a:pt x="4104" y="76"/>
                      <a:pt x="4103" y="77"/>
                      <a:pt x="4103" y="79"/>
                    </a:cubicBezTo>
                    <a:cubicBezTo>
                      <a:pt x="4102" y="78"/>
                      <a:pt x="4102" y="77"/>
                      <a:pt x="4101" y="77"/>
                    </a:cubicBezTo>
                    <a:cubicBezTo>
                      <a:pt x="4101" y="78"/>
                      <a:pt x="4102" y="79"/>
                      <a:pt x="4102" y="79"/>
                    </a:cubicBezTo>
                    <a:cubicBezTo>
                      <a:pt x="4102" y="80"/>
                      <a:pt x="4101" y="81"/>
                      <a:pt x="4101" y="83"/>
                    </a:cubicBezTo>
                    <a:cubicBezTo>
                      <a:pt x="4101" y="82"/>
                      <a:pt x="4102" y="81"/>
                      <a:pt x="4102" y="80"/>
                    </a:cubicBezTo>
                    <a:cubicBezTo>
                      <a:pt x="4103" y="81"/>
                      <a:pt x="4103" y="82"/>
                      <a:pt x="4104" y="84"/>
                    </a:cubicBezTo>
                    <a:cubicBezTo>
                      <a:pt x="4103" y="87"/>
                      <a:pt x="4103" y="90"/>
                      <a:pt x="4102" y="93"/>
                    </a:cubicBezTo>
                    <a:cubicBezTo>
                      <a:pt x="4101" y="91"/>
                      <a:pt x="4100" y="89"/>
                      <a:pt x="4098" y="87"/>
                    </a:cubicBezTo>
                    <a:close/>
                    <a:moveTo>
                      <a:pt x="4103" y="144"/>
                    </a:moveTo>
                    <a:cubicBezTo>
                      <a:pt x="4103" y="144"/>
                      <a:pt x="4103" y="143"/>
                      <a:pt x="4103" y="143"/>
                    </a:cubicBezTo>
                    <a:cubicBezTo>
                      <a:pt x="4103" y="140"/>
                      <a:pt x="4103" y="136"/>
                      <a:pt x="4103" y="131"/>
                    </a:cubicBezTo>
                    <a:cubicBezTo>
                      <a:pt x="4104" y="128"/>
                      <a:pt x="4105" y="126"/>
                      <a:pt x="4105" y="125"/>
                    </a:cubicBezTo>
                    <a:cubicBezTo>
                      <a:pt x="4105" y="125"/>
                      <a:pt x="4105" y="124"/>
                      <a:pt x="4105" y="124"/>
                    </a:cubicBezTo>
                    <a:cubicBezTo>
                      <a:pt x="4104" y="124"/>
                      <a:pt x="4104" y="124"/>
                      <a:pt x="4104" y="124"/>
                    </a:cubicBezTo>
                    <a:cubicBezTo>
                      <a:pt x="4104" y="122"/>
                      <a:pt x="4104" y="120"/>
                      <a:pt x="4104" y="118"/>
                    </a:cubicBezTo>
                    <a:cubicBezTo>
                      <a:pt x="4105" y="121"/>
                      <a:pt x="4106" y="125"/>
                      <a:pt x="4106" y="128"/>
                    </a:cubicBezTo>
                    <a:cubicBezTo>
                      <a:pt x="4105" y="136"/>
                      <a:pt x="4104" y="141"/>
                      <a:pt x="4103" y="144"/>
                    </a:cubicBezTo>
                    <a:close/>
                    <a:moveTo>
                      <a:pt x="4110" y="107"/>
                    </a:moveTo>
                    <a:cubicBezTo>
                      <a:pt x="4109" y="105"/>
                      <a:pt x="4108" y="102"/>
                      <a:pt x="4106" y="100"/>
                    </a:cubicBezTo>
                    <a:cubicBezTo>
                      <a:pt x="4107" y="97"/>
                      <a:pt x="4107" y="95"/>
                      <a:pt x="4107" y="93"/>
                    </a:cubicBezTo>
                    <a:cubicBezTo>
                      <a:pt x="4108" y="96"/>
                      <a:pt x="4110" y="99"/>
                      <a:pt x="4111" y="102"/>
                    </a:cubicBezTo>
                    <a:cubicBezTo>
                      <a:pt x="4111" y="104"/>
                      <a:pt x="4110" y="105"/>
                      <a:pt x="4110" y="107"/>
                    </a:cubicBezTo>
                    <a:close/>
                    <a:moveTo>
                      <a:pt x="4111" y="159"/>
                    </a:moveTo>
                    <a:cubicBezTo>
                      <a:pt x="4111" y="159"/>
                      <a:pt x="4111" y="159"/>
                      <a:pt x="4111" y="159"/>
                    </a:cubicBezTo>
                    <a:cubicBezTo>
                      <a:pt x="4111" y="159"/>
                      <a:pt x="4111" y="159"/>
                      <a:pt x="4112" y="159"/>
                    </a:cubicBezTo>
                    <a:cubicBezTo>
                      <a:pt x="4111" y="159"/>
                      <a:pt x="4111" y="159"/>
                      <a:pt x="4111" y="159"/>
                    </a:cubicBezTo>
                    <a:close/>
                    <a:moveTo>
                      <a:pt x="4112" y="96"/>
                    </a:moveTo>
                    <a:cubicBezTo>
                      <a:pt x="4111" y="93"/>
                      <a:pt x="4109" y="91"/>
                      <a:pt x="4108" y="88"/>
                    </a:cubicBezTo>
                    <a:cubicBezTo>
                      <a:pt x="4110" y="85"/>
                      <a:pt x="4112" y="82"/>
                      <a:pt x="4114" y="79"/>
                    </a:cubicBezTo>
                    <a:cubicBezTo>
                      <a:pt x="4114" y="84"/>
                      <a:pt x="4113" y="90"/>
                      <a:pt x="4112" y="96"/>
                    </a:cubicBezTo>
                    <a:close/>
                    <a:moveTo>
                      <a:pt x="4115" y="75"/>
                    </a:moveTo>
                    <a:cubicBezTo>
                      <a:pt x="4113" y="78"/>
                      <a:pt x="4110" y="82"/>
                      <a:pt x="4108" y="86"/>
                    </a:cubicBezTo>
                    <a:cubicBezTo>
                      <a:pt x="4109" y="77"/>
                      <a:pt x="4110" y="68"/>
                      <a:pt x="4111" y="61"/>
                    </a:cubicBezTo>
                    <a:cubicBezTo>
                      <a:pt x="4113" y="58"/>
                      <a:pt x="4115" y="55"/>
                      <a:pt x="4117" y="53"/>
                    </a:cubicBezTo>
                    <a:cubicBezTo>
                      <a:pt x="4117" y="58"/>
                      <a:pt x="4116" y="66"/>
                      <a:pt x="4115" y="75"/>
                    </a:cubicBezTo>
                    <a:close/>
                    <a:moveTo>
                      <a:pt x="4122" y="139"/>
                    </a:moveTo>
                    <a:cubicBezTo>
                      <a:pt x="4122" y="139"/>
                      <a:pt x="4121" y="139"/>
                      <a:pt x="4121" y="139"/>
                    </a:cubicBezTo>
                    <a:cubicBezTo>
                      <a:pt x="4121" y="138"/>
                      <a:pt x="4121" y="138"/>
                      <a:pt x="4122" y="138"/>
                    </a:cubicBezTo>
                    <a:cubicBezTo>
                      <a:pt x="4122" y="138"/>
                      <a:pt x="4122" y="138"/>
                      <a:pt x="4122" y="138"/>
                    </a:cubicBezTo>
                    <a:cubicBezTo>
                      <a:pt x="4122" y="139"/>
                      <a:pt x="4122" y="139"/>
                      <a:pt x="4122" y="139"/>
                    </a:cubicBezTo>
                    <a:close/>
                    <a:moveTo>
                      <a:pt x="4147" y="137"/>
                    </a:moveTo>
                    <a:cubicBezTo>
                      <a:pt x="4147" y="136"/>
                      <a:pt x="4146" y="135"/>
                      <a:pt x="4146" y="133"/>
                    </a:cubicBezTo>
                    <a:cubicBezTo>
                      <a:pt x="4146" y="132"/>
                      <a:pt x="4146" y="130"/>
                      <a:pt x="4146" y="128"/>
                    </a:cubicBezTo>
                    <a:cubicBezTo>
                      <a:pt x="4146" y="131"/>
                      <a:pt x="4147" y="133"/>
                      <a:pt x="4148" y="135"/>
                    </a:cubicBezTo>
                    <a:cubicBezTo>
                      <a:pt x="4148" y="136"/>
                      <a:pt x="4147" y="137"/>
                      <a:pt x="4147" y="137"/>
                    </a:cubicBezTo>
                    <a:close/>
                    <a:moveTo>
                      <a:pt x="4153" y="99"/>
                    </a:moveTo>
                    <a:cubicBezTo>
                      <a:pt x="4152" y="95"/>
                      <a:pt x="4150" y="92"/>
                      <a:pt x="4148" y="90"/>
                    </a:cubicBezTo>
                    <a:cubicBezTo>
                      <a:pt x="4150" y="93"/>
                      <a:pt x="4152" y="97"/>
                      <a:pt x="4153" y="101"/>
                    </a:cubicBezTo>
                    <a:cubicBezTo>
                      <a:pt x="4152" y="110"/>
                      <a:pt x="4151" y="118"/>
                      <a:pt x="4149" y="125"/>
                    </a:cubicBezTo>
                    <a:cubicBezTo>
                      <a:pt x="4148" y="122"/>
                      <a:pt x="4147" y="119"/>
                      <a:pt x="4147" y="116"/>
                    </a:cubicBezTo>
                    <a:cubicBezTo>
                      <a:pt x="4147" y="102"/>
                      <a:pt x="4148" y="86"/>
                      <a:pt x="4149" y="72"/>
                    </a:cubicBezTo>
                    <a:cubicBezTo>
                      <a:pt x="4151" y="75"/>
                      <a:pt x="4154" y="79"/>
                      <a:pt x="4156" y="82"/>
                    </a:cubicBezTo>
                    <a:cubicBezTo>
                      <a:pt x="4155" y="88"/>
                      <a:pt x="4154" y="93"/>
                      <a:pt x="4153" y="99"/>
                    </a:cubicBezTo>
                    <a:close/>
                    <a:moveTo>
                      <a:pt x="4156" y="142"/>
                    </a:moveTo>
                    <a:cubicBezTo>
                      <a:pt x="4157" y="134"/>
                      <a:pt x="4158" y="127"/>
                      <a:pt x="4158" y="121"/>
                    </a:cubicBezTo>
                    <a:cubicBezTo>
                      <a:pt x="4158" y="123"/>
                      <a:pt x="4159" y="125"/>
                      <a:pt x="4159" y="127"/>
                    </a:cubicBezTo>
                    <a:cubicBezTo>
                      <a:pt x="4158" y="136"/>
                      <a:pt x="4156" y="142"/>
                      <a:pt x="4156" y="142"/>
                    </a:cubicBezTo>
                    <a:close/>
                    <a:moveTo>
                      <a:pt x="4160" y="144"/>
                    </a:moveTo>
                    <a:cubicBezTo>
                      <a:pt x="4160" y="142"/>
                      <a:pt x="4160" y="140"/>
                      <a:pt x="4161" y="137"/>
                    </a:cubicBezTo>
                    <a:cubicBezTo>
                      <a:pt x="4161" y="138"/>
                      <a:pt x="4161" y="138"/>
                      <a:pt x="4161" y="138"/>
                    </a:cubicBezTo>
                    <a:cubicBezTo>
                      <a:pt x="4160" y="142"/>
                      <a:pt x="4160" y="144"/>
                      <a:pt x="4160" y="144"/>
                    </a:cubicBezTo>
                    <a:close/>
                    <a:moveTo>
                      <a:pt x="4159" y="110"/>
                    </a:moveTo>
                    <a:cubicBezTo>
                      <a:pt x="4159" y="103"/>
                      <a:pt x="4160" y="96"/>
                      <a:pt x="4160" y="90"/>
                    </a:cubicBezTo>
                    <a:cubicBezTo>
                      <a:pt x="4162" y="93"/>
                      <a:pt x="4163" y="96"/>
                      <a:pt x="4164" y="99"/>
                    </a:cubicBezTo>
                    <a:cubicBezTo>
                      <a:pt x="4163" y="105"/>
                      <a:pt x="4162" y="111"/>
                      <a:pt x="4161" y="116"/>
                    </a:cubicBezTo>
                    <a:cubicBezTo>
                      <a:pt x="4160" y="114"/>
                      <a:pt x="4159" y="112"/>
                      <a:pt x="4159" y="110"/>
                    </a:cubicBezTo>
                    <a:close/>
                    <a:moveTo>
                      <a:pt x="4164" y="124"/>
                    </a:moveTo>
                    <a:cubicBezTo>
                      <a:pt x="4163" y="123"/>
                      <a:pt x="4163" y="122"/>
                      <a:pt x="4163" y="121"/>
                    </a:cubicBezTo>
                    <a:cubicBezTo>
                      <a:pt x="4163" y="115"/>
                      <a:pt x="4164" y="109"/>
                      <a:pt x="4165" y="103"/>
                    </a:cubicBezTo>
                    <a:cubicBezTo>
                      <a:pt x="4165" y="105"/>
                      <a:pt x="4166" y="107"/>
                      <a:pt x="4167" y="109"/>
                    </a:cubicBezTo>
                    <a:cubicBezTo>
                      <a:pt x="4166" y="114"/>
                      <a:pt x="4165" y="119"/>
                      <a:pt x="4164" y="124"/>
                    </a:cubicBezTo>
                    <a:close/>
                    <a:moveTo>
                      <a:pt x="4169" y="146"/>
                    </a:moveTo>
                    <a:cubicBezTo>
                      <a:pt x="4169" y="145"/>
                      <a:pt x="4169" y="145"/>
                      <a:pt x="4169" y="145"/>
                    </a:cubicBezTo>
                    <a:cubicBezTo>
                      <a:pt x="4170" y="144"/>
                      <a:pt x="4170" y="143"/>
                      <a:pt x="4170" y="141"/>
                    </a:cubicBezTo>
                    <a:cubicBezTo>
                      <a:pt x="4170" y="142"/>
                      <a:pt x="4170" y="143"/>
                      <a:pt x="4170" y="144"/>
                    </a:cubicBezTo>
                    <a:cubicBezTo>
                      <a:pt x="4170" y="145"/>
                      <a:pt x="4170" y="145"/>
                      <a:pt x="4169" y="146"/>
                    </a:cubicBezTo>
                    <a:close/>
                    <a:moveTo>
                      <a:pt x="4193" y="118"/>
                    </a:moveTo>
                    <a:cubicBezTo>
                      <a:pt x="4192" y="114"/>
                      <a:pt x="4190" y="111"/>
                      <a:pt x="4189" y="107"/>
                    </a:cubicBezTo>
                    <a:cubicBezTo>
                      <a:pt x="4189" y="96"/>
                      <a:pt x="4189" y="84"/>
                      <a:pt x="4189" y="74"/>
                    </a:cubicBezTo>
                    <a:cubicBezTo>
                      <a:pt x="4189" y="70"/>
                      <a:pt x="4189" y="67"/>
                      <a:pt x="4188" y="65"/>
                    </a:cubicBezTo>
                    <a:cubicBezTo>
                      <a:pt x="4189" y="74"/>
                      <a:pt x="4193" y="84"/>
                      <a:pt x="4196" y="94"/>
                    </a:cubicBezTo>
                    <a:cubicBezTo>
                      <a:pt x="4195" y="102"/>
                      <a:pt x="4194" y="110"/>
                      <a:pt x="4193" y="118"/>
                    </a:cubicBezTo>
                    <a:close/>
                    <a:moveTo>
                      <a:pt x="4222" y="124"/>
                    </a:moveTo>
                    <a:cubicBezTo>
                      <a:pt x="4221" y="122"/>
                      <a:pt x="4221" y="120"/>
                      <a:pt x="4220" y="117"/>
                    </a:cubicBezTo>
                    <a:cubicBezTo>
                      <a:pt x="4221" y="109"/>
                      <a:pt x="4222" y="100"/>
                      <a:pt x="4223" y="92"/>
                    </a:cubicBezTo>
                    <a:cubicBezTo>
                      <a:pt x="4225" y="96"/>
                      <a:pt x="4226" y="100"/>
                      <a:pt x="4226" y="104"/>
                    </a:cubicBezTo>
                    <a:cubicBezTo>
                      <a:pt x="4225" y="111"/>
                      <a:pt x="4223" y="118"/>
                      <a:pt x="4222" y="124"/>
                    </a:cubicBezTo>
                    <a:close/>
                    <a:moveTo>
                      <a:pt x="4262" y="133"/>
                    </a:moveTo>
                    <a:cubicBezTo>
                      <a:pt x="4262" y="130"/>
                      <a:pt x="4261" y="126"/>
                      <a:pt x="4260" y="122"/>
                    </a:cubicBezTo>
                    <a:cubicBezTo>
                      <a:pt x="4260" y="112"/>
                      <a:pt x="4260" y="100"/>
                      <a:pt x="4261" y="88"/>
                    </a:cubicBezTo>
                    <a:cubicBezTo>
                      <a:pt x="4263" y="96"/>
                      <a:pt x="4265" y="104"/>
                      <a:pt x="4265" y="111"/>
                    </a:cubicBezTo>
                    <a:cubicBezTo>
                      <a:pt x="4266" y="117"/>
                      <a:pt x="4266" y="117"/>
                      <a:pt x="4266" y="117"/>
                    </a:cubicBezTo>
                    <a:cubicBezTo>
                      <a:pt x="4264" y="123"/>
                      <a:pt x="4263" y="129"/>
                      <a:pt x="4262" y="133"/>
                    </a:cubicBezTo>
                    <a:close/>
                    <a:moveTo>
                      <a:pt x="4275" y="110"/>
                    </a:moveTo>
                    <a:cubicBezTo>
                      <a:pt x="4275" y="113"/>
                      <a:pt x="4275" y="116"/>
                      <a:pt x="4275" y="119"/>
                    </a:cubicBezTo>
                    <a:cubicBezTo>
                      <a:pt x="4274" y="122"/>
                      <a:pt x="4274" y="124"/>
                      <a:pt x="4273" y="127"/>
                    </a:cubicBezTo>
                    <a:cubicBezTo>
                      <a:pt x="4273" y="119"/>
                      <a:pt x="4272" y="111"/>
                      <a:pt x="4271" y="104"/>
                    </a:cubicBezTo>
                    <a:cubicBezTo>
                      <a:pt x="4272" y="98"/>
                      <a:pt x="4272" y="91"/>
                      <a:pt x="4273" y="86"/>
                    </a:cubicBezTo>
                    <a:cubicBezTo>
                      <a:pt x="4275" y="93"/>
                      <a:pt x="4275" y="102"/>
                      <a:pt x="4275" y="110"/>
                    </a:cubicBezTo>
                    <a:close/>
                    <a:moveTo>
                      <a:pt x="4285" y="142"/>
                    </a:moveTo>
                    <a:cubicBezTo>
                      <a:pt x="4285" y="142"/>
                      <a:pt x="4285" y="141"/>
                      <a:pt x="4286" y="138"/>
                    </a:cubicBezTo>
                    <a:cubicBezTo>
                      <a:pt x="4287" y="120"/>
                      <a:pt x="4286" y="96"/>
                      <a:pt x="4285" y="77"/>
                    </a:cubicBezTo>
                    <a:cubicBezTo>
                      <a:pt x="4287" y="81"/>
                      <a:pt x="4289" y="86"/>
                      <a:pt x="4290" y="92"/>
                    </a:cubicBezTo>
                    <a:cubicBezTo>
                      <a:pt x="4288" y="108"/>
                      <a:pt x="4286" y="129"/>
                      <a:pt x="4286" y="138"/>
                    </a:cubicBezTo>
                    <a:cubicBezTo>
                      <a:pt x="4285" y="139"/>
                      <a:pt x="4285" y="141"/>
                      <a:pt x="4285" y="142"/>
                    </a:cubicBezTo>
                    <a:close/>
                    <a:moveTo>
                      <a:pt x="4289" y="129"/>
                    </a:moveTo>
                    <a:cubicBezTo>
                      <a:pt x="4289" y="119"/>
                      <a:pt x="4290" y="107"/>
                      <a:pt x="4291" y="97"/>
                    </a:cubicBezTo>
                    <a:cubicBezTo>
                      <a:pt x="4291" y="100"/>
                      <a:pt x="4291" y="103"/>
                      <a:pt x="4291" y="106"/>
                    </a:cubicBezTo>
                    <a:cubicBezTo>
                      <a:pt x="4291" y="114"/>
                      <a:pt x="4290" y="121"/>
                      <a:pt x="4289" y="129"/>
                    </a:cubicBezTo>
                    <a:close/>
                    <a:moveTo>
                      <a:pt x="4300" y="125"/>
                    </a:moveTo>
                    <a:cubicBezTo>
                      <a:pt x="4301" y="120"/>
                      <a:pt x="4301" y="113"/>
                      <a:pt x="4301" y="107"/>
                    </a:cubicBezTo>
                    <a:cubicBezTo>
                      <a:pt x="4301" y="114"/>
                      <a:pt x="4301" y="120"/>
                      <a:pt x="4300" y="125"/>
                    </a:cubicBezTo>
                    <a:close/>
                    <a:moveTo>
                      <a:pt x="4315" y="112"/>
                    </a:moveTo>
                    <a:cubicBezTo>
                      <a:pt x="4315" y="105"/>
                      <a:pt x="4315" y="98"/>
                      <a:pt x="4315" y="91"/>
                    </a:cubicBezTo>
                    <a:cubicBezTo>
                      <a:pt x="4316" y="95"/>
                      <a:pt x="4316" y="99"/>
                      <a:pt x="4316" y="103"/>
                    </a:cubicBezTo>
                    <a:cubicBezTo>
                      <a:pt x="4316" y="106"/>
                      <a:pt x="4316" y="109"/>
                      <a:pt x="4315" y="112"/>
                    </a:cubicBezTo>
                    <a:close/>
                    <a:moveTo>
                      <a:pt x="4326" y="129"/>
                    </a:moveTo>
                    <a:cubicBezTo>
                      <a:pt x="4326" y="129"/>
                      <a:pt x="4326" y="129"/>
                      <a:pt x="4325" y="130"/>
                    </a:cubicBezTo>
                    <a:cubicBezTo>
                      <a:pt x="4325" y="132"/>
                      <a:pt x="4324" y="134"/>
                      <a:pt x="4324" y="137"/>
                    </a:cubicBezTo>
                    <a:cubicBezTo>
                      <a:pt x="4324" y="136"/>
                      <a:pt x="4324" y="136"/>
                      <a:pt x="4324" y="136"/>
                    </a:cubicBezTo>
                    <a:cubicBezTo>
                      <a:pt x="4324" y="134"/>
                      <a:pt x="4325" y="132"/>
                      <a:pt x="4325" y="130"/>
                    </a:cubicBezTo>
                    <a:cubicBezTo>
                      <a:pt x="4326" y="129"/>
                      <a:pt x="4326" y="129"/>
                      <a:pt x="4326" y="129"/>
                    </a:cubicBezTo>
                    <a:cubicBezTo>
                      <a:pt x="4326" y="129"/>
                      <a:pt x="4326" y="129"/>
                      <a:pt x="4326" y="129"/>
                    </a:cubicBezTo>
                    <a:close/>
                    <a:moveTo>
                      <a:pt x="4362" y="130"/>
                    </a:moveTo>
                    <a:cubicBezTo>
                      <a:pt x="4362" y="132"/>
                      <a:pt x="4361" y="134"/>
                      <a:pt x="4360" y="136"/>
                    </a:cubicBezTo>
                    <a:cubicBezTo>
                      <a:pt x="4360" y="131"/>
                      <a:pt x="4360" y="126"/>
                      <a:pt x="4360" y="121"/>
                    </a:cubicBezTo>
                    <a:cubicBezTo>
                      <a:pt x="4362" y="115"/>
                      <a:pt x="4364" y="110"/>
                      <a:pt x="4365" y="104"/>
                    </a:cubicBezTo>
                    <a:cubicBezTo>
                      <a:pt x="4364" y="114"/>
                      <a:pt x="4363" y="123"/>
                      <a:pt x="4362" y="130"/>
                    </a:cubicBezTo>
                    <a:close/>
                    <a:moveTo>
                      <a:pt x="4378" y="124"/>
                    </a:moveTo>
                    <a:cubicBezTo>
                      <a:pt x="4378" y="110"/>
                      <a:pt x="4380" y="94"/>
                      <a:pt x="4381" y="83"/>
                    </a:cubicBezTo>
                    <a:cubicBezTo>
                      <a:pt x="4381" y="87"/>
                      <a:pt x="4381" y="91"/>
                      <a:pt x="4381" y="95"/>
                    </a:cubicBezTo>
                    <a:cubicBezTo>
                      <a:pt x="4381" y="105"/>
                      <a:pt x="4380" y="114"/>
                      <a:pt x="4378" y="124"/>
                    </a:cubicBezTo>
                    <a:close/>
                    <a:moveTo>
                      <a:pt x="4394" y="160"/>
                    </a:moveTo>
                    <a:cubicBezTo>
                      <a:pt x="4394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4" y="160"/>
                    </a:cubicBezTo>
                    <a:close/>
                    <a:moveTo>
                      <a:pt x="4407" y="116"/>
                    </a:moveTo>
                    <a:cubicBezTo>
                      <a:pt x="4406" y="121"/>
                      <a:pt x="4404" y="127"/>
                      <a:pt x="4402" y="132"/>
                    </a:cubicBezTo>
                    <a:cubicBezTo>
                      <a:pt x="4402" y="127"/>
                      <a:pt x="4402" y="121"/>
                      <a:pt x="4402" y="115"/>
                    </a:cubicBezTo>
                    <a:cubicBezTo>
                      <a:pt x="4403" y="110"/>
                      <a:pt x="4403" y="104"/>
                      <a:pt x="4403" y="98"/>
                    </a:cubicBezTo>
                    <a:cubicBezTo>
                      <a:pt x="4403" y="95"/>
                      <a:pt x="4403" y="92"/>
                      <a:pt x="4403" y="89"/>
                    </a:cubicBezTo>
                    <a:cubicBezTo>
                      <a:pt x="4404" y="78"/>
                      <a:pt x="4405" y="68"/>
                      <a:pt x="4406" y="60"/>
                    </a:cubicBezTo>
                    <a:cubicBezTo>
                      <a:pt x="4409" y="68"/>
                      <a:pt x="4411" y="78"/>
                      <a:pt x="4411" y="87"/>
                    </a:cubicBezTo>
                    <a:cubicBezTo>
                      <a:pt x="4410" y="95"/>
                      <a:pt x="4409" y="106"/>
                      <a:pt x="4407" y="116"/>
                    </a:cubicBezTo>
                    <a:close/>
                    <a:moveTo>
                      <a:pt x="4415" y="136"/>
                    </a:moveTo>
                    <a:cubicBezTo>
                      <a:pt x="4415" y="137"/>
                      <a:pt x="4414" y="138"/>
                      <a:pt x="4414" y="139"/>
                    </a:cubicBezTo>
                    <a:cubicBezTo>
                      <a:pt x="4414" y="137"/>
                      <a:pt x="4414" y="135"/>
                      <a:pt x="4414" y="133"/>
                    </a:cubicBezTo>
                    <a:cubicBezTo>
                      <a:pt x="4415" y="130"/>
                      <a:pt x="4415" y="128"/>
                      <a:pt x="4416" y="125"/>
                    </a:cubicBezTo>
                    <a:cubicBezTo>
                      <a:pt x="4416" y="129"/>
                      <a:pt x="4415" y="133"/>
                      <a:pt x="4415" y="136"/>
                    </a:cubicBezTo>
                    <a:close/>
                    <a:moveTo>
                      <a:pt x="4431" y="126"/>
                    </a:moveTo>
                    <a:cubicBezTo>
                      <a:pt x="4430" y="113"/>
                      <a:pt x="4430" y="96"/>
                      <a:pt x="4430" y="84"/>
                    </a:cubicBezTo>
                    <a:cubicBezTo>
                      <a:pt x="4434" y="90"/>
                      <a:pt x="4436" y="100"/>
                      <a:pt x="4436" y="104"/>
                    </a:cubicBezTo>
                    <a:cubicBezTo>
                      <a:pt x="4436" y="110"/>
                      <a:pt x="4433" y="118"/>
                      <a:pt x="4431" y="126"/>
                    </a:cubicBezTo>
                    <a:close/>
                    <a:moveTo>
                      <a:pt x="4442" y="128"/>
                    </a:moveTo>
                    <a:cubicBezTo>
                      <a:pt x="4443" y="113"/>
                      <a:pt x="4443" y="91"/>
                      <a:pt x="4443" y="76"/>
                    </a:cubicBezTo>
                    <a:cubicBezTo>
                      <a:pt x="4445" y="83"/>
                      <a:pt x="4447" y="90"/>
                      <a:pt x="4447" y="96"/>
                    </a:cubicBezTo>
                    <a:cubicBezTo>
                      <a:pt x="4447" y="107"/>
                      <a:pt x="4444" y="117"/>
                      <a:pt x="4442" y="128"/>
                    </a:cubicBezTo>
                    <a:close/>
                    <a:moveTo>
                      <a:pt x="4482" y="112"/>
                    </a:moveTo>
                    <a:cubicBezTo>
                      <a:pt x="4482" y="110"/>
                      <a:pt x="4482" y="108"/>
                      <a:pt x="4481" y="105"/>
                    </a:cubicBezTo>
                    <a:cubicBezTo>
                      <a:pt x="4482" y="108"/>
                      <a:pt x="4481" y="112"/>
                      <a:pt x="4481" y="115"/>
                    </a:cubicBezTo>
                    <a:cubicBezTo>
                      <a:pt x="4476" y="131"/>
                      <a:pt x="4472" y="144"/>
                      <a:pt x="4472" y="144"/>
                    </a:cubicBezTo>
                    <a:cubicBezTo>
                      <a:pt x="4473" y="133"/>
                      <a:pt x="4477" y="110"/>
                      <a:pt x="4482" y="86"/>
                    </a:cubicBezTo>
                    <a:cubicBezTo>
                      <a:pt x="4484" y="90"/>
                      <a:pt x="4485" y="95"/>
                      <a:pt x="4486" y="99"/>
                    </a:cubicBezTo>
                    <a:cubicBezTo>
                      <a:pt x="4484" y="103"/>
                      <a:pt x="4483" y="108"/>
                      <a:pt x="4482" y="112"/>
                    </a:cubicBezTo>
                    <a:close/>
                    <a:moveTo>
                      <a:pt x="4494" y="133"/>
                    </a:moveTo>
                    <a:cubicBezTo>
                      <a:pt x="4494" y="133"/>
                      <a:pt x="4494" y="134"/>
                      <a:pt x="4494" y="134"/>
                    </a:cubicBezTo>
                    <a:cubicBezTo>
                      <a:pt x="4494" y="134"/>
                      <a:pt x="4494" y="134"/>
                      <a:pt x="4494" y="134"/>
                    </a:cubicBezTo>
                    <a:cubicBezTo>
                      <a:pt x="4494" y="134"/>
                      <a:pt x="4494" y="133"/>
                      <a:pt x="4494" y="133"/>
                    </a:cubicBezTo>
                    <a:cubicBezTo>
                      <a:pt x="4495" y="126"/>
                      <a:pt x="4496" y="117"/>
                      <a:pt x="4497" y="107"/>
                    </a:cubicBezTo>
                    <a:cubicBezTo>
                      <a:pt x="4497" y="110"/>
                      <a:pt x="4497" y="114"/>
                      <a:pt x="4497" y="117"/>
                    </a:cubicBezTo>
                    <a:cubicBezTo>
                      <a:pt x="4496" y="123"/>
                      <a:pt x="4495" y="129"/>
                      <a:pt x="4494" y="133"/>
                    </a:cubicBezTo>
                    <a:close/>
                    <a:moveTo>
                      <a:pt x="4499" y="159"/>
                    </a:move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lose/>
                    <a:moveTo>
                      <a:pt x="4540" y="143"/>
                    </a:moveTo>
                    <a:cubicBezTo>
                      <a:pt x="4540" y="142"/>
                      <a:pt x="4540" y="142"/>
                      <a:pt x="4540" y="141"/>
                    </a:cubicBezTo>
                    <a:cubicBezTo>
                      <a:pt x="4540" y="135"/>
                      <a:pt x="4541" y="127"/>
                      <a:pt x="4541" y="117"/>
                    </a:cubicBezTo>
                    <a:cubicBezTo>
                      <a:pt x="4542" y="121"/>
                      <a:pt x="4542" y="125"/>
                      <a:pt x="4542" y="129"/>
                    </a:cubicBezTo>
                    <a:cubicBezTo>
                      <a:pt x="4541" y="135"/>
                      <a:pt x="4541" y="139"/>
                      <a:pt x="4540" y="143"/>
                    </a:cubicBezTo>
                    <a:close/>
                    <a:moveTo>
                      <a:pt x="4544" y="117"/>
                    </a:moveTo>
                    <a:cubicBezTo>
                      <a:pt x="4543" y="115"/>
                      <a:pt x="4542" y="113"/>
                      <a:pt x="4542" y="111"/>
                    </a:cubicBezTo>
                    <a:cubicBezTo>
                      <a:pt x="4542" y="108"/>
                      <a:pt x="4542" y="104"/>
                      <a:pt x="4543" y="100"/>
                    </a:cubicBezTo>
                    <a:cubicBezTo>
                      <a:pt x="4544" y="103"/>
                      <a:pt x="4544" y="106"/>
                      <a:pt x="4545" y="108"/>
                    </a:cubicBezTo>
                    <a:cubicBezTo>
                      <a:pt x="4544" y="111"/>
                      <a:pt x="4544" y="114"/>
                      <a:pt x="4544" y="117"/>
                    </a:cubicBezTo>
                    <a:close/>
                    <a:moveTo>
                      <a:pt x="4552" y="133"/>
                    </a:moveTo>
                    <a:cubicBezTo>
                      <a:pt x="4552" y="133"/>
                      <a:pt x="4552" y="133"/>
                      <a:pt x="4552" y="133"/>
                    </a:cubicBezTo>
                    <a:cubicBezTo>
                      <a:pt x="4552" y="130"/>
                      <a:pt x="4553" y="127"/>
                      <a:pt x="4553" y="124"/>
                    </a:cubicBezTo>
                    <a:cubicBezTo>
                      <a:pt x="4553" y="125"/>
                      <a:pt x="4553" y="126"/>
                      <a:pt x="4553" y="128"/>
                    </a:cubicBezTo>
                    <a:cubicBezTo>
                      <a:pt x="4553" y="130"/>
                      <a:pt x="4552" y="131"/>
                      <a:pt x="4552" y="133"/>
                    </a:cubicBezTo>
                    <a:close/>
                    <a:moveTo>
                      <a:pt x="4589" y="142"/>
                    </a:moveTo>
                    <a:cubicBezTo>
                      <a:pt x="4589" y="139"/>
                      <a:pt x="4589" y="134"/>
                      <a:pt x="4589" y="128"/>
                    </a:cubicBezTo>
                    <a:cubicBezTo>
                      <a:pt x="4589" y="130"/>
                      <a:pt x="4589" y="132"/>
                      <a:pt x="4590" y="133"/>
                    </a:cubicBezTo>
                    <a:cubicBezTo>
                      <a:pt x="4589" y="139"/>
                      <a:pt x="4589" y="142"/>
                      <a:pt x="4589" y="142"/>
                    </a:cubicBezTo>
                    <a:close/>
                    <a:moveTo>
                      <a:pt x="4610" y="135"/>
                    </a:moveTo>
                    <a:cubicBezTo>
                      <a:pt x="4610" y="134"/>
                      <a:pt x="4610" y="134"/>
                      <a:pt x="4610" y="133"/>
                    </a:cubicBezTo>
                    <a:cubicBezTo>
                      <a:pt x="4610" y="121"/>
                      <a:pt x="4610" y="103"/>
                      <a:pt x="4609" y="88"/>
                    </a:cubicBezTo>
                    <a:cubicBezTo>
                      <a:pt x="4611" y="94"/>
                      <a:pt x="4613" y="100"/>
                      <a:pt x="4614" y="106"/>
                    </a:cubicBezTo>
                    <a:cubicBezTo>
                      <a:pt x="4612" y="118"/>
                      <a:pt x="4611" y="128"/>
                      <a:pt x="4610" y="135"/>
                    </a:cubicBezTo>
                    <a:close/>
                    <a:moveTo>
                      <a:pt x="4617" y="145"/>
                    </a:moveTo>
                    <a:cubicBezTo>
                      <a:pt x="4617" y="141"/>
                      <a:pt x="4617" y="136"/>
                      <a:pt x="4617" y="129"/>
                    </a:cubicBezTo>
                    <a:cubicBezTo>
                      <a:pt x="4618" y="133"/>
                      <a:pt x="4618" y="136"/>
                      <a:pt x="4619" y="139"/>
                    </a:cubicBezTo>
                    <a:cubicBezTo>
                      <a:pt x="4618" y="143"/>
                      <a:pt x="4617" y="145"/>
                      <a:pt x="4617" y="145"/>
                    </a:cubicBezTo>
                    <a:close/>
                    <a:moveTo>
                      <a:pt x="4622" y="159"/>
                    </a:moveTo>
                    <a:cubicBezTo>
                      <a:pt x="4623" y="159"/>
                      <a:pt x="4623" y="159"/>
                      <a:pt x="4623" y="159"/>
                    </a:cubicBezTo>
                    <a:cubicBezTo>
                      <a:pt x="4623" y="159"/>
                      <a:pt x="4623" y="158"/>
                      <a:pt x="4623" y="158"/>
                    </a:cubicBezTo>
                    <a:cubicBezTo>
                      <a:pt x="4623" y="159"/>
                      <a:pt x="4624" y="160"/>
                      <a:pt x="4624" y="160"/>
                    </a:cubicBezTo>
                    <a:cubicBezTo>
                      <a:pt x="4623" y="160"/>
                      <a:pt x="4623" y="159"/>
                      <a:pt x="4622" y="159"/>
                    </a:cubicBezTo>
                    <a:close/>
                    <a:moveTo>
                      <a:pt x="4624" y="121"/>
                    </a:moveTo>
                    <a:cubicBezTo>
                      <a:pt x="4622" y="117"/>
                      <a:pt x="4621" y="114"/>
                      <a:pt x="4619" y="110"/>
                    </a:cubicBezTo>
                    <a:cubicBezTo>
                      <a:pt x="4620" y="105"/>
                      <a:pt x="4620" y="99"/>
                      <a:pt x="4621" y="94"/>
                    </a:cubicBezTo>
                    <a:cubicBezTo>
                      <a:pt x="4621" y="100"/>
                      <a:pt x="4623" y="108"/>
                      <a:pt x="4625" y="116"/>
                    </a:cubicBezTo>
                    <a:cubicBezTo>
                      <a:pt x="4624" y="118"/>
                      <a:pt x="4624" y="119"/>
                      <a:pt x="4624" y="121"/>
                    </a:cubicBezTo>
                    <a:close/>
                    <a:moveTo>
                      <a:pt x="4632" y="142"/>
                    </a:moveTo>
                    <a:cubicBezTo>
                      <a:pt x="4631" y="138"/>
                      <a:pt x="4629" y="134"/>
                      <a:pt x="4627" y="129"/>
                    </a:cubicBezTo>
                    <a:cubicBezTo>
                      <a:pt x="4627" y="129"/>
                      <a:pt x="4627" y="128"/>
                      <a:pt x="4627" y="127"/>
                    </a:cubicBezTo>
                    <a:cubicBezTo>
                      <a:pt x="4629" y="132"/>
                      <a:pt x="4630" y="137"/>
                      <a:pt x="4632" y="142"/>
                    </a:cubicBezTo>
                    <a:cubicBezTo>
                      <a:pt x="4635" y="149"/>
                      <a:pt x="4636" y="153"/>
                      <a:pt x="4637" y="155"/>
                    </a:cubicBezTo>
                    <a:cubicBezTo>
                      <a:pt x="4635" y="151"/>
                      <a:pt x="4634" y="147"/>
                      <a:pt x="4632" y="142"/>
                    </a:cubicBezTo>
                    <a:close/>
                    <a:moveTo>
                      <a:pt x="4458" y="105"/>
                    </a:moveTo>
                    <a:cubicBezTo>
                      <a:pt x="4458" y="103"/>
                      <a:pt x="4458" y="101"/>
                      <a:pt x="4457" y="99"/>
                    </a:cubicBezTo>
                    <a:cubicBezTo>
                      <a:pt x="4457" y="101"/>
                      <a:pt x="4458" y="103"/>
                      <a:pt x="4458" y="105"/>
                    </a:cubicBezTo>
                    <a:close/>
                    <a:moveTo>
                      <a:pt x="4466" y="65"/>
                    </a:moveTo>
                    <a:cubicBezTo>
                      <a:pt x="4466" y="64"/>
                      <a:pt x="4466" y="63"/>
                      <a:pt x="4466" y="63"/>
                    </a:cubicBezTo>
                    <a:cubicBezTo>
                      <a:pt x="4466" y="63"/>
                      <a:pt x="4466" y="64"/>
                      <a:pt x="4466" y="65"/>
                    </a:cubicBezTo>
                    <a:close/>
                    <a:moveTo>
                      <a:pt x="4065" y="79"/>
                    </a:moveTo>
                    <a:cubicBezTo>
                      <a:pt x="4066" y="76"/>
                      <a:pt x="4067" y="73"/>
                      <a:pt x="4068" y="70"/>
                    </a:cubicBezTo>
                    <a:cubicBezTo>
                      <a:pt x="4067" y="73"/>
                      <a:pt x="4066" y="76"/>
                      <a:pt x="4065" y="79"/>
                    </a:cubicBezTo>
                    <a:close/>
                    <a:moveTo>
                      <a:pt x="3886" y="79"/>
                    </a:moveTo>
                    <a:cubicBezTo>
                      <a:pt x="3885" y="76"/>
                      <a:pt x="3884" y="73"/>
                      <a:pt x="3882" y="70"/>
                    </a:cubicBezTo>
                    <a:cubicBezTo>
                      <a:pt x="3884" y="73"/>
                      <a:pt x="3885" y="76"/>
                      <a:pt x="3886" y="79"/>
                    </a:cubicBezTo>
                    <a:close/>
                    <a:moveTo>
                      <a:pt x="2267" y="79"/>
                    </a:moveTo>
                    <a:cubicBezTo>
                      <a:pt x="2268" y="76"/>
                      <a:pt x="2269" y="73"/>
                      <a:pt x="2270" y="70"/>
                    </a:cubicBezTo>
                    <a:cubicBezTo>
                      <a:pt x="2269" y="73"/>
                      <a:pt x="2268" y="76"/>
                      <a:pt x="2267" y="79"/>
                    </a:cubicBezTo>
                    <a:close/>
                    <a:moveTo>
                      <a:pt x="3115" y="83"/>
                    </a:moveTo>
                    <a:cubicBezTo>
                      <a:pt x="3114" y="81"/>
                      <a:pt x="3113" y="79"/>
                      <a:pt x="3112" y="78"/>
                    </a:cubicBezTo>
                    <a:cubicBezTo>
                      <a:pt x="3113" y="79"/>
                      <a:pt x="3114" y="81"/>
                      <a:pt x="3115" y="83"/>
                    </a:cubicBezTo>
                    <a:close/>
                    <a:moveTo>
                      <a:pt x="290" y="79"/>
                    </a:moveTo>
                    <a:cubicBezTo>
                      <a:pt x="289" y="76"/>
                      <a:pt x="288" y="73"/>
                      <a:pt x="287" y="70"/>
                    </a:cubicBezTo>
                    <a:cubicBezTo>
                      <a:pt x="288" y="73"/>
                      <a:pt x="289" y="76"/>
                      <a:pt x="290" y="79"/>
                    </a:cubicBezTo>
                    <a:close/>
                    <a:moveTo>
                      <a:pt x="469" y="79"/>
                    </a:moveTo>
                    <a:cubicBezTo>
                      <a:pt x="470" y="76"/>
                      <a:pt x="471" y="73"/>
                      <a:pt x="472" y="70"/>
                    </a:cubicBezTo>
                    <a:cubicBezTo>
                      <a:pt x="471" y="73"/>
                      <a:pt x="470" y="76"/>
                      <a:pt x="469" y="79"/>
                    </a:cubicBezTo>
                    <a:close/>
                    <a:moveTo>
                      <a:pt x="1317" y="83"/>
                    </a:moveTo>
                    <a:cubicBezTo>
                      <a:pt x="1316" y="81"/>
                      <a:pt x="1315" y="79"/>
                      <a:pt x="1314" y="78"/>
                    </a:cubicBezTo>
                    <a:cubicBezTo>
                      <a:pt x="1315" y="79"/>
                      <a:pt x="1316" y="81"/>
                      <a:pt x="1317" y="83"/>
                    </a:cubicBezTo>
                    <a:close/>
                    <a:moveTo>
                      <a:pt x="3042" y="83"/>
                    </a:moveTo>
                    <a:cubicBezTo>
                      <a:pt x="3040" y="80"/>
                      <a:pt x="3039" y="77"/>
                      <a:pt x="3038" y="75"/>
                    </a:cubicBezTo>
                    <a:cubicBezTo>
                      <a:pt x="3039" y="78"/>
                      <a:pt x="3040" y="80"/>
                      <a:pt x="3042" y="83"/>
                    </a:cubicBezTo>
                    <a:close/>
                    <a:moveTo>
                      <a:pt x="2683" y="105"/>
                    </a:moveTo>
                    <a:cubicBezTo>
                      <a:pt x="2683" y="103"/>
                      <a:pt x="2683" y="101"/>
                      <a:pt x="2683" y="99"/>
                    </a:cubicBezTo>
                    <a:cubicBezTo>
                      <a:pt x="2683" y="101"/>
                      <a:pt x="2683" y="103"/>
                      <a:pt x="2683" y="105"/>
                    </a:cubicBezTo>
                    <a:close/>
                    <a:moveTo>
                      <a:pt x="2088" y="79"/>
                    </a:moveTo>
                    <a:cubicBezTo>
                      <a:pt x="2087" y="76"/>
                      <a:pt x="2086" y="73"/>
                      <a:pt x="2084" y="70"/>
                    </a:cubicBezTo>
                    <a:cubicBezTo>
                      <a:pt x="2086" y="73"/>
                      <a:pt x="2087" y="76"/>
                      <a:pt x="2088" y="79"/>
                    </a:cubicBezTo>
                    <a:close/>
                    <a:moveTo>
                      <a:pt x="4481" y="105"/>
                    </a:moveTo>
                    <a:cubicBezTo>
                      <a:pt x="4481" y="103"/>
                      <a:pt x="4481" y="101"/>
                      <a:pt x="4481" y="99"/>
                    </a:cubicBezTo>
                    <a:cubicBezTo>
                      <a:pt x="4481" y="101"/>
                      <a:pt x="4481" y="103"/>
                      <a:pt x="4481" y="105"/>
                    </a:cubicBezTo>
                    <a:close/>
                    <a:moveTo>
                      <a:pt x="1244" y="83"/>
                    </a:moveTo>
                    <a:cubicBezTo>
                      <a:pt x="1242" y="80"/>
                      <a:pt x="1241" y="77"/>
                      <a:pt x="1240" y="75"/>
                    </a:cubicBezTo>
                    <a:cubicBezTo>
                      <a:pt x="1241" y="78"/>
                      <a:pt x="1242" y="80"/>
                      <a:pt x="1244" y="83"/>
                    </a:cubicBezTo>
                    <a:close/>
                    <a:moveTo>
                      <a:pt x="3941" y="33"/>
                    </a:moveTo>
                    <a:cubicBezTo>
                      <a:pt x="3941" y="30"/>
                      <a:pt x="3941" y="28"/>
                      <a:pt x="3940" y="25"/>
                    </a:cubicBezTo>
                    <a:cubicBezTo>
                      <a:pt x="3940" y="25"/>
                      <a:pt x="3941" y="28"/>
                      <a:pt x="3941" y="33"/>
                    </a:cubicBezTo>
                    <a:close/>
                    <a:moveTo>
                      <a:pt x="3210" y="88"/>
                    </a:moveTo>
                    <a:cubicBezTo>
                      <a:pt x="3209" y="86"/>
                      <a:pt x="3208" y="83"/>
                      <a:pt x="3206" y="81"/>
                    </a:cubicBezTo>
                    <a:cubicBezTo>
                      <a:pt x="3207" y="83"/>
                      <a:pt x="3209" y="86"/>
                      <a:pt x="3210" y="88"/>
                    </a:cubicBezTo>
                    <a:close/>
                    <a:moveTo>
                      <a:pt x="3068" y="81"/>
                    </a:moveTo>
                    <a:cubicBezTo>
                      <a:pt x="3062" y="61"/>
                      <a:pt x="3051" y="46"/>
                      <a:pt x="3035" y="25"/>
                    </a:cubicBezTo>
                    <a:cubicBezTo>
                      <a:pt x="3051" y="48"/>
                      <a:pt x="3061" y="64"/>
                      <a:pt x="3068" y="81"/>
                    </a:cubicBezTo>
                    <a:close/>
                    <a:moveTo>
                      <a:pt x="3078" y="79"/>
                    </a:moveTo>
                    <a:cubicBezTo>
                      <a:pt x="3077" y="76"/>
                      <a:pt x="3076" y="73"/>
                      <a:pt x="3074" y="70"/>
                    </a:cubicBezTo>
                    <a:cubicBezTo>
                      <a:pt x="3075" y="73"/>
                      <a:pt x="3077" y="76"/>
                      <a:pt x="3078" y="79"/>
                    </a:cubicBezTo>
                    <a:close/>
                    <a:moveTo>
                      <a:pt x="3317" y="102"/>
                    </a:moveTo>
                    <a:cubicBezTo>
                      <a:pt x="3316" y="100"/>
                      <a:pt x="3315" y="97"/>
                      <a:pt x="3314" y="96"/>
                    </a:cubicBezTo>
                    <a:cubicBezTo>
                      <a:pt x="3315" y="98"/>
                      <a:pt x="3316" y="100"/>
                      <a:pt x="3317" y="102"/>
                    </a:cubicBezTo>
                    <a:close/>
                    <a:moveTo>
                      <a:pt x="3531" y="109"/>
                    </a:moveTo>
                    <a:cubicBezTo>
                      <a:pt x="3530" y="104"/>
                      <a:pt x="3530" y="99"/>
                      <a:pt x="3529" y="95"/>
                    </a:cubicBezTo>
                    <a:cubicBezTo>
                      <a:pt x="3529" y="99"/>
                      <a:pt x="3530" y="104"/>
                      <a:pt x="3531" y="109"/>
                    </a:cubicBezTo>
                    <a:close/>
                    <a:moveTo>
                      <a:pt x="3370" y="100"/>
                    </a:moveTo>
                    <a:cubicBezTo>
                      <a:pt x="3370" y="97"/>
                      <a:pt x="3369" y="95"/>
                      <a:pt x="3368" y="93"/>
                    </a:cubicBezTo>
                    <a:cubicBezTo>
                      <a:pt x="3369" y="96"/>
                      <a:pt x="3370" y="98"/>
                      <a:pt x="3370" y="100"/>
                    </a:cubicBezTo>
                    <a:close/>
                    <a:moveTo>
                      <a:pt x="3610" y="81"/>
                    </a:moveTo>
                    <a:cubicBezTo>
                      <a:pt x="3608" y="75"/>
                      <a:pt x="3606" y="70"/>
                      <a:pt x="3604" y="67"/>
                    </a:cubicBezTo>
                    <a:cubicBezTo>
                      <a:pt x="3604" y="67"/>
                      <a:pt x="3607" y="72"/>
                      <a:pt x="3610" y="81"/>
                    </a:cubicBezTo>
                    <a:close/>
                    <a:moveTo>
                      <a:pt x="2720" y="54"/>
                    </a:moveTo>
                    <a:cubicBezTo>
                      <a:pt x="2720" y="53"/>
                      <a:pt x="2719" y="52"/>
                      <a:pt x="2719" y="52"/>
                    </a:cubicBezTo>
                    <a:cubicBezTo>
                      <a:pt x="2720" y="53"/>
                      <a:pt x="2720" y="53"/>
                      <a:pt x="2720" y="54"/>
                    </a:cubicBezTo>
                    <a:close/>
                    <a:moveTo>
                      <a:pt x="2715" y="90"/>
                    </a:moveTo>
                    <a:cubicBezTo>
                      <a:pt x="2715" y="89"/>
                      <a:pt x="2714" y="87"/>
                      <a:pt x="2713" y="86"/>
                    </a:cubicBezTo>
                    <a:cubicBezTo>
                      <a:pt x="2714" y="87"/>
                      <a:pt x="2715" y="89"/>
                      <a:pt x="2715" y="90"/>
                    </a:cubicBezTo>
                    <a:close/>
                    <a:moveTo>
                      <a:pt x="2835" y="54"/>
                    </a:moveTo>
                    <a:cubicBezTo>
                      <a:pt x="2835" y="54"/>
                      <a:pt x="2835" y="65"/>
                      <a:pt x="2834" y="84"/>
                    </a:cubicBezTo>
                    <a:cubicBezTo>
                      <a:pt x="2836" y="72"/>
                      <a:pt x="2837" y="60"/>
                      <a:pt x="2835" y="54"/>
                    </a:cubicBezTo>
                    <a:close/>
                    <a:moveTo>
                      <a:pt x="2890" y="106"/>
                    </a:moveTo>
                    <a:cubicBezTo>
                      <a:pt x="2890" y="103"/>
                      <a:pt x="2889" y="100"/>
                      <a:pt x="2889" y="96"/>
                    </a:cubicBezTo>
                    <a:cubicBezTo>
                      <a:pt x="2889" y="99"/>
                      <a:pt x="2890" y="103"/>
                      <a:pt x="2890" y="106"/>
                    </a:cubicBezTo>
                    <a:close/>
                    <a:moveTo>
                      <a:pt x="2795" y="47"/>
                    </a:moveTo>
                    <a:cubicBezTo>
                      <a:pt x="2795" y="39"/>
                      <a:pt x="2795" y="33"/>
                      <a:pt x="2793" y="30"/>
                    </a:cubicBezTo>
                    <a:cubicBezTo>
                      <a:pt x="2793" y="30"/>
                      <a:pt x="2794" y="37"/>
                      <a:pt x="2795" y="47"/>
                    </a:cubicBezTo>
                    <a:close/>
                    <a:moveTo>
                      <a:pt x="3995" y="44"/>
                    </a:moveTo>
                    <a:cubicBezTo>
                      <a:pt x="3995" y="43"/>
                      <a:pt x="3995" y="41"/>
                      <a:pt x="3995" y="40"/>
                    </a:cubicBezTo>
                    <a:cubicBezTo>
                      <a:pt x="3995" y="40"/>
                      <a:pt x="3995" y="42"/>
                      <a:pt x="3995" y="44"/>
                    </a:cubicBezTo>
                    <a:close/>
                    <a:moveTo>
                      <a:pt x="4211" y="68"/>
                    </a:moveTo>
                    <a:cubicBezTo>
                      <a:pt x="4211" y="65"/>
                      <a:pt x="4210" y="64"/>
                      <a:pt x="4210" y="64"/>
                    </a:cubicBezTo>
                    <a:cubicBezTo>
                      <a:pt x="4210" y="64"/>
                      <a:pt x="4211" y="66"/>
                      <a:pt x="4211" y="68"/>
                    </a:cubicBezTo>
                    <a:close/>
                    <a:moveTo>
                      <a:pt x="3956" y="52"/>
                    </a:moveTo>
                    <a:cubicBezTo>
                      <a:pt x="3956" y="50"/>
                      <a:pt x="3956" y="49"/>
                      <a:pt x="3956" y="49"/>
                    </a:cubicBezTo>
                    <a:cubicBezTo>
                      <a:pt x="3956" y="50"/>
                      <a:pt x="3956" y="51"/>
                      <a:pt x="3956" y="52"/>
                    </a:cubicBezTo>
                    <a:close/>
                    <a:moveTo>
                      <a:pt x="2672" y="52"/>
                    </a:moveTo>
                    <a:cubicBezTo>
                      <a:pt x="2672" y="50"/>
                      <a:pt x="2672" y="49"/>
                      <a:pt x="2672" y="49"/>
                    </a:cubicBezTo>
                    <a:cubicBezTo>
                      <a:pt x="2672" y="50"/>
                      <a:pt x="2672" y="51"/>
                      <a:pt x="2672" y="52"/>
                    </a:cubicBezTo>
                    <a:close/>
                    <a:moveTo>
                      <a:pt x="4169" y="66"/>
                    </a:moveTo>
                    <a:cubicBezTo>
                      <a:pt x="4169" y="63"/>
                      <a:pt x="4169" y="61"/>
                      <a:pt x="4170" y="59"/>
                    </a:cubicBezTo>
                    <a:cubicBezTo>
                      <a:pt x="4170" y="59"/>
                      <a:pt x="4169" y="62"/>
                      <a:pt x="4169" y="66"/>
                    </a:cubicBezTo>
                    <a:close/>
                    <a:moveTo>
                      <a:pt x="4178" y="100"/>
                    </a:moveTo>
                    <a:cubicBezTo>
                      <a:pt x="4178" y="97"/>
                      <a:pt x="4177" y="95"/>
                      <a:pt x="4177" y="93"/>
                    </a:cubicBezTo>
                    <a:cubicBezTo>
                      <a:pt x="4177" y="96"/>
                      <a:pt x="4178" y="98"/>
                      <a:pt x="4178" y="100"/>
                    </a:cubicBezTo>
                    <a:close/>
                    <a:moveTo>
                      <a:pt x="3772" y="100"/>
                    </a:moveTo>
                    <a:cubicBezTo>
                      <a:pt x="3773" y="98"/>
                      <a:pt x="3773" y="96"/>
                      <a:pt x="3774" y="93"/>
                    </a:cubicBezTo>
                    <a:cubicBezTo>
                      <a:pt x="3773" y="95"/>
                      <a:pt x="3773" y="97"/>
                      <a:pt x="3772" y="100"/>
                    </a:cubicBezTo>
                    <a:close/>
                    <a:moveTo>
                      <a:pt x="3923" y="83"/>
                    </a:moveTo>
                    <a:cubicBezTo>
                      <a:pt x="3922" y="81"/>
                      <a:pt x="3921" y="79"/>
                      <a:pt x="3920" y="78"/>
                    </a:cubicBezTo>
                    <a:cubicBezTo>
                      <a:pt x="3921" y="79"/>
                      <a:pt x="3922" y="81"/>
                      <a:pt x="3923" y="83"/>
                    </a:cubicBezTo>
                    <a:close/>
                    <a:moveTo>
                      <a:pt x="3726" y="68"/>
                    </a:moveTo>
                    <a:cubicBezTo>
                      <a:pt x="3726" y="66"/>
                      <a:pt x="3726" y="65"/>
                      <a:pt x="3726" y="64"/>
                    </a:cubicBezTo>
                    <a:cubicBezTo>
                      <a:pt x="3726" y="64"/>
                      <a:pt x="3726" y="65"/>
                      <a:pt x="3726" y="68"/>
                    </a:cubicBezTo>
                    <a:close/>
                    <a:moveTo>
                      <a:pt x="3705" y="90"/>
                    </a:moveTo>
                    <a:cubicBezTo>
                      <a:pt x="3705" y="89"/>
                      <a:pt x="3704" y="87"/>
                      <a:pt x="3703" y="86"/>
                    </a:cubicBezTo>
                    <a:cubicBezTo>
                      <a:pt x="3704" y="87"/>
                      <a:pt x="3704" y="89"/>
                      <a:pt x="3705" y="90"/>
                    </a:cubicBezTo>
                    <a:close/>
                    <a:moveTo>
                      <a:pt x="3648" y="13"/>
                    </a:moveTo>
                    <a:cubicBezTo>
                      <a:pt x="3648" y="12"/>
                      <a:pt x="3648" y="12"/>
                      <a:pt x="3648" y="12"/>
                    </a:cubicBezTo>
                    <a:cubicBezTo>
                      <a:pt x="3648" y="12"/>
                      <a:pt x="3648" y="13"/>
                      <a:pt x="3648" y="13"/>
                    </a:cubicBezTo>
                    <a:close/>
                    <a:moveTo>
                      <a:pt x="3770" y="61"/>
                    </a:moveTo>
                    <a:cubicBezTo>
                      <a:pt x="3770" y="55"/>
                      <a:pt x="3769" y="49"/>
                      <a:pt x="3768" y="44"/>
                    </a:cubicBezTo>
                    <a:cubicBezTo>
                      <a:pt x="3768" y="44"/>
                      <a:pt x="3769" y="51"/>
                      <a:pt x="3770" y="6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12109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32"/>
              <p:cNvSpPr/>
              <p:nvPr/>
            </p:nvSpPr>
            <p:spPr>
              <a:xfrm flipV="1">
                <a:off x="14847840" y="3043800"/>
                <a:ext cx="15131880" cy="528480"/>
              </a:xfrm>
              <a:custGeom>
                <a:avLst/>
                <a:gdLst/>
                <a:ahLst/>
                <a:rect l="l" t="t" r="r" b="b"/>
                <a:pathLst>
                  <a:path w="4763" h="166">
                    <a:moveTo>
                      <a:pt x="1928" y="68"/>
                    </a:moveTo>
                    <a:cubicBezTo>
                      <a:pt x="1928" y="66"/>
                      <a:pt x="1928" y="65"/>
                      <a:pt x="1928" y="64"/>
                    </a:cubicBezTo>
                    <a:cubicBezTo>
                      <a:pt x="1928" y="65"/>
                      <a:pt x="1928" y="66"/>
                      <a:pt x="1928" y="68"/>
                    </a:cubicBezTo>
                    <a:close/>
                    <a:moveTo>
                      <a:pt x="1972" y="61"/>
                    </a:moveTo>
                    <a:cubicBezTo>
                      <a:pt x="1972" y="55"/>
                      <a:pt x="1971" y="49"/>
                      <a:pt x="1970" y="44"/>
                    </a:cubicBezTo>
                    <a:cubicBezTo>
                      <a:pt x="1970" y="44"/>
                      <a:pt x="1971" y="51"/>
                      <a:pt x="1972" y="61"/>
                    </a:cubicBezTo>
                    <a:close/>
                    <a:moveTo>
                      <a:pt x="1907" y="90"/>
                    </a:moveTo>
                    <a:cubicBezTo>
                      <a:pt x="1907" y="89"/>
                      <a:pt x="1906" y="87"/>
                      <a:pt x="1905" y="86"/>
                    </a:cubicBezTo>
                    <a:cubicBezTo>
                      <a:pt x="1906" y="87"/>
                      <a:pt x="1906" y="89"/>
                      <a:pt x="1907" y="90"/>
                    </a:cubicBezTo>
                    <a:close/>
                    <a:moveTo>
                      <a:pt x="1733" y="109"/>
                    </a:moveTo>
                    <a:cubicBezTo>
                      <a:pt x="1732" y="104"/>
                      <a:pt x="1732" y="99"/>
                      <a:pt x="1731" y="95"/>
                    </a:cubicBezTo>
                    <a:cubicBezTo>
                      <a:pt x="1731" y="99"/>
                      <a:pt x="1732" y="104"/>
                      <a:pt x="1733" y="109"/>
                    </a:cubicBezTo>
                    <a:close/>
                    <a:moveTo>
                      <a:pt x="1412" y="88"/>
                    </a:moveTo>
                    <a:cubicBezTo>
                      <a:pt x="1411" y="86"/>
                      <a:pt x="1410" y="83"/>
                      <a:pt x="1408" y="81"/>
                    </a:cubicBezTo>
                    <a:cubicBezTo>
                      <a:pt x="1409" y="83"/>
                      <a:pt x="1411" y="86"/>
                      <a:pt x="1412" y="88"/>
                    </a:cubicBezTo>
                    <a:close/>
                    <a:moveTo>
                      <a:pt x="1519" y="102"/>
                    </a:moveTo>
                    <a:cubicBezTo>
                      <a:pt x="1518" y="100"/>
                      <a:pt x="1517" y="97"/>
                      <a:pt x="1516" y="96"/>
                    </a:cubicBezTo>
                    <a:cubicBezTo>
                      <a:pt x="1517" y="98"/>
                      <a:pt x="1518" y="100"/>
                      <a:pt x="1519" y="102"/>
                    </a:cubicBezTo>
                    <a:close/>
                    <a:moveTo>
                      <a:pt x="1280" y="79"/>
                    </a:moveTo>
                    <a:cubicBezTo>
                      <a:pt x="1279" y="76"/>
                      <a:pt x="1278" y="73"/>
                      <a:pt x="1276" y="70"/>
                    </a:cubicBezTo>
                    <a:cubicBezTo>
                      <a:pt x="1278" y="73"/>
                      <a:pt x="1279" y="76"/>
                      <a:pt x="1280" y="79"/>
                    </a:cubicBezTo>
                    <a:close/>
                    <a:moveTo>
                      <a:pt x="1270" y="81"/>
                    </a:moveTo>
                    <a:cubicBezTo>
                      <a:pt x="1264" y="61"/>
                      <a:pt x="1253" y="46"/>
                      <a:pt x="1237" y="25"/>
                    </a:cubicBezTo>
                    <a:cubicBezTo>
                      <a:pt x="1253" y="48"/>
                      <a:pt x="1263" y="64"/>
                      <a:pt x="1270" y="81"/>
                    </a:cubicBezTo>
                    <a:close/>
                    <a:moveTo>
                      <a:pt x="1572" y="100"/>
                    </a:moveTo>
                    <a:cubicBezTo>
                      <a:pt x="1572" y="97"/>
                      <a:pt x="1571" y="95"/>
                      <a:pt x="1570" y="93"/>
                    </a:cubicBezTo>
                    <a:cubicBezTo>
                      <a:pt x="1571" y="96"/>
                      <a:pt x="1572" y="98"/>
                      <a:pt x="1572" y="100"/>
                    </a:cubicBezTo>
                    <a:close/>
                    <a:moveTo>
                      <a:pt x="1812" y="81"/>
                    </a:moveTo>
                    <a:cubicBezTo>
                      <a:pt x="1810" y="75"/>
                      <a:pt x="1808" y="70"/>
                      <a:pt x="1806" y="67"/>
                    </a:cubicBezTo>
                    <a:cubicBezTo>
                      <a:pt x="1806" y="67"/>
                      <a:pt x="1809" y="72"/>
                      <a:pt x="1812" y="81"/>
                    </a:cubicBezTo>
                    <a:close/>
                    <a:moveTo>
                      <a:pt x="1850" y="13"/>
                    </a:moveTo>
                    <a:cubicBezTo>
                      <a:pt x="1850" y="12"/>
                      <a:pt x="1850" y="12"/>
                      <a:pt x="1850" y="12"/>
                    </a:cubicBezTo>
                    <a:cubicBezTo>
                      <a:pt x="1850" y="12"/>
                      <a:pt x="1850" y="13"/>
                      <a:pt x="1850" y="13"/>
                    </a:cubicBezTo>
                    <a:close/>
                    <a:moveTo>
                      <a:pt x="1974" y="100"/>
                    </a:moveTo>
                    <a:cubicBezTo>
                      <a:pt x="1975" y="98"/>
                      <a:pt x="1975" y="96"/>
                      <a:pt x="1976" y="93"/>
                    </a:cubicBezTo>
                    <a:cubicBezTo>
                      <a:pt x="1975" y="95"/>
                      <a:pt x="1975" y="97"/>
                      <a:pt x="1974" y="100"/>
                    </a:cubicBezTo>
                    <a:close/>
                    <a:moveTo>
                      <a:pt x="2660" y="105"/>
                    </a:moveTo>
                    <a:cubicBezTo>
                      <a:pt x="2660" y="103"/>
                      <a:pt x="2660" y="101"/>
                      <a:pt x="2659" y="99"/>
                    </a:cubicBezTo>
                    <a:cubicBezTo>
                      <a:pt x="2659" y="101"/>
                      <a:pt x="2660" y="103"/>
                      <a:pt x="2660" y="105"/>
                    </a:cubicBezTo>
                    <a:close/>
                    <a:moveTo>
                      <a:pt x="2371" y="66"/>
                    </a:moveTo>
                    <a:cubicBezTo>
                      <a:pt x="2371" y="63"/>
                      <a:pt x="2371" y="61"/>
                      <a:pt x="2372" y="59"/>
                    </a:cubicBezTo>
                    <a:cubicBezTo>
                      <a:pt x="2372" y="59"/>
                      <a:pt x="2371" y="62"/>
                      <a:pt x="2371" y="66"/>
                    </a:cubicBezTo>
                    <a:close/>
                    <a:moveTo>
                      <a:pt x="2380" y="100"/>
                    </a:moveTo>
                    <a:cubicBezTo>
                      <a:pt x="2380" y="97"/>
                      <a:pt x="2379" y="95"/>
                      <a:pt x="2379" y="93"/>
                    </a:cubicBezTo>
                    <a:cubicBezTo>
                      <a:pt x="2379" y="96"/>
                      <a:pt x="2380" y="98"/>
                      <a:pt x="2380" y="100"/>
                    </a:cubicBezTo>
                    <a:close/>
                    <a:moveTo>
                      <a:pt x="2413" y="68"/>
                    </a:moveTo>
                    <a:cubicBezTo>
                      <a:pt x="2413" y="65"/>
                      <a:pt x="2412" y="64"/>
                      <a:pt x="2412" y="64"/>
                    </a:cubicBezTo>
                    <a:cubicBezTo>
                      <a:pt x="2412" y="64"/>
                      <a:pt x="2413" y="66"/>
                      <a:pt x="2413" y="68"/>
                    </a:cubicBezTo>
                    <a:close/>
                    <a:moveTo>
                      <a:pt x="2486" y="61"/>
                    </a:moveTo>
                    <a:cubicBezTo>
                      <a:pt x="2486" y="55"/>
                      <a:pt x="2485" y="49"/>
                      <a:pt x="2484" y="44"/>
                    </a:cubicBezTo>
                    <a:cubicBezTo>
                      <a:pt x="2484" y="44"/>
                      <a:pt x="2485" y="51"/>
                      <a:pt x="2486" y="61"/>
                    </a:cubicBezTo>
                    <a:close/>
                    <a:moveTo>
                      <a:pt x="2562" y="68"/>
                    </a:moveTo>
                    <a:cubicBezTo>
                      <a:pt x="2562" y="68"/>
                      <a:pt x="2562" y="71"/>
                      <a:pt x="2562" y="75"/>
                    </a:cubicBezTo>
                    <a:cubicBezTo>
                      <a:pt x="2562" y="72"/>
                      <a:pt x="2562" y="70"/>
                      <a:pt x="2562" y="68"/>
                    </a:cubicBezTo>
                    <a:close/>
                    <a:moveTo>
                      <a:pt x="2197" y="44"/>
                    </a:moveTo>
                    <a:cubicBezTo>
                      <a:pt x="2197" y="43"/>
                      <a:pt x="2197" y="41"/>
                      <a:pt x="2197" y="40"/>
                    </a:cubicBezTo>
                    <a:cubicBezTo>
                      <a:pt x="2197" y="40"/>
                      <a:pt x="2197" y="42"/>
                      <a:pt x="2197" y="44"/>
                    </a:cubicBezTo>
                    <a:close/>
                    <a:moveTo>
                      <a:pt x="2125" y="83"/>
                    </a:moveTo>
                    <a:cubicBezTo>
                      <a:pt x="2124" y="81"/>
                      <a:pt x="2123" y="79"/>
                      <a:pt x="2122" y="78"/>
                    </a:cubicBezTo>
                    <a:cubicBezTo>
                      <a:pt x="2123" y="79"/>
                      <a:pt x="2124" y="81"/>
                      <a:pt x="2125" y="83"/>
                    </a:cubicBezTo>
                    <a:close/>
                    <a:moveTo>
                      <a:pt x="2569" y="62"/>
                    </a:moveTo>
                    <a:cubicBezTo>
                      <a:pt x="2569" y="61"/>
                      <a:pt x="2569" y="60"/>
                      <a:pt x="2569" y="60"/>
                    </a:cubicBezTo>
                    <a:cubicBezTo>
                      <a:pt x="2569" y="60"/>
                      <a:pt x="2569" y="61"/>
                      <a:pt x="2569" y="62"/>
                    </a:cubicBezTo>
                    <a:close/>
                    <a:moveTo>
                      <a:pt x="2158" y="52"/>
                    </a:moveTo>
                    <a:cubicBezTo>
                      <a:pt x="2158" y="50"/>
                      <a:pt x="2158" y="49"/>
                      <a:pt x="2158" y="49"/>
                    </a:cubicBezTo>
                    <a:cubicBezTo>
                      <a:pt x="2158" y="50"/>
                      <a:pt x="2158" y="51"/>
                      <a:pt x="2158" y="52"/>
                    </a:cubicBezTo>
                    <a:close/>
                    <a:moveTo>
                      <a:pt x="2143" y="33"/>
                    </a:moveTo>
                    <a:cubicBezTo>
                      <a:pt x="2143" y="30"/>
                      <a:pt x="2143" y="28"/>
                      <a:pt x="2142" y="25"/>
                    </a:cubicBezTo>
                    <a:cubicBezTo>
                      <a:pt x="2142" y="25"/>
                      <a:pt x="2143" y="28"/>
                      <a:pt x="2143" y="33"/>
                    </a:cubicBezTo>
                    <a:close/>
                    <a:moveTo>
                      <a:pt x="2441" y="67"/>
                    </a:moveTo>
                    <a:cubicBezTo>
                      <a:pt x="2442" y="66"/>
                      <a:pt x="2442" y="65"/>
                      <a:pt x="2441" y="64"/>
                    </a:cubicBezTo>
                    <a:cubicBezTo>
                      <a:pt x="2441" y="64"/>
                      <a:pt x="2441" y="65"/>
                      <a:pt x="2441" y="67"/>
                    </a:cubicBezTo>
                    <a:close/>
                    <a:moveTo>
                      <a:pt x="130" y="68"/>
                    </a:moveTo>
                    <a:cubicBezTo>
                      <a:pt x="130" y="66"/>
                      <a:pt x="130" y="65"/>
                      <a:pt x="130" y="64"/>
                    </a:cubicBezTo>
                    <a:cubicBezTo>
                      <a:pt x="130" y="64"/>
                      <a:pt x="130" y="65"/>
                      <a:pt x="130" y="68"/>
                    </a:cubicBezTo>
                    <a:close/>
                    <a:moveTo>
                      <a:pt x="360" y="52"/>
                    </a:moveTo>
                    <a:cubicBezTo>
                      <a:pt x="360" y="50"/>
                      <a:pt x="360" y="49"/>
                      <a:pt x="360" y="49"/>
                    </a:cubicBezTo>
                    <a:cubicBezTo>
                      <a:pt x="360" y="50"/>
                      <a:pt x="360" y="51"/>
                      <a:pt x="360" y="52"/>
                    </a:cubicBezTo>
                    <a:close/>
                    <a:moveTo>
                      <a:pt x="345" y="33"/>
                    </a:moveTo>
                    <a:cubicBezTo>
                      <a:pt x="345" y="30"/>
                      <a:pt x="345" y="28"/>
                      <a:pt x="344" y="25"/>
                    </a:cubicBezTo>
                    <a:cubicBezTo>
                      <a:pt x="344" y="25"/>
                      <a:pt x="345" y="28"/>
                      <a:pt x="345" y="33"/>
                    </a:cubicBezTo>
                    <a:close/>
                    <a:moveTo>
                      <a:pt x="327" y="83"/>
                    </a:moveTo>
                    <a:cubicBezTo>
                      <a:pt x="326" y="81"/>
                      <a:pt x="325" y="79"/>
                      <a:pt x="324" y="78"/>
                    </a:cubicBezTo>
                    <a:cubicBezTo>
                      <a:pt x="325" y="79"/>
                      <a:pt x="326" y="81"/>
                      <a:pt x="327" y="83"/>
                    </a:cubicBezTo>
                    <a:close/>
                    <a:moveTo>
                      <a:pt x="399" y="44"/>
                    </a:moveTo>
                    <a:cubicBezTo>
                      <a:pt x="399" y="43"/>
                      <a:pt x="399" y="41"/>
                      <a:pt x="399" y="40"/>
                    </a:cubicBezTo>
                    <a:cubicBezTo>
                      <a:pt x="399" y="40"/>
                      <a:pt x="399" y="42"/>
                      <a:pt x="399" y="44"/>
                    </a:cubicBezTo>
                    <a:close/>
                    <a:moveTo>
                      <a:pt x="176" y="100"/>
                    </a:moveTo>
                    <a:cubicBezTo>
                      <a:pt x="177" y="98"/>
                      <a:pt x="177" y="96"/>
                      <a:pt x="178" y="93"/>
                    </a:cubicBezTo>
                    <a:cubicBezTo>
                      <a:pt x="177" y="95"/>
                      <a:pt x="177" y="97"/>
                      <a:pt x="176" y="100"/>
                    </a:cubicBezTo>
                    <a:close/>
                    <a:moveTo>
                      <a:pt x="573" y="66"/>
                    </a:moveTo>
                    <a:cubicBezTo>
                      <a:pt x="573" y="63"/>
                      <a:pt x="574" y="61"/>
                      <a:pt x="574" y="59"/>
                    </a:cubicBezTo>
                    <a:cubicBezTo>
                      <a:pt x="574" y="59"/>
                      <a:pt x="573" y="62"/>
                      <a:pt x="573" y="66"/>
                    </a:cubicBezTo>
                    <a:close/>
                    <a:moveTo>
                      <a:pt x="14" y="81"/>
                    </a:moveTo>
                    <a:cubicBezTo>
                      <a:pt x="12" y="75"/>
                      <a:pt x="10" y="70"/>
                      <a:pt x="9" y="67"/>
                    </a:cubicBezTo>
                    <a:cubicBezTo>
                      <a:pt x="9" y="67"/>
                      <a:pt x="11" y="72"/>
                      <a:pt x="14" y="81"/>
                    </a:cubicBezTo>
                    <a:close/>
                    <a:moveTo>
                      <a:pt x="52" y="13"/>
                    </a:move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3"/>
                      <a:pt x="52" y="13"/>
                    </a:cubicBezTo>
                    <a:close/>
                    <a:moveTo>
                      <a:pt x="583" y="100"/>
                    </a:moveTo>
                    <a:cubicBezTo>
                      <a:pt x="582" y="97"/>
                      <a:pt x="582" y="95"/>
                      <a:pt x="581" y="93"/>
                    </a:cubicBezTo>
                    <a:cubicBezTo>
                      <a:pt x="581" y="96"/>
                      <a:pt x="582" y="98"/>
                      <a:pt x="583" y="100"/>
                    </a:cubicBezTo>
                    <a:close/>
                    <a:moveTo>
                      <a:pt x="2668" y="65"/>
                    </a:moveTo>
                    <a:cubicBezTo>
                      <a:pt x="2668" y="64"/>
                      <a:pt x="2668" y="63"/>
                      <a:pt x="2668" y="63"/>
                    </a:cubicBezTo>
                    <a:cubicBezTo>
                      <a:pt x="2668" y="63"/>
                      <a:pt x="2668" y="64"/>
                      <a:pt x="2668" y="65"/>
                    </a:cubicBezTo>
                    <a:close/>
                    <a:moveTo>
                      <a:pt x="109" y="90"/>
                    </a:moveTo>
                    <a:cubicBezTo>
                      <a:pt x="109" y="89"/>
                      <a:pt x="108" y="87"/>
                      <a:pt x="107" y="86"/>
                    </a:cubicBezTo>
                    <a:cubicBezTo>
                      <a:pt x="108" y="87"/>
                      <a:pt x="109" y="89"/>
                      <a:pt x="109" y="90"/>
                    </a:cubicBezTo>
                    <a:close/>
                    <a:moveTo>
                      <a:pt x="174" y="61"/>
                    </a:moveTo>
                    <a:cubicBezTo>
                      <a:pt x="174" y="55"/>
                      <a:pt x="174" y="49"/>
                      <a:pt x="172" y="44"/>
                    </a:cubicBezTo>
                    <a:cubicBezTo>
                      <a:pt x="172" y="44"/>
                      <a:pt x="173" y="51"/>
                      <a:pt x="174" y="61"/>
                    </a:cubicBezTo>
                    <a:close/>
                    <a:moveTo>
                      <a:pt x="615" y="68"/>
                    </a:moveTo>
                    <a:cubicBezTo>
                      <a:pt x="615" y="65"/>
                      <a:pt x="614" y="64"/>
                      <a:pt x="614" y="64"/>
                    </a:cubicBezTo>
                    <a:cubicBezTo>
                      <a:pt x="614" y="64"/>
                      <a:pt x="615" y="66"/>
                      <a:pt x="615" y="68"/>
                    </a:cubicBezTo>
                    <a:close/>
                    <a:moveTo>
                      <a:pt x="922" y="54"/>
                    </a:moveTo>
                    <a:cubicBezTo>
                      <a:pt x="922" y="53"/>
                      <a:pt x="922" y="52"/>
                      <a:pt x="922" y="52"/>
                    </a:cubicBezTo>
                    <a:cubicBezTo>
                      <a:pt x="922" y="53"/>
                      <a:pt x="922" y="53"/>
                      <a:pt x="922" y="54"/>
                    </a:cubicBezTo>
                    <a:close/>
                    <a:moveTo>
                      <a:pt x="870" y="65"/>
                    </a:moveTo>
                    <a:cubicBezTo>
                      <a:pt x="870" y="64"/>
                      <a:pt x="870" y="63"/>
                      <a:pt x="870" y="63"/>
                    </a:cubicBezTo>
                    <a:cubicBezTo>
                      <a:pt x="870" y="63"/>
                      <a:pt x="870" y="64"/>
                      <a:pt x="870" y="65"/>
                    </a:cubicBezTo>
                    <a:close/>
                    <a:moveTo>
                      <a:pt x="874" y="52"/>
                    </a:moveTo>
                    <a:cubicBezTo>
                      <a:pt x="874" y="50"/>
                      <a:pt x="874" y="49"/>
                      <a:pt x="874" y="49"/>
                    </a:cubicBezTo>
                    <a:cubicBezTo>
                      <a:pt x="874" y="50"/>
                      <a:pt x="874" y="51"/>
                      <a:pt x="874" y="52"/>
                    </a:cubicBezTo>
                    <a:close/>
                    <a:moveTo>
                      <a:pt x="918" y="90"/>
                    </a:moveTo>
                    <a:cubicBezTo>
                      <a:pt x="917" y="89"/>
                      <a:pt x="916" y="87"/>
                      <a:pt x="915" y="86"/>
                    </a:cubicBezTo>
                    <a:cubicBezTo>
                      <a:pt x="916" y="87"/>
                      <a:pt x="917" y="89"/>
                      <a:pt x="918" y="90"/>
                    </a:cubicBezTo>
                    <a:close/>
                    <a:moveTo>
                      <a:pt x="1037" y="54"/>
                    </a:moveTo>
                    <a:cubicBezTo>
                      <a:pt x="1037" y="54"/>
                      <a:pt x="1037" y="65"/>
                      <a:pt x="1036" y="84"/>
                    </a:cubicBezTo>
                    <a:cubicBezTo>
                      <a:pt x="1038" y="72"/>
                      <a:pt x="1039" y="60"/>
                      <a:pt x="1037" y="54"/>
                    </a:cubicBezTo>
                    <a:close/>
                    <a:moveTo>
                      <a:pt x="998" y="47"/>
                    </a:moveTo>
                    <a:cubicBezTo>
                      <a:pt x="997" y="39"/>
                      <a:pt x="997" y="33"/>
                      <a:pt x="996" y="30"/>
                    </a:cubicBezTo>
                    <a:cubicBezTo>
                      <a:pt x="996" y="30"/>
                      <a:pt x="996" y="37"/>
                      <a:pt x="998" y="47"/>
                    </a:cubicBezTo>
                    <a:close/>
                    <a:moveTo>
                      <a:pt x="688" y="61"/>
                    </a:moveTo>
                    <a:cubicBezTo>
                      <a:pt x="688" y="55"/>
                      <a:pt x="687" y="49"/>
                      <a:pt x="686" y="44"/>
                    </a:cubicBezTo>
                    <a:cubicBezTo>
                      <a:pt x="686" y="44"/>
                      <a:pt x="687" y="51"/>
                      <a:pt x="688" y="61"/>
                    </a:cubicBezTo>
                    <a:close/>
                    <a:moveTo>
                      <a:pt x="862" y="105"/>
                    </a:moveTo>
                    <a:cubicBezTo>
                      <a:pt x="862" y="103"/>
                      <a:pt x="862" y="101"/>
                      <a:pt x="861" y="99"/>
                    </a:cubicBezTo>
                    <a:cubicBezTo>
                      <a:pt x="861" y="101"/>
                      <a:pt x="862" y="103"/>
                      <a:pt x="862" y="105"/>
                    </a:cubicBezTo>
                    <a:close/>
                    <a:moveTo>
                      <a:pt x="644" y="67"/>
                    </a:moveTo>
                    <a:cubicBezTo>
                      <a:pt x="644" y="66"/>
                      <a:pt x="644" y="65"/>
                      <a:pt x="644" y="64"/>
                    </a:cubicBezTo>
                    <a:cubicBezTo>
                      <a:pt x="644" y="64"/>
                      <a:pt x="644" y="65"/>
                      <a:pt x="644" y="67"/>
                    </a:cubicBezTo>
                    <a:close/>
                    <a:moveTo>
                      <a:pt x="1092" y="106"/>
                    </a:moveTo>
                    <a:cubicBezTo>
                      <a:pt x="1092" y="103"/>
                      <a:pt x="1092" y="100"/>
                      <a:pt x="1091" y="96"/>
                    </a:cubicBezTo>
                    <a:cubicBezTo>
                      <a:pt x="1091" y="99"/>
                      <a:pt x="1092" y="103"/>
                      <a:pt x="1092" y="106"/>
                    </a:cubicBezTo>
                    <a:close/>
                    <a:moveTo>
                      <a:pt x="764" y="68"/>
                    </a:moveTo>
                    <a:cubicBezTo>
                      <a:pt x="764" y="68"/>
                      <a:pt x="764" y="71"/>
                      <a:pt x="764" y="75"/>
                    </a:cubicBezTo>
                    <a:cubicBezTo>
                      <a:pt x="764" y="72"/>
                      <a:pt x="764" y="70"/>
                      <a:pt x="764" y="68"/>
                    </a:cubicBezTo>
                    <a:close/>
                    <a:moveTo>
                      <a:pt x="771" y="62"/>
                    </a:moveTo>
                    <a:cubicBezTo>
                      <a:pt x="771" y="61"/>
                      <a:pt x="771" y="60"/>
                      <a:pt x="771" y="60"/>
                    </a:cubicBezTo>
                    <a:cubicBezTo>
                      <a:pt x="771" y="60"/>
                      <a:pt x="771" y="61"/>
                      <a:pt x="771" y="62"/>
                    </a:cubicBezTo>
                    <a:close/>
                    <a:moveTo>
                      <a:pt x="4239" y="67"/>
                    </a:moveTo>
                    <a:cubicBezTo>
                      <a:pt x="4239" y="66"/>
                      <a:pt x="4240" y="65"/>
                      <a:pt x="4239" y="64"/>
                    </a:cubicBezTo>
                    <a:cubicBezTo>
                      <a:pt x="4239" y="64"/>
                      <a:pt x="4239" y="65"/>
                      <a:pt x="4239" y="67"/>
                    </a:cubicBezTo>
                    <a:close/>
                    <a:moveTo>
                      <a:pt x="4593" y="47"/>
                    </a:moveTo>
                    <a:cubicBezTo>
                      <a:pt x="4593" y="39"/>
                      <a:pt x="4593" y="33"/>
                      <a:pt x="4591" y="30"/>
                    </a:cubicBezTo>
                    <a:cubicBezTo>
                      <a:pt x="4591" y="30"/>
                      <a:pt x="4592" y="37"/>
                      <a:pt x="4593" y="47"/>
                    </a:cubicBezTo>
                    <a:close/>
                    <a:moveTo>
                      <a:pt x="4518" y="54"/>
                    </a:moveTo>
                    <a:cubicBezTo>
                      <a:pt x="4518" y="53"/>
                      <a:pt x="4517" y="52"/>
                      <a:pt x="4517" y="52"/>
                    </a:cubicBezTo>
                    <a:cubicBezTo>
                      <a:pt x="4518" y="53"/>
                      <a:pt x="4518" y="53"/>
                      <a:pt x="4518" y="54"/>
                    </a:cubicBezTo>
                    <a:close/>
                    <a:moveTo>
                      <a:pt x="4633" y="54"/>
                    </a:moveTo>
                    <a:cubicBezTo>
                      <a:pt x="4633" y="54"/>
                      <a:pt x="4633" y="65"/>
                      <a:pt x="4632" y="84"/>
                    </a:cubicBezTo>
                    <a:cubicBezTo>
                      <a:pt x="4634" y="72"/>
                      <a:pt x="4635" y="60"/>
                      <a:pt x="4633" y="54"/>
                    </a:cubicBezTo>
                    <a:close/>
                    <a:moveTo>
                      <a:pt x="4513" y="90"/>
                    </a:moveTo>
                    <a:cubicBezTo>
                      <a:pt x="4513" y="89"/>
                      <a:pt x="4512" y="87"/>
                      <a:pt x="4511" y="86"/>
                    </a:cubicBezTo>
                    <a:cubicBezTo>
                      <a:pt x="4512" y="87"/>
                      <a:pt x="4513" y="89"/>
                      <a:pt x="4513" y="90"/>
                    </a:cubicBezTo>
                    <a:close/>
                    <a:moveTo>
                      <a:pt x="4688" y="106"/>
                    </a:moveTo>
                    <a:cubicBezTo>
                      <a:pt x="4688" y="103"/>
                      <a:pt x="4687" y="100"/>
                      <a:pt x="4687" y="96"/>
                    </a:cubicBezTo>
                    <a:cubicBezTo>
                      <a:pt x="4687" y="99"/>
                      <a:pt x="4688" y="103"/>
                      <a:pt x="4688" y="106"/>
                    </a:cubicBezTo>
                    <a:close/>
                    <a:moveTo>
                      <a:pt x="886" y="106"/>
                    </a:moveTo>
                    <a:cubicBezTo>
                      <a:pt x="886" y="103"/>
                      <a:pt x="885" y="101"/>
                      <a:pt x="885" y="99"/>
                    </a:cubicBezTo>
                    <a:cubicBezTo>
                      <a:pt x="885" y="101"/>
                      <a:pt x="885" y="103"/>
                      <a:pt x="886" y="106"/>
                    </a:cubicBezTo>
                    <a:close/>
                    <a:moveTo>
                      <a:pt x="4284" y="61"/>
                    </a:moveTo>
                    <a:cubicBezTo>
                      <a:pt x="4284" y="55"/>
                      <a:pt x="4283" y="49"/>
                      <a:pt x="4282" y="44"/>
                    </a:cubicBezTo>
                    <a:cubicBezTo>
                      <a:pt x="4282" y="44"/>
                      <a:pt x="4283" y="51"/>
                      <a:pt x="4284" y="61"/>
                    </a:cubicBezTo>
                    <a:close/>
                    <a:moveTo>
                      <a:pt x="4367" y="62"/>
                    </a:moveTo>
                    <a:cubicBezTo>
                      <a:pt x="4367" y="61"/>
                      <a:pt x="4367" y="60"/>
                      <a:pt x="4367" y="60"/>
                    </a:cubicBezTo>
                    <a:cubicBezTo>
                      <a:pt x="4367" y="60"/>
                      <a:pt x="4367" y="61"/>
                      <a:pt x="4367" y="62"/>
                    </a:cubicBezTo>
                    <a:close/>
                    <a:moveTo>
                      <a:pt x="4470" y="52"/>
                    </a:moveTo>
                    <a:cubicBezTo>
                      <a:pt x="4470" y="50"/>
                      <a:pt x="4470" y="49"/>
                      <a:pt x="4470" y="49"/>
                    </a:cubicBezTo>
                    <a:cubicBezTo>
                      <a:pt x="4470" y="50"/>
                      <a:pt x="4470" y="51"/>
                      <a:pt x="4470" y="52"/>
                    </a:cubicBezTo>
                    <a:close/>
                    <a:moveTo>
                      <a:pt x="4360" y="68"/>
                    </a:moveTo>
                    <a:cubicBezTo>
                      <a:pt x="4360" y="68"/>
                      <a:pt x="4360" y="71"/>
                      <a:pt x="4360" y="75"/>
                    </a:cubicBezTo>
                    <a:cubicBezTo>
                      <a:pt x="4360" y="72"/>
                      <a:pt x="4360" y="70"/>
                      <a:pt x="4360" y="68"/>
                    </a:cubicBezTo>
                    <a:close/>
                    <a:moveTo>
                      <a:pt x="4748" y="85"/>
                    </a:moveTo>
                    <a:cubicBezTo>
                      <a:pt x="4748" y="84"/>
                      <a:pt x="4748" y="84"/>
                      <a:pt x="4747" y="83"/>
                    </a:cubicBezTo>
                    <a:cubicBezTo>
                      <a:pt x="4748" y="84"/>
                      <a:pt x="4748" y="84"/>
                      <a:pt x="4748" y="85"/>
                    </a:cubicBezTo>
                    <a:close/>
                    <a:moveTo>
                      <a:pt x="4748" y="85"/>
                    </a:moveTo>
                    <a:cubicBezTo>
                      <a:pt x="4750" y="92"/>
                      <a:pt x="4750" y="108"/>
                      <a:pt x="4750" y="115"/>
                    </a:cubicBezTo>
                    <a:cubicBezTo>
                      <a:pt x="4750" y="127"/>
                      <a:pt x="4750" y="138"/>
                      <a:pt x="4752" y="150"/>
                    </a:cubicBezTo>
                    <a:cubicBezTo>
                      <a:pt x="4743" y="126"/>
                      <a:pt x="4740" y="99"/>
                      <a:pt x="4733" y="74"/>
                    </a:cubicBezTo>
                    <a:cubicBezTo>
                      <a:pt x="4736" y="91"/>
                      <a:pt x="4732" y="110"/>
                      <a:pt x="4732" y="128"/>
                    </a:cubicBezTo>
                    <a:cubicBezTo>
                      <a:pt x="4732" y="132"/>
                      <a:pt x="4733" y="136"/>
                      <a:pt x="4733" y="140"/>
                    </a:cubicBezTo>
                    <a:cubicBezTo>
                      <a:pt x="4733" y="145"/>
                      <a:pt x="4734" y="149"/>
                      <a:pt x="4735" y="154"/>
                    </a:cubicBezTo>
                    <a:cubicBezTo>
                      <a:pt x="4734" y="149"/>
                      <a:pt x="4733" y="145"/>
                      <a:pt x="4733" y="140"/>
                    </a:cubicBezTo>
                    <a:cubicBezTo>
                      <a:pt x="4730" y="120"/>
                      <a:pt x="4727" y="99"/>
                      <a:pt x="4722" y="80"/>
                    </a:cubicBezTo>
                    <a:cubicBezTo>
                      <a:pt x="4724" y="102"/>
                      <a:pt x="4714" y="126"/>
                      <a:pt x="4714" y="149"/>
                    </a:cubicBezTo>
                    <a:cubicBezTo>
                      <a:pt x="4714" y="156"/>
                      <a:pt x="4714" y="156"/>
                      <a:pt x="4714" y="156"/>
                    </a:cubicBezTo>
                    <a:cubicBezTo>
                      <a:pt x="4710" y="147"/>
                      <a:pt x="4710" y="132"/>
                      <a:pt x="4710" y="122"/>
                    </a:cubicBezTo>
                    <a:cubicBezTo>
                      <a:pt x="4710" y="100"/>
                      <a:pt x="4712" y="79"/>
                      <a:pt x="4711" y="57"/>
                    </a:cubicBezTo>
                    <a:cubicBezTo>
                      <a:pt x="4708" y="62"/>
                      <a:pt x="4707" y="112"/>
                      <a:pt x="4707" y="120"/>
                    </a:cubicBezTo>
                    <a:cubicBezTo>
                      <a:pt x="4707" y="133"/>
                      <a:pt x="4708" y="146"/>
                      <a:pt x="4711" y="159"/>
                    </a:cubicBezTo>
                    <a:cubicBezTo>
                      <a:pt x="4706" y="135"/>
                      <a:pt x="4700" y="108"/>
                      <a:pt x="4688" y="85"/>
                    </a:cubicBezTo>
                    <a:cubicBezTo>
                      <a:pt x="4699" y="106"/>
                      <a:pt x="4694" y="132"/>
                      <a:pt x="4701" y="154"/>
                    </a:cubicBezTo>
                    <a:cubicBezTo>
                      <a:pt x="4693" y="142"/>
                      <a:pt x="4691" y="122"/>
                      <a:pt x="4688" y="106"/>
                    </a:cubicBezTo>
                    <a:cubicBezTo>
                      <a:pt x="4690" y="120"/>
                      <a:pt x="4688" y="134"/>
                      <a:pt x="4690" y="148"/>
                    </a:cubicBezTo>
                    <a:cubicBezTo>
                      <a:pt x="4691" y="151"/>
                      <a:pt x="4692" y="153"/>
                      <a:pt x="4692" y="155"/>
                    </a:cubicBezTo>
                    <a:cubicBezTo>
                      <a:pt x="4691" y="153"/>
                      <a:pt x="4691" y="151"/>
                      <a:pt x="4690" y="148"/>
                    </a:cubicBezTo>
                    <a:cubicBezTo>
                      <a:pt x="4685" y="128"/>
                      <a:pt x="4673" y="75"/>
                      <a:pt x="4661" y="68"/>
                    </a:cubicBezTo>
                    <a:cubicBezTo>
                      <a:pt x="4678" y="90"/>
                      <a:pt x="4676" y="127"/>
                      <a:pt x="4680" y="153"/>
                    </a:cubicBezTo>
                    <a:cubicBezTo>
                      <a:pt x="4676" y="134"/>
                      <a:pt x="4669" y="113"/>
                      <a:pt x="4660" y="95"/>
                    </a:cubicBezTo>
                    <a:cubicBezTo>
                      <a:pt x="4667" y="115"/>
                      <a:pt x="4666" y="136"/>
                      <a:pt x="4675" y="155"/>
                    </a:cubicBezTo>
                    <a:cubicBezTo>
                      <a:pt x="4662" y="144"/>
                      <a:pt x="4655" y="117"/>
                      <a:pt x="4651" y="102"/>
                    </a:cubicBezTo>
                    <a:cubicBezTo>
                      <a:pt x="4651" y="120"/>
                      <a:pt x="4656" y="143"/>
                      <a:pt x="4667" y="158"/>
                    </a:cubicBezTo>
                    <a:cubicBezTo>
                      <a:pt x="4653" y="144"/>
                      <a:pt x="4648" y="103"/>
                      <a:pt x="4643" y="85"/>
                    </a:cubicBezTo>
                    <a:cubicBezTo>
                      <a:pt x="4642" y="88"/>
                      <a:pt x="4642" y="91"/>
                      <a:pt x="4642" y="94"/>
                    </a:cubicBezTo>
                    <a:cubicBezTo>
                      <a:pt x="4642" y="113"/>
                      <a:pt x="4647" y="142"/>
                      <a:pt x="4659" y="159"/>
                    </a:cubicBezTo>
                    <a:cubicBezTo>
                      <a:pt x="4645" y="143"/>
                      <a:pt x="4640" y="123"/>
                      <a:pt x="4634" y="104"/>
                    </a:cubicBezTo>
                    <a:cubicBezTo>
                      <a:pt x="4638" y="122"/>
                      <a:pt x="4638" y="140"/>
                      <a:pt x="4647" y="158"/>
                    </a:cubicBezTo>
                    <a:cubicBezTo>
                      <a:pt x="4637" y="147"/>
                      <a:pt x="4632" y="132"/>
                      <a:pt x="4628" y="117"/>
                    </a:cubicBezTo>
                    <a:cubicBezTo>
                      <a:pt x="4630" y="105"/>
                      <a:pt x="4631" y="93"/>
                      <a:pt x="4632" y="84"/>
                    </a:cubicBezTo>
                    <a:cubicBezTo>
                      <a:pt x="4630" y="92"/>
                      <a:pt x="4628" y="101"/>
                      <a:pt x="4626" y="109"/>
                    </a:cubicBezTo>
                    <a:cubicBezTo>
                      <a:pt x="4625" y="102"/>
                      <a:pt x="4623" y="95"/>
                      <a:pt x="4621" y="89"/>
                    </a:cubicBezTo>
                    <a:cubicBezTo>
                      <a:pt x="4624" y="64"/>
                      <a:pt x="4628" y="40"/>
                      <a:pt x="4628" y="40"/>
                    </a:cubicBezTo>
                    <a:cubicBezTo>
                      <a:pt x="4623" y="51"/>
                      <a:pt x="4618" y="77"/>
                      <a:pt x="4615" y="100"/>
                    </a:cubicBezTo>
                    <a:cubicBezTo>
                      <a:pt x="4613" y="95"/>
                      <a:pt x="4610" y="90"/>
                      <a:pt x="4609" y="86"/>
                    </a:cubicBezTo>
                    <a:cubicBezTo>
                      <a:pt x="4608" y="70"/>
                      <a:pt x="4606" y="58"/>
                      <a:pt x="4606" y="60"/>
                    </a:cubicBezTo>
                    <a:cubicBezTo>
                      <a:pt x="4606" y="61"/>
                      <a:pt x="4606" y="69"/>
                      <a:pt x="4605" y="80"/>
                    </a:cubicBezTo>
                    <a:cubicBezTo>
                      <a:pt x="4604" y="79"/>
                      <a:pt x="4604" y="78"/>
                      <a:pt x="4603" y="78"/>
                    </a:cubicBezTo>
                    <a:cubicBezTo>
                      <a:pt x="4604" y="79"/>
                      <a:pt x="4604" y="80"/>
                      <a:pt x="4605" y="81"/>
                    </a:cubicBezTo>
                    <a:cubicBezTo>
                      <a:pt x="4604" y="87"/>
                      <a:pt x="4604" y="95"/>
                      <a:pt x="4603" y="102"/>
                    </a:cubicBezTo>
                    <a:cubicBezTo>
                      <a:pt x="4603" y="102"/>
                      <a:pt x="4603" y="102"/>
                      <a:pt x="4603" y="102"/>
                    </a:cubicBezTo>
                    <a:cubicBezTo>
                      <a:pt x="4603" y="103"/>
                      <a:pt x="4603" y="103"/>
                      <a:pt x="4603" y="103"/>
                    </a:cubicBezTo>
                    <a:cubicBezTo>
                      <a:pt x="4602" y="113"/>
                      <a:pt x="4602" y="123"/>
                      <a:pt x="4601" y="130"/>
                    </a:cubicBezTo>
                    <a:cubicBezTo>
                      <a:pt x="4601" y="130"/>
                      <a:pt x="4600" y="129"/>
                      <a:pt x="4600" y="128"/>
                    </a:cubicBezTo>
                    <a:cubicBezTo>
                      <a:pt x="4600" y="107"/>
                      <a:pt x="4596" y="69"/>
                      <a:pt x="4593" y="47"/>
                    </a:cubicBezTo>
                    <a:cubicBezTo>
                      <a:pt x="4594" y="64"/>
                      <a:pt x="4593" y="87"/>
                      <a:pt x="4592" y="107"/>
                    </a:cubicBezTo>
                    <a:cubicBezTo>
                      <a:pt x="4591" y="105"/>
                      <a:pt x="4590" y="104"/>
                      <a:pt x="4589" y="102"/>
                    </a:cubicBezTo>
                    <a:cubicBezTo>
                      <a:pt x="4590" y="104"/>
                      <a:pt x="4591" y="106"/>
                      <a:pt x="4591" y="107"/>
                    </a:cubicBezTo>
                    <a:cubicBezTo>
                      <a:pt x="4591" y="114"/>
                      <a:pt x="4591" y="121"/>
                      <a:pt x="4590" y="126"/>
                    </a:cubicBezTo>
                    <a:cubicBezTo>
                      <a:pt x="4590" y="125"/>
                      <a:pt x="4589" y="123"/>
                      <a:pt x="4589" y="122"/>
                    </a:cubicBezTo>
                    <a:cubicBezTo>
                      <a:pt x="4588" y="93"/>
                      <a:pt x="4584" y="46"/>
                      <a:pt x="4584" y="46"/>
                    </a:cubicBezTo>
                    <a:cubicBezTo>
                      <a:pt x="4583" y="65"/>
                      <a:pt x="4577" y="142"/>
                      <a:pt x="4577" y="142"/>
                    </a:cubicBezTo>
                    <a:cubicBezTo>
                      <a:pt x="4571" y="106"/>
                      <a:pt x="4578" y="0"/>
                      <a:pt x="4578" y="0"/>
                    </a:cubicBezTo>
                    <a:cubicBezTo>
                      <a:pt x="4572" y="16"/>
                      <a:pt x="4566" y="131"/>
                      <a:pt x="4566" y="131"/>
                    </a:cubicBezTo>
                    <a:cubicBezTo>
                      <a:pt x="4564" y="36"/>
                      <a:pt x="4560" y="32"/>
                      <a:pt x="4560" y="32"/>
                    </a:cubicBezTo>
                    <a:cubicBezTo>
                      <a:pt x="4562" y="43"/>
                      <a:pt x="4559" y="76"/>
                      <a:pt x="4556" y="103"/>
                    </a:cubicBezTo>
                    <a:cubicBezTo>
                      <a:pt x="4555" y="102"/>
                      <a:pt x="4554" y="100"/>
                      <a:pt x="4553" y="99"/>
                    </a:cubicBezTo>
                    <a:cubicBezTo>
                      <a:pt x="4554" y="101"/>
                      <a:pt x="4555" y="103"/>
                      <a:pt x="4556" y="104"/>
                    </a:cubicBezTo>
                    <a:cubicBezTo>
                      <a:pt x="4555" y="112"/>
                      <a:pt x="4554" y="120"/>
                      <a:pt x="4553" y="126"/>
                    </a:cubicBezTo>
                    <a:cubicBezTo>
                      <a:pt x="4553" y="124"/>
                      <a:pt x="4553" y="123"/>
                      <a:pt x="4553" y="122"/>
                    </a:cubicBezTo>
                    <a:cubicBezTo>
                      <a:pt x="4553" y="94"/>
                      <a:pt x="4552" y="48"/>
                      <a:pt x="4552" y="48"/>
                    </a:cubicBezTo>
                    <a:cubicBezTo>
                      <a:pt x="4551" y="55"/>
                      <a:pt x="4548" y="82"/>
                      <a:pt x="4545" y="106"/>
                    </a:cubicBezTo>
                    <a:cubicBezTo>
                      <a:pt x="4544" y="104"/>
                      <a:pt x="4543" y="102"/>
                      <a:pt x="4543" y="100"/>
                    </a:cubicBezTo>
                    <a:cubicBezTo>
                      <a:pt x="4546" y="60"/>
                      <a:pt x="4550" y="9"/>
                      <a:pt x="4550" y="9"/>
                    </a:cubicBezTo>
                    <a:cubicBezTo>
                      <a:pt x="4545" y="23"/>
                      <a:pt x="4538" y="83"/>
                      <a:pt x="4535" y="117"/>
                    </a:cubicBezTo>
                    <a:cubicBezTo>
                      <a:pt x="4534" y="114"/>
                      <a:pt x="4533" y="111"/>
                      <a:pt x="4532" y="108"/>
                    </a:cubicBezTo>
                    <a:cubicBezTo>
                      <a:pt x="4532" y="90"/>
                      <a:pt x="4530" y="72"/>
                      <a:pt x="4530" y="72"/>
                    </a:cubicBezTo>
                    <a:cubicBezTo>
                      <a:pt x="4530" y="76"/>
                      <a:pt x="4530" y="84"/>
                      <a:pt x="4529" y="94"/>
                    </a:cubicBezTo>
                    <a:cubicBezTo>
                      <a:pt x="4528" y="91"/>
                      <a:pt x="4526" y="88"/>
                      <a:pt x="4525" y="84"/>
                    </a:cubicBezTo>
                    <a:cubicBezTo>
                      <a:pt x="4526" y="88"/>
                      <a:pt x="4528" y="92"/>
                      <a:pt x="4528" y="96"/>
                    </a:cubicBezTo>
                    <a:cubicBezTo>
                      <a:pt x="4528" y="99"/>
                      <a:pt x="4528" y="103"/>
                      <a:pt x="4527" y="107"/>
                    </a:cubicBezTo>
                    <a:cubicBezTo>
                      <a:pt x="4527" y="106"/>
                      <a:pt x="4527" y="106"/>
                      <a:pt x="4527" y="105"/>
                    </a:cubicBezTo>
                    <a:cubicBezTo>
                      <a:pt x="4526" y="107"/>
                      <a:pt x="4526" y="112"/>
                      <a:pt x="4526" y="116"/>
                    </a:cubicBezTo>
                    <a:cubicBezTo>
                      <a:pt x="4525" y="121"/>
                      <a:pt x="4525" y="126"/>
                      <a:pt x="4524" y="130"/>
                    </a:cubicBezTo>
                    <a:cubicBezTo>
                      <a:pt x="4524" y="129"/>
                      <a:pt x="4524" y="128"/>
                      <a:pt x="4524" y="127"/>
                    </a:cubicBezTo>
                    <a:cubicBezTo>
                      <a:pt x="4524" y="101"/>
                      <a:pt x="4519" y="63"/>
                      <a:pt x="4518" y="54"/>
                    </a:cubicBezTo>
                    <a:cubicBezTo>
                      <a:pt x="4518" y="61"/>
                      <a:pt x="4517" y="79"/>
                      <a:pt x="4516" y="96"/>
                    </a:cubicBezTo>
                    <a:cubicBezTo>
                      <a:pt x="4515" y="94"/>
                      <a:pt x="4514" y="92"/>
                      <a:pt x="4513" y="90"/>
                    </a:cubicBezTo>
                    <a:cubicBezTo>
                      <a:pt x="4514" y="93"/>
                      <a:pt x="4515" y="95"/>
                      <a:pt x="4516" y="97"/>
                    </a:cubicBezTo>
                    <a:cubicBezTo>
                      <a:pt x="4514" y="118"/>
                      <a:pt x="4511" y="137"/>
                      <a:pt x="4511" y="137"/>
                    </a:cubicBezTo>
                    <a:cubicBezTo>
                      <a:pt x="4511" y="136"/>
                      <a:pt x="4511" y="134"/>
                      <a:pt x="4511" y="133"/>
                    </a:cubicBezTo>
                    <a:cubicBezTo>
                      <a:pt x="4511" y="125"/>
                      <a:pt x="4511" y="118"/>
                      <a:pt x="4510" y="110"/>
                    </a:cubicBezTo>
                    <a:cubicBezTo>
                      <a:pt x="4509" y="76"/>
                      <a:pt x="4508" y="40"/>
                      <a:pt x="4508" y="40"/>
                    </a:cubicBezTo>
                    <a:cubicBezTo>
                      <a:pt x="4508" y="49"/>
                      <a:pt x="4503" y="79"/>
                      <a:pt x="4499" y="104"/>
                    </a:cubicBezTo>
                    <a:cubicBezTo>
                      <a:pt x="4499" y="99"/>
                      <a:pt x="4498" y="95"/>
                      <a:pt x="4497" y="90"/>
                    </a:cubicBezTo>
                    <a:cubicBezTo>
                      <a:pt x="4498" y="67"/>
                      <a:pt x="4499" y="45"/>
                      <a:pt x="4499" y="45"/>
                    </a:cubicBezTo>
                    <a:cubicBezTo>
                      <a:pt x="4499" y="53"/>
                      <a:pt x="4493" y="75"/>
                      <a:pt x="4486" y="96"/>
                    </a:cubicBezTo>
                    <a:cubicBezTo>
                      <a:pt x="4485" y="93"/>
                      <a:pt x="4484" y="89"/>
                      <a:pt x="4482" y="85"/>
                    </a:cubicBezTo>
                    <a:cubicBezTo>
                      <a:pt x="4489" y="51"/>
                      <a:pt x="4497" y="17"/>
                      <a:pt x="4497" y="17"/>
                    </a:cubicBezTo>
                    <a:cubicBezTo>
                      <a:pt x="4492" y="24"/>
                      <a:pt x="4477" y="95"/>
                      <a:pt x="4470" y="130"/>
                    </a:cubicBezTo>
                    <a:cubicBezTo>
                      <a:pt x="4470" y="130"/>
                      <a:pt x="4470" y="130"/>
                      <a:pt x="4470" y="130"/>
                    </a:cubicBezTo>
                    <a:cubicBezTo>
                      <a:pt x="4474" y="100"/>
                      <a:pt x="4471" y="63"/>
                      <a:pt x="4470" y="52"/>
                    </a:cubicBezTo>
                    <a:cubicBezTo>
                      <a:pt x="4472" y="72"/>
                      <a:pt x="4466" y="109"/>
                      <a:pt x="4462" y="128"/>
                    </a:cubicBezTo>
                    <a:cubicBezTo>
                      <a:pt x="4462" y="126"/>
                      <a:pt x="4462" y="123"/>
                      <a:pt x="4461" y="120"/>
                    </a:cubicBezTo>
                    <a:cubicBezTo>
                      <a:pt x="4463" y="99"/>
                      <a:pt x="4465" y="71"/>
                      <a:pt x="4466" y="65"/>
                    </a:cubicBezTo>
                    <a:cubicBezTo>
                      <a:pt x="4465" y="71"/>
                      <a:pt x="4462" y="89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4" y="125"/>
                      <a:pt x="4451" y="143"/>
                      <a:pt x="4451" y="143"/>
                    </a:cubicBezTo>
                    <a:cubicBezTo>
                      <a:pt x="4461" y="38"/>
                      <a:pt x="4454" y="25"/>
                      <a:pt x="4454" y="25"/>
                    </a:cubicBezTo>
                    <a:cubicBezTo>
                      <a:pt x="4457" y="42"/>
                      <a:pt x="4454" y="72"/>
                      <a:pt x="4449" y="96"/>
                    </a:cubicBezTo>
                    <a:cubicBezTo>
                      <a:pt x="4448" y="89"/>
                      <a:pt x="4446" y="80"/>
                      <a:pt x="4443" y="73"/>
                    </a:cubicBezTo>
                    <a:cubicBezTo>
                      <a:pt x="4442" y="65"/>
                      <a:pt x="4442" y="60"/>
                      <a:pt x="4442" y="60"/>
                    </a:cubicBezTo>
                    <a:cubicBezTo>
                      <a:pt x="4442" y="63"/>
                      <a:pt x="4442" y="67"/>
                      <a:pt x="4441" y="71"/>
                    </a:cubicBezTo>
                    <a:cubicBezTo>
                      <a:pt x="4440" y="69"/>
                      <a:pt x="4439" y="67"/>
                      <a:pt x="4437" y="65"/>
                    </a:cubicBezTo>
                    <a:cubicBezTo>
                      <a:pt x="4439" y="67"/>
                      <a:pt x="4440" y="70"/>
                      <a:pt x="4441" y="73"/>
                    </a:cubicBezTo>
                    <a:cubicBezTo>
                      <a:pt x="4441" y="82"/>
                      <a:pt x="4440" y="92"/>
                      <a:pt x="4438" y="101"/>
                    </a:cubicBezTo>
                    <a:cubicBezTo>
                      <a:pt x="4438" y="95"/>
                      <a:pt x="4435" y="88"/>
                      <a:pt x="4430" y="83"/>
                    </a:cubicBezTo>
                    <a:cubicBezTo>
                      <a:pt x="4430" y="74"/>
                      <a:pt x="4431" y="68"/>
                      <a:pt x="4431" y="68"/>
                    </a:cubicBezTo>
                    <a:cubicBezTo>
                      <a:pt x="4430" y="72"/>
                      <a:pt x="4429" y="76"/>
                      <a:pt x="4428" y="81"/>
                    </a:cubicBezTo>
                    <a:cubicBezTo>
                      <a:pt x="4428" y="81"/>
                      <a:pt x="4427" y="81"/>
                      <a:pt x="4427" y="80"/>
                    </a:cubicBezTo>
                    <a:cubicBezTo>
                      <a:pt x="4427" y="81"/>
                      <a:pt x="4428" y="81"/>
                      <a:pt x="4428" y="82"/>
                    </a:cubicBezTo>
                    <a:cubicBezTo>
                      <a:pt x="4425" y="101"/>
                      <a:pt x="4424" y="130"/>
                      <a:pt x="4424" y="142"/>
                    </a:cubicBezTo>
                    <a:cubicBezTo>
                      <a:pt x="4424" y="143"/>
                      <a:pt x="4423" y="144"/>
                      <a:pt x="4423" y="144"/>
                    </a:cubicBezTo>
                    <a:cubicBezTo>
                      <a:pt x="4422" y="141"/>
                      <a:pt x="4422" y="136"/>
                      <a:pt x="4422" y="131"/>
                    </a:cubicBezTo>
                    <a:cubicBezTo>
                      <a:pt x="4423" y="121"/>
                      <a:pt x="4425" y="112"/>
                      <a:pt x="4426" y="103"/>
                    </a:cubicBezTo>
                    <a:cubicBezTo>
                      <a:pt x="4425" y="108"/>
                      <a:pt x="4424" y="112"/>
                      <a:pt x="4423" y="117"/>
                    </a:cubicBezTo>
                    <a:cubicBezTo>
                      <a:pt x="4424" y="85"/>
                      <a:pt x="4430" y="45"/>
                      <a:pt x="4430" y="45"/>
                    </a:cubicBezTo>
                    <a:cubicBezTo>
                      <a:pt x="4423" y="60"/>
                      <a:pt x="4418" y="95"/>
                      <a:pt x="4416" y="120"/>
                    </a:cubicBezTo>
                    <a:cubicBezTo>
                      <a:pt x="4416" y="123"/>
                      <a:pt x="4415" y="125"/>
                      <a:pt x="4414" y="127"/>
                    </a:cubicBezTo>
                    <a:cubicBezTo>
                      <a:pt x="4413" y="103"/>
                      <a:pt x="4413" y="70"/>
                      <a:pt x="4413" y="70"/>
                    </a:cubicBezTo>
                    <a:cubicBezTo>
                      <a:pt x="4413" y="72"/>
                      <a:pt x="4413" y="76"/>
                      <a:pt x="4412" y="81"/>
                    </a:cubicBezTo>
                    <a:cubicBezTo>
                      <a:pt x="4411" y="73"/>
                      <a:pt x="4409" y="66"/>
                      <a:pt x="4406" y="60"/>
                    </a:cubicBezTo>
                    <a:cubicBezTo>
                      <a:pt x="4407" y="52"/>
                      <a:pt x="4407" y="46"/>
                      <a:pt x="4407" y="46"/>
                    </a:cubicBezTo>
                    <a:cubicBezTo>
                      <a:pt x="4405" y="51"/>
                      <a:pt x="4403" y="64"/>
                      <a:pt x="4402" y="79"/>
                    </a:cubicBezTo>
                    <a:cubicBezTo>
                      <a:pt x="4401" y="77"/>
                      <a:pt x="4401" y="75"/>
                      <a:pt x="4400" y="74"/>
                    </a:cubicBezTo>
                    <a:cubicBezTo>
                      <a:pt x="4399" y="83"/>
                      <a:pt x="4399" y="92"/>
                      <a:pt x="4399" y="102"/>
                    </a:cubicBezTo>
                    <a:cubicBezTo>
                      <a:pt x="4399" y="108"/>
                      <a:pt x="4398" y="115"/>
                      <a:pt x="4397" y="121"/>
                    </a:cubicBezTo>
                    <a:cubicBezTo>
                      <a:pt x="4397" y="123"/>
                      <a:pt x="4396" y="125"/>
                      <a:pt x="4396" y="127"/>
                    </a:cubicBezTo>
                    <a:cubicBezTo>
                      <a:pt x="4396" y="35"/>
                      <a:pt x="4394" y="34"/>
                      <a:pt x="4394" y="34"/>
                    </a:cubicBezTo>
                    <a:cubicBezTo>
                      <a:pt x="4396" y="49"/>
                      <a:pt x="4392" y="77"/>
                      <a:pt x="4388" y="102"/>
                    </a:cubicBezTo>
                    <a:cubicBezTo>
                      <a:pt x="4387" y="94"/>
                      <a:pt x="4385" y="85"/>
                      <a:pt x="4381" y="76"/>
                    </a:cubicBezTo>
                    <a:cubicBezTo>
                      <a:pt x="4382" y="70"/>
                      <a:pt x="4382" y="66"/>
                      <a:pt x="4382" y="66"/>
                    </a:cubicBezTo>
                    <a:cubicBezTo>
                      <a:pt x="4382" y="68"/>
                      <a:pt x="4381" y="71"/>
                      <a:pt x="4380" y="74"/>
                    </a:cubicBezTo>
                    <a:cubicBezTo>
                      <a:pt x="4380" y="73"/>
                      <a:pt x="4379" y="72"/>
                      <a:pt x="4378" y="71"/>
                    </a:cubicBezTo>
                    <a:cubicBezTo>
                      <a:pt x="4379" y="73"/>
                      <a:pt x="4379" y="74"/>
                      <a:pt x="4380" y="76"/>
                    </a:cubicBezTo>
                    <a:cubicBezTo>
                      <a:pt x="4378" y="83"/>
                      <a:pt x="4376" y="93"/>
                      <a:pt x="4374" y="103"/>
                    </a:cubicBezTo>
                    <a:cubicBezTo>
                      <a:pt x="4374" y="98"/>
                      <a:pt x="4373" y="94"/>
                      <a:pt x="4372" y="89"/>
                    </a:cubicBezTo>
                    <a:cubicBezTo>
                      <a:pt x="4373" y="96"/>
                      <a:pt x="4371" y="104"/>
                      <a:pt x="4369" y="112"/>
                    </a:cubicBezTo>
                    <a:cubicBezTo>
                      <a:pt x="4369" y="92"/>
                      <a:pt x="4368" y="70"/>
                      <a:pt x="4367" y="62"/>
                    </a:cubicBezTo>
                    <a:cubicBezTo>
                      <a:pt x="4367" y="67"/>
                      <a:pt x="4367" y="74"/>
                      <a:pt x="4367" y="82"/>
                    </a:cubicBezTo>
                    <a:cubicBezTo>
                      <a:pt x="4365" y="87"/>
                      <a:pt x="4362" y="94"/>
                      <a:pt x="4360" y="101"/>
                    </a:cubicBezTo>
                    <a:cubicBezTo>
                      <a:pt x="4360" y="91"/>
                      <a:pt x="4360" y="82"/>
                      <a:pt x="4360" y="75"/>
                    </a:cubicBezTo>
                    <a:cubicBezTo>
                      <a:pt x="4359" y="86"/>
                      <a:pt x="4357" y="102"/>
                      <a:pt x="4355" y="116"/>
                    </a:cubicBezTo>
                    <a:cubicBezTo>
                      <a:pt x="4353" y="123"/>
                      <a:pt x="4351" y="130"/>
                      <a:pt x="4349" y="136"/>
                    </a:cubicBezTo>
                    <a:cubicBezTo>
                      <a:pt x="4349" y="118"/>
                      <a:pt x="4352" y="89"/>
                      <a:pt x="4352" y="89"/>
                    </a:cubicBezTo>
                    <a:cubicBezTo>
                      <a:pt x="4351" y="93"/>
                      <a:pt x="4349" y="99"/>
                      <a:pt x="4347" y="106"/>
                    </a:cubicBezTo>
                    <a:cubicBezTo>
                      <a:pt x="4347" y="104"/>
                      <a:pt x="4347" y="101"/>
                      <a:pt x="4346" y="99"/>
                    </a:cubicBezTo>
                    <a:cubicBezTo>
                      <a:pt x="4346" y="96"/>
                      <a:pt x="4346" y="96"/>
                      <a:pt x="4346" y="96"/>
                    </a:cubicBezTo>
                    <a:cubicBezTo>
                      <a:pt x="4345" y="95"/>
                      <a:pt x="4345" y="95"/>
                      <a:pt x="4345" y="95"/>
                    </a:cubicBezTo>
                    <a:cubicBezTo>
                      <a:pt x="4345" y="104"/>
                      <a:pt x="4343" y="113"/>
                      <a:pt x="4341" y="122"/>
                    </a:cubicBezTo>
                    <a:cubicBezTo>
                      <a:pt x="4339" y="127"/>
                      <a:pt x="4338" y="131"/>
                      <a:pt x="4336" y="134"/>
                    </a:cubicBezTo>
                    <a:cubicBezTo>
                      <a:pt x="4336" y="130"/>
                      <a:pt x="4336" y="126"/>
                      <a:pt x="4336" y="122"/>
                    </a:cubicBezTo>
                    <a:cubicBezTo>
                      <a:pt x="4340" y="102"/>
                      <a:pt x="4347" y="76"/>
                      <a:pt x="4347" y="76"/>
                    </a:cubicBezTo>
                    <a:cubicBezTo>
                      <a:pt x="4342" y="82"/>
                      <a:pt x="4337" y="94"/>
                      <a:pt x="4333" y="105"/>
                    </a:cubicBezTo>
                    <a:cubicBezTo>
                      <a:pt x="4332" y="102"/>
                      <a:pt x="4331" y="98"/>
                      <a:pt x="4330" y="95"/>
                    </a:cubicBezTo>
                    <a:cubicBezTo>
                      <a:pt x="4331" y="74"/>
                      <a:pt x="4327" y="62"/>
                      <a:pt x="4327" y="62"/>
                    </a:cubicBezTo>
                    <a:cubicBezTo>
                      <a:pt x="4329" y="69"/>
                      <a:pt x="4329" y="78"/>
                      <a:pt x="4328" y="88"/>
                    </a:cubicBezTo>
                    <a:cubicBezTo>
                      <a:pt x="4325" y="83"/>
                      <a:pt x="4322" y="78"/>
                      <a:pt x="4318" y="73"/>
                    </a:cubicBezTo>
                    <a:cubicBezTo>
                      <a:pt x="4322" y="80"/>
                      <a:pt x="4325" y="92"/>
                      <a:pt x="4326" y="102"/>
                    </a:cubicBezTo>
                    <a:cubicBezTo>
                      <a:pt x="4325" y="108"/>
                      <a:pt x="4324" y="115"/>
                      <a:pt x="4323" y="120"/>
                    </a:cubicBezTo>
                    <a:cubicBezTo>
                      <a:pt x="4322" y="113"/>
                      <a:pt x="4321" y="106"/>
                      <a:pt x="4319" y="100"/>
                    </a:cubicBezTo>
                    <a:cubicBezTo>
                      <a:pt x="4320" y="89"/>
                      <a:pt x="4320" y="82"/>
                      <a:pt x="4320" y="82"/>
                    </a:cubicBezTo>
                    <a:cubicBezTo>
                      <a:pt x="4319" y="98"/>
                      <a:pt x="4319" y="98"/>
                      <a:pt x="4319" y="98"/>
                    </a:cubicBezTo>
                    <a:cubicBezTo>
                      <a:pt x="4318" y="94"/>
                      <a:pt x="4317" y="91"/>
                      <a:pt x="4315" y="88"/>
                    </a:cubicBezTo>
                    <a:cubicBezTo>
                      <a:pt x="4315" y="73"/>
                      <a:pt x="4314" y="60"/>
                      <a:pt x="4314" y="60"/>
                    </a:cubicBezTo>
                    <a:cubicBezTo>
                      <a:pt x="4314" y="72"/>
                      <a:pt x="4311" y="90"/>
                      <a:pt x="4311" y="90"/>
                    </a:cubicBezTo>
                    <a:cubicBezTo>
                      <a:pt x="4309" y="84"/>
                      <a:pt x="4309" y="64"/>
                      <a:pt x="4309" y="64"/>
                    </a:cubicBezTo>
                    <a:cubicBezTo>
                      <a:pt x="4309" y="68"/>
                      <a:pt x="4308" y="83"/>
                      <a:pt x="4306" y="98"/>
                    </a:cubicBezTo>
                    <a:cubicBezTo>
                      <a:pt x="4306" y="96"/>
                      <a:pt x="4305" y="95"/>
                      <a:pt x="4305" y="93"/>
                    </a:cubicBezTo>
                    <a:cubicBezTo>
                      <a:pt x="4304" y="88"/>
                      <a:pt x="4302" y="82"/>
                      <a:pt x="4300" y="76"/>
                    </a:cubicBezTo>
                    <a:cubicBezTo>
                      <a:pt x="4300" y="57"/>
                      <a:pt x="4300" y="42"/>
                      <a:pt x="4300" y="42"/>
                    </a:cubicBezTo>
                    <a:cubicBezTo>
                      <a:pt x="4300" y="49"/>
                      <a:pt x="4300" y="59"/>
                      <a:pt x="4299" y="70"/>
                    </a:cubicBezTo>
                    <a:cubicBezTo>
                      <a:pt x="4296" y="64"/>
                      <a:pt x="4294" y="57"/>
                      <a:pt x="4291" y="51"/>
                    </a:cubicBezTo>
                    <a:cubicBezTo>
                      <a:pt x="4290" y="52"/>
                      <a:pt x="4290" y="54"/>
                      <a:pt x="4290" y="55"/>
                    </a:cubicBezTo>
                    <a:cubicBezTo>
                      <a:pt x="4293" y="65"/>
                      <a:pt x="4296" y="74"/>
                      <a:pt x="4297" y="82"/>
                    </a:cubicBezTo>
                    <a:cubicBezTo>
                      <a:pt x="4297" y="88"/>
                      <a:pt x="4296" y="94"/>
                      <a:pt x="4295" y="100"/>
                    </a:cubicBezTo>
                    <a:cubicBezTo>
                      <a:pt x="4294" y="96"/>
                      <a:pt x="4293" y="92"/>
                      <a:pt x="4292" y="88"/>
                    </a:cubicBezTo>
                    <a:cubicBezTo>
                      <a:pt x="4293" y="78"/>
                      <a:pt x="4294" y="70"/>
                      <a:pt x="4294" y="70"/>
                    </a:cubicBezTo>
                    <a:cubicBezTo>
                      <a:pt x="4293" y="72"/>
                      <a:pt x="4292" y="78"/>
                      <a:pt x="4291" y="85"/>
                    </a:cubicBezTo>
                    <a:cubicBezTo>
                      <a:pt x="4289" y="82"/>
                      <a:pt x="4287" y="79"/>
                      <a:pt x="4285" y="76"/>
                    </a:cubicBezTo>
                    <a:cubicBezTo>
                      <a:pt x="4284" y="71"/>
                      <a:pt x="4284" y="66"/>
                      <a:pt x="4284" y="61"/>
                    </a:cubicBezTo>
                    <a:cubicBezTo>
                      <a:pt x="4283" y="73"/>
                      <a:pt x="4281" y="87"/>
                      <a:pt x="4279" y="101"/>
                    </a:cubicBezTo>
                    <a:cubicBezTo>
                      <a:pt x="4277" y="95"/>
                      <a:pt x="4275" y="90"/>
                      <a:pt x="4273" y="86"/>
                    </a:cubicBezTo>
                    <a:cubicBezTo>
                      <a:pt x="4274" y="73"/>
                      <a:pt x="4274" y="64"/>
                      <a:pt x="4274" y="64"/>
                    </a:cubicBezTo>
                    <a:cubicBezTo>
                      <a:pt x="4274" y="71"/>
                      <a:pt x="4272" y="82"/>
                      <a:pt x="4270" y="95"/>
                    </a:cubicBezTo>
                    <a:cubicBezTo>
                      <a:pt x="4268" y="87"/>
                      <a:pt x="4266" y="79"/>
                      <a:pt x="4262" y="71"/>
                    </a:cubicBezTo>
                    <a:cubicBezTo>
                      <a:pt x="4264" y="49"/>
                      <a:pt x="4265" y="30"/>
                      <a:pt x="4265" y="30"/>
                    </a:cubicBezTo>
                    <a:cubicBezTo>
                      <a:pt x="4263" y="35"/>
                      <a:pt x="4261" y="49"/>
                      <a:pt x="4259" y="65"/>
                    </a:cubicBezTo>
                    <a:cubicBezTo>
                      <a:pt x="4258" y="62"/>
                      <a:pt x="4256" y="59"/>
                      <a:pt x="4254" y="56"/>
                    </a:cubicBezTo>
                    <a:cubicBezTo>
                      <a:pt x="4254" y="63"/>
                      <a:pt x="4256" y="70"/>
                      <a:pt x="4258" y="78"/>
                    </a:cubicBezTo>
                    <a:cubicBezTo>
                      <a:pt x="4257" y="87"/>
                      <a:pt x="4256" y="97"/>
                      <a:pt x="4255" y="106"/>
                    </a:cubicBezTo>
                    <a:cubicBezTo>
                      <a:pt x="4255" y="105"/>
                      <a:pt x="4255" y="104"/>
                      <a:pt x="4254" y="103"/>
                    </a:cubicBezTo>
                    <a:cubicBezTo>
                      <a:pt x="4255" y="104"/>
                      <a:pt x="4255" y="106"/>
                      <a:pt x="4255" y="109"/>
                    </a:cubicBezTo>
                    <a:cubicBezTo>
                      <a:pt x="4254" y="120"/>
                      <a:pt x="4253" y="131"/>
                      <a:pt x="4253" y="138"/>
                    </a:cubicBezTo>
                    <a:cubicBezTo>
                      <a:pt x="4253" y="137"/>
                      <a:pt x="4252" y="135"/>
                      <a:pt x="4252" y="134"/>
                    </a:cubicBezTo>
                    <a:cubicBezTo>
                      <a:pt x="4251" y="99"/>
                      <a:pt x="4245" y="41"/>
                      <a:pt x="4245" y="41"/>
                    </a:cubicBezTo>
                    <a:cubicBezTo>
                      <a:pt x="4247" y="58"/>
                      <a:pt x="4246" y="86"/>
                      <a:pt x="4244" y="108"/>
                    </a:cubicBezTo>
                    <a:cubicBezTo>
                      <a:pt x="4242" y="105"/>
                      <a:pt x="4241" y="102"/>
                      <a:pt x="4239" y="99"/>
                    </a:cubicBezTo>
                    <a:cubicBezTo>
                      <a:pt x="4239" y="86"/>
                      <a:pt x="4239" y="73"/>
                      <a:pt x="4239" y="67"/>
                    </a:cubicBezTo>
                    <a:cubicBezTo>
                      <a:pt x="4239" y="75"/>
                      <a:pt x="4238" y="85"/>
                      <a:pt x="4237" y="94"/>
                    </a:cubicBezTo>
                    <a:cubicBezTo>
                      <a:pt x="4236" y="92"/>
                      <a:pt x="4235" y="91"/>
                      <a:pt x="4234" y="89"/>
                    </a:cubicBezTo>
                    <a:cubicBezTo>
                      <a:pt x="4235" y="91"/>
                      <a:pt x="4236" y="94"/>
                      <a:pt x="4236" y="97"/>
                    </a:cubicBezTo>
                    <a:cubicBezTo>
                      <a:pt x="4235" y="103"/>
                      <a:pt x="4234" y="110"/>
                      <a:pt x="4232" y="116"/>
                    </a:cubicBezTo>
                    <a:cubicBezTo>
                      <a:pt x="4231" y="110"/>
                      <a:pt x="4230" y="105"/>
                      <a:pt x="4228" y="101"/>
                    </a:cubicBezTo>
                    <a:cubicBezTo>
                      <a:pt x="4229" y="91"/>
                      <a:pt x="4230" y="83"/>
                      <a:pt x="4230" y="83"/>
                    </a:cubicBezTo>
                    <a:cubicBezTo>
                      <a:pt x="4230" y="86"/>
                      <a:pt x="4229" y="92"/>
                      <a:pt x="4227" y="98"/>
                    </a:cubicBezTo>
                    <a:cubicBezTo>
                      <a:pt x="4226" y="94"/>
                      <a:pt x="4225" y="91"/>
                      <a:pt x="4224" y="89"/>
                    </a:cubicBezTo>
                    <a:cubicBezTo>
                      <a:pt x="4225" y="74"/>
                      <a:pt x="4226" y="62"/>
                      <a:pt x="4226" y="62"/>
                    </a:cubicBezTo>
                    <a:cubicBezTo>
                      <a:pt x="4225" y="65"/>
                      <a:pt x="4224" y="75"/>
                      <a:pt x="4222" y="87"/>
                    </a:cubicBezTo>
                    <a:cubicBezTo>
                      <a:pt x="4220" y="83"/>
                      <a:pt x="4218" y="81"/>
                      <a:pt x="4215" y="78"/>
                    </a:cubicBezTo>
                    <a:cubicBezTo>
                      <a:pt x="4218" y="81"/>
                      <a:pt x="4220" y="84"/>
                      <a:pt x="4222" y="89"/>
                    </a:cubicBezTo>
                    <a:cubicBezTo>
                      <a:pt x="4221" y="96"/>
                      <a:pt x="4220" y="105"/>
                      <a:pt x="4219" y="113"/>
                    </a:cubicBezTo>
                    <a:cubicBezTo>
                      <a:pt x="4218" y="108"/>
                      <a:pt x="4217" y="104"/>
                      <a:pt x="4215" y="100"/>
                    </a:cubicBezTo>
                    <a:cubicBezTo>
                      <a:pt x="4214" y="86"/>
                      <a:pt x="4212" y="74"/>
                      <a:pt x="4211" y="68"/>
                    </a:cubicBezTo>
                    <a:cubicBezTo>
                      <a:pt x="4211" y="71"/>
                      <a:pt x="4212" y="76"/>
                      <a:pt x="4211" y="86"/>
                    </a:cubicBezTo>
                    <a:cubicBezTo>
                      <a:pt x="4211" y="87"/>
                      <a:pt x="4211" y="88"/>
                      <a:pt x="4211" y="90"/>
                    </a:cubicBezTo>
                    <a:cubicBezTo>
                      <a:pt x="4210" y="87"/>
                      <a:pt x="4208" y="84"/>
                      <a:pt x="4206" y="81"/>
                    </a:cubicBezTo>
                    <a:cubicBezTo>
                      <a:pt x="4209" y="85"/>
                      <a:pt x="4210" y="91"/>
                      <a:pt x="4210" y="96"/>
                    </a:cubicBezTo>
                    <a:cubicBezTo>
                      <a:pt x="4209" y="105"/>
                      <a:pt x="4207" y="115"/>
                      <a:pt x="4205" y="124"/>
                    </a:cubicBezTo>
                    <a:cubicBezTo>
                      <a:pt x="4205" y="113"/>
                      <a:pt x="4204" y="102"/>
                      <a:pt x="4202" y="91"/>
                    </a:cubicBezTo>
                    <a:cubicBezTo>
                      <a:pt x="4202" y="77"/>
                      <a:pt x="4202" y="77"/>
                      <a:pt x="4202" y="77"/>
                    </a:cubicBezTo>
                    <a:cubicBezTo>
                      <a:pt x="4205" y="35"/>
                      <a:pt x="4198" y="19"/>
                      <a:pt x="4198" y="19"/>
                    </a:cubicBezTo>
                    <a:cubicBezTo>
                      <a:pt x="4198" y="19"/>
                      <a:pt x="4201" y="31"/>
                      <a:pt x="4200" y="54"/>
                    </a:cubicBezTo>
                    <a:cubicBezTo>
                      <a:pt x="4199" y="59"/>
                      <a:pt x="4199" y="68"/>
                      <a:pt x="4197" y="78"/>
                    </a:cubicBezTo>
                    <a:cubicBezTo>
                      <a:pt x="4195" y="72"/>
                      <a:pt x="4192" y="66"/>
                      <a:pt x="4188" y="60"/>
                    </a:cubicBezTo>
                    <a:cubicBezTo>
                      <a:pt x="4188" y="61"/>
                      <a:pt x="4188" y="61"/>
                      <a:pt x="4188" y="61"/>
                    </a:cubicBezTo>
                    <a:cubicBezTo>
                      <a:pt x="4188" y="62"/>
                      <a:pt x="4188" y="63"/>
                      <a:pt x="4188" y="64"/>
                    </a:cubicBezTo>
                    <a:cubicBezTo>
                      <a:pt x="4186" y="44"/>
                      <a:pt x="4179" y="40"/>
                      <a:pt x="4179" y="40"/>
                    </a:cubicBezTo>
                    <a:cubicBezTo>
                      <a:pt x="4179" y="40"/>
                      <a:pt x="4185" y="44"/>
                      <a:pt x="4185" y="70"/>
                    </a:cubicBezTo>
                    <a:cubicBezTo>
                      <a:pt x="4185" y="76"/>
                      <a:pt x="4184" y="85"/>
                      <a:pt x="4182" y="94"/>
                    </a:cubicBezTo>
                    <a:cubicBezTo>
                      <a:pt x="4180" y="90"/>
                      <a:pt x="4177" y="86"/>
                      <a:pt x="4174" y="83"/>
                    </a:cubicBezTo>
                    <a:cubicBezTo>
                      <a:pt x="4177" y="87"/>
                      <a:pt x="4180" y="92"/>
                      <a:pt x="4182" y="97"/>
                    </a:cubicBezTo>
                    <a:cubicBezTo>
                      <a:pt x="4181" y="100"/>
                      <a:pt x="4181" y="103"/>
                      <a:pt x="4180" y="106"/>
                    </a:cubicBezTo>
                    <a:cubicBezTo>
                      <a:pt x="4179" y="104"/>
                      <a:pt x="4179" y="102"/>
                      <a:pt x="4178" y="100"/>
                    </a:cubicBezTo>
                    <a:cubicBezTo>
                      <a:pt x="4179" y="102"/>
                      <a:pt x="4179" y="105"/>
                      <a:pt x="4180" y="108"/>
                    </a:cubicBezTo>
                    <a:cubicBezTo>
                      <a:pt x="4179" y="111"/>
                      <a:pt x="4178" y="114"/>
                      <a:pt x="4177" y="117"/>
                    </a:cubicBezTo>
                    <a:cubicBezTo>
                      <a:pt x="4176" y="113"/>
                      <a:pt x="4174" y="108"/>
                      <a:pt x="4172" y="104"/>
                    </a:cubicBezTo>
                    <a:cubicBezTo>
                      <a:pt x="4173" y="87"/>
                      <a:pt x="4174" y="71"/>
                      <a:pt x="4174" y="71"/>
                    </a:cubicBezTo>
                    <a:cubicBezTo>
                      <a:pt x="4173" y="73"/>
                      <a:pt x="4171" y="84"/>
                      <a:pt x="4169" y="97"/>
                    </a:cubicBezTo>
                    <a:cubicBezTo>
                      <a:pt x="4168" y="95"/>
                      <a:pt x="4167" y="93"/>
                      <a:pt x="4166" y="92"/>
                    </a:cubicBezTo>
                    <a:cubicBezTo>
                      <a:pt x="4167" y="81"/>
                      <a:pt x="4168" y="72"/>
                      <a:pt x="4169" y="66"/>
                    </a:cubicBezTo>
                    <a:cubicBezTo>
                      <a:pt x="4168" y="73"/>
                      <a:pt x="4167" y="81"/>
                      <a:pt x="4165" y="90"/>
                    </a:cubicBezTo>
                    <a:cubicBezTo>
                      <a:pt x="4164" y="88"/>
                      <a:pt x="4162" y="86"/>
                      <a:pt x="4160" y="83"/>
                    </a:cubicBezTo>
                    <a:cubicBezTo>
                      <a:pt x="4164" y="26"/>
                      <a:pt x="4162" y="12"/>
                      <a:pt x="4162" y="12"/>
                    </a:cubicBezTo>
                    <a:cubicBezTo>
                      <a:pt x="4162" y="12"/>
                      <a:pt x="4162" y="18"/>
                      <a:pt x="4159" y="56"/>
                    </a:cubicBezTo>
                    <a:cubicBezTo>
                      <a:pt x="4158" y="64"/>
                      <a:pt x="4157" y="71"/>
                      <a:pt x="4156" y="78"/>
                    </a:cubicBezTo>
                    <a:cubicBezTo>
                      <a:pt x="4154" y="76"/>
                      <a:pt x="4151" y="73"/>
                      <a:pt x="4149" y="71"/>
                    </a:cubicBezTo>
                    <a:cubicBezTo>
                      <a:pt x="4150" y="48"/>
                      <a:pt x="4151" y="31"/>
                      <a:pt x="4151" y="31"/>
                    </a:cubicBezTo>
                    <a:cubicBezTo>
                      <a:pt x="4149" y="37"/>
                      <a:pt x="4147" y="52"/>
                      <a:pt x="4146" y="68"/>
                    </a:cubicBezTo>
                    <a:cubicBezTo>
                      <a:pt x="4144" y="66"/>
                      <a:pt x="4142" y="65"/>
                      <a:pt x="4140" y="63"/>
                    </a:cubicBezTo>
                    <a:cubicBezTo>
                      <a:pt x="4142" y="65"/>
                      <a:pt x="4144" y="67"/>
                      <a:pt x="4146" y="69"/>
                    </a:cubicBezTo>
                    <a:cubicBezTo>
                      <a:pt x="4145" y="82"/>
                      <a:pt x="4145" y="96"/>
                      <a:pt x="4144" y="109"/>
                    </a:cubicBezTo>
                    <a:cubicBezTo>
                      <a:pt x="4143" y="104"/>
                      <a:pt x="4141" y="99"/>
                      <a:pt x="4140" y="96"/>
                    </a:cubicBezTo>
                    <a:cubicBezTo>
                      <a:pt x="4141" y="104"/>
                      <a:pt x="4142" y="112"/>
                      <a:pt x="4144" y="120"/>
                    </a:cubicBezTo>
                    <a:cubicBezTo>
                      <a:pt x="4144" y="123"/>
                      <a:pt x="4144" y="126"/>
                      <a:pt x="4144" y="128"/>
                    </a:cubicBezTo>
                    <a:cubicBezTo>
                      <a:pt x="4143" y="125"/>
                      <a:pt x="4141" y="122"/>
                      <a:pt x="4140" y="118"/>
                    </a:cubicBezTo>
                    <a:cubicBezTo>
                      <a:pt x="4135" y="80"/>
                      <a:pt x="4128" y="28"/>
                      <a:pt x="4128" y="28"/>
                    </a:cubicBezTo>
                    <a:cubicBezTo>
                      <a:pt x="4128" y="39"/>
                      <a:pt x="4126" y="72"/>
                      <a:pt x="4124" y="100"/>
                    </a:cubicBezTo>
                    <a:cubicBezTo>
                      <a:pt x="4124" y="98"/>
                      <a:pt x="4123" y="97"/>
                      <a:pt x="4122" y="96"/>
                    </a:cubicBezTo>
                    <a:cubicBezTo>
                      <a:pt x="4123" y="97"/>
                      <a:pt x="4124" y="99"/>
                      <a:pt x="4124" y="100"/>
                    </a:cubicBezTo>
                    <a:cubicBezTo>
                      <a:pt x="4124" y="110"/>
                      <a:pt x="4123" y="120"/>
                      <a:pt x="4122" y="128"/>
                    </a:cubicBezTo>
                    <a:cubicBezTo>
                      <a:pt x="4122" y="128"/>
                      <a:pt x="4122" y="127"/>
                      <a:pt x="4122" y="127"/>
                    </a:cubicBezTo>
                    <a:cubicBezTo>
                      <a:pt x="4122" y="109"/>
                      <a:pt x="4120" y="87"/>
                      <a:pt x="4119" y="71"/>
                    </a:cubicBezTo>
                    <a:cubicBezTo>
                      <a:pt x="4120" y="68"/>
                      <a:pt x="4121" y="66"/>
                      <a:pt x="4122" y="64"/>
                    </a:cubicBezTo>
                    <a:cubicBezTo>
                      <a:pt x="4121" y="65"/>
                      <a:pt x="4120" y="67"/>
                      <a:pt x="4118" y="69"/>
                    </a:cubicBezTo>
                    <a:cubicBezTo>
                      <a:pt x="4118" y="61"/>
                      <a:pt x="4117" y="55"/>
                      <a:pt x="4117" y="53"/>
                    </a:cubicBezTo>
                    <a:cubicBezTo>
                      <a:pt x="4117" y="52"/>
                      <a:pt x="4118" y="52"/>
                      <a:pt x="4118" y="51"/>
                    </a:cubicBezTo>
                    <a:cubicBezTo>
                      <a:pt x="4118" y="51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5" y="54"/>
                      <a:pt x="4113" y="56"/>
                      <a:pt x="4111" y="57"/>
                    </a:cubicBezTo>
                    <a:cubicBezTo>
                      <a:pt x="4112" y="54"/>
                      <a:pt x="4112" y="52"/>
                      <a:pt x="4112" y="50"/>
                    </a:cubicBezTo>
                    <a:cubicBezTo>
                      <a:pt x="4116" y="46"/>
                      <a:pt x="4119" y="42"/>
                      <a:pt x="4123" y="38"/>
                    </a:cubicBezTo>
                    <a:cubicBezTo>
                      <a:pt x="4119" y="41"/>
                      <a:pt x="4116" y="44"/>
                      <a:pt x="4113" y="47"/>
                    </a:cubicBezTo>
                    <a:cubicBezTo>
                      <a:pt x="4113" y="43"/>
                      <a:pt x="4114" y="40"/>
                      <a:pt x="4114" y="40"/>
                    </a:cubicBezTo>
                    <a:cubicBezTo>
                      <a:pt x="4113" y="43"/>
                      <a:pt x="4111" y="46"/>
                      <a:pt x="4110" y="50"/>
                    </a:cubicBezTo>
                    <a:cubicBezTo>
                      <a:pt x="4103" y="58"/>
                      <a:pt x="4098" y="66"/>
                      <a:pt x="4094" y="75"/>
                    </a:cubicBezTo>
                    <a:cubicBezTo>
                      <a:pt x="4093" y="70"/>
                      <a:pt x="4093" y="66"/>
                      <a:pt x="4093" y="63"/>
                    </a:cubicBezTo>
                    <a:cubicBezTo>
                      <a:pt x="4096" y="57"/>
                      <a:pt x="4099" y="50"/>
                      <a:pt x="4103" y="42"/>
                    </a:cubicBezTo>
                    <a:cubicBezTo>
                      <a:pt x="4094" y="52"/>
                      <a:pt x="4088" y="61"/>
                      <a:pt x="4084" y="71"/>
                    </a:cubicBezTo>
                    <a:cubicBezTo>
                      <a:pt x="4083" y="70"/>
                      <a:pt x="4082" y="70"/>
                      <a:pt x="4082" y="69"/>
                    </a:cubicBezTo>
                    <a:cubicBezTo>
                      <a:pt x="4082" y="68"/>
                      <a:pt x="4082" y="67"/>
                      <a:pt x="4081" y="65"/>
                    </a:cubicBezTo>
                    <a:cubicBezTo>
                      <a:pt x="4088" y="53"/>
                      <a:pt x="4096" y="41"/>
                      <a:pt x="4107" y="25"/>
                    </a:cubicBezTo>
                    <a:cubicBezTo>
                      <a:pt x="4096" y="40"/>
                      <a:pt x="4088" y="51"/>
                      <a:pt x="4081" y="64"/>
                    </a:cubicBezTo>
                    <a:cubicBezTo>
                      <a:pt x="4079" y="45"/>
                      <a:pt x="4077" y="30"/>
                      <a:pt x="4077" y="30"/>
                    </a:cubicBezTo>
                    <a:cubicBezTo>
                      <a:pt x="4078" y="35"/>
                      <a:pt x="4078" y="49"/>
                      <a:pt x="4078" y="65"/>
                    </a:cubicBezTo>
                    <a:cubicBezTo>
                      <a:pt x="4078" y="65"/>
                      <a:pt x="4077" y="65"/>
                      <a:pt x="4077" y="65"/>
                    </a:cubicBezTo>
                    <a:cubicBezTo>
                      <a:pt x="4077" y="65"/>
                      <a:pt x="4078" y="65"/>
                      <a:pt x="4078" y="65"/>
                    </a:cubicBezTo>
                    <a:cubicBezTo>
                      <a:pt x="4078" y="67"/>
                      <a:pt x="4078" y="69"/>
                      <a:pt x="4077" y="71"/>
                    </a:cubicBezTo>
                    <a:cubicBezTo>
                      <a:pt x="4076" y="74"/>
                      <a:pt x="4075" y="78"/>
                      <a:pt x="4074" y="81"/>
                    </a:cubicBezTo>
                    <a:cubicBezTo>
                      <a:pt x="4075" y="78"/>
                      <a:pt x="4076" y="76"/>
                      <a:pt x="4077" y="73"/>
                    </a:cubicBezTo>
                    <a:cubicBezTo>
                      <a:pt x="4077" y="79"/>
                      <a:pt x="4077" y="85"/>
                      <a:pt x="4077" y="91"/>
                    </a:cubicBezTo>
                    <a:cubicBezTo>
                      <a:pt x="4076" y="93"/>
                      <a:pt x="4076" y="95"/>
                      <a:pt x="4076" y="97"/>
                    </a:cubicBezTo>
                    <a:cubicBezTo>
                      <a:pt x="4075" y="96"/>
                      <a:pt x="4074" y="95"/>
                      <a:pt x="4074" y="94"/>
                    </a:cubicBezTo>
                    <a:cubicBezTo>
                      <a:pt x="4073" y="91"/>
                      <a:pt x="4073" y="88"/>
                      <a:pt x="4073" y="85"/>
                    </a:cubicBezTo>
                    <a:cubicBezTo>
                      <a:pt x="4073" y="83"/>
                      <a:pt x="4074" y="82"/>
                      <a:pt x="4074" y="81"/>
                    </a:cubicBezTo>
                    <a:cubicBezTo>
                      <a:pt x="4074" y="82"/>
                      <a:pt x="4073" y="83"/>
                      <a:pt x="4073" y="84"/>
                    </a:cubicBezTo>
                    <a:cubicBezTo>
                      <a:pt x="4072" y="72"/>
                      <a:pt x="4071" y="62"/>
                      <a:pt x="4071" y="55"/>
                    </a:cubicBezTo>
                    <a:cubicBezTo>
                      <a:pt x="4072" y="54"/>
                      <a:pt x="4073" y="53"/>
                      <a:pt x="4075" y="52"/>
                    </a:cubicBezTo>
                    <a:cubicBezTo>
                      <a:pt x="4073" y="53"/>
                      <a:pt x="4072" y="54"/>
                      <a:pt x="4071" y="54"/>
                    </a:cubicBezTo>
                    <a:cubicBezTo>
                      <a:pt x="4071" y="49"/>
                      <a:pt x="4070" y="46"/>
                      <a:pt x="4070" y="46"/>
                    </a:cubicBezTo>
                    <a:cubicBezTo>
                      <a:pt x="4070" y="48"/>
                      <a:pt x="4070" y="51"/>
                      <a:pt x="4070" y="55"/>
                    </a:cubicBezTo>
                    <a:cubicBezTo>
                      <a:pt x="4067" y="57"/>
                      <a:pt x="4064" y="59"/>
                      <a:pt x="4061" y="62"/>
                    </a:cubicBezTo>
                    <a:cubicBezTo>
                      <a:pt x="4061" y="58"/>
                      <a:pt x="4061" y="54"/>
                      <a:pt x="4061" y="50"/>
                    </a:cubicBezTo>
                    <a:cubicBezTo>
                      <a:pt x="4065" y="45"/>
                      <a:pt x="4070" y="40"/>
                      <a:pt x="4075" y="34"/>
                    </a:cubicBezTo>
                    <a:cubicBezTo>
                      <a:pt x="4070" y="39"/>
                      <a:pt x="4065" y="44"/>
                      <a:pt x="4061" y="48"/>
                    </a:cubicBezTo>
                    <a:cubicBezTo>
                      <a:pt x="4062" y="21"/>
                      <a:pt x="4064" y="0"/>
                      <a:pt x="4064" y="0"/>
                    </a:cubicBezTo>
                    <a:cubicBezTo>
                      <a:pt x="4060" y="10"/>
                      <a:pt x="4058" y="35"/>
                      <a:pt x="4057" y="53"/>
                    </a:cubicBezTo>
                    <a:cubicBezTo>
                      <a:pt x="4056" y="54"/>
                      <a:pt x="4055" y="55"/>
                      <a:pt x="4055" y="56"/>
                    </a:cubicBezTo>
                    <a:cubicBezTo>
                      <a:pt x="4053" y="44"/>
                      <a:pt x="4050" y="33"/>
                      <a:pt x="4050" y="33"/>
                    </a:cubicBezTo>
                    <a:cubicBezTo>
                      <a:pt x="4051" y="39"/>
                      <a:pt x="4051" y="49"/>
                      <a:pt x="4050" y="62"/>
                    </a:cubicBezTo>
                    <a:cubicBezTo>
                      <a:pt x="4048" y="63"/>
                      <a:pt x="4047" y="65"/>
                      <a:pt x="4046" y="67"/>
                    </a:cubicBezTo>
                    <a:cubicBezTo>
                      <a:pt x="4045" y="65"/>
                      <a:pt x="4044" y="63"/>
                      <a:pt x="4043" y="62"/>
                    </a:cubicBezTo>
                    <a:cubicBezTo>
                      <a:pt x="4043" y="63"/>
                      <a:pt x="4044" y="65"/>
                      <a:pt x="4045" y="68"/>
                    </a:cubicBezTo>
                    <a:cubicBezTo>
                      <a:pt x="4042" y="72"/>
                      <a:pt x="4040" y="75"/>
                      <a:pt x="4039" y="78"/>
                    </a:cubicBezTo>
                    <a:cubicBezTo>
                      <a:pt x="4038" y="61"/>
                      <a:pt x="4038" y="48"/>
                      <a:pt x="4038" y="48"/>
                    </a:cubicBezTo>
                    <a:cubicBezTo>
                      <a:pt x="4037" y="52"/>
                      <a:pt x="4036" y="65"/>
                      <a:pt x="4034" y="80"/>
                    </a:cubicBezTo>
                    <a:cubicBezTo>
                      <a:pt x="4033" y="82"/>
                      <a:pt x="4033" y="85"/>
                      <a:pt x="4032" y="87"/>
                    </a:cubicBezTo>
                    <a:cubicBezTo>
                      <a:pt x="4031" y="86"/>
                      <a:pt x="4031" y="86"/>
                      <a:pt x="4030" y="85"/>
                    </a:cubicBezTo>
                    <a:cubicBezTo>
                      <a:pt x="4033" y="48"/>
                      <a:pt x="4036" y="9"/>
                      <a:pt x="4036" y="9"/>
                    </a:cubicBezTo>
                    <a:cubicBezTo>
                      <a:pt x="4032" y="20"/>
                      <a:pt x="4028" y="57"/>
                      <a:pt x="4024" y="89"/>
                    </a:cubicBezTo>
                    <a:cubicBezTo>
                      <a:pt x="4023" y="91"/>
                      <a:pt x="4022" y="92"/>
                      <a:pt x="4022" y="93"/>
                    </a:cubicBezTo>
                    <a:cubicBezTo>
                      <a:pt x="4021" y="92"/>
                      <a:pt x="4020" y="90"/>
                      <a:pt x="4019" y="89"/>
                    </a:cubicBezTo>
                    <a:cubicBezTo>
                      <a:pt x="4022" y="72"/>
                      <a:pt x="4025" y="55"/>
                      <a:pt x="4025" y="37"/>
                    </a:cubicBezTo>
                    <a:cubicBezTo>
                      <a:pt x="4025" y="34"/>
                      <a:pt x="4025" y="30"/>
                      <a:pt x="4025" y="26"/>
                    </a:cubicBezTo>
                    <a:cubicBezTo>
                      <a:pt x="4018" y="45"/>
                      <a:pt x="4017" y="66"/>
                      <a:pt x="4013" y="86"/>
                    </a:cubicBezTo>
                    <a:cubicBezTo>
                      <a:pt x="4012" y="85"/>
                      <a:pt x="4012" y="84"/>
                      <a:pt x="4011" y="84"/>
                    </a:cubicBezTo>
                    <a:cubicBezTo>
                      <a:pt x="4012" y="84"/>
                      <a:pt x="4012" y="85"/>
                      <a:pt x="4013" y="86"/>
                    </a:cubicBezTo>
                    <a:cubicBezTo>
                      <a:pt x="4012" y="88"/>
                      <a:pt x="4012" y="90"/>
                      <a:pt x="4012" y="92"/>
                    </a:cubicBezTo>
                    <a:cubicBezTo>
                      <a:pt x="4011" y="94"/>
                      <a:pt x="4011" y="96"/>
                      <a:pt x="4010" y="98"/>
                    </a:cubicBezTo>
                    <a:cubicBezTo>
                      <a:pt x="4010" y="97"/>
                      <a:pt x="4009" y="96"/>
                      <a:pt x="4008" y="94"/>
                    </a:cubicBezTo>
                    <a:cubicBezTo>
                      <a:pt x="4008" y="86"/>
                      <a:pt x="4007" y="78"/>
                      <a:pt x="4006" y="72"/>
                    </a:cubicBezTo>
                    <a:cubicBezTo>
                      <a:pt x="4009" y="67"/>
                      <a:pt x="4013" y="63"/>
                      <a:pt x="4017" y="59"/>
                    </a:cubicBezTo>
                    <a:cubicBezTo>
                      <a:pt x="4013" y="62"/>
                      <a:pt x="4009" y="66"/>
                      <a:pt x="4006" y="70"/>
                    </a:cubicBezTo>
                    <a:cubicBezTo>
                      <a:pt x="4005" y="64"/>
                      <a:pt x="4005" y="60"/>
                      <a:pt x="4004" y="57"/>
                    </a:cubicBezTo>
                    <a:cubicBezTo>
                      <a:pt x="4005" y="54"/>
                      <a:pt x="4007" y="52"/>
                      <a:pt x="4008" y="50"/>
                    </a:cubicBezTo>
                    <a:cubicBezTo>
                      <a:pt x="4007" y="51"/>
                      <a:pt x="4005" y="53"/>
                      <a:pt x="4004" y="54"/>
                    </a:cubicBezTo>
                    <a:cubicBezTo>
                      <a:pt x="4004" y="53"/>
                      <a:pt x="4004" y="52"/>
                      <a:pt x="4004" y="52"/>
                    </a:cubicBezTo>
                    <a:cubicBezTo>
                      <a:pt x="4004" y="53"/>
                      <a:pt x="4004" y="54"/>
                      <a:pt x="4004" y="54"/>
                    </a:cubicBezTo>
                    <a:cubicBezTo>
                      <a:pt x="4002" y="56"/>
                      <a:pt x="4000" y="58"/>
                      <a:pt x="3998" y="60"/>
                    </a:cubicBezTo>
                    <a:cubicBezTo>
                      <a:pt x="3997" y="54"/>
                      <a:pt x="3996" y="48"/>
                      <a:pt x="3995" y="44"/>
                    </a:cubicBezTo>
                    <a:cubicBezTo>
                      <a:pt x="3996" y="49"/>
                      <a:pt x="3995" y="56"/>
                      <a:pt x="3994" y="64"/>
                    </a:cubicBezTo>
                    <a:cubicBezTo>
                      <a:pt x="3993" y="66"/>
                      <a:pt x="3992" y="68"/>
                      <a:pt x="3991" y="69"/>
                    </a:cubicBezTo>
                    <a:cubicBezTo>
                      <a:pt x="3989" y="67"/>
                      <a:pt x="3988" y="66"/>
                      <a:pt x="3986" y="64"/>
                    </a:cubicBezTo>
                    <a:cubicBezTo>
                      <a:pt x="3988" y="66"/>
                      <a:pt x="3989" y="67"/>
                      <a:pt x="3991" y="69"/>
                    </a:cubicBezTo>
                    <a:cubicBezTo>
                      <a:pt x="3989" y="71"/>
                      <a:pt x="3988" y="73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6" y="76"/>
                      <a:pt x="3985" y="77"/>
                      <a:pt x="3984" y="79"/>
                    </a:cubicBezTo>
                    <a:cubicBezTo>
                      <a:pt x="3984" y="79"/>
                      <a:pt x="3984" y="79"/>
                      <a:pt x="3984" y="79"/>
                    </a:cubicBezTo>
                    <a:cubicBezTo>
                      <a:pt x="3985" y="60"/>
                      <a:pt x="3985" y="45"/>
                      <a:pt x="3985" y="45"/>
                    </a:cubicBezTo>
                    <a:cubicBezTo>
                      <a:pt x="3985" y="50"/>
                      <a:pt x="3983" y="61"/>
                      <a:pt x="3980" y="73"/>
                    </a:cubicBezTo>
                    <a:cubicBezTo>
                      <a:pt x="3979" y="73"/>
                      <a:pt x="3979" y="73"/>
                      <a:pt x="3978" y="72"/>
                    </a:cubicBezTo>
                    <a:cubicBezTo>
                      <a:pt x="3979" y="70"/>
                      <a:pt x="3979" y="68"/>
                      <a:pt x="3979" y="66"/>
                    </a:cubicBezTo>
                    <a:cubicBezTo>
                      <a:pt x="3979" y="65"/>
                      <a:pt x="3979" y="65"/>
                      <a:pt x="3980" y="65"/>
                    </a:cubicBezTo>
                    <a:cubicBezTo>
                      <a:pt x="3979" y="65"/>
                      <a:pt x="3979" y="65"/>
                      <a:pt x="3979" y="66"/>
                    </a:cubicBezTo>
                    <a:cubicBezTo>
                      <a:pt x="3979" y="64"/>
                      <a:pt x="3979" y="63"/>
                      <a:pt x="3979" y="61"/>
                    </a:cubicBezTo>
                    <a:cubicBezTo>
                      <a:pt x="3979" y="55"/>
                      <a:pt x="3979" y="49"/>
                      <a:pt x="3978" y="42"/>
                    </a:cubicBezTo>
                    <a:cubicBezTo>
                      <a:pt x="3981" y="27"/>
                      <a:pt x="3983" y="17"/>
                      <a:pt x="3983" y="17"/>
                    </a:cubicBezTo>
                    <a:cubicBezTo>
                      <a:pt x="3980" y="22"/>
                      <a:pt x="3973" y="49"/>
                      <a:pt x="3967" y="78"/>
                    </a:cubicBezTo>
                    <a:cubicBezTo>
                      <a:pt x="3967" y="78"/>
                      <a:pt x="3967" y="79"/>
                      <a:pt x="3966" y="79"/>
                    </a:cubicBezTo>
                    <a:cubicBezTo>
                      <a:pt x="3965" y="76"/>
                      <a:pt x="3962" y="72"/>
                      <a:pt x="3960" y="69"/>
                    </a:cubicBezTo>
                    <a:cubicBezTo>
                      <a:pt x="3961" y="67"/>
                      <a:pt x="3963" y="66"/>
                      <a:pt x="3965" y="64"/>
                    </a:cubicBezTo>
                    <a:cubicBezTo>
                      <a:pt x="3963" y="66"/>
                      <a:pt x="3961" y="67"/>
                      <a:pt x="3960" y="69"/>
                    </a:cubicBezTo>
                    <a:cubicBezTo>
                      <a:pt x="3959" y="68"/>
                      <a:pt x="3958" y="67"/>
                      <a:pt x="3957" y="66"/>
                    </a:cubicBezTo>
                    <a:cubicBezTo>
                      <a:pt x="3957" y="60"/>
                      <a:pt x="3956" y="55"/>
                      <a:pt x="3956" y="52"/>
                    </a:cubicBezTo>
                    <a:cubicBezTo>
                      <a:pt x="3956" y="56"/>
                      <a:pt x="3956" y="60"/>
                      <a:pt x="3956" y="64"/>
                    </a:cubicBezTo>
                    <a:cubicBezTo>
                      <a:pt x="3952" y="60"/>
                      <a:pt x="3948" y="55"/>
                      <a:pt x="3943" y="50"/>
                    </a:cubicBezTo>
                    <a:cubicBezTo>
                      <a:pt x="3945" y="55"/>
                      <a:pt x="3949" y="60"/>
                      <a:pt x="3952" y="65"/>
                    </a:cubicBezTo>
                    <a:cubicBezTo>
                      <a:pt x="3951" y="68"/>
                      <a:pt x="3951" y="71"/>
                      <a:pt x="3950" y="76"/>
                    </a:cubicBezTo>
                    <a:cubicBezTo>
                      <a:pt x="3948" y="74"/>
                      <a:pt x="3946" y="71"/>
                      <a:pt x="3943" y="68"/>
                    </a:cubicBezTo>
                    <a:cubicBezTo>
                      <a:pt x="3943" y="54"/>
                      <a:pt x="3942" y="41"/>
                      <a:pt x="3941" y="33"/>
                    </a:cubicBezTo>
                    <a:cubicBezTo>
                      <a:pt x="3942" y="42"/>
                      <a:pt x="3941" y="53"/>
                      <a:pt x="3940" y="65"/>
                    </a:cubicBezTo>
                    <a:cubicBezTo>
                      <a:pt x="3938" y="63"/>
                      <a:pt x="3936" y="61"/>
                      <a:pt x="3934" y="59"/>
                    </a:cubicBezTo>
                    <a:cubicBezTo>
                      <a:pt x="3936" y="61"/>
                      <a:pt x="3938" y="63"/>
                      <a:pt x="3940" y="65"/>
                    </a:cubicBezTo>
                    <a:cubicBezTo>
                      <a:pt x="3939" y="72"/>
                      <a:pt x="3938" y="80"/>
                      <a:pt x="3937" y="87"/>
                    </a:cubicBezTo>
                    <a:cubicBezTo>
                      <a:pt x="3937" y="87"/>
                      <a:pt x="3937" y="87"/>
                      <a:pt x="3937" y="87"/>
                    </a:cubicBezTo>
                    <a:cubicBezTo>
                      <a:pt x="3936" y="85"/>
                      <a:pt x="3936" y="84"/>
                      <a:pt x="3935" y="83"/>
                    </a:cubicBezTo>
                    <a:cubicBezTo>
                      <a:pt x="3936" y="82"/>
                      <a:pt x="3936" y="82"/>
                      <a:pt x="3936" y="81"/>
                    </a:cubicBezTo>
                    <a:cubicBezTo>
                      <a:pt x="3936" y="82"/>
                      <a:pt x="3936" y="82"/>
                      <a:pt x="3935" y="83"/>
                    </a:cubicBezTo>
                    <a:cubicBezTo>
                      <a:pt x="3935" y="81"/>
                      <a:pt x="3934" y="79"/>
                      <a:pt x="3933" y="77"/>
                    </a:cubicBezTo>
                    <a:cubicBezTo>
                      <a:pt x="3934" y="79"/>
                      <a:pt x="3934" y="81"/>
                      <a:pt x="3935" y="83"/>
                    </a:cubicBezTo>
                    <a:cubicBezTo>
                      <a:pt x="3934" y="85"/>
                      <a:pt x="3933" y="86"/>
                      <a:pt x="3932" y="88"/>
                    </a:cubicBezTo>
                    <a:cubicBezTo>
                      <a:pt x="3933" y="86"/>
                      <a:pt x="3934" y="85"/>
                      <a:pt x="3935" y="83"/>
                    </a:cubicBezTo>
                    <a:cubicBezTo>
                      <a:pt x="3935" y="85"/>
                      <a:pt x="3936" y="86"/>
                      <a:pt x="3936" y="88"/>
                    </a:cubicBezTo>
                    <a:cubicBezTo>
                      <a:pt x="3934" y="91"/>
                      <a:pt x="3933" y="95"/>
                      <a:pt x="3931" y="98"/>
                    </a:cubicBezTo>
                    <a:cubicBezTo>
                      <a:pt x="3931" y="97"/>
                      <a:pt x="3931" y="97"/>
                      <a:pt x="3930" y="97"/>
                    </a:cubicBezTo>
                    <a:cubicBezTo>
                      <a:pt x="3930" y="95"/>
                      <a:pt x="3930" y="94"/>
                      <a:pt x="3930" y="93"/>
                    </a:cubicBezTo>
                    <a:cubicBezTo>
                      <a:pt x="3930" y="91"/>
                      <a:pt x="3931" y="89"/>
                      <a:pt x="3932" y="88"/>
                    </a:cubicBezTo>
                    <a:cubicBezTo>
                      <a:pt x="3931" y="89"/>
                      <a:pt x="3930" y="91"/>
                      <a:pt x="3929" y="92"/>
                    </a:cubicBezTo>
                    <a:cubicBezTo>
                      <a:pt x="3929" y="92"/>
                      <a:pt x="3929" y="91"/>
                      <a:pt x="3929" y="91"/>
                    </a:cubicBezTo>
                    <a:cubicBezTo>
                      <a:pt x="3929" y="74"/>
                      <a:pt x="3928" y="60"/>
                      <a:pt x="3928" y="60"/>
                    </a:cubicBezTo>
                    <a:cubicBezTo>
                      <a:pt x="3928" y="65"/>
                      <a:pt x="3927" y="73"/>
                      <a:pt x="3927" y="81"/>
                    </a:cubicBezTo>
                    <a:cubicBezTo>
                      <a:pt x="3926" y="79"/>
                      <a:pt x="3926" y="76"/>
                      <a:pt x="3925" y="74"/>
                    </a:cubicBezTo>
                    <a:cubicBezTo>
                      <a:pt x="3926" y="79"/>
                      <a:pt x="3926" y="83"/>
                      <a:pt x="3926" y="88"/>
                    </a:cubicBezTo>
                    <a:cubicBezTo>
                      <a:pt x="3925" y="86"/>
                      <a:pt x="3924" y="84"/>
                      <a:pt x="3923" y="83"/>
                    </a:cubicBezTo>
                    <a:cubicBezTo>
                      <a:pt x="3924" y="85"/>
                      <a:pt x="3925" y="87"/>
                      <a:pt x="3926" y="89"/>
                    </a:cubicBezTo>
                    <a:cubicBezTo>
                      <a:pt x="3926" y="89"/>
                      <a:pt x="3926" y="89"/>
                      <a:pt x="3926" y="89"/>
                    </a:cubicBezTo>
                    <a:cubicBezTo>
                      <a:pt x="3926" y="93"/>
                      <a:pt x="3925" y="97"/>
                      <a:pt x="3925" y="101"/>
                    </a:cubicBezTo>
                    <a:cubicBezTo>
                      <a:pt x="3924" y="103"/>
                      <a:pt x="3923" y="104"/>
                      <a:pt x="3923" y="106"/>
                    </a:cubicBezTo>
                    <a:cubicBezTo>
                      <a:pt x="3921" y="100"/>
                      <a:pt x="3920" y="95"/>
                      <a:pt x="3918" y="90"/>
                    </a:cubicBezTo>
                    <a:cubicBezTo>
                      <a:pt x="3919" y="88"/>
                      <a:pt x="3921" y="85"/>
                      <a:pt x="3922" y="83"/>
                    </a:cubicBezTo>
                    <a:cubicBezTo>
                      <a:pt x="3921" y="85"/>
                      <a:pt x="3919" y="87"/>
                      <a:pt x="3917" y="89"/>
                    </a:cubicBezTo>
                    <a:cubicBezTo>
                      <a:pt x="3917" y="88"/>
                      <a:pt x="3916" y="87"/>
                      <a:pt x="3916" y="87"/>
                    </a:cubicBezTo>
                    <a:cubicBezTo>
                      <a:pt x="3916" y="76"/>
                      <a:pt x="3917" y="68"/>
                      <a:pt x="3917" y="68"/>
                    </a:cubicBezTo>
                    <a:cubicBezTo>
                      <a:pt x="3916" y="72"/>
                      <a:pt x="3915" y="77"/>
                      <a:pt x="3914" y="82"/>
                    </a:cubicBezTo>
                    <a:cubicBezTo>
                      <a:pt x="3914" y="81"/>
                      <a:pt x="3914" y="80"/>
                      <a:pt x="3914" y="80"/>
                    </a:cubicBezTo>
                    <a:cubicBezTo>
                      <a:pt x="3914" y="80"/>
                      <a:pt x="3914" y="81"/>
                      <a:pt x="3914" y="82"/>
                    </a:cubicBezTo>
                    <a:cubicBezTo>
                      <a:pt x="3913" y="80"/>
                      <a:pt x="3912" y="78"/>
                      <a:pt x="3910" y="75"/>
                    </a:cubicBezTo>
                    <a:cubicBezTo>
                      <a:pt x="3911" y="65"/>
                      <a:pt x="3912" y="56"/>
                      <a:pt x="3913" y="48"/>
                    </a:cubicBezTo>
                    <a:cubicBezTo>
                      <a:pt x="3912" y="55"/>
                      <a:pt x="3910" y="64"/>
                      <a:pt x="3909" y="73"/>
                    </a:cubicBezTo>
                    <a:cubicBezTo>
                      <a:pt x="3907" y="70"/>
                      <a:pt x="3905" y="67"/>
                      <a:pt x="3903" y="64"/>
                    </a:cubicBezTo>
                    <a:cubicBezTo>
                      <a:pt x="3903" y="62"/>
                      <a:pt x="3903" y="59"/>
                      <a:pt x="3903" y="57"/>
                    </a:cubicBezTo>
                    <a:cubicBezTo>
                      <a:pt x="3902" y="58"/>
                      <a:pt x="3902" y="60"/>
                      <a:pt x="3901" y="62"/>
                    </a:cubicBezTo>
                    <a:cubicBezTo>
                      <a:pt x="3899" y="59"/>
                      <a:pt x="3896" y="55"/>
                      <a:pt x="3893" y="52"/>
                    </a:cubicBezTo>
                    <a:cubicBezTo>
                      <a:pt x="3893" y="48"/>
                      <a:pt x="3893" y="46"/>
                      <a:pt x="3893" y="46"/>
                    </a:cubicBezTo>
                    <a:cubicBezTo>
                      <a:pt x="3893" y="48"/>
                      <a:pt x="3893" y="49"/>
                      <a:pt x="3892" y="51"/>
                    </a:cubicBezTo>
                    <a:cubicBezTo>
                      <a:pt x="3889" y="47"/>
                      <a:pt x="3885" y="43"/>
                      <a:pt x="3881" y="39"/>
                    </a:cubicBezTo>
                    <a:cubicBezTo>
                      <a:pt x="3881" y="37"/>
                      <a:pt x="3881" y="35"/>
                      <a:pt x="3880" y="34"/>
                    </a:cubicBezTo>
                    <a:cubicBezTo>
                      <a:pt x="3880" y="34"/>
                      <a:pt x="3881" y="36"/>
                      <a:pt x="3881" y="39"/>
                    </a:cubicBezTo>
                    <a:cubicBezTo>
                      <a:pt x="3879" y="37"/>
                      <a:pt x="3878" y="36"/>
                      <a:pt x="3876" y="34"/>
                    </a:cubicBezTo>
                    <a:cubicBezTo>
                      <a:pt x="3878" y="36"/>
                      <a:pt x="3879" y="38"/>
                      <a:pt x="3881" y="40"/>
                    </a:cubicBezTo>
                    <a:cubicBezTo>
                      <a:pt x="3881" y="40"/>
                      <a:pt x="3881" y="40"/>
                      <a:pt x="3881" y="41"/>
                    </a:cubicBezTo>
                    <a:cubicBezTo>
                      <a:pt x="3881" y="40"/>
                      <a:pt x="3881" y="40"/>
                      <a:pt x="3881" y="40"/>
                    </a:cubicBezTo>
                    <a:cubicBezTo>
                      <a:pt x="3885" y="45"/>
                      <a:pt x="3888" y="49"/>
                      <a:pt x="3892" y="53"/>
                    </a:cubicBezTo>
                    <a:cubicBezTo>
                      <a:pt x="3891" y="55"/>
                      <a:pt x="3890" y="59"/>
                      <a:pt x="3890" y="62"/>
                    </a:cubicBezTo>
                    <a:cubicBezTo>
                      <a:pt x="3887" y="60"/>
                      <a:pt x="3885" y="58"/>
                      <a:pt x="3882" y="56"/>
                    </a:cubicBezTo>
                    <a:cubicBezTo>
                      <a:pt x="3881" y="50"/>
                      <a:pt x="3881" y="44"/>
                      <a:pt x="3881" y="41"/>
                    </a:cubicBezTo>
                    <a:cubicBezTo>
                      <a:pt x="3881" y="45"/>
                      <a:pt x="3881" y="50"/>
                      <a:pt x="3880" y="55"/>
                    </a:cubicBezTo>
                    <a:cubicBezTo>
                      <a:pt x="3879" y="54"/>
                      <a:pt x="3878" y="53"/>
                      <a:pt x="3876" y="52"/>
                    </a:cubicBezTo>
                    <a:cubicBezTo>
                      <a:pt x="3878" y="53"/>
                      <a:pt x="3879" y="54"/>
                      <a:pt x="3880" y="55"/>
                    </a:cubicBezTo>
                    <a:cubicBezTo>
                      <a:pt x="3880" y="64"/>
                      <a:pt x="3879" y="73"/>
                      <a:pt x="3877" y="83"/>
                    </a:cubicBezTo>
                    <a:cubicBezTo>
                      <a:pt x="3877" y="82"/>
                      <a:pt x="3877" y="81"/>
                      <a:pt x="3877" y="81"/>
                    </a:cubicBezTo>
                    <a:cubicBezTo>
                      <a:pt x="3877" y="82"/>
                      <a:pt x="3877" y="82"/>
                      <a:pt x="3877" y="83"/>
                    </a:cubicBezTo>
                    <a:cubicBezTo>
                      <a:pt x="3876" y="88"/>
                      <a:pt x="3876" y="92"/>
                      <a:pt x="3875" y="97"/>
                    </a:cubicBezTo>
                    <a:cubicBezTo>
                      <a:pt x="3873" y="89"/>
                      <a:pt x="3871" y="81"/>
                      <a:pt x="3868" y="73"/>
                    </a:cubicBezTo>
                    <a:cubicBezTo>
                      <a:pt x="3868" y="72"/>
                      <a:pt x="3868" y="71"/>
                      <a:pt x="3868" y="71"/>
                    </a:cubicBezTo>
                    <a:cubicBezTo>
                      <a:pt x="3869" y="70"/>
                      <a:pt x="3870" y="69"/>
                      <a:pt x="3871" y="68"/>
                    </a:cubicBezTo>
                    <a:cubicBezTo>
                      <a:pt x="3873" y="72"/>
                      <a:pt x="3875" y="76"/>
                      <a:pt x="3877" y="81"/>
                    </a:cubicBezTo>
                    <a:cubicBezTo>
                      <a:pt x="3875" y="76"/>
                      <a:pt x="3873" y="72"/>
                      <a:pt x="3871" y="67"/>
                    </a:cubicBezTo>
                    <a:cubicBezTo>
                      <a:pt x="3872" y="67"/>
                      <a:pt x="3872" y="66"/>
                      <a:pt x="3873" y="65"/>
                    </a:cubicBezTo>
                    <a:cubicBezTo>
                      <a:pt x="3872" y="66"/>
                      <a:pt x="3872" y="66"/>
                      <a:pt x="3871" y="67"/>
                    </a:cubicBezTo>
                    <a:cubicBezTo>
                      <a:pt x="3865" y="54"/>
                      <a:pt x="3855" y="41"/>
                      <a:pt x="3843" y="25"/>
                    </a:cubicBezTo>
                    <a:cubicBezTo>
                      <a:pt x="3855" y="42"/>
                      <a:pt x="3864" y="55"/>
                      <a:pt x="3870" y="68"/>
                    </a:cubicBezTo>
                    <a:cubicBezTo>
                      <a:pt x="3870" y="68"/>
                      <a:pt x="3869" y="69"/>
                      <a:pt x="3868" y="70"/>
                    </a:cubicBezTo>
                    <a:cubicBezTo>
                      <a:pt x="3868" y="68"/>
                      <a:pt x="3868" y="66"/>
                      <a:pt x="3868" y="66"/>
                    </a:cubicBezTo>
                    <a:cubicBezTo>
                      <a:pt x="3868" y="68"/>
                      <a:pt x="3868" y="69"/>
                      <a:pt x="3867" y="71"/>
                    </a:cubicBezTo>
                    <a:cubicBezTo>
                      <a:pt x="3867" y="71"/>
                      <a:pt x="3867" y="71"/>
                      <a:pt x="3867" y="71"/>
                    </a:cubicBezTo>
                    <a:cubicBezTo>
                      <a:pt x="3863" y="61"/>
                      <a:pt x="3856" y="52"/>
                      <a:pt x="3847" y="42"/>
                    </a:cubicBezTo>
                    <a:cubicBezTo>
                      <a:pt x="3854" y="55"/>
                      <a:pt x="3859" y="65"/>
                      <a:pt x="3863" y="75"/>
                    </a:cubicBezTo>
                    <a:cubicBezTo>
                      <a:pt x="3862" y="76"/>
                      <a:pt x="3861" y="77"/>
                      <a:pt x="3860" y="77"/>
                    </a:cubicBezTo>
                    <a:cubicBezTo>
                      <a:pt x="3858" y="73"/>
                      <a:pt x="3856" y="70"/>
                      <a:pt x="3854" y="68"/>
                    </a:cubicBezTo>
                    <a:cubicBezTo>
                      <a:pt x="3853" y="63"/>
                      <a:pt x="3853" y="60"/>
                      <a:pt x="3853" y="60"/>
                    </a:cubicBezTo>
                    <a:cubicBezTo>
                      <a:pt x="3853" y="62"/>
                      <a:pt x="3853" y="64"/>
                      <a:pt x="3853" y="67"/>
                    </a:cubicBezTo>
                    <a:cubicBezTo>
                      <a:pt x="3847" y="57"/>
                      <a:pt x="3839" y="47"/>
                      <a:pt x="3828" y="38"/>
                    </a:cubicBezTo>
                    <a:cubicBezTo>
                      <a:pt x="3838" y="49"/>
                      <a:pt x="3846" y="60"/>
                      <a:pt x="3852" y="71"/>
                    </a:cubicBezTo>
                    <a:cubicBezTo>
                      <a:pt x="3852" y="75"/>
                      <a:pt x="3852" y="80"/>
                      <a:pt x="3851" y="85"/>
                    </a:cubicBezTo>
                    <a:cubicBezTo>
                      <a:pt x="3851" y="84"/>
                      <a:pt x="3851" y="83"/>
                      <a:pt x="3850" y="83"/>
                    </a:cubicBezTo>
                    <a:cubicBezTo>
                      <a:pt x="3850" y="84"/>
                      <a:pt x="3851" y="85"/>
                      <a:pt x="3851" y="86"/>
                    </a:cubicBezTo>
                    <a:cubicBezTo>
                      <a:pt x="3851" y="87"/>
                      <a:pt x="3851" y="88"/>
                      <a:pt x="3851" y="89"/>
                    </a:cubicBezTo>
                    <a:cubicBezTo>
                      <a:pt x="3849" y="92"/>
                      <a:pt x="3848" y="94"/>
                      <a:pt x="3846" y="97"/>
                    </a:cubicBezTo>
                    <a:cubicBezTo>
                      <a:pt x="3846" y="93"/>
                      <a:pt x="3846" y="90"/>
                      <a:pt x="3846" y="87"/>
                    </a:cubicBezTo>
                    <a:cubicBezTo>
                      <a:pt x="3847" y="84"/>
                      <a:pt x="3848" y="82"/>
                      <a:pt x="3848" y="80"/>
                    </a:cubicBezTo>
                    <a:cubicBezTo>
                      <a:pt x="3849" y="81"/>
                      <a:pt x="3849" y="82"/>
                      <a:pt x="3850" y="83"/>
                    </a:cubicBezTo>
                    <a:cubicBezTo>
                      <a:pt x="3849" y="81"/>
                      <a:pt x="3849" y="80"/>
                      <a:pt x="3848" y="79"/>
                    </a:cubicBezTo>
                    <a:cubicBezTo>
                      <a:pt x="3849" y="79"/>
                      <a:pt x="3849" y="78"/>
                      <a:pt x="3849" y="77"/>
                    </a:cubicBezTo>
                    <a:cubicBezTo>
                      <a:pt x="3849" y="77"/>
                      <a:pt x="3848" y="78"/>
                      <a:pt x="3848" y="79"/>
                    </a:cubicBezTo>
                    <a:cubicBezTo>
                      <a:pt x="3847" y="77"/>
                      <a:pt x="3847" y="76"/>
                      <a:pt x="3846" y="75"/>
                    </a:cubicBezTo>
                    <a:cubicBezTo>
                      <a:pt x="3847" y="77"/>
                      <a:pt x="3847" y="78"/>
                      <a:pt x="3848" y="79"/>
                    </a:cubicBezTo>
                    <a:cubicBezTo>
                      <a:pt x="3847" y="80"/>
                      <a:pt x="3846" y="81"/>
                      <a:pt x="3846" y="82"/>
                    </a:cubicBezTo>
                    <a:cubicBezTo>
                      <a:pt x="3846" y="73"/>
                      <a:pt x="3846" y="68"/>
                      <a:pt x="3846" y="68"/>
                    </a:cubicBezTo>
                    <a:cubicBezTo>
                      <a:pt x="3845" y="72"/>
                      <a:pt x="3845" y="78"/>
                      <a:pt x="3844" y="85"/>
                    </a:cubicBezTo>
                    <a:cubicBezTo>
                      <a:pt x="3841" y="90"/>
                      <a:pt x="3839" y="94"/>
                      <a:pt x="3838" y="99"/>
                    </a:cubicBezTo>
                    <a:cubicBezTo>
                      <a:pt x="3837" y="98"/>
                      <a:pt x="3837" y="97"/>
                      <a:pt x="3837" y="96"/>
                    </a:cubicBezTo>
                    <a:cubicBezTo>
                      <a:pt x="3837" y="92"/>
                      <a:pt x="3838" y="89"/>
                      <a:pt x="3838" y="89"/>
                    </a:cubicBezTo>
                    <a:cubicBezTo>
                      <a:pt x="3838" y="91"/>
                      <a:pt x="3837" y="92"/>
                      <a:pt x="3837" y="94"/>
                    </a:cubicBezTo>
                    <a:cubicBezTo>
                      <a:pt x="3836" y="91"/>
                      <a:pt x="3835" y="88"/>
                      <a:pt x="3835" y="85"/>
                    </a:cubicBezTo>
                    <a:cubicBezTo>
                      <a:pt x="3834" y="88"/>
                      <a:pt x="3834" y="91"/>
                      <a:pt x="3834" y="94"/>
                    </a:cubicBezTo>
                    <a:cubicBezTo>
                      <a:pt x="3834" y="97"/>
                      <a:pt x="3834" y="100"/>
                      <a:pt x="3834" y="103"/>
                    </a:cubicBezTo>
                    <a:cubicBezTo>
                      <a:pt x="3833" y="107"/>
                      <a:pt x="3831" y="112"/>
                      <a:pt x="3830" y="116"/>
                    </a:cubicBezTo>
                    <a:cubicBezTo>
                      <a:pt x="3828" y="112"/>
                      <a:pt x="3827" y="108"/>
                      <a:pt x="3826" y="104"/>
                    </a:cubicBezTo>
                    <a:cubicBezTo>
                      <a:pt x="3827" y="109"/>
                      <a:pt x="3828" y="115"/>
                      <a:pt x="3828" y="120"/>
                    </a:cubicBezTo>
                    <a:cubicBezTo>
                      <a:pt x="3827" y="124"/>
                      <a:pt x="3825" y="127"/>
                      <a:pt x="3824" y="130"/>
                    </a:cubicBezTo>
                    <a:cubicBezTo>
                      <a:pt x="3823" y="128"/>
                      <a:pt x="3822" y="126"/>
                      <a:pt x="3822" y="123"/>
                    </a:cubicBezTo>
                    <a:cubicBezTo>
                      <a:pt x="3823" y="115"/>
                      <a:pt x="3825" y="106"/>
                      <a:pt x="3827" y="98"/>
                    </a:cubicBezTo>
                    <a:cubicBezTo>
                      <a:pt x="3828" y="98"/>
                      <a:pt x="3828" y="97"/>
                      <a:pt x="3828" y="96"/>
                    </a:cubicBezTo>
                    <a:cubicBezTo>
                      <a:pt x="3828" y="96"/>
                      <a:pt x="3828" y="97"/>
                      <a:pt x="3827" y="97"/>
                    </a:cubicBezTo>
                    <a:cubicBezTo>
                      <a:pt x="3830" y="86"/>
                      <a:pt x="3833" y="76"/>
                      <a:pt x="3833" y="76"/>
                    </a:cubicBezTo>
                    <a:cubicBezTo>
                      <a:pt x="3828" y="83"/>
                      <a:pt x="3822" y="96"/>
                      <a:pt x="3818" y="109"/>
                    </a:cubicBezTo>
                    <a:cubicBezTo>
                      <a:pt x="3818" y="107"/>
                      <a:pt x="3817" y="106"/>
                      <a:pt x="3817" y="104"/>
                    </a:cubicBezTo>
                    <a:cubicBezTo>
                      <a:pt x="3819" y="97"/>
                      <a:pt x="3822" y="90"/>
                      <a:pt x="3825" y="84"/>
                    </a:cubicBezTo>
                    <a:cubicBezTo>
                      <a:pt x="3822" y="90"/>
                      <a:pt x="3819" y="96"/>
                      <a:pt x="3817" y="102"/>
                    </a:cubicBezTo>
                    <a:cubicBezTo>
                      <a:pt x="3816" y="102"/>
                      <a:pt x="3816" y="101"/>
                      <a:pt x="3816" y="101"/>
                    </a:cubicBezTo>
                    <a:cubicBezTo>
                      <a:pt x="3818" y="77"/>
                      <a:pt x="3814" y="62"/>
                      <a:pt x="3814" y="62"/>
                    </a:cubicBezTo>
                    <a:cubicBezTo>
                      <a:pt x="3815" y="69"/>
                      <a:pt x="3815" y="80"/>
                      <a:pt x="3813" y="91"/>
                    </a:cubicBezTo>
                    <a:cubicBezTo>
                      <a:pt x="3813" y="89"/>
                      <a:pt x="3813" y="88"/>
                      <a:pt x="3812" y="87"/>
                    </a:cubicBezTo>
                    <a:cubicBezTo>
                      <a:pt x="3812" y="88"/>
                      <a:pt x="3812" y="88"/>
                      <a:pt x="3812" y="88"/>
                    </a:cubicBezTo>
                    <a:cubicBezTo>
                      <a:pt x="3812" y="90"/>
                      <a:pt x="3812" y="93"/>
                      <a:pt x="3813" y="96"/>
                    </a:cubicBezTo>
                    <a:cubicBezTo>
                      <a:pt x="3812" y="101"/>
                      <a:pt x="3812" y="105"/>
                      <a:pt x="3811" y="110"/>
                    </a:cubicBezTo>
                    <a:cubicBezTo>
                      <a:pt x="3810" y="109"/>
                      <a:pt x="3810" y="107"/>
                      <a:pt x="3809" y="106"/>
                    </a:cubicBezTo>
                    <a:cubicBezTo>
                      <a:pt x="3810" y="103"/>
                      <a:pt x="3810" y="99"/>
                      <a:pt x="3811" y="96"/>
                    </a:cubicBezTo>
                    <a:cubicBezTo>
                      <a:pt x="3810" y="98"/>
                      <a:pt x="3809" y="100"/>
                      <a:pt x="3808" y="103"/>
                    </a:cubicBezTo>
                    <a:cubicBezTo>
                      <a:pt x="3807" y="101"/>
                      <a:pt x="3806" y="99"/>
                      <a:pt x="3806" y="98"/>
                    </a:cubicBezTo>
                    <a:cubicBezTo>
                      <a:pt x="3806" y="89"/>
                      <a:pt x="3807" y="82"/>
                      <a:pt x="3807" y="82"/>
                    </a:cubicBezTo>
                    <a:cubicBezTo>
                      <a:pt x="3805" y="97"/>
                      <a:pt x="3805" y="97"/>
                      <a:pt x="3805" y="97"/>
                    </a:cubicBezTo>
                    <a:cubicBezTo>
                      <a:pt x="3804" y="94"/>
                      <a:pt x="3803" y="92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89"/>
                      <a:pt x="3802" y="89"/>
                      <a:pt x="3801" y="88"/>
                    </a:cubicBezTo>
                    <a:cubicBezTo>
                      <a:pt x="3801" y="83"/>
                      <a:pt x="3801" y="78"/>
                      <a:pt x="3801" y="73"/>
                    </a:cubicBezTo>
                    <a:cubicBezTo>
                      <a:pt x="3804" y="70"/>
                      <a:pt x="3807" y="66"/>
                      <a:pt x="3810" y="63"/>
                    </a:cubicBezTo>
                    <a:cubicBezTo>
                      <a:pt x="3807" y="66"/>
                      <a:pt x="3804" y="69"/>
                      <a:pt x="3801" y="71"/>
                    </a:cubicBezTo>
                    <a:cubicBezTo>
                      <a:pt x="3801" y="65"/>
                      <a:pt x="3800" y="60"/>
                      <a:pt x="3800" y="60"/>
                    </a:cubicBezTo>
                    <a:cubicBezTo>
                      <a:pt x="3800" y="64"/>
                      <a:pt x="3800" y="68"/>
                      <a:pt x="3800" y="72"/>
                    </a:cubicBezTo>
                    <a:cubicBezTo>
                      <a:pt x="3798" y="74"/>
                      <a:pt x="3797" y="75"/>
                      <a:pt x="3796" y="77"/>
                    </a:cubicBezTo>
                    <a:cubicBezTo>
                      <a:pt x="3795" y="70"/>
                      <a:pt x="3795" y="64"/>
                      <a:pt x="3795" y="64"/>
                    </a:cubicBezTo>
                    <a:cubicBezTo>
                      <a:pt x="3795" y="66"/>
                      <a:pt x="3795" y="71"/>
                      <a:pt x="3794" y="78"/>
                    </a:cubicBezTo>
                    <a:cubicBezTo>
                      <a:pt x="3791" y="81"/>
                      <a:pt x="3789" y="85"/>
                      <a:pt x="3787" y="88"/>
                    </a:cubicBezTo>
                    <a:cubicBezTo>
                      <a:pt x="3787" y="64"/>
                      <a:pt x="3786" y="42"/>
                      <a:pt x="3786" y="42"/>
                    </a:cubicBezTo>
                    <a:cubicBezTo>
                      <a:pt x="3787" y="55"/>
                      <a:pt x="3784" y="77"/>
                      <a:pt x="3782" y="96"/>
                    </a:cubicBezTo>
                    <a:cubicBezTo>
                      <a:pt x="3780" y="100"/>
                      <a:pt x="3778" y="104"/>
                      <a:pt x="3777" y="107"/>
                    </a:cubicBezTo>
                    <a:cubicBezTo>
                      <a:pt x="3776" y="107"/>
                      <a:pt x="3776" y="106"/>
                      <a:pt x="3776" y="106"/>
                    </a:cubicBezTo>
                    <a:cubicBezTo>
                      <a:pt x="3777" y="87"/>
                      <a:pt x="3780" y="70"/>
                      <a:pt x="3780" y="70"/>
                    </a:cubicBezTo>
                    <a:cubicBezTo>
                      <a:pt x="3778" y="74"/>
                      <a:pt x="3775" y="98"/>
                      <a:pt x="3773" y="117"/>
                    </a:cubicBezTo>
                    <a:cubicBezTo>
                      <a:pt x="3773" y="118"/>
                      <a:pt x="3773" y="119"/>
                      <a:pt x="3773" y="120"/>
                    </a:cubicBezTo>
                    <a:cubicBezTo>
                      <a:pt x="3773" y="119"/>
                      <a:pt x="3773" y="119"/>
                      <a:pt x="3773" y="118"/>
                    </a:cubicBezTo>
                    <a:cubicBezTo>
                      <a:pt x="3773" y="119"/>
                      <a:pt x="3773" y="119"/>
                      <a:pt x="3773" y="120"/>
                    </a:cubicBezTo>
                    <a:cubicBezTo>
                      <a:pt x="3772" y="121"/>
                      <a:pt x="3772" y="121"/>
                      <a:pt x="3772" y="122"/>
                    </a:cubicBezTo>
                    <a:cubicBezTo>
                      <a:pt x="3772" y="115"/>
                      <a:pt x="3772" y="108"/>
                      <a:pt x="3772" y="101"/>
                    </a:cubicBezTo>
                    <a:cubicBezTo>
                      <a:pt x="3772" y="101"/>
                      <a:pt x="3772" y="100"/>
                      <a:pt x="3772" y="100"/>
                    </a:cubicBezTo>
                    <a:cubicBezTo>
                      <a:pt x="3772" y="100"/>
                      <a:pt x="3772" y="101"/>
                      <a:pt x="3772" y="101"/>
                    </a:cubicBezTo>
                    <a:cubicBezTo>
                      <a:pt x="3772" y="98"/>
                      <a:pt x="3772" y="94"/>
                      <a:pt x="3771" y="91"/>
                    </a:cubicBezTo>
                    <a:cubicBezTo>
                      <a:pt x="3773" y="88"/>
                      <a:pt x="3775" y="85"/>
                      <a:pt x="3777" y="83"/>
                    </a:cubicBezTo>
                    <a:cubicBezTo>
                      <a:pt x="3775" y="85"/>
                      <a:pt x="3773" y="87"/>
                      <a:pt x="3771" y="90"/>
                    </a:cubicBezTo>
                    <a:cubicBezTo>
                      <a:pt x="3771" y="79"/>
                      <a:pt x="3770" y="69"/>
                      <a:pt x="3770" y="61"/>
                    </a:cubicBezTo>
                    <a:cubicBezTo>
                      <a:pt x="3769" y="73"/>
                      <a:pt x="3767" y="87"/>
                      <a:pt x="3765" y="100"/>
                    </a:cubicBezTo>
                    <a:cubicBezTo>
                      <a:pt x="3761" y="107"/>
                      <a:pt x="3758" y="115"/>
                      <a:pt x="3756" y="123"/>
                    </a:cubicBezTo>
                    <a:cubicBezTo>
                      <a:pt x="3757" y="109"/>
                      <a:pt x="3758" y="92"/>
                      <a:pt x="3759" y="80"/>
                    </a:cubicBezTo>
                    <a:cubicBezTo>
                      <a:pt x="3761" y="73"/>
                      <a:pt x="3762" y="67"/>
                      <a:pt x="3762" y="61"/>
                    </a:cubicBezTo>
                    <a:cubicBezTo>
                      <a:pt x="3762" y="60"/>
                      <a:pt x="3762" y="60"/>
                      <a:pt x="3762" y="60"/>
                    </a:cubicBezTo>
                    <a:cubicBezTo>
                      <a:pt x="3753" y="75"/>
                      <a:pt x="3749" y="88"/>
                      <a:pt x="3747" y="102"/>
                    </a:cubicBezTo>
                    <a:cubicBezTo>
                      <a:pt x="3747" y="102"/>
                      <a:pt x="3747" y="101"/>
                      <a:pt x="3747" y="101"/>
                    </a:cubicBezTo>
                    <a:cubicBezTo>
                      <a:pt x="3748" y="68"/>
                      <a:pt x="3751" y="30"/>
                      <a:pt x="3751" y="30"/>
                    </a:cubicBezTo>
                    <a:cubicBezTo>
                      <a:pt x="3748" y="38"/>
                      <a:pt x="3746" y="60"/>
                      <a:pt x="3743" y="83"/>
                    </a:cubicBezTo>
                    <a:cubicBezTo>
                      <a:pt x="3741" y="87"/>
                      <a:pt x="3738" y="92"/>
                      <a:pt x="3736" y="97"/>
                    </a:cubicBezTo>
                    <a:cubicBezTo>
                      <a:pt x="3736" y="91"/>
                      <a:pt x="3735" y="85"/>
                      <a:pt x="3735" y="79"/>
                    </a:cubicBezTo>
                    <a:cubicBezTo>
                      <a:pt x="3735" y="78"/>
                      <a:pt x="3735" y="78"/>
                      <a:pt x="3736" y="78"/>
                    </a:cubicBezTo>
                    <a:cubicBezTo>
                      <a:pt x="3735" y="78"/>
                      <a:pt x="3735" y="78"/>
                      <a:pt x="3735" y="78"/>
                    </a:cubicBezTo>
                    <a:cubicBezTo>
                      <a:pt x="3733" y="58"/>
                      <a:pt x="3732" y="41"/>
                      <a:pt x="3732" y="41"/>
                    </a:cubicBezTo>
                    <a:cubicBezTo>
                      <a:pt x="3733" y="52"/>
                      <a:pt x="3733" y="67"/>
                      <a:pt x="3732" y="82"/>
                    </a:cubicBezTo>
                    <a:cubicBezTo>
                      <a:pt x="3730" y="84"/>
                      <a:pt x="3728" y="87"/>
                      <a:pt x="3726" y="92"/>
                    </a:cubicBezTo>
                    <a:cubicBezTo>
                      <a:pt x="3725" y="82"/>
                      <a:pt x="3726" y="72"/>
                      <a:pt x="3726" y="68"/>
                    </a:cubicBezTo>
                    <a:cubicBezTo>
                      <a:pt x="3725" y="77"/>
                      <a:pt x="3724" y="88"/>
                      <a:pt x="3722" y="99"/>
                    </a:cubicBezTo>
                    <a:cubicBezTo>
                      <a:pt x="3720" y="94"/>
                      <a:pt x="3719" y="89"/>
                      <a:pt x="3717" y="84"/>
                    </a:cubicBezTo>
                    <a:cubicBezTo>
                      <a:pt x="3719" y="90"/>
                      <a:pt x="3720" y="96"/>
                      <a:pt x="3721" y="101"/>
                    </a:cubicBezTo>
                    <a:cubicBezTo>
                      <a:pt x="3721" y="105"/>
                      <a:pt x="3720" y="109"/>
                      <a:pt x="3719" y="113"/>
                    </a:cubicBezTo>
                    <a:cubicBezTo>
                      <a:pt x="3719" y="110"/>
                      <a:pt x="3719" y="108"/>
                      <a:pt x="3719" y="105"/>
                    </a:cubicBezTo>
                    <a:cubicBezTo>
                      <a:pt x="3718" y="108"/>
                      <a:pt x="3718" y="115"/>
                      <a:pt x="3718" y="119"/>
                    </a:cubicBezTo>
                    <a:cubicBezTo>
                      <a:pt x="3717" y="120"/>
                      <a:pt x="3717" y="122"/>
                      <a:pt x="3717" y="124"/>
                    </a:cubicBezTo>
                    <a:cubicBezTo>
                      <a:pt x="3716" y="125"/>
                      <a:pt x="3716" y="127"/>
                      <a:pt x="3716" y="128"/>
                    </a:cubicBezTo>
                    <a:cubicBezTo>
                      <a:pt x="3715" y="124"/>
                      <a:pt x="3714" y="120"/>
                      <a:pt x="3713" y="116"/>
                    </a:cubicBezTo>
                    <a:cubicBezTo>
                      <a:pt x="3714" y="108"/>
                      <a:pt x="3714" y="100"/>
                      <a:pt x="3715" y="94"/>
                    </a:cubicBezTo>
                    <a:cubicBezTo>
                      <a:pt x="3716" y="92"/>
                      <a:pt x="3716" y="91"/>
                      <a:pt x="3717" y="89"/>
                    </a:cubicBezTo>
                    <a:cubicBezTo>
                      <a:pt x="3716" y="90"/>
                      <a:pt x="3716" y="91"/>
                      <a:pt x="3715" y="92"/>
                    </a:cubicBezTo>
                    <a:cubicBezTo>
                      <a:pt x="3716" y="87"/>
                      <a:pt x="3716" y="83"/>
                      <a:pt x="3716" y="83"/>
                    </a:cubicBezTo>
                    <a:cubicBezTo>
                      <a:pt x="3716" y="85"/>
                      <a:pt x="3715" y="89"/>
                      <a:pt x="3714" y="93"/>
                    </a:cubicBezTo>
                    <a:cubicBezTo>
                      <a:pt x="3713" y="96"/>
                      <a:pt x="3711" y="99"/>
                      <a:pt x="3710" y="102"/>
                    </a:cubicBezTo>
                    <a:cubicBezTo>
                      <a:pt x="3709" y="101"/>
                      <a:pt x="3709" y="100"/>
                      <a:pt x="3709" y="99"/>
                    </a:cubicBezTo>
                    <a:cubicBezTo>
                      <a:pt x="3711" y="80"/>
                      <a:pt x="3713" y="62"/>
                      <a:pt x="3713" y="62"/>
                    </a:cubicBezTo>
                    <a:cubicBezTo>
                      <a:pt x="3711" y="66"/>
                      <a:pt x="3709" y="80"/>
                      <a:pt x="3707" y="95"/>
                    </a:cubicBezTo>
                    <a:cubicBezTo>
                      <a:pt x="3707" y="94"/>
                      <a:pt x="3706" y="92"/>
                      <a:pt x="3705" y="90"/>
                    </a:cubicBezTo>
                    <a:cubicBezTo>
                      <a:pt x="3706" y="92"/>
                      <a:pt x="3707" y="94"/>
                      <a:pt x="3707" y="96"/>
                    </a:cubicBezTo>
                    <a:cubicBezTo>
                      <a:pt x="3707" y="101"/>
                      <a:pt x="3706" y="106"/>
                      <a:pt x="3706" y="110"/>
                    </a:cubicBezTo>
                    <a:cubicBezTo>
                      <a:pt x="3705" y="113"/>
                      <a:pt x="3704" y="116"/>
                      <a:pt x="3703" y="118"/>
                    </a:cubicBezTo>
                    <a:cubicBezTo>
                      <a:pt x="3701" y="94"/>
                      <a:pt x="3696" y="64"/>
                      <a:pt x="3696" y="64"/>
                    </a:cubicBezTo>
                    <a:cubicBezTo>
                      <a:pt x="3696" y="64"/>
                      <a:pt x="3696" y="73"/>
                      <a:pt x="3697" y="82"/>
                    </a:cubicBezTo>
                    <a:cubicBezTo>
                      <a:pt x="3698" y="88"/>
                      <a:pt x="3697" y="98"/>
                      <a:pt x="3695" y="108"/>
                    </a:cubicBezTo>
                    <a:cubicBezTo>
                      <a:pt x="3694" y="111"/>
                      <a:pt x="3693" y="114"/>
                      <a:pt x="3692" y="117"/>
                    </a:cubicBezTo>
                    <a:cubicBezTo>
                      <a:pt x="3692" y="108"/>
                      <a:pt x="3691" y="99"/>
                      <a:pt x="3689" y="90"/>
                    </a:cubicBezTo>
                    <a:cubicBezTo>
                      <a:pt x="3692" y="78"/>
                      <a:pt x="3697" y="66"/>
                      <a:pt x="3696" y="56"/>
                    </a:cubicBezTo>
                    <a:cubicBezTo>
                      <a:pt x="3693" y="62"/>
                      <a:pt x="3690" y="67"/>
                      <a:pt x="3688" y="72"/>
                    </a:cubicBezTo>
                    <a:cubicBezTo>
                      <a:pt x="3691" y="34"/>
                      <a:pt x="3684" y="19"/>
                      <a:pt x="3684" y="19"/>
                    </a:cubicBezTo>
                    <a:cubicBezTo>
                      <a:pt x="3684" y="19"/>
                      <a:pt x="3687" y="31"/>
                      <a:pt x="3686" y="54"/>
                    </a:cubicBezTo>
                    <a:cubicBezTo>
                      <a:pt x="3685" y="61"/>
                      <a:pt x="3684" y="74"/>
                      <a:pt x="3682" y="88"/>
                    </a:cubicBezTo>
                    <a:cubicBezTo>
                      <a:pt x="3681" y="92"/>
                      <a:pt x="3680" y="97"/>
                      <a:pt x="3680" y="101"/>
                    </a:cubicBezTo>
                    <a:cubicBezTo>
                      <a:pt x="3679" y="98"/>
                      <a:pt x="3678" y="95"/>
                      <a:pt x="3676" y="91"/>
                    </a:cubicBezTo>
                    <a:cubicBezTo>
                      <a:pt x="3677" y="89"/>
                      <a:pt x="3677" y="87"/>
                      <a:pt x="3678" y="85"/>
                    </a:cubicBezTo>
                    <a:cubicBezTo>
                      <a:pt x="3677" y="87"/>
                      <a:pt x="3677" y="88"/>
                      <a:pt x="3676" y="90"/>
                    </a:cubicBezTo>
                    <a:cubicBezTo>
                      <a:pt x="3676" y="89"/>
                      <a:pt x="3675" y="88"/>
                      <a:pt x="3675" y="87"/>
                    </a:cubicBezTo>
                    <a:cubicBezTo>
                      <a:pt x="3675" y="83"/>
                      <a:pt x="3675" y="78"/>
                      <a:pt x="3675" y="74"/>
                    </a:cubicBezTo>
                    <a:cubicBezTo>
                      <a:pt x="3675" y="46"/>
                      <a:pt x="3665" y="40"/>
                      <a:pt x="3665" y="40"/>
                    </a:cubicBezTo>
                    <a:cubicBezTo>
                      <a:pt x="3665" y="40"/>
                      <a:pt x="3671" y="44"/>
                      <a:pt x="3671" y="70"/>
                    </a:cubicBezTo>
                    <a:cubicBezTo>
                      <a:pt x="3671" y="84"/>
                      <a:pt x="3666" y="108"/>
                      <a:pt x="3661" y="125"/>
                    </a:cubicBezTo>
                    <a:cubicBezTo>
                      <a:pt x="3661" y="123"/>
                      <a:pt x="3661" y="120"/>
                      <a:pt x="3660" y="118"/>
                    </a:cubicBezTo>
                    <a:cubicBezTo>
                      <a:pt x="3661" y="111"/>
                      <a:pt x="3662" y="105"/>
                      <a:pt x="3662" y="98"/>
                    </a:cubicBezTo>
                    <a:cubicBezTo>
                      <a:pt x="3661" y="101"/>
                      <a:pt x="3660" y="104"/>
                      <a:pt x="3660" y="107"/>
                    </a:cubicBezTo>
                    <a:cubicBezTo>
                      <a:pt x="3660" y="107"/>
                      <a:pt x="3660" y="106"/>
                      <a:pt x="3660" y="106"/>
                    </a:cubicBezTo>
                    <a:cubicBezTo>
                      <a:pt x="3660" y="97"/>
                      <a:pt x="3661" y="83"/>
                      <a:pt x="3667" y="75"/>
                    </a:cubicBezTo>
                    <a:cubicBezTo>
                      <a:pt x="3664" y="77"/>
                      <a:pt x="3661" y="82"/>
                      <a:pt x="3659" y="87"/>
                    </a:cubicBezTo>
                    <a:cubicBezTo>
                      <a:pt x="3660" y="78"/>
                      <a:pt x="3660" y="71"/>
                      <a:pt x="3660" y="71"/>
                    </a:cubicBezTo>
                    <a:cubicBezTo>
                      <a:pt x="3659" y="75"/>
                      <a:pt x="3656" y="97"/>
                      <a:pt x="3652" y="116"/>
                    </a:cubicBezTo>
                    <a:cubicBezTo>
                      <a:pt x="3652" y="114"/>
                      <a:pt x="3652" y="112"/>
                      <a:pt x="3651" y="110"/>
                    </a:cubicBezTo>
                    <a:cubicBezTo>
                      <a:pt x="3652" y="99"/>
                      <a:pt x="3653" y="87"/>
                      <a:pt x="3654" y="78"/>
                    </a:cubicBezTo>
                    <a:cubicBezTo>
                      <a:pt x="3656" y="71"/>
                      <a:pt x="3658" y="63"/>
                      <a:pt x="3660" y="55"/>
                    </a:cubicBezTo>
                    <a:cubicBezTo>
                      <a:pt x="3660" y="54"/>
                      <a:pt x="3660" y="52"/>
                      <a:pt x="3660" y="51"/>
                    </a:cubicBezTo>
                    <a:cubicBezTo>
                      <a:pt x="3658" y="54"/>
                      <a:pt x="3657" y="57"/>
                      <a:pt x="3656" y="60"/>
                    </a:cubicBezTo>
                    <a:cubicBezTo>
                      <a:pt x="3656" y="60"/>
                      <a:pt x="3656" y="59"/>
                      <a:pt x="3656" y="59"/>
                    </a:cubicBezTo>
                    <a:cubicBezTo>
                      <a:pt x="3656" y="60"/>
                      <a:pt x="3656" y="60"/>
                      <a:pt x="3656" y="60"/>
                    </a:cubicBezTo>
                    <a:cubicBezTo>
                      <a:pt x="3652" y="70"/>
                      <a:pt x="3649" y="80"/>
                      <a:pt x="3646" y="89"/>
                    </a:cubicBezTo>
                    <a:cubicBezTo>
                      <a:pt x="3652" y="30"/>
                      <a:pt x="3649" y="15"/>
                      <a:pt x="3648" y="13"/>
                    </a:cubicBezTo>
                    <a:cubicBezTo>
                      <a:pt x="3648" y="15"/>
                      <a:pt x="3649" y="22"/>
                      <a:pt x="3645" y="56"/>
                    </a:cubicBezTo>
                    <a:cubicBezTo>
                      <a:pt x="3643" y="68"/>
                      <a:pt x="3642" y="80"/>
                      <a:pt x="3640" y="91"/>
                    </a:cubicBezTo>
                    <a:cubicBezTo>
                      <a:pt x="3639" y="85"/>
                      <a:pt x="3637" y="79"/>
                      <a:pt x="3635" y="74"/>
                    </a:cubicBezTo>
                    <a:cubicBezTo>
                      <a:pt x="3636" y="51"/>
                      <a:pt x="3637" y="31"/>
                      <a:pt x="3637" y="31"/>
                    </a:cubicBezTo>
                    <a:cubicBezTo>
                      <a:pt x="3635" y="38"/>
                      <a:pt x="3633" y="53"/>
                      <a:pt x="3632" y="69"/>
                    </a:cubicBezTo>
                    <a:cubicBezTo>
                      <a:pt x="3631" y="68"/>
                      <a:pt x="3630" y="67"/>
                      <a:pt x="3629" y="65"/>
                    </a:cubicBezTo>
                    <a:cubicBezTo>
                      <a:pt x="3630" y="67"/>
                      <a:pt x="3631" y="69"/>
                      <a:pt x="3632" y="71"/>
                    </a:cubicBezTo>
                    <a:cubicBezTo>
                      <a:pt x="3632" y="71"/>
                      <a:pt x="3632" y="72"/>
                      <a:pt x="3632" y="73"/>
                    </a:cubicBezTo>
                    <a:cubicBezTo>
                      <a:pt x="3629" y="77"/>
                      <a:pt x="3626" y="81"/>
                      <a:pt x="3624" y="86"/>
                    </a:cubicBezTo>
                    <a:cubicBezTo>
                      <a:pt x="3623" y="85"/>
                      <a:pt x="3623" y="84"/>
                      <a:pt x="3622" y="83"/>
                    </a:cubicBezTo>
                    <a:cubicBezTo>
                      <a:pt x="3619" y="61"/>
                      <a:pt x="3617" y="38"/>
                      <a:pt x="3614" y="28"/>
                    </a:cubicBezTo>
                    <a:cubicBezTo>
                      <a:pt x="3614" y="28"/>
                      <a:pt x="3617" y="54"/>
                      <a:pt x="3621" y="83"/>
                    </a:cubicBezTo>
                    <a:cubicBezTo>
                      <a:pt x="3620" y="82"/>
                      <a:pt x="3619" y="81"/>
                      <a:pt x="3618" y="80"/>
                    </a:cubicBezTo>
                    <a:cubicBezTo>
                      <a:pt x="3620" y="81"/>
                      <a:pt x="3621" y="82"/>
                      <a:pt x="3622" y="84"/>
                    </a:cubicBezTo>
                    <a:cubicBezTo>
                      <a:pt x="3622" y="85"/>
                      <a:pt x="3622" y="86"/>
                      <a:pt x="3622" y="88"/>
                    </a:cubicBezTo>
                    <a:cubicBezTo>
                      <a:pt x="3622" y="86"/>
                      <a:pt x="3622" y="85"/>
                      <a:pt x="3622" y="84"/>
                    </a:cubicBezTo>
                    <a:cubicBezTo>
                      <a:pt x="3622" y="85"/>
                      <a:pt x="3623" y="86"/>
                      <a:pt x="3624" y="87"/>
                    </a:cubicBezTo>
                    <a:cubicBezTo>
                      <a:pt x="3623" y="88"/>
                      <a:pt x="3623" y="89"/>
                      <a:pt x="3622" y="90"/>
                    </a:cubicBezTo>
                    <a:cubicBezTo>
                      <a:pt x="3622" y="89"/>
                      <a:pt x="3622" y="88"/>
                      <a:pt x="3622" y="88"/>
                    </a:cubicBezTo>
                    <a:cubicBezTo>
                      <a:pt x="3622" y="88"/>
                      <a:pt x="3622" y="89"/>
                      <a:pt x="3622" y="90"/>
                    </a:cubicBezTo>
                    <a:cubicBezTo>
                      <a:pt x="3620" y="95"/>
                      <a:pt x="3619" y="100"/>
                      <a:pt x="3617" y="105"/>
                    </a:cubicBezTo>
                    <a:cubicBezTo>
                      <a:pt x="3617" y="105"/>
                      <a:pt x="3617" y="105"/>
                      <a:pt x="3617" y="105"/>
                    </a:cubicBezTo>
                    <a:cubicBezTo>
                      <a:pt x="3617" y="104"/>
                      <a:pt x="3617" y="104"/>
                      <a:pt x="3617" y="103"/>
                    </a:cubicBezTo>
                    <a:cubicBezTo>
                      <a:pt x="3617" y="104"/>
                      <a:pt x="3617" y="104"/>
                      <a:pt x="3617" y="105"/>
                    </a:cubicBezTo>
                    <a:cubicBezTo>
                      <a:pt x="3614" y="95"/>
                      <a:pt x="3612" y="87"/>
                      <a:pt x="3610" y="81"/>
                    </a:cubicBezTo>
                    <a:cubicBezTo>
                      <a:pt x="3611" y="85"/>
                      <a:pt x="3612" y="90"/>
                      <a:pt x="3613" y="95"/>
                    </a:cubicBezTo>
                    <a:cubicBezTo>
                      <a:pt x="3613" y="100"/>
                      <a:pt x="3612" y="104"/>
                      <a:pt x="3611" y="109"/>
                    </a:cubicBezTo>
                    <a:cubicBezTo>
                      <a:pt x="3612" y="104"/>
                      <a:pt x="3613" y="100"/>
                      <a:pt x="3613" y="95"/>
                    </a:cubicBezTo>
                    <a:cubicBezTo>
                      <a:pt x="3614" y="100"/>
                      <a:pt x="3615" y="105"/>
                      <a:pt x="3616" y="110"/>
                    </a:cubicBezTo>
                    <a:cubicBezTo>
                      <a:pt x="3616" y="110"/>
                      <a:pt x="3616" y="111"/>
                      <a:pt x="3616" y="111"/>
                    </a:cubicBezTo>
                    <a:cubicBezTo>
                      <a:pt x="3615" y="116"/>
                      <a:pt x="3613" y="122"/>
                      <a:pt x="3610" y="127"/>
                    </a:cubicBezTo>
                    <a:cubicBezTo>
                      <a:pt x="3610" y="125"/>
                      <a:pt x="3609" y="123"/>
                      <a:pt x="3609" y="120"/>
                    </a:cubicBezTo>
                    <a:cubicBezTo>
                      <a:pt x="3610" y="117"/>
                      <a:pt x="3611" y="113"/>
                      <a:pt x="3611" y="109"/>
                    </a:cubicBezTo>
                    <a:cubicBezTo>
                      <a:pt x="3611" y="112"/>
                      <a:pt x="3610" y="116"/>
                      <a:pt x="3609" y="119"/>
                    </a:cubicBezTo>
                    <a:cubicBezTo>
                      <a:pt x="3607" y="111"/>
                      <a:pt x="3605" y="103"/>
                      <a:pt x="3605" y="95"/>
                    </a:cubicBezTo>
                    <a:cubicBezTo>
                      <a:pt x="3605" y="96"/>
                      <a:pt x="3605" y="96"/>
                      <a:pt x="3605" y="96"/>
                    </a:cubicBezTo>
                    <a:cubicBezTo>
                      <a:pt x="3605" y="98"/>
                      <a:pt x="3605" y="98"/>
                      <a:pt x="3605" y="98"/>
                    </a:cubicBezTo>
                    <a:cubicBezTo>
                      <a:pt x="3605" y="97"/>
                      <a:pt x="3605" y="96"/>
                      <a:pt x="3605" y="95"/>
                    </a:cubicBezTo>
                    <a:cubicBezTo>
                      <a:pt x="3605" y="84"/>
                      <a:pt x="3603" y="69"/>
                      <a:pt x="3597" y="60"/>
                    </a:cubicBezTo>
                    <a:cubicBezTo>
                      <a:pt x="3601" y="70"/>
                      <a:pt x="3603" y="82"/>
                      <a:pt x="3603" y="93"/>
                    </a:cubicBezTo>
                    <a:cubicBezTo>
                      <a:pt x="3603" y="101"/>
                      <a:pt x="3601" y="109"/>
                      <a:pt x="3599" y="116"/>
                    </a:cubicBezTo>
                    <a:cubicBezTo>
                      <a:pt x="3597" y="115"/>
                      <a:pt x="3597" y="117"/>
                      <a:pt x="3598" y="120"/>
                    </a:cubicBezTo>
                    <a:cubicBezTo>
                      <a:pt x="3598" y="121"/>
                      <a:pt x="3597" y="121"/>
                      <a:pt x="3597" y="122"/>
                    </a:cubicBezTo>
                    <a:cubicBezTo>
                      <a:pt x="3596" y="119"/>
                      <a:pt x="3595" y="115"/>
                      <a:pt x="3594" y="112"/>
                    </a:cubicBezTo>
                    <a:cubicBezTo>
                      <a:pt x="3595" y="107"/>
                      <a:pt x="3595" y="103"/>
                      <a:pt x="3595" y="98"/>
                    </a:cubicBezTo>
                    <a:cubicBezTo>
                      <a:pt x="3595" y="90"/>
                      <a:pt x="3594" y="82"/>
                      <a:pt x="3592" y="74"/>
                    </a:cubicBezTo>
                    <a:cubicBezTo>
                      <a:pt x="3591" y="83"/>
                      <a:pt x="3591" y="93"/>
                      <a:pt x="3591" y="102"/>
                    </a:cubicBezTo>
                    <a:cubicBezTo>
                      <a:pt x="3588" y="94"/>
                      <a:pt x="3585" y="86"/>
                      <a:pt x="3583" y="81"/>
                    </a:cubicBezTo>
                    <a:cubicBezTo>
                      <a:pt x="3583" y="86"/>
                      <a:pt x="3583" y="86"/>
                      <a:pt x="3583" y="86"/>
                    </a:cubicBezTo>
                    <a:cubicBezTo>
                      <a:pt x="3583" y="97"/>
                      <a:pt x="3586" y="108"/>
                      <a:pt x="3590" y="118"/>
                    </a:cubicBezTo>
                    <a:cubicBezTo>
                      <a:pt x="3589" y="119"/>
                      <a:pt x="3589" y="120"/>
                      <a:pt x="3589" y="121"/>
                    </a:cubicBezTo>
                    <a:cubicBezTo>
                      <a:pt x="3589" y="123"/>
                      <a:pt x="3588" y="126"/>
                      <a:pt x="3587" y="128"/>
                    </a:cubicBezTo>
                    <a:cubicBezTo>
                      <a:pt x="3584" y="121"/>
                      <a:pt x="3582" y="113"/>
                      <a:pt x="3580" y="106"/>
                    </a:cubicBezTo>
                    <a:cubicBezTo>
                      <a:pt x="3580" y="101"/>
                      <a:pt x="3579" y="96"/>
                      <a:pt x="3578" y="92"/>
                    </a:cubicBezTo>
                    <a:cubicBezTo>
                      <a:pt x="3578" y="91"/>
                      <a:pt x="3578" y="90"/>
                      <a:pt x="3578" y="89"/>
                    </a:cubicBezTo>
                    <a:cubicBezTo>
                      <a:pt x="3578" y="90"/>
                      <a:pt x="3578" y="90"/>
                      <a:pt x="3578" y="91"/>
                    </a:cubicBezTo>
                    <a:cubicBezTo>
                      <a:pt x="3577" y="85"/>
                      <a:pt x="3575" y="79"/>
                      <a:pt x="3572" y="73"/>
                    </a:cubicBezTo>
                    <a:cubicBezTo>
                      <a:pt x="3572" y="72"/>
                      <a:pt x="3572" y="72"/>
                      <a:pt x="3572" y="71"/>
                    </a:cubicBezTo>
                    <a:cubicBezTo>
                      <a:pt x="3572" y="71"/>
                      <a:pt x="3571" y="72"/>
                      <a:pt x="3571" y="73"/>
                    </a:cubicBezTo>
                    <a:cubicBezTo>
                      <a:pt x="3571" y="72"/>
                      <a:pt x="3571" y="71"/>
                      <a:pt x="3570" y="71"/>
                    </a:cubicBezTo>
                    <a:cubicBezTo>
                      <a:pt x="3570" y="72"/>
                      <a:pt x="3571" y="73"/>
                      <a:pt x="3571" y="73"/>
                    </a:cubicBezTo>
                    <a:cubicBezTo>
                      <a:pt x="3568" y="79"/>
                      <a:pt x="3566" y="85"/>
                      <a:pt x="3564" y="91"/>
                    </a:cubicBezTo>
                    <a:cubicBezTo>
                      <a:pt x="3564" y="90"/>
                      <a:pt x="3564" y="90"/>
                      <a:pt x="3564" y="89"/>
                    </a:cubicBezTo>
                    <a:cubicBezTo>
                      <a:pt x="3564" y="90"/>
                      <a:pt x="3564" y="91"/>
                      <a:pt x="3564" y="92"/>
                    </a:cubicBezTo>
                    <a:cubicBezTo>
                      <a:pt x="3563" y="96"/>
                      <a:pt x="3563" y="101"/>
                      <a:pt x="3562" y="106"/>
                    </a:cubicBezTo>
                    <a:cubicBezTo>
                      <a:pt x="3561" y="113"/>
                      <a:pt x="3558" y="121"/>
                      <a:pt x="3555" y="128"/>
                    </a:cubicBezTo>
                    <a:cubicBezTo>
                      <a:pt x="3554" y="126"/>
                      <a:pt x="3554" y="123"/>
                      <a:pt x="3553" y="121"/>
                    </a:cubicBezTo>
                    <a:cubicBezTo>
                      <a:pt x="3553" y="120"/>
                      <a:pt x="3553" y="119"/>
                      <a:pt x="3553" y="118"/>
                    </a:cubicBezTo>
                    <a:cubicBezTo>
                      <a:pt x="3556" y="108"/>
                      <a:pt x="3559" y="97"/>
                      <a:pt x="3559" y="86"/>
                    </a:cubicBezTo>
                    <a:cubicBezTo>
                      <a:pt x="3559" y="81"/>
                      <a:pt x="3559" y="81"/>
                      <a:pt x="3559" y="81"/>
                    </a:cubicBezTo>
                    <a:cubicBezTo>
                      <a:pt x="3557" y="86"/>
                      <a:pt x="3554" y="94"/>
                      <a:pt x="3551" y="102"/>
                    </a:cubicBezTo>
                    <a:cubicBezTo>
                      <a:pt x="3551" y="93"/>
                      <a:pt x="3551" y="83"/>
                      <a:pt x="3550" y="74"/>
                    </a:cubicBezTo>
                    <a:cubicBezTo>
                      <a:pt x="3548" y="82"/>
                      <a:pt x="3547" y="90"/>
                      <a:pt x="3547" y="98"/>
                    </a:cubicBezTo>
                    <a:cubicBezTo>
                      <a:pt x="3547" y="103"/>
                      <a:pt x="3548" y="107"/>
                      <a:pt x="3548" y="112"/>
                    </a:cubicBezTo>
                    <a:cubicBezTo>
                      <a:pt x="3547" y="115"/>
                      <a:pt x="3546" y="119"/>
                      <a:pt x="3545" y="122"/>
                    </a:cubicBezTo>
                    <a:cubicBezTo>
                      <a:pt x="3542" y="112"/>
                      <a:pt x="3539" y="103"/>
                      <a:pt x="3539" y="93"/>
                    </a:cubicBezTo>
                    <a:cubicBezTo>
                      <a:pt x="3539" y="82"/>
                      <a:pt x="3541" y="70"/>
                      <a:pt x="3545" y="60"/>
                    </a:cubicBezTo>
                    <a:cubicBezTo>
                      <a:pt x="3540" y="69"/>
                      <a:pt x="3538" y="84"/>
                      <a:pt x="3538" y="95"/>
                    </a:cubicBezTo>
                    <a:cubicBezTo>
                      <a:pt x="3538" y="96"/>
                      <a:pt x="3538" y="97"/>
                      <a:pt x="3538" y="98"/>
                    </a:cubicBezTo>
                    <a:cubicBezTo>
                      <a:pt x="3537" y="96"/>
                      <a:pt x="3537" y="96"/>
                      <a:pt x="3537" y="96"/>
                    </a:cubicBezTo>
                    <a:cubicBezTo>
                      <a:pt x="3537" y="95"/>
                      <a:pt x="3537" y="95"/>
                      <a:pt x="3537" y="95"/>
                    </a:cubicBezTo>
                    <a:cubicBezTo>
                      <a:pt x="3537" y="103"/>
                      <a:pt x="3536" y="111"/>
                      <a:pt x="3534" y="119"/>
                    </a:cubicBezTo>
                    <a:cubicBezTo>
                      <a:pt x="3533" y="116"/>
                      <a:pt x="3532" y="112"/>
                      <a:pt x="3531" y="109"/>
                    </a:cubicBezTo>
                    <a:cubicBezTo>
                      <a:pt x="3532" y="113"/>
                      <a:pt x="3533" y="117"/>
                      <a:pt x="3533" y="120"/>
                    </a:cubicBezTo>
                    <a:cubicBezTo>
                      <a:pt x="3533" y="123"/>
                      <a:pt x="3532" y="125"/>
                      <a:pt x="3532" y="127"/>
                    </a:cubicBezTo>
                    <a:cubicBezTo>
                      <a:pt x="3530" y="122"/>
                      <a:pt x="3528" y="116"/>
                      <a:pt x="3526" y="111"/>
                    </a:cubicBezTo>
                    <a:cubicBezTo>
                      <a:pt x="3526" y="109"/>
                      <a:pt x="3526" y="108"/>
                      <a:pt x="3525" y="107"/>
                    </a:cubicBezTo>
                    <a:cubicBezTo>
                      <a:pt x="3525" y="106"/>
                      <a:pt x="3525" y="104"/>
                      <a:pt x="3525" y="103"/>
                    </a:cubicBezTo>
                    <a:cubicBezTo>
                      <a:pt x="3525" y="104"/>
                      <a:pt x="3525" y="105"/>
                      <a:pt x="3525" y="105"/>
                    </a:cubicBezTo>
                    <a:cubicBezTo>
                      <a:pt x="3524" y="99"/>
                      <a:pt x="3522" y="93"/>
                      <a:pt x="3519" y="87"/>
                    </a:cubicBezTo>
                    <a:cubicBezTo>
                      <a:pt x="3520" y="84"/>
                      <a:pt x="3522" y="82"/>
                      <a:pt x="3524" y="80"/>
                    </a:cubicBezTo>
                    <a:cubicBezTo>
                      <a:pt x="3522" y="82"/>
                      <a:pt x="3520" y="84"/>
                      <a:pt x="3518" y="86"/>
                    </a:cubicBezTo>
                    <a:cubicBezTo>
                      <a:pt x="3516" y="81"/>
                      <a:pt x="3513" y="77"/>
                      <a:pt x="3510" y="73"/>
                    </a:cubicBezTo>
                    <a:cubicBezTo>
                      <a:pt x="3513" y="77"/>
                      <a:pt x="3515" y="83"/>
                      <a:pt x="3516" y="90"/>
                    </a:cubicBezTo>
                    <a:cubicBezTo>
                      <a:pt x="3514" y="94"/>
                      <a:pt x="3512" y="99"/>
                      <a:pt x="3512" y="103"/>
                    </a:cubicBezTo>
                    <a:cubicBezTo>
                      <a:pt x="3510" y="97"/>
                      <a:pt x="3508" y="91"/>
                      <a:pt x="3506" y="85"/>
                    </a:cubicBezTo>
                    <a:cubicBezTo>
                      <a:pt x="3508" y="91"/>
                      <a:pt x="3508" y="97"/>
                      <a:pt x="3508" y="103"/>
                    </a:cubicBezTo>
                    <a:cubicBezTo>
                      <a:pt x="3508" y="108"/>
                      <a:pt x="3507" y="114"/>
                      <a:pt x="3507" y="119"/>
                    </a:cubicBezTo>
                    <a:cubicBezTo>
                      <a:pt x="3505" y="111"/>
                      <a:pt x="3504" y="104"/>
                      <a:pt x="3504" y="96"/>
                    </a:cubicBezTo>
                    <a:cubicBezTo>
                      <a:pt x="3504" y="87"/>
                      <a:pt x="3508" y="73"/>
                      <a:pt x="3513" y="65"/>
                    </a:cubicBezTo>
                    <a:cubicBezTo>
                      <a:pt x="3504" y="76"/>
                      <a:pt x="3500" y="96"/>
                      <a:pt x="3500" y="108"/>
                    </a:cubicBezTo>
                    <a:cubicBezTo>
                      <a:pt x="3500" y="119"/>
                      <a:pt x="3503" y="130"/>
                      <a:pt x="3503" y="141"/>
                    </a:cubicBezTo>
                    <a:cubicBezTo>
                      <a:pt x="3503" y="146"/>
                      <a:pt x="3503" y="150"/>
                      <a:pt x="3502" y="154"/>
                    </a:cubicBezTo>
                    <a:cubicBezTo>
                      <a:pt x="3496" y="135"/>
                      <a:pt x="3501" y="113"/>
                      <a:pt x="3497" y="93"/>
                    </a:cubicBezTo>
                    <a:cubicBezTo>
                      <a:pt x="3494" y="79"/>
                      <a:pt x="3489" y="64"/>
                      <a:pt x="3483" y="51"/>
                    </a:cubicBezTo>
                    <a:cubicBezTo>
                      <a:pt x="3482" y="52"/>
                      <a:pt x="3482" y="54"/>
                      <a:pt x="3482" y="55"/>
                    </a:cubicBezTo>
                    <a:cubicBezTo>
                      <a:pt x="3489" y="76"/>
                      <a:pt x="3491" y="92"/>
                      <a:pt x="3492" y="105"/>
                    </a:cubicBezTo>
                    <a:cubicBezTo>
                      <a:pt x="3491" y="109"/>
                      <a:pt x="3490" y="114"/>
                      <a:pt x="3490" y="118"/>
                    </a:cubicBezTo>
                    <a:cubicBezTo>
                      <a:pt x="3488" y="101"/>
                      <a:pt x="3484" y="82"/>
                      <a:pt x="3475" y="75"/>
                    </a:cubicBezTo>
                    <a:cubicBezTo>
                      <a:pt x="3481" y="83"/>
                      <a:pt x="3483" y="97"/>
                      <a:pt x="3483" y="106"/>
                    </a:cubicBezTo>
                    <a:cubicBezTo>
                      <a:pt x="3483" y="106"/>
                      <a:pt x="3483" y="107"/>
                      <a:pt x="3483" y="107"/>
                    </a:cubicBezTo>
                    <a:cubicBezTo>
                      <a:pt x="3482" y="104"/>
                      <a:pt x="3481" y="101"/>
                      <a:pt x="3481" y="98"/>
                    </a:cubicBezTo>
                    <a:cubicBezTo>
                      <a:pt x="3481" y="105"/>
                      <a:pt x="3481" y="111"/>
                      <a:pt x="3482" y="118"/>
                    </a:cubicBezTo>
                    <a:cubicBezTo>
                      <a:pt x="3482" y="122"/>
                      <a:pt x="3481" y="126"/>
                      <a:pt x="3480" y="130"/>
                    </a:cubicBezTo>
                    <a:cubicBezTo>
                      <a:pt x="3479" y="124"/>
                      <a:pt x="3477" y="118"/>
                      <a:pt x="3476" y="113"/>
                    </a:cubicBezTo>
                    <a:cubicBezTo>
                      <a:pt x="3477" y="121"/>
                      <a:pt x="3479" y="128"/>
                      <a:pt x="3479" y="136"/>
                    </a:cubicBezTo>
                    <a:cubicBezTo>
                      <a:pt x="3478" y="140"/>
                      <a:pt x="3477" y="144"/>
                      <a:pt x="3477" y="148"/>
                    </a:cubicBezTo>
                    <a:cubicBezTo>
                      <a:pt x="3477" y="147"/>
                      <a:pt x="3476" y="147"/>
                      <a:pt x="3476" y="146"/>
                    </a:cubicBezTo>
                    <a:cubicBezTo>
                      <a:pt x="3477" y="129"/>
                      <a:pt x="3474" y="106"/>
                      <a:pt x="3467" y="91"/>
                    </a:cubicBezTo>
                    <a:cubicBezTo>
                      <a:pt x="3468" y="88"/>
                      <a:pt x="3468" y="85"/>
                      <a:pt x="3470" y="83"/>
                    </a:cubicBezTo>
                    <a:cubicBezTo>
                      <a:pt x="3468" y="85"/>
                      <a:pt x="3467" y="88"/>
                      <a:pt x="3466" y="90"/>
                    </a:cubicBezTo>
                    <a:cubicBezTo>
                      <a:pt x="3466" y="88"/>
                      <a:pt x="3465" y="87"/>
                      <a:pt x="3464" y="85"/>
                    </a:cubicBezTo>
                    <a:cubicBezTo>
                      <a:pt x="3465" y="87"/>
                      <a:pt x="3466" y="89"/>
                      <a:pt x="3466" y="91"/>
                    </a:cubicBezTo>
                    <a:cubicBezTo>
                      <a:pt x="3465" y="95"/>
                      <a:pt x="3464" y="98"/>
                      <a:pt x="3463" y="101"/>
                    </a:cubicBezTo>
                    <a:cubicBezTo>
                      <a:pt x="3461" y="94"/>
                      <a:pt x="3460" y="87"/>
                      <a:pt x="3457" y="79"/>
                    </a:cubicBezTo>
                    <a:cubicBezTo>
                      <a:pt x="3457" y="78"/>
                      <a:pt x="3457" y="76"/>
                      <a:pt x="3457" y="75"/>
                    </a:cubicBezTo>
                    <a:cubicBezTo>
                      <a:pt x="3457" y="76"/>
                      <a:pt x="3457" y="77"/>
                      <a:pt x="3456" y="78"/>
                    </a:cubicBezTo>
                    <a:cubicBezTo>
                      <a:pt x="3454" y="71"/>
                      <a:pt x="3450" y="64"/>
                      <a:pt x="3446" y="56"/>
                    </a:cubicBezTo>
                    <a:cubicBezTo>
                      <a:pt x="3446" y="66"/>
                      <a:pt x="3450" y="78"/>
                      <a:pt x="3453" y="90"/>
                    </a:cubicBezTo>
                    <a:cubicBezTo>
                      <a:pt x="3451" y="99"/>
                      <a:pt x="3451" y="108"/>
                      <a:pt x="3450" y="117"/>
                    </a:cubicBezTo>
                    <a:cubicBezTo>
                      <a:pt x="3449" y="112"/>
                      <a:pt x="3447" y="107"/>
                      <a:pt x="3446" y="103"/>
                    </a:cubicBezTo>
                    <a:cubicBezTo>
                      <a:pt x="3448" y="109"/>
                      <a:pt x="3446" y="132"/>
                      <a:pt x="3446" y="140"/>
                    </a:cubicBezTo>
                    <a:cubicBezTo>
                      <a:pt x="3446" y="144"/>
                      <a:pt x="3446" y="147"/>
                      <a:pt x="3446" y="151"/>
                    </a:cubicBezTo>
                    <a:cubicBezTo>
                      <a:pt x="3446" y="151"/>
                      <a:pt x="3446" y="151"/>
                      <a:pt x="3446" y="151"/>
                    </a:cubicBezTo>
                    <a:cubicBezTo>
                      <a:pt x="3446" y="144"/>
                      <a:pt x="3445" y="137"/>
                      <a:pt x="3443" y="129"/>
                    </a:cubicBezTo>
                    <a:cubicBezTo>
                      <a:pt x="3441" y="119"/>
                      <a:pt x="3440" y="110"/>
                      <a:pt x="3441" y="100"/>
                    </a:cubicBezTo>
                    <a:cubicBezTo>
                      <a:pt x="3440" y="107"/>
                      <a:pt x="3440" y="113"/>
                      <a:pt x="3440" y="119"/>
                    </a:cubicBezTo>
                    <a:cubicBezTo>
                      <a:pt x="3438" y="114"/>
                      <a:pt x="3436" y="108"/>
                      <a:pt x="3434" y="103"/>
                    </a:cubicBezTo>
                    <a:cubicBezTo>
                      <a:pt x="3434" y="99"/>
                      <a:pt x="3435" y="95"/>
                      <a:pt x="3437" y="90"/>
                    </a:cubicBezTo>
                    <a:cubicBezTo>
                      <a:pt x="3435" y="94"/>
                      <a:pt x="3434" y="98"/>
                      <a:pt x="3433" y="102"/>
                    </a:cubicBezTo>
                    <a:cubicBezTo>
                      <a:pt x="3430" y="97"/>
                      <a:pt x="3428" y="93"/>
                      <a:pt x="3425" y="89"/>
                    </a:cubicBezTo>
                    <a:cubicBezTo>
                      <a:pt x="3428" y="93"/>
                      <a:pt x="3428" y="99"/>
                      <a:pt x="3428" y="103"/>
                    </a:cubicBezTo>
                    <a:cubicBezTo>
                      <a:pt x="3428" y="104"/>
                      <a:pt x="3429" y="109"/>
                      <a:pt x="3429" y="115"/>
                    </a:cubicBezTo>
                    <a:cubicBezTo>
                      <a:pt x="3428" y="120"/>
                      <a:pt x="3427" y="124"/>
                      <a:pt x="3427" y="129"/>
                    </a:cubicBezTo>
                    <a:cubicBezTo>
                      <a:pt x="3426" y="125"/>
                      <a:pt x="3425" y="122"/>
                      <a:pt x="3425" y="119"/>
                    </a:cubicBezTo>
                    <a:cubicBezTo>
                      <a:pt x="3425" y="115"/>
                      <a:pt x="3425" y="108"/>
                      <a:pt x="3424" y="105"/>
                    </a:cubicBezTo>
                    <a:cubicBezTo>
                      <a:pt x="3423" y="108"/>
                      <a:pt x="3423" y="110"/>
                      <a:pt x="3423" y="113"/>
                    </a:cubicBezTo>
                    <a:cubicBezTo>
                      <a:pt x="3422" y="109"/>
                      <a:pt x="3421" y="106"/>
                      <a:pt x="3421" y="103"/>
                    </a:cubicBezTo>
                    <a:cubicBezTo>
                      <a:pt x="3422" y="97"/>
                      <a:pt x="3423" y="90"/>
                      <a:pt x="3426" y="84"/>
                    </a:cubicBezTo>
                    <a:cubicBezTo>
                      <a:pt x="3423" y="90"/>
                      <a:pt x="3421" y="95"/>
                      <a:pt x="3420" y="101"/>
                    </a:cubicBezTo>
                    <a:cubicBezTo>
                      <a:pt x="3415" y="86"/>
                      <a:pt x="3412" y="83"/>
                      <a:pt x="3407" y="78"/>
                    </a:cubicBezTo>
                    <a:cubicBezTo>
                      <a:pt x="3414" y="84"/>
                      <a:pt x="3417" y="97"/>
                      <a:pt x="3418" y="107"/>
                    </a:cubicBezTo>
                    <a:cubicBezTo>
                      <a:pt x="3417" y="114"/>
                      <a:pt x="3415" y="120"/>
                      <a:pt x="3414" y="126"/>
                    </a:cubicBezTo>
                    <a:cubicBezTo>
                      <a:pt x="3413" y="121"/>
                      <a:pt x="3412" y="115"/>
                      <a:pt x="3410" y="109"/>
                    </a:cubicBezTo>
                    <a:cubicBezTo>
                      <a:pt x="3411" y="106"/>
                      <a:pt x="3411" y="103"/>
                      <a:pt x="3412" y="100"/>
                    </a:cubicBezTo>
                    <a:cubicBezTo>
                      <a:pt x="3411" y="102"/>
                      <a:pt x="3411" y="104"/>
                      <a:pt x="3410" y="108"/>
                    </a:cubicBezTo>
                    <a:cubicBezTo>
                      <a:pt x="3409" y="106"/>
                      <a:pt x="3408" y="103"/>
                      <a:pt x="3408" y="101"/>
                    </a:cubicBezTo>
                    <a:cubicBezTo>
                      <a:pt x="3408" y="100"/>
                      <a:pt x="3408" y="99"/>
                      <a:pt x="3409" y="98"/>
                    </a:cubicBezTo>
                    <a:cubicBezTo>
                      <a:pt x="3408" y="99"/>
                      <a:pt x="3408" y="100"/>
                      <a:pt x="3408" y="101"/>
                    </a:cubicBezTo>
                    <a:cubicBezTo>
                      <a:pt x="3405" y="94"/>
                      <a:pt x="3402" y="87"/>
                      <a:pt x="3398" y="81"/>
                    </a:cubicBezTo>
                    <a:cubicBezTo>
                      <a:pt x="3402" y="88"/>
                      <a:pt x="3403" y="99"/>
                      <a:pt x="3403" y="106"/>
                    </a:cubicBezTo>
                    <a:cubicBezTo>
                      <a:pt x="3403" y="111"/>
                      <a:pt x="3402" y="115"/>
                      <a:pt x="3402" y="120"/>
                    </a:cubicBezTo>
                    <a:cubicBezTo>
                      <a:pt x="3400" y="126"/>
                      <a:pt x="3398" y="133"/>
                      <a:pt x="3397" y="139"/>
                    </a:cubicBezTo>
                    <a:cubicBezTo>
                      <a:pt x="3397" y="135"/>
                      <a:pt x="3397" y="135"/>
                      <a:pt x="3397" y="135"/>
                    </a:cubicBezTo>
                    <a:cubicBezTo>
                      <a:pt x="3398" y="127"/>
                      <a:pt x="3398" y="120"/>
                      <a:pt x="3399" y="113"/>
                    </a:cubicBezTo>
                    <a:cubicBezTo>
                      <a:pt x="3398" y="117"/>
                      <a:pt x="3398" y="123"/>
                      <a:pt x="3397" y="129"/>
                    </a:cubicBezTo>
                    <a:cubicBezTo>
                      <a:pt x="3397" y="120"/>
                      <a:pt x="3397" y="111"/>
                      <a:pt x="3395" y="103"/>
                    </a:cubicBezTo>
                    <a:cubicBezTo>
                      <a:pt x="3396" y="101"/>
                      <a:pt x="3397" y="100"/>
                      <a:pt x="3397" y="99"/>
                    </a:cubicBezTo>
                    <a:cubicBezTo>
                      <a:pt x="3397" y="100"/>
                      <a:pt x="3396" y="101"/>
                      <a:pt x="3395" y="102"/>
                    </a:cubicBezTo>
                    <a:cubicBezTo>
                      <a:pt x="3393" y="88"/>
                      <a:pt x="3389" y="75"/>
                      <a:pt x="3380" y="60"/>
                    </a:cubicBezTo>
                    <a:cubicBezTo>
                      <a:pt x="3380" y="61"/>
                      <a:pt x="3380" y="61"/>
                      <a:pt x="3380" y="61"/>
                    </a:cubicBezTo>
                    <a:cubicBezTo>
                      <a:pt x="3380" y="76"/>
                      <a:pt x="3390" y="94"/>
                      <a:pt x="3390" y="111"/>
                    </a:cubicBezTo>
                    <a:cubicBezTo>
                      <a:pt x="3389" y="115"/>
                      <a:pt x="3388" y="120"/>
                      <a:pt x="3387" y="125"/>
                    </a:cubicBezTo>
                    <a:cubicBezTo>
                      <a:pt x="3383" y="109"/>
                      <a:pt x="3376" y="94"/>
                      <a:pt x="3365" y="83"/>
                    </a:cubicBezTo>
                    <a:cubicBezTo>
                      <a:pt x="3372" y="90"/>
                      <a:pt x="3376" y="101"/>
                      <a:pt x="3378" y="111"/>
                    </a:cubicBezTo>
                    <a:cubicBezTo>
                      <a:pt x="3377" y="111"/>
                      <a:pt x="3377" y="110"/>
                      <a:pt x="3377" y="109"/>
                    </a:cubicBezTo>
                    <a:cubicBezTo>
                      <a:pt x="3377" y="117"/>
                      <a:pt x="3378" y="126"/>
                      <a:pt x="3378" y="134"/>
                    </a:cubicBezTo>
                    <a:cubicBezTo>
                      <a:pt x="3378" y="136"/>
                      <a:pt x="3378" y="138"/>
                      <a:pt x="3378" y="140"/>
                    </a:cubicBezTo>
                    <a:cubicBezTo>
                      <a:pt x="3375" y="127"/>
                      <a:pt x="3374" y="113"/>
                      <a:pt x="3370" y="100"/>
                    </a:cubicBezTo>
                    <a:cubicBezTo>
                      <a:pt x="3372" y="109"/>
                      <a:pt x="3372" y="123"/>
                      <a:pt x="3372" y="135"/>
                    </a:cubicBezTo>
                    <a:cubicBezTo>
                      <a:pt x="3373" y="138"/>
                      <a:pt x="3373" y="141"/>
                      <a:pt x="3373" y="144"/>
                    </a:cubicBezTo>
                    <a:cubicBezTo>
                      <a:pt x="3373" y="143"/>
                      <a:pt x="3373" y="142"/>
                      <a:pt x="3373" y="142"/>
                    </a:cubicBezTo>
                    <a:cubicBezTo>
                      <a:pt x="3372" y="139"/>
                      <a:pt x="3372" y="137"/>
                      <a:pt x="3372" y="135"/>
                    </a:cubicBezTo>
                    <a:cubicBezTo>
                      <a:pt x="3372" y="130"/>
                      <a:pt x="3371" y="125"/>
                      <a:pt x="3370" y="120"/>
                    </a:cubicBezTo>
                    <a:cubicBezTo>
                      <a:pt x="3370" y="119"/>
                      <a:pt x="3370" y="119"/>
                      <a:pt x="3370" y="118"/>
                    </a:cubicBezTo>
                    <a:cubicBezTo>
                      <a:pt x="3370" y="119"/>
                      <a:pt x="3370" y="119"/>
                      <a:pt x="3370" y="120"/>
                    </a:cubicBezTo>
                    <a:cubicBezTo>
                      <a:pt x="3369" y="116"/>
                      <a:pt x="3367" y="112"/>
                      <a:pt x="3366" y="108"/>
                    </a:cubicBezTo>
                    <a:cubicBezTo>
                      <a:pt x="3366" y="106"/>
                      <a:pt x="3367" y="105"/>
                      <a:pt x="3368" y="103"/>
                    </a:cubicBezTo>
                    <a:cubicBezTo>
                      <a:pt x="3367" y="105"/>
                      <a:pt x="3366" y="106"/>
                      <a:pt x="3366" y="107"/>
                    </a:cubicBezTo>
                    <a:cubicBezTo>
                      <a:pt x="3359" y="91"/>
                      <a:pt x="3349" y="76"/>
                      <a:pt x="3332" y="63"/>
                    </a:cubicBezTo>
                    <a:cubicBezTo>
                      <a:pt x="3338" y="68"/>
                      <a:pt x="3342" y="74"/>
                      <a:pt x="3346" y="79"/>
                    </a:cubicBezTo>
                    <a:cubicBezTo>
                      <a:pt x="3345" y="81"/>
                      <a:pt x="3343" y="85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38" y="94"/>
                      <a:pt x="3336" y="98"/>
                      <a:pt x="3334" y="103"/>
                    </a:cubicBezTo>
                    <a:cubicBezTo>
                      <a:pt x="3333" y="100"/>
                      <a:pt x="3333" y="98"/>
                      <a:pt x="3332" y="96"/>
                    </a:cubicBezTo>
                    <a:cubicBezTo>
                      <a:pt x="3332" y="99"/>
                      <a:pt x="3333" y="103"/>
                      <a:pt x="3333" y="106"/>
                    </a:cubicBezTo>
                    <a:cubicBezTo>
                      <a:pt x="3332" y="108"/>
                      <a:pt x="3331" y="111"/>
                      <a:pt x="3330" y="113"/>
                    </a:cubicBezTo>
                    <a:cubicBezTo>
                      <a:pt x="3329" y="111"/>
                      <a:pt x="3329" y="109"/>
                      <a:pt x="3328" y="107"/>
                    </a:cubicBezTo>
                    <a:cubicBezTo>
                      <a:pt x="3329" y="100"/>
                      <a:pt x="3330" y="93"/>
                      <a:pt x="3330" y="88"/>
                    </a:cubicBezTo>
                    <a:cubicBezTo>
                      <a:pt x="3330" y="87"/>
                      <a:pt x="3330" y="87"/>
                      <a:pt x="3330" y="87"/>
                    </a:cubicBezTo>
                    <a:cubicBezTo>
                      <a:pt x="3328" y="92"/>
                      <a:pt x="3327" y="97"/>
                      <a:pt x="3326" y="102"/>
                    </a:cubicBezTo>
                    <a:cubicBezTo>
                      <a:pt x="3323" y="96"/>
                      <a:pt x="3321" y="90"/>
                      <a:pt x="3318" y="84"/>
                    </a:cubicBezTo>
                    <a:cubicBezTo>
                      <a:pt x="3321" y="90"/>
                      <a:pt x="3323" y="97"/>
                      <a:pt x="3325" y="104"/>
                    </a:cubicBezTo>
                    <a:cubicBezTo>
                      <a:pt x="3324" y="108"/>
                      <a:pt x="3324" y="111"/>
                      <a:pt x="3323" y="115"/>
                    </a:cubicBezTo>
                    <a:cubicBezTo>
                      <a:pt x="3321" y="110"/>
                      <a:pt x="3319" y="106"/>
                      <a:pt x="3317" y="102"/>
                    </a:cubicBezTo>
                    <a:cubicBezTo>
                      <a:pt x="3319" y="107"/>
                      <a:pt x="3320" y="114"/>
                      <a:pt x="3321" y="121"/>
                    </a:cubicBezTo>
                    <a:cubicBezTo>
                      <a:pt x="3320" y="126"/>
                      <a:pt x="3318" y="131"/>
                      <a:pt x="3317" y="135"/>
                    </a:cubicBezTo>
                    <a:cubicBezTo>
                      <a:pt x="3315" y="132"/>
                      <a:pt x="3314" y="129"/>
                      <a:pt x="3313" y="125"/>
                    </a:cubicBezTo>
                    <a:cubicBezTo>
                      <a:pt x="3314" y="118"/>
                      <a:pt x="3315" y="111"/>
                      <a:pt x="3316" y="104"/>
                    </a:cubicBezTo>
                    <a:cubicBezTo>
                      <a:pt x="3315" y="109"/>
                      <a:pt x="3313" y="114"/>
                      <a:pt x="3311" y="120"/>
                    </a:cubicBezTo>
                    <a:cubicBezTo>
                      <a:pt x="3310" y="115"/>
                      <a:pt x="3309" y="111"/>
                      <a:pt x="3308" y="107"/>
                    </a:cubicBezTo>
                    <a:cubicBezTo>
                      <a:pt x="3308" y="103"/>
                      <a:pt x="3309" y="98"/>
                      <a:pt x="3309" y="94"/>
                    </a:cubicBezTo>
                    <a:cubicBezTo>
                      <a:pt x="3309" y="91"/>
                      <a:pt x="3308" y="88"/>
                      <a:pt x="3308" y="85"/>
                    </a:cubicBezTo>
                    <a:cubicBezTo>
                      <a:pt x="3307" y="89"/>
                      <a:pt x="3306" y="93"/>
                      <a:pt x="3305" y="99"/>
                    </a:cubicBezTo>
                    <a:cubicBezTo>
                      <a:pt x="3302" y="91"/>
                      <a:pt x="3298" y="84"/>
                      <a:pt x="3293" y="77"/>
                    </a:cubicBezTo>
                    <a:cubicBezTo>
                      <a:pt x="3296" y="86"/>
                      <a:pt x="3300" y="95"/>
                      <a:pt x="3303" y="104"/>
                    </a:cubicBezTo>
                    <a:cubicBezTo>
                      <a:pt x="3303" y="106"/>
                      <a:pt x="3303" y="107"/>
                      <a:pt x="3303" y="109"/>
                    </a:cubicBezTo>
                    <a:cubicBezTo>
                      <a:pt x="3302" y="107"/>
                      <a:pt x="3301" y="105"/>
                      <a:pt x="3300" y="103"/>
                    </a:cubicBezTo>
                    <a:cubicBezTo>
                      <a:pt x="3300" y="103"/>
                      <a:pt x="3300" y="102"/>
                      <a:pt x="3300" y="102"/>
                    </a:cubicBezTo>
                    <a:cubicBezTo>
                      <a:pt x="3300" y="102"/>
                      <a:pt x="3300" y="103"/>
                      <a:pt x="3300" y="103"/>
                    </a:cubicBezTo>
                    <a:cubicBezTo>
                      <a:pt x="3295" y="94"/>
                      <a:pt x="3290" y="86"/>
                      <a:pt x="3283" y="79"/>
                    </a:cubicBezTo>
                    <a:cubicBezTo>
                      <a:pt x="3285" y="75"/>
                      <a:pt x="3287" y="71"/>
                      <a:pt x="3289" y="68"/>
                    </a:cubicBezTo>
                    <a:cubicBezTo>
                      <a:pt x="3287" y="69"/>
                      <a:pt x="3284" y="73"/>
                      <a:pt x="3282" y="77"/>
                    </a:cubicBezTo>
                    <a:cubicBezTo>
                      <a:pt x="3278" y="73"/>
                      <a:pt x="3274" y="69"/>
                      <a:pt x="3269" y="65"/>
                    </a:cubicBezTo>
                    <a:cubicBezTo>
                      <a:pt x="3274" y="70"/>
                      <a:pt x="3278" y="75"/>
                      <a:pt x="3281" y="79"/>
                    </a:cubicBezTo>
                    <a:cubicBezTo>
                      <a:pt x="3278" y="86"/>
                      <a:pt x="3275" y="96"/>
                      <a:pt x="3272" y="105"/>
                    </a:cubicBezTo>
                    <a:cubicBezTo>
                      <a:pt x="3269" y="99"/>
                      <a:pt x="3265" y="94"/>
                      <a:pt x="3262" y="88"/>
                    </a:cubicBezTo>
                    <a:cubicBezTo>
                      <a:pt x="3262" y="87"/>
                      <a:pt x="3262" y="86"/>
                      <a:pt x="3263" y="85"/>
                    </a:cubicBezTo>
                    <a:cubicBezTo>
                      <a:pt x="3262" y="86"/>
                      <a:pt x="3262" y="87"/>
                      <a:pt x="3262" y="88"/>
                    </a:cubicBezTo>
                    <a:cubicBezTo>
                      <a:pt x="3261" y="87"/>
                      <a:pt x="3260" y="86"/>
                      <a:pt x="3259" y="85"/>
                    </a:cubicBezTo>
                    <a:cubicBezTo>
                      <a:pt x="3260" y="86"/>
                      <a:pt x="3261" y="87"/>
                      <a:pt x="3261" y="88"/>
                    </a:cubicBezTo>
                    <a:cubicBezTo>
                      <a:pt x="3260" y="91"/>
                      <a:pt x="3259" y="93"/>
                      <a:pt x="3258" y="95"/>
                    </a:cubicBezTo>
                    <a:cubicBezTo>
                      <a:pt x="3257" y="94"/>
                      <a:pt x="3257" y="92"/>
                      <a:pt x="3256" y="91"/>
                    </a:cubicBezTo>
                    <a:cubicBezTo>
                      <a:pt x="3257" y="92"/>
                      <a:pt x="3257" y="94"/>
                      <a:pt x="3258" y="95"/>
                    </a:cubicBezTo>
                    <a:cubicBezTo>
                      <a:pt x="3254" y="103"/>
                      <a:pt x="3251" y="112"/>
                      <a:pt x="3249" y="121"/>
                    </a:cubicBezTo>
                    <a:cubicBezTo>
                      <a:pt x="3248" y="112"/>
                      <a:pt x="3247" y="103"/>
                      <a:pt x="3247" y="97"/>
                    </a:cubicBezTo>
                    <a:cubicBezTo>
                      <a:pt x="3245" y="100"/>
                      <a:pt x="3244" y="105"/>
                      <a:pt x="3243" y="110"/>
                    </a:cubicBezTo>
                    <a:cubicBezTo>
                      <a:pt x="3243" y="92"/>
                      <a:pt x="3242" y="61"/>
                      <a:pt x="3240" y="57"/>
                    </a:cubicBezTo>
                    <a:cubicBezTo>
                      <a:pt x="3239" y="79"/>
                      <a:pt x="3240" y="100"/>
                      <a:pt x="3240" y="122"/>
                    </a:cubicBezTo>
                    <a:cubicBezTo>
                      <a:pt x="3240" y="123"/>
                      <a:pt x="3240" y="124"/>
                      <a:pt x="3240" y="125"/>
                    </a:cubicBezTo>
                    <a:cubicBezTo>
                      <a:pt x="3238" y="114"/>
                      <a:pt x="3234" y="103"/>
                      <a:pt x="3229" y="94"/>
                    </a:cubicBezTo>
                    <a:cubicBezTo>
                      <a:pt x="3228" y="89"/>
                      <a:pt x="3228" y="84"/>
                      <a:pt x="3229" y="80"/>
                    </a:cubicBezTo>
                    <a:cubicBezTo>
                      <a:pt x="3228" y="83"/>
                      <a:pt x="3227" y="87"/>
                      <a:pt x="3226" y="90"/>
                    </a:cubicBezTo>
                    <a:cubicBezTo>
                      <a:pt x="3224" y="88"/>
                      <a:pt x="3222" y="85"/>
                      <a:pt x="3220" y="83"/>
                    </a:cubicBezTo>
                    <a:cubicBezTo>
                      <a:pt x="3222" y="86"/>
                      <a:pt x="3224" y="89"/>
                      <a:pt x="3226" y="92"/>
                    </a:cubicBezTo>
                    <a:cubicBezTo>
                      <a:pt x="3225" y="96"/>
                      <a:pt x="3224" y="100"/>
                      <a:pt x="3224" y="103"/>
                    </a:cubicBezTo>
                    <a:cubicBezTo>
                      <a:pt x="3223" y="102"/>
                      <a:pt x="3223" y="101"/>
                      <a:pt x="3223" y="100"/>
                    </a:cubicBezTo>
                    <a:cubicBezTo>
                      <a:pt x="3223" y="101"/>
                      <a:pt x="3223" y="102"/>
                      <a:pt x="3224" y="104"/>
                    </a:cubicBezTo>
                    <a:cubicBezTo>
                      <a:pt x="3223" y="106"/>
                      <a:pt x="3223" y="109"/>
                      <a:pt x="3222" y="111"/>
                    </a:cubicBezTo>
                    <a:cubicBezTo>
                      <a:pt x="3220" y="107"/>
                      <a:pt x="3219" y="103"/>
                      <a:pt x="3217" y="99"/>
                    </a:cubicBezTo>
                    <a:cubicBezTo>
                      <a:pt x="3216" y="91"/>
                      <a:pt x="3216" y="82"/>
                      <a:pt x="3217" y="74"/>
                    </a:cubicBezTo>
                    <a:cubicBezTo>
                      <a:pt x="3216" y="80"/>
                      <a:pt x="3214" y="86"/>
                      <a:pt x="3213" y="92"/>
                    </a:cubicBezTo>
                    <a:cubicBezTo>
                      <a:pt x="3212" y="91"/>
                      <a:pt x="3211" y="89"/>
                      <a:pt x="3210" y="88"/>
                    </a:cubicBezTo>
                    <a:cubicBezTo>
                      <a:pt x="3211" y="89"/>
                      <a:pt x="3212" y="91"/>
                      <a:pt x="3213" y="93"/>
                    </a:cubicBezTo>
                    <a:cubicBezTo>
                      <a:pt x="3212" y="95"/>
                      <a:pt x="3212" y="97"/>
                      <a:pt x="3212" y="98"/>
                    </a:cubicBezTo>
                    <a:cubicBezTo>
                      <a:pt x="3209" y="93"/>
                      <a:pt x="3207" y="88"/>
                      <a:pt x="3203" y="84"/>
                    </a:cubicBezTo>
                    <a:cubicBezTo>
                      <a:pt x="3206" y="88"/>
                      <a:pt x="3208" y="95"/>
                      <a:pt x="3211" y="103"/>
                    </a:cubicBezTo>
                    <a:cubicBezTo>
                      <a:pt x="3210" y="106"/>
                      <a:pt x="3209" y="110"/>
                      <a:pt x="3209" y="113"/>
                    </a:cubicBezTo>
                    <a:cubicBezTo>
                      <a:pt x="3206" y="108"/>
                      <a:pt x="3204" y="102"/>
                      <a:pt x="3201" y="96"/>
                    </a:cubicBezTo>
                    <a:cubicBezTo>
                      <a:pt x="3201" y="91"/>
                      <a:pt x="3202" y="86"/>
                      <a:pt x="3203" y="83"/>
                    </a:cubicBezTo>
                    <a:cubicBezTo>
                      <a:pt x="3202" y="87"/>
                      <a:pt x="3201" y="90"/>
                      <a:pt x="3199" y="93"/>
                    </a:cubicBezTo>
                    <a:cubicBezTo>
                      <a:pt x="3194" y="83"/>
                      <a:pt x="3187" y="74"/>
                      <a:pt x="3178" y="64"/>
                    </a:cubicBezTo>
                    <a:cubicBezTo>
                      <a:pt x="3187" y="74"/>
                      <a:pt x="3193" y="86"/>
                      <a:pt x="3198" y="97"/>
                    </a:cubicBezTo>
                    <a:cubicBezTo>
                      <a:pt x="3197" y="99"/>
                      <a:pt x="3197" y="101"/>
                      <a:pt x="3196" y="103"/>
                    </a:cubicBezTo>
                    <a:cubicBezTo>
                      <a:pt x="3195" y="98"/>
                      <a:pt x="3194" y="93"/>
                      <a:pt x="3192" y="88"/>
                    </a:cubicBezTo>
                    <a:cubicBezTo>
                      <a:pt x="3192" y="91"/>
                      <a:pt x="3193" y="98"/>
                      <a:pt x="3195" y="106"/>
                    </a:cubicBezTo>
                    <a:cubicBezTo>
                      <a:pt x="3195" y="108"/>
                      <a:pt x="3194" y="109"/>
                      <a:pt x="3194" y="110"/>
                    </a:cubicBezTo>
                    <a:cubicBezTo>
                      <a:pt x="3188" y="97"/>
                      <a:pt x="3181" y="83"/>
                      <a:pt x="3170" y="72"/>
                    </a:cubicBezTo>
                    <a:cubicBezTo>
                      <a:pt x="3168" y="61"/>
                      <a:pt x="3166" y="51"/>
                      <a:pt x="3164" y="41"/>
                    </a:cubicBezTo>
                    <a:cubicBezTo>
                      <a:pt x="3164" y="48"/>
                      <a:pt x="3164" y="55"/>
                      <a:pt x="3164" y="61"/>
                    </a:cubicBezTo>
                    <a:cubicBezTo>
                      <a:pt x="3164" y="63"/>
                      <a:pt x="3164" y="64"/>
                      <a:pt x="3164" y="66"/>
                    </a:cubicBezTo>
                    <a:cubicBezTo>
                      <a:pt x="3163" y="65"/>
                      <a:pt x="3163" y="65"/>
                      <a:pt x="3163" y="65"/>
                    </a:cubicBezTo>
                    <a:cubicBezTo>
                      <a:pt x="3163" y="65"/>
                      <a:pt x="3163" y="65"/>
                      <a:pt x="3164" y="66"/>
                    </a:cubicBezTo>
                    <a:cubicBezTo>
                      <a:pt x="3164" y="75"/>
                      <a:pt x="3165" y="85"/>
                      <a:pt x="3165" y="94"/>
                    </a:cubicBezTo>
                    <a:cubicBezTo>
                      <a:pt x="3163" y="88"/>
                      <a:pt x="3160" y="81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1" y="67"/>
                      <a:pt x="3144" y="59"/>
                      <a:pt x="3134" y="50"/>
                    </a:cubicBezTo>
                    <a:cubicBezTo>
                      <a:pt x="3137" y="54"/>
                      <a:pt x="3139" y="58"/>
                      <a:pt x="3141" y="61"/>
                    </a:cubicBezTo>
                    <a:cubicBezTo>
                      <a:pt x="3140" y="64"/>
                      <a:pt x="3140" y="68"/>
                      <a:pt x="3139" y="73"/>
                    </a:cubicBezTo>
                    <a:cubicBezTo>
                      <a:pt x="3137" y="70"/>
                      <a:pt x="3134" y="67"/>
                      <a:pt x="3132" y="65"/>
                    </a:cubicBezTo>
                    <a:cubicBezTo>
                      <a:pt x="3132" y="64"/>
                      <a:pt x="3132" y="64"/>
                      <a:pt x="3132" y="64"/>
                    </a:cubicBezTo>
                    <a:cubicBezTo>
                      <a:pt x="3132" y="64"/>
                      <a:pt x="3132" y="64"/>
                      <a:pt x="3131" y="64"/>
                    </a:cubicBezTo>
                    <a:cubicBezTo>
                      <a:pt x="3130" y="62"/>
                      <a:pt x="3128" y="61"/>
                      <a:pt x="3126" y="59"/>
                    </a:cubicBezTo>
                    <a:cubicBezTo>
                      <a:pt x="3128" y="61"/>
                      <a:pt x="3129" y="63"/>
                      <a:pt x="3131" y="65"/>
                    </a:cubicBezTo>
                    <a:cubicBezTo>
                      <a:pt x="3130" y="67"/>
                      <a:pt x="3128" y="69"/>
                      <a:pt x="3127" y="72"/>
                    </a:cubicBezTo>
                    <a:cubicBezTo>
                      <a:pt x="3126" y="66"/>
                      <a:pt x="3126" y="61"/>
                      <a:pt x="3125" y="56"/>
                    </a:cubicBezTo>
                    <a:cubicBezTo>
                      <a:pt x="3126" y="54"/>
                      <a:pt x="3127" y="53"/>
                      <a:pt x="3128" y="51"/>
                    </a:cubicBezTo>
                    <a:cubicBezTo>
                      <a:pt x="3127" y="52"/>
                      <a:pt x="3126" y="53"/>
                      <a:pt x="3124" y="55"/>
                    </a:cubicBezTo>
                    <a:cubicBezTo>
                      <a:pt x="3123" y="45"/>
                      <a:pt x="3121" y="35"/>
                      <a:pt x="3118" y="26"/>
                    </a:cubicBezTo>
                    <a:cubicBezTo>
                      <a:pt x="3117" y="30"/>
                      <a:pt x="3117" y="34"/>
                      <a:pt x="3117" y="37"/>
                    </a:cubicBezTo>
                    <a:cubicBezTo>
                      <a:pt x="3117" y="45"/>
                      <a:pt x="3118" y="53"/>
                      <a:pt x="3119" y="60"/>
                    </a:cubicBezTo>
                    <a:cubicBezTo>
                      <a:pt x="3115" y="64"/>
                      <a:pt x="3111" y="69"/>
                      <a:pt x="3106" y="74"/>
                    </a:cubicBezTo>
                    <a:cubicBezTo>
                      <a:pt x="3106" y="72"/>
                      <a:pt x="3105" y="70"/>
                      <a:pt x="3104" y="67"/>
                    </a:cubicBezTo>
                    <a:cubicBezTo>
                      <a:pt x="3104" y="70"/>
                      <a:pt x="3105" y="73"/>
                      <a:pt x="3105" y="76"/>
                    </a:cubicBezTo>
                    <a:cubicBezTo>
                      <a:pt x="3104" y="77"/>
                      <a:pt x="3104" y="77"/>
                      <a:pt x="3104" y="78"/>
                    </a:cubicBezTo>
                    <a:cubicBezTo>
                      <a:pt x="3102" y="75"/>
                      <a:pt x="3100" y="72"/>
                      <a:pt x="3098" y="68"/>
                    </a:cubicBezTo>
                    <a:cubicBezTo>
                      <a:pt x="3098" y="65"/>
                      <a:pt x="3099" y="63"/>
                      <a:pt x="3099" y="62"/>
                    </a:cubicBezTo>
                    <a:cubicBezTo>
                      <a:pt x="3098" y="63"/>
                      <a:pt x="3097" y="65"/>
                      <a:pt x="3096" y="67"/>
                    </a:cubicBezTo>
                    <a:cubicBezTo>
                      <a:pt x="3090" y="57"/>
                      <a:pt x="3081" y="47"/>
                      <a:pt x="3068" y="34"/>
                    </a:cubicBezTo>
                    <a:cubicBezTo>
                      <a:pt x="3081" y="49"/>
                      <a:pt x="3089" y="60"/>
                      <a:pt x="3096" y="69"/>
                    </a:cubicBezTo>
                    <a:cubicBezTo>
                      <a:pt x="3095" y="72"/>
                      <a:pt x="3094" y="75"/>
                      <a:pt x="3094" y="79"/>
                    </a:cubicBezTo>
                    <a:cubicBezTo>
                      <a:pt x="3088" y="68"/>
                      <a:pt x="3080" y="58"/>
                      <a:pt x="3068" y="52"/>
                    </a:cubicBezTo>
                    <a:cubicBezTo>
                      <a:pt x="3082" y="60"/>
                      <a:pt x="3089" y="72"/>
                      <a:pt x="3094" y="84"/>
                    </a:cubicBezTo>
                    <a:cubicBezTo>
                      <a:pt x="3094" y="86"/>
                      <a:pt x="3094" y="89"/>
                      <a:pt x="3094" y="91"/>
                    </a:cubicBezTo>
                    <a:cubicBezTo>
                      <a:pt x="3092" y="94"/>
                      <a:pt x="3090" y="97"/>
                      <a:pt x="3088" y="100"/>
                    </a:cubicBezTo>
                    <a:cubicBezTo>
                      <a:pt x="3087" y="96"/>
                      <a:pt x="3087" y="93"/>
                      <a:pt x="3086" y="90"/>
                    </a:cubicBezTo>
                    <a:cubicBezTo>
                      <a:pt x="3087" y="93"/>
                      <a:pt x="3087" y="97"/>
                      <a:pt x="3087" y="101"/>
                    </a:cubicBezTo>
                    <a:cubicBezTo>
                      <a:pt x="3086" y="102"/>
                      <a:pt x="3085" y="104"/>
                      <a:pt x="3085" y="105"/>
                    </a:cubicBezTo>
                    <a:cubicBezTo>
                      <a:pt x="3084" y="104"/>
                      <a:pt x="3084" y="103"/>
                      <a:pt x="3083" y="102"/>
                    </a:cubicBezTo>
                    <a:cubicBezTo>
                      <a:pt x="3082" y="97"/>
                      <a:pt x="3081" y="93"/>
                      <a:pt x="3080" y="88"/>
                    </a:cubicBezTo>
                    <a:cubicBezTo>
                      <a:pt x="3081" y="83"/>
                      <a:pt x="3082" y="79"/>
                      <a:pt x="3082" y="75"/>
                    </a:cubicBezTo>
                    <a:cubicBezTo>
                      <a:pt x="3081" y="78"/>
                      <a:pt x="3080" y="80"/>
                      <a:pt x="3079" y="82"/>
                    </a:cubicBezTo>
                    <a:cubicBezTo>
                      <a:pt x="3078" y="81"/>
                      <a:pt x="3078" y="80"/>
                      <a:pt x="3078" y="79"/>
                    </a:cubicBezTo>
                    <a:cubicBezTo>
                      <a:pt x="3078" y="80"/>
                      <a:pt x="3078" y="82"/>
                      <a:pt x="3078" y="83"/>
                    </a:cubicBezTo>
                    <a:cubicBezTo>
                      <a:pt x="3078" y="84"/>
                      <a:pt x="3077" y="86"/>
                      <a:pt x="3076" y="87"/>
                    </a:cubicBezTo>
                    <a:cubicBezTo>
                      <a:pt x="3074" y="83"/>
                      <a:pt x="3073" y="79"/>
                      <a:pt x="3071" y="75"/>
                    </a:cubicBezTo>
                    <a:cubicBezTo>
                      <a:pt x="3071" y="80"/>
                      <a:pt x="3072" y="86"/>
                      <a:pt x="3073" y="93"/>
                    </a:cubicBezTo>
                    <a:cubicBezTo>
                      <a:pt x="3073" y="94"/>
                      <a:pt x="3073" y="94"/>
                      <a:pt x="3073" y="94"/>
                    </a:cubicBezTo>
                    <a:cubicBezTo>
                      <a:pt x="3072" y="90"/>
                      <a:pt x="3070" y="85"/>
                      <a:pt x="3068" y="81"/>
                    </a:cubicBezTo>
                    <a:cubicBezTo>
                      <a:pt x="3070" y="86"/>
                      <a:pt x="3071" y="91"/>
                      <a:pt x="3072" y="97"/>
                    </a:cubicBezTo>
                    <a:cubicBezTo>
                      <a:pt x="3070" y="100"/>
                      <a:pt x="3069" y="102"/>
                      <a:pt x="3068" y="105"/>
                    </a:cubicBezTo>
                    <a:cubicBezTo>
                      <a:pt x="3065" y="83"/>
                      <a:pt x="3059" y="63"/>
                      <a:pt x="3039" y="42"/>
                    </a:cubicBezTo>
                    <a:cubicBezTo>
                      <a:pt x="3047" y="58"/>
                      <a:pt x="3053" y="70"/>
                      <a:pt x="3057" y="81"/>
                    </a:cubicBezTo>
                    <a:cubicBezTo>
                      <a:pt x="3057" y="83"/>
                      <a:pt x="3057" y="86"/>
                      <a:pt x="3057" y="89"/>
                    </a:cubicBezTo>
                    <a:cubicBezTo>
                      <a:pt x="3055" y="86"/>
                      <a:pt x="3053" y="84"/>
                      <a:pt x="3052" y="81"/>
                    </a:cubicBezTo>
                    <a:cubicBezTo>
                      <a:pt x="3051" y="79"/>
                      <a:pt x="3049" y="76"/>
                      <a:pt x="3048" y="73"/>
                    </a:cubicBezTo>
                    <a:cubicBezTo>
                      <a:pt x="3048" y="71"/>
                      <a:pt x="3048" y="69"/>
                      <a:pt x="3048" y="67"/>
                    </a:cubicBezTo>
                    <a:cubicBezTo>
                      <a:pt x="3048" y="69"/>
                      <a:pt x="3047" y="70"/>
                      <a:pt x="3047" y="72"/>
                    </a:cubicBezTo>
                    <a:cubicBezTo>
                      <a:pt x="3044" y="66"/>
                      <a:pt x="3040" y="59"/>
                      <a:pt x="3035" y="53"/>
                    </a:cubicBezTo>
                    <a:cubicBezTo>
                      <a:pt x="3035" y="48"/>
                      <a:pt x="3035" y="42"/>
                      <a:pt x="3035" y="37"/>
                    </a:cubicBezTo>
                    <a:cubicBezTo>
                      <a:pt x="3035" y="34"/>
                      <a:pt x="3035" y="30"/>
                      <a:pt x="3035" y="26"/>
                    </a:cubicBezTo>
                    <a:cubicBezTo>
                      <a:pt x="3032" y="33"/>
                      <a:pt x="3031" y="40"/>
                      <a:pt x="3029" y="47"/>
                    </a:cubicBezTo>
                    <a:cubicBezTo>
                      <a:pt x="3026" y="44"/>
                      <a:pt x="3023" y="41"/>
                      <a:pt x="3020" y="38"/>
                    </a:cubicBezTo>
                    <a:cubicBezTo>
                      <a:pt x="3023" y="41"/>
                      <a:pt x="3026" y="45"/>
                      <a:pt x="3029" y="49"/>
                    </a:cubicBezTo>
                    <a:cubicBezTo>
                      <a:pt x="3029" y="51"/>
                      <a:pt x="3028" y="53"/>
                      <a:pt x="3028" y="55"/>
                    </a:cubicBezTo>
                    <a:cubicBezTo>
                      <a:pt x="3027" y="53"/>
                      <a:pt x="3025" y="52"/>
                      <a:pt x="3024" y="51"/>
                    </a:cubicBezTo>
                    <a:cubicBezTo>
                      <a:pt x="3025" y="53"/>
                      <a:pt x="3027" y="54"/>
                      <a:pt x="3028" y="56"/>
                    </a:cubicBezTo>
                    <a:cubicBezTo>
                      <a:pt x="3027" y="61"/>
                      <a:pt x="3026" y="66"/>
                      <a:pt x="3026" y="72"/>
                    </a:cubicBezTo>
                    <a:cubicBezTo>
                      <a:pt x="3024" y="69"/>
                      <a:pt x="3022" y="66"/>
                      <a:pt x="3021" y="64"/>
                    </a:cubicBezTo>
                    <a:cubicBezTo>
                      <a:pt x="3021" y="66"/>
                      <a:pt x="3023" y="70"/>
                      <a:pt x="3025" y="74"/>
                    </a:cubicBezTo>
                    <a:cubicBezTo>
                      <a:pt x="3024" y="80"/>
                      <a:pt x="3023" y="86"/>
                      <a:pt x="3022" y="92"/>
                    </a:cubicBezTo>
                    <a:cubicBezTo>
                      <a:pt x="3018" y="109"/>
                      <a:pt x="3014" y="126"/>
                      <a:pt x="3012" y="143"/>
                    </a:cubicBezTo>
                    <a:cubicBezTo>
                      <a:pt x="3013" y="126"/>
                      <a:pt x="3014" y="109"/>
                      <a:pt x="3014" y="91"/>
                    </a:cubicBezTo>
                    <a:cubicBezTo>
                      <a:pt x="3014" y="87"/>
                      <a:pt x="3014" y="61"/>
                      <a:pt x="3010" y="59"/>
                    </a:cubicBezTo>
                    <a:cubicBezTo>
                      <a:pt x="3015" y="76"/>
                      <a:pt x="3001" y="122"/>
                      <a:pt x="2998" y="146"/>
                    </a:cubicBezTo>
                    <a:cubicBezTo>
                      <a:pt x="2998" y="148"/>
                      <a:pt x="2998" y="150"/>
                      <a:pt x="2997" y="152"/>
                    </a:cubicBezTo>
                    <a:cubicBezTo>
                      <a:pt x="2997" y="150"/>
                      <a:pt x="2998" y="148"/>
                      <a:pt x="2998" y="146"/>
                    </a:cubicBezTo>
                    <a:cubicBezTo>
                      <a:pt x="3000" y="123"/>
                      <a:pt x="2998" y="98"/>
                      <a:pt x="2997" y="75"/>
                    </a:cubicBezTo>
                    <a:cubicBezTo>
                      <a:pt x="2994" y="97"/>
                      <a:pt x="2986" y="119"/>
                      <a:pt x="2986" y="141"/>
                    </a:cubicBezTo>
                    <a:cubicBezTo>
                      <a:pt x="2986" y="146"/>
                      <a:pt x="2986" y="152"/>
                      <a:pt x="2987" y="158"/>
                    </a:cubicBezTo>
                    <a:cubicBezTo>
                      <a:pt x="2985" y="150"/>
                      <a:pt x="2985" y="140"/>
                      <a:pt x="2985" y="133"/>
                    </a:cubicBezTo>
                    <a:cubicBezTo>
                      <a:pt x="2985" y="109"/>
                      <a:pt x="2989" y="85"/>
                      <a:pt x="2989" y="61"/>
                    </a:cubicBezTo>
                    <a:cubicBezTo>
                      <a:pt x="2989" y="55"/>
                      <a:pt x="2989" y="48"/>
                      <a:pt x="2988" y="41"/>
                    </a:cubicBezTo>
                    <a:cubicBezTo>
                      <a:pt x="2981" y="71"/>
                      <a:pt x="2977" y="110"/>
                      <a:pt x="2977" y="140"/>
                    </a:cubicBezTo>
                    <a:cubicBezTo>
                      <a:pt x="2977" y="145"/>
                      <a:pt x="2977" y="149"/>
                      <a:pt x="2977" y="153"/>
                    </a:cubicBezTo>
                    <a:cubicBezTo>
                      <a:pt x="2976" y="135"/>
                      <a:pt x="2972" y="116"/>
                      <a:pt x="2968" y="98"/>
                    </a:cubicBezTo>
                    <a:cubicBezTo>
                      <a:pt x="2970" y="110"/>
                      <a:pt x="2966" y="124"/>
                      <a:pt x="2966" y="136"/>
                    </a:cubicBezTo>
                    <a:cubicBezTo>
                      <a:pt x="2966" y="140"/>
                      <a:pt x="2966" y="143"/>
                      <a:pt x="2966" y="147"/>
                    </a:cubicBezTo>
                    <a:cubicBezTo>
                      <a:pt x="2963" y="125"/>
                      <a:pt x="2958" y="103"/>
                      <a:pt x="2949" y="83"/>
                    </a:cubicBezTo>
                    <a:cubicBezTo>
                      <a:pt x="2952" y="90"/>
                      <a:pt x="2952" y="108"/>
                      <a:pt x="2952" y="115"/>
                    </a:cubicBezTo>
                    <a:cubicBezTo>
                      <a:pt x="2952" y="127"/>
                      <a:pt x="2952" y="138"/>
                      <a:pt x="2954" y="150"/>
                    </a:cubicBezTo>
                    <a:cubicBezTo>
                      <a:pt x="2945" y="126"/>
                      <a:pt x="2942" y="99"/>
                      <a:pt x="2935" y="74"/>
                    </a:cubicBezTo>
                    <a:cubicBezTo>
                      <a:pt x="2938" y="91"/>
                      <a:pt x="2934" y="110"/>
                      <a:pt x="2934" y="128"/>
                    </a:cubicBezTo>
                    <a:cubicBezTo>
                      <a:pt x="2934" y="132"/>
                      <a:pt x="2935" y="136"/>
                      <a:pt x="2935" y="140"/>
                    </a:cubicBezTo>
                    <a:cubicBezTo>
                      <a:pt x="2935" y="145"/>
                      <a:pt x="2936" y="149"/>
                      <a:pt x="2937" y="154"/>
                    </a:cubicBezTo>
                    <a:cubicBezTo>
                      <a:pt x="2936" y="149"/>
                      <a:pt x="2935" y="145"/>
                      <a:pt x="2935" y="140"/>
                    </a:cubicBezTo>
                    <a:cubicBezTo>
                      <a:pt x="2932" y="120"/>
                      <a:pt x="2929" y="99"/>
                      <a:pt x="2924" y="80"/>
                    </a:cubicBezTo>
                    <a:cubicBezTo>
                      <a:pt x="2926" y="102"/>
                      <a:pt x="2916" y="126"/>
                      <a:pt x="2916" y="149"/>
                    </a:cubicBezTo>
                    <a:cubicBezTo>
                      <a:pt x="2916" y="156"/>
                      <a:pt x="2916" y="156"/>
                      <a:pt x="2916" y="156"/>
                    </a:cubicBezTo>
                    <a:cubicBezTo>
                      <a:pt x="2912" y="147"/>
                      <a:pt x="2912" y="132"/>
                      <a:pt x="2912" y="122"/>
                    </a:cubicBezTo>
                    <a:cubicBezTo>
                      <a:pt x="2912" y="100"/>
                      <a:pt x="2914" y="79"/>
                      <a:pt x="2913" y="57"/>
                    </a:cubicBezTo>
                    <a:cubicBezTo>
                      <a:pt x="2910" y="62"/>
                      <a:pt x="2909" y="112"/>
                      <a:pt x="2909" y="120"/>
                    </a:cubicBezTo>
                    <a:cubicBezTo>
                      <a:pt x="2909" y="133"/>
                      <a:pt x="2910" y="146"/>
                      <a:pt x="2913" y="159"/>
                    </a:cubicBezTo>
                    <a:cubicBezTo>
                      <a:pt x="2908" y="135"/>
                      <a:pt x="2902" y="108"/>
                      <a:pt x="2890" y="85"/>
                    </a:cubicBezTo>
                    <a:cubicBezTo>
                      <a:pt x="2901" y="106"/>
                      <a:pt x="2896" y="132"/>
                      <a:pt x="2903" y="154"/>
                    </a:cubicBezTo>
                    <a:cubicBezTo>
                      <a:pt x="2895" y="142"/>
                      <a:pt x="2893" y="122"/>
                      <a:pt x="2890" y="106"/>
                    </a:cubicBezTo>
                    <a:cubicBezTo>
                      <a:pt x="2892" y="120"/>
                      <a:pt x="2890" y="134"/>
                      <a:pt x="2892" y="148"/>
                    </a:cubicBezTo>
                    <a:cubicBezTo>
                      <a:pt x="2893" y="151"/>
                      <a:pt x="2894" y="153"/>
                      <a:pt x="2894" y="155"/>
                    </a:cubicBezTo>
                    <a:cubicBezTo>
                      <a:pt x="2893" y="153"/>
                      <a:pt x="2893" y="151"/>
                      <a:pt x="2892" y="148"/>
                    </a:cubicBezTo>
                    <a:cubicBezTo>
                      <a:pt x="2887" y="128"/>
                      <a:pt x="2875" y="75"/>
                      <a:pt x="2863" y="68"/>
                    </a:cubicBezTo>
                    <a:cubicBezTo>
                      <a:pt x="2880" y="90"/>
                      <a:pt x="2878" y="127"/>
                      <a:pt x="2882" y="153"/>
                    </a:cubicBezTo>
                    <a:cubicBezTo>
                      <a:pt x="2878" y="134"/>
                      <a:pt x="2871" y="113"/>
                      <a:pt x="2862" y="95"/>
                    </a:cubicBezTo>
                    <a:cubicBezTo>
                      <a:pt x="2869" y="115"/>
                      <a:pt x="2868" y="136"/>
                      <a:pt x="2877" y="155"/>
                    </a:cubicBezTo>
                    <a:cubicBezTo>
                      <a:pt x="2864" y="144"/>
                      <a:pt x="2857" y="117"/>
                      <a:pt x="2853" y="102"/>
                    </a:cubicBezTo>
                    <a:cubicBezTo>
                      <a:pt x="2853" y="120"/>
                      <a:pt x="2858" y="143"/>
                      <a:pt x="2869" y="158"/>
                    </a:cubicBezTo>
                    <a:cubicBezTo>
                      <a:pt x="2855" y="144"/>
                      <a:pt x="2850" y="103"/>
                      <a:pt x="2845" y="85"/>
                    </a:cubicBezTo>
                    <a:cubicBezTo>
                      <a:pt x="2844" y="88"/>
                      <a:pt x="2844" y="91"/>
                      <a:pt x="2844" y="94"/>
                    </a:cubicBezTo>
                    <a:cubicBezTo>
                      <a:pt x="2844" y="113"/>
                      <a:pt x="2849" y="142"/>
                      <a:pt x="2861" y="159"/>
                    </a:cubicBezTo>
                    <a:cubicBezTo>
                      <a:pt x="2847" y="143"/>
                      <a:pt x="2842" y="123"/>
                      <a:pt x="2836" y="104"/>
                    </a:cubicBezTo>
                    <a:cubicBezTo>
                      <a:pt x="2840" y="122"/>
                      <a:pt x="2840" y="140"/>
                      <a:pt x="2849" y="158"/>
                    </a:cubicBezTo>
                    <a:cubicBezTo>
                      <a:pt x="2839" y="147"/>
                      <a:pt x="2834" y="132"/>
                      <a:pt x="2830" y="117"/>
                    </a:cubicBezTo>
                    <a:cubicBezTo>
                      <a:pt x="2832" y="105"/>
                      <a:pt x="2833" y="93"/>
                      <a:pt x="2834" y="84"/>
                    </a:cubicBezTo>
                    <a:cubicBezTo>
                      <a:pt x="2832" y="92"/>
                      <a:pt x="2830" y="101"/>
                      <a:pt x="2828" y="109"/>
                    </a:cubicBezTo>
                    <a:cubicBezTo>
                      <a:pt x="2827" y="102"/>
                      <a:pt x="2825" y="95"/>
                      <a:pt x="2823" y="89"/>
                    </a:cubicBezTo>
                    <a:cubicBezTo>
                      <a:pt x="2826" y="64"/>
                      <a:pt x="2830" y="40"/>
                      <a:pt x="2830" y="40"/>
                    </a:cubicBezTo>
                    <a:cubicBezTo>
                      <a:pt x="2825" y="51"/>
                      <a:pt x="2820" y="77"/>
                      <a:pt x="2817" y="100"/>
                    </a:cubicBezTo>
                    <a:cubicBezTo>
                      <a:pt x="2815" y="95"/>
                      <a:pt x="2812" y="90"/>
                      <a:pt x="2811" y="86"/>
                    </a:cubicBezTo>
                    <a:cubicBezTo>
                      <a:pt x="2810" y="70"/>
                      <a:pt x="2808" y="58"/>
                      <a:pt x="2808" y="60"/>
                    </a:cubicBezTo>
                    <a:cubicBezTo>
                      <a:pt x="2808" y="61"/>
                      <a:pt x="2808" y="69"/>
                      <a:pt x="2807" y="80"/>
                    </a:cubicBezTo>
                    <a:cubicBezTo>
                      <a:pt x="2806" y="79"/>
                      <a:pt x="2806" y="78"/>
                      <a:pt x="2805" y="78"/>
                    </a:cubicBezTo>
                    <a:cubicBezTo>
                      <a:pt x="2806" y="79"/>
                      <a:pt x="2806" y="80"/>
                      <a:pt x="2807" y="81"/>
                    </a:cubicBezTo>
                    <a:cubicBezTo>
                      <a:pt x="2806" y="87"/>
                      <a:pt x="2806" y="95"/>
                      <a:pt x="2805" y="102"/>
                    </a:cubicBezTo>
                    <a:cubicBezTo>
                      <a:pt x="2805" y="102"/>
                      <a:pt x="2805" y="102"/>
                      <a:pt x="2805" y="102"/>
                    </a:cubicBezTo>
                    <a:cubicBezTo>
                      <a:pt x="2805" y="103"/>
                      <a:pt x="2805" y="103"/>
                      <a:pt x="2805" y="103"/>
                    </a:cubicBezTo>
                    <a:cubicBezTo>
                      <a:pt x="2804" y="113"/>
                      <a:pt x="2804" y="123"/>
                      <a:pt x="2803" y="130"/>
                    </a:cubicBezTo>
                    <a:cubicBezTo>
                      <a:pt x="2803" y="130"/>
                      <a:pt x="2802" y="129"/>
                      <a:pt x="2802" y="128"/>
                    </a:cubicBezTo>
                    <a:cubicBezTo>
                      <a:pt x="2802" y="107"/>
                      <a:pt x="2798" y="69"/>
                      <a:pt x="2795" y="47"/>
                    </a:cubicBezTo>
                    <a:cubicBezTo>
                      <a:pt x="2796" y="64"/>
                      <a:pt x="2795" y="87"/>
                      <a:pt x="2794" y="107"/>
                    </a:cubicBezTo>
                    <a:cubicBezTo>
                      <a:pt x="2793" y="105"/>
                      <a:pt x="2792" y="104"/>
                      <a:pt x="2791" y="102"/>
                    </a:cubicBezTo>
                    <a:cubicBezTo>
                      <a:pt x="2792" y="104"/>
                      <a:pt x="2793" y="106"/>
                      <a:pt x="2793" y="107"/>
                    </a:cubicBezTo>
                    <a:cubicBezTo>
                      <a:pt x="2793" y="114"/>
                      <a:pt x="2793" y="121"/>
                      <a:pt x="2792" y="126"/>
                    </a:cubicBezTo>
                    <a:cubicBezTo>
                      <a:pt x="2792" y="125"/>
                      <a:pt x="2791" y="123"/>
                      <a:pt x="2791" y="122"/>
                    </a:cubicBezTo>
                    <a:cubicBezTo>
                      <a:pt x="2790" y="93"/>
                      <a:pt x="2786" y="46"/>
                      <a:pt x="2786" y="46"/>
                    </a:cubicBezTo>
                    <a:cubicBezTo>
                      <a:pt x="2785" y="65"/>
                      <a:pt x="2779" y="142"/>
                      <a:pt x="2779" y="142"/>
                    </a:cubicBezTo>
                    <a:cubicBezTo>
                      <a:pt x="2773" y="106"/>
                      <a:pt x="2780" y="0"/>
                      <a:pt x="2780" y="0"/>
                    </a:cubicBezTo>
                    <a:cubicBezTo>
                      <a:pt x="2774" y="16"/>
                      <a:pt x="2768" y="131"/>
                      <a:pt x="2768" y="131"/>
                    </a:cubicBezTo>
                    <a:cubicBezTo>
                      <a:pt x="2766" y="36"/>
                      <a:pt x="2762" y="32"/>
                      <a:pt x="2762" y="32"/>
                    </a:cubicBezTo>
                    <a:cubicBezTo>
                      <a:pt x="2764" y="43"/>
                      <a:pt x="2761" y="76"/>
                      <a:pt x="2758" y="103"/>
                    </a:cubicBezTo>
                    <a:cubicBezTo>
                      <a:pt x="2757" y="102"/>
                      <a:pt x="2756" y="100"/>
                      <a:pt x="2755" y="99"/>
                    </a:cubicBezTo>
                    <a:cubicBezTo>
                      <a:pt x="2756" y="101"/>
                      <a:pt x="2757" y="103"/>
                      <a:pt x="2758" y="104"/>
                    </a:cubicBezTo>
                    <a:cubicBezTo>
                      <a:pt x="2757" y="112"/>
                      <a:pt x="2756" y="120"/>
                      <a:pt x="2755" y="126"/>
                    </a:cubicBezTo>
                    <a:cubicBezTo>
                      <a:pt x="2755" y="124"/>
                      <a:pt x="2755" y="123"/>
                      <a:pt x="2755" y="122"/>
                    </a:cubicBezTo>
                    <a:cubicBezTo>
                      <a:pt x="2755" y="94"/>
                      <a:pt x="2754" y="48"/>
                      <a:pt x="2754" y="48"/>
                    </a:cubicBezTo>
                    <a:cubicBezTo>
                      <a:pt x="2753" y="55"/>
                      <a:pt x="2750" y="82"/>
                      <a:pt x="2747" y="106"/>
                    </a:cubicBezTo>
                    <a:cubicBezTo>
                      <a:pt x="2746" y="104"/>
                      <a:pt x="2745" y="102"/>
                      <a:pt x="2745" y="100"/>
                    </a:cubicBezTo>
                    <a:cubicBezTo>
                      <a:pt x="2748" y="60"/>
                      <a:pt x="2752" y="9"/>
                      <a:pt x="2752" y="9"/>
                    </a:cubicBezTo>
                    <a:cubicBezTo>
                      <a:pt x="2747" y="23"/>
                      <a:pt x="2740" y="83"/>
                      <a:pt x="2737" y="117"/>
                    </a:cubicBezTo>
                    <a:cubicBezTo>
                      <a:pt x="2736" y="114"/>
                      <a:pt x="2735" y="111"/>
                      <a:pt x="2734" y="108"/>
                    </a:cubicBezTo>
                    <a:cubicBezTo>
                      <a:pt x="2734" y="90"/>
                      <a:pt x="2732" y="72"/>
                      <a:pt x="2732" y="72"/>
                    </a:cubicBezTo>
                    <a:cubicBezTo>
                      <a:pt x="2732" y="76"/>
                      <a:pt x="2732" y="84"/>
                      <a:pt x="2731" y="94"/>
                    </a:cubicBezTo>
                    <a:cubicBezTo>
                      <a:pt x="2730" y="91"/>
                      <a:pt x="2728" y="88"/>
                      <a:pt x="2727" y="84"/>
                    </a:cubicBezTo>
                    <a:cubicBezTo>
                      <a:pt x="2728" y="88"/>
                      <a:pt x="2730" y="92"/>
                      <a:pt x="2730" y="96"/>
                    </a:cubicBezTo>
                    <a:cubicBezTo>
                      <a:pt x="2730" y="99"/>
                      <a:pt x="2730" y="103"/>
                      <a:pt x="2729" y="107"/>
                    </a:cubicBezTo>
                    <a:cubicBezTo>
                      <a:pt x="2729" y="106"/>
                      <a:pt x="2729" y="106"/>
                      <a:pt x="2729" y="105"/>
                    </a:cubicBezTo>
                    <a:cubicBezTo>
                      <a:pt x="2728" y="107"/>
                      <a:pt x="2728" y="112"/>
                      <a:pt x="2728" y="116"/>
                    </a:cubicBezTo>
                    <a:cubicBezTo>
                      <a:pt x="2727" y="121"/>
                      <a:pt x="2727" y="126"/>
                      <a:pt x="2726" y="130"/>
                    </a:cubicBezTo>
                    <a:cubicBezTo>
                      <a:pt x="2726" y="129"/>
                      <a:pt x="2726" y="128"/>
                      <a:pt x="2726" y="127"/>
                    </a:cubicBezTo>
                    <a:cubicBezTo>
                      <a:pt x="2726" y="101"/>
                      <a:pt x="2721" y="63"/>
                      <a:pt x="2720" y="54"/>
                    </a:cubicBezTo>
                    <a:cubicBezTo>
                      <a:pt x="2720" y="61"/>
                      <a:pt x="2719" y="79"/>
                      <a:pt x="2718" y="96"/>
                    </a:cubicBezTo>
                    <a:cubicBezTo>
                      <a:pt x="2717" y="94"/>
                      <a:pt x="2716" y="92"/>
                      <a:pt x="2715" y="90"/>
                    </a:cubicBezTo>
                    <a:cubicBezTo>
                      <a:pt x="2716" y="93"/>
                      <a:pt x="2717" y="95"/>
                      <a:pt x="2718" y="97"/>
                    </a:cubicBezTo>
                    <a:cubicBezTo>
                      <a:pt x="2716" y="118"/>
                      <a:pt x="2714" y="137"/>
                      <a:pt x="2714" y="137"/>
                    </a:cubicBezTo>
                    <a:cubicBezTo>
                      <a:pt x="2713" y="136"/>
                      <a:pt x="2713" y="134"/>
                      <a:pt x="2713" y="133"/>
                    </a:cubicBezTo>
                    <a:cubicBezTo>
                      <a:pt x="2713" y="125"/>
                      <a:pt x="2713" y="118"/>
                      <a:pt x="2712" y="110"/>
                    </a:cubicBezTo>
                    <a:cubicBezTo>
                      <a:pt x="2711" y="76"/>
                      <a:pt x="2710" y="40"/>
                      <a:pt x="2710" y="40"/>
                    </a:cubicBezTo>
                    <a:cubicBezTo>
                      <a:pt x="2710" y="49"/>
                      <a:pt x="2705" y="79"/>
                      <a:pt x="2701" y="104"/>
                    </a:cubicBezTo>
                    <a:cubicBezTo>
                      <a:pt x="2701" y="99"/>
                      <a:pt x="2700" y="95"/>
                      <a:pt x="2699" y="90"/>
                    </a:cubicBezTo>
                    <a:cubicBezTo>
                      <a:pt x="2700" y="67"/>
                      <a:pt x="2701" y="45"/>
                      <a:pt x="2701" y="45"/>
                    </a:cubicBezTo>
                    <a:cubicBezTo>
                      <a:pt x="2701" y="53"/>
                      <a:pt x="2695" y="75"/>
                      <a:pt x="2688" y="96"/>
                    </a:cubicBezTo>
                    <a:cubicBezTo>
                      <a:pt x="2687" y="93"/>
                      <a:pt x="2686" y="89"/>
                      <a:pt x="2684" y="85"/>
                    </a:cubicBezTo>
                    <a:cubicBezTo>
                      <a:pt x="2691" y="51"/>
                      <a:pt x="2699" y="17"/>
                      <a:pt x="2699" y="17"/>
                    </a:cubicBezTo>
                    <a:cubicBezTo>
                      <a:pt x="2694" y="24"/>
                      <a:pt x="2679" y="95"/>
                      <a:pt x="2672" y="130"/>
                    </a:cubicBezTo>
                    <a:cubicBezTo>
                      <a:pt x="2672" y="130"/>
                      <a:pt x="2672" y="130"/>
                      <a:pt x="2672" y="130"/>
                    </a:cubicBezTo>
                    <a:cubicBezTo>
                      <a:pt x="2676" y="100"/>
                      <a:pt x="2673" y="63"/>
                      <a:pt x="2672" y="52"/>
                    </a:cubicBezTo>
                    <a:cubicBezTo>
                      <a:pt x="2674" y="72"/>
                      <a:pt x="2668" y="109"/>
                      <a:pt x="2664" y="128"/>
                    </a:cubicBezTo>
                    <a:cubicBezTo>
                      <a:pt x="2664" y="126"/>
                      <a:pt x="2664" y="123"/>
                      <a:pt x="2663" y="120"/>
                    </a:cubicBezTo>
                    <a:cubicBezTo>
                      <a:pt x="2665" y="99"/>
                      <a:pt x="2667" y="71"/>
                      <a:pt x="2668" y="65"/>
                    </a:cubicBezTo>
                    <a:cubicBezTo>
                      <a:pt x="2667" y="71"/>
                      <a:pt x="2664" y="89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56" y="125"/>
                      <a:pt x="2653" y="143"/>
                      <a:pt x="2653" y="143"/>
                    </a:cubicBezTo>
                    <a:cubicBezTo>
                      <a:pt x="2663" y="38"/>
                      <a:pt x="2656" y="25"/>
                      <a:pt x="2656" y="25"/>
                    </a:cubicBezTo>
                    <a:cubicBezTo>
                      <a:pt x="2659" y="42"/>
                      <a:pt x="2656" y="72"/>
                      <a:pt x="2651" y="96"/>
                    </a:cubicBezTo>
                    <a:cubicBezTo>
                      <a:pt x="2650" y="89"/>
                      <a:pt x="2648" y="80"/>
                      <a:pt x="2645" y="73"/>
                    </a:cubicBezTo>
                    <a:cubicBezTo>
                      <a:pt x="2644" y="65"/>
                      <a:pt x="2644" y="60"/>
                      <a:pt x="2644" y="60"/>
                    </a:cubicBezTo>
                    <a:cubicBezTo>
                      <a:pt x="2644" y="63"/>
                      <a:pt x="2644" y="67"/>
                      <a:pt x="2643" y="71"/>
                    </a:cubicBezTo>
                    <a:cubicBezTo>
                      <a:pt x="2642" y="69"/>
                      <a:pt x="2641" y="67"/>
                      <a:pt x="2639" y="65"/>
                    </a:cubicBezTo>
                    <a:cubicBezTo>
                      <a:pt x="2641" y="67"/>
                      <a:pt x="2642" y="70"/>
                      <a:pt x="2643" y="73"/>
                    </a:cubicBezTo>
                    <a:cubicBezTo>
                      <a:pt x="2643" y="82"/>
                      <a:pt x="2642" y="92"/>
                      <a:pt x="2640" y="101"/>
                    </a:cubicBezTo>
                    <a:cubicBezTo>
                      <a:pt x="2640" y="95"/>
                      <a:pt x="2637" y="88"/>
                      <a:pt x="2632" y="83"/>
                    </a:cubicBezTo>
                    <a:cubicBezTo>
                      <a:pt x="2632" y="74"/>
                      <a:pt x="2633" y="68"/>
                      <a:pt x="2633" y="68"/>
                    </a:cubicBezTo>
                    <a:cubicBezTo>
                      <a:pt x="2632" y="72"/>
                      <a:pt x="2631" y="76"/>
                      <a:pt x="2630" y="81"/>
                    </a:cubicBezTo>
                    <a:cubicBezTo>
                      <a:pt x="2630" y="81"/>
                      <a:pt x="2629" y="81"/>
                      <a:pt x="2629" y="80"/>
                    </a:cubicBezTo>
                    <a:cubicBezTo>
                      <a:pt x="2629" y="81"/>
                      <a:pt x="2630" y="81"/>
                      <a:pt x="2630" y="82"/>
                    </a:cubicBezTo>
                    <a:cubicBezTo>
                      <a:pt x="2627" y="101"/>
                      <a:pt x="2626" y="130"/>
                      <a:pt x="2626" y="142"/>
                    </a:cubicBezTo>
                    <a:cubicBezTo>
                      <a:pt x="2626" y="143"/>
                      <a:pt x="2625" y="144"/>
                      <a:pt x="2625" y="144"/>
                    </a:cubicBezTo>
                    <a:cubicBezTo>
                      <a:pt x="2624" y="141"/>
                      <a:pt x="2624" y="136"/>
                      <a:pt x="2624" y="131"/>
                    </a:cubicBezTo>
                    <a:cubicBezTo>
                      <a:pt x="2625" y="121"/>
                      <a:pt x="2627" y="112"/>
                      <a:pt x="2628" y="103"/>
                    </a:cubicBezTo>
                    <a:cubicBezTo>
                      <a:pt x="2627" y="108"/>
                      <a:pt x="2626" y="112"/>
                      <a:pt x="2625" y="117"/>
                    </a:cubicBezTo>
                    <a:cubicBezTo>
                      <a:pt x="2626" y="85"/>
                      <a:pt x="2632" y="45"/>
                      <a:pt x="2632" y="45"/>
                    </a:cubicBezTo>
                    <a:cubicBezTo>
                      <a:pt x="2625" y="60"/>
                      <a:pt x="2620" y="95"/>
                      <a:pt x="2618" y="120"/>
                    </a:cubicBezTo>
                    <a:cubicBezTo>
                      <a:pt x="2618" y="123"/>
                      <a:pt x="2617" y="125"/>
                      <a:pt x="2616" y="127"/>
                    </a:cubicBezTo>
                    <a:cubicBezTo>
                      <a:pt x="2616" y="103"/>
                      <a:pt x="2615" y="70"/>
                      <a:pt x="2615" y="70"/>
                    </a:cubicBezTo>
                    <a:cubicBezTo>
                      <a:pt x="2615" y="72"/>
                      <a:pt x="2615" y="76"/>
                      <a:pt x="2614" y="81"/>
                    </a:cubicBezTo>
                    <a:cubicBezTo>
                      <a:pt x="2613" y="73"/>
                      <a:pt x="2611" y="66"/>
                      <a:pt x="2608" y="60"/>
                    </a:cubicBezTo>
                    <a:cubicBezTo>
                      <a:pt x="2609" y="52"/>
                      <a:pt x="2609" y="46"/>
                      <a:pt x="2609" y="46"/>
                    </a:cubicBezTo>
                    <a:cubicBezTo>
                      <a:pt x="2607" y="51"/>
                      <a:pt x="2605" y="64"/>
                      <a:pt x="2604" y="79"/>
                    </a:cubicBezTo>
                    <a:cubicBezTo>
                      <a:pt x="2603" y="77"/>
                      <a:pt x="2603" y="75"/>
                      <a:pt x="2602" y="74"/>
                    </a:cubicBezTo>
                    <a:cubicBezTo>
                      <a:pt x="2601" y="83"/>
                      <a:pt x="2601" y="92"/>
                      <a:pt x="2601" y="102"/>
                    </a:cubicBezTo>
                    <a:cubicBezTo>
                      <a:pt x="2601" y="108"/>
                      <a:pt x="2600" y="115"/>
                      <a:pt x="2599" y="121"/>
                    </a:cubicBezTo>
                    <a:cubicBezTo>
                      <a:pt x="2599" y="123"/>
                      <a:pt x="2599" y="125"/>
                      <a:pt x="2598" y="127"/>
                    </a:cubicBezTo>
                    <a:cubicBezTo>
                      <a:pt x="2598" y="35"/>
                      <a:pt x="2596" y="34"/>
                      <a:pt x="2596" y="34"/>
                    </a:cubicBezTo>
                    <a:cubicBezTo>
                      <a:pt x="2598" y="49"/>
                      <a:pt x="2594" y="77"/>
                      <a:pt x="2590" y="102"/>
                    </a:cubicBezTo>
                    <a:cubicBezTo>
                      <a:pt x="2589" y="94"/>
                      <a:pt x="2587" y="85"/>
                      <a:pt x="2583" y="76"/>
                    </a:cubicBezTo>
                    <a:cubicBezTo>
                      <a:pt x="2584" y="70"/>
                      <a:pt x="2584" y="66"/>
                      <a:pt x="2584" y="66"/>
                    </a:cubicBezTo>
                    <a:cubicBezTo>
                      <a:pt x="2584" y="68"/>
                      <a:pt x="2583" y="71"/>
                      <a:pt x="2582" y="74"/>
                    </a:cubicBezTo>
                    <a:cubicBezTo>
                      <a:pt x="2582" y="73"/>
                      <a:pt x="2581" y="72"/>
                      <a:pt x="2580" y="71"/>
                    </a:cubicBezTo>
                    <a:cubicBezTo>
                      <a:pt x="2581" y="73"/>
                      <a:pt x="2581" y="74"/>
                      <a:pt x="2582" y="76"/>
                    </a:cubicBezTo>
                    <a:cubicBezTo>
                      <a:pt x="2580" y="83"/>
                      <a:pt x="2578" y="93"/>
                      <a:pt x="2577" y="103"/>
                    </a:cubicBezTo>
                    <a:cubicBezTo>
                      <a:pt x="2576" y="98"/>
                      <a:pt x="2575" y="94"/>
                      <a:pt x="2574" y="89"/>
                    </a:cubicBezTo>
                    <a:cubicBezTo>
                      <a:pt x="2575" y="96"/>
                      <a:pt x="2573" y="104"/>
                      <a:pt x="2571" y="112"/>
                    </a:cubicBezTo>
                    <a:cubicBezTo>
                      <a:pt x="2571" y="92"/>
                      <a:pt x="2570" y="70"/>
                      <a:pt x="2569" y="62"/>
                    </a:cubicBezTo>
                    <a:cubicBezTo>
                      <a:pt x="2569" y="67"/>
                      <a:pt x="2569" y="74"/>
                      <a:pt x="2569" y="82"/>
                    </a:cubicBezTo>
                    <a:cubicBezTo>
                      <a:pt x="2567" y="87"/>
                      <a:pt x="2564" y="94"/>
                      <a:pt x="2562" y="101"/>
                    </a:cubicBezTo>
                    <a:cubicBezTo>
                      <a:pt x="2562" y="91"/>
                      <a:pt x="2562" y="82"/>
                      <a:pt x="2562" y="75"/>
                    </a:cubicBezTo>
                    <a:cubicBezTo>
                      <a:pt x="2561" y="86"/>
                      <a:pt x="2559" y="102"/>
                      <a:pt x="2557" y="116"/>
                    </a:cubicBezTo>
                    <a:cubicBezTo>
                      <a:pt x="2555" y="123"/>
                      <a:pt x="2553" y="130"/>
                      <a:pt x="2551" y="136"/>
                    </a:cubicBezTo>
                    <a:cubicBezTo>
                      <a:pt x="2551" y="118"/>
                      <a:pt x="2554" y="89"/>
                      <a:pt x="2554" y="89"/>
                    </a:cubicBezTo>
                    <a:cubicBezTo>
                      <a:pt x="2553" y="93"/>
                      <a:pt x="2552" y="99"/>
                      <a:pt x="2549" y="106"/>
                    </a:cubicBezTo>
                    <a:cubicBezTo>
                      <a:pt x="2549" y="104"/>
                      <a:pt x="2549" y="101"/>
                      <a:pt x="2548" y="99"/>
                    </a:cubicBezTo>
                    <a:cubicBezTo>
                      <a:pt x="2548" y="96"/>
                      <a:pt x="2548" y="96"/>
                      <a:pt x="2548" y="96"/>
                    </a:cubicBezTo>
                    <a:cubicBezTo>
                      <a:pt x="2547" y="95"/>
                      <a:pt x="2547" y="95"/>
                      <a:pt x="2547" y="95"/>
                    </a:cubicBezTo>
                    <a:cubicBezTo>
                      <a:pt x="2547" y="104"/>
                      <a:pt x="2545" y="113"/>
                      <a:pt x="2543" y="122"/>
                    </a:cubicBezTo>
                    <a:cubicBezTo>
                      <a:pt x="2541" y="127"/>
                      <a:pt x="2540" y="131"/>
                      <a:pt x="2538" y="134"/>
                    </a:cubicBezTo>
                    <a:cubicBezTo>
                      <a:pt x="2538" y="130"/>
                      <a:pt x="2538" y="126"/>
                      <a:pt x="2538" y="122"/>
                    </a:cubicBezTo>
                    <a:cubicBezTo>
                      <a:pt x="2542" y="102"/>
                      <a:pt x="2549" y="76"/>
                      <a:pt x="2549" y="76"/>
                    </a:cubicBezTo>
                    <a:cubicBezTo>
                      <a:pt x="2544" y="82"/>
                      <a:pt x="2539" y="94"/>
                      <a:pt x="2535" y="105"/>
                    </a:cubicBezTo>
                    <a:cubicBezTo>
                      <a:pt x="2535" y="102"/>
                      <a:pt x="2534" y="98"/>
                      <a:pt x="2532" y="95"/>
                    </a:cubicBezTo>
                    <a:cubicBezTo>
                      <a:pt x="2533" y="74"/>
                      <a:pt x="2529" y="62"/>
                      <a:pt x="2529" y="62"/>
                    </a:cubicBezTo>
                    <a:cubicBezTo>
                      <a:pt x="2531" y="69"/>
                      <a:pt x="2531" y="78"/>
                      <a:pt x="2530" y="88"/>
                    </a:cubicBezTo>
                    <a:cubicBezTo>
                      <a:pt x="2527" y="83"/>
                      <a:pt x="2524" y="78"/>
                      <a:pt x="2520" y="73"/>
                    </a:cubicBezTo>
                    <a:cubicBezTo>
                      <a:pt x="2524" y="80"/>
                      <a:pt x="2527" y="92"/>
                      <a:pt x="2528" y="102"/>
                    </a:cubicBezTo>
                    <a:cubicBezTo>
                      <a:pt x="2527" y="108"/>
                      <a:pt x="2526" y="115"/>
                      <a:pt x="2525" y="120"/>
                    </a:cubicBezTo>
                    <a:cubicBezTo>
                      <a:pt x="2524" y="113"/>
                      <a:pt x="2523" y="106"/>
                      <a:pt x="2521" y="100"/>
                    </a:cubicBezTo>
                    <a:cubicBezTo>
                      <a:pt x="2522" y="89"/>
                      <a:pt x="2522" y="82"/>
                      <a:pt x="2522" y="82"/>
                    </a:cubicBezTo>
                    <a:cubicBezTo>
                      <a:pt x="2521" y="98"/>
                      <a:pt x="2521" y="98"/>
                      <a:pt x="2521" y="98"/>
                    </a:cubicBezTo>
                    <a:cubicBezTo>
                      <a:pt x="2520" y="94"/>
                      <a:pt x="2519" y="91"/>
                      <a:pt x="2517" y="88"/>
                    </a:cubicBezTo>
                    <a:cubicBezTo>
                      <a:pt x="2517" y="73"/>
                      <a:pt x="2516" y="60"/>
                      <a:pt x="2516" y="60"/>
                    </a:cubicBezTo>
                    <a:cubicBezTo>
                      <a:pt x="2516" y="72"/>
                      <a:pt x="2513" y="90"/>
                      <a:pt x="2513" y="90"/>
                    </a:cubicBezTo>
                    <a:cubicBezTo>
                      <a:pt x="2511" y="84"/>
                      <a:pt x="2511" y="64"/>
                      <a:pt x="2511" y="64"/>
                    </a:cubicBezTo>
                    <a:cubicBezTo>
                      <a:pt x="2511" y="68"/>
                      <a:pt x="2510" y="83"/>
                      <a:pt x="2508" y="98"/>
                    </a:cubicBezTo>
                    <a:cubicBezTo>
                      <a:pt x="2508" y="96"/>
                      <a:pt x="2507" y="95"/>
                      <a:pt x="2507" y="93"/>
                    </a:cubicBezTo>
                    <a:cubicBezTo>
                      <a:pt x="2506" y="88"/>
                      <a:pt x="2504" y="82"/>
                      <a:pt x="2502" y="76"/>
                    </a:cubicBezTo>
                    <a:cubicBezTo>
                      <a:pt x="2502" y="57"/>
                      <a:pt x="2502" y="42"/>
                      <a:pt x="2502" y="42"/>
                    </a:cubicBezTo>
                    <a:cubicBezTo>
                      <a:pt x="2502" y="49"/>
                      <a:pt x="2502" y="59"/>
                      <a:pt x="2501" y="70"/>
                    </a:cubicBezTo>
                    <a:cubicBezTo>
                      <a:pt x="2498" y="64"/>
                      <a:pt x="2496" y="57"/>
                      <a:pt x="2493" y="51"/>
                    </a:cubicBezTo>
                    <a:cubicBezTo>
                      <a:pt x="2492" y="52"/>
                      <a:pt x="2492" y="54"/>
                      <a:pt x="2492" y="55"/>
                    </a:cubicBezTo>
                    <a:cubicBezTo>
                      <a:pt x="2496" y="65"/>
                      <a:pt x="2498" y="74"/>
                      <a:pt x="2499" y="82"/>
                    </a:cubicBezTo>
                    <a:cubicBezTo>
                      <a:pt x="2499" y="88"/>
                      <a:pt x="2498" y="94"/>
                      <a:pt x="2497" y="100"/>
                    </a:cubicBezTo>
                    <a:cubicBezTo>
                      <a:pt x="2496" y="96"/>
                      <a:pt x="2495" y="92"/>
                      <a:pt x="2494" y="88"/>
                    </a:cubicBezTo>
                    <a:cubicBezTo>
                      <a:pt x="2495" y="78"/>
                      <a:pt x="2496" y="70"/>
                      <a:pt x="2496" y="70"/>
                    </a:cubicBezTo>
                    <a:cubicBezTo>
                      <a:pt x="2495" y="72"/>
                      <a:pt x="2494" y="78"/>
                      <a:pt x="2493" y="85"/>
                    </a:cubicBezTo>
                    <a:cubicBezTo>
                      <a:pt x="2491" y="82"/>
                      <a:pt x="2489" y="79"/>
                      <a:pt x="2487" y="76"/>
                    </a:cubicBezTo>
                    <a:cubicBezTo>
                      <a:pt x="2486" y="71"/>
                      <a:pt x="2486" y="66"/>
                      <a:pt x="2486" y="61"/>
                    </a:cubicBezTo>
                    <a:cubicBezTo>
                      <a:pt x="2485" y="73"/>
                      <a:pt x="2483" y="87"/>
                      <a:pt x="2481" y="101"/>
                    </a:cubicBezTo>
                    <a:cubicBezTo>
                      <a:pt x="2479" y="95"/>
                      <a:pt x="2477" y="90"/>
                      <a:pt x="2475" y="86"/>
                    </a:cubicBezTo>
                    <a:cubicBezTo>
                      <a:pt x="2476" y="73"/>
                      <a:pt x="2476" y="64"/>
                      <a:pt x="2476" y="64"/>
                    </a:cubicBezTo>
                    <a:cubicBezTo>
                      <a:pt x="2476" y="71"/>
                      <a:pt x="2474" y="82"/>
                      <a:pt x="2472" y="95"/>
                    </a:cubicBezTo>
                    <a:cubicBezTo>
                      <a:pt x="2470" y="87"/>
                      <a:pt x="2468" y="79"/>
                      <a:pt x="2464" y="71"/>
                    </a:cubicBezTo>
                    <a:cubicBezTo>
                      <a:pt x="2466" y="49"/>
                      <a:pt x="2467" y="30"/>
                      <a:pt x="2467" y="30"/>
                    </a:cubicBezTo>
                    <a:cubicBezTo>
                      <a:pt x="2465" y="35"/>
                      <a:pt x="2463" y="49"/>
                      <a:pt x="2461" y="65"/>
                    </a:cubicBezTo>
                    <a:cubicBezTo>
                      <a:pt x="2460" y="62"/>
                      <a:pt x="2458" y="59"/>
                      <a:pt x="2456" y="56"/>
                    </a:cubicBezTo>
                    <a:cubicBezTo>
                      <a:pt x="2456" y="63"/>
                      <a:pt x="2458" y="70"/>
                      <a:pt x="2460" y="78"/>
                    </a:cubicBezTo>
                    <a:cubicBezTo>
                      <a:pt x="2459" y="87"/>
                      <a:pt x="2458" y="97"/>
                      <a:pt x="2457" y="106"/>
                    </a:cubicBezTo>
                    <a:cubicBezTo>
                      <a:pt x="2457" y="105"/>
                      <a:pt x="2457" y="104"/>
                      <a:pt x="2456" y="103"/>
                    </a:cubicBezTo>
                    <a:cubicBezTo>
                      <a:pt x="2457" y="104"/>
                      <a:pt x="2457" y="106"/>
                      <a:pt x="2457" y="109"/>
                    </a:cubicBezTo>
                    <a:cubicBezTo>
                      <a:pt x="2456" y="120"/>
                      <a:pt x="2455" y="131"/>
                      <a:pt x="2455" y="138"/>
                    </a:cubicBezTo>
                    <a:cubicBezTo>
                      <a:pt x="2455" y="137"/>
                      <a:pt x="2454" y="135"/>
                      <a:pt x="2454" y="134"/>
                    </a:cubicBezTo>
                    <a:cubicBezTo>
                      <a:pt x="2453" y="99"/>
                      <a:pt x="2448" y="41"/>
                      <a:pt x="2448" y="41"/>
                    </a:cubicBezTo>
                    <a:cubicBezTo>
                      <a:pt x="2449" y="58"/>
                      <a:pt x="2448" y="86"/>
                      <a:pt x="2446" y="108"/>
                    </a:cubicBezTo>
                    <a:cubicBezTo>
                      <a:pt x="2444" y="105"/>
                      <a:pt x="2443" y="102"/>
                      <a:pt x="2441" y="99"/>
                    </a:cubicBezTo>
                    <a:cubicBezTo>
                      <a:pt x="2441" y="86"/>
                      <a:pt x="2441" y="73"/>
                      <a:pt x="2441" y="67"/>
                    </a:cubicBezTo>
                    <a:cubicBezTo>
                      <a:pt x="2441" y="75"/>
                      <a:pt x="2440" y="85"/>
                      <a:pt x="2439" y="94"/>
                    </a:cubicBezTo>
                    <a:cubicBezTo>
                      <a:pt x="2438" y="92"/>
                      <a:pt x="2437" y="91"/>
                      <a:pt x="2436" y="89"/>
                    </a:cubicBezTo>
                    <a:cubicBezTo>
                      <a:pt x="2437" y="91"/>
                      <a:pt x="2438" y="94"/>
                      <a:pt x="2438" y="97"/>
                    </a:cubicBezTo>
                    <a:cubicBezTo>
                      <a:pt x="2437" y="104"/>
                      <a:pt x="2436" y="110"/>
                      <a:pt x="2434" y="116"/>
                    </a:cubicBezTo>
                    <a:cubicBezTo>
                      <a:pt x="2433" y="110"/>
                      <a:pt x="2432" y="105"/>
                      <a:pt x="2430" y="101"/>
                    </a:cubicBezTo>
                    <a:cubicBezTo>
                      <a:pt x="2431" y="91"/>
                      <a:pt x="2432" y="83"/>
                      <a:pt x="2432" y="83"/>
                    </a:cubicBezTo>
                    <a:cubicBezTo>
                      <a:pt x="2432" y="86"/>
                      <a:pt x="2431" y="92"/>
                      <a:pt x="2429" y="98"/>
                    </a:cubicBezTo>
                    <a:cubicBezTo>
                      <a:pt x="2428" y="94"/>
                      <a:pt x="2427" y="91"/>
                      <a:pt x="2426" y="89"/>
                    </a:cubicBezTo>
                    <a:cubicBezTo>
                      <a:pt x="2427" y="74"/>
                      <a:pt x="2428" y="62"/>
                      <a:pt x="2428" y="62"/>
                    </a:cubicBezTo>
                    <a:cubicBezTo>
                      <a:pt x="2427" y="65"/>
                      <a:pt x="2426" y="75"/>
                      <a:pt x="2424" y="87"/>
                    </a:cubicBezTo>
                    <a:cubicBezTo>
                      <a:pt x="2422" y="83"/>
                      <a:pt x="2420" y="81"/>
                      <a:pt x="2417" y="78"/>
                    </a:cubicBezTo>
                    <a:cubicBezTo>
                      <a:pt x="2420" y="81"/>
                      <a:pt x="2422" y="84"/>
                      <a:pt x="2424" y="89"/>
                    </a:cubicBezTo>
                    <a:cubicBezTo>
                      <a:pt x="2423" y="96"/>
                      <a:pt x="2422" y="105"/>
                      <a:pt x="2421" y="113"/>
                    </a:cubicBezTo>
                    <a:cubicBezTo>
                      <a:pt x="2420" y="108"/>
                      <a:pt x="2419" y="104"/>
                      <a:pt x="2417" y="100"/>
                    </a:cubicBezTo>
                    <a:cubicBezTo>
                      <a:pt x="2416" y="86"/>
                      <a:pt x="2414" y="74"/>
                      <a:pt x="2413" y="68"/>
                    </a:cubicBezTo>
                    <a:cubicBezTo>
                      <a:pt x="2413" y="71"/>
                      <a:pt x="2414" y="76"/>
                      <a:pt x="2413" y="86"/>
                    </a:cubicBezTo>
                    <a:cubicBezTo>
                      <a:pt x="2413" y="87"/>
                      <a:pt x="2413" y="88"/>
                      <a:pt x="2413" y="90"/>
                    </a:cubicBezTo>
                    <a:cubicBezTo>
                      <a:pt x="2412" y="87"/>
                      <a:pt x="2410" y="84"/>
                      <a:pt x="2408" y="81"/>
                    </a:cubicBezTo>
                    <a:cubicBezTo>
                      <a:pt x="2411" y="85"/>
                      <a:pt x="2412" y="91"/>
                      <a:pt x="2412" y="96"/>
                    </a:cubicBezTo>
                    <a:cubicBezTo>
                      <a:pt x="2411" y="105"/>
                      <a:pt x="2409" y="115"/>
                      <a:pt x="2407" y="124"/>
                    </a:cubicBezTo>
                    <a:cubicBezTo>
                      <a:pt x="2407" y="113"/>
                      <a:pt x="2406" y="102"/>
                      <a:pt x="2404" y="91"/>
                    </a:cubicBezTo>
                    <a:cubicBezTo>
                      <a:pt x="2404" y="77"/>
                      <a:pt x="2404" y="77"/>
                      <a:pt x="2404" y="77"/>
                    </a:cubicBezTo>
                    <a:cubicBezTo>
                      <a:pt x="2407" y="35"/>
                      <a:pt x="2400" y="19"/>
                      <a:pt x="2400" y="19"/>
                    </a:cubicBezTo>
                    <a:cubicBezTo>
                      <a:pt x="2400" y="19"/>
                      <a:pt x="2403" y="31"/>
                      <a:pt x="2402" y="54"/>
                    </a:cubicBezTo>
                    <a:cubicBezTo>
                      <a:pt x="2401" y="59"/>
                      <a:pt x="2401" y="68"/>
                      <a:pt x="2400" y="78"/>
                    </a:cubicBezTo>
                    <a:cubicBezTo>
                      <a:pt x="2397" y="72"/>
                      <a:pt x="2394" y="66"/>
                      <a:pt x="2390" y="60"/>
                    </a:cubicBezTo>
                    <a:cubicBezTo>
                      <a:pt x="2390" y="61"/>
                      <a:pt x="2390" y="61"/>
                      <a:pt x="2390" y="61"/>
                    </a:cubicBezTo>
                    <a:cubicBezTo>
                      <a:pt x="2390" y="62"/>
                      <a:pt x="2390" y="63"/>
                      <a:pt x="2390" y="64"/>
                    </a:cubicBezTo>
                    <a:cubicBezTo>
                      <a:pt x="2388" y="44"/>
                      <a:pt x="2381" y="40"/>
                      <a:pt x="2381" y="40"/>
                    </a:cubicBezTo>
                    <a:cubicBezTo>
                      <a:pt x="2381" y="40"/>
                      <a:pt x="2387" y="44"/>
                      <a:pt x="2387" y="70"/>
                    </a:cubicBezTo>
                    <a:cubicBezTo>
                      <a:pt x="2387" y="76"/>
                      <a:pt x="2386" y="85"/>
                      <a:pt x="2384" y="94"/>
                    </a:cubicBezTo>
                    <a:cubicBezTo>
                      <a:pt x="2382" y="90"/>
                      <a:pt x="2379" y="86"/>
                      <a:pt x="2376" y="83"/>
                    </a:cubicBezTo>
                    <a:cubicBezTo>
                      <a:pt x="2379" y="87"/>
                      <a:pt x="2382" y="92"/>
                      <a:pt x="2384" y="97"/>
                    </a:cubicBezTo>
                    <a:cubicBezTo>
                      <a:pt x="2383" y="100"/>
                      <a:pt x="2383" y="103"/>
                      <a:pt x="2382" y="106"/>
                    </a:cubicBezTo>
                    <a:cubicBezTo>
                      <a:pt x="2381" y="104"/>
                      <a:pt x="2381" y="102"/>
                      <a:pt x="2380" y="100"/>
                    </a:cubicBezTo>
                    <a:cubicBezTo>
                      <a:pt x="2381" y="102"/>
                      <a:pt x="2381" y="105"/>
                      <a:pt x="2382" y="108"/>
                    </a:cubicBezTo>
                    <a:cubicBezTo>
                      <a:pt x="2381" y="111"/>
                      <a:pt x="2380" y="114"/>
                      <a:pt x="2379" y="117"/>
                    </a:cubicBezTo>
                    <a:cubicBezTo>
                      <a:pt x="2378" y="113"/>
                      <a:pt x="2376" y="108"/>
                      <a:pt x="2374" y="104"/>
                    </a:cubicBezTo>
                    <a:cubicBezTo>
                      <a:pt x="2375" y="87"/>
                      <a:pt x="2376" y="71"/>
                      <a:pt x="2376" y="71"/>
                    </a:cubicBezTo>
                    <a:cubicBezTo>
                      <a:pt x="2375" y="73"/>
                      <a:pt x="2373" y="84"/>
                      <a:pt x="2371" y="97"/>
                    </a:cubicBezTo>
                    <a:cubicBezTo>
                      <a:pt x="2370" y="95"/>
                      <a:pt x="2369" y="93"/>
                      <a:pt x="2368" y="92"/>
                    </a:cubicBezTo>
                    <a:cubicBezTo>
                      <a:pt x="2369" y="81"/>
                      <a:pt x="2370" y="72"/>
                      <a:pt x="2371" y="66"/>
                    </a:cubicBezTo>
                    <a:cubicBezTo>
                      <a:pt x="2370" y="73"/>
                      <a:pt x="2369" y="81"/>
                      <a:pt x="2367" y="90"/>
                    </a:cubicBezTo>
                    <a:cubicBezTo>
                      <a:pt x="2366" y="88"/>
                      <a:pt x="2364" y="86"/>
                      <a:pt x="2362" y="83"/>
                    </a:cubicBezTo>
                    <a:cubicBezTo>
                      <a:pt x="2366" y="26"/>
                      <a:pt x="2364" y="12"/>
                      <a:pt x="2364" y="12"/>
                    </a:cubicBezTo>
                    <a:cubicBezTo>
                      <a:pt x="2364" y="12"/>
                      <a:pt x="2364" y="18"/>
                      <a:pt x="2361" y="56"/>
                    </a:cubicBezTo>
                    <a:cubicBezTo>
                      <a:pt x="2360" y="64"/>
                      <a:pt x="2359" y="71"/>
                      <a:pt x="2358" y="78"/>
                    </a:cubicBezTo>
                    <a:cubicBezTo>
                      <a:pt x="2356" y="76"/>
                      <a:pt x="2353" y="73"/>
                      <a:pt x="2351" y="71"/>
                    </a:cubicBezTo>
                    <a:cubicBezTo>
                      <a:pt x="2352" y="48"/>
                      <a:pt x="2353" y="31"/>
                      <a:pt x="2353" y="31"/>
                    </a:cubicBezTo>
                    <a:cubicBezTo>
                      <a:pt x="2351" y="37"/>
                      <a:pt x="2349" y="52"/>
                      <a:pt x="2348" y="68"/>
                    </a:cubicBezTo>
                    <a:cubicBezTo>
                      <a:pt x="2346" y="66"/>
                      <a:pt x="2344" y="65"/>
                      <a:pt x="2342" y="63"/>
                    </a:cubicBezTo>
                    <a:cubicBezTo>
                      <a:pt x="2344" y="65"/>
                      <a:pt x="2346" y="67"/>
                      <a:pt x="2348" y="69"/>
                    </a:cubicBezTo>
                    <a:cubicBezTo>
                      <a:pt x="2347" y="82"/>
                      <a:pt x="2347" y="96"/>
                      <a:pt x="2346" y="109"/>
                    </a:cubicBezTo>
                    <a:cubicBezTo>
                      <a:pt x="2345" y="104"/>
                      <a:pt x="2343" y="99"/>
                      <a:pt x="2342" y="96"/>
                    </a:cubicBezTo>
                    <a:cubicBezTo>
                      <a:pt x="2343" y="104"/>
                      <a:pt x="2344" y="112"/>
                      <a:pt x="2346" y="120"/>
                    </a:cubicBezTo>
                    <a:cubicBezTo>
                      <a:pt x="2346" y="123"/>
                      <a:pt x="2346" y="126"/>
                      <a:pt x="2346" y="128"/>
                    </a:cubicBezTo>
                    <a:cubicBezTo>
                      <a:pt x="2345" y="125"/>
                      <a:pt x="2343" y="122"/>
                      <a:pt x="2342" y="118"/>
                    </a:cubicBezTo>
                    <a:cubicBezTo>
                      <a:pt x="2337" y="80"/>
                      <a:pt x="2330" y="28"/>
                      <a:pt x="2330" y="28"/>
                    </a:cubicBezTo>
                    <a:cubicBezTo>
                      <a:pt x="2330" y="39"/>
                      <a:pt x="2328" y="72"/>
                      <a:pt x="2326" y="100"/>
                    </a:cubicBezTo>
                    <a:cubicBezTo>
                      <a:pt x="2326" y="98"/>
                      <a:pt x="2325" y="97"/>
                      <a:pt x="2324" y="96"/>
                    </a:cubicBezTo>
                    <a:cubicBezTo>
                      <a:pt x="2325" y="97"/>
                      <a:pt x="2326" y="99"/>
                      <a:pt x="2326" y="100"/>
                    </a:cubicBezTo>
                    <a:cubicBezTo>
                      <a:pt x="2326" y="110"/>
                      <a:pt x="2325" y="120"/>
                      <a:pt x="2324" y="128"/>
                    </a:cubicBezTo>
                    <a:cubicBezTo>
                      <a:pt x="2324" y="128"/>
                      <a:pt x="2324" y="127"/>
                      <a:pt x="2324" y="127"/>
                    </a:cubicBezTo>
                    <a:cubicBezTo>
                      <a:pt x="2324" y="109"/>
                      <a:pt x="2322" y="87"/>
                      <a:pt x="2321" y="71"/>
                    </a:cubicBezTo>
                    <a:cubicBezTo>
                      <a:pt x="2322" y="68"/>
                      <a:pt x="2323" y="66"/>
                      <a:pt x="2324" y="64"/>
                    </a:cubicBezTo>
                    <a:cubicBezTo>
                      <a:pt x="2323" y="65"/>
                      <a:pt x="2322" y="67"/>
                      <a:pt x="2320" y="69"/>
                    </a:cubicBezTo>
                    <a:cubicBezTo>
                      <a:pt x="2320" y="61"/>
                      <a:pt x="2319" y="55"/>
                      <a:pt x="2319" y="53"/>
                    </a:cubicBezTo>
                    <a:cubicBezTo>
                      <a:pt x="2319" y="52"/>
                      <a:pt x="2320" y="52"/>
                      <a:pt x="2320" y="51"/>
                    </a:cubicBezTo>
                    <a:cubicBezTo>
                      <a:pt x="2320" y="51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7" y="54"/>
                      <a:pt x="2315" y="56"/>
                      <a:pt x="2313" y="57"/>
                    </a:cubicBezTo>
                    <a:cubicBezTo>
                      <a:pt x="2314" y="54"/>
                      <a:pt x="2314" y="52"/>
                      <a:pt x="2314" y="50"/>
                    </a:cubicBezTo>
                    <a:cubicBezTo>
                      <a:pt x="2318" y="46"/>
                      <a:pt x="2321" y="42"/>
                      <a:pt x="2325" y="38"/>
                    </a:cubicBezTo>
                    <a:cubicBezTo>
                      <a:pt x="2321" y="41"/>
                      <a:pt x="2318" y="44"/>
                      <a:pt x="2315" y="47"/>
                    </a:cubicBezTo>
                    <a:cubicBezTo>
                      <a:pt x="2315" y="43"/>
                      <a:pt x="2316" y="40"/>
                      <a:pt x="2316" y="40"/>
                    </a:cubicBezTo>
                    <a:cubicBezTo>
                      <a:pt x="2315" y="43"/>
                      <a:pt x="2313" y="46"/>
                      <a:pt x="2312" y="50"/>
                    </a:cubicBezTo>
                    <a:cubicBezTo>
                      <a:pt x="2305" y="58"/>
                      <a:pt x="2300" y="66"/>
                      <a:pt x="2296" y="75"/>
                    </a:cubicBezTo>
                    <a:cubicBezTo>
                      <a:pt x="2295" y="70"/>
                      <a:pt x="2295" y="66"/>
                      <a:pt x="2295" y="63"/>
                    </a:cubicBezTo>
                    <a:cubicBezTo>
                      <a:pt x="2298" y="57"/>
                      <a:pt x="2301" y="50"/>
                      <a:pt x="2305" y="42"/>
                    </a:cubicBezTo>
                    <a:cubicBezTo>
                      <a:pt x="2296" y="52"/>
                      <a:pt x="2290" y="61"/>
                      <a:pt x="2286" y="71"/>
                    </a:cubicBezTo>
                    <a:cubicBezTo>
                      <a:pt x="2285" y="70"/>
                      <a:pt x="2284" y="70"/>
                      <a:pt x="2284" y="69"/>
                    </a:cubicBezTo>
                    <a:cubicBezTo>
                      <a:pt x="2284" y="68"/>
                      <a:pt x="2284" y="67"/>
                      <a:pt x="2283" y="65"/>
                    </a:cubicBezTo>
                    <a:cubicBezTo>
                      <a:pt x="2290" y="53"/>
                      <a:pt x="2298" y="41"/>
                      <a:pt x="2309" y="25"/>
                    </a:cubicBezTo>
                    <a:cubicBezTo>
                      <a:pt x="2298" y="40"/>
                      <a:pt x="2290" y="51"/>
                      <a:pt x="2283" y="63"/>
                    </a:cubicBezTo>
                    <a:cubicBezTo>
                      <a:pt x="2281" y="45"/>
                      <a:pt x="2279" y="30"/>
                      <a:pt x="2279" y="30"/>
                    </a:cubicBezTo>
                    <a:cubicBezTo>
                      <a:pt x="2280" y="35"/>
                      <a:pt x="2280" y="49"/>
                      <a:pt x="2280" y="65"/>
                    </a:cubicBezTo>
                    <a:cubicBezTo>
                      <a:pt x="2280" y="65"/>
                      <a:pt x="2279" y="65"/>
                      <a:pt x="2279" y="65"/>
                    </a:cubicBezTo>
                    <a:cubicBezTo>
                      <a:pt x="2279" y="65"/>
                      <a:pt x="2280" y="65"/>
                      <a:pt x="2280" y="65"/>
                    </a:cubicBezTo>
                    <a:cubicBezTo>
                      <a:pt x="2280" y="67"/>
                      <a:pt x="2280" y="69"/>
                      <a:pt x="2279" y="71"/>
                    </a:cubicBezTo>
                    <a:cubicBezTo>
                      <a:pt x="2278" y="74"/>
                      <a:pt x="2277" y="78"/>
                      <a:pt x="2276" y="81"/>
                    </a:cubicBezTo>
                    <a:cubicBezTo>
                      <a:pt x="2277" y="78"/>
                      <a:pt x="2278" y="76"/>
                      <a:pt x="2279" y="73"/>
                    </a:cubicBezTo>
                    <a:cubicBezTo>
                      <a:pt x="2279" y="79"/>
                      <a:pt x="2279" y="85"/>
                      <a:pt x="2279" y="91"/>
                    </a:cubicBezTo>
                    <a:cubicBezTo>
                      <a:pt x="2278" y="93"/>
                      <a:pt x="2278" y="95"/>
                      <a:pt x="2278" y="97"/>
                    </a:cubicBezTo>
                    <a:cubicBezTo>
                      <a:pt x="2277" y="96"/>
                      <a:pt x="2276" y="95"/>
                      <a:pt x="2276" y="94"/>
                    </a:cubicBezTo>
                    <a:cubicBezTo>
                      <a:pt x="2275" y="91"/>
                      <a:pt x="2275" y="88"/>
                      <a:pt x="2275" y="85"/>
                    </a:cubicBezTo>
                    <a:cubicBezTo>
                      <a:pt x="2275" y="83"/>
                      <a:pt x="2276" y="82"/>
                      <a:pt x="2276" y="81"/>
                    </a:cubicBezTo>
                    <a:cubicBezTo>
                      <a:pt x="2276" y="82"/>
                      <a:pt x="2275" y="83"/>
                      <a:pt x="2275" y="84"/>
                    </a:cubicBezTo>
                    <a:cubicBezTo>
                      <a:pt x="2274" y="72"/>
                      <a:pt x="2273" y="62"/>
                      <a:pt x="2273" y="55"/>
                    </a:cubicBezTo>
                    <a:cubicBezTo>
                      <a:pt x="2274" y="54"/>
                      <a:pt x="2275" y="53"/>
                      <a:pt x="2277" y="52"/>
                    </a:cubicBezTo>
                    <a:cubicBezTo>
                      <a:pt x="2275" y="53"/>
                      <a:pt x="2274" y="54"/>
                      <a:pt x="2273" y="54"/>
                    </a:cubicBezTo>
                    <a:cubicBezTo>
                      <a:pt x="2273" y="49"/>
                      <a:pt x="2272" y="46"/>
                      <a:pt x="2272" y="46"/>
                    </a:cubicBezTo>
                    <a:cubicBezTo>
                      <a:pt x="2272" y="48"/>
                      <a:pt x="2272" y="51"/>
                      <a:pt x="2272" y="55"/>
                    </a:cubicBezTo>
                    <a:cubicBezTo>
                      <a:pt x="2269" y="57"/>
                      <a:pt x="2266" y="59"/>
                      <a:pt x="2263" y="62"/>
                    </a:cubicBezTo>
                    <a:cubicBezTo>
                      <a:pt x="2263" y="58"/>
                      <a:pt x="2263" y="54"/>
                      <a:pt x="2263" y="50"/>
                    </a:cubicBezTo>
                    <a:cubicBezTo>
                      <a:pt x="2267" y="45"/>
                      <a:pt x="2272" y="40"/>
                      <a:pt x="2277" y="34"/>
                    </a:cubicBezTo>
                    <a:cubicBezTo>
                      <a:pt x="2272" y="39"/>
                      <a:pt x="2267" y="44"/>
                      <a:pt x="2263" y="48"/>
                    </a:cubicBezTo>
                    <a:cubicBezTo>
                      <a:pt x="2265" y="21"/>
                      <a:pt x="2266" y="0"/>
                      <a:pt x="2266" y="0"/>
                    </a:cubicBezTo>
                    <a:cubicBezTo>
                      <a:pt x="2262" y="10"/>
                      <a:pt x="2260" y="35"/>
                      <a:pt x="2259" y="53"/>
                    </a:cubicBezTo>
                    <a:cubicBezTo>
                      <a:pt x="2258" y="54"/>
                      <a:pt x="2257" y="55"/>
                      <a:pt x="2257" y="56"/>
                    </a:cubicBezTo>
                    <a:cubicBezTo>
                      <a:pt x="2255" y="44"/>
                      <a:pt x="2252" y="33"/>
                      <a:pt x="2252" y="33"/>
                    </a:cubicBezTo>
                    <a:cubicBezTo>
                      <a:pt x="2253" y="39"/>
                      <a:pt x="2253" y="49"/>
                      <a:pt x="2252" y="62"/>
                    </a:cubicBezTo>
                    <a:cubicBezTo>
                      <a:pt x="2250" y="63"/>
                      <a:pt x="2249" y="65"/>
                      <a:pt x="2248" y="67"/>
                    </a:cubicBezTo>
                    <a:cubicBezTo>
                      <a:pt x="2247" y="65"/>
                      <a:pt x="2246" y="63"/>
                      <a:pt x="2245" y="62"/>
                    </a:cubicBezTo>
                    <a:cubicBezTo>
                      <a:pt x="2245" y="63"/>
                      <a:pt x="2246" y="65"/>
                      <a:pt x="2247" y="68"/>
                    </a:cubicBezTo>
                    <a:cubicBezTo>
                      <a:pt x="2244" y="72"/>
                      <a:pt x="2242" y="75"/>
                      <a:pt x="2241" y="78"/>
                    </a:cubicBezTo>
                    <a:cubicBezTo>
                      <a:pt x="2240" y="61"/>
                      <a:pt x="2240" y="48"/>
                      <a:pt x="2240" y="48"/>
                    </a:cubicBezTo>
                    <a:cubicBezTo>
                      <a:pt x="2239" y="52"/>
                      <a:pt x="2238" y="65"/>
                      <a:pt x="2236" y="80"/>
                    </a:cubicBezTo>
                    <a:cubicBezTo>
                      <a:pt x="2235" y="82"/>
                      <a:pt x="2235" y="85"/>
                      <a:pt x="2234" y="87"/>
                    </a:cubicBezTo>
                    <a:cubicBezTo>
                      <a:pt x="2233" y="86"/>
                      <a:pt x="2233" y="86"/>
                      <a:pt x="2232" y="85"/>
                    </a:cubicBezTo>
                    <a:cubicBezTo>
                      <a:pt x="2235" y="48"/>
                      <a:pt x="2238" y="9"/>
                      <a:pt x="2238" y="9"/>
                    </a:cubicBezTo>
                    <a:cubicBezTo>
                      <a:pt x="2234" y="20"/>
                      <a:pt x="2230" y="57"/>
                      <a:pt x="2226" y="89"/>
                    </a:cubicBezTo>
                    <a:cubicBezTo>
                      <a:pt x="2225" y="91"/>
                      <a:pt x="2224" y="92"/>
                      <a:pt x="2224" y="93"/>
                    </a:cubicBezTo>
                    <a:cubicBezTo>
                      <a:pt x="2223" y="92"/>
                      <a:pt x="2222" y="90"/>
                      <a:pt x="2221" y="89"/>
                    </a:cubicBezTo>
                    <a:cubicBezTo>
                      <a:pt x="2224" y="72"/>
                      <a:pt x="2227" y="55"/>
                      <a:pt x="2227" y="37"/>
                    </a:cubicBezTo>
                    <a:cubicBezTo>
                      <a:pt x="2227" y="34"/>
                      <a:pt x="2227" y="30"/>
                      <a:pt x="2227" y="26"/>
                    </a:cubicBezTo>
                    <a:cubicBezTo>
                      <a:pt x="2220" y="45"/>
                      <a:pt x="2219" y="66"/>
                      <a:pt x="2215" y="86"/>
                    </a:cubicBezTo>
                    <a:cubicBezTo>
                      <a:pt x="2214" y="85"/>
                      <a:pt x="2214" y="84"/>
                      <a:pt x="2214" y="84"/>
                    </a:cubicBezTo>
                    <a:cubicBezTo>
                      <a:pt x="2214" y="84"/>
                      <a:pt x="2214" y="85"/>
                      <a:pt x="2215" y="86"/>
                    </a:cubicBezTo>
                    <a:cubicBezTo>
                      <a:pt x="2214" y="88"/>
                      <a:pt x="2214" y="90"/>
                      <a:pt x="2214" y="92"/>
                    </a:cubicBezTo>
                    <a:cubicBezTo>
                      <a:pt x="2213" y="94"/>
                      <a:pt x="2213" y="96"/>
                      <a:pt x="2212" y="98"/>
                    </a:cubicBezTo>
                    <a:cubicBezTo>
                      <a:pt x="2212" y="97"/>
                      <a:pt x="2211" y="96"/>
                      <a:pt x="2210" y="95"/>
                    </a:cubicBezTo>
                    <a:cubicBezTo>
                      <a:pt x="2210" y="86"/>
                      <a:pt x="2209" y="78"/>
                      <a:pt x="2208" y="72"/>
                    </a:cubicBezTo>
                    <a:cubicBezTo>
                      <a:pt x="2211" y="67"/>
                      <a:pt x="2215" y="63"/>
                      <a:pt x="2219" y="59"/>
                    </a:cubicBezTo>
                    <a:cubicBezTo>
                      <a:pt x="2215" y="62"/>
                      <a:pt x="2211" y="66"/>
                      <a:pt x="2208" y="70"/>
                    </a:cubicBezTo>
                    <a:cubicBezTo>
                      <a:pt x="2207" y="64"/>
                      <a:pt x="2207" y="60"/>
                      <a:pt x="2206" y="57"/>
                    </a:cubicBezTo>
                    <a:cubicBezTo>
                      <a:pt x="2207" y="54"/>
                      <a:pt x="2209" y="52"/>
                      <a:pt x="2210" y="50"/>
                    </a:cubicBezTo>
                    <a:cubicBezTo>
                      <a:pt x="2209" y="51"/>
                      <a:pt x="2207" y="53"/>
                      <a:pt x="2206" y="54"/>
                    </a:cubicBezTo>
                    <a:cubicBezTo>
                      <a:pt x="2206" y="53"/>
                      <a:pt x="2206" y="52"/>
                      <a:pt x="2206" y="52"/>
                    </a:cubicBezTo>
                    <a:cubicBezTo>
                      <a:pt x="2206" y="53"/>
                      <a:pt x="2206" y="54"/>
                      <a:pt x="2206" y="54"/>
                    </a:cubicBezTo>
                    <a:cubicBezTo>
                      <a:pt x="2204" y="56"/>
                      <a:pt x="2202" y="58"/>
                      <a:pt x="2200" y="60"/>
                    </a:cubicBezTo>
                    <a:cubicBezTo>
                      <a:pt x="2199" y="54"/>
                      <a:pt x="2198" y="48"/>
                      <a:pt x="2197" y="44"/>
                    </a:cubicBezTo>
                    <a:cubicBezTo>
                      <a:pt x="2198" y="49"/>
                      <a:pt x="2197" y="56"/>
                      <a:pt x="2196" y="64"/>
                    </a:cubicBezTo>
                    <a:cubicBezTo>
                      <a:pt x="2195" y="66"/>
                      <a:pt x="2194" y="68"/>
                      <a:pt x="2193" y="69"/>
                    </a:cubicBezTo>
                    <a:cubicBezTo>
                      <a:pt x="2191" y="67"/>
                      <a:pt x="2190" y="66"/>
                      <a:pt x="2188" y="64"/>
                    </a:cubicBezTo>
                    <a:cubicBezTo>
                      <a:pt x="2190" y="66"/>
                      <a:pt x="2191" y="67"/>
                      <a:pt x="2193" y="69"/>
                    </a:cubicBezTo>
                    <a:cubicBezTo>
                      <a:pt x="2191" y="71"/>
                      <a:pt x="2190" y="73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8" y="76"/>
                      <a:pt x="2187" y="77"/>
                      <a:pt x="2186" y="79"/>
                    </a:cubicBezTo>
                    <a:cubicBezTo>
                      <a:pt x="2186" y="79"/>
                      <a:pt x="2186" y="79"/>
                      <a:pt x="2186" y="79"/>
                    </a:cubicBezTo>
                    <a:cubicBezTo>
                      <a:pt x="2187" y="60"/>
                      <a:pt x="2187" y="45"/>
                      <a:pt x="2187" y="45"/>
                    </a:cubicBezTo>
                    <a:cubicBezTo>
                      <a:pt x="2187" y="50"/>
                      <a:pt x="2185" y="61"/>
                      <a:pt x="2182" y="73"/>
                    </a:cubicBezTo>
                    <a:cubicBezTo>
                      <a:pt x="2181" y="73"/>
                      <a:pt x="2181" y="73"/>
                      <a:pt x="2180" y="72"/>
                    </a:cubicBezTo>
                    <a:cubicBezTo>
                      <a:pt x="2181" y="70"/>
                      <a:pt x="2181" y="68"/>
                      <a:pt x="2181" y="66"/>
                    </a:cubicBezTo>
                    <a:cubicBezTo>
                      <a:pt x="2181" y="65"/>
                      <a:pt x="2181" y="65"/>
                      <a:pt x="2182" y="65"/>
                    </a:cubicBezTo>
                    <a:cubicBezTo>
                      <a:pt x="2181" y="65"/>
                      <a:pt x="2181" y="65"/>
                      <a:pt x="2181" y="66"/>
                    </a:cubicBezTo>
                    <a:cubicBezTo>
                      <a:pt x="2181" y="64"/>
                      <a:pt x="2181" y="63"/>
                      <a:pt x="2181" y="61"/>
                    </a:cubicBezTo>
                    <a:cubicBezTo>
                      <a:pt x="2181" y="55"/>
                      <a:pt x="2181" y="49"/>
                      <a:pt x="2180" y="42"/>
                    </a:cubicBezTo>
                    <a:cubicBezTo>
                      <a:pt x="2183" y="27"/>
                      <a:pt x="2185" y="17"/>
                      <a:pt x="2185" y="17"/>
                    </a:cubicBezTo>
                    <a:cubicBezTo>
                      <a:pt x="2182" y="22"/>
                      <a:pt x="2175" y="49"/>
                      <a:pt x="2169" y="78"/>
                    </a:cubicBezTo>
                    <a:cubicBezTo>
                      <a:pt x="2169" y="78"/>
                      <a:pt x="2169" y="78"/>
                      <a:pt x="2168" y="79"/>
                    </a:cubicBezTo>
                    <a:cubicBezTo>
                      <a:pt x="2167" y="76"/>
                      <a:pt x="2164" y="72"/>
                      <a:pt x="2162" y="69"/>
                    </a:cubicBezTo>
                    <a:cubicBezTo>
                      <a:pt x="2163" y="67"/>
                      <a:pt x="2165" y="66"/>
                      <a:pt x="2167" y="64"/>
                    </a:cubicBezTo>
                    <a:cubicBezTo>
                      <a:pt x="2165" y="66"/>
                      <a:pt x="2163" y="67"/>
                      <a:pt x="2162" y="69"/>
                    </a:cubicBezTo>
                    <a:cubicBezTo>
                      <a:pt x="2161" y="68"/>
                      <a:pt x="2160" y="67"/>
                      <a:pt x="2159" y="66"/>
                    </a:cubicBezTo>
                    <a:cubicBezTo>
                      <a:pt x="2159" y="60"/>
                      <a:pt x="2158" y="55"/>
                      <a:pt x="2158" y="52"/>
                    </a:cubicBezTo>
                    <a:cubicBezTo>
                      <a:pt x="2158" y="56"/>
                      <a:pt x="2158" y="60"/>
                      <a:pt x="2158" y="64"/>
                    </a:cubicBezTo>
                    <a:cubicBezTo>
                      <a:pt x="2154" y="60"/>
                      <a:pt x="2150" y="55"/>
                      <a:pt x="2145" y="50"/>
                    </a:cubicBezTo>
                    <a:cubicBezTo>
                      <a:pt x="2148" y="55"/>
                      <a:pt x="2151" y="60"/>
                      <a:pt x="2154" y="65"/>
                    </a:cubicBezTo>
                    <a:cubicBezTo>
                      <a:pt x="2153" y="68"/>
                      <a:pt x="2153" y="71"/>
                      <a:pt x="2152" y="76"/>
                    </a:cubicBezTo>
                    <a:cubicBezTo>
                      <a:pt x="2150" y="74"/>
                      <a:pt x="2148" y="71"/>
                      <a:pt x="2145" y="68"/>
                    </a:cubicBezTo>
                    <a:cubicBezTo>
                      <a:pt x="2145" y="54"/>
                      <a:pt x="2144" y="41"/>
                      <a:pt x="2143" y="33"/>
                    </a:cubicBezTo>
                    <a:cubicBezTo>
                      <a:pt x="2144" y="42"/>
                      <a:pt x="2143" y="53"/>
                      <a:pt x="2142" y="65"/>
                    </a:cubicBezTo>
                    <a:cubicBezTo>
                      <a:pt x="2140" y="63"/>
                      <a:pt x="2138" y="61"/>
                      <a:pt x="2136" y="59"/>
                    </a:cubicBezTo>
                    <a:cubicBezTo>
                      <a:pt x="2138" y="61"/>
                      <a:pt x="2140" y="63"/>
                      <a:pt x="2142" y="65"/>
                    </a:cubicBezTo>
                    <a:cubicBezTo>
                      <a:pt x="2141" y="72"/>
                      <a:pt x="2140" y="80"/>
                      <a:pt x="2139" y="87"/>
                    </a:cubicBezTo>
                    <a:cubicBezTo>
                      <a:pt x="2139" y="87"/>
                      <a:pt x="2139" y="87"/>
                      <a:pt x="2139" y="87"/>
                    </a:cubicBezTo>
                    <a:cubicBezTo>
                      <a:pt x="2138" y="85"/>
                      <a:pt x="2138" y="84"/>
                      <a:pt x="2137" y="83"/>
                    </a:cubicBezTo>
                    <a:cubicBezTo>
                      <a:pt x="2138" y="82"/>
                      <a:pt x="2138" y="82"/>
                      <a:pt x="2138" y="81"/>
                    </a:cubicBezTo>
                    <a:cubicBezTo>
                      <a:pt x="2138" y="82"/>
                      <a:pt x="2138" y="82"/>
                      <a:pt x="2137" y="83"/>
                    </a:cubicBezTo>
                    <a:cubicBezTo>
                      <a:pt x="2137" y="81"/>
                      <a:pt x="2136" y="79"/>
                      <a:pt x="2135" y="77"/>
                    </a:cubicBezTo>
                    <a:cubicBezTo>
                      <a:pt x="2136" y="79"/>
                      <a:pt x="2136" y="81"/>
                      <a:pt x="2137" y="83"/>
                    </a:cubicBezTo>
                    <a:cubicBezTo>
                      <a:pt x="2136" y="85"/>
                      <a:pt x="2135" y="86"/>
                      <a:pt x="2134" y="88"/>
                    </a:cubicBezTo>
                    <a:cubicBezTo>
                      <a:pt x="2135" y="86"/>
                      <a:pt x="2136" y="85"/>
                      <a:pt x="2137" y="83"/>
                    </a:cubicBezTo>
                    <a:cubicBezTo>
                      <a:pt x="2137" y="85"/>
                      <a:pt x="2138" y="86"/>
                      <a:pt x="2138" y="88"/>
                    </a:cubicBezTo>
                    <a:cubicBezTo>
                      <a:pt x="2136" y="91"/>
                      <a:pt x="2135" y="95"/>
                      <a:pt x="2133" y="98"/>
                    </a:cubicBezTo>
                    <a:cubicBezTo>
                      <a:pt x="2133" y="97"/>
                      <a:pt x="2133" y="97"/>
                      <a:pt x="2132" y="97"/>
                    </a:cubicBezTo>
                    <a:cubicBezTo>
                      <a:pt x="2132" y="95"/>
                      <a:pt x="2132" y="94"/>
                      <a:pt x="2132" y="93"/>
                    </a:cubicBezTo>
                    <a:cubicBezTo>
                      <a:pt x="2132" y="91"/>
                      <a:pt x="2133" y="89"/>
                      <a:pt x="2134" y="88"/>
                    </a:cubicBezTo>
                    <a:cubicBezTo>
                      <a:pt x="2133" y="89"/>
                      <a:pt x="2132" y="91"/>
                      <a:pt x="2131" y="92"/>
                    </a:cubicBezTo>
                    <a:cubicBezTo>
                      <a:pt x="2131" y="92"/>
                      <a:pt x="2131" y="91"/>
                      <a:pt x="2131" y="91"/>
                    </a:cubicBezTo>
                    <a:cubicBezTo>
                      <a:pt x="2131" y="74"/>
                      <a:pt x="2130" y="60"/>
                      <a:pt x="2130" y="60"/>
                    </a:cubicBezTo>
                    <a:cubicBezTo>
                      <a:pt x="2130" y="65"/>
                      <a:pt x="2130" y="73"/>
                      <a:pt x="2129" y="81"/>
                    </a:cubicBezTo>
                    <a:cubicBezTo>
                      <a:pt x="2128" y="79"/>
                      <a:pt x="2128" y="76"/>
                      <a:pt x="2127" y="74"/>
                    </a:cubicBezTo>
                    <a:cubicBezTo>
                      <a:pt x="2128" y="79"/>
                      <a:pt x="2128" y="83"/>
                      <a:pt x="2128" y="88"/>
                    </a:cubicBezTo>
                    <a:cubicBezTo>
                      <a:pt x="2127" y="86"/>
                      <a:pt x="2126" y="84"/>
                      <a:pt x="2125" y="83"/>
                    </a:cubicBezTo>
                    <a:cubicBezTo>
                      <a:pt x="2126" y="85"/>
                      <a:pt x="2127" y="87"/>
                      <a:pt x="2128" y="89"/>
                    </a:cubicBezTo>
                    <a:cubicBezTo>
                      <a:pt x="2128" y="89"/>
                      <a:pt x="2128" y="89"/>
                      <a:pt x="2128" y="89"/>
                    </a:cubicBezTo>
                    <a:cubicBezTo>
                      <a:pt x="2128" y="93"/>
                      <a:pt x="2127" y="97"/>
                      <a:pt x="2127" y="101"/>
                    </a:cubicBezTo>
                    <a:cubicBezTo>
                      <a:pt x="2126" y="103"/>
                      <a:pt x="2125" y="104"/>
                      <a:pt x="2125" y="106"/>
                    </a:cubicBezTo>
                    <a:cubicBezTo>
                      <a:pt x="2123" y="100"/>
                      <a:pt x="2122" y="95"/>
                      <a:pt x="2120" y="90"/>
                    </a:cubicBezTo>
                    <a:cubicBezTo>
                      <a:pt x="2121" y="88"/>
                      <a:pt x="2123" y="85"/>
                      <a:pt x="2124" y="83"/>
                    </a:cubicBezTo>
                    <a:cubicBezTo>
                      <a:pt x="2123" y="85"/>
                      <a:pt x="2121" y="87"/>
                      <a:pt x="2119" y="89"/>
                    </a:cubicBezTo>
                    <a:cubicBezTo>
                      <a:pt x="2119" y="88"/>
                      <a:pt x="2118" y="87"/>
                      <a:pt x="2118" y="87"/>
                    </a:cubicBezTo>
                    <a:cubicBezTo>
                      <a:pt x="2118" y="76"/>
                      <a:pt x="2119" y="68"/>
                      <a:pt x="2119" y="68"/>
                    </a:cubicBezTo>
                    <a:cubicBezTo>
                      <a:pt x="2118" y="72"/>
                      <a:pt x="2117" y="77"/>
                      <a:pt x="2116" y="82"/>
                    </a:cubicBezTo>
                    <a:cubicBezTo>
                      <a:pt x="2116" y="81"/>
                      <a:pt x="2116" y="80"/>
                      <a:pt x="2116" y="80"/>
                    </a:cubicBezTo>
                    <a:cubicBezTo>
                      <a:pt x="2116" y="80"/>
                      <a:pt x="2116" y="81"/>
                      <a:pt x="2116" y="82"/>
                    </a:cubicBezTo>
                    <a:cubicBezTo>
                      <a:pt x="2115" y="80"/>
                      <a:pt x="2114" y="78"/>
                      <a:pt x="2112" y="75"/>
                    </a:cubicBezTo>
                    <a:cubicBezTo>
                      <a:pt x="2113" y="65"/>
                      <a:pt x="2114" y="56"/>
                      <a:pt x="2115" y="48"/>
                    </a:cubicBezTo>
                    <a:cubicBezTo>
                      <a:pt x="2114" y="55"/>
                      <a:pt x="2112" y="64"/>
                      <a:pt x="2111" y="73"/>
                    </a:cubicBezTo>
                    <a:cubicBezTo>
                      <a:pt x="2109" y="70"/>
                      <a:pt x="2107" y="67"/>
                      <a:pt x="2105" y="64"/>
                    </a:cubicBezTo>
                    <a:cubicBezTo>
                      <a:pt x="2105" y="62"/>
                      <a:pt x="2105" y="59"/>
                      <a:pt x="2105" y="57"/>
                    </a:cubicBezTo>
                    <a:cubicBezTo>
                      <a:pt x="2104" y="58"/>
                      <a:pt x="2104" y="60"/>
                      <a:pt x="2103" y="62"/>
                    </a:cubicBezTo>
                    <a:cubicBezTo>
                      <a:pt x="2101" y="59"/>
                      <a:pt x="2098" y="55"/>
                      <a:pt x="2095" y="52"/>
                    </a:cubicBezTo>
                    <a:cubicBezTo>
                      <a:pt x="2095" y="48"/>
                      <a:pt x="2095" y="46"/>
                      <a:pt x="2095" y="46"/>
                    </a:cubicBezTo>
                    <a:cubicBezTo>
                      <a:pt x="2095" y="48"/>
                      <a:pt x="2095" y="49"/>
                      <a:pt x="2094" y="51"/>
                    </a:cubicBezTo>
                    <a:cubicBezTo>
                      <a:pt x="2091" y="47"/>
                      <a:pt x="2087" y="43"/>
                      <a:pt x="2083" y="39"/>
                    </a:cubicBezTo>
                    <a:cubicBezTo>
                      <a:pt x="2083" y="37"/>
                      <a:pt x="2083" y="35"/>
                      <a:pt x="2082" y="34"/>
                    </a:cubicBezTo>
                    <a:cubicBezTo>
                      <a:pt x="2082" y="34"/>
                      <a:pt x="2083" y="36"/>
                      <a:pt x="2083" y="39"/>
                    </a:cubicBezTo>
                    <a:cubicBezTo>
                      <a:pt x="2081" y="37"/>
                      <a:pt x="2080" y="36"/>
                      <a:pt x="2078" y="34"/>
                    </a:cubicBezTo>
                    <a:cubicBezTo>
                      <a:pt x="2080" y="36"/>
                      <a:pt x="2081" y="38"/>
                      <a:pt x="2083" y="40"/>
                    </a:cubicBezTo>
                    <a:cubicBezTo>
                      <a:pt x="2083" y="40"/>
                      <a:pt x="2083" y="40"/>
                      <a:pt x="2083" y="41"/>
                    </a:cubicBezTo>
                    <a:cubicBezTo>
                      <a:pt x="2083" y="40"/>
                      <a:pt x="2083" y="40"/>
                      <a:pt x="2083" y="40"/>
                    </a:cubicBezTo>
                    <a:cubicBezTo>
                      <a:pt x="2087" y="45"/>
                      <a:pt x="2090" y="49"/>
                      <a:pt x="2094" y="53"/>
                    </a:cubicBezTo>
                    <a:cubicBezTo>
                      <a:pt x="2093" y="55"/>
                      <a:pt x="2092" y="59"/>
                      <a:pt x="2092" y="62"/>
                    </a:cubicBezTo>
                    <a:cubicBezTo>
                      <a:pt x="2089" y="60"/>
                      <a:pt x="2087" y="58"/>
                      <a:pt x="2084" y="56"/>
                    </a:cubicBezTo>
                    <a:cubicBezTo>
                      <a:pt x="2083" y="50"/>
                      <a:pt x="2083" y="44"/>
                      <a:pt x="2083" y="41"/>
                    </a:cubicBezTo>
                    <a:cubicBezTo>
                      <a:pt x="2083" y="45"/>
                      <a:pt x="2083" y="50"/>
                      <a:pt x="2082" y="55"/>
                    </a:cubicBezTo>
                    <a:cubicBezTo>
                      <a:pt x="2081" y="54"/>
                      <a:pt x="2080" y="53"/>
                      <a:pt x="2078" y="52"/>
                    </a:cubicBezTo>
                    <a:cubicBezTo>
                      <a:pt x="2080" y="53"/>
                      <a:pt x="2081" y="54"/>
                      <a:pt x="2082" y="55"/>
                    </a:cubicBezTo>
                    <a:cubicBezTo>
                      <a:pt x="2082" y="64"/>
                      <a:pt x="2081" y="73"/>
                      <a:pt x="2079" y="83"/>
                    </a:cubicBezTo>
                    <a:cubicBezTo>
                      <a:pt x="2079" y="82"/>
                      <a:pt x="2079" y="81"/>
                      <a:pt x="2079" y="81"/>
                    </a:cubicBezTo>
                    <a:cubicBezTo>
                      <a:pt x="2079" y="82"/>
                      <a:pt x="2079" y="82"/>
                      <a:pt x="2079" y="83"/>
                    </a:cubicBezTo>
                    <a:cubicBezTo>
                      <a:pt x="2078" y="88"/>
                      <a:pt x="2078" y="92"/>
                      <a:pt x="2077" y="97"/>
                    </a:cubicBezTo>
                    <a:cubicBezTo>
                      <a:pt x="2075" y="89"/>
                      <a:pt x="2073" y="81"/>
                      <a:pt x="2070" y="73"/>
                    </a:cubicBezTo>
                    <a:cubicBezTo>
                      <a:pt x="2070" y="72"/>
                      <a:pt x="2070" y="71"/>
                      <a:pt x="2070" y="71"/>
                    </a:cubicBezTo>
                    <a:cubicBezTo>
                      <a:pt x="2071" y="70"/>
                      <a:pt x="2072" y="69"/>
                      <a:pt x="2073" y="68"/>
                    </a:cubicBezTo>
                    <a:cubicBezTo>
                      <a:pt x="2075" y="72"/>
                      <a:pt x="2077" y="76"/>
                      <a:pt x="2079" y="81"/>
                    </a:cubicBezTo>
                    <a:cubicBezTo>
                      <a:pt x="2077" y="76"/>
                      <a:pt x="2075" y="72"/>
                      <a:pt x="2073" y="67"/>
                    </a:cubicBezTo>
                    <a:cubicBezTo>
                      <a:pt x="2074" y="67"/>
                      <a:pt x="2074" y="66"/>
                      <a:pt x="2075" y="65"/>
                    </a:cubicBezTo>
                    <a:cubicBezTo>
                      <a:pt x="2074" y="66"/>
                      <a:pt x="2074" y="66"/>
                      <a:pt x="2073" y="67"/>
                    </a:cubicBezTo>
                    <a:cubicBezTo>
                      <a:pt x="2067" y="54"/>
                      <a:pt x="2057" y="41"/>
                      <a:pt x="2045" y="25"/>
                    </a:cubicBezTo>
                    <a:cubicBezTo>
                      <a:pt x="2057" y="42"/>
                      <a:pt x="2066" y="55"/>
                      <a:pt x="2072" y="68"/>
                    </a:cubicBezTo>
                    <a:cubicBezTo>
                      <a:pt x="2072" y="68"/>
                      <a:pt x="2071" y="69"/>
                      <a:pt x="2070" y="70"/>
                    </a:cubicBezTo>
                    <a:cubicBezTo>
                      <a:pt x="2070" y="68"/>
                      <a:pt x="2070" y="66"/>
                      <a:pt x="2070" y="66"/>
                    </a:cubicBezTo>
                    <a:cubicBezTo>
                      <a:pt x="2070" y="68"/>
                      <a:pt x="2070" y="69"/>
                      <a:pt x="2069" y="71"/>
                    </a:cubicBezTo>
                    <a:cubicBezTo>
                      <a:pt x="2069" y="71"/>
                      <a:pt x="2069" y="71"/>
                      <a:pt x="2069" y="71"/>
                    </a:cubicBezTo>
                    <a:cubicBezTo>
                      <a:pt x="2065" y="61"/>
                      <a:pt x="2058" y="52"/>
                      <a:pt x="2049" y="42"/>
                    </a:cubicBezTo>
                    <a:cubicBezTo>
                      <a:pt x="2056" y="55"/>
                      <a:pt x="2061" y="65"/>
                      <a:pt x="2065" y="75"/>
                    </a:cubicBezTo>
                    <a:cubicBezTo>
                      <a:pt x="2064" y="76"/>
                      <a:pt x="2063" y="77"/>
                      <a:pt x="2062" y="77"/>
                    </a:cubicBezTo>
                    <a:cubicBezTo>
                      <a:pt x="2060" y="73"/>
                      <a:pt x="2058" y="70"/>
                      <a:pt x="2056" y="68"/>
                    </a:cubicBezTo>
                    <a:cubicBezTo>
                      <a:pt x="2055" y="63"/>
                      <a:pt x="2055" y="60"/>
                      <a:pt x="2055" y="60"/>
                    </a:cubicBezTo>
                    <a:cubicBezTo>
                      <a:pt x="2055" y="61"/>
                      <a:pt x="2055" y="64"/>
                      <a:pt x="2055" y="67"/>
                    </a:cubicBezTo>
                    <a:cubicBezTo>
                      <a:pt x="2049" y="57"/>
                      <a:pt x="2041" y="47"/>
                      <a:pt x="2030" y="38"/>
                    </a:cubicBezTo>
                    <a:cubicBezTo>
                      <a:pt x="2040" y="49"/>
                      <a:pt x="2048" y="60"/>
                      <a:pt x="2054" y="71"/>
                    </a:cubicBezTo>
                    <a:cubicBezTo>
                      <a:pt x="2054" y="75"/>
                      <a:pt x="2054" y="80"/>
                      <a:pt x="2053" y="85"/>
                    </a:cubicBezTo>
                    <a:cubicBezTo>
                      <a:pt x="2053" y="84"/>
                      <a:pt x="2053" y="84"/>
                      <a:pt x="2052" y="83"/>
                    </a:cubicBezTo>
                    <a:cubicBezTo>
                      <a:pt x="2052" y="84"/>
                      <a:pt x="2053" y="85"/>
                      <a:pt x="2053" y="86"/>
                    </a:cubicBezTo>
                    <a:cubicBezTo>
                      <a:pt x="2053" y="87"/>
                      <a:pt x="2053" y="88"/>
                      <a:pt x="2053" y="89"/>
                    </a:cubicBezTo>
                    <a:cubicBezTo>
                      <a:pt x="2051" y="92"/>
                      <a:pt x="2050" y="94"/>
                      <a:pt x="2048" y="97"/>
                    </a:cubicBezTo>
                    <a:cubicBezTo>
                      <a:pt x="2048" y="93"/>
                      <a:pt x="2048" y="90"/>
                      <a:pt x="2048" y="87"/>
                    </a:cubicBezTo>
                    <a:cubicBezTo>
                      <a:pt x="2049" y="84"/>
                      <a:pt x="2050" y="82"/>
                      <a:pt x="2050" y="80"/>
                    </a:cubicBezTo>
                    <a:cubicBezTo>
                      <a:pt x="2051" y="81"/>
                      <a:pt x="2051" y="82"/>
                      <a:pt x="2052" y="83"/>
                    </a:cubicBezTo>
                    <a:cubicBezTo>
                      <a:pt x="2052" y="81"/>
                      <a:pt x="2051" y="80"/>
                      <a:pt x="2050" y="79"/>
                    </a:cubicBezTo>
                    <a:cubicBezTo>
                      <a:pt x="2051" y="79"/>
                      <a:pt x="2051" y="78"/>
                      <a:pt x="2051" y="77"/>
                    </a:cubicBezTo>
                    <a:cubicBezTo>
                      <a:pt x="2051" y="77"/>
                      <a:pt x="2050" y="78"/>
                      <a:pt x="2050" y="79"/>
                    </a:cubicBezTo>
                    <a:cubicBezTo>
                      <a:pt x="2049" y="77"/>
                      <a:pt x="2049" y="76"/>
                      <a:pt x="2048" y="75"/>
                    </a:cubicBezTo>
                    <a:cubicBezTo>
                      <a:pt x="2049" y="77"/>
                      <a:pt x="2049" y="78"/>
                      <a:pt x="2050" y="79"/>
                    </a:cubicBezTo>
                    <a:cubicBezTo>
                      <a:pt x="2049" y="80"/>
                      <a:pt x="2048" y="81"/>
                      <a:pt x="2048" y="82"/>
                    </a:cubicBezTo>
                    <a:cubicBezTo>
                      <a:pt x="2048" y="73"/>
                      <a:pt x="2048" y="68"/>
                      <a:pt x="2048" y="68"/>
                    </a:cubicBezTo>
                    <a:cubicBezTo>
                      <a:pt x="2047" y="72"/>
                      <a:pt x="2047" y="78"/>
                      <a:pt x="2046" y="85"/>
                    </a:cubicBezTo>
                    <a:cubicBezTo>
                      <a:pt x="2043" y="90"/>
                      <a:pt x="2041" y="94"/>
                      <a:pt x="2040" y="99"/>
                    </a:cubicBezTo>
                    <a:cubicBezTo>
                      <a:pt x="2040" y="98"/>
                      <a:pt x="2039" y="97"/>
                      <a:pt x="2039" y="96"/>
                    </a:cubicBezTo>
                    <a:cubicBezTo>
                      <a:pt x="2039" y="92"/>
                      <a:pt x="2040" y="89"/>
                      <a:pt x="2040" y="89"/>
                    </a:cubicBezTo>
                    <a:cubicBezTo>
                      <a:pt x="2040" y="91"/>
                      <a:pt x="2039" y="92"/>
                      <a:pt x="2039" y="94"/>
                    </a:cubicBezTo>
                    <a:cubicBezTo>
                      <a:pt x="2038" y="91"/>
                      <a:pt x="2037" y="88"/>
                      <a:pt x="2037" y="85"/>
                    </a:cubicBezTo>
                    <a:cubicBezTo>
                      <a:pt x="2036" y="88"/>
                      <a:pt x="2036" y="91"/>
                      <a:pt x="2036" y="94"/>
                    </a:cubicBezTo>
                    <a:cubicBezTo>
                      <a:pt x="2036" y="97"/>
                      <a:pt x="2036" y="100"/>
                      <a:pt x="2036" y="103"/>
                    </a:cubicBezTo>
                    <a:cubicBezTo>
                      <a:pt x="2035" y="107"/>
                      <a:pt x="2033" y="112"/>
                      <a:pt x="2032" y="116"/>
                    </a:cubicBezTo>
                    <a:cubicBezTo>
                      <a:pt x="2030" y="112"/>
                      <a:pt x="2029" y="108"/>
                      <a:pt x="2028" y="104"/>
                    </a:cubicBezTo>
                    <a:cubicBezTo>
                      <a:pt x="2029" y="109"/>
                      <a:pt x="2030" y="115"/>
                      <a:pt x="2030" y="120"/>
                    </a:cubicBezTo>
                    <a:cubicBezTo>
                      <a:pt x="2029" y="124"/>
                      <a:pt x="2027" y="127"/>
                      <a:pt x="2026" y="130"/>
                    </a:cubicBezTo>
                    <a:cubicBezTo>
                      <a:pt x="2025" y="128"/>
                      <a:pt x="2024" y="126"/>
                      <a:pt x="2024" y="123"/>
                    </a:cubicBezTo>
                    <a:cubicBezTo>
                      <a:pt x="2025" y="115"/>
                      <a:pt x="2027" y="106"/>
                      <a:pt x="2029" y="98"/>
                    </a:cubicBezTo>
                    <a:cubicBezTo>
                      <a:pt x="2030" y="98"/>
                      <a:pt x="2030" y="97"/>
                      <a:pt x="2030" y="96"/>
                    </a:cubicBezTo>
                    <a:cubicBezTo>
                      <a:pt x="2030" y="96"/>
                      <a:pt x="2030" y="97"/>
                      <a:pt x="2029" y="97"/>
                    </a:cubicBezTo>
                    <a:cubicBezTo>
                      <a:pt x="2032" y="86"/>
                      <a:pt x="2035" y="76"/>
                      <a:pt x="2035" y="76"/>
                    </a:cubicBezTo>
                    <a:cubicBezTo>
                      <a:pt x="2030" y="83"/>
                      <a:pt x="2024" y="96"/>
                      <a:pt x="2020" y="109"/>
                    </a:cubicBezTo>
                    <a:cubicBezTo>
                      <a:pt x="2020" y="107"/>
                      <a:pt x="2019" y="106"/>
                      <a:pt x="2019" y="104"/>
                    </a:cubicBezTo>
                    <a:cubicBezTo>
                      <a:pt x="2021" y="97"/>
                      <a:pt x="2024" y="90"/>
                      <a:pt x="2027" y="84"/>
                    </a:cubicBezTo>
                    <a:cubicBezTo>
                      <a:pt x="2024" y="90"/>
                      <a:pt x="2021" y="96"/>
                      <a:pt x="2019" y="102"/>
                    </a:cubicBezTo>
                    <a:cubicBezTo>
                      <a:pt x="2018" y="102"/>
                      <a:pt x="2018" y="101"/>
                      <a:pt x="2018" y="101"/>
                    </a:cubicBezTo>
                    <a:cubicBezTo>
                      <a:pt x="2020" y="77"/>
                      <a:pt x="2016" y="62"/>
                      <a:pt x="2016" y="62"/>
                    </a:cubicBezTo>
                    <a:cubicBezTo>
                      <a:pt x="2017" y="69"/>
                      <a:pt x="2017" y="80"/>
                      <a:pt x="2015" y="91"/>
                    </a:cubicBezTo>
                    <a:cubicBezTo>
                      <a:pt x="2015" y="89"/>
                      <a:pt x="2015" y="88"/>
                      <a:pt x="2014" y="87"/>
                    </a:cubicBezTo>
                    <a:cubicBezTo>
                      <a:pt x="2014" y="88"/>
                      <a:pt x="2014" y="88"/>
                      <a:pt x="2014" y="88"/>
                    </a:cubicBezTo>
                    <a:cubicBezTo>
                      <a:pt x="2014" y="90"/>
                      <a:pt x="2014" y="93"/>
                      <a:pt x="2015" y="96"/>
                    </a:cubicBezTo>
                    <a:cubicBezTo>
                      <a:pt x="2014" y="101"/>
                      <a:pt x="2014" y="105"/>
                      <a:pt x="2013" y="110"/>
                    </a:cubicBezTo>
                    <a:cubicBezTo>
                      <a:pt x="2012" y="109"/>
                      <a:pt x="2012" y="107"/>
                      <a:pt x="2011" y="106"/>
                    </a:cubicBezTo>
                    <a:cubicBezTo>
                      <a:pt x="2012" y="103"/>
                      <a:pt x="2012" y="99"/>
                      <a:pt x="2013" y="96"/>
                    </a:cubicBezTo>
                    <a:cubicBezTo>
                      <a:pt x="2012" y="98"/>
                      <a:pt x="2011" y="100"/>
                      <a:pt x="2010" y="103"/>
                    </a:cubicBezTo>
                    <a:cubicBezTo>
                      <a:pt x="2009" y="101"/>
                      <a:pt x="2008" y="99"/>
                      <a:pt x="2008" y="98"/>
                    </a:cubicBezTo>
                    <a:cubicBezTo>
                      <a:pt x="2008" y="89"/>
                      <a:pt x="2009" y="82"/>
                      <a:pt x="2009" y="82"/>
                    </a:cubicBezTo>
                    <a:cubicBezTo>
                      <a:pt x="2007" y="97"/>
                      <a:pt x="2007" y="97"/>
                      <a:pt x="2007" y="97"/>
                    </a:cubicBezTo>
                    <a:cubicBezTo>
                      <a:pt x="2006" y="94"/>
                      <a:pt x="2005" y="92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89"/>
                      <a:pt x="2004" y="89"/>
                      <a:pt x="2003" y="88"/>
                    </a:cubicBezTo>
                    <a:cubicBezTo>
                      <a:pt x="2003" y="83"/>
                      <a:pt x="2003" y="78"/>
                      <a:pt x="2003" y="73"/>
                    </a:cubicBezTo>
                    <a:cubicBezTo>
                      <a:pt x="2006" y="70"/>
                      <a:pt x="2009" y="66"/>
                      <a:pt x="2012" y="63"/>
                    </a:cubicBezTo>
                    <a:cubicBezTo>
                      <a:pt x="2009" y="66"/>
                      <a:pt x="2006" y="69"/>
                      <a:pt x="2003" y="71"/>
                    </a:cubicBezTo>
                    <a:cubicBezTo>
                      <a:pt x="2003" y="65"/>
                      <a:pt x="2002" y="60"/>
                      <a:pt x="2002" y="60"/>
                    </a:cubicBezTo>
                    <a:cubicBezTo>
                      <a:pt x="2002" y="64"/>
                      <a:pt x="2002" y="68"/>
                      <a:pt x="2002" y="72"/>
                    </a:cubicBezTo>
                    <a:cubicBezTo>
                      <a:pt x="2000" y="74"/>
                      <a:pt x="1999" y="75"/>
                      <a:pt x="1998" y="77"/>
                    </a:cubicBezTo>
                    <a:cubicBezTo>
                      <a:pt x="1997" y="70"/>
                      <a:pt x="1997" y="64"/>
                      <a:pt x="1997" y="64"/>
                    </a:cubicBezTo>
                    <a:cubicBezTo>
                      <a:pt x="1997" y="66"/>
                      <a:pt x="1997" y="71"/>
                      <a:pt x="1996" y="78"/>
                    </a:cubicBezTo>
                    <a:cubicBezTo>
                      <a:pt x="1993" y="81"/>
                      <a:pt x="1991" y="85"/>
                      <a:pt x="1989" y="88"/>
                    </a:cubicBezTo>
                    <a:cubicBezTo>
                      <a:pt x="1989" y="64"/>
                      <a:pt x="1988" y="42"/>
                      <a:pt x="1988" y="42"/>
                    </a:cubicBezTo>
                    <a:cubicBezTo>
                      <a:pt x="1989" y="55"/>
                      <a:pt x="1986" y="77"/>
                      <a:pt x="1984" y="96"/>
                    </a:cubicBezTo>
                    <a:cubicBezTo>
                      <a:pt x="1982" y="100"/>
                      <a:pt x="1980" y="104"/>
                      <a:pt x="1979" y="107"/>
                    </a:cubicBezTo>
                    <a:cubicBezTo>
                      <a:pt x="1978" y="107"/>
                      <a:pt x="1978" y="106"/>
                      <a:pt x="1978" y="106"/>
                    </a:cubicBezTo>
                    <a:cubicBezTo>
                      <a:pt x="1979" y="87"/>
                      <a:pt x="1982" y="70"/>
                      <a:pt x="1982" y="70"/>
                    </a:cubicBezTo>
                    <a:cubicBezTo>
                      <a:pt x="1980" y="74"/>
                      <a:pt x="1977" y="98"/>
                      <a:pt x="1975" y="117"/>
                    </a:cubicBezTo>
                    <a:cubicBezTo>
                      <a:pt x="1975" y="118"/>
                      <a:pt x="1975" y="119"/>
                      <a:pt x="1975" y="120"/>
                    </a:cubicBezTo>
                    <a:cubicBezTo>
                      <a:pt x="1975" y="119"/>
                      <a:pt x="1975" y="119"/>
                      <a:pt x="1975" y="118"/>
                    </a:cubicBezTo>
                    <a:cubicBezTo>
                      <a:pt x="1975" y="119"/>
                      <a:pt x="1975" y="119"/>
                      <a:pt x="1975" y="120"/>
                    </a:cubicBezTo>
                    <a:cubicBezTo>
                      <a:pt x="1974" y="121"/>
                      <a:pt x="1974" y="121"/>
                      <a:pt x="1974" y="122"/>
                    </a:cubicBezTo>
                    <a:cubicBezTo>
                      <a:pt x="1974" y="115"/>
                      <a:pt x="1974" y="108"/>
                      <a:pt x="1974" y="101"/>
                    </a:cubicBezTo>
                    <a:cubicBezTo>
                      <a:pt x="1974" y="101"/>
                      <a:pt x="1974" y="100"/>
                      <a:pt x="1974" y="100"/>
                    </a:cubicBezTo>
                    <a:cubicBezTo>
                      <a:pt x="1974" y="100"/>
                      <a:pt x="1974" y="101"/>
                      <a:pt x="1974" y="101"/>
                    </a:cubicBezTo>
                    <a:cubicBezTo>
                      <a:pt x="1974" y="98"/>
                      <a:pt x="1974" y="94"/>
                      <a:pt x="1973" y="91"/>
                    </a:cubicBezTo>
                    <a:cubicBezTo>
                      <a:pt x="1975" y="88"/>
                      <a:pt x="1977" y="85"/>
                      <a:pt x="1979" y="83"/>
                    </a:cubicBezTo>
                    <a:cubicBezTo>
                      <a:pt x="1977" y="85"/>
                      <a:pt x="1975" y="87"/>
                      <a:pt x="1973" y="90"/>
                    </a:cubicBezTo>
                    <a:cubicBezTo>
                      <a:pt x="1973" y="79"/>
                      <a:pt x="1972" y="69"/>
                      <a:pt x="1972" y="61"/>
                    </a:cubicBezTo>
                    <a:cubicBezTo>
                      <a:pt x="1971" y="73"/>
                      <a:pt x="1969" y="87"/>
                      <a:pt x="1967" y="100"/>
                    </a:cubicBezTo>
                    <a:cubicBezTo>
                      <a:pt x="1963" y="107"/>
                      <a:pt x="1960" y="115"/>
                      <a:pt x="1958" y="123"/>
                    </a:cubicBezTo>
                    <a:cubicBezTo>
                      <a:pt x="1959" y="109"/>
                      <a:pt x="1960" y="92"/>
                      <a:pt x="1961" y="80"/>
                    </a:cubicBezTo>
                    <a:cubicBezTo>
                      <a:pt x="1963" y="73"/>
                      <a:pt x="1964" y="67"/>
                      <a:pt x="1964" y="61"/>
                    </a:cubicBezTo>
                    <a:cubicBezTo>
                      <a:pt x="1964" y="60"/>
                      <a:pt x="1964" y="60"/>
                      <a:pt x="1964" y="60"/>
                    </a:cubicBezTo>
                    <a:cubicBezTo>
                      <a:pt x="1955" y="75"/>
                      <a:pt x="1951" y="88"/>
                      <a:pt x="1949" y="102"/>
                    </a:cubicBezTo>
                    <a:cubicBezTo>
                      <a:pt x="1949" y="102"/>
                      <a:pt x="1949" y="101"/>
                      <a:pt x="1949" y="101"/>
                    </a:cubicBezTo>
                    <a:cubicBezTo>
                      <a:pt x="1950" y="68"/>
                      <a:pt x="1953" y="30"/>
                      <a:pt x="1953" y="30"/>
                    </a:cubicBezTo>
                    <a:cubicBezTo>
                      <a:pt x="1951" y="38"/>
                      <a:pt x="1948" y="60"/>
                      <a:pt x="1946" y="83"/>
                    </a:cubicBezTo>
                    <a:cubicBezTo>
                      <a:pt x="1943" y="87"/>
                      <a:pt x="1940" y="92"/>
                      <a:pt x="1938" y="97"/>
                    </a:cubicBezTo>
                    <a:cubicBezTo>
                      <a:pt x="1938" y="91"/>
                      <a:pt x="1937" y="85"/>
                      <a:pt x="1937" y="79"/>
                    </a:cubicBezTo>
                    <a:cubicBezTo>
                      <a:pt x="1937" y="78"/>
                      <a:pt x="1937" y="78"/>
                      <a:pt x="1938" y="78"/>
                    </a:cubicBezTo>
                    <a:cubicBezTo>
                      <a:pt x="1937" y="78"/>
                      <a:pt x="1937" y="78"/>
                      <a:pt x="1937" y="78"/>
                    </a:cubicBezTo>
                    <a:cubicBezTo>
                      <a:pt x="1935" y="58"/>
                      <a:pt x="1934" y="41"/>
                      <a:pt x="1934" y="41"/>
                    </a:cubicBezTo>
                    <a:cubicBezTo>
                      <a:pt x="1935" y="52"/>
                      <a:pt x="1935" y="67"/>
                      <a:pt x="1934" y="82"/>
                    </a:cubicBezTo>
                    <a:cubicBezTo>
                      <a:pt x="1932" y="84"/>
                      <a:pt x="1930" y="87"/>
                      <a:pt x="1928" y="92"/>
                    </a:cubicBezTo>
                    <a:cubicBezTo>
                      <a:pt x="1927" y="82"/>
                      <a:pt x="1928" y="72"/>
                      <a:pt x="1928" y="68"/>
                    </a:cubicBezTo>
                    <a:cubicBezTo>
                      <a:pt x="1927" y="77"/>
                      <a:pt x="1926" y="88"/>
                      <a:pt x="1924" y="99"/>
                    </a:cubicBezTo>
                    <a:cubicBezTo>
                      <a:pt x="1922" y="94"/>
                      <a:pt x="1921" y="89"/>
                      <a:pt x="1919" y="84"/>
                    </a:cubicBezTo>
                    <a:cubicBezTo>
                      <a:pt x="1921" y="90"/>
                      <a:pt x="1922" y="96"/>
                      <a:pt x="1923" y="101"/>
                    </a:cubicBezTo>
                    <a:cubicBezTo>
                      <a:pt x="1923" y="105"/>
                      <a:pt x="1922" y="109"/>
                      <a:pt x="1921" y="113"/>
                    </a:cubicBezTo>
                    <a:cubicBezTo>
                      <a:pt x="1921" y="110"/>
                      <a:pt x="1921" y="108"/>
                      <a:pt x="1921" y="105"/>
                    </a:cubicBezTo>
                    <a:cubicBezTo>
                      <a:pt x="1920" y="108"/>
                      <a:pt x="1920" y="115"/>
                      <a:pt x="1920" y="119"/>
                    </a:cubicBezTo>
                    <a:cubicBezTo>
                      <a:pt x="1919" y="120"/>
                      <a:pt x="1919" y="122"/>
                      <a:pt x="1919" y="124"/>
                    </a:cubicBezTo>
                    <a:cubicBezTo>
                      <a:pt x="1918" y="125"/>
                      <a:pt x="1918" y="127"/>
                      <a:pt x="1918" y="128"/>
                    </a:cubicBezTo>
                    <a:cubicBezTo>
                      <a:pt x="1917" y="124"/>
                      <a:pt x="1916" y="120"/>
                      <a:pt x="1915" y="116"/>
                    </a:cubicBezTo>
                    <a:cubicBezTo>
                      <a:pt x="1916" y="108"/>
                      <a:pt x="1917" y="100"/>
                      <a:pt x="1917" y="94"/>
                    </a:cubicBezTo>
                    <a:cubicBezTo>
                      <a:pt x="1918" y="92"/>
                      <a:pt x="1918" y="91"/>
                      <a:pt x="1919" y="89"/>
                    </a:cubicBezTo>
                    <a:cubicBezTo>
                      <a:pt x="1918" y="90"/>
                      <a:pt x="1918" y="91"/>
                      <a:pt x="1917" y="92"/>
                    </a:cubicBezTo>
                    <a:cubicBezTo>
                      <a:pt x="1918" y="87"/>
                      <a:pt x="1918" y="83"/>
                      <a:pt x="1918" y="83"/>
                    </a:cubicBezTo>
                    <a:cubicBezTo>
                      <a:pt x="1918" y="85"/>
                      <a:pt x="1917" y="89"/>
                      <a:pt x="1916" y="93"/>
                    </a:cubicBezTo>
                    <a:cubicBezTo>
                      <a:pt x="1915" y="96"/>
                      <a:pt x="1913" y="99"/>
                      <a:pt x="1912" y="102"/>
                    </a:cubicBezTo>
                    <a:cubicBezTo>
                      <a:pt x="1911" y="101"/>
                      <a:pt x="1911" y="100"/>
                      <a:pt x="1911" y="99"/>
                    </a:cubicBezTo>
                    <a:cubicBezTo>
                      <a:pt x="1913" y="80"/>
                      <a:pt x="1915" y="62"/>
                      <a:pt x="1915" y="62"/>
                    </a:cubicBezTo>
                    <a:cubicBezTo>
                      <a:pt x="1913" y="66"/>
                      <a:pt x="1911" y="80"/>
                      <a:pt x="1909" y="95"/>
                    </a:cubicBezTo>
                    <a:cubicBezTo>
                      <a:pt x="1909" y="94"/>
                      <a:pt x="1908" y="92"/>
                      <a:pt x="1907" y="90"/>
                    </a:cubicBezTo>
                    <a:cubicBezTo>
                      <a:pt x="1908" y="92"/>
                      <a:pt x="1909" y="94"/>
                      <a:pt x="1909" y="96"/>
                    </a:cubicBezTo>
                    <a:cubicBezTo>
                      <a:pt x="1909" y="101"/>
                      <a:pt x="1908" y="106"/>
                      <a:pt x="1908" y="110"/>
                    </a:cubicBezTo>
                    <a:cubicBezTo>
                      <a:pt x="1907" y="113"/>
                      <a:pt x="1906" y="116"/>
                      <a:pt x="1905" y="118"/>
                    </a:cubicBezTo>
                    <a:cubicBezTo>
                      <a:pt x="1903" y="94"/>
                      <a:pt x="1898" y="64"/>
                      <a:pt x="1898" y="64"/>
                    </a:cubicBezTo>
                    <a:cubicBezTo>
                      <a:pt x="1898" y="64"/>
                      <a:pt x="1898" y="73"/>
                      <a:pt x="1899" y="82"/>
                    </a:cubicBezTo>
                    <a:cubicBezTo>
                      <a:pt x="1900" y="88"/>
                      <a:pt x="1899" y="98"/>
                      <a:pt x="1897" y="108"/>
                    </a:cubicBezTo>
                    <a:cubicBezTo>
                      <a:pt x="1896" y="111"/>
                      <a:pt x="1895" y="114"/>
                      <a:pt x="1894" y="117"/>
                    </a:cubicBezTo>
                    <a:cubicBezTo>
                      <a:pt x="1894" y="108"/>
                      <a:pt x="1893" y="99"/>
                      <a:pt x="1891" y="90"/>
                    </a:cubicBezTo>
                    <a:cubicBezTo>
                      <a:pt x="1894" y="78"/>
                      <a:pt x="1899" y="66"/>
                      <a:pt x="1898" y="56"/>
                    </a:cubicBezTo>
                    <a:cubicBezTo>
                      <a:pt x="1895" y="62"/>
                      <a:pt x="1892" y="67"/>
                      <a:pt x="1890" y="72"/>
                    </a:cubicBezTo>
                    <a:cubicBezTo>
                      <a:pt x="1893" y="34"/>
                      <a:pt x="1886" y="19"/>
                      <a:pt x="1886" y="19"/>
                    </a:cubicBezTo>
                    <a:cubicBezTo>
                      <a:pt x="1886" y="19"/>
                      <a:pt x="1889" y="31"/>
                      <a:pt x="1888" y="54"/>
                    </a:cubicBezTo>
                    <a:cubicBezTo>
                      <a:pt x="1887" y="61"/>
                      <a:pt x="1886" y="74"/>
                      <a:pt x="1885" y="88"/>
                    </a:cubicBezTo>
                    <a:cubicBezTo>
                      <a:pt x="1883" y="92"/>
                      <a:pt x="1882" y="97"/>
                      <a:pt x="1882" y="101"/>
                    </a:cubicBezTo>
                    <a:cubicBezTo>
                      <a:pt x="1881" y="98"/>
                      <a:pt x="1880" y="95"/>
                      <a:pt x="1878" y="91"/>
                    </a:cubicBezTo>
                    <a:cubicBezTo>
                      <a:pt x="1879" y="89"/>
                      <a:pt x="1879" y="87"/>
                      <a:pt x="1880" y="85"/>
                    </a:cubicBezTo>
                    <a:cubicBezTo>
                      <a:pt x="1879" y="87"/>
                      <a:pt x="1879" y="88"/>
                      <a:pt x="1878" y="90"/>
                    </a:cubicBezTo>
                    <a:cubicBezTo>
                      <a:pt x="1878" y="89"/>
                      <a:pt x="1877" y="88"/>
                      <a:pt x="1877" y="87"/>
                    </a:cubicBezTo>
                    <a:cubicBezTo>
                      <a:pt x="1877" y="83"/>
                      <a:pt x="1877" y="78"/>
                      <a:pt x="1877" y="74"/>
                    </a:cubicBezTo>
                    <a:cubicBezTo>
                      <a:pt x="1877" y="46"/>
                      <a:pt x="1867" y="40"/>
                      <a:pt x="1867" y="40"/>
                    </a:cubicBezTo>
                    <a:cubicBezTo>
                      <a:pt x="1867" y="40"/>
                      <a:pt x="1873" y="44"/>
                      <a:pt x="1873" y="70"/>
                    </a:cubicBezTo>
                    <a:cubicBezTo>
                      <a:pt x="1873" y="84"/>
                      <a:pt x="1868" y="108"/>
                      <a:pt x="1863" y="125"/>
                    </a:cubicBezTo>
                    <a:cubicBezTo>
                      <a:pt x="1863" y="123"/>
                      <a:pt x="1863" y="120"/>
                      <a:pt x="1862" y="118"/>
                    </a:cubicBezTo>
                    <a:cubicBezTo>
                      <a:pt x="1863" y="111"/>
                      <a:pt x="1864" y="105"/>
                      <a:pt x="1864" y="98"/>
                    </a:cubicBezTo>
                    <a:cubicBezTo>
                      <a:pt x="1863" y="101"/>
                      <a:pt x="1862" y="104"/>
                      <a:pt x="1862" y="107"/>
                    </a:cubicBezTo>
                    <a:cubicBezTo>
                      <a:pt x="1862" y="107"/>
                      <a:pt x="1862" y="106"/>
                      <a:pt x="1862" y="106"/>
                    </a:cubicBezTo>
                    <a:cubicBezTo>
                      <a:pt x="1862" y="97"/>
                      <a:pt x="1863" y="83"/>
                      <a:pt x="1869" y="75"/>
                    </a:cubicBezTo>
                    <a:cubicBezTo>
                      <a:pt x="1866" y="77"/>
                      <a:pt x="1863" y="82"/>
                      <a:pt x="1861" y="87"/>
                    </a:cubicBezTo>
                    <a:cubicBezTo>
                      <a:pt x="1862" y="78"/>
                      <a:pt x="1862" y="71"/>
                      <a:pt x="1862" y="71"/>
                    </a:cubicBezTo>
                    <a:cubicBezTo>
                      <a:pt x="1861" y="75"/>
                      <a:pt x="1858" y="97"/>
                      <a:pt x="1854" y="116"/>
                    </a:cubicBezTo>
                    <a:cubicBezTo>
                      <a:pt x="1854" y="114"/>
                      <a:pt x="1854" y="112"/>
                      <a:pt x="1853" y="110"/>
                    </a:cubicBezTo>
                    <a:cubicBezTo>
                      <a:pt x="1854" y="99"/>
                      <a:pt x="1855" y="87"/>
                      <a:pt x="1856" y="78"/>
                    </a:cubicBezTo>
                    <a:cubicBezTo>
                      <a:pt x="1858" y="71"/>
                      <a:pt x="1860" y="63"/>
                      <a:pt x="1862" y="55"/>
                    </a:cubicBezTo>
                    <a:cubicBezTo>
                      <a:pt x="1862" y="54"/>
                      <a:pt x="1862" y="52"/>
                      <a:pt x="1862" y="51"/>
                    </a:cubicBezTo>
                    <a:cubicBezTo>
                      <a:pt x="1860" y="54"/>
                      <a:pt x="1859" y="57"/>
                      <a:pt x="1858" y="60"/>
                    </a:cubicBezTo>
                    <a:cubicBezTo>
                      <a:pt x="1858" y="60"/>
                      <a:pt x="1858" y="59"/>
                      <a:pt x="1858" y="59"/>
                    </a:cubicBezTo>
                    <a:cubicBezTo>
                      <a:pt x="1858" y="60"/>
                      <a:pt x="1858" y="60"/>
                      <a:pt x="1858" y="60"/>
                    </a:cubicBezTo>
                    <a:cubicBezTo>
                      <a:pt x="1854" y="70"/>
                      <a:pt x="1851" y="80"/>
                      <a:pt x="1848" y="89"/>
                    </a:cubicBezTo>
                    <a:cubicBezTo>
                      <a:pt x="1854" y="30"/>
                      <a:pt x="1851" y="15"/>
                      <a:pt x="1850" y="13"/>
                    </a:cubicBezTo>
                    <a:cubicBezTo>
                      <a:pt x="1850" y="15"/>
                      <a:pt x="1851" y="22"/>
                      <a:pt x="1847" y="56"/>
                    </a:cubicBezTo>
                    <a:cubicBezTo>
                      <a:pt x="1845" y="68"/>
                      <a:pt x="1844" y="80"/>
                      <a:pt x="1842" y="91"/>
                    </a:cubicBezTo>
                    <a:cubicBezTo>
                      <a:pt x="1841" y="85"/>
                      <a:pt x="1839" y="79"/>
                      <a:pt x="1837" y="74"/>
                    </a:cubicBezTo>
                    <a:cubicBezTo>
                      <a:pt x="1838" y="51"/>
                      <a:pt x="1839" y="31"/>
                      <a:pt x="1839" y="31"/>
                    </a:cubicBezTo>
                    <a:cubicBezTo>
                      <a:pt x="1837" y="38"/>
                      <a:pt x="1835" y="53"/>
                      <a:pt x="1834" y="69"/>
                    </a:cubicBezTo>
                    <a:cubicBezTo>
                      <a:pt x="1833" y="68"/>
                      <a:pt x="1832" y="67"/>
                      <a:pt x="1831" y="65"/>
                    </a:cubicBezTo>
                    <a:cubicBezTo>
                      <a:pt x="1832" y="67"/>
                      <a:pt x="1833" y="69"/>
                      <a:pt x="1834" y="71"/>
                    </a:cubicBezTo>
                    <a:cubicBezTo>
                      <a:pt x="1834" y="71"/>
                      <a:pt x="1834" y="72"/>
                      <a:pt x="1834" y="73"/>
                    </a:cubicBezTo>
                    <a:cubicBezTo>
                      <a:pt x="1831" y="77"/>
                      <a:pt x="1828" y="81"/>
                      <a:pt x="1826" y="86"/>
                    </a:cubicBezTo>
                    <a:cubicBezTo>
                      <a:pt x="1825" y="85"/>
                      <a:pt x="1825" y="84"/>
                      <a:pt x="1824" y="83"/>
                    </a:cubicBezTo>
                    <a:cubicBezTo>
                      <a:pt x="1822" y="61"/>
                      <a:pt x="1819" y="38"/>
                      <a:pt x="1816" y="28"/>
                    </a:cubicBezTo>
                    <a:cubicBezTo>
                      <a:pt x="1816" y="28"/>
                      <a:pt x="1820" y="54"/>
                      <a:pt x="1823" y="83"/>
                    </a:cubicBezTo>
                    <a:cubicBezTo>
                      <a:pt x="1822" y="82"/>
                      <a:pt x="1821" y="81"/>
                      <a:pt x="1820" y="80"/>
                    </a:cubicBezTo>
                    <a:cubicBezTo>
                      <a:pt x="1822" y="81"/>
                      <a:pt x="1823" y="82"/>
                      <a:pt x="1824" y="84"/>
                    </a:cubicBezTo>
                    <a:cubicBezTo>
                      <a:pt x="1824" y="85"/>
                      <a:pt x="1824" y="86"/>
                      <a:pt x="1824" y="88"/>
                    </a:cubicBezTo>
                    <a:cubicBezTo>
                      <a:pt x="1824" y="86"/>
                      <a:pt x="1824" y="85"/>
                      <a:pt x="1824" y="84"/>
                    </a:cubicBezTo>
                    <a:cubicBezTo>
                      <a:pt x="1824" y="85"/>
                      <a:pt x="1825" y="86"/>
                      <a:pt x="1826" y="87"/>
                    </a:cubicBezTo>
                    <a:cubicBezTo>
                      <a:pt x="1825" y="88"/>
                      <a:pt x="1825" y="89"/>
                      <a:pt x="1824" y="90"/>
                    </a:cubicBezTo>
                    <a:cubicBezTo>
                      <a:pt x="1824" y="88"/>
                      <a:pt x="1824" y="88"/>
                      <a:pt x="1824" y="88"/>
                    </a:cubicBezTo>
                    <a:cubicBezTo>
                      <a:pt x="1824" y="88"/>
                      <a:pt x="1824" y="89"/>
                      <a:pt x="1824" y="90"/>
                    </a:cubicBezTo>
                    <a:cubicBezTo>
                      <a:pt x="1822" y="95"/>
                      <a:pt x="1821" y="100"/>
                      <a:pt x="1819" y="105"/>
                    </a:cubicBezTo>
                    <a:cubicBezTo>
                      <a:pt x="1819" y="105"/>
                      <a:pt x="1819" y="105"/>
                      <a:pt x="1819" y="105"/>
                    </a:cubicBezTo>
                    <a:cubicBezTo>
                      <a:pt x="1819" y="104"/>
                      <a:pt x="1819" y="104"/>
                      <a:pt x="1819" y="103"/>
                    </a:cubicBezTo>
                    <a:cubicBezTo>
                      <a:pt x="1819" y="104"/>
                      <a:pt x="1819" y="104"/>
                      <a:pt x="1819" y="105"/>
                    </a:cubicBezTo>
                    <a:cubicBezTo>
                      <a:pt x="1816" y="95"/>
                      <a:pt x="1814" y="87"/>
                      <a:pt x="1812" y="81"/>
                    </a:cubicBezTo>
                    <a:cubicBezTo>
                      <a:pt x="1813" y="85"/>
                      <a:pt x="1814" y="90"/>
                      <a:pt x="1815" y="95"/>
                    </a:cubicBezTo>
                    <a:cubicBezTo>
                      <a:pt x="1815" y="100"/>
                      <a:pt x="1814" y="104"/>
                      <a:pt x="1813" y="109"/>
                    </a:cubicBezTo>
                    <a:cubicBezTo>
                      <a:pt x="1814" y="104"/>
                      <a:pt x="1815" y="100"/>
                      <a:pt x="1815" y="95"/>
                    </a:cubicBezTo>
                    <a:cubicBezTo>
                      <a:pt x="1816" y="100"/>
                      <a:pt x="1817" y="105"/>
                      <a:pt x="1818" y="110"/>
                    </a:cubicBezTo>
                    <a:cubicBezTo>
                      <a:pt x="1818" y="110"/>
                      <a:pt x="1818" y="111"/>
                      <a:pt x="1818" y="111"/>
                    </a:cubicBezTo>
                    <a:cubicBezTo>
                      <a:pt x="1817" y="116"/>
                      <a:pt x="1815" y="122"/>
                      <a:pt x="1812" y="127"/>
                    </a:cubicBezTo>
                    <a:cubicBezTo>
                      <a:pt x="1812" y="125"/>
                      <a:pt x="1811" y="123"/>
                      <a:pt x="1811" y="120"/>
                    </a:cubicBezTo>
                    <a:cubicBezTo>
                      <a:pt x="1812" y="117"/>
                      <a:pt x="1813" y="113"/>
                      <a:pt x="1813" y="109"/>
                    </a:cubicBezTo>
                    <a:cubicBezTo>
                      <a:pt x="1813" y="112"/>
                      <a:pt x="1812" y="116"/>
                      <a:pt x="1811" y="119"/>
                    </a:cubicBezTo>
                    <a:cubicBezTo>
                      <a:pt x="1809" y="111"/>
                      <a:pt x="1807" y="103"/>
                      <a:pt x="1807" y="95"/>
                    </a:cubicBezTo>
                    <a:cubicBezTo>
                      <a:pt x="1807" y="96"/>
                      <a:pt x="1807" y="96"/>
                      <a:pt x="1807" y="96"/>
                    </a:cubicBezTo>
                    <a:cubicBezTo>
                      <a:pt x="1807" y="98"/>
                      <a:pt x="1807" y="98"/>
                      <a:pt x="1807" y="98"/>
                    </a:cubicBezTo>
                    <a:cubicBezTo>
                      <a:pt x="1807" y="97"/>
                      <a:pt x="1807" y="96"/>
                      <a:pt x="1807" y="95"/>
                    </a:cubicBezTo>
                    <a:cubicBezTo>
                      <a:pt x="1807" y="84"/>
                      <a:pt x="1805" y="69"/>
                      <a:pt x="1799" y="60"/>
                    </a:cubicBezTo>
                    <a:cubicBezTo>
                      <a:pt x="1803" y="70"/>
                      <a:pt x="1805" y="82"/>
                      <a:pt x="1805" y="93"/>
                    </a:cubicBezTo>
                    <a:cubicBezTo>
                      <a:pt x="1805" y="101"/>
                      <a:pt x="1803" y="109"/>
                      <a:pt x="1801" y="116"/>
                    </a:cubicBezTo>
                    <a:cubicBezTo>
                      <a:pt x="1799" y="115"/>
                      <a:pt x="1799" y="117"/>
                      <a:pt x="1800" y="120"/>
                    </a:cubicBezTo>
                    <a:cubicBezTo>
                      <a:pt x="1800" y="121"/>
                      <a:pt x="1799" y="121"/>
                      <a:pt x="1799" y="122"/>
                    </a:cubicBezTo>
                    <a:cubicBezTo>
                      <a:pt x="1798" y="119"/>
                      <a:pt x="1797" y="115"/>
                      <a:pt x="1796" y="112"/>
                    </a:cubicBezTo>
                    <a:cubicBezTo>
                      <a:pt x="1797" y="107"/>
                      <a:pt x="1797" y="103"/>
                      <a:pt x="1797" y="98"/>
                    </a:cubicBezTo>
                    <a:cubicBezTo>
                      <a:pt x="1797" y="90"/>
                      <a:pt x="1796" y="82"/>
                      <a:pt x="1794" y="74"/>
                    </a:cubicBezTo>
                    <a:cubicBezTo>
                      <a:pt x="1793" y="83"/>
                      <a:pt x="1793" y="93"/>
                      <a:pt x="1793" y="102"/>
                    </a:cubicBezTo>
                    <a:cubicBezTo>
                      <a:pt x="1790" y="94"/>
                      <a:pt x="1787" y="86"/>
                      <a:pt x="1785" y="81"/>
                    </a:cubicBezTo>
                    <a:cubicBezTo>
                      <a:pt x="1785" y="86"/>
                      <a:pt x="1785" y="86"/>
                      <a:pt x="1785" y="86"/>
                    </a:cubicBezTo>
                    <a:cubicBezTo>
                      <a:pt x="1785" y="97"/>
                      <a:pt x="1788" y="108"/>
                      <a:pt x="1792" y="118"/>
                    </a:cubicBezTo>
                    <a:cubicBezTo>
                      <a:pt x="1791" y="119"/>
                      <a:pt x="1791" y="120"/>
                      <a:pt x="1791" y="121"/>
                    </a:cubicBezTo>
                    <a:cubicBezTo>
                      <a:pt x="1791" y="123"/>
                      <a:pt x="1790" y="126"/>
                      <a:pt x="1789" y="128"/>
                    </a:cubicBezTo>
                    <a:cubicBezTo>
                      <a:pt x="1786" y="121"/>
                      <a:pt x="1784" y="113"/>
                      <a:pt x="1782" y="106"/>
                    </a:cubicBezTo>
                    <a:cubicBezTo>
                      <a:pt x="1782" y="101"/>
                      <a:pt x="1781" y="96"/>
                      <a:pt x="1780" y="92"/>
                    </a:cubicBezTo>
                    <a:cubicBezTo>
                      <a:pt x="1780" y="91"/>
                      <a:pt x="1780" y="90"/>
                      <a:pt x="1780" y="89"/>
                    </a:cubicBezTo>
                    <a:cubicBezTo>
                      <a:pt x="1780" y="90"/>
                      <a:pt x="1780" y="90"/>
                      <a:pt x="1780" y="91"/>
                    </a:cubicBezTo>
                    <a:cubicBezTo>
                      <a:pt x="1779" y="85"/>
                      <a:pt x="1777" y="79"/>
                      <a:pt x="1774" y="73"/>
                    </a:cubicBezTo>
                    <a:cubicBezTo>
                      <a:pt x="1774" y="73"/>
                      <a:pt x="1774" y="72"/>
                      <a:pt x="1774" y="71"/>
                    </a:cubicBezTo>
                    <a:cubicBezTo>
                      <a:pt x="1774" y="71"/>
                      <a:pt x="1773" y="72"/>
                      <a:pt x="1773" y="73"/>
                    </a:cubicBezTo>
                    <a:cubicBezTo>
                      <a:pt x="1773" y="72"/>
                      <a:pt x="1773" y="71"/>
                      <a:pt x="1772" y="71"/>
                    </a:cubicBezTo>
                    <a:cubicBezTo>
                      <a:pt x="1772" y="72"/>
                      <a:pt x="1773" y="73"/>
                      <a:pt x="1773" y="73"/>
                    </a:cubicBezTo>
                    <a:cubicBezTo>
                      <a:pt x="1770" y="79"/>
                      <a:pt x="1768" y="85"/>
                      <a:pt x="1766" y="91"/>
                    </a:cubicBezTo>
                    <a:cubicBezTo>
                      <a:pt x="1766" y="90"/>
                      <a:pt x="1766" y="90"/>
                      <a:pt x="1766" y="89"/>
                    </a:cubicBezTo>
                    <a:cubicBezTo>
                      <a:pt x="1766" y="90"/>
                      <a:pt x="1766" y="91"/>
                      <a:pt x="1766" y="92"/>
                    </a:cubicBezTo>
                    <a:cubicBezTo>
                      <a:pt x="1765" y="96"/>
                      <a:pt x="1765" y="101"/>
                      <a:pt x="1764" y="106"/>
                    </a:cubicBezTo>
                    <a:cubicBezTo>
                      <a:pt x="1763" y="113"/>
                      <a:pt x="1760" y="121"/>
                      <a:pt x="1757" y="128"/>
                    </a:cubicBezTo>
                    <a:cubicBezTo>
                      <a:pt x="1756" y="126"/>
                      <a:pt x="1756" y="123"/>
                      <a:pt x="1755" y="121"/>
                    </a:cubicBezTo>
                    <a:cubicBezTo>
                      <a:pt x="1755" y="120"/>
                      <a:pt x="1755" y="119"/>
                      <a:pt x="1755" y="118"/>
                    </a:cubicBezTo>
                    <a:cubicBezTo>
                      <a:pt x="1758" y="108"/>
                      <a:pt x="1761" y="97"/>
                      <a:pt x="1761" y="86"/>
                    </a:cubicBezTo>
                    <a:cubicBezTo>
                      <a:pt x="1761" y="81"/>
                      <a:pt x="1761" y="81"/>
                      <a:pt x="1761" y="81"/>
                    </a:cubicBezTo>
                    <a:cubicBezTo>
                      <a:pt x="1759" y="86"/>
                      <a:pt x="1756" y="94"/>
                      <a:pt x="1753" y="102"/>
                    </a:cubicBezTo>
                    <a:cubicBezTo>
                      <a:pt x="1753" y="93"/>
                      <a:pt x="1754" y="83"/>
                      <a:pt x="1752" y="74"/>
                    </a:cubicBezTo>
                    <a:cubicBezTo>
                      <a:pt x="1750" y="82"/>
                      <a:pt x="1749" y="90"/>
                      <a:pt x="1749" y="98"/>
                    </a:cubicBezTo>
                    <a:cubicBezTo>
                      <a:pt x="1749" y="103"/>
                      <a:pt x="1750" y="107"/>
                      <a:pt x="1750" y="112"/>
                    </a:cubicBezTo>
                    <a:cubicBezTo>
                      <a:pt x="1749" y="115"/>
                      <a:pt x="1748" y="119"/>
                      <a:pt x="1747" y="122"/>
                    </a:cubicBezTo>
                    <a:cubicBezTo>
                      <a:pt x="1744" y="112"/>
                      <a:pt x="1741" y="103"/>
                      <a:pt x="1741" y="93"/>
                    </a:cubicBezTo>
                    <a:cubicBezTo>
                      <a:pt x="1741" y="82"/>
                      <a:pt x="1743" y="70"/>
                      <a:pt x="1747" y="60"/>
                    </a:cubicBezTo>
                    <a:cubicBezTo>
                      <a:pt x="1742" y="69"/>
                      <a:pt x="1740" y="84"/>
                      <a:pt x="1740" y="95"/>
                    </a:cubicBezTo>
                    <a:cubicBezTo>
                      <a:pt x="1740" y="96"/>
                      <a:pt x="1740" y="97"/>
                      <a:pt x="1740" y="98"/>
                    </a:cubicBezTo>
                    <a:cubicBezTo>
                      <a:pt x="1739" y="96"/>
                      <a:pt x="1739" y="96"/>
                      <a:pt x="1739" y="96"/>
                    </a:cubicBezTo>
                    <a:cubicBezTo>
                      <a:pt x="1739" y="95"/>
                      <a:pt x="1739" y="95"/>
                      <a:pt x="1739" y="95"/>
                    </a:cubicBezTo>
                    <a:cubicBezTo>
                      <a:pt x="1739" y="103"/>
                      <a:pt x="1738" y="111"/>
                      <a:pt x="1736" y="119"/>
                    </a:cubicBezTo>
                    <a:cubicBezTo>
                      <a:pt x="1735" y="116"/>
                      <a:pt x="1734" y="112"/>
                      <a:pt x="1733" y="109"/>
                    </a:cubicBezTo>
                    <a:cubicBezTo>
                      <a:pt x="1734" y="113"/>
                      <a:pt x="1735" y="117"/>
                      <a:pt x="1735" y="120"/>
                    </a:cubicBezTo>
                    <a:cubicBezTo>
                      <a:pt x="1735" y="123"/>
                      <a:pt x="1734" y="125"/>
                      <a:pt x="1734" y="127"/>
                    </a:cubicBezTo>
                    <a:cubicBezTo>
                      <a:pt x="1732" y="122"/>
                      <a:pt x="1730" y="116"/>
                      <a:pt x="1728" y="111"/>
                    </a:cubicBezTo>
                    <a:cubicBezTo>
                      <a:pt x="1728" y="109"/>
                      <a:pt x="1728" y="108"/>
                      <a:pt x="1727" y="107"/>
                    </a:cubicBezTo>
                    <a:cubicBezTo>
                      <a:pt x="1727" y="106"/>
                      <a:pt x="1727" y="104"/>
                      <a:pt x="1727" y="103"/>
                    </a:cubicBezTo>
                    <a:cubicBezTo>
                      <a:pt x="1727" y="104"/>
                      <a:pt x="1727" y="105"/>
                      <a:pt x="1727" y="105"/>
                    </a:cubicBezTo>
                    <a:cubicBezTo>
                      <a:pt x="1726" y="99"/>
                      <a:pt x="1724" y="93"/>
                      <a:pt x="1721" y="87"/>
                    </a:cubicBezTo>
                    <a:cubicBezTo>
                      <a:pt x="1722" y="84"/>
                      <a:pt x="1724" y="82"/>
                      <a:pt x="1726" y="80"/>
                    </a:cubicBezTo>
                    <a:cubicBezTo>
                      <a:pt x="1724" y="82"/>
                      <a:pt x="1722" y="84"/>
                      <a:pt x="1720" y="86"/>
                    </a:cubicBezTo>
                    <a:cubicBezTo>
                      <a:pt x="1718" y="81"/>
                      <a:pt x="1715" y="77"/>
                      <a:pt x="1712" y="73"/>
                    </a:cubicBezTo>
                    <a:cubicBezTo>
                      <a:pt x="1715" y="77"/>
                      <a:pt x="1717" y="83"/>
                      <a:pt x="1718" y="90"/>
                    </a:cubicBezTo>
                    <a:cubicBezTo>
                      <a:pt x="1716" y="94"/>
                      <a:pt x="1714" y="99"/>
                      <a:pt x="1714" y="103"/>
                    </a:cubicBezTo>
                    <a:cubicBezTo>
                      <a:pt x="1712" y="97"/>
                      <a:pt x="1710" y="91"/>
                      <a:pt x="1708" y="85"/>
                    </a:cubicBezTo>
                    <a:cubicBezTo>
                      <a:pt x="1710" y="91"/>
                      <a:pt x="1710" y="97"/>
                      <a:pt x="1710" y="103"/>
                    </a:cubicBezTo>
                    <a:cubicBezTo>
                      <a:pt x="1710" y="108"/>
                      <a:pt x="1709" y="114"/>
                      <a:pt x="1709" y="119"/>
                    </a:cubicBezTo>
                    <a:cubicBezTo>
                      <a:pt x="1707" y="111"/>
                      <a:pt x="1706" y="104"/>
                      <a:pt x="1706" y="96"/>
                    </a:cubicBezTo>
                    <a:cubicBezTo>
                      <a:pt x="1706" y="87"/>
                      <a:pt x="1710" y="73"/>
                      <a:pt x="1715" y="65"/>
                    </a:cubicBezTo>
                    <a:cubicBezTo>
                      <a:pt x="1706" y="76"/>
                      <a:pt x="1702" y="96"/>
                      <a:pt x="1702" y="108"/>
                    </a:cubicBezTo>
                    <a:cubicBezTo>
                      <a:pt x="1702" y="119"/>
                      <a:pt x="1705" y="130"/>
                      <a:pt x="1705" y="141"/>
                    </a:cubicBezTo>
                    <a:cubicBezTo>
                      <a:pt x="1705" y="146"/>
                      <a:pt x="1705" y="150"/>
                      <a:pt x="1704" y="154"/>
                    </a:cubicBezTo>
                    <a:cubicBezTo>
                      <a:pt x="1698" y="135"/>
                      <a:pt x="1703" y="113"/>
                      <a:pt x="1699" y="93"/>
                    </a:cubicBezTo>
                    <a:cubicBezTo>
                      <a:pt x="1696" y="79"/>
                      <a:pt x="1691" y="64"/>
                      <a:pt x="1685" y="51"/>
                    </a:cubicBezTo>
                    <a:cubicBezTo>
                      <a:pt x="1684" y="52"/>
                      <a:pt x="1684" y="54"/>
                      <a:pt x="1684" y="55"/>
                    </a:cubicBezTo>
                    <a:cubicBezTo>
                      <a:pt x="1691" y="76"/>
                      <a:pt x="1693" y="92"/>
                      <a:pt x="1694" y="105"/>
                    </a:cubicBezTo>
                    <a:cubicBezTo>
                      <a:pt x="1693" y="109"/>
                      <a:pt x="1692" y="114"/>
                      <a:pt x="1692" y="118"/>
                    </a:cubicBezTo>
                    <a:cubicBezTo>
                      <a:pt x="1690" y="101"/>
                      <a:pt x="1686" y="82"/>
                      <a:pt x="1677" y="75"/>
                    </a:cubicBezTo>
                    <a:cubicBezTo>
                      <a:pt x="1683" y="83"/>
                      <a:pt x="1685" y="97"/>
                      <a:pt x="1685" y="106"/>
                    </a:cubicBezTo>
                    <a:cubicBezTo>
                      <a:pt x="1685" y="106"/>
                      <a:pt x="1685" y="107"/>
                      <a:pt x="1685" y="107"/>
                    </a:cubicBezTo>
                    <a:cubicBezTo>
                      <a:pt x="1684" y="104"/>
                      <a:pt x="1683" y="101"/>
                      <a:pt x="1683" y="98"/>
                    </a:cubicBezTo>
                    <a:cubicBezTo>
                      <a:pt x="1683" y="105"/>
                      <a:pt x="1683" y="111"/>
                      <a:pt x="1684" y="118"/>
                    </a:cubicBezTo>
                    <a:cubicBezTo>
                      <a:pt x="1684" y="122"/>
                      <a:pt x="1683" y="126"/>
                      <a:pt x="1682" y="130"/>
                    </a:cubicBezTo>
                    <a:cubicBezTo>
                      <a:pt x="1681" y="124"/>
                      <a:pt x="1679" y="118"/>
                      <a:pt x="1678" y="113"/>
                    </a:cubicBezTo>
                    <a:cubicBezTo>
                      <a:pt x="1679" y="121"/>
                      <a:pt x="1681" y="128"/>
                      <a:pt x="1681" y="136"/>
                    </a:cubicBezTo>
                    <a:cubicBezTo>
                      <a:pt x="1680" y="140"/>
                      <a:pt x="1679" y="144"/>
                      <a:pt x="1679" y="148"/>
                    </a:cubicBezTo>
                    <a:cubicBezTo>
                      <a:pt x="1679" y="147"/>
                      <a:pt x="1678" y="147"/>
                      <a:pt x="1678" y="146"/>
                    </a:cubicBezTo>
                    <a:cubicBezTo>
                      <a:pt x="1679" y="129"/>
                      <a:pt x="1676" y="106"/>
                      <a:pt x="1669" y="91"/>
                    </a:cubicBezTo>
                    <a:cubicBezTo>
                      <a:pt x="1670" y="88"/>
                      <a:pt x="1670" y="85"/>
                      <a:pt x="1672" y="83"/>
                    </a:cubicBezTo>
                    <a:cubicBezTo>
                      <a:pt x="1670" y="85"/>
                      <a:pt x="1669" y="88"/>
                      <a:pt x="1668" y="90"/>
                    </a:cubicBezTo>
                    <a:cubicBezTo>
                      <a:pt x="1668" y="88"/>
                      <a:pt x="1667" y="87"/>
                      <a:pt x="1666" y="85"/>
                    </a:cubicBezTo>
                    <a:cubicBezTo>
                      <a:pt x="1667" y="87"/>
                      <a:pt x="1668" y="89"/>
                      <a:pt x="1668" y="91"/>
                    </a:cubicBezTo>
                    <a:cubicBezTo>
                      <a:pt x="1667" y="95"/>
                      <a:pt x="1666" y="98"/>
                      <a:pt x="1665" y="101"/>
                    </a:cubicBezTo>
                    <a:cubicBezTo>
                      <a:pt x="1664" y="94"/>
                      <a:pt x="1662" y="87"/>
                      <a:pt x="1659" y="79"/>
                    </a:cubicBezTo>
                    <a:cubicBezTo>
                      <a:pt x="1659" y="78"/>
                      <a:pt x="1659" y="76"/>
                      <a:pt x="1659" y="75"/>
                    </a:cubicBezTo>
                    <a:cubicBezTo>
                      <a:pt x="1659" y="76"/>
                      <a:pt x="1659" y="77"/>
                      <a:pt x="1658" y="78"/>
                    </a:cubicBezTo>
                    <a:cubicBezTo>
                      <a:pt x="1656" y="71"/>
                      <a:pt x="1653" y="64"/>
                      <a:pt x="1648" y="56"/>
                    </a:cubicBezTo>
                    <a:cubicBezTo>
                      <a:pt x="1648" y="66"/>
                      <a:pt x="1652" y="78"/>
                      <a:pt x="1655" y="90"/>
                    </a:cubicBezTo>
                    <a:cubicBezTo>
                      <a:pt x="1653" y="99"/>
                      <a:pt x="1653" y="108"/>
                      <a:pt x="1652" y="117"/>
                    </a:cubicBezTo>
                    <a:cubicBezTo>
                      <a:pt x="1651" y="112"/>
                      <a:pt x="1649" y="107"/>
                      <a:pt x="1648" y="103"/>
                    </a:cubicBezTo>
                    <a:cubicBezTo>
                      <a:pt x="1650" y="109"/>
                      <a:pt x="1648" y="132"/>
                      <a:pt x="1648" y="140"/>
                    </a:cubicBezTo>
                    <a:cubicBezTo>
                      <a:pt x="1648" y="144"/>
                      <a:pt x="1648" y="147"/>
                      <a:pt x="1648" y="151"/>
                    </a:cubicBezTo>
                    <a:cubicBezTo>
                      <a:pt x="1648" y="151"/>
                      <a:pt x="1648" y="151"/>
                      <a:pt x="1648" y="151"/>
                    </a:cubicBezTo>
                    <a:cubicBezTo>
                      <a:pt x="1648" y="144"/>
                      <a:pt x="1647" y="137"/>
                      <a:pt x="1645" y="129"/>
                    </a:cubicBezTo>
                    <a:cubicBezTo>
                      <a:pt x="1643" y="119"/>
                      <a:pt x="1642" y="110"/>
                      <a:pt x="1643" y="100"/>
                    </a:cubicBezTo>
                    <a:cubicBezTo>
                      <a:pt x="1642" y="107"/>
                      <a:pt x="1642" y="113"/>
                      <a:pt x="1642" y="119"/>
                    </a:cubicBezTo>
                    <a:cubicBezTo>
                      <a:pt x="1640" y="114"/>
                      <a:pt x="1638" y="108"/>
                      <a:pt x="1636" y="103"/>
                    </a:cubicBezTo>
                    <a:cubicBezTo>
                      <a:pt x="1636" y="99"/>
                      <a:pt x="1637" y="95"/>
                      <a:pt x="1639" y="90"/>
                    </a:cubicBezTo>
                    <a:cubicBezTo>
                      <a:pt x="1637" y="94"/>
                      <a:pt x="1636" y="98"/>
                      <a:pt x="1635" y="102"/>
                    </a:cubicBezTo>
                    <a:cubicBezTo>
                      <a:pt x="1632" y="97"/>
                      <a:pt x="1630" y="93"/>
                      <a:pt x="1627" y="89"/>
                    </a:cubicBezTo>
                    <a:cubicBezTo>
                      <a:pt x="1630" y="93"/>
                      <a:pt x="1630" y="99"/>
                      <a:pt x="1630" y="103"/>
                    </a:cubicBezTo>
                    <a:cubicBezTo>
                      <a:pt x="1630" y="104"/>
                      <a:pt x="1631" y="109"/>
                      <a:pt x="1631" y="115"/>
                    </a:cubicBezTo>
                    <a:cubicBezTo>
                      <a:pt x="1630" y="120"/>
                      <a:pt x="1630" y="124"/>
                      <a:pt x="1629" y="129"/>
                    </a:cubicBezTo>
                    <a:cubicBezTo>
                      <a:pt x="1628" y="125"/>
                      <a:pt x="1627" y="122"/>
                      <a:pt x="1627" y="119"/>
                    </a:cubicBezTo>
                    <a:cubicBezTo>
                      <a:pt x="1627" y="115"/>
                      <a:pt x="1627" y="108"/>
                      <a:pt x="1626" y="105"/>
                    </a:cubicBezTo>
                    <a:cubicBezTo>
                      <a:pt x="1625" y="108"/>
                      <a:pt x="1625" y="110"/>
                      <a:pt x="1625" y="113"/>
                    </a:cubicBezTo>
                    <a:cubicBezTo>
                      <a:pt x="1624" y="109"/>
                      <a:pt x="1623" y="106"/>
                      <a:pt x="1623" y="103"/>
                    </a:cubicBezTo>
                    <a:cubicBezTo>
                      <a:pt x="1624" y="97"/>
                      <a:pt x="1625" y="90"/>
                      <a:pt x="1628" y="84"/>
                    </a:cubicBezTo>
                    <a:cubicBezTo>
                      <a:pt x="1625" y="90"/>
                      <a:pt x="1623" y="95"/>
                      <a:pt x="1622" y="101"/>
                    </a:cubicBezTo>
                    <a:cubicBezTo>
                      <a:pt x="1617" y="86"/>
                      <a:pt x="1614" y="83"/>
                      <a:pt x="1609" y="78"/>
                    </a:cubicBezTo>
                    <a:cubicBezTo>
                      <a:pt x="1616" y="84"/>
                      <a:pt x="1619" y="97"/>
                      <a:pt x="1620" y="107"/>
                    </a:cubicBezTo>
                    <a:cubicBezTo>
                      <a:pt x="1619" y="114"/>
                      <a:pt x="1617" y="120"/>
                      <a:pt x="1616" y="126"/>
                    </a:cubicBezTo>
                    <a:cubicBezTo>
                      <a:pt x="1615" y="121"/>
                      <a:pt x="1614" y="115"/>
                      <a:pt x="1612" y="109"/>
                    </a:cubicBezTo>
                    <a:cubicBezTo>
                      <a:pt x="1613" y="106"/>
                      <a:pt x="1613" y="103"/>
                      <a:pt x="1614" y="100"/>
                    </a:cubicBezTo>
                    <a:cubicBezTo>
                      <a:pt x="1613" y="102"/>
                      <a:pt x="1613" y="104"/>
                      <a:pt x="1612" y="108"/>
                    </a:cubicBezTo>
                    <a:cubicBezTo>
                      <a:pt x="1611" y="106"/>
                      <a:pt x="1610" y="103"/>
                      <a:pt x="1610" y="101"/>
                    </a:cubicBezTo>
                    <a:cubicBezTo>
                      <a:pt x="1610" y="100"/>
                      <a:pt x="1610" y="99"/>
                      <a:pt x="1611" y="98"/>
                    </a:cubicBezTo>
                    <a:cubicBezTo>
                      <a:pt x="1610" y="99"/>
                      <a:pt x="1610" y="100"/>
                      <a:pt x="1610" y="101"/>
                    </a:cubicBezTo>
                    <a:cubicBezTo>
                      <a:pt x="1607" y="94"/>
                      <a:pt x="1604" y="87"/>
                      <a:pt x="1600" y="81"/>
                    </a:cubicBezTo>
                    <a:cubicBezTo>
                      <a:pt x="1604" y="88"/>
                      <a:pt x="1605" y="99"/>
                      <a:pt x="1605" y="106"/>
                    </a:cubicBezTo>
                    <a:cubicBezTo>
                      <a:pt x="1605" y="111"/>
                      <a:pt x="1604" y="115"/>
                      <a:pt x="1604" y="120"/>
                    </a:cubicBezTo>
                    <a:cubicBezTo>
                      <a:pt x="1602" y="126"/>
                      <a:pt x="1600" y="133"/>
                      <a:pt x="1599" y="139"/>
                    </a:cubicBezTo>
                    <a:cubicBezTo>
                      <a:pt x="1599" y="137"/>
                      <a:pt x="1599" y="136"/>
                      <a:pt x="1599" y="135"/>
                    </a:cubicBezTo>
                    <a:cubicBezTo>
                      <a:pt x="1600" y="127"/>
                      <a:pt x="1600" y="120"/>
                      <a:pt x="1601" y="113"/>
                    </a:cubicBezTo>
                    <a:cubicBezTo>
                      <a:pt x="1600" y="117"/>
                      <a:pt x="1600" y="123"/>
                      <a:pt x="1599" y="129"/>
                    </a:cubicBezTo>
                    <a:cubicBezTo>
                      <a:pt x="1599" y="120"/>
                      <a:pt x="1599" y="111"/>
                      <a:pt x="1597" y="103"/>
                    </a:cubicBezTo>
                    <a:cubicBezTo>
                      <a:pt x="1598" y="101"/>
                      <a:pt x="1599" y="100"/>
                      <a:pt x="1599" y="99"/>
                    </a:cubicBezTo>
                    <a:cubicBezTo>
                      <a:pt x="1599" y="100"/>
                      <a:pt x="1598" y="101"/>
                      <a:pt x="1597" y="102"/>
                    </a:cubicBezTo>
                    <a:cubicBezTo>
                      <a:pt x="1595" y="88"/>
                      <a:pt x="1591" y="75"/>
                      <a:pt x="1582" y="60"/>
                    </a:cubicBezTo>
                    <a:cubicBezTo>
                      <a:pt x="1582" y="61"/>
                      <a:pt x="1582" y="61"/>
                      <a:pt x="1582" y="61"/>
                    </a:cubicBezTo>
                    <a:cubicBezTo>
                      <a:pt x="1582" y="76"/>
                      <a:pt x="1592" y="94"/>
                      <a:pt x="1592" y="111"/>
                    </a:cubicBezTo>
                    <a:cubicBezTo>
                      <a:pt x="1591" y="115"/>
                      <a:pt x="1590" y="120"/>
                      <a:pt x="1589" y="125"/>
                    </a:cubicBezTo>
                    <a:cubicBezTo>
                      <a:pt x="1585" y="109"/>
                      <a:pt x="1578" y="94"/>
                      <a:pt x="1567" y="83"/>
                    </a:cubicBezTo>
                    <a:cubicBezTo>
                      <a:pt x="1574" y="90"/>
                      <a:pt x="1578" y="101"/>
                      <a:pt x="1580" y="111"/>
                    </a:cubicBezTo>
                    <a:cubicBezTo>
                      <a:pt x="1579" y="111"/>
                      <a:pt x="1579" y="110"/>
                      <a:pt x="1579" y="109"/>
                    </a:cubicBezTo>
                    <a:cubicBezTo>
                      <a:pt x="1579" y="117"/>
                      <a:pt x="1580" y="126"/>
                      <a:pt x="1580" y="134"/>
                    </a:cubicBezTo>
                    <a:cubicBezTo>
                      <a:pt x="1580" y="136"/>
                      <a:pt x="1580" y="138"/>
                      <a:pt x="1580" y="140"/>
                    </a:cubicBezTo>
                    <a:cubicBezTo>
                      <a:pt x="1577" y="127"/>
                      <a:pt x="1576" y="113"/>
                      <a:pt x="1572" y="100"/>
                    </a:cubicBezTo>
                    <a:cubicBezTo>
                      <a:pt x="1574" y="109"/>
                      <a:pt x="1574" y="123"/>
                      <a:pt x="1574" y="135"/>
                    </a:cubicBezTo>
                    <a:cubicBezTo>
                      <a:pt x="1575" y="138"/>
                      <a:pt x="1575" y="141"/>
                      <a:pt x="1575" y="144"/>
                    </a:cubicBezTo>
                    <a:cubicBezTo>
                      <a:pt x="1575" y="143"/>
                      <a:pt x="1575" y="142"/>
                      <a:pt x="1575" y="142"/>
                    </a:cubicBezTo>
                    <a:cubicBezTo>
                      <a:pt x="1574" y="139"/>
                      <a:pt x="1574" y="137"/>
                      <a:pt x="1574" y="135"/>
                    </a:cubicBezTo>
                    <a:cubicBezTo>
                      <a:pt x="1574" y="130"/>
                      <a:pt x="1573" y="125"/>
                      <a:pt x="1572" y="120"/>
                    </a:cubicBezTo>
                    <a:cubicBezTo>
                      <a:pt x="1572" y="119"/>
                      <a:pt x="1572" y="119"/>
                      <a:pt x="1572" y="118"/>
                    </a:cubicBezTo>
                    <a:cubicBezTo>
                      <a:pt x="1572" y="119"/>
                      <a:pt x="1572" y="119"/>
                      <a:pt x="1572" y="120"/>
                    </a:cubicBezTo>
                    <a:cubicBezTo>
                      <a:pt x="1571" y="116"/>
                      <a:pt x="1569" y="112"/>
                      <a:pt x="1568" y="108"/>
                    </a:cubicBezTo>
                    <a:cubicBezTo>
                      <a:pt x="1569" y="106"/>
                      <a:pt x="1569" y="105"/>
                      <a:pt x="1570" y="103"/>
                    </a:cubicBezTo>
                    <a:cubicBezTo>
                      <a:pt x="1569" y="105"/>
                      <a:pt x="1568" y="106"/>
                      <a:pt x="1568" y="107"/>
                    </a:cubicBezTo>
                    <a:cubicBezTo>
                      <a:pt x="1561" y="91"/>
                      <a:pt x="1551" y="76"/>
                      <a:pt x="1534" y="63"/>
                    </a:cubicBezTo>
                    <a:cubicBezTo>
                      <a:pt x="1540" y="68"/>
                      <a:pt x="1544" y="74"/>
                      <a:pt x="1548" y="79"/>
                    </a:cubicBezTo>
                    <a:cubicBezTo>
                      <a:pt x="1547" y="81"/>
                      <a:pt x="1545" y="85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0" y="94"/>
                      <a:pt x="1538" y="98"/>
                      <a:pt x="1536" y="103"/>
                    </a:cubicBezTo>
                    <a:cubicBezTo>
                      <a:pt x="1535" y="100"/>
                      <a:pt x="1535" y="98"/>
                      <a:pt x="1534" y="96"/>
                    </a:cubicBezTo>
                    <a:cubicBezTo>
                      <a:pt x="1534" y="99"/>
                      <a:pt x="1535" y="103"/>
                      <a:pt x="1535" y="106"/>
                    </a:cubicBezTo>
                    <a:cubicBezTo>
                      <a:pt x="1534" y="108"/>
                      <a:pt x="1533" y="111"/>
                      <a:pt x="1532" y="113"/>
                    </a:cubicBezTo>
                    <a:cubicBezTo>
                      <a:pt x="1531" y="111"/>
                      <a:pt x="1531" y="109"/>
                      <a:pt x="1530" y="107"/>
                    </a:cubicBezTo>
                    <a:cubicBezTo>
                      <a:pt x="1531" y="100"/>
                      <a:pt x="1532" y="93"/>
                      <a:pt x="1532" y="88"/>
                    </a:cubicBezTo>
                    <a:cubicBezTo>
                      <a:pt x="1532" y="87"/>
                      <a:pt x="1532" y="87"/>
                      <a:pt x="1532" y="87"/>
                    </a:cubicBezTo>
                    <a:cubicBezTo>
                      <a:pt x="1530" y="92"/>
                      <a:pt x="1529" y="97"/>
                      <a:pt x="1528" y="102"/>
                    </a:cubicBezTo>
                    <a:cubicBezTo>
                      <a:pt x="1525" y="96"/>
                      <a:pt x="1523" y="90"/>
                      <a:pt x="1520" y="84"/>
                    </a:cubicBezTo>
                    <a:cubicBezTo>
                      <a:pt x="1523" y="90"/>
                      <a:pt x="1525" y="97"/>
                      <a:pt x="1527" y="104"/>
                    </a:cubicBezTo>
                    <a:cubicBezTo>
                      <a:pt x="1526" y="108"/>
                      <a:pt x="1526" y="111"/>
                      <a:pt x="1525" y="115"/>
                    </a:cubicBezTo>
                    <a:cubicBezTo>
                      <a:pt x="1523" y="110"/>
                      <a:pt x="1521" y="106"/>
                      <a:pt x="1519" y="102"/>
                    </a:cubicBezTo>
                    <a:cubicBezTo>
                      <a:pt x="1521" y="107"/>
                      <a:pt x="1522" y="114"/>
                      <a:pt x="1523" y="121"/>
                    </a:cubicBezTo>
                    <a:cubicBezTo>
                      <a:pt x="1522" y="126"/>
                      <a:pt x="1520" y="131"/>
                      <a:pt x="1519" y="135"/>
                    </a:cubicBezTo>
                    <a:cubicBezTo>
                      <a:pt x="1517" y="132"/>
                      <a:pt x="1516" y="129"/>
                      <a:pt x="1515" y="125"/>
                    </a:cubicBezTo>
                    <a:cubicBezTo>
                      <a:pt x="1516" y="118"/>
                      <a:pt x="1517" y="111"/>
                      <a:pt x="1518" y="104"/>
                    </a:cubicBezTo>
                    <a:cubicBezTo>
                      <a:pt x="1517" y="109"/>
                      <a:pt x="1515" y="114"/>
                      <a:pt x="1513" y="120"/>
                    </a:cubicBezTo>
                    <a:cubicBezTo>
                      <a:pt x="1512" y="115"/>
                      <a:pt x="1511" y="111"/>
                      <a:pt x="1510" y="107"/>
                    </a:cubicBezTo>
                    <a:cubicBezTo>
                      <a:pt x="1510" y="103"/>
                      <a:pt x="1511" y="98"/>
                      <a:pt x="1511" y="94"/>
                    </a:cubicBezTo>
                    <a:cubicBezTo>
                      <a:pt x="1511" y="91"/>
                      <a:pt x="1510" y="88"/>
                      <a:pt x="1510" y="85"/>
                    </a:cubicBezTo>
                    <a:cubicBezTo>
                      <a:pt x="1509" y="89"/>
                      <a:pt x="1508" y="93"/>
                      <a:pt x="1507" y="99"/>
                    </a:cubicBezTo>
                    <a:cubicBezTo>
                      <a:pt x="1504" y="91"/>
                      <a:pt x="1500" y="84"/>
                      <a:pt x="1495" y="77"/>
                    </a:cubicBezTo>
                    <a:cubicBezTo>
                      <a:pt x="1498" y="86"/>
                      <a:pt x="1502" y="95"/>
                      <a:pt x="1505" y="104"/>
                    </a:cubicBezTo>
                    <a:cubicBezTo>
                      <a:pt x="1505" y="106"/>
                      <a:pt x="1505" y="107"/>
                      <a:pt x="1505" y="109"/>
                    </a:cubicBezTo>
                    <a:cubicBezTo>
                      <a:pt x="1504" y="107"/>
                      <a:pt x="1503" y="105"/>
                      <a:pt x="1502" y="103"/>
                    </a:cubicBezTo>
                    <a:cubicBezTo>
                      <a:pt x="1502" y="103"/>
                      <a:pt x="1502" y="102"/>
                      <a:pt x="1502" y="102"/>
                    </a:cubicBezTo>
                    <a:cubicBezTo>
                      <a:pt x="1502" y="102"/>
                      <a:pt x="1502" y="103"/>
                      <a:pt x="1502" y="103"/>
                    </a:cubicBezTo>
                    <a:cubicBezTo>
                      <a:pt x="1497" y="94"/>
                      <a:pt x="1492" y="86"/>
                      <a:pt x="1485" y="79"/>
                    </a:cubicBezTo>
                    <a:cubicBezTo>
                      <a:pt x="1487" y="75"/>
                      <a:pt x="1489" y="71"/>
                      <a:pt x="1491" y="68"/>
                    </a:cubicBezTo>
                    <a:cubicBezTo>
                      <a:pt x="1489" y="69"/>
                      <a:pt x="1486" y="73"/>
                      <a:pt x="1484" y="77"/>
                    </a:cubicBezTo>
                    <a:cubicBezTo>
                      <a:pt x="1480" y="73"/>
                      <a:pt x="1476" y="69"/>
                      <a:pt x="1471" y="65"/>
                    </a:cubicBezTo>
                    <a:cubicBezTo>
                      <a:pt x="1476" y="70"/>
                      <a:pt x="1480" y="75"/>
                      <a:pt x="1483" y="79"/>
                    </a:cubicBezTo>
                    <a:cubicBezTo>
                      <a:pt x="1480" y="86"/>
                      <a:pt x="1477" y="96"/>
                      <a:pt x="1474" y="105"/>
                    </a:cubicBezTo>
                    <a:cubicBezTo>
                      <a:pt x="1471" y="99"/>
                      <a:pt x="1467" y="94"/>
                      <a:pt x="1464" y="88"/>
                    </a:cubicBezTo>
                    <a:cubicBezTo>
                      <a:pt x="1464" y="87"/>
                      <a:pt x="1464" y="86"/>
                      <a:pt x="1465" y="85"/>
                    </a:cubicBezTo>
                    <a:cubicBezTo>
                      <a:pt x="1464" y="86"/>
                      <a:pt x="1464" y="87"/>
                      <a:pt x="1464" y="88"/>
                    </a:cubicBezTo>
                    <a:cubicBezTo>
                      <a:pt x="1463" y="87"/>
                      <a:pt x="1462" y="86"/>
                      <a:pt x="1461" y="85"/>
                    </a:cubicBezTo>
                    <a:cubicBezTo>
                      <a:pt x="1462" y="86"/>
                      <a:pt x="1463" y="87"/>
                      <a:pt x="1463" y="88"/>
                    </a:cubicBezTo>
                    <a:cubicBezTo>
                      <a:pt x="1462" y="91"/>
                      <a:pt x="1461" y="93"/>
                      <a:pt x="1460" y="95"/>
                    </a:cubicBezTo>
                    <a:cubicBezTo>
                      <a:pt x="1459" y="94"/>
                      <a:pt x="1459" y="92"/>
                      <a:pt x="1458" y="91"/>
                    </a:cubicBezTo>
                    <a:cubicBezTo>
                      <a:pt x="1459" y="92"/>
                      <a:pt x="1459" y="94"/>
                      <a:pt x="1460" y="95"/>
                    </a:cubicBezTo>
                    <a:cubicBezTo>
                      <a:pt x="1456" y="103"/>
                      <a:pt x="1453" y="112"/>
                      <a:pt x="1451" y="121"/>
                    </a:cubicBezTo>
                    <a:cubicBezTo>
                      <a:pt x="1450" y="112"/>
                      <a:pt x="1449" y="103"/>
                      <a:pt x="1449" y="97"/>
                    </a:cubicBezTo>
                    <a:cubicBezTo>
                      <a:pt x="1447" y="100"/>
                      <a:pt x="1446" y="105"/>
                      <a:pt x="1445" y="110"/>
                    </a:cubicBezTo>
                    <a:cubicBezTo>
                      <a:pt x="1445" y="92"/>
                      <a:pt x="1444" y="61"/>
                      <a:pt x="1442" y="57"/>
                    </a:cubicBezTo>
                    <a:cubicBezTo>
                      <a:pt x="1441" y="79"/>
                      <a:pt x="1442" y="100"/>
                      <a:pt x="1442" y="122"/>
                    </a:cubicBezTo>
                    <a:cubicBezTo>
                      <a:pt x="1442" y="123"/>
                      <a:pt x="1442" y="124"/>
                      <a:pt x="1442" y="125"/>
                    </a:cubicBezTo>
                    <a:cubicBezTo>
                      <a:pt x="1440" y="114"/>
                      <a:pt x="1436" y="103"/>
                      <a:pt x="1431" y="94"/>
                    </a:cubicBezTo>
                    <a:cubicBezTo>
                      <a:pt x="1430" y="89"/>
                      <a:pt x="1430" y="84"/>
                      <a:pt x="1431" y="80"/>
                    </a:cubicBezTo>
                    <a:cubicBezTo>
                      <a:pt x="1430" y="83"/>
                      <a:pt x="1429" y="87"/>
                      <a:pt x="1428" y="90"/>
                    </a:cubicBezTo>
                    <a:cubicBezTo>
                      <a:pt x="1426" y="88"/>
                      <a:pt x="1424" y="85"/>
                      <a:pt x="1422" y="83"/>
                    </a:cubicBezTo>
                    <a:cubicBezTo>
                      <a:pt x="1424" y="86"/>
                      <a:pt x="1426" y="89"/>
                      <a:pt x="1428" y="92"/>
                    </a:cubicBezTo>
                    <a:cubicBezTo>
                      <a:pt x="1427" y="96"/>
                      <a:pt x="1426" y="100"/>
                      <a:pt x="1426" y="103"/>
                    </a:cubicBezTo>
                    <a:cubicBezTo>
                      <a:pt x="1425" y="102"/>
                      <a:pt x="1425" y="101"/>
                      <a:pt x="1425" y="100"/>
                    </a:cubicBezTo>
                    <a:cubicBezTo>
                      <a:pt x="1425" y="101"/>
                      <a:pt x="1425" y="102"/>
                      <a:pt x="1426" y="104"/>
                    </a:cubicBezTo>
                    <a:cubicBezTo>
                      <a:pt x="1425" y="106"/>
                      <a:pt x="1425" y="109"/>
                      <a:pt x="1424" y="111"/>
                    </a:cubicBezTo>
                    <a:cubicBezTo>
                      <a:pt x="1422" y="107"/>
                      <a:pt x="1421" y="103"/>
                      <a:pt x="1419" y="99"/>
                    </a:cubicBezTo>
                    <a:cubicBezTo>
                      <a:pt x="1418" y="91"/>
                      <a:pt x="1418" y="82"/>
                      <a:pt x="1419" y="74"/>
                    </a:cubicBezTo>
                    <a:cubicBezTo>
                      <a:pt x="1418" y="80"/>
                      <a:pt x="1416" y="86"/>
                      <a:pt x="1415" y="92"/>
                    </a:cubicBezTo>
                    <a:cubicBezTo>
                      <a:pt x="1414" y="91"/>
                      <a:pt x="1413" y="89"/>
                      <a:pt x="1412" y="88"/>
                    </a:cubicBezTo>
                    <a:cubicBezTo>
                      <a:pt x="1413" y="89"/>
                      <a:pt x="1414" y="91"/>
                      <a:pt x="1415" y="93"/>
                    </a:cubicBezTo>
                    <a:cubicBezTo>
                      <a:pt x="1414" y="95"/>
                      <a:pt x="1414" y="97"/>
                      <a:pt x="1414" y="98"/>
                    </a:cubicBezTo>
                    <a:cubicBezTo>
                      <a:pt x="1411" y="93"/>
                      <a:pt x="1409" y="88"/>
                      <a:pt x="1405" y="84"/>
                    </a:cubicBezTo>
                    <a:cubicBezTo>
                      <a:pt x="1408" y="88"/>
                      <a:pt x="1410" y="95"/>
                      <a:pt x="1413" y="103"/>
                    </a:cubicBezTo>
                    <a:cubicBezTo>
                      <a:pt x="1412" y="106"/>
                      <a:pt x="1411" y="110"/>
                      <a:pt x="1411" y="113"/>
                    </a:cubicBezTo>
                    <a:cubicBezTo>
                      <a:pt x="1408" y="108"/>
                      <a:pt x="1406" y="102"/>
                      <a:pt x="1403" y="96"/>
                    </a:cubicBezTo>
                    <a:cubicBezTo>
                      <a:pt x="1403" y="91"/>
                      <a:pt x="1404" y="86"/>
                      <a:pt x="1405" y="83"/>
                    </a:cubicBezTo>
                    <a:cubicBezTo>
                      <a:pt x="1404" y="87"/>
                      <a:pt x="1403" y="90"/>
                      <a:pt x="1401" y="93"/>
                    </a:cubicBezTo>
                    <a:cubicBezTo>
                      <a:pt x="1396" y="83"/>
                      <a:pt x="1389" y="74"/>
                      <a:pt x="1380" y="64"/>
                    </a:cubicBezTo>
                    <a:cubicBezTo>
                      <a:pt x="1389" y="74"/>
                      <a:pt x="1395" y="86"/>
                      <a:pt x="1400" y="97"/>
                    </a:cubicBezTo>
                    <a:cubicBezTo>
                      <a:pt x="1399" y="99"/>
                      <a:pt x="1399" y="101"/>
                      <a:pt x="1398" y="103"/>
                    </a:cubicBezTo>
                    <a:cubicBezTo>
                      <a:pt x="1397" y="98"/>
                      <a:pt x="1396" y="93"/>
                      <a:pt x="1394" y="88"/>
                    </a:cubicBezTo>
                    <a:cubicBezTo>
                      <a:pt x="1394" y="91"/>
                      <a:pt x="1395" y="98"/>
                      <a:pt x="1397" y="106"/>
                    </a:cubicBezTo>
                    <a:cubicBezTo>
                      <a:pt x="1397" y="108"/>
                      <a:pt x="1396" y="109"/>
                      <a:pt x="1396" y="110"/>
                    </a:cubicBezTo>
                    <a:cubicBezTo>
                      <a:pt x="1390" y="97"/>
                      <a:pt x="1383" y="83"/>
                      <a:pt x="1372" y="72"/>
                    </a:cubicBezTo>
                    <a:cubicBezTo>
                      <a:pt x="1370" y="61"/>
                      <a:pt x="1368" y="51"/>
                      <a:pt x="1366" y="41"/>
                    </a:cubicBezTo>
                    <a:cubicBezTo>
                      <a:pt x="1366" y="48"/>
                      <a:pt x="1366" y="55"/>
                      <a:pt x="1366" y="61"/>
                    </a:cubicBezTo>
                    <a:cubicBezTo>
                      <a:pt x="1366" y="63"/>
                      <a:pt x="1366" y="64"/>
                      <a:pt x="1366" y="66"/>
                    </a:cubicBezTo>
                    <a:cubicBezTo>
                      <a:pt x="1365" y="65"/>
                      <a:pt x="1365" y="65"/>
                      <a:pt x="1365" y="65"/>
                    </a:cubicBezTo>
                    <a:cubicBezTo>
                      <a:pt x="1365" y="65"/>
                      <a:pt x="1365" y="65"/>
                      <a:pt x="1366" y="66"/>
                    </a:cubicBezTo>
                    <a:cubicBezTo>
                      <a:pt x="1366" y="75"/>
                      <a:pt x="1367" y="85"/>
                      <a:pt x="1367" y="94"/>
                    </a:cubicBezTo>
                    <a:cubicBezTo>
                      <a:pt x="1365" y="88"/>
                      <a:pt x="1362" y="81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3" y="67"/>
                      <a:pt x="1346" y="59"/>
                      <a:pt x="1336" y="50"/>
                    </a:cubicBezTo>
                    <a:cubicBezTo>
                      <a:pt x="1339" y="54"/>
                      <a:pt x="1341" y="58"/>
                      <a:pt x="1343" y="61"/>
                    </a:cubicBezTo>
                    <a:cubicBezTo>
                      <a:pt x="1342" y="64"/>
                      <a:pt x="1342" y="68"/>
                      <a:pt x="1341" y="73"/>
                    </a:cubicBezTo>
                    <a:cubicBezTo>
                      <a:pt x="1339" y="70"/>
                      <a:pt x="1336" y="67"/>
                      <a:pt x="1334" y="65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2" y="62"/>
                      <a:pt x="1330" y="61"/>
                      <a:pt x="1328" y="59"/>
                    </a:cubicBezTo>
                    <a:cubicBezTo>
                      <a:pt x="1330" y="61"/>
                      <a:pt x="1332" y="63"/>
                      <a:pt x="1333" y="65"/>
                    </a:cubicBezTo>
                    <a:cubicBezTo>
                      <a:pt x="1332" y="67"/>
                      <a:pt x="1330" y="69"/>
                      <a:pt x="1329" y="72"/>
                    </a:cubicBezTo>
                    <a:cubicBezTo>
                      <a:pt x="1328" y="67"/>
                      <a:pt x="1328" y="61"/>
                      <a:pt x="1327" y="56"/>
                    </a:cubicBezTo>
                    <a:cubicBezTo>
                      <a:pt x="1328" y="54"/>
                      <a:pt x="1329" y="53"/>
                      <a:pt x="1330" y="51"/>
                    </a:cubicBezTo>
                    <a:cubicBezTo>
                      <a:pt x="1329" y="52"/>
                      <a:pt x="1328" y="53"/>
                      <a:pt x="1327" y="55"/>
                    </a:cubicBezTo>
                    <a:cubicBezTo>
                      <a:pt x="1325" y="45"/>
                      <a:pt x="1323" y="35"/>
                      <a:pt x="1320" y="26"/>
                    </a:cubicBezTo>
                    <a:cubicBezTo>
                      <a:pt x="1319" y="30"/>
                      <a:pt x="1319" y="34"/>
                      <a:pt x="1319" y="37"/>
                    </a:cubicBezTo>
                    <a:cubicBezTo>
                      <a:pt x="1319" y="45"/>
                      <a:pt x="1320" y="53"/>
                      <a:pt x="1321" y="60"/>
                    </a:cubicBezTo>
                    <a:cubicBezTo>
                      <a:pt x="1317" y="65"/>
                      <a:pt x="1313" y="69"/>
                      <a:pt x="1308" y="75"/>
                    </a:cubicBezTo>
                    <a:cubicBezTo>
                      <a:pt x="1308" y="72"/>
                      <a:pt x="1307" y="70"/>
                      <a:pt x="1306" y="67"/>
                    </a:cubicBezTo>
                    <a:cubicBezTo>
                      <a:pt x="1306" y="70"/>
                      <a:pt x="1307" y="73"/>
                      <a:pt x="1307" y="76"/>
                    </a:cubicBezTo>
                    <a:cubicBezTo>
                      <a:pt x="1306" y="77"/>
                      <a:pt x="1306" y="78"/>
                      <a:pt x="1306" y="78"/>
                    </a:cubicBezTo>
                    <a:cubicBezTo>
                      <a:pt x="1304" y="75"/>
                      <a:pt x="1302" y="72"/>
                      <a:pt x="1300" y="68"/>
                    </a:cubicBezTo>
                    <a:cubicBezTo>
                      <a:pt x="1300" y="65"/>
                      <a:pt x="1301" y="63"/>
                      <a:pt x="1301" y="62"/>
                    </a:cubicBezTo>
                    <a:cubicBezTo>
                      <a:pt x="1300" y="63"/>
                      <a:pt x="1299" y="65"/>
                      <a:pt x="1298" y="67"/>
                    </a:cubicBezTo>
                    <a:cubicBezTo>
                      <a:pt x="1292" y="57"/>
                      <a:pt x="1283" y="47"/>
                      <a:pt x="1270" y="34"/>
                    </a:cubicBezTo>
                    <a:cubicBezTo>
                      <a:pt x="1283" y="49"/>
                      <a:pt x="1291" y="60"/>
                      <a:pt x="1298" y="69"/>
                    </a:cubicBezTo>
                    <a:cubicBezTo>
                      <a:pt x="1297" y="72"/>
                      <a:pt x="1296" y="75"/>
                      <a:pt x="1296" y="79"/>
                    </a:cubicBezTo>
                    <a:cubicBezTo>
                      <a:pt x="1290" y="68"/>
                      <a:pt x="1282" y="58"/>
                      <a:pt x="1270" y="52"/>
                    </a:cubicBezTo>
                    <a:cubicBezTo>
                      <a:pt x="1284" y="60"/>
                      <a:pt x="1291" y="72"/>
                      <a:pt x="1296" y="84"/>
                    </a:cubicBezTo>
                    <a:cubicBezTo>
                      <a:pt x="1296" y="86"/>
                      <a:pt x="1296" y="89"/>
                      <a:pt x="1296" y="92"/>
                    </a:cubicBezTo>
                    <a:cubicBezTo>
                      <a:pt x="1294" y="94"/>
                      <a:pt x="1292" y="97"/>
                      <a:pt x="1290" y="100"/>
                    </a:cubicBezTo>
                    <a:cubicBezTo>
                      <a:pt x="1289" y="96"/>
                      <a:pt x="1289" y="93"/>
                      <a:pt x="1288" y="90"/>
                    </a:cubicBezTo>
                    <a:cubicBezTo>
                      <a:pt x="1289" y="93"/>
                      <a:pt x="1289" y="97"/>
                      <a:pt x="1289" y="101"/>
                    </a:cubicBezTo>
                    <a:cubicBezTo>
                      <a:pt x="1288" y="102"/>
                      <a:pt x="1288" y="104"/>
                      <a:pt x="1287" y="105"/>
                    </a:cubicBezTo>
                    <a:cubicBezTo>
                      <a:pt x="1286" y="104"/>
                      <a:pt x="1286" y="103"/>
                      <a:pt x="1285" y="102"/>
                    </a:cubicBezTo>
                    <a:cubicBezTo>
                      <a:pt x="1284" y="97"/>
                      <a:pt x="1283" y="93"/>
                      <a:pt x="1282" y="88"/>
                    </a:cubicBezTo>
                    <a:cubicBezTo>
                      <a:pt x="1283" y="84"/>
                      <a:pt x="1284" y="79"/>
                      <a:pt x="1284" y="75"/>
                    </a:cubicBezTo>
                    <a:cubicBezTo>
                      <a:pt x="1283" y="78"/>
                      <a:pt x="1282" y="80"/>
                      <a:pt x="1281" y="83"/>
                    </a:cubicBezTo>
                    <a:cubicBezTo>
                      <a:pt x="1280" y="81"/>
                      <a:pt x="1280" y="80"/>
                      <a:pt x="1280" y="79"/>
                    </a:cubicBezTo>
                    <a:cubicBezTo>
                      <a:pt x="1280" y="81"/>
                      <a:pt x="1280" y="82"/>
                      <a:pt x="1280" y="83"/>
                    </a:cubicBezTo>
                    <a:cubicBezTo>
                      <a:pt x="1280" y="84"/>
                      <a:pt x="1279" y="86"/>
                      <a:pt x="1278" y="87"/>
                    </a:cubicBezTo>
                    <a:cubicBezTo>
                      <a:pt x="1276" y="83"/>
                      <a:pt x="1275" y="79"/>
                      <a:pt x="1273" y="75"/>
                    </a:cubicBezTo>
                    <a:cubicBezTo>
                      <a:pt x="1273" y="80"/>
                      <a:pt x="1274" y="86"/>
                      <a:pt x="1276" y="93"/>
                    </a:cubicBezTo>
                    <a:cubicBezTo>
                      <a:pt x="1275" y="94"/>
                      <a:pt x="1275" y="94"/>
                      <a:pt x="1275" y="95"/>
                    </a:cubicBezTo>
                    <a:cubicBezTo>
                      <a:pt x="1274" y="90"/>
                      <a:pt x="1272" y="85"/>
                      <a:pt x="1270" y="81"/>
                    </a:cubicBezTo>
                    <a:cubicBezTo>
                      <a:pt x="1272" y="86"/>
                      <a:pt x="1273" y="91"/>
                      <a:pt x="1274" y="97"/>
                    </a:cubicBezTo>
                    <a:cubicBezTo>
                      <a:pt x="1272" y="100"/>
                      <a:pt x="1271" y="103"/>
                      <a:pt x="1270" y="105"/>
                    </a:cubicBezTo>
                    <a:cubicBezTo>
                      <a:pt x="1267" y="84"/>
                      <a:pt x="1261" y="63"/>
                      <a:pt x="1241" y="42"/>
                    </a:cubicBezTo>
                    <a:cubicBezTo>
                      <a:pt x="1249" y="58"/>
                      <a:pt x="1255" y="70"/>
                      <a:pt x="1259" y="81"/>
                    </a:cubicBezTo>
                    <a:cubicBezTo>
                      <a:pt x="1259" y="84"/>
                      <a:pt x="1259" y="86"/>
                      <a:pt x="1259" y="89"/>
                    </a:cubicBezTo>
                    <a:cubicBezTo>
                      <a:pt x="1257" y="86"/>
                      <a:pt x="1256" y="84"/>
                      <a:pt x="1254" y="81"/>
                    </a:cubicBezTo>
                    <a:cubicBezTo>
                      <a:pt x="1253" y="79"/>
                      <a:pt x="1251" y="76"/>
                      <a:pt x="1250" y="74"/>
                    </a:cubicBezTo>
                    <a:cubicBezTo>
                      <a:pt x="1250" y="72"/>
                      <a:pt x="1250" y="69"/>
                      <a:pt x="1250" y="67"/>
                    </a:cubicBezTo>
                    <a:cubicBezTo>
                      <a:pt x="1250" y="69"/>
                      <a:pt x="1250" y="70"/>
                      <a:pt x="1249" y="72"/>
                    </a:cubicBezTo>
                    <a:cubicBezTo>
                      <a:pt x="1246" y="66"/>
                      <a:pt x="1242" y="59"/>
                      <a:pt x="1237" y="53"/>
                    </a:cubicBezTo>
                    <a:cubicBezTo>
                      <a:pt x="1237" y="48"/>
                      <a:pt x="1237" y="42"/>
                      <a:pt x="1237" y="37"/>
                    </a:cubicBezTo>
                    <a:cubicBezTo>
                      <a:pt x="1237" y="34"/>
                      <a:pt x="1237" y="30"/>
                      <a:pt x="1237" y="26"/>
                    </a:cubicBezTo>
                    <a:cubicBezTo>
                      <a:pt x="1235" y="33"/>
                      <a:pt x="1233" y="40"/>
                      <a:pt x="1232" y="47"/>
                    </a:cubicBezTo>
                    <a:cubicBezTo>
                      <a:pt x="1229" y="44"/>
                      <a:pt x="1225" y="41"/>
                      <a:pt x="1222" y="38"/>
                    </a:cubicBezTo>
                    <a:cubicBezTo>
                      <a:pt x="1225" y="41"/>
                      <a:pt x="1228" y="45"/>
                      <a:pt x="1231" y="49"/>
                    </a:cubicBezTo>
                    <a:cubicBezTo>
                      <a:pt x="1231" y="51"/>
                      <a:pt x="1231" y="53"/>
                      <a:pt x="1230" y="55"/>
                    </a:cubicBezTo>
                    <a:cubicBezTo>
                      <a:pt x="1229" y="53"/>
                      <a:pt x="1228" y="52"/>
                      <a:pt x="1226" y="51"/>
                    </a:cubicBezTo>
                    <a:cubicBezTo>
                      <a:pt x="1227" y="53"/>
                      <a:pt x="1229" y="54"/>
                      <a:pt x="1230" y="56"/>
                    </a:cubicBezTo>
                    <a:cubicBezTo>
                      <a:pt x="1229" y="61"/>
                      <a:pt x="1228" y="67"/>
                      <a:pt x="1228" y="72"/>
                    </a:cubicBezTo>
                    <a:cubicBezTo>
                      <a:pt x="1226" y="69"/>
                      <a:pt x="1224" y="66"/>
                      <a:pt x="1223" y="64"/>
                    </a:cubicBezTo>
                    <a:cubicBezTo>
                      <a:pt x="1223" y="67"/>
                      <a:pt x="1225" y="70"/>
                      <a:pt x="1227" y="74"/>
                    </a:cubicBezTo>
                    <a:cubicBezTo>
                      <a:pt x="1226" y="81"/>
                      <a:pt x="1225" y="87"/>
                      <a:pt x="1224" y="92"/>
                    </a:cubicBezTo>
                    <a:cubicBezTo>
                      <a:pt x="1220" y="109"/>
                      <a:pt x="1216" y="126"/>
                      <a:pt x="1214" y="143"/>
                    </a:cubicBezTo>
                    <a:cubicBezTo>
                      <a:pt x="1215" y="126"/>
                      <a:pt x="1216" y="109"/>
                      <a:pt x="1216" y="91"/>
                    </a:cubicBezTo>
                    <a:cubicBezTo>
                      <a:pt x="1216" y="87"/>
                      <a:pt x="1216" y="61"/>
                      <a:pt x="1212" y="59"/>
                    </a:cubicBezTo>
                    <a:cubicBezTo>
                      <a:pt x="1217" y="76"/>
                      <a:pt x="1203" y="122"/>
                      <a:pt x="1200" y="146"/>
                    </a:cubicBezTo>
                    <a:cubicBezTo>
                      <a:pt x="1200" y="148"/>
                      <a:pt x="1200" y="150"/>
                      <a:pt x="1200" y="152"/>
                    </a:cubicBezTo>
                    <a:cubicBezTo>
                      <a:pt x="1200" y="150"/>
                      <a:pt x="1200" y="148"/>
                      <a:pt x="1200" y="146"/>
                    </a:cubicBezTo>
                    <a:cubicBezTo>
                      <a:pt x="1202" y="123"/>
                      <a:pt x="1201" y="97"/>
                      <a:pt x="1199" y="75"/>
                    </a:cubicBezTo>
                    <a:cubicBezTo>
                      <a:pt x="1196" y="97"/>
                      <a:pt x="1188" y="119"/>
                      <a:pt x="1188" y="141"/>
                    </a:cubicBezTo>
                    <a:cubicBezTo>
                      <a:pt x="1188" y="146"/>
                      <a:pt x="1189" y="152"/>
                      <a:pt x="1189" y="158"/>
                    </a:cubicBezTo>
                    <a:cubicBezTo>
                      <a:pt x="1187" y="150"/>
                      <a:pt x="1187" y="140"/>
                      <a:pt x="1187" y="133"/>
                    </a:cubicBezTo>
                    <a:cubicBezTo>
                      <a:pt x="1187" y="109"/>
                      <a:pt x="1191" y="85"/>
                      <a:pt x="1191" y="61"/>
                    </a:cubicBezTo>
                    <a:cubicBezTo>
                      <a:pt x="1191" y="55"/>
                      <a:pt x="1191" y="48"/>
                      <a:pt x="1191" y="41"/>
                    </a:cubicBezTo>
                    <a:cubicBezTo>
                      <a:pt x="1183" y="71"/>
                      <a:pt x="1179" y="110"/>
                      <a:pt x="1179" y="140"/>
                    </a:cubicBezTo>
                    <a:cubicBezTo>
                      <a:pt x="1179" y="145"/>
                      <a:pt x="1179" y="149"/>
                      <a:pt x="1180" y="153"/>
                    </a:cubicBezTo>
                    <a:cubicBezTo>
                      <a:pt x="1179" y="135"/>
                      <a:pt x="1174" y="116"/>
                      <a:pt x="1170" y="98"/>
                    </a:cubicBezTo>
                    <a:cubicBezTo>
                      <a:pt x="1172" y="110"/>
                      <a:pt x="1168" y="124"/>
                      <a:pt x="1168" y="136"/>
                    </a:cubicBezTo>
                    <a:cubicBezTo>
                      <a:pt x="1168" y="140"/>
                      <a:pt x="1168" y="143"/>
                      <a:pt x="1168" y="147"/>
                    </a:cubicBezTo>
                    <a:cubicBezTo>
                      <a:pt x="1165" y="125"/>
                      <a:pt x="1160" y="103"/>
                      <a:pt x="1151" y="83"/>
                    </a:cubicBezTo>
                    <a:cubicBezTo>
                      <a:pt x="1154" y="90"/>
                      <a:pt x="1154" y="108"/>
                      <a:pt x="1154" y="115"/>
                    </a:cubicBezTo>
                    <a:cubicBezTo>
                      <a:pt x="1154" y="127"/>
                      <a:pt x="1154" y="138"/>
                      <a:pt x="1156" y="150"/>
                    </a:cubicBezTo>
                    <a:cubicBezTo>
                      <a:pt x="1147" y="126"/>
                      <a:pt x="1144" y="99"/>
                      <a:pt x="1137" y="74"/>
                    </a:cubicBezTo>
                    <a:cubicBezTo>
                      <a:pt x="1140" y="91"/>
                      <a:pt x="1137" y="110"/>
                      <a:pt x="1137" y="128"/>
                    </a:cubicBezTo>
                    <a:cubicBezTo>
                      <a:pt x="1137" y="132"/>
                      <a:pt x="1137" y="136"/>
                      <a:pt x="1137" y="140"/>
                    </a:cubicBezTo>
                    <a:cubicBezTo>
                      <a:pt x="1138" y="145"/>
                      <a:pt x="1138" y="149"/>
                      <a:pt x="1139" y="154"/>
                    </a:cubicBezTo>
                    <a:cubicBezTo>
                      <a:pt x="1138" y="149"/>
                      <a:pt x="1137" y="145"/>
                      <a:pt x="1137" y="140"/>
                    </a:cubicBezTo>
                    <a:cubicBezTo>
                      <a:pt x="1134" y="120"/>
                      <a:pt x="1131" y="99"/>
                      <a:pt x="1126" y="80"/>
                    </a:cubicBezTo>
                    <a:cubicBezTo>
                      <a:pt x="1128" y="102"/>
                      <a:pt x="1118" y="126"/>
                      <a:pt x="1118" y="149"/>
                    </a:cubicBezTo>
                    <a:cubicBezTo>
                      <a:pt x="1118" y="156"/>
                      <a:pt x="1118" y="156"/>
                      <a:pt x="1118" y="156"/>
                    </a:cubicBezTo>
                    <a:cubicBezTo>
                      <a:pt x="1114" y="147"/>
                      <a:pt x="1114" y="132"/>
                      <a:pt x="1114" y="122"/>
                    </a:cubicBezTo>
                    <a:cubicBezTo>
                      <a:pt x="1114" y="100"/>
                      <a:pt x="1116" y="79"/>
                      <a:pt x="1115" y="57"/>
                    </a:cubicBezTo>
                    <a:cubicBezTo>
                      <a:pt x="1112" y="62"/>
                      <a:pt x="1111" y="112"/>
                      <a:pt x="1111" y="120"/>
                    </a:cubicBezTo>
                    <a:cubicBezTo>
                      <a:pt x="1111" y="133"/>
                      <a:pt x="1112" y="146"/>
                      <a:pt x="1115" y="159"/>
                    </a:cubicBezTo>
                    <a:cubicBezTo>
                      <a:pt x="1110" y="135"/>
                      <a:pt x="1104" y="108"/>
                      <a:pt x="1092" y="85"/>
                    </a:cubicBezTo>
                    <a:cubicBezTo>
                      <a:pt x="1103" y="106"/>
                      <a:pt x="1098" y="132"/>
                      <a:pt x="1105" y="154"/>
                    </a:cubicBezTo>
                    <a:cubicBezTo>
                      <a:pt x="1097" y="142"/>
                      <a:pt x="1095" y="122"/>
                      <a:pt x="1092" y="106"/>
                    </a:cubicBezTo>
                    <a:cubicBezTo>
                      <a:pt x="1094" y="120"/>
                      <a:pt x="1092" y="134"/>
                      <a:pt x="1094" y="148"/>
                    </a:cubicBezTo>
                    <a:cubicBezTo>
                      <a:pt x="1095" y="151"/>
                      <a:pt x="1096" y="153"/>
                      <a:pt x="1096" y="155"/>
                    </a:cubicBezTo>
                    <a:cubicBezTo>
                      <a:pt x="1095" y="153"/>
                      <a:pt x="1095" y="151"/>
                      <a:pt x="1094" y="148"/>
                    </a:cubicBezTo>
                    <a:cubicBezTo>
                      <a:pt x="1090" y="127"/>
                      <a:pt x="1077" y="75"/>
                      <a:pt x="1066" y="68"/>
                    </a:cubicBezTo>
                    <a:cubicBezTo>
                      <a:pt x="1083" y="90"/>
                      <a:pt x="1080" y="127"/>
                      <a:pt x="1085" y="153"/>
                    </a:cubicBezTo>
                    <a:cubicBezTo>
                      <a:pt x="1080" y="134"/>
                      <a:pt x="1073" y="113"/>
                      <a:pt x="1064" y="95"/>
                    </a:cubicBezTo>
                    <a:cubicBezTo>
                      <a:pt x="1071" y="115"/>
                      <a:pt x="1070" y="136"/>
                      <a:pt x="1079" y="155"/>
                    </a:cubicBezTo>
                    <a:cubicBezTo>
                      <a:pt x="1066" y="144"/>
                      <a:pt x="1059" y="117"/>
                      <a:pt x="1055" y="102"/>
                    </a:cubicBezTo>
                    <a:cubicBezTo>
                      <a:pt x="1056" y="120"/>
                      <a:pt x="1060" y="143"/>
                      <a:pt x="1071" y="158"/>
                    </a:cubicBezTo>
                    <a:cubicBezTo>
                      <a:pt x="1057" y="144"/>
                      <a:pt x="1052" y="103"/>
                      <a:pt x="1047" y="85"/>
                    </a:cubicBezTo>
                    <a:cubicBezTo>
                      <a:pt x="1046" y="88"/>
                      <a:pt x="1046" y="91"/>
                      <a:pt x="1046" y="94"/>
                    </a:cubicBezTo>
                    <a:cubicBezTo>
                      <a:pt x="1046" y="113"/>
                      <a:pt x="1052" y="142"/>
                      <a:pt x="1063" y="159"/>
                    </a:cubicBezTo>
                    <a:cubicBezTo>
                      <a:pt x="1050" y="143"/>
                      <a:pt x="1044" y="123"/>
                      <a:pt x="1038" y="104"/>
                    </a:cubicBezTo>
                    <a:cubicBezTo>
                      <a:pt x="1042" y="122"/>
                      <a:pt x="1042" y="140"/>
                      <a:pt x="1051" y="158"/>
                    </a:cubicBezTo>
                    <a:cubicBezTo>
                      <a:pt x="1041" y="147"/>
                      <a:pt x="1037" y="132"/>
                      <a:pt x="1033" y="117"/>
                    </a:cubicBezTo>
                    <a:cubicBezTo>
                      <a:pt x="1034" y="105"/>
                      <a:pt x="1035" y="93"/>
                      <a:pt x="1036" y="84"/>
                    </a:cubicBezTo>
                    <a:cubicBezTo>
                      <a:pt x="1034" y="92"/>
                      <a:pt x="1033" y="101"/>
                      <a:pt x="1031" y="109"/>
                    </a:cubicBezTo>
                    <a:cubicBezTo>
                      <a:pt x="1029" y="102"/>
                      <a:pt x="1027" y="95"/>
                      <a:pt x="1025" y="89"/>
                    </a:cubicBezTo>
                    <a:cubicBezTo>
                      <a:pt x="1028" y="64"/>
                      <a:pt x="1032" y="40"/>
                      <a:pt x="1032" y="40"/>
                    </a:cubicBezTo>
                    <a:cubicBezTo>
                      <a:pt x="1027" y="51"/>
                      <a:pt x="1022" y="77"/>
                      <a:pt x="1019" y="100"/>
                    </a:cubicBezTo>
                    <a:cubicBezTo>
                      <a:pt x="1017" y="95"/>
                      <a:pt x="1015" y="90"/>
                      <a:pt x="1013" y="86"/>
                    </a:cubicBezTo>
                    <a:cubicBezTo>
                      <a:pt x="1012" y="70"/>
                      <a:pt x="1011" y="58"/>
                      <a:pt x="1011" y="60"/>
                    </a:cubicBezTo>
                    <a:cubicBezTo>
                      <a:pt x="1011" y="61"/>
                      <a:pt x="1010" y="69"/>
                      <a:pt x="1009" y="80"/>
                    </a:cubicBezTo>
                    <a:cubicBezTo>
                      <a:pt x="1008" y="79"/>
                      <a:pt x="1008" y="78"/>
                      <a:pt x="1007" y="78"/>
                    </a:cubicBezTo>
                    <a:cubicBezTo>
                      <a:pt x="1008" y="79"/>
                      <a:pt x="1008" y="80"/>
                      <a:pt x="1009" y="81"/>
                    </a:cubicBezTo>
                    <a:cubicBezTo>
                      <a:pt x="1009" y="87"/>
                      <a:pt x="1008" y="95"/>
                      <a:pt x="1007" y="102"/>
                    </a:cubicBezTo>
                    <a:cubicBezTo>
                      <a:pt x="1007" y="102"/>
                      <a:pt x="1007" y="102"/>
                      <a:pt x="1007" y="102"/>
                    </a:cubicBezTo>
                    <a:cubicBezTo>
                      <a:pt x="1007" y="103"/>
                      <a:pt x="1007" y="103"/>
                      <a:pt x="1007" y="103"/>
                    </a:cubicBezTo>
                    <a:cubicBezTo>
                      <a:pt x="1006" y="113"/>
                      <a:pt x="1006" y="123"/>
                      <a:pt x="1005" y="130"/>
                    </a:cubicBezTo>
                    <a:cubicBezTo>
                      <a:pt x="1005" y="130"/>
                      <a:pt x="1005" y="129"/>
                      <a:pt x="1004" y="128"/>
                    </a:cubicBezTo>
                    <a:cubicBezTo>
                      <a:pt x="1004" y="107"/>
                      <a:pt x="1000" y="69"/>
                      <a:pt x="998" y="47"/>
                    </a:cubicBezTo>
                    <a:cubicBezTo>
                      <a:pt x="998" y="64"/>
                      <a:pt x="997" y="87"/>
                      <a:pt x="996" y="107"/>
                    </a:cubicBezTo>
                    <a:cubicBezTo>
                      <a:pt x="995" y="105"/>
                      <a:pt x="994" y="104"/>
                      <a:pt x="994" y="102"/>
                    </a:cubicBezTo>
                    <a:cubicBezTo>
                      <a:pt x="994" y="104"/>
                      <a:pt x="995" y="106"/>
                      <a:pt x="996" y="107"/>
                    </a:cubicBezTo>
                    <a:cubicBezTo>
                      <a:pt x="995" y="114"/>
                      <a:pt x="995" y="121"/>
                      <a:pt x="994" y="126"/>
                    </a:cubicBezTo>
                    <a:cubicBezTo>
                      <a:pt x="994" y="125"/>
                      <a:pt x="993" y="123"/>
                      <a:pt x="993" y="122"/>
                    </a:cubicBezTo>
                    <a:cubicBezTo>
                      <a:pt x="992" y="93"/>
                      <a:pt x="988" y="46"/>
                      <a:pt x="988" y="46"/>
                    </a:cubicBezTo>
                    <a:cubicBezTo>
                      <a:pt x="988" y="65"/>
                      <a:pt x="981" y="142"/>
                      <a:pt x="981" y="142"/>
                    </a:cubicBezTo>
                    <a:cubicBezTo>
                      <a:pt x="975" y="106"/>
                      <a:pt x="982" y="0"/>
                      <a:pt x="982" y="0"/>
                    </a:cubicBezTo>
                    <a:cubicBezTo>
                      <a:pt x="976" y="16"/>
                      <a:pt x="970" y="131"/>
                      <a:pt x="970" y="131"/>
                    </a:cubicBezTo>
                    <a:cubicBezTo>
                      <a:pt x="968" y="36"/>
                      <a:pt x="964" y="32"/>
                      <a:pt x="964" y="32"/>
                    </a:cubicBezTo>
                    <a:cubicBezTo>
                      <a:pt x="966" y="43"/>
                      <a:pt x="963" y="76"/>
                      <a:pt x="960" y="103"/>
                    </a:cubicBezTo>
                    <a:cubicBezTo>
                      <a:pt x="959" y="102"/>
                      <a:pt x="958" y="100"/>
                      <a:pt x="957" y="99"/>
                    </a:cubicBezTo>
                    <a:cubicBezTo>
                      <a:pt x="958" y="101"/>
                      <a:pt x="959" y="103"/>
                      <a:pt x="960" y="104"/>
                    </a:cubicBezTo>
                    <a:cubicBezTo>
                      <a:pt x="959" y="112"/>
                      <a:pt x="958" y="120"/>
                      <a:pt x="957" y="126"/>
                    </a:cubicBezTo>
                    <a:cubicBezTo>
                      <a:pt x="957" y="124"/>
                      <a:pt x="957" y="123"/>
                      <a:pt x="957" y="122"/>
                    </a:cubicBezTo>
                    <a:cubicBezTo>
                      <a:pt x="958" y="94"/>
                      <a:pt x="956" y="48"/>
                      <a:pt x="956" y="48"/>
                    </a:cubicBezTo>
                    <a:cubicBezTo>
                      <a:pt x="955" y="55"/>
                      <a:pt x="952" y="82"/>
                      <a:pt x="949" y="106"/>
                    </a:cubicBezTo>
                    <a:cubicBezTo>
                      <a:pt x="948" y="104"/>
                      <a:pt x="948" y="102"/>
                      <a:pt x="947" y="100"/>
                    </a:cubicBezTo>
                    <a:cubicBezTo>
                      <a:pt x="950" y="60"/>
                      <a:pt x="954" y="9"/>
                      <a:pt x="954" y="9"/>
                    </a:cubicBezTo>
                    <a:cubicBezTo>
                      <a:pt x="949" y="23"/>
                      <a:pt x="942" y="83"/>
                      <a:pt x="939" y="117"/>
                    </a:cubicBezTo>
                    <a:cubicBezTo>
                      <a:pt x="938" y="114"/>
                      <a:pt x="937" y="111"/>
                      <a:pt x="937" y="108"/>
                    </a:cubicBezTo>
                    <a:cubicBezTo>
                      <a:pt x="936" y="90"/>
                      <a:pt x="934" y="72"/>
                      <a:pt x="934" y="72"/>
                    </a:cubicBezTo>
                    <a:cubicBezTo>
                      <a:pt x="935" y="76"/>
                      <a:pt x="934" y="84"/>
                      <a:pt x="933" y="94"/>
                    </a:cubicBezTo>
                    <a:cubicBezTo>
                      <a:pt x="932" y="91"/>
                      <a:pt x="930" y="88"/>
                      <a:pt x="929" y="84"/>
                    </a:cubicBezTo>
                    <a:cubicBezTo>
                      <a:pt x="931" y="88"/>
                      <a:pt x="932" y="92"/>
                      <a:pt x="933" y="96"/>
                    </a:cubicBezTo>
                    <a:cubicBezTo>
                      <a:pt x="932" y="99"/>
                      <a:pt x="932" y="103"/>
                      <a:pt x="931" y="107"/>
                    </a:cubicBezTo>
                    <a:cubicBezTo>
                      <a:pt x="931" y="106"/>
                      <a:pt x="931" y="106"/>
                      <a:pt x="931" y="105"/>
                    </a:cubicBezTo>
                    <a:cubicBezTo>
                      <a:pt x="930" y="107"/>
                      <a:pt x="930" y="112"/>
                      <a:pt x="930" y="116"/>
                    </a:cubicBezTo>
                    <a:cubicBezTo>
                      <a:pt x="929" y="121"/>
                      <a:pt x="929" y="126"/>
                      <a:pt x="928" y="130"/>
                    </a:cubicBezTo>
                    <a:cubicBezTo>
                      <a:pt x="928" y="129"/>
                      <a:pt x="928" y="128"/>
                      <a:pt x="928" y="127"/>
                    </a:cubicBezTo>
                    <a:cubicBezTo>
                      <a:pt x="928" y="101"/>
                      <a:pt x="923" y="63"/>
                      <a:pt x="922" y="54"/>
                    </a:cubicBezTo>
                    <a:cubicBezTo>
                      <a:pt x="923" y="61"/>
                      <a:pt x="921" y="79"/>
                      <a:pt x="920" y="96"/>
                    </a:cubicBezTo>
                    <a:cubicBezTo>
                      <a:pt x="919" y="94"/>
                      <a:pt x="918" y="92"/>
                      <a:pt x="918" y="90"/>
                    </a:cubicBezTo>
                    <a:cubicBezTo>
                      <a:pt x="918" y="92"/>
                      <a:pt x="919" y="95"/>
                      <a:pt x="920" y="97"/>
                    </a:cubicBezTo>
                    <a:cubicBezTo>
                      <a:pt x="918" y="118"/>
                      <a:pt x="916" y="137"/>
                      <a:pt x="916" y="137"/>
                    </a:cubicBezTo>
                    <a:cubicBezTo>
                      <a:pt x="916" y="136"/>
                      <a:pt x="916" y="134"/>
                      <a:pt x="915" y="133"/>
                    </a:cubicBezTo>
                    <a:cubicBezTo>
                      <a:pt x="915" y="125"/>
                      <a:pt x="915" y="118"/>
                      <a:pt x="915" y="110"/>
                    </a:cubicBezTo>
                    <a:cubicBezTo>
                      <a:pt x="913" y="76"/>
                      <a:pt x="913" y="40"/>
                      <a:pt x="913" y="40"/>
                    </a:cubicBezTo>
                    <a:cubicBezTo>
                      <a:pt x="912" y="49"/>
                      <a:pt x="908" y="79"/>
                      <a:pt x="903" y="104"/>
                    </a:cubicBezTo>
                    <a:cubicBezTo>
                      <a:pt x="903" y="99"/>
                      <a:pt x="902" y="95"/>
                      <a:pt x="902" y="90"/>
                    </a:cubicBezTo>
                    <a:cubicBezTo>
                      <a:pt x="903" y="67"/>
                      <a:pt x="903" y="45"/>
                      <a:pt x="903" y="45"/>
                    </a:cubicBezTo>
                    <a:cubicBezTo>
                      <a:pt x="903" y="53"/>
                      <a:pt x="897" y="75"/>
                      <a:pt x="891" y="96"/>
                    </a:cubicBezTo>
                    <a:cubicBezTo>
                      <a:pt x="889" y="93"/>
                      <a:pt x="888" y="89"/>
                      <a:pt x="886" y="85"/>
                    </a:cubicBezTo>
                    <a:cubicBezTo>
                      <a:pt x="893" y="51"/>
                      <a:pt x="901" y="17"/>
                      <a:pt x="901" y="17"/>
                    </a:cubicBezTo>
                    <a:cubicBezTo>
                      <a:pt x="896" y="24"/>
                      <a:pt x="881" y="95"/>
                      <a:pt x="874" y="130"/>
                    </a:cubicBezTo>
                    <a:cubicBezTo>
                      <a:pt x="874" y="130"/>
                      <a:pt x="874" y="130"/>
                      <a:pt x="874" y="130"/>
                    </a:cubicBezTo>
                    <a:cubicBezTo>
                      <a:pt x="878" y="100"/>
                      <a:pt x="875" y="63"/>
                      <a:pt x="874" y="52"/>
                    </a:cubicBezTo>
                    <a:cubicBezTo>
                      <a:pt x="876" y="72"/>
                      <a:pt x="870" y="109"/>
                      <a:pt x="866" y="128"/>
                    </a:cubicBezTo>
                    <a:cubicBezTo>
                      <a:pt x="866" y="126"/>
                      <a:pt x="866" y="123"/>
                      <a:pt x="865" y="120"/>
                    </a:cubicBezTo>
                    <a:cubicBezTo>
                      <a:pt x="867" y="99"/>
                      <a:pt x="869" y="71"/>
                      <a:pt x="870" y="65"/>
                    </a:cubicBezTo>
                    <a:cubicBezTo>
                      <a:pt x="869" y="71"/>
                      <a:pt x="866" y="89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59" y="125"/>
                      <a:pt x="855" y="143"/>
                      <a:pt x="855" y="143"/>
                    </a:cubicBezTo>
                    <a:cubicBezTo>
                      <a:pt x="865" y="38"/>
                      <a:pt x="858" y="25"/>
                      <a:pt x="858" y="25"/>
                    </a:cubicBezTo>
                    <a:cubicBezTo>
                      <a:pt x="861" y="42"/>
                      <a:pt x="858" y="72"/>
                      <a:pt x="853" y="96"/>
                    </a:cubicBezTo>
                    <a:cubicBezTo>
                      <a:pt x="852" y="89"/>
                      <a:pt x="850" y="80"/>
                      <a:pt x="847" y="73"/>
                    </a:cubicBezTo>
                    <a:cubicBezTo>
                      <a:pt x="846" y="65"/>
                      <a:pt x="846" y="60"/>
                      <a:pt x="846" y="60"/>
                    </a:cubicBezTo>
                    <a:cubicBezTo>
                      <a:pt x="846" y="63"/>
                      <a:pt x="846" y="67"/>
                      <a:pt x="846" y="71"/>
                    </a:cubicBezTo>
                    <a:cubicBezTo>
                      <a:pt x="844" y="69"/>
                      <a:pt x="843" y="67"/>
                      <a:pt x="842" y="65"/>
                    </a:cubicBezTo>
                    <a:cubicBezTo>
                      <a:pt x="843" y="67"/>
                      <a:pt x="844" y="70"/>
                      <a:pt x="845" y="73"/>
                    </a:cubicBezTo>
                    <a:cubicBezTo>
                      <a:pt x="845" y="82"/>
                      <a:pt x="844" y="92"/>
                      <a:pt x="843" y="101"/>
                    </a:cubicBezTo>
                    <a:cubicBezTo>
                      <a:pt x="842" y="95"/>
                      <a:pt x="839" y="88"/>
                      <a:pt x="834" y="83"/>
                    </a:cubicBezTo>
                    <a:cubicBezTo>
                      <a:pt x="834" y="74"/>
                      <a:pt x="835" y="68"/>
                      <a:pt x="835" y="68"/>
                    </a:cubicBezTo>
                    <a:cubicBezTo>
                      <a:pt x="834" y="72"/>
                      <a:pt x="833" y="76"/>
                      <a:pt x="832" y="81"/>
                    </a:cubicBezTo>
                    <a:cubicBezTo>
                      <a:pt x="832" y="81"/>
                      <a:pt x="831" y="81"/>
                      <a:pt x="831" y="80"/>
                    </a:cubicBezTo>
                    <a:cubicBezTo>
                      <a:pt x="831" y="81"/>
                      <a:pt x="832" y="81"/>
                      <a:pt x="832" y="82"/>
                    </a:cubicBezTo>
                    <a:cubicBezTo>
                      <a:pt x="830" y="101"/>
                      <a:pt x="828" y="130"/>
                      <a:pt x="828" y="142"/>
                    </a:cubicBezTo>
                    <a:cubicBezTo>
                      <a:pt x="828" y="143"/>
                      <a:pt x="827" y="144"/>
                      <a:pt x="827" y="144"/>
                    </a:cubicBezTo>
                    <a:cubicBezTo>
                      <a:pt x="827" y="140"/>
                      <a:pt x="826" y="136"/>
                      <a:pt x="826" y="131"/>
                    </a:cubicBezTo>
                    <a:cubicBezTo>
                      <a:pt x="828" y="121"/>
                      <a:pt x="829" y="112"/>
                      <a:pt x="830" y="103"/>
                    </a:cubicBezTo>
                    <a:cubicBezTo>
                      <a:pt x="829" y="108"/>
                      <a:pt x="828" y="112"/>
                      <a:pt x="827" y="117"/>
                    </a:cubicBezTo>
                    <a:cubicBezTo>
                      <a:pt x="828" y="85"/>
                      <a:pt x="834" y="45"/>
                      <a:pt x="834" y="45"/>
                    </a:cubicBezTo>
                    <a:cubicBezTo>
                      <a:pt x="827" y="60"/>
                      <a:pt x="823" y="95"/>
                      <a:pt x="820" y="120"/>
                    </a:cubicBezTo>
                    <a:cubicBezTo>
                      <a:pt x="820" y="123"/>
                      <a:pt x="819" y="125"/>
                      <a:pt x="818" y="127"/>
                    </a:cubicBezTo>
                    <a:cubicBezTo>
                      <a:pt x="818" y="103"/>
                      <a:pt x="818" y="70"/>
                      <a:pt x="818" y="70"/>
                    </a:cubicBezTo>
                    <a:cubicBezTo>
                      <a:pt x="817" y="72"/>
                      <a:pt x="817" y="76"/>
                      <a:pt x="816" y="81"/>
                    </a:cubicBezTo>
                    <a:cubicBezTo>
                      <a:pt x="815" y="73"/>
                      <a:pt x="813" y="66"/>
                      <a:pt x="810" y="60"/>
                    </a:cubicBezTo>
                    <a:cubicBezTo>
                      <a:pt x="811" y="52"/>
                      <a:pt x="812" y="46"/>
                      <a:pt x="812" y="46"/>
                    </a:cubicBezTo>
                    <a:cubicBezTo>
                      <a:pt x="809" y="51"/>
                      <a:pt x="807" y="64"/>
                      <a:pt x="806" y="79"/>
                    </a:cubicBezTo>
                    <a:cubicBezTo>
                      <a:pt x="805" y="77"/>
                      <a:pt x="805" y="75"/>
                      <a:pt x="805" y="74"/>
                    </a:cubicBezTo>
                    <a:cubicBezTo>
                      <a:pt x="803" y="83"/>
                      <a:pt x="803" y="92"/>
                      <a:pt x="803" y="102"/>
                    </a:cubicBezTo>
                    <a:cubicBezTo>
                      <a:pt x="803" y="108"/>
                      <a:pt x="802" y="115"/>
                      <a:pt x="802" y="121"/>
                    </a:cubicBezTo>
                    <a:cubicBezTo>
                      <a:pt x="801" y="123"/>
                      <a:pt x="801" y="125"/>
                      <a:pt x="800" y="127"/>
                    </a:cubicBezTo>
                    <a:cubicBezTo>
                      <a:pt x="801" y="35"/>
                      <a:pt x="798" y="34"/>
                      <a:pt x="798" y="34"/>
                    </a:cubicBezTo>
                    <a:cubicBezTo>
                      <a:pt x="800" y="49"/>
                      <a:pt x="796" y="77"/>
                      <a:pt x="792" y="102"/>
                    </a:cubicBezTo>
                    <a:cubicBezTo>
                      <a:pt x="791" y="94"/>
                      <a:pt x="790" y="85"/>
                      <a:pt x="785" y="76"/>
                    </a:cubicBezTo>
                    <a:cubicBezTo>
                      <a:pt x="786" y="70"/>
                      <a:pt x="786" y="66"/>
                      <a:pt x="786" y="66"/>
                    </a:cubicBezTo>
                    <a:cubicBezTo>
                      <a:pt x="786" y="68"/>
                      <a:pt x="785" y="71"/>
                      <a:pt x="784" y="74"/>
                    </a:cubicBezTo>
                    <a:cubicBezTo>
                      <a:pt x="784" y="73"/>
                      <a:pt x="783" y="72"/>
                      <a:pt x="783" y="71"/>
                    </a:cubicBezTo>
                    <a:cubicBezTo>
                      <a:pt x="783" y="73"/>
                      <a:pt x="784" y="74"/>
                      <a:pt x="784" y="76"/>
                    </a:cubicBezTo>
                    <a:cubicBezTo>
                      <a:pt x="782" y="83"/>
                      <a:pt x="780" y="93"/>
                      <a:pt x="779" y="103"/>
                    </a:cubicBezTo>
                    <a:cubicBezTo>
                      <a:pt x="778" y="98"/>
                      <a:pt x="778" y="94"/>
                      <a:pt x="776" y="89"/>
                    </a:cubicBezTo>
                    <a:cubicBezTo>
                      <a:pt x="777" y="96"/>
                      <a:pt x="776" y="104"/>
                      <a:pt x="773" y="112"/>
                    </a:cubicBezTo>
                    <a:cubicBezTo>
                      <a:pt x="773" y="92"/>
                      <a:pt x="772" y="70"/>
                      <a:pt x="771" y="62"/>
                    </a:cubicBezTo>
                    <a:cubicBezTo>
                      <a:pt x="772" y="67"/>
                      <a:pt x="771" y="74"/>
                      <a:pt x="771" y="82"/>
                    </a:cubicBezTo>
                    <a:cubicBezTo>
                      <a:pt x="769" y="87"/>
                      <a:pt x="767" y="94"/>
                      <a:pt x="764" y="101"/>
                    </a:cubicBezTo>
                    <a:cubicBezTo>
                      <a:pt x="764" y="91"/>
                      <a:pt x="764" y="82"/>
                      <a:pt x="764" y="75"/>
                    </a:cubicBezTo>
                    <a:cubicBezTo>
                      <a:pt x="763" y="86"/>
                      <a:pt x="761" y="102"/>
                      <a:pt x="759" y="116"/>
                    </a:cubicBezTo>
                    <a:cubicBezTo>
                      <a:pt x="757" y="123"/>
                      <a:pt x="755" y="130"/>
                      <a:pt x="753" y="136"/>
                    </a:cubicBezTo>
                    <a:cubicBezTo>
                      <a:pt x="753" y="118"/>
                      <a:pt x="756" y="89"/>
                      <a:pt x="756" y="89"/>
                    </a:cubicBezTo>
                    <a:cubicBezTo>
                      <a:pt x="755" y="93"/>
                      <a:pt x="754" y="99"/>
                      <a:pt x="751" y="106"/>
                    </a:cubicBezTo>
                    <a:cubicBezTo>
                      <a:pt x="751" y="104"/>
                      <a:pt x="751" y="101"/>
                      <a:pt x="750" y="99"/>
                    </a:cubicBezTo>
                    <a:cubicBezTo>
                      <a:pt x="750" y="96"/>
                      <a:pt x="750" y="96"/>
                      <a:pt x="750" y="96"/>
                    </a:cubicBezTo>
                    <a:cubicBezTo>
                      <a:pt x="749" y="95"/>
                      <a:pt x="749" y="95"/>
                      <a:pt x="749" y="95"/>
                    </a:cubicBezTo>
                    <a:cubicBezTo>
                      <a:pt x="749" y="104"/>
                      <a:pt x="747" y="113"/>
                      <a:pt x="745" y="122"/>
                    </a:cubicBezTo>
                    <a:cubicBezTo>
                      <a:pt x="744" y="127"/>
                      <a:pt x="742" y="131"/>
                      <a:pt x="741" y="134"/>
                    </a:cubicBezTo>
                    <a:cubicBezTo>
                      <a:pt x="741" y="130"/>
                      <a:pt x="740" y="126"/>
                      <a:pt x="740" y="122"/>
                    </a:cubicBezTo>
                    <a:cubicBezTo>
                      <a:pt x="744" y="102"/>
                      <a:pt x="751" y="76"/>
                      <a:pt x="751" y="76"/>
                    </a:cubicBezTo>
                    <a:cubicBezTo>
                      <a:pt x="746" y="82"/>
                      <a:pt x="742" y="94"/>
                      <a:pt x="737" y="105"/>
                    </a:cubicBezTo>
                    <a:cubicBezTo>
                      <a:pt x="737" y="102"/>
                      <a:pt x="736" y="98"/>
                      <a:pt x="734" y="95"/>
                    </a:cubicBezTo>
                    <a:cubicBezTo>
                      <a:pt x="735" y="74"/>
                      <a:pt x="732" y="62"/>
                      <a:pt x="732" y="62"/>
                    </a:cubicBezTo>
                    <a:cubicBezTo>
                      <a:pt x="733" y="69"/>
                      <a:pt x="733" y="78"/>
                      <a:pt x="732" y="88"/>
                    </a:cubicBezTo>
                    <a:cubicBezTo>
                      <a:pt x="729" y="83"/>
                      <a:pt x="726" y="78"/>
                      <a:pt x="722" y="73"/>
                    </a:cubicBezTo>
                    <a:cubicBezTo>
                      <a:pt x="727" y="80"/>
                      <a:pt x="729" y="92"/>
                      <a:pt x="730" y="102"/>
                    </a:cubicBezTo>
                    <a:cubicBezTo>
                      <a:pt x="729" y="108"/>
                      <a:pt x="728" y="115"/>
                      <a:pt x="727" y="120"/>
                    </a:cubicBezTo>
                    <a:cubicBezTo>
                      <a:pt x="726" y="113"/>
                      <a:pt x="725" y="106"/>
                      <a:pt x="723" y="100"/>
                    </a:cubicBezTo>
                    <a:cubicBezTo>
                      <a:pt x="724" y="89"/>
                      <a:pt x="725" y="82"/>
                      <a:pt x="725" y="82"/>
                    </a:cubicBezTo>
                    <a:cubicBezTo>
                      <a:pt x="723" y="98"/>
                      <a:pt x="723" y="98"/>
                      <a:pt x="723" y="98"/>
                    </a:cubicBezTo>
                    <a:cubicBezTo>
                      <a:pt x="722" y="94"/>
                      <a:pt x="721" y="91"/>
                      <a:pt x="719" y="88"/>
                    </a:cubicBezTo>
                    <a:cubicBezTo>
                      <a:pt x="719" y="73"/>
                      <a:pt x="719" y="60"/>
                      <a:pt x="719" y="60"/>
                    </a:cubicBezTo>
                    <a:cubicBezTo>
                      <a:pt x="719" y="72"/>
                      <a:pt x="716" y="90"/>
                      <a:pt x="716" y="90"/>
                    </a:cubicBezTo>
                    <a:cubicBezTo>
                      <a:pt x="714" y="84"/>
                      <a:pt x="714" y="64"/>
                      <a:pt x="714" y="64"/>
                    </a:cubicBezTo>
                    <a:cubicBezTo>
                      <a:pt x="714" y="68"/>
                      <a:pt x="712" y="83"/>
                      <a:pt x="710" y="98"/>
                    </a:cubicBezTo>
                    <a:cubicBezTo>
                      <a:pt x="710" y="96"/>
                      <a:pt x="710" y="95"/>
                      <a:pt x="709" y="93"/>
                    </a:cubicBezTo>
                    <a:cubicBezTo>
                      <a:pt x="708" y="88"/>
                      <a:pt x="706" y="82"/>
                      <a:pt x="705" y="76"/>
                    </a:cubicBezTo>
                    <a:cubicBezTo>
                      <a:pt x="705" y="57"/>
                      <a:pt x="704" y="42"/>
                      <a:pt x="704" y="42"/>
                    </a:cubicBezTo>
                    <a:cubicBezTo>
                      <a:pt x="705" y="49"/>
                      <a:pt x="704" y="59"/>
                      <a:pt x="703" y="70"/>
                    </a:cubicBezTo>
                    <a:cubicBezTo>
                      <a:pt x="701" y="64"/>
                      <a:pt x="698" y="57"/>
                      <a:pt x="695" y="51"/>
                    </a:cubicBezTo>
                    <a:cubicBezTo>
                      <a:pt x="695" y="52"/>
                      <a:pt x="694" y="54"/>
                      <a:pt x="694" y="55"/>
                    </a:cubicBezTo>
                    <a:cubicBezTo>
                      <a:pt x="698" y="65"/>
                      <a:pt x="700" y="74"/>
                      <a:pt x="702" y="82"/>
                    </a:cubicBezTo>
                    <a:cubicBezTo>
                      <a:pt x="701" y="88"/>
                      <a:pt x="700" y="94"/>
                      <a:pt x="699" y="100"/>
                    </a:cubicBezTo>
                    <a:cubicBezTo>
                      <a:pt x="698" y="96"/>
                      <a:pt x="697" y="92"/>
                      <a:pt x="696" y="88"/>
                    </a:cubicBezTo>
                    <a:cubicBezTo>
                      <a:pt x="697" y="78"/>
                      <a:pt x="698" y="70"/>
                      <a:pt x="698" y="70"/>
                    </a:cubicBezTo>
                    <a:cubicBezTo>
                      <a:pt x="697" y="72"/>
                      <a:pt x="696" y="78"/>
                      <a:pt x="695" y="85"/>
                    </a:cubicBezTo>
                    <a:cubicBezTo>
                      <a:pt x="693" y="82"/>
                      <a:pt x="691" y="79"/>
                      <a:pt x="689" y="76"/>
                    </a:cubicBezTo>
                    <a:cubicBezTo>
                      <a:pt x="688" y="71"/>
                      <a:pt x="688" y="66"/>
                      <a:pt x="688" y="61"/>
                    </a:cubicBezTo>
                    <a:cubicBezTo>
                      <a:pt x="688" y="73"/>
                      <a:pt x="685" y="88"/>
                      <a:pt x="683" y="101"/>
                    </a:cubicBezTo>
                    <a:cubicBezTo>
                      <a:pt x="681" y="95"/>
                      <a:pt x="679" y="90"/>
                      <a:pt x="677" y="86"/>
                    </a:cubicBezTo>
                    <a:cubicBezTo>
                      <a:pt x="678" y="73"/>
                      <a:pt x="678" y="64"/>
                      <a:pt x="678" y="64"/>
                    </a:cubicBezTo>
                    <a:cubicBezTo>
                      <a:pt x="678" y="71"/>
                      <a:pt x="676" y="82"/>
                      <a:pt x="674" y="95"/>
                    </a:cubicBezTo>
                    <a:cubicBezTo>
                      <a:pt x="672" y="87"/>
                      <a:pt x="670" y="79"/>
                      <a:pt x="666" y="71"/>
                    </a:cubicBezTo>
                    <a:cubicBezTo>
                      <a:pt x="668" y="49"/>
                      <a:pt x="669" y="30"/>
                      <a:pt x="669" y="30"/>
                    </a:cubicBezTo>
                    <a:cubicBezTo>
                      <a:pt x="667" y="35"/>
                      <a:pt x="665" y="49"/>
                      <a:pt x="663" y="65"/>
                    </a:cubicBezTo>
                    <a:cubicBezTo>
                      <a:pt x="662" y="62"/>
                      <a:pt x="660" y="59"/>
                      <a:pt x="658" y="56"/>
                    </a:cubicBezTo>
                    <a:cubicBezTo>
                      <a:pt x="658" y="63"/>
                      <a:pt x="660" y="70"/>
                      <a:pt x="662" y="78"/>
                    </a:cubicBezTo>
                    <a:cubicBezTo>
                      <a:pt x="661" y="87"/>
                      <a:pt x="660" y="97"/>
                      <a:pt x="659" y="106"/>
                    </a:cubicBezTo>
                    <a:cubicBezTo>
                      <a:pt x="659" y="105"/>
                      <a:pt x="659" y="104"/>
                      <a:pt x="658" y="103"/>
                    </a:cubicBezTo>
                    <a:cubicBezTo>
                      <a:pt x="659" y="104"/>
                      <a:pt x="659" y="106"/>
                      <a:pt x="659" y="109"/>
                    </a:cubicBezTo>
                    <a:cubicBezTo>
                      <a:pt x="658" y="120"/>
                      <a:pt x="657" y="131"/>
                      <a:pt x="657" y="138"/>
                    </a:cubicBezTo>
                    <a:cubicBezTo>
                      <a:pt x="657" y="137"/>
                      <a:pt x="656" y="135"/>
                      <a:pt x="656" y="134"/>
                    </a:cubicBezTo>
                    <a:cubicBezTo>
                      <a:pt x="655" y="99"/>
                      <a:pt x="650" y="41"/>
                      <a:pt x="650" y="41"/>
                    </a:cubicBezTo>
                    <a:cubicBezTo>
                      <a:pt x="652" y="58"/>
                      <a:pt x="650" y="86"/>
                      <a:pt x="648" y="108"/>
                    </a:cubicBezTo>
                    <a:cubicBezTo>
                      <a:pt x="647" y="105"/>
                      <a:pt x="645" y="102"/>
                      <a:pt x="644" y="99"/>
                    </a:cubicBezTo>
                    <a:cubicBezTo>
                      <a:pt x="644" y="86"/>
                      <a:pt x="644" y="73"/>
                      <a:pt x="644" y="67"/>
                    </a:cubicBezTo>
                    <a:cubicBezTo>
                      <a:pt x="643" y="75"/>
                      <a:pt x="642" y="85"/>
                      <a:pt x="641" y="94"/>
                    </a:cubicBezTo>
                    <a:cubicBezTo>
                      <a:pt x="640" y="92"/>
                      <a:pt x="639" y="91"/>
                      <a:pt x="638" y="89"/>
                    </a:cubicBezTo>
                    <a:cubicBezTo>
                      <a:pt x="639" y="91"/>
                      <a:pt x="640" y="94"/>
                      <a:pt x="640" y="97"/>
                    </a:cubicBezTo>
                    <a:cubicBezTo>
                      <a:pt x="639" y="104"/>
                      <a:pt x="638" y="110"/>
                      <a:pt x="636" y="116"/>
                    </a:cubicBezTo>
                    <a:cubicBezTo>
                      <a:pt x="635" y="110"/>
                      <a:pt x="634" y="105"/>
                      <a:pt x="632" y="101"/>
                    </a:cubicBezTo>
                    <a:cubicBezTo>
                      <a:pt x="633" y="91"/>
                      <a:pt x="634" y="83"/>
                      <a:pt x="634" y="83"/>
                    </a:cubicBezTo>
                    <a:cubicBezTo>
                      <a:pt x="634" y="86"/>
                      <a:pt x="633" y="92"/>
                      <a:pt x="631" y="98"/>
                    </a:cubicBezTo>
                    <a:cubicBezTo>
                      <a:pt x="630" y="94"/>
                      <a:pt x="629" y="91"/>
                      <a:pt x="628" y="89"/>
                    </a:cubicBezTo>
                    <a:cubicBezTo>
                      <a:pt x="629" y="74"/>
                      <a:pt x="631" y="62"/>
                      <a:pt x="631" y="62"/>
                    </a:cubicBezTo>
                    <a:cubicBezTo>
                      <a:pt x="629" y="65"/>
                      <a:pt x="628" y="75"/>
                      <a:pt x="626" y="87"/>
                    </a:cubicBezTo>
                    <a:cubicBezTo>
                      <a:pt x="624" y="83"/>
                      <a:pt x="622" y="81"/>
                      <a:pt x="619" y="78"/>
                    </a:cubicBezTo>
                    <a:cubicBezTo>
                      <a:pt x="622" y="81"/>
                      <a:pt x="624" y="84"/>
                      <a:pt x="626" y="89"/>
                    </a:cubicBezTo>
                    <a:cubicBezTo>
                      <a:pt x="625" y="96"/>
                      <a:pt x="624" y="105"/>
                      <a:pt x="623" y="113"/>
                    </a:cubicBezTo>
                    <a:cubicBezTo>
                      <a:pt x="622" y="108"/>
                      <a:pt x="621" y="104"/>
                      <a:pt x="619" y="100"/>
                    </a:cubicBezTo>
                    <a:cubicBezTo>
                      <a:pt x="618" y="86"/>
                      <a:pt x="616" y="73"/>
                      <a:pt x="615" y="68"/>
                    </a:cubicBezTo>
                    <a:cubicBezTo>
                      <a:pt x="615" y="71"/>
                      <a:pt x="616" y="76"/>
                      <a:pt x="615" y="86"/>
                    </a:cubicBezTo>
                    <a:cubicBezTo>
                      <a:pt x="615" y="87"/>
                      <a:pt x="615" y="88"/>
                      <a:pt x="615" y="90"/>
                    </a:cubicBezTo>
                    <a:cubicBezTo>
                      <a:pt x="614" y="87"/>
                      <a:pt x="612" y="84"/>
                      <a:pt x="610" y="81"/>
                    </a:cubicBezTo>
                    <a:cubicBezTo>
                      <a:pt x="613" y="85"/>
                      <a:pt x="614" y="91"/>
                      <a:pt x="614" y="96"/>
                    </a:cubicBezTo>
                    <a:cubicBezTo>
                      <a:pt x="613" y="105"/>
                      <a:pt x="611" y="115"/>
                      <a:pt x="609" y="124"/>
                    </a:cubicBezTo>
                    <a:cubicBezTo>
                      <a:pt x="609" y="113"/>
                      <a:pt x="608" y="102"/>
                      <a:pt x="606" y="91"/>
                    </a:cubicBezTo>
                    <a:cubicBezTo>
                      <a:pt x="606" y="77"/>
                      <a:pt x="606" y="77"/>
                      <a:pt x="606" y="77"/>
                    </a:cubicBezTo>
                    <a:cubicBezTo>
                      <a:pt x="609" y="35"/>
                      <a:pt x="602" y="19"/>
                      <a:pt x="602" y="19"/>
                    </a:cubicBezTo>
                    <a:cubicBezTo>
                      <a:pt x="602" y="19"/>
                      <a:pt x="605" y="31"/>
                      <a:pt x="604" y="54"/>
                    </a:cubicBezTo>
                    <a:cubicBezTo>
                      <a:pt x="604" y="59"/>
                      <a:pt x="603" y="68"/>
                      <a:pt x="602" y="78"/>
                    </a:cubicBezTo>
                    <a:cubicBezTo>
                      <a:pt x="599" y="72"/>
                      <a:pt x="596" y="66"/>
                      <a:pt x="592" y="60"/>
                    </a:cubicBezTo>
                    <a:cubicBezTo>
                      <a:pt x="592" y="61"/>
                      <a:pt x="592" y="61"/>
                      <a:pt x="592" y="61"/>
                    </a:cubicBezTo>
                    <a:cubicBezTo>
                      <a:pt x="592" y="62"/>
                      <a:pt x="592" y="63"/>
                      <a:pt x="592" y="64"/>
                    </a:cubicBezTo>
                    <a:cubicBezTo>
                      <a:pt x="591" y="44"/>
                      <a:pt x="583" y="40"/>
                      <a:pt x="583" y="40"/>
                    </a:cubicBezTo>
                    <a:cubicBezTo>
                      <a:pt x="583" y="40"/>
                      <a:pt x="589" y="44"/>
                      <a:pt x="589" y="70"/>
                    </a:cubicBezTo>
                    <a:cubicBezTo>
                      <a:pt x="589" y="76"/>
                      <a:pt x="588" y="85"/>
                      <a:pt x="586" y="94"/>
                    </a:cubicBezTo>
                    <a:cubicBezTo>
                      <a:pt x="584" y="90"/>
                      <a:pt x="581" y="86"/>
                      <a:pt x="578" y="83"/>
                    </a:cubicBezTo>
                    <a:cubicBezTo>
                      <a:pt x="581" y="87"/>
                      <a:pt x="584" y="92"/>
                      <a:pt x="586" y="97"/>
                    </a:cubicBezTo>
                    <a:cubicBezTo>
                      <a:pt x="585" y="100"/>
                      <a:pt x="585" y="103"/>
                      <a:pt x="584" y="106"/>
                    </a:cubicBezTo>
                    <a:cubicBezTo>
                      <a:pt x="584" y="104"/>
                      <a:pt x="583" y="102"/>
                      <a:pt x="583" y="100"/>
                    </a:cubicBezTo>
                    <a:cubicBezTo>
                      <a:pt x="583" y="102"/>
                      <a:pt x="583" y="105"/>
                      <a:pt x="584" y="108"/>
                    </a:cubicBezTo>
                    <a:cubicBezTo>
                      <a:pt x="583" y="111"/>
                      <a:pt x="582" y="114"/>
                      <a:pt x="581" y="117"/>
                    </a:cubicBezTo>
                    <a:cubicBezTo>
                      <a:pt x="580" y="113"/>
                      <a:pt x="579" y="108"/>
                      <a:pt x="577" y="104"/>
                    </a:cubicBezTo>
                    <a:cubicBezTo>
                      <a:pt x="577" y="87"/>
                      <a:pt x="578" y="71"/>
                      <a:pt x="578" y="71"/>
                    </a:cubicBezTo>
                    <a:cubicBezTo>
                      <a:pt x="578" y="73"/>
                      <a:pt x="576" y="84"/>
                      <a:pt x="573" y="97"/>
                    </a:cubicBezTo>
                    <a:cubicBezTo>
                      <a:pt x="572" y="95"/>
                      <a:pt x="571" y="93"/>
                      <a:pt x="570" y="92"/>
                    </a:cubicBezTo>
                    <a:cubicBezTo>
                      <a:pt x="571" y="81"/>
                      <a:pt x="572" y="72"/>
                      <a:pt x="573" y="66"/>
                    </a:cubicBezTo>
                    <a:cubicBezTo>
                      <a:pt x="572" y="73"/>
                      <a:pt x="571" y="81"/>
                      <a:pt x="569" y="90"/>
                    </a:cubicBezTo>
                    <a:cubicBezTo>
                      <a:pt x="568" y="88"/>
                      <a:pt x="566" y="86"/>
                      <a:pt x="565" y="83"/>
                    </a:cubicBezTo>
                    <a:cubicBezTo>
                      <a:pt x="568" y="26"/>
                      <a:pt x="566" y="12"/>
                      <a:pt x="566" y="12"/>
                    </a:cubicBezTo>
                    <a:cubicBezTo>
                      <a:pt x="566" y="12"/>
                      <a:pt x="566" y="18"/>
                      <a:pt x="563" y="56"/>
                    </a:cubicBezTo>
                    <a:cubicBezTo>
                      <a:pt x="562" y="64"/>
                      <a:pt x="561" y="71"/>
                      <a:pt x="560" y="78"/>
                    </a:cubicBezTo>
                    <a:cubicBezTo>
                      <a:pt x="558" y="76"/>
                      <a:pt x="556" y="73"/>
                      <a:pt x="553" y="71"/>
                    </a:cubicBezTo>
                    <a:cubicBezTo>
                      <a:pt x="554" y="48"/>
                      <a:pt x="555" y="31"/>
                      <a:pt x="555" y="31"/>
                    </a:cubicBezTo>
                    <a:cubicBezTo>
                      <a:pt x="553" y="37"/>
                      <a:pt x="551" y="52"/>
                      <a:pt x="550" y="68"/>
                    </a:cubicBezTo>
                    <a:cubicBezTo>
                      <a:pt x="548" y="66"/>
                      <a:pt x="546" y="65"/>
                      <a:pt x="544" y="63"/>
                    </a:cubicBezTo>
                    <a:cubicBezTo>
                      <a:pt x="547" y="65"/>
                      <a:pt x="548" y="67"/>
                      <a:pt x="550" y="69"/>
                    </a:cubicBezTo>
                    <a:cubicBezTo>
                      <a:pt x="549" y="82"/>
                      <a:pt x="549" y="96"/>
                      <a:pt x="548" y="109"/>
                    </a:cubicBezTo>
                    <a:cubicBezTo>
                      <a:pt x="547" y="104"/>
                      <a:pt x="545" y="99"/>
                      <a:pt x="544" y="96"/>
                    </a:cubicBezTo>
                    <a:cubicBezTo>
                      <a:pt x="545" y="104"/>
                      <a:pt x="546" y="112"/>
                      <a:pt x="548" y="120"/>
                    </a:cubicBezTo>
                    <a:cubicBezTo>
                      <a:pt x="548" y="123"/>
                      <a:pt x="548" y="126"/>
                      <a:pt x="548" y="128"/>
                    </a:cubicBezTo>
                    <a:cubicBezTo>
                      <a:pt x="547" y="125"/>
                      <a:pt x="545" y="122"/>
                      <a:pt x="544" y="118"/>
                    </a:cubicBezTo>
                    <a:cubicBezTo>
                      <a:pt x="539" y="80"/>
                      <a:pt x="532" y="28"/>
                      <a:pt x="532" y="28"/>
                    </a:cubicBezTo>
                    <a:cubicBezTo>
                      <a:pt x="532" y="39"/>
                      <a:pt x="530" y="72"/>
                      <a:pt x="528" y="100"/>
                    </a:cubicBezTo>
                    <a:cubicBezTo>
                      <a:pt x="528" y="98"/>
                      <a:pt x="527" y="97"/>
                      <a:pt x="526" y="96"/>
                    </a:cubicBezTo>
                    <a:cubicBezTo>
                      <a:pt x="527" y="97"/>
                      <a:pt x="528" y="99"/>
                      <a:pt x="528" y="100"/>
                    </a:cubicBezTo>
                    <a:cubicBezTo>
                      <a:pt x="528" y="110"/>
                      <a:pt x="527" y="120"/>
                      <a:pt x="526" y="128"/>
                    </a:cubicBezTo>
                    <a:cubicBezTo>
                      <a:pt x="526" y="128"/>
                      <a:pt x="526" y="127"/>
                      <a:pt x="526" y="127"/>
                    </a:cubicBezTo>
                    <a:cubicBezTo>
                      <a:pt x="526" y="109"/>
                      <a:pt x="524" y="87"/>
                      <a:pt x="523" y="71"/>
                    </a:cubicBezTo>
                    <a:cubicBezTo>
                      <a:pt x="524" y="68"/>
                      <a:pt x="525" y="66"/>
                      <a:pt x="526" y="64"/>
                    </a:cubicBezTo>
                    <a:cubicBezTo>
                      <a:pt x="525" y="65"/>
                      <a:pt x="524" y="67"/>
                      <a:pt x="523" y="69"/>
                    </a:cubicBezTo>
                    <a:cubicBezTo>
                      <a:pt x="522" y="61"/>
                      <a:pt x="521" y="55"/>
                      <a:pt x="521" y="53"/>
                    </a:cubicBezTo>
                    <a:cubicBezTo>
                      <a:pt x="521" y="52"/>
                      <a:pt x="522" y="52"/>
                      <a:pt x="522" y="51"/>
                    </a:cubicBezTo>
                    <a:cubicBezTo>
                      <a:pt x="522" y="51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19" y="54"/>
                      <a:pt x="517" y="56"/>
                      <a:pt x="516" y="57"/>
                    </a:cubicBezTo>
                    <a:cubicBezTo>
                      <a:pt x="516" y="54"/>
                      <a:pt x="516" y="52"/>
                      <a:pt x="517" y="50"/>
                    </a:cubicBezTo>
                    <a:cubicBezTo>
                      <a:pt x="520" y="46"/>
                      <a:pt x="523" y="42"/>
                      <a:pt x="527" y="38"/>
                    </a:cubicBezTo>
                    <a:cubicBezTo>
                      <a:pt x="523" y="41"/>
                      <a:pt x="520" y="44"/>
                      <a:pt x="517" y="47"/>
                    </a:cubicBezTo>
                    <a:cubicBezTo>
                      <a:pt x="517" y="43"/>
                      <a:pt x="518" y="40"/>
                      <a:pt x="518" y="40"/>
                    </a:cubicBezTo>
                    <a:cubicBezTo>
                      <a:pt x="517" y="43"/>
                      <a:pt x="516" y="46"/>
                      <a:pt x="515" y="50"/>
                    </a:cubicBezTo>
                    <a:cubicBezTo>
                      <a:pt x="507" y="58"/>
                      <a:pt x="502" y="66"/>
                      <a:pt x="498" y="75"/>
                    </a:cubicBezTo>
                    <a:cubicBezTo>
                      <a:pt x="498" y="70"/>
                      <a:pt x="497" y="66"/>
                      <a:pt x="497" y="63"/>
                    </a:cubicBezTo>
                    <a:cubicBezTo>
                      <a:pt x="500" y="57"/>
                      <a:pt x="503" y="50"/>
                      <a:pt x="507" y="42"/>
                    </a:cubicBezTo>
                    <a:cubicBezTo>
                      <a:pt x="498" y="52"/>
                      <a:pt x="492" y="61"/>
                      <a:pt x="488" y="71"/>
                    </a:cubicBezTo>
                    <a:cubicBezTo>
                      <a:pt x="487" y="70"/>
                      <a:pt x="487" y="70"/>
                      <a:pt x="486" y="69"/>
                    </a:cubicBezTo>
                    <a:cubicBezTo>
                      <a:pt x="486" y="68"/>
                      <a:pt x="486" y="67"/>
                      <a:pt x="486" y="65"/>
                    </a:cubicBezTo>
                    <a:cubicBezTo>
                      <a:pt x="492" y="53"/>
                      <a:pt x="500" y="41"/>
                      <a:pt x="511" y="25"/>
                    </a:cubicBezTo>
                    <a:cubicBezTo>
                      <a:pt x="500" y="40"/>
                      <a:pt x="492" y="51"/>
                      <a:pt x="485" y="63"/>
                    </a:cubicBezTo>
                    <a:cubicBezTo>
                      <a:pt x="483" y="45"/>
                      <a:pt x="482" y="30"/>
                      <a:pt x="482" y="30"/>
                    </a:cubicBezTo>
                    <a:cubicBezTo>
                      <a:pt x="482" y="35"/>
                      <a:pt x="482" y="49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7"/>
                      <a:pt x="482" y="69"/>
                      <a:pt x="482" y="71"/>
                    </a:cubicBezTo>
                    <a:cubicBezTo>
                      <a:pt x="480" y="74"/>
                      <a:pt x="479" y="78"/>
                      <a:pt x="478" y="81"/>
                    </a:cubicBezTo>
                    <a:cubicBezTo>
                      <a:pt x="479" y="78"/>
                      <a:pt x="480" y="76"/>
                      <a:pt x="482" y="73"/>
                    </a:cubicBezTo>
                    <a:cubicBezTo>
                      <a:pt x="481" y="79"/>
                      <a:pt x="481" y="85"/>
                      <a:pt x="481" y="91"/>
                    </a:cubicBezTo>
                    <a:cubicBezTo>
                      <a:pt x="481" y="93"/>
                      <a:pt x="480" y="95"/>
                      <a:pt x="480" y="97"/>
                    </a:cubicBezTo>
                    <a:cubicBezTo>
                      <a:pt x="479" y="96"/>
                      <a:pt x="478" y="95"/>
                      <a:pt x="478" y="94"/>
                    </a:cubicBezTo>
                    <a:cubicBezTo>
                      <a:pt x="478" y="91"/>
                      <a:pt x="477" y="88"/>
                      <a:pt x="477" y="85"/>
                    </a:cubicBezTo>
                    <a:cubicBezTo>
                      <a:pt x="477" y="83"/>
                      <a:pt x="478" y="82"/>
                      <a:pt x="478" y="81"/>
                    </a:cubicBezTo>
                    <a:cubicBezTo>
                      <a:pt x="478" y="82"/>
                      <a:pt x="477" y="83"/>
                      <a:pt x="477" y="84"/>
                    </a:cubicBezTo>
                    <a:cubicBezTo>
                      <a:pt x="476" y="72"/>
                      <a:pt x="476" y="62"/>
                      <a:pt x="475" y="55"/>
                    </a:cubicBezTo>
                    <a:cubicBezTo>
                      <a:pt x="476" y="54"/>
                      <a:pt x="477" y="53"/>
                      <a:pt x="479" y="52"/>
                    </a:cubicBezTo>
                    <a:cubicBezTo>
                      <a:pt x="477" y="53"/>
                      <a:pt x="476" y="54"/>
                      <a:pt x="475" y="54"/>
                    </a:cubicBezTo>
                    <a:cubicBezTo>
                      <a:pt x="475" y="49"/>
                      <a:pt x="475" y="46"/>
                      <a:pt x="475" y="46"/>
                    </a:cubicBezTo>
                    <a:cubicBezTo>
                      <a:pt x="475" y="48"/>
                      <a:pt x="474" y="51"/>
                      <a:pt x="474" y="55"/>
                    </a:cubicBezTo>
                    <a:cubicBezTo>
                      <a:pt x="471" y="57"/>
                      <a:pt x="468" y="59"/>
                      <a:pt x="465" y="62"/>
                    </a:cubicBezTo>
                    <a:cubicBezTo>
                      <a:pt x="465" y="58"/>
                      <a:pt x="465" y="54"/>
                      <a:pt x="466" y="50"/>
                    </a:cubicBezTo>
                    <a:cubicBezTo>
                      <a:pt x="469" y="45"/>
                      <a:pt x="474" y="40"/>
                      <a:pt x="479" y="34"/>
                    </a:cubicBezTo>
                    <a:cubicBezTo>
                      <a:pt x="474" y="39"/>
                      <a:pt x="470" y="44"/>
                      <a:pt x="466" y="48"/>
                    </a:cubicBezTo>
                    <a:cubicBezTo>
                      <a:pt x="467" y="21"/>
                      <a:pt x="468" y="0"/>
                      <a:pt x="468" y="0"/>
                    </a:cubicBezTo>
                    <a:cubicBezTo>
                      <a:pt x="464" y="10"/>
                      <a:pt x="462" y="35"/>
                      <a:pt x="461" y="53"/>
                    </a:cubicBezTo>
                    <a:cubicBezTo>
                      <a:pt x="460" y="54"/>
                      <a:pt x="459" y="55"/>
                      <a:pt x="459" y="56"/>
                    </a:cubicBezTo>
                    <a:cubicBezTo>
                      <a:pt x="457" y="44"/>
                      <a:pt x="454" y="33"/>
                      <a:pt x="454" y="33"/>
                    </a:cubicBezTo>
                    <a:cubicBezTo>
                      <a:pt x="456" y="39"/>
                      <a:pt x="455" y="49"/>
                      <a:pt x="454" y="62"/>
                    </a:cubicBezTo>
                    <a:cubicBezTo>
                      <a:pt x="452" y="63"/>
                      <a:pt x="451" y="65"/>
                      <a:pt x="450" y="67"/>
                    </a:cubicBezTo>
                    <a:cubicBezTo>
                      <a:pt x="449" y="65"/>
                      <a:pt x="448" y="63"/>
                      <a:pt x="447" y="62"/>
                    </a:cubicBezTo>
                    <a:cubicBezTo>
                      <a:pt x="447" y="63"/>
                      <a:pt x="448" y="65"/>
                      <a:pt x="449" y="68"/>
                    </a:cubicBezTo>
                    <a:cubicBezTo>
                      <a:pt x="447" y="72"/>
                      <a:pt x="445" y="75"/>
                      <a:pt x="443" y="78"/>
                    </a:cubicBezTo>
                    <a:cubicBezTo>
                      <a:pt x="442" y="61"/>
                      <a:pt x="442" y="48"/>
                      <a:pt x="442" y="48"/>
                    </a:cubicBezTo>
                    <a:cubicBezTo>
                      <a:pt x="442" y="52"/>
                      <a:pt x="440" y="65"/>
                      <a:pt x="438" y="80"/>
                    </a:cubicBezTo>
                    <a:cubicBezTo>
                      <a:pt x="438" y="82"/>
                      <a:pt x="437" y="85"/>
                      <a:pt x="436" y="87"/>
                    </a:cubicBezTo>
                    <a:cubicBezTo>
                      <a:pt x="435" y="86"/>
                      <a:pt x="435" y="86"/>
                      <a:pt x="434" y="85"/>
                    </a:cubicBezTo>
                    <a:cubicBezTo>
                      <a:pt x="437" y="48"/>
                      <a:pt x="440" y="9"/>
                      <a:pt x="440" y="9"/>
                    </a:cubicBezTo>
                    <a:cubicBezTo>
                      <a:pt x="436" y="20"/>
                      <a:pt x="432" y="57"/>
                      <a:pt x="428" y="89"/>
                    </a:cubicBezTo>
                    <a:cubicBezTo>
                      <a:pt x="427" y="91"/>
                      <a:pt x="427" y="92"/>
                      <a:pt x="426" y="93"/>
                    </a:cubicBezTo>
                    <a:cubicBezTo>
                      <a:pt x="425" y="92"/>
                      <a:pt x="424" y="90"/>
                      <a:pt x="423" y="89"/>
                    </a:cubicBezTo>
                    <a:cubicBezTo>
                      <a:pt x="426" y="72"/>
                      <a:pt x="429" y="55"/>
                      <a:pt x="429" y="37"/>
                    </a:cubicBezTo>
                    <a:cubicBezTo>
                      <a:pt x="429" y="34"/>
                      <a:pt x="429" y="30"/>
                      <a:pt x="429" y="26"/>
                    </a:cubicBezTo>
                    <a:cubicBezTo>
                      <a:pt x="422" y="45"/>
                      <a:pt x="421" y="66"/>
                      <a:pt x="417" y="86"/>
                    </a:cubicBezTo>
                    <a:cubicBezTo>
                      <a:pt x="417" y="85"/>
                      <a:pt x="416" y="84"/>
                      <a:pt x="416" y="84"/>
                    </a:cubicBezTo>
                    <a:cubicBezTo>
                      <a:pt x="416" y="84"/>
                      <a:pt x="417" y="85"/>
                      <a:pt x="417" y="86"/>
                    </a:cubicBezTo>
                    <a:cubicBezTo>
                      <a:pt x="417" y="88"/>
                      <a:pt x="416" y="90"/>
                      <a:pt x="416" y="92"/>
                    </a:cubicBezTo>
                    <a:cubicBezTo>
                      <a:pt x="415" y="94"/>
                      <a:pt x="415" y="96"/>
                      <a:pt x="414" y="98"/>
                    </a:cubicBezTo>
                    <a:cubicBezTo>
                      <a:pt x="414" y="97"/>
                      <a:pt x="413" y="96"/>
                      <a:pt x="412" y="95"/>
                    </a:cubicBezTo>
                    <a:cubicBezTo>
                      <a:pt x="412" y="86"/>
                      <a:pt x="411" y="78"/>
                      <a:pt x="410" y="72"/>
                    </a:cubicBezTo>
                    <a:cubicBezTo>
                      <a:pt x="413" y="67"/>
                      <a:pt x="417" y="63"/>
                      <a:pt x="421" y="59"/>
                    </a:cubicBezTo>
                    <a:cubicBezTo>
                      <a:pt x="417" y="62"/>
                      <a:pt x="413" y="66"/>
                      <a:pt x="410" y="70"/>
                    </a:cubicBezTo>
                    <a:cubicBezTo>
                      <a:pt x="409" y="64"/>
                      <a:pt x="409" y="60"/>
                      <a:pt x="408" y="57"/>
                    </a:cubicBezTo>
                    <a:cubicBezTo>
                      <a:pt x="410" y="54"/>
                      <a:pt x="411" y="52"/>
                      <a:pt x="412" y="50"/>
                    </a:cubicBezTo>
                    <a:cubicBezTo>
                      <a:pt x="411" y="51"/>
                      <a:pt x="409" y="53"/>
                      <a:pt x="408" y="54"/>
                    </a:cubicBezTo>
                    <a:cubicBezTo>
                      <a:pt x="408" y="53"/>
                      <a:pt x="408" y="52"/>
                      <a:pt x="408" y="52"/>
                    </a:cubicBezTo>
                    <a:cubicBezTo>
                      <a:pt x="408" y="53"/>
                      <a:pt x="408" y="54"/>
                      <a:pt x="408" y="54"/>
                    </a:cubicBezTo>
                    <a:cubicBezTo>
                      <a:pt x="406" y="56"/>
                      <a:pt x="404" y="58"/>
                      <a:pt x="402" y="60"/>
                    </a:cubicBezTo>
                    <a:cubicBezTo>
                      <a:pt x="401" y="54"/>
                      <a:pt x="400" y="48"/>
                      <a:pt x="399" y="44"/>
                    </a:cubicBezTo>
                    <a:cubicBezTo>
                      <a:pt x="400" y="49"/>
                      <a:pt x="399" y="56"/>
                      <a:pt x="398" y="64"/>
                    </a:cubicBezTo>
                    <a:cubicBezTo>
                      <a:pt x="397" y="66"/>
                      <a:pt x="396" y="68"/>
                      <a:pt x="395" y="69"/>
                    </a:cubicBezTo>
                    <a:cubicBezTo>
                      <a:pt x="393" y="67"/>
                      <a:pt x="392" y="66"/>
                      <a:pt x="390" y="64"/>
                    </a:cubicBezTo>
                    <a:cubicBezTo>
                      <a:pt x="392" y="66"/>
                      <a:pt x="393" y="67"/>
                      <a:pt x="395" y="69"/>
                    </a:cubicBezTo>
                    <a:cubicBezTo>
                      <a:pt x="393" y="71"/>
                      <a:pt x="392" y="73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0" y="76"/>
                      <a:pt x="389" y="77"/>
                      <a:pt x="388" y="79"/>
                    </a:cubicBezTo>
                    <a:cubicBezTo>
                      <a:pt x="388" y="79"/>
                      <a:pt x="388" y="79"/>
                      <a:pt x="388" y="79"/>
                    </a:cubicBezTo>
                    <a:cubicBezTo>
                      <a:pt x="389" y="60"/>
                      <a:pt x="389" y="45"/>
                      <a:pt x="389" y="45"/>
                    </a:cubicBezTo>
                    <a:cubicBezTo>
                      <a:pt x="389" y="50"/>
                      <a:pt x="387" y="61"/>
                      <a:pt x="384" y="73"/>
                    </a:cubicBezTo>
                    <a:cubicBezTo>
                      <a:pt x="383" y="73"/>
                      <a:pt x="383" y="73"/>
                      <a:pt x="383" y="72"/>
                    </a:cubicBezTo>
                    <a:cubicBezTo>
                      <a:pt x="383" y="70"/>
                      <a:pt x="383" y="68"/>
                      <a:pt x="383" y="66"/>
                    </a:cubicBezTo>
                    <a:cubicBezTo>
                      <a:pt x="383" y="65"/>
                      <a:pt x="383" y="65"/>
                      <a:pt x="384" y="65"/>
                    </a:cubicBezTo>
                    <a:cubicBezTo>
                      <a:pt x="383" y="65"/>
                      <a:pt x="383" y="65"/>
                      <a:pt x="383" y="66"/>
                    </a:cubicBezTo>
                    <a:cubicBezTo>
                      <a:pt x="383" y="64"/>
                      <a:pt x="383" y="63"/>
                      <a:pt x="383" y="61"/>
                    </a:cubicBezTo>
                    <a:cubicBezTo>
                      <a:pt x="383" y="55"/>
                      <a:pt x="383" y="49"/>
                      <a:pt x="382" y="42"/>
                    </a:cubicBezTo>
                    <a:cubicBezTo>
                      <a:pt x="385" y="27"/>
                      <a:pt x="387" y="17"/>
                      <a:pt x="387" y="17"/>
                    </a:cubicBezTo>
                    <a:cubicBezTo>
                      <a:pt x="384" y="22"/>
                      <a:pt x="377" y="49"/>
                      <a:pt x="371" y="78"/>
                    </a:cubicBezTo>
                    <a:cubicBezTo>
                      <a:pt x="371" y="78"/>
                      <a:pt x="371" y="79"/>
                      <a:pt x="371" y="79"/>
                    </a:cubicBezTo>
                    <a:cubicBezTo>
                      <a:pt x="369" y="76"/>
                      <a:pt x="367" y="72"/>
                      <a:pt x="364" y="69"/>
                    </a:cubicBezTo>
                    <a:cubicBezTo>
                      <a:pt x="366" y="67"/>
                      <a:pt x="367" y="66"/>
                      <a:pt x="369" y="64"/>
                    </a:cubicBezTo>
                    <a:cubicBezTo>
                      <a:pt x="367" y="66"/>
                      <a:pt x="365" y="67"/>
                      <a:pt x="364" y="69"/>
                    </a:cubicBezTo>
                    <a:cubicBezTo>
                      <a:pt x="363" y="68"/>
                      <a:pt x="362" y="67"/>
                      <a:pt x="361" y="66"/>
                    </a:cubicBezTo>
                    <a:cubicBezTo>
                      <a:pt x="361" y="60"/>
                      <a:pt x="361" y="55"/>
                      <a:pt x="360" y="52"/>
                    </a:cubicBezTo>
                    <a:cubicBezTo>
                      <a:pt x="361" y="56"/>
                      <a:pt x="361" y="60"/>
                      <a:pt x="360" y="64"/>
                    </a:cubicBezTo>
                    <a:cubicBezTo>
                      <a:pt x="357" y="60"/>
                      <a:pt x="352" y="55"/>
                      <a:pt x="347" y="50"/>
                    </a:cubicBezTo>
                    <a:cubicBezTo>
                      <a:pt x="350" y="55"/>
                      <a:pt x="353" y="60"/>
                      <a:pt x="356" y="65"/>
                    </a:cubicBezTo>
                    <a:cubicBezTo>
                      <a:pt x="355" y="68"/>
                      <a:pt x="355" y="71"/>
                      <a:pt x="354" y="76"/>
                    </a:cubicBezTo>
                    <a:cubicBezTo>
                      <a:pt x="352" y="74"/>
                      <a:pt x="350" y="71"/>
                      <a:pt x="348" y="68"/>
                    </a:cubicBezTo>
                    <a:cubicBezTo>
                      <a:pt x="347" y="54"/>
                      <a:pt x="346" y="41"/>
                      <a:pt x="345" y="33"/>
                    </a:cubicBezTo>
                    <a:cubicBezTo>
                      <a:pt x="346" y="42"/>
                      <a:pt x="345" y="53"/>
                      <a:pt x="344" y="65"/>
                    </a:cubicBezTo>
                    <a:cubicBezTo>
                      <a:pt x="342" y="63"/>
                      <a:pt x="340" y="61"/>
                      <a:pt x="338" y="59"/>
                    </a:cubicBezTo>
                    <a:cubicBezTo>
                      <a:pt x="340" y="61"/>
                      <a:pt x="342" y="63"/>
                      <a:pt x="344" y="65"/>
                    </a:cubicBezTo>
                    <a:cubicBezTo>
                      <a:pt x="343" y="72"/>
                      <a:pt x="342" y="80"/>
                      <a:pt x="341" y="87"/>
                    </a:cubicBezTo>
                    <a:cubicBezTo>
                      <a:pt x="341" y="87"/>
                      <a:pt x="341" y="87"/>
                      <a:pt x="341" y="87"/>
                    </a:cubicBezTo>
                    <a:cubicBezTo>
                      <a:pt x="341" y="85"/>
                      <a:pt x="340" y="84"/>
                      <a:pt x="340" y="83"/>
                    </a:cubicBezTo>
                    <a:cubicBezTo>
                      <a:pt x="340" y="82"/>
                      <a:pt x="340" y="82"/>
                      <a:pt x="340" y="81"/>
                    </a:cubicBezTo>
                    <a:cubicBezTo>
                      <a:pt x="340" y="82"/>
                      <a:pt x="340" y="82"/>
                      <a:pt x="340" y="83"/>
                    </a:cubicBezTo>
                    <a:cubicBezTo>
                      <a:pt x="339" y="81"/>
                      <a:pt x="338" y="79"/>
                      <a:pt x="337" y="77"/>
                    </a:cubicBezTo>
                    <a:cubicBezTo>
                      <a:pt x="338" y="79"/>
                      <a:pt x="339" y="81"/>
                      <a:pt x="339" y="83"/>
                    </a:cubicBezTo>
                    <a:cubicBezTo>
                      <a:pt x="338" y="85"/>
                      <a:pt x="337" y="86"/>
                      <a:pt x="336" y="88"/>
                    </a:cubicBezTo>
                    <a:cubicBezTo>
                      <a:pt x="337" y="86"/>
                      <a:pt x="338" y="85"/>
                      <a:pt x="339" y="83"/>
                    </a:cubicBezTo>
                    <a:cubicBezTo>
                      <a:pt x="340" y="85"/>
                      <a:pt x="340" y="86"/>
                      <a:pt x="340" y="88"/>
                    </a:cubicBezTo>
                    <a:cubicBezTo>
                      <a:pt x="338" y="91"/>
                      <a:pt x="337" y="95"/>
                      <a:pt x="335" y="98"/>
                    </a:cubicBezTo>
                    <a:cubicBezTo>
                      <a:pt x="335" y="97"/>
                      <a:pt x="335" y="97"/>
                      <a:pt x="334" y="97"/>
                    </a:cubicBezTo>
                    <a:cubicBezTo>
                      <a:pt x="334" y="95"/>
                      <a:pt x="334" y="94"/>
                      <a:pt x="334" y="93"/>
                    </a:cubicBezTo>
                    <a:cubicBezTo>
                      <a:pt x="334" y="91"/>
                      <a:pt x="335" y="89"/>
                      <a:pt x="336" y="88"/>
                    </a:cubicBezTo>
                    <a:cubicBezTo>
                      <a:pt x="335" y="89"/>
                      <a:pt x="334" y="91"/>
                      <a:pt x="334" y="92"/>
                    </a:cubicBezTo>
                    <a:cubicBezTo>
                      <a:pt x="333" y="92"/>
                      <a:pt x="333" y="91"/>
                      <a:pt x="333" y="91"/>
                    </a:cubicBezTo>
                    <a:cubicBezTo>
                      <a:pt x="333" y="74"/>
                      <a:pt x="332" y="60"/>
                      <a:pt x="332" y="60"/>
                    </a:cubicBezTo>
                    <a:cubicBezTo>
                      <a:pt x="332" y="65"/>
                      <a:pt x="332" y="73"/>
                      <a:pt x="331" y="81"/>
                    </a:cubicBezTo>
                    <a:cubicBezTo>
                      <a:pt x="330" y="79"/>
                      <a:pt x="330" y="76"/>
                      <a:pt x="329" y="74"/>
                    </a:cubicBezTo>
                    <a:cubicBezTo>
                      <a:pt x="330" y="79"/>
                      <a:pt x="330" y="83"/>
                      <a:pt x="330" y="88"/>
                    </a:cubicBezTo>
                    <a:cubicBezTo>
                      <a:pt x="329" y="86"/>
                      <a:pt x="328" y="84"/>
                      <a:pt x="327" y="83"/>
                    </a:cubicBezTo>
                    <a:cubicBezTo>
                      <a:pt x="328" y="85"/>
                      <a:pt x="329" y="87"/>
                      <a:pt x="330" y="89"/>
                    </a:cubicBezTo>
                    <a:cubicBezTo>
                      <a:pt x="330" y="89"/>
                      <a:pt x="330" y="89"/>
                      <a:pt x="330" y="89"/>
                    </a:cubicBezTo>
                    <a:cubicBezTo>
                      <a:pt x="330" y="93"/>
                      <a:pt x="329" y="97"/>
                      <a:pt x="329" y="101"/>
                    </a:cubicBezTo>
                    <a:cubicBezTo>
                      <a:pt x="328" y="103"/>
                      <a:pt x="327" y="104"/>
                      <a:pt x="327" y="106"/>
                    </a:cubicBezTo>
                    <a:cubicBezTo>
                      <a:pt x="325" y="100"/>
                      <a:pt x="324" y="95"/>
                      <a:pt x="322" y="90"/>
                    </a:cubicBezTo>
                    <a:cubicBezTo>
                      <a:pt x="323" y="88"/>
                      <a:pt x="325" y="85"/>
                      <a:pt x="327" y="83"/>
                    </a:cubicBezTo>
                    <a:cubicBezTo>
                      <a:pt x="325" y="85"/>
                      <a:pt x="323" y="87"/>
                      <a:pt x="321" y="89"/>
                    </a:cubicBezTo>
                    <a:cubicBezTo>
                      <a:pt x="321" y="88"/>
                      <a:pt x="321" y="87"/>
                      <a:pt x="320" y="87"/>
                    </a:cubicBezTo>
                    <a:cubicBezTo>
                      <a:pt x="320" y="76"/>
                      <a:pt x="321" y="68"/>
                      <a:pt x="321" y="68"/>
                    </a:cubicBezTo>
                    <a:cubicBezTo>
                      <a:pt x="320" y="72"/>
                      <a:pt x="319" y="77"/>
                      <a:pt x="318" y="82"/>
                    </a:cubicBezTo>
                    <a:cubicBezTo>
                      <a:pt x="318" y="81"/>
                      <a:pt x="318" y="80"/>
                      <a:pt x="318" y="80"/>
                    </a:cubicBezTo>
                    <a:cubicBezTo>
                      <a:pt x="318" y="80"/>
                      <a:pt x="318" y="81"/>
                      <a:pt x="318" y="82"/>
                    </a:cubicBezTo>
                    <a:cubicBezTo>
                      <a:pt x="317" y="80"/>
                      <a:pt x="316" y="78"/>
                      <a:pt x="314" y="75"/>
                    </a:cubicBezTo>
                    <a:cubicBezTo>
                      <a:pt x="315" y="65"/>
                      <a:pt x="316" y="56"/>
                      <a:pt x="317" y="48"/>
                    </a:cubicBezTo>
                    <a:cubicBezTo>
                      <a:pt x="316" y="55"/>
                      <a:pt x="315" y="64"/>
                      <a:pt x="313" y="73"/>
                    </a:cubicBezTo>
                    <a:cubicBezTo>
                      <a:pt x="311" y="70"/>
                      <a:pt x="309" y="67"/>
                      <a:pt x="307" y="64"/>
                    </a:cubicBezTo>
                    <a:cubicBezTo>
                      <a:pt x="307" y="62"/>
                      <a:pt x="307" y="59"/>
                      <a:pt x="307" y="57"/>
                    </a:cubicBezTo>
                    <a:cubicBezTo>
                      <a:pt x="306" y="58"/>
                      <a:pt x="306" y="60"/>
                      <a:pt x="305" y="62"/>
                    </a:cubicBezTo>
                    <a:cubicBezTo>
                      <a:pt x="303" y="59"/>
                      <a:pt x="300" y="55"/>
                      <a:pt x="297" y="52"/>
                    </a:cubicBezTo>
                    <a:cubicBezTo>
                      <a:pt x="297" y="48"/>
                      <a:pt x="298" y="46"/>
                      <a:pt x="298" y="46"/>
                    </a:cubicBezTo>
                    <a:cubicBezTo>
                      <a:pt x="297" y="48"/>
                      <a:pt x="297" y="49"/>
                      <a:pt x="296" y="51"/>
                    </a:cubicBezTo>
                    <a:cubicBezTo>
                      <a:pt x="293" y="47"/>
                      <a:pt x="289" y="43"/>
                      <a:pt x="285" y="39"/>
                    </a:cubicBezTo>
                    <a:cubicBezTo>
                      <a:pt x="285" y="37"/>
                      <a:pt x="285" y="35"/>
                      <a:pt x="285" y="34"/>
                    </a:cubicBezTo>
                    <a:cubicBezTo>
                      <a:pt x="285" y="34"/>
                      <a:pt x="285" y="36"/>
                      <a:pt x="285" y="39"/>
                    </a:cubicBezTo>
                    <a:cubicBezTo>
                      <a:pt x="283" y="37"/>
                      <a:pt x="282" y="36"/>
                      <a:pt x="280" y="34"/>
                    </a:cubicBezTo>
                    <a:cubicBezTo>
                      <a:pt x="282" y="36"/>
                      <a:pt x="283" y="38"/>
                      <a:pt x="285" y="40"/>
                    </a:cubicBezTo>
                    <a:cubicBezTo>
                      <a:pt x="285" y="40"/>
                      <a:pt x="285" y="40"/>
                      <a:pt x="285" y="41"/>
                    </a:cubicBezTo>
                    <a:cubicBezTo>
                      <a:pt x="285" y="40"/>
                      <a:pt x="285" y="40"/>
                      <a:pt x="285" y="40"/>
                    </a:cubicBezTo>
                    <a:cubicBezTo>
                      <a:pt x="289" y="45"/>
                      <a:pt x="293" y="49"/>
                      <a:pt x="296" y="53"/>
                    </a:cubicBezTo>
                    <a:cubicBezTo>
                      <a:pt x="295" y="55"/>
                      <a:pt x="295" y="59"/>
                      <a:pt x="294" y="62"/>
                    </a:cubicBezTo>
                    <a:cubicBezTo>
                      <a:pt x="292" y="60"/>
                      <a:pt x="289" y="58"/>
                      <a:pt x="286" y="56"/>
                    </a:cubicBezTo>
                    <a:cubicBezTo>
                      <a:pt x="285" y="50"/>
                      <a:pt x="285" y="44"/>
                      <a:pt x="285" y="41"/>
                    </a:cubicBezTo>
                    <a:cubicBezTo>
                      <a:pt x="285" y="45"/>
                      <a:pt x="285" y="50"/>
                      <a:pt x="284" y="55"/>
                    </a:cubicBezTo>
                    <a:cubicBezTo>
                      <a:pt x="283" y="54"/>
                      <a:pt x="282" y="53"/>
                      <a:pt x="280" y="52"/>
                    </a:cubicBezTo>
                    <a:cubicBezTo>
                      <a:pt x="282" y="53"/>
                      <a:pt x="283" y="54"/>
                      <a:pt x="284" y="55"/>
                    </a:cubicBezTo>
                    <a:cubicBezTo>
                      <a:pt x="284" y="64"/>
                      <a:pt x="283" y="73"/>
                      <a:pt x="281" y="83"/>
                    </a:cubicBezTo>
                    <a:cubicBezTo>
                      <a:pt x="281" y="82"/>
                      <a:pt x="281" y="81"/>
                      <a:pt x="281" y="81"/>
                    </a:cubicBezTo>
                    <a:cubicBezTo>
                      <a:pt x="281" y="82"/>
                      <a:pt x="281" y="82"/>
                      <a:pt x="281" y="83"/>
                    </a:cubicBezTo>
                    <a:cubicBezTo>
                      <a:pt x="281" y="88"/>
                      <a:pt x="280" y="92"/>
                      <a:pt x="279" y="97"/>
                    </a:cubicBezTo>
                    <a:cubicBezTo>
                      <a:pt x="278" y="89"/>
                      <a:pt x="275" y="81"/>
                      <a:pt x="272" y="73"/>
                    </a:cubicBezTo>
                    <a:cubicBezTo>
                      <a:pt x="272" y="72"/>
                      <a:pt x="272" y="71"/>
                      <a:pt x="272" y="71"/>
                    </a:cubicBezTo>
                    <a:cubicBezTo>
                      <a:pt x="273" y="70"/>
                      <a:pt x="274" y="69"/>
                      <a:pt x="275" y="68"/>
                    </a:cubicBezTo>
                    <a:cubicBezTo>
                      <a:pt x="277" y="72"/>
                      <a:pt x="279" y="76"/>
                      <a:pt x="281" y="81"/>
                    </a:cubicBezTo>
                    <a:cubicBezTo>
                      <a:pt x="279" y="76"/>
                      <a:pt x="278" y="72"/>
                      <a:pt x="275" y="67"/>
                    </a:cubicBezTo>
                    <a:cubicBezTo>
                      <a:pt x="276" y="67"/>
                      <a:pt x="277" y="66"/>
                      <a:pt x="277" y="65"/>
                    </a:cubicBezTo>
                    <a:cubicBezTo>
                      <a:pt x="277" y="66"/>
                      <a:pt x="276" y="66"/>
                      <a:pt x="275" y="67"/>
                    </a:cubicBezTo>
                    <a:cubicBezTo>
                      <a:pt x="269" y="54"/>
                      <a:pt x="259" y="41"/>
                      <a:pt x="247" y="25"/>
                    </a:cubicBezTo>
                    <a:cubicBezTo>
                      <a:pt x="259" y="42"/>
                      <a:pt x="268" y="55"/>
                      <a:pt x="275" y="68"/>
                    </a:cubicBezTo>
                    <a:cubicBezTo>
                      <a:pt x="274" y="68"/>
                      <a:pt x="273" y="69"/>
                      <a:pt x="272" y="70"/>
                    </a:cubicBezTo>
                    <a:cubicBezTo>
                      <a:pt x="272" y="68"/>
                      <a:pt x="272" y="66"/>
                      <a:pt x="272" y="66"/>
                    </a:cubicBezTo>
                    <a:cubicBezTo>
                      <a:pt x="272" y="68"/>
                      <a:pt x="272" y="69"/>
                      <a:pt x="271" y="71"/>
                    </a:cubicBezTo>
                    <a:cubicBezTo>
                      <a:pt x="271" y="71"/>
                      <a:pt x="271" y="71"/>
                      <a:pt x="271" y="71"/>
                    </a:cubicBezTo>
                    <a:cubicBezTo>
                      <a:pt x="267" y="61"/>
                      <a:pt x="260" y="52"/>
                      <a:pt x="251" y="42"/>
                    </a:cubicBezTo>
                    <a:cubicBezTo>
                      <a:pt x="258" y="55"/>
                      <a:pt x="263" y="65"/>
                      <a:pt x="267" y="75"/>
                    </a:cubicBezTo>
                    <a:cubicBezTo>
                      <a:pt x="266" y="76"/>
                      <a:pt x="265" y="77"/>
                      <a:pt x="264" y="77"/>
                    </a:cubicBezTo>
                    <a:cubicBezTo>
                      <a:pt x="262" y="73"/>
                      <a:pt x="260" y="70"/>
                      <a:pt x="258" y="68"/>
                    </a:cubicBezTo>
                    <a:cubicBezTo>
                      <a:pt x="258" y="63"/>
                      <a:pt x="257" y="60"/>
                      <a:pt x="257" y="60"/>
                    </a:cubicBezTo>
                    <a:cubicBezTo>
                      <a:pt x="257" y="62"/>
                      <a:pt x="257" y="64"/>
                      <a:pt x="257" y="67"/>
                    </a:cubicBezTo>
                    <a:cubicBezTo>
                      <a:pt x="251" y="57"/>
                      <a:pt x="243" y="47"/>
                      <a:pt x="232" y="38"/>
                    </a:cubicBezTo>
                    <a:cubicBezTo>
                      <a:pt x="243" y="49"/>
                      <a:pt x="251" y="60"/>
                      <a:pt x="257" y="71"/>
                    </a:cubicBezTo>
                    <a:cubicBezTo>
                      <a:pt x="256" y="75"/>
                      <a:pt x="256" y="80"/>
                      <a:pt x="256" y="85"/>
                    </a:cubicBezTo>
                    <a:cubicBezTo>
                      <a:pt x="255" y="84"/>
                      <a:pt x="255" y="84"/>
                      <a:pt x="254" y="83"/>
                    </a:cubicBezTo>
                    <a:cubicBezTo>
                      <a:pt x="255" y="84"/>
                      <a:pt x="255" y="85"/>
                      <a:pt x="256" y="86"/>
                    </a:cubicBezTo>
                    <a:cubicBezTo>
                      <a:pt x="255" y="87"/>
                      <a:pt x="255" y="88"/>
                      <a:pt x="255" y="89"/>
                    </a:cubicBezTo>
                    <a:cubicBezTo>
                      <a:pt x="253" y="92"/>
                      <a:pt x="252" y="94"/>
                      <a:pt x="250" y="97"/>
                    </a:cubicBezTo>
                    <a:cubicBezTo>
                      <a:pt x="250" y="93"/>
                      <a:pt x="250" y="90"/>
                      <a:pt x="250" y="87"/>
                    </a:cubicBezTo>
                    <a:cubicBezTo>
                      <a:pt x="251" y="84"/>
                      <a:pt x="252" y="82"/>
                      <a:pt x="253" y="80"/>
                    </a:cubicBezTo>
                    <a:cubicBezTo>
                      <a:pt x="253" y="81"/>
                      <a:pt x="254" y="82"/>
                      <a:pt x="254" y="83"/>
                    </a:cubicBezTo>
                    <a:cubicBezTo>
                      <a:pt x="254" y="81"/>
                      <a:pt x="253" y="80"/>
                      <a:pt x="253" y="79"/>
                    </a:cubicBezTo>
                    <a:cubicBezTo>
                      <a:pt x="253" y="79"/>
                      <a:pt x="253" y="78"/>
                      <a:pt x="254" y="77"/>
                    </a:cubicBezTo>
                    <a:cubicBezTo>
                      <a:pt x="253" y="77"/>
                      <a:pt x="253" y="78"/>
                      <a:pt x="252" y="79"/>
                    </a:cubicBezTo>
                    <a:cubicBezTo>
                      <a:pt x="251" y="77"/>
                      <a:pt x="251" y="76"/>
                      <a:pt x="250" y="75"/>
                    </a:cubicBezTo>
                    <a:cubicBezTo>
                      <a:pt x="251" y="77"/>
                      <a:pt x="251" y="78"/>
                      <a:pt x="252" y="79"/>
                    </a:cubicBezTo>
                    <a:cubicBezTo>
                      <a:pt x="251" y="80"/>
                      <a:pt x="251" y="81"/>
                      <a:pt x="250" y="82"/>
                    </a:cubicBezTo>
                    <a:cubicBezTo>
                      <a:pt x="250" y="73"/>
                      <a:pt x="250" y="68"/>
                      <a:pt x="250" y="68"/>
                    </a:cubicBezTo>
                    <a:cubicBezTo>
                      <a:pt x="250" y="72"/>
                      <a:pt x="249" y="78"/>
                      <a:pt x="248" y="85"/>
                    </a:cubicBezTo>
                    <a:cubicBezTo>
                      <a:pt x="246" y="90"/>
                      <a:pt x="244" y="94"/>
                      <a:pt x="242" y="99"/>
                    </a:cubicBezTo>
                    <a:cubicBezTo>
                      <a:pt x="242" y="98"/>
                      <a:pt x="241" y="97"/>
                      <a:pt x="241" y="96"/>
                    </a:cubicBezTo>
                    <a:cubicBezTo>
                      <a:pt x="242" y="92"/>
                      <a:pt x="242" y="89"/>
                      <a:pt x="242" y="89"/>
                    </a:cubicBezTo>
                    <a:cubicBezTo>
                      <a:pt x="242" y="91"/>
                      <a:pt x="241" y="92"/>
                      <a:pt x="241" y="94"/>
                    </a:cubicBezTo>
                    <a:cubicBezTo>
                      <a:pt x="240" y="91"/>
                      <a:pt x="239" y="88"/>
                      <a:pt x="239" y="85"/>
                    </a:cubicBezTo>
                    <a:cubicBezTo>
                      <a:pt x="238" y="88"/>
                      <a:pt x="238" y="91"/>
                      <a:pt x="238" y="94"/>
                    </a:cubicBezTo>
                    <a:cubicBezTo>
                      <a:pt x="238" y="97"/>
                      <a:pt x="238" y="100"/>
                      <a:pt x="238" y="103"/>
                    </a:cubicBezTo>
                    <a:cubicBezTo>
                      <a:pt x="237" y="107"/>
                      <a:pt x="236" y="112"/>
                      <a:pt x="234" y="116"/>
                    </a:cubicBezTo>
                    <a:cubicBezTo>
                      <a:pt x="233" y="112"/>
                      <a:pt x="231" y="108"/>
                      <a:pt x="230" y="104"/>
                    </a:cubicBezTo>
                    <a:cubicBezTo>
                      <a:pt x="231" y="109"/>
                      <a:pt x="232" y="115"/>
                      <a:pt x="233" y="120"/>
                    </a:cubicBezTo>
                    <a:cubicBezTo>
                      <a:pt x="231" y="124"/>
                      <a:pt x="230" y="127"/>
                      <a:pt x="228" y="130"/>
                    </a:cubicBezTo>
                    <a:cubicBezTo>
                      <a:pt x="227" y="128"/>
                      <a:pt x="227" y="126"/>
                      <a:pt x="226" y="123"/>
                    </a:cubicBezTo>
                    <a:cubicBezTo>
                      <a:pt x="227" y="115"/>
                      <a:pt x="229" y="106"/>
                      <a:pt x="231" y="99"/>
                    </a:cubicBezTo>
                    <a:cubicBezTo>
                      <a:pt x="232" y="98"/>
                      <a:pt x="232" y="97"/>
                      <a:pt x="232" y="96"/>
                    </a:cubicBezTo>
                    <a:cubicBezTo>
                      <a:pt x="232" y="96"/>
                      <a:pt x="232" y="97"/>
                      <a:pt x="232" y="97"/>
                    </a:cubicBezTo>
                    <a:cubicBezTo>
                      <a:pt x="234" y="86"/>
                      <a:pt x="237" y="76"/>
                      <a:pt x="237" y="76"/>
                    </a:cubicBezTo>
                    <a:cubicBezTo>
                      <a:pt x="232" y="83"/>
                      <a:pt x="227" y="96"/>
                      <a:pt x="222" y="109"/>
                    </a:cubicBezTo>
                    <a:cubicBezTo>
                      <a:pt x="222" y="107"/>
                      <a:pt x="222" y="106"/>
                      <a:pt x="221" y="104"/>
                    </a:cubicBezTo>
                    <a:cubicBezTo>
                      <a:pt x="223" y="97"/>
                      <a:pt x="226" y="90"/>
                      <a:pt x="229" y="84"/>
                    </a:cubicBezTo>
                    <a:cubicBezTo>
                      <a:pt x="226" y="90"/>
                      <a:pt x="223" y="96"/>
                      <a:pt x="221" y="102"/>
                    </a:cubicBezTo>
                    <a:cubicBezTo>
                      <a:pt x="221" y="102"/>
                      <a:pt x="220" y="101"/>
                      <a:pt x="220" y="101"/>
                    </a:cubicBezTo>
                    <a:cubicBezTo>
                      <a:pt x="222" y="77"/>
                      <a:pt x="218" y="62"/>
                      <a:pt x="218" y="62"/>
                    </a:cubicBezTo>
                    <a:cubicBezTo>
                      <a:pt x="219" y="69"/>
                      <a:pt x="219" y="80"/>
                      <a:pt x="218" y="91"/>
                    </a:cubicBezTo>
                    <a:cubicBezTo>
                      <a:pt x="217" y="89"/>
                      <a:pt x="217" y="88"/>
                      <a:pt x="216" y="87"/>
                    </a:cubicBezTo>
                    <a:cubicBezTo>
                      <a:pt x="216" y="88"/>
                      <a:pt x="216" y="88"/>
                      <a:pt x="216" y="88"/>
                    </a:cubicBezTo>
                    <a:cubicBezTo>
                      <a:pt x="216" y="90"/>
                      <a:pt x="217" y="93"/>
                      <a:pt x="217" y="96"/>
                    </a:cubicBezTo>
                    <a:cubicBezTo>
                      <a:pt x="216" y="101"/>
                      <a:pt x="216" y="105"/>
                      <a:pt x="215" y="110"/>
                    </a:cubicBezTo>
                    <a:cubicBezTo>
                      <a:pt x="214" y="109"/>
                      <a:pt x="214" y="107"/>
                      <a:pt x="213" y="106"/>
                    </a:cubicBezTo>
                    <a:cubicBezTo>
                      <a:pt x="214" y="103"/>
                      <a:pt x="214" y="99"/>
                      <a:pt x="215" y="96"/>
                    </a:cubicBezTo>
                    <a:cubicBezTo>
                      <a:pt x="214" y="98"/>
                      <a:pt x="213" y="100"/>
                      <a:pt x="212" y="103"/>
                    </a:cubicBezTo>
                    <a:cubicBezTo>
                      <a:pt x="211" y="101"/>
                      <a:pt x="210" y="99"/>
                      <a:pt x="210" y="98"/>
                    </a:cubicBezTo>
                    <a:cubicBezTo>
                      <a:pt x="210" y="89"/>
                      <a:pt x="211" y="82"/>
                      <a:pt x="211" y="82"/>
                    </a:cubicBezTo>
                    <a:cubicBezTo>
                      <a:pt x="209" y="97"/>
                      <a:pt x="209" y="97"/>
                      <a:pt x="209" y="97"/>
                    </a:cubicBezTo>
                    <a:cubicBezTo>
                      <a:pt x="208" y="94"/>
                      <a:pt x="207" y="92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89"/>
                      <a:pt x="206" y="89"/>
                      <a:pt x="205" y="88"/>
                    </a:cubicBezTo>
                    <a:cubicBezTo>
                      <a:pt x="205" y="83"/>
                      <a:pt x="205" y="78"/>
                      <a:pt x="205" y="73"/>
                    </a:cubicBezTo>
                    <a:cubicBezTo>
                      <a:pt x="208" y="70"/>
                      <a:pt x="211" y="66"/>
                      <a:pt x="214" y="63"/>
                    </a:cubicBezTo>
                    <a:cubicBezTo>
                      <a:pt x="211" y="66"/>
                      <a:pt x="208" y="69"/>
                      <a:pt x="205" y="71"/>
                    </a:cubicBezTo>
                    <a:cubicBezTo>
                      <a:pt x="205" y="65"/>
                      <a:pt x="205" y="60"/>
                      <a:pt x="205" y="60"/>
                    </a:cubicBezTo>
                    <a:cubicBezTo>
                      <a:pt x="205" y="64"/>
                      <a:pt x="204" y="68"/>
                      <a:pt x="204" y="72"/>
                    </a:cubicBezTo>
                    <a:cubicBezTo>
                      <a:pt x="203" y="74"/>
                      <a:pt x="201" y="75"/>
                      <a:pt x="200" y="77"/>
                    </a:cubicBezTo>
                    <a:cubicBezTo>
                      <a:pt x="200" y="70"/>
                      <a:pt x="200" y="64"/>
                      <a:pt x="200" y="64"/>
                    </a:cubicBezTo>
                    <a:cubicBezTo>
                      <a:pt x="200" y="66"/>
                      <a:pt x="199" y="71"/>
                      <a:pt x="198" y="78"/>
                    </a:cubicBezTo>
                    <a:cubicBezTo>
                      <a:pt x="196" y="81"/>
                      <a:pt x="193" y="85"/>
                      <a:pt x="191" y="88"/>
                    </a:cubicBezTo>
                    <a:cubicBezTo>
                      <a:pt x="191" y="64"/>
                      <a:pt x="191" y="42"/>
                      <a:pt x="191" y="42"/>
                    </a:cubicBezTo>
                    <a:cubicBezTo>
                      <a:pt x="191" y="55"/>
                      <a:pt x="188" y="77"/>
                      <a:pt x="186" y="96"/>
                    </a:cubicBezTo>
                    <a:cubicBezTo>
                      <a:pt x="184" y="100"/>
                      <a:pt x="182" y="104"/>
                      <a:pt x="181" y="107"/>
                    </a:cubicBezTo>
                    <a:cubicBezTo>
                      <a:pt x="181" y="107"/>
                      <a:pt x="180" y="106"/>
                      <a:pt x="180" y="106"/>
                    </a:cubicBezTo>
                    <a:cubicBezTo>
                      <a:pt x="182" y="87"/>
                      <a:pt x="184" y="70"/>
                      <a:pt x="184" y="70"/>
                    </a:cubicBezTo>
                    <a:cubicBezTo>
                      <a:pt x="182" y="74"/>
                      <a:pt x="179" y="98"/>
                      <a:pt x="177" y="118"/>
                    </a:cubicBezTo>
                    <a:cubicBezTo>
                      <a:pt x="177" y="118"/>
                      <a:pt x="177" y="119"/>
                      <a:pt x="177" y="120"/>
                    </a:cubicBezTo>
                    <a:cubicBezTo>
                      <a:pt x="177" y="119"/>
                      <a:pt x="177" y="119"/>
                      <a:pt x="177" y="118"/>
                    </a:cubicBezTo>
                    <a:cubicBezTo>
                      <a:pt x="177" y="119"/>
                      <a:pt x="177" y="119"/>
                      <a:pt x="177" y="120"/>
                    </a:cubicBezTo>
                    <a:cubicBezTo>
                      <a:pt x="177" y="121"/>
                      <a:pt x="176" y="121"/>
                      <a:pt x="176" y="122"/>
                    </a:cubicBezTo>
                    <a:cubicBezTo>
                      <a:pt x="176" y="115"/>
                      <a:pt x="176" y="108"/>
                      <a:pt x="176" y="101"/>
                    </a:cubicBezTo>
                    <a:cubicBezTo>
                      <a:pt x="176" y="101"/>
                      <a:pt x="176" y="100"/>
                      <a:pt x="176" y="100"/>
                    </a:cubicBezTo>
                    <a:cubicBezTo>
                      <a:pt x="176" y="100"/>
                      <a:pt x="176" y="101"/>
                      <a:pt x="176" y="101"/>
                    </a:cubicBezTo>
                    <a:cubicBezTo>
                      <a:pt x="176" y="98"/>
                      <a:pt x="176" y="94"/>
                      <a:pt x="176" y="91"/>
                    </a:cubicBezTo>
                    <a:cubicBezTo>
                      <a:pt x="177" y="88"/>
                      <a:pt x="179" y="85"/>
                      <a:pt x="181" y="83"/>
                    </a:cubicBezTo>
                    <a:cubicBezTo>
                      <a:pt x="179" y="85"/>
                      <a:pt x="177" y="87"/>
                      <a:pt x="176" y="90"/>
                    </a:cubicBezTo>
                    <a:cubicBezTo>
                      <a:pt x="175" y="79"/>
                      <a:pt x="174" y="69"/>
                      <a:pt x="174" y="61"/>
                    </a:cubicBezTo>
                    <a:cubicBezTo>
                      <a:pt x="174" y="73"/>
                      <a:pt x="172" y="87"/>
                      <a:pt x="169" y="100"/>
                    </a:cubicBezTo>
                    <a:cubicBezTo>
                      <a:pt x="165" y="107"/>
                      <a:pt x="162" y="115"/>
                      <a:pt x="160" y="123"/>
                    </a:cubicBezTo>
                    <a:cubicBezTo>
                      <a:pt x="161" y="109"/>
                      <a:pt x="162" y="92"/>
                      <a:pt x="163" y="80"/>
                    </a:cubicBezTo>
                    <a:cubicBezTo>
                      <a:pt x="165" y="73"/>
                      <a:pt x="167" y="67"/>
                      <a:pt x="167" y="61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57" y="75"/>
                      <a:pt x="153" y="88"/>
                      <a:pt x="151" y="102"/>
                    </a:cubicBezTo>
                    <a:cubicBezTo>
                      <a:pt x="151" y="102"/>
                      <a:pt x="151" y="101"/>
                      <a:pt x="151" y="101"/>
                    </a:cubicBezTo>
                    <a:cubicBezTo>
                      <a:pt x="152" y="68"/>
                      <a:pt x="155" y="30"/>
                      <a:pt x="155" y="30"/>
                    </a:cubicBezTo>
                    <a:cubicBezTo>
                      <a:pt x="153" y="38"/>
                      <a:pt x="150" y="60"/>
                      <a:pt x="148" y="83"/>
                    </a:cubicBezTo>
                    <a:cubicBezTo>
                      <a:pt x="145" y="87"/>
                      <a:pt x="143" y="92"/>
                      <a:pt x="140" y="97"/>
                    </a:cubicBezTo>
                    <a:cubicBezTo>
                      <a:pt x="140" y="91"/>
                      <a:pt x="139" y="85"/>
                      <a:pt x="139" y="79"/>
                    </a:cubicBezTo>
                    <a:cubicBezTo>
                      <a:pt x="139" y="78"/>
                      <a:pt x="139" y="78"/>
                      <a:pt x="140" y="78"/>
                    </a:cubicBezTo>
                    <a:cubicBezTo>
                      <a:pt x="139" y="78"/>
                      <a:pt x="139" y="78"/>
                      <a:pt x="139" y="78"/>
                    </a:cubicBezTo>
                    <a:cubicBezTo>
                      <a:pt x="137" y="58"/>
                      <a:pt x="136" y="41"/>
                      <a:pt x="136" y="41"/>
                    </a:cubicBezTo>
                    <a:cubicBezTo>
                      <a:pt x="137" y="52"/>
                      <a:pt x="137" y="67"/>
                      <a:pt x="136" y="82"/>
                    </a:cubicBezTo>
                    <a:cubicBezTo>
                      <a:pt x="134" y="84"/>
                      <a:pt x="132" y="87"/>
                      <a:pt x="130" y="92"/>
                    </a:cubicBezTo>
                    <a:cubicBezTo>
                      <a:pt x="130" y="82"/>
                      <a:pt x="130" y="72"/>
                      <a:pt x="130" y="68"/>
                    </a:cubicBezTo>
                    <a:cubicBezTo>
                      <a:pt x="129" y="77"/>
                      <a:pt x="128" y="88"/>
                      <a:pt x="126" y="99"/>
                    </a:cubicBezTo>
                    <a:cubicBezTo>
                      <a:pt x="125" y="94"/>
                      <a:pt x="123" y="89"/>
                      <a:pt x="121" y="84"/>
                    </a:cubicBezTo>
                    <a:cubicBezTo>
                      <a:pt x="123" y="90"/>
                      <a:pt x="125" y="96"/>
                      <a:pt x="126" y="101"/>
                    </a:cubicBezTo>
                    <a:cubicBezTo>
                      <a:pt x="125" y="105"/>
                      <a:pt x="124" y="109"/>
                      <a:pt x="123" y="113"/>
                    </a:cubicBezTo>
                    <a:cubicBezTo>
                      <a:pt x="123" y="110"/>
                      <a:pt x="123" y="108"/>
                      <a:pt x="123" y="105"/>
                    </a:cubicBezTo>
                    <a:cubicBezTo>
                      <a:pt x="122" y="108"/>
                      <a:pt x="122" y="115"/>
                      <a:pt x="122" y="119"/>
                    </a:cubicBezTo>
                    <a:cubicBezTo>
                      <a:pt x="122" y="120"/>
                      <a:pt x="121" y="122"/>
                      <a:pt x="121" y="124"/>
                    </a:cubicBezTo>
                    <a:cubicBezTo>
                      <a:pt x="120" y="125"/>
                      <a:pt x="120" y="127"/>
                      <a:pt x="120" y="128"/>
                    </a:cubicBezTo>
                    <a:cubicBezTo>
                      <a:pt x="119" y="124"/>
                      <a:pt x="118" y="120"/>
                      <a:pt x="117" y="116"/>
                    </a:cubicBezTo>
                    <a:cubicBezTo>
                      <a:pt x="118" y="108"/>
                      <a:pt x="119" y="100"/>
                      <a:pt x="119" y="94"/>
                    </a:cubicBezTo>
                    <a:cubicBezTo>
                      <a:pt x="120" y="92"/>
                      <a:pt x="120" y="91"/>
                      <a:pt x="121" y="89"/>
                    </a:cubicBezTo>
                    <a:cubicBezTo>
                      <a:pt x="121" y="90"/>
                      <a:pt x="120" y="91"/>
                      <a:pt x="119" y="92"/>
                    </a:cubicBezTo>
                    <a:cubicBezTo>
                      <a:pt x="120" y="87"/>
                      <a:pt x="120" y="83"/>
                      <a:pt x="120" y="83"/>
                    </a:cubicBezTo>
                    <a:cubicBezTo>
                      <a:pt x="120" y="85"/>
                      <a:pt x="119" y="89"/>
                      <a:pt x="118" y="93"/>
                    </a:cubicBezTo>
                    <a:cubicBezTo>
                      <a:pt x="117" y="96"/>
                      <a:pt x="115" y="99"/>
                      <a:pt x="114" y="102"/>
                    </a:cubicBezTo>
                    <a:cubicBezTo>
                      <a:pt x="113" y="101"/>
                      <a:pt x="113" y="100"/>
                      <a:pt x="113" y="99"/>
                    </a:cubicBezTo>
                    <a:cubicBezTo>
                      <a:pt x="115" y="80"/>
                      <a:pt x="117" y="62"/>
                      <a:pt x="117" y="62"/>
                    </a:cubicBezTo>
                    <a:cubicBezTo>
                      <a:pt x="115" y="66"/>
                      <a:pt x="113" y="80"/>
                      <a:pt x="111" y="95"/>
                    </a:cubicBezTo>
                    <a:cubicBezTo>
                      <a:pt x="111" y="94"/>
                      <a:pt x="110" y="92"/>
                      <a:pt x="109" y="90"/>
                    </a:cubicBezTo>
                    <a:cubicBezTo>
                      <a:pt x="110" y="92"/>
                      <a:pt x="111" y="94"/>
                      <a:pt x="111" y="96"/>
                    </a:cubicBezTo>
                    <a:cubicBezTo>
                      <a:pt x="111" y="101"/>
                      <a:pt x="110" y="106"/>
                      <a:pt x="110" y="110"/>
                    </a:cubicBezTo>
                    <a:cubicBezTo>
                      <a:pt x="109" y="113"/>
                      <a:pt x="108" y="116"/>
                      <a:pt x="107" y="118"/>
                    </a:cubicBezTo>
                    <a:cubicBezTo>
                      <a:pt x="106" y="94"/>
                      <a:pt x="101" y="64"/>
                      <a:pt x="101" y="64"/>
                    </a:cubicBezTo>
                    <a:cubicBezTo>
                      <a:pt x="101" y="64"/>
                      <a:pt x="101" y="73"/>
                      <a:pt x="101" y="82"/>
                    </a:cubicBezTo>
                    <a:cubicBezTo>
                      <a:pt x="102" y="88"/>
                      <a:pt x="101" y="98"/>
                      <a:pt x="99" y="108"/>
                    </a:cubicBezTo>
                    <a:cubicBezTo>
                      <a:pt x="98" y="111"/>
                      <a:pt x="97" y="114"/>
                      <a:pt x="96" y="117"/>
                    </a:cubicBezTo>
                    <a:cubicBezTo>
                      <a:pt x="96" y="108"/>
                      <a:pt x="95" y="99"/>
                      <a:pt x="93" y="90"/>
                    </a:cubicBezTo>
                    <a:cubicBezTo>
                      <a:pt x="97" y="78"/>
                      <a:pt x="101" y="66"/>
                      <a:pt x="100" y="56"/>
                    </a:cubicBezTo>
                    <a:cubicBezTo>
                      <a:pt x="97" y="62"/>
                      <a:pt x="95" y="67"/>
                      <a:pt x="92" y="72"/>
                    </a:cubicBezTo>
                    <a:cubicBezTo>
                      <a:pt x="95" y="34"/>
                      <a:pt x="88" y="19"/>
                      <a:pt x="88" y="19"/>
                    </a:cubicBezTo>
                    <a:cubicBezTo>
                      <a:pt x="88" y="19"/>
                      <a:pt x="92" y="31"/>
                      <a:pt x="90" y="54"/>
                    </a:cubicBezTo>
                    <a:cubicBezTo>
                      <a:pt x="89" y="61"/>
                      <a:pt x="88" y="74"/>
                      <a:pt x="87" y="88"/>
                    </a:cubicBezTo>
                    <a:cubicBezTo>
                      <a:pt x="85" y="92"/>
                      <a:pt x="85" y="97"/>
                      <a:pt x="84" y="101"/>
                    </a:cubicBezTo>
                    <a:cubicBezTo>
                      <a:pt x="83" y="98"/>
                      <a:pt x="82" y="95"/>
                      <a:pt x="81" y="91"/>
                    </a:cubicBezTo>
                    <a:cubicBezTo>
                      <a:pt x="81" y="89"/>
                      <a:pt x="81" y="87"/>
                      <a:pt x="82" y="85"/>
                    </a:cubicBezTo>
                    <a:cubicBezTo>
                      <a:pt x="81" y="87"/>
                      <a:pt x="81" y="88"/>
                      <a:pt x="80" y="90"/>
                    </a:cubicBezTo>
                    <a:cubicBezTo>
                      <a:pt x="80" y="89"/>
                      <a:pt x="79" y="88"/>
                      <a:pt x="79" y="87"/>
                    </a:cubicBezTo>
                    <a:cubicBezTo>
                      <a:pt x="79" y="83"/>
                      <a:pt x="79" y="78"/>
                      <a:pt x="79" y="74"/>
                    </a:cubicBezTo>
                    <a:cubicBezTo>
                      <a:pt x="79" y="46"/>
                      <a:pt x="69" y="40"/>
                      <a:pt x="69" y="40"/>
                    </a:cubicBezTo>
                    <a:cubicBezTo>
                      <a:pt x="69" y="40"/>
                      <a:pt x="75" y="44"/>
                      <a:pt x="75" y="70"/>
                    </a:cubicBezTo>
                    <a:cubicBezTo>
                      <a:pt x="75" y="84"/>
                      <a:pt x="70" y="108"/>
                      <a:pt x="65" y="125"/>
                    </a:cubicBezTo>
                    <a:cubicBezTo>
                      <a:pt x="65" y="123"/>
                      <a:pt x="65" y="120"/>
                      <a:pt x="64" y="118"/>
                    </a:cubicBezTo>
                    <a:cubicBezTo>
                      <a:pt x="65" y="111"/>
                      <a:pt x="66" y="105"/>
                      <a:pt x="66" y="98"/>
                    </a:cubicBezTo>
                    <a:cubicBezTo>
                      <a:pt x="65" y="101"/>
                      <a:pt x="64" y="104"/>
                      <a:pt x="64" y="107"/>
                    </a:cubicBezTo>
                    <a:cubicBezTo>
                      <a:pt x="64" y="107"/>
                      <a:pt x="64" y="106"/>
                      <a:pt x="64" y="106"/>
                    </a:cubicBezTo>
                    <a:cubicBezTo>
                      <a:pt x="64" y="97"/>
                      <a:pt x="65" y="83"/>
                      <a:pt x="72" y="75"/>
                    </a:cubicBezTo>
                    <a:cubicBezTo>
                      <a:pt x="68" y="77"/>
                      <a:pt x="65" y="82"/>
                      <a:pt x="63" y="87"/>
                    </a:cubicBezTo>
                    <a:cubicBezTo>
                      <a:pt x="64" y="78"/>
                      <a:pt x="64" y="71"/>
                      <a:pt x="64" y="71"/>
                    </a:cubicBezTo>
                    <a:cubicBezTo>
                      <a:pt x="64" y="75"/>
                      <a:pt x="60" y="97"/>
                      <a:pt x="56" y="116"/>
                    </a:cubicBezTo>
                    <a:cubicBezTo>
                      <a:pt x="56" y="114"/>
                      <a:pt x="56" y="112"/>
                      <a:pt x="55" y="110"/>
                    </a:cubicBezTo>
                    <a:cubicBezTo>
                      <a:pt x="56" y="99"/>
                      <a:pt x="57" y="87"/>
                      <a:pt x="58" y="78"/>
                    </a:cubicBezTo>
                    <a:cubicBezTo>
                      <a:pt x="60" y="71"/>
                      <a:pt x="62" y="63"/>
                      <a:pt x="65" y="55"/>
                    </a:cubicBezTo>
                    <a:cubicBezTo>
                      <a:pt x="65" y="54"/>
                      <a:pt x="64" y="52"/>
                      <a:pt x="64" y="51"/>
                    </a:cubicBezTo>
                    <a:cubicBezTo>
                      <a:pt x="62" y="54"/>
                      <a:pt x="61" y="57"/>
                      <a:pt x="60" y="60"/>
                    </a:cubicBezTo>
                    <a:cubicBezTo>
                      <a:pt x="60" y="60"/>
                      <a:pt x="60" y="59"/>
                      <a:pt x="60" y="59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56" y="70"/>
                      <a:pt x="53" y="80"/>
                      <a:pt x="51" y="89"/>
                    </a:cubicBezTo>
                    <a:cubicBezTo>
                      <a:pt x="56" y="30"/>
                      <a:pt x="53" y="15"/>
                      <a:pt x="52" y="13"/>
                    </a:cubicBezTo>
                    <a:cubicBezTo>
                      <a:pt x="52" y="15"/>
                      <a:pt x="53" y="22"/>
                      <a:pt x="49" y="56"/>
                    </a:cubicBezTo>
                    <a:cubicBezTo>
                      <a:pt x="47" y="68"/>
                      <a:pt x="46" y="80"/>
                      <a:pt x="44" y="91"/>
                    </a:cubicBezTo>
                    <a:cubicBezTo>
                      <a:pt x="43" y="85"/>
                      <a:pt x="41" y="79"/>
                      <a:pt x="39" y="74"/>
                    </a:cubicBezTo>
                    <a:cubicBezTo>
                      <a:pt x="40" y="51"/>
                      <a:pt x="41" y="31"/>
                      <a:pt x="41" y="31"/>
                    </a:cubicBezTo>
                    <a:cubicBezTo>
                      <a:pt x="39" y="38"/>
                      <a:pt x="38" y="53"/>
                      <a:pt x="36" y="69"/>
                    </a:cubicBezTo>
                    <a:cubicBezTo>
                      <a:pt x="35" y="68"/>
                      <a:pt x="34" y="67"/>
                      <a:pt x="33" y="65"/>
                    </a:cubicBezTo>
                    <a:cubicBezTo>
                      <a:pt x="34" y="67"/>
                      <a:pt x="35" y="69"/>
                      <a:pt x="36" y="71"/>
                    </a:cubicBezTo>
                    <a:cubicBezTo>
                      <a:pt x="36" y="71"/>
                      <a:pt x="36" y="72"/>
                      <a:pt x="36" y="73"/>
                    </a:cubicBezTo>
                    <a:cubicBezTo>
                      <a:pt x="33" y="77"/>
                      <a:pt x="31" y="81"/>
                      <a:pt x="28" y="86"/>
                    </a:cubicBezTo>
                    <a:cubicBezTo>
                      <a:pt x="28" y="85"/>
                      <a:pt x="27" y="84"/>
                      <a:pt x="26" y="83"/>
                    </a:cubicBezTo>
                    <a:cubicBezTo>
                      <a:pt x="24" y="61"/>
                      <a:pt x="21" y="38"/>
                      <a:pt x="18" y="28"/>
                    </a:cubicBezTo>
                    <a:cubicBezTo>
                      <a:pt x="18" y="28"/>
                      <a:pt x="22" y="54"/>
                      <a:pt x="26" y="83"/>
                    </a:cubicBezTo>
                    <a:cubicBezTo>
                      <a:pt x="25" y="82"/>
                      <a:pt x="24" y="81"/>
                      <a:pt x="22" y="80"/>
                    </a:cubicBezTo>
                    <a:cubicBezTo>
                      <a:pt x="24" y="81"/>
                      <a:pt x="25" y="82"/>
                      <a:pt x="26" y="84"/>
                    </a:cubicBezTo>
                    <a:cubicBezTo>
                      <a:pt x="26" y="85"/>
                      <a:pt x="26" y="86"/>
                      <a:pt x="26" y="88"/>
                    </a:cubicBezTo>
                    <a:cubicBezTo>
                      <a:pt x="26" y="86"/>
                      <a:pt x="26" y="85"/>
                      <a:pt x="26" y="84"/>
                    </a:cubicBezTo>
                    <a:cubicBezTo>
                      <a:pt x="27" y="85"/>
                      <a:pt x="27" y="86"/>
                      <a:pt x="28" y="87"/>
                    </a:cubicBezTo>
                    <a:cubicBezTo>
                      <a:pt x="27" y="88"/>
                      <a:pt x="27" y="89"/>
                      <a:pt x="26" y="90"/>
                    </a:cubicBezTo>
                    <a:cubicBezTo>
                      <a:pt x="26" y="89"/>
                      <a:pt x="26" y="88"/>
                      <a:pt x="26" y="88"/>
                    </a:cubicBezTo>
                    <a:cubicBezTo>
                      <a:pt x="26" y="88"/>
                      <a:pt x="26" y="89"/>
                      <a:pt x="26" y="90"/>
                    </a:cubicBezTo>
                    <a:cubicBezTo>
                      <a:pt x="24" y="95"/>
                      <a:pt x="23" y="100"/>
                      <a:pt x="21" y="105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4"/>
                      <a:pt x="22" y="104"/>
                      <a:pt x="22" y="103"/>
                    </a:cubicBezTo>
                    <a:cubicBezTo>
                      <a:pt x="22" y="104"/>
                      <a:pt x="21" y="104"/>
                      <a:pt x="21" y="105"/>
                    </a:cubicBezTo>
                    <a:cubicBezTo>
                      <a:pt x="19" y="95"/>
                      <a:pt x="16" y="87"/>
                      <a:pt x="14" y="81"/>
                    </a:cubicBezTo>
                    <a:cubicBezTo>
                      <a:pt x="15" y="85"/>
                      <a:pt x="16" y="90"/>
                      <a:pt x="17" y="95"/>
                    </a:cubicBezTo>
                    <a:cubicBezTo>
                      <a:pt x="17" y="100"/>
                      <a:pt x="16" y="104"/>
                      <a:pt x="15" y="109"/>
                    </a:cubicBezTo>
                    <a:cubicBezTo>
                      <a:pt x="17" y="104"/>
                      <a:pt x="17" y="100"/>
                      <a:pt x="17" y="95"/>
                    </a:cubicBezTo>
                    <a:cubicBezTo>
                      <a:pt x="18" y="100"/>
                      <a:pt x="19" y="105"/>
                      <a:pt x="20" y="110"/>
                    </a:cubicBezTo>
                    <a:cubicBezTo>
                      <a:pt x="20" y="110"/>
                      <a:pt x="20" y="111"/>
                      <a:pt x="20" y="111"/>
                    </a:cubicBezTo>
                    <a:cubicBezTo>
                      <a:pt x="19" y="116"/>
                      <a:pt x="17" y="122"/>
                      <a:pt x="15" y="127"/>
                    </a:cubicBezTo>
                    <a:cubicBezTo>
                      <a:pt x="14" y="125"/>
                      <a:pt x="14" y="123"/>
                      <a:pt x="13" y="120"/>
                    </a:cubicBezTo>
                    <a:cubicBezTo>
                      <a:pt x="14" y="117"/>
                      <a:pt x="15" y="113"/>
                      <a:pt x="15" y="109"/>
                    </a:cubicBezTo>
                    <a:cubicBezTo>
                      <a:pt x="15" y="112"/>
                      <a:pt x="14" y="116"/>
                      <a:pt x="13" y="119"/>
                    </a:cubicBezTo>
                    <a:cubicBezTo>
                      <a:pt x="11" y="111"/>
                      <a:pt x="10" y="103"/>
                      <a:pt x="10" y="95"/>
                    </a:cubicBezTo>
                    <a:cubicBezTo>
                      <a:pt x="9" y="96"/>
                      <a:pt x="9" y="96"/>
                      <a:pt x="9" y="96"/>
                    </a:cubicBezTo>
                    <a:cubicBezTo>
                      <a:pt x="9" y="98"/>
                      <a:pt x="9" y="98"/>
                      <a:pt x="9" y="98"/>
                    </a:cubicBezTo>
                    <a:cubicBezTo>
                      <a:pt x="9" y="97"/>
                      <a:pt x="9" y="96"/>
                      <a:pt x="9" y="95"/>
                    </a:cubicBezTo>
                    <a:cubicBezTo>
                      <a:pt x="9" y="84"/>
                      <a:pt x="7" y="69"/>
                      <a:pt x="1" y="60"/>
                    </a:cubicBezTo>
                    <a:cubicBezTo>
                      <a:pt x="6" y="70"/>
                      <a:pt x="7" y="82"/>
                      <a:pt x="7" y="93"/>
                    </a:cubicBezTo>
                    <a:cubicBezTo>
                      <a:pt x="7" y="101"/>
                      <a:pt x="5" y="109"/>
                      <a:pt x="3" y="116"/>
                    </a:cubicBezTo>
                    <a:cubicBezTo>
                      <a:pt x="1" y="115"/>
                      <a:pt x="1" y="117"/>
                      <a:pt x="2" y="120"/>
                    </a:cubicBezTo>
                    <a:cubicBezTo>
                      <a:pt x="2" y="121"/>
                      <a:pt x="2" y="121"/>
                      <a:pt x="1" y="122"/>
                    </a:cubicBezTo>
                    <a:cubicBezTo>
                      <a:pt x="1" y="121"/>
                      <a:pt x="1" y="120"/>
                      <a:pt x="0" y="119"/>
                    </a:cubicBezTo>
                    <a:cubicBezTo>
                      <a:pt x="0" y="166"/>
                      <a:pt x="0" y="166"/>
                      <a:pt x="0" y="166"/>
                    </a:cubicBezTo>
                    <a:cubicBezTo>
                      <a:pt x="90" y="166"/>
                      <a:pt x="179" y="166"/>
                      <a:pt x="269" y="166"/>
                    </a:cubicBezTo>
                    <a:cubicBezTo>
                      <a:pt x="269" y="166"/>
                      <a:pt x="269" y="166"/>
                      <a:pt x="269" y="166"/>
                    </a:cubicBezTo>
                    <a:cubicBezTo>
                      <a:pt x="306" y="166"/>
                      <a:pt x="342" y="166"/>
                      <a:pt x="379" y="166"/>
                    </a:cubicBezTo>
                    <a:cubicBezTo>
                      <a:pt x="416" y="166"/>
                      <a:pt x="453" y="166"/>
                      <a:pt x="490" y="166"/>
                    </a:cubicBezTo>
                    <a:cubicBezTo>
                      <a:pt x="490" y="166"/>
                      <a:pt x="490" y="166"/>
                      <a:pt x="490" y="166"/>
                    </a:cubicBezTo>
                    <a:cubicBezTo>
                      <a:pt x="746" y="166"/>
                      <a:pt x="1002" y="166"/>
                      <a:pt x="1258" y="166"/>
                    </a:cubicBezTo>
                    <a:cubicBezTo>
                      <a:pt x="1258" y="166"/>
                      <a:pt x="1258" y="166"/>
                      <a:pt x="1258" y="166"/>
                    </a:cubicBezTo>
                    <a:cubicBezTo>
                      <a:pt x="1430" y="166"/>
                      <a:pt x="1602" y="166"/>
                      <a:pt x="1773" y="166"/>
                    </a:cubicBezTo>
                    <a:cubicBezTo>
                      <a:pt x="1871" y="166"/>
                      <a:pt x="1969" y="166"/>
                      <a:pt x="2066" y="166"/>
                    </a:cubicBezTo>
                    <a:cubicBezTo>
                      <a:pt x="2066" y="166"/>
                      <a:pt x="2066" y="166"/>
                      <a:pt x="2066" y="166"/>
                    </a:cubicBezTo>
                    <a:cubicBezTo>
                      <a:pt x="2103" y="166"/>
                      <a:pt x="2140" y="166"/>
                      <a:pt x="2177" y="166"/>
                    </a:cubicBezTo>
                    <a:cubicBezTo>
                      <a:pt x="2214" y="166"/>
                      <a:pt x="2251" y="166"/>
                      <a:pt x="2288" y="166"/>
                    </a:cubicBezTo>
                    <a:cubicBezTo>
                      <a:pt x="2288" y="166"/>
                      <a:pt x="2288" y="166"/>
                      <a:pt x="2288" y="166"/>
                    </a:cubicBezTo>
                    <a:cubicBezTo>
                      <a:pt x="2544" y="166"/>
                      <a:pt x="2800" y="166"/>
                      <a:pt x="3056" y="166"/>
                    </a:cubicBezTo>
                    <a:cubicBezTo>
                      <a:pt x="3056" y="166"/>
                      <a:pt x="3056" y="166"/>
                      <a:pt x="3056" y="166"/>
                    </a:cubicBezTo>
                    <a:cubicBezTo>
                      <a:pt x="3228" y="166"/>
                      <a:pt x="3400" y="166"/>
                      <a:pt x="3571" y="166"/>
                    </a:cubicBezTo>
                    <a:cubicBezTo>
                      <a:pt x="3669" y="166"/>
                      <a:pt x="3767" y="166"/>
                      <a:pt x="3864" y="166"/>
                    </a:cubicBezTo>
                    <a:cubicBezTo>
                      <a:pt x="3864" y="166"/>
                      <a:pt x="3864" y="166"/>
                      <a:pt x="3864" y="166"/>
                    </a:cubicBezTo>
                    <a:cubicBezTo>
                      <a:pt x="3901" y="166"/>
                      <a:pt x="3938" y="166"/>
                      <a:pt x="3975" y="166"/>
                    </a:cubicBezTo>
                    <a:cubicBezTo>
                      <a:pt x="4012" y="166"/>
                      <a:pt x="4049" y="166"/>
                      <a:pt x="4086" y="166"/>
                    </a:cubicBezTo>
                    <a:cubicBezTo>
                      <a:pt x="4086" y="166"/>
                      <a:pt x="4086" y="166"/>
                      <a:pt x="4086" y="166"/>
                    </a:cubicBezTo>
                    <a:cubicBezTo>
                      <a:pt x="4312" y="166"/>
                      <a:pt x="4537" y="166"/>
                      <a:pt x="4763" y="166"/>
                    </a:cubicBezTo>
                    <a:cubicBezTo>
                      <a:pt x="4763" y="137"/>
                      <a:pt x="4763" y="137"/>
                      <a:pt x="4763" y="137"/>
                    </a:cubicBezTo>
                    <a:cubicBezTo>
                      <a:pt x="4760" y="119"/>
                      <a:pt x="4755" y="101"/>
                      <a:pt x="4748" y="85"/>
                    </a:cubicBezTo>
                    <a:close/>
                    <a:moveTo>
                      <a:pt x="1" y="154"/>
                    </a:moveTo>
                    <a:cubicBezTo>
                      <a:pt x="1" y="154"/>
                      <a:pt x="1" y="154"/>
                      <a:pt x="1" y="154"/>
                    </a:cubicBezTo>
                    <a:cubicBezTo>
                      <a:pt x="1" y="152"/>
                      <a:pt x="2" y="151"/>
                      <a:pt x="2" y="150"/>
                    </a:cubicBezTo>
                    <a:cubicBezTo>
                      <a:pt x="2" y="150"/>
                      <a:pt x="2" y="151"/>
                      <a:pt x="2" y="151"/>
                    </a:cubicBezTo>
                    <a:cubicBezTo>
                      <a:pt x="2" y="152"/>
                      <a:pt x="1" y="153"/>
                      <a:pt x="1" y="154"/>
                    </a:cubicBezTo>
                    <a:close/>
                    <a:moveTo>
                      <a:pt x="7" y="119"/>
                    </a:move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19"/>
                    </a:cubicBezTo>
                    <a:close/>
                    <a:moveTo>
                      <a:pt x="6" y="138"/>
                    </a:moveTo>
                    <a:cubicBezTo>
                      <a:pt x="6" y="137"/>
                      <a:pt x="5" y="135"/>
                      <a:pt x="5" y="134"/>
                    </a:cubicBezTo>
                    <a:cubicBezTo>
                      <a:pt x="5" y="134"/>
                      <a:pt x="5" y="134"/>
                      <a:pt x="5" y="133"/>
                    </a:cubicBezTo>
                    <a:cubicBezTo>
                      <a:pt x="5" y="134"/>
                      <a:pt x="6" y="135"/>
                      <a:pt x="6" y="137"/>
                    </a:cubicBezTo>
                    <a:cubicBezTo>
                      <a:pt x="6" y="137"/>
                      <a:pt x="6" y="138"/>
                      <a:pt x="6" y="138"/>
                    </a:cubicBezTo>
                    <a:close/>
                    <a:moveTo>
                      <a:pt x="5" y="133"/>
                    </a:moveTo>
                    <a:cubicBezTo>
                      <a:pt x="5" y="132"/>
                      <a:pt x="5" y="131"/>
                      <a:pt x="6" y="130"/>
                    </a:cubicBezTo>
                    <a:cubicBezTo>
                      <a:pt x="6" y="131"/>
                      <a:pt x="7" y="133"/>
                      <a:pt x="7" y="134"/>
                    </a:cubicBezTo>
                    <a:cubicBezTo>
                      <a:pt x="7" y="135"/>
                      <a:pt x="7" y="135"/>
                      <a:pt x="7" y="136"/>
                    </a:cubicBezTo>
                    <a:cubicBezTo>
                      <a:pt x="6" y="134"/>
                      <a:pt x="5" y="133"/>
                      <a:pt x="5" y="133"/>
                    </a:cubicBezTo>
                    <a:close/>
                    <a:moveTo>
                      <a:pt x="8" y="145"/>
                    </a:moveTo>
                    <a:cubicBezTo>
                      <a:pt x="8" y="144"/>
                      <a:pt x="7" y="143"/>
                      <a:pt x="7" y="143"/>
                    </a:cubicBezTo>
                    <a:cubicBezTo>
                      <a:pt x="8" y="142"/>
                      <a:pt x="8" y="141"/>
                      <a:pt x="8" y="14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8" y="141"/>
                      <a:pt x="8" y="142"/>
                      <a:pt x="8" y="143"/>
                    </a:cubicBezTo>
                    <a:cubicBezTo>
                      <a:pt x="8" y="143"/>
                      <a:pt x="8" y="144"/>
                      <a:pt x="8" y="145"/>
                    </a:cubicBezTo>
                    <a:close/>
                    <a:moveTo>
                      <a:pt x="18" y="134"/>
                    </a:moveTo>
                    <a:cubicBezTo>
                      <a:pt x="18" y="134"/>
                      <a:pt x="18" y="133"/>
                      <a:pt x="18" y="133"/>
                    </a:cubicBezTo>
                    <a:cubicBezTo>
                      <a:pt x="18" y="132"/>
                      <a:pt x="18" y="130"/>
                      <a:pt x="18" y="129"/>
                    </a:cubicBezTo>
                    <a:cubicBezTo>
                      <a:pt x="18" y="130"/>
                      <a:pt x="18" y="132"/>
                      <a:pt x="18" y="134"/>
                    </a:cubicBezTo>
                    <a:close/>
                    <a:moveTo>
                      <a:pt x="28" y="120"/>
                    </a:moveTo>
                    <a:cubicBezTo>
                      <a:pt x="28" y="117"/>
                      <a:pt x="28" y="115"/>
                      <a:pt x="28" y="112"/>
                    </a:cubicBezTo>
                    <a:cubicBezTo>
                      <a:pt x="28" y="111"/>
                      <a:pt x="28" y="111"/>
                      <a:pt x="28" y="110"/>
                    </a:cubicBezTo>
                    <a:cubicBezTo>
                      <a:pt x="28" y="114"/>
                      <a:pt x="29" y="116"/>
                      <a:pt x="29" y="119"/>
                    </a:cubicBezTo>
                    <a:cubicBezTo>
                      <a:pt x="29" y="119"/>
                      <a:pt x="29" y="120"/>
                      <a:pt x="28" y="120"/>
                    </a:cubicBezTo>
                    <a:close/>
                    <a:moveTo>
                      <a:pt x="30" y="115"/>
                    </a:moveTo>
                    <a:cubicBezTo>
                      <a:pt x="29" y="112"/>
                      <a:pt x="29" y="108"/>
                      <a:pt x="28" y="104"/>
                    </a:cubicBezTo>
                    <a:cubicBezTo>
                      <a:pt x="29" y="101"/>
                      <a:pt x="29" y="97"/>
                      <a:pt x="30" y="93"/>
                    </a:cubicBezTo>
                    <a:cubicBezTo>
                      <a:pt x="31" y="98"/>
                      <a:pt x="32" y="102"/>
                      <a:pt x="32" y="104"/>
                    </a:cubicBezTo>
                    <a:cubicBezTo>
                      <a:pt x="32" y="108"/>
                      <a:pt x="31" y="111"/>
                      <a:pt x="30" y="115"/>
                    </a:cubicBezTo>
                    <a:close/>
                    <a:moveTo>
                      <a:pt x="35" y="102"/>
                    </a:moveTo>
                    <a:cubicBezTo>
                      <a:pt x="35" y="102"/>
                      <a:pt x="35" y="102"/>
                      <a:pt x="35" y="103"/>
                    </a:cubicBezTo>
                    <a:cubicBezTo>
                      <a:pt x="34" y="99"/>
                      <a:pt x="33" y="94"/>
                      <a:pt x="31" y="90"/>
                    </a:cubicBezTo>
                    <a:cubicBezTo>
                      <a:pt x="32" y="84"/>
                      <a:pt x="34" y="78"/>
                      <a:pt x="36" y="73"/>
                    </a:cubicBezTo>
                    <a:cubicBezTo>
                      <a:pt x="36" y="83"/>
                      <a:pt x="35" y="93"/>
                      <a:pt x="35" y="102"/>
                    </a:cubicBezTo>
                    <a:close/>
                    <a:moveTo>
                      <a:pt x="41" y="111"/>
                    </a:moveTo>
                    <a:cubicBezTo>
                      <a:pt x="41" y="111"/>
                      <a:pt x="41" y="111"/>
                      <a:pt x="41" y="111"/>
                    </a:cubicBezTo>
                    <a:cubicBezTo>
                      <a:pt x="41" y="114"/>
                      <a:pt x="40" y="116"/>
                      <a:pt x="40" y="119"/>
                    </a:cubicBezTo>
                    <a:cubicBezTo>
                      <a:pt x="39" y="114"/>
                      <a:pt x="39" y="108"/>
                      <a:pt x="39" y="103"/>
                    </a:cubicBezTo>
                    <a:cubicBezTo>
                      <a:pt x="39" y="97"/>
                      <a:pt x="39" y="91"/>
                      <a:pt x="41" y="85"/>
                    </a:cubicBezTo>
                    <a:cubicBezTo>
                      <a:pt x="40" y="87"/>
                      <a:pt x="39" y="89"/>
                      <a:pt x="38" y="92"/>
                    </a:cubicBezTo>
                    <a:cubicBezTo>
                      <a:pt x="38" y="87"/>
                      <a:pt x="39" y="82"/>
                      <a:pt x="39" y="77"/>
                    </a:cubicBezTo>
                    <a:cubicBezTo>
                      <a:pt x="41" y="83"/>
                      <a:pt x="43" y="90"/>
                      <a:pt x="43" y="96"/>
                    </a:cubicBezTo>
                    <a:cubicBezTo>
                      <a:pt x="43" y="101"/>
                      <a:pt x="42" y="106"/>
                      <a:pt x="41" y="111"/>
                    </a:cubicBezTo>
                    <a:close/>
                    <a:moveTo>
                      <a:pt x="48" y="127"/>
                    </a:moveTo>
                    <a:cubicBezTo>
                      <a:pt x="47" y="132"/>
                      <a:pt x="46" y="134"/>
                      <a:pt x="46" y="134"/>
                    </a:cubicBezTo>
                    <a:cubicBezTo>
                      <a:pt x="47" y="129"/>
                      <a:pt x="47" y="125"/>
                      <a:pt x="48" y="120"/>
                    </a:cubicBezTo>
                    <a:cubicBezTo>
                      <a:pt x="48" y="123"/>
                      <a:pt x="48" y="125"/>
                      <a:pt x="48" y="127"/>
                    </a:cubicBezTo>
                    <a:close/>
                    <a:moveTo>
                      <a:pt x="79" y="92"/>
                    </a:moveTo>
                    <a:cubicBezTo>
                      <a:pt x="79" y="91"/>
                      <a:pt x="79" y="90"/>
                      <a:pt x="79" y="89"/>
                    </a:cubicBezTo>
                    <a:cubicBezTo>
                      <a:pt x="79" y="89"/>
                      <a:pt x="79" y="90"/>
                      <a:pt x="80" y="91"/>
                    </a:cubicBezTo>
                    <a:cubicBezTo>
                      <a:pt x="79" y="91"/>
                      <a:pt x="79" y="92"/>
                      <a:pt x="79" y="92"/>
                    </a:cubicBezTo>
                    <a:close/>
                    <a:moveTo>
                      <a:pt x="82" y="130"/>
                    </a:moveTo>
                    <a:cubicBezTo>
                      <a:pt x="81" y="132"/>
                      <a:pt x="81" y="134"/>
                      <a:pt x="81" y="136"/>
                    </a:cubicBezTo>
                    <a:cubicBezTo>
                      <a:pt x="80" y="127"/>
                      <a:pt x="80" y="119"/>
                      <a:pt x="80" y="110"/>
                    </a:cubicBezTo>
                    <a:cubicBezTo>
                      <a:pt x="80" y="105"/>
                      <a:pt x="80" y="99"/>
                      <a:pt x="80" y="93"/>
                    </a:cubicBezTo>
                    <a:cubicBezTo>
                      <a:pt x="82" y="99"/>
                      <a:pt x="82" y="104"/>
                      <a:pt x="83" y="109"/>
                    </a:cubicBezTo>
                    <a:cubicBezTo>
                      <a:pt x="82" y="116"/>
                      <a:pt x="82" y="123"/>
                      <a:pt x="82" y="130"/>
                    </a:cubicBezTo>
                    <a:close/>
                    <a:moveTo>
                      <a:pt x="91" y="140"/>
                    </a:moveTo>
                    <a:cubicBezTo>
                      <a:pt x="91" y="140"/>
                      <a:pt x="91" y="139"/>
                      <a:pt x="91" y="139"/>
                    </a:cubicBezTo>
                    <a:cubicBezTo>
                      <a:pt x="92" y="100"/>
                      <a:pt x="92" y="100"/>
                      <a:pt x="92" y="100"/>
                    </a:cubicBezTo>
                    <a:cubicBezTo>
                      <a:pt x="92" y="106"/>
                      <a:pt x="93" y="113"/>
                      <a:pt x="93" y="119"/>
                    </a:cubicBezTo>
                    <a:cubicBezTo>
                      <a:pt x="93" y="122"/>
                      <a:pt x="93" y="126"/>
                      <a:pt x="93" y="129"/>
                    </a:cubicBezTo>
                    <a:cubicBezTo>
                      <a:pt x="92" y="133"/>
                      <a:pt x="92" y="136"/>
                      <a:pt x="91" y="140"/>
                    </a:cubicBezTo>
                    <a:close/>
                    <a:moveTo>
                      <a:pt x="112" y="105"/>
                    </a:moveTo>
                    <a:cubicBezTo>
                      <a:pt x="112" y="104"/>
                      <a:pt x="112" y="102"/>
                      <a:pt x="112" y="101"/>
                    </a:cubicBezTo>
                    <a:cubicBezTo>
                      <a:pt x="113" y="102"/>
                      <a:pt x="113" y="103"/>
                      <a:pt x="113" y="103"/>
                    </a:cubicBezTo>
                    <a:cubicBezTo>
                      <a:pt x="113" y="104"/>
                      <a:pt x="112" y="105"/>
                      <a:pt x="112" y="105"/>
                    </a:cubicBezTo>
                    <a:close/>
                    <a:moveTo>
                      <a:pt x="135" y="101"/>
                    </a:moveTo>
                    <a:cubicBezTo>
                      <a:pt x="135" y="101"/>
                      <a:pt x="135" y="101"/>
                      <a:pt x="134" y="100"/>
                    </a:cubicBezTo>
                    <a:cubicBezTo>
                      <a:pt x="135" y="101"/>
                      <a:pt x="135" y="101"/>
                      <a:pt x="135" y="101"/>
                    </a:cubicBezTo>
                    <a:cubicBezTo>
                      <a:pt x="134" y="111"/>
                      <a:pt x="133" y="119"/>
                      <a:pt x="132" y="126"/>
                    </a:cubicBezTo>
                    <a:cubicBezTo>
                      <a:pt x="131" y="122"/>
                      <a:pt x="131" y="118"/>
                      <a:pt x="130" y="114"/>
                    </a:cubicBezTo>
                    <a:cubicBezTo>
                      <a:pt x="130" y="109"/>
                      <a:pt x="130" y="103"/>
                      <a:pt x="130" y="98"/>
                    </a:cubicBezTo>
                    <a:cubicBezTo>
                      <a:pt x="131" y="92"/>
                      <a:pt x="133" y="87"/>
                      <a:pt x="136" y="82"/>
                    </a:cubicBezTo>
                    <a:cubicBezTo>
                      <a:pt x="136" y="89"/>
                      <a:pt x="135" y="95"/>
                      <a:pt x="135" y="101"/>
                    </a:cubicBezTo>
                    <a:close/>
                    <a:moveTo>
                      <a:pt x="145" y="117"/>
                    </a:moveTo>
                    <a:cubicBezTo>
                      <a:pt x="144" y="114"/>
                      <a:pt x="144" y="110"/>
                      <a:pt x="144" y="106"/>
                    </a:cubicBezTo>
                    <a:cubicBezTo>
                      <a:pt x="144" y="99"/>
                      <a:pt x="144" y="90"/>
                      <a:pt x="148" y="83"/>
                    </a:cubicBezTo>
                    <a:cubicBezTo>
                      <a:pt x="146" y="95"/>
                      <a:pt x="145" y="107"/>
                      <a:pt x="145" y="117"/>
                    </a:cubicBezTo>
                    <a:close/>
                    <a:moveTo>
                      <a:pt x="150" y="108"/>
                    </a:moveTo>
                    <a:cubicBezTo>
                      <a:pt x="150" y="106"/>
                      <a:pt x="151" y="104"/>
                      <a:pt x="151" y="102"/>
                    </a:cubicBezTo>
                    <a:cubicBezTo>
                      <a:pt x="151" y="102"/>
                      <a:pt x="151" y="102"/>
                      <a:pt x="151" y="103"/>
                    </a:cubicBezTo>
                    <a:cubicBezTo>
                      <a:pt x="151" y="104"/>
                      <a:pt x="151" y="106"/>
                      <a:pt x="150" y="108"/>
                    </a:cubicBezTo>
                    <a:close/>
                    <a:moveTo>
                      <a:pt x="156" y="111"/>
                    </a:moveTo>
                    <a:cubicBezTo>
                      <a:pt x="156" y="103"/>
                      <a:pt x="159" y="95"/>
                      <a:pt x="161" y="87"/>
                    </a:cubicBezTo>
                    <a:cubicBezTo>
                      <a:pt x="160" y="95"/>
                      <a:pt x="158" y="104"/>
                      <a:pt x="157" y="113"/>
                    </a:cubicBezTo>
                    <a:cubicBezTo>
                      <a:pt x="156" y="112"/>
                      <a:pt x="156" y="112"/>
                      <a:pt x="156" y="111"/>
                    </a:cubicBezTo>
                    <a:close/>
                    <a:moveTo>
                      <a:pt x="180" y="110"/>
                    </a:moveTo>
                    <a:cubicBezTo>
                      <a:pt x="180" y="109"/>
                      <a:pt x="180" y="108"/>
                      <a:pt x="180" y="107"/>
                    </a:cubicBezTo>
                    <a:cubicBezTo>
                      <a:pt x="180" y="107"/>
                      <a:pt x="180" y="108"/>
                      <a:pt x="180" y="108"/>
                    </a:cubicBezTo>
                    <a:cubicBezTo>
                      <a:pt x="180" y="109"/>
                      <a:pt x="180" y="109"/>
                      <a:pt x="180" y="110"/>
                    </a:cubicBezTo>
                    <a:close/>
                    <a:moveTo>
                      <a:pt x="191" y="125"/>
                    </a:moveTo>
                    <a:cubicBezTo>
                      <a:pt x="191" y="123"/>
                      <a:pt x="191" y="122"/>
                      <a:pt x="191" y="120"/>
                    </a:cubicBezTo>
                    <a:cubicBezTo>
                      <a:pt x="191" y="121"/>
                      <a:pt x="191" y="122"/>
                      <a:pt x="191" y="123"/>
                    </a:cubicBezTo>
                    <a:cubicBezTo>
                      <a:pt x="191" y="123"/>
                      <a:pt x="191" y="124"/>
                      <a:pt x="191" y="125"/>
                    </a:cubicBezTo>
                    <a:close/>
                    <a:moveTo>
                      <a:pt x="194" y="115"/>
                    </a:moveTo>
                    <a:cubicBezTo>
                      <a:pt x="194" y="117"/>
                      <a:pt x="193" y="118"/>
                      <a:pt x="193" y="119"/>
                    </a:cubicBezTo>
                    <a:cubicBezTo>
                      <a:pt x="192" y="118"/>
                      <a:pt x="191" y="116"/>
                      <a:pt x="191" y="114"/>
                    </a:cubicBezTo>
                    <a:cubicBezTo>
                      <a:pt x="191" y="110"/>
                      <a:pt x="191" y="105"/>
                      <a:pt x="191" y="100"/>
                    </a:cubicBezTo>
                    <a:cubicBezTo>
                      <a:pt x="193" y="94"/>
                      <a:pt x="195" y="89"/>
                      <a:pt x="198" y="84"/>
                    </a:cubicBezTo>
                    <a:cubicBezTo>
                      <a:pt x="197" y="93"/>
                      <a:pt x="195" y="105"/>
                      <a:pt x="194" y="115"/>
                    </a:cubicBezTo>
                    <a:close/>
                    <a:moveTo>
                      <a:pt x="202" y="90"/>
                    </a:moveTo>
                    <a:cubicBezTo>
                      <a:pt x="201" y="88"/>
                      <a:pt x="200" y="84"/>
                      <a:pt x="200" y="80"/>
                    </a:cubicBezTo>
                    <a:cubicBezTo>
                      <a:pt x="200" y="80"/>
                      <a:pt x="200" y="80"/>
                      <a:pt x="200" y="80"/>
                    </a:cubicBezTo>
                    <a:cubicBezTo>
                      <a:pt x="201" y="81"/>
                      <a:pt x="202" y="83"/>
                      <a:pt x="203" y="84"/>
                    </a:cubicBezTo>
                    <a:cubicBezTo>
                      <a:pt x="202" y="88"/>
                      <a:pt x="202" y="90"/>
                      <a:pt x="202" y="90"/>
                    </a:cubicBezTo>
                    <a:close/>
                    <a:moveTo>
                      <a:pt x="203" y="83"/>
                    </a:moveTo>
                    <a:cubicBezTo>
                      <a:pt x="202" y="81"/>
                      <a:pt x="201" y="80"/>
                      <a:pt x="201" y="79"/>
                    </a:cubicBezTo>
                    <a:cubicBezTo>
                      <a:pt x="202" y="78"/>
                      <a:pt x="203" y="76"/>
                      <a:pt x="204" y="75"/>
                    </a:cubicBezTo>
                    <a:cubicBezTo>
                      <a:pt x="203" y="78"/>
                      <a:pt x="203" y="81"/>
                      <a:pt x="203" y="83"/>
                    </a:cubicBezTo>
                    <a:close/>
                    <a:moveTo>
                      <a:pt x="209" y="104"/>
                    </a:moveTo>
                    <a:cubicBezTo>
                      <a:pt x="210" y="105"/>
                      <a:pt x="210" y="107"/>
                      <a:pt x="210" y="109"/>
                    </a:cubicBezTo>
                    <a:cubicBezTo>
                      <a:pt x="210" y="111"/>
                      <a:pt x="209" y="112"/>
                      <a:pt x="209" y="114"/>
                    </a:cubicBezTo>
                    <a:cubicBezTo>
                      <a:pt x="209" y="110"/>
                      <a:pt x="209" y="107"/>
                      <a:pt x="209" y="104"/>
                    </a:cubicBezTo>
                    <a:close/>
                    <a:moveTo>
                      <a:pt x="205" y="91"/>
                    </a:moveTo>
                    <a:cubicBezTo>
                      <a:pt x="206" y="91"/>
                      <a:pt x="206" y="91"/>
                      <a:pt x="206" y="91"/>
                    </a:cubicBezTo>
                    <a:cubicBezTo>
                      <a:pt x="206" y="91"/>
                      <a:pt x="206" y="91"/>
                      <a:pt x="205" y="91"/>
                    </a:cubicBezTo>
                    <a:close/>
                    <a:moveTo>
                      <a:pt x="206" y="124"/>
                    </a:moveTo>
                    <a:cubicBezTo>
                      <a:pt x="206" y="114"/>
                      <a:pt x="206" y="102"/>
                      <a:pt x="205" y="91"/>
                    </a:cubicBezTo>
                    <a:cubicBezTo>
                      <a:pt x="206" y="91"/>
                      <a:pt x="206" y="91"/>
                      <a:pt x="206" y="91"/>
                    </a:cubicBezTo>
                    <a:cubicBezTo>
                      <a:pt x="207" y="94"/>
                      <a:pt x="208" y="98"/>
                      <a:pt x="209" y="101"/>
                    </a:cubicBezTo>
                    <a:cubicBezTo>
                      <a:pt x="207" y="120"/>
                      <a:pt x="207" y="120"/>
                      <a:pt x="207" y="120"/>
                    </a:cubicBezTo>
                    <a:cubicBezTo>
                      <a:pt x="206" y="121"/>
                      <a:pt x="206" y="122"/>
                      <a:pt x="206" y="124"/>
                    </a:cubicBezTo>
                    <a:close/>
                    <a:moveTo>
                      <a:pt x="208" y="136"/>
                    </a:moveTo>
                    <a:cubicBezTo>
                      <a:pt x="208" y="134"/>
                      <a:pt x="208" y="133"/>
                      <a:pt x="208" y="131"/>
                    </a:cubicBezTo>
                    <a:cubicBezTo>
                      <a:pt x="209" y="126"/>
                      <a:pt x="211" y="121"/>
                      <a:pt x="212" y="116"/>
                    </a:cubicBezTo>
                    <a:cubicBezTo>
                      <a:pt x="212" y="118"/>
                      <a:pt x="212" y="121"/>
                      <a:pt x="213" y="123"/>
                    </a:cubicBezTo>
                    <a:cubicBezTo>
                      <a:pt x="213" y="124"/>
                      <a:pt x="212" y="124"/>
                      <a:pt x="212" y="124"/>
                    </a:cubicBezTo>
                    <a:cubicBezTo>
                      <a:pt x="211" y="128"/>
                      <a:pt x="210" y="132"/>
                      <a:pt x="208" y="136"/>
                    </a:cubicBezTo>
                    <a:close/>
                    <a:moveTo>
                      <a:pt x="212" y="141"/>
                    </a:moveTo>
                    <a:cubicBezTo>
                      <a:pt x="212" y="141"/>
                      <a:pt x="213" y="141"/>
                      <a:pt x="213" y="140"/>
                    </a:cubicBezTo>
                    <a:cubicBezTo>
                      <a:pt x="213" y="139"/>
                      <a:pt x="213" y="137"/>
                      <a:pt x="214" y="135"/>
                    </a:cubicBezTo>
                    <a:cubicBezTo>
                      <a:pt x="214" y="135"/>
                      <a:pt x="214" y="135"/>
                      <a:pt x="214" y="135"/>
                    </a:cubicBezTo>
                    <a:cubicBezTo>
                      <a:pt x="214" y="137"/>
                      <a:pt x="213" y="139"/>
                      <a:pt x="212" y="141"/>
                    </a:cubicBezTo>
                    <a:close/>
                    <a:moveTo>
                      <a:pt x="219" y="119"/>
                    </a:moveTo>
                    <a:cubicBezTo>
                      <a:pt x="219" y="119"/>
                      <a:pt x="218" y="118"/>
                      <a:pt x="218" y="118"/>
                    </a:cubicBezTo>
                    <a:cubicBezTo>
                      <a:pt x="218" y="116"/>
                      <a:pt x="219" y="115"/>
                      <a:pt x="219" y="113"/>
                    </a:cubicBezTo>
                    <a:cubicBezTo>
                      <a:pt x="219" y="112"/>
                      <a:pt x="219" y="112"/>
                      <a:pt x="219" y="111"/>
                    </a:cubicBezTo>
                    <a:cubicBezTo>
                      <a:pt x="220" y="112"/>
                      <a:pt x="220" y="113"/>
                      <a:pt x="220" y="115"/>
                    </a:cubicBezTo>
                    <a:cubicBezTo>
                      <a:pt x="220" y="116"/>
                      <a:pt x="219" y="118"/>
                      <a:pt x="219" y="119"/>
                    </a:cubicBezTo>
                    <a:close/>
                    <a:moveTo>
                      <a:pt x="226" y="136"/>
                    </a:moveTo>
                    <a:cubicBezTo>
                      <a:pt x="225" y="135"/>
                      <a:pt x="225" y="134"/>
                      <a:pt x="224" y="133"/>
                    </a:cubicBezTo>
                    <a:cubicBezTo>
                      <a:pt x="224" y="132"/>
                      <a:pt x="224" y="132"/>
                      <a:pt x="224" y="131"/>
                    </a:cubicBezTo>
                    <a:cubicBezTo>
                      <a:pt x="225" y="133"/>
                      <a:pt x="225" y="134"/>
                      <a:pt x="226" y="136"/>
                    </a:cubicBezTo>
                    <a:cubicBezTo>
                      <a:pt x="226" y="136"/>
                      <a:pt x="226" y="136"/>
                      <a:pt x="226" y="136"/>
                    </a:cubicBezTo>
                    <a:close/>
                    <a:moveTo>
                      <a:pt x="240" y="118"/>
                    </a:moveTo>
                    <a:cubicBezTo>
                      <a:pt x="240" y="118"/>
                      <a:pt x="240" y="117"/>
                      <a:pt x="240" y="117"/>
                    </a:cubicBezTo>
                    <a:cubicBezTo>
                      <a:pt x="240" y="117"/>
                      <a:pt x="240" y="117"/>
                      <a:pt x="240" y="117"/>
                    </a:cubicBezTo>
                    <a:cubicBezTo>
                      <a:pt x="240" y="118"/>
                      <a:pt x="240" y="118"/>
                      <a:pt x="240" y="118"/>
                    </a:cubicBezTo>
                    <a:close/>
                    <a:moveTo>
                      <a:pt x="246" y="105"/>
                    </a:moveTo>
                    <a:cubicBezTo>
                      <a:pt x="245" y="106"/>
                      <a:pt x="244" y="107"/>
                      <a:pt x="244" y="109"/>
                    </a:cubicBezTo>
                    <a:cubicBezTo>
                      <a:pt x="244" y="107"/>
                      <a:pt x="243" y="106"/>
                      <a:pt x="243" y="104"/>
                    </a:cubicBezTo>
                    <a:cubicBezTo>
                      <a:pt x="244" y="101"/>
                      <a:pt x="246" y="98"/>
                      <a:pt x="247" y="94"/>
                    </a:cubicBezTo>
                    <a:cubicBezTo>
                      <a:pt x="247" y="98"/>
                      <a:pt x="246" y="101"/>
                      <a:pt x="246" y="105"/>
                    </a:cubicBezTo>
                    <a:close/>
                    <a:moveTo>
                      <a:pt x="252" y="138"/>
                    </a:moveTo>
                    <a:cubicBezTo>
                      <a:pt x="251" y="137"/>
                      <a:pt x="251" y="136"/>
                      <a:pt x="251" y="135"/>
                    </a:cubicBezTo>
                    <a:cubicBezTo>
                      <a:pt x="251" y="133"/>
                      <a:pt x="251" y="131"/>
                      <a:pt x="251" y="129"/>
                    </a:cubicBezTo>
                    <a:cubicBezTo>
                      <a:pt x="251" y="131"/>
                      <a:pt x="251" y="133"/>
                      <a:pt x="252" y="134"/>
                    </a:cubicBezTo>
                    <a:cubicBezTo>
                      <a:pt x="252" y="135"/>
                      <a:pt x="252" y="137"/>
                      <a:pt x="252" y="138"/>
                    </a:cubicBezTo>
                    <a:close/>
                    <a:moveTo>
                      <a:pt x="253" y="123"/>
                    </a:moveTo>
                    <a:cubicBezTo>
                      <a:pt x="252" y="121"/>
                      <a:pt x="251" y="118"/>
                      <a:pt x="251" y="116"/>
                    </a:cubicBezTo>
                    <a:cubicBezTo>
                      <a:pt x="252" y="112"/>
                      <a:pt x="253" y="107"/>
                      <a:pt x="254" y="103"/>
                    </a:cubicBezTo>
                    <a:cubicBezTo>
                      <a:pt x="254" y="110"/>
                      <a:pt x="253" y="117"/>
                      <a:pt x="253" y="123"/>
                    </a:cubicBezTo>
                    <a:close/>
                    <a:moveTo>
                      <a:pt x="258" y="69"/>
                    </a:moveTo>
                    <a:cubicBezTo>
                      <a:pt x="260" y="72"/>
                      <a:pt x="262" y="75"/>
                      <a:pt x="264" y="79"/>
                    </a:cubicBezTo>
                    <a:cubicBezTo>
                      <a:pt x="263" y="79"/>
                      <a:pt x="263" y="79"/>
                      <a:pt x="263" y="79"/>
                    </a:cubicBezTo>
                    <a:cubicBezTo>
                      <a:pt x="262" y="76"/>
                      <a:pt x="260" y="72"/>
                      <a:pt x="258" y="69"/>
                    </a:cubicBezTo>
                    <a:cubicBezTo>
                      <a:pt x="258" y="69"/>
                      <a:pt x="258" y="69"/>
                      <a:pt x="258" y="69"/>
                    </a:cubicBezTo>
                    <a:close/>
                    <a:moveTo>
                      <a:pt x="258" y="74"/>
                    </a:moveTo>
                    <a:cubicBezTo>
                      <a:pt x="259" y="76"/>
                      <a:pt x="260" y="79"/>
                      <a:pt x="261" y="81"/>
                    </a:cubicBezTo>
                    <a:cubicBezTo>
                      <a:pt x="260" y="82"/>
                      <a:pt x="259" y="83"/>
                      <a:pt x="259" y="85"/>
                    </a:cubicBezTo>
                    <a:cubicBezTo>
                      <a:pt x="258" y="81"/>
                      <a:pt x="258" y="77"/>
                      <a:pt x="258" y="74"/>
                    </a:cubicBezTo>
                    <a:close/>
                    <a:moveTo>
                      <a:pt x="259" y="120"/>
                    </a:moveTo>
                    <a:cubicBezTo>
                      <a:pt x="259" y="115"/>
                      <a:pt x="259" y="111"/>
                      <a:pt x="259" y="106"/>
                    </a:cubicBezTo>
                    <a:cubicBezTo>
                      <a:pt x="260" y="109"/>
                      <a:pt x="260" y="112"/>
                      <a:pt x="261" y="114"/>
                    </a:cubicBezTo>
                    <a:cubicBezTo>
                      <a:pt x="260" y="116"/>
                      <a:pt x="260" y="118"/>
                      <a:pt x="259" y="120"/>
                    </a:cubicBezTo>
                    <a:close/>
                    <a:moveTo>
                      <a:pt x="262" y="109"/>
                    </a:moveTo>
                    <a:cubicBezTo>
                      <a:pt x="261" y="107"/>
                      <a:pt x="260" y="104"/>
                      <a:pt x="259" y="102"/>
                    </a:cubicBezTo>
                    <a:cubicBezTo>
                      <a:pt x="259" y="99"/>
                      <a:pt x="259" y="97"/>
                      <a:pt x="259" y="94"/>
                    </a:cubicBezTo>
                    <a:cubicBezTo>
                      <a:pt x="260" y="98"/>
                      <a:pt x="262" y="102"/>
                      <a:pt x="263" y="107"/>
                    </a:cubicBezTo>
                    <a:cubicBezTo>
                      <a:pt x="263" y="108"/>
                      <a:pt x="262" y="108"/>
                      <a:pt x="262" y="109"/>
                    </a:cubicBezTo>
                    <a:close/>
                    <a:moveTo>
                      <a:pt x="266" y="96"/>
                    </a:moveTo>
                    <a:cubicBezTo>
                      <a:pt x="265" y="98"/>
                      <a:pt x="264" y="101"/>
                      <a:pt x="264" y="104"/>
                    </a:cubicBezTo>
                    <a:cubicBezTo>
                      <a:pt x="262" y="100"/>
                      <a:pt x="261" y="96"/>
                      <a:pt x="259" y="92"/>
                    </a:cubicBezTo>
                    <a:cubicBezTo>
                      <a:pt x="259" y="92"/>
                      <a:pt x="259" y="92"/>
                      <a:pt x="259" y="92"/>
                    </a:cubicBezTo>
                    <a:cubicBezTo>
                      <a:pt x="260" y="89"/>
                      <a:pt x="261" y="86"/>
                      <a:pt x="263" y="84"/>
                    </a:cubicBezTo>
                    <a:cubicBezTo>
                      <a:pt x="264" y="87"/>
                      <a:pt x="265" y="90"/>
                      <a:pt x="266" y="93"/>
                    </a:cubicBezTo>
                    <a:cubicBezTo>
                      <a:pt x="266" y="94"/>
                      <a:pt x="266" y="95"/>
                      <a:pt x="266" y="96"/>
                    </a:cubicBezTo>
                    <a:close/>
                    <a:moveTo>
                      <a:pt x="267" y="90"/>
                    </a:moveTo>
                    <a:cubicBezTo>
                      <a:pt x="266" y="87"/>
                      <a:pt x="265" y="84"/>
                      <a:pt x="264" y="82"/>
                    </a:cubicBezTo>
                    <a:cubicBezTo>
                      <a:pt x="264" y="81"/>
                      <a:pt x="264" y="81"/>
                      <a:pt x="265" y="81"/>
                    </a:cubicBezTo>
                    <a:cubicBezTo>
                      <a:pt x="266" y="83"/>
                      <a:pt x="267" y="86"/>
                      <a:pt x="267" y="89"/>
                    </a:cubicBezTo>
                    <a:cubicBezTo>
                      <a:pt x="267" y="89"/>
                      <a:pt x="267" y="89"/>
                      <a:pt x="267" y="90"/>
                    </a:cubicBezTo>
                    <a:close/>
                    <a:moveTo>
                      <a:pt x="265" y="79"/>
                    </a:moveTo>
                    <a:cubicBezTo>
                      <a:pt x="266" y="78"/>
                      <a:pt x="267" y="77"/>
                      <a:pt x="268" y="76"/>
                    </a:cubicBezTo>
                    <a:cubicBezTo>
                      <a:pt x="268" y="78"/>
                      <a:pt x="269" y="79"/>
                      <a:pt x="269" y="80"/>
                    </a:cubicBezTo>
                    <a:cubicBezTo>
                      <a:pt x="269" y="82"/>
                      <a:pt x="268" y="84"/>
                      <a:pt x="268" y="85"/>
                    </a:cubicBezTo>
                    <a:cubicBezTo>
                      <a:pt x="267" y="83"/>
                      <a:pt x="266" y="81"/>
                      <a:pt x="265" y="79"/>
                    </a:cubicBezTo>
                    <a:close/>
                    <a:moveTo>
                      <a:pt x="268" y="116"/>
                    </a:moveTo>
                    <a:cubicBezTo>
                      <a:pt x="269" y="111"/>
                      <a:pt x="269" y="106"/>
                      <a:pt x="269" y="102"/>
                    </a:cubicBezTo>
                    <a:cubicBezTo>
                      <a:pt x="270" y="105"/>
                      <a:pt x="271" y="108"/>
                      <a:pt x="272" y="111"/>
                    </a:cubicBezTo>
                    <a:cubicBezTo>
                      <a:pt x="271" y="113"/>
                      <a:pt x="270" y="116"/>
                      <a:pt x="269" y="118"/>
                    </a:cubicBezTo>
                    <a:cubicBezTo>
                      <a:pt x="269" y="117"/>
                      <a:pt x="268" y="117"/>
                      <a:pt x="268" y="116"/>
                    </a:cubicBezTo>
                    <a:close/>
                    <a:moveTo>
                      <a:pt x="273" y="130"/>
                    </a:moveTo>
                    <a:cubicBezTo>
                      <a:pt x="272" y="128"/>
                      <a:pt x="272" y="127"/>
                      <a:pt x="271" y="125"/>
                    </a:cubicBezTo>
                    <a:cubicBezTo>
                      <a:pt x="272" y="123"/>
                      <a:pt x="272" y="122"/>
                      <a:pt x="273" y="120"/>
                    </a:cubicBezTo>
                    <a:cubicBezTo>
                      <a:pt x="273" y="122"/>
                      <a:pt x="273" y="124"/>
                      <a:pt x="274" y="127"/>
                    </a:cubicBezTo>
                    <a:cubicBezTo>
                      <a:pt x="273" y="128"/>
                      <a:pt x="273" y="129"/>
                      <a:pt x="273" y="130"/>
                    </a:cubicBezTo>
                    <a:close/>
                    <a:moveTo>
                      <a:pt x="275" y="105"/>
                    </a:moveTo>
                    <a:cubicBezTo>
                      <a:pt x="273" y="100"/>
                      <a:pt x="272" y="95"/>
                      <a:pt x="270" y="91"/>
                    </a:cubicBezTo>
                    <a:cubicBezTo>
                      <a:pt x="270" y="89"/>
                      <a:pt x="270" y="87"/>
                      <a:pt x="271" y="85"/>
                    </a:cubicBezTo>
                    <a:cubicBezTo>
                      <a:pt x="273" y="91"/>
                      <a:pt x="274" y="97"/>
                      <a:pt x="276" y="103"/>
                    </a:cubicBezTo>
                    <a:cubicBezTo>
                      <a:pt x="275" y="104"/>
                      <a:pt x="275" y="105"/>
                      <a:pt x="275" y="105"/>
                    </a:cubicBezTo>
                    <a:close/>
                    <a:moveTo>
                      <a:pt x="277" y="111"/>
                    </a:moveTo>
                    <a:cubicBezTo>
                      <a:pt x="276" y="110"/>
                      <a:pt x="276" y="110"/>
                      <a:pt x="276" y="109"/>
                    </a:cubicBezTo>
                    <a:cubicBezTo>
                      <a:pt x="276" y="109"/>
                      <a:pt x="276" y="108"/>
                      <a:pt x="277" y="107"/>
                    </a:cubicBezTo>
                    <a:cubicBezTo>
                      <a:pt x="277" y="108"/>
                      <a:pt x="277" y="109"/>
                      <a:pt x="277" y="109"/>
                    </a:cubicBezTo>
                    <a:cubicBezTo>
                      <a:pt x="277" y="110"/>
                      <a:pt x="277" y="110"/>
                      <a:pt x="277" y="111"/>
                    </a:cubicBezTo>
                    <a:close/>
                    <a:moveTo>
                      <a:pt x="287" y="94"/>
                    </a:moveTo>
                    <a:cubicBezTo>
                      <a:pt x="287" y="95"/>
                      <a:pt x="288" y="95"/>
                      <a:pt x="288" y="96"/>
                    </a:cubicBezTo>
                    <a:cubicBezTo>
                      <a:pt x="288" y="97"/>
                      <a:pt x="287" y="97"/>
                      <a:pt x="287" y="98"/>
                    </a:cubicBezTo>
                    <a:cubicBezTo>
                      <a:pt x="287" y="96"/>
                      <a:pt x="287" y="95"/>
                      <a:pt x="287" y="94"/>
                    </a:cubicBezTo>
                    <a:close/>
                    <a:moveTo>
                      <a:pt x="289" y="109"/>
                    </a:moveTo>
                    <a:cubicBezTo>
                      <a:pt x="288" y="106"/>
                      <a:pt x="288" y="104"/>
                      <a:pt x="287" y="102"/>
                    </a:cubicBezTo>
                    <a:cubicBezTo>
                      <a:pt x="287" y="101"/>
                      <a:pt x="287" y="99"/>
                      <a:pt x="287" y="98"/>
                    </a:cubicBezTo>
                    <a:cubicBezTo>
                      <a:pt x="287" y="98"/>
                      <a:pt x="288" y="97"/>
                      <a:pt x="288" y="97"/>
                    </a:cubicBezTo>
                    <a:cubicBezTo>
                      <a:pt x="288" y="98"/>
                      <a:pt x="289" y="100"/>
                      <a:pt x="289" y="102"/>
                    </a:cubicBezTo>
                    <a:cubicBezTo>
                      <a:pt x="289" y="104"/>
                      <a:pt x="289" y="107"/>
                      <a:pt x="289" y="109"/>
                    </a:cubicBezTo>
                    <a:close/>
                    <a:moveTo>
                      <a:pt x="291" y="84"/>
                    </a:moveTo>
                    <a:cubicBezTo>
                      <a:pt x="291" y="89"/>
                      <a:pt x="290" y="94"/>
                      <a:pt x="290" y="98"/>
                    </a:cubicBezTo>
                    <a:cubicBezTo>
                      <a:pt x="289" y="97"/>
                      <a:pt x="289" y="96"/>
                      <a:pt x="288" y="95"/>
                    </a:cubicBezTo>
                    <a:cubicBezTo>
                      <a:pt x="289" y="94"/>
                      <a:pt x="290" y="92"/>
                      <a:pt x="290" y="91"/>
                    </a:cubicBezTo>
                    <a:cubicBezTo>
                      <a:pt x="290" y="92"/>
                      <a:pt x="289" y="94"/>
                      <a:pt x="288" y="95"/>
                    </a:cubicBezTo>
                    <a:cubicBezTo>
                      <a:pt x="288" y="94"/>
                      <a:pt x="287" y="93"/>
                      <a:pt x="287" y="92"/>
                    </a:cubicBezTo>
                    <a:cubicBezTo>
                      <a:pt x="287" y="90"/>
                      <a:pt x="287" y="88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75"/>
                      <a:pt x="286" y="65"/>
                      <a:pt x="286" y="56"/>
                    </a:cubicBezTo>
                    <a:cubicBezTo>
                      <a:pt x="289" y="58"/>
                      <a:pt x="292" y="61"/>
                      <a:pt x="294" y="63"/>
                    </a:cubicBezTo>
                    <a:cubicBezTo>
                      <a:pt x="293" y="69"/>
                      <a:pt x="292" y="76"/>
                      <a:pt x="291" y="84"/>
                    </a:cubicBezTo>
                    <a:cubicBezTo>
                      <a:pt x="291" y="82"/>
                      <a:pt x="290" y="81"/>
                      <a:pt x="290" y="79"/>
                    </a:cubicBezTo>
                    <a:cubicBezTo>
                      <a:pt x="290" y="81"/>
                      <a:pt x="291" y="83"/>
                      <a:pt x="291" y="84"/>
                    </a:cubicBezTo>
                    <a:close/>
                    <a:moveTo>
                      <a:pt x="293" y="139"/>
                    </a:moveTo>
                    <a:cubicBezTo>
                      <a:pt x="292" y="134"/>
                      <a:pt x="292" y="128"/>
                      <a:pt x="292" y="121"/>
                    </a:cubicBezTo>
                    <a:cubicBezTo>
                      <a:pt x="292" y="125"/>
                      <a:pt x="293" y="129"/>
                      <a:pt x="293" y="133"/>
                    </a:cubicBezTo>
                    <a:cubicBezTo>
                      <a:pt x="293" y="135"/>
                      <a:pt x="293" y="137"/>
                      <a:pt x="293" y="139"/>
                    </a:cubicBezTo>
                    <a:close/>
                    <a:moveTo>
                      <a:pt x="292" y="104"/>
                    </a:moveTo>
                    <a:cubicBezTo>
                      <a:pt x="292" y="102"/>
                      <a:pt x="293" y="99"/>
                      <a:pt x="293" y="96"/>
                    </a:cubicBezTo>
                    <a:cubicBezTo>
                      <a:pt x="293" y="100"/>
                      <a:pt x="293" y="104"/>
                      <a:pt x="293" y="107"/>
                    </a:cubicBezTo>
                    <a:cubicBezTo>
                      <a:pt x="293" y="106"/>
                      <a:pt x="293" y="105"/>
                      <a:pt x="292" y="104"/>
                    </a:cubicBezTo>
                    <a:close/>
                    <a:moveTo>
                      <a:pt x="304" y="85"/>
                    </a:moveTo>
                    <a:cubicBezTo>
                      <a:pt x="303" y="90"/>
                      <a:pt x="303" y="96"/>
                      <a:pt x="302" y="103"/>
                    </a:cubicBezTo>
                    <a:cubicBezTo>
                      <a:pt x="301" y="101"/>
                      <a:pt x="301" y="100"/>
                      <a:pt x="300" y="99"/>
                    </a:cubicBezTo>
                    <a:cubicBezTo>
                      <a:pt x="300" y="96"/>
                      <a:pt x="299" y="93"/>
                      <a:pt x="298" y="90"/>
                    </a:cubicBezTo>
                    <a:cubicBezTo>
                      <a:pt x="299" y="93"/>
                      <a:pt x="299" y="96"/>
                      <a:pt x="299" y="99"/>
                    </a:cubicBezTo>
                    <a:cubicBezTo>
                      <a:pt x="299" y="104"/>
                      <a:pt x="299" y="112"/>
                      <a:pt x="298" y="120"/>
                    </a:cubicBezTo>
                    <a:cubicBezTo>
                      <a:pt x="297" y="110"/>
                      <a:pt x="295" y="100"/>
                      <a:pt x="293" y="91"/>
                    </a:cubicBezTo>
                    <a:cubicBezTo>
                      <a:pt x="294" y="81"/>
                      <a:pt x="295" y="72"/>
                      <a:pt x="295" y="65"/>
                    </a:cubicBezTo>
                    <a:cubicBezTo>
                      <a:pt x="299" y="69"/>
                      <a:pt x="302" y="74"/>
                      <a:pt x="304" y="79"/>
                    </a:cubicBezTo>
                    <a:cubicBezTo>
                      <a:pt x="304" y="81"/>
                      <a:pt x="304" y="83"/>
                      <a:pt x="304" y="85"/>
                    </a:cubicBezTo>
                    <a:close/>
                    <a:moveTo>
                      <a:pt x="304" y="75"/>
                    </a:moveTo>
                    <a:cubicBezTo>
                      <a:pt x="304" y="75"/>
                      <a:pt x="304" y="75"/>
                      <a:pt x="304" y="75"/>
                    </a:cubicBezTo>
                    <a:cubicBezTo>
                      <a:pt x="304" y="73"/>
                      <a:pt x="304" y="72"/>
                      <a:pt x="304" y="70"/>
                    </a:cubicBezTo>
                    <a:cubicBezTo>
                      <a:pt x="304" y="70"/>
                      <a:pt x="304" y="72"/>
                      <a:pt x="304" y="75"/>
                    </a:cubicBezTo>
                    <a:cubicBezTo>
                      <a:pt x="301" y="71"/>
                      <a:pt x="299" y="67"/>
                      <a:pt x="296" y="64"/>
                    </a:cubicBezTo>
                    <a:cubicBezTo>
                      <a:pt x="296" y="60"/>
                      <a:pt x="296" y="57"/>
                      <a:pt x="297" y="54"/>
                    </a:cubicBezTo>
                    <a:cubicBezTo>
                      <a:pt x="300" y="58"/>
                      <a:pt x="303" y="62"/>
                      <a:pt x="305" y="65"/>
                    </a:cubicBezTo>
                    <a:cubicBezTo>
                      <a:pt x="305" y="68"/>
                      <a:pt x="305" y="71"/>
                      <a:pt x="304" y="75"/>
                    </a:cubicBezTo>
                    <a:close/>
                    <a:moveTo>
                      <a:pt x="308" y="117"/>
                    </a:moveTo>
                    <a:cubicBezTo>
                      <a:pt x="307" y="119"/>
                      <a:pt x="307" y="122"/>
                      <a:pt x="306" y="125"/>
                    </a:cubicBezTo>
                    <a:cubicBezTo>
                      <a:pt x="306" y="124"/>
                      <a:pt x="306" y="123"/>
                      <a:pt x="306" y="122"/>
                    </a:cubicBezTo>
                    <a:cubicBezTo>
                      <a:pt x="306" y="110"/>
                      <a:pt x="307" y="98"/>
                      <a:pt x="307" y="87"/>
                    </a:cubicBezTo>
                    <a:cubicBezTo>
                      <a:pt x="308" y="92"/>
                      <a:pt x="309" y="98"/>
                      <a:pt x="310" y="103"/>
                    </a:cubicBezTo>
                    <a:cubicBezTo>
                      <a:pt x="309" y="108"/>
                      <a:pt x="309" y="112"/>
                      <a:pt x="308" y="117"/>
                    </a:cubicBezTo>
                    <a:close/>
                    <a:moveTo>
                      <a:pt x="311" y="89"/>
                    </a:moveTo>
                    <a:cubicBezTo>
                      <a:pt x="310" y="86"/>
                      <a:pt x="309" y="83"/>
                      <a:pt x="307" y="80"/>
                    </a:cubicBezTo>
                    <a:cubicBezTo>
                      <a:pt x="307" y="76"/>
                      <a:pt x="307" y="72"/>
                      <a:pt x="307" y="68"/>
                    </a:cubicBezTo>
                    <a:cubicBezTo>
                      <a:pt x="309" y="71"/>
                      <a:pt x="311" y="74"/>
                      <a:pt x="313" y="78"/>
                    </a:cubicBezTo>
                    <a:cubicBezTo>
                      <a:pt x="312" y="81"/>
                      <a:pt x="312" y="85"/>
                      <a:pt x="311" y="89"/>
                    </a:cubicBezTo>
                    <a:close/>
                    <a:moveTo>
                      <a:pt x="317" y="96"/>
                    </a:moveTo>
                    <a:cubicBezTo>
                      <a:pt x="316" y="97"/>
                      <a:pt x="315" y="98"/>
                      <a:pt x="315" y="99"/>
                    </a:cubicBezTo>
                    <a:cubicBezTo>
                      <a:pt x="314" y="98"/>
                      <a:pt x="314" y="97"/>
                      <a:pt x="314" y="96"/>
                    </a:cubicBezTo>
                    <a:cubicBezTo>
                      <a:pt x="314" y="91"/>
                      <a:pt x="314" y="86"/>
                      <a:pt x="314" y="80"/>
                    </a:cubicBezTo>
                    <a:cubicBezTo>
                      <a:pt x="315" y="83"/>
                      <a:pt x="317" y="86"/>
                      <a:pt x="317" y="88"/>
                    </a:cubicBezTo>
                    <a:cubicBezTo>
                      <a:pt x="317" y="91"/>
                      <a:pt x="317" y="93"/>
                      <a:pt x="317" y="96"/>
                    </a:cubicBezTo>
                    <a:close/>
                    <a:moveTo>
                      <a:pt x="338" y="105"/>
                    </a:moveTo>
                    <a:cubicBezTo>
                      <a:pt x="338" y="103"/>
                      <a:pt x="337" y="102"/>
                      <a:pt x="336" y="101"/>
                    </a:cubicBezTo>
                    <a:cubicBezTo>
                      <a:pt x="338" y="96"/>
                      <a:pt x="339" y="92"/>
                      <a:pt x="341" y="89"/>
                    </a:cubicBezTo>
                    <a:cubicBezTo>
                      <a:pt x="341" y="89"/>
                      <a:pt x="341" y="89"/>
                      <a:pt x="341" y="90"/>
                    </a:cubicBezTo>
                    <a:cubicBezTo>
                      <a:pt x="340" y="95"/>
                      <a:pt x="339" y="100"/>
                      <a:pt x="338" y="105"/>
                    </a:cubicBezTo>
                    <a:close/>
                    <a:moveTo>
                      <a:pt x="354" y="81"/>
                    </a:moveTo>
                    <a:cubicBezTo>
                      <a:pt x="355" y="81"/>
                      <a:pt x="355" y="81"/>
                      <a:pt x="355" y="81"/>
                    </a:cubicBezTo>
                    <a:cubicBezTo>
                      <a:pt x="355" y="81"/>
                      <a:pt x="355" y="81"/>
                      <a:pt x="354" y="81"/>
                    </a:cubicBezTo>
                    <a:cubicBezTo>
                      <a:pt x="354" y="81"/>
                      <a:pt x="354" y="81"/>
                      <a:pt x="354" y="81"/>
                    </a:cubicBezTo>
                    <a:close/>
                    <a:moveTo>
                      <a:pt x="354" y="88"/>
                    </a:move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90"/>
                      <a:pt x="354" y="91"/>
                      <a:pt x="354" y="91"/>
                    </a:cubicBezTo>
                    <a:cubicBezTo>
                      <a:pt x="354" y="90"/>
                      <a:pt x="354" y="89"/>
                      <a:pt x="354" y="88"/>
                    </a:cubicBezTo>
                    <a:close/>
                    <a:moveTo>
                      <a:pt x="345" y="122"/>
                    </a:moveTo>
                    <a:cubicBezTo>
                      <a:pt x="345" y="122"/>
                      <a:pt x="345" y="123"/>
                      <a:pt x="345" y="123"/>
                    </a:cubicBezTo>
                    <a:cubicBezTo>
                      <a:pt x="345" y="123"/>
                      <a:pt x="345" y="123"/>
                      <a:pt x="345" y="123"/>
                    </a:cubicBezTo>
                    <a:cubicBezTo>
                      <a:pt x="345" y="123"/>
                      <a:pt x="345" y="122"/>
                      <a:pt x="345" y="122"/>
                    </a:cubicBezTo>
                    <a:cubicBezTo>
                      <a:pt x="345" y="120"/>
                      <a:pt x="346" y="118"/>
                      <a:pt x="346" y="115"/>
                    </a:cubicBezTo>
                    <a:cubicBezTo>
                      <a:pt x="346" y="115"/>
                      <a:pt x="346" y="115"/>
                      <a:pt x="346" y="115"/>
                    </a:cubicBezTo>
                    <a:cubicBezTo>
                      <a:pt x="346" y="116"/>
                      <a:pt x="346" y="117"/>
                      <a:pt x="346" y="118"/>
                    </a:cubicBezTo>
                    <a:cubicBezTo>
                      <a:pt x="346" y="119"/>
                      <a:pt x="345" y="121"/>
                      <a:pt x="345" y="122"/>
                    </a:cubicBezTo>
                    <a:close/>
                    <a:moveTo>
                      <a:pt x="348" y="70"/>
                    </a:moveTo>
                    <a:cubicBezTo>
                      <a:pt x="350" y="73"/>
                      <a:pt x="352" y="76"/>
                      <a:pt x="354" y="79"/>
                    </a:cubicBezTo>
                    <a:cubicBezTo>
                      <a:pt x="353" y="81"/>
                      <a:pt x="353" y="82"/>
                      <a:pt x="353" y="84"/>
                    </a:cubicBezTo>
                    <a:cubicBezTo>
                      <a:pt x="353" y="84"/>
                      <a:pt x="353" y="84"/>
                      <a:pt x="352" y="84"/>
                    </a:cubicBezTo>
                    <a:cubicBezTo>
                      <a:pt x="352" y="82"/>
                      <a:pt x="351" y="81"/>
                      <a:pt x="350" y="79"/>
                    </a:cubicBezTo>
                    <a:cubicBezTo>
                      <a:pt x="351" y="81"/>
                      <a:pt x="352" y="83"/>
                      <a:pt x="352" y="84"/>
                    </a:cubicBezTo>
                    <a:cubicBezTo>
                      <a:pt x="351" y="87"/>
                      <a:pt x="349" y="90"/>
                      <a:pt x="348" y="93"/>
                    </a:cubicBezTo>
                    <a:cubicBezTo>
                      <a:pt x="348" y="85"/>
                      <a:pt x="348" y="77"/>
                      <a:pt x="348" y="70"/>
                    </a:cubicBezTo>
                    <a:close/>
                    <a:moveTo>
                      <a:pt x="350" y="98"/>
                    </a:moveTo>
                    <a:cubicBezTo>
                      <a:pt x="350" y="98"/>
                      <a:pt x="350" y="97"/>
                      <a:pt x="350" y="96"/>
                    </a:cubicBezTo>
                    <a:cubicBezTo>
                      <a:pt x="350" y="97"/>
                      <a:pt x="350" y="98"/>
                      <a:pt x="350" y="98"/>
                    </a:cubicBezTo>
                    <a:cubicBezTo>
                      <a:pt x="350" y="99"/>
                      <a:pt x="350" y="100"/>
                      <a:pt x="350" y="100"/>
                    </a:cubicBezTo>
                    <a:cubicBezTo>
                      <a:pt x="349" y="99"/>
                      <a:pt x="349" y="98"/>
                      <a:pt x="349" y="97"/>
                    </a:cubicBezTo>
                    <a:cubicBezTo>
                      <a:pt x="349" y="95"/>
                      <a:pt x="350" y="93"/>
                      <a:pt x="351" y="90"/>
                    </a:cubicBezTo>
                    <a:cubicBezTo>
                      <a:pt x="351" y="93"/>
                      <a:pt x="350" y="96"/>
                      <a:pt x="350" y="98"/>
                    </a:cubicBezTo>
                    <a:close/>
                    <a:moveTo>
                      <a:pt x="357" y="100"/>
                    </a:moveTo>
                    <a:cubicBezTo>
                      <a:pt x="355" y="104"/>
                      <a:pt x="354" y="107"/>
                      <a:pt x="353" y="110"/>
                    </a:cubicBezTo>
                    <a:cubicBezTo>
                      <a:pt x="352" y="110"/>
                      <a:pt x="352" y="109"/>
                      <a:pt x="352" y="109"/>
                    </a:cubicBezTo>
                    <a:cubicBezTo>
                      <a:pt x="352" y="106"/>
                      <a:pt x="353" y="102"/>
                      <a:pt x="353" y="99"/>
                    </a:cubicBezTo>
                    <a:cubicBezTo>
                      <a:pt x="354" y="95"/>
                      <a:pt x="354" y="92"/>
                      <a:pt x="354" y="90"/>
                    </a:cubicBezTo>
                    <a:cubicBezTo>
                      <a:pt x="355" y="93"/>
                      <a:pt x="356" y="96"/>
                      <a:pt x="357" y="100"/>
                    </a:cubicBezTo>
                    <a:cubicBezTo>
                      <a:pt x="357" y="100"/>
                      <a:pt x="357" y="100"/>
                      <a:pt x="357" y="100"/>
                    </a:cubicBezTo>
                    <a:close/>
                    <a:moveTo>
                      <a:pt x="357" y="97"/>
                    </a:moveTo>
                    <a:cubicBezTo>
                      <a:pt x="356" y="95"/>
                      <a:pt x="355" y="92"/>
                      <a:pt x="354" y="89"/>
                    </a:cubicBezTo>
                    <a:cubicBezTo>
                      <a:pt x="354" y="89"/>
                      <a:pt x="354" y="89"/>
                      <a:pt x="354" y="88"/>
                    </a:cubicBez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89"/>
                      <a:pt x="354" y="88"/>
                      <a:pt x="354" y="88"/>
                    </a:cubicBezTo>
                    <a:cubicBezTo>
                      <a:pt x="354" y="87"/>
                      <a:pt x="354" y="86"/>
                      <a:pt x="354" y="85"/>
                    </a:cubicBezTo>
                    <a:cubicBezTo>
                      <a:pt x="355" y="84"/>
                      <a:pt x="355" y="83"/>
                      <a:pt x="355" y="82"/>
                    </a:cubicBezTo>
                    <a:cubicBezTo>
                      <a:pt x="357" y="84"/>
                      <a:pt x="358" y="86"/>
                      <a:pt x="358" y="88"/>
                    </a:cubicBezTo>
                    <a:cubicBezTo>
                      <a:pt x="358" y="91"/>
                      <a:pt x="358" y="94"/>
                      <a:pt x="357" y="97"/>
                    </a:cubicBezTo>
                    <a:close/>
                    <a:moveTo>
                      <a:pt x="360" y="135"/>
                    </a:moveTo>
                    <a:cubicBezTo>
                      <a:pt x="359" y="136"/>
                      <a:pt x="359" y="137"/>
                      <a:pt x="359" y="138"/>
                    </a:cubicBezTo>
                    <a:cubicBezTo>
                      <a:pt x="359" y="137"/>
                      <a:pt x="359" y="136"/>
                      <a:pt x="360" y="135"/>
                    </a:cubicBezTo>
                    <a:cubicBezTo>
                      <a:pt x="360" y="135"/>
                      <a:pt x="360" y="135"/>
                      <a:pt x="360" y="135"/>
                    </a:cubicBezTo>
                    <a:close/>
                    <a:moveTo>
                      <a:pt x="359" y="83"/>
                    </a:moveTo>
                    <a:cubicBezTo>
                      <a:pt x="358" y="82"/>
                      <a:pt x="358" y="81"/>
                      <a:pt x="357" y="80"/>
                    </a:cubicBezTo>
                    <a:cubicBezTo>
                      <a:pt x="358" y="78"/>
                      <a:pt x="359" y="77"/>
                      <a:pt x="360" y="75"/>
                    </a:cubicBezTo>
                    <a:cubicBezTo>
                      <a:pt x="360" y="78"/>
                      <a:pt x="359" y="81"/>
                      <a:pt x="359" y="83"/>
                    </a:cubicBezTo>
                    <a:close/>
                    <a:moveTo>
                      <a:pt x="360" y="74"/>
                    </a:moveTo>
                    <a:cubicBezTo>
                      <a:pt x="359" y="76"/>
                      <a:pt x="357" y="77"/>
                      <a:pt x="356" y="79"/>
                    </a:cubicBezTo>
                    <a:cubicBezTo>
                      <a:pt x="356" y="78"/>
                      <a:pt x="355" y="78"/>
                      <a:pt x="355" y="77"/>
                    </a:cubicBezTo>
                    <a:cubicBezTo>
                      <a:pt x="355" y="72"/>
                      <a:pt x="356" y="67"/>
                      <a:pt x="356" y="65"/>
                    </a:cubicBezTo>
                    <a:cubicBezTo>
                      <a:pt x="357" y="67"/>
                      <a:pt x="359" y="70"/>
                      <a:pt x="360" y="72"/>
                    </a:cubicBezTo>
                    <a:cubicBezTo>
                      <a:pt x="360" y="73"/>
                      <a:pt x="360" y="73"/>
                      <a:pt x="360" y="74"/>
                    </a:cubicBezTo>
                    <a:close/>
                    <a:moveTo>
                      <a:pt x="362" y="75"/>
                    </a:moveTo>
                    <a:cubicBezTo>
                      <a:pt x="364" y="78"/>
                      <a:pt x="365" y="81"/>
                      <a:pt x="367" y="84"/>
                    </a:cubicBezTo>
                    <a:cubicBezTo>
                      <a:pt x="365" y="86"/>
                      <a:pt x="364" y="88"/>
                      <a:pt x="363" y="90"/>
                    </a:cubicBezTo>
                    <a:cubicBezTo>
                      <a:pt x="363" y="89"/>
                      <a:pt x="362" y="89"/>
                      <a:pt x="362" y="89"/>
                    </a:cubicBezTo>
                    <a:cubicBezTo>
                      <a:pt x="362" y="84"/>
                      <a:pt x="362" y="79"/>
                      <a:pt x="362" y="75"/>
                    </a:cubicBezTo>
                    <a:close/>
                    <a:moveTo>
                      <a:pt x="364" y="110"/>
                    </a:moveTo>
                    <a:cubicBezTo>
                      <a:pt x="364" y="107"/>
                      <a:pt x="363" y="104"/>
                      <a:pt x="362" y="101"/>
                    </a:cubicBezTo>
                    <a:cubicBezTo>
                      <a:pt x="362" y="101"/>
                      <a:pt x="362" y="100"/>
                      <a:pt x="362" y="100"/>
                    </a:cubicBezTo>
                    <a:cubicBezTo>
                      <a:pt x="362" y="100"/>
                      <a:pt x="363" y="99"/>
                      <a:pt x="363" y="99"/>
                    </a:cubicBezTo>
                    <a:cubicBezTo>
                      <a:pt x="364" y="101"/>
                      <a:pt x="365" y="104"/>
                      <a:pt x="365" y="106"/>
                    </a:cubicBezTo>
                    <a:cubicBezTo>
                      <a:pt x="365" y="108"/>
                      <a:pt x="365" y="109"/>
                      <a:pt x="364" y="110"/>
                    </a:cubicBezTo>
                    <a:close/>
                    <a:moveTo>
                      <a:pt x="365" y="93"/>
                    </a:moveTo>
                    <a:cubicBezTo>
                      <a:pt x="366" y="91"/>
                      <a:pt x="367" y="88"/>
                      <a:pt x="368" y="86"/>
                    </a:cubicBezTo>
                    <a:cubicBezTo>
                      <a:pt x="368" y="87"/>
                      <a:pt x="369" y="87"/>
                      <a:pt x="369" y="88"/>
                    </a:cubicBezTo>
                    <a:cubicBezTo>
                      <a:pt x="368" y="91"/>
                      <a:pt x="368" y="94"/>
                      <a:pt x="367" y="97"/>
                    </a:cubicBezTo>
                    <a:cubicBezTo>
                      <a:pt x="366" y="96"/>
                      <a:pt x="366" y="95"/>
                      <a:pt x="365" y="93"/>
                    </a:cubicBezTo>
                    <a:close/>
                    <a:moveTo>
                      <a:pt x="368" y="130"/>
                    </a:moveTo>
                    <a:cubicBezTo>
                      <a:pt x="368" y="129"/>
                      <a:pt x="368" y="128"/>
                      <a:pt x="368" y="126"/>
                    </a:cubicBezTo>
                    <a:cubicBezTo>
                      <a:pt x="368" y="124"/>
                      <a:pt x="368" y="121"/>
                      <a:pt x="369" y="119"/>
                    </a:cubicBezTo>
                    <a:cubicBezTo>
                      <a:pt x="369" y="120"/>
                      <a:pt x="370" y="122"/>
                      <a:pt x="370" y="124"/>
                    </a:cubicBezTo>
                    <a:cubicBezTo>
                      <a:pt x="369" y="126"/>
                      <a:pt x="369" y="128"/>
                      <a:pt x="368" y="130"/>
                    </a:cubicBezTo>
                    <a:close/>
                    <a:moveTo>
                      <a:pt x="372" y="108"/>
                    </a:moveTo>
                    <a:cubicBezTo>
                      <a:pt x="372" y="107"/>
                      <a:pt x="371" y="106"/>
                      <a:pt x="371" y="105"/>
                    </a:cubicBezTo>
                    <a:cubicBezTo>
                      <a:pt x="372" y="102"/>
                      <a:pt x="372" y="99"/>
                      <a:pt x="373" y="96"/>
                    </a:cubicBezTo>
                    <a:cubicBezTo>
                      <a:pt x="373" y="96"/>
                      <a:pt x="373" y="97"/>
                      <a:pt x="373" y="97"/>
                    </a:cubicBezTo>
                    <a:cubicBezTo>
                      <a:pt x="373" y="101"/>
                      <a:pt x="373" y="105"/>
                      <a:pt x="372" y="108"/>
                    </a:cubicBezTo>
                    <a:close/>
                    <a:moveTo>
                      <a:pt x="374" y="86"/>
                    </a:moveTo>
                    <a:cubicBezTo>
                      <a:pt x="374" y="86"/>
                      <a:pt x="374" y="86"/>
                      <a:pt x="374" y="86"/>
                    </a:cubicBezTo>
                    <a:cubicBezTo>
                      <a:pt x="375" y="85"/>
                      <a:pt x="375" y="84"/>
                      <a:pt x="375" y="83"/>
                    </a:cubicBezTo>
                    <a:cubicBezTo>
                      <a:pt x="375" y="84"/>
                      <a:pt x="375" y="85"/>
                      <a:pt x="374" y="86"/>
                    </a:cubicBezTo>
                    <a:close/>
                    <a:moveTo>
                      <a:pt x="382" y="80"/>
                    </a:moveTo>
                    <a:cubicBezTo>
                      <a:pt x="382" y="77"/>
                      <a:pt x="382" y="75"/>
                      <a:pt x="383" y="73"/>
                    </a:cubicBezTo>
                    <a:cubicBezTo>
                      <a:pt x="383" y="73"/>
                      <a:pt x="383" y="74"/>
                      <a:pt x="384" y="74"/>
                    </a:cubicBezTo>
                    <a:cubicBezTo>
                      <a:pt x="383" y="76"/>
                      <a:pt x="383" y="78"/>
                      <a:pt x="382" y="80"/>
                    </a:cubicBezTo>
                    <a:close/>
                    <a:moveTo>
                      <a:pt x="394" y="93"/>
                    </a:moveTo>
                    <a:cubicBezTo>
                      <a:pt x="393" y="95"/>
                      <a:pt x="393" y="96"/>
                      <a:pt x="392" y="97"/>
                    </a:cubicBezTo>
                    <a:cubicBezTo>
                      <a:pt x="392" y="94"/>
                      <a:pt x="392" y="91"/>
                      <a:pt x="392" y="88"/>
                    </a:cubicBezTo>
                    <a:cubicBezTo>
                      <a:pt x="392" y="89"/>
                      <a:pt x="393" y="91"/>
                      <a:pt x="394" y="93"/>
                    </a:cubicBezTo>
                    <a:close/>
                    <a:moveTo>
                      <a:pt x="395" y="88"/>
                    </a:moveTo>
                    <a:cubicBezTo>
                      <a:pt x="394" y="86"/>
                      <a:pt x="393" y="85"/>
                      <a:pt x="392" y="84"/>
                    </a:cubicBezTo>
                    <a:cubicBezTo>
                      <a:pt x="394" y="81"/>
                      <a:pt x="395" y="78"/>
                      <a:pt x="397" y="75"/>
                    </a:cubicBezTo>
                    <a:cubicBezTo>
                      <a:pt x="396" y="79"/>
                      <a:pt x="396" y="84"/>
                      <a:pt x="395" y="88"/>
                    </a:cubicBezTo>
                    <a:close/>
                    <a:moveTo>
                      <a:pt x="404" y="77"/>
                    </a:moveTo>
                    <a:cubicBezTo>
                      <a:pt x="404" y="77"/>
                      <a:pt x="404" y="77"/>
                      <a:pt x="404" y="77"/>
                    </a:cubicBezTo>
                    <a:cubicBezTo>
                      <a:pt x="404" y="74"/>
                      <a:pt x="403" y="70"/>
                      <a:pt x="403" y="66"/>
                    </a:cubicBezTo>
                    <a:cubicBezTo>
                      <a:pt x="403" y="65"/>
                      <a:pt x="404" y="64"/>
                      <a:pt x="404" y="63"/>
                    </a:cubicBezTo>
                    <a:cubicBezTo>
                      <a:pt x="405" y="67"/>
                      <a:pt x="405" y="72"/>
                      <a:pt x="404" y="77"/>
                    </a:cubicBezTo>
                    <a:close/>
                    <a:moveTo>
                      <a:pt x="407" y="72"/>
                    </a:moveTo>
                    <a:cubicBezTo>
                      <a:pt x="407" y="67"/>
                      <a:pt x="406" y="64"/>
                      <a:pt x="405" y="61"/>
                    </a:cubicBezTo>
                    <a:cubicBezTo>
                      <a:pt x="406" y="60"/>
                      <a:pt x="407" y="58"/>
                      <a:pt x="408" y="57"/>
                    </a:cubicBezTo>
                    <a:cubicBezTo>
                      <a:pt x="409" y="62"/>
                      <a:pt x="408" y="67"/>
                      <a:pt x="407" y="72"/>
                    </a:cubicBezTo>
                    <a:close/>
                    <a:moveTo>
                      <a:pt x="423" y="89"/>
                    </a:moveTo>
                    <a:cubicBezTo>
                      <a:pt x="424" y="91"/>
                      <a:pt x="425" y="92"/>
                      <a:pt x="426" y="94"/>
                    </a:cubicBezTo>
                    <a:cubicBezTo>
                      <a:pt x="425" y="95"/>
                      <a:pt x="424" y="97"/>
                      <a:pt x="424" y="98"/>
                    </a:cubicBezTo>
                    <a:cubicBezTo>
                      <a:pt x="423" y="97"/>
                      <a:pt x="423" y="96"/>
                      <a:pt x="422" y="95"/>
                    </a:cubicBezTo>
                    <a:cubicBezTo>
                      <a:pt x="423" y="93"/>
                      <a:pt x="423" y="91"/>
                      <a:pt x="423" y="89"/>
                    </a:cubicBezTo>
                    <a:close/>
                    <a:moveTo>
                      <a:pt x="422" y="101"/>
                    </a:moveTo>
                    <a:cubicBezTo>
                      <a:pt x="422" y="101"/>
                      <a:pt x="422" y="100"/>
                      <a:pt x="422" y="100"/>
                    </a:cubicBezTo>
                    <a:cubicBezTo>
                      <a:pt x="422" y="100"/>
                      <a:pt x="422" y="101"/>
                      <a:pt x="423" y="101"/>
                    </a:cubicBezTo>
                    <a:cubicBezTo>
                      <a:pt x="422" y="101"/>
                      <a:pt x="422" y="101"/>
                      <a:pt x="422" y="101"/>
                    </a:cubicBezTo>
                    <a:close/>
                    <a:moveTo>
                      <a:pt x="424" y="122"/>
                    </a:moveTo>
                    <a:cubicBezTo>
                      <a:pt x="424" y="121"/>
                      <a:pt x="424" y="120"/>
                      <a:pt x="423" y="119"/>
                    </a:cubicBezTo>
                    <a:cubicBezTo>
                      <a:pt x="423" y="117"/>
                      <a:pt x="423" y="115"/>
                      <a:pt x="423" y="112"/>
                    </a:cubicBezTo>
                    <a:cubicBezTo>
                      <a:pt x="423" y="110"/>
                      <a:pt x="424" y="108"/>
                      <a:pt x="424" y="106"/>
                    </a:cubicBezTo>
                    <a:cubicBezTo>
                      <a:pt x="424" y="108"/>
                      <a:pt x="425" y="110"/>
                      <a:pt x="425" y="112"/>
                    </a:cubicBezTo>
                    <a:cubicBezTo>
                      <a:pt x="425" y="115"/>
                      <a:pt x="425" y="119"/>
                      <a:pt x="424" y="122"/>
                    </a:cubicBezTo>
                    <a:close/>
                    <a:moveTo>
                      <a:pt x="426" y="103"/>
                    </a:moveTo>
                    <a:cubicBezTo>
                      <a:pt x="426" y="102"/>
                      <a:pt x="425" y="101"/>
                      <a:pt x="425" y="100"/>
                    </a:cubicBezTo>
                    <a:cubicBezTo>
                      <a:pt x="425" y="99"/>
                      <a:pt x="426" y="97"/>
                      <a:pt x="426" y="96"/>
                    </a:cubicBezTo>
                    <a:cubicBezTo>
                      <a:pt x="426" y="97"/>
                      <a:pt x="427" y="97"/>
                      <a:pt x="427" y="98"/>
                    </a:cubicBezTo>
                    <a:cubicBezTo>
                      <a:pt x="427" y="100"/>
                      <a:pt x="427" y="101"/>
                      <a:pt x="426" y="103"/>
                    </a:cubicBezTo>
                    <a:close/>
                    <a:moveTo>
                      <a:pt x="427" y="96"/>
                    </a:moveTo>
                    <a:cubicBezTo>
                      <a:pt x="427" y="95"/>
                      <a:pt x="427" y="95"/>
                      <a:pt x="427" y="95"/>
                    </a:cubicBezTo>
                    <a:cubicBezTo>
                      <a:pt x="427" y="93"/>
                      <a:pt x="427" y="92"/>
                      <a:pt x="428" y="91"/>
                    </a:cubicBezTo>
                    <a:cubicBezTo>
                      <a:pt x="428" y="93"/>
                      <a:pt x="427" y="94"/>
                      <a:pt x="427" y="96"/>
                    </a:cubicBezTo>
                    <a:close/>
                    <a:moveTo>
                      <a:pt x="433" y="95"/>
                    </a:moveTo>
                    <a:cubicBezTo>
                      <a:pt x="434" y="92"/>
                      <a:pt x="434" y="89"/>
                      <a:pt x="434" y="86"/>
                    </a:cubicBezTo>
                    <a:cubicBezTo>
                      <a:pt x="435" y="86"/>
                      <a:pt x="435" y="87"/>
                      <a:pt x="436" y="88"/>
                    </a:cubicBezTo>
                    <a:cubicBezTo>
                      <a:pt x="435" y="90"/>
                      <a:pt x="434" y="92"/>
                      <a:pt x="433" y="95"/>
                    </a:cubicBezTo>
                    <a:close/>
                    <a:moveTo>
                      <a:pt x="444" y="99"/>
                    </a:moveTo>
                    <a:cubicBezTo>
                      <a:pt x="444" y="99"/>
                      <a:pt x="443" y="98"/>
                      <a:pt x="443" y="97"/>
                    </a:cubicBezTo>
                    <a:cubicBezTo>
                      <a:pt x="443" y="93"/>
                      <a:pt x="443" y="89"/>
                      <a:pt x="443" y="84"/>
                    </a:cubicBezTo>
                    <a:cubicBezTo>
                      <a:pt x="445" y="80"/>
                      <a:pt x="447" y="76"/>
                      <a:pt x="450" y="72"/>
                    </a:cubicBezTo>
                    <a:cubicBezTo>
                      <a:pt x="450" y="74"/>
                      <a:pt x="450" y="78"/>
                      <a:pt x="451" y="82"/>
                    </a:cubicBezTo>
                    <a:cubicBezTo>
                      <a:pt x="448" y="88"/>
                      <a:pt x="446" y="93"/>
                      <a:pt x="444" y="99"/>
                    </a:cubicBezTo>
                    <a:close/>
                    <a:moveTo>
                      <a:pt x="452" y="75"/>
                    </a:moveTo>
                    <a:cubicBezTo>
                      <a:pt x="452" y="73"/>
                      <a:pt x="451" y="71"/>
                      <a:pt x="451" y="69"/>
                    </a:cubicBezTo>
                    <a:cubicBezTo>
                      <a:pt x="452" y="68"/>
                      <a:pt x="453" y="67"/>
                      <a:pt x="453" y="66"/>
                    </a:cubicBezTo>
                    <a:cubicBezTo>
                      <a:pt x="453" y="69"/>
                      <a:pt x="453" y="72"/>
                      <a:pt x="452" y="75"/>
                    </a:cubicBezTo>
                    <a:close/>
                    <a:moveTo>
                      <a:pt x="460" y="72"/>
                    </a:moveTo>
                    <a:cubicBezTo>
                      <a:pt x="460" y="71"/>
                      <a:pt x="460" y="70"/>
                      <a:pt x="460" y="70"/>
                    </a:cubicBezTo>
                    <a:cubicBezTo>
                      <a:pt x="460" y="69"/>
                      <a:pt x="460" y="69"/>
                      <a:pt x="460" y="69"/>
                    </a:cubicBezTo>
                    <a:cubicBezTo>
                      <a:pt x="460" y="71"/>
                      <a:pt x="460" y="72"/>
                      <a:pt x="460" y="72"/>
                    </a:cubicBezTo>
                    <a:close/>
                    <a:moveTo>
                      <a:pt x="460" y="67"/>
                    </a:moveTo>
                    <a:cubicBezTo>
                      <a:pt x="460" y="67"/>
                      <a:pt x="460" y="68"/>
                      <a:pt x="460" y="68"/>
                    </a:cubicBezTo>
                    <a:cubicBezTo>
                      <a:pt x="460" y="65"/>
                      <a:pt x="459" y="61"/>
                      <a:pt x="459" y="58"/>
                    </a:cubicBezTo>
                    <a:cubicBezTo>
                      <a:pt x="460" y="57"/>
                      <a:pt x="460" y="56"/>
                      <a:pt x="461" y="56"/>
                    </a:cubicBezTo>
                    <a:cubicBezTo>
                      <a:pt x="461" y="60"/>
                      <a:pt x="460" y="64"/>
                      <a:pt x="460" y="67"/>
                    </a:cubicBezTo>
                    <a:close/>
                    <a:moveTo>
                      <a:pt x="468" y="123"/>
                    </a:moveTo>
                    <a:cubicBezTo>
                      <a:pt x="467" y="124"/>
                      <a:pt x="466" y="126"/>
                      <a:pt x="466" y="127"/>
                    </a:cubicBezTo>
                    <a:cubicBezTo>
                      <a:pt x="466" y="124"/>
                      <a:pt x="466" y="122"/>
                      <a:pt x="466" y="119"/>
                    </a:cubicBezTo>
                    <a:cubicBezTo>
                      <a:pt x="467" y="116"/>
                      <a:pt x="468" y="112"/>
                      <a:pt x="469" y="109"/>
                    </a:cubicBezTo>
                    <a:cubicBezTo>
                      <a:pt x="469" y="111"/>
                      <a:pt x="469" y="112"/>
                      <a:pt x="469" y="114"/>
                    </a:cubicBezTo>
                    <a:cubicBezTo>
                      <a:pt x="469" y="117"/>
                      <a:pt x="468" y="120"/>
                      <a:pt x="468" y="123"/>
                    </a:cubicBezTo>
                    <a:close/>
                    <a:moveTo>
                      <a:pt x="470" y="110"/>
                    </a:moveTo>
                    <a:cubicBezTo>
                      <a:pt x="470" y="111"/>
                      <a:pt x="470" y="112"/>
                      <a:pt x="470" y="112"/>
                    </a:cubicBezTo>
                    <a:cubicBezTo>
                      <a:pt x="469" y="111"/>
                      <a:pt x="469" y="110"/>
                      <a:pt x="469" y="109"/>
                    </a:cubicBezTo>
                    <a:cubicBezTo>
                      <a:pt x="469" y="107"/>
                      <a:pt x="470" y="105"/>
                      <a:pt x="471" y="102"/>
                    </a:cubicBezTo>
                    <a:cubicBezTo>
                      <a:pt x="470" y="105"/>
                      <a:pt x="470" y="108"/>
                      <a:pt x="470" y="110"/>
                    </a:cubicBezTo>
                    <a:close/>
                    <a:moveTo>
                      <a:pt x="472" y="83"/>
                    </a:moveTo>
                    <a:cubicBezTo>
                      <a:pt x="472" y="83"/>
                      <a:pt x="472" y="84"/>
                      <a:pt x="471" y="85"/>
                    </a:cubicBezTo>
                    <a:cubicBezTo>
                      <a:pt x="470" y="87"/>
                      <a:pt x="470" y="89"/>
                      <a:pt x="469" y="91"/>
                    </a:cubicBezTo>
                    <a:cubicBezTo>
                      <a:pt x="468" y="91"/>
                      <a:pt x="468" y="91"/>
                      <a:pt x="468" y="91"/>
                    </a:cubicBezTo>
                    <a:cubicBezTo>
                      <a:pt x="468" y="91"/>
                      <a:pt x="468" y="91"/>
                      <a:pt x="469" y="91"/>
                    </a:cubicBezTo>
                    <a:cubicBezTo>
                      <a:pt x="468" y="92"/>
                      <a:pt x="467" y="94"/>
                      <a:pt x="466" y="96"/>
                    </a:cubicBezTo>
                    <a:cubicBezTo>
                      <a:pt x="467" y="90"/>
                      <a:pt x="467" y="85"/>
                      <a:pt x="469" y="79"/>
                    </a:cubicBezTo>
                    <a:cubicBezTo>
                      <a:pt x="467" y="85"/>
                      <a:pt x="466" y="90"/>
                      <a:pt x="465" y="95"/>
                    </a:cubicBezTo>
                    <a:cubicBezTo>
                      <a:pt x="465" y="85"/>
                      <a:pt x="465" y="74"/>
                      <a:pt x="465" y="63"/>
                    </a:cubicBezTo>
                    <a:cubicBezTo>
                      <a:pt x="468" y="60"/>
                      <a:pt x="471" y="58"/>
                      <a:pt x="474" y="55"/>
                    </a:cubicBezTo>
                    <a:cubicBezTo>
                      <a:pt x="474" y="62"/>
                      <a:pt x="473" y="72"/>
                      <a:pt x="472" y="83"/>
                    </a:cubicBezTo>
                    <a:close/>
                    <a:moveTo>
                      <a:pt x="478" y="105"/>
                    </a:moveTo>
                    <a:cubicBezTo>
                      <a:pt x="478" y="102"/>
                      <a:pt x="478" y="99"/>
                      <a:pt x="478" y="96"/>
                    </a:cubicBezTo>
                    <a:cubicBezTo>
                      <a:pt x="478" y="97"/>
                      <a:pt x="479" y="99"/>
                      <a:pt x="479" y="100"/>
                    </a:cubicBezTo>
                    <a:cubicBezTo>
                      <a:pt x="479" y="102"/>
                      <a:pt x="479" y="103"/>
                      <a:pt x="478" y="105"/>
                    </a:cubicBezTo>
                    <a:cubicBezTo>
                      <a:pt x="478" y="105"/>
                      <a:pt x="478" y="105"/>
                      <a:pt x="478" y="105"/>
                    </a:cubicBezTo>
                    <a:close/>
                    <a:moveTo>
                      <a:pt x="480" y="130"/>
                    </a:moveTo>
                    <a:cubicBezTo>
                      <a:pt x="480" y="130"/>
                      <a:pt x="479" y="130"/>
                      <a:pt x="479" y="130"/>
                    </a:cubicBezTo>
                    <a:cubicBezTo>
                      <a:pt x="479" y="129"/>
                      <a:pt x="479" y="128"/>
                      <a:pt x="479" y="127"/>
                    </a:cubicBezTo>
                    <a:cubicBezTo>
                      <a:pt x="479" y="128"/>
                      <a:pt x="480" y="128"/>
                      <a:pt x="480" y="129"/>
                    </a:cubicBezTo>
                    <a:cubicBezTo>
                      <a:pt x="480" y="129"/>
                      <a:pt x="480" y="130"/>
                      <a:pt x="480" y="130"/>
                    </a:cubicBezTo>
                    <a:close/>
                    <a:moveTo>
                      <a:pt x="486" y="74"/>
                    </a:moveTo>
                    <a:cubicBezTo>
                      <a:pt x="486" y="73"/>
                      <a:pt x="486" y="71"/>
                      <a:pt x="486" y="70"/>
                    </a:cubicBezTo>
                    <a:cubicBezTo>
                      <a:pt x="487" y="70"/>
                      <a:pt x="487" y="71"/>
                      <a:pt x="487" y="72"/>
                    </a:cubicBezTo>
                    <a:cubicBezTo>
                      <a:pt x="487" y="72"/>
                      <a:pt x="487" y="73"/>
                      <a:pt x="486" y="74"/>
                    </a:cubicBezTo>
                    <a:close/>
                    <a:moveTo>
                      <a:pt x="490" y="139"/>
                    </a:moveTo>
                    <a:cubicBezTo>
                      <a:pt x="490" y="140"/>
                      <a:pt x="490" y="141"/>
                      <a:pt x="490" y="142"/>
                    </a:cubicBezTo>
                    <a:cubicBezTo>
                      <a:pt x="490" y="142"/>
                      <a:pt x="490" y="141"/>
                      <a:pt x="490" y="139"/>
                    </a:cubicBezTo>
                    <a:cubicBezTo>
                      <a:pt x="490" y="138"/>
                      <a:pt x="490" y="137"/>
                      <a:pt x="491" y="136"/>
                    </a:cubicBezTo>
                    <a:cubicBezTo>
                      <a:pt x="491" y="137"/>
                      <a:pt x="491" y="137"/>
                      <a:pt x="491" y="137"/>
                    </a:cubicBezTo>
                    <a:cubicBezTo>
                      <a:pt x="491" y="138"/>
                      <a:pt x="490" y="139"/>
                      <a:pt x="490" y="139"/>
                    </a:cubicBezTo>
                    <a:close/>
                    <a:moveTo>
                      <a:pt x="492" y="122"/>
                    </a:moveTo>
                    <a:cubicBezTo>
                      <a:pt x="492" y="122"/>
                      <a:pt x="492" y="122"/>
                      <a:pt x="492" y="122"/>
                    </a:cubicBezTo>
                    <a:cubicBezTo>
                      <a:pt x="492" y="121"/>
                      <a:pt x="492" y="121"/>
                      <a:pt x="492" y="121"/>
                    </a:cubicBezTo>
                    <a:cubicBezTo>
                      <a:pt x="492" y="121"/>
                      <a:pt x="492" y="122"/>
                      <a:pt x="492" y="122"/>
                    </a:cubicBezTo>
                    <a:close/>
                    <a:moveTo>
                      <a:pt x="493" y="110"/>
                    </a:moveTo>
                    <a:cubicBezTo>
                      <a:pt x="492" y="112"/>
                      <a:pt x="491" y="114"/>
                      <a:pt x="491" y="116"/>
                    </a:cubicBezTo>
                    <a:cubicBezTo>
                      <a:pt x="490" y="116"/>
                      <a:pt x="490" y="117"/>
                      <a:pt x="490" y="117"/>
                    </a:cubicBezTo>
                    <a:cubicBezTo>
                      <a:pt x="490" y="113"/>
                      <a:pt x="489" y="108"/>
                      <a:pt x="489" y="104"/>
                    </a:cubicBezTo>
                    <a:cubicBezTo>
                      <a:pt x="490" y="101"/>
                      <a:pt x="491" y="98"/>
                      <a:pt x="492" y="96"/>
                    </a:cubicBezTo>
                    <a:cubicBezTo>
                      <a:pt x="492" y="95"/>
                      <a:pt x="492" y="95"/>
                      <a:pt x="492" y="95"/>
                    </a:cubicBezTo>
                    <a:cubicBezTo>
                      <a:pt x="492" y="98"/>
                      <a:pt x="493" y="101"/>
                      <a:pt x="493" y="104"/>
                    </a:cubicBezTo>
                    <a:cubicBezTo>
                      <a:pt x="493" y="106"/>
                      <a:pt x="493" y="108"/>
                      <a:pt x="493" y="110"/>
                    </a:cubicBezTo>
                    <a:close/>
                    <a:moveTo>
                      <a:pt x="494" y="99"/>
                    </a:moveTo>
                    <a:cubicBezTo>
                      <a:pt x="493" y="97"/>
                      <a:pt x="493" y="96"/>
                      <a:pt x="492" y="94"/>
                    </a:cubicBezTo>
                    <a:cubicBezTo>
                      <a:pt x="493" y="93"/>
                      <a:pt x="494" y="92"/>
                      <a:pt x="494" y="91"/>
                    </a:cubicBezTo>
                    <a:cubicBezTo>
                      <a:pt x="494" y="94"/>
                      <a:pt x="494" y="96"/>
                      <a:pt x="494" y="99"/>
                    </a:cubicBezTo>
                    <a:close/>
                    <a:moveTo>
                      <a:pt x="488" y="91"/>
                    </a:moveTo>
                    <a:cubicBezTo>
                      <a:pt x="488" y="89"/>
                      <a:pt x="488" y="88"/>
                      <a:pt x="488" y="87"/>
                    </a:cubicBezTo>
                    <a:cubicBezTo>
                      <a:pt x="489" y="83"/>
                      <a:pt x="490" y="80"/>
                      <a:pt x="491" y="76"/>
                    </a:cubicBezTo>
                    <a:cubicBezTo>
                      <a:pt x="493" y="78"/>
                      <a:pt x="494" y="80"/>
                      <a:pt x="495" y="82"/>
                    </a:cubicBezTo>
                    <a:cubicBezTo>
                      <a:pt x="492" y="85"/>
                      <a:pt x="490" y="88"/>
                      <a:pt x="488" y="91"/>
                    </a:cubicBezTo>
                    <a:close/>
                    <a:moveTo>
                      <a:pt x="495" y="79"/>
                    </a:moveTo>
                    <a:cubicBezTo>
                      <a:pt x="494" y="77"/>
                      <a:pt x="493" y="76"/>
                      <a:pt x="492" y="75"/>
                    </a:cubicBezTo>
                    <a:cubicBezTo>
                      <a:pt x="493" y="72"/>
                      <a:pt x="495" y="68"/>
                      <a:pt x="496" y="65"/>
                    </a:cubicBezTo>
                    <a:cubicBezTo>
                      <a:pt x="496" y="68"/>
                      <a:pt x="496" y="73"/>
                      <a:pt x="495" y="79"/>
                    </a:cubicBezTo>
                    <a:close/>
                    <a:moveTo>
                      <a:pt x="514" y="54"/>
                    </a:moveTo>
                    <a:cubicBezTo>
                      <a:pt x="513" y="56"/>
                      <a:pt x="512" y="58"/>
                      <a:pt x="512" y="61"/>
                    </a:cubicBezTo>
                    <a:cubicBezTo>
                      <a:pt x="508" y="65"/>
                      <a:pt x="505" y="69"/>
                      <a:pt x="501" y="74"/>
                    </a:cubicBezTo>
                    <a:cubicBezTo>
                      <a:pt x="504" y="67"/>
                      <a:pt x="509" y="60"/>
                      <a:pt x="514" y="54"/>
                    </a:cubicBezTo>
                    <a:close/>
                    <a:moveTo>
                      <a:pt x="499" y="89"/>
                    </a:moveTo>
                    <a:cubicBezTo>
                      <a:pt x="499" y="90"/>
                      <a:pt x="500" y="91"/>
                      <a:pt x="500" y="92"/>
                    </a:cubicBezTo>
                    <a:cubicBezTo>
                      <a:pt x="500" y="92"/>
                      <a:pt x="500" y="93"/>
                      <a:pt x="499" y="94"/>
                    </a:cubicBezTo>
                    <a:cubicBezTo>
                      <a:pt x="499" y="92"/>
                      <a:pt x="499" y="91"/>
                      <a:pt x="499" y="89"/>
                    </a:cubicBezTo>
                    <a:close/>
                    <a:moveTo>
                      <a:pt x="502" y="127"/>
                    </a:moveTo>
                    <a:cubicBezTo>
                      <a:pt x="501" y="125"/>
                      <a:pt x="501" y="124"/>
                      <a:pt x="500" y="122"/>
                    </a:cubicBezTo>
                    <a:cubicBezTo>
                      <a:pt x="500" y="117"/>
                      <a:pt x="500" y="111"/>
                      <a:pt x="500" y="105"/>
                    </a:cubicBezTo>
                    <a:cubicBezTo>
                      <a:pt x="501" y="104"/>
                      <a:pt x="502" y="102"/>
                      <a:pt x="503" y="101"/>
                    </a:cubicBezTo>
                    <a:cubicBezTo>
                      <a:pt x="502" y="102"/>
                      <a:pt x="501" y="103"/>
                      <a:pt x="500" y="105"/>
                    </a:cubicBezTo>
                    <a:cubicBezTo>
                      <a:pt x="500" y="102"/>
                      <a:pt x="499" y="99"/>
                      <a:pt x="499" y="96"/>
                    </a:cubicBezTo>
                    <a:cubicBezTo>
                      <a:pt x="500" y="95"/>
                      <a:pt x="500" y="94"/>
                      <a:pt x="501" y="93"/>
                    </a:cubicBezTo>
                    <a:cubicBezTo>
                      <a:pt x="502" y="95"/>
                      <a:pt x="503" y="97"/>
                      <a:pt x="503" y="100"/>
                    </a:cubicBezTo>
                    <a:cubicBezTo>
                      <a:pt x="503" y="100"/>
                      <a:pt x="503" y="100"/>
                      <a:pt x="503" y="101"/>
                    </a:cubicBezTo>
                    <a:cubicBezTo>
                      <a:pt x="503" y="101"/>
                      <a:pt x="503" y="100"/>
                      <a:pt x="503" y="100"/>
                    </a:cubicBezTo>
                    <a:cubicBezTo>
                      <a:pt x="504" y="101"/>
                      <a:pt x="504" y="102"/>
                      <a:pt x="505" y="103"/>
                    </a:cubicBezTo>
                    <a:cubicBezTo>
                      <a:pt x="503" y="112"/>
                      <a:pt x="502" y="120"/>
                      <a:pt x="502" y="127"/>
                    </a:cubicBezTo>
                    <a:close/>
                    <a:moveTo>
                      <a:pt x="503" y="87"/>
                    </a:moveTo>
                    <a:cubicBezTo>
                      <a:pt x="503" y="86"/>
                      <a:pt x="504" y="84"/>
                      <a:pt x="505" y="83"/>
                    </a:cubicBezTo>
                    <a:cubicBezTo>
                      <a:pt x="504" y="84"/>
                      <a:pt x="503" y="86"/>
                      <a:pt x="502" y="87"/>
                    </a:cubicBezTo>
                    <a:cubicBezTo>
                      <a:pt x="501" y="86"/>
                      <a:pt x="500" y="85"/>
                      <a:pt x="499" y="83"/>
                    </a:cubicBezTo>
                    <a:cubicBezTo>
                      <a:pt x="503" y="78"/>
                      <a:pt x="507" y="72"/>
                      <a:pt x="511" y="67"/>
                    </a:cubicBezTo>
                    <a:cubicBezTo>
                      <a:pt x="510" y="72"/>
                      <a:pt x="509" y="76"/>
                      <a:pt x="508" y="81"/>
                    </a:cubicBezTo>
                    <a:cubicBezTo>
                      <a:pt x="508" y="80"/>
                      <a:pt x="507" y="79"/>
                      <a:pt x="507" y="79"/>
                    </a:cubicBezTo>
                    <a:cubicBezTo>
                      <a:pt x="507" y="78"/>
                      <a:pt x="508" y="77"/>
                      <a:pt x="509" y="75"/>
                    </a:cubicBezTo>
                    <a:cubicBezTo>
                      <a:pt x="508" y="76"/>
                      <a:pt x="507" y="77"/>
                      <a:pt x="507" y="79"/>
                    </a:cubicBezTo>
                    <a:cubicBezTo>
                      <a:pt x="506" y="78"/>
                      <a:pt x="506" y="77"/>
                      <a:pt x="505" y="77"/>
                    </a:cubicBezTo>
                    <a:cubicBezTo>
                      <a:pt x="506" y="78"/>
                      <a:pt x="506" y="79"/>
                      <a:pt x="506" y="79"/>
                    </a:cubicBezTo>
                    <a:cubicBezTo>
                      <a:pt x="506" y="80"/>
                      <a:pt x="505" y="81"/>
                      <a:pt x="505" y="83"/>
                    </a:cubicBezTo>
                    <a:cubicBezTo>
                      <a:pt x="505" y="82"/>
                      <a:pt x="506" y="81"/>
                      <a:pt x="506" y="80"/>
                    </a:cubicBezTo>
                    <a:cubicBezTo>
                      <a:pt x="507" y="81"/>
                      <a:pt x="507" y="82"/>
                      <a:pt x="508" y="84"/>
                    </a:cubicBezTo>
                    <a:cubicBezTo>
                      <a:pt x="507" y="87"/>
                      <a:pt x="507" y="90"/>
                      <a:pt x="506" y="93"/>
                    </a:cubicBezTo>
                    <a:cubicBezTo>
                      <a:pt x="505" y="91"/>
                      <a:pt x="504" y="89"/>
                      <a:pt x="503" y="87"/>
                    </a:cubicBezTo>
                    <a:close/>
                    <a:moveTo>
                      <a:pt x="508" y="144"/>
                    </a:moveTo>
                    <a:cubicBezTo>
                      <a:pt x="507" y="144"/>
                      <a:pt x="507" y="143"/>
                      <a:pt x="507" y="143"/>
                    </a:cubicBezTo>
                    <a:cubicBezTo>
                      <a:pt x="507" y="140"/>
                      <a:pt x="507" y="136"/>
                      <a:pt x="508" y="131"/>
                    </a:cubicBezTo>
                    <a:cubicBezTo>
                      <a:pt x="509" y="128"/>
                      <a:pt x="509" y="126"/>
                      <a:pt x="509" y="125"/>
                    </a:cubicBezTo>
                    <a:cubicBezTo>
                      <a:pt x="509" y="125"/>
                      <a:pt x="509" y="124"/>
                      <a:pt x="509" y="124"/>
                    </a:cubicBezTo>
                    <a:cubicBezTo>
                      <a:pt x="509" y="124"/>
                      <a:pt x="508" y="124"/>
                      <a:pt x="508" y="124"/>
                    </a:cubicBezTo>
                    <a:cubicBezTo>
                      <a:pt x="508" y="122"/>
                      <a:pt x="508" y="120"/>
                      <a:pt x="509" y="118"/>
                    </a:cubicBezTo>
                    <a:cubicBezTo>
                      <a:pt x="509" y="121"/>
                      <a:pt x="510" y="125"/>
                      <a:pt x="510" y="128"/>
                    </a:cubicBezTo>
                    <a:cubicBezTo>
                      <a:pt x="509" y="136"/>
                      <a:pt x="508" y="141"/>
                      <a:pt x="508" y="144"/>
                    </a:cubicBezTo>
                    <a:close/>
                    <a:moveTo>
                      <a:pt x="514" y="107"/>
                    </a:moveTo>
                    <a:cubicBezTo>
                      <a:pt x="513" y="105"/>
                      <a:pt x="512" y="102"/>
                      <a:pt x="510" y="100"/>
                    </a:cubicBezTo>
                    <a:cubicBezTo>
                      <a:pt x="511" y="97"/>
                      <a:pt x="511" y="95"/>
                      <a:pt x="511" y="93"/>
                    </a:cubicBezTo>
                    <a:cubicBezTo>
                      <a:pt x="512" y="96"/>
                      <a:pt x="514" y="99"/>
                      <a:pt x="515" y="102"/>
                    </a:cubicBezTo>
                    <a:cubicBezTo>
                      <a:pt x="515" y="104"/>
                      <a:pt x="514" y="105"/>
                      <a:pt x="514" y="107"/>
                    </a:cubicBezTo>
                    <a:close/>
                    <a:moveTo>
                      <a:pt x="515" y="159"/>
                    </a:move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5" y="159"/>
                      <a:pt x="515" y="159"/>
                    </a:cubicBezTo>
                    <a:close/>
                    <a:moveTo>
                      <a:pt x="516" y="96"/>
                    </a:moveTo>
                    <a:cubicBezTo>
                      <a:pt x="515" y="93"/>
                      <a:pt x="514" y="91"/>
                      <a:pt x="512" y="88"/>
                    </a:cubicBezTo>
                    <a:cubicBezTo>
                      <a:pt x="515" y="85"/>
                      <a:pt x="517" y="82"/>
                      <a:pt x="518" y="79"/>
                    </a:cubicBezTo>
                    <a:cubicBezTo>
                      <a:pt x="518" y="84"/>
                      <a:pt x="517" y="90"/>
                      <a:pt x="516" y="96"/>
                    </a:cubicBezTo>
                    <a:close/>
                    <a:moveTo>
                      <a:pt x="519" y="75"/>
                    </a:moveTo>
                    <a:cubicBezTo>
                      <a:pt x="517" y="78"/>
                      <a:pt x="514" y="82"/>
                      <a:pt x="512" y="86"/>
                    </a:cubicBezTo>
                    <a:cubicBezTo>
                      <a:pt x="513" y="77"/>
                      <a:pt x="514" y="68"/>
                      <a:pt x="515" y="61"/>
                    </a:cubicBezTo>
                    <a:cubicBezTo>
                      <a:pt x="517" y="58"/>
                      <a:pt x="519" y="55"/>
                      <a:pt x="521" y="53"/>
                    </a:cubicBezTo>
                    <a:cubicBezTo>
                      <a:pt x="521" y="58"/>
                      <a:pt x="520" y="66"/>
                      <a:pt x="519" y="75"/>
                    </a:cubicBezTo>
                    <a:close/>
                    <a:moveTo>
                      <a:pt x="526" y="139"/>
                    </a:moveTo>
                    <a:cubicBezTo>
                      <a:pt x="526" y="139"/>
                      <a:pt x="526" y="139"/>
                      <a:pt x="526" y="139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9"/>
                      <a:pt x="526" y="139"/>
                      <a:pt x="526" y="139"/>
                    </a:cubicBezTo>
                    <a:close/>
                    <a:moveTo>
                      <a:pt x="551" y="137"/>
                    </a:moveTo>
                    <a:cubicBezTo>
                      <a:pt x="551" y="136"/>
                      <a:pt x="550" y="135"/>
                      <a:pt x="550" y="133"/>
                    </a:cubicBezTo>
                    <a:cubicBezTo>
                      <a:pt x="550" y="132"/>
                      <a:pt x="550" y="130"/>
                      <a:pt x="550" y="128"/>
                    </a:cubicBezTo>
                    <a:cubicBezTo>
                      <a:pt x="551" y="131"/>
                      <a:pt x="551" y="133"/>
                      <a:pt x="552" y="135"/>
                    </a:cubicBezTo>
                    <a:cubicBezTo>
                      <a:pt x="552" y="136"/>
                      <a:pt x="552" y="137"/>
                      <a:pt x="551" y="137"/>
                    </a:cubicBezTo>
                    <a:close/>
                    <a:moveTo>
                      <a:pt x="558" y="99"/>
                    </a:moveTo>
                    <a:cubicBezTo>
                      <a:pt x="556" y="95"/>
                      <a:pt x="554" y="92"/>
                      <a:pt x="552" y="90"/>
                    </a:cubicBezTo>
                    <a:cubicBezTo>
                      <a:pt x="554" y="93"/>
                      <a:pt x="556" y="97"/>
                      <a:pt x="557" y="101"/>
                    </a:cubicBezTo>
                    <a:cubicBezTo>
                      <a:pt x="556" y="110"/>
                      <a:pt x="555" y="118"/>
                      <a:pt x="554" y="125"/>
                    </a:cubicBezTo>
                    <a:cubicBezTo>
                      <a:pt x="553" y="122"/>
                      <a:pt x="552" y="119"/>
                      <a:pt x="551" y="116"/>
                    </a:cubicBezTo>
                    <a:cubicBezTo>
                      <a:pt x="551" y="102"/>
                      <a:pt x="552" y="86"/>
                      <a:pt x="553" y="72"/>
                    </a:cubicBezTo>
                    <a:cubicBezTo>
                      <a:pt x="556" y="75"/>
                      <a:pt x="558" y="79"/>
                      <a:pt x="560" y="82"/>
                    </a:cubicBezTo>
                    <a:cubicBezTo>
                      <a:pt x="559" y="88"/>
                      <a:pt x="558" y="93"/>
                      <a:pt x="558" y="99"/>
                    </a:cubicBezTo>
                    <a:close/>
                    <a:moveTo>
                      <a:pt x="561" y="142"/>
                    </a:moveTo>
                    <a:cubicBezTo>
                      <a:pt x="561" y="134"/>
                      <a:pt x="562" y="127"/>
                      <a:pt x="562" y="121"/>
                    </a:cubicBezTo>
                    <a:cubicBezTo>
                      <a:pt x="563" y="123"/>
                      <a:pt x="563" y="125"/>
                      <a:pt x="563" y="127"/>
                    </a:cubicBezTo>
                    <a:cubicBezTo>
                      <a:pt x="562" y="136"/>
                      <a:pt x="561" y="142"/>
                      <a:pt x="561" y="142"/>
                    </a:cubicBezTo>
                    <a:close/>
                    <a:moveTo>
                      <a:pt x="564" y="144"/>
                    </a:moveTo>
                    <a:cubicBezTo>
                      <a:pt x="564" y="142"/>
                      <a:pt x="564" y="140"/>
                      <a:pt x="565" y="137"/>
                    </a:cubicBezTo>
                    <a:cubicBezTo>
                      <a:pt x="565" y="138"/>
                      <a:pt x="565" y="138"/>
                      <a:pt x="565" y="138"/>
                    </a:cubicBezTo>
                    <a:cubicBezTo>
                      <a:pt x="564" y="142"/>
                      <a:pt x="564" y="144"/>
                      <a:pt x="564" y="144"/>
                    </a:cubicBezTo>
                    <a:close/>
                    <a:moveTo>
                      <a:pt x="563" y="110"/>
                    </a:moveTo>
                    <a:cubicBezTo>
                      <a:pt x="563" y="103"/>
                      <a:pt x="564" y="96"/>
                      <a:pt x="564" y="90"/>
                    </a:cubicBezTo>
                    <a:cubicBezTo>
                      <a:pt x="566" y="93"/>
                      <a:pt x="567" y="96"/>
                      <a:pt x="568" y="99"/>
                    </a:cubicBezTo>
                    <a:cubicBezTo>
                      <a:pt x="567" y="105"/>
                      <a:pt x="566" y="111"/>
                      <a:pt x="565" y="116"/>
                    </a:cubicBezTo>
                    <a:cubicBezTo>
                      <a:pt x="564" y="114"/>
                      <a:pt x="564" y="112"/>
                      <a:pt x="563" y="110"/>
                    </a:cubicBezTo>
                    <a:close/>
                    <a:moveTo>
                      <a:pt x="568" y="124"/>
                    </a:moveTo>
                    <a:cubicBezTo>
                      <a:pt x="568" y="123"/>
                      <a:pt x="567" y="122"/>
                      <a:pt x="567" y="121"/>
                    </a:cubicBezTo>
                    <a:cubicBezTo>
                      <a:pt x="568" y="115"/>
                      <a:pt x="568" y="109"/>
                      <a:pt x="569" y="103"/>
                    </a:cubicBezTo>
                    <a:cubicBezTo>
                      <a:pt x="570" y="105"/>
                      <a:pt x="570" y="107"/>
                      <a:pt x="571" y="109"/>
                    </a:cubicBezTo>
                    <a:cubicBezTo>
                      <a:pt x="570" y="114"/>
                      <a:pt x="569" y="119"/>
                      <a:pt x="568" y="124"/>
                    </a:cubicBezTo>
                    <a:close/>
                    <a:moveTo>
                      <a:pt x="574" y="146"/>
                    </a:moveTo>
                    <a:cubicBezTo>
                      <a:pt x="574" y="145"/>
                      <a:pt x="574" y="145"/>
                      <a:pt x="574" y="145"/>
                    </a:cubicBezTo>
                    <a:cubicBezTo>
                      <a:pt x="574" y="144"/>
                      <a:pt x="574" y="143"/>
                      <a:pt x="574" y="142"/>
                    </a:cubicBezTo>
                    <a:cubicBezTo>
                      <a:pt x="574" y="142"/>
                      <a:pt x="574" y="143"/>
                      <a:pt x="574" y="144"/>
                    </a:cubicBezTo>
                    <a:cubicBezTo>
                      <a:pt x="574" y="145"/>
                      <a:pt x="574" y="145"/>
                      <a:pt x="574" y="146"/>
                    </a:cubicBezTo>
                    <a:close/>
                    <a:moveTo>
                      <a:pt x="597" y="118"/>
                    </a:moveTo>
                    <a:cubicBezTo>
                      <a:pt x="596" y="114"/>
                      <a:pt x="595" y="111"/>
                      <a:pt x="593" y="107"/>
                    </a:cubicBezTo>
                    <a:cubicBezTo>
                      <a:pt x="593" y="96"/>
                      <a:pt x="593" y="84"/>
                      <a:pt x="593" y="74"/>
                    </a:cubicBezTo>
                    <a:cubicBezTo>
                      <a:pt x="593" y="70"/>
                      <a:pt x="593" y="67"/>
                      <a:pt x="592" y="65"/>
                    </a:cubicBezTo>
                    <a:cubicBezTo>
                      <a:pt x="593" y="74"/>
                      <a:pt x="597" y="84"/>
                      <a:pt x="600" y="94"/>
                    </a:cubicBezTo>
                    <a:cubicBezTo>
                      <a:pt x="599" y="102"/>
                      <a:pt x="598" y="110"/>
                      <a:pt x="597" y="118"/>
                    </a:cubicBezTo>
                    <a:close/>
                    <a:moveTo>
                      <a:pt x="626" y="124"/>
                    </a:moveTo>
                    <a:cubicBezTo>
                      <a:pt x="626" y="122"/>
                      <a:pt x="625" y="120"/>
                      <a:pt x="625" y="117"/>
                    </a:cubicBezTo>
                    <a:cubicBezTo>
                      <a:pt x="626" y="109"/>
                      <a:pt x="627" y="100"/>
                      <a:pt x="627" y="92"/>
                    </a:cubicBezTo>
                    <a:cubicBezTo>
                      <a:pt x="629" y="96"/>
                      <a:pt x="630" y="100"/>
                      <a:pt x="630" y="104"/>
                    </a:cubicBezTo>
                    <a:cubicBezTo>
                      <a:pt x="629" y="111"/>
                      <a:pt x="627" y="118"/>
                      <a:pt x="626" y="124"/>
                    </a:cubicBezTo>
                    <a:close/>
                    <a:moveTo>
                      <a:pt x="667" y="133"/>
                    </a:moveTo>
                    <a:cubicBezTo>
                      <a:pt x="666" y="130"/>
                      <a:pt x="665" y="126"/>
                      <a:pt x="664" y="122"/>
                    </a:cubicBezTo>
                    <a:cubicBezTo>
                      <a:pt x="664" y="112"/>
                      <a:pt x="665" y="100"/>
                      <a:pt x="665" y="88"/>
                    </a:cubicBezTo>
                    <a:cubicBezTo>
                      <a:pt x="667" y="96"/>
                      <a:pt x="669" y="104"/>
                      <a:pt x="670" y="111"/>
                    </a:cubicBezTo>
                    <a:cubicBezTo>
                      <a:pt x="670" y="117"/>
                      <a:pt x="670" y="117"/>
                      <a:pt x="670" y="117"/>
                    </a:cubicBezTo>
                    <a:cubicBezTo>
                      <a:pt x="668" y="123"/>
                      <a:pt x="667" y="129"/>
                      <a:pt x="667" y="133"/>
                    </a:cubicBezTo>
                    <a:close/>
                    <a:moveTo>
                      <a:pt x="679" y="110"/>
                    </a:moveTo>
                    <a:cubicBezTo>
                      <a:pt x="679" y="113"/>
                      <a:pt x="679" y="116"/>
                      <a:pt x="679" y="119"/>
                    </a:cubicBezTo>
                    <a:cubicBezTo>
                      <a:pt x="678" y="122"/>
                      <a:pt x="678" y="124"/>
                      <a:pt x="677" y="127"/>
                    </a:cubicBezTo>
                    <a:cubicBezTo>
                      <a:pt x="677" y="119"/>
                      <a:pt x="676" y="111"/>
                      <a:pt x="675" y="104"/>
                    </a:cubicBezTo>
                    <a:cubicBezTo>
                      <a:pt x="676" y="98"/>
                      <a:pt x="676" y="91"/>
                      <a:pt x="677" y="86"/>
                    </a:cubicBezTo>
                    <a:cubicBezTo>
                      <a:pt x="679" y="93"/>
                      <a:pt x="679" y="102"/>
                      <a:pt x="679" y="110"/>
                    </a:cubicBezTo>
                    <a:close/>
                    <a:moveTo>
                      <a:pt x="689" y="142"/>
                    </a:moveTo>
                    <a:cubicBezTo>
                      <a:pt x="689" y="142"/>
                      <a:pt x="689" y="141"/>
                      <a:pt x="690" y="138"/>
                    </a:cubicBezTo>
                    <a:cubicBezTo>
                      <a:pt x="691" y="120"/>
                      <a:pt x="690" y="96"/>
                      <a:pt x="689" y="77"/>
                    </a:cubicBezTo>
                    <a:cubicBezTo>
                      <a:pt x="691" y="81"/>
                      <a:pt x="693" y="86"/>
                      <a:pt x="694" y="92"/>
                    </a:cubicBezTo>
                    <a:cubicBezTo>
                      <a:pt x="692" y="108"/>
                      <a:pt x="690" y="129"/>
                      <a:pt x="690" y="138"/>
                    </a:cubicBezTo>
                    <a:cubicBezTo>
                      <a:pt x="690" y="139"/>
                      <a:pt x="689" y="141"/>
                      <a:pt x="689" y="142"/>
                    </a:cubicBezTo>
                    <a:close/>
                    <a:moveTo>
                      <a:pt x="693" y="129"/>
                    </a:moveTo>
                    <a:cubicBezTo>
                      <a:pt x="693" y="119"/>
                      <a:pt x="694" y="107"/>
                      <a:pt x="695" y="97"/>
                    </a:cubicBezTo>
                    <a:cubicBezTo>
                      <a:pt x="695" y="100"/>
                      <a:pt x="695" y="103"/>
                      <a:pt x="695" y="106"/>
                    </a:cubicBezTo>
                    <a:cubicBezTo>
                      <a:pt x="695" y="114"/>
                      <a:pt x="694" y="121"/>
                      <a:pt x="693" y="129"/>
                    </a:cubicBezTo>
                    <a:close/>
                    <a:moveTo>
                      <a:pt x="705" y="125"/>
                    </a:moveTo>
                    <a:cubicBezTo>
                      <a:pt x="705" y="120"/>
                      <a:pt x="705" y="113"/>
                      <a:pt x="705" y="107"/>
                    </a:cubicBezTo>
                    <a:cubicBezTo>
                      <a:pt x="705" y="114"/>
                      <a:pt x="705" y="120"/>
                      <a:pt x="705" y="125"/>
                    </a:cubicBezTo>
                    <a:close/>
                    <a:moveTo>
                      <a:pt x="720" y="112"/>
                    </a:moveTo>
                    <a:cubicBezTo>
                      <a:pt x="720" y="105"/>
                      <a:pt x="720" y="98"/>
                      <a:pt x="719" y="91"/>
                    </a:cubicBezTo>
                    <a:cubicBezTo>
                      <a:pt x="720" y="95"/>
                      <a:pt x="720" y="99"/>
                      <a:pt x="720" y="103"/>
                    </a:cubicBezTo>
                    <a:cubicBezTo>
                      <a:pt x="720" y="106"/>
                      <a:pt x="720" y="109"/>
                      <a:pt x="720" y="112"/>
                    </a:cubicBezTo>
                    <a:close/>
                    <a:moveTo>
                      <a:pt x="730" y="129"/>
                    </a:moveTo>
                    <a:cubicBezTo>
                      <a:pt x="730" y="129"/>
                      <a:pt x="730" y="129"/>
                      <a:pt x="730" y="130"/>
                    </a:cubicBezTo>
                    <a:cubicBezTo>
                      <a:pt x="729" y="132"/>
                      <a:pt x="728" y="134"/>
                      <a:pt x="728" y="137"/>
                    </a:cubicBezTo>
                    <a:cubicBezTo>
                      <a:pt x="728" y="136"/>
                      <a:pt x="728" y="136"/>
                      <a:pt x="728" y="136"/>
                    </a:cubicBezTo>
                    <a:cubicBezTo>
                      <a:pt x="728" y="134"/>
                      <a:pt x="729" y="132"/>
                      <a:pt x="730" y="130"/>
                    </a:cubicBezTo>
                    <a:cubicBezTo>
                      <a:pt x="730" y="129"/>
                      <a:pt x="730" y="129"/>
                      <a:pt x="730" y="129"/>
                    </a:cubicBezTo>
                    <a:cubicBezTo>
                      <a:pt x="730" y="129"/>
                      <a:pt x="730" y="129"/>
                      <a:pt x="730" y="129"/>
                    </a:cubicBezTo>
                    <a:close/>
                    <a:moveTo>
                      <a:pt x="767" y="130"/>
                    </a:moveTo>
                    <a:cubicBezTo>
                      <a:pt x="766" y="132"/>
                      <a:pt x="765" y="134"/>
                      <a:pt x="765" y="136"/>
                    </a:cubicBezTo>
                    <a:cubicBezTo>
                      <a:pt x="764" y="131"/>
                      <a:pt x="764" y="126"/>
                      <a:pt x="764" y="121"/>
                    </a:cubicBezTo>
                    <a:cubicBezTo>
                      <a:pt x="766" y="115"/>
                      <a:pt x="768" y="110"/>
                      <a:pt x="769" y="104"/>
                    </a:cubicBezTo>
                    <a:cubicBezTo>
                      <a:pt x="768" y="114"/>
                      <a:pt x="767" y="123"/>
                      <a:pt x="767" y="130"/>
                    </a:cubicBezTo>
                    <a:close/>
                    <a:moveTo>
                      <a:pt x="782" y="124"/>
                    </a:moveTo>
                    <a:cubicBezTo>
                      <a:pt x="782" y="110"/>
                      <a:pt x="784" y="94"/>
                      <a:pt x="785" y="83"/>
                    </a:cubicBezTo>
                    <a:cubicBezTo>
                      <a:pt x="785" y="87"/>
                      <a:pt x="785" y="91"/>
                      <a:pt x="785" y="95"/>
                    </a:cubicBezTo>
                    <a:cubicBezTo>
                      <a:pt x="785" y="105"/>
                      <a:pt x="784" y="114"/>
                      <a:pt x="782" y="124"/>
                    </a:cubicBezTo>
                    <a:close/>
                    <a:moveTo>
                      <a:pt x="799" y="160"/>
                    </a:move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60"/>
                    </a:cubicBezTo>
                    <a:close/>
                    <a:moveTo>
                      <a:pt x="811" y="116"/>
                    </a:moveTo>
                    <a:cubicBezTo>
                      <a:pt x="810" y="121"/>
                      <a:pt x="808" y="127"/>
                      <a:pt x="806" y="132"/>
                    </a:cubicBezTo>
                    <a:cubicBezTo>
                      <a:pt x="806" y="127"/>
                      <a:pt x="806" y="121"/>
                      <a:pt x="806" y="115"/>
                    </a:cubicBezTo>
                    <a:cubicBezTo>
                      <a:pt x="807" y="110"/>
                      <a:pt x="808" y="104"/>
                      <a:pt x="808" y="98"/>
                    </a:cubicBezTo>
                    <a:cubicBezTo>
                      <a:pt x="808" y="95"/>
                      <a:pt x="807" y="92"/>
                      <a:pt x="807" y="89"/>
                    </a:cubicBezTo>
                    <a:cubicBezTo>
                      <a:pt x="808" y="78"/>
                      <a:pt x="809" y="68"/>
                      <a:pt x="810" y="60"/>
                    </a:cubicBezTo>
                    <a:cubicBezTo>
                      <a:pt x="813" y="68"/>
                      <a:pt x="815" y="78"/>
                      <a:pt x="815" y="87"/>
                    </a:cubicBezTo>
                    <a:cubicBezTo>
                      <a:pt x="814" y="95"/>
                      <a:pt x="813" y="106"/>
                      <a:pt x="811" y="116"/>
                    </a:cubicBezTo>
                    <a:close/>
                    <a:moveTo>
                      <a:pt x="819" y="136"/>
                    </a:moveTo>
                    <a:cubicBezTo>
                      <a:pt x="819" y="137"/>
                      <a:pt x="819" y="138"/>
                      <a:pt x="818" y="139"/>
                    </a:cubicBezTo>
                    <a:cubicBezTo>
                      <a:pt x="818" y="137"/>
                      <a:pt x="818" y="135"/>
                      <a:pt x="818" y="133"/>
                    </a:cubicBezTo>
                    <a:cubicBezTo>
                      <a:pt x="819" y="130"/>
                      <a:pt x="819" y="128"/>
                      <a:pt x="820" y="125"/>
                    </a:cubicBezTo>
                    <a:cubicBezTo>
                      <a:pt x="820" y="129"/>
                      <a:pt x="819" y="133"/>
                      <a:pt x="819" y="136"/>
                    </a:cubicBezTo>
                    <a:close/>
                    <a:moveTo>
                      <a:pt x="835" y="126"/>
                    </a:moveTo>
                    <a:cubicBezTo>
                      <a:pt x="834" y="113"/>
                      <a:pt x="834" y="96"/>
                      <a:pt x="834" y="84"/>
                    </a:cubicBezTo>
                    <a:cubicBezTo>
                      <a:pt x="838" y="90"/>
                      <a:pt x="840" y="100"/>
                      <a:pt x="840" y="104"/>
                    </a:cubicBezTo>
                    <a:cubicBezTo>
                      <a:pt x="840" y="110"/>
                      <a:pt x="838" y="118"/>
                      <a:pt x="835" y="126"/>
                    </a:cubicBezTo>
                    <a:close/>
                    <a:moveTo>
                      <a:pt x="846" y="128"/>
                    </a:moveTo>
                    <a:cubicBezTo>
                      <a:pt x="848" y="113"/>
                      <a:pt x="847" y="91"/>
                      <a:pt x="847" y="76"/>
                    </a:cubicBezTo>
                    <a:cubicBezTo>
                      <a:pt x="849" y="83"/>
                      <a:pt x="851" y="90"/>
                      <a:pt x="851" y="96"/>
                    </a:cubicBezTo>
                    <a:cubicBezTo>
                      <a:pt x="851" y="107"/>
                      <a:pt x="849" y="117"/>
                      <a:pt x="846" y="128"/>
                    </a:cubicBezTo>
                    <a:close/>
                    <a:moveTo>
                      <a:pt x="886" y="112"/>
                    </a:moveTo>
                    <a:cubicBezTo>
                      <a:pt x="886" y="110"/>
                      <a:pt x="886" y="108"/>
                      <a:pt x="886" y="106"/>
                    </a:cubicBezTo>
                    <a:cubicBezTo>
                      <a:pt x="886" y="108"/>
                      <a:pt x="885" y="112"/>
                      <a:pt x="885" y="115"/>
                    </a:cubicBezTo>
                    <a:cubicBezTo>
                      <a:pt x="880" y="131"/>
                      <a:pt x="876" y="144"/>
                      <a:pt x="876" y="144"/>
                    </a:cubicBezTo>
                    <a:cubicBezTo>
                      <a:pt x="877" y="133"/>
                      <a:pt x="881" y="110"/>
                      <a:pt x="886" y="86"/>
                    </a:cubicBezTo>
                    <a:cubicBezTo>
                      <a:pt x="888" y="90"/>
                      <a:pt x="889" y="95"/>
                      <a:pt x="890" y="99"/>
                    </a:cubicBezTo>
                    <a:cubicBezTo>
                      <a:pt x="888" y="103"/>
                      <a:pt x="887" y="108"/>
                      <a:pt x="886" y="112"/>
                    </a:cubicBezTo>
                    <a:close/>
                    <a:moveTo>
                      <a:pt x="899" y="133"/>
                    </a:moveTo>
                    <a:cubicBezTo>
                      <a:pt x="899" y="133"/>
                      <a:pt x="899" y="134"/>
                      <a:pt x="898" y="134"/>
                    </a:cubicBezTo>
                    <a:cubicBezTo>
                      <a:pt x="898" y="134"/>
                      <a:pt x="898" y="134"/>
                      <a:pt x="898" y="134"/>
                    </a:cubicBezTo>
                    <a:cubicBezTo>
                      <a:pt x="898" y="134"/>
                      <a:pt x="899" y="133"/>
                      <a:pt x="899" y="133"/>
                    </a:cubicBezTo>
                    <a:cubicBezTo>
                      <a:pt x="899" y="126"/>
                      <a:pt x="900" y="117"/>
                      <a:pt x="901" y="107"/>
                    </a:cubicBezTo>
                    <a:cubicBezTo>
                      <a:pt x="901" y="110"/>
                      <a:pt x="901" y="114"/>
                      <a:pt x="901" y="117"/>
                    </a:cubicBezTo>
                    <a:cubicBezTo>
                      <a:pt x="900" y="123"/>
                      <a:pt x="899" y="129"/>
                      <a:pt x="899" y="133"/>
                    </a:cubicBezTo>
                    <a:close/>
                    <a:moveTo>
                      <a:pt x="903" y="159"/>
                    </a:move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lose/>
                    <a:moveTo>
                      <a:pt x="944" y="143"/>
                    </a:moveTo>
                    <a:cubicBezTo>
                      <a:pt x="944" y="142"/>
                      <a:pt x="944" y="142"/>
                      <a:pt x="944" y="141"/>
                    </a:cubicBezTo>
                    <a:cubicBezTo>
                      <a:pt x="944" y="135"/>
                      <a:pt x="945" y="127"/>
                      <a:pt x="946" y="117"/>
                    </a:cubicBezTo>
                    <a:cubicBezTo>
                      <a:pt x="946" y="121"/>
                      <a:pt x="946" y="125"/>
                      <a:pt x="946" y="129"/>
                    </a:cubicBezTo>
                    <a:cubicBezTo>
                      <a:pt x="945" y="135"/>
                      <a:pt x="945" y="139"/>
                      <a:pt x="944" y="143"/>
                    </a:cubicBezTo>
                    <a:close/>
                    <a:moveTo>
                      <a:pt x="948" y="117"/>
                    </a:moveTo>
                    <a:cubicBezTo>
                      <a:pt x="947" y="115"/>
                      <a:pt x="947" y="113"/>
                      <a:pt x="946" y="111"/>
                    </a:cubicBezTo>
                    <a:cubicBezTo>
                      <a:pt x="946" y="108"/>
                      <a:pt x="947" y="104"/>
                      <a:pt x="947" y="100"/>
                    </a:cubicBezTo>
                    <a:cubicBezTo>
                      <a:pt x="948" y="103"/>
                      <a:pt x="948" y="106"/>
                      <a:pt x="949" y="108"/>
                    </a:cubicBezTo>
                    <a:cubicBezTo>
                      <a:pt x="948" y="111"/>
                      <a:pt x="948" y="114"/>
                      <a:pt x="948" y="117"/>
                    </a:cubicBezTo>
                    <a:close/>
                    <a:moveTo>
                      <a:pt x="956" y="133"/>
                    </a:moveTo>
                    <a:cubicBezTo>
                      <a:pt x="956" y="133"/>
                      <a:pt x="956" y="133"/>
                      <a:pt x="956" y="133"/>
                    </a:cubicBezTo>
                    <a:cubicBezTo>
                      <a:pt x="957" y="130"/>
                      <a:pt x="957" y="127"/>
                      <a:pt x="957" y="124"/>
                    </a:cubicBezTo>
                    <a:cubicBezTo>
                      <a:pt x="957" y="125"/>
                      <a:pt x="957" y="126"/>
                      <a:pt x="957" y="128"/>
                    </a:cubicBezTo>
                    <a:cubicBezTo>
                      <a:pt x="957" y="130"/>
                      <a:pt x="957" y="131"/>
                      <a:pt x="956" y="133"/>
                    </a:cubicBezTo>
                    <a:close/>
                    <a:moveTo>
                      <a:pt x="993" y="142"/>
                    </a:moveTo>
                    <a:cubicBezTo>
                      <a:pt x="993" y="139"/>
                      <a:pt x="993" y="134"/>
                      <a:pt x="993" y="128"/>
                    </a:cubicBezTo>
                    <a:cubicBezTo>
                      <a:pt x="993" y="130"/>
                      <a:pt x="994" y="132"/>
                      <a:pt x="994" y="133"/>
                    </a:cubicBezTo>
                    <a:cubicBezTo>
                      <a:pt x="993" y="139"/>
                      <a:pt x="993" y="142"/>
                      <a:pt x="993" y="142"/>
                    </a:cubicBezTo>
                    <a:close/>
                    <a:moveTo>
                      <a:pt x="1015" y="135"/>
                    </a:moveTo>
                    <a:cubicBezTo>
                      <a:pt x="1014" y="134"/>
                      <a:pt x="1014" y="134"/>
                      <a:pt x="1014" y="133"/>
                    </a:cubicBezTo>
                    <a:cubicBezTo>
                      <a:pt x="1014" y="121"/>
                      <a:pt x="1014" y="103"/>
                      <a:pt x="1013" y="88"/>
                    </a:cubicBezTo>
                    <a:cubicBezTo>
                      <a:pt x="1015" y="94"/>
                      <a:pt x="1017" y="100"/>
                      <a:pt x="1018" y="106"/>
                    </a:cubicBezTo>
                    <a:cubicBezTo>
                      <a:pt x="1017" y="118"/>
                      <a:pt x="1015" y="128"/>
                      <a:pt x="1015" y="135"/>
                    </a:cubicBezTo>
                    <a:close/>
                    <a:moveTo>
                      <a:pt x="1021" y="145"/>
                    </a:moveTo>
                    <a:cubicBezTo>
                      <a:pt x="1021" y="141"/>
                      <a:pt x="1021" y="136"/>
                      <a:pt x="1022" y="129"/>
                    </a:cubicBezTo>
                    <a:cubicBezTo>
                      <a:pt x="1022" y="133"/>
                      <a:pt x="1022" y="136"/>
                      <a:pt x="1023" y="139"/>
                    </a:cubicBezTo>
                    <a:cubicBezTo>
                      <a:pt x="1022" y="143"/>
                      <a:pt x="1021" y="145"/>
                      <a:pt x="1021" y="145"/>
                    </a:cubicBezTo>
                    <a:close/>
                    <a:moveTo>
                      <a:pt x="1027" y="159"/>
                    </a:moveTo>
                    <a:cubicBezTo>
                      <a:pt x="1027" y="159"/>
                      <a:pt x="1027" y="159"/>
                      <a:pt x="1027" y="159"/>
                    </a:cubicBezTo>
                    <a:cubicBezTo>
                      <a:pt x="1027" y="159"/>
                      <a:pt x="1027" y="158"/>
                      <a:pt x="1027" y="158"/>
                    </a:cubicBezTo>
                    <a:cubicBezTo>
                      <a:pt x="1027" y="159"/>
                      <a:pt x="1028" y="160"/>
                      <a:pt x="1028" y="160"/>
                    </a:cubicBezTo>
                    <a:cubicBezTo>
                      <a:pt x="1028" y="160"/>
                      <a:pt x="1027" y="159"/>
                      <a:pt x="1027" y="159"/>
                    </a:cubicBezTo>
                    <a:close/>
                    <a:moveTo>
                      <a:pt x="1028" y="121"/>
                    </a:moveTo>
                    <a:cubicBezTo>
                      <a:pt x="1026" y="117"/>
                      <a:pt x="1025" y="114"/>
                      <a:pt x="1023" y="110"/>
                    </a:cubicBezTo>
                    <a:cubicBezTo>
                      <a:pt x="1024" y="105"/>
                      <a:pt x="1024" y="99"/>
                      <a:pt x="1025" y="94"/>
                    </a:cubicBezTo>
                    <a:cubicBezTo>
                      <a:pt x="1026" y="100"/>
                      <a:pt x="1027" y="108"/>
                      <a:pt x="1029" y="116"/>
                    </a:cubicBezTo>
                    <a:cubicBezTo>
                      <a:pt x="1029" y="118"/>
                      <a:pt x="1028" y="119"/>
                      <a:pt x="1028" y="121"/>
                    </a:cubicBezTo>
                    <a:close/>
                    <a:moveTo>
                      <a:pt x="1036" y="142"/>
                    </a:moveTo>
                    <a:cubicBezTo>
                      <a:pt x="1035" y="138"/>
                      <a:pt x="1033" y="134"/>
                      <a:pt x="1031" y="129"/>
                    </a:cubicBezTo>
                    <a:cubicBezTo>
                      <a:pt x="1031" y="129"/>
                      <a:pt x="1031" y="128"/>
                      <a:pt x="1032" y="127"/>
                    </a:cubicBezTo>
                    <a:cubicBezTo>
                      <a:pt x="1033" y="132"/>
                      <a:pt x="1035" y="137"/>
                      <a:pt x="1036" y="142"/>
                    </a:cubicBezTo>
                    <a:cubicBezTo>
                      <a:pt x="1039" y="149"/>
                      <a:pt x="1041" y="153"/>
                      <a:pt x="1041" y="155"/>
                    </a:cubicBezTo>
                    <a:cubicBezTo>
                      <a:pt x="1040" y="151"/>
                      <a:pt x="1038" y="147"/>
                      <a:pt x="1036" y="142"/>
                    </a:cubicBezTo>
                    <a:close/>
                    <a:moveTo>
                      <a:pt x="1261" y="88"/>
                    </a:moveTo>
                    <a:cubicBezTo>
                      <a:pt x="1262" y="90"/>
                      <a:pt x="1263" y="93"/>
                      <a:pt x="1263" y="95"/>
                    </a:cubicBezTo>
                    <a:cubicBezTo>
                      <a:pt x="1263" y="94"/>
                      <a:pt x="1262" y="93"/>
                      <a:pt x="1261" y="92"/>
                    </a:cubicBezTo>
                    <a:cubicBezTo>
                      <a:pt x="1261" y="90"/>
                      <a:pt x="1261" y="89"/>
                      <a:pt x="1261" y="88"/>
                    </a:cubicBezTo>
                    <a:close/>
                    <a:moveTo>
                      <a:pt x="1249" y="84"/>
                    </a:moveTo>
                    <a:cubicBezTo>
                      <a:pt x="1252" y="88"/>
                      <a:pt x="1254" y="92"/>
                      <a:pt x="1257" y="96"/>
                    </a:cubicBezTo>
                    <a:cubicBezTo>
                      <a:pt x="1257" y="97"/>
                      <a:pt x="1258" y="99"/>
                      <a:pt x="1258" y="100"/>
                    </a:cubicBezTo>
                    <a:cubicBezTo>
                      <a:pt x="1258" y="104"/>
                      <a:pt x="1257" y="108"/>
                      <a:pt x="1256" y="112"/>
                    </a:cubicBezTo>
                    <a:cubicBezTo>
                      <a:pt x="1254" y="105"/>
                      <a:pt x="1251" y="98"/>
                      <a:pt x="1248" y="92"/>
                    </a:cubicBezTo>
                    <a:cubicBezTo>
                      <a:pt x="1249" y="89"/>
                      <a:pt x="1249" y="86"/>
                      <a:pt x="1249" y="84"/>
                    </a:cubicBezTo>
                    <a:close/>
                    <a:moveTo>
                      <a:pt x="1254" y="111"/>
                    </a:moveTo>
                    <a:cubicBezTo>
                      <a:pt x="1251" y="108"/>
                      <a:pt x="1249" y="105"/>
                      <a:pt x="1247" y="102"/>
                    </a:cubicBezTo>
                    <a:cubicBezTo>
                      <a:pt x="1247" y="99"/>
                      <a:pt x="1248" y="96"/>
                      <a:pt x="1248" y="93"/>
                    </a:cubicBezTo>
                    <a:cubicBezTo>
                      <a:pt x="1250" y="99"/>
                      <a:pt x="1252" y="105"/>
                      <a:pt x="1254" y="111"/>
                    </a:cubicBezTo>
                    <a:close/>
                    <a:moveTo>
                      <a:pt x="1236" y="56"/>
                    </a:moveTo>
                    <a:cubicBezTo>
                      <a:pt x="1241" y="62"/>
                      <a:pt x="1244" y="68"/>
                      <a:pt x="1248" y="74"/>
                    </a:cubicBezTo>
                    <a:cubicBezTo>
                      <a:pt x="1244" y="69"/>
                      <a:pt x="1240" y="64"/>
                      <a:pt x="1236" y="60"/>
                    </a:cubicBezTo>
                    <a:cubicBezTo>
                      <a:pt x="1236" y="59"/>
                      <a:pt x="1236" y="57"/>
                      <a:pt x="1236" y="56"/>
                    </a:cubicBezTo>
                    <a:close/>
                    <a:moveTo>
                      <a:pt x="1235" y="64"/>
                    </a:moveTo>
                    <a:cubicBezTo>
                      <a:pt x="1239" y="69"/>
                      <a:pt x="1243" y="74"/>
                      <a:pt x="1247" y="80"/>
                    </a:cubicBezTo>
                    <a:cubicBezTo>
                      <a:pt x="1246" y="82"/>
                      <a:pt x="1245" y="83"/>
                      <a:pt x="1245" y="85"/>
                    </a:cubicBezTo>
                    <a:cubicBezTo>
                      <a:pt x="1245" y="84"/>
                      <a:pt x="1244" y="83"/>
                      <a:pt x="1244" y="83"/>
                    </a:cubicBezTo>
                    <a:cubicBezTo>
                      <a:pt x="1244" y="83"/>
                      <a:pt x="1245" y="84"/>
                      <a:pt x="1245" y="85"/>
                    </a:cubicBezTo>
                    <a:cubicBezTo>
                      <a:pt x="1244" y="88"/>
                      <a:pt x="1243" y="91"/>
                      <a:pt x="1242" y="94"/>
                    </a:cubicBezTo>
                    <a:cubicBezTo>
                      <a:pt x="1239" y="90"/>
                      <a:pt x="1236" y="85"/>
                      <a:pt x="1233" y="80"/>
                    </a:cubicBezTo>
                    <a:cubicBezTo>
                      <a:pt x="1234" y="75"/>
                      <a:pt x="1235" y="69"/>
                      <a:pt x="1235" y="64"/>
                    </a:cubicBezTo>
                    <a:close/>
                    <a:moveTo>
                      <a:pt x="1226" y="139"/>
                    </a:moveTo>
                    <a:cubicBezTo>
                      <a:pt x="1226" y="120"/>
                      <a:pt x="1229" y="101"/>
                      <a:pt x="1233" y="83"/>
                    </a:cubicBezTo>
                    <a:cubicBezTo>
                      <a:pt x="1235" y="87"/>
                      <a:pt x="1238" y="91"/>
                      <a:pt x="1241" y="95"/>
                    </a:cubicBezTo>
                    <a:cubicBezTo>
                      <a:pt x="1235" y="114"/>
                      <a:pt x="1229" y="133"/>
                      <a:pt x="1227" y="152"/>
                    </a:cubicBezTo>
                    <a:cubicBezTo>
                      <a:pt x="1226" y="148"/>
                      <a:pt x="1226" y="143"/>
                      <a:pt x="1226" y="139"/>
                    </a:cubicBezTo>
                    <a:close/>
                    <a:moveTo>
                      <a:pt x="1245" y="143"/>
                    </a:moveTo>
                    <a:cubicBezTo>
                      <a:pt x="1245" y="142"/>
                      <a:pt x="1244" y="141"/>
                      <a:pt x="1243" y="140"/>
                    </a:cubicBezTo>
                    <a:cubicBezTo>
                      <a:pt x="1244" y="141"/>
                      <a:pt x="1244" y="143"/>
                      <a:pt x="1245" y="144"/>
                    </a:cubicBezTo>
                    <a:cubicBezTo>
                      <a:pt x="1243" y="147"/>
                      <a:pt x="1242" y="149"/>
                      <a:pt x="1241" y="152"/>
                    </a:cubicBezTo>
                    <a:cubicBezTo>
                      <a:pt x="1241" y="146"/>
                      <a:pt x="1242" y="141"/>
                      <a:pt x="1243" y="135"/>
                    </a:cubicBezTo>
                    <a:cubicBezTo>
                      <a:pt x="1244" y="137"/>
                      <a:pt x="1245" y="139"/>
                      <a:pt x="1246" y="142"/>
                    </a:cubicBezTo>
                    <a:cubicBezTo>
                      <a:pt x="1246" y="142"/>
                      <a:pt x="1246" y="142"/>
                      <a:pt x="1245" y="143"/>
                    </a:cubicBezTo>
                    <a:close/>
                    <a:moveTo>
                      <a:pt x="1244" y="127"/>
                    </a:moveTo>
                    <a:cubicBezTo>
                      <a:pt x="1245" y="119"/>
                      <a:pt x="1246" y="111"/>
                      <a:pt x="1247" y="103"/>
                    </a:cubicBezTo>
                    <a:cubicBezTo>
                      <a:pt x="1250" y="107"/>
                      <a:pt x="1253" y="112"/>
                      <a:pt x="1255" y="116"/>
                    </a:cubicBezTo>
                    <a:cubicBezTo>
                      <a:pt x="1254" y="122"/>
                      <a:pt x="1252" y="127"/>
                      <a:pt x="1250" y="133"/>
                    </a:cubicBezTo>
                    <a:cubicBezTo>
                      <a:pt x="1248" y="131"/>
                      <a:pt x="1246" y="128"/>
                      <a:pt x="1244" y="127"/>
                    </a:cubicBezTo>
                    <a:close/>
                    <a:moveTo>
                      <a:pt x="1256" y="140"/>
                    </a:moveTo>
                    <a:cubicBezTo>
                      <a:pt x="1256" y="140"/>
                      <a:pt x="1255" y="140"/>
                      <a:pt x="1255" y="140"/>
                    </a:cubicBezTo>
                    <a:cubicBezTo>
                      <a:pt x="1256" y="135"/>
                      <a:pt x="1257" y="130"/>
                      <a:pt x="1258" y="125"/>
                    </a:cubicBezTo>
                    <a:cubicBezTo>
                      <a:pt x="1258" y="127"/>
                      <a:pt x="1259" y="129"/>
                      <a:pt x="1259" y="130"/>
                    </a:cubicBezTo>
                    <a:cubicBezTo>
                      <a:pt x="1258" y="134"/>
                      <a:pt x="1257" y="137"/>
                      <a:pt x="1256" y="140"/>
                    </a:cubicBezTo>
                    <a:close/>
                    <a:moveTo>
                      <a:pt x="1262" y="122"/>
                    </a:moveTo>
                    <a:cubicBezTo>
                      <a:pt x="1261" y="120"/>
                      <a:pt x="1260" y="119"/>
                      <a:pt x="1259" y="117"/>
                    </a:cubicBezTo>
                    <a:cubicBezTo>
                      <a:pt x="1259" y="114"/>
                      <a:pt x="1260" y="110"/>
                      <a:pt x="1260" y="107"/>
                    </a:cubicBezTo>
                    <a:cubicBezTo>
                      <a:pt x="1261" y="111"/>
                      <a:pt x="1262" y="115"/>
                      <a:pt x="1263" y="120"/>
                    </a:cubicBezTo>
                    <a:cubicBezTo>
                      <a:pt x="1263" y="120"/>
                      <a:pt x="1263" y="121"/>
                      <a:pt x="1262" y="122"/>
                    </a:cubicBezTo>
                    <a:close/>
                    <a:moveTo>
                      <a:pt x="1264" y="151"/>
                    </a:moveTo>
                    <a:cubicBezTo>
                      <a:pt x="1264" y="151"/>
                      <a:pt x="1264" y="151"/>
                      <a:pt x="1264" y="151"/>
                    </a:cubicBezTo>
                    <a:cubicBezTo>
                      <a:pt x="1264" y="150"/>
                      <a:pt x="1264" y="150"/>
                      <a:pt x="1264" y="149"/>
                    </a:cubicBezTo>
                    <a:cubicBezTo>
                      <a:pt x="1264" y="149"/>
                      <a:pt x="1264" y="149"/>
                      <a:pt x="1264" y="149"/>
                    </a:cubicBezTo>
                    <a:cubicBezTo>
                      <a:pt x="1264" y="150"/>
                      <a:pt x="1264" y="150"/>
                      <a:pt x="1264" y="151"/>
                    </a:cubicBezTo>
                    <a:close/>
                    <a:moveTo>
                      <a:pt x="1264" y="118"/>
                    </a:moveTo>
                    <a:cubicBezTo>
                      <a:pt x="1263" y="112"/>
                      <a:pt x="1262" y="107"/>
                      <a:pt x="1261" y="102"/>
                    </a:cubicBezTo>
                    <a:cubicBezTo>
                      <a:pt x="1261" y="102"/>
                      <a:pt x="1261" y="102"/>
                      <a:pt x="1261" y="101"/>
                    </a:cubicBezTo>
                    <a:cubicBezTo>
                      <a:pt x="1263" y="105"/>
                      <a:pt x="1265" y="108"/>
                      <a:pt x="1267" y="112"/>
                    </a:cubicBezTo>
                    <a:cubicBezTo>
                      <a:pt x="1266" y="113"/>
                      <a:pt x="1265" y="115"/>
                      <a:pt x="1265" y="116"/>
                    </a:cubicBezTo>
                    <a:cubicBezTo>
                      <a:pt x="1265" y="117"/>
                      <a:pt x="1264" y="117"/>
                      <a:pt x="1264" y="118"/>
                    </a:cubicBezTo>
                    <a:close/>
                    <a:moveTo>
                      <a:pt x="1267" y="143"/>
                    </a:moveTo>
                    <a:cubicBezTo>
                      <a:pt x="1267" y="143"/>
                      <a:pt x="1266" y="142"/>
                      <a:pt x="1266" y="142"/>
                    </a:cubicBezTo>
                    <a:cubicBezTo>
                      <a:pt x="1267" y="141"/>
                      <a:pt x="1267" y="141"/>
                      <a:pt x="1267" y="140"/>
                    </a:cubicBezTo>
                    <a:cubicBezTo>
                      <a:pt x="1267" y="141"/>
                      <a:pt x="1267" y="141"/>
                      <a:pt x="1267" y="142"/>
                    </a:cubicBezTo>
                    <a:cubicBezTo>
                      <a:pt x="1267" y="142"/>
                      <a:pt x="1267" y="142"/>
                      <a:pt x="1267" y="143"/>
                    </a:cubicBezTo>
                    <a:close/>
                    <a:moveTo>
                      <a:pt x="1272" y="151"/>
                    </a:moveTo>
                    <a:cubicBezTo>
                      <a:pt x="1272" y="151"/>
                      <a:pt x="1272" y="151"/>
                      <a:pt x="1272" y="151"/>
                    </a:cubicBezTo>
                    <a:cubicBezTo>
                      <a:pt x="1272" y="151"/>
                      <a:pt x="1272" y="152"/>
                      <a:pt x="1272" y="152"/>
                    </a:cubicBezTo>
                    <a:cubicBezTo>
                      <a:pt x="1272" y="152"/>
                      <a:pt x="1272" y="152"/>
                      <a:pt x="1272" y="151"/>
                    </a:cubicBezTo>
                    <a:close/>
                    <a:moveTo>
                      <a:pt x="1274" y="126"/>
                    </a:moveTo>
                    <a:cubicBezTo>
                      <a:pt x="1274" y="128"/>
                      <a:pt x="1273" y="129"/>
                      <a:pt x="1272" y="131"/>
                    </a:cubicBezTo>
                    <a:cubicBezTo>
                      <a:pt x="1272" y="129"/>
                      <a:pt x="1272" y="127"/>
                      <a:pt x="1272" y="125"/>
                    </a:cubicBezTo>
                    <a:cubicBezTo>
                      <a:pt x="1272" y="124"/>
                      <a:pt x="1272" y="123"/>
                      <a:pt x="1273" y="122"/>
                    </a:cubicBezTo>
                    <a:cubicBezTo>
                      <a:pt x="1273" y="123"/>
                      <a:pt x="1274" y="124"/>
                      <a:pt x="1274" y="125"/>
                    </a:cubicBezTo>
                    <a:lnTo>
                      <a:pt x="1274" y="126"/>
                    </a:lnTo>
                    <a:close/>
                    <a:moveTo>
                      <a:pt x="1282" y="91"/>
                    </a:moveTo>
                    <a:cubicBezTo>
                      <a:pt x="1282" y="93"/>
                      <a:pt x="1282" y="94"/>
                      <a:pt x="1282" y="96"/>
                    </a:cubicBezTo>
                    <a:cubicBezTo>
                      <a:pt x="1282" y="95"/>
                      <a:pt x="1282" y="94"/>
                      <a:pt x="1281" y="93"/>
                    </a:cubicBezTo>
                    <a:cubicBezTo>
                      <a:pt x="1281" y="93"/>
                      <a:pt x="1282" y="92"/>
                      <a:pt x="1282" y="91"/>
                    </a:cubicBezTo>
                    <a:close/>
                    <a:moveTo>
                      <a:pt x="1280" y="117"/>
                    </a:moveTo>
                    <a:cubicBezTo>
                      <a:pt x="1279" y="113"/>
                      <a:pt x="1278" y="110"/>
                      <a:pt x="1278" y="106"/>
                    </a:cubicBezTo>
                    <a:cubicBezTo>
                      <a:pt x="1278" y="106"/>
                      <a:pt x="1278" y="105"/>
                      <a:pt x="1278" y="104"/>
                    </a:cubicBezTo>
                    <a:cubicBezTo>
                      <a:pt x="1279" y="107"/>
                      <a:pt x="1280" y="111"/>
                      <a:pt x="1281" y="114"/>
                    </a:cubicBezTo>
                    <a:cubicBezTo>
                      <a:pt x="1281" y="115"/>
                      <a:pt x="1280" y="116"/>
                      <a:pt x="1280" y="117"/>
                    </a:cubicBezTo>
                    <a:close/>
                    <a:moveTo>
                      <a:pt x="1283" y="127"/>
                    </a:moveTo>
                    <a:cubicBezTo>
                      <a:pt x="1282" y="127"/>
                      <a:pt x="1282" y="126"/>
                      <a:pt x="1282" y="126"/>
                    </a:cubicBezTo>
                    <a:cubicBezTo>
                      <a:pt x="1282" y="125"/>
                      <a:pt x="1282" y="125"/>
                      <a:pt x="1283" y="124"/>
                    </a:cubicBezTo>
                    <a:cubicBezTo>
                      <a:pt x="1283" y="125"/>
                      <a:pt x="1283" y="126"/>
                      <a:pt x="1283" y="127"/>
                    </a:cubicBezTo>
                    <a:close/>
                    <a:moveTo>
                      <a:pt x="1289" y="141"/>
                    </a:moveTo>
                    <a:cubicBezTo>
                      <a:pt x="1289" y="140"/>
                      <a:pt x="1289" y="140"/>
                      <a:pt x="1289" y="140"/>
                    </a:cubicBezTo>
                    <a:cubicBezTo>
                      <a:pt x="1289" y="139"/>
                      <a:pt x="1289" y="139"/>
                      <a:pt x="1289" y="139"/>
                    </a:cubicBezTo>
                    <a:cubicBezTo>
                      <a:pt x="1289" y="139"/>
                      <a:pt x="1289" y="140"/>
                      <a:pt x="1289" y="141"/>
                    </a:cubicBezTo>
                    <a:close/>
                    <a:moveTo>
                      <a:pt x="1321" y="64"/>
                    </a:moveTo>
                    <a:cubicBezTo>
                      <a:pt x="1322" y="69"/>
                      <a:pt x="1323" y="75"/>
                      <a:pt x="1324" y="80"/>
                    </a:cubicBezTo>
                    <a:cubicBezTo>
                      <a:pt x="1322" y="83"/>
                      <a:pt x="1321" y="85"/>
                      <a:pt x="1319" y="87"/>
                    </a:cubicBezTo>
                    <a:cubicBezTo>
                      <a:pt x="1319" y="86"/>
                      <a:pt x="1318" y="84"/>
                      <a:pt x="1317" y="83"/>
                    </a:cubicBezTo>
                    <a:cubicBezTo>
                      <a:pt x="1318" y="84"/>
                      <a:pt x="1319" y="86"/>
                      <a:pt x="1319" y="87"/>
                    </a:cubicBezTo>
                    <a:cubicBezTo>
                      <a:pt x="1318" y="90"/>
                      <a:pt x="1316" y="92"/>
                      <a:pt x="1315" y="94"/>
                    </a:cubicBezTo>
                    <a:cubicBezTo>
                      <a:pt x="1313" y="89"/>
                      <a:pt x="1312" y="85"/>
                      <a:pt x="1310" y="80"/>
                    </a:cubicBezTo>
                    <a:cubicBezTo>
                      <a:pt x="1314" y="74"/>
                      <a:pt x="1318" y="69"/>
                      <a:pt x="1321" y="64"/>
                    </a:cubicBezTo>
                    <a:close/>
                    <a:moveTo>
                      <a:pt x="1292" y="108"/>
                    </a:moveTo>
                    <a:cubicBezTo>
                      <a:pt x="1293" y="106"/>
                      <a:pt x="1295" y="104"/>
                      <a:pt x="1296" y="101"/>
                    </a:cubicBezTo>
                    <a:cubicBezTo>
                      <a:pt x="1296" y="107"/>
                      <a:pt x="1297" y="112"/>
                      <a:pt x="1298" y="117"/>
                    </a:cubicBezTo>
                    <a:cubicBezTo>
                      <a:pt x="1297" y="119"/>
                      <a:pt x="1295" y="120"/>
                      <a:pt x="1294" y="122"/>
                    </a:cubicBezTo>
                    <a:cubicBezTo>
                      <a:pt x="1294" y="117"/>
                      <a:pt x="1293" y="113"/>
                      <a:pt x="1292" y="108"/>
                    </a:cubicBezTo>
                    <a:close/>
                    <a:moveTo>
                      <a:pt x="1299" y="134"/>
                    </a:moveTo>
                    <a:cubicBezTo>
                      <a:pt x="1298" y="131"/>
                      <a:pt x="1297" y="128"/>
                      <a:pt x="1296" y="126"/>
                    </a:cubicBezTo>
                    <a:cubicBezTo>
                      <a:pt x="1297" y="125"/>
                      <a:pt x="1298" y="123"/>
                      <a:pt x="1298" y="122"/>
                    </a:cubicBezTo>
                    <a:cubicBezTo>
                      <a:pt x="1299" y="124"/>
                      <a:pt x="1299" y="125"/>
                      <a:pt x="1299" y="127"/>
                    </a:cubicBezTo>
                    <a:cubicBezTo>
                      <a:pt x="1299" y="129"/>
                      <a:pt x="1299" y="131"/>
                      <a:pt x="1299" y="134"/>
                    </a:cubicBezTo>
                    <a:close/>
                    <a:moveTo>
                      <a:pt x="1298" y="98"/>
                    </a:moveTo>
                    <a:cubicBezTo>
                      <a:pt x="1298" y="98"/>
                      <a:pt x="1298" y="98"/>
                      <a:pt x="1299" y="97"/>
                    </a:cubicBezTo>
                    <a:cubicBezTo>
                      <a:pt x="1299" y="101"/>
                      <a:pt x="1299" y="105"/>
                      <a:pt x="1299" y="108"/>
                    </a:cubicBezTo>
                    <a:cubicBezTo>
                      <a:pt x="1299" y="105"/>
                      <a:pt x="1298" y="101"/>
                      <a:pt x="1298" y="98"/>
                    </a:cubicBezTo>
                    <a:close/>
                    <a:moveTo>
                      <a:pt x="1298" y="82"/>
                    </a:moveTo>
                    <a:cubicBezTo>
                      <a:pt x="1298" y="78"/>
                      <a:pt x="1298" y="74"/>
                      <a:pt x="1299" y="72"/>
                    </a:cubicBezTo>
                    <a:cubicBezTo>
                      <a:pt x="1301" y="75"/>
                      <a:pt x="1302" y="78"/>
                      <a:pt x="1304" y="80"/>
                    </a:cubicBezTo>
                    <a:cubicBezTo>
                      <a:pt x="1302" y="82"/>
                      <a:pt x="1301" y="84"/>
                      <a:pt x="1299" y="86"/>
                    </a:cubicBezTo>
                    <a:cubicBezTo>
                      <a:pt x="1299" y="85"/>
                      <a:pt x="1298" y="83"/>
                      <a:pt x="1298" y="82"/>
                    </a:cubicBezTo>
                    <a:close/>
                    <a:moveTo>
                      <a:pt x="1302" y="92"/>
                    </a:moveTo>
                    <a:cubicBezTo>
                      <a:pt x="1303" y="90"/>
                      <a:pt x="1305" y="88"/>
                      <a:pt x="1306" y="86"/>
                    </a:cubicBezTo>
                    <a:cubicBezTo>
                      <a:pt x="1307" y="88"/>
                      <a:pt x="1308" y="91"/>
                      <a:pt x="1309" y="93"/>
                    </a:cubicBezTo>
                    <a:cubicBezTo>
                      <a:pt x="1309" y="96"/>
                      <a:pt x="1309" y="99"/>
                      <a:pt x="1310" y="102"/>
                    </a:cubicBezTo>
                    <a:cubicBezTo>
                      <a:pt x="1309" y="104"/>
                      <a:pt x="1308" y="105"/>
                      <a:pt x="1306" y="106"/>
                    </a:cubicBezTo>
                    <a:cubicBezTo>
                      <a:pt x="1305" y="102"/>
                      <a:pt x="1304" y="97"/>
                      <a:pt x="1302" y="92"/>
                    </a:cubicBezTo>
                    <a:close/>
                    <a:moveTo>
                      <a:pt x="1307" y="108"/>
                    </a:moveTo>
                    <a:cubicBezTo>
                      <a:pt x="1308" y="106"/>
                      <a:pt x="1309" y="104"/>
                      <a:pt x="1310" y="103"/>
                    </a:cubicBezTo>
                    <a:cubicBezTo>
                      <a:pt x="1312" y="118"/>
                      <a:pt x="1314" y="133"/>
                      <a:pt x="1316" y="149"/>
                    </a:cubicBezTo>
                    <a:cubicBezTo>
                      <a:pt x="1313" y="137"/>
                      <a:pt x="1311" y="122"/>
                      <a:pt x="1307" y="108"/>
                    </a:cubicBezTo>
                    <a:close/>
                    <a:moveTo>
                      <a:pt x="1315" y="95"/>
                    </a:moveTo>
                    <a:cubicBezTo>
                      <a:pt x="1317" y="93"/>
                      <a:pt x="1318" y="91"/>
                      <a:pt x="1320" y="89"/>
                    </a:cubicBezTo>
                    <a:cubicBezTo>
                      <a:pt x="1326" y="103"/>
                      <a:pt x="1327" y="120"/>
                      <a:pt x="1327" y="136"/>
                    </a:cubicBezTo>
                    <a:cubicBezTo>
                      <a:pt x="1324" y="122"/>
                      <a:pt x="1320" y="109"/>
                      <a:pt x="1315" y="95"/>
                    </a:cubicBezTo>
                    <a:close/>
                    <a:moveTo>
                      <a:pt x="1320" y="89"/>
                    </a:moveTo>
                    <a:cubicBezTo>
                      <a:pt x="1322" y="87"/>
                      <a:pt x="1323" y="85"/>
                      <a:pt x="1324" y="83"/>
                    </a:cubicBezTo>
                    <a:cubicBezTo>
                      <a:pt x="1325" y="90"/>
                      <a:pt x="1327" y="98"/>
                      <a:pt x="1328" y="105"/>
                    </a:cubicBezTo>
                    <a:cubicBezTo>
                      <a:pt x="1325" y="99"/>
                      <a:pt x="1323" y="94"/>
                      <a:pt x="1320" y="89"/>
                    </a:cubicBezTo>
                    <a:close/>
                    <a:moveTo>
                      <a:pt x="1333" y="92"/>
                    </a:moveTo>
                    <a:cubicBezTo>
                      <a:pt x="1331" y="87"/>
                      <a:pt x="1330" y="81"/>
                      <a:pt x="1329" y="74"/>
                    </a:cubicBezTo>
                    <a:cubicBezTo>
                      <a:pt x="1331" y="71"/>
                      <a:pt x="1333" y="68"/>
                      <a:pt x="1334" y="65"/>
                    </a:cubicBezTo>
                    <a:cubicBezTo>
                      <a:pt x="1336" y="69"/>
                      <a:pt x="1339" y="72"/>
                      <a:pt x="1341" y="75"/>
                    </a:cubicBezTo>
                    <a:cubicBezTo>
                      <a:pt x="1341" y="77"/>
                      <a:pt x="1341" y="79"/>
                      <a:pt x="1341" y="81"/>
                    </a:cubicBezTo>
                    <a:cubicBezTo>
                      <a:pt x="1340" y="80"/>
                      <a:pt x="1340" y="80"/>
                      <a:pt x="1339" y="79"/>
                    </a:cubicBezTo>
                    <a:cubicBezTo>
                      <a:pt x="1340" y="80"/>
                      <a:pt x="1340" y="81"/>
                      <a:pt x="1341" y="81"/>
                    </a:cubicBezTo>
                    <a:cubicBezTo>
                      <a:pt x="1340" y="86"/>
                      <a:pt x="1340" y="90"/>
                      <a:pt x="1340" y="91"/>
                    </a:cubicBezTo>
                    <a:cubicBezTo>
                      <a:pt x="1340" y="95"/>
                      <a:pt x="1340" y="100"/>
                      <a:pt x="1341" y="104"/>
                    </a:cubicBezTo>
                    <a:cubicBezTo>
                      <a:pt x="1340" y="101"/>
                      <a:pt x="1340" y="99"/>
                      <a:pt x="1339" y="96"/>
                    </a:cubicBezTo>
                    <a:cubicBezTo>
                      <a:pt x="1340" y="100"/>
                      <a:pt x="1340" y="104"/>
                      <a:pt x="1341" y="108"/>
                    </a:cubicBezTo>
                    <a:cubicBezTo>
                      <a:pt x="1341" y="120"/>
                      <a:pt x="1342" y="132"/>
                      <a:pt x="1342" y="143"/>
                    </a:cubicBezTo>
                    <a:cubicBezTo>
                      <a:pt x="1340" y="126"/>
                      <a:pt x="1337" y="109"/>
                      <a:pt x="1333" y="92"/>
                    </a:cubicBezTo>
                    <a:close/>
                    <a:moveTo>
                      <a:pt x="1356" y="125"/>
                    </a:moveTo>
                    <a:cubicBezTo>
                      <a:pt x="1353" y="116"/>
                      <a:pt x="1351" y="108"/>
                      <a:pt x="1348" y="99"/>
                    </a:cubicBezTo>
                    <a:cubicBezTo>
                      <a:pt x="1346" y="93"/>
                      <a:pt x="1345" y="87"/>
                      <a:pt x="1345" y="82"/>
                    </a:cubicBezTo>
                    <a:cubicBezTo>
                      <a:pt x="1350" y="91"/>
                      <a:pt x="1353" y="100"/>
                      <a:pt x="1356" y="109"/>
                    </a:cubicBezTo>
                    <a:cubicBezTo>
                      <a:pt x="1356" y="114"/>
                      <a:pt x="1356" y="120"/>
                      <a:pt x="1356" y="125"/>
                    </a:cubicBezTo>
                    <a:close/>
                    <a:moveTo>
                      <a:pt x="1356" y="97"/>
                    </a:moveTo>
                    <a:cubicBezTo>
                      <a:pt x="1353" y="90"/>
                      <a:pt x="1349" y="83"/>
                      <a:pt x="1344" y="77"/>
                    </a:cubicBezTo>
                    <a:cubicBezTo>
                      <a:pt x="1344" y="72"/>
                      <a:pt x="1343" y="67"/>
                      <a:pt x="1344" y="63"/>
                    </a:cubicBezTo>
                    <a:cubicBezTo>
                      <a:pt x="1349" y="70"/>
                      <a:pt x="1353" y="77"/>
                      <a:pt x="1357" y="85"/>
                    </a:cubicBezTo>
                    <a:cubicBezTo>
                      <a:pt x="1357" y="89"/>
                      <a:pt x="1357" y="93"/>
                      <a:pt x="1356" y="97"/>
                    </a:cubicBezTo>
                    <a:close/>
                    <a:moveTo>
                      <a:pt x="1366" y="119"/>
                    </a:moveTo>
                    <a:cubicBezTo>
                      <a:pt x="1365" y="110"/>
                      <a:pt x="1363" y="102"/>
                      <a:pt x="1361" y="93"/>
                    </a:cubicBezTo>
                    <a:cubicBezTo>
                      <a:pt x="1363" y="98"/>
                      <a:pt x="1366" y="104"/>
                      <a:pt x="1367" y="109"/>
                    </a:cubicBezTo>
                    <a:cubicBezTo>
                      <a:pt x="1368" y="112"/>
                      <a:pt x="1368" y="114"/>
                      <a:pt x="1369" y="116"/>
                    </a:cubicBezTo>
                    <a:cubicBezTo>
                      <a:pt x="1369" y="120"/>
                      <a:pt x="1369" y="124"/>
                      <a:pt x="1369" y="127"/>
                    </a:cubicBezTo>
                    <a:cubicBezTo>
                      <a:pt x="1368" y="125"/>
                      <a:pt x="1367" y="122"/>
                      <a:pt x="1366" y="119"/>
                    </a:cubicBezTo>
                    <a:close/>
                    <a:moveTo>
                      <a:pt x="1377" y="151"/>
                    </a:moveTo>
                    <a:cubicBezTo>
                      <a:pt x="1377" y="151"/>
                      <a:pt x="1377" y="151"/>
                      <a:pt x="1377" y="151"/>
                    </a:cubicBezTo>
                    <a:cubicBezTo>
                      <a:pt x="1377" y="151"/>
                      <a:pt x="1377" y="150"/>
                      <a:pt x="1377" y="150"/>
                    </a:cubicBezTo>
                    <a:cubicBezTo>
                      <a:pt x="1377" y="150"/>
                      <a:pt x="1377" y="150"/>
                      <a:pt x="1377" y="150"/>
                    </a:cubicBezTo>
                    <a:cubicBezTo>
                      <a:pt x="1377" y="151"/>
                      <a:pt x="1377" y="151"/>
                      <a:pt x="1377" y="151"/>
                    </a:cubicBezTo>
                    <a:close/>
                    <a:moveTo>
                      <a:pt x="1383" y="114"/>
                    </a:moveTo>
                    <a:cubicBezTo>
                      <a:pt x="1381" y="105"/>
                      <a:pt x="1378" y="96"/>
                      <a:pt x="1374" y="88"/>
                    </a:cubicBezTo>
                    <a:cubicBezTo>
                      <a:pt x="1378" y="97"/>
                      <a:pt x="1380" y="110"/>
                      <a:pt x="1382" y="122"/>
                    </a:cubicBezTo>
                    <a:cubicBezTo>
                      <a:pt x="1381" y="127"/>
                      <a:pt x="1380" y="132"/>
                      <a:pt x="1379" y="136"/>
                    </a:cubicBezTo>
                    <a:cubicBezTo>
                      <a:pt x="1378" y="134"/>
                      <a:pt x="1378" y="133"/>
                      <a:pt x="1377" y="131"/>
                    </a:cubicBezTo>
                    <a:cubicBezTo>
                      <a:pt x="1377" y="117"/>
                      <a:pt x="1376" y="102"/>
                      <a:pt x="1374" y="87"/>
                    </a:cubicBezTo>
                    <a:cubicBezTo>
                      <a:pt x="1374" y="87"/>
                      <a:pt x="1374" y="88"/>
                      <a:pt x="1374" y="88"/>
                    </a:cubicBezTo>
                    <a:cubicBezTo>
                      <a:pt x="1374" y="88"/>
                      <a:pt x="1374" y="87"/>
                      <a:pt x="1374" y="87"/>
                    </a:cubicBezTo>
                    <a:cubicBezTo>
                      <a:pt x="1373" y="82"/>
                      <a:pt x="1373" y="78"/>
                      <a:pt x="1372" y="73"/>
                    </a:cubicBezTo>
                    <a:cubicBezTo>
                      <a:pt x="1379" y="81"/>
                      <a:pt x="1383" y="91"/>
                      <a:pt x="1386" y="101"/>
                    </a:cubicBezTo>
                    <a:cubicBezTo>
                      <a:pt x="1385" y="105"/>
                      <a:pt x="1384" y="109"/>
                      <a:pt x="1383" y="114"/>
                    </a:cubicBezTo>
                    <a:close/>
                    <a:moveTo>
                      <a:pt x="1390" y="138"/>
                    </a:moveTo>
                    <a:cubicBezTo>
                      <a:pt x="1389" y="137"/>
                      <a:pt x="1389" y="136"/>
                      <a:pt x="1389" y="135"/>
                    </a:cubicBezTo>
                    <a:cubicBezTo>
                      <a:pt x="1389" y="124"/>
                      <a:pt x="1385" y="112"/>
                      <a:pt x="1386" y="101"/>
                    </a:cubicBezTo>
                    <a:cubicBezTo>
                      <a:pt x="1389" y="110"/>
                      <a:pt x="1391" y="119"/>
                      <a:pt x="1392" y="128"/>
                    </a:cubicBezTo>
                    <a:cubicBezTo>
                      <a:pt x="1391" y="132"/>
                      <a:pt x="1390" y="135"/>
                      <a:pt x="1390" y="138"/>
                    </a:cubicBezTo>
                    <a:close/>
                    <a:moveTo>
                      <a:pt x="1405" y="136"/>
                    </a:moveTo>
                    <a:cubicBezTo>
                      <a:pt x="1405" y="135"/>
                      <a:pt x="1404" y="134"/>
                      <a:pt x="1404" y="133"/>
                    </a:cubicBezTo>
                    <a:cubicBezTo>
                      <a:pt x="1403" y="131"/>
                      <a:pt x="1403" y="129"/>
                      <a:pt x="1402" y="128"/>
                    </a:cubicBezTo>
                    <a:cubicBezTo>
                      <a:pt x="1402" y="127"/>
                      <a:pt x="1402" y="127"/>
                      <a:pt x="1402" y="127"/>
                    </a:cubicBezTo>
                    <a:cubicBezTo>
                      <a:pt x="1403" y="129"/>
                      <a:pt x="1403" y="131"/>
                      <a:pt x="1404" y="133"/>
                    </a:cubicBezTo>
                    <a:cubicBezTo>
                      <a:pt x="1404" y="134"/>
                      <a:pt x="1405" y="135"/>
                      <a:pt x="1405" y="136"/>
                    </a:cubicBezTo>
                    <a:cubicBezTo>
                      <a:pt x="1405" y="136"/>
                      <a:pt x="1405" y="136"/>
                      <a:pt x="1405" y="136"/>
                    </a:cubicBezTo>
                    <a:close/>
                    <a:moveTo>
                      <a:pt x="1406" y="133"/>
                    </a:moveTo>
                    <a:cubicBezTo>
                      <a:pt x="1405" y="129"/>
                      <a:pt x="1404" y="125"/>
                      <a:pt x="1402" y="120"/>
                    </a:cubicBezTo>
                    <a:cubicBezTo>
                      <a:pt x="1402" y="119"/>
                      <a:pt x="1402" y="117"/>
                      <a:pt x="1402" y="115"/>
                    </a:cubicBezTo>
                    <a:cubicBezTo>
                      <a:pt x="1402" y="112"/>
                      <a:pt x="1402" y="109"/>
                      <a:pt x="1403" y="105"/>
                    </a:cubicBezTo>
                    <a:cubicBezTo>
                      <a:pt x="1405" y="112"/>
                      <a:pt x="1406" y="119"/>
                      <a:pt x="1408" y="126"/>
                    </a:cubicBezTo>
                    <a:cubicBezTo>
                      <a:pt x="1407" y="128"/>
                      <a:pt x="1407" y="130"/>
                      <a:pt x="1406" y="133"/>
                    </a:cubicBezTo>
                    <a:close/>
                    <a:moveTo>
                      <a:pt x="1420" y="139"/>
                    </a:moveTo>
                    <a:cubicBezTo>
                      <a:pt x="1420" y="139"/>
                      <a:pt x="1420" y="139"/>
                      <a:pt x="1420" y="139"/>
                    </a:cubicBezTo>
                    <a:cubicBezTo>
                      <a:pt x="1420" y="137"/>
                      <a:pt x="1420" y="135"/>
                      <a:pt x="1420" y="133"/>
                    </a:cubicBezTo>
                    <a:cubicBezTo>
                      <a:pt x="1420" y="134"/>
                      <a:pt x="1420" y="134"/>
                      <a:pt x="1420" y="135"/>
                    </a:cubicBezTo>
                    <a:cubicBezTo>
                      <a:pt x="1420" y="136"/>
                      <a:pt x="1420" y="138"/>
                      <a:pt x="1420" y="139"/>
                    </a:cubicBezTo>
                    <a:close/>
                    <a:moveTo>
                      <a:pt x="1441" y="150"/>
                    </a:moveTo>
                    <a:cubicBezTo>
                      <a:pt x="1440" y="148"/>
                      <a:pt x="1439" y="147"/>
                      <a:pt x="1439" y="146"/>
                    </a:cubicBezTo>
                    <a:cubicBezTo>
                      <a:pt x="1438" y="131"/>
                      <a:pt x="1434" y="116"/>
                      <a:pt x="1432" y="101"/>
                    </a:cubicBezTo>
                    <a:cubicBezTo>
                      <a:pt x="1437" y="115"/>
                      <a:pt x="1439" y="132"/>
                      <a:pt x="1441" y="146"/>
                    </a:cubicBezTo>
                    <a:cubicBezTo>
                      <a:pt x="1441" y="147"/>
                      <a:pt x="1441" y="148"/>
                      <a:pt x="1441" y="150"/>
                    </a:cubicBezTo>
                    <a:close/>
                    <a:moveTo>
                      <a:pt x="1445" y="143"/>
                    </a:moveTo>
                    <a:cubicBezTo>
                      <a:pt x="1445" y="142"/>
                      <a:pt x="1445" y="141"/>
                      <a:pt x="1445" y="140"/>
                    </a:cubicBezTo>
                    <a:cubicBezTo>
                      <a:pt x="1445" y="139"/>
                      <a:pt x="1445" y="139"/>
                      <a:pt x="1445" y="139"/>
                    </a:cubicBezTo>
                    <a:cubicBezTo>
                      <a:pt x="1445" y="140"/>
                      <a:pt x="1445" y="141"/>
                      <a:pt x="1445" y="142"/>
                    </a:cubicBezTo>
                    <a:cubicBezTo>
                      <a:pt x="1445" y="142"/>
                      <a:pt x="1445" y="143"/>
                      <a:pt x="1445" y="143"/>
                    </a:cubicBezTo>
                    <a:close/>
                    <a:moveTo>
                      <a:pt x="1458" y="139"/>
                    </a:moveTo>
                    <a:cubicBezTo>
                      <a:pt x="1457" y="142"/>
                      <a:pt x="1456" y="145"/>
                      <a:pt x="1455" y="147"/>
                    </a:cubicBezTo>
                    <a:cubicBezTo>
                      <a:pt x="1455" y="146"/>
                      <a:pt x="1454" y="145"/>
                      <a:pt x="1454" y="144"/>
                    </a:cubicBezTo>
                    <a:cubicBezTo>
                      <a:pt x="1456" y="132"/>
                      <a:pt x="1456" y="120"/>
                      <a:pt x="1458" y="108"/>
                    </a:cubicBezTo>
                    <a:cubicBezTo>
                      <a:pt x="1460" y="116"/>
                      <a:pt x="1459" y="128"/>
                      <a:pt x="1458" y="139"/>
                    </a:cubicBezTo>
                    <a:close/>
                    <a:moveTo>
                      <a:pt x="1458" y="108"/>
                    </a:moveTo>
                    <a:cubicBezTo>
                      <a:pt x="1459" y="104"/>
                      <a:pt x="1459" y="100"/>
                      <a:pt x="1461" y="97"/>
                    </a:cubicBezTo>
                    <a:cubicBezTo>
                      <a:pt x="1462" y="100"/>
                      <a:pt x="1463" y="103"/>
                      <a:pt x="1464" y="107"/>
                    </a:cubicBezTo>
                    <a:cubicBezTo>
                      <a:pt x="1463" y="112"/>
                      <a:pt x="1463" y="117"/>
                      <a:pt x="1462" y="122"/>
                    </a:cubicBezTo>
                    <a:cubicBezTo>
                      <a:pt x="1460" y="116"/>
                      <a:pt x="1459" y="111"/>
                      <a:pt x="1458" y="108"/>
                    </a:cubicBezTo>
                    <a:close/>
                    <a:moveTo>
                      <a:pt x="1466" y="134"/>
                    </a:moveTo>
                    <a:cubicBezTo>
                      <a:pt x="1465" y="132"/>
                      <a:pt x="1464" y="130"/>
                      <a:pt x="1464" y="128"/>
                    </a:cubicBezTo>
                    <a:cubicBezTo>
                      <a:pt x="1464" y="121"/>
                      <a:pt x="1464" y="114"/>
                      <a:pt x="1464" y="107"/>
                    </a:cubicBezTo>
                    <a:cubicBezTo>
                      <a:pt x="1466" y="113"/>
                      <a:pt x="1467" y="118"/>
                      <a:pt x="1468" y="124"/>
                    </a:cubicBezTo>
                    <a:cubicBezTo>
                      <a:pt x="1467" y="128"/>
                      <a:pt x="1466" y="131"/>
                      <a:pt x="1466" y="134"/>
                    </a:cubicBezTo>
                    <a:close/>
                    <a:moveTo>
                      <a:pt x="1470" y="118"/>
                    </a:moveTo>
                    <a:cubicBezTo>
                      <a:pt x="1468" y="114"/>
                      <a:pt x="1466" y="109"/>
                      <a:pt x="1464" y="105"/>
                    </a:cubicBezTo>
                    <a:cubicBezTo>
                      <a:pt x="1465" y="102"/>
                      <a:pt x="1465" y="99"/>
                      <a:pt x="1466" y="96"/>
                    </a:cubicBezTo>
                    <a:cubicBezTo>
                      <a:pt x="1465" y="99"/>
                      <a:pt x="1465" y="102"/>
                      <a:pt x="1464" y="105"/>
                    </a:cubicBezTo>
                    <a:cubicBezTo>
                      <a:pt x="1463" y="102"/>
                      <a:pt x="1462" y="99"/>
                      <a:pt x="1461" y="96"/>
                    </a:cubicBezTo>
                    <a:cubicBezTo>
                      <a:pt x="1461" y="94"/>
                      <a:pt x="1462" y="91"/>
                      <a:pt x="1463" y="89"/>
                    </a:cubicBezTo>
                    <a:cubicBezTo>
                      <a:pt x="1467" y="95"/>
                      <a:pt x="1470" y="102"/>
                      <a:pt x="1472" y="109"/>
                    </a:cubicBezTo>
                    <a:cubicBezTo>
                      <a:pt x="1472" y="112"/>
                      <a:pt x="1471" y="115"/>
                      <a:pt x="1470" y="118"/>
                    </a:cubicBezTo>
                    <a:close/>
                    <a:moveTo>
                      <a:pt x="1473" y="151"/>
                    </a:moveTo>
                    <a:cubicBezTo>
                      <a:pt x="1473" y="151"/>
                      <a:pt x="1473" y="151"/>
                      <a:pt x="1472" y="151"/>
                    </a:cubicBezTo>
                    <a:cubicBezTo>
                      <a:pt x="1473" y="150"/>
                      <a:pt x="1473" y="148"/>
                      <a:pt x="1473" y="147"/>
                    </a:cubicBezTo>
                    <a:cubicBezTo>
                      <a:pt x="1473" y="147"/>
                      <a:pt x="1473" y="148"/>
                      <a:pt x="1473" y="148"/>
                    </a:cubicBezTo>
                    <a:cubicBezTo>
                      <a:pt x="1473" y="149"/>
                      <a:pt x="1473" y="150"/>
                      <a:pt x="1473" y="151"/>
                    </a:cubicBezTo>
                    <a:close/>
                    <a:moveTo>
                      <a:pt x="1477" y="136"/>
                    </a:moveTo>
                    <a:cubicBezTo>
                      <a:pt x="1476" y="134"/>
                      <a:pt x="1475" y="132"/>
                      <a:pt x="1475" y="130"/>
                    </a:cubicBezTo>
                    <a:cubicBezTo>
                      <a:pt x="1475" y="127"/>
                      <a:pt x="1475" y="123"/>
                      <a:pt x="1476" y="120"/>
                    </a:cubicBezTo>
                    <a:cubicBezTo>
                      <a:pt x="1477" y="123"/>
                      <a:pt x="1478" y="127"/>
                      <a:pt x="1479" y="130"/>
                    </a:cubicBezTo>
                    <a:cubicBezTo>
                      <a:pt x="1478" y="132"/>
                      <a:pt x="1477" y="134"/>
                      <a:pt x="1477" y="136"/>
                    </a:cubicBezTo>
                    <a:close/>
                    <a:moveTo>
                      <a:pt x="1483" y="150"/>
                    </a:moveTo>
                    <a:cubicBezTo>
                      <a:pt x="1483" y="149"/>
                      <a:pt x="1482" y="147"/>
                      <a:pt x="1481" y="146"/>
                    </a:cubicBezTo>
                    <a:cubicBezTo>
                      <a:pt x="1482" y="145"/>
                      <a:pt x="1482" y="145"/>
                      <a:pt x="1482" y="144"/>
                    </a:cubicBezTo>
                    <a:cubicBezTo>
                      <a:pt x="1483" y="146"/>
                      <a:pt x="1483" y="147"/>
                      <a:pt x="1484" y="149"/>
                    </a:cubicBezTo>
                    <a:cubicBezTo>
                      <a:pt x="1484" y="149"/>
                      <a:pt x="1483" y="149"/>
                      <a:pt x="1483" y="150"/>
                    </a:cubicBezTo>
                    <a:close/>
                    <a:moveTo>
                      <a:pt x="1481" y="122"/>
                    </a:moveTo>
                    <a:cubicBezTo>
                      <a:pt x="1480" y="118"/>
                      <a:pt x="1478" y="115"/>
                      <a:pt x="1477" y="111"/>
                    </a:cubicBezTo>
                    <a:cubicBezTo>
                      <a:pt x="1478" y="101"/>
                      <a:pt x="1480" y="90"/>
                      <a:pt x="1484" y="81"/>
                    </a:cubicBezTo>
                    <a:cubicBezTo>
                      <a:pt x="1487" y="86"/>
                      <a:pt x="1490" y="91"/>
                      <a:pt x="1492" y="97"/>
                    </a:cubicBezTo>
                    <a:cubicBezTo>
                      <a:pt x="1490" y="101"/>
                      <a:pt x="1488" y="105"/>
                      <a:pt x="1486" y="109"/>
                    </a:cubicBezTo>
                    <a:cubicBezTo>
                      <a:pt x="1484" y="102"/>
                      <a:pt x="1483" y="96"/>
                      <a:pt x="1481" y="91"/>
                    </a:cubicBezTo>
                    <a:cubicBezTo>
                      <a:pt x="1482" y="99"/>
                      <a:pt x="1483" y="106"/>
                      <a:pt x="1484" y="114"/>
                    </a:cubicBezTo>
                    <a:cubicBezTo>
                      <a:pt x="1483" y="117"/>
                      <a:pt x="1482" y="119"/>
                      <a:pt x="1481" y="122"/>
                    </a:cubicBezTo>
                    <a:close/>
                    <a:moveTo>
                      <a:pt x="1488" y="141"/>
                    </a:moveTo>
                    <a:cubicBezTo>
                      <a:pt x="1487" y="138"/>
                      <a:pt x="1486" y="135"/>
                      <a:pt x="1485" y="131"/>
                    </a:cubicBezTo>
                    <a:cubicBezTo>
                      <a:pt x="1485" y="129"/>
                      <a:pt x="1486" y="127"/>
                      <a:pt x="1486" y="124"/>
                    </a:cubicBezTo>
                    <a:cubicBezTo>
                      <a:pt x="1487" y="130"/>
                      <a:pt x="1488" y="135"/>
                      <a:pt x="1489" y="140"/>
                    </a:cubicBezTo>
                    <a:cubicBezTo>
                      <a:pt x="1489" y="140"/>
                      <a:pt x="1489" y="141"/>
                      <a:pt x="1488" y="141"/>
                    </a:cubicBezTo>
                    <a:close/>
                    <a:moveTo>
                      <a:pt x="1491" y="150"/>
                    </a:moveTo>
                    <a:cubicBezTo>
                      <a:pt x="1491" y="150"/>
                      <a:pt x="1491" y="149"/>
                      <a:pt x="1491" y="149"/>
                    </a:cubicBezTo>
                    <a:cubicBezTo>
                      <a:pt x="1491" y="149"/>
                      <a:pt x="1491" y="149"/>
                      <a:pt x="1491" y="149"/>
                    </a:cubicBezTo>
                    <a:cubicBezTo>
                      <a:pt x="1491" y="149"/>
                      <a:pt x="1491" y="150"/>
                      <a:pt x="1491" y="150"/>
                    </a:cubicBezTo>
                    <a:cubicBezTo>
                      <a:pt x="1491" y="150"/>
                      <a:pt x="1491" y="150"/>
                      <a:pt x="1491" y="150"/>
                    </a:cubicBezTo>
                    <a:close/>
                    <a:moveTo>
                      <a:pt x="1488" y="114"/>
                    </a:moveTo>
                    <a:cubicBezTo>
                      <a:pt x="1489" y="108"/>
                      <a:pt x="1490" y="103"/>
                      <a:pt x="1492" y="97"/>
                    </a:cubicBezTo>
                    <a:cubicBezTo>
                      <a:pt x="1494" y="103"/>
                      <a:pt x="1496" y="110"/>
                      <a:pt x="1498" y="116"/>
                    </a:cubicBezTo>
                    <a:cubicBezTo>
                      <a:pt x="1496" y="121"/>
                      <a:pt x="1495" y="126"/>
                      <a:pt x="1493" y="131"/>
                    </a:cubicBezTo>
                    <a:cubicBezTo>
                      <a:pt x="1491" y="126"/>
                      <a:pt x="1489" y="120"/>
                      <a:pt x="1488" y="114"/>
                    </a:cubicBezTo>
                    <a:close/>
                    <a:moveTo>
                      <a:pt x="1495" y="139"/>
                    </a:moveTo>
                    <a:cubicBezTo>
                      <a:pt x="1497" y="134"/>
                      <a:pt x="1498" y="129"/>
                      <a:pt x="1499" y="124"/>
                    </a:cubicBezTo>
                    <a:cubicBezTo>
                      <a:pt x="1500" y="125"/>
                      <a:pt x="1500" y="126"/>
                      <a:pt x="1500" y="128"/>
                    </a:cubicBezTo>
                    <a:cubicBezTo>
                      <a:pt x="1499" y="132"/>
                      <a:pt x="1497" y="136"/>
                      <a:pt x="1496" y="141"/>
                    </a:cubicBezTo>
                    <a:cubicBezTo>
                      <a:pt x="1496" y="140"/>
                      <a:pt x="1495" y="139"/>
                      <a:pt x="1495" y="139"/>
                    </a:cubicBezTo>
                    <a:close/>
                    <a:moveTo>
                      <a:pt x="1500" y="150"/>
                    </a:moveTo>
                    <a:cubicBezTo>
                      <a:pt x="1500" y="150"/>
                      <a:pt x="1499" y="149"/>
                      <a:pt x="1499" y="149"/>
                    </a:cubicBezTo>
                    <a:cubicBezTo>
                      <a:pt x="1500" y="147"/>
                      <a:pt x="1501" y="144"/>
                      <a:pt x="1502" y="141"/>
                    </a:cubicBezTo>
                    <a:cubicBezTo>
                      <a:pt x="1502" y="143"/>
                      <a:pt x="1503" y="144"/>
                      <a:pt x="1503" y="145"/>
                    </a:cubicBezTo>
                    <a:cubicBezTo>
                      <a:pt x="1502" y="147"/>
                      <a:pt x="1501" y="149"/>
                      <a:pt x="1500" y="150"/>
                    </a:cubicBezTo>
                    <a:close/>
                    <a:moveTo>
                      <a:pt x="1511" y="126"/>
                    </a:moveTo>
                    <a:cubicBezTo>
                      <a:pt x="1510" y="123"/>
                      <a:pt x="1509" y="120"/>
                      <a:pt x="1508" y="117"/>
                    </a:cubicBezTo>
                    <a:cubicBezTo>
                      <a:pt x="1509" y="116"/>
                      <a:pt x="1509" y="115"/>
                      <a:pt x="1509" y="114"/>
                    </a:cubicBezTo>
                    <a:cubicBezTo>
                      <a:pt x="1509" y="116"/>
                      <a:pt x="1510" y="117"/>
                      <a:pt x="1510" y="119"/>
                    </a:cubicBezTo>
                    <a:cubicBezTo>
                      <a:pt x="1511" y="121"/>
                      <a:pt x="1511" y="123"/>
                      <a:pt x="1512" y="125"/>
                    </a:cubicBezTo>
                    <a:cubicBezTo>
                      <a:pt x="1512" y="125"/>
                      <a:pt x="1511" y="125"/>
                      <a:pt x="1511" y="126"/>
                    </a:cubicBezTo>
                    <a:close/>
                    <a:moveTo>
                      <a:pt x="1516" y="142"/>
                    </a:moveTo>
                    <a:cubicBezTo>
                      <a:pt x="1515" y="139"/>
                      <a:pt x="1515" y="136"/>
                      <a:pt x="1514" y="133"/>
                    </a:cubicBezTo>
                    <a:cubicBezTo>
                      <a:pt x="1514" y="133"/>
                      <a:pt x="1514" y="133"/>
                      <a:pt x="1514" y="133"/>
                    </a:cubicBezTo>
                    <a:cubicBezTo>
                      <a:pt x="1515" y="136"/>
                      <a:pt x="1516" y="138"/>
                      <a:pt x="1516" y="141"/>
                    </a:cubicBezTo>
                    <a:cubicBezTo>
                      <a:pt x="1516" y="141"/>
                      <a:pt x="1516" y="141"/>
                      <a:pt x="1516" y="142"/>
                    </a:cubicBezTo>
                    <a:close/>
                    <a:moveTo>
                      <a:pt x="1518" y="148"/>
                    </a:move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lose/>
                    <a:moveTo>
                      <a:pt x="1521" y="141"/>
                    </a:moveTo>
                    <a:cubicBezTo>
                      <a:pt x="1521" y="141"/>
                      <a:pt x="1521" y="141"/>
                      <a:pt x="1521" y="141"/>
                    </a:cubicBezTo>
                    <a:cubicBezTo>
                      <a:pt x="1522" y="137"/>
                      <a:pt x="1523" y="133"/>
                      <a:pt x="1525" y="129"/>
                    </a:cubicBezTo>
                    <a:cubicBezTo>
                      <a:pt x="1525" y="129"/>
                      <a:pt x="1525" y="130"/>
                      <a:pt x="1525" y="131"/>
                    </a:cubicBezTo>
                    <a:cubicBezTo>
                      <a:pt x="1523" y="135"/>
                      <a:pt x="1522" y="138"/>
                      <a:pt x="1521" y="141"/>
                    </a:cubicBezTo>
                    <a:close/>
                    <a:moveTo>
                      <a:pt x="1528" y="122"/>
                    </a:moveTo>
                    <a:cubicBezTo>
                      <a:pt x="1528" y="121"/>
                      <a:pt x="1527" y="120"/>
                      <a:pt x="1527" y="119"/>
                    </a:cubicBezTo>
                    <a:cubicBezTo>
                      <a:pt x="1528" y="117"/>
                      <a:pt x="1528" y="114"/>
                      <a:pt x="1529" y="111"/>
                    </a:cubicBezTo>
                    <a:cubicBezTo>
                      <a:pt x="1530" y="113"/>
                      <a:pt x="1530" y="115"/>
                      <a:pt x="1531" y="117"/>
                    </a:cubicBezTo>
                    <a:cubicBezTo>
                      <a:pt x="1530" y="119"/>
                      <a:pt x="1529" y="121"/>
                      <a:pt x="1528" y="122"/>
                    </a:cubicBezTo>
                    <a:close/>
                    <a:moveTo>
                      <a:pt x="1538" y="147"/>
                    </a:moveTo>
                    <a:cubicBezTo>
                      <a:pt x="1537" y="145"/>
                      <a:pt x="1537" y="144"/>
                      <a:pt x="1536" y="142"/>
                    </a:cubicBezTo>
                    <a:cubicBezTo>
                      <a:pt x="1536" y="140"/>
                      <a:pt x="1535" y="138"/>
                      <a:pt x="1534" y="136"/>
                    </a:cubicBezTo>
                    <a:cubicBezTo>
                      <a:pt x="1534" y="136"/>
                      <a:pt x="1534" y="135"/>
                      <a:pt x="1534" y="134"/>
                    </a:cubicBezTo>
                    <a:cubicBezTo>
                      <a:pt x="1535" y="137"/>
                      <a:pt x="1536" y="139"/>
                      <a:pt x="1536" y="142"/>
                    </a:cubicBezTo>
                    <a:cubicBezTo>
                      <a:pt x="1537" y="143"/>
                      <a:pt x="1537" y="145"/>
                      <a:pt x="1538" y="147"/>
                    </a:cubicBezTo>
                    <a:cubicBezTo>
                      <a:pt x="1538" y="147"/>
                      <a:pt x="1538" y="147"/>
                      <a:pt x="1538" y="147"/>
                    </a:cubicBezTo>
                    <a:close/>
                    <a:moveTo>
                      <a:pt x="1541" y="138"/>
                    </a:moveTo>
                    <a:cubicBezTo>
                      <a:pt x="1539" y="133"/>
                      <a:pt x="1538" y="128"/>
                      <a:pt x="1536" y="124"/>
                    </a:cubicBezTo>
                    <a:cubicBezTo>
                      <a:pt x="1536" y="121"/>
                      <a:pt x="1537" y="118"/>
                      <a:pt x="1537" y="116"/>
                    </a:cubicBezTo>
                    <a:cubicBezTo>
                      <a:pt x="1538" y="123"/>
                      <a:pt x="1540" y="129"/>
                      <a:pt x="1542" y="136"/>
                    </a:cubicBezTo>
                    <a:cubicBezTo>
                      <a:pt x="1542" y="137"/>
                      <a:pt x="1541" y="137"/>
                      <a:pt x="1541" y="138"/>
                    </a:cubicBezTo>
                    <a:close/>
                    <a:moveTo>
                      <a:pt x="1538" y="109"/>
                    </a:moveTo>
                    <a:cubicBezTo>
                      <a:pt x="1539" y="103"/>
                      <a:pt x="1541" y="97"/>
                      <a:pt x="1543" y="91"/>
                    </a:cubicBezTo>
                    <a:cubicBezTo>
                      <a:pt x="1545" y="96"/>
                      <a:pt x="1547" y="101"/>
                      <a:pt x="1549" y="106"/>
                    </a:cubicBezTo>
                    <a:cubicBezTo>
                      <a:pt x="1547" y="112"/>
                      <a:pt x="1546" y="120"/>
                      <a:pt x="1544" y="127"/>
                    </a:cubicBezTo>
                    <a:cubicBezTo>
                      <a:pt x="1542" y="121"/>
                      <a:pt x="1540" y="115"/>
                      <a:pt x="1538" y="109"/>
                    </a:cubicBezTo>
                    <a:close/>
                    <a:moveTo>
                      <a:pt x="1545" y="148"/>
                    </a:move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8"/>
                      <a:pt x="1545" y="148"/>
                    </a:cubicBezTo>
                    <a:close/>
                    <a:moveTo>
                      <a:pt x="1547" y="136"/>
                    </a:moveTo>
                    <a:cubicBezTo>
                      <a:pt x="1549" y="127"/>
                      <a:pt x="1549" y="118"/>
                      <a:pt x="1549" y="109"/>
                    </a:cubicBezTo>
                    <a:cubicBezTo>
                      <a:pt x="1551" y="115"/>
                      <a:pt x="1552" y="121"/>
                      <a:pt x="1553" y="127"/>
                    </a:cubicBezTo>
                    <a:cubicBezTo>
                      <a:pt x="1551" y="131"/>
                      <a:pt x="1550" y="135"/>
                      <a:pt x="1549" y="139"/>
                    </a:cubicBezTo>
                    <a:cubicBezTo>
                      <a:pt x="1548" y="138"/>
                      <a:pt x="1548" y="137"/>
                      <a:pt x="1547" y="136"/>
                    </a:cubicBezTo>
                    <a:close/>
                    <a:moveTo>
                      <a:pt x="1554" y="148"/>
                    </a:moveTo>
                    <a:cubicBezTo>
                      <a:pt x="1553" y="148"/>
                      <a:pt x="1553" y="147"/>
                      <a:pt x="1552" y="146"/>
                    </a:cubicBezTo>
                    <a:cubicBezTo>
                      <a:pt x="1553" y="143"/>
                      <a:pt x="1554" y="140"/>
                      <a:pt x="1554" y="137"/>
                    </a:cubicBezTo>
                    <a:cubicBezTo>
                      <a:pt x="1555" y="140"/>
                      <a:pt x="1555" y="142"/>
                      <a:pt x="1556" y="144"/>
                    </a:cubicBezTo>
                    <a:cubicBezTo>
                      <a:pt x="1555" y="146"/>
                      <a:pt x="1554" y="147"/>
                      <a:pt x="1554" y="148"/>
                    </a:cubicBezTo>
                    <a:close/>
                    <a:moveTo>
                      <a:pt x="1549" y="103"/>
                    </a:moveTo>
                    <a:cubicBezTo>
                      <a:pt x="1549" y="102"/>
                      <a:pt x="1549" y="102"/>
                      <a:pt x="1549" y="102"/>
                    </a:cubicBezTo>
                    <a:cubicBezTo>
                      <a:pt x="1549" y="102"/>
                      <a:pt x="1549" y="103"/>
                      <a:pt x="1549" y="103"/>
                    </a:cubicBezTo>
                    <a:cubicBezTo>
                      <a:pt x="1547" y="98"/>
                      <a:pt x="1545" y="94"/>
                      <a:pt x="1543" y="91"/>
                    </a:cubicBezTo>
                    <a:cubicBezTo>
                      <a:pt x="1544" y="87"/>
                      <a:pt x="1546" y="83"/>
                      <a:pt x="1548" y="80"/>
                    </a:cubicBezTo>
                    <a:cubicBezTo>
                      <a:pt x="1554" y="89"/>
                      <a:pt x="1558" y="99"/>
                      <a:pt x="1560" y="109"/>
                    </a:cubicBezTo>
                    <a:cubicBezTo>
                      <a:pt x="1559" y="112"/>
                      <a:pt x="1557" y="116"/>
                      <a:pt x="1556" y="119"/>
                    </a:cubicBezTo>
                    <a:cubicBezTo>
                      <a:pt x="1554" y="114"/>
                      <a:pt x="1552" y="108"/>
                      <a:pt x="1549" y="103"/>
                    </a:cubicBezTo>
                    <a:close/>
                    <a:moveTo>
                      <a:pt x="1557" y="123"/>
                    </a:moveTo>
                    <a:cubicBezTo>
                      <a:pt x="1558" y="118"/>
                      <a:pt x="1559" y="114"/>
                      <a:pt x="1560" y="110"/>
                    </a:cubicBezTo>
                    <a:cubicBezTo>
                      <a:pt x="1561" y="115"/>
                      <a:pt x="1562" y="120"/>
                      <a:pt x="1563" y="125"/>
                    </a:cubicBezTo>
                    <a:cubicBezTo>
                      <a:pt x="1562" y="128"/>
                      <a:pt x="1561" y="130"/>
                      <a:pt x="1560" y="133"/>
                    </a:cubicBezTo>
                    <a:cubicBezTo>
                      <a:pt x="1559" y="129"/>
                      <a:pt x="1558" y="126"/>
                      <a:pt x="1557" y="123"/>
                    </a:cubicBezTo>
                    <a:close/>
                    <a:moveTo>
                      <a:pt x="1564" y="150"/>
                    </a:moveTo>
                    <a:cubicBezTo>
                      <a:pt x="1564" y="147"/>
                      <a:pt x="1563" y="144"/>
                      <a:pt x="1562" y="140"/>
                    </a:cubicBezTo>
                    <a:cubicBezTo>
                      <a:pt x="1563" y="137"/>
                      <a:pt x="1563" y="135"/>
                      <a:pt x="1563" y="132"/>
                    </a:cubicBezTo>
                    <a:cubicBezTo>
                      <a:pt x="1564" y="137"/>
                      <a:pt x="1564" y="143"/>
                      <a:pt x="1564" y="149"/>
                    </a:cubicBezTo>
                    <a:cubicBezTo>
                      <a:pt x="1564" y="150"/>
                      <a:pt x="1564" y="150"/>
                      <a:pt x="1564" y="150"/>
                    </a:cubicBezTo>
                    <a:close/>
                    <a:moveTo>
                      <a:pt x="1593" y="152"/>
                    </a:moveTo>
                    <a:cubicBezTo>
                      <a:pt x="1593" y="148"/>
                      <a:pt x="1593" y="145"/>
                      <a:pt x="1592" y="141"/>
                    </a:cubicBezTo>
                    <a:cubicBezTo>
                      <a:pt x="1592" y="136"/>
                      <a:pt x="1593" y="131"/>
                      <a:pt x="1593" y="125"/>
                    </a:cubicBezTo>
                    <a:cubicBezTo>
                      <a:pt x="1593" y="134"/>
                      <a:pt x="1593" y="142"/>
                      <a:pt x="1593" y="151"/>
                    </a:cubicBezTo>
                    <a:cubicBezTo>
                      <a:pt x="1593" y="151"/>
                      <a:pt x="1593" y="151"/>
                      <a:pt x="1593" y="152"/>
                    </a:cubicBezTo>
                    <a:close/>
                    <a:moveTo>
                      <a:pt x="1659" y="128"/>
                    </a:moveTo>
                    <a:cubicBezTo>
                      <a:pt x="1659" y="132"/>
                      <a:pt x="1658" y="136"/>
                      <a:pt x="1657" y="140"/>
                    </a:cubicBezTo>
                    <a:cubicBezTo>
                      <a:pt x="1657" y="136"/>
                      <a:pt x="1656" y="133"/>
                      <a:pt x="1655" y="129"/>
                    </a:cubicBezTo>
                    <a:cubicBezTo>
                      <a:pt x="1655" y="126"/>
                      <a:pt x="1655" y="122"/>
                      <a:pt x="1655" y="119"/>
                    </a:cubicBezTo>
                    <a:cubicBezTo>
                      <a:pt x="1655" y="112"/>
                      <a:pt x="1656" y="104"/>
                      <a:pt x="1657" y="97"/>
                    </a:cubicBezTo>
                    <a:cubicBezTo>
                      <a:pt x="1658" y="102"/>
                      <a:pt x="1659" y="107"/>
                      <a:pt x="1659" y="111"/>
                    </a:cubicBezTo>
                    <a:cubicBezTo>
                      <a:pt x="1659" y="122"/>
                      <a:pt x="1659" y="122"/>
                      <a:pt x="1659" y="122"/>
                    </a:cubicBezTo>
                    <a:cubicBezTo>
                      <a:pt x="1659" y="124"/>
                      <a:pt x="1659" y="126"/>
                      <a:pt x="1659" y="128"/>
                    </a:cubicBezTo>
                    <a:close/>
                    <a:moveTo>
                      <a:pt x="1667" y="151"/>
                    </a:move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36"/>
                      <a:pt x="1667" y="123"/>
                      <a:pt x="1666" y="109"/>
                    </a:cubicBezTo>
                    <a:cubicBezTo>
                      <a:pt x="1666" y="104"/>
                      <a:pt x="1667" y="99"/>
                      <a:pt x="1668" y="93"/>
                    </a:cubicBezTo>
                    <a:cubicBezTo>
                      <a:pt x="1669" y="99"/>
                      <a:pt x="1669" y="105"/>
                      <a:pt x="1669" y="110"/>
                    </a:cubicBezTo>
                    <a:cubicBezTo>
                      <a:pt x="1669" y="124"/>
                      <a:pt x="1667" y="138"/>
                      <a:pt x="1667" y="151"/>
                    </a:cubicBezTo>
                    <a:close/>
                    <a:moveTo>
                      <a:pt x="1694" y="110"/>
                    </a:moveTo>
                    <a:cubicBezTo>
                      <a:pt x="1694" y="109"/>
                      <a:pt x="1694" y="107"/>
                      <a:pt x="1694" y="106"/>
                    </a:cubicBezTo>
                    <a:cubicBezTo>
                      <a:pt x="1694" y="110"/>
                      <a:pt x="1695" y="113"/>
                      <a:pt x="1695" y="116"/>
                    </a:cubicBezTo>
                    <a:cubicBezTo>
                      <a:pt x="1694" y="114"/>
                      <a:pt x="1694" y="112"/>
                      <a:pt x="1694" y="110"/>
                    </a:cubicBezTo>
                    <a:close/>
                    <a:moveTo>
                      <a:pt x="1720" y="120"/>
                    </a:moveTo>
                    <a:cubicBezTo>
                      <a:pt x="1718" y="114"/>
                      <a:pt x="1717" y="109"/>
                      <a:pt x="1717" y="104"/>
                    </a:cubicBezTo>
                    <a:cubicBezTo>
                      <a:pt x="1717" y="102"/>
                      <a:pt x="1717" y="98"/>
                      <a:pt x="1719" y="93"/>
                    </a:cubicBezTo>
                    <a:cubicBezTo>
                      <a:pt x="1720" y="100"/>
                      <a:pt x="1720" y="107"/>
                      <a:pt x="1720" y="112"/>
                    </a:cubicBezTo>
                    <a:cubicBezTo>
                      <a:pt x="1720" y="115"/>
                      <a:pt x="1720" y="117"/>
                      <a:pt x="1720" y="120"/>
                    </a:cubicBezTo>
                    <a:close/>
                    <a:moveTo>
                      <a:pt x="1730" y="145"/>
                    </a:moveTo>
                    <a:cubicBezTo>
                      <a:pt x="1730" y="145"/>
                      <a:pt x="1730" y="145"/>
                      <a:pt x="1730" y="144"/>
                    </a:cubicBezTo>
                    <a:cubicBezTo>
                      <a:pt x="1730" y="139"/>
                      <a:pt x="1730" y="134"/>
                      <a:pt x="1730" y="129"/>
                    </a:cubicBezTo>
                    <a:cubicBezTo>
                      <a:pt x="1731" y="132"/>
                      <a:pt x="1731" y="135"/>
                      <a:pt x="1731" y="137"/>
                    </a:cubicBezTo>
                    <a:cubicBezTo>
                      <a:pt x="1731" y="140"/>
                      <a:pt x="1730" y="142"/>
                      <a:pt x="1730" y="145"/>
                    </a:cubicBezTo>
                    <a:close/>
                    <a:moveTo>
                      <a:pt x="1741" y="145"/>
                    </a:moveTo>
                    <a:cubicBezTo>
                      <a:pt x="1741" y="144"/>
                      <a:pt x="1740" y="143"/>
                      <a:pt x="1740" y="143"/>
                    </a:cubicBezTo>
                    <a:cubicBezTo>
                      <a:pt x="1740" y="142"/>
                      <a:pt x="1740" y="141"/>
                      <a:pt x="1740" y="140"/>
                    </a:cubicBezTo>
                    <a:cubicBezTo>
                      <a:pt x="1741" y="141"/>
                      <a:pt x="1741" y="142"/>
                      <a:pt x="1741" y="143"/>
                    </a:cubicBezTo>
                    <a:cubicBezTo>
                      <a:pt x="1741" y="143"/>
                      <a:pt x="1741" y="144"/>
                      <a:pt x="1741" y="145"/>
                    </a:cubicBezTo>
                    <a:close/>
                    <a:moveTo>
                      <a:pt x="1742" y="138"/>
                    </a:moveTo>
                    <a:cubicBezTo>
                      <a:pt x="1742" y="136"/>
                      <a:pt x="1741" y="135"/>
                      <a:pt x="1741" y="133"/>
                    </a:cubicBezTo>
                    <a:cubicBezTo>
                      <a:pt x="1741" y="129"/>
                      <a:pt x="1741" y="124"/>
                      <a:pt x="1741" y="119"/>
                    </a:cubicBezTo>
                    <a:cubicBezTo>
                      <a:pt x="1742" y="124"/>
                      <a:pt x="1743" y="129"/>
                      <a:pt x="1744" y="134"/>
                    </a:cubicBezTo>
                    <a:cubicBezTo>
                      <a:pt x="1743" y="135"/>
                      <a:pt x="1743" y="137"/>
                      <a:pt x="1742" y="138"/>
                    </a:cubicBezTo>
                    <a:close/>
                    <a:moveTo>
                      <a:pt x="1747" y="154"/>
                    </a:moveTo>
                    <a:cubicBezTo>
                      <a:pt x="1747" y="153"/>
                      <a:pt x="1747" y="152"/>
                      <a:pt x="1747" y="151"/>
                    </a:cubicBezTo>
                    <a:cubicBezTo>
                      <a:pt x="1747" y="151"/>
                      <a:pt x="1747" y="150"/>
                      <a:pt x="1747" y="150"/>
                    </a:cubicBezTo>
                    <a:cubicBezTo>
                      <a:pt x="1747" y="151"/>
                      <a:pt x="1747" y="152"/>
                      <a:pt x="1747" y="154"/>
                    </a:cubicBezTo>
                    <a:cubicBezTo>
                      <a:pt x="1747" y="154"/>
                      <a:pt x="1747" y="154"/>
                      <a:pt x="1747" y="154"/>
                    </a:cubicBezTo>
                    <a:close/>
                    <a:moveTo>
                      <a:pt x="1753" y="139"/>
                    </a:moveTo>
                    <a:cubicBezTo>
                      <a:pt x="1752" y="136"/>
                      <a:pt x="1751" y="134"/>
                      <a:pt x="1751" y="132"/>
                    </a:cubicBezTo>
                    <a:cubicBezTo>
                      <a:pt x="1751" y="129"/>
                      <a:pt x="1752" y="127"/>
                      <a:pt x="1753" y="125"/>
                    </a:cubicBezTo>
                    <a:cubicBezTo>
                      <a:pt x="1753" y="128"/>
                      <a:pt x="1754" y="131"/>
                      <a:pt x="1755" y="134"/>
                    </a:cubicBezTo>
                    <a:cubicBezTo>
                      <a:pt x="1754" y="136"/>
                      <a:pt x="1754" y="137"/>
                      <a:pt x="1753" y="139"/>
                    </a:cubicBezTo>
                    <a:close/>
                    <a:moveTo>
                      <a:pt x="1773" y="114"/>
                    </a:moveTo>
                    <a:cubicBezTo>
                      <a:pt x="1772" y="108"/>
                      <a:pt x="1771" y="101"/>
                      <a:pt x="1771" y="95"/>
                    </a:cubicBezTo>
                    <a:cubicBezTo>
                      <a:pt x="1771" y="88"/>
                      <a:pt x="1772" y="81"/>
                      <a:pt x="1773" y="75"/>
                    </a:cubicBezTo>
                    <a:cubicBezTo>
                      <a:pt x="1775" y="81"/>
                      <a:pt x="1775" y="88"/>
                      <a:pt x="1775" y="95"/>
                    </a:cubicBezTo>
                    <a:cubicBezTo>
                      <a:pt x="1775" y="101"/>
                      <a:pt x="1774" y="108"/>
                      <a:pt x="1773" y="114"/>
                    </a:cubicBezTo>
                    <a:close/>
                    <a:moveTo>
                      <a:pt x="1793" y="139"/>
                    </a:moveTo>
                    <a:cubicBezTo>
                      <a:pt x="1793" y="137"/>
                      <a:pt x="1792" y="136"/>
                      <a:pt x="1792" y="134"/>
                    </a:cubicBezTo>
                    <a:cubicBezTo>
                      <a:pt x="1792" y="131"/>
                      <a:pt x="1793" y="128"/>
                      <a:pt x="1794" y="125"/>
                    </a:cubicBezTo>
                    <a:cubicBezTo>
                      <a:pt x="1794" y="127"/>
                      <a:pt x="1795" y="129"/>
                      <a:pt x="1796" y="132"/>
                    </a:cubicBezTo>
                    <a:cubicBezTo>
                      <a:pt x="1795" y="134"/>
                      <a:pt x="1794" y="136"/>
                      <a:pt x="1793" y="139"/>
                    </a:cubicBezTo>
                    <a:close/>
                    <a:moveTo>
                      <a:pt x="1799" y="154"/>
                    </a:moveTo>
                    <a:cubicBezTo>
                      <a:pt x="1799" y="154"/>
                      <a:pt x="1799" y="154"/>
                      <a:pt x="1799" y="154"/>
                    </a:cubicBezTo>
                    <a:cubicBezTo>
                      <a:pt x="1799" y="152"/>
                      <a:pt x="1799" y="151"/>
                      <a:pt x="1800" y="150"/>
                    </a:cubicBezTo>
                    <a:cubicBezTo>
                      <a:pt x="1800" y="150"/>
                      <a:pt x="1800" y="151"/>
                      <a:pt x="1800" y="151"/>
                    </a:cubicBezTo>
                    <a:cubicBezTo>
                      <a:pt x="1799" y="152"/>
                      <a:pt x="1799" y="153"/>
                      <a:pt x="1799" y="154"/>
                    </a:cubicBezTo>
                    <a:close/>
                    <a:moveTo>
                      <a:pt x="1805" y="119"/>
                    </a:move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19"/>
                    </a:cubicBezTo>
                    <a:close/>
                    <a:moveTo>
                      <a:pt x="1804" y="138"/>
                    </a:moveTo>
                    <a:cubicBezTo>
                      <a:pt x="1804" y="137"/>
                      <a:pt x="1803" y="135"/>
                      <a:pt x="1803" y="134"/>
                    </a:cubicBezTo>
                    <a:cubicBezTo>
                      <a:pt x="1803" y="134"/>
                      <a:pt x="1803" y="134"/>
                      <a:pt x="1803" y="133"/>
                    </a:cubicBezTo>
                    <a:cubicBezTo>
                      <a:pt x="1803" y="134"/>
                      <a:pt x="1804" y="135"/>
                      <a:pt x="1804" y="137"/>
                    </a:cubicBezTo>
                    <a:cubicBezTo>
                      <a:pt x="1804" y="137"/>
                      <a:pt x="1804" y="138"/>
                      <a:pt x="1804" y="138"/>
                    </a:cubicBezTo>
                    <a:close/>
                    <a:moveTo>
                      <a:pt x="1803" y="133"/>
                    </a:moveTo>
                    <a:cubicBezTo>
                      <a:pt x="1803" y="132"/>
                      <a:pt x="1803" y="131"/>
                      <a:pt x="1803" y="130"/>
                    </a:cubicBezTo>
                    <a:cubicBezTo>
                      <a:pt x="1804" y="131"/>
                      <a:pt x="1805" y="133"/>
                      <a:pt x="1805" y="134"/>
                    </a:cubicBezTo>
                    <a:cubicBezTo>
                      <a:pt x="1805" y="135"/>
                      <a:pt x="1805" y="135"/>
                      <a:pt x="1805" y="136"/>
                    </a:cubicBezTo>
                    <a:cubicBezTo>
                      <a:pt x="1804" y="134"/>
                      <a:pt x="1803" y="133"/>
                      <a:pt x="1803" y="133"/>
                    </a:cubicBezTo>
                    <a:close/>
                    <a:moveTo>
                      <a:pt x="1806" y="145"/>
                    </a:moveTo>
                    <a:cubicBezTo>
                      <a:pt x="1805" y="144"/>
                      <a:pt x="1805" y="143"/>
                      <a:pt x="1805" y="143"/>
                    </a:cubicBezTo>
                    <a:cubicBezTo>
                      <a:pt x="1805" y="142"/>
                      <a:pt x="1806" y="141"/>
                      <a:pt x="1806" y="140"/>
                    </a:cubicBezTo>
                    <a:cubicBezTo>
                      <a:pt x="1806" y="140"/>
                      <a:pt x="1806" y="140"/>
                      <a:pt x="1806" y="140"/>
                    </a:cubicBezTo>
                    <a:cubicBezTo>
                      <a:pt x="1806" y="141"/>
                      <a:pt x="1806" y="142"/>
                      <a:pt x="1806" y="143"/>
                    </a:cubicBezTo>
                    <a:cubicBezTo>
                      <a:pt x="1806" y="143"/>
                      <a:pt x="1806" y="144"/>
                      <a:pt x="1806" y="145"/>
                    </a:cubicBezTo>
                    <a:close/>
                    <a:moveTo>
                      <a:pt x="1816" y="134"/>
                    </a:moveTo>
                    <a:cubicBezTo>
                      <a:pt x="1816" y="134"/>
                      <a:pt x="1816" y="133"/>
                      <a:pt x="1816" y="133"/>
                    </a:cubicBezTo>
                    <a:cubicBezTo>
                      <a:pt x="1816" y="132"/>
                      <a:pt x="1816" y="130"/>
                      <a:pt x="1816" y="129"/>
                    </a:cubicBezTo>
                    <a:cubicBezTo>
                      <a:pt x="1816" y="130"/>
                      <a:pt x="1816" y="132"/>
                      <a:pt x="1816" y="134"/>
                    </a:cubicBezTo>
                    <a:close/>
                    <a:moveTo>
                      <a:pt x="1826" y="120"/>
                    </a:moveTo>
                    <a:cubicBezTo>
                      <a:pt x="1826" y="117"/>
                      <a:pt x="1826" y="115"/>
                      <a:pt x="1826" y="112"/>
                    </a:cubicBezTo>
                    <a:cubicBezTo>
                      <a:pt x="1826" y="111"/>
                      <a:pt x="1826" y="111"/>
                      <a:pt x="1826" y="110"/>
                    </a:cubicBezTo>
                    <a:cubicBezTo>
                      <a:pt x="1826" y="113"/>
                      <a:pt x="1826" y="116"/>
                      <a:pt x="1827" y="119"/>
                    </a:cubicBezTo>
                    <a:cubicBezTo>
                      <a:pt x="1827" y="119"/>
                      <a:pt x="1826" y="120"/>
                      <a:pt x="1826" y="120"/>
                    </a:cubicBezTo>
                    <a:close/>
                    <a:moveTo>
                      <a:pt x="1828" y="115"/>
                    </a:moveTo>
                    <a:cubicBezTo>
                      <a:pt x="1827" y="112"/>
                      <a:pt x="1827" y="108"/>
                      <a:pt x="1826" y="104"/>
                    </a:cubicBezTo>
                    <a:cubicBezTo>
                      <a:pt x="1827" y="101"/>
                      <a:pt x="1827" y="97"/>
                      <a:pt x="1828" y="93"/>
                    </a:cubicBezTo>
                    <a:cubicBezTo>
                      <a:pt x="1829" y="98"/>
                      <a:pt x="1829" y="102"/>
                      <a:pt x="1829" y="104"/>
                    </a:cubicBezTo>
                    <a:cubicBezTo>
                      <a:pt x="1829" y="108"/>
                      <a:pt x="1829" y="111"/>
                      <a:pt x="1828" y="115"/>
                    </a:cubicBezTo>
                    <a:close/>
                    <a:moveTo>
                      <a:pt x="1833" y="102"/>
                    </a:moveTo>
                    <a:cubicBezTo>
                      <a:pt x="1833" y="102"/>
                      <a:pt x="1833" y="102"/>
                      <a:pt x="1832" y="103"/>
                    </a:cubicBezTo>
                    <a:cubicBezTo>
                      <a:pt x="1832" y="99"/>
                      <a:pt x="1831" y="94"/>
                      <a:pt x="1828" y="90"/>
                    </a:cubicBezTo>
                    <a:cubicBezTo>
                      <a:pt x="1830" y="84"/>
                      <a:pt x="1832" y="78"/>
                      <a:pt x="1834" y="73"/>
                    </a:cubicBezTo>
                    <a:cubicBezTo>
                      <a:pt x="1833" y="83"/>
                      <a:pt x="1833" y="93"/>
                      <a:pt x="1833" y="102"/>
                    </a:cubicBezTo>
                    <a:close/>
                    <a:moveTo>
                      <a:pt x="1839" y="111"/>
                    </a:moveTo>
                    <a:cubicBezTo>
                      <a:pt x="1839" y="111"/>
                      <a:pt x="1839" y="111"/>
                      <a:pt x="1839" y="111"/>
                    </a:cubicBezTo>
                    <a:cubicBezTo>
                      <a:pt x="1839" y="114"/>
                      <a:pt x="1838" y="116"/>
                      <a:pt x="1838" y="119"/>
                    </a:cubicBezTo>
                    <a:cubicBezTo>
                      <a:pt x="1837" y="114"/>
                      <a:pt x="1837" y="108"/>
                      <a:pt x="1837" y="103"/>
                    </a:cubicBezTo>
                    <a:cubicBezTo>
                      <a:pt x="1837" y="97"/>
                      <a:pt x="1837" y="91"/>
                      <a:pt x="1839" y="85"/>
                    </a:cubicBezTo>
                    <a:cubicBezTo>
                      <a:pt x="1838" y="87"/>
                      <a:pt x="1837" y="89"/>
                      <a:pt x="1836" y="92"/>
                    </a:cubicBezTo>
                    <a:cubicBezTo>
                      <a:pt x="1836" y="87"/>
                      <a:pt x="1836" y="82"/>
                      <a:pt x="1837" y="77"/>
                    </a:cubicBezTo>
                    <a:cubicBezTo>
                      <a:pt x="1839" y="83"/>
                      <a:pt x="1840" y="90"/>
                      <a:pt x="1840" y="96"/>
                    </a:cubicBezTo>
                    <a:cubicBezTo>
                      <a:pt x="1840" y="101"/>
                      <a:pt x="1840" y="106"/>
                      <a:pt x="1839" y="111"/>
                    </a:cubicBezTo>
                    <a:close/>
                    <a:moveTo>
                      <a:pt x="1845" y="127"/>
                    </a:moveTo>
                    <a:cubicBezTo>
                      <a:pt x="1844" y="132"/>
                      <a:pt x="1844" y="134"/>
                      <a:pt x="1844" y="134"/>
                    </a:cubicBezTo>
                    <a:cubicBezTo>
                      <a:pt x="1844" y="129"/>
                      <a:pt x="1845" y="125"/>
                      <a:pt x="1845" y="120"/>
                    </a:cubicBezTo>
                    <a:cubicBezTo>
                      <a:pt x="1845" y="123"/>
                      <a:pt x="1845" y="125"/>
                      <a:pt x="1845" y="127"/>
                    </a:cubicBezTo>
                    <a:close/>
                    <a:moveTo>
                      <a:pt x="1877" y="92"/>
                    </a:moveTo>
                    <a:cubicBezTo>
                      <a:pt x="1877" y="91"/>
                      <a:pt x="1877" y="90"/>
                      <a:pt x="1877" y="89"/>
                    </a:cubicBezTo>
                    <a:cubicBezTo>
                      <a:pt x="1877" y="89"/>
                      <a:pt x="1877" y="90"/>
                      <a:pt x="1877" y="91"/>
                    </a:cubicBezTo>
                    <a:cubicBezTo>
                      <a:pt x="1877" y="91"/>
                      <a:pt x="1877" y="92"/>
                      <a:pt x="1877" y="92"/>
                    </a:cubicBezTo>
                    <a:close/>
                    <a:moveTo>
                      <a:pt x="1880" y="130"/>
                    </a:moveTo>
                    <a:cubicBezTo>
                      <a:pt x="1879" y="132"/>
                      <a:pt x="1879" y="134"/>
                      <a:pt x="1879" y="136"/>
                    </a:cubicBezTo>
                    <a:cubicBezTo>
                      <a:pt x="1878" y="127"/>
                      <a:pt x="1877" y="119"/>
                      <a:pt x="1877" y="110"/>
                    </a:cubicBezTo>
                    <a:cubicBezTo>
                      <a:pt x="1877" y="105"/>
                      <a:pt x="1877" y="99"/>
                      <a:pt x="1878" y="93"/>
                    </a:cubicBezTo>
                    <a:cubicBezTo>
                      <a:pt x="1879" y="99"/>
                      <a:pt x="1880" y="104"/>
                      <a:pt x="1881" y="109"/>
                    </a:cubicBezTo>
                    <a:cubicBezTo>
                      <a:pt x="1880" y="116"/>
                      <a:pt x="1880" y="123"/>
                      <a:pt x="1880" y="130"/>
                    </a:cubicBezTo>
                    <a:close/>
                    <a:moveTo>
                      <a:pt x="1889" y="140"/>
                    </a:moveTo>
                    <a:cubicBezTo>
                      <a:pt x="1889" y="140"/>
                      <a:pt x="1889" y="139"/>
                      <a:pt x="1889" y="139"/>
                    </a:cubicBezTo>
                    <a:cubicBezTo>
                      <a:pt x="1890" y="100"/>
                      <a:pt x="1890" y="100"/>
                      <a:pt x="1890" y="100"/>
                    </a:cubicBezTo>
                    <a:cubicBezTo>
                      <a:pt x="1890" y="106"/>
                      <a:pt x="1891" y="113"/>
                      <a:pt x="1891" y="119"/>
                    </a:cubicBezTo>
                    <a:cubicBezTo>
                      <a:pt x="1891" y="122"/>
                      <a:pt x="1891" y="126"/>
                      <a:pt x="1891" y="129"/>
                    </a:cubicBezTo>
                    <a:cubicBezTo>
                      <a:pt x="1890" y="133"/>
                      <a:pt x="1890" y="136"/>
                      <a:pt x="1889" y="140"/>
                    </a:cubicBezTo>
                    <a:close/>
                    <a:moveTo>
                      <a:pt x="1910" y="105"/>
                    </a:moveTo>
                    <a:cubicBezTo>
                      <a:pt x="1910" y="104"/>
                      <a:pt x="1910" y="102"/>
                      <a:pt x="1910" y="101"/>
                    </a:cubicBezTo>
                    <a:cubicBezTo>
                      <a:pt x="1910" y="102"/>
                      <a:pt x="1911" y="103"/>
                      <a:pt x="1911" y="103"/>
                    </a:cubicBezTo>
                    <a:cubicBezTo>
                      <a:pt x="1910" y="104"/>
                      <a:pt x="1910" y="105"/>
                      <a:pt x="1910" y="105"/>
                    </a:cubicBezTo>
                    <a:close/>
                    <a:moveTo>
                      <a:pt x="1933" y="101"/>
                    </a:moveTo>
                    <a:cubicBezTo>
                      <a:pt x="1932" y="101"/>
                      <a:pt x="1932" y="101"/>
                      <a:pt x="1932" y="100"/>
                    </a:cubicBezTo>
                    <a:cubicBezTo>
                      <a:pt x="1932" y="101"/>
                      <a:pt x="1932" y="101"/>
                      <a:pt x="1933" y="101"/>
                    </a:cubicBezTo>
                    <a:cubicBezTo>
                      <a:pt x="1932" y="111"/>
                      <a:pt x="1931" y="119"/>
                      <a:pt x="1930" y="126"/>
                    </a:cubicBezTo>
                    <a:cubicBezTo>
                      <a:pt x="1929" y="122"/>
                      <a:pt x="1929" y="118"/>
                      <a:pt x="1928" y="114"/>
                    </a:cubicBezTo>
                    <a:cubicBezTo>
                      <a:pt x="1928" y="109"/>
                      <a:pt x="1928" y="103"/>
                      <a:pt x="1928" y="98"/>
                    </a:cubicBezTo>
                    <a:cubicBezTo>
                      <a:pt x="1929" y="92"/>
                      <a:pt x="1931" y="87"/>
                      <a:pt x="1934" y="82"/>
                    </a:cubicBezTo>
                    <a:cubicBezTo>
                      <a:pt x="1933" y="89"/>
                      <a:pt x="1933" y="95"/>
                      <a:pt x="1933" y="101"/>
                    </a:cubicBezTo>
                    <a:close/>
                    <a:moveTo>
                      <a:pt x="1942" y="117"/>
                    </a:moveTo>
                    <a:cubicBezTo>
                      <a:pt x="1942" y="114"/>
                      <a:pt x="1942" y="110"/>
                      <a:pt x="1942" y="106"/>
                    </a:cubicBezTo>
                    <a:cubicBezTo>
                      <a:pt x="1942" y="99"/>
                      <a:pt x="1942" y="90"/>
                      <a:pt x="1945" y="83"/>
                    </a:cubicBezTo>
                    <a:cubicBezTo>
                      <a:pt x="1944" y="95"/>
                      <a:pt x="1943" y="107"/>
                      <a:pt x="1942" y="117"/>
                    </a:cubicBezTo>
                    <a:close/>
                    <a:moveTo>
                      <a:pt x="1948" y="108"/>
                    </a:moveTo>
                    <a:cubicBezTo>
                      <a:pt x="1948" y="106"/>
                      <a:pt x="1948" y="104"/>
                      <a:pt x="1949" y="102"/>
                    </a:cubicBezTo>
                    <a:cubicBezTo>
                      <a:pt x="1949" y="102"/>
                      <a:pt x="1949" y="102"/>
                      <a:pt x="1949" y="103"/>
                    </a:cubicBezTo>
                    <a:cubicBezTo>
                      <a:pt x="1949" y="104"/>
                      <a:pt x="1948" y="106"/>
                      <a:pt x="1948" y="108"/>
                    </a:cubicBezTo>
                    <a:close/>
                    <a:moveTo>
                      <a:pt x="1954" y="111"/>
                    </a:moveTo>
                    <a:cubicBezTo>
                      <a:pt x="1954" y="103"/>
                      <a:pt x="1957" y="95"/>
                      <a:pt x="1959" y="87"/>
                    </a:cubicBezTo>
                    <a:cubicBezTo>
                      <a:pt x="1958" y="95"/>
                      <a:pt x="1956" y="104"/>
                      <a:pt x="1954" y="113"/>
                    </a:cubicBezTo>
                    <a:cubicBezTo>
                      <a:pt x="1954" y="112"/>
                      <a:pt x="1954" y="112"/>
                      <a:pt x="1954" y="111"/>
                    </a:cubicBezTo>
                    <a:close/>
                    <a:moveTo>
                      <a:pt x="1978" y="110"/>
                    </a:moveTo>
                    <a:cubicBezTo>
                      <a:pt x="1978" y="109"/>
                      <a:pt x="1978" y="108"/>
                      <a:pt x="1978" y="107"/>
                    </a:cubicBezTo>
                    <a:cubicBezTo>
                      <a:pt x="1978" y="107"/>
                      <a:pt x="1978" y="108"/>
                      <a:pt x="1978" y="108"/>
                    </a:cubicBezTo>
                    <a:cubicBezTo>
                      <a:pt x="1978" y="109"/>
                      <a:pt x="1978" y="109"/>
                      <a:pt x="1978" y="110"/>
                    </a:cubicBezTo>
                    <a:close/>
                    <a:moveTo>
                      <a:pt x="1989" y="125"/>
                    </a:moveTo>
                    <a:cubicBezTo>
                      <a:pt x="1989" y="123"/>
                      <a:pt x="1989" y="122"/>
                      <a:pt x="1989" y="120"/>
                    </a:cubicBezTo>
                    <a:cubicBezTo>
                      <a:pt x="1989" y="121"/>
                      <a:pt x="1989" y="122"/>
                      <a:pt x="1989" y="123"/>
                    </a:cubicBezTo>
                    <a:cubicBezTo>
                      <a:pt x="1989" y="123"/>
                      <a:pt x="1989" y="124"/>
                      <a:pt x="1989" y="125"/>
                    </a:cubicBezTo>
                    <a:close/>
                    <a:moveTo>
                      <a:pt x="1992" y="115"/>
                    </a:moveTo>
                    <a:cubicBezTo>
                      <a:pt x="1991" y="117"/>
                      <a:pt x="1991" y="118"/>
                      <a:pt x="1990" y="119"/>
                    </a:cubicBezTo>
                    <a:cubicBezTo>
                      <a:pt x="1990" y="118"/>
                      <a:pt x="1989" y="116"/>
                      <a:pt x="1989" y="114"/>
                    </a:cubicBezTo>
                    <a:cubicBezTo>
                      <a:pt x="1989" y="110"/>
                      <a:pt x="1989" y="105"/>
                      <a:pt x="1989" y="100"/>
                    </a:cubicBezTo>
                    <a:cubicBezTo>
                      <a:pt x="1990" y="94"/>
                      <a:pt x="1993" y="89"/>
                      <a:pt x="1996" y="84"/>
                    </a:cubicBezTo>
                    <a:cubicBezTo>
                      <a:pt x="1995" y="93"/>
                      <a:pt x="1993" y="105"/>
                      <a:pt x="1992" y="115"/>
                    </a:cubicBezTo>
                    <a:close/>
                    <a:moveTo>
                      <a:pt x="1999" y="90"/>
                    </a:moveTo>
                    <a:cubicBezTo>
                      <a:pt x="1999" y="88"/>
                      <a:pt x="1998" y="84"/>
                      <a:pt x="1998" y="80"/>
                    </a:cubicBezTo>
                    <a:cubicBezTo>
                      <a:pt x="1998" y="80"/>
                      <a:pt x="1998" y="80"/>
                      <a:pt x="1998" y="80"/>
                    </a:cubicBezTo>
                    <a:cubicBezTo>
                      <a:pt x="1999" y="81"/>
                      <a:pt x="2000" y="83"/>
                      <a:pt x="2000" y="84"/>
                    </a:cubicBezTo>
                    <a:cubicBezTo>
                      <a:pt x="2000" y="88"/>
                      <a:pt x="1999" y="90"/>
                      <a:pt x="1999" y="90"/>
                    </a:cubicBezTo>
                    <a:close/>
                    <a:moveTo>
                      <a:pt x="2001" y="83"/>
                    </a:moveTo>
                    <a:cubicBezTo>
                      <a:pt x="2000" y="81"/>
                      <a:pt x="1999" y="80"/>
                      <a:pt x="1998" y="79"/>
                    </a:cubicBezTo>
                    <a:cubicBezTo>
                      <a:pt x="1999" y="78"/>
                      <a:pt x="2000" y="76"/>
                      <a:pt x="2002" y="75"/>
                    </a:cubicBezTo>
                    <a:cubicBezTo>
                      <a:pt x="2001" y="78"/>
                      <a:pt x="2001" y="81"/>
                      <a:pt x="2001" y="83"/>
                    </a:cubicBezTo>
                    <a:close/>
                    <a:moveTo>
                      <a:pt x="2007" y="104"/>
                    </a:moveTo>
                    <a:cubicBezTo>
                      <a:pt x="2008" y="105"/>
                      <a:pt x="2008" y="107"/>
                      <a:pt x="2008" y="109"/>
                    </a:cubicBezTo>
                    <a:cubicBezTo>
                      <a:pt x="2008" y="111"/>
                      <a:pt x="2007" y="112"/>
                      <a:pt x="2007" y="114"/>
                    </a:cubicBezTo>
                    <a:cubicBezTo>
                      <a:pt x="2007" y="110"/>
                      <a:pt x="2007" y="107"/>
                      <a:pt x="2007" y="104"/>
                    </a:cubicBezTo>
                    <a:close/>
                    <a:moveTo>
                      <a:pt x="2003" y="91"/>
                    </a:move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lose/>
                    <a:moveTo>
                      <a:pt x="2003" y="124"/>
                    </a:moveTo>
                    <a:cubicBezTo>
                      <a:pt x="2004" y="114"/>
                      <a:pt x="2004" y="102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5" y="94"/>
                      <a:pt x="2006" y="98"/>
                      <a:pt x="2007" y="101"/>
                    </a:cubicBezTo>
                    <a:cubicBezTo>
                      <a:pt x="2005" y="120"/>
                      <a:pt x="2005" y="120"/>
                      <a:pt x="2005" y="120"/>
                    </a:cubicBezTo>
                    <a:cubicBezTo>
                      <a:pt x="2004" y="121"/>
                      <a:pt x="2004" y="122"/>
                      <a:pt x="2003" y="124"/>
                    </a:cubicBezTo>
                    <a:close/>
                    <a:moveTo>
                      <a:pt x="2006" y="136"/>
                    </a:moveTo>
                    <a:cubicBezTo>
                      <a:pt x="2006" y="134"/>
                      <a:pt x="2006" y="133"/>
                      <a:pt x="2006" y="131"/>
                    </a:cubicBezTo>
                    <a:cubicBezTo>
                      <a:pt x="2007" y="126"/>
                      <a:pt x="2008" y="121"/>
                      <a:pt x="2009" y="116"/>
                    </a:cubicBezTo>
                    <a:cubicBezTo>
                      <a:pt x="2010" y="118"/>
                      <a:pt x="2010" y="121"/>
                      <a:pt x="2010" y="123"/>
                    </a:cubicBezTo>
                    <a:cubicBezTo>
                      <a:pt x="2010" y="124"/>
                      <a:pt x="2010" y="124"/>
                      <a:pt x="2010" y="124"/>
                    </a:cubicBezTo>
                    <a:cubicBezTo>
                      <a:pt x="2009" y="128"/>
                      <a:pt x="2007" y="132"/>
                      <a:pt x="2006" y="136"/>
                    </a:cubicBezTo>
                    <a:close/>
                    <a:moveTo>
                      <a:pt x="2010" y="141"/>
                    </a:moveTo>
                    <a:cubicBezTo>
                      <a:pt x="2010" y="141"/>
                      <a:pt x="2010" y="141"/>
                      <a:pt x="2010" y="141"/>
                    </a:cubicBezTo>
                    <a:cubicBezTo>
                      <a:pt x="2011" y="139"/>
                      <a:pt x="2011" y="137"/>
                      <a:pt x="2012" y="135"/>
                    </a:cubicBezTo>
                    <a:cubicBezTo>
                      <a:pt x="2012" y="135"/>
                      <a:pt x="2012" y="135"/>
                      <a:pt x="2012" y="135"/>
                    </a:cubicBezTo>
                    <a:cubicBezTo>
                      <a:pt x="2012" y="137"/>
                      <a:pt x="2011" y="139"/>
                      <a:pt x="2010" y="141"/>
                    </a:cubicBezTo>
                    <a:close/>
                    <a:moveTo>
                      <a:pt x="2017" y="119"/>
                    </a:moveTo>
                    <a:cubicBezTo>
                      <a:pt x="2016" y="119"/>
                      <a:pt x="2016" y="118"/>
                      <a:pt x="2016" y="118"/>
                    </a:cubicBezTo>
                    <a:cubicBezTo>
                      <a:pt x="2016" y="116"/>
                      <a:pt x="2017" y="115"/>
                      <a:pt x="2017" y="113"/>
                    </a:cubicBezTo>
                    <a:cubicBezTo>
                      <a:pt x="2017" y="112"/>
                      <a:pt x="2017" y="112"/>
                      <a:pt x="2017" y="111"/>
                    </a:cubicBezTo>
                    <a:cubicBezTo>
                      <a:pt x="2018" y="112"/>
                      <a:pt x="2018" y="113"/>
                      <a:pt x="2018" y="115"/>
                    </a:cubicBezTo>
                    <a:cubicBezTo>
                      <a:pt x="2018" y="116"/>
                      <a:pt x="2017" y="118"/>
                      <a:pt x="2017" y="119"/>
                    </a:cubicBezTo>
                    <a:close/>
                    <a:moveTo>
                      <a:pt x="2024" y="136"/>
                    </a:moveTo>
                    <a:cubicBezTo>
                      <a:pt x="2023" y="135"/>
                      <a:pt x="2023" y="134"/>
                      <a:pt x="2022" y="133"/>
                    </a:cubicBezTo>
                    <a:cubicBezTo>
                      <a:pt x="2022" y="132"/>
                      <a:pt x="2022" y="132"/>
                      <a:pt x="2022" y="131"/>
                    </a:cubicBezTo>
                    <a:cubicBezTo>
                      <a:pt x="2023" y="133"/>
                      <a:pt x="2023" y="134"/>
                      <a:pt x="2024" y="136"/>
                    </a:cubicBezTo>
                    <a:cubicBezTo>
                      <a:pt x="2024" y="136"/>
                      <a:pt x="2024" y="136"/>
                      <a:pt x="2024" y="136"/>
                    </a:cubicBezTo>
                    <a:close/>
                    <a:moveTo>
                      <a:pt x="2038" y="118"/>
                    </a:moveTo>
                    <a:cubicBezTo>
                      <a:pt x="2038" y="118"/>
                      <a:pt x="2038" y="117"/>
                      <a:pt x="2038" y="117"/>
                    </a:cubicBezTo>
                    <a:cubicBezTo>
                      <a:pt x="2038" y="117"/>
                      <a:pt x="2038" y="117"/>
                      <a:pt x="2038" y="117"/>
                    </a:cubicBezTo>
                    <a:cubicBezTo>
                      <a:pt x="2038" y="118"/>
                      <a:pt x="2038" y="118"/>
                      <a:pt x="2038" y="118"/>
                    </a:cubicBezTo>
                    <a:close/>
                    <a:moveTo>
                      <a:pt x="2044" y="105"/>
                    </a:moveTo>
                    <a:cubicBezTo>
                      <a:pt x="2043" y="106"/>
                      <a:pt x="2042" y="107"/>
                      <a:pt x="2042" y="109"/>
                    </a:cubicBezTo>
                    <a:cubicBezTo>
                      <a:pt x="2041" y="107"/>
                      <a:pt x="2041" y="106"/>
                      <a:pt x="2041" y="104"/>
                    </a:cubicBezTo>
                    <a:cubicBezTo>
                      <a:pt x="2042" y="101"/>
                      <a:pt x="2044" y="98"/>
                      <a:pt x="2045" y="94"/>
                    </a:cubicBezTo>
                    <a:cubicBezTo>
                      <a:pt x="2044" y="98"/>
                      <a:pt x="2044" y="101"/>
                      <a:pt x="2044" y="105"/>
                    </a:cubicBezTo>
                    <a:close/>
                    <a:moveTo>
                      <a:pt x="2049" y="138"/>
                    </a:moveTo>
                    <a:cubicBezTo>
                      <a:pt x="2049" y="137"/>
                      <a:pt x="2049" y="136"/>
                      <a:pt x="2048" y="135"/>
                    </a:cubicBezTo>
                    <a:cubicBezTo>
                      <a:pt x="2048" y="133"/>
                      <a:pt x="2048" y="131"/>
                      <a:pt x="2048" y="129"/>
                    </a:cubicBezTo>
                    <a:cubicBezTo>
                      <a:pt x="2049" y="131"/>
                      <a:pt x="2049" y="133"/>
                      <a:pt x="2050" y="134"/>
                    </a:cubicBezTo>
                    <a:cubicBezTo>
                      <a:pt x="2050" y="135"/>
                      <a:pt x="2050" y="137"/>
                      <a:pt x="2049" y="138"/>
                    </a:cubicBezTo>
                    <a:close/>
                    <a:moveTo>
                      <a:pt x="2051" y="123"/>
                    </a:moveTo>
                    <a:cubicBezTo>
                      <a:pt x="2050" y="121"/>
                      <a:pt x="2049" y="118"/>
                      <a:pt x="2049" y="116"/>
                    </a:cubicBezTo>
                    <a:cubicBezTo>
                      <a:pt x="2050" y="112"/>
                      <a:pt x="2051" y="107"/>
                      <a:pt x="2052" y="103"/>
                    </a:cubicBezTo>
                    <a:cubicBezTo>
                      <a:pt x="2052" y="110"/>
                      <a:pt x="2051" y="117"/>
                      <a:pt x="2051" y="123"/>
                    </a:cubicBezTo>
                    <a:close/>
                    <a:moveTo>
                      <a:pt x="2056" y="69"/>
                    </a:moveTo>
                    <a:cubicBezTo>
                      <a:pt x="2058" y="72"/>
                      <a:pt x="2060" y="75"/>
                      <a:pt x="2061" y="79"/>
                    </a:cubicBezTo>
                    <a:cubicBezTo>
                      <a:pt x="2061" y="79"/>
                      <a:pt x="2061" y="79"/>
                      <a:pt x="2061" y="79"/>
                    </a:cubicBezTo>
                    <a:cubicBezTo>
                      <a:pt x="2059" y="76"/>
                      <a:pt x="2058" y="72"/>
                      <a:pt x="2056" y="69"/>
                    </a:cubicBezTo>
                    <a:cubicBezTo>
                      <a:pt x="2056" y="69"/>
                      <a:pt x="2056" y="69"/>
                      <a:pt x="2056" y="69"/>
                    </a:cubicBezTo>
                    <a:close/>
                    <a:moveTo>
                      <a:pt x="2056" y="74"/>
                    </a:moveTo>
                    <a:cubicBezTo>
                      <a:pt x="2057" y="76"/>
                      <a:pt x="2058" y="79"/>
                      <a:pt x="2059" y="81"/>
                    </a:cubicBezTo>
                    <a:cubicBezTo>
                      <a:pt x="2058" y="82"/>
                      <a:pt x="2057" y="83"/>
                      <a:pt x="2056" y="85"/>
                    </a:cubicBezTo>
                    <a:cubicBezTo>
                      <a:pt x="2056" y="81"/>
                      <a:pt x="2056" y="77"/>
                      <a:pt x="2056" y="74"/>
                    </a:cubicBezTo>
                    <a:close/>
                    <a:moveTo>
                      <a:pt x="2057" y="120"/>
                    </a:moveTo>
                    <a:cubicBezTo>
                      <a:pt x="2057" y="115"/>
                      <a:pt x="2057" y="111"/>
                      <a:pt x="2057" y="106"/>
                    </a:cubicBezTo>
                    <a:cubicBezTo>
                      <a:pt x="2058" y="109"/>
                      <a:pt x="2058" y="112"/>
                      <a:pt x="2059" y="114"/>
                    </a:cubicBezTo>
                    <a:cubicBezTo>
                      <a:pt x="2058" y="116"/>
                      <a:pt x="2058" y="118"/>
                      <a:pt x="2057" y="120"/>
                    </a:cubicBezTo>
                    <a:close/>
                    <a:moveTo>
                      <a:pt x="2060" y="109"/>
                    </a:moveTo>
                    <a:cubicBezTo>
                      <a:pt x="2059" y="107"/>
                      <a:pt x="2058" y="104"/>
                      <a:pt x="2057" y="102"/>
                    </a:cubicBezTo>
                    <a:cubicBezTo>
                      <a:pt x="2057" y="99"/>
                      <a:pt x="2057" y="97"/>
                      <a:pt x="2057" y="94"/>
                    </a:cubicBezTo>
                    <a:cubicBezTo>
                      <a:pt x="2058" y="98"/>
                      <a:pt x="2059" y="102"/>
                      <a:pt x="2061" y="107"/>
                    </a:cubicBezTo>
                    <a:cubicBezTo>
                      <a:pt x="2061" y="108"/>
                      <a:pt x="2060" y="108"/>
                      <a:pt x="2060" y="109"/>
                    </a:cubicBezTo>
                    <a:close/>
                    <a:moveTo>
                      <a:pt x="2064" y="96"/>
                    </a:moveTo>
                    <a:cubicBezTo>
                      <a:pt x="2063" y="98"/>
                      <a:pt x="2062" y="101"/>
                      <a:pt x="2062" y="104"/>
                    </a:cubicBezTo>
                    <a:cubicBezTo>
                      <a:pt x="2060" y="100"/>
                      <a:pt x="2058" y="96"/>
                      <a:pt x="2057" y="92"/>
                    </a:cubicBezTo>
                    <a:cubicBezTo>
                      <a:pt x="2057" y="92"/>
                      <a:pt x="2057" y="92"/>
                      <a:pt x="2057" y="92"/>
                    </a:cubicBezTo>
                    <a:cubicBezTo>
                      <a:pt x="2058" y="89"/>
                      <a:pt x="2059" y="86"/>
                      <a:pt x="2061" y="84"/>
                    </a:cubicBezTo>
                    <a:cubicBezTo>
                      <a:pt x="2062" y="87"/>
                      <a:pt x="2063" y="90"/>
                      <a:pt x="2064" y="93"/>
                    </a:cubicBezTo>
                    <a:cubicBezTo>
                      <a:pt x="2064" y="94"/>
                      <a:pt x="2064" y="95"/>
                      <a:pt x="2064" y="96"/>
                    </a:cubicBezTo>
                    <a:close/>
                    <a:moveTo>
                      <a:pt x="2065" y="90"/>
                    </a:moveTo>
                    <a:cubicBezTo>
                      <a:pt x="2064" y="87"/>
                      <a:pt x="2063" y="84"/>
                      <a:pt x="2062" y="82"/>
                    </a:cubicBezTo>
                    <a:cubicBezTo>
                      <a:pt x="2062" y="81"/>
                      <a:pt x="2062" y="81"/>
                      <a:pt x="2062" y="81"/>
                    </a:cubicBezTo>
                    <a:cubicBezTo>
                      <a:pt x="2063" y="83"/>
                      <a:pt x="2064" y="86"/>
                      <a:pt x="2065" y="89"/>
                    </a:cubicBezTo>
                    <a:cubicBezTo>
                      <a:pt x="2065" y="89"/>
                      <a:pt x="2065" y="89"/>
                      <a:pt x="2065" y="90"/>
                    </a:cubicBezTo>
                    <a:close/>
                    <a:moveTo>
                      <a:pt x="2063" y="79"/>
                    </a:moveTo>
                    <a:cubicBezTo>
                      <a:pt x="2064" y="78"/>
                      <a:pt x="2065" y="77"/>
                      <a:pt x="2065" y="77"/>
                    </a:cubicBezTo>
                    <a:cubicBezTo>
                      <a:pt x="2066" y="78"/>
                      <a:pt x="2066" y="79"/>
                      <a:pt x="2067" y="80"/>
                    </a:cubicBezTo>
                    <a:cubicBezTo>
                      <a:pt x="2067" y="82"/>
                      <a:pt x="2066" y="84"/>
                      <a:pt x="2066" y="85"/>
                    </a:cubicBezTo>
                    <a:cubicBezTo>
                      <a:pt x="2065" y="83"/>
                      <a:pt x="2064" y="81"/>
                      <a:pt x="2063" y="79"/>
                    </a:cubicBezTo>
                    <a:close/>
                    <a:moveTo>
                      <a:pt x="2066" y="116"/>
                    </a:moveTo>
                    <a:cubicBezTo>
                      <a:pt x="2066" y="111"/>
                      <a:pt x="2067" y="106"/>
                      <a:pt x="2067" y="102"/>
                    </a:cubicBezTo>
                    <a:cubicBezTo>
                      <a:pt x="2068" y="105"/>
                      <a:pt x="2069" y="108"/>
                      <a:pt x="2070" y="111"/>
                    </a:cubicBezTo>
                    <a:cubicBezTo>
                      <a:pt x="2069" y="113"/>
                      <a:pt x="2068" y="116"/>
                      <a:pt x="2067" y="118"/>
                    </a:cubicBezTo>
                    <a:cubicBezTo>
                      <a:pt x="2067" y="117"/>
                      <a:pt x="2066" y="117"/>
                      <a:pt x="2066" y="116"/>
                    </a:cubicBezTo>
                    <a:close/>
                    <a:moveTo>
                      <a:pt x="2071" y="130"/>
                    </a:moveTo>
                    <a:cubicBezTo>
                      <a:pt x="2070" y="128"/>
                      <a:pt x="2070" y="127"/>
                      <a:pt x="2069" y="125"/>
                    </a:cubicBezTo>
                    <a:cubicBezTo>
                      <a:pt x="2070" y="123"/>
                      <a:pt x="2070" y="122"/>
                      <a:pt x="2071" y="120"/>
                    </a:cubicBezTo>
                    <a:cubicBezTo>
                      <a:pt x="2071" y="122"/>
                      <a:pt x="2071" y="124"/>
                      <a:pt x="2071" y="127"/>
                    </a:cubicBezTo>
                    <a:cubicBezTo>
                      <a:pt x="2071" y="128"/>
                      <a:pt x="2071" y="129"/>
                      <a:pt x="2071" y="130"/>
                    </a:cubicBezTo>
                    <a:close/>
                    <a:moveTo>
                      <a:pt x="2073" y="105"/>
                    </a:moveTo>
                    <a:cubicBezTo>
                      <a:pt x="2071" y="100"/>
                      <a:pt x="2070" y="95"/>
                      <a:pt x="2068" y="91"/>
                    </a:cubicBezTo>
                    <a:cubicBezTo>
                      <a:pt x="2068" y="89"/>
                      <a:pt x="2068" y="87"/>
                      <a:pt x="2069" y="85"/>
                    </a:cubicBezTo>
                    <a:cubicBezTo>
                      <a:pt x="2071" y="91"/>
                      <a:pt x="2072" y="97"/>
                      <a:pt x="2074" y="103"/>
                    </a:cubicBezTo>
                    <a:cubicBezTo>
                      <a:pt x="2073" y="104"/>
                      <a:pt x="2073" y="105"/>
                      <a:pt x="2073" y="105"/>
                    </a:cubicBezTo>
                    <a:close/>
                    <a:moveTo>
                      <a:pt x="2074" y="111"/>
                    </a:moveTo>
                    <a:cubicBezTo>
                      <a:pt x="2074" y="110"/>
                      <a:pt x="2074" y="110"/>
                      <a:pt x="2074" y="109"/>
                    </a:cubicBezTo>
                    <a:cubicBezTo>
                      <a:pt x="2074" y="109"/>
                      <a:pt x="2074" y="108"/>
                      <a:pt x="2075" y="107"/>
                    </a:cubicBezTo>
                    <a:cubicBezTo>
                      <a:pt x="2075" y="108"/>
                      <a:pt x="2075" y="109"/>
                      <a:pt x="2075" y="109"/>
                    </a:cubicBezTo>
                    <a:cubicBezTo>
                      <a:pt x="2075" y="110"/>
                      <a:pt x="2075" y="110"/>
                      <a:pt x="2074" y="111"/>
                    </a:cubicBezTo>
                    <a:close/>
                    <a:moveTo>
                      <a:pt x="2085" y="94"/>
                    </a:moveTo>
                    <a:cubicBezTo>
                      <a:pt x="2085" y="95"/>
                      <a:pt x="2085" y="95"/>
                      <a:pt x="2086" y="96"/>
                    </a:cubicBezTo>
                    <a:cubicBezTo>
                      <a:pt x="2085" y="97"/>
                      <a:pt x="2085" y="97"/>
                      <a:pt x="2085" y="98"/>
                    </a:cubicBezTo>
                    <a:cubicBezTo>
                      <a:pt x="2085" y="96"/>
                      <a:pt x="2085" y="95"/>
                      <a:pt x="2085" y="94"/>
                    </a:cubicBezTo>
                    <a:close/>
                    <a:moveTo>
                      <a:pt x="2087" y="109"/>
                    </a:moveTo>
                    <a:cubicBezTo>
                      <a:pt x="2086" y="106"/>
                      <a:pt x="2086" y="104"/>
                      <a:pt x="2085" y="102"/>
                    </a:cubicBezTo>
                    <a:cubicBezTo>
                      <a:pt x="2085" y="101"/>
                      <a:pt x="2085" y="99"/>
                      <a:pt x="2085" y="98"/>
                    </a:cubicBezTo>
                    <a:cubicBezTo>
                      <a:pt x="2085" y="98"/>
                      <a:pt x="2086" y="97"/>
                      <a:pt x="2086" y="97"/>
                    </a:cubicBezTo>
                    <a:cubicBezTo>
                      <a:pt x="2086" y="98"/>
                      <a:pt x="2087" y="100"/>
                      <a:pt x="2087" y="102"/>
                    </a:cubicBezTo>
                    <a:cubicBezTo>
                      <a:pt x="2087" y="104"/>
                      <a:pt x="2087" y="107"/>
                      <a:pt x="2087" y="109"/>
                    </a:cubicBezTo>
                    <a:close/>
                    <a:moveTo>
                      <a:pt x="2089" y="84"/>
                    </a:moveTo>
                    <a:cubicBezTo>
                      <a:pt x="2089" y="89"/>
                      <a:pt x="2088" y="94"/>
                      <a:pt x="2088" y="98"/>
                    </a:cubicBezTo>
                    <a:cubicBezTo>
                      <a:pt x="2087" y="97"/>
                      <a:pt x="2087" y="96"/>
                      <a:pt x="2086" y="95"/>
                    </a:cubicBezTo>
                    <a:cubicBezTo>
                      <a:pt x="2087" y="94"/>
                      <a:pt x="2088" y="92"/>
                      <a:pt x="2088" y="91"/>
                    </a:cubicBezTo>
                    <a:cubicBezTo>
                      <a:pt x="2088" y="92"/>
                      <a:pt x="2087" y="94"/>
                      <a:pt x="2086" y="95"/>
                    </a:cubicBezTo>
                    <a:cubicBezTo>
                      <a:pt x="2086" y="94"/>
                      <a:pt x="2085" y="93"/>
                      <a:pt x="2085" y="92"/>
                    </a:cubicBezTo>
                    <a:cubicBezTo>
                      <a:pt x="2085" y="90"/>
                      <a:pt x="2085" y="88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4" y="75"/>
                      <a:pt x="2084" y="65"/>
                      <a:pt x="2084" y="56"/>
                    </a:cubicBezTo>
                    <a:cubicBezTo>
                      <a:pt x="2087" y="58"/>
                      <a:pt x="2089" y="61"/>
                      <a:pt x="2092" y="63"/>
                    </a:cubicBezTo>
                    <a:cubicBezTo>
                      <a:pt x="2091" y="69"/>
                      <a:pt x="2090" y="76"/>
                      <a:pt x="2089" y="84"/>
                    </a:cubicBezTo>
                    <a:cubicBezTo>
                      <a:pt x="2089" y="82"/>
                      <a:pt x="2088" y="81"/>
                      <a:pt x="2088" y="79"/>
                    </a:cubicBezTo>
                    <a:cubicBezTo>
                      <a:pt x="2088" y="81"/>
                      <a:pt x="2089" y="83"/>
                      <a:pt x="2089" y="84"/>
                    </a:cubicBezTo>
                    <a:close/>
                    <a:moveTo>
                      <a:pt x="2090" y="139"/>
                    </a:moveTo>
                    <a:cubicBezTo>
                      <a:pt x="2090" y="134"/>
                      <a:pt x="2090" y="128"/>
                      <a:pt x="2090" y="121"/>
                    </a:cubicBezTo>
                    <a:cubicBezTo>
                      <a:pt x="2090" y="125"/>
                      <a:pt x="2090" y="129"/>
                      <a:pt x="2091" y="133"/>
                    </a:cubicBezTo>
                    <a:cubicBezTo>
                      <a:pt x="2091" y="135"/>
                      <a:pt x="2091" y="137"/>
                      <a:pt x="2090" y="139"/>
                    </a:cubicBezTo>
                    <a:close/>
                    <a:moveTo>
                      <a:pt x="2090" y="104"/>
                    </a:moveTo>
                    <a:cubicBezTo>
                      <a:pt x="2090" y="102"/>
                      <a:pt x="2090" y="99"/>
                      <a:pt x="2091" y="96"/>
                    </a:cubicBezTo>
                    <a:cubicBezTo>
                      <a:pt x="2091" y="100"/>
                      <a:pt x="2091" y="104"/>
                      <a:pt x="2091" y="107"/>
                    </a:cubicBezTo>
                    <a:cubicBezTo>
                      <a:pt x="2091" y="106"/>
                      <a:pt x="2091" y="105"/>
                      <a:pt x="2090" y="104"/>
                    </a:cubicBezTo>
                    <a:close/>
                    <a:moveTo>
                      <a:pt x="2102" y="85"/>
                    </a:moveTo>
                    <a:cubicBezTo>
                      <a:pt x="2101" y="90"/>
                      <a:pt x="2100" y="96"/>
                      <a:pt x="2099" y="103"/>
                    </a:cubicBezTo>
                    <a:cubicBezTo>
                      <a:pt x="2099" y="101"/>
                      <a:pt x="2099" y="100"/>
                      <a:pt x="2098" y="99"/>
                    </a:cubicBezTo>
                    <a:cubicBezTo>
                      <a:pt x="2098" y="96"/>
                      <a:pt x="2097" y="93"/>
                      <a:pt x="2096" y="90"/>
                    </a:cubicBezTo>
                    <a:cubicBezTo>
                      <a:pt x="2097" y="93"/>
                      <a:pt x="2097" y="96"/>
                      <a:pt x="2097" y="99"/>
                    </a:cubicBezTo>
                    <a:cubicBezTo>
                      <a:pt x="2097" y="104"/>
                      <a:pt x="2096" y="112"/>
                      <a:pt x="2096" y="120"/>
                    </a:cubicBezTo>
                    <a:cubicBezTo>
                      <a:pt x="2095" y="110"/>
                      <a:pt x="2093" y="100"/>
                      <a:pt x="2091" y="91"/>
                    </a:cubicBezTo>
                    <a:cubicBezTo>
                      <a:pt x="2092" y="81"/>
                      <a:pt x="2093" y="72"/>
                      <a:pt x="2093" y="65"/>
                    </a:cubicBezTo>
                    <a:cubicBezTo>
                      <a:pt x="2097" y="69"/>
                      <a:pt x="2100" y="74"/>
                      <a:pt x="2102" y="79"/>
                    </a:cubicBezTo>
                    <a:cubicBezTo>
                      <a:pt x="2102" y="81"/>
                      <a:pt x="2102" y="83"/>
                      <a:pt x="2102" y="85"/>
                    </a:cubicBezTo>
                    <a:close/>
                    <a:moveTo>
                      <a:pt x="2102" y="75"/>
                    </a:moveTo>
                    <a:cubicBezTo>
                      <a:pt x="2102" y="75"/>
                      <a:pt x="2102" y="75"/>
                      <a:pt x="2102" y="75"/>
                    </a:cubicBezTo>
                    <a:cubicBezTo>
                      <a:pt x="2102" y="73"/>
                      <a:pt x="2102" y="72"/>
                      <a:pt x="2101" y="70"/>
                    </a:cubicBezTo>
                    <a:cubicBezTo>
                      <a:pt x="2101" y="70"/>
                      <a:pt x="2102" y="72"/>
                      <a:pt x="2102" y="75"/>
                    </a:cubicBezTo>
                    <a:cubicBezTo>
                      <a:pt x="2099" y="71"/>
                      <a:pt x="2097" y="67"/>
                      <a:pt x="2093" y="64"/>
                    </a:cubicBezTo>
                    <a:cubicBezTo>
                      <a:pt x="2094" y="60"/>
                      <a:pt x="2094" y="57"/>
                      <a:pt x="2095" y="54"/>
                    </a:cubicBezTo>
                    <a:cubicBezTo>
                      <a:pt x="2098" y="58"/>
                      <a:pt x="2101" y="62"/>
                      <a:pt x="2103" y="65"/>
                    </a:cubicBezTo>
                    <a:cubicBezTo>
                      <a:pt x="2103" y="68"/>
                      <a:pt x="2102" y="71"/>
                      <a:pt x="2102" y="75"/>
                    </a:cubicBezTo>
                    <a:close/>
                    <a:moveTo>
                      <a:pt x="2106" y="117"/>
                    </a:moveTo>
                    <a:cubicBezTo>
                      <a:pt x="2105" y="120"/>
                      <a:pt x="2104" y="122"/>
                      <a:pt x="2104" y="125"/>
                    </a:cubicBezTo>
                    <a:cubicBezTo>
                      <a:pt x="2104" y="124"/>
                      <a:pt x="2104" y="123"/>
                      <a:pt x="2104" y="122"/>
                    </a:cubicBezTo>
                    <a:cubicBezTo>
                      <a:pt x="2104" y="110"/>
                      <a:pt x="2104" y="98"/>
                      <a:pt x="2105" y="87"/>
                    </a:cubicBezTo>
                    <a:cubicBezTo>
                      <a:pt x="2106" y="92"/>
                      <a:pt x="2107" y="98"/>
                      <a:pt x="2108" y="103"/>
                    </a:cubicBezTo>
                    <a:cubicBezTo>
                      <a:pt x="2107" y="108"/>
                      <a:pt x="2106" y="112"/>
                      <a:pt x="2106" y="117"/>
                    </a:cubicBezTo>
                    <a:close/>
                    <a:moveTo>
                      <a:pt x="2109" y="89"/>
                    </a:moveTo>
                    <a:cubicBezTo>
                      <a:pt x="2108" y="86"/>
                      <a:pt x="2106" y="83"/>
                      <a:pt x="2105" y="80"/>
                    </a:cubicBezTo>
                    <a:cubicBezTo>
                      <a:pt x="2105" y="76"/>
                      <a:pt x="2105" y="72"/>
                      <a:pt x="2105" y="68"/>
                    </a:cubicBezTo>
                    <a:cubicBezTo>
                      <a:pt x="2107" y="71"/>
                      <a:pt x="2109" y="74"/>
                      <a:pt x="2111" y="78"/>
                    </a:cubicBezTo>
                    <a:cubicBezTo>
                      <a:pt x="2110" y="81"/>
                      <a:pt x="2110" y="85"/>
                      <a:pt x="2109" y="89"/>
                    </a:cubicBezTo>
                    <a:close/>
                    <a:moveTo>
                      <a:pt x="2114" y="96"/>
                    </a:moveTo>
                    <a:cubicBezTo>
                      <a:pt x="2114" y="97"/>
                      <a:pt x="2113" y="98"/>
                      <a:pt x="2113" y="99"/>
                    </a:cubicBezTo>
                    <a:cubicBezTo>
                      <a:pt x="2112" y="98"/>
                      <a:pt x="2112" y="97"/>
                      <a:pt x="2112" y="96"/>
                    </a:cubicBezTo>
                    <a:cubicBezTo>
                      <a:pt x="2112" y="91"/>
                      <a:pt x="2112" y="86"/>
                      <a:pt x="2112" y="80"/>
                    </a:cubicBezTo>
                    <a:cubicBezTo>
                      <a:pt x="2113" y="83"/>
                      <a:pt x="2114" y="86"/>
                      <a:pt x="2115" y="88"/>
                    </a:cubicBezTo>
                    <a:cubicBezTo>
                      <a:pt x="2115" y="91"/>
                      <a:pt x="2115" y="93"/>
                      <a:pt x="2114" y="96"/>
                    </a:cubicBezTo>
                    <a:close/>
                    <a:moveTo>
                      <a:pt x="2136" y="105"/>
                    </a:moveTo>
                    <a:cubicBezTo>
                      <a:pt x="2135" y="103"/>
                      <a:pt x="2135" y="102"/>
                      <a:pt x="2134" y="101"/>
                    </a:cubicBezTo>
                    <a:cubicBezTo>
                      <a:pt x="2136" y="96"/>
                      <a:pt x="2137" y="92"/>
                      <a:pt x="2138" y="89"/>
                    </a:cubicBezTo>
                    <a:cubicBezTo>
                      <a:pt x="2138" y="89"/>
                      <a:pt x="2139" y="89"/>
                      <a:pt x="2139" y="90"/>
                    </a:cubicBezTo>
                    <a:cubicBezTo>
                      <a:pt x="2138" y="95"/>
                      <a:pt x="2137" y="100"/>
                      <a:pt x="2136" y="105"/>
                    </a:cubicBezTo>
                    <a:close/>
                    <a:moveTo>
                      <a:pt x="2152" y="81"/>
                    </a:moveTo>
                    <a:cubicBezTo>
                      <a:pt x="2152" y="81"/>
                      <a:pt x="2153" y="81"/>
                      <a:pt x="2153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lose/>
                    <a:moveTo>
                      <a:pt x="2152" y="88"/>
                    </a:move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90"/>
                      <a:pt x="2152" y="91"/>
                      <a:pt x="2152" y="91"/>
                    </a:cubicBezTo>
                    <a:cubicBezTo>
                      <a:pt x="2152" y="90"/>
                      <a:pt x="2152" y="89"/>
                      <a:pt x="2152" y="88"/>
                    </a:cubicBezTo>
                    <a:close/>
                    <a:moveTo>
                      <a:pt x="2143" y="122"/>
                    </a:moveTo>
                    <a:cubicBezTo>
                      <a:pt x="2143" y="122"/>
                      <a:pt x="2143" y="123"/>
                      <a:pt x="2143" y="123"/>
                    </a:cubicBezTo>
                    <a:cubicBezTo>
                      <a:pt x="2143" y="123"/>
                      <a:pt x="2143" y="123"/>
                      <a:pt x="2143" y="123"/>
                    </a:cubicBezTo>
                    <a:cubicBezTo>
                      <a:pt x="2143" y="123"/>
                      <a:pt x="2143" y="122"/>
                      <a:pt x="2143" y="122"/>
                    </a:cubicBezTo>
                    <a:cubicBezTo>
                      <a:pt x="2143" y="120"/>
                      <a:pt x="2144" y="118"/>
                      <a:pt x="2144" y="115"/>
                    </a:cubicBezTo>
                    <a:cubicBezTo>
                      <a:pt x="2144" y="115"/>
                      <a:pt x="2144" y="115"/>
                      <a:pt x="2144" y="115"/>
                    </a:cubicBezTo>
                    <a:cubicBezTo>
                      <a:pt x="2144" y="116"/>
                      <a:pt x="2144" y="117"/>
                      <a:pt x="2144" y="118"/>
                    </a:cubicBezTo>
                    <a:cubicBezTo>
                      <a:pt x="2144" y="119"/>
                      <a:pt x="2143" y="121"/>
                      <a:pt x="2143" y="122"/>
                    </a:cubicBezTo>
                    <a:close/>
                    <a:moveTo>
                      <a:pt x="2145" y="70"/>
                    </a:moveTo>
                    <a:cubicBezTo>
                      <a:pt x="2148" y="73"/>
                      <a:pt x="2150" y="76"/>
                      <a:pt x="2151" y="79"/>
                    </a:cubicBezTo>
                    <a:cubicBezTo>
                      <a:pt x="2151" y="81"/>
                      <a:pt x="2151" y="82"/>
                      <a:pt x="2150" y="84"/>
                    </a:cubicBezTo>
                    <a:cubicBezTo>
                      <a:pt x="2150" y="84"/>
                      <a:pt x="2150" y="84"/>
                      <a:pt x="2150" y="84"/>
                    </a:cubicBezTo>
                    <a:cubicBezTo>
                      <a:pt x="2150" y="82"/>
                      <a:pt x="2149" y="81"/>
                      <a:pt x="2148" y="79"/>
                    </a:cubicBezTo>
                    <a:cubicBezTo>
                      <a:pt x="2149" y="81"/>
                      <a:pt x="2149" y="83"/>
                      <a:pt x="2150" y="84"/>
                    </a:cubicBezTo>
                    <a:cubicBezTo>
                      <a:pt x="2149" y="87"/>
                      <a:pt x="2147" y="90"/>
                      <a:pt x="2145" y="93"/>
                    </a:cubicBezTo>
                    <a:cubicBezTo>
                      <a:pt x="2146" y="85"/>
                      <a:pt x="2146" y="77"/>
                      <a:pt x="2145" y="70"/>
                    </a:cubicBezTo>
                    <a:close/>
                    <a:moveTo>
                      <a:pt x="2148" y="98"/>
                    </a:moveTo>
                    <a:cubicBezTo>
                      <a:pt x="2148" y="98"/>
                      <a:pt x="2148" y="97"/>
                      <a:pt x="2147" y="96"/>
                    </a:cubicBezTo>
                    <a:cubicBezTo>
                      <a:pt x="2148" y="97"/>
                      <a:pt x="2148" y="98"/>
                      <a:pt x="2148" y="98"/>
                    </a:cubicBezTo>
                    <a:cubicBezTo>
                      <a:pt x="2148" y="99"/>
                      <a:pt x="2148" y="100"/>
                      <a:pt x="2147" y="100"/>
                    </a:cubicBezTo>
                    <a:cubicBezTo>
                      <a:pt x="2147" y="99"/>
                      <a:pt x="2147" y="98"/>
                      <a:pt x="2146" y="97"/>
                    </a:cubicBezTo>
                    <a:cubicBezTo>
                      <a:pt x="2147" y="95"/>
                      <a:pt x="2148" y="93"/>
                      <a:pt x="2149" y="90"/>
                    </a:cubicBezTo>
                    <a:cubicBezTo>
                      <a:pt x="2149" y="93"/>
                      <a:pt x="2148" y="96"/>
                      <a:pt x="2148" y="98"/>
                    </a:cubicBezTo>
                    <a:close/>
                    <a:moveTo>
                      <a:pt x="2155" y="100"/>
                    </a:moveTo>
                    <a:cubicBezTo>
                      <a:pt x="2153" y="104"/>
                      <a:pt x="2152" y="107"/>
                      <a:pt x="2150" y="110"/>
                    </a:cubicBezTo>
                    <a:cubicBezTo>
                      <a:pt x="2150" y="110"/>
                      <a:pt x="2150" y="109"/>
                      <a:pt x="2150" y="109"/>
                    </a:cubicBezTo>
                    <a:cubicBezTo>
                      <a:pt x="2150" y="106"/>
                      <a:pt x="2151" y="102"/>
                      <a:pt x="2151" y="99"/>
                    </a:cubicBezTo>
                    <a:cubicBezTo>
                      <a:pt x="2152" y="95"/>
                      <a:pt x="2152" y="92"/>
                      <a:pt x="2152" y="90"/>
                    </a:cubicBezTo>
                    <a:cubicBezTo>
                      <a:pt x="2153" y="93"/>
                      <a:pt x="2154" y="96"/>
                      <a:pt x="2155" y="100"/>
                    </a:cubicBezTo>
                    <a:cubicBezTo>
                      <a:pt x="2155" y="100"/>
                      <a:pt x="2155" y="100"/>
                      <a:pt x="2155" y="100"/>
                    </a:cubicBezTo>
                    <a:close/>
                    <a:moveTo>
                      <a:pt x="2155" y="97"/>
                    </a:moveTo>
                    <a:cubicBezTo>
                      <a:pt x="2154" y="95"/>
                      <a:pt x="2153" y="92"/>
                      <a:pt x="2152" y="89"/>
                    </a:cubicBezTo>
                    <a:cubicBezTo>
                      <a:pt x="2152" y="89"/>
                      <a:pt x="2152" y="89"/>
                      <a:pt x="2152" y="88"/>
                    </a:cubicBez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89"/>
                      <a:pt x="2152" y="88"/>
                      <a:pt x="2152" y="88"/>
                    </a:cubicBezTo>
                    <a:cubicBezTo>
                      <a:pt x="2152" y="87"/>
                      <a:pt x="2152" y="86"/>
                      <a:pt x="2152" y="85"/>
                    </a:cubicBezTo>
                    <a:cubicBezTo>
                      <a:pt x="2152" y="84"/>
                      <a:pt x="2153" y="83"/>
                      <a:pt x="2153" y="82"/>
                    </a:cubicBezTo>
                    <a:cubicBezTo>
                      <a:pt x="2154" y="84"/>
                      <a:pt x="2155" y="86"/>
                      <a:pt x="2156" y="88"/>
                    </a:cubicBezTo>
                    <a:cubicBezTo>
                      <a:pt x="2156" y="91"/>
                      <a:pt x="2156" y="94"/>
                      <a:pt x="2155" y="97"/>
                    </a:cubicBezTo>
                    <a:close/>
                    <a:moveTo>
                      <a:pt x="2157" y="135"/>
                    </a:moveTo>
                    <a:cubicBezTo>
                      <a:pt x="2157" y="136"/>
                      <a:pt x="2157" y="137"/>
                      <a:pt x="2157" y="138"/>
                    </a:cubicBezTo>
                    <a:cubicBezTo>
                      <a:pt x="2157" y="137"/>
                      <a:pt x="2157" y="136"/>
                      <a:pt x="2157" y="135"/>
                    </a:cubicBezTo>
                    <a:cubicBezTo>
                      <a:pt x="2157" y="135"/>
                      <a:pt x="2157" y="135"/>
                      <a:pt x="2157" y="135"/>
                    </a:cubicBezTo>
                    <a:close/>
                    <a:moveTo>
                      <a:pt x="2157" y="83"/>
                    </a:moveTo>
                    <a:cubicBezTo>
                      <a:pt x="2156" y="82"/>
                      <a:pt x="2155" y="81"/>
                      <a:pt x="2155" y="80"/>
                    </a:cubicBezTo>
                    <a:cubicBezTo>
                      <a:pt x="2156" y="78"/>
                      <a:pt x="2157" y="77"/>
                      <a:pt x="2158" y="75"/>
                    </a:cubicBezTo>
                    <a:cubicBezTo>
                      <a:pt x="2157" y="78"/>
                      <a:pt x="2157" y="81"/>
                      <a:pt x="2157" y="83"/>
                    </a:cubicBezTo>
                    <a:close/>
                    <a:moveTo>
                      <a:pt x="2158" y="74"/>
                    </a:moveTo>
                    <a:cubicBezTo>
                      <a:pt x="2156" y="76"/>
                      <a:pt x="2155" y="77"/>
                      <a:pt x="2154" y="79"/>
                    </a:cubicBezTo>
                    <a:cubicBezTo>
                      <a:pt x="2153" y="78"/>
                      <a:pt x="2153" y="78"/>
                      <a:pt x="2153" y="77"/>
                    </a:cubicBezTo>
                    <a:cubicBezTo>
                      <a:pt x="2153" y="72"/>
                      <a:pt x="2153" y="67"/>
                      <a:pt x="2154" y="65"/>
                    </a:cubicBezTo>
                    <a:cubicBezTo>
                      <a:pt x="2155" y="67"/>
                      <a:pt x="2156" y="70"/>
                      <a:pt x="2158" y="72"/>
                    </a:cubicBezTo>
                    <a:cubicBezTo>
                      <a:pt x="2158" y="73"/>
                      <a:pt x="2158" y="73"/>
                      <a:pt x="2158" y="74"/>
                    </a:cubicBezTo>
                    <a:close/>
                    <a:moveTo>
                      <a:pt x="2160" y="75"/>
                    </a:moveTo>
                    <a:cubicBezTo>
                      <a:pt x="2161" y="78"/>
                      <a:pt x="2163" y="81"/>
                      <a:pt x="2165" y="84"/>
                    </a:cubicBezTo>
                    <a:cubicBezTo>
                      <a:pt x="2163" y="86"/>
                      <a:pt x="2162" y="88"/>
                      <a:pt x="2161" y="90"/>
                    </a:cubicBezTo>
                    <a:cubicBezTo>
                      <a:pt x="2161" y="89"/>
                      <a:pt x="2160" y="89"/>
                      <a:pt x="2160" y="89"/>
                    </a:cubicBezTo>
                    <a:cubicBezTo>
                      <a:pt x="2160" y="84"/>
                      <a:pt x="2160" y="79"/>
                      <a:pt x="2160" y="75"/>
                    </a:cubicBezTo>
                    <a:close/>
                    <a:moveTo>
                      <a:pt x="2162" y="110"/>
                    </a:moveTo>
                    <a:cubicBezTo>
                      <a:pt x="2162" y="107"/>
                      <a:pt x="2161" y="104"/>
                      <a:pt x="2160" y="101"/>
                    </a:cubicBezTo>
                    <a:cubicBezTo>
                      <a:pt x="2160" y="101"/>
                      <a:pt x="2160" y="100"/>
                      <a:pt x="2160" y="100"/>
                    </a:cubicBezTo>
                    <a:cubicBezTo>
                      <a:pt x="2160" y="100"/>
                      <a:pt x="2161" y="99"/>
                      <a:pt x="2161" y="99"/>
                    </a:cubicBezTo>
                    <a:cubicBezTo>
                      <a:pt x="2162" y="101"/>
                      <a:pt x="2162" y="104"/>
                      <a:pt x="2163" y="106"/>
                    </a:cubicBezTo>
                    <a:cubicBezTo>
                      <a:pt x="2163" y="108"/>
                      <a:pt x="2163" y="109"/>
                      <a:pt x="2162" y="110"/>
                    </a:cubicBezTo>
                    <a:close/>
                    <a:moveTo>
                      <a:pt x="2163" y="93"/>
                    </a:moveTo>
                    <a:cubicBezTo>
                      <a:pt x="2164" y="91"/>
                      <a:pt x="2165" y="88"/>
                      <a:pt x="2166" y="86"/>
                    </a:cubicBezTo>
                    <a:cubicBezTo>
                      <a:pt x="2166" y="87"/>
                      <a:pt x="2167" y="87"/>
                      <a:pt x="2167" y="88"/>
                    </a:cubicBezTo>
                    <a:cubicBezTo>
                      <a:pt x="2166" y="91"/>
                      <a:pt x="2166" y="94"/>
                      <a:pt x="2165" y="97"/>
                    </a:cubicBezTo>
                    <a:cubicBezTo>
                      <a:pt x="2164" y="96"/>
                      <a:pt x="2163" y="95"/>
                      <a:pt x="2163" y="93"/>
                    </a:cubicBezTo>
                    <a:close/>
                    <a:moveTo>
                      <a:pt x="2166" y="130"/>
                    </a:moveTo>
                    <a:cubicBezTo>
                      <a:pt x="2166" y="129"/>
                      <a:pt x="2166" y="128"/>
                      <a:pt x="2166" y="126"/>
                    </a:cubicBezTo>
                    <a:cubicBezTo>
                      <a:pt x="2166" y="124"/>
                      <a:pt x="2166" y="121"/>
                      <a:pt x="2167" y="119"/>
                    </a:cubicBezTo>
                    <a:cubicBezTo>
                      <a:pt x="2167" y="120"/>
                      <a:pt x="2168" y="122"/>
                      <a:pt x="2168" y="124"/>
                    </a:cubicBezTo>
                    <a:cubicBezTo>
                      <a:pt x="2167" y="126"/>
                      <a:pt x="2167" y="128"/>
                      <a:pt x="2166" y="130"/>
                    </a:cubicBezTo>
                    <a:close/>
                    <a:moveTo>
                      <a:pt x="2170" y="108"/>
                    </a:moveTo>
                    <a:cubicBezTo>
                      <a:pt x="2170" y="107"/>
                      <a:pt x="2169" y="106"/>
                      <a:pt x="2169" y="105"/>
                    </a:cubicBezTo>
                    <a:cubicBezTo>
                      <a:pt x="2169" y="102"/>
                      <a:pt x="2170" y="99"/>
                      <a:pt x="2171" y="96"/>
                    </a:cubicBezTo>
                    <a:cubicBezTo>
                      <a:pt x="2171" y="96"/>
                      <a:pt x="2171" y="97"/>
                      <a:pt x="2171" y="97"/>
                    </a:cubicBezTo>
                    <a:cubicBezTo>
                      <a:pt x="2171" y="101"/>
                      <a:pt x="2170" y="105"/>
                      <a:pt x="2170" y="108"/>
                    </a:cubicBezTo>
                    <a:close/>
                    <a:moveTo>
                      <a:pt x="2172" y="86"/>
                    </a:moveTo>
                    <a:cubicBezTo>
                      <a:pt x="2172" y="86"/>
                      <a:pt x="2172" y="86"/>
                      <a:pt x="2172" y="86"/>
                    </a:cubicBezTo>
                    <a:cubicBezTo>
                      <a:pt x="2172" y="85"/>
                      <a:pt x="2173" y="84"/>
                      <a:pt x="2173" y="83"/>
                    </a:cubicBezTo>
                    <a:cubicBezTo>
                      <a:pt x="2173" y="84"/>
                      <a:pt x="2172" y="85"/>
                      <a:pt x="2172" y="86"/>
                    </a:cubicBezTo>
                    <a:close/>
                    <a:moveTo>
                      <a:pt x="2180" y="80"/>
                    </a:moveTo>
                    <a:cubicBezTo>
                      <a:pt x="2180" y="77"/>
                      <a:pt x="2180" y="75"/>
                      <a:pt x="2180" y="73"/>
                    </a:cubicBezTo>
                    <a:cubicBezTo>
                      <a:pt x="2181" y="73"/>
                      <a:pt x="2181" y="74"/>
                      <a:pt x="2181" y="74"/>
                    </a:cubicBezTo>
                    <a:cubicBezTo>
                      <a:pt x="2181" y="76"/>
                      <a:pt x="2181" y="78"/>
                      <a:pt x="2180" y="80"/>
                    </a:cubicBezTo>
                    <a:close/>
                    <a:moveTo>
                      <a:pt x="2192" y="93"/>
                    </a:moveTo>
                    <a:cubicBezTo>
                      <a:pt x="2191" y="95"/>
                      <a:pt x="2191" y="96"/>
                      <a:pt x="2190" y="97"/>
                    </a:cubicBezTo>
                    <a:cubicBezTo>
                      <a:pt x="2190" y="94"/>
                      <a:pt x="2190" y="91"/>
                      <a:pt x="2189" y="88"/>
                    </a:cubicBezTo>
                    <a:cubicBezTo>
                      <a:pt x="2190" y="89"/>
                      <a:pt x="2191" y="91"/>
                      <a:pt x="2192" y="93"/>
                    </a:cubicBezTo>
                    <a:cubicBezTo>
                      <a:pt x="2192" y="93"/>
                      <a:pt x="2192" y="93"/>
                      <a:pt x="2192" y="93"/>
                    </a:cubicBezTo>
                    <a:close/>
                    <a:moveTo>
                      <a:pt x="2193" y="88"/>
                    </a:moveTo>
                    <a:cubicBezTo>
                      <a:pt x="2192" y="86"/>
                      <a:pt x="2191" y="85"/>
                      <a:pt x="2190" y="84"/>
                    </a:cubicBezTo>
                    <a:cubicBezTo>
                      <a:pt x="2191" y="81"/>
                      <a:pt x="2193" y="78"/>
                      <a:pt x="2195" y="75"/>
                    </a:cubicBezTo>
                    <a:cubicBezTo>
                      <a:pt x="2194" y="79"/>
                      <a:pt x="2193" y="84"/>
                      <a:pt x="2193" y="88"/>
                    </a:cubicBezTo>
                    <a:close/>
                    <a:moveTo>
                      <a:pt x="2202" y="77"/>
                    </a:moveTo>
                    <a:cubicBezTo>
                      <a:pt x="2202" y="77"/>
                      <a:pt x="2202" y="77"/>
                      <a:pt x="2202" y="77"/>
                    </a:cubicBezTo>
                    <a:cubicBezTo>
                      <a:pt x="2202" y="74"/>
                      <a:pt x="2201" y="70"/>
                      <a:pt x="2201" y="66"/>
                    </a:cubicBezTo>
                    <a:cubicBezTo>
                      <a:pt x="2201" y="65"/>
                      <a:pt x="2202" y="64"/>
                      <a:pt x="2202" y="63"/>
                    </a:cubicBezTo>
                    <a:cubicBezTo>
                      <a:pt x="2203" y="67"/>
                      <a:pt x="2203" y="72"/>
                      <a:pt x="2202" y="77"/>
                    </a:cubicBezTo>
                    <a:close/>
                    <a:moveTo>
                      <a:pt x="2205" y="72"/>
                    </a:moveTo>
                    <a:cubicBezTo>
                      <a:pt x="2205" y="67"/>
                      <a:pt x="2204" y="64"/>
                      <a:pt x="2203" y="61"/>
                    </a:cubicBezTo>
                    <a:cubicBezTo>
                      <a:pt x="2204" y="60"/>
                      <a:pt x="2205" y="58"/>
                      <a:pt x="2206" y="57"/>
                    </a:cubicBezTo>
                    <a:cubicBezTo>
                      <a:pt x="2206" y="62"/>
                      <a:pt x="2206" y="67"/>
                      <a:pt x="2205" y="72"/>
                    </a:cubicBezTo>
                    <a:close/>
                    <a:moveTo>
                      <a:pt x="2221" y="89"/>
                    </a:moveTo>
                    <a:cubicBezTo>
                      <a:pt x="2222" y="91"/>
                      <a:pt x="2223" y="92"/>
                      <a:pt x="2223" y="94"/>
                    </a:cubicBezTo>
                    <a:cubicBezTo>
                      <a:pt x="2223" y="95"/>
                      <a:pt x="2222" y="97"/>
                      <a:pt x="2222" y="98"/>
                    </a:cubicBezTo>
                    <a:cubicBezTo>
                      <a:pt x="2221" y="97"/>
                      <a:pt x="2221" y="96"/>
                      <a:pt x="2220" y="95"/>
                    </a:cubicBezTo>
                    <a:cubicBezTo>
                      <a:pt x="2220" y="93"/>
                      <a:pt x="2221" y="91"/>
                      <a:pt x="2221" y="89"/>
                    </a:cubicBezTo>
                    <a:close/>
                    <a:moveTo>
                      <a:pt x="2220" y="101"/>
                    </a:moveTo>
                    <a:cubicBezTo>
                      <a:pt x="2220" y="101"/>
                      <a:pt x="2220" y="100"/>
                      <a:pt x="2220" y="100"/>
                    </a:cubicBezTo>
                    <a:cubicBezTo>
                      <a:pt x="2220" y="100"/>
                      <a:pt x="2220" y="101"/>
                      <a:pt x="2220" y="101"/>
                    </a:cubicBezTo>
                    <a:cubicBezTo>
                      <a:pt x="2220" y="101"/>
                      <a:pt x="2220" y="101"/>
                      <a:pt x="2220" y="101"/>
                    </a:cubicBezTo>
                    <a:close/>
                    <a:moveTo>
                      <a:pt x="2222" y="122"/>
                    </a:moveTo>
                    <a:cubicBezTo>
                      <a:pt x="2222" y="121"/>
                      <a:pt x="2221" y="120"/>
                      <a:pt x="2221" y="119"/>
                    </a:cubicBezTo>
                    <a:cubicBezTo>
                      <a:pt x="2221" y="117"/>
                      <a:pt x="2221" y="115"/>
                      <a:pt x="2221" y="112"/>
                    </a:cubicBezTo>
                    <a:cubicBezTo>
                      <a:pt x="2221" y="110"/>
                      <a:pt x="2221" y="108"/>
                      <a:pt x="2222" y="106"/>
                    </a:cubicBezTo>
                    <a:cubicBezTo>
                      <a:pt x="2222" y="108"/>
                      <a:pt x="2223" y="110"/>
                      <a:pt x="2223" y="112"/>
                    </a:cubicBezTo>
                    <a:cubicBezTo>
                      <a:pt x="2223" y="115"/>
                      <a:pt x="2223" y="119"/>
                      <a:pt x="2222" y="122"/>
                    </a:cubicBezTo>
                    <a:close/>
                    <a:moveTo>
                      <a:pt x="2224" y="103"/>
                    </a:moveTo>
                    <a:cubicBezTo>
                      <a:pt x="2224" y="102"/>
                      <a:pt x="2223" y="101"/>
                      <a:pt x="2223" y="100"/>
                    </a:cubicBezTo>
                    <a:cubicBezTo>
                      <a:pt x="2223" y="99"/>
                      <a:pt x="2224" y="97"/>
                      <a:pt x="2224" y="96"/>
                    </a:cubicBezTo>
                    <a:cubicBezTo>
                      <a:pt x="2224" y="97"/>
                      <a:pt x="2225" y="97"/>
                      <a:pt x="2225" y="98"/>
                    </a:cubicBezTo>
                    <a:cubicBezTo>
                      <a:pt x="2225" y="100"/>
                      <a:pt x="2224" y="101"/>
                      <a:pt x="2224" y="103"/>
                    </a:cubicBezTo>
                    <a:close/>
                    <a:moveTo>
                      <a:pt x="2225" y="96"/>
                    </a:moveTo>
                    <a:cubicBezTo>
                      <a:pt x="2225" y="95"/>
                      <a:pt x="2225" y="95"/>
                      <a:pt x="2224" y="95"/>
                    </a:cubicBezTo>
                    <a:cubicBezTo>
                      <a:pt x="2225" y="93"/>
                      <a:pt x="2225" y="92"/>
                      <a:pt x="2226" y="91"/>
                    </a:cubicBezTo>
                    <a:cubicBezTo>
                      <a:pt x="2225" y="93"/>
                      <a:pt x="2225" y="94"/>
                      <a:pt x="2225" y="96"/>
                    </a:cubicBezTo>
                    <a:close/>
                    <a:moveTo>
                      <a:pt x="2231" y="95"/>
                    </a:moveTo>
                    <a:cubicBezTo>
                      <a:pt x="2231" y="92"/>
                      <a:pt x="2232" y="89"/>
                      <a:pt x="2232" y="86"/>
                    </a:cubicBezTo>
                    <a:cubicBezTo>
                      <a:pt x="2232" y="86"/>
                      <a:pt x="2233" y="87"/>
                      <a:pt x="2233" y="88"/>
                    </a:cubicBezTo>
                    <a:cubicBezTo>
                      <a:pt x="2233" y="90"/>
                      <a:pt x="2232" y="92"/>
                      <a:pt x="2231" y="95"/>
                    </a:cubicBezTo>
                    <a:close/>
                    <a:moveTo>
                      <a:pt x="2242" y="99"/>
                    </a:moveTo>
                    <a:cubicBezTo>
                      <a:pt x="2242" y="99"/>
                      <a:pt x="2241" y="98"/>
                      <a:pt x="2241" y="97"/>
                    </a:cubicBezTo>
                    <a:cubicBezTo>
                      <a:pt x="2241" y="93"/>
                      <a:pt x="2241" y="89"/>
                      <a:pt x="2241" y="84"/>
                    </a:cubicBezTo>
                    <a:cubicBezTo>
                      <a:pt x="2242" y="80"/>
                      <a:pt x="2245" y="76"/>
                      <a:pt x="2247" y="72"/>
                    </a:cubicBezTo>
                    <a:cubicBezTo>
                      <a:pt x="2248" y="74"/>
                      <a:pt x="2248" y="78"/>
                      <a:pt x="2249" y="82"/>
                    </a:cubicBezTo>
                    <a:cubicBezTo>
                      <a:pt x="2246" y="88"/>
                      <a:pt x="2244" y="93"/>
                      <a:pt x="2242" y="99"/>
                    </a:cubicBezTo>
                    <a:close/>
                    <a:moveTo>
                      <a:pt x="2250" y="75"/>
                    </a:moveTo>
                    <a:cubicBezTo>
                      <a:pt x="2250" y="73"/>
                      <a:pt x="2249" y="71"/>
                      <a:pt x="2249" y="69"/>
                    </a:cubicBezTo>
                    <a:cubicBezTo>
                      <a:pt x="2250" y="68"/>
                      <a:pt x="2250" y="67"/>
                      <a:pt x="2251" y="66"/>
                    </a:cubicBezTo>
                    <a:cubicBezTo>
                      <a:pt x="2251" y="69"/>
                      <a:pt x="2250" y="72"/>
                      <a:pt x="2250" y="75"/>
                    </a:cubicBezTo>
                    <a:close/>
                    <a:moveTo>
                      <a:pt x="2258" y="72"/>
                    </a:moveTo>
                    <a:cubicBezTo>
                      <a:pt x="2258" y="71"/>
                      <a:pt x="2258" y="70"/>
                      <a:pt x="2258" y="70"/>
                    </a:cubicBezTo>
                    <a:cubicBezTo>
                      <a:pt x="2258" y="69"/>
                      <a:pt x="2258" y="69"/>
                      <a:pt x="2258" y="69"/>
                    </a:cubicBezTo>
                    <a:cubicBezTo>
                      <a:pt x="2258" y="71"/>
                      <a:pt x="2258" y="72"/>
                      <a:pt x="2258" y="72"/>
                    </a:cubicBezTo>
                    <a:close/>
                    <a:moveTo>
                      <a:pt x="2258" y="67"/>
                    </a:moveTo>
                    <a:cubicBezTo>
                      <a:pt x="2258" y="67"/>
                      <a:pt x="2258" y="68"/>
                      <a:pt x="2258" y="68"/>
                    </a:cubicBezTo>
                    <a:cubicBezTo>
                      <a:pt x="2258" y="65"/>
                      <a:pt x="2257" y="61"/>
                      <a:pt x="2257" y="58"/>
                    </a:cubicBezTo>
                    <a:cubicBezTo>
                      <a:pt x="2257" y="57"/>
                      <a:pt x="2258" y="56"/>
                      <a:pt x="2259" y="56"/>
                    </a:cubicBezTo>
                    <a:cubicBezTo>
                      <a:pt x="2258" y="60"/>
                      <a:pt x="2258" y="64"/>
                      <a:pt x="2258" y="67"/>
                    </a:cubicBezTo>
                    <a:close/>
                    <a:moveTo>
                      <a:pt x="2266" y="123"/>
                    </a:moveTo>
                    <a:cubicBezTo>
                      <a:pt x="2265" y="124"/>
                      <a:pt x="2264" y="126"/>
                      <a:pt x="2264" y="127"/>
                    </a:cubicBezTo>
                    <a:cubicBezTo>
                      <a:pt x="2264" y="124"/>
                      <a:pt x="2264" y="122"/>
                      <a:pt x="2264" y="119"/>
                    </a:cubicBezTo>
                    <a:cubicBezTo>
                      <a:pt x="2265" y="116"/>
                      <a:pt x="2266" y="112"/>
                      <a:pt x="2267" y="109"/>
                    </a:cubicBezTo>
                    <a:cubicBezTo>
                      <a:pt x="2267" y="111"/>
                      <a:pt x="2267" y="112"/>
                      <a:pt x="2267" y="114"/>
                    </a:cubicBezTo>
                    <a:cubicBezTo>
                      <a:pt x="2267" y="117"/>
                      <a:pt x="2266" y="120"/>
                      <a:pt x="2266" y="123"/>
                    </a:cubicBezTo>
                    <a:close/>
                    <a:moveTo>
                      <a:pt x="2268" y="110"/>
                    </a:moveTo>
                    <a:cubicBezTo>
                      <a:pt x="2268" y="111"/>
                      <a:pt x="2268" y="112"/>
                      <a:pt x="2267" y="112"/>
                    </a:cubicBezTo>
                    <a:cubicBezTo>
                      <a:pt x="2267" y="111"/>
                      <a:pt x="2267" y="110"/>
                      <a:pt x="2267" y="109"/>
                    </a:cubicBezTo>
                    <a:cubicBezTo>
                      <a:pt x="2267" y="107"/>
                      <a:pt x="2268" y="105"/>
                      <a:pt x="2268" y="102"/>
                    </a:cubicBezTo>
                    <a:cubicBezTo>
                      <a:pt x="2268" y="105"/>
                      <a:pt x="2268" y="107"/>
                      <a:pt x="2268" y="110"/>
                    </a:cubicBezTo>
                    <a:close/>
                    <a:moveTo>
                      <a:pt x="2270" y="83"/>
                    </a:moveTo>
                    <a:cubicBezTo>
                      <a:pt x="2270" y="83"/>
                      <a:pt x="2270" y="84"/>
                      <a:pt x="2269" y="85"/>
                    </a:cubicBezTo>
                    <a:cubicBezTo>
                      <a:pt x="2268" y="87"/>
                      <a:pt x="2267" y="89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2"/>
                      <a:pt x="2265" y="94"/>
                      <a:pt x="2264" y="96"/>
                    </a:cubicBezTo>
                    <a:cubicBezTo>
                      <a:pt x="2264" y="90"/>
                      <a:pt x="2265" y="85"/>
                      <a:pt x="2267" y="79"/>
                    </a:cubicBezTo>
                    <a:cubicBezTo>
                      <a:pt x="2265" y="85"/>
                      <a:pt x="2264" y="90"/>
                      <a:pt x="2262" y="95"/>
                    </a:cubicBezTo>
                    <a:cubicBezTo>
                      <a:pt x="2262" y="85"/>
                      <a:pt x="2263" y="74"/>
                      <a:pt x="2263" y="63"/>
                    </a:cubicBezTo>
                    <a:cubicBezTo>
                      <a:pt x="2266" y="60"/>
                      <a:pt x="2269" y="58"/>
                      <a:pt x="2272" y="55"/>
                    </a:cubicBezTo>
                    <a:cubicBezTo>
                      <a:pt x="2272" y="62"/>
                      <a:pt x="2271" y="72"/>
                      <a:pt x="2270" y="83"/>
                    </a:cubicBezTo>
                    <a:close/>
                    <a:moveTo>
                      <a:pt x="2276" y="105"/>
                    </a:moveTo>
                    <a:cubicBezTo>
                      <a:pt x="2276" y="102"/>
                      <a:pt x="2276" y="99"/>
                      <a:pt x="2276" y="96"/>
                    </a:cubicBezTo>
                    <a:cubicBezTo>
                      <a:pt x="2276" y="97"/>
                      <a:pt x="2277" y="99"/>
                      <a:pt x="2277" y="100"/>
                    </a:cubicBezTo>
                    <a:cubicBezTo>
                      <a:pt x="2277" y="102"/>
                      <a:pt x="2277" y="103"/>
                      <a:pt x="2276" y="105"/>
                    </a:cubicBezTo>
                    <a:cubicBezTo>
                      <a:pt x="2276" y="105"/>
                      <a:pt x="2276" y="105"/>
                      <a:pt x="2276" y="105"/>
                    </a:cubicBezTo>
                    <a:close/>
                    <a:moveTo>
                      <a:pt x="2277" y="130"/>
                    </a:moveTo>
                    <a:cubicBezTo>
                      <a:pt x="2277" y="130"/>
                      <a:pt x="2277" y="130"/>
                      <a:pt x="2277" y="130"/>
                    </a:cubicBezTo>
                    <a:cubicBezTo>
                      <a:pt x="2277" y="129"/>
                      <a:pt x="2277" y="128"/>
                      <a:pt x="2277" y="127"/>
                    </a:cubicBezTo>
                    <a:cubicBezTo>
                      <a:pt x="2277" y="128"/>
                      <a:pt x="2277" y="128"/>
                      <a:pt x="2278" y="129"/>
                    </a:cubicBezTo>
                    <a:cubicBezTo>
                      <a:pt x="2277" y="129"/>
                      <a:pt x="2277" y="130"/>
                      <a:pt x="2277" y="130"/>
                    </a:cubicBezTo>
                    <a:close/>
                    <a:moveTo>
                      <a:pt x="2284" y="74"/>
                    </a:moveTo>
                    <a:cubicBezTo>
                      <a:pt x="2284" y="73"/>
                      <a:pt x="2284" y="71"/>
                      <a:pt x="2284" y="70"/>
                    </a:cubicBezTo>
                    <a:cubicBezTo>
                      <a:pt x="2284" y="70"/>
                      <a:pt x="2285" y="71"/>
                      <a:pt x="2285" y="72"/>
                    </a:cubicBezTo>
                    <a:cubicBezTo>
                      <a:pt x="2285" y="72"/>
                      <a:pt x="2285" y="73"/>
                      <a:pt x="2284" y="74"/>
                    </a:cubicBezTo>
                    <a:close/>
                    <a:moveTo>
                      <a:pt x="2288" y="139"/>
                    </a:moveTo>
                    <a:cubicBezTo>
                      <a:pt x="2288" y="140"/>
                      <a:pt x="2288" y="141"/>
                      <a:pt x="2288" y="142"/>
                    </a:cubicBezTo>
                    <a:cubicBezTo>
                      <a:pt x="2288" y="142"/>
                      <a:pt x="2288" y="141"/>
                      <a:pt x="2288" y="139"/>
                    </a:cubicBezTo>
                    <a:cubicBezTo>
                      <a:pt x="2288" y="138"/>
                      <a:pt x="2288" y="137"/>
                      <a:pt x="2288" y="136"/>
                    </a:cubicBezTo>
                    <a:cubicBezTo>
                      <a:pt x="2288" y="137"/>
                      <a:pt x="2288" y="137"/>
                      <a:pt x="2288" y="137"/>
                    </a:cubicBezTo>
                    <a:cubicBezTo>
                      <a:pt x="2288" y="138"/>
                      <a:pt x="2288" y="139"/>
                      <a:pt x="2288" y="139"/>
                    </a:cubicBezTo>
                    <a:close/>
                    <a:moveTo>
                      <a:pt x="2290" y="122"/>
                    </a:moveTo>
                    <a:cubicBezTo>
                      <a:pt x="2290" y="122"/>
                      <a:pt x="2290" y="122"/>
                      <a:pt x="2290" y="122"/>
                    </a:cubicBezTo>
                    <a:cubicBezTo>
                      <a:pt x="2290" y="121"/>
                      <a:pt x="2290" y="121"/>
                      <a:pt x="2290" y="121"/>
                    </a:cubicBezTo>
                    <a:cubicBezTo>
                      <a:pt x="2290" y="121"/>
                      <a:pt x="2290" y="122"/>
                      <a:pt x="2290" y="122"/>
                    </a:cubicBezTo>
                    <a:close/>
                    <a:moveTo>
                      <a:pt x="2291" y="110"/>
                    </a:moveTo>
                    <a:cubicBezTo>
                      <a:pt x="2290" y="112"/>
                      <a:pt x="2289" y="114"/>
                      <a:pt x="2288" y="116"/>
                    </a:cubicBezTo>
                    <a:cubicBezTo>
                      <a:pt x="2288" y="116"/>
                      <a:pt x="2288" y="117"/>
                      <a:pt x="2288" y="117"/>
                    </a:cubicBezTo>
                    <a:cubicBezTo>
                      <a:pt x="2288" y="113"/>
                      <a:pt x="2287" y="108"/>
                      <a:pt x="2287" y="104"/>
                    </a:cubicBezTo>
                    <a:cubicBezTo>
                      <a:pt x="2288" y="101"/>
                      <a:pt x="2288" y="98"/>
                      <a:pt x="2289" y="96"/>
                    </a:cubicBezTo>
                    <a:cubicBezTo>
                      <a:pt x="2290" y="95"/>
                      <a:pt x="2290" y="95"/>
                      <a:pt x="2290" y="95"/>
                    </a:cubicBezTo>
                    <a:cubicBezTo>
                      <a:pt x="2290" y="98"/>
                      <a:pt x="2291" y="101"/>
                      <a:pt x="2291" y="104"/>
                    </a:cubicBezTo>
                    <a:cubicBezTo>
                      <a:pt x="2291" y="106"/>
                      <a:pt x="2291" y="108"/>
                      <a:pt x="2291" y="110"/>
                    </a:cubicBezTo>
                    <a:close/>
                    <a:moveTo>
                      <a:pt x="2292" y="99"/>
                    </a:moveTo>
                    <a:cubicBezTo>
                      <a:pt x="2291" y="97"/>
                      <a:pt x="2291" y="96"/>
                      <a:pt x="2290" y="94"/>
                    </a:cubicBezTo>
                    <a:cubicBezTo>
                      <a:pt x="2291" y="93"/>
                      <a:pt x="2292" y="92"/>
                      <a:pt x="2292" y="91"/>
                    </a:cubicBezTo>
                    <a:cubicBezTo>
                      <a:pt x="2292" y="94"/>
                      <a:pt x="2292" y="96"/>
                      <a:pt x="2292" y="99"/>
                    </a:cubicBezTo>
                    <a:close/>
                    <a:moveTo>
                      <a:pt x="2286" y="91"/>
                    </a:moveTo>
                    <a:cubicBezTo>
                      <a:pt x="2286" y="89"/>
                      <a:pt x="2286" y="88"/>
                      <a:pt x="2285" y="87"/>
                    </a:cubicBezTo>
                    <a:cubicBezTo>
                      <a:pt x="2287" y="83"/>
                      <a:pt x="2288" y="80"/>
                      <a:pt x="2289" y="76"/>
                    </a:cubicBezTo>
                    <a:cubicBezTo>
                      <a:pt x="2290" y="78"/>
                      <a:pt x="2292" y="80"/>
                      <a:pt x="2293" y="82"/>
                    </a:cubicBezTo>
                    <a:cubicBezTo>
                      <a:pt x="2290" y="85"/>
                      <a:pt x="2288" y="88"/>
                      <a:pt x="2286" y="91"/>
                    </a:cubicBezTo>
                    <a:close/>
                    <a:moveTo>
                      <a:pt x="2293" y="79"/>
                    </a:moveTo>
                    <a:cubicBezTo>
                      <a:pt x="2292" y="77"/>
                      <a:pt x="2291" y="76"/>
                      <a:pt x="2290" y="75"/>
                    </a:cubicBezTo>
                    <a:cubicBezTo>
                      <a:pt x="2291" y="72"/>
                      <a:pt x="2293" y="68"/>
                      <a:pt x="2294" y="65"/>
                    </a:cubicBezTo>
                    <a:cubicBezTo>
                      <a:pt x="2294" y="68"/>
                      <a:pt x="2294" y="73"/>
                      <a:pt x="2293" y="79"/>
                    </a:cubicBezTo>
                    <a:close/>
                    <a:moveTo>
                      <a:pt x="2311" y="54"/>
                    </a:moveTo>
                    <a:cubicBezTo>
                      <a:pt x="2311" y="56"/>
                      <a:pt x="2310" y="58"/>
                      <a:pt x="2310" y="61"/>
                    </a:cubicBezTo>
                    <a:cubicBezTo>
                      <a:pt x="2306" y="65"/>
                      <a:pt x="2302" y="69"/>
                      <a:pt x="2299" y="74"/>
                    </a:cubicBezTo>
                    <a:cubicBezTo>
                      <a:pt x="2302" y="67"/>
                      <a:pt x="2306" y="60"/>
                      <a:pt x="2311" y="54"/>
                    </a:cubicBezTo>
                    <a:close/>
                    <a:moveTo>
                      <a:pt x="2297" y="89"/>
                    </a:moveTo>
                    <a:cubicBezTo>
                      <a:pt x="2297" y="90"/>
                      <a:pt x="2298" y="91"/>
                      <a:pt x="2298" y="92"/>
                    </a:cubicBezTo>
                    <a:cubicBezTo>
                      <a:pt x="2298" y="92"/>
                      <a:pt x="2297" y="93"/>
                      <a:pt x="2297" y="94"/>
                    </a:cubicBezTo>
                    <a:cubicBezTo>
                      <a:pt x="2297" y="92"/>
                      <a:pt x="2297" y="91"/>
                      <a:pt x="2297" y="89"/>
                    </a:cubicBezTo>
                    <a:close/>
                    <a:moveTo>
                      <a:pt x="2299" y="127"/>
                    </a:moveTo>
                    <a:cubicBezTo>
                      <a:pt x="2299" y="125"/>
                      <a:pt x="2299" y="124"/>
                      <a:pt x="2298" y="122"/>
                    </a:cubicBezTo>
                    <a:cubicBezTo>
                      <a:pt x="2298" y="117"/>
                      <a:pt x="2298" y="111"/>
                      <a:pt x="2298" y="105"/>
                    </a:cubicBezTo>
                    <a:cubicBezTo>
                      <a:pt x="2299" y="104"/>
                      <a:pt x="2299" y="102"/>
                      <a:pt x="2300" y="101"/>
                    </a:cubicBezTo>
                    <a:cubicBezTo>
                      <a:pt x="2299" y="102"/>
                      <a:pt x="2299" y="103"/>
                      <a:pt x="2298" y="105"/>
                    </a:cubicBezTo>
                    <a:cubicBezTo>
                      <a:pt x="2297" y="102"/>
                      <a:pt x="2297" y="99"/>
                      <a:pt x="2297" y="96"/>
                    </a:cubicBezTo>
                    <a:cubicBezTo>
                      <a:pt x="2298" y="95"/>
                      <a:pt x="2298" y="94"/>
                      <a:pt x="2298" y="93"/>
                    </a:cubicBezTo>
                    <a:cubicBezTo>
                      <a:pt x="2299" y="95"/>
                      <a:pt x="2300" y="97"/>
                      <a:pt x="2301" y="100"/>
                    </a:cubicBezTo>
                    <a:cubicBezTo>
                      <a:pt x="2301" y="100"/>
                      <a:pt x="2301" y="100"/>
                      <a:pt x="2300" y="101"/>
                    </a:cubicBezTo>
                    <a:cubicBezTo>
                      <a:pt x="2301" y="101"/>
                      <a:pt x="2301" y="100"/>
                      <a:pt x="2301" y="100"/>
                    </a:cubicBezTo>
                    <a:cubicBezTo>
                      <a:pt x="2302" y="101"/>
                      <a:pt x="2302" y="102"/>
                      <a:pt x="2303" y="103"/>
                    </a:cubicBezTo>
                    <a:cubicBezTo>
                      <a:pt x="2301" y="112"/>
                      <a:pt x="2300" y="120"/>
                      <a:pt x="2299" y="127"/>
                    </a:cubicBezTo>
                    <a:close/>
                    <a:moveTo>
                      <a:pt x="2300" y="87"/>
                    </a:moveTo>
                    <a:cubicBezTo>
                      <a:pt x="2301" y="86"/>
                      <a:pt x="2302" y="84"/>
                      <a:pt x="2303" y="83"/>
                    </a:cubicBezTo>
                    <a:cubicBezTo>
                      <a:pt x="2302" y="84"/>
                      <a:pt x="2301" y="86"/>
                      <a:pt x="2300" y="87"/>
                    </a:cubicBezTo>
                    <a:cubicBezTo>
                      <a:pt x="2299" y="86"/>
                      <a:pt x="2298" y="85"/>
                      <a:pt x="2297" y="83"/>
                    </a:cubicBezTo>
                    <a:cubicBezTo>
                      <a:pt x="2301" y="78"/>
                      <a:pt x="2305" y="72"/>
                      <a:pt x="2308" y="67"/>
                    </a:cubicBezTo>
                    <a:cubicBezTo>
                      <a:pt x="2308" y="72"/>
                      <a:pt x="2307" y="76"/>
                      <a:pt x="2306" y="81"/>
                    </a:cubicBezTo>
                    <a:cubicBezTo>
                      <a:pt x="2306" y="80"/>
                      <a:pt x="2305" y="79"/>
                      <a:pt x="2305" y="79"/>
                    </a:cubicBezTo>
                    <a:cubicBezTo>
                      <a:pt x="2305" y="78"/>
                      <a:pt x="2306" y="77"/>
                      <a:pt x="2307" y="75"/>
                    </a:cubicBezTo>
                    <a:cubicBezTo>
                      <a:pt x="2306" y="76"/>
                      <a:pt x="2305" y="77"/>
                      <a:pt x="2305" y="79"/>
                    </a:cubicBezTo>
                    <a:cubicBezTo>
                      <a:pt x="2304" y="78"/>
                      <a:pt x="2304" y="77"/>
                      <a:pt x="2303" y="77"/>
                    </a:cubicBezTo>
                    <a:cubicBezTo>
                      <a:pt x="2303" y="78"/>
                      <a:pt x="2304" y="79"/>
                      <a:pt x="2304" y="79"/>
                    </a:cubicBezTo>
                    <a:cubicBezTo>
                      <a:pt x="2304" y="80"/>
                      <a:pt x="2303" y="81"/>
                      <a:pt x="2303" y="83"/>
                    </a:cubicBezTo>
                    <a:cubicBezTo>
                      <a:pt x="2303" y="82"/>
                      <a:pt x="2304" y="81"/>
                      <a:pt x="2304" y="80"/>
                    </a:cubicBezTo>
                    <a:cubicBezTo>
                      <a:pt x="2305" y="81"/>
                      <a:pt x="2305" y="82"/>
                      <a:pt x="2306" y="84"/>
                    </a:cubicBezTo>
                    <a:cubicBezTo>
                      <a:pt x="2305" y="87"/>
                      <a:pt x="2305" y="90"/>
                      <a:pt x="2304" y="93"/>
                    </a:cubicBezTo>
                    <a:cubicBezTo>
                      <a:pt x="2303" y="91"/>
                      <a:pt x="2302" y="89"/>
                      <a:pt x="2300" y="87"/>
                    </a:cubicBezTo>
                    <a:close/>
                    <a:moveTo>
                      <a:pt x="2305" y="144"/>
                    </a:moveTo>
                    <a:cubicBezTo>
                      <a:pt x="2305" y="144"/>
                      <a:pt x="2305" y="143"/>
                      <a:pt x="2305" y="143"/>
                    </a:cubicBezTo>
                    <a:cubicBezTo>
                      <a:pt x="2305" y="140"/>
                      <a:pt x="2305" y="136"/>
                      <a:pt x="2305" y="131"/>
                    </a:cubicBezTo>
                    <a:cubicBezTo>
                      <a:pt x="2306" y="128"/>
                      <a:pt x="2307" y="126"/>
                      <a:pt x="2307" y="125"/>
                    </a:cubicBezTo>
                    <a:cubicBezTo>
                      <a:pt x="2307" y="125"/>
                      <a:pt x="2307" y="124"/>
                      <a:pt x="2307" y="124"/>
                    </a:cubicBezTo>
                    <a:cubicBezTo>
                      <a:pt x="2306" y="124"/>
                      <a:pt x="2306" y="124"/>
                      <a:pt x="2306" y="124"/>
                    </a:cubicBezTo>
                    <a:cubicBezTo>
                      <a:pt x="2306" y="122"/>
                      <a:pt x="2306" y="120"/>
                      <a:pt x="2306" y="118"/>
                    </a:cubicBezTo>
                    <a:cubicBezTo>
                      <a:pt x="2307" y="121"/>
                      <a:pt x="2308" y="125"/>
                      <a:pt x="2308" y="128"/>
                    </a:cubicBezTo>
                    <a:cubicBezTo>
                      <a:pt x="2307" y="136"/>
                      <a:pt x="2306" y="141"/>
                      <a:pt x="2305" y="144"/>
                    </a:cubicBezTo>
                    <a:close/>
                    <a:moveTo>
                      <a:pt x="2312" y="107"/>
                    </a:moveTo>
                    <a:cubicBezTo>
                      <a:pt x="2311" y="105"/>
                      <a:pt x="2310" y="102"/>
                      <a:pt x="2308" y="100"/>
                    </a:cubicBezTo>
                    <a:cubicBezTo>
                      <a:pt x="2309" y="97"/>
                      <a:pt x="2309" y="95"/>
                      <a:pt x="2309" y="93"/>
                    </a:cubicBezTo>
                    <a:cubicBezTo>
                      <a:pt x="2310" y="96"/>
                      <a:pt x="2312" y="99"/>
                      <a:pt x="2313" y="102"/>
                    </a:cubicBezTo>
                    <a:cubicBezTo>
                      <a:pt x="2313" y="104"/>
                      <a:pt x="2312" y="105"/>
                      <a:pt x="2312" y="107"/>
                    </a:cubicBezTo>
                    <a:close/>
                    <a:moveTo>
                      <a:pt x="2313" y="159"/>
                    </a:moveTo>
                    <a:cubicBezTo>
                      <a:pt x="2313" y="159"/>
                      <a:pt x="2313" y="159"/>
                      <a:pt x="2313" y="159"/>
                    </a:cubicBezTo>
                    <a:cubicBezTo>
                      <a:pt x="2313" y="159"/>
                      <a:pt x="2313" y="159"/>
                      <a:pt x="2314" y="159"/>
                    </a:cubicBezTo>
                    <a:cubicBezTo>
                      <a:pt x="2313" y="159"/>
                      <a:pt x="2313" y="159"/>
                      <a:pt x="2313" y="159"/>
                    </a:cubicBezTo>
                    <a:close/>
                    <a:moveTo>
                      <a:pt x="2314" y="96"/>
                    </a:moveTo>
                    <a:cubicBezTo>
                      <a:pt x="2313" y="93"/>
                      <a:pt x="2311" y="91"/>
                      <a:pt x="2310" y="88"/>
                    </a:cubicBezTo>
                    <a:cubicBezTo>
                      <a:pt x="2312" y="85"/>
                      <a:pt x="2314" y="82"/>
                      <a:pt x="2316" y="79"/>
                    </a:cubicBezTo>
                    <a:cubicBezTo>
                      <a:pt x="2316" y="84"/>
                      <a:pt x="2315" y="90"/>
                      <a:pt x="2314" y="96"/>
                    </a:cubicBezTo>
                    <a:close/>
                    <a:moveTo>
                      <a:pt x="2317" y="75"/>
                    </a:moveTo>
                    <a:cubicBezTo>
                      <a:pt x="2315" y="78"/>
                      <a:pt x="2312" y="82"/>
                      <a:pt x="2310" y="86"/>
                    </a:cubicBezTo>
                    <a:cubicBezTo>
                      <a:pt x="2311" y="77"/>
                      <a:pt x="2312" y="68"/>
                      <a:pt x="2313" y="61"/>
                    </a:cubicBezTo>
                    <a:cubicBezTo>
                      <a:pt x="2315" y="58"/>
                      <a:pt x="2317" y="55"/>
                      <a:pt x="2319" y="53"/>
                    </a:cubicBezTo>
                    <a:cubicBezTo>
                      <a:pt x="2319" y="58"/>
                      <a:pt x="2318" y="66"/>
                      <a:pt x="2317" y="75"/>
                    </a:cubicBezTo>
                    <a:close/>
                    <a:moveTo>
                      <a:pt x="2324" y="139"/>
                    </a:moveTo>
                    <a:cubicBezTo>
                      <a:pt x="2324" y="139"/>
                      <a:pt x="2324" y="139"/>
                      <a:pt x="2323" y="139"/>
                    </a:cubicBezTo>
                    <a:cubicBezTo>
                      <a:pt x="2323" y="138"/>
                      <a:pt x="2323" y="138"/>
                      <a:pt x="2324" y="138"/>
                    </a:cubicBezTo>
                    <a:cubicBezTo>
                      <a:pt x="2324" y="138"/>
                      <a:pt x="2324" y="138"/>
                      <a:pt x="2324" y="138"/>
                    </a:cubicBezTo>
                    <a:cubicBezTo>
                      <a:pt x="2324" y="139"/>
                      <a:pt x="2324" y="139"/>
                      <a:pt x="2324" y="139"/>
                    </a:cubicBezTo>
                    <a:close/>
                    <a:moveTo>
                      <a:pt x="2349" y="137"/>
                    </a:moveTo>
                    <a:cubicBezTo>
                      <a:pt x="2349" y="136"/>
                      <a:pt x="2348" y="135"/>
                      <a:pt x="2348" y="133"/>
                    </a:cubicBezTo>
                    <a:cubicBezTo>
                      <a:pt x="2348" y="132"/>
                      <a:pt x="2348" y="130"/>
                      <a:pt x="2348" y="128"/>
                    </a:cubicBezTo>
                    <a:cubicBezTo>
                      <a:pt x="2348" y="131"/>
                      <a:pt x="2349" y="133"/>
                      <a:pt x="2350" y="135"/>
                    </a:cubicBezTo>
                    <a:cubicBezTo>
                      <a:pt x="2350" y="136"/>
                      <a:pt x="2349" y="137"/>
                      <a:pt x="2349" y="137"/>
                    </a:cubicBezTo>
                    <a:close/>
                    <a:moveTo>
                      <a:pt x="2355" y="99"/>
                    </a:moveTo>
                    <a:cubicBezTo>
                      <a:pt x="2354" y="95"/>
                      <a:pt x="2352" y="92"/>
                      <a:pt x="2350" y="90"/>
                    </a:cubicBezTo>
                    <a:cubicBezTo>
                      <a:pt x="2352" y="93"/>
                      <a:pt x="2354" y="97"/>
                      <a:pt x="2355" y="101"/>
                    </a:cubicBezTo>
                    <a:cubicBezTo>
                      <a:pt x="2354" y="110"/>
                      <a:pt x="2353" y="118"/>
                      <a:pt x="2351" y="125"/>
                    </a:cubicBezTo>
                    <a:cubicBezTo>
                      <a:pt x="2350" y="122"/>
                      <a:pt x="2349" y="119"/>
                      <a:pt x="2349" y="116"/>
                    </a:cubicBezTo>
                    <a:cubicBezTo>
                      <a:pt x="2349" y="102"/>
                      <a:pt x="2350" y="86"/>
                      <a:pt x="2351" y="72"/>
                    </a:cubicBezTo>
                    <a:cubicBezTo>
                      <a:pt x="2353" y="75"/>
                      <a:pt x="2356" y="79"/>
                      <a:pt x="2358" y="82"/>
                    </a:cubicBezTo>
                    <a:cubicBezTo>
                      <a:pt x="2357" y="88"/>
                      <a:pt x="2356" y="93"/>
                      <a:pt x="2355" y="99"/>
                    </a:cubicBezTo>
                    <a:close/>
                    <a:moveTo>
                      <a:pt x="2358" y="142"/>
                    </a:moveTo>
                    <a:cubicBezTo>
                      <a:pt x="2359" y="134"/>
                      <a:pt x="2360" y="127"/>
                      <a:pt x="2360" y="121"/>
                    </a:cubicBezTo>
                    <a:cubicBezTo>
                      <a:pt x="2360" y="123"/>
                      <a:pt x="2361" y="125"/>
                      <a:pt x="2361" y="127"/>
                    </a:cubicBezTo>
                    <a:cubicBezTo>
                      <a:pt x="2360" y="136"/>
                      <a:pt x="2358" y="142"/>
                      <a:pt x="2358" y="142"/>
                    </a:cubicBezTo>
                    <a:close/>
                    <a:moveTo>
                      <a:pt x="2362" y="144"/>
                    </a:moveTo>
                    <a:cubicBezTo>
                      <a:pt x="2362" y="142"/>
                      <a:pt x="2362" y="140"/>
                      <a:pt x="2363" y="137"/>
                    </a:cubicBezTo>
                    <a:cubicBezTo>
                      <a:pt x="2363" y="138"/>
                      <a:pt x="2363" y="138"/>
                      <a:pt x="2363" y="138"/>
                    </a:cubicBezTo>
                    <a:cubicBezTo>
                      <a:pt x="2362" y="142"/>
                      <a:pt x="2362" y="144"/>
                      <a:pt x="2362" y="144"/>
                    </a:cubicBezTo>
                    <a:close/>
                    <a:moveTo>
                      <a:pt x="2361" y="110"/>
                    </a:moveTo>
                    <a:cubicBezTo>
                      <a:pt x="2361" y="103"/>
                      <a:pt x="2362" y="96"/>
                      <a:pt x="2362" y="90"/>
                    </a:cubicBezTo>
                    <a:cubicBezTo>
                      <a:pt x="2364" y="93"/>
                      <a:pt x="2365" y="96"/>
                      <a:pt x="2366" y="99"/>
                    </a:cubicBezTo>
                    <a:cubicBezTo>
                      <a:pt x="2365" y="105"/>
                      <a:pt x="2364" y="111"/>
                      <a:pt x="2363" y="116"/>
                    </a:cubicBezTo>
                    <a:cubicBezTo>
                      <a:pt x="2362" y="114"/>
                      <a:pt x="2362" y="112"/>
                      <a:pt x="2361" y="110"/>
                    </a:cubicBezTo>
                    <a:close/>
                    <a:moveTo>
                      <a:pt x="2366" y="124"/>
                    </a:moveTo>
                    <a:cubicBezTo>
                      <a:pt x="2365" y="123"/>
                      <a:pt x="2365" y="122"/>
                      <a:pt x="2365" y="121"/>
                    </a:cubicBezTo>
                    <a:cubicBezTo>
                      <a:pt x="2365" y="115"/>
                      <a:pt x="2366" y="109"/>
                      <a:pt x="2367" y="103"/>
                    </a:cubicBezTo>
                    <a:cubicBezTo>
                      <a:pt x="2368" y="105"/>
                      <a:pt x="2368" y="107"/>
                      <a:pt x="2369" y="109"/>
                    </a:cubicBezTo>
                    <a:cubicBezTo>
                      <a:pt x="2368" y="114"/>
                      <a:pt x="2367" y="119"/>
                      <a:pt x="2366" y="124"/>
                    </a:cubicBezTo>
                    <a:close/>
                    <a:moveTo>
                      <a:pt x="2371" y="146"/>
                    </a:moveTo>
                    <a:cubicBezTo>
                      <a:pt x="2371" y="145"/>
                      <a:pt x="2371" y="145"/>
                      <a:pt x="2371" y="145"/>
                    </a:cubicBezTo>
                    <a:cubicBezTo>
                      <a:pt x="2372" y="144"/>
                      <a:pt x="2372" y="143"/>
                      <a:pt x="2372" y="141"/>
                    </a:cubicBezTo>
                    <a:cubicBezTo>
                      <a:pt x="2372" y="142"/>
                      <a:pt x="2372" y="143"/>
                      <a:pt x="2372" y="144"/>
                    </a:cubicBezTo>
                    <a:cubicBezTo>
                      <a:pt x="2372" y="145"/>
                      <a:pt x="2372" y="145"/>
                      <a:pt x="2371" y="146"/>
                    </a:cubicBezTo>
                    <a:close/>
                    <a:moveTo>
                      <a:pt x="2395" y="118"/>
                    </a:moveTo>
                    <a:cubicBezTo>
                      <a:pt x="2394" y="114"/>
                      <a:pt x="2392" y="111"/>
                      <a:pt x="2391" y="107"/>
                    </a:cubicBezTo>
                    <a:cubicBezTo>
                      <a:pt x="2391" y="96"/>
                      <a:pt x="2391" y="84"/>
                      <a:pt x="2391" y="74"/>
                    </a:cubicBezTo>
                    <a:cubicBezTo>
                      <a:pt x="2391" y="70"/>
                      <a:pt x="2391" y="67"/>
                      <a:pt x="2390" y="65"/>
                    </a:cubicBezTo>
                    <a:cubicBezTo>
                      <a:pt x="2391" y="74"/>
                      <a:pt x="2395" y="84"/>
                      <a:pt x="2398" y="94"/>
                    </a:cubicBezTo>
                    <a:cubicBezTo>
                      <a:pt x="2397" y="102"/>
                      <a:pt x="2396" y="110"/>
                      <a:pt x="2395" y="118"/>
                    </a:cubicBezTo>
                    <a:close/>
                    <a:moveTo>
                      <a:pt x="2424" y="124"/>
                    </a:moveTo>
                    <a:cubicBezTo>
                      <a:pt x="2423" y="122"/>
                      <a:pt x="2423" y="120"/>
                      <a:pt x="2422" y="117"/>
                    </a:cubicBezTo>
                    <a:cubicBezTo>
                      <a:pt x="2423" y="109"/>
                      <a:pt x="2424" y="100"/>
                      <a:pt x="2425" y="92"/>
                    </a:cubicBezTo>
                    <a:cubicBezTo>
                      <a:pt x="2427" y="96"/>
                      <a:pt x="2428" y="100"/>
                      <a:pt x="2428" y="104"/>
                    </a:cubicBezTo>
                    <a:cubicBezTo>
                      <a:pt x="2427" y="111"/>
                      <a:pt x="2425" y="118"/>
                      <a:pt x="2424" y="124"/>
                    </a:cubicBezTo>
                    <a:close/>
                    <a:moveTo>
                      <a:pt x="2464" y="133"/>
                    </a:moveTo>
                    <a:cubicBezTo>
                      <a:pt x="2464" y="130"/>
                      <a:pt x="2463" y="126"/>
                      <a:pt x="2462" y="122"/>
                    </a:cubicBezTo>
                    <a:cubicBezTo>
                      <a:pt x="2462" y="112"/>
                      <a:pt x="2462" y="100"/>
                      <a:pt x="2463" y="88"/>
                    </a:cubicBezTo>
                    <a:cubicBezTo>
                      <a:pt x="2465" y="96"/>
                      <a:pt x="2467" y="104"/>
                      <a:pt x="2467" y="111"/>
                    </a:cubicBezTo>
                    <a:cubicBezTo>
                      <a:pt x="2468" y="117"/>
                      <a:pt x="2468" y="117"/>
                      <a:pt x="2468" y="117"/>
                    </a:cubicBezTo>
                    <a:cubicBezTo>
                      <a:pt x="2466" y="123"/>
                      <a:pt x="2465" y="129"/>
                      <a:pt x="2464" y="133"/>
                    </a:cubicBezTo>
                    <a:close/>
                    <a:moveTo>
                      <a:pt x="2477" y="110"/>
                    </a:moveTo>
                    <a:cubicBezTo>
                      <a:pt x="2477" y="113"/>
                      <a:pt x="2477" y="116"/>
                      <a:pt x="2477" y="119"/>
                    </a:cubicBezTo>
                    <a:cubicBezTo>
                      <a:pt x="2476" y="122"/>
                      <a:pt x="2476" y="124"/>
                      <a:pt x="2475" y="127"/>
                    </a:cubicBezTo>
                    <a:cubicBezTo>
                      <a:pt x="2475" y="119"/>
                      <a:pt x="2474" y="111"/>
                      <a:pt x="2473" y="104"/>
                    </a:cubicBezTo>
                    <a:cubicBezTo>
                      <a:pt x="2474" y="98"/>
                      <a:pt x="2474" y="91"/>
                      <a:pt x="2475" y="86"/>
                    </a:cubicBezTo>
                    <a:cubicBezTo>
                      <a:pt x="2477" y="93"/>
                      <a:pt x="2477" y="102"/>
                      <a:pt x="2477" y="110"/>
                    </a:cubicBezTo>
                    <a:close/>
                    <a:moveTo>
                      <a:pt x="2487" y="142"/>
                    </a:moveTo>
                    <a:cubicBezTo>
                      <a:pt x="2487" y="142"/>
                      <a:pt x="2487" y="141"/>
                      <a:pt x="2488" y="138"/>
                    </a:cubicBezTo>
                    <a:cubicBezTo>
                      <a:pt x="2489" y="120"/>
                      <a:pt x="2488" y="96"/>
                      <a:pt x="2487" y="77"/>
                    </a:cubicBezTo>
                    <a:cubicBezTo>
                      <a:pt x="2489" y="81"/>
                      <a:pt x="2491" y="86"/>
                      <a:pt x="2492" y="92"/>
                    </a:cubicBezTo>
                    <a:cubicBezTo>
                      <a:pt x="2490" y="108"/>
                      <a:pt x="2488" y="129"/>
                      <a:pt x="2488" y="138"/>
                    </a:cubicBezTo>
                    <a:cubicBezTo>
                      <a:pt x="2487" y="139"/>
                      <a:pt x="2487" y="141"/>
                      <a:pt x="2487" y="142"/>
                    </a:cubicBezTo>
                    <a:close/>
                    <a:moveTo>
                      <a:pt x="2491" y="129"/>
                    </a:moveTo>
                    <a:cubicBezTo>
                      <a:pt x="2491" y="119"/>
                      <a:pt x="2492" y="107"/>
                      <a:pt x="2493" y="97"/>
                    </a:cubicBezTo>
                    <a:cubicBezTo>
                      <a:pt x="2493" y="100"/>
                      <a:pt x="2493" y="103"/>
                      <a:pt x="2493" y="106"/>
                    </a:cubicBezTo>
                    <a:cubicBezTo>
                      <a:pt x="2493" y="114"/>
                      <a:pt x="2492" y="121"/>
                      <a:pt x="2491" y="129"/>
                    </a:cubicBezTo>
                    <a:close/>
                    <a:moveTo>
                      <a:pt x="2502" y="125"/>
                    </a:moveTo>
                    <a:cubicBezTo>
                      <a:pt x="2503" y="120"/>
                      <a:pt x="2503" y="113"/>
                      <a:pt x="2503" y="107"/>
                    </a:cubicBezTo>
                    <a:cubicBezTo>
                      <a:pt x="2503" y="114"/>
                      <a:pt x="2503" y="120"/>
                      <a:pt x="2502" y="125"/>
                    </a:cubicBezTo>
                    <a:close/>
                    <a:moveTo>
                      <a:pt x="2517" y="112"/>
                    </a:moveTo>
                    <a:cubicBezTo>
                      <a:pt x="2517" y="105"/>
                      <a:pt x="2517" y="98"/>
                      <a:pt x="2517" y="91"/>
                    </a:cubicBezTo>
                    <a:cubicBezTo>
                      <a:pt x="2518" y="95"/>
                      <a:pt x="2518" y="99"/>
                      <a:pt x="2518" y="103"/>
                    </a:cubicBezTo>
                    <a:cubicBezTo>
                      <a:pt x="2518" y="106"/>
                      <a:pt x="2518" y="109"/>
                      <a:pt x="2517" y="112"/>
                    </a:cubicBezTo>
                    <a:close/>
                    <a:moveTo>
                      <a:pt x="2528" y="129"/>
                    </a:moveTo>
                    <a:cubicBezTo>
                      <a:pt x="2528" y="129"/>
                      <a:pt x="2528" y="129"/>
                      <a:pt x="2527" y="130"/>
                    </a:cubicBezTo>
                    <a:cubicBezTo>
                      <a:pt x="2527" y="132"/>
                      <a:pt x="2526" y="134"/>
                      <a:pt x="2526" y="137"/>
                    </a:cubicBezTo>
                    <a:cubicBezTo>
                      <a:pt x="2526" y="136"/>
                      <a:pt x="2526" y="136"/>
                      <a:pt x="2526" y="136"/>
                    </a:cubicBezTo>
                    <a:cubicBezTo>
                      <a:pt x="2526" y="134"/>
                      <a:pt x="2527" y="132"/>
                      <a:pt x="2527" y="130"/>
                    </a:cubicBezTo>
                    <a:cubicBezTo>
                      <a:pt x="2528" y="129"/>
                      <a:pt x="2528" y="129"/>
                      <a:pt x="2528" y="129"/>
                    </a:cubicBezTo>
                    <a:cubicBezTo>
                      <a:pt x="2528" y="129"/>
                      <a:pt x="2528" y="129"/>
                      <a:pt x="2528" y="129"/>
                    </a:cubicBezTo>
                    <a:close/>
                    <a:moveTo>
                      <a:pt x="2564" y="130"/>
                    </a:moveTo>
                    <a:cubicBezTo>
                      <a:pt x="2564" y="132"/>
                      <a:pt x="2563" y="134"/>
                      <a:pt x="2562" y="136"/>
                    </a:cubicBezTo>
                    <a:cubicBezTo>
                      <a:pt x="2562" y="131"/>
                      <a:pt x="2562" y="126"/>
                      <a:pt x="2562" y="121"/>
                    </a:cubicBezTo>
                    <a:cubicBezTo>
                      <a:pt x="2564" y="115"/>
                      <a:pt x="2566" y="110"/>
                      <a:pt x="2567" y="104"/>
                    </a:cubicBezTo>
                    <a:cubicBezTo>
                      <a:pt x="2566" y="114"/>
                      <a:pt x="2565" y="123"/>
                      <a:pt x="2564" y="130"/>
                    </a:cubicBezTo>
                    <a:close/>
                    <a:moveTo>
                      <a:pt x="2580" y="124"/>
                    </a:moveTo>
                    <a:cubicBezTo>
                      <a:pt x="2580" y="110"/>
                      <a:pt x="2582" y="94"/>
                      <a:pt x="2583" y="83"/>
                    </a:cubicBezTo>
                    <a:cubicBezTo>
                      <a:pt x="2583" y="87"/>
                      <a:pt x="2583" y="91"/>
                      <a:pt x="2583" y="95"/>
                    </a:cubicBezTo>
                    <a:cubicBezTo>
                      <a:pt x="2583" y="105"/>
                      <a:pt x="2582" y="114"/>
                      <a:pt x="2580" y="124"/>
                    </a:cubicBezTo>
                    <a:close/>
                    <a:moveTo>
                      <a:pt x="2596" y="160"/>
                    </a:moveTo>
                    <a:cubicBezTo>
                      <a:pt x="2596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6" y="160"/>
                    </a:cubicBezTo>
                    <a:close/>
                    <a:moveTo>
                      <a:pt x="2609" y="116"/>
                    </a:moveTo>
                    <a:cubicBezTo>
                      <a:pt x="2608" y="121"/>
                      <a:pt x="2606" y="127"/>
                      <a:pt x="2604" y="132"/>
                    </a:cubicBezTo>
                    <a:cubicBezTo>
                      <a:pt x="2604" y="127"/>
                      <a:pt x="2604" y="121"/>
                      <a:pt x="2604" y="115"/>
                    </a:cubicBezTo>
                    <a:cubicBezTo>
                      <a:pt x="2605" y="110"/>
                      <a:pt x="2605" y="104"/>
                      <a:pt x="2605" y="98"/>
                    </a:cubicBezTo>
                    <a:cubicBezTo>
                      <a:pt x="2605" y="95"/>
                      <a:pt x="2605" y="92"/>
                      <a:pt x="2605" y="89"/>
                    </a:cubicBezTo>
                    <a:cubicBezTo>
                      <a:pt x="2606" y="78"/>
                      <a:pt x="2607" y="68"/>
                      <a:pt x="2608" y="60"/>
                    </a:cubicBezTo>
                    <a:cubicBezTo>
                      <a:pt x="2611" y="68"/>
                      <a:pt x="2613" y="78"/>
                      <a:pt x="2613" y="87"/>
                    </a:cubicBezTo>
                    <a:cubicBezTo>
                      <a:pt x="2612" y="95"/>
                      <a:pt x="2611" y="106"/>
                      <a:pt x="2609" y="116"/>
                    </a:cubicBezTo>
                    <a:close/>
                    <a:moveTo>
                      <a:pt x="2617" y="136"/>
                    </a:moveTo>
                    <a:cubicBezTo>
                      <a:pt x="2617" y="137"/>
                      <a:pt x="2616" y="138"/>
                      <a:pt x="2616" y="139"/>
                    </a:cubicBezTo>
                    <a:cubicBezTo>
                      <a:pt x="2616" y="137"/>
                      <a:pt x="2616" y="135"/>
                      <a:pt x="2616" y="133"/>
                    </a:cubicBezTo>
                    <a:cubicBezTo>
                      <a:pt x="2617" y="130"/>
                      <a:pt x="2617" y="128"/>
                      <a:pt x="2618" y="125"/>
                    </a:cubicBezTo>
                    <a:cubicBezTo>
                      <a:pt x="2618" y="129"/>
                      <a:pt x="2617" y="133"/>
                      <a:pt x="2617" y="136"/>
                    </a:cubicBezTo>
                    <a:close/>
                    <a:moveTo>
                      <a:pt x="2633" y="126"/>
                    </a:moveTo>
                    <a:cubicBezTo>
                      <a:pt x="2632" y="113"/>
                      <a:pt x="2632" y="96"/>
                      <a:pt x="2632" y="84"/>
                    </a:cubicBezTo>
                    <a:cubicBezTo>
                      <a:pt x="2636" y="90"/>
                      <a:pt x="2638" y="100"/>
                      <a:pt x="2638" y="104"/>
                    </a:cubicBezTo>
                    <a:cubicBezTo>
                      <a:pt x="2638" y="110"/>
                      <a:pt x="2635" y="118"/>
                      <a:pt x="2633" y="126"/>
                    </a:cubicBezTo>
                    <a:close/>
                    <a:moveTo>
                      <a:pt x="2644" y="128"/>
                    </a:moveTo>
                    <a:cubicBezTo>
                      <a:pt x="2645" y="113"/>
                      <a:pt x="2645" y="91"/>
                      <a:pt x="2645" y="76"/>
                    </a:cubicBezTo>
                    <a:cubicBezTo>
                      <a:pt x="2647" y="83"/>
                      <a:pt x="2649" y="90"/>
                      <a:pt x="2649" y="96"/>
                    </a:cubicBezTo>
                    <a:cubicBezTo>
                      <a:pt x="2649" y="107"/>
                      <a:pt x="2646" y="117"/>
                      <a:pt x="2644" y="128"/>
                    </a:cubicBezTo>
                    <a:close/>
                    <a:moveTo>
                      <a:pt x="2684" y="112"/>
                    </a:moveTo>
                    <a:cubicBezTo>
                      <a:pt x="2684" y="110"/>
                      <a:pt x="2684" y="108"/>
                      <a:pt x="2683" y="105"/>
                    </a:cubicBezTo>
                    <a:cubicBezTo>
                      <a:pt x="2684" y="108"/>
                      <a:pt x="2683" y="112"/>
                      <a:pt x="2683" y="115"/>
                    </a:cubicBezTo>
                    <a:cubicBezTo>
                      <a:pt x="2678" y="131"/>
                      <a:pt x="2674" y="144"/>
                      <a:pt x="2674" y="144"/>
                    </a:cubicBezTo>
                    <a:cubicBezTo>
                      <a:pt x="2675" y="133"/>
                      <a:pt x="2679" y="110"/>
                      <a:pt x="2684" y="86"/>
                    </a:cubicBezTo>
                    <a:cubicBezTo>
                      <a:pt x="2686" y="90"/>
                      <a:pt x="2687" y="95"/>
                      <a:pt x="2688" y="99"/>
                    </a:cubicBezTo>
                    <a:cubicBezTo>
                      <a:pt x="2686" y="103"/>
                      <a:pt x="2685" y="108"/>
                      <a:pt x="2684" y="112"/>
                    </a:cubicBezTo>
                    <a:close/>
                    <a:moveTo>
                      <a:pt x="2696" y="133"/>
                    </a:moveTo>
                    <a:cubicBezTo>
                      <a:pt x="2696" y="133"/>
                      <a:pt x="2696" y="134"/>
                      <a:pt x="2696" y="134"/>
                    </a:cubicBezTo>
                    <a:cubicBezTo>
                      <a:pt x="2696" y="134"/>
                      <a:pt x="2696" y="134"/>
                      <a:pt x="2696" y="134"/>
                    </a:cubicBezTo>
                    <a:cubicBezTo>
                      <a:pt x="2696" y="134"/>
                      <a:pt x="2696" y="133"/>
                      <a:pt x="2696" y="133"/>
                    </a:cubicBezTo>
                    <a:cubicBezTo>
                      <a:pt x="2697" y="126"/>
                      <a:pt x="2698" y="117"/>
                      <a:pt x="2699" y="107"/>
                    </a:cubicBezTo>
                    <a:cubicBezTo>
                      <a:pt x="2699" y="110"/>
                      <a:pt x="2699" y="114"/>
                      <a:pt x="2699" y="117"/>
                    </a:cubicBezTo>
                    <a:cubicBezTo>
                      <a:pt x="2698" y="123"/>
                      <a:pt x="2697" y="129"/>
                      <a:pt x="2696" y="133"/>
                    </a:cubicBezTo>
                    <a:close/>
                    <a:moveTo>
                      <a:pt x="2701" y="159"/>
                    </a:move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lose/>
                    <a:moveTo>
                      <a:pt x="2742" y="143"/>
                    </a:moveTo>
                    <a:cubicBezTo>
                      <a:pt x="2742" y="142"/>
                      <a:pt x="2742" y="142"/>
                      <a:pt x="2742" y="141"/>
                    </a:cubicBezTo>
                    <a:cubicBezTo>
                      <a:pt x="2742" y="135"/>
                      <a:pt x="2743" y="127"/>
                      <a:pt x="2743" y="117"/>
                    </a:cubicBezTo>
                    <a:cubicBezTo>
                      <a:pt x="2744" y="121"/>
                      <a:pt x="2744" y="125"/>
                      <a:pt x="2744" y="129"/>
                    </a:cubicBezTo>
                    <a:cubicBezTo>
                      <a:pt x="2743" y="135"/>
                      <a:pt x="2743" y="139"/>
                      <a:pt x="2742" y="143"/>
                    </a:cubicBezTo>
                    <a:close/>
                    <a:moveTo>
                      <a:pt x="2746" y="117"/>
                    </a:moveTo>
                    <a:cubicBezTo>
                      <a:pt x="2745" y="115"/>
                      <a:pt x="2744" y="113"/>
                      <a:pt x="2744" y="111"/>
                    </a:cubicBezTo>
                    <a:cubicBezTo>
                      <a:pt x="2744" y="108"/>
                      <a:pt x="2744" y="104"/>
                      <a:pt x="2745" y="100"/>
                    </a:cubicBezTo>
                    <a:cubicBezTo>
                      <a:pt x="2746" y="103"/>
                      <a:pt x="2746" y="106"/>
                      <a:pt x="2747" y="108"/>
                    </a:cubicBezTo>
                    <a:cubicBezTo>
                      <a:pt x="2746" y="111"/>
                      <a:pt x="2746" y="114"/>
                      <a:pt x="2746" y="117"/>
                    </a:cubicBezTo>
                    <a:close/>
                    <a:moveTo>
                      <a:pt x="2754" y="133"/>
                    </a:moveTo>
                    <a:cubicBezTo>
                      <a:pt x="2754" y="133"/>
                      <a:pt x="2754" y="133"/>
                      <a:pt x="2754" y="133"/>
                    </a:cubicBezTo>
                    <a:cubicBezTo>
                      <a:pt x="2754" y="130"/>
                      <a:pt x="2755" y="127"/>
                      <a:pt x="2755" y="124"/>
                    </a:cubicBezTo>
                    <a:cubicBezTo>
                      <a:pt x="2755" y="125"/>
                      <a:pt x="2755" y="126"/>
                      <a:pt x="2755" y="128"/>
                    </a:cubicBezTo>
                    <a:cubicBezTo>
                      <a:pt x="2755" y="130"/>
                      <a:pt x="2754" y="131"/>
                      <a:pt x="2754" y="133"/>
                    </a:cubicBezTo>
                    <a:close/>
                    <a:moveTo>
                      <a:pt x="2791" y="142"/>
                    </a:moveTo>
                    <a:cubicBezTo>
                      <a:pt x="2791" y="139"/>
                      <a:pt x="2791" y="134"/>
                      <a:pt x="2791" y="128"/>
                    </a:cubicBezTo>
                    <a:cubicBezTo>
                      <a:pt x="2791" y="130"/>
                      <a:pt x="2791" y="132"/>
                      <a:pt x="2792" y="133"/>
                    </a:cubicBezTo>
                    <a:cubicBezTo>
                      <a:pt x="2791" y="139"/>
                      <a:pt x="2791" y="142"/>
                      <a:pt x="2791" y="142"/>
                    </a:cubicBezTo>
                    <a:close/>
                    <a:moveTo>
                      <a:pt x="2812" y="135"/>
                    </a:moveTo>
                    <a:cubicBezTo>
                      <a:pt x="2812" y="134"/>
                      <a:pt x="2812" y="134"/>
                      <a:pt x="2812" y="133"/>
                    </a:cubicBezTo>
                    <a:cubicBezTo>
                      <a:pt x="2812" y="121"/>
                      <a:pt x="2812" y="103"/>
                      <a:pt x="2811" y="88"/>
                    </a:cubicBezTo>
                    <a:cubicBezTo>
                      <a:pt x="2813" y="94"/>
                      <a:pt x="2815" y="100"/>
                      <a:pt x="2816" y="106"/>
                    </a:cubicBezTo>
                    <a:cubicBezTo>
                      <a:pt x="2814" y="118"/>
                      <a:pt x="2813" y="128"/>
                      <a:pt x="2812" y="135"/>
                    </a:cubicBezTo>
                    <a:close/>
                    <a:moveTo>
                      <a:pt x="2819" y="145"/>
                    </a:moveTo>
                    <a:cubicBezTo>
                      <a:pt x="2819" y="141"/>
                      <a:pt x="2819" y="136"/>
                      <a:pt x="2819" y="129"/>
                    </a:cubicBezTo>
                    <a:cubicBezTo>
                      <a:pt x="2820" y="133"/>
                      <a:pt x="2820" y="136"/>
                      <a:pt x="2821" y="139"/>
                    </a:cubicBezTo>
                    <a:cubicBezTo>
                      <a:pt x="2820" y="143"/>
                      <a:pt x="2819" y="145"/>
                      <a:pt x="2819" y="145"/>
                    </a:cubicBezTo>
                    <a:close/>
                    <a:moveTo>
                      <a:pt x="2824" y="159"/>
                    </a:moveTo>
                    <a:cubicBezTo>
                      <a:pt x="2825" y="159"/>
                      <a:pt x="2825" y="159"/>
                      <a:pt x="2825" y="159"/>
                    </a:cubicBezTo>
                    <a:cubicBezTo>
                      <a:pt x="2825" y="159"/>
                      <a:pt x="2825" y="158"/>
                      <a:pt x="2825" y="158"/>
                    </a:cubicBezTo>
                    <a:cubicBezTo>
                      <a:pt x="2825" y="159"/>
                      <a:pt x="2826" y="160"/>
                      <a:pt x="2826" y="160"/>
                    </a:cubicBezTo>
                    <a:cubicBezTo>
                      <a:pt x="2825" y="160"/>
                      <a:pt x="2825" y="159"/>
                      <a:pt x="2824" y="159"/>
                    </a:cubicBezTo>
                    <a:close/>
                    <a:moveTo>
                      <a:pt x="2826" y="121"/>
                    </a:moveTo>
                    <a:cubicBezTo>
                      <a:pt x="2824" y="117"/>
                      <a:pt x="2823" y="114"/>
                      <a:pt x="2821" y="110"/>
                    </a:cubicBezTo>
                    <a:cubicBezTo>
                      <a:pt x="2822" y="105"/>
                      <a:pt x="2822" y="99"/>
                      <a:pt x="2823" y="94"/>
                    </a:cubicBezTo>
                    <a:cubicBezTo>
                      <a:pt x="2823" y="100"/>
                      <a:pt x="2825" y="108"/>
                      <a:pt x="2827" y="116"/>
                    </a:cubicBezTo>
                    <a:cubicBezTo>
                      <a:pt x="2826" y="118"/>
                      <a:pt x="2826" y="119"/>
                      <a:pt x="2826" y="121"/>
                    </a:cubicBezTo>
                    <a:close/>
                    <a:moveTo>
                      <a:pt x="2834" y="142"/>
                    </a:moveTo>
                    <a:cubicBezTo>
                      <a:pt x="2833" y="138"/>
                      <a:pt x="2831" y="134"/>
                      <a:pt x="2829" y="129"/>
                    </a:cubicBezTo>
                    <a:cubicBezTo>
                      <a:pt x="2829" y="129"/>
                      <a:pt x="2829" y="128"/>
                      <a:pt x="2829" y="127"/>
                    </a:cubicBezTo>
                    <a:cubicBezTo>
                      <a:pt x="2831" y="132"/>
                      <a:pt x="2832" y="137"/>
                      <a:pt x="2834" y="142"/>
                    </a:cubicBezTo>
                    <a:cubicBezTo>
                      <a:pt x="2837" y="149"/>
                      <a:pt x="2839" y="153"/>
                      <a:pt x="2839" y="155"/>
                    </a:cubicBezTo>
                    <a:cubicBezTo>
                      <a:pt x="2837" y="151"/>
                      <a:pt x="2836" y="147"/>
                      <a:pt x="2834" y="142"/>
                    </a:cubicBezTo>
                    <a:close/>
                    <a:moveTo>
                      <a:pt x="3059" y="87"/>
                    </a:moveTo>
                    <a:cubicBezTo>
                      <a:pt x="3060" y="90"/>
                      <a:pt x="3061" y="92"/>
                      <a:pt x="3061" y="95"/>
                    </a:cubicBezTo>
                    <a:cubicBezTo>
                      <a:pt x="3061" y="94"/>
                      <a:pt x="3060" y="93"/>
                      <a:pt x="3059" y="92"/>
                    </a:cubicBezTo>
                    <a:cubicBezTo>
                      <a:pt x="3059" y="90"/>
                      <a:pt x="3059" y="89"/>
                      <a:pt x="3059" y="87"/>
                    </a:cubicBezTo>
                    <a:close/>
                    <a:moveTo>
                      <a:pt x="3047" y="84"/>
                    </a:moveTo>
                    <a:cubicBezTo>
                      <a:pt x="3050" y="87"/>
                      <a:pt x="3052" y="92"/>
                      <a:pt x="3055" y="96"/>
                    </a:cubicBezTo>
                    <a:cubicBezTo>
                      <a:pt x="3055" y="97"/>
                      <a:pt x="3056" y="99"/>
                      <a:pt x="3056" y="100"/>
                    </a:cubicBezTo>
                    <a:cubicBezTo>
                      <a:pt x="3056" y="104"/>
                      <a:pt x="3055" y="108"/>
                      <a:pt x="3054" y="112"/>
                    </a:cubicBezTo>
                    <a:cubicBezTo>
                      <a:pt x="3052" y="105"/>
                      <a:pt x="3049" y="98"/>
                      <a:pt x="3046" y="91"/>
                    </a:cubicBezTo>
                    <a:cubicBezTo>
                      <a:pt x="3046" y="89"/>
                      <a:pt x="3047" y="86"/>
                      <a:pt x="3047" y="84"/>
                    </a:cubicBezTo>
                    <a:close/>
                    <a:moveTo>
                      <a:pt x="3052" y="111"/>
                    </a:moveTo>
                    <a:cubicBezTo>
                      <a:pt x="3049" y="108"/>
                      <a:pt x="3047" y="105"/>
                      <a:pt x="3045" y="102"/>
                    </a:cubicBezTo>
                    <a:cubicBezTo>
                      <a:pt x="3045" y="99"/>
                      <a:pt x="3046" y="96"/>
                      <a:pt x="3046" y="93"/>
                    </a:cubicBezTo>
                    <a:cubicBezTo>
                      <a:pt x="3048" y="98"/>
                      <a:pt x="3050" y="105"/>
                      <a:pt x="3052" y="111"/>
                    </a:cubicBezTo>
                    <a:close/>
                    <a:moveTo>
                      <a:pt x="3034" y="56"/>
                    </a:moveTo>
                    <a:cubicBezTo>
                      <a:pt x="3039" y="62"/>
                      <a:pt x="3042" y="68"/>
                      <a:pt x="3045" y="74"/>
                    </a:cubicBezTo>
                    <a:cubicBezTo>
                      <a:pt x="3042" y="69"/>
                      <a:pt x="3038" y="64"/>
                      <a:pt x="3034" y="60"/>
                    </a:cubicBezTo>
                    <a:cubicBezTo>
                      <a:pt x="3034" y="59"/>
                      <a:pt x="3034" y="57"/>
                      <a:pt x="3034" y="56"/>
                    </a:cubicBezTo>
                    <a:close/>
                    <a:moveTo>
                      <a:pt x="3033" y="64"/>
                    </a:moveTo>
                    <a:cubicBezTo>
                      <a:pt x="3037" y="69"/>
                      <a:pt x="3041" y="74"/>
                      <a:pt x="3044" y="80"/>
                    </a:cubicBezTo>
                    <a:cubicBezTo>
                      <a:pt x="3044" y="81"/>
                      <a:pt x="3043" y="83"/>
                      <a:pt x="3043" y="85"/>
                    </a:cubicBezTo>
                    <a:cubicBezTo>
                      <a:pt x="3042" y="84"/>
                      <a:pt x="3042" y="83"/>
                      <a:pt x="3042" y="83"/>
                    </a:cubicBezTo>
                    <a:cubicBezTo>
                      <a:pt x="3042" y="83"/>
                      <a:pt x="3042" y="84"/>
                      <a:pt x="3043" y="85"/>
                    </a:cubicBezTo>
                    <a:cubicBezTo>
                      <a:pt x="3042" y="88"/>
                      <a:pt x="3041" y="91"/>
                      <a:pt x="3040" y="94"/>
                    </a:cubicBezTo>
                    <a:cubicBezTo>
                      <a:pt x="3037" y="89"/>
                      <a:pt x="3034" y="85"/>
                      <a:pt x="3031" y="80"/>
                    </a:cubicBezTo>
                    <a:cubicBezTo>
                      <a:pt x="3032" y="75"/>
                      <a:pt x="3033" y="69"/>
                      <a:pt x="3033" y="64"/>
                    </a:cubicBezTo>
                    <a:close/>
                    <a:moveTo>
                      <a:pt x="3024" y="139"/>
                    </a:moveTo>
                    <a:cubicBezTo>
                      <a:pt x="3024" y="120"/>
                      <a:pt x="3027" y="101"/>
                      <a:pt x="3030" y="83"/>
                    </a:cubicBezTo>
                    <a:cubicBezTo>
                      <a:pt x="3033" y="87"/>
                      <a:pt x="3036" y="91"/>
                      <a:pt x="3039" y="95"/>
                    </a:cubicBezTo>
                    <a:cubicBezTo>
                      <a:pt x="3033" y="114"/>
                      <a:pt x="3027" y="133"/>
                      <a:pt x="3025" y="152"/>
                    </a:cubicBezTo>
                    <a:cubicBezTo>
                      <a:pt x="3024" y="148"/>
                      <a:pt x="3024" y="143"/>
                      <a:pt x="3024" y="139"/>
                    </a:cubicBezTo>
                    <a:close/>
                    <a:moveTo>
                      <a:pt x="3043" y="143"/>
                    </a:moveTo>
                    <a:cubicBezTo>
                      <a:pt x="3043" y="142"/>
                      <a:pt x="3042" y="141"/>
                      <a:pt x="3041" y="140"/>
                    </a:cubicBezTo>
                    <a:cubicBezTo>
                      <a:pt x="3042" y="141"/>
                      <a:pt x="3042" y="143"/>
                      <a:pt x="3043" y="144"/>
                    </a:cubicBezTo>
                    <a:cubicBezTo>
                      <a:pt x="3041" y="146"/>
                      <a:pt x="3040" y="149"/>
                      <a:pt x="3038" y="152"/>
                    </a:cubicBezTo>
                    <a:cubicBezTo>
                      <a:pt x="3039" y="146"/>
                      <a:pt x="3040" y="140"/>
                      <a:pt x="3041" y="135"/>
                    </a:cubicBezTo>
                    <a:cubicBezTo>
                      <a:pt x="3042" y="137"/>
                      <a:pt x="3043" y="139"/>
                      <a:pt x="3044" y="142"/>
                    </a:cubicBezTo>
                    <a:cubicBezTo>
                      <a:pt x="3044" y="142"/>
                      <a:pt x="3043" y="142"/>
                      <a:pt x="3043" y="143"/>
                    </a:cubicBezTo>
                    <a:close/>
                    <a:moveTo>
                      <a:pt x="3042" y="126"/>
                    </a:moveTo>
                    <a:cubicBezTo>
                      <a:pt x="3043" y="118"/>
                      <a:pt x="3044" y="110"/>
                      <a:pt x="3045" y="102"/>
                    </a:cubicBezTo>
                    <a:cubicBezTo>
                      <a:pt x="3048" y="107"/>
                      <a:pt x="3051" y="112"/>
                      <a:pt x="3053" y="116"/>
                    </a:cubicBezTo>
                    <a:cubicBezTo>
                      <a:pt x="3052" y="122"/>
                      <a:pt x="3050" y="127"/>
                      <a:pt x="3048" y="133"/>
                    </a:cubicBezTo>
                    <a:cubicBezTo>
                      <a:pt x="3045" y="130"/>
                      <a:pt x="3043" y="128"/>
                      <a:pt x="3042" y="126"/>
                    </a:cubicBezTo>
                    <a:close/>
                    <a:moveTo>
                      <a:pt x="3054" y="140"/>
                    </a:moveTo>
                    <a:cubicBezTo>
                      <a:pt x="3053" y="140"/>
                      <a:pt x="3053" y="140"/>
                      <a:pt x="3053" y="140"/>
                    </a:cubicBezTo>
                    <a:cubicBezTo>
                      <a:pt x="3054" y="135"/>
                      <a:pt x="3055" y="130"/>
                      <a:pt x="3056" y="125"/>
                    </a:cubicBezTo>
                    <a:cubicBezTo>
                      <a:pt x="3056" y="127"/>
                      <a:pt x="3057" y="128"/>
                      <a:pt x="3057" y="130"/>
                    </a:cubicBezTo>
                    <a:cubicBezTo>
                      <a:pt x="3056" y="133"/>
                      <a:pt x="3055" y="137"/>
                      <a:pt x="3054" y="140"/>
                    </a:cubicBezTo>
                    <a:close/>
                    <a:moveTo>
                      <a:pt x="3060" y="122"/>
                    </a:moveTo>
                    <a:cubicBezTo>
                      <a:pt x="3059" y="120"/>
                      <a:pt x="3058" y="119"/>
                      <a:pt x="3057" y="117"/>
                    </a:cubicBezTo>
                    <a:cubicBezTo>
                      <a:pt x="3057" y="114"/>
                      <a:pt x="3058" y="110"/>
                      <a:pt x="3058" y="106"/>
                    </a:cubicBezTo>
                    <a:cubicBezTo>
                      <a:pt x="3059" y="111"/>
                      <a:pt x="3060" y="115"/>
                      <a:pt x="3061" y="120"/>
                    </a:cubicBezTo>
                    <a:cubicBezTo>
                      <a:pt x="3061" y="120"/>
                      <a:pt x="3061" y="121"/>
                      <a:pt x="3060" y="122"/>
                    </a:cubicBezTo>
                    <a:close/>
                    <a:moveTo>
                      <a:pt x="3062" y="151"/>
                    </a:moveTo>
                    <a:cubicBezTo>
                      <a:pt x="3061" y="151"/>
                      <a:pt x="3061" y="151"/>
                      <a:pt x="3061" y="151"/>
                    </a:cubicBezTo>
                    <a:cubicBezTo>
                      <a:pt x="3062" y="150"/>
                      <a:pt x="3062" y="150"/>
                      <a:pt x="3062" y="149"/>
                    </a:cubicBezTo>
                    <a:cubicBezTo>
                      <a:pt x="3062" y="149"/>
                      <a:pt x="3062" y="149"/>
                      <a:pt x="3062" y="149"/>
                    </a:cubicBezTo>
                    <a:cubicBezTo>
                      <a:pt x="3062" y="150"/>
                      <a:pt x="3062" y="150"/>
                      <a:pt x="3062" y="151"/>
                    </a:cubicBezTo>
                    <a:close/>
                    <a:moveTo>
                      <a:pt x="3062" y="117"/>
                    </a:moveTo>
                    <a:cubicBezTo>
                      <a:pt x="3061" y="112"/>
                      <a:pt x="3060" y="107"/>
                      <a:pt x="3058" y="102"/>
                    </a:cubicBezTo>
                    <a:cubicBezTo>
                      <a:pt x="3058" y="102"/>
                      <a:pt x="3059" y="101"/>
                      <a:pt x="3059" y="101"/>
                    </a:cubicBezTo>
                    <a:cubicBezTo>
                      <a:pt x="3061" y="105"/>
                      <a:pt x="3063" y="108"/>
                      <a:pt x="3065" y="112"/>
                    </a:cubicBezTo>
                    <a:cubicBezTo>
                      <a:pt x="3064" y="113"/>
                      <a:pt x="3063" y="115"/>
                      <a:pt x="3063" y="116"/>
                    </a:cubicBezTo>
                    <a:cubicBezTo>
                      <a:pt x="3062" y="117"/>
                      <a:pt x="3062" y="117"/>
                      <a:pt x="3062" y="117"/>
                    </a:cubicBezTo>
                    <a:close/>
                    <a:moveTo>
                      <a:pt x="3065" y="143"/>
                    </a:moveTo>
                    <a:cubicBezTo>
                      <a:pt x="3064" y="142"/>
                      <a:pt x="3064" y="142"/>
                      <a:pt x="3064" y="142"/>
                    </a:cubicBezTo>
                    <a:cubicBezTo>
                      <a:pt x="3064" y="141"/>
                      <a:pt x="3065" y="141"/>
                      <a:pt x="3065" y="140"/>
                    </a:cubicBezTo>
                    <a:cubicBezTo>
                      <a:pt x="3065" y="140"/>
                      <a:pt x="3065" y="141"/>
                      <a:pt x="3065" y="141"/>
                    </a:cubicBezTo>
                    <a:cubicBezTo>
                      <a:pt x="3065" y="142"/>
                      <a:pt x="3065" y="142"/>
                      <a:pt x="3065" y="143"/>
                    </a:cubicBezTo>
                    <a:close/>
                    <a:moveTo>
                      <a:pt x="3068" y="131"/>
                    </a:move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lose/>
                    <a:moveTo>
                      <a:pt x="3070" y="151"/>
                    </a:moveTo>
                    <a:cubicBezTo>
                      <a:pt x="3070" y="151"/>
                      <a:pt x="3070" y="151"/>
                      <a:pt x="3070" y="151"/>
                    </a:cubicBezTo>
                    <a:cubicBezTo>
                      <a:pt x="3070" y="151"/>
                      <a:pt x="3070" y="151"/>
                      <a:pt x="3070" y="152"/>
                    </a:cubicBezTo>
                    <a:cubicBezTo>
                      <a:pt x="3070" y="152"/>
                      <a:pt x="3070" y="151"/>
                      <a:pt x="3070" y="151"/>
                    </a:cubicBezTo>
                    <a:close/>
                    <a:moveTo>
                      <a:pt x="3072" y="126"/>
                    </a:moveTo>
                    <a:cubicBezTo>
                      <a:pt x="3072" y="128"/>
                      <a:pt x="3071" y="129"/>
                      <a:pt x="3070" y="131"/>
                    </a:cubicBezTo>
                    <a:cubicBezTo>
                      <a:pt x="3070" y="129"/>
                      <a:pt x="3070" y="127"/>
                      <a:pt x="3070" y="125"/>
                    </a:cubicBezTo>
                    <a:cubicBezTo>
                      <a:pt x="3070" y="124"/>
                      <a:pt x="3070" y="123"/>
                      <a:pt x="3071" y="122"/>
                    </a:cubicBezTo>
                    <a:cubicBezTo>
                      <a:pt x="3071" y="123"/>
                      <a:pt x="3072" y="124"/>
                      <a:pt x="3072" y="125"/>
                    </a:cubicBezTo>
                    <a:lnTo>
                      <a:pt x="3072" y="126"/>
                    </a:lnTo>
                    <a:close/>
                    <a:moveTo>
                      <a:pt x="3080" y="91"/>
                    </a:moveTo>
                    <a:cubicBezTo>
                      <a:pt x="3080" y="92"/>
                      <a:pt x="3080" y="94"/>
                      <a:pt x="3080" y="96"/>
                    </a:cubicBezTo>
                    <a:cubicBezTo>
                      <a:pt x="3080" y="95"/>
                      <a:pt x="3080" y="94"/>
                      <a:pt x="3079" y="93"/>
                    </a:cubicBezTo>
                    <a:cubicBezTo>
                      <a:pt x="3079" y="92"/>
                      <a:pt x="3079" y="91"/>
                      <a:pt x="3080" y="91"/>
                    </a:cubicBezTo>
                    <a:close/>
                    <a:moveTo>
                      <a:pt x="3078" y="117"/>
                    </a:moveTo>
                    <a:cubicBezTo>
                      <a:pt x="3077" y="113"/>
                      <a:pt x="3076" y="109"/>
                      <a:pt x="3076" y="106"/>
                    </a:cubicBezTo>
                    <a:cubicBezTo>
                      <a:pt x="3076" y="105"/>
                      <a:pt x="3076" y="105"/>
                      <a:pt x="3076" y="104"/>
                    </a:cubicBezTo>
                    <a:cubicBezTo>
                      <a:pt x="3077" y="107"/>
                      <a:pt x="3078" y="111"/>
                      <a:pt x="3079" y="114"/>
                    </a:cubicBezTo>
                    <a:cubicBezTo>
                      <a:pt x="3079" y="115"/>
                      <a:pt x="3078" y="116"/>
                      <a:pt x="3078" y="117"/>
                    </a:cubicBezTo>
                    <a:close/>
                    <a:moveTo>
                      <a:pt x="3081" y="127"/>
                    </a:moveTo>
                    <a:cubicBezTo>
                      <a:pt x="3080" y="127"/>
                      <a:pt x="3080" y="126"/>
                      <a:pt x="3080" y="126"/>
                    </a:cubicBezTo>
                    <a:cubicBezTo>
                      <a:pt x="3080" y="125"/>
                      <a:pt x="3080" y="125"/>
                      <a:pt x="3081" y="124"/>
                    </a:cubicBezTo>
                    <a:cubicBezTo>
                      <a:pt x="3081" y="125"/>
                      <a:pt x="3081" y="126"/>
                      <a:pt x="3081" y="127"/>
                    </a:cubicBezTo>
                    <a:close/>
                    <a:moveTo>
                      <a:pt x="3087" y="141"/>
                    </a:move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39"/>
                      <a:pt x="3087" y="139"/>
                      <a:pt x="3087" y="139"/>
                    </a:cubicBezTo>
                    <a:cubicBezTo>
                      <a:pt x="3087" y="139"/>
                      <a:pt x="3087" y="140"/>
                      <a:pt x="3087" y="141"/>
                    </a:cubicBezTo>
                    <a:close/>
                    <a:moveTo>
                      <a:pt x="3119" y="64"/>
                    </a:moveTo>
                    <a:cubicBezTo>
                      <a:pt x="3120" y="69"/>
                      <a:pt x="3121" y="75"/>
                      <a:pt x="3122" y="80"/>
                    </a:cubicBezTo>
                    <a:cubicBezTo>
                      <a:pt x="3120" y="82"/>
                      <a:pt x="3119" y="85"/>
                      <a:pt x="3117" y="87"/>
                    </a:cubicBezTo>
                    <a:cubicBezTo>
                      <a:pt x="3117" y="86"/>
                      <a:pt x="3116" y="84"/>
                      <a:pt x="3115" y="83"/>
                    </a:cubicBezTo>
                    <a:cubicBezTo>
                      <a:pt x="3116" y="84"/>
                      <a:pt x="3117" y="86"/>
                      <a:pt x="3117" y="87"/>
                    </a:cubicBezTo>
                    <a:cubicBezTo>
                      <a:pt x="3116" y="90"/>
                      <a:pt x="3114" y="92"/>
                      <a:pt x="3113" y="94"/>
                    </a:cubicBezTo>
                    <a:cubicBezTo>
                      <a:pt x="3111" y="89"/>
                      <a:pt x="3110" y="85"/>
                      <a:pt x="3108" y="80"/>
                    </a:cubicBezTo>
                    <a:cubicBezTo>
                      <a:pt x="3112" y="74"/>
                      <a:pt x="3116" y="69"/>
                      <a:pt x="3119" y="64"/>
                    </a:cubicBezTo>
                    <a:close/>
                    <a:moveTo>
                      <a:pt x="3097" y="72"/>
                    </a:moveTo>
                    <a:cubicBezTo>
                      <a:pt x="3099" y="75"/>
                      <a:pt x="3100" y="77"/>
                      <a:pt x="3102" y="80"/>
                    </a:cubicBezTo>
                    <a:cubicBezTo>
                      <a:pt x="3100" y="82"/>
                      <a:pt x="3099" y="84"/>
                      <a:pt x="3097" y="86"/>
                    </a:cubicBezTo>
                    <a:cubicBezTo>
                      <a:pt x="3097" y="85"/>
                      <a:pt x="3096" y="83"/>
                      <a:pt x="3096" y="82"/>
                    </a:cubicBezTo>
                    <a:cubicBezTo>
                      <a:pt x="3096" y="78"/>
                      <a:pt x="3096" y="74"/>
                      <a:pt x="3097" y="72"/>
                    </a:cubicBezTo>
                    <a:close/>
                    <a:moveTo>
                      <a:pt x="3090" y="108"/>
                    </a:moveTo>
                    <a:cubicBezTo>
                      <a:pt x="3091" y="106"/>
                      <a:pt x="3093" y="104"/>
                      <a:pt x="3094" y="101"/>
                    </a:cubicBezTo>
                    <a:cubicBezTo>
                      <a:pt x="3094" y="106"/>
                      <a:pt x="3095" y="112"/>
                      <a:pt x="3096" y="117"/>
                    </a:cubicBezTo>
                    <a:cubicBezTo>
                      <a:pt x="3095" y="119"/>
                      <a:pt x="3093" y="120"/>
                      <a:pt x="3092" y="122"/>
                    </a:cubicBezTo>
                    <a:cubicBezTo>
                      <a:pt x="3092" y="117"/>
                      <a:pt x="3091" y="113"/>
                      <a:pt x="3090" y="108"/>
                    </a:cubicBezTo>
                    <a:close/>
                    <a:moveTo>
                      <a:pt x="3097" y="134"/>
                    </a:moveTo>
                    <a:cubicBezTo>
                      <a:pt x="3096" y="131"/>
                      <a:pt x="3095" y="128"/>
                      <a:pt x="3094" y="126"/>
                    </a:cubicBezTo>
                    <a:cubicBezTo>
                      <a:pt x="3095" y="124"/>
                      <a:pt x="3095" y="123"/>
                      <a:pt x="3096" y="122"/>
                    </a:cubicBezTo>
                    <a:cubicBezTo>
                      <a:pt x="3097" y="123"/>
                      <a:pt x="3097" y="125"/>
                      <a:pt x="3097" y="127"/>
                    </a:cubicBezTo>
                    <a:cubicBezTo>
                      <a:pt x="3097" y="129"/>
                      <a:pt x="3097" y="131"/>
                      <a:pt x="3097" y="134"/>
                    </a:cubicBezTo>
                    <a:close/>
                    <a:moveTo>
                      <a:pt x="3096" y="98"/>
                    </a:moveTo>
                    <a:cubicBezTo>
                      <a:pt x="3096" y="98"/>
                      <a:pt x="3096" y="97"/>
                      <a:pt x="3097" y="97"/>
                    </a:cubicBezTo>
                    <a:cubicBezTo>
                      <a:pt x="3097" y="101"/>
                      <a:pt x="3097" y="105"/>
                      <a:pt x="3097" y="108"/>
                    </a:cubicBezTo>
                    <a:cubicBezTo>
                      <a:pt x="3097" y="105"/>
                      <a:pt x="3096" y="101"/>
                      <a:pt x="3096" y="98"/>
                    </a:cubicBezTo>
                    <a:close/>
                    <a:moveTo>
                      <a:pt x="3100" y="92"/>
                    </a:moveTo>
                    <a:cubicBezTo>
                      <a:pt x="3101" y="90"/>
                      <a:pt x="3103" y="88"/>
                      <a:pt x="3104" y="86"/>
                    </a:cubicBezTo>
                    <a:cubicBezTo>
                      <a:pt x="3105" y="88"/>
                      <a:pt x="3106" y="91"/>
                      <a:pt x="3107" y="93"/>
                    </a:cubicBezTo>
                    <a:cubicBezTo>
                      <a:pt x="3107" y="96"/>
                      <a:pt x="3107" y="99"/>
                      <a:pt x="3108" y="102"/>
                    </a:cubicBezTo>
                    <a:cubicBezTo>
                      <a:pt x="3107" y="104"/>
                      <a:pt x="3106" y="105"/>
                      <a:pt x="3104" y="106"/>
                    </a:cubicBezTo>
                    <a:cubicBezTo>
                      <a:pt x="3103" y="102"/>
                      <a:pt x="3102" y="97"/>
                      <a:pt x="3100" y="92"/>
                    </a:cubicBezTo>
                    <a:close/>
                    <a:moveTo>
                      <a:pt x="3105" y="107"/>
                    </a:moveTo>
                    <a:cubicBezTo>
                      <a:pt x="3106" y="106"/>
                      <a:pt x="3107" y="104"/>
                      <a:pt x="3108" y="102"/>
                    </a:cubicBezTo>
                    <a:cubicBezTo>
                      <a:pt x="3110" y="118"/>
                      <a:pt x="3112" y="133"/>
                      <a:pt x="3114" y="149"/>
                    </a:cubicBezTo>
                    <a:cubicBezTo>
                      <a:pt x="3111" y="137"/>
                      <a:pt x="3108" y="122"/>
                      <a:pt x="3105" y="107"/>
                    </a:cubicBezTo>
                    <a:close/>
                    <a:moveTo>
                      <a:pt x="3113" y="95"/>
                    </a:moveTo>
                    <a:cubicBezTo>
                      <a:pt x="3115" y="93"/>
                      <a:pt x="3116" y="91"/>
                      <a:pt x="3118" y="89"/>
                    </a:cubicBezTo>
                    <a:cubicBezTo>
                      <a:pt x="3124" y="103"/>
                      <a:pt x="3125" y="120"/>
                      <a:pt x="3125" y="136"/>
                    </a:cubicBezTo>
                    <a:cubicBezTo>
                      <a:pt x="3122" y="122"/>
                      <a:pt x="3118" y="109"/>
                      <a:pt x="3113" y="95"/>
                    </a:cubicBezTo>
                    <a:close/>
                    <a:moveTo>
                      <a:pt x="3118" y="88"/>
                    </a:moveTo>
                    <a:cubicBezTo>
                      <a:pt x="3120" y="86"/>
                      <a:pt x="3121" y="85"/>
                      <a:pt x="3122" y="83"/>
                    </a:cubicBezTo>
                    <a:cubicBezTo>
                      <a:pt x="3123" y="90"/>
                      <a:pt x="3125" y="98"/>
                      <a:pt x="3126" y="105"/>
                    </a:cubicBezTo>
                    <a:cubicBezTo>
                      <a:pt x="3123" y="99"/>
                      <a:pt x="3121" y="93"/>
                      <a:pt x="3118" y="88"/>
                    </a:cubicBezTo>
                    <a:close/>
                    <a:moveTo>
                      <a:pt x="3131" y="92"/>
                    </a:moveTo>
                    <a:cubicBezTo>
                      <a:pt x="3129" y="86"/>
                      <a:pt x="3128" y="80"/>
                      <a:pt x="3127" y="74"/>
                    </a:cubicBezTo>
                    <a:cubicBezTo>
                      <a:pt x="3129" y="71"/>
                      <a:pt x="3131" y="68"/>
                      <a:pt x="3132" y="65"/>
                    </a:cubicBezTo>
                    <a:cubicBezTo>
                      <a:pt x="3134" y="69"/>
                      <a:pt x="3137" y="72"/>
                      <a:pt x="3139" y="75"/>
                    </a:cubicBezTo>
                    <a:cubicBezTo>
                      <a:pt x="3139" y="77"/>
                      <a:pt x="3139" y="79"/>
                      <a:pt x="3139" y="81"/>
                    </a:cubicBezTo>
                    <a:cubicBezTo>
                      <a:pt x="3138" y="80"/>
                      <a:pt x="3138" y="80"/>
                      <a:pt x="3137" y="79"/>
                    </a:cubicBezTo>
                    <a:cubicBezTo>
                      <a:pt x="3138" y="80"/>
                      <a:pt x="3138" y="81"/>
                      <a:pt x="3139" y="81"/>
                    </a:cubicBezTo>
                    <a:cubicBezTo>
                      <a:pt x="3138" y="86"/>
                      <a:pt x="3138" y="90"/>
                      <a:pt x="3138" y="91"/>
                    </a:cubicBezTo>
                    <a:cubicBezTo>
                      <a:pt x="3138" y="95"/>
                      <a:pt x="3138" y="100"/>
                      <a:pt x="3139" y="104"/>
                    </a:cubicBezTo>
                    <a:cubicBezTo>
                      <a:pt x="3138" y="101"/>
                      <a:pt x="3138" y="99"/>
                      <a:pt x="3137" y="96"/>
                    </a:cubicBezTo>
                    <a:cubicBezTo>
                      <a:pt x="3138" y="100"/>
                      <a:pt x="3138" y="104"/>
                      <a:pt x="3139" y="108"/>
                    </a:cubicBezTo>
                    <a:cubicBezTo>
                      <a:pt x="3139" y="120"/>
                      <a:pt x="3140" y="132"/>
                      <a:pt x="3140" y="143"/>
                    </a:cubicBezTo>
                    <a:cubicBezTo>
                      <a:pt x="3138" y="126"/>
                      <a:pt x="3135" y="109"/>
                      <a:pt x="3131" y="92"/>
                    </a:cubicBezTo>
                    <a:close/>
                    <a:moveTo>
                      <a:pt x="3154" y="125"/>
                    </a:moveTo>
                    <a:cubicBezTo>
                      <a:pt x="3151" y="116"/>
                      <a:pt x="3149" y="108"/>
                      <a:pt x="3146" y="99"/>
                    </a:cubicBezTo>
                    <a:cubicBezTo>
                      <a:pt x="3144" y="93"/>
                      <a:pt x="3143" y="87"/>
                      <a:pt x="3143" y="82"/>
                    </a:cubicBezTo>
                    <a:cubicBezTo>
                      <a:pt x="3148" y="91"/>
                      <a:pt x="3151" y="100"/>
                      <a:pt x="3154" y="109"/>
                    </a:cubicBezTo>
                    <a:cubicBezTo>
                      <a:pt x="3154" y="114"/>
                      <a:pt x="3154" y="120"/>
                      <a:pt x="3154" y="125"/>
                    </a:cubicBezTo>
                    <a:close/>
                    <a:moveTo>
                      <a:pt x="3154" y="97"/>
                    </a:moveTo>
                    <a:cubicBezTo>
                      <a:pt x="3151" y="90"/>
                      <a:pt x="3147" y="83"/>
                      <a:pt x="3142" y="77"/>
                    </a:cubicBezTo>
                    <a:cubicBezTo>
                      <a:pt x="3142" y="72"/>
                      <a:pt x="3141" y="67"/>
                      <a:pt x="3142" y="63"/>
                    </a:cubicBezTo>
                    <a:cubicBezTo>
                      <a:pt x="3147" y="70"/>
                      <a:pt x="3151" y="77"/>
                      <a:pt x="3155" y="85"/>
                    </a:cubicBezTo>
                    <a:cubicBezTo>
                      <a:pt x="3155" y="89"/>
                      <a:pt x="3155" y="93"/>
                      <a:pt x="3154" y="97"/>
                    </a:cubicBezTo>
                    <a:close/>
                    <a:moveTo>
                      <a:pt x="3164" y="119"/>
                    </a:moveTo>
                    <a:cubicBezTo>
                      <a:pt x="3163" y="110"/>
                      <a:pt x="3161" y="102"/>
                      <a:pt x="3159" y="93"/>
                    </a:cubicBezTo>
                    <a:cubicBezTo>
                      <a:pt x="3161" y="98"/>
                      <a:pt x="3164" y="104"/>
                      <a:pt x="3165" y="109"/>
                    </a:cubicBezTo>
                    <a:cubicBezTo>
                      <a:pt x="3166" y="112"/>
                      <a:pt x="3166" y="114"/>
                      <a:pt x="3167" y="116"/>
                    </a:cubicBezTo>
                    <a:cubicBezTo>
                      <a:pt x="3167" y="120"/>
                      <a:pt x="3167" y="124"/>
                      <a:pt x="3167" y="127"/>
                    </a:cubicBezTo>
                    <a:cubicBezTo>
                      <a:pt x="3166" y="125"/>
                      <a:pt x="3165" y="122"/>
                      <a:pt x="3164" y="119"/>
                    </a:cubicBezTo>
                    <a:close/>
                    <a:moveTo>
                      <a:pt x="3175" y="151"/>
                    </a:moveTo>
                    <a:cubicBezTo>
                      <a:pt x="3175" y="151"/>
                      <a:pt x="3175" y="151"/>
                      <a:pt x="3175" y="151"/>
                    </a:cubicBezTo>
                    <a:cubicBezTo>
                      <a:pt x="3175" y="151"/>
                      <a:pt x="3175" y="150"/>
                      <a:pt x="3175" y="150"/>
                    </a:cubicBezTo>
                    <a:cubicBezTo>
                      <a:pt x="3175" y="150"/>
                      <a:pt x="3175" y="150"/>
                      <a:pt x="3175" y="150"/>
                    </a:cubicBezTo>
                    <a:cubicBezTo>
                      <a:pt x="3175" y="151"/>
                      <a:pt x="3175" y="151"/>
                      <a:pt x="3175" y="151"/>
                    </a:cubicBezTo>
                    <a:close/>
                    <a:moveTo>
                      <a:pt x="3181" y="114"/>
                    </a:moveTo>
                    <a:cubicBezTo>
                      <a:pt x="3179" y="105"/>
                      <a:pt x="3176" y="96"/>
                      <a:pt x="3172" y="88"/>
                    </a:cubicBezTo>
                    <a:cubicBezTo>
                      <a:pt x="3176" y="97"/>
                      <a:pt x="3178" y="110"/>
                      <a:pt x="3180" y="122"/>
                    </a:cubicBezTo>
                    <a:cubicBezTo>
                      <a:pt x="3179" y="127"/>
                      <a:pt x="3178" y="132"/>
                      <a:pt x="3177" y="136"/>
                    </a:cubicBezTo>
                    <a:cubicBezTo>
                      <a:pt x="3176" y="134"/>
                      <a:pt x="3176" y="133"/>
                      <a:pt x="3175" y="131"/>
                    </a:cubicBezTo>
                    <a:cubicBezTo>
                      <a:pt x="3175" y="117"/>
                      <a:pt x="3174" y="102"/>
                      <a:pt x="3172" y="87"/>
                    </a:cubicBezTo>
                    <a:cubicBezTo>
                      <a:pt x="3172" y="87"/>
                      <a:pt x="3172" y="88"/>
                      <a:pt x="3172" y="88"/>
                    </a:cubicBezTo>
                    <a:cubicBezTo>
                      <a:pt x="3172" y="88"/>
                      <a:pt x="3172" y="87"/>
                      <a:pt x="3172" y="87"/>
                    </a:cubicBezTo>
                    <a:cubicBezTo>
                      <a:pt x="3171" y="82"/>
                      <a:pt x="3171" y="78"/>
                      <a:pt x="3170" y="73"/>
                    </a:cubicBezTo>
                    <a:cubicBezTo>
                      <a:pt x="3177" y="81"/>
                      <a:pt x="3181" y="91"/>
                      <a:pt x="3184" y="101"/>
                    </a:cubicBezTo>
                    <a:cubicBezTo>
                      <a:pt x="3183" y="105"/>
                      <a:pt x="3182" y="109"/>
                      <a:pt x="3181" y="114"/>
                    </a:cubicBezTo>
                    <a:close/>
                    <a:moveTo>
                      <a:pt x="3188" y="139"/>
                    </a:moveTo>
                    <a:cubicBezTo>
                      <a:pt x="3187" y="137"/>
                      <a:pt x="3187" y="136"/>
                      <a:pt x="3187" y="135"/>
                    </a:cubicBezTo>
                    <a:cubicBezTo>
                      <a:pt x="3187" y="124"/>
                      <a:pt x="3183" y="112"/>
                      <a:pt x="3184" y="101"/>
                    </a:cubicBezTo>
                    <a:cubicBezTo>
                      <a:pt x="3187" y="110"/>
                      <a:pt x="3189" y="119"/>
                      <a:pt x="3190" y="128"/>
                    </a:cubicBezTo>
                    <a:cubicBezTo>
                      <a:pt x="3189" y="132"/>
                      <a:pt x="3188" y="135"/>
                      <a:pt x="3188" y="139"/>
                    </a:cubicBezTo>
                    <a:close/>
                    <a:moveTo>
                      <a:pt x="3203" y="136"/>
                    </a:moveTo>
                    <a:cubicBezTo>
                      <a:pt x="3203" y="135"/>
                      <a:pt x="3202" y="134"/>
                      <a:pt x="3202" y="133"/>
                    </a:cubicBezTo>
                    <a:cubicBezTo>
                      <a:pt x="3201" y="131"/>
                      <a:pt x="3201" y="129"/>
                      <a:pt x="3200" y="128"/>
                    </a:cubicBezTo>
                    <a:cubicBezTo>
                      <a:pt x="3200" y="127"/>
                      <a:pt x="3200" y="127"/>
                      <a:pt x="3200" y="127"/>
                    </a:cubicBezTo>
                    <a:cubicBezTo>
                      <a:pt x="3201" y="129"/>
                      <a:pt x="3201" y="131"/>
                      <a:pt x="3202" y="133"/>
                    </a:cubicBezTo>
                    <a:cubicBezTo>
                      <a:pt x="3202" y="134"/>
                      <a:pt x="3203" y="135"/>
                      <a:pt x="3203" y="136"/>
                    </a:cubicBezTo>
                    <a:cubicBezTo>
                      <a:pt x="3203" y="136"/>
                      <a:pt x="3203" y="136"/>
                      <a:pt x="3203" y="136"/>
                    </a:cubicBezTo>
                    <a:close/>
                    <a:moveTo>
                      <a:pt x="3204" y="133"/>
                    </a:moveTo>
                    <a:cubicBezTo>
                      <a:pt x="3203" y="129"/>
                      <a:pt x="3202" y="125"/>
                      <a:pt x="3200" y="120"/>
                    </a:cubicBezTo>
                    <a:cubicBezTo>
                      <a:pt x="3200" y="119"/>
                      <a:pt x="3200" y="117"/>
                      <a:pt x="3200" y="115"/>
                    </a:cubicBezTo>
                    <a:cubicBezTo>
                      <a:pt x="3200" y="112"/>
                      <a:pt x="3200" y="109"/>
                      <a:pt x="3201" y="105"/>
                    </a:cubicBezTo>
                    <a:cubicBezTo>
                      <a:pt x="3203" y="112"/>
                      <a:pt x="3204" y="119"/>
                      <a:pt x="3206" y="126"/>
                    </a:cubicBezTo>
                    <a:cubicBezTo>
                      <a:pt x="3205" y="128"/>
                      <a:pt x="3205" y="130"/>
                      <a:pt x="3204" y="133"/>
                    </a:cubicBezTo>
                    <a:close/>
                    <a:moveTo>
                      <a:pt x="3218" y="139"/>
                    </a:moveTo>
                    <a:cubicBezTo>
                      <a:pt x="3218" y="139"/>
                      <a:pt x="3218" y="139"/>
                      <a:pt x="3218" y="139"/>
                    </a:cubicBezTo>
                    <a:cubicBezTo>
                      <a:pt x="3218" y="137"/>
                      <a:pt x="3218" y="135"/>
                      <a:pt x="3218" y="133"/>
                    </a:cubicBezTo>
                    <a:cubicBezTo>
                      <a:pt x="3218" y="134"/>
                      <a:pt x="3218" y="134"/>
                      <a:pt x="3218" y="135"/>
                    </a:cubicBezTo>
                    <a:cubicBezTo>
                      <a:pt x="3218" y="136"/>
                      <a:pt x="3218" y="138"/>
                      <a:pt x="3218" y="139"/>
                    </a:cubicBezTo>
                    <a:close/>
                    <a:moveTo>
                      <a:pt x="3239" y="150"/>
                    </a:moveTo>
                    <a:cubicBezTo>
                      <a:pt x="3238" y="148"/>
                      <a:pt x="3237" y="147"/>
                      <a:pt x="3237" y="146"/>
                    </a:cubicBezTo>
                    <a:cubicBezTo>
                      <a:pt x="3236" y="131"/>
                      <a:pt x="3232" y="116"/>
                      <a:pt x="3230" y="101"/>
                    </a:cubicBezTo>
                    <a:cubicBezTo>
                      <a:pt x="3235" y="115"/>
                      <a:pt x="3237" y="132"/>
                      <a:pt x="3239" y="146"/>
                    </a:cubicBezTo>
                    <a:cubicBezTo>
                      <a:pt x="3239" y="147"/>
                      <a:pt x="3239" y="148"/>
                      <a:pt x="3239" y="150"/>
                    </a:cubicBezTo>
                    <a:close/>
                    <a:moveTo>
                      <a:pt x="3243" y="143"/>
                    </a:moveTo>
                    <a:cubicBezTo>
                      <a:pt x="3243" y="142"/>
                      <a:pt x="3243" y="141"/>
                      <a:pt x="3243" y="140"/>
                    </a:cubicBezTo>
                    <a:cubicBezTo>
                      <a:pt x="3243" y="139"/>
                      <a:pt x="3243" y="139"/>
                      <a:pt x="3243" y="139"/>
                    </a:cubicBezTo>
                    <a:cubicBezTo>
                      <a:pt x="3243" y="140"/>
                      <a:pt x="3243" y="141"/>
                      <a:pt x="3243" y="142"/>
                    </a:cubicBezTo>
                    <a:cubicBezTo>
                      <a:pt x="3243" y="142"/>
                      <a:pt x="3243" y="143"/>
                      <a:pt x="3243" y="143"/>
                    </a:cubicBezTo>
                    <a:close/>
                    <a:moveTo>
                      <a:pt x="3256" y="139"/>
                    </a:moveTo>
                    <a:cubicBezTo>
                      <a:pt x="3255" y="142"/>
                      <a:pt x="3254" y="145"/>
                      <a:pt x="3253" y="147"/>
                    </a:cubicBezTo>
                    <a:cubicBezTo>
                      <a:pt x="3253" y="146"/>
                      <a:pt x="3252" y="145"/>
                      <a:pt x="3252" y="144"/>
                    </a:cubicBezTo>
                    <a:cubicBezTo>
                      <a:pt x="3254" y="132"/>
                      <a:pt x="3254" y="120"/>
                      <a:pt x="3256" y="108"/>
                    </a:cubicBezTo>
                    <a:cubicBezTo>
                      <a:pt x="3257" y="104"/>
                      <a:pt x="3257" y="100"/>
                      <a:pt x="3259" y="97"/>
                    </a:cubicBezTo>
                    <a:cubicBezTo>
                      <a:pt x="3260" y="100"/>
                      <a:pt x="3261" y="103"/>
                      <a:pt x="3262" y="107"/>
                    </a:cubicBezTo>
                    <a:cubicBezTo>
                      <a:pt x="3261" y="112"/>
                      <a:pt x="3261" y="117"/>
                      <a:pt x="3260" y="122"/>
                    </a:cubicBezTo>
                    <a:cubicBezTo>
                      <a:pt x="3258" y="116"/>
                      <a:pt x="3257" y="111"/>
                      <a:pt x="3256" y="108"/>
                    </a:cubicBezTo>
                    <a:cubicBezTo>
                      <a:pt x="3258" y="116"/>
                      <a:pt x="3257" y="128"/>
                      <a:pt x="3256" y="139"/>
                    </a:cubicBezTo>
                    <a:close/>
                    <a:moveTo>
                      <a:pt x="3264" y="134"/>
                    </a:moveTo>
                    <a:cubicBezTo>
                      <a:pt x="3263" y="132"/>
                      <a:pt x="3262" y="130"/>
                      <a:pt x="3262" y="128"/>
                    </a:cubicBezTo>
                    <a:cubicBezTo>
                      <a:pt x="3262" y="121"/>
                      <a:pt x="3262" y="114"/>
                      <a:pt x="3262" y="107"/>
                    </a:cubicBezTo>
                    <a:cubicBezTo>
                      <a:pt x="3264" y="113"/>
                      <a:pt x="3265" y="118"/>
                      <a:pt x="3266" y="124"/>
                    </a:cubicBezTo>
                    <a:cubicBezTo>
                      <a:pt x="3265" y="128"/>
                      <a:pt x="3264" y="131"/>
                      <a:pt x="3264" y="134"/>
                    </a:cubicBezTo>
                    <a:close/>
                    <a:moveTo>
                      <a:pt x="3268" y="118"/>
                    </a:moveTo>
                    <a:cubicBezTo>
                      <a:pt x="3266" y="114"/>
                      <a:pt x="3264" y="109"/>
                      <a:pt x="3262" y="105"/>
                    </a:cubicBezTo>
                    <a:cubicBezTo>
                      <a:pt x="3263" y="102"/>
                      <a:pt x="3263" y="99"/>
                      <a:pt x="3264" y="96"/>
                    </a:cubicBezTo>
                    <a:cubicBezTo>
                      <a:pt x="3263" y="99"/>
                      <a:pt x="3263" y="102"/>
                      <a:pt x="3262" y="105"/>
                    </a:cubicBezTo>
                    <a:cubicBezTo>
                      <a:pt x="3261" y="102"/>
                      <a:pt x="3260" y="99"/>
                      <a:pt x="3259" y="96"/>
                    </a:cubicBezTo>
                    <a:cubicBezTo>
                      <a:pt x="3259" y="94"/>
                      <a:pt x="3260" y="91"/>
                      <a:pt x="3261" y="89"/>
                    </a:cubicBezTo>
                    <a:cubicBezTo>
                      <a:pt x="3265" y="95"/>
                      <a:pt x="3268" y="102"/>
                      <a:pt x="3270" y="109"/>
                    </a:cubicBezTo>
                    <a:cubicBezTo>
                      <a:pt x="3270" y="112"/>
                      <a:pt x="3269" y="115"/>
                      <a:pt x="3268" y="118"/>
                    </a:cubicBezTo>
                    <a:close/>
                    <a:moveTo>
                      <a:pt x="3271" y="151"/>
                    </a:moveTo>
                    <a:cubicBezTo>
                      <a:pt x="3271" y="151"/>
                      <a:pt x="3271" y="151"/>
                      <a:pt x="3270" y="151"/>
                    </a:cubicBezTo>
                    <a:cubicBezTo>
                      <a:pt x="3271" y="150"/>
                      <a:pt x="3271" y="148"/>
                      <a:pt x="3271" y="147"/>
                    </a:cubicBezTo>
                    <a:cubicBezTo>
                      <a:pt x="3271" y="147"/>
                      <a:pt x="3271" y="148"/>
                      <a:pt x="3271" y="148"/>
                    </a:cubicBezTo>
                    <a:cubicBezTo>
                      <a:pt x="3271" y="149"/>
                      <a:pt x="3271" y="150"/>
                      <a:pt x="3271" y="151"/>
                    </a:cubicBezTo>
                    <a:close/>
                    <a:moveTo>
                      <a:pt x="3275" y="136"/>
                    </a:moveTo>
                    <a:cubicBezTo>
                      <a:pt x="3274" y="134"/>
                      <a:pt x="3273" y="132"/>
                      <a:pt x="3273" y="130"/>
                    </a:cubicBezTo>
                    <a:cubicBezTo>
                      <a:pt x="3273" y="127"/>
                      <a:pt x="3273" y="123"/>
                      <a:pt x="3274" y="120"/>
                    </a:cubicBezTo>
                    <a:cubicBezTo>
                      <a:pt x="3275" y="123"/>
                      <a:pt x="3276" y="127"/>
                      <a:pt x="3276" y="130"/>
                    </a:cubicBezTo>
                    <a:cubicBezTo>
                      <a:pt x="3276" y="132"/>
                      <a:pt x="3275" y="134"/>
                      <a:pt x="3275" y="136"/>
                    </a:cubicBezTo>
                    <a:close/>
                    <a:moveTo>
                      <a:pt x="3281" y="150"/>
                    </a:moveTo>
                    <a:cubicBezTo>
                      <a:pt x="3281" y="149"/>
                      <a:pt x="3280" y="147"/>
                      <a:pt x="3279" y="146"/>
                    </a:cubicBezTo>
                    <a:cubicBezTo>
                      <a:pt x="3280" y="145"/>
                      <a:pt x="3280" y="145"/>
                      <a:pt x="3280" y="144"/>
                    </a:cubicBezTo>
                    <a:cubicBezTo>
                      <a:pt x="3281" y="146"/>
                      <a:pt x="3281" y="147"/>
                      <a:pt x="3282" y="149"/>
                    </a:cubicBezTo>
                    <a:cubicBezTo>
                      <a:pt x="3281" y="149"/>
                      <a:pt x="3281" y="149"/>
                      <a:pt x="3281" y="150"/>
                    </a:cubicBezTo>
                    <a:close/>
                    <a:moveTo>
                      <a:pt x="3279" y="122"/>
                    </a:moveTo>
                    <a:cubicBezTo>
                      <a:pt x="3278" y="118"/>
                      <a:pt x="3276" y="115"/>
                      <a:pt x="3275" y="111"/>
                    </a:cubicBezTo>
                    <a:cubicBezTo>
                      <a:pt x="3276" y="101"/>
                      <a:pt x="3278" y="90"/>
                      <a:pt x="3282" y="81"/>
                    </a:cubicBezTo>
                    <a:cubicBezTo>
                      <a:pt x="3285" y="86"/>
                      <a:pt x="3288" y="91"/>
                      <a:pt x="3290" y="97"/>
                    </a:cubicBezTo>
                    <a:cubicBezTo>
                      <a:pt x="3288" y="101"/>
                      <a:pt x="3286" y="105"/>
                      <a:pt x="3284" y="109"/>
                    </a:cubicBezTo>
                    <a:cubicBezTo>
                      <a:pt x="3282" y="102"/>
                      <a:pt x="3281" y="96"/>
                      <a:pt x="3279" y="91"/>
                    </a:cubicBezTo>
                    <a:cubicBezTo>
                      <a:pt x="3280" y="99"/>
                      <a:pt x="3281" y="106"/>
                      <a:pt x="3282" y="114"/>
                    </a:cubicBezTo>
                    <a:cubicBezTo>
                      <a:pt x="3281" y="117"/>
                      <a:pt x="3280" y="119"/>
                      <a:pt x="3279" y="122"/>
                    </a:cubicBezTo>
                    <a:close/>
                    <a:moveTo>
                      <a:pt x="3286" y="141"/>
                    </a:moveTo>
                    <a:cubicBezTo>
                      <a:pt x="3285" y="138"/>
                      <a:pt x="3284" y="135"/>
                      <a:pt x="3283" y="131"/>
                    </a:cubicBezTo>
                    <a:cubicBezTo>
                      <a:pt x="3283" y="129"/>
                      <a:pt x="3284" y="127"/>
                      <a:pt x="3284" y="124"/>
                    </a:cubicBezTo>
                    <a:cubicBezTo>
                      <a:pt x="3285" y="130"/>
                      <a:pt x="3286" y="135"/>
                      <a:pt x="3287" y="140"/>
                    </a:cubicBezTo>
                    <a:cubicBezTo>
                      <a:pt x="3287" y="140"/>
                      <a:pt x="3287" y="141"/>
                      <a:pt x="3286" y="141"/>
                    </a:cubicBezTo>
                    <a:close/>
                    <a:moveTo>
                      <a:pt x="3289" y="150"/>
                    </a:moveTo>
                    <a:cubicBezTo>
                      <a:pt x="3289" y="150"/>
                      <a:pt x="3289" y="149"/>
                      <a:pt x="3289" y="149"/>
                    </a:cubicBezTo>
                    <a:cubicBezTo>
                      <a:pt x="3289" y="149"/>
                      <a:pt x="3289" y="149"/>
                      <a:pt x="3289" y="149"/>
                    </a:cubicBezTo>
                    <a:cubicBezTo>
                      <a:pt x="3289" y="149"/>
                      <a:pt x="3289" y="150"/>
                      <a:pt x="3289" y="150"/>
                    </a:cubicBezTo>
                    <a:cubicBezTo>
                      <a:pt x="3289" y="150"/>
                      <a:pt x="3289" y="150"/>
                      <a:pt x="3289" y="150"/>
                    </a:cubicBezTo>
                    <a:close/>
                    <a:moveTo>
                      <a:pt x="3286" y="114"/>
                    </a:moveTo>
                    <a:cubicBezTo>
                      <a:pt x="3287" y="108"/>
                      <a:pt x="3288" y="103"/>
                      <a:pt x="3290" y="97"/>
                    </a:cubicBezTo>
                    <a:cubicBezTo>
                      <a:pt x="3292" y="103"/>
                      <a:pt x="3294" y="110"/>
                      <a:pt x="3296" y="116"/>
                    </a:cubicBezTo>
                    <a:cubicBezTo>
                      <a:pt x="3294" y="121"/>
                      <a:pt x="3293" y="126"/>
                      <a:pt x="3291" y="131"/>
                    </a:cubicBezTo>
                    <a:cubicBezTo>
                      <a:pt x="3289" y="126"/>
                      <a:pt x="3287" y="120"/>
                      <a:pt x="3286" y="114"/>
                    </a:cubicBezTo>
                    <a:close/>
                    <a:moveTo>
                      <a:pt x="3293" y="139"/>
                    </a:moveTo>
                    <a:cubicBezTo>
                      <a:pt x="3295" y="134"/>
                      <a:pt x="3296" y="129"/>
                      <a:pt x="3297" y="124"/>
                    </a:cubicBezTo>
                    <a:cubicBezTo>
                      <a:pt x="3298" y="125"/>
                      <a:pt x="3298" y="126"/>
                      <a:pt x="3298" y="128"/>
                    </a:cubicBezTo>
                    <a:cubicBezTo>
                      <a:pt x="3297" y="132"/>
                      <a:pt x="3295" y="136"/>
                      <a:pt x="3294" y="141"/>
                    </a:cubicBezTo>
                    <a:cubicBezTo>
                      <a:pt x="3294" y="140"/>
                      <a:pt x="3293" y="139"/>
                      <a:pt x="3293" y="139"/>
                    </a:cubicBezTo>
                    <a:close/>
                    <a:moveTo>
                      <a:pt x="3298" y="150"/>
                    </a:moveTo>
                    <a:cubicBezTo>
                      <a:pt x="3298" y="150"/>
                      <a:pt x="3297" y="149"/>
                      <a:pt x="3297" y="149"/>
                    </a:cubicBezTo>
                    <a:cubicBezTo>
                      <a:pt x="3298" y="147"/>
                      <a:pt x="3299" y="144"/>
                      <a:pt x="3300" y="141"/>
                    </a:cubicBezTo>
                    <a:cubicBezTo>
                      <a:pt x="3300" y="143"/>
                      <a:pt x="3301" y="144"/>
                      <a:pt x="3301" y="145"/>
                    </a:cubicBezTo>
                    <a:cubicBezTo>
                      <a:pt x="3300" y="147"/>
                      <a:pt x="3299" y="149"/>
                      <a:pt x="3298" y="150"/>
                    </a:cubicBezTo>
                    <a:close/>
                    <a:moveTo>
                      <a:pt x="3309" y="126"/>
                    </a:moveTo>
                    <a:cubicBezTo>
                      <a:pt x="3308" y="123"/>
                      <a:pt x="3307" y="120"/>
                      <a:pt x="3306" y="117"/>
                    </a:cubicBezTo>
                    <a:cubicBezTo>
                      <a:pt x="3307" y="116"/>
                      <a:pt x="3307" y="115"/>
                      <a:pt x="3307" y="114"/>
                    </a:cubicBezTo>
                    <a:cubicBezTo>
                      <a:pt x="3307" y="116"/>
                      <a:pt x="3308" y="117"/>
                      <a:pt x="3308" y="119"/>
                    </a:cubicBezTo>
                    <a:cubicBezTo>
                      <a:pt x="3309" y="121"/>
                      <a:pt x="3309" y="123"/>
                      <a:pt x="3310" y="125"/>
                    </a:cubicBezTo>
                    <a:cubicBezTo>
                      <a:pt x="3309" y="125"/>
                      <a:pt x="3309" y="125"/>
                      <a:pt x="3309" y="126"/>
                    </a:cubicBezTo>
                    <a:close/>
                    <a:moveTo>
                      <a:pt x="3314" y="142"/>
                    </a:moveTo>
                    <a:cubicBezTo>
                      <a:pt x="3313" y="139"/>
                      <a:pt x="3313" y="136"/>
                      <a:pt x="3312" y="133"/>
                    </a:cubicBezTo>
                    <a:cubicBezTo>
                      <a:pt x="3312" y="133"/>
                      <a:pt x="3312" y="133"/>
                      <a:pt x="3312" y="133"/>
                    </a:cubicBezTo>
                    <a:cubicBezTo>
                      <a:pt x="3313" y="136"/>
                      <a:pt x="3313" y="138"/>
                      <a:pt x="3314" y="141"/>
                    </a:cubicBezTo>
                    <a:cubicBezTo>
                      <a:pt x="3314" y="141"/>
                      <a:pt x="3314" y="141"/>
                      <a:pt x="3314" y="142"/>
                    </a:cubicBezTo>
                    <a:close/>
                    <a:moveTo>
                      <a:pt x="3316" y="148"/>
                    </a:move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lose/>
                    <a:moveTo>
                      <a:pt x="3319" y="141"/>
                    </a:moveTo>
                    <a:cubicBezTo>
                      <a:pt x="3319" y="141"/>
                      <a:pt x="3319" y="141"/>
                      <a:pt x="3319" y="141"/>
                    </a:cubicBezTo>
                    <a:cubicBezTo>
                      <a:pt x="3320" y="137"/>
                      <a:pt x="3321" y="133"/>
                      <a:pt x="3323" y="129"/>
                    </a:cubicBezTo>
                    <a:cubicBezTo>
                      <a:pt x="3323" y="129"/>
                      <a:pt x="3323" y="130"/>
                      <a:pt x="3323" y="131"/>
                    </a:cubicBezTo>
                    <a:cubicBezTo>
                      <a:pt x="3321" y="135"/>
                      <a:pt x="3320" y="138"/>
                      <a:pt x="3319" y="141"/>
                    </a:cubicBezTo>
                    <a:close/>
                    <a:moveTo>
                      <a:pt x="3326" y="122"/>
                    </a:moveTo>
                    <a:cubicBezTo>
                      <a:pt x="3326" y="121"/>
                      <a:pt x="3325" y="120"/>
                      <a:pt x="3325" y="119"/>
                    </a:cubicBezTo>
                    <a:cubicBezTo>
                      <a:pt x="3326" y="117"/>
                      <a:pt x="3326" y="114"/>
                      <a:pt x="3327" y="111"/>
                    </a:cubicBezTo>
                    <a:cubicBezTo>
                      <a:pt x="3328" y="113"/>
                      <a:pt x="3328" y="115"/>
                      <a:pt x="3329" y="117"/>
                    </a:cubicBezTo>
                    <a:cubicBezTo>
                      <a:pt x="3328" y="119"/>
                      <a:pt x="3327" y="121"/>
                      <a:pt x="3326" y="122"/>
                    </a:cubicBezTo>
                    <a:close/>
                    <a:moveTo>
                      <a:pt x="3336" y="147"/>
                    </a:moveTo>
                    <a:cubicBezTo>
                      <a:pt x="3335" y="145"/>
                      <a:pt x="3335" y="144"/>
                      <a:pt x="3334" y="142"/>
                    </a:cubicBezTo>
                    <a:cubicBezTo>
                      <a:pt x="3334" y="140"/>
                      <a:pt x="3333" y="138"/>
                      <a:pt x="3332" y="136"/>
                    </a:cubicBezTo>
                    <a:cubicBezTo>
                      <a:pt x="3332" y="136"/>
                      <a:pt x="3332" y="135"/>
                      <a:pt x="3332" y="134"/>
                    </a:cubicBezTo>
                    <a:cubicBezTo>
                      <a:pt x="3333" y="137"/>
                      <a:pt x="3334" y="139"/>
                      <a:pt x="3334" y="142"/>
                    </a:cubicBezTo>
                    <a:cubicBezTo>
                      <a:pt x="3335" y="144"/>
                      <a:pt x="3335" y="145"/>
                      <a:pt x="3336" y="147"/>
                    </a:cubicBezTo>
                    <a:close/>
                    <a:moveTo>
                      <a:pt x="3339" y="138"/>
                    </a:moveTo>
                    <a:cubicBezTo>
                      <a:pt x="3337" y="133"/>
                      <a:pt x="3336" y="128"/>
                      <a:pt x="3334" y="124"/>
                    </a:cubicBezTo>
                    <a:cubicBezTo>
                      <a:pt x="3334" y="121"/>
                      <a:pt x="3335" y="118"/>
                      <a:pt x="3335" y="116"/>
                    </a:cubicBezTo>
                    <a:cubicBezTo>
                      <a:pt x="3336" y="123"/>
                      <a:pt x="3338" y="129"/>
                      <a:pt x="3340" y="136"/>
                    </a:cubicBezTo>
                    <a:cubicBezTo>
                      <a:pt x="3340" y="137"/>
                      <a:pt x="3339" y="137"/>
                      <a:pt x="3339" y="138"/>
                    </a:cubicBezTo>
                    <a:close/>
                    <a:moveTo>
                      <a:pt x="3336" y="109"/>
                    </a:moveTo>
                    <a:cubicBezTo>
                      <a:pt x="3337" y="103"/>
                      <a:pt x="3339" y="97"/>
                      <a:pt x="3341" y="91"/>
                    </a:cubicBezTo>
                    <a:cubicBezTo>
                      <a:pt x="3343" y="96"/>
                      <a:pt x="3345" y="101"/>
                      <a:pt x="3347" y="106"/>
                    </a:cubicBezTo>
                    <a:cubicBezTo>
                      <a:pt x="3345" y="112"/>
                      <a:pt x="3344" y="120"/>
                      <a:pt x="3342" y="127"/>
                    </a:cubicBezTo>
                    <a:cubicBezTo>
                      <a:pt x="3340" y="121"/>
                      <a:pt x="3338" y="115"/>
                      <a:pt x="3336" y="109"/>
                    </a:cubicBezTo>
                    <a:close/>
                    <a:moveTo>
                      <a:pt x="3343" y="148"/>
                    </a:move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8"/>
                      <a:pt x="3343" y="148"/>
                    </a:cubicBezTo>
                    <a:close/>
                    <a:moveTo>
                      <a:pt x="3345" y="136"/>
                    </a:moveTo>
                    <a:cubicBezTo>
                      <a:pt x="3347" y="127"/>
                      <a:pt x="3347" y="118"/>
                      <a:pt x="3347" y="109"/>
                    </a:cubicBezTo>
                    <a:cubicBezTo>
                      <a:pt x="3349" y="115"/>
                      <a:pt x="3350" y="121"/>
                      <a:pt x="3351" y="127"/>
                    </a:cubicBezTo>
                    <a:cubicBezTo>
                      <a:pt x="3349" y="131"/>
                      <a:pt x="3348" y="135"/>
                      <a:pt x="3347" y="139"/>
                    </a:cubicBezTo>
                    <a:cubicBezTo>
                      <a:pt x="3346" y="138"/>
                      <a:pt x="3346" y="137"/>
                      <a:pt x="3345" y="136"/>
                    </a:cubicBezTo>
                    <a:close/>
                    <a:moveTo>
                      <a:pt x="3352" y="148"/>
                    </a:moveTo>
                    <a:cubicBezTo>
                      <a:pt x="3351" y="148"/>
                      <a:pt x="3351" y="147"/>
                      <a:pt x="3350" y="146"/>
                    </a:cubicBezTo>
                    <a:cubicBezTo>
                      <a:pt x="3351" y="143"/>
                      <a:pt x="3352" y="140"/>
                      <a:pt x="3352" y="137"/>
                    </a:cubicBezTo>
                    <a:cubicBezTo>
                      <a:pt x="3353" y="140"/>
                      <a:pt x="3353" y="142"/>
                      <a:pt x="3354" y="144"/>
                    </a:cubicBezTo>
                    <a:cubicBezTo>
                      <a:pt x="3353" y="146"/>
                      <a:pt x="3352" y="147"/>
                      <a:pt x="3352" y="148"/>
                    </a:cubicBezTo>
                    <a:close/>
                    <a:moveTo>
                      <a:pt x="3347" y="103"/>
                    </a:moveTo>
                    <a:cubicBezTo>
                      <a:pt x="3347" y="102"/>
                      <a:pt x="3347" y="102"/>
                      <a:pt x="3347" y="102"/>
                    </a:cubicBezTo>
                    <a:cubicBezTo>
                      <a:pt x="3347" y="102"/>
                      <a:pt x="3347" y="103"/>
                      <a:pt x="3347" y="103"/>
                    </a:cubicBezTo>
                    <a:cubicBezTo>
                      <a:pt x="3345" y="98"/>
                      <a:pt x="3343" y="94"/>
                      <a:pt x="3341" y="91"/>
                    </a:cubicBezTo>
                    <a:cubicBezTo>
                      <a:pt x="3342" y="87"/>
                      <a:pt x="3344" y="83"/>
                      <a:pt x="3346" y="80"/>
                    </a:cubicBezTo>
                    <a:cubicBezTo>
                      <a:pt x="3352" y="89"/>
                      <a:pt x="3356" y="99"/>
                      <a:pt x="3358" y="109"/>
                    </a:cubicBezTo>
                    <a:cubicBezTo>
                      <a:pt x="3357" y="112"/>
                      <a:pt x="3355" y="116"/>
                      <a:pt x="3354" y="119"/>
                    </a:cubicBezTo>
                    <a:cubicBezTo>
                      <a:pt x="3352" y="114"/>
                      <a:pt x="3350" y="108"/>
                      <a:pt x="3347" y="103"/>
                    </a:cubicBezTo>
                    <a:close/>
                    <a:moveTo>
                      <a:pt x="3355" y="123"/>
                    </a:moveTo>
                    <a:cubicBezTo>
                      <a:pt x="3356" y="118"/>
                      <a:pt x="3357" y="114"/>
                      <a:pt x="3358" y="110"/>
                    </a:cubicBezTo>
                    <a:cubicBezTo>
                      <a:pt x="3359" y="115"/>
                      <a:pt x="3360" y="120"/>
                      <a:pt x="3361" y="125"/>
                    </a:cubicBezTo>
                    <a:cubicBezTo>
                      <a:pt x="3360" y="128"/>
                      <a:pt x="3359" y="130"/>
                      <a:pt x="3358" y="133"/>
                    </a:cubicBezTo>
                    <a:cubicBezTo>
                      <a:pt x="3357" y="129"/>
                      <a:pt x="3356" y="126"/>
                      <a:pt x="3355" y="123"/>
                    </a:cubicBezTo>
                    <a:close/>
                    <a:moveTo>
                      <a:pt x="3362" y="150"/>
                    </a:moveTo>
                    <a:cubicBezTo>
                      <a:pt x="3362" y="147"/>
                      <a:pt x="3361" y="144"/>
                      <a:pt x="3360" y="140"/>
                    </a:cubicBezTo>
                    <a:cubicBezTo>
                      <a:pt x="3361" y="137"/>
                      <a:pt x="3361" y="135"/>
                      <a:pt x="3361" y="132"/>
                    </a:cubicBezTo>
                    <a:cubicBezTo>
                      <a:pt x="3362" y="137"/>
                      <a:pt x="3362" y="143"/>
                      <a:pt x="3362" y="149"/>
                    </a:cubicBezTo>
                    <a:cubicBezTo>
                      <a:pt x="3362" y="150"/>
                      <a:pt x="3362" y="150"/>
                      <a:pt x="3362" y="150"/>
                    </a:cubicBezTo>
                    <a:close/>
                    <a:moveTo>
                      <a:pt x="3391" y="152"/>
                    </a:moveTo>
                    <a:cubicBezTo>
                      <a:pt x="3391" y="148"/>
                      <a:pt x="3391" y="145"/>
                      <a:pt x="3390" y="141"/>
                    </a:cubicBezTo>
                    <a:cubicBezTo>
                      <a:pt x="3390" y="136"/>
                      <a:pt x="3391" y="131"/>
                      <a:pt x="3391" y="125"/>
                    </a:cubicBezTo>
                    <a:cubicBezTo>
                      <a:pt x="3391" y="134"/>
                      <a:pt x="3391" y="142"/>
                      <a:pt x="3391" y="151"/>
                    </a:cubicBezTo>
                    <a:cubicBezTo>
                      <a:pt x="3391" y="151"/>
                      <a:pt x="3391" y="151"/>
                      <a:pt x="3391" y="152"/>
                    </a:cubicBezTo>
                    <a:close/>
                    <a:moveTo>
                      <a:pt x="3457" y="128"/>
                    </a:moveTo>
                    <a:cubicBezTo>
                      <a:pt x="3457" y="132"/>
                      <a:pt x="3456" y="136"/>
                      <a:pt x="3455" y="140"/>
                    </a:cubicBezTo>
                    <a:cubicBezTo>
                      <a:pt x="3455" y="136"/>
                      <a:pt x="3454" y="133"/>
                      <a:pt x="3453" y="129"/>
                    </a:cubicBezTo>
                    <a:cubicBezTo>
                      <a:pt x="3453" y="126"/>
                      <a:pt x="3453" y="122"/>
                      <a:pt x="3453" y="119"/>
                    </a:cubicBezTo>
                    <a:cubicBezTo>
                      <a:pt x="3453" y="112"/>
                      <a:pt x="3454" y="104"/>
                      <a:pt x="3455" y="97"/>
                    </a:cubicBezTo>
                    <a:cubicBezTo>
                      <a:pt x="3456" y="102"/>
                      <a:pt x="3457" y="107"/>
                      <a:pt x="3457" y="111"/>
                    </a:cubicBezTo>
                    <a:cubicBezTo>
                      <a:pt x="3457" y="122"/>
                      <a:pt x="3457" y="122"/>
                      <a:pt x="3457" y="122"/>
                    </a:cubicBezTo>
                    <a:cubicBezTo>
                      <a:pt x="3457" y="124"/>
                      <a:pt x="3457" y="126"/>
                      <a:pt x="3457" y="128"/>
                    </a:cubicBezTo>
                    <a:close/>
                    <a:moveTo>
                      <a:pt x="3465" y="151"/>
                    </a:move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36"/>
                      <a:pt x="3465" y="123"/>
                      <a:pt x="3464" y="109"/>
                    </a:cubicBezTo>
                    <a:cubicBezTo>
                      <a:pt x="3464" y="104"/>
                      <a:pt x="3465" y="99"/>
                      <a:pt x="3466" y="93"/>
                    </a:cubicBezTo>
                    <a:cubicBezTo>
                      <a:pt x="3467" y="99"/>
                      <a:pt x="3467" y="105"/>
                      <a:pt x="3467" y="110"/>
                    </a:cubicBezTo>
                    <a:cubicBezTo>
                      <a:pt x="3467" y="124"/>
                      <a:pt x="3465" y="138"/>
                      <a:pt x="3465" y="151"/>
                    </a:cubicBezTo>
                    <a:close/>
                    <a:moveTo>
                      <a:pt x="3492" y="110"/>
                    </a:moveTo>
                    <a:cubicBezTo>
                      <a:pt x="3492" y="109"/>
                      <a:pt x="3492" y="107"/>
                      <a:pt x="3492" y="106"/>
                    </a:cubicBezTo>
                    <a:cubicBezTo>
                      <a:pt x="3492" y="110"/>
                      <a:pt x="3493" y="113"/>
                      <a:pt x="3492" y="116"/>
                    </a:cubicBezTo>
                    <a:cubicBezTo>
                      <a:pt x="3492" y="114"/>
                      <a:pt x="3492" y="112"/>
                      <a:pt x="3492" y="110"/>
                    </a:cubicBezTo>
                    <a:close/>
                    <a:moveTo>
                      <a:pt x="3518" y="120"/>
                    </a:moveTo>
                    <a:cubicBezTo>
                      <a:pt x="3516" y="114"/>
                      <a:pt x="3515" y="109"/>
                      <a:pt x="3515" y="104"/>
                    </a:cubicBezTo>
                    <a:cubicBezTo>
                      <a:pt x="3515" y="102"/>
                      <a:pt x="3515" y="98"/>
                      <a:pt x="3517" y="93"/>
                    </a:cubicBezTo>
                    <a:cubicBezTo>
                      <a:pt x="3518" y="100"/>
                      <a:pt x="3518" y="107"/>
                      <a:pt x="3518" y="112"/>
                    </a:cubicBezTo>
                    <a:cubicBezTo>
                      <a:pt x="3518" y="115"/>
                      <a:pt x="3518" y="117"/>
                      <a:pt x="3518" y="120"/>
                    </a:cubicBezTo>
                    <a:close/>
                    <a:moveTo>
                      <a:pt x="3528" y="145"/>
                    </a:moveTo>
                    <a:cubicBezTo>
                      <a:pt x="3528" y="145"/>
                      <a:pt x="3528" y="144"/>
                      <a:pt x="3528" y="144"/>
                    </a:cubicBezTo>
                    <a:cubicBezTo>
                      <a:pt x="3528" y="139"/>
                      <a:pt x="3528" y="134"/>
                      <a:pt x="3528" y="129"/>
                    </a:cubicBezTo>
                    <a:cubicBezTo>
                      <a:pt x="3529" y="132"/>
                      <a:pt x="3529" y="134"/>
                      <a:pt x="3529" y="137"/>
                    </a:cubicBezTo>
                    <a:cubicBezTo>
                      <a:pt x="3529" y="140"/>
                      <a:pt x="3528" y="142"/>
                      <a:pt x="3528" y="145"/>
                    </a:cubicBezTo>
                    <a:close/>
                    <a:moveTo>
                      <a:pt x="3539" y="145"/>
                    </a:moveTo>
                    <a:cubicBezTo>
                      <a:pt x="3539" y="144"/>
                      <a:pt x="3538" y="143"/>
                      <a:pt x="3538" y="143"/>
                    </a:cubicBezTo>
                    <a:cubicBezTo>
                      <a:pt x="3538" y="142"/>
                      <a:pt x="3538" y="141"/>
                      <a:pt x="3538" y="140"/>
                    </a:cubicBezTo>
                    <a:cubicBezTo>
                      <a:pt x="3539" y="141"/>
                      <a:pt x="3539" y="142"/>
                      <a:pt x="3539" y="143"/>
                    </a:cubicBezTo>
                    <a:cubicBezTo>
                      <a:pt x="3539" y="143"/>
                      <a:pt x="3539" y="144"/>
                      <a:pt x="3539" y="145"/>
                    </a:cubicBezTo>
                    <a:close/>
                    <a:moveTo>
                      <a:pt x="3540" y="138"/>
                    </a:moveTo>
                    <a:cubicBezTo>
                      <a:pt x="3540" y="136"/>
                      <a:pt x="3539" y="135"/>
                      <a:pt x="3539" y="133"/>
                    </a:cubicBezTo>
                    <a:cubicBezTo>
                      <a:pt x="3539" y="129"/>
                      <a:pt x="3539" y="124"/>
                      <a:pt x="3539" y="119"/>
                    </a:cubicBezTo>
                    <a:cubicBezTo>
                      <a:pt x="3540" y="124"/>
                      <a:pt x="3541" y="129"/>
                      <a:pt x="3542" y="134"/>
                    </a:cubicBezTo>
                    <a:cubicBezTo>
                      <a:pt x="3541" y="135"/>
                      <a:pt x="3541" y="137"/>
                      <a:pt x="3540" y="138"/>
                    </a:cubicBezTo>
                    <a:close/>
                    <a:moveTo>
                      <a:pt x="3545" y="154"/>
                    </a:moveTo>
                    <a:cubicBezTo>
                      <a:pt x="3545" y="153"/>
                      <a:pt x="3545" y="152"/>
                      <a:pt x="3545" y="151"/>
                    </a:cubicBezTo>
                    <a:cubicBezTo>
                      <a:pt x="3545" y="151"/>
                      <a:pt x="3545" y="150"/>
                      <a:pt x="3545" y="150"/>
                    </a:cubicBezTo>
                    <a:cubicBezTo>
                      <a:pt x="3545" y="151"/>
                      <a:pt x="3545" y="152"/>
                      <a:pt x="3545" y="154"/>
                    </a:cubicBezTo>
                    <a:close/>
                    <a:moveTo>
                      <a:pt x="3551" y="139"/>
                    </a:moveTo>
                    <a:cubicBezTo>
                      <a:pt x="3550" y="136"/>
                      <a:pt x="3549" y="134"/>
                      <a:pt x="3548" y="132"/>
                    </a:cubicBezTo>
                    <a:cubicBezTo>
                      <a:pt x="3549" y="129"/>
                      <a:pt x="3550" y="127"/>
                      <a:pt x="3551" y="125"/>
                    </a:cubicBezTo>
                    <a:cubicBezTo>
                      <a:pt x="3551" y="128"/>
                      <a:pt x="3552" y="131"/>
                      <a:pt x="3553" y="134"/>
                    </a:cubicBezTo>
                    <a:cubicBezTo>
                      <a:pt x="3552" y="136"/>
                      <a:pt x="3552" y="137"/>
                      <a:pt x="3551" y="139"/>
                    </a:cubicBezTo>
                    <a:close/>
                    <a:moveTo>
                      <a:pt x="3571" y="114"/>
                    </a:moveTo>
                    <a:cubicBezTo>
                      <a:pt x="3570" y="108"/>
                      <a:pt x="3569" y="101"/>
                      <a:pt x="3569" y="95"/>
                    </a:cubicBezTo>
                    <a:cubicBezTo>
                      <a:pt x="3569" y="88"/>
                      <a:pt x="3570" y="81"/>
                      <a:pt x="3571" y="75"/>
                    </a:cubicBezTo>
                    <a:cubicBezTo>
                      <a:pt x="3573" y="81"/>
                      <a:pt x="3573" y="88"/>
                      <a:pt x="3573" y="95"/>
                    </a:cubicBezTo>
                    <a:cubicBezTo>
                      <a:pt x="3573" y="101"/>
                      <a:pt x="3572" y="108"/>
                      <a:pt x="3571" y="114"/>
                    </a:cubicBezTo>
                    <a:close/>
                    <a:moveTo>
                      <a:pt x="3591" y="139"/>
                    </a:moveTo>
                    <a:cubicBezTo>
                      <a:pt x="3591" y="137"/>
                      <a:pt x="3590" y="136"/>
                      <a:pt x="3590" y="134"/>
                    </a:cubicBezTo>
                    <a:cubicBezTo>
                      <a:pt x="3590" y="131"/>
                      <a:pt x="3591" y="128"/>
                      <a:pt x="3592" y="125"/>
                    </a:cubicBezTo>
                    <a:cubicBezTo>
                      <a:pt x="3592" y="127"/>
                      <a:pt x="3593" y="129"/>
                      <a:pt x="3594" y="132"/>
                    </a:cubicBezTo>
                    <a:cubicBezTo>
                      <a:pt x="3593" y="134"/>
                      <a:pt x="3592" y="136"/>
                      <a:pt x="3591" y="139"/>
                    </a:cubicBezTo>
                    <a:close/>
                    <a:moveTo>
                      <a:pt x="3597" y="154"/>
                    </a:moveTo>
                    <a:cubicBezTo>
                      <a:pt x="3597" y="154"/>
                      <a:pt x="3597" y="154"/>
                      <a:pt x="3597" y="154"/>
                    </a:cubicBezTo>
                    <a:cubicBezTo>
                      <a:pt x="3597" y="152"/>
                      <a:pt x="3597" y="151"/>
                      <a:pt x="3598" y="150"/>
                    </a:cubicBezTo>
                    <a:cubicBezTo>
                      <a:pt x="3598" y="150"/>
                      <a:pt x="3598" y="151"/>
                      <a:pt x="3598" y="151"/>
                    </a:cubicBezTo>
                    <a:cubicBezTo>
                      <a:pt x="3597" y="152"/>
                      <a:pt x="3597" y="153"/>
                      <a:pt x="3597" y="154"/>
                    </a:cubicBezTo>
                    <a:close/>
                    <a:moveTo>
                      <a:pt x="3603" y="119"/>
                    </a:move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19"/>
                    </a:cubicBezTo>
                    <a:close/>
                    <a:moveTo>
                      <a:pt x="3602" y="138"/>
                    </a:moveTo>
                    <a:cubicBezTo>
                      <a:pt x="3601" y="137"/>
                      <a:pt x="3601" y="135"/>
                      <a:pt x="3601" y="134"/>
                    </a:cubicBezTo>
                    <a:cubicBezTo>
                      <a:pt x="3601" y="134"/>
                      <a:pt x="3601" y="134"/>
                      <a:pt x="3601" y="134"/>
                    </a:cubicBezTo>
                    <a:cubicBezTo>
                      <a:pt x="3601" y="134"/>
                      <a:pt x="3602" y="135"/>
                      <a:pt x="3602" y="137"/>
                    </a:cubicBezTo>
                    <a:cubicBezTo>
                      <a:pt x="3602" y="137"/>
                      <a:pt x="3602" y="138"/>
                      <a:pt x="3602" y="138"/>
                    </a:cubicBezTo>
                    <a:close/>
                    <a:moveTo>
                      <a:pt x="3601" y="133"/>
                    </a:moveTo>
                    <a:cubicBezTo>
                      <a:pt x="3601" y="132"/>
                      <a:pt x="3601" y="131"/>
                      <a:pt x="3601" y="130"/>
                    </a:cubicBezTo>
                    <a:cubicBezTo>
                      <a:pt x="3602" y="131"/>
                      <a:pt x="3603" y="133"/>
                      <a:pt x="3603" y="134"/>
                    </a:cubicBezTo>
                    <a:cubicBezTo>
                      <a:pt x="3603" y="135"/>
                      <a:pt x="3603" y="135"/>
                      <a:pt x="3603" y="136"/>
                    </a:cubicBezTo>
                    <a:cubicBezTo>
                      <a:pt x="3602" y="134"/>
                      <a:pt x="3601" y="133"/>
                      <a:pt x="3601" y="133"/>
                    </a:cubicBezTo>
                    <a:close/>
                    <a:moveTo>
                      <a:pt x="3604" y="145"/>
                    </a:moveTo>
                    <a:cubicBezTo>
                      <a:pt x="3603" y="144"/>
                      <a:pt x="3603" y="143"/>
                      <a:pt x="3603" y="143"/>
                    </a:cubicBezTo>
                    <a:cubicBezTo>
                      <a:pt x="3603" y="142"/>
                      <a:pt x="3604" y="141"/>
                      <a:pt x="3604" y="140"/>
                    </a:cubicBezTo>
                    <a:cubicBezTo>
                      <a:pt x="3604" y="140"/>
                      <a:pt x="3604" y="140"/>
                      <a:pt x="3604" y="140"/>
                    </a:cubicBezTo>
                    <a:cubicBezTo>
                      <a:pt x="3604" y="141"/>
                      <a:pt x="3604" y="142"/>
                      <a:pt x="3604" y="143"/>
                    </a:cubicBezTo>
                    <a:cubicBezTo>
                      <a:pt x="3604" y="143"/>
                      <a:pt x="3604" y="144"/>
                      <a:pt x="3604" y="145"/>
                    </a:cubicBezTo>
                    <a:close/>
                    <a:moveTo>
                      <a:pt x="3614" y="134"/>
                    </a:moveTo>
                    <a:cubicBezTo>
                      <a:pt x="3614" y="134"/>
                      <a:pt x="3614" y="133"/>
                      <a:pt x="3614" y="133"/>
                    </a:cubicBezTo>
                    <a:cubicBezTo>
                      <a:pt x="3614" y="132"/>
                      <a:pt x="3614" y="130"/>
                      <a:pt x="3614" y="129"/>
                    </a:cubicBezTo>
                    <a:cubicBezTo>
                      <a:pt x="3614" y="130"/>
                      <a:pt x="3614" y="132"/>
                      <a:pt x="3614" y="134"/>
                    </a:cubicBezTo>
                    <a:close/>
                    <a:moveTo>
                      <a:pt x="3624" y="120"/>
                    </a:moveTo>
                    <a:cubicBezTo>
                      <a:pt x="3624" y="117"/>
                      <a:pt x="3624" y="115"/>
                      <a:pt x="3624" y="112"/>
                    </a:cubicBezTo>
                    <a:cubicBezTo>
                      <a:pt x="3624" y="111"/>
                      <a:pt x="3624" y="111"/>
                      <a:pt x="3624" y="110"/>
                    </a:cubicBezTo>
                    <a:cubicBezTo>
                      <a:pt x="3624" y="113"/>
                      <a:pt x="3624" y="116"/>
                      <a:pt x="3625" y="119"/>
                    </a:cubicBezTo>
                    <a:cubicBezTo>
                      <a:pt x="3625" y="119"/>
                      <a:pt x="3624" y="120"/>
                      <a:pt x="3624" y="120"/>
                    </a:cubicBezTo>
                    <a:close/>
                    <a:moveTo>
                      <a:pt x="3626" y="115"/>
                    </a:moveTo>
                    <a:cubicBezTo>
                      <a:pt x="3625" y="112"/>
                      <a:pt x="3625" y="108"/>
                      <a:pt x="3624" y="104"/>
                    </a:cubicBezTo>
                    <a:cubicBezTo>
                      <a:pt x="3625" y="101"/>
                      <a:pt x="3625" y="97"/>
                      <a:pt x="3626" y="93"/>
                    </a:cubicBezTo>
                    <a:cubicBezTo>
                      <a:pt x="3627" y="98"/>
                      <a:pt x="3627" y="102"/>
                      <a:pt x="3627" y="104"/>
                    </a:cubicBezTo>
                    <a:cubicBezTo>
                      <a:pt x="3627" y="108"/>
                      <a:pt x="3627" y="111"/>
                      <a:pt x="3626" y="115"/>
                    </a:cubicBezTo>
                    <a:close/>
                    <a:moveTo>
                      <a:pt x="3631" y="102"/>
                    </a:moveTo>
                    <a:cubicBezTo>
                      <a:pt x="3631" y="102"/>
                      <a:pt x="3631" y="102"/>
                      <a:pt x="3630" y="103"/>
                    </a:cubicBezTo>
                    <a:cubicBezTo>
                      <a:pt x="3630" y="99"/>
                      <a:pt x="3629" y="94"/>
                      <a:pt x="3626" y="90"/>
                    </a:cubicBezTo>
                    <a:cubicBezTo>
                      <a:pt x="3628" y="84"/>
                      <a:pt x="3630" y="78"/>
                      <a:pt x="3632" y="73"/>
                    </a:cubicBezTo>
                    <a:cubicBezTo>
                      <a:pt x="3631" y="83"/>
                      <a:pt x="3631" y="93"/>
                      <a:pt x="3631" y="102"/>
                    </a:cubicBezTo>
                    <a:close/>
                    <a:moveTo>
                      <a:pt x="3637" y="110"/>
                    </a:moveTo>
                    <a:cubicBezTo>
                      <a:pt x="3637" y="111"/>
                      <a:pt x="3637" y="111"/>
                      <a:pt x="3637" y="111"/>
                    </a:cubicBezTo>
                    <a:cubicBezTo>
                      <a:pt x="3637" y="114"/>
                      <a:pt x="3636" y="116"/>
                      <a:pt x="3636" y="119"/>
                    </a:cubicBezTo>
                    <a:cubicBezTo>
                      <a:pt x="3635" y="114"/>
                      <a:pt x="3635" y="108"/>
                      <a:pt x="3635" y="103"/>
                    </a:cubicBezTo>
                    <a:cubicBezTo>
                      <a:pt x="3635" y="97"/>
                      <a:pt x="3635" y="91"/>
                      <a:pt x="3637" y="85"/>
                    </a:cubicBezTo>
                    <a:cubicBezTo>
                      <a:pt x="3636" y="87"/>
                      <a:pt x="3635" y="89"/>
                      <a:pt x="3634" y="92"/>
                    </a:cubicBezTo>
                    <a:cubicBezTo>
                      <a:pt x="3634" y="87"/>
                      <a:pt x="3634" y="82"/>
                      <a:pt x="3635" y="77"/>
                    </a:cubicBezTo>
                    <a:cubicBezTo>
                      <a:pt x="3637" y="83"/>
                      <a:pt x="3638" y="90"/>
                      <a:pt x="3638" y="96"/>
                    </a:cubicBezTo>
                    <a:cubicBezTo>
                      <a:pt x="3638" y="101"/>
                      <a:pt x="3638" y="106"/>
                      <a:pt x="3637" y="110"/>
                    </a:cubicBezTo>
                    <a:close/>
                    <a:moveTo>
                      <a:pt x="3643" y="127"/>
                    </a:moveTo>
                    <a:cubicBezTo>
                      <a:pt x="3642" y="132"/>
                      <a:pt x="3642" y="134"/>
                      <a:pt x="3642" y="134"/>
                    </a:cubicBezTo>
                    <a:cubicBezTo>
                      <a:pt x="3642" y="129"/>
                      <a:pt x="3643" y="125"/>
                      <a:pt x="3643" y="120"/>
                    </a:cubicBezTo>
                    <a:cubicBezTo>
                      <a:pt x="3643" y="123"/>
                      <a:pt x="3643" y="125"/>
                      <a:pt x="3643" y="127"/>
                    </a:cubicBezTo>
                    <a:close/>
                    <a:moveTo>
                      <a:pt x="3675" y="92"/>
                    </a:moveTo>
                    <a:cubicBezTo>
                      <a:pt x="3675" y="91"/>
                      <a:pt x="3675" y="90"/>
                      <a:pt x="3675" y="89"/>
                    </a:cubicBezTo>
                    <a:cubicBezTo>
                      <a:pt x="3675" y="89"/>
                      <a:pt x="3675" y="90"/>
                      <a:pt x="3675" y="91"/>
                    </a:cubicBezTo>
                    <a:cubicBezTo>
                      <a:pt x="3675" y="91"/>
                      <a:pt x="3675" y="92"/>
                      <a:pt x="3675" y="92"/>
                    </a:cubicBezTo>
                    <a:close/>
                    <a:moveTo>
                      <a:pt x="3677" y="130"/>
                    </a:moveTo>
                    <a:cubicBezTo>
                      <a:pt x="3677" y="132"/>
                      <a:pt x="3677" y="134"/>
                      <a:pt x="3677" y="136"/>
                    </a:cubicBezTo>
                    <a:cubicBezTo>
                      <a:pt x="3676" y="127"/>
                      <a:pt x="3675" y="119"/>
                      <a:pt x="3675" y="110"/>
                    </a:cubicBezTo>
                    <a:cubicBezTo>
                      <a:pt x="3675" y="105"/>
                      <a:pt x="3675" y="99"/>
                      <a:pt x="3676" y="93"/>
                    </a:cubicBezTo>
                    <a:cubicBezTo>
                      <a:pt x="3677" y="99"/>
                      <a:pt x="3678" y="104"/>
                      <a:pt x="3679" y="109"/>
                    </a:cubicBezTo>
                    <a:cubicBezTo>
                      <a:pt x="3678" y="116"/>
                      <a:pt x="3678" y="123"/>
                      <a:pt x="3677" y="130"/>
                    </a:cubicBezTo>
                    <a:close/>
                    <a:moveTo>
                      <a:pt x="3687" y="140"/>
                    </a:moveTo>
                    <a:cubicBezTo>
                      <a:pt x="3687" y="140"/>
                      <a:pt x="3687" y="139"/>
                      <a:pt x="3687" y="139"/>
                    </a:cubicBezTo>
                    <a:cubicBezTo>
                      <a:pt x="3688" y="100"/>
                      <a:pt x="3688" y="100"/>
                      <a:pt x="3688" y="100"/>
                    </a:cubicBezTo>
                    <a:cubicBezTo>
                      <a:pt x="3688" y="106"/>
                      <a:pt x="3689" y="113"/>
                      <a:pt x="3689" y="119"/>
                    </a:cubicBezTo>
                    <a:cubicBezTo>
                      <a:pt x="3689" y="122"/>
                      <a:pt x="3689" y="126"/>
                      <a:pt x="3689" y="129"/>
                    </a:cubicBezTo>
                    <a:cubicBezTo>
                      <a:pt x="3688" y="133"/>
                      <a:pt x="3688" y="136"/>
                      <a:pt x="3687" y="140"/>
                    </a:cubicBezTo>
                    <a:close/>
                    <a:moveTo>
                      <a:pt x="3708" y="105"/>
                    </a:moveTo>
                    <a:cubicBezTo>
                      <a:pt x="3708" y="104"/>
                      <a:pt x="3708" y="102"/>
                      <a:pt x="3708" y="101"/>
                    </a:cubicBezTo>
                    <a:cubicBezTo>
                      <a:pt x="3708" y="102"/>
                      <a:pt x="3709" y="103"/>
                      <a:pt x="3709" y="103"/>
                    </a:cubicBezTo>
                    <a:cubicBezTo>
                      <a:pt x="3708" y="104"/>
                      <a:pt x="3708" y="105"/>
                      <a:pt x="3708" y="105"/>
                    </a:cubicBezTo>
                    <a:close/>
                    <a:moveTo>
                      <a:pt x="3731" y="101"/>
                    </a:moveTo>
                    <a:cubicBezTo>
                      <a:pt x="3730" y="101"/>
                      <a:pt x="3730" y="101"/>
                      <a:pt x="3730" y="100"/>
                    </a:cubicBezTo>
                    <a:cubicBezTo>
                      <a:pt x="3730" y="101"/>
                      <a:pt x="3730" y="101"/>
                      <a:pt x="3731" y="101"/>
                    </a:cubicBezTo>
                    <a:cubicBezTo>
                      <a:pt x="3730" y="111"/>
                      <a:pt x="3729" y="119"/>
                      <a:pt x="3728" y="126"/>
                    </a:cubicBezTo>
                    <a:cubicBezTo>
                      <a:pt x="3727" y="122"/>
                      <a:pt x="3727" y="118"/>
                      <a:pt x="3726" y="114"/>
                    </a:cubicBezTo>
                    <a:cubicBezTo>
                      <a:pt x="3726" y="109"/>
                      <a:pt x="3726" y="103"/>
                      <a:pt x="3726" y="98"/>
                    </a:cubicBezTo>
                    <a:cubicBezTo>
                      <a:pt x="3727" y="92"/>
                      <a:pt x="3729" y="87"/>
                      <a:pt x="3732" y="82"/>
                    </a:cubicBezTo>
                    <a:cubicBezTo>
                      <a:pt x="3731" y="89"/>
                      <a:pt x="3731" y="95"/>
                      <a:pt x="3731" y="101"/>
                    </a:cubicBezTo>
                    <a:close/>
                    <a:moveTo>
                      <a:pt x="3740" y="117"/>
                    </a:moveTo>
                    <a:cubicBezTo>
                      <a:pt x="3740" y="114"/>
                      <a:pt x="3740" y="110"/>
                      <a:pt x="3740" y="106"/>
                    </a:cubicBezTo>
                    <a:cubicBezTo>
                      <a:pt x="3740" y="99"/>
                      <a:pt x="3740" y="90"/>
                      <a:pt x="3743" y="83"/>
                    </a:cubicBezTo>
                    <a:cubicBezTo>
                      <a:pt x="3742" y="95"/>
                      <a:pt x="3741" y="107"/>
                      <a:pt x="3740" y="117"/>
                    </a:cubicBezTo>
                    <a:close/>
                    <a:moveTo>
                      <a:pt x="3746" y="108"/>
                    </a:moveTo>
                    <a:cubicBezTo>
                      <a:pt x="3746" y="106"/>
                      <a:pt x="3746" y="104"/>
                      <a:pt x="3746" y="102"/>
                    </a:cubicBezTo>
                    <a:cubicBezTo>
                      <a:pt x="3747" y="102"/>
                      <a:pt x="3747" y="102"/>
                      <a:pt x="3747" y="103"/>
                    </a:cubicBezTo>
                    <a:cubicBezTo>
                      <a:pt x="3747" y="104"/>
                      <a:pt x="3746" y="106"/>
                      <a:pt x="3746" y="108"/>
                    </a:cubicBezTo>
                    <a:close/>
                    <a:moveTo>
                      <a:pt x="3752" y="111"/>
                    </a:moveTo>
                    <a:cubicBezTo>
                      <a:pt x="3752" y="103"/>
                      <a:pt x="3755" y="95"/>
                      <a:pt x="3757" y="87"/>
                    </a:cubicBezTo>
                    <a:cubicBezTo>
                      <a:pt x="3756" y="95"/>
                      <a:pt x="3754" y="104"/>
                      <a:pt x="3752" y="113"/>
                    </a:cubicBezTo>
                    <a:cubicBezTo>
                      <a:pt x="3752" y="112"/>
                      <a:pt x="3752" y="112"/>
                      <a:pt x="3752" y="111"/>
                    </a:cubicBezTo>
                    <a:close/>
                    <a:moveTo>
                      <a:pt x="3776" y="110"/>
                    </a:moveTo>
                    <a:cubicBezTo>
                      <a:pt x="3776" y="109"/>
                      <a:pt x="3776" y="108"/>
                      <a:pt x="3776" y="107"/>
                    </a:cubicBezTo>
                    <a:cubicBezTo>
                      <a:pt x="3776" y="107"/>
                      <a:pt x="3776" y="108"/>
                      <a:pt x="3776" y="108"/>
                    </a:cubicBezTo>
                    <a:cubicBezTo>
                      <a:pt x="3776" y="109"/>
                      <a:pt x="3776" y="109"/>
                      <a:pt x="3776" y="110"/>
                    </a:cubicBezTo>
                    <a:close/>
                    <a:moveTo>
                      <a:pt x="3787" y="125"/>
                    </a:moveTo>
                    <a:cubicBezTo>
                      <a:pt x="3787" y="123"/>
                      <a:pt x="3787" y="122"/>
                      <a:pt x="3787" y="120"/>
                    </a:cubicBezTo>
                    <a:cubicBezTo>
                      <a:pt x="3787" y="121"/>
                      <a:pt x="3787" y="122"/>
                      <a:pt x="3787" y="123"/>
                    </a:cubicBezTo>
                    <a:cubicBezTo>
                      <a:pt x="3787" y="123"/>
                      <a:pt x="3787" y="124"/>
                      <a:pt x="3787" y="125"/>
                    </a:cubicBezTo>
                    <a:close/>
                    <a:moveTo>
                      <a:pt x="3790" y="115"/>
                    </a:moveTo>
                    <a:cubicBezTo>
                      <a:pt x="3789" y="117"/>
                      <a:pt x="3789" y="118"/>
                      <a:pt x="3788" y="119"/>
                    </a:cubicBezTo>
                    <a:cubicBezTo>
                      <a:pt x="3788" y="118"/>
                      <a:pt x="3787" y="116"/>
                      <a:pt x="3787" y="114"/>
                    </a:cubicBezTo>
                    <a:cubicBezTo>
                      <a:pt x="3787" y="110"/>
                      <a:pt x="3787" y="105"/>
                      <a:pt x="3787" y="100"/>
                    </a:cubicBezTo>
                    <a:cubicBezTo>
                      <a:pt x="3788" y="94"/>
                      <a:pt x="3791" y="89"/>
                      <a:pt x="3794" y="84"/>
                    </a:cubicBezTo>
                    <a:cubicBezTo>
                      <a:pt x="3793" y="93"/>
                      <a:pt x="3791" y="105"/>
                      <a:pt x="3790" y="115"/>
                    </a:cubicBezTo>
                    <a:close/>
                    <a:moveTo>
                      <a:pt x="3797" y="90"/>
                    </a:moveTo>
                    <a:cubicBezTo>
                      <a:pt x="3797" y="88"/>
                      <a:pt x="3796" y="84"/>
                      <a:pt x="3796" y="80"/>
                    </a:cubicBezTo>
                    <a:cubicBezTo>
                      <a:pt x="3796" y="80"/>
                      <a:pt x="3796" y="80"/>
                      <a:pt x="3796" y="80"/>
                    </a:cubicBezTo>
                    <a:cubicBezTo>
                      <a:pt x="3797" y="81"/>
                      <a:pt x="3798" y="83"/>
                      <a:pt x="3798" y="84"/>
                    </a:cubicBezTo>
                    <a:cubicBezTo>
                      <a:pt x="3798" y="88"/>
                      <a:pt x="3797" y="90"/>
                      <a:pt x="3797" y="90"/>
                    </a:cubicBezTo>
                    <a:close/>
                    <a:moveTo>
                      <a:pt x="3799" y="83"/>
                    </a:moveTo>
                    <a:cubicBezTo>
                      <a:pt x="3798" y="81"/>
                      <a:pt x="3797" y="80"/>
                      <a:pt x="3796" y="79"/>
                    </a:cubicBezTo>
                    <a:cubicBezTo>
                      <a:pt x="3797" y="78"/>
                      <a:pt x="3798" y="76"/>
                      <a:pt x="3800" y="75"/>
                    </a:cubicBezTo>
                    <a:cubicBezTo>
                      <a:pt x="3799" y="78"/>
                      <a:pt x="3799" y="81"/>
                      <a:pt x="3799" y="83"/>
                    </a:cubicBezTo>
                    <a:close/>
                    <a:moveTo>
                      <a:pt x="3805" y="104"/>
                    </a:moveTo>
                    <a:cubicBezTo>
                      <a:pt x="3806" y="105"/>
                      <a:pt x="3806" y="107"/>
                      <a:pt x="3806" y="109"/>
                    </a:cubicBezTo>
                    <a:cubicBezTo>
                      <a:pt x="3806" y="111"/>
                      <a:pt x="3805" y="112"/>
                      <a:pt x="3805" y="114"/>
                    </a:cubicBezTo>
                    <a:cubicBezTo>
                      <a:pt x="3805" y="110"/>
                      <a:pt x="3805" y="107"/>
                      <a:pt x="3805" y="104"/>
                    </a:cubicBezTo>
                    <a:close/>
                    <a:moveTo>
                      <a:pt x="3801" y="91"/>
                    </a:move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lose/>
                    <a:moveTo>
                      <a:pt x="3801" y="124"/>
                    </a:moveTo>
                    <a:cubicBezTo>
                      <a:pt x="3802" y="114"/>
                      <a:pt x="3802" y="102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3" y="94"/>
                      <a:pt x="3804" y="98"/>
                      <a:pt x="3805" y="101"/>
                    </a:cubicBezTo>
                    <a:cubicBezTo>
                      <a:pt x="3803" y="120"/>
                      <a:pt x="3803" y="120"/>
                      <a:pt x="3803" y="120"/>
                    </a:cubicBezTo>
                    <a:cubicBezTo>
                      <a:pt x="3802" y="121"/>
                      <a:pt x="3802" y="122"/>
                      <a:pt x="3801" y="124"/>
                    </a:cubicBezTo>
                    <a:close/>
                    <a:moveTo>
                      <a:pt x="3804" y="136"/>
                    </a:moveTo>
                    <a:cubicBezTo>
                      <a:pt x="3804" y="134"/>
                      <a:pt x="3804" y="133"/>
                      <a:pt x="3804" y="131"/>
                    </a:cubicBezTo>
                    <a:cubicBezTo>
                      <a:pt x="3805" y="126"/>
                      <a:pt x="3806" y="121"/>
                      <a:pt x="3807" y="116"/>
                    </a:cubicBezTo>
                    <a:cubicBezTo>
                      <a:pt x="3808" y="118"/>
                      <a:pt x="3808" y="121"/>
                      <a:pt x="3808" y="123"/>
                    </a:cubicBezTo>
                    <a:cubicBezTo>
                      <a:pt x="3808" y="124"/>
                      <a:pt x="3808" y="124"/>
                      <a:pt x="3808" y="124"/>
                    </a:cubicBezTo>
                    <a:cubicBezTo>
                      <a:pt x="3807" y="128"/>
                      <a:pt x="3805" y="132"/>
                      <a:pt x="3804" y="136"/>
                    </a:cubicBezTo>
                    <a:close/>
                    <a:moveTo>
                      <a:pt x="3808" y="141"/>
                    </a:moveTo>
                    <a:cubicBezTo>
                      <a:pt x="3808" y="141"/>
                      <a:pt x="3808" y="141"/>
                      <a:pt x="3808" y="141"/>
                    </a:cubicBezTo>
                    <a:cubicBezTo>
                      <a:pt x="3809" y="139"/>
                      <a:pt x="3809" y="137"/>
                      <a:pt x="3810" y="135"/>
                    </a:cubicBezTo>
                    <a:cubicBezTo>
                      <a:pt x="3810" y="135"/>
                      <a:pt x="3810" y="135"/>
                      <a:pt x="3810" y="135"/>
                    </a:cubicBezTo>
                    <a:cubicBezTo>
                      <a:pt x="3810" y="137"/>
                      <a:pt x="3809" y="139"/>
                      <a:pt x="3808" y="141"/>
                    </a:cubicBezTo>
                    <a:close/>
                    <a:moveTo>
                      <a:pt x="3815" y="119"/>
                    </a:moveTo>
                    <a:cubicBezTo>
                      <a:pt x="3814" y="119"/>
                      <a:pt x="3814" y="118"/>
                      <a:pt x="3814" y="118"/>
                    </a:cubicBezTo>
                    <a:cubicBezTo>
                      <a:pt x="3814" y="116"/>
                      <a:pt x="3815" y="115"/>
                      <a:pt x="3815" y="113"/>
                    </a:cubicBezTo>
                    <a:cubicBezTo>
                      <a:pt x="3815" y="112"/>
                      <a:pt x="3815" y="112"/>
                      <a:pt x="3815" y="111"/>
                    </a:cubicBezTo>
                    <a:cubicBezTo>
                      <a:pt x="3816" y="112"/>
                      <a:pt x="3816" y="113"/>
                      <a:pt x="3816" y="115"/>
                    </a:cubicBezTo>
                    <a:cubicBezTo>
                      <a:pt x="3816" y="116"/>
                      <a:pt x="3815" y="118"/>
                      <a:pt x="3815" y="119"/>
                    </a:cubicBezTo>
                    <a:close/>
                    <a:moveTo>
                      <a:pt x="3822" y="136"/>
                    </a:moveTo>
                    <a:cubicBezTo>
                      <a:pt x="3821" y="135"/>
                      <a:pt x="3821" y="134"/>
                      <a:pt x="3820" y="133"/>
                    </a:cubicBezTo>
                    <a:cubicBezTo>
                      <a:pt x="3820" y="132"/>
                      <a:pt x="3820" y="132"/>
                      <a:pt x="3820" y="131"/>
                    </a:cubicBezTo>
                    <a:cubicBezTo>
                      <a:pt x="3821" y="133"/>
                      <a:pt x="3821" y="134"/>
                      <a:pt x="3822" y="136"/>
                    </a:cubicBezTo>
                    <a:cubicBezTo>
                      <a:pt x="3822" y="136"/>
                      <a:pt x="3822" y="136"/>
                      <a:pt x="3822" y="136"/>
                    </a:cubicBezTo>
                    <a:close/>
                    <a:moveTo>
                      <a:pt x="3836" y="118"/>
                    </a:move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8"/>
                      <a:pt x="3836" y="118"/>
                      <a:pt x="3836" y="118"/>
                    </a:cubicBezTo>
                    <a:close/>
                    <a:moveTo>
                      <a:pt x="3842" y="105"/>
                    </a:moveTo>
                    <a:cubicBezTo>
                      <a:pt x="3841" y="106"/>
                      <a:pt x="3840" y="107"/>
                      <a:pt x="3840" y="109"/>
                    </a:cubicBezTo>
                    <a:cubicBezTo>
                      <a:pt x="3839" y="107"/>
                      <a:pt x="3839" y="106"/>
                      <a:pt x="3839" y="104"/>
                    </a:cubicBezTo>
                    <a:cubicBezTo>
                      <a:pt x="3840" y="101"/>
                      <a:pt x="3841" y="98"/>
                      <a:pt x="3843" y="94"/>
                    </a:cubicBezTo>
                    <a:cubicBezTo>
                      <a:pt x="3842" y="98"/>
                      <a:pt x="3842" y="101"/>
                      <a:pt x="3842" y="105"/>
                    </a:cubicBezTo>
                    <a:close/>
                    <a:moveTo>
                      <a:pt x="3847" y="138"/>
                    </a:moveTo>
                    <a:cubicBezTo>
                      <a:pt x="3847" y="137"/>
                      <a:pt x="3847" y="136"/>
                      <a:pt x="3846" y="135"/>
                    </a:cubicBezTo>
                    <a:cubicBezTo>
                      <a:pt x="3846" y="133"/>
                      <a:pt x="3846" y="131"/>
                      <a:pt x="3846" y="129"/>
                    </a:cubicBezTo>
                    <a:cubicBezTo>
                      <a:pt x="3847" y="131"/>
                      <a:pt x="3847" y="133"/>
                      <a:pt x="3848" y="134"/>
                    </a:cubicBezTo>
                    <a:cubicBezTo>
                      <a:pt x="3848" y="135"/>
                      <a:pt x="3848" y="137"/>
                      <a:pt x="3847" y="138"/>
                    </a:cubicBezTo>
                    <a:close/>
                    <a:moveTo>
                      <a:pt x="3849" y="123"/>
                    </a:moveTo>
                    <a:cubicBezTo>
                      <a:pt x="3848" y="121"/>
                      <a:pt x="3847" y="118"/>
                      <a:pt x="3847" y="116"/>
                    </a:cubicBezTo>
                    <a:cubicBezTo>
                      <a:pt x="3848" y="112"/>
                      <a:pt x="3849" y="107"/>
                      <a:pt x="3850" y="103"/>
                    </a:cubicBezTo>
                    <a:cubicBezTo>
                      <a:pt x="3850" y="110"/>
                      <a:pt x="3849" y="117"/>
                      <a:pt x="3849" y="123"/>
                    </a:cubicBezTo>
                    <a:close/>
                    <a:moveTo>
                      <a:pt x="3854" y="69"/>
                    </a:moveTo>
                    <a:cubicBezTo>
                      <a:pt x="3856" y="72"/>
                      <a:pt x="3858" y="75"/>
                      <a:pt x="3859" y="79"/>
                    </a:cubicBezTo>
                    <a:cubicBezTo>
                      <a:pt x="3859" y="79"/>
                      <a:pt x="3859" y="79"/>
                      <a:pt x="3859" y="79"/>
                    </a:cubicBezTo>
                    <a:cubicBezTo>
                      <a:pt x="3857" y="76"/>
                      <a:pt x="3856" y="72"/>
                      <a:pt x="3854" y="69"/>
                    </a:cubicBezTo>
                    <a:cubicBezTo>
                      <a:pt x="3854" y="69"/>
                      <a:pt x="3854" y="69"/>
                      <a:pt x="3854" y="69"/>
                    </a:cubicBezTo>
                    <a:close/>
                    <a:moveTo>
                      <a:pt x="3854" y="74"/>
                    </a:moveTo>
                    <a:cubicBezTo>
                      <a:pt x="3855" y="76"/>
                      <a:pt x="3856" y="79"/>
                      <a:pt x="3857" y="81"/>
                    </a:cubicBezTo>
                    <a:cubicBezTo>
                      <a:pt x="3856" y="82"/>
                      <a:pt x="3855" y="83"/>
                      <a:pt x="3854" y="85"/>
                    </a:cubicBezTo>
                    <a:cubicBezTo>
                      <a:pt x="3854" y="81"/>
                      <a:pt x="3854" y="77"/>
                      <a:pt x="3854" y="74"/>
                    </a:cubicBezTo>
                    <a:close/>
                    <a:moveTo>
                      <a:pt x="3855" y="120"/>
                    </a:moveTo>
                    <a:cubicBezTo>
                      <a:pt x="3855" y="115"/>
                      <a:pt x="3855" y="111"/>
                      <a:pt x="3855" y="106"/>
                    </a:cubicBezTo>
                    <a:cubicBezTo>
                      <a:pt x="3856" y="109"/>
                      <a:pt x="3856" y="112"/>
                      <a:pt x="3857" y="114"/>
                    </a:cubicBezTo>
                    <a:cubicBezTo>
                      <a:pt x="3856" y="116"/>
                      <a:pt x="3856" y="118"/>
                      <a:pt x="3855" y="120"/>
                    </a:cubicBezTo>
                    <a:close/>
                    <a:moveTo>
                      <a:pt x="3858" y="109"/>
                    </a:moveTo>
                    <a:cubicBezTo>
                      <a:pt x="3857" y="107"/>
                      <a:pt x="3856" y="104"/>
                      <a:pt x="3855" y="102"/>
                    </a:cubicBezTo>
                    <a:cubicBezTo>
                      <a:pt x="3855" y="99"/>
                      <a:pt x="3855" y="97"/>
                      <a:pt x="3855" y="94"/>
                    </a:cubicBezTo>
                    <a:cubicBezTo>
                      <a:pt x="3856" y="98"/>
                      <a:pt x="3857" y="102"/>
                      <a:pt x="3859" y="107"/>
                    </a:cubicBezTo>
                    <a:cubicBezTo>
                      <a:pt x="3859" y="108"/>
                      <a:pt x="3858" y="108"/>
                      <a:pt x="3858" y="109"/>
                    </a:cubicBezTo>
                    <a:close/>
                    <a:moveTo>
                      <a:pt x="3862" y="96"/>
                    </a:moveTo>
                    <a:cubicBezTo>
                      <a:pt x="3861" y="98"/>
                      <a:pt x="3860" y="101"/>
                      <a:pt x="3860" y="104"/>
                    </a:cubicBezTo>
                    <a:cubicBezTo>
                      <a:pt x="3858" y="100"/>
                      <a:pt x="3856" y="96"/>
                      <a:pt x="3855" y="92"/>
                    </a:cubicBezTo>
                    <a:cubicBezTo>
                      <a:pt x="3855" y="92"/>
                      <a:pt x="3855" y="92"/>
                      <a:pt x="3855" y="92"/>
                    </a:cubicBezTo>
                    <a:cubicBezTo>
                      <a:pt x="3856" y="89"/>
                      <a:pt x="3857" y="86"/>
                      <a:pt x="3859" y="84"/>
                    </a:cubicBezTo>
                    <a:cubicBezTo>
                      <a:pt x="3860" y="87"/>
                      <a:pt x="3861" y="90"/>
                      <a:pt x="3862" y="93"/>
                    </a:cubicBezTo>
                    <a:cubicBezTo>
                      <a:pt x="3862" y="94"/>
                      <a:pt x="3862" y="95"/>
                      <a:pt x="3862" y="96"/>
                    </a:cubicBezTo>
                    <a:close/>
                    <a:moveTo>
                      <a:pt x="3863" y="90"/>
                    </a:moveTo>
                    <a:cubicBezTo>
                      <a:pt x="3862" y="87"/>
                      <a:pt x="3861" y="84"/>
                      <a:pt x="3860" y="82"/>
                    </a:cubicBezTo>
                    <a:cubicBezTo>
                      <a:pt x="3860" y="81"/>
                      <a:pt x="3860" y="81"/>
                      <a:pt x="3860" y="81"/>
                    </a:cubicBezTo>
                    <a:cubicBezTo>
                      <a:pt x="3861" y="83"/>
                      <a:pt x="3862" y="86"/>
                      <a:pt x="3863" y="89"/>
                    </a:cubicBezTo>
                    <a:cubicBezTo>
                      <a:pt x="3863" y="89"/>
                      <a:pt x="3863" y="89"/>
                      <a:pt x="3863" y="90"/>
                    </a:cubicBezTo>
                    <a:close/>
                    <a:moveTo>
                      <a:pt x="3861" y="79"/>
                    </a:moveTo>
                    <a:cubicBezTo>
                      <a:pt x="3862" y="78"/>
                      <a:pt x="3863" y="77"/>
                      <a:pt x="3863" y="76"/>
                    </a:cubicBezTo>
                    <a:cubicBezTo>
                      <a:pt x="3864" y="78"/>
                      <a:pt x="3864" y="79"/>
                      <a:pt x="3865" y="80"/>
                    </a:cubicBezTo>
                    <a:cubicBezTo>
                      <a:pt x="3865" y="82"/>
                      <a:pt x="3864" y="84"/>
                      <a:pt x="3864" y="85"/>
                    </a:cubicBezTo>
                    <a:cubicBezTo>
                      <a:pt x="3863" y="83"/>
                      <a:pt x="3862" y="81"/>
                      <a:pt x="3861" y="79"/>
                    </a:cubicBezTo>
                    <a:close/>
                    <a:moveTo>
                      <a:pt x="3864" y="116"/>
                    </a:moveTo>
                    <a:cubicBezTo>
                      <a:pt x="3864" y="111"/>
                      <a:pt x="3865" y="106"/>
                      <a:pt x="3865" y="102"/>
                    </a:cubicBezTo>
                    <a:cubicBezTo>
                      <a:pt x="3866" y="105"/>
                      <a:pt x="3867" y="108"/>
                      <a:pt x="3868" y="111"/>
                    </a:cubicBezTo>
                    <a:cubicBezTo>
                      <a:pt x="3867" y="113"/>
                      <a:pt x="3866" y="116"/>
                      <a:pt x="3865" y="118"/>
                    </a:cubicBezTo>
                    <a:cubicBezTo>
                      <a:pt x="3865" y="117"/>
                      <a:pt x="3864" y="117"/>
                      <a:pt x="3864" y="116"/>
                    </a:cubicBezTo>
                    <a:close/>
                    <a:moveTo>
                      <a:pt x="3869" y="130"/>
                    </a:moveTo>
                    <a:cubicBezTo>
                      <a:pt x="3868" y="128"/>
                      <a:pt x="3868" y="127"/>
                      <a:pt x="3867" y="125"/>
                    </a:cubicBezTo>
                    <a:cubicBezTo>
                      <a:pt x="3868" y="123"/>
                      <a:pt x="3868" y="122"/>
                      <a:pt x="3869" y="120"/>
                    </a:cubicBezTo>
                    <a:cubicBezTo>
                      <a:pt x="3869" y="122"/>
                      <a:pt x="3869" y="124"/>
                      <a:pt x="3869" y="127"/>
                    </a:cubicBezTo>
                    <a:cubicBezTo>
                      <a:pt x="3869" y="128"/>
                      <a:pt x="3869" y="129"/>
                      <a:pt x="3869" y="130"/>
                    </a:cubicBezTo>
                    <a:close/>
                    <a:moveTo>
                      <a:pt x="3871" y="105"/>
                    </a:moveTo>
                    <a:cubicBezTo>
                      <a:pt x="3869" y="100"/>
                      <a:pt x="3868" y="95"/>
                      <a:pt x="3866" y="91"/>
                    </a:cubicBezTo>
                    <a:cubicBezTo>
                      <a:pt x="3866" y="89"/>
                      <a:pt x="3866" y="87"/>
                      <a:pt x="3866" y="85"/>
                    </a:cubicBezTo>
                    <a:cubicBezTo>
                      <a:pt x="3869" y="91"/>
                      <a:pt x="3870" y="97"/>
                      <a:pt x="3872" y="103"/>
                    </a:cubicBezTo>
                    <a:cubicBezTo>
                      <a:pt x="3871" y="104"/>
                      <a:pt x="3871" y="105"/>
                      <a:pt x="3871" y="105"/>
                    </a:cubicBezTo>
                    <a:close/>
                    <a:moveTo>
                      <a:pt x="3872" y="111"/>
                    </a:moveTo>
                    <a:cubicBezTo>
                      <a:pt x="3872" y="110"/>
                      <a:pt x="3872" y="110"/>
                      <a:pt x="3872" y="109"/>
                    </a:cubicBezTo>
                    <a:cubicBezTo>
                      <a:pt x="3872" y="109"/>
                      <a:pt x="3872" y="108"/>
                      <a:pt x="3873" y="107"/>
                    </a:cubicBezTo>
                    <a:cubicBezTo>
                      <a:pt x="3873" y="108"/>
                      <a:pt x="3873" y="109"/>
                      <a:pt x="3873" y="109"/>
                    </a:cubicBezTo>
                    <a:cubicBezTo>
                      <a:pt x="3873" y="110"/>
                      <a:pt x="3873" y="110"/>
                      <a:pt x="3872" y="111"/>
                    </a:cubicBezTo>
                    <a:close/>
                    <a:moveTo>
                      <a:pt x="3883" y="94"/>
                    </a:moveTo>
                    <a:cubicBezTo>
                      <a:pt x="3883" y="95"/>
                      <a:pt x="3883" y="95"/>
                      <a:pt x="3884" y="96"/>
                    </a:cubicBezTo>
                    <a:cubicBezTo>
                      <a:pt x="3883" y="97"/>
                      <a:pt x="3883" y="97"/>
                      <a:pt x="3883" y="98"/>
                    </a:cubicBezTo>
                    <a:cubicBezTo>
                      <a:pt x="3883" y="96"/>
                      <a:pt x="3883" y="95"/>
                      <a:pt x="3883" y="94"/>
                    </a:cubicBezTo>
                    <a:close/>
                    <a:moveTo>
                      <a:pt x="3885" y="109"/>
                    </a:moveTo>
                    <a:cubicBezTo>
                      <a:pt x="3884" y="106"/>
                      <a:pt x="3884" y="104"/>
                      <a:pt x="3883" y="102"/>
                    </a:cubicBezTo>
                    <a:cubicBezTo>
                      <a:pt x="3883" y="101"/>
                      <a:pt x="3883" y="99"/>
                      <a:pt x="3883" y="98"/>
                    </a:cubicBezTo>
                    <a:cubicBezTo>
                      <a:pt x="3883" y="98"/>
                      <a:pt x="3884" y="97"/>
                      <a:pt x="3884" y="97"/>
                    </a:cubicBezTo>
                    <a:cubicBezTo>
                      <a:pt x="3884" y="98"/>
                      <a:pt x="3885" y="100"/>
                      <a:pt x="3885" y="102"/>
                    </a:cubicBezTo>
                    <a:cubicBezTo>
                      <a:pt x="3885" y="104"/>
                      <a:pt x="3885" y="107"/>
                      <a:pt x="3885" y="109"/>
                    </a:cubicBezTo>
                    <a:close/>
                    <a:moveTo>
                      <a:pt x="3887" y="84"/>
                    </a:moveTo>
                    <a:cubicBezTo>
                      <a:pt x="3886" y="89"/>
                      <a:pt x="3886" y="94"/>
                      <a:pt x="3886" y="98"/>
                    </a:cubicBezTo>
                    <a:cubicBezTo>
                      <a:pt x="3885" y="97"/>
                      <a:pt x="3885" y="96"/>
                      <a:pt x="3884" y="95"/>
                    </a:cubicBezTo>
                    <a:cubicBezTo>
                      <a:pt x="3885" y="94"/>
                      <a:pt x="3886" y="92"/>
                      <a:pt x="3886" y="91"/>
                    </a:cubicBezTo>
                    <a:cubicBezTo>
                      <a:pt x="3886" y="92"/>
                      <a:pt x="3885" y="94"/>
                      <a:pt x="3884" y="95"/>
                    </a:cubicBezTo>
                    <a:cubicBezTo>
                      <a:pt x="3884" y="94"/>
                      <a:pt x="3883" y="93"/>
                      <a:pt x="3883" y="92"/>
                    </a:cubicBezTo>
                    <a:cubicBezTo>
                      <a:pt x="3883" y="90"/>
                      <a:pt x="3883" y="88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2" y="75"/>
                      <a:pt x="3882" y="65"/>
                      <a:pt x="3882" y="56"/>
                    </a:cubicBezTo>
                    <a:cubicBezTo>
                      <a:pt x="3885" y="58"/>
                      <a:pt x="3887" y="61"/>
                      <a:pt x="3890" y="63"/>
                    </a:cubicBezTo>
                    <a:cubicBezTo>
                      <a:pt x="3889" y="69"/>
                      <a:pt x="3888" y="76"/>
                      <a:pt x="3887" y="84"/>
                    </a:cubicBezTo>
                    <a:cubicBezTo>
                      <a:pt x="3887" y="82"/>
                      <a:pt x="3886" y="81"/>
                      <a:pt x="3886" y="79"/>
                    </a:cubicBezTo>
                    <a:cubicBezTo>
                      <a:pt x="3886" y="81"/>
                      <a:pt x="3887" y="83"/>
                      <a:pt x="3887" y="84"/>
                    </a:cubicBezTo>
                    <a:close/>
                    <a:moveTo>
                      <a:pt x="3888" y="139"/>
                    </a:moveTo>
                    <a:cubicBezTo>
                      <a:pt x="3888" y="134"/>
                      <a:pt x="3888" y="128"/>
                      <a:pt x="3888" y="121"/>
                    </a:cubicBezTo>
                    <a:cubicBezTo>
                      <a:pt x="3888" y="125"/>
                      <a:pt x="3888" y="129"/>
                      <a:pt x="3889" y="133"/>
                    </a:cubicBezTo>
                    <a:cubicBezTo>
                      <a:pt x="3889" y="135"/>
                      <a:pt x="3889" y="137"/>
                      <a:pt x="3888" y="139"/>
                    </a:cubicBezTo>
                    <a:close/>
                    <a:moveTo>
                      <a:pt x="3888" y="104"/>
                    </a:moveTo>
                    <a:cubicBezTo>
                      <a:pt x="3888" y="102"/>
                      <a:pt x="3888" y="99"/>
                      <a:pt x="3889" y="96"/>
                    </a:cubicBezTo>
                    <a:cubicBezTo>
                      <a:pt x="3889" y="100"/>
                      <a:pt x="3889" y="104"/>
                      <a:pt x="3889" y="107"/>
                    </a:cubicBezTo>
                    <a:cubicBezTo>
                      <a:pt x="3889" y="106"/>
                      <a:pt x="3889" y="105"/>
                      <a:pt x="3888" y="104"/>
                    </a:cubicBezTo>
                    <a:close/>
                    <a:moveTo>
                      <a:pt x="3900" y="85"/>
                    </a:moveTo>
                    <a:cubicBezTo>
                      <a:pt x="3899" y="90"/>
                      <a:pt x="3898" y="96"/>
                      <a:pt x="3897" y="103"/>
                    </a:cubicBezTo>
                    <a:cubicBezTo>
                      <a:pt x="3897" y="101"/>
                      <a:pt x="3897" y="100"/>
                      <a:pt x="3896" y="99"/>
                    </a:cubicBezTo>
                    <a:cubicBezTo>
                      <a:pt x="3896" y="96"/>
                      <a:pt x="3895" y="93"/>
                      <a:pt x="3894" y="90"/>
                    </a:cubicBezTo>
                    <a:cubicBezTo>
                      <a:pt x="3895" y="93"/>
                      <a:pt x="3895" y="96"/>
                      <a:pt x="3895" y="99"/>
                    </a:cubicBezTo>
                    <a:cubicBezTo>
                      <a:pt x="3895" y="104"/>
                      <a:pt x="3894" y="112"/>
                      <a:pt x="3894" y="120"/>
                    </a:cubicBezTo>
                    <a:cubicBezTo>
                      <a:pt x="3893" y="110"/>
                      <a:pt x="3891" y="100"/>
                      <a:pt x="3889" y="91"/>
                    </a:cubicBezTo>
                    <a:cubicBezTo>
                      <a:pt x="3890" y="81"/>
                      <a:pt x="3891" y="72"/>
                      <a:pt x="3891" y="65"/>
                    </a:cubicBezTo>
                    <a:cubicBezTo>
                      <a:pt x="3895" y="69"/>
                      <a:pt x="3898" y="74"/>
                      <a:pt x="3900" y="79"/>
                    </a:cubicBezTo>
                    <a:cubicBezTo>
                      <a:pt x="3900" y="81"/>
                      <a:pt x="3900" y="83"/>
                      <a:pt x="3900" y="85"/>
                    </a:cubicBezTo>
                    <a:close/>
                    <a:moveTo>
                      <a:pt x="3900" y="75"/>
                    </a:moveTo>
                    <a:cubicBezTo>
                      <a:pt x="3900" y="75"/>
                      <a:pt x="3900" y="75"/>
                      <a:pt x="3900" y="75"/>
                    </a:cubicBezTo>
                    <a:cubicBezTo>
                      <a:pt x="3900" y="73"/>
                      <a:pt x="3900" y="72"/>
                      <a:pt x="3899" y="70"/>
                    </a:cubicBezTo>
                    <a:cubicBezTo>
                      <a:pt x="3899" y="70"/>
                      <a:pt x="3900" y="72"/>
                      <a:pt x="3900" y="75"/>
                    </a:cubicBezTo>
                    <a:cubicBezTo>
                      <a:pt x="3897" y="71"/>
                      <a:pt x="3895" y="67"/>
                      <a:pt x="3891" y="64"/>
                    </a:cubicBezTo>
                    <a:cubicBezTo>
                      <a:pt x="3892" y="60"/>
                      <a:pt x="3892" y="57"/>
                      <a:pt x="3893" y="54"/>
                    </a:cubicBezTo>
                    <a:cubicBezTo>
                      <a:pt x="3896" y="58"/>
                      <a:pt x="3899" y="62"/>
                      <a:pt x="3901" y="65"/>
                    </a:cubicBezTo>
                    <a:cubicBezTo>
                      <a:pt x="3901" y="68"/>
                      <a:pt x="3900" y="71"/>
                      <a:pt x="3900" y="75"/>
                    </a:cubicBezTo>
                    <a:close/>
                    <a:moveTo>
                      <a:pt x="3904" y="117"/>
                    </a:moveTo>
                    <a:cubicBezTo>
                      <a:pt x="3903" y="119"/>
                      <a:pt x="3902" y="122"/>
                      <a:pt x="3902" y="125"/>
                    </a:cubicBezTo>
                    <a:cubicBezTo>
                      <a:pt x="3902" y="124"/>
                      <a:pt x="3902" y="123"/>
                      <a:pt x="3902" y="122"/>
                    </a:cubicBezTo>
                    <a:cubicBezTo>
                      <a:pt x="3902" y="110"/>
                      <a:pt x="3902" y="98"/>
                      <a:pt x="3903" y="87"/>
                    </a:cubicBezTo>
                    <a:cubicBezTo>
                      <a:pt x="3904" y="92"/>
                      <a:pt x="3905" y="98"/>
                      <a:pt x="3906" y="103"/>
                    </a:cubicBezTo>
                    <a:cubicBezTo>
                      <a:pt x="3905" y="108"/>
                      <a:pt x="3904" y="112"/>
                      <a:pt x="3904" y="117"/>
                    </a:cubicBezTo>
                    <a:close/>
                    <a:moveTo>
                      <a:pt x="3907" y="89"/>
                    </a:moveTo>
                    <a:cubicBezTo>
                      <a:pt x="3906" y="86"/>
                      <a:pt x="3904" y="83"/>
                      <a:pt x="3903" y="80"/>
                    </a:cubicBezTo>
                    <a:cubicBezTo>
                      <a:pt x="3903" y="76"/>
                      <a:pt x="3903" y="72"/>
                      <a:pt x="3903" y="68"/>
                    </a:cubicBezTo>
                    <a:cubicBezTo>
                      <a:pt x="3905" y="71"/>
                      <a:pt x="3907" y="74"/>
                      <a:pt x="3909" y="78"/>
                    </a:cubicBezTo>
                    <a:cubicBezTo>
                      <a:pt x="3908" y="81"/>
                      <a:pt x="3908" y="85"/>
                      <a:pt x="3907" y="89"/>
                    </a:cubicBezTo>
                    <a:close/>
                    <a:moveTo>
                      <a:pt x="3912" y="96"/>
                    </a:moveTo>
                    <a:cubicBezTo>
                      <a:pt x="3912" y="97"/>
                      <a:pt x="3911" y="98"/>
                      <a:pt x="3911" y="99"/>
                    </a:cubicBezTo>
                    <a:cubicBezTo>
                      <a:pt x="3910" y="98"/>
                      <a:pt x="3910" y="97"/>
                      <a:pt x="3910" y="96"/>
                    </a:cubicBezTo>
                    <a:cubicBezTo>
                      <a:pt x="3910" y="91"/>
                      <a:pt x="3910" y="86"/>
                      <a:pt x="3910" y="80"/>
                    </a:cubicBezTo>
                    <a:cubicBezTo>
                      <a:pt x="3911" y="83"/>
                      <a:pt x="3912" y="86"/>
                      <a:pt x="3913" y="88"/>
                    </a:cubicBezTo>
                    <a:cubicBezTo>
                      <a:pt x="3913" y="91"/>
                      <a:pt x="3913" y="93"/>
                      <a:pt x="3912" y="96"/>
                    </a:cubicBezTo>
                    <a:close/>
                    <a:moveTo>
                      <a:pt x="3934" y="105"/>
                    </a:moveTo>
                    <a:cubicBezTo>
                      <a:pt x="3933" y="103"/>
                      <a:pt x="3933" y="102"/>
                      <a:pt x="3932" y="101"/>
                    </a:cubicBezTo>
                    <a:cubicBezTo>
                      <a:pt x="3934" y="96"/>
                      <a:pt x="3935" y="92"/>
                      <a:pt x="3936" y="89"/>
                    </a:cubicBezTo>
                    <a:cubicBezTo>
                      <a:pt x="3936" y="89"/>
                      <a:pt x="3937" y="89"/>
                      <a:pt x="3937" y="90"/>
                    </a:cubicBezTo>
                    <a:cubicBezTo>
                      <a:pt x="3936" y="95"/>
                      <a:pt x="3935" y="100"/>
                      <a:pt x="3934" y="105"/>
                    </a:cubicBezTo>
                    <a:close/>
                    <a:moveTo>
                      <a:pt x="3950" y="81"/>
                    </a:moveTo>
                    <a:cubicBezTo>
                      <a:pt x="3950" y="81"/>
                      <a:pt x="3950" y="81"/>
                      <a:pt x="3951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lose/>
                    <a:moveTo>
                      <a:pt x="3950" y="88"/>
                    </a:move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90"/>
                      <a:pt x="3950" y="91"/>
                      <a:pt x="3949" y="91"/>
                    </a:cubicBezTo>
                    <a:cubicBezTo>
                      <a:pt x="3950" y="90"/>
                      <a:pt x="3950" y="89"/>
                      <a:pt x="3950" y="88"/>
                    </a:cubicBezTo>
                    <a:close/>
                    <a:moveTo>
                      <a:pt x="3941" y="122"/>
                    </a:moveTo>
                    <a:cubicBezTo>
                      <a:pt x="3941" y="122"/>
                      <a:pt x="3941" y="123"/>
                      <a:pt x="3941" y="123"/>
                    </a:cubicBezTo>
                    <a:cubicBezTo>
                      <a:pt x="3941" y="123"/>
                      <a:pt x="3941" y="123"/>
                      <a:pt x="3941" y="123"/>
                    </a:cubicBezTo>
                    <a:cubicBezTo>
                      <a:pt x="3941" y="123"/>
                      <a:pt x="3941" y="122"/>
                      <a:pt x="3941" y="122"/>
                    </a:cubicBezTo>
                    <a:cubicBezTo>
                      <a:pt x="3941" y="120"/>
                      <a:pt x="3942" y="118"/>
                      <a:pt x="3942" y="115"/>
                    </a:cubicBezTo>
                    <a:cubicBezTo>
                      <a:pt x="3942" y="115"/>
                      <a:pt x="3942" y="115"/>
                      <a:pt x="3942" y="115"/>
                    </a:cubicBezTo>
                    <a:cubicBezTo>
                      <a:pt x="3942" y="116"/>
                      <a:pt x="3942" y="117"/>
                      <a:pt x="3942" y="118"/>
                    </a:cubicBezTo>
                    <a:cubicBezTo>
                      <a:pt x="3942" y="119"/>
                      <a:pt x="3941" y="121"/>
                      <a:pt x="3941" y="122"/>
                    </a:cubicBezTo>
                    <a:close/>
                    <a:moveTo>
                      <a:pt x="3943" y="70"/>
                    </a:moveTo>
                    <a:cubicBezTo>
                      <a:pt x="3946" y="73"/>
                      <a:pt x="3948" y="76"/>
                      <a:pt x="3949" y="79"/>
                    </a:cubicBezTo>
                    <a:cubicBezTo>
                      <a:pt x="3949" y="81"/>
                      <a:pt x="3949" y="82"/>
                      <a:pt x="3948" y="84"/>
                    </a:cubicBezTo>
                    <a:cubicBezTo>
                      <a:pt x="3948" y="84"/>
                      <a:pt x="3948" y="84"/>
                      <a:pt x="3948" y="84"/>
                    </a:cubicBezTo>
                    <a:cubicBezTo>
                      <a:pt x="3948" y="82"/>
                      <a:pt x="3947" y="81"/>
                      <a:pt x="3946" y="79"/>
                    </a:cubicBezTo>
                    <a:cubicBezTo>
                      <a:pt x="3947" y="81"/>
                      <a:pt x="3947" y="83"/>
                      <a:pt x="3948" y="84"/>
                    </a:cubicBezTo>
                    <a:cubicBezTo>
                      <a:pt x="3946" y="87"/>
                      <a:pt x="3945" y="90"/>
                      <a:pt x="3943" y="93"/>
                    </a:cubicBezTo>
                    <a:cubicBezTo>
                      <a:pt x="3944" y="85"/>
                      <a:pt x="3944" y="77"/>
                      <a:pt x="3943" y="70"/>
                    </a:cubicBezTo>
                    <a:close/>
                    <a:moveTo>
                      <a:pt x="3946" y="98"/>
                    </a:moveTo>
                    <a:cubicBezTo>
                      <a:pt x="3946" y="98"/>
                      <a:pt x="3946" y="97"/>
                      <a:pt x="3945" y="96"/>
                    </a:cubicBezTo>
                    <a:cubicBezTo>
                      <a:pt x="3946" y="97"/>
                      <a:pt x="3946" y="98"/>
                      <a:pt x="3946" y="98"/>
                    </a:cubicBezTo>
                    <a:cubicBezTo>
                      <a:pt x="3946" y="99"/>
                      <a:pt x="3946" y="100"/>
                      <a:pt x="3945" y="100"/>
                    </a:cubicBezTo>
                    <a:cubicBezTo>
                      <a:pt x="3945" y="99"/>
                      <a:pt x="3945" y="98"/>
                      <a:pt x="3944" y="97"/>
                    </a:cubicBezTo>
                    <a:cubicBezTo>
                      <a:pt x="3945" y="95"/>
                      <a:pt x="3946" y="93"/>
                      <a:pt x="3947" y="90"/>
                    </a:cubicBezTo>
                    <a:cubicBezTo>
                      <a:pt x="3947" y="93"/>
                      <a:pt x="3946" y="96"/>
                      <a:pt x="3946" y="98"/>
                    </a:cubicBezTo>
                    <a:close/>
                    <a:moveTo>
                      <a:pt x="3953" y="100"/>
                    </a:moveTo>
                    <a:cubicBezTo>
                      <a:pt x="3951" y="104"/>
                      <a:pt x="3950" y="107"/>
                      <a:pt x="3948" y="110"/>
                    </a:cubicBezTo>
                    <a:cubicBezTo>
                      <a:pt x="3948" y="110"/>
                      <a:pt x="3948" y="109"/>
                      <a:pt x="3948" y="109"/>
                    </a:cubicBezTo>
                    <a:cubicBezTo>
                      <a:pt x="3948" y="106"/>
                      <a:pt x="3949" y="102"/>
                      <a:pt x="3949" y="99"/>
                    </a:cubicBezTo>
                    <a:cubicBezTo>
                      <a:pt x="3950" y="95"/>
                      <a:pt x="3950" y="92"/>
                      <a:pt x="3950" y="90"/>
                    </a:cubicBezTo>
                    <a:cubicBezTo>
                      <a:pt x="3951" y="93"/>
                      <a:pt x="3952" y="96"/>
                      <a:pt x="3953" y="100"/>
                    </a:cubicBezTo>
                    <a:cubicBezTo>
                      <a:pt x="3953" y="100"/>
                      <a:pt x="3953" y="100"/>
                      <a:pt x="3953" y="100"/>
                    </a:cubicBezTo>
                    <a:close/>
                    <a:moveTo>
                      <a:pt x="3953" y="97"/>
                    </a:moveTo>
                    <a:cubicBezTo>
                      <a:pt x="3952" y="95"/>
                      <a:pt x="3951" y="92"/>
                      <a:pt x="3950" y="89"/>
                    </a:cubicBezTo>
                    <a:cubicBezTo>
                      <a:pt x="3950" y="89"/>
                      <a:pt x="3950" y="89"/>
                      <a:pt x="3950" y="88"/>
                    </a:cubicBez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89"/>
                      <a:pt x="3950" y="88"/>
                      <a:pt x="3950" y="88"/>
                    </a:cubicBezTo>
                    <a:cubicBezTo>
                      <a:pt x="3950" y="87"/>
                      <a:pt x="3950" y="86"/>
                      <a:pt x="3950" y="85"/>
                    </a:cubicBezTo>
                    <a:cubicBezTo>
                      <a:pt x="3950" y="84"/>
                      <a:pt x="3951" y="83"/>
                      <a:pt x="3951" y="82"/>
                    </a:cubicBezTo>
                    <a:cubicBezTo>
                      <a:pt x="3952" y="84"/>
                      <a:pt x="3953" y="86"/>
                      <a:pt x="3954" y="88"/>
                    </a:cubicBezTo>
                    <a:cubicBezTo>
                      <a:pt x="3954" y="91"/>
                      <a:pt x="3954" y="94"/>
                      <a:pt x="3953" y="97"/>
                    </a:cubicBezTo>
                    <a:close/>
                    <a:moveTo>
                      <a:pt x="3955" y="135"/>
                    </a:moveTo>
                    <a:cubicBezTo>
                      <a:pt x="3955" y="136"/>
                      <a:pt x="3955" y="137"/>
                      <a:pt x="3955" y="138"/>
                    </a:cubicBezTo>
                    <a:cubicBezTo>
                      <a:pt x="3955" y="137"/>
                      <a:pt x="3955" y="136"/>
                      <a:pt x="3955" y="135"/>
                    </a:cubicBezTo>
                    <a:cubicBezTo>
                      <a:pt x="3955" y="135"/>
                      <a:pt x="3955" y="135"/>
                      <a:pt x="3955" y="135"/>
                    </a:cubicBezTo>
                    <a:close/>
                    <a:moveTo>
                      <a:pt x="3955" y="83"/>
                    </a:moveTo>
                    <a:cubicBezTo>
                      <a:pt x="3954" y="82"/>
                      <a:pt x="3953" y="81"/>
                      <a:pt x="3953" y="80"/>
                    </a:cubicBezTo>
                    <a:cubicBezTo>
                      <a:pt x="3954" y="78"/>
                      <a:pt x="3955" y="77"/>
                      <a:pt x="3956" y="75"/>
                    </a:cubicBezTo>
                    <a:cubicBezTo>
                      <a:pt x="3955" y="78"/>
                      <a:pt x="3955" y="81"/>
                      <a:pt x="3955" y="83"/>
                    </a:cubicBezTo>
                    <a:close/>
                    <a:moveTo>
                      <a:pt x="3956" y="74"/>
                    </a:moveTo>
                    <a:cubicBezTo>
                      <a:pt x="3954" y="76"/>
                      <a:pt x="3953" y="77"/>
                      <a:pt x="3952" y="79"/>
                    </a:cubicBezTo>
                    <a:cubicBezTo>
                      <a:pt x="3951" y="78"/>
                      <a:pt x="3951" y="78"/>
                      <a:pt x="3951" y="77"/>
                    </a:cubicBezTo>
                    <a:cubicBezTo>
                      <a:pt x="3951" y="72"/>
                      <a:pt x="3951" y="67"/>
                      <a:pt x="3952" y="65"/>
                    </a:cubicBezTo>
                    <a:cubicBezTo>
                      <a:pt x="3953" y="67"/>
                      <a:pt x="3954" y="70"/>
                      <a:pt x="3956" y="72"/>
                    </a:cubicBezTo>
                    <a:cubicBezTo>
                      <a:pt x="3956" y="73"/>
                      <a:pt x="3956" y="73"/>
                      <a:pt x="3956" y="74"/>
                    </a:cubicBezTo>
                    <a:close/>
                    <a:moveTo>
                      <a:pt x="3958" y="75"/>
                    </a:moveTo>
                    <a:cubicBezTo>
                      <a:pt x="3959" y="78"/>
                      <a:pt x="3961" y="81"/>
                      <a:pt x="3963" y="84"/>
                    </a:cubicBezTo>
                    <a:cubicBezTo>
                      <a:pt x="3961" y="86"/>
                      <a:pt x="3960" y="88"/>
                      <a:pt x="3959" y="90"/>
                    </a:cubicBezTo>
                    <a:cubicBezTo>
                      <a:pt x="3959" y="89"/>
                      <a:pt x="3958" y="89"/>
                      <a:pt x="3958" y="89"/>
                    </a:cubicBezTo>
                    <a:cubicBezTo>
                      <a:pt x="3958" y="84"/>
                      <a:pt x="3958" y="79"/>
                      <a:pt x="3958" y="75"/>
                    </a:cubicBezTo>
                    <a:close/>
                    <a:moveTo>
                      <a:pt x="3960" y="110"/>
                    </a:moveTo>
                    <a:cubicBezTo>
                      <a:pt x="3960" y="107"/>
                      <a:pt x="3959" y="104"/>
                      <a:pt x="3958" y="101"/>
                    </a:cubicBezTo>
                    <a:cubicBezTo>
                      <a:pt x="3958" y="100"/>
                      <a:pt x="3958" y="100"/>
                      <a:pt x="3958" y="100"/>
                    </a:cubicBezTo>
                    <a:cubicBezTo>
                      <a:pt x="3958" y="100"/>
                      <a:pt x="3959" y="99"/>
                      <a:pt x="3959" y="99"/>
                    </a:cubicBezTo>
                    <a:cubicBezTo>
                      <a:pt x="3960" y="101"/>
                      <a:pt x="3960" y="104"/>
                      <a:pt x="3961" y="106"/>
                    </a:cubicBezTo>
                    <a:cubicBezTo>
                      <a:pt x="3961" y="108"/>
                      <a:pt x="3961" y="109"/>
                      <a:pt x="3960" y="110"/>
                    </a:cubicBezTo>
                    <a:close/>
                    <a:moveTo>
                      <a:pt x="3961" y="93"/>
                    </a:moveTo>
                    <a:cubicBezTo>
                      <a:pt x="3962" y="91"/>
                      <a:pt x="3963" y="88"/>
                      <a:pt x="3964" y="86"/>
                    </a:cubicBezTo>
                    <a:cubicBezTo>
                      <a:pt x="3964" y="87"/>
                      <a:pt x="3965" y="87"/>
                      <a:pt x="3965" y="88"/>
                    </a:cubicBezTo>
                    <a:cubicBezTo>
                      <a:pt x="3964" y="91"/>
                      <a:pt x="3964" y="94"/>
                      <a:pt x="3963" y="97"/>
                    </a:cubicBezTo>
                    <a:cubicBezTo>
                      <a:pt x="3962" y="96"/>
                      <a:pt x="3961" y="95"/>
                      <a:pt x="3961" y="93"/>
                    </a:cubicBezTo>
                    <a:close/>
                    <a:moveTo>
                      <a:pt x="3964" y="130"/>
                    </a:moveTo>
                    <a:cubicBezTo>
                      <a:pt x="3964" y="129"/>
                      <a:pt x="3964" y="128"/>
                      <a:pt x="3964" y="126"/>
                    </a:cubicBezTo>
                    <a:cubicBezTo>
                      <a:pt x="3964" y="124"/>
                      <a:pt x="3964" y="121"/>
                      <a:pt x="3965" y="119"/>
                    </a:cubicBezTo>
                    <a:cubicBezTo>
                      <a:pt x="3965" y="120"/>
                      <a:pt x="3966" y="122"/>
                      <a:pt x="3966" y="124"/>
                    </a:cubicBezTo>
                    <a:cubicBezTo>
                      <a:pt x="3965" y="126"/>
                      <a:pt x="3965" y="128"/>
                      <a:pt x="3964" y="130"/>
                    </a:cubicBezTo>
                    <a:close/>
                    <a:moveTo>
                      <a:pt x="3968" y="108"/>
                    </a:moveTo>
                    <a:cubicBezTo>
                      <a:pt x="3968" y="107"/>
                      <a:pt x="3967" y="106"/>
                      <a:pt x="3967" y="105"/>
                    </a:cubicBezTo>
                    <a:cubicBezTo>
                      <a:pt x="3967" y="102"/>
                      <a:pt x="3968" y="99"/>
                      <a:pt x="3969" y="96"/>
                    </a:cubicBezTo>
                    <a:cubicBezTo>
                      <a:pt x="3969" y="96"/>
                      <a:pt x="3969" y="97"/>
                      <a:pt x="3969" y="97"/>
                    </a:cubicBezTo>
                    <a:cubicBezTo>
                      <a:pt x="3969" y="101"/>
                      <a:pt x="3968" y="105"/>
                      <a:pt x="3968" y="108"/>
                    </a:cubicBezTo>
                    <a:close/>
                    <a:moveTo>
                      <a:pt x="3970" y="86"/>
                    </a:moveTo>
                    <a:cubicBezTo>
                      <a:pt x="3970" y="86"/>
                      <a:pt x="3970" y="86"/>
                      <a:pt x="3970" y="86"/>
                    </a:cubicBezTo>
                    <a:cubicBezTo>
                      <a:pt x="3970" y="85"/>
                      <a:pt x="3971" y="84"/>
                      <a:pt x="3971" y="83"/>
                    </a:cubicBezTo>
                    <a:cubicBezTo>
                      <a:pt x="3971" y="84"/>
                      <a:pt x="3970" y="85"/>
                      <a:pt x="3970" y="86"/>
                    </a:cubicBezTo>
                    <a:close/>
                    <a:moveTo>
                      <a:pt x="3978" y="80"/>
                    </a:moveTo>
                    <a:cubicBezTo>
                      <a:pt x="3978" y="77"/>
                      <a:pt x="3978" y="75"/>
                      <a:pt x="3978" y="73"/>
                    </a:cubicBezTo>
                    <a:cubicBezTo>
                      <a:pt x="3979" y="73"/>
                      <a:pt x="3979" y="74"/>
                      <a:pt x="3979" y="74"/>
                    </a:cubicBezTo>
                    <a:cubicBezTo>
                      <a:pt x="3979" y="76"/>
                      <a:pt x="3979" y="78"/>
                      <a:pt x="3978" y="80"/>
                    </a:cubicBezTo>
                    <a:close/>
                    <a:moveTo>
                      <a:pt x="3990" y="93"/>
                    </a:moveTo>
                    <a:cubicBezTo>
                      <a:pt x="3989" y="95"/>
                      <a:pt x="3989" y="96"/>
                      <a:pt x="3988" y="97"/>
                    </a:cubicBezTo>
                    <a:cubicBezTo>
                      <a:pt x="3988" y="94"/>
                      <a:pt x="3988" y="91"/>
                      <a:pt x="3987" y="88"/>
                    </a:cubicBezTo>
                    <a:cubicBezTo>
                      <a:pt x="3988" y="89"/>
                      <a:pt x="3989" y="91"/>
                      <a:pt x="3990" y="93"/>
                    </a:cubicBezTo>
                    <a:close/>
                    <a:moveTo>
                      <a:pt x="3991" y="88"/>
                    </a:moveTo>
                    <a:cubicBezTo>
                      <a:pt x="3990" y="86"/>
                      <a:pt x="3989" y="85"/>
                      <a:pt x="3988" y="84"/>
                    </a:cubicBezTo>
                    <a:cubicBezTo>
                      <a:pt x="3989" y="81"/>
                      <a:pt x="3991" y="78"/>
                      <a:pt x="3993" y="75"/>
                    </a:cubicBezTo>
                    <a:cubicBezTo>
                      <a:pt x="3992" y="79"/>
                      <a:pt x="3991" y="84"/>
                      <a:pt x="3991" y="88"/>
                    </a:cubicBezTo>
                    <a:close/>
                    <a:moveTo>
                      <a:pt x="4000" y="77"/>
                    </a:moveTo>
                    <a:cubicBezTo>
                      <a:pt x="4000" y="77"/>
                      <a:pt x="4000" y="77"/>
                      <a:pt x="4000" y="77"/>
                    </a:cubicBezTo>
                    <a:cubicBezTo>
                      <a:pt x="4000" y="74"/>
                      <a:pt x="3999" y="70"/>
                      <a:pt x="3999" y="66"/>
                    </a:cubicBezTo>
                    <a:cubicBezTo>
                      <a:pt x="3999" y="65"/>
                      <a:pt x="4000" y="64"/>
                      <a:pt x="4000" y="63"/>
                    </a:cubicBezTo>
                    <a:cubicBezTo>
                      <a:pt x="4001" y="67"/>
                      <a:pt x="4001" y="72"/>
                      <a:pt x="4000" y="77"/>
                    </a:cubicBezTo>
                    <a:close/>
                    <a:moveTo>
                      <a:pt x="4003" y="72"/>
                    </a:moveTo>
                    <a:cubicBezTo>
                      <a:pt x="4003" y="67"/>
                      <a:pt x="4002" y="64"/>
                      <a:pt x="4001" y="61"/>
                    </a:cubicBezTo>
                    <a:cubicBezTo>
                      <a:pt x="4002" y="60"/>
                      <a:pt x="4003" y="58"/>
                      <a:pt x="4004" y="57"/>
                    </a:cubicBezTo>
                    <a:cubicBezTo>
                      <a:pt x="4004" y="62"/>
                      <a:pt x="4004" y="67"/>
                      <a:pt x="4003" y="72"/>
                    </a:cubicBezTo>
                    <a:close/>
                    <a:moveTo>
                      <a:pt x="4019" y="89"/>
                    </a:moveTo>
                    <a:cubicBezTo>
                      <a:pt x="4020" y="91"/>
                      <a:pt x="4021" y="92"/>
                      <a:pt x="4021" y="94"/>
                    </a:cubicBezTo>
                    <a:cubicBezTo>
                      <a:pt x="4021" y="95"/>
                      <a:pt x="4020" y="97"/>
                      <a:pt x="4020" y="98"/>
                    </a:cubicBezTo>
                    <a:cubicBezTo>
                      <a:pt x="4019" y="97"/>
                      <a:pt x="4019" y="96"/>
                      <a:pt x="4018" y="95"/>
                    </a:cubicBezTo>
                    <a:cubicBezTo>
                      <a:pt x="4018" y="93"/>
                      <a:pt x="4019" y="91"/>
                      <a:pt x="4019" y="89"/>
                    </a:cubicBezTo>
                    <a:close/>
                    <a:moveTo>
                      <a:pt x="4018" y="101"/>
                    </a:moveTo>
                    <a:cubicBezTo>
                      <a:pt x="4018" y="101"/>
                      <a:pt x="4018" y="100"/>
                      <a:pt x="4018" y="100"/>
                    </a:cubicBezTo>
                    <a:cubicBezTo>
                      <a:pt x="4018" y="100"/>
                      <a:pt x="4018" y="101"/>
                      <a:pt x="4018" y="101"/>
                    </a:cubicBezTo>
                    <a:cubicBezTo>
                      <a:pt x="4018" y="101"/>
                      <a:pt x="4018" y="101"/>
                      <a:pt x="4018" y="101"/>
                    </a:cubicBezTo>
                    <a:close/>
                    <a:moveTo>
                      <a:pt x="4020" y="122"/>
                    </a:moveTo>
                    <a:cubicBezTo>
                      <a:pt x="4020" y="121"/>
                      <a:pt x="4019" y="120"/>
                      <a:pt x="4019" y="119"/>
                    </a:cubicBezTo>
                    <a:cubicBezTo>
                      <a:pt x="4019" y="117"/>
                      <a:pt x="4019" y="115"/>
                      <a:pt x="4019" y="112"/>
                    </a:cubicBezTo>
                    <a:cubicBezTo>
                      <a:pt x="4019" y="110"/>
                      <a:pt x="4019" y="108"/>
                      <a:pt x="4020" y="106"/>
                    </a:cubicBezTo>
                    <a:cubicBezTo>
                      <a:pt x="4020" y="108"/>
                      <a:pt x="4021" y="110"/>
                      <a:pt x="4021" y="112"/>
                    </a:cubicBezTo>
                    <a:cubicBezTo>
                      <a:pt x="4021" y="115"/>
                      <a:pt x="4021" y="119"/>
                      <a:pt x="4020" y="122"/>
                    </a:cubicBezTo>
                    <a:close/>
                    <a:moveTo>
                      <a:pt x="4022" y="103"/>
                    </a:moveTo>
                    <a:cubicBezTo>
                      <a:pt x="4022" y="102"/>
                      <a:pt x="4021" y="101"/>
                      <a:pt x="4021" y="100"/>
                    </a:cubicBezTo>
                    <a:cubicBezTo>
                      <a:pt x="4021" y="99"/>
                      <a:pt x="4022" y="97"/>
                      <a:pt x="4022" y="96"/>
                    </a:cubicBezTo>
                    <a:cubicBezTo>
                      <a:pt x="4022" y="97"/>
                      <a:pt x="4023" y="97"/>
                      <a:pt x="4023" y="98"/>
                    </a:cubicBezTo>
                    <a:cubicBezTo>
                      <a:pt x="4023" y="100"/>
                      <a:pt x="4022" y="101"/>
                      <a:pt x="4022" y="103"/>
                    </a:cubicBezTo>
                    <a:close/>
                    <a:moveTo>
                      <a:pt x="4023" y="96"/>
                    </a:moveTo>
                    <a:cubicBezTo>
                      <a:pt x="4023" y="95"/>
                      <a:pt x="4023" y="95"/>
                      <a:pt x="4022" y="95"/>
                    </a:cubicBezTo>
                    <a:cubicBezTo>
                      <a:pt x="4023" y="93"/>
                      <a:pt x="4023" y="92"/>
                      <a:pt x="4024" y="91"/>
                    </a:cubicBezTo>
                    <a:cubicBezTo>
                      <a:pt x="4023" y="93"/>
                      <a:pt x="4023" y="94"/>
                      <a:pt x="4023" y="96"/>
                    </a:cubicBezTo>
                    <a:close/>
                    <a:moveTo>
                      <a:pt x="4029" y="95"/>
                    </a:moveTo>
                    <a:cubicBezTo>
                      <a:pt x="4029" y="92"/>
                      <a:pt x="4030" y="89"/>
                      <a:pt x="4030" y="86"/>
                    </a:cubicBezTo>
                    <a:cubicBezTo>
                      <a:pt x="4030" y="86"/>
                      <a:pt x="4031" y="87"/>
                      <a:pt x="4031" y="88"/>
                    </a:cubicBezTo>
                    <a:cubicBezTo>
                      <a:pt x="4031" y="90"/>
                      <a:pt x="4030" y="92"/>
                      <a:pt x="4029" y="95"/>
                    </a:cubicBezTo>
                    <a:close/>
                    <a:moveTo>
                      <a:pt x="4040" y="99"/>
                    </a:moveTo>
                    <a:cubicBezTo>
                      <a:pt x="4040" y="99"/>
                      <a:pt x="4039" y="98"/>
                      <a:pt x="4039" y="97"/>
                    </a:cubicBezTo>
                    <a:cubicBezTo>
                      <a:pt x="4039" y="93"/>
                      <a:pt x="4039" y="89"/>
                      <a:pt x="4039" y="84"/>
                    </a:cubicBezTo>
                    <a:cubicBezTo>
                      <a:pt x="4040" y="80"/>
                      <a:pt x="4043" y="76"/>
                      <a:pt x="4045" y="72"/>
                    </a:cubicBezTo>
                    <a:cubicBezTo>
                      <a:pt x="4046" y="74"/>
                      <a:pt x="4046" y="78"/>
                      <a:pt x="4047" y="82"/>
                    </a:cubicBezTo>
                    <a:cubicBezTo>
                      <a:pt x="4044" y="88"/>
                      <a:pt x="4042" y="93"/>
                      <a:pt x="4040" y="99"/>
                    </a:cubicBezTo>
                    <a:close/>
                    <a:moveTo>
                      <a:pt x="4048" y="75"/>
                    </a:moveTo>
                    <a:cubicBezTo>
                      <a:pt x="4048" y="73"/>
                      <a:pt x="4047" y="71"/>
                      <a:pt x="4047" y="69"/>
                    </a:cubicBezTo>
                    <a:cubicBezTo>
                      <a:pt x="4048" y="68"/>
                      <a:pt x="4048" y="67"/>
                      <a:pt x="4049" y="66"/>
                    </a:cubicBezTo>
                    <a:cubicBezTo>
                      <a:pt x="4049" y="69"/>
                      <a:pt x="4048" y="72"/>
                      <a:pt x="4048" y="75"/>
                    </a:cubicBezTo>
                    <a:close/>
                    <a:moveTo>
                      <a:pt x="4056" y="72"/>
                    </a:moveTo>
                    <a:cubicBezTo>
                      <a:pt x="4056" y="71"/>
                      <a:pt x="4056" y="70"/>
                      <a:pt x="4056" y="70"/>
                    </a:cubicBezTo>
                    <a:cubicBezTo>
                      <a:pt x="4056" y="69"/>
                      <a:pt x="4056" y="69"/>
                      <a:pt x="4056" y="69"/>
                    </a:cubicBezTo>
                    <a:cubicBezTo>
                      <a:pt x="4056" y="71"/>
                      <a:pt x="4056" y="72"/>
                      <a:pt x="4056" y="72"/>
                    </a:cubicBezTo>
                    <a:close/>
                    <a:moveTo>
                      <a:pt x="4056" y="67"/>
                    </a:moveTo>
                    <a:cubicBezTo>
                      <a:pt x="4056" y="67"/>
                      <a:pt x="4056" y="68"/>
                      <a:pt x="4056" y="68"/>
                    </a:cubicBezTo>
                    <a:cubicBezTo>
                      <a:pt x="4056" y="65"/>
                      <a:pt x="4055" y="61"/>
                      <a:pt x="4055" y="58"/>
                    </a:cubicBezTo>
                    <a:cubicBezTo>
                      <a:pt x="4055" y="57"/>
                      <a:pt x="4056" y="56"/>
                      <a:pt x="4057" y="56"/>
                    </a:cubicBezTo>
                    <a:cubicBezTo>
                      <a:pt x="4056" y="60"/>
                      <a:pt x="4056" y="64"/>
                      <a:pt x="4056" y="67"/>
                    </a:cubicBezTo>
                    <a:close/>
                    <a:moveTo>
                      <a:pt x="4064" y="123"/>
                    </a:moveTo>
                    <a:cubicBezTo>
                      <a:pt x="4063" y="124"/>
                      <a:pt x="4062" y="126"/>
                      <a:pt x="4062" y="127"/>
                    </a:cubicBezTo>
                    <a:cubicBezTo>
                      <a:pt x="4062" y="124"/>
                      <a:pt x="4062" y="122"/>
                      <a:pt x="4061" y="119"/>
                    </a:cubicBezTo>
                    <a:cubicBezTo>
                      <a:pt x="4063" y="116"/>
                      <a:pt x="4064" y="112"/>
                      <a:pt x="4065" y="109"/>
                    </a:cubicBezTo>
                    <a:cubicBezTo>
                      <a:pt x="4065" y="111"/>
                      <a:pt x="4065" y="112"/>
                      <a:pt x="4065" y="114"/>
                    </a:cubicBezTo>
                    <a:cubicBezTo>
                      <a:pt x="4065" y="117"/>
                      <a:pt x="4064" y="120"/>
                      <a:pt x="4064" y="123"/>
                    </a:cubicBezTo>
                    <a:close/>
                    <a:moveTo>
                      <a:pt x="4066" y="110"/>
                    </a:moveTo>
                    <a:cubicBezTo>
                      <a:pt x="4066" y="111"/>
                      <a:pt x="4066" y="112"/>
                      <a:pt x="4065" y="112"/>
                    </a:cubicBezTo>
                    <a:cubicBezTo>
                      <a:pt x="4065" y="111"/>
                      <a:pt x="4065" y="110"/>
                      <a:pt x="4065" y="109"/>
                    </a:cubicBezTo>
                    <a:cubicBezTo>
                      <a:pt x="4065" y="107"/>
                      <a:pt x="4066" y="105"/>
                      <a:pt x="4066" y="102"/>
                    </a:cubicBezTo>
                    <a:cubicBezTo>
                      <a:pt x="4066" y="105"/>
                      <a:pt x="4066" y="108"/>
                      <a:pt x="4066" y="110"/>
                    </a:cubicBezTo>
                    <a:close/>
                    <a:moveTo>
                      <a:pt x="4068" y="83"/>
                    </a:moveTo>
                    <a:cubicBezTo>
                      <a:pt x="4068" y="83"/>
                      <a:pt x="4068" y="84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6" y="87"/>
                      <a:pt x="4065" y="89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2"/>
                      <a:pt x="4063" y="94"/>
                      <a:pt x="4062" y="96"/>
                    </a:cubicBezTo>
                    <a:cubicBezTo>
                      <a:pt x="4062" y="90"/>
                      <a:pt x="4063" y="85"/>
                      <a:pt x="4065" y="79"/>
                    </a:cubicBezTo>
                    <a:cubicBezTo>
                      <a:pt x="4063" y="85"/>
                      <a:pt x="4062" y="90"/>
                      <a:pt x="4060" y="95"/>
                    </a:cubicBezTo>
                    <a:cubicBezTo>
                      <a:pt x="4060" y="85"/>
                      <a:pt x="4061" y="74"/>
                      <a:pt x="4061" y="63"/>
                    </a:cubicBezTo>
                    <a:cubicBezTo>
                      <a:pt x="4064" y="60"/>
                      <a:pt x="4067" y="58"/>
                      <a:pt x="4070" y="55"/>
                    </a:cubicBezTo>
                    <a:cubicBezTo>
                      <a:pt x="4070" y="62"/>
                      <a:pt x="4069" y="72"/>
                      <a:pt x="4068" y="83"/>
                    </a:cubicBezTo>
                    <a:close/>
                    <a:moveTo>
                      <a:pt x="4074" y="105"/>
                    </a:moveTo>
                    <a:cubicBezTo>
                      <a:pt x="4074" y="102"/>
                      <a:pt x="4074" y="99"/>
                      <a:pt x="4074" y="96"/>
                    </a:cubicBezTo>
                    <a:cubicBezTo>
                      <a:pt x="4074" y="97"/>
                      <a:pt x="4075" y="99"/>
                      <a:pt x="4075" y="100"/>
                    </a:cubicBezTo>
                    <a:cubicBezTo>
                      <a:pt x="4075" y="102"/>
                      <a:pt x="4075" y="103"/>
                      <a:pt x="4074" y="105"/>
                    </a:cubicBezTo>
                    <a:cubicBezTo>
                      <a:pt x="4074" y="105"/>
                      <a:pt x="4074" y="105"/>
                      <a:pt x="4074" y="105"/>
                    </a:cubicBezTo>
                    <a:close/>
                    <a:moveTo>
                      <a:pt x="4075" y="130"/>
                    </a:moveTo>
                    <a:cubicBezTo>
                      <a:pt x="4075" y="130"/>
                      <a:pt x="4075" y="130"/>
                      <a:pt x="4075" y="130"/>
                    </a:cubicBezTo>
                    <a:cubicBezTo>
                      <a:pt x="4075" y="129"/>
                      <a:pt x="4075" y="128"/>
                      <a:pt x="4075" y="127"/>
                    </a:cubicBezTo>
                    <a:cubicBezTo>
                      <a:pt x="4075" y="128"/>
                      <a:pt x="4075" y="128"/>
                      <a:pt x="4076" y="129"/>
                    </a:cubicBezTo>
                    <a:cubicBezTo>
                      <a:pt x="4075" y="129"/>
                      <a:pt x="4075" y="130"/>
                      <a:pt x="4075" y="130"/>
                    </a:cubicBezTo>
                    <a:close/>
                    <a:moveTo>
                      <a:pt x="4082" y="74"/>
                    </a:moveTo>
                    <a:cubicBezTo>
                      <a:pt x="4082" y="73"/>
                      <a:pt x="4082" y="71"/>
                      <a:pt x="4082" y="70"/>
                    </a:cubicBezTo>
                    <a:cubicBezTo>
                      <a:pt x="4082" y="70"/>
                      <a:pt x="4083" y="71"/>
                      <a:pt x="4083" y="72"/>
                    </a:cubicBezTo>
                    <a:cubicBezTo>
                      <a:pt x="4083" y="72"/>
                      <a:pt x="4083" y="73"/>
                      <a:pt x="4082" y="74"/>
                    </a:cubicBezTo>
                    <a:close/>
                    <a:moveTo>
                      <a:pt x="4086" y="139"/>
                    </a:moveTo>
                    <a:cubicBezTo>
                      <a:pt x="4086" y="140"/>
                      <a:pt x="4086" y="141"/>
                      <a:pt x="4086" y="142"/>
                    </a:cubicBezTo>
                    <a:cubicBezTo>
                      <a:pt x="4086" y="142"/>
                      <a:pt x="4086" y="141"/>
                      <a:pt x="4086" y="139"/>
                    </a:cubicBezTo>
                    <a:cubicBezTo>
                      <a:pt x="4086" y="138"/>
                      <a:pt x="4086" y="137"/>
                      <a:pt x="4086" y="136"/>
                    </a:cubicBezTo>
                    <a:cubicBezTo>
                      <a:pt x="4086" y="137"/>
                      <a:pt x="4086" y="137"/>
                      <a:pt x="4086" y="137"/>
                    </a:cubicBezTo>
                    <a:cubicBezTo>
                      <a:pt x="4086" y="138"/>
                      <a:pt x="4086" y="139"/>
                      <a:pt x="4086" y="139"/>
                    </a:cubicBezTo>
                    <a:close/>
                    <a:moveTo>
                      <a:pt x="4088" y="122"/>
                    </a:moveTo>
                    <a:cubicBezTo>
                      <a:pt x="4088" y="122"/>
                      <a:pt x="4088" y="122"/>
                      <a:pt x="4087" y="122"/>
                    </a:cubicBezTo>
                    <a:cubicBezTo>
                      <a:pt x="4088" y="121"/>
                      <a:pt x="4088" y="121"/>
                      <a:pt x="4088" y="121"/>
                    </a:cubicBezTo>
                    <a:cubicBezTo>
                      <a:pt x="4088" y="121"/>
                      <a:pt x="4088" y="122"/>
                      <a:pt x="4088" y="122"/>
                    </a:cubicBezTo>
                    <a:close/>
                    <a:moveTo>
                      <a:pt x="4089" y="110"/>
                    </a:moveTo>
                    <a:cubicBezTo>
                      <a:pt x="4088" y="112"/>
                      <a:pt x="4087" y="114"/>
                      <a:pt x="4086" y="116"/>
                    </a:cubicBezTo>
                    <a:cubicBezTo>
                      <a:pt x="4086" y="116"/>
                      <a:pt x="4086" y="117"/>
                      <a:pt x="4086" y="117"/>
                    </a:cubicBezTo>
                    <a:cubicBezTo>
                      <a:pt x="4086" y="113"/>
                      <a:pt x="4085" y="108"/>
                      <a:pt x="4085" y="104"/>
                    </a:cubicBezTo>
                    <a:cubicBezTo>
                      <a:pt x="4086" y="101"/>
                      <a:pt x="4086" y="98"/>
                      <a:pt x="4087" y="96"/>
                    </a:cubicBezTo>
                    <a:cubicBezTo>
                      <a:pt x="4088" y="95"/>
                      <a:pt x="4088" y="95"/>
                      <a:pt x="4088" y="95"/>
                    </a:cubicBezTo>
                    <a:cubicBezTo>
                      <a:pt x="4088" y="98"/>
                      <a:pt x="4089" y="101"/>
                      <a:pt x="4089" y="104"/>
                    </a:cubicBezTo>
                    <a:cubicBezTo>
                      <a:pt x="4089" y="106"/>
                      <a:pt x="4089" y="108"/>
                      <a:pt x="4089" y="110"/>
                    </a:cubicBezTo>
                    <a:close/>
                    <a:moveTo>
                      <a:pt x="4090" y="99"/>
                    </a:moveTo>
                    <a:cubicBezTo>
                      <a:pt x="4089" y="97"/>
                      <a:pt x="4089" y="96"/>
                      <a:pt x="4088" y="94"/>
                    </a:cubicBezTo>
                    <a:cubicBezTo>
                      <a:pt x="4089" y="93"/>
                      <a:pt x="4090" y="92"/>
                      <a:pt x="4090" y="91"/>
                    </a:cubicBezTo>
                    <a:cubicBezTo>
                      <a:pt x="4090" y="94"/>
                      <a:pt x="4090" y="96"/>
                      <a:pt x="4090" y="99"/>
                    </a:cubicBezTo>
                    <a:close/>
                    <a:moveTo>
                      <a:pt x="4084" y="91"/>
                    </a:moveTo>
                    <a:cubicBezTo>
                      <a:pt x="4084" y="89"/>
                      <a:pt x="4084" y="88"/>
                      <a:pt x="4083" y="87"/>
                    </a:cubicBezTo>
                    <a:cubicBezTo>
                      <a:pt x="4085" y="83"/>
                      <a:pt x="4086" y="80"/>
                      <a:pt x="4087" y="76"/>
                    </a:cubicBezTo>
                    <a:cubicBezTo>
                      <a:pt x="4088" y="78"/>
                      <a:pt x="4090" y="80"/>
                      <a:pt x="4091" y="82"/>
                    </a:cubicBezTo>
                    <a:cubicBezTo>
                      <a:pt x="4088" y="85"/>
                      <a:pt x="4086" y="88"/>
                      <a:pt x="4084" y="91"/>
                    </a:cubicBezTo>
                    <a:close/>
                    <a:moveTo>
                      <a:pt x="4091" y="79"/>
                    </a:moveTo>
                    <a:cubicBezTo>
                      <a:pt x="4090" y="77"/>
                      <a:pt x="4089" y="76"/>
                      <a:pt x="4088" y="75"/>
                    </a:cubicBezTo>
                    <a:cubicBezTo>
                      <a:pt x="4089" y="72"/>
                      <a:pt x="4091" y="68"/>
                      <a:pt x="4092" y="65"/>
                    </a:cubicBezTo>
                    <a:cubicBezTo>
                      <a:pt x="4092" y="68"/>
                      <a:pt x="4092" y="73"/>
                      <a:pt x="4091" y="79"/>
                    </a:cubicBezTo>
                    <a:close/>
                    <a:moveTo>
                      <a:pt x="4109" y="54"/>
                    </a:moveTo>
                    <a:cubicBezTo>
                      <a:pt x="4109" y="56"/>
                      <a:pt x="4108" y="58"/>
                      <a:pt x="4108" y="61"/>
                    </a:cubicBezTo>
                    <a:cubicBezTo>
                      <a:pt x="4104" y="65"/>
                      <a:pt x="4100" y="69"/>
                      <a:pt x="4097" y="74"/>
                    </a:cubicBezTo>
                    <a:cubicBezTo>
                      <a:pt x="4100" y="67"/>
                      <a:pt x="4104" y="60"/>
                      <a:pt x="4109" y="54"/>
                    </a:cubicBezTo>
                    <a:close/>
                    <a:moveTo>
                      <a:pt x="4095" y="89"/>
                    </a:moveTo>
                    <a:cubicBezTo>
                      <a:pt x="4095" y="90"/>
                      <a:pt x="4096" y="91"/>
                      <a:pt x="4096" y="92"/>
                    </a:cubicBezTo>
                    <a:cubicBezTo>
                      <a:pt x="4096" y="92"/>
                      <a:pt x="4095" y="93"/>
                      <a:pt x="4095" y="94"/>
                    </a:cubicBezTo>
                    <a:cubicBezTo>
                      <a:pt x="4095" y="92"/>
                      <a:pt x="4095" y="91"/>
                      <a:pt x="4095" y="89"/>
                    </a:cubicBezTo>
                    <a:close/>
                    <a:moveTo>
                      <a:pt x="4097" y="127"/>
                    </a:moveTo>
                    <a:cubicBezTo>
                      <a:pt x="4097" y="125"/>
                      <a:pt x="4097" y="124"/>
                      <a:pt x="4096" y="122"/>
                    </a:cubicBezTo>
                    <a:cubicBezTo>
                      <a:pt x="4096" y="117"/>
                      <a:pt x="4096" y="111"/>
                      <a:pt x="4096" y="105"/>
                    </a:cubicBezTo>
                    <a:cubicBezTo>
                      <a:pt x="4097" y="104"/>
                      <a:pt x="4097" y="102"/>
                      <a:pt x="4098" y="101"/>
                    </a:cubicBezTo>
                    <a:cubicBezTo>
                      <a:pt x="4097" y="102"/>
                      <a:pt x="4097" y="103"/>
                      <a:pt x="4096" y="105"/>
                    </a:cubicBezTo>
                    <a:cubicBezTo>
                      <a:pt x="4095" y="102"/>
                      <a:pt x="4095" y="99"/>
                      <a:pt x="4095" y="96"/>
                    </a:cubicBezTo>
                    <a:cubicBezTo>
                      <a:pt x="4096" y="95"/>
                      <a:pt x="4096" y="94"/>
                      <a:pt x="4096" y="93"/>
                    </a:cubicBezTo>
                    <a:cubicBezTo>
                      <a:pt x="4097" y="95"/>
                      <a:pt x="4098" y="97"/>
                      <a:pt x="4099" y="100"/>
                    </a:cubicBezTo>
                    <a:cubicBezTo>
                      <a:pt x="4099" y="100"/>
                      <a:pt x="4099" y="100"/>
                      <a:pt x="4098" y="101"/>
                    </a:cubicBezTo>
                    <a:cubicBezTo>
                      <a:pt x="4099" y="100"/>
                      <a:pt x="4099" y="100"/>
                      <a:pt x="4099" y="100"/>
                    </a:cubicBezTo>
                    <a:cubicBezTo>
                      <a:pt x="4100" y="101"/>
                      <a:pt x="4100" y="102"/>
                      <a:pt x="4101" y="103"/>
                    </a:cubicBezTo>
                    <a:cubicBezTo>
                      <a:pt x="4099" y="112"/>
                      <a:pt x="4098" y="120"/>
                      <a:pt x="4097" y="127"/>
                    </a:cubicBezTo>
                    <a:close/>
                    <a:moveTo>
                      <a:pt x="4098" y="87"/>
                    </a:moveTo>
                    <a:cubicBezTo>
                      <a:pt x="4099" y="86"/>
                      <a:pt x="4100" y="84"/>
                      <a:pt x="4101" y="83"/>
                    </a:cubicBezTo>
                    <a:cubicBezTo>
                      <a:pt x="4100" y="84"/>
                      <a:pt x="4099" y="86"/>
                      <a:pt x="4098" y="87"/>
                    </a:cubicBezTo>
                    <a:cubicBezTo>
                      <a:pt x="4097" y="86"/>
                      <a:pt x="4096" y="85"/>
                      <a:pt x="4095" y="83"/>
                    </a:cubicBezTo>
                    <a:cubicBezTo>
                      <a:pt x="4099" y="78"/>
                      <a:pt x="4103" y="72"/>
                      <a:pt x="4106" y="67"/>
                    </a:cubicBezTo>
                    <a:cubicBezTo>
                      <a:pt x="4106" y="72"/>
                      <a:pt x="4105" y="76"/>
                      <a:pt x="4104" y="81"/>
                    </a:cubicBezTo>
                    <a:cubicBezTo>
                      <a:pt x="4104" y="80"/>
                      <a:pt x="4103" y="79"/>
                      <a:pt x="4103" y="79"/>
                    </a:cubicBezTo>
                    <a:cubicBezTo>
                      <a:pt x="4103" y="78"/>
                      <a:pt x="4104" y="77"/>
                      <a:pt x="4105" y="75"/>
                    </a:cubicBezTo>
                    <a:cubicBezTo>
                      <a:pt x="4104" y="76"/>
                      <a:pt x="4103" y="77"/>
                      <a:pt x="4103" y="79"/>
                    </a:cubicBezTo>
                    <a:cubicBezTo>
                      <a:pt x="4102" y="78"/>
                      <a:pt x="4102" y="77"/>
                      <a:pt x="4101" y="77"/>
                    </a:cubicBezTo>
                    <a:cubicBezTo>
                      <a:pt x="4101" y="78"/>
                      <a:pt x="4102" y="79"/>
                      <a:pt x="4102" y="79"/>
                    </a:cubicBezTo>
                    <a:cubicBezTo>
                      <a:pt x="4102" y="80"/>
                      <a:pt x="4101" y="81"/>
                      <a:pt x="4101" y="83"/>
                    </a:cubicBezTo>
                    <a:cubicBezTo>
                      <a:pt x="4101" y="82"/>
                      <a:pt x="4102" y="81"/>
                      <a:pt x="4102" y="80"/>
                    </a:cubicBezTo>
                    <a:cubicBezTo>
                      <a:pt x="4103" y="81"/>
                      <a:pt x="4103" y="82"/>
                      <a:pt x="4104" y="84"/>
                    </a:cubicBezTo>
                    <a:cubicBezTo>
                      <a:pt x="4103" y="87"/>
                      <a:pt x="4103" y="90"/>
                      <a:pt x="4102" y="93"/>
                    </a:cubicBezTo>
                    <a:cubicBezTo>
                      <a:pt x="4101" y="91"/>
                      <a:pt x="4100" y="89"/>
                      <a:pt x="4098" y="87"/>
                    </a:cubicBezTo>
                    <a:close/>
                    <a:moveTo>
                      <a:pt x="4103" y="144"/>
                    </a:moveTo>
                    <a:cubicBezTo>
                      <a:pt x="4103" y="144"/>
                      <a:pt x="4103" y="143"/>
                      <a:pt x="4103" y="143"/>
                    </a:cubicBezTo>
                    <a:cubicBezTo>
                      <a:pt x="4103" y="140"/>
                      <a:pt x="4103" y="136"/>
                      <a:pt x="4103" y="131"/>
                    </a:cubicBezTo>
                    <a:cubicBezTo>
                      <a:pt x="4104" y="128"/>
                      <a:pt x="4105" y="126"/>
                      <a:pt x="4105" y="125"/>
                    </a:cubicBezTo>
                    <a:cubicBezTo>
                      <a:pt x="4105" y="125"/>
                      <a:pt x="4105" y="124"/>
                      <a:pt x="4105" y="124"/>
                    </a:cubicBezTo>
                    <a:cubicBezTo>
                      <a:pt x="4104" y="124"/>
                      <a:pt x="4104" y="124"/>
                      <a:pt x="4104" y="124"/>
                    </a:cubicBezTo>
                    <a:cubicBezTo>
                      <a:pt x="4104" y="122"/>
                      <a:pt x="4104" y="120"/>
                      <a:pt x="4104" y="118"/>
                    </a:cubicBezTo>
                    <a:cubicBezTo>
                      <a:pt x="4105" y="121"/>
                      <a:pt x="4106" y="125"/>
                      <a:pt x="4106" y="128"/>
                    </a:cubicBezTo>
                    <a:cubicBezTo>
                      <a:pt x="4105" y="136"/>
                      <a:pt x="4104" y="141"/>
                      <a:pt x="4103" y="144"/>
                    </a:cubicBezTo>
                    <a:close/>
                    <a:moveTo>
                      <a:pt x="4110" y="107"/>
                    </a:moveTo>
                    <a:cubicBezTo>
                      <a:pt x="4109" y="105"/>
                      <a:pt x="4108" y="102"/>
                      <a:pt x="4106" y="100"/>
                    </a:cubicBezTo>
                    <a:cubicBezTo>
                      <a:pt x="4107" y="97"/>
                      <a:pt x="4107" y="95"/>
                      <a:pt x="4107" y="93"/>
                    </a:cubicBezTo>
                    <a:cubicBezTo>
                      <a:pt x="4108" y="96"/>
                      <a:pt x="4110" y="99"/>
                      <a:pt x="4111" y="102"/>
                    </a:cubicBezTo>
                    <a:cubicBezTo>
                      <a:pt x="4111" y="104"/>
                      <a:pt x="4110" y="105"/>
                      <a:pt x="4110" y="107"/>
                    </a:cubicBezTo>
                    <a:close/>
                    <a:moveTo>
                      <a:pt x="4111" y="159"/>
                    </a:moveTo>
                    <a:cubicBezTo>
                      <a:pt x="4111" y="159"/>
                      <a:pt x="4111" y="159"/>
                      <a:pt x="4111" y="159"/>
                    </a:cubicBezTo>
                    <a:cubicBezTo>
                      <a:pt x="4111" y="159"/>
                      <a:pt x="4111" y="159"/>
                      <a:pt x="4112" y="159"/>
                    </a:cubicBezTo>
                    <a:cubicBezTo>
                      <a:pt x="4111" y="159"/>
                      <a:pt x="4111" y="159"/>
                      <a:pt x="4111" y="159"/>
                    </a:cubicBezTo>
                    <a:close/>
                    <a:moveTo>
                      <a:pt x="4112" y="96"/>
                    </a:moveTo>
                    <a:cubicBezTo>
                      <a:pt x="4111" y="93"/>
                      <a:pt x="4109" y="91"/>
                      <a:pt x="4108" y="88"/>
                    </a:cubicBezTo>
                    <a:cubicBezTo>
                      <a:pt x="4110" y="85"/>
                      <a:pt x="4112" y="82"/>
                      <a:pt x="4114" y="79"/>
                    </a:cubicBezTo>
                    <a:cubicBezTo>
                      <a:pt x="4114" y="84"/>
                      <a:pt x="4113" y="90"/>
                      <a:pt x="4112" y="96"/>
                    </a:cubicBezTo>
                    <a:close/>
                    <a:moveTo>
                      <a:pt x="4115" y="75"/>
                    </a:moveTo>
                    <a:cubicBezTo>
                      <a:pt x="4113" y="78"/>
                      <a:pt x="4110" y="82"/>
                      <a:pt x="4108" y="86"/>
                    </a:cubicBezTo>
                    <a:cubicBezTo>
                      <a:pt x="4109" y="77"/>
                      <a:pt x="4110" y="68"/>
                      <a:pt x="4111" y="61"/>
                    </a:cubicBezTo>
                    <a:cubicBezTo>
                      <a:pt x="4113" y="58"/>
                      <a:pt x="4115" y="55"/>
                      <a:pt x="4117" y="53"/>
                    </a:cubicBezTo>
                    <a:cubicBezTo>
                      <a:pt x="4117" y="58"/>
                      <a:pt x="4116" y="66"/>
                      <a:pt x="4115" y="75"/>
                    </a:cubicBezTo>
                    <a:close/>
                    <a:moveTo>
                      <a:pt x="4122" y="139"/>
                    </a:moveTo>
                    <a:cubicBezTo>
                      <a:pt x="4122" y="139"/>
                      <a:pt x="4121" y="139"/>
                      <a:pt x="4121" y="139"/>
                    </a:cubicBezTo>
                    <a:cubicBezTo>
                      <a:pt x="4121" y="138"/>
                      <a:pt x="4121" y="138"/>
                      <a:pt x="4122" y="138"/>
                    </a:cubicBezTo>
                    <a:cubicBezTo>
                      <a:pt x="4122" y="138"/>
                      <a:pt x="4122" y="138"/>
                      <a:pt x="4122" y="138"/>
                    </a:cubicBezTo>
                    <a:cubicBezTo>
                      <a:pt x="4122" y="139"/>
                      <a:pt x="4122" y="139"/>
                      <a:pt x="4122" y="139"/>
                    </a:cubicBezTo>
                    <a:close/>
                    <a:moveTo>
                      <a:pt x="4147" y="137"/>
                    </a:moveTo>
                    <a:cubicBezTo>
                      <a:pt x="4147" y="136"/>
                      <a:pt x="4146" y="135"/>
                      <a:pt x="4146" y="133"/>
                    </a:cubicBezTo>
                    <a:cubicBezTo>
                      <a:pt x="4146" y="132"/>
                      <a:pt x="4146" y="130"/>
                      <a:pt x="4146" y="128"/>
                    </a:cubicBezTo>
                    <a:cubicBezTo>
                      <a:pt x="4146" y="131"/>
                      <a:pt x="4147" y="133"/>
                      <a:pt x="4148" y="135"/>
                    </a:cubicBezTo>
                    <a:cubicBezTo>
                      <a:pt x="4148" y="136"/>
                      <a:pt x="4147" y="137"/>
                      <a:pt x="4147" y="137"/>
                    </a:cubicBezTo>
                    <a:close/>
                    <a:moveTo>
                      <a:pt x="4153" y="99"/>
                    </a:moveTo>
                    <a:cubicBezTo>
                      <a:pt x="4152" y="95"/>
                      <a:pt x="4150" y="92"/>
                      <a:pt x="4148" y="90"/>
                    </a:cubicBezTo>
                    <a:cubicBezTo>
                      <a:pt x="4150" y="93"/>
                      <a:pt x="4152" y="97"/>
                      <a:pt x="4153" y="101"/>
                    </a:cubicBezTo>
                    <a:cubicBezTo>
                      <a:pt x="4152" y="110"/>
                      <a:pt x="4151" y="118"/>
                      <a:pt x="4149" y="125"/>
                    </a:cubicBezTo>
                    <a:cubicBezTo>
                      <a:pt x="4148" y="122"/>
                      <a:pt x="4147" y="119"/>
                      <a:pt x="4147" y="116"/>
                    </a:cubicBezTo>
                    <a:cubicBezTo>
                      <a:pt x="4147" y="102"/>
                      <a:pt x="4148" y="86"/>
                      <a:pt x="4149" y="72"/>
                    </a:cubicBezTo>
                    <a:cubicBezTo>
                      <a:pt x="4151" y="75"/>
                      <a:pt x="4154" y="79"/>
                      <a:pt x="4156" y="82"/>
                    </a:cubicBezTo>
                    <a:cubicBezTo>
                      <a:pt x="4155" y="88"/>
                      <a:pt x="4154" y="93"/>
                      <a:pt x="4153" y="99"/>
                    </a:cubicBezTo>
                    <a:close/>
                    <a:moveTo>
                      <a:pt x="4156" y="142"/>
                    </a:moveTo>
                    <a:cubicBezTo>
                      <a:pt x="4157" y="134"/>
                      <a:pt x="4158" y="127"/>
                      <a:pt x="4158" y="121"/>
                    </a:cubicBezTo>
                    <a:cubicBezTo>
                      <a:pt x="4158" y="123"/>
                      <a:pt x="4159" y="125"/>
                      <a:pt x="4159" y="127"/>
                    </a:cubicBezTo>
                    <a:cubicBezTo>
                      <a:pt x="4158" y="136"/>
                      <a:pt x="4156" y="142"/>
                      <a:pt x="4156" y="142"/>
                    </a:cubicBezTo>
                    <a:close/>
                    <a:moveTo>
                      <a:pt x="4160" y="144"/>
                    </a:moveTo>
                    <a:cubicBezTo>
                      <a:pt x="4160" y="142"/>
                      <a:pt x="4160" y="140"/>
                      <a:pt x="4161" y="137"/>
                    </a:cubicBezTo>
                    <a:cubicBezTo>
                      <a:pt x="4161" y="138"/>
                      <a:pt x="4161" y="138"/>
                      <a:pt x="4161" y="138"/>
                    </a:cubicBezTo>
                    <a:cubicBezTo>
                      <a:pt x="4160" y="142"/>
                      <a:pt x="4160" y="144"/>
                      <a:pt x="4160" y="144"/>
                    </a:cubicBezTo>
                    <a:close/>
                    <a:moveTo>
                      <a:pt x="4159" y="110"/>
                    </a:moveTo>
                    <a:cubicBezTo>
                      <a:pt x="4159" y="103"/>
                      <a:pt x="4160" y="96"/>
                      <a:pt x="4160" y="90"/>
                    </a:cubicBezTo>
                    <a:cubicBezTo>
                      <a:pt x="4162" y="93"/>
                      <a:pt x="4163" y="96"/>
                      <a:pt x="4164" y="99"/>
                    </a:cubicBezTo>
                    <a:cubicBezTo>
                      <a:pt x="4163" y="105"/>
                      <a:pt x="4162" y="111"/>
                      <a:pt x="4161" y="116"/>
                    </a:cubicBezTo>
                    <a:cubicBezTo>
                      <a:pt x="4160" y="114"/>
                      <a:pt x="4159" y="112"/>
                      <a:pt x="4159" y="110"/>
                    </a:cubicBezTo>
                    <a:close/>
                    <a:moveTo>
                      <a:pt x="4164" y="124"/>
                    </a:moveTo>
                    <a:cubicBezTo>
                      <a:pt x="4163" y="123"/>
                      <a:pt x="4163" y="122"/>
                      <a:pt x="4163" y="121"/>
                    </a:cubicBezTo>
                    <a:cubicBezTo>
                      <a:pt x="4163" y="115"/>
                      <a:pt x="4164" y="109"/>
                      <a:pt x="4165" y="103"/>
                    </a:cubicBezTo>
                    <a:cubicBezTo>
                      <a:pt x="4165" y="105"/>
                      <a:pt x="4166" y="107"/>
                      <a:pt x="4167" y="109"/>
                    </a:cubicBezTo>
                    <a:cubicBezTo>
                      <a:pt x="4166" y="114"/>
                      <a:pt x="4165" y="119"/>
                      <a:pt x="4164" y="124"/>
                    </a:cubicBezTo>
                    <a:close/>
                    <a:moveTo>
                      <a:pt x="4169" y="146"/>
                    </a:moveTo>
                    <a:cubicBezTo>
                      <a:pt x="4169" y="145"/>
                      <a:pt x="4169" y="145"/>
                      <a:pt x="4169" y="145"/>
                    </a:cubicBezTo>
                    <a:cubicBezTo>
                      <a:pt x="4170" y="144"/>
                      <a:pt x="4170" y="143"/>
                      <a:pt x="4170" y="141"/>
                    </a:cubicBezTo>
                    <a:cubicBezTo>
                      <a:pt x="4170" y="142"/>
                      <a:pt x="4170" y="143"/>
                      <a:pt x="4170" y="144"/>
                    </a:cubicBezTo>
                    <a:cubicBezTo>
                      <a:pt x="4170" y="145"/>
                      <a:pt x="4170" y="145"/>
                      <a:pt x="4169" y="146"/>
                    </a:cubicBezTo>
                    <a:close/>
                    <a:moveTo>
                      <a:pt x="4193" y="118"/>
                    </a:moveTo>
                    <a:cubicBezTo>
                      <a:pt x="4192" y="114"/>
                      <a:pt x="4190" y="111"/>
                      <a:pt x="4189" y="107"/>
                    </a:cubicBezTo>
                    <a:cubicBezTo>
                      <a:pt x="4189" y="96"/>
                      <a:pt x="4189" y="84"/>
                      <a:pt x="4189" y="74"/>
                    </a:cubicBezTo>
                    <a:cubicBezTo>
                      <a:pt x="4189" y="70"/>
                      <a:pt x="4189" y="67"/>
                      <a:pt x="4188" y="65"/>
                    </a:cubicBezTo>
                    <a:cubicBezTo>
                      <a:pt x="4189" y="74"/>
                      <a:pt x="4193" y="84"/>
                      <a:pt x="4196" y="94"/>
                    </a:cubicBezTo>
                    <a:cubicBezTo>
                      <a:pt x="4195" y="102"/>
                      <a:pt x="4194" y="110"/>
                      <a:pt x="4193" y="118"/>
                    </a:cubicBezTo>
                    <a:close/>
                    <a:moveTo>
                      <a:pt x="4222" y="124"/>
                    </a:moveTo>
                    <a:cubicBezTo>
                      <a:pt x="4221" y="122"/>
                      <a:pt x="4221" y="120"/>
                      <a:pt x="4220" y="117"/>
                    </a:cubicBezTo>
                    <a:cubicBezTo>
                      <a:pt x="4221" y="109"/>
                      <a:pt x="4222" y="100"/>
                      <a:pt x="4223" y="92"/>
                    </a:cubicBezTo>
                    <a:cubicBezTo>
                      <a:pt x="4225" y="96"/>
                      <a:pt x="4226" y="100"/>
                      <a:pt x="4226" y="104"/>
                    </a:cubicBezTo>
                    <a:cubicBezTo>
                      <a:pt x="4225" y="111"/>
                      <a:pt x="4223" y="118"/>
                      <a:pt x="4222" y="124"/>
                    </a:cubicBezTo>
                    <a:close/>
                    <a:moveTo>
                      <a:pt x="4262" y="133"/>
                    </a:moveTo>
                    <a:cubicBezTo>
                      <a:pt x="4262" y="130"/>
                      <a:pt x="4261" y="126"/>
                      <a:pt x="4260" y="122"/>
                    </a:cubicBezTo>
                    <a:cubicBezTo>
                      <a:pt x="4260" y="112"/>
                      <a:pt x="4260" y="100"/>
                      <a:pt x="4261" y="88"/>
                    </a:cubicBezTo>
                    <a:cubicBezTo>
                      <a:pt x="4263" y="96"/>
                      <a:pt x="4265" y="104"/>
                      <a:pt x="4265" y="111"/>
                    </a:cubicBezTo>
                    <a:cubicBezTo>
                      <a:pt x="4266" y="117"/>
                      <a:pt x="4266" y="117"/>
                      <a:pt x="4266" y="117"/>
                    </a:cubicBezTo>
                    <a:cubicBezTo>
                      <a:pt x="4264" y="123"/>
                      <a:pt x="4263" y="129"/>
                      <a:pt x="4262" y="133"/>
                    </a:cubicBezTo>
                    <a:close/>
                    <a:moveTo>
                      <a:pt x="4275" y="110"/>
                    </a:moveTo>
                    <a:cubicBezTo>
                      <a:pt x="4275" y="113"/>
                      <a:pt x="4275" y="116"/>
                      <a:pt x="4275" y="119"/>
                    </a:cubicBezTo>
                    <a:cubicBezTo>
                      <a:pt x="4274" y="122"/>
                      <a:pt x="4274" y="124"/>
                      <a:pt x="4273" y="127"/>
                    </a:cubicBezTo>
                    <a:cubicBezTo>
                      <a:pt x="4273" y="119"/>
                      <a:pt x="4272" y="111"/>
                      <a:pt x="4271" y="104"/>
                    </a:cubicBezTo>
                    <a:cubicBezTo>
                      <a:pt x="4272" y="98"/>
                      <a:pt x="4272" y="91"/>
                      <a:pt x="4273" y="86"/>
                    </a:cubicBezTo>
                    <a:cubicBezTo>
                      <a:pt x="4275" y="93"/>
                      <a:pt x="4275" y="102"/>
                      <a:pt x="4275" y="110"/>
                    </a:cubicBezTo>
                    <a:close/>
                    <a:moveTo>
                      <a:pt x="4285" y="142"/>
                    </a:moveTo>
                    <a:cubicBezTo>
                      <a:pt x="4285" y="142"/>
                      <a:pt x="4285" y="141"/>
                      <a:pt x="4286" y="138"/>
                    </a:cubicBezTo>
                    <a:cubicBezTo>
                      <a:pt x="4287" y="120"/>
                      <a:pt x="4286" y="96"/>
                      <a:pt x="4285" y="77"/>
                    </a:cubicBezTo>
                    <a:cubicBezTo>
                      <a:pt x="4287" y="81"/>
                      <a:pt x="4289" y="86"/>
                      <a:pt x="4290" y="92"/>
                    </a:cubicBezTo>
                    <a:cubicBezTo>
                      <a:pt x="4288" y="108"/>
                      <a:pt x="4286" y="129"/>
                      <a:pt x="4286" y="138"/>
                    </a:cubicBezTo>
                    <a:cubicBezTo>
                      <a:pt x="4285" y="139"/>
                      <a:pt x="4285" y="141"/>
                      <a:pt x="4285" y="142"/>
                    </a:cubicBezTo>
                    <a:close/>
                    <a:moveTo>
                      <a:pt x="4289" y="129"/>
                    </a:moveTo>
                    <a:cubicBezTo>
                      <a:pt x="4289" y="119"/>
                      <a:pt x="4290" y="107"/>
                      <a:pt x="4291" y="97"/>
                    </a:cubicBezTo>
                    <a:cubicBezTo>
                      <a:pt x="4291" y="100"/>
                      <a:pt x="4291" y="103"/>
                      <a:pt x="4291" y="106"/>
                    </a:cubicBezTo>
                    <a:cubicBezTo>
                      <a:pt x="4291" y="114"/>
                      <a:pt x="4290" y="121"/>
                      <a:pt x="4289" y="129"/>
                    </a:cubicBezTo>
                    <a:close/>
                    <a:moveTo>
                      <a:pt x="4300" y="125"/>
                    </a:moveTo>
                    <a:cubicBezTo>
                      <a:pt x="4301" y="120"/>
                      <a:pt x="4301" y="113"/>
                      <a:pt x="4301" y="107"/>
                    </a:cubicBezTo>
                    <a:cubicBezTo>
                      <a:pt x="4301" y="114"/>
                      <a:pt x="4301" y="120"/>
                      <a:pt x="4300" y="125"/>
                    </a:cubicBezTo>
                    <a:close/>
                    <a:moveTo>
                      <a:pt x="4315" y="112"/>
                    </a:moveTo>
                    <a:cubicBezTo>
                      <a:pt x="4315" y="105"/>
                      <a:pt x="4315" y="98"/>
                      <a:pt x="4315" y="91"/>
                    </a:cubicBezTo>
                    <a:cubicBezTo>
                      <a:pt x="4316" y="95"/>
                      <a:pt x="4316" y="99"/>
                      <a:pt x="4316" y="103"/>
                    </a:cubicBezTo>
                    <a:cubicBezTo>
                      <a:pt x="4316" y="106"/>
                      <a:pt x="4316" y="109"/>
                      <a:pt x="4315" y="112"/>
                    </a:cubicBezTo>
                    <a:close/>
                    <a:moveTo>
                      <a:pt x="4326" y="129"/>
                    </a:moveTo>
                    <a:cubicBezTo>
                      <a:pt x="4326" y="129"/>
                      <a:pt x="4326" y="129"/>
                      <a:pt x="4325" y="130"/>
                    </a:cubicBezTo>
                    <a:cubicBezTo>
                      <a:pt x="4325" y="132"/>
                      <a:pt x="4324" y="134"/>
                      <a:pt x="4324" y="137"/>
                    </a:cubicBezTo>
                    <a:cubicBezTo>
                      <a:pt x="4324" y="136"/>
                      <a:pt x="4324" y="136"/>
                      <a:pt x="4324" y="136"/>
                    </a:cubicBezTo>
                    <a:cubicBezTo>
                      <a:pt x="4324" y="134"/>
                      <a:pt x="4325" y="132"/>
                      <a:pt x="4325" y="130"/>
                    </a:cubicBezTo>
                    <a:cubicBezTo>
                      <a:pt x="4326" y="129"/>
                      <a:pt x="4326" y="129"/>
                      <a:pt x="4326" y="129"/>
                    </a:cubicBezTo>
                    <a:cubicBezTo>
                      <a:pt x="4326" y="129"/>
                      <a:pt x="4326" y="129"/>
                      <a:pt x="4326" y="129"/>
                    </a:cubicBezTo>
                    <a:close/>
                    <a:moveTo>
                      <a:pt x="4362" y="130"/>
                    </a:moveTo>
                    <a:cubicBezTo>
                      <a:pt x="4362" y="132"/>
                      <a:pt x="4361" y="134"/>
                      <a:pt x="4360" y="136"/>
                    </a:cubicBezTo>
                    <a:cubicBezTo>
                      <a:pt x="4360" y="131"/>
                      <a:pt x="4360" y="126"/>
                      <a:pt x="4360" y="121"/>
                    </a:cubicBezTo>
                    <a:cubicBezTo>
                      <a:pt x="4362" y="115"/>
                      <a:pt x="4364" y="110"/>
                      <a:pt x="4365" y="104"/>
                    </a:cubicBezTo>
                    <a:cubicBezTo>
                      <a:pt x="4364" y="114"/>
                      <a:pt x="4363" y="123"/>
                      <a:pt x="4362" y="130"/>
                    </a:cubicBezTo>
                    <a:close/>
                    <a:moveTo>
                      <a:pt x="4378" y="124"/>
                    </a:moveTo>
                    <a:cubicBezTo>
                      <a:pt x="4378" y="110"/>
                      <a:pt x="4380" y="94"/>
                      <a:pt x="4381" y="83"/>
                    </a:cubicBezTo>
                    <a:cubicBezTo>
                      <a:pt x="4381" y="87"/>
                      <a:pt x="4381" y="91"/>
                      <a:pt x="4381" y="95"/>
                    </a:cubicBezTo>
                    <a:cubicBezTo>
                      <a:pt x="4381" y="105"/>
                      <a:pt x="4380" y="114"/>
                      <a:pt x="4378" y="124"/>
                    </a:cubicBezTo>
                    <a:close/>
                    <a:moveTo>
                      <a:pt x="4394" y="160"/>
                    </a:moveTo>
                    <a:cubicBezTo>
                      <a:pt x="4394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4" y="160"/>
                    </a:cubicBezTo>
                    <a:close/>
                    <a:moveTo>
                      <a:pt x="4407" y="116"/>
                    </a:moveTo>
                    <a:cubicBezTo>
                      <a:pt x="4406" y="121"/>
                      <a:pt x="4404" y="127"/>
                      <a:pt x="4402" y="132"/>
                    </a:cubicBezTo>
                    <a:cubicBezTo>
                      <a:pt x="4402" y="127"/>
                      <a:pt x="4402" y="121"/>
                      <a:pt x="4402" y="115"/>
                    </a:cubicBezTo>
                    <a:cubicBezTo>
                      <a:pt x="4403" y="110"/>
                      <a:pt x="4403" y="104"/>
                      <a:pt x="4403" y="98"/>
                    </a:cubicBezTo>
                    <a:cubicBezTo>
                      <a:pt x="4403" y="95"/>
                      <a:pt x="4403" y="92"/>
                      <a:pt x="4403" y="89"/>
                    </a:cubicBezTo>
                    <a:cubicBezTo>
                      <a:pt x="4404" y="78"/>
                      <a:pt x="4405" y="68"/>
                      <a:pt x="4406" y="60"/>
                    </a:cubicBezTo>
                    <a:cubicBezTo>
                      <a:pt x="4409" y="68"/>
                      <a:pt x="4411" y="78"/>
                      <a:pt x="4411" y="87"/>
                    </a:cubicBezTo>
                    <a:cubicBezTo>
                      <a:pt x="4410" y="95"/>
                      <a:pt x="4409" y="106"/>
                      <a:pt x="4407" y="116"/>
                    </a:cubicBezTo>
                    <a:close/>
                    <a:moveTo>
                      <a:pt x="4415" y="136"/>
                    </a:moveTo>
                    <a:cubicBezTo>
                      <a:pt x="4415" y="137"/>
                      <a:pt x="4414" y="138"/>
                      <a:pt x="4414" y="139"/>
                    </a:cubicBezTo>
                    <a:cubicBezTo>
                      <a:pt x="4414" y="137"/>
                      <a:pt x="4414" y="135"/>
                      <a:pt x="4414" y="133"/>
                    </a:cubicBezTo>
                    <a:cubicBezTo>
                      <a:pt x="4415" y="130"/>
                      <a:pt x="4415" y="128"/>
                      <a:pt x="4416" y="125"/>
                    </a:cubicBezTo>
                    <a:cubicBezTo>
                      <a:pt x="4416" y="129"/>
                      <a:pt x="4415" y="133"/>
                      <a:pt x="4415" y="136"/>
                    </a:cubicBezTo>
                    <a:close/>
                    <a:moveTo>
                      <a:pt x="4431" y="126"/>
                    </a:moveTo>
                    <a:cubicBezTo>
                      <a:pt x="4430" y="113"/>
                      <a:pt x="4430" y="96"/>
                      <a:pt x="4430" y="84"/>
                    </a:cubicBezTo>
                    <a:cubicBezTo>
                      <a:pt x="4434" y="90"/>
                      <a:pt x="4436" y="100"/>
                      <a:pt x="4436" y="104"/>
                    </a:cubicBezTo>
                    <a:cubicBezTo>
                      <a:pt x="4436" y="110"/>
                      <a:pt x="4433" y="118"/>
                      <a:pt x="4431" y="126"/>
                    </a:cubicBezTo>
                    <a:close/>
                    <a:moveTo>
                      <a:pt x="4442" y="128"/>
                    </a:moveTo>
                    <a:cubicBezTo>
                      <a:pt x="4443" y="113"/>
                      <a:pt x="4443" y="91"/>
                      <a:pt x="4443" y="76"/>
                    </a:cubicBezTo>
                    <a:cubicBezTo>
                      <a:pt x="4445" y="83"/>
                      <a:pt x="4447" y="90"/>
                      <a:pt x="4447" y="96"/>
                    </a:cubicBezTo>
                    <a:cubicBezTo>
                      <a:pt x="4447" y="107"/>
                      <a:pt x="4444" y="117"/>
                      <a:pt x="4442" y="128"/>
                    </a:cubicBezTo>
                    <a:close/>
                    <a:moveTo>
                      <a:pt x="4482" y="112"/>
                    </a:moveTo>
                    <a:cubicBezTo>
                      <a:pt x="4482" y="110"/>
                      <a:pt x="4482" y="108"/>
                      <a:pt x="4481" y="105"/>
                    </a:cubicBezTo>
                    <a:cubicBezTo>
                      <a:pt x="4482" y="108"/>
                      <a:pt x="4481" y="112"/>
                      <a:pt x="4481" y="115"/>
                    </a:cubicBezTo>
                    <a:cubicBezTo>
                      <a:pt x="4476" y="131"/>
                      <a:pt x="4472" y="144"/>
                      <a:pt x="4472" y="144"/>
                    </a:cubicBezTo>
                    <a:cubicBezTo>
                      <a:pt x="4473" y="133"/>
                      <a:pt x="4477" y="110"/>
                      <a:pt x="4482" y="86"/>
                    </a:cubicBezTo>
                    <a:cubicBezTo>
                      <a:pt x="4484" y="90"/>
                      <a:pt x="4485" y="95"/>
                      <a:pt x="4486" y="99"/>
                    </a:cubicBezTo>
                    <a:cubicBezTo>
                      <a:pt x="4484" y="103"/>
                      <a:pt x="4483" y="108"/>
                      <a:pt x="4482" y="112"/>
                    </a:cubicBezTo>
                    <a:close/>
                    <a:moveTo>
                      <a:pt x="4494" y="133"/>
                    </a:moveTo>
                    <a:cubicBezTo>
                      <a:pt x="4494" y="133"/>
                      <a:pt x="4494" y="134"/>
                      <a:pt x="4494" y="134"/>
                    </a:cubicBezTo>
                    <a:cubicBezTo>
                      <a:pt x="4494" y="134"/>
                      <a:pt x="4494" y="134"/>
                      <a:pt x="4494" y="134"/>
                    </a:cubicBezTo>
                    <a:cubicBezTo>
                      <a:pt x="4494" y="134"/>
                      <a:pt x="4494" y="133"/>
                      <a:pt x="4494" y="133"/>
                    </a:cubicBezTo>
                    <a:cubicBezTo>
                      <a:pt x="4495" y="126"/>
                      <a:pt x="4496" y="117"/>
                      <a:pt x="4497" y="107"/>
                    </a:cubicBezTo>
                    <a:cubicBezTo>
                      <a:pt x="4497" y="110"/>
                      <a:pt x="4497" y="114"/>
                      <a:pt x="4497" y="117"/>
                    </a:cubicBezTo>
                    <a:cubicBezTo>
                      <a:pt x="4496" y="123"/>
                      <a:pt x="4495" y="129"/>
                      <a:pt x="4494" y="133"/>
                    </a:cubicBezTo>
                    <a:close/>
                    <a:moveTo>
                      <a:pt x="4499" y="159"/>
                    </a:move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lose/>
                    <a:moveTo>
                      <a:pt x="4540" y="143"/>
                    </a:moveTo>
                    <a:cubicBezTo>
                      <a:pt x="4540" y="142"/>
                      <a:pt x="4540" y="142"/>
                      <a:pt x="4540" y="141"/>
                    </a:cubicBezTo>
                    <a:cubicBezTo>
                      <a:pt x="4540" y="135"/>
                      <a:pt x="4541" y="127"/>
                      <a:pt x="4541" y="117"/>
                    </a:cubicBezTo>
                    <a:cubicBezTo>
                      <a:pt x="4542" y="121"/>
                      <a:pt x="4542" y="125"/>
                      <a:pt x="4542" y="129"/>
                    </a:cubicBezTo>
                    <a:cubicBezTo>
                      <a:pt x="4541" y="135"/>
                      <a:pt x="4541" y="139"/>
                      <a:pt x="4540" y="143"/>
                    </a:cubicBezTo>
                    <a:close/>
                    <a:moveTo>
                      <a:pt x="4544" y="117"/>
                    </a:moveTo>
                    <a:cubicBezTo>
                      <a:pt x="4543" y="115"/>
                      <a:pt x="4542" y="113"/>
                      <a:pt x="4542" y="111"/>
                    </a:cubicBezTo>
                    <a:cubicBezTo>
                      <a:pt x="4542" y="108"/>
                      <a:pt x="4542" y="104"/>
                      <a:pt x="4543" y="100"/>
                    </a:cubicBezTo>
                    <a:cubicBezTo>
                      <a:pt x="4544" y="103"/>
                      <a:pt x="4544" y="106"/>
                      <a:pt x="4545" y="108"/>
                    </a:cubicBezTo>
                    <a:cubicBezTo>
                      <a:pt x="4544" y="111"/>
                      <a:pt x="4544" y="114"/>
                      <a:pt x="4544" y="117"/>
                    </a:cubicBezTo>
                    <a:close/>
                    <a:moveTo>
                      <a:pt x="4552" y="133"/>
                    </a:moveTo>
                    <a:cubicBezTo>
                      <a:pt x="4552" y="133"/>
                      <a:pt x="4552" y="133"/>
                      <a:pt x="4552" y="133"/>
                    </a:cubicBezTo>
                    <a:cubicBezTo>
                      <a:pt x="4552" y="130"/>
                      <a:pt x="4553" y="127"/>
                      <a:pt x="4553" y="124"/>
                    </a:cubicBezTo>
                    <a:cubicBezTo>
                      <a:pt x="4553" y="125"/>
                      <a:pt x="4553" y="126"/>
                      <a:pt x="4553" y="128"/>
                    </a:cubicBezTo>
                    <a:cubicBezTo>
                      <a:pt x="4553" y="130"/>
                      <a:pt x="4552" y="131"/>
                      <a:pt x="4552" y="133"/>
                    </a:cubicBezTo>
                    <a:close/>
                    <a:moveTo>
                      <a:pt x="4589" y="142"/>
                    </a:moveTo>
                    <a:cubicBezTo>
                      <a:pt x="4589" y="139"/>
                      <a:pt x="4589" y="134"/>
                      <a:pt x="4589" y="128"/>
                    </a:cubicBezTo>
                    <a:cubicBezTo>
                      <a:pt x="4589" y="130"/>
                      <a:pt x="4589" y="132"/>
                      <a:pt x="4590" y="133"/>
                    </a:cubicBezTo>
                    <a:cubicBezTo>
                      <a:pt x="4589" y="139"/>
                      <a:pt x="4589" y="142"/>
                      <a:pt x="4589" y="142"/>
                    </a:cubicBezTo>
                    <a:close/>
                    <a:moveTo>
                      <a:pt x="4610" y="135"/>
                    </a:moveTo>
                    <a:cubicBezTo>
                      <a:pt x="4610" y="134"/>
                      <a:pt x="4610" y="134"/>
                      <a:pt x="4610" y="133"/>
                    </a:cubicBezTo>
                    <a:cubicBezTo>
                      <a:pt x="4610" y="121"/>
                      <a:pt x="4610" y="103"/>
                      <a:pt x="4609" y="88"/>
                    </a:cubicBezTo>
                    <a:cubicBezTo>
                      <a:pt x="4611" y="94"/>
                      <a:pt x="4613" y="100"/>
                      <a:pt x="4614" y="106"/>
                    </a:cubicBezTo>
                    <a:cubicBezTo>
                      <a:pt x="4612" y="118"/>
                      <a:pt x="4611" y="128"/>
                      <a:pt x="4610" y="135"/>
                    </a:cubicBezTo>
                    <a:close/>
                    <a:moveTo>
                      <a:pt x="4617" y="145"/>
                    </a:moveTo>
                    <a:cubicBezTo>
                      <a:pt x="4617" y="141"/>
                      <a:pt x="4617" y="136"/>
                      <a:pt x="4617" y="129"/>
                    </a:cubicBezTo>
                    <a:cubicBezTo>
                      <a:pt x="4618" y="133"/>
                      <a:pt x="4618" y="136"/>
                      <a:pt x="4619" y="139"/>
                    </a:cubicBezTo>
                    <a:cubicBezTo>
                      <a:pt x="4618" y="143"/>
                      <a:pt x="4617" y="145"/>
                      <a:pt x="4617" y="145"/>
                    </a:cubicBezTo>
                    <a:close/>
                    <a:moveTo>
                      <a:pt x="4622" y="159"/>
                    </a:moveTo>
                    <a:cubicBezTo>
                      <a:pt x="4623" y="159"/>
                      <a:pt x="4623" y="159"/>
                      <a:pt x="4623" y="159"/>
                    </a:cubicBezTo>
                    <a:cubicBezTo>
                      <a:pt x="4623" y="159"/>
                      <a:pt x="4623" y="158"/>
                      <a:pt x="4623" y="158"/>
                    </a:cubicBezTo>
                    <a:cubicBezTo>
                      <a:pt x="4623" y="159"/>
                      <a:pt x="4624" y="160"/>
                      <a:pt x="4624" y="160"/>
                    </a:cubicBezTo>
                    <a:cubicBezTo>
                      <a:pt x="4623" y="160"/>
                      <a:pt x="4623" y="159"/>
                      <a:pt x="4622" y="159"/>
                    </a:cubicBezTo>
                    <a:close/>
                    <a:moveTo>
                      <a:pt x="4624" y="121"/>
                    </a:moveTo>
                    <a:cubicBezTo>
                      <a:pt x="4622" y="117"/>
                      <a:pt x="4621" y="114"/>
                      <a:pt x="4619" y="110"/>
                    </a:cubicBezTo>
                    <a:cubicBezTo>
                      <a:pt x="4620" y="105"/>
                      <a:pt x="4620" y="99"/>
                      <a:pt x="4621" y="94"/>
                    </a:cubicBezTo>
                    <a:cubicBezTo>
                      <a:pt x="4621" y="100"/>
                      <a:pt x="4623" y="108"/>
                      <a:pt x="4625" y="116"/>
                    </a:cubicBezTo>
                    <a:cubicBezTo>
                      <a:pt x="4624" y="118"/>
                      <a:pt x="4624" y="119"/>
                      <a:pt x="4624" y="121"/>
                    </a:cubicBezTo>
                    <a:close/>
                    <a:moveTo>
                      <a:pt x="4632" y="142"/>
                    </a:moveTo>
                    <a:cubicBezTo>
                      <a:pt x="4631" y="138"/>
                      <a:pt x="4629" y="134"/>
                      <a:pt x="4627" y="129"/>
                    </a:cubicBezTo>
                    <a:cubicBezTo>
                      <a:pt x="4627" y="129"/>
                      <a:pt x="4627" y="128"/>
                      <a:pt x="4627" y="127"/>
                    </a:cubicBezTo>
                    <a:cubicBezTo>
                      <a:pt x="4629" y="132"/>
                      <a:pt x="4630" y="137"/>
                      <a:pt x="4632" y="142"/>
                    </a:cubicBezTo>
                    <a:cubicBezTo>
                      <a:pt x="4635" y="149"/>
                      <a:pt x="4636" y="153"/>
                      <a:pt x="4637" y="155"/>
                    </a:cubicBezTo>
                    <a:cubicBezTo>
                      <a:pt x="4635" y="151"/>
                      <a:pt x="4634" y="147"/>
                      <a:pt x="4632" y="142"/>
                    </a:cubicBezTo>
                    <a:close/>
                    <a:moveTo>
                      <a:pt x="4458" y="105"/>
                    </a:moveTo>
                    <a:cubicBezTo>
                      <a:pt x="4458" y="103"/>
                      <a:pt x="4458" y="101"/>
                      <a:pt x="4457" y="99"/>
                    </a:cubicBezTo>
                    <a:cubicBezTo>
                      <a:pt x="4457" y="101"/>
                      <a:pt x="4458" y="103"/>
                      <a:pt x="4458" y="105"/>
                    </a:cubicBezTo>
                    <a:close/>
                    <a:moveTo>
                      <a:pt x="4466" y="65"/>
                    </a:moveTo>
                    <a:cubicBezTo>
                      <a:pt x="4466" y="64"/>
                      <a:pt x="4466" y="63"/>
                      <a:pt x="4466" y="63"/>
                    </a:cubicBezTo>
                    <a:cubicBezTo>
                      <a:pt x="4466" y="63"/>
                      <a:pt x="4466" y="64"/>
                      <a:pt x="4466" y="65"/>
                    </a:cubicBezTo>
                    <a:close/>
                    <a:moveTo>
                      <a:pt x="4065" y="79"/>
                    </a:moveTo>
                    <a:cubicBezTo>
                      <a:pt x="4066" y="76"/>
                      <a:pt x="4067" y="73"/>
                      <a:pt x="4068" y="70"/>
                    </a:cubicBezTo>
                    <a:cubicBezTo>
                      <a:pt x="4067" y="73"/>
                      <a:pt x="4066" y="76"/>
                      <a:pt x="4065" y="79"/>
                    </a:cubicBezTo>
                    <a:close/>
                    <a:moveTo>
                      <a:pt x="3886" y="79"/>
                    </a:moveTo>
                    <a:cubicBezTo>
                      <a:pt x="3885" y="76"/>
                      <a:pt x="3884" y="73"/>
                      <a:pt x="3882" y="70"/>
                    </a:cubicBezTo>
                    <a:cubicBezTo>
                      <a:pt x="3884" y="73"/>
                      <a:pt x="3885" y="76"/>
                      <a:pt x="3886" y="79"/>
                    </a:cubicBezTo>
                    <a:close/>
                    <a:moveTo>
                      <a:pt x="2267" y="79"/>
                    </a:moveTo>
                    <a:cubicBezTo>
                      <a:pt x="2268" y="76"/>
                      <a:pt x="2269" y="73"/>
                      <a:pt x="2270" y="70"/>
                    </a:cubicBezTo>
                    <a:cubicBezTo>
                      <a:pt x="2269" y="73"/>
                      <a:pt x="2268" y="76"/>
                      <a:pt x="2267" y="79"/>
                    </a:cubicBezTo>
                    <a:close/>
                    <a:moveTo>
                      <a:pt x="3115" y="83"/>
                    </a:moveTo>
                    <a:cubicBezTo>
                      <a:pt x="3114" y="81"/>
                      <a:pt x="3113" y="79"/>
                      <a:pt x="3112" y="78"/>
                    </a:cubicBezTo>
                    <a:cubicBezTo>
                      <a:pt x="3113" y="79"/>
                      <a:pt x="3114" y="81"/>
                      <a:pt x="3115" y="83"/>
                    </a:cubicBezTo>
                    <a:close/>
                    <a:moveTo>
                      <a:pt x="290" y="79"/>
                    </a:moveTo>
                    <a:cubicBezTo>
                      <a:pt x="289" y="76"/>
                      <a:pt x="288" y="73"/>
                      <a:pt x="287" y="70"/>
                    </a:cubicBezTo>
                    <a:cubicBezTo>
                      <a:pt x="288" y="73"/>
                      <a:pt x="289" y="76"/>
                      <a:pt x="290" y="79"/>
                    </a:cubicBezTo>
                    <a:close/>
                    <a:moveTo>
                      <a:pt x="469" y="79"/>
                    </a:moveTo>
                    <a:cubicBezTo>
                      <a:pt x="470" y="76"/>
                      <a:pt x="471" y="73"/>
                      <a:pt x="472" y="70"/>
                    </a:cubicBezTo>
                    <a:cubicBezTo>
                      <a:pt x="471" y="73"/>
                      <a:pt x="470" y="76"/>
                      <a:pt x="469" y="79"/>
                    </a:cubicBezTo>
                    <a:close/>
                    <a:moveTo>
                      <a:pt x="1317" y="83"/>
                    </a:moveTo>
                    <a:cubicBezTo>
                      <a:pt x="1316" y="81"/>
                      <a:pt x="1315" y="79"/>
                      <a:pt x="1314" y="78"/>
                    </a:cubicBezTo>
                    <a:cubicBezTo>
                      <a:pt x="1315" y="79"/>
                      <a:pt x="1316" y="81"/>
                      <a:pt x="1317" y="83"/>
                    </a:cubicBezTo>
                    <a:close/>
                    <a:moveTo>
                      <a:pt x="3042" y="83"/>
                    </a:moveTo>
                    <a:cubicBezTo>
                      <a:pt x="3040" y="80"/>
                      <a:pt x="3039" y="77"/>
                      <a:pt x="3038" y="75"/>
                    </a:cubicBezTo>
                    <a:cubicBezTo>
                      <a:pt x="3039" y="78"/>
                      <a:pt x="3040" y="80"/>
                      <a:pt x="3042" y="83"/>
                    </a:cubicBezTo>
                    <a:close/>
                    <a:moveTo>
                      <a:pt x="2683" y="105"/>
                    </a:moveTo>
                    <a:cubicBezTo>
                      <a:pt x="2683" y="103"/>
                      <a:pt x="2683" y="101"/>
                      <a:pt x="2683" y="99"/>
                    </a:cubicBezTo>
                    <a:cubicBezTo>
                      <a:pt x="2683" y="101"/>
                      <a:pt x="2683" y="103"/>
                      <a:pt x="2683" y="105"/>
                    </a:cubicBezTo>
                    <a:close/>
                    <a:moveTo>
                      <a:pt x="2088" y="79"/>
                    </a:moveTo>
                    <a:cubicBezTo>
                      <a:pt x="2087" y="76"/>
                      <a:pt x="2086" y="73"/>
                      <a:pt x="2084" y="70"/>
                    </a:cubicBezTo>
                    <a:cubicBezTo>
                      <a:pt x="2086" y="73"/>
                      <a:pt x="2087" y="76"/>
                      <a:pt x="2088" y="79"/>
                    </a:cubicBezTo>
                    <a:close/>
                    <a:moveTo>
                      <a:pt x="4481" y="105"/>
                    </a:moveTo>
                    <a:cubicBezTo>
                      <a:pt x="4481" y="103"/>
                      <a:pt x="4481" y="101"/>
                      <a:pt x="4481" y="99"/>
                    </a:cubicBezTo>
                    <a:cubicBezTo>
                      <a:pt x="4481" y="101"/>
                      <a:pt x="4481" y="103"/>
                      <a:pt x="4481" y="105"/>
                    </a:cubicBezTo>
                    <a:close/>
                    <a:moveTo>
                      <a:pt x="1244" y="83"/>
                    </a:moveTo>
                    <a:cubicBezTo>
                      <a:pt x="1242" y="80"/>
                      <a:pt x="1241" y="77"/>
                      <a:pt x="1240" y="75"/>
                    </a:cubicBezTo>
                    <a:cubicBezTo>
                      <a:pt x="1241" y="78"/>
                      <a:pt x="1242" y="80"/>
                      <a:pt x="1244" y="83"/>
                    </a:cubicBezTo>
                    <a:close/>
                    <a:moveTo>
                      <a:pt x="3941" y="33"/>
                    </a:moveTo>
                    <a:cubicBezTo>
                      <a:pt x="3941" y="30"/>
                      <a:pt x="3941" y="28"/>
                      <a:pt x="3940" y="25"/>
                    </a:cubicBezTo>
                    <a:cubicBezTo>
                      <a:pt x="3940" y="25"/>
                      <a:pt x="3941" y="28"/>
                      <a:pt x="3941" y="33"/>
                    </a:cubicBezTo>
                    <a:close/>
                    <a:moveTo>
                      <a:pt x="3210" y="88"/>
                    </a:moveTo>
                    <a:cubicBezTo>
                      <a:pt x="3209" y="86"/>
                      <a:pt x="3208" y="83"/>
                      <a:pt x="3206" y="81"/>
                    </a:cubicBezTo>
                    <a:cubicBezTo>
                      <a:pt x="3207" y="83"/>
                      <a:pt x="3209" y="86"/>
                      <a:pt x="3210" y="88"/>
                    </a:cubicBezTo>
                    <a:close/>
                    <a:moveTo>
                      <a:pt x="3068" y="81"/>
                    </a:moveTo>
                    <a:cubicBezTo>
                      <a:pt x="3062" y="61"/>
                      <a:pt x="3051" y="46"/>
                      <a:pt x="3035" y="25"/>
                    </a:cubicBezTo>
                    <a:cubicBezTo>
                      <a:pt x="3051" y="48"/>
                      <a:pt x="3061" y="64"/>
                      <a:pt x="3068" y="81"/>
                    </a:cubicBezTo>
                    <a:close/>
                    <a:moveTo>
                      <a:pt x="3078" y="79"/>
                    </a:moveTo>
                    <a:cubicBezTo>
                      <a:pt x="3077" y="76"/>
                      <a:pt x="3076" y="73"/>
                      <a:pt x="3074" y="70"/>
                    </a:cubicBezTo>
                    <a:cubicBezTo>
                      <a:pt x="3075" y="73"/>
                      <a:pt x="3077" y="76"/>
                      <a:pt x="3078" y="79"/>
                    </a:cubicBezTo>
                    <a:close/>
                    <a:moveTo>
                      <a:pt x="3317" y="102"/>
                    </a:moveTo>
                    <a:cubicBezTo>
                      <a:pt x="3316" y="100"/>
                      <a:pt x="3315" y="97"/>
                      <a:pt x="3314" y="96"/>
                    </a:cubicBezTo>
                    <a:cubicBezTo>
                      <a:pt x="3315" y="98"/>
                      <a:pt x="3316" y="100"/>
                      <a:pt x="3317" y="102"/>
                    </a:cubicBezTo>
                    <a:close/>
                    <a:moveTo>
                      <a:pt x="3531" y="109"/>
                    </a:moveTo>
                    <a:cubicBezTo>
                      <a:pt x="3530" y="104"/>
                      <a:pt x="3530" y="99"/>
                      <a:pt x="3529" y="95"/>
                    </a:cubicBezTo>
                    <a:cubicBezTo>
                      <a:pt x="3529" y="99"/>
                      <a:pt x="3530" y="104"/>
                      <a:pt x="3531" y="109"/>
                    </a:cubicBezTo>
                    <a:close/>
                    <a:moveTo>
                      <a:pt x="3370" y="100"/>
                    </a:moveTo>
                    <a:cubicBezTo>
                      <a:pt x="3370" y="97"/>
                      <a:pt x="3369" y="95"/>
                      <a:pt x="3368" y="93"/>
                    </a:cubicBezTo>
                    <a:cubicBezTo>
                      <a:pt x="3369" y="96"/>
                      <a:pt x="3370" y="98"/>
                      <a:pt x="3370" y="100"/>
                    </a:cubicBezTo>
                    <a:close/>
                    <a:moveTo>
                      <a:pt x="3610" y="81"/>
                    </a:moveTo>
                    <a:cubicBezTo>
                      <a:pt x="3608" y="75"/>
                      <a:pt x="3606" y="70"/>
                      <a:pt x="3604" y="67"/>
                    </a:cubicBezTo>
                    <a:cubicBezTo>
                      <a:pt x="3604" y="67"/>
                      <a:pt x="3607" y="72"/>
                      <a:pt x="3610" y="81"/>
                    </a:cubicBezTo>
                    <a:close/>
                    <a:moveTo>
                      <a:pt x="2720" y="54"/>
                    </a:moveTo>
                    <a:cubicBezTo>
                      <a:pt x="2720" y="53"/>
                      <a:pt x="2719" y="52"/>
                      <a:pt x="2719" y="52"/>
                    </a:cubicBezTo>
                    <a:cubicBezTo>
                      <a:pt x="2720" y="53"/>
                      <a:pt x="2720" y="53"/>
                      <a:pt x="2720" y="54"/>
                    </a:cubicBezTo>
                    <a:close/>
                    <a:moveTo>
                      <a:pt x="2715" y="90"/>
                    </a:moveTo>
                    <a:cubicBezTo>
                      <a:pt x="2715" y="89"/>
                      <a:pt x="2714" y="87"/>
                      <a:pt x="2713" y="86"/>
                    </a:cubicBezTo>
                    <a:cubicBezTo>
                      <a:pt x="2714" y="87"/>
                      <a:pt x="2715" y="89"/>
                      <a:pt x="2715" y="90"/>
                    </a:cubicBezTo>
                    <a:close/>
                    <a:moveTo>
                      <a:pt x="2835" y="54"/>
                    </a:moveTo>
                    <a:cubicBezTo>
                      <a:pt x="2835" y="54"/>
                      <a:pt x="2835" y="65"/>
                      <a:pt x="2834" y="84"/>
                    </a:cubicBezTo>
                    <a:cubicBezTo>
                      <a:pt x="2836" y="72"/>
                      <a:pt x="2837" y="60"/>
                      <a:pt x="2835" y="54"/>
                    </a:cubicBezTo>
                    <a:close/>
                    <a:moveTo>
                      <a:pt x="2890" y="106"/>
                    </a:moveTo>
                    <a:cubicBezTo>
                      <a:pt x="2890" y="103"/>
                      <a:pt x="2889" y="100"/>
                      <a:pt x="2889" y="96"/>
                    </a:cubicBezTo>
                    <a:cubicBezTo>
                      <a:pt x="2889" y="99"/>
                      <a:pt x="2890" y="103"/>
                      <a:pt x="2890" y="106"/>
                    </a:cubicBezTo>
                    <a:close/>
                    <a:moveTo>
                      <a:pt x="2795" y="47"/>
                    </a:moveTo>
                    <a:cubicBezTo>
                      <a:pt x="2795" y="39"/>
                      <a:pt x="2795" y="33"/>
                      <a:pt x="2793" y="30"/>
                    </a:cubicBezTo>
                    <a:cubicBezTo>
                      <a:pt x="2793" y="30"/>
                      <a:pt x="2794" y="37"/>
                      <a:pt x="2795" y="47"/>
                    </a:cubicBezTo>
                    <a:close/>
                    <a:moveTo>
                      <a:pt x="3995" y="44"/>
                    </a:moveTo>
                    <a:cubicBezTo>
                      <a:pt x="3995" y="43"/>
                      <a:pt x="3995" y="41"/>
                      <a:pt x="3995" y="40"/>
                    </a:cubicBezTo>
                    <a:cubicBezTo>
                      <a:pt x="3995" y="40"/>
                      <a:pt x="3995" y="42"/>
                      <a:pt x="3995" y="44"/>
                    </a:cubicBezTo>
                    <a:close/>
                    <a:moveTo>
                      <a:pt x="4211" y="68"/>
                    </a:moveTo>
                    <a:cubicBezTo>
                      <a:pt x="4211" y="65"/>
                      <a:pt x="4210" y="64"/>
                      <a:pt x="4210" y="64"/>
                    </a:cubicBezTo>
                    <a:cubicBezTo>
                      <a:pt x="4210" y="64"/>
                      <a:pt x="4211" y="66"/>
                      <a:pt x="4211" y="68"/>
                    </a:cubicBezTo>
                    <a:close/>
                    <a:moveTo>
                      <a:pt x="3956" y="52"/>
                    </a:moveTo>
                    <a:cubicBezTo>
                      <a:pt x="3956" y="50"/>
                      <a:pt x="3956" y="49"/>
                      <a:pt x="3956" y="49"/>
                    </a:cubicBezTo>
                    <a:cubicBezTo>
                      <a:pt x="3956" y="50"/>
                      <a:pt x="3956" y="51"/>
                      <a:pt x="3956" y="52"/>
                    </a:cubicBezTo>
                    <a:close/>
                    <a:moveTo>
                      <a:pt x="2672" y="52"/>
                    </a:moveTo>
                    <a:cubicBezTo>
                      <a:pt x="2672" y="50"/>
                      <a:pt x="2672" y="49"/>
                      <a:pt x="2672" y="49"/>
                    </a:cubicBezTo>
                    <a:cubicBezTo>
                      <a:pt x="2672" y="50"/>
                      <a:pt x="2672" y="51"/>
                      <a:pt x="2672" y="52"/>
                    </a:cubicBezTo>
                    <a:close/>
                    <a:moveTo>
                      <a:pt x="4169" y="66"/>
                    </a:moveTo>
                    <a:cubicBezTo>
                      <a:pt x="4169" y="63"/>
                      <a:pt x="4169" y="61"/>
                      <a:pt x="4170" y="59"/>
                    </a:cubicBezTo>
                    <a:cubicBezTo>
                      <a:pt x="4170" y="59"/>
                      <a:pt x="4169" y="62"/>
                      <a:pt x="4169" y="66"/>
                    </a:cubicBezTo>
                    <a:close/>
                    <a:moveTo>
                      <a:pt x="4178" y="100"/>
                    </a:moveTo>
                    <a:cubicBezTo>
                      <a:pt x="4178" y="97"/>
                      <a:pt x="4177" y="95"/>
                      <a:pt x="4177" y="93"/>
                    </a:cubicBezTo>
                    <a:cubicBezTo>
                      <a:pt x="4177" y="96"/>
                      <a:pt x="4178" y="98"/>
                      <a:pt x="4178" y="100"/>
                    </a:cubicBezTo>
                    <a:close/>
                    <a:moveTo>
                      <a:pt x="3772" y="100"/>
                    </a:moveTo>
                    <a:cubicBezTo>
                      <a:pt x="3773" y="98"/>
                      <a:pt x="3773" y="96"/>
                      <a:pt x="3774" y="93"/>
                    </a:cubicBezTo>
                    <a:cubicBezTo>
                      <a:pt x="3773" y="95"/>
                      <a:pt x="3773" y="97"/>
                      <a:pt x="3772" y="100"/>
                    </a:cubicBezTo>
                    <a:close/>
                    <a:moveTo>
                      <a:pt x="3923" y="83"/>
                    </a:moveTo>
                    <a:cubicBezTo>
                      <a:pt x="3922" y="81"/>
                      <a:pt x="3921" y="79"/>
                      <a:pt x="3920" y="78"/>
                    </a:cubicBezTo>
                    <a:cubicBezTo>
                      <a:pt x="3921" y="79"/>
                      <a:pt x="3922" y="81"/>
                      <a:pt x="3923" y="83"/>
                    </a:cubicBezTo>
                    <a:close/>
                    <a:moveTo>
                      <a:pt x="3726" y="68"/>
                    </a:moveTo>
                    <a:cubicBezTo>
                      <a:pt x="3726" y="66"/>
                      <a:pt x="3726" y="65"/>
                      <a:pt x="3726" y="64"/>
                    </a:cubicBezTo>
                    <a:cubicBezTo>
                      <a:pt x="3726" y="64"/>
                      <a:pt x="3726" y="65"/>
                      <a:pt x="3726" y="68"/>
                    </a:cubicBezTo>
                    <a:close/>
                    <a:moveTo>
                      <a:pt x="3705" y="90"/>
                    </a:moveTo>
                    <a:cubicBezTo>
                      <a:pt x="3705" y="89"/>
                      <a:pt x="3704" y="87"/>
                      <a:pt x="3703" y="86"/>
                    </a:cubicBezTo>
                    <a:cubicBezTo>
                      <a:pt x="3704" y="87"/>
                      <a:pt x="3704" y="89"/>
                      <a:pt x="3705" y="90"/>
                    </a:cubicBezTo>
                    <a:close/>
                    <a:moveTo>
                      <a:pt x="3648" y="13"/>
                    </a:moveTo>
                    <a:cubicBezTo>
                      <a:pt x="3648" y="12"/>
                      <a:pt x="3648" y="12"/>
                      <a:pt x="3648" y="12"/>
                    </a:cubicBezTo>
                    <a:cubicBezTo>
                      <a:pt x="3648" y="12"/>
                      <a:pt x="3648" y="13"/>
                      <a:pt x="3648" y="13"/>
                    </a:cubicBezTo>
                    <a:close/>
                    <a:moveTo>
                      <a:pt x="3770" y="61"/>
                    </a:moveTo>
                    <a:cubicBezTo>
                      <a:pt x="3770" y="55"/>
                      <a:pt x="3769" y="49"/>
                      <a:pt x="3768" y="44"/>
                    </a:cubicBezTo>
                    <a:cubicBezTo>
                      <a:pt x="3768" y="44"/>
                      <a:pt x="3769" y="51"/>
                      <a:pt x="3770" y="61"/>
                    </a:cubicBezTo>
                    <a:close/>
                  </a:path>
                </a:pathLst>
              </a:custGeom>
              <a:solidFill>
                <a:srgbClr val="001400">
                  <a:alpha val="2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4" name="Group 33"/>
          <p:cNvGrpSpPr/>
          <p:nvPr/>
        </p:nvGrpSpPr>
        <p:grpSpPr>
          <a:xfrm>
            <a:off x="-181080" y="2482920"/>
            <a:ext cx="15181200" cy="1089720"/>
            <a:chOff x="-181080" y="2482920"/>
            <a:chExt cx="15181200" cy="1089720"/>
          </a:xfrm>
        </p:grpSpPr>
        <p:sp>
          <p:nvSpPr>
            <p:cNvPr id="2875" name="Freeform 34"/>
            <p:cNvSpPr/>
            <p:nvPr/>
          </p:nvSpPr>
          <p:spPr>
            <a:xfrm>
              <a:off x="-181080" y="2482920"/>
              <a:ext cx="15131880" cy="528480"/>
            </a:xfrm>
            <a:custGeom>
              <a:avLst/>
              <a:gdLst/>
              <a:ahLst/>
              <a:rect l="l" t="t" r="r" b="b"/>
              <a:pathLst>
                <a:path w="4763" h="166">
                  <a:moveTo>
                    <a:pt x="1928" y="68"/>
                  </a:moveTo>
                  <a:cubicBezTo>
                    <a:pt x="1928" y="66"/>
                    <a:pt x="1928" y="65"/>
                    <a:pt x="1928" y="64"/>
                  </a:cubicBezTo>
                  <a:cubicBezTo>
                    <a:pt x="1928" y="65"/>
                    <a:pt x="1928" y="66"/>
                    <a:pt x="1928" y="68"/>
                  </a:cubicBezTo>
                  <a:close/>
                  <a:moveTo>
                    <a:pt x="1972" y="61"/>
                  </a:moveTo>
                  <a:cubicBezTo>
                    <a:pt x="1972" y="55"/>
                    <a:pt x="1971" y="49"/>
                    <a:pt x="1970" y="44"/>
                  </a:cubicBezTo>
                  <a:cubicBezTo>
                    <a:pt x="1970" y="44"/>
                    <a:pt x="1971" y="51"/>
                    <a:pt x="1972" y="61"/>
                  </a:cubicBezTo>
                  <a:close/>
                  <a:moveTo>
                    <a:pt x="1907" y="90"/>
                  </a:moveTo>
                  <a:cubicBezTo>
                    <a:pt x="1907" y="89"/>
                    <a:pt x="1906" y="87"/>
                    <a:pt x="1905" y="86"/>
                  </a:cubicBezTo>
                  <a:cubicBezTo>
                    <a:pt x="1906" y="87"/>
                    <a:pt x="1906" y="89"/>
                    <a:pt x="1907" y="90"/>
                  </a:cubicBezTo>
                  <a:close/>
                  <a:moveTo>
                    <a:pt x="1733" y="109"/>
                  </a:moveTo>
                  <a:cubicBezTo>
                    <a:pt x="1732" y="104"/>
                    <a:pt x="1732" y="99"/>
                    <a:pt x="1731" y="95"/>
                  </a:cubicBezTo>
                  <a:cubicBezTo>
                    <a:pt x="1731" y="99"/>
                    <a:pt x="1732" y="104"/>
                    <a:pt x="1733" y="109"/>
                  </a:cubicBezTo>
                  <a:close/>
                  <a:moveTo>
                    <a:pt x="1412" y="88"/>
                  </a:moveTo>
                  <a:cubicBezTo>
                    <a:pt x="1411" y="86"/>
                    <a:pt x="1410" y="83"/>
                    <a:pt x="1408" y="81"/>
                  </a:cubicBezTo>
                  <a:cubicBezTo>
                    <a:pt x="1409" y="83"/>
                    <a:pt x="1411" y="86"/>
                    <a:pt x="1412" y="88"/>
                  </a:cubicBezTo>
                  <a:close/>
                  <a:moveTo>
                    <a:pt x="1519" y="102"/>
                  </a:moveTo>
                  <a:cubicBezTo>
                    <a:pt x="1518" y="100"/>
                    <a:pt x="1517" y="97"/>
                    <a:pt x="1516" y="96"/>
                  </a:cubicBezTo>
                  <a:cubicBezTo>
                    <a:pt x="1517" y="98"/>
                    <a:pt x="1518" y="100"/>
                    <a:pt x="1519" y="102"/>
                  </a:cubicBezTo>
                  <a:close/>
                  <a:moveTo>
                    <a:pt x="1280" y="79"/>
                  </a:moveTo>
                  <a:cubicBezTo>
                    <a:pt x="1279" y="76"/>
                    <a:pt x="1278" y="73"/>
                    <a:pt x="1276" y="70"/>
                  </a:cubicBezTo>
                  <a:cubicBezTo>
                    <a:pt x="1278" y="73"/>
                    <a:pt x="1279" y="76"/>
                    <a:pt x="1280" y="79"/>
                  </a:cubicBezTo>
                  <a:close/>
                  <a:moveTo>
                    <a:pt x="1270" y="81"/>
                  </a:moveTo>
                  <a:cubicBezTo>
                    <a:pt x="1264" y="61"/>
                    <a:pt x="1253" y="46"/>
                    <a:pt x="1237" y="25"/>
                  </a:cubicBezTo>
                  <a:cubicBezTo>
                    <a:pt x="1253" y="48"/>
                    <a:pt x="1263" y="64"/>
                    <a:pt x="1270" y="81"/>
                  </a:cubicBezTo>
                  <a:close/>
                  <a:moveTo>
                    <a:pt x="1572" y="100"/>
                  </a:moveTo>
                  <a:cubicBezTo>
                    <a:pt x="1572" y="97"/>
                    <a:pt x="1571" y="95"/>
                    <a:pt x="1570" y="93"/>
                  </a:cubicBezTo>
                  <a:cubicBezTo>
                    <a:pt x="1571" y="96"/>
                    <a:pt x="1572" y="98"/>
                    <a:pt x="1572" y="100"/>
                  </a:cubicBezTo>
                  <a:close/>
                  <a:moveTo>
                    <a:pt x="1812" y="81"/>
                  </a:moveTo>
                  <a:cubicBezTo>
                    <a:pt x="1810" y="75"/>
                    <a:pt x="1808" y="70"/>
                    <a:pt x="1806" y="67"/>
                  </a:cubicBezTo>
                  <a:cubicBezTo>
                    <a:pt x="1806" y="67"/>
                    <a:pt x="1809" y="72"/>
                    <a:pt x="1812" y="81"/>
                  </a:cubicBezTo>
                  <a:close/>
                  <a:moveTo>
                    <a:pt x="1850" y="13"/>
                  </a:moveTo>
                  <a:cubicBezTo>
                    <a:pt x="1850" y="12"/>
                    <a:pt x="1850" y="12"/>
                    <a:pt x="1850" y="12"/>
                  </a:cubicBezTo>
                  <a:cubicBezTo>
                    <a:pt x="1850" y="12"/>
                    <a:pt x="1850" y="13"/>
                    <a:pt x="1850" y="13"/>
                  </a:cubicBezTo>
                  <a:close/>
                  <a:moveTo>
                    <a:pt x="1974" y="100"/>
                  </a:moveTo>
                  <a:cubicBezTo>
                    <a:pt x="1975" y="98"/>
                    <a:pt x="1975" y="96"/>
                    <a:pt x="1976" y="93"/>
                  </a:cubicBezTo>
                  <a:cubicBezTo>
                    <a:pt x="1975" y="95"/>
                    <a:pt x="1975" y="97"/>
                    <a:pt x="1974" y="100"/>
                  </a:cubicBezTo>
                  <a:close/>
                  <a:moveTo>
                    <a:pt x="2660" y="105"/>
                  </a:moveTo>
                  <a:cubicBezTo>
                    <a:pt x="2660" y="103"/>
                    <a:pt x="2660" y="101"/>
                    <a:pt x="2659" y="99"/>
                  </a:cubicBezTo>
                  <a:cubicBezTo>
                    <a:pt x="2659" y="101"/>
                    <a:pt x="2660" y="103"/>
                    <a:pt x="2660" y="105"/>
                  </a:cubicBezTo>
                  <a:close/>
                  <a:moveTo>
                    <a:pt x="2371" y="66"/>
                  </a:moveTo>
                  <a:cubicBezTo>
                    <a:pt x="2371" y="63"/>
                    <a:pt x="2371" y="61"/>
                    <a:pt x="2372" y="59"/>
                  </a:cubicBezTo>
                  <a:cubicBezTo>
                    <a:pt x="2372" y="59"/>
                    <a:pt x="2371" y="62"/>
                    <a:pt x="2371" y="66"/>
                  </a:cubicBezTo>
                  <a:close/>
                  <a:moveTo>
                    <a:pt x="2380" y="100"/>
                  </a:moveTo>
                  <a:cubicBezTo>
                    <a:pt x="2380" y="97"/>
                    <a:pt x="2379" y="95"/>
                    <a:pt x="2379" y="93"/>
                  </a:cubicBezTo>
                  <a:cubicBezTo>
                    <a:pt x="2379" y="96"/>
                    <a:pt x="2380" y="98"/>
                    <a:pt x="2380" y="100"/>
                  </a:cubicBezTo>
                  <a:close/>
                  <a:moveTo>
                    <a:pt x="2413" y="68"/>
                  </a:moveTo>
                  <a:cubicBezTo>
                    <a:pt x="2413" y="65"/>
                    <a:pt x="2412" y="64"/>
                    <a:pt x="2412" y="64"/>
                  </a:cubicBezTo>
                  <a:cubicBezTo>
                    <a:pt x="2412" y="64"/>
                    <a:pt x="2413" y="66"/>
                    <a:pt x="2413" y="68"/>
                  </a:cubicBezTo>
                  <a:close/>
                  <a:moveTo>
                    <a:pt x="2486" y="61"/>
                  </a:moveTo>
                  <a:cubicBezTo>
                    <a:pt x="2486" y="55"/>
                    <a:pt x="2485" y="49"/>
                    <a:pt x="2484" y="44"/>
                  </a:cubicBezTo>
                  <a:cubicBezTo>
                    <a:pt x="2484" y="44"/>
                    <a:pt x="2485" y="51"/>
                    <a:pt x="2486" y="61"/>
                  </a:cubicBezTo>
                  <a:close/>
                  <a:moveTo>
                    <a:pt x="2562" y="68"/>
                  </a:moveTo>
                  <a:cubicBezTo>
                    <a:pt x="2562" y="68"/>
                    <a:pt x="2562" y="71"/>
                    <a:pt x="2562" y="75"/>
                  </a:cubicBezTo>
                  <a:cubicBezTo>
                    <a:pt x="2562" y="72"/>
                    <a:pt x="2562" y="70"/>
                    <a:pt x="2562" y="68"/>
                  </a:cubicBezTo>
                  <a:close/>
                  <a:moveTo>
                    <a:pt x="2197" y="44"/>
                  </a:moveTo>
                  <a:cubicBezTo>
                    <a:pt x="2197" y="43"/>
                    <a:pt x="2197" y="41"/>
                    <a:pt x="2197" y="40"/>
                  </a:cubicBezTo>
                  <a:cubicBezTo>
                    <a:pt x="2197" y="40"/>
                    <a:pt x="2197" y="42"/>
                    <a:pt x="2197" y="44"/>
                  </a:cubicBezTo>
                  <a:close/>
                  <a:moveTo>
                    <a:pt x="2125" y="83"/>
                  </a:moveTo>
                  <a:cubicBezTo>
                    <a:pt x="2124" y="81"/>
                    <a:pt x="2123" y="79"/>
                    <a:pt x="2122" y="78"/>
                  </a:cubicBezTo>
                  <a:cubicBezTo>
                    <a:pt x="2123" y="79"/>
                    <a:pt x="2124" y="81"/>
                    <a:pt x="2125" y="83"/>
                  </a:cubicBezTo>
                  <a:close/>
                  <a:moveTo>
                    <a:pt x="2569" y="62"/>
                  </a:moveTo>
                  <a:cubicBezTo>
                    <a:pt x="2569" y="61"/>
                    <a:pt x="2569" y="60"/>
                    <a:pt x="2569" y="60"/>
                  </a:cubicBezTo>
                  <a:cubicBezTo>
                    <a:pt x="2569" y="60"/>
                    <a:pt x="2569" y="61"/>
                    <a:pt x="2569" y="62"/>
                  </a:cubicBezTo>
                  <a:close/>
                  <a:moveTo>
                    <a:pt x="2158" y="52"/>
                  </a:moveTo>
                  <a:cubicBezTo>
                    <a:pt x="2158" y="50"/>
                    <a:pt x="2158" y="49"/>
                    <a:pt x="2158" y="49"/>
                  </a:cubicBezTo>
                  <a:cubicBezTo>
                    <a:pt x="2158" y="50"/>
                    <a:pt x="2158" y="51"/>
                    <a:pt x="2158" y="52"/>
                  </a:cubicBezTo>
                  <a:close/>
                  <a:moveTo>
                    <a:pt x="2143" y="33"/>
                  </a:moveTo>
                  <a:cubicBezTo>
                    <a:pt x="2143" y="30"/>
                    <a:pt x="2143" y="28"/>
                    <a:pt x="2142" y="25"/>
                  </a:cubicBezTo>
                  <a:cubicBezTo>
                    <a:pt x="2142" y="25"/>
                    <a:pt x="2143" y="28"/>
                    <a:pt x="2143" y="33"/>
                  </a:cubicBezTo>
                  <a:close/>
                  <a:moveTo>
                    <a:pt x="2441" y="67"/>
                  </a:moveTo>
                  <a:cubicBezTo>
                    <a:pt x="2442" y="66"/>
                    <a:pt x="2442" y="65"/>
                    <a:pt x="2441" y="64"/>
                  </a:cubicBezTo>
                  <a:cubicBezTo>
                    <a:pt x="2441" y="64"/>
                    <a:pt x="2441" y="65"/>
                    <a:pt x="2441" y="67"/>
                  </a:cubicBezTo>
                  <a:close/>
                  <a:moveTo>
                    <a:pt x="130" y="68"/>
                  </a:moveTo>
                  <a:cubicBezTo>
                    <a:pt x="130" y="66"/>
                    <a:pt x="130" y="65"/>
                    <a:pt x="130" y="64"/>
                  </a:cubicBezTo>
                  <a:cubicBezTo>
                    <a:pt x="130" y="64"/>
                    <a:pt x="130" y="65"/>
                    <a:pt x="130" y="68"/>
                  </a:cubicBezTo>
                  <a:close/>
                  <a:moveTo>
                    <a:pt x="360" y="52"/>
                  </a:moveTo>
                  <a:cubicBezTo>
                    <a:pt x="360" y="50"/>
                    <a:pt x="360" y="49"/>
                    <a:pt x="360" y="49"/>
                  </a:cubicBezTo>
                  <a:cubicBezTo>
                    <a:pt x="360" y="50"/>
                    <a:pt x="360" y="51"/>
                    <a:pt x="360" y="52"/>
                  </a:cubicBezTo>
                  <a:close/>
                  <a:moveTo>
                    <a:pt x="345" y="33"/>
                  </a:moveTo>
                  <a:cubicBezTo>
                    <a:pt x="345" y="30"/>
                    <a:pt x="345" y="28"/>
                    <a:pt x="344" y="25"/>
                  </a:cubicBezTo>
                  <a:cubicBezTo>
                    <a:pt x="344" y="25"/>
                    <a:pt x="345" y="28"/>
                    <a:pt x="345" y="33"/>
                  </a:cubicBezTo>
                  <a:close/>
                  <a:moveTo>
                    <a:pt x="327" y="83"/>
                  </a:moveTo>
                  <a:cubicBezTo>
                    <a:pt x="326" y="81"/>
                    <a:pt x="325" y="79"/>
                    <a:pt x="324" y="78"/>
                  </a:cubicBezTo>
                  <a:cubicBezTo>
                    <a:pt x="325" y="79"/>
                    <a:pt x="326" y="81"/>
                    <a:pt x="327" y="83"/>
                  </a:cubicBezTo>
                  <a:close/>
                  <a:moveTo>
                    <a:pt x="399" y="44"/>
                  </a:moveTo>
                  <a:cubicBezTo>
                    <a:pt x="399" y="43"/>
                    <a:pt x="399" y="41"/>
                    <a:pt x="399" y="40"/>
                  </a:cubicBezTo>
                  <a:cubicBezTo>
                    <a:pt x="399" y="40"/>
                    <a:pt x="399" y="42"/>
                    <a:pt x="399" y="44"/>
                  </a:cubicBezTo>
                  <a:close/>
                  <a:moveTo>
                    <a:pt x="176" y="100"/>
                  </a:moveTo>
                  <a:cubicBezTo>
                    <a:pt x="177" y="98"/>
                    <a:pt x="177" y="96"/>
                    <a:pt x="178" y="93"/>
                  </a:cubicBezTo>
                  <a:cubicBezTo>
                    <a:pt x="177" y="95"/>
                    <a:pt x="177" y="97"/>
                    <a:pt x="176" y="100"/>
                  </a:cubicBezTo>
                  <a:close/>
                  <a:moveTo>
                    <a:pt x="573" y="66"/>
                  </a:moveTo>
                  <a:cubicBezTo>
                    <a:pt x="573" y="63"/>
                    <a:pt x="574" y="61"/>
                    <a:pt x="574" y="59"/>
                  </a:cubicBezTo>
                  <a:cubicBezTo>
                    <a:pt x="574" y="59"/>
                    <a:pt x="573" y="62"/>
                    <a:pt x="573" y="66"/>
                  </a:cubicBezTo>
                  <a:close/>
                  <a:moveTo>
                    <a:pt x="14" y="81"/>
                  </a:moveTo>
                  <a:cubicBezTo>
                    <a:pt x="12" y="75"/>
                    <a:pt x="10" y="70"/>
                    <a:pt x="9" y="67"/>
                  </a:cubicBezTo>
                  <a:cubicBezTo>
                    <a:pt x="9" y="67"/>
                    <a:pt x="11" y="72"/>
                    <a:pt x="14" y="81"/>
                  </a:cubicBezTo>
                  <a:close/>
                  <a:moveTo>
                    <a:pt x="52" y="13"/>
                  </a:move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3"/>
                    <a:pt x="52" y="13"/>
                  </a:cubicBezTo>
                  <a:close/>
                  <a:moveTo>
                    <a:pt x="583" y="100"/>
                  </a:moveTo>
                  <a:cubicBezTo>
                    <a:pt x="582" y="97"/>
                    <a:pt x="582" y="95"/>
                    <a:pt x="581" y="93"/>
                  </a:cubicBezTo>
                  <a:cubicBezTo>
                    <a:pt x="581" y="96"/>
                    <a:pt x="582" y="98"/>
                    <a:pt x="583" y="100"/>
                  </a:cubicBezTo>
                  <a:close/>
                  <a:moveTo>
                    <a:pt x="2668" y="65"/>
                  </a:moveTo>
                  <a:cubicBezTo>
                    <a:pt x="2668" y="64"/>
                    <a:pt x="2668" y="63"/>
                    <a:pt x="2668" y="63"/>
                  </a:cubicBezTo>
                  <a:cubicBezTo>
                    <a:pt x="2668" y="63"/>
                    <a:pt x="2668" y="64"/>
                    <a:pt x="2668" y="65"/>
                  </a:cubicBezTo>
                  <a:close/>
                  <a:moveTo>
                    <a:pt x="109" y="90"/>
                  </a:moveTo>
                  <a:cubicBezTo>
                    <a:pt x="109" y="89"/>
                    <a:pt x="108" y="87"/>
                    <a:pt x="107" y="86"/>
                  </a:cubicBezTo>
                  <a:cubicBezTo>
                    <a:pt x="108" y="87"/>
                    <a:pt x="109" y="89"/>
                    <a:pt x="109" y="90"/>
                  </a:cubicBezTo>
                  <a:close/>
                  <a:moveTo>
                    <a:pt x="174" y="61"/>
                  </a:moveTo>
                  <a:cubicBezTo>
                    <a:pt x="174" y="55"/>
                    <a:pt x="174" y="49"/>
                    <a:pt x="172" y="44"/>
                  </a:cubicBezTo>
                  <a:cubicBezTo>
                    <a:pt x="172" y="44"/>
                    <a:pt x="173" y="51"/>
                    <a:pt x="174" y="61"/>
                  </a:cubicBezTo>
                  <a:close/>
                  <a:moveTo>
                    <a:pt x="615" y="68"/>
                  </a:moveTo>
                  <a:cubicBezTo>
                    <a:pt x="615" y="65"/>
                    <a:pt x="614" y="64"/>
                    <a:pt x="614" y="64"/>
                  </a:cubicBezTo>
                  <a:cubicBezTo>
                    <a:pt x="614" y="64"/>
                    <a:pt x="615" y="66"/>
                    <a:pt x="615" y="68"/>
                  </a:cubicBezTo>
                  <a:close/>
                  <a:moveTo>
                    <a:pt x="922" y="54"/>
                  </a:moveTo>
                  <a:cubicBezTo>
                    <a:pt x="922" y="53"/>
                    <a:pt x="922" y="52"/>
                    <a:pt x="922" y="52"/>
                  </a:cubicBezTo>
                  <a:cubicBezTo>
                    <a:pt x="922" y="53"/>
                    <a:pt x="922" y="53"/>
                    <a:pt x="922" y="54"/>
                  </a:cubicBezTo>
                  <a:close/>
                  <a:moveTo>
                    <a:pt x="870" y="65"/>
                  </a:moveTo>
                  <a:cubicBezTo>
                    <a:pt x="870" y="64"/>
                    <a:pt x="870" y="63"/>
                    <a:pt x="870" y="63"/>
                  </a:cubicBezTo>
                  <a:cubicBezTo>
                    <a:pt x="870" y="63"/>
                    <a:pt x="870" y="64"/>
                    <a:pt x="870" y="65"/>
                  </a:cubicBezTo>
                  <a:close/>
                  <a:moveTo>
                    <a:pt x="874" y="52"/>
                  </a:moveTo>
                  <a:cubicBezTo>
                    <a:pt x="874" y="50"/>
                    <a:pt x="874" y="49"/>
                    <a:pt x="874" y="49"/>
                  </a:cubicBezTo>
                  <a:cubicBezTo>
                    <a:pt x="874" y="50"/>
                    <a:pt x="874" y="51"/>
                    <a:pt x="874" y="52"/>
                  </a:cubicBezTo>
                  <a:close/>
                  <a:moveTo>
                    <a:pt x="918" y="90"/>
                  </a:moveTo>
                  <a:cubicBezTo>
                    <a:pt x="917" y="89"/>
                    <a:pt x="916" y="87"/>
                    <a:pt x="915" y="86"/>
                  </a:cubicBezTo>
                  <a:cubicBezTo>
                    <a:pt x="916" y="87"/>
                    <a:pt x="917" y="89"/>
                    <a:pt x="918" y="90"/>
                  </a:cubicBezTo>
                  <a:close/>
                  <a:moveTo>
                    <a:pt x="1037" y="54"/>
                  </a:moveTo>
                  <a:cubicBezTo>
                    <a:pt x="1037" y="54"/>
                    <a:pt x="1037" y="65"/>
                    <a:pt x="1036" y="84"/>
                  </a:cubicBezTo>
                  <a:cubicBezTo>
                    <a:pt x="1038" y="72"/>
                    <a:pt x="1039" y="60"/>
                    <a:pt x="1037" y="54"/>
                  </a:cubicBezTo>
                  <a:close/>
                  <a:moveTo>
                    <a:pt x="998" y="47"/>
                  </a:moveTo>
                  <a:cubicBezTo>
                    <a:pt x="997" y="39"/>
                    <a:pt x="997" y="33"/>
                    <a:pt x="996" y="30"/>
                  </a:cubicBezTo>
                  <a:cubicBezTo>
                    <a:pt x="996" y="30"/>
                    <a:pt x="996" y="37"/>
                    <a:pt x="998" y="47"/>
                  </a:cubicBezTo>
                  <a:close/>
                  <a:moveTo>
                    <a:pt x="688" y="61"/>
                  </a:moveTo>
                  <a:cubicBezTo>
                    <a:pt x="688" y="55"/>
                    <a:pt x="687" y="49"/>
                    <a:pt x="686" y="44"/>
                  </a:cubicBezTo>
                  <a:cubicBezTo>
                    <a:pt x="686" y="44"/>
                    <a:pt x="687" y="51"/>
                    <a:pt x="688" y="61"/>
                  </a:cubicBezTo>
                  <a:close/>
                  <a:moveTo>
                    <a:pt x="862" y="105"/>
                  </a:moveTo>
                  <a:cubicBezTo>
                    <a:pt x="862" y="103"/>
                    <a:pt x="862" y="101"/>
                    <a:pt x="861" y="99"/>
                  </a:cubicBezTo>
                  <a:cubicBezTo>
                    <a:pt x="861" y="101"/>
                    <a:pt x="862" y="103"/>
                    <a:pt x="862" y="105"/>
                  </a:cubicBezTo>
                  <a:close/>
                  <a:moveTo>
                    <a:pt x="644" y="67"/>
                  </a:moveTo>
                  <a:cubicBezTo>
                    <a:pt x="644" y="66"/>
                    <a:pt x="644" y="65"/>
                    <a:pt x="644" y="64"/>
                  </a:cubicBezTo>
                  <a:cubicBezTo>
                    <a:pt x="644" y="64"/>
                    <a:pt x="644" y="65"/>
                    <a:pt x="644" y="67"/>
                  </a:cubicBezTo>
                  <a:close/>
                  <a:moveTo>
                    <a:pt x="1092" y="106"/>
                  </a:moveTo>
                  <a:cubicBezTo>
                    <a:pt x="1092" y="103"/>
                    <a:pt x="1092" y="100"/>
                    <a:pt x="1091" y="96"/>
                  </a:cubicBezTo>
                  <a:cubicBezTo>
                    <a:pt x="1091" y="99"/>
                    <a:pt x="1092" y="103"/>
                    <a:pt x="1092" y="106"/>
                  </a:cubicBezTo>
                  <a:close/>
                  <a:moveTo>
                    <a:pt x="764" y="68"/>
                  </a:moveTo>
                  <a:cubicBezTo>
                    <a:pt x="764" y="68"/>
                    <a:pt x="764" y="71"/>
                    <a:pt x="764" y="75"/>
                  </a:cubicBezTo>
                  <a:cubicBezTo>
                    <a:pt x="764" y="72"/>
                    <a:pt x="764" y="70"/>
                    <a:pt x="764" y="68"/>
                  </a:cubicBezTo>
                  <a:close/>
                  <a:moveTo>
                    <a:pt x="771" y="62"/>
                  </a:moveTo>
                  <a:cubicBezTo>
                    <a:pt x="771" y="61"/>
                    <a:pt x="771" y="60"/>
                    <a:pt x="771" y="60"/>
                  </a:cubicBezTo>
                  <a:cubicBezTo>
                    <a:pt x="771" y="60"/>
                    <a:pt x="771" y="61"/>
                    <a:pt x="771" y="62"/>
                  </a:cubicBezTo>
                  <a:close/>
                  <a:moveTo>
                    <a:pt x="4239" y="67"/>
                  </a:moveTo>
                  <a:cubicBezTo>
                    <a:pt x="4239" y="66"/>
                    <a:pt x="4240" y="65"/>
                    <a:pt x="4239" y="64"/>
                  </a:cubicBezTo>
                  <a:cubicBezTo>
                    <a:pt x="4239" y="64"/>
                    <a:pt x="4239" y="65"/>
                    <a:pt x="4239" y="67"/>
                  </a:cubicBezTo>
                  <a:close/>
                  <a:moveTo>
                    <a:pt x="4593" y="47"/>
                  </a:moveTo>
                  <a:cubicBezTo>
                    <a:pt x="4593" y="39"/>
                    <a:pt x="4593" y="33"/>
                    <a:pt x="4591" y="30"/>
                  </a:cubicBezTo>
                  <a:cubicBezTo>
                    <a:pt x="4591" y="30"/>
                    <a:pt x="4592" y="37"/>
                    <a:pt x="4593" y="47"/>
                  </a:cubicBezTo>
                  <a:close/>
                  <a:moveTo>
                    <a:pt x="4518" y="54"/>
                  </a:moveTo>
                  <a:cubicBezTo>
                    <a:pt x="4518" y="53"/>
                    <a:pt x="4517" y="52"/>
                    <a:pt x="4517" y="52"/>
                  </a:cubicBezTo>
                  <a:cubicBezTo>
                    <a:pt x="4518" y="53"/>
                    <a:pt x="4518" y="53"/>
                    <a:pt x="4518" y="54"/>
                  </a:cubicBezTo>
                  <a:close/>
                  <a:moveTo>
                    <a:pt x="4633" y="54"/>
                  </a:moveTo>
                  <a:cubicBezTo>
                    <a:pt x="4633" y="54"/>
                    <a:pt x="4633" y="65"/>
                    <a:pt x="4632" y="84"/>
                  </a:cubicBezTo>
                  <a:cubicBezTo>
                    <a:pt x="4634" y="72"/>
                    <a:pt x="4635" y="60"/>
                    <a:pt x="4633" y="54"/>
                  </a:cubicBezTo>
                  <a:close/>
                  <a:moveTo>
                    <a:pt x="4513" y="90"/>
                  </a:moveTo>
                  <a:cubicBezTo>
                    <a:pt x="4513" y="89"/>
                    <a:pt x="4512" y="87"/>
                    <a:pt x="4511" y="86"/>
                  </a:cubicBezTo>
                  <a:cubicBezTo>
                    <a:pt x="4512" y="87"/>
                    <a:pt x="4513" y="89"/>
                    <a:pt x="4513" y="90"/>
                  </a:cubicBezTo>
                  <a:close/>
                  <a:moveTo>
                    <a:pt x="4688" y="106"/>
                  </a:moveTo>
                  <a:cubicBezTo>
                    <a:pt x="4688" y="103"/>
                    <a:pt x="4687" y="100"/>
                    <a:pt x="4687" y="96"/>
                  </a:cubicBezTo>
                  <a:cubicBezTo>
                    <a:pt x="4687" y="99"/>
                    <a:pt x="4688" y="103"/>
                    <a:pt x="4688" y="106"/>
                  </a:cubicBezTo>
                  <a:close/>
                  <a:moveTo>
                    <a:pt x="886" y="106"/>
                  </a:moveTo>
                  <a:cubicBezTo>
                    <a:pt x="886" y="103"/>
                    <a:pt x="885" y="101"/>
                    <a:pt x="885" y="99"/>
                  </a:cubicBezTo>
                  <a:cubicBezTo>
                    <a:pt x="885" y="101"/>
                    <a:pt x="885" y="103"/>
                    <a:pt x="886" y="106"/>
                  </a:cubicBezTo>
                  <a:close/>
                  <a:moveTo>
                    <a:pt x="4284" y="61"/>
                  </a:moveTo>
                  <a:cubicBezTo>
                    <a:pt x="4284" y="55"/>
                    <a:pt x="4283" y="49"/>
                    <a:pt x="4282" y="44"/>
                  </a:cubicBezTo>
                  <a:cubicBezTo>
                    <a:pt x="4282" y="44"/>
                    <a:pt x="4283" y="51"/>
                    <a:pt x="4284" y="61"/>
                  </a:cubicBezTo>
                  <a:close/>
                  <a:moveTo>
                    <a:pt x="4367" y="62"/>
                  </a:moveTo>
                  <a:cubicBezTo>
                    <a:pt x="4367" y="61"/>
                    <a:pt x="4367" y="60"/>
                    <a:pt x="4367" y="60"/>
                  </a:cubicBezTo>
                  <a:cubicBezTo>
                    <a:pt x="4367" y="60"/>
                    <a:pt x="4367" y="61"/>
                    <a:pt x="4367" y="62"/>
                  </a:cubicBezTo>
                  <a:close/>
                  <a:moveTo>
                    <a:pt x="4470" y="52"/>
                  </a:moveTo>
                  <a:cubicBezTo>
                    <a:pt x="4470" y="50"/>
                    <a:pt x="4470" y="49"/>
                    <a:pt x="4470" y="49"/>
                  </a:cubicBezTo>
                  <a:cubicBezTo>
                    <a:pt x="4470" y="50"/>
                    <a:pt x="4470" y="51"/>
                    <a:pt x="4470" y="52"/>
                  </a:cubicBezTo>
                  <a:close/>
                  <a:moveTo>
                    <a:pt x="4360" y="68"/>
                  </a:moveTo>
                  <a:cubicBezTo>
                    <a:pt x="4360" y="68"/>
                    <a:pt x="4360" y="71"/>
                    <a:pt x="4360" y="75"/>
                  </a:cubicBezTo>
                  <a:cubicBezTo>
                    <a:pt x="4360" y="72"/>
                    <a:pt x="4360" y="70"/>
                    <a:pt x="4360" y="68"/>
                  </a:cubicBezTo>
                  <a:close/>
                  <a:moveTo>
                    <a:pt x="4748" y="85"/>
                  </a:moveTo>
                  <a:cubicBezTo>
                    <a:pt x="4748" y="84"/>
                    <a:pt x="4748" y="84"/>
                    <a:pt x="4747" y="83"/>
                  </a:cubicBezTo>
                  <a:cubicBezTo>
                    <a:pt x="4748" y="84"/>
                    <a:pt x="4748" y="84"/>
                    <a:pt x="4748" y="85"/>
                  </a:cubicBezTo>
                  <a:close/>
                  <a:moveTo>
                    <a:pt x="4748" y="85"/>
                  </a:moveTo>
                  <a:cubicBezTo>
                    <a:pt x="4750" y="92"/>
                    <a:pt x="4750" y="108"/>
                    <a:pt x="4750" y="115"/>
                  </a:cubicBezTo>
                  <a:cubicBezTo>
                    <a:pt x="4750" y="127"/>
                    <a:pt x="4750" y="138"/>
                    <a:pt x="4752" y="150"/>
                  </a:cubicBezTo>
                  <a:cubicBezTo>
                    <a:pt x="4743" y="126"/>
                    <a:pt x="4740" y="99"/>
                    <a:pt x="4733" y="74"/>
                  </a:cubicBezTo>
                  <a:cubicBezTo>
                    <a:pt x="4736" y="91"/>
                    <a:pt x="4732" y="110"/>
                    <a:pt x="4732" y="128"/>
                  </a:cubicBezTo>
                  <a:cubicBezTo>
                    <a:pt x="4732" y="132"/>
                    <a:pt x="4733" y="136"/>
                    <a:pt x="4733" y="140"/>
                  </a:cubicBezTo>
                  <a:cubicBezTo>
                    <a:pt x="4733" y="145"/>
                    <a:pt x="4734" y="149"/>
                    <a:pt x="4735" y="154"/>
                  </a:cubicBezTo>
                  <a:cubicBezTo>
                    <a:pt x="4734" y="149"/>
                    <a:pt x="4733" y="145"/>
                    <a:pt x="4733" y="140"/>
                  </a:cubicBezTo>
                  <a:cubicBezTo>
                    <a:pt x="4730" y="120"/>
                    <a:pt x="4727" y="99"/>
                    <a:pt x="4722" y="80"/>
                  </a:cubicBezTo>
                  <a:cubicBezTo>
                    <a:pt x="4724" y="102"/>
                    <a:pt x="4714" y="126"/>
                    <a:pt x="4714" y="149"/>
                  </a:cubicBezTo>
                  <a:cubicBezTo>
                    <a:pt x="4714" y="156"/>
                    <a:pt x="4714" y="156"/>
                    <a:pt x="4714" y="156"/>
                  </a:cubicBezTo>
                  <a:cubicBezTo>
                    <a:pt x="4710" y="147"/>
                    <a:pt x="4710" y="132"/>
                    <a:pt x="4710" y="122"/>
                  </a:cubicBezTo>
                  <a:cubicBezTo>
                    <a:pt x="4710" y="100"/>
                    <a:pt x="4712" y="79"/>
                    <a:pt x="4711" y="57"/>
                  </a:cubicBezTo>
                  <a:cubicBezTo>
                    <a:pt x="4708" y="62"/>
                    <a:pt x="4707" y="112"/>
                    <a:pt x="4707" y="120"/>
                  </a:cubicBezTo>
                  <a:cubicBezTo>
                    <a:pt x="4707" y="133"/>
                    <a:pt x="4708" y="146"/>
                    <a:pt x="4711" y="159"/>
                  </a:cubicBezTo>
                  <a:cubicBezTo>
                    <a:pt x="4706" y="135"/>
                    <a:pt x="4700" y="108"/>
                    <a:pt x="4688" y="85"/>
                  </a:cubicBezTo>
                  <a:cubicBezTo>
                    <a:pt x="4699" y="106"/>
                    <a:pt x="4694" y="132"/>
                    <a:pt x="4701" y="154"/>
                  </a:cubicBezTo>
                  <a:cubicBezTo>
                    <a:pt x="4693" y="142"/>
                    <a:pt x="4691" y="122"/>
                    <a:pt x="4688" y="106"/>
                  </a:cubicBezTo>
                  <a:cubicBezTo>
                    <a:pt x="4690" y="120"/>
                    <a:pt x="4688" y="134"/>
                    <a:pt x="4690" y="148"/>
                  </a:cubicBezTo>
                  <a:cubicBezTo>
                    <a:pt x="4691" y="151"/>
                    <a:pt x="4692" y="153"/>
                    <a:pt x="4692" y="155"/>
                  </a:cubicBezTo>
                  <a:cubicBezTo>
                    <a:pt x="4691" y="153"/>
                    <a:pt x="4691" y="151"/>
                    <a:pt x="4690" y="148"/>
                  </a:cubicBezTo>
                  <a:cubicBezTo>
                    <a:pt x="4685" y="128"/>
                    <a:pt x="4673" y="75"/>
                    <a:pt x="4661" y="68"/>
                  </a:cubicBezTo>
                  <a:cubicBezTo>
                    <a:pt x="4678" y="90"/>
                    <a:pt x="4676" y="127"/>
                    <a:pt x="4680" y="153"/>
                  </a:cubicBezTo>
                  <a:cubicBezTo>
                    <a:pt x="4676" y="134"/>
                    <a:pt x="4669" y="113"/>
                    <a:pt x="4660" y="95"/>
                  </a:cubicBezTo>
                  <a:cubicBezTo>
                    <a:pt x="4667" y="115"/>
                    <a:pt x="4666" y="136"/>
                    <a:pt x="4675" y="155"/>
                  </a:cubicBezTo>
                  <a:cubicBezTo>
                    <a:pt x="4662" y="144"/>
                    <a:pt x="4655" y="117"/>
                    <a:pt x="4651" y="102"/>
                  </a:cubicBezTo>
                  <a:cubicBezTo>
                    <a:pt x="4651" y="120"/>
                    <a:pt x="4656" y="143"/>
                    <a:pt x="4667" y="158"/>
                  </a:cubicBezTo>
                  <a:cubicBezTo>
                    <a:pt x="4653" y="144"/>
                    <a:pt x="4648" y="103"/>
                    <a:pt x="4643" y="85"/>
                  </a:cubicBezTo>
                  <a:cubicBezTo>
                    <a:pt x="4642" y="88"/>
                    <a:pt x="4642" y="91"/>
                    <a:pt x="4642" y="94"/>
                  </a:cubicBezTo>
                  <a:cubicBezTo>
                    <a:pt x="4642" y="113"/>
                    <a:pt x="4647" y="142"/>
                    <a:pt x="4659" y="159"/>
                  </a:cubicBezTo>
                  <a:cubicBezTo>
                    <a:pt x="4645" y="143"/>
                    <a:pt x="4640" y="123"/>
                    <a:pt x="4634" y="104"/>
                  </a:cubicBezTo>
                  <a:cubicBezTo>
                    <a:pt x="4638" y="122"/>
                    <a:pt x="4638" y="140"/>
                    <a:pt x="4647" y="158"/>
                  </a:cubicBezTo>
                  <a:cubicBezTo>
                    <a:pt x="4637" y="147"/>
                    <a:pt x="4632" y="132"/>
                    <a:pt x="4628" y="117"/>
                  </a:cubicBezTo>
                  <a:cubicBezTo>
                    <a:pt x="4630" y="105"/>
                    <a:pt x="4631" y="93"/>
                    <a:pt x="4632" y="84"/>
                  </a:cubicBezTo>
                  <a:cubicBezTo>
                    <a:pt x="4630" y="92"/>
                    <a:pt x="4628" y="101"/>
                    <a:pt x="4626" y="109"/>
                  </a:cubicBezTo>
                  <a:cubicBezTo>
                    <a:pt x="4625" y="102"/>
                    <a:pt x="4623" y="95"/>
                    <a:pt x="4621" y="89"/>
                  </a:cubicBezTo>
                  <a:cubicBezTo>
                    <a:pt x="4624" y="64"/>
                    <a:pt x="4628" y="40"/>
                    <a:pt x="4628" y="40"/>
                  </a:cubicBezTo>
                  <a:cubicBezTo>
                    <a:pt x="4623" y="51"/>
                    <a:pt x="4618" y="77"/>
                    <a:pt x="4615" y="100"/>
                  </a:cubicBezTo>
                  <a:cubicBezTo>
                    <a:pt x="4613" y="95"/>
                    <a:pt x="4610" y="90"/>
                    <a:pt x="4609" y="86"/>
                  </a:cubicBezTo>
                  <a:cubicBezTo>
                    <a:pt x="4608" y="70"/>
                    <a:pt x="4606" y="58"/>
                    <a:pt x="4606" y="60"/>
                  </a:cubicBezTo>
                  <a:cubicBezTo>
                    <a:pt x="4606" y="61"/>
                    <a:pt x="4606" y="69"/>
                    <a:pt x="4605" y="80"/>
                  </a:cubicBezTo>
                  <a:cubicBezTo>
                    <a:pt x="4604" y="79"/>
                    <a:pt x="4604" y="78"/>
                    <a:pt x="4603" y="78"/>
                  </a:cubicBezTo>
                  <a:cubicBezTo>
                    <a:pt x="4604" y="79"/>
                    <a:pt x="4604" y="80"/>
                    <a:pt x="4605" y="81"/>
                  </a:cubicBezTo>
                  <a:cubicBezTo>
                    <a:pt x="4604" y="87"/>
                    <a:pt x="4604" y="95"/>
                    <a:pt x="4603" y="102"/>
                  </a:cubicBezTo>
                  <a:cubicBezTo>
                    <a:pt x="4603" y="102"/>
                    <a:pt x="4603" y="102"/>
                    <a:pt x="4603" y="102"/>
                  </a:cubicBezTo>
                  <a:cubicBezTo>
                    <a:pt x="4603" y="103"/>
                    <a:pt x="4603" y="103"/>
                    <a:pt x="4603" y="103"/>
                  </a:cubicBezTo>
                  <a:cubicBezTo>
                    <a:pt x="4602" y="113"/>
                    <a:pt x="4602" y="123"/>
                    <a:pt x="4601" y="130"/>
                  </a:cubicBezTo>
                  <a:cubicBezTo>
                    <a:pt x="4601" y="130"/>
                    <a:pt x="4600" y="129"/>
                    <a:pt x="4600" y="128"/>
                  </a:cubicBezTo>
                  <a:cubicBezTo>
                    <a:pt x="4600" y="107"/>
                    <a:pt x="4596" y="69"/>
                    <a:pt x="4593" y="47"/>
                  </a:cubicBezTo>
                  <a:cubicBezTo>
                    <a:pt x="4594" y="64"/>
                    <a:pt x="4593" y="87"/>
                    <a:pt x="4592" y="107"/>
                  </a:cubicBezTo>
                  <a:cubicBezTo>
                    <a:pt x="4591" y="105"/>
                    <a:pt x="4590" y="104"/>
                    <a:pt x="4589" y="102"/>
                  </a:cubicBezTo>
                  <a:cubicBezTo>
                    <a:pt x="4590" y="104"/>
                    <a:pt x="4591" y="106"/>
                    <a:pt x="4591" y="107"/>
                  </a:cubicBezTo>
                  <a:cubicBezTo>
                    <a:pt x="4591" y="114"/>
                    <a:pt x="4591" y="121"/>
                    <a:pt x="4590" y="126"/>
                  </a:cubicBezTo>
                  <a:cubicBezTo>
                    <a:pt x="4590" y="125"/>
                    <a:pt x="4589" y="123"/>
                    <a:pt x="4589" y="122"/>
                  </a:cubicBezTo>
                  <a:cubicBezTo>
                    <a:pt x="4588" y="93"/>
                    <a:pt x="4584" y="46"/>
                    <a:pt x="4584" y="46"/>
                  </a:cubicBezTo>
                  <a:cubicBezTo>
                    <a:pt x="4583" y="65"/>
                    <a:pt x="4577" y="142"/>
                    <a:pt x="4577" y="142"/>
                  </a:cubicBezTo>
                  <a:cubicBezTo>
                    <a:pt x="4571" y="106"/>
                    <a:pt x="4578" y="0"/>
                    <a:pt x="4578" y="0"/>
                  </a:cubicBezTo>
                  <a:cubicBezTo>
                    <a:pt x="4572" y="16"/>
                    <a:pt x="4566" y="131"/>
                    <a:pt x="4566" y="131"/>
                  </a:cubicBezTo>
                  <a:cubicBezTo>
                    <a:pt x="4564" y="36"/>
                    <a:pt x="4560" y="32"/>
                    <a:pt x="4560" y="32"/>
                  </a:cubicBezTo>
                  <a:cubicBezTo>
                    <a:pt x="4562" y="43"/>
                    <a:pt x="4559" y="76"/>
                    <a:pt x="4556" y="103"/>
                  </a:cubicBezTo>
                  <a:cubicBezTo>
                    <a:pt x="4555" y="102"/>
                    <a:pt x="4554" y="100"/>
                    <a:pt x="4553" y="99"/>
                  </a:cubicBezTo>
                  <a:cubicBezTo>
                    <a:pt x="4554" y="101"/>
                    <a:pt x="4555" y="103"/>
                    <a:pt x="4556" y="104"/>
                  </a:cubicBezTo>
                  <a:cubicBezTo>
                    <a:pt x="4555" y="112"/>
                    <a:pt x="4554" y="120"/>
                    <a:pt x="4553" y="126"/>
                  </a:cubicBezTo>
                  <a:cubicBezTo>
                    <a:pt x="4553" y="124"/>
                    <a:pt x="4553" y="123"/>
                    <a:pt x="4553" y="122"/>
                  </a:cubicBezTo>
                  <a:cubicBezTo>
                    <a:pt x="4553" y="94"/>
                    <a:pt x="4552" y="48"/>
                    <a:pt x="4552" y="48"/>
                  </a:cubicBezTo>
                  <a:cubicBezTo>
                    <a:pt x="4551" y="55"/>
                    <a:pt x="4548" y="82"/>
                    <a:pt x="4545" y="106"/>
                  </a:cubicBezTo>
                  <a:cubicBezTo>
                    <a:pt x="4544" y="104"/>
                    <a:pt x="4543" y="102"/>
                    <a:pt x="4543" y="100"/>
                  </a:cubicBezTo>
                  <a:cubicBezTo>
                    <a:pt x="4546" y="60"/>
                    <a:pt x="4550" y="9"/>
                    <a:pt x="4550" y="9"/>
                  </a:cubicBezTo>
                  <a:cubicBezTo>
                    <a:pt x="4545" y="23"/>
                    <a:pt x="4538" y="83"/>
                    <a:pt x="4535" y="117"/>
                  </a:cubicBezTo>
                  <a:cubicBezTo>
                    <a:pt x="4534" y="114"/>
                    <a:pt x="4533" y="111"/>
                    <a:pt x="4532" y="108"/>
                  </a:cubicBezTo>
                  <a:cubicBezTo>
                    <a:pt x="4532" y="90"/>
                    <a:pt x="4530" y="72"/>
                    <a:pt x="4530" y="72"/>
                  </a:cubicBezTo>
                  <a:cubicBezTo>
                    <a:pt x="4530" y="76"/>
                    <a:pt x="4530" y="84"/>
                    <a:pt x="4529" y="94"/>
                  </a:cubicBezTo>
                  <a:cubicBezTo>
                    <a:pt x="4528" y="91"/>
                    <a:pt x="4526" y="88"/>
                    <a:pt x="4525" y="84"/>
                  </a:cubicBezTo>
                  <a:cubicBezTo>
                    <a:pt x="4526" y="88"/>
                    <a:pt x="4528" y="92"/>
                    <a:pt x="4528" y="96"/>
                  </a:cubicBezTo>
                  <a:cubicBezTo>
                    <a:pt x="4528" y="99"/>
                    <a:pt x="4528" y="103"/>
                    <a:pt x="4527" y="107"/>
                  </a:cubicBezTo>
                  <a:cubicBezTo>
                    <a:pt x="4527" y="106"/>
                    <a:pt x="4527" y="106"/>
                    <a:pt x="4527" y="105"/>
                  </a:cubicBezTo>
                  <a:cubicBezTo>
                    <a:pt x="4526" y="107"/>
                    <a:pt x="4526" y="112"/>
                    <a:pt x="4526" y="116"/>
                  </a:cubicBezTo>
                  <a:cubicBezTo>
                    <a:pt x="4525" y="121"/>
                    <a:pt x="4525" y="126"/>
                    <a:pt x="4524" y="130"/>
                  </a:cubicBezTo>
                  <a:cubicBezTo>
                    <a:pt x="4524" y="129"/>
                    <a:pt x="4524" y="128"/>
                    <a:pt x="4524" y="127"/>
                  </a:cubicBezTo>
                  <a:cubicBezTo>
                    <a:pt x="4524" y="101"/>
                    <a:pt x="4519" y="63"/>
                    <a:pt x="4518" y="54"/>
                  </a:cubicBezTo>
                  <a:cubicBezTo>
                    <a:pt x="4518" y="61"/>
                    <a:pt x="4517" y="79"/>
                    <a:pt x="4516" y="96"/>
                  </a:cubicBezTo>
                  <a:cubicBezTo>
                    <a:pt x="4515" y="94"/>
                    <a:pt x="4514" y="92"/>
                    <a:pt x="4513" y="90"/>
                  </a:cubicBezTo>
                  <a:cubicBezTo>
                    <a:pt x="4514" y="93"/>
                    <a:pt x="4515" y="95"/>
                    <a:pt x="4516" y="97"/>
                  </a:cubicBezTo>
                  <a:cubicBezTo>
                    <a:pt x="4514" y="118"/>
                    <a:pt x="4511" y="137"/>
                    <a:pt x="4511" y="137"/>
                  </a:cubicBezTo>
                  <a:cubicBezTo>
                    <a:pt x="4511" y="136"/>
                    <a:pt x="4511" y="134"/>
                    <a:pt x="4511" y="133"/>
                  </a:cubicBezTo>
                  <a:cubicBezTo>
                    <a:pt x="4511" y="125"/>
                    <a:pt x="4511" y="118"/>
                    <a:pt x="4510" y="110"/>
                  </a:cubicBezTo>
                  <a:cubicBezTo>
                    <a:pt x="4509" y="76"/>
                    <a:pt x="4508" y="40"/>
                    <a:pt x="4508" y="40"/>
                  </a:cubicBezTo>
                  <a:cubicBezTo>
                    <a:pt x="4508" y="49"/>
                    <a:pt x="4503" y="79"/>
                    <a:pt x="4499" y="104"/>
                  </a:cubicBezTo>
                  <a:cubicBezTo>
                    <a:pt x="4499" y="99"/>
                    <a:pt x="4498" y="95"/>
                    <a:pt x="4497" y="90"/>
                  </a:cubicBezTo>
                  <a:cubicBezTo>
                    <a:pt x="4498" y="67"/>
                    <a:pt x="4499" y="45"/>
                    <a:pt x="4499" y="45"/>
                  </a:cubicBezTo>
                  <a:cubicBezTo>
                    <a:pt x="4499" y="53"/>
                    <a:pt x="4493" y="75"/>
                    <a:pt x="4486" y="96"/>
                  </a:cubicBezTo>
                  <a:cubicBezTo>
                    <a:pt x="4485" y="93"/>
                    <a:pt x="4484" y="89"/>
                    <a:pt x="4482" y="85"/>
                  </a:cubicBezTo>
                  <a:cubicBezTo>
                    <a:pt x="4489" y="51"/>
                    <a:pt x="4497" y="17"/>
                    <a:pt x="4497" y="17"/>
                  </a:cubicBezTo>
                  <a:cubicBezTo>
                    <a:pt x="4492" y="24"/>
                    <a:pt x="4477" y="95"/>
                    <a:pt x="4470" y="130"/>
                  </a:cubicBezTo>
                  <a:cubicBezTo>
                    <a:pt x="4470" y="130"/>
                    <a:pt x="4470" y="130"/>
                    <a:pt x="4470" y="130"/>
                  </a:cubicBezTo>
                  <a:cubicBezTo>
                    <a:pt x="4474" y="100"/>
                    <a:pt x="4471" y="63"/>
                    <a:pt x="4470" y="52"/>
                  </a:cubicBezTo>
                  <a:cubicBezTo>
                    <a:pt x="4472" y="72"/>
                    <a:pt x="4466" y="109"/>
                    <a:pt x="4462" y="128"/>
                  </a:cubicBezTo>
                  <a:cubicBezTo>
                    <a:pt x="4462" y="126"/>
                    <a:pt x="4462" y="123"/>
                    <a:pt x="4461" y="120"/>
                  </a:cubicBezTo>
                  <a:cubicBezTo>
                    <a:pt x="4463" y="99"/>
                    <a:pt x="4465" y="71"/>
                    <a:pt x="4466" y="65"/>
                  </a:cubicBezTo>
                  <a:cubicBezTo>
                    <a:pt x="4465" y="71"/>
                    <a:pt x="4462" y="89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4" y="125"/>
                    <a:pt x="4451" y="143"/>
                    <a:pt x="4451" y="143"/>
                  </a:cubicBezTo>
                  <a:cubicBezTo>
                    <a:pt x="4461" y="38"/>
                    <a:pt x="4454" y="25"/>
                    <a:pt x="4454" y="25"/>
                  </a:cubicBezTo>
                  <a:cubicBezTo>
                    <a:pt x="4457" y="42"/>
                    <a:pt x="4454" y="72"/>
                    <a:pt x="4449" y="96"/>
                  </a:cubicBezTo>
                  <a:cubicBezTo>
                    <a:pt x="4448" y="89"/>
                    <a:pt x="4446" y="80"/>
                    <a:pt x="4443" y="73"/>
                  </a:cubicBezTo>
                  <a:cubicBezTo>
                    <a:pt x="4442" y="65"/>
                    <a:pt x="4442" y="60"/>
                    <a:pt x="4442" y="60"/>
                  </a:cubicBezTo>
                  <a:cubicBezTo>
                    <a:pt x="4442" y="63"/>
                    <a:pt x="4442" y="67"/>
                    <a:pt x="4441" y="71"/>
                  </a:cubicBezTo>
                  <a:cubicBezTo>
                    <a:pt x="4440" y="69"/>
                    <a:pt x="4439" y="67"/>
                    <a:pt x="4437" y="65"/>
                  </a:cubicBezTo>
                  <a:cubicBezTo>
                    <a:pt x="4439" y="67"/>
                    <a:pt x="4440" y="70"/>
                    <a:pt x="4441" y="73"/>
                  </a:cubicBezTo>
                  <a:cubicBezTo>
                    <a:pt x="4441" y="82"/>
                    <a:pt x="4440" y="92"/>
                    <a:pt x="4438" y="101"/>
                  </a:cubicBezTo>
                  <a:cubicBezTo>
                    <a:pt x="4438" y="95"/>
                    <a:pt x="4435" y="88"/>
                    <a:pt x="4430" y="83"/>
                  </a:cubicBezTo>
                  <a:cubicBezTo>
                    <a:pt x="4430" y="74"/>
                    <a:pt x="4431" y="68"/>
                    <a:pt x="4431" y="68"/>
                  </a:cubicBezTo>
                  <a:cubicBezTo>
                    <a:pt x="4430" y="72"/>
                    <a:pt x="4429" y="76"/>
                    <a:pt x="4428" y="81"/>
                  </a:cubicBezTo>
                  <a:cubicBezTo>
                    <a:pt x="4428" y="81"/>
                    <a:pt x="4427" y="81"/>
                    <a:pt x="4427" y="80"/>
                  </a:cubicBezTo>
                  <a:cubicBezTo>
                    <a:pt x="4427" y="81"/>
                    <a:pt x="4428" y="81"/>
                    <a:pt x="4428" y="82"/>
                  </a:cubicBezTo>
                  <a:cubicBezTo>
                    <a:pt x="4425" y="101"/>
                    <a:pt x="4424" y="130"/>
                    <a:pt x="4424" y="142"/>
                  </a:cubicBezTo>
                  <a:cubicBezTo>
                    <a:pt x="4424" y="143"/>
                    <a:pt x="4423" y="144"/>
                    <a:pt x="4423" y="144"/>
                  </a:cubicBezTo>
                  <a:cubicBezTo>
                    <a:pt x="4422" y="141"/>
                    <a:pt x="4422" y="136"/>
                    <a:pt x="4422" y="131"/>
                  </a:cubicBezTo>
                  <a:cubicBezTo>
                    <a:pt x="4423" y="121"/>
                    <a:pt x="4425" y="112"/>
                    <a:pt x="4426" y="103"/>
                  </a:cubicBezTo>
                  <a:cubicBezTo>
                    <a:pt x="4425" y="108"/>
                    <a:pt x="4424" y="112"/>
                    <a:pt x="4423" y="117"/>
                  </a:cubicBezTo>
                  <a:cubicBezTo>
                    <a:pt x="4424" y="85"/>
                    <a:pt x="4430" y="45"/>
                    <a:pt x="4430" y="45"/>
                  </a:cubicBezTo>
                  <a:cubicBezTo>
                    <a:pt x="4423" y="60"/>
                    <a:pt x="4418" y="95"/>
                    <a:pt x="4416" y="120"/>
                  </a:cubicBezTo>
                  <a:cubicBezTo>
                    <a:pt x="4416" y="123"/>
                    <a:pt x="4415" y="125"/>
                    <a:pt x="4414" y="127"/>
                  </a:cubicBezTo>
                  <a:cubicBezTo>
                    <a:pt x="4413" y="103"/>
                    <a:pt x="4413" y="70"/>
                    <a:pt x="4413" y="70"/>
                  </a:cubicBezTo>
                  <a:cubicBezTo>
                    <a:pt x="4413" y="72"/>
                    <a:pt x="4413" y="76"/>
                    <a:pt x="4412" y="81"/>
                  </a:cubicBezTo>
                  <a:cubicBezTo>
                    <a:pt x="4411" y="73"/>
                    <a:pt x="4409" y="66"/>
                    <a:pt x="4406" y="60"/>
                  </a:cubicBezTo>
                  <a:cubicBezTo>
                    <a:pt x="4407" y="52"/>
                    <a:pt x="4407" y="46"/>
                    <a:pt x="4407" y="46"/>
                  </a:cubicBezTo>
                  <a:cubicBezTo>
                    <a:pt x="4405" y="51"/>
                    <a:pt x="4403" y="64"/>
                    <a:pt x="4402" y="79"/>
                  </a:cubicBezTo>
                  <a:cubicBezTo>
                    <a:pt x="4401" y="77"/>
                    <a:pt x="4401" y="75"/>
                    <a:pt x="4400" y="74"/>
                  </a:cubicBezTo>
                  <a:cubicBezTo>
                    <a:pt x="4399" y="83"/>
                    <a:pt x="4399" y="92"/>
                    <a:pt x="4399" y="102"/>
                  </a:cubicBezTo>
                  <a:cubicBezTo>
                    <a:pt x="4399" y="108"/>
                    <a:pt x="4398" y="115"/>
                    <a:pt x="4397" y="121"/>
                  </a:cubicBezTo>
                  <a:cubicBezTo>
                    <a:pt x="4397" y="123"/>
                    <a:pt x="4396" y="125"/>
                    <a:pt x="4396" y="127"/>
                  </a:cubicBezTo>
                  <a:cubicBezTo>
                    <a:pt x="4396" y="35"/>
                    <a:pt x="4394" y="34"/>
                    <a:pt x="4394" y="34"/>
                  </a:cubicBezTo>
                  <a:cubicBezTo>
                    <a:pt x="4396" y="49"/>
                    <a:pt x="4392" y="77"/>
                    <a:pt x="4388" y="102"/>
                  </a:cubicBezTo>
                  <a:cubicBezTo>
                    <a:pt x="4387" y="94"/>
                    <a:pt x="4385" y="85"/>
                    <a:pt x="4381" y="76"/>
                  </a:cubicBezTo>
                  <a:cubicBezTo>
                    <a:pt x="4382" y="70"/>
                    <a:pt x="4382" y="66"/>
                    <a:pt x="4382" y="66"/>
                  </a:cubicBezTo>
                  <a:cubicBezTo>
                    <a:pt x="4382" y="68"/>
                    <a:pt x="4381" y="71"/>
                    <a:pt x="4380" y="74"/>
                  </a:cubicBezTo>
                  <a:cubicBezTo>
                    <a:pt x="4380" y="73"/>
                    <a:pt x="4379" y="72"/>
                    <a:pt x="4378" y="71"/>
                  </a:cubicBezTo>
                  <a:cubicBezTo>
                    <a:pt x="4379" y="73"/>
                    <a:pt x="4379" y="74"/>
                    <a:pt x="4380" y="76"/>
                  </a:cubicBezTo>
                  <a:cubicBezTo>
                    <a:pt x="4378" y="83"/>
                    <a:pt x="4376" y="93"/>
                    <a:pt x="4374" y="103"/>
                  </a:cubicBezTo>
                  <a:cubicBezTo>
                    <a:pt x="4374" y="98"/>
                    <a:pt x="4373" y="94"/>
                    <a:pt x="4372" y="89"/>
                  </a:cubicBezTo>
                  <a:cubicBezTo>
                    <a:pt x="4373" y="96"/>
                    <a:pt x="4371" y="104"/>
                    <a:pt x="4369" y="112"/>
                  </a:cubicBezTo>
                  <a:cubicBezTo>
                    <a:pt x="4369" y="92"/>
                    <a:pt x="4368" y="70"/>
                    <a:pt x="4367" y="62"/>
                  </a:cubicBezTo>
                  <a:cubicBezTo>
                    <a:pt x="4367" y="67"/>
                    <a:pt x="4367" y="74"/>
                    <a:pt x="4367" y="82"/>
                  </a:cubicBezTo>
                  <a:cubicBezTo>
                    <a:pt x="4365" y="87"/>
                    <a:pt x="4362" y="94"/>
                    <a:pt x="4360" y="101"/>
                  </a:cubicBezTo>
                  <a:cubicBezTo>
                    <a:pt x="4360" y="91"/>
                    <a:pt x="4360" y="82"/>
                    <a:pt x="4360" y="75"/>
                  </a:cubicBezTo>
                  <a:cubicBezTo>
                    <a:pt x="4359" y="86"/>
                    <a:pt x="4357" y="102"/>
                    <a:pt x="4355" y="116"/>
                  </a:cubicBezTo>
                  <a:cubicBezTo>
                    <a:pt x="4353" y="123"/>
                    <a:pt x="4351" y="130"/>
                    <a:pt x="4349" y="136"/>
                  </a:cubicBezTo>
                  <a:cubicBezTo>
                    <a:pt x="4349" y="118"/>
                    <a:pt x="4352" y="89"/>
                    <a:pt x="4352" y="89"/>
                  </a:cubicBezTo>
                  <a:cubicBezTo>
                    <a:pt x="4351" y="93"/>
                    <a:pt x="4349" y="99"/>
                    <a:pt x="4347" y="106"/>
                  </a:cubicBezTo>
                  <a:cubicBezTo>
                    <a:pt x="4347" y="104"/>
                    <a:pt x="4347" y="101"/>
                    <a:pt x="4346" y="99"/>
                  </a:cubicBezTo>
                  <a:cubicBezTo>
                    <a:pt x="4346" y="96"/>
                    <a:pt x="4346" y="96"/>
                    <a:pt x="4346" y="96"/>
                  </a:cubicBezTo>
                  <a:cubicBezTo>
                    <a:pt x="4345" y="95"/>
                    <a:pt x="4345" y="95"/>
                    <a:pt x="4345" y="95"/>
                  </a:cubicBezTo>
                  <a:cubicBezTo>
                    <a:pt x="4345" y="104"/>
                    <a:pt x="4343" y="113"/>
                    <a:pt x="4341" y="122"/>
                  </a:cubicBezTo>
                  <a:cubicBezTo>
                    <a:pt x="4339" y="127"/>
                    <a:pt x="4338" y="131"/>
                    <a:pt x="4336" y="134"/>
                  </a:cubicBezTo>
                  <a:cubicBezTo>
                    <a:pt x="4336" y="130"/>
                    <a:pt x="4336" y="126"/>
                    <a:pt x="4336" y="122"/>
                  </a:cubicBezTo>
                  <a:cubicBezTo>
                    <a:pt x="4340" y="102"/>
                    <a:pt x="4347" y="76"/>
                    <a:pt x="4347" y="76"/>
                  </a:cubicBezTo>
                  <a:cubicBezTo>
                    <a:pt x="4342" y="82"/>
                    <a:pt x="4337" y="94"/>
                    <a:pt x="4333" y="105"/>
                  </a:cubicBezTo>
                  <a:cubicBezTo>
                    <a:pt x="4332" y="102"/>
                    <a:pt x="4331" y="98"/>
                    <a:pt x="4330" y="95"/>
                  </a:cubicBezTo>
                  <a:cubicBezTo>
                    <a:pt x="4331" y="74"/>
                    <a:pt x="4327" y="62"/>
                    <a:pt x="4327" y="62"/>
                  </a:cubicBezTo>
                  <a:cubicBezTo>
                    <a:pt x="4329" y="69"/>
                    <a:pt x="4329" y="78"/>
                    <a:pt x="4328" y="88"/>
                  </a:cubicBezTo>
                  <a:cubicBezTo>
                    <a:pt x="4325" y="83"/>
                    <a:pt x="4322" y="78"/>
                    <a:pt x="4318" y="73"/>
                  </a:cubicBezTo>
                  <a:cubicBezTo>
                    <a:pt x="4322" y="80"/>
                    <a:pt x="4325" y="92"/>
                    <a:pt x="4326" y="102"/>
                  </a:cubicBezTo>
                  <a:cubicBezTo>
                    <a:pt x="4325" y="108"/>
                    <a:pt x="4324" y="115"/>
                    <a:pt x="4323" y="120"/>
                  </a:cubicBezTo>
                  <a:cubicBezTo>
                    <a:pt x="4322" y="113"/>
                    <a:pt x="4321" y="106"/>
                    <a:pt x="4319" y="100"/>
                  </a:cubicBezTo>
                  <a:cubicBezTo>
                    <a:pt x="4320" y="89"/>
                    <a:pt x="4320" y="82"/>
                    <a:pt x="4320" y="82"/>
                  </a:cubicBezTo>
                  <a:cubicBezTo>
                    <a:pt x="4319" y="98"/>
                    <a:pt x="4319" y="98"/>
                    <a:pt x="4319" y="98"/>
                  </a:cubicBezTo>
                  <a:cubicBezTo>
                    <a:pt x="4318" y="94"/>
                    <a:pt x="4317" y="91"/>
                    <a:pt x="4315" y="88"/>
                  </a:cubicBezTo>
                  <a:cubicBezTo>
                    <a:pt x="4315" y="73"/>
                    <a:pt x="4314" y="60"/>
                    <a:pt x="4314" y="60"/>
                  </a:cubicBezTo>
                  <a:cubicBezTo>
                    <a:pt x="4314" y="72"/>
                    <a:pt x="4311" y="90"/>
                    <a:pt x="4311" y="90"/>
                  </a:cubicBezTo>
                  <a:cubicBezTo>
                    <a:pt x="4309" y="84"/>
                    <a:pt x="4309" y="64"/>
                    <a:pt x="4309" y="64"/>
                  </a:cubicBezTo>
                  <a:cubicBezTo>
                    <a:pt x="4309" y="68"/>
                    <a:pt x="4308" y="83"/>
                    <a:pt x="4306" y="98"/>
                  </a:cubicBezTo>
                  <a:cubicBezTo>
                    <a:pt x="4306" y="96"/>
                    <a:pt x="4305" y="95"/>
                    <a:pt x="4305" y="93"/>
                  </a:cubicBezTo>
                  <a:cubicBezTo>
                    <a:pt x="4304" y="88"/>
                    <a:pt x="4302" y="82"/>
                    <a:pt x="4300" y="76"/>
                  </a:cubicBezTo>
                  <a:cubicBezTo>
                    <a:pt x="4300" y="57"/>
                    <a:pt x="4300" y="42"/>
                    <a:pt x="4300" y="42"/>
                  </a:cubicBezTo>
                  <a:cubicBezTo>
                    <a:pt x="4300" y="49"/>
                    <a:pt x="4300" y="59"/>
                    <a:pt x="4299" y="70"/>
                  </a:cubicBezTo>
                  <a:cubicBezTo>
                    <a:pt x="4296" y="64"/>
                    <a:pt x="4294" y="57"/>
                    <a:pt x="4291" y="51"/>
                  </a:cubicBezTo>
                  <a:cubicBezTo>
                    <a:pt x="4290" y="52"/>
                    <a:pt x="4290" y="54"/>
                    <a:pt x="4290" y="55"/>
                  </a:cubicBezTo>
                  <a:cubicBezTo>
                    <a:pt x="4293" y="65"/>
                    <a:pt x="4296" y="74"/>
                    <a:pt x="4297" y="82"/>
                  </a:cubicBezTo>
                  <a:cubicBezTo>
                    <a:pt x="4297" y="88"/>
                    <a:pt x="4296" y="94"/>
                    <a:pt x="4295" y="100"/>
                  </a:cubicBezTo>
                  <a:cubicBezTo>
                    <a:pt x="4294" y="96"/>
                    <a:pt x="4293" y="92"/>
                    <a:pt x="4292" y="88"/>
                  </a:cubicBezTo>
                  <a:cubicBezTo>
                    <a:pt x="4293" y="78"/>
                    <a:pt x="4294" y="70"/>
                    <a:pt x="4294" y="70"/>
                  </a:cubicBezTo>
                  <a:cubicBezTo>
                    <a:pt x="4293" y="72"/>
                    <a:pt x="4292" y="78"/>
                    <a:pt x="4291" y="85"/>
                  </a:cubicBezTo>
                  <a:cubicBezTo>
                    <a:pt x="4289" y="82"/>
                    <a:pt x="4287" y="79"/>
                    <a:pt x="4285" y="76"/>
                  </a:cubicBezTo>
                  <a:cubicBezTo>
                    <a:pt x="4284" y="71"/>
                    <a:pt x="4284" y="66"/>
                    <a:pt x="4284" y="61"/>
                  </a:cubicBezTo>
                  <a:cubicBezTo>
                    <a:pt x="4283" y="73"/>
                    <a:pt x="4281" y="87"/>
                    <a:pt x="4279" y="101"/>
                  </a:cubicBezTo>
                  <a:cubicBezTo>
                    <a:pt x="4277" y="95"/>
                    <a:pt x="4275" y="90"/>
                    <a:pt x="4273" y="86"/>
                  </a:cubicBezTo>
                  <a:cubicBezTo>
                    <a:pt x="4274" y="73"/>
                    <a:pt x="4274" y="64"/>
                    <a:pt x="4274" y="64"/>
                  </a:cubicBezTo>
                  <a:cubicBezTo>
                    <a:pt x="4274" y="71"/>
                    <a:pt x="4272" y="82"/>
                    <a:pt x="4270" y="95"/>
                  </a:cubicBezTo>
                  <a:cubicBezTo>
                    <a:pt x="4268" y="87"/>
                    <a:pt x="4266" y="79"/>
                    <a:pt x="4262" y="71"/>
                  </a:cubicBezTo>
                  <a:cubicBezTo>
                    <a:pt x="4264" y="49"/>
                    <a:pt x="4265" y="30"/>
                    <a:pt x="4265" y="30"/>
                  </a:cubicBezTo>
                  <a:cubicBezTo>
                    <a:pt x="4263" y="35"/>
                    <a:pt x="4261" y="49"/>
                    <a:pt x="4259" y="65"/>
                  </a:cubicBezTo>
                  <a:cubicBezTo>
                    <a:pt x="4258" y="62"/>
                    <a:pt x="4256" y="59"/>
                    <a:pt x="4254" y="56"/>
                  </a:cubicBezTo>
                  <a:cubicBezTo>
                    <a:pt x="4254" y="63"/>
                    <a:pt x="4256" y="70"/>
                    <a:pt x="4258" y="78"/>
                  </a:cubicBezTo>
                  <a:cubicBezTo>
                    <a:pt x="4257" y="87"/>
                    <a:pt x="4256" y="97"/>
                    <a:pt x="4255" y="106"/>
                  </a:cubicBezTo>
                  <a:cubicBezTo>
                    <a:pt x="4255" y="105"/>
                    <a:pt x="4255" y="104"/>
                    <a:pt x="4254" y="103"/>
                  </a:cubicBezTo>
                  <a:cubicBezTo>
                    <a:pt x="4255" y="104"/>
                    <a:pt x="4255" y="106"/>
                    <a:pt x="4255" y="109"/>
                  </a:cubicBezTo>
                  <a:cubicBezTo>
                    <a:pt x="4254" y="120"/>
                    <a:pt x="4253" y="131"/>
                    <a:pt x="4253" y="138"/>
                  </a:cubicBezTo>
                  <a:cubicBezTo>
                    <a:pt x="4253" y="137"/>
                    <a:pt x="4252" y="135"/>
                    <a:pt x="4252" y="134"/>
                  </a:cubicBezTo>
                  <a:cubicBezTo>
                    <a:pt x="4251" y="99"/>
                    <a:pt x="4245" y="41"/>
                    <a:pt x="4245" y="41"/>
                  </a:cubicBezTo>
                  <a:cubicBezTo>
                    <a:pt x="4247" y="58"/>
                    <a:pt x="4246" y="86"/>
                    <a:pt x="4244" y="108"/>
                  </a:cubicBezTo>
                  <a:cubicBezTo>
                    <a:pt x="4242" y="105"/>
                    <a:pt x="4241" y="102"/>
                    <a:pt x="4239" y="99"/>
                  </a:cubicBezTo>
                  <a:cubicBezTo>
                    <a:pt x="4239" y="86"/>
                    <a:pt x="4239" y="73"/>
                    <a:pt x="4239" y="67"/>
                  </a:cubicBezTo>
                  <a:cubicBezTo>
                    <a:pt x="4239" y="75"/>
                    <a:pt x="4238" y="85"/>
                    <a:pt x="4237" y="94"/>
                  </a:cubicBezTo>
                  <a:cubicBezTo>
                    <a:pt x="4236" y="92"/>
                    <a:pt x="4235" y="91"/>
                    <a:pt x="4234" y="89"/>
                  </a:cubicBezTo>
                  <a:cubicBezTo>
                    <a:pt x="4235" y="91"/>
                    <a:pt x="4236" y="94"/>
                    <a:pt x="4236" y="97"/>
                  </a:cubicBezTo>
                  <a:cubicBezTo>
                    <a:pt x="4235" y="103"/>
                    <a:pt x="4234" y="110"/>
                    <a:pt x="4232" y="116"/>
                  </a:cubicBezTo>
                  <a:cubicBezTo>
                    <a:pt x="4231" y="110"/>
                    <a:pt x="4230" y="105"/>
                    <a:pt x="4228" y="101"/>
                  </a:cubicBezTo>
                  <a:cubicBezTo>
                    <a:pt x="4229" y="91"/>
                    <a:pt x="4230" y="83"/>
                    <a:pt x="4230" y="83"/>
                  </a:cubicBezTo>
                  <a:cubicBezTo>
                    <a:pt x="4230" y="86"/>
                    <a:pt x="4229" y="92"/>
                    <a:pt x="4227" y="98"/>
                  </a:cubicBezTo>
                  <a:cubicBezTo>
                    <a:pt x="4226" y="94"/>
                    <a:pt x="4225" y="91"/>
                    <a:pt x="4224" y="89"/>
                  </a:cubicBezTo>
                  <a:cubicBezTo>
                    <a:pt x="4225" y="74"/>
                    <a:pt x="4226" y="62"/>
                    <a:pt x="4226" y="62"/>
                  </a:cubicBezTo>
                  <a:cubicBezTo>
                    <a:pt x="4225" y="65"/>
                    <a:pt x="4224" y="75"/>
                    <a:pt x="4222" y="87"/>
                  </a:cubicBezTo>
                  <a:cubicBezTo>
                    <a:pt x="4220" y="83"/>
                    <a:pt x="4218" y="81"/>
                    <a:pt x="4215" y="78"/>
                  </a:cubicBezTo>
                  <a:cubicBezTo>
                    <a:pt x="4218" y="81"/>
                    <a:pt x="4220" y="84"/>
                    <a:pt x="4222" y="89"/>
                  </a:cubicBezTo>
                  <a:cubicBezTo>
                    <a:pt x="4221" y="96"/>
                    <a:pt x="4220" y="105"/>
                    <a:pt x="4219" y="113"/>
                  </a:cubicBezTo>
                  <a:cubicBezTo>
                    <a:pt x="4218" y="108"/>
                    <a:pt x="4217" y="104"/>
                    <a:pt x="4215" y="100"/>
                  </a:cubicBezTo>
                  <a:cubicBezTo>
                    <a:pt x="4214" y="86"/>
                    <a:pt x="4212" y="74"/>
                    <a:pt x="4211" y="68"/>
                  </a:cubicBezTo>
                  <a:cubicBezTo>
                    <a:pt x="4211" y="71"/>
                    <a:pt x="4212" y="76"/>
                    <a:pt x="4211" y="86"/>
                  </a:cubicBezTo>
                  <a:cubicBezTo>
                    <a:pt x="4211" y="87"/>
                    <a:pt x="4211" y="88"/>
                    <a:pt x="4211" y="90"/>
                  </a:cubicBezTo>
                  <a:cubicBezTo>
                    <a:pt x="4210" y="87"/>
                    <a:pt x="4208" y="84"/>
                    <a:pt x="4206" y="81"/>
                  </a:cubicBezTo>
                  <a:cubicBezTo>
                    <a:pt x="4209" y="85"/>
                    <a:pt x="4210" y="91"/>
                    <a:pt x="4210" y="96"/>
                  </a:cubicBezTo>
                  <a:cubicBezTo>
                    <a:pt x="4209" y="105"/>
                    <a:pt x="4207" y="115"/>
                    <a:pt x="4205" y="124"/>
                  </a:cubicBezTo>
                  <a:cubicBezTo>
                    <a:pt x="4205" y="113"/>
                    <a:pt x="4204" y="102"/>
                    <a:pt x="4202" y="91"/>
                  </a:cubicBezTo>
                  <a:cubicBezTo>
                    <a:pt x="4202" y="77"/>
                    <a:pt x="4202" y="77"/>
                    <a:pt x="4202" y="77"/>
                  </a:cubicBezTo>
                  <a:cubicBezTo>
                    <a:pt x="4205" y="35"/>
                    <a:pt x="4198" y="19"/>
                    <a:pt x="4198" y="19"/>
                  </a:cubicBezTo>
                  <a:cubicBezTo>
                    <a:pt x="4198" y="19"/>
                    <a:pt x="4201" y="31"/>
                    <a:pt x="4200" y="54"/>
                  </a:cubicBezTo>
                  <a:cubicBezTo>
                    <a:pt x="4199" y="59"/>
                    <a:pt x="4199" y="68"/>
                    <a:pt x="4197" y="78"/>
                  </a:cubicBezTo>
                  <a:cubicBezTo>
                    <a:pt x="4195" y="72"/>
                    <a:pt x="4192" y="66"/>
                    <a:pt x="4188" y="60"/>
                  </a:cubicBezTo>
                  <a:cubicBezTo>
                    <a:pt x="4188" y="61"/>
                    <a:pt x="4188" y="61"/>
                    <a:pt x="4188" y="61"/>
                  </a:cubicBezTo>
                  <a:cubicBezTo>
                    <a:pt x="4188" y="62"/>
                    <a:pt x="4188" y="63"/>
                    <a:pt x="4188" y="64"/>
                  </a:cubicBezTo>
                  <a:cubicBezTo>
                    <a:pt x="4186" y="44"/>
                    <a:pt x="4179" y="40"/>
                    <a:pt x="4179" y="40"/>
                  </a:cubicBezTo>
                  <a:cubicBezTo>
                    <a:pt x="4179" y="40"/>
                    <a:pt x="4185" y="44"/>
                    <a:pt x="4185" y="70"/>
                  </a:cubicBezTo>
                  <a:cubicBezTo>
                    <a:pt x="4185" y="76"/>
                    <a:pt x="4184" y="85"/>
                    <a:pt x="4182" y="94"/>
                  </a:cubicBezTo>
                  <a:cubicBezTo>
                    <a:pt x="4180" y="90"/>
                    <a:pt x="4177" y="86"/>
                    <a:pt x="4174" y="83"/>
                  </a:cubicBezTo>
                  <a:cubicBezTo>
                    <a:pt x="4177" y="87"/>
                    <a:pt x="4180" y="92"/>
                    <a:pt x="4182" y="97"/>
                  </a:cubicBezTo>
                  <a:cubicBezTo>
                    <a:pt x="4181" y="100"/>
                    <a:pt x="4181" y="103"/>
                    <a:pt x="4180" y="106"/>
                  </a:cubicBezTo>
                  <a:cubicBezTo>
                    <a:pt x="4179" y="104"/>
                    <a:pt x="4179" y="102"/>
                    <a:pt x="4178" y="100"/>
                  </a:cubicBezTo>
                  <a:cubicBezTo>
                    <a:pt x="4179" y="102"/>
                    <a:pt x="4179" y="105"/>
                    <a:pt x="4180" y="108"/>
                  </a:cubicBezTo>
                  <a:cubicBezTo>
                    <a:pt x="4179" y="111"/>
                    <a:pt x="4178" y="114"/>
                    <a:pt x="4177" y="117"/>
                  </a:cubicBezTo>
                  <a:cubicBezTo>
                    <a:pt x="4176" y="113"/>
                    <a:pt x="4174" y="108"/>
                    <a:pt x="4172" y="104"/>
                  </a:cubicBezTo>
                  <a:cubicBezTo>
                    <a:pt x="4173" y="87"/>
                    <a:pt x="4174" y="71"/>
                    <a:pt x="4174" y="71"/>
                  </a:cubicBezTo>
                  <a:cubicBezTo>
                    <a:pt x="4173" y="73"/>
                    <a:pt x="4171" y="84"/>
                    <a:pt x="4169" y="97"/>
                  </a:cubicBezTo>
                  <a:cubicBezTo>
                    <a:pt x="4168" y="95"/>
                    <a:pt x="4167" y="93"/>
                    <a:pt x="4166" y="92"/>
                  </a:cubicBezTo>
                  <a:cubicBezTo>
                    <a:pt x="4167" y="81"/>
                    <a:pt x="4168" y="72"/>
                    <a:pt x="4169" y="66"/>
                  </a:cubicBezTo>
                  <a:cubicBezTo>
                    <a:pt x="4168" y="73"/>
                    <a:pt x="4167" y="81"/>
                    <a:pt x="4165" y="90"/>
                  </a:cubicBezTo>
                  <a:cubicBezTo>
                    <a:pt x="4164" y="88"/>
                    <a:pt x="4162" y="86"/>
                    <a:pt x="4160" y="83"/>
                  </a:cubicBezTo>
                  <a:cubicBezTo>
                    <a:pt x="4164" y="26"/>
                    <a:pt x="4162" y="12"/>
                    <a:pt x="4162" y="12"/>
                  </a:cubicBezTo>
                  <a:cubicBezTo>
                    <a:pt x="4162" y="12"/>
                    <a:pt x="4162" y="18"/>
                    <a:pt x="4159" y="56"/>
                  </a:cubicBezTo>
                  <a:cubicBezTo>
                    <a:pt x="4158" y="64"/>
                    <a:pt x="4157" y="71"/>
                    <a:pt x="4156" y="78"/>
                  </a:cubicBezTo>
                  <a:cubicBezTo>
                    <a:pt x="4154" y="76"/>
                    <a:pt x="4151" y="73"/>
                    <a:pt x="4149" y="71"/>
                  </a:cubicBezTo>
                  <a:cubicBezTo>
                    <a:pt x="4150" y="48"/>
                    <a:pt x="4151" y="31"/>
                    <a:pt x="4151" y="31"/>
                  </a:cubicBezTo>
                  <a:cubicBezTo>
                    <a:pt x="4149" y="37"/>
                    <a:pt x="4147" y="52"/>
                    <a:pt x="4146" y="68"/>
                  </a:cubicBezTo>
                  <a:cubicBezTo>
                    <a:pt x="4144" y="66"/>
                    <a:pt x="4142" y="65"/>
                    <a:pt x="4140" y="63"/>
                  </a:cubicBezTo>
                  <a:cubicBezTo>
                    <a:pt x="4142" y="65"/>
                    <a:pt x="4144" y="67"/>
                    <a:pt x="4146" y="69"/>
                  </a:cubicBezTo>
                  <a:cubicBezTo>
                    <a:pt x="4145" y="82"/>
                    <a:pt x="4145" y="96"/>
                    <a:pt x="4144" y="109"/>
                  </a:cubicBezTo>
                  <a:cubicBezTo>
                    <a:pt x="4143" y="104"/>
                    <a:pt x="4141" y="99"/>
                    <a:pt x="4140" y="96"/>
                  </a:cubicBezTo>
                  <a:cubicBezTo>
                    <a:pt x="4141" y="104"/>
                    <a:pt x="4142" y="112"/>
                    <a:pt x="4144" y="120"/>
                  </a:cubicBezTo>
                  <a:cubicBezTo>
                    <a:pt x="4144" y="123"/>
                    <a:pt x="4144" y="126"/>
                    <a:pt x="4144" y="128"/>
                  </a:cubicBezTo>
                  <a:cubicBezTo>
                    <a:pt x="4143" y="125"/>
                    <a:pt x="4141" y="122"/>
                    <a:pt x="4140" y="118"/>
                  </a:cubicBezTo>
                  <a:cubicBezTo>
                    <a:pt x="4135" y="80"/>
                    <a:pt x="4128" y="28"/>
                    <a:pt x="4128" y="28"/>
                  </a:cubicBezTo>
                  <a:cubicBezTo>
                    <a:pt x="4128" y="39"/>
                    <a:pt x="4126" y="72"/>
                    <a:pt x="4124" y="100"/>
                  </a:cubicBezTo>
                  <a:cubicBezTo>
                    <a:pt x="4124" y="98"/>
                    <a:pt x="4123" y="97"/>
                    <a:pt x="4122" y="96"/>
                  </a:cubicBezTo>
                  <a:cubicBezTo>
                    <a:pt x="4123" y="97"/>
                    <a:pt x="4124" y="99"/>
                    <a:pt x="4124" y="100"/>
                  </a:cubicBezTo>
                  <a:cubicBezTo>
                    <a:pt x="4124" y="110"/>
                    <a:pt x="4123" y="120"/>
                    <a:pt x="4122" y="128"/>
                  </a:cubicBezTo>
                  <a:cubicBezTo>
                    <a:pt x="4122" y="128"/>
                    <a:pt x="4122" y="127"/>
                    <a:pt x="4122" y="127"/>
                  </a:cubicBezTo>
                  <a:cubicBezTo>
                    <a:pt x="4122" y="109"/>
                    <a:pt x="4120" y="87"/>
                    <a:pt x="4119" y="71"/>
                  </a:cubicBezTo>
                  <a:cubicBezTo>
                    <a:pt x="4120" y="68"/>
                    <a:pt x="4121" y="66"/>
                    <a:pt x="4122" y="64"/>
                  </a:cubicBezTo>
                  <a:cubicBezTo>
                    <a:pt x="4121" y="65"/>
                    <a:pt x="4120" y="67"/>
                    <a:pt x="4118" y="69"/>
                  </a:cubicBezTo>
                  <a:cubicBezTo>
                    <a:pt x="4118" y="61"/>
                    <a:pt x="4117" y="55"/>
                    <a:pt x="4117" y="53"/>
                  </a:cubicBezTo>
                  <a:cubicBezTo>
                    <a:pt x="4117" y="52"/>
                    <a:pt x="4118" y="52"/>
                    <a:pt x="4118" y="51"/>
                  </a:cubicBezTo>
                  <a:cubicBezTo>
                    <a:pt x="4118" y="51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5" y="54"/>
                    <a:pt x="4113" y="56"/>
                    <a:pt x="4111" y="57"/>
                  </a:cubicBezTo>
                  <a:cubicBezTo>
                    <a:pt x="4112" y="54"/>
                    <a:pt x="4112" y="52"/>
                    <a:pt x="4112" y="50"/>
                  </a:cubicBezTo>
                  <a:cubicBezTo>
                    <a:pt x="4116" y="46"/>
                    <a:pt x="4119" y="42"/>
                    <a:pt x="4123" y="38"/>
                  </a:cubicBezTo>
                  <a:cubicBezTo>
                    <a:pt x="4119" y="41"/>
                    <a:pt x="4116" y="44"/>
                    <a:pt x="4113" y="47"/>
                  </a:cubicBezTo>
                  <a:cubicBezTo>
                    <a:pt x="4113" y="43"/>
                    <a:pt x="4114" y="40"/>
                    <a:pt x="4114" y="40"/>
                  </a:cubicBezTo>
                  <a:cubicBezTo>
                    <a:pt x="4113" y="43"/>
                    <a:pt x="4111" y="46"/>
                    <a:pt x="4110" y="50"/>
                  </a:cubicBezTo>
                  <a:cubicBezTo>
                    <a:pt x="4103" y="58"/>
                    <a:pt x="4098" y="66"/>
                    <a:pt x="4094" y="75"/>
                  </a:cubicBezTo>
                  <a:cubicBezTo>
                    <a:pt x="4093" y="70"/>
                    <a:pt x="4093" y="66"/>
                    <a:pt x="4093" y="63"/>
                  </a:cubicBezTo>
                  <a:cubicBezTo>
                    <a:pt x="4096" y="57"/>
                    <a:pt x="4099" y="50"/>
                    <a:pt x="4103" y="42"/>
                  </a:cubicBezTo>
                  <a:cubicBezTo>
                    <a:pt x="4094" y="52"/>
                    <a:pt x="4088" y="61"/>
                    <a:pt x="4084" y="71"/>
                  </a:cubicBezTo>
                  <a:cubicBezTo>
                    <a:pt x="4083" y="70"/>
                    <a:pt x="4082" y="70"/>
                    <a:pt x="4082" y="69"/>
                  </a:cubicBezTo>
                  <a:cubicBezTo>
                    <a:pt x="4082" y="68"/>
                    <a:pt x="4082" y="67"/>
                    <a:pt x="4081" y="65"/>
                  </a:cubicBezTo>
                  <a:cubicBezTo>
                    <a:pt x="4088" y="53"/>
                    <a:pt x="4096" y="41"/>
                    <a:pt x="4107" y="25"/>
                  </a:cubicBezTo>
                  <a:cubicBezTo>
                    <a:pt x="4096" y="40"/>
                    <a:pt x="4088" y="51"/>
                    <a:pt x="4081" y="64"/>
                  </a:cubicBezTo>
                  <a:cubicBezTo>
                    <a:pt x="4079" y="45"/>
                    <a:pt x="4077" y="30"/>
                    <a:pt x="4077" y="30"/>
                  </a:cubicBezTo>
                  <a:cubicBezTo>
                    <a:pt x="4078" y="35"/>
                    <a:pt x="4078" y="49"/>
                    <a:pt x="4078" y="65"/>
                  </a:cubicBezTo>
                  <a:cubicBezTo>
                    <a:pt x="4078" y="65"/>
                    <a:pt x="4077" y="65"/>
                    <a:pt x="4077" y="65"/>
                  </a:cubicBezTo>
                  <a:cubicBezTo>
                    <a:pt x="4077" y="65"/>
                    <a:pt x="4078" y="65"/>
                    <a:pt x="4078" y="65"/>
                  </a:cubicBezTo>
                  <a:cubicBezTo>
                    <a:pt x="4078" y="67"/>
                    <a:pt x="4078" y="69"/>
                    <a:pt x="4077" y="71"/>
                  </a:cubicBezTo>
                  <a:cubicBezTo>
                    <a:pt x="4076" y="74"/>
                    <a:pt x="4075" y="78"/>
                    <a:pt x="4074" y="81"/>
                  </a:cubicBezTo>
                  <a:cubicBezTo>
                    <a:pt x="4075" y="78"/>
                    <a:pt x="4076" y="76"/>
                    <a:pt x="4077" y="73"/>
                  </a:cubicBezTo>
                  <a:cubicBezTo>
                    <a:pt x="4077" y="79"/>
                    <a:pt x="4077" y="85"/>
                    <a:pt x="4077" y="91"/>
                  </a:cubicBezTo>
                  <a:cubicBezTo>
                    <a:pt x="4076" y="93"/>
                    <a:pt x="4076" y="95"/>
                    <a:pt x="4076" y="97"/>
                  </a:cubicBezTo>
                  <a:cubicBezTo>
                    <a:pt x="4075" y="96"/>
                    <a:pt x="4074" y="95"/>
                    <a:pt x="4074" y="94"/>
                  </a:cubicBezTo>
                  <a:cubicBezTo>
                    <a:pt x="4073" y="91"/>
                    <a:pt x="4073" y="88"/>
                    <a:pt x="4073" y="85"/>
                  </a:cubicBezTo>
                  <a:cubicBezTo>
                    <a:pt x="4073" y="83"/>
                    <a:pt x="4074" y="82"/>
                    <a:pt x="4074" y="81"/>
                  </a:cubicBezTo>
                  <a:cubicBezTo>
                    <a:pt x="4074" y="82"/>
                    <a:pt x="4073" y="83"/>
                    <a:pt x="4073" y="84"/>
                  </a:cubicBezTo>
                  <a:cubicBezTo>
                    <a:pt x="4072" y="72"/>
                    <a:pt x="4071" y="62"/>
                    <a:pt x="4071" y="55"/>
                  </a:cubicBezTo>
                  <a:cubicBezTo>
                    <a:pt x="4072" y="54"/>
                    <a:pt x="4073" y="53"/>
                    <a:pt x="4075" y="52"/>
                  </a:cubicBezTo>
                  <a:cubicBezTo>
                    <a:pt x="4073" y="53"/>
                    <a:pt x="4072" y="54"/>
                    <a:pt x="4071" y="54"/>
                  </a:cubicBezTo>
                  <a:cubicBezTo>
                    <a:pt x="4071" y="49"/>
                    <a:pt x="4070" y="46"/>
                    <a:pt x="4070" y="46"/>
                  </a:cubicBezTo>
                  <a:cubicBezTo>
                    <a:pt x="4070" y="48"/>
                    <a:pt x="4070" y="51"/>
                    <a:pt x="4070" y="55"/>
                  </a:cubicBezTo>
                  <a:cubicBezTo>
                    <a:pt x="4067" y="57"/>
                    <a:pt x="4064" y="59"/>
                    <a:pt x="4061" y="62"/>
                  </a:cubicBezTo>
                  <a:cubicBezTo>
                    <a:pt x="4061" y="58"/>
                    <a:pt x="4061" y="54"/>
                    <a:pt x="4061" y="50"/>
                  </a:cubicBezTo>
                  <a:cubicBezTo>
                    <a:pt x="4065" y="45"/>
                    <a:pt x="4070" y="40"/>
                    <a:pt x="4075" y="34"/>
                  </a:cubicBezTo>
                  <a:cubicBezTo>
                    <a:pt x="4070" y="39"/>
                    <a:pt x="4065" y="44"/>
                    <a:pt x="4061" y="48"/>
                  </a:cubicBezTo>
                  <a:cubicBezTo>
                    <a:pt x="4062" y="21"/>
                    <a:pt x="4064" y="0"/>
                    <a:pt x="4064" y="0"/>
                  </a:cubicBezTo>
                  <a:cubicBezTo>
                    <a:pt x="4060" y="10"/>
                    <a:pt x="4058" y="35"/>
                    <a:pt x="4057" y="53"/>
                  </a:cubicBezTo>
                  <a:cubicBezTo>
                    <a:pt x="4056" y="54"/>
                    <a:pt x="4055" y="55"/>
                    <a:pt x="4055" y="56"/>
                  </a:cubicBezTo>
                  <a:cubicBezTo>
                    <a:pt x="4053" y="44"/>
                    <a:pt x="4050" y="33"/>
                    <a:pt x="4050" y="33"/>
                  </a:cubicBezTo>
                  <a:cubicBezTo>
                    <a:pt x="4051" y="39"/>
                    <a:pt x="4051" y="49"/>
                    <a:pt x="4050" y="62"/>
                  </a:cubicBezTo>
                  <a:cubicBezTo>
                    <a:pt x="4048" y="63"/>
                    <a:pt x="4047" y="65"/>
                    <a:pt x="4046" y="67"/>
                  </a:cubicBezTo>
                  <a:cubicBezTo>
                    <a:pt x="4045" y="65"/>
                    <a:pt x="4044" y="63"/>
                    <a:pt x="4043" y="62"/>
                  </a:cubicBezTo>
                  <a:cubicBezTo>
                    <a:pt x="4043" y="63"/>
                    <a:pt x="4044" y="65"/>
                    <a:pt x="4045" y="68"/>
                  </a:cubicBezTo>
                  <a:cubicBezTo>
                    <a:pt x="4042" y="72"/>
                    <a:pt x="4040" y="75"/>
                    <a:pt x="4039" y="78"/>
                  </a:cubicBezTo>
                  <a:cubicBezTo>
                    <a:pt x="4038" y="61"/>
                    <a:pt x="4038" y="48"/>
                    <a:pt x="4038" y="48"/>
                  </a:cubicBezTo>
                  <a:cubicBezTo>
                    <a:pt x="4037" y="52"/>
                    <a:pt x="4036" y="65"/>
                    <a:pt x="4034" y="80"/>
                  </a:cubicBezTo>
                  <a:cubicBezTo>
                    <a:pt x="4033" y="82"/>
                    <a:pt x="4033" y="85"/>
                    <a:pt x="4032" y="87"/>
                  </a:cubicBezTo>
                  <a:cubicBezTo>
                    <a:pt x="4031" y="86"/>
                    <a:pt x="4031" y="86"/>
                    <a:pt x="4030" y="85"/>
                  </a:cubicBezTo>
                  <a:cubicBezTo>
                    <a:pt x="4033" y="48"/>
                    <a:pt x="4036" y="9"/>
                    <a:pt x="4036" y="9"/>
                  </a:cubicBezTo>
                  <a:cubicBezTo>
                    <a:pt x="4032" y="20"/>
                    <a:pt x="4028" y="57"/>
                    <a:pt x="4024" y="89"/>
                  </a:cubicBezTo>
                  <a:cubicBezTo>
                    <a:pt x="4023" y="91"/>
                    <a:pt x="4022" y="92"/>
                    <a:pt x="4022" y="93"/>
                  </a:cubicBezTo>
                  <a:cubicBezTo>
                    <a:pt x="4021" y="92"/>
                    <a:pt x="4020" y="90"/>
                    <a:pt x="4019" y="89"/>
                  </a:cubicBezTo>
                  <a:cubicBezTo>
                    <a:pt x="4022" y="72"/>
                    <a:pt x="4025" y="55"/>
                    <a:pt x="4025" y="37"/>
                  </a:cubicBezTo>
                  <a:cubicBezTo>
                    <a:pt x="4025" y="34"/>
                    <a:pt x="4025" y="30"/>
                    <a:pt x="4025" y="26"/>
                  </a:cubicBezTo>
                  <a:cubicBezTo>
                    <a:pt x="4018" y="45"/>
                    <a:pt x="4017" y="66"/>
                    <a:pt x="4013" y="86"/>
                  </a:cubicBezTo>
                  <a:cubicBezTo>
                    <a:pt x="4012" y="85"/>
                    <a:pt x="4012" y="84"/>
                    <a:pt x="4011" y="84"/>
                  </a:cubicBezTo>
                  <a:cubicBezTo>
                    <a:pt x="4012" y="84"/>
                    <a:pt x="4012" y="85"/>
                    <a:pt x="4013" y="86"/>
                  </a:cubicBezTo>
                  <a:cubicBezTo>
                    <a:pt x="4012" y="88"/>
                    <a:pt x="4012" y="90"/>
                    <a:pt x="4012" y="92"/>
                  </a:cubicBezTo>
                  <a:cubicBezTo>
                    <a:pt x="4011" y="94"/>
                    <a:pt x="4011" y="96"/>
                    <a:pt x="4010" y="98"/>
                  </a:cubicBezTo>
                  <a:cubicBezTo>
                    <a:pt x="4010" y="97"/>
                    <a:pt x="4009" y="96"/>
                    <a:pt x="4008" y="94"/>
                  </a:cubicBezTo>
                  <a:cubicBezTo>
                    <a:pt x="4008" y="86"/>
                    <a:pt x="4007" y="78"/>
                    <a:pt x="4006" y="72"/>
                  </a:cubicBezTo>
                  <a:cubicBezTo>
                    <a:pt x="4009" y="67"/>
                    <a:pt x="4013" y="63"/>
                    <a:pt x="4017" y="59"/>
                  </a:cubicBezTo>
                  <a:cubicBezTo>
                    <a:pt x="4013" y="62"/>
                    <a:pt x="4009" y="66"/>
                    <a:pt x="4006" y="70"/>
                  </a:cubicBezTo>
                  <a:cubicBezTo>
                    <a:pt x="4005" y="64"/>
                    <a:pt x="4005" y="60"/>
                    <a:pt x="4004" y="57"/>
                  </a:cubicBezTo>
                  <a:cubicBezTo>
                    <a:pt x="4005" y="54"/>
                    <a:pt x="4007" y="52"/>
                    <a:pt x="4008" y="50"/>
                  </a:cubicBezTo>
                  <a:cubicBezTo>
                    <a:pt x="4007" y="51"/>
                    <a:pt x="4005" y="53"/>
                    <a:pt x="4004" y="54"/>
                  </a:cubicBezTo>
                  <a:cubicBezTo>
                    <a:pt x="4004" y="53"/>
                    <a:pt x="4004" y="52"/>
                    <a:pt x="4004" y="52"/>
                  </a:cubicBezTo>
                  <a:cubicBezTo>
                    <a:pt x="4004" y="53"/>
                    <a:pt x="4004" y="54"/>
                    <a:pt x="4004" y="54"/>
                  </a:cubicBezTo>
                  <a:cubicBezTo>
                    <a:pt x="4002" y="56"/>
                    <a:pt x="4000" y="58"/>
                    <a:pt x="3998" y="60"/>
                  </a:cubicBezTo>
                  <a:cubicBezTo>
                    <a:pt x="3997" y="54"/>
                    <a:pt x="3996" y="48"/>
                    <a:pt x="3995" y="44"/>
                  </a:cubicBezTo>
                  <a:cubicBezTo>
                    <a:pt x="3996" y="49"/>
                    <a:pt x="3995" y="56"/>
                    <a:pt x="3994" y="64"/>
                  </a:cubicBezTo>
                  <a:cubicBezTo>
                    <a:pt x="3993" y="66"/>
                    <a:pt x="3992" y="68"/>
                    <a:pt x="3991" y="69"/>
                  </a:cubicBezTo>
                  <a:cubicBezTo>
                    <a:pt x="3989" y="67"/>
                    <a:pt x="3988" y="66"/>
                    <a:pt x="3986" y="64"/>
                  </a:cubicBezTo>
                  <a:cubicBezTo>
                    <a:pt x="3988" y="66"/>
                    <a:pt x="3989" y="67"/>
                    <a:pt x="3991" y="69"/>
                  </a:cubicBezTo>
                  <a:cubicBezTo>
                    <a:pt x="3989" y="71"/>
                    <a:pt x="3988" y="73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6" y="76"/>
                    <a:pt x="3985" y="77"/>
                    <a:pt x="3984" y="79"/>
                  </a:cubicBezTo>
                  <a:cubicBezTo>
                    <a:pt x="3984" y="79"/>
                    <a:pt x="3984" y="79"/>
                    <a:pt x="3984" y="79"/>
                  </a:cubicBezTo>
                  <a:cubicBezTo>
                    <a:pt x="3985" y="60"/>
                    <a:pt x="3985" y="45"/>
                    <a:pt x="3985" y="45"/>
                  </a:cubicBezTo>
                  <a:cubicBezTo>
                    <a:pt x="3985" y="50"/>
                    <a:pt x="3983" y="61"/>
                    <a:pt x="3980" y="73"/>
                  </a:cubicBezTo>
                  <a:cubicBezTo>
                    <a:pt x="3979" y="73"/>
                    <a:pt x="3979" y="73"/>
                    <a:pt x="3978" y="72"/>
                  </a:cubicBezTo>
                  <a:cubicBezTo>
                    <a:pt x="3979" y="70"/>
                    <a:pt x="3979" y="68"/>
                    <a:pt x="3979" y="66"/>
                  </a:cubicBezTo>
                  <a:cubicBezTo>
                    <a:pt x="3979" y="65"/>
                    <a:pt x="3979" y="65"/>
                    <a:pt x="3980" y="65"/>
                  </a:cubicBezTo>
                  <a:cubicBezTo>
                    <a:pt x="3979" y="65"/>
                    <a:pt x="3979" y="65"/>
                    <a:pt x="3979" y="66"/>
                  </a:cubicBezTo>
                  <a:cubicBezTo>
                    <a:pt x="3979" y="64"/>
                    <a:pt x="3979" y="63"/>
                    <a:pt x="3979" y="61"/>
                  </a:cubicBezTo>
                  <a:cubicBezTo>
                    <a:pt x="3979" y="55"/>
                    <a:pt x="3979" y="49"/>
                    <a:pt x="3978" y="42"/>
                  </a:cubicBezTo>
                  <a:cubicBezTo>
                    <a:pt x="3981" y="27"/>
                    <a:pt x="3983" y="17"/>
                    <a:pt x="3983" y="17"/>
                  </a:cubicBezTo>
                  <a:cubicBezTo>
                    <a:pt x="3980" y="22"/>
                    <a:pt x="3973" y="49"/>
                    <a:pt x="3967" y="78"/>
                  </a:cubicBezTo>
                  <a:cubicBezTo>
                    <a:pt x="3967" y="78"/>
                    <a:pt x="3967" y="79"/>
                    <a:pt x="3966" y="79"/>
                  </a:cubicBezTo>
                  <a:cubicBezTo>
                    <a:pt x="3965" y="76"/>
                    <a:pt x="3962" y="72"/>
                    <a:pt x="3960" y="69"/>
                  </a:cubicBezTo>
                  <a:cubicBezTo>
                    <a:pt x="3961" y="67"/>
                    <a:pt x="3963" y="66"/>
                    <a:pt x="3965" y="64"/>
                  </a:cubicBezTo>
                  <a:cubicBezTo>
                    <a:pt x="3963" y="66"/>
                    <a:pt x="3961" y="67"/>
                    <a:pt x="3960" y="69"/>
                  </a:cubicBezTo>
                  <a:cubicBezTo>
                    <a:pt x="3959" y="68"/>
                    <a:pt x="3958" y="67"/>
                    <a:pt x="3957" y="66"/>
                  </a:cubicBezTo>
                  <a:cubicBezTo>
                    <a:pt x="3957" y="60"/>
                    <a:pt x="3956" y="55"/>
                    <a:pt x="3956" y="52"/>
                  </a:cubicBezTo>
                  <a:cubicBezTo>
                    <a:pt x="3956" y="56"/>
                    <a:pt x="3956" y="60"/>
                    <a:pt x="3956" y="64"/>
                  </a:cubicBezTo>
                  <a:cubicBezTo>
                    <a:pt x="3952" y="60"/>
                    <a:pt x="3948" y="55"/>
                    <a:pt x="3943" y="50"/>
                  </a:cubicBezTo>
                  <a:cubicBezTo>
                    <a:pt x="3945" y="55"/>
                    <a:pt x="3949" y="60"/>
                    <a:pt x="3952" y="65"/>
                  </a:cubicBezTo>
                  <a:cubicBezTo>
                    <a:pt x="3951" y="68"/>
                    <a:pt x="3951" y="71"/>
                    <a:pt x="3950" y="76"/>
                  </a:cubicBezTo>
                  <a:cubicBezTo>
                    <a:pt x="3948" y="74"/>
                    <a:pt x="3946" y="71"/>
                    <a:pt x="3943" y="68"/>
                  </a:cubicBezTo>
                  <a:cubicBezTo>
                    <a:pt x="3943" y="54"/>
                    <a:pt x="3942" y="41"/>
                    <a:pt x="3941" y="33"/>
                  </a:cubicBezTo>
                  <a:cubicBezTo>
                    <a:pt x="3942" y="42"/>
                    <a:pt x="3941" y="53"/>
                    <a:pt x="3940" y="65"/>
                  </a:cubicBezTo>
                  <a:cubicBezTo>
                    <a:pt x="3938" y="63"/>
                    <a:pt x="3936" y="61"/>
                    <a:pt x="3934" y="59"/>
                  </a:cubicBezTo>
                  <a:cubicBezTo>
                    <a:pt x="3936" y="61"/>
                    <a:pt x="3938" y="63"/>
                    <a:pt x="3940" y="65"/>
                  </a:cubicBezTo>
                  <a:cubicBezTo>
                    <a:pt x="3939" y="72"/>
                    <a:pt x="3938" y="80"/>
                    <a:pt x="3937" y="87"/>
                  </a:cubicBezTo>
                  <a:cubicBezTo>
                    <a:pt x="3937" y="87"/>
                    <a:pt x="3937" y="87"/>
                    <a:pt x="3937" y="87"/>
                  </a:cubicBezTo>
                  <a:cubicBezTo>
                    <a:pt x="3936" y="85"/>
                    <a:pt x="3936" y="84"/>
                    <a:pt x="3935" y="83"/>
                  </a:cubicBezTo>
                  <a:cubicBezTo>
                    <a:pt x="3936" y="82"/>
                    <a:pt x="3936" y="82"/>
                    <a:pt x="3936" y="81"/>
                  </a:cubicBezTo>
                  <a:cubicBezTo>
                    <a:pt x="3936" y="82"/>
                    <a:pt x="3936" y="82"/>
                    <a:pt x="3935" y="83"/>
                  </a:cubicBezTo>
                  <a:cubicBezTo>
                    <a:pt x="3935" y="81"/>
                    <a:pt x="3934" y="79"/>
                    <a:pt x="3933" y="77"/>
                  </a:cubicBezTo>
                  <a:cubicBezTo>
                    <a:pt x="3934" y="79"/>
                    <a:pt x="3934" y="81"/>
                    <a:pt x="3935" y="83"/>
                  </a:cubicBezTo>
                  <a:cubicBezTo>
                    <a:pt x="3934" y="85"/>
                    <a:pt x="3933" y="86"/>
                    <a:pt x="3932" y="88"/>
                  </a:cubicBezTo>
                  <a:cubicBezTo>
                    <a:pt x="3933" y="86"/>
                    <a:pt x="3934" y="85"/>
                    <a:pt x="3935" y="83"/>
                  </a:cubicBezTo>
                  <a:cubicBezTo>
                    <a:pt x="3935" y="85"/>
                    <a:pt x="3936" y="86"/>
                    <a:pt x="3936" y="88"/>
                  </a:cubicBezTo>
                  <a:cubicBezTo>
                    <a:pt x="3934" y="91"/>
                    <a:pt x="3933" y="95"/>
                    <a:pt x="3931" y="98"/>
                  </a:cubicBezTo>
                  <a:cubicBezTo>
                    <a:pt x="3931" y="97"/>
                    <a:pt x="3931" y="97"/>
                    <a:pt x="3930" y="97"/>
                  </a:cubicBezTo>
                  <a:cubicBezTo>
                    <a:pt x="3930" y="95"/>
                    <a:pt x="3930" y="94"/>
                    <a:pt x="3930" y="93"/>
                  </a:cubicBezTo>
                  <a:cubicBezTo>
                    <a:pt x="3930" y="91"/>
                    <a:pt x="3931" y="89"/>
                    <a:pt x="3932" y="88"/>
                  </a:cubicBezTo>
                  <a:cubicBezTo>
                    <a:pt x="3931" y="89"/>
                    <a:pt x="3930" y="91"/>
                    <a:pt x="3929" y="92"/>
                  </a:cubicBezTo>
                  <a:cubicBezTo>
                    <a:pt x="3929" y="92"/>
                    <a:pt x="3929" y="91"/>
                    <a:pt x="3929" y="91"/>
                  </a:cubicBezTo>
                  <a:cubicBezTo>
                    <a:pt x="3929" y="74"/>
                    <a:pt x="3928" y="60"/>
                    <a:pt x="3928" y="60"/>
                  </a:cubicBezTo>
                  <a:cubicBezTo>
                    <a:pt x="3928" y="65"/>
                    <a:pt x="3927" y="73"/>
                    <a:pt x="3927" y="81"/>
                  </a:cubicBezTo>
                  <a:cubicBezTo>
                    <a:pt x="3926" y="79"/>
                    <a:pt x="3926" y="76"/>
                    <a:pt x="3925" y="74"/>
                  </a:cubicBezTo>
                  <a:cubicBezTo>
                    <a:pt x="3926" y="79"/>
                    <a:pt x="3926" y="83"/>
                    <a:pt x="3926" y="88"/>
                  </a:cubicBezTo>
                  <a:cubicBezTo>
                    <a:pt x="3925" y="86"/>
                    <a:pt x="3924" y="84"/>
                    <a:pt x="3923" y="83"/>
                  </a:cubicBezTo>
                  <a:cubicBezTo>
                    <a:pt x="3924" y="85"/>
                    <a:pt x="3925" y="87"/>
                    <a:pt x="3926" y="89"/>
                  </a:cubicBezTo>
                  <a:cubicBezTo>
                    <a:pt x="3926" y="89"/>
                    <a:pt x="3926" y="89"/>
                    <a:pt x="3926" y="89"/>
                  </a:cubicBezTo>
                  <a:cubicBezTo>
                    <a:pt x="3926" y="93"/>
                    <a:pt x="3925" y="97"/>
                    <a:pt x="3925" y="101"/>
                  </a:cubicBezTo>
                  <a:cubicBezTo>
                    <a:pt x="3924" y="103"/>
                    <a:pt x="3923" y="104"/>
                    <a:pt x="3923" y="106"/>
                  </a:cubicBezTo>
                  <a:cubicBezTo>
                    <a:pt x="3921" y="100"/>
                    <a:pt x="3920" y="95"/>
                    <a:pt x="3918" y="90"/>
                  </a:cubicBezTo>
                  <a:cubicBezTo>
                    <a:pt x="3919" y="88"/>
                    <a:pt x="3921" y="85"/>
                    <a:pt x="3922" y="83"/>
                  </a:cubicBezTo>
                  <a:cubicBezTo>
                    <a:pt x="3921" y="85"/>
                    <a:pt x="3919" y="87"/>
                    <a:pt x="3917" y="89"/>
                  </a:cubicBezTo>
                  <a:cubicBezTo>
                    <a:pt x="3917" y="88"/>
                    <a:pt x="3916" y="87"/>
                    <a:pt x="3916" y="87"/>
                  </a:cubicBezTo>
                  <a:cubicBezTo>
                    <a:pt x="3916" y="76"/>
                    <a:pt x="3917" y="68"/>
                    <a:pt x="3917" y="68"/>
                  </a:cubicBezTo>
                  <a:cubicBezTo>
                    <a:pt x="3916" y="72"/>
                    <a:pt x="3915" y="77"/>
                    <a:pt x="3914" y="82"/>
                  </a:cubicBezTo>
                  <a:cubicBezTo>
                    <a:pt x="3914" y="81"/>
                    <a:pt x="3914" y="80"/>
                    <a:pt x="3914" y="80"/>
                  </a:cubicBezTo>
                  <a:cubicBezTo>
                    <a:pt x="3914" y="80"/>
                    <a:pt x="3914" y="81"/>
                    <a:pt x="3914" y="82"/>
                  </a:cubicBezTo>
                  <a:cubicBezTo>
                    <a:pt x="3913" y="80"/>
                    <a:pt x="3912" y="78"/>
                    <a:pt x="3910" y="75"/>
                  </a:cubicBezTo>
                  <a:cubicBezTo>
                    <a:pt x="3911" y="65"/>
                    <a:pt x="3912" y="56"/>
                    <a:pt x="3913" y="48"/>
                  </a:cubicBezTo>
                  <a:cubicBezTo>
                    <a:pt x="3912" y="55"/>
                    <a:pt x="3910" y="64"/>
                    <a:pt x="3909" y="73"/>
                  </a:cubicBezTo>
                  <a:cubicBezTo>
                    <a:pt x="3907" y="70"/>
                    <a:pt x="3905" y="67"/>
                    <a:pt x="3903" y="64"/>
                  </a:cubicBezTo>
                  <a:cubicBezTo>
                    <a:pt x="3903" y="62"/>
                    <a:pt x="3903" y="59"/>
                    <a:pt x="3903" y="57"/>
                  </a:cubicBezTo>
                  <a:cubicBezTo>
                    <a:pt x="3902" y="58"/>
                    <a:pt x="3902" y="60"/>
                    <a:pt x="3901" y="62"/>
                  </a:cubicBezTo>
                  <a:cubicBezTo>
                    <a:pt x="3899" y="59"/>
                    <a:pt x="3896" y="55"/>
                    <a:pt x="3893" y="52"/>
                  </a:cubicBezTo>
                  <a:cubicBezTo>
                    <a:pt x="3893" y="48"/>
                    <a:pt x="3893" y="46"/>
                    <a:pt x="3893" y="46"/>
                  </a:cubicBezTo>
                  <a:cubicBezTo>
                    <a:pt x="3893" y="48"/>
                    <a:pt x="3893" y="49"/>
                    <a:pt x="3892" y="51"/>
                  </a:cubicBezTo>
                  <a:cubicBezTo>
                    <a:pt x="3889" y="47"/>
                    <a:pt x="3885" y="43"/>
                    <a:pt x="3881" y="39"/>
                  </a:cubicBezTo>
                  <a:cubicBezTo>
                    <a:pt x="3881" y="37"/>
                    <a:pt x="3881" y="35"/>
                    <a:pt x="3880" y="34"/>
                  </a:cubicBezTo>
                  <a:cubicBezTo>
                    <a:pt x="3880" y="34"/>
                    <a:pt x="3881" y="36"/>
                    <a:pt x="3881" y="39"/>
                  </a:cubicBezTo>
                  <a:cubicBezTo>
                    <a:pt x="3879" y="37"/>
                    <a:pt x="3878" y="36"/>
                    <a:pt x="3876" y="34"/>
                  </a:cubicBezTo>
                  <a:cubicBezTo>
                    <a:pt x="3878" y="36"/>
                    <a:pt x="3879" y="38"/>
                    <a:pt x="3881" y="40"/>
                  </a:cubicBezTo>
                  <a:cubicBezTo>
                    <a:pt x="3881" y="40"/>
                    <a:pt x="3881" y="40"/>
                    <a:pt x="3881" y="41"/>
                  </a:cubicBezTo>
                  <a:cubicBezTo>
                    <a:pt x="3881" y="40"/>
                    <a:pt x="3881" y="40"/>
                    <a:pt x="3881" y="40"/>
                  </a:cubicBezTo>
                  <a:cubicBezTo>
                    <a:pt x="3885" y="45"/>
                    <a:pt x="3888" y="49"/>
                    <a:pt x="3892" y="53"/>
                  </a:cubicBezTo>
                  <a:cubicBezTo>
                    <a:pt x="3891" y="55"/>
                    <a:pt x="3890" y="59"/>
                    <a:pt x="3890" y="62"/>
                  </a:cubicBezTo>
                  <a:cubicBezTo>
                    <a:pt x="3887" y="60"/>
                    <a:pt x="3885" y="58"/>
                    <a:pt x="3882" y="56"/>
                  </a:cubicBezTo>
                  <a:cubicBezTo>
                    <a:pt x="3881" y="50"/>
                    <a:pt x="3881" y="44"/>
                    <a:pt x="3881" y="41"/>
                  </a:cubicBezTo>
                  <a:cubicBezTo>
                    <a:pt x="3881" y="45"/>
                    <a:pt x="3881" y="50"/>
                    <a:pt x="3880" y="55"/>
                  </a:cubicBezTo>
                  <a:cubicBezTo>
                    <a:pt x="3879" y="54"/>
                    <a:pt x="3878" y="53"/>
                    <a:pt x="3876" y="52"/>
                  </a:cubicBezTo>
                  <a:cubicBezTo>
                    <a:pt x="3878" y="53"/>
                    <a:pt x="3879" y="54"/>
                    <a:pt x="3880" y="55"/>
                  </a:cubicBezTo>
                  <a:cubicBezTo>
                    <a:pt x="3880" y="64"/>
                    <a:pt x="3879" y="73"/>
                    <a:pt x="3877" y="83"/>
                  </a:cubicBezTo>
                  <a:cubicBezTo>
                    <a:pt x="3877" y="82"/>
                    <a:pt x="3877" y="81"/>
                    <a:pt x="3877" y="81"/>
                  </a:cubicBezTo>
                  <a:cubicBezTo>
                    <a:pt x="3877" y="82"/>
                    <a:pt x="3877" y="82"/>
                    <a:pt x="3877" y="83"/>
                  </a:cubicBezTo>
                  <a:cubicBezTo>
                    <a:pt x="3876" y="88"/>
                    <a:pt x="3876" y="92"/>
                    <a:pt x="3875" y="97"/>
                  </a:cubicBezTo>
                  <a:cubicBezTo>
                    <a:pt x="3873" y="89"/>
                    <a:pt x="3871" y="81"/>
                    <a:pt x="3868" y="73"/>
                  </a:cubicBezTo>
                  <a:cubicBezTo>
                    <a:pt x="3868" y="72"/>
                    <a:pt x="3868" y="71"/>
                    <a:pt x="3868" y="71"/>
                  </a:cubicBezTo>
                  <a:cubicBezTo>
                    <a:pt x="3869" y="70"/>
                    <a:pt x="3870" y="69"/>
                    <a:pt x="3871" y="68"/>
                  </a:cubicBezTo>
                  <a:cubicBezTo>
                    <a:pt x="3873" y="72"/>
                    <a:pt x="3875" y="76"/>
                    <a:pt x="3877" y="81"/>
                  </a:cubicBezTo>
                  <a:cubicBezTo>
                    <a:pt x="3875" y="76"/>
                    <a:pt x="3873" y="72"/>
                    <a:pt x="3871" y="67"/>
                  </a:cubicBezTo>
                  <a:cubicBezTo>
                    <a:pt x="3872" y="67"/>
                    <a:pt x="3872" y="66"/>
                    <a:pt x="3873" y="65"/>
                  </a:cubicBezTo>
                  <a:cubicBezTo>
                    <a:pt x="3872" y="66"/>
                    <a:pt x="3872" y="66"/>
                    <a:pt x="3871" y="67"/>
                  </a:cubicBezTo>
                  <a:cubicBezTo>
                    <a:pt x="3865" y="54"/>
                    <a:pt x="3855" y="41"/>
                    <a:pt x="3843" y="25"/>
                  </a:cubicBezTo>
                  <a:cubicBezTo>
                    <a:pt x="3855" y="42"/>
                    <a:pt x="3864" y="55"/>
                    <a:pt x="3870" y="68"/>
                  </a:cubicBezTo>
                  <a:cubicBezTo>
                    <a:pt x="3870" y="68"/>
                    <a:pt x="3869" y="69"/>
                    <a:pt x="3868" y="70"/>
                  </a:cubicBezTo>
                  <a:cubicBezTo>
                    <a:pt x="3868" y="68"/>
                    <a:pt x="3868" y="66"/>
                    <a:pt x="3868" y="66"/>
                  </a:cubicBezTo>
                  <a:cubicBezTo>
                    <a:pt x="3868" y="68"/>
                    <a:pt x="3868" y="69"/>
                    <a:pt x="3867" y="71"/>
                  </a:cubicBezTo>
                  <a:cubicBezTo>
                    <a:pt x="3867" y="71"/>
                    <a:pt x="3867" y="71"/>
                    <a:pt x="3867" y="71"/>
                  </a:cubicBezTo>
                  <a:cubicBezTo>
                    <a:pt x="3863" y="61"/>
                    <a:pt x="3856" y="52"/>
                    <a:pt x="3847" y="42"/>
                  </a:cubicBezTo>
                  <a:cubicBezTo>
                    <a:pt x="3854" y="55"/>
                    <a:pt x="3859" y="65"/>
                    <a:pt x="3863" y="75"/>
                  </a:cubicBezTo>
                  <a:cubicBezTo>
                    <a:pt x="3862" y="76"/>
                    <a:pt x="3861" y="77"/>
                    <a:pt x="3860" y="77"/>
                  </a:cubicBezTo>
                  <a:cubicBezTo>
                    <a:pt x="3858" y="73"/>
                    <a:pt x="3856" y="70"/>
                    <a:pt x="3854" y="68"/>
                  </a:cubicBezTo>
                  <a:cubicBezTo>
                    <a:pt x="3853" y="63"/>
                    <a:pt x="3853" y="60"/>
                    <a:pt x="3853" y="60"/>
                  </a:cubicBezTo>
                  <a:cubicBezTo>
                    <a:pt x="3853" y="62"/>
                    <a:pt x="3853" y="64"/>
                    <a:pt x="3853" y="67"/>
                  </a:cubicBezTo>
                  <a:cubicBezTo>
                    <a:pt x="3847" y="57"/>
                    <a:pt x="3839" y="47"/>
                    <a:pt x="3828" y="38"/>
                  </a:cubicBezTo>
                  <a:cubicBezTo>
                    <a:pt x="3838" y="49"/>
                    <a:pt x="3846" y="60"/>
                    <a:pt x="3852" y="71"/>
                  </a:cubicBezTo>
                  <a:cubicBezTo>
                    <a:pt x="3852" y="75"/>
                    <a:pt x="3852" y="80"/>
                    <a:pt x="3851" y="85"/>
                  </a:cubicBezTo>
                  <a:cubicBezTo>
                    <a:pt x="3851" y="84"/>
                    <a:pt x="3851" y="83"/>
                    <a:pt x="3850" y="83"/>
                  </a:cubicBezTo>
                  <a:cubicBezTo>
                    <a:pt x="3850" y="84"/>
                    <a:pt x="3851" y="85"/>
                    <a:pt x="3851" y="86"/>
                  </a:cubicBezTo>
                  <a:cubicBezTo>
                    <a:pt x="3851" y="87"/>
                    <a:pt x="3851" y="88"/>
                    <a:pt x="3851" y="89"/>
                  </a:cubicBezTo>
                  <a:cubicBezTo>
                    <a:pt x="3849" y="92"/>
                    <a:pt x="3848" y="94"/>
                    <a:pt x="3846" y="97"/>
                  </a:cubicBezTo>
                  <a:cubicBezTo>
                    <a:pt x="3846" y="93"/>
                    <a:pt x="3846" y="90"/>
                    <a:pt x="3846" y="87"/>
                  </a:cubicBezTo>
                  <a:cubicBezTo>
                    <a:pt x="3847" y="84"/>
                    <a:pt x="3848" y="82"/>
                    <a:pt x="3848" y="80"/>
                  </a:cubicBezTo>
                  <a:cubicBezTo>
                    <a:pt x="3849" y="81"/>
                    <a:pt x="3849" y="82"/>
                    <a:pt x="3850" y="83"/>
                  </a:cubicBezTo>
                  <a:cubicBezTo>
                    <a:pt x="3849" y="81"/>
                    <a:pt x="3849" y="80"/>
                    <a:pt x="3848" y="79"/>
                  </a:cubicBezTo>
                  <a:cubicBezTo>
                    <a:pt x="3849" y="79"/>
                    <a:pt x="3849" y="78"/>
                    <a:pt x="3849" y="77"/>
                  </a:cubicBezTo>
                  <a:cubicBezTo>
                    <a:pt x="3849" y="77"/>
                    <a:pt x="3848" y="78"/>
                    <a:pt x="3848" y="79"/>
                  </a:cubicBezTo>
                  <a:cubicBezTo>
                    <a:pt x="3847" y="77"/>
                    <a:pt x="3847" y="76"/>
                    <a:pt x="3846" y="75"/>
                  </a:cubicBezTo>
                  <a:cubicBezTo>
                    <a:pt x="3847" y="77"/>
                    <a:pt x="3847" y="78"/>
                    <a:pt x="3848" y="79"/>
                  </a:cubicBezTo>
                  <a:cubicBezTo>
                    <a:pt x="3847" y="80"/>
                    <a:pt x="3846" y="81"/>
                    <a:pt x="3846" y="82"/>
                  </a:cubicBezTo>
                  <a:cubicBezTo>
                    <a:pt x="3846" y="73"/>
                    <a:pt x="3846" y="68"/>
                    <a:pt x="3846" y="68"/>
                  </a:cubicBezTo>
                  <a:cubicBezTo>
                    <a:pt x="3845" y="72"/>
                    <a:pt x="3845" y="78"/>
                    <a:pt x="3844" y="85"/>
                  </a:cubicBezTo>
                  <a:cubicBezTo>
                    <a:pt x="3841" y="90"/>
                    <a:pt x="3839" y="94"/>
                    <a:pt x="3838" y="99"/>
                  </a:cubicBezTo>
                  <a:cubicBezTo>
                    <a:pt x="3837" y="98"/>
                    <a:pt x="3837" y="97"/>
                    <a:pt x="3837" y="96"/>
                  </a:cubicBezTo>
                  <a:cubicBezTo>
                    <a:pt x="3837" y="92"/>
                    <a:pt x="3838" y="89"/>
                    <a:pt x="3838" y="89"/>
                  </a:cubicBezTo>
                  <a:cubicBezTo>
                    <a:pt x="3838" y="91"/>
                    <a:pt x="3837" y="92"/>
                    <a:pt x="3837" y="94"/>
                  </a:cubicBezTo>
                  <a:cubicBezTo>
                    <a:pt x="3836" y="91"/>
                    <a:pt x="3835" y="88"/>
                    <a:pt x="3835" y="85"/>
                  </a:cubicBezTo>
                  <a:cubicBezTo>
                    <a:pt x="3834" y="88"/>
                    <a:pt x="3834" y="91"/>
                    <a:pt x="3834" y="94"/>
                  </a:cubicBezTo>
                  <a:cubicBezTo>
                    <a:pt x="3834" y="97"/>
                    <a:pt x="3834" y="100"/>
                    <a:pt x="3834" y="103"/>
                  </a:cubicBezTo>
                  <a:cubicBezTo>
                    <a:pt x="3833" y="107"/>
                    <a:pt x="3831" y="112"/>
                    <a:pt x="3830" y="116"/>
                  </a:cubicBezTo>
                  <a:cubicBezTo>
                    <a:pt x="3828" y="112"/>
                    <a:pt x="3827" y="108"/>
                    <a:pt x="3826" y="104"/>
                  </a:cubicBezTo>
                  <a:cubicBezTo>
                    <a:pt x="3827" y="109"/>
                    <a:pt x="3828" y="115"/>
                    <a:pt x="3828" y="120"/>
                  </a:cubicBezTo>
                  <a:cubicBezTo>
                    <a:pt x="3827" y="124"/>
                    <a:pt x="3825" y="127"/>
                    <a:pt x="3824" y="130"/>
                  </a:cubicBezTo>
                  <a:cubicBezTo>
                    <a:pt x="3823" y="128"/>
                    <a:pt x="3822" y="126"/>
                    <a:pt x="3822" y="123"/>
                  </a:cubicBezTo>
                  <a:cubicBezTo>
                    <a:pt x="3823" y="115"/>
                    <a:pt x="3825" y="106"/>
                    <a:pt x="3827" y="98"/>
                  </a:cubicBezTo>
                  <a:cubicBezTo>
                    <a:pt x="3828" y="98"/>
                    <a:pt x="3828" y="97"/>
                    <a:pt x="3828" y="96"/>
                  </a:cubicBezTo>
                  <a:cubicBezTo>
                    <a:pt x="3828" y="96"/>
                    <a:pt x="3828" y="97"/>
                    <a:pt x="3827" y="97"/>
                  </a:cubicBezTo>
                  <a:cubicBezTo>
                    <a:pt x="3830" y="86"/>
                    <a:pt x="3833" y="76"/>
                    <a:pt x="3833" y="76"/>
                  </a:cubicBezTo>
                  <a:cubicBezTo>
                    <a:pt x="3828" y="83"/>
                    <a:pt x="3822" y="96"/>
                    <a:pt x="3818" y="109"/>
                  </a:cubicBezTo>
                  <a:cubicBezTo>
                    <a:pt x="3818" y="107"/>
                    <a:pt x="3817" y="106"/>
                    <a:pt x="3817" y="104"/>
                  </a:cubicBezTo>
                  <a:cubicBezTo>
                    <a:pt x="3819" y="97"/>
                    <a:pt x="3822" y="90"/>
                    <a:pt x="3825" y="84"/>
                  </a:cubicBezTo>
                  <a:cubicBezTo>
                    <a:pt x="3822" y="90"/>
                    <a:pt x="3819" y="96"/>
                    <a:pt x="3817" y="102"/>
                  </a:cubicBezTo>
                  <a:cubicBezTo>
                    <a:pt x="3816" y="102"/>
                    <a:pt x="3816" y="101"/>
                    <a:pt x="3816" y="101"/>
                  </a:cubicBezTo>
                  <a:cubicBezTo>
                    <a:pt x="3818" y="77"/>
                    <a:pt x="3814" y="62"/>
                    <a:pt x="3814" y="62"/>
                  </a:cubicBezTo>
                  <a:cubicBezTo>
                    <a:pt x="3815" y="69"/>
                    <a:pt x="3815" y="80"/>
                    <a:pt x="3813" y="91"/>
                  </a:cubicBezTo>
                  <a:cubicBezTo>
                    <a:pt x="3813" y="89"/>
                    <a:pt x="3813" y="88"/>
                    <a:pt x="3812" y="87"/>
                  </a:cubicBezTo>
                  <a:cubicBezTo>
                    <a:pt x="3812" y="88"/>
                    <a:pt x="3812" y="88"/>
                    <a:pt x="3812" y="88"/>
                  </a:cubicBezTo>
                  <a:cubicBezTo>
                    <a:pt x="3812" y="90"/>
                    <a:pt x="3812" y="93"/>
                    <a:pt x="3813" y="96"/>
                  </a:cubicBezTo>
                  <a:cubicBezTo>
                    <a:pt x="3812" y="101"/>
                    <a:pt x="3812" y="105"/>
                    <a:pt x="3811" y="110"/>
                  </a:cubicBezTo>
                  <a:cubicBezTo>
                    <a:pt x="3810" y="109"/>
                    <a:pt x="3810" y="107"/>
                    <a:pt x="3809" y="106"/>
                  </a:cubicBezTo>
                  <a:cubicBezTo>
                    <a:pt x="3810" y="103"/>
                    <a:pt x="3810" y="99"/>
                    <a:pt x="3811" y="96"/>
                  </a:cubicBezTo>
                  <a:cubicBezTo>
                    <a:pt x="3810" y="98"/>
                    <a:pt x="3809" y="100"/>
                    <a:pt x="3808" y="103"/>
                  </a:cubicBezTo>
                  <a:cubicBezTo>
                    <a:pt x="3807" y="101"/>
                    <a:pt x="3806" y="99"/>
                    <a:pt x="3806" y="98"/>
                  </a:cubicBezTo>
                  <a:cubicBezTo>
                    <a:pt x="3806" y="89"/>
                    <a:pt x="3807" y="82"/>
                    <a:pt x="3807" y="82"/>
                  </a:cubicBezTo>
                  <a:cubicBezTo>
                    <a:pt x="3805" y="97"/>
                    <a:pt x="3805" y="97"/>
                    <a:pt x="3805" y="97"/>
                  </a:cubicBezTo>
                  <a:cubicBezTo>
                    <a:pt x="3804" y="94"/>
                    <a:pt x="3803" y="92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89"/>
                    <a:pt x="3802" y="89"/>
                    <a:pt x="3801" y="88"/>
                  </a:cubicBezTo>
                  <a:cubicBezTo>
                    <a:pt x="3801" y="83"/>
                    <a:pt x="3801" y="78"/>
                    <a:pt x="3801" y="73"/>
                  </a:cubicBezTo>
                  <a:cubicBezTo>
                    <a:pt x="3804" y="70"/>
                    <a:pt x="3807" y="66"/>
                    <a:pt x="3810" y="63"/>
                  </a:cubicBezTo>
                  <a:cubicBezTo>
                    <a:pt x="3807" y="66"/>
                    <a:pt x="3804" y="69"/>
                    <a:pt x="3801" y="71"/>
                  </a:cubicBezTo>
                  <a:cubicBezTo>
                    <a:pt x="3801" y="65"/>
                    <a:pt x="3800" y="60"/>
                    <a:pt x="3800" y="60"/>
                  </a:cubicBezTo>
                  <a:cubicBezTo>
                    <a:pt x="3800" y="64"/>
                    <a:pt x="3800" y="68"/>
                    <a:pt x="3800" y="72"/>
                  </a:cubicBezTo>
                  <a:cubicBezTo>
                    <a:pt x="3798" y="74"/>
                    <a:pt x="3797" y="75"/>
                    <a:pt x="3796" y="77"/>
                  </a:cubicBezTo>
                  <a:cubicBezTo>
                    <a:pt x="3795" y="70"/>
                    <a:pt x="3795" y="64"/>
                    <a:pt x="3795" y="64"/>
                  </a:cubicBezTo>
                  <a:cubicBezTo>
                    <a:pt x="3795" y="66"/>
                    <a:pt x="3795" y="71"/>
                    <a:pt x="3794" y="78"/>
                  </a:cubicBezTo>
                  <a:cubicBezTo>
                    <a:pt x="3791" y="81"/>
                    <a:pt x="3789" y="85"/>
                    <a:pt x="3787" y="88"/>
                  </a:cubicBezTo>
                  <a:cubicBezTo>
                    <a:pt x="3787" y="64"/>
                    <a:pt x="3786" y="42"/>
                    <a:pt x="3786" y="42"/>
                  </a:cubicBezTo>
                  <a:cubicBezTo>
                    <a:pt x="3787" y="55"/>
                    <a:pt x="3784" y="77"/>
                    <a:pt x="3782" y="96"/>
                  </a:cubicBezTo>
                  <a:cubicBezTo>
                    <a:pt x="3780" y="100"/>
                    <a:pt x="3778" y="104"/>
                    <a:pt x="3777" y="107"/>
                  </a:cubicBezTo>
                  <a:cubicBezTo>
                    <a:pt x="3776" y="107"/>
                    <a:pt x="3776" y="106"/>
                    <a:pt x="3776" y="106"/>
                  </a:cubicBezTo>
                  <a:cubicBezTo>
                    <a:pt x="3777" y="87"/>
                    <a:pt x="3780" y="70"/>
                    <a:pt x="3780" y="70"/>
                  </a:cubicBezTo>
                  <a:cubicBezTo>
                    <a:pt x="3778" y="74"/>
                    <a:pt x="3775" y="98"/>
                    <a:pt x="3773" y="117"/>
                  </a:cubicBezTo>
                  <a:cubicBezTo>
                    <a:pt x="3773" y="118"/>
                    <a:pt x="3773" y="119"/>
                    <a:pt x="3773" y="120"/>
                  </a:cubicBezTo>
                  <a:cubicBezTo>
                    <a:pt x="3773" y="119"/>
                    <a:pt x="3773" y="119"/>
                    <a:pt x="3773" y="118"/>
                  </a:cubicBezTo>
                  <a:cubicBezTo>
                    <a:pt x="3773" y="119"/>
                    <a:pt x="3773" y="119"/>
                    <a:pt x="3773" y="120"/>
                  </a:cubicBezTo>
                  <a:cubicBezTo>
                    <a:pt x="3772" y="121"/>
                    <a:pt x="3772" y="121"/>
                    <a:pt x="3772" y="122"/>
                  </a:cubicBezTo>
                  <a:cubicBezTo>
                    <a:pt x="3772" y="115"/>
                    <a:pt x="3772" y="108"/>
                    <a:pt x="3772" y="101"/>
                  </a:cubicBezTo>
                  <a:cubicBezTo>
                    <a:pt x="3772" y="101"/>
                    <a:pt x="3772" y="100"/>
                    <a:pt x="3772" y="100"/>
                  </a:cubicBezTo>
                  <a:cubicBezTo>
                    <a:pt x="3772" y="100"/>
                    <a:pt x="3772" y="101"/>
                    <a:pt x="3772" y="101"/>
                  </a:cubicBezTo>
                  <a:cubicBezTo>
                    <a:pt x="3772" y="98"/>
                    <a:pt x="3772" y="94"/>
                    <a:pt x="3771" y="91"/>
                  </a:cubicBezTo>
                  <a:cubicBezTo>
                    <a:pt x="3773" y="88"/>
                    <a:pt x="3775" y="85"/>
                    <a:pt x="3777" y="83"/>
                  </a:cubicBezTo>
                  <a:cubicBezTo>
                    <a:pt x="3775" y="85"/>
                    <a:pt x="3773" y="87"/>
                    <a:pt x="3771" y="90"/>
                  </a:cubicBezTo>
                  <a:cubicBezTo>
                    <a:pt x="3771" y="79"/>
                    <a:pt x="3770" y="69"/>
                    <a:pt x="3770" y="61"/>
                  </a:cubicBezTo>
                  <a:cubicBezTo>
                    <a:pt x="3769" y="73"/>
                    <a:pt x="3767" y="87"/>
                    <a:pt x="3765" y="100"/>
                  </a:cubicBezTo>
                  <a:cubicBezTo>
                    <a:pt x="3761" y="107"/>
                    <a:pt x="3758" y="115"/>
                    <a:pt x="3756" y="123"/>
                  </a:cubicBezTo>
                  <a:cubicBezTo>
                    <a:pt x="3757" y="109"/>
                    <a:pt x="3758" y="92"/>
                    <a:pt x="3759" y="80"/>
                  </a:cubicBezTo>
                  <a:cubicBezTo>
                    <a:pt x="3761" y="73"/>
                    <a:pt x="3762" y="67"/>
                    <a:pt x="3762" y="61"/>
                  </a:cubicBezTo>
                  <a:cubicBezTo>
                    <a:pt x="3762" y="60"/>
                    <a:pt x="3762" y="60"/>
                    <a:pt x="3762" y="60"/>
                  </a:cubicBezTo>
                  <a:cubicBezTo>
                    <a:pt x="3753" y="75"/>
                    <a:pt x="3749" y="88"/>
                    <a:pt x="3747" y="102"/>
                  </a:cubicBezTo>
                  <a:cubicBezTo>
                    <a:pt x="3747" y="102"/>
                    <a:pt x="3747" y="101"/>
                    <a:pt x="3747" y="101"/>
                  </a:cubicBezTo>
                  <a:cubicBezTo>
                    <a:pt x="3748" y="68"/>
                    <a:pt x="3751" y="30"/>
                    <a:pt x="3751" y="30"/>
                  </a:cubicBezTo>
                  <a:cubicBezTo>
                    <a:pt x="3748" y="38"/>
                    <a:pt x="3746" y="60"/>
                    <a:pt x="3743" y="83"/>
                  </a:cubicBezTo>
                  <a:cubicBezTo>
                    <a:pt x="3741" y="87"/>
                    <a:pt x="3738" y="92"/>
                    <a:pt x="3736" y="97"/>
                  </a:cubicBezTo>
                  <a:cubicBezTo>
                    <a:pt x="3736" y="91"/>
                    <a:pt x="3735" y="85"/>
                    <a:pt x="3735" y="79"/>
                  </a:cubicBezTo>
                  <a:cubicBezTo>
                    <a:pt x="3735" y="78"/>
                    <a:pt x="3735" y="78"/>
                    <a:pt x="3736" y="78"/>
                  </a:cubicBezTo>
                  <a:cubicBezTo>
                    <a:pt x="3735" y="78"/>
                    <a:pt x="3735" y="78"/>
                    <a:pt x="3735" y="78"/>
                  </a:cubicBezTo>
                  <a:cubicBezTo>
                    <a:pt x="3733" y="58"/>
                    <a:pt x="3732" y="41"/>
                    <a:pt x="3732" y="41"/>
                  </a:cubicBezTo>
                  <a:cubicBezTo>
                    <a:pt x="3733" y="52"/>
                    <a:pt x="3733" y="67"/>
                    <a:pt x="3732" y="82"/>
                  </a:cubicBezTo>
                  <a:cubicBezTo>
                    <a:pt x="3730" y="84"/>
                    <a:pt x="3728" y="87"/>
                    <a:pt x="3726" y="92"/>
                  </a:cubicBezTo>
                  <a:cubicBezTo>
                    <a:pt x="3725" y="82"/>
                    <a:pt x="3726" y="72"/>
                    <a:pt x="3726" y="68"/>
                  </a:cubicBezTo>
                  <a:cubicBezTo>
                    <a:pt x="3725" y="77"/>
                    <a:pt x="3724" y="88"/>
                    <a:pt x="3722" y="99"/>
                  </a:cubicBezTo>
                  <a:cubicBezTo>
                    <a:pt x="3720" y="94"/>
                    <a:pt x="3719" y="89"/>
                    <a:pt x="3717" y="84"/>
                  </a:cubicBezTo>
                  <a:cubicBezTo>
                    <a:pt x="3719" y="90"/>
                    <a:pt x="3720" y="96"/>
                    <a:pt x="3721" y="101"/>
                  </a:cubicBezTo>
                  <a:cubicBezTo>
                    <a:pt x="3721" y="105"/>
                    <a:pt x="3720" y="109"/>
                    <a:pt x="3719" y="113"/>
                  </a:cubicBezTo>
                  <a:cubicBezTo>
                    <a:pt x="3719" y="110"/>
                    <a:pt x="3719" y="108"/>
                    <a:pt x="3719" y="105"/>
                  </a:cubicBezTo>
                  <a:cubicBezTo>
                    <a:pt x="3718" y="108"/>
                    <a:pt x="3718" y="115"/>
                    <a:pt x="3718" y="119"/>
                  </a:cubicBezTo>
                  <a:cubicBezTo>
                    <a:pt x="3717" y="120"/>
                    <a:pt x="3717" y="122"/>
                    <a:pt x="3717" y="124"/>
                  </a:cubicBezTo>
                  <a:cubicBezTo>
                    <a:pt x="3716" y="125"/>
                    <a:pt x="3716" y="127"/>
                    <a:pt x="3716" y="128"/>
                  </a:cubicBezTo>
                  <a:cubicBezTo>
                    <a:pt x="3715" y="124"/>
                    <a:pt x="3714" y="120"/>
                    <a:pt x="3713" y="116"/>
                  </a:cubicBezTo>
                  <a:cubicBezTo>
                    <a:pt x="3714" y="108"/>
                    <a:pt x="3714" y="100"/>
                    <a:pt x="3715" y="94"/>
                  </a:cubicBezTo>
                  <a:cubicBezTo>
                    <a:pt x="3716" y="92"/>
                    <a:pt x="3716" y="91"/>
                    <a:pt x="3717" y="89"/>
                  </a:cubicBezTo>
                  <a:cubicBezTo>
                    <a:pt x="3716" y="90"/>
                    <a:pt x="3716" y="91"/>
                    <a:pt x="3715" y="92"/>
                  </a:cubicBezTo>
                  <a:cubicBezTo>
                    <a:pt x="3716" y="87"/>
                    <a:pt x="3716" y="83"/>
                    <a:pt x="3716" y="83"/>
                  </a:cubicBezTo>
                  <a:cubicBezTo>
                    <a:pt x="3716" y="85"/>
                    <a:pt x="3715" y="89"/>
                    <a:pt x="3714" y="93"/>
                  </a:cubicBezTo>
                  <a:cubicBezTo>
                    <a:pt x="3713" y="96"/>
                    <a:pt x="3711" y="99"/>
                    <a:pt x="3710" y="102"/>
                  </a:cubicBezTo>
                  <a:cubicBezTo>
                    <a:pt x="3709" y="101"/>
                    <a:pt x="3709" y="100"/>
                    <a:pt x="3709" y="99"/>
                  </a:cubicBezTo>
                  <a:cubicBezTo>
                    <a:pt x="3711" y="80"/>
                    <a:pt x="3713" y="62"/>
                    <a:pt x="3713" y="62"/>
                  </a:cubicBezTo>
                  <a:cubicBezTo>
                    <a:pt x="3711" y="66"/>
                    <a:pt x="3709" y="80"/>
                    <a:pt x="3707" y="95"/>
                  </a:cubicBezTo>
                  <a:cubicBezTo>
                    <a:pt x="3707" y="94"/>
                    <a:pt x="3706" y="92"/>
                    <a:pt x="3705" y="90"/>
                  </a:cubicBezTo>
                  <a:cubicBezTo>
                    <a:pt x="3706" y="92"/>
                    <a:pt x="3707" y="94"/>
                    <a:pt x="3707" y="96"/>
                  </a:cubicBezTo>
                  <a:cubicBezTo>
                    <a:pt x="3707" y="101"/>
                    <a:pt x="3706" y="106"/>
                    <a:pt x="3706" y="110"/>
                  </a:cubicBezTo>
                  <a:cubicBezTo>
                    <a:pt x="3705" y="113"/>
                    <a:pt x="3704" y="116"/>
                    <a:pt x="3703" y="118"/>
                  </a:cubicBezTo>
                  <a:cubicBezTo>
                    <a:pt x="3701" y="94"/>
                    <a:pt x="3696" y="64"/>
                    <a:pt x="3696" y="64"/>
                  </a:cubicBezTo>
                  <a:cubicBezTo>
                    <a:pt x="3696" y="64"/>
                    <a:pt x="3696" y="73"/>
                    <a:pt x="3697" y="82"/>
                  </a:cubicBezTo>
                  <a:cubicBezTo>
                    <a:pt x="3698" y="88"/>
                    <a:pt x="3697" y="98"/>
                    <a:pt x="3695" y="108"/>
                  </a:cubicBezTo>
                  <a:cubicBezTo>
                    <a:pt x="3694" y="111"/>
                    <a:pt x="3693" y="114"/>
                    <a:pt x="3692" y="117"/>
                  </a:cubicBezTo>
                  <a:cubicBezTo>
                    <a:pt x="3692" y="108"/>
                    <a:pt x="3691" y="99"/>
                    <a:pt x="3689" y="90"/>
                  </a:cubicBezTo>
                  <a:cubicBezTo>
                    <a:pt x="3692" y="78"/>
                    <a:pt x="3697" y="66"/>
                    <a:pt x="3696" y="56"/>
                  </a:cubicBezTo>
                  <a:cubicBezTo>
                    <a:pt x="3693" y="62"/>
                    <a:pt x="3690" y="67"/>
                    <a:pt x="3688" y="72"/>
                  </a:cubicBezTo>
                  <a:cubicBezTo>
                    <a:pt x="3691" y="34"/>
                    <a:pt x="3684" y="19"/>
                    <a:pt x="3684" y="19"/>
                  </a:cubicBezTo>
                  <a:cubicBezTo>
                    <a:pt x="3684" y="19"/>
                    <a:pt x="3687" y="31"/>
                    <a:pt x="3686" y="54"/>
                  </a:cubicBezTo>
                  <a:cubicBezTo>
                    <a:pt x="3685" y="61"/>
                    <a:pt x="3684" y="74"/>
                    <a:pt x="3682" y="88"/>
                  </a:cubicBezTo>
                  <a:cubicBezTo>
                    <a:pt x="3681" y="92"/>
                    <a:pt x="3680" y="97"/>
                    <a:pt x="3680" y="101"/>
                  </a:cubicBezTo>
                  <a:cubicBezTo>
                    <a:pt x="3679" y="98"/>
                    <a:pt x="3678" y="95"/>
                    <a:pt x="3676" y="91"/>
                  </a:cubicBezTo>
                  <a:cubicBezTo>
                    <a:pt x="3677" y="89"/>
                    <a:pt x="3677" y="87"/>
                    <a:pt x="3678" y="85"/>
                  </a:cubicBezTo>
                  <a:cubicBezTo>
                    <a:pt x="3677" y="87"/>
                    <a:pt x="3677" y="88"/>
                    <a:pt x="3676" y="90"/>
                  </a:cubicBezTo>
                  <a:cubicBezTo>
                    <a:pt x="3676" y="89"/>
                    <a:pt x="3675" y="88"/>
                    <a:pt x="3675" y="87"/>
                  </a:cubicBezTo>
                  <a:cubicBezTo>
                    <a:pt x="3675" y="83"/>
                    <a:pt x="3675" y="78"/>
                    <a:pt x="3675" y="74"/>
                  </a:cubicBezTo>
                  <a:cubicBezTo>
                    <a:pt x="3675" y="46"/>
                    <a:pt x="3665" y="40"/>
                    <a:pt x="3665" y="40"/>
                  </a:cubicBezTo>
                  <a:cubicBezTo>
                    <a:pt x="3665" y="40"/>
                    <a:pt x="3671" y="44"/>
                    <a:pt x="3671" y="70"/>
                  </a:cubicBezTo>
                  <a:cubicBezTo>
                    <a:pt x="3671" y="84"/>
                    <a:pt x="3666" y="108"/>
                    <a:pt x="3661" y="125"/>
                  </a:cubicBezTo>
                  <a:cubicBezTo>
                    <a:pt x="3661" y="123"/>
                    <a:pt x="3661" y="120"/>
                    <a:pt x="3660" y="118"/>
                  </a:cubicBezTo>
                  <a:cubicBezTo>
                    <a:pt x="3661" y="111"/>
                    <a:pt x="3662" y="105"/>
                    <a:pt x="3662" y="98"/>
                  </a:cubicBezTo>
                  <a:cubicBezTo>
                    <a:pt x="3661" y="101"/>
                    <a:pt x="3660" y="104"/>
                    <a:pt x="3660" y="107"/>
                  </a:cubicBezTo>
                  <a:cubicBezTo>
                    <a:pt x="3660" y="107"/>
                    <a:pt x="3660" y="106"/>
                    <a:pt x="3660" y="106"/>
                  </a:cubicBezTo>
                  <a:cubicBezTo>
                    <a:pt x="3660" y="97"/>
                    <a:pt x="3661" y="83"/>
                    <a:pt x="3667" y="75"/>
                  </a:cubicBezTo>
                  <a:cubicBezTo>
                    <a:pt x="3664" y="77"/>
                    <a:pt x="3661" y="82"/>
                    <a:pt x="3659" y="87"/>
                  </a:cubicBezTo>
                  <a:cubicBezTo>
                    <a:pt x="3660" y="78"/>
                    <a:pt x="3660" y="71"/>
                    <a:pt x="3660" y="71"/>
                  </a:cubicBezTo>
                  <a:cubicBezTo>
                    <a:pt x="3659" y="75"/>
                    <a:pt x="3656" y="97"/>
                    <a:pt x="3652" y="116"/>
                  </a:cubicBezTo>
                  <a:cubicBezTo>
                    <a:pt x="3652" y="114"/>
                    <a:pt x="3652" y="112"/>
                    <a:pt x="3651" y="110"/>
                  </a:cubicBezTo>
                  <a:cubicBezTo>
                    <a:pt x="3652" y="99"/>
                    <a:pt x="3653" y="87"/>
                    <a:pt x="3654" y="78"/>
                  </a:cubicBezTo>
                  <a:cubicBezTo>
                    <a:pt x="3656" y="71"/>
                    <a:pt x="3658" y="63"/>
                    <a:pt x="3660" y="55"/>
                  </a:cubicBezTo>
                  <a:cubicBezTo>
                    <a:pt x="3660" y="54"/>
                    <a:pt x="3660" y="52"/>
                    <a:pt x="3660" y="51"/>
                  </a:cubicBezTo>
                  <a:cubicBezTo>
                    <a:pt x="3658" y="54"/>
                    <a:pt x="3657" y="57"/>
                    <a:pt x="3656" y="60"/>
                  </a:cubicBezTo>
                  <a:cubicBezTo>
                    <a:pt x="3656" y="60"/>
                    <a:pt x="3656" y="59"/>
                    <a:pt x="3656" y="59"/>
                  </a:cubicBezTo>
                  <a:cubicBezTo>
                    <a:pt x="3656" y="60"/>
                    <a:pt x="3656" y="60"/>
                    <a:pt x="3656" y="60"/>
                  </a:cubicBezTo>
                  <a:cubicBezTo>
                    <a:pt x="3652" y="70"/>
                    <a:pt x="3649" y="80"/>
                    <a:pt x="3646" y="89"/>
                  </a:cubicBezTo>
                  <a:cubicBezTo>
                    <a:pt x="3652" y="30"/>
                    <a:pt x="3649" y="15"/>
                    <a:pt x="3648" y="13"/>
                  </a:cubicBezTo>
                  <a:cubicBezTo>
                    <a:pt x="3648" y="15"/>
                    <a:pt x="3649" y="22"/>
                    <a:pt x="3645" y="56"/>
                  </a:cubicBezTo>
                  <a:cubicBezTo>
                    <a:pt x="3643" y="68"/>
                    <a:pt x="3642" y="80"/>
                    <a:pt x="3640" y="91"/>
                  </a:cubicBezTo>
                  <a:cubicBezTo>
                    <a:pt x="3639" y="85"/>
                    <a:pt x="3637" y="79"/>
                    <a:pt x="3635" y="74"/>
                  </a:cubicBezTo>
                  <a:cubicBezTo>
                    <a:pt x="3636" y="51"/>
                    <a:pt x="3637" y="31"/>
                    <a:pt x="3637" y="31"/>
                  </a:cubicBezTo>
                  <a:cubicBezTo>
                    <a:pt x="3635" y="38"/>
                    <a:pt x="3633" y="53"/>
                    <a:pt x="3632" y="69"/>
                  </a:cubicBezTo>
                  <a:cubicBezTo>
                    <a:pt x="3631" y="68"/>
                    <a:pt x="3630" y="67"/>
                    <a:pt x="3629" y="65"/>
                  </a:cubicBezTo>
                  <a:cubicBezTo>
                    <a:pt x="3630" y="67"/>
                    <a:pt x="3631" y="69"/>
                    <a:pt x="3632" y="71"/>
                  </a:cubicBezTo>
                  <a:cubicBezTo>
                    <a:pt x="3632" y="71"/>
                    <a:pt x="3632" y="72"/>
                    <a:pt x="3632" y="73"/>
                  </a:cubicBezTo>
                  <a:cubicBezTo>
                    <a:pt x="3629" y="77"/>
                    <a:pt x="3626" y="81"/>
                    <a:pt x="3624" y="86"/>
                  </a:cubicBezTo>
                  <a:cubicBezTo>
                    <a:pt x="3623" y="85"/>
                    <a:pt x="3623" y="84"/>
                    <a:pt x="3622" y="83"/>
                  </a:cubicBezTo>
                  <a:cubicBezTo>
                    <a:pt x="3619" y="61"/>
                    <a:pt x="3617" y="38"/>
                    <a:pt x="3614" y="28"/>
                  </a:cubicBezTo>
                  <a:cubicBezTo>
                    <a:pt x="3614" y="28"/>
                    <a:pt x="3617" y="54"/>
                    <a:pt x="3621" y="83"/>
                  </a:cubicBezTo>
                  <a:cubicBezTo>
                    <a:pt x="3620" y="82"/>
                    <a:pt x="3619" y="81"/>
                    <a:pt x="3618" y="80"/>
                  </a:cubicBezTo>
                  <a:cubicBezTo>
                    <a:pt x="3620" y="81"/>
                    <a:pt x="3621" y="82"/>
                    <a:pt x="3622" y="84"/>
                  </a:cubicBezTo>
                  <a:cubicBezTo>
                    <a:pt x="3622" y="85"/>
                    <a:pt x="3622" y="86"/>
                    <a:pt x="3622" y="88"/>
                  </a:cubicBezTo>
                  <a:cubicBezTo>
                    <a:pt x="3622" y="86"/>
                    <a:pt x="3622" y="85"/>
                    <a:pt x="3622" y="84"/>
                  </a:cubicBezTo>
                  <a:cubicBezTo>
                    <a:pt x="3622" y="85"/>
                    <a:pt x="3623" y="86"/>
                    <a:pt x="3624" y="87"/>
                  </a:cubicBezTo>
                  <a:cubicBezTo>
                    <a:pt x="3623" y="88"/>
                    <a:pt x="3623" y="89"/>
                    <a:pt x="3622" y="90"/>
                  </a:cubicBezTo>
                  <a:cubicBezTo>
                    <a:pt x="3622" y="89"/>
                    <a:pt x="3622" y="88"/>
                    <a:pt x="3622" y="88"/>
                  </a:cubicBezTo>
                  <a:cubicBezTo>
                    <a:pt x="3622" y="88"/>
                    <a:pt x="3622" y="89"/>
                    <a:pt x="3622" y="90"/>
                  </a:cubicBezTo>
                  <a:cubicBezTo>
                    <a:pt x="3620" y="95"/>
                    <a:pt x="3619" y="100"/>
                    <a:pt x="3617" y="105"/>
                  </a:cubicBezTo>
                  <a:cubicBezTo>
                    <a:pt x="3617" y="105"/>
                    <a:pt x="3617" y="105"/>
                    <a:pt x="3617" y="105"/>
                  </a:cubicBezTo>
                  <a:cubicBezTo>
                    <a:pt x="3617" y="104"/>
                    <a:pt x="3617" y="104"/>
                    <a:pt x="3617" y="103"/>
                  </a:cubicBezTo>
                  <a:cubicBezTo>
                    <a:pt x="3617" y="104"/>
                    <a:pt x="3617" y="104"/>
                    <a:pt x="3617" y="105"/>
                  </a:cubicBezTo>
                  <a:cubicBezTo>
                    <a:pt x="3614" y="95"/>
                    <a:pt x="3612" y="87"/>
                    <a:pt x="3610" y="81"/>
                  </a:cubicBezTo>
                  <a:cubicBezTo>
                    <a:pt x="3611" y="85"/>
                    <a:pt x="3612" y="90"/>
                    <a:pt x="3613" y="95"/>
                  </a:cubicBezTo>
                  <a:cubicBezTo>
                    <a:pt x="3613" y="100"/>
                    <a:pt x="3612" y="104"/>
                    <a:pt x="3611" y="109"/>
                  </a:cubicBezTo>
                  <a:cubicBezTo>
                    <a:pt x="3612" y="104"/>
                    <a:pt x="3613" y="100"/>
                    <a:pt x="3613" y="95"/>
                  </a:cubicBezTo>
                  <a:cubicBezTo>
                    <a:pt x="3614" y="100"/>
                    <a:pt x="3615" y="105"/>
                    <a:pt x="3616" y="110"/>
                  </a:cubicBezTo>
                  <a:cubicBezTo>
                    <a:pt x="3616" y="110"/>
                    <a:pt x="3616" y="111"/>
                    <a:pt x="3616" y="111"/>
                  </a:cubicBezTo>
                  <a:cubicBezTo>
                    <a:pt x="3615" y="116"/>
                    <a:pt x="3613" y="122"/>
                    <a:pt x="3610" y="127"/>
                  </a:cubicBezTo>
                  <a:cubicBezTo>
                    <a:pt x="3610" y="125"/>
                    <a:pt x="3609" y="123"/>
                    <a:pt x="3609" y="120"/>
                  </a:cubicBezTo>
                  <a:cubicBezTo>
                    <a:pt x="3610" y="117"/>
                    <a:pt x="3611" y="113"/>
                    <a:pt x="3611" y="109"/>
                  </a:cubicBezTo>
                  <a:cubicBezTo>
                    <a:pt x="3611" y="112"/>
                    <a:pt x="3610" y="116"/>
                    <a:pt x="3609" y="119"/>
                  </a:cubicBezTo>
                  <a:cubicBezTo>
                    <a:pt x="3607" y="111"/>
                    <a:pt x="3605" y="103"/>
                    <a:pt x="3605" y="95"/>
                  </a:cubicBezTo>
                  <a:cubicBezTo>
                    <a:pt x="3605" y="96"/>
                    <a:pt x="3605" y="96"/>
                    <a:pt x="3605" y="96"/>
                  </a:cubicBezTo>
                  <a:cubicBezTo>
                    <a:pt x="3605" y="98"/>
                    <a:pt x="3605" y="98"/>
                    <a:pt x="3605" y="98"/>
                  </a:cubicBezTo>
                  <a:cubicBezTo>
                    <a:pt x="3605" y="97"/>
                    <a:pt x="3605" y="96"/>
                    <a:pt x="3605" y="95"/>
                  </a:cubicBezTo>
                  <a:cubicBezTo>
                    <a:pt x="3605" y="84"/>
                    <a:pt x="3603" y="69"/>
                    <a:pt x="3597" y="60"/>
                  </a:cubicBezTo>
                  <a:cubicBezTo>
                    <a:pt x="3601" y="70"/>
                    <a:pt x="3603" y="82"/>
                    <a:pt x="3603" y="93"/>
                  </a:cubicBezTo>
                  <a:cubicBezTo>
                    <a:pt x="3603" y="101"/>
                    <a:pt x="3601" y="109"/>
                    <a:pt x="3599" y="116"/>
                  </a:cubicBezTo>
                  <a:cubicBezTo>
                    <a:pt x="3597" y="115"/>
                    <a:pt x="3597" y="117"/>
                    <a:pt x="3598" y="120"/>
                  </a:cubicBezTo>
                  <a:cubicBezTo>
                    <a:pt x="3598" y="121"/>
                    <a:pt x="3597" y="121"/>
                    <a:pt x="3597" y="122"/>
                  </a:cubicBezTo>
                  <a:cubicBezTo>
                    <a:pt x="3596" y="119"/>
                    <a:pt x="3595" y="115"/>
                    <a:pt x="3594" y="112"/>
                  </a:cubicBezTo>
                  <a:cubicBezTo>
                    <a:pt x="3595" y="107"/>
                    <a:pt x="3595" y="103"/>
                    <a:pt x="3595" y="98"/>
                  </a:cubicBezTo>
                  <a:cubicBezTo>
                    <a:pt x="3595" y="90"/>
                    <a:pt x="3594" y="82"/>
                    <a:pt x="3592" y="74"/>
                  </a:cubicBezTo>
                  <a:cubicBezTo>
                    <a:pt x="3591" y="83"/>
                    <a:pt x="3591" y="93"/>
                    <a:pt x="3591" y="102"/>
                  </a:cubicBezTo>
                  <a:cubicBezTo>
                    <a:pt x="3588" y="94"/>
                    <a:pt x="3585" y="86"/>
                    <a:pt x="3583" y="81"/>
                  </a:cubicBezTo>
                  <a:cubicBezTo>
                    <a:pt x="3583" y="86"/>
                    <a:pt x="3583" y="86"/>
                    <a:pt x="3583" y="86"/>
                  </a:cubicBezTo>
                  <a:cubicBezTo>
                    <a:pt x="3583" y="97"/>
                    <a:pt x="3586" y="108"/>
                    <a:pt x="3590" y="118"/>
                  </a:cubicBezTo>
                  <a:cubicBezTo>
                    <a:pt x="3589" y="119"/>
                    <a:pt x="3589" y="120"/>
                    <a:pt x="3589" y="121"/>
                  </a:cubicBezTo>
                  <a:cubicBezTo>
                    <a:pt x="3589" y="123"/>
                    <a:pt x="3588" y="126"/>
                    <a:pt x="3587" y="128"/>
                  </a:cubicBezTo>
                  <a:cubicBezTo>
                    <a:pt x="3584" y="121"/>
                    <a:pt x="3582" y="113"/>
                    <a:pt x="3580" y="106"/>
                  </a:cubicBezTo>
                  <a:cubicBezTo>
                    <a:pt x="3580" y="101"/>
                    <a:pt x="3579" y="96"/>
                    <a:pt x="3578" y="92"/>
                  </a:cubicBezTo>
                  <a:cubicBezTo>
                    <a:pt x="3578" y="91"/>
                    <a:pt x="3578" y="90"/>
                    <a:pt x="3578" y="89"/>
                  </a:cubicBezTo>
                  <a:cubicBezTo>
                    <a:pt x="3578" y="90"/>
                    <a:pt x="3578" y="90"/>
                    <a:pt x="3578" y="91"/>
                  </a:cubicBezTo>
                  <a:cubicBezTo>
                    <a:pt x="3577" y="85"/>
                    <a:pt x="3575" y="79"/>
                    <a:pt x="3572" y="73"/>
                  </a:cubicBezTo>
                  <a:cubicBezTo>
                    <a:pt x="3572" y="72"/>
                    <a:pt x="3572" y="72"/>
                    <a:pt x="3572" y="71"/>
                  </a:cubicBezTo>
                  <a:cubicBezTo>
                    <a:pt x="3572" y="71"/>
                    <a:pt x="3571" y="72"/>
                    <a:pt x="3571" y="73"/>
                  </a:cubicBezTo>
                  <a:cubicBezTo>
                    <a:pt x="3571" y="72"/>
                    <a:pt x="3571" y="71"/>
                    <a:pt x="3570" y="71"/>
                  </a:cubicBezTo>
                  <a:cubicBezTo>
                    <a:pt x="3570" y="72"/>
                    <a:pt x="3571" y="73"/>
                    <a:pt x="3571" y="73"/>
                  </a:cubicBezTo>
                  <a:cubicBezTo>
                    <a:pt x="3568" y="79"/>
                    <a:pt x="3566" y="85"/>
                    <a:pt x="3564" y="91"/>
                  </a:cubicBezTo>
                  <a:cubicBezTo>
                    <a:pt x="3564" y="90"/>
                    <a:pt x="3564" y="90"/>
                    <a:pt x="3564" y="89"/>
                  </a:cubicBezTo>
                  <a:cubicBezTo>
                    <a:pt x="3564" y="90"/>
                    <a:pt x="3564" y="91"/>
                    <a:pt x="3564" y="92"/>
                  </a:cubicBezTo>
                  <a:cubicBezTo>
                    <a:pt x="3563" y="96"/>
                    <a:pt x="3563" y="101"/>
                    <a:pt x="3562" y="106"/>
                  </a:cubicBezTo>
                  <a:cubicBezTo>
                    <a:pt x="3561" y="113"/>
                    <a:pt x="3558" y="121"/>
                    <a:pt x="3555" y="128"/>
                  </a:cubicBezTo>
                  <a:cubicBezTo>
                    <a:pt x="3554" y="126"/>
                    <a:pt x="3554" y="123"/>
                    <a:pt x="3553" y="121"/>
                  </a:cubicBezTo>
                  <a:cubicBezTo>
                    <a:pt x="3553" y="120"/>
                    <a:pt x="3553" y="119"/>
                    <a:pt x="3553" y="118"/>
                  </a:cubicBezTo>
                  <a:cubicBezTo>
                    <a:pt x="3556" y="108"/>
                    <a:pt x="3559" y="97"/>
                    <a:pt x="3559" y="86"/>
                  </a:cubicBezTo>
                  <a:cubicBezTo>
                    <a:pt x="3559" y="81"/>
                    <a:pt x="3559" y="81"/>
                    <a:pt x="3559" y="81"/>
                  </a:cubicBezTo>
                  <a:cubicBezTo>
                    <a:pt x="3557" y="86"/>
                    <a:pt x="3554" y="94"/>
                    <a:pt x="3551" y="102"/>
                  </a:cubicBezTo>
                  <a:cubicBezTo>
                    <a:pt x="3551" y="93"/>
                    <a:pt x="3551" y="83"/>
                    <a:pt x="3550" y="74"/>
                  </a:cubicBezTo>
                  <a:cubicBezTo>
                    <a:pt x="3548" y="82"/>
                    <a:pt x="3547" y="90"/>
                    <a:pt x="3547" y="98"/>
                  </a:cubicBezTo>
                  <a:cubicBezTo>
                    <a:pt x="3547" y="103"/>
                    <a:pt x="3548" y="107"/>
                    <a:pt x="3548" y="112"/>
                  </a:cubicBezTo>
                  <a:cubicBezTo>
                    <a:pt x="3547" y="115"/>
                    <a:pt x="3546" y="119"/>
                    <a:pt x="3545" y="122"/>
                  </a:cubicBezTo>
                  <a:cubicBezTo>
                    <a:pt x="3542" y="112"/>
                    <a:pt x="3539" y="103"/>
                    <a:pt x="3539" y="93"/>
                  </a:cubicBezTo>
                  <a:cubicBezTo>
                    <a:pt x="3539" y="82"/>
                    <a:pt x="3541" y="70"/>
                    <a:pt x="3545" y="60"/>
                  </a:cubicBezTo>
                  <a:cubicBezTo>
                    <a:pt x="3540" y="69"/>
                    <a:pt x="3538" y="84"/>
                    <a:pt x="3538" y="95"/>
                  </a:cubicBezTo>
                  <a:cubicBezTo>
                    <a:pt x="3538" y="96"/>
                    <a:pt x="3538" y="97"/>
                    <a:pt x="3538" y="98"/>
                  </a:cubicBezTo>
                  <a:cubicBezTo>
                    <a:pt x="3537" y="96"/>
                    <a:pt x="3537" y="96"/>
                    <a:pt x="3537" y="96"/>
                  </a:cubicBezTo>
                  <a:cubicBezTo>
                    <a:pt x="3537" y="95"/>
                    <a:pt x="3537" y="95"/>
                    <a:pt x="3537" y="95"/>
                  </a:cubicBezTo>
                  <a:cubicBezTo>
                    <a:pt x="3537" y="103"/>
                    <a:pt x="3536" y="111"/>
                    <a:pt x="3534" y="119"/>
                  </a:cubicBezTo>
                  <a:cubicBezTo>
                    <a:pt x="3533" y="116"/>
                    <a:pt x="3532" y="112"/>
                    <a:pt x="3531" y="109"/>
                  </a:cubicBezTo>
                  <a:cubicBezTo>
                    <a:pt x="3532" y="113"/>
                    <a:pt x="3533" y="117"/>
                    <a:pt x="3533" y="120"/>
                  </a:cubicBezTo>
                  <a:cubicBezTo>
                    <a:pt x="3533" y="123"/>
                    <a:pt x="3532" y="125"/>
                    <a:pt x="3532" y="127"/>
                  </a:cubicBezTo>
                  <a:cubicBezTo>
                    <a:pt x="3530" y="122"/>
                    <a:pt x="3528" y="116"/>
                    <a:pt x="3526" y="111"/>
                  </a:cubicBezTo>
                  <a:cubicBezTo>
                    <a:pt x="3526" y="109"/>
                    <a:pt x="3526" y="108"/>
                    <a:pt x="3525" y="107"/>
                  </a:cubicBezTo>
                  <a:cubicBezTo>
                    <a:pt x="3525" y="106"/>
                    <a:pt x="3525" y="104"/>
                    <a:pt x="3525" y="103"/>
                  </a:cubicBezTo>
                  <a:cubicBezTo>
                    <a:pt x="3525" y="104"/>
                    <a:pt x="3525" y="105"/>
                    <a:pt x="3525" y="105"/>
                  </a:cubicBezTo>
                  <a:cubicBezTo>
                    <a:pt x="3524" y="99"/>
                    <a:pt x="3522" y="93"/>
                    <a:pt x="3519" y="87"/>
                  </a:cubicBezTo>
                  <a:cubicBezTo>
                    <a:pt x="3520" y="84"/>
                    <a:pt x="3522" y="82"/>
                    <a:pt x="3524" y="80"/>
                  </a:cubicBezTo>
                  <a:cubicBezTo>
                    <a:pt x="3522" y="82"/>
                    <a:pt x="3520" y="84"/>
                    <a:pt x="3518" y="86"/>
                  </a:cubicBezTo>
                  <a:cubicBezTo>
                    <a:pt x="3516" y="81"/>
                    <a:pt x="3513" y="77"/>
                    <a:pt x="3510" y="73"/>
                  </a:cubicBezTo>
                  <a:cubicBezTo>
                    <a:pt x="3513" y="77"/>
                    <a:pt x="3515" y="83"/>
                    <a:pt x="3516" y="90"/>
                  </a:cubicBezTo>
                  <a:cubicBezTo>
                    <a:pt x="3514" y="94"/>
                    <a:pt x="3512" y="99"/>
                    <a:pt x="3512" y="103"/>
                  </a:cubicBezTo>
                  <a:cubicBezTo>
                    <a:pt x="3510" y="97"/>
                    <a:pt x="3508" y="91"/>
                    <a:pt x="3506" y="85"/>
                  </a:cubicBezTo>
                  <a:cubicBezTo>
                    <a:pt x="3508" y="91"/>
                    <a:pt x="3508" y="97"/>
                    <a:pt x="3508" y="103"/>
                  </a:cubicBezTo>
                  <a:cubicBezTo>
                    <a:pt x="3508" y="108"/>
                    <a:pt x="3507" y="114"/>
                    <a:pt x="3507" y="119"/>
                  </a:cubicBezTo>
                  <a:cubicBezTo>
                    <a:pt x="3505" y="111"/>
                    <a:pt x="3504" y="104"/>
                    <a:pt x="3504" y="96"/>
                  </a:cubicBezTo>
                  <a:cubicBezTo>
                    <a:pt x="3504" y="87"/>
                    <a:pt x="3508" y="73"/>
                    <a:pt x="3513" y="65"/>
                  </a:cubicBezTo>
                  <a:cubicBezTo>
                    <a:pt x="3504" y="76"/>
                    <a:pt x="3500" y="96"/>
                    <a:pt x="3500" y="108"/>
                  </a:cubicBezTo>
                  <a:cubicBezTo>
                    <a:pt x="3500" y="119"/>
                    <a:pt x="3503" y="130"/>
                    <a:pt x="3503" y="141"/>
                  </a:cubicBezTo>
                  <a:cubicBezTo>
                    <a:pt x="3503" y="146"/>
                    <a:pt x="3503" y="150"/>
                    <a:pt x="3502" y="154"/>
                  </a:cubicBezTo>
                  <a:cubicBezTo>
                    <a:pt x="3496" y="135"/>
                    <a:pt x="3501" y="113"/>
                    <a:pt x="3497" y="93"/>
                  </a:cubicBezTo>
                  <a:cubicBezTo>
                    <a:pt x="3494" y="79"/>
                    <a:pt x="3489" y="64"/>
                    <a:pt x="3483" y="51"/>
                  </a:cubicBezTo>
                  <a:cubicBezTo>
                    <a:pt x="3482" y="52"/>
                    <a:pt x="3482" y="54"/>
                    <a:pt x="3482" y="55"/>
                  </a:cubicBezTo>
                  <a:cubicBezTo>
                    <a:pt x="3489" y="76"/>
                    <a:pt x="3491" y="92"/>
                    <a:pt x="3492" y="105"/>
                  </a:cubicBezTo>
                  <a:cubicBezTo>
                    <a:pt x="3491" y="109"/>
                    <a:pt x="3490" y="114"/>
                    <a:pt x="3490" y="118"/>
                  </a:cubicBezTo>
                  <a:cubicBezTo>
                    <a:pt x="3488" y="101"/>
                    <a:pt x="3484" y="82"/>
                    <a:pt x="3475" y="75"/>
                  </a:cubicBezTo>
                  <a:cubicBezTo>
                    <a:pt x="3481" y="83"/>
                    <a:pt x="3483" y="97"/>
                    <a:pt x="3483" y="106"/>
                  </a:cubicBezTo>
                  <a:cubicBezTo>
                    <a:pt x="3483" y="106"/>
                    <a:pt x="3483" y="107"/>
                    <a:pt x="3483" y="107"/>
                  </a:cubicBezTo>
                  <a:cubicBezTo>
                    <a:pt x="3482" y="104"/>
                    <a:pt x="3481" y="101"/>
                    <a:pt x="3481" y="98"/>
                  </a:cubicBezTo>
                  <a:cubicBezTo>
                    <a:pt x="3481" y="105"/>
                    <a:pt x="3481" y="111"/>
                    <a:pt x="3482" y="118"/>
                  </a:cubicBezTo>
                  <a:cubicBezTo>
                    <a:pt x="3482" y="122"/>
                    <a:pt x="3481" y="126"/>
                    <a:pt x="3480" y="130"/>
                  </a:cubicBezTo>
                  <a:cubicBezTo>
                    <a:pt x="3479" y="124"/>
                    <a:pt x="3477" y="118"/>
                    <a:pt x="3476" y="113"/>
                  </a:cubicBezTo>
                  <a:cubicBezTo>
                    <a:pt x="3477" y="121"/>
                    <a:pt x="3479" y="128"/>
                    <a:pt x="3479" y="136"/>
                  </a:cubicBezTo>
                  <a:cubicBezTo>
                    <a:pt x="3478" y="140"/>
                    <a:pt x="3477" y="144"/>
                    <a:pt x="3477" y="148"/>
                  </a:cubicBezTo>
                  <a:cubicBezTo>
                    <a:pt x="3477" y="147"/>
                    <a:pt x="3476" y="147"/>
                    <a:pt x="3476" y="146"/>
                  </a:cubicBezTo>
                  <a:cubicBezTo>
                    <a:pt x="3477" y="129"/>
                    <a:pt x="3474" y="106"/>
                    <a:pt x="3467" y="91"/>
                  </a:cubicBezTo>
                  <a:cubicBezTo>
                    <a:pt x="3468" y="88"/>
                    <a:pt x="3468" y="85"/>
                    <a:pt x="3470" y="83"/>
                  </a:cubicBezTo>
                  <a:cubicBezTo>
                    <a:pt x="3468" y="85"/>
                    <a:pt x="3467" y="88"/>
                    <a:pt x="3466" y="90"/>
                  </a:cubicBezTo>
                  <a:cubicBezTo>
                    <a:pt x="3466" y="88"/>
                    <a:pt x="3465" y="87"/>
                    <a:pt x="3464" y="85"/>
                  </a:cubicBezTo>
                  <a:cubicBezTo>
                    <a:pt x="3465" y="87"/>
                    <a:pt x="3466" y="89"/>
                    <a:pt x="3466" y="91"/>
                  </a:cubicBezTo>
                  <a:cubicBezTo>
                    <a:pt x="3465" y="95"/>
                    <a:pt x="3464" y="98"/>
                    <a:pt x="3463" y="101"/>
                  </a:cubicBezTo>
                  <a:cubicBezTo>
                    <a:pt x="3461" y="94"/>
                    <a:pt x="3460" y="87"/>
                    <a:pt x="3457" y="79"/>
                  </a:cubicBezTo>
                  <a:cubicBezTo>
                    <a:pt x="3457" y="78"/>
                    <a:pt x="3457" y="76"/>
                    <a:pt x="3457" y="75"/>
                  </a:cubicBezTo>
                  <a:cubicBezTo>
                    <a:pt x="3457" y="76"/>
                    <a:pt x="3457" y="77"/>
                    <a:pt x="3456" y="78"/>
                  </a:cubicBezTo>
                  <a:cubicBezTo>
                    <a:pt x="3454" y="71"/>
                    <a:pt x="3450" y="64"/>
                    <a:pt x="3446" y="56"/>
                  </a:cubicBezTo>
                  <a:cubicBezTo>
                    <a:pt x="3446" y="66"/>
                    <a:pt x="3450" y="78"/>
                    <a:pt x="3453" y="90"/>
                  </a:cubicBezTo>
                  <a:cubicBezTo>
                    <a:pt x="3451" y="99"/>
                    <a:pt x="3451" y="108"/>
                    <a:pt x="3450" y="117"/>
                  </a:cubicBezTo>
                  <a:cubicBezTo>
                    <a:pt x="3449" y="112"/>
                    <a:pt x="3447" y="107"/>
                    <a:pt x="3446" y="103"/>
                  </a:cubicBezTo>
                  <a:cubicBezTo>
                    <a:pt x="3448" y="109"/>
                    <a:pt x="3446" y="132"/>
                    <a:pt x="3446" y="140"/>
                  </a:cubicBezTo>
                  <a:cubicBezTo>
                    <a:pt x="3446" y="144"/>
                    <a:pt x="3446" y="147"/>
                    <a:pt x="3446" y="151"/>
                  </a:cubicBezTo>
                  <a:cubicBezTo>
                    <a:pt x="3446" y="151"/>
                    <a:pt x="3446" y="151"/>
                    <a:pt x="3446" y="151"/>
                  </a:cubicBezTo>
                  <a:cubicBezTo>
                    <a:pt x="3446" y="144"/>
                    <a:pt x="3445" y="137"/>
                    <a:pt x="3443" y="129"/>
                  </a:cubicBezTo>
                  <a:cubicBezTo>
                    <a:pt x="3441" y="119"/>
                    <a:pt x="3440" y="110"/>
                    <a:pt x="3441" y="100"/>
                  </a:cubicBezTo>
                  <a:cubicBezTo>
                    <a:pt x="3440" y="107"/>
                    <a:pt x="3440" y="113"/>
                    <a:pt x="3440" y="119"/>
                  </a:cubicBezTo>
                  <a:cubicBezTo>
                    <a:pt x="3438" y="114"/>
                    <a:pt x="3436" y="108"/>
                    <a:pt x="3434" y="103"/>
                  </a:cubicBezTo>
                  <a:cubicBezTo>
                    <a:pt x="3434" y="99"/>
                    <a:pt x="3435" y="95"/>
                    <a:pt x="3437" y="90"/>
                  </a:cubicBezTo>
                  <a:cubicBezTo>
                    <a:pt x="3435" y="94"/>
                    <a:pt x="3434" y="98"/>
                    <a:pt x="3433" y="102"/>
                  </a:cubicBezTo>
                  <a:cubicBezTo>
                    <a:pt x="3430" y="97"/>
                    <a:pt x="3428" y="93"/>
                    <a:pt x="3425" y="89"/>
                  </a:cubicBezTo>
                  <a:cubicBezTo>
                    <a:pt x="3428" y="93"/>
                    <a:pt x="3428" y="99"/>
                    <a:pt x="3428" y="103"/>
                  </a:cubicBezTo>
                  <a:cubicBezTo>
                    <a:pt x="3428" y="104"/>
                    <a:pt x="3429" y="109"/>
                    <a:pt x="3429" y="115"/>
                  </a:cubicBezTo>
                  <a:cubicBezTo>
                    <a:pt x="3428" y="120"/>
                    <a:pt x="3427" y="124"/>
                    <a:pt x="3427" y="129"/>
                  </a:cubicBezTo>
                  <a:cubicBezTo>
                    <a:pt x="3426" y="125"/>
                    <a:pt x="3425" y="122"/>
                    <a:pt x="3425" y="119"/>
                  </a:cubicBezTo>
                  <a:cubicBezTo>
                    <a:pt x="3425" y="115"/>
                    <a:pt x="3425" y="108"/>
                    <a:pt x="3424" y="105"/>
                  </a:cubicBezTo>
                  <a:cubicBezTo>
                    <a:pt x="3423" y="108"/>
                    <a:pt x="3423" y="110"/>
                    <a:pt x="3423" y="113"/>
                  </a:cubicBezTo>
                  <a:cubicBezTo>
                    <a:pt x="3422" y="109"/>
                    <a:pt x="3421" y="106"/>
                    <a:pt x="3421" y="103"/>
                  </a:cubicBezTo>
                  <a:cubicBezTo>
                    <a:pt x="3422" y="97"/>
                    <a:pt x="3423" y="90"/>
                    <a:pt x="3426" y="84"/>
                  </a:cubicBezTo>
                  <a:cubicBezTo>
                    <a:pt x="3423" y="90"/>
                    <a:pt x="3421" y="95"/>
                    <a:pt x="3420" y="101"/>
                  </a:cubicBezTo>
                  <a:cubicBezTo>
                    <a:pt x="3415" y="86"/>
                    <a:pt x="3412" y="83"/>
                    <a:pt x="3407" y="78"/>
                  </a:cubicBezTo>
                  <a:cubicBezTo>
                    <a:pt x="3414" y="84"/>
                    <a:pt x="3417" y="97"/>
                    <a:pt x="3418" y="107"/>
                  </a:cubicBezTo>
                  <a:cubicBezTo>
                    <a:pt x="3417" y="114"/>
                    <a:pt x="3415" y="120"/>
                    <a:pt x="3414" y="126"/>
                  </a:cubicBezTo>
                  <a:cubicBezTo>
                    <a:pt x="3413" y="121"/>
                    <a:pt x="3412" y="115"/>
                    <a:pt x="3410" y="109"/>
                  </a:cubicBezTo>
                  <a:cubicBezTo>
                    <a:pt x="3411" y="106"/>
                    <a:pt x="3411" y="103"/>
                    <a:pt x="3412" y="100"/>
                  </a:cubicBezTo>
                  <a:cubicBezTo>
                    <a:pt x="3411" y="102"/>
                    <a:pt x="3411" y="104"/>
                    <a:pt x="3410" y="108"/>
                  </a:cubicBezTo>
                  <a:cubicBezTo>
                    <a:pt x="3409" y="106"/>
                    <a:pt x="3408" y="103"/>
                    <a:pt x="3408" y="101"/>
                  </a:cubicBezTo>
                  <a:cubicBezTo>
                    <a:pt x="3408" y="100"/>
                    <a:pt x="3408" y="99"/>
                    <a:pt x="3409" y="98"/>
                  </a:cubicBezTo>
                  <a:cubicBezTo>
                    <a:pt x="3408" y="99"/>
                    <a:pt x="3408" y="100"/>
                    <a:pt x="3408" y="101"/>
                  </a:cubicBezTo>
                  <a:cubicBezTo>
                    <a:pt x="3405" y="94"/>
                    <a:pt x="3402" y="87"/>
                    <a:pt x="3398" y="81"/>
                  </a:cubicBezTo>
                  <a:cubicBezTo>
                    <a:pt x="3402" y="88"/>
                    <a:pt x="3403" y="99"/>
                    <a:pt x="3403" y="106"/>
                  </a:cubicBezTo>
                  <a:cubicBezTo>
                    <a:pt x="3403" y="111"/>
                    <a:pt x="3402" y="115"/>
                    <a:pt x="3402" y="120"/>
                  </a:cubicBezTo>
                  <a:cubicBezTo>
                    <a:pt x="3400" y="126"/>
                    <a:pt x="3398" y="133"/>
                    <a:pt x="3397" y="139"/>
                  </a:cubicBezTo>
                  <a:cubicBezTo>
                    <a:pt x="3397" y="135"/>
                    <a:pt x="3397" y="135"/>
                    <a:pt x="3397" y="135"/>
                  </a:cubicBezTo>
                  <a:cubicBezTo>
                    <a:pt x="3398" y="127"/>
                    <a:pt x="3398" y="120"/>
                    <a:pt x="3399" y="113"/>
                  </a:cubicBezTo>
                  <a:cubicBezTo>
                    <a:pt x="3398" y="117"/>
                    <a:pt x="3398" y="123"/>
                    <a:pt x="3397" y="129"/>
                  </a:cubicBezTo>
                  <a:cubicBezTo>
                    <a:pt x="3397" y="120"/>
                    <a:pt x="3397" y="111"/>
                    <a:pt x="3395" y="103"/>
                  </a:cubicBezTo>
                  <a:cubicBezTo>
                    <a:pt x="3396" y="101"/>
                    <a:pt x="3397" y="100"/>
                    <a:pt x="3397" y="99"/>
                  </a:cubicBezTo>
                  <a:cubicBezTo>
                    <a:pt x="3397" y="100"/>
                    <a:pt x="3396" y="101"/>
                    <a:pt x="3395" y="102"/>
                  </a:cubicBezTo>
                  <a:cubicBezTo>
                    <a:pt x="3393" y="88"/>
                    <a:pt x="3389" y="75"/>
                    <a:pt x="3380" y="60"/>
                  </a:cubicBezTo>
                  <a:cubicBezTo>
                    <a:pt x="3380" y="61"/>
                    <a:pt x="3380" y="61"/>
                    <a:pt x="3380" y="61"/>
                  </a:cubicBezTo>
                  <a:cubicBezTo>
                    <a:pt x="3380" y="76"/>
                    <a:pt x="3390" y="94"/>
                    <a:pt x="3390" y="111"/>
                  </a:cubicBezTo>
                  <a:cubicBezTo>
                    <a:pt x="3389" y="115"/>
                    <a:pt x="3388" y="120"/>
                    <a:pt x="3387" y="125"/>
                  </a:cubicBezTo>
                  <a:cubicBezTo>
                    <a:pt x="3383" y="109"/>
                    <a:pt x="3376" y="94"/>
                    <a:pt x="3365" y="83"/>
                  </a:cubicBezTo>
                  <a:cubicBezTo>
                    <a:pt x="3372" y="90"/>
                    <a:pt x="3376" y="101"/>
                    <a:pt x="3378" y="111"/>
                  </a:cubicBezTo>
                  <a:cubicBezTo>
                    <a:pt x="3377" y="111"/>
                    <a:pt x="3377" y="110"/>
                    <a:pt x="3377" y="109"/>
                  </a:cubicBezTo>
                  <a:cubicBezTo>
                    <a:pt x="3377" y="117"/>
                    <a:pt x="3378" y="126"/>
                    <a:pt x="3378" y="134"/>
                  </a:cubicBezTo>
                  <a:cubicBezTo>
                    <a:pt x="3378" y="136"/>
                    <a:pt x="3378" y="138"/>
                    <a:pt x="3378" y="140"/>
                  </a:cubicBezTo>
                  <a:cubicBezTo>
                    <a:pt x="3375" y="127"/>
                    <a:pt x="3374" y="113"/>
                    <a:pt x="3370" y="100"/>
                  </a:cubicBezTo>
                  <a:cubicBezTo>
                    <a:pt x="3372" y="109"/>
                    <a:pt x="3372" y="123"/>
                    <a:pt x="3372" y="135"/>
                  </a:cubicBezTo>
                  <a:cubicBezTo>
                    <a:pt x="3373" y="138"/>
                    <a:pt x="3373" y="141"/>
                    <a:pt x="3373" y="144"/>
                  </a:cubicBezTo>
                  <a:cubicBezTo>
                    <a:pt x="3373" y="143"/>
                    <a:pt x="3373" y="142"/>
                    <a:pt x="3373" y="142"/>
                  </a:cubicBezTo>
                  <a:cubicBezTo>
                    <a:pt x="3372" y="139"/>
                    <a:pt x="3372" y="137"/>
                    <a:pt x="3372" y="135"/>
                  </a:cubicBezTo>
                  <a:cubicBezTo>
                    <a:pt x="3372" y="130"/>
                    <a:pt x="3371" y="125"/>
                    <a:pt x="3370" y="120"/>
                  </a:cubicBezTo>
                  <a:cubicBezTo>
                    <a:pt x="3370" y="119"/>
                    <a:pt x="3370" y="119"/>
                    <a:pt x="3370" y="118"/>
                  </a:cubicBezTo>
                  <a:cubicBezTo>
                    <a:pt x="3370" y="119"/>
                    <a:pt x="3370" y="119"/>
                    <a:pt x="3370" y="120"/>
                  </a:cubicBezTo>
                  <a:cubicBezTo>
                    <a:pt x="3369" y="116"/>
                    <a:pt x="3367" y="112"/>
                    <a:pt x="3366" y="108"/>
                  </a:cubicBezTo>
                  <a:cubicBezTo>
                    <a:pt x="3366" y="106"/>
                    <a:pt x="3367" y="105"/>
                    <a:pt x="3368" y="103"/>
                  </a:cubicBezTo>
                  <a:cubicBezTo>
                    <a:pt x="3367" y="105"/>
                    <a:pt x="3366" y="106"/>
                    <a:pt x="3366" y="107"/>
                  </a:cubicBezTo>
                  <a:cubicBezTo>
                    <a:pt x="3359" y="91"/>
                    <a:pt x="3349" y="76"/>
                    <a:pt x="3332" y="63"/>
                  </a:cubicBezTo>
                  <a:cubicBezTo>
                    <a:pt x="3338" y="68"/>
                    <a:pt x="3342" y="74"/>
                    <a:pt x="3346" y="79"/>
                  </a:cubicBezTo>
                  <a:cubicBezTo>
                    <a:pt x="3345" y="81"/>
                    <a:pt x="3343" y="85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38" y="94"/>
                    <a:pt x="3336" y="98"/>
                    <a:pt x="3334" y="103"/>
                  </a:cubicBezTo>
                  <a:cubicBezTo>
                    <a:pt x="3333" y="100"/>
                    <a:pt x="3333" y="98"/>
                    <a:pt x="3332" y="96"/>
                  </a:cubicBezTo>
                  <a:cubicBezTo>
                    <a:pt x="3332" y="99"/>
                    <a:pt x="3333" y="103"/>
                    <a:pt x="3333" y="106"/>
                  </a:cubicBezTo>
                  <a:cubicBezTo>
                    <a:pt x="3332" y="108"/>
                    <a:pt x="3331" y="111"/>
                    <a:pt x="3330" y="113"/>
                  </a:cubicBezTo>
                  <a:cubicBezTo>
                    <a:pt x="3329" y="111"/>
                    <a:pt x="3329" y="109"/>
                    <a:pt x="3328" y="107"/>
                  </a:cubicBezTo>
                  <a:cubicBezTo>
                    <a:pt x="3329" y="100"/>
                    <a:pt x="3330" y="93"/>
                    <a:pt x="3330" y="88"/>
                  </a:cubicBezTo>
                  <a:cubicBezTo>
                    <a:pt x="3330" y="87"/>
                    <a:pt x="3330" y="87"/>
                    <a:pt x="3330" y="87"/>
                  </a:cubicBezTo>
                  <a:cubicBezTo>
                    <a:pt x="3328" y="92"/>
                    <a:pt x="3327" y="97"/>
                    <a:pt x="3326" y="102"/>
                  </a:cubicBezTo>
                  <a:cubicBezTo>
                    <a:pt x="3323" y="96"/>
                    <a:pt x="3321" y="90"/>
                    <a:pt x="3318" y="84"/>
                  </a:cubicBezTo>
                  <a:cubicBezTo>
                    <a:pt x="3321" y="90"/>
                    <a:pt x="3323" y="97"/>
                    <a:pt x="3325" y="104"/>
                  </a:cubicBezTo>
                  <a:cubicBezTo>
                    <a:pt x="3324" y="108"/>
                    <a:pt x="3324" y="111"/>
                    <a:pt x="3323" y="115"/>
                  </a:cubicBezTo>
                  <a:cubicBezTo>
                    <a:pt x="3321" y="110"/>
                    <a:pt x="3319" y="106"/>
                    <a:pt x="3317" y="102"/>
                  </a:cubicBezTo>
                  <a:cubicBezTo>
                    <a:pt x="3319" y="107"/>
                    <a:pt x="3320" y="114"/>
                    <a:pt x="3321" y="121"/>
                  </a:cubicBezTo>
                  <a:cubicBezTo>
                    <a:pt x="3320" y="126"/>
                    <a:pt x="3318" y="131"/>
                    <a:pt x="3317" y="135"/>
                  </a:cubicBezTo>
                  <a:cubicBezTo>
                    <a:pt x="3315" y="132"/>
                    <a:pt x="3314" y="129"/>
                    <a:pt x="3313" y="125"/>
                  </a:cubicBezTo>
                  <a:cubicBezTo>
                    <a:pt x="3314" y="118"/>
                    <a:pt x="3315" y="111"/>
                    <a:pt x="3316" y="104"/>
                  </a:cubicBezTo>
                  <a:cubicBezTo>
                    <a:pt x="3315" y="109"/>
                    <a:pt x="3313" y="114"/>
                    <a:pt x="3311" y="120"/>
                  </a:cubicBezTo>
                  <a:cubicBezTo>
                    <a:pt x="3310" y="115"/>
                    <a:pt x="3309" y="111"/>
                    <a:pt x="3308" y="107"/>
                  </a:cubicBezTo>
                  <a:cubicBezTo>
                    <a:pt x="3308" y="103"/>
                    <a:pt x="3309" y="98"/>
                    <a:pt x="3309" y="94"/>
                  </a:cubicBezTo>
                  <a:cubicBezTo>
                    <a:pt x="3309" y="91"/>
                    <a:pt x="3308" y="88"/>
                    <a:pt x="3308" y="85"/>
                  </a:cubicBezTo>
                  <a:cubicBezTo>
                    <a:pt x="3307" y="89"/>
                    <a:pt x="3306" y="93"/>
                    <a:pt x="3305" y="99"/>
                  </a:cubicBezTo>
                  <a:cubicBezTo>
                    <a:pt x="3302" y="91"/>
                    <a:pt x="3298" y="84"/>
                    <a:pt x="3293" y="77"/>
                  </a:cubicBezTo>
                  <a:cubicBezTo>
                    <a:pt x="3296" y="86"/>
                    <a:pt x="3300" y="95"/>
                    <a:pt x="3303" y="104"/>
                  </a:cubicBezTo>
                  <a:cubicBezTo>
                    <a:pt x="3303" y="106"/>
                    <a:pt x="3303" y="107"/>
                    <a:pt x="3303" y="109"/>
                  </a:cubicBezTo>
                  <a:cubicBezTo>
                    <a:pt x="3302" y="107"/>
                    <a:pt x="3301" y="105"/>
                    <a:pt x="3300" y="103"/>
                  </a:cubicBezTo>
                  <a:cubicBezTo>
                    <a:pt x="3300" y="103"/>
                    <a:pt x="3300" y="102"/>
                    <a:pt x="3300" y="102"/>
                  </a:cubicBezTo>
                  <a:cubicBezTo>
                    <a:pt x="3300" y="102"/>
                    <a:pt x="3300" y="103"/>
                    <a:pt x="3300" y="103"/>
                  </a:cubicBezTo>
                  <a:cubicBezTo>
                    <a:pt x="3295" y="94"/>
                    <a:pt x="3290" y="86"/>
                    <a:pt x="3283" y="79"/>
                  </a:cubicBezTo>
                  <a:cubicBezTo>
                    <a:pt x="3285" y="75"/>
                    <a:pt x="3287" y="71"/>
                    <a:pt x="3289" y="68"/>
                  </a:cubicBezTo>
                  <a:cubicBezTo>
                    <a:pt x="3287" y="69"/>
                    <a:pt x="3284" y="73"/>
                    <a:pt x="3282" y="77"/>
                  </a:cubicBezTo>
                  <a:cubicBezTo>
                    <a:pt x="3278" y="73"/>
                    <a:pt x="3274" y="69"/>
                    <a:pt x="3269" y="65"/>
                  </a:cubicBezTo>
                  <a:cubicBezTo>
                    <a:pt x="3274" y="70"/>
                    <a:pt x="3278" y="75"/>
                    <a:pt x="3281" y="79"/>
                  </a:cubicBezTo>
                  <a:cubicBezTo>
                    <a:pt x="3278" y="86"/>
                    <a:pt x="3275" y="96"/>
                    <a:pt x="3272" y="105"/>
                  </a:cubicBezTo>
                  <a:cubicBezTo>
                    <a:pt x="3269" y="99"/>
                    <a:pt x="3265" y="94"/>
                    <a:pt x="3262" y="88"/>
                  </a:cubicBezTo>
                  <a:cubicBezTo>
                    <a:pt x="3262" y="87"/>
                    <a:pt x="3262" y="86"/>
                    <a:pt x="3263" y="85"/>
                  </a:cubicBezTo>
                  <a:cubicBezTo>
                    <a:pt x="3262" y="86"/>
                    <a:pt x="3262" y="87"/>
                    <a:pt x="3262" y="88"/>
                  </a:cubicBezTo>
                  <a:cubicBezTo>
                    <a:pt x="3261" y="87"/>
                    <a:pt x="3260" y="86"/>
                    <a:pt x="3259" y="85"/>
                  </a:cubicBezTo>
                  <a:cubicBezTo>
                    <a:pt x="3260" y="86"/>
                    <a:pt x="3261" y="87"/>
                    <a:pt x="3261" y="88"/>
                  </a:cubicBezTo>
                  <a:cubicBezTo>
                    <a:pt x="3260" y="91"/>
                    <a:pt x="3259" y="93"/>
                    <a:pt x="3258" y="95"/>
                  </a:cubicBezTo>
                  <a:cubicBezTo>
                    <a:pt x="3257" y="94"/>
                    <a:pt x="3257" y="92"/>
                    <a:pt x="3256" y="91"/>
                  </a:cubicBezTo>
                  <a:cubicBezTo>
                    <a:pt x="3257" y="92"/>
                    <a:pt x="3257" y="94"/>
                    <a:pt x="3258" y="95"/>
                  </a:cubicBezTo>
                  <a:cubicBezTo>
                    <a:pt x="3254" y="103"/>
                    <a:pt x="3251" y="112"/>
                    <a:pt x="3249" y="121"/>
                  </a:cubicBezTo>
                  <a:cubicBezTo>
                    <a:pt x="3248" y="112"/>
                    <a:pt x="3247" y="103"/>
                    <a:pt x="3247" y="97"/>
                  </a:cubicBezTo>
                  <a:cubicBezTo>
                    <a:pt x="3245" y="100"/>
                    <a:pt x="3244" y="105"/>
                    <a:pt x="3243" y="110"/>
                  </a:cubicBezTo>
                  <a:cubicBezTo>
                    <a:pt x="3243" y="92"/>
                    <a:pt x="3242" y="61"/>
                    <a:pt x="3240" y="57"/>
                  </a:cubicBezTo>
                  <a:cubicBezTo>
                    <a:pt x="3239" y="79"/>
                    <a:pt x="3240" y="100"/>
                    <a:pt x="3240" y="122"/>
                  </a:cubicBezTo>
                  <a:cubicBezTo>
                    <a:pt x="3240" y="123"/>
                    <a:pt x="3240" y="124"/>
                    <a:pt x="3240" y="125"/>
                  </a:cubicBezTo>
                  <a:cubicBezTo>
                    <a:pt x="3238" y="114"/>
                    <a:pt x="3234" y="103"/>
                    <a:pt x="3229" y="94"/>
                  </a:cubicBezTo>
                  <a:cubicBezTo>
                    <a:pt x="3228" y="89"/>
                    <a:pt x="3228" y="84"/>
                    <a:pt x="3229" y="80"/>
                  </a:cubicBezTo>
                  <a:cubicBezTo>
                    <a:pt x="3228" y="83"/>
                    <a:pt x="3227" y="87"/>
                    <a:pt x="3226" y="90"/>
                  </a:cubicBezTo>
                  <a:cubicBezTo>
                    <a:pt x="3224" y="88"/>
                    <a:pt x="3222" y="85"/>
                    <a:pt x="3220" y="83"/>
                  </a:cubicBezTo>
                  <a:cubicBezTo>
                    <a:pt x="3222" y="86"/>
                    <a:pt x="3224" y="89"/>
                    <a:pt x="3226" y="92"/>
                  </a:cubicBezTo>
                  <a:cubicBezTo>
                    <a:pt x="3225" y="96"/>
                    <a:pt x="3224" y="100"/>
                    <a:pt x="3224" y="103"/>
                  </a:cubicBezTo>
                  <a:cubicBezTo>
                    <a:pt x="3223" y="102"/>
                    <a:pt x="3223" y="101"/>
                    <a:pt x="3223" y="100"/>
                  </a:cubicBezTo>
                  <a:cubicBezTo>
                    <a:pt x="3223" y="101"/>
                    <a:pt x="3223" y="102"/>
                    <a:pt x="3224" y="104"/>
                  </a:cubicBezTo>
                  <a:cubicBezTo>
                    <a:pt x="3223" y="106"/>
                    <a:pt x="3223" y="109"/>
                    <a:pt x="3222" y="111"/>
                  </a:cubicBezTo>
                  <a:cubicBezTo>
                    <a:pt x="3220" y="107"/>
                    <a:pt x="3219" y="103"/>
                    <a:pt x="3217" y="99"/>
                  </a:cubicBezTo>
                  <a:cubicBezTo>
                    <a:pt x="3216" y="91"/>
                    <a:pt x="3216" y="82"/>
                    <a:pt x="3217" y="74"/>
                  </a:cubicBezTo>
                  <a:cubicBezTo>
                    <a:pt x="3216" y="80"/>
                    <a:pt x="3214" y="86"/>
                    <a:pt x="3213" y="92"/>
                  </a:cubicBezTo>
                  <a:cubicBezTo>
                    <a:pt x="3212" y="91"/>
                    <a:pt x="3211" y="89"/>
                    <a:pt x="3210" y="88"/>
                  </a:cubicBezTo>
                  <a:cubicBezTo>
                    <a:pt x="3211" y="89"/>
                    <a:pt x="3212" y="91"/>
                    <a:pt x="3213" y="93"/>
                  </a:cubicBezTo>
                  <a:cubicBezTo>
                    <a:pt x="3212" y="95"/>
                    <a:pt x="3212" y="97"/>
                    <a:pt x="3212" y="98"/>
                  </a:cubicBezTo>
                  <a:cubicBezTo>
                    <a:pt x="3209" y="93"/>
                    <a:pt x="3207" y="88"/>
                    <a:pt x="3203" y="84"/>
                  </a:cubicBezTo>
                  <a:cubicBezTo>
                    <a:pt x="3206" y="88"/>
                    <a:pt x="3208" y="95"/>
                    <a:pt x="3211" y="103"/>
                  </a:cubicBezTo>
                  <a:cubicBezTo>
                    <a:pt x="3210" y="106"/>
                    <a:pt x="3209" y="110"/>
                    <a:pt x="3209" y="113"/>
                  </a:cubicBezTo>
                  <a:cubicBezTo>
                    <a:pt x="3206" y="108"/>
                    <a:pt x="3204" y="102"/>
                    <a:pt x="3201" y="96"/>
                  </a:cubicBezTo>
                  <a:cubicBezTo>
                    <a:pt x="3201" y="91"/>
                    <a:pt x="3202" y="86"/>
                    <a:pt x="3203" y="83"/>
                  </a:cubicBezTo>
                  <a:cubicBezTo>
                    <a:pt x="3202" y="87"/>
                    <a:pt x="3201" y="90"/>
                    <a:pt x="3199" y="93"/>
                  </a:cubicBezTo>
                  <a:cubicBezTo>
                    <a:pt x="3194" y="83"/>
                    <a:pt x="3187" y="74"/>
                    <a:pt x="3178" y="64"/>
                  </a:cubicBezTo>
                  <a:cubicBezTo>
                    <a:pt x="3187" y="74"/>
                    <a:pt x="3193" y="86"/>
                    <a:pt x="3198" y="97"/>
                  </a:cubicBezTo>
                  <a:cubicBezTo>
                    <a:pt x="3197" y="99"/>
                    <a:pt x="3197" y="101"/>
                    <a:pt x="3196" y="103"/>
                  </a:cubicBezTo>
                  <a:cubicBezTo>
                    <a:pt x="3195" y="98"/>
                    <a:pt x="3194" y="93"/>
                    <a:pt x="3192" y="88"/>
                  </a:cubicBezTo>
                  <a:cubicBezTo>
                    <a:pt x="3192" y="91"/>
                    <a:pt x="3193" y="98"/>
                    <a:pt x="3195" y="106"/>
                  </a:cubicBezTo>
                  <a:cubicBezTo>
                    <a:pt x="3195" y="108"/>
                    <a:pt x="3194" y="109"/>
                    <a:pt x="3194" y="110"/>
                  </a:cubicBezTo>
                  <a:cubicBezTo>
                    <a:pt x="3188" y="97"/>
                    <a:pt x="3181" y="83"/>
                    <a:pt x="3170" y="72"/>
                  </a:cubicBezTo>
                  <a:cubicBezTo>
                    <a:pt x="3168" y="61"/>
                    <a:pt x="3166" y="51"/>
                    <a:pt x="3164" y="41"/>
                  </a:cubicBezTo>
                  <a:cubicBezTo>
                    <a:pt x="3164" y="48"/>
                    <a:pt x="3164" y="55"/>
                    <a:pt x="3164" y="61"/>
                  </a:cubicBezTo>
                  <a:cubicBezTo>
                    <a:pt x="3164" y="63"/>
                    <a:pt x="3164" y="64"/>
                    <a:pt x="3164" y="66"/>
                  </a:cubicBezTo>
                  <a:cubicBezTo>
                    <a:pt x="3163" y="65"/>
                    <a:pt x="3163" y="65"/>
                    <a:pt x="3163" y="65"/>
                  </a:cubicBezTo>
                  <a:cubicBezTo>
                    <a:pt x="3163" y="65"/>
                    <a:pt x="3163" y="65"/>
                    <a:pt x="3164" y="66"/>
                  </a:cubicBezTo>
                  <a:cubicBezTo>
                    <a:pt x="3164" y="75"/>
                    <a:pt x="3165" y="85"/>
                    <a:pt x="3165" y="94"/>
                  </a:cubicBezTo>
                  <a:cubicBezTo>
                    <a:pt x="3163" y="88"/>
                    <a:pt x="3160" y="81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1" y="67"/>
                    <a:pt x="3144" y="59"/>
                    <a:pt x="3134" y="50"/>
                  </a:cubicBezTo>
                  <a:cubicBezTo>
                    <a:pt x="3137" y="54"/>
                    <a:pt x="3139" y="58"/>
                    <a:pt x="3141" y="61"/>
                  </a:cubicBezTo>
                  <a:cubicBezTo>
                    <a:pt x="3140" y="64"/>
                    <a:pt x="3140" y="68"/>
                    <a:pt x="3139" y="73"/>
                  </a:cubicBezTo>
                  <a:cubicBezTo>
                    <a:pt x="3137" y="70"/>
                    <a:pt x="3134" y="67"/>
                    <a:pt x="3132" y="65"/>
                  </a:cubicBezTo>
                  <a:cubicBezTo>
                    <a:pt x="3132" y="64"/>
                    <a:pt x="3132" y="64"/>
                    <a:pt x="3132" y="64"/>
                  </a:cubicBezTo>
                  <a:cubicBezTo>
                    <a:pt x="3132" y="64"/>
                    <a:pt x="3132" y="64"/>
                    <a:pt x="3131" y="64"/>
                  </a:cubicBezTo>
                  <a:cubicBezTo>
                    <a:pt x="3130" y="62"/>
                    <a:pt x="3128" y="61"/>
                    <a:pt x="3126" y="59"/>
                  </a:cubicBezTo>
                  <a:cubicBezTo>
                    <a:pt x="3128" y="61"/>
                    <a:pt x="3129" y="63"/>
                    <a:pt x="3131" y="65"/>
                  </a:cubicBezTo>
                  <a:cubicBezTo>
                    <a:pt x="3130" y="67"/>
                    <a:pt x="3128" y="69"/>
                    <a:pt x="3127" y="72"/>
                  </a:cubicBezTo>
                  <a:cubicBezTo>
                    <a:pt x="3126" y="66"/>
                    <a:pt x="3126" y="61"/>
                    <a:pt x="3125" y="56"/>
                  </a:cubicBezTo>
                  <a:cubicBezTo>
                    <a:pt x="3126" y="54"/>
                    <a:pt x="3127" y="53"/>
                    <a:pt x="3128" y="51"/>
                  </a:cubicBezTo>
                  <a:cubicBezTo>
                    <a:pt x="3127" y="52"/>
                    <a:pt x="3126" y="53"/>
                    <a:pt x="3124" y="55"/>
                  </a:cubicBezTo>
                  <a:cubicBezTo>
                    <a:pt x="3123" y="45"/>
                    <a:pt x="3121" y="35"/>
                    <a:pt x="3118" y="26"/>
                  </a:cubicBezTo>
                  <a:cubicBezTo>
                    <a:pt x="3117" y="30"/>
                    <a:pt x="3117" y="34"/>
                    <a:pt x="3117" y="37"/>
                  </a:cubicBezTo>
                  <a:cubicBezTo>
                    <a:pt x="3117" y="45"/>
                    <a:pt x="3118" y="53"/>
                    <a:pt x="3119" y="60"/>
                  </a:cubicBezTo>
                  <a:cubicBezTo>
                    <a:pt x="3115" y="64"/>
                    <a:pt x="3111" y="69"/>
                    <a:pt x="3106" y="74"/>
                  </a:cubicBezTo>
                  <a:cubicBezTo>
                    <a:pt x="3106" y="72"/>
                    <a:pt x="3105" y="70"/>
                    <a:pt x="3104" y="67"/>
                  </a:cubicBezTo>
                  <a:cubicBezTo>
                    <a:pt x="3104" y="70"/>
                    <a:pt x="3105" y="73"/>
                    <a:pt x="3105" y="76"/>
                  </a:cubicBezTo>
                  <a:cubicBezTo>
                    <a:pt x="3104" y="77"/>
                    <a:pt x="3104" y="77"/>
                    <a:pt x="3104" y="78"/>
                  </a:cubicBezTo>
                  <a:cubicBezTo>
                    <a:pt x="3102" y="75"/>
                    <a:pt x="3100" y="72"/>
                    <a:pt x="3098" y="68"/>
                  </a:cubicBezTo>
                  <a:cubicBezTo>
                    <a:pt x="3098" y="65"/>
                    <a:pt x="3099" y="63"/>
                    <a:pt x="3099" y="62"/>
                  </a:cubicBezTo>
                  <a:cubicBezTo>
                    <a:pt x="3098" y="63"/>
                    <a:pt x="3097" y="65"/>
                    <a:pt x="3096" y="67"/>
                  </a:cubicBezTo>
                  <a:cubicBezTo>
                    <a:pt x="3090" y="57"/>
                    <a:pt x="3081" y="47"/>
                    <a:pt x="3068" y="34"/>
                  </a:cubicBezTo>
                  <a:cubicBezTo>
                    <a:pt x="3081" y="49"/>
                    <a:pt x="3089" y="60"/>
                    <a:pt x="3096" y="69"/>
                  </a:cubicBezTo>
                  <a:cubicBezTo>
                    <a:pt x="3095" y="72"/>
                    <a:pt x="3094" y="75"/>
                    <a:pt x="3094" y="79"/>
                  </a:cubicBezTo>
                  <a:cubicBezTo>
                    <a:pt x="3088" y="68"/>
                    <a:pt x="3080" y="58"/>
                    <a:pt x="3068" y="52"/>
                  </a:cubicBezTo>
                  <a:cubicBezTo>
                    <a:pt x="3082" y="60"/>
                    <a:pt x="3089" y="72"/>
                    <a:pt x="3094" y="84"/>
                  </a:cubicBezTo>
                  <a:cubicBezTo>
                    <a:pt x="3094" y="86"/>
                    <a:pt x="3094" y="89"/>
                    <a:pt x="3094" y="91"/>
                  </a:cubicBezTo>
                  <a:cubicBezTo>
                    <a:pt x="3092" y="94"/>
                    <a:pt x="3090" y="97"/>
                    <a:pt x="3088" y="100"/>
                  </a:cubicBezTo>
                  <a:cubicBezTo>
                    <a:pt x="3087" y="96"/>
                    <a:pt x="3087" y="93"/>
                    <a:pt x="3086" y="90"/>
                  </a:cubicBezTo>
                  <a:cubicBezTo>
                    <a:pt x="3087" y="93"/>
                    <a:pt x="3087" y="97"/>
                    <a:pt x="3087" y="101"/>
                  </a:cubicBezTo>
                  <a:cubicBezTo>
                    <a:pt x="3086" y="102"/>
                    <a:pt x="3085" y="104"/>
                    <a:pt x="3085" y="105"/>
                  </a:cubicBezTo>
                  <a:cubicBezTo>
                    <a:pt x="3084" y="104"/>
                    <a:pt x="3084" y="103"/>
                    <a:pt x="3083" y="102"/>
                  </a:cubicBezTo>
                  <a:cubicBezTo>
                    <a:pt x="3082" y="97"/>
                    <a:pt x="3081" y="93"/>
                    <a:pt x="3080" y="88"/>
                  </a:cubicBezTo>
                  <a:cubicBezTo>
                    <a:pt x="3081" y="83"/>
                    <a:pt x="3082" y="79"/>
                    <a:pt x="3082" y="75"/>
                  </a:cubicBezTo>
                  <a:cubicBezTo>
                    <a:pt x="3081" y="78"/>
                    <a:pt x="3080" y="80"/>
                    <a:pt x="3079" y="82"/>
                  </a:cubicBezTo>
                  <a:cubicBezTo>
                    <a:pt x="3078" y="81"/>
                    <a:pt x="3078" y="80"/>
                    <a:pt x="3078" y="79"/>
                  </a:cubicBezTo>
                  <a:cubicBezTo>
                    <a:pt x="3078" y="80"/>
                    <a:pt x="3078" y="82"/>
                    <a:pt x="3078" y="83"/>
                  </a:cubicBezTo>
                  <a:cubicBezTo>
                    <a:pt x="3078" y="84"/>
                    <a:pt x="3077" y="86"/>
                    <a:pt x="3076" y="87"/>
                  </a:cubicBezTo>
                  <a:cubicBezTo>
                    <a:pt x="3074" y="83"/>
                    <a:pt x="3073" y="79"/>
                    <a:pt x="3071" y="75"/>
                  </a:cubicBezTo>
                  <a:cubicBezTo>
                    <a:pt x="3071" y="80"/>
                    <a:pt x="3072" y="86"/>
                    <a:pt x="3073" y="93"/>
                  </a:cubicBezTo>
                  <a:cubicBezTo>
                    <a:pt x="3073" y="94"/>
                    <a:pt x="3073" y="94"/>
                    <a:pt x="3073" y="94"/>
                  </a:cubicBezTo>
                  <a:cubicBezTo>
                    <a:pt x="3072" y="90"/>
                    <a:pt x="3070" y="85"/>
                    <a:pt x="3068" y="81"/>
                  </a:cubicBezTo>
                  <a:cubicBezTo>
                    <a:pt x="3070" y="86"/>
                    <a:pt x="3071" y="91"/>
                    <a:pt x="3072" y="97"/>
                  </a:cubicBezTo>
                  <a:cubicBezTo>
                    <a:pt x="3070" y="100"/>
                    <a:pt x="3069" y="102"/>
                    <a:pt x="3068" y="105"/>
                  </a:cubicBezTo>
                  <a:cubicBezTo>
                    <a:pt x="3065" y="83"/>
                    <a:pt x="3059" y="63"/>
                    <a:pt x="3039" y="42"/>
                  </a:cubicBezTo>
                  <a:cubicBezTo>
                    <a:pt x="3047" y="58"/>
                    <a:pt x="3053" y="70"/>
                    <a:pt x="3057" y="81"/>
                  </a:cubicBezTo>
                  <a:cubicBezTo>
                    <a:pt x="3057" y="83"/>
                    <a:pt x="3057" y="86"/>
                    <a:pt x="3057" y="89"/>
                  </a:cubicBezTo>
                  <a:cubicBezTo>
                    <a:pt x="3055" y="86"/>
                    <a:pt x="3053" y="84"/>
                    <a:pt x="3052" y="81"/>
                  </a:cubicBezTo>
                  <a:cubicBezTo>
                    <a:pt x="3051" y="79"/>
                    <a:pt x="3049" y="76"/>
                    <a:pt x="3048" y="73"/>
                  </a:cubicBezTo>
                  <a:cubicBezTo>
                    <a:pt x="3048" y="71"/>
                    <a:pt x="3048" y="69"/>
                    <a:pt x="3048" y="67"/>
                  </a:cubicBezTo>
                  <a:cubicBezTo>
                    <a:pt x="3048" y="69"/>
                    <a:pt x="3047" y="70"/>
                    <a:pt x="3047" y="72"/>
                  </a:cubicBezTo>
                  <a:cubicBezTo>
                    <a:pt x="3044" y="66"/>
                    <a:pt x="3040" y="59"/>
                    <a:pt x="3035" y="53"/>
                  </a:cubicBezTo>
                  <a:cubicBezTo>
                    <a:pt x="3035" y="48"/>
                    <a:pt x="3035" y="42"/>
                    <a:pt x="3035" y="37"/>
                  </a:cubicBezTo>
                  <a:cubicBezTo>
                    <a:pt x="3035" y="34"/>
                    <a:pt x="3035" y="30"/>
                    <a:pt x="3035" y="26"/>
                  </a:cubicBezTo>
                  <a:cubicBezTo>
                    <a:pt x="3032" y="33"/>
                    <a:pt x="3031" y="40"/>
                    <a:pt x="3029" y="47"/>
                  </a:cubicBezTo>
                  <a:cubicBezTo>
                    <a:pt x="3026" y="44"/>
                    <a:pt x="3023" y="41"/>
                    <a:pt x="3020" y="38"/>
                  </a:cubicBezTo>
                  <a:cubicBezTo>
                    <a:pt x="3023" y="41"/>
                    <a:pt x="3026" y="45"/>
                    <a:pt x="3029" y="49"/>
                  </a:cubicBezTo>
                  <a:cubicBezTo>
                    <a:pt x="3029" y="51"/>
                    <a:pt x="3028" y="53"/>
                    <a:pt x="3028" y="55"/>
                  </a:cubicBezTo>
                  <a:cubicBezTo>
                    <a:pt x="3027" y="53"/>
                    <a:pt x="3025" y="52"/>
                    <a:pt x="3024" y="51"/>
                  </a:cubicBezTo>
                  <a:cubicBezTo>
                    <a:pt x="3025" y="53"/>
                    <a:pt x="3027" y="54"/>
                    <a:pt x="3028" y="56"/>
                  </a:cubicBezTo>
                  <a:cubicBezTo>
                    <a:pt x="3027" y="61"/>
                    <a:pt x="3026" y="66"/>
                    <a:pt x="3026" y="72"/>
                  </a:cubicBezTo>
                  <a:cubicBezTo>
                    <a:pt x="3024" y="69"/>
                    <a:pt x="3022" y="66"/>
                    <a:pt x="3021" y="64"/>
                  </a:cubicBezTo>
                  <a:cubicBezTo>
                    <a:pt x="3021" y="66"/>
                    <a:pt x="3023" y="70"/>
                    <a:pt x="3025" y="74"/>
                  </a:cubicBezTo>
                  <a:cubicBezTo>
                    <a:pt x="3024" y="80"/>
                    <a:pt x="3023" y="86"/>
                    <a:pt x="3022" y="92"/>
                  </a:cubicBezTo>
                  <a:cubicBezTo>
                    <a:pt x="3018" y="109"/>
                    <a:pt x="3014" y="126"/>
                    <a:pt x="3012" y="143"/>
                  </a:cubicBezTo>
                  <a:cubicBezTo>
                    <a:pt x="3013" y="126"/>
                    <a:pt x="3014" y="109"/>
                    <a:pt x="3014" y="91"/>
                  </a:cubicBezTo>
                  <a:cubicBezTo>
                    <a:pt x="3014" y="87"/>
                    <a:pt x="3014" y="61"/>
                    <a:pt x="3010" y="59"/>
                  </a:cubicBezTo>
                  <a:cubicBezTo>
                    <a:pt x="3015" y="76"/>
                    <a:pt x="3001" y="122"/>
                    <a:pt x="2998" y="146"/>
                  </a:cubicBezTo>
                  <a:cubicBezTo>
                    <a:pt x="2998" y="148"/>
                    <a:pt x="2998" y="150"/>
                    <a:pt x="2997" y="152"/>
                  </a:cubicBezTo>
                  <a:cubicBezTo>
                    <a:pt x="2997" y="150"/>
                    <a:pt x="2998" y="148"/>
                    <a:pt x="2998" y="146"/>
                  </a:cubicBezTo>
                  <a:cubicBezTo>
                    <a:pt x="3000" y="123"/>
                    <a:pt x="2998" y="98"/>
                    <a:pt x="2997" y="75"/>
                  </a:cubicBezTo>
                  <a:cubicBezTo>
                    <a:pt x="2994" y="97"/>
                    <a:pt x="2986" y="119"/>
                    <a:pt x="2986" y="141"/>
                  </a:cubicBezTo>
                  <a:cubicBezTo>
                    <a:pt x="2986" y="146"/>
                    <a:pt x="2986" y="152"/>
                    <a:pt x="2987" y="158"/>
                  </a:cubicBezTo>
                  <a:cubicBezTo>
                    <a:pt x="2985" y="150"/>
                    <a:pt x="2985" y="140"/>
                    <a:pt x="2985" y="133"/>
                  </a:cubicBezTo>
                  <a:cubicBezTo>
                    <a:pt x="2985" y="109"/>
                    <a:pt x="2989" y="85"/>
                    <a:pt x="2989" y="61"/>
                  </a:cubicBezTo>
                  <a:cubicBezTo>
                    <a:pt x="2989" y="55"/>
                    <a:pt x="2989" y="48"/>
                    <a:pt x="2988" y="41"/>
                  </a:cubicBezTo>
                  <a:cubicBezTo>
                    <a:pt x="2981" y="71"/>
                    <a:pt x="2977" y="110"/>
                    <a:pt x="2977" y="140"/>
                  </a:cubicBezTo>
                  <a:cubicBezTo>
                    <a:pt x="2977" y="145"/>
                    <a:pt x="2977" y="149"/>
                    <a:pt x="2977" y="153"/>
                  </a:cubicBezTo>
                  <a:cubicBezTo>
                    <a:pt x="2976" y="135"/>
                    <a:pt x="2972" y="116"/>
                    <a:pt x="2968" y="98"/>
                  </a:cubicBezTo>
                  <a:cubicBezTo>
                    <a:pt x="2970" y="110"/>
                    <a:pt x="2966" y="124"/>
                    <a:pt x="2966" y="136"/>
                  </a:cubicBezTo>
                  <a:cubicBezTo>
                    <a:pt x="2966" y="140"/>
                    <a:pt x="2966" y="143"/>
                    <a:pt x="2966" y="147"/>
                  </a:cubicBezTo>
                  <a:cubicBezTo>
                    <a:pt x="2963" y="125"/>
                    <a:pt x="2958" y="103"/>
                    <a:pt x="2949" y="83"/>
                  </a:cubicBezTo>
                  <a:cubicBezTo>
                    <a:pt x="2952" y="90"/>
                    <a:pt x="2952" y="108"/>
                    <a:pt x="2952" y="115"/>
                  </a:cubicBezTo>
                  <a:cubicBezTo>
                    <a:pt x="2952" y="127"/>
                    <a:pt x="2952" y="138"/>
                    <a:pt x="2954" y="150"/>
                  </a:cubicBezTo>
                  <a:cubicBezTo>
                    <a:pt x="2945" y="126"/>
                    <a:pt x="2942" y="99"/>
                    <a:pt x="2935" y="74"/>
                  </a:cubicBezTo>
                  <a:cubicBezTo>
                    <a:pt x="2938" y="91"/>
                    <a:pt x="2934" y="110"/>
                    <a:pt x="2934" y="128"/>
                  </a:cubicBezTo>
                  <a:cubicBezTo>
                    <a:pt x="2934" y="132"/>
                    <a:pt x="2935" y="136"/>
                    <a:pt x="2935" y="140"/>
                  </a:cubicBezTo>
                  <a:cubicBezTo>
                    <a:pt x="2935" y="145"/>
                    <a:pt x="2936" y="149"/>
                    <a:pt x="2937" y="154"/>
                  </a:cubicBezTo>
                  <a:cubicBezTo>
                    <a:pt x="2936" y="149"/>
                    <a:pt x="2935" y="145"/>
                    <a:pt x="2935" y="140"/>
                  </a:cubicBezTo>
                  <a:cubicBezTo>
                    <a:pt x="2932" y="120"/>
                    <a:pt x="2929" y="99"/>
                    <a:pt x="2924" y="80"/>
                  </a:cubicBezTo>
                  <a:cubicBezTo>
                    <a:pt x="2926" y="102"/>
                    <a:pt x="2916" y="126"/>
                    <a:pt x="2916" y="149"/>
                  </a:cubicBezTo>
                  <a:cubicBezTo>
                    <a:pt x="2916" y="156"/>
                    <a:pt x="2916" y="156"/>
                    <a:pt x="2916" y="156"/>
                  </a:cubicBezTo>
                  <a:cubicBezTo>
                    <a:pt x="2912" y="147"/>
                    <a:pt x="2912" y="132"/>
                    <a:pt x="2912" y="122"/>
                  </a:cubicBezTo>
                  <a:cubicBezTo>
                    <a:pt x="2912" y="100"/>
                    <a:pt x="2914" y="79"/>
                    <a:pt x="2913" y="57"/>
                  </a:cubicBezTo>
                  <a:cubicBezTo>
                    <a:pt x="2910" y="62"/>
                    <a:pt x="2909" y="112"/>
                    <a:pt x="2909" y="120"/>
                  </a:cubicBezTo>
                  <a:cubicBezTo>
                    <a:pt x="2909" y="133"/>
                    <a:pt x="2910" y="146"/>
                    <a:pt x="2913" y="159"/>
                  </a:cubicBezTo>
                  <a:cubicBezTo>
                    <a:pt x="2908" y="135"/>
                    <a:pt x="2902" y="108"/>
                    <a:pt x="2890" y="85"/>
                  </a:cubicBezTo>
                  <a:cubicBezTo>
                    <a:pt x="2901" y="106"/>
                    <a:pt x="2896" y="132"/>
                    <a:pt x="2903" y="154"/>
                  </a:cubicBezTo>
                  <a:cubicBezTo>
                    <a:pt x="2895" y="142"/>
                    <a:pt x="2893" y="122"/>
                    <a:pt x="2890" y="106"/>
                  </a:cubicBezTo>
                  <a:cubicBezTo>
                    <a:pt x="2892" y="120"/>
                    <a:pt x="2890" y="134"/>
                    <a:pt x="2892" y="148"/>
                  </a:cubicBezTo>
                  <a:cubicBezTo>
                    <a:pt x="2893" y="151"/>
                    <a:pt x="2894" y="153"/>
                    <a:pt x="2894" y="155"/>
                  </a:cubicBezTo>
                  <a:cubicBezTo>
                    <a:pt x="2893" y="153"/>
                    <a:pt x="2893" y="151"/>
                    <a:pt x="2892" y="148"/>
                  </a:cubicBezTo>
                  <a:cubicBezTo>
                    <a:pt x="2887" y="128"/>
                    <a:pt x="2875" y="75"/>
                    <a:pt x="2863" y="68"/>
                  </a:cubicBezTo>
                  <a:cubicBezTo>
                    <a:pt x="2880" y="90"/>
                    <a:pt x="2878" y="127"/>
                    <a:pt x="2882" y="153"/>
                  </a:cubicBezTo>
                  <a:cubicBezTo>
                    <a:pt x="2878" y="134"/>
                    <a:pt x="2871" y="113"/>
                    <a:pt x="2862" y="95"/>
                  </a:cubicBezTo>
                  <a:cubicBezTo>
                    <a:pt x="2869" y="115"/>
                    <a:pt x="2868" y="136"/>
                    <a:pt x="2877" y="155"/>
                  </a:cubicBezTo>
                  <a:cubicBezTo>
                    <a:pt x="2864" y="144"/>
                    <a:pt x="2857" y="117"/>
                    <a:pt x="2853" y="102"/>
                  </a:cubicBezTo>
                  <a:cubicBezTo>
                    <a:pt x="2853" y="120"/>
                    <a:pt x="2858" y="143"/>
                    <a:pt x="2869" y="158"/>
                  </a:cubicBezTo>
                  <a:cubicBezTo>
                    <a:pt x="2855" y="144"/>
                    <a:pt x="2850" y="103"/>
                    <a:pt x="2845" y="85"/>
                  </a:cubicBezTo>
                  <a:cubicBezTo>
                    <a:pt x="2844" y="88"/>
                    <a:pt x="2844" y="91"/>
                    <a:pt x="2844" y="94"/>
                  </a:cubicBezTo>
                  <a:cubicBezTo>
                    <a:pt x="2844" y="113"/>
                    <a:pt x="2849" y="142"/>
                    <a:pt x="2861" y="159"/>
                  </a:cubicBezTo>
                  <a:cubicBezTo>
                    <a:pt x="2847" y="143"/>
                    <a:pt x="2842" y="123"/>
                    <a:pt x="2836" y="104"/>
                  </a:cubicBezTo>
                  <a:cubicBezTo>
                    <a:pt x="2840" y="122"/>
                    <a:pt x="2840" y="140"/>
                    <a:pt x="2849" y="158"/>
                  </a:cubicBezTo>
                  <a:cubicBezTo>
                    <a:pt x="2839" y="147"/>
                    <a:pt x="2834" y="132"/>
                    <a:pt x="2830" y="117"/>
                  </a:cubicBezTo>
                  <a:cubicBezTo>
                    <a:pt x="2832" y="105"/>
                    <a:pt x="2833" y="93"/>
                    <a:pt x="2834" y="84"/>
                  </a:cubicBezTo>
                  <a:cubicBezTo>
                    <a:pt x="2832" y="92"/>
                    <a:pt x="2830" y="101"/>
                    <a:pt x="2828" y="109"/>
                  </a:cubicBezTo>
                  <a:cubicBezTo>
                    <a:pt x="2827" y="102"/>
                    <a:pt x="2825" y="95"/>
                    <a:pt x="2823" y="89"/>
                  </a:cubicBezTo>
                  <a:cubicBezTo>
                    <a:pt x="2826" y="64"/>
                    <a:pt x="2830" y="40"/>
                    <a:pt x="2830" y="40"/>
                  </a:cubicBezTo>
                  <a:cubicBezTo>
                    <a:pt x="2825" y="51"/>
                    <a:pt x="2820" y="77"/>
                    <a:pt x="2817" y="100"/>
                  </a:cubicBezTo>
                  <a:cubicBezTo>
                    <a:pt x="2815" y="95"/>
                    <a:pt x="2812" y="90"/>
                    <a:pt x="2811" y="86"/>
                  </a:cubicBezTo>
                  <a:cubicBezTo>
                    <a:pt x="2810" y="70"/>
                    <a:pt x="2808" y="58"/>
                    <a:pt x="2808" y="60"/>
                  </a:cubicBezTo>
                  <a:cubicBezTo>
                    <a:pt x="2808" y="61"/>
                    <a:pt x="2808" y="69"/>
                    <a:pt x="2807" y="80"/>
                  </a:cubicBezTo>
                  <a:cubicBezTo>
                    <a:pt x="2806" y="79"/>
                    <a:pt x="2806" y="78"/>
                    <a:pt x="2805" y="78"/>
                  </a:cubicBezTo>
                  <a:cubicBezTo>
                    <a:pt x="2806" y="79"/>
                    <a:pt x="2806" y="80"/>
                    <a:pt x="2807" y="81"/>
                  </a:cubicBezTo>
                  <a:cubicBezTo>
                    <a:pt x="2806" y="87"/>
                    <a:pt x="2806" y="95"/>
                    <a:pt x="2805" y="102"/>
                  </a:cubicBezTo>
                  <a:cubicBezTo>
                    <a:pt x="2805" y="102"/>
                    <a:pt x="2805" y="102"/>
                    <a:pt x="2805" y="102"/>
                  </a:cubicBezTo>
                  <a:cubicBezTo>
                    <a:pt x="2805" y="103"/>
                    <a:pt x="2805" y="103"/>
                    <a:pt x="2805" y="103"/>
                  </a:cubicBezTo>
                  <a:cubicBezTo>
                    <a:pt x="2804" y="113"/>
                    <a:pt x="2804" y="123"/>
                    <a:pt x="2803" y="130"/>
                  </a:cubicBezTo>
                  <a:cubicBezTo>
                    <a:pt x="2803" y="130"/>
                    <a:pt x="2802" y="129"/>
                    <a:pt x="2802" y="128"/>
                  </a:cubicBezTo>
                  <a:cubicBezTo>
                    <a:pt x="2802" y="107"/>
                    <a:pt x="2798" y="69"/>
                    <a:pt x="2795" y="47"/>
                  </a:cubicBezTo>
                  <a:cubicBezTo>
                    <a:pt x="2796" y="64"/>
                    <a:pt x="2795" y="87"/>
                    <a:pt x="2794" y="107"/>
                  </a:cubicBezTo>
                  <a:cubicBezTo>
                    <a:pt x="2793" y="105"/>
                    <a:pt x="2792" y="104"/>
                    <a:pt x="2791" y="102"/>
                  </a:cubicBezTo>
                  <a:cubicBezTo>
                    <a:pt x="2792" y="104"/>
                    <a:pt x="2793" y="106"/>
                    <a:pt x="2793" y="107"/>
                  </a:cubicBezTo>
                  <a:cubicBezTo>
                    <a:pt x="2793" y="114"/>
                    <a:pt x="2793" y="121"/>
                    <a:pt x="2792" y="126"/>
                  </a:cubicBezTo>
                  <a:cubicBezTo>
                    <a:pt x="2792" y="125"/>
                    <a:pt x="2791" y="123"/>
                    <a:pt x="2791" y="122"/>
                  </a:cubicBezTo>
                  <a:cubicBezTo>
                    <a:pt x="2790" y="93"/>
                    <a:pt x="2786" y="46"/>
                    <a:pt x="2786" y="46"/>
                  </a:cubicBezTo>
                  <a:cubicBezTo>
                    <a:pt x="2785" y="65"/>
                    <a:pt x="2779" y="142"/>
                    <a:pt x="2779" y="142"/>
                  </a:cubicBezTo>
                  <a:cubicBezTo>
                    <a:pt x="2773" y="106"/>
                    <a:pt x="2780" y="0"/>
                    <a:pt x="2780" y="0"/>
                  </a:cubicBezTo>
                  <a:cubicBezTo>
                    <a:pt x="2774" y="16"/>
                    <a:pt x="2768" y="131"/>
                    <a:pt x="2768" y="131"/>
                  </a:cubicBezTo>
                  <a:cubicBezTo>
                    <a:pt x="2766" y="36"/>
                    <a:pt x="2762" y="32"/>
                    <a:pt x="2762" y="32"/>
                  </a:cubicBezTo>
                  <a:cubicBezTo>
                    <a:pt x="2764" y="43"/>
                    <a:pt x="2761" y="76"/>
                    <a:pt x="2758" y="103"/>
                  </a:cubicBezTo>
                  <a:cubicBezTo>
                    <a:pt x="2757" y="102"/>
                    <a:pt x="2756" y="100"/>
                    <a:pt x="2755" y="99"/>
                  </a:cubicBezTo>
                  <a:cubicBezTo>
                    <a:pt x="2756" y="101"/>
                    <a:pt x="2757" y="103"/>
                    <a:pt x="2758" y="104"/>
                  </a:cubicBezTo>
                  <a:cubicBezTo>
                    <a:pt x="2757" y="112"/>
                    <a:pt x="2756" y="120"/>
                    <a:pt x="2755" y="126"/>
                  </a:cubicBezTo>
                  <a:cubicBezTo>
                    <a:pt x="2755" y="124"/>
                    <a:pt x="2755" y="123"/>
                    <a:pt x="2755" y="122"/>
                  </a:cubicBezTo>
                  <a:cubicBezTo>
                    <a:pt x="2755" y="94"/>
                    <a:pt x="2754" y="48"/>
                    <a:pt x="2754" y="48"/>
                  </a:cubicBezTo>
                  <a:cubicBezTo>
                    <a:pt x="2753" y="55"/>
                    <a:pt x="2750" y="82"/>
                    <a:pt x="2747" y="106"/>
                  </a:cubicBezTo>
                  <a:cubicBezTo>
                    <a:pt x="2746" y="104"/>
                    <a:pt x="2745" y="102"/>
                    <a:pt x="2745" y="100"/>
                  </a:cubicBezTo>
                  <a:cubicBezTo>
                    <a:pt x="2748" y="60"/>
                    <a:pt x="2752" y="9"/>
                    <a:pt x="2752" y="9"/>
                  </a:cubicBezTo>
                  <a:cubicBezTo>
                    <a:pt x="2747" y="23"/>
                    <a:pt x="2740" y="83"/>
                    <a:pt x="2737" y="117"/>
                  </a:cubicBezTo>
                  <a:cubicBezTo>
                    <a:pt x="2736" y="114"/>
                    <a:pt x="2735" y="111"/>
                    <a:pt x="2734" y="108"/>
                  </a:cubicBezTo>
                  <a:cubicBezTo>
                    <a:pt x="2734" y="90"/>
                    <a:pt x="2732" y="72"/>
                    <a:pt x="2732" y="72"/>
                  </a:cubicBezTo>
                  <a:cubicBezTo>
                    <a:pt x="2732" y="76"/>
                    <a:pt x="2732" y="84"/>
                    <a:pt x="2731" y="94"/>
                  </a:cubicBezTo>
                  <a:cubicBezTo>
                    <a:pt x="2730" y="91"/>
                    <a:pt x="2728" y="88"/>
                    <a:pt x="2727" y="84"/>
                  </a:cubicBezTo>
                  <a:cubicBezTo>
                    <a:pt x="2728" y="88"/>
                    <a:pt x="2730" y="92"/>
                    <a:pt x="2730" y="96"/>
                  </a:cubicBezTo>
                  <a:cubicBezTo>
                    <a:pt x="2730" y="99"/>
                    <a:pt x="2730" y="103"/>
                    <a:pt x="2729" y="107"/>
                  </a:cubicBezTo>
                  <a:cubicBezTo>
                    <a:pt x="2729" y="106"/>
                    <a:pt x="2729" y="106"/>
                    <a:pt x="2729" y="105"/>
                  </a:cubicBezTo>
                  <a:cubicBezTo>
                    <a:pt x="2728" y="107"/>
                    <a:pt x="2728" y="112"/>
                    <a:pt x="2728" y="116"/>
                  </a:cubicBezTo>
                  <a:cubicBezTo>
                    <a:pt x="2727" y="121"/>
                    <a:pt x="2727" y="126"/>
                    <a:pt x="2726" y="130"/>
                  </a:cubicBezTo>
                  <a:cubicBezTo>
                    <a:pt x="2726" y="129"/>
                    <a:pt x="2726" y="128"/>
                    <a:pt x="2726" y="127"/>
                  </a:cubicBezTo>
                  <a:cubicBezTo>
                    <a:pt x="2726" y="101"/>
                    <a:pt x="2721" y="63"/>
                    <a:pt x="2720" y="54"/>
                  </a:cubicBezTo>
                  <a:cubicBezTo>
                    <a:pt x="2720" y="61"/>
                    <a:pt x="2719" y="79"/>
                    <a:pt x="2718" y="96"/>
                  </a:cubicBezTo>
                  <a:cubicBezTo>
                    <a:pt x="2717" y="94"/>
                    <a:pt x="2716" y="92"/>
                    <a:pt x="2715" y="90"/>
                  </a:cubicBezTo>
                  <a:cubicBezTo>
                    <a:pt x="2716" y="93"/>
                    <a:pt x="2717" y="95"/>
                    <a:pt x="2718" y="97"/>
                  </a:cubicBezTo>
                  <a:cubicBezTo>
                    <a:pt x="2716" y="118"/>
                    <a:pt x="2714" y="137"/>
                    <a:pt x="2714" y="137"/>
                  </a:cubicBezTo>
                  <a:cubicBezTo>
                    <a:pt x="2713" y="136"/>
                    <a:pt x="2713" y="134"/>
                    <a:pt x="2713" y="133"/>
                  </a:cubicBezTo>
                  <a:cubicBezTo>
                    <a:pt x="2713" y="125"/>
                    <a:pt x="2713" y="118"/>
                    <a:pt x="2712" y="110"/>
                  </a:cubicBezTo>
                  <a:cubicBezTo>
                    <a:pt x="2711" y="76"/>
                    <a:pt x="2710" y="40"/>
                    <a:pt x="2710" y="40"/>
                  </a:cubicBezTo>
                  <a:cubicBezTo>
                    <a:pt x="2710" y="49"/>
                    <a:pt x="2705" y="79"/>
                    <a:pt x="2701" y="104"/>
                  </a:cubicBezTo>
                  <a:cubicBezTo>
                    <a:pt x="2701" y="99"/>
                    <a:pt x="2700" y="95"/>
                    <a:pt x="2699" y="90"/>
                  </a:cubicBezTo>
                  <a:cubicBezTo>
                    <a:pt x="2700" y="67"/>
                    <a:pt x="2701" y="45"/>
                    <a:pt x="2701" y="45"/>
                  </a:cubicBezTo>
                  <a:cubicBezTo>
                    <a:pt x="2701" y="53"/>
                    <a:pt x="2695" y="75"/>
                    <a:pt x="2688" y="96"/>
                  </a:cubicBezTo>
                  <a:cubicBezTo>
                    <a:pt x="2687" y="93"/>
                    <a:pt x="2686" y="89"/>
                    <a:pt x="2684" y="85"/>
                  </a:cubicBezTo>
                  <a:cubicBezTo>
                    <a:pt x="2691" y="51"/>
                    <a:pt x="2699" y="17"/>
                    <a:pt x="2699" y="17"/>
                  </a:cubicBezTo>
                  <a:cubicBezTo>
                    <a:pt x="2694" y="24"/>
                    <a:pt x="2679" y="95"/>
                    <a:pt x="2672" y="130"/>
                  </a:cubicBezTo>
                  <a:cubicBezTo>
                    <a:pt x="2672" y="130"/>
                    <a:pt x="2672" y="130"/>
                    <a:pt x="2672" y="130"/>
                  </a:cubicBezTo>
                  <a:cubicBezTo>
                    <a:pt x="2676" y="100"/>
                    <a:pt x="2673" y="63"/>
                    <a:pt x="2672" y="52"/>
                  </a:cubicBezTo>
                  <a:cubicBezTo>
                    <a:pt x="2674" y="72"/>
                    <a:pt x="2668" y="109"/>
                    <a:pt x="2664" y="128"/>
                  </a:cubicBezTo>
                  <a:cubicBezTo>
                    <a:pt x="2664" y="126"/>
                    <a:pt x="2664" y="123"/>
                    <a:pt x="2663" y="120"/>
                  </a:cubicBezTo>
                  <a:cubicBezTo>
                    <a:pt x="2665" y="99"/>
                    <a:pt x="2667" y="71"/>
                    <a:pt x="2668" y="65"/>
                  </a:cubicBezTo>
                  <a:cubicBezTo>
                    <a:pt x="2667" y="71"/>
                    <a:pt x="2664" y="89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56" y="125"/>
                    <a:pt x="2653" y="143"/>
                    <a:pt x="2653" y="143"/>
                  </a:cubicBezTo>
                  <a:cubicBezTo>
                    <a:pt x="2663" y="38"/>
                    <a:pt x="2656" y="25"/>
                    <a:pt x="2656" y="25"/>
                  </a:cubicBezTo>
                  <a:cubicBezTo>
                    <a:pt x="2659" y="42"/>
                    <a:pt x="2656" y="72"/>
                    <a:pt x="2651" y="96"/>
                  </a:cubicBezTo>
                  <a:cubicBezTo>
                    <a:pt x="2650" y="89"/>
                    <a:pt x="2648" y="80"/>
                    <a:pt x="2645" y="73"/>
                  </a:cubicBezTo>
                  <a:cubicBezTo>
                    <a:pt x="2644" y="65"/>
                    <a:pt x="2644" y="60"/>
                    <a:pt x="2644" y="60"/>
                  </a:cubicBezTo>
                  <a:cubicBezTo>
                    <a:pt x="2644" y="63"/>
                    <a:pt x="2644" y="67"/>
                    <a:pt x="2643" y="71"/>
                  </a:cubicBezTo>
                  <a:cubicBezTo>
                    <a:pt x="2642" y="69"/>
                    <a:pt x="2641" y="67"/>
                    <a:pt x="2639" y="65"/>
                  </a:cubicBezTo>
                  <a:cubicBezTo>
                    <a:pt x="2641" y="67"/>
                    <a:pt x="2642" y="70"/>
                    <a:pt x="2643" y="73"/>
                  </a:cubicBezTo>
                  <a:cubicBezTo>
                    <a:pt x="2643" y="82"/>
                    <a:pt x="2642" y="92"/>
                    <a:pt x="2640" y="101"/>
                  </a:cubicBezTo>
                  <a:cubicBezTo>
                    <a:pt x="2640" y="95"/>
                    <a:pt x="2637" y="88"/>
                    <a:pt x="2632" y="83"/>
                  </a:cubicBezTo>
                  <a:cubicBezTo>
                    <a:pt x="2632" y="74"/>
                    <a:pt x="2633" y="68"/>
                    <a:pt x="2633" y="68"/>
                  </a:cubicBezTo>
                  <a:cubicBezTo>
                    <a:pt x="2632" y="72"/>
                    <a:pt x="2631" y="76"/>
                    <a:pt x="2630" y="81"/>
                  </a:cubicBezTo>
                  <a:cubicBezTo>
                    <a:pt x="2630" y="81"/>
                    <a:pt x="2629" y="81"/>
                    <a:pt x="2629" y="80"/>
                  </a:cubicBezTo>
                  <a:cubicBezTo>
                    <a:pt x="2629" y="81"/>
                    <a:pt x="2630" y="81"/>
                    <a:pt x="2630" y="82"/>
                  </a:cubicBezTo>
                  <a:cubicBezTo>
                    <a:pt x="2627" y="101"/>
                    <a:pt x="2626" y="130"/>
                    <a:pt x="2626" y="142"/>
                  </a:cubicBezTo>
                  <a:cubicBezTo>
                    <a:pt x="2626" y="143"/>
                    <a:pt x="2625" y="144"/>
                    <a:pt x="2625" y="144"/>
                  </a:cubicBezTo>
                  <a:cubicBezTo>
                    <a:pt x="2624" y="141"/>
                    <a:pt x="2624" y="136"/>
                    <a:pt x="2624" y="131"/>
                  </a:cubicBezTo>
                  <a:cubicBezTo>
                    <a:pt x="2625" y="121"/>
                    <a:pt x="2627" y="112"/>
                    <a:pt x="2628" y="103"/>
                  </a:cubicBezTo>
                  <a:cubicBezTo>
                    <a:pt x="2627" y="108"/>
                    <a:pt x="2626" y="112"/>
                    <a:pt x="2625" y="117"/>
                  </a:cubicBezTo>
                  <a:cubicBezTo>
                    <a:pt x="2626" y="85"/>
                    <a:pt x="2632" y="45"/>
                    <a:pt x="2632" y="45"/>
                  </a:cubicBezTo>
                  <a:cubicBezTo>
                    <a:pt x="2625" y="60"/>
                    <a:pt x="2620" y="95"/>
                    <a:pt x="2618" y="120"/>
                  </a:cubicBezTo>
                  <a:cubicBezTo>
                    <a:pt x="2618" y="123"/>
                    <a:pt x="2617" y="125"/>
                    <a:pt x="2616" y="127"/>
                  </a:cubicBezTo>
                  <a:cubicBezTo>
                    <a:pt x="2616" y="103"/>
                    <a:pt x="2615" y="70"/>
                    <a:pt x="2615" y="70"/>
                  </a:cubicBezTo>
                  <a:cubicBezTo>
                    <a:pt x="2615" y="72"/>
                    <a:pt x="2615" y="76"/>
                    <a:pt x="2614" y="81"/>
                  </a:cubicBezTo>
                  <a:cubicBezTo>
                    <a:pt x="2613" y="73"/>
                    <a:pt x="2611" y="66"/>
                    <a:pt x="2608" y="60"/>
                  </a:cubicBezTo>
                  <a:cubicBezTo>
                    <a:pt x="2609" y="52"/>
                    <a:pt x="2609" y="46"/>
                    <a:pt x="2609" y="46"/>
                  </a:cubicBezTo>
                  <a:cubicBezTo>
                    <a:pt x="2607" y="51"/>
                    <a:pt x="2605" y="64"/>
                    <a:pt x="2604" y="79"/>
                  </a:cubicBezTo>
                  <a:cubicBezTo>
                    <a:pt x="2603" y="77"/>
                    <a:pt x="2603" y="75"/>
                    <a:pt x="2602" y="74"/>
                  </a:cubicBezTo>
                  <a:cubicBezTo>
                    <a:pt x="2601" y="83"/>
                    <a:pt x="2601" y="92"/>
                    <a:pt x="2601" y="102"/>
                  </a:cubicBezTo>
                  <a:cubicBezTo>
                    <a:pt x="2601" y="108"/>
                    <a:pt x="2600" y="115"/>
                    <a:pt x="2599" y="121"/>
                  </a:cubicBezTo>
                  <a:cubicBezTo>
                    <a:pt x="2599" y="123"/>
                    <a:pt x="2599" y="125"/>
                    <a:pt x="2598" y="127"/>
                  </a:cubicBezTo>
                  <a:cubicBezTo>
                    <a:pt x="2598" y="35"/>
                    <a:pt x="2596" y="34"/>
                    <a:pt x="2596" y="34"/>
                  </a:cubicBezTo>
                  <a:cubicBezTo>
                    <a:pt x="2598" y="49"/>
                    <a:pt x="2594" y="77"/>
                    <a:pt x="2590" y="102"/>
                  </a:cubicBezTo>
                  <a:cubicBezTo>
                    <a:pt x="2589" y="94"/>
                    <a:pt x="2587" y="85"/>
                    <a:pt x="2583" y="76"/>
                  </a:cubicBezTo>
                  <a:cubicBezTo>
                    <a:pt x="2584" y="70"/>
                    <a:pt x="2584" y="66"/>
                    <a:pt x="2584" y="66"/>
                  </a:cubicBezTo>
                  <a:cubicBezTo>
                    <a:pt x="2584" y="68"/>
                    <a:pt x="2583" y="71"/>
                    <a:pt x="2582" y="74"/>
                  </a:cubicBezTo>
                  <a:cubicBezTo>
                    <a:pt x="2582" y="73"/>
                    <a:pt x="2581" y="72"/>
                    <a:pt x="2580" y="71"/>
                  </a:cubicBezTo>
                  <a:cubicBezTo>
                    <a:pt x="2581" y="73"/>
                    <a:pt x="2581" y="74"/>
                    <a:pt x="2582" y="76"/>
                  </a:cubicBezTo>
                  <a:cubicBezTo>
                    <a:pt x="2580" y="83"/>
                    <a:pt x="2578" y="93"/>
                    <a:pt x="2577" y="103"/>
                  </a:cubicBezTo>
                  <a:cubicBezTo>
                    <a:pt x="2576" y="98"/>
                    <a:pt x="2575" y="94"/>
                    <a:pt x="2574" y="89"/>
                  </a:cubicBezTo>
                  <a:cubicBezTo>
                    <a:pt x="2575" y="96"/>
                    <a:pt x="2573" y="104"/>
                    <a:pt x="2571" y="112"/>
                  </a:cubicBezTo>
                  <a:cubicBezTo>
                    <a:pt x="2571" y="92"/>
                    <a:pt x="2570" y="70"/>
                    <a:pt x="2569" y="62"/>
                  </a:cubicBezTo>
                  <a:cubicBezTo>
                    <a:pt x="2569" y="67"/>
                    <a:pt x="2569" y="74"/>
                    <a:pt x="2569" y="82"/>
                  </a:cubicBezTo>
                  <a:cubicBezTo>
                    <a:pt x="2567" y="87"/>
                    <a:pt x="2564" y="94"/>
                    <a:pt x="2562" y="101"/>
                  </a:cubicBezTo>
                  <a:cubicBezTo>
                    <a:pt x="2562" y="91"/>
                    <a:pt x="2562" y="82"/>
                    <a:pt x="2562" y="75"/>
                  </a:cubicBezTo>
                  <a:cubicBezTo>
                    <a:pt x="2561" y="86"/>
                    <a:pt x="2559" y="102"/>
                    <a:pt x="2557" y="116"/>
                  </a:cubicBezTo>
                  <a:cubicBezTo>
                    <a:pt x="2555" y="123"/>
                    <a:pt x="2553" y="130"/>
                    <a:pt x="2551" y="136"/>
                  </a:cubicBezTo>
                  <a:cubicBezTo>
                    <a:pt x="2551" y="118"/>
                    <a:pt x="2554" y="89"/>
                    <a:pt x="2554" y="89"/>
                  </a:cubicBezTo>
                  <a:cubicBezTo>
                    <a:pt x="2553" y="93"/>
                    <a:pt x="2552" y="99"/>
                    <a:pt x="2549" y="106"/>
                  </a:cubicBezTo>
                  <a:cubicBezTo>
                    <a:pt x="2549" y="104"/>
                    <a:pt x="2549" y="101"/>
                    <a:pt x="2548" y="99"/>
                  </a:cubicBezTo>
                  <a:cubicBezTo>
                    <a:pt x="2548" y="96"/>
                    <a:pt x="2548" y="96"/>
                    <a:pt x="2548" y="96"/>
                  </a:cubicBezTo>
                  <a:cubicBezTo>
                    <a:pt x="2547" y="95"/>
                    <a:pt x="2547" y="95"/>
                    <a:pt x="2547" y="95"/>
                  </a:cubicBezTo>
                  <a:cubicBezTo>
                    <a:pt x="2547" y="104"/>
                    <a:pt x="2545" y="113"/>
                    <a:pt x="2543" y="122"/>
                  </a:cubicBezTo>
                  <a:cubicBezTo>
                    <a:pt x="2541" y="127"/>
                    <a:pt x="2540" y="131"/>
                    <a:pt x="2538" y="134"/>
                  </a:cubicBezTo>
                  <a:cubicBezTo>
                    <a:pt x="2538" y="130"/>
                    <a:pt x="2538" y="126"/>
                    <a:pt x="2538" y="122"/>
                  </a:cubicBezTo>
                  <a:cubicBezTo>
                    <a:pt x="2542" y="102"/>
                    <a:pt x="2549" y="76"/>
                    <a:pt x="2549" y="76"/>
                  </a:cubicBezTo>
                  <a:cubicBezTo>
                    <a:pt x="2544" y="82"/>
                    <a:pt x="2539" y="94"/>
                    <a:pt x="2535" y="105"/>
                  </a:cubicBezTo>
                  <a:cubicBezTo>
                    <a:pt x="2535" y="102"/>
                    <a:pt x="2534" y="98"/>
                    <a:pt x="2532" y="95"/>
                  </a:cubicBezTo>
                  <a:cubicBezTo>
                    <a:pt x="2533" y="74"/>
                    <a:pt x="2529" y="62"/>
                    <a:pt x="2529" y="62"/>
                  </a:cubicBezTo>
                  <a:cubicBezTo>
                    <a:pt x="2531" y="69"/>
                    <a:pt x="2531" y="78"/>
                    <a:pt x="2530" y="88"/>
                  </a:cubicBezTo>
                  <a:cubicBezTo>
                    <a:pt x="2527" y="83"/>
                    <a:pt x="2524" y="78"/>
                    <a:pt x="2520" y="73"/>
                  </a:cubicBezTo>
                  <a:cubicBezTo>
                    <a:pt x="2524" y="80"/>
                    <a:pt x="2527" y="92"/>
                    <a:pt x="2528" y="102"/>
                  </a:cubicBezTo>
                  <a:cubicBezTo>
                    <a:pt x="2527" y="108"/>
                    <a:pt x="2526" y="115"/>
                    <a:pt x="2525" y="120"/>
                  </a:cubicBezTo>
                  <a:cubicBezTo>
                    <a:pt x="2524" y="113"/>
                    <a:pt x="2523" y="106"/>
                    <a:pt x="2521" y="100"/>
                  </a:cubicBezTo>
                  <a:cubicBezTo>
                    <a:pt x="2522" y="89"/>
                    <a:pt x="2522" y="82"/>
                    <a:pt x="2522" y="82"/>
                  </a:cubicBezTo>
                  <a:cubicBezTo>
                    <a:pt x="2521" y="98"/>
                    <a:pt x="2521" y="98"/>
                    <a:pt x="2521" y="98"/>
                  </a:cubicBezTo>
                  <a:cubicBezTo>
                    <a:pt x="2520" y="94"/>
                    <a:pt x="2519" y="91"/>
                    <a:pt x="2517" y="88"/>
                  </a:cubicBezTo>
                  <a:cubicBezTo>
                    <a:pt x="2517" y="73"/>
                    <a:pt x="2516" y="60"/>
                    <a:pt x="2516" y="60"/>
                  </a:cubicBezTo>
                  <a:cubicBezTo>
                    <a:pt x="2516" y="72"/>
                    <a:pt x="2513" y="90"/>
                    <a:pt x="2513" y="90"/>
                  </a:cubicBezTo>
                  <a:cubicBezTo>
                    <a:pt x="2511" y="84"/>
                    <a:pt x="2511" y="64"/>
                    <a:pt x="2511" y="64"/>
                  </a:cubicBezTo>
                  <a:cubicBezTo>
                    <a:pt x="2511" y="68"/>
                    <a:pt x="2510" y="83"/>
                    <a:pt x="2508" y="98"/>
                  </a:cubicBezTo>
                  <a:cubicBezTo>
                    <a:pt x="2508" y="96"/>
                    <a:pt x="2507" y="95"/>
                    <a:pt x="2507" y="93"/>
                  </a:cubicBezTo>
                  <a:cubicBezTo>
                    <a:pt x="2506" y="88"/>
                    <a:pt x="2504" y="82"/>
                    <a:pt x="2502" y="76"/>
                  </a:cubicBezTo>
                  <a:cubicBezTo>
                    <a:pt x="2502" y="57"/>
                    <a:pt x="2502" y="42"/>
                    <a:pt x="2502" y="42"/>
                  </a:cubicBezTo>
                  <a:cubicBezTo>
                    <a:pt x="2502" y="49"/>
                    <a:pt x="2502" y="59"/>
                    <a:pt x="2501" y="70"/>
                  </a:cubicBezTo>
                  <a:cubicBezTo>
                    <a:pt x="2498" y="64"/>
                    <a:pt x="2496" y="57"/>
                    <a:pt x="2493" y="51"/>
                  </a:cubicBezTo>
                  <a:cubicBezTo>
                    <a:pt x="2492" y="52"/>
                    <a:pt x="2492" y="54"/>
                    <a:pt x="2492" y="55"/>
                  </a:cubicBezTo>
                  <a:cubicBezTo>
                    <a:pt x="2496" y="65"/>
                    <a:pt x="2498" y="74"/>
                    <a:pt x="2499" y="82"/>
                  </a:cubicBezTo>
                  <a:cubicBezTo>
                    <a:pt x="2499" y="88"/>
                    <a:pt x="2498" y="94"/>
                    <a:pt x="2497" y="100"/>
                  </a:cubicBezTo>
                  <a:cubicBezTo>
                    <a:pt x="2496" y="96"/>
                    <a:pt x="2495" y="92"/>
                    <a:pt x="2494" y="88"/>
                  </a:cubicBezTo>
                  <a:cubicBezTo>
                    <a:pt x="2495" y="78"/>
                    <a:pt x="2496" y="70"/>
                    <a:pt x="2496" y="70"/>
                  </a:cubicBezTo>
                  <a:cubicBezTo>
                    <a:pt x="2495" y="72"/>
                    <a:pt x="2494" y="78"/>
                    <a:pt x="2493" y="85"/>
                  </a:cubicBezTo>
                  <a:cubicBezTo>
                    <a:pt x="2491" y="82"/>
                    <a:pt x="2489" y="79"/>
                    <a:pt x="2487" y="76"/>
                  </a:cubicBezTo>
                  <a:cubicBezTo>
                    <a:pt x="2486" y="71"/>
                    <a:pt x="2486" y="66"/>
                    <a:pt x="2486" y="61"/>
                  </a:cubicBezTo>
                  <a:cubicBezTo>
                    <a:pt x="2485" y="73"/>
                    <a:pt x="2483" y="87"/>
                    <a:pt x="2481" y="101"/>
                  </a:cubicBezTo>
                  <a:cubicBezTo>
                    <a:pt x="2479" y="95"/>
                    <a:pt x="2477" y="90"/>
                    <a:pt x="2475" y="86"/>
                  </a:cubicBezTo>
                  <a:cubicBezTo>
                    <a:pt x="2476" y="73"/>
                    <a:pt x="2476" y="64"/>
                    <a:pt x="2476" y="64"/>
                  </a:cubicBezTo>
                  <a:cubicBezTo>
                    <a:pt x="2476" y="71"/>
                    <a:pt x="2474" y="82"/>
                    <a:pt x="2472" y="95"/>
                  </a:cubicBezTo>
                  <a:cubicBezTo>
                    <a:pt x="2470" y="87"/>
                    <a:pt x="2468" y="79"/>
                    <a:pt x="2464" y="71"/>
                  </a:cubicBezTo>
                  <a:cubicBezTo>
                    <a:pt x="2466" y="49"/>
                    <a:pt x="2467" y="30"/>
                    <a:pt x="2467" y="30"/>
                  </a:cubicBezTo>
                  <a:cubicBezTo>
                    <a:pt x="2465" y="35"/>
                    <a:pt x="2463" y="49"/>
                    <a:pt x="2461" y="65"/>
                  </a:cubicBezTo>
                  <a:cubicBezTo>
                    <a:pt x="2460" y="62"/>
                    <a:pt x="2458" y="59"/>
                    <a:pt x="2456" y="56"/>
                  </a:cubicBezTo>
                  <a:cubicBezTo>
                    <a:pt x="2456" y="63"/>
                    <a:pt x="2458" y="70"/>
                    <a:pt x="2460" y="78"/>
                  </a:cubicBezTo>
                  <a:cubicBezTo>
                    <a:pt x="2459" y="87"/>
                    <a:pt x="2458" y="97"/>
                    <a:pt x="2457" y="106"/>
                  </a:cubicBezTo>
                  <a:cubicBezTo>
                    <a:pt x="2457" y="105"/>
                    <a:pt x="2457" y="104"/>
                    <a:pt x="2456" y="103"/>
                  </a:cubicBezTo>
                  <a:cubicBezTo>
                    <a:pt x="2457" y="104"/>
                    <a:pt x="2457" y="106"/>
                    <a:pt x="2457" y="109"/>
                  </a:cubicBezTo>
                  <a:cubicBezTo>
                    <a:pt x="2456" y="120"/>
                    <a:pt x="2455" y="131"/>
                    <a:pt x="2455" y="138"/>
                  </a:cubicBezTo>
                  <a:cubicBezTo>
                    <a:pt x="2455" y="137"/>
                    <a:pt x="2454" y="135"/>
                    <a:pt x="2454" y="134"/>
                  </a:cubicBezTo>
                  <a:cubicBezTo>
                    <a:pt x="2453" y="99"/>
                    <a:pt x="2448" y="41"/>
                    <a:pt x="2448" y="41"/>
                  </a:cubicBezTo>
                  <a:cubicBezTo>
                    <a:pt x="2449" y="58"/>
                    <a:pt x="2448" y="86"/>
                    <a:pt x="2446" y="108"/>
                  </a:cubicBezTo>
                  <a:cubicBezTo>
                    <a:pt x="2444" y="105"/>
                    <a:pt x="2443" y="102"/>
                    <a:pt x="2441" y="99"/>
                  </a:cubicBezTo>
                  <a:cubicBezTo>
                    <a:pt x="2441" y="86"/>
                    <a:pt x="2441" y="73"/>
                    <a:pt x="2441" y="67"/>
                  </a:cubicBezTo>
                  <a:cubicBezTo>
                    <a:pt x="2441" y="75"/>
                    <a:pt x="2440" y="85"/>
                    <a:pt x="2439" y="94"/>
                  </a:cubicBezTo>
                  <a:cubicBezTo>
                    <a:pt x="2438" y="92"/>
                    <a:pt x="2437" y="91"/>
                    <a:pt x="2436" y="89"/>
                  </a:cubicBezTo>
                  <a:cubicBezTo>
                    <a:pt x="2437" y="91"/>
                    <a:pt x="2438" y="94"/>
                    <a:pt x="2438" y="97"/>
                  </a:cubicBezTo>
                  <a:cubicBezTo>
                    <a:pt x="2437" y="104"/>
                    <a:pt x="2436" y="110"/>
                    <a:pt x="2434" y="116"/>
                  </a:cubicBezTo>
                  <a:cubicBezTo>
                    <a:pt x="2433" y="110"/>
                    <a:pt x="2432" y="105"/>
                    <a:pt x="2430" y="101"/>
                  </a:cubicBezTo>
                  <a:cubicBezTo>
                    <a:pt x="2431" y="91"/>
                    <a:pt x="2432" y="83"/>
                    <a:pt x="2432" y="83"/>
                  </a:cubicBezTo>
                  <a:cubicBezTo>
                    <a:pt x="2432" y="86"/>
                    <a:pt x="2431" y="92"/>
                    <a:pt x="2429" y="98"/>
                  </a:cubicBezTo>
                  <a:cubicBezTo>
                    <a:pt x="2428" y="94"/>
                    <a:pt x="2427" y="91"/>
                    <a:pt x="2426" y="89"/>
                  </a:cubicBezTo>
                  <a:cubicBezTo>
                    <a:pt x="2427" y="74"/>
                    <a:pt x="2428" y="62"/>
                    <a:pt x="2428" y="62"/>
                  </a:cubicBezTo>
                  <a:cubicBezTo>
                    <a:pt x="2427" y="65"/>
                    <a:pt x="2426" y="75"/>
                    <a:pt x="2424" y="87"/>
                  </a:cubicBezTo>
                  <a:cubicBezTo>
                    <a:pt x="2422" y="83"/>
                    <a:pt x="2420" y="81"/>
                    <a:pt x="2417" y="78"/>
                  </a:cubicBezTo>
                  <a:cubicBezTo>
                    <a:pt x="2420" y="81"/>
                    <a:pt x="2422" y="84"/>
                    <a:pt x="2424" y="89"/>
                  </a:cubicBezTo>
                  <a:cubicBezTo>
                    <a:pt x="2423" y="96"/>
                    <a:pt x="2422" y="105"/>
                    <a:pt x="2421" y="113"/>
                  </a:cubicBezTo>
                  <a:cubicBezTo>
                    <a:pt x="2420" y="108"/>
                    <a:pt x="2419" y="104"/>
                    <a:pt x="2417" y="100"/>
                  </a:cubicBezTo>
                  <a:cubicBezTo>
                    <a:pt x="2416" y="86"/>
                    <a:pt x="2414" y="74"/>
                    <a:pt x="2413" y="68"/>
                  </a:cubicBezTo>
                  <a:cubicBezTo>
                    <a:pt x="2413" y="71"/>
                    <a:pt x="2414" y="76"/>
                    <a:pt x="2413" y="86"/>
                  </a:cubicBezTo>
                  <a:cubicBezTo>
                    <a:pt x="2413" y="87"/>
                    <a:pt x="2413" y="88"/>
                    <a:pt x="2413" y="90"/>
                  </a:cubicBezTo>
                  <a:cubicBezTo>
                    <a:pt x="2412" y="87"/>
                    <a:pt x="2410" y="84"/>
                    <a:pt x="2408" y="81"/>
                  </a:cubicBezTo>
                  <a:cubicBezTo>
                    <a:pt x="2411" y="85"/>
                    <a:pt x="2412" y="91"/>
                    <a:pt x="2412" y="96"/>
                  </a:cubicBezTo>
                  <a:cubicBezTo>
                    <a:pt x="2411" y="105"/>
                    <a:pt x="2409" y="115"/>
                    <a:pt x="2407" y="124"/>
                  </a:cubicBezTo>
                  <a:cubicBezTo>
                    <a:pt x="2407" y="113"/>
                    <a:pt x="2406" y="102"/>
                    <a:pt x="2404" y="91"/>
                  </a:cubicBezTo>
                  <a:cubicBezTo>
                    <a:pt x="2404" y="77"/>
                    <a:pt x="2404" y="77"/>
                    <a:pt x="2404" y="77"/>
                  </a:cubicBezTo>
                  <a:cubicBezTo>
                    <a:pt x="2407" y="35"/>
                    <a:pt x="2400" y="19"/>
                    <a:pt x="2400" y="19"/>
                  </a:cubicBezTo>
                  <a:cubicBezTo>
                    <a:pt x="2400" y="19"/>
                    <a:pt x="2403" y="31"/>
                    <a:pt x="2402" y="54"/>
                  </a:cubicBezTo>
                  <a:cubicBezTo>
                    <a:pt x="2401" y="59"/>
                    <a:pt x="2401" y="68"/>
                    <a:pt x="2400" y="78"/>
                  </a:cubicBezTo>
                  <a:cubicBezTo>
                    <a:pt x="2397" y="72"/>
                    <a:pt x="2394" y="66"/>
                    <a:pt x="2390" y="60"/>
                  </a:cubicBezTo>
                  <a:cubicBezTo>
                    <a:pt x="2390" y="61"/>
                    <a:pt x="2390" y="61"/>
                    <a:pt x="2390" y="61"/>
                  </a:cubicBezTo>
                  <a:cubicBezTo>
                    <a:pt x="2390" y="62"/>
                    <a:pt x="2390" y="63"/>
                    <a:pt x="2390" y="64"/>
                  </a:cubicBezTo>
                  <a:cubicBezTo>
                    <a:pt x="2388" y="44"/>
                    <a:pt x="2381" y="40"/>
                    <a:pt x="2381" y="40"/>
                  </a:cubicBezTo>
                  <a:cubicBezTo>
                    <a:pt x="2381" y="40"/>
                    <a:pt x="2387" y="44"/>
                    <a:pt x="2387" y="70"/>
                  </a:cubicBezTo>
                  <a:cubicBezTo>
                    <a:pt x="2387" y="76"/>
                    <a:pt x="2386" y="85"/>
                    <a:pt x="2384" y="94"/>
                  </a:cubicBezTo>
                  <a:cubicBezTo>
                    <a:pt x="2382" y="90"/>
                    <a:pt x="2379" y="86"/>
                    <a:pt x="2376" y="83"/>
                  </a:cubicBezTo>
                  <a:cubicBezTo>
                    <a:pt x="2379" y="87"/>
                    <a:pt x="2382" y="92"/>
                    <a:pt x="2384" y="97"/>
                  </a:cubicBezTo>
                  <a:cubicBezTo>
                    <a:pt x="2383" y="100"/>
                    <a:pt x="2383" y="103"/>
                    <a:pt x="2382" y="106"/>
                  </a:cubicBezTo>
                  <a:cubicBezTo>
                    <a:pt x="2381" y="104"/>
                    <a:pt x="2381" y="102"/>
                    <a:pt x="2380" y="100"/>
                  </a:cubicBezTo>
                  <a:cubicBezTo>
                    <a:pt x="2381" y="102"/>
                    <a:pt x="2381" y="105"/>
                    <a:pt x="2382" y="108"/>
                  </a:cubicBezTo>
                  <a:cubicBezTo>
                    <a:pt x="2381" y="111"/>
                    <a:pt x="2380" y="114"/>
                    <a:pt x="2379" y="117"/>
                  </a:cubicBezTo>
                  <a:cubicBezTo>
                    <a:pt x="2378" y="113"/>
                    <a:pt x="2376" y="108"/>
                    <a:pt x="2374" y="104"/>
                  </a:cubicBezTo>
                  <a:cubicBezTo>
                    <a:pt x="2375" y="87"/>
                    <a:pt x="2376" y="71"/>
                    <a:pt x="2376" y="71"/>
                  </a:cubicBezTo>
                  <a:cubicBezTo>
                    <a:pt x="2375" y="73"/>
                    <a:pt x="2373" y="84"/>
                    <a:pt x="2371" y="97"/>
                  </a:cubicBezTo>
                  <a:cubicBezTo>
                    <a:pt x="2370" y="95"/>
                    <a:pt x="2369" y="93"/>
                    <a:pt x="2368" y="92"/>
                  </a:cubicBezTo>
                  <a:cubicBezTo>
                    <a:pt x="2369" y="81"/>
                    <a:pt x="2370" y="72"/>
                    <a:pt x="2371" y="66"/>
                  </a:cubicBezTo>
                  <a:cubicBezTo>
                    <a:pt x="2370" y="73"/>
                    <a:pt x="2369" y="81"/>
                    <a:pt x="2367" y="90"/>
                  </a:cubicBezTo>
                  <a:cubicBezTo>
                    <a:pt x="2366" y="88"/>
                    <a:pt x="2364" y="86"/>
                    <a:pt x="2362" y="83"/>
                  </a:cubicBezTo>
                  <a:cubicBezTo>
                    <a:pt x="2366" y="26"/>
                    <a:pt x="2364" y="12"/>
                    <a:pt x="2364" y="12"/>
                  </a:cubicBezTo>
                  <a:cubicBezTo>
                    <a:pt x="2364" y="12"/>
                    <a:pt x="2364" y="18"/>
                    <a:pt x="2361" y="56"/>
                  </a:cubicBezTo>
                  <a:cubicBezTo>
                    <a:pt x="2360" y="64"/>
                    <a:pt x="2359" y="71"/>
                    <a:pt x="2358" y="78"/>
                  </a:cubicBezTo>
                  <a:cubicBezTo>
                    <a:pt x="2356" y="76"/>
                    <a:pt x="2353" y="73"/>
                    <a:pt x="2351" y="71"/>
                  </a:cubicBezTo>
                  <a:cubicBezTo>
                    <a:pt x="2352" y="48"/>
                    <a:pt x="2353" y="31"/>
                    <a:pt x="2353" y="31"/>
                  </a:cubicBezTo>
                  <a:cubicBezTo>
                    <a:pt x="2351" y="37"/>
                    <a:pt x="2349" y="52"/>
                    <a:pt x="2348" y="68"/>
                  </a:cubicBezTo>
                  <a:cubicBezTo>
                    <a:pt x="2346" y="66"/>
                    <a:pt x="2344" y="65"/>
                    <a:pt x="2342" y="63"/>
                  </a:cubicBezTo>
                  <a:cubicBezTo>
                    <a:pt x="2344" y="65"/>
                    <a:pt x="2346" y="67"/>
                    <a:pt x="2348" y="69"/>
                  </a:cubicBezTo>
                  <a:cubicBezTo>
                    <a:pt x="2347" y="82"/>
                    <a:pt x="2347" y="96"/>
                    <a:pt x="2346" y="109"/>
                  </a:cubicBezTo>
                  <a:cubicBezTo>
                    <a:pt x="2345" y="104"/>
                    <a:pt x="2343" y="99"/>
                    <a:pt x="2342" y="96"/>
                  </a:cubicBezTo>
                  <a:cubicBezTo>
                    <a:pt x="2343" y="104"/>
                    <a:pt x="2344" y="112"/>
                    <a:pt x="2346" y="120"/>
                  </a:cubicBezTo>
                  <a:cubicBezTo>
                    <a:pt x="2346" y="123"/>
                    <a:pt x="2346" y="126"/>
                    <a:pt x="2346" y="128"/>
                  </a:cubicBezTo>
                  <a:cubicBezTo>
                    <a:pt x="2345" y="125"/>
                    <a:pt x="2343" y="122"/>
                    <a:pt x="2342" y="118"/>
                  </a:cubicBezTo>
                  <a:cubicBezTo>
                    <a:pt x="2337" y="80"/>
                    <a:pt x="2330" y="28"/>
                    <a:pt x="2330" y="28"/>
                  </a:cubicBezTo>
                  <a:cubicBezTo>
                    <a:pt x="2330" y="39"/>
                    <a:pt x="2328" y="72"/>
                    <a:pt x="2326" y="100"/>
                  </a:cubicBezTo>
                  <a:cubicBezTo>
                    <a:pt x="2326" y="98"/>
                    <a:pt x="2325" y="97"/>
                    <a:pt x="2324" y="96"/>
                  </a:cubicBezTo>
                  <a:cubicBezTo>
                    <a:pt x="2325" y="97"/>
                    <a:pt x="2326" y="99"/>
                    <a:pt x="2326" y="100"/>
                  </a:cubicBezTo>
                  <a:cubicBezTo>
                    <a:pt x="2326" y="110"/>
                    <a:pt x="2325" y="120"/>
                    <a:pt x="2324" y="128"/>
                  </a:cubicBezTo>
                  <a:cubicBezTo>
                    <a:pt x="2324" y="128"/>
                    <a:pt x="2324" y="127"/>
                    <a:pt x="2324" y="127"/>
                  </a:cubicBezTo>
                  <a:cubicBezTo>
                    <a:pt x="2324" y="109"/>
                    <a:pt x="2322" y="87"/>
                    <a:pt x="2321" y="71"/>
                  </a:cubicBezTo>
                  <a:cubicBezTo>
                    <a:pt x="2322" y="68"/>
                    <a:pt x="2323" y="66"/>
                    <a:pt x="2324" y="64"/>
                  </a:cubicBezTo>
                  <a:cubicBezTo>
                    <a:pt x="2323" y="65"/>
                    <a:pt x="2322" y="67"/>
                    <a:pt x="2320" y="69"/>
                  </a:cubicBezTo>
                  <a:cubicBezTo>
                    <a:pt x="2320" y="61"/>
                    <a:pt x="2319" y="55"/>
                    <a:pt x="2319" y="53"/>
                  </a:cubicBezTo>
                  <a:cubicBezTo>
                    <a:pt x="2319" y="52"/>
                    <a:pt x="2320" y="52"/>
                    <a:pt x="2320" y="51"/>
                  </a:cubicBezTo>
                  <a:cubicBezTo>
                    <a:pt x="2320" y="51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7" y="54"/>
                    <a:pt x="2315" y="56"/>
                    <a:pt x="2313" y="57"/>
                  </a:cubicBezTo>
                  <a:cubicBezTo>
                    <a:pt x="2314" y="54"/>
                    <a:pt x="2314" y="52"/>
                    <a:pt x="2314" y="50"/>
                  </a:cubicBezTo>
                  <a:cubicBezTo>
                    <a:pt x="2318" y="46"/>
                    <a:pt x="2321" y="42"/>
                    <a:pt x="2325" y="38"/>
                  </a:cubicBezTo>
                  <a:cubicBezTo>
                    <a:pt x="2321" y="41"/>
                    <a:pt x="2318" y="44"/>
                    <a:pt x="2315" y="47"/>
                  </a:cubicBezTo>
                  <a:cubicBezTo>
                    <a:pt x="2315" y="43"/>
                    <a:pt x="2316" y="40"/>
                    <a:pt x="2316" y="40"/>
                  </a:cubicBezTo>
                  <a:cubicBezTo>
                    <a:pt x="2315" y="43"/>
                    <a:pt x="2313" y="46"/>
                    <a:pt x="2312" y="50"/>
                  </a:cubicBezTo>
                  <a:cubicBezTo>
                    <a:pt x="2305" y="58"/>
                    <a:pt x="2300" y="66"/>
                    <a:pt x="2296" y="75"/>
                  </a:cubicBezTo>
                  <a:cubicBezTo>
                    <a:pt x="2295" y="70"/>
                    <a:pt x="2295" y="66"/>
                    <a:pt x="2295" y="63"/>
                  </a:cubicBezTo>
                  <a:cubicBezTo>
                    <a:pt x="2298" y="57"/>
                    <a:pt x="2301" y="50"/>
                    <a:pt x="2305" y="42"/>
                  </a:cubicBezTo>
                  <a:cubicBezTo>
                    <a:pt x="2296" y="52"/>
                    <a:pt x="2290" y="61"/>
                    <a:pt x="2286" y="71"/>
                  </a:cubicBezTo>
                  <a:cubicBezTo>
                    <a:pt x="2285" y="70"/>
                    <a:pt x="2284" y="70"/>
                    <a:pt x="2284" y="69"/>
                  </a:cubicBezTo>
                  <a:cubicBezTo>
                    <a:pt x="2284" y="68"/>
                    <a:pt x="2284" y="67"/>
                    <a:pt x="2283" y="65"/>
                  </a:cubicBezTo>
                  <a:cubicBezTo>
                    <a:pt x="2290" y="53"/>
                    <a:pt x="2298" y="41"/>
                    <a:pt x="2309" y="25"/>
                  </a:cubicBezTo>
                  <a:cubicBezTo>
                    <a:pt x="2298" y="40"/>
                    <a:pt x="2290" y="51"/>
                    <a:pt x="2283" y="63"/>
                  </a:cubicBezTo>
                  <a:cubicBezTo>
                    <a:pt x="2281" y="45"/>
                    <a:pt x="2279" y="30"/>
                    <a:pt x="2279" y="30"/>
                  </a:cubicBezTo>
                  <a:cubicBezTo>
                    <a:pt x="2280" y="35"/>
                    <a:pt x="2280" y="49"/>
                    <a:pt x="2280" y="65"/>
                  </a:cubicBezTo>
                  <a:cubicBezTo>
                    <a:pt x="2280" y="65"/>
                    <a:pt x="2279" y="65"/>
                    <a:pt x="2279" y="65"/>
                  </a:cubicBezTo>
                  <a:cubicBezTo>
                    <a:pt x="2279" y="65"/>
                    <a:pt x="2280" y="65"/>
                    <a:pt x="2280" y="65"/>
                  </a:cubicBezTo>
                  <a:cubicBezTo>
                    <a:pt x="2280" y="67"/>
                    <a:pt x="2280" y="69"/>
                    <a:pt x="2279" y="71"/>
                  </a:cubicBezTo>
                  <a:cubicBezTo>
                    <a:pt x="2278" y="74"/>
                    <a:pt x="2277" y="78"/>
                    <a:pt x="2276" y="81"/>
                  </a:cubicBezTo>
                  <a:cubicBezTo>
                    <a:pt x="2277" y="78"/>
                    <a:pt x="2278" y="76"/>
                    <a:pt x="2279" y="73"/>
                  </a:cubicBezTo>
                  <a:cubicBezTo>
                    <a:pt x="2279" y="79"/>
                    <a:pt x="2279" y="85"/>
                    <a:pt x="2279" y="91"/>
                  </a:cubicBezTo>
                  <a:cubicBezTo>
                    <a:pt x="2278" y="93"/>
                    <a:pt x="2278" y="95"/>
                    <a:pt x="2278" y="97"/>
                  </a:cubicBezTo>
                  <a:cubicBezTo>
                    <a:pt x="2277" y="96"/>
                    <a:pt x="2276" y="95"/>
                    <a:pt x="2276" y="94"/>
                  </a:cubicBezTo>
                  <a:cubicBezTo>
                    <a:pt x="2275" y="91"/>
                    <a:pt x="2275" y="88"/>
                    <a:pt x="2275" y="85"/>
                  </a:cubicBezTo>
                  <a:cubicBezTo>
                    <a:pt x="2275" y="83"/>
                    <a:pt x="2276" y="82"/>
                    <a:pt x="2276" y="81"/>
                  </a:cubicBezTo>
                  <a:cubicBezTo>
                    <a:pt x="2276" y="82"/>
                    <a:pt x="2275" y="83"/>
                    <a:pt x="2275" y="84"/>
                  </a:cubicBezTo>
                  <a:cubicBezTo>
                    <a:pt x="2274" y="72"/>
                    <a:pt x="2273" y="62"/>
                    <a:pt x="2273" y="55"/>
                  </a:cubicBezTo>
                  <a:cubicBezTo>
                    <a:pt x="2274" y="54"/>
                    <a:pt x="2275" y="53"/>
                    <a:pt x="2277" y="52"/>
                  </a:cubicBezTo>
                  <a:cubicBezTo>
                    <a:pt x="2275" y="53"/>
                    <a:pt x="2274" y="54"/>
                    <a:pt x="2273" y="54"/>
                  </a:cubicBezTo>
                  <a:cubicBezTo>
                    <a:pt x="2273" y="49"/>
                    <a:pt x="2272" y="46"/>
                    <a:pt x="2272" y="46"/>
                  </a:cubicBezTo>
                  <a:cubicBezTo>
                    <a:pt x="2272" y="48"/>
                    <a:pt x="2272" y="51"/>
                    <a:pt x="2272" y="55"/>
                  </a:cubicBezTo>
                  <a:cubicBezTo>
                    <a:pt x="2269" y="57"/>
                    <a:pt x="2266" y="59"/>
                    <a:pt x="2263" y="62"/>
                  </a:cubicBezTo>
                  <a:cubicBezTo>
                    <a:pt x="2263" y="58"/>
                    <a:pt x="2263" y="54"/>
                    <a:pt x="2263" y="50"/>
                  </a:cubicBezTo>
                  <a:cubicBezTo>
                    <a:pt x="2267" y="45"/>
                    <a:pt x="2272" y="40"/>
                    <a:pt x="2277" y="34"/>
                  </a:cubicBezTo>
                  <a:cubicBezTo>
                    <a:pt x="2272" y="39"/>
                    <a:pt x="2267" y="44"/>
                    <a:pt x="2263" y="48"/>
                  </a:cubicBezTo>
                  <a:cubicBezTo>
                    <a:pt x="2265" y="21"/>
                    <a:pt x="2266" y="0"/>
                    <a:pt x="2266" y="0"/>
                  </a:cubicBezTo>
                  <a:cubicBezTo>
                    <a:pt x="2262" y="10"/>
                    <a:pt x="2260" y="35"/>
                    <a:pt x="2259" y="53"/>
                  </a:cubicBezTo>
                  <a:cubicBezTo>
                    <a:pt x="2258" y="54"/>
                    <a:pt x="2257" y="55"/>
                    <a:pt x="2257" y="56"/>
                  </a:cubicBezTo>
                  <a:cubicBezTo>
                    <a:pt x="2255" y="44"/>
                    <a:pt x="2252" y="33"/>
                    <a:pt x="2252" y="33"/>
                  </a:cubicBezTo>
                  <a:cubicBezTo>
                    <a:pt x="2253" y="39"/>
                    <a:pt x="2253" y="49"/>
                    <a:pt x="2252" y="62"/>
                  </a:cubicBezTo>
                  <a:cubicBezTo>
                    <a:pt x="2250" y="63"/>
                    <a:pt x="2249" y="65"/>
                    <a:pt x="2248" y="67"/>
                  </a:cubicBezTo>
                  <a:cubicBezTo>
                    <a:pt x="2247" y="65"/>
                    <a:pt x="2246" y="63"/>
                    <a:pt x="2245" y="62"/>
                  </a:cubicBezTo>
                  <a:cubicBezTo>
                    <a:pt x="2245" y="63"/>
                    <a:pt x="2246" y="65"/>
                    <a:pt x="2247" y="68"/>
                  </a:cubicBezTo>
                  <a:cubicBezTo>
                    <a:pt x="2244" y="72"/>
                    <a:pt x="2242" y="75"/>
                    <a:pt x="2241" y="78"/>
                  </a:cubicBezTo>
                  <a:cubicBezTo>
                    <a:pt x="2240" y="61"/>
                    <a:pt x="2240" y="48"/>
                    <a:pt x="2240" y="48"/>
                  </a:cubicBezTo>
                  <a:cubicBezTo>
                    <a:pt x="2239" y="52"/>
                    <a:pt x="2238" y="65"/>
                    <a:pt x="2236" y="80"/>
                  </a:cubicBezTo>
                  <a:cubicBezTo>
                    <a:pt x="2235" y="82"/>
                    <a:pt x="2235" y="85"/>
                    <a:pt x="2234" y="87"/>
                  </a:cubicBezTo>
                  <a:cubicBezTo>
                    <a:pt x="2233" y="86"/>
                    <a:pt x="2233" y="86"/>
                    <a:pt x="2232" y="85"/>
                  </a:cubicBezTo>
                  <a:cubicBezTo>
                    <a:pt x="2235" y="48"/>
                    <a:pt x="2238" y="9"/>
                    <a:pt x="2238" y="9"/>
                  </a:cubicBezTo>
                  <a:cubicBezTo>
                    <a:pt x="2234" y="20"/>
                    <a:pt x="2230" y="57"/>
                    <a:pt x="2226" y="89"/>
                  </a:cubicBezTo>
                  <a:cubicBezTo>
                    <a:pt x="2225" y="91"/>
                    <a:pt x="2224" y="92"/>
                    <a:pt x="2224" y="93"/>
                  </a:cubicBezTo>
                  <a:cubicBezTo>
                    <a:pt x="2223" y="92"/>
                    <a:pt x="2222" y="90"/>
                    <a:pt x="2221" y="89"/>
                  </a:cubicBezTo>
                  <a:cubicBezTo>
                    <a:pt x="2224" y="72"/>
                    <a:pt x="2227" y="55"/>
                    <a:pt x="2227" y="37"/>
                  </a:cubicBezTo>
                  <a:cubicBezTo>
                    <a:pt x="2227" y="34"/>
                    <a:pt x="2227" y="30"/>
                    <a:pt x="2227" y="26"/>
                  </a:cubicBezTo>
                  <a:cubicBezTo>
                    <a:pt x="2220" y="45"/>
                    <a:pt x="2219" y="66"/>
                    <a:pt x="2215" y="86"/>
                  </a:cubicBezTo>
                  <a:cubicBezTo>
                    <a:pt x="2214" y="85"/>
                    <a:pt x="2214" y="84"/>
                    <a:pt x="2214" y="84"/>
                  </a:cubicBezTo>
                  <a:cubicBezTo>
                    <a:pt x="2214" y="84"/>
                    <a:pt x="2214" y="85"/>
                    <a:pt x="2215" y="86"/>
                  </a:cubicBezTo>
                  <a:cubicBezTo>
                    <a:pt x="2214" y="88"/>
                    <a:pt x="2214" y="90"/>
                    <a:pt x="2214" y="92"/>
                  </a:cubicBezTo>
                  <a:cubicBezTo>
                    <a:pt x="2213" y="94"/>
                    <a:pt x="2213" y="96"/>
                    <a:pt x="2212" y="98"/>
                  </a:cubicBezTo>
                  <a:cubicBezTo>
                    <a:pt x="2212" y="97"/>
                    <a:pt x="2211" y="96"/>
                    <a:pt x="2210" y="95"/>
                  </a:cubicBezTo>
                  <a:cubicBezTo>
                    <a:pt x="2210" y="86"/>
                    <a:pt x="2209" y="78"/>
                    <a:pt x="2208" y="72"/>
                  </a:cubicBezTo>
                  <a:cubicBezTo>
                    <a:pt x="2211" y="67"/>
                    <a:pt x="2215" y="63"/>
                    <a:pt x="2219" y="59"/>
                  </a:cubicBezTo>
                  <a:cubicBezTo>
                    <a:pt x="2215" y="62"/>
                    <a:pt x="2211" y="66"/>
                    <a:pt x="2208" y="70"/>
                  </a:cubicBezTo>
                  <a:cubicBezTo>
                    <a:pt x="2207" y="64"/>
                    <a:pt x="2207" y="60"/>
                    <a:pt x="2206" y="57"/>
                  </a:cubicBezTo>
                  <a:cubicBezTo>
                    <a:pt x="2207" y="54"/>
                    <a:pt x="2209" y="52"/>
                    <a:pt x="2210" y="50"/>
                  </a:cubicBezTo>
                  <a:cubicBezTo>
                    <a:pt x="2209" y="51"/>
                    <a:pt x="2207" y="53"/>
                    <a:pt x="2206" y="54"/>
                  </a:cubicBezTo>
                  <a:cubicBezTo>
                    <a:pt x="2206" y="53"/>
                    <a:pt x="2206" y="52"/>
                    <a:pt x="2206" y="52"/>
                  </a:cubicBezTo>
                  <a:cubicBezTo>
                    <a:pt x="2206" y="53"/>
                    <a:pt x="2206" y="54"/>
                    <a:pt x="2206" y="54"/>
                  </a:cubicBezTo>
                  <a:cubicBezTo>
                    <a:pt x="2204" y="56"/>
                    <a:pt x="2202" y="58"/>
                    <a:pt x="2200" y="60"/>
                  </a:cubicBezTo>
                  <a:cubicBezTo>
                    <a:pt x="2199" y="54"/>
                    <a:pt x="2198" y="48"/>
                    <a:pt x="2197" y="44"/>
                  </a:cubicBezTo>
                  <a:cubicBezTo>
                    <a:pt x="2198" y="49"/>
                    <a:pt x="2197" y="56"/>
                    <a:pt x="2196" y="64"/>
                  </a:cubicBezTo>
                  <a:cubicBezTo>
                    <a:pt x="2195" y="66"/>
                    <a:pt x="2194" y="68"/>
                    <a:pt x="2193" y="69"/>
                  </a:cubicBezTo>
                  <a:cubicBezTo>
                    <a:pt x="2191" y="67"/>
                    <a:pt x="2190" y="66"/>
                    <a:pt x="2188" y="64"/>
                  </a:cubicBezTo>
                  <a:cubicBezTo>
                    <a:pt x="2190" y="66"/>
                    <a:pt x="2191" y="67"/>
                    <a:pt x="2193" y="69"/>
                  </a:cubicBezTo>
                  <a:cubicBezTo>
                    <a:pt x="2191" y="71"/>
                    <a:pt x="2190" y="73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8" y="76"/>
                    <a:pt x="2187" y="77"/>
                    <a:pt x="2186" y="79"/>
                  </a:cubicBezTo>
                  <a:cubicBezTo>
                    <a:pt x="2186" y="79"/>
                    <a:pt x="2186" y="79"/>
                    <a:pt x="2186" y="79"/>
                  </a:cubicBezTo>
                  <a:cubicBezTo>
                    <a:pt x="2187" y="60"/>
                    <a:pt x="2187" y="45"/>
                    <a:pt x="2187" y="45"/>
                  </a:cubicBezTo>
                  <a:cubicBezTo>
                    <a:pt x="2187" y="50"/>
                    <a:pt x="2185" y="61"/>
                    <a:pt x="2182" y="73"/>
                  </a:cubicBezTo>
                  <a:cubicBezTo>
                    <a:pt x="2181" y="73"/>
                    <a:pt x="2181" y="73"/>
                    <a:pt x="2180" y="72"/>
                  </a:cubicBezTo>
                  <a:cubicBezTo>
                    <a:pt x="2181" y="70"/>
                    <a:pt x="2181" y="68"/>
                    <a:pt x="2181" y="66"/>
                  </a:cubicBezTo>
                  <a:cubicBezTo>
                    <a:pt x="2181" y="65"/>
                    <a:pt x="2181" y="65"/>
                    <a:pt x="2182" y="65"/>
                  </a:cubicBezTo>
                  <a:cubicBezTo>
                    <a:pt x="2181" y="65"/>
                    <a:pt x="2181" y="65"/>
                    <a:pt x="2181" y="66"/>
                  </a:cubicBezTo>
                  <a:cubicBezTo>
                    <a:pt x="2181" y="64"/>
                    <a:pt x="2181" y="63"/>
                    <a:pt x="2181" y="61"/>
                  </a:cubicBezTo>
                  <a:cubicBezTo>
                    <a:pt x="2181" y="55"/>
                    <a:pt x="2181" y="49"/>
                    <a:pt x="2180" y="42"/>
                  </a:cubicBezTo>
                  <a:cubicBezTo>
                    <a:pt x="2183" y="27"/>
                    <a:pt x="2185" y="17"/>
                    <a:pt x="2185" y="17"/>
                  </a:cubicBezTo>
                  <a:cubicBezTo>
                    <a:pt x="2182" y="22"/>
                    <a:pt x="2175" y="49"/>
                    <a:pt x="2169" y="78"/>
                  </a:cubicBezTo>
                  <a:cubicBezTo>
                    <a:pt x="2169" y="78"/>
                    <a:pt x="2169" y="78"/>
                    <a:pt x="2168" y="79"/>
                  </a:cubicBezTo>
                  <a:cubicBezTo>
                    <a:pt x="2167" y="76"/>
                    <a:pt x="2164" y="72"/>
                    <a:pt x="2162" y="69"/>
                  </a:cubicBezTo>
                  <a:cubicBezTo>
                    <a:pt x="2163" y="67"/>
                    <a:pt x="2165" y="66"/>
                    <a:pt x="2167" y="64"/>
                  </a:cubicBezTo>
                  <a:cubicBezTo>
                    <a:pt x="2165" y="66"/>
                    <a:pt x="2163" y="67"/>
                    <a:pt x="2162" y="69"/>
                  </a:cubicBezTo>
                  <a:cubicBezTo>
                    <a:pt x="2161" y="68"/>
                    <a:pt x="2160" y="67"/>
                    <a:pt x="2159" y="66"/>
                  </a:cubicBezTo>
                  <a:cubicBezTo>
                    <a:pt x="2159" y="60"/>
                    <a:pt x="2158" y="55"/>
                    <a:pt x="2158" y="52"/>
                  </a:cubicBezTo>
                  <a:cubicBezTo>
                    <a:pt x="2158" y="56"/>
                    <a:pt x="2158" y="60"/>
                    <a:pt x="2158" y="64"/>
                  </a:cubicBezTo>
                  <a:cubicBezTo>
                    <a:pt x="2154" y="60"/>
                    <a:pt x="2150" y="55"/>
                    <a:pt x="2145" y="50"/>
                  </a:cubicBezTo>
                  <a:cubicBezTo>
                    <a:pt x="2148" y="55"/>
                    <a:pt x="2151" y="60"/>
                    <a:pt x="2154" y="65"/>
                  </a:cubicBezTo>
                  <a:cubicBezTo>
                    <a:pt x="2153" y="68"/>
                    <a:pt x="2153" y="71"/>
                    <a:pt x="2152" y="76"/>
                  </a:cubicBezTo>
                  <a:cubicBezTo>
                    <a:pt x="2150" y="74"/>
                    <a:pt x="2148" y="71"/>
                    <a:pt x="2145" y="68"/>
                  </a:cubicBezTo>
                  <a:cubicBezTo>
                    <a:pt x="2145" y="54"/>
                    <a:pt x="2144" y="41"/>
                    <a:pt x="2143" y="33"/>
                  </a:cubicBezTo>
                  <a:cubicBezTo>
                    <a:pt x="2144" y="42"/>
                    <a:pt x="2143" y="53"/>
                    <a:pt x="2142" y="65"/>
                  </a:cubicBezTo>
                  <a:cubicBezTo>
                    <a:pt x="2140" y="63"/>
                    <a:pt x="2138" y="61"/>
                    <a:pt x="2136" y="59"/>
                  </a:cubicBezTo>
                  <a:cubicBezTo>
                    <a:pt x="2138" y="61"/>
                    <a:pt x="2140" y="63"/>
                    <a:pt x="2142" y="65"/>
                  </a:cubicBezTo>
                  <a:cubicBezTo>
                    <a:pt x="2141" y="72"/>
                    <a:pt x="2140" y="80"/>
                    <a:pt x="2139" y="87"/>
                  </a:cubicBezTo>
                  <a:cubicBezTo>
                    <a:pt x="2139" y="87"/>
                    <a:pt x="2139" y="87"/>
                    <a:pt x="2139" y="87"/>
                  </a:cubicBezTo>
                  <a:cubicBezTo>
                    <a:pt x="2138" y="85"/>
                    <a:pt x="2138" y="84"/>
                    <a:pt x="2137" y="83"/>
                  </a:cubicBezTo>
                  <a:cubicBezTo>
                    <a:pt x="2138" y="82"/>
                    <a:pt x="2138" y="82"/>
                    <a:pt x="2138" y="81"/>
                  </a:cubicBezTo>
                  <a:cubicBezTo>
                    <a:pt x="2138" y="82"/>
                    <a:pt x="2138" y="82"/>
                    <a:pt x="2137" y="83"/>
                  </a:cubicBezTo>
                  <a:cubicBezTo>
                    <a:pt x="2137" y="81"/>
                    <a:pt x="2136" y="79"/>
                    <a:pt x="2135" y="77"/>
                  </a:cubicBezTo>
                  <a:cubicBezTo>
                    <a:pt x="2136" y="79"/>
                    <a:pt x="2136" y="81"/>
                    <a:pt x="2137" y="83"/>
                  </a:cubicBezTo>
                  <a:cubicBezTo>
                    <a:pt x="2136" y="85"/>
                    <a:pt x="2135" y="86"/>
                    <a:pt x="2134" y="88"/>
                  </a:cubicBezTo>
                  <a:cubicBezTo>
                    <a:pt x="2135" y="86"/>
                    <a:pt x="2136" y="85"/>
                    <a:pt x="2137" y="83"/>
                  </a:cubicBezTo>
                  <a:cubicBezTo>
                    <a:pt x="2137" y="85"/>
                    <a:pt x="2138" y="86"/>
                    <a:pt x="2138" y="88"/>
                  </a:cubicBezTo>
                  <a:cubicBezTo>
                    <a:pt x="2136" y="91"/>
                    <a:pt x="2135" y="95"/>
                    <a:pt x="2133" y="98"/>
                  </a:cubicBezTo>
                  <a:cubicBezTo>
                    <a:pt x="2133" y="97"/>
                    <a:pt x="2133" y="97"/>
                    <a:pt x="2132" y="97"/>
                  </a:cubicBezTo>
                  <a:cubicBezTo>
                    <a:pt x="2132" y="95"/>
                    <a:pt x="2132" y="94"/>
                    <a:pt x="2132" y="93"/>
                  </a:cubicBezTo>
                  <a:cubicBezTo>
                    <a:pt x="2132" y="91"/>
                    <a:pt x="2133" y="89"/>
                    <a:pt x="2134" y="88"/>
                  </a:cubicBezTo>
                  <a:cubicBezTo>
                    <a:pt x="2133" y="89"/>
                    <a:pt x="2132" y="91"/>
                    <a:pt x="2131" y="92"/>
                  </a:cubicBezTo>
                  <a:cubicBezTo>
                    <a:pt x="2131" y="92"/>
                    <a:pt x="2131" y="91"/>
                    <a:pt x="2131" y="91"/>
                  </a:cubicBezTo>
                  <a:cubicBezTo>
                    <a:pt x="2131" y="74"/>
                    <a:pt x="2130" y="60"/>
                    <a:pt x="2130" y="60"/>
                  </a:cubicBezTo>
                  <a:cubicBezTo>
                    <a:pt x="2130" y="65"/>
                    <a:pt x="2130" y="73"/>
                    <a:pt x="2129" y="81"/>
                  </a:cubicBezTo>
                  <a:cubicBezTo>
                    <a:pt x="2128" y="79"/>
                    <a:pt x="2128" y="76"/>
                    <a:pt x="2127" y="74"/>
                  </a:cubicBezTo>
                  <a:cubicBezTo>
                    <a:pt x="2128" y="79"/>
                    <a:pt x="2128" y="83"/>
                    <a:pt x="2128" y="88"/>
                  </a:cubicBezTo>
                  <a:cubicBezTo>
                    <a:pt x="2127" y="86"/>
                    <a:pt x="2126" y="84"/>
                    <a:pt x="2125" y="83"/>
                  </a:cubicBezTo>
                  <a:cubicBezTo>
                    <a:pt x="2126" y="85"/>
                    <a:pt x="2127" y="87"/>
                    <a:pt x="2128" y="89"/>
                  </a:cubicBezTo>
                  <a:cubicBezTo>
                    <a:pt x="2128" y="89"/>
                    <a:pt x="2128" y="89"/>
                    <a:pt x="2128" y="89"/>
                  </a:cubicBezTo>
                  <a:cubicBezTo>
                    <a:pt x="2128" y="93"/>
                    <a:pt x="2127" y="97"/>
                    <a:pt x="2127" y="101"/>
                  </a:cubicBezTo>
                  <a:cubicBezTo>
                    <a:pt x="2126" y="103"/>
                    <a:pt x="2125" y="104"/>
                    <a:pt x="2125" y="106"/>
                  </a:cubicBezTo>
                  <a:cubicBezTo>
                    <a:pt x="2123" y="100"/>
                    <a:pt x="2122" y="95"/>
                    <a:pt x="2120" y="90"/>
                  </a:cubicBezTo>
                  <a:cubicBezTo>
                    <a:pt x="2121" y="88"/>
                    <a:pt x="2123" y="85"/>
                    <a:pt x="2124" y="83"/>
                  </a:cubicBezTo>
                  <a:cubicBezTo>
                    <a:pt x="2123" y="85"/>
                    <a:pt x="2121" y="87"/>
                    <a:pt x="2119" y="89"/>
                  </a:cubicBezTo>
                  <a:cubicBezTo>
                    <a:pt x="2119" y="88"/>
                    <a:pt x="2118" y="87"/>
                    <a:pt x="2118" y="87"/>
                  </a:cubicBezTo>
                  <a:cubicBezTo>
                    <a:pt x="2118" y="76"/>
                    <a:pt x="2119" y="68"/>
                    <a:pt x="2119" y="68"/>
                  </a:cubicBezTo>
                  <a:cubicBezTo>
                    <a:pt x="2118" y="72"/>
                    <a:pt x="2117" y="77"/>
                    <a:pt x="2116" y="82"/>
                  </a:cubicBezTo>
                  <a:cubicBezTo>
                    <a:pt x="2116" y="81"/>
                    <a:pt x="2116" y="80"/>
                    <a:pt x="2116" y="80"/>
                  </a:cubicBezTo>
                  <a:cubicBezTo>
                    <a:pt x="2116" y="80"/>
                    <a:pt x="2116" y="81"/>
                    <a:pt x="2116" y="82"/>
                  </a:cubicBezTo>
                  <a:cubicBezTo>
                    <a:pt x="2115" y="80"/>
                    <a:pt x="2114" y="78"/>
                    <a:pt x="2112" y="75"/>
                  </a:cubicBezTo>
                  <a:cubicBezTo>
                    <a:pt x="2113" y="65"/>
                    <a:pt x="2114" y="56"/>
                    <a:pt x="2115" y="48"/>
                  </a:cubicBezTo>
                  <a:cubicBezTo>
                    <a:pt x="2114" y="55"/>
                    <a:pt x="2112" y="64"/>
                    <a:pt x="2111" y="73"/>
                  </a:cubicBezTo>
                  <a:cubicBezTo>
                    <a:pt x="2109" y="70"/>
                    <a:pt x="2107" y="67"/>
                    <a:pt x="2105" y="64"/>
                  </a:cubicBezTo>
                  <a:cubicBezTo>
                    <a:pt x="2105" y="62"/>
                    <a:pt x="2105" y="59"/>
                    <a:pt x="2105" y="57"/>
                  </a:cubicBezTo>
                  <a:cubicBezTo>
                    <a:pt x="2104" y="58"/>
                    <a:pt x="2104" y="60"/>
                    <a:pt x="2103" y="62"/>
                  </a:cubicBezTo>
                  <a:cubicBezTo>
                    <a:pt x="2101" y="59"/>
                    <a:pt x="2098" y="55"/>
                    <a:pt x="2095" y="52"/>
                  </a:cubicBezTo>
                  <a:cubicBezTo>
                    <a:pt x="2095" y="48"/>
                    <a:pt x="2095" y="46"/>
                    <a:pt x="2095" y="46"/>
                  </a:cubicBezTo>
                  <a:cubicBezTo>
                    <a:pt x="2095" y="48"/>
                    <a:pt x="2095" y="49"/>
                    <a:pt x="2094" y="51"/>
                  </a:cubicBezTo>
                  <a:cubicBezTo>
                    <a:pt x="2091" y="47"/>
                    <a:pt x="2087" y="43"/>
                    <a:pt x="2083" y="39"/>
                  </a:cubicBezTo>
                  <a:cubicBezTo>
                    <a:pt x="2083" y="37"/>
                    <a:pt x="2083" y="35"/>
                    <a:pt x="2082" y="34"/>
                  </a:cubicBezTo>
                  <a:cubicBezTo>
                    <a:pt x="2082" y="34"/>
                    <a:pt x="2083" y="36"/>
                    <a:pt x="2083" y="39"/>
                  </a:cubicBezTo>
                  <a:cubicBezTo>
                    <a:pt x="2081" y="37"/>
                    <a:pt x="2080" y="36"/>
                    <a:pt x="2078" y="34"/>
                  </a:cubicBezTo>
                  <a:cubicBezTo>
                    <a:pt x="2080" y="36"/>
                    <a:pt x="2081" y="38"/>
                    <a:pt x="2083" y="40"/>
                  </a:cubicBezTo>
                  <a:cubicBezTo>
                    <a:pt x="2083" y="40"/>
                    <a:pt x="2083" y="40"/>
                    <a:pt x="2083" y="41"/>
                  </a:cubicBezTo>
                  <a:cubicBezTo>
                    <a:pt x="2083" y="40"/>
                    <a:pt x="2083" y="40"/>
                    <a:pt x="2083" y="40"/>
                  </a:cubicBezTo>
                  <a:cubicBezTo>
                    <a:pt x="2087" y="45"/>
                    <a:pt x="2090" y="49"/>
                    <a:pt x="2094" y="53"/>
                  </a:cubicBezTo>
                  <a:cubicBezTo>
                    <a:pt x="2093" y="55"/>
                    <a:pt x="2092" y="59"/>
                    <a:pt x="2092" y="62"/>
                  </a:cubicBezTo>
                  <a:cubicBezTo>
                    <a:pt x="2089" y="60"/>
                    <a:pt x="2087" y="58"/>
                    <a:pt x="2084" y="56"/>
                  </a:cubicBezTo>
                  <a:cubicBezTo>
                    <a:pt x="2083" y="50"/>
                    <a:pt x="2083" y="44"/>
                    <a:pt x="2083" y="41"/>
                  </a:cubicBezTo>
                  <a:cubicBezTo>
                    <a:pt x="2083" y="45"/>
                    <a:pt x="2083" y="50"/>
                    <a:pt x="2082" y="55"/>
                  </a:cubicBezTo>
                  <a:cubicBezTo>
                    <a:pt x="2081" y="54"/>
                    <a:pt x="2080" y="53"/>
                    <a:pt x="2078" y="52"/>
                  </a:cubicBezTo>
                  <a:cubicBezTo>
                    <a:pt x="2080" y="53"/>
                    <a:pt x="2081" y="54"/>
                    <a:pt x="2082" y="55"/>
                  </a:cubicBezTo>
                  <a:cubicBezTo>
                    <a:pt x="2082" y="64"/>
                    <a:pt x="2081" y="73"/>
                    <a:pt x="2079" y="83"/>
                  </a:cubicBezTo>
                  <a:cubicBezTo>
                    <a:pt x="2079" y="82"/>
                    <a:pt x="2079" y="81"/>
                    <a:pt x="2079" y="81"/>
                  </a:cubicBezTo>
                  <a:cubicBezTo>
                    <a:pt x="2079" y="82"/>
                    <a:pt x="2079" y="82"/>
                    <a:pt x="2079" y="83"/>
                  </a:cubicBezTo>
                  <a:cubicBezTo>
                    <a:pt x="2078" y="88"/>
                    <a:pt x="2078" y="92"/>
                    <a:pt x="2077" y="97"/>
                  </a:cubicBezTo>
                  <a:cubicBezTo>
                    <a:pt x="2075" y="89"/>
                    <a:pt x="2073" y="81"/>
                    <a:pt x="2070" y="73"/>
                  </a:cubicBezTo>
                  <a:cubicBezTo>
                    <a:pt x="2070" y="72"/>
                    <a:pt x="2070" y="71"/>
                    <a:pt x="2070" y="71"/>
                  </a:cubicBezTo>
                  <a:cubicBezTo>
                    <a:pt x="2071" y="70"/>
                    <a:pt x="2072" y="69"/>
                    <a:pt x="2073" y="68"/>
                  </a:cubicBezTo>
                  <a:cubicBezTo>
                    <a:pt x="2075" y="72"/>
                    <a:pt x="2077" y="76"/>
                    <a:pt x="2079" y="81"/>
                  </a:cubicBezTo>
                  <a:cubicBezTo>
                    <a:pt x="2077" y="76"/>
                    <a:pt x="2075" y="72"/>
                    <a:pt x="2073" y="67"/>
                  </a:cubicBezTo>
                  <a:cubicBezTo>
                    <a:pt x="2074" y="67"/>
                    <a:pt x="2074" y="66"/>
                    <a:pt x="2075" y="65"/>
                  </a:cubicBezTo>
                  <a:cubicBezTo>
                    <a:pt x="2074" y="66"/>
                    <a:pt x="2074" y="66"/>
                    <a:pt x="2073" y="67"/>
                  </a:cubicBezTo>
                  <a:cubicBezTo>
                    <a:pt x="2067" y="54"/>
                    <a:pt x="2057" y="41"/>
                    <a:pt x="2045" y="25"/>
                  </a:cubicBezTo>
                  <a:cubicBezTo>
                    <a:pt x="2057" y="42"/>
                    <a:pt x="2066" y="55"/>
                    <a:pt x="2072" y="68"/>
                  </a:cubicBezTo>
                  <a:cubicBezTo>
                    <a:pt x="2072" y="68"/>
                    <a:pt x="2071" y="69"/>
                    <a:pt x="2070" y="70"/>
                  </a:cubicBezTo>
                  <a:cubicBezTo>
                    <a:pt x="2070" y="68"/>
                    <a:pt x="2070" y="66"/>
                    <a:pt x="2070" y="66"/>
                  </a:cubicBezTo>
                  <a:cubicBezTo>
                    <a:pt x="2070" y="68"/>
                    <a:pt x="2070" y="69"/>
                    <a:pt x="2069" y="71"/>
                  </a:cubicBezTo>
                  <a:cubicBezTo>
                    <a:pt x="2069" y="71"/>
                    <a:pt x="2069" y="71"/>
                    <a:pt x="2069" y="71"/>
                  </a:cubicBezTo>
                  <a:cubicBezTo>
                    <a:pt x="2065" y="61"/>
                    <a:pt x="2058" y="52"/>
                    <a:pt x="2049" y="42"/>
                  </a:cubicBezTo>
                  <a:cubicBezTo>
                    <a:pt x="2056" y="55"/>
                    <a:pt x="2061" y="65"/>
                    <a:pt x="2065" y="75"/>
                  </a:cubicBezTo>
                  <a:cubicBezTo>
                    <a:pt x="2064" y="76"/>
                    <a:pt x="2063" y="77"/>
                    <a:pt x="2062" y="77"/>
                  </a:cubicBezTo>
                  <a:cubicBezTo>
                    <a:pt x="2060" y="73"/>
                    <a:pt x="2058" y="70"/>
                    <a:pt x="2056" y="68"/>
                  </a:cubicBezTo>
                  <a:cubicBezTo>
                    <a:pt x="2055" y="63"/>
                    <a:pt x="2055" y="60"/>
                    <a:pt x="2055" y="60"/>
                  </a:cubicBezTo>
                  <a:cubicBezTo>
                    <a:pt x="2055" y="61"/>
                    <a:pt x="2055" y="64"/>
                    <a:pt x="2055" y="67"/>
                  </a:cubicBezTo>
                  <a:cubicBezTo>
                    <a:pt x="2049" y="57"/>
                    <a:pt x="2041" y="47"/>
                    <a:pt x="2030" y="38"/>
                  </a:cubicBezTo>
                  <a:cubicBezTo>
                    <a:pt x="2040" y="49"/>
                    <a:pt x="2048" y="60"/>
                    <a:pt x="2054" y="71"/>
                  </a:cubicBezTo>
                  <a:cubicBezTo>
                    <a:pt x="2054" y="75"/>
                    <a:pt x="2054" y="80"/>
                    <a:pt x="2053" y="85"/>
                  </a:cubicBezTo>
                  <a:cubicBezTo>
                    <a:pt x="2053" y="84"/>
                    <a:pt x="2053" y="84"/>
                    <a:pt x="2052" y="83"/>
                  </a:cubicBezTo>
                  <a:cubicBezTo>
                    <a:pt x="2052" y="84"/>
                    <a:pt x="2053" y="85"/>
                    <a:pt x="2053" y="86"/>
                  </a:cubicBezTo>
                  <a:cubicBezTo>
                    <a:pt x="2053" y="87"/>
                    <a:pt x="2053" y="88"/>
                    <a:pt x="2053" y="89"/>
                  </a:cubicBezTo>
                  <a:cubicBezTo>
                    <a:pt x="2051" y="92"/>
                    <a:pt x="2050" y="94"/>
                    <a:pt x="2048" y="97"/>
                  </a:cubicBezTo>
                  <a:cubicBezTo>
                    <a:pt x="2048" y="93"/>
                    <a:pt x="2048" y="90"/>
                    <a:pt x="2048" y="87"/>
                  </a:cubicBezTo>
                  <a:cubicBezTo>
                    <a:pt x="2049" y="84"/>
                    <a:pt x="2050" y="82"/>
                    <a:pt x="2050" y="80"/>
                  </a:cubicBezTo>
                  <a:cubicBezTo>
                    <a:pt x="2051" y="81"/>
                    <a:pt x="2051" y="82"/>
                    <a:pt x="2052" y="83"/>
                  </a:cubicBezTo>
                  <a:cubicBezTo>
                    <a:pt x="2052" y="81"/>
                    <a:pt x="2051" y="80"/>
                    <a:pt x="2050" y="79"/>
                  </a:cubicBezTo>
                  <a:cubicBezTo>
                    <a:pt x="2051" y="79"/>
                    <a:pt x="2051" y="78"/>
                    <a:pt x="2051" y="77"/>
                  </a:cubicBezTo>
                  <a:cubicBezTo>
                    <a:pt x="2051" y="77"/>
                    <a:pt x="2050" y="78"/>
                    <a:pt x="2050" y="79"/>
                  </a:cubicBezTo>
                  <a:cubicBezTo>
                    <a:pt x="2049" y="77"/>
                    <a:pt x="2049" y="76"/>
                    <a:pt x="2048" y="75"/>
                  </a:cubicBezTo>
                  <a:cubicBezTo>
                    <a:pt x="2049" y="77"/>
                    <a:pt x="2049" y="78"/>
                    <a:pt x="2050" y="79"/>
                  </a:cubicBezTo>
                  <a:cubicBezTo>
                    <a:pt x="2049" y="80"/>
                    <a:pt x="2048" y="81"/>
                    <a:pt x="2048" y="82"/>
                  </a:cubicBezTo>
                  <a:cubicBezTo>
                    <a:pt x="2048" y="73"/>
                    <a:pt x="2048" y="68"/>
                    <a:pt x="2048" y="68"/>
                  </a:cubicBezTo>
                  <a:cubicBezTo>
                    <a:pt x="2047" y="72"/>
                    <a:pt x="2047" y="78"/>
                    <a:pt x="2046" y="85"/>
                  </a:cubicBezTo>
                  <a:cubicBezTo>
                    <a:pt x="2043" y="90"/>
                    <a:pt x="2041" y="94"/>
                    <a:pt x="2040" y="99"/>
                  </a:cubicBezTo>
                  <a:cubicBezTo>
                    <a:pt x="2040" y="98"/>
                    <a:pt x="2039" y="97"/>
                    <a:pt x="2039" y="96"/>
                  </a:cubicBezTo>
                  <a:cubicBezTo>
                    <a:pt x="2039" y="92"/>
                    <a:pt x="2040" y="89"/>
                    <a:pt x="2040" y="89"/>
                  </a:cubicBezTo>
                  <a:cubicBezTo>
                    <a:pt x="2040" y="91"/>
                    <a:pt x="2039" y="92"/>
                    <a:pt x="2039" y="94"/>
                  </a:cubicBezTo>
                  <a:cubicBezTo>
                    <a:pt x="2038" y="91"/>
                    <a:pt x="2037" y="88"/>
                    <a:pt x="2037" y="85"/>
                  </a:cubicBezTo>
                  <a:cubicBezTo>
                    <a:pt x="2036" y="88"/>
                    <a:pt x="2036" y="91"/>
                    <a:pt x="2036" y="94"/>
                  </a:cubicBezTo>
                  <a:cubicBezTo>
                    <a:pt x="2036" y="97"/>
                    <a:pt x="2036" y="100"/>
                    <a:pt x="2036" y="103"/>
                  </a:cubicBezTo>
                  <a:cubicBezTo>
                    <a:pt x="2035" y="107"/>
                    <a:pt x="2033" y="112"/>
                    <a:pt x="2032" y="116"/>
                  </a:cubicBezTo>
                  <a:cubicBezTo>
                    <a:pt x="2030" y="112"/>
                    <a:pt x="2029" y="108"/>
                    <a:pt x="2028" y="104"/>
                  </a:cubicBezTo>
                  <a:cubicBezTo>
                    <a:pt x="2029" y="109"/>
                    <a:pt x="2030" y="115"/>
                    <a:pt x="2030" y="120"/>
                  </a:cubicBezTo>
                  <a:cubicBezTo>
                    <a:pt x="2029" y="124"/>
                    <a:pt x="2027" y="127"/>
                    <a:pt x="2026" y="130"/>
                  </a:cubicBezTo>
                  <a:cubicBezTo>
                    <a:pt x="2025" y="128"/>
                    <a:pt x="2024" y="126"/>
                    <a:pt x="2024" y="123"/>
                  </a:cubicBezTo>
                  <a:cubicBezTo>
                    <a:pt x="2025" y="115"/>
                    <a:pt x="2027" y="106"/>
                    <a:pt x="2029" y="98"/>
                  </a:cubicBezTo>
                  <a:cubicBezTo>
                    <a:pt x="2030" y="98"/>
                    <a:pt x="2030" y="97"/>
                    <a:pt x="2030" y="96"/>
                  </a:cubicBezTo>
                  <a:cubicBezTo>
                    <a:pt x="2030" y="96"/>
                    <a:pt x="2030" y="97"/>
                    <a:pt x="2029" y="97"/>
                  </a:cubicBezTo>
                  <a:cubicBezTo>
                    <a:pt x="2032" y="86"/>
                    <a:pt x="2035" y="76"/>
                    <a:pt x="2035" y="76"/>
                  </a:cubicBezTo>
                  <a:cubicBezTo>
                    <a:pt x="2030" y="83"/>
                    <a:pt x="2024" y="96"/>
                    <a:pt x="2020" y="109"/>
                  </a:cubicBezTo>
                  <a:cubicBezTo>
                    <a:pt x="2020" y="107"/>
                    <a:pt x="2019" y="106"/>
                    <a:pt x="2019" y="104"/>
                  </a:cubicBezTo>
                  <a:cubicBezTo>
                    <a:pt x="2021" y="97"/>
                    <a:pt x="2024" y="90"/>
                    <a:pt x="2027" y="84"/>
                  </a:cubicBezTo>
                  <a:cubicBezTo>
                    <a:pt x="2024" y="90"/>
                    <a:pt x="2021" y="96"/>
                    <a:pt x="2019" y="102"/>
                  </a:cubicBezTo>
                  <a:cubicBezTo>
                    <a:pt x="2018" y="102"/>
                    <a:pt x="2018" y="101"/>
                    <a:pt x="2018" y="101"/>
                  </a:cubicBezTo>
                  <a:cubicBezTo>
                    <a:pt x="2020" y="77"/>
                    <a:pt x="2016" y="62"/>
                    <a:pt x="2016" y="62"/>
                  </a:cubicBezTo>
                  <a:cubicBezTo>
                    <a:pt x="2017" y="69"/>
                    <a:pt x="2017" y="80"/>
                    <a:pt x="2015" y="91"/>
                  </a:cubicBezTo>
                  <a:cubicBezTo>
                    <a:pt x="2015" y="89"/>
                    <a:pt x="2015" y="88"/>
                    <a:pt x="2014" y="87"/>
                  </a:cubicBezTo>
                  <a:cubicBezTo>
                    <a:pt x="2014" y="88"/>
                    <a:pt x="2014" y="88"/>
                    <a:pt x="2014" y="88"/>
                  </a:cubicBezTo>
                  <a:cubicBezTo>
                    <a:pt x="2014" y="90"/>
                    <a:pt x="2014" y="93"/>
                    <a:pt x="2015" y="96"/>
                  </a:cubicBezTo>
                  <a:cubicBezTo>
                    <a:pt x="2014" y="101"/>
                    <a:pt x="2014" y="105"/>
                    <a:pt x="2013" y="110"/>
                  </a:cubicBezTo>
                  <a:cubicBezTo>
                    <a:pt x="2012" y="109"/>
                    <a:pt x="2012" y="107"/>
                    <a:pt x="2011" y="106"/>
                  </a:cubicBezTo>
                  <a:cubicBezTo>
                    <a:pt x="2012" y="103"/>
                    <a:pt x="2012" y="99"/>
                    <a:pt x="2013" y="96"/>
                  </a:cubicBezTo>
                  <a:cubicBezTo>
                    <a:pt x="2012" y="98"/>
                    <a:pt x="2011" y="100"/>
                    <a:pt x="2010" y="103"/>
                  </a:cubicBezTo>
                  <a:cubicBezTo>
                    <a:pt x="2009" y="101"/>
                    <a:pt x="2008" y="99"/>
                    <a:pt x="2008" y="98"/>
                  </a:cubicBezTo>
                  <a:cubicBezTo>
                    <a:pt x="2008" y="89"/>
                    <a:pt x="2009" y="82"/>
                    <a:pt x="2009" y="82"/>
                  </a:cubicBezTo>
                  <a:cubicBezTo>
                    <a:pt x="2007" y="97"/>
                    <a:pt x="2007" y="97"/>
                    <a:pt x="2007" y="97"/>
                  </a:cubicBezTo>
                  <a:cubicBezTo>
                    <a:pt x="2006" y="94"/>
                    <a:pt x="2005" y="92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89"/>
                    <a:pt x="2004" y="89"/>
                    <a:pt x="2003" y="88"/>
                  </a:cubicBezTo>
                  <a:cubicBezTo>
                    <a:pt x="2003" y="83"/>
                    <a:pt x="2003" y="78"/>
                    <a:pt x="2003" y="73"/>
                  </a:cubicBezTo>
                  <a:cubicBezTo>
                    <a:pt x="2006" y="70"/>
                    <a:pt x="2009" y="66"/>
                    <a:pt x="2012" y="63"/>
                  </a:cubicBezTo>
                  <a:cubicBezTo>
                    <a:pt x="2009" y="66"/>
                    <a:pt x="2006" y="69"/>
                    <a:pt x="2003" y="71"/>
                  </a:cubicBezTo>
                  <a:cubicBezTo>
                    <a:pt x="2003" y="65"/>
                    <a:pt x="2002" y="60"/>
                    <a:pt x="2002" y="60"/>
                  </a:cubicBezTo>
                  <a:cubicBezTo>
                    <a:pt x="2002" y="64"/>
                    <a:pt x="2002" y="68"/>
                    <a:pt x="2002" y="72"/>
                  </a:cubicBezTo>
                  <a:cubicBezTo>
                    <a:pt x="2000" y="74"/>
                    <a:pt x="1999" y="75"/>
                    <a:pt x="1998" y="77"/>
                  </a:cubicBezTo>
                  <a:cubicBezTo>
                    <a:pt x="1997" y="70"/>
                    <a:pt x="1997" y="64"/>
                    <a:pt x="1997" y="64"/>
                  </a:cubicBezTo>
                  <a:cubicBezTo>
                    <a:pt x="1997" y="66"/>
                    <a:pt x="1997" y="71"/>
                    <a:pt x="1996" y="78"/>
                  </a:cubicBezTo>
                  <a:cubicBezTo>
                    <a:pt x="1993" y="81"/>
                    <a:pt x="1991" y="85"/>
                    <a:pt x="1989" y="88"/>
                  </a:cubicBezTo>
                  <a:cubicBezTo>
                    <a:pt x="1989" y="64"/>
                    <a:pt x="1988" y="42"/>
                    <a:pt x="1988" y="42"/>
                  </a:cubicBezTo>
                  <a:cubicBezTo>
                    <a:pt x="1989" y="55"/>
                    <a:pt x="1986" y="77"/>
                    <a:pt x="1984" y="96"/>
                  </a:cubicBezTo>
                  <a:cubicBezTo>
                    <a:pt x="1982" y="100"/>
                    <a:pt x="1980" y="104"/>
                    <a:pt x="1979" y="107"/>
                  </a:cubicBezTo>
                  <a:cubicBezTo>
                    <a:pt x="1978" y="107"/>
                    <a:pt x="1978" y="106"/>
                    <a:pt x="1978" y="106"/>
                  </a:cubicBezTo>
                  <a:cubicBezTo>
                    <a:pt x="1979" y="87"/>
                    <a:pt x="1982" y="70"/>
                    <a:pt x="1982" y="70"/>
                  </a:cubicBezTo>
                  <a:cubicBezTo>
                    <a:pt x="1980" y="74"/>
                    <a:pt x="1977" y="98"/>
                    <a:pt x="1975" y="117"/>
                  </a:cubicBezTo>
                  <a:cubicBezTo>
                    <a:pt x="1975" y="118"/>
                    <a:pt x="1975" y="119"/>
                    <a:pt x="1975" y="120"/>
                  </a:cubicBezTo>
                  <a:cubicBezTo>
                    <a:pt x="1975" y="119"/>
                    <a:pt x="1975" y="119"/>
                    <a:pt x="1975" y="118"/>
                  </a:cubicBezTo>
                  <a:cubicBezTo>
                    <a:pt x="1975" y="119"/>
                    <a:pt x="1975" y="119"/>
                    <a:pt x="1975" y="120"/>
                  </a:cubicBezTo>
                  <a:cubicBezTo>
                    <a:pt x="1974" y="121"/>
                    <a:pt x="1974" y="121"/>
                    <a:pt x="1974" y="122"/>
                  </a:cubicBezTo>
                  <a:cubicBezTo>
                    <a:pt x="1974" y="115"/>
                    <a:pt x="1974" y="108"/>
                    <a:pt x="1974" y="101"/>
                  </a:cubicBezTo>
                  <a:cubicBezTo>
                    <a:pt x="1974" y="101"/>
                    <a:pt x="1974" y="100"/>
                    <a:pt x="1974" y="100"/>
                  </a:cubicBezTo>
                  <a:cubicBezTo>
                    <a:pt x="1974" y="100"/>
                    <a:pt x="1974" y="101"/>
                    <a:pt x="1974" y="101"/>
                  </a:cubicBezTo>
                  <a:cubicBezTo>
                    <a:pt x="1974" y="98"/>
                    <a:pt x="1974" y="94"/>
                    <a:pt x="1973" y="91"/>
                  </a:cubicBezTo>
                  <a:cubicBezTo>
                    <a:pt x="1975" y="88"/>
                    <a:pt x="1977" y="85"/>
                    <a:pt x="1979" y="83"/>
                  </a:cubicBezTo>
                  <a:cubicBezTo>
                    <a:pt x="1977" y="85"/>
                    <a:pt x="1975" y="87"/>
                    <a:pt x="1973" y="90"/>
                  </a:cubicBezTo>
                  <a:cubicBezTo>
                    <a:pt x="1973" y="79"/>
                    <a:pt x="1972" y="69"/>
                    <a:pt x="1972" y="61"/>
                  </a:cubicBezTo>
                  <a:cubicBezTo>
                    <a:pt x="1971" y="73"/>
                    <a:pt x="1969" y="87"/>
                    <a:pt x="1967" y="100"/>
                  </a:cubicBezTo>
                  <a:cubicBezTo>
                    <a:pt x="1963" y="107"/>
                    <a:pt x="1960" y="115"/>
                    <a:pt x="1958" y="123"/>
                  </a:cubicBezTo>
                  <a:cubicBezTo>
                    <a:pt x="1959" y="109"/>
                    <a:pt x="1960" y="92"/>
                    <a:pt x="1961" y="80"/>
                  </a:cubicBezTo>
                  <a:cubicBezTo>
                    <a:pt x="1963" y="73"/>
                    <a:pt x="1964" y="67"/>
                    <a:pt x="1964" y="61"/>
                  </a:cubicBezTo>
                  <a:cubicBezTo>
                    <a:pt x="1964" y="60"/>
                    <a:pt x="1964" y="60"/>
                    <a:pt x="1964" y="60"/>
                  </a:cubicBezTo>
                  <a:cubicBezTo>
                    <a:pt x="1955" y="75"/>
                    <a:pt x="1951" y="88"/>
                    <a:pt x="1949" y="102"/>
                  </a:cubicBezTo>
                  <a:cubicBezTo>
                    <a:pt x="1949" y="102"/>
                    <a:pt x="1949" y="101"/>
                    <a:pt x="1949" y="101"/>
                  </a:cubicBezTo>
                  <a:cubicBezTo>
                    <a:pt x="1950" y="68"/>
                    <a:pt x="1953" y="30"/>
                    <a:pt x="1953" y="30"/>
                  </a:cubicBezTo>
                  <a:cubicBezTo>
                    <a:pt x="1951" y="38"/>
                    <a:pt x="1948" y="60"/>
                    <a:pt x="1946" y="83"/>
                  </a:cubicBezTo>
                  <a:cubicBezTo>
                    <a:pt x="1943" y="87"/>
                    <a:pt x="1940" y="92"/>
                    <a:pt x="1938" y="97"/>
                  </a:cubicBezTo>
                  <a:cubicBezTo>
                    <a:pt x="1938" y="91"/>
                    <a:pt x="1937" y="85"/>
                    <a:pt x="1937" y="79"/>
                  </a:cubicBezTo>
                  <a:cubicBezTo>
                    <a:pt x="1937" y="78"/>
                    <a:pt x="1937" y="78"/>
                    <a:pt x="1938" y="78"/>
                  </a:cubicBezTo>
                  <a:cubicBezTo>
                    <a:pt x="1937" y="78"/>
                    <a:pt x="1937" y="78"/>
                    <a:pt x="1937" y="78"/>
                  </a:cubicBezTo>
                  <a:cubicBezTo>
                    <a:pt x="1935" y="58"/>
                    <a:pt x="1934" y="41"/>
                    <a:pt x="1934" y="41"/>
                  </a:cubicBezTo>
                  <a:cubicBezTo>
                    <a:pt x="1935" y="52"/>
                    <a:pt x="1935" y="67"/>
                    <a:pt x="1934" y="82"/>
                  </a:cubicBezTo>
                  <a:cubicBezTo>
                    <a:pt x="1932" y="84"/>
                    <a:pt x="1930" y="87"/>
                    <a:pt x="1928" y="92"/>
                  </a:cubicBezTo>
                  <a:cubicBezTo>
                    <a:pt x="1927" y="82"/>
                    <a:pt x="1928" y="72"/>
                    <a:pt x="1928" y="68"/>
                  </a:cubicBezTo>
                  <a:cubicBezTo>
                    <a:pt x="1927" y="77"/>
                    <a:pt x="1926" y="88"/>
                    <a:pt x="1924" y="99"/>
                  </a:cubicBezTo>
                  <a:cubicBezTo>
                    <a:pt x="1922" y="94"/>
                    <a:pt x="1921" y="89"/>
                    <a:pt x="1919" y="84"/>
                  </a:cubicBezTo>
                  <a:cubicBezTo>
                    <a:pt x="1921" y="90"/>
                    <a:pt x="1922" y="96"/>
                    <a:pt x="1923" y="101"/>
                  </a:cubicBezTo>
                  <a:cubicBezTo>
                    <a:pt x="1923" y="105"/>
                    <a:pt x="1922" y="109"/>
                    <a:pt x="1921" y="113"/>
                  </a:cubicBezTo>
                  <a:cubicBezTo>
                    <a:pt x="1921" y="110"/>
                    <a:pt x="1921" y="108"/>
                    <a:pt x="1921" y="105"/>
                  </a:cubicBezTo>
                  <a:cubicBezTo>
                    <a:pt x="1920" y="108"/>
                    <a:pt x="1920" y="115"/>
                    <a:pt x="1920" y="119"/>
                  </a:cubicBezTo>
                  <a:cubicBezTo>
                    <a:pt x="1919" y="120"/>
                    <a:pt x="1919" y="122"/>
                    <a:pt x="1919" y="124"/>
                  </a:cubicBezTo>
                  <a:cubicBezTo>
                    <a:pt x="1918" y="125"/>
                    <a:pt x="1918" y="127"/>
                    <a:pt x="1918" y="128"/>
                  </a:cubicBezTo>
                  <a:cubicBezTo>
                    <a:pt x="1917" y="124"/>
                    <a:pt x="1916" y="120"/>
                    <a:pt x="1915" y="116"/>
                  </a:cubicBezTo>
                  <a:cubicBezTo>
                    <a:pt x="1916" y="108"/>
                    <a:pt x="1917" y="100"/>
                    <a:pt x="1917" y="94"/>
                  </a:cubicBezTo>
                  <a:cubicBezTo>
                    <a:pt x="1918" y="92"/>
                    <a:pt x="1918" y="91"/>
                    <a:pt x="1919" y="89"/>
                  </a:cubicBezTo>
                  <a:cubicBezTo>
                    <a:pt x="1918" y="90"/>
                    <a:pt x="1918" y="91"/>
                    <a:pt x="1917" y="92"/>
                  </a:cubicBezTo>
                  <a:cubicBezTo>
                    <a:pt x="1918" y="87"/>
                    <a:pt x="1918" y="83"/>
                    <a:pt x="1918" y="83"/>
                  </a:cubicBezTo>
                  <a:cubicBezTo>
                    <a:pt x="1918" y="85"/>
                    <a:pt x="1917" y="89"/>
                    <a:pt x="1916" y="93"/>
                  </a:cubicBezTo>
                  <a:cubicBezTo>
                    <a:pt x="1915" y="96"/>
                    <a:pt x="1913" y="99"/>
                    <a:pt x="1912" y="102"/>
                  </a:cubicBezTo>
                  <a:cubicBezTo>
                    <a:pt x="1911" y="101"/>
                    <a:pt x="1911" y="100"/>
                    <a:pt x="1911" y="99"/>
                  </a:cubicBezTo>
                  <a:cubicBezTo>
                    <a:pt x="1913" y="80"/>
                    <a:pt x="1915" y="62"/>
                    <a:pt x="1915" y="62"/>
                  </a:cubicBezTo>
                  <a:cubicBezTo>
                    <a:pt x="1913" y="66"/>
                    <a:pt x="1911" y="80"/>
                    <a:pt x="1909" y="95"/>
                  </a:cubicBezTo>
                  <a:cubicBezTo>
                    <a:pt x="1909" y="94"/>
                    <a:pt x="1908" y="92"/>
                    <a:pt x="1907" y="90"/>
                  </a:cubicBezTo>
                  <a:cubicBezTo>
                    <a:pt x="1908" y="92"/>
                    <a:pt x="1909" y="94"/>
                    <a:pt x="1909" y="96"/>
                  </a:cubicBezTo>
                  <a:cubicBezTo>
                    <a:pt x="1909" y="101"/>
                    <a:pt x="1908" y="106"/>
                    <a:pt x="1908" y="110"/>
                  </a:cubicBezTo>
                  <a:cubicBezTo>
                    <a:pt x="1907" y="113"/>
                    <a:pt x="1906" y="116"/>
                    <a:pt x="1905" y="118"/>
                  </a:cubicBezTo>
                  <a:cubicBezTo>
                    <a:pt x="1903" y="94"/>
                    <a:pt x="1898" y="64"/>
                    <a:pt x="1898" y="64"/>
                  </a:cubicBezTo>
                  <a:cubicBezTo>
                    <a:pt x="1898" y="64"/>
                    <a:pt x="1898" y="73"/>
                    <a:pt x="1899" y="82"/>
                  </a:cubicBezTo>
                  <a:cubicBezTo>
                    <a:pt x="1900" y="88"/>
                    <a:pt x="1899" y="98"/>
                    <a:pt x="1897" y="108"/>
                  </a:cubicBezTo>
                  <a:cubicBezTo>
                    <a:pt x="1896" y="111"/>
                    <a:pt x="1895" y="114"/>
                    <a:pt x="1894" y="117"/>
                  </a:cubicBezTo>
                  <a:cubicBezTo>
                    <a:pt x="1894" y="108"/>
                    <a:pt x="1893" y="99"/>
                    <a:pt x="1891" y="90"/>
                  </a:cubicBezTo>
                  <a:cubicBezTo>
                    <a:pt x="1894" y="78"/>
                    <a:pt x="1899" y="66"/>
                    <a:pt x="1898" y="56"/>
                  </a:cubicBezTo>
                  <a:cubicBezTo>
                    <a:pt x="1895" y="62"/>
                    <a:pt x="1892" y="67"/>
                    <a:pt x="1890" y="72"/>
                  </a:cubicBezTo>
                  <a:cubicBezTo>
                    <a:pt x="1893" y="34"/>
                    <a:pt x="1886" y="19"/>
                    <a:pt x="1886" y="19"/>
                  </a:cubicBezTo>
                  <a:cubicBezTo>
                    <a:pt x="1886" y="19"/>
                    <a:pt x="1889" y="31"/>
                    <a:pt x="1888" y="54"/>
                  </a:cubicBezTo>
                  <a:cubicBezTo>
                    <a:pt x="1887" y="61"/>
                    <a:pt x="1886" y="74"/>
                    <a:pt x="1885" y="88"/>
                  </a:cubicBezTo>
                  <a:cubicBezTo>
                    <a:pt x="1883" y="92"/>
                    <a:pt x="1882" y="97"/>
                    <a:pt x="1882" y="101"/>
                  </a:cubicBezTo>
                  <a:cubicBezTo>
                    <a:pt x="1881" y="98"/>
                    <a:pt x="1880" y="95"/>
                    <a:pt x="1878" y="91"/>
                  </a:cubicBezTo>
                  <a:cubicBezTo>
                    <a:pt x="1879" y="89"/>
                    <a:pt x="1879" y="87"/>
                    <a:pt x="1880" y="85"/>
                  </a:cubicBezTo>
                  <a:cubicBezTo>
                    <a:pt x="1879" y="87"/>
                    <a:pt x="1879" y="88"/>
                    <a:pt x="1878" y="90"/>
                  </a:cubicBezTo>
                  <a:cubicBezTo>
                    <a:pt x="1878" y="89"/>
                    <a:pt x="1877" y="88"/>
                    <a:pt x="1877" y="87"/>
                  </a:cubicBezTo>
                  <a:cubicBezTo>
                    <a:pt x="1877" y="83"/>
                    <a:pt x="1877" y="78"/>
                    <a:pt x="1877" y="74"/>
                  </a:cubicBezTo>
                  <a:cubicBezTo>
                    <a:pt x="1877" y="46"/>
                    <a:pt x="1867" y="40"/>
                    <a:pt x="1867" y="40"/>
                  </a:cubicBezTo>
                  <a:cubicBezTo>
                    <a:pt x="1867" y="40"/>
                    <a:pt x="1873" y="44"/>
                    <a:pt x="1873" y="70"/>
                  </a:cubicBezTo>
                  <a:cubicBezTo>
                    <a:pt x="1873" y="84"/>
                    <a:pt x="1868" y="108"/>
                    <a:pt x="1863" y="125"/>
                  </a:cubicBezTo>
                  <a:cubicBezTo>
                    <a:pt x="1863" y="123"/>
                    <a:pt x="1863" y="120"/>
                    <a:pt x="1862" y="118"/>
                  </a:cubicBezTo>
                  <a:cubicBezTo>
                    <a:pt x="1863" y="111"/>
                    <a:pt x="1864" y="105"/>
                    <a:pt x="1864" y="98"/>
                  </a:cubicBezTo>
                  <a:cubicBezTo>
                    <a:pt x="1863" y="101"/>
                    <a:pt x="1862" y="104"/>
                    <a:pt x="1862" y="107"/>
                  </a:cubicBezTo>
                  <a:cubicBezTo>
                    <a:pt x="1862" y="107"/>
                    <a:pt x="1862" y="106"/>
                    <a:pt x="1862" y="106"/>
                  </a:cubicBezTo>
                  <a:cubicBezTo>
                    <a:pt x="1862" y="97"/>
                    <a:pt x="1863" y="83"/>
                    <a:pt x="1869" y="75"/>
                  </a:cubicBezTo>
                  <a:cubicBezTo>
                    <a:pt x="1866" y="77"/>
                    <a:pt x="1863" y="82"/>
                    <a:pt x="1861" y="87"/>
                  </a:cubicBezTo>
                  <a:cubicBezTo>
                    <a:pt x="1862" y="78"/>
                    <a:pt x="1862" y="71"/>
                    <a:pt x="1862" y="71"/>
                  </a:cubicBezTo>
                  <a:cubicBezTo>
                    <a:pt x="1861" y="75"/>
                    <a:pt x="1858" y="97"/>
                    <a:pt x="1854" y="116"/>
                  </a:cubicBezTo>
                  <a:cubicBezTo>
                    <a:pt x="1854" y="114"/>
                    <a:pt x="1854" y="112"/>
                    <a:pt x="1853" y="110"/>
                  </a:cubicBezTo>
                  <a:cubicBezTo>
                    <a:pt x="1854" y="99"/>
                    <a:pt x="1855" y="87"/>
                    <a:pt x="1856" y="78"/>
                  </a:cubicBezTo>
                  <a:cubicBezTo>
                    <a:pt x="1858" y="71"/>
                    <a:pt x="1860" y="63"/>
                    <a:pt x="1862" y="55"/>
                  </a:cubicBezTo>
                  <a:cubicBezTo>
                    <a:pt x="1862" y="54"/>
                    <a:pt x="1862" y="52"/>
                    <a:pt x="1862" y="51"/>
                  </a:cubicBezTo>
                  <a:cubicBezTo>
                    <a:pt x="1860" y="54"/>
                    <a:pt x="1859" y="57"/>
                    <a:pt x="1858" y="60"/>
                  </a:cubicBezTo>
                  <a:cubicBezTo>
                    <a:pt x="1858" y="60"/>
                    <a:pt x="1858" y="59"/>
                    <a:pt x="1858" y="59"/>
                  </a:cubicBezTo>
                  <a:cubicBezTo>
                    <a:pt x="1858" y="60"/>
                    <a:pt x="1858" y="60"/>
                    <a:pt x="1858" y="60"/>
                  </a:cubicBezTo>
                  <a:cubicBezTo>
                    <a:pt x="1854" y="70"/>
                    <a:pt x="1851" y="80"/>
                    <a:pt x="1848" y="89"/>
                  </a:cubicBezTo>
                  <a:cubicBezTo>
                    <a:pt x="1854" y="30"/>
                    <a:pt x="1851" y="15"/>
                    <a:pt x="1850" y="13"/>
                  </a:cubicBezTo>
                  <a:cubicBezTo>
                    <a:pt x="1850" y="15"/>
                    <a:pt x="1851" y="22"/>
                    <a:pt x="1847" y="56"/>
                  </a:cubicBezTo>
                  <a:cubicBezTo>
                    <a:pt x="1845" y="68"/>
                    <a:pt x="1844" y="80"/>
                    <a:pt x="1842" y="91"/>
                  </a:cubicBezTo>
                  <a:cubicBezTo>
                    <a:pt x="1841" y="85"/>
                    <a:pt x="1839" y="79"/>
                    <a:pt x="1837" y="74"/>
                  </a:cubicBezTo>
                  <a:cubicBezTo>
                    <a:pt x="1838" y="51"/>
                    <a:pt x="1839" y="31"/>
                    <a:pt x="1839" y="31"/>
                  </a:cubicBezTo>
                  <a:cubicBezTo>
                    <a:pt x="1837" y="38"/>
                    <a:pt x="1835" y="53"/>
                    <a:pt x="1834" y="69"/>
                  </a:cubicBezTo>
                  <a:cubicBezTo>
                    <a:pt x="1833" y="68"/>
                    <a:pt x="1832" y="67"/>
                    <a:pt x="1831" y="65"/>
                  </a:cubicBezTo>
                  <a:cubicBezTo>
                    <a:pt x="1832" y="67"/>
                    <a:pt x="1833" y="69"/>
                    <a:pt x="1834" y="71"/>
                  </a:cubicBezTo>
                  <a:cubicBezTo>
                    <a:pt x="1834" y="71"/>
                    <a:pt x="1834" y="72"/>
                    <a:pt x="1834" y="73"/>
                  </a:cubicBezTo>
                  <a:cubicBezTo>
                    <a:pt x="1831" y="77"/>
                    <a:pt x="1828" y="81"/>
                    <a:pt x="1826" y="86"/>
                  </a:cubicBezTo>
                  <a:cubicBezTo>
                    <a:pt x="1825" y="85"/>
                    <a:pt x="1825" y="84"/>
                    <a:pt x="1824" y="83"/>
                  </a:cubicBezTo>
                  <a:cubicBezTo>
                    <a:pt x="1822" y="61"/>
                    <a:pt x="1819" y="38"/>
                    <a:pt x="1816" y="28"/>
                  </a:cubicBezTo>
                  <a:cubicBezTo>
                    <a:pt x="1816" y="28"/>
                    <a:pt x="1820" y="54"/>
                    <a:pt x="1823" y="83"/>
                  </a:cubicBezTo>
                  <a:cubicBezTo>
                    <a:pt x="1822" y="82"/>
                    <a:pt x="1821" y="81"/>
                    <a:pt x="1820" y="80"/>
                  </a:cubicBezTo>
                  <a:cubicBezTo>
                    <a:pt x="1822" y="81"/>
                    <a:pt x="1823" y="82"/>
                    <a:pt x="1824" y="84"/>
                  </a:cubicBezTo>
                  <a:cubicBezTo>
                    <a:pt x="1824" y="85"/>
                    <a:pt x="1824" y="86"/>
                    <a:pt x="1824" y="88"/>
                  </a:cubicBezTo>
                  <a:cubicBezTo>
                    <a:pt x="1824" y="86"/>
                    <a:pt x="1824" y="85"/>
                    <a:pt x="1824" y="84"/>
                  </a:cubicBezTo>
                  <a:cubicBezTo>
                    <a:pt x="1824" y="85"/>
                    <a:pt x="1825" y="86"/>
                    <a:pt x="1826" y="87"/>
                  </a:cubicBezTo>
                  <a:cubicBezTo>
                    <a:pt x="1825" y="88"/>
                    <a:pt x="1825" y="89"/>
                    <a:pt x="1824" y="90"/>
                  </a:cubicBezTo>
                  <a:cubicBezTo>
                    <a:pt x="1824" y="88"/>
                    <a:pt x="1824" y="88"/>
                    <a:pt x="1824" y="88"/>
                  </a:cubicBezTo>
                  <a:cubicBezTo>
                    <a:pt x="1824" y="88"/>
                    <a:pt x="1824" y="89"/>
                    <a:pt x="1824" y="90"/>
                  </a:cubicBezTo>
                  <a:cubicBezTo>
                    <a:pt x="1822" y="95"/>
                    <a:pt x="1821" y="100"/>
                    <a:pt x="1819" y="105"/>
                  </a:cubicBezTo>
                  <a:cubicBezTo>
                    <a:pt x="1819" y="105"/>
                    <a:pt x="1819" y="105"/>
                    <a:pt x="1819" y="105"/>
                  </a:cubicBezTo>
                  <a:cubicBezTo>
                    <a:pt x="1819" y="104"/>
                    <a:pt x="1819" y="104"/>
                    <a:pt x="1819" y="103"/>
                  </a:cubicBezTo>
                  <a:cubicBezTo>
                    <a:pt x="1819" y="104"/>
                    <a:pt x="1819" y="104"/>
                    <a:pt x="1819" y="105"/>
                  </a:cubicBezTo>
                  <a:cubicBezTo>
                    <a:pt x="1816" y="95"/>
                    <a:pt x="1814" y="87"/>
                    <a:pt x="1812" y="81"/>
                  </a:cubicBezTo>
                  <a:cubicBezTo>
                    <a:pt x="1813" y="85"/>
                    <a:pt x="1814" y="90"/>
                    <a:pt x="1815" y="95"/>
                  </a:cubicBezTo>
                  <a:cubicBezTo>
                    <a:pt x="1815" y="100"/>
                    <a:pt x="1814" y="104"/>
                    <a:pt x="1813" y="109"/>
                  </a:cubicBezTo>
                  <a:cubicBezTo>
                    <a:pt x="1814" y="104"/>
                    <a:pt x="1815" y="100"/>
                    <a:pt x="1815" y="95"/>
                  </a:cubicBezTo>
                  <a:cubicBezTo>
                    <a:pt x="1816" y="100"/>
                    <a:pt x="1817" y="105"/>
                    <a:pt x="1818" y="110"/>
                  </a:cubicBezTo>
                  <a:cubicBezTo>
                    <a:pt x="1818" y="110"/>
                    <a:pt x="1818" y="111"/>
                    <a:pt x="1818" y="111"/>
                  </a:cubicBezTo>
                  <a:cubicBezTo>
                    <a:pt x="1817" y="116"/>
                    <a:pt x="1815" y="122"/>
                    <a:pt x="1812" y="127"/>
                  </a:cubicBezTo>
                  <a:cubicBezTo>
                    <a:pt x="1812" y="125"/>
                    <a:pt x="1811" y="123"/>
                    <a:pt x="1811" y="120"/>
                  </a:cubicBezTo>
                  <a:cubicBezTo>
                    <a:pt x="1812" y="117"/>
                    <a:pt x="1813" y="113"/>
                    <a:pt x="1813" y="109"/>
                  </a:cubicBezTo>
                  <a:cubicBezTo>
                    <a:pt x="1813" y="112"/>
                    <a:pt x="1812" y="116"/>
                    <a:pt x="1811" y="119"/>
                  </a:cubicBezTo>
                  <a:cubicBezTo>
                    <a:pt x="1809" y="111"/>
                    <a:pt x="1807" y="103"/>
                    <a:pt x="1807" y="95"/>
                  </a:cubicBezTo>
                  <a:cubicBezTo>
                    <a:pt x="1807" y="96"/>
                    <a:pt x="1807" y="96"/>
                    <a:pt x="1807" y="96"/>
                  </a:cubicBezTo>
                  <a:cubicBezTo>
                    <a:pt x="1807" y="98"/>
                    <a:pt x="1807" y="98"/>
                    <a:pt x="1807" y="98"/>
                  </a:cubicBezTo>
                  <a:cubicBezTo>
                    <a:pt x="1807" y="97"/>
                    <a:pt x="1807" y="96"/>
                    <a:pt x="1807" y="95"/>
                  </a:cubicBezTo>
                  <a:cubicBezTo>
                    <a:pt x="1807" y="84"/>
                    <a:pt x="1805" y="69"/>
                    <a:pt x="1799" y="60"/>
                  </a:cubicBezTo>
                  <a:cubicBezTo>
                    <a:pt x="1803" y="70"/>
                    <a:pt x="1805" y="82"/>
                    <a:pt x="1805" y="93"/>
                  </a:cubicBezTo>
                  <a:cubicBezTo>
                    <a:pt x="1805" y="101"/>
                    <a:pt x="1803" y="109"/>
                    <a:pt x="1801" y="116"/>
                  </a:cubicBezTo>
                  <a:cubicBezTo>
                    <a:pt x="1799" y="115"/>
                    <a:pt x="1799" y="117"/>
                    <a:pt x="1800" y="120"/>
                  </a:cubicBezTo>
                  <a:cubicBezTo>
                    <a:pt x="1800" y="121"/>
                    <a:pt x="1799" y="121"/>
                    <a:pt x="1799" y="122"/>
                  </a:cubicBezTo>
                  <a:cubicBezTo>
                    <a:pt x="1798" y="119"/>
                    <a:pt x="1797" y="115"/>
                    <a:pt x="1796" y="112"/>
                  </a:cubicBezTo>
                  <a:cubicBezTo>
                    <a:pt x="1797" y="107"/>
                    <a:pt x="1797" y="103"/>
                    <a:pt x="1797" y="98"/>
                  </a:cubicBezTo>
                  <a:cubicBezTo>
                    <a:pt x="1797" y="90"/>
                    <a:pt x="1796" y="82"/>
                    <a:pt x="1794" y="74"/>
                  </a:cubicBezTo>
                  <a:cubicBezTo>
                    <a:pt x="1793" y="83"/>
                    <a:pt x="1793" y="93"/>
                    <a:pt x="1793" y="102"/>
                  </a:cubicBezTo>
                  <a:cubicBezTo>
                    <a:pt x="1790" y="94"/>
                    <a:pt x="1787" y="86"/>
                    <a:pt x="1785" y="81"/>
                  </a:cubicBezTo>
                  <a:cubicBezTo>
                    <a:pt x="1785" y="86"/>
                    <a:pt x="1785" y="86"/>
                    <a:pt x="1785" y="86"/>
                  </a:cubicBezTo>
                  <a:cubicBezTo>
                    <a:pt x="1785" y="97"/>
                    <a:pt x="1788" y="108"/>
                    <a:pt x="1792" y="118"/>
                  </a:cubicBezTo>
                  <a:cubicBezTo>
                    <a:pt x="1791" y="119"/>
                    <a:pt x="1791" y="120"/>
                    <a:pt x="1791" y="121"/>
                  </a:cubicBezTo>
                  <a:cubicBezTo>
                    <a:pt x="1791" y="123"/>
                    <a:pt x="1790" y="126"/>
                    <a:pt x="1789" y="128"/>
                  </a:cubicBezTo>
                  <a:cubicBezTo>
                    <a:pt x="1786" y="121"/>
                    <a:pt x="1784" y="113"/>
                    <a:pt x="1782" y="106"/>
                  </a:cubicBezTo>
                  <a:cubicBezTo>
                    <a:pt x="1782" y="101"/>
                    <a:pt x="1781" y="96"/>
                    <a:pt x="1780" y="92"/>
                  </a:cubicBezTo>
                  <a:cubicBezTo>
                    <a:pt x="1780" y="91"/>
                    <a:pt x="1780" y="90"/>
                    <a:pt x="1780" y="89"/>
                  </a:cubicBezTo>
                  <a:cubicBezTo>
                    <a:pt x="1780" y="90"/>
                    <a:pt x="1780" y="90"/>
                    <a:pt x="1780" y="91"/>
                  </a:cubicBezTo>
                  <a:cubicBezTo>
                    <a:pt x="1779" y="85"/>
                    <a:pt x="1777" y="79"/>
                    <a:pt x="1774" y="73"/>
                  </a:cubicBezTo>
                  <a:cubicBezTo>
                    <a:pt x="1774" y="73"/>
                    <a:pt x="1774" y="72"/>
                    <a:pt x="1774" y="71"/>
                  </a:cubicBezTo>
                  <a:cubicBezTo>
                    <a:pt x="1774" y="71"/>
                    <a:pt x="1773" y="72"/>
                    <a:pt x="1773" y="73"/>
                  </a:cubicBezTo>
                  <a:cubicBezTo>
                    <a:pt x="1773" y="72"/>
                    <a:pt x="1773" y="71"/>
                    <a:pt x="1772" y="71"/>
                  </a:cubicBezTo>
                  <a:cubicBezTo>
                    <a:pt x="1772" y="72"/>
                    <a:pt x="1773" y="73"/>
                    <a:pt x="1773" y="73"/>
                  </a:cubicBezTo>
                  <a:cubicBezTo>
                    <a:pt x="1770" y="79"/>
                    <a:pt x="1768" y="85"/>
                    <a:pt x="1766" y="91"/>
                  </a:cubicBezTo>
                  <a:cubicBezTo>
                    <a:pt x="1766" y="90"/>
                    <a:pt x="1766" y="90"/>
                    <a:pt x="1766" y="89"/>
                  </a:cubicBezTo>
                  <a:cubicBezTo>
                    <a:pt x="1766" y="90"/>
                    <a:pt x="1766" y="91"/>
                    <a:pt x="1766" y="92"/>
                  </a:cubicBezTo>
                  <a:cubicBezTo>
                    <a:pt x="1765" y="96"/>
                    <a:pt x="1765" y="101"/>
                    <a:pt x="1764" y="106"/>
                  </a:cubicBezTo>
                  <a:cubicBezTo>
                    <a:pt x="1763" y="113"/>
                    <a:pt x="1760" y="121"/>
                    <a:pt x="1757" y="128"/>
                  </a:cubicBezTo>
                  <a:cubicBezTo>
                    <a:pt x="1756" y="126"/>
                    <a:pt x="1756" y="123"/>
                    <a:pt x="1755" y="121"/>
                  </a:cubicBezTo>
                  <a:cubicBezTo>
                    <a:pt x="1755" y="120"/>
                    <a:pt x="1755" y="119"/>
                    <a:pt x="1755" y="118"/>
                  </a:cubicBezTo>
                  <a:cubicBezTo>
                    <a:pt x="1758" y="108"/>
                    <a:pt x="1761" y="97"/>
                    <a:pt x="1761" y="86"/>
                  </a:cubicBezTo>
                  <a:cubicBezTo>
                    <a:pt x="1761" y="81"/>
                    <a:pt x="1761" y="81"/>
                    <a:pt x="1761" y="81"/>
                  </a:cubicBezTo>
                  <a:cubicBezTo>
                    <a:pt x="1759" y="86"/>
                    <a:pt x="1756" y="94"/>
                    <a:pt x="1753" y="102"/>
                  </a:cubicBezTo>
                  <a:cubicBezTo>
                    <a:pt x="1753" y="93"/>
                    <a:pt x="1754" y="83"/>
                    <a:pt x="1752" y="74"/>
                  </a:cubicBezTo>
                  <a:cubicBezTo>
                    <a:pt x="1750" y="82"/>
                    <a:pt x="1749" y="90"/>
                    <a:pt x="1749" y="98"/>
                  </a:cubicBezTo>
                  <a:cubicBezTo>
                    <a:pt x="1749" y="103"/>
                    <a:pt x="1750" y="107"/>
                    <a:pt x="1750" y="112"/>
                  </a:cubicBezTo>
                  <a:cubicBezTo>
                    <a:pt x="1749" y="115"/>
                    <a:pt x="1748" y="119"/>
                    <a:pt x="1747" y="122"/>
                  </a:cubicBezTo>
                  <a:cubicBezTo>
                    <a:pt x="1744" y="112"/>
                    <a:pt x="1741" y="103"/>
                    <a:pt x="1741" y="93"/>
                  </a:cubicBezTo>
                  <a:cubicBezTo>
                    <a:pt x="1741" y="82"/>
                    <a:pt x="1743" y="70"/>
                    <a:pt x="1747" y="60"/>
                  </a:cubicBezTo>
                  <a:cubicBezTo>
                    <a:pt x="1742" y="69"/>
                    <a:pt x="1740" y="84"/>
                    <a:pt x="1740" y="95"/>
                  </a:cubicBezTo>
                  <a:cubicBezTo>
                    <a:pt x="1740" y="96"/>
                    <a:pt x="1740" y="97"/>
                    <a:pt x="1740" y="98"/>
                  </a:cubicBezTo>
                  <a:cubicBezTo>
                    <a:pt x="1739" y="96"/>
                    <a:pt x="1739" y="96"/>
                    <a:pt x="1739" y="96"/>
                  </a:cubicBezTo>
                  <a:cubicBezTo>
                    <a:pt x="1739" y="95"/>
                    <a:pt x="1739" y="95"/>
                    <a:pt x="1739" y="95"/>
                  </a:cubicBezTo>
                  <a:cubicBezTo>
                    <a:pt x="1739" y="103"/>
                    <a:pt x="1738" y="111"/>
                    <a:pt x="1736" y="119"/>
                  </a:cubicBezTo>
                  <a:cubicBezTo>
                    <a:pt x="1735" y="116"/>
                    <a:pt x="1734" y="112"/>
                    <a:pt x="1733" y="109"/>
                  </a:cubicBezTo>
                  <a:cubicBezTo>
                    <a:pt x="1734" y="113"/>
                    <a:pt x="1735" y="117"/>
                    <a:pt x="1735" y="120"/>
                  </a:cubicBezTo>
                  <a:cubicBezTo>
                    <a:pt x="1735" y="123"/>
                    <a:pt x="1734" y="125"/>
                    <a:pt x="1734" y="127"/>
                  </a:cubicBezTo>
                  <a:cubicBezTo>
                    <a:pt x="1732" y="122"/>
                    <a:pt x="1730" y="116"/>
                    <a:pt x="1728" y="111"/>
                  </a:cubicBezTo>
                  <a:cubicBezTo>
                    <a:pt x="1728" y="109"/>
                    <a:pt x="1728" y="108"/>
                    <a:pt x="1727" y="107"/>
                  </a:cubicBezTo>
                  <a:cubicBezTo>
                    <a:pt x="1727" y="106"/>
                    <a:pt x="1727" y="104"/>
                    <a:pt x="1727" y="103"/>
                  </a:cubicBezTo>
                  <a:cubicBezTo>
                    <a:pt x="1727" y="104"/>
                    <a:pt x="1727" y="105"/>
                    <a:pt x="1727" y="105"/>
                  </a:cubicBezTo>
                  <a:cubicBezTo>
                    <a:pt x="1726" y="99"/>
                    <a:pt x="1724" y="93"/>
                    <a:pt x="1721" y="87"/>
                  </a:cubicBezTo>
                  <a:cubicBezTo>
                    <a:pt x="1722" y="84"/>
                    <a:pt x="1724" y="82"/>
                    <a:pt x="1726" y="80"/>
                  </a:cubicBezTo>
                  <a:cubicBezTo>
                    <a:pt x="1724" y="82"/>
                    <a:pt x="1722" y="84"/>
                    <a:pt x="1720" y="86"/>
                  </a:cubicBezTo>
                  <a:cubicBezTo>
                    <a:pt x="1718" y="81"/>
                    <a:pt x="1715" y="77"/>
                    <a:pt x="1712" y="73"/>
                  </a:cubicBezTo>
                  <a:cubicBezTo>
                    <a:pt x="1715" y="77"/>
                    <a:pt x="1717" y="83"/>
                    <a:pt x="1718" y="90"/>
                  </a:cubicBezTo>
                  <a:cubicBezTo>
                    <a:pt x="1716" y="94"/>
                    <a:pt x="1714" y="99"/>
                    <a:pt x="1714" y="103"/>
                  </a:cubicBezTo>
                  <a:cubicBezTo>
                    <a:pt x="1712" y="97"/>
                    <a:pt x="1710" y="91"/>
                    <a:pt x="1708" y="85"/>
                  </a:cubicBezTo>
                  <a:cubicBezTo>
                    <a:pt x="1710" y="91"/>
                    <a:pt x="1710" y="97"/>
                    <a:pt x="1710" y="103"/>
                  </a:cubicBezTo>
                  <a:cubicBezTo>
                    <a:pt x="1710" y="108"/>
                    <a:pt x="1709" y="114"/>
                    <a:pt x="1709" y="119"/>
                  </a:cubicBezTo>
                  <a:cubicBezTo>
                    <a:pt x="1707" y="111"/>
                    <a:pt x="1706" y="104"/>
                    <a:pt x="1706" y="96"/>
                  </a:cubicBezTo>
                  <a:cubicBezTo>
                    <a:pt x="1706" y="87"/>
                    <a:pt x="1710" y="73"/>
                    <a:pt x="1715" y="65"/>
                  </a:cubicBezTo>
                  <a:cubicBezTo>
                    <a:pt x="1706" y="76"/>
                    <a:pt x="1702" y="96"/>
                    <a:pt x="1702" y="108"/>
                  </a:cubicBezTo>
                  <a:cubicBezTo>
                    <a:pt x="1702" y="119"/>
                    <a:pt x="1705" y="130"/>
                    <a:pt x="1705" y="141"/>
                  </a:cubicBezTo>
                  <a:cubicBezTo>
                    <a:pt x="1705" y="146"/>
                    <a:pt x="1705" y="150"/>
                    <a:pt x="1704" y="154"/>
                  </a:cubicBezTo>
                  <a:cubicBezTo>
                    <a:pt x="1698" y="135"/>
                    <a:pt x="1703" y="113"/>
                    <a:pt x="1699" y="93"/>
                  </a:cubicBezTo>
                  <a:cubicBezTo>
                    <a:pt x="1696" y="79"/>
                    <a:pt x="1691" y="64"/>
                    <a:pt x="1685" y="51"/>
                  </a:cubicBezTo>
                  <a:cubicBezTo>
                    <a:pt x="1684" y="52"/>
                    <a:pt x="1684" y="54"/>
                    <a:pt x="1684" y="55"/>
                  </a:cubicBezTo>
                  <a:cubicBezTo>
                    <a:pt x="1691" y="76"/>
                    <a:pt x="1693" y="92"/>
                    <a:pt x="1694" y="105"/>
                  </a:cubicBezTo>
                  <a:cubicBezTo>
                    <a:pt x="1693" y="109"/>
                    <a:pt x="1692" y="114"/>
                    <a:pt x="1692" y="118"/>
                  </a:cubicBezTo>
                  <a:cubicBezTo>
                    <a:pt x="1690" y="101"/>
                    <a:pt x="1686" y="82"/>
                    <a:pt x="1677" y="75"/>
                  </a:cubicBezTo>
                  <a:cubicBezTo>
                    <a:pt x="1683" y="83"/>
                    <a:pt x="1685" y="97"/>
                    <a:pt x="1685" y="106"/>
                  </a:cubicBezTo>
                  <a:cubicBezTo>
                    <a:pt x="1685" y="106"/>
                    <a:pt x="1685" y="107"/>
                    <a:pt x="1685" y="107"/>
                  </a:cubicBezTo>
                  <a:cubicBezTo>
                    <a:pt x="1684" y="104"/>
                    <a:pt x="1683" y="101"/>
                    <a:pt x="1683" y="98"/>
                  </a:cubicBezTo>
                  <a:cubicBezTo>
                    <a:pt x="1683" y="105"/>
                    <a:pt x="1683" y="111"/>
                    <a:pt x="1684" y="118"/>
                  </a:cubicBezTo>
                  <a:cubicBezTo>
                    <a:pt x="1684" y="122"/>
                    <a:pt x="1683" y="126"/>
                    <a:pt x="1682" y="130"/>
                  </a:cubicBezTo>
                  <a:cubicBezTo>
                    <a:pt x="1681" y="124"/>
                    <a:pt x="1679" y="118"/>
                    <a:pt x="1678" y="113"/>
                  </a:cubicBezTo>
                  <a:cubicBezTo>
                    <a:pt x="1679" y="121"/>
                    <a:pt x="1681" y="128"/>
                    <a:pt x="1681" y="136"/>
                  </a:cubicBezTo>
                  <a:cubicBezTo>
                    <a:pt x="1680" y="140"/>
                    <a:pt x="1679" y="144"/>
                    <a:pt x="1679" y="148"/>
                  </a:cubicBezTo>
                  <a:cubicBezTo>
                    <a:pt x="1679" y="147"/>
                    <a:pt x="1678" y="147"/>
                    <a:pt x="1678" y="146"/>
                  </a:cubicBezTo>
                  <a:cubicBezTo>
                    <a:pt x="1679" y="129"/>
                    <a:pt x="1676" y="106"/>
                    <a:pt x="1669" y="91"/>
                  </a:cubicBezTo>
                  <a:cubicBezTo>
                    <a:pt x="1670" y="88"/>
                    <a:pt x="1670" y="85"/>
                    <a:pt x="1672" y="83"/>
                  </a:cubicBezTo>
                  <a:cubicBezTo>
                    <a:pt x="1670" y="85"/>
                    <a:pt x="1669" y="88"/>
                    <a:pt x="1668" y="90"/>
                  </a:cubicBezTo>
                  <a:cubicBezTo>
                    <a:pt x="1668" y="88"/>
                    <a:pt x="1667" y="87"/>
                    <a:pt x="1666" y="85"/>
                  </a:cubicBezTo>
                  <a:cubicBezTo>
                    <a:pt x="1667" y="87"/>
                    <a:pt x="1668" y="89"/>
                    <a:pt x="1668" y="91"/>
                  </a:cubicBezTo>
                  <a:cubicBezTo>
                    <a:pt x="1667" y="95"/>
                    <a:pt x="1666" y="98"/>
                    <a:pt x="1665" y="101"/>
                  </a:cubicBezTo>
                  <a:cubicBezTo>
                    <a:pt x="1664" y="94"/>
                    <a:pt x="1662" y="87"/>
                    <a:pt x="1659" y="79"/>
                  </a:cubicBezTo>
                  <a:cubicBezTo>
                    <a:pt x="1659" y="78"/>
                    <a:pt x="1659" y="76"/>
                    <a:pt x="1659" y="75"/>
                  </a:cubicBezTo>
                  <a:cubicBezTo>
                    <a:pt x="1659" y="76"/>
                    <a:pt x="1659" y="77"/>
                    <a:pt x="1658" y="78"/>
                  </a:cubicBezTo>
                  <a:cubicBezTo>
                    <a:pt x="1656" y="71"/>
                    <a:pt x="1653" y="64"/>
                    <a:pt x="1648" y="56"/>
                  </a:cubicBezTo>
                  <a:cubicBezTo>
                    <a:pt x="1648" y="66"/>
                    <a:pt x="1652" y="78"/>
                    <a:pt x="1655" y="90"/>
                  </a:cubicBezTo>
                  <a:cubicBezTo>
                    <a:pt x="1653" y="99"/>
                    <a:pt x="1653" y="108"/>
                    <a:pt x="1652" y="117"/>
                  </a:cubicBezTo>
                  <a:cubicBezTo>
                    <a:pt x="1651" y="112"/>
                    <a:pt x="1649" y="107"/>
                    <a:pt x="1648" y="103"/>
                  </a:cubicBezTo>
                  <a:cubicBezTo>
                    <a:pt x="1650" y="109"/>
                    <a:pt x="1648" y="132"/>
                    <a:pt x="1648" y="140"/>
                  </a:cubicBezTo>
                  <a:cubicBezTo>
                    <a:pt x="1648" y="144"/>
                    <a:pt x="1648" y="147"/>
                    <a:pt x="1648" y="151"/>
                  </a:cubicBezTo>
                  <a:cubicBezTo>
                    <a:pt x="1648" y="151"/>
                    <a:pt x="1648" y="151"/>
                    <a:pt x="1648" y="151"/>
                  </a:cubicBezTo>
                  <a:cubicBezTo>
                    <a:pt x="1648" y="144"/>
                    <a:pt x="1647" y="137"/>
                    <a:pt x="1645" y="129"/>
                  </a:cubicBezTo>
                  <a:cubicBezTo>
                    <a:pt x="1643" y="119"/>
                    <a:pt x="1642" y="110"/>
                    <a:pt x="1643" y="100"/>
                  </a:cubicBezTo>
                  <a:cubicBezTo>
                    <a:pt x="1642" y="107"/>
                    <a:pt x="1642" y="113"/>
                    <a:pt x="1642" y="119"/>
                  </a:cubicBezTo>
                  <a:cubicBezTo>
                    <a:pt x="1640" y="114"/>
                    <a:pt x="1638" y="108"/>
                    <a:pt x="1636" y="103"/>
                  </a:cubicBezTo>
                  <a:cubicBezTo>
                    <a:pt x="1636" y="99"/>
                    <a:pt x="1637" y="95"/>
                    <a:pt x="1639" y="90"/>
                  </a:cubicBezTo>
                  <a:cubicBezTo>
                    <a:pt x="1637" y="94"/>
                    <a:pt x="1636" y="98"/>
                    <a:pt x="1635" y="102"/>
                  </a:cubicBezTo>
                  <a:cubicBezTo>
                    <a:pt x="1632" y="97"/>
                    <a:pt x="1630" y="93"/>
                    <a:pt x="1627" y="89"/>
                  </a:cubicBezTo>
                  <a:cubicBezTo>
                    <a:pt x="1630" y="93"/>
                    <a:pt x="1630" y="99"/>
                    <a:pt x="1630" y="103"/>
                  </a:cubicBezTo>
                  <a:cubicBezTo>
                    <a:pt x="1630" y="104"/>
                    <a:pt x="1631" y="109"/>
                    <a:pt x="1631" y="115"/>
                  </a:cubicBezTo>
                  <a:cubicBezTo>
                    <a:pt x="1630" y="120"/>
                    <a:pt x="1630" y="124"/>
                    <a:pt x="1629" y="129"/>
                  </a:cubicBezTo>
                  <a:cubicBezTo>
                    <a:pt x="1628" y="125"/>
                    <a:pt x="1627" y="122"/>
                    <a:pt x="1627" y="119"/>
                  </a:cubicBezTo>
                  <a:cubicBezTo>
                    <a:pt x="1627" y="115"/>
                    <a:pt x="1627" y="108"/>
                    <a:pt x="1626" y="105"/>
                  </a:cubicBezTo>
                  <a:cubicBezTo>
                    <a:pt x="1625" y="108"/>
                    <a:pt x="1625" y="110"/>
                    <a:pt x="1625" y="113"/>
                  </a:cubicBezTo>
                  <a:cubicBezTo>
                    <a:pt x="1624" y="109"/>
                    <a:pt x="1623" y="106"/>
                    <a:pt x="1623" y="103"/>
                  </a:cubicBezTo>
                  <a:cubicBezTo>
                    <a:pt x="1624" y="97"/>
                    <a:pt x="1625" y="90"/>
                    <a:pt x="1628" y="84"/>
                  </a:cubicBezTo>
                  <a:cubicBezTo>
                    <a:pt x="1625" y="90"/>
                    <a:pt x="1623" y="95"/>
                    <a:pt x="1622" y="101"/>
                  </a:cubicBezTo>
                  <a:cubicBezTo>
                    <a:pt x="1617" y="86"/>
                    <a:pt x="1614" y="83"/>
                    <a:pt x="1609" y="78"/>
                  </a:cubicBezTo>
                  <a:cubicBezTo>
                    <a:pt x="1616" y="84"/>
                    <a:pt x="1619" y="97"/>
                    <a:pt x="1620" y="107"/>
                  </a:cubicBezTo>
                  <a:cubicBezTo>
                    <a:pt x="1619" y="114"/>
                    <a:pt x="1617" y="120"/>
                    <a:pt x="1616" y="126"/>
                  </a:cubicBezTo>
                  <a:cubicBezTo>
                    <a:pt x="1615" y="121"/>
                    <a:pt x="1614" y="115"/>
                    <a:pt x="1612" y="109"/>
                  </a:cubicBezTo>
                  <a:cubicBezTo>
                    <a:pt x="1613" y="106"/>
                    <a:pt x="1613" y="103"/>
                    <a:pt x="1614" y="100"/>
                  </a:cubicBezTo>
                  <a:cubicBezTo>
                    <a:pt x="1613" y="102"/>
                    <a:pt x="1613" y="104"/>
                    <a:pt x="1612" y="108"/>
                  </a:cubicBezTo>
                  <a:cubicBezTo>
                    <a:pt x="1611" y="106"/>
                    <a:pt x="1610" y="103"/>
                    <a:pt x="1610" y="101"/>
                  </a:cubicBezTo>
                  <a:cubicBezTo>
                    <a:pt x="1610" y="100"/>
                    <a:pt x="1610" y="99"/>
                    <a:pt x="1611" y="98"/>
                  </a:cubicBezTo>
                  <a:cubicBezTo>
                    <a:pt x="1610" y="99"/>
                    <a:pt x="1610" y="100"/>
                    <a:pt x="1610" y="101"/>
                  </a:cubicBezTo>
                  <a:cubicBezTo>
                    <a:pt x="1607" y="94"/>
                    <a:pt x="1604" y="87"/>
                    <a:pt x="1600" y="81"/>
                  </a:cubicBezTo>
                  <a:cubicBezTo>
                    <a:pt x="1604" y="88"/>
                    <a:pt x="1605" y="99"/>
                    <a:pt x="1605" y="106"/>
                  </a:cubicBezTo>
                  <a:cubicBezTo>
                    <a:pt x="1605" y="111"/>
                    <a:pt x="1604" y="115"/>
                    <a:pt x="1604" y="120"/>
                  </a:cubicBezTo>
                  <a:cubicBezTo>
                    <a:pt x="1602" y="126"/>
                    <a:pt x="1600" y="133"/>
                    <a:pt x="1599" y="139"/>
                  </a:cubicBezTo>
                  <a:cubicBezTo>
                    <a:pt x="1599" y="137"/>
                    <a:pt x="1599" y="136"/>
                    <a:pt x="1599" y="135"/>
                  </a:cubicBezTo>
                  <a:cubicBezTo>
                    <a:pt x="1600" y="127"/>
                    <a:pt x="1600" y="120"/>
                    <a:pt x="1601" y="113"/>
                  </a:cubicBezTo>
                  <a:cubicBezTo>
                    <a:pt x="1600" y="117"/>
                    <a:pt x="1600" y="123"/>
                    <a:pt x="1599" y="129"/>
                  </a:cubicBezTo>
                  <a:cubicBezTo>
                    <a:pt x="1599" y="120"/>
                    <a:pt x="1599" y="111"/>
                    <a:pt x="1597" y="103"/>
                  </a:cubicBezTo>
                  <a:cubicBezTo>
                    <a:pt x="1598" y="101"/>
                    <a:pt x="1599" y="100"/>
                    <a:pt x="1599" y="99"/>
                  </a:cubicBezTo>
                  <a:cubicBezTo>
                    <a:pt x="1599" y="100"/>
                    <a:pt x="1598" y="101"/>
                    <a:pt x="1597" y="102"/>
                  </a:cubicBezTo>
                  <a:cubicBezTo>
                    <a:pt x="1595" y="88"/>
                    <a:pt x="1591" y="75"/>
                    <a:pt x="1582" y="60"/>
                  </a:cubicBezTo>
                  <a:cubicBezTo>
                    <a:pt x="1582" y="61"/>
                    <a:pt x="1582" y="61"/>
                    <a:pt x="1582" y="61"/>
                  </a:cubicBezTo>
                  <a:cubicBezTo>
                    <a:pt x="1582" y="76"/>
                    <a:pt x="1592" y="94"/>
                    <a:pt x="1592" y="111"/>
                  </a:cubicBezTo>
                  <a:cubicBezTo>
                    <a:pt x="1591" y="115"/>
                    <a:pt x="1590" y="120"/>
                    <a:pt x="1589" y="125"/>
                  </a:cubicBezTo>
                  <a:cubicBezTo>
                    <a:pt x="1585" y="109"/>
                    <a:pt x="1578" y="94"/>
                    <a:pt x="1567" y="83"/>
                  </a:cubicBezTo>
                  <a:cubicBezTo>
                    <a:pt x="1574" y="90"/>
                    <a:pt x="1578" y="101"/>
                    <a:pt x="1580" y="111"/>
                  </a:cubicBezTo>
                  <a:cubicBezTo>
                    <a:pt x="1579" y="111"/>
                    <a:pt x="1579" y="110"/>
                    <a:pt x="1579" y="109"/>
                  </a:cubicBezTo>
                  <a:cubicBezTo>
                    <a:pt x="1579" y="117"/>
                    <a:pt x="1580" y="126"/>
                    <a:pt x="1580" y="134"/>
                  </a:cubicBezTo>
                  <a:cubicBezTo>
                    <a:pt x="1580" y="136"/>
                    <a:pt x="1580" y="138"/>
                    <a:pt x="1580" y="140"/>
                  </a:cubicBezTo>
                  <a:cubicBezTo>
                    <a:pt x="1577" y="127"/>
                    <a:pt x="1576" y="113"/>
                    <a:pt x="1572" y="100"/>
                  </a:cubicBezTo>
                  <a:cubicBezTo>
                    <a:pt x="1574" y="109"/>
                    <a:pt x="1574" y="123"/>
                    <a:pt x="1574" y="135"/>
                  </a:cubicBezTo>
                  <a:cubicBezTo>
                    <a:pt x="1575" y="138"/>
                    <a:pt x="1575" y="141"/>
                    <a:pt x="1575" y="144"/>
                  </a:cubicBezTo>
                  <a:cubicBezTo>
                    <a:pt x="1575" y="143"/>
                    <a:pt x="1575" y="142"/>
                    <a:pt x="1575" y="142"/>
                  </a:cubicBezTo>
                  <a:cubicBezTo>
                    <a:pt x="1574" y="139"/>
                    <a:pt x="1574" y="137"/>
                    <a:pt x="1574" y="135"/>
                  </a:cubicBezTo>
                  <a:cubicBezTo>
                    <a:pt x="1574" y="130"/>
                    <a:pt x="1573" y="125"/>
                    <a:pt x="1572" y="120"/>
                  </a:cubicBezTo>
                  <a:cubicBezTo>
                    <a:pt x="1572" y="119"/>
                    <a:pt x="1572" y="119"/>
                    <a:pt x="1572" y="118"/>
                  </a:cubicBezTo>
                  <a:cubicBezTo>
                    <a:pt x="1572" y="119"/>
                    <a:pt x="1572" y="119"/>
                    <a:pt x="1572" y="120"/>
                  </a:cubicBezTo>
                  <a:cubicBezTo>
                    <a:pt x="1571" y="116"/>
                    <a:pt x="1569" y="112"/>
                    <a:pt x="1568" y="108"/>
                  </a:cubicBezTo>
                  <a:cubicBezTo>
                    <a:pt x="1569" y="106"/>
                    <a:pt x="1569" y="105"/>
                    <a:pt x="1570" y="103"/>
                  </a:cubicBezTo>
                  <a:cubicBezTo>
                    <a:pt x="1569" y="105"/>
                    <a:pt x="1568" y="106"/>
                    <a:pt x="1568" y="107"/>
                  </a:cubicBezTo>
                  <a:cubicBezTo>
                    <a:pt x="1561" y="91"/>
                    <a:pt x="1551" y="76"/>
                    <a:pt x="1534" y="63"/>
                  </a:cubicBezTo>
                  <a:cubicBezTo>
                    <a:pt x="1540" y="68"/>
                    <a:pt x="1544" y="74"/>
                    <a:pt x="1548" y="79"/>
                  </a:cubicBezTo>
                  <a:cubicBezTo>
                    <a:pt x="1547" y="81"/>
                    <a:pt x="1545" y="85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0" y="94"/>
                    <a:pt x="1538" y="98"/>
                    <a:pt x="1536" y="103"/>
                  </a:cubicBezTo>
                  <a:cubicBezTo>
                    <a:pt x="1535" y="100"/>
                    <a:pt x="1535" y="98"/>
                    <a:pt x="1534" y="96"/>
                  </a:cubicBezTo>
                  <a:cubicBezTo>
                    <a:pt x="1534" y="99"/>
                    <a:pt x="1535" y="103"/>
                    <a:pt x="1535" y="106"/>
                  </a:cubicBezTo>
                  <a:cubicBezTo>
                    <a:pt x="1534" y="108"/>
                    <a:pt x="1533" y="111"/>
                    <a:pt x="1532" y="113"/>
                  </a:cubicBezTo>
                  <a:cubicBezTo>
                    <a:pt x="1531" y="111"/>
                    <a:pt x="1531" y="109"/>
                    <a:pt x="1530" y="107"/>
                  </a:cubicBezTo>
                  <a:cubicBezTo>
                    <a:pt x="1531" y="100"/>
                    <a:pt x="1532" y="93"/>
                    <a:pt x="1532" y="88"/>
                  </a:cubicBezTo>
                  <a:cubicBezTo>
                    <a:pt x="1532" y="87"/>
                    <a:pt x="1532" y="87"/>
                    <a:pt x="1532" y="87"/>
                  </a:cubicBezTo>
                  <a:cubicBezTo>
                    <a:pt x="1530" y="92"/>
                    <a:pt x="1529" y="97"/>
                    <a:pt x="1528" y="102"/>
                  </a:cubicBezTo>
                  <a:cubicBezTo>
                    <a:pt x="1525" y="96"/>
                    <a:pt x="1523" y="90"/>
                    <a:pt x="1520" y="84"/>
                  </a:cubicBezTo>
                  <a:cubicBezTo>
                    <a:pt x="1523" y="90"/>
                    <a:pt x="1525" y="97"/>
                    <a:pt x="1527" y="104"/>
                  </a:cubicBezTo>
                  <a:cubicBezTo>
                    <a:pt x="1526" y="108"/>
                    <a:pt x="1526" y="111"/>
                    <a:pt x="1525" y="115"/>
                  </a:cubicBezTo>
                  <a:cubicBezTo>
                    <a:pt x="1523" y="110"/>
                    <a:pt x="1521" y="106"/>
                    <a:pt x="1519" y="102"/>
                  </a:cubicBezTo>
                  <a:cubicBezTo>
                    <a:pt x="1521" y="107"/>
                    <a:pt x="1522" y="114"/>
                    <a:pt x="1523" y="121"/>
                  </a:cubicBezTo>
                  <a:cubicBezTo>
                    <a:pt x="1522" y="126"/>
                    <a:pt x="1520" y="131"/>
                    <a:pt x="1519" y="135"/>
                  </a:cubicBezTo>
                  <a:cubicBezTo>
                    <a:pt x="1517" y="132"/>
                    <a:pt x="1516" y="129"/>
                    <a:pt x="1515" y="125"/>
                  </a:cubicBezTo>
                  <a:cubicBezTo>
                    <a:pt x="1516" y="118"/>
                    <a:pt x="1517" y="111"/>
                    <a:pt x="1518" y="104"/>
                  </a:cubicBezTo>
                  <a:cubicBezTo>
                    <a:pt x="1517" y="109"/>
                    <a:pt x="1515" y="114"/>
                    <a:pt x="1513" y="120"/>
                  </a:cubicBezTo>
                  <a:cubicBezTo>
                    <a:pt x="1512" y="115"/>
                    <a:pt x="1511" y="111"/>
                    <a:pt x="1510" y="107"/>
                  </a:cubicBezTo>
                  <a:cubicBezTo>
                    <a:pt x="1510" y="103"/>
                    <a:pt x="1511" y="98"/>
                    <a:pt x="1511" y="94"/>
                  </a:cubicBezTo>
                  <a:cubicBezTo>
                    <a:pt x="1511" y="91"/>
                    <a:pt x="1510" y="88"/>
                    <a:pt x="1510" y="85"/>
                  </a:cubicBezTo>
                  <a:cubicBezTo>
                    <a:pt x="1509" y="89"/>
                    <a:pt x="1508" y="93"/>
                    <a:pt x="1507" y="99"/>
                  </a:cubicBezTo>
                  <a:cubicBezTo>
                    <a:pt x="1504" y="91"/>
                    <a:pt x="1500" y="84"/>
                    <a:pt x="1495" y="77"/>
                  </a:cubicBezTo>
                  <a:cubicBezTo>
                    <a:pt x="1498" y="86"/>
                    <a:pt x="1502" y="95"/>
                    <a:pt x="1505" y="104"/>
                  </a:cubicBezTo>
                  <a:cubicBezTo>
                    <a:pt x="1505" y="106"/>
                    <a:pt x="1505" y="107"/>
                    <a:pt x="1505" y="109"/>
                  </a:cubicBezTo>
                  <a:cubicBezTo>
                    <a:pt x="1504" y="107"/>
                    <a:pt x="1503" y="105"/>
                    <a:pt x="1502" y="103"/>
                  </a:cubicBezTo>
                  <a:cubicBezTo>
                    <a:pt x="1502" y="103"/>
                    <a:pt x="1502" y="102"/>
                    <a:pt x="1502" y="102"/>
                  </a:cubicBezTo>
                  <a:cubicBezTo>
                    <a:pt x="1502" y="102"/>
                    <a:pt x="1502" y="103"/>
                    <a:pt x="1502" y="103"/>
                  </a:cubicBezTo>
                  <a:cubicBezTo>
                    <a:pt x="1497" y="94"/>
                    <a:pt x="1492" y="86"/>
                    <a:pt x="1485" y="79"/>
                  </a:cubicBezTo>
                  <a:cubicBezTo>
                    <a:pt x="1487" y="75"/>
                    <a:pt x="1489" y="71"/>
                    <a:pt x="1491" y="68"/>
                  </a:cubicBezTo>
                  <a:cubicBezTo>
                    <a:pt x="1489" y="69"/>
                    <a:pt x="1486" y="73"/>
                    <a:pt x="1484" y="77"/>
                  </a:cubicBezTo>
                  <a:cubicBezTo>
                    <a:pt x="1480" y="73"/>
                    <a:pt x="1476" y="69"/>
                    <a:pt x="1471" y="65"/>
                  </a:cubicBezTo>
                  <a:cubicBezTo>
                    <a:pt x="1476" y="70"/>
                    <a:pt x="1480" y="75"/>
                    <a:pt x="1483" y="79"/>
                  </a:cubicBezTo>
                  <a:cubicBezTo>
                    <a:pt x="1480" y="86"/>
                    <a:pt x="1477" y="96"/>
                    <a:pt x="1474" y="105"/>
                  </a:cubicBezTo>
                  <a:cubicBezTo>
                    <a:pt x="1471" y="99"/>
                    <a:pt x="1467" y="94"/>
                    <a:pt x="1464" y="88"/>
                  </a:cubicBezTo>
                  <a:cubicBezTo>
                    <a:pt x="1464" y="87"/>
                    <a:pt x="1464" y="86"/>
                    <a:pt x="1465" y="85"/>
                  </a:cubicBezTo>
                  <a:cubicBezTo>
                    <a:pt x="1464" y="86"/>
                    <a:pt x="1464" y="87"/>
                    <a:pt x="1464" y="88"/>
                  </a:cubicBezTo>
                  <a:cubicBezTo>
                    <a:pt x="1463" y="87"/>
                    <a:pt x="1462" y="86"/>
                    <a:pt x="1461" y="85"/>
                  </a:cubicBezTo>
                  <a:cubicBezTo>
                    <a:pt x="1462" y="86"/>
                    <a:pt x="1463" y="87"/>
                    <a:pt x="1463" y="88"/>
                  </a:cubicBezTo>
                  <a:cubicBezTo>
                    <a:pt x="1462" y="91"/>
                    <a:pt x="1461" y="93"/>
                    <a:pt x="1460" y="95"/>
                  </a:cubicBezTo>
                  <a:cubicBezTo>
                    <a:pt x="1459" y="94"/>
                    <a:pt x="1459" y="92"/>
                    <a:pt x="1458" y="91"/>
                  </a:cubicBezTo>
                  <a:cubicBezTo>
                    <a:pt x="1459" y="92"/>
                    <a:pt x="1459" y="94"/>
                    <a:pt x="1460" y="95"/>
                  </a:cubicBezTo>
                  <a:cubicBezTo>
                    <a:pt x="1456" y="103"/>
                    <a:pt x="1453" y="112"/>
                    <a:pt x="1451" y="121"/>
                  </a:cubicBezTo>
                  <a:cubicBezTo>
                    <a:pt x="1450" y="112"/>
                    <a:pt x="1449" y="103"/>
                    <a:pt x="1449" y="97"/>
                  </a:cubicBezTo>
                  <a:cubicBezTo>
                    <a:pt x="1447" y="100"/>
                    <a:pt x="1446" y="105"/>
                    <a:pt x="1445" y="110"/>
                  </a:cubicBezTo>
                  <a:cubicBezTo>
                    <a:pt x="1445" y="92"/>
                    <a:pt x="1444" y="61"/>
                    <a:pt x="1442" y="57"/>
                  </a:cubicBezTo>
                  <a:cubicBezTo>
                    <a:pt x="1441" y="79"/>
                    <a:pt x="1442" y="100"/>
                    <a:pt x="1442" y="122"/>
                  </a:cubicBezTo>
                  <a:cubicBezTo>
                    <a:pt x="1442" y="123"/>
                    <a:pt x="1442" y="124"/>
                    <a:pt x="1442" y="125"/>
                  </a:cubicBezTo>
                  <a:cubicBezTo>
                    <a:pt x="1440" y="114"/>
                    <a:pt x="1436" y="103"/>
                    <a:pt x="1431" y="94"/>
                  </a:cubicBezTo>
                  <a:cubicBezTo>
                    <a:pt x="1430" y="89"/>
                    <a:pt x="1430" y="84"/>
                    <a:pt x="1431" y="80"/>
                  </a:cubicBezTo>
                  <a:cubicBezTo>
                    <a:pt x="1430" y="83"/>
                    <a:pt x="1429" y="87"/>
                    <a:pt x="1428" y="90"/>
                  </a:cubicBezTo>
                  <a:cubicBezTo>
                    <a:pt x="1426" y="88"/>
                    <a:pt x="1424" y="85"/>
                    <a:pt x="1422" y="83"/>
                  </a:cubicBezTo>
                  <a:cubicBezTo>
                    <a:pt x="1424" y="86"/>
                    <a:pt x="1426" y="89"/>
                    <a:pt x="1428" y="92"/>
                  </a:cubicBezTo>
                  <a:cubicBezTo>
                    <a:pt x="1427" y="96"/>
                    <a:pt x="1426" y="100"/>
                    <a:pt x="1426" y="103"/>
                  </a:cubicBezTo>
                  <a:cubicBezTo>
                    <a:pt x="1425" y="102"/>
                    <a:pt x="1425" y="101"/>
                    <a:pt x="1425" y="100"/>
                  </a:cubicBezTo>
                  <a:cubicBezTo>
                    <a:pt x="1425" y="101"/>
                    <a:pt x="1425" y="102"/>
                    <a:pt x="1426" y="104"/>
                  </a:cubicBezTo>
                  <a:cubicBezTo>
                    <a:pt x="1425" y="106"/>
                    <a:pt x="1425" y="109"/>
                    <a:pt x="1424" y="111"/>
                  </a:cubicBezTo>
                  <a:cubicBezTo>
                    <a:pt x="1422" y="107"/>
                    <a:pt x="1421" y="103"/>
                    <a:pt x="1419" y="99"/>
                  </a:cubicBezTo>
                  <a:cubicBezTo>
                    <a:pt x="1418" y="91"/>
                    <a:pt x="1418" y="82"/>
                    <a:pt x="1419" y="74"/>
                  </a:cubicBezTo>
                  <a:cubicBezTo>
                    <a:pt x="1418" y="80"/>
                    <a:pt x="1416" y="86"/>
                    <a:pt x="1415" y="92"/>
                  </a:cubicBezTo>
                  <a:cubicBezTo>
                    <a:pt x="1414" y="91"/>
                    <a:pt x="1413" y="89"/>
                    <a:pt x="1412" y="88"/>
                  </a:cubicBezTo>
                  <a:cubicBezTo>
                    <a:pt x="1413" y="89"/>
                    <a:pt x="1414" y="91"/>
                    <a:pt x="1415" y="93"/>
                  </a:cubicBezTo>
                  <a:cubicBezTo>
                    <a:pt x="1414" y="95"/>
                    <a:pt x="1414" y="97"/>
                    <a:pt x="1414" y="98"/>
                  </a:cubicBezTo>
                  <a:cubicBezTo>
                    <a:pt x="1411" y="93"/>
                    <a:pt x="1409" y="88"/>
                    <a:pt x="1405" y="84"/>
                  </a:cubicBezTo>
                  <a:cubicBezTo>
                    <a:pt x="1408" y="88"/>
                    <a:pt x="1410" y="95"/>
                    <a:pt x="1413" y="103"/>
                  </a:cubicBezTo>
                  <a:cubicBezTo>
                    <a:pt x="1412" y="106"/>
                    <a:pt x="1411" y="110"/>
                    <a:pt x="1411" y="113"/>
                  </a:cubicBezTo>
                  <a:cubicBezTo>
                    <a:pt x="1408" y="108"/>
                    <a:pt x="1406" y="102"/>
                    <a:pt x="1403" y="96"/>
                  </a:cubicBezTo>
                  <a:cubicBezTo>
                    <a:pt x="1403" y="91"/>
                    <a:pt x="1404" y="86"/>
                    <a:pt x="1405" y="83"/>
                  </a:cubicBezTo>
                  <a:cubicBezTo>
                    <a:pt x="1404" y="87"/>
                    <a:pt x="1403" y="90"/>
                    <a:pt x="1401" y="93"/>
                  </a:cubicBezTo>
                  <a:cubicBezTo>
                    <a:pt x="1396" y="83"/>
                    <a:pt x="1389" y="74"/>
                    <a:pt x="1380" y="64"/>
                  </a:cubicBezTo>
                  <a:cubicBezTo>
                    <a:pt x="1389" y="74"/>
                    <a:pt x="1395" y="86"/>
                    <a:pt x="1400" y="97"/>
                  </a:cubicBezTo>
                  <a:cubicBezTo>
                    <a:pt x="1399" y="99"/>
                    <a:pt x="1399" y="101"/>
                    <a:pt x="1398" y="103"/>
                  </a:cubicBezTo>
                  <a:cubicBezTo>
                    <a:pt x="1397" y="98"/>
                    <a:pt x="1396" y="93"/>
                    <a:pt x="1394" y="88"/>
                  </a:cubicBezTo>
                  <a:cubicBezTo>
                    <a:pt x="1394" y="91"/>
                    <a:pt x="1395" y="98"/>
                    <a:pt x="1397" y="106"/>
                  </a:cubicBezTo>
                  <a:cubicBezTo>
                    <a:pt x="1397" y="108"/>
                    <a:pt x="1396" y="109"/>
                    <a:pt x="1396" y="110"/>
                  </a:cubicBezTo>
                  <a:cubicBezTo>
                    <a:pt x="1390" y="97"/>
                    <a:pt x="1383" y="83"/>
                    <a:pt x="1372" y="72"/>
                  </a:cubicBezTo>
                  <a:cubicBezTo>
                    <a:pt x="1370" y="61"/>
                    <a:pt x="1368" y="51"/>
                    <a:pt x="1366" y="41"/>
                  </a:cubicBezTo>
                  <a:cubicBezTo>
                    <a:pt x="1366" y="48"/>
                    <a:pt x="1366" y="55"/>
                    <a:pt x="1366" y="61"/>
                  </a:cubicBezTo>
                  <a:cubicBezTo>
                    <a:pt x="1366" y="63"/>
                    <a:pt x="1366" y="64"/>
                    <a:pt x="1366" y="66"/>
                  </a:cubicBezTo>
                  <a:cubicBezTo>
                    <a:pt x="1365" y="65"/>
                    <a:pt x="1365" y="65"/>
                    <a:pt x="1365" y="65"/>
                  </a:cubicBezTo>
                  <a:cubicBezTo>
                    <a:pt x="1365" y="65"/>
                    <a:pt x="1365" y="65"/>
                    <a:pt x="1366" y="66"/>
                  </a:cubicBezTo>
                  <a:cubicBezTo>
                    <a:pt x="1366" y="75"/>
                    <a:pt x="1367" y="85"/>
                    <a:pt x="1367" y="94"/>
                  </a:cubicBezTo>
                  <a:cubicBezTo>
                    <a:pt x="1365" y="88"/>
                    <a:pt x="1362" y="81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3" y="67"/>
                    <a:pt x="1346" y="59"/>
                    <a:pt x="1336" y="50"/>
                  </a:cubicBezTo>
                  <a:cubicBezTo>
                    <a:pt x="1339" y="54"/>
                    <a:pt x="1341" y="58"/>
                    <a:pt x="1343" y="61"/>
                  </a:cubicBezTo>
                  <a:cubicBezTo>
                    <a:pt x="1342" y="64"/>
                    <a:pt x="1342" y="68"/>
                    <a:pt x="1341" y="73"/>
                  </a:cubicBezTo>
                  <a:cubicBezTo>
                    <a:pt x="1339" y="70"/>
                    <a:pt x="1336" y="67"/>
                    <a:pt x="1334" y="65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2" y="62"/>
                    <a:pt x="1330" y="61"/>
                    <a:pt x="1328" y="59"/>
                  </a:cubicBezTo>
                  <a:cubicBezTo>
                    <a:pt x="1330" y="61"/>
                    <a:pt x="1332" y="63"/>
                    <a:pt x="1333" y="65"/>
                  </a:cubicBezTo>
                  <a:cubicBezTo>
                    <a:pt x="1332" y="67"/>
                    <a:pt x="1330" y="69"/>
                    <a:pt x="1329" y="72"/>
                  </a:cubicBezTo>
                  <a:cubicBezTo>
                    <a:pt x="1328" y="67"/>
                    <a:pt x="1328" y="61"/>
                    <a:pt x="1327" y="56"/>
                  </a:cubicBezTo>
                  <a:cubicBezTo>
                    <a:pt x="1328" y="54"/>
                    <a:pt x="1329" y="53"/>
                    <a:pt x="1330" y="51"/>
                  </a:cubicBezTo>
                  <a:cubicBezTo>
                    <a:pt x="1329" y="52"/>
                    <a:pt x="1328" y="53"/>
                    <a:pt x="1327" y="55"/>
                  </a:cubicBezTo>
                  <a:cubicBezTo>
                    <a:pt x="1325" y="45"/>
                    <a:pt x="1323" y="35"/>
                    <a:pt x="1320" y="26"/>
                  </a:cubicBezTo>
                  <a:cubicBezTo>
                    <a:pt x="1319" y="30"/>
                    <a:pt x="1319" y="34"/>
                    <a:pt x="1319" y="37"/>
                  </a:cubicBezTo>
                  <a:cubicBezTo>
                    <a:pt x="1319" y="45"/>
                    <a:pt x="1320" y="53"/>
                    <a:pt x="1321" y="60"/>
                  </a:cubicBezTo>
                  <a:cubicBezTo>
                    <a:pt x="1317" y="65"/>
                    <a:pt x="1313" y="69"/>
                    <a:pt x="1308" y="75"/>
                  </a:cubicBezTo>
                  <a:cubicBezTo>
                    <a:pt x="1308" y="72"/>
                    <a:pt x="1307" y="70"/>
                    <a:pt x="1306" y="67"/>
                  </a:cubicBezTo>
                  <a:cubicBezTo>
                    <a:pt x="1306" y="70"/>
                    <a:pt x="1307" y="73"/>
                    <a:pt x="1307" y="76"/>
                  </a:cubicBezTo>
                  <a:cubicBezTo>
                    <a:pt x="1306" y="77"/>
                    <a:pt x="1306" y="78"/>
                    <a:pt x="1306" y="78"/>
                  </a:cubicBezTo>
                  <a:cubicBezTo>
                    <a:pt x="1304" y="75"/>
                    <a:pt x="1302" y="72"/>
                    <a:pt x="1300" y="68"/>
                  </a:cubicBezTo>
                  <a:cubicBezTo>
                    <a:pt x="1300" y="65"/>
                    <a:pt x="1301" y="63"/>
                    <a:pt x="1301" y="62"/>
                  </a:cubicBezTo>
                  <a:cubicBezTo>
                    <a:pt x="1300" y="63"/>
                    <a:pt x="1299" y="65"/>
                    <a:pt x="1298" y="67"/>
                  </a:cubicBezTo>
                  <a:cubicBezTo>
                    <a:pt x="1292" y="57"/>
                    <a:pt x="1283" y="47"/>
                    <a:pt x="1270" y="34"/>
                  </a:cubicBezTo>
                  <a:cubicBezTo>
                    <a:pt x="1283" y="49"/>
                    <a:pt x="1291" y="60"/>
                    <a:pt x="1298" y="69"/>
                  </a:cubicBezTo>
                  <a:cubicBezTo>
                    <a:pt x="1297" y="72"/>
                    <a:pt x="1296" y="75"/>
                    <a:pt x="1296" y="79"/>
                  </a:cubicBezTo>
                  <a:cubicBezTo>
                    <a:pt x="1290" y="68"/>
                    <a:pt x="1282" y="58"/>
                    <a:pt x="1270" y="52"/>
                  </a:cubicBezTo>
                  <a:cubicBezTo>
                    <a:pt x="1284" y="60"/>
                    <a:pt x="1291" y="72"/>
                    <a:pt x="1296" y="84"/>
                  </a:cubicBezTo>
                  <a:cubicBezTo>
                    <a:pt x="1296" y="86"/>
                    <a:pt x="1296" y="89"/>
                    <a:pt x="1296" y="92"/>
                  </a:cubicBezTo>
                  <a:cubicBezTo>
                    <a:pt x="1294" y="94"/>
                    <a:pt x="1292" y="97"/>
                    <a:pt x="1290" y="100"/>
                  </a:cubicBezTo>
                  <a:cubicBezTo>
                    <a:pt x="1289" y="96"/>
                    <a:pt x="1289" y="93"/>
                    <a:pt x="1288" y="90"/>
                  </a:cubicBezTo>
                  <a:cubicBezTo>
                    <a:pt x="1289" y="93"/>
                    <a:pt x="1289" y="97"/>
                    <a:pt x="1289" y="101"/>
                  </a:cubicBezTo>
                  <a:cubicBezTo>
                    <a:pt x="1288" y="102"/>
                    <a:pt x="1288" y="104"/>
                    <a:pt x="1287" y="105"/>
                  </a:cubicBezTo>
                  <a:cubicBezTo>
                    <a:pt x="1286" y="104"/>
                    <a:pt x="1286" y="103"/>
                    <a:pt x="1285" y="102"/>
                  </a:cubicBezTo>
                  <a:cubicBezTo>
                    <a:pt x="1284" y="97"/>
                    <a:pt x="1283" y="93"/>
                    <a:pt x="1282" y="88"/>
                  </a:cubicBezTo>
                  <a:cubicBezTo>
                    <a:pt x="1283" y="84"/>
                    <a:pt x="1284" y="79"/>
                    <a:pt x="1284" y="75"/>
                  </a:cubicBezTo>
                  <a:cubicBezTo>
                    <a:pt x="1283" y="78"/>
                    <a:pt x="1282" y="80"/>
                    <a:pt x="1281" y="83"/>
                  </a:cubicBezTo>
                  <a:cubicBezTo>
                    <a:pt x="1280" y="81"/>
                    <a:pt x="1280" y="80"/>
                    <a:pt x="1280" y="79"/>
                  </a:cubicBezTo>
                  <a:cubicBezTo>
                    <a:pt x="1280" y="81"/>
                    <a:pt x="1280" y="82"/>
                    <a:pt x="1280" y="83"/>
                  </a:cubicBezTo>
                  <a:cubicBezTo>
                    <a:pt x="1280" y="84"/>
                    <a:pt x="1279" y="86"/>
                    <a:pt x="1278" y="87"/>
                  </a:cubicBezTo>
                  <a:cubicBezTo>
                    <a:pt x="1276" y="83"/>
                    <a:pt x="1275" y="79"/>
                    <a:pt x="1273" y="75"/>
                  </a:cubicBezTo>
                  <a:cubicBezTo>
                    <a:pt x="1273" y="80"/>
                    <a:pt x="1274" y="86"/>
                    <a:pt x="1276" y="93"/>
                  </a:cubicBezTo>
                  <a:cubicBezTo>
                    <a:pt x="1275" y="94"/>
                    <a:pt x="1275" y="94"/>
                    <a:pt x="1275" y="95"/>
                  </a:cubicBezTo>
                  <a:cubicBezTo>
                    <a:pt x="1274" y="90"/>
                    <a:pt x="1272" y="85"/>
                    <a:pt x="1270" y="81"/>
                  </a:cubicBezTo>
                  <a:cubicBezTo>
                    <a:pt x="1272" y="86"/>
                    <a:pt x="1273" y="91"/>
                    <a:pt x="1274" y="97"/>
                  </a:cubicBezTo>
                  <a:cubicBezTo>
                    <a:pt x="1272" y="100"/>
                    <a:pt x="1271" y="103"/>
                    <a:pt x="1270" y="105"/>
                  </a:cubicBezTo>
                  <a:cubicBezTo>
                    <a:pt x="1267" y="84"/>
                    <a:pt x="1261" y="63"/>
                    <a:pt x="1241" y="42"/>
                  </a:cubicBezTo>
                  <a:cubicBezTo>
                    <a:pt x="1249" y="58"/>
                    <a:pt x="1255" y="70"/>
                    <a:pt x="1259" y="81"/>
                  </a:cubicBezTo>
                  <a:cubicBezTo>
                    <a:pt x="1259" y="84"/>
                    <a:pt x="1259" y="86"/>
                    <a:pt x="1259" y="89"/>
                  </a:cubicBezTo>
                  <a:cubicBezTo>
                    <a:pt x="1257" y="86"/>
                    <a:pt x="1256" y="84"/>
                    <a:pt x="1254" y="81"/>
                  </a:cubicBezTo>
                  <a:cubicBezTo>
                    <a:pt x="1253" y="79"/>
                    <a:pt x="1251" y="76"/>
                    <a:pt x="1250" y="74"/>
                  </a:cubicBezTo>
                  <a:cubicBezTo>
                    <a:pt x="1250" y="72"/>
                    <a:pt x="1250" y="69"/>
                    <a:pt x="1250" y="67"/>
                  </a:cubicBezTo>
                  <a:cubicBezTo>
                    <a:pt x="1250" y="69"/>
                    <a:pt x="1250" y="70"/>
                    <a:pt x="1249" y="72"/>
                  </a:cubicBezTo>
                  <a:cubicBezTo>
                    <a:pt x="1246" y="66"/>
                    <a:pt x="1242" y="59"/>
                    <a:pt x="1237" y="53"/>
                  </a:cubicBezTo>
                  <a:cubicBezTo>
                    <a:pt x="1237" y="48"/>
                    <a:pt x="1237" y="42"/>
                    <a:pt x="1237" y="37"/>
                  </a:cubicBezTo>
                  <a:cubicBezTo>
                    <a:pt x="1237" y="34"/>
                    <a:pt x="1237" y="30"/>
                    <a:pt x="1237" y="26"/>
                  </a:cubicBezTo>
                  <a:cubicBezTo>
                    <a:pt x="1235" y="33"/>
                    <a:pt x="1233" y="40"/>
                    <a:pt x="1232" y="47"/>
                  </a:cubicBezTo>
                  <a:cubicBezTo>
                    <a:pt x="1229" y="44"/>
                    <a:pt x="1225" y="41"/>
                    <a:pt x="1222" y="38"/>
                  </a:cubicBezTo>
                  <a:cubicBezTo>
                    <a:pt x="1225" y="41"/>
                    <a:pt x="1228" y="45"/>
                    <a:pt x="1231" y="49"/>
                  </a:cubicBezTo>
                  <a:cubicBezTo>
                    <a:pt x="1231" y="51"/>
                    <a:pt x="1231" y="53"/>
                    <a:pt x="1230" y="55"/>
                  </a:cubicBezTo>
                  <a:cubicBezTo>
                    <a:pt x="1229" y="53"/>
                    <a:pt x="1228" y="52"/>
                    <a:pt x="1226" y="51"/>
                  </a:cubicBezTo>
                  <a:cubicBezTo>
                    <a:pt x="1227" y="53"/>
                    <a:pt x="1229" y="54"/>
                    <a:pt x="1230" y="56"/>
                  </a:cubicBezTo>
                  <a:cubicBezTo>
                    <a:pt x="1229" y="61"/>
                    <a:pt x="1228" y="67"/>
                    <a:pt x="1228" y="72"/>
                  </a:cubicBezTo>
                  <a:cubicBezTo>
                    <a:pt x="1226" y="69"/>
                    <a:pt x="1224" y="66"/>
                    <a:pt x="1223" y="64"/>
                  </a:cubicBezTo>
                  <a:cubicBezTo>
                    <a:pt x="1223" y="67"/>
                    <a:pt x="1225" y="70"/>
                    <a:pt x="1227" y="74"/>
                  </a:cubicBezTo>
                  <a:cubicBezTo>
                    <a:pt x="1226" y="81"/>
                    <a:pt x="1225" y="87"/>
                    <a:pt x="1224" y="92"/>
                  </a:cubicBezTo>
                  <a:cubicBezTo>
                    <a:pt x="1220" y="109"/>
                    <a:pt x="1216" y="126"/>
                    <a:pt x="1214" y="143"/>
                  </a:cubicBezTo>
                  <a:cubicBezTo>
                    <a:pt x="1215" y="126"/>
                    <a:pt x="1216" y="109"/>
                    <a:pt x="1216" y="91"/>
                  </a:cubicBezTo>
                  <a:cubicBezTo>
                    <a:pt x="1216" y="87"/>
                    <a:pt x="1216" y="61"/>
                    <a:pt x="1212" y="59"/>
                  </a:cubicBezTo>
                  <a:cubicBezTo>
                    <a:pt x="1217" y="76"/>
                    <a:pt x="1203" y="122"/>
                    <a:pt x="1200" y="146"/>
                  </a:cubicBezTo>
                  <a:cubicBezTo>
                    <a:pt x="1200" y="148"/>
                    <a:pt x="1200" y="150"/>
                    <a:pt x="1200" y="152"/>
                  </a:cubicBezTo>
                  <a:cubicBezTo>
                    <a:pt x="1200" y="150"/>
                    <a:pt x="1200" y="148"/>
                    <a:pt x="1200" y="146"/>
                  </a:cubicBezTo>
                  <a:cubicBezTo>
                    <a:pt x="1202" y="123"/>
                    <a:pt x="1201" y="97"/>
                    <a:pt x="1199" y="75"/>
                  </a:cubicBezTo>
                  <a:cubicBezTo>
                    <a:pt x="1196" y="97"/>
                    <a:pt x="1188" y="119"/>
                    <a:pt x="1188" y="141"/>
                  </a:cubicBezTo>
                  <a:cubicBezTo>
                    <a:pt x="1188" y="146"/>
                    <a:pt x="1189" y="152"/>
                    <a:pt x="1189" y="158"/>
                  </a:cubicBezTo>
                  <a:cubicBezTo>
                    <a:pt x="1187" y="150"/>
                    <a:pt x="1187" y="140"/>
                    <a:pt x="1187" y="133"/>
                  </a:cubicBezTo>
                  <a:cubicBezTo>
                    <a:pt x="1187" y="109"/>
                    <a:pt x="1191" y="85"/>
                    <a:pt x="1191" y="61"/>
                  </a:cubicBezTo>
                  <a:cubicBezTo>
                    <a:pt x="1191" y="55"/>
                    <a:pt x="1191" y="48"/>
                    <a:pt x="1191" y="41"/>
                  </a:cubicBezTo>
                  <a:cubicBezTo>
                    <a:pt x="1183" y="71"/>
                    <a:pt x="1179" y="110"/>
                    <a:pt x="1179" y="140"/>
                  </a:cubicBezTo>
                  <a:cubicBezTo>
                    <a:pt x="1179" y="145"/>
                    <a:pt x="1179" y="149"/>
                    <a:pt x="1180" y="153"/>
                  </a:cubicBezTo>
                  <a:cubicBezTo>
                    <a:pt x="1179" y="135"/>
                    <a:pt x="1174" y="116"/>
                    <a:pt x="1170" y="98"/>
                  </a:cubicBezTo>
                  <a:cubicBezTo>
                    <a:pt x="1172" y="110"/>
                    <a:pt x="1168" y="124"/>
                    <a:pt x="1168" y="136"/>
                  </a:cubicBezTo>
                  <a:cubicBezTo>
                    <a:pt x="1168" y="140"/>
                    <a:pt x="1168" y="143"/>
                    <a:pt x="1168" y="147"/>
                  </a:cubicBezTo>
                  <a:cubicBezTo>
                    <a:pt x="1165" y="125"/>
                    <a:pt x="1160" y="103"/>
                    <a:pt x="1151" y="83"/>
                  </a:cubicBezTo>
                  <a:cubicBezTo>
                    <a:pt x="1154" y="90"/>
                    <a:pt x="1154" y="108"/>
                    <a:pt x="1154" y="115"/>
                  </a:cubicBezTo>
                  <a:cubicBezTo>
                    <a:pt x="1154" y="127"/>
                    <a:pt x="1154" y="138"/>
                    <a:pt x="1156" y="150"/>
                  </a:cubicBezTo>
                  <a:cubicBezTo>
                    <a:pt x="1147" y="126"/>
                    <a:pt x="1144" y="99"/>
                    <a:pt x="1137" y="74"/>
                  </a:cubicBezTo>
                  <a:cubicBezTo>
                    <a:pt x="1140" y="91"/>
                    <a:pt x="1137" y="110"/>
                    <a:pt x="1137" y="128"/>
                  </a:cubicBezTo>
                  <a:cubicBezTo>
                    <a:pt x="1137" y="132"/>
                    <a:pt x="1137" y="136"/>
                    <a:pt x="1137" y="140"/>
                  </a:cubicBezTo>
                  <a:cubicBezTo>
                    <a:pt x="1138" y="145"/>
                    <a:pt x="1138" y="149"/>
                    <a:pt x="1139" y="154"/>
                  </a:cubicBezTo>
                  <a:cubicBezTo>
                    <a:pt x="1138" y="149"/>
                    <a:pt x="1137" y="145"/>
                    <a:pt x="1137" y="140"/>
                  </a:cubicBezTo>
                  <a:cubicBezTo>
                    <a:pt x="1134" y="120"/>
                    <a:pt x="1131" y="99"/>
                    <a:pt x="1126" y="80"/>
                  </a:cubicBezTo>
                  <a:cubicBezTo>
                    <a:pt x="1128" y="102"/>
                    <a:pt x="1118" y="126"/>
                    <a:pt x="1118" y="149"/>
                  </a:cubicBezTo>
                  <a:cubicBezTo>
                    <a:pt x="1118" y="156"/>
                    <a:pt x="1118" y="156"/>
                    <a:pt x="1118" y="156"/>
                  </a:cubicBezTo>
                  <a:cubicBezTo>
                    <a:pt x="1114" y="147"/>
                    <a:pt x="1114" y="132"/>
                    <a:pt x="1114" y="122"/>
                  </a:cubicBezTo>
                  <a:cubicBezTo>
                    <a:pt x="1114" y="100"/>
                    <a:pt x="1116" y="79"/>
                    <a:pt x="1115" y="57"/>
                  </a:cubicBezTo>
                  <a:cubicBezTo>
                    <a:pt x="1112" y="62"/>
                    <a:pt x="1111" y="112"/>
                    <a:pt x="1111" y="120"/>
                  </a:cubicBezTo>
                  <a:cubicBezTo>
                    <a:pt x="1111" y="133"/>
                    <a:pt x="1112" y="146"/>
                    <a:pt x="1115" y="159"/>
                  </a:cubicBezTo>
                  <a:cubicBezTo>
                    <a:pt x="1110" y="135"/>
                    <a:pt x="1104" y="108"/>
                    <a:pt x="1092" y="85"/>
                  </a:cubicBezTo>
                  <a:cubicBezTo>
                    <a:pt x="1103" y="106"/>
                    <a:pt x="1098" y="132"/>
                    <a:pt x="1105" y="154"/>
                  </a:cubicBezTo>
                  <a:cubicBezTo>
                    <a:pt x="1097" y="142"/>
                    <a:pt x="1095" y="122"/>
                    <a:pt x="1092" y="106"/>
                  </a:cubicBezTo>
                  <a:cubicBezTo>
                    <a:pt x="1094" y="120"/>
                    <a:pt x="1092" y="134"/>
                    <a:pt x="1094" y="148"/>
                  </a:cubicBezTo>
                  <a:cubicBezTo>
                    <a:pt x="1095" y="151"/>
                    <a:pt x="1096" y="153"/>
                    <a:pt x="1096" y="155"/>
                  </a:cubicBezTo>
                  <a:cubicBezTo>
                    <a:pt x="1095" y="153"/>
                    <a:pt x="1095" y="151"/>
                    <a:pt x="1094" y="148"/>
                  </a:cubicBezTo>
                  <a:cubicBezTo>
                    <a:pt x="1090" y="127"/>
                    <a:pt x="1077" y="75"/>
                    <a:pt x="1066" y="68"/>
                  </a:cubicBezTo>
                  <a:cubicBezTo>
                    <a:pt x="1083" y="90"/>
                    <a:pt x="1080" y="127"/>
                    <a:pt x="1085" y="153"/>
                  </a:cubicBezTo>
                  <a:cubicBezTo>
                    <a:pt x="1080" y="134"/>
                    <a:pt x="1073" y="113"/>
                    <a:pt x="1064" y="95"/>
                  </a:cubicBezTo>
                  <a:cubicBezTo>
                    <a:pt x="1071" y="115"/>
                    <a:pt x="1070" y="136"/>
                    <a:pt x="1079" y="155"/>
                  </a:cubicBezTo>
                  <a:cubicBezTo>
                    <a:pt x="1066" y="144"/>
                    <a:pt x="1059" y="117"/>
                    <a:pt x="1055" y="102"/>
                  </a:cubicBezTo>
                  <a:cubicBezTo>
                    <a:pt x="1056" y="120"/>
                    <a:pt x="1060" y="143"/>
                    <a:pt x="1071" y="158"/>
                  </a:cubicBezTo>
                  <a:cubicBezTo>
                    <a:pt x="1057" y="144"/>
                    <a:pt x="1052" y="103"/>
                    <a:pt x="1047" y="85"/>
                  </a:cubicBezTo>
                  <a:cubicBezTo>
                    <a:pt x="1046" y="88"/>
                    <a:pt x="1046" y="91"/>
                    <a:pt x="1046" y="94"/>
                  </a:cubicBezTo>
                  <a:cubicBezTo>
                    <a:pt x="1046" y="113"/>
                    <a:pt x="1052" y="142"/>
                    <a:pt x="1063" y="159"/>
                  </a:cubicBezTo>
                  <a:cubicBezTo>
                    <a:pt x="1050" y="143"/>
                    <a:pt x="1044" y="123"/>
                    <a:pt x="1038" y="104"/>
                  </a:cubicBezTo>
                  <a:cubicBezTo>
                    <a:pt x="1042" y="122"/>
                    <a:pt x="1042" y="140"/>
                    <a:pt x="1051" y="158"/>
                  </a:cubicBezTo>
                  <a:cubicBezTo>
                    <a:pt x="1041" y="147"/>
                    <a:pt x="1037" y="132"/>
                    <a:pt x="1033" y="117"/>
                  </a:cubicBezTo>
                  <a:cubicBezTo>
                    <a:pt x="1034" y="105"/>
                    <a:pt x="1035" y="93"/>
                    <a:pt x="1036" y="84"/>
                  </a:cubicBezTo>
                  <a:cubicBezTo>
                    <a:pt x="1034" y="92"/>
                    <a:pt x="1033" y="101"/>
                    <a:pt x="1031" y="109"/>
                  </a:cubicBezTo>
                  <a:cubicBezTo>
                    <a:pt x="1029" y="102"/>
                    <a:pt x="1027" y="95"/>
                    <a:pt x="1025" y="89"/>
                  </a:cubicBezTo>
                  <a:cubicBezTo>
                    <a:pt x="1028" y="64"/>
                    <a:pt x="1032" y="40"/>
                    <a:pt x="1032" y="40"/>
                  </a:cubicBezTo>
                  <a:cubicBezTo>
                    <a:pt x="1027" y="51"/>
                    <a:pt x="1022" y="77"/>
                    <a:pt x="1019" y="100"/>
                  </a:cubicBezTo>
                  <a:cubicBezTo>
                    <a:pt x="1017" y="95"/>
                    <a:pt x="1015" y="90"/>
                    <a:pt x="1013" y="86"/>
                  </a:cubicBezTo>
                  <a:cubicBezTo>
                    <a:pt x="1012" y="70"/>
                    <a:pt x="1011" y="58"/>
                    <a:pt x="1011" y="60"/>
                  </a:cubicBezTo>
                  <a:cubicBezTo>
                    <a:pt x="1011" y="61"/>
                    <a:pt x="1010" y="69"/>
                    <a:pt x="1009" y="80"/>
                  </a:cubicBezTo>
                  <a:cubicBezTo>
                    <a:pt x="1008" y="79"/>
                    <a:pt x="1008" y="78"/>
                    <a:pt x="1007" y="78"/>
                  </a:cubicBezTo>
                  <a:cubicBezTo>
                    <a:pt x="1008" y="79"/>
                    <a:pt x="1008" y="80"/>
                    <a:pt x="1009" y="81"/>
                  </a:cubicBezTo>
                  <a:cubicBezTo>
                    <a:pt x="1009" y="87"/>
                    <a:pt x="1008" y="95"/>
                    <a:pt x="1007" y="102"/>
                  </a:cubicBezTo>
                  <a:cubicBezTo>
                    <a:pt x="1007" y="102"/>
                    <a:pt x="1007" y="102"/>
                    <a:pt x="1007" y="102"/>
                  </a:cubicBezTo>
                  <a:cubicBezTo>
                    <a:pt x="1007" y="103"/>
                    <a:pt x="1007" y="103"/>
                    <a:pt x="1007" y="103"/>
                  </a:cubicBezTo>
                  <a:cubicBezTo>
                    <a:pt x="1006" y="113"/>
                    <a:pt x="1006" y="123"/>
                    <a:pt x="1005" y="130"/>
                  </a:cubicBezTo>
                  <a:cubicBezTo>
                    <a:pt x="1005" y="130"/>
                    <a:pt x="1005" y="129"/>
                    <a:pt x="1004" y="128"/>
                  </a:cubicBezTo>
                  <a:cubicBezTo>
                    <a:pt x="1004" y="107"/>
                    <a:pt x="1000" y="69"/>
                    <a:pt x="998" y="47"/>
                  </a:cubicBezTo>
                  <a:cubicBezTo>
                    <a:pt x="998" y="64"/>
                    <a:pt x="997" y="87"/>
                    <a:pt x="996" y="107"/>
                  </a:cubicBezTo>
                  <a:cubicBezTo>
                    <a:pt x="995" y="105"/>
                    <a:pt x="994" y="104"/>
                    <a:pt x="994" y="102"/>
                  </a:cubicBezTo>
                  <a:cubicBezTo>
                    <a:pt x="994" y="104"/>
                    <a:pt x="995" y="106"/>
                    <a:pt x="996" y="107"/>
                  </a:cubicBezTo>
                  <a:cubicBezTo>
                    <a:pt x="995" y="114"/>
                    <a:pt x="995" y="121"/>
                    <a:pt x="994" y="126"/>
                  </a:cubicBezTo>
                  <a:cubicBezTo>
                    <a:pt x="994" y="125"/>
                    <a:pt x="993" y="123"/>
                    <a:pt x="993" y="122"/>
                  </a:cubicBezTo>
                  <a:cubicBezTo>
                    <a:pt x="992" y="93"/>
                    <a:pt x="988" y="46"/>
                    <a:pt x="988" y="46"/>
                  </a:cubicBezTo>
                  <a:cubicBezTo>
                    <a:pt x="988" y="65"/>
                    <a:pt x="981" y="142"/>
                    <a:pt x="981" y="142"/>
                  </a:cubicBezTo>
                  <a:cubicBezTo>
                    <a:pt x="975" y="106"/>
                    <a:pt x="982" y="0"/>
                    <a:pt x="982" y="0"/>
                  </a:cubicBezTo>
                  <a:cubicBezTo>
                    <a:pt x="976" y="16"/>
                    <a:pt x="970" y="131"/>
                    <a:pt x="970" y="131"/>
                  </a:cubicBezTo>
                  <a:cubicBezTo>
                    <a:pt x="968" y="36"/>
                    <a:pt x="964" y="32"/>
                    <a:pt x="964" y="32"/>
                  </a:cubicBezTo>
                  <a:cubicBezTo>
                    <a:pt x="966" y="43"/>
                    <a:pt x="963" y="76"/>
                    <a:pt x="960" y="103"/>
                  </a:cubicBezTo>
                  <a:cubicBezTo>
                    <a:pt x="959" y="102"/>
                    <a:pt x="958" y="100"/>
                    <a:pt x="957" y="99"/>
                  </a:cubicBezTo>
                  <a:cubicBezTo>
                    <a:pt x="958" y="101"/>
                    <a:pt x="959" y="103"/>
                    <a:pt x="960" y="104"/>
                  </a:cubicBezTo>
                  <a:cubicBezTo>
                    <a:pt x="959" y="112"/>
                    <a:pt x="958" y="120"/>
                    <a:pt x="957" y="126"/>
                  </a:cubicBezTo>
                  <a:cubicBezTo>
                    <a:pt x="957" y="124"/>
                    <a:pt x="957" y="123"/>
                    <a:pt x="957" y="122"/>
                  </a:cubicBezTo>
                  <a:cubicBezTo>
                    <a:pt x="958" y="94"/>
                    <a:pt x="956" y="48"/>
                    <a:pt x="956" y="48"/>
                  </a:cubicBezTo>
                  <a:cubicBezTo>
                    <a:pt x="955" y="55"/>
                    <a:pt x="952" y="82"/>
                    <a:pt x="949" y="106"/>
                  </a:cubicBezTo>
                  <a:cubicBezTo>
                    <a:pt x="948" y="104"/>
                    <a:pt x="948" y="102"/>
                    <a:pt x="947" y="100"/>
                  </a:cubicBezTo>
                  <a:cubicBezTo>
                    <a:pt x="950" y="60"/>
                    <a:pt x="954" y="9"/>
                    <a:pt x="954" y="9"/>
                  </a:cubicBezTo>
                  <a:cubicBezTo>
                    <a:pt x="949" y="23"/>
                    <a:pt x="942" y="83"/>
                    <a:pt x="939" y="117"/>
                  </a:cubicBezTo>
                  <a:cubicBezTo>
                    <a:pt x="938" y="114"/>
                    <a:pt x="937" y="111"/>
                    <a:pt x="937" y="108"/>
                  </a:cubicBezTo>
                  <a:cubicBezTo>
                    <a:pt x="936" y="90"/>
                    <a:pt x="934" y="72"/>
                    <a:pt x="934" y="72"/>
                  </a:cubicBezTo>
                  <a:cubicBezTo>
                    <a:pt x="935" y="76"/>
                    <a:pt x="934" y="84"/>
                    <a:pt x="933" y="94"/>
                  </a:cubicBezTo>
                  <a:cubicBezTo>
                    <a:pt x="932" y="91"/>
                    <a:pt x="930" y="88"/>
                    <a:pt x="929" y="84"/>
                  </a:cubicBezTo>
                  <a:cubicBezTo>
                    <a:pt x="931" y="88"/>
                    <a:pt x="932" y="92"/>
                    <a:pt x="933" y="96"/>
                  </a:cubicBezTo>
                  <a:cubicBezTo>
                    <a:pt x="932" y="99"/>
                    <a:pt x="932" y="103"/>
                    <a:pt x="931" y="107"/>
                  </a:cubicBezTo>
                  <a:cubicBezTo>
                    <a:pt x="931" y="106"/>
                    <a:pt x="931" y="106"/>
                    <a:pt x="931" y="105"/>
                  </a:cubicBezTo>
                  <a:cubicBezTo>
                    <a:pt x="930" y="107"/>
                    <a:pt x="930" y="112"/>
                    <a:pt x="930" y="116"/>
                  </a:cubicBezTo>
                  <a:cubicBezTo>
                    <a:pt x="929" y="121"/>
                    <a:pt x="929" y="126"/>
                    <a:pt x="928" y="130"/>
                  </a:cubicBezTo>
                  <a:cubicBezTo>
                    <a:pt x="928" y="129"/>
                    <a:pt x="928" y="128"/>
                    <a:pt x="928" y="127"/>
                  </a:cubicBezTo>
                  <a:cubicBezTo>
                    <a:pt x="928" y="101"/>
                    <a:pt x="923" y="63"/>
                    <a:pt x="922" y="54"/>
                  </a:cubicBezTo>
                  <a:cubicBezTo>
                    <a:pt x="923" y="61"/>
                    <a:pt x="921" y="79"/>
                    <a:pt x="920" y="96"/>
                  </a:cubicBezTo>
                  <a:cubicBezTo>
                    <a:pt x="919" y="94"/>
                    <a:pt x="918" y="92"/>
                    <a:pt x="918" y="90"/>
                  </a:cubicBezTo>
                  <a:cubicBezTo>
                    <a:pt x="918" y="92"/>
                    <a:pt x="919" y="95"/>
                    <a:pt x="920" y="97"/>
                  </a:cubicBezTo>
                  <a:cubicBezTo>
                    <a:pt x="918" y="118"/>
                    <a:pt x="916" y="137"/>
                    <a:pt x="916" y="137"/>
                  </a:cubicBezTo>
                  <a:cubicBezTo>
                    <a:pt x="916" y="136"/>
                    <a:pt x="916" y="134"/>
                    <a:pt x="915" y="133"/>
                  </a:cubicBezTo>
                  <a:cubicBezTo>
                    <a:pt x="915" y="125"/>
                    <a:pt x="915" y="118"/>
                    <a:pt x="915" y="110"/>
                  </a:cubicBezTo>
                  <a:cubicBezTo>
                    <a:pt x="913" y="76"/>
                    <a:pt x="913" y="40"/>
                    <a:pt x="913" y="40"/>
                  </a:cubicBezTo>
                  <a:cubicBezTo>
                    <a:pt x="912" y="49"/>
                    <a:pt x="908" y="79"/>
                    <a:pt x="903" y="104"/>
                  </a:cubicBezTo>
                  <a:cubicBezTo>
                    <a:pt x="903" y="99"/>
                    <a:pt x="902" y="95"/>
                    <a:pt x="902" y="90"/>
                  </a:cubicBezTo>
                  <a:cubicBezTo>
                    <a:pt x="903" y="67"/>
                    <a:pt x="903" y="45"/>
                    <a:pt x="903" y="45"/>
                  </a:cubicBezTo>
                  <a:cubicBezTo>
                    <a:pt x="903" y="53"/>
                    <a:pt x="897" y="75"/>
                    <a:pt x="891" y="96"/>
                  </a:cubicBezTo>
                  <a:cubicBezTo>
                    <a:pt x="889" y="93"/>
                    <a:pt x="888" y="89"/>
                    <a:pt x="886" y="85"/>
                  </a:cubicBezTo>
                  <a:cubicBezTo>
                    <a:pt x="893" y="51"/>
                    <a:pt x="901" y="17"/>
                    <a:pt x="901" y="17"/>
                  </a:cubicBezTo>
                  <a:cubicBezTo>
                    <a:pt x="896" y="24"/>
                    <a:pt x="881" y="95"/>
                    <a:pt x="874" y="130"/>
                  </a:cubicBezTo>
                  <a:cubicBezTo>
                    <a:pt x="874" y="130"/>
                    <a:pt x="874" y="130"/>
                    <a:pt x="874" y="130"/>
                  </a:cubicBezTo>
                  <a:cubicBezTo>
                    <a:pt x="878" y="100"/>
                    <a:pt x="875" y="63"/>
                    <a:pt x="874" y="52"/>
                  </a:cubicBezTo>
                  <a:cubicBezTo>
                    <a:pt x="876" y="72"/>
                    <a:pt x="870" y="109"/>
                    <a:pt x="866" y="128"/>
                  </a:cubicBezTo>
                  <a:cubicBezTo>
                    <a:pt x="866" y="126"/>
                    <a:pt x="866" y="123"/>
                    <a:pt x="865" y="120"/>
                  </a:cubicBezTo>
                  <a:cubicBezTo>
                    <a:pt x="867" y="99"/>
                    <a:pt x="869" y="71"/>
                    <a:pt x="870" y="65"/>
                  </a:cubicBezTo>
                  <a:cubicBezTo>
                    <a:pt x="869" y="71"/>
                    <a:pt x="866" y="89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59" y="125"/>
                    <a:pt x="855" y="143"/>
                    <a:pt x="855" y="143"/>
                  </a:cubicBezTo>
                  <a:cubicBezTo>
                    <a:pt x="865" y="38"/>
                    <a:pt x="858" y="25"/>
                    <a:pt x="858" y="25"/>
                  </a:cubicBezTo>
                  <a:cubicBezTo>
                    <a:pt x="861" y="42"/>
                    <a:pt x="858" y="72"/>
                    <a:pt x="853" y="96"/>
                  </a:cubicBezTo>
                  <a:cubicBezTo>
                    <a:pt x="852" y="89"/>
                    <a:pt x="850" y="80"/>
                    <a:pt x="847" y="73"/>
                  </a:cubicBezTo>
                  <a:cubicBezTo>
                    <a:pt x="846" y="65"/>
                    <a:pt x="846" y="60"/>
                    <a:pt x="846" y="60"/>
                  </a:cubicBezTo>
                  <a:cubicBezTo>
                    <a:pt x="846" y="63"/>
                    <a:pt x="846" y="67"/>
                    <a:pt x="846" y="71"/>
                  </a:cubicBezTo>
                  <a:cubicBezTo>
                    <a:pt x="844" y="69"/>
                    <a:pt x="843" y="67"/>
                    <a:pt x="842" y="65"/>
                  </a:cubicBezTo>
                  <a:cubicBezTo>
                    <a:pt x="843" y="67"/>
                    <a:pt x="844" y="70"/>
                    <a:pt x="845" y="73"/>
                  </a:cubicBezTo>
                  <a:cubicBezTo>
                    <a:pt x="845" y="82"/>
                    <a:pt x="844" y="92"/>
                    <a:pt x="843" y="101"/>
                  </a:cubicBezTo>
                  <a:cubicBezTo>
                    <a:pt x="842" y="95"/>
                    <a:pt x="839" y="88"/>
                    <a:pt x="834" y="83"/>
                  </a:cubicBezTo>
                  <a:cubicBezTo>
                    <a:pt x="834" y="74"/>
                    <a:pt x="835" y="68"/>
                    <a:pt x="835" y="68"/>
                  </a:cubicBezTo>
                  <a:cubicBezTo>
                    <a:pt x="834" y="72"/>
                    <a:pt x="833" y="76"/>
                    <a:pt x="832" y="81"/>
                  </a:cubicBezTo>
                  <a:cubicBezTo>
                    <a:pt x="832" y="81"/>
                    <a:pt x="831" y="81"/>
                    <a:pt x="831" y="80"/>
                  </a:cubicBezTo>
                  <a:cubicBezTo>
                    <a:pt x="831" y="81"/>
                    <a:pt x="832" y="81"/>
                    <a:pt x="832" y="82"/>
                  </a:cubicBezTo>
                  <a:cubicBezTo>
                    <a:pt x="830" y="101"/>
                    <a:pt x="828" y="130"/>
                    <a:pt x="828" y="142"/>
                  </a:cubicBezTo>
                  <a:cubicBezTo>
                    <a:pt x="828" y="143"/>
                    <a:pt x="827" y="144"/>
                    <a:pt x="827" y="144"/>
                  </a:cubicBezTo>
                  <a:cubicBezTo>
                    <a:pt x="827" y="140"/>
                    <a:pt x="826" y="136"/>
                    <a:pt x="826" y="131"/>
                  </a:cubicBezTo>
                  <a:cubicBezTo>
                    <a:pt x="828" y="121"/>
                    <a:pt x="829" y="112"/>
                    <a:pt x="830" y="103"/>
                  </a:cubicBezTo>
                  <a:cubicBezTo>
                    <a:pt x="829" y="108"/>
                    <a:pt x="828" y="112"/>
                    <a:pt x="827" y="117"/>
                  </a:cubicBezTo>
                  <a:cubicBezTo>
                    <a:pt x="828" y="85"/>
                    <a:pt x="834" y="45"/>
                    <a:pt x="834" y="45"/>
                  </a:cubicBezTo>
                  <a:cubicBezTo>
                    <a:pt x="827" y="60"/>
                    <a:pt x="823" y="95"/>
                    <a:pt x="820" y="120"/>
                  </a:cubicBezTo>
                  <a:cubicBezTo>
                    <a:pt x="820" y="123"/>
                    <a:pt x="819" y="125"/>
                    <a:pt x="818" y="127"/>
                  </a:cubicBezTo>
                  <a:cubicBezTo>
                    <a:pt x="818" y="103"/>
                    <a:pt x="818" y="70"/>
                    <a:pt x="818" y="70"/>
                  </a:cubicBezTo>
                  <a:cubicBezTo>
                    <a:pt x="817" y="72"/>
                    <a:pt x="817" y="76"/>
                    <a:pt x="816" y="81"/>
                  </a:cubicBezTo>
                  <a:cubicBezTo>
                    <a:pt x="815" y="73"/>
                    <a:pt x="813" y="66"/>
                    <a:pt x="810" y="60"/>
                  </a:cubicBezTo>
                  <a:cubicBezTo>
                    <a:pt x="811" y="52"/>
                    <a:pt x="812" y="46"/>
                    <a:pt x="812" y="46"/>
                  </a:cubicBezTo>
                  <a:cubicBezTo>
                    <a:pt x="809" y="51"/>
                    <a:pt x="807" y="64"/>
                    <a:pt x="806" y="79"/>
                  </a:cubicBezTo>
                  <a:cubicBezTo>
                    <a:pt x="805" y="77"/>
                    <a:pt x="805" y="75"/>
                    <a:pt x="805" y="74"/>
                  </a:cubicBezTo>
                  <a:cubicBezTo>
                    <a:pt x="803" y="83"/>
                    <a:pt x="803" y="92"/>
                    <a:pt x="803" y="102"/>
                  </a:cubicBezTo>
                  <a:cubicBezTo>
                    <a:pt x="803" y="108"/>
                    <a:pt x="802" y="115"/>
                    <a:pt x="802" y="121"/>
                  </a:cubicBezTo>
                  <a:cubicBezTo>
                    <a:pt x="801" y="123"/>
                    <a:pt x="801" y="125"/>
                    <a:pt x="800" y="127"/>
                  </a:cubicBezTo>
                  <a:cubicBezTo>
                    <a:pt x="801" y="35"/>
                    <a:pt x="798" y="34"/>
                    <a:pt x="798" y="34"/>
                  </a:cubicBezTo>
                  <a:cubicBezTo>
                    <a:pt x="800" y="49"/>
                    <a:pt x="796" y="77"/>
                    <a:pt x="792" y="102"/>
                  </a:cubicBezTo>
                  <a:cubicBezTo>
                    <a:pt x="791" y="94"/>
                    <a:pt x="790" y="85"/>
                    <a:pt x="785" y="76"/>
                  </a:cubicBezTo>
                  <a:cubicBezTo>
                    <a:pt x="786" y="70"/>
                    <a:pt x="786" y="66"/>
                    <a:pt x="786" y="66"/>
                  </a:cubicBezTo>
                  <a:cubicBezTo>
                    <a:pt x="786" y="68"/>
                    <a:pt x="785" y="71"/>
                    <a:pt x="784" y="74"/>
                  </a:cubicBezTo>
                  <a:cubicBezTo>
                    <a:pt x="784" y="73"/>
                    <a:pt x="783" y="72"/>
                    <a:pt x="783" y="71"/>
                  </a:cubicBezTo>
                  <a:cubicBezTo>
                    <a:pt x="783" y="73"/>
                    <a:pt x="784" y="74"/>
                    <a:pt x="784" y="76"/>
                  </a:cubicBezTo>
                  <a:cubicBezTo>
                    <a:pt x="782" y="83"/>
                    <a:pt x="780" y="93"/>
                    <a:pt x="779" y="103"/>
                  </a:cubicBezTo>
                  <a:cubicBezTo>
                    <a:pt x="778" y="98"/>
                    <a:pt x="778" y="94"/>
                    <a:pt x="776" y="89"/>
                  </a:cubicBezTo>
                  <a:cubicBezTo>
                    <a:pt x="777" y="96"/>
                    <a:pt x="776" y="104"/>
                    <a:pt x="773" y="112"/>
                  </a:cubicBezTo>
                  <a:cubicBezTo>
                    <a:pt x="773" y="92"/>
                    <a:pt x="772" y="70"/>
                    <a:pt x="771" y="62"/>
                  </a:cubicBezTo>
                  <a:cubicBezTo>
                    <a:pt x="772" y="67"/>
                    <a:pt x="771" y="74"/>
                    <a:pt x="771" y="82"/>
                  </a:cubicBezTo>
                  <a:cubicBezTo>
                    <a:pt x="769" y="87"/>
                    <a:pt x="767" y="94"/>
                    <a:pt x="764" y="101"/>
                  </a:cubicBezTo>
                  <a:cubicBezTo>
                    <a:pt x="764" y="91"/>
                    <a:pt x="764" y="82"/>
                    <a:pt x="764" y="75"/>
                  </a:cubicBezTo>
                  <a:cubicBezTo>
                    <a:pt x="763" y="86"/>
                    <a:pt x="761" y="102"/>
                    <a:pt x="759" y="116"/>
                  </a:cubicBezTo>
                  <a:cubicBezTo>
                    <a:pt x="757" y="123"/>
                    <a:pt x="755" y="130"/>
                    <a:pt x="753" y="136"/>
                  </a:cubicBezTo>
                  <a:cubicBezTo>
                    <a:pt x="753" y="118"/>
                    <a:pt x="756" y="89"/>
                    <a:pt x="756" y="89"/>
                  </a:cubicBezTo>
                  <a:cubicBezTo>
                    <a:pt x="755" y="93"/>
                    <a:pt x="754" y="99"/>
                    <a:pt x="751" y="106"/>
                  </a:cubicBezTo>
                  <a:cubicBezTo>
                    <a:pt x="751" y="104"/>
                    <a:pt x="751" y="101"/>
                    <a:pt x="750" y="99"/>
                  </a:cubicBezTo>
                  <a:cubicBezTo>
                    <a:pt x="750" y="96"/>
                    <a:pt x="750" y="96"/>
                    <a:pt x="750" y="96"/>
                  </a:cubicBezTo>
                  <a:cubicBezTo>
                    <a:pt x="749" y="95"/>
                    <a:pt x="749" y="95"/>
                    <a:pt x="749" y="95"/>
                  </a:cubicBezTo>
                  <a:cubicBezTo>
                    <a:pt x="749" y="104"/>
                    <a:pt x="747" y="113"/>
                    <a:pt x="745" y="122"/>
                  </a:cubicBezTo>
                  <a:cubicBezTo>
                    <a:pt x="744" y="127"/>
                    <a:pt x="742" y="131"/>
                    <a:pt x="741" y="134"/>
                  </a:cubicBezTo>
                  <a:cubicBezTo>
                    <a:pt x="741" y="130"/>
                    <a:pt x="740" y="126"/>
                    <a:pt x="740" y="122"/>
                  </a:cubicBezTo>
                  <a:cubicBezTo>
                    <a:pt x="744" y="102"/>
                    <a:pt x="751" y="76"/>
                    <a:pt x="751" y="76"/>
                  </a:cubicBezTo>
                  <a:cubicBezTo>
                    <a:pt x="746" y="82"/>
                    <a:pt x="742" y="94"/>
                    <a:pt x="737" y="105"/>
                  </a:cubicBezTo>
                  <a:cubicBezTo>
                    <a:pt x="737" y="102"/>
                    <a:pt x="736" y="98"/>
                    <a:pt x="734" y="95"/>
                  </a:cubicBezTo>
                  <a:cubicBezTo>
                    <a:pt x="735" y="74"/>
                    <a:pt x="732" y="62"/>
                    <a:pt x="732" y="62"/>
                  </a:cubicBezTo>
                  <a:cubicBezTo>
                    <a:pt x="733" y="69"/>
                    <a:pt x="733" y="78"/>
                    <a:pt x="732" y="88"/>
                  </a:cubicBezTo>
                  <a:cubicBezTo>
                    <a:pt x="729" y="83"/>
                    <a:pt x="726" y="78"/>
                    <a:pt x="722" y="73"/>
                  </a:cubicBezTo>
                  <a:cubicBezTo>
                    <a:pt x="727" y="80"/>
                    <a:pt x="729" y="92"/>
                    <a:pt x="730" y="102"/>
                  </a:cubicBezTo>
                  <a:cubicBezTo>
                    <a:pt x="729" y="108"/>
                    <a:pt x="728" y="115"/>
                    <a:pt x="727" y="120"/>
                  </a:cubicBezTo>
                  <a:cubicBezTo>
                    <a:pt x="726" y="113"/>
                    <a:pt x="725" y="106"/>
                    <a:pt x="723" y="100"/>
                  </a:cubicBezTo>
                  <a:cubicBezTo>
                    <a:pt x="724" y="89"/>
                    <a:pt x="725" y="82"/>
                    <a:pt x="725" y="82"/>
                  </a:cubicBezTo>
                  <a:cubicBezTo>
                    <a:pt x="723" y="98"/>
                    <a:pt x="723" y="98"/>
                    <a:pt x="723" y="98"/>
                  </a:cubicBezTo>
                  <a:cubicBezTo>
                    <a:pt x="722" y="94"/>
                    <a:pt x="721" y="91"/>
                    <a:pt x="719" y="88"/>
                  </a:cubicBezTo>
                  <a:cubicBezTo>
                    <a:pt x="719" y="73"/>
                    <a:pt x="719" y="60"/>
                    <a:pt x="719" y="60"/>
                  </a:cubicBezTo>
                  <a:cubicBezTo>
                    <a:pt x="719" y="72"/>
                    <a:pt x="716" y="90"/>
                    <a:pt x="716" y="90"/>
                  </a:cubicBezTo>
                  <a:cubicBezTo>
                    <a:pt x="714" y="84"/>
                    <a:pt x="714" y="64"/>
                    <a:pt x="714" y="64"/>
                  </a:cubicBezTo>
                  <a:cubicBezTo>
                    <a:pt x="714" y="68"/>
                    <a:pt x="712" y="83"/>
                    <a:pt x="710" y="98"/>
                  </a:cubicBezTo>
                  <a:cubicBezTo>
                    <a:pt x="710" y="96"/>
                    <a:pt x="710" y="95"/>
                    <a:pt x="709" y="93"/>
                  </a:cubicBezTo>
                  <a:cubicBezTo>
                    <a:pt x="708" y="88"/>
                    <a:pt x="706" y="82"/>
                    <a:pt x="705" y="76"/>
                  </a:cubicBezTo>
                  <a:cubicBezTo>
                    <a:pt x="705" y="57"/>
                    <a:pt x="704" y="42"/>
                    <a:pt x="704" y="42"/>
                  </a:cubicBezTo>
                  <a:cubicBezTo>
                    <a:pt x="705" y="49"/>
                    <a:pt x="704" y="59"/>
                    <a:pt x="703" y="70"/>
                  </a:cubicBezTo>
                  <a:cubicBezTo>
                    <a:pt x="701" y="64"/>
                    <a:pt x="698" y="57"/>
                    <a:pt x="695" y="51"/>
                  </a:cubicBezTo>
                  <a:cubicBezTo>
                    <a:pt x="695" y="52"/>
                    <a:pt x="694" y="54"/>
                    <a:pt x="694" y="55"/>
                  </a:cubicBezTo>
                  <a:cubicBezTo>
                    <a:pt x="698" y="65"/>
                    <a:pt x="700" y="74"/>
                    <a:pt x="702" y="82"/>
                  </a:cubicBezTo>
                  <a:cubicBezTo>
                    <a:pt x="701" y="88"/>
                    <a:pt x="700" y="94"/>
                    <a:pt x="699" y="100"/>
                  </a:cubicBezTo>
                  <a:cubicBezTo>
                    <a:pt x="698" y="96"/>
                    <a:pt x="697" y="92"/>
                    <a:pt x="696" y="88"/>
                  </a:cubicBezTo>
                  <a:cubicBezTo>
                    <a:pt x="697" y="78"/>
                    <a:pt x="698" y="70"/>
                    <a:pt x="698" y="70"/>
                  </a:cubicBezTo>
                  <a:cubicBezTo>
                    <a:pt x="697" y="72"/>
                    <a:pt x="696" y="78"/>
                    <a:pt x="695" y="85"/>
                  </a:cubicBezTo>
                  <a:cubicBezTo>
                    <a:pt x="693" y="82"/>
                    <a:pt x="691" y="79"/>
                    <a:pt x="689" y="76"/>
                  </a:cubicBezTo>
                  <a:cubicBezTo>
                    <a:pt x="688" y="71"/>
                    <a:pt x="688" y="66"/>
                    <a:pt x="688" y="61"/>
                  </a:cubicBezTo>
                  <a:cubicBezTo>
                    <a:pt x="688" y="73"/>
                    <a:pt x="685" y="88"/>
                    <a:pt x="683" y="101"/>
                  </a:cubicBezTo>
                  <a:cubicBezTo>
                    <a:pt x="681" y="95"/>
                    <a:pt x="679" y="90"/>
                    <a:pt x="677" y="86"/>
                  </a:cubicBezTo>
                  <a:cubicBezTo>
                    <a:pt x="678" y="73"/>
                    <a:pt x="678" y="64"/>
                    <a:pt x="678" y="64"/>
                  </a:cubicBezTo>
                  <a:cubicBezTo>
                    <a:pt x="678" y="71"/>
                    <a:pt x="676" y="82"/>
                    <a:pt x="674" y="95"/>
                  </a:cubicBezTo>
                  <a:cubicBezTo>
                    <a:pt x="672" y="87"/>
                    <a:pt x="670" y="79"/>
                    <a:pt x="666" y="71"/>
                  </a:cubicBezTo>
                  <a:cubicBezTo>
                    <a:pt x="668" y="49"/>
                    <a:pt x="669" y="30"/>
                    <a:pt x="669" y="30"/>
                  </a:cubicBezTo>
                  <a:cubicBezTo>
                    <a:pt x="667" y="35"/>
                    <a:pt x="665" y="49"/>
                    <a:pt x="663" y="65"/>
                  </a:cubicBezTo>
                  <a:cubicBezTo>
                    <a:pt x="662" y="62"/>
                    <a:pt x="660" y="59"/>
                    <a:pt x="658" y="56"/>
                  </a:cubicBezTo>
                  <a:cubicBezTo>
                    <a:pt x="658" y="63"/>
                    <a:pt x="660" y="70"/>
                    <a:pt x="662" y="78"/>
                  </a:cubicBezTo>
                  <a:cubicBezTo>
                    <a:pt x="661" y="87"/>
                    <a:pt x="660" y="97"/>
                    <a:pt x="659" y="106"/>
                  </a:cubicBezTo>
                  <a:cubicBezTo>
                    <a:pt x="659" y="105"/>
                    <a:pt x="659" y="104"/>
                    <a:pt x="658" y="103"/>
                  </a:cubicBezTo>
                  <a:cubicBezTo>
                    <a:pt x="659" y="104"/>
                    <a:pt x="659" y="106"/>
                    <a:pt x="659" y="109"/>
                  </a:cubicBezTo>
                  <a:cubicBezTo>
                    <a:pt x="658" y="120"/>
                    <a:pt x="657" y="131"/>
                    <a:pt x="657" y="138"/>
                  </a:cubicBezTo>
                  <a:cubicBezTo>
                    <a:pt x="657" y="137"/>
                    <a:pt x="656" y="135"/>
                    <a:pt x="656" y="134"/>
                  </a:cubicBezTo>
                  <a:cubicBezTo>
                    <a:pt x="655" y="99"/>
                    <a:pt x="650" y="41"/>
                    <a:pt x="650" y="41"/>
                  </a:cubicBezTo>
                  <a:cubicBezTo>
                    <a:pt x="652" y="58"/>
                    <a:pt x="650" y="86"/>
                    <a:pt x="648" y="108"/>
                  </a:cubicBezTo>
                  <a:cubicBezTo>
                    <a:pt x="647" y="105"/>
                    <a:pt x="645" y="102"/>
                    <a:pt x="644" y="99"/>
                  </a:cubicBezTo>
                  <a:cubicBezTo>
                    <a:pt x="644" y="86"/>
                    <a:pt x="644" y="73"/>
                    <a:pt x="644" y="67"/>
                  </a:cubicBezTo>
                  <a:cubicBezTo>
                    <a:pt x="643" y="75"/>
                    <a:pt x="642" y="85"/>
                    <a:pt x="641" y="94"/>
                  </a:cubicBezTo>
                  <a:cubicBezTo>
                    <a:pt x="640" y="92"/>
                    <a:pt x="639" y="91"/>
                    <a:pt x="638" y="89"/>
                  </a:cubicBezTo>
                  <a:cubicBezTo>
                    <a:pt x="639" y="91"/>
                    <a:pt x="640" y="94"/>
                    <a:pt x="640" y="97"/>
                  </a:cubicBezTo>
                  <a:cubicBezTo>
                    <a:pt x="639" y="104"/>
                    <a:pt x="638" y="110"/>
                    <a:pt x="636" y="116"/>
                  </a:cubicBezTo>
                  <a:cubicBezTo>
                    <a:pt x="635" y="110"/>
                    <a:pt x="634" y="105"/>
                    <a:pt x="632" y="101"/>
                  </a:cubicBezTo>
                  <a:cubicBezTo>
                    <a:pt x="633" y="91"/>
                    <a:pt x="634" y="83"/>
                    <a:pt x="634" y="83"/>
                  </a:cubicBezTo>
                  <a:cubicBezTo>
                    <a:pt x="634" y="86"/>
                    <a:pt x="633" y="92"/>
                    <a:pt x="631" y="98"/>
                  </a:cubicBezTo>
                  <a:cubicBezTo>
                    <a:pt x="630" y="94"/>
                    <a:pt x="629" y="91"/>
                    <a:pt x="628" y="89"/>
                  </a:cubicBezTo>
                  <a:cubicBezTo>
                    <a:pt x="629" y="74"/>
                    <a:pt x="631" y="62"/>
                    <a:pt x="631" y="62"/>
                  </a:cubicBezTo>
                  <a:cubicBezTo>
                    <a:pt x="629" y="65"/>
                    <a:pt x="628" y="75"/>
                    <a:pt x="626" y="87"/>
                  </a:cubicBezTo>
                  <a:cubicBezTo>
                    <a:pt x="624" y="83"/>
                    <a:pt x="622" y="81"/>
                    <a:pt x="619" y="78"/>
                  </a:cubicBezTo>
                  <a:cubicBezTo>
                    <a:pt x="622" y="81"/>
                    <a:pt x="624" y="84"/>
                    <a:pt x="626" y="89"/>
                  </a:cubicBezTo>
                  <a:cubicBezTo>
                    <a:pt x="625" y="96"/>
                    <a:pt x="624" y="105"/>
                    <a:pt x="623" y="113"/>
                  </a:cubicBezTo>
                  <a:cubicBezTo>
                    <a:pt x="622" y="108"/>
                    <a:pt x="621" y="104"/>
                    <a:pt x="619" y="100"/>
                  </a:cubicBezTo>
                  <a:cubicBezTo>
                    <a:pt x="618" y="86"/>
                    <a:pt x="616" y="73"/>
                    <a:pt x="615" y="68"/>
                  </a:cubicBezTo>
                  <a:cubicBezTo>
                    <a:pt x="615" y="71"/>
                    <a:pt x="616" y="76"/>
                    <a:pt x="615" y="86"/>
                  </a:cubicBezTo>
                  <a:cubicBezTo>
                    <a:pt x="615" y="87"/>
                    <a:pt x="615" y="88"/>
                    <a:pt x="615" y="90"/>
                  </a:cubicBezTo>
                  <a:cubicBezTo>
                    <a:pt x="614" y="87"/>
                    <a:pt x="612" y="84"/>
                    <a:pt x="610" y="81"/>
                  </a:cubicBezTo>
                  <a:cubicBezTo>
                    <a:pt x="613" y="85"/>
                    <a:pt x="614" y="91"/>
                    <a:pt x="614" y="96"/>
                  </a:cubicBezTo>
                  <a:cubicBezTo>
                    <a:pt x="613" y="105"/>
                    <a:pt x="611" y="115"/>
                    <a:pt x="609" y="124"/>
                  </a:cubicBezTo>
                  <a:cubicBezTo>
                    <a:pt x="609" y="113"/>
                    <a:pt x="608" y="102"/>
                    <a:pt x="606" y="91"/>
                  </a:cubicBezTo>
                  <a:cubicBezTo>
                    <a:pt x="606" y="77"/>
                    <a:pt x="606" y="77"/>
                    <a:pt x="606" y="77"/>
                  </a:cubicBezTo>
                  <a:cubicBezTo>
                    <a:pt x="609" y="35"/>
                    <a:pt x="602" y="19"/>
                    <a:pt x="602" y="19"/>
                  </a:cubicBezTo>
                  <a:cubicBezTo>
                    <a:pt x="602" y="19"/>
                    <a:pt x="605" y="31"/>
                    <a:pt x="604" y="54"/>
                  </a:cubicBezTo>
                  <a:cubicBezTo>
                    <a:pt x="604" y="59"/>
                    <a:pt x="603" y="68"/>
                    <a:pt x="602" y="78"/>
                  </a:cubicBezTo>
                  <a:cubicBezTo>
                    <a:pt x="599" y="72"/>
                    <a:pt x="596" y="66"/>
                    <a:pt x="592" y="60"/>
                  </a:cubicBezTo>
                  <a:cubicBezTo>
                    <a:pt x="592" y="61"/>
                    <a:pt x="592" y="61"/>
                    <a:pt x="592" y="61"/>
                  </a:cubicBezTo>
                  <a:cubicBezTo>
                    <a:pt x="592" y="62"/>
                    <a:pt x="592" y="63"/>
                    <a:pt x="592" y="64"/>
                  </a:cubicBezTo>
                  <a:cubicBezTo>
                    <a:pt x="591" y="44"/>
                    <a:pt x="583" y="40"/>
                    <a:pt x="583" y="40"/>
                  </a:cubicBezTo>
                  <a:cubicBezTo>
                    <a:pt x="583" y="40"/>
                    <a:pt x="589" y="44"/>
                    <a:pt x="589" y="70"/>
                  </a:cubicBezTo>
                  <a:cubicBezTo>
                    <a:pt x="589" y="76"/>
                    <a:pt x="588" y="85"/>
                    <a:pt x="586" y="94"/>
                  </a:cubicBezTo>
                  <a:cubicBezTo>
                    <a:pt x="584" y="90"/>
                    <a:pt x="581" y="86"/>
                    <a:pt x="578" y="83"/>
                  </a:cubicBezTo>
                  <a:cubicBezTo>
                    <a:pt x="581" y="87"/>
                    <a:pt x="584" y="92"/>
                    <a:pt x="586" y="97"/>
                  </a:cubicBezTo>
                  <a:cubicBezTo>
                    <a:pt x="585" y="100"/>
                    <a:pt x="585" y="103"/>
                    <a:pt x="584" y="106"/>
                  </a:cubicBezTo>
                  <a:cubicBezTo>
                    <a:pt x="584" y="104"/>
                    <a:pt x="583" y="102"/>
                    <a:pt x="583" y="100"/>
                  </a:cubicBezTo>
                  <a:cubicBezTo>
                    <a:pt x="583" y="102"/>
                    <a:pt x="583" y="105"/>
                    <a:pt x="584" y="108"/>
                  </a:cubicBezTo>
                  <a:cubicBezTo>
                    <a:pt x="583" y="111"/>
                    <a:pt x="582" y="114"/>
                    <a:pt x="581" y="117"/>
                  </a:cubicBezTo>
                  <a:cubicBezTo>
                    <a:pt x="580" y="113"/>
                    <a:pt x="579" y="108"/>
                    <a:pt x="577" y="104"/>
                  </a:cubicBezTo>
                  <a:cubicBezTo>
                    <a:pt x="577" y="87"/>
                    <a:pt x="578" y="71"/>
                    <a:pt x="578" y="71"/>
                  </a:cubicBezTo>
                  <a:cubicBezTo>
                    <a:pt x="578" y="73"/>
                    <a:pt x="576" y="84"/>
                    <a:pt x="573" y="97"/>
                  </a:cubicBezTo>
                  <a:cubicBezTo>
                    <a:pt x="572" y="95"/>
                    <a:pt x="571" y="93"/>
                    <a:pt x="570" y="92"/>
                  </a:cubicBezTo>
                  <a:cubicBezTo>
                    <a:pt x="571" y="81"/>
                    <a:pt x="572" y="72"/>
                    <a:pt x="573" y="66"/>
                  </a:cubicBezTo>
                  <a:cubicBezTo>
                    <a:pt x="572" y="73"/>
                    <a:pt x="571" y="81"/>
                    <a:pt x="569" y="90"/>
                  </a:cubicBezTo>
                  <a:cubicBezTo>
                    <a:pt x="568" y="88"/>
                    <a:pt x="566" y="86"/>
                    <a:pt x="565" y="83"/>
                  </a:cubicBezTo>
                  <a:cubicBezTo>
                    <a:pt x="568" y="26"/>
                    <a:pt x="566" y="12"/>
                    <a:pt x="566" y="12"/>
                  </a:cubicBezTo>
                  <a:cubicBezTo>
                    <a:pt x="566" y="12"/>
                    <a:pt x="566" y="18"/>
                    <a:pt x="563" y="56"/>
                  </a:cubicBezTo>
                  <a:cubicBezTo>
                    <a:pt x="562" y="64"/>
                    <a:pt x="561" y="71"/>
                    <a:pt x="560" y="78"/>
                  </a:cubicBezTo>
                  <a:cubicBezTo>
                    <a:pt x="558" y="76"/>
                    <a:pt x="556" y="73"/>
                    <a:pt x="553" y="71"/>
                  </a:cubicBezTo>
                  <a:cubicBezTo>
                    <a:pt x="554" y="48"/>
                    <a:pt x="555" y="31"/>
                    <a:pt x="555" y="31"/>
                  </a:cubicBezTo>
                  <a:cubicBezTo>
                    <a:pt x="553" y="37"/>
                    <a:pt x="551" y="52"/>
                    <a:pt x="550" y="68"/>
                  </a:cubicBezTo>
                  <a:cubicBezTo>
                    <a:pt x="548" y="66"/>
                    <a:pt x="546" y="65"/>
                    <a:pt x="544" y="63"/>
                  </a:cubicBezTo>
                  <a:cubicBezTo>
                    <a:pt x="547" y="65"/>
                    <a:pt x="548" y="67"/>
                    <a:pt x="550" y="69"/>
                  </a:cubicBezTo>
                  <a:cubicBezTo>
                    <a:pt x="549" y="82"/>
                    <a:pt x="549" y="96"/>
                    <a:pt x="548" y="109"/>
                  </a:cubicBezTo>
                  <a:cubicBezTo>
                    <a:pt x="547" y="104"/>
                    <a:pt x="545" y="99"/>
                    <a:pt x="544" y="96"/>
                  </a:cubicBezTo>
                  <a:cubicBezTo>
                    <a:pt x="545" y="104"/>
                    <a:pt x="546" y="112"/>
                    <a:pt x="548" y="120"/>
                  </a:cubicBezTo>
                  <a:cubicBezTo>
                    <a:pt x="548" y="123"/>
                    <a:pt x="548" y="126"/>
                    <a:pt x="548" y="128"/>
                  </a:cubicBezTo>
                  <a:cubicBezTo>
                    <a:pt x="547" y="125"/>
                    <a:pt x="545" y="122"/>
                    <a:pt x="544" y="118"/>
                  </a:cubicBezTo>
                  <a:cubicBezTo>
                    <a:pt x="539" y="80"/>
                    <a:pt x="532" y="28"/>
                    <a:pt x="532" y="28"/>
                  </a:cubicBezTo>
                  <a:cubicBezTo>
                    <a:pt x="532" y="39"/>
                    <a:pt x="530" y="72"/>
                    <a:pt x="528" y="100"/>
                  </a:cubicBezTo>
                  <a:cubicBezTo>
                    <a:pt x="528" y="98"/>
                    <a:pt x="527" y="97"/>
                    <a:pt x="526" y="96"/>
                  </a:cubicBezTo>
                  <a:cubicBezTo>
                    <a:pt x="527" y="97"/>
                    <a:pt x="528" y="99"/>
                    <a:pt x="528" y="100"/>
                  </a:cubicBezTo>
                  <a:cubicBezTo>
                    <a:pt x="528" y="110"/>
                    <a:pt x="527" y="120"/>
                    <a:pt x="526" y="128"/>
                  </a:cubicBezTo>
                  <a:cubicBezTo>
                    <a:pt x="526" y="128"/>
                    <a:pt x="526" y="127"/>
                    <a:pt x="526" y="127"/>
                  </a:cubicBezTo>
                  <a:cubicBezTo>
                    <a:pt x="526" y="109"/>
                    <a:pt x="524" y="87"/>
                    <a:pt x="523" y="71"/>
                  </a:cubicBezTo>
                  <a:cubicBezTo>
                    <a:pt x="524" y="68"/>
                    <a:pt x="525" y="66"/>
                    <a:pt x="526" y="64"/>
                  </a:cubicBezTo>
                  <a:cubicBezTo>
                    <a:pt x="525" y="65"/>
                    <a:pt x="524" y="67"/>
                    <a:pt x="523" y="69"/>
                  </a:cubicBezTo>
                  <a:cubicBezTo>
                    <a:pt x="522" y="61"/>
                    <a:pt x="521" y="55"/>
                    <a:pt x="521" y="53"/>
                  </a:cubicBezTo>
                  <a:cubicBezTo>
                    <a:pt x="521" y="52"/>
                    <a:pt x="522" y="52"/>
                    <a:pt x="522" y="51"/>
                  </a:cubicBezTo>
                  <a:cubicBezTo>
                    <a:pt x="522" y="51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19" y="54"/>
                    <a:pt x="517" y="56"/>
                    <a:pt x="516" y="57"/>
                  </a:cubicBezTo>
                  <a:cubicBezTo>
                    <a:pt x="516" y="54"/>
                    <a:pt x="516" y="52"/>
                    <a:pt x="517" y="50"/>
                  </a:cubicBezTo>
                  <a:cubicBezTo>
                    <a:pt x="520" y="46"/>
                    <a:pt x="523" y="42"/>
                    <a:pt x="527" y="38"/>
                  </a:cubicBezTo>
                  <a:cubicBezTo>
                    <a:pt x="523" y="41"/>
                    <a:pt x="520" y="44"/>
                    <a:pt x="517" y="47"/>
                  </a:cubicBezTo>
                  <a:cubicBezTo>
                    <a:pt x="517" y="43"/>
                    <a:pt x="518" y="40"/>
                    <a:pt x="518" y="40"/>
                  </a:cubicBezTo>
                  <a:cubicBezTo>
                    <a:pt x="517" y="43"/>
                    <a:pt x="516" y="46"/>
                    <a:pt x="515" y="50"/>
                  </a:cubicBezTo>
                  <a:cubicBezTo>
                    <a:pt x="507" y="58"/>
                    <a:pt x="502" y="66"/>
                    <a:pt x="498" y="75"/>
                  </a:cubicBezTo>
                  <a:cubicBezTo>
                    <a:pt x="498" y="70"/>
                    <a:pt x="497" y="66"/>
                    <a:pt x="497" y="63"/>
                  </a:cubicBezTo>
                  <a:cubicBezTo>
                    <a:pt x="500" y="57"/>
                    <a:pt x="503" y="50"/>
                    <a:pt x="507" y="42"/>
                  </a:cubicBezTo>
                  <a:cubicBezTo>
                    <a:pt x="498" y="52"/>
                    <a:pt x="492" y="61"/>
                    <a:pt x="488" y="71"/>
                  </a:cubicBezTo>
                  <a:cubicBezTo>
                    <a:pt x="487" y="70"/>
                    <a:pt x="487" y="70"/>
                    <a:pt x="486" y="69"/>
                  </a:cubicBezTo>
                  <a:cubicBezTo>
                    <a:pt x="486" y="68"/>
                    <a:pt x="486" y="67"/>
                    <a:pt x="486" y="65"/>
                  </a:cubicBezTo>
                  <a:cubicBezTo>
                    <a:pt x="492" y="53"/>
                    <a:pt x="500" y="41"/>
                    <a:pt x="511" y="25"/>
                  </a:cubicBezTo>
                  <a:cubicBezTo>
                    <a:pt x="500" y="40"/>
                    <a:pt x="492" y="51"/>
                    <a:pt x="485" y="63"/>
                  </a:cubicBezTo>
                  <a:cubicBezTo>
                    <a:pt x="483" y="45"/>
                    <a:pt x="482" y="30"/>
                    <a:pt x="482" y="30"/>
                  </a:cubicBezTo>
                  <a:cubicBezTo>
                    <a:pt x="482" y="35"/>
                    <a:pt x="482" y="49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7"/>
                    <a:pt x="482" y="69"/>
                    <a:pt x="482" y="71"/>
                  </a:cubicBezTo>
                  <a:cubicBezTo>
                    <a:pt x="480" y="74"/>
                    <a:pt x="479" y="78"/>
                    <a:pt x="478" y="81"/>
                  </a:cubicBezTo>
                  <a:cubicBezTo>
                    <a:pt x="479" y="78"/>
                    <a:pt x="480" y="76"/>
                    <a:pt x="482" y="73"/>
                  </a:cubicBezTo>
                  <a:cubicBezTo>
                    <a:pt x="481" y="79"/>
                    <a:pt x="481" y="85"/>
                    <a:pt x="481" y="91"/>
                  </a:cubicBezTo>
                  <a:cubicBezTo>
                    <a:pt x="481" y="93"/>
                    <a:pt x="480" y="95"/>
                    <a:pt x="480" y="97"/>
                  </a:cubicBezTo>
                  <a:cubicBezTo>
                    <a:pt x="479" y="96"/>
                    <a:pt x="478" y="95"/>
                    <a:pt x="478" y="94"/>
                  </a:cubicBezTo>
                  <a:cubicBezTo>
                    <a:pt x="478" y="91"/>
                    <a:pt x="477" y="88"/>
                    <a:pt x="477" y="85"/>
                  </a:cubicBezTo>
                  <a:cubicBezTo>
                    <a:pt x="477" y="83"/>
                    <a:pt x="478" y="82"/>
                    <a:pt x="478" y="81"/>
                  </a:cubicBezTo>
                  <a:cubicBezTo>
                    <a:pt x="478" y="82"/>
                    <a:pt x="477" y="83"/>
                    <a:pt x="477" y="84"/>
                  </a:cubicBezTo>
                  <a:cubicBezTo>
                    <a:pt x="476" y="72"/>
                    <a:pt x="476" y="62"/>
                    <a:pt x="475" y="55"/>
                  </a:cubicBezTo>
                  <a:cubicBezTo>
                    <a:pt x="476" y="54"/>
                    <a:pt x="477" y="53"/>
                    <a:pt x="479" y="52"/>
                  </a:cubicBezTo>
                  <a:cubicBezTo>
                    <a:pt x="477" y="53"/>
                    <a:pt x="476" y="54"/>
                    <a:pt x="475" y="54"/>
                  </a:cubicBezTo>
                  <a:cubicBezTo>
                    <a:pt x="475" y="49"/>
                    <a:pt x="475" y="46"/>
                    <a:pt x="475" y="46"/>
                  </a:cubicBezTo>
                  <a:cubicBezTo>
                    <a:pt x="475" y="48"/>
                    <a:pt x="474" y="51"/>
                    <a:pt x="474" y="55"/>
                  </a:cubicBezTo>
                  <a:cubicBezTo>
                    <a:pt x="471" y="57"/>
                    <a:pt x="468" y="59"/>
                    <a:pt x="465" y="62"/>
                  </a:cubicBezTo>
                  <a:cubicBezTo>
                    <a:pt x="465" y="58"/>
                    <a:pt x="465" y="54"/>
                    <a:pt x="466" y="50"/>
                  </a:cubicBezTo>
                  <a:cubicBezTo>
                    <a:pt x="469" y="45"/>
                    <a:pt x="474" y="40"/>
                    <a:pt x="479" y="34"/>
                  </a:cubicBezTo>
                  <a:cubicBezTo>
                    <a:pt x="474" y="39"/>
                    <a:pt x="470" y="44"/>
                    <a:pt x="466" y="48"/>
                  </a:cubicBezTo>
                  <a:cubicBezTo>
                    <a:pt x="467" y="21"/>
                    <a:pt x="468" y="0"/>
                    <a:pt x="468" y="0"/>
                  </a:cubicBezTo>
                  <a:cubicBezTo>
                    <a:pt x="464" y="10"/>
                    <a:pt x="462" y="35"/>
                    <a:pt x="461" y="53"/>
                  </a:cubicBezTo>
                  <a:cubicBezTo>
                    <a:pt x="460" y="54"/>
                    <a:pt x="459" y="55"/>
                    <a:pt x="459" y="56"/>
                  </a:cubicBezTo>
                  <a:cubicBezTo>
                    <a:pt x="457" y="44"/>
                    <a:pt x="454" y="33"/>
                    <a:pt x="454" y="33"/>
                  </a:cubicBezTo>
                  <a:cubicBezTo>
                    <a:pt x="456" y="39"/>
                    <a:pt x="455" y="49"/>
                    <a:pt x="454" y="62"/>
                  </a:cubicBezTo>
                  <a:cubicBezTo>
                    <a:pt x="452" y="63"/>
                    <a:pt x="451" y="65"/>
                    <a:pt x="450" y="67"/>
                  </a:cubicBezTo>
                  <a:cubicBezTo>
                    <a:pt x="449" y="65"/>
                    <a:pt x="448" y="63"/>
                    <a:pt x="447" y="62"/>
                  </a:cubicBezTo>
                  <a:cubicBezTo>
                    <a:pt x="447" y="63"/>
                    <a:pt x="448" y="65"/>
                    <a:pt x="449" y="68"/>
                  </a:cubicBezTo>
                  <a:cubicBezTo>
                    <a:pt x="447" y="72"/>
                    <a:pt x="445" y="75"/>
                    <a:pt x="443" y="78"/>
                  </a:cubicBezTo>
                  <a:cubicBezTo>
                    <a:pt x="442" y="61"/>
                    <a:pt x="442" y="48"/>
                    <a:pt x="442" y="48"/>
                  </a:cubicBezTo>
                  <a:cubicBezTo>
                    <a:pt x="442" y="52"/>
                    <a:pt x="440" y="65"/>
                    <a:pt x="438" y="80"/>
                  </a:cubicBezTo>
                  <a:cubicBezTo>
                    <a:pt x="438" y="82"/>
                    <a:pt x="437" y="85"/>
                    <a:pt x="436" y="87"/>
                  </a:cubicBezTo>
                  <a:cubicBezTo>
                    <a:pt x="435" y="86"/>
                    <a:pt x="435" y="86"/>
                    <a:pt x="434" y="85"/>
                  </a:cubicBezTo>
                  <a:cubicBezTo>
                    <a:pt x="437" y="48"/>
                    <a:pt x="440" y="9"/>
                    <a:pt x="440" y="9"/>
                  </a:cubicBezTo>
                  <a:cubicBezTo>
                    <a:pt x="436" y="20"/>
                    <a:pt x="432" y="57"/>
                    <a:pt x="428" y="89"/>
                  </a:cubicBezTo>
                  <a:cubicBezTo>
                    <a:pt x="427" y="91"/>
                    <a:pt x="427" y="92"/>
                    <a:pt x="426" y="93"/>
                  </a:cubicBezTo>
                  <a:cubicBezTo>
                    <a:pt x="425" y="92"/>
                    <a:pt x="424" y="90"/>
                    <a:pt x="423" y="89"/>
                  </a:cubicBezTo>
                  <a:cubicBezTo>
                    <a:pt x="426" y="72"/>
                    <a:pt x="429" y="55"/>
                    <a:pt x="429" y="37"/>
                  </a:cubicBezTo>
                  <a:cubicBezTo>
                    <a:pt x="429" y="34"/>
                    <a:pt x="429" y="30"/>
                    <a:pt x="429" y="26"/>
                  </a:cubicBezTo>
                  <a:cubicBezTo>
                    <a:pt x="422" y="45"/>
                    <a:pt x="421" y="66"/>
                    <a:pt x="417" y="86"/>
                  </a:cubicBezTo>
                  <a:cubicBezTo>
                    <a:pt x="417" y="85"/>
                    <a:pt x="416" y="84"/>
                    <a:pt x="416" y="84"/>
                  </a:cubicBezTo>
                  <a:cubicBezTo>
                    <a:pt x="416" y="84"/>
                    <a:pt x="417" y="85"/>
                    <a:pt x="417" y="86"/>
                  </a:cubicBezTo>
                  <a:cubicBezTo>
                    <a:pt x="417" y="88"/>
                    <a:pt x="416" y="90"/>
                    <a:pt x="416" y="92"/>
                  </a:cubicBezTo>
                  <a:cubicBezTo>
                    <a:pt x="415" y="94"/>
                    <a:pt x="415" y="96"/>
                    <a:pt x="414" y="98"/>
                  </a:cubicBezTo>
                  <a:cubicBezTo>
                    <a:pt x="414" y="97"/>
                    <a:pt x="413" y="96"/>
                    <a:pt x="412" y="95"/>
                  </a:cubicBezTo>
                  <a:cubicBezTo>
                    <a:pt x="412" y="86"/>
                    <a:pt x="411" y="78"/>
                    <a:pt x="410" y="72"/>
                  </a:cubicBezTo>
                  <a:cubicBezTo>
                    <a:pt x="413" y="67"/>
                    <a:pt x="417" y="63"/>
                    <a:pt x="421" y="59"/>
                  </a:cubicBezTo>
                  <a:cubicBezTo>
                    <a:pt x="417" y="62"/>
                    <a:pt x="413" y="66"/>
                    <a:pt x="410" y="70"/>
                  </a:cubicBezTo>
                  <a:cubicBezTo>
                    <a:pt x="409" y="64"/>
                    <a:pt x="409" y="60"/>
                    <a:pt x="408" y="57"/>
                  </a:cubicBezTo>
                  <a:cubicBezTo>
                    <a:pt x="410" y="54"/>
                    <a:pt x="411" y="52"/>
                    <a:pt x="412" y="50"/>
                  </a:cubicBezTo>
                  <a:cubicBezTo>
                    <a:pt x="411" y="51"/>
                    <a:pt x="409" y="53"/>
                    <a:pt x="408" y="54"/>
                  </a:cubicBezTo>
                  <a:cubicBezTo>
                    <a:pt x="408" y="53"/>
                    <a:pt x="408" y="52"/>
                    <a:pt x="408" y="52"/>
                  </a:cubicBezTo>
                  <a:cubicBezTo>
                    <a:pt x="408" y="53"/>
                    <a:pt x="408" y="54"/>
                    <a:pt x="408" y="54"/>
                  </a:cubicBezTo>
                  <a:cubicBezTo>
                    <a:pt x="406" y="56"/>
                    <a:pt x="404" y="58"/>
                    <a:pt x="402" y="60"/>
                  </a:cubicBezTo>
                  <a:cubicBezTo>
                    <a:pt x="401" y="54"/>
                    <a:pt x="400" y="48"/>
                    <a:pt x="399" y="44"/>
                  </a:cubicBezTo>
                  <a:cubicBezTo>
                    <a:pt x="400" y="49"/>
                    <a:pt x="399" y="56"/>
                    <a:pt x="398" y="64"/>
                  </a:cubicBezTo>
                  <a:cubicBezTo>
                    <a:pt x="397" y="66"/>
                    <a:pt x="396" y="68"/>
                    <a:pt x="395" y="69"/>
                  </a:cubicBezTo>
                  <a:cubicBezTo>
                    <a:pt x="393" y="67"/>
                    <a:pt x="392" y="66"/>
                    <a:pt x="390" y="64"/>
                  </a:cubicBezTo>
                  <a:cubicBezTo>
                    <a:pt x="392" y="66"/>
                    <a:pt x="393" y="67"/>
                    <a:pt x="395" y="69"/>
                  </a:cubicBezTo>
                  <a:cubicBezTo>
                    <a:pt x="393" y="71"/>
                    <a:pt x="392" y="73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0" y="76"/>
                    <a:pt x="389" y="77"/>
                    <a:pt x="388" y="79"/>
                  </a:cubicBezTo>
                  <a:cubicBezTo>
                    <a:pt x="388" y="79"/>
                    <a:pt x="388" y="79"/>
                    <a:pt x="388" y="79"/>
                  </a:cubicBezTo>
                  <a:cubicBezTo>
                    <a:pt x="389" y="60"/>
                    <a:pt x="389" y="45"/>
                    <a:pt x="389" y="45"/>
                  </a:cubicBezTo>
                  <a:cubicBezTo>
                    <a:pt x="389" y="50"/>
                    <a:pt x="387" y="61"/>
                    <a:pt x="384" y="73"/>
                  </a:cubicBezTo>
                  <a:cubicBezTo>
                    <a:pt x="383" y="73"/>
                    <a:pt x="383" y="73"/>
                    <a:pt x="383" y="72"/>
                  </a:cubicBezTo>
                  <a:cubicBezTo>
                    <a:pt x="383" y="70"/>
                    <a:pt x="383" y="68"/>
                    <a:pt x="383" y="66"/>
                  </a:cubicBezTo>
                  <a:cubicBezTo>
                    <a:pt x="383" y="65"/>
                    <a:pt x="383" y="65"/>
                    <a:pt x="384" y="65"/>
                  </a:cubicBezTo>
                  <a:cubicBezTo>
                    <a:pt x="383" y="65"/>
                    <a:pt x="383" y="65"/>
                    <a:pt x="383" y="66"/>
                  </a:cubicBezTo>
                  <a:cubicBezTo>
                    <a:pt x="383" y="64"/>
                    <a:pt x="383" y="63"/>
                    <a:pt x="383" y="61"/>
                  </a:cubicBezTo>
                  <a:cubicBezTo>
                    <a:pt x="383" y="55"/>
                    <a:pt x="383" y="49"/>
                    <a:pt x="382" y="42"/>
                  </a:cubicBezTo>
                  <a:cubicBezTo>
                    <a:pt x="385" y="27"/>
                    <a:pt x="387" y="17"/>
                    <a:pt x="387" y="17"/>
                  </a:cubicBezTo>
                  <a:cubicBezTo>
                    <a:pt x="384" y="22"/>
                    <a:pt x="377" y="49"/>
                    <a:pt x="371" y="78"/>
                  </a:cubicBezTo>
                  <a:cubicBezTo>
                    <a:pt x="371" y="78"/>
                    <a:pt x="371" y="79"/>
                    <a:pt x="371" y="79"/>
                  </a:cubicBezTo>
                  <a:cubicBezTo>
                    <a:pt x="369" y="76"/>
                    <a:pt x="367" y="72"/>
                    <a:pt x="364" y="69"/>
                  </a:cubicBezTo>
                  <a:cubicBezTo>
                    <a:pt x="366" y="67"/>
                    <a:pt x="367" y="66"/>
                    <a:pt x="369" y="64"/>
                  </a:cubicBezTo>
                  <a:cubicBezTo>
                    <a:pt x="367" y="66"/>
                    <a:pt x="365" y="67"/>
                    <a:pt x="364" y="69"/>
                  </a:cubicBezTo>
                  <a:cubicBezTo>
                    <a:pt x="363" y="68"/>
                    <a:pt x="362" y="67"/>
                    <a:pt x="361" y="66"/>
                  </a:cubicBezTo>
                  <a:cubicBezTo>
                    <a:pt x="361" y="60"/>
                    <a:pt x="361" y="55"/>
                    <a:pt x="360" y="52"/>
                  </a:cubicBezTo>
                  <a:cubicBezTo>
                    <a:pt x="361" y="56"/>
                    <a:pt x="361" y="60"/>
                    <a:pt x="360" y="64"/>
                  </a:cubicBezTo>
                  <a:cubicBezTo>
                    <a:pt x="357" y="60"/>
                    <a:pt x="352" y="55"/>
                    <a:pt x="347" y="50"/>
                  </a:cubicBezTo>
                  <a:cubicBezTo>
                    <a:pt x="350" y="55"/>
                    <a:pt x="353" y="60"/>
                    <a:pt x="356" y="65"/>
                  </a:cubicBezTo>
                  <a:cubicBezTo>
                    <a:pt x="355" y="68"/>
                    <a:pt x="355" y="71"/>
                    <a:pt x="354" y="76"/>
                  </a:cubicBezTo>
                  <a:cubicBezTo>
                    <a:pt x="352" y="74"/>
                    <a:pt x="350" y="71"/>
                    <a:pt x="348" y="68"/>
                  </a:cubicBezTo>
                  <a:cubicBezTo>
                    <a:pt x="347" y="54"/>
                    <a:pt x="346" y="41"/>
                    <a:pt x="345" y="33"/>
                  </a:cubicBezTo>
                  <a:cubicBezTo>
                    <a:pt x="346" y="42"/>
                    <a:pt x="345" y="53"/>
                    <a:pt x="344" y="65"/>
                  </a:cubicBezTo>
                  <a:cubicBezTo>
                    <a:pt x="342" y="63"/>
                    <a:pt x="340" y="61"/>
                    <a:pt x="338" y="59"/>
                  </a:cubicBezTo>
                  <a:cubicBezTo>
                    <a:pt x="340" y="61"/>
                    <a:pt x="342" y="63"/>
                    <a:pt x="344" y="65"/>
                  </a:cubicBezTo>
                  <a:cubicBezTo>
                    <a:pt x="343" y="72"/>
                    <a:pt x="342" y="80"/>
                    <a:pt x="341" y="87"/>
                  </a:cubicBezTo>
                  <a:cubicBezTo>
                    <a:pt x="341" y="87"/>
                    <a:pt x="341" y="87"/>
                    <a:pt x="341" y="87"/>
                  </a:cubicBezTo>
                  <a:cubicBezTo>
                    <a:pt x="341" y="85"/>
                    <a:pt x="340" y="84"/>
                    <a:pt x="340" y="83"/>
                  </a:cubicBezTo>
                  <a:cubicBezTo>
                    <a:pt x="340" y="82"/>
                    <a:pt x="340" y="82"/>
                    <a:pt x="340" y="81"/>
                  </a:cubicBezTo>
                  <a:cubicBezTo>
                    <a:pt x="340" y="82"/>
                    <a:pt x="340" y="82"/>
                    <a:pt x="340" y="83"/>
                  </a:cubicBezTo>
                  <a:cubicBezTo>
                    <a:pt x="339" y="81"/>
                    <a:pt x="338" y="79"/>
                    <a:pt x="337" y="77"/>
                  </a:cubicBezTo>
                  <a:cubicBezTo>
                    <a:pt x="338" y="79"/>
                    <a:pt x="339" y="81"/>
                    <a:pt x="339" y="83"/>
                  </a:cubicBezTo>
                  <a:cubicBezTo>
                    <a:pt x="338" y="85"/>
                    <a:pt x="337" y="86"/>
                    <a:pt x="336" y="88"/>
                  </a:cubicBezTo>
                  <a:cubicBezTo>
                    <a:pt x="337" y="86"/>
                    <a:pt x="338" y="85"/>
                    <a:pt x="339" y="83"/>
                  </a:cubicBezTo>
                  <a:cubicBezTo>
                    <a:pt x="340" y="85"/>
                    <a:pt x="340" y="86"/>
                    <a:pt x="340" y="88"/>
                  </a:cubicBezTo>
                  <a:cubicBezTo>
                    <a:pt x="338" y="91"/>
                    <a:pt x="337" y="95"/>
                    <a:pt x="335" y="98"/>
                  </a:cubicBezTo>
                  <a:cubicBezTo>
                    <a:pt x="335" y="97"/>
                    <a:pt x="335" y="97"/>
                    <a:pt x="334" y="97"/>
                  </a:cubicBezTo>
                  <a:cubicBezTo>
                    <a:pt x="334" y="95"/>
                    <a:pt x="334" y="94"/>
                    <a:pt x="334" y="93"/>
                  </a:cubicBezTo>
                  <a:cubicBezTo>
                    <a:pt x="334" y="91"/>
                    <a:pt x="335" y="89"/>
                    <a:pt x="336" y="88"/>
                  </a:cubicBezTo>
                  <a:cubicBezTo>
                    <a:pt x="335" y="89"/>
                    <a:pt x="334" y="91"/>
                    <a:pt x="334" y="92"/>
                  </a:cubicBezTo>
                  <a:cubicBezTo>
                    <a:pt x="333" y="92"/>
                    <a:pt x="333" y="91"/>
                    <a:pt x="333" y="91"/>
                  </a:cubicBezTo>
                  <a:cubicBezTo>
                    <a:pt x="333" y="74"/>
                    <a:pt x="332" y="60"/>
                    <a:pt x="332" y="60"/>
                  </a:cubicBezTo>
                  <a:cubicBezTo>
                    <a:pt x="332" y="65"/>
                    <a:pt x="332" y="73"/>
                    <a:pt x="331" y="81"/>
                  </a:cubicBezTo>
                  <a:cubicBezTo>
                    <a:pt x="330" y="79"/>
                    <a:pt x="330" y="76"/>
                    <a:pt x="329" y="74"/>
                  </a:cubicBezTo>
                  <a:cubicBezTo>
                    <a:pt x="330" y="79"/>
                    <a:pt x="330" y="83"/>
                    <a:pt x="330" y="88"/>
                  </a:cubicBezTo>
                  <a:cubicBezTo>
                    <a:pt x="329" y="86"/>
                    <a:pt x="328" y="84"/>
                    <a:pt x="327" y="83"/>
                  </a:cubicBezTo>
                  <a:cubicBezTo>
                    <a:pt x="328" y="85"/>
                    <a:pt x="329" y="87"/>
                    <a:pt x="330" y="89"/>
                  </a:cubicBezTo>
                  <a:cubicBezTo>
                    <a:pt x="330" y="89"/>
                    <a:pt x="330" y="89"/>
                    <a:pt x="330" y="89"/>
                  </a:cubicBezTo>
                  <a:cubicBezTo>
                    <a:pt x="330" y="93"/>
                    <a:pt x="329" y="97"/>
                    <a:pt x="329" y="101"/>
                  </a:cubicBezTo>
                  <a:cubicBezTo>
                    <a:pt x="328" y="103"/>
                    <a:pt x="327" y="104"/>
                    <a:pt x="327" y="106"/>
                  </a:cubicBezTo>
                  <a:cubicBezTo>
                    <a:pt x="325" y="100"/>
                    <a:pt x="324" y="95"/>
                    <a:pt x="322" y="90"/>
                  </a:cubicBezTo>
                  <a:cubicBezTo>
                    <a:pt x="323" y="88"/>
                    <a:pt x="325" y="85"/>
                    <a:pt x="327" y="83"/>
                  </a:cubicBezTo>
                  <a:cubicBezTo>
                    <a:pt x="325" y="85"/>
                    <a:pt x="323" y="87"/>
                    <a:pt x="321" y="89"/>
                  </a:cubicBezTo>
                  <a:cubicBezTo>
                    <a:pt x="321" y="88"/>
                    <a:pt x="321" y="87"/>
                    <a:pt x="320" y="87"/>
                  </a:cubicBezTo>
                  <a:cubicBezTo>
                    <a:pt x="320" y="76"/>
                    <a:pt x="321" y="68"/>
                    <a:pt x="321" y="68"/>
                  </a:cubicBezTo>
                  <a:cubicBezTo>
                    <a:pt x="320" y="72"/>
                    <a:pt x="319" y="77"/>
                    <a:pt x="318" y="82"/>
                  </a:cubicBezTo>
                  <a:cubicBezTo>
                    <a:pt x="318" y="81"/>
                    <a:pt x="318" y="80"/>
                    <a:pt x="318" y="80"/>
                  </a:cubicBezTo>
                  <a:cubicBezTo>
                    <a:pt x="318" y="80"/>
                    <a:pt x="318" y="81"/>
                    <a:pt x="318" y="82"/>
                  </a:cubicBezTo>
                  <a:cubicBezTo>
                    <a:pt x="317" y="80"/>
                    <a:pt x="316" y="78"/>
                    <a:pt x="314" y="75"/>
                  </a:cubicBezTo>
                  <a:cubicBezTo>
                    <a:pt x="315" y="65"/>
                    <a:pt x="316" y="56"/>
                    <a:pt x="317" y="48"/>
                  </a:cubicBezTo>
                  <a:cubicBezTo>
                    <a:pt x="316" y="55"/>
                    <a:pt x="315" y="64"/>
                    <a:pt x="313" y="73"/>
                  </a:cubicBezTo>
                  <a:cubicBezTo>
                    <a:pt x="311" y="70"/>
                    <a:pt x="309" y="67"/>
                    <a:pt x="307" y="64"/>
                  </a:cubicBezTo>
                  <a:cubicBezTo>
                    <a:pt x="307" y="62"/>
                    <a:pt x="307" y="59"/>
                    <a:pt x="307" y="57"/>
                  </a:cubicBezTo>
                  <a:cubicBezTo>
                    <a:pt x="306" y="58"/>
                    <a:pt x="306" y="60"/>
                    <a:pt x="305" y="62"/>
                  </a:cubicBezTo>
                  <a:cubicBezTo>
                    <a:pt x="303" y="59"/>
                    <a:pt x="300" y="55"/>
                    <a:pt x="297" y="52"/>
                  </a:cubicBezTo>
                  <a:cubicBezTo>
                    <a:pt x="297" y="48"/>
                    <a:pt x="298" y="46"/>
                    <a:pt x="298" y="46"/>
                  </a:cubicBezTo>
                  <a:cubicBezTo>
                    <a:pt x="297" y="48"/>
                    <a:pt x="297" y="49"/>
                    <a:pt x="296" y="51"/>
                  </a:cubicBezTo>
                  <a:cubicBezTo>
                    <a:pt x="293" y="47"/>
                    <a:pt x="289" y="43"/>
                    <a:pt x="285" y="39"/>
                  </a:cubicBezTo>
                  <a:cubicBezTo>
                    <a:pt x="285" y="37"/>
                    <a:pt x="285" y="35"/>
                    <a:pt x="285" y="34"/>
                  </a:cubicBezTo>
                  <a:cubicBezTo>
                    <a:pt x="285" y="34"/>
                    <a:pt x="285" y="36"/>
                    <a:pt x="285" y="39"/>
                  </a:cubicBezTo>
                  <a:cubicBezTo>
                    <a:pt x="283" y="37"/>
                    <a:pt x="282" y="36"/>
                    <a:pt x="280" y="34"/>
                  </a:cubicBezTo>
                  <a:cubicBezTo>
                    <a:pt x="282" y="36"/>
                    <a:pt x="283" y="38"/>
                    <a:pt x="285" y="40"/>
                  </a:cubicBezTo>
                  <a:cubicBezTo>
                    <a:pt x="285" y="40"/>
                    <a:pt x="285" y="40"/>
                    <a:pt x="285" y="41"/>
                  </a:cubicBezTo>
                  <a:cubicBezTo>
                    <a:pt x="285" y="40"/>
                    <a:pt x="285" y="40"/>
                    <a:pt x="285" y="40"/>
                  </a:cubicBezTo>
                  <a:cubicBezTo>
                    <a:pt x="289" y="45"/>
                    <a:pt x="293" y="49"/>
                    <a:pt x="296" y="53"/>
                  </a:cubicBezTo>
                  <a:cubicBezTo>
                    <a:pt x="295" y="55"/>
                    <a:pt x="295" y="59"/>
                    <a:pt x="294" y="62"/>
                  </a:cubicBezTo>
                  <a:cubicBezTo>
                    <a:pt x="292" y="60"/>
                    <a:pt x="289" y="58"/>
                    <a:pt x="286" y="56"/>
                  </a:cubicBezTo>
                  <a:cubicBezTo>
                    <a:pt x="285" y="50"/>
                    <a:pt x="285" y="44"/>
                    <a:pt x="285" y="41"/>
                  </a:cubicBezTo>
                  <a:cubicBezTo>
                    <a:pt x="285" y="45"/>
                    <a:pt x="285" y="50"/>
                    <a:pt x="284" y="55"/>
                  </a:cubicBezTo>
                  <a:cubicBezTo>
                    <a:pt x="283" y="54"/>
                    <a:pt x="282" y="53"/>
                    <a:pt x="280" y="52"/>
                  </a:cubicBezTo>
                  <a:cubicBezTo>
                    <a:pt x="282" y="53"/>
                    <a:pt x="283" y="54"/>
                    <a:pt x="284" y="55"/>
                  </a:cubicBezTo>
                  <a:cubicBezTo>
                    <a:pt x="284" y="64"/>
                    <a:pt x="283" y="73"/>
                    <a:pt x="281" y="83"/>
                  </a:cubicBezTo>
                  <a:cubicBezTo>
                    <a:pt x="281" y="82"/>
                    <a:pt x="281" y="81"/>
                    <a:pt x="281" y="81"/>
                  </a:cubicBezTo>
                  <a:cubicBezTo>
                    <a:pt x="281" y="82"/>
                    <a:pt x="281" y="82"/>
                    <a:pt x="281" y="83"/>
                  </a:cubicBezTo>
                  <a:cubicBezTo>
                    <a:pt x="281" y="88"/>
                    <a:pt x="280" y="92"/>
                    <a:pt x="279" y="97"/>
                  </a:cubicBezTo>
                  <a:cubicBezTo>
                    <a:pt x="278" y="89"/>
                    <a:pt x="275" y="81"/>
                    <a:pt x="272" y="73"/>
                  </a:cubicBezTo>
                  <a:cubicBezTo>
                    <a:pt x="272" y="72"/>
                    <a:pt x="272" y="71"/>
                    <a:pt x="272" y="71"/>
                  </a:cubicBezTo>
                  <a:cubicBezTo>
                    <a:pt x="273" y="70"/>
                    <a:pt x="274" y="69"/>
                    <a:pt x="275" y="68"/>
                  </a:cubicBezTo>
                  <a:cubicBezTo>
                    <a:pt x="277" y="72"/>
                    <a:pt x="279" y="76"/>
                    <a:pt x="281" y="81"/>
                  </a:cubicBezTo>
                  <a:cubicBezTo>
                    <a:pt x="279" y="76"/>
                    <a:pt x="278" y="72"/>
                    <a:pt x="275" y="67"/>
                  </a:cubicBezTo>
                  <a:cubicBezTo>
                    <a:pt x="276" y="67"/>
                    <a:pt x="277" y="66"/>
                    <a:pt x="277" y="65"/>
                  </a:cubicBezTo>
                  <a:cubicBezTo>
                    <a:pt x="277" y="66"/>
                    <a:pt x="276" y="66"/>
                    <a:pt x="275" y="67"/>
                  </a:cubicBezTo>
                  <a:cubicBezTo>
                    <a:pt x="269" y="54"/>
                    <a:pt x="259" y="41"/>
                    <a:pt x="247" y="25"/>
                  </a:cubicBezTo>
                  <a:cubicBezTo>
                    <a:pt x="259" y="42"/>
                    <a:pt x="268" y="55"/>
                    <a:pt x="275" y="68"/>
                  </a:cubicBezTo>
                  <a:cubicBezTo>
                    <a:pt x="274" y="68"/>
                    <a:pt x="273" y="69"/>
                    <a:pt x="272" y="70"/>
                  </a:cubicBezTo>
                  <a:cubicBezTo>
                    <a:pt x="272" y="68"/>
                    <a:pt x="272" y="66"/>
                    <a:pt x="272" y="66"/>
                  </a:cubicBezTo>
                  <a:cubicBezTo>
                    <a:pt x="272" y="68"/>
                    <a:pt x="272" y="69"/>
                    <a:pt x="271" y="71"/>
                  </a:cubicBezTo>
                  <a:cubicBezTo>
                    <a:pt x="271" y="71"/>
                    <a:pt x="271" y="71"/>
                    <a:pt x="271" y="71"/>
                  </a:cubicBezTo>
                  <a:cubicBezTo>
                    <a:pt x="267" y="61"/>
                    <a:pt x="260" y="52"/>
                    <a:pt x="251" y="42"/>
                  </a:cubicBezTo>
                  <a:cubicBezTo>
                    <a:pt x="258" y="55"/>
                    <a:pt x="263" y="65"/>
                    <a:pt x="267" y="75"/>
                  </a:cubicBezTo>
                  <a:cubicBezTo>
                    <a:pt x="266" y="76"/>
                    <a:pt x="265" y="77"/>
                    <a:pt x="264" y="77"/>
                  </a:cubicBezTo>
                  <a:cubicBezTo>
                    <a:pt x="262" y="73"/>
                    <a:pt x="260" y="70"/>
                    <a:pt x="258" y="68"/>
                  </a:cubicBezTo>
                  <a:cubicBezTo>
                    <a:pt x="258" y="63"/>
                    <a:pt x="257" y="60"/>
                    <a:pt x="257" y="60"/>
                  </a:cubicBezTo>
                  <a:cubicBezTo>
                    <a:pt x="257" y="62"/>
                    <a:pt x="257" y="64"/>
                    <a:pt x="257" y="67"/>
                  </a:cubicBezTo>
                  <a:cubicBezTo>
                    <a:pt x="251" y="57"/>
                    <a:pt x="243" y="47"/>
                    <a:pt x="232" y="38"/>
                  </a:cubicBezTo>
                  <a:cubicBezTo>
                    <a:pt x="243" y="49"/>
                    <a:pt x="251" y="60"/>
                    <a:pt x="257" y="71"/>
                  </a:cubicBezTo>
                  <a:cubicBezTo>
                    <a:pt x="256" y="75"/>
                    <a:pt x="256" y="80"/>
                    <a:pt x="256" y="85"/>
                  </a:cubicBezTo>
                  <a:cubicBezTo>
                    <a:pt x="255" y="84"/>
                    <a:pt x="255" y="84"/>
                    <a:pt x="254" y="83"/>
                  </a:cubicBezTo>
                  <a:cubicBezTo>
                    <a:pt x="255" y="84"/>
                    <a:pt x="255" y="85"/>
                    <a:pt x="256" y="86"/>
                  </a:cubicBezTo>
                  <a:cubicBezTo>
                    <a:pt x="255" y="87"/>
                    <a:pt x="255" y="88"/>
                    <a:pt x="255" y="89"/>
                  </a:cubicBezTo>
                  <a:cubicBezTo>
                    <a:pt x="253" y="92"/>
                    <a:pt x="252" y="94"/>
                    <a:pt x="250" y="97"/>
                  </a:cubicBezTo>
                  <a:cubicBezTo>
                    <a:pt x="250" y="93"/>
                    <a:pt x="250" y="90"/>
                    <a:pt x="250" y="87"/>
                  </a:cubicBezTo>
                  <a:cubicBezTo>
                    <a:pt x="251" y="84"/>
                    <a:pt x="252" y="82"/>
                    <a:pt x="253" y="80"/>
                  </a:cubicBezTo>
                  <a:cubicBezTo>
                    <a:pt x="253" y="81"/>
                    <a:pt x="254" y="82"/>
                    <a:pt x="254" y="83"/>
                  </a:cubicBezTo>
                  <a:cubicBezTo>
                    <a:pt x="254" y="81"/>
                    <a:pt x="253" y="80"/>
                    <a:pt x="253" y="79"/>
                  </a:cubicBezTo>
                  <a:cubicBezTo>
                    <a:pt x="253" y="79"/>
                    <a:pt x="253" y="78"/>
                    <a:pt x="254" y="77"/>
                  </a:cubicBezTo>
                  <a:cubicBezTo>
                    <a:pt x="253" y="77"/>
                    <a:pt x="253" y="78"/>
                    <a:pt x="252" y="79"/>
                  </a:cubicBezTo>
                  <a:cubicBezTo>
                    <a:pt x="251" y="77"/>
                    <a:pt x="251" y="76"/>
                    <a:pt x="250" y="75"/>
                  </a:cubicBezTo>
                  <a:cubicBezTo>
                    <a:pt x="251" y="77"/>
                    <a:pt x="251" y="78"/>
                    <a:pt x="252" y="79"/>
                  </a:cubicBezTo>
                  <a:cubicBezTo>
                    <a:pt x="251" y="80"/>
                    <a:pt x="251" y="81"/>
                    <a:pt x="250" y="82"/>
                  </a:cubicBezTo>
                  <a:cubicBezTo>
                    <a:pt x="250" y="73"/>
                    <a:pt x="250" y="68"/>
                    <a:pt x="250" y="68"/>
                  </a:cubicBezTo>
                  <a:cubicBezTo>
                    <a:pt x="250" y="72"/>
                    <a:pt x="249" y="78"/>
                    <a:pt x="248" y="85"/>
                  </a:cubicBezTo>
                  <a:cubicBezTo>
                    <a:pt x="246" y="90"/>
                    <a:pt x="244" y="94"/>
                    <a:pt x="242" y="99"/>
                  </a:cubicBezTo>
                  <a:cubicBezTo>
                    <a:pt x="242" y="98"/>
                    <a:pt x="241" y="97"/>
                    <a:pt x="241" y="96"/>
                  </a:cubicBezTo>
                  <a:cubicBezTo>
                    <a:pt x="242" y="92"/>
                    <a:pt x="242" y="89"/>
                    <a:pt x="242" y="89"/>
                  </a:cubicBezTo>
                  <a:cubicBezTo>
                    <a:pt x="242" y="91"/>
                    <a:pt x="241" y="92"/>
                    <a:pt x="241" y="94"/>
                  </a:cubicBezTo>
                  <a:cubicBezTo>
                    <a:pt x="240" y="91"/>
                    <a:pt x="239" y="88"/>
                    <a:pt x="239" y="85"/>
                  </a:cubicBezTo>
                  <a:cubicBezTo>
                    <a:pt x="238" y="88"/>
                    <a:pt x="238" y="91"/>
                    <a:pt x="238" y="94"/>
                  </a:cubicBezTo>
                  <a:cubicBezTo>
                    <a:pt x="238" y="97"/>
                    <a:pt x="238" y="100"/>
                    <a:pt x="238" y="103"/>
                  </a:cubicBezTo>
                  <a:cubicBezTo>
                    <a:pt x="237" y="107"/>
                    <a:pt x="236" y="112"/>
                    <a:pt x="234" y="116"/>
                  </a:cubicBezTo>
                  <a:cubicBezTo>
                    <a:pt x="233" y="112"/>
                    <a:pt x="231" y="108"/>
                    <a:pt x="230" y="104"/>
                  </a:cubicBezTo>
                  <a:cubicBezTo>
                    <a:pt x="231" y="109"/>
                    <a:pt x="232" y="115"/>
                    <a:pt x="233" y="120"/>
                  </a:cubicBezTo>
                  <a:cubicBezTo>
                    <a:pt x="231" y="124"/>
                    <a:pt x="230" y="127"/>
                    <a:pt x="228" y="130"/>
                  </a:cubicBezTo>
                  <a:cubicBezTo>
                    <a:pt x="227" y="128"/>
                    <a:pt x="227" y="126"/>
                    <a:pt x="226" y="123"/>
                  </a:cubicBezTo>
                  <a:cubicBezTo>
                    <a:pt x="227" y="115"/>
                    <a:pt x="229" y="106"/>
                    <a:pt x="231" y="99"/>
                  </a:cubicBezTo>
                  <a:cubicBezTo>
                    <a:pt x="232" y="98"/>
                    <a:pt x="232" y="97"/>
                    <a:pt x="232" y="96"/>
                  </a:cubicBezTo>
                  <a:cubicBezTo>
                    <a:pt x="232" y="96"/>
                    <a:pt x="232" y="97"/>
                    <a:pt x="232" y="97"/>
                  </a:cubicBezTo>
                  <a:cubicBezTo>
                    <a:pt x="234" y="86"/>
                    <a:pt x="237" y="76"/>
                    <a:pt x="237" y="76"/>
                  </a:cubicBezTo>
                  <a:cubicBezTo>
                    <a:pt x="232" y="83"/>
                    <a:pt x="227" y="96"/>
                    <a:pt x="222" y="109"/>
                  </a:cubicBezTo>
                  <a:cubicBezTo>
                    <a:pt x="222" y="107"/>
                    <a:pt x="222" y="106"/>
                    <a:pt x="221" y="104"/>
                  </a:cubicBezTo>
                  <a:cubicBezTo>
                    <a:pt x="223" y="97"/>
                    <a:pt x="226" y="90"/>
                    <a:pt x="229" y="84"/>
                  </a:cubicBezTo>
                  <a:cubicBezTo>
                    <a:pt x="226" y="90"/>
                    <a:pt x="223" y="96"/>
                    <a:pt x="221" y="102"/>
                  </a:cubicBezTo>
                  <a:cubicBezTo>
                    <a:pt x="221" y="102"/>
                    <a:pt x="220" y="101"/>
                    <a:pt x="220" y="101"/>
                  </a:cubicBezTo>
                  <a:cubicBezTo>
                    <a:pt x="222" y="77"/>
                    <a:pt x="218" y="62"/>
                    <a:pt x="218" y="62"/>
                  </a:cubicBezTo>
                  <a:cubicBezTo>
                    <a:pt x="219" y="69"/>
                    <a:pt x="219" y="80"/>
                    <a:pt x="218" y="91"/>
                  </a:cubicBezTo>
                  <a:cubicBezTo>
                    <a:pt x="217" y="89"/>
                    <a:pt x="217" y="88"/>
                    <a:pt x="216" y="87"/>
                  </a:cubicBezTo>
                  <a:cubicBezTo>
                    <a:pt x="216" y="88"/>
                    <a:pt x="216" y="88"/>
                    <a:pt x="216" y="88"/>
                  </a:cubicBezTo>
                  <a:cubicBezTo>
                    <a:pt x="216" y="90"/>
                    <a:pt x="217" y="93"/>
                    <a:pt x="217" y="96"/>
                  </a:cubicBezTo>
                  <a:cubicBezTo>
                    <a:pt x="216" y="101"/>
                    <a:pt x="216" y="105"/>
                    <a:pt x="215" y="110"/>
                  </a:cubicBezTo>
                  <a:cubicBezTo>
                    <a:pt x="214" y="109"/>
                    <a:pt x="214" y="107"/>
                    <a:pt x="213" y="106"/>
                  </a:cubicBezTo>
                  <a:cubicBezTo>
                    <a:pt x="214" y="103"/>
                    <a:pt x="214" y="99"/>
                    <a:pt x="215" y="96"/>
                  </a:cubicBezTo>
                  <a:cubicBezTo>
                    <a:pt x="214" y="98"/>
                    <a:pt x="213" y="100"/>
                    <a:pt x="212" y="103"/>
                  </a:cubicBezTo>
                  <a:cubicBezTo>
                    <a:pt x="211" y="101"/>
                    <a:pt x="210" y="99"/>
                    <a:pt x="210" y="98"/>
                  </a:cubicBezTo>
                  <a:cubicBezTo>
                    <a:pt x="210" y="89"/>
                    <a:pt x="211" y="82"/>
                    <a:pt x="211" y="82"/>
                  </a:cubicBezTo>
                  <a:cubicBezTo>
                    <a:pt x="209" y="97"/>
                    <a:pt x="209" y="97"/>
                    <a:pt x="209" y="97"/>
                  </a:cubicBezTo>
                  <a:cubicBezTo>
                    <a:pt x="208" y="94"/>
                    <a:pt x="207" y="92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89"/>
                    <a:pt x="206" y="89"/>
                    <a:pt x="205" y="88"/>
                  </a:cubicBezTo>
                  <a:cubicBezTo>
                    <a:pt x="205" y="83"/>
                    <a:pt x="205" y="78"/>
                    <a:pt x="205" y="73"/>
                  </a:cubicBezTo>
                  <a:cubicBezTo>
                    <a:pt x="208" y="70"/>
                    <a:pt x="211" y="66"/>
                    <a:pt x="214" y="63"/>
                  </a:cubicBezTo>
                  <a:cubicBezTo>
                    <a:pt x="211" y="66"/>
                    <a:pt x="208" y="69"/>
                    <a:pt x="205" y="71"/>
                  </a:cubicBezTo>
                  <a:cubicBezTo>
                    <a:pt x="205" y="65"/>
                    <a:pt x="205" y="60"/>
                    <a:pt x="205" y="60"/>
                  </a:cubicBezTo>
                  <a:cubicBezTo>
                    <a:pt x="205" y="64"/>
                    <a:pt x="204" y="68"/>
                    <a:pt x="204" y="72"/>
                  </a:cubicBezTo>
                  <a:cubicBezTo>
                    <a:pt x="203" y="74"/>
                    <a:pt x="201" y="75"/>
                    <a:pt x="200" y="77"/>
                  </a:cubicBezTo>
                  <a:cubicBezTo>
                    <a:pt x="200" y="70"/>
                    <a:pt x="200" y="64"/>
                    <a:pt x="200" y="64"/>
                  </a:cubicBezTo>
                  <a:cubicBezTo>
                    <a:pt x="200" y="66"/>
                    <a:pt x="199" y="71"/>
                    <a:pt x="198" y="78"/>
                  </a:cubicBezTo>
                  <a:cubicBezTo>
                    <a:pt x="196" y="81"/>
                    <a:pt x="193" y="85"/>
                    <a:pt x="191" y="88"/>
                  </a:cubicBezTo>
                  <a:cubicBezTo>
                    <a:pt x="191" y="64"/>
                    <a:pt x="191" y="42"/>
                    <a:pt x="191" y="42"/>
                  </a:cubicBezTo>
                  <a:cubicBezTo>
                    <a:pt x="191" y="55"/>
                    <a:pt x="188" y="77"/>
                    <a:pt x="186" y="96"/>
                  </a:cubicBezTo>
                  <a:cubicBezTo>
                    <a:pt x="184" y="100"/>
                    <a:pt x="182" y="104"/>
                    <a:pt x="181" y="107"/>
                  </a:cubicBezTo>
                  <a:cubicBezTo>
                    <a:pt x="181" y="107"/>
                    <a:pt x="180" y="106"/>
                    <a:pt x="180" y="106"/>
                  </a:cubicBezTo>
                  <a:cubicBezTo>
                    <a:pt x="182" y="87"/>
                    <a:pt x="184" y="70"/>
                    <a:pt x="184" y="70"/>
                  </a:cubicBezTo>
                  <a:cubicBezTo>
                    <a:pt x="182" y="74"/>
                    <a:pt x="179" y="98"/>
                    <a:pt x="177" y="118"/>
                  </a:cubicBezTo>
                  <a:cubicBezTo>
                    <a:pt x="177" y="118"/>
                    <a:pt x="177" y="119"/>
                    <a:pt x="177" y="120"/>
                  </a:cubicBezTo>
                  <a:cubicBezTo>
                    <a:pt x="177" y="119"/>
                    <a:pt x="177" y="119"/>
                    <a:pt x="177" y="118"/>
                  </a:cubicBezTo>
                  <a:cubicBezTo>
                    <a:pt x="177" y="119"/>
                    <a:pt x="177" y="119"/>
                    <a:pt x="177" y="120"/>
                  </a:cubicBezTo>
                  <a:cubicBezTo>
                    <a:pt x="177" y="121"/>
                    <a:pt x="176" y="121"/>
                    <a:pt x="176" y="122"/>
                  </a:cubicBezTo>
                  <a:cubicBezTo>
                    <a:pt x="176" y="115"/>
                    <a:pt x="176" y="108"/>
                    <a:pt x="176" y="101"/>
                  </a:cubicBezTo>
                  <a:cubicBezTo>
                    <a:pt x="176" y="101"/>
                    <a:pt x="176" y="100"/>
                    <a:pt x="176" y="100"/>
                  </a:cubicBezTo>
                  <a:cubicBezTo>
                    <a:pt x="176" y="100"/>
                    <a:pt x="176" y="101"/>
                    <a:pt x="176" y="101"/>
                  </a:cubicBezTo>
                  <a:cubicBezTo>
                    <a:pt x="176" y="98"/>
                    <a:pt x="176" y="94"/>
                    <a:pt x="176" y="91"/>
                  </a:cubicBezTo>
                  <a:cubicBezTo>
                    <a:pt x="177" y="88"/>
                    <a:pt x="179" y="85"/>
                    <a:pt x="181" y="83"/>
                  </a:cubicBezTo>
                  <a:cubicBezTo>
                    <a:pt x="179" y="85"/>
                    <a:pt x="177" y="87"/>
                    <a:pt x="176" y="90"/>
                  </a:cubicBezTo>
                  <a:cubicBezTo>
                    <a:pt x="175" y="79"/>
                    <a:pt x="174" y="69"/>
                    <a:pt x="174" y="61"/>
                  </a:cubicBezTo>
                  <a:cubicBezTo>
                    <a:pt x="174" y="73"/>
                    <a:pt x="172" y="87"/>
                    <a:pt x="169" y="100"/>
                  </a:cubicBezTo>
                  <a:cubicBezTo>
                    <a:pt x="165" y="107"/>
                    <a:pt x="162" y="115"/>
                    <a:pt x="160" y="123"/>
                  </a:cubicBezTo>
                  <a:cubicBezTo>
                    <a:pt x="161" y="109"/>
                    <a:pt x="162" y="92"/>
                    <a:pt x="163" y="80"/>
                  </a:cubicBezTo>
                  <a:cubicBezTo>
                    <a:pt x="165" y="73"/>
                    <a:pt x="167" y="67"/>
                    <a:pt x="167" y="61"/>
                  </a:cubicBezTo>
                  <a:cubicBezTo>
                    <a:pt x="166" y="60"/>
                    <a:pt x="166" y="60"/>
                    <a:pt x="166" y="60"/>
                  </a:cubicBezTo>
                  <a:cubicBezTo>
                    <a:pt x="157" y="75"/>
                    <a:pt x="153" y="88"/>
                    <a:pt x="151" y="102"/>
                  </a:cubicBezTo>
                  <a:cubicBezTo>
                    <a:pt x="151" y="102"/>
                    <a:pt x="151" y="101"/>
                    <a:pt x="151" y="101"/>
                  </a:cubicBezTo>
                  <a:cubicBezTo>
                    <a:pt x="152" y="68"/>
                    <a:pt x="155" y="30"/>
                    <a:pt x="155" y="30"/>
                  </a:cubicBezTo>
                  <a:cubicBezTo>
                    <a:pt x="153" y="38"/>
                    <a:pt x="150" y="60"/>
                    <a:pt x="148" y="83"/>
                  </a:cubicBezTo>
                  <a:cubicBezTo>
                    <a:pt x="145" y="87"/>
                    <a:pt x="143" y="92"/>
                    <a:pt x="140" y="97"/>
                  </a:cubicBezTo>
                  <a:cubicBezTo>
                    <a:pt x="140" y="91"/>
                    <a:pt x="139" y="85"/>
                    <a:pt x="139" y="79"/>
                  </a:cubicBezTo>
                  <a:cubicBezTo>
                    <a:pt x="139" y="78"/>
                    <a:pt x="139" y="78"/>
                    <a:pt x="140" y="78"/>
                  </a:cubicBezTo>
                  <a:cubicBezTo>
                    <a:pt x="139" y="78"/>
                    <a:pt x="139" y="78"/>
                    <a:pt x="139" y="78"/>
                  </a:cubicBezTo>
                  <a:cubicBezTo>
                    <a:pt x="137" y="58"/>
                    <a:pt x="136" y="41"/>
                    <a:pt x="136" y="41"/>
                  </a:cubicBezTo>
                  <a:cubicBezTo>
                    <a:pt x="137" y="52"/>
                    <a:pt x="137" y="67"/>
                    <a:pt x="136" y="82"/>
                  </a:cubicBezTo>
                  <a:cubicBezTo>
                    <a:pt x="134" y="84"/>
                    <a:pt x="132" y="87"/>
                    <a:pt x="130" y="92"/>
                  </a:cubicBezTo>
                  <a:cubicBezTo>
                    <a:pt x="130" y="82"/>
                    <a:pt x="130" y="72"/>
                    <a:pt x="130" y="68"/>
                  </a:cubicBezTo>
                  <a:cubicBezTo>
                    <a:pt x="129" y="77"/>
                    <a:pt x="128" y="88"/>
                    <a:pt x="126" y="99"/>
                  </a:cubicBezTo>
                  <a:cubicBezTo>
                    <a:pt x="125" y="94"/>
                    <a:pt x="123" y="89"/>
                    <a:pt x="121" y="84"/>
                  </a:cubicBezTo>
                  <a:cubicBezTo>
                    <a:pt x="123" y="90"/>
                    <a:pt x="125" y="96"/>
                    <a:pt x="126" y="101"/>
                  </a:cubicBezTo>
                  <a:cubicBezTo>
                    <a:pt x="125" y="105"/>
                    <a:pt x="124" y="109"/>
                    <a:pt x="123" y="113"/>
                  </a:cubicBezTo>
                  <a:cubicBezTo>
                    <a:pt x="123" y="110"/>
                    <a:pt x="123" y="108"/>
                    <a:pt x="123" y="105"/>
                  </a:cubicBezTo>
                  <a:cubicBezTo>
                    <a:pt x="122" y="108"/>
                    <a:pt x="122" y="115"/>
                    <a:pt x="122" y="119"/>
                  </a:cubicBezTo>
                  <a:cubicBezTo>
                    <a:pt x="122" y="120"/>
                    <a:pt x="121" y="122"/>
                    <a:pt x="121" y="124"/>
                  </a:cubicBezTo>
                  <a:cubicBezTo>
                    <a:pt x="120" y="125"/>
                    <a:pt x="120" y="127"/>
                    <a:pt x="120" y="128"/>
                  </a:cubicBezTo>
                  <a:cubicBezTo>
                    <a:pt x="119" y="124"/>
                    <a:pt x="118" y="120"/>
                    <a:pt x="117" y="116"/>
                  </a:cubicBezTo>
                  <a:cubicBezTo>
                    <a:pt x="118" y="108"/>
                    <a:pt x="119" y="100"/>
                    <a:pt x="119" y="94"/>
                  </a:cubicBezTo>
                  <a:cubicBezTo>
                    <a:pt x="120" y="92"/>
                    <a:pt x="120" y="91"/>
                    <a:pt x="121" y="89"/>
                  </a:cubicBezTo>
                  <a:cubicBezTo>
                    <a:pt x="121" y="90"/>
                    <a:pt x="120" y="91"/>
                    <a:pt x="119" y="92"/>
                  </a:cubicBezTo>
                  <a:cubicBezTo>
                    <a:pt x="120" y="87"/>
                    <a:pt x="120" y="83"/>
                    <a:pt x="120" y="83"/>
                  </a:cubicBezTo>
                  <a:cubicBezTo>
                    <a:pt x="120" y="85"/>
                    <a:pt x="119" y="89"/>
                    <a:pt x="118" y="93"/>
                  </a:cubicBezTo>
                  <a:cubicBezTo>
                    <a:pt x="117" y="96"/>
                    <a:pt x="115" y="99"/>
                    <a:pt x="114" y="102"/>
                  </a:cubicBezTo>
                  <a:cubicBezTo>
                    <a:pt x="113" y="101"/>
                    <a:pt x="113" y="100"/>
                    <a:pt x="113" y="99"/>
                  </a:cubicBezTo>
                  <a:cubicBezTo>
                    <a:pt x="115" y="80"/>
                    <a:pt x="117" y="62"/>
                    <a:pt x="117" y="62"/>
                  </a:cubicBezTo>
                  <a:cubicBezTo>
                    <a:pt x="115" y="66"/>
                    <a:pt x="113" y="80"/>
                    <a:pt x="111" y="95"/>
                  </a:cubicBezTo>
                  <a:cubicBezTo>
                    <a:pt x="111" y="94"/>
                    <a:pt x="110" y="92"/>
                    <a:pt x="109" y="90"/>
                  </a:cubicBezTo>
                  <a:cubicBezTo>
                    <a:pt x="110" y="92"/>
                    <a:pt x="111" y="94"/>
                    <a:pt x="111" y="96"/>
                  </a:cubicBezTo>
                  <a:cubicBezTo>
                    <a:pt x="111" y="101"/>
                    <a:pt x="110" y="106"/>
                    <a:pt x="110" y="110"/>
                  </a:cubicBezTo>
                  <a:cubicBezTo>
                    <a:pt x="109" y="113"/>
                    <a:pt x="108" y="116"/>
                    <a:pt x="107" y="118"/>
                  </a:cubicBezTo>
                  <a:cubicBezTo>
                    <a:pt x="106" y="94"/>
                    <a:pt x="101" y="64"/>
                    <a:pt x="101" y="64"/>
                  </a:cubicBezTo>
                  <a:cubicBezTo>
                    <a:pt x="101" y="64"/>
                    <a:pt x="101" y="73"/>
                    <a:pt x="101" y="82"/>
                  </a:cubicBezTo>
                  <a:cubicBezTo>
                    <a:pt x="102" y="88"/>
                    <a:pt x="101" y="98"/>
                    <a:pt x="99" y="108"/>
                  </a:cubicBezTo>
                  <a:cubicBezTo>
                    <a:pt x="98" y="111"/>
                    <a:pt x="97" y="114"/>
                    <a:pt x="96" y="117"/>
                  </a:cubicBezTo>
                  <a:cubicBezTo>
                    <a:pt x="96" y="108"/>
                    <a:pt x="95" y="99"/>
                    <a:pt x="93" y="90"/>
                  </a:cubicBezTo>
                  <a:cubicBezTo>
                    <a:pt x="97" y="78"/>
                    <a:pt x="101" y="66"/>
                    <a:pt x="100" y="56"/>
                  </a:cubicBezTo>
                  <a:cubicBezTo>
                    <a:pt x="97" y="62"/>
                    <a:pt x="95" y="67"/>
                    <a:pt x="92" y="72"/>
                  </a:cubicBezTo>
                  <a:cubicBezTo>
                    <a:pt x="95" y="34"/>
                    <a:pt x="88" y="19"/>
                    <a:pt x="88" y="19"/>
                  </a:cubicBezTo>
                  <a:cubicBezTo>
                    <a:pt x="88" y="19"/>
                    <a:pt x="92" y="31"/>
                    <a:pt x="90" y="54"/>
                  </a:cubicBezTo>
                  <a:cubicBezTo>
                    <a:pt x="89" y="61"/>
                    <a:pt x="88" y="74"/>
                    <a:pt x="87" y="88"/>
                  </a:cubicBezTo>
                  <a:cubicBezTo>
                    <a:pt x="85" y="92"/>
                    <a:pt x="85" y="97"/>
                    <a:pt x="84" y="101"/>
                  </a:cubicBezTo>
                  <a:cubicBezTo>
                    <a:pt x="83" y="98"/>
                    <a:pt x="82" y="95"/>
                    <a:pt x="81" y="91"/>
                  </a:cubicBezTo>
                  <a:cubicBezTo>
                    <a:pt x="81" y="89"/>
                    <a:pt x="81" y="87"/>
                    <a:pt x="82" y="85"/>
                  </a:cubicBezTo>
                  <a:cubicBezTo>
                    <a:pt x="81" y="87"/>
                    <a:pt x="81" y="88"/>
                    <a:pt x="80" y="90"/>
                  </a:cubicBezTo>
                  <a:cubicBezTo>
                    <a:pt x="80" y="89"/>
                    <a:pt x="79" y="88"/>
                    <a:pt x="79" y="87"/>
                  </a:cubicBezTo>
                  <a:cubicBezTo>
                    <a:pt x="79" y="83"/>
                    <a:pt x="79" y="78"/>
                    <a:pt x="79" y="74"/>
                  </a:cubicBezTo>
                  <a:cubicBezTo>
                    <a:pt x="79" y="46"/>
                    <a:pt x="69" y="40"/>
                    <a:pt x="69" y="40"/>
                  </a:cubicBezTo>
                  <a:cubicBezTo>
                    <a:pt x="69" y="40"/>
                    <a:pt x="75" y="44"/>
                    <a:pt x="75" y="70"/>
                  </a:cubicBezTo>
                  <a:cubicBezTo>
                    <a:pt x="75" y="84"/>
                    <a:pt x="70" y="108"/>
                    <a:pt x="65" y="125"/>
                  </a:cubicBezTo>
                  <a:cubicBezTo>
                    <a:pt x="65" y="123"/>
                    <a:pt x="65" y="120"/>
                    <a:pt x="64" y="118"/>
                  </a:cubicBezTo>
                  <a:cubicBezTo>
                    <a:pt x="65" y="111"/>
                    <a:pt x="66" y="105"/>
                    <a:pt x="66" y="98"/>
                  </a:cubicBezTo>
                  <a:cubicBezTo>
                    <a:pt x="65" y="101"/>
                    <a:pt x="64" y="104"/>
                    <a:pt x="64" y="107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4" y="97"/>
                    <a:pt x="65" y="83"/>
                    <a:pt x="72" y="75"/>
                  </a:cubicBezTo>
                  <a:cubicBezTo>
                    <a:pt x="68" y="77"/>
                    <a:pt x="65" y="82"/>
                    <a:pt x="63" y="87"/>
                  </a:cubicBezTo>
                  <a:cubicBezTo>
                    <a:pt x="64" y="78"/>
                    <a:pt x="64" y="71"/>
                    <a:pt x="64" y="71"/>
                  </a:cubicBezTo>
                  <a:cubicBezTo>
                    <a:pt x="64" y="75"/>
                    <a:pt x="60" y="97"/>
                    <a:pt x="56" y="116"/>
                  </a:cubicBezTo>
                  <a:cubicBezTo>
                    <a:pt x="56" y="114"/>
                    <a:pt x="56" y="112"/>
                    <a:pt x="55" y="110"/>
                  </a:cubicBezTo>
                  <a:cubicBezTo>
                    <a:pt x="56" y="99"/>
                    <a:pt x="57" y="87"/>
                    <a:pt x="58" y="78"/>
                  </a:cubicBezTo>
                  <a:cubicBezTo>
                    <a:pt x="60" y="71"/>
                    <a:pt x="62" y="63"/>
                    <a:pt x="65" y="55"/>
                  </a:cubicBezTo>
                  <a:cubicBezTo>
                    <a:pt x="65" y="54"/>
                    <a:pt x="64" y="52"/>
                    <a:pt x="64" y="51"/>
                  </a:cubicBezTo>
                  <a:cubicBezTo>
                    <a:pt x="62" y="54"/>
                    <a:pt x="61" y="57"/>
                    <a:pt x="60" y="60"/>
                  </a:cubicBezTo>
                  <a:cubicBezTo>
                    <a:pt x="60" y="60"/>
                    <a:pt x="60" y="59"/>
                    <a:pt x="60" y="59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56" y="70"/>
                    <a:pt x="53" y="80"/>
                    <a:pt x="51" y="89"/>
                  </a:cubicBezTo>
                  <a:cubicBezTo>
                    <a:pt x="56" y="30"/>
                    <a:pt x="53" y="15"/>
                    <a:pt x="52" y="13"/>
                  </a:cubicBezTo>
                  <a:cubicBezTo>
                    <a:pt x="52" y="15"/>
                    <a:pt x="53" y="22"/>
                    <a:pt x="49" y="56"/>
                  </a:cubicBezTo>
                  <a:cubicBezTo>
                    <a:pt x="47" y="68"/>
                    <a:pt x="46" y="80"/>
                    <a:pt x="44" y="91"/>
                  </a:cubicBezTo>
                  <a:cubicBezTo>
                    <a:pt x="43" y="85"/>
                    <a:pt x="41" y="79"/>
                    <a:pt x="39" y="74"/>
                  </a:cubicBezTo>
                  <a:cubicBezTo>
                    <a:pt x="40" y="51"/>
                    <a:pt x="41" y="31"/>
                    <a:pt x="41" y="31"/>
                  </a:cubicBezTo>
                  <a:cubicBezTo>
                    <a:pt x="39" y="38"/>
                    <a:pt x="38" y="53"/>
                    <a:pt x="36" y="69"/>
                  </a:cubicBezTo>
                  <a:cubicBezTo>
                    <a:pt x="35" y="68"/>
                    <a:pt x="34" y="67"/>
                    <a:pt x="33" y="65"/>
                  </a:cubicBezTo>
                  <a:cubicBezTo>
                    <a:pt x="34" y="67"/>
                    <a:pt x="35" y="69"/>
                    <a:pt x="36" y="71"/>
                  </a:cubicBezTo>
                  <a:cubicBezTo>
                    <a:pt x="36" y="71"/>
                    <a:pt x="36" y="72"/>
                    <a:pt x="36" y="73"/>
                  </a:cubicBezTo>
                  <a:cubicBezTo>
                    <a:pt x="33" y="77"/>
                    <a:pt x="31" y="81"/>
                    <a:pt x="28" y="86"/>
                  </a:cubicBezTo>
                  <a:cubicBezTo>
                    <a:pt x="28" y="85"/>
                    <a:pt x="27" y="84"/>
                    <a:pt x="26" y="83"/>
                  </a:cubicBezTo>
                  <a:cubicBezTo>
                    <a:pt x="24" y="61"/>
                    <a:pt x="21" y="38"/>
                    <a:pt x="18" y="28"/>
                  </a:cubicBezTo>
                  <a:cubicBezTo>
                    <a:pt x="18" y="28"/>
                    <a:pt x="22" y="54"/>
                    <a:pt x="26" y="83"/>
                  </a:cubicBezTo>
                  <a:cubicBezTo>
                    <a:pt x="25" y="82"/>
                    <a:pt x="24" y="81"/>
                    <a:pt x="22" y="80"/>
                  </a:cubicBezTo>
                  <a:cubicBezTo>
                    <a:pt x="24" y="81"/>
                    <a:pt x="25" y="82"/>
                    <a:pt x="26" y="84"/>
                  </a:cubicBezTo>
                  <a:cubicBezTo>
                    <a:pt x="26" y="85"/>
                    <a:pt x="26" y="86"/>
                    <a:pt x="26" y="88"/>
                  </a:cubicBezTo>
                  <a:cubicBezTo>
                    <a:pt x="26" y="86"/>
                    <a:pt x="26" y="85"/>
                    <a:pt x="26" y="84"/>
                  </a:cubicBezTo>
                  <a:cubicBezTo>
                    <a:pt x="27" y="85"/>
                    <a:pt x="27" y="86"/>
                    <a:pt x="28" y="87"/>
                  </a:cubicBezTo>
                  <a:cubicBezTo>
                    <a:pt x="27" y="88"/>
                    <a:pt x="27" y="89"/>
                    <a:pt x="26" y="90"/>
                  </a:cubicBezTo>
                  <a:cubicBezTo>
                    <a:pt x="26" y="89"/>
                    <a:pt x="26" y="88"/>
                    <a:pt x="26" y="88"/>
                  </a:cubicBezTo>
                  <a:cubicBezTo>
                    <a:pt x="26" y="88"/>
                    <a:pt x="26" y="89"/>
                    <a:pt x="26" y="90"/>
                  </a:cubicBezTo>
                  <a:cubicBezTo>
                    <a:pt x="24" y="95"/>
                    <a:pt x="23" y="100"/>
                    <a:pt x="21" y="105"/>
                  </a:cubicBezTo>
                  <a:cubicBezTo>
                    <a:pt x="21" y="105"/>
                    <a:pt x="21" y="105"/>
                    <a:pt x="21" y="105"/>
                  </a:cubicBezTo>
                  <a:cubicBezTo>
                    <a:pt x="21" y="104"/>
                    <a:pt x="22" y="104"/>
                    <a:pt x="22" y="103"/>
                  </a:cubicBezTo>
                  <a:cubicBezTo>
                    <a:pt x="22" y="104"/>
                    <a:pt x="21" y="104"/>
                    <a:pt x="21" y="105"/>
                  </a:cubicBezTo>
                  <a:cubicBezTo>
                    <a:pt x="19" y="95"/>
                    <a:pt x="16" y="87"/>
                    <a:pt x="14" y="81"/>
                  </a:cubicBezTo>
                  <a:cubicBezTo>
                    <a:pt x="15" y="85"/>
                    <a:pt x="16" y="90"/>
                    <a:pt x="17" y="95"/>
                  </a:cubicBezTo>
                  <a:cubicBezTo>
                    <a:pt x="17" y="100"/>
                    <a:pt x="16" y="104"/>
                    <a:pt x="15" y="109"/>
                  </a:cubicBezTo>
                  <a:cubicBezTo>
                    <a:pt x="17" y="104"/>
                    <a:pt x="17" y="100"/>
                    <a:pt x="17" y="95"/>
                  </a:cubicBezTo>
                  <a:cubicBezTo>
                    <a:pt x="18" y="100"/>
                    <a:pt x="19" y="105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19" y="116"/>
                    <a:pt x="17" y="122"/>
                    <a:pt x="15" y="127"/>
                  </a:cubicBezTo>
                  <a:cubicBezTo>
                    <a:pt x="14" y="125"/>
                    <a:pt x="14" y="123"/>
                    <a:pt x="13" y="120"/>
                  </a:cubicBezTo>
                  <a:cubicBezTo>
                    <a:pt x="14" y="117"/>
                    <a:pt x="15" y="113"/>
                    <a:pt x="15" y="109"/>
                  </a:cubicBezTo>
                  <a:cubicBezTo>
                    <a:pt x="15" y="112"/>
                    <a:pt x="14" y="116"/>
                    <a:pt x="13" y="119"/>
                  </a:cubicBezTo>
                  <a:cubicBezTo>
                    <a:pt x="11" y="111"/>
                    <a:pt x="10" y="103"/>
                    <a:pt x="10" y="95"/>
                  </a:cubicBezTo>
                  <a:cubicBezTo>
                    <a:pt x="9" y="96"/>
                    <a:pt x="9" y="96"/>
                    <a:pt x="9" y="96"/>
                  </a:cubicBezTo>
                  <a:cubicBezTo>
                    <a:pt x="9" y="98"/>
                    <a:pt x="9" y="98"/>
                    <a:pt x="9" y="98"/>
                  </a:cubicBezTo>
                  <a:cubicBezTo>
                    <a:pt x="9" y="97"/>
                    <a:pt x="9" y="96"/>
                    <a:pt x="9" y="95"/>
                  </a:cubicBezTo>
                  <a:cubicBezTo>
                    <a:pt x="9" y="84"/>
                    <a:pt x="7" y="69"/>
                    <a:pt x="1" y="60"/>
                  </a:cubicBezTo>
                  <a:cubicBezTo>
                    <a:pt x="6" y="70"/>
                    <a:pt x="7" y="82"/>
                    <a:pt x="7" y="93"/>
                  </a:cubicBezTo>
                  <a:cubicBezTo>
                    <a:pt x="7" y="101"/>
                    <a:pt x="5" y="109"/>
                    <a:pt x="3" y="116"/>
                  </a:cubicBezTo>
                  <a:cubicBezTo>
                    <a:pt x="1" y="115"/>
                    <a:pt x="1" y="117"/>
                    <a:pt x="2" y="120"/>
                  </a:cubicBezTo>
                  <a:cubicBezTo>
                    <a:pt x="2" y="121"/>
                    <a:pt x="2" y="121"/>
                    <a:pt x="1" y="122"/>
                  </a:cubicBezTo>
                  <a:cubicBezTo>
                    <a:pt x="1" y="121"/>
                    <a:pt x="1" y="120"/>
                    <a:pt x="0" y="119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90" y="166"/>
                    <a:pt x="179" y="166"/>
                    <a:pt x="269" y="166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306" y="166"/>
                    <a:pt x="342" y="166"/>
                    <a:pt x="379" y="166"/>
                  </a:cubicBezTo>
                  <a:cubicBezTo>
                    <a:pt x="416" y="166"/>
                    <a:pt x="453" y="166"/>
                    <a:pt x="490" y="166"/>
                  </a:cubicBezTo>
                  <a:cubicBezTo>
                    <a:pt x="490" y="166"/>
                    <a:pt x="490" y="166"/>
                    <a:pt x="490" y="166"/>
                  </a:cubicBezTo>
                  <a:cubicBezTo>
                    <a:pt x="746" y="166"/>
                    <a:pt x="1002" y="166"/>
                    <a:pt x="1258" y="166"/>
                  </a:cubicBezTo>
                  <a:cubicBezTo>
                    <a:pt x="1258" y="166"/>
                    <a:pt x="1258" y="166"/>
                    <a:pt x="1258" y="166"/>
                  </a:cubicBezTo>
                  <a:cubicBezTo>
                    <a:pt x="1430" y="166"/>
                    <a:pt x="1602" y="166"/>
                    <a:pt x="1773" y="166"/>
                  </a:cubicBezTo>
                  <a:cubicBezTo>
                    <a:pt x="1871" y="166"/>
                    <a:pt x="1969" y="166"/>
                    <a:pt x="2066" y="166"/>
                  </a:cubicBezTo>
                  <a:cubicBezTo>
                    <a:pt x="2066" y="166"/>
                    <a:pt x="2066" y="166"/>
                    <a:pt x="2066" y="166"/>
                  </a:cubicBezTo>
                  <a:cubicBezTo>
                    <a:pt x="2103" y="166"/>
                    <a:pt x="2140" y="166"/>
                    <a:pt x="2177" y="166"/>
                  </a:cubicBezTo>
                  <a:cubicBezTo>
                    <a:pt x="2214" y="166"/>
                    <a:pt x="2251" y="166"/>
                    <a:pt x="2288" y="166"/>
                  </a:cubicBezTo>
                  <a:cubicBezTo>
                    <a:pt x="2288" y="166"/>
                    <a:pt x="2288" y="166"/>
                    <a:pt x="2288" y="166"/>
                  </a:cubicBezTo>
                  <a:cubicBezTo>
                    <a:pt x="2544" y="166"/>
                    <a:pt x="2800" y="166"/>
                    <a:pt x="3056" y="166"/>
                  </a:cubicBezTo>
                  <a:cubicBezTo>
                    <a:pt x="3056" y="166"/>
                    <a:pt x="3056" y="166"/>
                    <a:pt x="3056" y="166"/>
                  </a:cubicBezTo>
                  <a:cubicBezTo>
                    <a:pt x="3228" y="166"/>
                    <a:pt x="3400" y="166"/>
                    <a:pt x="3571" y="166"/>
                  </a:cubicBezTo>
                  <a:cubicBezTo>
                    <a:pt x="3669" y="166"/>
                    <a:pt x="3767" y="166"/>
                    <a:pt x="3864" y="166"/>
                  </a:cubicBezTo>
                  <a:cubicBezTo>
                    <a:pt x="3864" y="166"/>
                    <a:pt x="3864" y="166"/>
                    <a:pt x="3864" y="166"/>
                  </a:cubicBezTo>
                  <a:cubicBezTo>
                    <a:pt x="3901" y="166"/>
                    <a:pt x="3938" y="166"/>
                    <a:pt x="3975" y="166"/>
                  </a:cubicBezTo>
                  <a:cubicBezTo>
                    <a:pt x="4012" y="166"/>
                    <a:pt x="4049" y="166"/>
                    <a:pt x="4086" y="166"/>
                  </a:cubicBezTo>
                  <a:cubicBezTo>
                    <a:pt x="4086" y="166"/>
                    <a:pt x="4086" y="166"/>
                    <a:pt x="4086" y="166"/>
                  </a:cubicBezTo>
                  <a:cubicBezTo>
                    <a:pt x="4312" y="166"/>
                    <a:pt x="4537" y="166"/>
                    <a:pt x="4763" y="166"/>
                  </a:cubicBezTo>
                  <a:cubicBezTo>
                    <a:pt x="4763" y="137"/>
                    <a:pt x="4763" y="137"/>
                    <a:pt x="4763" y="137"/>
                  </a:cubicBezTo>
                  <a:cubicBezTo>
                    <a:pt x="4760" y="119"/>
                    <a:pt x="4755" y="101"/>
                    <a:pt x="4748" y="85"/>
                  </a:cubicBezTo>
                  <a:close/>
                  <a:moveTo>
                    <a:pt x="1" y="154"/>
                  </a:moveTo>
                  <a:cubicBezTo>
                    <a:pt x="1" y="154"/>
                    <a:pt x="1" y="154"/>
                    <a:pt x="1" y="154"/>
                  </a:cubicBezTo>
                  <a:cubicBezTo>
                    <a:pt x="1" y="152"/>
                    <a:pt x="2" y="151"/>
                    <a:pt x="2" y="150"/>
                  </a:cubicBezTo>
                  <a:cubicBezTo>
                    <a:pt x="2" y="150"/>
                    <a:pt x="2" y="151"/>
                    <a:pt x="2" y="151"/>
                  </a:cubicBezTo>
                  <a:cubicBezTo>
                    <a:pt x="2" y="152"/>
                    <a:pt x="1" y="153"/>
                    <a:pt x="1" y="154"/>
                  </a:cubicBezTo>
                  <a:close/>
                  <a:moveTo>
                    <a:pt x="7" y="119"/>
                  </a:move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19"/>
                  </a:cubicBezTo>
                  <a:close/>
                  <a:moveTo>
                    <a:pt x="6" y="138"/>
                  </a:moveTo>
                  <a:cubicBezTo>
                    <a:pt x="6" y="137"/>
                    <a:pt x="5" y="135"/>
                    <a:pt x="5" y="134"/>
                  </a:cubicBezTo>
                  <a:cubicBezTo>
                    <a:pt x="5" y="134"/>
                    <a:pt x="5" y="134"/>
                    <a:pt x="5" y="133"/>
                  </a:cubicBezTo>
                  <a:cubicBezTo>
                    <a:pt x="5" y="134"/>
                    <a:pt x="6" y="135"/>
                    <a:pt x="6" y="137"/>
                  </a:cubicBezTo>
                  <a:cubicBezTo>
                    <a:pt x="6" y="137"/>
                    <a:pt x="6" y="138"/>
                    <a:pt x="6" y="138"/>
                  </a:cubicBezTo>
                  <a:close/>
                  <a:moveTo>
                    <a:pt x="5" y="133"/>
                  </a:moveTo>
                  <a:cubicBezTo>
                    <a:pt x="5" y="132"/>
                    <a:pt x="5" y="131"/>
                    <a:pt x="6" y="130"/>
                  </a:cubicBezTo>
                  <a:cubicBezTo>
                    <a:pt x="6" y="131"/>
                    <a:pt x="7" y="133"/>
                    <a:pt x="7" y="134"/>
                  </a:cubicBezTo>
                  <a:cubicBezTo>
                    <a:pt x="7" y="135"/>
                    <a:pt x="7" y="135"/>
                    <a:pt x="7" y="136"/>
                  </a:cubicBezTo>
                  <a:cubicBezTo>
                    <a:pt x="6" y="134"/>
                    <a:pt x="5" y="133"/>
                    <a:pt x="5" y="133"/>
                  </a:cubicBezTo>
                  <a:close/>
                  <a:moveTo>
                    <a:pt x="8" y="145"/>
                  </a:moveTo>
                  <a:cubicBezTo>
                    <a:pt x="8" y="144"/>
                    <a:pt x="7" y="143"/>
                    <a:pt x="7" y="143"/>
                  </a:cubicBezTo>
                  <a:cubicBezTo>
                    <a:pt x="8" y="142"/>
                    <a:pt x="8" y="141"/>
                    <a:pt x="8" y="140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8" y="141"/>
                    <a:pt x="8" y="142"/>
                    <a:pt x="8" y="143"/>
                  </a:cubicBezTo>
                  <a:cubicBezTo>
                    <a:pt x="8" y="143"/>
                    <a:pt x="8" y="144"/>
                    <a:pt x="8" y="145"/>
                  </a:cubicBezTo>
                  <a:close/>
                  <a:moveTo>
                    <a:pt x="18" y="134"/>
                  </a:moveTo>
                  <a:cubicBezTo>
                    <a:pt x="18" y="134"/>
                    <a:pt x="18" y="133"/>
                    <a:pt x="18" y="133"/>
                  </a:cubicBezTo>
                  <a:cubicBezTo>
                    <a:pt x="18" y="132"/>
                    <a:pt x="18" y="130"/>
                    <a:pt x="18" y="129"/>
                  </a:cubicBezTo>
                  <a:cubicBezTo>
                    <a:pt x="18" y="130"/>
                    <a:pt x="18" y="132"/>
                    <a:pt x="18" y="134"/>
                  </a:cubicBezTo>
                  <a:close/>
                  <a:moveTo>
                    <a:pt x="28" y="120"/>
                  </a:moveTo>
                  <a:cubicBezTo>
                    <a:pt x="28" y="117"/>
                    <a:pt x="28" y="115"/>
                    <a:pt x="28" y="112"/>
                  </a:cubicBezTo>
                  <a:cubicBezTo>
                    <a:pt x="28" y="111"/>
                    <a:pt x="28" y="111"/>
                    <a:pt x="28" y="110"/>
                  </a:cubicBezTo>
                  <a:cubicBezTo>
                    <a:pt x="28" y="114"/>
                    <a:pt x="29" y="116"/>
                    <a:pt x="29" y="119"/>
                  </a:cubicBezTo>
                  <a:cubicBezTo>
                    <a:pt x="29" y="119"/>
                    <a:pt x="29" y="120"/>
                    <a:pt x="28" y="120"/>
                  </a:cubicBezTo>
                  <a:close/>
                  <a:moveTo>
                    <a:pt x="30" y="115"/>
                  </a:moveTo>
                  <a:cubicBezTo>
                    <a:pt x="29" y="112"/>
                    <a:pt x="29" y="108"/>
                    <a:pt x="28" y="104"/>
                  </a:cubicBezTo>
                  <a:cubicBezTo>
                    <a:pt x="29" y="101"/>
                    <a:pt x="29" y="97"/>
                    <a:pt x="30" y="93"/>
                  </a:cubicBezTo>
                  <a:cubicBezTo>
                    <a:pt x="31" y="98"/>
                    <a:pt x="32" y="102"/>
                    <a:pt x="32" y="104"/>
                  </a:cubicBezTo>
                  <a:cubicBezTo>
                    <a:pt x="32" y="108"/>
                    <a:pt x="31" y="111"/>
                    <a:pt x="30" y="115"/>
                  </a:cubicBezTo>
                  <a:close/>
                  <a:moveTo>
                    <a:pt x="35" y="102"/>
                  </a:moveTo>
                  <a:cubicBezTo>
                    <a:pt x="35" y="102"/>
                    <a:pt x="35" y="102"/>
                    <a:pt x="35" y="103"/>
                  </a:cubicBezTo>
                  <a:cubicBezTo>
                    <a:pt x="34" y="99"/>
                    <a:pt x="33" y="94"/>
                    <a:pt x="31" y="90"/>
                  </a:cubicBezTo>
                  <a:cubicBezTo>
                    <a:pt x="32" y="84"/>
                    <a:pt x="34" y="78"/>
                    <a:pt x="36" y="73"/>
                  </a:cubicBezTo>
                  <a:cubicBezTo>
                    <a:pt x="36" y="83"/>
                    <a:pt x="35" y="93"/>
                    <a:pt x="35" y="102"/>
                  </a:cubicBezTo>
                  <a:close/>
                  <a:moveTo>
                    <a:pt x="41" y="111"/>
                  </a:moveTo>
                  <a:cubicBezTo>
                    <a:pt x="41" y="111"/>
                    <a:pt x="41" y="111"/>
                    <a:pt x="41" y="111"/>
                  </a:cubicBezTo>
                  <a:cubicBezTo>
                    <a:pt x="41" y="114"/>
                    <a:pt x="40" y="116"/>
                    <a:pt x="40" y="119"/>
                  </a:cubicBezTo>
                  <a:cubicBezTo>
                    <a:pt x="39" y="114"/>
                    <a:pt x="39" y="108"/>
                    <a:pt x="39" y="103"/>
                  </a:cubicBezTo>
                  <a:cubicBezTo>
                    <a:pt x="39" y="97"/>
                    <a:pt x="39" y="91"/>
                    <a:pt x="41" y="85"/>
                  </a:cubicBezTo>
                  <a:cubicBezTo>
                    <a:pt x="40" y="87"/>
                    <a:pt x="39" y="89"/>
                    <a:pt x="38" y="92"/>
                  </a:cubicBezTo>
                  <a:cubicBezTo>
                    <a:pt x="38" y="87"/>
                    <a:pt x="39" y="82"/>
                    <a:pt x="39" y="77"/>
                  </a:cubicBezTo>
                  <a:cubicBezTo>
                    <a:pt x="41" y="83"/>
                    <a:pt x="43" y="90"/>
                    <a:pt x="43" y="96"/>
                  </a:cubicBezTo>
                  <a:cubicBezTo>
                    <a:pt x="43" y="101"/>
                    <a:pt x="42" y="106"/>
                    <a:pt x="41" y="111"/>
                  </a:cubicBezTo>
                  <a:close/>
                  <a:moveTo>
                    <a:pt x="48" y="127"/>
                  </a:moveTo>
                  <a:cubicBezTo>
                    <a:pt x="47" y="132"/>
                    <a:pt x="46" y="134"/>
                    <a:pt x="46" y="134"/>
                  </a:cubicBezTo>
                  <a:cubicBezTo>
                    <a:pt x="47" y="129"/>
                    <a:pt x="47" y="125"/>
                    <a:pt x="48" y="120"/>
                  </a:cubicBezTo>
                  <a:cubicBezTo>
                    <a:pt x="48" y="123"/>
                    <a:pt x="48" y="125"/>
                    <a:pt x="48" y="127"/>
                  </a:cubicBezTo>
                  <a:close/>
                  <a:moveTo>
                    <a:pt x="79" y="92"/>
                  </a:moveTo>
                  <a:cubicBezTo>
                    <a:pt x="79" y="91"/>
                    <a:pt x="79" y="90"/>
                    <a:pt x="79" y="89"/>
                  </a:cubicBezTo>
                  <a:cubicBezTo>
                    <a:pt x="79" y="89"/>
                    <a:pt x="79" y="90"/>
                    <a:pt x="80" y="91"/>
                  </a:cubicBezTo>
                  <a:cubicBezTo>
                    <a:pt x="79" y="91"/>
                    <a:pt x="79" y="92"/>
                    <a:pt x="79" y="92"/>
                  </a:cubicBezTo>
                  <a:close/>
                  <a:moveTo>
                    <a:pt x="82" y="130"/>
                  </a:moveTo>
                  <a:cubicBezTo>
                    <a:pt x="81" y="132"/>
                    <a:pt x="81" y="134"/>
                    <a:pt x="81" y="136"/>
                  </a:cubicBezTo>
                  <a:cubicBezTo>
                    <a:pt x="80" y="127"/>
                    <a:pt x="80" y="119"/>
                    <a:pt x="80" y="110"/>
                  </a:cubicBezTo>
                  <a:cubicBezTo>
                    <a:pt x="80" y="105"/>
                    <a:pt x="80" y="99"/>
                    <a:pt x="80" y="93"/>
                  </a:cubicBezTo>
                  <a:cubicBezTo>
                    <a:pt x="82" y="99"/>
                    <a:pt x="82" y="104"/>
                    <a:pt x="83" y="109"/>
                  </a:cubicBezTo>
                  <a:cubicBezTo>
                    <a:pt x="82" y="116"/>
                    <a:pt x="82" y="123"/>
                    <a:pt x="82" y="130"/>
                  </a:cubicBezTo>
                  <a:close/>
                  <a:moveTo>
                    <a:pt x="91" y="140"/>
                  </a:moveTo>
                  <a:cubicBezTo>
                    <a:pt x="91" y="140"/>
                    <a:pt x="91" y="139"/>
                    <a:pt x="91" y="139"/>
                  </a:cubicBezTo>
                  <a:cubicBezTo>
                    <a:pt x="92" y="100"/>
                    <a:pt x="92" y="100"/>
                    <a:pt x="92" y="100"/>
                  </a:cubicBezTo>
                  <a:cubicBezTo>
                    <a:pt x="92" y="106"/>
                    <a:pt x="93" y="113"/>
                    <a:pt x="93" y="119"/>
                  </a:cubicBezTo>
                  <a:cubicBezTo>
                    <a:pt x="93" y="122"/>
                    <a:pt x="93" y="126"/>
                    <a:pt x="93" y="129"/>
                  </a:cubicBezTo>
                  <a:cubicBezTo>
                    <a:pt x="92" y="133"/>
                    <a:pt x="92" y="136"/>
                    <a:pt x="91" y="140"/>
                  </a:cubicBezTo>
                  <a:close/>
                  <a:moveTo>
                    <a:pt x="112" y="105"/>
                  </a:moveTo>
                  <a:cubicBezTo>
                    <a:pt x="112" y="104"/>
                    <a:pt x="112" y="102"/>
                    <a:pt x="112" y="101"/>
                  </a:cubicBezTo>
                  <a:cubicBezTo>
                    <a:pt x="113" y="102"/>
                    <a:pt x="113" y="103"/>
                    <a:pt x="113" y="103"/>
                  </a:cubicBezTo>
                  <a:cubicBezTo>
                    <a:pt x="113" y="104"/>
                    <a:pt x="112" y="105"/>
                    <a:pt x="112" y="105"/>
                  </a:cubicBezTo>
                  <a:close/>
                  <a:moveTo>
                    <a:pt x="135" y="101"/>
                  </a:moveTo>
                  <a:cubicBezTo>
                    <a:pt x="135" y="101"/>
                    <a:pt x="135" y="101"/>
                    <a:pt x="134" y="100"/>
                  </a:cubicBezTo>
                  <a:cubicBezTo>
                    <a:pt x="135" y="101"/>
                    <a:pt x="135" y="101"/>
                    <a:pt x="135" y="101"/>
                  </a:cubicBezTo>
                  <a:cubicBezTo>
                    <a:pt x="134" y="111"/>
                    <a:pt x="133" y="119"/>
                    <a:pt x="132" y="126"/>
                  </a:cubicBezTo>
                  <a:cubicBezTo>
                    <a:pt x="131" y="122"/>
                    <a:pt x="131" y="118"/>
                    <a:pt x="130" y="114"/>
                  </a:cubicBezTo>
                  <a:cubicBezTo>
                    <a:pt x="130" y="109"/>
                    <a:pt x="130" y="103"/>
                    <a:pt x="130" y="98"/>
                  </a:cubicBezTo>
                  <a:cubicBezTo>
                    <a:pt x="131" y="92"/>
                    <a:pt x="133" y="87"/>
                    <a:pt x="136" y="82"/>
                  </a:cubicBezTo>
                  <a:cubicBezTo>
                    <a:pt x="136" y="89"/>
                    <a:pt x="135" y="95"/>
                    <a:pt x="135" y="101"/>
                  </a:cubicBezTo>
                  <a:close/>
                  <a:moveTo>
                    <a:pt x="145" y="117"/>
                  </a:moveTo>
                  <a:cubicBezTo>
                    <a:pt x="144" y="114"/>
                    <a:pt x="144" y="110"/>
                    <a:pt x="144" y="106"/>
                  </a:cubicBezTo>
                  <a:cubicBezTo>
                    <a:pt x="144" y="99"/>
                    <a:pt x="144" y="90"/>
                    <a:pt x="148" y="83"/>
                  </a:cubicBezTo>
                  <a:cubicBezTo>
                    <a:pt x="146" y="95"/>
                    <a:pt x="145" y="107"/>
                    <a:pt x="145" y="117"/>
                  </a:cubicBezTo>
                  <a:close/>
                  <a:moveTo>
                    <a:pt x="150" y="108"/>
                  </a:moveTo>
                  <a:cubicBezTo>
                    <a:pt x="150" y="106"/>
                    <a:pt x="151" y="104"/>
                    <a:pt x="151" y="102"/>
                  </a:cubicBezTo>
                  <a:cubicBezTo>
                    <a:pt x="151" y="102"/>
                    <a:pt x="151" y="102"/>
                    <a:pt x="151" y="103"/>
                  </a:cubicBezTo>
                  <a:cubicBezTo>
                    <a:pt x="151" y="104"/>
                    <a:pt x="151" y="106"/>
                    <a:pt x="150" y="108"/>
                  </a:cubicBezTo>
                  <a:close/>
                  <a:moveTo>
                    <a:pt x="156" y="111"/>
                  </a:moveTo>
                  <a:cubicBezTo>
                    <a:pt x="156" y="103"/>
                    <a:pt x="159" y="95"/>
                    <a:pt x="161" y="87"/>
                  </a:cubicBezTo>
                  <a:cubicBezTo>
                    <a:pt x="160" y="95"/>
                    <a:pt x="158" y="104"/>
                    <a:pt x="157" y="113"/>
                  </a:cubicBezTo>
                  <a:cubicBezTo>
                    <a:pt x="156" y="112"/>
                    <a:pt x="156" y="112"/>
                    <a:pt x="156" y="111"/>
                  </a:cubicBezTo>
                  <a:close/>
                  <a:moveTo>
                    <a:pt x="180" y="110"/>
                  </a:moveTo>
                  <a:cubicBezTo>
                    <a:pt x="180" y="109"/>
                    <a:pt x="180" y="108"/>
                    <a:pt x="180" y="107"/>
                  </a:cubicBezTo>
                  <a:cubicBezTo>
                    <a:pt x="180" y="107"/>
                    <a:pt x="180" y="108"/>
                    <a:pt x="180" y="108"/>
                  </a:cubicBezTo>
                  <a:cubicBezTo>
                    <a:pt x="180" y="109"/>
                    <a:pt x="180" y="109"/>
                    <a:pt x="180" y="110"/>
                  </a:cubicBezTo>
                  <a:close/>
                  <a:moveTo>
                    <a:pt x="191" y="125"/>
                  </a:moveTo>
                  <a:cubicBezTo>
                    <a:pt x="191" y="123"/>
                    <a:pt x="191" y="122"/>
                    <a:pt x="191" y="120"/>
                  </a:cubicBezTo>
                  <a:cubicBezTo>
                    <a:pt x="191" y="121"/>
                    <a:pt x="191" y="122"/>
                    <a:pt x="191" y="123"/>
                  </a:cubicBezTo>
                  <a:cubicBezTo>
                    <a:pt x="191" y="123"/>
                    <a:pt x="191" y="124"/>
                    <a:pt x="191" y="125"/>
                  </a:cubicBezTo>
                  <a:close/>
                  <a:moveTo>
                    <a:pt x="194" y="115"/>
                  </a:moveTo>
                  <a:cubicBezTo>
                    <a:pt x="194" y="117"/>
                    <a:pt x="193" y="118"/>
                    <a:pt x="193" y="119"/>
                  </a:cubicBezTo>
                  <a:cubicBezTo>
                    <a:pt x="192" y="118"/>
                    <a:pt x="191" y="116"/>
                    <a:pt x="191" y="114"/>
                  </a:cubicBezTo>
                  <a:cubicBezTo>
                    <a:pt x="191" y="110"/>
                    <a:pt x="191" y="105"/>
                    <a:pt x="191" y="100"/>
                  </a:cubicBezTo>
                  <a:cubicBezTo>
                    <a:pt x="193" y="94"/>
                    <a:pt x="195" y="89"/>
                    <a:pt x="198" y="84"/>
                  </a:cubicBezTo>
                  <a:cubicBezTo>
                    <a:pt x="197" y="93"/>
                    <a:pt x="195" y="105"/>
                    <a:pt x="194" y="115"/>
                  </a:cubicBezTo>
                  <a:close/>
                  <a:moveTo>
                    <a:pt x="202" y="90"/>
                  </a:moveTo>
                  <a:cubicBezTo>
                    <a:pt x="201" y="88"/>
                    <a:pt x="200" y="84"/>
                    <a:pt x="200" y="80"/>
                  </a:cubicBezTo>
                  <a:cubicBezTo>
                    <a:pt x="200" y="80"/>
                    <a:pt x="200" y="80"/>
                    <a:pt x="200" y="80"/>
                  </a:cubicBezTo>
                  <a:cubicBezTo>
                    <a:pt x="201" y="81"/>
                    <a:pt x="202" y="83"/>
                    <a:pt x="203" y="84"/>
                  </a:cubicBezTo>
                  <a:cubicBezTo>
                    <a:pt x="202" y="88"/>
                    <a:pt x="202" y="90"/>
                    <a:pt x="202" y="90"/>
                  </a:cubicBezTo>
                  <a:close/>
                  <a:moveTo>
                    <a:pt x="203" y="83"/>
                  </a:moveTo>
                  <a:cubicBezTo>
                    <a:pt x="202" y="81"/>
                    <a:pt x="201" y="80"/>
                    <a:pt x="201" y="79"/>
                  </a:cubicBezTo>
                  <a:cubicBezTo>
                    <a:pt x="202" y="78"/>
                    <a:pt x="203" y="76"/>
                    <a:pt x="204" y="75"/>
                  </a:cubicBezTo>
                  <a:cubicBezTo>
                    <a:pt x="203" y="78"/>
                    <a:pt x="203" y="81"/>
                    <a:pt x="203" y="83"/>
                  </a:cubicBezTo>
                  <a:close/>
                  <a:moveTo>
                    <a:pt x="209" y="104"/>
                  </a:moveTo>
                  <a:cubicBezTo>
                    <a:pt x="210" y="105"/>
                    <a:pt x="210" y="107"/>
                    <a:pt x="210" y="109"/>
                  </a:cubicBezTo>
                  <a:cubicBezTo>
                    <a:pt x="210" y="111"/>
                    <a:pt x="209" y="112"/>
                    <a:pt x="209" y="114"/>
                  </a:cubicBezTo>
                  <a:cubicBezTo>
                    <a:pt x="209" y="110"/>
                    <a:pt x="209" y="107"/>
                    <a:pt x="209" y="104"/>
                  </a:cubicBezTo>
                  <a:close/>
                  <a:moveTo>
                    <a:pt x="205" y="91"/>
                  </a:moveTo>
                  <a:cubicBezTo>
                    <a:pt x="206" y="91"/>
                    <a:pt x="206" y="91"/>
                    <a:pt x="206" y="91"/>
                  </a:cubicBezTo>
                  <a:cubicBezTo>
                    <a:pt x="206" y="91"/>
                    <a:pt x="206" y="91"/>
                    <a:pt x="205" y="91"/>
                  </a:cubicBezTo>
                  <a:close/>
                  <a:moveTo>
                    <a:pt x="206" y="124"/>
                  </a:moveTo>
                  <a:cubicBezTo>
                    <a:pt x="206" y="114"/>
                    <a:pt x="206" y="102"/>
                    <a:pt x="205" y="91"/>
                  </a:cubicBezTo>
                  <a:cubicBezTo>
                    <a:pt x="206" y="91"/>
                    <a:pt x="206" y="91"/>
                    <a:pt x="206" y="91"/>
                  </a:cubicBezTo>
                  <a:cubicBezTo>
                    <a:pt x="207" y="94"/>
                    <a:pt x="208" y="98"/>
                    <a:pt x="209" y="101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6" y="121"/>
                    <a:pt x="206" y="122"/>
                    <a:pt x="206" y="124"/>
                  </a:cubicBezTo>
                  <a:close/>
                  <a:moveTo>
                    <a:pt x="208" y="136"/>
                  </a:moveTo>
                  <a:cubicBezTo>
                    <a:pt x="208" y="134"/>
                    <a:pt x="208" y="133"/>
                    <a:pt x="208" y="131"/>
                  </a:cubicBezTo>
                  <a:cubicBezTo>
                    <a:pt x="209" y="126"/>
                    <a:pt x="211" y="121"/>
                    <a:pt x="212" y="116"/>
                  </a:cubicBezTo>
                  <a:cubicBezTo>
                    <a:pt x="212" y="118"/>
                    <a:pt x="212" y="121"/>
                    <a:pt x="213" y="123"/>
                  </a:cubicBezTo>
                  <a:cubicBezTo>
                    <a:pt x="213" y="124"/>
                    <a:pt x="212" y="124"/>
                    <a:pt x="212" y="124"/>
                  </a:cubicBezTo>
                  <a:cubicBezTo>
                    <a:pt x="211" y="128"/>
                    <a:pt x="210" y="132"/>
                    <a:pt x="208" y="136"/>
                  </a:cubicBezTo>
                  <a:close/>
                  <a:moveTo>
                    <a:pt x="212" y="141"/>
                  </a:moveTo>
                  <a:cubicBezTo>
                    <a:pt x="212" y="141"/>
                    <a:pt x="213" y="141"/>
                    <a:pt x="213" y="140"/>
                  </a:cubicBezTo>
                  <a:cubicBezTo>
                    <a:pt x="213" y="139"/>
                    <a:pt x="213" y="137"/>
                    <a:pt x="214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4" y="137"/>
                    <a:pt x="213" y="139"/>
                    <a:pt x="212" y="141"/>
                  </a:cubicBezTo>
                  <a:close/>
                  <a:moveTo>
                    <a:pt x="219" y="119"/>
                  </a:moveTo>
                  <a:cubicBezTo>
                    <a:pt x="219" y="119"/>
                    <a:pt x="218" y="118"/>
                    <a:pt x="218" y="118"/>
                  </a:cubicBezTo>
                  <a:cubicBezTo>
                    <a:pt x="218" y="116"/>
                    <a:pt x="219" y="115"/>
                    <a:pt x="219" y="113"/>
                  </a:cubicBezTo>
                  <a:cubicBezTo>
                    <a:pt x="219" y="112"/>
                    <a:pt x="219" y="112"/>
                    <a:pt x="219" y="111"/>
                  </a:cubicBezTo>
                  <a:cubicBezTo>
                    <a:pt x="220" y="112"/>
                    <a:pt x="220" y="113"/>
                    <a:pt x="220" y="115"/>
                  </a:cubicBezTo>
                  <a:cubicBezTo>
                    <a:pt x="220" y="116"/>
                    <a:pt x="219" y="118"/>
                    <a:pt x="219" y="119"/>
                  </a:cubicBezTo>
                  <a:close/>
                  <a:moveTo>
                    <a:pt x="226" y="136"/>
                  </a:moveTo>
                  <a:cubicBezTo>
                    <a:pt x="225" y="135"/>
                    <a:pt x="225" y="134"/>
                    <a:pt x="224" y="133"/>
                  </a:cubicBezTo>
                  <a:cubicBezTo>
                    <a:pt x="224" y="132"/>
                    <a:pt x="224" y="132"/>
                    <a:pt x="224" y="131"/>
                  </a:cubicBezTo>
                  <a:cubicBezTo>
                    <a:pt x="225" y="133"/>
                    <a:pt x="225" y="134"/>
                    <a:pt x="226" y="136"/>
                  </a:cubicBezTo>
                  <a:cubicBezTo>
                    <a:pt x="226" y="136"/>
                    <a:pt x="226" y="136"/>
                    <a:pt x="226" y="136"/>
                  </a:cubicBezTo>
                  <a:close/>
                  <a:moveTo>
                    <a:pt x="240" y="118"/>
                  </a:moveTo>
                  <a:cubicBezTo>
                    <a:pt x="240" y="118"/>
                    <a:pt x="240" y="117"/>
                    <a:pt x="240" y="117"/>
                  </a:cubicBezTo>
                  <a:cubicBezTo>
                    <a:pt x="240" y="117"/>
                    <a:pt x="240" y="117"/>
                    <a:pt x="240" y="117"/>
                  </a:cubicBezTo>
                  <a:cubicBezTo>
                    <a:pt x="240" y="118"/>
                    <a:pt x="240" y="118"/>
                    <a:pt x="240" y="118"/>
                  </a:cubicBezTo>
                  <a:close/>
                  <a:moveTo>
                    <a:pt x="246" y="105"/>
                  </a:moveTo>
                  <a:cubicBezTo>
                    <a:pt x="245" y="106"/>
                    <a:pt x="244" y="107"/>
                    <a:pt x="244" y="109"/>
                  </a:cubicBezTo>
                  <a:cubicBezTo>
                    <a:pt x="244" y="107"/>
                    <a:pt x="243" y="106"/>
                    <a:pt x="243" y="104"/>
                  </a:cubicBezTo>
                  <a:cubicBezTo>
                    <a:pt x="244" y="101"/>
                    <a:pt x="246" y="98"/>
                    <a:pt x="247" y="94"/>
                  </a:cubicBezTo>
                  <a:cubicBezTo>
                    <a:pt x="247" y="98"/>
                    <a:pt x="246" y="101"/>
                    <a:pt x="246" y="105"/>
                  </a:cubicBezTo>
                  <a:close/>
                  <a:moveTo>
                    <a:pt x="252" y="138"/>
                  </a:moveTo>
                  <a:cubicBezTo>
                    <a:pt x="251" y="137"/>
                    <a:pt x="251" y="136"/>
                    <a:pt x="251" y="135"/>
                  </a:cubicBezTo>
                  <a:cubicBezTo>
                    <a:pt x="251" y="133"/>
                    <a:pt x="251" y="131"/>
                    <a:pt x="251" y="129"/>
                  </a:cubicBezTo>
                  <a:cubicBezTo>
                    <a:pt x="251" y="131"/>
                    <a:pt x="251" y="133"/>
                    <a:pt x="252" y="134"/>
                  </a:cubicBezTo>
                  <a:cubicBezTo>
                    <a:pt x="252" y="135"/>
                    <a:pt x="252" y="137"/>
                    <a:pt x="252" y="138"/>
                  </a:cubicBezTo>
                  <a:close/>
                  <a:moveTo>
                    <a:pt x="253" y="123"/>
                  </a:moveTo>
                  <a:cubicBezTo>
                    <a:pt x="252" y="121"/>
                    <a:pt x="251" y="118"/>
                    <a:pt x="251" y="116"/>
                  </a:cubicBezTo>
                  <a:cubicBezTo>
                    <a:pt x="252" y="112"/>
                    <a:pt x="253" y="107"/>
                    <a:pt x="254" y="103"/>
                  </a:cubicBezTo>
                  <a:cubicBezTo>
                    <a:pt x="254" y="110"/>
                    <a:pt x="253" y="117"/>
                    <a:pt x="253" y="123"/>
                  </a:cubicBezTo>
                  <a:close/>
                  <a:moveTo>
                    <a:pt x="258" y="69"/>
                  </a:moveTo>
                  <a:cubicBezTo>
                    <a:pt x="260" y="72"/>
                    <a:pt x="262" y="75"/>
                    <a:pt x="264" y="79"/>
                  </a:cubicBezTo>
                  <a:cubicBezTo>
                    <a:pt x="263" y="79"/>
                    <a:pt x="263" y="79"/>
                    <a:pt x="263" y="79"/>
                  </a:cubicBezTo>
                  <a:cubicBezTo>
                    <a:pt x="262" y="76"/>
                    <a:pt x="260" y="72"/>
                    <a:pt x="258" y="69"/>
                  </a:cubicBezTo>
                  <a:cubicBezTo>
                    <a:pt x="258" y="69"/>
                    <a:pt x="258" y="69"/>
                    <a:pt x="258" y="69"/>
                  </a:cubicBezTo>
                  <a:close/>
                  <a:moveTo>
                    <a:pt x="258" y="74"/>
                  </a:moveTo>
                  <a:cubicBezTo>
                    <a:pt x="259" y="76"/>
                    <a:pt x="260" y="79"/>
                    <a:pt x="261" y="81"/>
                  </a:cubicBezTo>
                  <a:cubicBezTo>
                    <a:pt x="260" y="82"/>
                    <a:pt x="259" y="83"/>
                    <a:pt x="259" y="85"/>
                  </a:cubicBezTo>
                  <a:cubicBezTo>
                    <a:pt x="258" y="81"/>
                    <a:pt x="258" y="77"/>
                    <a:pt x="258" y="74"/>
                  </a:cubicBezTo>
                  <a:close/>
                  <a:moveTo>
                    <a:pt x="259" y="120"/>
                  </a:moveTo>
                  <a:cubicBezTo>
                    <a:pt x="259" y="115"/>
                    <a:pt x="259" y="111"/>
                    <a:pt x="259" y="106"/>
                  </a:cubicBezTo>
                  <a:cubicBezTo>
                    <a:pt x="260" y="109"/>
                    <a:pt x="260" y="112"/>
                    <a:pt x="261" y="114"/>
                  </a:cubicBezTo>
                  <a:cubicBezTo>
                    <a:pt x="260" y="116"/>
                    <a:pt x="260" y="118"/>
                    <a:pt x="259" y="120"/>
                  </a:cubicBezTo>
                  <a:close/>
                  <a:moveTo>
                    <a:pt x="262" y="109"/>
                  </a:moveTo>
                  <a:cubicBezTo>
                    <a:pt x="261" y="107"/>
                    <a:pt x="260" y="104"/>
                    <a:pt x="259" y="102"/>
                  </a:cubicBezTo>
                  <a:cubicBezTo>
                    <a:pt x="259" y="99"/>
                    <a:pt x="259" y="97"/>
                    <a:pt x="259" y="94"/>
                  </a:cubicBezTo>
                  <a:cubicBezTo>
                    <a:pt x="260" y="98"/>
                    <a:pt x="262" y="102"/>
                    <a:pt x="263" y="107"/>
                  </a:cubicBezTo>
                  <a:cubicBezTo>
                    <a:pt x="263" y="108"/>
                    <a:pt x="262" y="108"/>
                    <a:pt x="262" y="109"/>
                  </a:cubicBezTo>
                  <a:close/>
                  <a:moveTo>
                    <a:pt x="266" y="96"/>
                  </a:moveTo>
                  <a:cubicBezTo>
                    <a:pt x="265" y="98"/>
                    <a:pt x="264" y="101"/>
                    <a:pt x="264" y="104"/>
                  </a:cubicBezTo>
                  <a:cubicBezTo>
                    <a:pt x="262" y="100"/>
                    <a:pt x="261" y="96"/>
                    <a:pt x="259" y="92"/>
                  </a:cubicBezTo>
                  <a:cubicBezTo>
                    <a:pt x="259" y="92"/>
                    <a:pt x="259" y="92"/>
                    <a:pt x="259" y="92"/>
                  </a:cubicBezTo>
                  <a:cubicBezTo>
                    <a:pt x="260" y="89"/>
                    <a:pt x="261" y="86"/>
                    <a:pt x="263" y="84"/>
                  </a:cubicBezTo>
                  <a:cubicBezTo>
                    <a:pt x="264" y="87"/>
                    <a:pt x="265" y="90"/>
                    <a:pt x="266" y="93"/>
                  </a:cubicBezTo>
                  <a:cubicBezTo>
                    <a:pt x="266" y="94"/>
                    <a:pt x="266" y="95"/>
                    <a:pt x="266" y="96"/>
                  </a:cubicBezTo>
                  <a:close/>
                  <a:moveTo>
                    <a:pt x="267" y="90"/>
                  </a:moveTo>
                  <a:cubicBezTo>
                    <a:pt x="266" y="87"/>
                    <a:pt x="265" y="84"/>
                    <a:pt x="264" y="82"/>
                  </a:cubicBezTo>
                  <a:cubicBezTo>
                    <a:pt x="264" y="81"/>
                    <a:pt x="264" y="81"/>
                    <a:pt x="265" y="81"/>
                  </a:cubicBezTo>
                  <a:cubicBezTo>
                    <a:pt x="266" y="83"/>
                    <a:pt x="267" y="86"/>
                    <a:pt x="267" y="89"/>
                  </a:cubicBezTo>
                  <a:cubicBezTo>
                    <a:pt x="267" y="89"/>
                    <a:pt x="267" y="89"/>
                    <a:pt x="267" y="90"/>
                  </a:cubicBezTo>
                  <a:close/>
                  <a:moveTo>
                    <a:pt x="265" y="79"/>
                  </a:moveTo>
                  <a:cubicBezTo>
                    <a:pt x="266" y="78"/>
                    <a:pt x="267" y="77"/>
                    <a:pt x="268" y="76"/>
                  </a:cubicBezTo>
                  <a:cubicBezTo>
                    <a:pt x="268" y="78"/>
                    <a:pt x="269" y="79"/>
                    <a:pt x="269" y="80"/>
                  </a:cubicBezTo>
                  <a:cubicBezTo>
                    <a:pt x="269" y="82"/>
                    <a:pt x="268" y="84"/>
                    <a:pt x="268" y="85"/>
                  </a:cubicBezTo>
                  <a:cubicBezTo>
                    <a:pt x="267" y="83"/>
                    <a:pt x="266" y="81"/>
                    <a:pt x="265" y="79"/>
                  </a:cubicBezTo>
                  <a:close/>
                  <a:moveTo>
                    <a:pt x="268" y="116"/>
                  </a:moveTo>
                  <a:cubicBezTo>
                    <a:pt x="269" y="111"/>
                    <a:pt x="269" y="106"/>
                    <a:pt x="269" y="102"/>
                  </a:cubicBezTo>
                  <a:cubicBezTo>
                    <a:pt x="270" y="105"/>
                    <a:pt x="271" y="108"/>
                    <a:pt x="272" y="111"/>
                  </a:cubicBezTo>
                  <a:cubicBezTo>
                    <a:pt x="271" y="113"/>
                    <a:pt x="270" y="116"/>
                    <a:pt x="269" y="118"/>
                  </a:cubicBezTo>
                  <a:cubicBezTo>
                    <a:pt x="269" y="117"/>
                    <a:pt x="268" y="117"/>
                    <a:pt x="268" y="116"/>
                  </a:cubicBezTo>
                  <a:close/>
                  <a:moveTo>
                    <a:pt x="273" y="130"/>
                  </a:moveTo>
                  <a:cubicBezTo>
                    <a:pt x="272" y="128"/>
                    <a:pt x="272" y="127"/>
                    <a:pt x="271" y="125"/>
                  </a:cubicBezTo>
                  <a:cubicBezTo>
                    <a:pt x="272" y="123"/>
                    <a:pt x="272" y="122"/>
                    <a:pt x="273" y="120"/>
                  </a:cubicBezTo>
                  <a:cubicBezTo>
                    <a:pt x="273" y="122"/>
                    <a:pt x="273" y="124"/>
                    <a:pt x="274" y="127"/>
                  </a:cubicBezTo>
                  <a:cubicBezTo>
                    <a:pt x="273" y="128"/>
                    <a:pt x="273" y="129"/>
                    <a:pt x="273" y="130"/>
                  </a:cubicBezTo>
                  <a:close/>
                  <a:moveTo>
                    <a:pt x="275" y="105"/>
                  </a:moveTo>
                  <a:cubicBezTo>
                    <a:pt x="273" y="100"/>
                    <a:pt x="272" y="95"/>
                    <a:pt x="270" y="91"/>
                  </a:cubicBezTo>
                  <a:cubicBezTo>
                    <a:pt x="270" y="89"/>
                    <a:pt x="270" y="87"/>
                    <a:pt x="271" y="85"/>
                  </a:cubicBezTo>
                  <a:cubicBezTo>
                    <a:pt x="273" y="91"/>
                    <a:pt x="274" y="97"/>
                    <a:pt x="276" y="103"/>
                  </a:cubicBezTo>
                  <a:cubicBezTo>
                    <a:pt x="275" y="104"/>
                    <a:pt x="275" y="105"/>
                    <a:pt x="275" y="105"/>
                  </a:cubicBezTo>
                  <a:close/>
                  <a:moveTo>
                    <a:pt x="277" y="111"/>
                  </a:moveTo>
                  <a:cubicBezTo>
                    <a:pt x="276" y="110"/>
                    <a:pt x="276" y="110"/>
                    <a:pt x="276" y="109"/>
                  </a:cubicBezTo>
                  <a:cubicBezTo>
                    <a:pt x="276" y="109"/>
                    <a:pt x="276" y="108"/>
                    <a:pt x="277" y="107"/>
                  </a:cubicBezTo>
                  <a:cubicBezTo>
                    <a:pt x="277" y="108"/>
                    <a:pt x="277" y="109"/>
                    <a:pt x="277" y="109"/>
                  </a:cubicBezTo>
                  <a:cubicBezTo>
                    <a:pt x="277" y="110"/>
                    <a:pt x="277" y="110"/>
                    <a:pt x="277" y="111"/>
                  </a:cubicBezTo>
                  <a:close/>
                  <a:moveTo>
                    <a:pt x="287" y="94"/>
                  </a:moveTo>
                  <a:cubicBezTo>
                    <a:pt x="287" y="95"/>
                    <a:pt x="288" y="95"/>
                    <a:pt x="288" y="96"/>
                  </a:cubicBezTo>
                  <a:cubicBezTo>
                    <a:pt x="288" y="97"/>
                    <a:pt x="287" y="97"/>
                    <a:pt x="287" y="98"/>
                  </a:cubicBezTo>
                  <a:cubicBezTo>
                    <a:pt x="287" y="96"/>
                    <a:pt x="287" y="95"/>
                    <a:pt x="287" y="94"/>
                  </a:cubicBezTo>
                  <a:close/>
                  <a:moveTo>
                    <a:pt x="289" y="109"/>
                  </a:moveTo>
                  <a:cubicBezTo>
                    <a:pt x="288" y="106"/>
                    <a:pt x="288" y="104"/>
                    <a:pt x="287" y="102"/>
                  </a:cubicBezTo>
                  <a:cubicBezTo>
                    <a:pt x="287" y="101"/>
                    <a:pt x="287" y="99"/>
                    <a:pt x="287" y="98"/>
                  </a:cubicBezTo>
                  <a:cubicBezTo>
                    <a:pt x="287" y="98"/>
                    <a:pt x="288" y="97"/>
                    <a:pt x="288" y="97"/>
                  </a:cubicBezTo>
                  <a:cubicBezTo>
                    <a:pt x="288" y="98"/>
                    <a:pt x="289" y="100"/>
                    <a:pt x="289" y="102"/>
                  </a:cubicBezTo>
                  <a:cubicBezTo>
                    <a:pt x="289" y="104"/>
                    <a:pt x="289" y="107"/>
                    <a:pt x="289" y="109"/>
                  </a:cubicBezTo>
                  <a:close/>
                  <a:moveTo>
                    <a:pt x="291" y="84"/>
                  </a:moveTo>
                  <a:cubicBezTo>
                    <a:pt x="291" y="89"/>
                    <a:pt x="290" y="94"/>
                    <a:pt x="290" y="98"/>
                  </a:cubicBezTo>
                  <a:cubicBezTo>
                    <a:pt x="289" y="97"/>
                    <a:pt x="289" y="96"/>
                    <a:pt x="288" y="95"/>
                  </a:cubicBezTo>
                  <a:cubicBezTo>
                    <a:pt x="289" y="94"/>
                    <a:pt x="290" y="92"/>
                    <a:pt x="290" y="91"/>
                  </a:cubicBezTo>
                  <a:cubicBezTo>
                    <a:pt x="290" y="92"/>
                    <a:pt x="289" y="94"/>
                    <a:pt x="288" y="95"/>
                  </a:cubicBezTo>
                  <a:cubicBezTo>
                    <a:pt x="288" y="94"/>
                    <a:pt x="287" y="93"/>
                    <a:pt x="287" y="92"/>
                  </a:cubicBezTo>
                  <a:cubicBezTo>
                    <a:pt x="287" y="90"/>
                    <a:pt x="287" y="88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75"/>
                    <a:pt x="286" y="65"/>
                    <a:pt x="286" y="56"/>
                  </a:cubicBezTo>
                  <a:cubicBezTo>
                    <a:pt x="289" y="58"/>
                    <a:pt x="292" y="61"/>
                    <a:pt x="294" y="63"/>
                  </a:cubicBezTo>
                  <a:cubicBezTo>
                    <a:pt x="293" y="69"/>
                    <a:pt x="292" y="76"/>
                    <a:pt x="291" y="84"/>
                  </a:cubicBezTo>
                  <a:cubicBezTo>
                    <a:pt x="291" y="82"/>
                    <a:pt x="290" y="81"/>
                    <a:pt x="290" y="79"/>
                  </a:cubicBezTo>
                  <a:cubicBezTo>
                    <a:pt x="290" y="81"/>
                    <a:pt x="291" y="83"/>
                    <a:pt x="291" y="84"/>
                  </a:cubicBezTo>
                  <a:close/>
                  <a:moveTo>
                    <a:pt x="293" y="139"/>
                  </a:moveTo>
                  <a:cubicBezTo>
                    <a:pt x="292" y="134"/>
                    <a:pt x="292" y="128"/>
                    <a:pt x="292" y="121"/>
                  </a:cubicBezTo>
                  <a:cubicBezTo>
                    <a:pt x="292" y="125"/>
                    <a:pt x="293" y="129"/>
                    <a:pt x="293" y="133"/>
                  </a:cubicBezTo>
                  <a:cubicBezTo>
                    <a:pt x="293" y="135"/>
                    <a:pt x="293" y="137"/>
                    <a:pt x="293" y="139"/>
                  </a:cubicBezTo>
                  <a:close/>
                  <a:moveTo>
                    <a:pt x="292" y="104"/>
                  </a:moveTo>
                  <a:cubicBezTo>
                    <a:pt x="292" y="102"/>
                    <a:pt x="293" y="99"/>
                    <a:pt x="293" y="96"/>
                  </a:cubicBezTo>
                  <a:cubicBezTo>
                    <a:pt x="293" y="100"/>
                    <a:pt x="293" y="104"/>
                    <a:pt x="293" y="107"/>
                  </a:cubicBezTo>
                  <a:cubicBezTo>
                    <a:pt x="293" y="106"/>
                    <a:pt x="293" y="105"/>
                    <a:pt x="292" y="104"/>
                  </a:cubicBezTo>
                  <a:close/>
                  <a:moveTo>
                    <a:pt x="304" y="85"/>
                  </a:moveTo>
                  <a:cubicBezTo>
                    <a:pt x="303" y="90"/>
                    <a:pt x="303" y="96"/>
                    <a:pt x="302" y="103"/>
                  </a:cubicBezTo>
                  <a:cubicBezTo>
                    <a:pt x="301" y="101"/>
                    <a:pt x="301" y="100"/>
                    <a:pt x="300" y="99"/>
                  </a:cubicBezTo>
                  <a:cubicBezTo>
                    <a:pt x="300" y="96"/>
                    <a:pt x="299" y="93"/>
                    <a:pt x="298" y="90"/>
                  </a:cubicBezTo>
                  <a:cubicBezTo>
                    <a:pt x="299" y="93"/>
                    <a:pt x="299" y="96"/>
                    <a:pt x="299" y="99"/>
                  </a:cubicBezTo>
                  <a:cubicBezTo>
                    <a:pt x="299" y="104"/>
                    <a:pt x="299" y="112"/>
                    <a:pt x="298" y="120"/>
                  </a:cubicBezTo>
                  <a:cubicBezTo>
                    <a:pt x="297" y="110"/>
                    <a:pt x="295" y="100"/>
                    <a:pt x="293" y="91"/>
                  </a:cubicBezTo>
                  <a:cubicBezTo>
                    <a:pt x="294" y="81"/>
                    <a:pt x="295" y="72"/>
                    <a:pt x="295" y="65"/>
                  </a:cubicBezTo>
                  <a:cubicBezTo>
                    <a:pt x="299" y="69"/>
                    <a:pt x="302" y="74"/>
                    <a:pt x="304" y="79"/>
                  </a:cubicBezTo>
                  <a:cubicBezTo>
                    <a:pt x="304" y="81"/>
                    <a:pt x="304" y="83"/>
                    <a:pt x="304" y="85"/>
                  </a:cubicBezTo>
                  <a:close/>
                  <a:moveTo>
                    <a:pt x="304" y="75"/>
                  </a:moveTo>
                  <a:cubicBezTo>
                    <a:pt x="304" y="75"/>
                    <a:pt x="304" y="75"/>
                    <a:pt x="304" y="75"/>
                  </a:cubicBezTo>
                  <a:cubicBezTo>
                    <a:pt x="304" y="73"/>
                    <a:pt x="304" y="72"/>
                    <a:pt x="304" y="70"/>
                  </a:cubicBezTo>
                  <a:cubicBezTo>
                    <a:pt x="304" y="70"/>
                    <a:pt x="304" y="72"/>
                    <a:pt x="304" y="75"/>
                  </a:cubicBezTo>
                  <a:cubicBezTo>
                    <a:pt x="301" y="71"/>
                    <a:pt x="299" y="67"/>
                    <a:pt x="296" y="64"/>
                  </a:cubicBezTo>
                  <a:cubicBezTo>
                    <a:pt x="296" y="60"/>
                    <a:pt x="296" y="57"/>
                    <a:pt x="297" y="54"/>
                  </a:cubicBezTo>
                  <a:cubicBezTo>
                    <a:pt x="300" y="58"/>
                    <a:pt x="303" y="62"/>
                    <a:pt x="305" y="65"/>
                  </a:cubicBezTo>
                  <a:cubicBezTo>
                    <a:pt x="305" y="68"/>
                    <a:pt x="305" y="71"/>
                    <a:pt x="304" y="75"/>
                  </a:cubicBezTo>
                  <a:close/>
                  <a:moveTo>
                    <a:pt x="308" y="117"/>
                  </a:moveTo>
                  <a:cubicBezTo>
                    <a:pt x="307" y="119"/>
                    <a:pt x="307" y="122"/>
                    <a:pt x="306" y="125"/>
                  </a:cubicBezTo>
                  <a:cubicBezTo>
                    <a:pt x="306" y="124"/>
                    <a:pt x="306" y="123"/>
                    <a:pt x="306" y="122"/>
                  </a:cubicBezTo>
                  <a:cubicBezTo>
                    <a:pt x="306" y="110"/>
                    <a:pt x="307" y="98"/>
                    <a:pt x="307" y="87"/>
                  </a:cubicBezTo>
                  <a:cubicBezTo>
                    <a:pt x="308" y="92"/>
                    <a:pt x="309" y="98"/>
                    <a:pt x="310" y="103"/>
                  </a:cubicBezTo>
                  <a:cubicBezTo>
                    <a:pt x="309" y="108"/>
                    <a:pt x="309" y="112"/>
                    <a:pt x="308" y="117"/>
                  </a:cubicBezTo>
                  <a:close/>
                  <a:moveTo>
                    <a:pt x="311" y="89"/>
                  </a:moveTo>
                  <a:cubicBezTo>
                    <a:pt x="310" y="86"/>
                    <a:pt x="309" y="83"/>
                    <a:pt x="307" y="80"/>
                  </a:cubicBezTo>
                  <a:cubicBezTo>
                    <a:pt x="307" y="76"/>
                    <a:pt x="307" y="72"/>
                    <a:pt x="307" y="68"/>
                  </a:cubicBezTo>
                  <a:cubicBezTo>
                    <a:pt x="309" y="71"/>
                    <a:pt x="311" y="74"/>
                    <a:pt x="313" y="78"/>
                  </a:cubicBezTo>
                  <a:cubicBezTo>
                    <a:pt x="312" y="81"/>
                    <a:pt x="312" y="85"/>
                    <a:pt x="311" y="89"/>
                  </a:cubicBezTo>
                  <a:close/>
                  <a:moveTo>
                    <a:pt x="317" y="96"/>
                  </a:moveTo>
                  <a:cubicBezTo>
                    <a:pt x="316" y="97"/>
                    <a:pt x="315" y="98"/>
                    <a:pt x="315" y="99"/>
                  </a:cubicBezTo>
                  <a:cubicBezTo>
                    <a:pt x="314" y="98"/>
                    <a:pt x="314" y="97"/>
                    <a:pt x="314" y="96"/>
                  </a:cubicBezTo>
                  <a:cubicBezTo>
                    <a:pt x="314" y="91"/>
                    <a:pt x="314" y="86"/>
                    <a:pt x="314" y="80"/>
                  </a:cubicBezTo>
                  <a:cubicBezTo>
                    <a:pt x="315" y="83"/>
                    <a:pt x="317" y="86"/>
                    <a:pt x="317" y="88"/>
                  </a:cubicBezTo>
                  <a:cubicBezTo>
                    <a:pt x="317" y="91"/>
                    <a:pt x="317" y="93"/>
                    <a:pt x="317" y="96"/>
                  </a:cubicBezTo>
                  <a:close/>
                  <a:moveTo>
                    <a:pt x="338" y="105"/>
                  </a:moveTo>
                  <a:cubicBezTo>
                    <a:pt x="338" y="103"/>
                    <a:pt x="337" y="102"/>
                    <a:pt x="336" y="101"/>
                  </a:cubicBezTo>
                  <a:cubicBezTo>
                    <a:pt x="338" y="96"/>
                    <a:pt x="339" y="92"/>
                    <a:pt x="341" y="89"/>
                  </a:cubicBezTo>
                  <a:cubicBezTo>
                    <a:pt x="341" y="89"/>
                    <a:pt x="341" y="89"/>
                    <a:pt x="341" y="90"/>
                  </a:cubicBezTo>
                  <a:cubicBezTo>
                    <a:pt x="340" y="95"/>
                    <a:pt x="339" y="100"/>
                    <a:pt x="338" y="105"/>
                  </a:cubicBezTo>
                  <a:close/>
                  <a:moveTo>
                    <a:pt x="354" y="81"/>
                  </a:moveTo>
                  <a:cubicBezTo>
                    <a:pt x="355" y="81"/>
                    <a:pt x="355" y="81"/>
                    <a:pt x="355" y="81"/>
                  </a:cubicBezTo>
                  <a:cubicBezTo>
                    <a:pt x="355" y="81"/>
                    <a:pt x="355" y="81"/>
                    <a:pt x="354" y="81"/>
                  </a:cubicBezTo>
                  <a:cubicBezTo>
                    <a:pt x="354" y="81"/>
                    <a:pt x="354" y="81"/>
                    <a:pt x="354" y="81"/>
                  </a:cubicBezTo>
                  <a:close/>
                  <a:moveTo>
                    <a:pt x="354" y="88"/>
                  </a:moveTo>
                  <a:cubicBezTo>
                    <a:pt x="354" y="89"/>
                    <a:pt x="354" y="89"/>
                    <a:pt x="354" y="89"/>
                  </a:cubicBezTo>
                  <a:cubicBezTo>
                    <a:pt x="354" y="90"/>
                    <a:pt x="354" y="91"/>
                    <a:pt x="354" y="91"/>
                  </a:cubicBezTo>
                  <a:cubicBezTo>
                    <a:pt x="354" y="90"/>
                    <a:pt x="354" y="89"/>
                    <a:pt x="354" y="88"/>
                  </a:cubicBezTo>
                  <a:close/>
                  <a:moveTo>
                    <a:pt x="345" y="122"/>
                  </a:moveTo>
                  <a:cubicBezTo>
                    <a:pt x="345" y="122"/>
                    <a:pt x="345" y="123"/>
                    <a:pt x="345" y="123"/>
                  </a:cubicBezTo>
                  <a:cubicBezTo>
                    <a:pt x="345" y="123"/>
                    <a:pt x="345" y="123"/>
                    <a:pt x="345" y="123"/>
                  </a:cubicBezTo>
                  <a:cubicBezTo>
                    <a:pt x="345" y="123"/>
                    <a:pt x="345" y="122"/>
                    <a:pt x="345" y="122"/>
                  </a:cubicBezTo>
                  <a:cubicBezTo>
                    <a:pt x="345" y="120"/>
                    <a:pt x="346" y="118"/>
                    <a:pt x="346" y="115"/>
                  </a:cubicBezTo>
                  <a:cubicBezTo>
                    <a:pt x="346" y="115"/>
                    <a:pt x="346" y="115"/>
                    <a:pt x="346" y="115"/>
                  </a:cubicBezTo>
                  <a:cubicBezTo>
                    <a:pt x="346" y="116"/>
                    <a:pt x="346" y="117"/>
                    <a:pt x="346" y="118"/>
                  </a:cubicBezTo>
                  <a:cubicBezTo>
                    <a:pt x="346" y="119"/>
                    <a:pt x="345" y="121"/>
                    <a:pt x="345" y="122"/>
                  </a:cubicBezTo>
                  <a:close/>
                  <a:moveTo>
                    <a:pt x="348" y="70"/>
                  </a:moveTo>
                  <a:cubicBezTo>
                    <a:pt x="350" y="73"/>
                    <a:pt x="352" y="76"/>
                    <a:pt x="354" y="79"/>
                  </a:cubicBezTo>
                  <a:cubicBezTo>
                    <a:pt x="353" y="81"/>
                    <a:pt x="353" y="82"/>
                    <a:pt x="353" y="84"/>
                  </a:cubicBezTo>
                  <a:cubicBezTo>
                    <a:pt x="353" y="84"/>
                    <a:pt x="353" y="84"/>
                    <a:pt x="352" y="84"/>
                  </a:cubicBezTo>
                  <a:cubicBezTo>
                    <a:pt x="352" y="82"/>
                    <a:pt x="351" y="81"/>
                    <a:pt x="350" y="79"/>
                  </a:cubicBezTo>
                  <a:cubicBezTo>
                    <a:pt x="351" y="81"/>
                    <a:pt x="352" y="83"/>
                    <a:pt x="352" y="84"/>
                  </a:cubicBezTo>
                  <a:cubicBezTo>
                    <a:pt x="351" y="87"/>
                    <a:pt x="349" y="90"/>
                    <a:pt x="348" y="93"/>
                  </a:cubicBezTo>
                  <a:cubicBezTo>
                    <a:pt x="348" y="85"/>
                    <a:pt x="348" y="77"/>
                    <a:pt x="348" y="70"/>
                  </a:cubicBezTo>
                  <a:close/>
                  <a:moveTo>
                    <a:pt x="350" y="98"/>
                  </a:moveTo>
                  <a:cubicBezTo>
                    <a:pt x="350" y="98"/>
                    <a:pt x="350" y="97"/>
                    <a:pt x="350" y="96"/>
                  </a:cubicBezTo>
                  <a:cubicBezTo>
                    <a:pt x="350" y="97"/>
                    <a:pt x="350" y="98"/>
                    <a:pt x="350" y="98"/>
                  </a:cubicBezTo>
                  <a:cubicBezTo>
                    <a:pt x="350" y="99"/>
                    <a:pt x="350" y="100"/>
                    <a:pt x="350" y="100"/>
                  </a:cubicBezTo>
                  <a:cubicBezTo>
                    <a:pt x="349" y="99"/>
                    <a:pt x="349" y="98"/>
                    <a:pt x="349" y="97"/>
                  </a:cubicBezTo>
                  <a:cubicBezTo>
                    <a:pt x="349" y="95"/>
                    <a:pt x="350" y="93"/>
                    <a:pt x="351" y="90"/>
                  </a:cubicBezTo>
                  <a:cubicBezTo>
                    <a:pt x="351" y="93"/>
                    <a:pt x="350" y="96"/>
                    <a:pt x="350" y="98"/>
                  </a:cubicBezTo>
                  <a:close/>
                  <a:moveTo>
                    <a:pt x="357" y="100"/>
                  </a:moveTo>
                  <a:cubicBezTo>
                    <a:pt x="355" y="104"/>
                    <a:pt x="354" y="107"/>
                    <a:pt x="353" y="110"/>
                  </a:cubicBezTo>
                  <a:cubicBezTo>
                    <a:pt x="352" y="110"/>
                    <a:pt x="352" y="109"/>
                    <a:pt x="352" y="109"/>
                  </a:cubicBezTo>
                  <a:cubicBezTo>
                    <a:pt x="352" y="106"/>
                    <a:pt x="353" y="102"/>
                    <a:pt x="353" y="99"/>
                  </a:cubicBezTo>
                  <a:cubicBezTo>
                    <a:pt x="354" y="95"/>
                    <a:pt x="354" y="92"/>
                    <a:pt x="354" y="90"/>
                  </a:cubicBezTo>
                  <a:cubicBezTo>
                    <a:pt x="355" y="93"/>
                    <a:pt x="356" y="96"/>
                    <a:pt x="357" y="100"/>
                  </a:cubicBezTo>
                  <a:cubicBezTo>
                    <a:pt x="357" y="100"/>
                    <a:pt x="357" y="100"/>
                    <a:pt x="357" y="100"/>
                  </a:cubicBezTo>
                  <a:close/>
                  <a:moveTo>
                    <a:pt x="357" y="97"/>
                  </a:moveTo>
                  <a:cubicBezTo>
                    <a:pt x="356" y="95"/>
                    <a:pt x="355" y="92"/>
                    <a:pt x="354" y="89"/>
                  </a:cubicBezTo>
                  <a:cubicBezTo>
                    <a:pt x="354" y="89"/>
                    <a:pt x="354" y="89"/>
                    <a:pt x="354" y="88"/>
                  </a:cubicBezTo>
                  <a:cubicBezTo>
                    <a:pt x="354" y="89"/>
                    <a:pt x="354" y="89"/>
                    <a:pt x="354" y="89"/>
                  </a:cubicBezTo>
                  <a:cubicBezTo>
                    <a:pt x="354" y="89"/>
                    <a:pt x="354" y="88"/>
                    <a:pt x="354" y="88"/>
                  </a:cubicBezTo>
                  <a:cubicBezTo>
                    <a:pt x="354" y="87"/>
                    <a:pt x="354" y="86"/>
                    <a:pt x="354" y="85"/>
                  </a:cubicBezTo>
                  <a:cubicBezTo>
                    <a:pt x="355" y="84"/>
                    <a:pt x="355" y="83"/>
                    <a:pt x="355" y="82"/>
                  </a:cubicBezTo>
                  <a:cubicBezTo>
                    <a:pt x="357" y="84"/>
                    <a:pt x="358" y="86"/>
                    <a:pt x="358" y="88"/>
                  </a:cubicBezTo>
                  <a:cubicBezTo>
                    <a:pt x="358" y="91"/>
                    <a:pt x="358" y="94"/>
                    <a:pt x="357" y="97"/>
                  </a:cubicBezTo>
                  <a:close/>
                  <a:moveTo>
                    <a:pt x="360" y="135"/>
                  </a:moveTo>
                  <a:cubicBezTo>
                    <a:pt x="359" y="136"/>
                    <a:pt x="359" y="137"/>
                    <a:pt x="359" y="138"/>
                  </a:cubicBezTo>
                  <a:cubicBezTo>
                    <a:pt x="359" y="137"/>
                    <a:pt x="359" y="136"/>
                    <a:pt x="360" y="135"/>
                  </a:cubicBezTo>
                  <a:cubicBezTo>
                    <a:pt x="360" y="135"/>
                    <a:pt x="360" y="135"/>
                    <a:pt x="360" y="135"/>
                  </a:cubicBezTo>
                  <a:close/>
                  <a:moveTo>
                    <a:pt x="359" y="83"/>
                  </a:moveTo>
                  <a:cubicBezTo>
                    <a:pt x="358" y="82"/>
                    <a:pt x="358" y="81"/>
                    <a:pt x="357" y="80"/>
                  </a:cubicBezTo>
                  <a:cubicBezTo>
                    <a:pt x="358" y="78"/>
                    <a:pt x="359" y="77"/>
                    <a:pt x="360" y="75"/>
                  </a:cubicBezTo>
                  <a:cubicBezTo>
                    <a:pt x="360" y="78"/>
                    <a:pt x="359" y="81"/>
                    <a:pt x="359" y="83"/>
                  </a:cubicBezTo>
                  <a:close/>
                  <a:moveTo>
                    <a:pt x="360" y="74"/>
                  </a:moveTo>
                  <a:cubicBezTo>
                    <a:pt x="359" y="76"/>
                    <a:pt x="357" y="77"/>
                    <a:pt x="356" y="79"/>
                  </a:cubicBezTo>
                  <a:cubicBezTo>
                    <a:pt x="356" y="78"/>
                    <a:pt x="355" y="78"/>
                    <a:pt x="355" y="77"/>
                  </a:cubicBezTo>
                  <a:cubicBezTo>
                    <a:pt x="355" y="72"/>
                    <a:pt x="356" y="67"/>
                    <a:pt x="356" y="65"/>
                  </a:cubicBezTo>
                  <a:cubicBezTo>
                    <a:pt x="357" y="67"/>
                    <a:pt x="359" y="70"/>
                    <a:pt x="360" y="72"/>
                  </a:cubicBezTo>
                  <a:cubicBezTo>
                    <a:pt x="360" y="73"/>
                    <a:pt x="360" y="73"/>
                    <a:pt x="360" y="74"/>
                  </a:cubicBezTo>
                  <a:close/>
                  <a:moveTo>
                    <a:pt x="362" y="75"/>
                  </a:moveTo>
                  <a:cubicBezTo>
                    <a:pt x="364" y="78"/>
                    <a:pt x="365" y="81"/>
                    <a:pt x="367" y="84"/>
                  </a:cubicBezTo>
                  <a:cubicBezTo>
                    <a:pt x="365" y="86"/>
                    <a:pt x="364" y="88"/>
                    <a:pt x="363" y="90"/>
                  </a:cubicBezTo>
                  <a:cubicBezTo>
                    <a:pt x="363" y="89"/>
                    <a:pt x="362" y="89"/>
                    <a:pt x="362" y="89"/>
                  </a:cubicBezTo>
                  <a:cubicBezTo>
                    <a:pt x="362" y="84"/>
                    <a:pt x="362" y="79"/>
                    <a:pt x="362" y="75"/>
                  </a:cubicBezTo>
                  <a:close/>
                  <a:moveTo>
                    <a:pt x="364" y="110"/>
                  </a:moveTo>
                  <a:cubicBezTo>
                    <a:pt x="364" y="107"/>
                    <a:pt x="363" y="104"/>
                    <a:pt x="362" y="101"/>
                  </a:cubicBezTo>
                  <a:cubicBezTo>
                    <a:pt x="362" y="101"/>
                    <a:pt x="362" y="100"/>
                    <a:pt x="362" y="100"/>
                  </a:cubicBezTo>
                  <a:cubicBezTo>
                    <a:pt x="362" y="100"/>
                    <a:pt x="363" y="99"/>
                    <a:pt x="363" y="99"/>
                  </a:cubicBezTo>
                  <a:cubicBezTo>
                    <a:pt x="364" y="101"/>
                    <a:pt x="365" y="104"/>
                    <a:pt x="365" y="106"/>
                  </a:cubicBezTo>
                  <a:cubicBezTo>
                    <a:pt x="365" y="108"/>
                    <a:pt x="365" y="109"/>
                    <a:pt x="364" y="110"/>
                  </a:cubicBezTo>
                  <a:close/>
                  <a:moveTo>
                    <a:pt x="365" y="93"/>
                  </a:moveTo>
                  <a:cubicBezTo>
                    <a:pt x="366" y="91"/>
                    <a:pt x="367" y="88"/>
                    <a:pt x="368" y="86"/>
                  </a:cubicBezTo>
                  <a:cubicBezTo>
                    <a:pt x="368" y="87"/>
                    <a:pt x="369" y="87"/>
                    <a:pt x="369" y="88"/>
                  </a:cubicBezTo>
                  <a:cubicBezTo>
                    <a:pt x="368" y="91"/>
                    <a:pt x="368" y="94"/>
                    <a:pt x="367" y="97"/>
                  </a:cubicBezTo>
                  <a:cubicBezTo>
                    <a:pt x="366" y="96"/>
                    <a:pt x="366" y="95"/>
                    <a:pt x="365" y="93"/>
                  </a:cubicBezTo>
                  <a:close/>
                  <a:moveTo>
                    <a:pt x="368" y="130"/>
                  </a:moveTo>
                  <a:cubicBezTo>
                    <a:pt x="368" y="129"/>
                    <a:pt x="368" y="128"/>
                    <a:pt x="368" y="126"/>
                  </a:cubicBezTo>
                  <a:cubicBezTo>
                    <a:pt x="368" y="124"/>
                    <a:pt x="368" y="121"/>
                    <a:pt x="369" y="119"/>
                  </a:cubicBezTo>
                  <a:cubicBezTo>
                    <a:pt x="369" y="120"/>
                    <a:pt x="370" y="122"/>
                    <a:pt x="370" y="124"/>
                  </a:cubicBezTo>
                  <a:cubicBezTo>
                    <a:pt x="369" y="126"/>
                    <a:pt x="369" y="128"/>
                    <a:pt x="368" y="130"/>
                  </a:cubicBezTo>
                  <a:close/>
                  <a:moveTo>
                    <a:pt x="372" y="108"/>
                  </a:moveTo>
                  <a:cubicBezTo>
                    <a:pt x="372" y="107"/>
                    <a:pt x="371" y="106"/>
                    <a:pt x="371" y="105"/>
                  </a:cubicBezTo>
                  <a:cubicBezTo>
                    <a:pt x="372" y="102"/>
                    <a:pt x="372" y="99"/>
                    <a:pt x="373" y="96"/>
                  </a:cubicBezTo>
                  <a:cubicBezTo>
                    <a:pt x="373" y="96"/>
                    <a:pt x="373" y="97"/>
                    <a:pt x="373" y="97"/>
                  </a:cubicBezTo>
                  <a:cubicBezTo>
                    <a:pt x="373" y="101"/>
                    <a:pt x="373" y="105"/>
                    <a:pt x="372" y="108"/>
                  </a:cubicBezTo>
                  <a:close/>
                  <a:moveTo>
                    <a:pt x="374" y="86"/>
                  </a:moveTo>
                  <a:cubicBezTo>
                    <a:pt x="374" y="86"/>
                    <a:pt x="374" y="86"/>
                    <a:pt x="374" y="86"/>
                  </a:cubicBezTo>
                  <a:cubicBezTo>
                    <a:pt x="375" y="85"/>
                    <a:pt x="375" y="84"/>
                    <a:pt x="375" y="83"/>
                  </a:cubicBezTo>
                  <a:cubicBezTo>
                    <a:pt x="375" y="84"/>
                    <a:pt x="375" y="85"/>
                    <a:pt x="374" y="86"/>
                  </a:cubicBezTo>
                  <a:close/>
                  <a:moveTo>
                    <a:pt x="382" y="80"/>
                  </a:moveTo>
                  <a:cubicBezTo>
                    <a:pt x="382" y="77"/>
                    <a:pt x="382" y="75"/>
                    <a:pt x="383" y="73"/>
                  </a:cubicBezTo>
                  <a:cubicBezTo>
                    <a:pt x="383" y="73"/>
                    <a:pt x="383" y="74"/>
                    <a:pt x="384" y="74"/>
                  </a:cubicBezTo>
                  <a:cubicBezTo>
                    <a:pt x="383" y="76"/>
                    <a:pt x="383" y="78"/>
                    <a:pt x="382" y="80"/>
                  </a:cubicBezTo>
                  <a:close/>
                  <a:moveTo>
                    <a:pt x="394" y="93"/>
                  </a:moveTo>
                  <a:cubicBezTo>
                    <a:pt x="393" y="95"/>
                    <a:pt x="393" y="96"/>
                    <a:pt x="392" y="97"/>
                  </a:cubicBezTo>
                  <a:cubicBezTo>
                    <a:pt x="392" y="94"/>
                    <a:pt x="392" y="91"/>
                    <a:pt x="392" y="88"/>
                  </a:cubicBezTo>
                  <a:cubicBezTo>
                    <a:pt x="392" y="89"/>
                    <a:pt x="393" y="91"/>
                    <a:pt x="394" y="93"/>
                  </a:cubicBezTo>
                  <a:close/>
                  <a:moveTo>
                    <a:pt x="395" y="88"/>
                  </a:moveTo>
                  <a:cubicBezTo>
                    <a:pt x="394" y="86"/>
                    <a:pt x="393" y="85"/>
                    <a:pt x="392" y="84"/>
                  </a:cubicBezTo>
                  <a:cubicBezTo>
                    <a:pt x="394" y="81"/>
                    <a:pt x="395" y="78"/>
                    <a:pt x="397" y="75"/>
                  </a:cubicBezTo>
                  <a:cubicBezTo>
                    <a:pt x="396" y="79"/>
                    <a:pt x="396" y="84"/>
                    <a:pt x="395" y="88"/>
                  </a:cubicBezTo>
                  <a:close/>
                  <a:moveTo>
                    <a:pt x="404" y="77"/>
                  </a:moveTo>
                  <a:cubicBezTo>
                    <a:pt x="404" y="77"/>
                    <a:pt x="404" y="77"/>
                    <a:pt x="404" y="77"/>
                  </a:cubicBezTo>
                  <a:cubicBezTo>
                    <a:pt x="404" y="74"/>
                    <a:pt x="403" y="70"/>
                    <a:pt x="403" y="66"/>
                  </a:cubicBezTo>
                  <a:cubicBezTo>
                    <a:pt x="403" y="65"/>
                    <a:pt x="404" y="64"/>
                    <a:pt x="404" y="63"/>
                  </a:cubicBezTo>
                  <a:cubicBezTo>
                    <a:pt x="405" y="67"/>
                    <a:pt x="405" y="72"/>
                    <a:pt x="404" y="77"/>
                  </a:cubicBezTo>
                  <a:close/>
                  <a:moveTo>
                    <a:pt x="407" y="72"/>
                  </a:moveTo>
                  <a:cubicBezTo>
                    <a:pt x="407" y="67"/>
                    <a:pt x="406" y="64"/>
                    <a:pt x="405" y="61"/>
                  </a:cubicBezTo>
                  <a:cubicBezTo>
                    <a:pt x="406" y="60"/>
                    <a:pt x="407" y="58"/>
                    <a:pt x="408" y="57"/>
                  </a:cubicBezTo>
                  <a:cubicBezTo>
                    <a:pt x="409" y="62"/>
                    <a:pt x="408" y="67"/>
                    <a:pt x="407" y="72"/>
                  </a:cubicBezTo>
                  <a:close/>
                  <a:moveTo>
                    <a:pt x="423" y="89"/>
                  </a:moveTo>
                  <a:cubicBezTo>
                    <a:pt x="424" y="91"/>
                    <a:pt x="425" y="92"/>
                    <a:pt x="426" y="94"/>
                  </a:cubicBezTo>
                  <a:cubicBezTo>
                    <a:pt x="425" y="95"/>
                    <a:pt x="424" y="97"/>
                    <a:pt x="424" y="98"/>
                  </a:cubicBezTo>
                  <a:cubicBezTo>
                    <a:pt x="423" y="97"/>
                    <a:pt x="423" y="96"/>
                    <a:pt x="422" y="95"/>
                  </a:cubicBezTo>
                  <a:cubicBezTo>
                    <a:pt x="423" y="93"/>
                    <a:pt x="423" y="91"/>
                    <a:pt x="423" y="89"/>
                  </a:cubicBezTo>
                  <a:close/>
                  <a:moveTo>
                    <a:pt x="422" y="101"/>
                  </a:moveTo>
                  <a:cubicBezTo>
                    <a:pt x="422" y="101"/>
                    <a:pt x="422" y="100"/>
                    <a:pt x="422" y="100"/>
                  </a:cubicBezTo>
                  <a:cubicBezTo>
                    <a:pt x="422" y="100"/>
                    <a:pt x="422" y="101"/>
                    <a:pt x="423" y="101"/>
                  </a:cubicBezTo>
                  <a:cubicBezTo>
                    <a:pt x="422" y="101"/>
                    <a:pt x="422" y="101"/>
                    <a:pt x="422" y="101"/>
                  </a:cubicBezTo>
                  <a:close/>
                  <a:moveTo>
                    <a:pt x="424" y="122"/>
                  </a:moveTo>
                  <a:cubicBezTo>
                    <a:pt x="424" y="121"/>
                    <a:pt x="424" y="120"/>
                    <a:pt x="423" y="119"/>
                  </a:cubicBezTo>
                  <a:cubicBezTo>
                    <a:pt x="423" y="117"/>
                    <a:pt x="423" y="115"/>
                    <a:pt x="423" y="112"/>
                  </a:cubicBezTo>
                  <a:cubicBezTo>
                    <a:pt x="423" y="110"/>
                    <a:pt x="424" y="108"/>
                    <a:pt x="424" y="106"/>
                  </a:cubicBezTo>
                  <a:cubicBezTo>
                    <a:pt x="424" y="108"/>
                    <a:pt x="425" y="110"/>
                    <a:pt x="425" y="112"/>
                  </a:cubicBezTo>
                  <a:cubicBezTo>
                    <a:pt x="425" y="115"/>
                    <a:pt x="425" y="119"/>
                    <a:pt x="424" y="122"/>
                  </a:cubicBezTo>
                  <a:close/>
                  <a:moveTo>
                    <a:pt x="426" y="103"/>
                  </a:moveTo>
                  <a:cubicBezTo>
                    <a:pt x="426" y="102"/>
                    <a:pt x="425" y="101"/>
                    <a:pt x="425" y="100"/>
                  </a:cubicBezTo>
                  <a:cubicBezTo>
                    <a:pt x="425" y="99"/>
                    <a:pt x="426" y="97"/>
                    <a:pt x="426" y="96"/>
                  </a:cubicBezTo>
                  <a:cubicBezTo>
                    <a:pt x="426" y="97"/>
                    <a:pt x="427" y="97"/>
                    <a:pt x="427" y="98"/>
                  </a:cubicBezTo>
                  <a:cubicBezTo>
                    <a:pt x="427" y="100"/>
                    <a:pt x="427" y="101"/>
                    <a:pt x="426" y="103"/>
                  </a:cubicBezTo>
                  <a:close/>
                  <a:moveTo>
                    <a:pt x="427" y="96"/>
                  </a:moveTo>
                  <a:cubicBezTo>
                    <a:pt x="427" y="95"/>
                    <a:pt x="427" y="95"/>
                    <a:pt x="427" y="95"/>
                  </a:cubicBezTo>
                  <a:cubicBezTo>
                    <a:pt x="427" y="93"/>
                    <a:pt x="427" y="92"/>
                    <a:pt x="428" y="91"/>
                  </a:cubicBezTo>
                  <a:cubicBezTo>
                    <a:pt x="428" y="93"/>
                    <a:pt x="427" y="94"/>
                    <a:pt x="427" y="96"/>
                  </a:cubicBezTo>
                  <a:close/>
                  <a:moveTo>
                    <a:pt x="433" y="95"/>
                  </a:moveTo>
                  <a:cubicBezTo>
                    <a:pt x="434" y="92"/>
                    <a:pt x="434" y="89"/>
                    <a:pt x="434" y="86"/>
                  </a:cubicBezTo>
                  <a:cubicBezTo>
                    <a:pt x="435" y="86"/>
                    <a:pt x="435" y="87"/>
                    <a:pt x="436" y="88"/>
                  </a:cubicBezTo>
                  <a:cubicBezTo>
                    <a:pt x="435" y="90"/>
                    <a:pt x="434" y="92"/>
                    <a:pt x="433" y="95"/>
                  </a:cubicBezTo>
                  <a:close/>
                  <a:moveTo>
                    <a:pt x="444" y="99"/>
                  </a:moveTo>
                  <a:cubicBezTo>
                    <a:pt x="444" y="99"/>
                    <a:pt x="443" y="98"/>
                    <a:pt x="443" y="97"/>
                  </a:cubicBezTo>
                  <a:cubicBezTo>
                    <a:pt x="443" y="93"/>
                    <a:pt x="443" y="89"/>
                    <a:pt x="443" y="84"/>
                  </a:cubicBezTo>
                  <a:cubicBezTo>
                    <a:pt x="445" y="80"/>
                    <a:pt x="447" y="76"/>
                    <a:pt x="450" y="72"/>
                  </a:cubicBezTo>
                  <a:cubicBezTo>
                    <a:pt x="450" y="74"/>
                    <a:pt x="450" y="78"/>
                    <a:pt x="451" y="82"/>
                  </a:cubicBezTo>
                  <a:cubicBezTo>
                    <a:pt x="448" y="88"/>
                    <a:pt x="446" y="93"/>
                    <a:pt x="444" y="99"/>
                  </a:cubicBezTo>
                  <a:close/>
                  <a:moveTo>
                    <a:pt x="452" y="75"/>
                  </a:moveTo>
                  <a:cubicBezTo>
                    <a:pt x="452" y="73"/>
                    <a:pt x="451" y="71"/>
                    <a:pt x="451" y="69"/>
                  </a:cubicBezTo>
                  <a:cubicBezTo>
                    <a:pt x="452" y="68"/>
                    <a:pt x="453" y="67"/>
                    <a:pt x="453" y="66"/>
                  </a:cubicBezTo>
                  <a:cubicBezTo>
                    <a:pt x="453" y="69"/>
                    <a:pt x="453" y="72"/>
                    <a:pt x="452" y="75"/>
                  </a:cubicBezTo>
                  <a:close/>
                  <a:moveTo>
                    <a:pt x="460" y="72"/>
                  </a:moveTo>
                  <a:cubicBezTo>
                    <a:pt x="460" y="71"/>
                    <a:pt x="460" y="70"/>
                    <a:pt x="460" y="70"/>
                  </a:cubicBezTo>
                  <a:cubicBezTo>
                    <a:pt x="460" y="69"/>
                    <a:pt x="460" y="69"/>
                    <a:pt x="460" y="69"/>
                  </a:cubicBezTo>
                  <a:cubicBezTo>
                    <a:pt x="460" y="71"/>
                    <a:pt x="460" y="72"/>
                    <a:pt x="460" y="72"/>
                  </a:cubicBezTo>
                  <a:close/>
                  <a:moveTo>
                    <a:pt x="460" y="67"/>
                  </a:moveTo>
                  <a:cubicBezTo>
                    <a:pt x="460" y="67"/>
                    <a:pt x="460" y="68"/>
                    <a:pt x="460" y="68"/>
                  </a:cubicBezTo>
                  <a:cubicBezTo>
                    <a:pt x="460" y="65"/>
                    <a:pt x="459" y="61"/>
                    <a:pt x="459" y="58"/>
                  </a:cubicBezTo>
                  <a:cubicBezTo>
                    <a:pt x="460" y="57"/>
                    <a:pt x="460" y="56"/>
                    <a:pt x="461" y="56"/>
                  </a:cubicBezTo>
                  <a:cubicBezTo>
                    <a:pt x="461" y="60"/>
                    <a:pt x="460" y="64"/>
                    <a:pt x="460" y="67"/>
                  </a:cubicBezTo>
                  <a:close/>
                  <a:moveTo>
                    <a:pt x="468" y="123"/>
                  </a:moveTo>
                  <a:cubicBezTo>
                    <a:pt x="467" y="124"/>
                    <a:pt x="466" y="126"/>
                    <a:pt x="466" y="127"/>
                  </a:cubicBezTo>
                  <a:cubicBezTo>
                    <a:pt x="466" y="124"/>
                    <a:pt x="466" y="122"/>
                    <a:pt x="466" y="119"/>
                  </a:cubicBezTo>
                  <a:cubicBezTo>
                    <a:pt x="467" y="116"/>
                    <a:pt x="468" y="112"/>
                    <a:pt x="469" y="109"/>
                  </a:cubicBezTo>
                  <a:cubicBezTo>
                    <a:pt x="469" y="111"/>
                    <a:pt x="469" y="112"/>
                    <a:pt x="469" y="114"/>
                  </a:cubicBezTo>
                  <a:cubicBezTo>
                    <a:pt x="469" y="117"/>
                    <a:pt x="468" y="120"/>
                    <a:pt x="468" y="123"/>
                  </a:cubicBezTo>
                  <a:close/>
                  <a:moveTo>
                    <a:pt x="470" y="110"/>
                  </a:moveTo>
                  <a:cubicBezTo>
                    <a:pt x="470" y="111"/>
                    <a:pt x="470" y="112"/>
                    <a:pt x="470" y="112"/>
                  </a:cubicBezTo>
                  <a:cubicBezTo>
                    <a:pt x="469" y="111"/>
                    <a:pt x="469" y="110"/>
                    <a:pt x="469" y="109"/>
                  </a:cubicBezTo>
                  <a:cubicBezTo>
                    <a:pt x="469" y="107"/>
                    <a:pt x="470" y="105"/>
                    <a:pt x="471" y="102"/>
                  </a:cubicBezTo>
                  <a:cubicBezTo>
                    <a:pt x="470" y="105"/>
                    <a:pt x="470" y="108"/>
                    <a:pt x="470" y="110"/>
                  </a:cubicBezTo>
                  <a:close/>
                  <a:moveTo>
                    <a:pt x="472" y="83"/>
                  </a:moveTo>
                  <a:cubicBezTo>
                    <a:pt x="472" y="83"/>
                    <a:pt x="472" y="84"/>
                    <a:pt x="471" y="85"/>
                  </a:cubicBezTo>
                  <a:cubicBezTo>
                    <a:pt x="470" y="87"/>
                    <a:pt x="470" y="89"/>
                    <a:pt x="469" y="91"/>
                  </a:cubicBezTo>
                  <a:cubicBezTo>
                    <a:pt x="468" y="91"/>
                    <a:pt x="468" y="91"/>
                    <a:pt x="468" y="91"/>
                  </a:cubicBezTo>
                  <a:cubicBezTo>
                    <a:pt x="468" y="91"/>
                    <a:pt x="468" y="91"/>
                    <a:pt x="469" y="91"/>
                  </a:cubicBezTo>
                  <a:cubicBezTo>
                    <a:pt x="468" y="92"/>
                    <a:pt x="467" y="94"/>
                    <a:pt x="466" y="96"/>
                  </a:cubicBezTo>
                  <a:cubicBezTo>
                    <a:pt x="467" y="90"/>
                    <a:pt x="467" y="85"/>
                    <a:pt x="469" y="79"/>
                  </a:cubicBezTo>
                  <a:cubicBezTo>
                    <a:pt x="467" y="85"/>
                    <a:pt x="466" y="90"/>
                    <a:pt x="465" y="95"/>
                  </a:cubicBezTo>
                  <a:cubicBezTo>
                    <a:pt x="465" y="85"/>
                    <a:pt x="465" y="74"/>
                    <a:pt x="465" y="63"/>
                  </a:cubicBezTo>
                  <a:cubicBezTo>
                    <a:pt x="468" y="60"/>
                    <a:pt x="471" y="58"/>
                    <a:pt x="474" y="55"/>
                  </a:cubicBezTo>
                  <a:cubicBezTo>
                    <a:pt x="474" y="62"/>
                    <a:pt x="473" y="72"/>
                    <a:pt x="472" y="83"/>
                  </a:cubicBezTo>
                  <a:close/>
                  <a:moveTo>
                    <a:pt x="478" y="105"/>
                  </a:moveTo>
                  <a:cubicBezTo>
                    <a:pt x="478" y="102"/>
                    <a:pt x="478" y="99"/>
                    <a:pt x="478" y="96"/>
                  </a:cubicBezTo>
                  <a:cubicBezTo>
                    <a:pt x="478" y="97"/>
                    <a:pt x="479" y="99"/>
                    <a:pt x="479" y="100"/>
                  </a:cubicBezTo>
                  <a:cubicBezTo>
                    <a:pt x="479" y="102"/>
                    <a:pt x="479" y="103"/>
                    <a:pt x="478" y="105"/>
                  </a:cubicBezTo>
                  <a:cubicBezTo>
                    <a:pt x="478" y="105"/>
                    <a:pt x="478" y="105"/>
                    <a:pt x="478" y="105"/>
                  </a:cubicBezTo>
                  <a:close/>
                  <a:moveTo>
                    <a:pt x="480" y="130"/>
                  </a:moveTo>
                  <a:cubicBezTo>
                    <a:pt x="480" y="130"/>
                    <a:pt x="479" y="130"/>
                    <a:pt x="479" y="130"/>
                  </a:cubicBezTo>
                  <a:cubicBezTo>
                    <a:pt x="479" y="129"/>
                    <a:pt x="479" y="128"/>
                    <a:pt x="479" y="127"/>
                  </a:cubicBezTo>
                  <a:cubicBezTo>
                    <a:pt x="479" y="128"/>
                    <a:pt x="480" y="128"/>
                    <a:pt x="480" y="129"/>
                  </a:cubicBezTo>
                  <a:cubicBezTo>
                    <a:pt x="480" y="129"/>
                    <a:pt x="480" y="130"/>
                    <a:pt x="480" y="130"/>
                  </a:cubicBezTo>
                  <a:close/>
                  <a:moveTo>
                    <a:pt x="486" y="74"/>
                  </a:moveTo>
                  <a:cubicBezTo>
                    <a:pt x="486" y="73"/>
                    <a:pt x="486" y="71"/>
                    <a:pt x="486" y="70"/>
                  </a:cubicBezTo>
                  <a:cubicBezTo>
                    <a:pt x="487" y="70"/>
                    <a:pt x="487" y="71"/>
                    <a:pt x="487" y="72"/>
                  </a:cubicBezTo>
                  <a:cubicBezTo>
                    <a:pt x="487" y="72"/>
                    <a:pt x="487" y="73"/>
                    <a:pt x="486" y="74"/>
                  </a:cubicBezTo>
                  <a:close/>
                  <a:moveTo>
                    <a:pt x="490" y="139"/>
                  </a:moveTo>
                  <a:cubicBezTo>
                    <a:pt x="490" y="140"/>
                    <a:pt x="490" y="141"/>
                    <a:pt x="490" y="142"/>
                  </a:cubicBezTo>
                  <a:cubicBezTo>
                    <a:pt x="490" y="142"/>
                    <a:pt x="490" y="141"/>
                    <a:pt x="490" y="139"/>
                  </a:cubicBezTo>
                  <a:cubicBezTo>
                    <a:pt x="490" y="138"/>
                    <a:pt x="490" y="137"/>
                    <a:pt x="491" y="136"/>
                  </a:cubicBezTo>
                  <a:cubicBezTo>
                    <a:pt x="491" y="137"/>
                    <a:pt x="491" y="137"/>
                    <a:pt x="491" y="137"/>
                  </a:cubicBezTo>
                  <a:cubicBezTo>
                    <a:pt x="491" y="138"/>
                    <a:pt x="490" y="139"/>
                    <a:pt x="490" y="139"/>
                  </a:cubicBezTo>
                  <a:close/>
                  <a:moveTo>
                    <a:pt x="492" y="122"/>
                  </a:moveTo>
                  <a:cubicBezTo>
                    <a:pt x="492" y="122"/>
                    <a:pt x="492" y="122"/>
                    <a:pt x="492" y="122"/>
                  </a:cubicBezTo>
                  <a:cubicBezTo>
                    <a:pt x="492" y="121"/>
                    <a:pt x="492" y="121"/>
                    <a:pt x="492" y="121"/>
                  </a:cubicBezTo>
                  <a:cubicBezTo>
                    <a:pt x="492" y="121"/>
                    <a:pt x="492" y="122"/>
                    <a:pt x="492" y="122"/>
                  </a:cubicBezTo>
                  <a:close/>
                  <a:moveTo>
                    <a:pt x="493" y="110"/>
                  </a:moveTo>
                  <a:cubicBezTo>
                    <a:pt x="492" y="112"/>
                    <a:pt x="491" y="114"/>
                    <a:pt x="491" y="116"/>
                  </a:cubicBezTo>
                  <a:cubicBezTo>
                    <a:pt x="490" y="116"/>
                    <a:pt x="490" y="117"/>
                    <a:pt x="490" y="117"/>
                  </a:cubicBezTo>
                  <a:cubicBezTo>
                    <a:pt x="490" y="113"/>
                    <a:pt x="489" y="108"/>
                    <a:pt x="489" y="104"/>
                  </a:cubicBezTo>
                  <a:cubicBezTo>
                    <a:pt x="490" y="101"/>
                    <a:pt x="491" y="98"/>
                    <a:pt x="492" y="96"/>
                  </a:cubicBezTo>
                  <a:cubicBezTo>
                    <a:pt x="492" y="95"/>
                    <a:pt x="492" y="95"/>
                    <a:pt x="492" y="95"/>
                  </a:cubicBezTo>
                  <a:cubicBezTo>
                    <a:pt x="492" y="98"/>
                    <a:pt x="493" y="101"/>
                    <a:pt x="493" y="104"/>
                  </a:cubicBezTo>
                  <a:cubicBezTo>
                    <a:pt x="493" y="106"/>
                    <a:pt x="493" y="108"/>
                    <a:pt x="493" y="110"/>
                  </a:cubicBezTo>
                  <a:close/>
                  <a:moveTo>
                    <a:pt x="494" y="99"/>
                  </a:moveTo>
                  <a:cubicBezTo>
                    <a:pt x="493" y="97"/>
                    <a:pt x="493" y="96"/>
                    <a:pt x="492" y="94"/>
                  </a:cubicBezTo>
                  <a:cubicBezTo>
                    <a:pt x="493" y="93"/>
                    <a:pt x="494" y="92"/>
                    <a:pt x="494" y="91"/>
                  </a:cubicBezTo>
                  <a:cubicBezTo>
                    <a:pt x="494" y="94"/>
                    <a:pt x="494" y="96"/>
                    <a:pt x="494" y="99"/>
                  </a:cubicBezTo>
                  <a:close/>
                  <a:moveTo>
                    <a:pt x="488" y="91"/>
                  </a:moveTo>
                  <a:cubicBezTo>
                    <a:pt x="488" y="89"/>
                    <a:pt x="488" y="88"/>
                    <a:pt x="488" y="87"/>
                  </a:cubicBezTo>
                  <a:cubicBezTo>
                    <a:pt x="489" y="83"/>
                    <a:pt x="490" y="80"/>
                    <a:pt x="491" y="76"/>
                  </a:cubicBezTo>
                  <a:cubicBezTo>
                    <a:pt x="493" y="78"/>
                    <a:pt x="494" y="80"/>
                    <a:pt x="495" y="82"/>
                  </a:cubicBezTo>
                  <a:cubicBezTo>
                    <a:pt x="492" y="85"/>
                    <a:pt x="490" y="88"/>
                    <a:pt x="488" y="91"/>
                  </a:cubicBezTo>
                  <a:close/>
                  <a:moveTo>
                    <a:pt x="495" y="79"/>
                  </a:moveTo>
                  <a:cubicBezTo>
                    <a:pt x="494" y="77"/>
                    <a:pt x="493" y="76"/>
                    <a:pt x="492" y="75"/>
                  </a:cubicBezTo>
                  <a:cubicBezTo>
                    <a:pt x="493" y="72"/>
                    <a:pt x="495" y="68"/>
                    <a:pt x="496" y="65"/>
                  </a:cubicBezTo>
                  <a:cubicBezTo>
                    <a:pt x="496" y="68"/>
                    <a:pt x="496" y="73"/>
                    <a:pt x="495" y="79"/>
                  </a:cubicBezTo>
                  <a:close/>
                  <a:moveTo>
                    <a:pt x="514" y="54"/>
                  </a:moveTo>
                  <a:cubicBezTo>
                    <a:pt x="513" y="56"/>
                    <a:pt x="512" y="58"/>
                    <a:pt x="512" y="61"/>
                  </a:cubicBezTo>
                  <a:cubicBezTo>
                    <a:pt x="508" y="65"/>
                    <a:pt x="505" y="69"/>
                    <a:pt x="501" y="74"/>
                  </a:cubicBezTo>
                  <a:cubicBezTo>
                    <a:pt x="504" y="67"/>
                    <a:pt x="509" y="60"/>
                    <a:pt x="514" y="54"/>
                  </a:cubicBezTo>
                  <a:close/>
                  <a:moveTo>
                    <a:pt x="499" y="89"/>
                  </a:moveTo>
                  <a:cubicBezTo>
                    <a:pt x="499" y="90"/>
                    <a:pt x="500" y="91"/>
                    <a:pt x="500" y="92"/>
                  </a:cubicBezTo>
                  <a:cubicBezTo>
                    <a:pt x="500" y="92"/>
                    <a:pt x="500" y="93"/>
                    <a:pt x="499" y="94"/>
                  </a:cubicBezTo>
                  <a:cubicBezTo>
                    <a:pt x="499" y="92"/>
                    <a:pt x="499" y="91"/>
                    <a:pt x="499" y="89"/>
                  </a:cubicBezTo>
                  <a:close/>
                  <a:moveTo>
                    <a:pt x="502" y="127"/>
                  </a:moveTo>
                  <a:cubicBezTo>
                    <a:pt x="501" y="125"/>
                    <a:pt x="501" y="124"/>
                    <a:pt x="500" y="122"/>
                  </a:cubicBezTo>
                  <a:cubicBezTo>
                    <a:pt x="500" y="117"/>
                    <a:pt x="500" y="111"/>
                    <a:pt x="500" y="105"/>
                  </a:cubicBezTo>
                  <a:cubicBezTo>
                    <a:pt x="501" y="104"/>
                    <a:pt x="502" y="102"/>
                    <a:pt x="503" y="101"/>
                  </a:cubicBezTo>
                  <a:cubicBezTo>
                    <a:pt x="502" y="102"/>
                    <a:pt x="501" y="103"/>
                    <a:pt x="500" y="105"/>
                  </a:cubicBezTo>
                  <a:cubicBezTo>
                    <a:pt x="500" y="102"/>
                    <a:pt x="499" y="99"/>
                    <a:pt x="499" y="96"/>
                  </a:cubicBezTo>
                  <a:cubicBezTo>
                    <a:pt x="500" y="95"/>
                    <a:pt x="500" y="94"/>
                    <a:pt x="501" y="93"/>
                  </a:cubicBezTo>
                  <a:cubicBezTo>
                    <a:pt x="502" y="95"/>
                    <a:pt x="503" y="97"/>
                    <a:pt x="503" y="100"/>
                  </a:cubicBezTo>
                  <a:cubicBezTo>
                    <a:pt x="503" y="100"/>
                    <a:pt x="503" y="100"/>
                    <a:pt x="503" y="101"/>
                  </a:cubicBezTo>
                  <a:cubicBezTo>
                    <a:pt x="503" y="101"/>
                    <a:pt x="503" y="100"/>
                    <a:pt x="503" y="100"/>
                  </a:cubicBezTo>
                  <a:cubicBezTo>
                    <a:pt x="504" y="101"/>
                    <a:pt x="504" y="102"/>
                    <a:pt x="505" y="103"/>
                  </a:cubicBezTo>
                  <a:cubicBezTo>
                    <a:pt x="503" y="112"/>
                    <a:pt x="502" y="120"/>
                    <a:pt x="502" y="127"/>
                  </a:cubicBezTo>
                  <a:close/>
                  <a:moveTo>
                    <a:pt x="503" y="87"/>
                  </a:moveTo>
                  <a:cubicBezTo>
                    <a:pt x="503" y="86"/>
                    <a:pt x="504" y="84"/>
                    <a:pt x="505" y="83"/>
                  </a:cubicBezTo>
                  <a:cubicBezTo>
                    <a:pt x="504" y="84"/>
                    <a:pt x="503" y="86"/>
                    <a:pt x="502" y="87"/>
                  </a:cubicBezTo>
                  <a:cubicBezTo>
                    <a:pt x="501" y="86"/>
                    <a:pt x="500" y="85"/>
                    <a:pt x="499" y="83"/>
                  </a:cubicBezTo>
                  <a:cubicBezTo>
                    <a:pt x="503" y="78"/>
                    <a:pt x="507" y="72"/>
                    <a:pt x="511" y="67"/>
                  </a:cubicBezTo>
                  <a:cubicBezTo>
                    <a:pt x="510" y="72"/>
                    <a:pt x="509" y="76"/>
                    <a:pt x="508" y="81"/>
                  </a:cubicBezTo>
                  <a:cubicBezTo>
                    <a:pt x="508" y="80"/>
                    <a:pt x="507" y="79"/>
                    <a:pt x="507" y="79"/>
                  </a:cubicBezTo>
                  <a:cubicBezTo>
                    <a:pt x="507" y="78"/>
                    <a:pt x="508" y="77"/>
                    <a:pt x="509" y="75"/>
                  </a:cubicBezTo>
                  <a:cubicBezTo>
                    <a:pt x="508" y="76"/>
                    <a:pt x="507" y="77"/>
                    <a:pt x="507" y="79"/>
                  </a:cubicBezTo>
                  <a:cubicBezTo>
                    <a:pt x="506" y="78"/>
                    <a:pt x="506" y="77"/>
                    <a:pt x="505" y="77"/>
                  </a:cubicBezTo>
                  <a:cubicBezTo>
                    <a:pt x="506" y="78"/>
                    <a:pt x="506" y="79"/>
                    <a:pt x="506" y="79"/>
                  </a:cubicBezTo>
                  <a:cubicBezTo>
                    <a:pt x="506" y="80"/>
                    <a:pt x="505" y="81"/>
                    <a:pt x="505" y="83"/>
                  </a:cubicBezTo>
                  <a:cubicBezTo>
                    <a:pt x="505" y="82"/>
                    <a:pt x="506" y="81"/>
                    <a:pt x="506" y="80"/>
                  </a:cubicBezTo>
                  <a:cubicBezTo>
                    <a:pt x="507" y="81"/>
                    <a:pt x="507" y="82"/>
                    <a:pt x="508" y="84"/>
                  </a:cubicBezTo>
                  <a:cubicBezTo>
                    <a:pt x="507" y="87"/>
                    <a:pt x="507" y="90"/>
                    <a:pt x="506" y="93"/>
                  </a:cubicBezTo>
                  <a:cubicBezTo>
                    <a:pt x="505" y="91"/>
                    <a:pt x="504" y="89"/>
                    <a:pt x="503" y="87"/>
                  </a:cubicBezTo>
                  <a:close/>
                  <a:moveTo>
                    <a:pt x="508" y="144"/>
                  </a:moveTo>
                  <a:cubicBezTo>
                    <a:pt x="507" y="144"/>
                    <a:pt x="507" y="143"/>
                    <a:pt x="507" y="143"/>
                  </a:cubicBezTo>
                  <a:cubicBezTo>
                    <a:pt x="507" y="140"/>
                    <a:pt x="507" y="136"/>
                    <a:pt x="508" y="131"/>
                  </a:cubicBezTo>
                  <a:cubicBezTo>
                    <a:pt x="509" y="128"/>
                    <a:pt x="509" y="126"/>
                    <a:pt x="509" y="125"/>
                  </a:cubicBezTo>
                  <a:cubicBezTo>
                    <a:pt x="509" y="125"/>
                    <a:pt x="509" y="124"/>
                    <a:pt x="509" y="124"/>
                  </a:cubicBezTo>
                  <a:cubicBezTo>
                    <a:pt x="509" y="124"/>
                    <a:pt x="508" y="124"/>
                    <a:pt x="508" y="124"/>
                  </a:cubicBezTo>
                  <a:cubicBezTo>
                    <a:pt x="508" y="122"/>
                    <a:pt x="508" y="120"/>
                    <a:pt x="509" y="118"/>
                  </a:cubicBezTo>
                  <a:cubicBezTo>
                    <a:pt x="509" y="121"/>
                    <a:pt x="510" y="125"/>
                    <a:pt x="510" y="128"/>
                  </a:cubicBezTo>
                  <a:cubicBezTo>
                    <a:pt x="509" y="136"/>
                    <a:pt x="508" y="141"/>
                    <a:pt x="508" y="144"/>
                  </a:cubicBezTo>
                  <a:close/>
                  <a:moveTo>
                    <a:pt x="514" y="107"/>
                  </a:moveTo>
                  <a:cubicBezTo>
                    <a:pt x="513" y="105"/>
                    <a:pt x="512" y="102"/>
                    <a:pt x="510" y="100"/>
                  </a:cubicBezTo>
                  <a:cubicBezTo>
                    <a:pt x="511" y="97"/>
                    <a:pt x="511" y="95"/>
                    <a:pt x="511" y="93"/>
                  </a:cubicBezTo>
                  <a:cubicBezTo>
                    <a:pt x="512" y="96"/>
                    <a:pt x="514" y="99"/>
                    <a:pt x="515" y="102"/>
                  </a:cubicBezTo>
                  <a:cubicBezTo>
                    <a:pt x="515" y="104"/>
                    <a:pt x="514" y="105"/>
                    <a:pt x="514" y="107"/>
                  </a:cubicBezTo>
                  <a:close/>
                  <a:moveTo>
                    <a:pt x="515" y="159"/>
                  </a:move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5" y="159"/>
                    <a:pt x="515" y="159"/>
                  </a:cubicBezTo>
                  <a:close/>
                  <a:moveTo>
                    <a:pt x="516" y="96"/>
                  </a:moveTo>
                  <a:cubicBezTo>
                    <a:pt x="515" y="93"/>
                    <a:pt x="514" y="91"/>
                    <a:pt x="512" y="88"/>
                  </a:cubicBezTo>
                  <a:cubicBezTo>
                    <a:pt x="515" y="85"/>
                    <a:pt x="517" y="82"/>
                    <a:pt x="518" y="79"/>
                  </a:cubicBezTo>
                  <a:cubicBezTo>
                    <a:pt x="518" y="84"/>
                    <a:pt x="517" y="90"/>
                    <a:pt x="516" y="96"/>
                  </a:cubicBezTo>
                  <a:close/>
                  <a:moveTo>
                    <a:pt x="519" y="75"/>
                  </a:moveTo>
                  <a:cubicBezTo>
                    <a:pt x="517" y="78"/>
                    <a:pt x="514" y="82"/>
                    <a:pt x="512" y="86"/>
                  </a:cubicBezTo>
                  <a:cubicBezTo>
                    <a:pt x="513" y="77"/>
                    <a:pt x="514" y="68"/>
                    <a:pt x="515" y="61"/>
                  </a:cubicBezTo>
                  <a:cubicBezTo>
                    <a:pt x="517" y="58"/>
                    <a:pt x="519" y="55"/>
                    <a:pt x="521" y="53"/>
                  </a:cubicBezTo>
                  <a:cubicBezTo>
                    <a:pt x="521" y="58"/>
                    <a:pt x="520" y="66"/>
                    <a:pt x="519" y="75"/>
                  </a:cubicBezTo>
                  <a:close/>
                  <a:moveTo>
                    <a:pt x="526" y="139"/>
                  </a:moveTo>
                  <a:cubicBezTo>
                    <a:pt x="526" y="139"/>
                    <a:pt x="526" y="139"/>
                    <a:pt x="526" y="139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9"/>
                    <a:pt x="526" y="139"/>
                    <a:pt x="526" y="139"/>
                  </a:cubicBezTo>
                  <a:close/>
                  <a:moveTo>
                    <a:pt x="551" y="137"/>
                  </a:moveTo>
                  <a:cubicBezTo>
                    <a:pt x="551" y="136"/>
                    <a:pt x="550" y="135"/>
                    <a:pt x="550" y="133"/>
                  </a:cubicBezTo>
                  <a:cubicBezTo>
                    <a:pt x="550" y="132"/>
                    <a:pt x="550" y="130"/>
                    <a:pt x="550" y="128"/>
                  </a:cubicBezTo>
                  <a:cubicBezTo>
                    <a:pt x="551" y="131"/>
                    <a:pt x="551" y="133"/>
                    <a:pt x="552" y="135"/>
                  </a:cubicBezTo>
                  <a:cubicBezTo>
                    <a:pt x="552" y="136"/>
                    <a:pt x="552" y="137"/>
                    <a:pt x="551" y="137"/>
                  </a:cubicBezTo>
                  <a:close/>
                  <a:moveTo>
                    <a:pt x="558" y="99"/>
                  </a:moveTo>
                  <a:cubicBezTo>
                    <a:pt x="556" y="95"/>
                    <a:pt x="554" y="92"/>
                    <a:pt x="552" y="90"/>
                  </a:cubicBezTo>
                  <a:cubicBezTo>
                    <a:pt x="554" y="93"/>
                    <a:pt x="556" y="97"/>
                    <a:pt x="557" y="101"/>
                  </a:cubicBezTo>
                  <a:cubicBezTo>
                    <a:pt x="556" y="110"/>
                    <a:pt x="555" y="118"/>
                    <a:pt x="554" y="125"/>
                  </a:cubicBezTo>
                  <a:cubicBezTo>
                    <a:pt x="553" y="122"/>
                    <a:pt x="552" y="119"/>
                    <a:pt x="551" y="116"/>
                  </a:cubicBezTo>
                  <a:cubicBezTo>
                    <a:pt x="551" y="102"/>
                    <a:pt x="552" y="86"/>
                    <a:pt x="553" y="72"/>
                  </a:cubicBezTo>
                  <a:cubicBezTo>
                    <a:pt x="556" y="75"/>
                    <a:pt x="558" y="79"/>
                    <a:pt x="560" y="82"/>
                  </a:cubicBezTo>
                  <a:cubicBezTo>
                    <a:pt x="559" y="88"/>
                    <a:pt x="558" y="93"/>
                    <a:pt x="558" y="99"/>
                  </a:cubicBezTo>
                  <a:close/>
                  <a:moveTo>
                    <a:pt x="561" y="142"/>
                  </a:moveTo>
                  <a:cubicBezTo>
                    <a:pt x="561" y="134"/>
                    <a:pt x="562" y="127"/>
                    <a:pt x="562" y="121"/>
                  </a:cubicBezTo>
                  <a:cubicBezTo>
                    <a:pt x="563" y="123"/>
                    <a:pt x="563" y="125"/>
                    <a:pt x="563" y="127"/>
                  </a:cubicBezTo>
                  <a:cubicBezTo>
                    <a:pt x="562" y="136"/>
                    <a:pt x="561" y="142"/>
                    <a:pt x="561" y="142"/>
                  </a:cubicBezTo>
                  <a:close/>
                  <a:moveTo>
                    <a:pt x="564" y="144"/>
                  </a:moveTo>
                  <a:cubicBezTo>
                    <a:pt x="564" y="142"/>
                    <a:pt x="564" y="140"/>
                    <a:pt x="565" y="137"/>
                  </a:cubicBezTo>
                  <a:cubicBezTo>
                    <a:pt x="565" y="138"/>
                    <a:pt x="565" y="138"/>
                    <a:pt x="565" y="138"/>
                  </a:cubicBezTo>
                  <a:cubicBezTo>
                    <a:pt x="564" y="142"/>
                    <a:pt x="564" y="144"/>
                    <a:pt x="564" y="144"/>
                  </a:cubicBezTo>
                  <a:close/>
                  <a:moveTo>
                    <a:pt x="563" y="110"/>
                  </a:moveTo>
                  <a:cubicBezTo>
                    <a:pt x="563" y="103"/>
                    <a:pt x="564" y="96"/>
                    <a:pt x="564" y="90"/>
                  </a:cubicBezTo>
                  <a:cubicBezTo>
                    <a:pt x="566" y="93"/>
                    <a:pt x="567" y="96"/>
                    <a:pt x="568" y="99"/>
                  </a:cubicBezTo>
                  <a:cubicBezTo>
                    <a:pt x="567" y="105"/>
                    <a:pt x="566" y="111"/>
                    <a:pt x="565" y="116"/>
                  </a:cubicBezTo>
                  <a:cubicBezTo>
                    <a:pt x="564" y="114"/>
                    <a:pt x="564" y="112"/>
                    <a:pt x="563" y="110"/>
                  </a:cubicBezTo>
                  <a:close/>
                  <a:moveTo>
                    <a:pt x="568" y="124"/>
                  </a:moveTo>
                  <a:cubicBezTo>
                    <a:pt x="568" y="123"/>
                    <a:pt x="567" y="122"/>
                    <a:pt x="567" y="121"/>
                  </a:cubicBezTo>
                  <a:cubicBezTo>
                    <a:pt x="568" y="115"/>
                    <a:pt x="568" y="109"/>
                    <a:pt x="569" y="103"/>
                  </a:cubicBezTo>
                  <a:cubicBezTo>
                    <a:pt x="570" y="105"/>
                    <a:pt x="570" y="107"/>
                    <a:pt x="571" y="109"/>
                  </a:cubicBezTo>
                  <a:cubicBezTo>
                    <a:pt x="570" y="114"/>
                    <a:pt x="569" y="119"/>
                    <a:pt x="568" y="124"/>
                  </a:cubicBezTo>
                  <a:close/>
                  <a:moveTo>
                    <a:pt x="574" y="146"/>
                  </a:moveTo>
                  <a:cubicBezTo>
                    <a:pt x="574" y="145"/>
                    <a:pt x="574" y="145"/>
                    <a:pt x="574" y="145"/>
                  </a:cubicBezTo>
                  <a:cubicBezTo>
                    <a:pt x="574" y="144"/>
                    <a:pt x="574" y="143"/>
                    <a:pt x="574" y="142"/>
                  </a:cubicBezTo>
                  <a:cubicBezTo>
                    <a:pt x="574" y="142"/>
                    <a:pt x="574" y="143"/>
                    <a:pt x="574" y="144"/>
                  </a:cubicBezTo>
                  <a:cubicBezTo>
                    <a:pt x="574" y="145"/>
                    <a:pt x="574" y="145"/>
                    <a:pt x="574" y="146"/>
                  </a:cubicBezTo>
                  <a:close/>
                  <a:moveTo>
                    <a:pt x="597" y="118"/>
                  </a:moveTo>
                  <a:cubicBezTo>
                    <a:pt x="596" y="114"/>
                    <a:pt x="595" y="111"/>
                    <a:pt x="593" y="107"/>
                  </a:cubicBezTo>
                  <a:cubicBezTo>
                    <a:pt x="593" y="96"/>
                    <a:pt x="593" y="84"/>
                    <a:pt x="593" y="74"/>
                  </a:cubicBezTo>
                  <a:cubicBezTo>
                    <a:pt x="593" y="70"/>
                    <a:pt x="593" y="67"/>
                    <a:pt x="592" y="65"/>
                  </a:cubicBezTo>
                  <a:cubicBezTo>
                    <a:pt x="593" y="74"/>
                    <a:pt x="597" y="84"/>
                    <a:pt x="600" y="94"/>
                  </a:cubicBezTo>
                  <a:cubicBezTo>
                    <a:pt x="599" y="102"/>
                    <a:pt x="598" y="110"/>
                    <a:pt x="597" y="118"/>
                  </a:cubicBezTo>
                  <a:close/>
                  <a:moveTo>
                    <a:pt x="626" y="124"/>
                  </a:moveTo>
                  <a:cubicBezTo>
                    <a:pt x="626" y="122"/>
                    <a:pt x="625" y="120"/>
                    <a:pt x="625" y="117"/>
                  </a:cubicBezTo>
                  <a:cubicBezTo>
                    <a:pt x="626" y="109"/>
                    <a:pt x="627" y="100"/>
                    <a:pt x="627" y="92"/>
                  </a:cubicBezTo>
                  <a:cubicBezTo>
                    <a:pt x="629" y="96"/>
                    <a:pt x="630" y="100"/>
                    <a:pt x="630" y="104"/>
                  </a:cubicBezTo>
                  <a:cubicBezTo>
                    <a:pt x="629" y="111"/>
                    <a:pt x="627" y="118"/>
                    <a:pt x="626" y="124"/>
                  </a:cubicBezTo>
                  <a:close/>
                  <a:moveTo>
                    <a:pt x="667" y="133"/>
                  </a:moveTo>
                  <a:cubicBezTo>
                    <a:pt x="666" y="130"/>
                    <a:pt x="665" y="126"/>
                    <a:pt x="664" y="122"/>
                  </a:cubicBezTo>
                  <a:cubicBezTo>
                    <a:pt x="664" y="112"/>
                    <a:pt x="665" y="100"/>
                    <a:pt x="665" y="88"/>
                  </a:cubicBezTo>
                  <a:cubicBezTo>
                    <a:pt x="667" y="96"/>
                    <a:pt x="669" y="104"/>
                    <a:pt x="670" y="111"/>
                  </a:cubicBezTo>
                  <a:cubicBezTo>
                    <a:pt x="670" y="117"/>
                    <a:pt x="670" y="117"/>
                    <a:pt x="670" y="117"/>
                  </a:cubicBezTo>
                  <a:cubicBezTo>
                    <a:pt x="668" y="123"/>
                    <a:pt x="667" y="129"/>
                    <a:pt x="667" y="133"/>
                  </a:cubicBezTo>
                  <a:close/>
                  <a:moveTo>
                    <a:pt x="679" y="110"/>
                  </a:moveTo>
                  <a:cubicBezTo>
                    <a:pt x="679" y="113"/>
                    <a:pt x="679" y="116"/>
                    <a:pt x="679" y="119"/>
                  </a:cubicBezTo>
                  <a:cubicBezTo>
                    <a:pt x="678" y="122"/>
                    <a:pt x="678" y="124"/>
                    <a:pt x="677" y="127"/>
                  </a:cubicBezTo>
                  <a:cubicBezTo>
                    <a:pt x="677" y="119"/>
                    <a:pt x="676" y="111"/>
                    <a:pt x="675" y="104"/>
                  </a:cubicBezTo>
                  <a:cubicBezTo>
                    <a:pt x="676" y="98"/>
                    <a:pt x="676" y="91"/>
                    <a:pt x="677" y="86"/>
                  </a:cubicBezTo>
                  <a:cubicBezTo>
                    <a:pt x="679" y="93"/>
                    <a:pt x="679" y="102"/>
                    <a:pt x="679" y="110"/>
                  </a:cubicBezTo>
                  <a:close/>
                  <a:moveTo>
                    <a:pt x="689" y="142"/>
                  </a:moveTo>
                  <a:cubicBezTo>
                    <a:pt x="689" y="142"/>
                    <a:pt x="689" y="141"/>
                    <a:pt x="690" y="138"/>
                  </a:cubicBezTo>
                  <a:cubicBezTo>
                    <a:pt x="691" y="120"/>
                    <a:pt x="690" y="96"/>
                    <a:pt x="689" y="77"/>
                  </a:cubicBezTo>
                  <a:cubicBezTo>
                    <a:pt x="691" y="81"/>
                    <a:pt x="693" y="86"/>
                    <a:pt x="694" y="92"/>
                  </a:cubicBezTo>
                  <a:cubicBezTo>
                    <a:pt x="692" y="108"/>
                    <a:pt x="690" y="129"/>
                    <a:pt x="690" y="138"/>
                  </a:cubicBezTo>
                  <a:cubicBezTo>
                    <a:pt x="690" y="139"/>
                    <a:pt x="689" y="141"/>
                    <a:pt x="689" y="142"/>
                  </a:cubicBezTo>
                  <a:close/>
                  <a:moveTo>
                    <a:pt x="693" y="129"/>
                  </a:moveTo>
                  <a:cubicBezTo>
                    <a:pt x="693" y="119"/>
                    <a:pt x="694" y="107"/>
                    <a:pt x="695" y="97"/>
                  </a:cubicBezTo>
                  <a:cubicBezTo>
                    <a:pt x="695" y="100"/>
                    <a:pt x="695" y="103"/>
                    <a:pt x="695" y="106"/>
                  </a:cubicBezTo>
                  <a:cubicBezTo>
                    <a:pt x="695" y="114"/>
                    <a:pt x="694" y="121"/>
                    <a:pt x="693" y="129"/>
                  </a:cubicBezTo>
                  <a:close/>
                  <a:moveTo>
                    <a:pt x="705" y="125"/>
                  </a:moveTo>
                  <a:cubicBezTo>
                    <a:pt x="705" y="120"/>
                    <a:pt x="705" y="113"/>
                    <a:pt x="705" y="107"/>
                  </a:cubicBezTo>
                  <a:cubicBezTo>
                    <a:pt x="705" y="114"/>
                    <a:pt x="705" y="120"/>
                    <a:pt x="705" y="125"/>
                  </a:cubicBezTo>
                  <a:close/>
                  <a:moveTo>
                    <a:pt x="720" y="112"/>
                  </a:moveTo>
                  <a:cubicBezTo>
                    <a:pt x="720" y="105"/>
                    <a:pt x="720" y="98"/>
                    <a:pt x="719" y="91"/>
                  </a:cubicBezTo>
                  <a:cubicBezTo>
                    <a:pt x="720" y="95"/>
                    <a:pt x="720" y="99"/>
                    <a:pt x="720" y="103"/>
                  </a:cubicBezTo>
                  <a:cubicBezTo>
                    <a:pt x="720" y="106"/>
                    <a:pt x="720" y="109"/>
                    <a:pt x="720" y="112"/>
                  </a:cubicBezTo>
                  <a:close/>
                  <a:moveTo>
                    <a:pt x="730" y="129"/>
                  </a:moveTo>
                  <a:cubicBezTo>
                    <a:pt x="730" y="129"/>
                    <a:pt x="730" y="129"/>
                    <a:pt x="730" y="130"/>
                  </a:cubicBezTo>
                  <a:cubicBezTo>
                    <a:pt x="729" y="132"/>
                    <a:pt x="728" y="134"/>
                    <a:pt x="728" y="137"/>
                  </a:cubicBezTo>
                  <a:cubicBezTo>
                    <a:pt x="728" y="136"/>
                    <a:pt x="728" y="136"/>
                    <a:pt x="728" y="136"/>
                  </a:cubicBezTo>
                  <a:cubicBezTo>
                    <a:pt x="728" y="134"/>
                    <a:pt x="729" y="132"/>
                    <a:pt x="730" y="130"/>
                  </a:cubicBezTo>
                  <a:cubicBezTo>
                    <a:pt x="730" y="129"/>
                    <a:pt x="730" y="129"/>
                    <a:pt x="730" y="129"/>
                  </a:cubicBezTo>
                  <a:cubicBezTo>
                    <a:pt x="730" y="129"/>
                    <a:pt x="730" y="129"/>
                    <a:pt x="730" y="129"/>
                  </a:cubicBezTo>
                  <a:close/>
                  <a:moveTo>
                    <a:pt x="767" y="130"/>
                  </a:moveTo>
                  <a:cubicBezTo>
                    <a:pt x="766" y="132"/>
                    <a:pt x="765" y="134"/>
                    <a:pt x="765" y="136"/>
                  </a:cubicBezTo>
                  <a:cubicBezTo>
                    <a:pt x="764" y="131"/>
                    <a:pt x="764" y="126"/>
                    <a:pt x="764" y="121"/>
                  </a:cubicBezTo>
                  <a:cubicBezTo>
                    <a:pt x="766" y="115"/>
                    <a:pt x="768" y="110"/>
                    <a:pt x="769" y="104"/>
                  </a:cubicBezTo>
                  <a:cubicBezTo>
                    <a:pt x="768" y="114"/>
                    <a:pt x="767" y="123"/>
                    <a:pt x="767" y="130"/>
                  </a:cubicBezTo>
                  <a:close/>
                  <a:moveTo>
                    <a:pt x="782" y="124"/>
                  </a:moveTo>
                  <a:cubicBezTo>
                    <a:pt x="782" y="110"/>
                    <a:pt x="784" y="94"/>
                    <a:pt x="785" y="83"/>
                  </a:cubicBezTo>
                  <a:cubicBezTo>
                    <a:pt x="785" y="87"/>
                    <a:pt x="785" y="91"/>
                    <a:pt x="785" y="95"/>
                  </a:cubicBezTo>
                  <a:cubicBezTo>
                    <a:pt x="785" y="105"/>
                    <a:pt x="784" y="114"/>
                    <a:pt x="782" y="124"/>
                  </a:cubicBezTo>
                  <a:close/>
                  <a:moveTo>
                    <a:pt x="799" y="160"/>
                  </a:move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60"/>
                  </a:cubicBezTo>
                  <a:close/>
                  <a:moveTo>
                    <a:pt x="811" y="116"/>
                  </a:moveTo>
                  <a:cubicBezTo>
                    <a:pt x="810" y="121"/>
                    <a:pt x="808" y="127"/>
                    <a:pt x="806" y="132"/>
                  </a:cubicBezTo>
                  <a:cubicBezTo>
                    <a:pt x="806" y="127"/>
                    <a:pt x="806" y="121"/>
                    <a:pt x="806" y="115"/>
                  </a:cubicBezTo>
                  <a:cubicBezTo>
                    <a:pt x="807" y="110"/>
                    <a:pt x="808" y="104"/>
                    <a:pt x="808" y="98"/>
                  </a:cubicBezTo>
                  <a:cubicBezTo>
                    <a:pt x="808" y="95"/>
                    <a:pt x="807" y="92"/>
                    <a:pt x="807" y="89"/>
                  </a:cubicBezTo>
                  <a:cubicBezTo>
                    <a:pt x="808" y="78"/>
                    <a:pt x="809" y="68"/>
                    <a:pt x="810" y="60"/>
                  </a:cubicBezTo>
                  <a:cubicBezTo>
                    <a:pt x="813" y="68"/>
                    <a:pt x="815" y="78"/>
                    <a:pt x="815" y="87"/>
                  </a:cubicBezTo>
                  <a:cubicBezTo>
                    <a:pt x="814" y="95"/>
                    <a:pt x="813" y="106"/>
                    <a:pt x="811" y="116"/>
                  </a:cubicBezTo>
                  <a:close/>
                  <a:moveTo>
                    <a:pt x="819" y="136"/>
                  </a:moveTo>
                  <a:cubicBezTo>
                    <a:pt x="819" y="137"/>
                    <a:pt x="819" y="138"/>
                    <a:pt x="818" y="139"/>
                  </a:cubicBezTo>
                  <a:cubicBezTo>
                    <a:pt x="818" y="137"/>
                    <a:pt x="818" y="135"/>
                    <a:pt x="818" y="133"/>
                  </a:cubicBezTo>
                  <a:cubicBezTo>
                    <a:pt x="819" y="130"/>
                    <a:pt x="819" y="128"/>
                    <a:pt x="820" y="125"/>
                  </a:cubicBezTo>
                  <a:cubicBezTo>
                    <a:pt x="820" y="129"/>
                    <a:pt x="819" y="133"/>
                    <a:pt x="819" y="136"/>
                  </a:cubicBezTo>
                  <a:close/>
                  <a:moveTo>
                    <a:pt x="835" y="126"/>
                  </a:moveTo>
                  <a:cubicBezTo>
                    <a:pt x="834" y="113"/>
                    <a:pt x="834" y="96"/>
                    <a:pt x="834" y="84"/>
                  </a:cubicBezTo>
                  <a:cubicBezTo>
                    <a:pt x="838" y="90"/>
                    <a:pt x="840" y="100"/>
                    <a:pt x="840" y="104"/>
                  </a:cubicBezTo>
                  <a:cubicBezTo>
                    <a:pt x="840" y="110"/>
                    <a:pt x="838" y="118"/>
                    <a:pt x="835" y="126"/>
                  </a:cubicBezTo>
                  <a:close/>
                  <a:moveTo>
                    <a:pt x="846" y="128"/>
                  </a:moveTo>
                  <a:cubicBezTo>
                    <a:pt x="848" y="113"/>
                    <a:pt x="847" y="91"/>
                    <a:pt x="847" y="76"/>
                  </a:cubicBezTo>
                  <a:cubicBezTo>
                    <a:pt x="849" y="83"/>
                    <a:pt x="851" y="90"/>
                    <a:pt x="851" y="96"/>
                  </a:cubicBezTo>
                  <a:cubicBezTo>
                    <a:pt x="851" y="107"/>
                    <a:pt x="849" y="117"/>
                    <a:pt x="846" y="128"/>
                  </a:cubicBezTo>
                  <a:close/>
                  <a:moveTo>
                    <a:pt x="886" y="112"/>
                  </a:moveTo>
                  <a:cubicBezTo>
                    <a:pt x="886" y="110"/>
                    <a:pt x="886" y="108"/>
                    <a:pt x="886" y="106"/>
                  </a:cubicBezTo>
                  <a:cubicBezTo>
                    <a:pt x="886" y="108"/>
                    <a:pt x="885" y="112"/>
                    <a:pt x="885" y="115"/>
                  </a:cubicBezTo>
                  <a:cubicBezTo>
                    <a:pt x="880" y="131"/>
                    <a:pt x="876" y="144"/>
                    <a:pt x="876" y="144"/>
                  </a:cubicBezTo>
                  <a:cubicBezTo>
                    <a:pt x="877" y="133"/>
                    <a:pt x="881" y="110"/>
                    <a:pt x="886" y="86"/>
                  </a:cubicBezTo>
                  <a:cubicBezTo>
                    <a:pt x="888" y="90"/>
                    <a:pt x="889" y="95"/>
                    <a:pt x="890" y="99"/>
                  </a:cubicBezTo>
                  <a:cubicBezTo>
                    <a:pt x="888" y="103"/>
                    <a:pt x="887" y="108"/>
                    <a:pt x="886" y="112"/>
                  </a:cubicBezTo>
                  <a:close/>
                  <a:moveTo>
                    <a:pt x="899" y="133"/>
                  </a:moveTo>
                  <a:cubicBezTo>
                    <a:pt x="899" y="133"/>
                    <a:pt x="899" y="134"/>
                    <a:pt x="898" y="134"/>
                  </a:cubicBezTo>
                  <a:cubicBezTo>
                    <a:pt x="898" y="134"/>
                    <a:pt x="898" y="134"/>
                    <a:pt x="898" y="134"/>
                  </a:cubicBezTo>
                  <a:cubicBezTo>
                    <a:pt x="898" y="134"/>
                    <a:pt x="899" y="133"/>
                    <a:pt x="899" y="133"/>
                  </a:cubicBezTo>
                  <a:cubicBezTo>
                    <a:pt x="899" y="126"/>
                    <a:pt x="900" y="117"/>
                    <a:pt x="901" y="107"/>
                  </a:cubicBezTo>
                  <a:cubicBezTo>
                    <a:pt x="901" y="110"/>
                    <a:pt x="901" y="114"/>
                    <a:pt x="901" y="117"/>
                  </a:cubicBezTo>
                  <a:cubicBezTo>
                    <a:pt x="900" y="123"/>
                    <a:pt x="899" y="129"/>
                    <a:pt x="899" y="133"/>
                  </a:cubicBezTo>
                  <a:close/>
                  <a:moveTo>
                    <a:pt x="903" y="159"/>
                  </a:move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lose/>
                  <a:moveTo>
                    <a:pt x="944" y="143"/>
                  </a:moveTo>
                  <a:cubicBezTo>
                    <a:pt x="944" y="142"/>
                    <a:pt x="944" y="142"/>
                    <a:pt x="944" y="141"/>
                  </a:cubicBezTo>
                  <a:cubicBezTo>
                    <a:pt x="944" y="135"/>
                    <a:pt x="945" y="127"/>
                    <a:pt x="946" y="117"/>
                  </a:cubicBezTo>
                  <a:cubicBezTo>
                    <a:pt x="946" y="121"/>
                    <a:pt x="946" y="125"/>
                    <a:pt x="946" y="129"/>
                  </a:cubicBezTo>
                  <a:cubicBezTo>
                    <a:pt x="945" y="135"/>
                    <a:pt x="945" y="139"/>
                    <a:pt x="944" y="143"/>
                  </a:cubicBezTo>
                  <a:close/>
                  <a:moveTo>
                    <a:pt x="948" y="117"/>
                  </a:moveTo>
                  <a:cubicBezTo>
                    <a:pt x="947" y="115"/>
                    <a:pt x="947" y="113"/>
                    <a:pt x="946" y="111"/>
                  </a:cubicBezTo>
                  <a:cubicBezTo>
                    <a:pt x="946" y="108"/>
                    <a:pt x="947" y="104"/>
                    <a:pt x="947" y="100"/>
                  </a:cubicBezTo>
                  <a:cubicBezTo>
                    <a:pt x="948" y="103"/>
                    <a:pt x="948" y="106"/>
                    <a:pt x="949" y="108"/>
                  </a:cubicBezTo>
                  <a:cubicBezTo>
                    <a:pt x="948" y="111"/>
                    <a:pt x="948" y="114"/>
                    <a:pt x="948" y="117"/>
                  </a:cubicBezTo>
                  <a:close/>
                  <a:moveTo>
                    <a:pt x="956" y="133"/>
                  </a:moveTo>
                  <a:cubicBezTo>
                    <a:pt x="956" y="133"/>
                    <a:pt x="956" y="133"/>
                    <a:pt x="956" y="133"/>
                  </a:cubicBezTo>
                  <a:cubicBezTo>
                    <a:pt x="957" y="130"/>
                    <a:pt x="957" y="127"/>
                    <a:pt x="957" y="124"/>
                  </a:cubicBezTo>
                  <a:cubicBezTo>
                    <a:pt x="957" y="125"/>
                    <a:pt x="957" y="126"/>
                    <a:pt x="957" y="128"/>
                  </a:cubicBezTo>
                  <a:cubicBezTo>
                    <a:pt x="957" y="130"/>
                    <a:pt x="957" y="131"/>
                    <a:pt x="956" y="133"/>
                  </a:cubicBezTo>
                  <a:close/>
                  <a:moveTo>
                    <a:pt x="993" y="142"/>
                  </a:moveTo>
                  <a:cubicBezTo>
                    <a:pt x="993" y="139"/>
                    <a:pt x="993" y="134"/>
                    <a:pt x="993" y="128"/>
                  </a:cubicBezTo>
                  <a:cubicBezTo>
                    <a:pt x="993" y="130"/>
                    <a:pt x="994" y="132"/>
                    <a:pt x="994" y="133"/>
                  </a:cubicBezTo>
                  <a:cubicBezTo>
                    <a:pt x="993" y="139"/>
                    <a:pt x="993" y="142"/>
                    <a:pt x="993" y="142"/>
                  </a:cubicBezTo>
                  <a:close/>
                  <a:moveTo>
                    <a:pt x="1015" y="135"/>
                  </a:moveTo>
                  <a:cubicBezTo>
                    <a:pt x="1014" y="134"/>
                    <a:pt x="1014" y="134"/>
                    <a:pt x="1014" y="133"/>
                  </a:cubicBezTo>
                  <a:cubicBezTo>
                    <a:pt x="1014" y="121"/>
                    <a:pt x="1014" y="103"/>
                    <a:pt x="1013" y="88"/>
                  </a:cubicBezTo>
                  <a:cubicBezTo>
                    <a:pt x="1015" y="94"/>
                    <a:pt x="1017" y="100"/>
                    <a:pt x="1018" y="106"/>
                  </a:cubicBezTo>
                  <a:cubicBezTo>
                    <a:pt x="1017" y="118"/>
                    <a:pt x="1015" y="128"/>
                    <a:pt x="1015" y="135"/>
                  </a:cubicBezTo>
                  <a:close/>
                  <a:moveTo>
                    <a:pt x="1021" y="145"/>
                  </a:moveTo>
                  <a:cubicBezTo>
                    <a:pt x="1021" y="141"/>
                    <a:pt x="1021" y="136"/>
                    <a:pt x="1022" y="129"/>
                  </a:cubicBezTo>
                  <a:cubicBezTo>
                    <a:pt x="1022" y="133"/>
                    <a:pt x="1022" y="136"/>
                    <a:pt x="1023" y="139"/>
                  </a:cubicBezTo>
                  <a:cubicBezTo>
                    <a:pt x="1022" y="143"/>
                    <a:pt x="1021" y="145"/>
                    <a:pt x="1021" y="145"/>
                  </a:cubicBezTo>
                  <a:close/>
                  <a:moveTo>
                    <a:pt x="1027" y="159"/>
                  </a:moveTo>
                  <a:cubicBezTo>
                    <a:pt x="1027" y="159"/>
                    <a:pt x="1027" y="159"/>
                    <a:pt x="1027" y="159"/>
                  </a:cubicBezTo>
                  <a:cubicBezTo>
                    <a:pt x="1027" y="159"/>
                    <a:pt x="1027" y="158"/>
                    <a:pt x="1027" y="158"/>
                  </a:cubicBezTo>
                  <a:cubicBezTo>
                    <a:pt x="1027" y="159"/>
                    <a:pt x="1028" y="160"/>
                    <a:pt x="1028" y="160"/>
                  </a:cubicBezTo>
                  <a:cubicBezTo>
                    <a:pt x="1028" y="160"/>
                    <a:pt x="1027" y="159"/>
                    <a:pt x="1027" y="159"/>
                  </a:cubicBezTo>
                  <a:close/>
                  <a:moveTo>
                    <a:pt x="1028" y="121"/>
                  </a:moveTo>
                  <a:cubicBezTo>
                    <a:pt x="1026" y="117"/>
                    <a:pt x="1025" y="114"/>
                    <a:pt x="1023" y="110"/>
                  </a:cubicBezTo>
                  <a:cubicBezTo>
                    <a:pt x="1024" y="105"/>
                    <a:pt x="1024" y="99"/>
                    <a:pt x="1025" y="94"/>
                  </a:cubicBezTo>
                  <a:cubicBezTo>
                    <a:pt x="1026" y="100"/>
                    <a:pt x="1027" y="108"/>
                    <a:pt x="1029" y="116"/>
                  </a:cubicBezTo>
                  <a:cubicBezTo>
                    <a:pt x="1029" y="118"/>
                    <a:pt x="1028" y="119"/>
                    <a:pt x="1028" y="121"/>
                  </a:cubicBezTo>
                  <a:close/>
                  <a:moveTo>
                    <a:pt x="1036" y="142"/>
                  </a:moveTo>
                  <a:cubicBezTo>
                    <a:pt x="1035" y="138"/>
                    <a:pt x="1033" y="134"/>
                    <a:pt x="1031" y="129"/>
                  </a:cubicBezTo>
                  <a:cubicBezTo>
                    <a:pt x="1031" y="129"/>
                    <a:pt x="1031" y="128"/>
                    <a:pt x="1032" y="127"/>
                  </a:cubicBezTo>
                  <a:cubicBezTo>
                    <a:pt x="1033" y="132"/>
                    <a:pt x="1035" y="137"/>
                    <a:pt x="1036" y="142"/>
                  </a:cubicBezTo>
                  <a:cubicBezTo>
                    <a:pt x="1039" y="149"/>
                    <a:pt x="1041" y="153"/>
                    <a:pt x="1041" y="155"/>
                  </a:cubicBezTo>
                  <a:cubicBezTo>
                    <a:pt x="1040" y="151"/>
                    <a:pt x="1038" y="147"/>
                    <a:pt x="1036" y="142"/>
                  </a:cubicBezTo>
                  <a:close/>
                  <a:moveTo>
                    <a:pt x="1261" y="88"/>
                  </a:moveTo>
                  <a:cubicBezTo>
                    <a:pt x="1262" y="90"/>
                    <a:pt x="1263" y="93"/>
                    <a:pt x="1263" y="95"/>
                  </a:cubicBezTo>
                  <a:cubicBezTo>
                    <a:pt x="1263" y="94"/>
                    <a:pt x="1262" y="93"/>
                    <a:pt x="1261" y="92"/>
                  </a:cubicBezTo>
                  <a:cubicBezTo>
                    <a:pt x="1261" y="90"/>
                    <a:pt x="1261" y="89"/>
                    <a:pt x="1261" y="88"/>
                  </a:cubicBezTo>
                  <a:close/>
                  <a:moveTo>
                    <a:pt x="1249" y="84"/>
                  </a:moveTo>
                  <a:cubicBezTo>
                    <a:pt x="1252" y="88"/>
                    <a:pt x="1254" y="92"/>
                    <a:pt x="1257" y="96"/>
                  </a:cubicBezTo>
                  <a:cubicBezTo>
                    <a:pt x="1257" y="97"/>
                    <a:pt x="1258" y="99"/>
                    <a:pt x="1258" y="100"/>
                  </a:cubicBezTo>
                  <a:cubicBezTo>
                    <a:pt x="1258" y="104"/>
                    <a:pt x="1257" y="108"/>
                    <a:pt x="1256" y="112"/>
                  </a:cubicBezTo>
                  <a:cubicBezTo>
                    <a:pt x="1254" y="105"/>
                    <a:pt x="1251" y="98"/>
                    <a:pt x="1248" y="92"/>
                  </a:cubicBezTo>
                  <a:cubicBezTo>
                    <a:pt x="1249" y="89"/>
                    <a:pt x="1249" y="86"/>
                    <a:pt x="1249" y="84"/>
                  </a:cubicBezTo>
                  <a:close/>
                  <a:moveTo>
                    <a:pt x="1254" y="111"/>
                  </a:moveTo>
                  <a:cubicBezTo>
                    <a:pt x="1251" y="108"/>
                    <a:pt x="1249" y="105"/>
                    <a:pt x="1247" y="102"/>
                  </a:cubicBezTo>
                  <a:cubicBezTo>
                    <a:pt x="1247" y="99"/>
                    <a:pt x="1248" y="96"/>
                    <a:pt x="1248" y="93"/>
                  </a:cubicBezTo>
                  <a:cubicBezTo>
                    <a:pt x="1250" y="99"/>
                    <a:pt x="1252" y="105"/>
                    <a:pt x="1254" y="111"/>
                  </a:cubicBezTo>
                  <a:close/>
                  <a:moveTo>
                    <a:pt x="1236" y="56"/>
                  </a:moveTo>
                  <a:cubicBezTo>
                    <a:pt x="1241" y="62"/>
                    <a:pt x="1244" y="68"/>
                    <a:pt x="1248" y="74"/>
                  </a:cubicBezTo>
                  <a:cubicBezTo>
                    <a:pt x="1244" y="69"/>
                    <a:pt x="1240" y="64"/>
                    <a:pt x="1236" y="60"/>
                  </a:cubicBezTo>
                  <a:cubicBezTo>
                    <a:pt x="1236" y="59"/>
                    <a:pt x="1236" y="57"/>
                    <a:pt x="1236" y="56"/>
                  </a:cubicBezTo>
                  <a:close/>
                  <a:moveTo>
                    <a:pt x="1235" y="64"/>
                  </a:moveTo>
                  <a:cubicBezTo>
                    <a:pt x="1239" y="69"/>
                    <a:pt x="1243" y="74"/>
                    <a:pt x="1247" y="80"/>
                  </a:cubicBezTo>
                  <a:cubicBezTo>
                    <a:pt x="1246" y="82"/>
                    <a:pt x="1245" y="83"/>
                    <a:pt x="1245" y="85"/>
                  </a:cubicBezTo>
                  <a:cubicBezTo>
                    <a:pt x="1245" y="84"/>
                    <a:pt x="1244" y="83"/>
                    <a:pt x="1244" y="83"/>
                  </a:cubicBezTo>
                  <a:cubicBezTo>
                    <a:pt x="1244" y="83"/>
                    <a:pt x="1245" y="84"/>
                    <a:pt x="1245" y="85"/>
                  </a:cubicBezTo>
                  <a:cubicBezTo>
                    <a:pt x="1244" y="88"/>
                    <a:pt x="1243" y="91"/>
                    <a:pt x="1242" y="94"/>
                  </a:cubicBezTo>
                  <a:cubicBezTo>
                    <a:pt x="1239" y="90"/>
                    <a:pt x="1236" y="85"/>
                    <a:pt x="1233" y="80"/>
                  </a:cubicBezTo>
                  <a:cubicBezTo>
                    <a:pt x="1234" y="75"/>
                    <a:pt x="1235" y="69"/>
                    <a:pt x="1235" y="64"/>
                  </a:cubicBezTo>
                  <a:close/>
                  <a:moveTo>
                    <a:pt x="1226" y="139"/>
                  </a:moveTo>
                  <a:cubicBezTo>
                    <a:pt x="1226" y="120"/>
                    <a:pt x="1229" y="101"/>
                    <a:pt x="1233" y="83"/>
                  </a:cubicBezTo>
                  <a:cubicBezTo>
                    <a:pt x="1235" y="87"/>
                    <a:pt x="1238" y="91"/>
                    <a:pt x="1241" y="95"/>
                  </a:cubicBezTo>
                  <a:cubicBezTo>
                    <a:pt x="1235" y="114"/>
                    <a:pt x="1229" y="133"/>
                    <a:pt x="1227" y="152"/>
                  </a:cubicBezTo>
                  <a:cubicBezTo>
                    <a:pt x="1226" y="148"/>
                    <a:pt x="1226" y="143"/>
                    <a:pt x="1226" y="139"/>
                  </a:cubicBezTo>
                  <a:close/>
                  <a:moveTo>
                    <a:pt x="1245" y="143"/>
                  </a:moveTo>
                  <a:cubicBezTo>
                    <a:pt x="1245" y="142"/>
                    <a:pt x="1244" y="141"/>
                    <a:pt x="1243" y="140"/>
                  </a:cubicBezTo>
                  <a:cubicBezTo>
                    <a:pt x="1244" y="141"/>
                    <a:pt x="1244" y="143"/>
                    <a:pt x="1245" y="144"/>
                  </a:cubicBezTo>
                  <a:cubicBezTo>
                    <a:pt x="1243" y="147"/>
                    <a:pt x="1242" y="149"/>
                    <a:pt x="1241" y="152"/>
                  </a:cubicBezTo>
                  <a:cubicBezTo>
                    <a:pt x="1241" y="146"/>
                    <a:pt x="1242" y="141"/>
                    <a:pt x="1243" y="135"/>
                  </a:cubicBezTo>
                  <a:cubicBezTo>
                    <a:pt x="1244" y="137"/>
                    <a:pt x="1245" y="139"/>
                    <a:pt x="1246" y="142"/>
                  </a:cubicBezTo>
                  <a:cubicBezTo>
                    <a:pt x="1246" y="142"/>
                    <a:pt x="1246" y="142"/>
                    <a:pt x="1245" y="143"/>
                  </a:cubicBezTo>
                  <a:close/>
                  <a:moveTo>
                    <a:pt x="1244" y="127"/>
                  </a:moveTo>
                  <a:cubicBezTo>
                    <a:pt x="1245" y="119"/>
                    <a:pt x="1246" y="111"/>
                    <a:pt x="1247" y="103"/>
                  </a:cubicBezTo>
                  <a:cubicBezTo>
                    <a:pt x="1250" y="107"/>
                    <a:pt x="1253" y="112"/>
                    <a:pt x="1255" y="116"/>
                  </a:cubicBezTo>
                  <a:cubicBezTo>
                    <a:pt x="1254" y="122"/>
                    <a:pt x="1252" y="127"/>
                    <a:pt x="1250" y="133"/>
                  </a:cubicBezTo>
                  <a:cubicBezTo>
                    <a:pt x="1248" y="131"/>
                    <a:pt x="1246" y="128"/>
                    <a:pt x="1244" y="127"/>
                  </a:cubicBezTo>
                  <a:close/>
                  <a:moveTo>
                    <a:pt x="1256" y="140"/>
                  </a:moveTo>
                  <a:cubicBezTo>
                    <a:pt x="1256" y="140"/>
                    <a:pt x="1255" y="140"/>
                    <a:pt x="1255" y="140"/>
                  </a:cubicBezTo>
                  <a:cubicBezTo>
                    <a:pt x="1256" y="135"/>
                    <a:pt x="1257" y="130"/>
                    <a:pt x="1258" y="125"/>
                  </a:cubicBezTo>
                  <a:cubicBezTo>
                    <a:pt x="1258" y="127"/>
                    <a:pt x="1259" y="129"/>
                    <a:pt x="1259" y="130"/>
                  </a:cubicBezTo>
                  <a:cubicBezTo>
                    <a:pt x="1258" y="134"/>
                    <a:pt x="1257" y="137"/>
                    <a:pt x="1256" y="140"/>
                  </a:cubicBezTo>
                  <a:close/>
                  <a:moveTo>
                    <a:pt x="1262" y="122"/>
                  </a:moveTo>
                  <a:cubicBezTo>
                    <a:pt x="1261" y="120"/>
                    <a:pt x="1260" y="119"/>
                    <a:pt x="1259" y="117"/>
                  </a:cubicBezTo>
                  <a:cubicBezTo>
                    <a:pt x="1259" y="114"/>
                    <a:pt x="1260" y="110"/>
                    <a:pt x="1260" y="107"/>
                  </a:cubicBezTo>
                  <a:cubicBezTo>
                    <a:pt x="1261" y="111"/>
                    <a:pt x="1262" y="115"/>
                    <a:pt x="1263" y="120"/>
                  </a:cubicBezTo>
                  <a:cubicBezTo>
                    <a:pt x="1263" y="120"/>
                    <a:pt x="1263" y="121"/>
                    <a:pt x="1262" y="122"/>
                  </a:cubicBezTo>
                  <a:close/>
                  <a:moveTo>
                    <a:pt x="1264" y="151"/>
                  </a:moveTo>
                  <a:cubicBezTo>
                    <a:pt x="1264" y="151"/>
                    <a:pt x="1264" y="151"/>
                    <a:pt x="1264" y="151"/>
                  </a:cubicBezTo>
                  <a:cubicBezTo>
                    <a:pt x="1264" y="150"/>
                    <a:pt x="1264" y="150"/>
                    <a:pt x="1264" y="149"/>
                  </a:cubicBezTo>
                  <a:cubicBezTo>
                    <a:pt x="1264" y="149"/>
                    <a:pt x="1264" y="149"/>
                    <a:pt x="1264" y="149"/>
                  </a:cubicBezTo>
                  <a:cubicBezTo>
                    <a:pt x="1264" y="150"/>
                    <a:pt x="1264" y="150"/>
                    <a:pt x="1264" y="151"/>
                  </a:cubicBezTo>
                  <a:close/>
                  <a:moveTo>
                    <a:pt x="1264" y="118"/>
                  </a:moveTo>
                  <a:cubicBezTo>
                    <a:pt x="1263" y="112"/>
                    <a:pt x="1262" y="107"/>
                    <a:pt x="1261" y="102"/>
                  </a:cubicBezTo>
                  <a:cubicBezTo>
                    <a:pt x="1261" y="102"/>
                    <a:pt x="1261" y="102"/>
                    <a:pt x="1261" y="101"/>
                  </a:cubicBezTo>
                  <a:cubicBezTo>
                    <a:pt x="1263" y="105"/>
                    <a:pt x="1265" y="108"/>
                    <a:pt x="1267" y="112"/>
                  </a:cubicBezTo>
                  <a:cubicBezTo>
                    <a:pt x="1266" y="113"/>
                    <a:pt x="1265" y="115"/>
                    <a:pt x="1265" y="116"/>
                  </a:cubicBezTo>
                  <a:cubicBezTo>
                    <a:pt x="1265" y="117"/>
                    <a:pt x="1264" y="117"/>
                    <a:pt x="1264" y="118"/>
                  </a:cubicBezTo>
                  <a:close/>
                  <a:moveTo>
                    <a:pt x="1267" y="143"/>
                  </a:moveTo>
                  <a:cubicBezTo>
                    <a:pt x="1267" y="143"/>
                    <a:pt x="1266" y="142"/>
                    <a:pt x="1266" y="142"/>
                  </a:cubicBezTo>
                  <a:cubicBezTo>
                    <a:pt x="1267" y="141"/>
                    <a:pt x="1267" y="141"/>
                    <a:pt x="1267" y="140"/>
                  </a:cubicBezTo>
                  <a:cubicBezTo>
                    <a:pt x="1267" y="141"/>
                    <a:pt x="1267" y="141"/>
                    <a:pt x="1267" y="142"/>
                  </a:cubicBezTo>
                  <a:cubicBezTo>
                    <a:pt x="1267" y="142"/>
                    <a:pt x="1267" y="142"/>
                    <a:pt x="1267" y="143"/>
                  </a:cubicBezTo>
                  <a:close/>
                  <a:moveTo>
                    <a:pt x="1272" y="151"/>
                  </a:moveTo>
                  <a:cubicBezTo>
                    <a:pt x="1272" y="151"/>
                    <a:pt x="1272" y="151"/>
                    <a:pt x="1272" y="151"/>
                  </a:cubicBezTo>
                  <a:cubicBezTo>
                    <a:pt x="1272" y="151"/>
                    <a:pt x="1272" y="152"/>
                    <a:pt x="1272" y="152"/>
                  </a:cubicBezTo>
                  <a:cubicBezTo>
                    <a:pt x="1272" y="152"/>
                    <a:pt x="1272" y="152"/>
                    <a:pt x="1272" y="151"/>
                  </a:cubicBezTo>
                  <a:close/>
                  <a:moveTo>
                    <a:pt x="1274" y="126"/>
                  </a:moveTo>
                  <a:cubicBezTo>
                    <a:pt x="1274" y="128"/>
                    <a:pt x="1273" y="129"/>
                    <a:pt x="1272" y="131"/>
                  </a:cubicBezTo>
                  <a:cubicBezTo>
                    <a:pt x="1272" y="129"/>
                    <a:pt x="1272" y="127"/>
                    <a:pt x="1272" y="125"/>
                  </a:cubicBezTo>
                  <a:cubicBezTo>
                    <a:pt x="1272" y="124"/>
                    <a:pt x="1272" y="123"/>
                    <a:pt x="1273" y="122"/>
                  </a:cubicBezTo>
                  <a:cubicBezTo>
                    <a:pt x="1273" y="123"/>
                    <a:pt x="1274" y="124"/>
                    <a:pt x="1274" y="125"/>
                  </a:cubicBezTo>
                  <a:lnTo>
                    <a:pt x="1274" y="126"/>
                  </a:lnTo>
                  <a:close/>
                  <a:moveTo>
                    <a:pt x="1282" y="91"/>
                  </a:moveTo>
                  <a:cubicBezTo>
                    <a:pt x="1282" y="93"/>
                    <a:pt x="1282" y="94"/>
                    <a:pt x="1282" y="96"/>
                  </a:cubicBezTo>
                  <a:cubicBezTo>
                    <a:pt x="1282" y="95"/>
                    <a:pt x="1282" y="94"/>
                    <a:pt x="1281" y="93"/>
                  </a:cubicBezTo>
                  <a:cubicBezTo>
                    <a:pt x="1281" y="93"/>
                    <a:pt x="1282" y="92"/>
                    <a:pt x="1282" y="91"/>
                  </a:cubicBezTo>
                  <a:close/>
                  <a:moveTo>
                    <a:pt x="1280" y="117"/>
                  </a:moveTo>
                  <a:cubicBezTo>
                    <a:pt x="1279" y="113"/>
                    <a:pt x="1278" y="110"/>
                    <a:pt x="1278" y="106"/>
                  </a:cubicBezTo>
                  <a:cubicBezTo>
                    <a:pt x="1278" y="106"/>
                    <a:pt x="1278" y="105"/>
                    <a:pt x="1278" y="104"/>
                  </a:cubicBezTo>
                  <a:cubicBezTo>
                    <a:pt x="1279" y="107"/>
                    <a:pt x="1280" y="111"/>
                    <a:pt x="1281" y="114"/>
                  </a:cubicBezTo>
                  <a:cubicBezTo>
                    <a:pt x="1281" y="115"/>
                    <a:pt x="1280" y="116"/>
                    <a:pt x="1280" y="117"/>
                  </a:cubicBezTo>
                  <a:close/>
                  <a:moveTo>
                    <a:pt x="1283" y="127"/>
                  </a:moveTo>
                  <a:cubicBezTo>
                    <a:pt x="1282" y="127"/>
                    <a:pt x="1282" y="126"/>
                    <a:pt x="1282" y="126"/>
                  </a:cubicBezTo>
                  <a:cubicBezTo>
                    <a:pt x="1282" y="125"/>
                    <a:pt x="1282" y="125"/>
                    <a:pt x="1283" y="124"/>
                  </a:cubicBezTo>
                  <a:cubicBezTo>
                    <a:pt x="1283" y="125"/>
                    <a:pt x="1283" y="126"/>
                    <a:pt x="1283" y="127"/>
                  </a:cubicBezTo>
                  <a:close/>
                  <a:moveTo>
                    <a:pt x="1289" y="141"/>
                  </a:moveTo>
                  <a:cubicBezTo>
                    <a:pt x="1289" y="140"/>
                    <a:pt x="1289" y="140"/>
                    <a:pt x="1289" y="140"/>
                  </a:cubicBezTo>
                  <a:cubicBezTo>
                    <a:pt x="1289" y="139"/>
                    <a:pt x="1289" y="139"/>
                    <a:pt x="1289" y="139"/>
                  </a:cubicBezTo>
                  <a:cubicBezTo>
                    <a:pt x="1289" y="139"/>
                    <a:pt x="1289" y="140"/>
                    <a:pt x="1289" y="141"/>
                  </a:cubicBezTo>
                  <a:close/>
                  <a:moveTo>
                    <a:pt x="1321" y="64"/>
                  </a:moveTo>
                  <a:cubicBezTo>
                    <a:pt x="1322" y="69"/>
                    <a:pt x="1323" y="75"/>
                    <a:pt x="1324" y="80"/>
                  </a:cubicBezTo>
                  <a:cubicBezTo>
                    <a:pt x="1322" y="83"/>
                    <a:pt x="1321" y="85"/>
                    <a:pt x="1319" y="87"/>
                  </a:cubicBezTo>
                  <a:cubicBezTo>
                    <a:pt x="1319" y="86"/>
                    <a:pt x="1318" y="84"/>
                    <a:pt x="1317" y="83"/>
                  </a:cubicBezTo>
                  <a:cubicBezTo>
                    <a:pt x="1318" y="84"/>
                    <a:pt x="1319" y="86"/>
                    <a:pt x="1319" y="87"/>
                  </a:cubicBezTo>
                  <a:cubicBezTo>
                    <a:pt x="1318" y="90"/>
                    <a:pt x="1316" y="92"/>
                    <a:pt x="1315" y="94"/>
                  </a:cubicBezTo>
                  <a:cubicBezTo>
                    <a:pt x="1313" y="89"/>
                    <a:pt x="1312" y="85"/>
                    <a:pt x="1310" y="80"/>
                  </a:cubicBezTo>
                  <a:cubicBezTo>
                    <a:pt x="1314" y="74"/>
                    <a:pt x="1318" y="69"/>
                    <a:pt x="1321" y="64"/>
                  </a:cubicBezTo>
                  <a:close/>
                  <a:moveTo>
                    <a:pt x="1292" y="108"/>
                  </a:moveTo>
                  <a:cubicBezTo>
                    <a:pt x="1293" y="106"/>
                    <a:pt x="1295" y="104"/>
                    <a:pt x="1296" y="101"/>
                  </a:cubicBezTo>
                  <a:cubicBezTo>
                    <a:pt x="1296" y="107"/>
                    <a:pt x="1297" y="112"/>
                    <a:pt x="1298" y="117"/>
                  </a:cubicBezTo>
                  <a:cubicBezTo>
                    <a:pt x="1297" y="119"/>
                    <a:pt x="1295" y="120"/>
                    <a:pt x="1294" y="122"/>
                  </a:cubicBezTo>
                  <a:cubicBezTo>
                    <a:pt x="1294" y="117"/>
                    <a:pt x="1293" y="113"/>
                    <a:pt x="1292" y="108"/>
                  </a:cubicBezTo>
                  <a:close/>
                  <a:moveTo>
                    <a:pt x="1299" y="134"/>
                  </a:moveTo>
                  <a:cubicBezTo>
                    <a:pt x="1298" y="131"/>
                    <a:pt x="1297" y="128"/>
                    <a:pt x="1296" y="126"/>
                  </a:cubicBezTo>
                  <a:cubicBezTo>
                    <a:pt x="1297" y="125"/>
                    <a:pt x="1298" y="123"/>
                    <a:pt x="1298" y="122"/>
                  </a:cubicBezTo>
                  <a:cubicBezTo>
                    <a:pt x="1299" y="124"/>
                    <a:pt x="1299" y="125"/>
                    <a:pt x="1299" y="127"/>
                  </a:cubicBezTo>
                  <a:cubicBezTo>
                    <a:pt x="1299" y="129"/>
                    <a:pt x="1299" y="131"/>
                    <a:pt x="1299" y="134"/>
                  </a:cubicBezTo>
                  <a:close/>
                  <a:moveTo>
                    <a:pt x="1298" y="98"/>
                  </a:moveTo>
                  <a:cubicBezTo>
                    <a:pt x="1298" y="98"/>
                    <a:pt x="1298" y="98"/>
                    <a:pt x="1299" y="97"/>
                  </a:cubicBezTo>
                  <a:cubicBezTo>
                    <a:pt x="1299" y="101"/>
                    <a:pt x="1299" y="105"/>
                    <a:pt x="1299" y="108"/>
                  </a:cubicBezTo>
                  <a:cubicBezTo>
                    <a:pt x="1299" y="105"/>
                    <a:pt x="1298" y="101"/>
                    <a:pt x="1298" y="98"/>
                  </a:cubicBezTo>
                  <a:close/>
                  <a:moveTo>
                    <a:pt x="1298" y="82"/>
                  </a:moveTo>
                  <a:cubicBezTo>
                    <a:pt x="1298" y="78"/>
                    <a:pt x="1298" y="74"/>
                    <a:pt x="1299" y="72"/>
                  </a:cubicBezTo>
                  <a:cubicBezTo>
                    <a:pt x="1301" y="75"/>
                    <a:pt x="1302" y="78"/>
                    <a:pt x="1304" y="80"/>
                  </a:cubicBezTo>
                  <a:cubicBezTo>
                    <a:pt x="1302" y="82"/>
                    <a:pt x="1301" y="84"/>
                    <a:pt x="1299" y="86"/>
                  </a:cubicBezTo>
                  <a:cubicBezTo>
                    <a:pt x="1299" y="85"/>
                    <a:pt x="1298" y="83"/>
                    <a:pt x="1298" y="82"/>
                  </a:cubicBezTo>
                  <a:close/>
                  <a:moveTo>
                    <a:pt x="1302" y="92"/>
                  </a:moveTo>
                  <a:cubicBezTo>
                    <a:pt x="1303" y="90"/>
                    <a:pt x="1305" y="88"/>
                    <a:pt x="1306" y="86"/>
                  </a:cubicBezTo>
                  <a:cubicBezTo>
                    <a:pt x="1307" y="88"/>
                    <a:pt x="1308" y="91"/>
                    <a:pt x="1309" y="93"/>
                  </a:cubicBezTo>
                  <a:cubicBezTo>
                    <a:pt x="1309" y="96"/>
                    <a:pt x="1309" y="99"/>
                    <a:pt x="1310" y="102"/>
                  </a:cubicBezTo>
                  <a:cubicBezTo>
                    <a:pt x="1309" y="104"/>
                    <a:pt x="1308" y="105"/>
                    <a:pt x="1306" y="106"/>
                  </a:cubicBezTo>
                  <a:cubicBezTo>
                    <a:pt x="1305" y="102"/>
                    <a:pt x="1304" y="97"/>
                    <a:pt x="1302" y="92"/>
                  </a:cubicBezTo>
                  <a:close/>
                  <a:moveTo>
                    <a:pt x="1307" y="108"/>
                  </a:moveTo>
                  <a:cubicBezTo>
                    <a:pt x="1308" y="106"/>
                    <a:pt x="1309" y="104"/>
                    <a:pt x="1310" y="103"/>
                  </a:cubicBezTo>
                  <a:cubicBezTo>
                    <a:pt x="1312" y="118"/>
                    <a:pt x="1314" y="133"/>
                    <a:pt x="1316" y="149"/>
                  </a:cubicBezTo>
                  <a:cubicBezTo>
                    <a:pt x="1313" y="137"/>
                    <a:pt x="1311" y="122"/>
                    <a:pt x="1307" y="108"/>
                  </a:cubicBezTo>
                  <a:close/>
                  <a:moveTo>
                    <a:pt x="1315" y="95"/>
                  </a:moveTo>
                  <a:cubicBezTo>
                    <a:pt x="1317" y="93"/>
                    <a:pt x="1318" y="91"/>
                    <a:pt x="1320" y="89"/>
                  </a:cubicBezTo>
                  <a:cubicBezTo>
                    <a:pt x="1326" y="103"/>
                    <a:pt x="1327" y="120"/>
                    <a:pt x="1327" y="136"/>
                  </a:cubicBezTo>
                  <a:cubicBezTo>
                    <a:pt x="1324" y="122"/>
                    <a:pt x="1320" y="109"/>
                    <a:pt x="1315" y="95"/>
                  </a:cubicBezTo>
                  <a:close/>
                  <a:moveTo>
                    <a:pt x="1320" y="89"/>
                  </a:moveTo>
                  <a:cubicBezTo>
                    <a:pt x="1322" y="87"/>
                    <a:pt x="1323" y="85"/>
                    <a:pt x="1324" y="83"/>
                  </a:cubicBezTo>
                  <a:cubicBezTo>
                    <a:pt x="1325" y="90"/>
                    <a:pt x="1327" y="98"/>
                    <a:pt x="1328" y="105"/>
                  </a:cubicBezTo>
                  <a:cubicBezTo>
                    <a:pt x="1325" y="99"/>
                    <a:pt x="1323" y="94"/>
                    <a:pt x="1320" y="89"/>
                  </a:cubicBezTo>
                  <a:close/>
                  <a:moveTo>
                    <a:pt x="1333" y="92"/>
                  </a:moveTo>
                  <a:cubicBezTo>
                    <a:pt x="1331" y="87"/>
                    <a:pt x="1330" y="81"/>
                    <a:pt x="1329" y="74"/>
                  </a:cubicBezTo>
                  <a:cubicBezTo>
                    <a:pt x="1331" y="71"/>
                    <a:pt x="1333" y="68"/>
                    <a:pt x="1334" y="65"/>
                  </a:cubicBezTo>
                  <a:cubicBezTo>
                    <a:pt x="1336" y="69"/>
                    <a:pt x="1339" y="72"/>
                    <a:pt x="1341" y="75"/>
                  </a:cubicBezTo>
                  <a:cubicBezTo>
                    <a:pt x="1341" y="77"/>
                    <a:pt x="1341" y="79"/>
                    <a:pt x="1341" y="81"/>
                  </a:cubicBezTo>
                  <a:cubicBezTo>
                    <a:pt x="1340" y="80"/>
                    <a:pt x="1340" y="80"/>
                    <a:pt x="1339" y="79"/>
                  </a:cubicBezTo>
                  <a:cubicBezTo>
                    <a:pt x="1340" y="80"/>
                    <a:pt x="1340" y="81"/>
                    <a:pt x="1341" y="81"/>
                  </a:cubicBezTo>
                  <a:cubicBezTo>
                    <a:pt x="1340" y="86"/>
                    <a:pt x="1340" y="90"/>
                    <a:pt x="1340" y="91"/>
                  </a:cubicBezTo>
                  <a:cubicBezTo>
                    <a:pt x="1340" y="95"/>
                    <a:pt x="1340" y="100"/>
                    <a:pt x="1341" y="104"/>
                  </a:cubicBezTo>
                  <a:cubicBezTo>
                    <a:pt x="1340" y="101"/>
                    <a:pt x="1340" y="99"/>
                    <a:pt x="1339" y="96"/>
                  </a:cubicBezTo>
                  <a:cubicBezTo>
                    <a:pt x="1340" y="100"/>
                    <a:pt x="1340" y="104"/>
                    <a:pt x="1341" y="108"/>
                  </a:cubicBezTo>
                  <a:cubicBezTo>
                    <a:pt x="1341" y="120"/>
                    <a:pt x="1342" y="132"/>
                    <a:pt x="1342" y="143"/>
                  </a:cubicBezTo>
                  <a:cubicBezTo>
                    <a:pt x="1340" y="126"/>
                    <a:pt x="1337" y="109"/>
                    <a:pt x="1333" y="92"/>
                  </a:cubicBezTo>
                  <a:close/>
                  <a:moveTo>
                    <a:pt x="1356" y="125"/>
                  </a:moveTo>
                  <a:cubicBezTo>
                    <a:pt x="1353" y="116"/>
                    <a:pt x="1351" y="108"/>
                    <a:pt x="1348" y="99"/>
                  </a:cubicBezTo>
                  <a:cubicBezTo>
                    <a:pt x="1346" y="93"/>
                    <a:pt x="1345" y="87"/>
                    <a:pt x="1345" y="82"/>
                  </a:cubicBezTo>
                  <a:cubicBezTo>
                    <a:pt x="1350" y="91"/>
                    <a:pt x="1353" y="100"/>
                    <a:pt x="1356" y="109"/>
                  </a:cubicBezTo>
                  <a:cubicBezTo>
                    <a:pt x="1356" y="114"/>
                    <a:pt x="1356" y="120"/>
                    <a:pt x="1356" y="125"/>
                  </a:cubicBezTo>
                  <a:close/>
                  <a:moveTo>
                    <a:pt x="1356" y="97"/>
                  </a:moveTo>
                  <a:cubicBezTo>
                    <a:pt x="1353" y="90"/>
                    <a:pt x="1349" y="83"/>
                    <a:pt x="1344" y="77"/>
                  </a:cubicBezTo>
                  <a:cubicBezTo>
                    <a:pt x="1344" y="72"/>
                    <a:pt x="1343" y="67"/>
                    <a:pt x="1344" y="63"/>
                  </a:cubicBezTo>
                  <a:cubicBezTo>
                    <a:pt x="1349" y="70"/>
                    <a:pt x="1353" y="77"/>
                    <a:pt x="1357" y="85"/>
                  </a:cubicBezTo>
                  <a:cubicBezTo>
                    <a:pt x="1357" y="89"/>
                    <a:pt x="1357" y="93"/>
                    <a:pt x="1356" y="97"/>
                  </a:cubicBezTo>
                  <a:close/>
                  <a:moveTo>
                    <a:pt x="1366" y="119"/>
                  </a:moveTo>
                  <a:cubicBezTo>
                    <a:pt x="1365" y="110"/>
                    <a:pt x="1363" y="102"/>
                    <a:pt x="1361" y="93"/>
                  </a:cubicBezTo>
                  <a:cubicBezTo>
                    <a:pt x="1363" y="98"/>
                    <a:pt x="1366" y="104"/>
                    <a:pt x="1367" y="109"/>
                  </a:cubicBezTo>
                  <a:cubicBezTo>
                    <a:pt x="1368" y="112"/>
                    <a:pt x="1368" y="114"/>
                    <a:pt x="1369" y="116"/>
                  </a:cubicBezTo>
                  <a:cubicBezTo>
                    <a:pt x="1369" y="120"/>
                    <a:pt x="1369" y="124"/>
                    <a:pt x="1369" y="127"/>
                  </a:cubicBezTo>
                  <a:cubicBezTo>
                    <a:pt x="1368" y="125"/>
                    <a:pt x="1367" y="122"/>
                    <a:pt x="1366" y="119"/>
                  </a:cubicBezTo>
                  <a:close/>
                  <a:moveTo>
                    <a:pt x="1377" y="151"/>
                  </a:moveTo>
                  <a:cubicBezTo>
                    <a:pt x="1377" y="151"/>
                    <a:pt x="1377" y="151"/>
                    <a:pt x="1377" y="151"/>
                  </a:cubicBezTo>
                  <a:cubicBezTo>
                    <a:pt x="1377" y="151"/>
                    <a:pt x="1377" y="150"/>
                    <a:pt x="1377" y="150"/>
                  </a:cubicBezTo>
                  <a:cubicBezTo>
                    <a:pt x="1377" y="150"/>
                    <a:pt x="1377" y="150"/>
                    <a:pt x="1377" y="150"/>
                  </a:cubicBezTo>
                  <a:cubicBezTo>
                    <a:pt x="1377" y="151"/>
                    <a:pt x="1377" y="151"/>
                    <a:pt x="1377" y="151"/>
                  </a:cubicBezTo>
                  <a:close/>
                  <a:moveTo>
                    <a:pt x="1383" y="114"/>
                  </a:moveTo>
                  <a:cubicBezTo>
                    <a:pt x="1381" y="105"/>
                    <a:pt x="1378" y="96"/>
                    <a:pt x="1374" y="88"/>
                  </a:cubicBezTo>
                  <a:cubicBezTo>
                    <a:pt x="1378" y="97"/>
                    <a:pt x="1380" y="110"/>
                    <a:pt x="1382" y="122"/>
                  </a:cubicBezTo>
                  <a:cubicBezTo>
                    <a:pt x="1381" y="127"/>
                    <a:pt x="1380" y="132"/>
                    <a:pt x="1379" y="136"/>
                  </a:cubicBezTo>
                  <a:cubicBezTo>
                    <a:pt x="1378" y="134"/>
                    <a:pt x="1378" y="133"/>
                    <a:pt x="1377" y="131"/>
                  </a:cubicBezTo>
                  <a:cubicBezTo>
                    <a:pt x="1377" y="117"/>
                    <a:pt x="1376" y="102"/>
                    <a:pt x="1374" y="87"/>
                  </a:cubicBezTo>
                  <a:cubicBezTo>
                    <a:pt x="1374" y="87"/>
                    <a:pt x="1374" y="88"/>
                    <a:pt x="1374" y="88"/>
                  </a:cubicBezTo>
                  <a:cubicBezTo>
                    <a:pt x="1374" y="88"/>
                    <a:pt x="1374" y="87"/>
                    <a:pt x="1374" y="87"/>
                  </a:cubicBezTo>
                  <a:cubicBezTo>
                    <a:pt x="1373" y="82"/>
                    <a:pt x="1373" y="78"/>
                    <a:pt x="1372" y="73"/>
                  </a:cubicBezTo>
                  <a:cubicBezTo>
                    <a:pt x="1379" y="81"/>
                    <a:pt x="1383" y="91"/>
                    <a:pt x="1386" y="101"/>
                  </a:cubicBezTo>
                  <a:cubicBezTo>
                    <a:pt x="1385" y="105"/>
                    <a:pt x="1384" y="109"/>
                    <a:pt x="1383" y="114"/>
                  </a:cubicBezTo>
                  <a:close/>
                  <a:moveTo>
                    <a:pt x="1390" y="138"/>
                  </a:moveTo>
                  <a:cubicBezTo>
                    <a:pt x="1389" y="137"/>
                    <a:pt x="1389" y="136"/>
                    <a:pt x="1389" y="135"/>
                  </a:cubicBezTo>
                  <a:cubicBezTo>
                    <a:pt x="1389" y="124"/>
                    <a:pt x="1385" y="112"/>
                    <a:pt x="1386" y="101"/>
                  </a:cubicBezTo>
                  <a:cubicBezTo>
                    <a:pt x="1389" y="110"/>
                    <a:pt x="1391" y="119"/>
                    <a:pt x="1392" y="128"/>
                  </a:cubicBezTo>
                  <a:cubicBezTo>
                    <a:pt x="1391" y="132"/>
                    <a:pt x="1390" y="135"/>
                    <a:pt x="1390" y="138"/>
                  </a:cubicBezTo>
                  <a:close/>
                  <a:moveTo>
                    <a:pt x="1405" y="136"/>
                  </a:moveTo>
                  <a:cubicBezTo>
                    <a:pt x="1405" y="135"/>
                    <a:pt x="1404" y="134"/>
                    <a:pt x="1404" y="133"/>
                  </a:cubicBezTo>
                  <a:cubicBezTo>
                    <a:pt x="1403" y="131"/>
                    <a:pt x="1403" y="129"/>
                    <a:pt x="1402" y="128"/>
                  </a:cubicBezTo>
                  <a:cubicBezTo>
                    <a:pt x="1402" y="127"/>
                    <a:pt x="1402" y="127"/>
                    <a:pt x="1402" y="127"/>
                  </a:cubicBezTo>
                  <a:cubicBezTo>
                    <a:pt x="1403" y="129"/>
                    <a:pt x="1403" y="131"/>
                    <a:pt x="1404" y="133"/>
                  </a:cubicBezTo>
                  <a:cubicBezTo>
                    <a:pt x="1404" y="134"/>
                    <a:pt x="1405" y="135"/>
                    <a:pt x="1405" y="136"/>
                  </a:cubicBezTo>
                  <a:cubicBezTo>
                    <a:pt x="1405" y="136"/>
                    <a:pt x="1405" y="136"/>
                    <a:pt x="1405" y="136"/>
                  </a:cubicBezTo>
                  <a:close/>
                  <a:moveTo>
                    <a:pt x="1406" y="133"/>
                  </a:moveTo>
                  <a:cubicBezTo>
                    <a:pt x="1405" y="129"/>
                    <a:pt x="1404" y="125"/>
                    <a:pt x="1402" y="120"/>
                  </a:cubicBezTo>
                  <a:cubicBezTo>
                    <a:pt x="1402" y="119"/>
                    <a:pt x="1402" y="117"/>
                    <a:pt x="1402" y="115"/>
                  </a:cubicBezTo>
                  <a:cubicBezTo>
                    <a:pt x="1402" y="112"/>
                    <a:pt x="1402" y="109"/>
                    <a:pt x="1403" y="105"/>
                  </a:cubicBezTo>
                  <a:cubicBezTo>
                    <a:pt x="1405" y="112"/>
                    <a:pt x="1406" y="119"/>
                    <a:pt x="1408" y="126"/>
                  </a:cubicBezTo>
                  <a:cubicBezTo>
                    <a:pt x="1407" y="128"/>
                    <a:pt x="1407" y="130"/>
                    <a:pt x="1406" y="133"/>
                  </a:cubicBezTo>
                  <a:close/>
                  <a:moveTo>
                    <a:pt x="1420" y="139"/>
                  </a:moveTo>
                  <a:cubicBezTo>
                    <a:pt x="1420" y="139"/>
                    <a:pt x="1420" y="139"/>
                    <a:pt x="1420" y="139"/>
                  </a:cubicBezTo>
                  <a:cubicBezTo>
                    <a:pt x="1420" y="137"/>
                    <a:pt x="1420" y="135"/>
                    <a:pt x="1420" y="133"/>
                  </a:cubicBezTo>
                  <a:cubicBezTo>
                    <a:pt x="1420" y="134"/>
                    <a:pt x="1420" y="134"/>
                    <a:pt x="1420" y="135"/>
                  </a:cubicBezTo>
                  <a:cubicBezTo>
                    <a:pt x="1420" y="136"/>
                    <a:pt x="1420" y="138"/>
                    <a:pt x="1420" y="139"/>
                  </a:cubicBezTo>
                  <a:close/>
                  <a:moveTo>
                    <a:pt x="1441" y="150"/>
                  </a:moveTo>
                  <a:cubicBezTo>
                    <a:pt x="1440" y="148"/>
                    <a:pt x="1439" y="147"/>
                    <a:pt x="1439" y="146"/>
                  </a:cubicBezTo>
                  <a:cubicBezTo>
                    <a:pt x="1438" y="131"/>
                    <a:pt x="1434" y="116"/>
                    <a:pt x="1432" y="101"/>
                  </a:cubicBezTo>
                  <a:cubicBezTo>
                    <a:pt x="1437" y="115"/>
                    <a:pt x="1439" y="132"/>
                    <a:pt x="1441" y="146"/>
                  </a:cubicBezTo>
                  <a:cubicBezTo>
                    <a:pt x="1441" y="147"/>
                    <a:pt x="1441" y="148"/>
                    <a:pt x="1441" y="150"/>
                  </a:cubicBezTo>
                  <a:close/>
                  <a:moveTo>
                    <a:pt x="1445" y="143"/>
                  </a:moveTo>
                  <a:cubicBezTo>
                    <a:pt x="1445" y="142"/>
                    <a:pt x="1445" y="141"/>
                    <a:pt x="1445" y="140"/>
                  </a:cubicBezTo>
                  <a:cubicBezTo>
                    <a:pt x="1445" y="139"/>
                    <a:pt x="1445" y="139"/>
                    <a:pt x="1445" y="139"/>
                  </a:cubicBezTo>
                  <a:cubicBezTo>
                    <a:pt x="1445" y="140"/>
                    <a:pt x="1445" y="141"/>
                    <a:pt x="1445" y="142"/>
                  </a:cubicBezTo>
                  <a:cubicBezTo>
                    <a:pt x="1445" y="142"/>
                    <a:pt x="1445" y="143"/>
                    <a:pt x="1445" y="143"/>
                  </a:cubicBezTo>
                  <a:close/>
                  <a:moveTo>
                    <a:pt x="1458" y="139"/>
                  </a:moveTo>
                  <a:cubicBezTo>
                    <a:pt x="1457" y="142"/>
                    <a:pt x="1456" y="145"/>
                    <a:pt x="1455" y="147"/>
                  </a:cubicBezTo>
                  <a:cubicBezTo>
                    <a:pt x="1455" y="146"/>
                    <a:pt x="1454" y="145"/>
                    <a:pt x="1454" y="144"/>
                  </a:cubicBezTo>
                  <a:cubicBezTo>
                    <a:pt x="1456" y="132"/>
                    <a:pt x="1456" y="120"/>
                    <a:pt x="1458" y="108"/>
                  </a:cubicBezTo>
                  <a:cubicBezTo>
                    <a:pt x="1460" y="116"/>
                    <a:pt x="1459" y="128"/>
                    <a:pt x="1458" y="139"/>
                  </a:cubicBezTo>
                  <a:close/>
                  <a:moveTo>
                    <a:pt x="1458" y="108"/>
                  </a:moveTo>
                  <a:cubicBezTo>
                    <a:pt x="1459" y="104"/>
                    <a:pt x="1459" y="100"/>
                    <a:pt x="1461" y="97"/>
                  </a:cubicBezTo>
                  <a:cubicBezTo>
                    <a:pt x="1462" y="100"/>
                    <a:pt x="1463" y="103"/>
                    <a:pt x="1464" y="107"/>
                  </a:cubicBezTo>
                  <a:cubicBezTo>
                    <a:pt x="1463" y="112"/>
                    <a:pt x="1463" y="117"/>
                    <a:pt x="1462" y="122"/>
                  </a:cubicBezTo>
                  <a:cubicBezTo>
                    <a:pt x="1460" y="116"/>
                    <a:pt x="1459" y="111"/>
                    <a:pt x="1458" y="108"/>
                  </a:cubicBezTo>
                  <a:close/>
                  <a:moveTo>
                    <a:pt x="1466" y="134"/>
                  </a:moveTo>
                  <a:cubicBezTo>
                    <a:pt x="1465" y="132"/>
                    <a:pt x="1464" y="130"/>
                    <a:pt x="1464" y="128"/>
                  </a:cubicBezTo>
                  <a:cubicBezTo>
                    <a:pt x="1464" y="121"/>
                    <a:pt x="1464" y="114"/>
                    <a:pt x="1464" y="107"/>
                  </a:cubicBezTo>
                  <a:cubicBezTo>
                    <a:pt x="1466" y="113"/>
                    <a:pt x="1467" y="118"/>
                    <a:pt x="1468" y="124"/>
                  </a:cubicBezTo>
                  <a:cubicBezTo>
                    <a:pt x="1467" y="128"/>
                    <a:pt x="1466" y="131"/>
                    <a:pt x="1466" y="134"/>
                  </a:cubicBezTo>
                  <a:close/>
                  <a:moveTo>
                    <a:pt x="1470" y="118"/>
                  </a:moveTo>
                  <a:cubicBezTo>
                    <a:pt x="1468" y="114"/>
                    <a:pt x="1466" y="109"/>
                    <a:pt x="1464" y="105"/>
                  </a:cubicBezTo>
                  <a:cubicBezTo>
                    <a:pt x="1465" y="102"/>
                    <a:pt x="1465" y="99"/>
                    <a:pt x="1466" y="96"/>
                  </a:cubicBezTo>
                  <a:cubicBezTo>
                    <a:pt x="1465" y="99"/>
                    <a:pt x="1465" y="102"/>
                    <a:pt x="1464" y="105"/>
                  </a:cubicBezTo>
                  <a:cubicBezTo>
                    <a:pt x="1463" y="102"/>
                    <a:pt x="1462" y="99"/>
                    <a:pt x="1461" y="96"/>
                  </a:cubicBezTo>
                  <a:cubicBezTo>
                    <a:pt x="1461" y="94"/>
                    <a:pt x="1462" y="91"/>
                    <a:pt x="1463" y="89"/>
                  </a:cubicBezTo>
                  <a:cubicBezTo>
                    <a:pt x="1467" y="95"/>
                    <a:pt x="1470" y="102"/>
                    <a:pt x="1472" y="109"/>
                  </a:cubicBezTo>
                  <a:cubicBezTo>
                    <a:pt x="1472" y="112"/>
                    <a:pt x="1471" y="115"/>
                    <a:pt x="1470" y="118"/>
                  </a:cubicBezTo>
                  <a:close/>
                  <a:moveTo>
                    <a:pt x="1473" y="151"/>
                  </a:moveTo>
                  <a:cubicBezTo>
                    <a:pt x="1473" y="151"/>
                    <a:pt x="1473" y="151"/>
                    <a:pt x="1472" y="151"/>
                  </a:cubicBezTo>
                  <a:cubicBezTo>
                    <a:pt x="1473" y="150"/>
                    <a:pt x="1473" y="148"/>
                    <a:pt x="1473" y="147"/>
                  </a:cubicBezTo>
                  <a:cubicBezTo>
                    <a:pt x="1473" y="147"/>
                    <a:pt x="1473" y="148"/>
                    <a:pt x="1473" y="148"/>
                  </a:cubicBezTo>
                  <a:cubicBezTo>
                    <a:pt x="1473" y="149"/>
                    <a:pt x="1473" y="150"/>
                    <a:pt x="1473" y="151"/>
                  </a:cubicBezTo>
                  <a:close/>
                  <a:moveTo>
                    <a:pt x="1477" y="136"/>
                  </a:moveTo>
                  <a:cubicBezTo>
                    <a:pt x="1476" y="134"/>
                    <a:pt x="1475" y="132"/>
                    <a:pt x="1475" y="130"/>
                  </a:cubicBezTo>
                  <a:cubicBezTo>
                    <a:pt x="1475" y="127"/>
                    <a:pt x="1475" y="123"/>
                    <a:pt x="1476" y="120"/>
                  </a:cubicBezTo>
                  <a:cubicBezTo>
                    <a:pt x="1477" y="123"/>
                    <a:pt x="1478" y="127"/>
                    <a:pt x="1479" y="130"/>
                  </a:cubicBezTo>
                  <a:cubicBezTo>
                    <a:pt x="1478" y="132"/>
                    <a:pt x="1477" y="134"/>
                    <a:pt x="1477" y="136"/>
                  </a:cubicBezTo>
                  <a:close/>
                  <a:moveTo>
                    <a:pt x="1483" y="150"/>
                  </a:moveTo>
                  <a:cubicBezTo>
                    <a:pt x="1483" y="149"/>
                    <a:pt x="1482" y="147"/>
                    <a:pt x="1481" y="146"/>
                  </a:cubicBezTo>
                  <a:cubicBezTo>
                    <a:pt x="1482" y="145"/>
                    <a:pt x="1482" y="145"/>
                    <a:pt x="1482" y="144"/>
                  </a:cubicBezTo>
                  <a:cubicBezTo>
                    <a:pt x="1483" y="146"/>
                    <a:pt x="1483" y="147"/>
                    <a:pt x="1484" y="149"/>
                  </a:cubicBezTo>
                  <a:cubicBezTo>
                    <a:pt x="1484" y="149"/>
                    <a:pt x="1483" y="149"/>
                    <a:pt x="1483" y="150"/>
                  </a:cubicBezTo>
                  <a:close/>
                  <a:moveTo>
                    <a:pt x="1481" y="122"/>
                  </a:moveTo>
                  <a:cubicBezTo>
                    <a:pt x="1480" y="118"/>
                    <a:pt x="1478" y="115"/>
                    <a:pt x="1477" y="111"/>
                  </a:cubicBezTo>
                  <a:cubicBezTo>
                    <a:pt x="1478" y="101"/>
                    <a:pt x="1480" y="90"/>
                    <a:pt x="1484" y="81"/>
                  </a:cubicBezTo>
                  <a:cubicBezTo>
                    <a:pt x="1487" y="86"/>
                    <a:pt x="1490" y="91"/>
                    <a:pt x="1492" y="97"/>
                  </a:cubicBezTo>
                  <a:cubicBezTo>
                    <a:pt x="1490" y="101"/>
                    <a:pt x="1488" y="105"/>
                    <a:pt x="1486" y="109"/>
                  </a:cubicBezTo>
                  <a:cubicBezTo>
                    <a:pt x="1484" y="102"/>
                    <a:pt x="1483" y="96"/>
                    <a:pt x="1481" y="91"/>
                  </a:cubicBezTo>
                  <a:cubicBezTo>
                    <a:pt x="1482" y="99"/>
                    <a:pt x="1483" y="106"/>
                    <a:pt x="1484" y="114"/>
                  </a:cubicBezTo>
                  <a:cubicBezTo>
                    <a:pt x="1483" y="117"/>
                    <a:pt x="1482" y="119"/>
                    <a:pt x="1481" y="122"/>
                  </a:cubicBezTo>
                  <a:close/>
                  <a:moveTo>
                    <a:pt x="1488" y="141"/>
                  </a:moveTo>
                  <a:cubicBezTo>
                    <a:pt x="1487" y="138"/>
                    <a:pt x="1486" y="135"/>
                    <a:pt x="1485" y="131"/>
                  </a:cubicBezTo>
                  <a:cubicBezTo>
                    <a:pt x="1485" y="129"/>
                    <a:pt x="1486" y="127"/>
                    <a:pt x="1486" y="124"/>
                  </a:cubicBezTo>
                  <a:cubicBezTo>
                    <a:pt x="1487" y="130"/>
                    <a:pt x="1488" y="135"/>
                    <a:pt x="1489" y="140"/>
                  </a:cubicBezTo>
                  <a:cubicBezTo>
                    <a:pt x="1489" y="140"/>
                    <a:pt x="1489" y="141"/>
                    <a:pt x="1488" y="141"/>
                  </a:cubicBezTo>
                  <a:close/>
                  <a:moveTo>
                    <a:pt x="1491" y="150"/>
                  </a:moveTo>
                  <a:cubicBezTo>
                    <a:pt x="1491" y="150"/>
                    <a:pt x="1491" y="149"/>
                    <a:pt x="1491" y="149"/>
                  </a:cubicBezTo>
                  <a:cubicBezTo>
                    <a:pt x="1491" y="149"/>
                    <a:pt x="1491" y="149"/>
                    <a:pt x="1491" y="149"/>
                  </a:cubicBezTo>
                  <a:cubicBezTo>
                    <a:pt x="1491" y="149"/>
                    <a:pt x="1491" y="150"/>
                    <a:pt x="1491" y="150"/>
                  </a:cubicBezTo>
                  <a:cubicBezTo>
                    <a:pt x="1491" y="150"/>
                    <a:pt x="1491" y="150"/>
                    <a:pt x="1491" y="150"/>
                  </a:cubicBezTo>
                  <a:close/>
                  <a:moveTo>
                    <a:pt x="1488" y="114"/>
                  </a:moveTo>
                  <a:cubicBezTo>
                    <a:pt x="1489" y="108"/>
                    <a:pt x="1490" y="103"/>
                    <a:pt x="1492" y="97"/>
                  </a:cubicBezTo>
                  <a:cubicBezTo>
                    <a:pt x="1494" y="103"/>
                    <a:pt x="1496" y="110"/>
                    <a:pt x="1498" y="116"/>
                  </a:cubicBezTo>
                  <a:cubicBezTo>
                    <a:pt x="1496" y="121"/>
                    <a:pt x="1495" y="126"/>
                    <a:pt x="1493" y="131"/>
                  </a:cubicBezTo>
                  <a:cubicBezTo>
                    <a:pt x="1491" y="126"/>
                    <a:pt x="1489" y="120"/>
                    <a:pt x="1488" y="114"/>
                  </a:cubicBezTo>
                  <a:close/>
                  <a:moveTo>
                    <a:pt x="1495" y="139"/>
                  </a:moveTo>
                  <a:cubicBezTo>
                    <a:pt x="1497" y="134"/>
                    <a:pt x="1498" y="129"/>
                    <a:pt x="1499" y="124"/>
                  </a:cubicBezTo>
                  <a:cubicBezTo>
                    <a:pt x="1500" y="125"/>
                    <a:pt x="1500" y="126"/>
                    <a:pt x="1500" y="128"/>
                  </a:cubicBezTo>
                  <a:cubicBezTo>
                    <a:pt x="1499" y="132"/>
                    <a:pt x="1497" y="136"/>
                    <a:pt x="1496" y="141"/>
                  </a:cubicBezTo>
                  <a:cubicBezTo>
                    <a:pt x="1496" y="140"/>
                    <a:pt x="1495" y="139"/>
                    <a:pt x="1495" y="139"/>
                  </a:cubicBezTo>
                  <a:close/>
                  <a:moveTo>
                    <a:pt x="1500" y="150"/>
                  </a:moveTo>
                  <a:cubicBezTo>
                    <a:pt x="1500" y="150"/>
                    <a:pt x="1499" y="149"/>
                    <a:pt x="1499" y="149"/>
                  </a:cubicBezTo>
                  <a:cubicBezTo>
                    <a:pt x="1500" y="147"/>
                    <a:pt x="1501" y="144"/>
                    <a:pt x="1502" y="141"/>
                  </a:cubicBezTo>
                  <a:cubicBezTo>
                    <a:pt x="1502" y="143"/>
                    <a:pt x="1503" y="144"/>
                    <a:pt x="1503" y="145"/>
                  </a:cubicBezTo>
                  <a:cubicBezTo>
                    <a:pt x="1502" y="147"/>
                    <a:pt x="1501" y="149"/>
                    <a:pt x="1500" y="150"/>
                  </a:cubicBezTo>
                  <a:close/>
                  <a:moveTo>
                    <a:pt x="1511" y="126"/>
                  </a:moveTo>
                  <a:cubicBezTo>
                    <a:pt x="1510" y="123"/>
                    <a:pt x="1509" y="120"/>
                    <a:pt x="1508" y="117"/>
                  </a:cubicBezTo>
                  <a:cubicBezTo>
                    <a:pt x="1509" y="116"/>
                    <a:pt x="1509" y="115"/>
                    <a:pt x="1509" y="114"/>
                  </a:cubicBezTo>
                  <a:cubicBezTo>
                    <a:pt x="1509" y="116"/>
                    <a:pt x="1510" y="117"/>
                    <a:pt x="1510" y="119"/>
                  </a:cubicBezTo>
                  <a:cubicBezTo>
                    <a:pt x="1511" y="121"/>
                    <a:pt x="1511" y="123"/>
                    <a:pt x="1512" y="125"/>
                  </a:cubicBezTo>
                  <a:cubicBezTo>
                    <a:pt x="1512" y="125"/>
                    <a:pt x="1511" y="125"/>
                    <a:pt x="1511" y="126"/>
                  </a:cubicBezTo>
                  <a:close/>
                  <a:moveTo>
                    <a:pt x="1516" y="142"/>
                  </a:moveTo>
                  <a:cubicBezTo>
                    <a:pt x="1515" y="139"/>
                    <a:pt x="1515" y="136"/>
                    <a:pt x="1514" y="133"/>
                  </a:cubicBezTo>
                  <a:cubicBezTo>
                    <a:pt x="1514" y="133"/>
                    <a:pt x="1514" y="133"/>
                    <a:pt x="1514" y="133"/>
                  </a:cubicBezTo>
                  <a:cubicBezTo>
                    <a:pt x="1515" y="136"/>
                    <a:pt x="1516" y="138"/>
                    <a:pt x="1516" y="141"/>
                  </a:cubicBezTo>
                  <a:cubicBezTo>
                    <a:pt x="1516" y="141"/>
                    <a:pt x="1516" y="141"/>
                    <a:pt x="1516" y="142"/>
                  </a:cubicBezTo>
                  <a:close/>
                  <a:moveTo>
                    <a:pt x="1518" y="148"/>
                  </a:move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lose/>
                  <a:moveTo>
                    <a:pt x="1521" y="141"/>
                  </a:moveTo>
                  <a:cubicBezTo>
                    <a:pt x="1521" y="141"/>
                    <a:pt x="1521" y="141"/>
                    <a:pt x="1521" y="141"/>
                  </a:cubicBezTo>
                  <a:cubicBezTo>
                    <a:pt x="1522" y="137"/>
                    <a:pt x="1523" y="133"/>
                    <a:pt x="1525" y="129"/>
                  </a:cubicBezTo>
                  <a:cubicBezTo>
                    <a:pt x="1525" y="129"/>
                    <a:pt x="1525" y="130"/>
                    <a:pt x="1525" y="131"/>
                  </a:cubicBezTo>
                  <a:cubicBezTo>
                    <a:pt x="1523" y="135"/>
                    <a:pt x="1522" y="138"/>
                    <a:pt x="1521" y="141"/>
                  </a:cubicBezTo>
                  <a:close/>
                  <a:moveTo>
                    <a:pt x="1528" y="122"/>
                  </a:moveTo>
                  <a:cubicBezTo>
                    <a:pt x="1528" y="121"/>
                    <a:pt x="1527" y="120"/>
                    <a:pt x="1527" y="119"/>
                  </a:cubicBezTo>
                  <a:cubicBezTo>
                    <a:pt x="1528" y="117"/>
                    <a:pt x="1528" y="114"/>
                    <a:pt x="1529" y="111"/>
                  </a:cubicBezTo>
                  <a:cubicBezTo>
                    <a:pt x="1530" y="113"/>
                    <a:pt x="1530" y="115"/>
                    <a:pt x="1531" y="117"/>
                  </a:cubicBezTo>
                  <a:cubicBezTo>
                    <a:pt x="1530" y="119"/>
                    <a:pt x="1529" y="121"/>
                    <a:pt x="1528" y="122"/>
                  </a:cubicBezTo>
                  <a:close/>
                  <a:moveTo>
                    <a:pt x="1538" y="147"/>
                  </a:moveTo>
                  <a:cubicBezTo>
                    <a:pt x="1537" y="145"/>
                    <a:pt x="1537" y="144"/>
                    <a:pt x="1536" y="142"/>
                  </a:cubicBezTo>
                  <a:cubicBezTo>
                    <a:pt x="1536" y="140"/>
                    <a:pt x="1535" y="138"/>
                    <a:pt x="1534" y="136"/>
                  </a:cubicBezTo>
                  <a:cubicBezTo>
                    <a:pt x="1534" y="136"/>
                    <a:pt x="1534" y="135"/>
                    <a:pt x="1534" y="134"/>
                  </a:cubicBezTo>
                  <a:cubicBezTo>
                    <a:pt x="1535" y="137"/>
                    <a:pt x="1536" y="139"/>
                    <a:pt x="1536" y="142"/>
                  </a:cubicBezTo>
                  <a:cubicBezTo>
                    <a:pt x="1537" y="143"/>
                    <a:pt x="1537" y="145"/>
                    <a:pt x="1538" y="147"/>
                  </a:cubicBezTo>
                  <a:cubicBezTo>
                    <a:pt x="1538" y="147"/>
                    <a:pt x="1538" y="147"/>
                    <a:pt x="1538" y="147"/>
                  </a:cubicBezTo>
                  <a:close/>
                  <a:moveTo>
                    <a:pt x="1541" y="138"/>
                  </a:moveTo>
                  <a:cubicBezTo>
                    <a:pt x="1539" y="133"/>
                    <a:pt x="1538" y="128"/>
                    <a:pt x="1536" y="124"/>
                  </a:cubicBezTo>
                  <a:cubicBezTo>
                    <a:pt x="1536" y="121"/>
                    <a:pt x="1537" y="118"/>
                    <a:pt x="1537" y="116"/>
                  </a:cubicBezTo>
                  <a:cubicBezTo>
                    <a:pt x="1538" y="123"/>
                    <a:pt x="1540" y="129"/>
                    <a:pt x="1542" y="136"/>
                  </a:cubicBezTo>
                  <a:cubicBezTo>
                    <a:pt x="1542" y="137"/>
                    <a:pt x="1541" y="137"/>
                    <a:pt x="1541" y="138"/>
                  </a:cubicBezTo>
                  <a:close/>
                  <a:moveTo>
                    <a:pt x="1538" y="109"/>
                  </a:moveTo>
                  <a:cubicBezTo>
                    <a:pt x="1539" y="103"/>
                    <a:pt x="1541" y="97"/>
                    <a:pt x="1543" y="91"/>
                  </a:cubicBezTo>
                  <a:cubicBezTo>
                    <a:pt x="1545" y="96"/>
                    <a:pt x="1547" y="101"/>
                    <a:pt x="1549" y="106"/>
                  </a:cubicBezTo>
                  <a:cubicBezTo>
                    <a:pt x="1547" y="112"/>
                    <a:pt x="1546" y="120"/>
                    <a:pt x="1544" y="127"/>
                  </a:cubicBezTo>
                  <a:cubicBezTo>
                    <a:pt x="1542" y="121"/>
                    <a:pt x="1540" y="115"/>
                    <a:pt x="1538" y="109"/>
                  </a:cubicBezTo>
                  <a:close/>
                  <a:moveTo>
                    <a:pt x="1545" y="148"/>
                  </a:move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8"/>
                    <a:pt x="1545" y="148"/>
                  </a:cubicBezTo>
                  <a:close/>
                  <a:moveTo>
                    <a:pt x="1547" y="136"/>
                  </a:moveTo>
                  <a:cubicBezTo>
                    <a:pt x="1549" y="127"/>
                    <a:pt x="1549" y="118"/>
                    <a:pt x="1549" y="109"/>
                  </a:cubicBezTo>
                  <a:cubicBezTo>
                    <a:pt x="1551" y="115"/>
                    <a:pt x="1552" y="121"/>
                    <a:pt x="1553" y="127"/>
                  </a:cubicBezTo>
                  <a:cubicBezTo>
                    <a:pt x="1551" y="131"/>
                    <a:pt x="1550" y="135"/>
                    <a:pt x="1549" y="139"/>
                  </a:cubicBezTo>
                  <a:cubicBezTo>
                    <a:pt x="1548" y="138"/>
                    <a:pt x="1548" y="137"/>
                    <a:pt x="1547" y="136"/>
                  </a:cubicBezTo>
                  <a:close/>
                  <a:moveTo>
                    <a:pt x="1554" y="148"/>
                  </a:moveTo>
                  <a:cubicBezTo>
                    <a:pt x="1553" y="148"/>
                    <a:pt x="1553" y="147"/>
                    <a:pt x="1552" y="146"/>
                  </a:cubicBezTo>
                  <a:cubicBezTo>
                    <a:pt x="1553" y="143"/>
                    <a:pt x="1554" y="140"/>
                    <a:pt x="1554" y="137"/>
                  </a:cubicBezTo>
                  <a:cubicBezTo>
                    <a:pt x="1555" y="140"/>
                    <a:pt x="1555" y="142"/>
                    <a:pt x="1556" y="144"/>
                  </a:cubicBezTo>
                  <a:cubicBezTo>
                    <a:pt x="1555" y="146"/>
                    <a:pt x="1554" y="147"/>
                    <a:pt x="1554" y="148"/>
                  </a:cubicBezTo>
                  <a:close/>
                  <a:moveTo>
                    <a:pt x="1549" y="103"/>
                  </a:moveTo>
                  <a:cubicBezTo>
                    <a:pt x="1549" y="102"/>
                    <a:pt x="1549" y="102"/>
                    <a:pt x="1549" y="102"/>
                  </a:cubicBezTo>
                  <a:cubicBezTo>
                    <a:pt x="1549" y="102"/>
                    <a:pt x="1549" y="103"/>
                    <a:pt x="1549" y="103"/>
                  </a:cubicBezTo>
                  <a:cubicBezTo>
                    <a:pt x="1547" y="98"/>
                    <a:pt x="1545" y="94"/>
                    <a:pt x="1543" y="91"/>
                  </a:cubicBezTo>
                  <a:cubicBezTo>
                    <a:pt x="1544" y="87"/>
                    <a:pt x="1546" y="83"/>
                    <a:pt x="1548" y="80"/>
                  </a:cubicBezTo>
                  <a:cubicBezTo>
                    <a:pt x="1554" y="89"/>
                    <a:pt x="1558" y="99"/>
                    <a:pt x="1560" y="109"/>
                  </a:cubicBezTo>
                  <a:cubicBezTo>
                    <a:pt x="1559" y="112"/>
                    <a:pt x="1557" y="116"/>
                    <a:pt x="1556" y="119"/>
                  </a:cubicBezTo>
                  <a:cubicBezTo>
                    <a:pt x="1554" y="114"/>
                    <a:pt x="1552" y="108"/>
                    <a:pt x="1549" y="103"/>
                  </a:cubicBezTo>
                  <a:close/>
                  <a:moveTo>
                    <a:pt x="1557" y="123"/>
                  </a:moveTo>
                  <a:cubicBezTo>
                    <a:pt x="1558" y="118"/>
                    <a:pt x="1559" y="114"/>
                    <a:pt x="1560" y="110"/>
                  </a:cubicBezTo>
                  <a:cubicBezTo>
                    <a:pt x="1561" y="115"/>
                    <a:pt x="1562" y="120"/>
                    <a:pt x="1563" y="125"/>
                  </a:cubicBezTo>
                  <a:cubicBezTo>
                    <a:pt x="1562" y="128"/>
                    <a:pt x="1561" y="130"/>
                    <a:pt x="1560" y="133"/>
                  </a:cubicBezTo>
                  <a:cubicBezTo>
                    <a:pt x="1559" y="129"/>
                    <a:pt x="1558" y="126"/>
                    <a:pt x="1557" y="123"/>
                  </a:cubicBezTo>
                  <a:close/>
                  <a:moveTo>
                    <a:pt x="1564" y="150"/>
                  </a:moveTo>
                  <a:cubicBezTo>
                    <a:pt x="1564" y="147"/>
                    <a:pt x="1563" y="144"/>
                    <a:pt x="1562" y="140"/>
                  </a:cubicBezTo>
                  <a:cubicBezTo>
                    <a:pt x="1563" y="137"/>
                    <a:pt x="1563" y="135"/>
                    <a:pt x="1563" y="132"/>
                  </a:cubicBezTo>
                  <a:cubicBezTo>
                    <a:pt x="1564" y="137"/>
                    <a:pt x="1564" y="143"/>
                    <a:pt x="1564" y="149"/>
                  </a:cubicBezTo>
                  <a:cubicBezTo>
                    <a:pt x="1564" y="150"/>
                    <a:pt x="1564" y="150"/>
                    <a:pt x="1564" y="150"/>
                  </a:cubicBezTo>
                  <a:close/>
                  <a:moveTo>
                    <a:pt x="1593" y="152"/>
                  </a:moveTo>
                  <a:cubicBezTo>
                    <a:pt x="1593" y="148"/>
                    <a:pt x="1593" y="145"/>
                    <a:pt x="1592" y="141"/>
                  </a:cubicBezTo>
                  <a:cubicBezTo>
                    <a:pt x="1592" y="136"/>
                    <a:pt x="1593" y="131"/>
                    <a:pt x="1593" y="125"/>
                  </a:cubicBezTo>
                  <a:cubicBezTo>
                    <a:pt x="1593" y="134"/>
                    <a:pt x="1593" y="142"/>
                    <a:pt x="1593" y="151"/>
                  </a:cubicBezTo>
                  <a:cubicBezTo>
                    <a:pt x="1593" y="151"/>
                    <a:pt x="1593" y="151"/>
                    <a:pt x="1593" y="152"/>
                  </a:cubicBezTo>
                  <a:close/>
                  <a:moveTo>
                    <a:pt x="1659" y="128"/>
                  </a:moveTo>
                  <a:cubicBezTo>
                    <a:pt x="1659" y="132"/>
                    <a:pt x="1658" y="136"/>
                    <a:pt x="1657" y="140"/>
                  </a:cubicBezTo>
                  <a:cubicBezTo>
                    <a:pt x="1657" y="136"/>
                    <a:pt x="1656" y="133"/>
                    <a:pt x="1655" y="129"/>
                  </a:cubicBezTo>
                  <a:cubicBezTo>
                    <a:pt x="1655" y="126"/>
                    <a:pt x="1655" y="122"/>
                    <a:pt x="1655" y="119"/>
                  </a:cubicBezTo>
                  <a:cubicBezTo>
                    <a:pt x="1655" y="112"/>
                    <a:pt x="1656" y="104"/>
                    <a:pt x="1657" y="97"/>
                  </a:cubicBezTo>
                  <a:cubicBezTo>
                    <a:pt x="1658" y="102"/>
                    <a:pt x="1659" y="107"/>
                    <a:pt x="1659" y="111"/>
                  </a:cubicBezTo>
                  <a:cubicBezTo>
                    <a:pt x="1659" y="122"/>
                    <a:pt x="1659" y="122"/>
                    <a:pt x="1659" y="122"/>
                  </a:cubicBezTo>
                  <a:cubicBezTo>
                    <a:pt x="1659" y="124"/>
                    <a:pt x="1659" y="126"/>
                    <a:pt x="1659" y="128"/>
                  </a:cubicBezTo>
                  <a:close/>
                  <a:moveTo>
                    <a:pt x="1667" y="151"/>
                  </a:moveTo>
                  <a:cubicBezTo>
                    <a:pt x="1667" y="152"/>
                    <a:pt x="1667" y="152"/>
                    <a:pt x="1667" y="152"/>
                  </a:cubicBezTo>
                  <a:cubicBezTo>
                    <a:pt x="1667" y="152"/>
                    <a:pt x="1667" y="152"/>
                    <a:pt x="1667" y="152"/>
                  </a:cubicBezTo>
                  <a:cubicBezTo>
                    <a:pt x="1667" y="136"/>
                    <a:pt x="1667" y="123"/>
                    <a:pt x="1666" y="109"/>
                  </a:cubicBezTo>
                  <a:cubicBezTo>
                    <a:pt x="1666" y="104"/>
                    <a:pt x="1667" y="99"/>
                    <a:pt x="1668" y="93"/>
                  </a:cubicBezTo>
                  <a:cubicBezTo>
                    <a:pt x="1669" y="99"/>
                    <a:pt x="1669" y="105"/>
                    <a:pt x="1669" y="110"/>
                  </a:cubicBezTo>
                  <a:cubicBezTo>
                    <a:pt x="1669" y="124"/>
                    <a:pt x="1667" y="138"/>
                    <a:pt x="1667" y="151"/>
                  </a:cubicBezTo>
                  <a:close/>
                  <a:moveTo>
                    <a:pt x="1694" y="110"/>
                  </a:moveTo>
                  <a:cubicBezTo>
                    <a:pt x="1694" y="109"/>
                    <a:pt x="1694" y="107"/>
                    <a:pt x="1694" y="106"/>
                  </a:cubicBezTo>
                  <a:cubicBezTo>
                    <a:pt x="1694" y="110"/>
                    <a:pt x="1695" y="113"/>
                    <a:pt x="1695" y="116"/>
                  </a:cubicBezTo>
                  <a:cubicBezTo>
                    <a:pt x="1694" y="114"/>
                    <a:pt x="1694" y="112"/>
                    <a:pt x="1694" y="110"/>
                  </a:cubicBezTo>
                  <a:close/>
                  <a:moveTo>
                    <a:pt x="1720" y="120"/>
                  </a:moveTo>
                  <a:cubicBezTo>
                    <a:pt x="1718" y="114"/>
                    <a:pt x="1717" y="109"/>
                    <a:pt x="1717" y="104"/>
                  </a:cubicBezTo>
                  <a:cubicBezTo>
                    <a:pt x="1717" y="102"/>
                    <a:pt x="1717" y="98"/>
                    <a:pt x="1719" y="93"/>
                  </a:cubicBezTo>
                  <a:cubicBezTo>
                    <a:pt x="1720" y="100"/>
                    <a:pt x="1720" y="107"/>
                    <a:pt x="1720" y="112"/>
                  </a:cubicBezTo>
                  <a:cubicBezTo>
                    <a:pt x="1720" y="115"/>
                    <a:pt x="1720" y="117"/>
                    <a:pt x="1720" y="120"/>
                  </a:cubicBezTo>
                  <a:close/>
                  <a:moveTo>
                    <a:pt x="1730" y="145"/>
                  </a:moveTo>
                  <a:cubicBezTo>
                    <a:pt x="1730" y="145"/>
                    <a:pt x="1730" y="145"/>
                    <a:pt x="1730" y="144"/>
                  </a:cubicBezTo>
                  <a:cubicBezTo>
                    <a:pt x="1730" y="139"/>
                    <a:pt x="1730" y="134"/>
                    <a:pt x="1730" y="129"/>
                  </a:cubicBezTo>
                  <a:cubicBezTo>
                    <a:pt x="1731" y="132"/>
                    <a:pt x="1731" y="135"/>
                    <a:pt x="1731" y="137"/>
                  </a:cubicBezTo>
                  <a:cubicBezTo>
                    <a:pt x="1731" y="140"/>
                    <a:pt x="1730" y="142"/>
                    <a:pt x="1730" y="145"/>
                  </a:cubicBezTo>
                  <a:close/>
                  <a:moveTo>
                    <a:pt x="1741" y="145"/>
                  </a:moveTo>
                  <a:cubicBezTo>
                    <a:pt x="1741" y="144"/>
                    <a:pt x="1740" y="143"/>
                    <a:pt x="1740" y="143"/>
                  </a:cubicBezTo>
                  <a:cubicBezTo>
                    <a:pt x="1740" y="142"/>
                    <a:pt x="1740" y="141"/>
                    <a:pt x="1740" y="140"/>
                  </a:cubicBezTo>
                  <a:cubicBezTo>
                    <a:pt x="1741" y="141"/>
                    <a:pt x="1741" y="142"/>
                    <a:pt x="1741" y="143"/>
                  </a:cubicBezTo>
                  <a:cubicBezTo>
                    <a:pt x="1741" y="143"/>
                    <a:pt x="1741" y="144"/>
                    <a:pt x="1741" y="145"/>
                  </a:cubicBezTo>
                  <a:close/>
                  <a:moveTo>
                    <a:pt x="1742" y="138"/>
                  </a:moveTo>
                  <a:cubicBezTo>
                    <a:pt x="1742" y="136"/>
                    <a:pt x="1741" y="135"/>
                    <a:pt x="1741" y="133"/>
                  </a:cubicBezTo>
                  <a:cubicBezTo>
                    <a:pt x="1741" y="129"/>
                    <a:pt x="1741" y="124"/>
                    <a:pt x="1741" y="119"/>
                  </a:cubicBezTo>
                  <a:cubicBezTo>
                    <a:pt x="1742" y="124"/>
                    <a:pt x="1743" y="129"/>
                    <a:pt x="1744" y="134"/>
                  </a:cubicBezTo>
                  <a:cubicBezTo>
                    <a:pt x="1743" y="135"/>
                    <a:pt x="1743" y="137"/>
                    <a:pt x="1742" y="138"/>
                  </a:cubicBezTo>
                  <a:close/>
                  <a:moveTo>
                    <a:pt x="1747" y="154"/>
                  </a:moveTo>
                  <a:cubicBezTo>
                    <a:pt x="1747" y="153"/>
                    <a:pt x="1747" y="152"/>
                    <a:pt x="1747" y="151"/>
                  </a:cubicBezTo>
                  <a:cubicBezTo>
                    <a:pt x="1747" y="151"/>
                    <a:pt x="1747" y="150"/>
                    <a:pt x="1747" y="150"/>
                  </a:cubicBezTo>
                  <a:cubicBezTo>
                    <a:pt x="1747" y="151"/>
                    <a:pt x="1747" y="152"/>
                    <a:pt x="1747" y="154"/>
                  </a:cubicBezTo>
                  <a:cubicBezTo>
                    <a:pt x="1747" y="154"/>
                    <a:pt x="1747" y="154"/>
                    <a:pt x="1747" y="154"/>
                  </a:cubicBezTo>
                  <a:close/>
                  <a:moveTo>
                    <a:pt x="1753" y="139"/>
                  </a:moveTo>
                  <a:cubicBezTo>
                    <a:pt x="1752" y="136"/>
                    <a:pt x="1751" y="134"/>
                    <a:pt x="1751" y="132"/>
                  </a:cubicBezTo>
                  <a:cubicBezTo>
                    <a:pt x="1751" y="129"/>
                    <a:pt x="1752" y="127"/>
                    <a:pt x="1753" y="125"/>
                  </a:cubicBezTo>
                  <a:cubicBezTo>
                    <a:pt x="1753" y="128"/>
                    <a:pt x="1754" y="131"/>
                    <a:pt x="1755" y="134"/>
                  </a:cubicBezTo>
                  <a:cubicBezTo>
                    <a:pt x="1754" y="136"/>
                    <a:pt x="1754" y="137"/>
                    <a:pt x="1753" y="139"/>
                  </a:cubicBezTo>
                  <a:close/>
                  <a:moveTo>
                    <a:pt x="1773" y="114"/>
                  </a:moveTo>
                  <a:cubicBezTo>
                    <a:pt x="1772" y="108"/>
                    <a:pt x="1771" y="101"/>
                    <a:pt x="1771" y="95"/>
                  </a:cubicBezTo>
                  <a:cubicBezTo>
                    <a:pt x="1771" y="88"/>
                    <a:pt x="1772" y="81"/>
                    <a:pt x="1773" y="75"/>
                  </a:cubicBezTo>
                  <a:cubicBezTo>
                    <a:pt x="1775" y="81"/>
                    <a:pt x="1775" y="88"/>
                    <a:pt x="1775" y="95"/>
                  </a:cubicBezTo>
                  <a:cubicBezTo>
                    <a:pt x="1775" y="101"/>
                    <a:pt x="1774" y="108"/>
                    <a:pt x="1773" y="114"/>
                  </a:cubicBezTo>
                  <a:close/>
                  <a:moveTo>
                    <a:pt x="1793" y="139"/>
                  </a:moveTo>
                  <a:cubicBezTo>
                    <a:pt x="1793" y="137"/>
                    <a:pt x="1792" y="136"/>
                    <a:pt x="1792" y="134"/>
                  </a:cubicBezTo>
                  <a:cubicBezTo>
                    <a:pt x="1792" y="131"/>
                    <a:pt x="1793" y="128"/>
                    <a:pt x="1794" y="125"/>
                  </a:cubicBezTo>
                  <a:cubicBezTo>
                    <a:pt x="1794" y="127"/>
                    <a:pt x="1795" y="129"/>
                    <a:pt x="1796" y="132"/>
                  </a:cubicBezTo>
                  <a:cubicBezTo>
                    <a:pt x="1795" y="134"/>
                    <a:pt x="1794" y="136"/>
                    <a:pt x="1793" y="139"/>
                  </a:cubicBezTo>
                  <a:close/>
                  <a:moveTo>
                    <a:pt x="1799" y="154"/>
                  </a:moveTo>
                  <a:cubicBezTo>
                    <a:pt x="1799" y="154"/>
                    <a:pt x="1799" y="154"/>
                    <a:pt x="1799" y="154"/>
                  </a:cubicBezTo>
                  <a:cubicBezTo>
                    <a:pt x="1799" y="152"/>
                    <a:pt x="1799" y="151"/>
                    <a:pt x="1800" y="150"/>
                  </a:cubicBezTo>
                  <a:cubicBezTo>
                    <a:pt x="1800" y="150"/>
                    <a:pt x="1800" y="151"/>
                    <a:pt x="1800" y="151"/>
                  </a:cubicBezTo>
                  <a:cubicBezTo>
                    <a:pt x="1799" y="152"/>
                    <a:pt x="1799" y="153"/>
                    <a:pt x="1799" y="154"/>
                  </a:cubicBezTo>
                  <a:close/>
                  <a:moveTo>
                    <a:pt x="1805" y="119"/>
                  </a:move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19"/>
                  </a:cubicBezTo>
                  <a:close/>
                  <a:moveTo>
                    <a:pt x="1804" y="138"/>
                  </a:moveTo>
                  <a:cubicBezTo>
                    <a:pt x="1804" y="137"/>
                    <a:pt x="1803" y="135"/>
                    <a:pt x="1803" y="134"/>
                  </a:cubicBezTo>
                  <a:cubicBezTo>
                    <a:pt x="1803" y="134"/>
                    <a:pt x="1803" y="134"/>
                    <a:pt x="1803" y="133"/>
                  </a:cubicBezTo>
                  <a:cubicBezTo>
                    <a:pt x="1803" y="134"/>
                    <a:pt x="1804" y="135"/>
                    <a:pt x="1804" y="137"/>
                  </a:cubicBezTo>
                  <a:cubicBezTo>
                    <a:pt x="1804" y="137"/>
                    <a:pt x="1804" y="138"/>
                    <a:pt x="1804" y="138"/>
                  </a:cubicBezTo>
                  <a:close/>
                  <a:moveTo>
                    <a:pt x="1803" y="133"/>
                  </a:moveTo>
                  <a:cubicBezTo>
                    <a:pt x="1803" y="132"/>
                    <a:pt x="1803" y="131"/>
                    <a:pt x="1803" y="130"/>
                  </a:cubicBezTo>
                  <a:cubicBezTo>
                    <a:pt x="1804" y="131"/>
                    <a:pt x="1805" y="133"/>
                    <a:pt x="1805" y="134"/>
                  </a:cubicBezTo>
                  <a:cubicBezTo>
                    <a:pt x="1805" y="135"/>
                    <a:pt x="1805" y="135"/>
                    <a:pt x="1805" y="136"/>
                  </a:cubicBezTo>
                  <a:cubicBezTo>
                    <a:pt x="1804" y="134"/>
                    <a:pt x="1803" y="133"/>
                    <a:pt x="1803" y="133"/>
                  </a:cubicBezTo>
                  <a:close/>
                  <a:moveTo>
                    <a:pt x="1806" y="145"/>
                  </a:moveTo>
                  <a:cubicBezTo>
                    <a:pt x="1805" y="144"/>
                    <a:pt x="1805" y="143"/>
                    <a:pt x="1805" y="143"/>
                  </a:cubicBezTo>
                  <a:cubicBezTo>
                    <a:pt x="1805" y="142"/>
                    <a:pt x="1806" y="141"/>
                    <a:pt x="1806" y="140"/>
                  </a:cubicBezTo>
                  <a:cubicBezTo>
                    <a:pt x="1806" y="140"/>
                    <a:pt x="1806" y="140"/>
                    <a:pt x="1806" y="140"/>
                  </a:cubicBezTo>
                  <a:cubicBezTo>
                    <a:pt x="1806" y="141"/>
                    <a:pt x="1806" y="142"/>
                    <a:pt x="1806" y="143"/>
                  </a:cubicBezTo>
                  <a:cubicBezTo>
                    <a:pt x="1806" y="143"/>
                    <a:pt x="1806" y="144"/>
                    <a:pt x="1806" y="145"/>
                  </a:cubicBezTo>
                  <a:close/>
                  <a:moveTo>
                    <a:pt x="1816" y="134"/>
                  </a:moveTo>
                  <a:cubicBezTo>
                    <a:pt x="1816" y="134"/>
                    <a:pt x="1816" y="133"/>
                    <a:pt x="1816" y="133"/>
                  </a:cubicBezTo>
                  <a:cubicBezTo>
                    <a:pt x="1816" y="132"/>
                    <a:pt x="1816" y="130"/>
                    <a:pt x="1816" y="129"/>
                  </a:cubicBezTo>
                  <a:cubicBezTo>
                    <a:pt x="1816" y="130"/>
                    <a:pt x="1816" y="132"/>
                    <a:pt x="1816" y="134"/>
                  </a:cubicBezTo>
                  <a:close/>
                  <a:moveTo>
                    <a:pt x="1826" y="120"/>
                  </a:moveTo>
                  <a:cubicBezTo>
                    <a:pt x="1826" y="117"/>
                    <a:pt x="1826" y="115"/>
                    <a:pt x="1826" y="112"/>
                  </a:cubicBezTo>
                  <a:cubicBezTo>
                    <a:pt x="1826" y="111"/>
                    <a:pt x="1826" y="111"/>
                    <a:pt x="1826" y="110"/>
                  </a:cubicBezTo>
                  <a:cubicBezTo>
                    <a:pt x="1826" y="113"/>
                    <a:pt x="1826" y="116"/>
                    <a:pt x="1827" y="119"/>
                  </a:cubicBezTo>
                  <a:cubicBezTo>
                    <a:pt x="1827" y="119"/>
                    <a:pt x="1826" y="120"/>
                    <a:pt x="1826" y="120"/>
                  </a:cubicBezTo>
                  <a:close/>
                  <a:moveTo>
                    <a:pt x="1828" y="115"/>
                  </a:moveTo>
                  <a:cubicBezTo>
                    <a:pt x="1827" y="112"/>
                    <a:pt x="1827" y="108"/>
                    <a:pt x="1826" y="104"/>
                  </a:cubicBezTo>
                  <a:cubicBezTo>
                    <a:pt x="1827" y="101"/>
                    <a:pt x="1827" y="97"/>
                    <a:pt x="1828" y="93"/>
                  </a:cubicBezTo>
                  <a:cubicBezTo>
                    <a:pt x="1829" y="98"/>
                    <a:pt x="1829" y="102"/>
                    <a:pt x="1829" y="104"/>
                  </a:cubicBezTo>
                  <a:cubicBezTo>
                    <a:pt x="1829" y="108"/>
                    <a:pt x="1829" y="111"/>
                    <a:pt x="1828" y="115"/>
                  </a:cubicBezTo>
                  <a:close/>
                  <a:moveTo>
                    <a:pt x="1833" y="102"/>
                  </a:moveTo>
                  <a:cubicBezTo>
                    <a:pt x="1833" y="102"/>
                    <a:pt x="1833" y="102"/>
                    <a:pt x="1832" y="103"/>
                  </a:cubicBezTo>
                  <a:cubicBezTo>
                    <a:pt x="1832" y="99"/>
                    <a:pt x="1831" y="94"/>
                    <a:pt x="1828" y="90"/>
                  </a:cubicBezTo>
                  <a:cubicBezTo>
                    <a:pt x="1830" y="84"/>
                    <a:pt x="1832" y="78"/>
                    <a:pt x="1834" y="73"/>
                  </a:cubicBezTo>
                  <a:cubicBezTo>
                    <a:pt x="1833" y="83"/>
                    <a:pt x="1833" y="93"/>
                    <a:pt x="1833" y="102"/>
                  </a:cubicBezTo>
                  <a:close/>
                  <a:moveTo>
                    <a:pt x="1839" y="111"/>
                  </a:moveTo>
                  <a:cubicBezTo>
                    <a:pt x="1839" y="111"/>
                    <a:pt x="1839" y="111"/>
                    <a:pt x="1839" y="111"/>
                  </a:cubicBezTo>
                  <a:cubicBezTo>
                    <a:pt x="1839" y="114"/>
                    <a:pt x="1838" y="116"/>
                    <a:pt x="1838" y="119"/>
                  </a:cubicBezTo>
                  <a:cubicBezTo>
                    <a:pt x="1837" y="114"/>
                    <a:pt x="1837" y="108"/>
                    <a:pt x="1837" y="103"/>
                  </a:cubicBezTo>
                  <a:cubicBezTo>
                    <a:pt x="1837" y="97"/>
                    <a:pt x="1837" y="91"/>
                    <a:pt x="1839" y="85"/>
                  </a:cubicBezTo>
                  <a:cubicBezTo>
                    <a:pt x="1838" y="87"/>
                    <a:pt x="1837" y="89"/>
                    <a:pt x="1836" y="92"/>
                  </a:cubicBezTo>
                  <a:cubicBezTo>
                    <a:pt x="1836" y="87"/>
                    <a:pt x="1836" y="82"/>
                    <a:pt x="1837" y="77"/>
                  </a:cubicBezTo>
                  <a:cubicBezTo>
                    <a:pt x="1839" y="83"/>
                    <a:pt x="1840" y="90"/>
                    <a:pt x="1840" y="96"/>
                  </a:cubicBezTo>
                  <a:cubicBezTo>
                    <a:pt x="1840" y="101"/>
                    <a:pt x="1840" y="106"/>
                    <a:pt x="1839" y="111"/>
                  </a:cubicBezTo>
                  <a:close/>
                  <a:moveTo>
                    <a:pt x="1845" y="127"/>
                  </a:moveTo>
                  <a:cubicBezTo>
                    <a:pt x="1844" y="132"/>
                    <a:pt x="1844" y="134"/>
                    <a:pt x="1844" y="134"/>
                  </a:cubicBezTo>
                  <a:cubicBezTo>
                    <a:pt x="1844" y="129"/>
                    <a:pt x="1845" y="125"/>
                    <a:pt x="1845" y="120"/>
                  </a:cubicBezTo>
                  <a:cubicBezTo>
                    <a:pt x="1845" y="123"/>
                    <a:pt x="1845" y="125"/>
                    <a:pt x="1845" y="127"/>
                  </a:cubicBezTo>
                  <a:close/>
                  <a:moveTo>
                    <a:pt x="1877" y="92"/>
                  </a:moveTo>
                  <a:cubicBezTo>
                    <a:pt x="1877" y="91"/>
                    <a:pt x="1877" y="90"/>
                    <a:pt x="1877" y="89"/>
                  </a:cubicBezTo>
                  <a:cubicBezTo>
                    <a:pt x="1877" y="89"/>
                    <a:pt x="1877" y="90"/>
                    <a:pt x="1877" y="91"/>
                  </a:cubicBezTo>
                  <a:cubicBezTo>
                    <a:pt x="1877" y="91"/>
                    <a:pt x="1877" y="92"/>
                    <a:pt x="1877" y="92"/>
                  </a:cubicBezTo>
                  <a:close/>
                  <a:moveTo>
                    <a:pt x="1880" y="130"/>
                  </a:moveTo>
                  <a:cubicBezTo>
                    <a:pt x="1879" y="132"/>
                    <a:pt x="1879" y="134"/>
                    <a:pt x="1879" y="136"/>
                  </a:cubicBezTo>
                  <a:cubicBezTo>
                    <a:pt x="1878" y="127"/>
                    <a:pt x="1877" y="119"/>
                    <a:pt x="1877" y="110"/>
                  </a:cubicBezTo>
                  <a:cubicBezTo>
                    <a:pt x="1877" y="105"/>
                    <a:pt x="1877" y="99"/>
                    <a:pt x="1878" y="93"/>
                  </a:cubicBezTo>
                  <a:cubicBezTo>
                    <a:pt x="1879" y="99"/>
                    <a:pt x="1880" y="104"/>
                    <a:pt x="1881" y="109"/>
                  </a:cubicBezTo>
                  <a:cubicBezTo>
                    <a:pt x="1880" y="116"/>
                    <a:pt x="1880" y="123"/>
                    <a:pt x="1880" y="130"/>
                  </a:cubicBezTo>
                  <a:close/>
                  <a:moveTo>
                    <a:pt x="1889" y="140"/>
                  </a:moveTo>
                  <a:cubicBezTo>
                    <a:pt x="1889" y="140"/>
                    <a:pt x="1889" y="139"/>
                    <a:pt x="1889" y="139"/>
                  </a:cubicBezTo>
                  <a:cubicBezTo>
                    <a:pt x="1890" y="100"/>
                    <a:pt x="1890" y="100"/>
                    <a:pt x="1890" y="100"/>
                  </a:cubicBezTo>
                  <a:cubicBezTo>
                    <a:pt x="1890" y="106"/>
                    <a:pt x="1891" y="113"/>
                    <a:pt x="1891" y="119"/>
                  </a:cubicBezTo>
                  <a:cubicBezTo>
                    <a:pt x="1891" y="122"/>
                    <a:pt x="1891" y="126"/>
                    <a:pt x="1891" y="129"/>
                  </a:cubicBezTo>
                  <a:cubicBezTo>
                    <a:pt x="1890" y="133"/>
                    <a:pt x="1890" y="136"/>
                    <a:pt x="1889" y="140"/>
                  </a:cubicBezTo>
                  <a:close/>
                  <a:moveTo>
                    <a:pt x="1910" y="105"/>
                  </a:moveTo>
                  <a:cubicBezTo>
                    <a:pt x="1910" y="104"/>
                    <a:pt x="1910" y="102"/>
                    <a:pt x="1910" y="101"/>
                  </a:cubicBezTo>
                  <a:cubicBezTo>
                    <a:pt x="1910" y="102"/>
                    <a:pt x="1911" y="103"/>
                    <a:pt x="1911" y="103"/>
                  </a:cubicBezTo>
                  <a:cubicBezTo>
                    <a:pt x="1910" y="104"/>
                    <a:pt x="1910" y="105"/>
                    <a:pt x="1910" y="105"/>
                  </a:cubicBezTo>
                  <a:close/>
                  <a:moveTo>
                    <a:pt x="1933" y="101"/>
                  </a:moveTo>
                  <a:cubicBezTo>
                    <a:pt x="1932" y="101"/>
                    <a:pt x="1932" y="101"/>
                    <a:pt x="1932" y="100"/>
                  </a:cubicBezTo>
                  <a:cubicBezTo>
                    <a:pt x="1932" y="101"/>
                    <a:pt x="1932" y="101"/>
                    <a:pt x="1933" y="101"/>
                  </a:cubicBezTo>
                  <a:cubicBezTo>
                    <a:pt x="1932" y="111"/>
                    <a:pt x="1931" y="119"/>
                    <a:pt x="1930" y="126"/>
                  </a:cubicBezTo>
                  <a:cubicBezTo>
                    <a:pt x="1929" y="122"/>
                    <a:pt x="1929" y="118"/>
                    <a:pt x="1928" y="114"/>
                  </a:cubicBezTo>
                  <a:cubicBezTo>
                    <a:pt x="1928" y="109"/>
                    <a:pt x="1928" y="103"/>
                    <a:pt x="1928" y="98"/>
                  </a:cubicBezTo>
                  <a:cubicBezTo>
                    <a:pt x="1929" y="92"/>
                    <a:pt x="1931" y="87"/>
                    <a:pt x="1934" y="82"/>
                  </a:cubicBezTo>
                  <a:cubicBezTo>
                    <a:pt x="1933" y="89"/>
                    <a:pt x="1933" y="95"/>
                    <a:pt x="1933" y="101"/>
                  </a:cubicBezTo>
                  <a:close/>
                  <a:moveTo>
                    <a:pt x="1942" y="117"/>
                  </a:moveTo>
                  <a:cubicBezTo>
                    <a:pt x="1942" y="114"/>
                    <a:pt x="1942" y="110"/>
                    <a:pt x="1942" y="106"/>
                  </a:cubicBezTo>
                  <a:cubicBezTo>
                    <a:pt x="1942" y="99"/>
                    <a:pt x="1942" y="90"/>
                    <a:pt x="1945" y="83"/>
                  </a:cubicBezTo>
                  <a:cubicBezTo>
                    <a:pt x="1944" y="95"/>
                    <a:pt x="1943" y="107"/>
                    <a:pt x="1942" y="117"/>
                  </a:cubicBezTo>
                  <a:close/>
                  <a:moveTo>
                    <a:pt x="1948" y="108"/>
                  </a:moveTo>
                  <a:cubicBezTo>
                    <a:pt x="1948" y="106"/>
                    <a:pt x="1948" y="104"/>
                    <a:pt x="1949" y="102"/>
                  </a:cubicBezTo>
                  <a:cubicBezTo>
                    <a:pt x="1949" y="102"/>
                    <a:pt x="1949" y="102"/>
                    <a:pt x="1949" y="103"/>
                  </a:cubicBezTo>
                  <a:cubicBezTo>
                    <a:pt x="1949" y="104"/>
                    <a:pt x="1948" y="106"/>
                    <a:pt x="1948" y="108"/>
                  </a:cubicBezTo>
                  <a:close/>
                  <a:moveTo>
                    <a:pt x="1954" y="111"/>
                  </a:moveTo>
                  <a:cubicBezTo>
                    <a:pt x="1954" y="103"/>
                    <a:pt x="1957" y="95"/>
                    <a:pt x="1959" y="87"/>
                  </a:cubicBezTo>
                  <a:cubicBezTo>
                    <a:pt x="1958" y="95"/>
                    <a:pt x="1956" y="104"/>
                    <a:pt x="1954" y="113"/>
                  </a:cubicBezTo>
                  <a:cubicBezTo>
                    <a:pt x="1954" y="112"/>
                    <a:pt x="1954" y="112"/>
                    <a:pt x="1954" y="111"/>
                  </a:cubicBezTo>
                  <a:close/>
                  <a:moveTo>
                    <a:pt x="1978" y="110"/>
                  </a:moveTo>
                  <a:cubicBezTo>
                    <a:pt x="1978" y="109"/>
                    <a:pt x="1978" y="108"/>
                    <a:pt x="1978" y="107"/>
                  </a:cubicBezTo>
                  <a:cubicBezTo>
                    <a:pt x="1978" y="107"/>
                    <a:pt x="1978" y="108"/>
                    <a:pt x="1978" y="108"/>
                  </a:cubicBezTo>
                  <a:cubicBezTo>
                    <a:pt x="1978" y="109"/>
                    <a:pt x="1978" y="109"/>
                    <a:pt x="1978" y="110"/>
                  </a:cubicBezTo>
                  <a:close/>
                  <a:moveTo>
                    <a:pt x="1989" y="125"/>
                  </a:moveTo>
                  <a:cubicBezTo>
                    <a:pt x="1989" y="123"/>
                    <a:pt x="1989" y="122"/>
                    <a:pt x="1989" y="120"/>
                  </a:cubicBezTo>
                  <a:cubicBezTo>
                    <a:pt x="1989" y="121"/>
                    <a:pt x="1989" y="122"/>
                    <a:pt x="1989" y="123"/>
                  </a:cubicBezTo>
                  <a:cubicBezTo>
                    <a:pt x="1989" y="123"/>
                    <a:pt x="1989" y="124"/>
                    <a:pt x="1989" y="125"/>
                  </a:cubicBezTo>
                  <a:close/>
                  <a:moveTo>
                    <a:pt x="1992" y="115"/>
                  </a:moveTo>
                  <a:cubicBezTo>
                    <a:pt x="1991" y="117"/>
                    <a:pt x="1991" y="118"/>
                    <a:pt x="1990" y="119"/>
                  </a:cubicBezTo>
                  <a:cubicBezTo>
                    <a:pt x="1990" y="118"/>
                    <a:pt x="1989" y="116"/>
                    <a:pt x="1989" y="114"/>
                  </a:cubicBezTo>
                  <a:cubicBezTo>
                    <a:pt x="1989" y="110"/>
                    <a:pt x="1989" y="105"/>
                    <a:pt x="1989" y="100"/>
                  </a:cubicBezTo>
                  <a:cubicBezTo>
                    <a:pt x="1990" y="94"/>
                    <a:pt x="1993" y="89"/>
                    <a:pt x="1996" y="84"/>
                  </a:cubicBezTo>
                  <a:cubicBezTo>
                    <a:pt x="1995" y="93"/>
                    <a:pt x="1993" y="105"/>
                    <a:pt x="1992" y="115"/>
                  </a:cubicBezTo>
                  <a:close/>
                  <a:moveTo>
                    <a:pt x="1999" y="90"/>
                  </a:moveTo>
                  <a:cubicBezTo>
                    <a:pt x="1999" y="88"/>
                    <a:pt x="1998" y="84"/>
                    <a:pt x="1998" y="80"/>
                  </a:cubicBezTo>
                  <a:cubicBezTo>
                    <a:pt x="1998" y="80"/>
                    <a:pt x="1998" y="80"/>
                    <a:pt x="1998" y="80"/>
                  </a:cubicBezTo>
                  <a:cubicBezTo>
                    <a:pt x="1999" y="81"/>
                    <a:pt x="2000" y="83"/>
                    <a:pt x="2000" y="84"/>
                  </a:cubicBezTo>
                  <a:cubicBezTo>
                    <a:pt x="2000" y="88"/>
                    <a:pt x="1999" y="90"/>
                    <a:pt x="1999" y="90"/>
                  </a:cubicBezTo>
                  <a:close/>
                  <a:moveTo>
                    <a:pt x="2001" y="83"/>
                  </a:moveTo>
                  <a:cubicBezTo>
                    <a:pt x="2000" y="81"/>
                    <a:pt x="1999" y="80"/>
                    <a:pt x="1998" y="79"/>
                  </a:cubicBezTo>
                  <a:cubicBezTo>
                    <a:pt x="1999" y="78"/>
                    <a:pt x="2000" y="76"/>
                    <a:pt x="2002" y="75"/>
                  </a:cubicBezTo>
                  <a:cubicBezTo>
                    <a:pt x="2001" y="78"/>
                    <a:pt x="2001" y="81"/>
                    <a:pt x="2001" y="83"/>
                  </a:cubicBezTo>
                  <a:close/>
                  <a:moveTo>
                    <a:pt x="2007" y="104"/>
                  </a:moveTo>
                  <a:cubicBezTo>
                    <a:pt x="2008" y="105"/>
                    <a:pt x="2008" y="107"/>
                    <a:pt x="2008" y="109"/>
                  </a:cubicBezTo>
                  <a:cubicBezTo>
                    <a:pt x="2008" y="111"/>
                    <a:pt x="2007" y="112"/>
                    <a:pt x="2007" y="114"/>
                  </a:cubicBezTo>
                  <a:cubicBezTo>
                    <a:pt x="2007" y="110"/>
                    <a:pt x="2007" y="107"/>
                    <a:pt x="2007" y="104"/>
                  </a:cubicBezTo>
                  <a:close/>
                  <a:moveTo>
                    <a:pt x="2003" y="91"/>
                  </a:moveTo>
                  <a:cubicBezTo>
                    <a:pt x="2003" y="91"/>
                    <a:pt x="2003" y="91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lose/>
                  <a:moveTo>
                    <a:pt x="2003" y="124"/>
                  </a:moveTo>
                  <a:cubicBezTo>
                    <a:pt x="2004" y="114"/>
                    <a:pt x="2004" y="102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ubicBezTo>
                    <a:pt x="2005" y="94"/>
                    <a:pt x="2006" y="98"/>
                    <a:pt x="2007" y="101"/>
                  </a:cubicBezTo>
                  <a:cubicBezTo>
                    <a:pt x="2005" y="120"/>
                    <a:pt x="2005" y="120"/>
                    <a:pt x="2005" y="120"/>
                  </a:cubicBezTo>
                  <a:cubicBezTo>
                    <a:pt x="2004" y="121"/>
                    <a:pt x="2004" y="122"/>
                    <a:pt x="2003" y="124"/>
                  </a:cubicBezTo>
                  <a:close/>
                  <a:moveTo>
                    <a:pt x="2006" y="136"/>
                  </a:moveTo>
                  <a:cubicBezTo>
                    <a:pt x="2006" y="134"/>
                    <a:pt x="2006" y="133"/>
                    <a:pt x="2006" y="131"/>
                  </a:cubicBezTo>
                  <a:cubicBezTo>
                    <a:pt x="2007" y="126"/>
                    <a:pt x="2008" y="121"/>
                    <a:pt x="2009" y="116"/>
                  </a:cubicBezTo>
                  <a:cubicBezTo>
                    <a:pt x="2010" y="118"/>
                    <a:pt x="2010" y="121"/>
                    <a:pt x="2010" y="123"/>
                  </a:cubicBezTo>
                  <a:cubicBezTo>
                    <a:pt x="2010" y="124"/>
                    <a:pt x="2010" y="124"/>
                    <a:pt x="2010" y="124"/>
                  </a:cubicBezTo>
                  <a:cubicBezTo>
                    <a:pt x="2009" y="128"/>
                    <a:pt x="2007" y="132"/>
                    <a:pt x="2006" y="136"/>
                  </a:cubicBezTo>
                  <a:close/>
                  <a:moveTo>
                    <a:pt x="2010" y="141"/>
                  </a:moveTo>
                  <a:cubicBezTo>
                    <a:pt x="2010" y="141"/>
                    <a:pt x="2010" y="141"/>
                    <a:pt x="2010" y="141"/>
                  </a:cubicBezTo>
                  <a:cubicBezTo>
                    <a:pt x="2011" y="139"/>
                    <a:pt x="2011" y="137"/>
                    <a:pt x="2012" y="135"/>
                  </a:cubicBezTo>
                  <a:cubicBezTo>
                    <a:pt x="2012" y="135"/>
                    <a:pt x="2012" y="135"/>
                    <a:pt x="2012" y="135"/>
                  </a:cubicBezTo>
                  <a:cubicBezTo>
                    <a:pt x="2012" y="137"/>
                    <a:pt x="2011" y="139"/>
                    <a:pt x="2010" y="141"/>
                  </a:cubicBezTo>
                  <a:close/>
                  <a:moveTo>
                    <a:pt x="2017" y="119"/>
                  </a:moveTo>
                  <a:cubicBezTo>
                    <a:pt x="2016" y="119"/>
                    <a:pt x="2016" y="118"/>
                    <a:pt x="2016" y="118"/>
                  </a:cubicBezTo>
                  <a:cubicBezTo>
                    <a:pt x="2016" y="116"/>
                    <a:pt x="2017" y="115"/>
                    <a:pt x="2017" y="113"/>
                  </a:cubicBezTo>
                  <a:cubicBezTo>
                    <a:pt x="2017" y="112"/>
                    <a:pt x="2017" y="112"/>
                    <a:pt x="2017" y="111"/>
                  </a:cubicBezTo>
                  <a:cubicBezTo>
                    <a:pt x="2018" y="112"/>
                    <a:pt x="2018" y="113"/>
                    <a:pt x="2018" y="115"/>
                  </a:cubicBezTo>
                  <a:cubicBezTo>
                    <a:pt x="2018" y="116"/>
                    <a:pt x="2017" y="118"/>
                    <a:pt x="2017" y="119"/>
                  </a:cubicBezTo>
                  <a:close/>
                  <a:moveTo>
                    <a:pt x="2024" y="136"/>
                  </a:moveTo>
                  <a:cubicBezTo>
                    <a:pt x="2023" y="135"/>
                    <a:pt x="2023" y="134"/>
                    <a:pt x="2022" y="133"/>
                  </a:cubicBezTo>
                  <a:cubicBezTo>
                    <a:pt x="2022" y="132"/>
                    <a:pt x="2022" y="132"/>
                    <a:pt x="2022" y="131"/>
                  </a:cubicBezTo>
                  <a:cubicBezTo>
                    <a:pt x="2023" y="133"/>
                    <a:pt x="2023" y="134"/>
                    <a:pt x="2024" y="136"/>
                  </a:cubicBezTo>
                  <a:cubicBezTo>
                    <a:pt x="2024" y="136"/>
                    <a:pt x="2024" y="136"/>
                    <a:pt x="2024" y="136"/>
                  </a:cubicBezTo>
                  <a:close/>
                  <a:moveTo>
                    <a:pt x="2038" y="118"/>
                  </a:moveTo>
                  <a:cubicBezTo>
                    <a:pt x="2038" y="118"/>
                    <a:pt x="2038" y="117"/>
                    <a:pt x="2038" y="117"/>
                  </a:cubicBezTo>
                  <a:cubicBezTo>
                    <a:pt x="2038" y="117"/>
                    <a:pt x="2038" y="117"/>
                    <a:pt x="2038" y="117"/>
                  </a:cubicBezTo>
                  <a:cubicBezTo>
                    <a:pt x="2038" y="118"/>
                    <a:pt x="2038" y="118"/>
                    <a:pt x="2038" y="118"/>
                  </a:cubicBezTo>
                  <a:close/>
                  <a:moveTo>
                    <a:pt x="2044" y="105"/>
                  </a:moveTo>
                  <a:cubicBezTo>
                    <a:pt x="2043" y="106"/>
                    <a:pt x="2042" y="107"/>
                    <a:pt x="2042" y="109"/>
                  </a:cubicBezTo>
                  <a:cubicBezTo>
                    <a:pt x="2041" y="107"/>
                    <a:pt x="2041" y="106"/>
                    <a:pt x="2041" y="104"/>
                  </a:cubicBezTo>
                  <a:cubicBezTo>
                    <a:pt x="2042" y="101"/>
                    <a:pt x="2044" y="98"/>
                    <a:pt x="2045" y="94"/>
                  </a:cubicBezTo>
                  <a:cubicBezTo>
                    <a:pt x="2044" y="98"/>
                    <a:pt x="2044" y="101"/>
                    <a:pt x="2044" y="105"/>
                  </a:cubicBezTo>
                  <a:close/>
                  <a:moveTo>
                    <a:pt x="2049" y="138"/>
                  </a:moveTo>
                  <a:cubicBezTo>
                    <a:pt x="2049" y="137"/>
                    <a:pt x="2049" y="136"/>
                    <a:pt x="2048" y="135"/>
                  </a:cubicBezTo>
                  <a:cubicBezTo>
                    <a:pt x="2048" y="133"/>
                    <a:pt x="2048" y="131"/>
                    <a:pt x="2048" y="129"/>
                  </a:cubicBezTo>
                  <a:cubicBezTo>
                    <a:pt x="2049" y="131"/>
                    <a:pt x="2049" y="133"/>
                    <a:pt x="2050" y="134"/>
                  </a:cubicBezTo>
                  <a:cubicBezTo>
                    <a:pt x="2050" y="135"/>
                    <a:pt x="2050" y="137"/>
                    <a:pt x="2049" y="138"/>
                  </a:cubicBezTo>
                  <a:close/>
                  <a:moveTo>
                    <a:pt x="2051" y="123"/>
                  </a:moveTo>
                  <a:cubicBezTo>
                    <a:pt x="2050" y="121"/>
                    <a:pt x="2049" y="118"/>
                    <a:pt x="2049" y="116"/>
                  </a:cubicBezTo>
                  <a:cubicBezTo>
                    <a:pt x="2050" y="112"/>
                    <a:pt x="2051" y="107"/>
                    <a:pt x="2052" y="103"/>
                  </a:cubicBezTo>
                  <a:cubicBezTo>
                    <a:pt x="2052" y="110"/>
                    <a:pt x="2051" y="117"/>
                    <a:pt x="2051" y="123"/>
                  </a:cubicBezTo>
                  <a:close/>
                  <a:moveTo>
                    <a:pt x="2056" y="69"/>
                  </a:moveTo>
                  <a:cubicBezTo>
                    <a:pt x="2058" y="72"/>
                    <a:pt x="2060" y="75"/>
                    <a:pt x="2061" y="79"/>
                  </a:cubicBezTo>
                  <a:cubicBezTo>
                    <a:pt x="2061" y="79"/>
                    <a:pt x="2061" y="79"/>
                    <a:pt x="2061" y="79"/>
                  </a:cubicBezTo>
                  <a:cubicBezTo>
                    <a:pt x="2059" y="76"/>
                    <a:pt x="2058" y="72"/>
                    <a:pt x="2056" y="69"/>
                  </a:cubicBezTo>
                  <a:cubicBezTo>
                    <a:pt x="2056" y="69"/>
                    <a:pt x="2056" y="69"/>
                    <a:pt x="2056" y="69"/>
                  </a:cubicBezTo>
                  <a:close/>
                  <a:moveTo>
                    <a:pt x="2056" y="74"/>
                  </a:moveTo>
                  <a:cubicBezTo>
                    <a:pt x="2057" y="76"/>
                    <a:pt x="2058" y="79"/>
                    <a:pt x="2059" y="81"/>
                  </a:cubicBezTo>
                  <a:cubicBezTo>
                    <a:pt x="2058" y="82"/>
                    <a:pt x="2057" y="83"/>
                    <a:pt x="2056" y="85"/>
                  </a:cubicBezTo>
                  <a:cubicBezTo>
                    <a:pt x="2056" y="81"/>
                    <a:pt x="2056" y="77"/>
                    <a:pt x="2056" y="74"/>
                  </a:cubicBezTo>
                  <a:close/>
                  <a:moveTo>
                    <a:pt x="2057" y="120"/>
                  </a:moveTo>
                  <a:cubicBezTo>
                    <a:pt x="2057" y="115"/>
                    <a:pt x="2057" y="111"/>
                    <a:pt x="2057" y="106"/>
                  </a:cubicBezTo>
                  <a:cubicBezTo>
                    <a:pt x="2058" y="109"/>
                    <a:pt x="2058" y="112"/>
                    <a:pt x="2059" y="114"/>
                  </a:cubicBezTo>
                  <a:cubicBezTo>
                    <a:pt x="2058" y="116"/>
                    <a:pt x="2058" y="118"/>
                    <a:pt x="2057" y="120"/>
                  </a:cubicBezTo>
                  <a:close/>
                  <a:moveTo>
                    <a:pt x="2060" y="109"/>
                  </a:moveTo>
                  <a:cubicBezTo>
                    <a:pt x="2059" y="107"/>
                    <a:pt x="2058" y="104"/>
                    <a:pt x="2057" y="102"/>
                  </a:cubicBezTo>
                  <a:cubicBezTo>
                    <a:pt x="2057" y="99"/>
                    <a:pt x="2057" y="97"/>
                    <a:pt x="2057" y="94"/>
                  </a:cubicBezTo>
                  <a:cubicBezTo>
                    <a:pt x="2058" y="98"/>
                    <a:pt x="2059" y="102"/>
                    <a:pt x="2061" y="107"/>
                  </a:cubicBezTo>
                  <a:cubicBezTo>
                    <a:pt x="2061" y="108"/>
                    <a:pt x="2060" y="108"/>
                    <a:pt x="2060" y="109"/>
                  </a:cubicBezTo>
                  <a:close/>
                  <a:moveTo>
                    <a:pt x="2064" y="96"/>
                  </a:moveTo>
                  <a:cubicBezTo>
                    <a:pt x="2063" y="98"/>
                    <a:pt x="2062" y="101"/>
                    <a:pt x="2062" y="104"/>
                  </a:cubicBezTo>
                  <a:cubicBezTo>
                    <a:pt x="2060" y="100"/>
                    <a:pt x="2058" y="96"/>
                    <a:pt x="2057" y="92"/>
                  </a:cubicBezTo>
                  <a:cubicBezTo>
                    <a:pt x="2057" y="92"/>
                    <a:pt x="2057" y="92"/>
                    <a:pt x="2057" y="92"/>
                  </a:cubicBezTo>
                  <a:cubicBezTo>
                    <a:pt x="2058" y="89"/>
                    <a:pt x="2059" y="86"/>
                    <a:pt x="2061" y="84"/>
                  </a:cubicBezTo>
                  <a:cubicBezTo>
                    <a:pt x="2062" y="87"/>
                    <a:pt x="2063" y="90"/>
                    <a:pt x="2064" y="93"/>
                  </a:cubicBezTo>
                  <a:cubicBezTo>
                    <a:pt x="2064" y="94"/>
                    <a:pt x="2064" y="95"/>
                    <a:pt x="2064" y="96"/>
                  </a:cubicBezTo>
                  <a:close/>
                  <a:moveTo>
                    <a:pt x="2065" y="90"/>
                  </a:moveTo>
                  <a:cubicBezTo>
                    <a:pt x="2064" y="87"/>
                    <a:pt x="2063" y="84"/>
                    <a:pt x="2062" y="82"/>
                  </a:cubicBezTo>
                  <a:cubicBezTo>
                    <a:pt x="2062" y="81"/>
                    <a:pt x="2062" y="81"/>
                    <a:pt x="2062" y="81"/>
                  </a:cubicBezTo>
                  <a:cubicBezTo>
                    <a:pt x="2063" y="83"/>
                    <a:pt x="2064" y="86"/>
                    <a:pt x="2065" y="89"/>
                  </a:cubicBezTo>
                  <a:cubicBezTo>
                    <a:pt x="2065" y="89"/>
                    <a:pt x="2065" y="89"/>
                    <a:pt x="2065" y="90"/>
                  </a:cubicBezTo>
                  <a:close/>
                  <a:moveTo>
                    <a:pt x="2063" y="79"/>
                  </a:moveTo>
                  <a:cubicBezTo>
                    <a:pt x="2064" y="78"/>
                    <a:pt x="2065" y="77"/>
                    <a:pt x="2065" y="77"/>
                  </a:cubicBezTo>
                  <a:cubicBezTo>
                    <a:pt x="2066" y="78"/>
                    <a:pt x="2066" y="79"/>
                    <a:pt x="2067" y="80"/>
                  </a:cubicBezTo>
                  <a:cubicBezTo>
                    <a:pt x="2067" y="82"/>
                    <a:pt x="2066" y="84"/>
                    <a:pt x="2066" y="85"/>
                  </a:cubicBezTo>
                  <a:cubicBezTo>
                    <a:pt x="2065" y="83"/>
                    <a:pt x="2064" y="81"/>
                    <a:pt x="2063" y="79"/>
                  </a:cubicBezTo>
                  <a:close/>
                  <a:moveTo>
                    <a:pt x="2066" y="116"/>
                  </a:moveTo>
                  <a:cubicBezTo>
                    <a:pt x="2066" y="111"/>
                    <a:pt x="2067" y="106"/>
                    <a:pt x="2067" y="102"/>
                  </a:cubicBezTo>
                  <a:cubicBezTo>
                    <a:pt x="2068" y="105"/>
                    <a:pt x="2069" y="108"/>
                    <a:pt x="2070" y="111"/>
                  </a:cubicBezTo>
                  <a:cubicBezTo>
                    <a:pt x="2069" y="113"/>
                    <a:pt x="2068" y="116"/>
                    <a:pt x="2067" y="118"/>
                  </a:cubicBezTo>
                  <a:cubicBezTo>
                    <a:pt x="2067" y="117"/>
                    <a:pt x="2066" y="117"/>
                    <a:pt x="2066" y="116"/>
                  </a:cubicBezTo>
                  <a:close/>
                  <a:moveTo>
                    <a:pt x="2071" y="130"/>
                  </a:moveTo>
                  <a:cubicBezTo>
                    <a:pt x="2070" y="128"/>
                    <a:pt x="2070" y="127"/>
                    <a:pt x="2069" y="125"/>
                  </a:cubicBezTo>
                  <a:cubicBezTo>
                    <a:pt x="2070" y="123"/>
                    <a:pt x="2070" y="122"/>
                    <a:pt x="2071" y="120"/>
                  </a:cubicBezTo>
                  <a:cubicBezTo>
                    <a:pt x="2071" y="122"/>
                    <a:pt x="2071" y="124"/>
                    <a:pt x="2071" y="127"/>
                  </a:cubicBezTo>
                  <a:cubicBezTo>
                    <a:pt x="2071" y="128"/>
                    <a:pt x="2071" y="129"/>
                    <a:pt x="2071" y="130"/>
                  </a:cubicBezTo>
                  <a:close/>
                  <a:moveTo>
                    <a:pt x="2073" y="105"/>
                  </a:moveTo>
                  <a:cubicBezTo>
                    <a:pt x="2071" y="100"/>
                    <a:pt x="2070" y="95"/>
                    <a:pt x="2068" y="91"/>
                  </a:cubicBezTo>
                  <a:cubicBezTo>
                    <a:pt x="2068" y="89"/>
                    <a:pt x="2068" y="87"/>
                    <a:pt x="2069" y="85"/>
                  </a:cubicBezTo>
                  <a:cubicBezTo>
                    <a:pt x="2071" y="91"/>
                    <a:pt x="2072" y="97"/>
                    <a:pt x="2074" y="103"/>
                  </a:cubicBezTo>
                  <a:cubicBezTo>
                    <a:pt x="2073" y="104"/>
                    <a:pt x="2073" y="105"/>
                    <a:pt x="2073" y="105"/>
                  </a:cubicBezTo>
                  <a:close/>
                  <a:moveTo>
                    <a:pt x="2074" y="111"/>
                  </a:moveTo>
                  <a:cubicBezTo>
                    <a:pt x="2074" y="110"/>
                    <a:pt x="2074" y="110"/>
                    <a:pt x="2074" y="109"/>
                  </a:cubicBezTo>
                  <a:cubicBezTo>
                    <a:pt x="2074" y="109"/>
                    <a:pt x="2074" y="108"/>
                    <a:pt x="2075" y="107"/>
                  </a:cubicBezTo>
                  <a:cubicBezTo>
                    <a:pt x="2075" y="108"/>
                    <a:pt x="2075" y="109"/>
                    <a:pt x="2075" y="109"/>
                  </a:cubicBezTo>
                  <a:cubicBezTo>
                    <a:pt x="2075" y="110"/>
                    <a:pt x="2075" y="110"/>
                    <a:pt x="2074" y="111"/>
                  </a:cubicBezTo>
                  <a:close/>
                  <a:moveTo>
                    <a:pt x="2085" y="94"/>
                  </a:moveTo>
                  <a:cubicBezTo>
                    <a:pt x="2085" y="95"/>
                    <a:pt x="2085" y="95"/>
                    <a:pt x="2086" y="96"/>
                  </a:cubicBezTo>
                  <a:cubicBezTo>
                    <a:pt x="2085" y="97"/>
                    <a:pt x="2085" y="97"/>
                    <a:pt x="2085" y="98"/>
                  </a:cubicBezTo>
                  <a:cubicBezTo>
                    <a:pt x="2085" y="96"/>
                    <a:pt x="2085" y="95"/>
                    <a:pt x="2085" y="94"/>
                  </a:cubicBezTo>
                  <a:close/>
                  <a:moveTo>
                    <a:pt x="2087" y="109"/>
                  </a:moveTo>
                  <a:cubicBezTo>
                    <a:pt x="2086" y="106"/>
                    <a:pt x="2086" y="104"/>
                    <a:pt x="2085" y="102"/>
                  </a:cubicBezTo>
                  <a:cubicBezTo>
                    <a:pt x="2085" y="101"/>
                    <a:pt x="2085" y="99"/>
                    <a:pt x="2085" y="98"/>
                  </a:cubicBezTo>
                  <a:cubicBezTo>
                    <a:pt x="2085" y="98"/>
                    <a:pt x="2086" y="97"/>
                    <a:pt x="2086" y="97"/>
                  </a:cubicBezTo>
                  <a:cubicBezTo>
                    <a:pt x="2086" y="98"/>
                    <a:pt x="2087" y="100"/>
                    <a:pt x="2087" y="102"/>
                  </a:cubicBezTo>
                  <a:cubicBezTo>
                    <a:pt x="2087" y="104"/>
                    <a:pt x="2087" y="107"/>
                    <a:pt x="2087" y="109"/>
                  </a:cubicBezTo>
                  <a:close/>
                  <a:moveTo>
                    <a:pt x="2089" y="84"/>
                  </a:moveTo>
                  <a:cubicBezTo>
                    <a:pt x="2089" y="89"/>
                    <a:pt x="2088" y="94"/>
                    <a:pt x="2088" y="98"/>
                  </a:cubicBezTo>
                  <a:cubicBezTo>
                    <a:pt x="2087" y="97"/>
                    <a:pt x="2087" y="96"/>
                    <a:pt x="2086" y="95"/>
                  </a:cubicBezTo>
                  <a:cubicBezTo>
                    <a:pt x="2087" y="94"/>
                    <a:pt x="2088" y="92"/>
                    <a:pt x="2088" y="91"/>
                  </a:cubicBezTo>
                  <a:cubicBezTo>
                    <a:pt x="2088" y="92"/>
                    <a:pt x="2087" y="94"/>
                    <a:pt x="2086" y="95"/>
                  </a:cubicBezTo>
                  <a:cubicBezTo>
                    <a:pt x="2086" y="94"/>
                    <a:pt x="2085" y="93"/>
                    <a:pt x="2085" y="92"/>
                  </a:cubicBezTo>
                  <a:cubicBezTo>
                    <a:pt x="2085" y="90"/>
                    <a:pt x="2085" y="88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4" y="75"/>
                    <a:pt x="2084" y="65"/>
                    <a:pt x="2084" y="56"/>
                  </a:cubicBezTo>
                  <a:cubicBezTo>
                    <a:pt x="2087" y="58"/>
                    <a:pt x="2089" y="61"/>
                    <a:pt x="2092" y="63"/>
                  </a:cubicBezTo>
                  <a:cubicBezTo>
                    <a:pt x="2091" y="69"/>
                    <a:pt x="2090" y="76"/>
                    <a:pt x="2089" y="84"/>
                  </a:cubicBezTo>
                  <a:cubicBezTo>
                    <a:pt x="2089" y="82"/>
                    <a:pt x="2088" y="81"/>
                    <a:pt x="2088" y="79"/>
                  </a:cubicBezTo>
                  <a:cubicBezTo>
                    <a:pt x="2088" y="81"/>
                    <a:pt x="2089" y="83"/>
                    <a:pt x="2089" y="84"/>
                  </a:cubicBezTo>
                  <a:close/>
                  <a:moveTo>
                    <a:pt x="2090" y="139"/>
                  </a:moveTo>
                  <a:cubicBezTo>
                    <a:pt x="2090" y="134"/>
                    <a:pt x="2090" y="128"/>
                    <a:pt x="2090" y="121"/>
                  </a:cubicBezTo>
                  <a:cubicBezTo>
                    <a:pt x="2090" y="125"/>
                    <a:pt x="2090" y="129"/>
                    <a:pt x="2091" y="133"/>
                  </a:cubicBezTo>
                  <a:cubicBezTo>
                    <a:pt x="2091" y="135"/>
                    <a:pt x="2091" y="137"/>
                    <a:pt x="2090" y="139"/>
                  </a:cubicBezTo>
                  <a:close/>
                  <a:moveTo>
                    <a:pt x="2090" y="104"/>
                  </a:moveTo>
                  <a:cubicBezTo>
                    <a:pt x="2090" y="102"/>
                    <a:pt x="2090" y="99"/>
                    <a:pt x="2091" y="96"/>
                  </a:cubicBezTo>
                  <a:cubicBezTo>
                    <a:pt x="2091" y="100"/>
                    <a:pt x="2091" y="104"/>
                    <a:pt x="2091" y="107"/>
                  </a:cubicBezTo>
                  <a:cubicBezTo>
                    <a:pt x="2091" y="106"/>
                    <a:pt x="2091" y="105"/>
                    <a:pt x="2090" y="104"/>
                  </a:cubicBezTo>
                  <a:close/>
                  <a:moveTo>
                    <a:pt x="2102" y="85"/>
                  </a:moveTo>
                  <a:cubicBezTo>
                    <a:pt x="2101" y="90"/>
                    <a:pt x="2100" y="96"/>
                    <a:pt x="2099" y="103"/>
                  </a:cubicBezTo>
                  <a:cubicBezTo>
                    <a:pt x="2099" y="101"/>
                    <a:pt x="2099" y="100"/>
                    <a:pt x="2098" y="99"/>
                  </a:cubicBezTo>
                  <a:cubicBezTo>
                    <a:pt x="2098" y="96"/>
                    <a:pt x="2097" y="93"/>
                    <a:pt x="2096" y="90"/>
                  </a:cubicBezTo>
                  <a:cubicBezTo>
                    <a:pt x="2097" y="93"/>
                    <a:pt x="2097" y="96"/>
                    <a:pt x="2097" y="99"/>
                  </a:cubicBezTo>
                  <a:cubicBezTo>
                    <a:pt x="2097" y="104"/>
                    <a:pt x="2096" y="112"/>
                    <a:pt x="2096" y="120"/>
                  </a:cubicBezTo>
                  <a:cubicBezTo>
                    <a:pt x="2095" y="110"/>
                    <a:pt x="2093" y="100"/>
                    <a:pt x="2091" y="91"/>
                  </a:cubicBezTo>
                  <a:cubicBezTo>
                    <a:pt x="2092" y="81"/>
                    <a:pt x="2093" y="72"/>
                    <a:pt x="2093" y="65"/>
                  </a:cubicBezTo>
                  <a:cubicBezTo>
                    <a:pt x="2097" y="69"/>
                    <a:pt x="2100" y="74"/>
                    <a:pt x="2102" y="79"/>
                  </a:cubicBezTo>
                  <a:cubicBezTo>
                    <a:pt x="2102" y="81"/>
                    <a:pt x="2102" y="83"/>
                    <a:pt x="2102" y="85"/>
                  </a:cubicBezTo>
                  <a:close/>
                  <a:moveTo>
                    <a:pt x="2102" y="75"/>
                  </a:moveTo>
                  <a:cubicBezTo>
                    <a:pt x="2102" y="75"/>
                    <a:pt x="2102" y="75"/>
                    <a:pt x="2102" y="75"/>
                  </a:cubicBezTo>
                  <a:cubicBezTo>
                    <a:pt x="2102" y="73"/>
                    <a:pt x="2102" y="72"/>
                    <a:pt x="2101" y="70"/>
                  </a:cubicBezTo>
                  <a:cubicBezTo>
                    <a:pt x="2101" y="70"/>
                    <a:pt x="2102" y="72"/>
                    <a:pt x="2102" y="75"/>
                  </a:cubicBezTo>
                  <a:cubicBezTo>
                    <a:pt x="2099" y="71"/>
                    <a:pt x="2097" y="67"/>
                    <a:pt x="2093" y="64"/>
                  </a:cubicBezTo>
                  <a:cubicBezTo>
                    <a:pt x="2094" y="60"/>
                    <a:pt x="2094" y="57"/>
                    <a:pt x="2095" y="54"/>
                  </a:cubicBezTo>
                  <a:cubicBezTo>
                    <a:pt x="2098" y="58"/>
                    <a:pt x="2101" y="62"/>
                    <a:pt x="2103" y="65"/>
                  </a:cubicBezTo>
                  <a:cubicBezTo>
                    <a:pt x="2103" y="68"/>
                    <a:pt x="2102" y="71"/>
                    <a:pt x="2102" y="75"/>
                  </a:cubicBezTo>
                  <a:close/>
                  <a:moveTo>
                    <a:pt x="2106" y="117"/>
                  </a:moveTo>
                  <a:cubicBezTo>
                    <a:pt x="2105" y="120"/>
                    <a:pt x="2104" y="122"/>
                    <a:pt x="2104" y="125"/>
                  </a:cubicBezTo>
                  <a:cubicBezTo>
                    <a:pt x="2104" y="124"/>
                    <a:pt x="2104" y="123"/>
                    <a:pt x="2104" y="122"/>
                  </a:cubicBezTo>
                  <a:cubicBezTo>
                    <a:pt x="2104" y="110"/>
                    <a:pt x="2104" y="98"/>
                    <a:pt x="2105" y="87"/>
                  </a:cubicBezTo>
                  <a:cubicBezTo>
                    <a:pt x="2106" y="92"/>
                    <a:pt x="2107" y="98"/>
                    <a:pt x="2108" y="103"/>
                  </a:cubicBezTo>
                  <a:cubicBezTo>
                    <a:pt x="2107" y="108"/>
                    <a:pt x="2106" y="112"/>
                    <a:pt x="2106" y="117"/>
                  </a:cubicBezTo>
                  <a:close/>
                  <a:moveTo>
                    <a:pt x="2109" y="89"/>
                  </a:moveTo>
                  <a:cubicBezTo>
                    <a:pt x="2108" y="86"/>
                    <a:pt x="2106" y="83"/>
                    <a:pt x="2105" y="80"/>
                  </a:cubicBezTo>
                  <a:cubicBezTo>
                    <a:pt x="2105" y="76"/>
                    <a:pt x="2105" y="72"/>
                    <a:pt x="2105" y="68"/>
                  </a:cubicBezTo>
                  <a:cubicBezTo>
                    <a:pt x="2107" y="71"/>
                    <a:pt x="2109" y="74"/>
                    <a:pt x="2111" y="78"/>
                  </a:cubicBezTo>
                  <a:cubicBezTo>
                    <a:pt x="2110" y="81"/>
                    <a:pt x="2110" y="85"/>
                    <a:pt x="2109" y="89"/>
                  </a:cubicBezTo>
                  <a:close/>
                  <a:moveTo>
                    <a:pt x="2114" y="96"/>
                  </a:moveTo>
                  <a:cubicBezTo>
                    <a:pt x="2114" y="97"/>
                    <a:pt x="2113" y="98"/>
                    <a:pt x="2113" y="99"/>
                  </a:cubicBezTo>
                  <a:cubicBezTo>
                    <a:pt x="2112" y="98"/>
                    <a:pt x="2112" y="97"/>
                    <a:pt x="2112" y="96"/>
                  </a:cubicBezTo>
                  <a:cubicBezTo>
                    <a:pt x="2112" y="91"/>
                    <a:pt x="2112" y="86"/>
                    <a:pt x="2112" y="80"/>
                  </a:cubicBezTo>
                  <a:cubicBezTo>
                    <a:pt x="2113" y="83"/>
                    <a:pt x="2114" y="86"/>
                    <a:pt x="2115" y="88"/>
                  </a:cubicBezTo>
                  <a:cubicBezTo>
                    <a:pt x="2115" y="91"/>
                    <a:pt x="2115" y="93"/>
                    <a:pt x="2114" y="96"/>
                  </a:cubicBezTo>
                  <a:close/>
                  <a:moveTo>
                    <a:pt x="2136" y="105"/>
                  </a:moveTo>
                  <a:cubicBezTo>
                    <a:pt x="2135" y="103"/>
                    <a:pt x="2135" y="102"/>
                    <a:pt x="2134" y="101"/>
                  </a:cubicBezTo>
                  <a:cubicBezTo>
                    <a:pt x="2136" y="96"/>
                    <a:pt x="2137" y="92"/>
                    <a:pt x="2138" y="89"/>
                  </a:cubicBezTo>
                  <a:cubicBezTo>
                    <a:pt x="2138" y="89"/>
                    <a:pt x="2139" y="89"/>
                    <a:pt x="2139" y="90"/>
                  </a:cubicBezTo>
                  <a:cubicBezTo>
                    <a:pt x="2138" y="95"/>
                    <a:pt x="2137" y="100"/>
                    <a:pt x="2136" y="105"/>
                  </a:cubicBezTo>
                  <a:close/>
                  <a:moveTo>
                    <a:pt x="2152" y="81"/>
                  </a:moveTo>
                  <a:cubicBezTo>
                    <a:pt x="2152" y="81"/>
                    <a:pt x="2153" y="81"/>
                    <a:pt x="2153" y="81"/>
                  </a:cubicBezTo>
                  <a:cubicBezTo>
                    <a:pt x="2152" y="81"/>
                    <a:pt x="2152" y="81"/>
                    <a:pt x="2152" y="81"/>
                  </a:cubicBezTo>
                  <a:cubicBezTo>
                    <a:pt x="2152" y="81"/>
                    <a:pt x="2152" y="81"/>
                    <a:pt x="2152" y="81"/>
                  </a:cubicBezTo>
                  <a:close/>
                  <a:moveTo>
                    <a:pt x="2152" y="88"/>
                  </a:moveTo>
                  <a:cubicBezTo>
                    <a:pt x="2152" y="89"/>
                    <a:pt x="2152" y="89"/>
                    <a:pt x="2152" y="89"/>
                  </a:cubicBezTo>
                  <a:cubicBezTo>
                    <a:pt x="2152" y="90"/>
                    <a:pt x="2152" y="91"/>
                    <a:pt x="2152" y="91"/>
                  </a:cubicBezTo>
                  <a:cubicBezTo>
                    <a:pt x="2152" y="90"/>
                    <a:pt x="2152" y="89"/>
                    <a:pt x="2152" y="88"/>
                  </a:cubicBezTo>
                  <a:close/>
                  <a:moveTo>
                    <a:pt x="2143" y="122"/>
                  </a:moveTo>
                  <a:cubicBezTo>
                    <a:pt x="2143" y="122"/>
                    <a:pt x="2143" y="123"/>
                    <a:pt x="2143" y="123"/>
                  </a:cubicBezTo>
                  <a:cubicBezTo>
                    <a:pt x="2143" y="123"/>
                    <a:pt x="2143" y="123"/>
                    <a:pt x="2143" y="123"/>
                  </a:cubicBezTo>
                  <a:cubicBezTo>
                    <a:pt x="2143" y="123"/>
                    <a:pt x="2143" y="122"/>
                    <a:pt x="2143" y="122"/>
                  </a:cubicBezTo>
                  <a:cubicBezTo>
                    <a:pt x="2143" y="120"/>
                    <a:pt x="2144" y="118"/>
                    <a:pt x="2144" y="115"/>
                  </a:cubicBezTo>
                  <a:cubicBezTo>
                    <a:pt x="2144" y="115"/>
                    <a:pt x="2144" y="115"/>
                    <a:pt x="2144" y="115"/>
                  </a:cubicBezTo>
                  <a:cubicBezTo>
                    <a:pt x="2144" y="116"/>
                    <a:pt x="2144" y="117"/>
                    <a:pt x="2144" y="118"/>
                  </a:cubicBezTo>
                  <a:cubicBezTo>
                    <a:pt x="2144" y="119"/>
                    <a:pt x="2143" y="121"/>
                    <a:pt x="2143" y="122"/>
                  </a:cubicBezTo>
                  <a:close/>
                  <a:moveTo>
                    <a:pt x="2145" y="70"/>
                  </a:moveTo>
                  <a:cubicBezTo>
                    <a:pt x="2148" y="73"/>
                    <a:pt x="2150" y="76"/>
                    <a:pt x="2151" y="79"/>
                  </a:cubicBezTo>
                  <a:cubicBezTo>
                    <a:pt x="2151" y="81"/>
                    <a:pt x="2151" y="82"/>
                    <a:pt x="2150" y="84"/>
                  </a:cubicBezTo>
                  <a:cubicBezTo>
                    <a:pt x="2150" y="84"/>
                    <a:pt x="2150" y="84"/>
                    <a:pt x="2150" y="84"/>
                  </a:cubicBezTo>
                  <a:cubicBezTo>
                    <a:pt x="2150" y="82"/>
                    <a:pt x="2149" y="81"/>
                    <a:pt x="2148" y="79"/>
                  </a:cubicBezTo>
                  <a:cubicBezTo>
                    <a:pt x="2149" y="81"/>
                    <a:pt x="2149" y="83"/>
                    <a:pt x="2150" y="84"/>
                  </a:cubicBezTo>
                  <a:cubicBezTo>
                    <a:pt x="2149" y="87"/>
                    <a:pt x="2147" y="90"/>
                    <a:pt x="2145" y="93"/>
                  </a:cubicBezTo>
                  <a:cubicBezTo>
                    <a:pt x="2146" y="85"/>
                    <a:pt x="2146" y="77"/>
                    <a:pt x="2145" y="70"/>
                  </a:cubicBezTo>
                  <a:close/>
                  <a:moveTo>
                    <a:pt x="2148" y="98"/>
                  </a:moveTo>
                  <a:cubicBezTo>
                    <a:pt x="2148" y="98"/>
                    <a:pt x="2148" y="97"/>
                    <a:pt x="2147" y="96"/>
                  </a:cubicBezTo>
                  <a:cubicBezTo>
                    <a:pt x="2148" y="97"/>
                    <a:pt x="2148" y="98"/>
                    <a:pt x="2148" y="98"/>
                  </a:cubicBezTo>
                  <a:cubicBezTo>
                    <a:pt x="2148" y="99"/>
                    <a:pt x="2148" y="100"/>
                    <a:pt x="2147" y="100"/>
                  </a:cubicBezTo>
                  <a:cubicBezTo>
                    <a:pt x="2147" y="99"/>
                    <a:pt x="2147" y="98"/>
                    <a:pt x="2146" y="97"/>
                  </a:cubicBezTo>
                  <a:cubicBezTo>
                    <a:pt x="2147" y="95"/>
                    <a:pt x="2148" y="93"/>
                    <a:pt x="2149" y="90"/>
                  </a:cubicBezTo>
                  <a:cubicBezTo>
                    <a:pt x="2149" y="93"/>
                    <a:pt x="2148" y="96"/>
                    <a:pt x="2148" y="98"/>
                  </a:cubicBezTo>
                  <a:close/>
                  <a:moveTo>
                    <a:pt x="2155" y="100"/>
                  </a:moveTo>
                  <a:cubicBezTo>
                    <a:pt x="2153" y="104"/>
                    <a:pt x="2152" y="107"/>
                    <a:pt x="2150" y="110"/>
                  </a:cubicBezTo>
                  <a:cubicBezTo>
                    <a:pt x="2150" y="110"/>
                    <a:pt x="2150" y="109"/>
                    <a:pt x="2150" y="109"/>
                  </a:cubicBezTo>
                  <a:cubicBezTo>
                    <a:pt x="2150" y="106"/>
                    <a:pt x="2151" y="102"/>
                    <a:pt x="2151" y="99"/>
                  </a:cubicBezTo>
                  <a:cubicBezTo>
                    <a:pt x="2152" y="95"/>
                    <a:pt x="2152" y="92"/>
                    <a:pt x="2152" y="90"/>
                  </a:cubicBezTo>
                  <a:cubicBezTo>
                    <a:pt x="2153" y="93"/>
                    <a:pt x="2154" y="96"/>
                    <a:pt x="2155" y="100"/>
                  </a:cubicBezTo>
                  <a:cubicBezTo>
                    <a:pt x="2155" y="100"/>
                    <a:pt x="2155" y="100"/>
                    <a:pt x="2155" y="100"/>
                  </a:cubicBezTo>
                  <a:close/>
                  <a:moveTo>
                    <a:pt x="2155" y="97"/>
                  </a:moveTo>
                  <a:cubicBezTo>
                    <a:pt x="2154" y="95"/>
                    <a:pt x="2153" y="92"/>
                    <a:pt x="2152" y="89"/>
                  </a:cubicBezTo>
                  <a:cubicBezTo>
                    <a:pt x="2152" y="89"/>
                    <a:pt x="2152" y="89"/>
                    <a:pt x="2152" y="88"/>
                  </a:cubicBezTo>
                  <a:cubicBezTo>
                    <a:pt x="2152" y="89"/>
                    <a:pt x="2152" y="89"/>
                    <a:pt x="2152" y="89"/>
                  </a:cubicBezTo>
                  <a:cubicBezTo>
                    <a:pt x="2152" y="89"/>
                    <a:pt x="2152" y="88"/>
                    <a:pt x="2152" y="88"/>
                  </a:cubicBezTo>
                  <a:cubicBezTo>
                    <a:pt x="2152" y="87"/>
                    <a:pt x="2152" y="86"/>
                    <a:pt x="2152" y="85"/>
                  </a:cubicBezTo>
                  <a:cubicBezTo>
                    <a:pt x="2152" y="84"/>
                    <a:pt x="2153" y="83"/>
                    <a:pt x="2153" y="82"/>
                  </a:cubicBezTo>
                  <a:cubicBezTo>
                    <a:pt x="2154" y="84"/>
                    <a:pt x="2155" y="86"/>
                    <a:pt x="2156" y="88"/>
                  </a:cubicBezTo>
                  <a:cubicBezTo>
                    <a:pt x="2156" y="91"/>
                    <a:pt x="2156" y="94"/>
                    <a:pt x="2155" y="97"/>
                  </a:cubicBezTo>
                  <a:close/>
                  <a:moveTo>
                    <a:pt x="2157" y="135"/>
                  </a:moveTo>
                  <a:cubicBezTo>
                    <a:pt x="2157" y="136"/>
                    <a:pt x="2157" y="137"/>
                    <a:pt x="2157" y="138"/>
                  </a:cubicBezTo>
                  <a:cubicBezTo>
                    <a:pt x="2157" y="137"/>
                    <a:pt x="2157" y="136"/>
                    <a:pt x="2157" y="135"/>
                  </a:cubicBezTo>
                  <a:cubicBezTo>
                    <a:pt x="2157" y="135"/>
                    <a:pt x="2157" y="135"/>
                    <a:pt x="2157" y="135"/>
                  </a:cubicBezTo>
                  <a:close/>
                  <a:moveTo>
                    <a:pt x="2157" y="83"/>
                  </a:moveTo>
                  <a:cubicBezTo>
                    <a:pt x="2156" y="82"/>
                    <a:pt x="2155" y="81"/>
                    <a:pt x="2155" y="80"/>
                  </a:cubicBezTo>
                  <a:cubicBezTo>
                    <a:pt x="2156" y="78"/>
                    <a:pt x="2157" y="77"/>
                    <a:pt x="2158" y="75"/>
                  </a:cubicBezTo>
                  <a:cubicBezTo>
                    <a:pt x="2157" y="78"/>
                    <a:pt x="2157" y="81"/>
                    <a:pt x="2157" y="83"/>
                  </a:cubicBezTo>
                  <a:close/>
                  <a:moveTo>
                    <a:pt x="2158" y="74"/>
                  </a:moveTo>
                  <a:cubicBezTo>
                    <a:pt x="2156" y="76"/>
                    <a:pt x="2155" y="77"/>
                    <a:pt x="2154" y="79"/>
                  </a:cubicBezTo>
                  <a:cubicBezTo>
                    <a:pt x="2153" y="78"/>
                    <a:pt x="2153" y="78"/>
                    <a:pt x="2153" y="77"/>
                  </a:cubicBezTo>
                  <a:cubicBezTo>
                    <a:pt x="2153" y="72"/>
                    <a:pt x="2153" y="67"/>
                    <a:pt x="2154" y="65"/>
                  </a:cubicBezTo>
                  <a:cubicBezTo>
                    <a:pt x="2155" y="67"/>
                    <a:pt x="2156" y="70"/>
                    <a:pt x="2158" y="72"/>
                  </a:cubicBezTo>
                  <a:cubicBezTo>
                    <a:pt x="2158" y="73"/>
                    <a:pt x="2158" y="73"/>
                    <a:pt x="2158" y="74"/>
                  </a:cubicBezTo>
                  <a:close/>
                  <a:moveTo>
                    <a:pt x="2160" y="75"/>
                  </a:moveTo>
                  <a:cubicBezTo>
                    <a:pt x="2161" y="78"/>
                    <a:pt x="2163" y="81"/>
                    <a:pt x="2165" y="84"/>
                  </a:cubicBezTo>
                  <a:cubicBezTo>
                    <a:pt x="2163" y="86"/>
                    <a:pt x="2162" y="88"/>
                    <a:pt x="2161" y="90"/>
                  </a:cubicBezTo>
                  <a:cubicBezTo>
                    <a:pt x="2161" y="89"/>
                    <a:pt x="2160" y="89"/>
                    <a:pt x="2160" y="89"/>
                  </a:cubicBezTo>
                  <a:cubicBezTo>
                    <a:pt x="2160" y="84"/>
                    <a:pt x="2160" y="79"/>
                    <a:pt x="2160" y="75"/>
                  </a:cubicBezTo>
                  <a:close/>
                  <a:moveTo>
                    <a:pt x="2162" y="110"/>
                  </a:moveTo>
                  <a:cubicBezTo>
                    <a:pt x="2162" y="107"/>
                    <a:pt x="2161" y="104"/>
                    <a:pt x="2160" y="101"/>
                  </a:cubicBezTo>
                  <a:cubicBezTo>
                    <a:pt x="2160" y="101"/>
                    <a:pt x="2160" y="100"/>
                    <a:pt x="2160" y="100"/>
                  </a:cubicBezTo>
                  <a:cubicBezTo>
                    <a:pt x="2160" y="100"/>
                    <a:pt x="2161" y="99"/>
                    <a:pt x="2161" y="99"/>
                  </a:cubicBezTo>
                  <a:cubicBezTo>
                    <a:pt x="2162" y="101"/>
                    <a:pt x="2162" y="104"/>
                    <a:pt x="2163" y="106"/>
                  </a:cubicBezTo>
                  <a:cubicBezTo>
                    <a:pt x="2163" y="108"/>
                    <a:pt x="2163" y="109"/>
                    <a:pt x="2162" y="110"/>
                  </a:cubicBezTo>
                  <a:close/>
                  <a:moveTo>
                    <a:pt x="2163" y="93"/>
                  </a:moveTo>
                  <a:cubicBezTo>
                    <a:pt x="2164" y="91"/>
                    <a:pt x="2165" y="88"/>
                    <a:pt x="2166" y="86"/>
                  </a:cubicBezTo>
                  <a:cubicBezTo>
                    <a:pt x="2166" y="87"/>
                    <a:pt x="2167" y="87"/>
                    <a:pt x="2167" y="88"/>
                  </a:cubicBezTo>
                  <a:cubicBezTo>
                    <a:pt x="2166" y="91"/>
                    <a:pt x="2166" y="94"/>
                    <a:pt x="2165" y="97"/>
                  </a:cubicBezTo>
                  <a:cubicBezTo>
                    <a:pt x="2164" y="96"/>
                    <a:pt x="2163" y="95"/>
                    <a:pt x="2163" y="93"/>
                  </a:cubicBezTo>
                  <a:close/>
                  <a:moveTo>
                    <a:pt x="2166" y="130"/>
                  </a:moveTo>
                  <a:cubicBezTo>
                    <a:pt x="2166" y="129"/>
                    <a:pt x="2166" y="128"/>
                    <a:pt x="2166" y="126"/>
                  </a:cubicBezTo>
                  <a:cubicBezTo>
                    <a:pt x="2166" y="124"/>
                    <a:pt x="2166" y="121"/>
                    <a:pt x="2167" y="119"/>
                  </a:cubicBezTo>
                  <a:cubicBezTo>
                    <a:pt x="2167" y="120"/>
                    <a:pt x="2168" y="122"/>
                    <a:pt x="2168" y="124"/>
                  </a:cubicBezTo>
                  <a:cubicBezTo>
                    <a:pt x="2167" y="126"/>
                    <a:pt x="2167" y="128"/>
                    <a:pt x="2166" y="130"/>
                  </a:cubicBezTo>
                  <a:close/>
                  <a:moveTo>
                    <a:pt x="2170" y="108"/>
                  </a:moveTo>
                  <a:cubicBezTo>
                    <a:pt x="2170" y="107"/>
                    <a:pt x="2169" y="106"/>
                    <a:pt x="2169" y="105"/>
                  </a:cubicBezTo>
                  <a:cubicBezTo>
                    <a:pt x="2169" y="102"/>
                    <a:pt x="2170" y="99"/>
                    <a:pt x="2171" y="96"/>
                  </a:cubicBezTo>
                  <a:cubicBezTo>
                    <a:pt x="2171" y="96"/>
                    <a:pt x="2171" y="97"/>
                    <a:pt x="2171" y="97"/>
                  </a:cubicBezTo>
                  <a:cubicBezTo>
                    <a:pt x="2171" y="101"/>
                    <a:pt x="2170" y="105"/>
                    <a:pt x="2170" y="108"/>
                  </a:cubicBezTo>
                  <a:close/>
                  <a:moveTo>
                    <a:pt x="2172" y="86"/>
                  </a:moveTo>
                  <a:cubicBezTo>
                    <a:pt x="2172" y="86"/>
                    <a:pt x="2172" y="86"/>
                    <a:pt x="2172" y="86"/>
                  </a:cubicBezTo>
                  <a:cubicBezTo>
                    <a:pt x="2172" y="85"/>
                    <a:pt x="2173" y="84"/>
                    <a:pt x="2173" y="83"/>
                  </a:cubicBezTo>
                  <a:cubicBezTo>
                    <a:pt x="2173" y="84"/>
                    <a:pt x="2172" y="85"/>
                    <a:pt x="2172" y="86"/>
                  </a:cubicBezTo>
                  <a:close/>
                  <a:moveTo>
                    <a:pt x="2180" y="80"/>
                  </a:moveTo>
                  <a:cubicBezTo>
                    <a:pt x="2180" y="77"/>
                    <a:pt x="2180" y="75"/>
                    <a:pt x="2180" y="73"/>
                  </a:cubicBezTo>
                  <a:cubicBezTo>
                    <a:pt x="2181" y="73"/>
                    <a:pt x="2181" y="74"/>
                    <a:pt x="2181" y="74"/>
                  </a:cubicBezTo>
                  <a:cubicBezTo>
                    <a:pt x="2181" y="76"/>
                    <a:pt x="2181" y="78"/>
                    <a:pt x="2180" y="80"/>
                  </a:cubicBezTo>
                  <a:close/>
                  <a:moveTo>
                    <a:pt x="2192" y="93"/>
                  </a:moveTo>
                  <a:cubicBezTo>
                    <a:pt x="2191" y="95"/>
                    <a:pt x="2191" y="96"/>
                    <a:pt x="2190" y="97"/>
                  </a:cubicBezTo>
                  <a:cubicBezTo>
                    <a:pt x="2190" y="94"/>
                    <a:pt x="2190" y="91"/>
                    <a:pt x="2189" y="88"/>
                  </a:cubicBezTo>
                  <a:cubicBezTo>
                    <a:pt x="2190" y="89"/>
                    <a:pt x="2191" y="91"/>
                    <a:pt x="2192" y="93"/>
                  </a:cubicBezTo>
                  <a:cubicBezTo>
                    <a:pt x="2192" y="93"/>
                    <a:pt x="2192" y="93"/>
                    <a:pt x="2192" y="93"/>
                  </a:cubicBezTo>
                  <a:close/>
                  <a:moveTo>
                    <a:pt x="2193" y="88"/>
                  </a:moveTo>
                  <a:cubicBezTo>
                    <a:pt x="2192" y="86"/>
                    <a:pt x="2191" y="85"/>
                    <a:pt x="2190" y="84"/>
                  </a:cubicBezTo>
                  <a:cubicBezTo>
                    <a:pt x="2191" y="81"/>
                    <a:pt x="2193" y="78"/>
                    <a:pt x="2195" y="75"/>
                  </a:cubicBezTo>
                  <a:cubicBezTo>
                    <a:pt x="2194" y="79"/>
                    <a:pt x="2193" y="84"/>
                    <a:pt x="2193" y="88"/>
                  </a:cubicBezTo>
                  <a:close/>
                  <a:moveTo>
                    <a:pt x="2202" y="77"/>
                  </a:moveTo>
                  <a:cubicBezTo>
                    <a:pt x="2202" y="77"/>
                    <a:pt x="2202" y="77"/>
                    <a:pt x="2202" y="77"/>
                  </a:cubicBezTo>
                  <a:cubicBezTo>
                    <a:pt x="2202" y="74"/>
                    <a:pt x="2201" y="70"/>
                    <a:pt x="2201" y="66"/>
                  </a:cubicBezTo>
                  <a:cubicBezTo>
                    <a:pt x="2201" y="65"/>
                    <a:pt x="2202" y="64"/>
                    <a:pt x="2202" y="63"/>
                  </a:cubicBezTo>
                  <a:cubicBezTo>
                    <a:pt x="2203" y="67"/>
                    <a:pt x="2203" y="72"/>
                    <a:pt x="2202" y="77"/>
                  </a:cubicBezTo>
                  <a:close/>
                  <a:moveTo>
                    <a:pt x="2205" y="72"/>
                  </a:moveTo>
                  <a:cubicBezTo>
                    <a:pt x="2205" y="67"/>
                    <a:pt x="2204" y="64"/>
                    <a:pt x="2203" y="61"/>
                  </a:cubicBezTo>
                  <a:cubicBezTo>
                    <a:pt x="2204" y="60"/>
                    <a:pt x="2205" y="58"/>
                    <a:pt x="2206" y="57"/>
                  </a:cubicBezTo>
                  <a:cubicBezTo>
                    <a:pt x="2206" y="62"/>
                    <a:pt x="2206" y="67"/>
                    <a:pt x="2205" y="72"/>
                  </a:cubicBezTo>
                  <a:close/>
                  <a:moveTo>
                    <a:pt x="2221" y="89"/>
                  </a:moveTo>
                  <a:cubicBezTo>
                    <a:pt x="2222" y="91"/>
                    <a:pt x="2223" y="92"/>
                    <a:pt x="2223" y="94"/>
                  </a:cubicBezTo>
                  <a:cubicBezTo>
                    <a:pt x="2223" y="95"/>
                    <a:pt x="2222" y="97"/>
                    <a:pt x="2222" y="98"/>
                  </a:cubicBezTo>
                  <a:cubicBezTo>
                    <a:pt x="2221" y="97"/>
                    <a:pt x="2221" y="96"/>
                    <a:pt x="2220" y="95"/>
                  </a:cubicBezTo>
                  <a:cubicBezTo>
                    <a:pt x="2220" y="93"/>
                    <a:pt x="2221" y="91"/>
                    <a:pt x="2221" y="89"/>
                  </a:cubicBezTo>
                  <a:close/>
                  <a:moveTo>
                    <a:pt x="2220" y="101"/>
                  </a:moveTo>
                  <a:cubicBezTo>
                    <a:pt x="2220" y="101"/>
                    <a:pt x="2220" y="100"/>
                    <a:pt x="2220" y="100"/>
                  </a:cubicBezTo>
                  <a:cubicBezTo>
                    <a:pt x="2220" y="100"/>
                    <a:pt x="2220" y="101"/>
                    <a:pt x="2220" y="101"/>
                  </a:cubicBezTo>
                  <a:cubicBezTo>
                    <a:pt x="2220" y="101"/>
                    <a:pt x="2220" y="101"/>
                    <a:pt x="2220" y="101"/>
                  </a:cubicBezTo>
                  <a:close/>
                  <a:moveTo>
                    <a:pt x="2222" y="122"/>
                  </a:moveTo>
                  <a:cubicBezTo>
                    <a:pt x="2222" y="121"/>
                    <a:pt x="2221" y="120"/>
                    <a:pt x="2221" y="119"/>
                  </a:cubicBezTo>
                  <a:cubicBezTo>
                    <a:pt x="2221" y="117"/>
                    <a:pt x="2221" y="115"/>
                    <a:pt x="2221" y="112"/>
                  </a:cubicBezTo>
                  <a:cubicBezTo>
                    <a:pt x="2221" y="110"/>
                    <a:pt x="2221" y="108"/>
                    <a:pt x="2222" y="106"/>
                  </a:cubicBezTo>
                  <a:cubicBezTo>
                    <a:pt x="2222" y="108"/>
                    <a:pt x="2223" y="110"/>
                    <a:pt x="2223" y="112"/>
                  </a:cubicBezTo>
                  <a:cubicBezTo>
                    <a:pt x="2223" y="115"/>
                    <a:pt x="2223" y="119"/>
                    <a:pt x="2222" y="122"/>
                  </a:cubicBezTo>
                  <a:close/>
                  <a:moveTo>
                    <a:pt x="2224" y="103"/>
                  </a:moveTo>
                  <a:cubicBezTo>
                    <a:pt x="2224" y="102"/>
                    <a:pt x="2223" y="101"/>
                    <a:pt x="2223" y="100"/>
                  </a:cubicBezTo>
                  <a:cubicBezTo>
                    <a:pt x="2223" y="99"/>
                    <a:pt x="2224" y="97"/>
                    <a:pt x="2224" y="96"/>
                  </a:cubicBezTo>
                  <a:cubicBezTo>
                    <a:pt x="2224" y="97"/>
                    <a:pt x="2225" y="97"/>
                    <a:pt x="2225" y="98"/>
                  </a:cubicBezTo>
                  <a:cubicBezTo>
                    <a:pt x="2225" y="100"/>
                    <a:pt x="2224" y="101"/>
                    <a:pt x="2224" y="103"/>
                  </a:cubicBezTo>
                  <a:close/>
                  <a:moveTo>
                    <a:pt x="2225" y="96"/>
                  </a:moveTo>
                  <a:cubicBezTo>
                    <a:pt x="2225" y="95"/>
                    <a:pt x="2225" y="95"/>
                    <a:pt x="2224" y="95"/>
                  </a:cubicBezTo>
                  <a:cubicBezTo>
                    <a:pt x="2225" y="93"/>
                    <a:pt x="2225" y="92"/>
                    <a:pt x="2226" y="91"/>
                  </a:cubicBezTo>
                  <a:cubicBezTo>
                    <a:pt x="2225" y="93"/>
                    <a:pt x="2225" y="94"/>
                    <a:pt x="2225" y="96"/>
                  </a:cubicBezTo>
                  <a:close/>
                  <a:moveTo>
                    <a:pt x="2231" y="95"/>
                  </a:moveTo>
                  <a:cubicBezTo>
                    <a:pt x="2231" y="92"/>
                    <a:pt x="2232" y="89"/>
                    <a:pt x="2232" y="86"/>
                  </a:cubicBezTo>
                  <a:cubicBezTo>
                    <a:pt x="2232" y="86"/>
                    <a:pt x="2233" y="87"/>
                    <a:pt x="2233" y="88"/>
                  </a:cubicBezTo>
                  <a:cubicBezTo>
                    <a:pt x="2233" y="90"/>
                    <a:pt x="2232" y="92"/>
                    <a:pt x="2231" y="95"/>
                  </a:cubicBezTo>
                  <a:close/>
                  <a:moveTo>
                    <a:pt x="2242" y="99"/>
                  </a:moveTo>
                  <a:cubicBezTo>
                    <a:pt x="2242" y="99"/>
                    <a:pt x="2241" y="98"/>
                    <a:pt x="2241" y="97"/>
                  </a:cubicBezTo>
                  <a:cubicBezTo>
                    <a:pt x="2241" y="93"/>
                    <a:pt x="2241" y="89"/>
                    <a:pt x="2241" y="84"/>
                  </a:cubicBezTo>
                  <a:cubicBezTo>
                    <a:pt x="2242" y="80"/>
                    <a:pt x="2245" y="76"/>
                    <a:pt x="2247" y="72"/>
                  </a:cubicBezTo>
                  <a:cubicBezTo>
                    <a:pt x="2248" y="74"/>
                    <a:pt x="2248" y="78"/>
                    <a:pt x="2249" y="82"/>
                  </a:cubicBezTo>
                  <a:cubicBezTo>
                    <a:pt x="2246" y="88"/>
                    <a:pt x="2244" y="93"/>
                    <a:pt x="2242" y="99"/>
                  </a:cubicBezTo>
                  <a:close/>
                  <a:moveTo>
                    <a:pt x="2250" y="75"/>
                  </a:moveTo>
                  <a:cubicBezTo>
                    <a:pt x="2250" y="73"/>
                    <a:pt x="2249" y="71"/>
                    <a:pt x="2249" y="69"/>
                  </a:cubicBezTo>
                  <a:cubicBezTo>
                    <a:pt x="2250" y="68"/>
                    <a:pt x="2250" y="67"/>
                    <a:pt x="2251" y="66"/>
                  </a:cubicBezTo>
                  <a:cubicBezTo>
                    <a:pt x="2251" y="69"/>
                    <a:pt x="2250" y="72"/>
                    <a:pt x="2250" y="75"/>
                  </a:cubicBezTo>
                  <a:close/>
                  <a:moveTo>
                    <a:pt x="2258" y="72"/>
                  </a:moveTo>
                  <a:cubicBezTo>
                    <a:pt x="2258" y="71"/>
                    <a:pt x="2258" y="70"/>
                    <a:pt x="2258" y="70"/>
                  </a:cubicBezTo>
                  <a:cubicBezTo>
                    <a:pt x="2258" y="69"/>
                    <a:pt x="2258" y="69"/>
                    <a:pt x="2258" y="69"/>
                  </a:cubicBezTo>
                  <a:cubicBezTo>
                    <a:pt x="2258" y="71"/>
                    <a:pt x="2258" y="72"/>
                    <a:pt x="2258" y="72"/>
                  </a:cubicBezTo>
                  <a:close/>
                  <a:moveTo>
                    <a:pt x="2258" y="67"/>
                  </a:moveTo>
                  <a:cubicBezTo>
                    <a:pt x="2258" y="67"/>
                    <a:pt x="2258" y="68"/>
                    <a:pt x="2258" y="68"/>
                  </a:cubicBezTo>
                  <a:cubicBezTo>
                    <a:pt x="2258" y="65"/>
                    <a:pt x="2257" y="61"/>
                    <a:pt x="2257" y="58"/>
                  </a:cubicBezTo>
                  <a:cubicBezTo>
                    <a:pt x="2257" y="57"/>
                    <a:pt x="2258" y="56"/>
                    <a:pt x="2259" y="56"/>
                  </a:cubicBezTo>
                  <a:cubicBezTo>
                    <a:pt x="2258" y="60"/>
                    <a:pt x="2258" y="64"/>
                    <a:pt x="2258" y="67"/>
                  </a:cubicBezTo>
                  <a:close/>
                  <a:moveTo>
                    <a:pt x="2266" y="123"/>
                  </a:moveTo>
                  <a:cubicBezTo>
                    <a:pt x="2265" y="124"/>
                    <a:pt x="2264" y="126"/>
                    <a:pt x="2264" y="127"/>
                  </a:cubicBezTo>
                  <a:cubicBezTo>
                    <a:pt x="2264" y="124"/>
                    <a:pt x="2264" y="122"/>
                    <a:pt x="2264" y="119"/>
                  </a:cubicBezTo>
                  <a:cubicBezTo>
                    <a:pt x="2265" y="116"/>
                    <a:pt x="2266" y="112"/>
                    <a:pt x="2267" y="109"/>
                  </a:cubicBezTo>
                  <a:cubicBezTo>
                    <a:pt x="2267" y="111"/>
                    <a:pt x="2267" y="112"/>
                    <a:pt x="2267" y="114"/>
                  </a:cubicBezTo>
                  <a:cubicBezTo>
                    <a:pt x="2267" y="117"/>
                    <a:pt x="2266" y="120"/>
                    <a:pt x="2266" y="123"/>
                  </a:cubicBezTo>
                  <a:close/>
                  <a:moveTo>
                    <a:pt x="2268" y="110"/>
                  </a:moveTo>
                  <a:cubicBezTo>
                    <a:pt x="2268" y="111"/>
                    <a:pt x="2268" y="112"/>
                    <a:pt x="2267" y="112"/>
                  </a:cubicBezTo>
                  <a:cubicBezTo>
                    <a:pt x="2267" y="111"/>
                    <a:pt x="2267" y="110"/>
                    <a:pt x="2267" y="109"/>
                  </a:cubicBezTo>
                  <a:cubicBezTo>
                    <a:pt x="2267" y="107"/>
                    <a:pt x="2268" y="105"/>
                    <a:pt x="2268" y="102"/>
                  </a:cubicBezTo>
                  <a:cubicBezTo>
                    <a:pt x="2268" y="105"/>
                    <a:pt x="2268" y="107"/>
                    <a:pt x="2268" y="110"/>
                  </a:cubicBezTo>
                  <a:close/>
                  <a:moveTo>
                    <a:pt x="2270" y="83"/>
                  </a:moveTo>
                  <a:cubicBezTo>
                    <a:pt x="2270" y="83"/>
                    <a:pt x="2270" y="84"/>
                    <a:pt x="2269" y="85"/>
                  </a:cubicBezTo>
                  <a:cubicBezTo>
                    <a:pt x="2268" y="87"/>
                    <a:pt x="2267" y="89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2"/>
                    <a:pt x="2265" y="94"/>
                    <a:pt x="2264" y="96"/>
                  </a:cubicBezTo>
                  <a:cubicBezTo>
                    <a:pt x="2264" y="90"/>
                    <a:pt x="2265" y="85"/>
                    <a:pt x="2267" y="79"/>
                  </a:cubicBezTo>
                  <a:cubicBezTo>
                    <a:pt x="2265" y="85"/>
                    <a:pt x="2264" y="90"/>
                    <a:pt x="2262" y="95"/>
                  </a:cubicBezTo>
                  <a:cubicBezTo>
                    <a:pt x="2262" y="85"/>
                    <a:pt x="2263" y="74"/>
                    <a:pt x="2263" y="63"/>
                  </a:cubicBezTo>
                  <a:cubicBezTo>
                    <a:pt x="2266" y="60"/>
                    <a:pt x="2269" y="58"/>
                    <a:pt x="2272" y="55"/>
                  </a:cubicBezTo>
                  <a:cubicBezTo>
                    <a:pt x="2272" y="62"/>
                    <a:pt x="2271" y="72"/>
                    <a:pt x="2270" y="83"/>
                  </a:cubicBezTo>
                  <a:close/>
                  <a:moveTo>
                    <a:pt x="2276" y="105"/>
                  </a:moveTo>
                  <a:cubicBezTo>
                    <a:pt x="2276" y="102"/>
                    <a:pt x="2276" y="99"/>
                    <a:pt x="2276" y="96"/>
                  </a:cubicBezTo>
                  <a:cubicBezTo>
                    <a:pt x="2276" y="97"/>
                    <a:pt x="2277" y="99"/>
                    <a:pt x="2277" y="100"/>
                  </a:cubicBezTo>
                  <a:cubicBezTo>
                    <a:pt x="2277" y="102"/>
                    <a:pt x="2277" y="103"/>
                    <a:pt x="2276" y="105"/>
                  </a:cubicBezTo>
                  <a:cubicBezTo>
                    <a:pt x="2276" y="105"/>
                    <a:pt x="2276" y="105"/>
                    <a:pt x="2276" y="105"/>
                  </a:cubicBezTo>
                  <a:close/>
                  <a:moveTo>
                    <a:pt x="2277" y="130"/>
                  </a:moveTo>
                  <a:cubicBezTo>
                    <a:pt x="2277" y="130"/>
                    <a:pt x="2277" y="130"/>
                    <a:pt x="2277" y="130"/>
                  </a:cubicBezTo>
                  <a:cubicBezTo>
                    <a:pt x="2277" y="129"/>
                    <a:pt x="2277" y="128"/>
                    <a:pt x="2277" y="127"/>
                  </a:cubicBezTo>
                  <a:cubicBezTo>
                    <a:pt x="2277" y="128"/>
                    <a:pt x="2277" y="128"/>
                    <a:pt x="2278" y="129"/>
                  </a:cubicBezTo>
                  <a:cubicBezTo>
                    <a:pt x="2277" y="129"/>
                    <a:pt x="2277" y="130"/>
                    <a:pt x="2277" y="130"/>
                  </a:cubicBezTo>
                  <a:close/>
                  <a:moveTo>
                    <a:pt x="2284" y="74"/>
                  </a:moveTo>
                  <a:cubicBezTo>
                    <a:pt x="2284" y="73"/>
                    <a:pt x="2284" y="71"/>
                    <a:pt x="2284" y="70"/>
                  </a:cubicBezTo>
                  <a:cubicBezTo>
                    <a:pt x="2284" y="70"/>
                    <a:pt x="2285" y="71"/>
                    <a:pt x="2285" y="72"/>
                  </a:cubicBezTo>
                  <a:cubicBezTo>
                    <a:pt x="2285" y="72"/>
                    <a:pt x="2285" y="73"/>
                    <a:pt x="2284" y="74"/>
                  </a:cubicBezTo>
                  <a:close/>
                  <a:moveTo>
                    <a:pt x="2288" y="139"/>
                  </a:moveTo>
                  <a:cubicBezTo>
                    <a:pt x="2288" y="140"/>
                    <a:pt x="2288" y="141"/>
                    <a:pt x="2288" y="142"/>
                  </a:cubicBezTo>
                  <a:cubicBezTo>
                    <a:pt x="2288" y="142"/>
                    <a:pt x="2288" y="141"/>
                    <a:pt x="2288" y="139"/>
                  </a:cubicBezTo>
                  <a:cubicBezTo>
                    <a:pt x="2288" y="138"/>
                    <a:pt x="2288" y="137"/>
                    <a:pt x="2288" y="136"/>
                  </a:cubicBezTo>
                  <a:cubicBezTo>
                    <a:pt x="2288" y="137"/>
                    <a:pt x="2288" y="137"/>
                    <a:pt x="2288" y="137"/>
                  </a:cubicBezTo>
                  <a:cubicBezTo>
                    <a:pt x="2288" y="138"/>
                    <a:pt x="2288" y="139"/>
                    <a:pt x="2288" y="139"/>
                  </a:cubicBezTo>
                  <a:close/>
                  <a:moveTo>
                    <a:pt x="2290" y="122"/>
                  </a:moveTo>
                  <a:cubicBezTo>
                    <a:pt x="2290" y="122"/>
                    <a:pt x="2290" y="122"/>
                    <a:pt x="2290" y="122"/>
                  </a:cubicBezTo>
                  <a:cubicBezTo>
                    <a:pt x="2290" y="121"/>
                    <a:pt x="2290" y="121"/>
                    <a:pt x="2290" y="121"/>
                  </a:cubicBezTo>
                  <a:cubicBezTo>
                    <a:pt x="2290" y="121"/>
                    <a:pt x="2290" y="122"/>
                    <a:pt x="2290" y="122"/>
                  </a:cubicBezTo>
                  <a:close/>
                  <a:moveTo>
                    <a:pt x="2291" y="110"/>
                  </a:moveTo>
                  <a:cubicBezTo>
                    <a:pt x="2290" y="112"/>
                    <a:pt x="2289" y="114"/>
                    <a:pt x="2288" y="116"/>
                  </a:cubicBezTo>
                  <a:cubicBezTo>
                    <a:pt x="2288" y="116"/>
                    <a:pt x="2288" y="117"/>
                    <a:pt x="2288" y="117"/>
                  </a:cubicBezTo>
                  <a:cubicBezTo>
                    <a:pt x="2288" y="113"/>
                    <a:pt x="2287" y="108"/>
                    <a:pt x="2287" y="104"/>
                  </a:cubicBezTo>
                  <a:cubicBezTo>
                    <a:pt x="2288" y="101"/>
                    <a:pt x="2288" y="98"/>
                    <a:pt x="2289" y="96"/>
                  </a:cubicBezTo>
                  <a:cubicBezTo>
                    <a:pt x="2290" y="95"/>
                    <a:pt x="2290" y="95"/>
                    <a:pt x="2290" y="95"/>
                  </a:cubicBezTo>
                  <a:cubicBezTo>
                    <a:pt x="2290" y="98"/>
                    <a:pt x="2291" y="101"/>
                    <a:pt x="2291" y="104"/>
                  </a:cubicBezTo>
                  <a:cubicBezTo>
                    <a:pt x="2291" y="106"/>
                    <a:pt x="2291" y="108"/>
                    <a:pt x="2291" y="110"/>
                  </a:cubicBezTo>
                  <a:close/>
                  <a:moveTo>
                    <a:pt x="2292" y="99"/>
                  </a:moveTo>
                  <a:cubicBezTo>
                    <a:pt x="2291" y="97"/>
                    <a:pt x="2291" y="96"/>
                    <a:pt x="2290" y="94"/>
                  </a:cubicBezTo>
                  <a:cubicBezTo>
                    <a:pt x="2291" y="93"/>
                    <a:pt x="2292" y="92"/>
                    <a:pt x="2292" y="91"/>
                  </a:cubicBezTo>
                  <a:cubicBezTo>
                    <a:pt x="2292" y="94"/>
                    <a:pt x="2292" y="96"/>
                    <a:pt x="2292" y="99"/>
                  </a:cubicBezTo>
                  <a:close/>
                  <a:moveTo>
                    <a:pt x="2286" y="91"/>
                  </a:moveTo>
                  <a:cubicBezTo>
                    <a:pt x="2286" y="89"/>
                    <a:pt x="2286" y="88"/>
                    <a:pt x="2285" y="87"/>
                  </a:cubicBezTo>
                  <a:cubicBezTo>
                    <a:pt x="2287" y="83"/>
                    <a:pt x="2288" y="80"/>
                    <a:pt x="2289" y="76"/>
                  </a:cubicBezTo>
                  <a:cubicBezTo>
                    <a:pt x="2290" y="78"/>
                    <a:pt x="2292" y="80"/>
                    <a:pt x="2293" y="82"/>
                  </a:cubicBezTo>
                  <a:cubicBezTo>
                    <a:pt x="2290" y="85"/>
                    <a:pt x="2288" y="88"/>
                    <a:pt x="2286" y="91"/>
                  </a:cubicBezTo>
                  <a:close/>
                  <a:moveTo>
                    <a:pt x="2293" y="79"/>
                  </a:moveTo>
                  <a:cubicBezTo>
                    <a:pt x="2292" y="77"/>
                    <a:pt x="2291" y="76"/>
                    <a:pt x="2290" y="75"/>
                  </a:cubicBezTo>
                  <a:cubicBezTo>
                    <a:pt x="2291" y="72"/>
                    <a:pt x="2293" y="68"/>
                    <a:pt x="2294" y="65"/>
                  </a:cubicBezTo>
                  <a:cubicBezTo>
                    <a:pt x="2294" y="68"/>
                    <a:pt x="2294" y="73"/>
                    <a:pt x="2293" y="79"/>
                  </a:cubicBezTo>
                  <a:close/>
                  <a:moveTo>
                    <a:pt x="2311" y="54"/>
                  </a:moveTo>
                  <a:cubicBezTo>
                    <a:pt x="2311" y="56"/>
                    <a:pt x="2310" y="58"/>
                    <a:pt x="2310" y="61"/>
                  </a:cubicBezTo>
                  <a:cubicBezTo>
                    <a:pt x="2306" y="65"/>
                    <a:pt x="2302" y="69"/>
                    <a:pt x="2299" y="74"/>
                  </a:cubicBezTo>
                  <a:cubicBezTo>
                    <a:pt x="2302" y="67"/>
                    <a:pt x="2306" y="60"/>
                    <a:pt x="2311" y="54"/>
                  </a:cubicBezTo>
                  <a:close/>
                  <a:moveTo>
                    <a:pt x="2297" y="89"/>
                  </a:moveTo>
                  <a:cubicBezTo>
                    <a:pt x="2297" y="90"/>
                    <a:pt x="2298" y="91"/>
                    <a:pt x="2298" y="92"/>
                  </a:cubicBezTo>
                  <a:cubicBezTo>
                    <a:pt x="2298" y="92"/>
                    <a:pt x="2297" y="93"/>
                    <a:pt x="2297" y="94"/>
                  </a:cubicBezTo>
                  <a:cubicBezTo>
                    <a:pt x="2297" y="92"/>
                    <a:pt x="2297" y="91"/>
                    <a:pt x="2297" y="89"/>
                  </a:cubicBezTo>
                  <a:close/>
                  <a:moveTo>
                    <a:pt x="2299" y="127"/>
                  </a:moveTo>
                  <a:cubicBezTo>
                    <a:pt x="2299" y="125"/>
                    <a:pt x="2299" y="124"/>
                    <a:pt x="2298" y="122"/>
                  </a:cubicBezTo>
                  <a:cubicBezTo>
                    <a:pt x="2298" y="117"/>
                    <a:pt x="2298" y="111"/>
                    <a:pt x="2298" y="105"/>
                  </a:cubicBezTo>
                  <a:cubicBezTo>
                    <a:pt x="2299" y="104"/>
                    <a:pt x="2299" y="102"/>
                    <a:pt x="2300" y="101"/>
                  </a:cubicBezTo>
                  <a:cubicBezTo>
                    <a:pt x="2299" y="102"/>
                    <a:pt x="2299" y="103"/>
                    <a:pt x="2298" y="105"/>
                  </a:cubicBezTo>
                  <a:cubicBezTo>
                    <a:pt x="2297" y="102"/>
                    <a:pt x="2297" y="99"/>
                    <a:pt x="2297" y="96"/>
                  </a:cubicBezTo>
                  <a:cubicBezTo>
                    <a:pt x="2298" y="95"/>
                    <a:pt x="2298" y="94"/>
                    <a:pt x="2298" y="93"/>
                  </a:cubicBezTo>
                  <a:cubicBezTo>
                    <a:pt x="2299" y="95"/>
                    <a:pt x="2300" y="97"/>
                    <a:pt x="2301" y="100"/>
                  </a:cubicBezTo>
                  <a:cubicBezTo>
                    <a:pt x="2301" y="100"/>
                    <a:pt x="2301" y="100"/>
                    <a:pt x="2300" y="101"/>
                  </a:cubicBezTo>
                  <a:cubicBezTo>
                    <a:pt x="2301" y="101"/>
                    <a:pt x="2301" y="100"/>
                    <a:pt x="2301" y="100"/>
                  </a:cubicBezTo>
                  <a:cubicBezTo>
                    <a:pt x="2302" y="101"/>
                    <a:pt x="2302" y="102"/>
                    <a:pt x="2303" y="103"/>
                  </a:cubicBezTo>
                  <a:cubicBezTo>
                    <a:pt x="2301" y="112"/>
                    <a:pt x="2300" y="120"/>
                    <a:pt x="2299" y="127"/>
                  </a:cubicBezTo>
                  <a:close/>
                  <a:moveTo>
                    <a:pt x="2300" y="87"/>
                  </a:moveTo>
                  <a:cubicBezTo>
                    <a:pt x="2301" y="86"/>
                    <a:pt x="2302" y="84"/>
                    <a:pt x="2303" y="83"/>
                  </a:cubicBezTo>
                  <a:cubicBezTo>
                    <a:pt x="2302" y="84"/>
                    <a:pt x="2301" y="86"/>
                    <a:pt x="2300" y="87"/>
                  </a:cubicBezTo>
                  <a:cubicBezTo>
                    <a:pt x="2299" y="86"/>
                    <a:pt x="2298" y="85"/>
                    <a:pt x="2297" y="83"/>
                  </a:cubicBezTo>
                  <a:cubicBezTo>
                    <a:pt x="2301" y="78"/>
                    <a:pt x="2305" y="72"/>
                    <a:pt x="2308" y="67"/>
                  </a:cubicBezTo>
                  <a:cubicBezTo>
                    <a:pt x="2308" y="72"/>
                    <a:pt x="2307" y="76"/>
                    <a:pt x="2306" y="81"/>
                  </a:cubicBezTo>
                  <a:cubicBezTo>
                    <a:pt x="2306" y="80"/>
                    <a:pt x="2305" y="79"/>
                    <a:pt x="2305" y="79"/>
                  </a:cubicBezTo>
                  <a:cubicBezTo>
                    <a:pt x="2305" y="78"/>
                    <a:pt x="2306" y="77"/>
                    <a:pt x="2307" y="75"/>
                  </a:cubicBezTo>
                  <a:cubicBezTo>
                    <a:pt x="2306" y="76"/>
                    <a:pt x="2305" y="77"/>
                    <a:pt x="2305" y="79"/>
                  </a:cubicBezTo>
                  <a:cubicBezTo>
                    <a:pt x="2304" y="78"/>
                    <a:pt x="2304" y="77"/>
                    <a:pt x="2303" y="77"/>
                  </a:cubicBezTo>
                  <a:cubicBezTo>
                    <a:pt x="2303" y="78"/>
                    <a:pt x="2304" y="79"/>
                    <a:pt x="2304" y="79"/>
                  </a:cubicBezTo>
                  <a:cubicBezTo>
                    <a:pt x="2304" y="80"/>
                    <a:pt x="2303" y="81"/>
                    <a:pt x="2303" y="83"/>
                  </a:cubicBezTo>
                  <a:cubicBezTo>
                    <a:pt x="2303" y="82"/>
                    <a:pt x="2304" y="81"/>
                    <a:pt x="2304" y="80"/>
                  </a:cubicBezTo>
                  <a:cubicBezTo>
                    <a:pt x="2305" y="81"/>
                    <a:pt x="2305" y="82"/>
                    <a:pt x="2306" y="84"/>
                  </a:cubicBezTo>
                  <a:cubicBezTo>
                    <a:pt x="2305" y="87"/>
                    <a:pt x="2305" y="90"/>
                    <a:pt x="2304" y="93"/>
                  </a:cubicBezTo>
                  <a:cubicBezTo>
                    <a:pt x="2303" y="91"/>
                    <a:pt x="2302" y="89"/>
                    <a:pt x="2300" y="87"/>
                  </a:cubicBezTo>
                  <a:close/>
                  <a:moveTo>
                    <a:pt x="2305" y="144"/>
                  </a:moveTo>
                  <a:cubicBezTo>
                    <a:pt x="2305" y="144"/>
                    <a:pt x="2305" y="143"/>
                    <a:pt x="2305" y="143"/>
                  </a:cubicBezTo>
                  <a:cubicBezTo>
                    <a:pt x="2305" y="140"/>
                    <a:pt x="2305" y="136"/>
                    <a:pt x="2305" y="131"/>
                  </a:cubicBezTo>
                  <a:cubicBezTo>
                    <a:pt x="2306" y="128"/>
                    <a:pt x="2307" y="126"/>
                    <a:pt x="2307" y="125"/>
                  </a:cubicBezTo>
                  <a:cubicBezTo>
                    <a:pt x="2307" y="125"/>
                    <a:pt x="2307" y="124"/>
                    <a:pt x="2307" y="124"/>
                  </a:cubicBezTo>
                  <a:cubicBezTo>
                    <a:pt x="2306" y="124"/>
                    <a:pt x="2306" y="124"/>
                    <a:pt x="2306" y="124"/>
                  </a:cubicBezTo>
                  <a:cubicBezTo>
                    <a:pt x="2306" y="122"/>
                    <a:pt x="2306" y="120"/>
                    <a:pt x="2306" y="118"/>
                  </a:cubicBezTo>
                  <a:cubicBezTo>
                    <a:pt x="2307" y="121"/>
                    <a:pt x="2308" y="125"/>
                    <a:pt x="2308" y="128"/>
                  </a:cubicBezTo>
                  <a:cubicBezTo>
                    <a:pt x="2307" y="136"/>
                    <a:pt x="2306" y="141"/>
                    <a:pt x="2305" y="144"/>
                  </a:cubicBezTo>
                  <a:close/>
                  <a:moveTo>
                    <a:pt x="2312" y="107"/>
                  </a:moveTo>
                  <a:cubicBezTo>
                    <a:pt x="2311" y="105"/>
                    <a:pt x="2310" y="102"/>
                    <a:pt x="2308" y="100"/>
                  </a:cubicBezTo>
                  <a:cubicBezTo>
                    <a:pt x="2309" y="97"/>
                    <a:pt x="2309" y="95"/>
                    <a:pt x="2309" y="93"/>
                  </a:cubicBezTo>
                  <a:cubicBezTo>
                    <a:pt x="2310" y="96"/>
                    <a:pt x="2312" y="99"/>
                    <a:pt x="2313" y="102"/>
                  </a:cubicBezTo>
                  <a:cubicBezTo>
                    <a:pt x="2313" y="104"/>
                    <a:pt x="2312" y="105"/>
                    <a:pt x="2312" y="107"/>
                  </a:cubicBezTo>
                  <a:close/>
                  <a:moveTo>
                    <a:pt x="2313" y="159"/>
                  </a:moveTo>
                  <a:cubicBezTo>
                    <a:pt x="2313" y="159"/>
                    <a:pt x="2313" y="159"/>
                    <a:pt x="2313" y="159"/>
                  </a:cubicBezTo>
                  <a:cubicBezTo>
                    <a:pt x="2313" y="159"/>
                    <a:pt x="2313" y="159"/>
                    <a:pt x="2314" y="159"/>
                  </a:cubicBezTo>
                  <a:cubicBezTo>
                    <a:pt x="2313" y="159"/>
                    <a:pt x="2313" y="159"/>
                    <a:pt x="2313" y="159"/>
                  </a:cubicBezTo>
                  <a:close/>
                  <a:moveTo>
                    <a:pt x="2314" y="96"/>
                  </a:moveTo>
                  <a:cubicBezTo>
                    <a:pt x="2313" y="93"/>
                    <a:pt x="2311" y="91"/>
                    <a:pt x="2310" y="88"/>
                  </a:cubicBezTo>
                  <a:cubicBezTo>
                    <a:pt x="2312" y="85"/>
                    <a:pt x="2314" y="82"/>
                    <a:pt x="2316" y="79"/>
                  </a:cubicBezTo>
                  <a:cubicBezTo>
                    <a:pt x="2316" y="84"/>
                    <a:pt x="2315" y="90"/>
                    <a:pt x="2314" y="96"/>
                  </a:cubicBezTo>
                  <a:close/>
                  <a:moveTo>
                    <a:pt x="2317" y="75"/>
                  </a:moveTo>
                  <a:cubicBezTo>
                    <a:pt x="2315" y="78"/>
                    <a:pt x="2312" y="82"/>
                    <a:pt x="2310" y="86"/>
                  </a:cubicBezTo>
                  <a:cubicBezTo>
                    <a:pt x="2311" y="77"/>
                    <a:pt x="2312" y="68"/>
                    <a:pt x="2313" y="61"/>
                  </a:cubicBezTo>
                  <a:cubicBezTo>
                    <a:pt x="2315" y="58"/>
                    <a:pt x="2317" y="55"/>
                    <a:pt x="2319" y="53"/>
                  </a:cubicBezTo>
                  <a:cubicBezTo>
                    <a:pt x="2319" y="58"/>
                    <a:pt x="2318" y="66"/>
                    <a:pt x="2317" y="75"/>
                  </a:cubicBezTo>
                  <a:close/>
                  <a:moveTo>
                    <a:pt x="2324" y="139"/>
                  </a:moveTo>
                  <a:cubicBezTo>
                    <a:pt x="2324" y="139"/>
                    <a:pt x="2324" y="139"/>
                    <a:pt x="2323" y="139"/>
                  </a:cubicBezTo>
                  <a:cubicBezTo>
                    <a:pt x="2323" y="138"/>
                    <a:pt x="2323" y="138"/>
                    <a:pt x="2324" y="138"/>
                  </a:cubicBezTo>
                  <a:cubicBezTo>
                    <a:pt x="2324" y="138"/>
                    <a:pt x="2324" y="138"/>
                    <a:pt x="2324" y="138"/>
                  </a:cubicBezTo>
                  <a:cubicBezTo>
                    <a:pt x="2324" y="139"/>
                    <a:pt x="2324" y="139"/>
                    <a:pt x="2324" y="139"/>
                  </a:cubicBezTo>
                  <a:close/>
                  <a:moveTo>
                    <a:pt x="2349" y="137"/>
                  </a:moveTo>
                  <a:cubicBezTo>
                    <a:pt x="2349" y="136"/>
                    <a:pt x="2348" y="135"/>
                    <a:pt x="2348" y="133"/>
                  </a:cubicBezTo>
                  <a:cubicBezTo>
                    <a:pt x="2348" y="132"/>
                    <a:pt x="2348" y="130"/>
                    <a:pt x="2348" y="128"/>
                  </a:cubicBezTo>
                  <a:cubicBezTo>
                    <a:pt x="2348" y="131"/>
                    <a:pt x="2349" y="133"/>
                    <a:pt x="2350" y="135"/>
                  </a:cubicBezTo>
                  <a:cubicBezTo>
                    <a:pt x="2350" y="136"/>
                    <a:pt x="2349" y="137"/>
                    <a:pt x="2349" y="137"/>
                  </a:cubicBezTo>
                  <a:close/>
                  <a:moveTo>
                    <a:pt x="2355" y="99"/>
                  </a:moveTo>
                  <a:cubicBezTo>
                    <a:pt x="2354" y="95"/>
                    <a:pt x="2352" y="92"/>
                    <a:pt x="2350" y="90"/>
                  </a:cubicBezTo>
                  <a:cubicBezTo>
                    <a:pt x="2352" y="93"/>
                    <a:pt x="2354" y="97"/>
                    <a:pt x="2355" y="101"/>
                  </a:cubicBezTo>
                  <a:cubicBezTo>
                    <a:pt x="2354" y="110"/>
                    <a:pt x="2353" y="118"/>
                    <a:pt x="2351" y="125"/>
                  </a:cubicBezTo>
                  <a:cubicBezTo>
                    <a:pt x="2350" y="122"/>
                    <a:pt x="2349" y="119"/>
                    <a:pt x="2349" y="116"/>
                  </a:cubicBezTo>
                  <a:cubicBezTo>
                    <a:pt x="2349" y="102"/>
                    <a:pt x="2350" y="86"/>
                    <a:pt x="2351" y="72"/>
                  </a:cubicBezTo>
                  <a:cubicBezTo>
                    <a:pt x="2353" y="75"/>
                    <a:pt x="2356" y="79"/>
                    <a:pt x="2358" y="82"/>
                  </a:cubicBezTo>
                  <a:cubicBezTo>
                    <a:pt x="2357" y="88"/>
                    <a:pt x="2356" y="93"/>
                    <a:pt x="2355" y="99"/>
                  </a:cubicBezTo>
                  <a:close/>
                  <a:moveTo>
                    <a:pt x="2358" y="142"/>
                  </a:moveTo>
                  <a:cubicBezTo>
                    <a:pt x="2359" y="134"/>
                    <a:pt x="2360" y="127"/>
                    <a:pt x="2360" y="121"/>
                  </a:cubicBezTo>
                  <a:cubicBezTo>
                    <a:pt x="2360" y="123"/>
                    <a:pt x="2361" y="125"/>
                    <a:pt x="2361" y="127"/>
                  </a:cubicBezTo>
                  <a:cubicBezTo>
                    <a:pt x="2360" y="136"/>
                    <a:pt x="2358" y="142"/>
                    <a:pt x="2358" y="142"/>
                  </a:cubicBezTo>
                  <a:close/>
                  <a:moveTo>
                    <a:pt x="2362" y="144"/>
                  </a:moveTo>
                  <a:cubicBezTo>
                    <a:pt x="2362" y="142"/>
                    <a:pt x="2362" y="140"/>
                    <a:pt x="2363" y="137"/>
                  </a:cubicBezTo>
                  <a:cubicBezTo>
                    <a:pt x="2363" y="138"/>
                    <a:pt x="2363" y="138"/>
                    <a:pt x="2363" y="138"/>
                  </a:cubicBezTo>
                  <a:cubicBezTo>
                    <a:pt x="2362" y="142"/>
                    <a:pt x="2362" y="144"/>
                    <a:pt x="2362" y="144"/>
                  </a:cubicBezTo>
                  <a:close/>
                  <a:moveTo>
                    <a:pt x="2361" y="110"/>
                  </a:moveTo>
                  <a:cubicBezTo>
                    <a:pt x="2361" y="103"/>
                    <a:pt x="2362" y="96"/>
                    <a:pt x="2362" y="90"/>
                  </a:cubicBezTo>
                  <a:cubicBezTo>
                    <a:pt x="2364" y="93"/>
                    <a:pt x="2365" y="96"/>
                    <a:pt x="2366" y="99"/>
                  </a:cubicBezTo>
                  <a:cubicBezTo>
                    <a:pt x="2365" y="105"/>
                    <a:pt x="2364" y="111"/>
                    <a:pt x="2363" y="116"/>
                  </a:cubicBezTo>
                  <a:cubicBezTo>
                    <a:pt x="2362" y="114"/>
                    <a:pt x="2362" y="112"/>
                    <a:pt x="2361" y="110"/>
                  </a:cubicBezTo>
                  <a:close/>
                  <a:moveTo>
                    <a:pt x="2366" y="124"/>
                  </a:moveTo>
                  <a:cubicBezTo>
                    <a:pt x="2365" y="123"/>
                    <a:pt x="2365" y="122"/>
                    <a:pt x="2365" y="121"/>
                  </a:cubicBezTo>
                  <a:cubicBezTo>
                    <a:pt x="2365" y="115"/>
                    <a:pt x="2366" y="109"/>
                    <a:pt x="2367" y="103"/>
                  </a:cubicBezTo>
                  <a:cubicBezTo>
                    <a:pt x="2368" y="105"/>
                    <a:pt x="2368" y="107"/>
                    <a:pt x="2369" y="109"/>
                  </a:cubicBezTo>
                  <a:cubicBezTo>
                    <a:pt x="2368" y="114"/>
                    <a:pt x="2367" y="119"/>
                    <a:pt x="2366" y="124"/>
                  </a:cubicBezTo>
                  <a:close/>
                  <a:moveTo>
                    <a:pt x="2371" y="146"/>
                  </a:moveTo>
                  <a:cubicBezTo>
                    <a:pt x="2371" y="145"/>
                    <a:pt x="2371" y="145"/>
                    <a:pt x="2371" y="145"/>
                  </a:cubicBezTo>
                  <a:cubicBezTo>
                    <a:pt x="2372" y="144"/>
                    <a:pt x="2372" y="143"/>
                    <a:pt x="2372" y="141"/>
                  </a:cubicBezTo>
                  <a:cubicBezTo>
                    <a:pt x="2372" y="142"/>
                    <a:pt x="2372" y="143"/>
                    <a:pt x="2372" y="144"/>
                  </a:cubicBezTo>
                  <a:cubicBezTo>
                    <a:pt x="2372" y="145"/>
                    <a:pt x="2372" y="145"/>
                    <a:pt x="2371" y="146"/>
                  </a:cubicBezTo>
                  <a:close/>
                  <a:moveTo>
                    <a:pt x="2395" y="118"/>
                  </a:moveTo>
                  <a:cubicBezTo>
                    <a:pt x="2394" y="114"/>
                    <a:pt x="2392" y="111"/>
                    <a:pt x="2391" y="107"/>
                  </a:cubicBezTo>
                  <a:cubicBezTo>
                    <a:pt x="2391" y="96"/>
                    <a:pt x="2391" y="84"/>
                    <a:pt x="2391" y="74"/>
                  </a:cubicBezTo>
                  <a:cubicBezTo>
                    <a:pt x="2391" y="70"/>
                    <a:pt x="2391" y="67"/>
                    <a:pt x="2390" y="65"/>
                  </a:cubicBezTo>
                  <a:cubicBezTo>
                    <a:pt x="2391" y="74"/>
                    <a:pt x="2395" y="84"/>
                    <a:pt x="2398" y="94"/>
                  </a:cubicBezTo>
                  <a:cubicBezTo>
                    <a:pt x="2397" y="102"/>
                    <a:pt x="2396" y="110"/>
                    <a:pt x="2395" y="118"/>
                  </a:cubicBezTo>
                  <a:close/>
                  <a:moveTo>
                    <a:pt x="2424" y="124"/>
                  </a:moveTo>
                  <a:cubicBezTo>
                    <a:pt x="2423" y="122"/>
                    <a:pt x="2423" y="120"/>
                    <a:pt x="2422" y="117"/>
                  </a:cubicBezTo>
                  <a:cubicBezTo>
                    <a:pt x="2423" y="109"/>
                    <a:pt x="2424" y="100"/>
                    <a:pt x="2425" y="92"/>
                  </a:cubicBezTo>
                  <a:cubicBezTo>
                    <a:pt x="2427" y="96"/>
                    <a:pt x="2428" y="100"/>
                    <a:pt x="2428" y="104"/>
                  </a:cubicBezTo>
                  <a:cubicBezTo>
                    <a:pt x="2427" y="111"/>
                    <a:pt x="2425" y="118"/>
                    <a:pt x="2424" y="124"/>
                  </a:cubicBezTo>
                  <a:close/>
                  <a:moveTo>
                    <a:pt x="2464" y="133"/>
                  </a:moveTo>
                  <a:cubicBezTo>
                    <a:pt x="2464" y="130"/>
                    <a:pt x="2463" y="126"/>
                    <a:pt x="2462" y="122"/>
                  </a:cubicBezTo>
                  <a:cubicBezTo>
                    <a:pt x="2462" y="112"/>
                    <a:pt x="2462" y="100"/>
                    <a:pt x="2463" y="88"/>
                  </a:cubicBezTo>
                  <a:cubicBezTo>
                    <a:pt x="2465" y="96"/>
                    <a:pt x="2467" y="104"/>
                    <a:pt x="2467" y="111"/>
                  </a:cubicBezTo>
                  <a:cubicBezTo>
                    <a:pt x="2468" y="117"/>
                    <a:pt x="2468" y="117"/>
                    <a:pt x="2468" y="117"/>
                  </a:cubicBezTo>
                  <a:cubicBezTo>
                    <a:pt x="2466" y="123"/>
                    <a:pt x="2465" y="129"/>
                    <a:pt x="2464" y="133"/>
                  </a:cubicBezTo>
                  <a:close/>
                  <a:moveTo>
                    <a:pt x="2477" y="110"/>
                  </a:moveTo>
                  <a:cubicBezTo>
                    <a:pt x="2477" y="113"/>
                    <a:pt x="2477" y="116"/>
                    <a:pt x="2477" y="119"/>
                  </a:cubicBezTo>
                  <a:cubicBezTo>
                    <a:pt x="2476" y="122"/>
                    <a:pt x="2476" y="124"/>
                    <a:pt x="2475" y="127"/>
                  </a:cubicBezTo>
                  <a:cubicBezTo>
                    <a:pt x="2475" y="119"/>
                    <a:pt x="2474" y="111"/>
                    <a:pt x="2473" y="104"/>
                  </a:cubicBezTo>
                  <a:cubicBezTo>
                    <a:pt x="2474" y="98"/>
                    <a:pt x="2474" y="91"/>
                    <a:pt x="2475" y="86"/>
                  </a:cubicBezTo>
                  <a:cubicBezTo>
                    <a:pt x="2477" y="93"/>
                    <a:pt x="2477" y="102"/>
                    <a:pt x="2477" y="110"/>
                  </a:cubicBezTo>
                  <a:close/>
                  <a:moveTo>
                    <a:pt x="2487" y="142"/>
                  </a:moveTo>
                  <a:cubicBezTo>
                    <a:pt x="2487" y="142"/>
                    <a:pt x="2487" y="141"/>
                    <a:pt x="2488" y="138"/>
                  </a:cubicBezTo>
                  <a:cubicBezTo>
                    <a:pt x="2489" y="120"/>
                    <a:pt x="2488" y="96"/>
                    <a:pt x="2487" y="77"/>
                  </a:cubicBezTo>
                  <a:cubicBezTo>
                    <a:pt x="2489" y="81"/>
                    <a:pt x="2491" y="86"/>
                    <a:pt x="2492" y="92"/>
                  </a:cubicBezTo>
                  <a:cubicBezTo>
                    <a:pt x="2490" y="108"/>
                    <a:pt x="2488" y="129"/>
                    <a:pt x="2488" y="138"/>
                  </a:cubicBezTo>
                  <a:cubicBezTo>
                    <a:pt x="2487" y="139"/>
                    <a:pt x="2487" y="141"/>
                    <a:pt x="2487" y="142"/>
                  </a:cubicBezTo>
                  <a:close/>
                  <a:moveTo>
                    <a:pt x="2491" y="129"/>
                  </a:moveTo>
                  <a:cubicBezTo>
                    <a:pt x="2491" y="119"/>
                    <a:pt x="2492" y="107"/>
                    <a:pt x="2493" y="97"/>
                  </a:cubicBezTo>
                  <a:cubicBezTo>
                    <a:pt x="2493" y="100"/>
                    <a:pt x="2493" y="103"/>
                    <a:pt x="2493" y="106"/>
                  </a:cubicBezTo>
                  <a:cubicBezTo>
                    <a:pt x="2493" y="114"/>
                    <a:pt x="2492" y="121"/>
                    <a:pt x="2491" y="129"/>
                  </a:cubicBezTo>
                  <a:close/>
                  <a:moveTo>
                    <a:pt x="2502" y="125"/>
                  </a:moveTo>
                  <a:cubicBezTo>
                    <a:pt x="2503" y="120"/>
                    <a:pt x="2503" y="113"/>
                    <a:pt x="2503" y="107"/>
                  </a:cubicBezTo>
                  <a:cubicBezTo>
                    <a:pt x="2503" y="114"/>
                    <a:pt x="2503" y="120"/>
                    <a:pt x="2502" y="125"/>
                  </a:cubicBezTo>
                  <a:close/>
                  <a:moveTo>
                    <a:pt x="2517" y="112"/>
                  </a:moveTo>
                  <a:cubicBezTo>
                    <a:pt x="2517" y="105"/>
                    <a:pt x="2517" y="98"/>
                    <a:pt x="2517" y="91"/>
                  </a:cubicBezTo>
                  <a:cubicBezTo>
                    <a:pt x="2518" y="95"/>
                    <a:pt x="2518" y="99"/>
                    <a:pt x="2518" y="103"/>
                  </a:cubicBezTo>
                  <a:cubicBezTo>
                    <a:pt x="2518" y="106"/>
                    <a:pt x="2518" y="109"/>
                    <a:pt x="2517" y="112"/>
                  </a:cubicBezTo>
                  <a:close/>
                  <a:moveTo>
                    <a:pt x="2528" y="129"/>
                  </a:moveTo>
                  <a:cubicBezTo>
                    <a:pt x="2528" y="129"/>
                    <a:pt x="2528" y="129"/>
                    <a:pt x="2527" y="130"/>
                  </a:cubicBezTo>
                  <a:cubicBezTo>
                    <a:pt x="2527" y="132"/>
                    <a:pt x="2526" y="134"/>
                    <a:pt x="2526" y="137"/>
                  </a:cubicBezTo>
                  <a:cubicBezTo>
                    <a:pt x="2526" y="136"/>
                    <a:pt x="2526" y="136"/>
                    <a:pt x="2526" y="136"/>
                  </a:cubicBezTo>
                  <a:cubicBezTo>
                    <a:pt x="2526" y="134"/>
                    <a:pt x="2527" y="132"/>
                    <a:pt x="2527" y="130"/>
                  </a:cubicBezTo>
                  <a:cubicBezTo>
                    <a:pt x="2528" y="129"/>
                    <a:pt x="2528" y="129"/>
                    <a:pt x="2528" y="129"/>
                  </a:cubicBezTo>
                  <a:cubicBezTo>
                    <a:pt x="2528" y="129"/>
                    <a:pt x="2528" y="129"/>
                    <a:pt x="2528" y="129"/>
                  </a:cubicBezTo>
                  <a:close/>
                  <a:moveTo>
                    <a:pt x="2564" y="130"/>
                  </a:moveTo>
                  <a:cubicBezTo>
                    <a:pt x="2564" y="132"/>
                    <a:pt x="2563" y="134"/>
                    <a:pt x="2562" y="136"/>
                  </a:cubicBezTo>
                  <a:cubicBezTo>
                    <a:pt x="2562" y="131"/>
                    <a:pt x="2562" y="126"/>
                    <a:pt x="2562" y="121"/>
                  </a:cubicBezTo>
                  <a:cubicBezTo>
                    <a:pt x="2564" y="115"/>
                    <a:pt x="2566" y="110"/>
                    <a:pt x="2567" y="104"/>
                  </a:cubicBezTo>
                  <a:cubicBezTo>
                    <a:pt x="2566" y="114"/>
                    <a:pt x="2565" y="123"/>
                    <a:pt x="2564" y="130"/>
                  </a:cubicBezTo>
                  <a:close/>
                  <a:moveTo>
                    <a:pt x="2580" y="124"/>
                  </a:moveTo>
                  <a:cubicBezTo>
                    <a:pt x="2580" y="110"/>
                    <a:pt x="2582" y="94"/>
                    <a:pt x="2583" y="83"/>
                  </a:cubicBezTo>
                  <a:cubicBezTo>
                    <a:pt x="2583" y="87"/>
                    <a:pt x="2583" y="91"/>
                    <a:pt x="2583" y="95"/>
                  </a:cubicBezTo>
                  <a:cubicBezTo>
                    <a:pt x="2583" y="105"/>
                    <a:pt x="2582" y="114"/>
                    <a:pt x="2580" y="124"/>
                  </a:cubicBezTo>
                  <a:close/>
                  <a:moveTo>
                    <a:pt x="2596" y="160"/>
                  </a:moveTo>
                  <a:cubicBezTo>
                    <a:pt x="2596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6" y="160"/>
                  </a:cubicBezTo>
                  <a:close/>
                  <a:moveTo>
                    <a:pt x="2609" y="116"/>
                  </a:moveTo>
                  <a:cubicBezTo>
                    <a:pt x="2608" y="121"/>
                    <a:pt x="2606" y="127"/>
                    <a:pt x="2604" y="132"/>
                  </a:cubicBezTo>
                  <a:cubicBezTo>
                    <a:pt x="2604" y="127"/>
                    <a:pt x="2604" y="121"/>
                    <a:pt x="2604" y="115"/>
                  </a:cubicBezTo>
                  <a:cubicBezTo>
                    <a:pt x="2605" y="110"/>
                    <a:pt x="2605" y="104"/>
                    <a:pt x="2605" y="98"/>
                  </a:cubicBezTo>
                  <a:cubicBezTo>
                    <a:pt x="2605" y="95"/>
                    <a:pt x="2605" y="92"/>
                    <a:pt x="2605" y="89"/>
                  </a:cubicBezTo>
                  <a:cubicBezTo>
                    <a:pt x="2606" y="78"/>
                    <a:pt x="2607" y="68"/>
                    <a:pt x="2608" y="60"/>
                  </a:cubicBezTo>
                  <a:cubicBezTo>
                    <a:pt x="2611" y="68"/>
                    <a:pt x="2613" y="78"/>
                    <a:pt x="2613" y="87"/>
                  </a:cubicBezTo>
                  <a:cubicBezTo>
                    <a:pt x="2612" y="95"/>
                    <a:pt x="2611" y="106"/>
                    <a:pt x="2609" y="116"/>
                  </a:cubicBezTo>
                  <a:close/>
                  <a:moveTo>
                    <a:pt x="2617" y="136"/>
                  </a:moveTo>
                  <a:cubicBezTo>
                    <a:pt x="2617" y="137"/>
                    <a:pt x="2616" y="138"/>
                    <a:pt x="2616" y="139"/>
                  </a:cubicBezTo>
                  <a:cubicBezTo>
                    <a:pt x="2616" y="137"/>
                    <a:pt x="2616" y="135"/>
                    <a:pt x="2616" y="133"/>
                  </a:cubicBezTo>
                  <a:cubicBezTo>
                    <a:pt x="2617" y="130"/>
                    <a:pt x="2617" y="128"/>
                    <a:pt x="2618" y="125"/>
                  </a:cubicBezTo>
                  <a:cubicBezTo>
                    <a:pt x="2618" y="129"/>
                    <a:pt x="2617" y="133"/>
                    <a:pt x="2617" y="136"/>
                  </a:cubicBezTo>
                  <a:close/>
                  <a:moveTo>
                    <a:pt x="2633" y="126"/>
                  </a:moveTo>
                  <a:cubicBezTo>
                    <a:pt x="2632" y="113"/>
                    <a:pt x="2632" y="96"/>
                    <a:pt x="2632" y="84"/>
                  </a:cubicBezTo>
                  <a:cubicBezTo>
                    <a:pt x="2636" y="90"/>
                    <a:pt x="2638" y="100"/>
                    <a:pt x="2638" y="104"/>
                  </a:cubicBezTo>
                  <a:cubicBezTo>
                    <a:pt x="2638" y="110"/>
                    <a:pt x="2635" y="118"/>
                    <a:pt x="2633" y="126"/>
                  </a:cubicBezTo>
                  <a:close/>
                  <a:moveTo>
                    <a:pt x="2644" y="128"/>
                  </a:moveTo>
                  <a:cubicBezTo>
                    <a:pt x="2645" y="113"/>
                    <a:pt x="2645" y="91"/>
                    <a:pt x="2645" y="76"/>
                  </a:cubicBezTo>
                  <a:cubicBezTo>
                    <a:pt x="2647" y="83"/>
                    <a:pt x="2649" y="90"/>
                    <a:pt x="2649" y="96"/>
                  </a:cubicBezTo>
                  <a:cubicBezTo>
                    <a:pt x="2649" y="107"/>
                    <a:pt x="2646" y="117"/>
                    <a:pt x="2644" y="128"/>
                  </a:cubicBezTo>
                  <a:close/>
                  <a:moveTo>
                    <a:pt x="2684" y="112"/>
                  </a:moveTo>
                  <a:cubicBezTo>
                    <a:pt x="2684" y="110"/>
                    <a:pt x="2684" y="108"/>
                    <a:pt x="2683" y="105"/>
                  </a:cubicBezTo>
                  <a:cubicBezTo>
                    <a:pt x="2684" y="108"/>
                    <a:pt x="2683" y="112"/>
                    <a:pt x="2683" y="115"/>
                  </a:cubicBezTo>
                  <a:cubicBezTo>
                    <a:pt x="2678" y="131"/>
                    <a:pt x="2674" y="144"/>
                    <a:pt x="2674" y="144"/>
                  </a:cubicBezTo>
                  <a:cubicBezTo>
                    <a:pt x="2675" y="133"/>
                    <a:pt x="2679" y="110"/>
                    <a:pt x="2684" y="86"/>
                  </a:cubicBezTo>
                  <a:cubicBezTo>
                    <a:pt x="2686" y="90"/>
                    <a:pt x="2687" y="95"/>
                    <a:pt x="2688" y="99"/>
                  </a:cubicBezTo>
                  <a:cubicBezTo>
                    <a:pt x="2686" y="103"/>
                    <a:pt x="2685" y="108"/>
                    <a:pt x="2684" y="112"/>
                  </a:cubicBezTo>
                  <a:close/>
                  <a:moveTo>
                    <a:pt x="2696" y="133"/>
                  </a:moveTo>
                  <a:cubicBezTo>
                    <a:pt x="2696" y="133"/>
                    <a:pt x="2696" y="134"/>
                    <a:pt x="2696" y="134"/>
                  </a:cubicBezTo>
                  <a:cubicBezTo>
                    <a:pt x="2696" y="134"/>
                    <a:pt x="2696" y="134"/>
                    <a:pt x="2696" y="134"/>
                  </a:cubicBezTo>
                  <a:cubicBezTo>
                    <a:pt x="2696" y="134"/>
                    <a:pt x="2696" y="133"/>
                    <a:pt x="2696" y="133"/>
                  </a:cubicBezTo>
                  <a:cubicBezTo>
                    <a:pt x="2697" y="126"/>
                    <a:pt x="2698" y="117"/>
                    <a:pt x="2699" y="107"/>
                  </a:cubicBezTo>
                  <a:cubicBezTo>
                    <a:pt x="2699" y="110"/>
                    <a:pt x="2699" y="114"/>
                    <a:pt x="2699" y="117"/>
                  </a:cubicBezTo>
                  <a:cubicBezTo>
                    <a:pt x="2698" y="123"/>
                    <a:pt x="2697" y="129"/>
                    <a:pt x="2696" y="133"/>
                  </a:cubicBezTo>
                  <a:close/>
                  <a:moveTo>
                    <a:pt x="2701" y="159"/>
                  </a:move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lose/>
                  <a:moveTo>
                    <a:pt x="2742" y="143"/>
                  </a:moveTo>
                  <a:cubicBezTo>
                    <a:pt x="2742" y="142"/>
                    <a:pt x="2742" y="142"/>
                    <a:pt x="2742" y="141"/>
                  </a:cubicBezTo>
                  <a:cubicBezTo>
                    <a:pt x="2742" y="135"/>
                    <a:pt x="2743" y="127"/>
                    <a:pt x="2743" y="117"/>
                  </a:cubicBezTo>
                  <a:cubicBezTo>
                    <a:pt x="2744" y="121"/>
                    <a:pt x="2744" y="125"/>
                    <a:pt x="2744" y="129"/>
                  </a:cubicBezTo>
                  <a:cubicBezTo>
                    <a:pt x="2743" y="135"/>
                    <a:pt x="2743" y="139"/>
                    <a:pt x="2742" y="143"/>
                  </a:cubicBezTo>
                  <a:close/>
                  <a:moveTo>
                    <a:pt x="2746" y="117"/>
                  </a:moveTo>
                  <a:cubicBezTo>
                    <a:pt x="2745" y="115"/>
                    <a:pt x="2744" y="113"/>
                    <a:pt x="2744" y="111"/>
                  </a:cubicBezTo>
                  <a:cubicBezTo>
                    <a:pt x="2744" y="108"/>
                    <a:pt x="2744" y="104"/>
                    <a:pt x="2745" y="100"/>
                  </a:cubicBezTo>
                  <a:cubicBezTo>
                    <a:pt x="2746" y="103"/>
                    <a:pt x="2746" y="106"/>
                    <a:pt x="2747" y="108"/>
                  </a:cubicBezTo>
                  <a:cubicBezTo>
                    <a:pt x="2746" y="111"/>
                    <a:pt x="2746" y="114"/>
                    <a:pt x="2746" y="117"/>
                  </a:cubicBezTo>
                  <a:close/>
                  <a:moveTo>
                    <a:pt x="2754" y="133"/>
                  </a:moveTo>
                  <a:cubicBezTo>
                    <a:pt x="2754" y="133"/>
                    <a:pt x="2754" y="133"/>
                    <a:pt x="2754" y="133"/>
                  </a:cubicBezTo>
                  <a:cubicBezTo>
                    <a:pt x="2754" y="130"/>
                    <a:pt x="2755" y="127"/>
                    <a:pt x="2755" y="124"/>
                  </a:cubicBezTo>
                  <a:cubicBezTo>
                    <a:pt x="2755" y="125"/>
                    <a:pt x="2755" y="126"/>
                    <a:pt x="2755" y="128"/>
                  </a:cubicBezTo>
                  <a:cubicBezTo>
                    <a:pt x="2755" y="130"/>
                    <a:pt x="2754" y="131"/>
                    <a:pt x="2754" y="133"/>
                  </a:cubicBezTo>
                  <a:close/>
                  <a:moveTo>
                    <a:pt x="2791" y="142"/>
                  </a:moveTo>
                  <a:cubicBezTo>
                    <a:pt x="2791" y="139"/>
                    <a:pt x="2791" y="134"/>
                    <a:pt x="2791" y="128"/>
                  </a:cubicBezTo>
                  <a:cubicBezTo>
                    <a:pt x="2791" y="130"/>
                    <a:pt x="2791" y="132"/>
                    <a:pt x="2792" y="133"/>
                  </a:cubicBezTo>
                  <a:cubicBezTo>
                    <a:pt x="2791" y="139"/>
                    <a:pt x="2791" y="142"/>
                    <a:pt x="2791" y="142"/>
                  </a:cubicBezTo>
                  <a:close/>
                  <a:moveTo>
                    <a:pt x="2812" y="135"/>
                  </a:moveTo>
                  <a:cubicBezTo>
                    <a:pt x="2812" y="134"/>
                    <a:pt x="2812" y="134"/>
                    <a:pt x="2812" y="133"/>
                  </a:cubicBezTo>
                  <a:cubicBezTo>
                    <a:pt x="2812" y="121"/>
                    <a:pt x="2812" y="103"/>
                    <a:pt x="2811" y="88"/>
                  </a:cubicBezTo>
                  <a:cubicBezTo>
                    <a:pt x="2813" y="94"/>
                    <a:pt x="2815" y="100"/>
                    <a:pt x="2816" y="106"/>
                  </a:cubicBezTo>
                  <a:cubicBezTo>
                    <a:pt x="2814" y="118"/>
                    <a:pt x="2813" y="128"/>
                    <a:pt x="2812" y="135"/>
                  </a:cubicBezTo>
                  <a:close/>
                  <a:moveTo>
                    <a:pt x="2819" y="145"/>
                  </a:moveTo>
                  <a:cubicBezTo>
                    <a:pt x="2819" y="141"/>
                    <a:pt x="2819" y="136"/>
                    <a:pt x="2819" y="129"/>
                  </a:cubicBezTo>
                  <a:cubicBezTo>
                    <a:pt x="2820" y="133"/>
                    <a:pt x="2820" y="136"/>
                    <a:pt x="2821" y="139"/>
                  </a:cubicBezTo>
                  <a:cubicBezTo>
                    <a:pt x="2820" y="143"/>
                    <a:pt x="2819" y="145"/>
                    <a:pt x="2819" y="145"/>
                  </a:cubicBezTo>
                  <a:close/>
                  <a:moveTo>
                    <a:pt x="2824" y="159"/>
                  </a:moveTo>
                  <a:cubicBezTo>
                    <a:pt x="2825" y="159"/>
                    <a:pt x="2825" y="159"/>
                    <a:pt x="2825" y="159"/>
                  </a:cubicBezTo>
                  <a:cubicBezTo>
                    <a:pt x="2825" y="159"/>
                    <a:pt x="2825" y="158"/>
                    <a:pt x="2825" y="158"/>
                  </a:cubicBezTo>
                  <a:cubicBezTo>
                    <a:pt x="2825" y="159"/>
                    <a:pt x="2826" y="160"/>
                    <a:pt x="2826" y="160"/>
                  </a:cubicBezTo>
                  <a:cubicBezTo>
                    <a:pt x="2825" y="160"/>
                    <a:pt x="2825" y="159"/>
                    <a:pt x="2824" y="159"/>
                  </a:cubicBezTo>
                  <a:close/>
                  <a:moveTo>
                    <a:pt x="2826" y="121"/>
                  </a:moveTo>
                  <a:cubicBezTo>
                    <a:pt x="2824" y="117"/>
                    <a:pt x="2823" y="114"/>
                    <a:pt x="2821" y="110"/>
                  </a:cubicBezTo>
                  <a:cubicBezTo>
                    <a:pt x="2822" y="105"/>
                    <a:pt x="2822" y="99"/>
                    <a:pt x="2823" y="94"/>
                  </a:cubicBezTo>
                  <a:cubicBezTo>
                    <a:pt x="2823" y="100"/>
                    <a:pt x="2825" y="108"/>
                    <a:pt x="2827" y="116"/>
                  </a:cubicBezTo>
                  <a:cubicBezTo>
                    <a:pt x="2826" y="118"/>
                    <a:pt x="2826" y="119"/>
                    <a:pt x="2826" y="121"/>
                  </a:cubicBezTo>
                  <a:close/>
                  <a:moveTo>
                    <a:pt x="2834" y="142"/>
                  </a:moveTo>
                  <a:cubicBezTo>
                    <a:pt x="2833" y="138"/>
                    <a:pt x="2831" y="134"/>
                    <a:pt x="2829" y="129"/>
                  </a:cubicBezTo>
                  <a:cubicBezTo>
                    <a:pt x="2829" y="129"/>
                    <a:pt x="2829" y="128"/>
                    <a:pt x="2829" y="127"/>
                  </a:cubicBezTo>
                  <a:cubicBezTo>
                    <a:pt x="2831" y="132"/>
                    <a:pt x="2832" y="137"/>
                    <a:pt x="2834" y="142"/>
                  </a:cubicBezTo>
                  <a:cubicBezTo>
                    <a:pt x="2837" y="149"/>
                    <a:pt x="2839" y="153"/>
                    <a:pt x="2839" y="155"/>
                  </a:cubicBezTo>
                  <a:cubicBezTo>
                    <a:pt x="2837" y="151"/>
                    <a:pt x="2836" y="147"/>
                    <a:pt x="2834" y="142"/>
                  </a:cubicBezTo>
                  <a:close/>
                  <a:moveTo>
                    <a:pt x="3059" y="87"/>
                  </a:moveTo>
                  <a:cubicBezTo>
                    <a:pt x="3060" y="90"/>
                    <a:pt x="3061" y="92"/>
                    <a:pt x="3061" y="95"/>
                  </a:cubicBezTo>
                  <a:cubicBezTo>
                    <a:pt x="3061" y="94"/>
                    <a:pt x="3060" y="93"/>
                    <a:pt x="3059" y="92"/>
                  </a:cubicBezTo>
                  <a:cubicBezTo>
                    <a:pt x="3059" y="90"/>
                    <a:pt x="3059" y="89"/>
                    <a:pt x="3059" y="87"/>
                  </a:cubicBezTo>
                  <a:close/>
                  <a:moveTo>
                    <a:pt x="3047" y="84"/>
                  </a:moveTo>
                  <a:cubicBezTo>
                    <a:pt x="3050" y="87"/>
                    <a:pt x="3052" y="92"/>
                    <a:pt x="3055" y="96"/>
                  </a:cubicBezTo>
                  <a:cubicBezTo>
                    <a:pt x="3055" y="97"/>
                    <a:pt x="3056" y="99"/>
                    <a:pt x="3056" y="100"/>
                  </a:cubicBezTo>
                  <a:cubicBezTo>
                    <a:pt x="3056" y="104"/>
                    <a:pt x="3055" y="108"/>
                    <a:pt x="3054" y="112"/>
                  </a:cubicBezTo>
                  <a:cubicBezTo>
                    <a:pt x="3052" y="105"/>
                    <a:pt x="3049" y="98"/>
                    <a:pt x="3046" y="91"/>
                  </a:cubicBezTo>
                  <a:cubicBezTo>
                    <a:pt x="3046" y="89"/>
                    <a:pt x="3047" y="86"/>
                    <a:pt x="3047" y="84"/>
                  </a:cubicBezTo>
                  <a:close/>
                  <a:moveTo>
                    <a:pt x="3052" y="111"/>
                  </a:moveTo>
                  <a:cubicBezTo>
                    <a:pt x="3049" y="108"/>
                    <a:pt x="3047" y="105"/>
                    <a:pt x="3045" y="102"/>
                  </a:cubicBezTo>
                  <a:cubicBezTo>
                    <a:pt x="3045" y="99"/>
                    <a:pt x="3046" y="96"/>
                    <a:pt x="3046" y="93"/>
                  </a:cubicBezTo>
                  <a:cubicBezTo>
                    <a:pt x="3048" y="98"/>
                    <a:pt x="3050" y="105"/>
                    <a:pt x="3052" y="111"/>
                  </a:cubicBezTo>
                  <a:close/>
                  <a:moveTo>
                    <a:pt x="3034" y="56"/>
                  </a:moveTo>
                  <a:cubicBezTo>
                    <a:pt x="3039" y="62"/>
                    <a:pt x="3042" y="68"/>
                    <a:pt x="3045" y="74"/>
                  </a:cubicBezTo>
                  <a:cubicBezTo>
                    <a:pt x="3042" y="69"/>
                    <a:pt x="3038" y="64"/>
                    <a:pt x="3034" y="60"/>
                  </a:cubicBezTo>
                  <a:cubicBezTo>
                    <a:pt x="3034" y="59"/>
                    <a:pt x="3034" y="57"/>
                    <a:pt x="3034" y="56"/>
                  </a:cubicBezTo>
                  <a:close/>
                  <a:moveTo>
                    <a:pt x="3033" y="64"/>
                  </a:moveTo>
                  <a:cubicBezTo>
                    <a:pt x="3037" y="69"/>
                    <a:pt x="3041" y="74"/>
                    <a:pt x="3044" y="80"/>
                  </a:cubicBezTo>
                  <a:cubicBezTo>
                    <a:pt x="3044" y="81"/>
                    <a:pt x="3043" y="83"/>
                    <a:pt x="3043" y="85"/>
                  </a:cubicBezTo>
                  <a:cubicBezTo>
                    <a:pt x="3042" y="84"/>
                    <a:pt x="3042" y="83"/>
                    <a:pt x="3042" y="83"/>
                  </a:cubicBezTo>
                  <a:cubicBezTo>
                    <a:pt x="3042" y="83"/>
                    <a:pt x="3042" y="84"/>
                    <a:pt x="3043" y="85"/>
                  </a:cubicBezTo>
                  <a:cubicBezTo>
                    <a:pt x="3042" y="88"/>
                    <a:pt x="3041" y="91"/>
                    <a:pt x="3040" y="94"/>
                  </a:cubicBezTo>
                  <a:cubicBezTo>
                    <a:pt x="3037" y="89"/>
                    <a:pt x="3034" y="85"/>
                    <a:pt x="3031" y="80"/>
                  </a:cubicBezTo>
                  <a:cubicBezTo>
                    <a:pt x="3032" y="75"/>
                    <a:pt x="3033" y="69"/>
                    <a:pt x="3033" y="64"/>
                  </a:cubicBezTo>
                  <a:close/>
                  <a:moveTo>
                    <a:pt x="3024" y="139"/>
                  </a:moveTo>
                  <a:cubicBezTo>
                    <a:pt x="3024" y="120"/>
                    <a:pt x="3027" y="101"/>
                    <a:pt x="3030" y="83"/>
                  </a:cubicBezTo>
                  <a:cubicBezTo>
                    <a:pt x="3033" y="87"/>
                    <a:pt x="3036" y="91"/>
                    <a:pt x="3039" y="95"/>
                  </a:cubicBezTo>
                  <a:cubicBezTo>
                    <a:pt x="3033" y="114"/>
                    <a:pt x="3027" y="133"/>
                    <a:pt x="3025" y="152"/>
                  </a:cubicBezTo>
                  <a:cubicBezTo>
                    <a:pt x="3024" y="148"/>
                    <a:pt x="3024" y="143"/>
                    <a:pt x="3024" y="139"/>
                  </a:cubicBezTo>
                  <a:close/>
                  <a:moveTo>
                    <a:pt x="3043" y="143"/>
                  </a:moveTo>
                  <a:cubicBezTo>
                    <a:pt x="3043" y="142"/>
                    <a:pt x="3042" y="141"/>
                    <a:pt x="3041" y="140"/>
                  </a:cubicBezTo>
                  <a:cubicBezTo>
                    <a:pt x="3042" y="141"/>
                    <a:pt x="3042" y="143"/>
                    <a:pt x="3043" y="144"/>
                  </a:cubicBezTo>
                  <a:cubicBezTo>
                    <a:pt x="3041" y="146"/>
                    <a:pt x="3040" y="149"/>
                    <a:pt x="3038" y="152"/>
                  </a:cubicBezTo>
                  <a:cubicBezTo>
                    <a:pt x="3039" y="146"/>
                    <a:pt x="3040" y="140"/>
                    <a:pt x="3041" y="135"/>
                  </a:cubicBezTo>
                  <a:cubicBezTo>
                    <a:pt x="3042" y="137"/>
                    <a:pt x="3043" y="139"/>
                    <a:pt x="3044" y="142"/>
                  </a:cubicBezTo>
                  <a:cubicBezTo>
                    <a:pt x="3044" y="142"/>
                    <a:pt x="3043" y="142"/>
                    <a:pt x="3043" y="143"/>
                  </a:cubicBezTo>
                  <a:close/>
                  <a:moveTo>
                    <a:pt x="3042" y="126"/>
                  </a:moveTo>
                  <a:cubicBezTo>
                    <a:pt x="3043" y="118"/>
                    <a:pt x="3044" y="110"/>
                    <a:pt x="3045" y="102"/>
                  </a:cubicBezTo>
                  <a:cubicBezTo>
                    <a:pt x="3048" y="107"/>
                    <a:pt x="3051" y="112"/>
                    <a:pt x="3053" y="116"/>
                  </a:cubicBezTo>
                  <a:cubicBezTo>
                    <a:pt x="3052" y="122"/>
                    <a:pt x="3050" y="127"/>
                    <a:pt x="3048" y="133"/>
                  </a:cubicBezTo>
                  <a:cubicBezTo>
                    <a:pt x="3045" y="130"/>
                    <a:pt x="3043" y="128"/>
                    <a:pt x="3042" y="126"/>
                  </a:cubicBezTo>
                  <a:close/>
                  <a:moveTo>
                    <a:pt x="3054" y="140"/>
                  </a:moveTo>
                  <a:cubicBezTo>
                    <a:pt x="3053" y="140"/>
                    <a:pt x="3053" y="140"/>
                    <a:pt x="3053" y="140"/>
                  </a:cubicBezTo>
                  <a:cubicBezTo>
                    <a:pt x="3054" y="135"/>
                    <a:pt x="3055" y="130"/>
                    <a:pt x="3056" y="125"/>
                  </a:cubicBezTo>
                  <a:cubicBezTo>
                    <a:pt x="3056" y="127"/>
                    <a:pt x="3057" y="128"/>
                    <a:pt x="3057" y="130"/>
                  </a:cubicBezTo>
                  <a:cubicBezTo>
                    <a:pt x="3056" y="133"/>
                    <a:pt x="3055" y="137"/>
                    <a:pt x="3054" y="140"/>
                  </a:cubicBezTo>
                  <a:close/>
                  <a:moveTo>
                    <a:pt x="3060" y="122"/>
                  </a:moveTo>
                  <a:cubicBezTo>
                    <a:pt x="3059" y="120"/>
                    <a:pt x="3058" y="119"/>
                    <a:pt x="3057" y="117"/>
                  </a:cubicBezTo>
                  <a:cubicBezTo>
                    <a:pt x="3057" y="114"/>
                    <a:pt x="3058" y="110"/>
                    <a:pt x="3058" y="106"/>
                  </a:cubicBezTo>
                  <a:cubicBezTo>
                    <a:pt x="3059" y="111"/>
                    <a:pt x="3060" y="115"/>
                    <a:pt x="3061" y="120"/>
                  </a:cubicBezTo>
                  <a:cubicBezTo>
                    <a:pt x="3061" y="120"/>
                    <a:pt x="3061" y="121"/>
                    <a:pt x="3060" y="122"/>
                  </a:cubicBezTo>
                  <a:close/>
                  <a:moveTo>
                    <a:pt x="3062" y="151"/>
                  </a:moveTo>
                  <a:cubicBezTo>
                    <a:pt x="3061" y="151"/>
                    <a:pt x="3061" y="151"/>
                    <a:pt x="3061" y="151"/>
                  </a:cubicBezTo>
                  <a:cubicBezTo>
                    <a:pt x="3062" y="150"/>
                    <a:pt x="3062" y="150"/>
                    <a:pt x="3062" y="149"/>
                  </a:cubicBezTo>
                  <a:cubicBezTo>
                    <a:pt x="3062" y="149"/>
                    <a:pt x="3062" y="149"/>
                    <a:pt x="3062" y="149"/>
                  </a:cubicBezTo>
                  <a:cubicBezTo>
                    <a:pt x="3062" y="150"/>
                    <a:pt x="3062" y="150"/>
                    <a:pt x="3062" y="151"/>
                  </a:cubicBezTo>
                  <a:close/>
                  <a:moveTo>
                    <a:pt x="3062" y="117"/>
                  </a:moveTo>
                  <a:cubicBezTo>
                    <a:pt x="3061" y="112"/>
                    <a:pt x="3060" y="107"/>
                    <a:pt x="3058" y="102"/>
                  </a:cubicBezTo>
                  <a:cubicBezTo>
                    <a:pt x="3058" y="102"/>
                    <a:pt x="3059" y="101"/>
                    <a:pt x="3059" y="101"/>
                  </a:cubicBezTo>
                  <a:cubicBezTo>
                    <a:pt x="3061" y="105"/>
                    <a:pt x="3063" y="108"/>
                    <a:pt x="3065" y="112"/>
                  </a:cubicBezTo>
                  <a:cubicBezTo>
                    <a:pt x="3064" y="113"/>
                    <a:pt x="3063" y="115"/>
                    <a:pt x="3063" y="116"/>
                  </a:cubicBezTo>
                  <a:cubicBezTo>
                    <a:pt x="3062" y="117"/>
                    <a:pt x="3062" y="117"/>
                    <a:pt x="3062" y="117"/>
                  </a:cubicBezTo>
                  <a:close/>
                  <a:moveTo>
                    <a:pt x="3065" y="143"/>
                  </a:moveTo>
                  <a:cubicBezTo>
                    <a:pt x="3064" y="142"/>
                    <a:pt x="3064" y="142"/>
                    <a:pt x="3064" y="142"/>
                  </a:cubicBezTo>
                  <a:cubicBezTo>
                    <a:pt x="3064" y="141"/>
                    <a:pt x="3065" y="141"/>
                    <a:pt x="3065" y="140"/>
                  </a:cubicBezTo>
                  <a:cubicBezTo>
                    <a:pt x="3065" y="140"/>
                    <a:pt x="3065" y="141"/>
                    <a:pt x="3065" y="141"/>
                  </a:cubicBezTo>
                  <a:cubicBezTo>
                    <a:pt x="3065" y="142"/>
                    <a:pt x="3065" y="142"/>
                    <a:pt x="3065" y="143"/>
                  </a:cubicBezTo>
                  <a:close/>
                  <a:moveTo>
                    <a:pt x="3068" y="131"/>
                  </a:move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lose/>
                  <a:moveTo>
                    <a:pt x="3070" y="151"/>
                  </a:moveTo>
                  <a:cubicBezTo>
                    <a:pt x="3070" y="151"/>
                    <a:pt x="3070" y="151"/>
                    <a:pt x="3070" y="151"/>
                  </a:cubicBezTo>
                  <a:cubicBezTo>
                    <a:pt x="3070" y="151"/>
                    <a:pt x="3070" y="151"/>
                    <a:pt x="3070" y="152"/>
                  </a:cubicBezTo>
                  <a:cubicBezTo>
                    <a:pt x="3070" y="152"/>
                    <a:pt x="3070" y="151"/>
                    <a:pt x="3070" y="151"/>
                  </a:cubicBezTo>
                  <a:close/>
                  <a:moveTo>
                    <a:pt x="3072" y="126"/>
                  </a:moveTo>
                  <a:cubicBezTo>
                    <a:pt x="3072" y="128"/>
                    <a:pt x="3071" y="129"/>
                    <a:pt x="3070" y="131"/>
                  </a:cubicBezTo>
                  <a:cubicBezTo>
                    <a:pt x="3070" y="129"/>
                    <a:pt x="3070" y="127"/>
                    <a:pt x="3070" y="125"/>
                  </a:cubicBezTo>
                  <a:cubicBezTo>
                    <a:pt x="3070" y="124"/>
                    <a:pt x="3070" y="123"/>
                    <a:pt x="3071" y="122"/>
                  </a:cubicBezTo>
                  <a:cubicBezTo>
                    <a:pt x="3071" y="123"/>
                    <a:pt x="3072" y="124"/>
                    <a:pt x="3072" y="125"/>
                  </a:cubicBezTo>
                  <a:lnTo>
                    <a:pt x="3072" y="126"/>
                  </a:lnTo>
                  <a:close/>
                  <a:moveTo>
                    <a:pt x="3080" y="91"/>
                  </a:moveTo>
                  <a:cubicBezTo>
                    <a:pt x="3080" y="92"/>
                    <a:pt x="3080" y="94"/>
                    <a:pt x="3080" y="96"/>
                  </a:cubicBezTo>
                  <a:cubicBezTo>
                    <a:pt x="3080" y="95"/>
                    <a:pt x="3080" y="94"/>
                    <a:pt x="3079" y="93"/>
                  </a:cubicBezTo>
                  <a:cubicBezTo>
                    <a:pt x="3079" y="92"/>
                    <a:pt x="3079" y="91"/>
                    <a:pt x="3080" y="91"/>
                  </a:cubicBezTo>
                  <a:close/>
                  <a:moveTo>
                    <a:pt x="3078" y="117"/>
                  </a:moveTo>
                  <a:cubicBezTo>
                    <a:pt x="3077" y="113"/>
                    <a:pt x="3076" y="109"/>
                    <a:pt x="3076" y="106"/>
                  </a:cubicBezTo>
                  <a:cubicBezTo>
                    <a:pt x="3076" y="105"/>
                    <a:pt x="3076" y="105"/>
                    <a:pt x="3076" y="104"/>
                  </a:cubicBezTo>
                  <a:cubicBezTo>
                    <a:pt x="3077" y="107"/>
                    <a:pt x="3078" y="111"/>
                    <a:pt x="3079" y="114"/>
                  </a:cubicBezTo>
                  <a:cubicBezTo>
                    <a:pt x="3079" y="115"/>
                    <a:pt x="3078" y="116"/>
                    <a:pt x="3078" y="117"/>
                  </a:cubicBezTo>
                  <a:close/>
                  <a:moveTo>
                    <a:pt x="3081" y="127"/>
                  </a:moveTo>
                  <a:cubicBezTo>
                    <a:pt x="3080" y="127"/>
                    <a:pt x="3080" y="126"/>
                    <a:pt x="3080" y="126"/>
                  </a:cubicBezTo>
                  <a:cubicBezTo>
                    <a:pt x="3080" y="125"/>
                    <a:pt x="3080" y="125"/>
                    <a:pt x="3081" y="124"/>
                  </a:cubicBezTo>
                  <a:cubicBezTo>
                    <a:pt x="3081" y="125"/>
                    <a:pt x="3081" y="126"/>
                    <a:pt x="3081" y="127"/>
                  </a:cubicBezTo>
                  <a:close/>
                  <a:moveTo>
                    <a:pt x="3087" y="141"/>
                  </a:moveTo>
                  <a:cubicBezTo>
                    <a:pt x="3087" y="140"/>
                    <a:pt x="3087" y="140"/>
                    <a:pt x="3087" y="140"/>
                  </a:cubicBezTo>
                  <a:cubicBezTo>
                    <a:pt x="3087" y="140"/>
                    <a:pt x="3087" y="140"/>
                    <a:pt x="3087" y="140"/>
                  </a:cubicBezTo>
                  <a:cubicBezTo>
                    <a:pt x="3087" y="139"/>
                    <a:pt x="3087" y="139"/>
                    <a:pt x="3087" y="139"/>
                  </a:cubicBezTo>
                  <a:cubicBezTo>
                    <a:pt x="3087" y="139"/>
                    <a:pt x="3087" y="140"/>
                    <a:pt x="3087" y="141"/>
                  </a:cubicBezTo>
                  <a:close/>
                  <a:moveTo>
                    <a:pt x="3119" y="64"/>
                  </a:moveTo>
                  <a:cubicBezTo>
                    <a:pt x="3120" y="69"/>
                    <a:pt x="3121" y="75"/>
                    <a:pt x="3122" y="80"/>
                  </a:cubicBezTo>
                  <a:cubicBezTo>
                    <a:pt x="3120" y="82"/>
                    <a:pt x="3119" y="85"/>
                    <a:pt x="3117" y="87"/>
                  </a:cubicBezTo>
                  <a:cubicBezTo>
                    <a:pt x="3117" y="86"/>
                    <a:pt x="3116" y="84"/>
                    <a:pt x="3115" y="83"/>
                  </a:cubicBezTo>
                  <a:cubicBezTo>
                    <a:pt x="3116" y="84"/>
                    <a:pt x="3117" y="86"/>
                    <a:pt x="3117" y="87"/>
                  </a:cubicBezTo>
                  <a:cubicBezTo>
                    <a:pt x="3116" y="90"/>
                    <a:pt x="3114" y="92"/>
                    <a:pt x="3113" y="94"/>
                  </a:cubicBezTo>
                  <a:cubicBezTo>
                    <a:pt x="3111" y="89"/>
                    <a:pt x="3110" y="85"/>
                    <a:pt x="3108" y="80"/>
                  </a:cubicBezTo>
                  <a:cubicBezTo>
                    <a:pt x="3112" y="74"/>
                    <a:pt x="3116" y="69"/>
                    <a:pt x="3119" y="64"/>
                  </a:cubicBezTo>
                  <a:close/>
                  <a:moveTo>
                    <a:pt x="3097" y="72"/>
                  </a:moveTo>
                  <a:cubicBezTo>
                    <a:pt x="3099" y="75"/>
                    <a:pt x="3100" y="77"/>
                    <a:pt x="3102" y="80"/>
                  </a:cubicBezTo>
                  <a:cubicBezTo>
                    <a:pt x="3100" y="82"/>
                    <a:pt x="3099" y="84"/>
                    <a:pt x="3097" y="86"/>
                  </a:cubicBezTo>
                  <a:cubicBezTo>
                    <a:pt x="3097" y="85"/>
                    <a:pt x="3096" y="83"/>
                    <a:pt x="3096" y="82"/>
                  </a:cubicBezTo>
                  <a:cubicBezTo>
                    <a:pt x="3096" y="78"/>
                    <a:pt x="3096" y="74"/>
                    <a:pt x="3097" y="72"/>
                  </a:cubicBezTo>
                  <a:close/>
                  <a:moveTo>
                    <a:pt x="3090" y="108"/>
                  </a:moveTo>
                  <a:cubicBezTo>
                    <a:pt x="3091" y="106"/>
                    <a:pt x="3093" y="104"/>
                    <a:pt x="3094" y="101"/>
                  </a:cubicBezTo>
                  <a:cubicBezTo>
                    <a:pt x="3094" y="106"/>
                    <a:pt x="3095" y="112"/>
                    <a:pt x="3096" y="117"/>
                  </a:cubicBezTo>
                  <a:cubicBezTo>
                    <a:pt x="3095" y="119"/>
                    <a:pt x="3093" y="120"/>
                    <a:pt x="3092" y="122"/>
                  </a:cubicBezTo>
                  <a:cubicBezTo>
                    <a:pt x="3092" y="117"/>
                    <a:pt x="3091" y="113"/>
                    <a:pt x="3090" y="108"/>
                  </a:cubicBezTo>
                  <a:close/>
                  <a:moveTo>
                    <a:pt x="3097" y="134"/>
                  </a:moveTo>
                  <a:cubicBezTo>
                    <a:pt x="3096" y="131"/>
                    <a:pt x="3095" y="128"/>
                    <a:pt x="3094" y="126"/>
                  </a:cubicBezTo>
                  <a:cubicBezTo>
                    <a:pt x="3095" y="124"/>
                    <a:pt x="3095" y="123"/>
                    <a:pt x="3096" y="122"/>
                  </a:cubicBezTo>
                  <a:cubicBezTo>
                    <a:pt x="3097" y="123"/>
                    <a:pt x="3097" y="125"/>
                    <a:pt x="3097" y="127"/>
                  </a:cubicBezTo>
                  <a:cubicBezTo>
                    <a:pt x="3097" y="129"/>
                    <a:pt x="3097" y="131"/>
                    <a:pt x="3097" y="134"/>
                  </a:cubicBezTo>
                  <a:close/>
                  <a:moveTo>
                    <a:pt x="3096" y="98"/>
                  </a:moveTo>
                  <a:cubicBezTo>
                    <a:pt x="3096" y="98"/>
                    <a:pt x="3096" y="97"/>
                    <a:pt x="3097" y="97"/>
                  </a:cubicBezTo>
                  <a:cubicBezTo>
                    <a:pt x="3097" y="101"/>
                    <a:pt x="3097" y="105"/>
                    <a:pt x="3097" y="108"/>
                  </a:cubicBezTo>
                  <a:cubicBezTo>
                    <a:pt x="3097" y="105"/>
                    <a:pt x="3096" y="101"/>
                    <a:pt x="3096" y="98"/>
                  </a:cubicBezTo>
                  <a:close/>
                  <a:moveTo>
                    <a:pt x="3100" y="92"/>
                  </a:moveTo>
                  <a:cubicBezTo>
                    <a:pt x="3101" y="90"/>
                    <a:pt x="3103" y="88"/>
                    <a:pt x="3104" y="86"/>
                  </a:cubicBezTo>
                  <a:cubicBezTo>
                    <a:pt x="3105" y="88"/>
                    <a:pt x="3106" y="91"/>
                    <a:pt x="3107" y="93"/>
                  </a:cubicBezTo>
                  <a:cubicBezTo>
                    <a:pt x="3107" y="96"/>
                    <a:pt x="3107" y="99"/>
                    <a:pt x="3108" y="102"/>
                  </a:cubicBezTo>
                  <a:cubicBezTo>
                    <a:pt x="3107" y="104"/>
                    <a:pt x="3106" y="105"/>
                    <a:pt x="3104" y="106"/>
                  </a:cubicBezTo>
                  <a:cubicBezTo>
                    <a:pt x="3103" y="102"/>
                    <a:pt x="3102" y="97"/>
                    <a:pt x="3100" y="92"/>
                  </a:cubicBezTo>
                  <a:close/>
                  <a:moveTo>
                    <a:pt x="3105" y="107"/>
                  </a:moveTo>
                  <a:cubicBezTo>
                    <a:pt x="3106" y="106"/>
                    <a:pt x="3107" y="104"/>
                    <a:pt x="3108" y="102"/>
                  </a:cubicBezTo>
                  <a:cubicBezTo>
                    <a:pt x="3110" y="118"/>
                    <a:pt x="3112" y="133"/>
                    <a:pt x="3114" y="149"/>
                  </a:cubicBezTo>
                  <a:cubicBezTo>
                    <a:pt x="3111" y="137"/>
                    <a:pt x="3108" y="122"/>
                    <a:pt x="3105" y="107"/>
                  </a:cubicBezTo>
                  <a:close/>
                  <a:moveTo>
                    <a:pt x="3113" y="95"/>
                  </a:moveTo>
                  <a:cubicBezTo>
                    <a:pt x="3115" y="93"/>
                    <a:pt x="3116" y="91"/>
                    <a:pt x="3118" y="89"/>
                  </a:cubicBezTo>
                  <a:cubicBezTo>
                    <a:pt x="3124" y="103"/>
                    <a:pt x="3125" y="120"/>
                    <a:pt x="3125" y="136"/>
                  </a:cubicBezTo>
                  <a:cubicBezTo>
                    <a:pt x="3122" y="122"/>
                    <a:pt x="3118" y="109"/>
                    <a:pt x="3113" y="95"/>
                  </a:cubicBezTo>
                  <a:close/>
                  <a:moveTo>
                    <a:pt x="3118" y="88"/>
                  </a:moveTo>
                  <a:cubicBezTo>
                    <a:pt x="3120" y="86"/>
                    <a:pt x="3121" y="85"/>
                    <a:pt x="3122" y="83"/>
                  </a:cubicBezTo>
                  <a:cubicBezTo>
                    <a:pt x="3123" y="90"/>
                    <a:pt x="3125" y="98"/>
                    <a:pt x="3126" y="105"/>
                  </a:cubicBezTo>
                  <a:cubicBezTo>
                    <a:pt x="3123" y="99"/>
                    <a:pt x="3121" y="93"/>
                    <a:pt x="3118" y="88"/>
                  </a:cubicBezTo>
                  <a:close/>
                  <a:moveTo>
                    <a:pt x="3131" y="92"/>
                  </a:moveTo>
                  <a:cubicBezTo>
                    <a:pt x="3129" y="86"/>
                    <a:pt x="3128" y="80"/>
                    <a:pt x="3127" y="74"/>
                  </a:cubicBezTo>
                  <a:cubicBezTo>
                    <a:pt x="3129" y="71"/>
                    <a:pt x="3131" y="68"/>
                    <a:pt x="3132" y="65"/>
                  </a:cubicBezTo>
                  <a:cubicBezTo>
                    <a:pt x="3134" y="69"/>
                    <a:pt x="3137" y="72"/>
                    <a:pt x="3139" y="75"/>
                  </a:cubicBezTo>
                  <a:cubicBezTo>
                    <a:pt x="3139" y="77"/>
                    <a:pt x="3139" y="79"/>
                    <a:pt x="3139" y="81"/>
                  </a:cubicBezTo>
                  <a:cubicBezTo>
                    <a:pt x="3138" y="80"/>
                    <a:pt x="3138" y="80"/>
                    <a:pt x="3137" y="79"/>
                  </a:cubicBezTo>
                  <a:cubicBezTo>
                    <a:pt x="3138" y="80"/>
                    <a:pt x="3138" y="81"/>
                    <a:pt x="3139" y="81"/>
                  </a:cubicBezTo>
                  <a:cubicBezTo>
                    <a:pt x="3138" y="86"/>
                    <a:pt x="3138" y="90"/>
                    <a:pt x="3138" y="91"/>
                  </a:cubicBezTo>
                  <a:cubicBezTo>
                    <a:pt x="3138" y="95"/>
                    <a:pt x="3138" y="100"/>
                    <a:pt x="3139" y="104"/>
                  </a:cubicBezTo>
                  <a:cubicBezTo>
                    <a:pt x="3138" y="101"/>
                    <a:pt x="3138" y="99"/>
                    <a:pt x="3137" y="96"/>
                  </a:cubicBezTo>
                  <a:cubicBezTo>
                    <a:pt x="3138" y="100"/>
                    <a:pt x="3138" y="104"/>
                    <a:pt x="3139" y="108"/>
                  </a:cubicBezTo>
                  <a:cubicBezTo>
                    <a:pt x="3139" y="120"/>
                    <a:pt x="3140" y="132"/>
                    <a:pt x="3140" y="143"/>
                  </a:cubicBezTo>
                  <a:cubicBezTo>
                    <a:pt x="3138" y="126"/>
                    <a:pt x="3135" y="109"/>
                    <a:pt x="3131" y="92"/>
                  </a:cubicBezTo>
                  <a:close/>
                  <a:moveTo>
                    <a:pt x="3154" y="125"/>
                  </a:moveTo>
                  <a:cubicBezTo>
                    <a:pt x="3151" y="116"/>
                    <a:pt x="3149" y="108"/>
                    <a:pt x="3146" y="99"/>
                  </a:cubicBezTo>
                  <a:cubicBezTo>
                    <a:pt x="3144" y="93"/>
                    <a:pt x="3143" y="87"/>
                    <a:pt x="3143" y="82"/>
                  </a:cubicBezTo>
                  <a:cubicBezTo>
                    <a:pt x="3148" y="91"/>
                    <a:pt x="3151" y="100"/>
                    <a:pt x="3154" y="109"/>
                  </a:cubicBezTo>
                  <a:cubicBezTo>
                    <a:pt x="3154" y="114"/>
                    <a:pt x="3154" y="120"/>
                    <a:pt x="3154" y="125"/>
                  </a:cubicBezTo>
                  <a:close/>
                  <a:moveTo>
                    <a:pt x="3154" y="97"/>
                  </a:moveTo>
                  <a:cubicBezTo>
                    <a:pt x="3151" y="90"/>
                    <a:pt x="3147" y="83"/>
                    <a:pt x="3142" y="77"/>
                  </a:cubicBezTo>
                  <a:cubicBezTo>
                    <a:pt x="3142" y="72"/>
                    <a:pt x="3141" y="67"/>
                    <a:pt x="3142" y="63"/>
                  </a:cubicBezTo>
                  <a:cubicBezTo>
                    <a:pt x="3147" y="70"/>
                    <a:pt x="3151" y="77"/>
                    <a:pt x="3155" y="85"/>
                  </a:cubicBezTo>
                  <a:cubicBezTo>
                    <a:pt x="3155" y="89"/>
                    <a:pt x="3155" y="93"/>
                    <a:pt x="3154" y="97"/>
                  </a:cubicBezTo>
                  <a:close/>
                  <a:moveTo>
                    <a:pt x="3164" y="119"/>
                  </a:moveTo>
                  <a:cubicBezTo>
                    <a:pt x="3163" y="110"/>
                    <a:pt x="3161" y="102"/>
                    <a:pt x="3159" y="93"/>
                  </a:cubicBezTo>
                  <a:cubicBezTo>
                    <a:pt x="3161" y="98"/>
                    <a:pt x="3164" y="104"/>
                    <a:pt x="3165" y="109"/>
                  </a:cubicBezTo>
                  <a:cubicBezTo>
                    <a:pt x="3166" y="112"/>
                    <a:pt x="3166" y="114"/>
                    <a:pt x="3167" y="116"/>
                  </a:cubicBezTo>
                  <a:cubicBezTo>
                    <a:pt x="3167" y="120"/>
                    <a:pt x="3167" y="124"/>
                    <a:pt x="3167" y="127"/>
                  </a:cubicBezTo>
                  <a:cubicBezTo>
                    <a:pt x="3166" y="125"/>
                    <a:pt x="3165" y="122"/>
                    <a:pt x="3164" y="119"/>
                  </a:cubicBezTo>
                  <a:close/>
                  <a:moveTo>
                    <a:pt x="3175" y="151"/>
                  </a:moveTo>
                  <a:cubicBezTo>
                    <a:pt x="3175" y="151"/>
                    <a:pt x="3175" y="151"/>
                    <a:pt x="3175" y="151"/>
                  </a:cubicBezTo>
                  <a:cubicBezTo>
                    <a:pt x="3175" y="151"/>
                    <a:pt x="3175" y="150"/>
                    <a:pt x="3175" y="150"/>
                  </a:cubicBezTo>
                  <a:cubicBezTo>
                    <a:pt x="3175" y="150"/>
                    <a:pt x="3175" y="150"/>
                    <a:pt x="3175" y="150"/>
                  </a:cubicBezTo>
                  <a:cubicBezTo>
                    <a:pt x="3175" y="151"/>
                    <a:pt x="3175" y="151"/>
                    <a:pt x="3175" y="151"/>
                  </a:cubicBezTo>
                  <a:close/>
                  <a:moveTo>
                    <a:pt x="3181" y="114"/>
                  </a:moveTo>
                  <a:cubicBezTo>
                    <a:pt x="3179" y="105"/>
                    <a:pt x="3176" y="96"/>
                    <a:pt x="3172" y="88"/>
                  </a:cubicBezTo>
                  <a:cubicBezTo>
                    <a:pt x="3176" y="97"/>
                    <a:pt x="3178" y="110"/>
                    <a:pt x="3180" y="122"/>
                  </a:cubicBezTo>
                  <a:cubicBezTo>
                    <a:pt x="3179" y="127"/>
                    <a:pt x="3178" y="132"/>
                    <a:pt x="3177" y="136"/>
                  </a:cubicBezTo>
                  <a:cubicBezTo>
                    <a:pt x="3176" y="134"/>
                    <a:pt x="3176" y="133"/>
                    <a:pt x="3175" y="131"/>
                  </a:cubicBezTo>
                  <a:cubicBezTo>
                    <a:pt x="3175" y="117"/>
                    <a:pt x="3174" y="102"/>
                    <a:pt x="3172" y="87"/>
                  </a:cubicBezTo>
                  <a:cubicBezTo>
                    <a:pt x="3172" y="87"/>
                    <a:pt x="3172" y="88"/>
                    <a:pt x="3172" y="88"/>
                  </a:cubicBezTo>
                  <a:cubicBezTo>
                    <a:pt x="3172" y="88"/>
                    <a:pt x="3172" y="87"/>
                    <a:pt x="3172" y="87"/>
                  </a:cubicBezTo>
                  <a:cubicBezTo>
                    <a:pt x="3171" y="82"/>
                    <a:pt x="3171" y="78"/>
                    <a:pt x="3170" y="73"/>
                  </a:cubicBezTo>
                  <a:cubicBezTo>
                    <a:pt x="3177" y="81"/>
                    <a:pt x="3181" y="91"/>
                    <a:pt x="3184" y="101"/>
                  </a:cubicBezTo>
                  <a:cubicBezTo>
                    <a:pt x="3183" y="105"/>
                    <a:pt x="3182" y="109"/>
                    <a:pt x="3181" y="114"/>
                  </a:cubicBezTo>
                  <a:close/>
                  <a:moveTo>
                    <a:pt x="3188" y="139"/>
                  </a:moveTo>
                  <a:cubicBezTo>
                    <a:pt x="3187" y="137"/>
                    <a:pt x="3187" y="136"/>
                    <a:pt x="3187" y="135"/>
                  </a:cubicBezTo>
                  <a:cubicBezTo>
                    <a:pt x="3187" y="124"/>
                    <a:pt x="3183" y="112"/>
                    <a:pt x="3184" y="101"/>
                  </a:cubicBezTo>
                  <a:cubicBezTo>
                    <a:pt x="3187" y="110"/>
                    <a:pt x="3189" y="119"/>
                    <a:pt x="3190" y="128"/>
                  </a:cubicBezTo>
                  <a:cubicBezTo>
                    <a:pt x="3189" y="132"/>
                    <a:pt x="3188" y="135"/>
                    <a:pt x="3188" y="139"/>
                  </a:cubicBezTo>
                  <a:close/>
                  <a:moveTo>
                    <a:pt x="3203" y="136"/>
                  </a:moveTo>
                  <a:cubicBezTo>
                    <a:pt x="3203" y="135"/>
                    <a:pt x="3202" y="134"/>
                    <a:pt x="3202" y="133"/>
                  </a:cubicBezTo>
                  <a:cubicBezTo>
                    <a:pt x="3201" y="131"/>
                    <a:pt x="3201" y="129"/>
                    <a:pt x="3200" y="128"/>
                  </a:cubicBezTo>
                  <a:cubicBezTo>
                    <a:pt x="3200" y="127"/>
                    <a:pt x="3200" y="127"/>
                    <a:pt x="3200" y="127"/>
                  </a:cubicBezTo>
                  <a:cubicBezTo>
                    <a:pt x="3201" y="129"/>
                    <a:pt x="3201" y="131"/>
                    <a:pt x="3202" y="133"/>
                  </a:cubicBezTo>
                  <a:cubicBezTo>
                    <a:pt x="3202" y="134"/>
                    <a:pt x="3203" y="135"/>
                    <a:pt x="3203" y="136"/>
                  </a:cubicBezTo>
                  <a:cubicBezTo>
                    <a:pt x="3203" y="136"/>
                    <a:pt x="3203" y="136"/>
                    <a:pt x="3203" y="136"/>
                  </a:cubicBezTo>
                  <a:close/>
                  <a:moveTo>
                    <a:pt x="3204" y="133"/>
                  </a:moveTo>
                  <a:cubicBezTo>
                    <a:pt x="3203" y="129"/>
                    <a:pt x="3202" y="125"/>
                    <a:pt x="3200" y="120"/>
                  </a:cubicBezTo>
                  <a:cubicBezTo>
                    <a:pt x="3200" y="119"/>
                    <a:pt x="3200" y="117"/>
                    <a:pt x="3200" y="115"/>
                  </a:cubicBezTo>
                  <a:cubicBezTo>
                    <a:pt x="3200" y="112"/>
                    <a:pt x="3200" y="109"/>
                    <a:pt x="3201" y="105"/>
                  </a:cubicBezTo>
                  <a:cubicBezTo>
                    <a:pt x="3203" y="112"/>
                    <a:pt x="3204" y="119"/>
                    <a:pt x="3206" y="126"/>
                  </a:cubicBezTo>
                  <a:cubicBezTo>
                    <a:pt x="3205" y="128"/>
                    <a:pt x="3205" y="130"/>
                    <a:pt x="3204" y="133"/>
                  </a:cubicBezTo>
                  <a:close/>
                  <a:moveTo>
                    <a:pt x="3218" y="139"/>
                  </a:moveTo>
                  <a:cubicBezTo>
                    <a:pt x="3218" y="139"/>
                    <a:pt x="3218" y="139"/>
                    <a:pt x="3218" y="139"/>
                  </a:cubicBezTo>
                  <a:cubicBezTo>
                    <a:pt x="3218" y="137"/>
                    <a:pt x="3218" y="135"/>
                    <a:pt x="3218" y="133"/>
                  </a:cubicBezTo>
                  <a:cubicBezTo>
                    <a:pt x="3218" y="134"/>
                    <a:pt x="3218" y="134"/>
                    <a:pt x="3218" y="135"/>
                  </a:cubicBezTo>
                  <a:cubicBezTo>
                    <a:pt x="3218" y="136"/>
                    <a:pt x="3218" y="138"/>
                    <a:pt x="3218" y="139"/>
                  </a:cubicBezTo>
                  <a:close/>
                  <a:moveTo>
                    <a:pt x="3239" y="150"/>
                  </a:moveTo>
                  <a:cubicBezTo>
                    <a:pt x="3238" y="148"/>
                    <a:pt x="3237" y="147"/>
                    <a:pt x="3237" y="146"/>
                  </a:cubicBezTo>
                  <a:cubicBezTo>
                    <a:pt x="3236" y="131"/>
                    <a:pt x="3232" y="116"/>
                    <a:pt x="3230" y="101"/>
                  </a:cubicBezTo>
                  <a:cubicBezTo>
                    <a:pt x="3235" y="115"/>
                    <a:pt x="3237" y="132"/>
                    <a:pt x="3239" y="146"/>
                  </a:cubicBezTo>
                  <a:cubicBezTo>
                    <a:pt x="3239" y="147"/>
                    <a:pt x="3239" y="148"/>
                    <a:pt x="3239" y="150"/>
                  </a:cubicBezTo>
                  <a:close/>
                  <a:moveTo>
                    <a:pt x="3243" y="143"/>
                  </a:moveTo>
                  <a:cubicBezTo>
                    <a:pt x="3243" y="142"/>
                    <a:pt x="3243" y="141"/>
                    <a:pt x="3243" y="140"/>
                  </a:cubicBezTo>
                  <a:cubicBezTo>
                    <a:pt x="3243" y="139"/>
                    <a:pt x="3243" y="139"/>
                    <a:pt x="3243" y="139"/>
                  </a:cubicBezTo>
                  <a:cubicBezTo>
                    <a:pt x="3243" y="140"/>
                    <a:pt x="3243" y="141"/>
                    <a:pt x="3243" y="142"/>
                  </a:cubicBezTo>
                  <a:cubicBezTo>
                    <a:pt x="3243" y="142"/>
                    <a:pt x="3243" y="143"/>
                    <a:pt x="3243" y="143"/>
                  </a:cubicBezTo>
                  <a:close/>
                  <a:moveTo>
                    <a:pt x="3256" y="139"/>
                  </a:moveTo>
                  <a:cubicBezTo>
                    <a:pt x="3255" y="142"/>
                    <a:pt x="3254" y="145"/>
                    <a:pt x="3253" y="147"/>
                  </a:cubicBezTo>
                  <a:cubicBezTo>
                    <a:pt x="3253" y="146"/>
                    <a:pt x="3252" y="145"/>
                    <a:pt x="3252" y="144"/>
                  </a:cubicBezTo>
                  <a:cubicBezTo>
                    <a:pt x="3254" y="132"/>
                    <a:pt x="3254" y="120"/>
                    <a:pt x="3256" y="108"/>
                  </a:cubicBezTo>
                  <a:cubicBezTo>
                    <a:pt x="3257" y="104"/>
                    <a:pt x="3257" y="100"/>
                    <a:pt x="3259" y="97"/>
                  </a:cubicBezTo>
                  <a:cubicBezTo>
                    <a:pt x="3260" y="100"/>
                    <a:pt x="3261" y="103"/>
                    <a:pt x="3262" y="107"/>
                  </a:cubicBezTo>
                  <a:cubicBezTo>
                    <a:pt x="3261" y="112"/>
                    <a:pt x="3261" y="117"/>
                    <a:pt x="3260" y="122"/>
                  </a:cubicBezTo>
                  <a:cubicBezTo>
                    <a:pt x="3258" y="116"/>
                    <a:pt x="3257" y="111"/>
                    <a:pt x="3256" y="108"/>
                  </a:cubicBezTo>
                  <a:cubicBezTo>
                    <a:pt x="3258" y="116"/>
                    <a:pt x="3257" y="128"/>
                    <a:pt x="3256" y="139"/>
                  </a:cubicBezTo>
                  <a:close/>
                  <a:moveTo>
                    <a:pt x="3264" y="134"/>
                  </a:moveTo>
                  <a:cubicBezTo>
                    <a:pt x="3263" y="132"/>
                    <a:pt x="3262" y="130"/>
                    <a:pt x="3262" y="128"/>
                  </a:cubicBezTo>
                  <a:cubicBezTo>
                    <a:pt x="3262" y="121"/>
                    <a:pt x="3262" y="114"/>
                    <a:pt x="3262" y="107"/>
                  </a:cubicBezTo>
                  <a:cubicBezTo>
                    <a:pt x="3264" y="113"/>
                    <a:pt x="3265" y="118"/>
                    <a:pt x="3266" y="124"/>
                  </a:cubicBezTo>
                  <a:cubicBezTo>
                    <a:pt x="3265" y="128"/>
                    <a:pt x="3264" y="131"/>
                    <a:pt x="3264" y="134"/>
                  </a:cubicBezTo>
                  <a:close/>
                  <a:moveTo>
                    <a:pt x="3268" y="118"/>
                  </a:moveTo>
                  <a:cubicBezTo>
                    <a:pt x="3266" y="114"/>
                    <a:pt x="3264" y="109"/>
                    <a:pt x="3262" y="105"/>
                  </a:cubicBezTo>
                  <a:cubicBezTo>
                    <a:pt x="3263" y="102"/>
                    <a:pt x="3263" y="99"/>
                    <a:pt x="3264" y="96"/>
                  </a:cubicBezTo>
                  <a:cubicBezTo>
                    <a:pt x="3263" y="99"/>
                    <a:pt x="3263" y="102"/>
                    <a:pt x="3262" y="105"/>
                  </a:cubicBezTo>
                  <a:cubicBezTo>
                    <a:pt x="3261" y="102"/>
                    <a:pt x="3260" y="99"/>
                    <a:pt x="3259" y="96"/>
                  </a:cubicBezTo>
                  <a:cubicBezTo>
                    <a:pt x="3259" y="94"/>
                    <a:pt x="3260" y="91"/>
                    <a:pt x="3261" y="89"/>
                  </a:cubicBezTo>
                  <a:cubicBezTo>
                    <a:pt x="3265" y="95"/>
                    <a:pt x="3268" y="102"/>
                    <a:pt x="3270" y="109"/>
                  </a:cubicBezTo>
                  <a:cubicBezTo>
                    <a:pt x="3270" y="112"/>
                    <a:pt x="3269" y="115"/>
                    <a:pt x="3268" y="118"/>
                  </a:cubicBezTo>
                  <a:close/>
                  <a:moveTo>
                    <a:pt x="3271" y="151"/>
                  </a:moveTo>
                  <a:cubicBezTo>
                    <a:pt x="3271" y="151"/>
                    <a:pt x="3271" y="151"/>
                    <a:pt x="3270" y="151"/>
                  </a:cubicBezTo>
                  <a:cubicBezTo>
                    <a:pt x="3271" y="150"/>
                    <a:pt x="3271" y="148"/>
                    <a:pt x="3271" y="147"/>
                  </a:cubicBezTo>
                  <a:cubicBezTo>
                    <a:pt x="3271" y="147"/>
                    <a:pt x="3271" y="148"/>
                    <a:pt x="3271" y="148"/>
                  </a:cubicBezTo>
                  <a:cubicBezTo>
                    <a:pt x="3271" y="149"/>
                    <a:pt x="3271" y="150"/>
                    <a:pt x="3271" y="151"/>
                  </a:cubicBezTo>
                  <a:close/>
                  <a:moveTo>
                    <a:pt x="3275" y="136"/>
                  </a:moveTo>
                  <a:cubicBezTo>
                    <a:pt x="3274" y="134"/>
                    <a:pt x="3273" y="132"/>
                    <a:pt x="3273" y="130"/>
                  </a:cubicBezTo>
                  <a:cubicBezTo>
                    <a:pt x="3273" y="127"/>
                    <a:pt x="3273" y="123"/>
                    <a:pt x="3274" y="120"/>
                  </a:cubicBezTo>
                  <a:cubicBezTo>
                    <a:pt x="3275" y="123"/>
                    <a:pt x="3276" y="127"/>
                    <a:pt x="3276" y="130"/>
                  </a:cubicBezTo>
                  <a:cubicBezTo>
                    <a:pt x="3276" y="132"/>
                    <a:pt x="3275" y="134"/>
                    <a:pt x="3275" y="136"/>
                  </a:cubicBezTo>
                  <a:close/>
                  <a:moveTo>
                    <a:pt x="3281" y="150"/>
                  </a:moveTo>
                  <a:cubicBezTo>
                    <a:pt x="3281" y="149"/>
                    <a:pt x="3280" y="147"/>
                    <a:pt x="3279" y="146"/>
                  </a:cubicBezTo>
                  <a:cubicBezTo>
                    <a:pt x="3280" y="145"/>
                    <a:pt x="3280" y="145"/>
                    <a:pt x="3280" y="144"/>
                  </a:cubicBezTo>
                  <a:cubicBezTo>
                    <a:pt x="3281" y="146"/>
                    <a:pt x="3281" y="147"/>
                    <a:pt x="3282" y="149"/>
                  </a:cubicBezTo>
                  <a:cubicBezTo>
                    <a:pt x="3281" y="149"/>
                    <a:pt x="3281" y="149"/>
                    <a:pt x="3281" y="150"/>
                  </a:cubicBezTo>
                  <a:close/>
                  <a:moveTo>
                    <a:pt x="3279" y="122"/>
                  </a:moveTo>
                  <a:cubicBezTo>
                    <a:pt x="3278" y="118"/>
                    <a:pt x="3276" y="115"/>
                    <a:pt x="3275" y="111"/>
                  </a:cubicBezTo>
                  <a:cubicBezTo>
                    <a:pt x="3276" y="101"/>
                    <a:pt x="3278" y="90"/>
                    <a:pt x="3282" y="81"/>
                  </a:cubicBezTo>
                  <a:cubicBezTo>
                    <a:pt x="3285" y="86"/>
                    <a:pt x="3288" y="91"/>
                    <a:pt x="3290" y="97"/>
                  </a:cubicBezTo>
                  <a:cubicBezTo>
                    <a:pt x="3288" y="101"/>
                    <a:pt x="3286" y="105"/>
                    <a:pt x="3284" y="109"/>
                  </a:cubicBezTo>
                  <a:cubicBezTo>
                    <a:pt x="3282" y="102"/>
                    <a:pt x="3281" y="96"/>
                    <a:pt x="3279" y="91"/>
                  </a:cubicBezTo>
                  <a:cubicBezTo>
                    <a:pt x="3280" y="99"/>
                    <a:pt x="3281" y="106"/>
                    <a:pt x="3282" y="114"/>
                  </a:cubicBezTo>
                  <a:cubicBezTo>
                    <a:pt x="3281" y="117"/>
                    <a:pt x="3280" y="119"/>
                    <a:pt x="3279" y="122"/>
                  </a:cubicBezTo>
                  <a:close/>
                  <a:moveTo>
                    <a:pt x="3286" y="141"/>
                  </a:moveTo>
                  <a:cubicBezTo>
                    <a:pt x="3285" y="138"/>
                    <a:pt x="3284" y="135"/>
                    <a:pt x="3283" y="131"/>
                  </a:cubicBezTo>
                  <a:cubicBezTo>
                    <a:pt x="3283" y="129"/>
                    <a:pt x="3284" y="127"/>
                    <a:pt x="3284" y="124"/>
                  </a:cubicBezTo>
                  <a:cubicBezTo>
                    <a:pt x="3285" y="130"/>
                    <a:pt x="3286" y="135"/>
                    <a:pt x="3287" y="140"/>
                  </a:cubicBezTo>
                  <a:cubicBezTo>
                    <a:pt x="3287" y="140"/>
                    <a:pt x="3287" y="141"/>
                    <a:pt x="3286" y="141"/>
                  </a:cubicBezTo>
                  <a:close/>
                  <a:moveTo>
                    <a:pt x="3289" y="150"/>
                  </a:moveTo>
                  <a:cubicBezTo>
                    <a:pt x="3289" y="150"/>
                    <a:pt x="3289" y="149"/>
                    <a:pt x="3289" y="149"/>
                  </a:cubicBezTo>
                  <a:cubicBezTo>
                    <a:pt x="3289" y="149"/>
                    <a:pt x="3289" y="149"/>
                    <a:pt x="3289" y="149"/>
                  </a:cubicBezTo>
                  <a:cubicBezTo>
                    <a:pt x="3289" y="149"/>
                    <a:pt x="3289" y="150"/>
                    <a:pt x="3289" y="150"/>
                  </a:cubicBezTo>
                  <a:cubicBezTo>
                    <a:pt x="3289" y="150"/>
                    <a:pt x="3289" y="150"/>
                    <a:pt x="3289" y="150"/>
                  </a:cubicBezTo>
                  <a:close/>
                  <a:moveTo>
                    <a:pt x="3286" y="114"/>
                  </a:moveTo>
                  <a:cubicBezTo>
                    <a:pt x="3287" y="108"/>
                    <a:pt x="3288" y="103"/>
                    <a:pt x="3290" y="97"/>
                  </a:cubicBezTo>
                  <a:cubicBezTo>
                    <a:pt x="3292" y="103"/>
                    <a:pt x="3294" y="110"/>
                    <a:pt x="3296" y="116"/>
                  </a:cubicBezTo>
                  <a:cubicBezTo>
                    <a:pt x="3294" y="121"/>
                    <a:pt x="3293" y="126"/>
                    <a:pt x="3291" y="131"/>
                  </a:cubicBezTo>
                  <a:cubicBezTo>
                    <a:pt x="3289" y="126"/>
                    <a:pt x="3287" y="120"/>
                    <a:pt x="3286" y="114"/>
                  </a:cubicBezTo>
                  <a:close/>
                  <a:moveTo>
                    <a:pt x="3293" y="139"/>
                  </a:moveTo>
                  <a:cubicBezTo>
                    <a:pt x="3295" y="134"/>
                    <a:pt x="3296" y="129"/>
                    <a:pt x="3297" y="124"/>
                  </a:cubicBezTo>
                  <a:cubicBezTo>
                    <a:pt x="3298" y="125"/>
                    <a:pt x="3298" y="126"/>
                    <a:pt x="3298" y="128"/>
                  </a:cubicBezTo>
                  <a:cubicBezTo>
                    <a:pt x="3297" y="132"/>
                    <a:pt x="3295" y="136"/>
                    <a:pt x="3294" y="141"/>
                  </a:cubicBezTo>
                  <a:cubicBezTo>
                    <a:pt x="3294" y="140"/>
                    <a:pt x="3293" y="139"/>
                    <a:pt x="3293" y="139"/>
                  </a:cubicBezTo>
                  <a:close/>
                  <a:moveTo>
                    <a:pt x="3298" y="150"/>
                  </a:moveTo>
                  <a:cubicBezTo>
                    <a:pt x="3298" y="150"/>
                    <a:pt x="3297" y="149"/>
                    <a:pt x="3297" y="149"/>
                  </a:cubicBezTo>
                  <a:cubicBezTo>
                    <a:pt x="3298" y="147"/>
                    <a:pt x="3299" y="144"/>
                    <a:pt x="3300" y="141"/>
                  </a:cubicBezTo>
                  <a:cubicBezTo>
                    <a:pt x="3300" y="143"/>
                    <a:pt x="3301" y="144"/>
                    <a:pt x="3301" y="145"/>
                  </a:cubicBezTo>
                  <a:cubicBezTo>
                    <a:pt x="3300" y="147"/>
                    <a:pt x="3299" y="149"/>
                    <a:pt x="3298" y="150"/>
                  </a:cubicBezTo>
                  <a:close/>
                  <a:moveTo>
                    <a:pt x="3309" y="126"/>
                  </a:moveTo>
                  <a:cubicBezTo>
                    <a:pt x="3308" y="123"/>
                    <a:pt x="3307" y="120"/>
                    <a:pt x="3306" y="117"/>
                  </a:cubicBezTo>
                  <a:cubicBezTo>
                    <a:pt x="3307" y="116"/>
                    <a:pt x="3307" y="115"/>
                    <a:pt x="3307" y="114"/>
                  </a:cubicBezTo>
                  <a:cubicBezTo>
                    <a:pt x="3307" y="116"/>
                    <a:pt x="3308" y="117"/>
                    <a:pt x="3308" y="119"/>
                  </a:cubicBezTo>
                  <a:cubicBezTo>
                    <a:pt x="3309" y="121"/>
                    <a:pt x="3309" y="123"/>
                    <a:pt x="3310" y="125"/>
                  </a:cubicBezTo>
                  <a:cubicBezTo>
                    <a:pt x="3309" y="125"/>
                    <a:pt x="3309" y="125"/>
                    <a:pt x="3309" y="126"/>
                  </a:cubicBezTo>
                  <a:close/>
                  <a:moveTo>
                    <a:pt x="3314" y="142"/>
                  </a:moveTo>
                  <a:cubicBezTo>
                    <a:pt x="3313" y="139"/>
                    <a:pt x="3313" y="136"/>
                    <a:pt x="3312" y="133"/>
                  </a:cubicBezTo>
                  <a:cubicBezTo>
                    <a:pt x="3312" y="133"/>
                    <a:pt x="3312" y="133"/>
                    <a:pt x="3312" y="133"/>
                  </a:cubicBezTo>
                  <a:cubicBezTo>
                    <a:pt x="3313" y="136"/>
                    <a:pt x="3313" y="138"/>
                    <a:pt x="3314" y="141"/>
                  </a:cubicBezTo>
                  <a:cubicBezTo>
                    <a:pt x="3314" y="141"/>
                    <a:pt x="3314" y="141"/>
                    <a:pt x="3314" y="142"/>
                  </a:cubicBezTo>
                  <a:close/>
                  <a:moveTo>
                    <a:pt x="3316" y="148"/>
                  </a:move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lose/>
                  <a:moveTo>
                    <a:pt x="3319" y="141"/>
                  </a:moveTo>
                  <a:cubicBezTo>
                    <a:pt x="3319" y="141"/>
                    <a:pt x="3319" y="141"/>
                    <a:pt x="3319" y="141"/>
                  </a:cubicBezTo>
                  <a:cubicBezTo>
                    <a:pt x="3320" y="137"/>
                    <a:pt x="3321" y="133"/>
                    <a:pt x="3323" y="129"/>
                  </a:cubicBezTo>
                  <a:cubicBezTo>
                    <a:pt x="3323" y="129"/>
                    <a:pt x="3323" y="130"/>
                    <a:pt x="3323" y="131"/>
                  </a:cubicBezTo>
                  <a:cubicBezTo>
                    <a:pt x="3321" y="135"/>
                    <a:pt x="3320" y="138"/>
                    <a:pt x="3319" y="141"/>
                  </a:cubicBezTo>
                  <a:close/>
                  <a:moveTo>
                    <a:pt x="3326" y="122"/>
                  </a:moveTo>
                  <a:cubicBezTo>
                    <a:pt x="3326" y="121"/>
                    <a:pt x="3325" y="120"/>
                    <a:pt x="3325" y="119"/>
                  </a:cubicBezTo>
                  <a:cubicBezTo>
                    <a:pt x="3326" y="117"/>
                    <a:pt x="3326" y="114"/>
                    <a:pt x="3327" y="111"/>
                  </a:cubicBezTo>
                  <a:cubicBezTo>
                    <a:pt x="3328" y="113"/>
                    <a:pt x="3328" y="115"/>
                    <a:pt x="3329" y="117"/>
                  </a:cubicBezTo>
                  <a:cubicBezTo>
                    <a:pt x="3328" y="119"/>
                    <a:pt x="3327" y="121"/>
                    <a:pt x="3326" y="122"/>
                  </a:cubicBezTo>
                  <a:close/>
                  <a:moveTo>
                    <a:pt x="3336" y="147"/>
                  </a:moveTo>
                  <a:cubicBezTo>
                    <a:pt x="3335" y="145"/>
                    <a:pt x="3335" y="144"/>
                    <a:pt x="3334" y="142"/>
                  </a:cubicBezTo>
                  <a:cubicBezTo>
                    <a:pt x="3334" y="140"/>
                    <a:pt x="3333" y="138"/>
                    <a:pt x="3332" y="136"/>
                  </a:cubicBezTo>
                  <a:cubicBezTo>
                    <a:pt x="3332" y="136"/>
                    <a:pt x="3332" y="135"/>
                    <a:pt x="3332" y="134"/>
                  </a:cubicBezTo>
                  <a:cubicBezTo>
                    <a:pt x="3333" y="137"/>
                    <a:pt x="3334" y="139"/>
                    <a:pt x="3334" y="142"/>
                  </a:cubicBezTo>
                  <a:cubicBezTo>
                    <a:pt x="3335" y="144"/>
                    <a:pt x="3335" y="145"/>
                    <a:pt x="3336" y="147"/>
                  </a:cubicBezTo>
                  <a:close/>
                  <a:moveTo>
                    <a:pt x="3339" y="138"/>
                  </a:moveTo>
                  <a:cubicBezTo>
                    <a:pt x="3337" y="133"/>
                    <a:pt x="3336" y="128"/>
                    <a:pt x="3334" y="124"/>
                  </a:cubicBezTo>
                  <a:cubicBezTo>
                    <a:pt x="3334" y="121"/>
                    <a:pt x="3335" y="118"/>
                    <a:pt x="3335" y="116"/>
                  </a:cubicBezTo>
                  <a:cubicBezTo>
                    <a:pt x="3336" y="123"/>
                    <a:pt x="3338" y="129"/>
                    <a:pt x="3340" y="136"/>
                  </a:cubicBezTo>
                  <a:cubicBezTo>
                    <a:pt x="3340" y="137"/>
                    <a:pt x="3339" y="137"/>
                    <a:pt x="3339" y="138"/>
                  </a:cubicBezTo>
                  <a:close/>
                  <a:moveTo>
                    <a:pt x="3336" y="109"/>
                  </a:moveTo>
                  <a:cubicBezTo>
                    <a:pt x="3337" y="103"/>
                    <a:pt x="3339" y="97"/>
                    <a:pt x="3341" y="91"/>
                  </a:cubicBezTo>
                  <a:cubicBezTo>
                    <a:pt x="3343" y="96"/>
                    <a:pt x="3345" y="101"/>
                    <a:pt x="3347" y="106"/>
                  </a:cubicBezTo>
                  <a:cubicBezTo>
                    <a:pt x="3345" y="112"/>
                    <a:pt x="3344" y="120"/>
                    <a:pt x="3342" y="127"/>
                  </a:cubicBezTo>
                  <a:cubicBezTo>
                    <a:pt x="3340" y="121"/>
                    <a:pt x="3338" y="115"/>
                    <a:pt x="3336" y="109"/>
                  </a:cubicBezTo>
                  <a:close/>
                  <a:moveTo>
                    <a:pt x="3343" y="148"/>
                  </a:move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8"/>
                    <a:pt x="3343" y="148"/>
                  </a:cubicBezTo>
                  <a:close/>
                  <a:moveTo>
                    <a:pt x="3345" y="136"/>
                  </a:moveTo>
                  <a:cubicBezTo>
                    <a:pt x="3347" y="127"/>
                    <a:pt x="3347" y="118"/>
                    <a:pt x="3347" y="109"/>
                  </a:cubicBezTo>
                  <a:cubicBezTo>
                    <a:pt x="3349" y="115"/>
                    <a:pt x="3350" y="121"/>
                    <a:pt x="3351" y="127"/>
                  </a:cubicBezTo>
                  <a:cubicBezTo>
                    <a:pt x="3349" y="131"/>
                    <a:pt x="3348" y="135"/>
                    <a:pt x="3347" y="139"/>
                  </a:cubicBezTo>
                  <a:cubicBezTo>
                    <a:pt x="3346" y="138"/>
                    <a:pt x="3346" y="137"/>
                    <a:pt x="3345" y="136"/>
                  </a:cubicBezTo>
                  <a:close/>
                  <a:moveTo>
                    <a:pt x="3352" y="148"/>
                  </a:moveTo>
                  <a:cubicBezTo>
                    <a:pt x="3351" y="148"/>
                    <a:pt x="3351" y="147"/>
                    <a:pt x="3350" y="146"/>
                  </a:cubicBezTo>
                  <a:cubicBezTo>
                    <a:pt x="3351" y="143"/>
                    <a:pt x="3352" y="140"/>
                    <a:pt x="3352" y="137"/>
                  </a:cubicBezTo>
                  <a:cubicBezTo>
                    <a:pt x="3353" y="140"/>
                    <a:pt x="3353" y="142"/>
                    <a:pt x="3354" y="144"/>
                  </a:cubicBezTo>
                  <a:cubicBezTo>
                    <a:pt x="3353" y="146"/>
                    <a:pt x="3352" y="147"/>
                    <a:pt x="3352" y="148"/>
                  </a:cubicBezTo>
                  <a:close/>
                  <a:moveTo>
                    <a:pt x="3347" y="103"/>
                  </a:moveTo>
                  <a:cubicBezTo>
                    <a:pt x="3347" y="102"/>
                    <a:pt x="3347" y="102"/>
                    <a:pt x="3347" y="102"/>
                  </a:cubicBezTo>
                  <a:cubicBezTo>
                    <a:pt x="3347" y="102"/>
                    <a:pt x="3347" y="103"/>
                    <a:pt x="3347" y="103"/>
                  </a:cubicBezTo>
                  <a:cubicBezTo>
                    <a:pt x="3345" y="98"/>
                    <a:pt x="3343" y="94"/>
                    <a:pt x="3341" y="91"/>
                  </a:cubicBezTo>
                  <a:cubicBezTo>
                    <a:pt x="3342" y="87"/>
                    <a:pt x="3344" y="83"/>
                    <a:pt x="3346" y="80"/>
                  </a:cubicBezTo>
                  <a:cubicBezTo>
                    <a:pt x="3352" y="89"/>
                    <a:pt x="3356" y="99"/>
                    <a:pt x="3358" y="109"/>
                  </a:cubicBezTo>
                  <a:cubicBezTo>
                    <a:pt x="3357" y="112"/>
                    <a:pt x="3355" y="116"/>
                    <a:pt x="3354" y="119"/>
                  </a:cubicBezTo>
                  <a:cubicBezTo>
                    <a:pt x="3352" y="114"/>
                    <a:pt x="3350" y="108"/>
                    <a:pt x="3347" y="103"/>
                  </a:cubicBezTo>
                  <a:close/>
                  <a:moveTo>
                    <a:pt x="3355" y="123"/>
                  </a:moveTo>
                  <a:cubicBezTo>
                    <a:pt x="3356" y="118"/>
                    <a:pt x="3357" y="114"/>
                    <a:pt x="3358" y="110"/>
                  </a:cubicBezTo>
                  <a:cubicBezTo>
                    <a:pt x="3359" y="115"/>
                    <a:pt x="3360" y="120"/>
                    <a:pt x="3361" y="125"/>
                  </a:cubicBezTo>
                  <a:cubicBezTo>
                    <a:pt x="3360" y="128"/>
                    <a:pt x="3359" y="130"/>
                    <a:pt x="3358" y="133"/>
                  </a:cubicBezTo>
                  <a:cubicBezTo>
                    <a:pt x="3357" y="129"/>
                    <a:pt x="3356" y="126"/>
                    <a:pt x="3355" y="123"/>
                  </a:cubicBezTo>
                  <a:close/>
                  <a:moveTo>
                    <a:pt x="3362" y="150"/>
                  </a:moveTo>
                  <a:cubicBezTo>
                    <a:pt x="3362" y="147"/>
                    <a:pt x="3361" y="144"/>
                    <a:pt x="3360" y="140"/>
                  </a:cubicBezTo>
                  <a:cubicBezTo>
                    <a:pt x="3361" y="137"/>
                    <a:pt x="3361" y="135"/>
                    <a:pt x="3361" y="132"/>
                  </a:cubicBezTo>
                  <a:cubicBezTo>
                    <a:pt x="3362" y="137"/>
                    <a:pt x="3362" y="143"/>
                    <a:pt x="3362" y="149"/>
                  </a:cubicBezTo>
                  <a:cubicBezTo>
                    <a:pt x="3362" y="150"/>
                    <a:pt x="3362" y="150"/>
                    <a:pt x="3362" y="150"/>
                  </a:cubicBezTo>
                  <a:close/>
                  <a:moveTo>
                    <a:pt x="3391" y="152"/>
                  </a:moveTo>
                  <a:cubicBezTo>
                    <a:pt x="3391" y="148"/>
                    <a:pt x="3391" y="145"/>
                    <a:pt x="3390" y="141"/>
                  </a:cubicBezTo>
                  <a:cubicBezTo>
                    <a:pt x="3390" y="136"/>
                    <a:pt x="3391" y="131"/>
                    <a:pt x="3391" y="125"/>
                  </a:cubicBezTo>
                  <a:cubicBezTo>
                    <a:pt x="3391" y="134"/>
                    <a:pt x="3391" y="142"/>
                    <a:pt x="3391" y="151"/>
                  </a:cubicBezTo>
                  <a:cubicBezTo>
                    <a:pt x="3391" y="151"/>
                    <a:pt x="3391" y="151"/>
                    <a:pt x="3391" y="152"/>
                  </a:cubicBezTo>
                  <a:close/>
                  <a:moveTo>
                    <a:pt x="3457" y="128"/>
                  </a:moveTo>
                  <a:cubicBezTo>
                    <a:pt x="3457" y="132"/>
                    <a:pt x="3456" y="136"/>
                    <a:pt x="3455" y="140"/>
                  </a:cubicBezTo>
                  <a:cubicBezTo>
                    <a:pt x="3455" y="136"/>
                    <a:pt x="3454" y="133"/>
                    <a:pt x="3453" y="129"/>
                  </a:cubicBezTo>
                  <a:cubicBezTo>
                    <a:pt x="3453" y="126"/>
                    <a:pt x="3453" y="122"/>
                    <a:pt x="3453" y="119"/>
                  </a:cubicBezTo>
                  <a:cubicBezTo>
                    <a:pt x="3453" y="112"/>
                    <a:pt x="3454" y="104"/>
                    <a:pt x="3455" y="97"/>
                  </a:cubicBezTo>
                  <a:cubicBezTo>
                    <a:pt x="3456" y="102"/>
                    <a:pt x="3457" y="107"/>
                    <a:pt x="3457" y="111"/>
                  </a:cubicBezTo>
                  <a:cubicBezTo>
                    <a:pt x="3457" y="122"/>
                    <a:pt x="3457" y="122"/>
                    <a:pt x="3457" y="122"/>
                  </a:cubicBezTo>
                  <a:cubicBezTo>
                    <a:pt x="3457" y="124"/>
                    <a:pt x="3457" y="126"/>
                    <a:pt x="3457" y="128"/>
                  </a:cubicBezTo>
                  <a:close/>
                  <a:moveTo>
                    <a:pt x="3465" y="151"/>
                  </a:moveTo>
                  <a:cubicBezTo>
                    <a:pt x="3465" y="152"/>
                    <a:pt x="3465" y="152"/>
                    <a:pt x="3465" y="152"/>
                  </a:cubicBezTo>
                  <a:cubicBezTo>
                    <a:pt x="3465" y="152"/>
                    <a:pt x="3465" y="152"/>
                    <a:pt x="3465" y="152"/>
                  </a:cubicBezTo>
                  <a:cubicBezTo>
                    <a:pt x="3465" y="136"/>
                    <a:pt x="3465" y="123"/>
                    <a:pt x="3464" y="109"/>
                  </a:cubicBezTo>
                  <a:cubicBezTo>
                    <a:pt x="3464" y="104"/>
                    <a:pt x="3465" y="99"/>
                    <a:pt x="3466" y="93"/>
                  </a:cubicBezTo>
                  <a:cubicBezTo>
                    <a:pt x="3467" y="99"/>
                    <a:pt x="3467" y="105"/>
                    <a:pt x="3467" y="110"/>
                  </a:cubicBezTo>
                  <a:cubicBezTo>
                    <a:pt x="3467" y="124"/>
                    <a:pt x="3465" y="138"/>
                    <a:pt x="3465" y="151"/>
                  </a:cubicBezTo>
                  <a:close/>
                  <a:moveTo>
                    <a:pt x="3492" y="110"/>
                  </a:moveTo>
                  <a:cubicBezTo>
                    <a:pt x="3492" y="109"/>
                    <a:pt x="3492" y="107"/>
                    <a:pt x="3492" y="106"/>
                  </a:cubicBezTo>
                  <a:cubicBezTo>
                    <a:pt x="3492" y="110"/>
                    <a:pt x="3493" y="113"/>
                    <a:pt x="3492" y="116"/>
                  </a:cubicBezTo>
                  <a:cubicBezTo>
                    <a:pt x="3492" y="114"/>
                    <a:pt x="3492" y="112"/>
                    <a:pt x="3492" y="110"/>
                  </a:cubicBezTo>
                  <a:close/>
                  <a:moveTo>
                    <a:pt x="3518" y="120"/>
                  </a:moveTo>
                  <a:cubicBezTo>
                    <a:pt x="3516" y="114"/>
                    <a:pt x="3515" y="109"/>
                    <a:pt x="3515" y="104"/>
                  </a:cubicBezTo>
                  <a:cubicBezTo>
                    <a:pt x="3515" y="102"/>
                    <a:pt x="3515" y="98"/>
                    <a:pt x="3517" y="93"/>
                  </a:cubicBezTo>
                  <a:cubicBezTo>
                    <a:pt x="3518" y="100"/>
                    <a:pt x="3518" y="107"/>
                    <a:pt x="3518" y="112"/>
                  </a:cubicBezTo>
                  <a:cubicBezTo>
                    <a:pt x="3518" y="115"/>
                    <a:pt x="3518" y="117"/>
                    <a:pt x="3518" y="120"/>
                  </a:cubicBezTo>
                  <a:close/>
                  <a:moveTo>
                    <a:pt x="3528" y="145"/>
                  </a:moveTo>
                  <a:cubicBezTo>
                    <a:pt x="3528" y="145"/>
                    <a:pt x="3528" y="144"/>
                    <a:pt x="3528" y="144"/>
                  </a:cubicBezTo>
                  <a:cubicBezTo>
                    <a:pt x="3528" y="139"/>
                    <a:pt x="3528" y="134"/>
                    <a:pt x="3528" y="129"/>
                  </a:cubicBezTo>
                  <a:cubicBezTo>
                    <a:pt x="3529" y="132"/>
                    <a:pt x="3529" y="134"/>
                    <a:pt x="3529" y="137"/>
                  </a:cubicBezTo>
                  <a:cubicBezTo>
                    <a:pt x="3529" y="140"/>
                    <a:pt x="3528" y="142"/>
                    <a:pt x="3528" y="145"/>
                  </a:cubicBezTo>
                  <a:close/>
                  <a:moveTo>
                    <a:pt x="3539" y="145"/>
                  </a:moveTo>
                  <a:cubicBezTo>
                    <a:pt x="3539" y="144"/>
                    <a:pt x="3538" y="143"/>
                    <a:pt x="3538" y="143"/>
                  </a:cubicBezTo>
                  <a:cubicBezTo>
                    <a:pt x="3538" y="142"/>
                    <a:pt x="3538" y="141"/>
                    <a:pt x="3538" y="140"/>
                  </a:cubicBezTo>
                  <a:cubicBezTo>
                    <a:pt x="3539" y="141"/>
                    <a:pt x="3539" y="142"/>
                    <a:pt x="3539" y="143"/>
                  </a:cubicBezTo>
                  <a:cubicBezTo>
                    <a:pt x="3539" y="143"/>
                    <a:pt x="3539" y="144"/>
                    <a:pt x="3539" y="145"/>
                  </a:cubicBezTo>
                  <a:close/>
                  <a:moveTo>
                    <a:pt x="3540" y="138"/>
                  </a:moveTo>
                  <a:cubicBezTo>
                    <a:pt x="3540" y="136"/>
                    <a:pt x="3539" y="135"/>
                    <a:pt x="3539" y="133"/>
                  </a:cubicBezTo>
                  <a:cubicBezTo>
                    <a:pt x="3539" y="129"/>
                    <a:pt x="3539" y="124"/>
                    <a:pt x="3539" y="119"/>
                  </a:cubicBezTo>
                  <a:cubicBezTo>
                    <a:pt x="3540" y="124"/>
                    <a:pt x="3541" y="129"/>
                    <a:pt x="3542" y="134"/>
                  </a:cubicBezTo>
                  <a:cubicBezTo>
                    <a:pt x="3541" y="135"/>
                    <a:pt x="3541" y="137"/>
                    <a:pt x="3540" y="138"/>
                  </a:cubicBezTo>
                  <a:close/>
                  <a:moveTo>
                    <a:pt x="3545" y="154"/>
                  </a:moveTo>
                  <a:cubicBezTo>
                    <a:pt x="3545" y="153"/>
                    <a:pt x="3545" y="152"/>
                    <a:pt x="3545" y="151"/>
                  </a:cubicBezTo>
                  <a:cubicBezTo>
                    <a:pt x="3545" y="151"/>
                    <a:pt x="3545" y="150"/>
                    <a:pt x="3545" y="150"/>
                  </a:cubicBezTo>
                  <a:cubicBezTo>
                    <a:pt x="3545" y="151"/>
                    <a:pt x="3545" y="152"/>
                    <a:pt x="3545" y="154"/>
                  </a:cubicBezTo>
                  <a:close/>
                  <a:moveTo>
                    <a:pt x="3551" y="139"/>
                  </a:moveTo>
                  <a:cubicBezTo>
                    <a:pt x="3550" y="136"/>
                    <a:pt x="3549" y="134"/>
                    <a:pt x="3548" y="132"/>
                  </a:cubicBezTo>
                  <a:cubicBezTo>
                    <a:pt x="3549" y="129"/>
                    <a:pt x="3550" y="127"/>
                    <a:pt x="3551" y="125"/>
                  </a:cubicBezTo>
                  <a:cubicBezTo>
                    <a:pt x="3551" y="128"/>
                    <a:pt x="3552" y="131"/>
                    <a:pt x="3553" y="134"/>
                  </a:cubicBezTo>
                  <a:cubicBezTo>
                    <a:pt x="3552" y="136"/>
                    <a:pt x="3552" y="137"/>
                    <a:pt x="3551" y="139"/>
                  </a:cubicBezTo>
                  <a:close/>
                  <a:moveTo>
                    <a:pt x="3571" y="114"/>
                  </a:moveTo>
                  <a:cubicBezTo>
                    <a:pt x="3570" y="108"/>
                    <a:pt x="3569" y="101"/>
                    <a:pt x="3569" y="95"/>
                  </a:cubicBezTo>
                  <a:cubicBezTo>
                    <a:pt x="3569" y="88"/>
                    <a:pt x="3570" y="81"/>
                    <a:pt x="3571" y="75"/>
                  </a:cubicBezTo>
                  <a:cubicBezTo>
                    <a:pt x="3573" y="81"/>
                    <a:pt x="3573" y="88"/>
                    <a:pt x="3573" y="95"/>
                  </a:cubicBezTo>
                  <a:cubicBezTo>
                    <a:pt x="3573" y="101"/>
                    <a:pt x="3572" y="108"/>
                    <a:pt x="3571" y="114"/>
                  </a:cubicBezTo>
                  <a:close/>
                  <a:moveTo>
                    <a:pt x="3591" y="139"/>
                  </a:moveTo>
                  <a:cubicBezTo>
                    <a:pt x="3591" y="137"/>
                    <a:pt x="3590" y="136"/>
                    <a:pt x="3590" y="134"/>
                  </a:cubicBezTo>
                  <a:cubicBezTo>
                    <a:pt x="3590" y="131"/>
                    <a:pt x="3591" y="128"/>
                    <a:pt x="3592" y="125"/>
                  </a:cubicBezTo>
                  <a:cubicBezTo>
                    <a:pt x="3592" y="127"/>
                    <a:pt x="3593" y="129"/>
                    <a:pt x="3594" y="132"/>
                  </a:cubicBezTo>
                  <a:cubicBezTo>
                    <a:pt x="3593" y="134"/>
                    <a:pt x="3592" y="136"/>
                    <a:pt x="3591" y="139"/>
                  </a:cubicBezTo>
                  <a:close/>
                  <a:moveTo>
                    <a:pt x="3597" y="154"/>
                  </a:moveTo>
                  <a:cubicBezTo>
                    <a:pt x="3597" y="154"/>
                    <a:pt x="3597" y="154"/>
                    <a:pt x="3597" y="154"/>
                  </a:cubicBezTo>
                  <a:cubicBezTo>
                    <a:pt x="3597" y="152"/>
                    <a:pt x="3597" y="151"/>
                    <a:pt x="3598" y="150"/>
                  </a:cubicBezTo>
                  <a:cubicBezTo>
                    <a:pt x="3598" y="150"/>
                    <a:pt x="3598" y="151"/>
                    <a:pt x="3598" y="151"/>
                  </a:cubicBezTo>
                  <a:cubicBezTo>
                    <a:pt x="3597" y="152"/>
                    <a:pt x="3597" y="153"/>
                    <a:pt x="3597" y="154"/>
                  </a:cubicBezTo>
                  <a:close/>
                  <a:moveTo>
                    <a:pt x="3603" y="119"/>
                  </a:move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19"/>
                  </a:cubicBezTo>
                  <a:close/>
                  <a:moveTo>
                    <a:pt x="3602" y="138"/>
                  </a:moveTo>
                  <a:cubicBezTo>
                    <a:pt x="3601" y="137"/>
                    <a:pt x="3601" y="135"/>
                    <a:pt x="3601" y="134"/>
                  </a:cubicBezTo>
                  <a:cubicBezTo>
                    <a:pt x="3601" y="134"/>
                    <a:pt x="3601" y="134"/>
                    <a:pt x="3601" y="134"/>
                  </a:cubicBezTo>
                  <a:cubicBezTo>
                    <a:pt x="3601" y="134"/>
                    <a:pt x="3602" y="135"/>
                    <a:pt x="3602" y="137"/>
                  </a:cubicBezTo>
                  <a:cubicBezTo>
                    <a:pt x="3602" y="137"/>
                    <a:pt x="3602" y="138"/>
                    <a:pt x="3602" y="138"/>
                  </a:cubicBezTo>
                  <a:close/>
                  <a:moveTo>
                    <a:pt x="3601" y="133"/>
                  </a:moveTo>
                  <a:cubicBezTo>
                    <a:pt x="3601" y="132"/>
                    <a:pt x="3601" y="131"/>
                    <a:pt x="3601" y="130"/>
                  </a:cubicBezTo>
                  <a:cubicBezTo>
                    <a:pt x="3602" y="131"/>
                    <a:pt x="3603" y="133"/>
                    <a:pt x="3603" y="134"/>
                  </a:cubicBezTo>
                  <a:cubicBezTo>
                    <a:pt x="3603" y="135"/>
                    <a:pt x="3603" y="135"/>
                    <a:pt x="3603" y="136"/>
                  </a:cubicBezTo>
                  <a:cubicBezTo>
                    <a:pt x="3602" y="134"/>
                    <a:pt x="3601" y="133"/>
                    <a:pt x="3601" y="133"/>
                  </a:cubicBezTo>
                  <a:close/>
                  <a:moveTo>
                    <a:pt x="3604" y="145"/>
                  </a:moveTo>
                  <a:cubicBezTo>
                    <a:pt x="3603" y="144"/>
                    <a:pt x="3603" y="143"/>
                    <a:pt x="3603" y="143"/>
                  </a:cubicBezTo>
                  <a:cubicBezTo>
                    <a:pt x="3603" y="142"/>
                    <a:pt x="3604" y="141"/>
                    <a:pt x="3604" y="140"/>
                  </a:cubicBezTo>
                  <a:cubicBezTo>
                    <a:pt x="3604" y="140"/>
                    <a:pt x="3604" y="140"/>
                    <a:pt x="3604" y="140"/>
                  </a:cubicBezTo>
                  <a:cubicBezTo>
                    <a:pt x="3604" y="141"/>
                    <a:pt x="3604" y="142"/>
                    <a:pt x="3604" y="143"/>
                  </a:cubicBezTo>
                  <a:cubicBezTo>
                    <a:pt x="3604" y="143"/>
                    <a:pt x="3604" y="144"/>
                    <a:pt x="3604" y="145"/>
                  </a:cubicBezTo>
                  <a:close/>
                  <a:moveTo>
                    <a:pt x="3614" y="134"/>
                  </a:moveTo>
                  <a:cubicBezTo>
                    <a:pt x="3614" y="134"/>
                    <a:pt x="3614" y="133"/>
                    <a:pt x="3614" y="133"/>
                  </a:cubicBezTo>
                  <a:cubicBezTo>
                    <a:pt x="3614" y="132"/>
                    <a:pt x="3614" y="130"/>
                    <a:pt x="3614" y="129"/>
                  </a:cubicBezTo>
                  <a:cubicBezTo>
                    <a:pt x="3614" y="130"/>
                    <a:pt x="3614" y="132"/>
                    <a:pt x="3614" y="134"/>
                  </a:cubicBezTo>
                  <a:close/>
                  <a:moveTo>
                    <a:pt x="3624" y="120"/>
                  </a:moveTo>
                  <a:cubicBezTo>
                    <a:pt x="3624" y="117"/>
                    <a:pt x="3624" y="115"/>
                    <a:pt x="3624" y="112"/>
                  </a:cubicBezTo>
                  <a:cubicBezTo>
                    <a:pt x="3624" y="111"/>
                    <a:pt x="3624" y="111"/>
                    <a:pt x="3624" y="110"/>
                  </a:cubicBezTo>
                  <a:cubicBezTo>
                    <a:pt x="3624" y="113"/>
                    <a:pt x="3624" y="116"/>
                    <a:pt x="3625" y="119"/>
                  </a:cubicBezTo>
                  <a:cubicBezTo>
                    <a:pt x="3625" y="119"/>
                    <a:pt x="3624" y="120"/>
                    <a:pt x="3624" y="120"/>
                  </a:cubicBezTo>
                  <a:close/>
                  <a:moveTo>
                    <a:pt x="3626" y="115"/>
                  </a:moveTo>
                  <a:cubicBezTo>
                    <a:pt x="3625" y="112"/>
                    <a:pt x="3625" y="108"/>
                    <a:pt x="3624" y="104"/>
                  </a:cubicBezTo>
                  <a:cubicBezTo>
                    <a:pt x="3625" y="101"/>
                    <a:pt x="3625" y="97"/>
                    <a:pt x="3626" y="93"/>
                  </a:cubicBezTo>
                  <a:cubicBezTo>
                    <a:pt x="3627" y="98"/>
                    <a:pt x="3627" y="102"/>
                    <a:pt x="3627" y="104"/>
                  </a:cubicBezTo>
                  <a:cubicBezTo>
                    <a:pt x="3627" y="108"/>
                    <a:pt x="3627" y="111"/>
                    <a:pt x="3626" y="115"/>
                  </a:cubicBezTo>
                  <a:close/>
                  <a:moveTo>
                    <a:pt x="3631" y="102"/>
                  </a:moveTo>
                  <a:cubicBezTo>
                    <a:pt x="3631" y="102"/>
                    <a:pt x="3631" y="102"/>
                    <a:pt x="3630" y="103"/>
                  </a:cubicBezTo>
                  <a:cubicBezTo>
                    <a:pt x="3630" y="99"/>
                    <a:pt x="3629" y="94"/>
                    <a:pt x="3626" y="90"/>
                  </a:cubicBezTo>
                  <a:cubicBezTo>
                    <a:pt x="3628" y="84"/>
                    <a:pt x="3630" y="78"/>
                    <a:pt x="3632" y="73"/>
                  </a:cubicBezTo>
                  <a:cubicBezTo>
                    <a:pt x="3631" y="83"/>
                    <a:pt x="3631" y="93"/>
                    <a:pt x="3631" y="102"/>
                  </a:cubicBezTo>
                  <a:close/>
                  <a:moveTo>
                    <a:pt x="3637" y="110"/>
                  </a:moveTo>
                  <a:cubicBezTo>
                    <a:pt x="3637" y="111"/>
                    <a:pt x="3637" y="111"/>
                    <a:pt x="3637" y="111"/>
                  </a:cubicBezTo>
                  <a:cubicBezTo>
                    <a:pt x="3637" y="114"/>
                    <a:pt x="3636" y="116"/>
                    <a:pt x="3636" y="119"/>
                  </a:cubicBezTo>
                  <a:cubicBezTo>
                    <a:pt x="3635" y="114"/>
                    <a:pt x="3635" y="108"/>
                    <a:pt x="3635" y="103"/>
                  </a:cubicBezTo>
                  <a:cubicBezTo>
                    <a:pt x="3635" y="97"/>
                    <a:pt x="3635" y="91"/>
                    <a:pt x="3637" y="85"/>
                  </a:cubicBezTo>
                  <a:cubicBezTo>
                    <a:pt x="3636" y="87"/>
                    <a:pt x="3635" y="89"/>
                    <a:pt x="3634" y="92"/>
                  </a:cubicBezTo>
                  <a:cubicBezTo>
                    <a:pt x="3634" y="87"/>
                    <a:pt x="3634" y="82"/>
                    <a:pt x="3635" y="77"/>
                  </a:cubicBezTo>
                  <a:cubicBezTo>
                    <a:pt x="3637" y="83"/>
                    <a:pt x="3638" y="90"/>
                    <a:pt x="3638" y="96"/>
                  </a:cubicBezTo>
                  <a:cubicBezTo>
                    <a:pt x="3638" y="101"/>
                    <a:pt x="3638" y="106"/>
                    <a:pt x="3637" y="110"/>
                  </a:cubicBezTo>
                  <a:close/>
                  <a:moveTo>
                    <a:pt x="3643" y="127"/>
                  </a:moveTo>
                  <a:cubicBezTo>
                    <a:pt x="3642" y="132"/>
                    <a:pt x="3642" y="134"/>
                    <a:pt x="3642" y="134"/>
                  </a:cubicBezTo>
                  <a:cubicBezTo>
                    <a:pt x="3642" y="129"/>
                    <a:pt x="3643" y="125"/>
                    <a:pt x="3643" y="120"/>
                  </a:cubicBezTo>
                  <a:cubicBezTo>
                    <a:pt x="3643" y="123"/>
                    <a:pt x="3643" y="125"/>
                    <a:pt x="3643" y="127"/>
                  </a:cubicBezTo>
                  <a:close/>
                  <a:moveTo>
                    <a:pt x="3675" y="92"/>
                  </a:moveTo>
                  <a:cubicBezTo>
                    <a:pt x="3675" y="91"/>
                    <a:pt x="3675" y="90"/>
                    <a:pt x="3675" y="89"/>
                  </a:cubicBezTo>
                  <a:cubicBezTo>
                    <a:pt x="3675" y="89"/>
                    <a:pt x="3675" y="90"/>
                    <a:pt x="3675" y="91"/>
                  </a:cubicBezTo>
                  <a:cubicBezTo>
                    <a:pt x="3675" y="91"/>
                    <a:pt x="3675" y="92"/>
                    <a:pt x="3675" y="92"/>
                  </a:cubicBezTo>
                  <a:close/>
                  <a:moveTo>
                    <a:pt x="3677" y="130"/>
                  </a:moveTo>
                  <a:cubicBezTo>
                    <a:pt x="3677" y="132"/>
                    <a:pt x="3677" y="134"/>
                    <a:pt x="3677" y="136"/>
                  </a:cubicBezTo>
                  <a:cubicBezTo>
                    <a:pt x="3676" y="127"/>
                    <a:pt x="3675" y="119"/>
                    <a:pt x="3675" y="110"/>
                  </a:cubicBezTo>
                  <a:cubicBezTo>
                    <a:pt x="3675" y="105"/>
                    <a:pt x="3675" y="99"/>
                    <a:pt x="3676" y="93"/>
                  </a:cubicBezTo>
                  <a:cubicBezTo>
                    <a:pt x="3677" y="99"/>
                    <a:pt x="3678" y="104"/>
                    <a:pt x="3679" y="109"/>
                  </a:cubicBezTo>
                  <a:cubicBezTo>
                    <a:pt x="3678" y="116"/>
                    <a:pt x="3678" y="123"/>
                    <a:pt x="3677" y="130"/>
                  </a:cubicBezTo>
                  <a:close/>
                  <a:moveTo>
                    <a:pt x="3687" y="140"/>
                  </a:moveTo>
                  <a:cubicBezTo>
                    <a:pt x="3687" y="140"/>
                    <a:pt x="3687" y="139"/>
                    <a:pt x="3687" y="139"/>
                  </a:cubicBezTo>
                  <a:cubicBezTo>
                    <a:pt x="3688" y="100"/>
                    <a:pt x="3688" y="100"/>
                    <a:pt x="3688" y="100"/>
                  </a:cubicBezTo>
                  <a:cubicBezTo>
                    <a:pt x="3688" y="106"/>
                    <a:pt x="3689" y="113"/>
                    <a:pt x="3689" y="119"/>
                  </a:cubicBezTo>
                  <a:cubicBezTo>
                    <a:pt x="3689" y="122"/>
                    <a:pt x="3689" y="126"/>
                    <a:pt x="3689" y="129"/>
                  </a:cubicBezTo>
                  <a:cubicBezTo>
                    <a:pt x="3688" y="133"/>
                    <a:pt x="3688" y="136"/>
                    <a:pt x="3687" y="140"/>
                  </a:cubicBezTo>
                  <a:close/>
                  <a:moveTo>
                    <a:pt x="3708" y="105"/>
                  </a:moveTo>
                  <a:cubicBezTo>
                    <a:pt x="3708" y="104"/>
                    <a:pt x="3708" y="102"/>
                    <a:pt x="3708" y="101"/>
                  </a:cubicBezTo>
                  <a:cubicBezTo>
                    <a:pt x="3708" y="102"/>
                    <a:pt x="3709" y="103"/>
                    <a:pt x="3709" y="103"/>
                  </a:cubicBezTo>
                  <a:cubicBezTo>
                    <a:pt x="3708" y="104"/>
                    <a:pt x="3708" y="105"/>
                    <a:pt x="3708" y="105"/>
                  </a:cubicBezTo>
                  <a:close/>
                  <a:moveTo>
                    <a:pt x="3731" y="101"/>
                  </a:moveTo>
                  <a:cubicBezTo>
                    <a:pt x="3730" y="101"/>
                    <a:pt x="3730" y="101"/>
                    <a:pt x="3730" y="100"/>
                  </a:cubicBezTo>
                  <a:cubicBezTo>
                    <a:pt x="3730" y="101"/>
                    <a:pt x="3730" y="101"/>
                    <a:pt x="3731" y="101"/>
                  </a:cubicBezTo>
                  <a:cubicBezTo>
                    <a:pt x="3730" y="111"/>
                    <a:pt x="3729" y="119"/>
                    <a:pt x="3728" y="126"/>
                  </a:cubicBezTo>
                  <a:cubicBezTo>
                    <a:pt x="3727" y="122"/>
                    <a:pt x="3727" y="118"/>
                    <a:pt x="3726" y="114"/>
                  </a:cubicBezTo>
                  <a:cubicBezTo>
                    <a:pt x="3726" y="109"/>
                    <a:pt x="3726" y="103"/>
                    <a:pt x="3726" y="98"/>
                  </a:cubicBezTo>
                  <a:cubicBezTo>
                    <a:pt x="3727" y="92"/>
                    <a:pt x="3729" y="87"/>
                    <a:pt x="3732" y="82"/>
                  </a:cubicBezTo>
                  <a:cubicBezTo>
                    <a:pt x="3731" y="89"/>
                    <a:pt x="3731" y="95"/>
                    <a:pt x="3731" y="101"/>
                  </a:cubicBezTo>
                  <a:close/>
                  <a:moveTo>
                    <a:pt x="3740" y="117"/>
                  </a:moveTo>
                  <a:cubicBezTo>
                    <a:pt x="3740" y="114"/>
                    <a:pt x="3740" y="110"/>
                    <a:pt x="3740" y="106"/>
                  </a:cubicBezTo>
                  <a:cubicBezTo>
                    <a:pt x="3740" y="99"/>
                    <a:pt x="3740" y="90"/>
                    <a:pt x="3743" y="83"/>
                  </a:cubicBezTo>
                  <a:cubicBezTo>
                    <a:pt x="3742" y="95"/>
                    <a:pt x="3741" y="107"/>
                    <a:pt x="3740" y="117"/>
                  </a:cubicBezTo>
                  <a:close/>
                  <a:moveTo>
                    <a:pt x="3746" y="108"/>
                  </a:moveTo>
                  <a:cubicBezTo>
                    <a:pt x="3746" y="106"/>
                    <a:pt x="3746" y="104"/>
                    <a:pt x="3746" y="102"/>
                  </a:cubicBezTo>
                  <a:cubicBezTo>
                    <a:pt x="3747" y="102"/>
                    <a:pt x="3747" y="102"/>
                    <a:pt x="3747" y="103"/>
                  </a:cubicBezTo>
                  <a:cubicBezTo>
                    <a:pt x="3747" y="104"/>
                    <a:pt x="3746" y="106"/>
                    <a:pt x="3746" y="108"/>
                  </a:cubicBezTo>
                  <a:close/>
                  <a:moveTo>
                    <a:pt x="3752" y="111"/>
                  </a:moveTo>
                  <a:cubicBezTo>
                    <a:pt x="3752" y="103"/>
                    <a:pt x="3755" y="95"/>
                    <a:pt x="3757" y="87"/>
                  </a:cubicBezTo>
                  <a:cubicBezTo>
                    <a:pt x="3756" y="95"/>
                    <a:pt x="3754" y="104"/>
                    <a:pt x="3752" y="113"/>
                  </a:cubicBezTo>
                  <a:cubicBezTo>
                    <a:pt x="3752" y="112"/>
                    <a:pt x="3752" y="112"/>
                    <a:pt x="3752" y="111"/>
                  </a:cubicBezTo>
                  <a:close/>
                  <a:moveTo>
                    <a:pt x="3776" y="110"/>
                  </a:moveTo>
                  <a:cubicBezTo>
                    <a:pt x="3776" y="109"/>
                    <a:pt x="3776" y="108"/>
                    <a:pt x="3776" y="107"/>
                  </a:cubicBezTo>
                  <a:cubicBezTo>
                    <a:pt x="3776" y="107"/>
                    <a:pt x="3776" y="108"/>
                    <a:pt x="3776" y="108"/>
                  </a:cubicBezTo>
                  <a:cubicBezTo>
                    <a:pt x="3776" y="109"/>
                    <a:pt x="3776" y="109"/>
                    <a:pt x="3776" y="110"/>
                  </a:cubicBezTo>
                  <a:close/>
                  <a:moveTo>
                    <a:pt x="3787" y="125"/>
                  </a:moveTo>
                  <a:cubicBezTo>
                    <a:pt x="3787" y="123"/>
                    <a:pt x="3787" y="122"/>
                    <a:pt x="3787" y="120"/>
                  </a:cubicBezTo>
                  <a:cubicBezTo>
                    <a:pt x="3787" y="121"/>
                    <a:pt x="3787" y="122"/>
                    <a:pt x="3787" y="123"/>
                  </a:cubicBezTo>
                  <a:cubicBezTo>
                    <a:pt x="3787" y="123"/>
                    <a:pt x="3787" y="124"/>
                    <a:pt x="3787" y="125"/>
                  </a:cubicBezTo>
                  <a:close/>
                  <a:moveTo>
                    <a:pt x="3790" y="115"/>
                  </a:moveTo>
                  <a:cubicBezTo>
                    <a:pt x="3789" y="117"/>
                    <a:pt x="3789" y="118"/>
                    <a:pt x="3788" y="119"/>
                  </a:cubicBezTo>
                  <a:cubicBezTo>
                    <a:pt x="3788" y="118"/>
                    <a:pt x="3787" y="116"/>
                    <a:pt x="3787" y="114"/>
                  </a:cubicBezTo>
                  <a:cubicBezTo>
                    <a:pt x="3787" y="110"/>
                    <a:pt x="3787" y="105"/>
                    <a:pt x="3787" y="100"/>
                  </a:cubicBezTo>
                  <a:cubicBezTo>
                    <a:pt x="3788" y="94"/>
                    <a:pt x="3791" y="89"/>
                    <a:pt x="3794" y="84"/>
                  </a:cubicBezTo>
                  <a:cubicBezTo>
                    <a:pt x="3793" y="93"/>
                    <a:pt x="3791" y="105"/>
                    <a:pt x="3790" y="115"/>
                  </a:cubicBezTo>
                  <a:close/>
                  <a:moveTo>
                    <a:pt x="3797" y="90"/>
                  </a:moveTo>
                  <a:cubicBezTo>
                    <a:pt x="3797" y="88"/>
                    <a:pt x="3796" y="84"/>
                    <a:pt x="3796" y="80"/>
                  </a:cubicBezTo>
                  <a:cubicBezTo>
                    <a:pt x="3796" y="80"/>
                    <a:pt x="3796" y="80"/>
                    <a:pt x="3796" y="80"/>
                  </a:cubicBezTo>
                  <a:cubicBezTo>
                    <a:pt x="3797" y="81"/>
                    <a:pt x="3798" y="83"/>
                    <a:pt x="3798" y="84"/>
                  </a:cubicBezTo>
                  <a:cubicBezTo>
                    <a:pt x="3798" y="88"/>
                    <a:pt x="3797" y="90"/>
                    <a:pt x="3797" y="90"/>
                  </a:cubicBezTo>
                  <a:close/>
                  <a:moveTo>
                    <a:pt x="3799" y="83"/>
                  </a:moveTo>
                  <a:cubicBezTo>
                    <a:pt x="3798" y="81"/>
                    <a:pt x="3797" y="80"/>
                    <a:pt x="3796" y="79"/>
                  </a:cubicBezTo>
                  <a:cubicBezTo>
                    <a:pt x="3797" y="78"/>
                    <a:pt x="3798" y="76"/>
                    <a:pt x="3800" y="75"/>
                  </a:cubicBezTo>
                  <a:cubicBezTo>
                    <a:pt x="3799" y="78"/>
                    <a:pt x="3799" y="81"/>
                    <a:pt x="3799" y="83"/>
                  </a:cubicBezTo>
                  <a:close/>
                  <a:moveTo>
                    <a:pt x="3805" y="104"/>
                  </a:moveTo>
                  <a:cubicBezTo>
                    <a:pt x="3806" y="105"/>
                    <a:pt x="3806" y="107"/>
                    <a:pt x="3806" y="109"/>
                  </a:cubicBezTo>
                  <a:cubicBezTo>
                    <a:pt x="3806" y="111"/>
                    <a:pt x="3805" y="112"/>
                    <a:pt x="3805" y="114"/>
                  </a:cubicBezTo>
                  <a:cubicBezTo>
                    <a:pt x="3805" y="110"/>
                    <a:pt x="3805" y="107"/>
                    <a:pt x="3805" y="104"/>
                  </a:cubicBezTo>
                  <a:close/>
                  <a:moveTo>
                    <a:pt x="3801" y="91"/>
                  </a:move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lose/>
                  <a:moveTo>
                    <a:pt x="3801" y="124"/>
                  </a:moveTo>
                  <a:cubicBezTo>
                    <a:pt x="3802" y="114"/>
                    <a:pt x="3802" y="102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3" y="94"/>
                    <a:pt x="3804" y="98"/>
                    <a:pt x="3805" y="101"/>
                  </a:cubicBezTo>
                  <a:cubicBezTo>
                    <a:pt x="3803" y="120"/>
                    <a:pt x="3803" y="120"/>
                    <a:pt x="3803" y="120"/>
                  </a:cubicBezTo>
                  <a:cubicBezTo>
                    <a:pt x="3802" y="121"/>
                    <a:pt x="3802" y="122"/>
                    <a:pt x="3801" y="124"/>
                  </a:cubicBezTo>
                  <a:close/>
                  <a:moveTo>
                    <a:pt x="3804" y="136"/>
                  </a:moveTo>
                  <a:cubicBezTo>
                    <a:pt x="3804" y="134"/>
                    <a:pt x="3804" y="133"/>
                    <a:pt x="3804" y="131"/>
                  </a:cubicBezTo>
                  <a:cubicBezTo>
                    <a:pt x="3805" y="126"/>
                    <a:pt x="3806" y="121"/>
                    <a:pt x="3807" y="116"/>
                  </a:cubicBezTo>
                  <a:cubicBezTo>
                    <a:pt x="3808" y="118"/>
                    <a:pt x="3808" y="121"/>
                    <a:pt x="3808" y="123"/>
                  </a:cubicBezTo>
                  <a:cubicBezTo>
                    <a:pt x="3808" y="124"/>
                    <a:pt x="3808" y="124"/>
                    <a:pt x="3808" y="124"/>
                  </a:cubicBezTo>
                  <a:cubicBezTo>
                    <a:pt x="3807" y="128"/>
                    <a:pt x="3805" y="132"/>
                    <a:pt x="3804" y="136"/>
                  </a:cubicBezTo>
                  <a:close/>
                  <a:moveTo>
                    <a:pt x="3808" y="141"/>
                  </a:moveTo>
                  <a:cubicBezTo>
                    <a:pt x="3808" y="141"/>
                    <a:pt x="3808" y="141"/>
                    <a:pt x="3808" y="141"/>
                  </a:cubicBezTo>
                  <a:cubicBezTo>
                    <a:pt x="3809" y="139"/>
                    <a:pt x="3809" y="137"/>
                    <a:pt x="3810" y="135"/>
                  </a:cubicBezTo>
                  <a:cubicBezTo>
                    <a:pt x="3810" y="135"/>
                    <a:pt x="3810" y="135"/>
                    <a:pt x="3810" y="135"/>
                  </a:cubicBezTo>
                  <a:cubicBezTo>
                    <a:pt x="3810" y="137"/>
                    <a:pt x="3809" y="139"/>
                    <a:pt x="3808" y="141"/>
                  </a:cubicBezTo>
                  <a:close/>
                  <a:moveTo>
                    <a:pt x="3815" y="119"/>
                  </a:moveTo>
                  <a:cubicBezTo>
                    <a:pt x="3814" y="119"/>
                    <a:pt x="3814" y="118"/>
                    <a:pt x="3814" y="118"/>
                  </a:cubicBezTo>
                  <a:cubicBezTo>
                    <a:pt x="3814" y="116"/>
                    <a:pt x="3815" y="115"/>
                    <a:pt x="3815" y="113"/>
                  </a:cubicBezTo>
                  <a:cubicBezTo>
                    <a:pt x="3815" y="112"/>
                    <a:pt x="3815" y="112"/>
                    <a:pt x="3815" y="111"/>
                  </a:cubicBezTo>
                  <a:cubicBezTo>
                    <a:pt x="3816" y="112"/>
                    <a:pt x="3816" y="113"/>
                    <a:pt x="3816" y="115"/>
                  </a:cubicBezTo>
                  <a:cubicBezTo>
                    <a:pt x="3816" y="116"/>
                    <a:pt x="3815" y="118"/>
                    <a:pt x="3815" y="119"/>
                  </a:cubicBezTo>
                  <a:close/>
                  <a:moveTo>
                    <a:pt x="3822" y="136"/>
                  </a:moveTo>
                  <a:cubicBezTo>
                    <a:pt x="3821" y="135"/>
                    <a:pt x="3821" y="134"/>
                    <a:pt x="3820" y="133"/>
                  </a:cubicBezTo>
                  <a:cubicBezTo>
                    <a:pt x="3820" y="132"/>
                    <a:pt x="3820" y="132"/>
                    <a:pt x="3820" y="131"/>
                  </a:cubicBezTo>
                  <a:cubicBezTo>
                    <a:pt x="3821" y="133"/>
                    <a:pt x="3821" y="134"/>
                    <a:pt x="3822" y="136"/>
                  </a:cubicBezTo>
                  <a:cubicBezTo>
                    <a:pt x="3822" y="136"/>
                    <a:pt x="3822" y="136"/>
                    <a:pt x="3822" y="136"/>
                  </a:cubicBezTo>
                  <a:close/>
                  <a:moveTo>
                    <a:pt x="3836" y="118"/>
                  </a:moveTo>
                  <a:cubicBezTo>
                    <a:pt x="3836" y="117"/>
                    <a:pt x="3836" y="117"/>
                    <a:pt x="3836" y="117"/>
                  </a:cubicBezTo>
                  <a:cubicBezTo>
                    <a:pt x="3836" y="117"/>
                    <a:pt x="3836" y="117"/>
                    <a:pt x="3836" y="117"/>
                  </a:cubicBezTo>
                  <a:cubicBezTo>
                    <a:pt x="3836" y="118"/>
                    <a:pt x="3836" y="118"/>
                    <a:pt x="3836" y="118"/>
                  </a:cubicBezTo>
                  <a:close/>
                  <a:moveTo>
                    <a:pt x="3842" y="105"/>
                  </a:moveTo>
                  <a:cubicBezTo>
                    <a:pt x="3841" y="106"/>
                    <a:pt x="3840" y="107"/>
                    <a:pt x="3840" y="109"/>
                  </a:cubicBezTo>
                  <a:cubicBezTo>
                    <a:pt x="3839" y="107"/>
                    <a:pt x="3839" y="106"/>
                    <a:pt x="3839" y="104"/>
                  </a:cubicBezTo>
                  <a:cubicBezTo>
                    <a:pt x="3840" y="101"/>
                    <a:pt x="3841" y="98"/>
                    <a:pt x="3843" y="94"/>
                  </a:cubicBezTo>
                  <a:cubicBezTo>
                    <a:pt x="3842" y="98"/>
                    <a:pt x="3842" y="101"/>
                    <a:pt x="3842" y="105"/>
                  </a:cubicBezTo>
                  <a:close/>
                  <a:moveTo>
                    <a:pt x="3847" y="138"/>
                  </a:moveTo>
                  <a:cubicBezTo>
                    <a:pt x="3847" y="137"/>
                    <a:pt x="3847" y="136"/>
                    <a:pt x="3846" y="135"/>
                  </a:cubicBezTo>
                  <a:cubicBezTo>
                    <a:pt x="3846" y="133"/>
                    <a:pt x="3846" y="131"/>
                    <a:pt x="3846" y="129"/>
                  </a:cubicBezTo>
                  <a:cubicBezTo>
                    <a:pt x="3847" y="131"/>
                    <a:pt x="3847" y="133"/>
                    <a:pt x="3848" y="134"/>
                  </a:cubicBezTo>
                  <a:cubicBezTo>
                    <a:pt x="3848" y="135"/>
                    <a:pt x="3848" y="137"/>
                    <a:pt x="3847" y="138"/>
                  </a:cubicBezTo>
                  <a:close/>
                  <a:moveTo>
                    <a:pt x="3849" y="123"/>
                  </a:moveTo>
                  <a:cubicBezTo>
                    <a:pt x="3848" y="121"/>
                    <a:pt x="3847" y="118"/>
                    <a:pt x="3847" y="116"/>
                  </a:cubicBezTo>
                  <a:cubicBezTo>
                    <a:pt x="3848" y="112"/>
                    <a:pt x="3849" y="107"/>
                    <a:pt x="3850" y="103"/>
                  </a:cubicBezTo>
                  <a:cubicBezTo>
                    <a:pt x="3850" y="110"/>
                    <a:pt x="3849" y="117"/>
                    <a:pt x="3849" y="123"/>
                  </a:cubicBezTo>
                  <a:close/>
                  <a:moveTo>
                    <a:pt x="3854" y="69"/>
                  </a:moveTo>
                  <a:cubicBezTo>
                    <a:pt x="3856" y="72"/>
                    <a:pt x="3858" y="75"/>
                    <a:pt x="3859" y="79"/>
                  </a:cubicBezTo>
                  <a:cubicBezTo>
                    <a:pt x="3859" y="79"/>
                    <a:pt x="3859" y="79"/>
                    <a:pt x="3859" y="79"/>
                  </a:cubicBezTo>
                  <a:cubicBezTo>
                    <a:pt x="3857" y="76"/>
                    <a:pt x="3856" y="72"/>
                    <a:pt x="3854" y="69"/>
                  </a:cubicBezTo>
                  <a:cubicBezTo>
                    <a:pt x="3854" y="69"/>
                    <a:pt x="3854" y="69"/>
                    <a:pt x="3854" y="69"/>
                  </a:cubicBezTo>
                  <a:close/>
                  <a:moveTo>
                    <a:pt x="3854" y="74"/>
                  </a:moveTo>
                  <a:cubicBezTo>
                    <a:pt x="3855" y="76"/>
                    <a:pt x="3856" y="79"/>
                    <a:pt x="3857" y="81"/>
                  </a:cubicBezTo>
                  <a:cubicBezTo>
                    <a:pt x="3856" y="82"/>
                    <a:pt x="3855" y="83"/>
                    <a:pt x="3854" y="85"/>
                  </a:cubicBezTo>
                  <a:cubicBezTo>
                    <a:pt x="3854" y="81"/>
                    <a:pt x="3854" y="77"/>
                    <a:pt x="3854" y="74"/>
                  </a:cubicBezTo>
                  <a:close/>
                  <a:moveTo>
                    <a:pt x="3855" y="120"/>
                  </a:moveTo>
                  <a:cubicBezTo>
                    <a:pt x="3855" y="115"/>
                    <a:pt x="3855" y="111"/>
                    <a:pt x="3855" y="106"/>
                  </a:cubicBezTo>
                  <a:cubicBezTo>
                    <a:pt x="3856" y="109"/>
                    <a:pt x="3856" y="112"/>
                    <a:pt x="3857" y="114"/>
                  </a:cubicBezTo>
                  <a:cubicBezTo>
                    <a:pt x="3856" y="116"/>
                    <a:pt x="3856" y="118"/>
                    <a:pt x="3855" y="120"/>
                  </a:cubicBezTo>
                  <a:close/>
                  <a:moveTo>
                    <a:pt x="3858" y="109"/>
                  </a:moveTo>
                  <a:cubicBezTo>
                    <a:pt x="3857" y="107"/>
                    <a:pt x="3856" y="104"/>
                    <a:pt x="3855" y="102"/>
                  </a:cubicBezTo>
                  <a:cubicBezTo>
                    <a:pt x="3855" y="99"/>
                    <a:pt x="3855" y="97"/>
                    <a:pt x="3855" y="94"/>
                  </a:cubicBezTo>
                  <a:cubicBezTo>
                    <a:pt x="3856" y="98"/>
                    <a:pt x="3857" y="102"/>
                    <a:pt x="3859" y="107"/>
                  </a:cubicBezTo>
                  <a:cubicBezTo>
                    <a:pt x="3859" y="108"/>
                    <a:pt x="3858" y="108"/>
                    <a:pt x="3858" y="109"/>
                  </a:cubicBezTo>
                  <a:close/>
                  <a:moveTo>
                    <a:pt x="3862" y="96"/>
                  </a:moveTo>
                  <a:cubicBezTo>
                    <a:pt x="3861" y="98"/>
                    <a:pt x="3860" y="101"/>
                    <a:pt x="3860" y="104"/>
                  </a:cubicBezTo>
                  <a:cubicBezTo>
                    <a:pt x="3858" y="100"/>
                    <a:pt x="3856" y="96"/>
                    <a:pt x="3855" y="92"/>
                  </a:cubicBezTo>
                  <a:cubicBezTo>
                    <a:pt x="3855" y="92"/>
                    <a:pt x="3855" y="92"/>
                    <a:pt x="3855" y="92"/>
                  </a:cubicBezTo>
                  <a:cubicBezTo>
                    <a:pt x="3856" y="89"/>
                    <a:pt x="3857" y="86"/>
                    <a:pt x="3859" y="84"/>
                  </a:cubicBezTo>
                  <a:cubicBezTo>
                    <a:pt x="3860" y="87"/>
                    <a:pt x="3861" y="90"/>
                    <a:pt x="3862" y="93"/>
                  </a:cubicBezTo>
                  <a:cubicBezTo>
                    <a:pt x="3862" y="94"/>
                    <a:pt x="3862" y="95"/>
                    <a:pt x="3862" y="96"/>
                  </a:cubicBezTo>
                  <a:close/>
                  <a:moveTo>
                    <a:pt x="3863" y="90"/>
                  </a:moveTo>
                  <a:cubicBezTo>
                    <a:pt x="3862" y="87"/>
                    <a:pt x="3861" y="84"/>
                    <a:pt x="3860" y="82"/>
                  </a:cubicBezTo>
                  <a:cubicBezTo>
                    <a:pt x="3860" y="81"/>
                    <a:pt x="3860" y="81"/>
                    <a:pt x="3860" y="81"/>
                  </a:cubicBezTo>
                  <a:cubicBezTo>
                    <a:pt x="3861" y="83"/>
                    <a:pt x="3862" y="86"/>
                    <a:pt x="3863" y="89"/>
                  </a:cubicBezTo>
                  <a:cubicBezTo>
                    <a:pt x="3863" y="89"/>
                    <a:pt x="3863" y="89"/>
                    <a:pt x="3863" y="90"/>
                  </a:cubicBezTo>
                  <a:close/>
                  <a:moveTo>
                    <a:pt x="3861" y="79"/>
                  </a:moveTo>
                  <a:cubicBezTo>
                    <a:pt x="3862" y="78"/>
                    <a:pt x="3863" y="77"/>
                    <a:pt x="3863" y="76"/>
                  </a:cubicBezTo>
                  <a:cubicBezTo>
                    <a:pt x="3864" y="78"/>
                    <a:pt x="3864" y="79"/>
                    <a:pt x="3865" y="80"/>
                  </a:cubicBezTo>
                  <a:cubicBezTo>
                    <a:pt x="3865" y="82"/>
                    <a:pt x="3864" y="84"/>
                    <a:pt x="3864" y="85"/>
                  </a:cubicBezTo>
                  <a:cubicBezTo>
                    <a:pt x="3863" y="83"/>
                    <a:pt x="3862" y="81"/>
                    <a:pt x="3861" y="79"/>
                  </a:cubicBezTo>
                  <a:close/>
                  <a:moveTo>
                    <a:pt x="3864" y="116"/>
                  </a:moveTo>
                  <a:cubicBezTo>
                    <a:pt x="3864" y="111"/>
                    <a:pt x="3865" y="106"/>
                    <a:pt x="3865" y="102"/>
                  </a:cubicBezTo>
                  <a:cubicBezTo>
                    <a:pt x="3866" y="105"/>
                    <a:pt x="3867" y="108"/>
                    <a:pt x="3868" y="111"/>
                  </a:cubicBezTo>
                  <a:cubicBezTo>
                    <a:pt x="3867" y="113"/>
                    <a:pt x="3866" y="116"/>
                    <a:pt x="3865" y="118"/>
                  </a:cubicBezTo>
                  <a:cubicBezTo>
                    <a:pt x="3865" y="117"/>
                    <a:pt x="3864" y="117"/>
                    <a:pt x="3864" y="116"/>
                  </a:cubicBezTo>
                  <a:close/>
                  <a:moveTo>
                    <a:pt x="3869" y="130"/>
                  </a:moveTo>
                  <a:cubicBezTo>
                    <a:pt x="3868" y="128"/>
                    <a:pt x="3868" y="127"/>
                    <a:pt x="3867" y="125"/>
                  </a:cubicBezTo>
                  <a:cubicBezTo>
                    <a:pt x="3868" y="123"/>
                    <a:pt x="3868" y="122"/>
                    <a:pt x="3869" y="120"/>
                  </a:cubicBezTo>
                  <a:cubicBezTo>
                    <a:pt x="3869" y="122"/>
                    <a:pt x="3869" y="124"/>
                    <a:pt x="3869" y="127"/>
                  </a:cubicBezTo>
                  <a:cubicBezTo>
                    <a:pt x="3869" y="128"/>
                    <a:pt x="3869" y="129"/>
                    <a:pt x="3869" y="130"/>
                  </a:cubicBezTo>
                  <a:close/>
                  <a:moveTo>
                    <a:pt x="3871" y="105"/>
                  </a:moveTo>
                  <a:cubicBezTo>
                    <a:pt x="3869" y="100"/>
                    <a:pt x="3868" y="95"/>
                    <a:pt x="3866" y="91"/>
                  </a:cubicBezTo>
                  <a:cubicBezTo>
                    <a:pt x="3866" y="89"/>
                    <a:pt x="3866" y="87"/>
                    <a:pt x="3866" y="85"/>
                  </a:cubicBezTo>
                  <a:cubicBezTo>
                    <a:pt x="3869" y="91"/>
                    <a:pt x="3870" y="97"/>
                    <a:pt x="3872" y="103"/>
                  </a:cubicBezTo>
                  <a:cubicBezTo>
                    <a:pt x="3871" y="104"/>
                    <a:pt x="3871" y="105"/>
                    <a:pt x="3871" y="105"/>
                  </a:cubicBezTo>
                  <a:close/>
                  <a:moveTo>
                    <a:pt x="3872" y="111"/>
                  </a:moveTo>
                  <a:cubicBezTo>
                    <a:pt x="3872" y="110"/>
                    <a:pt x="3872" y="110"/>
                    <a:pt x="3872" y="109"/>
                  </a:cubicBezTo>
                  <a:cubicBezTo>
                    <a:pt x="3872" y="109"/>
                    <a:pt x="3872" y="108"/>
                    <a:pt x="3873" y="107"/>
                  </a:cubicBezTo>
                  <a:cubicBezTo>
                    <a:pt x="3873" y="108"/>
                    <a:pt x="3873" y="109"/>
                    <a:pt x="3873" y="109"/>
                  </a:cubicBezTo>
                  <a:cubicBezTo>
                    <a:pt x="3873" y="110"/>
                    <a:pt x="3873" y="110"/>
                    <a:pt x="3872" y="111"/>
                  </a:cubicBezTo>
                  <a:close/>
                  <a:moveTo>
                    <a:pt x="3883" y="94"/>
                  </a:moveTo>
                  <a:cubicBezTo>
                    <a:pt x="3883" y="95"/>
                    <a:pt x="3883" y="95"/>
                    <a:pt x="3884" y="96"/>
                  </a:cubicBezTo>
                  <a:cubicBezTo>
                    <a:pt x="3883" y="97"/>
                    <a:pt x="3883" y="97"/>
                    <a:pt x="3883" y="98"/>
                  </a:cubicBezTo>
                  <a:cubicBezTo>
                    <a:pt x="3883" y="96"/>
                    <a:pt x="3883" y="95"/>
                    <a:pt x="3883" y="94"/>
                  </a:cubicBezTo>
                  <a:close/>
                  <a:moveTo>
                    <a:pt x="3885" y="109"/>
                  </a:moveTo>
                  <a:cubicBezTo>
                    <a:pt x="3884" y="106"/>
                    <a:pt x="3884" y="104"/>
                    <a:pt x="3883" y="102"/>
                  </a:cubicBezTo>
                  <a:cubicBezTo>
                    <a:pt x="3883" y="101"/>
                    <a:pt x="3883" y="99"/>
                    <a:pt x="3883" y="98"/>
                  </a:cubicBezTo>
                  <a:cubicBezTo>
                    <a:pt x="3883" y="98"/>
                    <a:pt x="3884" y="97"/>
                    <a:pt x="3884" y="97"/>
                  </a:cubicBezTo>
                  <a:cubicBezTo>
                    <a:pt x="3884" y="98"/>
                    <a:pt x="3885" y="100"/>
                    <a:pt x="3885" y="102"/>
                  </a:cubicBezTo>
                  <a:cubicBezTo>
                    <a:pt x="3885" y="104"/>
                    <a:pt x="3885" y="107"/>
                    <a:pt x="3885" y="109"/>
                  </a:cubicBezTo>
                  <a:close/>
                  <a:moveTo>
                    <a:pt x="3887" y="84"/>
                  </a:moveTo>
                  <a:cubicBezTo>
                    <a:pt x="3886" y="89"/>
                    <a:pt x="3886" y="94"/>
                    <a:pt x="3886" y="98"/>
                  </a:cubicBezTo>
                  <a:cubicBezTo>
                    <a:pt x="3885" y="97"/>
                    <a:pt x="3885" y="96"/>
                    <a:pt x="3884" y="95"/>
                  </a:cubicBezTo>
                  <a:cubicBezTo>
                    <a:pt x="3885" y="94"/>
                    <a:pt x="3886" y="92"/>
                    <a:pt x="3886" y="91"/>
                  </a:cubicBezTo>
                  <a:cubicBezTo>
                    <a:pt x="3886" y="92"/>
                    <a:pt x="3885" y="94"/>
                    <a:pt x="3884" y="95"/>
                  </a:cubicBezTo>
                  <a:cubicBezTo>
                    <a:pt x="3884" y="94"/>
                    <a:pt x="3883" y="93"/>
                    <a:pt x="3883" y="92"/>
                  </a:cubicBezTo>
                  <a:cubicBezTo>
                    <a:pt x="3883" y="90"/>
                    <a:pt x="3883" y="88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2" y="75"/>
                    <a:pt x="3882" y="65"/>
                    <a:pt x="3882" y="56"/>
                  </a:cubicBezTo>
                  <a:cubicBezTo>
                    <a:pt x="3885" y="58"/>
                    <a:pt x="3887" y="61"/>
                    <a:pt x="3890" y="63"/>
                  </a:cubicBezTo>
                  <a:cubicBezTo>
                    <a:pt x="3889" y="69"/>
                    <a:pt x="3888" y="76"/>
                    <a:pt x="3887" y="84"/>
                  </a:cubicBezTo>
                  <a:cubicBezTo>
                    <a:pt x="3887" y="82"/>
                    <a:pt x="3886" y="81"/>
                    <a:pt x="3886" y="79"/>
                  </a:cubicBezTo>
                  <a:cubicBezTo>
                    <a:pt x="3886" y="81"/>
                    <a:pt x="3887" y="83"/>
                    <a:pt x="3887" y="84"/>
                  </a:cubicBezTo>
                  <a:close/>
                  <a:moveTo>
                    <a:pt x="3888" y="139"/>
                  </a:moveTo>
                  <a:cubicBezTo>
                    <a:pt x="3888" y="134"/>
                    <a:pt x="3888" y="128"/>
                    <a:pt x="3888" y="121"/>
                  </a:cubicBezTo>
                  <a:cubicBezTo>
                    <a:pt x="3888" y="125"/>
                    <a:pt x="3888" y="129"/>
                    <a:pt x="3889" y="133"/>
                  </a:cubicBezTo>
                  <a:cubicBezTo>
                    <a:pt x="3889" y="135"/>
                    <a:pt x="3889" y="137"/>
                    <a:pt x="3888" y="139"/>
                  </a:cubicBezTo>
                  <a:close/>
                  <a:moveTo>
                    <a:pt x="3888" y="104"/>
                  </a:moveTo>
                  <a:cubicBezTo>
                    <a:pt x="3888" y="102"/>
                    <a:pt x="3888" y="99"/>
                    <a:pt x="3889" y="96"/>
                  </a:cubicBezTo>
                  <a:cubicBezTo>
                    <a:pt x="3889" y="100"/>
                    <a:pt x="3889" y="104"/>
                    <a:pt x="3889" y="107"/>
                  </a:cubicBezTo>
                  <a:cubicBezTo>
                    <a:pt x="3889" y="106"/>
                    <a:pt x="3889" y="105"/>
                    <a:pt x="3888" y="104"/>
                  </a:cubicBezTo>
                  <a:close/>
                  <a:moveTo>
                    <a:pt x="3900" y="85"/>
                  </a:moveTo>
                  <a:cubicBezTo>
                    <a:pt x="3899" y="90"/>
                    <a:pt x="3898" y="96"/>
                    <a:pt x="3897" y="103"/>
                  </a:cubicBezTo>
                  <a:cubicBezTo>
                    <a:pt x="3897" y="101"/>
                    <a:pt x="3897" y="100"/>
                    <a:pt x="3896" y="99"/>
                  </a:cubicBezTo>
                  <a:cubicBezTo>
                    <a:pt x="3896" y="96"/>
                    <a:pt x="3895" y="93"/>
                    <a:pt x="3894" y="90"/>
                  </a:cubicBezTo>
                  <a:cubicBezTo>
                    <a:pt x="3895" y="93"/>
                    <a:pt x="3895" y="96"/>
                    <a:pt x="3895" y="99"/>
                  </a:cubicBezTo>
                  <a:cubicBezTo>
                    <a:pt x="3895" y="104"/>
                    <a:pt x="3894" y="112"/>
                    <a:pt x="3894" y="120"/>
                  </a:cubicBezTo>
                  <a:cubicBezTo>
                    <a:pt x="3893" y="110"/>
                    <a:pt x="3891" y="100"/>
                    <a:pt x="3889" y="91"/>
                  </a:cubicBezTo>
                  <a:cubicBezTo>
                    <a:pt x="3890" y="81"/>
                    <a:pt x="3891" y="72"/>
                    <a:pt x="3891" y="65"/>
                  </a:cubicBezTo>
                  <a:cubicBezTo>
                    <a:pt x="3895" y="69"/>
                    <a:pt x="3898" y="74"/>
                    <a:pt x="3900" y="79"/>
                  </a:cubicBezTo>
                  <a:cubicBezTo>
                    <a:pt x="3900" y="81"/>
                    <a:pt x="3900" y="83"/>
                    <a:pt x="3900" y="85"/>
                  </a:cubicBezTo>
                  <a:close/>
                  <a:moveTo>
                    <a:pt x="3900" y="75"/>
                  </a:moveTo>
                  <a:cubicBezTo>
                    <a:pt x="3900" y="75"/>
                    <a:pt x="3900" y="75"/>
                    <a:pt x="3900" y="75"/>
                  </a:cubicBezTo>
                  <a:cubicBezTo>
                    <a:pt x="3900" y="73"/>
                    <a:pt x="3900" y="72"/>
                    <a:pt x="3899" y="70"/>
                  </a:cubicBezTo>
                  <a:cubicBezTo>
                    <a:pt x="3899" y="70"/>
                    <a:pt x="3900" y="72"/>
                    <a:pt x="3900" y="75"/>
                  </a:cubicBezTo>
                  <a:cubicBezTo>
                    <a:pt x="3897" y="71"/>
                    <a:pt x="3895" y="67"/>
                    <a:pt x="3891" y="64"/>
                  </a:cubicBezTo>
                  <a:cubicBezTo>
                    <a:pt x="3892" y="60"/>
                    <a:pt x="3892" y="57"/>
                    <a:pt x="3893" y="54"/>
                  </a:cubicBezTo>
                  <a:cubicBezTo>
                    <a:pt x="3896" y="58"/>
                    <a:pt x="3899" y="62"/>
                    <a:pt x="3901" y="65"/>
                  </a:cubicBezTo>
                  <a:cubicBezTo>
                    <a:pt x="3901" y="68"/>
                    <a:pt x="3900" y="71"/>
                    <a:pt x="3900" y="75"/>
                  </a:cubicBezTo>
                  <a:close/>
                  <a:moveTo>
                    <a:pt x="3904" y="117"/>
                  </a:moveTo>
                  <a:cubicBezTo>
                    <a:pt x="3903" y="119"/>
                    <a:pt x="3902" y="122"/>
                    <a:pt x="3902" y="125"/>
                  </a:cubicBezTo>
                  <a:cubicBezTo>
                    <a:pt x="3902" y="124"/>
                    <a:pt x="3902" y="123"/>
                    <a:pt x="3902" y="122"/>
                  </a:cubicBezTo>
                  <a:cubicBezTo>
                    <a:pt x="3902" y="110"/>
                    <a:pt x="3902" y="98"/>
                    <a:pt x="3903" y="87"/>
                  </a:cubicBezTo>
                  <a:cubicBezTo>
                    <a:pt x="3904" y="92"/>
                    <a:pt x="3905" y="98"/>
                    <a:pt x="3906" y="103"/>
                  </a:cubicBezTo>
                  <a:cubicBezTo>
                    <a:pt x="3905" y="108"/>
                    <a:pt x="3904" y="112"/>
                    <a:pt x="3904" y="117"/>
                  </a:cubicBezTo>
                  <a:close/>
                  <a:moveTo>
                    <a:pt x="3907" y="89"/>
                  </a:moveTo>
                  <a:cubicBezTo>
                    <a:pt x="3906" y="86"/>
                    <a:pt x="3904" y="83"/>
                    <a:pt x="3903" y="80"/>
                  </a:cubicBezTo>
                  <a:cubicBezTo>
                    <a:pt x="3903" y="76"/>
                    <a:pt x="3903" y="72"/>
                    <a:pt x="3903" y="68"/>
                  </a:cubicBezTo>
                  <a:cubicBezTo>
                    <a:pt x="3905" y="71"/>
                    <a:pt x="3907" y="74"/>
                    <a:pt x="3909" y="78"/>
                  </a:cubicBezTo>
                  <a:cubicBezTo>
                    <a:pt x="3908" y="81"/>
                    <a:pt x="3908" y="85"/>
                    <a:pt x="3907" y="89"/>
                  </a:cubicBezTo>
                  <a:close/>
                  <a:moveTo>
                    <a:pt x="3912" y="96"/>
                  </a:moveTo>
                  <a:cubicBezTo>
                    <a:pt x="3912" y="97"/>
                    <a:pt x="3911" y="98"/>
                    <a:pt x="3911" y="99"/>
                  </a:cubicBezTo>
                  <a:cubicBezTo>
                    <a:pt x="3910" y="98"/>
                    <a:pt x="3910" y="97"/>
                    <a:pt x="3910" y="96"/>
                  </a:cubicBezTo>
                  <a:cubicBezTo>
                    <a:pt x="3910" y="91"/>
                    <a:pt x="3910" y="86"/>
                    <a:pt x="3910" y="80"/>
                  </a:cubicBezTo>
                  <a:cubicBezTo>
                    <a:pt x="3911" y="83"/>
                    <a:pt x="3912" y="86"/>
                    <a:pt x="3913" y="88"/>
                  </a:cubicBezTo>
                  <a:cubicBezTo>
                    <a:pt x="3913" y="91"/>
                    <a:pt x="3913" y="93"/>
                    <a:pt x="3912" y="96"/>
                  </a:cubicBezTo>
                  <a:close/>
                  <a:moveTo>
                    <a:pt x="3934" y="105"/>
                  </a:moveTo>
                  <a:cubicBezTo>
                    <a:pt x="3933" y="103"/>
                    <a:pt x="3933" y="102"/>
                    <a:pt x="3932" y="101"/>
                  </a:cubicBezTo>
                  <a:cubicBezTo>
                    <a:pt x="3934" y="96"/>
                    <a:pt x="3935" y="92"/>
                    <a:pt x="3936" y="89"/>
                  </a:cubicBezTo>
                  <a:cubicBezTo>
                    <a:pt x="3936" y="89"/>
                    <a:pt x="3937" y="89"/>
                    <a:pt x="3937" y="90"/>
                  </a:cubicBezTo>
                  <a:cubicBezTo>
                    <a:pt x="3936" y="95"/>
                    <a:pt x="3935" y="100"/>
                    <a:pt x="3934" y="105"/>
                  </a:cubicBezTo>
                  <a:close/>
                  <a:moveTo>
                    <a:pt x="3950" y="81"/>
                  </a:moveTo>
                  <a:cubicBezTo>
                    <a:pt x="3950" y="81"/>
                    <a:pt x="3950" y="81"/>
                    <a:pt x="3951" y="81"/>
                  </a:cubicBezTo>
                  <a:cubicBezTo>
                    <a:pt x="3950" y="81"/>
                    <a:pt x="3950" y="81"/>
                    <a:pt x="3950" y="81"/>
                  </a:cubicBezTo>
                  <a:cubicBezTo>
                    <a:pt x="3950" y="81"/>
                    <a:pt x="3950" y="81"/>
                    <a:pt x="3950" y="81"/>
                  </a:cubicBezTo>
                  <a:close/>
                  <a:moveTo>
                    <a:pt x="3950" y="88"/>
                  </a:moveTo>
                  <a:cubicBezTo>
                    <a:pt x="3950" y="89"/>
                    <a:pt x="3950" y="89"/>
                    <a:pt x="3950" y="89"/>
                  </a:cubicBezTo>
                  <a:cubicBezTo>
                    <a:pt x="3950" y="90"/>
                    <a:pt x="3950" y="91"/>
                    <a:pt x="3949" y="91"/>
                  </a:cubicBezTo>
                  <a:cubicBezTo>
                    <a:pt x="3950" y="90"/>
                    <a:pt x="3950" y="89"/>
                    <a:pt x="3950" y="88"/>
                  </a:cubicBezTo>
                  <a:close/>
                  <a:moveTo>
                    <a:pt x="3941" y="122"/>
                  </a:moveTo>
                  <a:cubicBezTo>
                    <a:pt x="3941" y="122"/>
                    <a:pt x="3941" y="123"/>
                    <a:pt x="3941" y="123"/>
                  </a:cubicBezTo>
                  <a:cubicBezTo>
                    <a:pt x="3941" y="123"/>
                    <a:pt x="3941" y="123"/>
                    <a:pt x="3941" y="123"/>
                  </a:cubicBezTo>
                  <a:cubicBezTo>
                    <a:pt x="3941" y="123"/>
                    <a:pt x="3941" y="122"/>
                    <a:pt x="3941" y="122"/>
                  </a:cubicBezTo>
                  <a:cubicBezTo>
                    <a:pt x="3941" y="120"/>
                    <a:pt x="3942" y="118"/>
                    <a:pt x="3942" y="115"/>
                  </a:cubicBezTo>
                  <a:cubicBezTo>
                    <a:pt x="3942" y="115"/>
                    <a:pt x="3942" y="115"/>
                    <a:pt x="3942" y="115"/>
                  </a:cubicBezTo>
                  <a:cubicBezTo>
                    <a:pt x="3942" y="116"/>
                    <a:pt x="3942" y="117"/>
                    <a:pt x="3942" y="118"/>
                  </a:cubicBezTo>
                  <a:cubicBezTo>
                    <a:pt x="3942" y="119"/>
                    <a:pt x="3941" y="121"/>
                    <a:pt x="3941" y="122"/>
                  </a:cubicBezTo>
                  <a:close/>
                  <a:moveTo>
                    <a:pt x="3943" y="70"/>
                  </a:moveTo>
                  <a:cubicBezTo>
                    <a:pt x="3946" y="73"/>
                    <a:pt x="3948" y="76"/>
                    <a:pt x="3949" y="79"/>
                  </a:cubicBezTo>
                  <a:cubicBezTo>
                    <a:pt x="3949" y="81"/>
                    <a:pt x="3949" y="82"/>
                    <a:pt x="3948" y="84"/>
                  </a:cubicBezTo>
                  <a:cubicBezTo>
                    <a:pt x="3948" y="84"/>
                    <a:pt x="3948" y="84"/>
                    <a:pt x="3948" y="84"/>
                  </a:cubicBezTo>
                  <a:cubicBezTo>
                    <a:pt x="3948" y="82"/>
                    <a:pt x="3947" y="81"/>
                    <a:pt x="3946" y="79"/>
                  </a:cubicBezTo>
                  <a:cubicBezTo>
                    <a:pt x="3947" y="81"/>
                    <a:pt x="3947" y="83"/>
                    <a:pt x="3948" y="84"/>
                  </a:cubicBezTo>
                  <a:cubicBezTo>
                    <a:pt x="3946" y="87"/>
                    <a:pt x="3945" y="90"/>
                    <a:pt x="3943" y="93"/>
                  </a:cubicBezTo>
                  <a:cubicBezTo>
                    <a:pt x="3944" y="85"/>
                    <a:pt x="3944" y="77"/>
                    <a:pt x="3943" y="70"/>
                  </a:cubicBezTo>
                  <a:close/>
                  <a:moveTo>
                    <a:pt x="3946" y="98"/>
                  </a:moveTo>
                  <a:cubicBezTo>
                    <a:pt x="3946" y="98"/>
                    <a:pt x="3946" y="97"/>
                    <a:pt x="3945" y="96"/>
                  </a:cubicBezTo>
                  <a:cubicBezTo>
                    <a:pt x="3946" y="97"/>
                    <a:pt x="3946" y="98"/>
                    <a:pt x="3946" y="98"/>
                  </a:cubicBezTo>
                  <a:cubicBezTo>
                    <a:pt x="3946" y="99"/>
                    <a:pt x="3946" y="100"/>
                    <a:pt x="3945" y="100"/>
                  </a:cubicBezTo>
                  <a:cubicBezTo>
                    <a:pt x="3945" y="99"/>
                    <a:pt x="3945" y="98"/>
                    <a:pt x="3944" y="97"/>
                  </a:cubicBezTo>
                  <a:cubicBezTo>
                    <a:pt x="3945" y="95"/>
                    <a:pt x="3946" y="93"/>
                    <a:pt x="3947" y="90"/>
                  </a:cubicBezTo>
                  <a:cubicBezTo>
                    <a:pt x="3947" y="93"/>
                    <a:pt x="3946" y="96"/>
                    <a:pt x="3946" y="98"/>
                  </a:cubicBezTo>
                  <a:close/>
                  <a:moveTo>
                    <a:pt x="3953" y="100"/>
                  </a:moveTo>
                  <a:cubicBezTo>
                    <a:pt x="3951" y="104"/>
                    <a:pt x="3950" y="107"/>
                    <a:pt x="3948" y="110"/>
                  </a:cubicBezTo>
                  <a:cubicBezTo>
                    <a:pt x="3948" y="110"/>
                    <a:pt x="3948" y="109"/>
                    <a:pt x="3948" y="109"/>
                  </a:cubicBezTo>
                  <a:cubicBezTo>
                    <a:pt x="3948" y="106"/>
                    <a:pt x="3949" y="102"/>
                    <a:pt x="3949" y="99"/>
                  </a:cubicBezTo>
                  <a:cubicBezTo>
                    <a:pt x="3950" y="95"/>
                    <a:pt x="3950" y="92"/>
                    <a:pt x="3950" y="90"/>
                  </a:cubicBezTo>
                  <a:cubicBezTo>
                    <a:pt x="3951" y="93"/>
                    <a:pt x="3952" y="96"/>
                    <a:pt x="3953" y="100"/>
                  </a:cubicBezTo>
                  <a:cubicBezTo>
                    <a:pt x="3953" y="100"/>
                    <a:pt x="3953" y="100"/>
                    <a:pt x="3953" y="100"/>
                  </a:cubicBezTo>
                  <a:close/>
                  <a:moveTo>
                    <a:pt x="3953" y="97"/>
                  </a:moveTo>
                  <a:cubicBezTo>
                    <a:pt x="3952" y="95"/>
                    <a:pt x="3951" y="92"/>
                    <a:pt x="3950" y="89"/>
                  </a:cubicBezTo>
                  <a:cubicBezTo>
                    <a:pt x="3950" y="89"/>
                    <a:pt x="3950" y="89"/>
                    <a:pt x="3950" y="88"/>
                  </a:cubicBezTo>
                  <a:cubicBezTo>
                    <a:pt x="3950" y="89"/>
                    <a:pt x="3950" y="89"/>
                    <a:pt x="3950" y="89"/>
                  </a:cubicBezTo>
                  <a:cubicBezTo>
                    <a:pt x="3950" y="89"/>
                    <a:pt x="3950" y="88"/>
                    <a:pt x="3950" y="88"/>
                  </a:cubicBezTo>
                  <a:cubicBezTo>
                    <a:pt x="3950" y="87"/>
                    <a:pt x="3950" y="86"/>
                    <a:pt x="3950" y="85"/>
                  </a:cubicBezTo>
                  <a:cubicBezTo>
                    <a:pt x="3950" y="84"/>
                    <a:pt x="3951" y="83"/>
                    <a:pt x="3951" y="82"/>
                  </a:cubicBezTo>
                  <a:cubicBezTo>
                    <a:pt x="3952" y="84"/>
                    <a:pt x="3953" y="86"/>
                    <a:pt x="3954" y="88"/>
                  </a:cubicBezTo>
                  <a:cubicBezTo>
                    <a:pt x="3954" y="91"/>
                    <a:pt x="3954" y="94"/>
                    <a:pt x="3953" y="97"/>
                  </a:cubicBezTo>
                  <a:close/>
                  <a:moveTo>
                    <a:pt x="3955" y="135"/>
                  </a:moveTo>
                  <a:cubicBezTo>
                    <a:pt x="3955" y="136"/>
                    <a:pt x="3955" y="137"/>
                    <a:pt x="3955" y="138"/>
                  </a:cubicBezTo>
                  <a:cubicBezTo>
                    <a:pt x="3955" y="137"/>
                    <a:pt x="3955" y="136"/>
                    <a:pt x="3955" y="135"/>
                  </a:cubicBezTo>
                  <a:cubicBezTo>
                    <a:pt x="3955" y="135"/>
                    <a:pt x="3955" y="135"/>
                    <a:pt x="3955" y="135"/>
                  </a:cubicBezTo>
                  <a:close/>
                  <a:moveTo>
                    <a:pt x="3955" y="83"/>
                  </a:moveTo>
                  <a:cubicBezTo>
                    <a:pt x="3954" y="82"/>
                    <a:pt x="3953" y="81"/>
                    <a:pt x="3953" y="80"/>
                  </a:cubicBezTo>
                  <a:cubicBezTo>
                    <a:pt x="3954" y="78"/>
                    <a:pt x="3955" y="77"/>
                    <a:pt x="3956" y="75"/>
                  </a:cubicBezTo>
                  <a:cubicBezTo>
                    <a:pt x="3955" y="78"/>
                    <a:pt x="3955" y="81"/>
                    <a:pt x="3955" y="83"/>
                  </a:cubicBezTo>
                  <a:close/>
                  <a:moveTo>
                    <a:pt x="3956" y="74"/>
                  </a:moveTo>
                  <a:cubicBezTo>
                    <a:pt x="3954" y="76"/>
                    <a:pt x="3953" y="77"/>
                    <a:pt x="3952" y="79"/>
                  </a:cubicBezTo>
                  <a:cubicBezTo>
                    <a:pt x="3951" y="78"/>
                    <a:pt x="3951" y="78"/>
                    <a:pt x="3951" y="77"/>
                  </a:cubicBezTo>
                  <a:cubicBezTo>
                    <a:pt x="3951" y="72"/>
                    <a:pt x="3951" y="67"/>
                    <a:pt x="3952" y="65"/>
                  </a:cubicBezTo>
                  <a:cubicBezTo>
                    <a:pt x="3953" y="67"/>
                    <a:pt x="3954" y="70"/>
                    <a:pt x="3956" y="72"/>
                  </a:cubicBezTo>
                  <a:cubicBezTo>
                    <a:pt x="3956" y="73"/>
                    <a:pt x="3956" y="73"/>
                    <a:pt x="3956" y="74"/>
                  </a:cubicBezTo>
                  <a:close/>
                  <a:moveTo>
                    <a:pt x="3958" y="75"/>
                  </a:moveTo>
                  <a:cubicBezTo>
                    <a:pt x="3959" y="78"/>
                    <a:pt x="3961" y="81"/>
                    <a:pt x="3963" y="84"/>
                  </a:cubicBezTo>
                  <a:cubicBezTo>
                    <a:pt x="3961" y="86"/>
                    <a:pt x="3960" y="88"/>
                    <a:pt x="3959" y="90"/>
                  </a:cubicBezTo>
                  <a:cubicBezTo>
                    <a:pt x="3959" y="89"/>
                    <a:pt x="3958" y="89"/>
                    <a:pt x="3958" y="89"/>
                  </a:cubicBezTo>
                  <a:cubicBezTo>
                    <a:pt x="3958" y="84"/>
                    <a:pt x="3958" y="79"/>
                    <a:pt x="3958" y="75"/>
                  </a:cubicBezTo>
                  <a:close/>
                  <a:moveTo>
                    <a:pt x="3960" y="110"/>
                  </a:moveTo>
                  <a:cubicBezTo>
                    <a:pt x="3960" y="107"/>
                    <a:pt x="3959" y="104"/>
                    <a:pt x="3958" y="101"/>
                  </a:cubicBezTo>
                  <a:cubicBezTo>
                    <a:pt x="3958" y="100"/>
                    <a:pt x="3958" y="100"/>
                    <a:pt x="3958" y="100"/>
                  </a:cubicBezTo>
                  <a:cubicBezTo>
                    <a:pt x="3958" y="100"/>
                    <a:pt x="3959" y="99"/>
                    <a:pt x="3959" y="99"/>
                  </a:cubicBezTo>
                  <a:cubicBezTo>
                    <a:pt x="3960" y="101"/>
                    <a:pt x="3960" y="104"/>
                    <a:pt x="3961" y="106"/>
                  </a:cubicBezTo>
                  <a:cubicBezTo>
                    <a:pt x="3961" y="108"/>
                    <a:pt x="3961" y="109"/>
                    <a:pt x="3960" y="110"/>
                  </a:cubicBezTo>
                  <a:close/>
                  <a:moveTo>
                    <a:pt x="3961" y="93"/>
                  </a:moveTo>
                  <a:cubicBezTo>
                    <a:pt x="3962" y="91"/>
                    <a:pt x="3963" y="88"/>
                    <a:pt x="3964" y="86"/>
                  </a:cubicBezTo>
                  <a:cubicBezTo>
                    <a:pt x="3964" y="87"/>
                    <a:pt x="3965" y="87"/>
                    <a:pt x="3965" y="88"/>
                  </a:cubicBezTo>
                  <a:cubicBezTo>
                    <a:pt x="3964" y="91"/>
                    <a:pt x="3964" y="94"/>
                    <a:pt x="3963" y="97"/>
                  </a:cubicBezTo>
                  <a:cubicBezTo>
                    <a:pt x="3962" y="96"/>
                    <a:pt x="3961" y="95"/>
                    <a:pt x="3961" y="93"/>
                  </a:cubicBezTo>
                  <a:close/>
                  <a:moveTo>
                    <a:pt x="3964" y="130"/>
                  </a:moveTo>
                  <a:cubicBezTo>
                    <a:pt x="3964" y="129"/>
                    <a:pt x="3964" y="128"/>
                    <a:pt x="3964" y="126"/>
                  </a:cubicBezTo>
                  <a:cubicBezTo>
                    <a:pt x="3964" y="124"/>
                    <a:pt x="3964" y="121"/>
                    <a:pt x="3965" y="119"/>
                  </a:cubicBezTo>
                  <a:cubicBezTo>
                    <a:pt x="3965" y="120"/>
                    <a:pt x="3966" y="122"/>
                    <a:pt x="3966" y="124"/>
                  </a:cubicBezTo>
                  <a:cubicBezTo>
                    <a:pt x="3965" y="126"/>
                    <a:pt x="3965" y="128"/>
                    <a:pt x="3964" y="130"/>
                  </a:cubicBezTo>
                  <a:close/>
                  <a:moveTo>
                    <a:pt x="3968" y="108"/>
                  </a:moveTo>
                  <a:cubicBezTo>
                    <a:pt x="3968" y="107"/>
                    <a:pt x="3967" y="106"/>
                    <a:pt x="3967" y="105"/>
                  </a:cubicBezTo>
                  <a:cubicBezTo>
                    <a:pt x="3967" y="102"/>
                    <a:pt x="3968" y="99"/>
                    <a:pt x="3969" y="96"/>
                  </a:cubicBezTo>
                  <a:cubicBezTo>
                    <a:pt x="3969" y="96"/>
                    <a:pt x="3969" y="97"/>
                    <a:pt x="3969" y="97"/>
                  </a:cubicBezTo>
                  <a:cubicBezTo>
                    <a:pt x="3969" y="101"/>
                    <a:pt x="3968" y="105"/>
                    <a:pt x="3968" y="108"/>
                  </a:cubicBezTo>
                  <a:close/>
                  <a:moveTo>
                    <a:pt x="3970" y="86"/>
                  </a:moveTo>
                  <a:cubicBezTo>
                    <a:pt x="3970" y="86"/>
                    <a:pt x="3970" y="86"/>
                    <a:pt x="3970" y="86"/>
                  </a:cubicBezTo>
                  <a:cubicBezTo>
                    <a:pt x="3970" y="85"/>
                    <a:pt x="3971" y="84"/>
                    <a:pt x="3971" y="83"/>
                  </a:cubicBezTo>
                  <a:cubicBezTo>
                    <a:pt x="3971" y="84"/>
                    <a:pt x="3970" y="85"/>
                    <a:pt x="3970" y="86"/>
                  </a:cubicBezTo>
                  <a:close/>
                  <a:moveTo>
                    <a:pt x="3978" y="80"/>
                  </a:moveTo>
                  <a:cubicBezTo>
                    <a:pt x="3978" y="77"/>
                    <a:pt x="3978" y="75"/>
                    <a:pt x="3978" y="73"/>
                  </a:cubicBezTo>
                  <a:cubicBezTo>
                    <a:pt x="3979" y="73"/>
                    <a:pt x="3979" y="74"/>
                    <a:pt x="3979" y="74"/>
                  </a:cubicBezTo>
                  <a:cubicBezTo>
                    <a:pt x="3979" y="76"/>
                    <a:pt x="3979" y="78"/>
                    <a:pt x="3978" y="80"/>
                  </a:cubicBezTo>
                  <a:close/>
                  <a:moveTo>
                    <a:pt x="3990" y="93"/>
                  </a:moveTo>
                  <a:cubicBezTo>
                    <a:pt x="3989" y="95"/>
                    <a:pt x="3989" y="96"/>
                    <a:pt x="3988" y="97"/>
                  </a:cubicBezTo>
                  <a:cubicBezTo>
                    <a:pt x="3988" y="94"/>
                    <a:pt x="3988" y="91"/>
                    <a:pt x="3987" y="88"/>
                  </a:cubicBezTo>
                  <a:cubicBezTo>
                    <a:pt x="3988" y="89"/>
                    <a:pt x="3989" y="91"/>
                    <a:pt x="3990" y="93"/>
                  </a:cubicBezTo>
                  <a:close/>
                  <a:moveTo>
                    <a:pt x="3991" y="88"/>
                  </a:moveTo>
                  <a:cubicBezTo>
                    <a:pt x="3990" y="86"/>
                    <a:pt x="3989" y="85"/>
                    <a:pt x="3988" y="84"/>
                  </a:cubicBezTo>
                  <a:cubicBezTo>
                    <a:pt x="3989" y="81"/>
                    <a:pt x="3991" y="78"/>
                    <a:pt x="3993" y="75"/>
                  </a:cubicBezTo>
                  <a:cubicBezTo>
                    <a:pt x="3992" y="79"/>
                    <a:pt x="3991" y="84"/>
                    <a:pt x="3991" y="88"/>
                  </a:cubicBezTo>
                  <a:close/>
                  <a:moveTo>
                    <a:pt x="4000" y="77"/>
                  </a:moveTo>
                  <a:cubicBezTo>
                    <a:pt x="4000" y="77"/>
                    <a:pt x="4000" y="77"/>
                    <a:pt x="4000" y="77"/>
                  </a:cubicBezTo>
                  <a:cubicBezTo>
                    <a:pt x="4000" y="74"/>
                    <a:pt x="3999" y="70"/>
                    <a:pt x="3999" y="66"/>
                  </a:cubicBezTo>
                  <a:cubicBezTo>
                    <a:pt x="3999" y="65"/>
                    <a:pt x="4000" y="64"/>
                    <a:pt x="4000" y="63"/>
                  </a:cubicBezTo>
                  <a:cubicBezTo>
                    <a:pt x="4001" y="67"/>
                    <a:pt x="4001" y="72"/>
                    <a:pt x="4000" y="77"/>
                  </a:cubicBezTo>
                  <a:close/>
                  <a:moveTo>
                    <a:pt x="4003" y="72"/>
                  </a:moveTo>
                  <a:cubicBezTo>
                    <a:pt x="4003" y="67"/>
                    <a:pt x="4002" y="64"/>
                    <a:pt x="4001" y="61"/>
                  </a:cubicBezTo>
                  <a:cubicBezTo>
                    <a:pt x="4002" y="60"/>
                    <a:pt x="4003" y="58"/>
                    <a:pt x="4004" y="57"/>
                  </a:cubicBezTo>
                  <a:cubicBezTo>
                    <a:pt x="4004" y="62"/>
                    <a:pt x="4004" y="67"/>
                    <a:pt x="4003" y="72"/>
                  </a:cubicBezTo>
                  <a:close/>
                  <a:moveTo>
                    <a:pt x="4019" y="89"/>
                  </a:moveTo>
                  <a:cubicBezTo>
                    <a:pt x="4020" y="91"/>
                    <a:pt x="4021" y="92"/>
                    <a:pt x="4021" y="94"/>
                  </a:cubicBezTo>
                  <a:cubicBezTo>
                    <a:pt x="4021" y="95"/>
                    <a:pt x="4020" y="97"/>
                    <a:pt x="4020" y="98"/>
                  </a:cubicBezTo>
                  <a:cubicBezTo>
                    <a:pt x="4019" y="97"/>
                    <a:pt x="4019" y="96"/>
                    <a:pt x="4018" y="95"/>
                  </a:cubicBezTo>
                  <a:cubicBezTo>
                    <a:pt x="4018" y="93"/>
                    <a:pt x="4019" y="91"/>
                    <a:pt x="4019" y="89"/>
                  </a:cubicBezTo>
                  <a:close/>
                  <a:moveTo>
                    <a:pt x="4018" y="101"/>
                  </a:moveTo>
                  <a:cubicBezTo>
                    <a:pt x="4018" y="101"/>
                    <a:pt x="4018" y="100"/>
                    <a:pt x="4018" y="100"/>
                  </a:cubicBezTo>
                  <a:cubicBezTo>
                    <a:pt x="4018" y="100"/>
                    <a:pt x="4018" y="101"/>
                    <a:pt x="4018" y="101"/>
                  </a:cubicBezTo>
                  <a:cubicBezTo>
                    <a:pt x="4018" y="101"/>
                    <a:pt x="4018" y="101"/>
                    <a:pt x="4018" y="101"/>
                  </a:cubicBezTo>
                  <a:close/>
                  <a:moveTo>
                    <a:pt x="4020" y="122"/>
                  </a:moveTo>
                  <a:cubicBezTo>
                    <a:pt x="4020" y="121"/>
                    <a:pt x="4019" y="120"/>
                    <a:pt x="4019" y="119"/>
                  </a:cubicBezTo>
                  <a:cubicBezTo>
                    <a:pt x="4019" y="117"/>
                    <a:pt x="4019" y="115"/>
                    <a:pt x="4019" y="112"/>
                  </a:cubicBezTo>
                  <a:cubicBezTo>
                    <a:pt x="4019" y="110"/>
                    <a:pt x="4019" y="108"/>
                    <a:pt x="4020" y="106"/>
                  </a:cubicBezTo>
                  <a:cubicBezTo>
                    <a:pt x="4020" y="108"/>
                    <a:pt x="4021" y="110"/>
                    <a:pt x="4021" y="112"/>
                  </a:cubicBezTo>
                  <a:cubicBezTo>
                    <a:pt x="4021" y="115"/>
                    <a:pt x="4021" y="119"/>
                    <a:pt x="4020" y="122"/>
                  </a:cubicBezTo>
                  <a:close/>
                  <a:moveTo>
                    <a:pt x="4022" y="103"/>
                  </a:moveTo>
                  <a:cubicBezTo>
                    <a:pt x="4022" y="102"/>
                    <a:pt x="4021" y="101"/>
                    <a:pt x="4021" y="100"/>
                  </a:cubicBezTo>
                  <a:cubicBezTo>
                    <a:pt x="4021" y="99"/>
                    <a:pt x="4022" y="97"/>
                    <a:pt x="4022" y="96"/>
                  </a:cubicBezTo>
                  <a:cubicBezTo>
                    <a:pt x="4022" y="97"/>
                    <a:pt x="4023" y="97"/>
                    <a:pt x="4023" y="98"/>
                  </a:cubicBezTo>
                  <a:cubicBezTo>
                    <a:pt x="4023" y="100"/>
                    <a:pt x="4022" y="101"/>
                    <a:pt x="4022" y="103"/>
                  </a:cubicBezTo>
                  <a:close/>
                  <a:moveTo>
                    <a:pt x="4023" y="96"/>
                  </a:moveTo>
                  <a:cubicBezTo>
                    <a:pt x="4023" y="95"/>
                    <a:pt x="4023" y="95"/>
                    <a:pt x="4022" y="95"/>
                  </a:cubicBezTo>
                  <a:cubicBezTo>
                    <a:pt x="4023" y="93"/>
                    <a:pt x="4023" y="92"/>
                    <a:pt x="4024" y="91"/>
                  </a:cubicBezTo>
                  <a:cubicBezTo>
                    <a:pt x="4023" y="93"/>
                    <a:pt x="4023" y="94"/>
                    <a:pt x="4023" y="96"/>
                  </a:cubicBezTo>
                  <a:close/>
                  <a:moveTo>
                    <a:pt x="4029" y="95"/>
                  </a:moveTo>
                  <a:cubicBezTo>
                    <a:pt x="4029" y="92"/>
                    <a:pt x="4030" y="89"/>
                    <a:pt x="4030" y="86"/>
                  </a:cubicBezTo>
                  <a:cubicBezTo>
                    <a:pt x="4030" y="86"/>
                    <a:pt x="4031" y="87"/>
                    <a:pt x="4031" y="88"/>
                  </a:cubicBezTo>
                  <a:cubicBezTo>
                    <a:pt x="4031" y="90"/>
                    <a:pt x="4030" y="92"/>
                    <a:pt x="4029" y="95"/>
                  </a:cubicBezTo>
                  <a:close/>
                  <a:moveTo>
                    <a:pt x="4040" y="99"/>
                  </a:moveTo>
                  <a:cubicBezTo>
                    <a:pt x="4040" y="99"/>
                    <a:pt x="4039" y="98"/>
                    <a:pt x="4039" y="97"/>
                  </a:cubicBezTo>
                  <a:cubicBezTo>
                    <a:pt x="4039" y="93"/>
                    <a:pt x="4039" y="89"/>
                    <a:pt x="4039" y="84"/>
                  </a:cubicBezTo>
                  <a:cubicBezTo>
                    <a:pt x="4040" y="80"/>
                    <a:pt x="4043" y="76"/>
                    <a:pt x="4045" y="72"/>
                  </a:cubicBezTo>
                  <a:cubicBezTo>
                    <a:pt x="4046" y="74"/>
                    <a:pt x="4046" y="78"/>
                    <a:pt x="4047" y="82"/>
                  </a:cubicBezTo>
                  <a:cubicBezTo>
                    <a:pt x="4044" y="88"/>
                    <a:pt x="4042" y="93"/>
                    <a:pt x="4040" y="99"/>
                  </a:cubicBezTo>
                  <a:close/>
                  <a:moveTo>
                    <a:pt x="4048" y="75"/>
                  </a:moveTo>
                  <a:cubicBezTo>
                    <a:pt x="4048" y="73"/>
                    <a:pt x="4047" y="71"/>
                    <a:pt x="4047" y="69"/>
                  </a:cubicBezTo>
                  <a:cubicBezTo>
                    <a:pt x="4048" y="68"/>
                    <a:pt x="4048" y="67"/>
                    <a:pt x="4049" y="66"/>
                  </a:cubicBezTo>
                  <a:cubicBezTo>
                    <a:pt x="4049" y="69"/>
                    <a:pt x="4048" y="72"/>
                    <a:pt x="4048" y="75"/>
                  </a:cubicBezTo>
                  <a:close/>
                  <a:moveTo>
                    <a:pt x="4056" y="72"/>
                  </a:moveTo>
                  <a:cubicBezTo>
                    <a:pt x="4056" y="71"/>
                    <a:pt x="4056" y="70"/>
                    <a:pt x="4056" y="70"/>
                  </a:cubicBezTo>
                  <a:cubicBezTo>
                    <a:pt x="4056" y="69"/>
                    <a:pt x="4056" y="69"/>
                    <a:pt x="4056" y="69"/>
                  </a:cubicBezTo>
                  <a:cubicBezTo>
                    <a:pt x="4056" y="71"/>
                    <a:pt x="4056" y="72"/>
                    <a:pt x="4056" y="72"/>
                  </a:cubicBezTo>
                  <a:close/>
                  <a:moveTo>
                    <a:pt x="4056" y="67"/>
                  </a:moveTo>
                  <a:cubicBezTo>
                    <a:pt x="4056" y="67"/>
                    <a:pt x="4056" y="68"/>
                    <a:pt x="4056" y="68"/>
                  </a:cubicBezTo>
                  <a:cubicBezTo>
                    <a:pt x="4056" y="65"/>
                    <a:pt x="4055" y="61"/>
                    <a:pt x="4055" y="58"/>
                  </a:cubicBezTo>
                  <a:cubicBezTo>
                    <a:pt x="4055" y="57"/>
                    <a:pt x="4056" y="56"/>
                    <a:pt x="4057" y="56"/>
                  </a:cubicBezTo>
                  <a:cubicBezTo>
                    <a:pt x="4056" y="60"/>
                    <a:pt x="4056" y="64"/>
                    <a:pt x="4056" y="67"/>
                  </a:cubicBezTo>
                  <a:close/>
                  <a:moveTo>
                    <a:pt x="4064" y="123"/>
                  </a:moveTo>
                  <a:cubicBezTo>
                    <a:pt x="4063" y="124"/>
                    <a:pt x="4062" y="126"/>
                    <a:pt x="4062" y="127"/>
                  </a:cubicBezTo>
                  <a:cubicBezTo>
                    <a:pt x="4062" y="124"/>
                    <a:pt x="4062" y="122"/>
                    <a:pt x="4061" y="119"/>
                  </a:cubicBezTo>
                  <a:cubicBezTo>
                    <a:pt x="4063" y="116"/>
                    <a:pt x="4064" y="112"/>
                    <a:pt x="4065" y="109"/>
                  </a:cubicBezTo>
                  <a:cubicBezTo>
                    <a:pt x="4065" y="111"/>
                    <a:pt x="4065" y="112"/>
                    <a:pt x="4065" y="114"/>
                  </a:cubicBezTo>
                  <a:cubicBezTo>
                    <a:pt x="4065" y="117"/>
                    <a:pt x="4064" y="120"/>
                    <a:pt x="4064" y="123"/>
                  </a:cubicBezTo>
                  <a:close/>
                  <a:moveTo>
                    <a:pt x="4066" y="110"/>
                  </a:moveTo>
                  <a:cubicBezTo>
                    <a:pt x="4066" y="111"/>
                    <a:pt x="4066" y="112"/>
                    <a:pt x="4065" y="112"/>
                  </a:cubicBezTo>
                  <a:cubicBezTo>
                    <a:pt x="4065" y="111"/>
                    <a:pt x="4065" y="110"/>
                    <a:pt x="4065" y="109"/>
                  </a:cubicBezTo>
                  <a:cubicBezTo>
                    <a:pt x="4065" y="107"/>
                    <a:pt x="4066" y="105"/>
                    <a:pt x="4066" y="102"/>
                  </a:cubicBezTo>
                  <a:cubicBezTo>
                    <a:pt x="4066" y="105"/>
                    <a:pt x="4066" y="108"/>
                    <a:pt x="4066" y="110"/>
                  </a:cubicBezTo>
                  <a:close/>
                  <a:moveTo>
                    <a:pt x="4068" y="83"/>
                  </a:moveTo>
                  <a:cubicBezTo>
                    <a:pt x="4068" y="83"/>
                    <a:pt x="4068" y="84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6" y="87"/>
                    <a:pt x="4065" y="89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2"/>
                    <a:pt x="4063" y="94"/>
                    <a:pt x="4062" y="96"/>
                  </a:cubicBezTo>
                  <a:cubicBezTo>
                    <a:pt x="4062" y="90"/>
                    <a:pt x="4063" y="85"/>
                    <a:pt x="4065" y="79"/>
                  </a:cubicBezTo>
                  <a:cubicBezTo>
                    <a:pt x="4063" y="85"/>
                    <a:pt x="4062" y="90"/>
                    <a:pt x="4060" y="95"/>
                  </a:cubicBezTo>
                  <a:cubicBezTo>
                    <a:pt x="4060" y="85"/>
                    <a:pt x="4061" y="74"/>
                    <a:pt x="4061" y="63"/>
                  </a:cubicBezTo>
                  <a:cubicBezTo>
                    <a:pt x="4064" y="60"/>
                    <a:pt x="4067" y="58"/>
                    <a:pt x="4070" y="55"/>
                  </a:cubicBezTo>
                  <a:cubicBezTo>
                    <a:pt x="4070" y="62"/>
                    <a:pt x="4069" y="72"/>
                    <a:pt x="4068" y="83"/>
                  </a:cubicBezTo>
                  <a:close/>
                  <a:moveTo>
                    <a:pt x="4074" y="105"/>
                  </a:moveTo>
                  <a:cubicBezTo>
                    <a:pt x="4074" y="102"/>
                    <a:pt x="4074" y="99"/>
                    <a:pt x="4074" y="96"/>
                  </a:cubicBezTo>
                  <a:cubicBezTo>
                    <a:pt x="4074" y="97"/>
                    <a:pt x="4075" y="99"/>
                    <a:pt x="4075" y="100"/>
                  </a:cubicBezTo>
                  <a:cubicBezTo>
                    <a:pt x="4075" y="102"/>
                    <a:pt x="4075" y="103"/>
                    <a:pt x="4074" y="105"/>
                  </a:cubicBezTo>
                  <a:cubicBezTo>
                    <a:pt x="4074" y="105"/>
                    <a:pt x="4074" y="105"/>
                    <a:pt x="4074" y="105"/>
                  </a:cubicBezTo>
                  <a:close/>
                  <a:moveTo>
                    <a:pt x="4075" y="130"/>
                  </a:moveTo>
                  <a:cubicBezTo>
                    <a:pt x="4075" y="130"/>
                    <a:pt x="4075" y="130"/>
                    <a:pt x="4075" y="130"/>
                  </a:cubicBezTo>
                  <a:cubicBezTo>
                    <a:pt x="4075" y="129"/>
                    <a:pt x="4075" y="128"/>
                    <a:pt x="4075" y="127"/>
                  </a:cubicBezTo>
                  <a:cubicBezTo>
                    <a:pt x="4075" y="128"/>
                    <a:pt x="4075" y="128"/>
                    <a:pt x="4076" y="129"/>
                  </a:cubicBezTo>
                  <a:cubicBezTo>
                    <a:pt x="4075" y="129"/>
                    <a:pt x="4075" y="130"/>
                    <a:pt x="4075" y="130"/>
                  </a:cubicBezTo>
                  <a:close/>
                  <a:moveTo>
                    <a:pt x="4082" y="74"/>
                  </a:moveTo>
                  <a:cubicBezTo>
                    <a:pt x="4082" y="73"/>
                    <a:pt x="4082" y="71"/>
                    <a:pt x="4082" y="70"/>
                  </a:cubicBezTo>
                  <a:cubicBezTo>
                    <a:pt x="4082" y="70"/>
                    <a:pt x="4083" y="71"/>
                    <a:pt x="4083" y="72"/>
                  </a:cubicBezTo>
                  <a:cubicBezTo>
                    <a:pt x="4083" y="72"/>
                    <a:pt x="4083" y="73"/>
                    <a:pt x="4082" y="74"/>
                  </a:cubicBezTo>
                  <a:close/>
                  <a:moveTo>
                    <a:pt x="4086" y="139"/>
                  </a:moveTo>
                  <a:cubicBezTo>
                    <a:pt x="4086" y="140"/>
                    <a:pt x="4086" y="141"/>
                    <a:pt x="4086" y="142"/>
                  </a:cubicBezTo>
                  <a:cubicBezTo>
                    <a:pt x="4086" y="142"/>
                    <a:pt x="4086" y="141"/>
                    <a:pt x="4086" y="139"/>
                  </a:cubicBezTo>
                  <a:cubicBezTo>
                    <a:pt x="4086" y="138"/>
                    <a:pt x="4086" y="137"/>
                    <a:pt x="4086" y="136"/>
                  </a:cubicBezTo>
                  <a:cubicBezTo>
                    <a:pt x="4086" y="137"/>
                    <a:pt x="4086" y="137"/>
                    <a:pt x="4086" y="137"/>
                  </a:cubicBezTo>
                  <a:cubicBezTo>
                    <a:pt x="4086" y="138"/>
                    <a:pt x="4086" y="139"/>
                    <a:pt x="4086" y="139"/>
                  </a:cubicBezTo>
                  <a:close/>
                  <a:moveTo>
                    <a:pt x="4088" y="122"/>
                  </a:moveTo>
                  <a:cubicBezTo>
                    <a:pt x="4088" y="122"/>
                    <a:pt x="4088" y="122"/>
                    <a:pt x="4087" y="122"/>
                  </a:cubicBezTo>
                  <a:cubicBezTo>
                    <a:pt x="4088" y="121"/>
                    <a:pt x="4088" y="121"/>
                    <a:pt x="4088" y="121"/>
                  </a:cubicBezTo>
                  <a:cubicBezTo>
                    <a:pt x="4088" y="121"/>
                    <a:pt x="4088" y="122"/>
                    <a:pt x="4088" y="122"/>
                  </a:cubicBezTo>
                  <a:close/>
                  <a:moveTo>
                    <a:pt x="4089" y="110"/>
                  </a:moveTo>
                  <a:cubicBezTo>
                    <a:pt x="4088" y="112"/>
                    <a:pt x="4087" y="114"/>
                    <a:pt x="4086" y="116"/>
                  </a:cubicBezTo>
                  <a:cubicBezTo>
                    <a:pt x="4086" y="116"/>
                    <a:pt x="4086" y="117"/>
                    <a:pt x="4086" y="117"/>
                  </a:cubicBezTo>
                  <a:cubicBezTo>
                    <a:pt x="4086" y="113"/>
                    <a:pt x="4085" y="108"/>
                    <a:pt x="4085" y="104"/>
                  </a:cubicBezTo>
                  <a:cubicBezTo>
                    <a:pt x="4086" y="101"/>
                    <a:pt x="4086" y="98"/>
                    <a:pt x="4087" y="96"/>
                  </a:cubicBezTo>
                  <a:cubicBezTo>
                    <a:pt x="4088" y="95"/>
                    <a:pt x="4088" y="95"/>
                    <a:pt x="4088" y="95"/>
                  </a:cubicBezTo>
                  <a:cubicBezTo>
                    <a:pt x="4088" y="98"/>
                    <a:pt x="4089" y="101"/>
                    <a:pt x="4089" y="104"/>
                  </a:cubicBezTo>
                  <a:cubicBezTo>
                    <a:pt x="4089" y="106"/>
                    <a:pt x="4089" y="108"/>
                    <a:pt x="4089" y="110"/>
                  </a:cubicBezTo>
                  <a:close/>
                  <a:moveTo>
                    <a:pt x="4090" y="99"/>
                  </a:moveTo>
                  <a:cubicBezTo>
                    <a:pt x="4089" y="97"/>
                    <a:pt x="4089" y="96"/>
                    <a:pt x="4088" y="94"/>
                  </a:cubicBezTo>
                  <a:cubicBezTo>
                    <a:pt x="4089" y="93"/>
                    <a:pt x="4090" y="92"/>
                    <a:pt x="4090" y="91"/>
                  </a:cubicBezTo>
                  <a:cubicBezTo>
                    <a:pt x="4090" y="94"/>
                    <a:pt x="4090" y="96"/>
                    <a:pt x="4090" y="99"/>
                  </a:cubicBezTo>
                  <a:close/>
                  <a:moveTo>
                    <a:pt x="4084" y="91"/>
                  </a:moveTo>
                  <a:cubicBezTo>
                    <a:pt x="4084" y="89"/>
                    <a:pt x="4084" y="88"/>
                    <a:pt x="4083" y="87"/>
                  </a:cubicBezTo>
                  <a:cubicBezTo>
                    <a:pt x="4085" y="83"/>
                    <a:pt x="4086" y="80"/>
                    <a:pt x="4087" y="76"/>
                  </a:cubicBezTo>
                  <a:cubicBezTo>
                    <a:pt x="4088" y="78"/>
                    <a:pt x="4090" y="80"/>
                    <a:pt x="4091" y="82"/>
                  </a:cubicBezTo>
                  <a:cubicBezTo>
                    <a:pt x="4088" y="85"/>
                    <a:pt x="4086" y="88"/>
                    <a:pt x="4084" y="91"/>
                  </a:cubicBezTo>
                  <a:close/>
                  <a:moveTo>
                    <a:pt x="4091" y="79"/>
                  </a:moveTo>
                  <a:cubicBezTo>
                    <a:pt x="4090" y="77"/>
                    <a:pt x="4089" y="76"/>
                    <a:pt x="4088" y="75"/>
                  </a:cubicBezTo>
                  <a:cubicBezTo>
                    <a:pt x="4089" y="72"/>
                    <a:pt x="4091" y="68"/>
                    <a:pt x="4092" y="65"/>
                  </a:cubicBezTo>
                  <a:cubicBezTo>
                    <a:pt x="4092" y="68"/>
                    <a:pt x="4092" y="73"/>
                    <a:pt x="4091" y="79"/>
                  </a:cubicBezTo>
                  <a:close/>
                  <a:moveTo>
                    <a:pt x="4109" y="54"/>
                  </a:moveTo>
                  <a:cubicBezTo>
                    <a:pt x="4109" y="56"/>
                    <a:pt x="4108" y="58"/>
                    <a:pt x="4108" y="61"/>
                  </a:cubicBezTo>
                  <a:cubicBezTo>
                    <a:pt x="4104" y="65"/>
                    <a:pt x="4100" y="69"/>
                    <a:pt x="4097" y="74"/>
                  </a:cubicBezTo>
                  <a:cubicBezTo>
                    <a:pt x="4100" y="67"/>
                    <a:pt x="4104" y="60"/>
                    <a:pt x="4109" y="54"/>
                  </a:cubicBezTo>
                  <a:close/>
                  <a:moveTo>
                    <a:pt x="4095" y="89"/>
                  </a:moveTo>
                  <a:cubicBezTo>
                    <a:pt x="4095" y="90"/>
                    <a:pt x="4096" y="91"/>
                    <a:pt x="4096" y="92"/>
                  </a:cubicBezTo>
                  <a:cubicBezTo>
                    <a:pt x="4096" y="92"/>
                    <a:pt x="4095" y="93"/>
                    <a:pt x="4095" y="94"/>
                  </a:cubicBezTo>
                  <a:cubicBezTo>
                    <a:pt x="4095" y="92"/>
                    <a:pt x="4095" y="91"/>
                    <a:pt x="4095" y="89"/>
                  </a:cubicBezTo>
                  <a:close/>
                  <a:moveTo>
                    <a:pt x="4097" y="127"/>
                  </a:moveTo>
                  <a:cubicBezTo>
                    <a:pt x="4097" y="125"/>
                    <a:pt x="4097" y="124"/>
                    <a:pt x="4096" y="122"/>
                  </a:cubicBezTo>
                  <a:cubicBezTo>
                    <a:pt x="4096" y="117"/>
                    <a:pt x="4096" y="111"/>
                    <a:pt x="4096" y="105"/>
                  </a:cubicBezTo>
                  <a:cubicBezTo>
                    <a:pt x="4097" y="104"/>
                    <a:pt x="4097" y="102"/>
                    <a:pt x="4098" y="101"/>
                  </a:cubicBezTo>
                  <a:cubicBezTo>
                    <a:pt x="4097" y="102"/>
                    <a:pt x="4097" y="103"/>
                    <a:pt x="4096" y="105"/>
                  </a:cubicBezTo>
                  <a:cubicBezTo>
                    <a:pt x="4095" y="102"/>
                    <a:pt x="4095" y="99"/>
                    <a:pt x="4095" y="96"/>
                  </a:cubicBezTo>
                  <a:cubicBezTo>
                    <a:pt x="4096" y="95"/>
                    <a:pt x="4096" y="94"/>
                    <a:pt x="4096" y="93"/>
                  </a:cubicBezTo>
                  <a:cubicBezTo>
                    <a:pt x="4097" y="95"/>
                    <a:pt x="4098" y="97"/>
                    <a:pt x="4099" y="100"/>
                  </a:cubicBezTo>
                  <a:cubicBezTo>
                    <a:pt x="4099" y="100"/>
                    <a:pt x="4099" y="100"/>
                    <a:pt x="4098" y="101"/>
                  </a:cubicBezTo>
                  <a:cubicBezTo>
                    <a:pt x="4099" y="100"/>
                    <a:pt x="4099" y="100"/>
                    <a:pt x="4099" y="100"/>
                  </a:cubicBezTo>
                  <a:cubicBezTo>
                    <a:pt x="4100" y="101"/>
                    <a:pt x="4100" y="102"/>
                    <a:pt x="4101" y="103"/>
                  </a:cubicBezTo>
                  <a:cubicBezTo>
                    <a:pt x="4099" y="112"/>
                    <a:pt x="4098" y="120"/>
                    <a:pt x="4097" y="127"/>
                  </a:cubicBezTo>
                  <a:close/>
                  <a:moveTo>
                    <a:pt x="4098" y="87"/>
                  </a:moveTo>
                  <a:cubicBezTo>
                    <a:pt x="4099" y="86"/>
                    <a:pt x="4100" y="84"/>
                    <a:pt x="4101" y="83"/>
                  </a:cubicBezTo>
                  <a:cubicBezTo>
                    <a:pt x="4100" y="84"/>
                    <a:pt x="4099" y="86"/>
                    <a:pt x="4098" y="87"/>
                  </a:cubicBezTo>
                  <a:cubicBezTo>
                    <a:pt x="4097" y="86"/>
                    <a:pt x="4096" y="85"/>
                    <a:pt x="4095" y="83"/>
                  </a:cubicBezTo>
                  <a:cubicBezTo>
                    <a:pt x="4099" y="78"/>
                    <a:pt x="4103" y="72"/>
                    <a:pt x="4106" y="67"/>
                  </a:cubicBezTo>
                  <a:cubicBezTo>
                    <a:pt x="4106" y="72"/>
                    <a:pt x="4105" y="76"/>
                    <a:pt x="4104" y="81"/>
                  </a:cubicBezTo>
                  <a:cubicBezTo>
                    <a:pt x="4104" y="80"/>
                    <a:pt x="4103" y="79"/>
                    <a:pt x="4103" y="79"/>
                  </a:cubicBezTo>
                  <a:cubicBezTo>
                    <a:pt x="4103" y="78"/>
                    <a:pt x="4104" y="77"/>
                    <a:pt x="4105" y="75"/>
                  </a:cubicBezTo>
                  <a:cubicBezTo>
                    <a:pt x="4104" y="76"/>
                    <a:pt x="4103" y="77"/>
                    <a:pt x="4103" y="79"/>
                  </a:cubicBezTo>
                  <a:cubicBezTo>
                    <a:pt x="4102" y="78"/>
                    <a:pt x="4102" y="77"/>
                    <a:pt x="4101" y="77"/>
                  </a:cubicBezTo>
                  <a:cubicBezTo>
                    <a:pt x="4101" y="78"/>
                    <a:pt x="4102" y="79"/>
                    <a:pt x="4102" y="79"/>
                  </a:cubicBezTo>
                  <a:cubicBezTo>
                    <a:pt x="4102" y="80"/>
                    <a:pt x="4101" y="81"/>
                    <a:pt x="4101" y="83"/>
                  </a:cubicBezTo>
                  <a:cubicBezTo>
                    <a:pt x="4101" y="82"/>
                    <a:pt x="4102" y="81"/>
                    <a:pt x="4102" y="80"/>
                  </a:cubicBezTo>
                  <a:cubicBezTo>
                    <a:pt x="4103" y="81"/>
                    <a:pt x="4103" y="82"/>
                    <a:pt x="4104" y="84"/>
                  </a:cubicBezTo>
                  <a:cubicBezTo>
                    <a:pt x="4103" y="87"/>
                    <a:pt x="4103" y="90"/>
                    <a:pt x="4102" y="93"/>
                  </a:cubicBezTo>
                  <a:cubicBezTo>
                    <a:pt x="4101" y="91"/>
                    <a:pt x="4100" y="89"/>
                    <a:pt x="4098" y="87"/>
                  </a:cubicBezTo>
                  <a:close/>
                  <a:moveTo>
                    <a:pt x="4103" y="144"/>
                  </a:moveTo>
                  <a:cubicBezTo>
                    <a:pt x="4103" y="144"/>
                    <a:pt x="4103" y="143"/>
                    <a:pt x="4103" y="143"/>
                  </a:cubicBezTo>
                  <a:cubicBezTo>
                    <a:pt x="4103" y="140"/>
                    <a:pt x="4103" y="136"/>
                    <a:pt x="4103" y="131"/>
                  </a:cubicBezTo>
                  <a:cubicBezTo>
                    <a:pt x="4104" y="128"/>
                    <a:pt x="4105" y="126"/>
                    <a:pt x="4105" y="125"/>
                  </a:cubicBezTo>
                  <a:cubicBezTo>
                    <a:pt x="4105" y="125"/>
                    <a:pt x="4105" y="124"/>
                    <a:pt x="4105" y="124"/>
                  </a:cubicBezTo>
                  <a:cubicBezTo>
                    <a:pt x="4104" y="124"/>
                    <a:pt x="4104" y="124"/>
                    <a:pt x="4104" y="124"/>
                  </a:cubicBezTo>
                  <a:cubicBezTo>
                    <a:pt x="4104" y="122"/>
                    <a:pt x="4104" y="120"/>
                    <a:pt x="4104" y="118"/>
                  </a:cubicBezTo>
                  <a:cubicBezTo>
                    <a:pt x="4105" y="121"/>
                    <a:pt x="4106" y="125"/>
                    <a:pt x="4106" y="128"/>
                  </a:cubicBezTo>
                  <a:cubicBezTo>
                    <a:pt x="4105" y="136"/>
                    <a:pt x="4104" y="141"/>
                    <a:pt x="4103" y="144"/>
                  </a:cubicBezTo>
                  <a:close/>
                  <a:moveTo>
                    <a:pt x="4110" y="107"/>
                  </a:moveTo>
                  <a:cubicBezTo>
                    <a:pt x="4109" y="105"/>
                    <a:pt x="4108" y="102"/>
                    <a:pt x="4106" y="100"/>
                  </a:cubicBezTo>
                  <a:cubicBezTo>
                    <a:pt x="4107" y="97"/>
                    <a:pt x="4107" y="95"/>
                    <a:pt x="4107" y="93"/>
                  </a:cubicBezTo>
                  <a:cubicBezTo>
                    <a:pt x="4108" y="96"/>
                    <a:pt x="4110" y="99"/>
                    <a:pt x="4111" y="102"/>
                  </a:cubicBezTo>
                  <a:cubicBezTo>
                    <a:pt x="4111" y="104"/>
                    <a:pt x="4110" y="105"/>
                    <a:pt x="4110" y="107"/>
                  </a:cubicBezTo>
                  <a:close/>
                  <a:moveTo>
                    <a:pt x="4111" y="159"/>
                  </a:moveTo>
                  <a:cubicBezTo>
                    <a:pt x="4111" y="159"/>
                    <a:pt x="4111" y="159"/>
                    <a:pt x="4111" y="159"/>
                  </a:cubicBezTo>
                  <a:cubicBezTo>
                    <a:pt x="4111" y="159"/>
                    <a:pt x="4111" y="159"/>
                    <a:pt x="4112" y="159"/>
                  </a:cubicBezTo>
                  <a:cubicBezTo>
                    <a:pt x="4111" y="159"/>
                    <a:pt x="4111" y="159"/>
                    <a:pt x="4111" y="159"/>
                  </a:cubicBezTo>
                  <a:close/>
                  <a:moveTo>
                    <a:pt x="4112" y="96"/>
                  </a:moveTo>
                  <a:cubicBezTo>
                    <a:pt x="4111" y="93"/>
                    <a:pt x="4109" y="91"/>
                    <a:pt x="4108" y="88"/>
                  </a:cubicBezTo>
                  <a:cubicBezTo>
                    <a:pt x="4110" y="85"/>
                    <a:pt x="4112" y="82"/>
                    <a:pt x="4114" y="79"/>
                  </a:cubicBezTo>
                  <a:cubicBezTo>
                    <a:pt x="4114" y="84"/>
                    <a:pt x="4113" y="90"/>
                    <a:pt x="4112" y="96"/>
                  </a:cubicBezTo>
                  <a:close/>
                  <a:moveTo>
                    <a:pt x="4115" y="75"/>
                  </a:moveTo>
                  <a:cubicBezTo>
                    <a:pt x="4113" y="78"/>
                    <a:pt x="4110" y="82"/>
                    <a:pt x="4108" y="86"/>
                  </a:cubicBezTo>
                  <a:cubicBezTo>
                    <a:pt x="4109" y="77"/>
                    <a:pt x="4110" y="68"/>
                    <a:pt x="4111" y="61"/>
                  </a:cubicBezTo>
                  <a:cubicBezTo>
                    <a:pt x="4113" y="58"/>
                    <a:pt x="4115" y="55"/>
                    <a:pt x="4117" y="53"/>
                  </a:cubicBezTo>
                  <a:cubicBezTo>
                    <a:pt x="4117" y="58"/>
                    <a:pt x="4116" y="66"/>
                    <a:pt x="4115" y="75"/>
                  </a:cubicBezTo>
                  <a:close/>
                  <a:moveTo>
                    <a:pt x="4122" y="139"/>
                  </a:moveTo>
                  <a:cubicBezTo>
                    <a:pt x="4122" y="139"/>
                    <a:pt x="4121" y="139"/>
                    <a:pt x="4121" y="139"/>
                  </a:cubicBezTo>
                  <a:cubicBezTo>
                    <a:pt x="4121" y="138"/>
                    <a:pt x="4121" y="138"/>
                    <a:pt x="4122" y="138"/>
                  </a:cubicBezTo>
                  <a:cubicBezTo>
                    <a:pt x="4122" y="138"/>
                    <a:pt x="4122" y="138"/>
                    <a:pt x="4122" y="138"/>
                  </a:cubicBezTo>
                  <a:cubicBezTo>
                    <a:pt x="4122" y="139"/>
                    <a:pt x="4122" y="139"/>
                    <a:pt x="4122" y="139"/>
                  </a:cubicBezTo>
                  <a:close/>
                  <a:moveTo>
                    <a:pt x="4147" y="137"/>
                  </a:moveTo>
                  <a:cubicBezTo>
                    <a:pt x="4147" y="136"/>
                    <a:pt x="4146" y="135"/>
                    <a:pt x="4146" y="133"/>
                  </a:cubicBezTo>
                  <a:cubicBezTo>
                    <a:pt x="4146" y="132"/>
                    <a:pt x="4146" y="130"/>
                    <a:pt x="4146" y="128"/>
                  </a:cubicBezTo>
                  <a:cubicBezTo>
                    <a:pt x="4146" y="131"/>
                    <a:pt x="4147" y="133"/>
                    <a:pt x="4148" y="135"/>
                  </a:cubicBezTo>
                  <a:cubicBezTo>
                    <a:pt x="4148" y="136"/>
                    <a:pt x="4147" y="137"/>
                    <a:pt x="4147" y="137"/>
                  </a:cubicBezTo>
                  <a:close/>
                  <a:moveTo>
                    <a:pt x="4153" y="99"/>
                  </a:moveTo>
                  <a:cubicBezTo>
                    <a:pt x="4152" y="95"/>
                    <a:pt x="4150" y="92"/>
                    <a:pt x="4148" y="90"/>
                  </a:cubicBezTo>
                  <a:cubicBezTo>
                    <a:pt x="4150" y="93"/>
                    <a:pt x="4152" y="97"/>
                    <a:pt x="4153" y="101"/>
                  </a:cubicBezTo>
                  <a:cubicBezTo>
                    <a:pt x="4152" y="110"/>
                    <a:pt x="4151" y="118"/>
                    <a:pt x="4149" y="125"/>
                  </a:cubicBezTo>
                  <a:cubicBezTo>
                    <a:pt x="4148" y="122"/>
                    <a:pt x="4147" y="119"/>
                    <a:pt x="4147" y="116"/>
                  </a:cubicBezTo>
                  <a:cubicBezTo>
                    <a:pt x="4147" y="102"/>
                    <a:pt x="4148" y="86"/>
                    <a:pt x="4149" y="72"/>
                  </a:cubicBezTo>
                  <a:cubicBezTo>
                    <a:pt x="4151" y="75"/>
                    <a:pt x="4154" y="79"/>
                    <a:pt x="4156" y="82"/>
                  </a:cubicBezTo>
                  <a:cubicBezTo>
                    <a:pt x="4155" y="88"/>
                    <a:pt x="4154" y="93"/>
                    <a:pt x="4153" y="99"/>
                  </a:cubicBezTo>
                  <a:close/>
                  <a:moveTo>
                    <a:pt x="4156" y="142"/>
                  </a:moveTo>
                  <a:cubicBezTo>
                    <a:pt x="4157" y="134"/>
                    <a:pt x="4158" y="127"/>
                    <a:pt x="4158" y="121"/>
                  </a:cubicBezTo>
                  <a:cubicBezTo>
                    <a:pt x="4158" y="123"/>
                    <a:pt x="4159" y="125"/>
                    <a:pt x="4159" y="127"/>
                  </a:cubicBezTo>
                  <a:cubicBezTo>
                    <a:pt x="4158" y="136"/>
                    <a:pt x="4156" y="142"/>
                    <a:pt x="4156" y="142"/>
                  </a:cubicBezTo>
                  <a:close/>
                  <a:moveTo>
                    <a:pt x="4160" y="144"/>
                  </a:moveTo>
                  <a:cubicBezTo>
                    <a:pt x="4160" y="142"/>
                    <a:pt x="4160" y="140"/>
                    <a:pt x="4161" y="137"/>
                  </a:cubicBezTo>
                  <a:cubicBezTo>
                    <a:pt x="4161" y="138"/>
                    <a:pt x="4161" y="138"/>
                    <a:pt x="4161" y="138"/>
                  </a:cubicBezTo>
                  <a:cubicBezTo>
                    <a:pt x="4160" y="142"/>
                    <a:pt x="4160" y="144"/>
                    <a:pt x="4160" y="144"/>
                  </a:cubicBezTo>
                  <a:close/>
                  <a:moveTo>
                    <a:pt x="4159" y="110"/>
                  </a:moveTo>
                  <a:cubicBezTo>
                    <a:pt x="4159" y="103"/>
                    <a:pt x="4160" y="96"/>
                    <a:pt x="4160" y="90"/>
                  </a:cubicBezTo>
                  <a:cubicBezTo>
                    <a:pt x="4162" y="93"/>
                    <a:pt x="4163" y="96"/>
                    <a:pt x="4164" y="99"/>
                  </a:cubicBezTo>
                  <a:cubicBezTo>
                    <a:pt x="4163" y="105"/>
                    <a:pt x="4162" y="111"/>
                    <a:pt x="4161" y="116"/>
                  </a:cubicBezTo>
                  <a:cubicBezTo>
                    <a:pt x="4160" y="114"/>
                    <a:pt x="4159" y="112"/>
                    <a:pt x="4159" y="110"/>
                  </a:cubicBezTo>
                  <a:close/>
                  <a:moveTo>
                    <a:pt x="4164" y="124"/>
                  </a:moveTo>
                  <a:cubicBezTo>
                    <a:pt x="4163" y="123"/>
                    <a:pt x="4163" y="122"/>
                    <a:pt x="4163" y="121"/>
                  </a:cubicBezTo>
                  <a:cubicBezTo>
                    <a:pt x="4163" y="115"/>
                    <a:pt x="4164" y="109"/>
                    <a:pt x="4165" y="103"/>
                  </a:cubicBezTo>
                  <a:cubicBezTo>
                    <a:pt x="4165" y="105"/>
                    <a:pt x="4166" y="107"/>
                    <a:pt x="4167" y="109"/>
                  </a:cubicBezTo>
                  <a:cubicBezTo>
                    <a:pt x="4166" y="114"/>
                    <a:pt x="4165" y="119"/>
                    <a:pt x="4164" y="124"/>
                  </a:cubicBezTo>
                  <a:close/>
                  <a:moveTo>
                    <a:pt x="4169" y="146"/>
                  </a:moveTo>
                  <a:cubicBezTo>
                    <a:pt x="4169" y="145"/>
                    <a:pt x="4169" y="145"/>
                    <a:pt x="4169" y="145"/>
                  </a:cubicBezTo>
                  <a:cubicBezTo>
                    <a:pt x="4170" y="144"/>
                    <a:pt x="4170" y="143"/>
                    <a:pt x="4170" y="141"/>
                  </a:cubicBezTo>
                  <a:cubicBezTo>
                    <a:pt x="4170" y="142"/>
                    <a:pt x="4170" y="143"/>
                    <a:pt x="4170" y="144"/>
                  </a:cubicBezTo>
                  <a:cubicBezTo>
                    <a:pt x="4170" y="145"/>
                    <a:pt x="4170" y="145"/>
                    <a:pt x="4169" y="146"/>
                  </a:cubicBezTo>
                  <a:close/>
                  <a:moveTo>
                    <a:pt x="4193" y="118"/>
                  </a:moveTo>
                  <a:cubicBezTo>
                    <a:pt x="4192" y="114"/>
                    <a:pt x="4190" y="111"/>
                    <a:pt x="4189" y="107"/>
                  </a:cubicBezTo>
                  <a:cubicBezTo>
                    <a:pt x="4189" y="96"/>
                    <a:pt x="4189" y="84"/>
                    <a:pt x="4189" y="74"/>
                  </a:cubicBezTo>
                  <a:cubicBezTo>
                    <a:pt x="4189" y="70"/>
                    <a:pt x="4189" y="67"/>
                    <a:pt x="4188" y="65"/>
                  </a:cubicBezTo>
                  <a:cubicBezTo>
                    <a:pt x="4189" y="74"/>
                    <a:pt x="4193" y="84"/>
                    <a:pt x="4196" y="94"/>
                  </a:cubicBezTo>
                  <a:cubicBezTo>
                    <a:pt x="4195" y="102"/>
                    <a:pt x="4194" y="110"/>
                    <a:pt x="4193" y="118"/>
                  </a:cubicBezTo>
                  <a:close/>
                  <a:moveTo>
                    <a:pt x="4222" y="124"/>
                  </a:moveTo>
                  <a:cubicBezTo>
                    <a:pt x="4221" y="122"/>
                    <a:pt x="4221" y="120"/>
                    <a:pt x="4220" y="117"/>
                  </a:cubicBezTo>
                  <a:cubicBezTo>
                    <a:pt x="4221" y="109"/>
                    <a:pt x="4222" y="100"/>
                    <a:pt x="4223" y="92"/>
                  </a:cubicBezTo>
                  <a:cubicBezTo>
                    <a:pt x="4225" y="96"/>
                    <a:pt x="4226" y="100"/>
                    <a:pt x="4226" y="104"/>
                  </a:cubicBezTo>
                  <a:cubicBezTo>
                    <a:pt x="4225" y="111"/>
                    <a:pt x="4223" y="118"/>
                    <a:pt x="4222" y="124"/>
                  </a:cubicBezTo>
                  <a:close/>
                  <a:moveTo>
                    <a:pt x="4262" y="133"/>
                  </a:moveTo>
                  <a:cubicBezTo>
                    <a:pt x="4262" y="130"/>
                    <a:pt x="4261" y="126"/>
                    <a:pt x="4260" y="122"/>
                  </a:cubicBezTo>
                  <a:cubicBezTo>
                    <a:pt x="4260" y="112"/>
                    <a:pt x="4260" y="100"/>
                    <a:pt x="4261" y="88"/>
                  </a:cubicBezTo>
                  <a:cubicBezTo>
                    <a:pt x="4263" y="96"/>
                    <a:pt x="4265" y="104"/>
                    <a:pt x="4265" y="111"/>
                  </a:cubicBezTo>
                  <a:cubicBezTo>
                    <a:pt x="4266" y="117"/>
                    <a:pt x="4266" y="117"/>
                    <a:pt x="4266" y="117"/>
                  </a:cubicBezTo>
                  <a:cubicBezTo>
                    <a:pt x="4264" y="123"/>
                    <a:pt x="4263" y="129"/>
                    <a:pt x="4262" y="133"/>
                  </a:cubicBezTo>
                  <a:close/>
                  <a:moveTo>
                    <a:pt x="4275" y="110"/>
                  </a:moveTo>
                  <a:cubicBezTo>
                    <a:pt x="4275" y="113"/>
                    <a:pt x="4275" y="116"/>
                    <a:pt x="4275" y="119"/>
                  </a:cubicBezTo>
                  <a:cubicBezTo>
                    <a:pt x="4274" y="122"/>
                    <a:pt x="4274" y="124"/>
                    <a:pt x="4273" y="127"/>
                  </a:cubicBezTo>
                  <a:cubicBezTo>
                    <a:pt x="4273" y="119"/>
                    <a:pt x="4272" y="111"/>
                    <a:pt x="4271" y="104"/>
                  </a:cubicBezTo>
                  <a:cubicBezTo>
                    <a:pt x="4272" y="98"/>
                    <a:pt x="4272" y="91"/>
                    <a:pt x="4273" y="86"/>
                  </a:cubicBezTo>
                  <a:cubicBezTo>
                    <a:pt x="4275" y="93"/>
                    <a:pt x="4275" y="102"/>
                    <a:pt x="4275" y="110"/>
                  </a:cubicBezTo>
                  <a:close/>
                  <a:moveTo>
                    <a:pt x="4285" y="142"/>
                  </a:moveTo>
                  <a:cubicBezTo>
                    <a:pt x="4285" y="142"/>
                    <a:pt x="4285" y="141"/>
                    <a:pt x="4286" y="138"/>
                  </a:cubicBezTo>
                  <a:cubicBezTo>
                    <a:pt x="4287" y="120"/>
                    <a:pt x="4286" y="96"/>
                    <a:pt x="4285" y="77"/>
                  </a:cubicBezTo>
                  <a:cubicBezTo>
                    <a:pt x="4287" y="81"/>
                    <a:pt x="4289" y="86"/>
                    <a:pt x="4290" y="92"/>
                  </a:cubicBezTo>
                  <a:cubicBezTo>
                    <a:pt x="4288" y="108"/>
                    <a:pt x="4286" y="129"/>
                    <a:pt x="4286" y="138"/>
                  </a:cubicBezTo>
                  <a:cubicBezTo>
                    <a:pt x="4285" y="139"/>
                    <a:pt x="4285" y="141"/>
                    <a:pt x="4285" y="142"/>
                  </a:cubicBezTo>
                  <a:close/>
                  <a:moveTo>
                    <a:pt x="4289" y="129"/>
                  </a:moveTo>
                  <a:cubicBezTo>
                    <a:pt x="4289" y="119"/>
                    <a:pt x="4290" y="107"/>
                    <a:pt x="4291" y="97"/>
                  </a:cubicBezTo>
                  <a:cubicBezTo>
                    <a:pt x="4291" y="100"/>
                    <a:pt x="4291" y="103"/>
                    <a:pt x="4291" y="106"/>
                  </a:cubicBezTo>
                  <a:cubicBezTo>
                    <a:pt x="4291" y="114"/>
                    <a:pt x="4290" y="121"/>
                    <a:pt x="4289" y="129"/>
                  </a:cubicBezTo>
                  <a:close/>
                  <a:moveTo>
                    <a:pt x="4300" y="125"/>
                  </a:moveTo>
                  <a:cubicBezTo>
                    <a:pt x="4301" y="120"/>
                    <a:pt x="4301" y="113"/>
                    <a:pt x="4301" y="107"/>
                  </a:cubicBezTo>
                  <a:cubicBezTo>
                    <a:pt x="4301" y="114"/>
                    <a:pt x="4301" y="120"/>
                    <a:pt x="4300" y="125"/>
                  </a:cubicBezTo>
                  <a:close/>
                  <a:moveTo>
                    <a:pt x="4315" y="112"/>
                  </a:moveTo>
                  <a:cubicBezTo>
                    <a:pt x="4315" y="105"/>
                    <a:pt x="4315" y="98"/>
                    <a:pt x="4315" y="91"/>
                  </a:cubicBezTo>
                  <a:cubicBezTo>
                    <a:pt x="4316" y="95"/>
                    <a:pt x="4316" y="99"/>
                    <a:pt x="4316" y="103"/>
                  </a:cubicBezTo>
                  <a:cubicBezTo>
                    <a:pt x="4316" y="106"/>
                    <a:pt x="4316" y="109"/>
                    <a:pt x="4315" y="112"/>
                  </a:cubicBezTo>
                  <a:close/>
                  <a:moveTo>
                    <a:pt x="4326" y="129"/>
                  </a:moveTo>
                  <a:cubicBezTo>
                    <a:pt x="4326" y="129"/>
                    <a:pt x="4326" y="129"/>
                    <a:pt x="4325" y="130"/>
                  </a:cubicBezTo>
                  <a:cubicBezTo>
                    <a:pt x="4325" y="132"/>
                    <a:pt x="4324" y="134"/>
                    <a:pt x="4324" y="137"/>
                  </a:cubicBezTo>
                  <a:cubicBezTo>
                    <a:pt x="4324" y="136"/>
                    <a:pt x="4324" y="136"/>
                    <a:pt x="4324" y="136"/>
                  </a:cubicBezTo>
                  <a:cubicBezTo>
                    <a:pt x="4324" y="134"/>
                    <a:pt x="4325" y="132"/>
                    <a:pt x="4325" y="130"/>
                  </a:cubicBezTo>
                  <a:cubicBezTo>
                    <a:pt x="4326" y="129"/>
                    <a:pt x="4326" y="129"/>
                    <a:pt x="4326" y="129"/>
                  </a:cubicBezTo>
                  <a:cubicBezTo>
                    <a:pt x="4326" y="129"/>
                    <a:pt x="4326" y="129"/>
                    <a:pt x="4326" y="129"/>
                  </a:cubicBezTo>
                  <a:close/>
                  <a:moveTo>
                    <a:pt x="4362" y="130"/>
                  </a:moveTo>
                  <a:cubicBezTo>
                    <a:pt x="4362" y="132"/>
                    <a:pt x="4361" y="134"/>
                    <a:pt x="4360" y="136"/>
                  </a:cubicBezTo>
                  <a:cubicBezTo>
                    <a:pt x="4360" y="131"/>
                    <a:pt x="4360" y="126"/>
                    <a:pt x="4360" y="121"/>
                  </a:cubicBezTo>
                  <a:cubicBezTo>
                    <a:pt x="4362" y="115"/>
                    <a:pt x="4364" y="110"/>
                    <a:pt x="4365" y="104"/>
                  </a:cubicBezTo>
                  <a:cubicBezTo>
                    <a:pt x="4364" y="114"/>
                    <a:pt x="4363" y="123"/>
                    <a:pt x="4362" y="130"/>
                  </a:cubicBezTo>
                  <a:close/>
                  <a:moveTo>
                    <a:pt x="4378" y="124"/>
                  </a:moveTo>
                  <a:cubicBezTo>
                    <a:pt x="4378" y="110"/>
                    <a:pt x="4380" y="94"/>
                    <a:pt x="4381" y="83"/>
                  </a:cubicBezTo>
                  <a:cubicBezTo>
                    <a:pt x="4381" y="87"/>
                    <a:pt x="4381" y="91"/>
                    <a:pt x="4381" y="95"/>
                  </a:cubicBezTo>
                  <a:cubicBezTo>
                    <a:pt x="4381" y="105"/>
                    <a:pt x="4380" y="114"/>
                    <a:pt x="4378" y="124"/>
                  </a:cubicBezTo>
                  <a:close/>
                  <a:moveTo>
                    <a:pt x="4394" y="160"/>
                  </a:moveTo>
                  <a:cubicBezTo>
                    <a:pt x="4394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4" y="160"/>
                  </a:cubicBezTo>
                  <a:close/>
                  <a:moveTo>
                    <a:pt x="4407" y="116"/>
                  </a:moveTo>
                  <a:cubicBezTo>
                    <a:pt x="4406" y="121"/>
                    <a:pt x="4404" y="127"/>
                    <a:pt x="4402" y="132"/>
                  </a:cubicBezTo>
                  <a:cubicBezTo>
                    <a:pt x="4402" y="127"/>
                    <a:pt x="4402" y="121"/>
                    <a:pt x="4402" y="115"/>
                  </a:cubicBezTo>
                  <a:cubicBezTo>
                    <a:pt x="4403" y="110"/>
                    <a:pt x="4403" y="104"/>
                    <a:pt x="4403" y="98"/>
                  </a:cubicBezTo>
                  <a:cubicBezTo>
                    <a:pt x="4403" y="95"/>
                    <a:pt x="4403" y="92"/>
                    <a:pt x="4403" y="89"/>
                  </a:cubicBezTo>
                  <a:cubicBezTo>
                    <a:pt x="4404" y="78"/>
                    <a:pt x="4405" y="68"/>
                    <a:pt x="4406" y="60"/>
                  </a:cubicBezTo>
                  <a:cubicBezTo>
                    <a:pt x="4409" y="68"/>
                    <a:pt x="4411" y="78"/>
                    <a:pt x="4411" y="87"/>
                  </a:cubicBezTo>
                  <a:cubicBezTo>
                    <a:pt x="4410" y="95"/>
                    <a:pt x="4409" y="106"/>
                    <a:pt x="4407" y="116"/>
                  </a:cubicBezTo>
                  <a:close/>
                  <a:moveTo>
                    <a:pt x="4415" y="136"/>
                  </a:moveTo>
                  <a:cubicBezTo>
                    <a:pt x="4415" y="137"/>
                    <a:pt x="4414" y="138"/>
                    <a:pt x="4414" y="139"/>
                  </a:cubicBezTo>
                  <a:cubicBezTo>
                    <a:pt x="4414" y="137"/>
                    <a:pt x="4414" y="135"/>
                    <a:pt x="4414" y="133"/>
                  </a:cubicBezTo>
                  <a:cubicBezTo>
                    <a:pt x="4415" y="130"/>
                    <a:pt x="4415" y="128"/>
                    <a:pt x="4416" y="125"/>
                  </a:cubicBezTo>
                  <a:cubicBezTo>
                    <a:pt x="4416" y="129"/>
                    <a:pt x="4415" y="133"/>
                    <a:pt x="4415" y="136"/>
                  </a:cubicBezTo>
                  <a:close/>
                  <a:moveTo>
                    <a:pt x="4431" y="126"/>
                  </a:moveTo>
                  <a:cubicBezTo>
                    <a:pt x="4430" y="113"/>
                    <a:pt x="4430" y="96"/>
                    <a:pt x="4430" y="84"/>
                  </a:cubicBezTo>
                  <a:cubicBezTo>
                    <a:pt x="4434" y="90"/>
                    <a:pt x="4436" y="100"/>
                    <a:pt x="4436" y="104"/>
                  </a:cubicBezTo>
                  <a:cubicBezTo>
                    <a:pt x="4436" y="110"/>
                    <a:pt x="4433" y="118"/>
                    <a:pt x="4431" y="126"/>
                  </a:cubicBezTo>
                  <a:close/>
                  <a:moveTo>
                    <a:pt x="4442" y="128"/>
                  </a:moveTo>
                  <a:cubicBezTo>
                    <a:pt x="4443" y="113"/>
                    <a:pt x="4443" y="91"/>
                    <a:pt x="4443" y="76"/>
                  </a:cubicBezTo>
                  <a:cubicBezTo>
                    <a:pt x="4445" y="83"/>
                    <a:pt x="4447" y="90"/>
                    <a:pt x="4447" y="96"/>
                  </a:cubicBezTo>
                  <a:cubicBezTo>
                    <a:pt x="4447" y="107"/>
                    <a:pt x="4444" y="117"/>
                    <a:pt x="4442" y="128"/>
                  </a:cubicBezTo>
                  <a:close/>
                  <a:moveTo>
                    <a:pt x="4482" y="112"/>
                  </a:moveTo>
                  <a:cubicBezTo>
                    <a:pt x="4482" y="110"/>
                    <a:pt x="4482" y="108"/>
                    <a:pt x="4481" y="105"/>
                  </a:cubicBezTo>
                  <a:cubicBezTo>
                    <a:pt x="4482" y="108"/>
                    <a:pt x="4481" y="112"/>
                    <a:pt x="4481" y="115"/>
                  </a:cubicBezTo>
                  <a:cubicBezTo>
                    <a:pt x="4476" y="131"/>
                    <a:pt x="4472" y="144"/>
                    <a:pt x="4472" y="144"/>
                  </a:cubicBezTo>
                  <a:cubicBezTo>
                    <a:pt x="4473" y="133"/>
                    <a:pt x="4477" y="110"/>
                    <a:pt x="4482" y="86"/>
                  </a:cubicBezTo>
                  <a:cubicBezTo>
                    <a:pt x="4484" y="90"/>
                    <a:pt x="4485" y="95"/>
                    <a:pt x="4486" y="99"/>
                  </a:cubicBezTo>
                  <a:cubicBezTo>
                    <a:pt x="4484" y="103"/>
                    <a:pt x="4483" y="108"/>
                    <a:pt x="4482" y="112"/>
                  </a:cubicBezTo>
                  <a:close/>
                  <a:moveTo>
                    <a:pt x="4494" y="133"/>
                  </a:moveTo>
                  <a:cubicBezTo>
                    <a:pt x="4494" y="133"/>
                    <a:pt x="4494" y="134"/>
                    <a:pt x="4494" y="134"/>
                  </a:cubicBezTo>
                  <a:cubicBezTo>
                    <a:pt x="4494" y="134"/>
                    <a:pt x="4494" y="134"/>
                    <a:pt x="4494" y="134"/>
                  </a:cubicBezTo>
                  <a:cubicBezTo>
                    <a:pt x="4494" y="134"/>
                    <a:pt x="4494" y="133"/>
                    <a:pt x="4494" y="133"/>
                  </a:cubicBezTo>
                  <a:cubicBezTo>
                    <a:pt x="4495" y="126"/>
                    <a:pt x="4496" y="117"/>
                    <a:pt x="4497" y="107"/>
                  </a:cubicBezTo>
                  <a:cubicBezTo>
                    <a:pt x="4497" y="110"/>
                    <a:pt x="4497" y="114"/>
                    <a:pt x="4497" y="117"/>
                  </a:cubicBezTo>
                  <a:cubicBezTo>
                    <a:pt x="4496" y="123"/>
                    <a:pt x="4495" y="129"/>
                    <a:pt x="4494" y="133"/>
                  </a:cubicBezTo>
                  <a:close/>
                  <a:moveTo>
                    <a:pt x="4499" y="159"/>
                  </a:move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lose/>
                  <a:moveTo>
                    <a:pt x="4540" y="143"/>
                  </a:moveTo>
                  <a:cubicBezTo>
                    <a:pt x="4540" y="142"/>
                    <a:pt x="4540" y="142"/>
                    <a:pt x="4540" y="141"/>
                  </a:cubicBezTo>
                  <a:cubicBezTo>
                    <a:pt x="4540" y="135"/>
                    <a:pt x="4541" y="127"/>
                    <a:pt x="4541" y="117"/>
                  </a:cubicBezTo>
                  <a:cubicBezTo>
                    <a:pt x="4542" y="121"/>
                    <a:pt x="4542" y="125"/>
                    <a:pt x="4542" y="129"/>
                  </a:cubicBezTo>
                  <a:cubicBezTo>
                    <a:pt x="4541" y="135"/>
                    <a:pt x="4541" y="139"/>
                    <a:pt x="4540" y="143"/>
                  </a:cubicBezTo>
                  <a:close/>
                  <a:moveTo>
                    <a:pt x="4544" y="117"/>
                  </a:moveTo>
                  <a:cubicBezTo>
                    <a:pt x="4543" y="115"/>
                    <a:pt x="4542" y="113"/>
                    <a:pt x="4542" y="111"/>
                  </a:cubicBezTo>
                  <a:cubicBezTo>
                    <a:pt x="4542" y="108"/>
                    <a:pt x="4542" y="104"/>
                    <a:pt x="4543" y="100"/>
                  </a:cubicBezTo>
                  <a:cubicBezTo>
                    <a:pt x="4544" y="103"/>
                    <a:pt x="4544" y="106"/>
                    <a:pt x="4545" y="108"/>
                  </a:cubicBezTo>
                  <a:cubicBezTo>
                    <a:pt x="4544" y="111"/>
                    <a:pt x="4544" y="114"/>
                    <a:pt x="4544" y="117"/>
                  </a:cubicBezTo>
                  <a:close/>
                  <a:moveTo>
                    <a:pt x="4552" y="133"/>
                  </a:moveTo>
                  <a:cubicBezTo>
                    <a:pt x="4552" y="133"/>
                    <a:pt x="4552" y="133"/>
                    <a:pt x="4552" y="133"/>
                  </a:cubicBezTo>
                  <a:cubicBezTo>
                    <a:pt x="4552" y="130"/>
                    <a:pt x="4553" y="127"/>
                    <a:pt x="4553" y="124"/>
                  </a:cubicBezTo>
                  <a:cubicBezTo>
                    <a:pt x="4553" y="125"/>
                    <a:pt x="4553" y="126"/>
                    <a:pt x="4553" y="128"/>
                  </a:cubicBezTo>
                  <a:cubicBezTo>
                    <a:pt x="4553" y="130"/>
                    <a:pt x="4552" y="131"/>
                    <a:pt x="4552" y="133"/>
                  </a:cubicBezTo>
                  <a:close/>
                  <a:moveTo>
                    <a:pt x="4589" y="142"/>
                  </a:moveTo>
                  <a:cubicBezTo>
                    <a:pt x="4589" y="139"/>
                    <a:pt x="4589" y="134"/>
                    <a:pt x="4589" y="128"/>
                  </a:cubicBezTo>
                  <a:cubicBezTo>
                    <a:pt x="4589" y="130"/>
                    <a:pt x="4589" y="132"/>
                    <a:pt x="4590" y="133"/>
                  </a:cubicBezTo>
                  <a:cubicBezTo>
                    <a:pt x="4589" y="139"/>
                    <a:pt x="4589" y="142"/>
                    <a:pt x="4589" y="142"/>
                  </a:cubicBezTo>
                  <a:close/>
                  <a:moveTo>
                    <a:pt x="4610" y="135"/>
                  </a:moveTo>
                  <a:cubicBezTo>
                    <a:pt x="4610" y="134"/>
                    <a:pt x="4610" y="134"/>
                    <a:pt x="4610" y="133"/>
                  </a:cubicBezTo>
                  <a:cubicBezTo>
                    <a:pt x="4610" y="121"/>
                    <a:pt x="4610" y="103"/>
                    <a:pt x="4609" y="88"/>
                  </a:cubicBezTo>
                  <a:cubicBezTo>
                    <a:pt x="4611" y="94"/>
                    <a:pt x="4613" y="100"/>
                    <a:pt x="4614" y="106"/>
                  </a:cubicBezTo>
                  <a:cubicBezTo>
                    <a:pt x="4612" y="118"/>
                    <a:pt x="4611" y="128"/>
                    <a:pt x="4610" y="135"/>
                  </a:cubicBezTo>
                  <a:close/>
                  <a:moveTo>
                    <a:pt x="4617" y="145"/>
                  </a:moveTo>
                  <a:cubicBezTo>
                    <a:pt x="4617" y="141"/>
                    <a:pt x="4617" y="136"/>
                    <a:pt x="4617" y="129"/>
                  </a:cubicBezTo>
                  <a:cubicBezTo>
                    <a:pt x="4618" y="133"/>
                    <a:pt x="4618" y="136"/>
                    <a:pt x="4619" y="139"/>
                  </a:cubicBezTo>
                  <a:cubicBezTo>
                    <a:pt x="4618" y="143"/>
                    <a:pt x="4617" y="145"/>
                    <a:pt x="4617" y="145"/>
                  </a:cubicBezTo>
                  <a:close/>
                  <a:moveTo>
                    <a:pt x="4622" y="159"/>
                  </a:moveTo>
                  <a:cubicBezTo>
                    <a:pt x="4623" y="159"/>
                    <a:pt x="4623" y="159"/>
                    <a:pt x="4623" y="159"/>
                  </a:cubicBezTo>
                  <a:cubicBezTo>
                    <a:pt x="4623" y="159"/>
                    <a:pt x="4623" y="158"/>
                    <a:pt x="4623" y="158"/>
                  </a:cubicBezTo>
                  <a:cubicBezTo>
                    <a:pt x="4623" y="159"/>
                    <a:pt x="4624" y="160"/>
                    <a:pt x="4624" y="160"/>
                  </a:cubicBezTo>
                  <a:cubicBezTo>
                    <a:pt x="4623" y="160"/>
                    <a:pt x="4623" y="159"/>
                    <a:pt x="4622" y="159"/>
                  </a:cubicBezTo>
                  <a:close/>
                  <a:moveTo>
                    <a:pt x="4624" y="121"/>
                  </a:moveTo>
                  <a:cubicBezTo>
                    <a:pt x="4622" y="117"/>
                    <a:pt x="4621" y="114"/>
                    <a:pt x="4619" y="110"/>
                  </a:cubicBezTo>
                  <a:cubicBezTo>
                    <a:pt x="4620" y="105"/>
                    <a:pt x="4620" y="99"/>
                    <a:pt x="4621" y="94"/>
                  </a:cubicBezTo>
                  <a:cubicBezTo>
                    <a:pt x="4621" y="100"/>
                    <a:pt x="4623" y="108"/>
                    <a:pt x="4625" y="116"/>
                  </a:cubicBezTo>
                  <a:cubicBezTo>
                    <a:pt x="4624" y="118"/>
                    <a:pt x="4624" y="119"/>
                    <a:pt x="4624" y="121"/>
                  </a:cubicBezTo>
                  <a:close/>
                  <a:moveTo>
                    <a:pt x="4632" y="142"/>
                  </a:moveTo>
                  <a:cubicBezTo>
                    <a:pt x="4631" y="138"/>
                    <a:pt x="4629" y="134"/>
                    <a:pt x="4627" y="129"/>
                  </a:cubicBezTo>
                  <a:cubicBezTo>
                    <a:pt x="4627" y="129"/>
                    <a:pt x="4627" y="128"/>
                    <a:pt x="4627" y="127"/>
                  </a:cubicBezTo>
                  <a:cubicBezTo>
                    <a:pt x="4629" y="132"/>
                    <a:pt x="4630" y="137"/>
                    <a:pt x="4632" y="142"/>
                  </a:cubicBezTo>
                  <a:cubicBezTo>
                    <a:pt x="4635" y="149"/>
                    <a:pt x="4636" y="153"/>
                    <a:pt x="4637" y="155"/>
                  </a:cubicBezTo>
                  <a:cubicBezTo>
                    <a:pt x="4635" y="151"/>
                    <a:pt x="4634" y="147"/>
                    <a:pt x="4632" y="142"/>
                  </a:cubicBezTo>
                  <a:close/>
                  <a:moveTo>
                    <a:pt x="4458" y="105"/>
                  </a:moveTo>
                  <a:cubicBezTo>
                    <a:pt x="4458" y="103"/>
                    <a:pt x="4458" y="101"/>
                    <a:pt x="4457" y="99"/>
                  </a:cubicBezTo>
                  <a:cubicBezTo>
                    <a:pt x="4457" y="101"/>
                    <a:pt x="4458" y="103"/>
                    <a:pt x="4458" y="105"/>
                  </a:cubicBezTo>
                  <a:close/>
                  <a:moveTo>
                    <a:pt x="4466" y="65"/>
                  </a:moveTo>
                  <a:cubicBezTo>
                    <a:pt x="4466" y="64"/>
                    <a:pt x="4466" y="63"/>
                    <a:pt x="4466" y="63"/>
                  </a:cubicBezTo>
                  <a:cubicBezTo>
                    <a:pt x="4466" y="63"/>
                    <a:pt x="4466" y="64"/>
                    <a:pt x="4466" y="65"/>
                  </a:cubicBezTo>
                  <a:close/>
                  <a:moveTo>
                    <a:pt x="4065" y="79"/>
                  </a:moveTo>
                  <a:cubicBezTo>
                    <a:pt x="4066" y="76"/>
                    <a:pt x="4067" y="73"/>
                    <a:pt x="4068" y="70"/>
                  </a:cubicBezTo>
                  <a:cubicBezTo>
                    <a:pt x="4067" y="73"/>
                    <a:pt x="4066" y="76"/>
                    <a:pt x="4065" y="79"/>
                  </a:cubicBezTo>
                  <a:close/>
                  <a:moveTo>
                    <a:pt x="3886" y="79"/>
                  </a:moveTo>
                  <a:cubicBezTo>
                    <a:pt x="3885" y="76"/>
                    <a:pt x="3884" y="73"/>
                    <a:pt x="3882" y="70"/>
                  </a:cubicBezTo>
                  <a:cubicBezTo>
                    <a:pt x="3884" y="73"/>
                    <a:pt x="3885" y="76"/>
                    <a:pt x="3886" y="79"/>
                  </a:cubicBezTo>
                  <a:close/>
                  <a:moveTo>
                    <a:pt x="2267" y="79"/>
                  </a:moveTo>
                  <a:cubicBezTo>
                    <a:pt x="2268" y="76"/>
                    <a:pt x="2269" y="73"/>
                    <a:pt x="2270" y="70"/>
                  </a:cubicBezTo>
                  <a:cubicBezTo>
                    <a:pt x="2269" y="73"/>
                    <a:pt x="2268" y="76"/>
                    <a:pt x="2267" y="79"/>
                  </a:cubicBezTo>
                  <a:close/>
                  <a:moveTo>
                    <a:pt x="3115" y="83"/>
                  </a:moveTo>
                  <a:cubicBezTo>
                    <a:pt x="3114" y="81"/>
                    <a:pt x="3113" y="79"/>
                    <a:pt x="3112" y="78"/>
                  </a:cubicBezTo>
                  <a:cubicBezTo>
                    <a:pt x="3113" y="79"/>
                    <a:pt x="3114" y="81"/>
                    <a:pt x="3115" y="83"/>
                  </a:cubicBezTo>
                  <a:close/>
                  <a:moveTo>
                    <a:pt x="290" y="79"/>
                  </a:moveTo>
                  <a:cubicBezTo>
                    <a:pt x="289" y="76"/>
                    <a:pt x="288" y="73"/>
                    <a:pt x="287" y="70"/>
                  </a:cubicBezTo>
                  <a:cubicBezTo>
                    <a:pt x="288" y="73"/>
                    <a:pt x="289" y="76"/>
                    <a:pt x="290" y="79"/>
                  </a:cubicBezTo>
                  <a:close/>
                  <a:moveTo>
                    <a:pt x="469" y="79"/>
                  </a:moveTo>
                  <a:cubicBezTo>
                    <a:pt x="470" y="76"/>
                    <a:pt x="471" y="73"/>
                    <a:pt x="472" y="70"/>
                  </a:cubicBezTo>
                  <a:cubicBezTo>
                    <a:pt x="471" y="73"/>
                    <a:pt x="470" y="76"/>
                    <a:pt x="469" y="79"/>
                  </a:cubicBezTo>
                  <a:close/>
                  <a:moveTo>
                    <a:pt x="1317" y="83"/>
                  </a:moveTo>
                  <a:cubicBezTo>
                    <a:pt x="1316" y="81"/>
                    <a:pt x="1315" y="79"/>
                    <a:pt x="1314" y="78"/>
                  </a:cubicBezTo>
                  <a:cubicBezTo>
                    <a:pt x="1315" y="79"/>
                    <a:pt x="1316" y="81"/>
                    <a:pt x="1317" y="83"/>
                  </a:cubicBezTo>
                  <a:close/>
                  <a:moveTo>
                    <a:pt x="3042" y="83"/>
                  </a:moveTo>
                  <a:cubicBezTo>
                    <a:pt x="3040" y="80"/>
                    <a:pt x="3039" y="77"/>
                    <a:pt x="3038" y="75"/>
                  </a:cubicBezTo>
                  <a:cubicBezTo>
                    <a:pt x="3039" y="78"/>
                    <a:pt x="3040" y="80"/>
                    <a:pt x="3042" y="83"/>
                  </a:cubicBezTo>
                  <a:close/>
                  <a:moveTo>
                    <a:pt x="2683" y="105"/>
                  </a:moveTo>
                  <a:cubicBezTo>
                    <a:pt x="2683" y="103"/>
                    <a:pt x="2683" y="101"/>
                    <a:pt x="2683" y="99"/>
                  </a:cubicBezTo>
                  <a:cubicBezTo>
                    <a:pt x="2683" y="101"/>
                    <a:pt x="2683" y="103"/>
                    <a:pt x="2683" y="105"/>
                  </a:cubicBezTo>
                  <a:close/>
                  <a:moveTo>
                    <a:pt x="2088" y="79"/>
                  </a:moveTo>
                  <a:cubicBezTo>
                    <a:pt x="2087" y="76"/>
                    <a:pt x="2086" y="73"/>
                    <a:pt x="2084" y="70"/>
                  </a:cubicBezTo>
                  <a:cubicBezTo>
                    <a:pt x="2086" y="73"/>
                    <a:pt x="2087" y="76"/>
                    <a:pt x="2088" y="79"/>
                  </a:cubicBezTo>
                  <a:close/>
                  <a:moveTo>
                    <a:pt x="4481" y="105"/>
                  </a:moveTo>
                  <a:cubicBezTo>
                    <a:pt x="4481" y="103"/>
                    <a:pt x="4481" y="101"/>
                    <a:pt x="4481" y="99"/>
                  </a:cubicBezTo>
                  <a:cubicBezTo>
                    <a:pt x="4481" y="101"/>
                    <a:pt x="4481" y="103"/>
                    <a:pt x="4481" y="105"/>
                  </a:cubicBezTo>
                  <a:close/>
                  <a:moveTo>
                    <a:pt x="1244" y="83"/>
                  </a:moveTo>
                  <a:cubicBezTo>
                    <a:pt x="1242" y="80"/>
                    <a:pt x="1241" y="77"/>
                    <a:pt x="1240" y="75"/>
                  </a:cubicBezTo>
                  <a:cubicBezTo>
                    <a:pt x="1241" y="78"/>
                    <a:pt x="1242" y="80"/>
                    <a:pt x="1244" y="83"/>
                  </a:cubicBezTo>
                  <a:close/>
                  <a:moveTo>
                    <a:pt x="3941" y="33"/>
                  </a:moveTo>
                  <a:cubicBezTo>
                    <a:pt x="3941" y="30"/>
                    <a:pt x="3941" y="28"/>
                    <a:pt x="3940" y="25"/>
                  </a:cubicBezTo>
                  <a:cubicBezTo>
                    <a:pt x="3940" y="25"/>
                    <a:pt x="3941" y="28"/>
                    <a:pt x="3941" y="33"/>
                  </a:cubicBezTo>
                  <a:close/>
                  <a:moveTo>
                    <a:pt x="3210" y="88"/>
                  </a:moveTo>
                  <a:cubicBezTo>
                    <a:pt x="3209" y="86"/>
                    <a:pt x="3208" y="83"/>
                    <a:pt x="3206" y="81"/>
                  </a:cubicBezTo>
                  <a:cubicBezTo>
                    <a:pt x="3207" y="83"/>
                    <a:pt x="3209" y="86"/>
                    <a:pt x="3210" y="88"/>
                  </a:cubicBezTo>
                  <a:close/>
                  <a:moveTo>
                    <a:pt x="3068" y="81"/>
                  </a:moveTo>
                  <a:cubicBezTo>
                    <a:pt x="3062" y="61"/>
                    <a:pt x="3051" y="46"/>
                    <a:pt x="3035" y="25"/>
                  </a:cubicBezTo>
                  <a:cubicBezTo>
                    <a:pt x="3051" y="48"/>
                    <a:pt x="3061" y="64"/>
                    <a:pt x="3068" y="81"/>
                  </a:cubicBezTo>
                  <a:close/>
                  <a:moveTo>
                    <a:pt x="3078" y="79"/>
                  </a:moveTo>
                  <a:cubicBezTo>
                    <a:pt x="3077" y="76"/>
                    <a:pt x="3076" y="73"/>
                    <a:pt x="3074" y="70"/>
                  </a:cubicBezTo>
                  <a:cubicBezTo>
                    <a:pt x="3075" y="73"/>
                    <a:pt x="3077" y="76"/>
                    <a:pt x="3078" y="79"/>
                  </a:cubicBezTo>
                  <a:close/>
                  <a:moveTo>
                    <a:pt x="3317" y="102"/>
                  </a:moveTo>
                  <a:cubicBezTo>
                    <a:pt x="3316" y="100"/>
                    <a:pt x="3315" y="97"/>
                    <a:pt x="3314" y="96"/>
                  </a:cubicBezTo>
                  <a:cubicBezTo>
                    <a:pt x="3315" y="98"/>
                    <a:pt x="3316" y="100"/>
                    <a:pt x="3317" y="102"/>
                  </a:cubicBezTo>
                  <a:close/>
                  <a:moveTo>
                    <a:pt x="3531" y="109"/>
                  </a:moveTo>
                  <a:cubicBezTo>
                    <a:pt x="3530" y="104"/>
                    <a:pt x="3530" y="99"/>
                    <a:pt x="3529" y="95"/>
                  </a:cubicBezTo>
                  <a:cubicBezTo>
                    <a:pt x="3529" y="99"/>
                    <a:pt x="3530" y="104"/>
                    <a:pt x="3531" y="109"/>
                  </a:cubicBezTo>
                  <a:close/>
                  <a:moveTo>
                    <a:pt x="3370" y="100"/>
                  </a:moveTo>
                  <a:cubicBezTo>
                    <a:pt x="3370" y="97"/>
                    <a:pt x="3369" y="95"/>
                    <a:pt x="3368" y="93"/>
                  </a:cubicBezTo>
                  <a:cubicBezTo>
                    <a:pt x="3369" y="96"/>
                    <a:pt x="3370" y="98"/>
                    <a:pt x="3370" y="100"/>
                  </a:cubicBezTo>
                  <a:close/>
                  <a:moveTo>
                    <a:pt x="3610" y="81"/>
                  </a:moveTo>
                  <a:cubicBezTo>
                    <a:pt x="3608" y="75"/>
                    <a:pt x="3606" y="70"/>
                    <a:pt x="3604" y="67"/>
                  </a:cubicBezTo>
                  <a:cubicBezTo>
                    <a:pt x="3604" y="67"/>
                    <a:pt x="3607" y="72"/>
                    <a:pt x="3610" y="81"/>
                  </a:cubicBezTo>
                  <a:close/>
                  <a:moveTo>
                    <a:pt x="2720" y="54"/>
                  </a:moveTo>
                  <a:cubicBezTo>
                    <a:pt x="2720" y="53"/>
                    <a:pt x="2719" y="52"/>
                    <a:pt x="2719" y="52"/>
                  </a:cubicBezTo>
                  <a:cubicBezTo>
                    <a:pt x="2720" y="53"/>
                    <a:pt x="2720" y="53"/>
                    <a:pt x="2720" y="54"/>
                  </a:cubicBezTo>
                  <a:close/>
                  <a:moveTo>
                    <a:pt x="2715" y="90"/>
                  </a:moveTo>
                  <a:cubicBezTo>
                    <a:pt x="2715" y="89"/>
                    <a:pt x="2714" y="87"/>
                    <a:pt x="2713" y="86"/>
                  </a:cubicBezTo>
                  <a:cubicBezTo>
                    <a:pt x="2714" y="87"/>
                    <a:pt x="2715" y="89"/>
                    <a:pt x="2715" y="90"/>
                  </a:cubicBezTo>
                  <a:close/>
                  <a:moveTo>
                    <a:pt x="2835" y="54"/>
                  </a:moveTo>
                  <a:cubicBezTo>
                    <a:pt x="2835" y="54"/>
                    <a:pt x="2835" y="65"/>
                    <a:pt x="2834" y="84"/>
                  </a:cubicBezTo>
                  <a:cubicBezTo>
                    <a:pt x="2836" y="72"/>
                    <a:pt x="2837" y="60"/>
                    <a:pt x="2835" y="54"/>
                  </a:cubicBezTo>
                  <a:close/>
                  <a:moveTo>
                    <a:pt x="2890" y="106"/>
                  </a:moveTo>
                  <a:cubicBezTo>
                    <a:pt x="2890" y="103"/>
                    <a:pt x="2889" y="100"/>
                    <a:pt x="2889" y="96"/>
                  </a:cubicBezTo>
                  <a:cubicBezTo>
                    <a:pt x="2889" y="99"/>
                    <a:pt x="2890" y="103"/>
                    <a:pt x="2890" y="106"/>
                  </a:cubicBezTo>
                  <a:close/>
                  <a:moveTo>
                    <a:pt x="2795" y="47"/>
                  </a:moveTo>
                  <a:cubicBezTo>
                    <a:pt x="2795" y="39"/>
                    <a:pt x="2795" y="33"/>
                    <a:pt x="2793" y="30"/>
                  </a:cubicBezTo>
                  <a:cubicBezTo>
                    <a:pt x="2793" y="30"/>
                    <a:pt x="2794" y="37"/>
                    <a:pt x="2795" y="47"/>
                  </a:cubicBezTo>
                  <a:close/>
                  <a:moveTo>
                    <a:pt x="3995" y="44"/>
                  </a:moveTo>
                  <a:cubicBezTo>
                    <a:pt x="3995" y="43"/>
                    <a:pt x="3995" y="41"/>
                    <a:pt x="3995" y="40"/>
                  </a:cubicBezTo>
                  <a:cubicBezTo>
                    <a:pt x="3995" y="40"/>
                    <a:pt x="3995" y="42"/>
                    <a:pt x="3995" y="44"/>
                  </a:cubicBezTo>
                  <a:close/>
                  <a:moveTo>
                    <a:pt x="4211" y="68"/>
                  </a:moveTo>
                  <a:cubicBezTo>
                    <a:pt x="4211" y="65"/>
                    <a:pt x="4210" y="64"/>
                    <a:pt x="4210" y="64"/>
                  </a:cubicBezTo>
                  <a:cubicBezTo>
                    <a:pt x="4210" y="64"/>
                    <a:pt x="4211" y="66"/>
                    <a:pt x="4211" y="68"/>
                  </a:cubicBezTo>
                  <a:close/>
                  <a:moveTo>
                    <a:pt x="3956" y="52"/>
                  </a:moveTo>
                  <a:cubicBezTo>
                    <a:pt x="3956" y="50"/>
                    <a:pt x="3956" y="49"/>
                    <a:pt x="3956" y="49"/>
                  </a:cubicBezTo>
                  <a:cubicBezTo>
                    <a:pt x="3956" y="50"/>
                    <a:pt x="3956" y="51"/>
                    <a:pt x="3956" y="52"/>
                  </a:cubicBezTo>
                  <a:close/>
                  <a:moveTo>
                    <a:pt x="2672" y="52"/>
                  </a:moveTo>
                  <a:cubicBezTo>
                    <a:pt x="2672" y="50"/>
                    <a:pt x="2672" y="49"/>
                    <a:pt x="2672" y="49"/>
                  </a:cubicBezTo>
                  <a:cubicBezTo>
                    <a:pt x="2672" y="50"/>
                    <a:pt x="2672" y="51"/>
                    <a:pt x="2672" y="52"/>
                  </a:cubicBezTo>
                  <a:close/>
                  <a:moveTo>
                    <a:pt x="4169" y="66"/>
                  </a:moveTo>
                  <a:cubicBezTo>
                    <a:pt x="4169" y="63"/>
                    <a:pt x="4169" y="61"/>
                    <a:pt x="4170" y="59"/>
                  </a:cubicBezTo>
                  <a:cubicBezTo>
                    <a:pt x="4170" y="59"/>
                    <a:pt x="4169" y="62"/>
                    <a:pt x="4169" y="66"/>
                  </a:cubicBezTo>
                  <a:close/>
                  <a:moveTo>
                    <a:pt x="4178" y="100"/>
                  </a:moveTo>
                  <a:cubicBezTo>
                    <a:pt x="4178" y="97"/>
                    <a:pt x="4177" y="95"/>
                    <a:pt x="4177" y="93"/>
                  </a:cubicBezTo>
                  <a:cubicBezTo>
                    <a:pt x="4177" y="96"/>
                    <a:pt x="4178" y="98"/>
                    <a:pt x="4178" y="100"/>
                  </a:cubicBezTo>
                  <a:close/>
                  <a:moveTo>
                    <a:pt x="3772" y="100"/>
                  </a:moveTo>
                  <a:cubicBezTo>
                    <a:pt x="3773" y="98"/>
                    <a:pt x="3773" y="96"/>
                    <a:pt x="3774" y="93"/>
                  </a:cubicBezTo>
                  <a:cubicBezTo>
                    <a:pt x="3773" y="95"/>
                    <a:pt x="3773" y="97"/>
                    <a:pt x="3772" y="100"/>
                  </a:cubicBezTo>
                  <a:close/>
                  <a:moveTo>
                    <a:pt x="3923" y="83"/>
                  </a:moveTo>
                  <a:cubicBezTo>
                    <a:pt x="3922" y="81"/>
                    <a:pt x="3921" y="79"/>
                    <a:pt x="3920" y="78"/>
                  </a:cubicBezTo>
                  <a:cubicBezTo>
                    <a:pt x="3921" y="79"/>
                    <a:pt x="3922" y="81"/>
                    <a:pt x="3923" y="83"/>
                  </a:cubicBezTo>
                  <a:close/>
                  <a:moveTo>
                    <a:pt x="3726" y="68"/>
                  </a:moveTo>
                  <a:cubicBezTo>
                    <a:pt x="3726" y="66"/>
                    <a:pt x="3726" y="65"/>
                    <a:pt x="3726" y="64"/>
                  </a:cubicBezTo>
                  <a:cubicBezTo>
                    <a:pt x="3726" y="64"/>
                    <a:pt x="3726" y="65"/>
                    <a:pt x="3726" y="68"/>
                  </a:cubicBezTo>
                  <a:close/>
                  <a:moveTo>
                    <a:pt x="3705" y="90"/>
                  </a:moveTo>
                  <a:cubicBezTo>
                    <a:pt x="3705" y="89"/>
                    <a:pt x="3704" y="87"/>
                    <a:pt x="3703" y="86"/>
                  </a:cubicBezTo>
                  <a:cubicBezTo>
                    <a:pt x="3704" y="87"/>
                    <a:pt x="3704" y="89"/>
                    <a:pt x="3705" y="90"/>
                  </a:cubicBezTo>
                  <a:close/>
                  <a:moveTo>
                    <a:pt x="3648" y="13"/>
                  </a:moveTo>
                  <a:cubicBezTo>
                    <a:pt x="3648" y="12"/>
                    <a:pt x="3648" y="12"/>
                    <a:pt x="3648" y="12"/>
                  </a:cubicBezTo>
                  <a:cubicBezTo>
                    <a:pt x="3648" y="12"/>
                    <a:pt x="3648" y="13"/>
                    <a:pt x="3648" y="13"/>
                  </a:cubicBezTo>
                  <a:close/>
                  <a:moveTo>
                    <a:pt x="3770" y="61"/>
                  </a:moveTo>
                  <a:cubicBezTo>
                    <a:pt x="3770" y="55"/>
                    <a:pt x="3769" y="49"/>
                    <a:pt x="3768" y="44"/>
                  </a:cubicBezTo>
                  <a:cubicBezTo>
                    <a:pt x="3768" y="44"/>
                    <a:pt x="3769" y="51"/>
                    <a:pt x="3770" y="61"/>
                  </a:cubicBezTo>
                  <a:close/>
                </a:path>
              </a:pathLst>
            </a:custGeom>
            <a:gradFill rotWithShape="0">
              <a:gsLst>
                <a:gs pos="0">
                  <a:srgbClr val="01210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35"/>
            <p:cNvSpPr/>
            <p:nvPr/>
          </p:nvSpPr>
          <p:spPr>
            <a:xfrm flipV="1">
              <a:off x="-180720" y="3010320"/>
              <a:ext cx="15131880" cy="528120"/>
            </a:xfrm>
            <a:custGeom>
              <a:avLst/>
              <a:gdLst/>
              <a:ahLst/>
              <a:rect l="l" t="t" r="r" b="b"/>
              <a:pathLst>
                <a:path w="4763" h="166">
                  <a:moveTo>
                    <a:pt x="1928" y="68"/>
                  </a:moveTo>
                  <a:cubicBezTo>
                    <a:pt x="1928" y="66"/>
                    <a:pt x="1928" y="65"/>
                    <a:pt x="1928" y="64"/>
                  </a:cubicBezTo>
                  <a:cubicBezTo>
                    <a:pt x="1928" y="65"/>
                    <a:pt x="1928" y="66"/>
                    <a:pt x="1928" y="68"/>
                  </a:cubicBezTo>
                  <a:close/>
                  <a:moveTo>
                    <a:pt x="1972" y="61"/>
                  </a:moveTo>
                  <a:cubicBezTo>
                    <a:pt x="1972" y="55"/>
                    <a:pt x="1971" y="49"/>
                    <a:pt x="1970" y="44"/>
                  </a:cubicBezTo>
                  <a:cubicBezTo>
                    <a:pt x="1970" y="44"/>
                    <a:pt x="1971" y="51"/>
                    <a:pt x="1972" y="61"/>
                  </a:cubicBezTo>
                  <a:close/>
                  <a:moveTo>
                    <a:pt x="1907" y="90"/>
                  </a:moveTo>
                  <a:cubicBezTo>
                    <a:pt x="1907" y="89"/>
                    <a:pt x="1906" y="87"/>
                    <a:pt x="1905" y="86"/>
                  </a:cubicBezTo>
                  <a:cubicBezTo>
                    <a:pt x="1906" y="87"/>
                    <a:pt x="1906" y="89"/>
                    <a:pt x="1907" y="90"/>
                  </a:cubicBezTo>
                  <a:close/>
                  <a:moveTo>
                    <a:pt x="1733" y="109"/>
                  </a:moveTo>
                  <a:cubicBezTo>
                    <a:pt x="1732" y="104"/>
                    <a:pt x="1732" y="99"/>
                    <a:pt x="1731" y="95"/>
                  </a:cubicBezTo>
                  <a:cubicBezTo>
                    <a:pt x="1731" y="99"/>
                    <a:pt x="1732" y="104"/>
                    <a:pt x="1733" y="109"/>
                  </a:cubicBezTo>
                  <a:close/>
                  <a:moveTo>
                    <a:pt x="1412" y="88"/>
                  </a:moveTo>
                  <a:cubicBezTo>
                    <a:pt x="1411" y="86"/>
                    <a:pt x="1410" y="83"/>
                    <a:pt x="1408" y="81"/>
                  </a:cubicBezTo>
                  <a:cubicBezTo>
                    <a:pt x="1409" y="83"/>
                    <a:pt x="1411" y="86"/>
                    <a:pt x="1412" y="88"/>
                  </a:cubicBezTo>
                  <a:close/>
                  <a:moveTo>
                    <a:pt x="1519" y="102"/>
                  </a:moveTo>
                  <a:cubicBezTo>
                    <a:pt x="1518" y="100"/>
                    <a:pt x="1517" y="97"/>
                    <a:pt x="1516" y="96"/>
                  </a:cubicBezTo>
                  <a:cubicBezTo>
                    <a:pt x="1517" y="98"/>
                    <a:pt x="1518" y="100"/>
                    <a:pt x="1519" y="102"/>
                  </a:cubicBezTo>
                  <a:close/>
                  <a:moveTo>
                    <a:pt x="1280" y="79"/>
                  </a:moveTo>
                  <a:cubicBezTo>
                    <a:pt x="1279" y="76"/>
                    <a:pt x="1278" y="73"/>
                    <a:pt x="1276" y="70"/>
                  </a:cubicBezTo>
                  <a:cubicBezTo>
                    <a:pt x="1278" y="73"/>
                    <a:pt x="1279" y="76"/>
                    <a:pt x="1280" y="79"/>
                  </a:cubicBezTo>
                  <a:close/>
                  <a:moveTo>
                    <a:pt x="1270" y="81"/>
                  </a:moveTo>
                  <a:cubicBezTo>
                    <a:pt x="1264" y="61"/>
                    <a:pt x="1253" y="46"/>
                    <a:pt x="1237" y="25"/>
                  </a:cubicBezTo>
                  <a:cubicBezTo>
                    <a:pt x="1253" y="48"/>
                    <a:pt x="1263" y="64"/>
                    <a:pt x="1270" y="81"/>
                  </a:cubicBezTo>
                  <a:close/>
                  <a:moveTo>
                    <a:pt x="1572" y="100"/>
                  </a:moveTo>
                  <a:cubicBezTo>
                    <a:pt x="1572" y="97"/>
                    <a:pt x="1571" y="95"/>
                    <a:pt x="1570" y="93"/>
                  </a:cubicBezTo>
                  <a:cubicBezTo>
                    <a:pt x="1571" y="96"/>
                    <a:pt x="1572" y="98"/>
                    <a:pt x="1572" y="100"/>
                  </a:cubicBezTo>
                  <a:close/>
                  <a:moveTo>
                    <a:pt x="1812" y="81"/>
                  </a:moveTo>
                  <a:cubicBezTo>
                    <a:pt x="1810" y="75"/>
                    <a:pt x="1808" y="70"/>
                    <a:pt x="1806" y="67"/>
                  </a:cubicBezTo>
                  <a:cubicBezTo>
                    <a:pt x="1806" y="67"/>
                    <a:pt x="1809" y="72"/>
                    <a:pt x="1812" y="81"/>
                  </a:cubicBezTo>
                  <a:close/>
                  <a:moveTo>
                    <a:pt x="1850" y="13"/>
                  </a:moveTo>
                  <a:cubicBezTo>
                    <a:pt x="1850" y="12"/>
                    <a:pt x="1850" y="12"/>
                    <a:pt x="1850" y="12"/>
                  </a:cubicBezTo>
                  <a:cubicBezTo>
                    <a:pt x="1850" y="12"/>
                    <a:pt x="1850" y="13"/>
                    <a:pt x="1850" y="13"/>
                  </a:cubicBezTo>
                  <a:close/>
                  <a:moveTo>
                    <a:pt x="1974" y="100"/>
                  </a:moveTo>
                  <a:cubicBezTo>
                    <a:pt x="1975" y="98"/>
                    <a:pt x="1975" y="96"/>
                    <a:pt x="1976" y="93"/>
                  </a:cubicBezTo>
                  <a:cubicBezTo>
                    <a:pt x="1975" y="95"/>
                    <a:pt x="1975" y="97"/>
                    <a:pt x="1974" y="100"/>
                  </a:cubicBezTo>
                  <a:close/>
                  <a:moveTo>
                    <a:pt x="2660" y="105"/>
                  </a:moveTo>
                  <a:cubicBezTo>
                    <a:pt x="2660" y="103"/>
                    <a:pt x="2660" y="101"/>
                    <a:pt x="2659" y="99"/>
                  </a:cubicBezTo>
                  <a:cubicBezTo>
                    <a:pt x="2659" y="101"/>
                    <a:pt x="2660" y="103"/>
                    <a:pt x="2660" y="105"/>
                  </a:cubicBezTo>
                  <a:close/>
                  <a:moveTo>
                    <a:pt x="2371" y="66"/>
                  </a:moveTo>
                  <a:cubicBezTo>
                    <a:pt x="2371" y="63"/>
                    <a:pt x="2371" y="61"/>
                    <a:pt x="2372" y="59"/>
                  </a:cubicBezTo>
                  <a:cubicBezTo>
                    <a:pt x="2372" y="59"/>
                    <a:pt x="2371" y="62"/>
                    <a:pt x="2371" y="66"/>
                  </a:cubicBezTo>
                  <a:close/>
                  <a:moveTo>
                    <a:pt x="2380" y="100"/>
                  </a:moveTo>
                  <a:cubicBezTo>
                    <a:pt x="2380" y="97"/>
                    <a:pt x="2379" y="95"/>
                    <a:pt x="2379" y="93"/>
                  </a:cubicBezTo>
                  <a:cubicBezTo>
                    <a:pt x="2379" y="96"/>
                    <a:pt x="2380" y="98"/>
                    <a:pt x="2380" y="100"/>
                  </a:cubicBezTo>
                  <a:close/>
                  <a:moveTo>
                    <a:pt x="2413" y="68"/>
                  </a:moveTo>
                  <a:cubicBezTo>
                    <a:pt x="2413" y="65"/>
                    <a:pt x="2412" y="64"/>
                    <a:pt x="2412" y="64"/>
                  </a:cubicBezTo>
                  <a:cubicBezTo>
                    <a:pt x="2412" y="64"/>
                    <a:pt x="2413" y="66"/>
                    <a:pt x="2413" y="68"/>
                  </a:cubicBezTo>
                  <a:close/>
                  <a:moveTo>
                    <a:pt x="2486" y="61"/>
                  </a:moveTo>
                  <a:cubicBezTo>
                    <a:pt x="2486" y="55"/>
                    <a:pt x="2485" y="49"/>
                    <a:pt x="2484" y="44"/>
                  </a:cubicBezTo>
                  <a:cubicBezTo>
                    <a:pt x="2484" y="44"/>
                    <a:pt x="2485" y="51"/>
                    <a:pt x="2486" y="61"/>
                  </a:cubicBezTo>
                  <a:close/>
                  <a:moveTo>
                    <a:pt x="2562" y="68"/>
                  </a:moveTo>
                  <a:cubicBezTo>
                    <a:pt x="2562" y="68"/>
                    <a:pt x="2562" y="71"/>
                    <a:pt x="2562" y="75"/>
                  </a:cubicBezTo>
                  <a:cubicBezTo>
                    <a:pt x="2562" y="72"/>
                    <a:pt x="2562" y="70"/>
                    <a:pt x="2562" y="68"/>
                  </a:cubicBezTo>
                  <a:close/>
                  <a:moveTo>
                    <a:pt x="2197" y="44"/>
                  </a:moveTo>
                  <a:cubicBezTo>
                    <a:pt x="2197" y="43"/>
                    <a:pt x="2197" y="41"/>
                    <a:pt x="2197" y="40"/>
                  </a:cubicBezTo>
                  <a:cubicBezTo>
                    <a:pt x="2197" y="40"/>
                    <a:pt x="2197" y="42"/>
                    <a:pt x="2197" y="44"/>
                  </a:cubicBezTo>
                  <a:close/>
                  <a:moveTo>
                    <a:pt x="2125" y="83"/>
                  </a:moveTo>
                  <a:cubicBezTo>
                    <a:pt x="2124" y="81"/>
                    <a:pt x="2123" y="79"/>
                    <a:pt x="2122" y="78"/>
                  </a:cubicBezTo>
                  <a:cubicBezTo>
                    <a:pt x="2123" y="79"/>
                    <a:pt x="2124" y="81"/>
                    <a:pt x="2125" y="83"/>
                  </a:cubicBezTo>
                  <a:close/>
                  <a:moveTo>
                    <a:pt x="2569" y="62"/>
                  </a:moveTo>
                  <a:cubicBezTo>
                    <a:pt x="2569" y="61"/>
                    <a:pt x="2569" y="60"/>
                    <a:pt x="2569" y="60"/>
                  </a:cubicBezTo>
                  <a:cubicBezTo>
                    <a:pt x="2569" y="60"/>
                    <a:pt x="2569" y="61"/>
                    <a:pt x="2569" y="62"/>
                  </a:cubicBezTo>
                  <a:close/>
                  <a:moveTo>
                    <a:pt x="2158" y="52"/>
                  </a:moveTo>
                  <a:cubicBezTo>
                    <a:pt x="2158" y="50"/>
                    <a:pt x="2158" y="49"/>
                    <a:pt x="2158" y="49"/>
                  </a:cubicBezTo>
                  <a:cubicBezTo>
                    <a:pt x="2158" y="50"/>
                    <a:pt x="2158" y="51"/>
                    <a:pt x="2158" y="52"/>
                  </a:cubicBezTo>
                  <a:close/>
                  <a:moveTo>
                    <a:pt x="2143" y="33"/>
                  </a:moveTo>
                  <a:cubicBezTo>
                    <a:pt x="2143" y="30"/>
                    <a:pt x="2143" y="28"/>
                    <a:pt x="2142" y="25"/>
                  </a:cubicBezTo>
                  <a:cubicBezTo>
                    <a:pt x="2142" y="25"/>
                    <a:pt x="2143" y="28"/>
                    <a:pt x="2143" y="33"/>
                  </a:cubicBezTo>
                  <a:close/>
                  <a:moveTo>
                    <a:pt x="2441" y="67"/>
                  </a:moveTo>
                  <a:cubicBezTo>
                    <a:pt x="2442" y="66"/>
                    <a:pt x="2442" y="65"/>
                    <a:pt x="2441" y="64"/>
                  </a:cubicBezTo>
                  <a:cubicBezTo>
                    <a:pt x="2441" y="64"/>
                    <a:pt x="2441" y="65"/>
                    <a:pt x="2441" y="67"/>
                  </a:cubicBezTo>
                  <a:close/>
                  <a:moveTo>
                    <a:pt x="130" y="68"/>
                  </a:moveTo>
                  <a:cubicBezTo>
                    <a:pt x="130" y="66"/>
                    <a:pt x="130" y="65"/>
                    <a:pt x="130" y="64"/>
                  </a:cubicBezTo>
                  <a:cubicBezTo>
                    <a:pt x="130" y="64"/>
                    <a:pt x="130" y="65"/>
                    <a:pt x="130" y="68"/>
                  </a:cubicBezTo>
                  <a:close/>
                  <a:moveTo>
                    <a:pt x="360" y="52"/>
                  </a:moveTo>
                  <a:cubicBezTo>
                    <a:pt x="360" y="50"/>
                    <a:pt x="360" y="49"/>
                    <a:pt x="360" y="49"/>
                  </a:cubicBezTo>
                  <a:cubicBezTo>
                    <a:pt x="360" y="50"/>
                    <a:pt x="360" y="51"/>
                    <a:pt x="360" y="52"/>
                  </a:cubicBezTo>
                  <a:close/>
                  <a:moveTo>
                    <a:pt x="345" y="33"/>
                  </a:moveTo>
                  <a:cubicBezTo>
                    <a:pt x="345" y="30"/>
                    <a:pt x="345" y="28"/>
                    <a:pt x="344" y="25"/>
                  </a:cubicBezTo>
                  <a:cubicBezTo>
                    <a:pt x="344" y="25"/>
                    <a:pt x="345" y="28"/>
                    <a:pt x="345" y="33"/>
                  </a:cubicBezTo>
                  <a:close/>
                  <a:moveTo>
                    <a:pt x="327" y="83"/>
                  </a:moveTo>
                  <a:cubicBezTo>
                    <a:pt x="326" y="81"/>
                    <a:pt x="325" y="79"/>
                    <a:pt x="324" y="78"/>
                  </a:cubicBezTo>
                  <a:cubicBezTo>
                    <a:pt x="325" y="79"/>
                    <a:pt x="326" y="81"/>
                    <a:pt x="327" y="83"/>
                  </a:cubicBezTo>
                  <a:close/>
                  <a:moveTo>
                    <a:pt x="399" y="44"/>
                  </a:moveTo>
                  <a:cubicBezTo>
                    <a:pt x="399" y="43"/>
                    <a:pt x="399" y="41"/>
                    <a:pt x="399" y="40"/>
                  </a:cubicBezTo>
                  <a:cubicBezTo>
                    <a:pt x="399" y="40"/>
                    <a:pt x="399" y="42"/>
                    <a:pt x="399" y="44"/>
                  </a:cubicBezTo>
                  <a:close/>
                  <a:moveTo>
                    <a:pt x="176" y="100"/>
                  </a:moveTo>
                  <a:cubicBezTo>
                    <a:pt x="177" y="98"/>
                    <a:pt x="177" y="96"/>
                    <a:pt x="178" y="93"/>
                  </a:cubicBezTo>
                  <a:cubicBezTo>
                    <a:pt x="177" y="95"/>
                    <a:pt x="177" y="97"/>
                    <a:pt x="176" y="100"/>
                  </a:cubicBezTo>
                  <a:close/>
                  <a:moveTo>
                    <a:pt x="573" y="66"/>
                  </a:moveTo>
                  <a:cubicBezTo>
                    <a:pt x="573" y="63"/>
                    <a:pt x="574" y="61"/>
                    <a:pt x="574" y="59"/>
                  </a:cubicBezTo>
                  <a:cubicBezTo>
                    <a:pt x="574" y="59"/>
                    <a:pt x="573" y="62"/>
                    <a:pt x="573" y="66"/>
                  </a:cubicBezTo>
                  <a:close/>
                  <a:moveTo>
                    <a:pt x="14" y="81"/>
                  </a:moveTo>
                  <a:cubicBezTo>
                    <a:pt x="12" y="75"/>
                    <a:pt x="10" y="70"/>
                    <a:pt x="9" y="67"/>
                  </a:cubicBezTo>
                  <a:cubicBezTo>
                    <a:pt x="9" y="67"/>
                    <a:pt x="11" y="72"/>
                    <a:pt x="14" y="81"/>
                  </a:cubicBezTo>
                  <a:close/>
                  <a:moveTo>
                    <a:pt x="52" y="13"/>
                  </a:moveTo>
                  <a:cubicBezTo>
                    <a:pt x="52" y="12"/>
                    <a:pt x="52" y="12"/>
                    <a:pt x="52" y="12"/>
                  </a:cubicBezTo>
                  <a:cubicBezTo>
                    <a:pt x="52" y="12"/>
                    <a:pt x="52" y="13"/>
                    <a:pt x="52" y="13"/>
                  </a:cubicBezTo>
                  <a:close/>
                  <a:moveTo>
                    <a:pt x="583" y="100"/>
                  </a:moveTo>
                  <a:cubicBezTo>
                    <a:pt x="582" y="97"/>
                    <a:pt x="582" y="95"/>
                    <a:pt x="581" y="93"/>
                  </a:cubicBezTo>
                  <a:cubicBezTo>
                    <a:pt x="581" y="96"/>
                    <a:pt x="582" y="98"/>
                    <a:pt x="583" y="100"/>
                  </a:cubicBezTo>
                  <a:close/>
                  <a:moveTo>
                    <a:pt x="2668" y="65"/>
                  </a:moveTo>
                  <a:cubicBezTo>
                    <a:pt x="2668" y="64"/>
                    <a:pt x="2668" y="63"/>
                    <a:pt x="2668" y="63"/>
                  </a:cubicBezTo>
                  <a:cubicBezTo>
                    <a:pt x="2668" y="63"/>
                    <a:pt x="2668" y="64"/>
                    <a:pt x="2668" y="65"/>
                  </a:cubicBezTo>
                  <a:close/>
                  <a:moveTo>
                    <a:pt x="109" y="90"/>
                  </a:moveTo>
                  <a:cubicBezTo>
                    <a:pt x="109" y="89"/>
                    <a:pt x="108" y="87"/>
                    <a:pt x="107" y="86"/>
                  </a:cubicBezTo>
                  <a:cubicBezTo>
                    <a:pt x="108" y="87"/>
                    <a:pt x="109" y="89"/>
                    <a:pt x="109" y="90"/>
                  </a:cubicBezTo>
                  <a:close/>
                  <a:moveTo>
                    <a:pt x="174" y="61"/>
                  </a:moveTo>
                  <a:cubicBezTo>
                    <a:pt x="174" y="55"/>
                    <a:pt x="174" y="49"/>
                    <a:pt x="172" y="44"/>
                  </a:cubicBezTo>
                  <a:cubicBezTo>
                    <a:pt x="172" y="44"/>
                    <a:pt x="173" y="51"/>
                    <a:pt x="174" y="61"/>
                  </a:cubicBezTo>
                  <a:close/>
                  <a:moveTo>
                    <a:pt x="615" y="68"/>
                  </a:moveTo>
                  <a:cubicBezTo>
                    <a:pt x="615" y="65"/>
                    <a:pt x="614" y="64"/>
                    <a:pt x="614" y="64"/>
                  </a:cubicBezTo>
                  <a:cubicBezTo>
                    <a:pt x="614" y="64"/>
                    <a:pt x="615" y="66"/>
                    <a:pt x="615" y="68"/>
                  </a:cubicBezTo>
                  <a:close/>
                  <a:moveTo>
                    <a:pt x="922" y="54"/>
                  </a:moveTo>
                  <a:cubicBezTo>
                    <a:pt x="922" y="53"/>
                    <a:pt x="922" y="52"/>
                    <a:pt x="922" y="52"/>
                  </a:cubicBezTo>
                  <a:cubicBezTo>
                    <a:pt x="922" y="53"/>
                    <a:pt x="922" y="53"/>
                    <a:pt x="922" y="54"/>
                  </a:cubicBezTo>
                  <a:close/>
                  <a:moveTo>
                    <a:pt x="870" y="65"/>
                  </a:moveTo>
                  <a:cubicBezTo>
                    <a:pt x="870" y="64"/>
                    <a:pt x="870" y="63"/>
                    <a:pt x="870" y="63"/>
                  </a:cubicBezTo>
                  <a:cubicBezTo>
                    <a:pt x="870" y="63"/>
                    <a:pt x="870" y="64"/>
                    <a:pt x="870" y="65"/>
                  </a:cubicBezTo>
                  <a:close/>
                  <a:moveTo>
                    <a:pt x="874" y="52"/>
                  </a:moveTo>
                  <a:cubicBezTo>
                    <a:pt x="874" y="50"/>
                    <a:pt x="874" y="49"/>
                    <a:pt x="874" y="49"/>
                  </a:cubicBezTo>
                  <a:cubicBezTo>
                    <a:pt x="874" y="50"/>
                    <a:pt x="874" y="51"/>
                    <a:pt x="874" y="52"/>
                  </a:cubicBezTo>
                  <a:close/>
                  <a:moveTo>
                    <a:pt x="918" y="90"/>
                  </a:moveTo>
                  <a:cubicBezTo>
                    <a:pt x="917" y="89"/>
                    <a:pt x="916" y="87"/>
                    <a:pt x="915" y="86"/>
                  </a:cubicBezTo>
                  <a:cubicBezTo>
                    <a:pt x="916" y="87"/>
                    <a:pt x="917" y="89"/>
                    <a:pt x="918" y="90"/>
                  </a:cubicBezTo>
                  <a:close/>
                  <a:moveTo>
                    <a:pt x="1037" y="54"/>
                  </a:moveTo>
                  <a:cubicBezTo>
                    <a:pt x="1037" y="54"/>
                    <a:pt x="1037" y="65"/>
                    <a:pt x="1036" y="84"/>
                  </a:cubicBezTo>
                  <a:cubicBezTo>
                    <a:pt x="1038" y="72"/>
                    <a:pt x="1039" y="60"/>
                    <a:pt x="1037" y="54"/>
                  </a:cubicBezTo>
                  <a:close/>
                  <a:moveTo>
                    <a:pt x="998" y="47"/>
                  </a:moveTo>
                  <a:cubicBezTo>
                    <a:pt x="997" y="39"/>
                    <a:pt x="997" y="33"/>
                    <a:pt x="996" y="30"/>
                  </a:cubicBezTo>
                  <a:cubicBezTo>
                    <a:pt x="996" y="30"/>
                    <a:pt x="996" y="37"/>
                    <a:pt x="998" y="47"/>
                  </a:cubicBezTo>
                  <a:close/>
                  <a:moveTo>
                    <a:pt x="688" y="61"/>
                  </a:moveTo>
                  <a:cubicBezTo>
                    <a:pt x="688" y="55"/>
                    <a:pt x="687" y="49"/>
                    <a:pt x="686" y="44"/>
                  </a:cubicBezTo>
                  <a:cubicBezTo>
                    <a:pt x="686" y="44"/>
                    <a:pt x="687" y="51"/>
                    <a:pt x="688" y="61"/>
                  </a:cubicBezTo>
                  <a:close/>
                  <a:moveTo>
                    <a:pt x="862" y="105"/>
                  </a:moveTo>
                  <a:cubicBezTo>
                    <a:pt x="862" y="103"/>
                    <a:pt x="862" y="101"/>
                    <a:pt x="861" y="99"/>
                  </a:cubicBezTo>
                  <a:cubicBezTo>
                    <a:pt x="861" y="101"/>
                    <a:pt x="862" y="103"/>
                    <a:pt x="862" y="105"/>
                  </a:cubicBezTo>
                  <a:close/>
                  <a:moveTo>
                    <a:pt x="644" y="67"/>
                  </a:moveTo>
                  <a:cubicBezTo>
                    <a:pt x="644" y="66"/>
                    <a:pt x="644" y="65"/>
                    <a:pt x="644" y="64"/>
                  </a:cubicBezTo>
                  <a:cubicBezTo>
                    <a:pt x="644" y="64"/>
                    <a:pt x="644" y="65"/>
                    <a:pt x="644" y="67"/>
                  </a:cubicBezTo>
                  <a:close/>
                  <a:moveTo>
                    <a:pt x="1092" y="106"/>
                  </a:moveTo>
                  <a:cubicBezTo>
                    <a:pt x="1092" y="103"/>
                    <a:pt x="1092" y="100"/>
                    <a:pt x="1091" y="96"/>
                  </a:cubicBezTo>
                  <a:cubicBezTo>
                    <a:pt x="1091" y="99"/>
                    <a:pt x="1092" y="103"/>
                    <a:pt x="1092" y="106"/>
                  </a:cubicBezTo>
                  <a:close/>
                  <a:moveTo>
                    <a:pt x="764" y="68"/>
                  </a:moveTo>
                  <a:cubicBezTo>
                    <a:pt x="764" y="68"/>
                    <a:pt x="764" y="71"/>
                    <a:pt x="764" y="75"/>
                  </a:cubicBezTo>
                  <a:cubicBezTo>
                    <a:pt x="764" y="72"/>
                    <a:pt x="764" y="70"/>
                    <a:pt x="764" y="68"/>
                  </a:cubicBezTo>
                  <a:close/>
                  <a:moveTo>
                    <a:pt x="771" y="62"/>
                  </a:moveTo>
                  <a:cubicBezTo>
                    <a:pt x="771" y="61"/>
                    <a:pt x="771" y="60"/>
                    <a:pt x="771" y="60"/>
                  </a:cubicBezTo>
                  <a:cubicBezTo>
                    <a:pt x="771" y="60"/>
                    <a:pt x="771" y="61"/>
                    <a:pt x="771" y="62"/>
                  </a:cubicBezTo>
                  <a:close/>
                  <a:moveTo>
                    <a:pt x="4239" y="67"/>
                  </a:moveTo>
                  <a:cubicBezTo>
                    <a:pt x="4239" y="66"/>
                    <a:pt x="4240" y="65"/>
                    <a:pt x="4239" y="64"/>
                  </a:cubicBezTo>
                  <a:cubicBezTo>
                    <a:pt x="4239" y="64"/>
                    <a:pt x="4239" y="65"/>
                    <a:pt x="4239" y="67"/>
                  </a:cubicBezTo>
                  <a:close/>
                  <a:moveTo>
                    <a:pt x="4593" y="47"/>
                  </a:moveTo>
                  <a:cubicBezTo>
                    <a:pt x="4593" y="39"/>
                    <a:pt x="4593" y="33"/>
                    <a:pt x="4591" y="30"/>
                  </a:cubicBezTo>
                  <a:cubicBezTo>
                    <a:pt x="4591" y="30"/>
                    <a:pt x="4592" y="37"/>
                    <a:pt x="4593" y="47"/>
                  </a:cubicBezTo>
                  <a:close/>
                  <a:moveTo>
                    <a:pt x="4518" y="54"/>
                  </a:moveTo>
                  <a:cubicBezTo>
                    <a:pt x="4518" y="53"/>
                    <a:pt x="4517" y="52"/>
                    <a:pt x="4517" y="52"/>
                  </a:cubicBezTo>
                  <a:cubicBezTo>
                    <a:pt x="4518" y="53"/>
                    <a:pt x="4518" y="53"/>
                    <a:pt x="4518" y="54"/>
                  </a:cubicBezTo>
                  <a:close/>
                  <a:moveTo>
                    <a:pt x="4633" y="54"/>
                  </a:moveTo>
                  <a:cubicBezTo>
                    <a:pt x="4633" y="54"/>
                    <a:pt x="4633" y="65"/>
                    <a:pt x="4632" y="84"/>
                  </a:cubicBezTo>
                  <a:cubicBezTo>
                    <a:pt x="4634" y="72"/>
                    <a:pt x="4635" y="60"/>
                    <a:pt x="4633" y="54"/>
                  </a:cubicBezTo>
                  <a:close/>
                  <a:moveTo>
                    <a:pt x="4513" y="90"/>
                  </a:moveTo>
                  <a:cubicBezTo>
                    <a:pt x="4513" y="89"/>
                    <a:pt x="4512" y="87"/>
                    <a:pt x="4511" y="86"/>
                  </a:cubicBezTo>
                  <a:cubicBezTo>
                    <a:pt x="4512" y="87"/>
                    <a:pt x="4513" y="89"/>
                    <a:pt x="4513" y="90"/>
                  </a:cubicBezTo>
                  <a:close/>
                  <a:moveTo>
                    <a:pt x="4688" y="106"/>
                  </a:moveTo>
                  <a:cubicBezTo>
                    <a:pt x="4688" y="103"/>
                    <a:pt x="4687" y="100"/>
                    <a:pt x="4687" y="96"/>
                  </a:cubicBezTo>
                  <a:cubicBezTo>
                    <a:pt x="4687" y="99"/>
                    <a:pt x="4688" y="103"/>
                    <a:pt x="4688" y="106"/>
                  </a:cubicBezTo>
                  <a:close/>
                  <a:moveTo>
                    <a:pt x="886" y="106"/>
                  </a:moveTo>
                  <a:cubicBezTo>
                    <a:pt x="886" y="103"/>
                    <a:pt x="885" y="101"/>
                    <a:pt x="885" y="99"/>
                  </a:cubicBezTo>
                  <a:cubicBezTo>
                    <a:pt x="885" y="101"/>
                    <a:pt x="885" y="103"/>
                    <a:pt x="886" y="106"/>
                  </a:cubicBezTo>
                  <a:close/>
                  <a:moveTo>
                    <a:pt x="4284" y="61"/>
                  </a:moveTo>
                  <a:cubicBezTo>
                    <a:pt x="4284" y="55"/>
                    <a:pt x="4283" y="49"/>
                    <a:pt x="4282" y="44"/>
                  </a:cubicBezTo>
                  <a:cubicBezTo>
                    <a:pt x="4282" y="44"/>
                    <a:pt x="4283" y="51"/>
                    <a:pt x="4284" y="61"/>
                  </a:cubicBezTo>
                  <a:close/>
                  <a:moveTo>
                    <a:pt x="4367" y="62"/>
                  </a:moveTo>
                  <a:cubicBezTo>
                    <a:pt x="4367" y="61"/>
                    <a:pt x="4367" y="60"/>
                    <a:pt x="4367" y="60"/>
                  </a:cubicBezTo>
                  <a:cubicBezTo>
                    <a:pt x="4367" y="60"/>
                    <a:pt x="4367" y="61"/>
                    <a:pt x="4367" y="62"/>
                  </a:cubicBezTo>
                  <a:close/>
                  <a:moveTo>
                    <a:pt x="4470" y="52"/>
                  </a:moveTo>
                  <a:cubicBezTo>
                    <a:pt x="4470" y="50"/>
                    <a:pt x="4470" y="49"/>
                    <a:pt x="4470" y="49"/>
                  </a:cubicBezTo>
                  <a:cubicBezTo>
                    <a:pt x="4470" y="50"/>
                    <a:pt x="4470" y="51"/>
                    <a:pt x="4470" y="52"/>
                  </a:cubicBezTo>
                  <a:close/>
                  <a:moveTo>
                    <a:pt x="4360" y="68"/>
                  </a:moveTo>
                  <a:cubicBezTo>
                    <a:pt x="4360" y="68"/>
                    <a:pt x="4360" y="71"/>
                    <a:pt x="4360" y="75"/>
                  </a:cubicBezTo>
                  <a:cubicBezTo>
                    <a:pt x="4360" y="72"/>
                    <a:pt x="4360" y="70"/>
                    <a:pt x="4360" y="68"/>
                  </a:cubicBezTo>
                  <a:close/>
                  <a:moveTo>
                    <a:pt x="4748" y="85"/>
                  </a:moveTo>
                  <a:cubicBezTo>
                    <a:pt x="4748" y="84"/>
                    <a:pt x="4748" y="84"/>
                    <a:pt x="4747" y="83"/>
                  </a:cubicBezTo>
                  <a:cubicBezTo>
                    <a:pt x="4748" y="84"/>
                    <a:pt x="4748" y="84"/>
                    <a:pt x="4748" y="85"/>
                  </a:cubicBezTo>
                  <a:close/>
                  <a:moveTo>
                    <a:pt x="4748" y="85"/>
                  </a:moveTo>
                  <a:cubicBezTo>
                    <a:pt x="4750" y="92"/>
                    <a:pt x="4750" y="108"/>
                    <a:pt x="4750" y="115"/>
                  </a:cubicBezTo>
                  <a:cubicBezTo>
                    <a:pt x="4750" y="127"/>
                    <a:pt x="4750" y="138"/>
                    <a:pt x="4752" y="150"/>
                  </a:cubicBezTo>
                  <a:cubicBezTo>
                    <a:pt x="4743" y="126"/>
                    <a:pt x="4740" y="99"/>
                    <a:pt x="4733" y="74"/>
                  </a:cubicBezTo>
                  <a:cubicBezTo>
                    <a:pt x="4736" y="91"/>
                    <a:pt x="4732" y="110"/>
                    <a:pt x="4732" y="128"/>
                  </a:cubicBezTo>
                  <a:cubicBezTo>
                    <a:pt x="4732" y="132"/>
                    <a:pt x="4733" y="136"/>
                    <a:pt x="4733" y="140"/>
                  </a:cubicBezTo>
                  <a:cubicBezTo>
                    <a:pt x="4733" y="145"/>
                    <a:pt x="4734" y="149"/>
                    <a:pt x="4735" y="154"/>
                  </a:cubicBezTo>
                  <a:cubicBezTo>
                    <a:pt x="4734" y="149"/>
                    <a:pt x="4733" y="145"/>
                    <a:pt x="4733" y="140"/>
                  </a:cubicBezTo>
                  <a:cubicBezTo>
                    <a:pt x="4730" y="120"/>
                    <a:pt x="4727" y="99"/>
                    <a:pt x="4722" y="80"/>
                  </a:cubicBezTo>
                  <a:cubicBezTo>
                    <a:pt x="4724" y="102"/>
                    <a:pt x="4714" y="126"/>
                    <a:pt x="4714" y="149"/>
                  </a:cubicBezTo>
                  <a:cubicBezTo>
                    <a:pt x="4714" y="156"/>
                    <a:pt x="4714" y="156"/>
                    <a:pt x="4714" y="156"/>
                  </a:cubicBezTo>
                  <a:cubicBezTo>
                    <a:pt x="4710" y="147"/>
                    <a:pt x="4710" y="132"/>
                    <a:pt x="4710" y="122"/>
                  </a:cubicBezTo>
                  <a:cubicBezTo>
                    <a:pt x="4710" y="100"/>
                    <a:pt x="4712" y="79"/>
                    <a:pt x="4711" y="57"/>
                  </a:cubicBezTo>
                  <a:cubicBezTo>
                    <a:pt x="4708" y="62"/>
                    <a:pt x="4707" y="112"/>
                    <a:pt x="4707" y="120"/>
                  </a:cubicBezTo>
                  <a:cubicBezTo>
                    <a:pt x="4707" y="133"/>
                    <a:pt x="4708" y="146"/>
                    <a:pt x="4711" y="159"/>
                  </a:cubicBezTo>
                  <a:cubicBezTo>
                    <a:pt x="4706" y="135"/>
                    <a:pt x="4700" y="108"/>
                    <a:pt x="4688" y="85"/>
                  </a:cubicBezTo>
                  <a:cubicBezTo>
                    <a:pt x="4699" y="106"/>
                    <a:pt x="4694" y="132"/>
                    <a:pt x="4701" y="154"/>
                  </a:cubicBezTo>
                  <a:cubicBezTo>
                    <a:pt x="4693" y="142"/>
                    <a:pt x="4691" y="122"/>
                    <a:pt x="4688" y="106"/>
                  </a:cubicBezTo>
                  <a:cubicBezTo>
                    <a:pt x="4690" y="120"/>
                    <a:pt x="4688" y="134"/>
                    <a:pt x="4690" y="148"/>
                  </a:cubicBezTo>
                  <a:cubicBezTo>
                    <a:pt x="4691" y="151"/>
                    <a:pt x="4692" y="153"/>
                    <a:pt x="4692" y="155"/>
                  </a:cubicBezTo>
                  <a:cubicBezTo>
                    <a:pt x="4691" y="153"/>
                    <a:pt x="4691" y="151"/>
                    <a:pt x="4690" y="148"/>
                  </a:cubicBezTo>
                  <a:cubicBezTo>
                    <a:pt x="4685" y="128"/>
                    <a:pt x="4673" y="75"/>
                    <a:pt x="4661" y="68"/>
                  </a:cubicBezTo>
                  <a:cubicBezTo>
                    <a:pt x="4678" y="90"/>
                    <a:pt x="4676" y="127"/>
                    <a:pt x="4680" y="153"/>
                  </a:cubicBezTo>
                  <a:cubicBezTo>
                    <a:pt x="4676" y="134"/>
                    <a:pt x="4669" y="113"/>
                    <a:pt x="4660" y="95"/>
                  </a:cubicBezTo>
                  <a:cubicBezTo>
                    <a:pt x="4667" y="115"/>
                    <a:pt x="4666" y="136"/>
                    <a:pt x="4675" y="155"/>
                  </a:cubicBezTo>
                  <a:cubicBezTo>
                    <a:pt x="4662" y="144"/>
                    <a:pt x="4655" y="117"/>
                    <a:pt x="4651" y="102"/>
                  </a:cubicBezTo>
                  <a:cubicBezTo>
                    <a:pt x="4651" y="120"/>
                    <a:pt x="4656" y="143"/>
                    <a:pt x="4667" y="158"/>
                  </a:cubicBezTo>
                  <a:cubicBezTo>
                    <a:pt x="4653" y="144"/>
                    <a:pt x="4648" y="103"/>
                    <a:pt x="4643" y="85"/>
                  </a:cubicBezTo>
                  <a:cubicBezTo>
                    <a:pt x="4642" y="88"/>
                    <a:pt x="4642" y="91"/>
                    <a:pt x="4642" y="94"/>
                  </a:cubicBezTo>
                  <a:cubicBezTo>
                    <a:pt x="4642" y="113"/>
                    <a:pt x="4647" y="142"/>
                    <a:pt x="4659" y="159"/>
                  </a:cubicBezTo>
                  <a:cubicBezTo>
                    <a:pt x="4645" y="143"/>
                    <a:pt x="4640" y="123"/>
                    <a:pt x="4634" y="104"/>
                  </a:cubicBezTo>
                  <a:cubicBezTo>
                    <a:pt x="4638" y="122"/>
                    <a:pt x="4638" y="140"/>
                    <a:pt x="4647" y="158"/>
                  </a:cubicBezTo>
                  <a:cubicBezTo>
                    <a:pt x="4637" y="147"/>
                    <a:pt x="4632" y="132"/>
                    <a:pt x="4628" y="117"/>
                  </a:cubicBezTo>
                  <a:cubicBezTo>
                    <a:pt x="4630" y="105"/>
                    <a:pt x="4631" y="93"/>
                    <a:pt x="4632" y="84"/>
                  </a:cubicBezTo>
                  <a:cubicBezTo>
                    <a:pt x="4630" y="92"/>
                    <a:pt x="4628" y="101"/>
                    <a:pt x="4626" y="109"/>
                  </a:cubicBezTo>
                  <a:cubicBezTo>
                    <a:pt x="4625" y="102"/>
                    <a:pt x="4623" y="95"/>
                    <a:pt x="4621" y="89"/>
                  </a:cubicBezTo>
                  <a:cubicBezTo>
                    <a:pt x="4624" y="64"/>
                    <a:pt x="4628" y="40"/>
                    <a:pt x="4628" y="40"/>
                  </a:cubicBezTo>
                  <a:cubicBezTo>
                    <a:pt x="4623" y="51"/>
                    <a:pt x="4618" y="77"/>
                    <a:pt x="4615" y="100"/>
                  </a:cubicBezTo>
                  <a:cubicBezTo>
                    <a:pt x="4613" y="95"/>
                    <a:pt x="4610" y="90"/>
                    <a:pt x="4609" y="86"/>
                  </a:cubicBezTo>
                  <a:cubicBezTo>
                    <a:pt x="4608" y="70"/>
                    <a:pt x="4606" y="58"/>
                    <a:pt x="4606" y="60"/>
                  </a:cubicBezTo>
                  <a:cubicBezTo>
                    <a:pt x="4606" y="61"/>
                    <a:pt x="4606" y="69"/>
                    <a:pt x="4605" y="80"/>
                  </a:cubicBezTo>
                  <a:cubicBezTo>
                    <a:pt x="4604" y="79"/>
                    <a:pt x="4604" y="78"/>
                    <a:pt x="4603" y="78"/>
                  </a:cubicBezTo>
                  <a:cubicBezTo>
                    <a:pt x="4604" y="79"/>
                    <a:pt x="4604" y="80"/>
                    <a:pt x="4605" y="81"/>
                  </a:cubicBezTo>
                  <a:cubicBezTo>
                    <a:pt x="4604" y="87"/>
                    <a:pt x="4604" y="95"/>
                    <a:pt x="4603" y="102"/>
                  </a:cubicBezTo>
                  <a:cubicBezTo>
                    <a:pt x="4603" y="102"/>
                    <a:pt x="4603" y="102"/>
                    <a:pt x="4603" y="102"/>
                  </a:cubicBezTo>
                  <a:cubicBezTo>
                    <a:pt x="4603" y="103"/>
                    <a:pt x="4603" y="103"/>
                    <a:pt x="4603" y="103"/>
                  </a:cubicBezTo>
                  <a:cubicBezTo>
                    <a:pt x="4602" y="113"/>
                    <a:pt x="4602" y="123"/>
                    <a:pt x="4601" y="130"/>
                  </a:cubicBezTo>
                  <a:cubicBezTo>
                    <a:pt x="4601" y="130"/>
                    <a:pt x="4600" y="129"/>
                    <a:pt x="4600" y="128"/>
                  </a:cubicBezTo>
                  <a:cubicBezTo>
                    <a:pt x="4600" y="107"/>
                    <a:pt x="4596" y="69"/>
                    <a:pt x="4593" y="47"/>
                  </a:cubicBezTo>
                  <a:cubicBezTo>
                    <a:pt x="4594" y="64"/>
                    <a:pt x="4593" y="87"/>
                    <a:pt x="4592" y="107"/>
                  </a:cubicBezTo>
                  <a:cubicBezTo>
                    <a:pt x="4591" y="105"/>
                    <a:pt x="4590" y="104"/>
                    <a:pt x="4589" y="102"/>
                  </a:cubicBezTo>
                  <a:cubicBezTo>
                    <a:pt x="4590" y="104"/>
                    <a:pt x="4591" y="106"/>
                    <a:pt x="4591" y="107"/>
                  </a:cubicBezTo>
                  <a:cubicBezTo>
                    <a:pt x="4591" y="114"/>
                    <a:pt x="4591" y="121"/>
                    <a:pt x="4590" y="126"/>
                  </a:cubicBezTo>
                  <a:cubicBezTo>
                    <a:pt x="4590" y="125"/>
                    <a:pt x="4589" y="123"/>
                    <a:pt x="4589" y="122"/>
                  </a:cubicBezTo>
                  <a:cubicBezTo>
                    <a:pt x="4588" y="93"/>
                    <a:pt x="4584" y="46"/>
                    <a:pt x="4584" y="46"/>
                  </a:cubicBezTo>
                  <a:cubicBezTo>
                    <a:pt x="4583" y="65"/>
                    <a:pt x="4577" y="142"/>
                    <a:pt x="4577" y="142"/>
                  </a:cubicBezTo>
                  <a:cubicBezTo>
                    <a:pt x="4571" y="106"/>
                    <a:pt x="4578" y="0"/>
                    <a:pt x="4578" y="0"/>
                  </a:cubicBezTo>
                  <a:cubicBezTo>
                    <a:pt x="4572" y="16"/>
                    <a:pt x="4566" y="131"/>
                    <a:pt x="4566" y="131"/>
                  </a:cubicBezTo>
                  <a:cubicBezTo>
                    <a:pt x="4564" y="36"/>
                    <a:pt x="4560" y="32"/>
                    <a:pt x="4560" y="32"/>
                  </a:cubicBezTo>
                  <a:cubicBezTo>
                    <a:pt x="4562" y="43"/>
                    <a:pt x="4559" y="76"/>
                    <a:pt x="4556" y="103"/>
                  </a:cubicBezTo>
                  <a:cubicBezTo>
                    <a:pt x="4555" y="102"/>
                    <a:pt x="4554" y="100"/>
                    <a:pt x="4553" y="99"/>
                  </a:cubicBezTo>
                  <a:cubicBezTo>
                    <a:pt x="4554" y="101"/>
                    <a:pt x="4555" y="103"/>
                    <a:pt x="4556" y="104"/>
                  </a:cubicBezTo>
                  <a:cubicBezTo>
                    <a:pt x="4555" y="112"/>
                    <a:pt x="4554" y="120"/>
                    <a:pt x="4553" y="126"/>
                  </a:cubicBezTo>
                  <a:cubicBezTo>
                    <a:pt x="4553" y="124"/>
                    <a:pt x="4553" y="123"/>
                    <a:pt x="4553" y="122"/>
                  </a:cubicBezTo>
                  <a:cubicBezTo>
                    <a:pt x="4553" y="94"/>
                    <a:pt x="4552" y="48"/>
                    <a:pt x="4552" y="48"/>
                  </a:cubicBezTo>
                  <a:cubicBezTo>
                    <a:pt x="4551" y="55"/>
                    <a:pt x="4548" y="82"/>
                    <a:pt x="4545" y="106"/>
                  </a:cubicBezTo>
                  <a:cubicBezTo>
                    <a:pt x="4544" y="104"/>
                    <a:pt x="4543" y="102"/>
                    <a:pt x="4543" y="100"/>
                  </a:cubicBezTo>
                  <a:cubicBezTo>
                    <a:pt x="4546" y="60"/>
                    <a:pt x="4550" y="9"/>
                    <a:pt x="4550" y="9"/>
                  </a:cubicBezTo>
                  <a:cubicBezTo>
                    <a:pt x="4545" y="23"/>
                    <a:pt x="4538" y="83"/>
                    <a:pt x="4535" y="117"/>
                  </a:cubicBezTo>
                  <a:cubicBezTo>
                    <a:pt x="4534" y="114"/>
                    <a:pt x="4533" y="111"/>
                    <a:pt x="4532" y="108"/>
                  </a:cubicBezTo>
                  <a:cubicBezTo>
                    <a:pt x="4532" y="90"/>
                    <a:pt x="4530" y="72"/>
                    <a:pt x="4530" y="72"/>
                  </a:cubicBezTo>
                  <a:cubicBezTo>
                    <a:pt x="4530" y="76"/>
                    <a:pt x="4530" y="84"/>
                    <a:pt x="4529" y="94"/>
                  </a:cubicBezTo>
                  <a:cubicBezTo>
                    <a:pt x="4528" y="91"/>
                    <a:pt x="4526" y="88"/>
                    <a:pt x="4525" y="84"/>
                  </a:cubicBezTo>
                  <a:cubicBezTo>
                    <a:pt x="4526" y="88"/>
                    <a:pt x="4528" y="92"/>
                    <a:pt x="4528" y="96"/>
                  </a:cubicBezTo>
                  <a:cubicBezTo>
                    <a:pt x="4528" y="99"/>
                    <a:pt x="4528" y="103"/>
                    <a:pt x="4527" y="107"/>
                  </a:cubicBezTo>
                  <a:cubicBezTo>
                    <a:pt x="4527" y="106"/>
                    <a:pt x="4527" y="106"/>
                    <a:pt x="4527" y="105"/>
                  </a:cubicBezTo>
                  <a:cubicBezTo>
                    <a:pt x="4526" y="107"/>
                    <a:pt x="4526" y="112"/>
                    <a:pt x="4526" y="116"/>
                  </a:cubicBezTo>
                  <a:cubicBezTo>
                    <a:pt x="4525" y="121"/>
                    <a:pt x="4525" y="126"/>
                    <a:pt x="4524" y="130"/>
                  </a:cubicBezTo>
                  <a:cubicBezTo>
                    <a:pt x="4524" y="129"/>
                    <a:pt x="4524" y="128"/>
                    <a:pt x="4524" y="127"/>
                  </a:cubicBezTo>
                  <a:cubicBezTo>
                    <a:pt x="4524" y="101"/>
                    <a:pt x="4519" y="63"/>
                    <a:pt x="4518" y="54"/>
                  </a:cubicBezTo>
                  <a:cubicBezTo>
                    <a:pt x="4518" y="61"/>
                    <a:pt x="4517" y="79"/>
                    <a:pt x="4516" y="96"/>
                  </a:cubicBezTo>
                  <a:cubicBezTo>
                    <a:pt x="4515" y="94"/>
                    <a:pt x="4514" y="92"/>
                    <a:pt x="4513" y="90"/>
                  </a:cubicBezTo>
                  <a:cubicBezTo>
                    <a:pt x="4514" y="93"/>
                    <a:pt x="4515" y="95"/>
                    <a:pt x="4516" y="97"/>
                  </a:cubicBezTo>
                  <a:cubicBezTo>
                    <a:pt x="4514" y="118"/>
                    <a:pt x="4511" y="137"/>
                    <a:pt x="4511" y="137"/>
                  </a:cubicBezTo>
                  <a:cubicBezTo>
                    <a:pt x="4511" y="136"/>
                    <a:pt x="4511" y="134"/>
                    <a:pt x="4511" y="133"/>
                  </a:cubicBezTo>
                  <a:cubicBezTo>
                    <a:pt x="4511" y="125"/>
                    <a:pt x="4511" y="118"/>
                    <a:pt x="4510" y="110"/>
                  </a:cubicBezTo>
                  <a:cubicBezTo>
                    <a:pt x="4509" y="76"/>
                    <a:pt x="4508" y="40"/>
                    <a:pt x="4508" y="40"/>
                  </a:cubicBezTo>
                  <a:cubicBezTo>
                    <a:pt x="4508" y="49"/>
                    <a:pt x="4503" y="79"/>
                    <a:pt x="4499" y="104"/>
                  </a:cubicBezTo>
                  <a:cubicBezTo>
                    <a:pt x="4499" y="99"/>
                    <a:pt x="4498" y="95"/>
                    <a:pt x="4497" y="90"/>
                  </a:cubicBezTo>
                  <a:cubicBezTo>
                    <a:pt x="4498" y="67"/>
                    <a:pt x="4499" y="45"/>
                    <a:pt x="4499" y="45"/>
                  </a:cubicBezTo>
                  <a:cubicBezTo>
                    <a:pt x="4499" y="53"/>
                    <a:pt x="4493" y="75"/>
                    <a:pt x="4486" y="96"/>
                  </a:cubicBezTo>
                  <a:cubicBezTo>
                    <a:pt x="4485" y="93"/>
                    <a:pt x="4484" y="89"/>
                    <a:pt x="4482" y="85"/>
                  </a:cubicBezTo>
                  <a:cubicBezTo>
                    <a:pt x="4489" y="51"/>
                    <a:pt x="4497" y="17"/>
                    <a:pt x="4497" y="17"/>
                  </a:cubicBezTo>
                  <a:cubicBezTo>
                    <a:pt x="4492" y="24"/>
                    <a:pt x="4477" y="95"/>
                    <a:pt x="4470" y="130"/>
                  </a:cubicBezTo>
                  <a:cubicBezTo>
                    <a:pt x="4470" y="130"/>
                    <a:pt x="4470" y="130"/>
                    <a:pt x="4470" y="130"/>
                  </a:cubicBezTo>
                  <a:cubicBezTo>
                    <a:pt x="4474" y="100"/>
                    <a:pt x="4471" y="63"/>
                    <a:pt x="4470" y="52"/>
                  </a:cubicBezTo>
                  <a:cubicBezTo>
                    <a:pt x="4472" y="72"/>
                    <a:pt x="4466" y="109"/>
                    <a:pt x="4462" y="128"/>
                  </a:cubicBezTo>
                  <a:cubicBezTo>
                    <a:pt x="4462" y="126"/>
                    <a:pt x="4462" y="123"/>
                    <a:pt x="4461" y="120"/>
                  </a:cubicBezTo>
                  <a:cubicBezTo>
                    <a:pt x="4463" y="99"/>
                    <a:pt x="4465" y="71"/>
                    <a:pt x="4466" y="65"/>
                  </a:cubicBezTo>
                  <a:cubicBezTo>
                    <a:pt x="4465" y="71"/>
                    <a:pt x="4462" y="89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8" y="105"/>
                    <a:pt x="4458" y="105"/>
                    <a:pt x="4458" y="105"/>
                  </a:cubicBezTo>
                  <a:cubicBezTo>
                    <a:pt x="4454" y="125"/>
                    <a:pt x="4451" y="143"/>
                    <a:pt x="4451" y="143"/>
                  </a:cubicBezTo>
                  <a:cubicBezTo>
                    <a:pt x="4461" y="38"/>
                    <a:pt x="4454" y="25"/>
                    <a:pt x="4454" y="25"/>
                  </a:cubicBezTo>
                  <a:cubicBezTo>
                    <a:pt x="4457" y="42"/>
                    <a:pt x="4454" y="72"/>
                    <a:pt x="4449" y="96"/>
                  </a:cubicBezTo>
                  <a:cubicBezTo>
                    <a:pt x="4448" y="89"/>
                    <a:pt x="4446" y="80"/>
                    <a:pt x="4443" y="73"/>
                  </a:cubicBezTo>
                  <a:cubicBezTo>
                    <a:pt x="4442" y="65"/>
                    <a:pt x="4442" y="60"/>
                    <a:pt x="4442" y="60"/>
                  </a:cubicBezTo>
                  <a:cubicBezTo>
                    <a:pt x="4442" y="63"/>
                    <a:pt x="4442" y="67"/>
                    <a:pt x="4441" y="71"/>
                  </a:cubicBezTo>
                  <a:cubicBezTo>
                    <a:pt x="4440" y="69"/>
                    <a:pt x="4439" y="67"/>
                    <a:pt x="4437" y="65"/>
                  </a:cubicBezTo>
                  <a:cubicBezTo>
                    <a:pt x="4439" y="67"/>
                    <a:pt x="4440" y="70"/>
                    <a:pt x="4441" y="73"/>
                  </a:cubicBezTo>
                  <a:cubicBezTo>
                    <a:pt x="4441" y="82"/>
                    <a:pt x="4440" y="92"/>
                    <a:pt x="4438" y="101"/>
                  </a:cubicBezTo>
                  <a:cubicBezTo>
                    <a:pt x="4438" y="95"/>
                    <a:pt x="4435" y="88"/>
                    <a:pt x="4430" y="83"/>
                  </a:cubicBezTo>
                  <a:cubicBezTo>
                    <a:pt x="4430" y="74"/>
                    <a:pt x="4431" y="68"/>
                    <a:pt x="4431" y="68"/>
                  </a:cubicBezTo>
                  <a:cubicBezTo>
                    <a:pt x="4430" y="72"/>
                    <a:pt x="4429" y="76"/>
                    <a:pt x="4428" y="81"/>
                  </a:cubicBezTo>
                  <a:cubicBezTo>
                    <a:pt x="4428" y="81"/>
                    <a:pt x="4427" y="81"/>
                    <a:pt x="4427" y="80"/>
                  </a:cubicBezTo>
                  <a:cubicBezTo>
                    <a:pt x="4427" y="81"/>
                    <a:pt x="4428" y="81"/>
                    <a:pt x="4428" y="82"/>
                  </a:cubicBezTo>
                  <a:cubicBezTo>
                    <a:pt x="4425" y="101"/>
                    <a:pt x="4424" y="130"/>
                    <a:pt x="4424" y="142"/>
                  </a:cubicBezTo>
                  <a:cubicBezTo>
                    <a:pt x="4424" y="143"/>
                    <a:pt x="4423" y="144"/>
                    <a:pt x="4423" y="144"/>
                  </a:cubicBezTo>
                  <a:cubicBezTo>
                    <a:pt x="4422" y="141"/>
                    <a:pt x="4422" y="136"/>
                    <a:pt x="4422" y="131"/>
                  </a:cubicBezTo>
                  <a:cubicBezTo>
                    <a:pt x="4423" y="121"/>
                    <a:pt x="4425" y="112"/>
                    <a:pt x="4426" y="103"/>
                  </a:cubicBezTo>
                  <a:cubicBezTo>
                    <a:pt x="4425" y="108"/>
                    <a:pt x="4424" y="112"/>
                    <a:pt x="4423" y="117"/>
                  </a:cubicBezTo>
                  <a:cubicBezTo>
                    <a:pt x="4424" y="85"/>
                    <a:pt x="4430" y="45"/>
                    <a:pt x="4430" y="45"/>
                  </a:cubicBezTo>
                  <a:cubicBezTo>
                    <a:pt x="4423" y="60"/>
                    <a:pt x="4418" y="95"/>
                    <a:pt x="4416" y="120"/>
                  </a:cubicBezTo>
                  <a:cubicBezTo>
                    <a:pt x="4416" y="123"/>
                    <a:pt x="4415" y="125"/>
                    <a:pt x="4414" y="127"/>
                  </a:cubicBezTo>
                  <a:cubicBezTo>
                    <a:pt x="4413" y="103"/>
                    <a:pt x="4413" y="70"/>
                    <a:pt x="4413" y="70"/>
                  </a:cubicBezTo>
                  <a:cubicBezTo>
                    <a:pt x="4413" y="72"/>
                    <a:pt x="4413" y="76"/>
                    <a:pt x="4412" y="81"/>
                  </a:cubicBezTo>
                  <a:cubicBezTo>
                    <a:pt x="4411" y="73"/>
                    <a:pt x="4409" y="66"/>
                    <a:pt x="4406" y="60"/>
                  </a:cubicBezTo>
                  <a:cubicBezTo>
                    <a:pt x="4407" y="52"/>
                    <a:pt x="4407" y="46"/>
                    <a:pt x="4407" y="46"/>
                  </a:cubicBezTo>
                  <a:cubicBezTo>
                    <a:pt x="4405" y="51"/>
                    <a:pt x="4403" y="64"/>
                    <a:pt x="4402" y="79"/>
                  </a:cubicBezTo>
                  <a:cubicBezTo>
                    <a:pt x="4401" y="77"/>
                    <a:pt x="4401" y="75"/>
                    <a:pt x="4400" y="74"/>
                  </a:cubicBezTo>
                  <a:cubicBezTo>
                    <a:pt x="4399" y="83"/>
                    <a:pt x="4399" y="92"/>
                    <a:pt x="4399" y="102"/>
                  </a:cubicBezTo>
                  <a:cubicBezTo>
                    <a:pt x="4399" y="108"/>
                    <a:pt x="4398" y="115"/>
                    <a:pt x="4397" y="121"/>
                  </a:cubicBezTo>
                  <a:cubicBezTo>
                    <a:pt x="4397" y="123"/>
                    <a:pt x="4396" y="125"/>
                    <a:pt x="4396" y="127"/>
                  </a:cubicBezTo>
                  <a:cubicBezTo>
                    <a:pt x="4396" y="35"/>
                    <a:pt x="4394" y="34"/>
                    <a:pt x="4394" y="34"/>
                  </a:cubicBezTo>
                  <a:cubicBezTo>
                    <a:pt x="4396" y="49"/>
                    <a:pt x="4392" y="77"/>
                    <a:pt x="4388" y="102"/>
                  </a:cubicBezTo>
                  <a:cubicBezTo>
                    <a:pt x="4387" y="94"/>
                    <a:pt x="4385" y="85"/>
                    <a:pt x="4381" y="76"/>
                  </a:cubicBezTo>
                  <a:cubicBezTo>
                    <a:pt x="4382" y="70"/>
                    <a:pt x="4382" y="66"/>
                    <a:pt x="4382" y="66"/>
                  </a:cubicBezTo>
                  <a:cubicBezTo>
                    <a:pt x="4382" y="68"/>
                    <a:pt x="4381" y="71"/>
                    <a:pt x="4380" y="74"/>
                  </a:cubicBezTo>
                  <a:cubicBezTo>
                    <a:pt x="4380" y="73"/>
                    <a:pt x="4379" y="72"/>
                    <a:pt x="4378" y="71"/>
                  </a:cubicBezTo>
                  <a:cubicBezTo>
                    <a:pt x="4379" y="73"/>
                    <a:pt x="4379" y="74"/>
                    <a:pt x="4380" y="76"/>
                  </a:cubicBezTo>
                  <a:cubicBezTo>
                    <a:pt x="4378" y="83"/>
                    <a:pt x="4376" y="93"/>
                    <a:pt x="4374" y="103"/>
                  </a:cubicBezTo>
                  <a:cubicBezTo>
                    <a:pt x="4374" y="98"/>
                    <a:pt x="4373" y="94"/>
                    <a:pt x="4372" y="89"/>
                  </a:cubicBezTo>
                  <a:cubicBezTo>
                    <a:pt x="4373" y="96"/>
                    <a:pt x="4371" y="104"/>
                    <a:pt x="4369" y="112"/>
                  </a:cubicBezTo>
                  <a:cubicBezTo>
                    <a:pt x="4369" y="92"/>
                    <a:pt x="4368" y="70"/>
                    <a:pt x="4367" y="62"/>
                  </a:cubicBezTo>
                  <a:cubicBezTo>
                    <a:pt x="4367" y="67"/>
                    <a:pt x="4367" y="74"/>
                    <a:pt x="4367" y="82"/>
                  </a:cubicBezTo>
                  <a:cubicBezTo>
                    <a:pt x="4365" y="87"/>
                    <a:pt x="4362" y="94"/>
                    <a:pt x="4360" y="101"/>
                  </a:cubicBezTo>
                  <a:cubicBezTo>
                    <a:pt x="4360" y="91"/>
                    <a:pt x="4360" y="82"/>
                    <a:pt x="4360" y="75"/>
                  </a:cubicBezTo>
                  <a:cubicBezTo>
                    <a:pt x="4359" y="86"/>
                    <a:pt x="4357" y="102"/>
                    <a:pt x="4355" y="116"/>
                  </a:cubicBezTo>
                  <a:cubicBezTo>
                    <a:pt x="4353" y="123"/>
                    <a:pt x="4351" y="130"/>
                    <a:pt x="4349" y="136"/>
                  </a:cubicBezTo>
                  <a:cubicBezTo>
                    <a:pt x="4349" y="118"/>
                    <a:pt x="4352" y="89"/>
                    <a:pt x="4352" y="89"/>
                  </a:cubicBezTo>
                  <a:cubicBezTo>
                    <a:pt x="4351" y="93"/>
                    <a:pt x="4349" y="99"/>
                    <a:pt x="4347" y="106"/>
                  </a:cubicBezTo>
                  <a:cubicBezTo>
                    <a:pt x="4347" y="104"/>
                    <a:pt x="4347" y="101"/>
                    <a:pt x="4346" y="99"/>
                  </a:cubicBezTo>
                  <a:cubicBezTo>
                    <a:pt x="4346" y="96"/>
                    <a:pt x="4346" y="96"/>
                    <a:pt x="4346" y="96"/>
                  </a:cubicBezTo>
                  <a:cubicBezTo>
                    <a:pt x="4345" y="95"/>
                    <a:pt x="4345" y="95"/>
                    <a:pt x="4345" y="95"/>
                  </a:cubicBezTo>
                  <a:cubicBezTo>
                    <a:pt x="4345" y="104"/>
                    <a:pt x="4343" y="113"/>
                    <a:pt x="4341" y="122"/>
                  </a:cubicBezTo>
                  <a:cubicBezTo>
                    <a:pt x="4339" y="127"/>
                    <a:pt x="4338" y="131"/>
                    <a:pt x="4336" y="134"/>
                  </a:cubicBezTo>
                  <a:cubicBezTo>
                    <a:pt x="4336" y="130"/>
                    <a:pt x="4336" y="126"/>
                    <a:pt x="4336" y="122"/>
                  </a:cubicBezTo>
                  <a:cubicBezTo>
                    <a:pt x="4340" y="102"/>
                    <a:pt x="4347" y="76"/>
                    <a:pt x="4347" y="76"/>
                  </a:cubicBezTo>
                  <a:cubicBezTo>
                    <a:pt x="4342" y="82"/>
                    <a:pt x="4337" y="94"/>
                    <a:pt x="4333" y="105"/>
                  </a:cubicBezTo>
                  <a:cubicBezTo>
                    <a:pt x="4332" y="102"/>
                    <a:pt x="4331" y="98"/>
                    <a:pt x="4330" y="95"/>
                  </a:cubicBezTo>
                  <a:cubicBezTo>
                    <a:pt x="4331" y="74"/>
                    <a:pt x="4327" y="62"/>
                    <a:pt x="4327" y="62"/>
                  </a:cubicBezTo>
                  <a:cubicBezTo>
                    <a:pt x="4329" y="69"/>
                    <a:pt x="4329" y="78"/>
                    <a:pt x="4328" y="88"/>
                  </a:cubicBezTo>
                  <a:cubicBezTo>
                    <a:pt x="4325" y="83"/>
                    <a:pt x="4322" y="78"/>
                    <a:pt x="4318" y="73"/>
                  </a:cubicBezTo>
                  <a:cubicBezTo>
                    <a:pt x="4322" y="80"/>
                    <a:pt x="4325" y="92"/>
                    <a:pt x="4326" y="102"/>
                  </a:cubicBezTo>
                  <a:cubicBezTo>
                    <a:pt x="4325" y="108"/>
                    <a:pt x="4324" y="115"/>
                    <a:pt x="4323" y="120"/>
                  </a:cubicBezTo>
                  <a:cubicBezTo>
                    <a:pt x="4322" y="113"/>
                    <a:pt x="4321" y="106"/>
                    <a:pt x="4319" y="100"/>
                  </a:cubicBezTo>
                  <a:cubicBezTo>
                    <a:pt x="4320" y="89"/>
                    <a:pt x="4320" y="82"/>
                    <a:pt x="4320" y="82"/>
                  </a:cubicBezTo>
                  <a:cubicBezTo>
                    <a:pt x="4319" y="98"/>
                    <a:pt x="4319" y="98"/>
                    <a:pt x="4319" y="98"/>
                  </a:cubicBezTo>
                  <a:cubicBezTo>
                    <a:pt x="4318" y="94"/>
                    <a:pt x="4317" y="91"/>
                    <a:pt x="4315" y="88"/>
                  </a:cubicBezTo>
                  <a:cubicBezTo>
                    <a:pt x="4315" y="73"/>
                    <a:pt x="4314" y="60"/>
                    <a:pt x="4314" y="60"/>
                  </a:cubicBezTo>
                  <a:cubicBezTo>
                    <a:pt x="4314" y="72"/>
                    <a:pt x="4311" y="90"/>
                    <a:pt x="4311" y="90"/>
                  </a:cubicBezTo>
                  <a:cubicBezTo>
                    <a:pt x="4309" y="84"/>
                    <a:pt x="4309" y="64"/>
                    <a:pt x="4309" y="64"/>
                  </a:cubicBezTo>
                  <a:cubicBezTo>
                    <a:pt x="4309" y="68"/>
                    <a:pt x="4308" y="83"/>
                    <a:pt x="4306" y="98"/>
                  </a:cubicBezTo>
                  <a:cubicBezTo>
                    <a:pt x="4306" y="96"/>
                    <a:pt x="4305" y="95"/>
                    <a:pt x="4305" y="93"/>
                  </a:cubicBezTo>
                  <a:cubicBezTo>
                    <a:pt x="4304" y="88"/>
                    <a:pt x="4302" y="82"/>
                    <a:pt x="4300" y="76"/>
                  </a:cubicBezTo>
                  <a:cubicBezTo>
                    <a:pt x="4300" y="57"/>
                    <a:pt x="4300" y="42"/>
                    <a:pt x="4300" y="42"/>
                  </a:cubicBezTo>
                  <a:cubicBezTo>
                    <a:pt x="4300" y="49"/>
                    <a:pt x="4300" y="59"/>
                    <a:pt x="4299" y="70"/>
                  </a:cubicBezTo>
                  <a:cubicBezTo>
                    <a:pt x="4296" y="64"/>
                    <a:pt x="4294" y="57"/>
                    <a:pt x="4291" y="51"/>
                  </a:cubicBezTo>
                  <a:cubicBezTo>
                    <a:pt x="4290" y="52"/>
                    <a:pt x="4290" y="54"/>
                    <a:pt x="4290" y="55"/>
                  </a:cubicBezTo>
                  <a:cubicBezTo>
                    <a:pt x="4293" y="65"/>
                    <a:pt x="4296" y="74"/>
                    <a:pt x="4297" y="82"/>
                  </a:cubicBezTo>
                  <a:cubicBezTo>
                    <a:pt x="4297" y="88"/>
                    <a:pt x="4296" y="94"/>
                    <a:pt x="4295" y="100"/>
                  </a:cubicBezTo>
                  <a:cubicBezTo>
                    <a:pt x="4294" y="96"/>
                    <a:pt x="4293" y="92"/>
                    <a:pt x="4292" y="88"/>
                  </a:cubicBezTo>
                  <a:cubicBezTo>
                    <a:pt x="4293" y="78"/>
                    <a:pt x="4294" y="70"/>
                    <a:pt x="4294" y="70"/>
                  </a:cubicBezTo>
                  <a:cubicBezTo>
                    <a:pt x="4293" y="72"/>
                    <a:pt x="4292" y="78"/>
                    <a:pt x="4291" y="85"/>
                  </a:cubicBezTo>
                  <a:cubicBezTo>
                    <a:pt x="4289" y="82"/>
                    <a:pt x="4287" y="79"/>
                    <a:pt x="4285" y="76"/>
                  </a:cubicBezTo>
                  <a:cubicBezTo>
                    <a:pt x="4284" y="71"/>
                    <a:pt x="4284" y="66"/>
                    <a:pt x="4284" y="61"/>
                  </a:cubicBezTo>
                  <a:cubicBezTo>
                    <a:pt x="4283" y="73"/>
                    <a:pt x="4281" y="87"/>
                    <a:pt x="4279" y="101"/>
                  </a:cubicBezTo>
                  <a:cubicBezTo>
                    <a:pt x="4277" y="95"/>
                    <a:pt x="4275" y="90"/>
                    <a:pt x="4273" y="86"/>
                  </a:cubicBezTo>
                  <a:cubicBezTo>
                    <a:pt x="4274" y="73"/>
                    <a:pt x="4274" y="64"/>
                    <a:pt x="4274" y="64"/>
                  </a:cubicBezTo>
                  <a:cubicBezTo>
                    <a:pt x="4274" y="71"/>
                    <a:pt x="4272" y="82"/>
                    <a:pt x="4270" y="95"/>
                  </a:cubicBezTo>
                  <a:cubicBezTo>
                    <a:pt x="4268" y="87"/>
                    <a:pt x="4266" y="79"/>
                    <a:pt x="4262" y="71"/>
                  </a:cubicBezTo>
                  <a:cubicBezTo>
                    <a:pt x="4264" y="49"/>
                    <a:pt x="4265" y="30"/>
                    <a:pt x="4265" y="30"/>
                  </a:cubicBezTo>
                  <a:cubicBezTo>
                    <a:pt x="4263" y="35"/>
                    <a:pt x="4261" y="49"/>
                    <a:pt x="4259" y="65"/>
                  </a:cubicBezTo>
                  <a:cubicBezTo>
                    <a:pt x="4258" y="62"/>
                    <a:pt x="4256" y="59"/>
                    <a:pt x="4254" y="56"/>
                  </a:cubicBezTo>
                  <a:cubicBezTo>
                    <a:pt x="4254" y="63"/>
                    <a:pt x="4256" y="70"/>
                    <a:pt x="4258" y="78"/>
                  </a:cubicBezTo>
                  <a:cubicBezTo>
                    <a:pt x="4257" y="87"/>
                    <a:pt x="4256" y="97"/>
                    <a:pt x="4255" y="106"/>
                  </a:cubicBezTo>
                  <a:cubicBezTo>
                    <a:pt x="4255" y="105"/>
                    <a:pt x="4255" y="104"/>
                    <a:pt x="4254" y="103"/>
                  </a:cubicBezTo>
                  <a:cubicBezTo>
                    <a:pt x="4255" y="104"/>
                    <a:pt x="4255" y="106"/>
                    <a:pt x="4255" y="109"/>
                  </a:cubicBezTo>
                  <a:cubicBezTo>
                    <a:pt x="4254" y="120"/>
                    <a:pt x="4253" y="131"/>
                    <a:pt x="4253" y="138"/>
                  </a:cubicBezTo>
                  <a:cubicBezTo>
                    <a:pt x="4253" y="137"/>
                    <a:pt x="4252" y="135"/>
                    <a:pt x="4252" y="134"/>
                  </a:cubicBezTo>
                  <a:cubicBezTo>
                    <a:pt x="4251" y="99"/>
                    <a:pt x="4245" y="41"/>
                    <a:pt x="4245" y="41"/>
                  </a:cubicBezTo>
                  <a:cubicBezTo>
                    <a:pt x="4247" y="58"/>
                    <a:pt x="4246" y="86"/>
                    <a:pt x="4244" y="108"/>
                  </a:cubicBezTo>
                  <a:cubicBezTo>
                    <a:pt x="4242" y="105"/>
                    <a:pt x="4241" y="102"/>
                    <a:pt x="4239" y="99"/>
                  </a:cubicBezTo>
                  <a:cubicBezTo>
                    <a:pt x="4239" y="86"/>
                    <a:pt x="4239" y="73"/>
                    <a:pt x="4239" y="67"/>
                  </a:cubicBezTo>
                  <a:cubicBezTo>
                    <a:pt x="4239" y="75"/>
                    <a:pt x="4238" y="85"/>
                    <a:pt x="4237" y="94"/>
                  </a:cubicBezTo>
                  <a:cubicBezTo>
                    <a:pt x="4236" y="92"/>
                    <a:pt x="4235" y="91"/>
                    <a:pt x="4234" y="89"/>
                  </a:cubicBezTo>
                  <a:cubicBezTo>
                    <a:pt x="4235" y="91"/>
                    <a:pt x="4236" y="94"/>
                    <a:pt x="4236" y="97"/>
                  </a:cubicBezTo>
                  <a:cubicBezTo>
                    <a:pt x="4235" y="103"/>
                    <a:pt x="4234" y="110"/>
                    <a:pt x="4232" y="116"/>
                  </a:cubicBezTo>
                  <a:cubicBezTo>
                    <a:pt x="4231" y="110"/>
                    <a:pt x="4230" y="105"/>
                    <a:pt x="4228" y="101"/>
                  </a:cubicBezTo>
                  <a:cubicBezTo>
                    <a:pt x="4229" y="91"/>
                    <a:pt x="4230" y="83"/>
                    <a:pt x="4230" y="83"/>
                  </a:cubicBezTo>
                  <a:cubicBezTo>
                    <a:pt x="4230" y="86"/>
                    <a:pt x="4229" y="92"/>
                    <a:pt x="4227" y="98"/>
                  </a:cubicBezTo>
                  <a:cubicBezTo>
                    <a:pt x="4226" y="94"/>
                    <a:pt x="4225" y="91"/>
                    <a:pt x="4224" y="89"/>
                  </a:cubicBezTo>
                  <a:cubicBezTo>
                    <a:pt x="4225" y="74"/>
                    <a:pt x="4226" y="62"/>
                    <a:pt x="4226" y="62"/>
                  </a:cubicBezTo>
                  <a:cubicBezTo>
                    <a:pt x="4225" y="65"/>
                    <a:pt x="4224" y="75"/>
                    <a:pt x="4222" y="87"/>
                  </a:cubicBezTo>
                  <a:cubicBezTo>
                    <a:pt x="4220" y="83"/>
                    <a:pt x="4218" y="81"/>
                    <a:pt x="4215" y="78"/>
                  </a:cubicBezTo>
                  <a:cubicBezTo>
                    <a:pt x="4218" y="81"/>
                    <a:pt x="4220" y="84"/>
                    <a:pt x="4222" y="89"/>
                  </a:cubicBezTo>
                  <a:cubicBezTo>
                    <a:pt x="4221" y="96"/>
                    <a:pt x="4220" y="105"/>
                    <a:pt x="4219" y="113"/>
                  </a:cubicBezTo>
                  <a:cubicBezTo>
                    <a:pt x="4218" y="108"/>
                    <a:pt x="4217" y="104"/>
                    <a:pt x="4215" y="100"/>
                  </a:cubicBezTo>
                  <a:cubicBezTo>
                    <a:pt x="4214" y="86"/>
                    <a:pt x="4212" y="74"/>
                    <a:pt x="4211" y="68"/>
                  </a:cubicBezTo>
                  <a:cubicBezTo>
                    <a:pt x="4211" y="71"/>
                    <a:pt x="4212" y="76"/>
                    <a:pt x="4211" y="86"/>
                  </a:cubicBezTo>
                  <a:cubicBezTo>
                    <a:pt x="4211" y="87"/>
                    <a:pt x="4211" y="88"/>
                    <a:pt x="4211" y="90"/>
                  </a:cubicBezTo>
                  <a:cubicBezTo>
                    <a:pt x="4210" y="87"/>
                    <a:pt x="4208" y="84"/>
                    <a:pt x="4206" y="81"/>
                  </a:cubicBezTo>
                  <a:cubicBezTo>
                    <a:pt x="4209" y="85"/>
                    <a:pt x="4210" y="91"/>
                    <a:pt x="4210" y="96"/>
                  </a:cubicBezTo>
                  <a:cubicBezTo>
                    <a:pt x="4209" y="105"/>
                    <a:pt x="4207" y="115"/>
                    <a:pt x="4205" y="124"/>
                  </a:cubicBezTo>
                  <a:cubicBezTo>
                    <a:pt x="4205" y="113"/>
                    <a:pt x="4204" y="102"/>
                    <a:pt x="4202" y="91"/>
                  </a:cubicBezTo>
                  <a:cubicBezTo>
                    <a:pt x="4202" y="77"/>
                    <a:pt x="4202" y="77"/>
                    <a:pt x="4202" y="77"/>
                  </a:cubicBezTo>
                  <a:cubicBezTo>
                    <a:pt x="4205" y="35"/>
                    <a:pt x="4198" y="19"/>
                    <a:pt x="4198" y="19"/>
                  </a:cubicBezTo>
                  <a:cubicBezTo>
                    <a:pt x="4198" y="19"/>
                    <a:pt x="4201" y="31"/>
                    <a:pt x="4200" y="54"/>
                  </a:cubicBezTo>
                  <a:cubicBezTo>
                    <a:pt x="4199" y="59"/>
                    <a:pt x="4199" y="68"/>
                    <a:pt x="4197" y="78"/>
                  </a:cubicBezTo>
                  <a:cubicBezTo>
                    <a:pt x="4195" y="72"/>
                    <a:pt x="4192" y="66"/>
                    <a:pt x="4188" y="60"/>
                  </a:cubicBezTo>
                  <a:cubicBezTo>
                    <a:pt x="4188" y="61"/>
                    <a:pt x="4188" y="61"/>
                    <a:pt x="4188" y="61"/>
                  </a:cubicBezTo>
                  <a:cubicBezTo>
                    <a:pt x="4188" y="62"/>
                    <a:pt x="4188" y="63"/>
                    <a:pt x="4188" y="64"/>
                  </a:cubicBezTo>
                  <a:cubicBezTo>
                    <a:pt x="4186" y="44"/>
                    <a:pt x="4179" y="40"/>
                    <a:pt x="4179" y="40"/>
                  </a:cubicBezTo>
                  <a:cubicBezTo>
                    <a:pt x="4179" y="40"/>
                    <a:pt x="4185" y="44"/>
                    <a:pt x="4185" y="70"/>
                  </a:cubicBezTo>
                  <a:cubicBezTo>
                    <a:pt x="4185" y="76"/>
                    <a:pt x="4184" y="85"/>
                    <a:pt x="4182" y="94"/>
                  </a:cubicBezTo>
                  <a:cubicBezTo>
                    <a:pt x="4180" y="90"/>
                    <a:pt x="4177" y="86"/>
                    <a:pt x="4174" y="83"/>
                  </a:cubicBezTo>
                  <a:cubicBezTo>
                    <a:pt x="4177" y="87"/>
                    <a:pt x="4180" y="92"/>
                    <a:pt x="4182" y="97"/>
                  </a:cubicBezTo>
                  <a:cubicBezTo>
                    <a:pt x="4181" y="100"/>
                    <a:pt x="4181" y="103"/>
                    <a:pt x="4180" y="106"/>
                  </a:cubicBezTo>
                  <a:cubicBezTo>
                    <a:pt x="4179" y="104"/>
                    <a:pt x="4179" y="102"/>
                    <a:pt x="4178" y="100"/>
                  </a:cubicBezTo>
                  <a:cubicBezTo>
                    <a:pt x="4179" y="102"/>
                    <a:pt x="4179" y="105"/>
                    <a:pt x="4180" y="108"/>
                  </a:cubicBezTo>
                  <a:cubicBezTo>
                    <a:pt x="4179" y="111"/>
                    <a:pt x="4178" y="114"/>
                    <a:pt x="4177" y="117"/>
                  </a:cubicBezTo>
                  <a:cubicBezTo>
                    <a:pt x="4176" y="113"/>
                    <a:pt x="4174" y="108"/>
                    <a:pt x="4172" y="104"/>
                  </a:cubicBezTo>
                  <a:cubicBezTo>
                    <a:pt x="4173" y="87"/>
                    <a:pt x="4174" y="71"/>
                    <a:pt x="4174" y="71"/>
                  </a:cubicBezTo>
                  <a:cubicBezTo>
                    <a:pt x="4173" y="73"/>
                    <a:pt x="4171" y="84"/>
                    <a:pt x="4169" y="97"/>
                  </a:cubicBezTo>
                  <a:cubicBezTo>
                    <a:pt x="4168" y="95"/>
                    <a:pt x="4167" y="93"/>
                    <a:pt x="4166" y="92"/>
                  </a:cubicBezTo>
                  <a:cubicBezTo>
                    <a:pt x="4167" y="81"/>
                    <a:pt x="4168" y="72"/>
                    <a:pt x="4169" y="66"/>
                  </a:cubicBezTo>
                  <a:cubicBezTo>
                    <a:pt x="4168" y="73"/>
                    <a:pt x="4167" y="81"/>
                    <a:pt x="4165" y="90"/>
                  </a:cubicBezTo>
                  <a:cubicBezTo>
                    <a:pt x="4164" y="88"/>
                    <a:pt x="4162" y="86"/>
                    <a:pt x="4160" y="83"/>
                  </a:cubicBezTo>
                  <a:cubicBezTo>
                    <a:pt x="4164" y="26"/>
                    <a:pt x="4162" y="12"/>
                    <a:pt x="4162" y="12"/>
                  </a:cubicBezTo>
                  <a:cubicBezTo>
                    <a:pt x="4162" y="12"/>
                    <a:pt x="4162" y="18"/>
                    <a:pt x="4159" y="56"/>
                  </a:cubicBezTo>
                  <a:cubicBezTo>
                    <a:pt x="4158" y="64"/>
                    <a:pt x="4157" y="71"/>
                    <a:pt x="4156" y="78"/>
                  </a:cubicBezTo>
                  <a:cubicBezTo>
                    <a:pt x="4154" y="76"/>
                    <a:pt x="4151" y="73"/>
                    <a:pt x="4149" y="71"/>
                  </a:cubicBezTo>
                  <a:cubicBezTo>
                    <a:pt x="4150" y="48"/>
                    <a:pt x="4151" y="31"/>
                    <a:pt x="4151" y="31"/>
                  </a:cubicBezTo>
                  <a:cubicBezTo>
                    <a:pt x="4149" y="37"/>
                    <a:pt x="4147" y="52"/>
                    <a:pt x="4146" y="68"/>
                  </a:cubicBezTo>
                  <a:cubicBezTo>
                    <a:pt x="4144" y="66"/>
                    <a:pt x="4142" y="65"/>
                    <a:pt x="4140" y="63"/>
                  </a:cubicBezTo>
                  <a:cubicBezTo>
                    <a:pt x="4142" y="65"/>
                    <a:pt x="4144" y="67"/>
                    <a:pt x="4146" y="69"/>
                  </a:cubicBezTo>
                  <a:cubicBezTo>
                    <a:pt x="4145" y="82"/>
                    <a:pt x="4145" y="96"/>
                    <a:pt x="4144" y="109"/>
                  </a:cubicBezTo>
                  <a:cubicBezTo>
                    <a:pt x="4143" y="104"/>
                    <a:pt x="4141" y="99"/>
                    <a:pt x="4140" y="96"/>
                  </a:cubicBezTo>
                  <a:cubicBezTo>
                    <a:pt x="4141" y="104"/>
                    <a:pt x="4142" y="112"/>
                    <a:pt x="4144" y="120"/>
                  </a:cubicBezTo>
                  <a:cubicBezTo>
                    <a:pt x="4144" y="123"/>
                    <a:pt x="4144" y="126"/>
                    <a:pt x="4144" y="128"/>
                  </a:cubicBezTo>
                  <a:cubicBezTo>
                    <a:pt x="4143" y="125"/>
                    <a:pt x="4141" y="122"/>
                    <a:pt x="4140" y="118"/>
                  </a:cubicBezTo>
                  <a:cubicBezTo>
                    <a:pt x="4135" y="80"/>
                    <a:pt x="4128" y="28"/>
                    <a:pt x="4128" y="28"/>
                  </a:cubicBezTo>
                  <a:cubicBezTo>
                    <a:pt x="4128" y="39"/>
                    <a:pt x="4126" y="72"/>
                    <a:pt x="4124" y="100"/>
                  </a:cubicBezTo>
                  <a:cubicBezTo>
                    <a:pt x="4124" y="98"/>
                    <a:pt x="4123" y="97"/>
                    <a:pt x="4122" y="96"/>
                  </a:cubicBezTo>
                  <a:cubicBezTo>
                    <a:pt x="4123" y="97"/>
                    <a:pt x="4124" y="99"/>
                    <a:pt x="4124" y="100"/>
                  </a:cubicBezTo>
                  <a:cubicBezTo>
                    <a:pt x="4124" y="110"/>
                    <a:pt x="4123" y="120"/>
                    <a:pt x="4122" y="128"/>
                  </a:cubicBezTo>
                  <a:cubicBezTo>
                    <a:pt x="4122" y="128"/>
                    <a:pt x="4122" y="127"/>
                    <a:pt x="4122" y="127"/>
                  </a:cubicBezTo>
                  <a:cubicBezTo>
                    <a:pt x="4122" y="109"/>
                    <a:pt x="4120" y="87"/>
                    <a:pt x="4119" y="71"/>
                  </a:cubicBezTo>
                  <a:cubicBezTo>
                    <a:pt x="4120" y="68"/>
                    <a:pt x="4121" y="66"/>
                    <a:pt x="4122" y="64"/>
                  </a:cubicBezTo>
                  <a:cubicBezTo>
                    <a:pt x="4121" y="65"/>
                    <a:pt x="4120" y="67"/>
                    <a:pt x="4118" y="69"/>
                  </a:cubicBezTo>
                  <a:cubicBezTo>
                    <a:pt x="4118" y="61"/>
                    <a:pt x="4117" y="55"/>
                    <a:pt x="4117" y="53"/>
                  </a:cubicBezTo>
                  <a:cubicBezTo>
                    <a:pt x="4117" y="52"/>
                    <a:pt x="4118" y="52"/>
                    <a:pt x="4118" y="51"/>
                  </a:cubicBezTo>
                  <a:cubicBezTo>
                    <a:pt x="4118" y="51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7" y="52"/>
                    <a:pt x="4117" y="52"/>
                    <a:pt x="4117" y="52"/>
                  </a:cubicBezTo>
                  <a:cubicBezTo>
                    <a:pt x="4115" y="54"/>
                    <a:pt x="4113" y="56"/>
                    <a:pt x="4111" y="57"/>
                  </a:cubicBezTo>
                  <a:cubicBezTo>
                    <a:pt x="4112" y="54"/>
                    <a:pt x="4112" y="52"/>
                    <a:pt x="4112" y="50"/>
                  </a:cubicBezTo>
                  <a:cubicBezTo>
                    <a:pt x="4116" y="46"/>
                    <a:pt x="4119" y="42"/>
                    <a:pt x="4123" y="38"/>
                  </a:cubicBezTo>
                  <a:cubicBezTo>
                    <a:pt x="4119" y="41"/>
                    <a:pt x="4116" y="44"/>
                    <a:pt x="4113" y="47"/>
                  </a:cubicBezTo>
                  <a:cubicBezTo>
                    <a:pt x="4113" y="43"/>
                    <a:pt x="4114" y="40"/>
                    <a:pt x="4114" y="40"/>
                  </a:cubicBezTo>
                  <a:cubicBezTo>
                    <a:pt x="4113" y="43"/>
                    <a:pt x="4111" y="46"/>
                    <a:pt x="4110" y="50"/>
                  </a:cubicBezTo>
                  <a:cubicBezTo>
                    <a:pt x="4103" y="58"/>
                    <a:pt x="4098" y="66"/>
                    <a:pt x="4094" y="75"/>
                  </a:cubicBezTo>
                  <a:cubicBezTo>
                    <a:pt x="4093" y="70"/>
                    <a:pt x="4093" y="66"/>
                    <a:pt x="4093" y="63"/>
                  </a:cubicBezTo>
                  <a:cubicBezTo>
                    <a:pt x="4096" y="57"/>
                    <a:pt x="4099" y="50"/>
                    <a:pt x="4103" y="42"/>
                  </a:cubicBezTo>
                  <a:cubicBezTo>
                    <a:pt x="4094" y="52"/>
                    <a:pt x="4088" y="61"/>
                    <a:pt x="4084" y="71"/>
                  </a:cubicBezTo>
                  <a:cubicBezTo>
                    <a:pt x="4083" y="70"/>
                    <a:pt x="4082" y="70"/>
                    <a:pt x="4082" y="69"/>
                  </a:cubicBezTo>
                  <a:cubicBezTo>
                    <a:pt x="4082" y="68"/>
                    <a:pt x="4082" y="67"/>
                    <a:pt x="4081" y="65"/>
                  </a:cubicBezTo>
                  <a:cubicBezTo>
                    <a:pt x="4088" y="53"/>
                    <a:pt x="4096" y="41"/>
                    <a:pt x="4107" y="25"/>
                  </a:cubicBezTo>
                  <a:cubicBezTo>
                    <a:pt x="4096" y="40"/>
                    <a:pt x="4088" y="51"/>
                    <a:pt x="4081" y="64"/>
                  </a:cubicBezTo>
                  <a:cubicBezTo>
                    <a:pt x="4079" y="45"/>
                    <a:pt x="4077" y="30"/>
                    <a:pt x="4077" y="30"/>
                  </a:cubicBezTo>
                  <a:cubicBezTo>
                    <a:pt x="4078" y="35"/>
                    <a:pt x="4078" y="49"/>
                    <a:pt x="4078" y="65"/>
                  </a:cubicBezTo>
                  <a:cubicBezTo>
                    <a:pt x="4078" y="65"/>
                    <a:pt x="4077" y="65"/>
                    <a:pt x="4077" y="65"/>
                  </a:cubicBezTo>
                  <a:cubicBezTo>
                    <a:pt x="4077" y="65"/>
                    <a:pt x="4078" y="65"/>
                    <a:pt x="4078" y="65"/>
                  </a:cubicBezTo>
                  <a:cubicBezTo>
                    <a:pt x="4078" y="67"/>
                    <a:pt x="4078" y="69"/>
                    <a:pt x="4077" y="71"/>
                  </a:cubicBezTo>
                  <a:cubicBezTo>
                    <a:pt x="4076" y="74"/>
                    <a:pt x="4075" y="78"/>
                    <a:pt x="4074" y="81"/>
                  </a:cubicBezTo>
                  <a:cubicBezTo>
                    <a:pt x="4075" y="78"/>
                    <a:pt x="4076" y="76"/>
                    <a:pt x="4077" y="73"/>
                  </a:cubicBezTo>
                  <a:cubicBezTo>
                    <a:pt x="4077" y="79"/>
                    <a:pt x="4077" y="85"/>
                    <a:pt x="4077" y="91"/>
                  </a:cubicBezTo>
                  <a:cubicBezTo>
                    <a:pt x="4076" y="93"/>
                    <a:pt x="4076" y="95"/>
                    <a:pt x="4076" y="97"/>
                  </a:cubicBezTo>
                  <a:cubicBezTo>
                    <a:pt x="4075" y="96"/>
                    <a:pt x="4074" y="95"/>
                    <a:pt x="4074" y="94"/>
                  </a:cubicBezTo>
                  <a:cubicBezTo>
                    <a:pt x="4073" y="91"/>
                    <a:pt x="4073" y="88"/>
                    <a:pt x="4073" y="85"/>
                  </a:cubicBezTo>
                  <a:cubicBezTo>
                    <a:pt x="4073" y="83"/>
                    <a:pt x="4074" y="82"/>
                    <a:pt x="4074" y="81"/>
                  </a:cubicBezTo>
                  <a:cubicBezTo>
                    <a:pt x="4074" y="82"/>
                    <a:pt x="4073" y="83"/>
                    <a:pt x="4073" y="84"/>
                  </a:cubicBezTo>
                  <a:cubicBezTo>
                    <a:pt x="4072" y="72"/>
                    <a:pt x="4071" y="62"/>
                    <a:pt x="4071" y="55"/>
                  </a:cubicBezTo>
                  <a:cubicBezTo>
                    <a:pt x="4072" y="54"/>
                    <a:pt x="4073" y="53"/>
                    <a:pt x="4075" y="52"/>
                  </a:cubicBezTo>
                  <a:cubicBezTo>
                    <a:pt x="4073" y="53"/>
                    <a:pt x="4072" y="54"/>
                    <a:pt x="4071" y="54"/>
                  </a:cubicBezTo>
                  <a:cubicBezTo>
                    <a:pt x="4071" y="49"/>
                    <a:pt x="4070" y="46"/>
                    <a:pt x="4070" y="46"/>
                  </a:cubicBezTo>
                  <a:cubicBezTo>
                    <a:pt x="4070" y="48"/>
                    <a:pt x="4070" y="51"/>
                    <a:pt x="4070" y="55"/>
                  </a:cubicBezTo>
                  <a:cubicBezTo>
                    <a:pt x="4067" y="57"/>
                    <a:pt x="4064" y="59"/>
                    <a:pt x="4061" y="62"/>
                  </a:cubicBezTo>
                  <a:cubicBezTo>
                    <a:pt x="4061" y="58"/>
                    <a:pt x="4061" y="54"/>
                    <a:pt x="4061" y="50"/>
                  </a:cubicBezTo>
                  <a:cubicBezTo>
                    <a:pt x="4065" y="45"/>
                    <a:pt x="4070" y="40"/>
                    <a:pt x="4075" y="34"/>
                  </a:cubicBezTo>
                  <a:cubicBezTo>
                    <a:pt x="4070" y="39"/>
                    <a:pt x="4065" y="44"/>
                    <a:pt x="4061" y="48"/>
                  </a:cubicBezTo>
                  <a:cubicBezTo>
                    <a:pt x="4062" y="21"/>
                    <a:pt x="4064" y="0"/>
                    <a:pt x="4064" y="0"/>
                  </a:cubicBezTo>
                  <a:cubicBezTo>
                    <a:pt x="4060" y="10"/>
                    <a:pt x="4058" y="35"/>
                    <a:pt x="4057" y="53"/>
                  </a:cubicBezTo>
                  <a:cubicBezTo>
                    <a:pt x="4056" y="54"/>
                    <a:pt x="4055" y="55"/>
                    <a:pt x="4055" y="56"/>
                  </a:cubicBezTo>
                  <a:cubicBezTo>
                    <a:pt x="4053" y="44"/>
                    <a:pt x="4050" y="33"/>
                    <a:pt x="4050" y="33"/>
                  </a:cubicBezTo>
                  <a:cubicBezTo>
                    <a:pt x="4051" y="39"/>
                    <a:pt x="4051" y="49"/>
                    <a:pt x="4050" y="62"/>
                  </a:cubicBezTo>
                  <a:cubicBezTo>
                    <a:pt x="4048" y="63"/>
                    <a:pt x="4047" y="65"/>
                    <a:pt x="4046" y="67"/>
                  </a:cubicBezTo>
                  <a:cubicBezTo>
                    <a:pt x="4045" y="65"/>
                    <a:pt x="4044" y="63"/>
                    <a:pt x="4043" y="62"/>
                  </a:cubicBezTo>
                  <a:cubicBezTo>
                    <a:pt x="4043" y="63"/>
                    <a:pt x="4044" y="65"/>
                    <a:pt x="4045" y="68"/>
                  </a:cubicBezTo>
                  <a:cubicBezTo>
                    <a:pt x="4042" y="72"/>
                    <a:pt x="4040" y="75"/>
                    <a:pt x="4039" y="78"/>
                  </a:cubicBezTo>
                  <a:cubicBezTo>
                    <a:pt x="4038" y="61"/>
                    <a:pt x="4038" y="48"/>
                    <a:pt x="4038" y="48"/>
                  </a:cubicBezTo>
                  <a:cubicBezTo>
                    <a:pt x="4037" y="52"/>
                    <a:pt x="4036" y="65"/>
                    <a:pt x="4034" y="80"/>
                  </a:cubicBezTo>
                  <a:cubicBezTo>
                    <a:pt x="4033" y="82"/>
                    <a:pt x="4033" y="85"/>
                    <a:pt x="4032" y="87"/>
                  </a:cubicBezTo>
                  <a:cubicBezTo>
                    <a:pt x="4031" y="86"/>
                    <a:pt x="4031" y="86"/>
                    <a:pt x="4030" y="85"/>
                  </a:cubicBezTo>
                  <a:cubicBezTo>
                    <a:pt x="4033" y="48"/>
                    <a:pt x="4036" y="9"/>
                    <a:pt x="4036" y="9"/>
                  </a:cubicBezTo>
                  <a:cubicBezTo>
                    <a:pt x="4032" y="20"/>
                    <a:pt x="4028" y="57"/>
                    <a:pt x="4024" y="89"/>
                  </a:cubicBezTo>
                  <a:cubicBezTo>
                    <a:pt x="4023" y="91"/>
                    <a:pt x="4022" y="92"/>
                    <a:pt x="4022" y="93"/>
                  </a:cubicBezTo>
                  <a:cubicBezTo>
                    <a:pt x="4021" y="92"/>
                    <a:pt x="4020" y="90"/>
                    <a:pt x="4019" y="89"/>
                  </a:cubicBezTo>
                  <a:cubicBezTo>
                    <a:pt x="4022" y="72"/>
                    <a:pt x="4025" y="55"/>
                    <a:pt x="4025" y="37"/>
                  </a:cubicBezTo>
                  <a:cubicBezTo>
                    <a:pt x="4025" y="34"/>
                    <a:pt x="4025" y="30"/>
                    <a:pt x="4025" y="26"/>
                  </a:cubicBezTo>
                  <a:cubicBezTo>
                    <a:pt x="4018" y="45"/>
                    <a:pt x="4017" y="66"/>
                    <a:pt x="4013" y="86"/>
                  </a:cubicBezTo>
                  <a:cubicBezTo>
                    <a:pt x="4012" y="85"/>
                    <a:pt x="4012" y="84"/>
                    <a:pt x="4011" y="84"/>
                  </a:cubicBezTo>
                  <a:cubicBezTo>
                    <a:pt x="4012" y="84"/>
                    <a:pt x="4012" y="85"/>
                    <a:pt x="4013" y="86"/>
                  </a:cubicBezTo>
                  <a:cubicBezTo>
                    <a:pt x="4012" y="88"/>
                    <a:pt x="4012" y="90"/>
                    <a:pt x="4012" y="92"/>
                  </a:cubicBezTo>
                  <a:cubicBezTo>
                    <a:pt x="4011" y="94"/>
                    <a:pt x="4011" y="96"/>
                    <a:pt x="4010" y="98"/>
                  </a:cubicBezTo>
                  <a:cubicBezTo>
                    <a:pt x="4010" y="97"/>
                    <a:pt x="4009" y="96"/>
                    <a:pt x="4008" y="94"/>
                  </a:cubicBezTo>
                  <a:cubicBezTo>
                    <a:pt x="4008" y="86"/>
                    <a:pt x="4007" y="78"/>
                    <a:pt x="4006" y="72"/>
                  </a:cubicBezTo>
                  <a:cubicBezTo>
                    <a:pt x="4009" y="67"/>
                    <a:pt x="4013" y="63"/>
                    <a:pt x="4017" y="59"/>
                  </a:cubicBezTo>
                  <a:cubicBezTo>
                    <a:pt x="4013" y="62"/>
                    <a:pt x="4009" y="66"/>
                    <a:pt x="4006" y="70"/>
                  </a:cubicBezTo>
                  <a:cubicBezTo>
                    <a:pt x="4005" y="64"/>
                    <a:pt x="4005" y="60"/>
                    <a:pt x="4004" y="57"/>
                  </a:cubicBezTo>
                  <a:cubicBezTo>
                    <a:pt x="4005" y="54"/>
                    <a:pt x="4007" y="52"/>
                    <a:pt x="4008" y="50"/>
                  </a:cubicBezTo>
                  <a:cubicBezTo>
                    <a:pt x="4007" y="51"/>
                    <a:pt x="4005" y="53"/>
                    <a:pt x="4004" y="54"/>
                  </a:cubicBezTo>
                  <a:cubicBezTo>
                    <a:pt x="4004" y="53"/>
                    <a:pt x="4004" y="52"/>
                    <a:pt x="4004" y="52"/>
                  </a:cubicBezTo>
                  <a:cubicBezTo>
                    <a:pt x="4004" y="53"/>
                    <a:pt x="4004" y="54"/>
                    <a:pt x="4004" y="54"/>
                  </a:cubicBezTo>
                  <a:cubicBezTo>
                    <a:pt x="4002" y="56"/>
                    <a:pt x="4000" y="58"/>
                    <a:pt x="3998" y="60"/>
                  </a:cubicBezTo>
                  <a:cubicBezTo>
                    <a:pt x="3997" y="54"/>
                    <a:pt x="3996" y="48"/>
                    <a:pt x="3995" y="44"/>
                  </a:cubicBezTo>
                  <a:cubicBezTo>
                    <a:pt x="3996" y="49"/>
                    <a:pt x="3995" y="56"/>
                    <a:pt x="3994" y="64"/>
                  </a:cubicBezTo>
                  <a:cubicBezTo>
                    <a:pt x="3993" y="66"/>
                    <a:pt x="3992" y="68"/>
                    <a:pt x="3991" y="69"/>
                  </a:cubicBezTo>
                  <a:cubicBezTo>
                    <a:pt x="3989" y="67"/>
                    <a:pt x="3988" y="66"/>
                    <a:pt x="3986" y="64"/>
                  </a:cubicBezTo>
                  <a:cubicBezTo>
                    <a:pt x="3988" y="66"/>
                    <a:pt x="3989" y="67"/>
                    <a:pt x="3991" y="69"/>
                  </a:cubicBezTo>
                  <a:cubicBezTo>
                    <a:pt x="3989" y="71"/>
                    <a:pt x="3988" y="73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7" y="75"/>
                    <a:pt x="3987" y="75"/>
                    <a:pt x="3987" y="75"/>
                  </a:cubicBezTo>
                  <a:cubicBezTo>
                    <a:pt x="3986" y="76"/>
                    <a:pt x="3985" y="77"/>
                    <a:pt x="3984" y="79"/>
                  </a:cubicBezTo>
                  <a:cubicBezTo>
                    <a:pt x="3984" y="79"/>
                    <a:pt x="3984" y="79"/>
                    <a:pt x="3984" y="79"/>
                  </a:cubicBezTo>
                  <a:cubicBezTo>
                    <a:pt x="3985" y="60"/>
                    <a:pt x="3985" y="45"/>
                    <a:pt x="3985" y="45"/>
                  </a:cubicBezTo>
                  <a:cubicBezTo>
                    <a:pt x="3985" y="50"/>
                    <a:pt x="3983" y="61"/>
                    <a:pt x="3980" y="73"/>
                  </a:cubicBezTo>
                  <a:cubicBezTo>
                    <a:pt x="3979" y="73"/>
                    <a:pt x="3979" y="73"/>
                    <a:pt x="3978" y="72"/>
                  </a:cubicBezTo>
                  <a:cubicBezTo>
                    <a:pt x="3979" y="70"/>
                    <a:pt x="3979" y="68"/>
                    <a:pt x="3979" y="66"/>
                  </a:cubicBezTo>
                  <a:cubicBezTo>
                    <a:pt x="3979" y="65"/>
                    <a:pt x="3979" y="65"/>
                    <a:pt x="3980" y="65"/>
                  </a:cubicBezTo>
                  <a:cubicBezTo>
                    <a:pt x="3979" y="65"/>
                    <a:pt x="3979" y="65"/>
                    <a:pt x="3979" y="66"/>
                  </a:cubicBezTo>
                  <a:cubicBezTo>
                    <a:pt x="3979" y="64"/>
                    <a:pt x="3979" y="63"/>
                    <a:pt x="3979" y="61"/>
                  </a:cubicBezTo>
                  <a:cubicBezTo>
                    <a:pt x="3979" y="55"/>
                    <a:pt x="3979" y="49"/>
                    <a:pt x="3978" y="42"/>
                  </a:cubicBezTo>
                  <a:cubicBezTo>
                    <a:pt x="3981" y="27"/>
                    <a:pt x="3983" y="17"/>
                    <a:pt x="3983" y="17"/>
                  </a:cubicBezTo>
                  <a:cubicBezTo>
                    <a:pt x="3980" y="22"/>
                    <a:pt x="3973" y="49"/>
                    <a:pt x="3967" y="78"/>
                  </a:cubicBezTo>
                  <a:cubicBezTo>
                    <a:pt x="3967" y="78"/>
                    <a:pt x="3967" y="79"/>
                    <a:pt x="3966" y="79"/>
                  </a:cubicBezTo>
                  <a:cubicBezTo>
                    <a:pt x="3965" y="76"/>
                    <a:pt x="3962" y="72"/>
                    <a:pt x="3960" y="69"/>
                  </a:cubicBezTo>
                  <a:cubicBezTo>
                    <a:pt x="3961" y="67"/>
                    <a:pt x="3963" y="66"/>
                    <a:pt x="3965" y="64"/>
                  </a:cubicBezTo>
                  <a:cubicBezTo>
                    <a:pt x="3963" y="66"/>
                    <a:pt x="3961" y="67"/>
                    <a:pt x="3960" y="69"/>
                  </a:cubicBezTo>
                  <a:cubicBezTo>
                    <a:pt x="3959" y="68"/>
                    <a:pt x="3958" y="67"/>
                    <a:pt x="3957" y="66"/>
                  </a:cubicBezTo>
                  <a:cubicBezTo>
                    <a:pt x="3957" y="60"/>
                    <a:pt x="3956" y="55"/>
                    <a:pt x="3956" y="52"/>
                  </a:cubicBezTo>
                  <a:cubicBezTo>
                    <a:pt x="3956" y="56"/>
                    <a:pt x="3956" y="60"/>
                    <a:pt x="3956" y="64"/>
                  </a:cubicBezTo>
                  <a:cubicBezTo>
                    <a:pt x="3952" y="60"/>
                    <a:pt x="3948" y="55"/>
                    <a:pt x="3943" y="50"/>
                  </a:cubicBezTo>
                  <a:cubicBezTo>
                    <a:pt x="3945" y="55"/>
                    <a:pt x="3949" y="60"/>
                    <a:pt x="3952" y="65"/>
                  </a:cubicBezTo>
                  <a:cubicBezTo>
                    <a:pt x="3951" y="68"/>
                    <a:pt x="3951" y="71"/>
                    <a:pt x="3950" y="76"/>
                  </a:cubicBezTo>
                  <a:cubicBezTo>
                    <a:pt x="3948" y="74"/>
                    <a:pt x="3946" y="71"/>
                    <a:pt x="3943" y="68"/>
                  </a:cubicBezTo>
                  <a:cubicBezTo>
                    <a:pt x="3943" y="54"/>
                    <a:pt x="3942" y="41"/>
                    <a:pt x="3941" y="33"/>
                  </a:cubicBezTo>
                  <a:cubicBezTo>
                    <a:pt x="3942" y="42"/>
                    <a:pt x="3941" y="53"/>
                    <a:pt x="3940" y="65"/>
                  </a:cubicBezTo>
                  <a:cubicBezTo>
                    <a:pt x="3938" y="63"/>
                    <a:pt x="3936" y="61"/>
                    <a:pt x="3934" y="59"/>
                  </a:cubicBezTo>
                  <a:cubicBezTo>
                    <a:pt x="3936" y="61"/>
                    <a:pt x="3938" y="63"/>
                    <a:pt x="3940" y="65"/>
                  </a:cubicBezTo>
                  <a:cubicBezTo>
                    <a:pt x="3939" y="72"/>
                    <a:pt x="3938" y="80"/>
                    <a:pt x="3937" y="87"/>
                  </a:cubicBezTo>
                  <a:cubicBezTo>
                    <a:pt x="3937" y="87"/>
                    <a:pt x="3937" y="87"/>
                    <a:pt x="3937" y="87"/>
                  </a:cubicBezTo>
                  <a:cubicBezTo>
                    <a:pt x="3936" y="85"/>
                    <a:pt x="3936" y="84"/>
                    <a:pt x="3935" y="83"/>
                  </a:cubicBezTo>
                  <a:cubicBezTo>
                    <a:pt x="3936" y="82"/>
                    <a:pt x="3936" y="82"/>
                    <a:pt x="3936" y="81"/>
                  </a:cubicBezTo>
                  <a:cubicBezTo>
                    <a:pt x="3936" y="82"/>
                    <a:pt x="3936" y="82"/>
                    <a:pt x="3935" y="83"/>
                  </a:cubicBezTo>
                  <a:cubicBezTo>
                    <a:pt x="3935" y="81"/>
                    <a:pt x="3934" y="79"/>
                    <a:pt x="3933" y="77"/>
                  </a:cubicBezTo>
                  <a:cubicBezTo>
                    <a:pt x="3934" y="79"/>
                    <a:pt x="3934" y="81"/>
                    <a:pt x="3935" y="83"/>
                  </a:cubicBezTo>
                  <a:cubicBezTo>
                    <a:pt x="3934" y="85"/>
                    <a:pt x="3933" y="86"/>
                    <a:pt x="3932" y="88"/>
                  </a:cubicBezTo>
                  <a:cubicBezTo>
                    <a:pt x="3933" y="86"/>
                    <a:pt x="3934" y="85"/>
                    <a:pt x="3935" y="83"/>
                  </a:cubicBezTo>
                  <a:cubicBezTo>
                    <a:pt x="3935" y="85"/>
                    <a:pt x="3936" y="86"/>
                    <a:pt x="3936" y="88"/>
                  </a:cubicBezTo>
                  <a:cubicBezTo>
                    <a:pt x="3934" y="91"/>
                    <a:pt x="3933" y="95"/>
                    <a:pt x="3931" y="98"/>
                  </a:cubicBezTo>
                  <a:cubicBezTo>
                    <a:pt x="3931" y="97"/>
                    <a:pt x="3931" y="97"/>
                    <a:pt x="3930" y="97"/>
                  </a:cubicBezTo>
                  <a:cubicBezTo>
                    <a:pt x="3930" y="95"/>
                    <a:pt x="3930" y="94"/>
                    <a:pt x="3930" y="93"/>
                  </a:cubicBezTo>
                  <a:cubicBezTo>
                    <a:pt x="3930" y="91"/>
                    <a:pt x="3931" y="89"/>
                    <a:pt x="3932" y="88"/>
                  </a:cubicBezTo>
                  <a:cubicBezTo>
                    <a:pt x="3931" y="89"/>
                    <a:pt x="3930" y="91"/>
                    <a:pt x="3929" y="92"/>
                  </a:cubicBezTo>
                  <a:cubicBezTo>
                    <a:pt x="3929" y="92"/>
                    <a:pt x="3929" y="91"/>
                    <a:pt x="3929" y="91"/>
                  </a:cubicBezTo>
                  <a:cubicBezTo>
                    <a:pt x="3929" y="74"/>
                    <a:pt x="3928" y="60"/>
                    <a:pt x="3928" y="60"/>
                  </a:cubicBezTo>
                  <a:cubicBezTo>
                    <a:pt x="3928" y="65"/>
                    <a:pt x="3927" y="73"/>
                    <a:pt x="3927" y="81"/>
                  </a:cubicBezTo>
                  <a:cubicBezTo>
                    <a:pt x="3926" y="79"/>
                    <a:pt x="3926" y="76"/>
                    <a:pt x="3925" y="74"/>
                  </a:cubicBezTo>
                  <a:cubicBezTo>
                    <a:pt x="3926" y="79"/>
                    <a:pt x="3926" y="83"/>
                    <a:pt x="3926" y="88"/>
                  </a:cubicBezTo>
                  <a:cubicBezTo>
                    <a:pt x="3925" y="86"/>
                    <a:pt x="3924" y="84"/>
                    <a:pt x="3923" y="83"/>
                  </a:cubicBezTo>
                  <a:cubicBezTo>
                    <a:pt x="3924" y="85"/>
                    <a:pt x="3925" y="87"/>
                    <a:pt x="3926" y="89"/>
                  </a:cubicBezTo>
                  <a:cubicBezTo>
                    <a:pt x="3926" y="89"/>
                    <a:pt x="3926" y="89"/>
                    <a:pt x="3926" y="89"/>
                  </a:cubicBezTo>
                  <a:cubicBezTo>
                    <a:pt x="3926" y="93"/>
                    <a:pt x="3925" y="97"/>
                    <a:pt x="3925" y="101"/>
                  </a:cubicBezTo>
                  <a:cubicBezTo>
                    <a:pt x="3924" y="103"/>
                    <a:pt x="3923" y="104"/>
                    <a:pt x="3923" y="106"/>
                  </a:cubicBezTo>
                  <a:cubicBezTo>
                    <a:pt x="3921" y="100"/>
                    <a:pt x="3920" y="95"/>
                    <a:pt x="3918" y="90"/>
                  </a:cubicBezTo>
                  <a:cubicBezTo>
                    <a:pt x="3919" y="88"/>
                    <a:pt x="3921" y="85"/>
                    <a:pt x="3922" y="83"/>
                  </a:cubicBezTo>
                  <a:cubicBezTo>
                    <a:pt x="3921" y="85"/>
                    <a:pt x="3919" y="87"/>
                    <a:pt x="3917" y="89"/>
                  </a:cubicBezTo>
                  <a:cubicBezTo>
                    <a:pt x="3917" y="88"/>
                    <a:pt x="3916" y="87"/>
                    <a:pt x="3916" y="87"/>
                  </a:cubicBezTo>
                  <a:cubicBezTo>
                    <a:pt x="3916" y="76"/>
                    <a:pt x="3917" y="68"/>
                    <a:pt x="3917" y="68"/>
                  </a:cubicBezTo>
                  <a:cubicBezTo>
                    <a:pt x="3916" y="72"/>
                    <a:pt x="3915" y="77"/>
                    <a:pt x="3914" y="82"/>
                  </a:cubicBezTo>
                  <a:cubicBezTo>
                    <a:pt x="3914" y="81"/>
                    <a:pt x="3914" y="80"/>
                    <a:pt x="3914" y="80"/>
                  </a:cubicBezTo>
                  <a:cubicBezTo>
                    <a:pt x="3914" y="80"/>
                    <a:pt x="3914" y="81"/>
                    <a:pt x="3914" y="82"/>
                  </a:cubicBezTo>
                  <a:cubicBezTo>
                    <a:pt x="3913" y="80"/>
                    <a:pt x="3912" y="78"/>
                    <a:pt x="3910" y="75"/>
                  </a:cubicBezTo>
                  <a:cubicBezTo>
                    <a:pt x="3911" y="65"/>
                    <a:pt x="3912" y="56"/>
                    <a:pt x="3913" y="48"/>
                  </a:cubicBezTo>
                  <a:cubicBezTo>
                    <a:pt x="3912" y="55"/>
                    <a:pt x="3910" y="64"/>
                    <a:pt x="3909" y="73"/>
                  </a:cubicBezTo>
                  <a:cubicBezTo>
                    <a:pt x="3907" y="70"/>
                    <a:pt x="3905" y="67"/>
                    <a:pt x="3903" y="64"/>
                  </a:cubicBezTo>
                  <a:cubicBezTo>
                    <a:pt x="3903" y="62"/>
                    <a:pt x="3903" y="59"/>
                    <a:pt x="3903" y="57"/>
                  </a:cubicBezTo>
                  <a:cubicBezTo>
                    <a:pt x="3902" y="58"/>
                    <a:pt x="3902" y="60"/>
                    <a:pt x="3901" y="62"/>
                  </a:cubicBezTo>
                  <a:cubicBezTo>
                    <a:pt x="3899" y="59"/>
                    <a:pt x="3896" y="55"/>
                    <a:pt x="3893" y="52"/>
                  </a:cubicBezTo>
                  <a:cubicBezTo>
                    <a:pt x="3893" y="48"/>
                    <a:pt x="3893" y="46"/>
                    <a:pt x="3893" y="46"/>
                  </a:cubicBezTo>
                  <a:cubicBezTo>
                    <a:pt x="3893" y="48"/>
                    <a:pt x="3893" y="49"/>
                    <a:pt x="3892" y="51"/>
                  </a:cubicBezTo>
                  <a:cubicBezTo>
                    <a:pt x="3889" y="47"/>
                    <a:pt x="3885" y="43"/>
                    <a:pt x="3881" y="39"/>
                  </a:cubicBezTo>
                  <a:cubicBezTo>
                    <a:pt x="3881" y="37"/>
                    <a:pt x="3881" y="35"/>
                    <a:pt x="3880" y="34"/>
                  </a:cubicBezTo>
                  <a:cubicBezTo>
                    <a:pt x="3880" y="34"/>
                    <a:pt x="3881" y="36"/>
                    <a:pt x="3881" y="39"/>
                  </a:cubicBezTo>
                  <a:cubicBezTo>
                    <a:pt x="3879" y="37"/>
                    <a:pt x="3878" y="36"/>
                    <a:pt x="3876" y="34"/>
                  </a:cubicBezTo>
                  <a:cubicBezTo>
                    <a:pt x="3878" y="36"/>
                    <a:pt x="3879" y="38"/>
                    <a:pt x="3881" y="40"/>
                  </a:cubicBezTo>
                  <a:cubicBezTo>
                    <a:pt x="3881" y="40"/>
                    <a:pt x="3881" y="40"/>
                    <a:pt x="3881" y="41"/>
                  </a:cubicBezTo>
                  <a:cubicBezTo>
                    <a:pt x="3881" y="40"/>
                    <a:pt x="3881" y="40"/>
                    <a:pt x="3881" y="40"/>
                  </a:cubicBezTo>
                  <a:cubicBezTo>
                    <a:pt x="3885" y="45"/>
                    <a:pt x="3888" y="49"/>
                    <a:pt x="3892" y="53"/>
                  </a:cubicBezTo>
                  <a:cubicBezTo>
                    <a:pt x="3891" y="55"/>
                    <a:pt x="3890" y="59"/>
                    <a:pt x="3890" y="62"/>
                  </a:cubicBezTo>
                  <a:cubicBezTo>
                    <a:pt x="3887" y="60"/>
                    <a:pt x="3885" y="58"/>
                    <a:pt x="3882" y="56"/>
                  </a:cubicBezTo>
                  <a:cubicBezTo>
                    <a:pt x="3881" y="50"/>
                    <a:pt x="3881" y="44"/>
                    <a:pt x="3881" y="41"/>
                  </a:cubicBezTo>
                  <a:cubicBezTo>
                    <a:pt x="3881" y="45"/>
                    <a:pt x="3881" y="50"/>
                    <a:pt x="3880" y="55"/>
                  </a:cubicBezTo>
                  <a:cubicBezTo>
                    <a:pt x="3879" y="54"/>
                    <a:pt x="3878" y="53"/>
                    <a:pt x="3876" y="52"/>
                  </a:cubicBezTo>
                  <a:cubicBezTo>
                    <a:pt x="3878" y="53"/>
                    <a:pt x="3879" y="54"/>
                    <a:pt x="3880" y="55"/>
                  </a:cubicBezTo>
                  <a:cubicBezTo>
                    <a:pt x="3880" y="64"/>
                    <a:pt x="3879" y="73"/>
                    <a:pt x="3877" y="83"/>
                  </a:cubicBezTo>
                  <a:cubicBezTo>
                    <a:pt x="3877" y="82"/>
                    <a:pt x="3877" y="81"/>
                    <a:pt x="3877" y="81"/>
                  </a:cubicBezTo>
                  <a:cubicBezTo>
                    <a:pt x="3877" y="82"/>
                    <a:pt x="3877" y="82"/>
                    <a:pt x="3877" y="83"/>
                  </a:cubicBezTo>
                  <a:cubicBezTo>
                    <a:pt x="3876" y="88"/>
                    <a:pt x="3876" y="92"/>
                    <a:pt x="3875" y="97"/>
                  </a:cubicBezTo>
                  <a:cubicBezTo>
                    <a:pt x="3873" y="89"/>
                    <a:pt x="3871" y="81"/>
                    <a:pt x="3868" y="73"/>
                  </a:cubicBezTo>
                  <a:cubicBezTo>
                    <a:pt x="3868" y="72"/>
                    <a:pt x="3868" y="71"/>
                    <a:pt x="3868" y="71"/>
                  </a:cubicBezTo>
                  <a:cubicBezTo>
                    <a:pt x="3869" y="70"/>
                    <a:pt x="3870" y="69"/>
                    <a:pt x="3871" y="68"/>
                  </a:cubicBezTo>
                  <a:cubicBezTo>
                    <a:pt x="3873" y="72"/>
                    <a:pt x="3875" y="76"/>
                    <a:pt x="3877" y="81"/>
                  </a:cubicBezTo>
                  <a:cubicBezTo>
                    <a:pt x="3875" y="76"/>
                    <a:pt x="3873" y="72"/>
                    <a:pt x="3871" y="67"/>
                  </a:cubicBezTo>
                  <a:cubicBezTo>
                    <a:pt x="3872" y="67"/>
                    <a:pt x="3872" y="66"/>
                    <a:pt x="3873" y="65"/>
                  </a:cubicBezTo>
                  <a:cubicBezTo>
                    <a:pt x="3872" y="66"/>
                    <a:pt x="3872" y="66"/>
                    <a:pt x="3871" y="67"/>
                  </a:cubicBezTo>
                  <a:cubicBezTo>
                    <a:pt x="3865" y="54"/>
                    <a:pt x="3855" y="41"/>
                    <a:pt x="3843" y="25"/>
                  </a:cubicBezTo>
                  <a:cubicBezTo>
                    <a:pt x="3855" y="42"/>
                    <a:pt x="3864" y="55"/>
                    <a:pt x="3870" y="68"/>
                  </a:cubicBezTo>
                  <a:cubicBezTo>
                    <a:pt x="3870" y="68"/>
                    <a:pt x="3869" y="69"/>
                    <a:pt x="3868" y="70"/>
                  </a:cubicBezTo>
                  <a:cubicBezTo>
                    <a:pt x="3868" y="68"/>
                    <a:pt x="3868" y="66"/>
                    <a:pt x="3868" y="66"/>
                  </a:cubicBezTo>
                  <a:cubicBezTo>
                    <a:pt x="3868" y="68"/>
                    <a:pt x="3868" y="69"/>
                    <a:pt x="3867" y="71"/>
                  </a:cubicBezTo>
                  <a:cubicBezTo>
                    <a:pt x="3867" y="71"/>
                    <a:pt x="3867" y="71"/>
                    <a:pt x="3867" y="71"/>
                  </a:cubicBezTo>
                  <a:cubicBezTo>
                    <a:pt x="3863" y="61"/>
                    <a:pt x="3856" y="52"/>
                    <a:pt x="3847" y="42"/>
                  </a:cubicBezTo>
                  <a:cubicBezTo>
                    <a:pt x="3854" y="55"/>
                    <a:pt x="3859" y="65"/>
                    <a:pt x="3863" y="75"/>
                  </a:cubicBezTo>
                  <a:cubicBezTo>
                    <a:pt x="3862" y="76"/>
                    <a:pt x="3861" y="77"/>
                    <a:pt x="3860" y="77"/>
                  </a:cubicBezTo>
                  <a:cubicBezTo>
                    <a:pt x="3858" y="73"/>
                    <a:pt x="3856" y="70"/>
                    <a:pt x="3854" y="68"/>
                  </a:cubicBezTo>
                  <a:cubicBezTo>
                    <a:pt x="3853" y="63"/>
                    <a:pt x="3853" y="60"/>
                    <a:pt x="3853" y="60"/>
                  </a:cubicBezTo>
                  <a:cubicBezTo>
                    <a:pt x="3853" y="62"/>
                    <a:pt x="3853" y="64"/>
                    <a:pt x="3853" y="67"/>
                  </a:cubicBezTo>
                  <a:cubicBezTo>
                    <a:pt x="3847" y="57"/>
                    <a:pt x="3839" y="47"/>
                    <a:pt x="3828" y="38"/>
                  </a:cubicBezTo>
                  <a:cubicBezTo>
                    <a:pt x="3838" y="49"/>
                    <a:pt x="3846" y="60"/>
                    <a:pt x="3852" y="71"/>
                  </a:cubicBezTo>
                  <a:cubicBezTo>
                    <a:pt x="3852" y="75"/>
                    <a:pt x="3852" y="80"/>
                    <a:pt x="3851" y="85"/>
                  </a:cubicBezTo>
                  <a:cubicBezTo>
                    <a:pt x="3851" y="84"/>
                    <a:pt x="3851" y="83"/>
                    <a:pt x="3850" y="83"/>
                  </a:cubicBezTo>
                  <a:cubicBezTo>
                    <a:pt x="3850" y="84"/>
                    <a:pt x="3851" y="85"/>
                    <a:pt x="3851" y="86"/>
                  </a:cubicBezTo>
                  <a:cubicBezTo>
                    <a:pt x="3851" y="87"/>
                    <a:pt x="3851" y="88"/>
                    <a:pt x="3851" y="89"/>
                  </a:cubicBezTo>
                  <a:cubicBezTo>
                    <a:pt x="3849" y="92"/>
                    <a:pt x="3848" y="94"/>
                    <a:pt x="3846" y="97"/>
                  </a:cubicBezTo>
                  <a:cubicBezTo>
                    <a:pt x="3846" y="93"/>
                    <a:pt x="3846" y="90"/>
                    <a:pt x="3846" y="87"/>
                  </a:cubicBezTo>
                  <a:cubicBezTo>
                    <a:pt x="3847" y="84"/>
                    <a:pt x="3848" y="82"/>
                    <a:pt x="3848" y="80"/>
                  </a:cubicBezTo>
                  <a:cubicBezTo>
                    <a:pt x="3849" y="81"/>
                    <a:pt x="3849" y="82"/>
                    <a:pt x="3850" y="83"/>
                  </a:cubicBezTo>
                  <a:cubicBezTo>
                    <a:pt x="3849" y="81"/>
                    <a:pt x="3849" y="80"/>
                    <a:pt x="3848" y="79"/>
                  </a:cubicBezTo>
                  <a:cubicBezTo>
                    <a:pt x="3849" y="79"/>
                    <a:pt x="3849" y="78"/>
                    <a:pt x="3849" y="77"/>
                  </a:cubicBezTo>
                  <a:cubicBezTo>
                    <a:pt x="3849" y="77"/>
                    <a:pt x="3848" y="78"/>
                    <a:pt x="3848" y="79"/>
                  </a:cubicBezTo>
                  <a:cubicBezTo>
                    <a:pt x="3847" y="77"/>
                    <a:pt x="3847" y="76"/>
                    <a:pt x="3846" y="75"/>
                  </a:cubicBezTo>
                  <a:cubicBezTo>
                    <a:pt x="3847" y="77"/>
                    <a:pt x="3847" y="78"/>
                    <a:pt x="3848" y="79"/>
                  </a:cubicBezTo>
                  <a:cubicBezTo>
                    <a:pt x="3847" y="80"/>
                    <a:pt x="3846" y="81"/>
                    <a:pt x="3846" y="82"/>
                  </a:cubicBezTo>
                  <a:cubicBezTo>
                    <a:pt x="3846" y="73"/>
                    <a:pt x="3846" y="68"/>
                    <a:pt x="3846" y="68"/>
                  </a:cubicBezTo>
                  <a:cubicBezTo>
                    <a:pt x="3845" y="72"/>
                    <a:pt x="3845" y="78"/>
                    <a:pt x="3844" y="85"/>
                  </a:cubicBezTo>
                  <a:cubicBezTo>
                    <a:pt x="3841" y="90"/>
                    <a:pt x="3839" y="94"/>
                    <a:pt x="3838" y="99"/>
                  </a:cubicBezTo>
                  <a:cubicBezTo>
                    <a:pt x="3837" y="98"/>
                    <a:pt x="3837" y="97"/>
                    <a:pt x="3837" y="96"/>
                  </a:cubicBezTo>
                  <a:cubicBezTo>
                    <a:pt x="3837" y="92"/>
                    <a:pt x="3838" y="89"/>
                    <a:pt x="3838" y="89"/>
                  </a:cubicBezTo>
                  <a:cubicBezTo>
                    <a:pt x="3838" y="91"/>
                    <a:pt x="3837" y="92"/>
                    <a:pt x="3837" y="94"/>
                  </a:cubicBezTo>
                  <a:cubicBezTo>
                    <a:pt x="3836" y="91"/>
                    <a:pt x="3835" y="88"/>
                    <a:pt x="3835" y="85"/>
                  </a:cubicBezTo>
                  <a:cubicBezTo>
                    <a:pt x="3834" y="88"/>
                    <a:pt x="3834" y="91"/>
                    <a:pt x="3834" y="94"/>
                  </a:cubicBezTo>
                  <a:cubicBezTo>
                    <a:pt x="3834" y="97"/>
                    <a:pt x="3834" y="100"/>
                    <a:pt x="3834" y="103"/>
                  </a:cubicBezTo>
                  <a:cubicBezTo>
                    <a:pt x="3833" y="107"/>
                    <a:pt x="3831" y="112"/>
                    <a:pt x="3830" y="116"/>
                  </a:cubicBezTo>
                  <a:cubicBezTo>
                    <a:pt x="3828" y="112"/>
                    <a:pt x="3827" y="108"/>
                    <a:pt x="3826" y="104"/>
                  </a:cubicBezTo>
                  <a:cubicBezTo>
                    <a:pt x="3827" y="109"/>
                    <a:pt x="3828" y="115"/>
                    <a:pt x="3828" y="120"/>
                  </a:cubicBezTo>
                  <a:cubicBezTo>
                    <a:pt x="3827" y="124"/>
                    <a:pt x="3825" y="127"/>
                    <a:pt x="3824" y="130"/>
                  </a:cubicBezTo>
                  <a:cubicBezTo>
                    <a:pt x="3823" y="128"/>
                    <a:pt x="3822" y="126"/>
                    <a:pt x="3822" y="123"/>
                  </a:cubicBezTo>
                  <a:cubicBezTo>
                    <a:pt x="3823" y="115"/>
                    <a:pt x="3825" y="106"/>
                    <a:pt x="3827" y="98"/>
                  </a:cubicBezTo>
                  <a:cubicBezTo>
                    <a:pt x="3828" y="98"/>
                    <a:pt x="3828" y="97"/>
                    <a:pt x="3828" y="96"/>
                  </a:cubicBezTo>
                  <a:cubicBezTo>
                    <a:pt x="3828" y="96"/>
                    <a:pt x="3828" y="97"/>
                    <a:pt x="3827" y="97"/>
                  </a:cubicBezTo>
                  <a:cubicBezTo>
                    <a:pt x="3830" y="86"/>
                    <a:pt x="3833" y="76"/>
                    <a:pt x="3833" y="76"/>
                  </a:cubicBezTo>
                  <a:cubicBezTo>
                    <a:pt x="3828" y="83"/>
                    <a:pt x="3822" y="96"/>
                    <a:pt x="3818" y="109"/>
                  </a:cubicBezTo>
                  <a:cubicBezTo>
                    <a:pt x="3818" y="107"/>
                    <a:pt x="3817" y="106"/>
                    <a:pt x="3817" y="104"/>
                  </a:cubicBezTo>
                  <a:cubicBezTo>
                    <a:pt x="3819" y="97"/>
                    <a:pt x="3822" y="90"/>
                    <a:pt x="3825" y="84"/>
                  </a:cubicBezTo>
                  <a:cubicBezTo>
                    <a:pt x="3822" y="90"/>
                    <a:pt x="3819" y="96"/>
                    <a:pt x="3817" y="102"/>
                  </a:cubicBezTo>
                  <a:cubicBezTo>
                    <a:pt x="3816" y="102"/>
                    <a:pt x="3816" y="101"/>
                    <a:pt x="3816" y="101"/>
                  </a:cubicBezTo>
                  <a:cubicBezTo>
                    <a:pt x="3818" y="77"/>
                    <a:pt x="3814" y="62"/>
                    <a:pt x="3814" y="62"/>
                  </a:cubicBezTo>
                  <a:cubicBezTo>
                    <a:pt x="3815" y="69"/>
                    <a:pt x="3815" y="80"/>
                    <a:pt x="3813" y="91"/>
                  </a:cubicBezTo>
                  <a:cubicBezTo>
                    <a:pt x="3813" y="89"/>
                    <a:pt x="3813" y="88"/>
                    <a:pt x="3812" y="87"/>
                  </a:cubicBezTo>
                  <a:cubicBezTo>
                    <a:pt x="3812" y="88"/>
                    <a:pt x="3812" y="88"/>
                    <a:pt x="3812" y="88"/>
                  </a:cubicBezTo>
                  <a:cubicBezTo>
                    <a:pt x="3812" y="90"/>
                    <a:pt x="3812" y="93"/>
                    <a:pt x="3813" y="96"/>
                  </a:cubicBezTo>
                  <a:cubicBezTo>
                    <a:pt x="3812" y="101"/>
                    <a:pt x="3812" y="105"/>
                    <a:pt x="3811" y="110"/>
                  </a:cubicBezTo>
                  <a:cubicBezTo>
                    <a:pt x="3810" y="109"/>
                    <a:pt x="3810" y="107"/>
                    <a:pt x="3809" y="106"/>
                  </a:cubicBezTo>
                  <a:cubicBezTo>
                    <a:pt x="3810" y="103"/>
                    <a:pt x="3810" y="99"/>
                    <a:pt x="3811" y="96"/>
                  </a:cubicBezTo>
                  <a:cubicBezTo>
                    <a:pt x="3810" y="98"/>
                    <a:pt x="3809" y="100"/>
                    <a:pt x="3808" y="103"/>
                  </a:cubicBezTo>
                  <a:cubicBezTo>
                    <a:pt x="3807" y="101"/>
                    <a:pt x="3806" y="99"/>
                    <a:pt x="3806" y="98"/>
                  </a:cubicBezTo>
                  <a:cubicBezTo>
                    <a:pt x="3806" y="89"/>
                    <a:pt x="3807" y="82"/>
                    <a:pt x="3807" y="82"/>
                  </a:cubicBezTo>
                  <a:cubicBezTo>
                    <a:pt x="3805" y="97"/>
                    <a:pt x="3805" y="97"/>
                    <a:pt x="3805" y="97"/>
                  </a:cubicBezTo>
                  <a:cubicBezTo>
                    <a:pt x="3804" y="94"/>
                    <a:pt x="3803" y="92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90"/>
                    <a:pt x="3802" y="90"/>
                    <a:pt x="3802" y="90"/>
                  </a:cubicBezTo>
                  <a:cubicBezTo>
                    <a:pt x="3802" y="89"/>
                    <a:pt x="3802" y="89"/>
                    <a:pt x="3801" y="88"/>
                  </a:cubicBezTo>
                  <a:cubicBezTo>
                    <a:pt x="3801" y="83"/>
                    <a:pt x="3801" y="78"/>
                    <a:pt x="3801" y="73"/>
                  </a:cubicBezTo>
                  <a:cubicBezTo>
                    <a:pt x="3804" y="70"/>
                    <a:pt x="3807" y="66"/>
                    <a:pt x="3810" y="63"/>
                  </a:cubicBezTo>
                  <a:cubicBezTo>
                    <a:pt x="3807" y="66"/>
                    <a:pt x="3804" y="69"/>
                    <a:pt x="3801" y="71"/>
                  </a:cubicBezTo>
                  <a:cubicBezTo>
                    <a:pt x="3801" y="65"/>
                    <a:pt x="3800" y="60"/>
                    <a:pt x="3800" y="60"/>
                  </a:cubicBezTo>
                  <a:cubicBezTo>
                    <a:pt x="3800" y="64"/>
                    <a:pt x="3800" y="68"/>
                    <a:pt x="3800" y="72"/>
                  </a:cubicBezTo>
                  <a:cubicBezTo>
                    <a:pt x="3798" y="74"/>
                    <a:pt x="3797" y="75"/>
                    <a:pt x="3796" y="77"/>
                  </a:cubicBezTo>
                  <a:cubicBezTo>
                    <a:pt x="3795" y="70"/>
                    <a:pt x="3795" y="64"/>
                    <a:pt x="3795" y="64"/>
                  </a:cubicBezTo>
                  <a:cubicBezTo>
                    <a:pt x="3795" y="66"/>
                    <a:pt x="3795" y="71"/>
                    <a:pt x="3794" y="78"/>
                  </a:cubicBezTo>
                  <a:cubicBezTo>
                    <a:pt x="3791" y="81"/>
                    <a:pt x="3789" y="85"/>
                    <a:pt x="3787" y="88"/>
                  </a:cubicBezTo>
                  <a:cubicBezTo>
                    <a:pt x="3787" y="64"/>
                    <a:pt x="3786" y="42"/>
                    <a:pt x="3786" y="42"/>
                  </a:cubicBezTo>
                  <a:cubicBezTo>
                    <a:pt x="3787" y="55"/>
                    <a:pt x="3784" y="77"/>
                    <a:pt x="3782" y="96"/>
                  </a:cubicBezTo>
                  <a:cubicBezTo>
                    <a:pt x="3780" y="100"/>
                    <a:pt x="3778" y="104"/>
                    <a:pt x="3777" y="107"/>
                  </a:cubicBezTo>
                  <a:cubicBezTo>
                    <a:pt x="3776" y="107"/>
                    <a:pt x="3776" y="106"/>
                    <a:pt x="3776" y="106"/>
                  </a:cubicBezTo>
                  <a:cubicBezTo>
                    <a:pt x="3777" y="87"/>
                    <a:pt x="3780" y="70"/>
                    <a:pt x="3780" y="70"/>
                  </a:cubicBezTo>
                  <a:cubicBezTo>
                    <a:pt x="3778" y="74"/>
                    <a:pt x="3775" y="98"/>
                    <a:pt x="3773" y="117"/>
                  </a:cubicBezTo>
                  <a:cubicBezTo>
                    <a:pt x="3773" y="118"/>
                    <a:pt x="3773" y="119"/>
                    <a:pt x="3773" y="120"/>
                  </a:cubicBezTo>
                  <a:cubicBezTo>
                    <a:pt x="3773" y="119"/>
                    <a:pt x="3773" y="119"/>
                    <a:pt x="3773" y="118"/>
                  </a:cubicBezTo>
                  <a:cubicBezTo>
                    <a:pt x="3773" y="119"/>
                    <a:pt x="3773" y="119"/>
                    <a:pt x="3773" y="120"/>
                  </a:cubicBezTo>
                  <a:cubicBezTo>
                    <a:pt x="3772" y="121"/>
                    <a:pt x="3772" y="121"/>
                    <a:pt x="3772" y="122"/>
                  </a:cubicBezTo>
                  <a:cubicBezTo>
                    <a:pt x="3772" y="115"/>
                    <a:pt x="3772" y="108"/>
                    <a:pt x="3772" y="101"/>
                  </a:cubicBezTo>
                  <a:cubicBezTo>
                    <a:pt x="3772" y="101"/>
                    <a:pt x="3772" y="100"/>
                    <a:pt x="3772" y="100"/>
                  </a:cubicBezTo>
                  <a:cubicBezTo>
                    <a:pt x="3772" y="100"/>
                    <a:pt x="3772" y="101"/>
                    <a:pt x="3772" y="101"/>
                  </a:cubicBezTo>
                  <a:cubicBezTo>
                    <a:pt x="3772" y="98"/>
                    <a:pt x="3772" y="94"/>
                    <a:pt x="3771" y="91"/>
                  </a:cubicBezTo>
                  <a:cubicBezTo>
                    <a:pt x="3773" y="88"/>
                    <a:pt x="3775" y="85"/>
                    <a:pt x="3777" y="83"/>
                  </a:cubicBezTo>
                  <a:cubicBezTo>
                    <a:pt x="3775" y="85"/>
                    <a:pt x="3773" y="87"/>
                    <a:pt x="3771" y="90"/>
                  </a:cubicBezTo>
                  <a:cubicBezTo>
                    <a:pt x="3771" y="79"/>
                    <a:pt x="3770" y="69"/>
                    <a:pt x="3770" y="61"/>
                  </a:cubicBezTo>
                  <a:cubicBezTo>
                    <a:pt x="3769" y="73"/>
                    <a:pt x="3767" y="87"/>
                    <a:pt x="3765" y="100"/>
                  </a:cubicBezTo>
                  <a:cubicBezTo>
                    <a:pt x="3761" y="107"/>
                    <a:pt x="3758" y="115"/>
                    <a:pt x="3756" y="123"/>
                  </a:cubicBezTo>
                  <a:cubicBezTo>
                    <a:pt x="3757" y="109"/>
                    <a:pt x="3758" y="92"/>
                    <a:pt x="3759" y="80"/>
                  </a:cubicBezTo>
                  <a:cubicBezTo>
                    <a:pt x="3761" y="73"/>
                    <a:pt x="3762" y="67"/>
                    <a:pt x="3762" y="61"/>
                  </a:cubicBezTo>
                  <a:cubicBezTo>
                    <a:pt x="3762" y="60"/>
                    <a:pt x="3762" y="60"/>
                    <a:pt x="3762" y="60"/>
                  </a:cubicBezTo>
                  <a:cubicBezTo>
                    <a:pt x="3753" y="75"/>
                    <a:pt x="3749" y="88"/>
                    <a:pt x="3747" y="102"/>
                  </a:cubicBezTo>
                  <a:cubicBezTo>
                    <a:pt x="3747" y="102"/>
                    <a:pt x="3747" y="101"/>
                    <a:pt x="3747" y="101"/>
                  </a:cubicBezTo>
                  <a:cubicBezTo>
                    <a:pt x="3748" y="68"/>
                    <a:pt x="3751" y="30"/>
                    <a:pt x="3751" y="30"/>
                  </a:cubicBezTo>
                  <a:cubicBezTo>
                    <a:pt x="3748" y="38"/>
                    <a:pt x="3746" y="60"/>
                    <a:pt x="3743" y="83"/>
                  </a:cubicBezTo>
                  <a:cubicBezTo>
                    <a:pt x="3741" y="87"/>
                    <a:pt x="3738" y="92"/>
                    <a:pt x="3736" y="97"/>
                  </a:cubicBezTo>
                  <a:cubicBezTo>
                    <a:pt x="3736" y="91"/>
                    <a:pt x="3735" y="85"/>
                    <a:pt x="3735" y="79"/>
                  </a:cubicBezTo>
                  <a:cubicBezTo>
                    <a:pt x="3735" y="78"/>
                    <a:pt x="3735" y="78"/>
                    <a:pt x="3736" y="78"/>
                  </a:cubicBezTo>
                  <a:cubicBezTo>
                    <a:pt x="3735" y="78"/>
                    <a:pt x="3735" y="78"/>
                    <a:pt x="3735" y="78"/>
                  </a:cubicBezTo>
                  <a:cubicBezTo>
                    <a:pt x="3733" y="58"/>
                    <a:pt x="3732" y="41"/>
                    <a:pt x="3732" y="41"/>
                  </a:cubicBezTo>
                  <a:cubicBezTo>
                    <a:pt x="3733" y="52"/>
                    <a:pt x="3733" y="67"/>
                    <a:pt x="3732" y="82"/>
                  </a:cubicBezTo>
                  <a:cubicBezTo>
                    <a:pt x="3730" y="84"/>
                    <a:pt x="3728" y="87"/>
                    <a:pt x="3726" y="92"/>
                  </a:cubicBezTo>
                  <a:cubicBezTo>
                    <a:pt x="3725" y="82"/>
                    <a:pt x="3726" y="72"/>
                    <a:pt x="3726" y="68"/>
                  </a:cubicBezTo>
                  <a:cubicBezTo>
                    <a:pt x="3725" y="77"/>
                    <a:pt x="3724" y="88"/>
                    <a:pt x="3722" y="99"/>
                  </a:cubicBezTo>
                  <a:cubicBezTo>
                    <a:pt x="3720" y="94"/>
                    <a:pt x="3719" y="89"/>
                    <a:pt x="3717" y="84"/>
                  </a:cubicBezTo>
                  <a:cubicBezTo>
                    <a:pt x="3719" y="90"/>
                    <a:pt x="3720" y="96"/>
                    <a:pt x="3721" y="101"/>
                  </a:cubicBezTo>
                  <a:cubicBezTo>
                    <a:pt x="3721" y="105"/>
                    <a:pt x="3720" y="109"/>
                    <a:pt x="3719" y="113"/>
                  </a:cubicBezTo>
                  <a:cubicBezTo>
                    <a:pt x="3719" y="110"/>
                    <a:pt x="3719" y="108"/>
                    <a:pt x="3719" y="105"/>
                  </a:cubicBezTo>
                  <a:cubicBezTo>
                    <a:pt x="3718" y="108"/>
                    <a:pt x="3718" y="115"/>
                    <a:pt x="3718" y="119"/>
                  </a:cubicBezTo>
                  <a:cubicBezTo>
                    <a:pt x="3717" y="120"/>
                    <a:pt x="3717" y="122"/>
                    <a:pt x="3717" y="124"/>
                  </a:cubicBezTo>
                  <a:cubicBezTo>
                    <a:pt x="3716" y="125"/>
                    <a:pt x="3716" y="127"/>
                    <a:pt x="3716" y="128"/>
                  </a:cubicBezTo>
                  <a:cubicBezTo>
                    <a:pt x="3715" y="124"/>
                    <a:pt x="3714" y="120"/>
                    <a:pt x="3713" y="116"/>
                  </a:cubicBezTo>
                  <a:cubicBezTo>
                    <a:pt x="3714" y="108"/>
                    <a:pt x="3714" y="100"/>
                    <a:pt x="3715" y="94"/>
                  </a:cubicBezTo>
                  <a:cubicBezTo>
                    <a:pt x="3716" y="92"/>
                    <a:pt x="3716" y="91"/>
                    <a:pt x="3717" y="89"/>
                  </a:cubicBezTo>
                  <a:cubicBezTo>
                    <a:pt x="3716" y="90"/>
                    <a:pt x="3716" y="91"/>
                    <a:pt x="3715" y="92"/>
                  </a:cubicBezTo>
                  <a:cubicBezTo>
                    <a:pt x="3716" y="87"/>
                    <a:pt x="3716" y="83"/>
                    <a:pt x="3716" y="83"/>
                  </a:cubicBezTo>
                  <a:cubicBezTo>
                    <a:pt x="3716" y="85"/>
                    <a:pt x="3715" y="89"/>
                    <a:pt x="3714" y="93"/>
                  </a:cubicBezTo>
                  <a:cubicBezTo>
                    <a:pt x="3713" y="96"/>
                    <a:pt x="3711" y="99"/>
                    <a:pt x="3710" y="102"/>
                  </a:cubicBezTo>
                  <a:cubicBezTo>
                    <a:pt x="3709" y="101"/>
                    <a:pt x="3709" y="100"/>
                    <a:pt x="3709" y="99"/>
                  </a:cubicBezTo>
                  <a:cubicBezTo>
                    <a:pt x="3711" y="80"/>
                    <a:pt x="3713" y="62"/>
                    <a:pt x="3713" y="62"/>
                  </a:cubicBezTo>
                  <a:cubicBezTo>
                    <a:pt x="3711" y="66"/>
                    <a:pt x="3709" y="80"/>
                    <a:pt x="3707" y="95"/>
                  </a:cubicBezTo>
                  <a:cubicBezTo>
                    <a:pt x="3707" y="94"/>
                    <a:pt x="3706" y="92"/>
                    <a:pt x="3705" y="90"/>
                  </a:cubicBezTo>
                  <a:cubicBezTo>
                    <a:pt x="3706" y="92"/>
                    <a:pt x="3707" y="94"/>
                    <a:pt x="3707" y="96"/>
                  </a:cubicBezTo>
                  <a:cubicBezTo>
                    <a:pt x="3707" y="101"/>
                    <a:pt x="3706" y="106"/>
                    <a:pt x="3706" y="110"/>
                  </a:cubicBezTo>
                  <a:cubicBezTo>
                    <a:pt x="3705" y="113"/>
                    <a:pt x="3704" y="116"/>
                    <a:pt x="3703" y="118"/>
                  </a:cubicBezTo>
                  <a:cubicBezTo>
                    <a:pt x="3701" y="94"/>
                    <a:pt x="3696" y="64"/>
                    <a:pt x="3696" y="64"/>
                  </a:cubicBezTo>
                  <a:cubicBezTo>
                    <a:pt x="3696" y="64"/>
                    <a:pt x="3696" y="73"/>
                    <a:pt x="3697" y="82"/>
                  </a:cubicBezTo>
                  <a:cubicBezTo>
                    <a:pt x="3698" y="88"/>
                    <a:pt x="3697" y="98"/>
                    <a:pt x="3695" y="108"/>
                  </a:cubicBezTo>
                  <a:cubicBezTo>
                    <a:pt x="3694" y="111"/>
                    <a:pt x="3693" y="114"/>
                    <a:pt x="3692" y="117"/>
                  </a:cubicBezTo>
                  <a:cubicBezTo>
                    <a:pt x="3692" y="108"/>
                    <a:pt x="3691" y="99"/>
                    <a:pt x="3689" y="90"/>
                  </a:cubicBezTo>
                  <a:cubicBezTo>
                    <a:pt x="3692" y="78"/>
                    <a:pt x="3697" y="66"/>
                    <a:pt x="3696" y="56"/>
                  </a:cubicBezTo>
                  <a:cubicBezTo>
                    <a:pt x="3693" y="62"/>
                    <a:pt x="3690" y="67"/>
                    <a:pt x="3688" y="72"/>
                  </a:cubicBezTo>
                  <a:cubicBezTo>
                    <a:pt x="3691" y="34"/>
                    <a:pt x="3684" y="19"/>
                    <a:pt x="3684" y="19"/>
                  </a:cubicBezTo>
                  <a:cubicBezTo>
                    <a:pt x="3684" y="19"/>
                    <a:pt x="3687" y="31"/>
                    <a:pt x="3686" y="54"/>
                  </a:cubicBezTo>
                  <a:cubicBezTo>
                    <a:pt x="3685" y="61"/>
                    <a:pt x="3684" y="74"/>
                    <a:pt x="3682" y="88"/>
                  </a:cubicBezTo>
                  <a:cubicBezTo>
                    <a:pt x="3681" y="92"/>
                    <a:pt x="3680" y="97"/>
                    <a:pt x="3680" y="101"/>
                  </a:cubicBezTo>
                  <a:cubicBezTo>
                    <a:pt x="3679" y="98"/>
                    <a:pt x="3678" y="95"/>
                    <a:pt x="3676" y="91"/>
                  </a:cubicBezTo>
                  <a:cubicBezTo>
                    <a:pt x="3677" y="89"/>
                    <a:pt x="3677" y="87"/>
                    <a:pt x="3678" y="85"/>
                  </a:cubicBezTo>
                  <a:cubicBezTo>
                    <a:pt x="3677" y="87"/>
                    <a:pt x="3677" y="88"/>
                    <a:pt x="3676" y="90"/>
                  </a:cubicBezTo>
                  <a:cubicBezTo>
                    <a:pt x="3676" y="89"/>
                    <a:pt x="3675" y="88"/>
                    <a:pt x="3675" y="87"/>
                  </a:cubicBezTo>
                  <a:cubicBezTo>
                    <a:pt x="3675" y="83"/>
                    <a:pt x="3675" y="78"/>
                    <a:pt x="3675" y="74"/>
                  </a:cubicBezTo>
                  <a:cubicBezTo>
                    <a:pt x="3675" y="46"/>
                    <a:pt x="3665" y="40"/>
                    <a:pt x="3665" y="40"/>
                  </a:cubicBezTo>
                  <a:cubicBezTo>
                    <a:pt x="3665" y="40"/>
                    <a:pt x="3671" y="44"/>
                    <a:pt x="3671" y="70"/>
                  </a:cubicBezTo>
                  <a:cubicBezTo>
                    <a:pt x="3671" y="84"/>
                    <a:pt x="3666" y="108"/>
                    <a:pt x="3661" y="125"/>
                  </a:cubicBezTo>
                  <a:cubicBezTo>
                    <a:pt x="3661" y="123"/>
                    <a:pt x="3661" y="120"/>
                    <a:pt x="3660" y="118"/>
                  </a:cubicBezTo>
                  <a:cubicBezTo>
                    <a:pt x="3661" y="111"/>
                    <a:pt x="3662" y="105"/>
                    <a:pt x="3662" y="98"/>
                  </a:cubicBezTo>
                  <a:cubicBezTo>
                    <a:pt x="3661" y="101"/>
                    <a:pt x="3660" y="104"/>
                    <a:pt x="3660" y="107"/>
                  </a:cubicBezTo>
                  <a:cubicBezTo>
                    <a:pt x="3660" y="107"/>
                    <a:pt x="3660" y="106"/>
                    <a:pt x="3660" y="106"/>
                  </a:cubicBezTo>
                  <a:cubicBezTo>
                    <a:pt x="3660" y="97"/>
                    <a:pt x="3661" y="83"/>
                    <a:pt x="3667" y="75"/>
                  </a:cubicBezTo>
                  <a:cubicBezTo>
                    <a:pt x="3664" y="77"/>
                    <a:pt x="3661" y="82"/>
                    <a:pt x="3659" y="87"/>
                  </a:cubicBezTo>
                  <a:cubicBezTo>
                    <a:pt x="3660" y="78"/>
                    <a:pt x="3660" y="71"/>
                    <a:pt x="3660" y="71"/>
                  </a:cubicBezTo>
                  <a:cubicBezTo>
                    <a:pt x="3659" y="75"/>
                    <a:pt x="3656" y="97"/>
                    <a:pt x="3652" y="116"/>
                  </a:cubicBezTo>
                  <a:cubicBezTo>
                    <a:pt x="3652" y="114"/>
                    <a:pt x="3652" y="112"/>
                    <a:pt x="3651" y="110"/>
                  </a:cubicBezTo>
                  <a:cubicBezTo>
                    <a:pt x="3652" y="99"/>
                    <a:pt x="3653" y="87"/>
                    <a:pt x="3654" y="78"/>
                  </a:cubicBezTo>
                  <a:cubicBezTo>
                    <a:pt x="3656" y="71"/>
                    <a:pt x="3658" y="63"/>
                    <a:pt x="3660" y="55"/>
                  </a:cubicBezTo>
                  <a:cubicBezTo>
                    <a:pt x="3660" y="54"/>
                    <a:pt x="3660" y="52"/>
                    <a:pt x="3660" y="51"/>
                  </a:cubicBezTo>
                  <a:cubicBezTo>
                    <a:pt x="3658" y="54"/>
                    <a:pt x="3657" y="57"/>
                    <a:pt x="3656" y="60"/>
                  </a:cubicBezTo>
                  <a:cubicBezTo>
                    <a:pt x="3656" y="60"/>
                    <a:pt x="3656" y="59"/>
                    <a:pt x="3656" y="59"/>
                  </a:cubicBezTo>
                  <a:cubicBezTo>
                    <a:pt x="3656" y="60"/>
                    <a:pt x="3656" y="60"/>
                    <a:pt x="3656" y="60"/>
                  </a:cubicBezTo>
                  <a:cubicBezTo>
                    <a:pt x="3652" y="70"/>
                    <a:pt x="3649" y="80"/>
                    <a:pt x="3646" y="89"/>
                  </a:cubicBezTo>
                  <a:cubicBezTo>
                    <a:pt x="3652" y="30"/>
                    <a:pt x="3649" y="15"/>
                    <a:pt x="3648" y="13"/>
                  </a:cubicBezTo>
                  <a:cubicBezTo>
                    <a:pt x="3648" y="15"/>
                    <a:pt x="3649" y="22"/>
                    <a:pt x="3645" y="56"/>
                  </a:cubicBezTo>
                  <a:cubicBezTo>
                    <a:pt x="3643" y="68"/>
                    <a:pt x="3642" y="80"/>
                    <a:pt x="3640" y="91"/>
                  </a:cubicBezTo>
                  <a:cubicBezTo>
                    <a:pt x="3639" y="85"/>
                    <a:pt x="3637" y="79"/>
                    <a:pt x="3635" y="74"/>
                  </a:cubicBezTo>
                  <a:cubicBezTo>
                    <a:pt x="3636" y="51"/>
                    <a:pt x="3637" y="31"/>
                    <a:pt x="3637" y="31"/>
                  </a:cubicBezTo>
                  <a:cubicBezTo>
                    <a:pt x="3635" y="38"/>
                    <a:pt x="3633" y="53"/>
                    <a:pt x="3632" y="69"/>
                  </a:cubicBezTo>
                  <a:cubicBezTo>
                    <a:pt x="3631" y="68"/>
                    <a:pt x="3630" y="67"/>
                    <a:pt x="3629" y="65"/>
                  </a:cubicBezTo>
                  <a:cubicBezTo>
                    <a:pt x="3630" y="67"/>
                    <a:pt x="3631" y="69"/>
                    <a:pt x="3632" y="71"/>
                  </a:cubicBezTo>
                  <a:cubicBezTo>
                    <a:pt x="3632" y="71"/>
                    <a:pt x="3632" y="72"/>
                    <a:pt x="3632" y="73"/>
                  </a:cubicBezTo>
                  <a:cubicBezTo>
                    <a:pt x="3629" y="77"/>
                    <a:pt x="3626" y="81"/>
                    <a:pt x="3624" y="86"/>
                  </a:cubicBezTo>
                  <a:cubicBezTo>
                    <a:pt x="3623" y="85"/>
                    <a:pt x="3623" y="84"/>
                    <a:pt x="3622" y="83"/>
                  </a:cubicBezTo>
                  <a:cubicBezTo>
                    <a:pt x="3619" y="61"/>
                    <a:pt x="3617" y="38"/>
                    <a:pt x="3614" y="28"/>
                  </a:cubicBezTo>
                  <a:cubicBezTo>
                    <a:pt x="3614" y="28"/>
                    <a:pt x="3617" y="54"/>
                    <a:pt x="3621" y="83"/>
                  </a:cubicBezTo>
                  <a:cubicBezTo>
                    <a:pt x="3620" y="82"/>
                    <a:pt x="3619" y="81"/>
                    <a:pt x="3618" y="80"/>
                  </a:cubicBezTo>
                  <a:cubicBezTo>
                    <a:pt x="3620" y="81"/>
                    <a:pt x="3621" y="82"/>
                    <a:pt x="3622" y="84"/>
                  </a:cubicBezTo>
                  <a:cubicBezTo>
                    <a:pt x="3622" y="85"/>
                    <a:pt x="3622" y="86"/>
                    <a:pt x="3622" y="88"/>
                  </a:cubicBezTo>
                  <a:cubicBezTo>
                    <a:pt x="3622" y="86"/>
                    <a:pt x="3622" y="85"/>
                    <a:pt x="3622" y="84"/>
                  </a:cubicBezTo>
                  <a:cubicBezTo>
                    <a:pt x="3622" y="85"/>
                    <a:pt x="3623" y="86"/>
                    <a:pt x="3624" y="87"/>
                  </a:cubicBezTo>
                  <a:cubicBezTo>
                    <a:pt x="3623" y="88"/>
                    <a:pt x="3623" y="89"/>
                    <a:pt x="3622" y="90"/>
                  </a:cubicBezTo>
                  <a:cubicBezTo>
                    <a:pt x="3622" y="89"/>
                    <a:pt x="3622" y="88"/>
                    <a:pt x="3622" y="88"/>
                  </a:cubicBezTo>
                  <a:cubicBezTo>
                    <a:pt x="3622" y="88"/>
                    <a:pt x="3622" y="89"/>
                    <a:pt x="3622" y="90"/>
                  </a:cubicBezTo>
                  <a:cubicBezTo>
                    <a:pt x="3620" y="95"/>
                    <a:pt x="3619" y="100"/>
                    <a:pt x="3617" y="105"/>
                  </a:cubicBezTo>
                  <a:cubicBezTo>
                    <a:pt x="3617" y="105"/>
                    <a:pt x="3617" y="105"/>
                    <a:pt x="3617" y="105"/>
                  </a:cubicBezTo>
                  <a:cubicBezTo>
                    <a:pt x="3617" y="104"/>
                    <a:pt x="3617" y="104"/>
                    <a:pt x="3617" y="103"/>
                  </a:cubicBezTo>
                  <a:cubicBezTo>
                    <a:pt x="3617" y="104"/>
                    <a:pt x="3617" y="104"/>
                    <a:pt x="3617" y="105"/>
                  </a:cubicBezTo>
                  <a:cubicBezTo>
                    <a:pt x="3614" y="95"/>
                    <a:pt x="3612" y="87"/>
                    <a:pt x="3610" y="81"/>
                  </a:cubicBezTo>
                  <a:cubicBezTo>
                    <a:pt x="3611" y="85"/>
                    <a:pt x="3612" y="90"/>
                    <a:pt x="3613" y="95"/>
                  </a:cubicBezTo>
                  <a:cubicBezTo>
                    <a:pt x="3613" y="100"/>
                    <a:pt x="3612" y="104"/>
                    <a:pt x="3611" y="109"/>
                  </a:cubicBezTo>
                  <a:cubicBezTo>
                    <a:pt x="3612" y="104"/>
                    <a:pt x="3613" y="100"/>
                    <a:pt x="3613" y="95"/>
                  </a:cubicBezTo>
                  <a:cubicBezTo>
                    <a:pt x="3614" y="100"/>
                    <a:pt x="3615" y="105"/>
                    <a:pt x="3616" y="110"/>
                  </a:cubicBezTo>
                  <a:cubicBezTo>
                    <a:pt x="3616" y="110"/>
                    <a:pt x="3616" y="111"/>
                    <a:pt x="3616" y="111"/>
                  </a:cubicBezTo>
                  <a:cubicBezTo>
                    <a:pt x="3615" y="116"/>
                    <a:pt x="3613" y="122"/>
                    <a:pt x="3610" y="127"/>
                  </a:cubicBezTo>
                  <a:cubicBezTo>
                    <a:pt x="3610" y="125"/>
                    <a:pt x="3609" y="123"/>
                    <a:pt x="3609" y="120"/>
                  </a:cubicBezTo>
                  <a:cubicBezTo>
                    <a:pt x="3610" y="117"/>
                    <a:pt x="3611" y="113"/>
                    <a:pt x="3611" y="109"/>
                  </a:cubicBezTo>
                  <a:cubicBezTo>
                    <a:pt x="3611" y="112"/>
                    <a:pt x="3610" y="116"/>
                    <a:pt x="3609" y="119"/>
                  </a:cubicBezTo>
                  <a:cubicBezTo>
                    <a:pt x="3607" y="111"/>
                    <a:pt x="3605" y="103"/>
                    <a:pt x="3605" y="95"/>
                  </a:cubicBezTo>
                  <a:cubicBezTo>
                    <a:pt x="3605" y="96"/>
                    <a:pt x="3605" y="96"/>
                    <a:pt x="3605" y="96"/>
                  </a:cubicBezTo>
                  <a:cubicBezTo>
                    <a:pt x="3605" y="98"/>
                    <a:pt x="3605" y="98"/>
                    <a:pt x="3605" y="98"/>
                  </a:cubicBezTo>
                  <a:cubicBezTo>
                    <a:pt x="3605" y="97"/>
                    <a:pt x="3605" y="96"/>
                    <a:pt x="3605" y="95"/>
                  </a:cubicBezTo>
                  <a:cubicBezTo>
                    <a:pt x="3605" y="84"/>
                    <a:pt x="3603" y="69"/>
                    <a:pt x="3597" y="60"/>
                  </a:cubicBezTo>
                  <a:cubicBezTo>
                    <a:pt x="3601" y="70"/>
                    <a:pt x="3603" y="82"/>
                    <a:pt x="3603" y="93"/>
                  </a:cubicBezTo>
                  <a:cubicBezTo>
                    <a:pt x="3603" y="101"/>
                    <a:pt x="3601" y="109"/>
                    <a:pt x="3599" y="116"/>
                  </a:cubicBezTo>
                  <a:cubicBezTo>
                    <a:pt x="3597" y="115"/>
                    <a:pt x="3597" y="117"/>
                    <a:pt x="3598" y="120"/>
                  </a:cubicBezTo>
                  <a:cubicBezTo>
                    <a:pt x="3598" y="121"/>
                    <a:pt x="3597" y="121"/>
                    <a:pt x="3597" y="122"/>
                  </a:cubicBezTo>
                  <a:cubicBezTo>
                    <a:pt x="3596" y="119"/>
                    <a:pt x="3595" y="115"/>
                    <a:pt x="3594" y="112"/>
                  </a:cubicBezTo>
                  <a:cubicBezTo>
                    <a:pt x="3595" y="107"/>
                    <a:pt x="3595" y="103"/>
                    <a:pt x="3595" y="98"/>
                  </a:cubicBezTo>
                  <a:cubicBezTo>
                    <a:pt x="3595" y="90"/>
                    <a:pt x="3594" y="82"/>
                    <a:pt x="3592" y="74"/>
                  </a:cubicBezTo>
                  <a:cubicBezTo>
                    <a:pt x="3591" y="83"/>
                    <a:pt x="3591" y="93"/>
                    <a:pt x="3591" y="102"/>
                  </a:cubicBezTo>
                  <a:cubicBezTo>
                    <a:pt x="3588" y="94"/>
                    <a:pt x="3585" y="86"/>
                    <a:pt x="3583" y="81"/>
                  </a:cubicBezTo>
                  <a:cubicBezTo>
                    <a:pt x="3583" y="86"/>
                    <a:pt x="3583" y="86"/>
                    <a:pt x="3583" y="86"/>
                  </a:cubicBezTo>
                  <a:cubicBezTo>
                    <a:pt x="3583" y="97"/>
                    <a:pt x="3586" y="108"/>
                    <a:pt x="3590" y="118"/>
                  </a:cubicBezTo>
                  <a:cubicBezTo>
                    <a:pt x="3589" y="119"/>
                    <a:pt x="3589" y="120"/>
                    <a:pt x="3589" y="121"/>
                  </a:cubicBezTo>
                  <a:cubicBezTo>
                    <a:pt x="3589" y="123"/>
                    <a:pt x="3588" y="126"/>
                    <a:pt x="3587" y="128"/>
                  </a:cubicBezTo>
                  <a:cubicBezTo>
                    <a:pt x="3584" y="121"/>
                    <a:pt x="3582" y="113"/>
                    <a:pt x="3580" y="106"/>
                  </a:cubicBezTo>
                  <a:cubicBezTo>
                    <a:pt x="3580" y="101"/>
                    <a:pt x="3579" y="96"/>
                    <a:pt x="3578" y="92"/>
                  </a:cubicBezTo>
                  <a:cubicBezTo>
                    <a:pt x="3578" y="91"/>
                    <a:pt x="3578" y="90"/>
                    <a:pt x="3578" y="89"/>
                  </a:cubicBezTo>
                  <a:cubicBezTo>
                    <a:pt x="3578" y="90"/>
                    <a:pt x="3578" y="90"/>
                    <a:pt x="3578" y="91"/>
                  </a:cubicBezTo>
                  <a:cubicBezTo>
                    <a:pt x="3577" y="85"/>
                    <a:pt x="3575" y="79"/>
                    <a:pt x="3572" y="73"/>
                  </a:cubicBezTo>
                  <a:cubicBezTo>
                    <a:pt x="3572" y="72"/>
                    <a:pt x="3572" y="72"/>
                    <a:pt x="3572" y="71"/>
                  </a:cubicBezTo>
                  <a:cubicBezTo>
                    <a:pt x="3572" y="71"/>
                    <a:pt x="3571" y="72"/>
                    <a:pt x="3571" y="73"/>
                  </a:cubicBezTo>
                  <a:cubicBezTo>
                    <a:pt x="3571" y="72"/>
                    <a:pt x="3571" y="71"/>
                    <a:pt x="3570" y="71"/>
                  </a:cubicBezTo>
                  <a:cubicBezTo>
                    <a:pt x="3570" y="72"/>
                    <a:pt x="3571" y="73"/>
                    <a:pt x="3571" y="73"/>
                  </a:cubicBezTo>
                  <a:cubicBezTo>
                    <a:pt x="3568" y="79"/>
                    <a:pt x="3566" y="85"/>
                    <a:pt x="3564" y="91"/>
                  </a:cubicBezTo>
                  <a:cubicBezTo>
                    <a:pt x="3564" y="90"/>
                    <a:pt x="3564" y="90"/>
                    <a:pt x="3564" y="89"/>
                  </a:cubicBezTo>
                  <a:cubicBezTo>
                    <a:pt x="3564" y="90"/>
                    <a:pt x="3564" y="91"/>
                    <a:pt x="3564" y="92"/>
                  </a:cubicBezTo>
                  <a:cubicBezTo>
                    <a:pt x="3563" y="96"/>
                    <a:pt x="3563" y="101"/>
                    <a:pt x="3562" y="106"/>
                  </a:cubicBezTo>
                  <a:cubicBezTo>
                    <a:pt x="3561" y="113"/>
                    <a:pt x="3558" y="121"/>
                    <a:pt x="3555" y="128"/>
                  </a:cubicBezTo>
                  <a:cubicBezTo>
                    <a:pt x="3554" y="126"/>
                    <a:pt x="3554" y="123"/>
                    <a:pt x="3553" y="121"/>
                  </a:cubicBezTo>
                  <a:cubicBezTo>
                    <a:pt x="3553" y="120"/>
                    <a:pt x="3553" y="119"/>
                    <a:pt x="3553" y="118"/>
                  </a:cubicBezTo>
                  <a:cubicBezTo>
                    <a:pt x="3556" y="108"/>
                    <a:pt x="3559" y="97"/>
                    <a:pt x="3559" y="86"/>
                  </a:cubicBezTo>
                  <a:cubicBezTo>
                    <a:pt x="3559" y="81"/>
                    <a:pt x="3559" y="81"/>
                    <a:pt x="3559" y="81"/>
                  </a:cubicBezTo>
                  <a:cubicBezTo>
                    <a:pt x="3557" y="86"/>
                    <a:pt x="3554" y="94"/>
                    <a:pt x="3551" y="102"/>
                  </a:cubicBezTo>
                  <a:cubicBezTo>
                    <a:pt x="3551" y="93"/>
                    <a:pt x="3551" y="83"/>
                    <a:pt x="3550" y="74"/>
                  </a:cubicBezTo>
                  <a:cubicBezTo>
                    <a:pt x="3548" y="82"/>
                    <a:pt x="3547" y="90"/>
                    <a:pt x="3547" y="98"/>
                  </a:cubicBezTo>
                  <a:cubicBezTo>
                    <a:pt x="3547" y="103"/>
                    <a:pt x="3548" y="107"/>
                    <a:pt x="3548" y="112"/>
                  </a:cubicBezTo>
                  <a:cubicBezTo>
                    <a:pt x="3547" y="115"/>
                    <a:pt x="3546" y="119"/>
                    <a:pt x="3545" y="122"/>
                  </a:cubicBezTo>
                  <a:cubicBezTo>
                    <a:pt x="3542" y="112"/>
                    <a:pt x="3539" y="103"/>
                    <a:pt x="3539" y="93"/>
                  </a:cubicBezTo>
                  <a:cubicBezTo>
                    <a:pt x="3539" y="82"/>
                    <a:pt x="3541" y="70"/>
                    <a:pt x="3545" y="60"/>
                  </a:cubicBezTo>
                  <a:cubicBezTo>
                    <a:pt x="3540" y="69"/>
                    <a:pt x="3538" y="84"/>
                    <a:pt x="3538" y="95"/>
                  </a:cubicBezTo>
                  <a:cubicBezTo>
                    <a:pt x="3538" y="96"/>
                    <a:pt x="3538" y="97"/>
                    <a:pt x="3538" y="98"/>
                  </a:cubicBezTo>
                  <a:cubicBezTo>
                    <a:pt x="3537" y="96"/>
                    <a:pt x="3537" y="96"/>
                    <a:pt x="3537" y="96"/>
                  </a:cubicBezTo>
                  <a:cubicBezTo>
                    <a:pt x="3537" y="95"/>
                    <a:pt x="3537" y="95"/>
                    <a:pt x="3537" y="95"/>
                  </a:cubicBezTo>
                  <a:cubicBezTo>
                    <a:pt x="3537" y="103"/>
                    <a:pt x="3536" y="111"/>
                    <a:pt x="3534" y="119"/>
                  </a:cubicBezTo>
                  <a:cubicBezTo>
                    <a:pt x="3533" y="116"/>
                    <a:pt x="3532" y="112"/>
                    <a:pt x="3531" y="109"/>
                  </a:cubicBezTo>
                  <a:cubicBezTo>
                    <a:pt x="3532" y="113"/>
                    <a:pt x="3533" y="117"/>
                    <a:pt x="3533" y="120"/>
                  </a:cubicBezTo>
                  <a:cubicBezTo>
                    <a:pt x="3533" y="123"/>
                    <a:pt x="3532" y="125"/>
                    <a:pt x="3532" y="127"/>
                  </a:cubicBezTo>
                  <a:cubicBezTo>
                    <a:pt x="3530" y="122"/>
                    <a:pt x="3528" y="116"/>
                    <a:pt x="3526" y="111"/>
                  </a:cubicBezTo>
                  <a:cubicBezTo>
                    <a:pt x="3526" y="109"/>
                    <a:pt x="3526" y="108"/>
                    <a:pt x="3525" y="107"/>
                  </a:cubicBezTo>
                  <a:cubicBezTo>
                    <a:pt x="3525" y="106"/>
                    <a:pt x="3525" y="104"/>
                    <a:pt x="3525" y="103"/>
                  </a:cubicBezTo>
                  <a:cubicBezTo>
                    <a:pt x="3525" y="104"/>
                    <a:pt x="3525" y="105"/>
                    <a:pt x="3525" y="105"/>
                  </a:cubicBezTo>
                  <a:cubicBezTo>
                    <a:pt x="3524" y="99"/>
                    <a:pt x="3522" y="93"/>
                    <a:pt x="3519" y="87"/>
                  </a:cubicBezTo>
                  <a:cubicBezTo>
                    <a:pt x="3520" y="84"/>
                    <a:pt x="3522" y="82"/>
                    <a:pt x="3524" y="80"/>
                  </a:cubicBezTo>
                  <a:cubicBezTo>
                    <a:pt x="3522" y="82"/>
                    <a:pt x="3520" y="84"/>
                    <a:pt x="3518" y="86"/>
                  </a:cubicBezTo>
                  <a:cubicBezTo>
                    <a:pt x="3516" y="81"/>
                    <a:pt x="3513" y="77"/>
                    <a:pt x="3510" y="73"/>
                  </a:cubicBezTo>
                  <a:cubicBezTo>
                    <a:pt x="3513" y="77"/>
                    <a:pt x="3515" y="83"/>
                    <a:pt x="3516" y="90"/>
                  </a:cubicBezTo>
                  <a:cubicBezTo>
                    <a:pt x="3514" y="94"/>
                    <a:pt x="3512" y="99"/>
                    <a:pt x="3512" y="103"/>
                  </a:cubicBezTo>
                  <a:cubicBezTo>
                    <a:pt x="3510" y="97"/>
                    <a:pt x="3508" y="91"/>
                    <a:pt x="3506" y="85"/>
                  </a:cubicBezTo>
                  <a:cubicBezTo>
                    <a:pt x="3508" y="91"/>
                    <a:pt x="3508" y="97"/>
                    <a:pt x="3508" y="103"/>
                  </a:cubicBezTo>
                  <a:cubicBezTo>
                    <a:pt x="3508" y="108"/>
                    <a:pt x="3507" y="114"/>
                    <a:pt x="3507" y="119"/>
                  </a:cubicBezTo>
                  <a:cubicBezTo>
                    <a:pt x="3505" y="111"/>
                    <a:pt x="3504" y="104"/>
                    <a:pt x="3504" y="96"/>
                  </a:cubicBezTo>
                  <a:cubicBezTo>
                    <a:pt x="3504" y="87"/>
                    <a:pt x="3508" y="73"/>
                    <a:pt x="3513" y="65"/>
                  </a:cubicBezTo>
                  <a:cubicBezTo>
                    <a:pt x="3504" y="76"/>
                    <a:pt x="3500" y="96"/>
                    <a:pt x="3500" y="108"/>
                  </a:cubicBezTo>
                  <a:cubicBezTo>
                    <a:pt x="3500" y="119"/>
                    <a:pt x="3503" y="130"/>
                    <a:pt x="3503" y="141"/>
                  </a:cubicBezTo>
                  <a:cubicBezTo>
                    <a:pt x="3503" y="146"/>
                    <a:pt x="3503" y="150"/>
                    <a:pt x="3502" y="154"/>
                  </a:cubicBezTo>
                  <a:cubicBezTo>
                    <a:pt x="3496" y="135"/>
                    <a:pt x="3501" y="113"/>
                    <a:pt x="3497" y="93"/>
                  </a:cubicBezTo>
                  <a:cubicBezTo>
                    <a:pt x="3494" y="79"/>
                    <a:pt x="3489" y="64"/>
                    <a:pt x="3483" y="51"/>
                  </a:cubicBezTo>
                  <a:cubicBezTo>
                    <a:pt x="3482" y="52"/>
                    <a:pt x="3482" y="54"/>
                    <a:pt x="3482" y="55"/>
                  </a:cubicBezTo>
                  <a:cubicBezTo>
                    <a:pt x="3489" y="76"/>
                    <a:pt x="3491" y="92"/>
                    <a:pt x="3492" y="105"/>
                  </a:cubicBezTo>
                  <a:cubicBezTo>
                    <a:pt x="3491" y="109"/>
                    <a:pt x="3490" y="114"/>
                    <a:pt x="3490" y="118"/>
                  </a:cubicBezTo>
                  <a:cubicBezTo>
                    <a:pt x="3488" y="101"/>
                    <a:pt x="3484" y="82"/>
                    <a:pt x="3475" y="75"/>
                  </a:cubicBezTo>
                  <a:cubicBezTo>
                    <a:pt x="3481" y="83"/>
                    <a:pt x="3483" y="97"/>
                    <a:pt x="3483" y="106"/>
                  </a:cubicBezTo>
                  <a:cubicBezTo>
                    <a:pt x="3483" y="106"/>
                    <a:pt x="3483" y="107"/>
                    <a:pt x="3483" y="107"/>
                  </a:cubicBezTo>
                  <a:cubicBezTo>
                    <a:pt x="3482" y="104"/>
                    <a:pt x="3481" y="101"/>
                    <a:pt x="3481" y="98"/>
                  </a:cubicBezTo>
                  <a:cubicBezTo>
                    <a:pt x="3481" y="105"/>
                    <a:pt x="3481" y="111"/>
                    <a:pt x="3482" y="118"/>
                  </a:cubicBezTo>
                  <a:cubicBezTo>
                    <a:pt x="3482" y="122"/>
                    <a:pt x="3481" y="126"/>
                    <a:pt x="3480" y="130"/>
                  </a:cubicBezTo>
                  <a:cubicBezTo>
                    <a:pt x="3479" y="124"/>
                    <a:pt x="3477" y="118"/>
                    <a:pt x="3476" y="113"/>
                  </a:cubicBezTo>
                  <a:cubicBezTo>
                    <a:pt x="3477" y="121"/>
                    <a:pt x="3479" y="128"/>
                    <a:pt x="3479" y="136"/>
                  </a:cubicBezTo>
                  <a:cubicBezTo>
                    <a:pt x="3478" y="140"/>
                    <a:pt x="3477" y="144"/>
                    <a:pt x="3477" y="148"/>
                  </a:cubicBezTo>
                  <a:cubicBezTo>
                    <a:pt x="3477" y="147"/>
                    <a:pt x="3476" y="147"/>
                    <a:pt x="3476" y="146"/>
                  </a:cubicBezTo>
                  <a:cubicBezTo>
                    <a:pt x="3477" y="129"/>
                    <a:pt x="3474" y="106"/>
                    <a:pt x="3467" y="91"/>
                  </a:cubicBezTo>
                  <a:cubicBezTo>
                    <a:pt x="3468" y="88"/>
                    <a:pt x="3468" y="85"/>
                    <a:pt x="3470" y="83"/>
                  </a:cubicBezTo>
                  <a:cubicBezTo>
                    <a:pt x="3468" y="85"/>
                    <a:pt x="3467" y="88"/>
                    <a:pt x="3466" y="90"/>
                  </a:cubicBezTo>
                  <a:cubicBezTo>
                    <a:pt x="3466" y="88"/>
                    <a:pt x="3465" y="87"/>
                    <a:pt x="3464" y="85"/>
                  </a:cubicBezTo>
                  <a:cubicBezTo>
                    <a:pt x="3465" y="87"/>
                    <a:pt x="3466" y="89"/>
                    <a:pt x="3466" y="91"/>
                  </a:cubicBezTo>
                  <a:cubicBezTo>
                    <a:pt x="3465" y="95"/>
                    <a:pt x="3464" y="98"/>
                    <a:pt x="3463" y="101"/>
                  </a:cubicBezTo>
                  <a:cubicBezTo>
                    <a:pt x="3461" y="94"/>
                    <a:pt x="3460" y="87"/>
                    <a:pt x="3457" y="79"/>
                  </a:cubicBezTo>
                  <a:cubicBezTo>
                    <a:pt x="3457" y="78"/>
                    <a:pt x="3457" y="76"/>
                    <a:pt x="3457" y="75"/>
                  </a:cubicBezTo>
                  <a:cubicBezTo>
                    <a:pt x="3457" y="76"/>
                    <a:pt x="3457" y="77"/>
                    <a:pt x="3456" y="78"/>
                  </a:cubicBezTo>
                  <a:cubicBezTo>
                    <a:pt x="3454" y="71"/>
                    <a:pt x="3450" y="64"/>
                    <a:pt x="3446" y="56"/>
                  </a:cubicBezTo>
                  <a:cubicBezTo>
                    <a:pt x="3446" y="66"/>
                    <a:pt x="3450" y="78"/>
                    <a:pt x="3453" y="90"/>
                  </a:cubicBezTo>
                  <a:cubicBezTo>
                    <a:pt x="3451" y="99"/>
                    <a:pt x="3451" y="108"/>
                    <a:pt x="3450" y="117"/>
                  </a:cubicBezTo>
                  <a:cubicBezTo>
                    <a:pt x="3449" y="112"/>
                    <a:pt x="3447" y="107"/>
                    <a:pt x="3446" y="103"/>
                  </a:cubicBezTo>
                  <a:cubicBezTo>
                    <a:pt x="3448" y="109"/>
                    <a:pt x="3446" y="132"/>
                    <a:pt x="3446" y="140"/>
                  </a:cubicBezTo>
                  <a:cubicBezTo>
                    <a:pt x="3446" y="144"/>
                    <a:pt x="3446" y="147"/>
                    <a:pt x="3446" y="151"/>
                  </a:cubicBezTo>
                  <a:cubicBezTo>
                    <a:pt x="3446" y="151"/>
                    <a:pt x="3446" y="151"/>
                    <a:pt x="3446" y="151"/>
                  </a:cubicBezTo>
                  <a:cubicBezTo>
                    <a:pt x="3446" y="144"/>
                    <a:pt x="3445" y="137"/>
                    <a:pt x="3443" y="129"/>
                  </a:cubicBezTo>
                  <a:cubicBezTo>
                    <a:pt x="3441" y="119"/>
                    <a:pt x="3440" y="110"/>
                    <a:pt x="3441" y="100"/>
                  </a:cubicBezTo>
                  <a:cubicBezTo>
                    <a:pt x="3440" y="107"/>
                    <a:pt x="3440" y="113"/>
                    <a:pt x="3440" y="119"/>
                  </a:cubicBezTo>
                  <a:cubicBezTo>
                    <a:pt x="3438" y="114"/>
                    <a:pt x="3436" y="108"/>
                    <a:pt x="3434" y="103"/>
                  </a:cubicBezTo>
                  <a:cubicBezTo>
                    <a:pt x="3434" y="99"/>
                    <a:pt x="3435" y="95"/>
                    <a:pt x="3437" y="90"/>
                  </a:cubicBezTo>
                  <a:cubicBezTo>
                    <a:pt x="3435" y="94"/>
                    <a:pt x="3434" y="98"/>
                    <a:pt x="3433" y="102"/>
                  </a:cubicBezTo>
                  <a:cubicBezTo>
                    <a:pt x="3430" y="97"/>
                    <a:pt x="3428" y="93"/>
                    <a:pt x="3425" y="89"/>
                  </a:cubicBezTo>
                  <a:cubicBezTo>
                    <a:pt x="3428" y="93"/>
                    <a:pt x="3428" y="99"/>
                    <a:pt x="3428" y="103"/>
                  </a:cubicBezTo>
                  <a:cubicBezTo>
                    <a:pt x="3428" y="104"/>
                    <a:pt x="3429" y="109"/>
                    <a:pt x="3429" y="115"/>
                  </a:cubicBezTo>
                  <a:cubicBezTo>
                    <a:pt x="3428" y="120"/>
                    <a:pt x="3427" y="124"/>
                    <a:pt x="3427" y="129"/>
                  </a:cubicBezTo>
                  <a:cubicBezTo>
                    <a:pt x="3426" y="125"/>
                    <a:pt x="3425" y="122"/>
                    <a:pt x="3425" y="119"/>
                  </a:cubicBezTo>
                  <a:cubicBezTo>
                    <a:pt x="3425" y="115"/>
                    <a:pt x="3425" y="108"/>
                    <a:pt x="3424" y="105"/>
                  </a:cubicBezTo>
                  <a:cubicBezTo>
                    <a:pt x="3423" y="108"/>
                    <a:pt x="3423" y="110"/>
                    <a:pt x="3423" y="113"/>
                  </a:cubicBezTo>
                  <a:cubicBezTo>
                    <a:pt x="3422" y="109"/>
                    <a:pt x="3421" y="106"/>
                    <a:pt x="3421" y="103"/>
                  </a:cubicBezTo>
                  <a:cubicBezTo>
                    <a:pt x="3422" y="97"/>
                    <a:pt x="3423" y="90"/>
                    <a:pt x="3426" y="84"/>
                  </a:cubicBezTo>
                  <a:cubicBezTo>
                    <a:pt x="3423" y="90"/>
                    <a:pt x="3421" y="95"/>
                    <a:pt x="3420" y="101"/>
                  </a:cubicBezTo>
                  <a:cubicBezTo>
                    <a:pt x="3415" y="86"/>
                    <a:pt x="3412" y="83"/>
                    <a:pt x="3407" y="78"/>
                  </a:cubicBezTo>
                  <a:cubicBezTo>
                    <a:pt x="3414" y="84"/>
                    <a:pt x="3417" y="97"/>
                    <a:pt x="3418" y="107"/>
                  </a:cubicBezTo>
                  <a:cubicBezTo>
                    <a:pt x="3417" y="114"/>
                    <a:pt x="3415" y="120"/>
                    <a:pt x="3414" y="126"/>
                  </a:cubicBezTo>
                  <a:cubicBezTo>
                    <a:pt x="3413" y="121"/>
                    <a:pt x="3412" y="115"/>
                    <a:pt x="3410" y="109"/>
                  </a:cubicBezTo>
                  <a:cubicBezTo>
                    <a:pt x="3411" y="106"/>
                    <a:pt x="3411" y="103"/>
                    <a:pt x="3412" y="100"/>
                  </a:cubicBezTo>
                  <a:cubicBezTo>
                    <a:pt x="3411" y="102"/>
                    <a:pt x="3411" y="104"/>
                    <a:pt x="3410" y="108"/>
                  </a:cubicBezTo>
                  <a:cubicBezTo>
                    <a:pt x="3409" y="106"/>
                    <a:pt x="3408" y="103"/>
                    <a:pt x="3408" y="101"/>
                  </a:cubicBezTo>
                  <a:cubicBezTo>
                    <a:pt x="3408" y="100"/>
                    <a:pt x="3408" y="99"/>
                    <a:pt x="3409" y="98"/>
                  </a:cubicBezTo>
                  <a:cubicBezTo>
                    <a:pt x="3408" y="99"/>
                    <a:pt x="3408" y="100"/>
                    <a:pt x="3408" y="101"/>
                  </a:cubicBezTo>
                  <a:cubicBezTo>
                    <a:pt x="3405" y="94"/>
                    <a:pt x="3402" y="87"/>
                    <a:pt x="3398" y="81"/>
                  </a:cubicBezTo>
                  <a:cubicBezTo>
                    <a:pt x="3402" y="88"/>
                    <a:pt x="3403" y="99"/>
                    <a:pt x="3403" y="106"/>
                  </a:cubicBezTo>
                  <a:cubicBezTo>
                    <a:pt x="3403" y="111"/>
                    <a:pt x="3402" y="115"/>
                    <a:pt x="3402" y="120"/>
                  </a:cubicBezTo>
                  <a:cubicBezTo>
                    <a:pt x="3400" y="126"/>
                    <a:pt x="3398" y="133"/>
                    <a:pt x="3397" y="139"/>
                  </a:cubicBezTo>
                  <a:cubicBezTo>
                    <a:pt x="3397" y="135"/>
                    <a:pt x="3397" y="135"/>
                    <a:pt x="3397" y="135"/>
                  </a:cubicBezTo>
                  <a:cubicBezTo>
                    <a:pt x="3398" y="127"/>
                    <a:pt x="3398" y="120"/>
                    <a:pt x="3399" y="113"/>
                  </a:cubicBezTo>
                  <a:cubicBezTo>
                    <a:pt x="3398" y="117"/>
                    <a:pt x="3398" y="123"/>
                    <a:pt x="3397" y="129"/>
                  </a:cubicBezTo>
                  <a:cubicBezTo>
                    <a:pt x="3397" y="120"/>
                    <a:pt x="3397" y="111"/>
                    <a:pt x="3395" y="103"/>
                  </a:cubicBezTo>
                  <a:cubicBezTo>
                    <a:pt x="3396" y="101"/>
                    <a:pt x="3397" y="100"/>
                    <a:pt x="3397" y="99"/>
                  </a:cubicBezTo>
                  <a:cubicBezTo>
                    <a:pt x="3397" y="100"/>
                    <a:pt x="3396" y="101"/>
                    <a:pt x="3395" y="102"/>
                  </a:cubicBezTo>
                  <a:cubicBezTo>
                    <a:pt x="3393" y="88"/>
                    <a:pt x="3389" y="75"/>
                    <a:pt x="3380" y="60"/>
                  </a:cubicBezTo>
                  <a:cubicBezTo>
                    <a:pt x="3380" y="61"/>
                    <a:pt x="3380" y="61"/>
                    <a:pt x="3380" y="61"/>
                  </a:cubicBezTo>
                  <a:cubicBezTo>
                    <a:pt x="3380" y="76"/>
                    <a:pt x="3390" y="94"/>
                    <a:pt x="3390" y="111"/>
                  </a:cubicBezTo>
                  <a:cubicBezTo>
                    <a:pt x="3389" y="115"/>
                    <a:pt x="3388" y="120"/>
                    <a:pt x="3387" y="125"/>
                  </a:cubicBezTo>
                  <a:cubicBezTo>
                    <a:pt x="3383" y="109"/>
                    <a:pt x="3376" y="94"/>
                    <a:pt x="3365" y="83"/>
                  </a:cubicBezTo>
                  <a:cubicBezTo>
                    <a:pt x="3372" y="90"/>
                    <a:pt x="3376" y="101"/>
                    <a:pt x="3378" y="111"/>
                  </a:cubicBezTo>
                  <a:cubicBezTo>
                    <a:pt x="3377" y="111"/>
                    <a:pt x="3377" y="110"/>
                    <a:pt x="3377" y="109"/>
                  </a:cubicBezTo>
                  <a:cubicBezTo>
                    <a:pt x="3377" y="117"/>
                    <a:pt x="3378" y="126"/>
                    <a:pt x="3378" y="134"/>
                  </a:cubicBezTo>
                  <a:cubicBezTo>
                    <a:pt x="3378" y="136"/>
                    <a:pt x="3378" y="138"/>
                    <a:pt x="3378" y="140"/>
                  </a:cubicBezTo>
                  <a:cubicBezTo>
                    <a:pt x="3375" y="127"/>
                    <a:pt x="3374" y="113"/>
                    <a:pt x="3370" y="100"/>
                  </a:cubicBezTo>
                  <a:cubicBezTo>
                    <a:pt x="3372" y="109"/>
                    <a:pt x="3372" y="123"/>
                    <a:pt x="3372" y="135"/>
                  </a:cubicBezTo>
                  <a:cubicBezTo>
                    <a:pt x="3373" y="138"/>
                    <a:pt x="3373" y="141"/>
                    <a:pt x="3373" y="144"/>
                  </a:cubicBezTo>
                  <a:cubicBezTo>
                    <a:pt x="3373" y="143"/>
                    <a:pt x="3373" y="142"/>
                    <a:pt x="3373" y="142"/>
                  </a:cubicBezTo>
                  <a:cubicBezTo>
                    <a:pt x="3372" y="139"/>
                    <a:pt x="3372" y="137"/>
                    <a:pt x="3372" y="135"/>
                  </a:cubicBezTo>
                  <a:cubicBezTo>
                    <a:pt x="3372" y="130"/>
                    <a:pt x="3371" y="125"/>
                    <a:pt x="3370" y="120"/>
                  </a:cubicBezTo>
                  <a:cubicBezTo>
                    <a:pt x="3370" y="119"/>
                    <a:pt x="3370" y="119"/>
                    <a:pt x="3370" y="118"/>
                  </a:cubicBezTo>
                  <a:cubicBezTo>
                    <a:pt x="3370" y="119"/>
                    <a:pt x="3370" y="119"/>
                    <a:pt x="3370" y="120"/>
                  </a:cubicBezTo>
                  <a:cubicBezTo>
                    <a:pt x="3369" y="116"/>
                    <a:pt x="3367" y="112"/>
                    <a:pt x="3366" y="108"/>
                  </a:cubicBezTo>
                  <a:cubicBezTo>
                    <a:pt x="3366" y="106"/>
                    <a:pt x="3367" y="105"/>
                    <a:pt x="3368" y="103"/>
                  </a:cubicBezTo>
                  <a:cubicBezTo>
                    <a:pt x="3367" y="105"/>
                    <a:pt x="3366" y="106"/>
                    <a:pt x="3366" y="107"/>
                  </a:cubicBezTo>
                  <a:cubicBezTo>
                    <a:pt x="3359" y="91"/>
                    <a:pt x="3349" y="76"/>
                    <a:pt x="3332" y="63"/>
                  </a:cubicBezTo>
                  <a:cubicBezTo>
                    <a:pt x="3338" y="68"/>
                    <a:pt x="3342" y="74"/>
                    <a:pt x="3346" y="79"/>
                  </a:cubicBezTo>
                  <a:cubicBezTo>
                    <a:pt x="3345" y="81"/>
                    <a:pt x="3343" y="85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40" y="90"/>
                    <a:pt x="3340" y="90"/>
                    <a:pt x="3340" y="90"/>
                  </a:cubicBezTo>
                  <a:cubicBezTo>
                    <a:pt x="3338" y="94"/>
                    <a:pt x="3336" y="98"/>
                    <a:pt x="3334" y="103"/>
                  </a:cubicBezTo>
                  <a:cubicBezTo>
                    <a:pt x="3333" y="100"/>
                    <a:pt x="3333" y="98"/>
                    <a:pt x="3332" y="96"/>
                  </a:cubicBezTo>
                  <a:cubicBezTo>
                    <a:pt x="3332" y="99"/>
                    <a:pt x="3333" y="103"/>
                    <a:pt x="3333" y="106"/>
                  </a:cubicBezTo>
                  <a:cubicBezTo>
                    <a:pt x="3332" y="108"/>
                    <a:pt x="3331" y="111"/>
                    <a:pt x="3330" y="113"/>
                  </a:cubicBezTo>
                  <a:cubicBezTo>
                    <a:pt x="3329" y="111"/>
                    <a:pt x="3329" y="109"/>
                    <a:pt x="3328" y="107"/>
                  </a:cubicBezTo>
                  <a:cubicBezTo>
                    <a:pt x="3329" y="100"/>
                    <a:pt x="3330" y="93"/>
                    <a:pt x="3330" y="88"/>
                  </a:cubicBezTo>
                  <a:cubicBezTo>
                    <a:pt x="3330" y="87"/>
                    <a:pt x="3330" y="87"/>
                    <a:pt x="3330" y="87"/>
                  </a:cubicBezTo>
                  <a:cubicBezTo>
                    <a:pt x="3328" y="92"/>
                    <a:pt x="3327" y="97"/>
                    <a:pt x="3326" y="102"/>
                  </a:cubicBezTo>
                  <a:cubicBezTo>
                    <a:pt x="3323" y="96"/>
                    <a:pt x="3321" y="90"/>
                    <a:pt x="3318" y="84"/>
                  </a:cubicBezTo>
                  <a:cubicBezTo>
                    <a:pt x="3321" y="90"/>
                    <a:pt x="3323" y="97"/>
                    <a:pt x="3325" y="104"/>
                  </a:cubicBezTo>
                  <a:cubicBezTo>
                    <a:pt x="3324" y="108"/>
                    <a:pt x="3324" y="111"/>
                    <a:pt x="3323" y="115"/>
                  </a:cubicBezTo>
                  <a:cubicBezTo>
                    <a:pt x="3321" y="110"/>
                    <a:pt x="3319" y="106"/>
                    <a:pt x="3317" y="102"/>
                  </a:cubicBezTo>
                  <a:cubicBezTo>
                    <a:pt x="3319" y="107"/>
                    <a:pt x="3320" y="114"/>
                    <a:pt x="3321" y="121"/>
                  </a:cubicBezTo>
                  <a:cubicBezTo>
                    <a:pt x="3320" y="126"/>
                    <a:pt x="3318" y="131"/>
                    <a:pt x="3317" y="135"/>
                  </a:cubicBezTo>
                  <a:cubicBezTo>
                    <a:pt x="3315" y="132"/>
                    <a:pt x="3314" y="129"/>
                    <a:pt x="3313" y="125"/>
                  </a:cubicBezTo>
                  <a:cubicBezTo>
                    <a:pt x="3314" y="118"/>
                    <a:pt x="3315" y="111"/>
                    <a:pt x="3316" y="104"/>
                  </a:cubicBezTo>
                  <a:cubicBezTo>
                    <a:pt x="3315" y="109"/>
                    <a:pt x="3313" y="114"/>
                    <a:pt x="3311" y="120"/>
                  </a:cubicBezTo>
                  <a:cubicBezTo>
                    <a:pt x="3310" y="115"/>
                    <a:pt x="3309" y="111"/>
                    <a:pt x="3308" y="107"/>
                  </a:cubicBezTo>
                  <a:cubicBezTo>
                    <a:pt x="3308" y="103"/>
                    <a:pt x="3309" y="98"/>
                    <a:pt x="3309" y="94"/>
                  </a:cubicBezTo>
                  <a:cubicBezTo>
                    <a:pt x="3309" y="91"/>
                    <a:pt x="3308" y="88"/>
                    <a:pt x="3308" y="85"/>
                  </a:cubicBezTo>
                  <a:cubicBezTo>
                    <a:pt x="3307" y="89"/>
                    <a:pt x="3306" y="93"/>
                    <a:pt x="3305" y="99"/>
                  </a:cubicBezTo>
                  <a:cubicBezTo>
                    <a:pt x="3302" y="91"/>
                    <a:pt x="3298" y="84"/>
                    <a:pt x="3293" y="77"/>
                  </a:cubicBezTo>
                  <a:cubicBezTo>
                    <a:pt x="3296" y="86"/>
                    <a:pt x="3300" y="95"/>
                    <a:pt x="3303" y="104"/>
                  </a:cubicBezTo>
                  <a:cubicBezTo>
                    <a:pt x="3303" y="106"/>
                    <a:pt x="3303" y="107"/>
                    <a:pt x="3303" y="109"/>
                  </a:cubicBezTo>
                  <a:cubicBezTo>
                    <a:pt x="3302" y="107"/>
                    <a:pt x="3301" y="105"/>
                    <a:pt x="3300" y="103"/>
                  </a:cubicBezTo>
                  <a:cubicBezTo>
                    <a:pt x="3300" y="103"/>
                    <a:pt x="3300" y="102"/>
                    <a:pt x="3300" y="102"/>
                  </a:cubicBezTo>
                  <a:cubicBezTo>
                    <a:pt x="3300" y="102"/>
                    <a:pt x="3300" y="103"/>
                    <a:pt x="3300" y="103"/>
                  </a:cubicBezTo>
                  <a:cubicBezTo>
                    <a:pt x="3295" y="94"/>
                    <a:pt x="3290" y="86"/>
                    <a:pt x="3283" y="79"/>
                  </a:cubicBezTo>
                  <a:cubicBezTo>
                    <a:pt x="3285" y="75"/>
                    <a:pt x="3287" y="71"/>
                    <a:pt x="3289" y="68"/>
                  </a:cubicBezTo>
                  <a:cubicBezTo>
                    <a:pt x="3287" y="69"/>
                    <a:pt x="3284" y="73"/>
                    <a:pt x="3282" y="77"/>
                  </a:cubicBezTo>
                  <a:cubicBezTo>
                    <a:pt x="3278" y="73"/>
                    <a:pt x="3274" y="69"/>
                    <a:pt x="3269" y="65"/>
                  </a:cubicBezTo>
                  <a:cubicBezTo>
                    <a:pt x="3274" y="70"/>
                    <a:pt x="3278" y="75"/>
                    <a:pt x="3281" y="79"/>
                  </a:cubicBezTo>
                  <a:cubicBezTo>
                    <a:pt x="3278" y="86"/>
                    <a:pt x="3275" y="96"/>
                    <a:pt x="3272" y="105"/>
                  </a:cubicBezTo>
                  <a:cubicBezTo>
                    <a:pt x="3269" y="99"/>
                    <a:pt x="3265" y="94"/>
                    <a:pt x="3262" y="88"/>
                  </a:cubicBezTo>
                  <a:cubicBezTo>
                    <a:pt x="3262" y="87"/>
                    <a:pt x="3262" y="86"/>
                    <a:pt x="3263" y="85"/>
                  </a:cubicBezTo>
                  <a:cubicBezTo>
                    <a:pt x="3262" y="86"/>
                    <a:pt x="3262" y="87"/>
                    <a:pt x="3262" y="88"/>
                  </a:cubicBezTo>
                  <a:cubicBezTo>
                    <a:pt x="3261" y="87"/>
                    <a:pt x="3260" y="86"/>
                    <a:pt x="3259" y="85"/>
                  </a:cubicBezTo>
                  <a:cubicBezTo>
                    <a:pt x="3260" y="86"/>
                    <a:pt x="3261" y="87"/>
                    <a:pt x="3261" y="88"/>
                  </a:cubicBezTo>
                  <a:cubicBezTo>
                    <a:pt x="3260" y="91"/>
                    <a:pt x="3259" y="93"/>
                    <a:pt x="3258" y="95"/>
                  </a:cubicBezTo>
                  <a:cubicBezTo>
                    <a:pt x="3257" y="94"/>
                    <a:pt x="3257" y="92"/>
                    <a:pt x="3256" y="91"/>
                  </a:cubicBezTo>
                  <a:cubicBezTo>
                    <a:pt x="3257" y="92"/>
                    <a:pt x="3257" y="94"/>
                    <a:pt x="3258" y="95"/>
                  </a:cubicBezTo>
                  <a:cubicBezTo>
                    <a:pt x="3254" y="103"/>
                    <a:pt x="3251" y="112"/>
                    <a:pt x="3249" y="121"/>
                  </a:cubicBezTo>
                  <a:cubicBezTo>
                    <a:pt x="3248" y="112"/>
                    <a:pt x="3247" y="103"/>
                    <a:pt x="3247" y="97"/>
                  </a:cubicBezTo>
                  <a:cubicBezTo>
                    <a:pt x="3245" y="100"/>
                    <a:pt x="3244" y="105"/>
                    <a:pt x="3243" y="110"/>
                  </a:cubicBezTo>
                  <a:cubicBezTo>
                    <a:pt x="3243" y="92"/>
                    <a:pt x="3242" y="61"/>
                    <a:pt x="3240" y="57"/>
                  </a:cubicBezTo>
                  <a:cubicBezTo>
                    <a:pt x="3239" y="79"/>
                    <a:pt x="3240" y="100"/>
                    <a:pt x="3240" y="122"/>
                  </a:cubicBezTo>
                  <a:cubicBezTo>
                    <a:pt x="3240" y="123"/>
                    <a:pt x="3240" y="124"/>
                    <a:pt x="3240" y="125"/>
                  </a:cubicBezTo>
                  <a:cubicBezTo>
                    <a:pt x="3238" y="114"/>
                    <a:pt x="3234" y="103"/>
                    <a:pt x="3229" y="94"/>
                  </a:cubicBezTo>
                  <a:cubicBezTo>
                    <a:pt x="3228" y="89"/>
                    <a:pt x="3228" y="84"/>
                    <a:pt x="3229" y="80"/>
                  </a:cubicBezTo>
                  <a:cubicBezTo>
                    <a:pt x="3228" y="83"/>
                    <a:pt x="3227" y="87"/>
                    <a:pt x="3226" y="90"/>
                  </a:cubicBezTo>
                  <a:cubicBezTo>
                    <a:pt x="3224" y="88"/>
                    <a:pt x="3222" y="85"/>
                    <a:pt x="3220" y="83"/>
                  </a:cubicBezTo>
                  <a:cubicBezTo>
                    <a:pt x="3222" y="86"/>
                    <a:pt x="3224" y="89"/>
                    <a:pt x="3226" y="92"/>
                  </a:cubicBezTo>
                  <a:cubicBezTo>
                    <a:pt x="3225" y="96"/>
                    <a:pt x="3224" y="100"/>
                    <a:pt x="3224" y="103"/>
                  </a:cubicBezTo>
                  <a:cubicBezTo>
                    <a:pt x="3223" y="102"/>
                    <a:pt x="3223" y="101"/>
                    <a:pt x="3223" y="100"/>
                  </a:cubicBezTo>
                  <a:cubicBezTo>
                    <a:pt x="3223" y="101"/>
                    <a:pt x="3223" y="102"/>
                    <a:pt x="3224" y="104"/>
                  </a:cubicBezTo>
                  <a:cubicBezTo>
                    <a:pt x="3223" y="106"/>
                    <a:pt x="3223" y="109"/>
                    <a:pt x="3222" y="111"/>
                  </a:cubicBezTo>
                  <a:cubicBezTo>
                    <a:pt x="3220" y="107"/>
                    <a:pt x="3219" y="103"/>
                    <a:pt x="3217" y="99"/>
                  </a:cubicBezTo>
                  <a:cubicBezTo>
                    <a:pt x="3216" y="91"/>
                    <a:pt x="3216" y="82"/>
                    <a:pt x="3217" y="74"/>
                  </a:cubicBezTo>
                  <a:cubicBezTo>
                    <a:pt x="3216" y="80"/>
                    <a:pt x="3214" y="86"/>
                    <a:pt x="3213" y="92"/>
                  </a:cubicBezTo>
                  <a:cubicBezTo>
                    <a:pt x="3212" y="91"/>
                    <a:pt x="3211" y="89"/>
                    <a:pt x="3210" y="88"/>
                  </a:cubicBezTo>
                  <a:cubicBezTo>
                    <a:pt x="3211" y="89"/>
                    <a:pt x="3212" y="91"/>
                    <a:pt x="3213" y="93"/>
                  </a:cubicBezTo>
                  <a:cubicBezTo>
                    <a:pt x="3212" y="95"/>
                    <a:pt x="3212" y="97"/>
                    <a:pt x="3212" y="98"/>
                  </a:cubicBezTo>
                  <a:cubicBezTo>
                    <a:pt x="3209" y="93"/>
                    <a:pt x="3207" y="88"/>
                    <a:pt x="3203" y="84"/>
                  </a:cubicBezTo>
                  <a:cubicBezTo>
                    <a:pt x="3206" y="88"/>
                    <a:pt x="3208" y="95"/>
                    <a:pt x="3211" y="103"/>
                  </a:cubicBezTo>
                  <a:cubicBezTo>
                    <a:pt x="3210" y="106"/>
                    <a:pt x="3209" y="110"/>
                    <a:pt x="3209" y="113"/>
                  </a:cubicBezTo>
                  <a:cubicBezTo>
                    <a:pt x="3206" y="108"/>
                    <a:pt x="3204" y="102"/>
                    <a:pt x="3201" y="96"/>
                  </a:cubicBezTo>
                  <a:cubicBezTo>
                    <a:pt x="3201" y="91"/>
                    <a:pt x="3202" y="86"/>
                    <a:pt x="3203" y="83"/>
                  </a:cubicBezTo>
                  <a:cubicBezTo>
                    <a:pt x="3202" y="87"/>
                    <a:pt x="3201" y="90"/>
                    <a:pt x="3199" y="93"/>
                  </a:cubicBezTo>
                  <a:cubicBezTo>
                    <a:pt x="3194" y="83"/>
                    <a:pt x="3187" y="74"/>
                    <a:pt x="3178" y="64"/>
                  </a:cubicBezTo>
                  <a:cubicBezTo>
                    <a:pt x="3187" y="74"/>
                    <a:pt x="3193" y="86"/>
                    <a:pt x="3198" y="97"/>
                  </a:cubicBezTo>
                  <a:cubicBezTo>
                    <a:pt x="3197" y="99"/>
                    <a:pt x="3197" y="101"/>
                    <a:pt x="3196" y="103"/>
                  </a:cubicBezTo>
                  <a:cubicBezTo>
                    <a:pt x="3195" y="98"/>
                    <a:pt x="3194" y="93"/>
                    <a:pt x="3192" y="88"/>
                  </a:cubicBezTo>
                  <a:cubicBezTo>
                    <a:pt x="3192" y="91"/>
                    <a:pt x="3193" y="98"/>
                    <a:pt x="3195" y="106"/>
                  </a:cubicBezTo>
                  <a:cubicBezTo>
                    <a:pt x="3195" y="108"/>
                    <a:pt x="3194" y="109"/>
                    <a:pt x="3194" y="110"/>
                  </a:cubicBezTo>
                  <a:cubicBezTo>
                    <a:pt x="3188" y="97"/>
                    <a:pt x="3181" y="83"/>
                    <a:pt x="3170" y="72"/>
                  </a:cubicBezTo>
                  <a:cubicBezTo>
                    <a:pt x="3168" y="61"/>
                    <a:pt x="3166" y="51"/>
                    <a:pt x="3164" y="41"/>
                  </a:cubicBezTo>
                  <a:cubicBezTo>
                    <a:pt x="3164" y="48"/>
                    <a:pt x="3164" y="55"/>
                    <a:pt x="3164" y="61"/>
                  </a:cubicBezTo>
                  <a:cubicBezTo>
                    <a:pt x="3164" y="63"/>
                    <a:pt x="3164" y="64"/>
                    <a:pt x="3164" y="66"/>
                  </a:cubicBezTo>
                  <a:cubicBezTo>
                    <a:pt x="3163" y="65"/>
                    <a:pt x="3163" y="65"/>
                    <a:pt x="3163" y="65"/>
                  </a:cubicBezTo>
                  <a:cubicBezTo>
                    <a:pt x="3163" y="65"/>
                    <a:pt x="3163" y="65"/>
                    <a:pt x="3164" y="66"/>
                  </a:cubicBezTo>
                  <a:cubicBezTo>
                    <a:pt x="3164" y="75"/>
                    <a:pt x="3165" y="85"/>
                    <a:pt x="3165" y="94"/>
                  </a:cubicBezTo>
                  <a:cubicBezTo>
                    <a:pt x="3163" y="88"/>
                    <a:pt x="3160" y="81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6" y="75"/>
                    <a:pt x="3156" y="75"/>
                    <a:pt x="3156" y="75"/>
                  </a:cubicBezTo>
                  <a:cubicBezTo>
                    <a:pt x="3151" y="67"/>
                    <a:pt x="3144" y="59"/>
                    <a:pt x="3134" y="50"/>
                  </a:cubicBezTo>
                  <a:cubicBezTo>
                    <a:pt x="3137" y="54"/>
                    <a:pt x="3139" y="58"/>
                    <a:pt x="3141" y="61"/>
                  </a:cubicBezTo>
                  <a:cubicBezTo>
                    <a:pt x="3140" y="64"/>
                    <a:pt x="3140" y="68"/>
                    <a:pt x="3139" y="73"/>
                  </a:cubicBezTo>
                  <a:cubicBezTo>
                    <a:pt x="3137" y="70"/>
                    <a:pt x="3134" y="67"/>
                    <a:pt x="3132" y="65"/>
                  </a:cubicBezTo>
                  <a:cubicBezTo>
                    <a:pt x="3132" y="64"/>
                    <a:pt x="3132" y="64"/>
                    <a:pt x="3132" y="64"/>
                  </a:cubicBezTo>
                  <a:cubicBezTo>
                    <a:pt x="3132" y="64"/>
                    <a:pt x="3132" y="64"/>
                    <a:pt x="3131" y="64"/>
                  </a:cubicBezTo>
                  <a:cubicBezTo>
                    <a:pt x="3130" y="62"/>
                    <a:pt x="3128" y="61"/>
                    <a:pt x="3126" y="59"/>
                  </a:cubicBezTo>
                  <a:cubicBezTo>
                    <a:pt x="3128" y="61"/>
                    <a:pt x="3129" y="63"/>
                    <a:pt x="3131" y="65"/>
                  </a:cubicBezTo>
                  <a:cubicBezTo>
                    <a:pt x="3130" y="67"/>
                    <a:pt x="3128" y="69"/>
                    <a:pt x="3127" y="72"/>
                  </a:cubicBezTo>
                  <a:cubicBezTo>
                    <a:pt x="3126" y="66"/>
                    <a:pt x="3126" y="61"/>
                    <a:pt x="3125" y="56"/>
                  </a:cubicBezTo>
                  <a:cubicBezTo>
                    <a:pt x="3126" y="54"/>
                    <a:pt x="3127" y="53"/>
                    <a:pt x="3128" y="51"/>
                  </a:cubicBezTo>
                  <a:cubicBezTo>
                    <a:pt x="3127" y="52"/>
                    <a:pt x="3126" y="53"/>
                    <a:pt x="3124" y="55"/>
                  </a:cubicBezTo>
                  <a:cubicBezTo>
                    <a:pt x="3123" y="45"/>
                    <a:pt x="3121" y="35"/>
                    <a:pt x="3118" y="26"/>
                  </a:cubicBezTo>
                  <a:cubicBezTo>
                    <a:pt x="3117" y="30"/>
                    <a:pt x="3117" y="34"/>
                    <a:pt x="3117" y="37"/>
                  </a:cubicBezTo>
                  <a:cubicBezTo>
                    <a:pt x="3117" y="45"/>
                    <a:pt x="3118" y="53"/>
                    <a:pt x="3119" y="60"/>
                  </a:cubicBezTo>
                  <a:cubicBezTo>
                    <a:pt x="3115" y="64"/>
                    <a:pt x="3111" y="69"/>
                    <a:pt x="3106" y="74"/>
                  </a:cubicBezTo>
                  <a:cubicBezTo>
                    <a:pt x="3106" y="72"/>
                    <a:pt x="3105" y="70"/>
                    <a:pt x="3104" y="67"/>
                  </a:cubicBezTo>
                  <a:cubicBezTo>
                    <a:pt x="3104" y="70"/>
                    <a:pt x="3105" y="73"/>
                    <a:pt x="3105" y="76"/>
                  </a:cubicBezTo>
                  <a:cubicBezTo>
                    <a:pt x="3104" y="77"/>
                    <a:pt x="3104" y="77"/>
                    <a:pt x="3104" y="78"/>
                  </a:cubicBezTo>
                  <a:cubicBezTo>
                    <a:pt x="3102" y="75"/>
                    <a:pt x="3100" y="72"/>
                    <a:pt x="3098" y="68"/>
                  </a:cubicBezTo>
                  <a:cubicBezTo>
                    <a:pt x="3098" y="65"/>
                    <a:pt x="3099" y="63"/>
                    <a:pt x="3099" y="62"/>
                  </a:cubicBezTo>
                  <a:cubicBezTo>
                    <a:pt x="3098" y="63"/>
                    <a:pt x="3097" y="65"/>
                    <a:pt x="3096" y="67"/>
                  </a:cubicBezTo>
                  <a:cubicBezTo>
                    <a:pt x="3090" y="57"/>
                    <a:pt x="3081" y="47"/>
                    <a:pt x="3068" y="34"/>
                  </a:cubicBezTo>
                  <a:cubicBezTo>
                    <a:pt x="3081" y="49"/>
                    <a:pt x="3089" y="60"/>
                    <a:pt x="3096" y="69"/>
                  </a:cubicBezTo>
                  <a:cubicBezTo>
                    <a:pt x="3095" y="72"/>
                    <a:pt x="3094" y="75"/>
                    <a:pt x="3094" y="79"/>
                  </a:cubicBezTo>
                  <a:cubicBezTo>
                    <a:pt x="3088" y="68"/>
                    <a:pt x="3080" y="58"/>
                    <a:pt x="3068" y="52"/>
                  </a:cubicBezTo>
                  <a:cubicBezTo>
                    <a:pt x="3082" y="60"/>
                    <a:pt x="3089" y="72"/>
                    <a:pt x="3094" y="84"/>
                  </a:cubicBezTo>
                  <a:cubicBezTo>
                    <a:pt x="3094" y="86"/>
                    <a:pt x="3094" y="89"/>
                    <a:pt x="3094" y="91"/>
                  </a:cubicBezTo>
                  <a:cubicBezTo>
                    <a:pt x="3092" y="94"/>
                    <a:pt x="3090" y="97"/>
                    <a:pt x="3088" y="100"/>
                  </a:cubicBezTo>
                  <a:cubicBezTo>
                    <a:pt x="3087" y="96"/>
                    <a:pt x="3087" y="93"/>
                    <a:pt x="3086" y="90"/>
                  </a:cubicBezTo>
                  <a:cubicBezTo>
                    <a:pt x="3087" y="93"/>
                    <a:pt x="3087" y="97"/>
                    <a:pt x="3087" y="101"/>
                  </a:cubicBezTo>
                  <a:cubicBezTo>
                    <a:pt x="3086" y="102"/>
                    <a:pt x="3085" y="104"/>
                    <a:pt x="3085" y="105"/>
                  </a:cubicBezTo>
                  <a:cubicBezTo>
                    <a:pt x="3084" y="104"/>
                    <a:pt x="3084" y="103"/>
                    <a:pt x="3083" y="102"/>
                  </a:cubicBezTo>
                  <a:cubicBezTo>
                    <a:pt x="3082" y="97"/>
                    <a:pt x="3081" y="93"/>
                    <a:pt x="3080" y="88"/>
                  </a:cubicBezTo>
                  <a:cubicBezTo>
                    <a:pt x="3081" y="83"/>
                    <a:pt x="3082" y="79"/>
                    <a:pt x="3082" y="75"/>
                  </a:cubicBezTo>
                  <a:cubicBezTo>
                    <a:pt x="3081" y="78"/>
                    <a:pt x="3080" y="80"/>
                    <a:pt x="3079" y="82"/>
                  </a:cubicBezTo>
                  <a:cubicBezTo>
                    <a:pt x="3078" y="81"/>
                    <a:pt x="3078" y="80"/>
                    <a:pt x="3078" y="79"/>
                  </a:cubicBezTo>
                  <a:cubicBezTo>
                    <a:pt x="3078" y="80"/>
                    <a:pt x="3078" y="82"/>
                    <a:pt x="3078" y="83"/>
                  </a:cubicBezTo>
                  <a:cubicBezTo>
                    <a:pt x="3078" y="84"/>
                    <a:pt x="3077" y="86"/>
                    <a:pt x="3076" y="87"/>
                  </a:cubicBezTo>
                  <a:cubicBezTo>
                    <a:pt x="3074" y="83"/>
                    <a:pt x="3073" y="79"/>
                    <a:pt x="3071" y="75"/>
                  </a:cubicBezTo>
                  <a:cubicBezTo>
                    <a:pt x="3071" y="80"/>
                    <a:pt x="3072" y="86"/>
                    <a:pt x="3073" y="93"/>
                  </a:cubicBezTo>
                  <a:cubicBezTo>
                    <a:pt x="3073" y="94"/>
                    <a:pt x="3073" y="94"/>
                    <a:pt x="3073" y="94"/>
                  </a:cubicBezTo>
                  <a:cubicBezTo>
                    <a:pt x="3072" y="90"/>
                    <a:pt x="3070" y="85"/>
                    <a:pt x="3068" y="81"/>
                  </a:cubicBezTo>
                  <a:cubicBezTo>
                    <a:pt x="3070" y="86"/>
                    <a:pt x="3071" y="91"/>
                    <a:pt x="3072" y="97"/>
                  </a:cubicBezTo>
                  <a:cubicBezTo>
                    <a:pt x="3070" y="100"/>
                    <a:pt x="3069" y="102"/>
                    <a:pt x="3068" y="105"/>
                  </a:cubicBezTo>
                  <a:cubicBezTo>
                    <a:pt x="3065" y="83"/>
                    <a:pt x="3059" y="63"/>
                    <a:pt x="3039" y="42"/>
                  </a:cubicBezTo>
                  <a:cubicBezTo>
                    <a:pt x="3047" y="58"/>
                    <a:pt x="3053" y="70"/>
                    <a:pt x="3057" y="81"/>
                  </a:cubicBezTo>
                  <a:cubicBezTo>
                    <a:pt x="3057" y="83"/>
                    <a:pt x="3057" y="86"/>
                    <a:pt x="3057" y="89"/>
                  </a:cubicBezTo>
                  <a:cubicBezTo>
                    <a:pt x="3055" y="86"/>
                    <a:pt x="3053" y="84"/>
                    <a:pt x="3052" y="81"/>
                  </a:cubicBezTo>
                  <a:cubicBezTo>
                    <a:pt x="3051" y="79"/>
                    <a:pt x="3049" y="76"/>
                    <a:pt x="3048" y="73"/>
                  </a:cubicBezTo>
                  <a:cubicBezTo>
                    <a:pt x="3048" y="71"/>
                    <a:pt x="3048" y="69"/>
                    <a:pt x="3048" y="67"/>
                  </a:cubicBezTo>
                  <a:cubicBezTo>
                    <a:pt x="3048" y="69"/>
                    <a:pt x="3047" y="70"/>
                    <a:pt x="3047" y="72"/>
                  </a:cubicBezTo>
                  <a:cubicBezTo>
                    <a:pt x="3044" y="66"/>
                    <a:pt x="3040" y="59"/>
                    <a:pt x="3035" y="53"/>
                  </a:cubicBezTo>
                  <a:cubicBezTo>
                    <a:pt x="3035" y="48"/>
                    <a:pt x="3035" y="42"/>
                    <a:pt x="3035" y="37"/>
                  </a:cubicBezTo>
                  <a:cubicBezTo>
                    <a:pt x="3035" y="34"/>
                    <a:pt x="3035" y="30"/>
                    <a:pt x="3035" y="26"/>
                  </a:cubicBezTo>
                  <a:cubicBezTo>
                    <a:pt x="3032" y="33"/>
                    <a:pt x="3031" y="40"/>
                    <a:pt x="3029" y="47"/>
                  </a:cubicBezTo>
                  <a:cubicBezTo>
                    <a:pt x="3026" y="44"/>
                    <a:pt x="3023" y="41"/>
                    <a:pt x="3020" y="38"/>
                  </a:cubicBezTo>
                  <a:cubicBezTo>
                    <a:pt x="3023" y="41"/>
                    <a:pt x="3026" y="45"/>
                    <a:pt x="3029" y="49"/>
                  </a:cubicBezTo>
                  <a:cubicBezTo>
                    <a:pt x="3029" y="51"/>
                    <a:pt x="3028" y="53"/>
                    <a:pt x="3028" y="55"/>
                  </a:cubicBezTo>
                  <a:cubicBezTo>
                    <a:pt x="3027" y="53"/>
                    <a:pt x="3025" y="52"/>
                    <a:pt x="3024" y="51"/>
                  </a:cubicBezTo>
                  <a:cubicBezTo>
                    <a:pt x="3025" y="53"/>
                    <a:pt x="3027" y="54"/>
                    <a:pt x="3028" y="56"/>
                  </a:cubicBezTo>
                  <a:cubicBezTo>
                    <a:pt x="3027" y="61"/>
                    <a:pt x="3026" y="66"/>
                    <a:pt x="3026" y="72"/>
                  </a:cubicBezTo>
                  <a:cubicBezTo>
                    <a:pt x="3024" y="69"/>
                    <a:pt x="3022" y="66"/>
                    <a:pt x="3021" y="64"/>
                  </a:cubicBezTo>
                  <a:cubicBezTo>
                    <a:pt x="3021" y="66"/>
                    <a:pt x="3023" y="70"/>
                    <a:pt x="3025" y="74"/>
                  </a:cubicBezTo>
                  <a:cubicBezTo>
                    <a:pt x="3024" y="80"/>
                    <a:pt x="3023" y="86"/>
                    <a:pt x="3022" y="92"/>
                  </a:cubicBezTo>
                  <a:cubicBezTo>
                    <a:pt x="3018" y="109"/>
                    <a:pt x="3014" y="126"/>
                    <a:pt x="3012" y="143"/>
                  </a:cubicBezTo>
                  <a:cubicBezTo>
                    <a:pt x="3013" y="126"/>
                    <a:pt x="3014" y="109"/>
                    <a:pt x="3014" y="91"/>
                  </a:cubicBezTo>
                  <a:cubicBezTo>
                    <a:pt x="3014" y="87"/>
                    <a:pt x="3014" y="61"/>
                    <a:pt x="3010" y="59"/>
                  </a:cubicBezTo>
                  <a:cubicBezTo>
                    <a:pt x="3015" y="76"/>
                    <a:pt x="3001" y="122"/>
                    <a:pt x="2998" y="146"/>
                  </a:cubicBezTo>
                  <a:cubicBezTo>
                    <a:pt x="2998" y="148"/>
                    <a:pt x="2998" y="150"/>
                    <a:pt x="2997" y="152"/>
                  </a:cubicBezTo>
                  <a:cubicBezTo>
                    <a:pt x="2997" y="150"/>
                    <a:pt x="2998" y="148"/>
                    <a:pt x="2998" y="146"/>
                  </a:cubicBezTo>
                  <a:cubicBezTo>
                    <a:pt x="3000" y="123"/>
                    <a:pt x="2998" y="98"/>
                    <a:pt x="2997" y="75"/>
                  </a:cubicBezTo>
                  <a:cubicBezTo>
                    <a:pt x="2994" y="97"/>
                    <a:pt x="2986" y="119"/>
                    <a:pt x="2986" y="141"/>
                  </a:cubicBezTo>
                  <a:cubicBezTo>
                    <a:pt x="2986" y="146"/>
                    <a:pt x="2986" y="152"/>
                    <a:pt x="2987" y="158"/>
                  </a:cubicBezTo>
                  <a:cubicBezTo>
                    <a:pt x="2985" y="150"/>
                    <a:pt x="2985" y="140"/>
                    <a:pt x="2985" y="133"/>
                  </a:cubicBezTo>
                  <a:cubicBezTo>
                    <a:pt x="2985" y="109"/>
                    <a:pt x="2989" y="85"/>
                    <a:pt x="2989" y="61"/>
                  </a:cubicBezTo>
                  <a:cubicBezTo>
                    <a:pt x="2989" y="55"/>
                    <a:pt x="2989" y="48"/>
                    <a:pt x="2988" y="41"/>
                  </a:cubicBezTo>
                  <a:cubicBezTo>
                    <a:pt x="2981" y="71"/>
                    <a:pt x="2977" y="110"/>
                    <a:pt x="2977" y="140"/>
                  </a:cubicBezTo>
                  <a:cubicBezTo>
                    <a:pt x="2977" y="145"/>
                    <a:pt x="2977" y="149"/>
                    <a:pt x="2977" y="153"/>
                  </a:cubicBezTo>
                  <a:cubicBezTo>
                    <a:pt x="2976" y="135"/>
                    <a:pt x="2972" y="116"/>
                    <a:pt x="2968" y="98"/>
                  </a:cubicBezTo>
                  <a:cubicBezTo>
                    <a:pt x="2970" y="110"/>
                    <a:pt x="2966" y="124"/>
                    <a:pt x="2966" y="136"/>
                  </a:cubicBezTo>
                  <a:cubicBezTo>
                    <a:pt x="2966" y="140"/>
                    <a:pt x="2966" y="143"/>
                    <a:pt x="2966" y="147"/>
                  </a:cubicBezTo>
                  <a:cubicBezTo>
                    <a:pt x="2963" y="125"/>
                    <a:pt x="2958" y="103"/>
                    <a:pt x="2949" y="83"/>
                  </a:cubicBezTo>
                  <a:cubicBezTo>
                    <a:pt x="2952" y="90"/>
                    <a:pt x="2952" y="108"/>
                    <a:pt x="2952" y="115"/>
                  </a:cubicBezTo>
                  <a:cubicBezTo>
                    <a:pt x="2952" y="127"/>
                    <a:pt x="2952" y="138"/>
                    <a:pt x="2954" y="150"/>
                  </a:cubicBezTo>
                  <a:cubicBezTo>
                    <a:pt x="2945" y="126"/>
                    <a:pt x="2942" y="99"/>
                    <a:pt x="2935" y="74"/>
                  </a:cubicBezTo>
                  <a:cubicBezTo>
                    <a:pt x="2938" y="91"/>
                    <a:pt x="2934" y="110"/>
                    <a:pt x="2934" y="128"/>
                  </a:cubicBezTo>
                  <a:cubicBezTo>
                    <a:pt x="2934" y="132"/>
                    <a:pt x="2935" y="136"/>
                    <a:pt x="2935" y="140"/>
                  </a:cubicBezTo>
                  <a:cubicBezTo>
                    <a:pt x="2935" y="145"/>
                    <a:pt x="2936" y="149"/>
                    <a:pt x="2937" y="154"/>
                  </a:cubicBezTo>
                  <a:cubicBezTo>
                    <a:pt x="2936" y="149"/>
                    <a:pt x="2935" y="145"/>
                    <a:pt x="2935" y="140"/>
                  </a:cubicBezTo>
                  <a:cubicBezTo>
                    <a:pt x="2932" y="120"/>
                    <a:pt x="2929" y="99"/>
                    <a:pt x="2924" y="80"/>
                  </a:cubicBezTo>
                  <a:cubicBezTo>
                    <a:pt x="2926" y="102"/>
                    <a:pt x="2916" y="126"/>
                    <a:pt x="2916" y="149"/>
                  </a:cubicBezTo>
                  <a:cubicBezTo>
                    <a:pt x="2916" y="156"/>
                    <a:pt x="2916" y="156"/>
                    <a:pt x="2916" y="156"/>
                  </a:cubicBezTo>
                  <a:cubicBezTo>
                    <a:pt x="2912" y="147"/>
                    <a:pt x="2912" y="132"/>
                    <a:pt x="2912" y="122"/>
                  </a:cubicBezTo>
                  <a:cubicBezTo>
                    <a:pt x="2912" y="100"/>
                    <a:pt x="2914" y="79"/>
                    <a:pt x="2913" y="57"/>
                  </a:cubicBezTo>
                  <a:cubicBezTo>
                    <a:pt x="2910" y="62"/>
                    <a:pt x="2909" y="112"/>
                    <a:pt x="2909" y="120"/>
                  </a:cubicBezTo>
                  <a:cubicBezTo>
                    <a:pt x="2909" y="133"/>
                    <a:pt x="2910" y="146"/>
                    <a:pt x="2913" y="159"/>
                  </a:cubicBezTo>
                  <a:cubicBezTo>
                    <a:pt x="2908" y="135"/>
                    <a:pt x="2902" y="108"/>
                    <a:pt x="2890" y="85"/>
                  </a:cubicBezTo>
                  <a:cubicBezTo>
                    <a:pt x="2901" y="106"/>
                    <a:pt x="2896" y="132"/>
                    <a:pt x="2903" y="154"/>
                  </a:cubicBezTo>
                  <a:cubicBezTo>
                    <a:pt x="2895" y="142"/>
                    <a:pt x="2893" y="122"/>
                    <a:pt x="2890" y="106"/>
                  </a:cubicBezTo>
                  <a:cubicBezTo>
                    <a:pt x="2892" y="120"/>
                    <a:pt x="2890" y="134"/>
                    <a:pt x="2892" y="148"/>
                  </a:cubicBezTo>
                  <a:cubicBezTo>
                    <a:pt x="2893" y="151"/>
                    <a:pt x="2894" y="153"/>
                    <a:pt x="2894" y="155"/>
                  </a:cubicBezTo>
                  <a:cubicBezTo>
                    <a:pt x="2893" y="153"/>
                    <a:pt x="2893" y="151"/>
                    <a:pt x="2892" y="148"/>
                  </a:cubicBezTo>
                  <a:cubicBezTo>
                    <a:pt x="2887" y="128"/>
                    <a:pt x="2875" y="75"/>
                    <a:pt x="2863" y="68"/>
                  </a:cubicBezTo>
                  <a:cubicBezTo>
                    <a:pt x="2880" y="90"/>
                    <a:pt x="2878" y="127"/>
                    <a:pt x="2882" y="153"/>
                  </a:cubicBezTo>
                  <a:cubicBezTo>
                    <a:pt x="2878" y="134"/>
                    <a:pt x="2871" y="113"/>
                    <a:pt x="2862" y="95"/>
                  </a:cubicBezTo>
                  <a:cubicBezTo>
                    <a:pt x="2869" y="115"/>
                    <a:pt x="2868" y="136"/>
                    <a:pt x="2877" y="155"/>
                  </a:cubicBezTo>
                  <a:cubicBezTo>
                    <a:pt x="2864" y="144"/>
                    <a:pt x="2857" y="117"/>
                    <a:pt x="2853" y="102"/>
                  </a:cubicBezTo>
                  <a:cubicBezTo>
                    <a:pt x="2853" y="120"/>
                    <a:pt x="2858" y="143"/>
                    <a:pt x="2869" y="158"/>
                  </a:cubicBezTo>
                  <a:cubicBezTo>
                    <a:pt x="2855" y="144"/>
                    <a:pt x="2850" y="103"/>
                    <a:pt x="2845" y="85"/>
                  </a:cubicBezTo>
                  <a:cubicBezTo>
                    <a:pt x="2844" y="88"/>
                    <a:pt x="2844" y="91"/>
                    <a:pt x="2844" y="94"/>
                  </a:cubicBezTo>
                  <a:cubicBezTo>
                    <a:pt x="2844" y="113"/>
                    <a:pt x="2849" y="142"/>
                    <a:pt x="2861" y="159"/>
                  </a:cubicBezTo>
                  <a:cubicBezTo>
                    <a:pt x="2847" y="143"/>
                    <a:pt x="2842" y="123"/>
                    <a:pt x="2836" y="104"/>
                  </a:cubicBezTo>
                  <a:cubicBezTo>
                    <a:pt x="2840" y="122"/>
                    <a:pt x="2840" y="140"/>
                    <a:pt x="2849" y="158"/>
                  </a:cubicBezTo>
                  <a:cubicBezTo>
                    <a:pt x="2839" y="147"/>
                    <a:pt x="2834" y="132"/>
                    <a:pt x="2830" y="117"/>
                  </a:cubicBezTo>
                  <a:cubicBezTo>
                    <a:pt x="2832" y="105"/>
                    <a:pt x="2833" y="93"/>
                    <a:pt x="2834" y="84"/>
                  </a:cubicBezTo>
                  <a:cubicBezTo>
                    <a:pt x="2832" y="92"/>
                    <a:pt x="2830" y="101"/>
                    <a:pt x="2828" y="109"/>
                  </a:cubicBezTo>
                  <a:cubicBezTo>
                    <a:pt x="2827" y="102"/>
                    <a:pt x="2825" y="95"/>
                    <a:pt x="2823" y="89"/>
                  </a:cubicBezTo>
                  <a:cubicBezTo>
                    <a:pt x="2826" y="64"/>
                    <a:pt x="2830" y="40"/>
                    <a:pt x="2830" y="40"/>
                  </a:cubicBezTo>
                  <a:cubicBezTo>
                    <a:pt x="2825" y="51"/>
                    <a:pt x="2820" y="77"/>
                    <a:pt x="2817" y="100"/>
                  </a:cubicBezTo>
                  <a:cubicBezTo>
                    <a:pt x="2815" y="95"/>
                    <a:pt x="2812" y="90"/>
                    <a:pt x="2811" y="86"/>
                  </a:cubicBezTo>
                  <a:cubicBezTo>
                    <a:pt x="2810" y="70"/>
                    <a:pt x="2808" y="58"/>
                    <a:pt x="2808" y="60"/>
                  </a:cubicBezTo>
                  <a:cubicBezTo>
                    <a:pt x="2808" y="61"/>
                    <a:pt x="2808" y="69"/>
                    <a:pt x="2807" y="80"/>
                  </a:cubicBezTo>
                  <a:cubicBezTo>
                    <a:pt x="2806" y="79"/>
                    <a:pt x="2806" y="78"/>
                    <a:pt x="2805" y="78"/>
                  </a:cubicBezTo>
                  <a:cubicBezTo>
                    <a:pt x="2806" y="79"/>
                    <a:pt x="2806" y="80"/>
                    <a:pt x="2807" y="81"/>
                  </a:cubicBezTo>
                  <a:cubicBezTo>
                    <a:pt x="2806" y="87"/>
                    <a:pt x="2806" y="95"/>
                    <a:pt x="2805" y="102"/>
                  </a:cubicBezTo>
                  <a:cubicBezTo>
                    <a:pt x="2805" y="102"/>
                    <a:pt x="2805" y="102"/>
                    <a:pt x="2805" y="102"/>
                  </a:cubicBezTo>
                  <a:cubicBezTo>
                    <a:pt x="2805" y="103"/>
                    <a:pt x="2805" y="103"/>
                    <a:pt x="2805" y="103"/>
                  </a:cubicBezTo>
                  <a:cubicBezTo>
                    <a:pt x="2804" y="113"/>
                    <a:pt x="2804" y="123"/>
                    <a:pt x="2803" y="130"/>
                  </a:cubicBezTo>
                  <a:cubicBezTo>
                    <a:pt x="2803" y="130"/>
                    <a:pt x="2802" y="129"/>
                    <a:pt x="2802" y="128"/>
                  </a:cubicBezTo>
                  <a:cubicBezTo>
                    <a:pt x="2802" y="107"/>
                    <a:pt x="2798" y="69"/>
                    <a:pt x="2795" y="47"/>
                  </a:cubicBezTo>
                  <a:cubicBezTo>
                    <a:pt x="2796" y="64"/>
                    <a:pt x="2795" y="87"/>
                    <a:pt x="2794" y="107"/>
                  </a:cubicBezTo>
                  <a:cubicBezTo>
                    <a:pt x="2793" y="105"/>
                    <a:pt x="2792" y="104"/>
                    <a:pt x="2791" y="102"/>
                  </a:cubicBezTo>
                  <a:cubicBezTo>
                    <a:pt x="2792" y="104"/>
                    <a:pt x="2793" y="106"/>
                    <a:pt x="2793" y="107"/>
                  </a:cubicBezTo>
                  <a:cubicBezTo>
                    <a:pt x="2793" y="114"/>
                    <a:pt x="2793" y="121"/>
                    <a:pt x="2792" y="126"/>
                  </a:cubicBezTo>
                  <a:cubicBezTo>
                    <a:pt x="2792" y="125"/>
                    <a:pt x="2791" y="123"/>
                    <a:pt x="2791" y="122"/>
                  </a:cubicBezTo>
                  <a:cubicBezTo>
                    <a:pt x="2790" y="93"/>
                    <a:pt x="2786" y="46"/>
                    <a:pt x="2786" y="46"/>
                  </a:cubicBezTo>
                  <a:cubicBezTo>
                    <a:pt x="2785" y="65"/>
                    <a:pt x="2779" y="142"/>
                    <a:pt x="2779" y="142"/>
                  </a:cubicBezTo>
                  <a:cubicBezTo>
                    <a:pt x="2773" y="106"/>
                    <a:pt x="2780" y="0"/>
                    <a:pt x="2780" y="0"/>
                  </a:cubicBezTo>
                  <a:cubicBezTo>
                    <a:pt x="2774" y="16"/>
                    <a:pt x="2768" y="131"/>
                    <a:pt x="2768" y="131"/>
                  </a:cubicBezTo>
                  <a:cubicBezTo>
                    <a:pt x="2766" y="36"/>
                    <a:pt x="2762" y="32"/>
                    <a:pt x="2762" y="32"/>
                  </a:cubicBezTo>
                  <a:cubicBezTo>
                    <a:pt x="2764" y="43"/>
                    <a:pt x="2761" y="76"/>
                    <a:pt x="2758" y="103"/>
                  </a:cubicBezTo>
                  <a:cubicBezTo>
                    <a:pt x="2757" y="102"/>
                    <a:pt x="2756" y="100"/>
                    <a:pt x="2755" y="99"/>
                  </a:cubicBezTo>
                  <a:cubicBezTo>
                    <a:pt x="2756" y="101"/>
                    <a:pt x="2757" y="103"/>
                    <a:pt x="2758" y="104"/>
                  </a:cubicBezTo>
                  <a:cubicBezTo>
                    <a:pt x="2757" y="112"/>
                    <a:pt x="2756" y="120"/>
                    <a:pt x="2755" y="126"/>
                  </a:cubicBezTo>
                  <a:cubicBezTo>
                    <a:pt x="2755" y="124"/>
                    <a:pt x="2755" y="123"/>
                    <a:pt x="2755" y="122"/>
                  </a:cubicBezTo>
                  <a:cubicBezTo>
                    <a:pt x="2755" y="94"/>
                    <a:pt x="2754" y="48"/>
                    <a:pt x="2754" y="48"/>
                  </a:cubicBezTo>
                  <a:cubicBezTo>
                    <a:pt x="2753" y="55"/>
                    <a:pt x="2750" y="82"/>
                    <a:pt x="2747" y="106"/>
                  </a:cubicBezTo>
                  <a:cubicBezTo>
                    <a:pt x="2746" y="104"/>
                    <a:pt x="2745" y="102"/>
                    <a:pt x="2745" y="100"/>
                  </a:cubicBezTo>
                  <a:cubicBezTo>
                    <a:pt x="2748" y="60"/>
                    <a:pt x="2752" y="9"/>
                    <a:pt x="2752" y="9"/>
                  </a:cubicBezTo>
                  <a:cubicBezTo>
                    <a:pt x="2747" y="23"/>
                    <a:pt x="2740" y="83"/>
                    <a:pt x="2737" y="117"/>
                  </a:cubicBezTo>
                  <a:cubicBezTo>
                    <a:pt x="2736" y="114"/>
                    <a:pt x="2735" y="111"/>
                    <a:pt x="2734" y="108"/>
                  </a:cubicBezTo>
                  <a:cubicBezTo>
                    <a:pt x="2734" y="90"/>
                    <a:pt x="2732" y="72"/>
                    <a:pt x="2732" y="72"/>
                  </a:cubicBezTo>
                  <a:cubicBezTo>
                    <a:pt x="2732" y="76"/>
                    <a:pt x="2732" y="84"/>
                    <a:pt x="2731" y="94"/>
                  </a:cubicBezTo>
                  <a:cubicBezTo>
                    <a:pt x="2730" y="91"/>
                    <a:pt x="2728" y="88"/>
                    <a:pt x="2727" y="84"/>
                  </a:cubicBezTo>
                  <a:cubicBezTo>
                    <a:pt x="2728" y="88"/>
                    <a:pt x="2730" y="92"/>
                    <a:pt x="2730" y="96"/>
                  </a:cubicBezTo>
                  <a:cubicBezTo>
                    <a:pt x="2730" y="99"/>
                    <a:pt x="2730" y="103"/>
                    <a:pt x="2729" y="107"/>
                  </a:cubicBezTo>
                  <a:cubicBezTo>
                    <a:pt x="2729" y="106"/>
                    <a:pt x="2729" y="106"/>
                    <a:pt x="2729" y="105"/>
                  </a:cubicBezTo>
                  <a:cubicBezTo>
                    <a:pt x="2728" y="107"/>
                    <a:pt x="2728" y="112"/>
                    <a:pt x="2728" y="116"/>
                  </a:cubicBezTo>
                  <a:cubicBezTo>
                    <a:pt x="2727" y="121"/>
                    <a:pt x="2727" y="126"/>
                    <a:pt x="2726" y="130"/>
                  </a:cubicBezTo>
                  <a:cubicBezTo>
                    <a:pt x="2726" y="129"/>
                    <a:pt x="2726" y="128"/>
                    <a:pt x="2726" y="127"/>
                  </a:cubicBezTo>
                  <a:cubicBezTo>
                    <a:pt x="2726" y="101"/>
                    <a:pt x="2721" y="63"/>
                    <a:pt x="2720" y="54"/>
                  </a:cubicBezTo>
                  <a:cubicBezTo>
                    <a:pt x="2720" y="61"/>
                    <a:pt x="2719" y="79"/>
                    <a:pt x="2718" y="96"/>
                  </a:cubicBezTo>
                  <a:cubicBezTo>
                    <a:pt x="2717" y="94"/>
                    <a:pt x="2716" y="92"/>
                    <a:pt x="2715" y="90"/>
                  </a:cubicBezTo>
                  <a:cubicBezTo>
                    <a:pt x="2716" y="93"/>
                    <a:pt x="2717" y="95"/>
                    <a:pt x="2718" y="97"/>
                  </a:cubicBezTo>
                  <a:cubicBezTo>
                    <a:pt x="2716" y="118"/>
                    <a:pt x="2714" y="137"/>
                    <a:pt x="2714" y="137"/>
                  </a:cubicBezTo>
                  <a:cubicBezTo>
                    <a:pt x="2713" y="136"/>
                    <a:pt x="2713" y="134"/>
                    <a:pt x="2713" y="133"/>
                  </a:cubicBezTo>
                  <a:cubicBezTo>
                    <a:pt x="2713" y="125"/>
                    <a:pt x="2713" y="118"/>
                    <a:pt x="2712" y="110"/>
                  </a:cubicBezTo>
                  <a:cubicBezTo>
                    <a:pt x="2711" y="76"/>
                    <a:pt x="2710" y="40"/>
                    <a:pt x="2710" y="40"/>
                  </a:cubicBezTo>
                  <a:cubicBezTo>
                    <a:pt x="2710" y="49"/>
                    <a:pt x="2705" y="79"/>
                    <a:pt x="2701" y="104"/>
                  </a:cubicBezTo>
                  <a:cubicBezTo>
                    <a:pt x="2701" y="99"/>
                    <a:pt x="2700" y="95"/>
                    <a:pt x="2699" y="90"/>
                  </a:cubicBezTo>
                  <a:cubicBezTo>
                    <a:pt x="2700" y="67"/>
                    <a:pt x="2701" y="45"/>
                    <a:pt x="2701" y="45"/>
                  </a:cubicBezTo>
                  <a:cubicBezTo>
                    <a:pt x="2701" y="53"/>
                    <a:pt x="2695" y="75"/>
                    <a:pt x="2688" y="96"/>
                  </a:cubicBezTo>
                  <a:cubicBezTo>
                    <a:pt x="2687" y="93"/>
                    <a:pt x="2686" y="89"/>
                    <a:pt x="2684" y="85"/>
                  </a:cubicBezTo>
                  <a:cubicBezTo>
                    <a:pt x="2691" y="51"/>
                    <a:pt x="2699" y="17"/>
                    <a:pt x="2699" y="17"/>
                  </a:cubicBezTo>
                  <a:cubicBezTo>
                    <a:pt x="2694" y="24"/>
                    <a:pt x="2679" y="95"/>
                    <a:pt x="2672" y="130"/>
                  </a:cubicBezTo>
                  <a:cubicBezTo>
                    <a:pt x="2672" y="130"/>
                    <a:pt x="2672" y="130"/>
                    <a:pt x="2672" y="130"/>
                  </a:cubicBezTo>
                  <a:cubicBezTo>
                    <a:pt x="2676" y="100"/>
                    <a:pt x="2673" y="63"/>
                    <a:pt x="2672" y="52"/>
                  </a:cubicBezTo>
                  <a:cubicBezTo>
                    <a:pt x="2674" y="72"/>
                    <a:pt x="2668" y="109"/>
                    <a:pt x="2664" y="128"/>
                  </a:cubicBezTo>
                  <a:cubicBezTo>
                    <a:pt x="2664" y="126"/>
                    <a:pt x="2664" y="123"/>
                    <a:pt x="2663" y="120"/>
                  </a:cubicBezTo>
                  <a:cubicBezTo>
                    <a:pt x="2665" y="99"/>
                    <a:pt x="2667" y="71"/>
                    <a:pt x="2668" y="65"/>
                  </a:cubicBezTo>
                  <a:cubicBezTo>
                    <a:pt x="2667" y="71"/>
                    <a:pt x="2664" y="89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60" y="105"/>
                    <a:pt x="2660" y="105"/>
                    <a:pt x="2660" y="105"/>
                  </a:cubicBezTo>
                  <a:cubicBezTo>
                    <a:pt x="2656" y="125"/>
                    <a:pt x="2653" y="143"/>
                    <a:pt x="2653" y="143"/>
                  </a:cubicBezTo>
                  <a:cubicBezTo>
                    <a:pt x="2663" y="38"/>
                    <a:pt x="2656" y="25"/>
                    <a:pt x="2656" y="25"/>
                  </a:cubicBezTo>
                  <a:cubicBezTo>
                    <a:pt x="2659" y="42"/>
                    <a:pt x="2656" y="72"/>
                    <a:pt x="2651" y="96"/>
                  </a:cubicBezTo>
                  <a:cubicBezTo>
                    <a:pt x="2650" y="89"/>
                    <a:pt x="2648" y="80"/>
                    <a:pt x="2645" y="73"/>
                  </a:cubicBezTo>
                  <a:cubicBezTo>
                    <a:pt x="2644" y="65"/>
                    <a:pt x="2644" y="60"/>
                    <a:pt x="2644" y="60"/>
                  </a:cubicBezTo>
                  <a:cubicBezTo>
                    <a:pt x="2644" y="63"/>
                    <a:pt x="2644" y="67"/>
                    <a:pt x="2643" y="71"/>
                  </a:cubicBezTo>
                  <a:cubicBezTo>
                    <a:pt x="2642" y="69"/>
                    <a:pt x="2641" y="67"/>
                    <a:pt x="2639" y="65"/>
                  </a:cubicBezTo>
                  <a:cubicBezTo>
                    <a:pt x="2641" y="67"/>
                    <a:pt x="2642" y="70"/>
                    <a:pt x="2643" y="73"/>
                  </a:cubicBezTo>
                  <a:cubicBezTo>
                    <a:pt x="2643" y="82"/>
                    <a:pt x="2642" y="92"/>
                    <a:pt x="2640" y="101"/>
                  </a:cubicBezTo>
                  <a:cubicBezTo>
                    <a:pt x="2640" y="95"/>
                    <a:pt x="2637" y="88"/>
                    <a:pt x="2632" y="83"/>
                  </a:cubicBezTo>
                  <a:cubicBezTo>
                    <a:pt x="2632" y="74"/>
                    <a:pt x="2633" y="68"/>
                    <a:pt x="2633" y="68"/>
                  </a:cubicBezTo>
                  <a:cubicBezTo>
                    <a:pt x="2632" y="72"/>
                    <a:pt x="2631" y="76"/>
                    <a:pt x="2630" y="81"/>
                  </a:cubicBezTo>
                  <a:cubicBezTo>
                    <a:pt x="2630" y="81"/>
                    <a:pt x="2629" y="81"/>
                    <a:pt x="2629" y="80"/>
                  </a:cubicBezTo>
                  <a:cubicBezTo>
                    <a:pt x="2629" y="81"/>
                    <a:pt x="2630" y="81"/>
                    <a:pt x="2630" y="82"/>
                  </a:cubicBezTo>
                  <a:cubicBezTo>
                    <a:pt x="2627" y="101"/>
                    <a:pt x="2626" y="130"/>
                    <a:pt x="2626" y="142"/>
                  </a:cubicBezTo>
                  <a:cubicBezTo>
                    <a:pt x="2626" y="143"/>
                    <a:pt x="2625" y="144"/>
                    <a:pt x="2625" y="144"/>
                  </a:cubicBezTo>
                  <a:cubicBezTo>
                    <a:pt x="2624" y="141"/>
                    <a:pt x="2624" y="136"/>
                    <a:pt x="2624" y="131"/>
                  </a:cubicBezTo>
                  <a:cubicBezTo>
                    <a:pt x="2625" y="121"/>
                    <a:pt x="2627" y="112"/>
                    <a:pt x="2628" y="103"/>
                  </a:cubicBezTo>
                  <a:cubicBezTo>
                    <a:pt x="2627" y="108"/>
                    <a:pt x="2626" y="112"/>
                    <a:pt x="2625" y="117"/>
                  </a:cubicBezTo>
                  <a:cubicBezTo>
                    <a:pt x="2626" y="85"/>
                    <a:pt x="2632" y="45"/>
                    <a:pt x="2632" y="45"/>
                  </a:cubicBezTo>
                  <a:cubicBezTo>
                    <a:pt x="2625" y="60"/>
                    <a:pt x="2620" y="95"/>
                    <a:pt x="2618" y="120"/>
                  </a:cubicBezTo>
                  <a:cubicBezTo>
                    <a:pt x="2618" y="123"/>
                    <a:pt x="2617" y="125"/>
                    <a:pt x="2616" y="127"/>
                  </a:cubicBezTo>
                  <a:cubicBezTo>
                    <a:pt x="2616" y="103"/>
                    <a:pt x="2615" y="70"/>
                    <a:pt x="2615" y="70"/>
                  </a:cubicBezTo>
                  <a:cubicBezTo>
                    <a:pt x="2615" y="72"/>
                    <a:pt x="2615" y="76"/>
                    <a:pt x="2614" y="81"/>
                  </a:cubicBezTo>
                  <a:cubicBezTo>
                    <a:pt x="2613" y="73"/>
                    <a:pt x="2611" y="66"/>
                    <a:pt x="2608" y="60"/>
                  </a:cubicBezTo>
                  <a:cubicBezTo>
                    <a:pt x="2609" y="52"/>
                    <a:pt x="2609" y="46"/>
                    <a:pt x="2609" y="46"/>
                  </a:cubicBezTo>
                  <a:cubicBezTo>
                    <a:pt x="2607" y="51"/>
                    <a:pt x="2605" y="64"/>
                    <a:pt x="2604" y="79"/>
                  </a:cubicBezTo>
                  <a:cubicBezTo>
                    <a:pt x="2603" y="77"/>
                    <a:pt x="2603" y="75"/>
                    <a:pt x="2602" y="74"/>
                  </a:cubicBezTo>
                  <a:cubicBezTo>
                    <a:pt x="2601" y="83"/>
                    <a:pt x="2601" y="92"/>
                    <a:pt x="2601" y="102"/>
                  </a:cubicBezTo>
                  <a:cubicBezTo>
                    <a:pt x="2601" y="108"/>
                    <a:pt x="2600" y="115"/>
                    <a:pt x="2599" y="121"/>
                  </a:cubicBezTo>
                  <a:cubicBezTo>
                    <a:pt x="2599" y="123"/>
                    <a:pt x="2599" y="125"/>
                    <a:pt x="2598" y="127"/>
                  </a:cubicBezTo>
                  <a:cubicBezTo>
                    <a:pt x="2598" y="35"/>
                    <a:pt x="2596" y="34"/>
                    <a:pt x="2596" y="34"/>
                  </a:cubicBezTo>
                  <a:cubicBezTo>
                    <a:pt x="2598" y="49"/>
                    <a:pt x="2594" y="77"/>
                    <a:pt x="2590" y="102"/>
                  </a:cubicBezTo>
                  <a:cubicBezTo>
                    <a:pt x="2589" y="94"/>
                    <a:pt x="2587" y="85"/>
                    <a:pt x="2583" y="76"/>
                  </a:cubicBezTo>
                  <a:cubicBezTo>
                    <a:pt x="2584" y="70"/>
                    <a:pt x="2584" y="66"/>
                    <a:pt x="2584" y="66"/>
                  </a:cubicBezTo>
                  <a:cubicBezTo>
                    <a:pt x="2584" y="68"/>
                    <a:pt x="2583" y="71"/>
                    <a:pt x="2582" y="74"/>
                  </a:cubicBezTo>
                  <a:cubicBezTo>
                    <a:pt x="2582" y="73"/>
                    <a:pt x="2581" y="72"/>
                    <a:pt x="2580" y="71"/>
                  </a:cubicBezTo>
                  <a:cubicBezTo>
                    <a:pt x="2581" y="73"/>
                    <a:pt x="2581" y="74"/>
                    <a:pt x="2582" y="76"/>
                  </a:cubicBezTo>
                  <a:cubicBezTo>
                    <a:pt x="2580" y="83"/>
                    <a:pt x="2578" y="93"/>
                    <a:pt x="2577" y="103"/>
                  </a:cubicBezTo>
                  <a:cubicBezTo>
                    <a:pt x="2576" y="98"/>
                    <a:pt x="2575" y="94"/>
                    <a:pt x="2574" y="89"/>
                  </a:cubicBezTo>
                  <a:cubicBezTo>
                    <a:pt x="2575" y="96"/>
                    <a:pt x="2573" y="104"/>
                    <a:pt x="2571" y="112"/>
                  </a:cubicBezTo>
                  <a:cubicBezTo>
                    <a:pt x="2571" y="92"/>
                    <a:pt x="2570" y="70"/>
                    <a:pt x="2569" y="62"/>
                  </a:cubicBezTo>
                  <a:cubicBezTo>
                    <a:pt x="2569" y="67"/>
                    <a:pt x="2569" y="74"/>
                    <a:pt x="2569" y="82"/>
                  </a:cubicBezTo>
                  <a:cubicBezTo>
                    <a:pt x="2567" y="87"/>
                    <a:pt x="2564" y="94"/>
                    <a:pt x="2562" y="101"/>
                  </a:cubicBezTo>
                  <a:cubicBezTo>
                    <a:pt x="2562" y="91"/>
                    <a:pt x="2562" y="82"/>
                    <a:pt x="2562" y="75"/>
                  </a:cubicBezTo>
                  <a:cubicBezTo>
                    <a:pt x="2561" y="86"/>
                    <a:pt x="2559" y="102"/>
                    <a:pt x="2557" y="116"/>
                  </a:cubicBezTo>
                  <a:cubicBezTo>
                    <a:pt x="2555" y="123"/>
                    <a:pt x="2553" y="130"/>
                    <a:pt x="2551" y="136"/>
                  </a:cubicBezTo>
                  <a:cubicBezTo>
                    <a:pt x="2551" y="118"/>
                    <a:pt x="2554" y="89"/>
                    <a:pt x="2554" y="89"/>
                  </a:cubicBezTo>
                  <a:cubicBezTo>
                    <a:pt x="2553" y="93"/>
                    <a:pt x="2552" y="99"/>
                    <a:pt x="2549" y="106"/>
                  </a:cubicBezTo>
                  <a:cubicBezTo>
                    <a:pt x="2549" y="104"/>
                    <a:pt x="2549" y="101"/>
                    <a:pt x="2548" y="99"/>
                  </a:cubicBezTo>
                  <a:cubicBezTo>
                    <a:pt x="2548" y="96"/>
                    <a:pt x="2548" y="96"/>
                    <a:pt x="2548" y="96"/>
                  </a:cubicBezTo>
                  <a:cubicBezTo>
                    <a:pt x="2547" y="95"/>
                    <a:pt x="2547" y="95"/>
                    <a:pt x="2547" y="95"/>
                  </a:cubicBezTo>
                  <a:cubicBezTo>
                    <a:pt x="2547" y="104"/>
                    <a:pt x="2545" y="113"/>
                    <a:pt x="2543" y="122"/>
                  </a:cubicBezTo>
                  <a:cubicBezTo>
                    <a:pt x="2541" y="127"/>
                    <a:pt x="2540" y="131"/>
                    <a:pt x="2538" y="134"/>
                  </a:cubicBezTo>
                  <a:cubicBezTo>
                    <a:pt x="2538" y="130"/>
                    <a:pt x="2538" y="126"/>
                    <a:pt x="2538" y="122"/>
                  </a:cubicBezTo>
                  <a:cubicBezTo>
                    <a:pt x="2542" y="102"/>
                    <a:pt x="2549" y="76"/>
                    <a:pt x="2549" y="76"/>
                  </a:cubicBezTo>
                  <a:cubicBezTo>
                    <a:pt x="2544" y="82"/>
                    <a:pt x="2539" y="94"/>
                    <a:pt x="2535" y="105"/>
                  </a:cubicBezTo>
                  <a:cubicBezTo>
                    <a:pt x="2535" y="102"/>
                    <a:pt x="2534" y="98"/>
                    <a:pt x="2532" y="95"/>
                  </a:cubicBezTo>
                  <a:cubicBezTo>
                    <a:pt x="2533" y="74"/>
                    <a:pt x="2529" y="62"/>
                    <a:pt x="2529" y="62"/>
                  </a:cubicBezTo>
                  <a:cubicBezTo>
                    <a:pt x="2531" y="69"/>
                    <a:pt x="2531" y="78"/>
                    <a:pt x="2530" y="88"/>
                  </a:cubicBezTo>
                  <a:cubicBezTo>
                    <a:pt x="2527" y="83"/>
                    <a:pt x="2524" y="78"/>
                    <a:pt x="2520" y="73"/>
                  </a:cubicBezTo>
                  <a:cubicBezTo>
                    <a:pt x="2524" y="80"/>
                    <a:pt x="2527" y="92"/>
                    <a:pt x="2528" y="102"/>
                  </a:cubicBezTo>
                  <a:cubicBezTo>
                    <a:pt x="2527" y="108"/>
                    <a:pt x="2526" y="115"/>
                    <a:pt x="2525" y="120"/>
                  </a:cubicBezTo>
                  <a:cubicBezTo>
                    <a:pt x="2524" y="113"/>
                    <a:pt x="2523" y="106"/>
                    <a:pt x="2521" y="100"/>
                  </a:cubicBezTo>
                  <a:cubicBezTo>
                    <a:pt x="2522" y="89"/>
                    <a:pt x="2522" y="82"/>
                    <a:pt x="2522" y="82"/>
                  </a:cubicBezTo>
                  <a:cubicBezTo>
                    <a:pt x="2521" y="98"/>
                    <a:pt x="2521" y="98"/>
                    <a:pt x="2521" y="98"/>
                  </a:cubicBezTo>
                  <a:cubicBezTo>
                    <a:pt x="2520" y="94"/>
                    <a:pt x="2519" y="91"/>
                    <a:pt x="2517" y="88"/>
                  </a:cubicBezTo>
                  <a:cubicBezTo>
                    <a:pt x="2517" y="73"/>
                    <a:pt x="2516" y="60"/>
                    <a:pt x="2516" y="60"/>
                  </a:cubicBezTo>
                  <a:cubicBezTo>
                    <a:pt x="2516" y="72"/>
                    <a:pt x="2513" y="90"/>
                    <a:pt x="2513" y="90"/>
                  </a:cubicBezTo>
                  <a:cubicBezTo>
                    <a:pt x="2511" y="84"/>
                    <a:pt x="2511" y="64"/>
                    <a:pt x="2511" y="64"/>
                  </a:cubicBezTo>
                  <a:cubicBezTo>
                    <a:pt x="2511" y="68"/>
                    <a:pt x="2510" y="83"/>
                    <a:pt x="2508" y="98"/>
                  </a:cubicBezTo>
                  <a:cubicBezTo>
                    <a:pt x="2508" y="96"/>
                    <a:pt x="2507" y="95"/>
                    <a:pt x="2507" y="93"/>
                  </a:cubicBezTo>
                  <a:cubicBezTo>
                    <a:pt x="2506" y="88"/>
                    <a:pt x="2504" y="82"/>
                    <a:pt x="2502" y="76"/>
                  </a:cubicBezTo>
                  <a:cubicBezTo>
                    <a:pt x="2502" y="57"/>
                    <a:pt x="2502" y="42"/>
                    <a:pt x="2502" y="42"/>
                  </a:cubicBezTo>
                  <a:cubicBezTo>
                    <a:pt x="2502" y="49"/>
                    <a:pt x="2502" y="59"/>
                    <a:pt x="2501" y="70"/>
                  </a:cubicBezTo>
                  <a:cubicBezTo>
                    <a:pt x="2498" y="64"/>
                    <a:pt x="2496" y="57"/>
                    <a:pt x="2493" y="51"/>
                  </a:cubicBezTo>
                  <a:cubicBezTo>
                    <a:pt x="2492" y="52"/>
                    <a:pt x="2492" y="54"/>
                    <a:pt x="2492" y="55"/>
                  </a:cubicBezTo>
                  <a:cubicBezTo>
                    <a:pt x="2496" y="65"/>
                    <a:pt x="2498" y="74"/>
                    <a:pt x="2499" y="82"/>
                  </a:cubicBezTo>
                  <a:cubicBezTo>
                    <a:pt x="2499" y="88"/>
                    <a:pt x="2498" y="94"/>
                    <a:pt x="2497" y="100"/>
                  </a:cubicBezTo>
                  <a:cubicBezTo>
                    <a:pt x="2496" y="96"/>
                    <a:pt x="2495" y="92"/>
                    <a:pt x="2494" y="88"/>
                  </a:cubicBezTo>
                  <a:cubicBezTo>
                    <a:pt x="2495" y="78"/>
                    <a:pt x="2496" y="70"/>
                    <a:pt x="2496" y="70"/>
                  </a:cubicBezTo>
                  <a:cubicBezTo>
                    <a:pt x="2495" y="72"/>
                    <a:pt x="2494" y="78"/>
                    <a:pt x="2493" y="85"/>
                  </a:cubicBezTo>
                  <a:cubicBezTo>
                    <a:pt x="2491" y="82"/>
                    <a:pt x="2489" y="79"/>
                    <a:pt x="2487" y="76"/>
                  </a:cubicBezTo>
                  <a:cubicBezTo>
                    <a:pt x="2486" y="71"/>
                    <a:pt x="2486" y="66"/>
                    <a:pt x="2486" y="61"/>
                  </a:cubicBezTo>
                  <a:cubicBezTo>
                    <a:pt x="2485" y="73"/>
                    <a:pt x="2483" y="87"/>
                    <a:pt x="2481" y="101"/>
                  </a:cubicBezTo>
                  <a:cubicBezTo>
                    <a:pt x="2479" y="95"/>
                    <a:pt x="2477" y="90"/>
                    <a:pt x="2475" y="86"/>
                  </a:cubicBezTo>
                  <a:cubicBezTo>
                    <a:pt x="2476" y="73"/>
                    <a:pt x="2476" y="64"/>
                    <a:pt x="2476" y="64"/>
                  </a:cubicBezTo>
                  <a:cubicBezTo>
                    <a:pt x="2476" y="71"/>
                    <a:pt x="2474" y="82"/>
                    <a:pt x="2472" y="95"/>
                  </a:cubicBezTo>
                  <a:cubicBezTo>
                    <a:pt x="2470" y="87"/>
                    <a:pt x="2468" y="79"/>
                    <a:pt x="2464" y="71"/>
                  </a:cubicBezTo>
                  <a:cubicBezTo>
                    <a:pt x="2466" y="49"/>
                    <a:pt x="2467" y="30"/>
                    <a:pt x="2467" y="30"/>
                  </a:cubicBezTo>
                  <a:cubicBezTo>
                    <a:pt x="2465" y="35"/>
                    <a:pt x="2463" y="49"/>
                    <a:pt x="2461" y="65"/>
                  </a:cubicBezTo>
                  <a:cubicBezTo>
                    <a:pt x="2460" y="62"/>
                    <a:pt x="2458" y="59"/>
                    <a:pt x="2456" y="56"/>
                  </a:cubicBezTo>
                  <a:cubicBezTo>
                    <a:pt x="2456" y="63"/>
                    <a:pt x="2458" y="70"/>
                    <a:pt x="2460" y="78"/>
                  </a:cubicBezTo>
                  <a:cubicBezTo>
                    <a:pt x="2459" y="87"/>
                    <a:pt x="2458" y="97"/>
                    <a:pt x="2457" y="106"/>
                  </a:cubicBezTo>
                  <a:cubicBezTo>
                    <a:pt x="2457" y="105"/>
                    <a:pt x="2457" y="104"/>
                    <a:pt x="2456" y="103"/>
                  </a:cubicBezTo>
                  <a:cubicBezTo>
                    <a:pt x="2457" y="104"/>
                    <a:pt x="2457" y="106"/>
                    <a:pt x="2457" y="109"/>
                  </a:cubicBezTo>
                  <a:cubicBezTo>
                    <a:pt x="2456" y="120"/>
                    <a:pt x="2455" y="131"/>
                    <a:pt x="2455" y="138"/>
                  </a:cubicBezTo>
                  <a:cubicBezTo>
                    <a:pt x="2455" y="137"/>
                    <a:pt x="2454" y="135"/>
                    <a:pt x="2454" y="134"/>
                  </a:cubicBezTo>
                  <a:cubicBezTo>
                    <a:pt x="2453" y="99"/>
                    <a:pt x="2448" y="41"/>
                    <a:pt x="2448" y="41"/>
                  </a:cubicBezTo>
                  <a:cubicBezTo>
                    <a:pt x="2449" y="58"/>
                    <a:pt x="2448" y="86"/>
                    <a:pt x="2446" y="108"/>
                  </a:cubicBezTo>
                  <a:cubicBezTo>
                    <a:pt x="2444" y="105"/>
                    <a:pt x="2443" y="102"/>
                    <a:pt x="2441" y="99"/>
                  </a:cubicBezTo>
                  <a:cubicBezTo>
                    <a:pt x="2441" y="86"/>
                    <a:pt x="2441" y="73"/>
                    <a:pt x="2441" y="67"/>
                  </a:cubicBezTo>
                  <a:cubicBezTo>
                    <a:pt x="2441" y="75"/>
                    <a:pt x="2440" y="85"/>
                    <a:pt x="2439" y="94"/>
                  </a:cubicBezTo>
                  <a:cubicBezTo>
                    <a:pt x="2438" y="92"/>
                    <a:pt x="2437" y="91"/>
                    <a:pt x="2436" y="89"/>
                  </a:cubicBezTo>
                  <a:cubicBezTo>
                    <a:pt x="2437" y="91"/>
                    <a:pt x="2438" y="94"/>
                    <a:pt x="2438" y="97"/>
                  </a:cubicBezTo>
                  <a:cubicBezTo>
                    <a:pt x="2437" y="104"/>
                    <a:pt x="2436" y="110"/>
                    <a:pt x="2434" y="116"/>
                  </a:cubicBezTo>
                  <a:cubicBezTo>
                    <a:pt x="2433" y="110"/>
                    <a:pt x="2432" y="105"/>
                    <a:pt x="2430" y="101"/>
                  </a:cubicBezTo>
                  <a:cubicBezTo>
                    <a:pt x="2431" y="91"/>
                    <a:pt x="2432" y="83"/>
                    <a:pt x="2432" y="83"/>
                  </a:cubicBezTo>
                  <a:cubicBezTo>
                    <a:pt x="2432" y="86"/>
                    <a:pt x="2431" y="92"/>
                    <a:pt x="2429" y="98"/>
                  </a:cubicBezTo>
                  <a:cubicBezTo>
                    <a:pt x="2428" y="94"/>
                    <a:pt x="2427" y="91"/>
                    <a:pt x="2426" y="89"/>
                  </a:cubicBezTo>
                  <a:cubicBezTo>
                    <a:pt x="2427" y="74"/>
                    <a:pt x="2428" y="62"/>
                    <a:pt x="2428" y="62"/>
                  </a:cubicBezTo>
                  <a:cubicBezTo>
                    <a:pt x="2427" y="65"/>
                    <a:pt x="2426" y="75"/>
                    <a:pt x="2424" y="87"/>
                  </a:cubicBezTo>
                  <a:cubicBezTo>
                    <a:pt x="2422" y="83"/>
                    <a:pt x="2420" y="81"/>
                    <a:pt x="2417" y="78"/>
                  </a:cubicBezTo>
                  <a:cubicBezTo>
                    <a:pt x="2420" y="81"/>
                    <a:pt x="2422" y="84"/>
                    <a:pt x="2424" y="89"/>
                  </a:cubicBezTo>
                  <a:cubicBezTo>
                    <a:pt x="2423" y="96"/>
                    <a:pt x="2422" y="105"/>
                    <a:pt x="2421" y="113"/>
                  </a:cubicBezTo>
                  <a:cubicBezTo>
                    <a:pt x="2420" y="108"/>
                    <a:pt x="2419" y="104"/>
                    <a:pt x="2417" y="100"/>
                  </a:cubicBezTo>
                  <a:cubicBezTo>
                    <a:pt x="2416" y="86"/>
                    <a:pt x="2414" y="74"/>
                    <a:pt x="2413" y="68"/>
                  </a:cubicBezTo>
                  <a:cubicBezTo>
                    <a:pt x="2413" y="71"/>
                    <a:pt x="2414" y="76"/>
                    <a:pt x="2413" y="86"/>
                  </a:cubicBezTo>
                  <a:cubicBezTo>
                    <a:pt x="2413" y="87"/>
                    <a:pt x="2413" y="88"/>
                    <a:pt x="2413" y="90"/>
                  </a:cubicBezTo>
                  <a:cubicBezTo>
                    <a:pt x="2412" y="87"/>
                    <a:pt x="2410" y="84"/>
                    <a:pt x="2408" y="81"/>
                  </a:cubicBezTo>
                  <a:cubicBezTo>
                    <a:pt x="2411" y="85"/>
                    <a:pt x="2412" y="91"/>
                    <a:pt x="2412" y="96"/>
                  </a:cubicBezTo>
                  <a:cubicBezTo>
                    <a:pt x="2411" y="105"/>
                    <a:pt x="2409" y="115"/>
                    <a:pt x="2407" y="124"/>
                  </a:cubicBezTo>
                  <a:cubicBezTo>
                    <a:pt x="2407" y="113"/>
                    <a:pt x="2406" y="102"/>
                    <a:pt x="2404" y="91"/>
                  </a:cubicBezTo>
                  <a:cubicBezTo>
                    <a:pt x="2404" y="77"/>
                    <a:pt x="2404" y="77"/>
                    <a:pt x="2404" y="77"/>
                  </a:cubicBezTo>
                  <a:cubicBezTo>
                    <a:pt x="2407" y="35"/>
                    <a:pt x="2400" y="19"/>
                    <a:pt x="2400" y="19"/>
                  </a:cubicBezTo>
                  <a:cubicBezTo>
                    <a:pt x="2400" y="19"/>
                    <a:pt x="2403" y="31"/>
                    <a:pt x="2402" y="54"/>
                  </a:cubicBezTo>
                  <a:cubicBezTo>
                    <a:pt x="2401" y="59"/>
                    <a:pt x="2401" y="68"/>
                    <a:pt x="2400" y="78"/>
                  </a:cubicBezTo>
                  <a:cubicBezTo>
                    <a:pt x="2397" y="72"/>
                    <a:pt x="2394" y="66"/>
                    <a:pt x="2390" y="60"/>
                  </a:cubicBezTo>
                  <a:cubicBezTo>
                    <a:pt x="2390" y="61"/>
                    <a:pt x="2390" y="61"/>
                    <a:pt x="2390" y="61"/>
                  </a:cubicBezTo>
                  <a:cubicBezTo>
                    <a:pt x="2390" y="62"/>
                    <a:pt x="2390" y="63"/>
                    <a:pt x="2390" y="64"/>
                  </a:cubicBezTo>
                  <a:cubicBezTo>
                    <a:pt x="2388" y="44"/>
                    <a:pt x="2381" y="40"/>
                    <a:pt x="2381" y="40"/>
                  </a:cubicBezTo>
                  <a:cubicBezTo>
                    <a:pt x="2381" y="40"/>
                    <a:pt x="2387" y="44"/>
                    <a:pt x="2387" y="70"/>
                  </a:cubicBezTo>
                  <a:cubicBezTo>
                    <a:pt x="2387" y="76"/>
                    <a:pt x="2386" y="85"/>
                    <a:pt x="2384" y="94"/>
                  </a:cubicBezTo>
                  <a:cubicBezTo>
                    <a:pt x="2382" y="90"/>
                    <a:pt x="2379" y="86"/>
                    <a:pt x="2376" y="83"/>
                  </a:cubicBezTo>
                  <a:cubicBezTo>
                    <a:pt x="2379" y="87"/>
                    <a:pt x="2382" y="92"/>
                    <a:pt x="2384" y="97"/>
                  </a:cubicBezTo>
                  <a:cubicBezTo>
                    <a:pt x="2383" y="100"/>
                    <a:pt x="2383" y="103"/>
                    <a:pt x="2382" y="106"/>
                  </a:cubicBezTo>
                  <a:cubicBezTo>
                    <a:pt x="2381" y="104"/>
                    <a:pt x="2381" y="102"/>
                    <a:pt x="2380" y="100"/>
                  </a:cubicBezTo>
                  <a:cubicBezTo>
                    <a:pt x="2381" y="102"/>
                    <a:pt x="2381" y="105"/>
                    <a:pt x="2382" y="108"/>
                  </a:cubicBezTo>
                  <a:cubicBezTo>
                    <a:pt x="2381" y="111"/>
                    <a:pt x="2380" y="114"/>
                    <a:pt x="2379" y="117"/>
                  </a:cubicBezTo>
                  <a:cubicBezTo>
                    <a:pt x="2378" y="113"/>
                    <a:pt x="2376" y="108"/>
                    <a:pt x="2374" y="104"/>
                  </a:cubicBezTo>
                  <a:cubicBezTo>
                    <a:pt x="2375" y="87"/>
                    <a:pt x="2376" y="71"/>
                    <a:pt x="2376" y="71"/>
                  </a:cubicBezTo>
                  <a:cubicBezTo>
                    <a:pt x="2375" y="73"/>
                    <a:pt x="2373" y="84"/>
                    <a:pt x="2371" y="97"/>
                  </a:cubicBezTo>
                  <a:cubicBezTo>
                    <a:pt x="2370" y="95"/>
                    <a:pt x="2369" y="93"/>
                    <a:pt x="2368" y="92"/>
                  </a:cubicBezTo>
                  <a:cubicBezTo>
                    <a:pt x="2369" y="81"/>
                    <a:pt x="2370" y="72"/>
                    <a:pt x="2371" y="66"/>
                  </a:cubicBezTo>
                  <a:cubicBezTo>
                    <a:pt x="2370" y="73"/>
                    <a:pt x="2369" y="81"/>
                    <a:pt x="2367" y="90"/>
                  </a:cubicBezTo>
                  <a:cubicBezTo>
                    <a:pt x="2366" y="88"/>
                    <a:pt x="2364" y="86"/>
                    <a:pt x="2362" y="83"/>
                  </a:cubicBezTo>
                  <a:cubicBezTo>
                    <a:pt x="2366" y="26"/>
                    <a:pt x="2364" y="12"/>
                    <a:pt x="2364" y="12"/>
                  </a:cubicBezTo>
                  <a:cubicBezTo>
                    <a:pt x="2364" y="12"/>
                    <a:pt x="2364" y="18"/>
                    <a:pt x="2361" y="56"/>
                  </a:cubicBezTo>
                  <a:cubicBezTo>
                    <a:pt x="2360" y="64"/>
                    <a:pt x="2359" y="71"/>
                    <a:pt x="2358" y="78"/>
                  </a:cubicBezTo>
                  <a:cubicBezTo>
                    <a:pt x="2356" y="76"/>
                    <a:pt x="2353" y="73"/>
                    <a:pt x="2351" y="71"/>
                  </a:cubicBezTo>
                  <a:cubicBezTo>
                    <a:pt x="2352" y="48"/>
                    <a:pt x="2353" y="31"/>
                    <a:pt x="2353" y="31"/>
                  </a:cubicBezTo>
                  <a:cubicBezTo>
                    <a:pt x="2351" y="37"/>
                    <a:pt x="2349" y="52"/>
                    <a:pt x="2348" y="68"/>
                  </a:cubicBezTo>
                  <a:cubicBezTo>
                    <a:pt x="2346" y="66"/>
                    <a:pt x="2344" y="65"/>
                    <a:pt x="2342" y="63"/>
                  </a:cubicBezTo>
                  <a:cubicBezTo>
                    <a:pt x="2344" y="65"/>
                    <a:pt x="2346" y="67"/>
                    <a:pt x="2348" y="69"/>
                  </a:cubicBezTo>
                  <a:cubicBezTo>
                    <a:pt x="2347" y="82"/>
                    <a:pt x="2347" y="96"/>
                    <a:pt x="2346" y="109"/>
                  </a:cubicBezTo>
                  <a:cubicBezTo>
                    <a:pt x="2345" y="104"/>
                    <a:pt x="2343" y="99"/>
                    <a:pt x="2342" y="96"/>
                  </a:cubicBezTo>
                  <a:cubicBezTo>
                    <a:pt x="2343" y="104"/>
                    <a:pt x="2344" y="112"/>
                    <a:pt x="2346" y="120"/>
                  </a:cubicBezTo>
                  <a:cubicBezTo>
                    <a:pt x="2346" y="123"/>
                    <a:pt x="2346" y="126"/>
                    <a:pt x="2346" y="128"/>
                  </a:cubicBezTo>
                  <a:cubicBezTo>
                    <a:pt x="2345" y="125"/>
                    <a:pt x="2343" y="122"/>
                    <a:pt x="2342" y="118"/>
                  </a:cubicBezTo>
                  <a:cubicBezTo>
                    <a:pt x="2337" y="80"/>
                    <a:pt x="2330" y="28"/>
                    <a:pt x="2330" y="28"/>
                  </a:cubicBezTo>
                  <a:cubicBezTo>
                    <a:pt x="2330" y="39"/>
                    <a:pt x="2328" y="72"/>
                    <a:pt x="2326" y="100"/>
                  </a:cubicBezTo>
                  <a:cubicBezTo>
                    <a:pt x="2326" y="98"/>
                    <a:pt x="2325" y="97"/>
                    <a:pt x="2324" y="96"/>
                  </a:cubicBezTo>
                  <a:cubicBezTo>
                    <a:pt x="2325" y="97"/>
                    <a:pt x="2326" y="99"/>
                    <a:pt x="2326" y="100"/>
                  </a:cubicBezTo>
                  <a:cubicBezTo>
                    <a:pt x="2326" y="110"/>
                    <a:pt x="2325" y="120"/>
                    <a:pt x="2324" y="128"/>
                  </a:cubicBezTo>
                  <a:cubicBezTo>
                    <a:pt x="2324" y="128"/>
                    <a:pt x="2324" y="127"/>
                    <a:pt x="2324" y="127"/>
                  </a:cubicBezTo>
                  <a:cubicBezTo>
                    <a:pt x="2324" y="109"/>
                    <a:pt x="2322" y="87"/>
                    <a:pt x="2321" y="71"/>
                  </a:cubicBezTo>
                  <a:cubicBezTo>
                    <a:pt x="2322" y="68"/>
                    <a:pt x="2323" y="66"/>
                    <a:pt x="2324" y="64"/>
                  </a:cubicBezTo>
                  <a:cubicBezTo>
                    <a:pt x="2323" y="65"/>
                    <a:pt x="2322" y="67"/>
                    <a:pt x="2320" y="69"/>
                  </a:cubicBezTo>
                  <a:cubicBezTo>
                    <a:pt x="2320" y="61"/>
                    <a:pt x="2319" y="55"/>
                    <a:pt x="2319" y="53"/>
                  </a:cubicBezTo>
                  <a:cubicBezTo>
                    <a:pt x="2319" y="52"/>
                    <a:pt x="2320" y="52"/>
                    <a:pt x="2320" y="51"/>
                  </a:cubicBezTo>
                  <a:cubicBezTo>
                    <a:pt x="2320" y="51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9" y="52"/>
                    <a:pt x="2319" y="52"/>
                    <a:pt x="2319" y="52"/>
                  </a:cubicBezTo>
                  <a:cubicBezTo>
                    <a:pt x="2317" y="54"/>
                    <a:pt x="2315" y="56"/>
                    <a:pt x="2313" y="57"/>
                  </a:cubicBezTo>
                  <a:cubicBezTo>
                    <a:pt x="2314" y="54"/>
                    <a:pt x="2314" y="52"/>
                    <a:pt x="2314" y="50"/>
                  </a:cubicBezTo>
                  <a:cubicBezTo>
                    <a:pt x="2318" y="46"/>
                    <a:pt x="2321" y="42"/>
                    <a:pt x="2325" y="38"/>
                  </a:cubicBezTo>
                  <a:cubicBezTo>
                    <a:pt x="2321" y="41"/>
                    <a:pt x="2318" y="44"/>
                    <a:pt x="2315" y="47"/>
                  </a:cubicBezTo>
                  <a:cubicBezTo>
                    <a:pt x="2315" y="43"/>
                    <a:pt x="2316" y="40"/>
                    <a:pt x="2316" y="40"/>
                  </a:cubicBezTo>
                  <a:cubicBezTo>
                    <a:pt x="2315" y="43"/>
                    <a:pt x="2313" y="46"/>
                    <a:pt x="2312" y="50"/>
                  </a:cubicBezTo>
                  <a:cubicBezTo>
                    <a:pt x="2305" y="58"/>
                    <a:pt x="2300" y="66"/>
                    <a:pt x="2296" y="75"/>
                  </a:cubicBezTo>
                  <a:cubicBezTo>
                    <a:pt x="2295" y="70"/>
                    <a:pt x="2295" y="66"/>
                    <a:pt x="2295" y="63"/>
                  </a:cubicBezTo>
                  <a:cubicBezTo>
                    <a:pt x="2298" y="57"/>
                    <a:pt x="2301" y="50"/>
                    <a:pt x="2305" y="42"/>
                  </a:cubicBezTo>
                  <a:cubicBezTo>
                    <a:pt x="2296" y="52"/>
                    <a:pt x="2290" y="61"/>
                    <a:pt x="2286" y="71"/>
                  </a:cubicBezTo>
                  <a:cubicBezTo>
                    <a:pt x="2285" y="70"/>
                    <a:pt x="2284" y="70"/>
                    <a:pt x="2284" y="69"/>
                  </a:cubicBezTo>
                  <a:cubicBezTo>
                    <a:pt x="2284" y="68"/>
                    <a:pt x="2284" y="67"/>
                    <a:pt x="2283" y="65"/>
                  </a:cubicBezTo>
                  <a:cubicBezTo>
                    <a:pt x="2290" y="53"/>
                    <a:pt x="2298" y="41"/>
                    <a:pt x="2309" y="25"/>
                  </a:cubicBezTo>
                  <a:cubicBezTo>
                    <a:pt x="2298" y="40"/>
                    <a:pt x="2290" y="51"/>
                    <a:pt x="2283" y="63"/>
                  </a:cubicBezTo>
                  <a:cubicBezTo>
                    <a:pt x="2281" y="45"/>
                    <a:pt x="2279" y="30"/>
                    <a:pt x="2279" y="30"/>
                  </a:cubicBezTo>
                  <a:cubicBezTo>
                    <a:pt x="2280" y="35"/>
                    <a:pt x="2280" y="49"/>
                    <a:pt x="2280" y="65"/>
                  </a:cubicBezTo>
                  <a:cubicBezTo>
                    <a:pt x="2280" y="65"/>
                    <a:pt x="2279" y="65"/>
                    <a:pt x="2279" y="65"/>
                  </a:cubicBezTo>
                  <a:cubicBezTo>
                    <a:pt x="2279" y="65"/>
                    <a:pt x="2280" y="65"/>
                    <a:pt x="2280" y="65"/>
                  </a:cubicBezTo>
                  <a:cubicBezTo>
                    <a:pt x="2280" y="67"/>
                    <a:pt x="2280" y="69"/>
                    <a:pt x="2279" y="71"/>
                  </a:cubicBezTo>
                  <a:cubicBezTo>
                    <a:pt x="2278" y="74"/>
                    <a:pt x="2277" y="78"/>
                    <a:pt x="2276" y="81"/>
                  </a:cubicBezTo>
                  <a:cubicBezTo>
                    <a:pt x="2277" y="78"/>
                    <a:pt x="2278" y="76"/>
                    <a:pt x="2279" y="73"/>
                  </a:cubicBezTo>
                  <a:cubicBezTo>
                    <a:pt x="2279" y="79"/>
                    <a:pt x="2279" y="85"/>
                    <a:pt x="2279" y="91"/>
                  </a:cubicBezTo>
                  <a:cubicBezTo>
                    <a:pt x="2278" y="93"/>
                    <a:pt x="2278" y="95"/>
                    <a:pt x="2278" y="97"/>
                  </a:cubicBezTo>
                  <a:cubicBezTo>
                    <a:pt x="2277" y="96"/>
                    <a:pt x="2276" y="95"/>
                    <a:pt x="2276" y="94"/>
                  </a:cubicBezTo>
                  <a:cubicBezTo>
                    <a:pt x="2275" y="91"/>
                    <a:pt x="2275" y="88"/>
                    <a:pt x="2275" y="85"/>
                  </a:cubicBezTo>
                  <a:cubicBezTo>
                    <a:pt x="2275" y="83"/>
                    <a:pt x="2276" y="82"/>
                    <a:pt x="2276" y="81"/>
                  </a:cubicBezTo>
                  <a:cubicBezTo>
                    <a:pt x="2276" y="82"/>
                    <a:pt x="2275" y="83"/>
                    <a:pt x="2275" y="84"/>
                  </a:cubicBezTo>
                  <a:cubicBezTo>
                    <a:pt x="2274" y="72"/>
                    <a:pt x="2273" y="62"/>
                    <a:pt x="2273" y="55"/>
                  </a:cubicBezTo>
                  <a:cubicBezTo>
                    <a:pt x="2274" y="54"/>
                    <a:pt x="2275" y="53"/>
                    <a:pt x="2277" y="52"/>
                  </a:cubicBezTo>
                  <a:cubicBezTo>
                    <a:pt x="2275" y="53"/>
                    <a:pt x="2274" y="54"/>
                    <a:pt x="2273" y="54"/>
                  </a:cubicBezTo>
                  <a:cubicBezTo>
                    <a:pt x="2273" y="49"/>
                    <a:pt x="2272" y="46"/>
                    <a:pt x="2272" y="46"/>
                  </a:cubicBezTo>
                  <a:cubicBezTo>
                    <a:pt x="2272" y="48"/>
                    <a:pt x="2272" y="51"/>
                    <a:pt x="2272" y="55"/>
                  </a:cubicBezTo>
                  <a:cubicBezTo>
                    <a:pt x="2269" y="57"/>
                    <a:pt x="2266" y="59"/>
                    <a:pt x="2263" y="62"/>
                  </a:cubicBezTo>
                  <a:cubicBezTo>
                    <a:pt x="2263" y="58"/>
                    <a:pt x="2263" y="54"/>
                    <a:pt x="2263" y="50"/>
                  </a:cubicBezTo>
                  <a:cubicBezTo>
                    <a:pt x="2267" y="45"/>
                    <a:pt x="2272" y="40"/>
                    <a:pt x="2277" y="34"/>
                  </a:cubicBezTo>
                  <a:cubicBezTo>
                    <a:pt x="2272" y="39"/>
                    <a:pt x="2267" y="44"/>
                    <a:pt x="2263" y="48"/>
                  </a:cubicBezTo>
                  <a:cubicBezTo>
                    <a:pt x="2265" y="21"/>
                    <a:pt x="2266" y="0"/>
                    <a:pt x="2266" y="0"/>
                  </a:cubicBezTo>
                  <a:cubicBezTo>
                    <a:pt x="2262" y="10"/>
                    <a:pt x="2260" y="35"/>
                    <a:pt x="2259" y="53"/>
                  </a:cubicBezTo>
                  <a:cubicBezTo>
                    <a:pt x="2258" y="54"/>
                    <a:pt x="2257" y="55"/>
                    <a:pt x="2257" y="56"/>
                  </a:cubicBezTo>
                  <a:cubicBezTo>
                    <a:pt x="2255" y="44"/>
                    <a:pt x="2252" y="33"/>
                    <a:pt x="2252" y="33"/>
                  </a:cubicBezTo>
                  <a:cubicBezTo>
                    <a:pt x="2253" y="39"/>
                    <a:pt x="2253" y="49"/>
                    <a:pt x="2252" y="62"/>
                  </a:cubicBezTo>
                  <a:cubicBezTo>
                    <a:pt x="2250" y="63"/>
                    <a:pt x="2249" y="65"/>
                    <a:pt x="2248" y="67"/>
                  </a:cubicBezTo>
                  <a:cubicBezTo>
                    <a:pt x="2247" y="65"/>
                    <a:pt x="2246" y="63"/>
                    <a:pt x="2245" y="62"/>
                  </a:cubicBezTo>
                  <a:cubicBezTo>
                    <a:pt x="2245" y="63"/>
                    <a:pt x="2246" y="65"/>
                    <a:pt x="2247" y="68"/>
                  </a:cubicBezTo>
                  <a:cubicBezTo>
                    <a:pt x="2244" y="72"/>
                    <a:pt x="2242" y="75"/>
                    <a:pt x="2241" y="78"/>
                  </a:cubicBezTo>
                  <a:cubicBezTo>
                    <a:pt x="2240" y="61"/>
                    <a:pt x="2240" y="48"/>
                    <a:pt x="2240" y="48"/>
                  </a:cubicBezTo>
                  <a:cubicBezTo>
                    <a:pt x="2239" y="52"/>
                    <a:pt x="2238" y="65"/>
                    <a:pt x="2236" y="80"/>
                  </a:cubicBezTo>
                  <a:cubicBezTo>
                    <a:pt x="2235" y="82"/>
                    <a:pt x="2235" y="85"/>
                    <a:pt x="2234" y="87"/>
                  </a:cubicBezTo>
                  <a:cubicBezTo>
                    <a:pt x="2233" y="86"/>
                    <a:pt x="2233" y="86"/>
                    <a:pt x="2232" y="85"/>
                  </a:cubicBezTo>
                  <a:cubicBezTo>
                    <a:pt x="2235" y="48"/>
                    <a:pt x="2238" y="9"/>
                    <a:pt x="2238" y="9"/>
                  </a:cubicBezTo>
                  <a:cubicBezTo>
                    <a:pt x="2234" y="20"/>
                    <a:pt x="2230" y="57"/>
                    <a:pt x="2226" y="89"/>
                  </a:cubicBezTo>
                  <a:cubicBezTo>
                    <a:pt x="2225" y="91"/>
                    <a:pt x="2224" y="92"/>
                    <a:pt x="2224" y="93"/>
                  </a:cubicBezTo>
                  <a:cubicBezTo>
                    <a:pt x="2223" y="92"/>
                    <a:pt x="2222" y="90"/>
                    <a:pt x="2221" y="89"/>
                  </a:cubicBezTo>
                  <a:cubicBezTo>
                    <a:pt x="2224" y="72"/>
                    <a:pt x="2227" y="55"/>
                    <a:pt x="2227" y="37"/>
                  </a:cubicBezTo>
                  <a:cubicBezTo>
                    <a:pt x="2227" y="34"/>
                    <a:pt x="2227" y="30"/>
                    <a:pt x="2227" y="26"/>
                  </a:cubicBezTo>
                  <a:cubicBezTo>
                    <a:pt x="2220" y="45"/>
                    <a:pt x="2219" y="66"/>
                    <a:pt x="2215" y="86"/>
                  </a:cubicBezTo>
                  <a:cubicBezTo>
                    <a:pt x="2214" y="85"/>
                    <a:pt x="2214" y="84"/>
                    <a:pt x="2214" y="84"/>
                  </a:cubicBezTo>
                  <a:cubicBezTo>
                    <a:pt x="2214" y="84"/>
                    <a:pt x="2214" y="85"/>
                    <a:pt x="2215" y="86"/>
                  </a:cubicBezTo>
                  <a:cubicBezTo>
                    <a:pt x="2214" y="88"/>
                    <a:pt x="2214" y="90"/>
                    <a:pt x="2214" y="92"/>
                  </a:cubicBezTo>
                  <a:cubicBezTo>
                    <a:pt x="2213" y="94"/>
                    <a:pt x="2213" y="96"/>
                    <a:pt x="2212" y="98"/>
                  </a:cubicBezTo>
                  <a:cubicBezTo>
                    <a:pt x="2212" y="97"/>
                    <a:pt x="2211" y="96"/>
                    <a:pt x="2210" y="95"/>
                  </a:cubicBezTo>
                  <a:cubicBezTo>
                    <a:pt x="2210" y="86"/>
                    <a:pt x="2209" y="78"/>
                    <a:pt x="2208" y="72"/>
                  </a:cubicBezTo>
                  <a:cubicBezTo>
                    <a:pt x="2211" y="67"/>
                    <a:pt x="2215" y="63"/>
                    <a:pt x="2219" y="59"/>
                  </a:cubicBezTo>
                  <a:cubicBezTo>
                    <a:pt x="2215" y="62"/>
                    <a:pt x="2211" y="66"/>
                    <a:pt x="2208" y="70"/>
                  </a:cubicBezTo>
                  <a:cubicBezTo>
                    <a:pt x="2207" y="64"/>
                    <a:pt x="2207" y="60"/>
                    <a:pt x="2206" y="57"/>
                  </a:cubicBezTo>
                  <a:cubicBezTo>
                    <a:pt x="2207" y="54"/>
                    <a:pt x="2209" y="52"/>
                    <a:pt x="2210" y="50"/>
                  </a:cubicBezTo>
                  <a:cubicBezTo>
                    <a:pt x="2209" y="51"/>
                    <a:pt x="2207" y="53"/>
                    <a:pt x="2206" y="54"/>
                  </a:cubicBezTo>
                  <a:cubicBezTo>
                    <a:pt x="2206" y="53"/>
                    <a:pt x="2206" y="52"/>
                    <a:pt x="2206" y="52"/>
                  </a:cubicBezTo>
                  <a:cubicBezTo>
                    <a:pt x="2206" y="53"/>
                    <a:pt x="2206" y="54"/>
                    <a:pt x="2206" y="54"/>
                  </a:cubicBezTo>
                  <a:cubicBezTo>
                    <a:pt x="2204" y="56"/>
                    <a:pt x="2202" y="58"/>
                    <a:pt x="2200" y="60"/>
                  </a:cubicBezTo>
                  <a:cubicBezTo>
                    <a:pt x="2199" y="54"/>
                    <a:pt x="2198" y="48"/>
                    <a:pt x="2197" y="44"/>
                  </a:cubicBezTo>
                  <a:cubicBezTo>
                    <a:pt x="2198" y="49"/>
                    <a:pt x="2197" y="56"/>
                    <a:pt x="2196" y="64"/>
                  </a:cubicBezTo>
                  <a:cubicBezTo>
                    <a:pt x="2195" y="66"/>
                    <a:pt x="2194" y="68"/>
                    <a:pt x="2193" y="69"/>
                  </a:cubicBezTo>
                  <a:cubicBezTo>
                    <a:pt x="2191" y="67"/>
                    <a:pt x="2190" y="66"/>
                    <a:pt x="2188" y="64"/>
                  </a:cubicBezTo>
                  <a:cubicBezTo>
                    <a:pt x="2190" y="66"/>
                    <a:pt x="2191" y="67"/>
                    <a:pt x="2193" y="69"/>
                  </a:cubicBezTo>
                  <a:cubicBezTo>
                    <a:pt x="2191" y="71"/>
                    <a:pt x="2190" y="73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9" y="75"/>
                    <a:pt x="2189" y="75"/>
                    <a:pt x="2189" y="75"/>
                  </a:cubicBezTo>
                  <a:cubicBezTo>
                    <a:pt x="2188" y="76"/>
                    <a:pt x="2187" y="77"/>
                    <a:pt x="2186" y="79"/>
                  </a:cubicBezTo>
                  <a:cubicBezTo>
                    <a:pt x="2186" y="79"/>
                    <a:pt x="2186" y="79"/>
                    <a:pt x="2186" y="79"/>
                  </a:cubicBezTo>
                  <a:cubicBezTo>
                    <a:pt x="2187" y="60"/>
                    <a:pt x="2187" y="45"/>
                    <a:pt x="2187" y="45"/>
                  </a:cubicBezTo>
                  <a:cubicBezTo>
                    <a:pt x="2187" y="50"/>
                    <a:pt x="2185" y="61"/>
                    <a:pt x="2182" y="73"/>
                  </a:cubicBezTo>
                  <a:cubicBezTo>
                    <a:pt x="2181" y="73"/>
                    <a:pt x="2181" y="73"/>
                    <a:pt x="2180" y="72"/>
                  </a:cubicBezTo>
                  <a:cubicBezTo>
                    <a:pt x="2181" y="70"/>
                    <a:pt x="2181" y="68"/>
                    <a:pt x="2181" y="66"/>
                  </a:cubicBezTo>
                  <a:cubicBezTo>
                    <a:pt x="2181" y="65"/>
                    <a:pt x="2181" y="65"/>
                    <a:pt x="2182" y="65"/>
                  </a:cubicBezTo>
                  <a:cubicBezTo>
                    <a:pt x="2181" y="65"/>
                    <a:pt x="2181" y="65"/>
                    <a:pt x="2181" y="66"/>
                  </a:cubicBezTo>
                  <a:cubicBezTo>
                    <a:pt x="2181" y="64"/>
                    <a:pt x="2181" y="63"/>
                    <a:pt x="2181" y="61"/>
                  </a:cubicBezTo>
                  <a:cubicBezTo>
                    <a:pt x="2181" y="55"/>
                    <a:pt x="2181" y="49"/>
                    <a:pt x="2180" y="42"/>
                  </a:cubicBezTo>
                  <a:cubicBezTo>
                    <a:pt x="2183" y="27"/>
                    <a:pt x="2185" y="17"/>
                    <a:pt x="2185" y="17"/>
                  </a:cubicBezTo>
                  <a:cubicBezTo>
                    <a:pt x="2182" y="22"/>
                    <a:pt x="2175" y="49"/>
                    <a:pt x="2169" y="78"/>
                  </a:cubicBezTo>
                  <a:cubicBezTo>
                    <a:pt x="2169" y="78"/>
                    <a:pt x="2169" y="78"/>
                    <a:pt x="2168" y="79"/>
                  </a:cubicBezTo>
                  <a:cubicBezTo>
                    <a:pt x="2167" y="76"/>
                    <a:pt x="2164" y="72"/>
                    <a:pt x="2162" y="69"/>
                  </a:cubicBezTo>
                  <a:cubicBezTo>
                    <a:pt x="2163" y="67"/>
                    <a:pt x="2165" y="66"/>
                    <a:pt x="2167" y="64"/>
                  </a:cubicBezTo>
                  <a:cubicBezTo>
                    <a:pt x="2165" y="66"/>
                    <a:pt x="2163" y="67"/>
                    <a:pt x="2162" y="69"/>
                  </a:cubicBezTo>
                  <a:cubicBezTo>
                    <a:pt x="2161" y="68"/>
                    <a:pt x="2160" y="67"/>
                    <a:pt x="2159" y="66"/>
                  </a:cubicBezTo>
                  <a:cubicBezTo>
                    <a:pt x="2159" y="60"/>
                    <a:pt x="2158" y="55"/>
                    <a:pt x="2158" y="52"/>
                  </a:cubicBezTo>
                  <a:cubicBezTo>
                    <a:pt x="2158" y="56"/>
                    <a:pt x="2158" y="60"/>
                    <a:pt x="2158" y="64"/>
                  </a:cubicBezTo>
                  <a:cubicBezTo>
                    <a:pt x="2154" y="60"/>
                    <a:pt x="2150" y="55"/>
                    <a:pt x="2145" y="50"/>
                  </a:cubicBezTo>
                  <a:cubicBezTo>
                    <a:pt x="2148" y="55"/>
                    <a:pt x="2151" y="60"/>
                    <a:pt x="2154" y="65"/>
                  </a:cubicBezTo>
                  <a:cubicBezTo>
                    <a:pt x="2153" y="68"/>
                    <a:pt x="2153" y="71"/>
                    <a:pt x="2152" y="76"/>
                  </a:cubicBezTo>
                  <a:cubicBezTo>
                    <a:pt x="2150" y="74"/>
                    <a:pt x="2148" y="71"/>
                    <a:pt x="2145" y="68"/>
                  </a:cubicBezTo>
                  <a:cubicBezTo>
                    <a:pt x="2145" y="54"/>
                    <a:pt x="2144" y="41"/>
                    <a:pt x="2143" y="33"/>
                  </a:cubicBezTo>
                  <a:cubicBezTo>
                    <a:pt x="2144" y="42"/>
                    <a:pt x="2143" y="53"/>
                    <a:pt x="2142" y="65"/>
                  </a:cubicBezTo>
                  <a:cubicBezTo>
                    <a:pt x="2140" y="63"/>
                    <a:pt x="2138" y="61"/>
                    <a:pt x="2136" y="59"/>
                  </a:cubicBezTo>
                  <a:cubicBezTo>
                    <a:pt x="2138" y="61"/>
                    <a:pt x="2140" y="63"/>
                    <a:pt x="2142" y="65"/>
                  </a:cubicBezTo>
                  <a:cubicBezTo>
                    <a:pt x="2141" y="72"/>
                    <a:pt x="2140" y="80"/>
                    <a:pt x="2139" y="87"/>
                  </a:cubicBezTo>
                  <a:cubicBezTo>
                    <a:pt x="2139" y="87"/>
                    <a:pt x="2139" y="87"/>
                    <a:pt x="2139" y="87"/>
                  </a:cubicBezTo>
                  <a:cubicBezTo>
                    <a:pt x="2138" y="85"/>
                    <a:pt x="2138" y="84"/>
                    <a:pt x="2137" y="83"/>
                  </a:cubicBezTo>
                  <a:cubicBezTo>
                    <a:pt x="2138" y="82"/>
                    <a:pt x="2138" y="82"/>
                    <a:pt x="2138" y="81"/>
                  </a:cubicBezTo>
                  <a:cubicBezTo>
                    <a:pt x="2138" y="82"/>
                    <a:pt x="2138" y="82"/>
                    <a:pt x="2137" y="83"/>
                  </a:cubicBezTo>
                  <a:cubicBezTo>
                    <a:pt x="2137" y="81"/>
                    <a:pt x="2136" y="79"/>
                    <a:pt x="2135" y="77"/>
                  </a:cubicBezTo>
                  <a:cubicBezTo>
                    <a:pt x="2136" y="79"/>
                    <a:pt x="2136" y="81"/>
                    <a:pt x="2137" y="83"/>
                  </a:cubicBezTo>
                  <a:cubicBezTo>
                    <a:pt x="2136" y="85"/>
                    <a:pt x="2135" y="86"/>
                    <a:pt x="2134" y="88"/>
                  </a:cubicBezTo>
                  <a:cubicBezTo>
                    <a:pt x="2135" y="86"/>
                    <a:pt x="2136" y="85"/>
                    <a:pt x="2137" y="83"/>
                  </a:cubicBezTo>
                  <a:cubicBezTo>
                    <a:pt x="2137" y="85"/>
                    <a:pt x="2138" y="86"/>
                    <a:pt x="2138" y="88"/>
                  </a:cubicBezTo>
                  <a:cubicBezTo>
                    <a:pt x="2136" y="91"/>
                    <a:pt x="2135" y="95"/>
                    <a:pt x="2133" y="98"/>
                  </a:cubicBezTo>
                  <a:cubicBezTo>
                    <a:pt x="2133" y="97"/>
                    <a:pt x="2133" y="97"/>
                    <a:pt x="2132" y="97"/>
                  </a:cubicBezTo>
                  <a:cubicBezTo>
                    <a:pt x="2132" y="95"/>
                    <a:pt x="2132" y="94"/>
                    <a:pt x="2132" y="93"/>
                  </a:cubicBezTo>
                  <a:cubicBezTo>
                    <a:pt x="2132" y="91"/>
                    <a:pt x="2133" y="89"/>
                    <a:pt x="2134" y="88"/>
                  </a:cubicBezTo>
                  <a:cubicBezTo>
                    <a:pt x="2133" y="89"/>
                    <a:pt x="2132" y="91"/>
                    <a:pt x="2131" y="92"/>
                  </a:cubicBezTo>
                  <a:cubicBezTo>
                    <a:pt x="2131" y="92"/>
                    <a:pt x="2131" y="91"/>
                    <a:pt x="2131" y="91"/>
                  </a:cubicBezTo>
                  <a:cubicBezTo>
                    <a:pt x="2131" y="74"/>
                    <a:pt x="2130" y="60"/>
                    <a:pt x="2130" y="60"/>
                  </a:cubicBezTo>
                  <a:cubicBezTo>
                    <a:pt x="2130" y="65"/>
                    <a:pt x="2130" y="73"/>
                    <a:pt x="2129" y="81"/>
                  </a:cubicBezTo>
                  <a:cubicBezTo>
                    <a:pt x="2128" y="79"/>
                    <a:pt x="2128" y="76"/>
                    <a:pt x="2127" y="74"/>
                  </a:cubicBezTo>
                  <a:cubicBezTo>
                    <a:pt x="2128" y="79"/>
                    <a:pt x="2128" y="83"/>
                    <a:pt x="2128" y="88"/>
                  </a:cubicBezTo>
                  <a:cubicBezTo>
                    <a:pt x="2127" y="86"/>
                    <a:pt x="2126" y="84"/>
                    <a:pt x="2125" y="83"/>
                  </a:cubicBezTo>
                  <a:cubicBezTo>
                    <a:pt x="2126" y="85"/>
                    <a:pt x="2127" y="87"/>
                    <a:pt x="2128" y="89"/>
                  </a:cubicBezTo>
                  <a:cubicBezTo>
                    <a:pt x="2128" y="89"/>
                    <a:pt x="2128" y="89"/>
                    <a:pt x="2128" y="89"/>
                  </a:cubicBezTo>
                  <a:cubicBezTo>
                    <a:pt x="2128" y="93"/>
                    <a:pt x="2127" y="97"/>
                    <a:pt x="2127" y="101"/>
                  </a:cubicBezTo>
                  <a:cubicBezTo>
                    <a:pt x="2126" y="103"/>
                    <a:pt x="2125" y="104"/>
                    <a:pt x="2125" y="106"/>
                  </a:cubicBezTo>
                  <a:cubicBezTo>
                    <a:pt x="2123" y="100"/>
                    <a:pt x="2122" y="95"/>
                    <a:pt x="2120" y="90"/>
                  </a:cubicBezTo>
                  <a:cubicBezTo>
                    <a:pt x="2121" y="88"/>
                    <a:pt x="2123" y="85"/>
                    <a:pt x="2124" y="83"/>
                  </a:cubicBezTo>
                  <a:cubicBezTo>
                    <a:pt x="2123" y="85"/>
                    <a:pt x="2121" y="87"/>
                    <a:pt x="2119" y="89"/>
                  </a:cubicBezTo>
                  <a:cubicBezTo>
                    <a:pt x="2119" y="88"/>
                    <a:pt x="2118" y="87"/>
                    <a:pt x="2118" y="87"/>
                  </a:cubicBezTo>
                  <a:cubicBezTo>
                    <a:pt x="2118" y="76"/>
                    <a:pt x="2119" y="68"/>
                    <a:pt x="2119" y="68"/>
                  </a:cubicBezTo>
                  <a:cubicBezTo>
                    <a:pt x="2118" y="72"/>
                    <a:pt x="2117" y="77"/>
                    <a:pt x="2116" y="82"/>
                  </a:cubicBezTo>
                  <a:cubicBezTo>
                    <a:pt x="2116" y="81"/>
                    <a:pt x="2116" y="80"/>
                    <a:pt x="2116" y="80"/>
                  </a:cubicBezTo>
                  <a:cubicBezTo>
                    <a:pt x="2116" y="80"/>
                    <a:pt x="2116" y="81"/>
                    <a:pt x="2116" y="82"/>
                  </a:cubicBezTo>
                  <a:cubicBezTo>
                    <a:pt x="2115" y="80"/>
                    <a:pt x="2114" y="78"/>
                    <a:pt x="2112" y="75"/>
                  </a:cubicBezTo>
                  <a:cubicBezTo>
                    <a:pt x="2113" y="65"/>
                    <a:pt x="2114" y="56"/>
                    <a:pt x="2115" y="48"/>
                  </a:cubicBezTo>
                  <a:cubicBezTo>
                    <a:pt x="2114" y="55"/>
                    <a:pt x="2112" y="64"/>
                    <a:pt x="2111" y="73"/>
                  </a:cubicBezTo>
                  <a:cubicBezTo>
                    <a:pt x="2109" y="70"/>
                    <a:pt x="2107" y="67"/>
                    <a:pt x="2105" y="64"/>
                  </a:cubicBezTo>
                  <a:cubicBezTo>
                    <a:pt x="2105" y="62"/>
                    <a:pt x="2105" y="59"/>
                    <a:pt x="2105" y="57"/>
                  </a:cubicBezTo>
                  <a:cubicBezTo>
                    <a:pt x="2104" y="58"/>
                    <a:pt x="2104" y="60"/>
                    <a:pt x="2103" y="62"/>
                  </a:cubicBezTo>
                  <a:cubicBezTo>
                    <a:pt x="2101" y="59"/>
                    <a:pt x="2098" y="55"/>
                    <a:pt x="2095" y="52"/>
                  </a:cubicBezTo>
                  <a:cubicBezTo>
                    <a:pt x="2095" y="48"/>
                    <a:pt x="2095" y="46"/>
                    <a:pt x="2095" y="46"/>
                  </a:cubicBezTo>
                  <a:cubicBezTo>
                    <a:pt x="2095" y="48"/>
                    <a:pt x="2095" y="49"/>
                    <a:pt x="2094" y="51"/>
                  </a:cubicBezTo>
                  <a:cubicBezTo>
                    <a:pt x="2091" y="47"/>
                    <a:pt x="2087" y="43"/>
                    <a:pt x="2083" y="39"/>
                  </a:cubicBezTo>
                  <a:cubicBezTo>
                    <a:pt x="2083" y="37"/>
                    <a:pt x="2083" y="35"/>
                    <a:pt x="2082" y="34"/>
                  </a:cubicBezTo>
                  <a:cubicBezTo>
                    <a:pt x="2082" y="34"/>
                    <a:pt x="2083" y="36"/>
                    <a:pt x="2083" y="39"/>
                  </a:cubicBezTo>
                  <a:cubicBezTo>
                    <a:pt x="2081" y="37"/>
                    <a:pt x="2080" y="36"/>
                    <a:pt x="2078" y="34"/>
                  </a:cubicBezTo>
                  <a:cubicBezTo>
                    <a:pt x="2080" y="36"/>
                    <a:pt x="2081" y="38"/>
                    <a:pt x="2083" y="40"/>
                  </a:cubicBezTo>
                  <a:cubicBezTo>
                    <a:pt x="2083" y="40"/>
                    <a:pt x="2083" y="40"/>
                    <a:pt x="2083" y="41"/>
                  </a:cubicBezTo>
                  <a:cubicBezTo>
                    <a:pt x="2083" y="40"/>
                    <a:pt x="2083" y="40"/>
                    <a:pt x="2083" y="40"/>
                  </a:cubicBezTo>
                  <a:cubicBezTo>
                    <a:pt x="2087" y="45"/>
                    <a:pt x="2090" y="49"/>
                    <a:pt x="2094" y="53"/>
                  </a:cubicBezTo>
                  <a:cubicBezTo>
                    <a:pt x="2093" y="55"/>
                    <a:pt x="2092" y="59"/>
                    <a:pt x="2092" y="62"/>
                  </a:cubicBezTo>
                  <a:cubicBezTo>
                    <a:pt x="2089" y="60"/>
                    <a:pt x="2087" y="58"/>
                    <a:pt x="2084" y="56"/>
                  </a:cubicBezTo>
                  <a:cubicBezTo>
                    <a:pt x="2083" y="50"/>
                    <a:pt x="2083" y="44"/>
                    <a:pt x="2083" y="41"/>
                  </a:cubicBezTo>
                  <a:cubicBezTo>
                    <a:pt x="2083" y="45"/>
                    <a:pt x="2083" y="50"/>
                    <a:pt x="2082" y="55"/>
                  </a:cubicBezTo>
                  <a:cubicBezTo>
                    <a:pt x="2081" y="54"/>
                    <a:pt x="2080" y="53"/>
                    <a:pt x="2078" y="52"/>
                  </a:cubicBezTo>
                  <a:cubicBezTo>
                    <a:pt x="2080" y="53"/>
                    <a:pt x="2081" y="54"/>
                    <a:pt x="2082" y="55"/>
                  </a:cubicBezTo>
                  <a:cubicBezTo>
                    <a:pt x="2082" y="64"/>
                    <a:pt x="2081" y="73"/>
                    <a:pt x="2079" y="83"/>
                  </a:cubicBezTo>
                  <a:cubicBezTo>
                    <a:pt x="2079" y="82"/>
                    <a:pt x="2079" y="81"/>
                    <a:pt x="2079" y="81"/>
                  </a:cubicBezTo>
                  <a:cubicBezTo>
                    <a:pt x="2079" y="82"/>
                    <a:pt x="2079" y="82"/>
                    <a:pt x="2079" y="83"/>
                  </a:cubicBezTo>
                  <a:cubicBezTo>
                    <a:pt x="2078" y="88"/>
                    <a:pt x="2078" y="92"/>
                    <a:pt x="2077" y="97"/>
                  </a:cubicBezTo>
                  <a:cubicBezTo>
                    <a:pt x="2075" y="89"/>
                    <a:pt x="2073" y="81"/>
                    <a:pt x="2070" y="73"/>
                  </a:cubicBezTo>
                  <a:cubicBezTo>
                    <a:pt x="2070" y="72"/>
                    <a:pt x="2070" y="71"/>
                    <a:pt x="2070" y="71"/>
                  </a:cubicBezTo>
                  <a:cubicBezTo>
                    <a:pt x="2071" y="70"/>
                    <a:pt x="2072" y="69"/>
                    <a:pt x="2073" y="68"/>
                  </a:cubicBezTo>
                  <a:cubicBezTo>
                    <a:pt x="2075" y="72"/>
                    <a:pt x="2077" y="76"/>
                    <a:pt x="2079" y="81"/>
                  </a:cubicBezTo>
                  <a:cubicBezTo>
                    <a:pt x="2077" y="76"/>
                    <a:pt x="2075" y="72"/>
                    <a:pt x="2073" y="67"/>
                  </a:cubicBezTo>
                  <a:cubicBezTo>
                    <a:pt x="2074" y="67"/>
                    <a:pt x="2074" y="66"/>
                    <a:pt x="2075" y="65"/>
                  </a:cubicBezTo>
                  <a:cubicBezTo>
                    <a:pt x="2074" y="66"/>
                    <a:pt x="2074" y="66"/>
                    <a:pt x="2073" y="67"/>
                  </a:cubicBezTo>
                  <a:cubicBezTo>
                    <a:pt x="2067" y="54"/>
                    <a:pt x="2057" y="41"/>
                    <a:pt x="2045" y="25"/>
                  </a:cubicBezTo>
                  <a:cubicBezTo>
                    <a:pt x="2057" y="42"/>
                    <a:pt x="2066" y="55"/>
                    <a:pt x="2072" y="68"/>
                  </a:cubicBezTo>
                  <a:cubicBezTo>
                    <a:pt x="2072" y="68"/>
                    <a:pt x="2071" y="69"/>
                    <a:pt x="2070" y="70"/>
                  </a:cubicBezTo>
                  <a:cubicBezTo>
                    <a:pt x="2070" y="68"/>
                    <a:pt x="2070" y="66"/>
                    <a:pt x="2070" y="66"/>
                  </a:cubicBezTo>
                  <a:cubicBezTo>
                    <a:pt x="2070" y="68"/>
                    <a:pt x="2070" y="69"/>
                    <a:pt x="2069" y="71"/>
                  </a:cubicBezTo>
                  <a:cubicBezTo>
                    <a:pt x="2069" y="71"/>
                    <a:pt x="2069" y="71"/>
                    <a:pt x="2069" y="71"/>
                  </a:cubicBezTo>
                  <a:cubicBezTo>
                    <a:pt x="2065" y="61"/>
                    <a:pt x="2058" y="52"/>
                    <a:pt x="2049" y="42"/>
                  </a:cubicBezTo>
                  <a:cubicBezTo>
                    <a:pt x="2056" y="55"/>
                    <a:pt x="2061" y="65"/>
                    <a:pt x="2065" y="75"/>
                  </a:cubicBezTo>
                  <a:cubicBezTo>
                    <a:pt x="2064" y="76"/>
                    <a:pt x="2063" y="77"/>
                    <a:pt x="2062" y="77"/>
                  </a:cubicBezTo>
                  <a:cubicBezTo>
                    <a:pt x="2060" y="73"/>
                    <a:pt x="2058" y="70"/>
                    <a:pt x="2056" y="68"/>
                  </a:cubicBezTo>
                  <a:cubicBezTo>
                    <a:pt x="2055" y="63"/>
                    <a:pt x="2055" y="60"/>
                    <a:pt x="2055" y="60"/>
                  </a:cubicBezTo>
                  <a:cubicBezTo>
                    <a:pt x="2055" y="61"/>
                    <a:pt x="2055" y="64"/>
                    <a:pt x="2055" y="67"/>
                  </a:cubicBezTo>
                  <a:cubicBezTo>
                    <a:pt x="2049" y="57"/>
                    <a:pt x="2041" y="47"/>
                    <a:pt x="2030" y="38"/>
                  </a:cubicBezTo>
                  <a:cubicBezTo>
                    <a:pt x="2040" y="49"/>
                    <a:pt x="2048" y="60"/>
                    <a:pt x="2054" y="71"/>
                  </a:cubicBezTo>
                  <a:cubicBezTo>
                    <a:pt x="2054" y="75"/>
                    <a:pt x="2054" y="80"/>
                    <a:pt x="2053" y="85"/>
                  </a:cubicBezTo>
                  <a:cubicBezTo>
                    <a:pt x="2053" y="84"/>
                    <a:pt x="2053" y="84"/>
                    <a:pt x="2052" y="83"/>
                  </a:cubicBezTo>
                  <a:cubicBezTo>
                    <a:pt x="2052" y="84"/>
                    <a:pt x="2053" y="85"/>
                    <a:pt x="2053" y="86"/>
                  </a:cubicBezTo>
                  <a:cubicBezTo>
                    <a:pt x="2053" y="87"/>
                    <a:pt x="2053" y="88"/>
                    <a:pt x="2053" y="89"/>
                  </a:cubicBezTo>
                  <a:cubicBezTo>
                    <a:pt x="2051" y="92"/>
                    <a:pt x="2050" y="94"/>
                    <a:pt x="2048" y="97"/>
                  </a:cubicBezTo>
                  <a:cubicBezTo>
                    <a:pt x="2048" y="93"/>
                    <a:pt x="2048" y="90"/>
                    <a:pt x="2048" y="87"/>
                  </a:cubicBezTo>
                  <a:cubicBezTo>
                    <a:pt x="2049" y="84"/>
                    <a:pt x="2050" y="82"/>
                    <a:pt x="2050" y="80"/>
                  </a:cubicBezTo>
                  <a:cubicBezTo>
                    <a:pt x="2051" y="81"/>
                    <a:pt x="2051" y="82"/>
                    <a:pt x="2052" y="83"/>
                  </a:cubicBezTo>
                  <a:cubicBezTo>
                    <a:pt x="2052" y="81"/>
                    <a:pt x="2051" y="80"/>
                    <a:pt x="2050" y="79"/>
                  </a:cubicBezTo>
                  <a:cubicBezTo>
                    <a:pt x="2051" y="79"/>
                    <a:pt x="2051" y="78"/>
                    <a:pt x="2051" y="77"/>
                  </a:cubicBezTo>
                  <a:cubicBezTo>
                    <a:pt x="2051" y="77"/>
                    <a:pt x="2050" y="78"/>
                    <a:pt x="2050" y="79"/>
                  </a:cubicBezTo>
                  <a:cubicBezTo>
                    <a:pt x="2049" y="77"/>
                    <a:pt x="2049" y="76"/>
                    <a:pt x="2048" y="75"/>
                  </a:cubicBezTo>
                  <a:cubicBezTo>
                    <a:pt x="2049" y="77"/>
                    <a:pt x="2049" y="78"/>
                    <a:pt x="2050" y="79"/>
                  </a:cubicBezTo>
                  <a:cubicBezTo>
                    <a:pt x="2049" y="80"/>
                    <a:pt x="2048" y="81"/>
                    <a:pt x="2048" y="82"/>
                  </a:cubicBezTo>
                  <a:cubicBezTo>
                    <a:pt x="2048" y="73"/>
                    <a:pt x="2048" y="68"/>
                    <a:pt x="2048" y="68"/>
                  </a:cubicBezTo>
                  <a:cubicBezTo>
                    <a:pt x="2047" y="72"/>
                    <a:pt x="2047" y="78"/>
                    <a:pt x="2046" y="85"/>
                  </a:cubicBezTo>
                  <a:cubicBezTo>
                    <a:pt x="2043" y="90"/>
                    <a:pt x="2041" y="94"/>
                    <a:pt x="2040" y="99"/>
                  </a:cubicBezTo>
                  <a:cubicBezTo>
                    <a:pt x="2040" y="98"/>
                    <a:pt x="2039" y="97"/>
                    <a:pt x="2039" y="96"/>
                  </a:cubicBezTo>
                  <a:cubicBezTo>
                    <a:pt x="2039" y="92"/>
                    <a:pt x="2040" y="89"/>
                    <a:pt x="2040" y="89"/>
                  </a:cubicBezTo>
                  <a:cubicBezTo>
                    <a:pt x="2040" y="91"/>
                    <a:pt x="2039" y="92"/>
                    <a:pt x="2039" y="94"/>
                  </a:cubicBezTo>
                  <a:cubicBezTo>
                    <a:pt x="2038" y="91"/>
                    <a:pt x="2037" y="88"/>
                    <a:pt x="2037" y="85"/>
                  </a:cubicBezTo>
                  <a:cubicBezTo>
                    <a:pt x="2036" y="88"/>
                    <a:pt x="2036" y="91"/>
                    <a:pt x="2036" y="94"/>
                  </a:cubicBezTo>
                  <a:cubicBezTo>
                    <a:pt x="2036" y="97"/>
                    <a:pt x="2036" y="100"/>
                    <a:pt x="2036" y="103"/>
                  </a:cubicBezTo>
                  <a:cubicBezTo>
                    <a:pt x="2035" y="107"/>
                    <a:pt x="2033" y="112"/>
                    <a:pt x="2032" y="116"/>
                  </a:cubicBezTo>
                  <a:cubicBezTo>
                    <a:pt x="2030" y="112"/>
                    <a:pt x="2029" y="108"/>
                    <a:pt x="2028" y="104"/>
                  </a:cubicBezTo>
                  <a:cubicBezTo>
                    <a:pt x="2029" y="109"/>
                    <a:pt x="2030" y="115"/>
                    <a:pt x="2030" y="120"/>
                  </a:cubicBezTo>
                  <a:cubicBezTo>
                    <a:pt x="2029" y="124"/>
                    <a:pt x="2027" y="127"/>
                    <a:pt x="2026" y="130"/>
                  </a:cubicBezTo>
                  <a:cubicBezTo>
                    <a:pt x="2025" y="128"/>
                    <a:pt x="2024" y="126"/>
                    <a:pt x="2024" y="123"/>
                  </a:cubicBezTo>
                  <a:cubicBezTo>
                    <a:pt x="2025" y="115"/>
                    <a:pt x="2027" y="106"/>
                    <a:pt x="2029" y="98"/>
                  </a:cubicBezTo>
                  <a:cubicBezTo>
                    <a:pt x="2030" y="98"/>
                    <a:pt x="2030" y="97"/>
                    <a:pt x="2030" y="96"/>
                  </a:cubicBezTo>
                  <a:cubicBezTo>
                    <a:pt x="2030" y="96"/>
                    <a:pt x="2030" y="97"/>
                    <a:pt x="2029" y="97"/>
                  </a:cubicBezTo>
                  <a:cubicBezTo>
                    <a:pt x="2032" y="86"/>
                    <a:pt x="2035" y="76"/>
                    <a:pt x="2035" y="76"/>
                  </a:cubicBezTo>
                  <a:cubicBezTo>
                    <a:pt x="2030" y="83"/>
                    <a:pt x="2024" y="96"/>
                    <a:pt x="2020" y="109"/>
                  </a:cubicBezTo>
                  <a:cubicBezTo>
                    <a:pt x="2020" y="107"/>
                    <a:pt x="2019" y="106"/>
                    <a:pt x="2019" y="104"/>
                  </a:cubicBezTo>
                  <a:cubicBezTo>
                    <a:pt x="2021" y="97"/>
                    <a:pt x="2024" y="90"/>
                    <a:pt x="2027" y="84"/>
                  </a:cubicBezTo>
                  <a:cubicBezTo>
                    <a:pt x="2024" y="90"/>
                    <a:pt x="2021" y="96"/>
                    <a:pt x="2019" y="102"/>
                  </a:cubicBezTo>
                  <a:cubicBezTo>
                    <a:pt x="2018" y="102"/>
                    <a:pt x="2018" y="101"/>
                    <a:pt x="2018" y="101"/>
                  </a:cubicBezTo>
                  <a:cubicBezTo>
                    <a:pt x="2020" y="77"/>
                    <a:pt x="2016" y="62"/>
                    <a:pt x="2016" y="62"/>
                  </a:cubicBezTo>
                  <a:cubicBezTo>
                    <a:pt x="2017" y="69"/>
                    <a:pt x="2017" y="80"/>
                    <a:pt x="2015" y="91"/>
                  </a:cubicBezTo>
                  <a:cubicBezTo>
                    <a:pt x="2015" y="89"/>
                    <a:pt x="2015" y="88"/>
                    <a:pt x="2014" y="87"/>
                  </a:cubicBezTo>
                  <a:cubicBezTo>
                    <a:pt x="2014" y="88"/>
                    <a:pt x="2014" y="88"/>
                    <a:pt x="2014" y="88"/>
                  </a:cubicBezTo>
                  <a:cubicBezTo>
                    <a:pt x="2014" y="90"/>
                    <a:pt x="2014" y="93"/>
                    <a:pt x="2015" y="96"/>
                  </a:cubicBezTo>
                  <a:cubicBezTo>
                    <a:pt x="2014" y="101"/>
                    <a:pt x="2014" y="105"/>
                    <a:pt x="2013" y="110"/>
                  </a:cubicBezTo>
                  <a:cubicBezTo>
                    <a:pt x="2012" y="109"/>
                    <a:pt x="2012" y="107"/>
                    <a:pt x="2011" y="106"/>
                  </a:cubicBezTo>
                  <a:cubicBezTo>
                    <a:pt x="2012" y="103"/>
                    <a:pt x="2012" y="99"/>
                    <a:pt x="2013" y="96"/>
                  </a:cubicBezTo>
                  <a:cubicBezTo>
                    <a:pt x="2012" y="98"/>
                    <a:pt x="2011" y="100"/>
                    <a:pt x="2010" y="103"/>
                  </a:cubicBezTo>
                  <a:cubicBezTo>
                    <a:pt x="2009" y="101"/>
                    <a:pt x="2008" y="99"/>
                    <a:pt x="2008" y="98"/>
                  </a:cubicBezTo>
                  <a:cubicBezTo>
                    <a:pt x="2008" y="89"/>
                    <a:pt x="2009" y="82"/>
                    <a:pt x="2009" y="82"/>
                  </a:cubicBezTo>
                  <a:cubicBezTo>
                    <a:pt x="2007" y="97"/>
                    <a:pt x="2007" y="97"/>
                    <a:pt x="2007" y="97"/>
                  </a:cubicBezTo>
                  <a:cubicBezTo>
                    <a:pt x="2006" y="94"/>
                    <a:pt x="2005" y="92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90"/>
                    <a:pt x="2004" y="90"/>
                    <a:pt x="2004" y="90"/>
                  </a:cubicBezTo>
                  <a:cubicBezTo>
                    <a:pt x="2004" y="89"/>
                    <a:pt x="2004" y="89"/>
                    <a:pt x="2003" y="88"/>
                  </a:cubicBezTo>
                  <a:cubicBezTo>
                    <a:pt x="2003" y="83"/>
                    <a:pt x="2003" y="78"/>
                    <a:pt x="2003" y="73"/>
                  </a:cubicBezTo>
                  <a:cubicBezTo>
                    <a:pt x="2006" y="70"/>
                    <a:pt x="2009" y="66"/>
                    <a:pt x="2012" y="63"/>
                  </a:cubicBezTo>
                  <a:cubicBezTo>
                    <a:pt x="2009" y="66"/>
                    <a:pt x="2006" y="69"/>
                    <a:pt x="2003" y="71"/>
                  </a:cubicBezTo>
                  <a:cubicBezTo>
                    <a:pt x="2003" y="65"/>
                    <a:pt x="2002" y="60"/>
                    <a:pt x="2002" y="60"/>
                  </a:cubicBezTo>
                  <a:cubicBezTo>
                    <a:pt x="2002" y="64"/>
                    <a:pt x="2002" y="68"/>
                    <a:pt x="2002" y="72"/>
                  </a:cubicBezTo>
                  <a:cubicBezTo>
                    <a:pt x="2000" y="74"/>
                    <a:pt x="1999" y="75"/>
                    <a:pt x="1998" y="77"/>
                  </a:cubicBezTo>
                  <a:cubicBezTo>
                    <a:pt x="1997" y="70"/>
                    <a:pt x="1997" y="64"/>
                    <a:pt x="1997" y="64"/>
                  </a:cubicBezTo>
                  <a:cubicBezTo>
                    <a:pt x="1997" y="66"/>
                    <a:pt x="1997" y="71"/>
                    <a:pt x="1996" y="78"/>
                  </a:cubicBezTo>
                  <a:cubicBezTo>
                    <a:pt x="1993" y="81"/>
                    <a:pt x="1991" y="85"/>
                    <a:pt x="1989" y="88"/>
                  </a:cubicBezTo>
                  <a:cubicBezTo>
                    <a:pt x="1989" y="64"/>
                    <a:pt x="1988" y="42"/>
                    <a:pt x="1988" y="42"/>
                  </a:cubicBezTo>
                  <a:cubicBezTo>
                    <a:pt x="1989" y="55"/>
                    <a:pt x="1986" y="77"/>
                    <a:pt x="1984" y="96"/>
                  </a:cubicBezTo>
                  <a:cubicBezTo>
                    <a:pt x="1982" y="100"/>
                    <a:pt x="1980" y="104"/>
                    <a:pt x="1979" y="107"/>
                  </a:cubicBezTo>
                  <a:cubicBezTo>
                    <a:pt x="1978" y="107"/>
                    <a:pt x="1978" y="106"/>
                    <a:pt x="1978" y="106"/>
                  </a:cubicBezTo>
                  <a:cubicBezTo>
                    <a:pt x="1979" y="87"/>
                    <a:pt x="1982" y="70"/>
                    <a:pt x="1982" y="70"/>
                  </a:cubicBezTo>
                  <a:cubicBezTo>
                    <a:pt x="1980" y="74"/>
                    <a:pt x="1977" y="98"/>
                    <a:pt x="1975" y="117"/>
                  </a:cubicBezTo>
                  <a:cubicBezTo>
                    <a:pt x="1975" y="118"/>
                    <a:pt x="1975" y="119"/>
                    <a:pt x="1975" y="120"/>
                  </a:cubicBezTo>
                  <a:cubicBezTo>
                    <a:pt x="1975" y="119"/>
                    <a:pt x="1975" y="119"/>
                    <a:pt x="1975" y="118"/>
                  </a:cubicBezTo>
                  <a:cubicBezTo>
                    <a:pt x="1975" y="119"/>
                    <a:pt x="1975" y="119"/>
                    <a:pt x="1975" y="120"/>
                  </a:cubicBezTo>
                  <a:cubicBezTo>
                    <a:pt x="1974" y="121"/>
                    <a:pt x="1974" y="121"/>
                    <a:pt x="1974" y="122"/>
                  </a:cubicBezTo>
                  <a:cubicBezTo>
                    <a:pt x="1974" y="115"/>
                    <a:pt x="1974" y="108"/>
                    <a:pt x="1974" y="101"/>
                  </a:cubicBezTo>
                  <a:cubicBezTo>
                    <a:pt x="1974" y="101"/>
                    <a:pt x="1974" y="100"/>
                    <a:pt x="1974" y="100"/>
                  </a:cubicBezTo>
                  <a:cubicBezTo>
                    <a:pt x="1974" y="100"/>
                    <a:pt x="1974" y="101"/>
                    <a:pt x="1974" y="101"/>
                  </a:cubicBezTo>
                  <a:cubicBezTo>
                    <a:pt x="1974" y="98"/>
                    <a:pt x="1974" y="94"/>
                    <a:pt x="1973" y="91"/>
                  </a:cubicBezTo>
                  <a:cubicBezTo>
                    <a:pt x="1975" y="88"/>
                    <a:pt x="1977" y="85"/>
                    <a:pt x="1979" y="83"/>
                  </a:cubicBezTo>
                  <a:cubicBezTo>
                    <a:pt x="1977" y="85"/>
                    <a:pt x="1975" y="87"/>
                    <a:pt x="1973" y="90"/>
                  </a:cubicBezTo>
                  <a:cubicBezTo>
                    <a:pt x="1973" y="79"/>
                    <a:pt x="1972" y="69"/>
                    <a:pt x="1972" y="61"/>
                  </a:cubicBezTo>
                  <a:cubicBezTo>
                    <a:pt x="1971" y="73"/>
                    <a:pt x="1969" y="87"/>
                    <a:pt x="1967" y="100"/>
                  </a:cubicBezTo>
                  <a:cubicBezTo>
                    <a:pt x="1963" y="107"/>
                    <a:pt x="1960" y="115"/>
                    <a:pt x="1958" y="123"/>
                  </a:cubicBezTo>
                  <a:cubicBezTo>
                    <a:pt x="1959" y="109"/>
                    <a:pt x="1960" y="92"/>
                    <a:pt x="1961" y="80"/>
                  </a:cubicBezTo>
                  <a:cubicBezTo>
                    <a:pt x="1963" y="73"/>
                    <a:pt x="1964" y="67"/>
                    <a:pt x="1964" y="61"/>
                  </a:cubicBezTo>
                  <a:cubicBezTo>
                    <a:pt x="1964" y="60"/>
                    <a:pt x="1964" y="60"/>
                    <a:pt x="1964" y="60"/>
                  </a:cubicBezTo>
                  <a:cubicBezTo>
                    <a:pt x="1955" y="75"/>
                    <a:pt x="1951" y="88"/>
                    <a:pt x="1949" y="102"/>
                  </a:cubicBezTo>
                  <a:cubicBezTo>
                    <a:pt x="1949" y="102"/>
                    <a:pt x="1949" y="101"/>
                    <a:pt x="1949" y="101"/>
                  </a:cubicBezTo>
                  <a:cubicBezTo>
                    <a:pt x="1950" y="68"/>
                    <a:pt x="1953" y="30"/>
                    <a:pt x="1953" y="30"/>
                  </a:cubicBezTo>
                  <a:cubicBezTo>
                    <a:pt x="1951" y="38"/>
                    <a:pt x="1948" y="60"/>
                    <a:pt x="1946" y="83"/>
                  </a:cubicBezTo>
                  <a:cubicBezTo>
                    <a:pt x="1943" y="87"/>
                    <a:pt x="1940" y="92"/>
                    <a:pt x="1938" y="97"/>
                  </a:cubicBezTo>
                  <a:cubicBezTo>
                    <a:pt x="1938" y="91"/>
                    <a:pt x="1937" y="85"/>
                    <a:pt x="1937" y="79"/>
                  </a:cubicBezTo>
                  <a:cubicBezTo>
                    <a:pt x="1937" y="78"/>
                    <a:pt x="1937" y="78"/>
                    <a:pt x="1938" y="78"/>
                  </a:cubicBezTo>
                  <a:cubicBezTo>
                    <a:pt x="1937" y="78"/>
                    <a:pt x="1937" y="78"/>
                    <a:pt x="1937" y="78"/>
                  </a:cubicBezTo>
                  <a:cubicBezTo>
                    <a:pt x="1935" y="58"/>
                    <a:pt x="1934" y="41"/>
                    <a:pt x="1934" y="41"/>
                  </a:cubicBezTo>
                  <a:cubicBezTo>
                    <a:pt x="1935" y="52"/>
                    <a:pt x="1935" y="67"/>
                    <a:pt x="1934" y="82"/>
                  </a:cubicBezTo>
                  <a:cubicBezTo>
                    <a:pt x="1932" y="84"/>
                    <a:pt x="1930" y="87"/>
                    <a:pt x="1928" y="92"/>
                  </a:cubicBezTo>
                  <a:cubicBezTo>
                    <a:pt x="1927" y="82"/>
                    <a:pt x="1928" y="72"/>
                    <a:pt x="1928" y="68"/>
                  </a:cubicBezTo>
                  <a:cubicBezTo>
                    <a:pt x="1927" y="77"/>
                    <a:pt x="1926" y="88"/>
                    <a:pt x="1924" y="99"/>
                  </a:cubicBezTo>
                  <a:cubicBezTo>
                    <a:pt x="1922" y="94"/>
                    <a:pt x="1921" y="89"/>
                    <a:pt x="1919" y="84"/>
                  </a:cubicBezTo>
                  <a:cubicBezTo>
                    <a:pt x="1921" y="90"/>
                    <a:pt x="1922" y="96"/>
                    <a:pt x="1923" y="101"/>
                  </a:cubicBezTo>
                  <a:cubicBezTo>
                    <a:pt x="1923" y="105"/>
                    <a:pt x="1922" y="109"/>
                    <a:pt x="1921" y="113"/>
                  </a:cubicBezTo>
                  <a:cubicBezTo>
                    <a:pt x="1921" y="110"/>
                    <a:pt x="1921" y="108"/>
                    <a:pt x="1921" y="105"/>
                  </a:cubicBezTo>
                  <a:cubicBezTo>
                    <a:pt x="1920" y="108"/>
                    <a:pt x="1920" y="115"/>
                    <a:pt x="1920" y="119"/>
                  </a:cubicBezTo>
                  <a:cubicBezTo>
                    <a:pt x="1919" y="120"/>
                    <a:pt x="1919" y="122"/>
                    <a:pt x="1919" y="124"/>
                  </a:cubicBezTo>
                  <a:cubicBezTo>
                    <a:pt x="1918" y="125"/>
                    <a:pt x="1918" y="127"/>
                    <a:pt x="1918" y="128"/>
                  </a:cubicBezTo>
                  <a:cubicBezTo>
                    <a:pt x="1917" y="124"/>
                    <a:pt x="1916" y="120"/>
                    <a:pt x="1915" y="116"/>
                  </a:cubicBezTo>
                  <a:cubicBezTo>
                    <a:pt x="1916" y="108"/>
                    <a:pt x="1917" y="100"/>
                    <a:pt x="1917" y="94"/>
                  </a:cubicBezTo>
                  <a:cubicBezTo>
                    <a:pt x="1918" y="92"/>
                    <a:pt x="1918" y="91"/>
                    <a:pt x="1919" y="89"/>
                  </a:cubicBezTo>
                  <a:cubicBezTo>
                    <a:pt x="1918" y="90"/>
                    <a:pt x="1918" y="91"/>
                    <a:pt x="1917" y="92"/>
                  </a:cubicBezTo>
                  <a:cubicBezTo>
                    <a:pt x="1918" y="87"/>
                    <a:pt x="1918" y="83"/>
                    <a:pt x="1918" y="83"/>
                  </a:cubicBezTo>
                  <a:cubicBezTo>
                    <a:pt x="1918" y="85"/>
                    <a:pt x="1917" y="89"/>
                    <a:pt x="1916" y="93"/>
                  </a:cubicBezTo>
                  <a:cubicBezTo>
                    <a:pt x="1915" y="96"/>
                    <a:pt x="1913" y="99"/>
                    <a:pt x="1912" y="102"/>
                  </a:cubicBezTo>
                  <a:cubicBezTo>
                    <a:pt x="1911" y="101"/>
                    <a:pt x="1911" y="100"/>
                    <a:pt x="1911" y="99"/>
                  </a:cubicBezTo>
                  <a:cubicBezTo>
                    <a:pt x="1913" y="80"/>
                    <a:pt x="1915" y="62"/>
                    <a:pt x="1915" y="62"/>
                  </a:cubicBezTo>
                  <a:cubicBezTo>
                    <a:pt x="1913" y="66"/>
                    <a:pt x="1911" y="80"/>
                    <a:pt x="1909" y="95"/>
                  </a:cubicBezTo>
                  <a:cubicBezTo>
                    <a:pt x="1909" y="94"/>
                    <a:pt x="1908" y="92"/>
                    <a:pt x="1907" y="90"/>
                  </a:cubicBezTo>
                  <a:cubicBezTo>
                    <a:pt x="1908" y="92"/>
                    <a:pt x="1909" y="94"/>
                    <a:pt x="1909" y="96"/>
                  </a:cubicBezTo>
                  <a:cubicBezTo>
                    <a:pt x="1909" y="101"/>
                    <a:pt x="1908" y="106"/>
                    <a:pt x="1908" y="110"/>
                  </a:cubicBezTo>
                  <a:cubicBezTo>
                    <a:pt x="1907" y="113"/>
                    <a:pt x="1906" y="116"/>
                    <a:pt x="1905" y="118"/>
                  </a:cubicBezTo>
                  <a:cubicBezTo>
                    <a:pt x="1903" y="94"/>
                    <a:pt x="1898" y="64"/>
                    <a:pt x="1898" y="64"/>
                  </a:cubicBezTo>
                  <a:cubicBezTo>
                    <a:pt x="1898" y="64"/>
                    <a:pt x="1898" y="73"/>
                    <a:pt x="1899" y="82"/>
                  </a:cubicBezTo>
                  <a:cubicBezTo>
                    <a:pt x="1900" y="88"/>
                    <a:pt x="1899" y="98"/>
                    <a:pt x="1897" y="108"/>
                  </a:cubicBezTo>
                  <a:cubicBezTo>
                    <a:pt x="1896" y="111"/>
                    <a:pt x="1895" y="114"/>
                    <a:pt x="1894" y="117"/>
                  </a:cubicBezTo>
                  <a:cubicBezTo>
                    <a:pt x="1894" y="108"/>
                    <a:pt x="1893" y="99"/>
                    <a:pt x="1891" y="90"/>
                  </a:cubicBezTo>
                  <a:cubicBezTo>
                    <a:pt x="1894" y="78"/>
                    <a:pt x="1899" y="66"/>
                    <a:pt x="1898" y="56"/>
                  </a:cubicBezTo>
                  <a:cubicBezTo>
                    <a:pt x="1895" y="62"/>
                    <a:pt x="1892" y="67"/>
                    <a:pt x="1890" y="72"/>
                  </a:cubicBezTo>
                  <a:cubicBezTo>
                    <a:pt x="1893" y="34"/>
                    <a:pt x="1886" y="19"/>
                    <a:pt x="1886" y="19"/>
                  </a:cubicBezTo>
                  <a:cubicBezTo>
                    <a:pt x="1886" y="19"/>
                    <a:pt x="1889" y="31"/>
                    <a:pt x="1888" y="54"/>
                  </a:cubicBezTo>
                  <a:cubicBezTo>
                    <a:pt x="1887" y="61"/>
                    <a:pt x="1886" y="74"/>
                    <a:pt x="1885" y="88"/>
                  </a:cubicBezTo>
                  <a:cubicBezTo>
                    <a:pt x="1883" y="92"/>
                    <a:pt x="1882" y="97"/>
                    <a:pt x="1882" y="101"/>
                  </a:cubicBezTo>
                  <a:cubicBezTo>
                    <a:pt x="1881" y="98"/>
                    <a:pt x="1880" y="95"/>
                    <a:pt x="1878" y="91"/>
                  </a:cubicBezTo>
                  <a:cubicBezTo>
                    <a:pt x="1879" y="89"/>
                    <a:pt x="1879" y="87"/>
                    <a:pt x="1880" y="85"/>
                  </a:cubicBezTo>
                  <a:cubicBezTo>
                    <a:pt x="1879" y="87"/>
                    <a:pt x="1879" y="88"/>
                    <a:pt x="1878" y="90"/>
                  </a:cubicBezTo>
                  <a:cubicBezTo>
                    <a:pt x="1878" y="89"/>
                    <a:pt x="1877" y="88"/>
                    <a:pt x="1877" y="87"/>
                  </a:cubicBezTo>
                  <a:cubicBezTo>
                    <a:pt x="1877" y="83"/>
                    <a:pt x="1877" y="78"/>
                    <a:pt x="1877" y="74"/>
                  </a:cubicBezTo>
                  <a:cubicBezTo>
                    <a:pt x="1877" y="46"/>
                    <a:pt x="1867" y="40"/>
                    <a:pt x="1867" y="40"/>
                  </a:cubicBezTo>
                  <a:cubicBezTo>
                    <a:pt x="1867" y="40"/>
                    <a:pt x="1873" y="44"/>
                    <a:pt x="1873" y="70"/>
                  </a:cubicBezTo>
                  <a:cubicBezTo>
                    <a:pt x="1873" y="84"/>
                    <a:pt x="1868" y="108"/>
                    <a:pt x="1863" y="125"/>
                  </a:cubicBezTo>
                  <a:cubicBezTo>
                    <a:pt x="1863" y="123"/>
                    <a:pt x="1863" y="120"/>
                    <a:pt x="1862" y="118"/>
                  </a:cubicBezTo>
                  <a:cubicBezTo>
                    <a:pt x="1863" y="111"/>
                    <a:pt x="1864" y="105"/>
                    <a:pt x="1864" y="98"/>
                  </a:cubicBezTo>
                  <a:cubicBezTo>
                    <a:pt x="1863" y="101"/>
                    <a:pt x="1862" y="104"/>
                    <a:pt x="1862" y="107"/>
                  </a:cubicBezTo>
                  <a:cubicBezTo>
                    <a:pt x="1862" y="107"/>
                    <a:pt x="1862" y="106"/>
                    <a:pt x="1862" y="106"/>
                  </a:cubicBezTo>
                  <a:cubicBezTo>
                    <a:pt x="1862" y="97"/>
                    <a:pt x="1863" y="83"/>
                    <a:pt x="1869" y="75"/>
                  </a:cubicBezTo>
                  <a:cubicBezTo>
                    <a:pt x="1866" y="77"/>
                    <a:pt x="1863" y="82"/>
                    <a:pt x="1861" y="87"/>
                  </a:cubicBezTo>
                  <a:cubicBezTo>
                    <a:pt x="1862" y="78"/>
                    <a:pt x="1862" y="71"/>
                    <a:pt x="1862" y="71"/>
                  </a:cubicBezTo>
                  <a:cubicBezTo>
                    <a:pt x="1861" y="75"/>
                    <a:pt x="1858" y="97"/>
                    <a:pt x="1854" y="116"/>
                  </a:cubicBezTo>
                  <a:cubicBezTo>
                    <a:pt x="1854" y="114"/>
                    <a:pt x="1854" y="112"/>
                    <a:pt x="1853" y="110"/>
                  </a:cubicBezTo>
                  <a:cubicBezTo>
                    <a:pt x="1854" y="99"/>
                    <a:pt x="1855" y="87"/>
                    <a:pt x="1856" y="78"/>
                  </a:cubicBezTo>
                  <a:cubicBezTo>
                    <a:pt x="1858" y="71"/>
                    <a:pt x="1860" y="63"/>
                    <a:pt x="1862" y="55"/>
                  </a:cubicBezTo>
                  <a:cubicBezTo>
                    <a:pt x="1862" y="54"/>
                    <a:pt x="1862" y="52"/>
                    <a:pt x="1862" y="51"/>
                  </a:cubicBezTo>
                  <a:cubicBezTo>
                    <a:pt x="1860" y="54"/>
                    <a:pt x="1859" y="57"/>
                    <a:pt x="1858" y="60"/>
                  </a:cubicBezTo>
                  <a:cubicBezTo>
                    <a:pt x="1858" y="60"/>
                    <a:pt x="1858" y="59"/>
                    <a:pt x="1858" y="59"/>
                  </a:cubicBezTo>
                  <a:cubicBezTo>
                    <a:pt x="1858" y="60"/>
                    <a:pt x="1858" y="60"/>
                    <a:pt x="1858" y="60"/>
                  </a:cubicBezTo>
                  <a:cubicBezTo>
                    <a:pt x="1854" y="70"/>
                    <a:pt x="1851" y="80"/>
                    <a:pt x="1848" y="89"/>
                  </a:cubicBezTo>
                  <a:cubicBezTo>
                    <a:pt x="1854" y="30"/>
                    <a:pt x="1851" y="15"/>
                    <a:pt x="1850" y="13"/>
                  </a:cubicBezTo>
                  <a:cubicBezTo>
                    <a:pt x="1850" y="15"/>
                    <a:pt x="1851" y="22"/>
                    <a:pt x="1847" y="56"/>
                  </a:cubicBezTo>
                  <a:cubicBezTo>
                    <a:pt x="1845" y="68"/>
                    <a:pt x="1844" y="80"/>
                    <a:pt x="1842" y="91"/>
                  </a:cubicBezTo>
                  <a:cubicBezTo>
                    <a:pt x="1841" y="85"/>
                    <a:pt x="1839" y="79"/>
                    <a:pt x="1837" y="74"/>
                  </a:cubicBezTo>
                  <a:cubicBezTo>
                    <a:pt x="1838" y="51"/>
                    <a:pt x="1839" y="31"/>
                    <a:pt x="1839" y="31"/>
                  </a:cubicBezTo>
                  <a:cubicBezTo>
                    <a:pt x="1837" y="38"/>
                    <a:pt x="1835" y="53"/>
                    <a:pt x="1834" y="69"/>
                  </a:cubicBezTo>
                  <a:cubicBezTo>
                    <a:pt x="1833" y="68"/>
                    <a:pt x="1832" y="67"/>
                    <a:pt x="1831" y="65"/>
                  </a:cubicBezTo>
                  <a:cubicBezTo>
                    <a:pt x="1832" y="67"/>
                    <a:pt x="1833" y="69"/>
                    <a:pt x="1834" y="71"/>
                  </a:cubicBezTo>
                  <a:cubicBezTo>
                    <a:pt x="1834" y="71"/>
                    <a:pt x="1834" y="72"/>
                    <a:pt x="1834" y="73"/>
                  </a:cubicBezTo>
                  <a:cubicBezTo>
                    <a:pt x="1831" y="77"/>
                    <a:pt x="1828" y="81"/>
                    <a:pt x="1826" y="86"/>
                  </a:cubicBezTo>
                  <a:cubicBezTo>
                    <a:pt x="1825" y="85"/>
                    <a:pt x="1825" y="84"/>
                    <a:pt x="1824" y="83"/>
                  </a:cubicBezTo>
                  <a:cubicBezTo>
                    <a:pt x="1822" y="61"/>
                    <a:pt x="1819" y="38"/>
                    <a:pt x="1816" y="28"/>
                  </a:cubicBezTo>
                  <a:cubicBezTo>
                    <a:pt x="1816" y="28"/>
                    <a:pt x="1820" y="54"/>
                    <a:pt x="1823" y="83"/>
                  </a:cubicBezTo>
                  <a:cubicBezTo>
                    <a:pt x="1822" y="82"/>
                    <a:pt x="1821" y="81"/>
                    <a:pt x="1820" y="80"/>
                  </a:cubicBezTo>
                  <a:cubicBezTo>
                    <a:pt x="1822" y="81"/>
                    <a:pt x="1823" y="82"/>
                    <a:pt x="1824" y="84"/>
                  </a:cubicBezTo>
                  <a:cubicBezTo>
                    <a:pt x="1824" y="85"/>
                    <a:pt x="1824" y="86"/>
                    <a:pt x="1824" y="88"/>
                  </a:cubicBezTo>
                  <a:cubicBezTo>
                    <a:pt x="1824" y="86"/>
                    <a:pt x="1824" y="85"/>
                    <a:pt x="1824" y="84"/>
                  </a:cubicBezTo>
                  <a:cubicBezTo>
                    <a:pt x="1824" y="85"/>
                    <a:pt x="1825" y="86"/>
                    <a:pt x="1826" y="87"/>
                  </a:cubicBezTo>
                  <a:cubicBezTo>
                    <a:pt x="1825" y="88"/>
                    <a:pt x="1825" y="89"/>
                    <a:pt x="1824" y="90"/>
                  </a:cubicBezTo>
                  <a:cubicBezTo>
                    <a:pt x="1824" y="88"/>
                    <a:pt x="1824" y="88"/>
                    <a:pt x="1824" y="88"/>
                  </a:cubicBezTo>
                  <a:cubicBezTo>
                    <a:pt x="1824" y="88"/>
                    <a:pt x="1824" y="89"/>
                    <a:pt x="1824" y="90"/>
                  </a:cubicBezTo>
                  <a:cubicBezTo>
                    <a:pt x="1822" y="95"/>
                    <a:pt x="1821" y="100"/>
                    <a:pt x="1819" y="105"/>
                  </a:cubicBezTo>
                  <a:cubicBezTo>
                    <a:pt x="1819" y="105"/>
                    <a:pt x="1819" y="105"/>
                    <a:pt x="1819" y="105"/>
                  </a:cubicBezTo>
                  <a:cubicBezTo>
                    <a:pt x="1819" y="104"/>
                    <a:pt x="1819" y="104"/>
                    <a:pt x="1819" y="103"/>
                  </a:cubicBezTo>
                  <a:cubicBezTo>
                    <a:pt x="1819" y="104"/>
                    <a:pt x="1819" y="104"/>
                    <a:pt x="1819" y="105"/>
                  </a:cubicBezTo>
                  <a:cubicBezTo>
                    <a:pt x="1816" y="95"/>
                    <a:pt x="1814" y="87"/>
                    <a:pt x="1812" y="81"/>
                  </a:cubicBezTo>
                  <a:cubicBezTo>
                    <a:pt x="1813" y="85"/>
                    <a:pt x="1814" y="90"/>
                    <a:pt x="1815" y="95"/>
                  </a:cubicBezTo>
                  <a:cubicBezTo>
                    <a:pt x="1815" y="100"/>
                    <a:pt x="1814" y="104"/>
                    <a:pt x="1813" y="109"/>
                  </a:cubicBezTo>
                  <a:cubicBezTo>
                    <a:pt x="1814" y="104"/>
                    <a:pt x="1815" y="100"/>
                    <a:pt x="1815" y="95"/>
                  </a:cubicBezTo>
                  <a:cubicBezTo>
                    <a:pt x="1816" y="100"/>
                    <a:pt x="1817" y="105"/>
                    <a:pt x="1818" y="110"/>
                  </a:cubicBezTo>
                  <a:cubicBezTo>
                    <a:pt x="1818" y="110"/>
                    <a:pt x="1818" y="111"/>
                    <a:pt x="1818" y="111"/>
                  </a:cubicBezTo>
                  <a:cubicBezTo>
                    <a:pt x="1817" y="116"/>
                    <a:pt x="1815" y="122"/>
                    <a:pt x="1812" y="127"/>
                  </a:cubicBezTo>
                  <a:cubicBezTo>
                    <a:pt x="1812" y="125"/>
                    <a:pt x="1811" y="123"/>
                    <a:pt x="1811" y="120"/>
                  </a:cubicBezTo>
                  <a:cubicBezTo>
                    <a:pt x="1812" y="117"/>
                    <a:pt x="1813" y="113"/>
                    <a:pt x="1813" y="109"/>
                  </a:cubicBezTo>
                  <a:cubicBezTo>
                    <a:pt x="1813" y="112"/>
                    <a:pt x="1812" y="116"/>
                    <a:pt x="1811" y="119"/>
                  </a:cubicBezTo>
                  <a:cubicBezTo>
                    <a:pt x="1809" y="111"/>
                    <a:pt x="1807" y="103"/>
                    <a:pt x="1807" y="95"/>
                  </a:cubicBezTo>
                  <a:cubicBezTo>
                    <a:pt x="1807" y="96"/>
                    <a:pt x="1807" y="96"/>
                    <a:pt x="1807" y="96"/>
                  </a:cubicBezTo>
                  <a:cubicBezTo>
                    <a:pt x="1807" y="98"/>
                    <a:pt x="1807" y="98"/>
                    <a:pt x="1807" y="98"/>
                  </a:cubicBezTo>
                  <a:cubicBezTo>
                    <a:pt x="1807" y="97"/>
                    <a:pt x="1807" y="96"/>
                    <a:pt x="1807" y="95"/>
                  </a:cubicBezTo>
                  <a:cubicBezTo>
                    <a:pt x="1807" y="84"/>
                    <a:pt x="1805" y="69"/>
                    <a:pt x="1799" y="60"/>
                  </a:cubicBezTo>
                  <a:cubicBezTo>
                    <a:pt x="1803" y="70"/>
                    <a:pt x="1805" y="82"/>
                    <a:pt x="1805" y="93"/>
                  </a:cubicBezTo>
                  <a:cubicBezTo>
                    <a:pt x="1805" y="101"/>
                    <a:pt x="1803" y="109"/>
                    <a:pt x="1801" y="116"/>
                  </a:cubicBezTo>
                  <a:cubicBezTo>
                    <a:pt x="1799" y="115"/>
                    <a:pt x="1799" y="117"/>
                    <a:pt x="1800" y="120"/>
                  </a:cubicBezTo>
                  <a:cubicBezTo>
                    <a:pt x="1800" y="121"/>
                    <a:pt x="1799" y="121"/>
                    <a:pt x="1799" y="122"/>
                  </a:cubicBezTo>
                  <a:cubicBezTo>
                    <a:pt x="1798" y="119"/>
                    <a:pt x="1797" y="115"/>
                    <a:pt x="1796" y="112"/>
                  </a:cubicBezTo>
                  <a:cubicBezTo>
                    <a:pt x="1797" y="107"/>
                    <a:pt x="1797" y="103"/>
                    <a:pt x="1797" y="98"/>
                  </a:cubicBezTo>
                  <a:cubicBezTo>
                    <a:pt x="1797" y="90"/>
                    <a:pt x="1796" y="82"/>
                    <a:pt x="1794" y="74"/>
                  </a:cubicBezTo>
                  <a:cubicBezTo>
                    <a:pt x="1793" y="83"/>
                    <a:pt x="1793" y="93"/>
                    <a:pt x="1793" y="102"/>
                  </a:cubicBezTo>
                  <a:cubicBezTo>
                    <a:pt x="1790" y="94"/>
                    <a:pt x="1787" y="86"/>
                    <a:pt x="1785" y="81"/>
                  </a:cubicBezTo>
                  <a:cubicBezTo>
                    <a:pt x="1785" y="86"/>
                    <a:pt x="1785" y="86"/>
                    <a:pt x="1785" y="86"/>
                  </a:cubicBezTo>
                  <a:cubicBezTo>
                    <a:pt x="1785" y="97"/>
                    <a:pt x="1788" y="108"/>
                    <a:pt x="1792" y="118"/>
                  </a:cubicBezTo>
                  <a:cubicBezTo>
                    <a:pt x="1791" y="119"/>
                    <a:pt x="1791" y="120"/>
                    <a:pt x="1791" y="121"/>
                  </a:cubicBezTo>
                  <a:cubicBezTo>
                    <a:pt x="1791" y="123"/>
                    <a:pt x="1790" y="126"/>
                    <a:pt x="1789" y="128"/>
                  </a:cubicBezTo>
                  <a:cubicBezTo>
                    <a:pt x="1786" y="121"/>
                    <a:pt x="1784" y="113"/>
                    <a:pt x="1782" y="106"/>
                  </a:cubicBezTo>
                  <a:cubicBezTo>
                    <a:pt x="1782" y="101"/>
                    <a:pt x="1781" y="96"/>
                    <a:pt x="1780" y="92"/>
                  </a:cubicBezTo>
                  <a:cubicBezTo>
                    <a:pt x="1780" y="91"/>
                    <a:pt x="1780" y="90"/>
                    <a:pt x="1780" y="89"/>
                  </a:cubicBezTo>
                  <a:cubicBezTo>
                    <a:pt x="1780" y="90"/>
                    <a:pt x="1780" y="90"/>
                    <a:pt x="1780" y="91"/>
                  </a:cubicBezTo>
                  <a:cubicBezTo>
                    <a:pt x="1779" y="85"/>
                    <a:pt x="1777" y="79"/>
                    <a:pt x="1774" y="73"/>
                  </a:cubicBezTo>
                  <a:cubicBezTo>
                    <a:pt x="1774" y="73"/>
                    <a:pt x="1774" y="72"/>
                    <a:pt x="1774" y="71"/>
                  </a:cubicBezTo>
                  <a:cubicBezTo>
                    <a:pt x="1774" y="71"/>
                    <a:pt x="1773" y="72"/>
                    <a:pt x="1773" y="73"/>
                  </a:cubicBezTo>
                  <a:cubicBezTo>
                    <a:pt x="1773" y="72"/>
                    <a:pt x="1773" y="71"/>
                    <a:pt x="1772" y="71"/>
                  </a:cubicBezTo>
                  <a:cubicBezTo>
                    <a:pt x="1772" y="72"/>
                    <a:pt x="1773" y="73"/>
                    <a:pt x="1773" y="73"/>
                  </a:cubicBezTo>
                  <a:cubicBezTo>
                    <a:pt x="1770" y="79"/>
                    <a:pt x="1768" y="85"/>
                    <a:pt x="1766" y="91"/>
                  </a:cubicBezTo>
                  <a:cubicBezTo>
                    <a:pt x="1766" y="90"/>
                    <a:pt x="1766" y="90"/>
                    <a:pt x="1766" y="89"/>
                  </a:cubicBezTo>
                  <a:cubicBezTo>
                    <a:pt x="1766" y="90"/>
                    <a:pt x="1766" y="91"/>
                    <a:pt x="1766" y="92"/>
                  </a:cubicBezTo>
                  <a:cubicBezTo>
                    <a:pt x="1765" y="96"/>
                    <a:pt x="1765" y="101"/>
                    <a:pt x="1764" y="106"/>
                  </a:cubicBezTo>
                  <a:cubicBezTo>
                    <a:pt x="1763" y="113"/>
                    <a:pt x="1760" y="121"/>
                    <a:pt x="1757" y="128"/>
                  </a:cubicBezTo>
                  <a:cubicBezTo>
                    <a:pt x="1756" y="126"/>
                    <a:pt x="1756" y="123"/>
                    <a:pt x="1755" y="121"/>
                  </a:cubicBezTo>
                  <a:cubicBezTo>
                    <a:pt x="1755" y="120"/>
                    <a:pt x="1755" y="119"/>
                    <a:pt x="1755" y="118"/>
                  </a:cubicBezTo>
                  <a:cubicBezTo>
                    <a:pt x="1758" y="108"/>
                    <a:pt x="1761" y="97"/>
                    <a:pt x="1761" y="86"/>
                  </a:cubicBezTo>
                  <a:cubicBezTo>
                    <a:pt x="1761" y="81"/>
                    <a:pt x="1761" y="81"/>
                    <a:pt x="1761" y="81"/>
                  </a:cubicBezTo>
                  <a:cubicBezTo>
                    <a:pt x="1759" y="86"/>
                    <a:pt x="1756" y="94"/>
                    <a:pt x="1753" y="102"/>
                  </a:cubicBezTo>
                  <a:cubicBezTo>
                    <a:pt x="1753" y="93"/>
                    <a:pt x="1754" y="83"/>
                    <a:pt x="1752" y="74"/>
                  </a:cubicBezTo>
                  <a:cubicBezTo>
                    <a:pt x="1750" y="82"/>
                    <a:pt x="1749" y="90"/>
                    <a:pt x="1749" y="98"/>
                  </a:cubicBezTo>
                  <a:cubicBezTo>
                    <a:pt x="1749" y="103"/>
                    <a:pt x="1750" y="107"/>
                    <a:pt x="1750" y="112"/>
                  </a:cubicBezTo>
                  <a:cubicBezTo>
                    <a:pt x="1749" y="115"/>
                    <a:pt x="1748" y="119"/>
                    <a:pt x="1747" y="122"/>
                  </a:cubicBezTo>
                  <a:cubicBezTo>
                    <a:pt x="1744" y="112"/>
                    <a:pt x="1741" y="103"/>
                    <a:pt x="1741" y="93"/>
                  </a:cubicBezTo>
                  <a:cubicBezTo>
                    <a:pt x="1741" y="82"/>
                    <a:pt x="1743" y="70"/>
                    <a:pt x="1747" y="60"/>
                  </a:cubicBezTo>
                  <a:cubicBezTo>
                    <a:pt x="1742" y="69"/>
                    <a:pt x="1740" y="84"/>
                    <a:pt x="1740" y="95"/>
                  </a:cubicBezTo>
                  <a:cubicBezTo>
                    <a:pt x="1740" y="96"/>
                    <a:pt x="1740" y="97"/>
                    <a:pt x="1740" y="98"/>
                  </a:cubicBezTo>
                  <a:cubicBezTo>
                    <a:pt x="1739" y="96"/>
                    <a:pt x="1739" y="96"/>
                    <a:pt x="1739" y="96"/>
                  </a:cubicBezTo>
                  <a:cubicBezTo>
                    <a:pt x="1739" y="95"/>
                    <a:pt x="1739" y="95"/>
                    <a:pt x="1739" y="95"/>
                  </a:cubicBezTo>
                  <a:cubicBezTo>
                    <a:pt x="1739" y="103"/>
                    <a:pt x="1738" y="111"/>
                    <a:pt x="1736" y="119"/>
                  </a:cubicBezTo>
                  <a:cubicBezTo>
                    <a:pt x="1735" y="116"/>
                    <a:pt x="1734" y="112"/>
                    <a:pt x="1733" y="109"/>
                  </a:cubicBezTo>
                  <a:cubicBezTo>
                    <a:pt x="1734" y="113"/>
                    <a:pt x="1735" y="117"/>
                    <a:pt x="1735" y="120"/>
                  </a:cubicBezTo>
                  <a:cubicBezTo>
                    <a:pt x="1735" y="123"/>
                    <a:pt x="1734" y="125"/>
                    <a:pt x="1734" y="127"/>
                  </a:cubicBezTo>
                  <a:cubicBezTo>
                    <a:pt x="1732" y="122"/>
                    <a:pt x="1730" y="116"/>
                    <a:pt x="1728" y="111"/>
                  </a:cubicBezTo>
                  <a:cubicBezTo>
                    <a:pt x="1728" y="109"/>
                    <a:pt x="1728" y="108"/>
                    <a:pt x="1727" y="107"/>
                  </a:cubicBezTo>
                  <a:cubicBezTo>
                    <a:pt x="1727" y="106"/>
                    <a:pt x="1727" y="104"/>
                    <a:pt x="1727" y="103"/>
                  </a:cubicBezTo>
                  <a:cubicBezTo>
                    <a:pt x="1727" y="104"/>
                    <a:pt x="1727" y="105"/>
                    <a:pt x="1727" y="105"/>
                  </a:cubicBezTo>
                  <a:cubicBezTo>
                    <a:pt x="1726" y="99"/>
                    <a:pt x="1724" y="93"/>
                    <a:pt x="1721" y="87"/>
                  </a:cubicBezTo>
                  <a:cubicBezTo>
                    <a:pt x="1722" y="84"/>
                    <a:pt x="1724" y="82"/>
                    <a:pt x="1726" y="80"/>
                  </a:cubicBezTo>
                  <a:cubicBezTo>
                    <a:pt x="1724" y="82"/>
                    <a:pt x="1722" y="84"/>
                    <a:pt x="1720" y="86"/>
                  </a:cubicBezTo>
                  <a:cubicBezTo>
                    <a:pt x="1718" y="81"/>
                    <a:pt x="1715" y="77"/>
                    <a:pt x="1712" y="73"/>
                  </a:cubicBezTo>
                  <a:cubicBezTo>
                    <a:pt x="1715" y="77"/>
                    <a:pt x="1717" y="83"/>
                    <a:pt x="1718" y="90"/>
                  </a:cubicBezTo>
                  <a:cubicBezTo>
                    <a:pt x="1716" y="94"/>
                    <a:pt x="1714" y="99"/>
                    <a:pt x="1714" y="103"/>
                  </a:cubicBezTo>
                  <a:cubicBezTo>
                    <a:pt x="1712" y="97"/>
                    <a:pt x="1710" y="91"/>
                    <a:pt x="1708" y="85"/>
                  </a:cubicBezTo>
                  <a:cubicBezTo>
                    <a:pt x="1710" y="91"/>
                    <a:pt x="1710" y="97"/>
                    <a:pt x="1710" y="103"/>
                  </a:cubicBezTo>
                  <a:cubicBezTo>
                    <a:pt x="1710" y="108"/>
                    <a:pt x="1709" y="114"/>
                    <a:pt x="1709" y="119"/>
                  </a:cubicBezTo>
                  <a:cubicBezTo>
                    <a:pt x="1707" y="111"/>
                    <a:pt x="1706" y="104"/>
                    <a:pt x="1706" y="96"/>
                  </a:cubicBezTo>
                  <a:cubicBezTo>
                    <a:pt x="1706" y="87"/>
                    <a:pt x="1710" y="73"/>
                    <a:pt x="1715" y="65"/>
                  </a:cubicBezTo>
                  <a:cubicBezTo>
                    <a:pt x="1706" y="76"/>
                    <a:pt x="1702" y="96"/>
                    <a:pt x="1702" y="108"/>
                  </a:cubicBezTo>
                  <a:cubicBezTo>
                    <a:pt x="1702" y="119"/>
                    <a:pt x="1705" y="130"/>
                    <a:pt x="1705" y="141"/>
                  </a:cubicBezTo>
                  <a:cubicBezTo>
                    <a:pt x="1705" y="146"/>
                    <a:pt x="1705" y="150"/>
                    <a:pt x="1704" y="154"/>
                  </a:cubicBezTo>
                  <a:cubicBezTo>
                    <a:pt x="1698" y="135"/>
                    <a:pt x="1703" y="113"/>
                    <a:pt x="1699" y="93"/>
                  </a:cubicBezTo>
                  <a:cubicBezTo>
                    <a:pt x="1696" y="79"/>
                    <a:pt x="1691" y="64"/>
                    <a:pt x="1685" y="51"/>
                  </a:cubicBezTo>
                  <a:cubicBezTo>
                    <a:pt x="1684" y="52"/>
                    <a:pt x="1684" y="54"/>
                    <a:pt x="1684" y="55"/>
                  </a:cubicBezTo>
                  <a:cubicBezTo>
                    <a:pt x="1691" y="76"/>
                    <a:pt x="1693" y="92"/>
                    <a:pt x="1694" y="105"/>
                  </a:cubicBezTo>
                  <a:cubicBezTo>
                    <a:pt x="1693" y="109"/>
                    <a:pt x="1692" y="114"/>
                    <a:pt x="1692" y="118"/>
                  </a:cubicBezTo>
                  <a:cubicBezTo>
                    <a:pt x="1690" y="101"/>
                    <a:pt x="1686" y="82"/>
                    <a:pt x="1677" y="75"/>
                  </a:cubicBezTo>
                  <a:cubicBezTo>
                    <a:pt x="1683" y="83"/>
                    <a:pt x="1685" y="97"/>
                    <a:pt x="1685" y="106"/>
                  </a:cubicBezTo>
                  <a:cubicBezTo>
                    <a:pt x="1685" y="106"/>
                    <a:pt x="1685" y="107"/>
                    <a:pt x="1685" y="107"/>
                  </a:cubicBezTo>
                  <a:cubicBezTo>
                    <a:pt x="1684" y="104"/>
                    <a:pt x="1683" y="101"/>
                    <a:pt x="1683" y="98"/>
                  </a:cubicBezTo>
                  <a:cubicBezTo>
                    <a:pt x="1683" y="105"/>
                    <a:pt x="1683" y="111"/>
                    <a:pt x="1684" y="118"/>
                  </a:cubicBezTo>
                  <a:cubicBezTo>
                    <a:pt x="1684" y="122"/>
                    <a:pt x="1683" y="126"/>
                    <a:pt x="1682" y="130"/>
                  </a:cubicBezTo>
                  <a:cubicBezTo>
                    <a:pt x="1681" y="124"/>
                    <a:pt x="1679" y="118"/>
                    <a:pt x="1678" y="113"/>
                  </a:cubicBezTo>
                  <a:cubicBezTo>
                    <a:pt x="1679" y="121"/>
                    <a:pt x="1681" y="128"/>
                    <a:pt x="1681" y="136"/>
                  </a:cubicBezTo>
                  <a:cubicBezTo>
                    <a:pt x="1680" y="140"/>
                    <a:pt x="1679" y="144"/>
                    <a:pt x="1679" y="148"/>
                  </a:cubicBezTo>
                  <a:cubicBezTo>
                    <a:pt x="1679" y="147"/>
                    <a:pt x="1678" y="147"/>
                    <a:pt x="1678" y="146"/>
                  </a:cubicBezTo>
                  <a:cubicBezTo>
                    <a:pt x="1679" y="129"/>
                    <a:pt x="1676" y="106"/>
                    <a:pt x="1669" y="91"/>
                  </a:cubicBezTo>
                  <a:cubicBezTo>
                    <a:pt x="1670" y="88"/>
                    <a:pt x="1670" y="85"/>
                    <a:pt x="1672" y="83"/>
                  </a:cubicBezTo>
                  <a:cubicBezTo>
                    <a:pt x="1670" y="85"/>
                    <a:pt x="1669" y="88"/>
                    <a:pt x="1668" y="90"/>
                  </a:cubicBezTo>
                  <a:cubicBezTo>
                    <a:pt x="1668" y="88"/>
                    <a:pt x="1667" y="87"/>
                    <a:pt x="1666" y="85"/>
                  </a:cubicBezTo>
                  <a:cubicBezTo>
                    <a:pt x="1667" y="87"/>
                    <a:pt x="1668" y="89"/>
                    <a:pt x="1668" y="91"/>
                  </a:cubicBezTo>
                  <a:cubicBezTo>
                    <a:pt x="1667" y="95"/>
                    <a:pt x="1666" y="98"/>
                    <a:pt x="1665" y="101"/>
                  </a:cubicBezTo>
                  <a:cubicBezTo>
                    <a:pt x="1664" y="94"/>
                    <a:pt x="1662" y="87"/>
                    <a:pt x="1659" y="79"/>
                  </a:cubicBezTo>
                  <a:cubicBezTo>
                    <a:pt x="1659" y="78"/>
                    <a:pt x="1659" y="76"/>
                    <a:pt x="1659" y="75"/>
                  </a:cubicBezTo>
                  <a:cubicBezTo>
                    <a:pt x="1659" y="76"/>
                    <a:pt x="1659" y="77"/>
                    <a:pt x="1658" y="78"/>
                  </a:cubicBezTo>
                  <a:cubicBezTo>
                    <a:pt x="1656" y="71"/>
                    <a:pt x="1653" y="64"/>
                    <a:pt x="1648" y="56"/>
                  </a:cubicBezTo>
                  <a:cubicBezTo>
                    <a:pt x="1648" y="66"/>
                    <a:pt x="1652" y="78"/>
                    <a:pt x="1655" y="90"/>
                  </a:cubicBezTo>
                  <a:cubicBezTo>
                    <a:pt x="1653" y="99"/>
                    <a:pt x="1653" y="108"/>
                    <a:pt x="1652" y="117"/>
                  </a:cubicBezTo>
                  <a:cubicBezTo>
                    <a:pt x="1651" y="112"/>
                    <a:pt x="1649" y="107"/>
                    <a:pt x="1648" y="103"/>
                  </a:cubicBezTo>
                  <a:cubicBezTo>
                    <a:pt x="1650" y="109"/>
                    <a:pt x="1648" y="132"/>
                    <a:pt x="1648" y="140"/>
                  </a:cubicBezTo>
                  <a:cubicBezTo>
                    <a:pt x="1648" y="144"/>
                    <a:pt x="1648" y="147"/>
                    <a:pt x="1648" y="151"/>
                  </a:cubicBezTo>
                  <a:cubicBezTo>
                    <a:pt x="1648" y="151"/>
                    <a:pt x="1648" y="151"/>
                    <a:pt x="1648" y="151"/>
                  </a:cubicBezTo>
                  <a:cubicBezTo>
                    <a:pt x="1648" y="144"/>
                    <a:pt x="1647" y="137"/>
                    <a:pt x="1645" y="129"/>
                  </a:cubicBezTo>
                  <a:cubicBezTo>
                    <a:pt x="1643" y="119"/>
                    <a:pt x="1642" y="110"/>
                    <a:pt x="1643" y="100"/>
                  </a:cubicBezTo>
                  <a:cubicBezTo>
                    <a:pt x="1642" y="107"/>
                    <a:pt x="1642" y="113"/>
                    <a:pt x="1642" y="119"/>
                  </a:cubicBezTo>
                  <a:cubicBezTo>
                    <a:pt x="1640" y="114"/>
                    <a:pt x="1638" y="108"/>
                    <a:pt x="1636" y="103"/>
                  </a:cubicBezTo>
                  <a:cubicBezTo>
                    <a:pt x="1636" y="99"/>
                    <a:pt x="1637" y="95"/>
                    <a:pt x="1639" y="90"/>
                  </a:cubicBezTo>
                  <a:cubicBezTo>
                    <a:pt x="1637" y="94"/>
                    <a:pt x="1636" y="98"/>
                    <a:pt x="1635" y="102"/>
                  </a:cubicBezTo>
                  <a:cubicBezTo>
                    <a:pt x="1632" y="97"/>
                    <a:pt x="1630" y="93"/>
                    <a:pt x="1627" y="89"/>
                  </a:cubicBezTo>
                  <a:cubicBezTo>
                    <a:pt x="1630" y="93"/>
                    <a:pt x="1630" y="99"/>
                    <a:pt x="1630" y="103"/>
                  </a:cubicBezTo>
                  <a:cubicBezTo>
                    <a:pt x="1630" y="104"/>
                    <a:pt x="1631" y="109"/>
                    <a:pt x="1631" y="115"/>
                  </a:cubicBezTo>
                  <a:cubicBezTo>
                    <a:pt x="1630" y="120"/>
                    <a:pt x="1630" y="124"/>
                    <a:pt x="1629" y="129"/>
                  </a:cubicBezTo>
                  <a:cubicBezTo>
                    <a:pt x="1628" y="125"/>
                    <a:pt x="1627" y="122"/>
                    <a:pt x="1627" y="119"/>
                  </a:cubicBezTo>
                  <a:cubicBezTo>
                    <a:pt x="1627" y="115"/>
                    <a:pt x="1627" y="108"/>
                    <a:pt x="1626" y="105"/>
                  </a:cubicBezTo>
                  <a:cubicBezTo>
                    <a:pt x="1625" y="108"/>
                    <a:pt x="1625" y="110"/>
                    <a:pt x="1625" y="113"/>
                  </a:cubicBezTo>
                  <a:cubicBezTo>
                    <a:pt x="1624" y="109"/>
                    <a:pt x="1623" y="106"/>
                    <a:pt x="1623" y="103"/>
                  </a:cubicBezTo>
                  <a:cubicBezTo>
                    <a:pt x="1624" y="97"/>
                    <a:pt x="1625" y="90"/>
                    <a:pt x="1628" y="84"/>
                  </a:cubicBezTo>
                  <a:cubicBezTo>
                    <a:pt x="1625" y="90"/>
                    <a:pt x="1623" y="95"/>
                    <a:pt x="1622" y="101"/>
                  </a:cubicBezTo>
                  <a:cubicBezTo>
                    <a:pt x="1617" y="86"/>
                    <a:pt x="1614" y="83"/>
                    <a:pt x="1609" y="78"/>
                  </a:cubicBezTo>
                  <a:cubicBezTo>
                    <a:pt x="1616" y="84"/>
                    <a:pt x="1619" y="97"/>
                    <a:pt x="1620" y="107"/>
                  </a:cubicBezTo>
                  <a:cubicBezTo>
                    <a:pt x="1619" y="114"/>
                    <a:pt x="1617" y="120"/>
                    <a:pt x="1616" y="126"/>
                  </a:cubicBezTo>
                  <a:cubicBezTo>
                    <a:pt x="1615" y="121"/>
                    <a:pt x="1614" y="115"/>
                    <a:pt x="1612" y="109"/>
                  </a:cubicBezTo>
                  <a:cubicBezTo>
                    <a:pt x="1613" y="106"/>
                    <a:pt x="1613" y="103"/>
                    <a:pt x="1614" y="100"/>
                  </a:cubicBezTo>
                  <a:cubicBezTo>
                    <a:pt x="1613" y="102"/>
                    <a:pt x="1613" y="104"/>
                    <a:pt x="1612" y="108"/>
                  </a:cubicBezTo>
                  <a:cubicBezTo>
                    <a:pt x="1611" y="106"/>
                    <a:pt x="1610" y="103"/>
                    <a:pt x="1610" y="101"/>
                  </a:cubicBezTo>
                  <a:cubicBezTo>
                    <a:pt x="1610" y="100"/>
                    <a:pt x="1610" y="99"/>
                    <a:pt x="1611" y="98"/>
                  </a:cubicBezTo>
                  <a:cubicBezTo>
                    <a:pt x="1610" y="99"/>
                    <a:pt x="1610" y="100"/>
                    <a:pt x="1610" y="101"/>
                  </a:cubicBezTo>
                  <a:cubicBezTo>
                    <a:pt x="1607" y="94"/>
                    <a:pt x="1604" y="87"/>
                    <a:pt x="1600" y="81"/>
                  </a:cubicBezTo>
                  <a:cubicBezTo>
                    <a:pt x="1604" y="88"/>
                    <a:pt x="1605" y="99"/>
                    <a:pt x="1605" y="106"/>
                  </a:cubicBezTo>
                  <a:cubicBezTo>
                    <a:pt x="1605" y="111"/>
                    <a:pt x="1604" y="115"/>
                    <a:pt x="1604" y="120"/>
                  </a:cubicBezTo>
                  <a:cubicBezTo>
                    <a:pt x="1602" y="126"/>
                    <a:pt x="1600" y="133"/>
                    <a:pt x="1599" y="139"/>
                  </a:cubicBezTo>
                  <a:cubicBezTo>
                    <a:pt x="1599" y="137"/>
                    <a:pt x="1599" y="136"/>
                    <a:pt x="1599" y="135"/>
                  </a:cubicBezTo>
                  <a:cubicBezTo>
                    <a:pt x="1600" y="127"/>
                    <a:pt x="1600" y="120"/>
                    <a:pt x="1601" y="113"/>
                  </a:cubicBezTo>
                  <a:cubicBezTo>
                    <a:pt x="1600" y="117"/>
                    <a:pt x="1600" y="123"/>
                    <a:pt x="1599" y="129"/>
                  </a:cubicBezTo>
                  <a:cubicBezTo>
                    <a:pt x="1599" y="120"/>
                    <a:pt x="1599" y="111"/>
                    <a:pt x="1597" y="103"/>
                  </a:cubicBezTo>
                  <a:cubicBezTo>
                    <a:pt x="1598" y="101"/>
                    <a:pt x="1599" y="100"/>
                    <a:pt x="1599" y="99"/>
                  </a:cubicBezTo>
                  <a:cubicBezTo>
                    <a:pt x="1599" y="100"/>
                    <a:pt x="1598" y="101"/>
                    <a:pt x="1597" y="102"/>
                  </a:cubicBezTo>
                  <a:cubicBezTo>
                    <a:pt x="1595" y="88"/>
                    <a:pt x="1591" y="75"/>
                    <a:pt x="1582" y="60"/>
                  </a:cubicBezTo>
                  <a:cubicBezTo>
                    <a:pt x="1582" y="61"/>
                    <a:pt x="1582" y="61"/>
                    <a:pt x="1582" y="61"/>
                  </a:cubicBezTo>
                  <a:cubicBezTo>
                    <a:pt x="1582" y="76"/>
                    <a:pt x="1592" y="94"/>
                    <a:pt x="1592" y="111"/>
                  </a:cubicBezTo>
                  <a:cubicBezTo>
                    <a:pt x="1591" y="115"/>
                    <a:pt x="1590" y="120"/>
                    <a:pt x="1589" y="125"/>
                  </a:cubicBezTo>
                  <a:cubicBezTo>
                    <a:pt x="1585" y="109"/>
                    <a:pt x="1578" y="94"/>
                    <a:pt x="1567" y="83"/>
                  </a:cubicBezTo>
                  <a:cubicBezTo>
                    <a:pt x="1574" y="90"/>
                    <a:pt x="1578" y="101"/>
                    <a:pt x="1580" y="111"/>
                  </a:cubicBezTo>
                  <a:cubicBezTo>
                    <a:pt x="1579" y="111"/>
                    <a:pt x="1579" y="110"/>
                    <a:pt x="1579" y="109"/>
                  </a:cubicBezTo>
                  <a:cubicBezTo>
                    <a:pt x="1579" y="117"/>
                    <a:pt x="1580" y="126"/>
                    <a:pt x="1580" y="134"/>
                  </a:cubicBezTo>
                  <a:cubicBezTo>
                    <a:pt x="1580" y="136"/>
                    <a:pt x="1580" y="138"/>
                    <a:pt x="1580" y="140"/>
                  </a:cubicBezTo>
                  <a:cubicBezTo>
                    <a:pt x="1577" y="127"/>
                    <a:pt x="1576" y="113"/>
                    <a:pt x="1572" y="100"/>
                  </a:cubicBezTo>
                  <a:cubicBezTo>
                    <a:pt x="1574" y="109"/>
                    <a:pt x="1574" y="123"/>
                    <a:pt x="1574" y="135"/>
                  </a:cubicBezTo>
                  <a:cubicBezTo>
                    <a:pt x="1575" y="138"/>
                    <a:pt x="1575" y="141"/>
                    <a:pt x="1575" y="144"/>
                  </a:cubicBezTo>
                  <a:cubicBezTo>
                    <a:pt x="1575" y="143"/>
                    <a:pt x="1575" y="142"/>
                    <a:pt x="1575" y="142"/>
                  </a:cubicBezTo>
                  <a:cubicBezTo>
                    <a:pt x="1574" y="139"/>
                    <a:pt x="1574" y="137"/>
                    <a:pt x="1574" y="135"/>
                  </a:cubicBezTo>
                  <a:cubicBezTo>
                    <a:pt x="1574" y="130"/>
                    <a:pt x="1573" y="125"/>
                    <a:pt x="1572" y="120"/>
                  </a:cubicBezTo>
                  <a:cubicBezTo>
                    <a:pt x="1572" y="119"/>
                    <a:pt x="1572" y="119"/>
                    <a:pt x="1572" y="118"/>
                  </a:cubicBezTo>
                  <a:cubicBezTo>
                    <a:pt x="1572" y="119"/>
                    <a:pt x="1572" y="119"/>
                    <a:pt x="1572" y="120"/>
                  </a:cubicBezTo>
                  <a:cubicBezTo>
                    <a:pt x="1571" y="116"/>
                    <a:pt x="1569" y="112"/>
                    <a:pt x="1568" y="108"/>
                  </a:cubicBezTo>
                  <a:cubicBezTo>
                    <a:pt x="1569" y="106"/>
                    <a:pt x="1569" y="105"/>
                    <a:pt x="1570" y="103"/>
                  </a:cubicBezTo>
                  <a:cubicBezTo>
                    <a:pt x="1569" y="105"/>
                    <a:pt x="1568" y="106"/>
                    <a:pt x="1568" y="107"/>
                  </a:cubicBezTo>
                  <a:cubicBezTo>
                    <a:pt x="1561" y="91"/>
                    <a:pt x="1551" y="76"/>
                    <a:pt x="1534" y="63"/>
                  </a:cubicBezTo>
                  <a:cubicBezTo>
                    <a:pt x="1540" y="68"/>
                    <a:pt x="1544" y="74"/>
                    <a:pt x="1548" y="79"/>
                  </a:cubicBezTo>
                  <a:cubicBezTo>
                    <a:pt x="1547" y="81"/>
                    <a:pt x="1545" y="85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2" y="90"/>
                    <a:pt x="1542" y="90"/>
                    <a:pt x="1542" y="90"/>
                  </a:cubicBezTo>
                  <a:cubicBezTo>
                    <a:pt x="1540" y="94"/>
                    <a:pt x="1538" y="98"/>
                    <a:pt x="1536" y="103"/>
                  </a:cubicBezTo>
                  <a:cubicBezTo>
                    <a:pt x="1535" y="100"/>
                    <a:pt x="1535" y="98"/>
                    <a:pt x="1534" y="96"/>
                  </a:cubicBezTo>
                  <a:cubicBezTo>
                    <a:pt x="1534" y="99"/>
                    <a:pt x="1535" y="103"/>
                    <a:pt x="1535" y="106"/>
                  </a:cubicBezTo>
                  <a:cubicBezTo>
                    <a:pt x="1534" y="108"/>
                    <a:pt x="1533" y="111"/>
                    <a:pt x="1532" y="113"/>
                  </a:cubicBezTo>
                  <a:cubicBezTo>
                    <a:pt x="1531" y="111"/>
                    <a:pt x="1531" y="109"/>
                    <a:pt x="1530" y="107"/>
                  </a:cubicBezTo>
                  <a:cubicBezTo>
                    <a:pt x="1531" y="100"/>
                    <a:pt x="1532" y="93"/>
                    <a:pt x="1532" y="88"/>
                  </a:cubicBezTo>
                  <a:cubicBezTo>
                    <a:pt x="1532" y="87"/>
                    <a:pt x="1532" y="87"/>
                    <a:pt x="1532" y="87"/>
                  </a:cubicBezTo>
                  <a:cubicBezTo>
                    <a:pt x="1530" y="92"/>
                    <a:pt x="1529" y="97"/>
                    <a:pt x="1528" y="102"/>
                  </a:cubicBezTo>
                  <a:cubicBezTo>
                    <a:pt x="1525" y="96"/>
                    <a:pt x="1523" y="90"/>
                    <a:pt x="1520" y="84"/>
                  </a:cubicBezTo>
                  <a:cubicBezTo>
                    <a:pt x="1523" y="90"/>
                    <a:pt x="1525" y="97"/>
                    <a:pt x="1527" y="104"/>
                  </a:cubicBezTo>
                  <a:cubicBezTo>
                    <a:pt x="1526" y="108"/>
                    <a:pt x="1526" y="111"/>
                    <a:pt x="1525" y="115"/>
                  </a:cubicBezTo>
                  <a:cubicBezTo>
                    <a:pt x="1523" y="110"/>
                    <a:pt x="1521" y="106"/>
                    <a:pt x="1519" y="102"/>
                  </a:cubicBezTo>
                  <a:cubicBezTo>
                    <a:pt x="1521" y="107"/>
                    <a:pt x="1522" y="114"/>
                    <a:pt x="1523" y="121"/>
                  </a:cubicBezTo>
                  <a:cubicBezTo>
                    <a:pt x="1522" y="126"/>
                    <a:pt x="1520" y="131"/>
                    <a:pt x="1519" y="135"/>
                  </a:cubicBezTo>
                  <a:cubicBezTo>
                    <a:pt x="1517" y="132"/>
                    <a:pt x="1516" y="129"/>
                    <a:pt x="1515" y="125"/>
                  </a:cubicBezTo>
                  <a:cubicBezTo>
                    <a:pt x="1516" y="118"/>
                    <a:pt x="1517" y="111"/>
                    <a:pt x="1518" y="104"/>
                  </a:cubicBezTo>
                  <a:cubicBezTo>
                    <a:pt x="1517" y="109"/>
                    <a:pt x="1515" y="114"/>
                    <a:pt x="1513" y="120"/>
                  </a:cubicBezTo>
                  <a:cubicBezTo>
                    <a:pt x="1512" y="115"/>
                    <a:pt x="1511" y="111"/>
                    <a:pt x="1510" y="107"/>
                  </a:cubicBezTo>
                  <a:cubicBezTo>
                    <a:pt x="1510" y="103"/>
                    <a:pt x="1511" y="98"/>
                    <a:pt x="1511" y="94"/>
                  </a:cubicBezTo>
                  <a:cubicBezTo>
                    <a:pt x="1511" y="91"/>
                    <a:pt x="1510" y="88"/>
                    <a:pt x="1510" y="85"/>
                  </a:cubicBezTo>
                  <a:cubicBezTo>
                    <a:pt x="1509" y="89"/>
                    <a:pt x="1508" y="93"/>
                    <a:pt x="1507" y="99"/>
                  </a:cubicBezTo>
                  <a:cubicBezTo>
                    <a:pt x="1504" y="91"/>
                    <a:pt x="1500" y="84"/>
                    <a:pt x="1495" y="77"/>
                  </a:cubicBezTo>
                  <a:cubicBezTo>
                    <a:pt x="1498" y="86"/>
                    <a:pt x="1502" y="95"/>
                    <a:pt x="1505" y="104"/>
                  </a:cubicBezTo>
                  <a:cubicBezTo>
                    <a:pt x="1505" y="106"/>
                    <a:pt x="1505" y="107"/>
                    <a:pt x="1505" y="109"/>
                  </a:cubicBezTo>
                  <a:cubicBezTo>
                    <a:pt x="1504" y="107"/>
                    <a:pt x="1503" y="105"/>
                    <a:pt x="1502" y="103"/>
                  </a:cubicBezTo>
                  <a:cubicBezTo>
                    <a:pt x="1502" y="103"/>
                    <a:pt x="1502" y="102"/>
                    <a:pt x="1502" y="102"/>
                  </a:cubicBezTo>
                  <a:cubicBezTo>
                    <a:pt x="1502" y="102"/>
                    <a:pt x="1502" y="103"/>
                    <a:pt x="1502" y="103"/>
                  </a:cubicBezTo>
                  <a:cubicBezTo>
                    <a:pt x="1497" y="94"/>
                    <a:pt x="1492" y="86"/>
                    <a:pt x="1485" y="79"/>
                  </a:cubicBezTo>
                  <a:cubicBezTo>
                    <a:pt x="1487" y="75"/>
                    <a:pt x="1489" y="71"/>
                    <a:pt x="1491" y="68"/>
                  </a:cubicBezTo>
                  <a:cubicBezTo>
                    <a:pt x="1489" y="69"/>
                    <a:pt x="1486" y="73"/>
                    <a:pt x="1484" y="77"/>
                  </a:cubicBezTo>
                  <a:cubicBezTo>
                    <a:pt x="1480" y="73"/>
                    <a:pt x="1476" y="69"/>
                    <a:pt x="1471" y="65"/>
                  </a:cubicBezTo>
                  <a:cubicBezTo>
                    <a:pt x="1476" y="70"/>
                    <a:pt x="1480" y="75"/>
                    <a:pt x="1483" y="79"/>
                  </a:cubicBezTo>
                  <a:cubicBezTo>
                    <a:pt x="1480" y="86"/>
                    <a:pt x="1477" y="96"/>
                    <a:pt x="1474" y="105"/>
                  </a:cubicBezTo>
                  <a:cubicBezTo>
                    <a:pt x="1471" y="99"/>
                    <a:pt x="1467" y="94"/>
                    <a:pt x="1464" y="88"/>
                  </a:cubicBezTo>
                  <a:cubicBezTo>
                    <a:pt x="1464" y="87"/>
                    <a:pt x="1464" y="86"/>
                    <a:pt x="1465" y="85"/>
                  </a:cubicBezTo>
                  <a:cubicBezTo>
                    <a:pt x="1464" y="86"/>
                    <a:pt x="1464" y="87"/>
                    <a:pt x="1464" y="88"/>
                  </a:cubicBezTo>
                  <a:cubicBezTo>
                    <a:pt x="1463" y="87"/>
                    <a:pt x="1462" y="86"/>
                    <a:pt x="1461" y="85"/>
                  </a:cubicBezTo>
                  <a:cubicBezTo>
                    <a:pt x="1462" y="86"/>
                    <a:pt x="1463" y="87"/>
                    <a:pt x="1463" y="88"/>
                  </a:cubicBezTo>
                  <a:cubicBezTo>
                    <a:pt x="1462" y="91"/>
                    <a:pt x="1461" y="93"/>
                    <a:pt x="1460" y="95"/>
                  </a:cubicBezTo>
                  <a:cubicBezTo>
                    <a:pt x="1459" y="94"/>
                    <a:pt x="1459" y="92"/>
                    <a:pt x="1458" y="91"/>
                  </a:cubicBezTo>
                  <a:cubicBezTo>
                    <a:pt x="1459" y="92"/>
                    <a:pt x="1459" y="94"/>
                    <a:pt x="1460" y="95"/>
                  </a:cubicBezTo>
                  <a:cubicBezTo>
                    <a:pt x="1456" y="103"/>
                    <a:pt x="1453" y="112"/>
                    <a:pt x="1451" y="121"/>
                  </a:cubicBezTo>
                  <a:cubicBezTo>
                    <a:pt x="1450" y="112"/>
                    <a:pt x="1449" y="103"/>
                    <a:pt x="1449" y="97"/>
                  </a:cubicBezTo>
                  <a:cubicBezTo>
                    <a:pt x="1447" y="100"/>
                    <a:pt x="1446" y="105"/>
                    <a:pt x="1445" y="110"/>
                  </a:cubicBezTo>
                  <a:cubicBezTo>
                    <a:pt x="1445" y="92"/>
                    <a:pt x="1444" y="61"/>
                    <a:pt x="1442" y="57"/>
                  </a:cubicBezTo>
                  <a:cubicBezTo>
                    <a:pt x="1441" y="79"/>
                    <a:pt x="1442" y="100"/>
                    <a:pt x="1442" y="122"/>
                  </a:cubicBezTo>
                  <a:cubicBezTo>
                    <a:pt x="1442" y="123"/>
                    <a:pt x="1442" y="124"/>
                    <a:pt x="1442" y="125"/>
                  </a:cubicBezTo>
                  <a:cubicBezTo>
                    <a:pt x="1440" y="114"/>
                    <a:pt x="1436" y="103"/>
                    <a:pt x="1431" y="94"/>
                  </a:cubicBezTo>
                  <a:cubicBezTo>
                    <a:pt x="1430" y="89"/>
                    <a:pt x="1430" y="84"/>
                    <a:pt x="1431" y="80"/>
                  </a:cubicBezTo>
                  <a:cubicBezTo>
                    <a:pt x="1430" y="83"/>
                    <a:pt x="1429" y="87"/>
                    <a:pt x="1428" y="90"/>
                  </a:cubicBezTo>
                  <a:cubicBezTo>
                    <a:pt x="1426" y="88"/>
                    <a:pt x="1424" y="85"/>
                    <a:pt x="1422" y="83"/>
                  </a:cubicBezTo>
                  <a:cubicBezTo>
                    <a:pt x="1424" y="86"/>
                    <a:pt x="1426" y="89"/>
                    <a:pt x="1428" y="92"/>
                  </a:cubicBezTo>
                  <a:cubicBezTo>
                    <a:pt x="1427" y="96"/>
                    <a:pt x="1426" y="100"/>
                    <a:pt x="1426" y="103"/>
                  </a:cubicBezTo>
                  <a:cubicBezTo>
                    <a:pt x="1425" y="102"/>
                    <a:pt x="1425" y="101"/>
                    <a:pt x="1425" y="100"/>
                  </a:cubicBezTo>
                  <a:cubicBezTo>
                    <a:pt x="1425" y="101"/>
                    <a:pt x="1425" y="102"/>
                    <a:pt x="1426" y="104"/>
                  </a:cubicBezTo>
                  <a:cubicBezTo>
                    <a:pt x="1425" y="106"/>
                    <a:pt x="1425" y="109"/>
                    <a:pt x="1424" y="111"/>
                  </a:cubicBezTo>
                  <a:cubicBezTo>
                    <a:pt x="1422" y="107"/>
                    <a:pt x="1421" y="103"/>
                    <a:pt x="1419" y="99"/>
                  </a:cubicBezTo>
                  <a:cubicBezTo>
                    <a:pt x="1418" y="91"/>
                    <a:pt x="1418" y="82"/>
                    <a:pt x="1419" y="74"/>
                  </a:cubicBezTo>
                  <a:cubicBezTo>
                    <a:pt x="1418" y="80"/>
                    <a:pt x="1416" y="86"/>
                    <a:pt x="1415" y="92"/>
                  </a:cubicBezTo>
                  <a:cubicBezTo>
                    <a:pt x="1414" y="91"/>
                    <a:pt x="1413" y="89"/>
                    <a:pt x="1412" y="88"/>
                  </a:cubicBezTo>
                  <a:cubicBezTo>
                    <a:pt x="1413" y="89"/>
                    <a:pt x="1414" y="91"/>
                    <a:pt x="1415" y="93"/>
                  </a:cubicBezTo>
                  <a:cubicBezTo>
                    <a:pt x="1414" y="95"/>
                    <a:pt x="1414" y="97"/>
                    <a:pt x="1414" y="98"/>
                  </a:cubicBezTo>
                  <a:cubicBezTo>
                    <a:pt x="1411" y="93"/>
                    <a:pt x="1409" y="88"/>
                    <a:pt x="1405" y="84"/>
                  </a:cubicBezTo>
                  <a:cubicBezTo>
                    <a:pt x="1408" y="88"/>
                    <a:pt x="1410" y="95"/>
                    <a:pt x="1413" y="103"/>
                  </a:cubicBezTo>
                  <a:cubicBezTo>
                    <a:pt x="1412" y="106"/>
                    <a:pt x="1411" y="110"/>
                    <a:pt x="1411" y="113"/>
                  </a:cubicBezTo>
                  <a:cubicBezTo>
                    <a:pt x="1408" y="108"/>
                    <a:pt x="1406" y="102"/>
                    <a:pt x="1403" y="96"/>
                  </a:cubicBezTo>
                  <a:cubicBezTo>
                    <a:pt x="1403" y="91"/>
                    <a:pt x="1404" y="86"/>
                    <a:pt x="1405" y="83"/>
                  </a:cubicBezTo>
                  <a:cubicBezTo>
                    <a:pt x="1404" y="87"/>
                    <a:pt x="1403" y="90"/>
                    <a:pt x="1401" y="93"/>
                  </a:cubicBezTo>
                  <a:cubicBezTo>
                    <a:pt x="1396" y="83"/>
                    <a:pt x="1389" y="74"/>
                    <a:pt x="1380" y="64"/>
                  </a:cubicBezTo>
                  <a:cubicBezTo>
                    <a:pt x="1389" y="74"/>
                    <a:pt x="1395" y="86"/>
                    <a:pt x="1400" y="97"/>
                  </a:cubicBezTo>
                  <a:cubicBezTo>
                    <a:pt x="1399" y="99"/>
                    <a:pt x="1399" y="101"/>
                    <a:pt x="1398" y="103"/>
                  </a:cubicBezTo>
                  <a:cubicBezTo>
                    <a:pt x="1397" y="98"/>
                    <a:pt x="1396" y="93"/>
                    <a:pt x="1394" y="88"/>
                  </a:cubicBezTo>
                  <a:cubicBezTo>
                    <a:pt x="1394" y="91"/>
                    <a:pt x="1395" y="98"/>
                    <a:pt x="1397" y="106"/>
                  </a:cubicBezTo>
                  <a:cubicBezTo>
                    <a:pt x="1397" y="108"/>
                    <a:pt x="1396" y="109"/>
                    <a:pt x="1396" y="110"/>
                  </a:cubicBezTo>
                  <a:cubicBezTo>
                    <a:pt x="1390" y="97"/>
                    <a:pt x="1383" y="83"/>
                    <a:pt x="1372" y="72"/>
                  </a:cubicBezTo>
                  <a:cubicBezTo>
                    <a:pt x="1370" y="61"/>
                    <a:pt x="1368" y="51"/>
                    <a:pt x="1366" y="41"/>
                  </a:cubicBezTo>
                  <a:cubicBezTo>
                    <a:pt x="1366" y="48"/>
                    <a:pt x="1366" y="55"/>
                    <a:pt x="1366" y="61"/>
                  </a:cubicBezTo>
                  <a:cubicBezTo>
                    <a:pt x="1366" y="63"/>
                    <a:pt x="1366" y="64"/>
                    <a:pt x="1366" y="66"/>
                  </a:cubicBezTo>
                  <a:cubicBezTo>
                    <a:pt x="1365" y="65"/>
                    <a:pt x="1365" y="65"/>
                    <a:pt x="1365" y="65"/>
                  </a:cubicBezTo>
                  <a:cubicBezTo>
                    <a:pt x="1365" y="65"/>
                    <a:pt x="1365" y="65"/>
                    <a:pt x="1366" y="66"/>
                  </a:cubicBezTo>
                  <a:cubicBezTo>
                    <a:pt x="1366" y="75"/>
                    <a:pt x="1367" y="85"/>
                    <a:pt x="1367" y="94"/>
                  </a:cubicBezTo>
                  <a:cubicBezTo>
                    <a:pt x="1365" y="88"/>
                    <a:pt x="1362" y="81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8" y="75"/>
                    <a:pt x="1358" y="75"/>
                    <a:pt x="1358" y="75"/>
                  </a:cubicBezTo>
                  <a:cubicBezTo>
                    <a:pt x="1353" y="67"/>
                    <a:pt x="1346" y="59"/>
                    <a:pt x="1336" y="50"/>
                  </a:cubicBezTo>
                  <a:cubicBezTo>
                    <a:pt x="1339" y="54"/>
                    <a:pt x="1341" y="58"/>
                    <a:pt x="1343" y="61"/>
                  </a:cubicBezTo>
                  <a:cubicBezTo>
                    <a:pt x="1342" y="64"/>
                    <a:pt x="1342" y="68"/>
                    <a:pt x="1341" y="73"/>
                  </a:cubicBezTo>
                  <a:cubicBezTo>
                    <a:pt x="1339" y="70"/>
                    <a:pt x="1336" y="67"/>
                    <a:pt x="1334" y="65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4" y="64"/>
                    <a:pt x="1334" y="64"/>
                    <a:pt x="1334" y="64"/>
                  </a:cubicBezTo>
                  <a:cubicBezTo>
                    <a:pt x="1332" y="62"/>
                    <a:pt x="1330" y="61"/>
                    <a:pt x="1328" y="59"/>
                  </a:cubicBezTo>
                  <a:cubicBezTo>
                    <a:pt x="1330" y="61"/>
                    <a:pt x="1332" y="63"/>
                    <a:pt x="1333" y="65"/>
                  </a:cubicBezTo>
                  <a:cubicBezTo>
                    <a:pt x="1332" y="67"/>
                    <a:pt x="1330" y="69"/>
                    <a:pt x="1329" y="72"/>
                  </a:cubicBezTo>
                  <a:cubicBezTo>
                    <a:pt x="1328" y="67"/>
                    <a:pt x="1328" y="61"/>
                    <a:pt x="1327" y="56"/>
                  </a:cubicBezTo>
                  <a:cubicBezTo>
                    <a:pt x="1328" y="54"/>
                    <a:pt x="1329" y="53"/>
                    <a:pt x="1330" y="51"/>
                  </a:cubicBezTo>
                  <a:cubicBezTo>
                    <a:pt x="1329" y="52"/>
                    <a:pt x="1328" y="53"/>
                    <a:pt x="1327" y="55"/>
                  </a:cubicBezTo>
                  <a:cubicBezTo>
                    <a:pt x="1325" y="45"/>
                    <a:pt x="1323" y="35"/>
                    <a:pt x="1320" y="26"/>
                  </a:cubicBezTo>
                  <a:cubicBezTo>
                    <a:pt x="1319" y="30"/>
                    <a:pt x="1319" y="34"/>
                    <a:pt x="1319" y="37"/>
                  </a:cubicBezTo>
                  <a:cubicBezTo>
                    <a:pt x="1319" y="45"/>
                    <a:pt x="1320" y="53"/>
                    <a:pt x="1321" y="60"/>
                  </a:cubicBezTo>
                  <a:cubicBezTo>
                    <a:pt x="1317" y="65"/>
                    <a:pt x="1313" y="69"/>
                    <a:pt x="1308" y="75"/>
                  </a:cubicBezTo>
                  <a:cubicBezTo>
                    <a:pt x="1308" y="72"/>
                    <a:pt x="1307" y="70"/>
                    <a:pt x="1306" y="67"/>
                  </a:cubicBezTo>
                  <a:cubicBezTo>
                    <a:pt x="1306" y="70"/>
                    <a:pt x="1307" y="73"/>
                    <a:pt x="1307" y="76"/>
                  </a:cubicBezTo>
                  <a:cubicBezTo>
                    <a:pt x="1306" y="77"/>
                    <a:pt x="1306" y="78"/>
                    <a:pt x="1306" y="78"/>
                  </a:cubicBezTo>
                  <a:cubicBezTo>
                    <a:pt x="1304" y="75"/>
                    <a:pt x="1302" y="72"/>
                    <a:pt x="1300" y="68"/>
                  </a:cubicBezTo>
                  <a:cubicBezTo>
                    <a:pt x="1300" y="65"/>
                    <a:pt x="1301" y="63"/>
                    <a:pt x="1301" y="62"/>
                  </a:cubicBezTo>
                  <a:cubicBezTo>
                    <a:pt x="1300" y="63"/>
                    <a:pt x="1299" y="65"/>
                    <a:pt x="1298" y="67"/>
                  </a:cubicBezTo>
                  <a:cubicBezTo>
                    <a:pt x="1292" y="57"/>
                    <a:pt x="1283" y="47"/>
                    <a:pt x="1270" y="34"/>
                  </a:cubicBezTo>
                  <a:cubicBezTo>
                    <a:pt x="1283" y="49"/>
                    <a:pt x="1291" y="60"/>
                    <a:pt x="1298" y="69"/>
                  </a:cubicBezTo>
                  <a:cubicBezTo>
                    <a:pt x="1297" y="72"/>
                    <a:pt x="1296" y="75"/>
                    <a:pt x="1296" y="79"/>
                  </a:cubicBezTo>
                  <a:cubicBezTo>
                    <a:pt x="1290" y="68"/>
                    <a:pt x="1282" y="58"/>
                    <a:pt x="1270" y="52"/>
                  </a:cubicBezTo>
                  <a:cubicBezTo>
                    <a:pt x="1284" y="60"/>
                    <a:pt x="1291" y="72"/>
                    <a:pt x="1296" y="84"/>
                  </a:cubicBezTo>
                  <a:cubicBezTo>
                    <a:pt x="1296" y="86"/>
                    <a:pt x="1296" y="89"/>
                    <a:pt x="1296" y="92"/>
                  </a:cubicBezTo>
                  <a:cubicBezTo>
                    <a:pt x="1294" y="94"/>
                    <a:pt x="1292" y="97"/>
                    <a:pt x="1290" y="100"/>
                  </a:cubicBezTo>
                  <a:cubicBezTo>
                    <a:pt x="1289" y="96"/>
                    <a:pt x="1289" y="93"/>
                    <a:pt x="1288" y="90"/>
                  </a:cubicBezTo>
                  <a:cubicBezTo>
                    <a:pt x="1289" y="93"/>
                    <a:pt x="1289" y="97"/>
                    <a:pt x="1289" y="101"/>
                  </a:cubicBezTo>
                  <a:cubicBezTo>
                    <a:pt x="1288" y="102"/>
                    <a:pt x="1288" y="104"/>
                    <a:pt x="1287" y="105"/>
                  </a:cubicBezTo>
                  <a:cubicBezTo>
                    <a:pt x="1286" y="104"/>
                    <a:pt x="1286" y="103"/>
                    <a:pt x="1285" y="102"/>
                  </a:cubicBezTo>
                  <a:cubicBezTo>
                    <a:pt x="1284" y="97"/>
                    <a:pt x="1283" y="93"/>
                    <a:pt x="1282" y="88"/>
                  </a:cubicBezTo>
                  <a:cubicBezTo>
                    <a:pt x="1283" y="84"/>
                    <a:pt x="1284" y="79"/>
                    <a:pt x="1284" y="75"/>
                  </a:cubicBezTo>
                  <a:cubicBezTo>
                    <a:pt x="1283" y="78"/>
                    <a:pt x="1282" y="80"/>
                    <a:pt x="1281" y="83"/>
                  </a:cubicBezTo>
                  <a:cubicBezTo>
                    <a:pt x="1280" y="81"/>
                    <a:pt x="1280" y="80"/>
                    <a:pt x="1280" y="79"/>
                  </a:cubicBezTo>
                  <a:cubicBezTo>
                    <a:pt x="1280" y="81"/>
                    <a:pt x="1280" y="82"/>
                    <a:pt x="1280" y="83"/>
                  </a:cubicBezTo>
                  <a:cubicBezTo>
                    <a:pt x="1280" y="84"/>
                    <a:pt x="1279" y="86"/>
                    <a:pt x="1278" y="87"/>
                  </a:cubicBezTo>
                  <a:cubicBezTo>
                    <a:pt x="1276" y="83"/>
                    <a:pt x="1275" y="79"/>
                    <a:pt x="1273" y="75"/>
                  </a:cubicBezTo>
                  <a:cubicBezTo>
                    <a:pt x="1273" y="80"/>
                    <a:pt x="1274" y="86"/>
                    <a:pt x="1276" y="93"/>
                  </a:cubicBezTo>
                  <a:cubicBezTo>
                    <a:pt x="1275" y="94"/>
                    <a:pt x="1275" y="94"/>
                    <a:pt x="1275" y="95"/>
                  </a:cubicBezTo>
                  <a:cubicBezTo>
                    <a:pt x="1274" y="90"/>
                    <a:pt x="1272" y="85"/>
                    <a:pt x="1270" y="81"/>
                  </a:cubicBezTo>
                  <a:cubicBezTo>
                    <a:pt x="1272" y="86"/>
                    <a:pt x="1273" y="91"/>
                    <a:pt x="1274" y="97"/>
                  </a:cubicBezTo>
                  <a:cubicBezTo>
                    <a:pt x="1272" y="100"/>
                    <a:pt x="1271" y="103"/>
                    <a:pt x="1270" y="105"/>
                  </a:cubicBezTo>
                  <a:cubicBezTo>
                    <a:pt x="1267" y="84"/>
                    <a:pt x="1261" y="63"/>
                    <a:pt x="1241" y="42"/>
                  </a:cubicBezTo>
                  <a:cubicBezTo>
                    <a:pt x="1249" y="58"/>
                    <a:pt x="1255" y="70"/>
                    <a:pt x="1259" y="81"/>
                  </a:cubicBezTo>
                  <a:cubicBezTo>
                    <a:pt x="1259" y="84"/>
                    <a:pt x="1259" y="86"/>
                    <a:pt x="1259" y="89"/>
                  </a:cubicBezTo>
                  <a:cubicBezTo>
                    <a:pt x="1257" y="86"/>
                    <a:pt x="1256" y="84"/>
                    <a:pt x="1254" y="81"/>
                  </a:cubicBezTo>
                  <a:cubicBezTo>
                    <a:pt x="1253" y="79"/>
                    <a:pt x="1251" y="76"/>
                    <a:pt x="1250" y="74"/>
                  </a:cubicBezTo>
                  <a:cubicBezTo>
                    <a:pt x="1250" y="72"/>
                    <a:pt x="1250" y="69"/>
                    <a:pt x="1250" y="67"/>
                  </a:cubicBezTo>
                  <a:cubicBezTo>
                    <a:pt x="1250" y="69"/>
                    <a:pt x="1250" y="70"/>
                    <a:pt x="1249" y="72"/>
                  </a:cubicBezTo>
                  <a:cubicBezTo>
                    <a:pt x="1246" y="66"/>
                    <a:pt x="1242" y="59"/>
                    <a:pt x="1237" y="53"/>
                  </a:cubicBezTo>
                  <a:cubicBezTo>
                    <a:pt x="1237" y="48"/>
                    <a:pt x="1237" y="42"/>
                    <a:pt x="1237" y="37"/>
                  </a:cubicBezTo>
                  <a:cubicBezTo>
                    <a:pt x="1237" y="34"/>
                    <a:pt x="1237" y="30"/>
                    <a:pt x="1237" y="26"/>
                  </a:cubicBezTo>
                  <a:cubicBezTo>
                    <a:pt x="1235" y="33"/>
                    <a:pt x="1233" y="40"/>
                    <a:pt x="1232" y="47"/>
                  </a:cubicBezTo>
                  <a:cubicBezTo>
                    <a:pt x="1229" y="44"/>
                    <a:pt x="1225" y="41"/>
                    <a:pt x="1222" y="38"/>
                  </a:cubicBezTo>
                  <a:cubicBezTo>
                    <a:pt x="1225" y="41"/>
                    <a:pt x="1228" y="45"/>
                    <a:pt x="1231" y="49"/>
                  </a:cubicBezTo>
                  <a:cubicBezTo>
                    <a:pt x="1231" y="51"/>
                    <a:pt x="1231" y="53"/>
                    <a:pt x="1230" y="55"/>
                  </a:cubicBezTo>
                  <a:cubicBezTo>
                    <a:pt x="1229" y="53"/>
                    <a:pt x="1228" y="52"/>
                    <a:pt x="1226" y="51"/>
                  </a:cubicBezTo>
                  <a:cubicBezTo>
                    <a:pt x="1227" y="53"/>
                    <a:pt x="1229" y="54"/>
                    <a:pt x="1230" y="56"/>
                  </a:cubicBezTo>
                  <a:cubicBezTo>
                    <a:pt x="1229" y="61"/>
                    <a:pt x="1228" y="67"/>
                    <a:pt x="1228" y="72"/>
                  </a:cubicBezTo>
                  <a:cubicBezTo>
                    <a:pt x="1226" y="69"/>
                    <a:pt x="1224" y="66"/>
                    <a:pt x="1223" y="64"/>
                  </a:cubicBezTo>
                  <a:cubicBezTo>
                    <a:pt x="1223" y="67"/>
                    <a:pt x="1225" y="70"/>
                    <a:pt x="1227" y="74"/>
                  </a:cubicBezTo>
                  <a:cubicBezTo>
                    <a:pt x="1226" y="81"/>
                    <a:pt x="1225" y="87"/>
                    <a:pt x="1224" y="92"/>
                  </a:cubicBezTo>
                  <a:cubicBezTo>
                    <a:pt x="1220" y="109"/>
                    <a:pt x="1216" y="126"/>
                    <a:pt x="1214" y="143"/>
                  </a:cubicBezTo>
                  <a:cubicBezTo>
                    <a:pt x="1215" y="126"/>
                    <a:pt x="1216" y="109"/>
                    <a:pt x="1216" y="91"/>
                  </a:cubicBezTo>
                  <a:cubicBezTo>
                    <a:pt x="1216" y="87"/>
                    <a:pt x="1216" y="61"/>
                    <a:pt x="1212" y="59"/>
                  </a:cubicBezTo>
                  <a:cubicBezTo>
                    <a:pt x="1217" y="76"/>
                    <a:pt x="1203" y="122"/>
                    <a:pt x="1200" y="146"/>
                  </a:cubicBezTo>
                  <a:cubicBezTo>
                    <a:pt x="1200" y="148"/>
                    <a:pt x="1200" y="150"/>
                    <a:pt x="1200" y="152"/>
                  </a:cubicBezTo>
                  <a:cubicBezTo>
                    <a:pt x="1200" y="150"/>
                    <a:pt x="1200" y="148"/>
                    <a:pt x="1200" y="146"/>
                  </a:cubicBezTo>
                  <a:cubicBezTo>
                    <a:pt x="1202" y="123"/>
                    <a:pt x="1201" y="97"/>
                    <a:pt x="1199" y="75"/>
                  </a:cubicBezTo>
                  <a:cubicBezTo>
                    <a:pt x="1196" y="97"/>
                    <a:pt x="1188" y="119"/>
                    <a:pt x="1188" y="141"/>
                  </a:cubicBezTo>
                  <a:cubicBezTo>
                    <a:pt x="1188" y="146"/>
                    <a:pt x="1189" y="152"/>
                    <a:pt x="1189" y="158"/>
                  </a:cubicBezTo>
                  <a:cubicBezTo>
                    <a:pt x="1187" y="150"/>
                    <a:pt x="1187" y="140"/>
                    <a:pt x="1187" y="133"/>
                  </a:cubicBezTo>
                  <a:cubicBezTo>
                    <a:pt x="1187" y="109"/>
                    <a:pt x="1191" y="85"/>
                    <a:pt x="1191" y="61"/>
                  </a:cubicBezTo>
                  <a:cubicBezTo>
                    <a:pt x="1191" y="55"/>
                    <a:pt x="1191" y="48"/>
                    <a:pt x="1191" y="41"/>
                  </a:cubicBezTo>
                  <a:cubicBezTo>
                    <a:pt x="1183" y="71"/>
                    <a:pt x="1179" y="110"/>
                    <a:pt x="1179" y="140"/>
                  </a:cubicBezTo>
                  <a:cubicBezTo>
                    <a:pt x="1179" y="145"/>
                    <a:pt x="1179" y="149"/>
                    <a:pt x="1180" y="153"/>
                  </a:cubicBezTo>
                  <a:cubicBezTo>
                    <a:pt x="1179" y="135"/>
                    <a:pt x="1174" y="116"/>
                    <a:pt x="1170" y="98"/>
                  </a:cubicBezTo>
                  <a:cubicBezTo>
                    <a:pt x="1172" y="110"/>
                    <a:pt x="1168" y="124"/>
                    <a:pt x="1168" y="136"/>
                  </a:cubicBezTo>
                  <a:cubicBezTo>
                    <a:pt x="1168" y="140"/>
                    <a:pt x="1168" y="143"/>
                    <a:pt x="1168" y="147"/>
                  </a:cubicBezTo>
                  <a:cubicBezTo>
                    <a:pt x="1165" y="125"/>
                    <a:pt x="1160" y="103"/>
                    <a:pt x="1151" y="83"/>
                  </a:cubicBezTo>
                  <a:cubicBezTo>
                    <a:pt x="1154" y="90"/>
                    <a:pt x="1154" y="108"/>
                    <a:pt x="1154" y="115"/>
                  </a:cubicBezTo>
                  <a:cubicBezTo>
                    <a:pt x="1154" y="127"/>
                    <a:pt x="1154" y="138"/>
                    <a:pt x="1156" y="150"/>
                  </a:cubicBezTo>
                  <a:cubicBezTo>
                    <a:pt x="1147" y="126"/>
                    <a:pt x="1144" y="99"/>
                    <a:pt x="1137" y="74"/>
                  </a:cubicBezTo>
                  <a:cubicBezTo>
                    <a:pt x="1140" y="91"/>
                    <a:pt x="1137" y="110"/>
                    <a:pt x="1137" y="128"/>
                  </a:cubicBezTo>
                  <a:cubicBezTo>
                    <a:pt x="1137" y="132"/>
                    <a:pt x="1137" y="136"/>
                    <a:pt x="1137" y="140"/>
                  </a:cubicBezTo>
                  <a:cubicBezTo>
                    <a:pt x="1138" y="145"/>
                    <a:pt x="1138" y="149"/>
                    <a:pt x="1139" y="154"/>
                  </a:cubicBezTo>
                  <a:cubicBezTo>
                    <a:pt x="1138" y="149"/>
                    <a:pt x="1137" y="145"/>
                    <a:pt x="1137" y="140"/>
                  </a:cubicBezTo>
                  <a:cubicBezTo>
                    <a:pt x="1134" y="120"/>
                    <a:pt x="1131" y="99"/>
                    <a:pt x="1126" y="80"/>
                  </a:cubicBezTo>
                  <a:cubicBezTo>
                    <a:pt x="1128" y="102"/>
                    <a:pt x="1118" y="126"/>
                    <a:pt x="1118" y="149"/>
                  </a:cubicBezTo>
                  <a:cubicBezTo>
                    <a:pt x="1118" y="156"/>
                    <a:pt x="1118" y="156"/>
                    <a:pt x="1118" y="156"/>
                  </a:cubicBezTo>
                  <a:cubicBezTo>
                    <a:pt x="1114" y="147"/>
                    <a:pt x="1114" y="132"/>
                    <a:pt x="1114" y="122"/>
                  </a:cubicBezTo>
                  <a:cubicBezTo>
                    <a:pt x="1114" y="100"/>
                    <a:pt x="1116" y="79"/>
                    <a:pt x="1115" y="57"/>
                  </a:cubicBezTo>
                  <a:cubicBezTo>
                    <a:pt x="1112" y="62"/>
                    <a:pt x="1111" y="112"/>
                    <a:pt x="1111" y="120"/>
                  </a:cubicBezTo>
                  <a:cubicBezTo>
                    <a:pt x="1111" y="133"/>
                    <a:pt x="1112" y="146"/>
                    <a:pt x="1115" y="159"/>
                  </a:cubicBezTo>
                  <a:cubicBezTo>
                    <a:pt x="1110" y="135"/>
                    <a:pt x="1104" y="108"/>
                    <a:pt x="1092" y="85"/>
                  </a:cubicBezTo>
                  <a:cubicBezTo>
                    <a:pt x="1103" y="106"/>
                    <a:pt x="1098" y="132"/>
                    <a:pt x="1105" y="154"/>
                  </a:cubicBezTo>
                  <a:cubicBezTo>
                    <a:pt x="1097" y="142"/>
                    <a:pt x="1095" y="122"/>
                    <a:pt x="1092" y="106"/>
                  </a:cubicBezTo>
                  <a:cubicBezTo>
                    <a:pt x="1094" y="120"/>
                    <a:pt x="1092" y="134"/>
                    <a:pt x="1094" y="148"/>
                  </a:cubicBezTo>
                  <a:cubicBezTo>
                    <a:pt x="1095" y="151"/>
                    <a:pt x="1096" y="153"/>
                    <a:pt x="1096" y="155"/>
                  </a:cubicBezTo>
                  <a:cubicBezTo>
                    <a:pt x="1095" y="153"/>
                    <a:pt x="1095" y="151"/>
                    <a:pt x="1094" y="148"/>
                  </a:cubicBezTo>
                  <a:cubicBezTo>
                    <a:pt x="1090" y="127"/>
                    <a:pt x="1077" y="75"/>
                    <a:pt x="1066" y="68"/>
                  </a:cubicBezTo>
                  <a:cubicBezTo>
                    <a:pt x="1083" y="90"/>
                    <a:pt x="1080" y="127"/>
                    <a:pt x="1085" y="153"/>
                  </a:cubicBezTo>
                  <a:cubicBezTo>
                    <a:pt x="1080" y="134"/>
                    <a:pt x="1073" y="113"/>
                    <a:pt x="1064" y="95"/>
                  </a:cubicBezTo>
                  <a:cubicBezTo>
                    <a:pt x="1071" y="115"/>
                    <a:pt x="1070" y="136"/>
                    <a:pt x="1079" y="155"/>
                  </a:cubicBezTo>
                  <a:cubicBezTo>
                    <a:pt x="1066" y="144"/>
                    <a:pt x="1059" y="117"/>
                    <a:pt x="1055" y="102"/>
                  </a:cubicBezTo>
                  <a:cubicBezTo>
                    <a:pt x="1056" y="120"/>
                    <a:pt x="1060" y="143"/>
                    <a:pt x="1071" y="158"/>
                  </a:cubicBezTo>
                  <a:cubicBezTo>
                    <a:pt x="1057" y="144"/>
                    <a:pt x="1052" y="103"/>
                    <a:pt x="1047" y="85"/>
                  </a:cubicBezTo>
                  <a:cubicBezTo>
                    <a:pt x="1046" y="88"/>
                    <a:pt x="1046" y="91"/>
                    <a:pt x="1046" y="94"/>
                  </a:cubicBezTo>
                  <a:cubicBezTo>
                    <a:pt x="1046" y="113"/>
                    <a:pt x="1052" y="142"/>
                    <a:pt x="1063" y="159"/>
                  </a:cubicBezTo>
                  <a:cubicBezTo>
                    <a:pt x="1050" y="143"/>
                    <a:pt x="1044" y="123"/>
                    <a:pt x="1038" y="104"/>
                  </a:cubicBezTo>
                  <a:cubicBezTo>
                    <a:pt x="1042" y="122"/>
                    <a:pt x="1042" y="140"/>
                    <a:pt x="1051" y="158"/>
                  </a:cubicBezTo>
                  <a:cubicBezTo>
                    <a:pt x="1041" y="147"/>
                    <a:pt x="1037" y="132"/>
                    <a:pt x="1033" y="117"/>
                  </a:cubicBezTo>
                  <a:cubicBezTo>
                    <a:pt x="1034" y="105"/>
                    <a:pt x="1035" y="93"/>
                    <a:pt x="1036" y="84"/>
                  </a:cubicBezTo>
                  <a:cubicBezTo>
                    <a:pt x="1034" y="92"/>
                    <a:pt x="1033" y="101"/>
                    <a:pt x="1031" y="109"/>
                  </a:cubicBezTo>
                  <a:cubicBezTo>
                    <a:pt x="1029" y="102"/>
                    <a:pt x="1027" y="95"/>
                    <a:pt x="1025" y="89"/>
                  </a:cubicBezTo>
                  <a:cubicBezTo>
                    <a:pt x="1028" y="64"/>
                    <a:pt x="1032" y="40"/>
                    <a:pt x="1032" y="40"/>
                  </a:cubicBezTo>
                  <a:cubicBezTo>
                    <a:pt x="1027" y="51"/>
                    <a:pt x="1022" y="77"/>
                    <a:pt x="1019" y="100"/>
                  </a:cubicBezTo>
                  <a:cubicBezTo>
                    <a:pt x="1017" y="95"/>
                    <a:pt x="1015" y="90"/>
                    <a:pt x="1013" y="86"/>
                  </a:cubicBezTo>
                  <a:cubicBezTo>
                    <a:pt x="1012" y="70"/>
                    <a:pt x="1011" y="58"/>
                    <a:pt x="1011" y="60"/>
                  </a:cubicBezTo>
                  <a:cubicBezTo>
                    <a:pt x="1011" y="61"/>
                    <a:pt x="1010" y="69"/>
                    <a:pt x="1009" y="80"/>
                  </a:cubicBezTo>
                  <a:cubicBezTo>
                    <a:pt x="1008" y="79"/>
                    <a:pt x="1008" y="78"/>
                    <a:pt x="1007" y="78"/>
                  </a:cubicBezTo>
                  <a:cubicBezTo>
                    <a:pt x="1008" y="79"/>
                    <a:pt x="1008" y="80"/>
                    <a:pt x="1009" y="81"/>
                  </a:cubicBezTo>
                  <a:cubicBezTo>
                    <a:pt x="1009" y="87"/>
                    <a:pt x="1008" y="95"/>
                    <a:pt x="1007" y="102"/>
                  </a:cubicBezTo>
                  <a:cubicBezTo>
                    <a:pt x="1007" y="102"/>
                    <a:pt x="1007" y="102"/>
                    <a:pt x="1007" y="102"/>
                  </a:cubicBezTo>
                  <a:cubicBezTo>
                    <a:pt x="1007" y="103"/>
                    <a:pt x="1007" y="103"/>
                    <a:pt x="1007" y="103"/>
                  </a:cubicBezTo>
                  <a:cubicBezTo>
                    <a:pt x="1006" y="113"/>
                    <a:pt x="1006" y="123"/>
                    <a:pt x="1005" y="130"/>
                  </a:cubicBezTo>
                  <a:cubicBezTo>
                    <a:pt x="1005" y="130"/>
                    <a:pt x="1005" y="129"/>
                    <a:pt x="1004" y="128"/>
                  </a:cubicBezTo>
                  <a:cubicBezTo>
                    <a:pt x="1004" y="107"/>
                    <a:pt x="1000" y="69"/>
                    <a:pt x="998" y="47"/>
                  </a:cubicBezTo>
                  <a:cubicBezTo>
                    <a:pt x="998" y="64"/>
                    <a:pt x="997" y="87"/>
                    <a:pt x="996" y="107"/>
                  </a:cubicBezTo>
                  <a:cubicBezTo>
                    <a:pt x="995" y="105"/>
                    <a:pt x="994" y="104"/>
                    <a:pt x="994" y="102"/>
                  </a:cubicBezTo>
                  <a:cubicBezTo>
                    <a:pt x="994" y="104"/>
                    <a:pt x="995" y="106"/>
                    <a:pt x="996" y="107"/>
                  </a:cubicBezTo>
                  <a:cubicBezTo>
                    <a:pt x="995" y="114"/>
                    <a:pt x="995" y="121"/>
                    <a:pt x="994" y="126"/>
                  </a:cubicBezTo>
                  <a:cubicBezTo>
                    <a:pt x="994" y="125"/>
                    <a:pt x="993" y="123"/>
                    <a:pt x="993" y="122"/>
                  </a:cubicBezTo>
                  <a:cubicBezTo>
                    <a:pt x="992" y="93"/>
                    <a:pt x="988" y="46"/>
                    <a:pt x="988" y="46"/>
                  </a:cubicBezTo>
                  <a:cubicBezTo>
                    <a:pt x="988" y="65"/>
                    <a:pt x="981" y="142"/>
                    <a:pt x="981" y="142"/>
                  </a:cubicBezTo>
                  <a:cubicBezTo>
                    <a:pt x="975" y="106"/>
                    <a:pt x="982" y="0"/>
                    <a:pt x="982" y="0"/>
                  </a:cubicBezTo>
                  <a:cubicBezTo>
                    <a:pt x="976" y="16"/>
                    <a:pt x="970" y="131"/>
                    <a:pt x="970" y="131"/>
                  </a:cubicBezTo>
                  <a:cubicBezTo>
                    <a:pt x="968" y="36"/>
                    <a:pt x="964" y="32"/>
                    <a:pt x="964" y="32"/>
                  </a:cubicBezTo>
                  <a:cubicBezTo>
                    <a:pt x="966" y="43"/>
                    <a:pt x="963" y="76"/>
                    <a:pt x="960" y="103"/>
                  </a:cubicBezTo>
                  <a:cubicBezTo>
                    <a:pt x="959" y="102"/>
                    <a:pt x="958" y="100"/>
                    <a:pt x="957" y="99"/>
                  </a:cubicBezTo>
                  <a:cubicBezTo>
                    <a:pt x="958" y="101"/>
                    <a:pt x="959" y="103"/>
                    <a:pt x="960" y="104"/>
                  </a:cubicBezTo>
                  <a:cubicBezTo>
                    <a:pt x="959" y="112"/>
                    <a:pt x="958" y="120"/>
                    <a:pt x="957" y="126"/>
                  </a:cubicBezTo>
                  <a:cubicBezTo>
                    <a:pt x="957" y="124"/>
                    <a:pt x="957" y="123"/>
                    <a:pt x="957" y="122"/>
                  </a:cubicBezTo>
                  <a:cubicBezTo>
                    <a:pt x="958" y="94"/>
                    <a:pt x="956" y="48"/>
                    <a:pt x="956" y="48"/>
                  </a:cubicBezTo>
                  <a:cubicBezTo>
                    <a:pt x="955" y="55"/>
                    <a:pt x="952" y="82"/>
                    <a:pt x="949" y="106"/>
                  </a:cubicBezTo>
                  <a:cubicBezTo>
                    <a:pt x="948" y="104"/>
                    <a:pt x="948" y="102"/>
                    <a:pt x="947" y="100"/>
                  </a:cubicBezTo>
                  <a:cubicBezTo>
                    <a:pt x="950" y="60"/>
                    <a:pt x="954" y="9"/>
                    <a:pt x="954" y="9"/>
                  </a:cubicBezTo>
                  <a:cubicBezTo>
                    <a:pt x="949" y="23"/>
                    <a:pt x="942" y="83"/>
                    <a:pt x="939" y="117"/>
                  </a:cubicBezTo>
                  <a:cubicBezTo>
                    <a:pt x="938" y="114"/>
                    <a:pt x="937" y="111"/>
                    <a:pt x="937" y="108"/>
                  </a:cubicBezTo>
                  <a:cubicBezTo>
                    <a:pt x="936" y="90"/>
                    <a:pt x="934" y="72"/>
                    <a:pt x="934" y="72"/>
                  </a:cubicBezTo>
                  <a:cubicBezTo>
                    <a:pt x="935" y="76"/>
                    <a:pt x="934" y="84"/>
                    <a:pt x="933" y="94"/>
                  </a:cubicBezTo>
                  <a:cubicBezTo>
                    <a:pt x="932" y="91"/>
                    <a:pt x="930" y="88"/>
                    <a:pt x="929" y="84"/>
                  </a:cubicBezTo>
                  <a:cubicBezTo>
                    <a:pt x="931" y="88"/>
                    <a:pt x="932" y="92"/>
                    <a:pt x="933" y="96"/>
                  </a:cubicBezTo>
                  <a:cubicBezTo>
                    <a:pt x="932" y="99"/>
                    <a:pt x="932" y="103"/>
                    <a:pt x="931" y="107"/>
                  </a:cubicBezTo>
                  <a:cubicBezTo>
                    <a:pt x="931" y="106"/>
                    <a:pt x="931" y="106"/>
                    <a:pt x="931" y="105"/>
                  </a:cubicBezTo>
                  <a:cubicBezTo>
                    <a:pt x="930" y="107"/>
                    <a:pt x="930" y="112"/>
                    <a:pt x="930" y="116"/>
                  </a:cubicBezTo>
                  <a:cubicBezTo>
                    <a:pt x="929" y="121"/>
                    <a:pt x="929" y="126"/>
                    <a:pt x="928" y="130"/>
                  </a:cubicBezTo>
                  <a:cubicBezTo>
                    <a:pt x="928" y="129"/>
                    <a:pt x="928" y="128"/>
                    <a:pt x="928" y="127"/>
                  </a:cubicBezTo>
                  <a:cubicBezTo>
                    <a:pt x="928" y="101"/>
                    <a:pt x="923" y="63"/>
                    <a:pt x="922" y="54"/>
                  </a:cubicBezTo>
                  <a:cubicBezTo>
                    <a:pt x="923" y="61"/>
                    <a:pt x="921" y="79"/>
                    <a:pt x="920" y="96"/>
                  </a:cubicBezTo>
                  <a:cubicBezTo>
                    <a:pt x="919" y="94"/>
                    <a:pt x="918" y="92"/>
                    <a:pt x="918" y="90"/>
                  </a:cubicBezTo>
                  <a:cubicBezTo>
                    <a:pt x="918" y="92"/>
                    <a:pt x="919" y="95"/>
                    <a:pt x="920" y="97"/>
                  </a:cubicBezTo>
                  <a:cubicBezTo>
                    <a:pt x="918" y="118"/>
                    <a:pt x="916" y="137"/>
                    <a:pt x="916" y="137"/>
                  </a:cubicBezTo>
                  <a:cubicBezTo>
                    <a:pt x="916" y="136"/>
                    <a:pt x="916" y="134"/>
                    <a:pt x="915" y="133"/>
                  </a:cubicBezTo>
                  <a:cubicBezTo>
                    <a:pt x="915" y="125"/>
                    <a:pt x="915" y="118"/>
                    <a:pt x="915" y="110"/>
                  </a:cubicBezTo>
                  <a:cubicBezTo>
                    <a:pt x="913" y="76"/>
                    <a:pt x="913" y="40"/>
                    <a:pt x="913" y="40"/>
                  </a:cubicBezTo>
                  <a:cubicBezTo>
                    <a:pt x="912" y="49"/>
                    <a:pt x="908" y="79"/>
                    <a:pt x="903" y="104"/>
                  </a:cubicBezTo>
                  <a:cubicBezTo>
                    <a:pt x="903" y="99"/>
                    <a:pt x="902" y="95"/>
                    <a:pt x="902" y="90"/>
                  </a:cubicBezTo>
                  <a:cubicBezTo>
                    <a:pt x="903" y="67"/>
                    <a:pt x="903" y="45"/>
                    <a:pt x="903" y="45"/>
                  </a:cubicBezTo>
                  <a:cubicBezTo>
                    <a:pt x="903" y="53"/>
                    <a:pt x="897" y="75"/>
                    <a:pt x="891" y="96"/>
                  </a:cubicBezTo>
                  <a:cubicBezTo>
                    <a:pt x="889" y="93"/>
                    <a:pt x="888" y="89"/>
                    <a:pt x="886" y="85"/>
                  </a:cubicBezTo>
                  <a:cubicBezTo>
                    <a:pt x="893" y="51"/>
                    <a:pt x="901" y="17"/>
                    <a:pt x="901" y="17"/>
                  </a:cubicBezTo>
                  <a:cubicBezTo>
                    <a:pt x="896" y="24"/>
                    <a:pt x="881" y="95"/>
                    <a:pt x="874" y="130"/>
                  </a:cubicBezTo>
                  <a:cubicBezTo>
                    <a:pt x="874" y="130"/>
                    <a:pt x="874" y="130"/>
                    <a:pt x="874" y="130"/>
                  </a:cubicBezTo>
                  <a:cubicBezTo>
                    <a:pt x="878" y="100"/>
                    <a:pt x="875" y="63"/>
                    <a:pt x="874" y="52"/>
                  </a:cubicBezTo>
                  <a:cubicBezTo>
                    <a:pt x="876" y="72"/>
                    <a:pt x="870" y="109"/>
                    <a:pt x="866" y="128"/>
                  </a:cubicBezTo>
                  <a:cubicBezTo>
                    <a:pt x="866" y="126"/>
                    <a:pt x="866" y="123"/>
                    <a:pt x="865" y="120"/>
                  </a:cubicBezTo>
                  <a:cubicBezTo>
                    <a:pt x="867" y="99"/>
                    <a:pt x="869" y="71"/>
                    <a:pt x="870" y="65"/>
                  </a:cubicBezTo>
                  <a:cubicBezTo>
                    <a:pt x="869" y="71"/>
                    <a:pt x="866" y="89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62" y="105"/>
                    <a:pt x="862" y="105"/>
                    <a:pt x="862" y="105"/>
                  </a:cubicBezTo>
                  <a:cubicBezTo>
                    <a:pt x="859" y="125"/>
                    <a:pt x="855" y="143"/>
                    <a:pt x="855" y="143"/>
                  </a:cubicBezTo>
                  <a:cubicBezTo>
                    <a:pt x="865" y="38"/>
                    <a:pt x="858" y="25"/>
                    <a:pt x="858" y="25"/>
                  </a:cubicBezTo>
                  <a:cubicBezTo>
                    <a:pt x="861" y="42"/>
                    <a:pt x="858" y="72"/>
                    <a:pt x="853" y="96"/>
                  </a:cubicBezTo>
                  <a:cubicBezTo>
                    <a:pt x="852" y="89"/>
                    <a:pt x="850" y="80"/>
                    <a:pt x="847" y="73"/>
                  </a:cubicBezTo>
                  <a:cubicBezTo>
                    <a:pt x="846" y="65"/>
                    <a:pt x="846" y="60"/>
                    <a:pt x="846" y="60"/>
                  </a:cubicBezTo>
                  <a:cubicBezTo>
                    <a:pt x="846" y="63"/>
                    <a:pt x="846" y="67"/>
                    <a:pt x="846" y="71"/>
                  </a:cubicBezTo>
                  <a:cubicBezTo>
                    <a:pt x="844" y="69"/>
                    <a:pt x="843" y="67"/>
                    <a:pt x="842" y="65"/>
                  </a:cubicBezTo>
                  <a:cubicBezTo>
                    <a:pt x="843" y="67"/>
                    <a:pt x="844" y="70"/>
                    <a:pt x="845" y="73"/>
                  </a:cubicBezTo>
                  <a:cubicBezTo>
                    <a:pt x="845" y="82"/>
                    <a:pt x="844" y="92"/>
                    <a:pt x="843" y="101"/>
                  </a:cubicBezTo>
                  <a:cubicBezTo>
                    <a:pt x="842" y="95"/>
                    <a:pt x="839" y="88"/>
                    <a:pt x="834" y="83"/>
                  </a:cubicBezTo>
                  <a:cubicBezTo>
                    <a:pt x="834" y="74"/>
                    <a:pt x="835" y="68"/>
                    <a:pt x="835" y="68"/>
                  </a:cubicBezTo>
                  <a:cubicBezTo>
                    <a:pt x="834" y="72"/>
                    <a:pt x="833" y="76"/>
                    <a:pt x="832" y="81"/>
                  </a:cubicBezTo>
                  <a:cubicBezTo>
                    <a:pt x="832" y="81"/>
                    <a:pt x="831" y="81"/>
                    <a:pt x="831" y="80"/>
                  </a:cubicBezTo>
                  <a:cubicBezTo>
                    <a:pt x="831" y="81"/>
                    <a:pt x="832" y="81"/>
                    <a:pt x="832" y="82"/>
                  </a:cubicBezTo>
                  <a:cubicBezTo>
                    <a:pt x="830" y="101"/>
                    <a:pt x="828" y="130"/>
                    <a:pt x="828" y="142"/>
                  </a:cubicBezTo>
                  <a:cubicBezTo>
                    <a:pt x="828" y="143"/>
                    <a:pt x="827" y="144"/>
                    <a:pt x="827" y="144"/>
                  </a:cubicBezTo>
                  <a:cubicBezTo>
                    <a:pt x="827" y="140"/>
                    <a:pt x="826" y="136"/>
                    <a:pt x="826" y="131"/>
                  </a:cubicBezTo>
                  <a:cubicBezTo>
                    <a:pt x="828" y="121"/>
                    <a:pt x="829" y="112"/>
                    <a:pt x="830" y="103"/>
                  </a:cubicBezTo>
                  <a:cubicBezTo>
                    <a:pt x="829" y="108"/>
                    <a:pt x="828" y="112"/>
                    <a:pt x="827" y="117"/>
                  </a:cubicBezTo>
                  <a:cubicBezTo>
                    <a:pt x="828" y="85"/>
                    <a:pt x="834" y="45"/>
                    <a:pt x="834" y="45"/>
                  </a:cubicBezTo>
                  <a:cubicBezTo>
                    <a:pt x="827" y="60"/>
                    <a:pt x="823" y="95"/>
                    <a:pt x="820" y="120"/>
                  </a:cubicBezTo>
                  <a:cubicBezTo>
                    <a:pt x="820" y="123"/>
                    <a:pt x="819" y="125"/>
                    <a:pt x="818" y="127"/>
                  </a:cubicBezTo>
                  <a:cubicBezTo>
                    <a:pt x="818" y="103"/>
                    <a:pt x="818" y="70"/>
                    <a:pt x="818" y="70"/>
                  </a:cubicBezTo>
                  <a:cubicBezTo>
                    <a:pt x="817" y="72"/>
                    <a:pt x="817" y="76"/>
                    <a:pt x="816" y="81"/>
                  </a:cubicBezTo>
                  <a:cubicBezTo>
                    <a:pt x="815" y="73"/>
                    <a:pt x="813" y="66"/>
                    <a:pt x="810" y="60"/>
                  </a:cubicBezTo>
                  <a:cubicBezTo>
                    <a:pt x="811" y="52"/>
                    <a:pt x="812" y="46"/>
                    <a:pt x="812" y="46"/>
                  </a:cubicBezTo>
                  <a:cubicBezTo>
                    <a:pt x="809" y="51"/>
                    <a:pt x="807" y="64"/>
                    <a:pt x="806" y="79"/>
                  </a:cubicBezTo>
                  <a:cubicBezTo>
                    <a:pt x="805" y="77"/>
                    <a:pt x="805" y="75"/>
                    <a:pt x="805" y="74"/>
                  </a:cubicBezTo>
                  <a:cubicBezTo>
                    <a:pt x="803" y="83"/>
                    <a:pt x="803" y="92"/>
                    <a:pt x="803" y="102"/>
                  </a:cubicBezTo>
                  <a:cubicBezTo>
                    <a:pt x="803" y="108"/>
                    <a:pt x="802" y="115"/>
                    <a:pt x="802" y="121"/>
                  </a:cubicBezTo>
                  <a:cubicBezTo>
                    <a:pt x="801" y="123"/>
                    <a:pt x="801" y="125"/>
                    <a:pt x="800" y="127"/>
                  </a:cubicBezTo>
                  <a:cubicBezTo>
                    <a:pt x="801" y="35"/>
                    <a:pt x="798" y="34"/>
                    <a:pt x="798" y="34"/>
                  </a:cubicBezTo>
                  <a:cubicBezTo>
                    <a:pt x="800" y="49"/>
                    <a:pt x="796" y="77"/>
                    <a:pt x="792" y="102"/>
                  </a:cubicBezTo>
                  <a:cubicBezTo>
                    <a:pt x="791" y="94"/>
                    <a:pt x="790" y="85"/>
                    <a:pt x="785" y="76"/>
                  </a:cubicBezTo>
                  <a:cubicBezTo>
                    <a:pt x="786" y="70"/>
                    <a:pt x="786" y="66"/>
                    <a:pt x="786" y="66"/>
                  </a:cubicBezTo>
                  <a:cubicBezTo>
                    <a:pt x="786" y="68"/>
                    <a:pt x="785" y="71"/>
                    <a:pt x="784" y="74"/>
                  </a:cubicBezTo>
                  <a:cubicBezTo>
                    <a:pt x="784" y="73"/>
                    <a:pt x="783" y="72"/>
                    <a:pt x="783" y="71"/>
                  </a:cubicBezTo>
                  <a:cubicBezTo>
                    <a:pt x="783" y="73"/>
                    <a:pt x="784" y="74"/>
                    <a:pt x="784" y="76"/>
                  </a:cubicBezTo>
                  <a:cubicBezTo>
                    <a:pt x="782" y="83"/>
                    <a:pt x="780" y="93"/>
                    <a:pt x="779" y="103"/>
                  </a:cubicBezTo>
                  <a:cubicBezTo>
                    <a:pt x="778" y="98"/>
                    <a:pt x="778" y="94"/>
                    <a:pt x="776" y="89"/>
                  </a:cubicBezTo>
                  <a:cubicBezTo>
                    <a:pt x="777" y="96"/>
                    <a:pt x="776" y="104"/>
                    <a:pt x="773" y="112"/>
                  </a:cubicBezTo>
                  <a:cubicBezTo>
                    <a:pt x="773" y="92"/>
                    <a:pt x="772" y="70"/>
                    <a:pt x="771" y="62"/>
                  </a:cubicBezTo>
                  <a:cubicBezTo>
                    <a:pt x="772" y="67"/>
                    <a:pt x="771" y="74"/>
                    <a:pt x="771" y="82"/>
                  </a:cubicBezTo>
                  <a:cubicBezTo>
                    <a:pt x="769" y="87"/>
                    <a:pt x="767" y="94"/>
                    <a:pt x="764" y="101"/>
                  </a:cubicBezTo>
                  <a:cubicBezTo>
                    <a:pt x="764" y="91"/>
                    <a:pt x="764" y="82"/>
                    <a:pt x="764" y="75"/>
                  </a:cubicBezTo>
                  <a:cubicBezTo>
                    <a:pt x="763" y="86"/>
                    <a:pt x="761" y="102"/>
                    <a:pt x="759" y="116"/>
                  </a:cubicBezTo>
                  <a:cubicBezTo>
                    <a:pt x="757" y="123"/>
                    <a:pt x="755" y="130"/>
                    <a:pt x="753" y="136"/>
                  </a:cubicBezTo>
                  <a:cubicBezTo>
                    <a:pt x="753" y="118"/>
                    <a:pt x="756" y="89"/>
                    <a:pt x="756" y="89"/>
                  </a:cubicBezTo>
                  <a:cubicBezTo>
                    <a:pt x="755" y="93"/>
                    <a:pt x="754" y="99"/>
                    <a:pt x="751" y="106"/>
                  </a:cubicBezTo>
                  <a:cubicBezTo>
                    <a:pt x="751" y="104"/>
                    <a:pt x="751" y="101"/>
                    <a:pt x="750" y="99"/>
                  </a:cubicBezTo>
                  <a:cubicBezTo>
                    <a:pt x="750" y="96"/>
                    <a:pt x="750" y="96"/>
                    <a:pt x="750" y="96"/>
                  </a:cubicBezTo>
                  <a:cubicBezTo>
                    <a:pt x="749" y="95"/>
                    <a:pt x="749" y="95"/>
                    <a:pt x="749" y="95"/>
                  </a:cubicBezTo>
                  <a:cubicBezTo>
                    <a:pt x="749" y="104"/>
                    <a:pt x="747" y="113"/>
                    <a:pt x="745" y="122"/>
                  </a:cubicBezTo>
                  <a:cubicBezTo>
                    <a:pt x="744" y="127"/>
                    <a:pt x="742" y="131"/>
                    <a:pt x="741" y="134"/>
                  </a:cubicBezTo>
                  <a:cubicBezTo>
                    <a:pt x="741" y="130"/>
                    <a:pt x="740" y="126"/>
                    <a:pt x="740" y="122"/>
                  </a:cubicBezTo>
                  <a:cubicBezTo>
                    <a:pt x="744" y="102"/>
                    <a:pt x="751" y="76"/>
                    <a:pt x="751" y="76"/>
                  </a:cubicBezTo>
                  <a:cubicBezTo>
                    <a:pt x="746" y="82"/>
                    <a:pt x="742" y="94"/>
                    <a:pt x="737" y="105"/>
                  </a:cubicBezTo>
                  <a:cubicBezTo>
                    <a:pt x="737" y="102"/>
                    <a:pt x="736" y="98"/>
                    <a:pt x="734" y="95"/>
                  </a:cubicBezTo>
                  <a:cubicBezTo>
                    <a:pt x="735" y="74"/>
                    <a:pt x="732" y="62"/>
                    <a:pt x="732" y="62"/>
                  </a:cubicBezTo>
                  <a:cubicBezTo>
                    <a:pt x="733" y="69"/>
                    <a:pt x="733" y="78"/>
                    <a:pt x="732" y="88"/>
                  </a:cubicBezTo>
                  <a:cubicBezTo>
                    <a:pt x="729" y="83"/>
                    <a:pt x="726" y="78"/>
                    <a:pt x="722" y="73"/>
                  </a:cubicBezTo>
                  <a:cubicBezTo>
                    <a:pt x="727" y="80"/>
                    <a:pt x="729" y="92"/>
                    <a:pt x="730" y="102"/>
                  </a:cubicBezTo>
                  <a:cubicBezTo>
                    <a:pt x="729" y="108"/>
                    <a:pt x="728" y="115"/>
                    <a:pt x="727" y="120"/>
                  </a:cubicBezTo>
                  <a:cubicBezTo>
                    <a:pt x="726" y="113"/>
                    <a:pt x="725" y="106"/>
                    <a:pt x="723" y="100"/>
                  </a:cubicBezTo>
                  <a:cubicBezTo>
                    <a:pt x="724" y="89"/>
                    <a:pt x="725" y="82"/>
                    <a:pt x="725" y="82"/>
                  </a:cubicBezTo>
                  <a:cubicBezTo>
                    <a:pt x="723" y="98"/>
                    <a:pt x="723" y="98"/>
                    <a:pt x="723" y="98"/>
                  </a:cubicBezTo>
                  <a:cubicBezTo>
                    <a:pt x="722" y="94"/>
                    <a:pt x="721" y="91"/>
                    <a:pt x="719" y="88"/>
                  </a:cubicBezTo>
                  <a:cubicBezTo>
                    <a:pt x="719" y="73"/>
                    <a:pt x="719" y="60"/>
                    <a:pt x="719" y="60"/>
                  </a:cubicBezTo>
                  <a:cubicBezTo>
                    <a:pt x="719" y="72"/>
                    <a:pt x="716" y="90"/>
                    <a:pt x="716" y="90"/>
                  </a:cubicBezTo>
                  <a:cubicBezTo>
                    <a:pt x="714" y="84"/>
                    <a:pt x="714" y="64"/>
                    <a:pt x="714" y="64"/>
                  </a:cubicBezTo>
                  <a:cubicBezTo>
                    <a:pt x="714" y="68"/>
                    <a:pt x="712" y="83"/>
                    <a:pt x="710" y="98"/>
                  </a:cubicBezTo>
                  <a:cubicBezTo>
                    <a:pt x="710" y="96"/>
                    <a:pt x="710" y="95"/>
                    <a:pt x="709" y="93"/>
                  </a:cubicBezTo>
                  <a:cubicBezTo>
                    <a:pt x="708" y="88"/>
                    <a:pt x="706" y="82"/>
                    <a:pt x="705" y="76"/>
                  </a:cubicBezTo>
                  <a:cubicBezTo>
                    <a:pt x="705" y="57"/>
                    <a:pt x="704" y="42"/>
                    <a:pt x="704" y="42"/>
                  </a:cubicBezTo>
                  <a:cubicBezTo>
                    <a:pt x="705" y="49"/>
                    <a:pt x="704" y="59"/>
                    <a:pt x="703" y="70"/>
                  </a:cubicBezTo>
                  <a:cubicBezTo>
                    <a:pt x="701" y="64"/>
                    <a:pt x="698" y="57"/>
                    <a:pt x="695" y="51"/>
                  </a:cubicBezTo>
                  <a:cubicBezTo>
                    <a:pt x="695" y="52"/>
                    <a:pt x="694" y="54"/>
                    <a:pt x="694" y="55"/>
                  </a:cubicBezTo>
                  <a:cubicBezTo>
                    <a:pt x="698" y="65"/>
                    <a:pt x="700" y="74"/>
                    <a:pt x="702" y="82"/>
                  </a:cubicBezTo>
                  <a:cubicBezTo>
                    <a:pt x="701" y="88"/>
                    <a:pt x="700" y="94"/>
                    <a:pt x="699" y="100"/>
                  </a:cubicBezTo>
                  <a:cubicBezTo>
                    <a:pt x="698" y="96"/>
                    <a:pt x="697" y="92"/>
                    <a:pt x="696" y="88"/>
                  </a:cubicBezTo>
                  <a:cubicBezTo>
                    <a:pt x="697" y="78"/>
                    <a:pt x="698" y="70"/>
                    <a:pt x="698" y="70"/>
                  </a:cubicBezTo>
                  <a:cubicBezTo>
                    <a:pt x="697" y="72"/>
                    <a:pt x="696" y="78"/>
                    <a:pt x="695" y="85"/>
                  </a:cubicBezTo>
                  <a:cubicBezTo>
                    <a:pt x="693" y="82"/>
                    <a:pt x="691" y="79"/>
                    <a:pt x="689" y="76"/>
                  </a:cubicBezTo>
                  <a:cubicBezTo>
                    <a:pt x="688" y="71"/>
                    <a:pt x="688" y="66"/>
                    <a:pt x="688" y="61"/>
                  </a:cubicBezTo>
                  <a:cubicBezTo>
                    <a:pt x="688" y="73"/>
                    <a:pt x="685" y="88"/>
                    <a:pt x="683" y="101"/>
                  </a:cubicBezTo>
                  <a:cubicBezTo>
                    <a:pt x="681" y="95"/>
                    <a:pt x="679" y="90"/>
                    <a:pt x="677" y="86"/>
                  </a:cubicBezTo>
                  <a:cubicBezTo>
                    <a:pt x="678" y="73"/>
                    <a:pt x="678" y="64"/>
                    <a:pt x="678" y="64"/>
                  </a:cubicBezTo>
                  <a:cubicBezTo>
                    <a:pt x="678" y="71"/>
                    <a:pt x="676" y="82"/>
                    <a:pt x="674" y="95"/>
                  </a:cubicBezTo>
                  <a:cubicBezTo>
                    <a:pt x="672" y="87"/>
                    <a:pt x="670" y="79"/>
                    <a:pt x="666" y="71"/>
                  </a:cubicBezTo>
                  <a:cubicBezTo>
                    <a:pt x="668" y="49"/>
                    <a:pt x="669" y="30"/>
                    <a:pt x="669" y="30"/>
                  </a:cubicBezTo>
                  <a:cubicBezTo>
                    <a:pt x="667" y="35"/>
                    <a:pt x="665" y="49"/>
                    <a:pt x="663" y="65"/>
                  </a:cubicBezTo>
                  <a:cubicBezTo>
                    <a:pt x="662" y="62"/>
                    <a:pt x="660" y="59"/>
                    <a:pt x="658" y="56"/>
                  </a:cubicBezTo>
                  <a:cubicBezTo>
                    <a:pt x="658" y="63"/>
                    <a:pt x="660" y="70"/>
                    <a:pt x="662" y="78"/>
                  </a:cubicBezTo>
                  <a:cubicBezTo>
                    <a:pt x="661" y="87"/>
                    <a:pt x="660" y="97"/>
                    <a:pt x="659" y="106"/>
                  </a:cubicBezTo>
                  <a:cubicBezTo>
                    <a:pt x="659" y="105"/>
                    <a:pt x="659" y="104"/>
                    <a:pt x="658" y="103"/>
                  </a:cubicBezTo>
                  <a:cubicBezTo>
                    <a:pt x="659" y="104"/>
                    <a:pt x="659" y="106"/>
                    <a:pt x="659" y="109"/>
                  </a:cubicBezTo>
                  <a:cubicBezTo>
                    <a:pt x="658" y="120"/>
                    <a:pt x="657" y="131"/>
                    <a:pt x="657" y="138"/>
                  </a:cubicBezTo>
                  <a:cubicBezTo>
                    <a:pt x="657" y="137"/>
                    <a:pt x="656" y="135"/>
                    <a:pt x="656" y="134"/>
                  </a:cubicBezTo>
                  <a:cubicBezTo>
                    <a:pt x="655" y="99"/>
                    <a:pt x="650" y="41"/>
                    <a:pt x="650" y="41"/>
                  </a:cubicBezTo>
                  <a:cubicBezTo>
                    <a:pt x="652" y="58"/>
                    <a:pt x="650" y="86"/>
                    <a:pt x="648" y="108"/>
                  </a:cubicBezTo>
                  <a:cubicBezTo>
                    <a:pt x="647" y="105"/>
                    <a:pt x="645" y="102"/>
                    <a:pt x="644" y="99"/>
                  </a:cubicBezTo>
                  <a:cubicBezTo>
                    <a:pt x="644" y="86"/>
                    <a:pt x="644" y="73"/>
                    <a:pt x="644" y="67"/>
                  </a:cubicBezTo>
                  <a:cubicBezTo>
                    <a:pt x="643" y="75"/>
                    <a:pt x="642" y="85"/>
                    <a:pt x="641" y="94"/>
                  </a:cubicBezTo>
                  <a:cubicBezTo>
                    <a:pt x="640" y="92"/>
                    <a:pt x="639" y="91"/>
                    <a:pt x="638" y="89"/>
                  </a:cubicBezTo>
                  <a:cubicBezTo>
                    <a:pt x="639" y="91"/>
                    <a:pt x="640" y="94"/>
                    <a:pt x="640" y="97"/>
                  </a:cubicBezTo>
                  <a:cubicBezTo>
                    <a:pt x="639" y="104"/>
                    <a:pt x="638" y="110"/>
                    <a:pt x="636" y="116"/>
                  </a:cubicBezTo>
                  <a:cubicBezTo>
                    <a:pt x="635" y="110"/>
                    <a:pt x="634" y="105"/>
                    <a:pt x="632" y="101"/>
                  </a:cubicBezTo>
                  <a:cubicBezTo>
                    <a:pt x="633" y="91"/>
                    <a:pt x="634" y="83"/>
                    <a:pt x="634" y="83"/>
                  </a:cubicBezTo>
                  <a:cubicBezTo>
                    <a:pt x="634" y="86"/>
                    <a:pt x="633" y="92"/>
                    <a:pt x="631" y="98"/>
                  </a:cubicBezTo>
                  <a:cubicBezTo>
                    <a:pt x="630" y="94"/>
                    <a:pt x="629" y="91"/>
                    <a:pt x="628" y="89"/>
                  </a:cubicBezTo>
                  <a:cubicBezTo>
                    <a:pt x="629" y="74"/>
                    <a:pt x="631" y="62"/>
                    <a:pt x="631" y="62"/>
                  </a:cubicBezTo>
                  <a:cubicBezTo>
                    <a:pt x="629" y="65"/>
                    <a:pt x="628" y="75"/>
                    <a:pt x="626" y="87"/>
                  </a:cubicBezTo>
                  <a:cubicBezTo>
                    <a:pt x="624" y="83"/>
                    <a:pt x="622" y="81"/>
                    <a:pt x="619" y="78"/>
                  </a:cubicBezTo>
                  <a:cubicBezTo>
                    <a:pt x="622" y="81"/>
                    <a:pt x="624" y="84"/>
                    <a:pt x="626" y="89"/>
                  </a:cubicBezTo>
                  <a:cubicBezTo>
                    <a:pt x="625" y="96"/>
                    <a:pt x="624" y="105"/>
                    <a:pt x="623" y="113"/>
                  </a:cubicBezTo>
                  <a:cubicBezTo>
                    <a:pt x="622" y="108"/>
                    <a:pt x="621" y="104"/>
                    <a:pt x="619" y="100"/>
                  </a:cubicBezTo>
                  <a:cubicBezTo>
                    <a:pt x="618" y="86"/>
                    <a:pt x="616" y="73"/>
                    <a:pt x="615" y="68"/>
                  </a:cubicBezTo>
                  <a:cubicBezTo>
                    <a:pt x="615" y="71"/>
                    <a:pt x="616" y="76"/>
                    <a:pt x="615" y="86"/>
                  </a:cubicBezTo>
                  <a:cubicBezTo>
                    <a:pt x="615" y="87"/>
                    <a:pt x="615" y="88"/>
                    <a:pt x="615" y="90"/>
                  </a:cubicBezTo>
                  <a:cubicBezTo>
                    <a:pt x="614" y="87"/>
                    <a:pt x="612" y="84"/>
                    <a:pt x="610" y="81"/>
                  </a:cubicBezTo>
                  <a:cubicBezTo>
                    <a:pt x="613" y="85"/>
                    <a:pt x="614" y="91"/>
                    <a:pt x="614" y="96"/>
                  </a:cubicBezTo>
                  <a:cubicBezTo>
                    <a:pt x="613" y="105"/>
                    <a:pt x="611" y="115"/>
                    <a:pt x="609" y="124"/>
                  </a:cubicBezTo>
                  <a:cubicBezTo>
                    <a:pt x="609" y="113"/>
                    <a:pt x="608" y="102"/>
                    <a:pt x="606" y="91"/>
                  </a:cubicBezTo>
                  <a:cubicBezTo>
                    <a:pt x="606" y="77"/>
                    <a:pt x="606" y="77"/>
                    <a:pt x="606" y="77"/>
                  </a:cubicBezTo>
                  <a:cubicBezTo>
                    <a:pt x="609" y="35"/>
                    <a:pt x="602" y="19"/>
                    <a:pt x="602" y="19"/>
                  </a:cubicBezTo>
                  <a:cubicBezTo>
                    <a:pt x="602" y="19"/>
                    <a:pt x="605" y="31"/>
                    <a:pt x="604" y="54"/>
                  </a:cubicBezTo>
                  <a:cubicBezTo>
                    <a:pt x="604" y="59"/>
                    <a:pt x="603" y="68"/>
                    <a:pt x="602" y="78"/>
                  </a:cubicBezTo>
                  <a:cubicBezTo>
                    <a:pt x="599" y="72"/>
                    <a:pt x="596" y="66"/>
                    <a:pt x="592" y="60"/>
                  </a:cubicBezTo>
                  <a:cubicBezTo>
                    <a:pt x="592" y="61"/>
                    <a:pt x="592" y="61"/>
                    <a:pt x="592" y="61"/>
                  </a:cubicBezTo>
                  <a:cubicBezTo>
                    <a:pt x="592" y="62"/>
                    <a:pt x="592" y="63"/>
                    <a:pt x="592" y="64"/>
                  </a:cubicBezTo>
                  <a:cubicBezTo>
                    <a:pt x="591" y="44"/>
                    <a:pt x="583" y="40"/>
                    <a:pt x="583" y="40"/>
                  </a:cubicBezTo>
                  <a:cubicBezTo>
                    <a:pt x="583" y="40"/>
                    <a:pt x="589" y="44"/>
                    <a:pt x="589" y="70"/>
                  </a:cubicBezTo>
                  <a:cubicBezTo>
                    <a:pt x="589" y="76"/>
                    <a:pt x="588" y="85"/>
                    <a:pt x="586" y="94"/>
                  </a:cubicBezTo>
                  <a:cubicBezTo>
                    <a:pt x="584" y="90"/>
                    <a:pt x="581" y="86"/>
                    <a:pt x="578" y="83"/>
                  </a:cubicBezTo>
                  <a:cubicBezTo>
                    <a:pt x="581" y="87"/>
                    <a:pt x="584" y="92"/>
                    <a:pt x="586" y="97"/>
                  </a:cubicBezTo>
                  <a:cubicBezTo>
                    <a:pt x="585" y="100"/>
                    <a:pt x="585" y="103"/>
                    <a:pt x="584" y="106"/>
                  </a:cubicBezTo>
                  <a:cubicBezTo>
                    <a:pt x="584" y="104"/>
                    <a:pt x="583" y="102"/>
                    <a:pt x="583" y="100"/>
                  </a:cubicBezTo>
                  <a:cubicBezTo>
                    <a:pt x="583" y="102"/>
                    <a:pt x="583" y="105"/>
                    <a:pt x="584" y="108"/>
                  </a:cubicBezTo>
                  <a:cubicBezTo>
                    <a:pt x="583" y="111"/>
                    <a:pt x="582" y="114"/>
                    <a:pt x="581" y="117"/>
                  </a:cubicBezTo>
                  <a:cubicBezTo>
                    <a:pt x="580" y="113"/>
                    <a:pt x="579" y="108"/>
                    <a:pt x="577" y="104"/>
                  </a:cubicBezTo>
                  <a:cubicBezTo>
                    <a:pt x="577" y="87"/>
                    <a:pt x="578" y="71"/>
                    <a:pt x="578" y="71"/>
                  </a:cubicBezTo>
                  <a:cubicBezTo>
                    <a:pt x="578" y="73"/>
                    <a:pt x="576" y="84"/>
                    <a:pt x="573" y="97"/>
                  </a:cubicBezTo>
                  <a:cubicBezTo>
                    <a:pt x="572" y="95"/>
                    <a:pt x="571" y="93"/>
                    <a:pt x="570" y="92"/>
                  </a:cubicBezTo>
                  <a:cubicBezTo>
                    <a:pt x="571" y="81"/>
                    <a:pt x="572" y="72"/>
                    <a:pt x="573" y="66"/>
                  </a:cubicBezTo>
                  <a:cubicBezTo>
                    <a:pt x="572" y="73"/>
                    <a:pt x="571" y="81"/>
                    <a:pt x="569" y="90"/>
                  </a:cubicBezTo>
                  <a:cubicBezTo>
                    <a:pt x="568" y="88"/>
                    <a:pt x="566" y="86"/>
                    <a:pt x="565" y="83"/>
                  </a:cubicBezTo>
                  <a:cubicBezTo>
                    <a:pt x="568" y="26"/>
                    <a:pt x="566" y="12"/>
                    <a:pt x="566" y="12"/>
                  </a:cubicBezTo>
                  <a:cubicBezTo>
                    <a:pt x="566" y="12"/>
                    <a:pt x="566" y="18"/>
                    <a:pt x="563" y="56"/>
                  </a:cubicBezTo>
                  <a:cubicBezTo>
                    <a:pt x="562" y="64"/>
                    <a:pt x="561" y="71"/>
                    <a:pt x="560" y="78"/>
                  </a:cubicBezTo>
                  <a:cubicBezTo>
                    <a:pt x="558" y="76"/>
                    <a:pt x="556" y="73"/>
                    <a:pt x="553" y="71"/>
                  </a:cubicBezTo>
                  <a:cubicBezTo>
                    <a:pt x="554" y="48"/>
                    <a:pt x="555" y="31"/>
                    <a:pt x="555" y="31"/>
                  </a:cubicBezTo>
                  <a:cubicBezTo>
                    <a:pt x="553" y="37"/>
                    <a:pt x="551" y="52"/>
                    <a:pt x="550" y="68"/>
                  </a:cubicBezTo>
                  <a:cubicBezTo>
                    <a:pt x="548" y="66"/>
                    <a:pt x="546" y="65"/>
                    <a:pt x="544" y="63"/>
                  </a:cubicBezTo>
                  <a:cubicBezTo>
                    <a:pt x="547" y="65"/>
                    <a:pt x="548" y="67"/>
                    <a:pt x="550" y="69"/>
                  </a:cubicBezTo>
                  <a:cubicBezTo>
                    <a:pt x="549" y="82"/>
                    <a:pt x="549" y="96"/>
                    <a:pt x="548" y="109"/>
                  </a:cubicBezTo>
                  <a:cubicBezTo>
                    <a:pt x="547" y="104"/>
                    <a:pt x="545" y="99"/>
                    <a:pt x="544" y="96"/>
                  </a:cubicBezTo>
                  <a:cubicBezTo>
                    <a:pt x="545" y="104"/>
                    <a:pt x="546" y="112"/>
                    <a:pt x="548" y="120"/>
                  </a:cubicBezTo>
                  <a:cubicBezTo>
                    <a:pt x="548" y="123"/>
                    <a:pt x="548" y="126"/>
                    <a:pt x="548" y="128"/>
                  </a:cubicBezTo>
                  <a:cubicBezTo>
                    <a:pt x="547" y="125"/>
                    <a:pt x="545" y="122"/>
                    <a:pt x="544" y="118"/>
                  </a:cubicBezTo>
                  <a:cubicBezTo>
                    <a:pt x="539" y="80"/>
                    <a:pt x="532" y="28"/>
                    <a:pt x="532" y="28"/>
                  </a:cubicBezTo>
                  <a:cubicBezTo>
                    <a:pt x="532" y="39"/>
                    <a:pt x="530" y="72"/>
                    <a:pt x="528" y="100"/>
                  </a:cubicBezTo>
                  <a:cubicBezTo>
                    <a:pt x="528" y="98"/>
                    <a:pt x="527" y="97"/>
                    <a:pt x="526" y="96"/>
                  </a:cubicBezTo>
                  <a:cubicBezTo>
                    <a:pt x="527" y="97"/>
                    <a:pt x="528" y="99"/>
                    <a:pt x="528" y="100"/>
                  </a:cubicBezTo>
                  <a:cubicBezTo>
                    <a:pt x="528" y="110"/>
                    <a:pt x="527" y="120"/>
                    <a:pt x="526" y="128"/>
                  </a:cubicBezTo>
                  <a:cubicBezTo>
                    <a:pt x="526" y="128"/>
                    <a:pt x="526" y="127"/>
                    <a:pt x="526" y="127"/>
                  </a:cubicBezTo>
                  <a:cubicBezTo>
                    <a:pt x="526" y="109"/>
                    <a:pt x="524" y="87"/>
                    <a:pt x="523" y="71"/>
                  </a:cubicBezTo>
                  <a:cubicBezTo>
                    <a:pt x="524" y="68"/>
                    <a:pt x="525" y="66"/>
                    <a:pt x="526" y="64"/>
                  </a:cubicBezTo>
                  <a:cubicBezTo>
                    <a:pt x="525" y="65"/>
                    <a:pt x="524" y="67"/>
                    <a:pt x="523" y="69"/>
                  </a:cubicBezTo>
                  <a:cubicBezTo>
                    <a:pt x="522" y="61"/>
                    <a:pt x="521" y="55"/>
                    <a:pt x="521" y="53"/>
                  </a:cubicBezTo>
                  <a:cubicBezTo>
                    <a:pt x="521" y="52"/>
                    <a:pt x="522" y="52"/>
                    <a:pt x="522" y="51"/>
                  </a:cubicBezTo>
                  <a:cubicBezTo>
                    <a:pt x="522" y="51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21" y="52"/>
                    <a:pt x="521" y="52"/>
                    <a:pt x="521" y="52"/>
                  </a:cubicBezTo>
                  <a:cubicBezTo>
                    <a:pt x="519" y="54"/>
                    <a:pt x="517" y="56"/>
                    <a:pt x="516" y="57"/>
                  </a:cubicBezTo>
                  <a:cubicBezTo>
                    <a:pt x="516" y="54"/>
                    <a:pt x="516" y="52"/>
                    <a:pt x="517" y="50"/>
                  </a:cubicBezTo>
                  <a:cubicBezTo>
                    <a:pt x="520" y="46"/>
                    <a:pt x="523" y="42"/>
                    <a:pt x="527" y="38"/>
                  </a:cubicBezTo>
                  <a:cubicBezTo>
                    <a:pt x="523" y="41"/>
                    <a:pt x="520" y="44"/>
                    <a:pt x="517" y="47"/>
                  </a:cubicBezTo>
                  <a:cubicBezTo>
                    <a:pt x="517" y="43"/>
                    <a:pt x="518" y="40"/>
                    <a:pt x="518" y="40"/>
                  </a:cubicBezTo>
                  <a:cubicBezTo>
                    <a:pt x="517" y="43"/>
                    <a:pt x="516" y="46"/>
                    <a:pt x="515" y="50"/>
                  </a:cubicBezTo>
                  <a:cubicBezTo>
                    <a:pt x="507" y="58"/>
                    <a:pt x="502" y="66"/>
                    <a:pt x="498" y="75"/>
                  </a:cubicBezTo>
                  <a:cubicBezTo>
                    <a:pt x="498" y="70"/>
                    <a:pt x="497" y="66"/>
                    <a:pt x="497" y="63"/>
                  </a:cubicBezTo>
                  <a:cubicBezTo>
                    <a:pt x="500" y="57"/>
                    <a:pt x="503" y="50"/>
                    <a:pt x="507" y="42"/>
                  </a:cubicBezTo>
                  <a:cubicBezTo>
                    <a:pt x="498" y="52"/>
                    <a:pt x="492" y="61"/>
                    <a:pt x="488" y="71"/>
                  </a:cubicBezTo>
                  <a:cubicBezTo>
                    <a:pt x="487" y="70"/>
                    <a:pt x="487" y="70"/>
                    <a:pt x="486" y="69"/>
                  </a:cubicBezTo>
                  <a:cubicBezTo>
                    <a:pt x="486" y="68"/>
                    <a:pt x="486" y="67"/>
                    <a:pt x="486" y="65"/>
                  </a:cubicBezTo>
                  <a:cubicBezTo>
                    <a:pt x="492" y="53"/>
                    <a:pt x="500" y="41"/>
                    <a:pt x="511" y="25"/>
                  </a:cubicBezTo>
                  <a:cubicBezTo>
                    <a:pt x="500" y="40"/>
                    <a:pt x="492" y="51"/>
                    <a:pt x="485" y="63"/>
                  </a:cubicBezTo>
                  <a:cubicBezTo>
                    <a:pt x="483" y="45"/>
                    <a:pt x="482" y="30"/>
                    <a:pt x="482" y="30"/>
                  </a:cubicBezTo>
                  <a:cubicBezTo>
                    <a:pt x="482" y="35"/>
                    <a:pt x="482" y="49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5"/>
                    <a:pt x="482" y="65"/>
                    <a:pt x="482" y="65"/>
                  </a:cubicBezTo>
                  <a:cubicBezTo>
                    <a:pt x="482" y="67"/>
                    <a:pt x="482" y="69"/>
                    <a:pt x="482" y="71"/>
                  </a:cubicBezTo>
                  <a:cubicBezTo>
                    <a:pt x="480" y="74"/>
                    <a:pt x="479" y="78"/>
                    <a:pt x="478" y="81"/>
                  </a:cubicBezTo>
                  <a:cubicBezTo>
                    <a:pt x="479" y="78"/>
                    <a:pt x="480" y="76"/>
                    <a:pt x="482" y="73"/>
                  </a:cubicBezTo>
                  <a:cubicBezTo>
                    <a:pt x="481" y="79"/>
                    <a:pt x="481" y="85"/>
                    <a:pt x="481" y="91"/>
                  </a:cubicBezTo>
                  <a:cubicBezTo>
                    <a:pt x="481" y="93"/>
                    <a:pt x="480" y="95"/>
                    <a:pt x="480" y="97"/>
                  </a:cubicBezTo>
                  <a:cubicBezTo>
                    <a:pt x="479" y="96"/>
                    <a:pt x="478" y="95"/>
                    <a:pt x="478" y="94"/>
                  </a:cubicBezTo>
                  <a:cubicBezTo>
                    <a:pt x="478" y="91"/>
                    <a:pt x="477" y="88"/>
                    <a:pt x="477" y="85"/>
                  </a:cubicBezTo>
                  <a:cubicBezTo>
                    <a:pt x="477" y="83"/>
                    <a:pt x="478" y="82"/>
                    <a:pt x="478" y="81"/>
                  </a:cubicBezTo>
                  <a:cubicBezTo>
                    <a:pt x="478" y="82"/>
                    <a:pt x="477" y="83"/>
                    <a:pt x="477" y="84"/>
                  </a:cubicBezTo>
                  <a:cubicBezTo>
                    <a:pt x="476" y="72"/>
                    <a:pt x="476" y="62"/>
                    <a:pt x="475" y="55"/>
                  </a:cubicBezTo>
                  <a:cubicBezTo>
                    <a:pt x="476" y="54"/>
                    <a:pt x="477" y="53"/>
                    <a:pt x="479" y="52"/>
                  </a:cubicBezTo>
                  <a:cubicBezTo>
                    <a:pt x="477" y="53"/>
                    <a:pt x="476" y="54"/>
                    <a:pt x="475" y="54"/>
                  </a:cubicBezTo>
                  <a:cubicBezTo>
                    <a:pt x="475" y="49"/>
                    <a:pt x="475" y="46"/>
                    <a:pt x="475" y="46"/>
                  </a:cubicBezTo>
                  <a:cubicBezTo>
                    <a:pt x="475" y="48"/>
                    <a:pt x="474" y="51"/>
                    <a:pt x="474" y="55"/>
                  </a:cubicBezTo>
                  <a:cubicBezTo>
                    <a:pt x="471" y="57"/>
                    <a:pt x="468" y="59"/>
                    <a:pt x="465" y="62"/>
                  </a:cubicBezTo>
                  <a:cubicBezTo>
                    <a:pt x="465" y="58"/>
                    <a:pt x="465" y="54"/>
                    <a:pt x="466" y="50"/>
                  </a:cubicBezTo>
                  <a:cubicBezTo>
                    <a:pt x="469" y="45"/>
                    <a:pt x="474" y="40"/>
                    <a:pt x="479" y="34"/>
                  </a:cubicBezTo>
                  <a:cubicBezTo>
                    <a:pt x="474" y="39"/>
                    <a:pt x="470" y="44"/>
                    <a:pt x="466" y="48"/>
                  </a:cubicBezTo>
                  <a:cubicBezTo>
                    <a:pt x="467" y="21"/>
                    <a:pt x="468" y="0"/>
                    <a:pt x="468" y="0"/>
                  </a:cubicBezTo>
                  <a:cubicBezTo>
                    <a:pt x="464" y="10"/>
                    <a:pt x="462" y="35"/>
                    <a:pt x="461" y="53"/>
                  </a:cubicBezTo>
                  <a:cubicBezTo>
                    <a:pt x="460" y="54"/>
                    <a:pt x="459" y="55"/>
                    <a:pt x="459" y="56"/>
                  </a:cubicBezTo>
                  <a:cubicBezTo>
                    <a:pt x="457" y="44"/>
                    <a:pt x="454" y="33"/>
                    <a:pt x="454" y="33"/>
                  </a:cubicBezTo>
                  <a:cubicBezTo>
                    <a:pt x="456" y="39"/>
                    <a:pt x="455" y="49"/>
                    <a:pt x="454" y="62"/>
                  </a:cubicBezTo>
                  <a:cubicBezTo>
                    <a:pt x="452" y="63"/>
                    <a:pt x="451" y="65"/>
                    <a:pt x="450" y="67"/>
                  </a:cubicBezTo>
                  <a:cubicBezTo>
                    <a:pt x="449" y="65"/>
                    <a:pt x="448" y="63"/>
                    <a:pt x="447" y="62"/>
                  </a:cubicBezTo>
                  <a:cubicBezTo>
                    <a:pt x="447" y="63"/>
                    <a:pt x="448" y="65"/>
                    <a:pt x="449" y="68"/>
                  </a:cubicBezTo>
                  <a:cubicBezTo>
                    <a:pt x="447" y="72"/>
                    <a:pt x="445" y="75"/>
                    <a:pt x="443" y="78"/>
                  </a:cubicBezTo>
                  <a:cubicBezTo>
                    <a:pt x="442" y="61"/>
                    <a:pt x="442" y="48"/>
                    <a:pt x="442" y="48"/>
                  </a:cubicBezTo>
                  <a:cubicBezTo>
                    <a:pt x="442" y="52"/>
                    <a:pt x="440" y="65"/>
                    <a:pt x="438" y="80"/>
                  </a:cubicBezTo>
                  <a:cubicBezTo>
                    <a:pt x="438" y="82"/>
                    <a:pt x="437" y="85"/>
                    <a:pt x="436" y="87"/>
                  </a:cubicBezTo>
                  <a:cubicBezTo>
                    <a:pt x="435" y="86"/>
                    <a:pt x="435" y="86"/>
                    <a:pt x="434" y="85"/>
                  </a:cubicBezTo>
                  <a:cubicBezTo>
                    <a:pt x="437" y="48"/>
                    <a:pt x="440" y="9"/>
                    <a:pt x="440" y="9"/>
                  </a:cubicBezTo>
                  <a:cubicBezTo>
                    <a:pt x="436" y="20"/>
                    <a:pt x="432" y="57"/>
                    <a:pt x="428" y="89"/>
                  </a:cubicBezTo>
                  <a:cubicBezTo>
                    <a:pt x="427" y="91"/>
                    <a:pt x="427" y="92"/>
                    <a:pt x="426" y="93"/>
                  </a:cubicBezTo>
                  <a:cubicBezTo>
                    <a:pt x="425" y="92"/>
                    <a:pt x="424" y="90"/>
                    <a:pt x="423" y="89"/>
                  </a:cubicBezTo>
                  <a:cubicBezTo>
                    <a:pt x="426" y="72"/>
                    <a:pt x="429" y="55"/>
                    <a:pt x="429" y="37"/>
                  </a:cubicBezTo>
                  <a:cubicBezTo>
                    <a:pt x="429" y="34"/>
                    <a:pt x="429" y="30"/>
                    <a:pt x="429" y="26"/>
                  </a:cubicBezTo>
                  <a:cubicBezTo>
                    <a:pt x="422" y="45"/>
                    <a:pt x="421" y="66"/>
                    <a:pt x="417" y="86"/>
                  </a:cubicBezTo>
                  <a:cubicBezTo>
                    <a:pt x="417" y="85"/>
                    <a:pt x="416" y="84"/>
                    <a:pt x="416" y="84"/>
                  </a:cubicBezTo>
                  <a:cubicBezTo>
                    <a:pt x="416" y="84"/>
                    <a:pt x="417" y="85"/>
                    <a:pt x="417" y="86"/>
                  </a:cubicBezTo>
                  <a:cubicBezTo>
                    <a:pt x="417" y="88"/>
                    <a:pt x="416" y="90"/>
                    <a:pt x="416" y="92"/>
                  </a:cubicBezTo>
                  <a:cubicBezTo>
                    <a:pt x="415" y="94"/>
                    <a:pt x="415" y="96"/>
                    <a:pt x="414" y="98"/>
                  </a:cubicBezTo>
                  <a:cubicBezTo>
                    <a:pt x="414" y="97"/>
                    <a:pt x="413" y="96"/>
                    <a:pt x="412" y="95"/>
                  </a:cubicBezTo>
                  <a:cubicBezTo>
                    <a:pt x="412" y="86"/>
                    <a:pt x="411" y="78"/>
                    <a:pt x="410" y="72"/>
                  </a:cubicBezTo>
                  <a:cubicBezTo>
                    <a:pt x="413" y="67"/>
                    <a:pt x="417" y="63"/>
                    <a:pt x="421" y="59"/>
                  </a:cubicBezTo>
                  <a:cubicBezTo>
                    <a:pt x="417" y="62"/>
                    <a:pt x="413" y="66"/>
                    <a:pt x="410" y="70"/>
                  </a:cubicBezTo>
                  <a:cubicBezTo>
                    <a:pt x="409" y="64"/>
                    <a:pt x="409" y="60"/>
                    <a:pt x="408" y="57"/>
                  </a:cubicBezTo>
                  <a:cubicBezTo>
                    <a:pt x="410" y="54"/>
                    <a:pt x="411" y="52"/>
                    <a:pt x="412" y="50"/>
                  </a:cubicBezTo>
                  <a:cubicBezTo>
                    <a:pt x="411" y="51"/>
                    <a:pt x="409" y="53"/>
                    <a:pt x="408" y="54"/>
                  </a:cubicBezTo>
                  <a:cubicBezTo>
                    <a:pt x="408" y="53"/>
                    <a:pt x="408" y="52"/>
                    <a:pt x="408" y="52"/>
                  </a:cubicBezTo>
                  <a:cubicBezTo>
                    <a:pt x="408" y="53"/>
                    <a:pt x="408" y="54"/>
                    <a:pt x="408" y="54"/>
                  </a:cubicBezTo>
                  <a:cubicBezTo>
                    <a:pt x="406" y="56"/>
                    <a:pt x="404" y="58"/>
                    <a:pt x="402" y="60"/>
                  </a:cubicBezTo>
                  <a:cubicBezTo>
                    <a:pt x="401" y="54"/>
                    <a:pt x="400" y="48"/>
                    <a:pt x="399" y="44"/>
                  </a:cubicBezTo>
                  <a:cubicBezTo>
                    <a:pt x="400" y="49"/>
                    <a:pt x="399" y="56"/>
                    <a:pt x="398" y="64"/>
                  </a:cubicBezTo>
                  <a:cubicBezTo>
                    <a:pt x="397" y="66"/>
                    <a:pt x="396" y="68"/>
                    <a:pt x="395" y="69"/>
                  </a:cubicBezTo>
                  <a:cubicBezTo>
                    <a:pt x="393" y="67"/>
                    <a:pt x="392" y="66"/>
                    <a:pt x="390" y="64"/>
                  </a:cubicBezTo>
                  <a:cubicBezTo>
                    <a:pt x="392" y="66"/>
                    <a:pt x="393" y="67"/>
                    <a:pt x="395" y="69"/>
                  </a:cubicBezTo>
                  <a:cubicBezTo>
                    <a:pt x="393" y="71"/>
                    <a:pt x="392" y="73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1" y="75"/>
                    <a:pt x="391" y="75"/>
                    <a:pt x="391" y="75"/>
                  </a:cubicBezTo>
                  <a:cubicBezTo>
                    <a:pt x="390" y="76"/>
                    <a:pt x="389" y="77"/>
                    <a:pt x="388" y="79"/>
                  </a:cubicBezTo>
                  <a:cubicBezTo>
                    <a:pt x="388" y="79"/>
                    <a:pt x="388" y="79"/>
                    <a:pt x="388" y="79"/>
                  </a:cubicBezTo>
                  <a:cubicBezTo>
                    <a:pt x="389" y="60"/>
                    <a:pt x="389" y="45"/>
                    <a:pt x="389" y="45"/>
                  </a:cubicBezTo>
                  <a:cubicBezTo>
                    <a:pt x="389" y="50"/>
                    <a:pt x="387" y="61"/>
                    <a:pt x="384" y="73"/>
                  </a:cubicBezTo>
                  <a:cubicBezTo>
                    <a:pt x="383" y="73"/>
                    <a:pt x="383" y="73"/>
                    <a:pt x="383" y="72"/>
                  </a:cubicBezTo>
                  <a:cubicBezTo>
                    <a:pt x="383" y="70"/>
                    <a:pt x="383" y="68"/>
                    <a:pt x="383" y="66"/>
                  </a:cubicBezTo>
                  <a:cubicBezTo>
                    <a:pt x="383" y="65"/>
                    <a:pt x="383" y="65"/>
                    <a:pt x="384" y="65"/>
                  </a:cubicBezTo>
                  <a:cubicBezTo>
                    <a:pt x="383" y="65"/>
                    <a:pt x="383" y="65"/>
                    <a:pt x="383" y="66"/>
                  </a:cubicBezTo>
                  <a:cubicBezTo>
                    <a:pt x="383" y="64"/>
                    <a:pt x="383" y="63"/>
                    <a:pt x="383" y="61"/>
                  </a:cubicBezTo>
                  <a:cubicBezTo>
                    <a:pt x="383" y="55"/>
                    <a:pt x="383" y="49"/>
                    <a:pt x="382" y="42"/>
                  </a:cubicBezTo>
                  <a:cubicBezTo>
                    <a:pt x="385" y="27"/>
                    <a:pt x="387" y="17"/>
                    <a:pt x="387" y="17"/>
                  </a:cubicBezTo>
                  <a:cubicBezTo>
                    <a:pt x="384" y="22"/>
                    <a:pt x="377" y="49"/>
                    <a:pt x="371" y="78"/>
                  </a:cubicBezTo>
                  <a:cubicBezTo>
                    <a:pt x="371" y="78"/>
                    <a:pt x="371" y="79"/>
                    <a:pt x="371" y="79"/>
                  </a:cubicBezTo>
                  <a:cubicBezTo>
                    <a:pt x="369" y="76"/>
                    <a:pt x="367" y="72"/>
                    <a:pt x="364" y="69"/>
                  </a:cubicBezTo>
                  <a:cubicBezTo>
                    <a:pt x="366" y="67"/>
                    <a:pt x="367" y="66"/>
                    <a:pt x="369" y="64"/>
                  </a:cubicBezTo>
                  <a:cubicBezTo>
                    <a:pt x="367" y="66"/>
                    <a:pt x="365" y="67"/>
                    <a:pt x="364" y="69"/>
                  </a:cubicBezTo>
                  <a:cubicBezTo>
                    <a:pt x="363" y="68"/>
                    <a:pt x="362" y="67"/>
                    <a:pt x="361" y="66"/>
                  </a:cubicBezTo>
                  <a:cubicBezTo>
                    <a:pt x="361" y="60"/>
                    <a:pt x="361" y="55"/>
                    <a:pt x="360" y="52"/>
                  </a:cubicBezTo>
                  <a:cubicBezTo>
                    <a:pt x="361" y="56"/>
                    <a:pt x="361" y="60"/>
                    <a:pt x="360" y="64"/>
                  </a:cubicBezTo>
                  <a:cubicBezTo>
                    <a:pt x="357" y="60"/>
                    <a:pt x="352" y="55"/>
                    <a:pt x="347" y="50"/>
                  </a:cubicBezTo>
                  <a:cubicBezTo>
                    <a:pt x="350" y="55"/>
                    <a:pt x="353" y="60"/>
                    <a:pt x="356" y="65"/>
                  </a:cubicBezTo>
                  <a:cubicBezTo>
                    <a:pt x="355" y="68"/>
                    <a:pt x="355" y="71"/>
                    <a:pt x="354" y="76"/>
                  </a:cubicBezTo>
                  <a:cubicBezTo>
                    <a:pt x="352" y="74"/>
                    <a:pt x="350" y="71"/>
                    <a:pt x="348" y="68"/>
                  </a:cubicBezTo>
                  <a:cubicBezTo>
                    <a:pt x="347" y="54"/>
                    <a:pt x="346" y="41"/>
                    <a:pt x="345" y="33"/>
                  </a:cubicBezTo>
                  <a:cubicBezTo>
                    <a:pt x="346" y="42"/>
                    <a:pt x="345" y="53"/>
                    <a:pt x="344" y="65"/>
                  </a:cubicBezTo>
                  <a:cubicBezTo>
                    <a:pt x="342" y="63"/>
                    <a:pt x="340" y="61"/>
                    <a:pt x="338" y="59"/>
                  </a:cubicBezTo>
                  <a:cubicBezTo>
                    <a:pt x="340" y="61"/>
                    <a:pt x="342" y="63"/>
                    <a:pt x="344" y="65"/>
                  </a:cubicBezTo>
                  <a:cubicBezTo>
                    <a:pt x="343" y="72"/>
                    <a:pt x="342" y="80"/>
                    <a:pt x="341" y="87"/>
                  </a:cubicBezTo>
                  <a:cubicBezTo>
                    <a:pt x="341" y="87"/>
                    <a:pt x="341" y="87"/>
                    <a:pt x="341" y="87"/>
                  </a:cubicBezTo>
                  <a:cubicBezTo>
                    <a:pt x="341" y="85"/>
                    <a:pt x="340" y="84"/>
                    <a:pt x="340" y="83"/>
                  </a:cubicBezTo>
                  <a:cubicBezTo>
                    <a:pt x="340" y="82"/>
                    <a:pt x="340" y="82"/>
                    <a:pt x="340" y="81"/>
                  </a:cubicBezTo>
                  <a:cubicBezTo>
                    <a:pt x="340" y="82"/>
                    <a:pt x="340" y="82"/>
                    <a:pt x="340" y="83"/>
                  </a:cubicBezTo>
                  <a:cubicBezTo>
                    <a:pt x="339" y="81"/>
                    <a:pt x="338" y="79"/>
                    <a:pt x="337" y="77"/>
                  </a:cubicBezTo>
                  <a:cubicBezTo>
                    <a:pt x="338" y="79"/>
                    <a:pt x="339" y="81"/>
                    <a:pt x="339" y="83"/>
                  </a:cubicBezTo>
                  <a:cubicBezTo>
                    <a:pt x="338" y="85"/>
                    <a:pt x="337" y="86"/>
                    <a:pt x="336" y="88"/>
                  </a:cubicBezTo>
                  <a:cubicBezTo>
                    <a:pt x="337" y="86"/>
                    <a:pt x="338" y="85"/>
                    <a:pt x="339" y="83"/>
                  </a:cubicBezTo>
                  <a:cubicBezTo>
                    <a:pt x="340" y="85"/>
                    <a:pt x="340" y="86"/>
                    <a:pt x="340" y="88"/>
                  </a:cubicBezTo>
                  <a:cubicBezTo>
                    <a:pt x="338" y="91"/>
                    <a:pt x="337" y="95"/>
                    <a:pt x="335" y="98"/>
                  </a:cubicBezTo>
                  <a:cubicBezTo>
                    <a:pt x="335" y="97"/>
                    <a:pt x="335" y="97"/>
                    <a:pt x="334" y="97"/>
                  </a:cubicBezTo>
                  <a:cubicBezTo>
                    <a:pt x="334" y="95"/>
                    <a:pt x="334" y="94"/>
                    <a:pt x="334" y="93"/>
                  </a:cubicBezTo>
                  <a:cubicBezTo>
                    <a:pt x="334" y="91"/>
                    <a:pt x="335" y="89"/>
                    <a:pt x="336" y="88"/>
                  </a:cubicBezTo>
                  <a:cubicBezTo>
                    <a:pt x="335" y="89"/>
                    <a:pt x="334" y="91"/>
                    <a:pt x="334" y="92"/>
                  </a:cubicBezTo>
                  <a:cubicBezTo>
                    <a:pt x="333" y="92"/>
                    <a:pt x="333" y="91"/>
                    <a:pt x="333" y="91"/>
                  </a:cubicBezTo>
                  <a:cubicBezTo>
                    <a:pt x="333" y="74"/>
                    <a:pt x="332" y="60"/>
                    <a:pt x="332" y="60"/>
                  </a:cubicBezTo>
                  <a:cubicBezTo>
                    <a:pt x="332" y="65"/>
                    <a:pt x="332" y="73"/>
                    <a:pt x="331" y="81"/>
                  </a:cubicBezTo>
                  <a:cubicBezTo>
                    <a:pt x="330" y="79"/>
                    <a:pt x="330" y="76"/>
                    <a:pt x="329" y="74"/>
                  </a:cubicBezTo>
                  <a:cubicBezTo>
                    <a:pt x="330" y="79"/>
                    <a:pt x="330" y="83"/>
                    <a:pt x="330" y="88"/>
                  </a:cubicBezTo>
                  <a:cubicBezTo>
                    <a:pt x="329" y="86"/>
                    <a:pt x="328" y="84"/>
                    <a:pt x="327" y="83"/>
                  </a:cubicBezTo>
                  <a:cubicBezTo>
                    <a:pt x="328" y="85"/>
                    <a:pt x="329" y="87"/>
                    <a:pt x="330" y="89"/>
                  </a:cubicBezTo>
                  <a:cubicBezTo>
                    <a:pt x="330" y="89"/>
                    <a:pt x="330" y="89"/>
                    <a:pt x="330" y="89"/>
                  </a:cubicBezTo>
                  <a:cubicBezTo>
                    <a:pt x="330" y="93"/>
                    <a:pt x="329" y="97"/>
                    <a:pt x="329" y="101"/>
                  </a:cubicBezTo>
                  <a:cubicBezTo>
                    <a:pt x="328" y="103"/>
                    <a:pt x="327" y="104"/>
                    <a:pt x="327" y="106"/>
                  </a:cubicBezTo>
                  <a:cubicBezTo>
                    <a:pt x="325" y="100"/>
                    <a:pt x="324" y="95"/>
                    <a:pt x="322" y="90"/>
                  </a:cubicBezTo>
                  <a:cubicBezTo>
                    <a:pt x="323" y="88"/>
                    <a:pt x="325" y="85"/>
                    <a:pt x="327" y="83"/>
                  </a:cubicBezTo>
                  <a:cubicBezTo>
                    <a:pt x="325" y="85"/>
                    <a:pt x="323" y="87"/>
                    <a:pt x="321" y="89"/>
                  </a:cubicBezTo>
                  <a:cubicBezTo>
                    <a:pt x="321" y="88"/>
                    <a:pt x="321" y="87"/>
                    <a:pt x="320" y="87"/>
                  </a:cubicBezTo>
                  <a:cubicBezTo>
                    <a:pt x="320" y="76"/>
                    <a:pt x="321" y="68"/>
                    <a:pt x="321" y="68"/>
                  </a:cubicBezTo>
                  <a:cubicBezTo>
                    <a:pt x="320" y="72"/>
                    <a:pt x="319" y="77"/>
                    <a:pt x="318" y="82"/>
                  </a:cubicBezTo>
                  <a:cubicBezTo>
                    <a:pt x="318" y="81"/>
                    <a:pt x="318" y="80"/>
                    <a:pt x="318" y="80"/>
                  </a:cubicBezTo>
                  <a:cubicBezTo>
                    <a:pt x="318" y="80"/>
                    <a:pt x="318" y="81"/>
                    <a:pt x="318" y="82"/>
                  </a:cubicBezTo>
                  <a:cubicBezTo>
                    <a:pt x="317" y="80"/>
                    <a:pt x="316" y="78"/>
                    <a:pt x="314" y="75"/>
                  </a:cubicBezTo>
                  <a:cubicBezTo>
                    <a:pt x="315" y="65"/>
                    <a:pt x="316" y="56"/>
                    <a:pt x="317" y="48"/>
                  </a:cubicBezTo>
                  <a:cubicBezTo>
                    <a:pt x="316" y="55"/>
                    <a:pt x="315" y="64"/>
                    <a:pt x="313" y="73"/>
                  </a:cubicBezTo>
                  <a:cubicBezTo>
                    <a:pt x="311" y="70"/>
                    <a:pt x="309" y="67"/>
                    <a:pt x="307" y="64"/>
                  </a:cubicBezTo>
                  <a:cubicBezTo>
                    <a:pt x="307" y="62"/>
                    <a:pt x="307" y="59"/>
                    <a:pt x="307" y="57"/>
                  </a:cubicBezTo>
                  <a:cubicBezTo>
                    <a:pt x="306" y="58"/>
                    <a:pt x="306" y="60"/>
                    <a:pt x="305" y="62"/>
                  </a:cubicBezTo>
                  <a:cubicBezTo>
                    <a:pt x="303" y="59"/>
                    <a:pt x="300" y="55"/>
                    <a:pt x="297" y="52"/>
                  </a:cubicBezTo>
                  <a:cubicBezTo>
                    <a:pt x="297" y="48"/>
                    <a:pt x="298" y="46"/>
                    <a:pt x="298" y="46"/>
                  </a:cubicBezTo>
                  <a:cubicBezTo>
                    <a:pt x="297" y="48"/>
                    <a:pt x="297" y="49"/>
                    <a:pt x="296" y="51"/>
                  </a:cubicBezTo>
                  <a:cubicBezTo>
                    <a:pt x="293" y="47"/>
                    <a:pt x="289" y="43"/>
                    <a:pt x="285" y="39"/>
                  </a:cubicBezTo>
                  <a:cubicBezTo>
                    <a:pt x="285" y="37"/>
                    <a:pt x="285" y="35"/>
                    <a:pt x="285" y="34"/>
                  </a:cubicBezTo>
                  <a:cubicBezTo>
                    <a:pt x="285" y="34"/>
                    <a:pt x="285" y="36"/>
                    <a:pt x="285" y="39"/>
                  </a:cubicBezTo>
                  <a:cubicBezTo>
                    <a:pt x="283" y="37"/>
                    <a:pt x="282" y="36"/>
                    <a:pt x="280" y="34"/>
                  </a:cubicBezTo>
                  <a:cubicBezTo>
                    <a:pt x="282" y="36"/>
                    <a:pt x="283" y="38"/>
                    <a:pt x="285" y="40"/>
                  </a:cubicBezTo>
                  <a:cubicBezTo>
                    <a:pt x="285" y="40"/>
                    <a:pt x="285" y="40"/>
                    <a:pt x="285" y="41"/>
                  </a:cubicBezTo>
                  <a:cubicBezTo>
                    <a:pt x="285" y="40"/>
                    <a:pt x="285" y="40"/>
                    <a:pt x="285" y="40"/>
                  </a:cubicBezTo>
                  <a:cubicBezTo>
                    <a:pt x="289" y="45"/>
                    <a:pt x="293" y="49"/>
                    <a:pt x="296" y="53"/>
                  </a:cubicBezTo>
                  <a:cubicBezTo>
                    <a:pt x="295" y="55"/>
                    <a:pt x="295" y="59"/>
                    <a:pt x="294" y="62"/>
                  </a:cubicBezTo>
                  <a:cubicBezTo>
                    <a:pt x="292" y="60"/>
                    <a:pt x="289" y="58"/>
                    <a:pt x="286" y="56"/>
                  </a:cubicBezTo>
                  <a:cubicBezTo>
                    <a:pt x="285" y="50"/>
                    <a:pt x="285" y="44"/>
                    <a:pt x="285" y="41"/>
                  </a:cubicBezTo>
                  <a:cubicBezTo>
                    <a:pt x="285" y="45"/>
                    <a:pt x="285" y="50"/>
                    <a:pt x="284" y="55"/>
                  </a:cubicBezTo>
                  <a:cubicBezTo>
                    <a:pt x="283" y="54"/>
                    <a:pt x="282" y="53"/>
                    <a:pt x="280" y="52"/>
                  </a:cubicBezTo>
                  <a:cubicBezTo>
                    <a:pt x="282" y="53"/>
                    <a:pt x="283" y="54"/>
                    <a:pt x="284" y="55"/>
                  </a:cubicBezTo>
                  <a:cubicBezTo>
                    <a:pt x="284" y="64"/>
                    <a:pt x="283" y="73"/>
                    <a:pt x="281" y="83"/>
                  </a:cubicBezTo>
                  <a:cubicBezTo>
                    <a:pt x="281" y="82"/>
                    <a:pt x="281" y="81"/>
                    <a:pt x="281" y="81"/>
                  </a:cubicBezTo>
                  <a:cubicBezTo>
                    <a:pt x="281" y="82"/>
                    <a:pt x="281" y="82"/>
                    <a:pt x="281" y="83"/>
                  </a:cubicBezTo>
                  <a:cubicBezTo>
                    <a:pt x="281" y="88"/>
                    <a:pt x="280" y="92"/>
                    <a:pt x="279" y="97"/>
                  </a:cubicBezTo>
                  <a:cubicBezTo>
                    <a:pt x="278" y="89"/>
                    <a:pt x="275" y="81"/>
                    <a:pt x="272" y="73"/>
                  </a:cubicBezTo>
                  <a:cubicBezTo>
                    <a:pt x="272" y="72"/>
                    <a:pt x="272" y="71"/>
                    <a:pt x="272" y="71"/>
                  </a:cubicBezTo>
                  <a:cubicBezTo>
                    <a:pt x="273" y="70"/>
                    <a:pt x="274" y="69"/>
                    <a:pt x="275" y="68"/>
                  </a:cubicBezTo>
                  <a:cubicBezTo>
                    <a:pt x="277" y="72"/>
                    <a:pt x="279" y="76"/>
                    <a:pt x="281" y="81"/>
                  </a:cubicBezTo>
                  <a:cubicBezTo>
                    <a:pt x="279" y="76"/>
                    <a:pt x="278" y="72"/>
                    <a:pt x="275" y="67"/>
                  </a:cubicBezTo>
                  <a:cubicBezTo>
                    <a:pt x="276" y="67"/>
                    <a:pt x="277" y="66"/>
                    <a:pt x="277" y="65"/>
                  </a:cubicBezTo>
                  <a:cubicBezTo>
                    <a:pt x="277" y="66"/>
                    <a:pt x="276" y="66"/>
                    <a:pt x="275" y="67"/>
                  </a:cubicBezTo>
                  <a:cubicBezTo>
                    <a:pt x="269" y="54"/>
                    <a:pt x="259" y="41"/>
                    <a:pt x="247" y="25"/>
                  </a:cubicBezTo>
                  <a:cubicBezTo>
                    <a:pt x="259" y="42"/>
                    <a:pt x="268" y="55"/>
                    <a:pt x="275" y="68"/>
                  </a:cubicBezTo>
                  <a:cubicBezTo>
                    <a:pt x="274" y="68"/>
                    <a:pt x="273" y="69"/>
                    <a:pt x="272" y="70"/>
                  </a:cubicBezTo>
                  <a:cubicBezTo>
                    <a:pt x="272" y="68"/>
                    <a:pt x="272" y="66"/>
                    <a:pt x="272" y="66"/>
                  </a:cubicBezTo>
                  <a:cubicBezTo>
                    <a:pt x="272" y="68"/>
                    <a:pt x="272" y="69"/>
                    <a:pt x="271" y="71"/>
                  </a:cubicBezTo>
                  <a:cubicBezTo>
                    <a:pt x="271" y="71"/>
                    <a:pt x="271" y="71"/>
                    <a:pt x="271" y="71"/>
                  </a:cubicBezTo>
                  <a:cubicBezTo>
                    <a:pt x="267" y="61"/>
                    <a:pt x="260" y="52"/>
                    <a:pt x="251" y="42"/>
                  </a:cubicBezTo>
                  <a:cubicBezTo>
                    <a:pt x="258" y="55"/>
                    <a:pt x="263" y="65"/>
                    <a:pt x="267" y="75"/>
                  </a:cubicBezTo>
                  <a:cubicBezTo>
                    <a:pt x="266" y="76"/>
                    <a:pt x="265" y="77"/>
                    <a:pt x="264" y="77"/>
                  </a:cubicBezTo>
                  <a:cubicBezTo>
                    <a:pt x="262" y="73"/>
                    <a:pt x="260" y="70"/>
                    <a:pt x="258" y="68"/>
                  </a:cubicBezTo>
                  <a:cubicBezTo>
                    <a:pt x="258" y="63"/>
                    <a:pt x="257" y="60"/>
                    <a:pt x="257" y="60"/>
                  </a:cubicBezTo>
                  <a:cubicBezTo>
                    <a:pt x="257" y="62"/>
                    <a:pt x="257" y="64"/>
                    <a:pt x="257" y="67"/>
                  </a:cubicBezTo>
                  <a:cubicBezTo>
                    <a:pt x="251" y="57"/>
                    <a:pt x="243" y="47"/>
                    <a:pt x="232" y="38"/>
                  </a:cubicBezTo>
                  <a:cubicBezTo>
                    <a:pt x="243" y="49"/>
                    <a:pt x="251" y="60"/>
                    <a:pt x="257" y="71"/>
                  </a:cubicBezTo>
                  <a:cubicBezTo>
                    <a:pt x="256" y="75"/>
                    <a:pt x="256" y="80"/>
                    <a:pt x="256" y="85"/>
                  </a:cubicBezTo>
                  <a:cubicBezTo>
                    <a:pt x="255" y="84"/>
                    <a:pt x="255" y="84"/>
                    <a:pt x="254" y="83"/>
                  </a:cubicBezTo>
                  <a:cubicBezTo>
                    <a:pt x="255" y="84"/>
                    <a:pt x="255" y="85"/>
                    <a:pt x="256" y="86"/>
                  </a:cubicBezTo>
                  <a:cubicBezTo>
                    <a:pt x="255" y="87"/>
                    <a:pt x="255" y="88"/>
                    <a:pt x="255" y="89"/>
                  </a:cubicBezTo>
                  <a:cubicBezTo>
                    <a:pt x="253" y="92"/>
                    <a:pt x="252" y="94"/>
                    <a:pt x="250" y="97"/>
                  </a:cubicBezTo>
                  <a:cubicBezTo>
                    <a:pt x="250" y="93"/>
                    <a:pt x="250" y="90"/>
                    <a:pt x="250" y="87"/>
                  </a:cubicBezTo>
                  <a:cubicBezTo>
                    <a:pt x="251" y="84"/>
                    <a:pt x="252" y="82"/>
                    <a:pt x="253" y="80"/>
                  </a:cubicBezTo>
                  <a:cubicBezTo>
                    <a:pt x="253" y="81"/>
                    <a:pt x="254" y="82"/>
                    <a:pt x="254" y="83"/>
                  </a:cubicBezTo>
                  <a:cubicBezTo>
                    <a:pt x="254" y="81"/>
                    <a:pt x="253" y="80"/>
                    <a:pt x="253" y="79"/>
                  </a:cubicBezTo>
                  <a:cubicBezTo>
                    <a:pt x="253" y="79"/>
                    <a:pt x="253" y="78"/>
                    <a:pt x="254" y="77"/>
                  </a:cubicBezTo>
                  <a:cubicBezTo>
                    <a:pt x="253" y="77"/>
                    <a:pt x="253" y="78"/>
                    <a:pt x="252" y="79"/>
                  </a:cubicBezTo>
                  <a:cubicBezTo>
                    <a:pt x="251" y="77"/>
                    <a:pt x="251" y="76"/>
                    <a:pt x="250" y="75"/>
                  </a:cubicBezTo>
                  <a:cubicBezTo>
                    <a:pt x="251" y="77"/>
                    <a:pt x="251" y="78"/>
                    <a:pt x="252" y="79"/>
                  </a:cubicBezTo>
                  <a:cubicBezTo>
                    <a:pt x="251" y="80"/>
                    <a:pt x="251" y="81"/>
                    <a:pt x="250" y="82"/>
                  </a:cubicBezTo>
                  <a:cubicBezTo>
                    <a:pt x="250" y="73"/>
                    <a:pt x="250" y="68"/>
                    <a:pt x="250" y="68"/>
                  </a:cubicBezTo>
                  <a:cubicBezTo>
                    <a:pt x="250" y="72"/>
                    <a:pt x="249" y="78"/>
                    <a:pt x="248" y="85"/>
                  </a:cubicBezTo>
                  <a:cubicBezTo>
                    <a:pt x="246" y="90"/>
                    <a:pt x="244" y="94"/>
                    <a:pt x="242" y="99"/>
                  </a:cubicBezTo>
                  <a:cubicBezTo>
                    <a:pt x="242" y="98"/>
                    <a:pt x="241" y="97"/>
                    <a:pt x="241" y="96"/>
                  </a:cubicBezTo>
                  <a:cubicBezTo>
                    <a:pt x="242" y="92"/>
                    <a:pt x="242" y="89"/>
                    <a:pt x="242" y="89"/>
                  </a:cubicBezTo>
                  <a:cubicBezTo>
                    <a:pt x="242" y="91"/>
                    <a:pt x="241" y="92"/>
                    <a:pt x="241" y="94"/>
                  </a:cubicBezTo>
                  <a:cubicBezTo>
                    <a:pt x="240" y="91"/>
                    <a:pt x="239" y="88"/>
                    <a:pt x="239" y="85"/>
                  </a:cubicBezTo>
                  <a:cubicBezTo>
                    <a:pt x="238" y="88"/>
                    <a:pt x="238" y="91"/>
                    <a:pt x="238" y="94"/>
                  </a:cubicBezTo>
                  <a:cubicBezTo>
                    <a:pt x="238" y="97"/>
                    <a:pt x="238" y="100"/>
                    <a:pt x="238" y="103"/>
                  </a:cubicBezTo>
                  <a:cubicBezTo>
                    <a:pt x="237" y="107"/>
                    <a:pt x="236" y="112"/>
                    <a:pt x="234" y="116"/>
                  </a:cubicBezTo>
                  <a:cubicBezTo>
                    <a:pt x="233" y="112"/>
                    <a:pt x="231" y="108"/>
                    <a:pt x="230" y="104"/>
                  </a:cubicBezTo>
                  <a:cubicBezTo>
                    <a:pt x="231" y="109"/>
                    <a:pt x="232" y="115"/>
                    <a:pt x="233" y="120"/>
                  </a:cubicBezTo>
                  <a:cubicBezTo>
                    <a:pt x="231" y="124"/>
                    <a:pt x="230" y="127"/>
                    <a:pt x="228" y="130"/>
                  </a:cubicBezTo>
                  <a:cubicBezTo>
                    <a:pt x="227" y="128"/>
                    <a:pt x="227" y="126"/>
                    <a:pt x="226" y="123"/>
                  </a:cubicBezTo>
                  <a:cubicBezTo>
                    <a:pt x="227" y="115"/>
                    <a:pt x="229" y="106"/>
                    <a:pt x="231" y="99"/>
                  </a:cubicBezTo>
                  <a:cubicBezTo>
                    <a:pt x="232" y="98"/>
                    <a:pt x="232" y="97"/>
                    <a:pt x="232" y="96"/>
                  </a:cubicBezTo>
                  <a:cubicBezTo>
                    <a:pt x="232" y="96"/>
                    <a:pt x="232" y="97"/>
                    <a:pt x="232" y="97"/>
                  </a:cubicBezTo>
                  <a:cubicBezTo>
                    <a:pt x="234" y="86"/>
                    <a:pt x="237" y="76"/>
                    <a:pt x="237" y="76"/>
                  </a:cubicBezTo>
                  <a:cubicBezTo>
                    <a:pt x="232" y="83"/>
                    <a:pt x="227" y="96"/>
                    <a:pt x="222" y="109"/>
                  </a:cubicBezTo>
                  <a:cubicBezTo>
                    <a:pt x="222" y="107"/>
                    <a:pt x="222" y="106"/>
                    <a:pt x="221" y="104"/>
                  </a:cubicBezTo>
                  <a:cubicBezTo>
                    <a:pt x="223" y="97"/>
                    <a:pt x="226" y="90"/>
                    <a:pt x="229" y="84"/>
                  </a:cubicBezTo>
                  <a:cubicBezTo>
                    <a:pt x="226" y="90"/>
                    <a:pt x="223" y="96"/>
                    <a:pt x="221" y="102"/>
                  </a:cubicBezTo>
                  <a:cubicBezTo>
                    <a:pt x="221" y="102"/>
                    <a:pt x="220" y="101"/>
                    <a:pt x="220" y="101"/>
                  </a:cubicBezTo>
                  <a:cubicBezTo>
                    <a:pt x="222" y="77"/>
                    <a:pt x="218" y="62"/>
                    <a:pt x="218" y="62"/>
                  </a:cubicBezTo>
                  <a:cubicBezTo>
                    <a:pt x="219" y="69"/>
                    <a:pt x="219" y="80"/>
                    <a:pt x="218" y="91"/>
                  </a:cubicBezTo>
                  <a:cubicBezTo>
                    <a:pt x="217" y="89"/>
                    <a:pt x="217" y="88"/>
                    <a:pt x="216" y="87"/>
                  </a:cubicBezTo>
                  <a:cubicBezTo>
                    <a:pt x="216" y="88"/>
                    <a:pt x="216" y="88"/>
                    <a:pt x="216" y="88"/>
                  </a:cubicBezTo>
                  <a:cubicBezTo>
                    <a:pt x="216" y="90"/>
                    <a:pt x="217" y="93"/>
                    <a:pt x="217" y="96"/>
                  </a:cubicBezTo>
                  <a:cubicBezTo>
                    <a:pt x="216" y="101"/>
                    <a:pt x="216" y="105"/>
                    <a:pt x="215" y="110"/>
                  </a:cubicBezTo>
                  <a:cubicBezTo>
                    <a:pt x="214" y="109"/>
                    <a:pt x="214" y="107"/>
                    <a:pt x="213" y="106"/>
                  </a:cubicBezTo>
                  <a:cubicBezTo>
                    <a:pt x="214" y="103"/>
                    <a:pt x="214" y="99"/>
                    <a:pt x="215" y="96"/>
                  </a:cubicBezTo>
                  <a:cubicBezTo>
                    <a:pt x="214" y="98"/>
                    <a:pt x="213" y="100"/>
                    <a:pt x="212" y="103"/>
                  </a:cubicBezTo>
                  <a:cubicBezTo>
                    <a:pt x="211" y="101"/>
                    <a:pt x="210" y="99"/>
                    <a:pt x="210" y="98"/>
                  </a:cubicBezTo>
                  <a:cubicBezTo>
                    <a:pt x="210" y="89"/>
                    <a:pt x="211" y="82"/>
                    <a:pt x="211" y="82"/>
                  </a:cubicBezTo>
                  <a:cubicBezTo>
                    <a:pt x="209" y="97"/>
                    <a:pt x="209" y="97"/>
                    <a:pt x="209" y="97"/>
                  </a:cubicBezTo>
                  <a:cubicBezTo>
                    <a:pt x="208" y="94"/>
                    <a:pt x="207" y="92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90"/>
                    <a:pt x="206" y="90"/>
                    <a:pt x="206" y="90"/>
                  </a:cubicBezTo>
                  <a:cubicBezTo>
                    <a:pt x="206" y="89"/>
                    <a:pt x="206" y="89"/>
                    <a:pt x="205" y="88"/>
                  </a:cubicBezTo>
                  <a:cubicBezTo>
                    <a:pt x="205" y="83"/>
                    <a:pt x="205" y="78"/>
                    <a:pt x="205" y="73"/>
                  </a:cubicBezTo>
                  <a:cubicBezTo>
                    <a:pt x="208" y="70"/>
                    <a:pt x="211" y="66"/>
                    <a:pt x="214" y="63"/>
                  </a:cubicBezTo>
                  <a:cubicBezTo>
                    <a:pt x="211" y="66"/>
                    <a:pt x="208" y="69"/>
                    <a:pt x="205" y="71"/>
                  </a:cubicBezTo>
                  <a:cubicBezTo>
                    <a:pt x="205" y="65"/>
                    <a:pt x="205" y="60"/>
                    <a:pt x="205" y="60"/>
                  </a:cubicBezTo>
                  <a:cubicBezTo>
                    <a:pt x="205" y="64"/>
                    <a:pt x="204" y="68"/>
                    <a:pt x="204" y="72"/>
                  </a:cubicBezTo>
                  <a:cubicBezTo>
                    <a:pt x="203" y="74"/>
                    <a:pt x="201" y="75"/>
                    <a:pt x="200" y="77"/>
                  </a:cubicBezTo>
                  <a:cubicBezTo>
                    <a:pt x="200" y="70"/>
                    <a:pt x="200" y="64"/>
                    <a:pt x="200" y="64"/>
                  </a:cubicBezTo>
                  <a:cubicBezTo>
                    <a:pt x="200" y="66"/>
                    <a:pt x="199" y="71"/>
                    <a:pt x="198" y="78"/>
                  </a:cubicBezTo>
                  <a:cubicBezTo>
                    <a:pt x="196" y="81"/>
                    <a:pt x="193" y="85"/>
                    <a:pt x="191" y="88"/>
                  </a:cubicBezTo>
                  <a:cubicBezTo>
                    <a:pt x="191" y="64"/>
                    <a:pt x="191" y="42"/>
                    <a:pt x="191" y="42"/>
                  </a:cubicBezTo>
                  <a:cubicBezTo>
                    <a:pt x="191" y="55"/>
                    <a:pt x="188" y="77"/>
                    <a:pt x="186" y="96"/>
                  </a:cubicBezTo>
                  <a:cubicBezTo>
                    <a:pt x="184" y="100"/>
                    <a:pt x="182" y="104"/>
                    <a:pt x="181" y="107"/>
                  </a:cubicBezTo>
                  <a:cubicBezTo>
                    <a:pt x="181" y="107"/>
                    <a:pt x="180" y="106"/>
                    <a:pt x="180" y="106"/>
                  </a:cubicBezTo>
                  <a:cubicBezTo>
                    <a:pt x="182" y="87"/>
                    <a:pt x="184" y="70"/>
                    <a:pt x="184" y="70"/>
                  </a:cubicBezTo>
                  <a:cubicBezTo>
                    <a:pt x="182" y="74"/>
                    <a:pt x="179" y="98"/>
                    <a:pt x="177" y="118"/>
                  </a:cubicBezTo>
                  <a:cubicBezTo>
                    <a:pt x="177" y="118"/>
                    <a:pt x="177" y="119"/>
                    <a:pt x="177" y="120"/>
                  </a:cubicBezTo>
                  <a:cubicBezTo>
                    <a:pt x="177" y="119"/>
                    <a:pt x="177" y="119"/>
                    <a:pt x="177" y="118"/>
                  </a:cubicBezTo>
                  <a:cubicBezTo>
                    <a:pt x="177" y="119"/>
                    <a:pt x="177" y="119"/>
                    <a:pt x="177" y="120"/>
                  </a:cubicBezTo>
                  <a:cubicBezTo>
                    <a:pt x="177" y="121"/>
                    <a:pt x="176" y="121"/>
                    <a:pt x="176" y="122"/>
                  </a:cubicBezTo>
                  <a:cubicBezTo>
                    <a:pt x="176" y="115"/>
                    <a:pt x="176" y="108"/>
                    <a:pt x="176" y="101"/>
                  </a:cubicBezTo>
                  <a:cubicBezTo>
                    <a:pt x="176" y="101"/>
                    <a:pt x="176" y="100"/>
                    <a:pt x="176" y="100"/>
                  </a:cubicBezTo>
                  <a:cubicBezTo>
                    <a:pt x="176" y="100"/>
                    <a:pt x="176" y="101"/>
                    <a:pt x="176" y="101"/>
                  </a:cubicBezTo>
                  <a:cubicBezTo>
                    <a:pt x="176" y="98"/>
                    <a:pt x="176" y="94"/>
                    <a:pt x="176" y="91"/>
                  </a:cubicBezTo>
                  <a:cubicBezTo>
                    <a:pt x="177" y="88"/>
                    <a:pt x="179" y="85"/>
                    <a:pt x="181" y="83"/>
                  </a:cubicBezTo>
                  <a:cubicBezTo>
                    <a:pt x="179" y="85"/>
                    <a:pt x="177" y="87"/>
                    <a:pt x="176" y="90"/>
                  </a:cubicBezTo>
                  <a:cubicBezTo>
                    <a:pt x="175" y="79"/>
                    <a:pt x="174" y="69"/>
                    <a:pt x="174" y="61"/>
                  </a:cubicBezTo>
                  <a:cubicBezTo>
                    <a:pt x="174" y="73"/>
                    <a:pt x="172" y="87"/>
                    <a:pt x="169" y="100"/>
                  </a:cubicBezTo>
                  <a:cubicBezTo>
                    <a:pt x="165" y="107"/>
                    <a:pt x="162" y="115"/>
                    <a:pt x="160" y="123"/>
                  </a:cubicBezTo>
                  <a:cubicBezTo>
                    <a:pt x="161" y="109"/>
                    <a:pt x="162" y="92"/>
                    <a:pt x="163" y="80"/>
                  </a:cubicBezTo>
                  <a:cubicBezTo>
                    <a:pt x="165" y="73"/>
                    <a:pt x="167" y="67"/>
                    <a:pt x="167" y="61"/>
                  </a:cubicBezTo>
                  <a:cubicBezTo>
                    <a:pt x="166" y="60"/>
                    <a:pt x="166" y="60"/>
                    <a:pt x="166" y="60"/>
                  </a:cubicBezTo>
                  <a:cubicBezTo>
                    <a:pt x="157" y="75"/>
                    <a:pt x="153" y="88"/>
                    <a:pt x="151" y="102"/>
                  </a:cubicBezTo>
                  <a:cubicBezTo>
                    <a:pt x="151" y="102"/>
                    <a:pt x="151" y="101"/>
                    <a:pt x="151" y="101"/>
                  </a:cubicBezTo>
                  <a:cubicBezTo>
                    <a:pt x="152" y="68"/>
                    <a:pt x="155" y="30"/>
                    <a:pt x="155" y="30"/>
                  </a:cubicBezTo>
                  <a:cubicBezTo>
                    <a:pt x="153" y="38"/>
                    <a:pt x="150" y="60"/>
                    <a:pt x="148" y="83"/>
                  </a:cubicBezTo>
                  <a:cubicBezTo>
                    <a:pt x="145" y="87"/>
                    <a:pt x="143" y="92"/>
                    <a:pt x="140" y="97"/>
                  </a:cubicBezTo>
                  <a:cubicBezTo>
                    <a:pt x="140" y="91"/>
                    <a:pt x="139" y="85"/>
                    <a:pt x="139" y="79"/>
                  </a:cubicBezTo>
                  <a:cubicBezTo>
                    <a:pt x="139" y="78"/>
                    <a:pt x="139" y="78"/>
                    <a:pt x="140" y="78"/>
                  </a:cubicBezTo>
                  <a:cubicBezTo>
                    <a:pt x="139" y="78"/>
                    <a:pt x="139" y="78"/>
                    <a:pt x="139" y="78"/>
                  </a:cubicBezTo>
                  <a:cubicBezTo>
                    <a:pt x="137" y="58"/>
                    <a:pt x="136" y="41"/>
                    <a:pt x="136" y="41"/>
                  </a:cubicBezTo>
                  <a:cubicBezTo>
                    <a:pt x="137" y="52"/>
                    <a:pt x="137" y="67"/>
                    <a:pt x="136" y="82"/>
                  </a:cubicBezTo>
                  <a:cubicBezTo>
                    <a:pt x="134" y="84"/>
                    <a:pt x="132" y="87"/>
                    <a:pt x="130" y="92"/>
                  </a:cubicBezTo>
                  <a:cubicBezTo>
                    <a:pt x="130" y="82"/>
                    <a:pt x="130" y="72"/>
                    <a:pt x="130" y="68"/>
                  </a:cubicBezTo>
                  <a:cubicBezTo>
                    <a:pt x="129" y="77"/>
                    <a:pt x="128" y="88"/>
                    <a:pt x="126" y="99"/>
                  </a:cubicBezTo>
                  <a:cubicBezTo>
                    <a:pt x="125" y="94"/>
                    <a:pt x="123" y="89"/>
                    <a:pt x="121" y="84"/>
                  </a:cubicBezTo>
                  <a:cubicBezTo>
                    <a:pt x="123" y="90"/>
                    <a:pt x="125" y="96"/>
                    <a:pt x="126" y="101"/>
                  </a:cubicBezTo>
                  <a:cubicBezTo>
                    <a:pt x="125" y="105"/>
                    <a:pt x="124" y="109"/>
                    <a:pt x="123" y="113"/>
                  </a:cubicBezTo>
                  <a:cubicBezTo>
                    <a:pt x="123" y="110"/>
                    <a:pt x="123" y="108"/>
                    <a:pt x="123" y="105"/>
                  </a:cubicBezTo>
                  <a:cubicBezTo>
                    <a:pt x="122" y="108"/>
                    <a:pt x="122" y="115"/>
                    <a:pt x="122" y="119"/>
                  </a:cubicBezTo>
                  <a:cubicBezTo>
                    <a:pt x="122" y="120"/>
                    <a:pt x="121" y="122"/>
                    <a:pt x="121" y="124"/>
                  </a:cubicBezTo>
                  <a:cubicBezTo>
                    <a:pt x="120" y="125"/>
                    <a:pt x="120" y="127"/>
                    <a:pt x="120" y="128"/>
                  </a:cubicBezTo>
                  <a:cubicBezTo>
                    <a:pt x="119" y="124"/>
                    <a:pt x="118" y="120"/>
                    <a:pt x="117" y="116"/>
                  </a:cubicBezTo>
                  <a:cubicBezTo>
                    <a:pt x="118" y="108"/>
                    <a:pt x="119" y="100"/>
                    <a:pt x="119" y="94"/>
                  </a:cubicBezTo>
                  <a:cubicBezTo>
                    <a:pt x="120" y="92"/>
                    <a:pt x="120" y="91"/>
                    <a:pt x="121" y="89"/>
                  </a:cubicBezTo>
                  <a:cubicBezTo>
                    <a:pt x="121" y="90"/>
                    <a:pt x="120" y="91"/>
                    <a:pt x="119" y="92"/>
                  </a:cubicBezTo>
                  <a:cubicBezTo>
                    <a:pt x="120" y="87"/>
                    <a:pt x="120" y="83"/>
                    <a:pt x="120" y="83"/>
                  </a:cubicBezTo>
                  <a:cubicBezTo>
                    <a:pt x="120" y="85"/>
                    <a:pt x="119" y="89"/>
                    <a:pt x="118" y="93"/>
                  </a:cubicBezTo>
                  <a:cubicBezTo>
                    <a:pt x="117" y="96"/>
                    <a:pt x="115" y="99"/>
                    <a:pt x="114" y="102"/>
                  </a:cubicBezTo>
                  <a:cubicBezTo>
                    <a:pt x="113" y="101"/>
                    <a:pt x="113" y="100"/>
                    <a:pt x="113" y="99"/>
                  </a:cubicBezTo>
                  <a:cubicBezTo>
                    <a:pt x="115" y="80"/>
                    <a:pt x="117" y="62"/>
                    <a:pt x="117" y="62"/>
                  </a:cubicBezTo>
                  <a:cubicBezTo>
                    <a:pt x="115" y="66"/>
                    <a:pt x="113" y="80"/>
                    <a:pt x="111" y="95"/>
                  </a:cubicBezTo>
                  <a:cubicBezTo>
                    <a:pt x="111" y="94"/>
                    <a:pt x="110" y="92"/>
                    <a:pt x="109" y="90"/>
                  </a:cubicBezTo>
                  <a:cubicBezTo>
                    <a:pt x="110" y="92"/>
                    <a:pt x="111" y="94"/>
                    <a:pt x="111" y="96"/>
                  </a:cubicBezTo>
                  <a:cubicBezTo>
                    <a:pt x="111" y="101"/>
                    <a:pt x="110" y="106"/>
                    <a:pt x="110" y="110"/>
                  </a:cubicBezTo>
                  <a:cubicBezTo>
                    <a:pt x="109" y="113"/>
                    <a:pt x="108" y="116"/>
                    <a:pt x="107" y="118"/>
                  </a:cubicBezTo>
                  <a:cubicBezTo>
                    <a:pt x="106" y="94"/>
                    <a:pt x="101" y="64"/>
                    <a:pt x="101" y="64"/>
                  </a:cubicBezTo>
                  <a:cubicBezTo>
                    <a:pt x="101" y="64"/>
                    <a:pt x="101" y="73"/>
                    <a:pt x="101" y="82"/>
                  </a:cubicBezTo>
                  <a:cubicBezTo>
                    <a:pt x="102" y="88"/>
                    <a:pt x="101" y="98"/>
                    <a:pt x="99" y="108"/>
                  </a:cubicBezTo>
                  <a:cubicBezTo>
                    <a:pt x="98" y="111"/>
                    <a:pt x="97" y="114"/>
                    <a:pt x="96" y="117"/>
                  </a:cubicBezTo>
                  <a:cubicBezTo>
                    <a:pt x="96" y="108"/>
                    <a:pt x="95" y="99"/>
                    <a:pt x="93" y="90"/>
                  </a:cubicBezTo>
                  <a:cubicBezTo>
                    <a:pt x="97" y="78"/>
                    <a:pt x="101" y="66"/>
                    <a:pt x="100" y="56"/>
                  </a:cubicBezTo>
                  <a:cubicBezTo>
                    <a:pt x="97" y="62"/>
                    <a:pt x="95" y="67"/>
                    <a:pt x="92" y="72"/>
                  </a:cubicBezTo>
                  <a:cubicBezTo>
                    <a:pt x="95" y="34"/>
                    <a:pt x="88" y="19"/>
                    <a:pt x="88" y="19"/>
                  </a:cubicBezTo>
                  <a:cubicBezTo>
                    <a:pt x="88" y="19"/>
                    <a:pt x="92" y="31"/>
                    <a:pt x="90" y="54"/>
                  </a:cubicBezTo>
                  <a:cubicBezTo>
                    <a:pt x="89" y="61"/>
                    <a:pt x="88" y="74"/>
                    <a:pt x="87" y="88"/>
                  </a:cubicBezTo>
                  <a:cubicBezTo>
                    <a:pt x="85" y="92"/>
                    <a:pt x="85" y="97"/>
                    <a:pt x="84" y="101"/>
                  </a:cubicBezTo>
                  <a:cubicBezTo>
                    <a:pt x="83" y="98"/>
                    <a:pt x="82" y="95"/>
                    <a:pt x="81" y="91"/>
                  </a:cubicBezTo>
                  <a:cubicBezTo>
                    <a:pt x="81" y="89"/>
                    <a:pt x="81" y="87"/>
                    <a:pt x="82" y="85"/>
                  </a:cubicBezTo>
                  <a:cubicBezTo>
                    <a:pt x="81" y="87"/>
                    <a:pt x="81" y="88"/>
                    <a:pt x="80" y="90"/>
                  </a:cubicBezTo>
                  <a:cubicBezTo>
                    <a:pt x="80" y="89"/>
                    <a:pt x="79" y="88"/>
                    <a:pt x="79" y="87"/>
                  </a:cubicBezTo>
                  <a:cubicBezTo>
                    <a:pt x="79" y="83"/>
                    <a:pt x="79" y="78"/>
                    <a:pt x="79" y="74"/>
                  </a:cubicBezTo>
                  <a:cubicBezTo>
                    <a:pt x="79" y="46"/>
                    <a:pt x="69" y="40"/>
                    <a:pt x="69" y="40"/>
                  </a:cubicBezTo>
                  <a:cubicBezTo>
                    <a:pt x="69" y="40"/>
                    <a:pt x="75" y="44"/>
                    <a:pt x="75" y="70"/>
                  </a:cubicBezTo>
                  <a:cubicBezTo>
                    <a:pt x="75" y="84"/>
                    <a:pt x="70" y="108"/>
                    <a:pt x="65" y="125"/>
                  </a:cubicBezTo>
                  <a:cubicBezTo>
                    <a:pt x="65" y="123"/>
                    <a:pt x="65" y="120"/>
                    <a:pt x="64" y="118"/>
                  </a:cubicBezTo>
                  <a:cubicBezTo>
                    <a:pt x="65" y="111"/>
                    <a:pt x="66" y="105"/>
                    <a:pt x="66" y="98"/>
                  </a:cubicBezTo>
                  <a:cubicBezTo>
                    <a:pt x="65" y="101"/>
                    <a:pt x="64" y="104"/>
                    <a:pt x="64" y="107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4" y="97"/>
                    <a:pt x="65" y="83"/>
                    <a:pt x="72" y="75"/>
                  </a:cubicBezTo>
                  <a:cubicBezTo>
                    <a:pt x="68" y="77"/>
                    <a:pt x="65" y="82"/>
                    <a:pt x="63" y="87"/>
                  </a:cubicBezTo>
                  <a:cubicBezTo>
                    <a:pt x="64" y="78"/>
                    <a:pt x="64" y="71"/>
                    <a:pt x="64" y="71"/>
                  </a:cubicBezTo>
                  <a:cubicBezTo>
                    <a:pt x="64" y="75"/>
                    <a:pt x="60" y="97"/>
                    <a:pt x="56" y="116"/>
                  </a:cubicBezTo>
                  <a:cubicBezTo>
                    <a:pt x="56" y="114"/>
                    <a:pt x="56" y="112"/>
                    <a:pt x="55" y="110"/>
                  </a:cubicBezTo>
                  <a:cubicBezTo>
                    <a:pt x="56" y="99"/>
                    <a:pt x="57" y="87"/>
                    <a:pt x="58" y="78"/>
                  </a:cubicBezTo>
                  <a:cubicBezTo>
                    <a:pt x="60" y="71"/>
                    <a:pt x="62" y="63"/>
                    <a:pt x="65" y="55"/>
                  </a:cubicBezTo>
                  <a:cubicBezTo>
                    <a:pt x="65" y="54"/>
                    <a:pt x="64" y="52"/>
                    <a:pt x="64" y="51"/>
                  </a:cubicBezTo>
                  <a:cubicBezTo>
                    <a:pt x="62" y="54"/>
                    <a:pt x="61" y="57"/>
                    <a:pt x="60" y="60"/>
                  </a:cubicBezTo>
                  <a:cubicBezTo>
                    <a:pt x="60" y="60"/>
                    <a:pt x="60" y="59"/>
                    <a:pt x="60" y="59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56" y="70"/>
                    <a:pt x="53" y="80"/>
                    <a:pt x="51" y="89"/>
                  </a:cubicBezTo>
                  <a:cubicBezTo>
                    <a:pt x="56" y="30"/>
                    <a:pt x="53" y="15"/>
                    <a:pt x="52" y="13"/>
                  </a:cubicBezTo>
                  <a:cubicBezTo>
                    <a:pt x="52" y="15"/>
                    <a:pt x="53" y="22"/>
                    <a:pt x="49" y="56"/>
                  </a:cubicBezTo>
                  <a:cubicBezTo>
                    <a:pt x="47" y="68"/>
                    <a:pt x="46" y="80"/>
                    <a:pt x="44" y="91"/>
                  </a:cubicBezTo>
                  <a:cubicBezTo>
                    <a:pt x="43" y="85"/>
                    <a:pt x="41" y="79"/>
                    <a:pt x="39" y="74"/>
                  </a:cubicBezTo>
                  <a:cubicBezTo>
                    <a:pt x="40" y="51"/>
                    <a:pt x="41" y="31"/>
                    <a:pt x="41" y="31"/>
                  </a:cubicBezTo>
                  <a:cubicBezTo>
                    <a:pt x="39" y="38"/>
                    <a:pt x="38" y="53"/>
                    <a:pt x="36" y="69"/>
                  </a:cubicBezTo>
                  <a:cubicBezTo>
                    <a:pt x="35" y="68"/>
                    <a:pt x="34" y="67"/>
                    <a:pt x="33" y="65"/>
                  </a:cubicBezTo>
                  <a:cubicBezTo>
                    <a:pt x="34" y="67"/>
                    <a:pt x="35" y="69"/>
                    <a:pt x="36" y="71"/>
                  </a:cubicBezTo>
                  <a:cubicBezTo>
                    <a:pt x="36" y="71"/>
                    <a:pt x="36" y="72"/>
                    <a:pt x="36" y="73"/>
                  </a:cubicBezTo>
                  <a:cubicBezTo>
                    <a:pt x="33" y="77"/>
                    <a:pt x="31" y="81"/>
                    <a:pt x="28" y="86"/>
                  </a:cubicBezTo>
                  <a:cubicBezTo>
                    <a:pt x="28" y="85"/>
                    <a:pt x="27" y="84"/>
                    <a:pt x="26" y="83"/>
                  </a:cubicBezTo>
                  <a:cubicBezTo>
                    <a:pt x="24" y="61"/>
                    <a:pt x="21" y="38"/>
                    <a:pt x="18" y="28"/>
                  </a:cubicBezTo>
                  <a:cubicBezTo>
                    <a:pt x="18" y="28"/>
                    <a:pt x="22" y="54"/>
                    <a:pt x="26" y="83"/>
                  </a:cubicBezTo>
                  <a:cubicBezTo>
                    <a:pt x="25" y="82"/>
                    <a:pt x="24" y="81"/>
                    <a:pt x="22" y="80"/>
                  </a:cubicBezTo>
                  <a:cubicBezTo>
                    <a:pt x="24" y="81"/>
                    <a:pt x="25" y="82"/>
                    <a:pt x="26" y="84"/>
                  </a:cubicBezTo>
                  <a:cubicBezTo>
                    <a:pt x="26" y="85"/>
                    <a:pt x="26" y="86"/>
                    <a:pt x="26" y="88"/>
                  </a:cubicBezTo>
                  <a:cubicBezTo>
                    <a:pt x="26" y="86"/>
                    <a:pt x="26" y="85"/>
                    <a:pt x="26" y="84"/>
                  </a:cubicBezTo>
                  <a:cubicBezTo>
                    <a:pt x="27" y="85"/>
                    <a:pt x="27" y="86"/>
                    <a:pt x="28" y="87"/>
                  </a:cubicBezTo>
                  <a:cubicBezTo>
                    <a:pt x="27" y="88"/>
                    <a:pt x="27" y="89"/>
                    <a:pt x="26" y="90"/>
                  </a:cubicBezTo>
                  <a:cubicBezTo>
                    <a:pt x="26" y="89"/>
                    <a:pt x="26" y="88"/>
                    <a:pt x="26" y="88"/>
                  </a:cubicBezTo>
                  <a:cubicBezTo>
                    <a:pt x="26" y="88"/>
                    <a:pt x="26" y="89"/>
                    <a:pt x="26" y="90"/>
                  </a:cubicBezTo>
                  <a:cubicBezTo>
                    <a:pt x="24" y="95"/>
                    <a:pt x="23" y="100"/>
                    <a:pt x="21" y="105"/>
                  </a:cubicBezTo>
                  <a:cubicBezTo>
                    <a:pt x="21" y="105"/>
                    <a:pt x="21" y="105"/>
                    <a:pt x="21" y="105"/>
                  </a:cubicBezTo>
                  <a:cubicBezTo>
                    <a:pt x="21" y="104"/>
                    <a:pt x="22" y="104"/>
                    <a:pt x="22" y="103"/>
                  </a:cubicBezTo>
                  <a:cubicBezTo>
                    <a:pt x="22" y="104"/>
                    <a:pt x="21" y="104"/>
                    <a:pt x="21" y="105"/>
                  </a:cubicBezTo>
                  <a:cubicBezTo>
                    <a:pt x="19" y="95"/>
                    <a:pt x="16" y="87"/>
                    <a:pt x="14" y="81"/>
                  </a:cubicBezTo>
                  <a:cubicBezTo>
                    <a:pt x="15" y="85"/>
                    <a:pt x="16" y="90"/>
                    <a:pt x="17" y="95"/>
                  </a:cubicBezTo>
                  <a:cubicBezTo>
                    <a:pt x="17" y="100"/>
                    <a:pt x="16" y="104"/>
                    <a:pt x="15" y="109"/>
                  </a:cubicBezTo>
                  <a:cubicBezTo>
                    <a:pt x="17" y="104"/>
                    <a:pt x="17" y="100"/>
                    <a:pt x="17" y="95"/>
                  </a:cubicBezTo>
                  <a:cubicBezTo>
                    <a:pt x="18" y="100"/>
                    <a:pt x="19" y="105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19" y="116"/>
                    <a:pt x="17" y="122"/>
                    <a:pt x="15" y="127"/>
                  </a:cubicBezTo>
                  <a:cubicBezTo>
                    <a:pt x="14" y="125"/>
                    <a:pt x="14" y="123"/>
                    <a:pt x="13" y="120"/>
                  </a:cubicBezTo>
                  <a:cubicBezTo>
                    <a:pt x="14" y="117"/>
                    <a:pt x="15" y="113"/>
                    <a:pt x="15" y="109"/>
                  </a:cubicBezTo>
                  <a:cubicBezTo>
                    <a:pt x="15" y="112"/>
                    <a:pt x="14" y="116"/>
                    <a:pt x="13" y="119"/>
                  </a:cubicBezTo>
                  <a:cubicBezTo>
                    <a:pt x="11" y="111"/>
                    <a:pt x="10" y="103"/>
                    <a:pt x="10" y="95"/>
                  </a:cubicBezTo>
                  <a:cubicBezTo>
                    <a:pt x="9" y="96"/>
                    <a:pt x="9" y="96"/>
                    <a:pt x="9" y="96"/>
                  </a:cubicBezTo>
                  <a:cubicBezTo>
                    <a:pt x="9" y="98"/>
                    <a:pt x="9" y="98"/>
                    <a:pt x="9" y="98"/>
                  </a:cubicBezTo>
                  <a:cubicBezTo>
                    <a:pt x="9" y="97"/>
                    <a:pt x="9" y="96"/>
                    <a:pt x="9" y="95"/>
                  </a:cubicBezTo>
                  <a:cubicBezTo>
                    <a:pt x="9" y="84"/>
                    <a:pt x="7" y="69"/>
                    <a:pt x="1" y="60"/>
                  </a:cubicBezTo>
                  <a:cubicBezTo>
                    <a:pt x="6" y="70"/>
                    <a:pt x="7" y="82"/>
                    <a:pt x="7" y="93"/>
                  </a:cubicBezTo>
                  <a:cubicBezTo>
                    <a:pt x="7" y="101"/>
                    <a:pt x="5" y="109"/>
                    <a:pt x="3" y="116"/>
                  </a:cubicBezTo>
                  <a:cubicBezTo>
                    <a:pt x="1" y="115"/>
                    <a:pt x="1" y="117"/>
                    <a:pt x="2" y="120"/>
                  </a:cubicBezTo>
                  <a:cubicBezTo>
                    <a:pt x="2" y="121"/>
                    <a:pt x="2" y="121"/>
                    <a:pt x="1" y="122"/>
                  </a:cubicBezTo>
                  <a:cubicBezTo>
                    <a:pt x="1" y="121"/>
                    <a:pt x="1" y="120"/>
                    <a:pt x="0" y="119"/>
                  </a:cubicBezTo>
                  <a:cubicBezTo>
                    <a:pt x="0" y="166"/>
                    <a:pt x="0" y="166"/>
                    <a:pt x="0" y="166"/>
                  </a:cubicBezTo>
                  <a:cubicBezTo>
                    <a:pt x="90" y="166"/>
                    <a:pt x="179" y="166"/>
                    <a:pt x="269" y="166"/>
                  </a:cubicBezTo>
                  <a:cubicBezTo>
                    <a:pt x="269" y="166"/>
                    <a:pt x="269" y="166"/>
                    <a:pt x="269" y="166"/>
                  </a:cubicBezTo>
                  <a:cubicBezTo>
                    <a:pt x="306" y="166"/>
                    <a:pt x="342" y="166"/>
                    <a:pt x="379" y="166"/>
                  </a:cubicBezTo>
                  <a:cubicBezTo>
                    <a:pt x="416" y="166"/>
                    <a:pt x="453" y="166"/>
                    <a:pt x="490" y="166"/>
                  </a:cubicBezTo>
                  <a:cubicBezTo>
                    <a:pt x="490" y="166"/>
                    <a:pt x="490" y="166"/>
                    <a:pt x="490" y="166"/>
                  </a:cubicBezTo>
                  <a:cubicBezTo>
                    <a:pt x="746" y="166"/>
                    <a:pt x="1002" y="166"/>
                    <a:pt x="1258" y="166"/>
                  </a:cubicBezTo>
                  <a:cubicBezTo>
                    <a:pt x="1258" y="166"/>
                    <a:pt x="1258" y="166"/>
                    <a:pt x="1258" y="166"/>
                  </a:cubicBezTo>
                  <a:cubicBezTo>
                    <a:pt x="1430" y="166"/>
                    <a:pt x="1602" y="166"/>
                    <a:pt x="1773" y="166"/>
                  </a:cubicBezTo>
                  <a:cubicBezTo>
                    <a:pt x="1871" y="166"/>
                    <a:pt x="1969" y="166"/>
                    <a:pt x="2066" y="166"/>
                  </a:cubicBezTo>
                  <a:cubicBezTo>
                    <a:pt x="2066" y="166"/>
                    <a:pt x="2066" y="166"/>
                    <a:pt x="2066" y="166"/>
                  </a:cubicBezTo>
                  <a:cubicBezTo>
                    <a:pt x="2103" y="166"/>
                    <a:pt x="2140" y="166"/>
                    <a:pt x="2177" y="166"/>
                  </a:cubicBezTo>
                  <a:cubicBezTo>
                    <a:pt x="2214" y="166"/>
                    <a:pt x="2251" y="166"/>
                    <a:pt x="2288" y="166"/>
                  </a:cubicBezTo>
                  <a:cubicBezTo>
                    <a:pt x="2288" y="166"/>
                    <a:pt x="2288" y="166"/>
                    <a:pt x="2288" y="166"/>
                  </a:cubicBezTo>
                  <a:cubicBezTo>
                    <a:pt x="2544" y="166"/>
                    <a:pt x="2800" y="166"/>
                    <a:pt x="3056" y="166"/>
                  </a:cubicBezTo>
                  <a:cubicBezTo>
                    <a:pt x="3056" y="166"/>
                    <a:pt x="3056" y="166"/>
                    <a:pt x="3056" y="166"/>
                  </a:cubicBezTo>
                  <a:cubicBezTo>
                    <a:pt x="3228" y="166"/>
                    <a:pt x="3400" y="166"/>
                    <a:pt x="3571" y="166"/>
                  </a:cubicBezTo>
                  <a:cubicBezTo>
                    <a:pt x="3669" y="166"/>
                    <a:pt x="3767" y="166"/>
                    <a:pt x="3864" y="166"/>
                  </a:cubicBezTo>
                  <a:cubicBezTo>
                    <a:pt x="3864" y="166"/>
                    <a:pt x="3864" y="166"/>
                    <a:pt x="3864" y="166"/>
                  </a:cubicBezTo>
                  <a:cubicBezTo>
                    <a:pt x="3901" y="166"/>
                    <a:pt x="3938" y="166"/>
                    <a:pt x="3975" y="166"/>
                  </a:cubicBezTo>
                  <a:cubicBezTo>
                    <a:pt x="4012" y="166"/>
                    <a:pt x="4049" y="166"/>
                    <a:pt x="4086" y="166"/>
                  </a:cubicBezTo>
                  <a:cubicBezTo>
                    <a:pt x="4086" y="166"/>
                    <a:pt x="4086" y="166"/>
                    <a:pt x="4086" y="166"/>
                  </a:cubicBezTo>
                  <a:cubicBezTo>
                    <a:pt x="4312" y="166"/>
                    <a:pt x="4537" y="166"/>
                    <a:pt x="4763" y="166"/>
                  </a:cubicBezTo>
                  <a:cubicBezTo>
                    <a:pt x="4763" y="137"/>
                    <a:pt x="4763" y="137"/>
                    <a:pt x="4763" y="137"/>
                  </a:cubicBezTo>
                  <a:cubicBezTo>
                    <a:pt x="4760" y="119"/>
                    <a:pt x="4755" y="101"/>
                    <a:pt x="4748" y="85"/>
                  </a:cubicBezTo>
                  <a:close/>
                  <a:moveTo>
                    <a:pt x="1" y="154"/>
                  </a:moveTo>
                  <a:cubicBezTo>
                    <a:pt x="1" y="154"/>
                    <a:pt x="1" y="154"/>
                    <a:pt x="1" y="154"/>
                  </a:cubicBezTo>
                  <a:cubicBezTo>
                    <a:pt x="1" y="152"/>
                    <a:pt x="2" y="151"/>
                    <a:pt x="2" y="150"/>
                  </a:cubicBezTo>
                  <a:cubicBezTo>
                    <a:pt x="2" y="150"/>
                    <a:pt x="2" y="151"/>
                    <a:pt x="2" y="151"/>
                  </a:cubicBezTo>
                  <a:cubicBezTo>
                    <a:pt x="2" y="152"/>
                    <a:pt x="1" y="153"/>
                    <a:pt x="1" y="154"/>
                  </a:cubicBezTo>
                  <a:close/>
                  <a:moveTo>
                    <a:pt x="7" y="119"/>
                  </a:move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7" y="120"/>
                    <a:pt x="7" y="120"/>
                    <a:pt x="7" y="119"/>
                  </a:cubicBezTo>
                  <a:close/>
                  <a:moveTo>
                    <a:pt x="6" y="138"/>
                  </a:moveTo>
                  <a:cubicBezTo>
                    <a:pt x="6" y="137"/>
                    <a:pt x="5" y="135"/>
                    <a:pt x="5" y="134"/>
                  </a:cubicBezTo>
                  <a:cubicBezTo>
                    <a:pt x="5" y="134"/>
                    <a:pt x="5" y="134"/>
                    <a:pt x="5" y="133"/>
                  </a:cubicBezTo>
                  <a:cubicBezTo>
                    <a:pt x="5" y="134"/>
                    <a:pt x="6" y="135"/>
                    <a:pt x="6" y="137"/>
                  </a:cubicBezTo>
                  <a:cubicBezTo>
                    <a:pt x="6" y="137"/>
                    <a:pt x="6" y="138"/>
                    <a:pt x="6" y="138"/>
                  </a:cubicBezTo>
                  <a:close/>
                  <a:moveTo>
                    <a:pt x="5" y="133"/>
                  </a:moveTo>
                  <a:cubicBezTo>
                    <a:pt x="5" y="132"/>
                    <a:pt x="5" y="131"/>
                    <a:pt x="6" y="130"/>
                  </a:cubicBezTo>
                  <a:cubicBezTo>
                    <a:pt x="6" y="131"/>
                    <a:pt x="7" y="133"/>
                    <a:pt x="7" y="134"/>
                  </a:cubicBezTo>
                  <a:cubicBezTo>
                    <a:pt x="7" y="135"/>
                    <a:pt x="7" y="135"/>
                    <a:pt x="7" y="136"/>
                  </a:cubicBezTo>
                  <a:cubicBezTo>
                    <a:pt x="6" y="134"/>
                    <a:pt x="5" y="133"/>
                    <a:pt x="5" y="133"/>
                  </a:cubicBezTo>
                  <a:close/>
                  <a:moveTo>
                    <a:pt x="8" y="145"/>
                  </a:moveTo>
                  <a:cubicBezTo>
                    <a:pt x="8" y="144"/>
                    <a:pt x="7" y="143"/>
                    <a:pt x="7" y="143"/>
                  </a:cubicBezTo>
                  <a:cubicBezTo>
                    <a:pt x="8" y="142"/>
                    <a:pt x="8" y="141"/>
                    <a:pt x="8" y="140"/>
                  </a:cubicBezTo>
                  <a:cubicBezTo>
                    <a:pt x="8" y="140"/>
                    <a:pt x="8" y="140"/>
                    <a:pt x="8" y="140"/>
                  </a:cubicBezTo>
                  <a:cubicBezTo>
                    <a:pt x="8" y="141"/>
                    <a:pt x="8" y="142"/>
                    <a:pt x="8" y="143"/>
                  </a:cubicBezTo>
                  <a:cubicBezTo>
                    <a:pt x="8" y="143"/>
                    <a:pt x="8" y="144"/>
                    <a:pt x="8" y="145"/>
                  </a:cubicBezTo>
                  <a:close/>
                  <a:moveTo>
                    <a:pt x="18" y="134"/>
                  </a:moveTo>
                  <a:cubicBezTo>
                    <a:pt x="18" y="134"/>
                    <a:pt x="18" y="133"/>
                    <a:pt x="18" y="133"/>
                  </a:cubicBezTo>
                  <a:cubicBezTo>
                    <a:pt x="18" y="132"/>
                    <a:pt x="18" y="130"/>
                    <a:pt x="18" y="129"/>
                  </a:cubicBezTo>
                  <a:cubicBezTo>
                    <a:pt x="18" y="130"/>
                    <a:pt x="18" y="132"/>
                    <a:pt x="18" y="134"/>
                  </a:cubicBezTo>
                  <a:close/>
                  <a:moveTo>
                    <a:pt x="28" y="120"/>
                  </a:moveTo>
                  <a:cubicBezTo>
                    <a:pt x="28" y="117"/>
                    <a:pt x="28" y="115"/>
                    <a:pt x="28" y="112"/>
                  </a:cubicBezTo>
                  <a:cubicBezTo>
                    <a:pt x="28" y="111"/>
                    <a:pt x="28" y="111"/>
                    <a:pt x="28" y="110"/>
                  </a:cubicBezTo>
                  <a:cubicBezTo>
                    <a:pt x="28" y="114"/>
                    <a:pt x="29" y="116"/>
                    <a:pt x="29" y="119"/>
                  </a:cubicBezTo>
                  <a:cubicBezTo>
                    <a:pt x="29" y="119"/>
                    <a:pt x="29" y="120"/>
                    <a:pt x="28" y="120"/>
                  </a:cubicBezTo>
                  <a:close/>
                  <a:moveTo>
                    <a:pt x="30" y="115"/>
                  </a:moveTo>
                  <a:cubicBezTo>
                    <a:pt x="29" y="112"/>
                    <a:pt x="29" y="108"/>
                    <a:pt x="28" y="104"/>
                  </a:cubicBezTo>
                  <a:cubicBezTo>
                    <a:pt x="29" y="101"/>
                    <a:pt x="29" y="97"/>
                    <a:pt x="30" y="93"/>
                  </a:cubicBezTo>
                  <a:cubicBezTo>
                    <a:pt x="31" y="98"/>
                    <a:pt x="32" y="102"/>
                    <a:pt x="32" y="104"/>
                  </a:cubicBezTo>
                  <a:cubicBezTo>
                    <a:pt x="32" y="108"/>
                    <a:pt x="31" y="111"/>
                    <a:pt x="30" y="115"/>
                  </a:cubicBezTo>
                  <a:close/>
                  <a:moveTo>
                    <a:pt x="35" y="102"/>
                  </a:moveTo>
                  <a:cubicBezTo>
                    <a:pt x="35" y="102"/>
                    <a:pt x="35" y="102"/>
                    <a:pt x="35" y="103"/>
                  </a:cubicBezTo>
                  <a:cubicBezTo>
                    <a:pt x="34" y="99"/>
                    <a:pt x="33" y="94"/>
                    <a:pt x="31" y="90"/>
                  </a:cubicBezTo>
                  <a:cubicBezTo>
                    <a:pt x="32" y="84"/>
                    <a:pt x="34" y="78"/>
                    <a:pt x="36" y="73"/>
                  </a:cubicBezTo>
                  <a:cubicBezTo>
                    <a:pt x="36" y="83"/>
                    <a:pt x="35" y="93"/>
                    <a:pt x="35" y="102"/>
                  </a:cubicBezTo>
                  <a:close/>
                  <a:moveTo>
                    <a:pt x="41" y="111"/>
                  </a:moveTo>
                  <a:cubicBezTo>
                    <a:pt x="41" y="111"/>
                    <a:pt x="41" y="111"/>
                    <a:pt x="41" y="111"/>
                  </a:cubicBezTo>
                  <a:cubicBezTo>
                    <a:pt x="41" y="114"/>
                    <a:pt x="40" y="116"/>
                    <a:pt x="40" y="119"/>
                  </a:cubicBezTo>
                  <a:cubicBezTo>
                    <a:pt x="39" y="114"/>
                    <a:pt x="39" y="108"/>
                    <a:pt x="39" y="103"/>
                  </a:cubicBezTo>
                  <a:cubicBezTo>
                    <a:pt x="39" y="97"/>
                    <a:pt x="39" y="91"/>
                    <a:pt x="41" y="85"/>
                  </a:cubicBezTo>
                  <a:cubicBezTo>
                    <a:pt x="40" y="87"/>
                    <a:pt x="39" y="89"/>
                    <a:pt x="38" y="92"/>
                  </a:cubicBezTo>
                  <a:cubicBezTo>
                    <a:pt x="38" y="87"/>
                    <a:pt x="39" y="82"/>
                    <a:pt x="39" y="77"/>
                  </a:cubicBezTo>
                  <a:cubicBezTo>
                    <a:pt x="41" y="83"/>
                    <a:pt x="43" y="90"/>
                    <a:pt x="43" y="96"/>
                  </a:cubicBezTo>
                  <a:cubicBezTo>
                    <a:pt x="43" y="101"/>
                    <a:pt x="42" y="106"/>
                    <a:pt x="41" y="111"/>
                  </a:cubicBezTo>
                  <a:close/>
                  <a:moveTo>
                    <a:pt x="48" y="127"/>
                  </a:moveTo>
                  <a:cubicBezTo>
                    <a:pt x="47" y="132"/>
                    <a:pt x="46" y="134"/>
                    <a:pt x="46" y="134"/>
                  </a:cubicBezTo>
                  <a:cubicBezTo>
                    <a:pt x="47" y="129"/>
                    <a:pt x="47" y="125"/>
                    <a:pt x="48" y="120"/>
                  </a:cubicBezTo>
                  <a:cubicBezTo>
                    <a:pt x="48" y="123"/>
                    <a:pt x="48" y="125"/>
                    <a:pt x="48" y="127"/>
                  </a:cubicBezTo>
                  <a:close/>
                  <a:moveTo>
                    <a:pt x="79" y="92"/>
                  </a:moveTo>
                  <a:cubicBezTo>
                    <a:pt x="79" y="91"/>
                    <a:pt x="79" y="90"/>
                    <a:pt x="79" y="89"/>
                  </a:cubicBezTo>
                  <a:cubicBezTo>
                    <a:pt x="79" y="89"/>
                    <a:pt x="79" y="90"/>
                    <a:pt x="80" y="91"/>
                  </a:cubicBezTo>
                  <a:cubicBezTo>
                    <a:pt x="79" y="91"/>
                    <a:pt x="79" y="92"/>
                    <a:pt x="79" y="92"/>
                  </a:cubicBezTo>
                  <a:close/>
                  <a:moveTo>
                    <a:pt x="82" y="130"/>
                  </a:moveTo>
                  <a:cubicBezTo>
                    <a:pt x="81" y="132"/>
                    <a:pt x="81" y="134"/>
                    <a:pt x="81" y="136"/>
                  </a:cubicBezTo>
                  <a:cubicBezTo>
                    <a:pt x="80" y="127"/>
                    <a:pt x="80" y="119"/>
                    <a:pt x="80" y="110"/>
                  </a:cubicBezTo>
                  <a:cubicBezTo>
                    <a:pt x="80" y="105"/>
                    <a:pt x="80" y="99"/>
                    <a:pt x="80" y="93"/>
                  </a:cubicBezTo>
                  <a:cubicBezTo>
                    <a:pt x="82" y="99"/>
                    <a:pt x="82" y="104"/>
                    <a:pt x="83" y="109"/>
                  </a:cubicBezTo>
                  <a:cubicBezTo>
                    <a:pt x="82" y="116"/>
                    <a:pt x="82" y="123"/>
                    <a:pt x="82" y="130"/>
                  </a:cubicBezTo>
                  <a:close/>
                  <a:moveTo>
                    <a:pt x="91" y="140"/>
                  </a:moveTo>
                  <a:cubicBezTo>
                    <a:pt x="91" y="140"/>
                    <a:pt x="91" y="139"/>
                    <a:pt x="91" y="139"/>
                  </a:cubicBezTo>
                  <a:cubicBezTo>
                    <a:pt x="92" y="100"/>
                    <a:pt x="92" y="100"/>
                    <a:pt x="92" y="100"/>
                  </a:cubicBezTo>
                  <a:cubicBezTo>
                    <a:pt x="92" y="106"/>
                    <a:pt x="93" y="113"/>
                    <a:pt x="93" y="119"/>
                  </a:cubicBezTo>
                  <a:cubicBezTo>
                    <a:pt x="93" y="122"/>
                    <a:pt x="93" y="126"/>
                    <a:pt x="93" y="129"/>
                  </a:cubicBezTo>
                  <a:cubicBezTo>
                    <a:pt x="92" y="133"/>
                    <a:pt x="92" y="136"/>
                    <a:pt x="91" y="140"/>
                  </a:cubicBezTo>
                  <a:close/>
                  <a:moveTo>
                    <a:pt x="112" y="105"/>
                  </a:moveTo>
                  <a:cubicBezTo>
                    <a:pt x="112" y="104"/>
                    <a:pt x="112" y="102"/>
                    <a:pt x="112" y="101"/>
                  </a:cubicBezTo>
                  <a:cubicBezTo>
                    <a:pt x="113" y="102"/>
                    <a:pt x="113" y="103"/>
                    <a:pt x="113" y="103"/>
                  </a:cubicBezTo>
                  <a:cubicBezTo>
                    <a:pt x="113" y="104"/>
                    <a:pt x="112" y="105"/>
                    <a:pt x="112" y="105"/>
                  </a:cubicBezTo>
                  <a:close/>
                  <a:moveTo>
                    <a:pt x="135" y="101"/>
                  </a:moveTo>
                  <a:cubicBezTo>
                    <a:pt x="135" y="101"/>
                    <a:pt x="135" y="101"/>
                    <a:pt x="134" y="100"/>
                  </a:cubicBezTo>
                  <a:cubicBezTo>
                    <a:pt x="135" y="101"/>
                    <a:pt x="135" y="101"/>
                    <a:pt x="135" y="101"/>
                  </a:cubicBezTo>
                  <a:cubicBezTo>
                    <a:pt x="134" y="111"/>
                    <a:pt x="133" y="119"/>
                    <a:pt x="132" y="126"/>
                  </a:cubicBezTo>
                  <a:cubicBezTo>
                    <a:pt x="131" y="122"/>
                    <a:pt x="131" y="118"/>
                    <a:pt x="130" y="114"/>
                  </a:cubicBezTo>
                  <a:cubicBezTo>
                    <a:pt x="130" y="109"/>
                    <a:pt x="130" y="103"/>
                    <a:pt x="130" y="98"/>
                  </a:cubicBezTo>
                  <a:cubicBezTo>
                    <a:pt x="131" y="92"/>
                    <a:pt x="133" y="87"/>
                    <a:pt x="136" y="82"/>
                  </a:cubicBezTo>
                  <a:cubicBezTo>
                    <a:pt x="136" y="89"/>
                    <a:pt x="135" y="95"/>
                    <a:pt x="135" y="101"/>
                  </a:cubicBezTo>
                  <a:close/>
                  <a:moveTo>
                    <a:pt x="145" y="117"/>
                  </a:moveTo>
                  <a:cubicBezTo>
                    <a:pt x="144" y="114"/>
                    <a:pt x="144" y="110"/>
                    <a:pt x="144" y="106"/>
                  </a:cubicBezTo>
                  <a:cubicBezTo>
                    <a:pt x="144" y="99"/>
                    <a:pt x="144" y="90"/>
                    <a:pt x="148" y="83"/>
                  </a:cubicBezTo>
                  <a:cubicBezTo>
                    <a:pt x="146" y="95"/>
                    <a:pt x="145" y="107"/>
                    <a:pt x="145" y="117"/>
                  </a:cubicBezTo>
                  <a:close/>
                  <a:moveTo>
                    <a:pt x="150" y="108"/>
                  </a:moveTo>
                  <a:cubicBezTo>
                    <a:pt x="150" y="106"/>
                    <a:pt x="151" y="104"/>
                    <a:pt x="151" y="102"/>
                  </a:cubicBezTo>
                  <a:cubicBezTo>
                    <a:pt x="151" y="102"/>
                    <a:pt x="151" y="102"/>
                    <a:pt x="151" y="103"/>
                  </a:cubicBezTo>
                  <a:cubicBezTo>
                    <a:pt x="151" y="104"/>
                    <a:pt x="151" y="106"/>
                    <a:pt x="150" y="108"/>
                  </a:cubicBezTo>
                  <a:close/>
                  <a:moveTo>
                    <a:pt x="156" y="111"/>
                  </a:moveTo>
                  <a:cubicBezTo>
                    <a:pt x="156" y="103"/>
                    <a:pt x="159" y="95"/>
                    <a:pt x="161" y="87"/>
                  </a:cubicBezTo>
                  <a:cubicBezTo>
                    <a:pt x="160" y="95"/>
                    <a:pt x="158" y="104"/>
                    <a:pt x="157" y="113"/>
                  </a:cubicBezTo>
                  <a:cubicBezTo>
                    <a:pt x="156" y="112"/>
                    <a:pt x="156" y="112"/>
                    <a:pt x="156" y="111"/>
                  </a:cubicBezTo>
                  <a:close/>
                  <a:moveTo>
                    <a:pt x="180" y="110"/>
                  </a:moveTo>
                  <a:cubicBezTo>
                    <a:pt x="180" y="109"/>
                    <a:pt x="180" y="108"/>
                    <a:pt x="180" y="107"/>
                  </a:cubicBezTo>
                  <a:cubicBezTo>
                    <a:pt x="180" y="107"/>
                    <a:pt x="180" y="108"/>
                    <a:pt x="180" y="108"/>
                  </a:cubicBezTo>
                  <a:cubicBezTo>
                    <a:pt x="180" y="109"/>
                    <a:pt x="180" y="109"/>
                    <a:pt x="180" y="110"/>
                  </a:cubicBezTo>
                  <a:close/>
                  <a:moveTo>
                    <a:pt x="191" y="125"/>
                  </a:moveTo>
                  <a:cubicBezTo>
                    <a:pt x="191" y="123"/>
                    <a:pt x="191" y="122"/>
                    <a:pt x="191" y="120"/>
                  </a:cubicBezTo>
                  <a:cubicBezTo>
                    <a:pt x="191" y="121"/>
                    <a:pt x="191" y="122"/>
                    <a:pt x="191" y="123"/>
                  </a:cubicBezTo>
                  <a:cubicBezTo>
                    <a:pt x="191" y="123"/>
                    <a:pt x="191" y="124"/>
                    <a:pt x="191" y="125"/>
                  </a:cubicBezTo>
                  <a:close/>
                  <a:moveTo>
                    <a:pt x="194" y="115"/>
                  </a:moveTo>
                  <a:cubicBezTo>
                    <a:pt x="194" y="117"/>
                    <a:pt x="193" y="118"/>
                    <a:pt x="193" y="119"/>
                  </a:cubicBezTo>
                  <a:cubicBezTo>
                    <a:pt x="192" y="118"/>
                    <a:pt x="191" y="116"/>
                    <a:pt x="191" y="114"/>
                  </a:cubicBezTo>
                  <a:cubicBezTo>
                    <a:pt x="191" y="110"/>
                    <a:pt x="191" y="105"/>
                    <a:pt x="191" y="100"/>
                  </a:cubicBezTo>
                  <a:cubicBezTo>
                    <a:pt x="193" y="94"/>
                    <a:pt x="195" y="89"/>
                    <a:pt x="198" y="84"/>
                  </a:cubicBezTo>
                  <a:cubicBezTo>
                    <a:pt x="197" y="93"/>
                    <a:pt x="195" y="105"/>
                    <a:pt x="194" y="115"/>
                  </a:cubicBezTo>
                  <a:close/>
                  <a:moveTo>
                    <a:pt x="202" y="90"/>
                  </a:moveTo>
                  <a:cubicBezTo>
                    <a:pt x="201" y="88"/>
                    <a:pt x="200" y="84"/>
                    <a:pt x="200" y="80"/>
                  </a:cubicBezTo>
                  <a:cubicBezTo>
                    <a:pt x="200" y="80"/>
                    <a:pt x="200" y="80"/>
                    <a:pt x="200" y="80"/>
                  </a:cubicBezTo>
                  <a:cubicBezTo>
                    <a:pt x="201" y="81"/>
                    <a:pt x="202" y="83"/>
                    <a:pt x="203" y="84"/>
                  </a:cubicBezTo>
                  <a:cubicBezTo>
                    <a:pt x="202" y="88"/>
                    <a:pt x="202" y="90"/>
                    <a:pt x="202" y="90"/>
                  </a:cubicBezTo>
                  <a:close/>
                  <a:moveTo>
                    <a:pt x="203" y="83"/>
                  </a:moveTo>
                  <a:cubicBezTo>
                    <a:pt x="202" y="81"/>
                    <a:pt x="201" y="80"/>
                    <a:pt x="201" y="79"/>
                  </a:cubicBezTo>
                  <a:cubicBezTo>
                    <a:pt x="202" y="78"/>
                    <a:pt x="203" y="76"/>
                    <a:pt x="204" y="75"/>
                  </a:cubicBezTo>
                  <a:cubicBezTo>
                    <a:pt x="203" y="78"/>
                    <a:pt x="203" y="81"/>
                    <a:pt x="203" y="83"/>
                  </a:cubicBezTo>
                  <a:close/>
                  <a:moveTo>
                    <a:pt x="209" y="104"/>
                  </a:moveTo>
                  <a:cubicBezTo>
                    <a:pt x="210" y="105"/>
                    <a:pt x="210" y="107"/>
                    <a:pt x="210" y="109"/>
                  </a:cubicBezTo>
                  <a:cubicBezTo>
                    <a:pt x="210" y="111"/>
                    <a:pt x="209" y="112"/>
                    <a:pt x="209" y="114"/>
                  </a:cubicBezTo>
                  <a:cubicBezTo>
                    <a:pt x="209" y="110"/>
                    <a:pt x="209" y="107"/>
                    <a:pt x="209" y="104"/>
                  </a:cubicBezTo>
                  <a:close/>
                  <a:moveTo>
                    <a:pt x="205" y="91"/>
                  </a:moveTo>
                  <a:cubicBezTo>
                    <a:pt x="206" y="91"/>
                    <a:pt x="206" y="91"/>
                    <a:pt x="206" y="91"/>
                  </a:cubicBezTo>
                  <a:cubicBezTo>
                    <a:pt x="206" y="91"/>
                    <a:pt x="206" y="91"/>
                    <a:pt x="205" y="91"/>
                  </a:cubicBezTo>
                  <a:close/>
                  <a:moveTo>
                    <a:pt x="206" y="124"/>
                  </a:moveTo>
                  <a:cubicBezTo>
                    <a:pt x="206" y="114"/>
                    <a:pt x="206" y="102"/>
                    <a:pt x="205" y="91"/>
                  </a:cubicBezTo>
                  <a:cubicBezTo>
                    <a:pt x="206" y="91"/>
                    <a:pt x="206" y="91"/>
                    <a:pt x="206" y="91"/>
                  </a:cubicBezTo>
                  <a:cubicBezTo>
                    <a:pt x="207" y="94"/>
                    <a:pt x="208" y="98"/>
                    <a:pt x="209" y="101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6" y="121"/>
                    <a:pt x="206" y="122"/>
                    <a:pt x="206" y="124"/>
                  </a:cubicBezTo>
                  <a:close/>
                  <a:moveTo>
                    <a:pt x="208" y="136"/>
                  </a:moveTo>
                  <a:cubicBezTo>
                    <a:pt x="208" y="134"/>
                    <a:pt x="208" y="133"/>
                    <a:pt x="208" y="131"/>
                  </a:cubicBezTo>
                  <a:cubicBezTo>
                    <a:pt x="209" y="126"/>
                    <a:pt x="211" y="121"/>
                    <a:pt x="212" y="116"/>
                  </a:cubicBezTo>
                  <a:cubicBezTo>
                    <a:pt x="212" y="118"/>
                    <a:pt x="212" y="121"/>
                    <a:pt x="213" y="123"/>
                  </a:cubicBezTo>
                  <a:cubicBezTo>
                    <a:pt x="213" y="124"/>
                    <a:pt x="212" y="124"/>
                    <a:pt x="212" y="124"/>
                  </a:cubicBezTo>
                  <a:cubicBezTo>
                    <a:pt x="211" y="128"/>
                    <a:pt x="210" y="132"/>
                    <a:pt x="208" y="136"/>
                  </a:cubicBezTo>
                  <a:close/>
                  <a:moveTo>
                    <a:pt x="212" y="141"/>
                  </a:moveTo>
                  <a:cubicBezTo>
                    <a:pt x="212" y="141"/>
                    <a:pt x="213" y="141"/>
                    <a:pt x="213" y="140"/>
                  </a:cubicBezTo>
                  <a:cubicBezTo>
                    <a:pt x="213" y="139"/>
                    <a:pt x="213" y="137"/>
                    <a:pt x="214" y="135"/>
                  </a:cubicBezTo>
                  <a:cubicBezTo>
                    <a:pt x="214" y="135"/>
                    <a:pt x="214" y="135"/>
                    <a:pt x="214" y="135"/>
                  </a:cubicBezTo>
                  <a:cubicBezTo>
                    <a:pt x="214" y="137"/>
                    <a:pt x="213" y="139"/>
                    <a:pt x="212" y="141"/>
                  </a:cubicBezTo>
                  <a:close/>
                  <a:moveTo>
                    <a:pt x="219" y="119"/>
                  </a:moveTo>
                  <a:cubicBezTo>
                    <a:pt x="219" y="119"/>
                    <a:pt x="218" y="118"/>
                    <a:pt x="218" y="118"/>
                  </a:cubicBezTo>
                  <a:cubicBezTo>
                    <a:pt x="218" y="116"/>
                    <a:pt x="219" y="115"/>
                    <a:pt x="219" y="113"/>
                  </a:cubicBezTo>
                  <a:cubicBezTo>
                    <a:pt x="219" y="112"/>
                    <a:pt x="219" y="112"/>
                    <a:pt x="219" y="111"/>
                  </a:cubicBezTo>
                  <a:cubicBezTo>
                    <a:pt x="220" y="112"/>
                    <a:pt x="220" y="113"/>
                    <a:pt x="220" y="115"/>
                  </a:cubicBezTo>
                  <a:cubicBezTo>
                    <a:pt x="220" y="116"/>
                    <a:pt x="219" y="118"/>
                    <a:pt x="219" y="119"/>
                  </a:cubicBezTo>
                  <a:close/>
                  <a:moveTo>
                    <a:pt x="226" y="136"/>
                  </a:moveTo>
                  <a:cubicBezTo>
                    <a:pt x="225" y="135"/>
                    <a:pt x="225" y="134"/>
                    <a:pt x="224" y="133"/>
                  </a:cubicBezTo>
                  <a:cubicBezTo>
                    <a:pt x="224" y="132"/>
                    <a:pt x="224" y="132"/>
                    <a:pt x="224" y="131"/>
                  </a:cubicBezTo>
                  <a:cubicBezTo>
                    <a:pt x="225" y="133"/>
                    <a:pt x="225" y="134"/>
                    <a:pt x="226" y="136"/>
                  </a:cubicBezTo>
                  <a:cubicBezTo>
                    <a:pt x="226" y="136"/>
                    <a:pt x="226" y="136"/>
                    <a:pt x="226" y="136"/>
                  </a:cubicBezTo>
                  <a:close/>
                  <a:moveTo>
                    <a:pt x="240" y="118"/>
                  </a:moveTo>
                  <a:cubicBezTo>
                    <a:pt x="240" y="118"/>
                    <a:pt x="240" y="117"/>
                    <a:pt x="240" y="117"/>
                  </a:cubicBezTo>
                  <a:cubicBezTo>
                    <a:pt x="240" y="117"/>
                    <a:pt x="240" y="117"/>
                    <a:pt x="240" y="117"/>
                  </a:cubicBezTo>
                  <a:cubicBezTo>
                    <a:pt x="240" y="118"/>
                    <a:pt x="240" y="118"/>
                    <a:pt x="240" y="118"/>
                  </a:cubicBezTo>
                  <a:close/>
                  <a:moveTo>
                    <a:pt x="246" y="105"/>
                  </a:moveTo>
                  <a:cubicBezTo>
                    <a:pt x="245" y="106"/>
                    <a:pt x="244" y="107"/>
                    <a:pt x="244" y="109"/>
                  </a:cubicBezTo>
                  <a:cubicBezTo>
                    <a:pt x="244" y="107"/>
                    <a:pt x="243" y="106"/>
                    <a:pt x="243" y="104"/>
                  </a:cubicBezTo>
                  <a:cubicBezTo>
                    <a:pt x="244" y="101"/>
                    <a:pt x="246" y="98"/>
                    <a:pt x="247" y="94"/>
                  </a:cubicBezTo>
                  <a:cubicBezTo>
                    <a:pt x="247" y="98"/>
                    <a:pt x="246" y="101"/>
                    <a:pt x="246" y="105"/>
                  </a:cubicBezTo>
                  <a:close/>
                  <a:moveTo>
                    <a:pt x="252" y="138"/>
                  </a:moveTo>
                  <a:cubicBezTo>
                    <a:pt x="251" y="137"/>
                    <a:pt x="251" y="136"/>
                    <a:pt x="251" y="135"/>
                  </a:cubicBezTo>
                  <a:cubicBezTo>
                    <a:pt x="251" y="133"/>
                    <a:pt x="251" y="131"/>
                    <a:pt x="251" y="129"/>
                  </a:cubicBezTo>
                  <a:cubicBezTo>
                    <a:pt x="251" y="131"/>
                    <a:pt x="251" y="133"/>
                    <a:pt x="252" y="134"/>
                  </a:cubicBezTo>
                  <a:cubicBezTo>
                    <a:pt x="252" y="135"/>
                    <a:pt x="252" y="137"/>
                    <a:pt x="252" y="138"/>
                  </a:cubicBezTo>
                  <a:close/>
                  <a:moveTo>
                    <a:pt x="253" y="123"/>
                  </a:moveTo>
                  <a:cubicBezTo>
                    <a:pt x="252" y="121"/>
                    <a:pt x="251" y="118"/>
                    <a:pt x="251" y="116"/>
                  </a:cubicBezTo>
                  <a:cubicBezTo>
                    <a:pt x="252" y="112"/>
                    <a:pt x="253" y="107"/>
                    <a:pt x="254" y="103"/>
                  </a:cubicBezTo>
                  <a:cubicBezTo>
                    <a:pt x="254" y="110"/>
                    <a:pt x="253" y="117"/>
                    <a:pt x="253" y="123"/>
                  </a:cubicBezTo>
                  <a:close/>
                  <a:moveTo>
                    <a:pt x="258" y="69"/>
                  </a:moveTo>
                  <a:cubicBezTo>
                    <a:pt x="260" y="72"/>
                    <a:pt x="262" y="75"/>
                    <a:pt x="264" y="79"/>
                  </a:cubicBezTo>
                  <a:cubicBezTo>
                    <a:pt x="263" y="79"/>
                    <a:pt x="263" y="79"/>
                    <a:pt x="263" y="79"/>
                  </a:cubicBezTo>
                  <a:cubicBezTo>
                    <a:pt x="262" y="76"/>
                    <a:pt x="260" y="72"/>
                    <a:pt x="258" y="69"/>
                  </a:cubicBezTo>
                  <a:cubicBezTo>
                    <a:pt x="258" y="69"/>
                    <a:pt x="258" y="69"/>
                    <a:pt x="258" y="69"/>
                  </a:cubicBezTo>
                  <a:close/>
                  <a:moveTo>
                    <a:pt x="258" y="74"/>
                  </a:moveTo>
                  <a:cubicBezTo>
                    <a:pt x="259" y="76"/>
                    <a:pt x="260" y="79"/>
                    <a:pt x="261" y="81"/>
                  </a:cubicBezTo>
                  <a:cubicBezTo>
                    <a:pt x="260" y="82"/>
                    <a:pt x="259" y="83"/>
                    <a:pt x="259" y="85"/>
                  </a:cubicBezTo>
                  <a:cubicBezTo>
                    <a:pt x="258" y="81"/>
                    <a:pt x="258" y="77"/>
                    <a:pt x="258" y="74"/>
                  </a:cubicBezTo>
                  <a:close/>
                  <a:moveTo>
                    <a:pt x="259" y="120"/>
                  </a:moveTo>
                  <a:cubicBezTo>
                    <a:pt x="259" y="115"/>
                    <a:pt x="259" y="111"/>
                    <a:pt x="259" y="106"/>
                  </a:cubicBezTo>
                  <a:cubicBezTo>
                    <a:pt x="260" y="109"/>
                    <a:pt x="260" y="112"/>
                    <a:pt x="261" y="114"/>
                  </a:cubicBezTo>
                  <a:cubicBezTo>
                    <a:pt x="260" y="116"/>
                    <a:pt x="260" y="118"/>
                    <a:pt x="259" y="120"/>
                  </a:cubicBezTo>
                  <a:close/>
                  <a:moveTo>
                    <a:pt x="262" y="109"/>
                  </a:moveTo>
                  <a:cubicBezTo>
                    <a:pt x="261" y="107"/>
                    <a:pt x="260" y="104"/>
                    <a:pt x="259" y="102"/>
                  </a:cubicBezTo>
                  <a:cubicBezTo>
                    <a:pt x="259" y="99"/>
                    <a:pt x="259" y="97"/>
                    <a:pt x="259" y="94"/>
                  </a:cubicBezTo>
                  <a:cubicBezTo>
                    <a:pt x="260" y="98"/>
                    <a:pt x="262" y="102"/>
                    <a:pt x="263" y="107"/>
                  </a:cubicBezTo>
                  <a:cubicBezTo>
                    <a:pt x="263" y="108"/>
                    <a:pt x="262" y="108"/>
                    <a:pt x="262" y="109"/>
                  </a:cubicBezTo>
                  <a:close/>
                  <a:moveTo>
                    <a:pt x="266" y="96"/>
                  </a:moveTo>
                  <a:cubicBezTo>
                    <a:pt x="265" y="98"/>
                    <a:pt x="264" y="101"/>
                    <a:pt x="264" y="104"/>
                  </a:cubicBezTo>
                  <a:cubicBezTo>
                    <a:pt x="262" y="100"/>
                    <a:pt x="261" y="96"/>
                    <a:pt x="259" y="92"/>
                  </a:cubicBezTo>
                  <a:cubicBezTo>
                    <a:pt x="259" y="92"/>
                    <a:pt x="259" y="92"/>
                    <a:pt x="259" y="92"/>
                  </a:cubicBezTo>
                  <a:cubicBezTo>
                    <a:pt x="260" y="89"/>
                    <a:pt x="261" y="86"/>
                    <a:pt x="263" y="84"/>
                  </a:cubicBezTo>
                  <a:cubicBezTo>
                    <a:pt x="264" y="87"/>
                    <a:pt x="265" y="90"/>
                    <a:pt x="266" y="93"/>
                  </a:cubicBezTo>
                  <a:cubicBezTo>
                    <a:pt x="266" y="94"/>
                    <a:pt x="266" y="95"/>
                    <a:pt x="266" y="96"/>
                  </a:cubicBezTo>
                  <a:close/>
                  <a:moveTo>
                    <a:pt x="267" y="90"/>
                  </a:moveTo>
                  <a:cubicBezTo>
                    <a:pt x="266" y="87"/>
                    <a:pt x="265" y="84"/>
                    <a:pt x="264" y="82"/>
                  </a:cubicBezTo>
                  <a:cubicBezTo>
                    <a:pt x="264" y="81"/>
                    <a:pt x="264" y="81"/>
                    <a:pt x="265" y="81"/>
                  </a:cubicBezTo>
                  <a:cubicBezTo>
                    <a:pt x="266" y="83"/>
                    <a:pt x="267" y="86"/>
                    <a:pt x="267" y="89"/>
                  </a:cubicBezTo>
                  <a:cubicBezTo>
                    <a:pt x="267" y="89"/>
                    <a:pt x="267" y="89"/>
                    <a:pt x="267" y="90"/>
                  </a:cubicBezTo>
                  <a:close/>
                  <a:moveTo>
                    <a:pt x="265" y="79"/>
                  </a:moveTo>
                  <a:cubicBezTo>
                    <a:pt x="266" y="78"/>
                    <a:pt x="267" y="77"/>
                    <a:pt x="268" y="76"/>
                  </a:cubicBezTo>
                  <a:cubicBezTo>
                    <a:pt x="268" y="78"/>
                    <a:pt x="269" y="79"/>
                    <a:pt x="269" y="80"/>
                  </a:cubicBezTo>
                  <a:cubicBezTo>
                    <a:pt x="269" y="82"/>
                    <a:pt x="268" y="84"/>
                    <a:pt x="268" y="85"/>
                  </a:cubicBezTo>
                  <a:cubicBezTo>
                    <a:pt x="267" y="83"/>
                    <a:pt x="266" y="81"/>
                    <a:pt x="265" y="79"/>
                  </a:cubicBezTo>
                  <a:close/>
                  <a:moveTo>
                    <a:pt x="268" y="116"/>
                  </a:moveTo>
                  <a:cubicBezTo>
                    <a:pt x="269" y="111"/>
                    <a:pt x="269" y="106"/>
                    <a:pt x="269" y="102"/>
                  </a:cubicBezTo>
                  <a:cubicBezTo>
                    <a:pt x="270" y="105"/>
                    <a:pt x="271" y="108"/>
                    <a:pt x="272" y="111"/>
                  </a:cubicBezTo>
                  <a:cubicBezTo>
                    <a:pt x="271" y="113"/>
                    <a:pt x="270" y="116"/>
                    <a:pt x="269" y="118"/>
                  </a:cubicBezTo>
                  <a:cubicBezTo>
                    <a:pt x="269" y="117"/>
                    <a:pt x="268" y="117"/>
                    <a:pt x="268" y="116"/>
                  </a:cubicBezTo>
                  <a:close/>
                  <a:moveTo>
                    <a:pt x="273" y="130"/>
                  </a:moveTo>
                  <a:cubicBezTo>
                    <a:pt x="272" y="128"/>
                    <a:pt x="272" y="127"/>
                    <a:pt x="271" y="125"/>
                  </a:cubicBezTo>
                  <a:cubicBezTo>
                    <a:pt x="272" y="123"/>
                    <a:pt x="272" y="122"/>
                    <a:pt x="273" y="120"/>
                  </a:cubicBezTo>
                  <a:cubicBezTo>
                    <a:pt x="273" y="122"/>
                    <a:pt x="273" y="124"/>
                    <a:pt x="274" y="127"/>
                  </a:cubicBezTo>
                  <a:cubicBezTo>
                    <a:pt x="273" y="128"/>
                    <a:pt x="273" y="129"/>
                    <a:pt x="273" y="130"/>
                  </a:cubicBezTo>
                  <a:close/>
                  <a:moveTo>
                    <a:pt x="275" y="105"/>
                  </a:moveTo>
                  <a:cubicBezTo>
                    <a:pt x="273" y="100"/>
                    <a:pt x="272" y="95"/>
                    <a:pt x="270" y="91"/>
                  </a:cubicBezTo>
                  <a:cubicBezTo>
                    <a:pt x="270" y="89"/>
                    <a:pt x="270" y="87"/>
                    <a:pt x="271" y="85"/>
                  </a:cubicBezTo>
                  <a:cubicBezTo>
                    <a:pt x="273" y="91"/>
                    <a:pt x="274" y="97"/>
                    <a:pt x="276" y="103"/>
                  </a:cubicBezTo>
                  <a:cubicBezTo>
                    <a:pt x="275" y="104"/>
                    <a:pt x="275" y="105"/>
                    <a:pt x="275" y="105"/>
                  </a:cubicBezTo>
                  <a:close/>
                  <a:moveTo>
                    <a:pt x="277" y="111"/>
                  </a:moveTo>
                  <a:cubicBezTo>
                    <a:pt x="276" y="110"/>
                    <a:pt x="276" y="110"/>
                    <a:pt x="276" y="109"/>
                  </a:cubicBezTo>
                  <a:cubicBezTo>
                    <a:pt x="276" y="109"/>
                    <a:pt x="276" y="108"/>
                    <a:pt x="277" y="107"/>
                  </a:cubicBezTo>
                  <a:cubicBezTo>
                    <a:pt x="277" y="108"/>
                    <a:pt x="277" y="109"/>
                    <a:pt x="277" y="109"/>
                  </a:cubicBezTo>
                  <a:cubicBezTo>
                    <a:pt x="277" y="110"/>
                    <a:pt x="277" y="110"/>
                    <a:pt x="277" y="111"/>
                  </a:cubicBezTo>
                  <a:close/>
                  <a:moveTo>
                    <a:pt x="287" y="94"/>
                  </a:moveTo>
                  <a:cubicBezTo>
                    <a:pt x="287" y="95"/>
                    <a:pt x="288" y="95"/>
                    <a:pt x="288" y="96"/>
                  </a:cubicBezTo>
                  <a:cubicBezTo>
                    <a:pt x="288" y="97"/>
                    <a:pt x="287" y="97"/>
                    <a:pt x="287" y="98"/>
                  </a:cubicBezTo>
                  <a:cubicBezTo>
                    <a:pt x="287" y="96"/>
                    <a:pt x="287" y="95"/>
                    <a:pt x="287" y="94"/>
                  </a:cubicBezTo>
                  <a:close/>
                  <a:moveTo>
                    <a:pt x="289" y="109"/>
                  </a:moveTo>
                  <a:cubicBezTo>
                    <a:pt x="288" y="106"/>
                    <a:pt x="288" y="104"/>
                    <a:pt x="287" y="102"/>
                  </a:cubicBezTo>
                  <a:cubicBezTo>
                    <a:pt x="287" y="101"/>
                    <a:pt x="287" y="99"/>
                    <a:pt x="287" y="98"/>
                  </a:cubicBezTo>
                  <a:cubicBezTo>
                    <a:pt x="287" y="98"/>
                    <a:pt x="288" y="97"/>
                    <a:pt x="288" y="97"/>
                  </a:cubicBezTo>
                  <a:cubicBezTo>
                    <a:pt x="288" y="98"/>
                    <a:pt x="289" y="100"/>
                    <a:pt x="289" y="102"/>
                  </a:cubicBezTo>
                  <a:cubicBezTo>
                    <a:pt x="289" y="104"/>
                    <a:pt x="289" y="107"/>
                    <a:pt x="289" y="109"/>
                  </a:cubicBezTo>
                  <a:close/>
                  <a:moveTo>
                    <a:pt x="291" y="84"/>
                  </a:moveTo>
                  <a:cubicBezTo>
                    <a:pt x="291" y="89"/>
                    <a:pt x="290" y="94"/>
                    <a:pt x="290" y="98"/>
                  </a:cubicBezTo>
                  <a:cubicBezTo>
                    <a:pt x="289" y="97"/>
                    <a:pt x="289" y="96"/>
                    <a:pt x="288" y="95"/>
                  </a:cubicBezTo>
                  <a:cubicBezTo>
                    <a:pt x="289" y="94"/>
                    <a:pt x="290" y="92"/>
                    <a:pt x="290" y="91"/>
                  </a:cubicBezTo>
                  <a:cubicBezTo>
                    <a:pt x="290" y="92"/>
                    <a:pt x="289" y="94"/>
                    <a:pt x="288" y="95"/>
                  </a:cubicBezTo>
                  <a:cubicBezTo>
                    <a:pt x="288" y="94"/>
                    <a:pt x="287" y="93"/>
                    <a:pt x="287" y="92"/>
                  </a:cubicBezTo>
                  <a:cubicBezTo>
                    <a:pt x="287" y="90"/>
                    <a:pt x="287" y="88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85"/>
                    <a:pt x="287" y="85"/>
                    <a:pt x="287" y="85"/>
                  </a:cubicBezTo>
                  <a:cubicBezTo>
                    <a:pt x="287" y="75"/>
                    <a:pt x="286" y="65"/>
                    <a:pt x="286" y="56"/>
                  </a:cubicBezTo>
                  <a:cubicBezTo>
                    <a:pt x="289" y="58"/>
                    <a:pt x="292" y="61"/>
                    <a:pt x="294" y="63"/>
                  </a:cubicBezTo>
                  <a:cubicBezTo>
                    <a:pt x="293" y="69"/>
                    <a:pt x="292" y="76"/>
                    <a:pt x="291" y="84"/>
                  </a:cubicBezTo>
                  <a:cubicBezTo>
                    <a:pt x="291" y="82"/>
                    <a:pt x="290" y="81"/>
                    <a:pt x="290" y="79"/>
                  </a:cubicBezTo>
                  <a:cubicBezTo>
                    <a:pt x="290" y="81"/>
                    <a:pt x="291" y="83"/>
                    <a:pt x="291" y="84"/>
                  </a:cubicBezTo>
                  <a:close/>
                  <a:moveTo>
                    <a:pt x="293" y="139"/>
                  </a:moveTo>
                  <a:cubicBezTo>
                    <a:pt x="292" y="134"/>
                    <a:pt x="292" y="128"/>
                    <a:pt x="292" y="121"/>
                  </a:cubicBezTo>
                  <a:cubicBezTo>
                    <a:pt x="292" y="125"/>
                    <a:pt x="293" y="129"/>
                    <a:pt x="293" y="133"/>
                  </a:cubicBezTo>
                  <a:cubicBezTo>
                    <a:pt x="293" y="135"/>
                    <a:pt x="293" y="137"/>
                    <a:pt x="293" y="139"/>
                  </a:cubicBezTo>
                  <a:close/>
                  <a:moveTo>
                    <a:pt x="292" y="104"/>
                  </a:moveTo>
                  <a:cubicBezTo>
                    <a:pt x="292" y="102"/>
                    <a:pt x="293" y="99"/>
                    <a:pt x="293" y="96"/>
                  </a:cubicBezTo>
                  <a:cubicBezTo>
                    <a:pt x="293" y="100"/>
                    <a:pt x="293" y="104"/>
                    <a:pt x="293" y="107"/>
                  </a:cubicBezTo>
                  <a:cubicBezTo>
                    <a:pt x="293" y="106"/>
                    <a:pt x="293" y="105"/>
                    <a:pt x="292" y="104"/>
                  </a:cubicBezTo>
                  <a:close/>
                  <a:moveTo>
                    <a:pt x="304" y="85"/>
                  </a:moveTo>
                  <a:cubicBezTo>
                    <a:pt x="303" y="90"/>
                    <a:pt x="303" y="96"/>
                    <a:pt x="302" y="103"/>
                  </a:cubicBezTo>
                  <a:cubicBezTo>
                    <a:pt x="301" y="101"/>
                    <a:pt x="301" y="100"/>
                    <a:pt x="300" y="99"/>
                  </a:cubicBezTo>
                  <a:cubicBezTo>
                    <a:pt x="300" y="96"/>
                    <a:pt x="299" y="93"/>
                    <a:pt x="298" y="90"/>
                  </a:cubicBezTo>
                  <a:cubicBezTo>
                    <a:pt x="299" y="93"/>
                    <a:pt x="299" y="96"/>
                    <a:pt x="299" y="99"/>
                  </a:cubicBezTo>
                  <a:cubicBezTo>
                    <a:pt x="299" y="104"/>
                    <a:pt x="299" y="112"/>
                    <a:pt x="298" y="120"/>
                  </a:cubicBezTo>
                  <a:cubicBezTo>
                    <a:pt x="297" y="110"/>
                    <a:pt x="295" y="100"/>
                    <a:pt x="293" y="91"/>
                  </a:cubicBezTo>
                  <a:cubicBezTo>
                    <a:pt x="294" y="81"/>
                    <a:pt x="295" y="72"/>
                    <a:pt x="295" y="65"/>
                  </a:cubicBezTo>
                  <a:cubicBezTo>
                    <a:pt x="299" y="69"/>
                    <a:pt x="302" y="74"/>
                    <a:pt x="304" y="79"/>
                  </a:cubicBezTo>
                  <a:cubicBezTo>
                    <a:pt x="304" y="81"/>
                    <a:pt x="304" y="83"/>
                    <a:pt x="304" y="85"/>
                  </a:cubicBezTo>
                  <a:close/>
                  <a:moveTo>
                    <a:pt x="304" y="75"/>
                  </a:moveTo>
                  <a:cubicBezTo>
                    <a:pt x="304" y="75"/>
                    <a:pt x="304" y="75"/>
                    <a:pt x="304" y="75"/>
                  </a:cubicBezTo>
                  <a:cubicBezTo>
                    <a:pt x="304" y="73"/>
                    <a:pt x="304" y="72"/>
                    <a:pt x="304" y="70"/>
                  </a:cubicBezTo>
                  <a:cubicBezTo>
                    <a:pt x="304" y="70"/>
                    <a:pt x="304" y="72"/>
                    <a:pt x="304" y="75"/>
                  </a:cubicBezTo>
                  <a:cubicBezTo>
                    <a:pt x="301" y="71"/>
                    <a:pt x="299" y="67"/>
                    <a:pt x="296" y="64"/>
                  </a:cubicBezTo>
                  <a:cubicBezTo>
                    <a:pt x="296" y="60"/>
                    <a:pt x="296" y="57"/>
                    <a:pt x="297" y="54"/>
                  </a:cubicBezTo>
                  <a:cubicBezTo>
                    <a:pt x="300" y="58"/>
                    <a:pt x="303" y="62"/>
                    <a:pt x="305" y="65"/>
                  </a:cubicBezTo>
                  <a:cubicBezTo>
                    <a:pt x="305" y="68"/>
                    <a:pt x="305" y="71"/>
                    <a:pt x="304" y="75"/>
                  </a:cubicBezTo>
                  <a:close/>
                  <a:moveTo>
                    <a:pt x="308" y="117"/>
                  </a:moveTo>
                  <a:cubicBezTo>
                    <a:pt x="307" y="119"/>
                    <a:pt x="307" y="122"/>
                    <a:pt x="306" y="125"/>
                  </a:cubicBezTo>
                  <a:cubicBezTo>
                    <a:pt x="306" y="124"/>
                    <a:pt x="306" y="123"/>
                    <a:pt x="306" y="122"/>
                  </a:cubicBezTo>
                  <a:cubicBezTo>
                    <a:pt x="306" y="110"/>
                    <a:pt x="307" y="98"/>
                    <a:pt x="307" y="87"/>
                  </a:cubicBezTo>
                  <a:cubicBezTo>
                    <a:pt x="308" y="92"/>
                    <a:pt x="309" y="98"/>
                    <a:pt x="310" y="103"/>
                  </a:cubicBezTo>
                  <a:cubicBezTo>
                    <a:pt x="309" y="108"/>
                    <a:pt x="309" y="112"/>
                    <a:pt x="308" y="117"/>
                  </a:cubicBezTo>
                  <a:close/>
                  <a:moveTo>
                    <a:pt x="311" y="89"/>
                  </a:moveTo>
                  <a:cubicBezTo>
                    <a:pt x="310" y="86"/>
                    <a:pt x="309" y="83"/>
                    <a:pt x="307" y="80"/>
                  </a:cubicBezTo>
                  <a:cubicBezTo>
                    <a:pt x="307" y="76"/>
                    <a:pt x="307" y="72"/>
                    <a:pt x="307" y="68"/>
                  </a:cubicBezTo>
                  <a:cubicBezTo>
                    <a:pt x="309" y="71"/>
                    <a:pt x="311" y="74"/>
                    <a:pt x="313" y="78"/>
                  </a:cubicBezTo>
                  <a:cubicBezTo>
                    <a:pt x="312" y="81"/>
                    <a:pt x="312" y="85"/>
                    <a:pt x="311" y="89"/>
                  </a:cubicBezTo>
                  <a:close/>
                  <a:moveTo>
                    <a:pt x="317" y="96"/>
                  </a:moveTo>
                  <a:cubicBezTo>
                    <a:pt x="316" y="97"/>
                    <a:pt x="315" y="98"/>
                    <a:pt x="315" y="99"/>
                  </a:cubicBezTo>
                  <a:cubicBezTo>
                    <a:pt x="314" y="98"/>
                    <a:pt x="314" y="97"/>
                    <a:pt x="314" y="96"/>
                  </a:cubicBezTo>
                  <a:cubicBezTo>
                    <a:pt x="314" y="91"/>
                    <a:pt x="314" y="86"/>
                    <a:pt x="314" y="80"/>
                  </a:cubicBezTo>
                  <a:cubicBezTo>
                    <a:pt x="315" y="83"/>
                    <a:pt x="317" y="86"/>
                    <a:pt x="317" y="88"/>
                  </a:cubicBezTo>
                  <a:cubicBezTo>
                    <a:pt x="317" y="91"/>
                    <a:pt x="317" y="93"/>
                    <a:pt x="317" y="96"/>
                  </a:cubicBezTo>
                  <a:close/>
                  <a:moveTo>
                    <a:pt x="338" y="105"/>
                  </a:moveTo>
                  <a:cubicBezTo>
                    <a:pt x="338" y="103"/>
                    <a:pt x="337" y="102"/>
                    <a:pt x="336" y="101"/>
                  </a:cubicBezTo>
                  <a:cubicBezTo>
                    <a:pt x="338" y="96"/>
                    <a:pt x="339" y="92"/>
                    <a:pt x="341" y="89"/>
                  </a:cubicBezTo>
                  <a:cubicBezTo>
                    <a:pt x="341" y="89"/>
                    <a:pt x="341" y="89"/>
                    <a:pt x="341" y="90"/>
                  </a:cubicBezTo>
                  <a:cubicBezTo>
                    <a:pt x="340" y="95"/>
                    <a:pt x="339" y="100"/>
                    <a:pt x="338" y="105"/>
                  </a:cubicBezTo>
                  <a:close/>
                  <a:moveTo>
                    <a:pt x="354" y="81"/>
                  </a:moveTo>
                  <a:cubicBezTo>
                    <a:pt x="355" y="81"/>
                    <a:pt x="355" y="81"/>
                    <a:pt x="355" y="81"/>
                  </a:cubicBezTo>
                  <a:cubicBezTo>
                    <a:pt x="355" y="81"/>
                    <a:pt x="355" y="81"/>
                    <a:pt x="354" y="81"/>
                  </a:cubicBezTo>
                  <a:cubicBezTo>
                    <a:pt x="354" y="81"/>
                    <a:pt x="354" y="81"/>
                    <a:pt x="354" y="81"/>
                  </a:cubicBezTo>
                  <a:close/>
                  <a:moveTo>
                    <a:pt x="354" y="88"/>
                  </a:moveTo>
                  <a:cubicBezTo>
                    <a:pt x="354" y="89"/>
                    <a:pt x="354" y="89"/>
                    <a:pt x="354" y="89"/>
                  </a:cubicBezTo>
                  <a:cubicBezTo>
                    <a:pt x="354" y="90"/>
                    <a:pt x="354" y="91"/>
                    <a:pt x="354" y="91"/>
                  </a:cubicBezTo>
                  <a:cubicBezTo>
                    <a:pt x="354" y="90"/>
                    <a:pt x="354" y="89"/>
                    <a:pt x="354" y="88"/>
                  </a:cubicBezTo>
                  <a:close/>
                  <a:moveTo>
                    <a:pt x="345" y="122"/>
                  </a:moveTo>
                  <a:cubicBezTo>
                    <a:pt x="345" y="122"/>
                    <a:pt x="345" y="123"/>
                    <a:pt x="345" y="123"/>
                  </a:cubicBezTo>
                  <a:cubicBezTo>
                    <a:pt x="345" y="123"/>
                    <a:pt x="345" y="123"/>
                    <a:pt x="345" y="123"/>
                  </a:cubicBezTo>
                  <a:cubicBezTo>
                    <a:pt x="345" y="123"/>
                    <a:pt x="345" y="122"/>
                    <a:pt x="345" y="122"/>
                  </a:cubicBezTo>
                  <a:cubicBezTo>
                    <a:pt x="345" y="120"/>
                    <a:pt x="346" y="118"/>
                    <a:pt x="346" y="115"/>
                  </a:cubicBezTo>
                  <a:cubicBezTo>
                    <a:pt x="346" y="115"/>
                    <a:pt x="346" y="115"/>
                    <a:pt x="346" y="115"/>
                  </a:cubicBezTo>
                  <a:cubicBezTo>
                    <a:pt x="346" y="116"/>
                    <a:pt x="346" y="117"/>
                    <a:pt x="346" y="118"/>
                  </a:cubicBezTo>
                  <a:cubicBezTo>
                    <a:pt x="346" y="119"/>
                    <a:pt x="345" y="121"/>
                    <a:pt x="345" y="122"/>
                  </a:cubicBezTo>
                  <a:close/>
                  <a:moveTo>
                    <a:pt x="348" y="70"/>
                  </a:moveTo>
                  <a:cubicBezTo>
                    <a:pt x="350" y="73"/>
                    <a:pt x="352" y="76"/>
                    <a:pt x="354" y="79"/>
                  </a:cubicBezTo>
                  <a:cubicBezTo>
                    <a:pt x="353" y="81"/>
                    <a:pt x="353" y="82"/>
                    <a:pt x="353" y="84"/>
                  </a:cubicBezTo>
                  <a:cubicBezTo>
                    <a:pt x="353" y="84"/>
                    <a:pt x="353" y="84"/>
                    <a:pt x="352" y="84"/>
                  </a:cubicBezTo>
                  <a:cubicBezTo>
                    <a:pt x="352" y="82"/>
                    <a:pt x="351" y="81"/>
                    <a:pt x="350" y="79"/>
                  </a:cubicBezTo>
                  <a:cubicBezTo>
                    <a:pt x="351" y="81"/>
                    <a:pt x="352" y="83"/>
                    <a:pt x="352" y="84"/>
                  </a:cubicBezTo>
                  <a:cubicBezTo>
                    <a:pt x="351" y="87"/>
                    <a:pt x="349" y="90"/>
                    <a:pt x="348" y="93"/>
                  </a:cubicBezTo>
                  <a:cubicBezTo>
                    <a:pt x="348" y="85"/>
                    <a:pt x="348" y="77"/>
                    <a:pt x="348" y="70"/>
                  </a:cubicBezTo>
                  <a:close/>
                  <a:moveTo>
                    <a:pt x="350" y="98"/>
                  </a:moveTo>
                  <a:cubicBezTo>
                    <a:pt x="350" y="98"/>
                    <a:pt x="350" y="97"/>
                    <a:pt x="350" y="96"/>
                  </a:cubicBezTo>
                  <a:cubicBezTo>
                    <a:pt x="350" y="97"/>
                    <a:pt x="350" y="98"/>
                    <a:pt x="350" y="98"/>
                  </a:cubicBezTo>
                  <a:cubicBezTo>
                    <a:pt x="350" y="99"/>
                    <a:pt x="350" y="100"/>
                    <a:pt x="350" y="100"/>
                  </a:cubicBezTo>
                  <a:cubicBezTo>
                    <a:pt x="349" y="99"/>
                    <a:pt x="349" y="98"/>
                    <a:pt x="349" y="97"/>
                  </a:cubicBezTo>
                  <a:cubicBezTo>
                    <a:pt x="349" y="95"/>
                    <a:pt x="350" y="93"/>
                    <a:pt x="351" y="90"/>
                  </a:cubicBezTo>
                  <a:cubicBezTo>
                    <a:pt x="351" y="93"/>
                    <a:pt x="350" y="96"/>
                    <a:pt x="350" y="98"/>
                  </a:cubicBezTo>
                  <a:close/>
                  <a:moveTo>
                    <a:pt x="357" y="100"/>
                  </a:moveTo>
                  <a:cubicBezTo>
                    <a:pt x="355" y="104"/>
                    <a:pt x="354" y="107"/>
                    <a:pt x="353" y="110"/>
                  </a:cubicBezTo>
                  <a:cubicBezTo>
                    <a:pt x="352" y="110"/>
                    <a:pt x="352" y="109"/>
                    <a:pt x="352" y="109"/>
                  </a:cubicBezTo>
                  <a:cubicBezTo>
                    <a:pt x="352" y="106"/>
                    <a:pt x="353" y="102"/>
                    <a:pt x="353" y="99"/>
                  </a:cubicBezTo>
                  <a:cubicBezTo>
                    <a:pt x="354" y="95"/>
                    <a:pt x="354" y="92"/>
                    <a:pt x="354" y="90"/>
                  </a:cubicBezTo>
                  <a:cubicBezTo>
                    <a:pt x="355" y="93"/>
                    <a:pt x="356" y="96"/>
                    <a:pt x="357" y="100"/>
                  </a:cubicBezTo>
                  <a:cubicBezTo>
                    <a:pt x="357" y="100"/>
                    <a:pt x="357" y="100"/>
                    <a:pt x="357" y="100"/>
                  </a:cubicBezTo>
                  <a:close/>
                  <a:moveTo>
                    <a:pt x="357" y="97"/>
                  </a:moveTo>
                  <a:cubicBezTo>
                    <a:pt x="356" y="95"/>
                    <a:pt x="355" y="92"/>
                    <a:pt x="354" y="89"/>
                  </a:cubicBezTo>
                  <a:cubicBezTo>
                    <a:pt x="354" y="89"/>
                    <a:pt x="354" y="89"/>
                    <a:pt x="354" y="88"/>
                  </a:cubicBezTo>
                  <a:cubicBezTo>
                    <a:pt x="354" y="89"/>
                    <a:pt x="354" y="89"/>
                    <a:pt x="354" y="89"/>
                  </a:cubicBezTo>
                  <a:cubicBezTo>
                    <a:pt x="354" y="89"/>
                    <a:pt x="354" y="88"/>
                    <a:pt x="354" y="88"/>
                  </a:cubicBezTo>
                  <a:cubicBezTo>
                    <a:pt x="354" y="87"/>
                    <a:pt x="354" y="86"/>
                    <a:pt x="354" y="85"/>
                  </a:cubicBezTo>
                  <a:cubicBezTo>
                    <a:pt x="355" y="84"/>
                    <a:pt x="355" y="83"/>
                    <a:pt x="355" y="82"/>
                  </a:cubicBezTo>
                  <a:cubicBezTo>
                    <a:pt x="357" y="84"/>
                    <a:pt x="358" y="86"/>
                    <a:pt x="358" y="88"/>
                  </a:cubicBezTo>
                  <a:cubicBezTo>
                    <a:pt x="358" y="91"/>
                    <a:pt x="358" y="94"/>
                    <a:pt x="357" y="97"/>
                  </a:cubicBezTo>
                  <a:close/>
                  <a:moveTo>
                    <a:pt x="360" y="135"/>
                  </a:moveTo>
                  <a:cubicBezTo>
                    <a:pt x="359" y="136"/>
                    <a:pt x="359" y="137"/>
                    <a:pt x="359" y="138"/>
                  </a:cubicBezTo>
                  <a:cubicBezTo>
                    <a:pt x="359" y="137"/>
                    <a:pt x="359" y="136"/>
                    <a:pt x="360" y="135"/>
                  </a:cubicBezTo>
                  <a:cubicBezTo>
                    <a:pt x="360" y="135"/>
                    <a:pt x="360" y="135"/>
                    <a:pt x="360" y="135"/>
                  </a:cubicBezTo>
                  <a:close/>
                  <a:moveTo>
                    <a:pt x="359" y="83"/>
                  </a:moveTo>
                  <a:cubicBezTo>
                    <a:pt x="358" y="82"/>
                    <a:pt x="358" y="81"/>
                    <a:pt x="357" y="80"/>
                  </a:cubicBezTo>
                  <a:cubicBezTo>
                    <a:pt x="358" y="78"/>
                    <a:pt x="359" y="77"/>
                    <a:pt x="360" y="75"/>
                  </a:cubicBezTo>
                  <a:cubicBezTo>
                    <a:pt x="360" y="78"/>
                    <a:pt x="359" y="81"/>
                    <a:pt x="359" y="83"/>
                  </a:cubicBezTo>
                  <a:close/>
                  <a:moveTo>
                    <a:pt x="360" y="74"/>
                  </a:moveTo>
                  <a:cubicBezTo>
                    <a:pt x="359" y="76"/>
                    <a:pt x="357" y="77"/>
                    <a:pt x="356" y="79"/>
                  </a:cubicBezTo>
                  <a:cubicBezTo>
                    <a:pt x="356" y="78"/>
                    <a:pt x="355" y="78"/>
                    <a:pt x="355" y="77"/>
                  </a:cubicBezTo>
                  <a:cubicBezTo>
                    <a:pt x="355" y="72"/>
                    <a:pt x="356" y="67"/>
                    <a:pt x="356" y="65"/>
                  </a:cubicBezTo>
                  <a:cubicBezTo>
                    <a:pt x="357" y="67"/>
                    <a:pt x="359" y="70"/>
                    <a:pt x="360" y="72"/>
                  </a:cubicBezTo>
                  <a:cubicBezTo>
                    <a:pt x="360" y="73"/>
                    <a:pt x="360" y="73"/>
                    <a:pt x="360" y="74"/>
                  </a:cubicBezTo>
                  <a:close/>
                  <a:moveTo>
                    <a:pt x="362" y="75"/>
                  </a:moveTo>
                  <a:cubicBezTo>
                    <a:pt x="364" y="78"/>
                    <a:pt x="365" y="81"/>
                    <a:pt x="367" y="84"/>
                  </a:cubicBezTo>
                  <a:cubicBezTo>
                    <a:pt x="365" y="86"/>
                    <a:pt x="364" y="88"/>
                    <a:pt x="363" y="90"/>
                  </a:cubicBezTo>
                  <a:cubicBezTo>
                    <a:pt x="363" y="89"/>
                    <a:pt x="362" y="89"/>
                    <a:pt x="362" y="89"/>
                  </a:cubicBezTo>
                  <a:cubicBezTo>
                    <a:pt x="362" y="84"/>
                    <a:pt x="362" y="79"/>
                    <a:pt x="362" y="75"/>
                  </a:cubicBezTo>
                  <a:close/>
                  <a:moveTo>
                    <a:pt x="364" y="110"/>
                  </a:moveTo>
                  <a:cubicBezTo>
                    <a:pt x="364" y="107"/>
                    <a:pt x="363" y="104"/>
                    <a:pt x="362" y="101"/>
                  </a:cubicBezTo>
                  <a:cubicBezTo>
                    <a:pt x="362" y="101"/>
                    <a:pt x="362" y="100"/>
                    <a:pt x="362" y="100"/>
                  </a:cubicBezTo>
                  <a:cubicBezTo>
                    <a:pt x="362" y="100"/>
                    <a:pt x="363" y="99"/>
                    <a:pt x="363" y="99"/>
                  </a:cubicBezTo>
                  <a:cubicBezTo>
                    <a:pt x="364" y="101"/>
                    <a:pt x="365" y="104"/>
                    <a:pt x="365" y="106"/>
                  </a:cubicBezTo>
                  <a:cubicBezTo>
                    <a:pt x="365" y="108"/>
                    <a:pt x="365" y="109"/>
                    <a:pt x="364" y="110"/>
                  </a:cubicBezTo>
                  <a:close/>
                  <a:moveTo>
                    <a:pt x="365" y="93"/>
                  </a:moveTo>
                  <a:cubicBezTo>
                    <a:pt x="366" y="91"/>
                    <a:pt x="367" y="88"/>
                    <a:pt x="368" y="86"/>
                  </a:cubicBezTo>
                  <a:cubicBezTo>
                    <a:pt x="368" y="87"/>
                    <a:pt x="369" y="87"/>
                    <a:pt x="369" y="88"/>
                  </a:cubicBezTo>
                  <a:cubicBezTo>
                    <a:pt x="368" y="91"/>
                    <a:pt x="368" y="94"/>
                    <a:pt x="367" y="97"/>
                  </a:cubicBezTo>
                  <a:cubicBezTo>
                    <a:pt x="366" y="96"/>
                    <a:pt x="366" y="95"/>
                    <a:pt x="365" y="93"/>
                  </a:cubicBezTo>
                  <a:close/>
                  <a:moveTo>
                    <a:pt x="368" y="130"/>
                  </a:moveTo>
                  <a:cubicBezTo>
                    <a:pt x="368" y="129"/>
                    <a:pt x="368" y="128"/>
                    <a:pt x="368" y="126"/>
                  </a:cubicBezTo>
                  <a:cubicBezTo>
                    <a:pt x="368" y="124"/>
                    <a:pt x="368" y="121"/>
                    <a:pt x="369" y="119"/>
                  </a:cubicBezTo>
                  <a:cubicBezTo>
                    <a:pt x="369" y="120"/>
                    <a:pt x="370" y="122"/>
                    <a:pt x="370" y="124"/>
                  </a:cubicBezTo>
                  <a:cubicBezTo>
                    <a:pt x="369" y="126"/>
                    <a:pt x="369" y="128"/>
                    <a:pt x="368" y="130"/>
                  </a:cubicBezTo>
                  <a:close/>
                  <a:moveTo>
                    <a:pt x="372" y="108"/>
                  </a:moveTo>
                  <a:cubicBezTo>
                    <a:pt x="372" y="107"/>
                    <a:pt x="371" y="106"/>
                    <a:pt x="371" y="105"/>
                  </a:cubicBezTo>
                  <a:cubicBezTo>
                    <a:pt x="372" y="102"/>
                    <a:pt x="372" y="99"/>
                    <a:pt x="373" y="96"/>
                  </a:cubicBezTo>
                  <a:cubicBezTo>
                    <a:pt x="373" y="96"/>
                    <a:pt x="373" y="97"/>
                    <a:pt x="373" y="97"/>
                  </a:cubicBezTo>
                  <a:cubicBezTo>
                    <a:pt x="373" y="101"/>
                    <a:pt x="373" y="105"/>
                    <a:pt x="372" y="108"/>
                  </a:cubicBezTo>
                  <a:close/>
                  <a:moveTo>
                    <a:pt x="374" y="86"/>
                  </a:moveTo>
                  <a:cubicBezTo>
                    <a:pt x="374" y="86"/>
                    <a:pt x="374" y="86"/>
                    <a:pt x="374" y="86"/>
                  </a:cubicBezTo>
                  <a:cubicBezTo>
                    <a:pt x="375" y="85"/>
                    <a:pt x="375" y="84"/>
                    <a:pt x="375" y="83"/>
                  </a:cubicBezTo>
                  <a:cubicBezTo>
                    <a:pt x="375" y="84"/>
                    <a:pt x="375" y="85"/>
                    <a:pt x="374" y="86"/>
                  </a:cubicBezTo>
                  <a:close/>
                  <a:moveTo>
                    <a:pt x="382" y="80"/>
                  </a:moveTo>
                  <a:cubicBezTo>
                    <a:pt x="382" y="77"/>
                    <a:pt x="382" y="75"/>
                    <a:pt x="383" y="73"/>
                  </a:cubicBezTo>
                  <a:cubicBezTo>
                    <a:pt x="383" y="73"/>
                    <a:pt x="383" y="74"/>
                    <a:pt x="384" y="74"/>
                  </a:cubicBezTo>
                  <a:cubicBezTo>
                    <a:pt x="383" y="76"/>
                    <a:pt x="383" y="78"/>
                    <a:pt x="382" y="80"/>
                  </a:cubicBezTo>
                  <a:close/>
                  <a:moveTo>
                    <a:pt x="394" y="93"/>
                  </a:moveTo>
                  <a:cubicBezTo>
                    <a:pt x="393" y="95"/>
                    <a:pt x="393" y="96"/>
                    <a:pt x="392" y="97"/>
                  </a:cubicBezTo>
                  <a:cubicBezTo>
                    <a:pt x="392" y="94"/>
                    <a:pt x="392" y="91"/>
                    <a:pt x="392" y="88"/>
                  </a:cubicBezTo>
                  <a:cubicBezTo>
                    <a:pt x="392" y="89"/>
                    <a:pt x="393" y="91"/>
                    <a:pt x="394" y="93"/>
                  </a:cubicBezTo>
                  <a:close/>
                  <a:moveTo>
                    <a:pt x="395" y="88"/>
                  </a:moveTo>
                  <a:cubicBezTo>
                    <a:pt x="394" y="86"/>
                    <a:pt x="393" y="85"/>
                    <a:pt x="392" y="84"/>
                  </a:cubicBezTo>
                  <a:cubicBezTo>
                    <a:pt x="394" y="81"/>
                    <a:pt x="395" y="78"/>
                    <a:pt x="397" y="75"/>
                  </a:cubicBezTo>
                  <a:cubicBezTo>
                    <a:pt x="396" y="79"/>
                    <a:pt x="396" y="84"/>
                    <a:pt x="395" y="88"/>
                  </a:cubicBezTo>
                  <a:close/>
                  <a:moveTo>
                    <a:pt x="404" y="77"/>
                  </a:moveTo>
                  <a:cubicBezTo>
                    <a:pt x="404" y="77"/>
                    <a:pt x="404" y="77"/>
                    <a:pt x="404" y="77"/>
                  </a:cubicBezTo>
                  <a:cubicBezTo>
                    <a:pt x="404" y="74"/>
                    <a:pt x="403" y="70"/>
                    <a:pt x="403" y="66"/>
                  </a:cubicBezTo>
                  <a:cubicBezTo>
                    <a:pt x="403" y="65"/>
                    <a:pt x="404" y="64"/>
                    <a:pt x="404" y="63"/>
                  </a:cubicBezTo>
                  <a:cubicBezTo>
                    <a:pt x="405" y="67"/>
                    <a:pt x="405" y="72"/>
                    <a:pt x="404" y="77"/>
                  </a:cubicBezTo>
                  <a:close/>
                  <a:moveTo>
                    <a:pt x="407" y="72"/>
                  </a:moveTo>
                  <a:cubicBezTo>
                    <a:pt x="407" y="67"/>
                    <a:pt x="406" y="64"/>
                    <a:pt x="405" y="61"/>
                  </a:cubicBezTo>
                  <a:cubicBezTo>
                    <a:pt x="406" y="60"/>
                    <a:pt x="407" y="58"/>
                    <a:pt x="408" y="57"/>
                  </a:cubicBezTo>
                  <a:cubicBezTo>
                    <a:pt x="409" y="62"/>
                    <a:pt x="408" y="67"/>
                    <a:pt x="407" y="72"/>
                  </a:cubicBezTo>
                  <a:close/>
                  <a:moveTo>
                    <a:pt x="423" y="89"/>
                  </a:moveTo>
                  <a:cubicBezTo>
                    <a:pt x="424" y="91"/>
                    <a:pt x="425" y="92"/>
                    <a:pt x="426" y="94"/>
                  </a:cubicBezTo>
                  <a:cubicBezTo>
                    <a:pt x="425" y="95"/>
                    <a:pt x="424" y="97"/>
                    <a:pt x="424" y="98"/>
                  </a:cubicBezTo>
                  <a:cubicBezTo>
                    <a:pt x="423" y="97"/>
                    <a:pt x="423" y="96"/>
                    <a:pt x="422" y="95"/>
                  </a:cubicBezTo>
                  <a:cubicBezTo>
                    <a:pt x="423" y="93"/>
                    <a:pt x="423" y="91"/>
                    <a:pt x="423" y="89"/>
                  </a:cubicBezTo>
                  <a:close/>
                  <a:moveTo>
                    <a:pt x="422" y="101"/>
                  </a:moveTo>
                  <a:cubicBezTo>
                    <a:pt x="422" y="101"/>
                    <a:pt x="422" y="100"/>
                    <a:pt x="422" y="100"/>
                  </a:cubicBezTo>
                  <a:cubicBezTo>
                    <a:pt x="422" y="100"/>
                    <a:pt x="422" y="101"/>
                    <a:pt x="423" y="101"/>
                  </a:cubicBezTo>
                  <a:cubicBezTo>
                    <a:pt x="422" y="101"/>
                    <a:pt x="422" y="101"/>
                    <a:pt x="422" y="101"/>
                  </a:cubicBezTo>
                  <a:close/>
                  <a:moveTo>
                    <a:pt x="424" y="122"/>
                  </a:moveTo>
                  <a:cubicBezTo>
                    <a:pt x="424" y="121"/>
                    <a:pt x="424" y="120"/>
                    <a:pt x="423" y="119"/>
                  </a:cubicBezTo>
                  <a:cubicBezTo>
                    <a:pt x="423" y="117"/>
                    <a:pt x="423" y="115"/>
                    <a:pt x="423" y="112"/>
                  </a:cubicBezTo>
                  <a:cubicBezTo>
                    <a:pt x="423" y="110"/>
                    <a:pt x="424" y="108"/>
                    <a:pt x="424" y="106"/>
                  </a:cubicBezTo>
                  <a:cubicBezTo>
                    <a:pt x="424" y="108"/>
                    <a:pt x="425" y="110"/>
                    <a:pt x="425" y="112"/>
                  </a:cubicBezTo>
                  <a:cubicBezTo>
                    <a:pt x="425" y="115"/>
                    <a:pt x="425" y="119"/>
                    <a:pt x="424" y="122"/>
                  </a:cubicBezTo>
                  <a:close/>
                  <a:moveTo>
                    <a:pt x="426" y="103"/>
                  </a:moveTo>
                  <a:cubicBezTo>
                    <a:pt x="426" y="102"/>
                    <a:pt x="425" y="101"/>
                    <a:pt x="425" y="100"/>
                  </a:cubicBezTo>
                  <a:cubicBezTo>
                    <a:pt x="425" y="99"/>
                    <a:pt x="426" y="97"/>
                    <a:pt x="426" y="96"/>
                  </a:cubicBezTo>
                  <a:cubicBezTo>
                    <a:pt x="426" y="97"/>
                    <a:pt x="427" y="97"/>
                    <a:pt x="427" y="98"/>
                  </a:cubicBezTo>
                  <a:cubicBezTo>
                    <a:pt x="427" y="100"/>
                    <a:pt x="427" y="101"/>
                    <a:pt x="426" y="103"/>
                  </a:cubicBezTo>
                  <a:close/>
                  <a:moveTo>
                    <a:pt x="427" y="96"/>
                  </a:moveTo>
                  <a:cubicBezTo>
                    <a:pt x="427" y="95"/>
                    <a:pt x="427" y="95"/>
                    <a:pt x="427" y="95"/>
                  </a:cubicBezTo>
                  <a:cubicBezTo>
                    <a:pt x="427" y="93"/>
                    <a:pt x="427" y="92"/>
                    <a:pt x="428" y="91"/>
                  </a:cubicBezTo>
                  <a:cubicBezTo>
                    <a:pt x="428" y="93"/>
                    <a:pt x="427" y="94"/>
                    <a:pt x="427" y="96"/>
                  </a:cubicBezTo>
                  <a:close/>
                  <a:moveTo>
                    <a:pt x="433" y="95"/>
                  </a:moveTo>
                  <a:cubicBezTo>
                    <a:pt x="434" y="92"/>
                    <a:pt x="434" y="89"/>
                    <a:pt x="434" y="86"/>
                  </a:cubicBezTo>
                  <a:cubicBezTo>
                    <a:pt x="435" y="86"/>
                    <a:pt x="435" y="87"/>
                    <a:pt x="436" y="88"/>
                  </a:cubicBezTo>
                  <a:cubicBezTo>
                    <a:pt x="435" y="90"/>
                    <a:pt x="434" y="92"/>
                    <a:pt x="433" y="95"/>
                  </a:cubicBezTo>
                  <a:close/>
                  <a:moveTo>
                    <a:pt x="444" y="99"/>
                  </a:moveTo>
                  <a:cubicBezTo>
                    <a:pt x="444" y="99"/>
                    <a:pt x="443" y="98"/>
                    <a:pt x="443" y="97"/>
                  </a:cubicBezTo>
                  <a:cubicBezTo>
                    <a:pt x="443" y="93"/>
                    <a:pt x="443" y="89"/>
                    <a:pt x="443" y="84"/>
                  </a:cubicBezTo>
                  <a:cubicBezTo>
                    <a:pt x="445" y="80"/>
                    <a:pt x="447" y="76"/>
                    <a:pt x="450" y="72"/>
                  </a:cubicBezTo>
                  <a:cubicBezTo>
                    <a:pt x="450" y="74"/>
                    <a:pt x="450" y="78"/>
                    <a:pt x="451" y="82"/>
                  </a:cubicBezTo>
                  <a:cubicBezTo>
                    <a:pt x="448" y="88"/>
                    <a:pt x="446" y="93"/>
                    <a:pt x="444" y="99"/>
                  </a:cubicBezTo>
                  <a:close/>
                  <a:moveTo>
                    <a:pt x="452" y="75"/>
                  </a:moveTo>
                  <a:cubicBezTo>
                    <a:pt x="452" y="73"/>
                    <a:pt x="451" y="71"/>
                    <a:pt x="451" y="69"/>
                  </a:cubicBezTo>
                  <a:cubicBezTo>
                    <a:pt x="452" y="68"/>
                    <a:pt x="453" y="67"/>
                    <a:pt x="453" y="66"/>
                  </a:cubicBezTo>
                  <a:cubicBezTo>
                    <a:pt x="453" y="69"/>
                    <a:pt x="453" y="72"/>
                    <a:pt x="452" y="75"/>
                  </a:cubicBezTo>
                  <a:close/>
                  <a:moveTo>
                    <a:pt x="460" y="72"/>
                  </a:moveTo>
                  <a:cubicBezTo>
                    <a:pt x="460" y="71"/>
                    <a:pt x="460" y="70"/>
                    <a:pt x="460" y="70"/>
                  </a:cubicBezTo>
                  <a:cubicBezTo>
                    <a:pt x="460" y="69"/>
                    <a:pt x="460" y="69"/>
                    <a:pt x="460" y="69"/>
                  </a:cubicBezTo>
                  <a:cubicBezTo>
                    <a:pt x="460" y="71"/>
                    <a:pt x="460" y="72"/>
                    <a:pt x="460" y="72"/>
                  </a:cubicBezTo>
                  <a:close/>
                  <a:moveTo>
                    <a:pt x="460" y="67"/>
                  </a:moveTo>
                  <a:cubicBezTo>
                    <a:pt x="460" y="67"/>
                    <a:pt x="460" y="68"/>
                    <a:pt x="460" y="68"/>
                  </a:cubicBezTo>
                  <a:cubicBezTo>
                    <a:pt x="460" y="65"/>
                    <a:pt x="459" y="61"/>
                    <a:pt x="459" y="58"/>
                  </a:cubicBezTo>
                  <a:cubicBezTo>
                    <a:pt x="460" y="57"/>
                    <a:pt x="460" y="56"/>
                    <a:pt x="461" y="56"/>
                  </a:cubicBezTo>
                  <a:cubicBezTo>
                    <a:pt x="461" y="60"/>
                    <a:pt x="460" y="64"/>
                    <a:pt x="460" y="67"/>
                  </a:cubicBezTo>
                  <a:close/>
                  <a:moveTo>
                    <a:pt x="468" y="123"/>
                  </a:moveTo>
                  <a:cubicBezTo>
                    <a:pt x="467" y="124"/>
                    <a:pt x="466" y="126"/>
                    <a:pt x="466" y="127"/>
                  </a:cubicBezTo>
                  <a:cubicBezTo>
                    <a:pt x="466" y="124"/>
                    <a:pt x="466" y="122"/>
                    <a:pt x="466" y="119"/>
                  </a:cubicBezTo>
                  <a:cubicBezTo>
                    <a:pt x="467" y="116"/>
                    <a:pt x="468" y="112"/>
                    <a:pt x="469" y="109"/>
                  </a:cubicBezTo>
                  <a:cubicBezTo>
                    <a:pt x="469" y="111"/>
                    <a:pt x="469" y="112"/>
                    <a:pt x="469" y="114"/>
                  </a:cubicBezTo>
                  <a:cubicBezTo>
                    <a:pt x="469" y="117"/>
                    <a:pt x="468" y="120"/>
                    <a:pt x="468" y="123"/>
                  </a:cubicBezTo>
                  <a:close/>
                  <a:moveTo>
                    <a:pt x="470" y="110"/>
                  </a:moveTo>
                  <a:cubicBezTo>
                    <a:pt x="470" y="111"/>
                    <a:pt x="470" y="112"/>
                    <a:pt x="470" y="112"/>
                  </a:cubicBezTo>
                  <a:cubicBezTo>
                    <a:pt x="469" y="111"/>
                    <a:pt x="469" y="110"/>
                    <a:pt x="469" y="109"/>
                  </a:cubicBezTo>
                  <a:cubicBezTo>
                    <a:pt x="469" y="107"/>
                    <a:pt x="470" y="105"/>
                    <a:pt x="471" y="102"/>
                  </a:cubicBezTo>
                  <a:cubicBezTo>
                    <a:pt x="470" y="105"/>
                    <a:pt x="470" y="108"/>
                    <a:pt x="470" y="110"/>
                  </a:cubicBezTo>
                  <a:close/>
                  <a:moveTo>
                    <a:pt x="472" y="83"/>
                  </a:moveTo>
                  <a:cubicBezTo>
                    <a:pt x="472" y="83"/>
                    <a:pt x="472" y="84"/>
                    <a:pt x="471" y="85"/>
                  </a:cubicBezTo>
                  <a:cubicBezTo>
                    <a:pt x="470" y="87"/>
                    <a:pt x="470" y="89"/>
                    <a:pt x="469" y="91"/>
                  </a:cubicBezTo>
                  <a:cubicBezTo>
                    <a:pt x="468" y="91"/>
                    <a:pt x="468" y="91"/>
                    <a:pt x="468" y="91"/>
                  </a:cubicBezTo>
                  <a:cubicBezTo>
                    <a:pt x="468" y="91"/>
                    <a:pt x="468" y="91"/>
                    <a:pt x="469" y="91"/>
                  </a:cubicBezTo>
                  <a:cubicBezTo>
                    <a:pt x="468" y="92"/>
                    <a:pt x="467" y="94"/>
                    <a:pt x="466" y="96"/>
                  </a:cubicBezTo>
                  <a:cubicBezTo>
                    <a:pt x="467" y="90"/>
                    <a:pt x="467" y="85"/>
                    <a:pt x="469" y="79"/>
                  </a:cubicBezTo>
                  <a:cubicBezTo>
                    <a:pt x="467" y="85"/>
                    <a:pt x="466" y="90"/>
                    <a:pt x="465" y="95"/>
                  </a:cubicBezTo>
                  <a:cubicBezTo>
                    <a:pt x="465" y="85"/>
                    <a:pt x="465" y="74"/>
                    <a:pt x="465" y="63"/>
                  </a:cubicBezTo>
                  <a:cubicBezTo>
                    <a:pt x="468" y="60"/>
                    <a:pt x="471" y="58"/>
                    <a:pt x="474" y="55"/>
                  </a:cubicBezTo>
                  <a:cubicBezTo>
                    <a:pt x="474" y="62"/>
                    <a:pt x="473" y="72"/>
                    <a:pt x="472" y="83"/>
                  </a:cubicBezTo>
                  <a:close/>
                  <a:moveTo>
                    <a:pt x="478" y="105"/>
                  </a:moveTo>
                  <a:cubicBezTo>
                    <a:pt x="478" y="102"/>
                    <a:pt x="478" y="99"/>
                    <a:pt x="478" y="96"/>
                  </a:cubicBezTo>
                  <a:cubicBezTo>
                    <a:pt x="478" y="97"/>
                    <a:pt x="479" y="99"/>
                    <a:pt x="479" y="100"/>
                  </a:cubicBezTo>
                  <a:cubicBezTo>
                    <a:pt x="479" y="102"/>
                    <a:pt x="479" y="103"/>
                    <a:pt x="478" y="105"/>
                  </a:cubicBezTo>
                  <a:cubicBezTo>
                    <a:pt x="478" y="105"/>
                    <a:pt x="478" y="105"/>
                    <a:pt x="478" y="105"/>
                  </a:cubicBezTo>
                  <a:close/>
                  <a:moveTo>
                    <a:pt x="480" y="130"/>
                  </a:moveTo>
                  <a:cubicBezTo>
                    <a:pt x="480" y="130"/>
                    <a:pt x="479" y="130"/>
                    <a:pt x="479" y="130"/>
                  </a:cubicBezTo>
                  <a:cubicBezTo>
                    <a:pt x="479" y="129"/>
                    <a:pt x="479" y="128"/>
                    <a:pt x="479" y="127"/>
                  </a:cubicBezTo>
                  <a:cubicBezTo>
                    <a:pt x="479" y="128"/>
                    <a:pt x="480" y="128"/>
                    <a:pt x="480" y="129"/>
                  </a:cubicBezTo>
                  <a:cubicBezTo>
                    <a:pt x="480" y="129"/>
                    <a:pt x="480" y="130"/>
                    <a:pt x="480" y="130"/>
                  </a:cubicBezTo>
                  <a:close/>
                  <a:moveTo>
                    <a:pt x="486" y="74"/>
                  </a:moveTo>
                  <a:cubicBezTo>
                    <a:pt x="486" y="73"/>
                    <a:pt x="486" y="71"/>
                    <a:pt x="486" y="70"/>
                  </a:cubicBezTo>
                  <a:cubicBezTo>
                    <a:pt x="487" y="70"/>
                    <a:pt x="487" y="71"/>
                    <a:pt x="487" y="72"/>
                  </a:cubicBezTo>
                  <a:cubicBezTo>
                    <a:pt x="487" y="72"/>
                    <a:pt x="487" y="73"/>
                    <a:pt x="486" y="74"/>
                  </a:cubicBezTo>
                  <a:close/>
                  <a:moveTo>
                    <a:pt x="490" y="139"/>
                  </a:moveTo>
                  <a:cubicBezTo>
                    <a:pt x="490" y="140"/>
                    <a:pt x="490" y="141"/>
                    <a:pt x="490" y="142"/>
                  </a:cubicBezTo>
                  <a:cubicBezTo>
                    <a:pt x="490" y="142"/>
                    <a:pt x="490" y="141"/>
                    <a:pt x="490" y="139"/>
                  </a:cubicBezTo>
                  <a:cubicBezTo>
                    <a:pt x="490" y="138"/>
                    <a:pt x="490" y="137"/>
                    <a:pt x="491" y="136"/>
                  </a:cubicBezTo>
                  <a:cubicBezTo>
                    <a:pt x="491" y="137"/>
                    <a:pt x="491" y="137"/>
                    <a:pt x="491" y="137"/>
                  </a:cubicBezTo>
                  <a:cubicBezTo>
                    <a:pt x="491" y="138"/>
                    <a:pt x="490" y="139"/>
                    <a:pt x="490" y="139"/>
                  </a:cubicBezTo>
                  <a:close/>
                  <a:moveTo>
                    <a:pt x="492" y="122"/>
                  </a:moveTo>
                  <a:cubicBezTo>
                    <a:pt x="492" y="122"/>
                    <a:pt x="492" y="122"/>
                    <a:pt x="492" y="122"/>
                  </a:cubicBezTo>
                  <a:cubicBezTo>
                    <a:pt x="492" y="121"/>
                    <a:pt x="492" y="121"/>
                    <a:pt x="492" y="121"/>
                  </a:cubicBezTo>
                  <a:cubicBezTo>
                    <a:pt x="492" y="121"/>
                    <a:pt x="492" y="122"/>
                    <a:pt x="492" y="122"/>
                  </a:cubicBezTo>
                  <a:close/>
                  <a:moveTo>
                    <a:pt x="493" y="110"/>
                  </a:moveTo>
                  <a:cubicBezTo>
                    <a:pt x="492" y="112"/>
                    <a:pt x="491" y="114"/>
                    <a:pt x="491" y="116"/>
                  </a:cubicBezTo>
                  <a:cubicBezTo>
                    <a:pt x="490" y="116"/>
                    <a:pt x="490" y="117"/>
                    <a:pt x="490" y="117"/>
                  </a:cubicBezTo>
                  <a:cubicBezTo>
                    <a:pt x="490" y="113"/>
                    <a:pt x="489" y="108"/>
                    <a:pt x="489" y="104"/>
                  </a:cubicBezTo>
                  <a:cubicBezTo>
                    <a:pt x="490" y="101"/>
                    <a:pt x="491" y="98"/>
                    <a:pt x="492" y="96"/>
                  </a:cubicBezTo>
                  <a:cubicBezTo>
                    <a:pt x="492" y="95"/>
                    <a:pt x="492" y="95"/>
                    <a:pt x="492" y="95"/>
                  </a:cubicBezTo>
                  <a:cubicBezTo>
                    <a:pt x="492" y="98"/>
                    <a:pt x="493" y="101"/>
                    <a:pt x="493" y="104"/>
                  </a:cubicBezTo>
                  <a:cubicBezTo>
                    <a:pt x="493" y="106"/>
                    <a:pt x="493" y="108"/>
                    <a:pt x="493" y="110"/>
                  </a:cubicBezTo>
                  <a:close/>
                  <a:moveTo>
                    <a:pt x="494" y="99"/>
                  </a:moveTo>
                  <a:cubicBezTo>
                    <a:pt x="493" y="97"/>
                    <a:pt x="493" y="96"/>
                    <a:pt x="492" y="94"/>
                  </a:cubicBezTo>
                  <a:cubicBezTo>
                    <a:pt x="493" y="93"/>
                    <a:pt x="494" y="92"/>
                    <a:pt x="494" y="91"/>
                  </a:cubicBezTo>
                  <a:cubicBezTo>
                    <a:pt x="494" y="94"/>
                    <a:pt x="494" y="96"/>
                    <a:pt x="494" y="99"/>
                  </a:cubicBezTo>
                  <a:close/>
                  <a:moveTo>
                    <a:pt x="488" y="91"/>
                  </a:moveTo>
                  <a:cubicBezTo>
                    <a:pt x="488" y="89"/>
                    <a:pt x="488" y="88"/>
                    <a:pt x="488" y="87"/>
                  </a:cubicBezTo>
                  <a:cubicBezTo>
                    <a:pt x="489" y="83"/>
                    <a:pt x="490" y="80"/>
                    <a:pt x="491" y="76"/>
                  </a:cubicBezTo>
                  <a:cubicBezTo>
                    <a:pt x="493" y="78"/>
                    <a:pt x="494" y="80"/>
                    <a:pt x="495" y="82"/>
                  </a:cubicBezTo>
                  <a:cubicBezTo>
                    <a:pt x="492" y="85"/>
                    <a:pt x="490" y="88"/>
                    <a:pt x="488" y="91"/>
                  </a:cubicBezTo>
                  <a:close/>
                  <a:moveTo>
                    <a:pt x="495" y="79"/>
                  </a:moveTo>
                  <a:cubicBezTo>
                    <a:pt x="494" y="77"/>
                    <a:pt x="493" y="76"/>
                    <a:pt x="492" y="75"/>
                  </a:cubicBezTo>
                  <a:cubicBezTo>
                    <a:pt x="493" y="72"/>
                    <a:pt x="495" y="68"/>
                    <a:pt x="496" y="65"/>
                  </a:cubicBezTo>
                  <a:cubicBezTo>
                    <a:pt x="496" y="68"/>
                    <a:pt x="496" y="73"/>
                    <a:pt x="495" y="79"/>
                  </a:cubicBezTo>
                  <a:close/>
                  <a:moveTo>
                    <a:pt x="514" y="54"/>
                  </a:moveTo>
                  <a:cubicBezTo>
                    <a:pt x="513" y="56"/>
                    <a:pt x="512" y="58"/>
                    <a:pt x="512" y="61"/>
                  </a:cubicBezTo>
                  <a:cubicBezTo>
                    <a:pt x="508" y="65"/>
                    <a:pt x="505" y="69"/>
                    <a:pt x="501" y="74"/>
                  </a:cubicBezTo>
                  <a:cubicBezTo>
                    <a:pt x="504" y="67"/>
                    <a:pt x="509" y="60"/>
                    <a:pt x="514" y="54"/>
                  </a:cubicBezTo>
                  <a:close/>
                  <a:moveTo>
                    <a:pt x="499" y="89"/>
                  </a:moveTo>
                  <a:cubicBezTo>
                    <a:pt x="499" y="90"/>
                    <a:pt x="500" y="91"/>
                    <a:pt x="500" y="92"/>
                  </a:cubicBezTo>
                  <a:cubicBezTo>
                    <a:pt x="500" y="92"/>
                    <a:pt x="500" y="93"/>
                    <a:pt x="499" y="94"/>
                  </a:cubicBezTo>
                  <a:cubicBezTo>
                    <a:pt x="499" y="92"/>
                    <a:pt x="499" y="91"/>
                    <a:pt x="499" y="89"/>
                  </a:cubicBezTo>
                  <a:close/>
                  <a:moveTo>
                    <a:pt x="502" y="127"/>
                  </a:moveTo>
                  <a:cubicBezTo>
                    <a:pt x="501" y="125"/>
                    <a:pt x="501" y="124"/>
                    <a:pt x="500" y="122"/>
                  </a:cubicBezTo>
                  <a:cubicBezTo>
                    <a:pt x="500" y="117"/>
                    <a:pt x="500" y="111"/>
                    <a:pt x="500" y="105"/>
                  </a:cubicBezTo>
                  <a:cubicBezTo>
                    <a:pt x="501" y="104"/>
                    <a:pt x="502" y="102"/>
                    <a:pt x="503" y="101"/>
                  </a:cubicBezTo>
                  <a:cubicBezTo>
                    <a:pt x="502" y="102"/>
                    <a:pt x="501" y="103"/>
                    <a:pt x="500" y="105"/>
                  </a:cubicBezTo>
                  <a:cubicBezTo>
                    <a:pt x="500" y="102"/>
                    <a:pt x="499" y="99"/>
                    <a:pt x="499" y="96"/>
                  </a:cubicBezTo>
                  <a:cubicBezTo>
                    <a:pt x="500" y="95"/>
                    <a:pt x="500" y="94"/>
                    <a:pt x="501" y="93"/>
                  </a:cubicBezTo>
                  <a:cubicBezTo>
                    <a:pt x="502" y="95"/>
                    <a:pt x="503" y="97"/>
                    <a:pt x="503" y="100"/>
                  </a:cubicBezTo>
                  <a:cubicBezTo>
                    <a:pt x="503" y="100"/>
                    <a:pt x="503" y="100"/>
                    <a:pt x="503" y="101"/>
                  </a:cubicBezTo>
                  <a:cubicBezTo>
                    <a:pt x="503" y="101"/>
                    <a:pt x="503" y="100"/>
                    <a:pt x="503" y="100"/>
                  </a:cubicBezTo>
                  <a:cubicBezTo>
                    <a:pt x="504" y="101"/>
                    <a:pt x="504" y="102"/>
                    <a:pt x="505" y="103"/>
                  </a:cubicBezTo>
                  <a:cubicBezTo>
                    <a:pt x="503" y="112"/>
                    <a:pt x="502" y="120"/>
                    <a:pt x="502" y="127"/>
                  </a:cubicBezTo>
                  <a:close/>
                  <a:moveTo>
                    <a:pt x="503" y="87"/>
                  </a:moveTo>
                  <a:cubicBezTo>
                    <a:pt x="503" y="86"/>
                    <a:pt x="504" y="84"/>
                    <a:pt x="505" y="83"/>
                  </a:cubicBezTo>
                  <a:cubicBezTo>
                    <a:pt x="504" y="84"/>
                    <a:pt x="503" y="86"/>
                    <a:pt x="502" y="87"/>
                  </a:cubicBezTo>
                  <a:cubicBezTo>
                    <a:pt x="501" y="86"/>
                    <a:pt x="500" y="85"/>
                    <a:pt x="499" y="83"/>
                  </a:cubicBezTo>
                  <a:cubicBezTo>
                    <a:pt x="503" y="78"/>
                    <a:pt x="507" y="72"/>
                    <a:pt x="511" y="67"/>
                  </a:cubicBezTo>
                  <a:cubicBezTo>
                    <a:pt x="510" y="72"/>
                    <a:pt x="509" y="76"/>
                    <a:pt x="508" y="81"/>
                  </a:cubicBezTo>
                  <a:cubicBezTo>
                    <a:pt x="508" y="80"/>
                    <a:pt x="507" y="79"/>
                    <a:pt x="507" y="79"/>
                  </a:cubicBezTo>
                  <a:cubicBezTo>
                    <a:pt x="507" y="78"/>
                    <a:pt x="508" y="77"/>
                    <a:pt x="509" y="75"/>
                  </a:cubicBezTo>
                  <a:cubicBezTo>
                    <a:pt x="508" y="76"/>
                    <a:pt x="507" y="77"/>
                    <a:pt x="507" y="79"/>
                  </a:cubicBezTo>
                  <a:cubicBezTo>
                    <a:pt x="506" y="78"/>
                    <a:pt x="506" y="77"/>
                    <a:pt x="505" y="77"/>
                  </a:cubicBezTo>
                  <a:cubicBezTo>
                    <a:pt x="506" y="78"/>
                    <a:pt x="506" y="79"/>
                    <a:pt x="506" y="79"/>
                  </a:cubicBezTo>
                  <a:cubicBezTo>
                    <a:pt x="506" y="80"/>
                    <a:pt x="505" y="81"/>
                    <a:pt x="505" y="83"/>
                  </a:cubicBezTo>
                  <a:cubicBezTo>
                    <a:pt x="505" y="82"/>
                    <a:pt x="506" y="81"/>
                    <a:pt x="506" y="80"/>
                  </a:cubicBezTo>
                  <a:cubicBezTo>
                    <a:pt x="507" y="81"/>
                    <a:pt x="507" y="82"/>
                    <a:pt x="508" y="84"/>
                  </a:cubicBezTo>
                  <a:cubicBezTo>
                    <a:pt x="507" y="87"/>
                    <a:pt x="507" y="90"/>
                    <a:pt x="506" y="93"/>
                  </a:cubicBezTo>
                  <a:cubicBezTo>
                    <a:pt x="505" y="91"/>
                    <a:pt x="504" y="89"/>
                    <a:pt x="503" y="87"/>
                  </a:cubicBezTo>
                  <a:close/>
                  <a:moveTo>
                    <a:pt x="508" y="144"/>
                  </a:moveTo>
                  <a:cubicBezTo>
                    <a:pt x="507" y="144"/>
                    <a:pt x="507" y="143"/>
                    <a:pt x="507" y="143"/>
                  </a:cubicBezTo>
                  <a:cubicBezTo>
                    <a:pt x="507" y="140"/>
                    <a:pt x="507" y="136"/>
                    <a:pt x="508" y="131"/>
                  </a:cubicBezTo>
                  <a:cubicBezTo>
                    <a:pt x="509" y="128"/>
                    <a:pt x="509" y="126"/>
                    <a:pt x="509" y="125"/>
                  </a:cubicBezTo>
                  <a:cubicBezTo>
                    <a:pt x="509" y="125"/>
                    <a:pt x="509" y="124"/>
                    <a:pt x="509" y="124"/>
                  </a:cubicBezTo>
                  <a:cubicBezTo>
                    <a:pt x="509" y="124"/>
                    <a:pt x="508" y="124"/>
                    <a:pt x="508" y="124"/>
                  </a:cubicBezTo>
                  <a:cubicBezTo>
                    <a:pt x="508" y="122"/>
                    <a:pt x="508" y="120"/>
                    <a:pt x="509" y="118"/>
                  </a:cubicBezTo>
                  <a:cubicBezTo>
                    <a:pt x="509" y="121"/>
                    <a:pt x="510" y="125"/>
                    <a:pt x="510" y="128"/>
                  </a:cubicBezTo>
                  <a:cubicBezTo>
                    <a:pt x="509" y="136"/>
                    <a:pt x="508" y="141"/>
                    <a:pt x="508" y="144"/>
                  </a:cubicBezTo>
                  <a:close/>
                  <a:moveTo>
                    <a:pt x="514" y="107"/>
                  </a:moveTo>
                  <a:cubicBezTo>
                    <a:pt x="513" y="105"/>
                    <a:pt x="512" y="102"/>
                    <a:pt x="510" y="100"/>
                  </a:cubicBezTo>
                  <a:cubicBezTo>
                    <a:pt x="511" y="97"/>
                    <a:pt x="511" y="95"/>
                    <a:pt x="511" y="93"/>
                  </a:cubicBezTo>
                  <a:cubicBezTo>
                    <a:pt x="512" y="96"/>
                    <a:pt x="514" y="99"/>
                    <a:pt x="515" y="102"/>
                  </a:cubicBezTo>
                  <a:cubicBezTo>
                    <a:pt x="515" y="104"/>
                    <a:pt x="514" y="105"/>
                    <a:pt x="514" y="107"/>
                  </a:cubicBezTo>
                  <a:close/>
                  <a:moveTo>
                    <a:pt x="515" y="159"/>
                  </a:move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6" y="159"/>
                    <a:pt x="516" y="159"/>
                  </a:cubicBezTo>
                  <a:cubicBezTo>
                    <a:pt x="516" y="159"/>
                    <a:pt x="515" y="159"/>
                    <a:pt x="515" y="159"/>
                  </a:cubicBezTo>
                  <a:close/>
                  <a:moveTo>
                    <a:pt x="516" y="96"/>
                  </a:moveTo>
                  <a:cubicBezTo>
                    <a:pt x="515" y="93"/>
                    <a:pt x="514" y="91"/>
                    <a:pt x="512" y="88"/>
                  </a:cubicBezTo>
                  <a:cubicBezTo>
                    <a:pt x="515" y="85"/>
                    <a:pt x="517" y="82"/>
                    <a:pt x="518" y="79"/>
                  </a:cubicBezTo>
                  <a:cubicBezTo>
                    <a:pt x="518" y="84"/>
                    <a:pt x="517" y="90"/>
                    <a:pt x="516" y="96"/>
                  </a:cubicBezTo>
                  <a:close/>
                  <a:moveTo>
                    <a:pt x="519" y="75"/>
                  </a:moveTo>
                  <a:cubicBezTo>
                    <a:pt x="517" y="78"/>
                    <a:pt x="514" y="82"/>
                    <a:pt x="512" y="86"/>
                  </a:cubicBezTo>
                  <a:cubicBezTo>
                    <a:pt x="513" y="77"/>
                    <a:pt x="514" y="68"/>
                    <a:pt x="515" y="61"/>
                  </a:cubicBezTo>
                  <a:cubicBezTo>
                    <a:pt x="517" y="58"/>
                    <a:pt x="519" y="55"/>
                    <a:pt x="521" y="53"/>
                  </a:cubicBezTo>
                  <a:cubicBezTo>
                    <a:pt x="521" y="58"/>
                    <a:pt x="520" y="66"/>
                    <a:pt x="519" y="75"/>
                  </a:cubicBezTo>
                  <a:close/>
                  <a:moveTo>
                    <a:pt x="526" y="139"/>
                  </a:moveTo>
                  <a:cubicBezTo>
                    <a:pt x="526" y="139"/>
                    <a:pt x="526" y="139"/>
                    <a:pt x="526" y="139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8"/>
                    <a:pt x="526" y="138"/>
                    <a:pt x="526" y="138"/>
                  </a:cubicBezTo>
                  <a:cubicBezTo>
                    <a:pt x="526" y="139"/>
                    <a:pt x="526" y="139"/>
                    <a:pt x="526" y="139"/>
                  </a:cubicBezTo>
                  <a:close/>
                  <a:moveTo>
                    <a:pt x="551" y="137"/>
                  </a:moveTo>
                  <a:cubicBezTo>
                    <a:pt x="551" y="136"/>
                    <a:pt x="550" y="135"/>
                    <a:pt x="550" y="133"/>
                  </a:cubicBezTo>
                  <a:cubicBezTo>
                    <a:pt x="550" y="132"/>
                    <a:pt x="550" y="130"/>
                    <a:pt x="550" y="128"/>
                  </a:cubicBezTo>
                  <a:cubicBezTo>
                    <a:pt x="551" y="131"/>
                    <a:pt x="551" y="133"/>
                    <a:pt x="552" y="135"/>
                  </a:cubicBezTo>
                  <a:cubicBezTo>
                    <a:pt x="552" y="136"/>
                    <a:pt x="552" y="137"/>
                    <a:pt x="551" y="137"/>
                  </a:cubicBezTo>
                  <a:close/>
                  <a:moveTo>
                    <a:pt x="558" y="99"/>
                  </a:moveTo>
                  <a:cubicBezTo>
                    <a:pt x="556" y="95"/>
                    <a:pt x="554" y="92"/>
                    <a:pt x="552" y="90"/>
                  </a:cubicBezTo>
                  <a:cubicBezTo>
                    <a:pt x="554" y="93"/>
                    <a:pt x="556" y="97"/>
                    <a:pt x="557" y="101"/>
                  </a:cubicBezTo>
                  <a:cubicBezTo>
                    <a:pt x="556" y="110"/>
                    <a:pt x="555" y="118"/>
                    <a:pt x="554" y="125"/>
                  </a:cubicBezTo>
                  <a:cubicBezTo>
                    <a:pt x="553" y="122"/>
                    <a:pt x="552" y="119"/>
                    <a:pt x="551" y="116"/>
                  </a:cubicBezTo>
                  <a:cubicBezTo>
                    <a:pt x="551" y="102"/>
                    <a:pt x="552" y="86"/>
                    <a:pt x="553" y="72"/>
                  </a:cubicBezTo>
                  <a:cubicBezTo>
                    <a:pt x="556" y="75"/>
                    <a:pt x="558" y="79"/>
                    <a:pt x="560" y="82"/>
                  </a:cubicBezTo>
                  <a:cubicBezTo>
                    <a:pt x="559" y="88"/>
                    <a:pt x="558" y="93"/>
                    <a:pt x="558" y="99"/>
                  </a:cubicBezTo>
                  <a:close/>
                  <a:moveTo>
                    <a:pt x="561" y="142"/>
                  </a:moveTo>
                  <a:cubicBezTo>
                    <a:pt x="561" y="134"/>
                    <a:pt x="562" y="127"/>
                    <a:pt x="562" y="121"/>
                  </a:cubicBezTo>
                  <a:cubicBezTo>
                    <a:pt x="563" y="123"/>
                    <a:pt x="563" y="125"/>
                    <a:pt x="563" y="127"/>
                  </a:cubicBezTo>
                  <a:cubicBezTo>
                    <a:pt x="562" y="136"/>
                    <a:pt x="561" y="142"/>
                    <a:pt x="561" y="142"/>
                  </a:cubicBezTo>
                  <a:close/>
                  <a:moveTo>
                    <a:pt x="564" y="144"/>
                  </a:moveTo>
                  <a:cubicBezTo>
                    <a:pt x="564" y="142"/>
                    <a:pt x="564" y="140"/>
                    <a:pt x="565" y="137"/>
                  </a:cubicBezTo>
                  <a:cubicBezTo>
                    <a:pt x="565" y="138"/>
                    <a:pt x="565" y="138"/>
                    <a:pt x="565" y="138"/>
                  </a:cubicBezTo>
                  <a:cubicBezTo>
                    <a:pt x="564" y="142"/>
                    <a:pt x="564" y="144"/>
                    <a:pt x="564" y="144"/>
                  </a:cubicBezTo>
                  <a:close/>
                  <a:moveTo>
                    <a:pt x="563" y="110"/>
                  </a:moveTo>
                  <a:cubicBezTo>
                    <a:pt x="563" y="103"/>
                    <a:pt x="564" y="96"/>
                    <a:pt x="564" y="90"/>
                  </a:cubicBezTo>
                  <a:cubicBezTo>
                    <a:pt x="566" y="93"/>
                    <a:pt x="567" y="96"/>
                    <a:pt x="568" y="99"/>
                  </a:cubicBezTo>
                  <a:cubicBezTo>
                    <a:pt x="567" y="105"/>
                    <a:pt x="566" y="111"/>
                    <a:pt x="565" y="116"/>
                  </a:cubicBezTo>
                  <a:cubicBezTo>
                    <a:pt x="564" y="114"/>
                    <a:pt x="564" y="112"/>
                    <a:pt x="563" y="110"/>
                  </a:cubicBezTo>
                  <a:close/>
                  <a:moveTo>
                    <a:pt x="568" y="124"/>
                  </a:moveTo>
                  <a:cubicBezTo>
                    <a:pt x="568" y="123"/>
                    <a:pt x="567" y="122"/>
                    <a:pt x="567" y="121"/>
                  </a:cubicBezTo>
                  <a:cubicBezTo>
                    <a:pt x="568" y="115"/>
                    <a:pt x="568" y="109"/>
                    <a:pt x="569" y="103"/>
                  </a:cubicBezTo>
                  <a:cubicBezTo>
                    <a:pt x="570" y="105"/>
                    <a:pt x="570" y="107"/>
                    <a:pt x="571" y="109"/>
                  </a:cubicBezTo>
                  <a:cubicBezTo>
                    <a:pt x="570" y="114"/>
                    <a:pt x="569" y="119"/>
                    <a:pt x="568" y="124"/>
                  </a:cubicBezTo>
                  <a:close/>
                  <a:moveTo>
                    <a:pt x="574" y="146"/>
                  </a:moveTo>
                  <a:cubicBezTo>
                    <a:pt x="574" y="145"/>
                    <a:pt x="574" y="145"/>
                    <a:pt x="574" y="145"/>
                  </a:cubicBezTo>
                  <a:cubicBezTo>
                    <a:pt x="574" y="144"/>
                    <a:pt x="574" y="143"/>
                    <a:pt x="574" y="142"/>
                  </a:cubicBezTo>
                  <a:cubicBezTo>
                    <a:pt x="574" y="142"/>
                    <a:pt x="574" y="143"/>
                    <a:pt x="574" y="144"/>
                  </a:cubicBezTo>
                  <a:cubicBezTo>
                    <a:pt x="574" y="145"/>
                    <a:pt x="574" y="145"/>
                    <a:pt x="574" y="146"/>
                  </a:cubicBezTo>
                  <a:close/>
                  <a:moveTo>
                    <a:pt x="597" y="118"/>
                  </a:moveTo>
                  <a:cubicBezTo>
                    <a:pt x="596" y="114"/>
                    <a:pt x="595" y="111"/>
                    <a:pt x="593" y="107"/>
                  </a:cubicBezTo>
                  <a:cubicBezTo>
                    <a:pt x="593" y="96"/>
                    <a:pt x="593" y="84"/>
                    <a:pt x="593" y="74"/>
                  </a:cubicBezTo>
                  <a:cubicBezTo>
                    <a:pt x="593" y="70"/>
                    <a:pt x="593" y="67"/>
                    <a:pt x="592" y="65"/>
                  </a:cubicBezTo>
                  <a:cubicBezTo>
                    <a:pt x="593" y="74"/>
                    <a:pt x="597" y="84"/>
                    <a:pt x="600" y="94"/>
                  </a:cubicBezTo>
                  <a:cubicBezTo>
                    <a:pt x="599" y="102"/>
                    <a:pt x="598" y="110"/>
                    <a:pt x="597" y="118"/>
                  </a:cubicBezTo>
                  <a:close/>
                  <a:moveTo>
                    <a:pt x="626" y="124"/>
                  </a:moveTo>
                  <a:cubicBezTo>
                    <a:pt x="626" y="122"/>
                    <a:pt x="625" y="120"/>
                    <a:pt x="625" y="117"/>
                  </a:cubicBezTo>
                  <a:cubicBezTo>
                    <a:pt x="626" y="109"/>
                    <a:pt x="627" y="100"/>
                    <a:pt x="627" y="92"/>
                  </a:cubicBezTo>
                  <a:cubicBezTo>
                    <a:pt x="629" y="96"/>
                    <a:pt x="630" y="100"/>
                    <a:pt x="630" y="104"/>
                  </a:cubicBezTo>
                  <a:cubicBezTo>
                    <a:pt x="629" y="111"/>
                    <a:pt x="627" y="118"/>
                    <a:pt x="626" y="124"/>
                  </a:cubicBezTo>
                  <a:close/>
                  <a:moveTo>
                    <a:pt x="667" y="133"/>
                  </a:moveTo>
                  <a:cubicBezTo>
                    <a:pt x="666" y="130"/>
                    <a:pt x="665" y="126"/>
                    <a:pt x="664" y="122"/>
                  </a:cubicBezTo>
                  <a:cubicBezTo>
                    <a:pt x="664" y="112"/>
                    <a:pt x="665" y="100"/>
                    <a:pt x="665" y="88"/>
                  </a:cubicBezTo>
                  <a:cubicBezTo>
                    <a:pt x="667" y="96"/>
                    <a:pt x="669" y="104"/>
                    <a:pt x="670" y="111"/>
                  </a:cubicBezTo>
                  <a:cubicBezTo>
                    <a:pt x="670" y="117"/>
                    <a:pt x="670" y="117"/>
                    <a:pt x="670" y="117"/>
                  </a:cubicBezTo>
                  <a:cubicBezTo>
                    <a:pt x="668" y="123"/>
                    <a:pt x="667" y="129"/>
                    <a:pt x="667" y="133"/>
                  </a:cubicBezTo>
                  <a:close/>
                  <a:moveTo>
                    <a:pt x="679" y="110"/>
                  </a:moveTo>
                  <a:cubicBezTo>
                    <a:pt x="679" y="113"/>
                    <a:pt x="679" y="116"/>
                    <a:pt x="679" y="119"/>
                  </a:cubicBezTo>
                  <a:cubicBezTo>
                    <a:pt x="678" y="122"/>
                    <a:pt x="678" y="124"/>
                    <a:pt x="677" y="127"/>
                  </a:cubicBezTo>
                  <a:cubicBezTo>
                    <a:pt x="677" y="119"/>
                    <a:pt x="676" y="111"/>
                    <a:pt x="675" y="104"/>
                  </a:cubicBezTo>
                  <a:cubicBezTo>
                    <a:pt x="676" y="98"/>
                    <a:pt x="676" y="91"/>
                    <a:pt x="677" y="86"/>
                  </a:cubicBezTo>
                  <a:cubicBezTo>
                    <a:pt x="679" y="93"/>
                    <a:pt x="679" y="102"/>
                    <a:pt x="679" y="110"/>
                  </a:cubicBezTo>
                  <a:close/>
                  <a:moveTo>
                    <a:pt x="689" y="142"/>
                  </a:moveTo>
                  <a:cubicBezTo>
                    <a:pt x="689" y="142"/>
                    <a:pt x="689" y="141"/>
                    <a:pt x="690" y="138"/>
                  </a:cubicBezTo>
                  <a:cubicBezTo>
                    <a:pt x="691" y="120"/>
                    <a:pt x="690" y="96"/>
                    <a:pt x="689" y="77"/>
                  </a:cubicBezTo>
                  <a:cubicBezTo>
                    <a:pt x="691" y="81"/>
                    <a:pt x="693" y="86"/>
                    <a:pt x="694" y="92"/>
                  </a:cubicBezTo>
                  <a:cubicBezTo>
                    <a:pt x="692" y="108"/>
                    <a:pt x="690" y="129"/>
                    <a:pt x="690" y="138"/>
                  </a:cubicBezTo>
                  <a:cubicBezTo>
                    <a:pt x="690" y="139"/>
                    <a:pt x="689" y="141"/>
                    <a:pt x="689" y="142"/>
                  </a:cubicBezTo>
                  <a:close/>
                  <a:moveTo>
                    <a:pt x="693" y="129"/>
                  </a:moveTo>
                  <a:cubicBezTo>
                    <a:pt x="693" y="119"/>
                    <a:pt x="694" y="107"/>
                    <a:pt x="695" y="97"/>
                  </a:cubicBezTo>
                  <a:cubicBezTo>
                    <a:pt x="695" y="100"/>
                    <a:pt x="695" y="103"/>
                    <a:pt x="695" y="106"/>
                  </a:cubicBezTo>
                  <a:cubicBezTo>
                    <a:pt x="695" y="114"/>
                    <a:pt x="694" y="121"/>
                    <a:pt x="693" y="129"/>
                  </a:cubicBezTo>
                  <a:close/>
                  <a:moveTo>
                    <a:pt x="705" y="125"/>
                  </a:moveTo>
                  <a:cubicBezTo>
                    <a:pt x="705" y="120"/>
                    <a:pt x="705" y="113"/>
                    <a:pt x="705" y="107"/>
                  </a:cubicBezTo>
                  <a:cubicBezTo>
                    <a:pt x="705" y="114"/>
                    <a:pt x="705" y="120"/>
                    <a:pt x="705" y="125"/>
                  </a:cubicBezTo>
                  <a:close/>
                  <a:moveTo>
                    <a:pt x="720" y="112"/>
                  </a:moveTo>
                  <a:cubicBezTo>
                    <a:pt x="720" y="105"/>
                    <a:pt x="720" y="98"/>
                    <a:pt x="719" y="91"/>
                  </a:cubicBezTo>
                  <a:cubicBezTo>
                    <a:pt x="720" y="95"/>
                    <a:pt x="720" y="99"/>
                    <a:pt x="720" y="103"/>
                  </a:cubicBezTo>
                  <a:cubicBezTo>
                    <a:pt x="720" y="106"/>
                    <a:pt x="720" y="109"/>
                    <a:pt x="720" y="112"/>
                  </a:cubicBezTo>
                  <a:close/>
                  <a:moveTo>
                    <a:pt x="730" y="129"/>
                  </a:moveTo>
                  <a:cubicBezTo>
                    <a:pt x="730" y="129"/>
                    <a:pt x="730" y="129"/>
                    <a:pt x="730" y="130"/>
                  </a:cubicBezTo>
                  <a:cubicBezTo>
                    <a:pt x="729" y="132"/>
                    <a:pt x="728" y="134"/>
                    <a:pt x="728" y="137"/>
                  </a:cubicBezTo>
                  <a:cubicBezTo>
                    <a:pt x="728" y="136"/>
                    <a:pt x="728" y="136"/>
                    <a:pt x="728" y="136"/>
                  </a:cubicBezTo>
                  <a:cubicBezTo>
                    <a:pt x="728" y="134"/>
                    <a:pt x="729" y="132"/>
                    <a:pt x="730" y="130"/>
                  </a:cubicBezTo>
                  <a:cubicBezTo>
                    <a:pt x="730" y="129"/>
                    <a:pt x="730" y="129"/>
                    <a:pt x="730" y="129"/>
                  </a:cubicBezTo>
                  <a:cubicBezTo>
                    <a:pt x="730" y="129"/>
                    <a:pt x="730" y="129"/>
                    <a:pt x="730" y="129"/>
                  </a:cubicBezTo>
                  <a:close/>
                  <a:moveTo>
                    <a:pt x="767" y="130"/>
                  </a:moveTo>
                  <a:cubicBezTo>
                    <a:pt x="766" y="132"/>
                    <a:pt x="765" y="134"/>
                    <a:pt x="765" y="136"/>
                  </a:cubicBezTo>
                  <a:cubicBezTo>
                    <a:pt x="764" y="131"/>
                    <a:pt x="764" y="126"/>
                    <a:pt x="764" y="121"/>
                  </a:cubicBezTo>
                  <a:cubicBezTo>
                    <a:pt x="766" y="115"/>
                    <a:pt x="768" y="110"/>
                    <a:pt x="769" y="104"/>
                  </a:cubicBezTo>
                  <a:cubicBezTo>
                    <a:pt x="768" y="114"/>
                    <a:pt x="767" y="123"/>
                    <a:pt x="767" y="130"/>
                  </a:cubicBezTo>
                  <a:close/>
                  <a:moveTo>
                    <a:pt x="782" y="124"/>
                  </a:moveTo>
                  <a:cubicBezTo>
                    <a:pt x="782" y="110"/>
                    <a:pt x="784" y="94"/>
                    <a:pt x="785" y="83"/>
                  </a:cubicBezTo>
                  <a:cubicBezTo>
                    <a:pt x="785" y="87"/>
                    <a:pt x="785" y="91"/>
                    <a:pt x="785" y="95"/>
                  </a:cubicBezTo>
                  <a:cubicBezTo>
                    <a:pt x="785" y="105"/>
                    <a:pt x="784" y="114"/>
                    <a:pt x="782" y="124"/>
                  </a:cubicBezTo>
                  <a:close/>
                  <a:moveTo>
                    <a:pt x="799" y="160"/>
                  </a:move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59"/>
                  </a:cubicBezTo>
                  <a:cubicBezTo>
                    <a:pt x="799" y="159"/>
                    <a:pt x="799" y="159"/>
                    <a:pt x="799" y="160"/>
                  </a:cubicBezTo>
                  <a:close/>
                  <a:moveTo>
                    <a:pt x="811" y="116"/>
                  </a:moveTo>
                  <a:cubicBezTo>
                    <a:pt x="810" y="121"/>
                    <a:pt x="808" y="127"/>
                    <a:pt x="806" y="132"/>
                  </a:cubicBezTo>
                  <a:cubicBezTo>
                    <a:pt x="806" y="127"/>
                    <a:pt x="806" y="121"/>
                    <a:pt x="806" y="115"/>
                  </a:cubicBezTo>
                  <a:cubicBezTo>
                    <a:pt x="807" y="110"/>
                    <a:pt x="808" y="104"/>
                    <a:pt x="808" y="98"/>
                  </a:cubicBezTo>
                  <a:cubicBezTo>
                    <a:pt x="808" y="95"/>
                    <a:pt x="807" y="92"/>
                    <a:pt x="807" y="89"/>
                  </a:cubicBezTo>
                  <a:cubicBezTo>
                    <a:pt x="808" y="78"/>
                    <a:pt x="809" y="68"/>
                    <a:pt x="810" y="60"/>
                  </a:cubicBezTo>
                  <a:cubicBezTo>
                    <a:pt x="813" y="68"/>
                    <a:pt x="815" y="78"/>
                    <a:pt x="815" y="87"/>
                  </a:cubicBezTo>
                  <a:cubicBezTo>
                    <a:pt x="814" y="95"/>
                    <a:pt x="813" y="106"/>
                    <a:pt x="811" y="116"/>
                  </a:cubicBezTo>
                  <a:close/>
                  <a:moveTo>
                    <a:pt x="819" y="136"/>
                  </a:moveTo>
                  <a:cubicBezTo>
                    <a:pt x="819" y="137"/>
                    <a:pt x="819" y="138"/>
                    <a:pt x="818" y="139"/>
                  </a:cubicBezTo>
                  <a:cubicBezTo>
                    <a:pt x="818" y="137"/>
                    <a:pt x="818" y="135"/>
                    <a:pt x="818" y="133"/>
                  </a:cubicBezTo>
                  <a:cubicBezTo>
                    <a:pt x="819" y="130"/>
                    <a:pt x="819" y="128"/>
                    <a:pt x="820" y="125"/>
                  </a:cubicBezTo>
                  <a:cubicBezTo>
                    <a:pt x="820" y="129"/>
                    <a:pt x="819" y="133"/>
                    <a:pt x="819" y="136"/>
                  </a:cubicBezTo>
                  <a:close/>
                  <a:moveTo>
                    <a:pt x="835" y="126"/>
                  </a:moveTo>
                  <a:cubicBezTo>
                    <a:pt x="834" y="113"/>
                    <a:pt x="834" y="96"/>
                    <a:pt x="834" y="84"/>
                  </a:cubicBezTo>
                  <a:cubicBezTo>
                    <a:pt x="838" y="90"/>
                    <a:pt x="840" y="100"/>
                    <a:pt x="840" y="104"/>
                  </a:cubicBezTo>
                  <a:cubicBezTo>
                    <a:pt x="840" y="110"/>
                    <a:pt x="838" y="118"/>
                    <a:pt x="835" y="126"/>
                  </a:cubicBezTo>
                  <a:close/>
                  <a:moveTo>
                    <a:pt x="846" y="128"/>
                  </a:moveTo>
                  <a:cubicBezTo>
                    <a:pt x="848" y="113"/>
                    <a:pt x="847" y="91"/>
                    <a:pt x="847" y="76"/>
                  </a:cubicBezTo>
                  <a:cubicBezTo>
                    <a:pt x="849" y="83"/>
                    <a:pt x="851" y="90"/>
                    <a:pt x="851" y="96"/>
                  </a:cubicBezTo>
                  <a:cubicBezTo>
                    <a:pt x="851" y="107"/>
                    <a:pt x="849" y="117"/>
                    <a:pt x="846" y="128"/>
                  </a:cubicBezTo>
                  <a:close/>
                  <a:moveTo>
                    <a:pt x="886" y="112"/>
                  </a:moveTo>
                  <a:cubicBezTo>
                    <a:pt x="886" y="110"/>
                    <a:pt x="886" y="108"/>
                    <a:pt x="886" y="106"/>
                  </a:cubicBezTo>
                  <a:cubicBezTo>
                    <a:pt x="886" y="108"/>
                    <a:pt x="885" y="112"/>
                    <a:pt x="885" y="115"/>
                  </a:cubicBezTo>
                  <a:cubicBezTo>
                    <a:pt x="880" y="131"/>
                    <a:pt x="876" y="144"/>
                    <a:pt x="876" y="144"/>
                  </a:cubicBezTo>
                  <a:cubicBezTo>
                    <a:pt x="877" y="133"/>
                    <a:pt x="881" y="110"/>
                    <a:pt x="886" y="86"/>
                  </a:cubicBezTo>
                  <a:cubicBezTo>
                    <a:pt x="888" y="90"/>
                    <a:pt x="889" y="95"/>
                    <a:pt x="890" y="99"/>
                  </a:cubicBezTo>
                  <a:cubicBezTo>
                    <a:pt x="888" y="103"/>
                    <a:pt x="887" y="108"/>
                    <a:pt x="886" y="112"/>
                  </a:cubicBezTo>
                  <a:close/>
                  <a:moveTo>
                    <a:pt x="899" y="133"/>
                  </a:moveTo>
                  <a:cubicBezTo>
                    <a:pt x="899" y="133"/>
                    <a:pt x="899" y="134"/>
                    <a:pt x="898" y="134"/>
                  </a:cubicBezTo>
                  <a:cubicBezTo>
                    <a:pt x="898" y="134"/>
                    <a:pt x="898" y="134"/>
                    <a:pt x="898" y="134"/>
                  </a:cubicBezTo>
                  <a:cubicBezTo>
                    <a:pt x="898" y="134"/>
                    <a:pt x="899" y="133"/>
                    <a:pt x="899" y="133"/>
                  </a:cubicBezTo>
                  <a:cubicBezTo>
                    <a:pt x="899" y="126"/>
                    <a:pt x="900" y="117"/>
                    <a:pt x="901" y="107"/>
                  </a:cubicBezTo>
                  <a:cubicBezTo>
                    <a:pt x="901" y="110"/>
                    <a:pt x="901" y="114"/>
                    <a:pt x="901" y="117"/>
                  </a:cubicBezTo>
                  <a:cubicBezTo>
                    <a:pt x="900" y="123"/>
                    <a:pt x="899" y="129"/>
                    <a:pt x="899" y="133"/>
                  </a:cubicBezTo>
                  <a:close/>
                  <a:moveTo>
                    <a:pt x="903" y="159"/>
                  </a:move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ubicBezTo>
                    <a:pt x="903" y="159"/>
                    <a:pt x="903" y="159"/>
                    <a:pt x="903" y="159"/>
                  </a:cubicBezTo>
                  <a:close/>
                  <a:moveTo>
                    <a:pt x="944" y="143"/>
                  </a:moveTo>
                  <a:cubicBezTo>
                    <a:pt x="944" y="142"/>
                    <a:pt x="944" y="142"/>
                    <a:pt x="944" y="141"/>
                  </a:cubicBezTo>
                  <a:cubicBezTo>
                    <a:pt x="944" y="135"/>
                    <a:pt x="945" y="127"/>
                    <a:pt x="946" y="117"/>
                  </a:cubicBezTo>
                  <a:cubicBezTo>
                    <a:pt x="946" y="121"/>
                    <a:pt x="946" y="125"/>
                    <a:pt x="946" y="129"/>
                  </a:cubicBezTo>
                  <a:cubicBezTo>
                    <a:pt x="945" y="135"/>
                    <a:pt x="945" y="139"/>
                    <a:pt x="944" y="143"/>
                  </a:cubicBezTo>
                  <a:close/>
                  <a:moveTo>
                    <a:pt x="948" y="117"/>
                  </a:moveTo>
                  <a:cubicBezTo>
                    <a:pt x="947" y="115"/>
                    <a:pt x="947" y="113"/>
                    <a:pt x="946" y="111"/>
                  </a:cubicBezTo>
                  <a:cubicBezTo>
                    <a:pt x="946" y="108"/>
                    <a:pt x="947" y="104"/>
                    <a:pt x="947" y="100"/>
                  </a:cubicBezTo>
                  <a:cubicBezTo>
                    <a:pt x="948" y="103"/>
                    <a:pt x="948" y="106"/>
                    <a:pt x="949" y="108"/>
                  </a:cubicBezTo>
                  <a:cubicBezTo>
                    <a:pt x="948" y="111"/>
                    <a:pt x="948" y="114"/>
                    <a:pt x="948" y="117"/>
                  </a:cubicBezTo>
                  <a:close/>
                  <a:moveTo>
                    <a:pt x="956" y="133"/>
                  </a:moveTo>
                  <a:cubicBezTo>
                    <a:pt x="956" y="133"/>
                    <a:pt x="956" y="133"/>
                    <a:pt x="956" y="133"/>
                  </a:cubicBezTo>
                  <a:cubicBezTo>
                    <a:pt x="957" y="130"/>
                    <a:pt x="957" y="127"/>
                    <a:pt x="957" y="124"/>
                  </a:cubicBezTo>
                  <a:cubicBezTo>
                    <a:pt x="957" y="125"/>
                    <a:pt x="957" y="126"/>
                    <a:pt x="957" y="128"/>
                  </a:cubicBezTo>
                  <a:cubicBezTo>
                    <a:pt x="957" y="130"/>
                    <a:pt x="957" y="131"/>
                    <a:pt x="956" y="133"/>
                  </a:cubicBezTo>
                  <a:close/>
                  <a:moveTo>
                    <a:pt x="993" y="142"/>
                  </a:moveTo>
                  <a:cubicBezTo>
                    <a:pt x="993" y="139"/>
                    <a:pt x="993" y="134"/>
                    <a:pt x="993" y="128"/>
                  </a:cubicBezTo>
                  <a:cubicBezTo>
                    <a:pt x="993" y="130"/>
                    <a:pt x="994" y="132"/>
                    <a:pt x="994" y="133"/>
                  </a:cubicBezTo>
                  <a:cubicBezTo>
                    <a:pt x="993" y="139"/>
                    <a:pt x="993" y="142"/>
                    <a:pt x="993" y="142"/>
                  </a:cubicBezTo>
                  <a:close/>
                  <a:moveTo>
                    <a:pt x="1015" y="135"/>
                  </a:moveTo>
                  <a:cubicBezTo>
                    <a:pt x="1014" y="134"/>
                    <a:pt x="1014" y="134"/>
                    <a:pt x="1014" y="133"/>
                  </a:cubicBezTo>
                  <a:cubicBezTo>
                    <a:pt x="1014" y="121"/>
                    <a:pt x="1014" y="103"/>
                    <a:pt x="1013" y="88"/>
                  </a:cubicBezTo>
                  <a:cubicBezTo>
                    <a:pt x="1015" y="94"/>
                    <a:pt x="1017" y="100"/>
                    <a:pt x="1018" y="106"/>
                  </a:cubicBezTo>
                  <a:cubicBezTo>
                    <a:pt x="1017" y="118"/>
                    <a:pt x="1015" y="128"/>
                    <a:pt x="1015" y="135"/>
                  </a:cubicBezTo>
                  <a:close/>
                  <a:moveTo>
                    <a:pt x="1021" y="145"/>
                  </a:moveTo>
                  <a:cubicBezTo>
                    <a:pt x="1021" y="141"/>
                    <a:pt x="1021" y="136"/>
                    <a:pt x="1022" y="129"/>
                  </a:cubicBezTo>
                  <a:cubicBezTo>
                    <a:pt x="1022" y="133"/>
                    <a:pt x="1022" y="136"/>
                    <a:pt x="1023" y="139"/>
                  </a:cubicBezTo>
                  <a:cubicBezTo>
                    <a:pt x="1022" y="143"/>
                    <a:pt x="1021" y="145"/>
                    <a:pt x="1021" y="145"/>
                  </a:cubicBezTo>
                  <a:close/>
                  <a:moveTo>
                    <a:pt x="1027" y="159"/>
                  </a:moveTo>
                  <a:cubicBezTo>
                    <a:pt x="1027" y="159"/>
                    <a:pt x="1027" y="159"/>
                    <a:pt x="1027" y="159"/>
                  </a:cubicBezTo>
                  <a:cubicBezTo>
                    <a:pt x="1027" y="159"/>
                    <a:pt x="1027" y="158"/>
                    <a:pt x="1027" y="158"/>
                  </a:cubicBezTo>
                  <a:cubicBezTo>
                    <a:pt x="1027" y="159"/>
                    <a:pt x="1028" y="160"/>
                    <a:pt x="1028" y="160"/>
                  </a:cubicBezTo>
                  <a:cubicBezTo>
                    <a:pt x="1028" y="160"/>
                    <a:pt x="1027" y="159"/>
                    <a:pt x="1027" y="159"/>
                  </a:cubicBezTo>
                  <a:close/>
                  <a:moveTo>
                    <a:pt x="1028" y="121"/>
                  </a:moveTo>
                  <a:cubicBezTo>
                    <a:pt x="1026" y="117"/>
                    <a:pt x="1025" y="114"/>
                    <a:pt x="1023" y="110"/>
                  </a:cubicBezTo>
                  <a:cubicBezTo>
                    <a:pt x="1024" y="105"/>
                    <a:pt x="1024" y="99"/>
                    <a:pt x="1025" y="94"/>
                  </a:cubicBezTo>
                  <a:cubicBezTo>
                    <a:pt x="1026" y="100"/>
                    <a:pt x="1027" y="108"/>
                    <a:pt x="1029" y="116"/>
                  </a:cubicBezTo>
                  <a:cubicBezTo>
                    <a:pt x="1029" y="118"/>
                    <a:pt x="1028" y="119"/>
                    <a:pt x="1028" y="121"/>
                  </a:cubicBezTo>
                  <a:close/>
                  <a:moveTo>
                    <a:pt x="1036" y="142"/>
                  </a:moveTo>
                  <a:cubicBezTo>
                    <a:pt x="1035" y="138"/>
                    <a:pt x="1033" y="134"/>
                    <a:pt x="1031" y="129"/>
                  </a:cubicBezTo>
                  <a:cubicBezTo>
                    <a:pt x="1031" y="129"/>
                    <a:pt x="1031" y="128"/>
                    <a:pt x="1032" y="127"/>
                  </a:cubicBezTo>
                  <a:cubicBezTo>
                    <a:pt x="1033" y="132"/>
                    <a:pt x="1035" y="137"/>
                    <a:pt x="1036" y="142"/>
                  </a:cubicBezTo>
                  <a:cubicBezTo>
                    <a:pt x="1039" y="149"/>
                    <a:pt x="1041" y="153"/>
                    <a:pt x="1041" y="155"/>
                  </a:cubicBezTo>
                  <a:cubicBezTo>
                    <a:pt x="1040" y="151"/>
                    <a:pt x="1038" y="147"/>
                    <a:pt x="1036" y="142"/>
                  </a:cubicBezTo>
                  <a:close/>
                  <a:moveTo>
                    <a:pt x="1261" y="88"/>
                  </a:moveTo>
                  <a:cubicBezTo>
                    <a:pt x="1262" y="90"/>
                    <a:pt x="1263" y="93"/>
                    <a:pt x="1263" y="95"/>
                  </a:cubicBezTo>
                  <a:cubicBezTo>
                    <a:pt x="1263" y="94"/>
                    <a:pt x="1262" y="93"/>
                    <a:pt x="1261" y="92"/>
                  </a:cubicBezTo>
                  <a:cubicBezTo>
                    <a:pt x="1261" y="90"/>
                    <a:pt x="1261" y="89"/>
                    <a:pt x="1261" y="88"/>
                  </a:cubicBezTo>
                  <a:close/>
                  <a:moveTo>
                    <a:pt x="1249" y="84"/>
                  </a:moveTo>
                  <a:cubicBezTo>
                    <a:pt x="1252" y="88"/>
                    <a:pt x="1254" y="92"/>
                    <a:pt x="1257" y="96"/>
                  </a:cubicBezTo>
                  <a:cubicBezTo>
                    <a:pt x="1257" y="97"/>
                    <a:pt x="1258" y="99"/>
                    <a:pt x="1258" y="100"/>
                  </a:cubicBezTo>
                  <a:cubicBezTo>
                    <a:pt x="1258" y="104"/>
                    <a:pt x="1257" y="108"/>
                    <a:pt x="1256" y="112"/>
                  </a:cubicBezTo>
                  <a:cubicBezTo>
                    <a:pt x="1254" y="105"/>
                    <a:pt x="1251" y="98"/>
                    <a:pt x="1248" y="92"/>
                  </a:cubicBezTo>
                  <a:cubicBezTo>
                    <a:pt x="1249" y="89"/>
                    <a:pt x="1249" y="86"/>
                    <a:pt x="1249" y="84"/>
                  </a:cubicBezTo>
                  <a:close/>
                  <a:moveTo>
                    <a:pt x="1254" y="111"/>
                  </a:moveTo>
                  <a:cubicBezTo>
                    <a:pt x="1251" y="108"/>
                    <a:pt x="1249" y="105"/>
                    <a:pt x="1247" y="102"/>
                  </a:cubicBezTo>
                  <a:cubicBezTo>
                    <a:pt x="1247" y="99"/>
                    <a:pt x="1248" y="96"/>
                    <a:pt x="1248" y="93"/>
                  </a:cubicBezTo>
                  <a:cubicBezTo>
                    <a:pt x="1250" y="99"/>
                    <a:pt x="1252" y="105"/>
                    <a:pt x="1254" y="111"/>
                  </a:cubicBezTo>
                  <a:close/>
                  <a:moveTo>
                    <a:pt x="1236" y="56"/>
                  </a:moveTo>
                  <a:cubicBezTo>
                    <a:pt x="1241" y="62"/>
                    <a:pt x="1244" y="68"/>
                    <a:pt x="1248" y="74"/>
                  </a:cubicBezTo>
                  <a:cubicBezTo>
                    <a:pt x="1244" y="69"/>
                    <a:pt x="1240" y="64"/>
                    <a:pt x="1236" y="60"/>
                  </a:cubicBezTo>
                  <a:cubicBezTo>
                    <a:pt x="1236" y="59"/>
                    <a:pt x="1236" y="57"/>
                    <a:pt x="1236" y="56"/>
                  </a:cubicBezTo>
                  <a:close/>
                  <a:moveTo>
                    <a:pt x="1235" y="64"/>
                  </a:moveTo>
                  <a:cubicBezTo>
                    <a:pt x="1239" y="69"/>
                    <a:pt x="1243" y="74"/>
                    <a:pt x="1247" y="80"/>
                  </a:cubicBezTo>
                  <a:cubicBezTo>
                    <a:pt x="1246" y="82"/>
                    <a:pt x="1245" y="83"/>
                    <a:pt x="1245" y="85"/>
                  </a:cubicBezTo>
                  <a:cubicBezTo>
                    <a:pt x="1245" y="84"/>
                    <a:pt x="1244" y="83"/>
                    <a:pt x="1244" y="83"/>
                  </a:cubicBezTo>
                  <a:cubicBezTo>
                    <a:pt x="1244" y="83"/>
                    <a:pt x="1245" y="84"/>
                    <a:pt x="1245" y="85"/>
                  </a:cubicBezTo>
                  <a:cubicBezTo>
                    <a:pt x="1244" y="88"/>
                    <a:pt x="1243" y="91"/>
                    <a:pt x="1242" y="94"/>
                  </a:cubicBezTo>
                  <a:cubicBezTo>
                    <a:pt x="1239" y="90"/>
                    <a:pt x="1236" y="85"/>
                    <a:pt x="1233" y="80"/>
                  </a:cubicBezTo>
                  <a:cubicBezTo>
                    <a:pt x="1234" y="75"/>
                    <a:pt x="1235" y="69"/>
                    <a:pt x="1235" y="64"/>
                  </a:cubicBezTo>
                  <a:close/>
                  <a:moveTo>
                    <a:pt x="1226" y="139"/>
                  </a:moveTo>
                  <a:cubicBezTo>
                    <a:pt x="1226" y="120"/>
                    <a:pt x="1229" y="101"/>
                    <a:pt x="1233" y="83"/>
                  </a:cubicBezTo>
                  <a:cubicBezTo>
                    <a:pt x="1235" y="87"/>
                    <a:pt x="1238" y="91"/>
                    <a:pt x="1241" y="95"/>
                  </a:cubicBezTo>
                  <a:cubicBezTo>
                    <a:pt x="1235" y="114"/>
                    <a:pt x="1229" y="133"/>
                    <a:pt x="1227" y="152"/>
                  </a:cubicBezTo>
                  <a:cubicBezTo>
                    <a:pt x="1226" y="148"/>
                    <a:pt x="1226" y="143"/>
                    <a:pt x="1226" y="139"/>
                  </a:cubicBezTo>
                  <a:close/>
                  <a:moveTo>
                    <a:pt x="1245" y="143"/>
                  </a:moveTo>
                  <a:cubicBezTo>
                    <a:pt x="1245" y="142"/>
                    <a:pt x="1244" y="141"/>
                    <a:pt x="1243" y="140"/>
                  </a:cubicBezTo>
                  <a:cubicBezTo>
                    <a:pt x="1244" y="141"/>
                    <a:pt x="1244" y="143"/>
                    <a:pt x="1245" y="144"/>
                  </a:cubicBezTo>
                  <a:cubicBezTo>
                    <a:pt x="1243" y="147"/>
                    <a:pt x="1242" y="149"/>
                    <a:pt x="1241" y="152"/>
                  </a:cubicBezTo>
                  <a:cubicBezTo>
                    <a:pt x="1241" y="146"/>
                    <a:pt x="1242" y="141"/>
                    <a:pt x="1243" y="135"/>
                  </a:cubicBezTo>
                  <a:cubicBezTo>
                    <a:pt x="1244" y="137"/>
                    <a:pt x="1245" y="139"/>
                    <a:pt x="1246" y="142"/>
                  </a:cubicBezTo>
                  <a:cubicBezTo>
                    <a:pt x="1246" y="142"/>
                    <a:pt x="1246" y="142"/>
                    <a:pt x="1245" y="143"/>
                  </a:cubicBezTo>
                  <a:close/>
                  <a:moveTo>
                    <a:pt x="1244" y="127"/>
                  </a:moveTo>
                  <a:cubicBezTo>
                    <a:pt x="1245" y="119"/>
                    <a:pt x="1246" y="111"/>
                    <a:pt x="1247" y="103"/>
                  </a:cubicBezTo>
                  <a:cubicBezTo>
                    <a:pt x="1250" y="107"/>
                    <a:pt x="1253" y="112"/>
                    <a:pt x="1255" y="116"/>
                  </a:cubicBezTo>
                  <a:cubicBezTo>
                    <a:pt x="1254" y="122"/>
                    <a:pt x="1252" y="127"/>
                    <a:pt x="1250" y="133"/>
                  </a:cubicBezTo>
                  <a:cubicBezTo>
                    <a:pt x="1248" y="131"/>
                    <a:pt x="1246" y="128"/>
                    <a:pt x="1244" y="127"/>
                  </a:cubicBezTo>
                  <a:close/>
                  <a:moveTo>
                    <a:pt x="1256" y="140"/>
                  </a:moveTo>
                  <a:cubicBezTo>
                    <a:pt x="1256" y="140"/>
                    <a:pt x="1255" y="140"/>
                    <a:pt x="1255" y="140"/>
                  </a:cubicBezTo>
                  <a:cubicBezTo>
                    <a:pt x="1256" y="135"/>
                    <a:pt x="1257" y="130"/>
                    <a:pt x="1258" y="125"/>
                  </a:cubicBezTo>
                  <a:cubicBezTo>
                    <a:pt x="1258" y="127"/>
                    <a:pt x="1259" y="129"/>
                    <a:pt x="1259" y="130"/>
                  </a:cubicBezTo>
                  <a:cubicBezTo>
                    <a:pt x="1258" y="134"/>
                    <a:pt x="1257" y="137"/>
                    <a:pt x="1256" y="140"/>
                  </a:cubicBezTo>
                  <a:close/>
                  <a:moveTo>
                    <a:pt x="1262" y="122"/>
                  </a:moveTo>
                  <a:cubicBezTo>
                    <a:pt x="1261" y="120"/>
                    <a:pt x="1260" y="119"/>
                    <a:pt x="1259" y="117"/>
                  </a:cubicBezTo>
                  <a:cubicBezTo>
                    <a:pt x="1259" y="114"/>
                    <a:pt x="1260" y="110"/>
                    <a:pt x="1260" y="107"/>
                  </a:cubicBezTo>
                  <a:cubicBezTo>
                    <a:pt x="1261" y="111"/>
                    <a:pt x="1262" y="115"/>
                    <a:pt x="1263" y="120"/>
                  </a:cubicBezTo>
                  <a:cubicBezTo>
                    <a:pt x="1263" y="120"/>
                    <a:pt x="1263" y="121"/>
                    <a:pt x="1262" y="122"/>
                  </a:cubicBezTo>
                  <a:close/>
                  <a:moveTo>
                    <a:pt x="1264" y="151"/>
                  </a:moveTo>
                  <a:cubicBezTo>
                    <a:pt x="1264" y="151"/>
                    <a:pt x="1264" y="151"/>
                    <a:pt x="1264" y="151"/>
                  </a:cubicBezTo>
                  <a:cubicBezTo>
                    <a:pt x="1264" y="150"/>
                    <a:pt x="1264" y="150"/>
                    <a:pt x="1264" y="149"/>
                  </a:cubicBezTo>
                  <a:cubicBezTo>
                    <a:pt x="1264" y="149"/>
                    <a:pt x="1264" y="149"/>
                    <a:pt x="1264" y="149"/>
                  </a:cubicBezTo>
                  <a:cubicBezTo>
                    <a:pt x="1264" y="150"/>
                    <a:pt x="1264" y="150"/>
                    <a:pt x="1264" y="151"/>
                  </a:cubicBezTo>
                  <a:close/>
                  <a:moveTo>
                    <a:pt x="1264" y="118"/>
                  </a:moveTo>
                  <a:cubicBezTo>
                    <a:pt x="1263" y="112"/>
                    <a:pt x="1262" y="107"/>
                    <a:pt x="1261" y="102"/>
                  </a:cubicBezTo>
                  <a:cubicBezTo>
                    <a:pt x="1261" y="102"/>
                    <a:pt x="1261" y="102"/>
                    <a:pt x="1261" y="101"/>
                  </a:cubicBezTo>
                  <a:cubicBezTo>
                    <a:pt x="1263" y="105"/>
                    <a:pt x="1265" y="108"/>
                    <a:pt x="1267" y="112"/>
                  </a:cubicBezTo>
                  <a:cubicBezTo>
                    <a:pt x="1266" y="113"/>
                    <a:pt x="1265" y="115"/>
                    <a:pt x="1265" y="116"/>
                  </a:cubicBezTo>
                  <a:cubicBezTo>
                    <a:pt x="1265" y="117"/>
                    <a:pt x="1264" y="117"/>
                    <a:pt x="1264" y="118"/>
                  </a:cubicBezTo>
                  <a:close/>
                  <a:moveTo>
                    <a:pt x="1267" y="143"/>
                  </a:moveTo>
                  <a:cubicBezTo>
                    <a:pt x="1267" y="143"/>
                    <a:pt x="1266" y="142"/>
                    <a:pt x="1266" y="142"/>
                  </a:cubicBezTo>
                  <a:cubicBezTo>
                    <a:pt x="1267" y="141"/>
                    <a:pt x="1267" y="141"/>
                    <a:pt x="1267" y="140"/>
                  </a:cubicBezTo>
                  <a:cubicBezTo>
                    <a:pt x="1267" y="141"/>
                    <a:pt x="1267" y="141"/>
                    <a:pt x="1267" y="142"/>
                  </a:cubicBezTo>
                  <a:cubicBezTo>
                    <a:pt x="1267" y="142"/>
                    <a:pt x="1267" y="142"/>
                    <a:pt x="1267" y="143"/>
                  </a:cubicBezTo>
                  <a:close/>
                  <a:moveTo>
                    <a:pt x="1272" y="151"/>
                  </a:moveTo>
                  <a:cubicBezTo>
                    <a:pt x="1272" y="151"/>
                    <a:pt x="1272" y="151"/>
                    <a:pt x="1272" y="151"/>
                  </a:cubicBezTo>
                  <a:cubicBezTo>
                    <a:pt x="1272" y="151"/>
                    <a:pt x="1272" y="152"/>
                    <a:pt x="1272" y="152"/>
                  </a:cubicBezTo>
                  <a:cubicBezTo>
                    <a:pt x="1272" y="152"/>
                    <a:pt x="1272" y="152"/>
                    <a:pt x="1272" y="151"/>
                  </a:cubicBezTo>
                  <a:close/>
                  <a:moveTo>
                    <a:pt x="1274" y="126"/>
                  </a:moveTo>
                  <a:cubicBezTo>
                    <a:pt x="1274" y="128"/>
                    <a:pt x="1273" y="129"/>
                    <a:pt x="1272" y="131"/>
                  </a:cubicBezTo>
                  <a:cubicBezTo>
                    <a:pt x="1272" y="129"/>
                    <a:pt x="1272" y="127"/>
                    <a:pt x="1272" y="125"/>
                  </a:cubicBezTo>
                  <a:cubicBezTo>
                    <a:pt x="1272" y="124"/>
                    <a:pt x="1272" y="123"/>
                    <a:pt x="1273" y="122"/>
                  </a:cubicBezTo>
                  <a:cubicBezTo>
                    <a:pt x="1273" y="123"/>
                    <a:pt x="1274" y="124"/>
                    <a:pt x="1274" y="125"/>
                  </a:cubicBezTo>
                  <a:lnTo>
                    <a:pt x="1274" y="126"/>
                  </a:lnTo>
                  <a:close/>
                  <a:moveTo>
                    <a:pt x="1282" y="91"/>
                  </a:moveTo>
                  <a:cubicBezTo>
                    <a:pt x="1282" y="93"/>
                    <a:pt x="1282" y="94"/>
                    <a:pt x="1282" y="96"/>
                  </a:cubicBezTo>
                  <a:cubicBezTo>
                    <a:pt x="1282" y="95"/>
                    <a:pt x="1282" y="94"/>
                    <a:pt x="1281" y="93"/>
                  </a:cubicBezTo>
                  <a:cubicBezTo>
                    <a:pt x="1281" y="93"/>
                    <a:pt x="1282" y="92"/>
                    <a:pt x="1282" y="91"/>
                  </a:cubicBezTo>
                  <a:close/>
                  <a:moveTo>
                    <a:pt x="1280" y="117"/>
                  </a:moveTo>
                  <a:cubicBezTo>
                    <a:pt x="1279" y="113"/>
                    <a:pt x="1278" y="110"/>
                    <a:pt x="1278" y="106"/>
                  </a:cubicBezTo>
                  <a:cubicBezTo>
                    <a:pt x="1278" y="106"/>
                    <a:pt x="1278" y="105"/>
                    <a:pt x="1278" y="104"/>
                  </a:cubicBezTo>
                  <a:cubicBezTo>
                    <a:pt x="1279" y="107"/>
                    <a:pt x="1280" y="111"/>
                    <a:pt x="1281" y="114"/>
                  </a:cubicBezTo>
                  <a:cubicBezTo>
                    <a:pt x="1281" y="115"/>
                    <a:pt x="1280" y="116"/>
                    <a:pt x="1280" y="117"/>
                  </a:cubicBezTo>
                  <a:close/>
                  <a:moveTo>
                    <a:pt x="1283" y="127"/>
                  </a:moveTo>
                  <a:cubicBezTo>
                    <a:pt x="1282" y="127"/>
                    <a:pt x="1282" y="126"/>
                    <a:pt x="1282" y="126"/>
                  </a:cubicBezTo>
                  <a:cubicBezTo>
                    <a:pt x="1282" y="125"/>
                    <a:pt x="1282" y="125"/>
                    <a:pt x="1283" y="124"/>
                  </a:cubicBezTo>
                  <a:cubicBezTo>
                    <a:pt x="1283" y="125"/>
                    <a:pt x="1283" y="126"/>
                    <a:pt x="1283" y="127"/>
                  </a:cubicBezTo>
                  <a:close/>
                  <a:moveTo>
                    <a:pt x="1289" y="141"/>
                  </a:moveTo>
                  <a:cubicBezTo>
                    <a:pt x="1289" y="140"/>
                    <a:pt x="1289" y="140"/>
                    <a:pt x="1289" y="140"/>
                  </a:cubicBezTo>
                  <a:cubicBezTo>
                    <a:pt x="1289" y="139"/>
                    <a:pt x="1289" y="139"/>
                    <a:pt x="1289" y="139"/>
                  </a:cubicBezTo>
                  <a:cubicBezTo>
                    <a:pt x="1289" y="139"/>
                    <a:pt x="1289" y="140"/>
                    <a:pt x="1289" y="141"/>
                  </a:cubicBezTo>
                  <a:close/>
                  <a:moveTo>
                    <a:pt x="1321" y="64"/>
                  </a:moveTo>
                  <a:cubicBezTo>
                    <a:pt x="1322" y="69"/>
                    <a:pt x="1323" y="75"/>
                    <a:pt x="1324" y="80"/>
                  </a:cubicBezTo>
                  <a:cubicBezTo>
                    <a:pt x="1322" y="83"/>
                    <a:pt x="1321" y="85"/>
                    <a:pt x="1319" y="87"/>
                  </a:cubicBezTo>
                  <a:cubicBezTo>
                    <a:pt x="1319" y="86"/>
                    <a:pt x="1318" y="84"/>
                    <a:pt x="1317" y="83"/>
                  </a:cubicBezTo>
                  <a:cubicBezTo>
                    <a:pt x="1318" y="84"/>
                    <a:pt x="1319" y="86"/>
                    <a:pt x="1319" y="87"/>
                  </a:cubicBezTo>
                  <a:cubicBezTo>
                    <a:pt x="1318" y="90"/>
                    <a:pt x="1316" y="92"/>
                    <a:pt x="1315" y="94"/>
                  </a:cubicBezTo>
                  <a:cubicBezTo>
                    <a:pt x="1313" y="89"/>
                    <a:pt x="1312" y="85"/>
                    <a:pt x="1310" y="80"/>
                  </a:cubicBezTo>
                  <a:cubicBezTo>
                    <a:pt x="1314" y="74"/>
                    <a:pt x="1318" y="69"/>
                    <a:pt x="1321" y="64"/>
                  </a:cubicBezTo>
                  <a:close/>
                  <a:moveTo>
                    <a:pt x="1292" y="108"/>
                  </a:moveTo>
                  <a:cubicBezTo>
                    <a:pt x="1293" y="106"/>
                    <a:pt x="1295" y="104"/>
                    <a:pt x="1296" y="101"/>
                  </a:cubicBezTo>
                  <a:cubicBezTo>
                    <a:pt x="1296" y="107"/>
                    <a:pt x="1297" y="112"/>
                    <a:pt x="1298" y="117"/>
                  </a:cubicBezTo>
                  <a:cubicBezTo>
                    <a:pt x="1297" y="119"/>
                    <a:pt x="1295" y="120"/>
                    <a:pt x="1294" y="122"/>
                  </a:cubicBezTo>
                  <a:cubicBezTo>
                    <a:pt x="1294" y="117"/>
                    <a:pt x="1293" y="113"/>
                    <a:pt x="1292" y="108"/>
                  </a:cubicBezTo>
                  <a:close/>
                  <a:moveTo>
                    <a:pt x="1299" y="134"/>
                  </a:moveTo>
                  <a:cubicBezTo>
                    <a:pt x="1298" y="131"/>
                    <a:pt x="1297" y="128"/>
                    <a:pt x="1296" y="126"/>
                  </a:cubicBezTo>
                  <a:cubicBezTo>
                    <a:pt x="1297" y="125"/>
                    <a:pt x="1298" y="123"/>
                    <a:pt x="1298" y="122"/>
                  </a:cubicBezTo>
                  <a:cubicBezTo>
                    <a:pt x="1299" y="124"/>
                    <a:pt x="1299" y="125"/>
                    <a:pt x="1299" y="127"/>
                  </a:cubicBezTo>
                  <a:cubicBezTo>
                    <a:pt x="1299" y="129"/>
                    <a:pt x="1299" y="131"/>
                    <a:pt x="1299" y="134"/>
                  </a:cubicBezTo>
                  <a:close/>
                  <a:moveTo>
                    <a:pt x="1298" y="98"/>
                  </a:moveTo>
                  <a:cubicBezTo>
                    <a:pt x="1298" y="98"/>
                    <a:pt x="1298" y="98"/>
                    <a:pt x="1299" y="97"/>
                  </a:cubicBezTo>
                  <a:cubicBezTo>
                    <a:pt x="1299" y="101"/>
                    <a:pt x="1299" y="105"/>
                    <a:pt x="1299" y="108"/>
                  </a:cubicBezTo>
                  <a:cubicBezTo>
                    <a:pt x="1299" y="105"/>
                    <a:pt x="1298" y="101"/>
                    <a:pt x="1298" y="98"/>
                  </a:cubicBezTo>
                  <a:close/>
                  <a:moveTo>
                    <a:pt x="1298" y="82"/>
                  </a:moveTo>
                  <a:cubicBezTo>
                    <a:pt x="1298" y="78"/>
                    <a:pt x="1298" y="74"/>
                    <a:pt x="1299" y="72"/>
                  </a:cubicBezTo>
                  <a:cubicBezTo>
                    <a:pt x="1301" y="75"/>
                    <a:pt x="1302" y="78"/>
                    <a:pt x="1304" y="80"/>
                  </a:cubicBezTo>
                  <a:cubicBezTo>
                    <a:pt x="1302" y="82"/>
                    <a:pt x="1301" y="84"/>
                    <a:pt x="1299" y="86"/>
                  </a:cubicBezTo>
                  <a:cubicBezTo>
                    <a:pt x="1299" y="85"/>
                    <a:pt x="1298" y="83"/>
                    <a:pt x="1298" y="82"/>
                  </a:cubicBezTo>
                  <a:close/>
                  <a:moveTo>
                    <a:pt x="1302" y="92"/>
                  </a:moveTo>
                  <a:cubicBezTo>
                    <a:pt x="1303" y="90"/>
                    <a:pt x="1305" y="88"/>
                    <a:pt x="1306" y="86"/>
                  </a:cubicBezTo>
                  <a:cubicBezTo>
                    <a:pt x="1307" y="88"/>
                    <a:pt x="1308" y="91"/>
                    <a:pt x="1309" y="93"/>
                  </a:cubicBezTo>
                  <a:cubicBezTo>
                    <a:pt x="1309" y="96"/>
                    <a:pt x="1309" y="99"/>
                    <a:pt x="1310" y="102"/>
                  </a:cubicBezTo>
                  <a:cubicBezTo>
                    <a:pt x="1309" y="104"/>
                    <a:pt x="1308" y="105"/>
                    <a:pt x="1306" y="106"/>
                  </a:cubicBezTo>
                  <a:cubicBezTo>
                    <a:pt x="1305" y="102"/>
                    <a:pt x="1304" y="97"/>
                    <a:pt x="1302" y="92"/>
                  </a:cubicBezTo>
                  <a:close/>
                  <a:moveTo>
                    <a:pt x="1307" y="108"/>
                  </a:moveTo>
                  <a:cubicBezTo>
                    <a:pt x="1308" y="106"/>
                    <a:pt x="1309" y="104"/>
                    <a:pt x="1310" y="103"/>
                  </a:cubicBezTo>
                  <a:cubicBezTo>
                    <a:pt x="1312" y="118"/>
                    <a:pt x="1314" y="133"/>
                    <a:pt x="1316" y="149"/>
                  </a:cubicBezTo>
                  <a:cubicBezTo>
                    <a:pt x="1313" y="137"/>
                    <a:pt x="1311" y="122"/>
                    <a:pt x="1307" y="108"/>
                  </a:cubicBezTo>
                  <a:close/>
                  <a:moveTo>
                    <a:pt x="1315" y="95"/>
                  </a:moveTo>
                  <a:cubicBezTo>
                    <a:pt x="1317" y="93"/>
                    <a:pt x="1318" y="91"/>
                    <a:pt x="1320" y="89"/>
                  </a:cubicBezTo>
                  <a:cubicBezTo>
                    <a:pt x="1326" y="103"/>
                    <a:pt x="1327" y="120"/>
                    <a:pt x="1327" y="136"/>
                  </a:cubicBezTo>
                  <a:cubicBezTo>
                    <a:pt x="1324" y="122"/>
                    <a:pt x="1320" y="109"/>
                    <a:pt x="1315" y="95"/>
                  </a:cubicBezTo>
                  <a:close/>
                  <a:moveTo>
                    <a:pt x="1320" y="89"/>
                  </a:moveTo>
                  <a:cubicBezTo>
                    <a:pt x="1322" y="87"/>
                    <a:pt x="1323" y="85"/>
                    <a:pt x="1324" y="83"/>
                  </a:cubicBezTo>
                  <a:cubicBezTo>
                    <a:pt x="1325" y="90"/>
                    <a:pt x="1327" y="98"/>
                    <a:pt x="1328" y="105"/>
                  </a:cubicBezTo>
                  <a:cubicBezTo>
                    <a:pt x="1325" y="99"/>
                    <a:pt x="1323" y="94"/>
                    <a:pt x="1320" y="89"/>
                  </a:cubicBezTo>
                  <a:close/>
                  <a:moveTo>
                    <a:pt x="1333" y="92"/>
                  </a:moveTo>
                  <a:cubicBezTo>
                    <a:pt x="1331" y="87"/>
                    <a:pt x="1330" y="81"/>
                    <a:pt x="1329" y="74"/>
                  </a:cubicBezTo>
                  <a:cubicBezTo>
                    <a:pt x="1331" y="71"/>
                    <a:pt x="1333" y="68"/>
                    <a:pt x="1334" y="65"/>
                  </a:cubicBezTo>
                  <a:cubicBezTo>
                    <a:pt x="1336" y="69"/>
                    <a:pt x="1339" y="72"/>
                    <a:pt x="1341" y="75"/>
                  </a:cubicBezTo>
                  <a:cubicBezTo>
                    <a:pt x="1341" y="77"/>
                    <a:pt x="1341" y="79"/>
                    <a:pt x="1341" y="81"/>
                  </a:cubicBezTo>
                  <a:cubicBezTo>
                    <a:pt x="1340" y="80"/>
                    <a:pt x="1340" y="80"/>
                    <a:pt x="1339" y="79"/>
                  </a:cubicBezTo>
                  <a:cubicBezTo>
                    <a:pt x="1340" y="80"/>
                    <a:pt x="1340" y="81"/>
                    <a:pt x="1341" y="81"/>
                  </a:cubicBezTo>
                  <a:cubicBezTo>
                    <a:pt x="1340" y="86"/>
                    <a:pt x="1340" y="90"/>
                    <a:pt x="1340" y="91"/>
                  </a:cubicBezTo>
                  <a:cubicBezTo>
                    <a:pt x="1340" y="95"/>
                    <a:pt x="1340" y="100"/>
                    <a:pt x="1341" y="104"/>
                  </a:cubicBezTo>
                  <a:cubicBezTo>
                    <a:pt x="1340" y="101"/>
                    <a:pt x="1340" y="99"/>
                    <a:pt x="1339" y="96"/>
                  </a:cubicBezTo>
                  <a:cubicBezTo>
                    <a:pt x="1340" y="100"/>
                    <a:pt x="1340" y="104"/>
                    <a:pt x="1341" y="108"/>
                  </a:cubicBezTo>
                  <a:cubicBezTo>
                    <a:pt x="1341" y="120"/>
                    <a:pt x="1342" y="132"/>
                    <a:pt x="1342" y="143"/>
                  </a:cubicBezTo>
                  <a:cubicBezTo>
                    <a:pt x="1340" y="126"/>
                    <a:pt x="1337" y="109"/>
                    <a:pt x="1333" y="92"/>
                  </a:cubicBezTo>
                  <a:close/>
                  <a:moveTo>
                    <a:pt x="1356" y="125"/>
                  </a:moveTo>
                  <a:cubicBezTo>
                    <a:pt x="1353" y="116"/>
                    <a:pt x="1351" y="108"/>
                    <a:pt x="1348" y="99"/>
                  </a:cubicBezTo>
                  <a:cubicBezTo>
                    <a:pt x="1346" y="93"/>
                    <a:pt x="1345" y="87"/>
                    <a:pt x="1345" y="82"/>
                  </a:cubicBezTo>
                  <a:cubicBezTo>
                    <a:pt x="1350" y="91"/>
                    <a:pt x="1353" y="100"/>
                    <a:pt x="1356" y="109"/>
                  </a:cubicBezTo>
                  <a:cubicBezTo>
                    <a:pt x="1356" y="114"/>
                    <a:pt x="1356" y="120"/>
                    <a:pt x="1356" y="125"/>
                  </a:cubicBezTo>
                  <a:close/>
                  <a:moveTo>
                    <a:pt x="1356" y="97"/>
                  </a:moveTo>
                  <a:cubicBezTo>
                    <a:pt x="1353" y="90"/>
                    <a:pt x="1349" y="83"/>
                    <a:pt x="1344" y="77"/>
                  </a:cubicBezTo>
                  <a:cubicBezTo>
                    <a:pt x="1344" y="72"/>
                    <a:pt x="1343" y="67"/>
                    <a:pt x="1344" y="63"/>
                  </a:cubicBezTo>
                  <a:cubicBezTo>
                    <a:pt x="1349" y="70"/>
                    <a:pt x="1353" y="77"/>
                    <a:pt x="1357" y="85"/>
                  </a:cubicBezTo>
                  <a:cubicBezTo>
                    <a:pt x="1357" y="89"/>
                    <a:pt x="1357" y="93"/>
                    <a:pt x="1356" y="97"/>
                  </a:cubicBezTo>
                  <a:close/>
                  <a:moveTo>
                    <a:pt x="1366" y="119"/>
                  </a:moveTo>
                  <a:cubicBezTo>
                    <a:pt x="1365" y="110"/>
                    <a:pt x="1363" y="102"/>
                    <a:pt x="1361" y="93"/>
                  </a:cubicBezTo>
                  <a:cubicBezTo>
                    <a:pt x="1363" y="98"/>
                    <a:pt x="1366" y="104"/>
                    <a:pt x="1367" y="109"/>
                  </a:cubicBezTo>
                  <a:cubicBezTo>
                    <a:pt x="1368" y="112"/>
                    <a:pt x="1368" y="114"/>
                    <a:pt x="1369" y="116"/>
                  </a:cubicBezTo>
                  <a:cubicBezTo>
                    <a:pt x="1369" y="120"/>
                    <a:pt x="1369" y="124"/>
                    <a:pt x="1369" y="127"/>
                  </a:cubicBezTo>
                  <a:cubicBezTo>
                    <a:pt x="1368" y="125"/>
                    <a:pt x="1367" y="122"/>
                    <a:pt x="1366" y="119"/>
                  </a:cubicBezTo>
                  <a:close/>
                  <a:moveTo>
                    <a:pt x="1377" y="151"/>
                  </a:moveTo>
                  <a:cubicBezTo>
                    <a:pt x="1377" y="151"/>
                    <a:pt x="1377" y="151"/>
                    <a:pt x="1377" y="151"/>
                  </a:cubicBezTo>
                  <a:cubicBezTo>
                    <a:pt x="1377" y="151"/>
                    <a:pt x="1377" y="150"/>
                    <a:pt x="1377" y="150"/>
                  </a:cubicBezTo>
                  <a:cubicBezTo>
                    <a:pt x="1377" y="150"/>
                    <a:pt x="1377" y="150"/>
                    <a:pt x="1377" y="150"/>
                  </a:cubicBezTo>
                  <a:cubicBezTo>
                    <a:pt x="1377" y="151"/>
                    <a:pt x="1377" y="151"/>
                    <a:pt x="1377" y="151"/>
                  </a:cubicBezTo>
                  <a:close/>
                  <a:moveTo>
                    <a:pt x="1383" y="114"/>
                  </a:moveTo>
                  <a:cubicBezTo>
                    <a:pt x="1381" y="105"/>
                    <a:pt x="1378" y="96"/>
                    <a:pt x="1374" y="88"/>
                  </a:cubicBezTo>
                  <a:cubicBezTo>
                    <a:pt x="1378" y="97"/>
                    <a:pt x="1380" y="110"/>
                    <a:pt x="1382" y="122"/>
                  </a:cubicBezTo>
                  <a:cubicBezTo>
                    <a:pt x="1381" y="127"/>
                    <a:pt x="1380" y="132"/>
                    <a:pt x="1379" y="136"/>
                  </a:cubicBezTo>
                  <a:cubicBezTo>
                    <a:pt x="1378" y="134"/>
                    <a:pt x="1378" y="133"/>
                    <a:pt x="1377" y="131"/>
                  </a:cubicBezTo>
                  <a:cubicBezTo>
                    <a:pt x="1377" y="117"/>
                    <a:pt x="1376" y="102"/>
                    <a:pt x="1374" y="87"/>
                  </a:cubicBezTo>
                  <a:cubicBezTo>
                    <a:pt x="1374" y="87"/>
                    <a:pt x="1374" y="88"/>
                    <a:pt x="1374" y="88"/>
                  </a:cubicBezTo>
                  <a:cubicBezTo>
                    <a:pt x="1374" y="88"/>
                    <a:pt x="1374" y="87"/>
                    <a:pt x="1374" y="87"/>
                  </a:cubicBezTo>
                  <a:cubicBezTo>
                    <a:pt x="1373" y="82"/>
                    <a:pt x="1373" y="78"/>
                    <a:pt x="1372" y="73"/>
                  </a:cubicBezTo>
                  <a:cubicBezTo>
                    <a:pt x="1379" y="81"/>
                    <a:pt x="1383" y="91"/>
                    <a:pt x="1386" y="101"/>
                  </a:cubicBezTo>
                  <a:cubicBezTo>
                    <a:pt x="1385" y="105"/>
                    <a:pt x="1384" y="109"/>
                    <a:pt x="1383" y="114"/>
                  </a:cubicBezTo>
                  <a:close/>
                  <a:moveTo>
                    <a:pt x="1390" y="138"/>
                  </a:moveTo>
                  <a:cubicBezTo>
                    <a:pt x="1389" y="137"/>
                    <a:pt x="1389" y="136"/>
                    <a:pt x="1389" y="135"/>
                  </a:cubicBezTo>
                  <a:cubicBezTo>
                    <a:pt x="1389" y="124"/>
                    <a:pt x="1385" y="112"/>
                    <a:pt x="1386" y="101"/>
                  </a:cubicBezTo>
                  <a:cubicBezTo>
                    <a:pt x="1389" y="110"/>
                    <a:pt x="1391" y="119"/>
                    <a:pt x="1392" y="128"/>
                  </a:cubicBezTo>
                  <a:cubicBezTo>
                    <a:pt x="1391" y="132"/>
                    <a:pt x="1390" y="135"/>
                    <a:pt x="1390" y="138"/>
                  </a:cubicBezTo>
                  <a:close/>
                  <a:moveTo>
                    <a:pt x="1405" y="136"/>
                  </a:moveTo>
                  <a:cubicBezTo>
                    <a:pt x="1405" y="135"/>
                    <a:pt x="1404" y="134"/>
                    <a:pt x="1404" y="133"/>
                  </a:cubicBezTo>
                  <a:cubicBezTo>
                    <a:pt x="1403" y="131"/>
                    <a:pt x="1403" y="129"/>
                    <a:pt x="1402" y="128"/>
                  </a:cubicBezTo>
                  <a:cubicBezTo>
                    <a:pt x="1402" y="127"/>
                    <a:pt x="1402" y="127"/>
                    <a:pt x="1402" y="127"/>
                  </a:cubicBezTo>
                  <a:cubicBezTo>
                    <a:pt x="1403" y="129"/>
                    <a:pt x="1403" y="131"/>
                    <a:pt x="1404" y="133"/>
                  </a:cubicBezTo>
                  <a:cubicBezTo>
                    <a:pt x="1404" y="134"/>
                    <a:pt x="1405" y="135"/>
                    <a:pt x="1405" y="136"/>
                  </a:cubicBezTo>
                  <a:cubicBezTo>
                    <a:pt x="1405" y="136"/>
                    <a:pt x="1405" y="136"/>
                    <a:pt x="1405" y="136"/>
                  </a:cubicBezTo>
                  <a:close/>
                  <a:moveTo>
                    <a:pt x="1406" y="133"/>
                  </a:moveTo>
                  <a:cubicBezTo>
                    <a:pt x="1405" y="129"/>
                    <a:pt x="1404" y="125"/>
                    <a:pt x="1402" y="120"/>
                  </a:cubicBezTo>
                  <a:cubicBezTo>
                    <a:pt x="1402" y="119"/>
                    <a:pt x="1402" y="117"/>
                    <a:pt x="1402" y="115"/>
                  </a:cubicBezTo>
                  <a:cubicBezTo>
                    <a:pt x="1402" y="112"/>
                    <a:pt x="1402" y="109"/>
                    <a:pt x="1403" y="105"/>
                  </a:cubicBezTo>
                  <a:cubicBezTo>
                    <a:pt x="1405" y="112"/>
                    <a:pt x="1406" y="119"/>
                    <a:pt x="1408" y="126"/>
                  </a:cubicBezTo>
                  <a:cubicBezTo>
                    <a:pt x="1407" y="128"/>
                    <a:pt x="1407" y="130"/>
                    <a:pt x="1406" y="133"/>
                  </a:cubicBezTo>
                  <a:close/>
                  <a:moveTo>
                    <a:pt x="1420" y="139"/>
                  </a:moveTo>
                  <a:cubicBezTo>
                    <a:pt x="1420" y="139"/>
                    <a:pt x="1420" y="139"/>
                    <a:pt x="1420" y="139"/>
                  </a:cubicBezTo>
                  <a:cubicBezTo>
                    <a:pt x="1420" y="137"/>
                    <a:pt x="1420" y="135"/>
                    <a:pt x="1420" y="133"/>
                  </a:cubicBezTo>
                  <a:cubicBezTo>
                    <a:pt x="1420" y="134"/>
                    <a:pt x="1420" y="134"/>
                    <a:pt x="1420" y="135"/>
                  </a:cubicBezTo>
                  <a:cubicBezTo>
                    <a:pt x="1420" y="136"/>
                    <a:pt x="1420" y="138"/>
                    <a:pt x="1420" y="139"/>
                  </a:cubicBezTo>
                  <a:close/>
                  <a:moveTo>
                    <a:pt x="1441" y="150"/>
                  </a:moveTo>
                  <a:cubicBezTo>
                    <a:pt x="1440" y="148"/>
                    <a:pt x="1439" y="147"/>
                    <a:pt x="1439" y="146"/>
                  </a:cubicBezTo>
                  <a:cubicBezTo>
                    <a:pt x="1438" y="131"/>
                    <a:pt x="1434" y="116"/>
                    <a:pt x="1432" y="101"/>
                  </a:cubicBezTo>
                  <a:cubicBezTo>
                    <a:pt x="1437" y="115"/>
                    <a:pt x="1439" y="132"/>
                    <a:pt x="1441" y="146"/>
                  </a:cubicBezTo>
                  <a:cubicBezTo>
                    <a:pt x="1441" y="147"/>
                    <a:pt x="1441" y="148"/>
                    <a:pt x="1441" y="150"/>
                  </a:cubicBezTo>
                  <a:close/>
                  <a:moveTo>
                    <a:pt x="1445" y="143"/>
                  </a:moveTo>
                  <a:cubicBezTo>
                    <a:pt x="1445" y="142"/>
                    <a:pt x="1445" y="141"/>
                    <a:pt x="1445" y="140"/>
                  </a:cubicBezTo>
                  <a:cubicBezTo>
                    <a:pt x="1445" y="139"/>
                    <a:pt x="1445" y="139"/>
                    <a:pt x="1445" y="139"/>
                  </a:cubicBezTo>
                  <a:cubicBezTo>
                    <a:pt x="1445" y="140"/>
                    <a:pt x="1445" y="141"/>
                    <a:pt x="1445" y="142"/>
                  </a:cubicBezTo>
                  <a:cubicBezTo>
                    <a:pt x="1445" y="142"/>
                    <a:pt x="1445" y="143"/>
                    <a:pt x="1445" y="143"/>
                  </a:cubicBezTo>
                  <a:close/>
                  <a:moveTo>
                    <a:pt x="1458" y="139"/>
                  </a:moveTo>
                  <a:cubicBezTo>
                    <a:pt x="1457" y="142"/>
                    <a:pt x="1456" y="145"/>
                    <a:pt x="1455" y="147"/>
                  </a:cubicBezTo>
                  <a:cubicBezTo>
                    <a:pt x="1455" y="146"/>
                    <a:pt x="1454" y="145"/>
                    <a:pt x="1454" y="144"/>
                  </a:cubicBezTo>
                  <a:cubicBezTo>
                    <a:pt x="1456" y="132"/>
                    <a:pt x="1456" y="120"/>
                    <a:pt x="1458" y="108"/>
                  </a:cubicBezTo>
                  <a:cubicBezTo>
                    <a:pt x="1460" y="116"/>
                    <a:pt x="1459" y="128"/>
                    <a:pt x="1458" y="139"/>
                  </a:cubicBezTo>
                  <a:close/>
                  <a:moveTo>
                    <a:pt x="1458" y="108"/>
                  </a:moveTo>
                  <a:cubicBezTo>
                    <a:pt x="1459" y="104"/>
                    <a:pt x="1459" y="100"/>
                    <a:pt x="1461" y="97"/>
                  </a:cubicBezTo>
                  <a:cubicBezTo>
                    <a:pt x="1462" y="100"/>
                    <a:pt x="1463" y="103"/>
                    <a:pt x="1464" y="107"/>
                  </a:cubicBezTo>
                  <a:cubicBezTo>
                    <a:pt x="1463" y="112"/>
                    <a:pt x="1463" y="117"/>
                    <a:pt x="1462" y="122"/>
                  </a:cubicBezTo>
                  <a:cubicBezTo>
                    <a:pt x="1460" y="116"/>
                    <a:pt x="1459" y="111"/>
                    <a:pt x="1458" y="108"/>
                  </a:cubicBezTo>
                  <a:close/>
                  <a:moveTo>
                    <a:pt x="1466" y="134"/>
                  </a:moveTo>
                  <a:cubicBezTo>
                    <a:pt x="1465" y="132"/>
                    <a:pt x="1464" y="130"/>
                    <a:pt x="1464" y="128"/>
                  </a:cubicBezTo>
                  <a:cubicBezTo>
                    <a:pt x="1464" y="121"/>
                    <a:pt x="1464" y="114"/>
                    <a:pt x="1464" y="107"/>
                  </a:cubicBezTo>
                  <a:cubicBezTo>
                    <a:pt x="1466" y="113"/>
                    <a:pt x="1467" y="118"/>
                    <a:pt x="1468" y="124"/>
                  </a:cubicBezTo>
                  <a:cubicBezTo>
                    <a:pt x="1467" y="128"/>
                    <a:pt x="1466" y="131"/>
                    <a:pt x="1466" y="134"/>
                  </a:cubicBezTo>
                  <a:close/>
                  <a:moveTo>
                    <a:pt x="1470" y="118"/>
                  </a:moveTo>
                  <a:cubicBezTo>
                    <a:pt x="1468" y="114"/>
                    <a:pt x="1466" y="109"/>
                    <a:pt x="1464" y="105"/>
                  </a:cubicBezTo>
                  <a:cubicBezTo>
                    <a:pt x="1465" y="102"/>
                    <a:pt x="1465" y="99"/>
                    <a:pt x="1466" y="96"/>
                  </a:cubicBezTo>
                  <a:cubicBezTo>
                    <a:pt x="1465" y="99"/>
                    <a:pt x="1465" y="102"/>
                    <a:pt x="1464" y="105"/>
                  </a:cubicBezTo>
                  <a:cubicBezTo>
                    <a:pt x="1463" y="102"/>
                    <a:pt x="1462" y="99"/>
                    <a:pt x="1461" y="96"/>
                  </a:cubicBezTo>
                  <a:cubicBezTo>
                    <a:pt x="1461" y="94"/>
                    <a:pt x="1462" y="91"/>
                    <a:pt x="1463" y="89"/>
                  </a:cubicBezTo>
                  <a:cubicBezTo>
                    <a:pt x="1467" y="95"/>
                    <a:pt x="1470" y="102"/>
                    <a:pt x="1472" y="109"/>
                  </a:cubicBezTo>
                  <a:cubicBezTo>
                    <a:pt x="1472" y="112"/>
                    <a:pt x="1471" y="115"/>
                    <a:pt x="1470" y="118"/>
                  </a:cubicBezTo>
                  <a:close/>
                  <a:moveTo>
                    <a:pt x="1473" y="151"/>
                  </a:moveTo>
                  <a:cubicBezTo>
                    <a:pt x="1473" y="151"/>
                    <a:pt x="1473" y="151"/>
                    <a:pt x="1472" y="151"/>
                  </a:cubicBezTo>
                  <a:cubicBezTo>
                    <a:pt x="1473" y="150"/>
                    <a:pt x="1473" y="148"/>
                    <a:pt x="1473" y="147"/>
                  </a:cubicBezTo>
                  <a:cubicBezTo>
                    <a:pt x="1473" y="147"/>
                    <a:pt x="1473" y="148"/>
                    <a:pt x="1473" y="148"/>
                  </a:cubicBezTo>
                  <a:cubicBezTo>
                    <a:pt x="1473" y="149"/>
                    <a:pt x="1473" y="150"/>
                    <a:pt x="1473" y="151"/>
                  </a:cubicBezTo>
                  <a:close/>
                  <a:moveTo>
                    <a:pt x="1477" y="136"/>
                  </a:moveTo>
                  <a:cubicBezTo>
                    <a:pt x="1476" y="134"/>
                    <a:pt x="1475" y="132"/>
                    <a:pt x="1475" y="130"/>
                  </a:cubicBezTo>
                  <a:cubicBezTo>
                    <a:pt x="1475" y="127"/>
                    <a:pt x="1475" y="123"/>
                    <a:pt x="1476" y="120"/>
                  </a:cubicBezTo>
                  <a:cubicBezTo>
                    <a:pt x="1477" y="123"/>
                    <a:pt x="1478" y="127"/>
                    <a:pt x="1479" y="130"/>
                  </a:cubicBezTo>
                  <a:cubicBezTo>
                    <a:pt x="1478" y="132"/>
                    <a:pt x="1477" y="134"/>
                    <a:pt x="1477" y="136"/>
                  </a:cubicBezTo>
                  <a:close/>
                  <a:moveTo>
                    <a:pt x="1483" y="150"/>
                  </a:moveTo>
                  <a:cubicBezTo>
                    <a:pt x="1483" y="149"/>
                    <a:pt x="1482" y="147"/>
                    <a:pt x="1481" y="146"/>
                  </a:cubicBezTo>
                  <a:cubicBezTo>
                    <a:pt x="1482" y="145"/>
                    <a:pt x="1482" y="145"/>
                    <a:pt x="1482" y="144"/>
                  </a:cubicBezTo>
                  <a:cubicBezTo>
                    <a:pt x="1483" y="146"/>
                    <a:pt x="1483" y="147"/>
                    <a:pt x="1484" y="149"/>
                  </a:cubicBezTo>
                  <a:cubicBezTo>
                    <a:pt x="1484" y="149"/>
                    <a:pt x="1483" y="149"/>
                    <a:pt x="1483" y="150"/>
                  </a:cubicBezTo>
                  <a:close/>
                  <a:moveTo>
                    <a:pt x="1481" y="122"/>
                  </a:moveTo>
                  <a:cubicBezTo>
                    <a:pt x="1480" y="118"/>
                    <a:pt x="1478" y="115"/>
                    <a:pt x="1477" y="111"/>
                  </a:cubicBezTo>
                  <a:cubicBezTo>
                    <a:pt x="1478" y="101"/>
                    <a:pt x="1480" y="90"/>
                    <a:pt x="1484" y="81"/>
                  </a:cubicBezTo>
                  <a:cubicBezTo>
                    <a:pt x="1487" y="86"/>
                    <a:pt x="1490" y="91"/>
                    <a:pt x="1492" y="97"/>
                  </a:cubicBezTo>
                  <a:cubicBezTo>
                    <a:pt x="1490" y="101"/>
                    <a:pt x="1488" y="105"/>
                    <a:pt x="1486" y="109"/>
                  </a:cubicBezTo>
                  <a:cubicBezTo>
                    <a:pt x="1484" y="102"/>
                    <a:pt x="1483" y="96"/>
                    <a:pt x="1481" y="91"/>
                  </a:cubicBezTo>
                  <a:cubicBezTo>
                    <a:pt x="1482" y="99"/>
                    <a:pt x="1483" y="106"/>
                    <a:pt x="1484" y="114"/>
                  </a:cubicBezTo>
                  <a:cubicBezTo>
                    <a:pt x="1483" y="117"/>
                    <a:pt x="1482" y="119"/>
                    <a:pt x="1481" y="122"/>
                  </a:cubicBezTo>
                  <a:close/>
                  <a:moveTo>
                    <a:pt x="1488" y="141"/>
                  </a:moveTo>
                  <a:cubicBezTo>
                    <a:pt x="1487" y="138"/>
                    <a:pt x="1486" y="135"/>
                    <a:pt x="1485" y="131"/>
                  </a:cubicBezTo>
                  <a:cubicBezTo>
                    <a:pt x="1485" y="129"/>
                    <a:pt x="1486" y="127"/>
                    <a:pt x="1486" y="124"/>
                  </a:cubicBezTo>
                  <a:cubicBezTo>
                    <a:pt x="1487" y="130"/>
                    <a:pt x="1488" y="135"/>
                    <a:pt x="1489" y="140"/>
                  </a:cubicBezTo>
                  <a:cubicBezTo>
                    <a:pt x="1489" y="140"/>
                    <a:pt x="1489" y="141"/>
                    <a:pt x="1488" y="141"/>
                  </a:cubicBezTo>
                  <a:close/>
                  <a:moveTo>
                    <a:pt x="1491" y="150"/>
                  </a:moveTo>
                  <a:cubicBezTo>
                    <a:pt x="1491" y="150"/>
                    <a:pt x="1491" y="149"/>
                    <a:pt x="1491" y="149"/>
                  </a:cubicBezTo>
                  <a:cubicBezTo>
                    <a:pt x="1491" y="149"/>
                    <a:pt x="1491" y="149"/>
                    <a:pt x="1491" y="149"/>
                  </a:cubicBezTo>
                  <a:cubicBezTo>
                    <a:pt x="1491" y="149"/>
                    <a:pt x="1491" y="150"/>
                    <a:pt x="1491" y="150"/>
                  </a:cubicBezTo>
                  <a:cubicBezTo>
                    <a:pt x="1491" y="150"/>
                    <a:pt x="1491" y="150"/>
                    <a:pt x="1491" y="150"/>
                  </a:cubicBezTo>
                  <a:close/>
                  <a:moveTo>
                    <a:pt x="1488" y="114"/>
                  </a:moveTo>
                  <a:cubicBezTo>
                    <a:pt x="1489" y="108"/>
                    <a:pt x="1490" y="103"/>
                    <a:pt x="1492" y="97"/>
                  </a:cubicBezTo>
                  <a:cubicBezTo>
                    <a:pt x="1494" y="103"/>
                    <a:pt x="1496" y="110"/>
                    <a:pt x="1498" y="116"/>
                  </a:cubicBezTo>
                  <a:cubicBezTo>
                    <a:pt x="1496" y="121"/>
                    <a:pt x="1495" y="126"/>
                    <a:pt x="1493" y="131"/>
                  </a:cubicBezTo>
                  <a:cubicBezTo>
                    <a:pt x="1491" y="126"/>
                    <a:pt x="1489" y="120"/>
                    <a:pt x="1488" y="114"/>
                  </a:cubicBezTo>
                  <a:close/>
                  <a:moveTo>
                    <a:pt x="1495" y="139"/>
                  </a:moveTo>
                  <a:cubicBezTo>
                    <a:pt x="1497" y="134"/>
                    <a:pt x="1498" y="129"/>
                    <a:pt x="1499" y="124"/>
                  </a:cubicBezTo>
                  <a:cubicBezTo>
                    <a:pt x="1500" y="125"/>
                    <a:pt x="1500" y="126"/>
                    <a:pt x="1500" y="128"/>
                  </a:cubicBezTo>
                  <a:cubicBezTo>
                    <a:pt x="1499" y="132"/>
                    <a:pt x="1497" y="136"/>
                    <a:pt x="1496" y="141"/>
                  </a:cubicBezTo>
                  <a:cubicBezTo>
                    <a:pt x="1496" y="140"/>
                    <a:pt x="1495" y="139"/>
                    <a:pt x="1495" y="139"/>
                  </a:cubicBezTo>
                  <a:close/>
                  <a:moveTo>
                    <a:pt x="1500" y="150"/>
                  </a:moveTo>
                  <a:cubicBezTo>
                    <a:pt x="1500" y="150"/>
                    <a:pt x="1499" y="149"/>
                    <a:pt x="1499" y="149"/>
                  </a:cubicBezTo>
                  <a:cubicBezTo>
                    <a:pt x="1500" y="147"/>
                    <a:pt x="1501" y="144"/>
                    <a:pt x="1502" y="141"/>
                  </a:cubicBezTo>
                  <a:cubicBezTo>
                    <a:pt x="1502" y="143"/>
                    <a:pt x="1503" y="144"/>
                    <a:pt x="1503" y="145"/>
                  </a:cubicBezTo>
                  <a:cubicBezTo>
                    <a:pt x="1502" y="147"/>
                    <a:pt x="1501" y="149"/>
                    <a:pt x="1500" y="150"/>
                  </a:cubicBezTo>
                  <a:close/>
                  <a:moveTo>
                    <a:pt x="1511" y="126"/>
                  </a:moveTo>
                  <a:cubicBezTo>
                    <a:pt x="1510" y="123"/>
                    <a:pt x="1509" y="120"/>
                    <a:pt x="1508" y="117"/>
                  </a:cubicBezTo>
                  <a:cubicBezTo>
                    <a:pt x="1509" y="116"/>
                    <a:pt x="1509" y="115"/>
                    <a:pt x="1509" y="114"/>
                  </a:cubicBezTo>
                  <a:cubicBezTo>
                    <a:pt x="1509" y="116"/>
                    <a:pt x="1510" y="117"/>
                    <a:pt x="1510" y="119"/>
                  </a:cubicBezTo>
                  <a:cubicBezTo>
                    <a:pt x="1511" y="121"/>
                    <a:pt x="1511" y="123"/>
                    <a:pt x="1512" y="125"/>
                  </a:cubicBezTo>
                  <a:cubicBezTo>
                    <a:pt x="1512" y="125"/>
                    <a:pt x="1511" y="125"/>
                    <a:pt x="1511" y="126"/>
                  </a:cubicBezTo>
                  <a:close/>
                  <a:moveTo>
                    <a:pt x="1516" y="142"/>
                  </a:moveTo>
                  <a:cubicBezTo>
                    <a:pt x="1515" y="139"/>
                    <a:pt x="1515" y="136"/>
                    <a:pt x="1514" y="133"/>
                  </a:cubicBezTo>
                  <a:cubicBezTo>
                    <a:pt x="1514" y="133"/>
                    <a:pt x="1514" y="133"/>
                    <a:pt x="1514" y="133"/>
                  </a:cubicBezTo>
                  <a:cubicBezTo>
                    <a:pt x="1515" y="136"/>
                    <a:pt x="1516" y="138"/>
                    <a:pt x="1516" y="141"/>
                  </a:cubicBezTo>
                  <a:cubicBezTo>
                    <a:pt x="1516" y="141"/>
                    <a:pt x="1516" y="141"/>
                    <a:pt x="1516" y="142"/>
                  </a:cubicBezTo>
                  <a:close/>
                  <a:moveTo>
                    <a:pt x="1518" y="148"/>
                  </a:move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ubicBezTo>
                    <a:pt x="1518" y="148"/>
                    <a:pt x="1518" y="148"/>
                    <a:pt x="1518" y="148"/>
                  </a:cubicBezTo>
                  <a:close/>
                  <a:moveTo>
                    <a:pt x="1521" y="141"/>
                  </a:moveTo>
                  <a:cubicBezTo>
                    <a:pt x="1521" y="141"/>
                    <a:pt x="1521" y="141"/>
                    <a:pt x="1521" y="141"/>
                  </a:cubicBezTo>
                  <a:cubicBezTo>
                    <a:pt x="1522" y="137"/>
                    <a:pt x="1523" y="133"/>
                    <a:pt x="1525" y="129"/>
                  </a:cubicBezTo>
                  <a:cubicBezTo>
                    <a:pt x="1525" y="129"/>
                    <a:pt x="1525" y="130"/>
                    <a:pt x="1525" y="131"/>
                  </a:cubicBezTo>
                  <a:cubicBezTo>
                    <a:pt x="1523" y="135"/>
                    <a:pt x="1522" y="138"/>
                    <a:pt x="1521" y="141"/>
                  </a:cubicBezTo>
                  <a:close/>
                  <a:moveTo>
                    <a:pt x="1528" y="122"/>
                  </a:moveTo>
                  <a:cubicBezTo>
                    <a:pt x="1528" y="121"/>
                    <a:pt x="1527" y="120"/>
                    <a:pt x="1527" y="119"/>
                  </a:cubicBezTo>
                  <a:cubicBezTo>
                    <a:pt x="1528" y="117"/>
                    <a:pt x="1528" y="114"/>
                    <a:pt x="1529" y="111"/>
                  </a:cubicBezTo>
                  <a:cubicBezTo>
                    <a:pt x="1530" y="113"/>
                    <a:pt x="1530" y="115"/>
                    <a:pt x="1531" y="117"/>
                  </a:cubicBezTo>
                  <a:cubicBezTo>
                    <a:pt x="1530" y="119"/>
                    <a:pt x="1529" y="121"/>
                    <a:pt x="1528" y="122"/>
                  </a:cubicBezTo>
                  <a:close/>
                  <a:moveTo>
                    <a:pt x="1538" y="147"/>
                  </a:moveTo>
                  <a:cubicBezTo>
                    <a:pt x="1537" y="145"/>
                    <a:pt x="1537" y="144"/>
                    <a:pt x="1536" y="142"/>
                  </a:cubicBezTo>
                  <a:cubicBezTo>
                    <a:pt x="1536" y="140"/>
                    <a:pt x="1535" y="138"/>
                    <a:pt x="1534" y="136"/>
                  </a:cubicBezTo>
                  <a:cubicBezTo>
                    <a:pt x="1534" y="136"/>
                    <a:pt x="1534" y="135"/>
                    <a:pt x="1534" y="134"/>
                  </a:cubicBezTo>
                  <a:cubicBezTo>
                    <a:pt x="1535" y="137"/>
                    <a:pt x="1536" y="139"/>
                    <a:pt x="1536" y="142"/>
                  </a:cubicBezTo>
                  <a:cubicBezTo>
                    <a:pt x="1537" y="143"/>
                    <a:pt x="1537" y="145"/>
                    <a:pt x="1538" y="147"/>
                  </a:cubicBezTo>
                  <a:cubicBezTo>
                    <a:pt x="1538" y="147"/>
                    <a:pt x="1538" y="147"/>
                    <a:pt x="1538" y="147"/>
                  </a:cubicBezTo>
                  <a:close/>
                  <a:moveTo>
                    <a:pt x="1541" y="138"/>
                  </a:moveTo>
                  <a:cubicBezTo>
                    <a:pt x="1539" y="133"/>
                    <a:pt x="1538" y="128"/>
                    <a:pt x="1536" y="124"/>
                  </a:cubicBezTo>
                  <a:cubicBezTo>
                    <a:pt x="1536" y="121"/>
                    <a:pt x="1537" y="118"/>
                    <a:pt x="1537" y="116"/>
                  </a:cubicBezTo>
                  <a:cubicBezTo>
                    <a:pt x="1538" y="123"/>
                    <a:pt x="1540" y="129"/>
                    <a:pt x="1542" y="136"/>
                  </a:cubicBezTo>
                  <a:cubicBezTo>
                    <a:pt x="1542" y="137"/>
                    <a:pt x="1541" y="137"/>
                    <a:pt x="1541" y="138"/>
                  </a:cubicBezTo>
                  <a:close/>
                  <a:moveTo>
                    <a:pt x="1538" y="109"/>
                  </a:moveTo>
                  <a:cubicBezTo>
                    <a:pt x="1539" y="103"/>
                    <a:pt x="1541" y="97"/>
                    <a:pt x="1543" y="91"/>
                  </a:cubicBezTo>
                  <a:cubicBezTo>
                    <a:pt x="1545" y="96"/>
                    <a:pt x="1547" y="101"/>
                    <a:pt x="1549" y="106"/>
                  </a:cubicBezTo>
                  <a:cubicBezTo>
                    <a:pt x="1547" y="112"/>
                    <a:pt x="1546" y="120"/>
                    <a:pt x="1544" y="127"/>
                  </a:cubicBezTo>
                  <a:cubicBezTo>
                    <a:pt x="1542" y="121"/>
                    <a:pt x="1540" y="115"/>
                    <a:pt x="1538" y="109"/>
                  </a:cubicBezTo>
                  <a:close/>
                  <a:moveTo>
                    <a:pt x="1545" y="148"/>
                  </a:move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7"/>
                    <a:pt x="1545" y="147"/>
                  </a:cubicBezTo>
                  <a:cubicBezTo>
                    <a:pt x="1545" y="147"/>
                    <a:pt x="1545" y="148"/>
                    <a:pt x="1545" y="148"/>
                  </a:cubicBezTo>
                  <a:close/>
                  <a:moveTo>
                    <a:pt x="1547" y="136"/>
                  </a:moveTo>
                  <a:cubicBezTo>
                    <a:pt x="1549" y="127"/>
                    <a:pt x="1549" y="118"/>
                    <a:pt x="1549" y="109"/>
                  </a:cubicBezTo>
                  <a:cubicBezTo>
                    <a:pt x="1551" y="115"/>
                    <a:pt x="1552" y="121"/>
                    <a:pt x="1553" y="127"/>
                  </a:cubicBezTo>
                  <a:cubicBezTo>
                    <a:pt x="1551" y="131"/>
                    <a:pt x="1550" y="135"/>
                    <a:pt x="1549" y="139"/>
                  </a:cubicBezTo>
                  <a:cubicBezTo>
                    <a:pt x="1548" y="138"/>
                    <a:pt x="1548" y="137"/>
                    <a:pt x="1547" y="136"/>
                  </a:cubicBezTo>
                  <a:close/>
                  <a:moveTo>
                    <a:pt x="1554" y="148"/>
                  </a:moveTo>
                  <a:cubicBezTo>
                    <a:pt x="1553" y="148"/>
                    <a:pt x="1553" y="147"/>
                    <a:pt x="1552" y="146"/>
                  </a:cubicBezTo>
                  <a:cubicBezTo>
                    <a:pt x="1553" y="143"/>
                    <a:pt x="1554" y="140"/>
                    <a:pt x="1554" y="137"/>
                  </a:cubicBezTo>
                  <a:cubicBezTo>
                    <a:pt x="1555" y="140"/>
                    <a:pt x="1555" y="142"/>
                    <a:pt x="1556" y="144"/>
                  </a:cubicBezTo>
                  <a:cubicBezTo>
                    <a:pt x="1555" y="146"/>
                    <a:pt x="1554" y="147"/>
                    <a:pt x="1554" y="148"/>
                  </a:cubicBezTo>
                  <a:close/>
                  <a:moveTo>
                    <a:pt x="1549" y="103"/>
                  </a:moveTo>
                  <a:cubicBezTo>
                    <a:pt x="1549" y="102"/>
                    <a:pt x="1549" y="102"/>
                    <a:pt x="1549" y="102"/>
                  </a:cubicBezTo>
                  <a:cubicBezTo>
                    <a:pt x="1549" y="102"/>
                    <a:pt x="1549" y="103"/>
                    <a:pt x="1549" y="103"/>
                  </a:cubicBezTo>
                  <a:cubicBezTo>
                    <a:pt x="1547" y="98"/>
                    <a:pt x="1545" y="94"/>
                    <a:pt x="1543" y="91"/>
                  </a:cubicBezTo>
                  <a:cubicBezTo>
                    <a:pt x="1544" y="87"/>
                    <a:pt x="1546" y="83"/>
                    <a:pt x="1548" y="80"/>
                  </a:cubicBezTo>
                  <a:cubicBezTo>
                    <a:pt x="1554" y="89"/>
                    <a:pt x="1558" y="99"/>
                    <a:pt x="1560" y="109"/>
                  </a:cubicBezTo>
                  <a:cubicBezTo>
                    <a:pt x="1559" y="112"/>
                    <a:pt x="1557" y="116"/>
                    <a:pt x="1556" y="119"/>
                  </a:cubicBezTo>
                  <a:cubicBezTo>
                    <a:pt x="1554" y="114"/>
                    <a:pt x="1552" y="108"/>
                    <a:pt x="1549" y="103"/>
                  </a:cubicBezTo>
                  <a:close/>
                  <a:moveTo>
                    <a:pt x="1557" y="123"/>
                  </a:moveTo>
                  <a:cubicBezTo>
                    <a:pt x="1558" y="118"/>
                    <a:pt x="1559" y="114"/>
                    <a:pt x="1560" y="110"/>
                  </a:cubicBezTo>
                  <a:cubicBezTo>
                    <a:pt x="1561" y="115"/>
                    <a:pt x="1562" y="120"/>
                    <a:pt x="1563" y="125"/>
                  </a:cubicBezTo>
                  <a:cubicBezTo>
                    <a:pt x="1562" y="128"/>
                    <a:pt x="1561" y="130"/>
                    <a:pt x="1560" y="133"/>
                  </a:cubicBezTo>
                  <a:cubicBezTo>
                    <a:pt x="1559" y="129"/>
                    <a:pt x="1558" y="126"/>
                    <a:pt x="1557" y="123"/>
                  </a:cubicBezTo>
                  <a:close/>
                  <a:moveTo>
                    <a:pt x="1564" y="150"/>
                  </a:moveTo>
                  <a:cubicBezTo>
                    <a:pt x="1564" y="147"/>
                    <a:pt x="1563" y="144"/>
                    <a:pt x="1562" y="140"/>
                  </a:cubicBezTo>
                  <a:cubicBezTo>
                    <a:pt x="1563" y="137"/>
                    <a:pt x="1563" y="135"/>
                    <a:pt x="1563" y="132"/>
                  </a:cubicBezTo>
                  <a:cubicBezTo>
                    <a:pt x="1564" y="137"/>
                    <a:pt x="1564" y="143"/>
                    <a:pt x="1564" y="149"/>
                  </a:cubicBezTo>
                  <a:cubicBezTo>
                    <a:pt x="1564" y="150"/>
                    <a:pt x="1564" y="150"/>
                    <a:pt x="1564" y="150"/>
                  </a:cubicBezTo>
                  <a:close/>
                  <a:moveTo>
                    <a:pt x="1593" y="152"/>
                  </a:moveTo>
                  <a:cubicBezTo>
                    <a:pt x="1593" y="148"/>
                    <a:pt x="1593" y="145"/>
                    <a:pt x="1592" y="141"/>
                  </a:cubicBezTo>
                  <a:cubicBezTo>
                    <a:pt x="1592" y="136"/>
                    <a:pt x="1593" y="131"/>
                    <a:pt x="1593" y="125"/>
                  </a:cubicBezTo>
                  <a:cubicBezTo>
                    <a:pt x="1593" y="134"/>
                    <a:pt x="1593" y="142"/>
                    <a:pt x="1593" y="151"/>
                  </a:cubicBezTo>
                  <a:cubicBezTo>
                    <a:pt x="1593" y="151"/>
                    <a:pt x="1593" y="151"/>
                    <a:pt x="1593" y="152"/>
                  </a:cubicBezTo>
                  <a:close/>
                  <a:moveTo>
                    <a:pt x="1659" y="128"/>
                  </a:moveTo>
                  <a:cubicBezTo>
                    <a:pt x="1659" y="132"/>
                    <a:pt x="1658" y="136"/>
                    <a:pt x="1657" y="140"/>
                  </a:cubicBezTo>
                  <a:cubicBezTo>
                    <a:pt x="1657" y="136"/>
                    <a:pt x="1656" y="133"/>
                    <a:pt x="1655" y="129"/>
                  </a:cubicBezTo>
                  <a:cubicBezTo>
                    <a:pt x="1655" y="126"/>
                    <a:pt x="1655" y="122"/>
                    <a:pt x="1655" y="119"/>
                  </a:cubicBezTo>
                  <a:cubicBezTo>
                    <a:pt x="1655" y="112"/>
                    <a:pt x="1656" y="104"/>
                    <a:pt x="1657" y="97"/>
                  </a:cubicBezTo>
                  <a:cubicBezTo>
                    <a:pt x="1658" y="102"/>
                    <a:pt x="1659" y="107"/>
                    <a:pt x="1659" y="111"/>
                  </a:cubicBezTo>
                  <a:cubicBezTo>
                    <a:pt x="1659" y="122"/>
                    <a:pt x="1659" y="122"/>
                    <a:pt x="1659" y="122"/>
                  </a:cubicBezTo>
                  <a:cubicBezTo>
                    <a:pt x="1659" y="124"/>
                    <a:pt x="1659" y="126"/>
                    <a:pt x="1659" y="128"/>
                  </a:cubicBezTo>
                  <a:close/>
                  <a:moveTo>
                    <a:pt x="1667" y="151"/>
                  </a:moveTo>
                  <a:cubicBezTo>
                    <a:pt x="1667" y="152"/>
                    <a:pt x="1667" y="152"/>
                    <a:pt x="1667" y="152"/>
                  </a:cubicBezTo>
                  <a:cubicBezTo>
                    <a:pt x="1667" y="152"/>
                    <a:pt x="1667" y="152"/>
                    <a:pt x="1667" y="152"/>
                  </a:cubicBezTo>
                  <a:cubicBezTo>
                    <a:pt x="1667" y="136"/>
                    <a:pt x="1667" y="123"/>
                    <a:pt x="1666" y="109"/>
                  </a:cubicBezTo>
                  <a:cubicBezTo>
                    <a:pt x="1666" y="104"/>
                    <a:pt x="1667" y="99"/>
                    <a:pt x="1668" y="93"/>
                  </a:cubicBezTo>
                  <a:cubicBezTo>
                    <a:pt x="1669" y="99"/>
                    <a:pt x="1669" y="105"/>
                    <a:pt x="1669" y="110"/>
                  </a:cubicBezTo>
                  <a:cubicBezTo>
                    <a:pt x="1669" y="124"/>
                    <a:pt x="1667" y="138"/>
                    <a:pt x="1667" y="151"/>
                  </a:cubicBezTo>
                  <a:close/>
                  <a:moveTo>
                    <a:pt x="1694" y="110"/>
                  </a:moveTo>
                  <a:cubicBezTo>
                    <a:pt x="1694" y="109"/>
                    <a:pt x="1694" y="107"/>
                    <a:pt x="1694" y="106"/>
                  </a:cubicBezTo>
                  <a:cubicBezTo>
                    <a:pt x="1694" y="110"/>
                    <a:pt x="1695" y="113"/>
                    <a:pt x="1695" y="116"/>
                  </a:cubicBezTo>
                  <a:cubicBezTo>
                    <a:pt x="1694" y="114"/>
                    <a:pt x="1694" y="112"/>
                    <a:pt x="1694" y="110"/>
                  </a:cubicBezTo>
                  <a:close/>
                  <a:moveTo>
                    <a:pt x="1720" y="120"/>
                  </a:moveTo>
                  <a:cubicBezTo>
                    <a:pt x="1718" y="114"/>
                    <a:pt x="1717" y="109"/>
                    <a:pt x="1717" y="104"/>
                  </a:cubicBezTo>
                  <a:cubicBezTo>
                    <a:pt x="1717" y="102"/>
                    <a:pt x="1717" y="98"/>
                    <a:pt x="1719" y="93"/>
                  </a:cubicBezTo>
                  <a:cubicBezTo>
                    <a:pt x="1720" y="100"/>
                    <a:pt x="1720" y="107"/>
                    <a:pt x="1720" y="112"/>
                  </a:cubicBezTo>
                  <a:cubicBezTo>
                    <a:pt x="1720" y="115"/>
                    <a:pt x="1720" y="117"/>
                    <a:pt x="1720" y="120"/>
                  </a:cubicBezTo>
                  <a:close/>
                  <a:moveTo>
                    <a:pt x="1730" y="145"/>
                  </a:moveTo>
                  <a:cubicBezTo>
                    <a:pt x="1730" y="145"/>
                    <a:pt x="1730" y="145"/>
                    <a:pt x="1730" y="144"/>
                  </a:cubicBezTo>
                  <a:cubicBezTo>
                    <a:pt x="1730" y="139"/>
                    <a:pt x="1730" y="134"/>
                    <a:pt x="1730" y="129"/>
                  </a:cubicBezTo>
                  <a:cubicBezTo>
                    <a:pt x="1731" y="132"/>
                    <a:pt x="1731" y="135"/>
                    <a:pt x="1731" y="137"/>
                  </a:cubicBezTo>
                  <a:cubicBezTo>
                    <a:pt x="1731" y="140"/>
                    <a:pt x="1730" y="142"/>
                    <a:pt x="1730" y="145"/>
                  </a:cubicBezTo>
                  <a:close/>
                  <a:moveTo>
                    <a:pt x="1741" y="145"/>
                  </a:moveTo>
                  <a:cubicBezTo>
                    <a:pt x="1741" y="144"/>
                    <a:pt x="1740" y="143"/>
                    <a:pt x="1740" y="143"/>
                  </a:cubicBezTo>
                  <a:cubicBezTo>
                    <a:pt x="1740" y="142"/>
                    <a:pt x="1740" y="141"/>
                    <a:pt x="1740" y="140"/>
                  </a:cubicBezTo>
                  <a:cubicBezTo>
                    <a:pt x="1741" y="141"/>
                    <a:pt x="1741" y="142"/>
                    <a:pt x="1741" y="143"/>
                  </a:cubicBezTo>
                  <a:cubicBezTo>
                    <a:pt x="1741" y="143"/>
                    <a:pt x="1741" y="144"/>
                    <a:pt x="1741" y="145"/>
                  </a:cubicBezTo>
                  <a:close/>
                  <a:moveTo>
                    <a:pt x="1742" y="138"/>
                  </a:moveTo>
                  <a:cubicBezTo>
                    <a:pt x="1742" y="136"/>
                    <a:pt x="1741" y="135"/>
                    <a:pt x="1741" y="133"/>
                  </a:cubicBezTo>
                  <a:cubicBezTo>
                    <a:pt x="1741" y="129"/>
                    <a:pt x="1741" y="124"/>
                    <a:pt x="1741" y="119"/>
                  </a:cubicBezTo>
                  <a:cubicBezTo>
                    <a:pt x="1742" y="124"/>
                    <a:pt x="1743" y="129"/>
                    <a:pt x="1744" y="134"/>
                  </a:cubicBezTo>
                  <a:cubicBezTo>
                    <a:pt x="1743" y="135"/>
                    <a:pt x="1743" y="137"/>
                    <a:pt x="1742" y="138"/>
                  </a:cubicBezTo>
                  <a:close/>
                  <a:moveTo>
                    <a:pt x="1747" y="154"/>
                  </a:moveTo>
                  <a:cubicBezTo>
                    <a:pt x="1747" y="153"/>
                    <a:pt x="1747" y="152"/>
                    <a:pt x="1747" y="151"/>
                  </a:cubicBezTo>
                  <a:cubicBezTo>
                    <a:pt x="1747" y="151"/>
                    <a:pt x="1747" y="150"/>
                    <a:pt x="1747" y="150"/>
                  </a:cubicBezTo>
                  <a:cubicBezTo>
                    <a:pt x="1747" y="151"/>
                    <a:pt x="1747" y="152"/>
                    <a:pt x="1747" y="154"/>
                  </a:cubicBezTo>
                  <a:cubicBezTo>
                    <a:pt x="1747" y="154"/>
                    <a:pt x="1747" y="154"/>
                    <a:pt x="1747" y="154"/>
                  </a:cubicBezTo>
                  <a:close/>
                  <a:moveTo>
                    <a:pt x="1753" y="139"/>
                  </a:moveTo>
                  <a:cubicBezTo>
                    <a:pt x="1752" y="136"/>
                    <a:pt x="1751" y="134"/>
                    <a:pt x="1751" y="132"/>
                  </a:cubicBezTo>
                  <a:cubicBezTo>
                    <a:pt x="1751" y="129"/>
                    <a:pt x="1752" y="127"/>
                    <a:pt x="1753" y="125"/>
                  </a:cubicBezTo>
                  <a:cubicBezTo>
                    <a:pt x="1753" y="128"/>
                    <a:pt x="1754" y="131"/>
                    <a:pt x="1755" y="134"/>
                  </a:cubicBezTo>
                  <a:cubicBezTo>
                    <a:pt x="1754" y="136"/>
                    <a:pt x="1754" y="137"/>
                    <a:pt x="1753" y="139"/>
                  </a:cubicBezTo>
                  <a:close/>
                  <a:moveTo>
                    <a:pt x="1773" y="114"/>
                  </a:moveTo>
                  <a:cubicBezTo>
                    <a:pt x="1772" y="108"/>
                    <a:pt x="1771" y="101"/>
                    <a:pt x="1771" y="95"/>
                  </a:cubicBezTo>
                  <a:cubicBezTo>
                    <a:pt x="1771" y="88"/>
                    <a:pt x="1772" y="81"/>
                    <a:pt x="1773" y="75"/>
                  </a:cubicBezTo>
                  <a:cubicBezTo>
                    <a:pt x="1775" y="81"/>
                    <a:pt x="1775" y="88"/>
                    <a:pt x="1775" y="95"/>
                  </a:cubicBezTo>
                  <a:cubicBezTo>
                    <a:pt x="1775" y="101"/>
                    <a:pt x="1774" y="108"/>
                    <a:pt x="1773" y="114"/>
                  </a:cubicBezTo>
                  <a:close/>
                  <a:moveTo>
                    <a:pt x="1793" y="139"/>
                  </a:moveTo>
                  <a:cubicBezTo>
                    <a:pt x="1793" y="137"/>
                    <a:pt x="1792" y="136"/>
                    <a:pt x="1792" y="134"/>
                  </a:cubicBezTo>
                  <a:cubicBezTo>
                    <a:pt x="1792" y="131"/>
                    <a:pt x="1793" y="128"/>
                    <a:pt x="1794" y="125"/>
                  </a:cubicBezTo>
                  <a:cubicBezTo>
                    <a:pt x="1794" y="127"/>
                    <a:pt x="1795" y="129"/>
                    <a:pt x="1796" y="132"/>
                  </a:cubicBezTo>
                  <a:cubicBezTo>
                    <a:pt x="1795" y="134"/>
                    <a:pt x="1794" y="136"/>
                    <a:pt x="1793" y="139"/>
                  </a:cubicBezTo>
                  <a:close/>
                  <a:moveTo>
                    <a:pt x="1799" y="154"/>
                  </a:moveTo>
                  <a:cubicBezTo>
                    <a:pt x="1799" y="154"/>
                    <a:pt x="1799" y="154"/>
                    <a:pt x="1799" y="154"/>
                  </a:cubicBezTo>
                  <a:cubicBezTo>
                    <a:pt x="1799" y="152"/>
                    <a:pt x="1799" y="151"/>
                    <a:pt x="1800" y="150"/>
                  </a:cubicBezTo>
                  <a:cubicBezTo>
                    <a:pt x="1800" y="150"/>
                    <a:pt x="1800" y="151"/>
                    <a:pt x="1800" y="151"/>
                  </a:cubicBezTo>
                  <a:cubicBezTo>
                    <a:pt x="1799" y="152"/>
                    <a:pt x="1799" y="153"/>
                    <a:pt x="1799" y="154"/>
                  </a:cubicBezTo>
                  <a:close/>
                  <a:moveTo>
                    <a:pt x="1805" y="119"/>
                  </a:move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20"/>
                  </a:cubicBezTo>
                  <a:cubicBezTo>
                    <a:pt x="1805" y="120"/>
                    <a:pt x="1805" y="120"/>
                    <a:pt x="1805" y="119"/>
                  </a:cubicBezTo>
                  <a:close/>
                  <a:moveTo>
                    <a:pt x="1804" y="138"/>
                  </a:moveTo>
                  <a:cubicBezTo>
                    <a:pt x="1804" y="137"/>
                    <a:pt x="1803" y="135"/>
                    <a:pt x="1803" y="134"/>
                  </a:cubicBezTo>
                  <a:cubicBezTo>
                    <a:pt x="1803" y="134"/>
                    <a:pt x="1803" y="134"/>
                    <a:pt x="1803" y="133"/>
                  </a:cubicBezTo>
                  <a:cubicBezTo>
                    <a:pt x="1803" y="134"/>
                    <a:pt x="1804" y="135"/>
                    <a:pt x="1804" y="137"/>
                  </a:cubicBezTo>
                  <a:cubicBezTo>
                    <a:pt x="1804" y="137"/>
                    <a:pt x="1804" y="138"/>
                    <a:pt x="1804" y="138"/>
                  </a:cubicBezTo>
                  <a:close/>
                  <a:moveTo>
                    <a:pt x="1803" y="133"/>
                  </a:moveTo>
                  <a:cubicBezTo>
                    <a:pt x="1803" y="132"/>
                    <a:pt x="1803" y="131"/>
                    <a:pt x="1803" y="130"/>
                  </a:cubicBezTo>
                  <a:cubicBezTo>
                    <a:pt x="1804" y="131"/>
                    <a:pt x="1805" y="133"/>
                    <a:pt x="1805" y="134"/>
                  </a:cubicBezTo>
                  <a:cubicBezTo>
                    <a:pt x="1805" y="135"/>
                    <a:pt x="1805" y="135"/>
                    <a:pt x="1805" y="136"/>
                  </a:cubicBezTo>
                  <a:cubicBezTo>
                    <a:pt x="1804" y="134"/>
                    <a:pt x="1803" y="133"/>
                    <a:pt x="1803" y="133"/>
                  </a:cubicBezTo>
                  <a:close/>
                  <a:moveTo>
                    <a:pt x="1806" y="145"/>
                  </a:moveTo>
                  <a:cubicBezTo>
                    <a:pt x="1805" y="144"/>
                    <a:pt x="1805" y="143"/>
                    <a:pt x="1805" y="143"/>
                  </a:cubicBezTo>
                  <a:cubicBezTo>
                    <a:pt x="1805" y="142"/>
                    <a:pt x="1806" y="141"/>
                    <a:pt x="1806" y="140"/>
                  </a:cubicBezTo>
                  <a:cubicBezTo>
                    <a:pt x="1806" y="140"/>
                    <a:pt x="1806" y="140"/>
                    <a:pt x="1806" y="140"/>
                  </a:cubicBezTo>
                  <a:cubicBezTo>
                    <a:pt x="1806" y="141"/>
                    <a:pt x="1806" y="142"/>
                    <a:pt x="1806" y="143"/>
                  </a:cubicBezTo>
                  <a:cubicBezTo>
                    <a:pt x="1806" y="143"/>
                    <a:pt x="1806" y="144"/>
                    <a:pt x="1806" y="145"/>
                  </a:cubicBezTo>
                  <a:close/>
                  <a:moveTo>
                    <a:pt x="1816" y="134"/>
                  </a:moveTo>
                  <a:cubicBezTo>
                    <a:pt x="1816" y="134"/>
                    <a:pt x="1816" y="133"/>
                    <a:pt x="1816" y="133"/>
                  </a:cubicBezTo>
                  <a:cubicBezTo>
                    <a:pt x="1816" y="132"/>
                    <a:pt x="1816" y="130"/>
                    <a:pt x="1816" y="129"/>
                  </a:cubicBezTo>
                  <a:cubicBezTo>
                    <a:pt x="1816" y="130"/>
                    <a:pt x="1816" y="132"/>
                    <a:pt x="1816" y="134"/>
                  </a:cubicBezTo>
                  <a:close/>
                  <a:moveTo>
                    <a:pt x="1826" y="120"/>
                  </a:moveTo>
                  <a:cubicBezTo>
                    <a:pt x="1826" y="117"/>
                    <a:pt x="1826" y="115"/>
                    <a:pt x="1826" y="112"/>
                  </a:cubicBezTo>
                  <a:cubicBezTo>
                    <a:pt x="1826" y="111"/>
                    <a:pt x="1826" y="111"/>
                    <a:pt x="1826" y="110"/>
                  </a:cubicBezTo>
                  <a:cubicBezTo>
                    <a:pt x="1826" y="113"/>
                    <a:pt x="1826" y="116"/>
                    <a:pt x="1827" y="119"/>
                  </a:cubicBezTo>
                  <a:cubicBezTo>
                    <a:pt x="1827" y="119"/>
                    <a:pt x="1826" y="120"/>
                    <a:pt x="1826" y="120"/>
                  </a:cubicBezTo>
                  <a:close/>
                  <a:moveTo>
                    <a:pt x="1828" y="115"/>
                  </a:moveTo>
                  <a:cubicBezTo>
                    <a:pt x="1827" y="112"/>
                    <a:pt x="1827" y="108"/>
                    <a:pt x="1826" y="104"/>
                  </a:cubicBezTo>
                  <a:cubicBezTo>
                    <a:pt x="1827" y="101"/>
                    <a:pt x="1827" y="97"/>
                    <a:pt x="1828" y="93"/>
                  </a:cubicBezTo>
                  <a:cubicBezTo>
                    <a:pt x="1829" y="98"/>
                    <a:pt x="1829" y="102"/>
                    <a:pt x="1829" y="104"/>
                  </a:cubicBezTo>
                  <a:cubicBezTo>
                    <a:pt x="1829" y="108"/>
                    <a:pt x="1829" y="111"/>
                    <a:pt x="1828" y="115"/>
                  </a:cubicBezTo>
                  <a:close/>
                  <a:moveTo>
                    <a:pt x="1833" y="102"/>
                  </a:moveTo>
                  <a:cubicBezTo>
                    <a:pt x="1833" y="102"/>
                    <a:pt x="1833" y="102"/>
                    <a:pt x="1832" y="103"/>
                  </a:cubicBezTo>
                  <a:cubicBezTo>
                    <a:pt x="1832" y="99"/>
                    <a:pt x="1831" y="94"/>
                    <a:pt x="1828" y="90"/>
                  </a:cubicBezTo>
                  <a:cubicBezTo>
                    <a:pt x="1830" y="84"/>
                    <a:pt x="1832" y="78"/>
                    <a:pt x="1834" y="73"/>
                  </a:cubicBezTo>
                  <a:cubicBezTo>
                    <a:pt x="1833" y="83"/>
                    <a:pt x="1833" y="93"/>
                    <a:pt x="1833" y="102"/>
                  </a:cubicBezTo>
                  <a:close/>
                  <a:moveTo>
                    <a:pt x="1839" y="111"/>
                  </a:moveTo>
                  <a:cubicBezTo>
                    <a:pt x="1839" y="111"/>
                    <a:pt x="1839" y="111"/>
                    <a:pt x="1839" y="111"/>
                  </a:cubicBezTo>
                  <a:cubicBezTo>
                    <a:pt x="1839" y="114"/>
                    <a:pt x="1838" y="116"/>
                    <a:pt x="1838" y="119"/>
                  </a:cubicBezTo>
                  <a:cubicBezTo>
                    <a:pt x="1837" y="114"/>
                    <a:pt x="1837" y="108"/>
                    <a:pt x="1837" y="103"/>
                  </a:cubicBezTo>
                  <a:cubicBezTo>
                    <a:pt x="1837" y="97"/>
                    <a:pt x="1837" y="91"/>
                    <a:pt x="1839" y="85"/>
                  </a:cubicBezTo>
                  <a:cubicBezTo>
                    <a:pt x="1838" y="87"/>
                    <a:pt x="1837" y="89"/>
                    <a:pt x="1836" y="92"/>
                  </a:cubicBezTo>
                  <a:cubicBezTo>
                    <a:pt x="1836" y="87"/>
                    <a:pt x="1836" y="82"/>
                    <a:pt x="1837" y="77"/>
                  </a:cubicBezTo>
                  <a:cubicBezTo>
                    <a:pt x="1839" y="83"/>
                    <a:pt x="1840" y="90"/>
                    <a:pt x="1840" y="96"/>
                  </a:cubicBezTo>
                  <a:cubicBezTo>
                    <a:pt x="1840" y="101"/>
                    <a:pt x="1840" y="106"/>
                    <a:pt x="1839" y="111"/>
                  </a:cubicBezTo>
                  <a:close/>
                  <a:moveTo>
                    <a:pt x="1845" y="127"/>
                  </a:moveTo>
                  <a:cubicBezTo>
                    <a:pt x="1844" y="132"/>
                    <a:pt x="1844" y="134"/>
                    <a:pt x="1844" y="134"/>
                  </a:cubicBezTo>
                  <a:cubicBezTo>
                    <a:pt x="1844" y="129"/>
                    <a:pt x="1845" y="125"/>
                    <a:pt x="1845" y="120"/>
                  </a:cubicBezTo>
                  <a:cubicBezTo>
                    <a:pt x="1845" y="123"/>
                    <a:pt x="1845" y="125"/>
                    <a:pt x="1845" y="127"/>
                  </a:cubicBezTo>
                  <a:close/>
                  <a:moveTo>
                    <a:pt x="1877" y="92"/>
                  </a:moveTo>
                  <a:cubicBezTo>
                    <a:pt x="1877" y="91"/>
                    <a:pt x="1877" y="90"/>
                    <a:pt x="1877" y="89"/>
                  </a:cubicBezTo>
                  <a:cubicBezTo>
                    <a:pt x="1877" y="89"/>
                    <a:pt x="1877" y="90"/>
                    <a:pt x="1877" y="91"/>
                  </a:cubicBezTo>
                  <a:cubicBezTo>
                    <a:pt x="1877" y="91"/>
                    <a:pt x="1877" y="92"/>
                    <a:pt x="1877" y="92"/>
                  </a:cubicBezTo>
                  <a:close/>
                  <a:moveTo>
                    <a:pt x="1880" y="130"/>
                  </a:moveTo>
                  <a:cubicBezTo>
                    <a:pt x="1879" y="132"/>
                    <a:pt x="1879" y="134"/>
                    <a:pt x="1879" y="136"/>
                  </a:cubicBezTo>
                  <a:cubicBezTo>
                    <a:pt x="1878" y="127"/>
                    <a:pt x="1877" y="119"/>
                    <a:pt x="1877" y="110"/>
                  </a:cubicBezTo>
                  <a:cubicBezTo>
                    <a:pt x="1877" y="105"/>
                    <a:pt x="1877" y="99"/>
                    <a:pt x="1878" y="93"/>
                  </a:cubicBezTo>
                  <a:cubicBezTo>
                    <a:pt x="1879" y="99"/>
                    <a:pt x="1880" y="104"/>
                    <a:pt x="1881" y="109"/>
                  </a:cubicBezTo>
                  <a:cubicBezTo>
                    <a:pt x="1880" y="116"/>
                    <a:pt x="1880" y="123"/>
                    <a:pt x="1880" y="130"/>
                  </a:cubicBezTo>
                  <a:close/>
                  <a:moveTo>
                    <a:pt x="1889" y="140"/>
                  </a:moveTo>
                  <a:cubicBezTo>
                    <a:pt x="1889" y="140"/>
                    <a:pt x="1889" y="139"/>
                    <a:pt x="1889" y="139"/>
                  </a:cubicBezTo>
                  <a:cubicBezTo>
                    <a:pt x="1890" y="100"/>
                    <a:pt x="1890" y="100"/>
                    <a:pt x="1890" y="100"/>
                  </a:cubicBezTo>
                  <a:cubicBezTo>
                    <a:pt x="1890" y="106"/>
                    <a:pt x="1891" y="113"/>
                    <a:pt x="1891" y="119"/>
                  </a:cubicBezTo>
                  <a:cubicBezTo>
                    <a:pt x="1891" y="122"/>
                    <a:pt x="1891" y="126"/>
                    <a:pt x="1891" y="129"/>
                  </a:cubicBezTo>
                  <a:cubicBezTo>
                    <a:pt x="1890" y="133"/>
                    <a:pt x="1890" y="136"/>
                    <a:pt x="1889" y="140"/>
                  </a:cubicBezTo>
                  <a:close/>
                  <a:moveTo>
                    <a:pt x="1910" y="105"/>
                  </a:moveTo>
                  <a:cubicBezTo>
                    <a:pt x="1910" y="104"/>
                    <a:pt x="1910" y="102"/>
                    <a:pt x="1910" y="101"/>
                  </a:cubicBezTo>
                  <a:cubicBezTo>
                    <a:pt x="1910" y="102"/>
                    <a:pt x="1911" y="103"/>
                    <a:pt x="1911" y="103"/>
                  </a:cubicBezTo>
                  <a:cubicBezTo>
                    <a:pt x="1910" y="104"/>
                    <a:pt x="1910" y="105"/>
                    <a:pt x="1910" y="105"/>
                  </a:cubicBezTo>
                  <a:close/>
                  <a:moveTo>
                    <a:pt x="1933" y="101"/>
                  </a:moveTo>
                  <a:cubicBezTo>
                    <a:pt x="1932" y="101"/>
                    <a:pt x="1932" y="101"/>
                    <a:pt x="1932" y="100"/>
                  </a:cubicBezTo>
                  <a:cubicBezTo>
                    <a:pt x="1932" y="101"/>
                    <a:pt x="1932" y="101"/>
                    <a:pt x="1933" y="101"/>
                  </a:cubicBezTo>
                  <a:cubicBezTo>
                    <a:pt x="1932" y="111"/>
                    <a:pt x="1931" y="119"/>
                    <a:pt x="1930" y="126"/>
                  </a:cubicBezTo>
                  <a:cubicBezTo>
                    <a:pt x="1929" y="122"/>
                    <a:pt x="1929" y="118"/>
                    <a:pt x="1928" y="114"/>
                  </a:cubicBezTo>
                  <a:cubicBezTo>
                    <a:pt x="1928" y="109"/>
                    <a:pt x="1928" y="103"/>
                    <a:pt x="1928" y="98"/>
                  </a:cubicBezTo>
                  <a:cubicBezTo>
                    <a:pt x="1929" y="92"/>
                    <a:pt x="1931" y="87"/>
                    <a:pt x="1934" y="82"/>
                  </a:cubicBezTo>
                  <a:cubicBezTo>
                    <a:pt x="1933" y="89"/>
                    <a:pt x="1933" y="95"/>
                    <a:pt x="1933" y="101"/>
                  </a:cubicBezTo>
                  <a:close/>
                  <a:moveTo>
                    <a:pt x="1942" y="117"/>
                  </a:moveTo>
                  <a:cubicBezTo>
                    <a:pt x="1942" y="114"/>
                    <a:pt x="1942" y="110"/>
                    <a:pt x="1942" y="106"/>
                  </a:cubicBezTo>
                  <a:cubicBezTo>
                    <a:pt x="1942" y="99"/>
                    <a:pt x="1942" y="90"/>
                    <a:pt x="1945" y="83"/>
                  </a:cubicBezTo>
                  <a:cubicBezTo>
                    <a:pt x="1944" y="95"/>
                    <a:pt x="1943" y="107"/>
                    <a:pt x="1942" y="117"/>
                  </a:cubicBezTo>
                  <a:close/>
                  <a:moveTo>
                    <a:pt x="1948" y="108"/>
                  </a:moveTo>
                  <a:cubicBezTo>
                    <a:pt x="1948" y="106"/>
                    <a:pt x="1948" y="104"/>
                    <a:pt x="1949" y="102"/>
                  </a:cubicBezTo>
                  <a:cubicBezTo>
                    <a:pt x="1949" y="102"/>
                    <a:pt x="1949" y="102"/>
                    <a:pt x="1949" y="103"/>
                  </a:cubicBezTo>
                  <a:cubicBezTo>
                    <a:pt x="1949" y="104"/>
                    <a:pt x="1948" y="106"/>
                    <a:pt x="1948" y="108"/>
                  </a:cubicBezTo>
                  <a:close/>
                  <a:moveTo>
                    <a:pt x="1954" y="111"/>
                  </a:moveTo>
                  <a:cubicBezTo>
                    <a:pt x="1954" y="103"/>
                    <a:pt x="1957" y="95"/>
                    <a:pt x="1959" y="87"/>
                  </a:cubicBezTo>
                  <a:cubicBezTo>
                    <a:pt x="1958" y="95"/>
                    <a:pt x="1956" y="104"/>
                    <a:pt x="1954" y="113"/>
                  </a:cubicBezTo>
                  <a:cubicBezTo>
                    <a:pt x="1954" y="112"/>
                    <a:pt x="1954" y="112"/>
                    <a:pt x="1954" y="111"/>
                  </a:cubicBezTo>
                  <a:close/>
                  <a:moveTo>
                    <a:pt x="1978" y="110"/>
                  </a:moveTo>
                  <a:cubicBezTo>
                    <a:pt x="1978" y="109"/>
                    <a:pt x="1978" y="108"/>
                    <a:pt x="1978" y="107"/>
                  </a:cubicBezTo>
                  <a:cubicBezTo>
                    <a:pt x="1978" y="107"/>
                    <a:pt x="1978" y="108"/>
                    <a:pt x="1978" y="108"/>
                  </a:cubicBezTo>
                  <a:cubicBezTo>
                    <a:pt x="1978" y="109"/>
                    <a:pt x="1978" y="109"/>
                    <a:pt x="1978" y="110"/>
                  </a:cubicBezTo>
                  <a:close/>
                  <a:moveTo>
                    <a:pt x="1989" y="125"/>
                  </a:moveTo>
                  <a:cubicBezTo>
                    <a:pt x="1989" y="123"/>
                    <a:pt x="1989" y="122"/>
                    <a:pt x="1989" y="120"/>
                  </a:cubicBezTo>
                  <a:cubicBezTo>
                    <a:pt x="1989" y="121"/>
                    <a:pt x="1989" y="122"/>
                    <a:pt x="1989" y="123"/>
                  </a:cubicBezTo>
                  <a:cubicBezTo>
                    <a:pt x="1989" y="123"/>
                    <a:pt x="1989" y="124"/>
                    <a:pt x="1989" y="125"/>
                  </a:cubicBezTo>
                  <a:close/>
                  <a:moveTo>
                    <a:pt x="1992" y="115"/>
                  </a:moveTo>
                  <a:cubicBezTo>
                    <a:pt x="1991" y="117"/>
                    <a:pt x="1991" y="118"/>
                    <a:pt x="1990" y="119"/>
                  </a:cubicBezTo>
                  <a:cubicBezTo>
                    <a:pt x="1990" y="118"/>
                    <a:pt x="1989" y="116"/>
                    <a:pt x="1989" y="114"/>
                  </a:cubicBezTo>
                  <a:cubicBezTo>
                    <a:pt x="1989" y="110"/>
                    <a:pt x="1989" y="105"/>
                    <a:pt x="1989" y="100"/>
                  </a:cubicBezTo>
                  <a:cubicBezTo>
                    <a:pt x="1990" y="94"/>
                    <a:pt x="1993" y="89"/>
                    <a:pt x="1996" y="84"/>
                  </a:cubicBezTo>
                  <a:cubicBezTo>
                    <a:pt x="1995" y="93"/>
                    <a:pt x="1993" y="105"/>
                    <a:pt x="1992" y="115"/>
                  </a:cubicBezTo>
                  <a:close/>
                  <a:moveTo>
                    <a:pt x="1999" y="90"/>
                  </a:moveTo>
                  <a:cubicBezTo>
                    <a:pt x="1999" y="88"/>
                    <a:pt x="1998" y="84"/>
                    <a:pt x="1998" y="80"/>
                  </a:cubicBezTo>
                  <a:cubicBezTo>
                    <a:pt x="1998" y="80"/>
                    <a:pt x="1998" y="80"/>
                    <a:pt x="1998" y="80"/>
                  </a:cubicBezTo>
                  <a:cubicBezTo>
                    <a:pt x="1999" y="81"/>
                    <a:pt x="2000" y="83"/>
                    <a:pt x="2000" y="84"/>
                  </a:cubicBezTo>
                  <a:cubicBezTo>
                    <a:pt x="2000" y="88"/>
                    <a:pt x="1999" y="90"/>
                    <a:pt x="1999" y="90"/>
                  </a:cubicBezTo>
                  <a:close/>
                  <a:moveTo>
                    <a:pt x="2001" y="83"/>
                  </a:moveTo>
                  <a:cubicBezTo>
                    <a:pt x="2000" y="81"/>
                    <a:pt x="1999" y="80"/>
                    <a:pt x="1998" y="79"/>
                  </a:cubicBezTo>
                  <a:cubicBezTo>
                    <a:pt x="1999" y="78"/>
                    <a:pt x="2000" y="76"/>
                    <a:pt x="2002" y="75"/>
                  </a:cubicBezTo>
                  <a:cubicBezTo>
                    <a:pt x="2001" y="78"/>
                    <a:pt x="2001" y="81"/>
                    <a:pt x="2001" y="83"/>
                  </a:cubicBezTo>
                  <a:close/>
                  <a:moveTo>
                    <a:pt x="2007" y="104"/>
                  </a:moveTo>
                  <a:cubicBezTo>
                    <a:pt x="2008" y="105"/>
                    <a:pt x="2008" y="107"/>
                    <a:pt x="2008" y="109"/>
                  </a:cubicBezTo>
                  <a:cubicBezTo>
                    <a:pt x="2008" y="111"/>
                    <a:pt x="2007" y="112"/>
                    <a:pt x="2007" y="114"/>
                  </a:cubicBezTo>
                  <a:cubicBezTo>
                    <a:pt x="2007" y="110"/>
                    <a:pt x="2007" y="107"/>
                    <a:pt x="2007" y="104"/>
                  </a:cubicBezTo>
                  <a:close/>
                  <a:moveTo>
                    <a:pt x="2003" y="91"/>
                  </a:moveTo>
                  <a:cubicBezTo>
                    <a:pt x="2003" y="91"/>
                    <a:pt x="2003" y="91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lose/>
                  <a:moveTo>
                    <a:pt x="2003" y="124"/>
                  </a:moveTo>
                  <a:cubicBezTo>
                    <a:pt x="2004" y="114"/>
                    <a:pt x="2004" y="102"/>
                    <a:pt x="2003" y="91"/>
                  </a:cubicBezTo>
                  <a:cubicBezTo>
                    <a:pt x="2003" y="91"/>
                    <a:pt x="2003" y="91"/>
                    <a:pt x="2003" y="91"/>
                  </a:cubicBezTo>
                  <a:cubicBezTo>
                    <a:pt x="2005" y="94"/>
                    <a:pt x="2006" y="98"/>
                    <a:pt x="2007" y="101"/>
                  </a:cubicBezTo>
                  <a:cubicBezTo>
                    <a:pt x="2005" y="120"/>
                    <a:pt x="2005" y="120"/>
                    <a:pt x="2005" y="120"/>
                  </a:cubicBezTo>
                  <a:cubicBezTo>
                    <a:pt x="2004" y="121"/>
                    <a:pt x="2004" y="122"/>
                    <a:pt x="2003" y="124"/>
                  </a:cubicBezTo>
                  <a:close/>
                  <a:moveTo>
                    <a:pt x="2006" y="136"/>
                  </a:moveTo>
                  <a:cubicBezTo>
                    <a:pt x="2006" y="134"/>
                    <a:pt x="2006" y="133"/>
                    <a:pt x="2006" y="131"/>
                  </a:cubicBezTo>
                  <a:cubicBezTo>
                    <a:pt x="2007" y="126"/>
                    <a:pt x="2008" y="121"/>
                    <a:pt x="2009" y="116"/>
                  </a:cubicBezTo>
                  <a:cubicBezTo>
                    <a:pt x="2010" y="118"/>
                    <a:pt x="2010" y="121"/>
                    <a:pt x="2010" y="123"/>
                  </a:cubicBezTo>
                  <a:cubicBezTo>
                    <a:pt x="2010" y="124"/>
                    <a:pt x="2010" y="124"/>
                    <a:pt x="2010" y="124"/>
                  </a:cubicBezTo>
                  <a:cubicBezTo>
                    <a:pt x="2009" y="128"/>
                    <a:pt x="2007" y="132"/>
                    <a:pt x="2006" y="136"/>
                  </a:cubicBezTo>
                  <a:close/>
                  <a:moveTo>
                    <a:pt x="2010" y="141"/>
                  </a:moveTo>
                  <a:cubicBezTo>
                    <a:pt x="2010" y="141"/>
                    <a:pt x="2010" y="141"/>
                    <a:pt x="2010" y="141"/>
                  </a:cubicBezTo>
                  <a:cubicBezTo>
                    <a:pt x="2011" y="139"/>
                    <a:pt x="2011" y="137"/>
                    <a:pt x="2012" y="135"/>
                  </a:cubicBezTo>
                  <a:cubicBezTo>
                    <a:pt x="2012" y="135"/>
                    <a:pt x="2012" y="135"/>
                    <a:pt x="2012" y="135"/>
                  </a:cubicBezTo>
                  <a:cubicBezTo>
                    <a:pt x="2012" y="137"/>
                    <a:pt x="2011" y="139"/>
                    <a:pt x="2010" y="141"/>
                  </a:cubicBezTo>
                  <a:close/>
                  <a:moveTo>
                    <a:pt x="2017" y="119"/>
                  </a:moveTo>
                  <a:cubicBezTo>
                    <a:pt x="2016" y="119"/>
                    <a:pt x="2016" y="118"/>
                    <a:pt x="2016" y="118"/>
                  </a:cubicBezTo>
                  <a:cubicBezTo>
                    <a:pt x="2016" y="116"/>
                    <a:pt x="2017" y="115"/>
                    <a:pt x="2017" y="113"/>
                  </a:cubicBezTo>
                  <a:cubicBezTo>
                    <a:pt x="2017" y="112"/>
                    <a:pt x="2017" y="112"/>
                    <a:pt x="2017" y="111"/>
                  </a:cubicBezTo>
                  <a:cubicBezTo>
                    <a:pt x="2018" y="112"/>
                    <a:pt x="2018" y="113"/>
                    <a:pt x="2018" y="115"/>
                  </a:cubicBezTo>
                  <a:cubicBezTo>
                    <a:pt x="2018" y="116"/>
                    <a:pt x="2017" y="118"/>
                    <a:pt x="2017" y="119"/>
                  </a:cubicBezTo>
                  <a:close/>
                  <a:moveTo>
                    <a:pt x="2024" y="136"/>
                  </a:moveTo>
                  <a:cubicBezTo>
                    <a:pt x="2023" y="135"/>
                    <a:pt x="2023" y="134"/>
                    <a:pt x="2022" y="133"/>
                  </a:cubicBezTo>
                  <a:cubicBezTo>
                    <a:pt x="2022" y="132"/>
                    <a:pt x="2022" y="132"/>
                    <a:pt x="2022" y="131"/>
                  </a:cubicBezTo>
                  <a:cubicBezTo>
                    <a:pt x="2023" y="133"/>
                    <a:pt x="2023" y="134"/>
                    <a:pt x="2024" y="136"/>
                  </a:cubicBezTo>
                  <a:cubicBezTo>
                    <a:pt x="2024" y="136"/>
                    <a:pt x="2024" y="136"/>
                    <a:pt x="2024" y="136"/>
                  </a:cubicBezTo>
                  <a:close/>
                  <a:moveTo>
                    <a:pt x="2038" y="118"/>
                  </a:moveTo>
                  <a:cubicBezTo>
                    <a:pt x="2038" y="118"/>
                    <a:pt x="2038" y="117"/>
                    <a:pt x="2038" y="117"/>
                  </a:cubicBezTo>
                  <a:cubicBezTo>
                    <a:pt x="2038" y="117"/>
                    <a:pt x="2038" y="117"/>
                    <a:pt x="2038" y="117"/>
                  </a:cubicBezTo>
                  <a:cubicBezTo>
                    <a:pt x="2038" y="118"/>
                    <a:pt x="2038" y="118"/>
                    <a:pt x="2038" y="118"/>
                  </a:cubicBezTo>
                  <a:close/>
                  <a:moveTo>
                    <a:pt x="2044" y="105"/>
                  </a:moveTo>
                  <a:cubicBezTo>
                    <a:pt x="2043" y="106"/>
                    <a:pt x="2042" y="107"/>
                    <a:pt x="2042" y="109"/>
                  </a:cubicBezTo>
                  <a:cubicBezTo>
                    <a:pt x="2041" y="107"/>
                    <a:pt x="2041" y="106"/>
                    <a:pt x="2041" y="104"/>
                  </a:cubicBezTo>
                  <a:cubicBezTo>
                    <a:pt x="2042" y="101"/>
                    <a:pt x="2044" y="98"/>
                    <a:pt x="2045" y="94"/>
                  </a:cubicBezTo>
                  <a:cubicBezTo>
                    <a:pt x="2044" y="98"/>
                    <a:pt x="2044" y="101"/>
                    <a:pt x="2044" y="105"/>
                  </a:cubicBezTo>
                  <a:close/>
                  <a:moveTo>
                    <a:pt x="2049" y="138"/>
                  </a:moveTo>
                  <a:cubicBezTo>
                    <a:pt x="2049" y="137"/>
                    <a:pt x="2049" y="136"/>
                    <a:pt x="2048" y="135"/>
                  </a:cubicBezTo>
                  <a:cubicBezTo>
                    <a:pt x="2048" y="133"/>
                    <a:pt x="2048" y="131"/>
                    <a:pt x="2048" y="129"/>
                  </a:cubicBezTo>
                  <a:cubicBezTo>
                    <a:pt x="2049" y="131"/>
                    <a:pt x="2049" y="133"/>
                    <a:pt x="2050" y="134"/>
                  </a:cubicBezTo>
                  <a:cubicBezTo>
                    <a:pt x="2050" y="135"/>
                    <a:pt x="2050" y="137"/>
                    <a:pt x="2049" y="138"/>
                  </a:cubicBezTo>
                  <a:close/>
                  <a:moveTo>
                    <a:pt x="2051" y="123"/>
                  </a:moveTo>
                  <a:cubicBezTo>
                    <a:pt x="2050" y="121"/>
                    <a:pt x="2049" y="118"/>
                    <a:pt x="2049" y="116"/>
                  </a:cubicBezTo>
                  <a:cubicBezTo>
                    <a:pt x="2050" y="112"/>
                    <a:pt x="2051" y="107"/>
                    <a:pt x="2052" y="103"/>
                  </a:cubicBezTo>
                  <a:cubicBezTo>
                    <a:pt x="2052" y="110"/>
                    <a:pt x="2051" y="117"/>
                    <a:pt x="2051" y="123"/>
                  </a:cubicBezTo>
                  <a:close/>
                  <a:moveTo>
                    <a:pt x="2056" y="69"/>
                  </a:moveTo>
                  <a:cubicBezTo>
                    <a:pt x="2058" y="72"/>
                    <a:pt x="2060" y="75"/>
                    <a:pt x="2061" y="79"/>
                  </a:cubicBezTo>
                  <a:cubicBezTo>
                    <a:pt x="2061" y="79"/>
                    <a:pt x="2061" y="79"/>
                    <a:pt x="2061" y="79"/>
                  </a:cubicBezTo>
                  <a:cubicBezTo>
                    <a:pt x="2059" y="76"/>
                    <a:pt x="2058" y="72"/>
                    <a:pt x="2056" y="69"/>
                  </a:cubicBezTo>
                  <a:cubicBezTo>
                    <a:pt x="2056" y="69"/>
                    <a:pt x="2056" y="69"/>
                    <a:pt x="2056" y="69"/>
                  </a:cubicBezTo>
                  <a:close/>
                  <a:moveTo>
                    <a:pt x="2056" y="74"/>
                  </a:moveTo>
                  <a:cubicBezTo>
                    <a:pt x="2057" y="76"/>
                    <a:pt x="2058" y="79"/>
                    <a:pt x="2059" y="81"/>
                  </a:cubicBezTo>
                  <a:cubicBezTo>
                    <a:pt x="2058" y="82"/>
                    <a:pt x="2057" y="83"/>
                    <a:pt x="2056" y="85"/>
                  </a:cubicBezTo>
                  <a:cubicBezTo>
                    <a:pt x="2056" y="81"/>
                    <a:pt x="2056" y="77"/>
                    <a:pt x="2056" y="74"/>
                  </a:cubicBezTo>
                  <a:close/>
                  <a:moveTo>
                    <a:pt x="2057" y="120"/>
                  </a:moveTo>
                  <a:cubicBezTo>
                    <a:pt x="2057" y="115"/>
                    <a:pt x="2057" y="111"/>
                    <a:pt x="2057" y="106"/>
                  </a:cubicBezTo>
                  <a:cubicBezTo>
                    <a:pt x="2058" y="109"/>
                    <a:pt x="2058" y="112"/>
                    <a:pt x="2059" y="114"/>
                  </a:cubicBezTo>
                  <a:cubicBezTo>
                    <a:pt x="2058" y="116"/>
                    <a:pt x="2058" y="118"/>
                    <a:pt x="2057" y="120"/>
                  </a:cubicBezTo>
                  <a:close/>
                  <a:moveTo>
                    <a:pt x="2060" y="109"/>
                  </a:moveTo>
                  <a:cubicBezTo>
                    <a:pt x="2059" y="107"/>
                    <a:pt x="2058" y="104"/>
                    <a:pt x="2057" y="102"/>
                  </a:cubicBezTo>
                  <a:cubicBezTo>
                    <a:pt x="2057" y="99"/>
                    <a:pt x="2057" y="97"/>
                    <a:pt x="2057" y="94"/>
                  </a:cubicBezTo>
                  <a:cubicBezTo>
                    <a:pt x="2058" y="98"/>
                    <a:pt x="2059" y="102"/>
                    <a:pt x="2061" y="107"/>
                  </a:cubicBezTo>
                  <a:cubicBezTo>
                    <a:pt x="2061" y="108"/>
                    <a:pt x="2060" y="108"/>
                    <a:pt x="2060" y="109"/>
                  </a:cubicBezTo>
                  <a:close/>
                  <a:moveTo>
                    <a:pt x="2064" y="96"/>
                  </a:moveTo>
                  <a:cubicBezTo>
                    <a:pt x="2063" y="98"/>
                    <a:pt x="2062" y="101"/>
                    <a:pt x="2062" y="104"/>
                  </a:cubicBezTo>
                  <a:cubicBezTo>
                    <a:pt x="2060" y="100"/>
                    <a:pt x="2058" y="96"/>
                    <a:pt x="2057" y="92"/>
                  </a:cubicBezTo>
                  <a:cubicBezTo>
                    <a:pt x="2057" y="92"/>
                    <a:pt x="2057" y="92"/>
                    <a:pt x="2057" y="92"/>
                  </a:cubicBezTo>
                  <a:cubicBezTo>
                    <a:pt x="2058" y="89"/>
                    <a:pt x="2059" y="86"/>
                    <a:pt x="2061" y="84"/>
                  </a:cubicBezTo>
                  <a:cubicBezTo>
                    <a:pt x="2062" y="87"/>
                    <a:pt x="2063" y="90"/>
                    <a:pt x="2064" y="93"/>
                  </a:cubicBezTo>
                  <a:cubicBezTo>
                    <a:pt x="2064" y="94"/>
                    <a:pt x="2064" y="95"/>
                    <a:pt x="2064" y="96"/>
                  </a:cubicBezTo>
                  <a:close/>
                  <a:moveTo>
                    <a:pt x="2065" y="90"/>
                  </a:moveTo>
                  <a:cubicBezTo>
                    <a:pt x="2064" y="87"/>
                    <a:pt x="2063" y="84"/>
                    <a:pt x="2062" y="82"/>
                  </a:cubicBezTo>
                  <a:cubicBezTo>
                    <a:pt x="2062" y="81"/>
                    <a:pt x="2062" y="81"/>
                    <a:pt x="2062" y="81"/>
                  </a:cubicBezTo>
                  <a:cubicBezTo>
                    <a:pt x="2063" y="83"/>
                    <a:pt x="2064" y="86"/>
                    <a:pt x="2065" y="89"/>
                  </a:cubicBezTo>
                  <a:cubicBezTo>
                    <a:pt x="2065" y="89"/>
                    <a:pt x="2065" y="89"/>
                    <a:pt x="2065" y="90"/>
                  </a:cubicBezTo>
                  <a:close/>
                  <a:moveTo>
                    <a:pt x="2063" y="79"/>
                  </a:moveTo>
                  <a:cubicBezTo>
                    <a:pt x="2064" y="78"/>
                    <a:pt x="2065" y="77"/>
                    <a:pt x="2065" y="77"/>
                  </a:cubicBezTo>
                  <a:cubicBezTo>
                    <a:pt x="2066" y="78"/>
                    <a:pt x="2066" y="79"/>
                    <a:pt x="2067" y="80"/>
                  </a:cubicBezTo>
                  <a:cubicBezTo>
                    <a:pt x="2067" y="82"/>
                    <a:pt x="2066" y="84"/>
                    <a:pt x="2066" y="85"/>
                  </a:cubicBezTo>
                  <a:cubicBezTo>
                    <a:pt x="2065" y="83"/>
                    <a:pt x="2064" y="81"/>
                    <a:pt x="2063" y="79"/>
                  </a:cubicBezTo>
                  <a:close/>
                  <a:moveTo>
                    <a:pt x="2066" y="116"/>
                  </a:moveTo>
                  <a:cubicBezTo>
                    <a:pt x="2066" y="111"/>
                    <a:pt x="2067" y="106"/>
                    <a:pt x="2067" y="102"/>
                  </a:cubicBezTo>
                  <a:cubicBezTo>
                    <a:pt x="2068" y="105"/>
                    <a:pt x="2069" y="108"/>
                    <a:pt x="2070" y="111"/>
                  </a:cubicBezTo>
                  <a:cubicBezTo>
                    <a:pt x="2069" y="113"/>
                    <a:pt x="2068" y="116"/>
                    <a:pt x="2067" y="118"/>
                  </a:cubicBezTo>
                  <a:cubicBezTo>
                    <a:pt x="2067" y="117"/>
                    <a:pt x="2066" y="117"/>
                    <a:pt x="2066" y="116"/>
                  </a:cubicBezTo>
                  <a:close/>
                  <a:moveTo>
                    <a:pt x="2071" y="130"/>
                  </a:moveTo>
                  <a:cubicBezTo>
                    <a:pt x="2070" y="128"/>
                    <a:pt x="2070" y="127"/>
                    <a:pt x="2069" y="125"/>
                  </a:cubicBezTo>
                  <a:cubicBezTo>
                    <a:pt x="2070" y="123"/>
                    <a:pt x="2070" y="122"/>
                    <a:pt x="2071" y="120"/>
                  </a:cubicBezTo>
                  <a:cubicBezTo>
                    <a:pt x="2071" y="122"/>
                    <a:pt x="2071" y="124"/>
                    <a:pt x="2071" y="127"/>
                  </a:cubicBezTo>
                  <a:cubicBezTo>
                    <a:pt x="2071" y="128"/>
                    <a:pt x="2071" y="129"/>
                    <a:pt x="2071" y="130"/>
                  </a:cubicBezTo>
                  <a:close/>
                  <a:moveTo>
                    <a:pt x="2073" y="105"/>
                  </a:moveTo>
                  <a:cubicBezTo>
                    <a:pt x="2071" y="100"/>
                    <a:pt x="2070" y="95"/>
                    <a:pt x="2068" y="91"/>
                  </a:cubicBezTo>
                  <a:cubicBezTo>
                    <a:pt x="2068" y="89"/>
                    <a:pt x="2068" y="87"/>
                    <a:pt x="2069" y="85"/>
                  </a:cubicBezTo>
                  <a:cubicBezTo>
                    <a:pt x="2071" y="91"/>
                    <a:pt x="2072" y="97"/>
                    <a:pt x="2074" y="103"/>
                  </a:cubicBezTo>
                  <a:cubicBezTo>
                    <a:pt x="2073" y="104"/>
                    <a:pt x="2073" y="105"/>
                    <a:pt x="2073" y="105"/>
                  </a:cubicBezTo>
                  <a:close/>
                  <a:moveTo>
                    <a:pt x="2074" y="111"/>
                  </a:moveTo>
                  <a:cubicBezTo>
                    <a:pt x="2074" y="110"/>
                    <a:pt x="2074" y="110"/>
                    <a:pt x="2074" y="109"/>
                  </a:cubicBezTo>
                  <a:cubicBezTo>
                    <a:pt x="2074" y="109"/>
                    <a:pt x="2074" y="108"/>
                    <a:pt x="2075" y="107"/>
                  </a:cubicBezTo>
                  <a:cubicBezTo>
                    <a:pt x="2075" y="108"/>
                    <a:pt x="2075" y="109"/>
                    <a:pt x="2075" y="109"/>
                  </a:cubicBezTo>
                  <a:cubicBezTo>
                    <a:pt x="2075" y="110"/>
                    <a:pt x="2075" y="110"/>
                    <a:pt x="2074" y="111"/>
                  </a:cubicBezTo>
                  <a:close/>
                  <a:moveTo>
                    <a:pt x="2085" y="94"/>
                  </a:moveTo>
                  <a:cubicBezTo>
                    <a:pt x="2085" y="95"/>
                    <a:pt x="2085" y="95"/>
                    <a:pt x="2086" y="96"/>
                  </a:cubicBezTo>
                  <a:cubicBezTo>
                    <a:pt x="2085" y="97"/>
                    <a:pt x="2085" y="97"/>
                    <a:pt x="2085" y="98"/>
                  </a:cubicBezTo>
                  <a:cubicBezTo>
                    <a:pt x="2085" y="96"/>
                    <a:pt x="2085" y="95"/>
                    <a:pt x="2085" y="94"/>
                  </a:cubicBezTo>
                  <a:close/>
                  <a:moveTo>
                    <a:pt x="2087" y="109"/>
                  </a:moveTo>
                  <a:cubicBezTo>
                    <a:pt x="2086" y="106"/>
                    <a:pt x="2086" y="104"/>
                    <a:pt x="2085" y="102"/>
                  </a:cubicBezTo>
                  <a:cubicBezTo>
                    <a:pt x="2085" y="101"/>
                    <a:pt x="2085" y="99"/>
                    <a:pt x="2085" y="98"/>
                  </a:cubicBezTo>
                  <a:cubicBezTo>
                    <a:pt x="2085" y="98"/>
                    <a:pt x="2086" y="97"/>
                    <a:pt x="2086" y="97"/>
                  </a:cubicBezTo>
                  <a:cubicBezTo>
                    <a:pt x="2086" y="98"/>
                    <a:pt x="2087" y="100"/>
                    <a:pt x="2087" y="102"/>
                  </a:cubicBezTo>
                  <a:cubicBezTo>
                    <a:pt x="2087" y="104"/>
                    <a:pt x="2087" y="107"/>
                    <a:pt x="2087" y="109"/>
                  </a:cubicBezTo>
                  <a:close/>
                  <a:moveTo>
                    <a:pt x="2089" y="84"/>
                  </a:moveTo>
                  <a:cubicBezTo>
                    <a:pt x="2089" y="89"/>
                    <a:pt x="2088" y="94"/>
                    <a:pt x="2088" y="98"/>
                  </a:cubicBezTo>
                  <a:cubicBezTo>
                    <a:pt x="2087" y="97"/>
                    <a:pt x="2087" y="96"/>
                    <a:pt x="2086" y="95"/>
                  </a:cubicBezTo>
                  <a:cubicBezTo>
                    <a:pt x="2087" y="94"/>
                    <a:pt x="2088" y="92"/>
                    <a:pt x="2088" y="91"/>
                  </a:cubicBezTo>
                  <a:cubicBezTo>
                    <a:pt x="2088" y="92"/>
                    <a:pt x="2087" y="94"/>
                    <a:pt x="2086" y="95"/>
                  </a:cubicBezTo>
                  <a:cubicBezTo>
                    <a:pt x="2086" y="94"/>
                    <a:pt x="2085" y="93"/>
                    <a:pt x="2085" y="92"/>
                  </a:cubicBezTo>
                  <a:cubicBezTo>
                    <a:pt x="2085" y="90"/>
                    <a:pt x="2085" y="88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5" y="85"/>
                    <a:pt x="2085" y="85"/>
                    <a:pt x="2085" y="85"/>
                  </a:cubicBezTo>
                  <a:cubicBezTo>
                    <a:pt x="2084" y="75"/>
                    <a:pt x="2084" y="65"/>
                    <a:pt x="2084" y="56"/>
                  </a:cubicBezTo>
                  <a:cubicBezTo>
                    <a:pt x="2087" y="58"/>
                    <a:pt x="2089" y="61"/>
                    <a:pt x="2092" y="63"/>
                  </a:cubicBezTo>
                  <a:cubicBezTo>
                    <a:pt x="2091" y="69"/>
                    <a:pt x="2090" y="76"/>
                    <a:pt x="2089" y="84"/>
                  </a:cubicBezTo>
                  <a:cubicBezTo>
                    <a:pt x="2089" y="82"/>
                    <a:pt x="2088" y="81"/>
                    <a:pt x="2088" y="79"/>
                  </a:cubicBezTo>
                  <a:cubicBezTo>
                    <a:pt x="2088" y="81"/>
                    <a:pt x="2089" y="83"/>
                    <a:pt x="2089" y="84"/>
                  </a:cubicBezTo>
                  <a:close/>
                  <a:moveTo>
                    <a:pt x="2090" y="139"/>
                  </a:moveTo>
                  <a:cubicBezTo>
                    <a:pt x="2090" y="134"/>
                    <a:pt x="2090" y="128"/>
                    <a:pt x="2090" y="121"/>
                  </a:cubicBezTo>
                  <a:cubicBezTo>
                    <a:pt x="2090" y="125"/>
                    <a:pt x="2090" y="129"/>
                    <a:pt x="2091" y="133"/>
                  </a:cubicBezTo>
                  <a:cubicBezTo>
                    <a:pt x="2091" y="135"/>
                    <a:pt x="2091" y="137"/>
                    <a:pt x="2090" y="139"/>
                  </a:cubicBezTo>
                  <a:close/>
                  <a:moveTo>
                    <a:pt x="2090" y="104"/>
                  </a:moveTo>
                  <a:cubicBezTo>
                    <a:pt x="2090" y="102"/>
                    <a:pt x="2090" y="99"/>
                    <a:pt x="2091" y="96"/>
                  </a:cubicBezTo>
                  <a:cubicBezTo>
                    <a:pt x="2091" y="100"/>
                    <a:pt x="2091" y="104"/>
                    <a:pt x="2091" y="107"/>
                  </a:cubicBezTo>
                  <a:cubicBezTo>
                    <a:pt x="2091" y="106"/>
                    <a:pt x="2091" y="105"/>
                    <a:pt x="2090" y="104"/>
                  </a:cubicBezTo>
                  <a:close/>
                  <a:moveTo>
                    <a:pt x="2102" y="85"/>
                  </a:moveTo>
                  <a:cubicBezTo>
                    <a:pt x="2101" y="90"/>
                    <a:pt x="2100" y="96"/>
                    <a:pt x="2099" y="103"/>
                  </a:cubicBezTo>
                  <a:cubicBezTo>
                    <a:pt x="2099" y="101"/>
                    <a:pt x="2099" y="100"/>
                    <a:pt x="2098" y="99"/>
                  </a:cubicBezTo>
                  <a:cubicBezTo>
                    <a:pt x="2098" y="96"/>
                    <a:pt x="2097" y="93"/>
                    <a:pt x="2096" y="90"/>
                  </a:cubicBezTo>
                  <a:cubicBezTo>
                    <a:pt x="2097" y="93"/>
                    <a:pt x="2097" y="96"/>
                    <a:pt x="2097" y="99"/>
                  </a:cubicBezTo>
                  <a:cubicBezTo>
                    <a:pt x="2097" y="104"/>
                    <a:pt x="2096" y="112"/>
                    <a:pt x="2096" y="120"/>
                  </a:cubicBezTo>
                  <a:cubicBezTo>
                    <a:pt x="2095" y="110"/>
                    <a:pt x="2093" y="100"/>
                    <a:pt x="2091" y="91"/>
                  </a:cubicBezTo>
                  <a:cubicBezTo>
                    <a:pt x="2092" y="81"/>
                    <a:pt x="2093" y="72"/>
                    <a:pt x="2093" y="65"/>
                  </a:cubicBezTo>
                  <a:cubicBezTo>
                    <a:pt x="2097" y="69"/>
                    <a:pt x="2100" y="74"/>
                    <a:pt x="2102" y="79"/>
                  </a:cubicBezTo>
                  <a:cubicBezTo>
                    <a:pt x="2102" y="81"/>
                    <a:pt x="2102" y="83"/>
                    <a:pt x="2102" y="85"/>
                  </a:cubicBezTo>
                  <a:close/>
                  <a:moveTo>
                    <a:pt x="2102" y="75"/>
                  </a:moveTo>
                  <a:cubicBezTo>
                    <a:pt x="2102" y="75"/>
                    <a:pt x="2102" y="75"/>
                    <a:pt x="2102" y="75"/>
                  </a:cubicBezTo>
                  <a:cubicBezTo>
                    <a:pt x="2102" y="73"/>
                    <a:pt x="2102" y="72"/>
                    <a:pt x="2101" y="70"/>
                  </a:cubicBezTo>
                  <a:cubicBezTo>
                    <a:pt x="2101" y="70"/>
                    <a:pt x="2102" y="72"/>
                    <a:pt x="2102" y="75"/>
                  </a:cubicBezTo>
                  <a:cubicBezTo>
                    <a:pt x="2099" y="71"/>
                    <a:pt x="2097" y="67"/>
                    <a:pt x="2093" y="64"/>
                  </a:cubicBezTo>
                  <a:cubicBezTo>
                    <a:pt x="2094" y="60"/>
                    <a:pt x="2094" y="57"/>
                    <a:pt x="2095" y="54"/>
                  </a:cubicBezTo>
                  <a:cubicBezTo>
                    <a:pt x="2098" y="58"/>
                    <a:pt x="2101" y="62"/>
                    <a:pt x="2103" y="65"/>
                  </a:cubicBezTo>
                  <a:cubicBezTo>
                    <a:pt x="2103" y="68"/>
                    <a:pt x="2102" y="71"/>
                    <a:pt x="2102" y="75"/>
                  </a:cubicBezTo>
                  <a:close/>
                  <a:moveTo>
                    <a:pt x="2106" y="117"/>
                  </a:moveTo>
                  <a:cubicBezTo>
                    <a:pt x="2105" y="120"/>
                    <a:pt x="2104" y="122"/>
                    <a:pt x="2104" y="125"/>
                  </a:cubicBezTo>
                  <a:cubicBezTo>
                    <a:pt x="2104" y="124"/>
                    <a:pt x="2104" y="123"/>
                    <a:pt x="2104" y="122"/>
                  </a:cubicBezTo>
                  <a:cubicBezTo>
                    <a:pt x="2104" y="110"/>
                    <a:pt x="2104" y="98"/>
                    <a:pt x="2105" y="87"/>
                  </a:cubicBezTo>
                  <a:cubicBezTo>
                    <a:pt x="2106" y="92"/>
                    <a:pt x="2107" y="98"/>
                    <a:pt x="2108" y="103"/>
                  </a:cubicBezTo>
                  <a:cubicBezTo>
                    <a:pt x="2107" y="108"/>
                    <a:pt x="2106" y="112"/>
                    <a:pt x="2106" y="117"/>
                  </a:cubicBezTo>
                  <a:close/>
                  <a:moveTo>
                    <a:pt x="2109" y="89"/>
                  </a:moveTo>
                  <a:cubicBezTo>
                    <a:pt x="2108" y="86"/>
                    <a:pt x="2106" y="83"/>
                    <a:pt x="2105" y="80"/>
                  </a:cubicBezTo>
                  <a:cubicBezTo>
                    <a:pt x="2105" y="76"/>
                    <a:pt x="2105" y="72"/>
                    <a:pt x="2105" y="68"/>
                  </a:cubicBezTo>
                  <a:cubicBezTo>
                    <a:pt x="2107" y="71"/>
                    <a:pt x="2109" y="74"/>
                    <a:pt x="2111" y="78"/>
                  </a:cubicBezTo>
                  <a:cubicBezTo>
                    <a:pt x="2110" y="81"/>
                    <a:pt x="2110" y="85"/>
                    <a:pt x="2109" y="89"/>
                  </a:cubicBezTo>
                  <a:close/>
                  <a:moveTo>
                    <a:pt x="2114" y="96"/>
                  </a:moveTo>
                  <a:cubicBezTo>
                    <a:pt x="2114" y="97"/>
                    <a:pt x="2113" y="98"/>
                    <a:pt x="2113" y="99"/>
                  </a:cubicBezTo>
                  <a:cubicBezTo>
                    <a:pt x="2112" y="98"/>
                    <a:pt x="2112" y="97"/>
                    <a:pt x="2112" y="96"/>
                  </a:cubicBezTo>
                  <a:cubicBezTo>
                    <a:pt x="2112" y="91"/>
                    <a:pt x="2112" y="86"/>
                    <a:pt x="2112" y="80"/>
                  </a:cubicBezTo>
                  <a:cubicBezTo>
                    <a:pt x="2113" y="83"/>
                    <a:pt x="2114" y="86"/>
                    <a:pt x="2115" y="88"/>
                  </a:cubicBezTo>
                  <a:cubicBezTo>
                    <a:pt x="2115" y="91"/>
                    <a:pt x="2115" y="93"/>
                    <a:pt x="2114" y="96"/>
                  </a:cubicBezTo>
                  <a:close/>
                  <a:moveTo>
                    <a:pt x="2136" y="105"/>
                  </a:moveTo>
                  <a:cubicBezTo>
                    <a:pt x="2135" y="103"/>
                    <a:pt x="2135" y="102"/>
                    <a:pt x="2134" y="101"/>
                  </a:cubicBezTo>
                  <a:cubicBezTo>
                    <a:pt x="2136" y="96"/>
                    <a:pt x="2137" y="92"/>
                    <a:pt x="2138" y="89"/>
                  </a:cubicBezTo>
                  <a:cubicBezTo>
                    <a:pt x="2138" y="89"/>
                    <a:pt x="2139" y="89"/>
                    <a:pt x="2139" y="90"/>
                  </a:cubicBezTo>
                  <a:cubicBezTo>
                    <a:pt x="2138" y="95"/>
                    <a:pt x="2137" y="100"/>
                    <a:pt x="2136" y="105"/>
                  </a:cubicBezTo>
                  <a:close/>
                  <a:moveTo>
                    <a:pt x="2152" y="81"/>
                  </a:moveTo>
                  <a:cubicBezTo>
                    <a:pt x="2152" y="81"/>
                    <a:pt x="2153" y="81"/>
                    <a:pt x="2153" y="81"/>
                  </a:cubicBezTo>
                  <a:cubicBezTo>
                    <a:pt x="2152" y="81"/>
                    <a:pt x="2152" y="81"/>
                    <a:pt x="2152" y="81"/>
                  </a:cubicBezTo>
                  <a:cubicBezTo>
                    <a:pt x="2152" y="81"/>
                    <a:pt x="2152" y="81"/>
                    <a:pt x="2152" y="81"/>
                  </a:cubicBezTo>
                  <a:close/>
                  <a:moveTo>
                    <a:pt x="2152" y="88"/>
                  </a:moveTo>
                  <a:cubicBezTo>
                    <a:pt x="2152" y="89"/>
                    <a:pt x="2152" y="89"/>
                    <a:pt x="2152" y="89"/>
                  </a:cubicBezTo>
                  <a:cubicBezTo>
                    <a:pt x="2152" y="90"/>
                    <a:pt x="2152" y="91"/>
                    <a:pt x="2152" y="91"/>
                  </a:cubicBezTo>
                  <a:cubicBezTo>
                    <a:pt x="2152" y="90"/>
                    <a:pt x="2152" y="89"/>
                    <a:pt x="2152" y="88"/>
                  </a:cubicBezTo>
                  <a:close/>
                  <a:moveTo>
                    <a:pt x="2143" y="122"/>
                  </a:moveTo>
                  <a:cubicBezTo>
                    <a:pt x="2143" y="122"/>
                    <a:pt x="2143" y="123"/>
                    <a:pt x="2143" y="123"/>
                  </a:cubicBezTo>
                  <a:cubicBezTo>
                    <a:pt x="2143" y="123"/>
                    <a:pt x="2143" y="123"/>
                    <a:pt x="2143" y="123"/>
                  </a:cubicBezTo>
                  <a:cubicBezTo>
                    <a:pt x="2143" y="123"/>
                    <a:pt x="2143" y="122"/>
                    <a:pt x="2143" y="122"/>
                  </a:cubicBezTo>
                  <a:cubicBezTo>
                    <a:pt x="2143" y="120"/>
                    <a:pt x="2144" y="118"/>
                    <a:pt x="2144" y="115"/>
                  </a:cubicBezTo>
                  <a:cubicBezTo>
                    <a:pt x="2144" y="115"/>
                    <a:pt x="2144" y="115"/>
                    <a:pt x="2144" y="115"/>
                  </a:cubicBezTo>
                  <a:cubicBezTo>
                    <a:pt x="2144" y="116"/>
                    <a:pt x="2144" y="117"/>
                    <a:pt x="2144" y="118"/>
                  </a:cubicBezTo>
                  <a:cubicBezTo>
                    <a:pt x="2144" y="119"/>
                    <a:pt x="2143" y="121"/>
                    <a:pt x="2143" y="122"/>
                  </a:cubicBezTo>
                  <a:close/>
                  <a:moveTo>
                    <a:pt x="2145" y="70"/>
                  </a:moveTo>
                  <a:cubicBezTo>
                    <a:pt x="2148" y="73"/>
                    <a:pt x="2150" y="76"/>
                    <a:pt x="2151" y="79"/>
                  </a:cubicBezTo>
                  <a:cubicBezTo>
                    <a:pt x="2151" y="81"/>
                    <a:pt x="2151" y="82"/>
                    <a:pt x="2150" y="84"/>
                  </a:cubicBezTo>
                  <a:cubicBezTo>
                    <a:pt x="2150" y="84"/>
                    <a:pt x="2150" y="84"/>
                    <a:pt x="2150" y="84"/>
                  </a:cubicBezTo>
                  <a:cubicBezTo>
                    <a:pt x="2150" y="82"/>
                    <a:pt x="2149" y="81"/>
                    <a:pt x="2148" y="79"/>
                  </a:cubicBezTo>
                  <a:cubicBezTo>
                    <a:pt x="2149" y="81"/>
                    <a:pt x="2149" y="83"/>
                    <a:pt x="2150" y="84"/>
                  </a:cubicBezTo>
                  <a:cubicBezTo>
                    <a:pt x="2149" y="87"/>
                    <a:pt x="2147" y="90"/>
                    <a:pt x="2145" y="93"/>
                  </a:cubicBezTo>
                  <a:cubicBezTo>
                    <a:pt x="2146" y="85"/>
                    <a:pt x="2146" y="77"/>
                    <a:pt x="2145" y="70"/>
                  </a:cubicBezTo>
                  <a:close/>
                  <a:moveTo>
                    <a:pt x="2148" y="98"/>
                  </a:moveTo>
                  <a:cubicBezTo>
                    <a:pt x="2148" y="98"/>
                    <a:pt x="2148" y="97"/>
                    <a:pt x="2147" y="96"/>
                  </a:cubicBezTo>
                  <a:cubicBezTo>
                    <a:pt x="2148" y="97"/>
                    <a:pt x="2148" y="98"/>
                    <a:pt x="2148" y="98"/>
                  </a:cubicBezTo>
                  <a:cubicBezTo>
                    <a:pt x="2148" y="99"/>
                    <a:pt x="2148" y="100"/>
                    <a:pt x="2147" y="100"/>
                  </a:cubicBezTo>
                  <a:cubicBezTo>
                    <a:pt x="2147" y="99"/>
                    <a:pt x="2147" y="98"/>
                    <a:pt x="2146" y="97"/>
                  </a:cubicBezTo>
                  <a:cubicBezTo>
                    <a:pt x="2147" y="95"/>
                    <a:pt x="2148" y="93"/>
                    <a:pt x="2149" y="90"/>
                  </a:cubicBezTo>
                  <a:cubicBezTo>
                    <a:pt x="2149" y="93"/>
                    <a:pt x="2148" y="96"/>
                    <a:pt x="2148" y="98"/>
                  </a:cubicBezTo>
                  <a:close/>
                  <a:moveTo>
                    <a:pt x="2155" y="100"/>
                  </a:moveTo>
                  <a:cubicBezTo>
                    <a:pt x="2153" y="104"/>
                    <a:pt x="2152" y="107"/>
                    <a:pt x="2150" y="110"/>
                  </a:cubicBezTo>
                  <a:cubicBezTo>
                    <a:pt x="2150" y="110"/>
                    <a:pt x="2150" y="109"/>
                    <a:pt x="2150" y="109"/>
                  </a:cubicBezTo>
                  <a:cubicBezTo>
                    <a:pt x="2150" y="106"/>
                    <a:pt x="2151" y="102"/>
                    <a:pt x="2151" y="99"/>
                  </a:cubicBezTo>
                  <a:cubicBezTo>
                    <a:pt x="2152" y="95"/>
                    <a:pt x="2152" y="92"/>
                    <a:pt x="2152" y="90"/>
                  </a:cubicBezTo>
                  <a:cubicBezTo>
                    <a:pt x="2153" y="93"/>
                    <a:pt x="2154" y="96"/>
                    <a:pt x="2155" y="100"/>
                  </a:cubicBezTo>
                  <a:cubicBezTo>
                    <a:pt x="2155" y="100"/>
                    <a:pt x="2155" y="100"/>
                    <a:pt x="2155" y="100"/>
                  </a:cubicBezTo>
                  <a:close/>
                  <a:moveTo>
                    <a:pt x="2155" y="97"/>
                  </a:moveTo>
                  <a:cubicBezTo>
                    <a:pt x="2154" y="95"/>
                    <a:pt x="2153" y="92"/>
                    <a:pt x="2152" y="89"/>
                  </a:cubicBezTo>
                  <a:cubicBezTo>
                    <a:pt x="2152" y="89"/>
                    <a:pt x="2152" y="89"/>
                    <a:pt x="2152" y="88"/>
                  </a:cubicBezTo>
                  <a:cubicBezTo>
                    <a:pt x="2152" y="89"/>
                    <a:pt x="2152" y="89"/>
                    <a:pt x="2152" y="89"/>
                  </a:cubicBezTo>
                  <a:cubicBezTo>
                    <a:pt x="2152" y="89"/>
                    <a:pt x="2152" y="88"/>
                    <a:pt x="2152" y="88"/>
                  </a:cubicBezTo>
                  <a:cubicBezTo>
                    <a:pt x="2152" y="87"/>
                    <a:pt x="2152" y="86"/>
                    <a:pt x="2152" y="85"/>
                  </a:cubicBezTo>
                  <a:cubicBezTo>
                    <a:pt x="2152" y="84"/>
                    <a:pt x="2153" y="83"/>
                    <a:pt x="2153" y="82"/>
                  </a:cubicBezTo>
                  <a:cubicBezTo>
                    <a:pt x="2154" y="84"/>
                    <a:pt x="2155" y="86"/>
                    <a:pt x="2156" y="88"/>
                  </a:cubicBezTo>
                  <a:cubicBezTo>
                    <a:pt x="2156" y="91"/>
                    <a:pt x="2156" y="94"/>
                    <a:pt x="2155" y="97"/>
                  </a:cubicBezTo>
                  <a:close/>
                  <a:moveTo>
                    <a:pt x="2157" y="135"/>
                  </a:moveTo>
                  <a:cubicBezTo>
                    <a:pt x="2157" y="136"/>
                    <a:pt x="2157" y="137"/>
                    <a:pt x="2157" y="138"/>
                  </a:cubicBezTo>
                  <a:cubicBezTo>
                    <a:pt x="2157" y="137"/>
                    <a:pt x="2157" y="136"/>
                    <a:pt x="2157" y="135"/>
                  </a:cubicBezTo>
                  <a:cubicBezTo>
                    <a:pt x="2157" y="135"/>
                    <a:pt x="2157" y="135"/>
                    <a:pt x="2157" y="135"/>
                  </a:cubicBezTo>
                  <a:close/>
                  <a:moveTo>
                    <a:pt x="2157" y="83"/>
                  </a:moveTo>
                  <a:cubicBezTo>
                    <a:pt x="2156" y="82"/>
                    <a:pt x="2155" y="81"/>
                    <a:pt x="2155" y="80"/>
                  </a:cubicBezTo>
                  <a:cubicBezTo>
                    <a:pt x="2156" y="78"/>
                    <a:pt x="2157" y="77"/>
                    <a:pt x="2158" y="75"/>
                  </a:cubicBezTo>
                  <a:cubicBezTo>
                    <a:pt x="2157" y="78"/>
                    <a:pt x="2157" y="81"/>
                    <a:pt x="2157" y="83"/>
                  </a:cubicBezTo>
                  <a:close/>
                  <a:moveTo>
                    <a:pt x="2158" y="74"/>
                  </a:moveTo>
                  <a:cubicBezTo>
                    <a:pt x="2156" y="76"/>
                    <a:pt x="2155" y="77"/>
                    <a:pt x="2154" y="79"/>
                  </a:cubicBezTo>
                  <a:cubicBezTo>
                    <a:pt x="2153" y="78"/>
                    <a:pt x="2153" y="78"/>
                    <a:pt x="2153" y="77"/>
                  </a:cubicBezTo>
                  <a:cubicBezTo>
                    <a:pt x="2153" y="72"/>
                    <a:pt x="2153" y="67"/>
                    <a:pt x="2154" y="65"/>
                  </a:cubicBezTo>
                  <a:cubicBezTo>
                    <a:pt x="2155" y="67"/>
                    <a:pt x="2156" y="70"/>
                    <a:pt x="2158" y="72"/>
                  </a:cubicBezTo>
                  <a:cubicBezTo>
                    <a:pt x="2158" y="73"/>
                    <a:pt x="2158" y="73"/>
                    <a:pt x="2158" y="74"/>
                  </a:cubicBezTo>
                  <a:close/>
                  <a:moveTo>
                    <a:pt x="2160" y="75"/>
                  </a:moveTo>
                  <a:cubicBezTo>
                    <a:pt x="2161" y="78"/>
                    <a:pt x="2163" y="81"/>
                    <a:pt x="2165" y="84"/>
                  </a:cubicBezTo>
                  <a:cubicBezTo>
                    <a:pt x="2163" y="86"/>
                    <a:pt x="2162" y="88"/>
                    <a:pt x="2161" y="90"/>
                  </a:cubicBezTo>
                  <a:cubicBezTo>
                    <a:pt x="2161" y="89"/>
                    <a:pt x="2160" y="89"/>
                    <a:pt x="2160" y="89"/>
                  </a:cubicBezTo>
                  <a:cubicBezTo>
                    <a:pt x="2160" y="84"/>
                    <a:pt x="2160" y="79"/>
                    <a:pt x="2160" y="75"/>
                  </a:cubicBezTo>
                  <a:close/>
                  <a:moveTo>
                    <a:pt x="2162" y="110"/>
                  </a:moveTo>
                  <a:cubicBezTo>
                    <a:pt x="2162" y="107"/>
                    <a:pt x="2161" y="104"/>
                    <a:pt x="2160" y="101"/>
                  </a:cubicBezTo>
                  <a:cubicBezTo>
                    <a:pt x="2160" y="101"/>
                    <a:pt x="2160" y="100"/>
                    <a:pt x="2160" y="100"/>
                  </a:cubicBezTo>
                  <a:cubicBezTo>
                    <a:pt x="2160" y="100"/>
                    <a:pt x="2161" y="99"/>
                    <a:pt x="2161" y="99"/>
                  </a:cubicBezTo>
                  <a:cubicBezTo>
                    <a:pt x="2162" y="101"/>
                    <a:pt x="2162" y="104"/>
                    <a:pt x="2163" y="106"/>
                  </a:cubicBezTo>
                  <a:cubicBezTo>
                    <a:pt x="2163" y="108"/>
                    <a:pt x="2163" y="109"/>
                    <a:pt x="2162" y="110"/>
                  </a:cubicBezTo>
                  <a:close/>
                  <a:moveTo>
                    <a:pt x="2163" y="93"/>
                  </a:moveTo>
                  <a:cubicBezTo>
                    <a:pt x="2164" y="91"/>
                    <a:pt x="2165" y="88"/>
                    <a:pt x="2166" y="86"/>
                  </a:cubicBezTo>
                  <a:cubicBezTo>
                    <a:pt x="2166" y="87"/>
                    <a:pt x="2167" y="87"/>
                    <a:pt x="2167" y="88"/>
                  </a:cubicBezTo>
                  <a:cubicBezTo>
                    <a:pt x="2166" y="91"/>
                    <a:pt x="2166" y="94"/>
                    <a:pt x="2165" y="97"/>
                  </a:cubicBezTo>
                  <a:cubicBezTo>
                    <a:pt x="2164" y="96"/>
                    <a:pt x="2163" y="95"/>
                    <a:pt x="2163" y="93"/>
                  </a:cubicBezTo>
                  <a:close/>
                  <a:moveTo>
                    <a:pt x="2166" y="130"/>
                  </a:moveTo>
                  <a:cubicBezTo>
                    <a:pt x="2166" y="129"/>
                    <a:pt x="2166" y="128"/>
                    <a:pt x="2166" y="126"/>
                  </a:cubicBezTo>
                  <a:cubicBezTo>
                    <a:pt x="2166" y="124"/>
                    <a:pt x="2166" y="121"/>
                    <a:pt x="2167" y="119"/>
                  </a:cubicBezTo>
                  <a:cubicBezTo>
                    <a:pt x="2167" y="120"/>
                    <a:pt x="2168" y="122"/>
                    <a:pt x="2168" y="124"/>
                  </a:cubicBezTo>
                  <a:cubicBezTo>
                    <a:pt x="2167" y="126"/>
                    <a:pt x="2167" y="128"/>
                    <a:pt x="2166" y="130"/>
                  </a:cubicBezTo>
                  <a:close/>
                  <a:moveTo>
                    <a:pt x="2170" y="108"/>
                  </a:moveTo>
                  <a:cubicBezTo>
                    <a:pt x="2170" y="107"/>
                    <a:pt x="2169" y="106"/>
                    <a:pt x="2169" y="105"/>
                  </a:cubicBezTo>
                  <a:cubicBezTo>
                    <a:pt x="2169" y="102"/>
                    <a:pt x="2170" y="99"/>
                    <a:pt x="2171" y="96"/>
                  </a:cubicBezTo>
                  <a:cubicBezTo>
                    <a:pt x="2171" y="96"/>
                    <a:pt x="2171" y="97"/>
                    <a:pt x="2171" y="97"/>
                  </a:cubicBezTo>
                  <a:cubicBezTo>
                    <a:pt x="2171" y="101"/>
                    <a:pt x="2170" y="105"/>
                    <a:pt x="2170" y="108"/>
                  </a:cubicBezTo>
                  <a:close/>
                  <a:moveTo>
                    <a:pt x="2172" y="86"/>
                  </a:moveTo>
                  <a:cubicBezTo>
                    <a:pt x="2172" y="86"/>
                    <a:pt x="2172" y="86"/>
                    <a:pt x="2172" y="86"/>
                  </a:cubicBezTo>
                  <a:cubicBezTo>
                    <a:pt x="2172" y="85"/>
                    <a:pt x="2173" y="84"/>
                    <a:pt x="2173" y="83"/>
                  </a:cubicBezTo>
                  <a:cubicBezTo>
                    <a:pt x="2173" y="84"/>
                    <a:pt x="2172" y="85"/>
                    <a:pt x="2172" y="86"/>
                  </a:cubicBezTo>
                  <a:close/>
                  <a:moveTo>
                    <a:pt x="2180" y="80"/>
                  </a:moveTo>
                  <a:cubicBezTo>
                    <a:pt x="2180" y="77"/>
                    <a:pt x="2180" y="75"/>
                    <a:pt x="2180" y="73"/>
                  </a:cubicBezTo>
                  <a:cubicBezTo>
                    <a:pt x="2181" y="73"/>
                    <a:pt x="2181" y="74"/>
                    <a:pt x="2181" y="74"/>
                  </a:cubicBezTo>
                  <a:cubicBezTo>
                    <a:pt x="2181" y="76"/>
                    <a:pt x="2181" y="78"/>
                    <a:pt x="2180" y="80"/>
                  </a:cubicBezTo>
                  <a:close/>
                  <a:moveTo>
                    <a:pt x="2192" y="93"/>
                  </a:moveTo>
                  <a:cubicBezTo>
                    <a:pt x="2191" y="95"/>
                    <a:pt x="2191" y="96"/>
                    <a:pt x="2190" y="97"/>
                  </a:cubicBezTo>
                  <a:cubicBezTo>
                    <a:pt x="2190" y="94"/>
                    <a:pt x="2190" y="91"/>
                    <a:pt x="2189" y="88"/>
                  </a:cubicBezTo>
                  <a:cubicBezTo>
                    <a:pt x="2190" y="89"/>
                    <a:pt x="2191" y="91"/>
                    <a:pt x="2192" y="93"/>
                  </a:cubicBezTo>
                  <a:cubicBezTo>
                    <a:pt x="2192" y="93"/>
                    <a:pt x="2192" y="93"/>
                    <a:pt x="2192" y="93"/>
                  </a:cubicBezTo>
                  <a:close/>
                  <a:moveTo>
                    <a:pt x="2193" y="88"/>
                  </a:moveTo>
                  <a:cubicBezTo>
                    <a:pt x="2192" y="86"/>
                    <a:pt x="2191" y="85"/>
                    <a:pt x="2190" y="84"/>
                  </a:cubicBezTo>
                  <a:cubicBezTo>
                    <a:pt x="2191" y="81"/>
                    <a:pt x="2193" y="78"/>
                    <a:pt x="2195" y="75"/>
                  </a:cubicBezTo>
                  <a:cubicBezTo>
                    <a:pt x="2194" y="79"/>
                    <a:pt x="2193" y="84"/>
                    <a:pt x="2193" y="88"/>
                  </a:cubicBezTo>
                  <a:close/>
                  <a:moveTo>
                    <a:pt x="2202" y="77"/>
                  </a:moveTo>
                  <a:cubicBezTo>
                    <a:pt x="2202" y="77"/>
                    <a:pt x="2202" y="77"/>
                    <a:pt x="2202" y="77"/>
                  </a:cubicBezTo>
                  <a:cubicBezTo>
                    <a:pt x="2202" y="74"/>
                    <a:pt x="2201" y="70"/>
                    <a:pt x="2201" y="66"/>
                  </a:cubicBezTo>
                  <a:cubicBezTo>
                    <a:pt x="2201" y="65"/>
                    <a:pt x="2202" y="64"/>
                    <a:pt x="2202" y="63"/>
                  </a:cubicBezTo>
                  <a:cubicBezTo>
                    <a:pt x="2203" y="67"/>
                    <a:pt x="2203" y="72"/>
                    <a:pt x="2202" y="77"/>
                  </a:cubicBezTo>
                  <a:close/>
                  <a:moveTo>
                    <a:pt x="2205" y="72"/>
                  </a:moveTo>
                  <a:cubicBezTo>
                    <a:pt x="2205" y="67"/>
                    <a:pt x="2204" y="64"/>
                    <a:pt x="2203" y="61"/>
                  </a:cubicBezTo>
                  <a:cubicBezTo>
                    <a:pt x="2204" y="60"/>
                    <a:pt x="2205" y="58"/>
                    <a:pt x="2206" y="57"/>
                  </a:cubicBezTo>
                  <a:cubicBezTo>
                    <a:pt x="2206" y="62"/>
                    <a:pt x="2206" y="67"/>
                    <a:pt x="2205" y="72"/>
                  </a:cubicBezTo>
                  <a:close/>
                  <a:moveTo>
                    <a:pt x="2221" y="89"/>
                  </a:moveTo>
                  <a:cubicBezTo>
                    <a:pt x="2222" y="91"/>
                    <a:pt x="2223" y="92"/>
                    <a:pt x="2223" y="94"/>
                  </a:cubicBezTo>
                  <a:cubicBezTo>
                    <a:pt x="2223" y="95"/>
                    <a:pt x="2222" y="97"/>
                    <a:pt x="2222" y="98"/>
                  </a:cubicBezTo>
                  <a:cubicBezTo>
                    <a:pt x="2221" y="97"/>
                    <a:pt x="2221" y="96"/>
                    <a:pt x="2220" y="95"/>
                  </a:cubicBezTo>
                  <a:cubicBezTo>
                    <a:pt x="2220" y="93"/>
                    <a:pt x="2221" y="91"/>
                    <a:pt x="2221" y="89"/>
                  </a:cubicBezTo>
                  <a:close/>
                  <a:moveTo>
                    <a:pt x="2220" y="101"/>
                  </a:moveTo>
                  <a:cubicBezTo>
                    <a:pt x="2220" y="101"/>
                    <a:pt x="2220" y="100"/>
                    <a:pt x="2220" y="100"/>
                  </a:cubicBezTo>
                  <a:cubicBezTo>
                    <a:pt x="2220" y="100"/>
                    <a:pt x="2220" y="101"/>
                    <a:pt x="2220" y="101"/>
                  </a:cubicBezTo>
                  <a:cubicBezTo>
                    <a:pt x="2220" y="101"/>
                    <a:pt x="2220" y="101"/>
                    <a:pt x="2220" y="101"/>
                  </a:cubicBezTo>
                  <a:close/>
                  <a:moveTo>
                    <a:pt x="2222" y="122"/>
                  </a:moveTo>
                  <a:cubicBezTo>
                    <a:pt x="2222" y="121"/>
                    <a:pt x="2221" y="120"/>
                    <a:pt x="2221" y="119"/>
                  </a:cubicBezTo>
                  <a:cubicBezTo>
                    <a:pt x="2221" y="117"/>
                    <a:pt x="2221" y="115"/>
                    <a:pt x="2221" y="112"/>
                  </a:cubicBezTo>
                  <a:cubicBezTo>
                    <a:pt x="2221" y="110"/>
                    <a:pt x="2221" y="108"/>
                    <a:pt x="2222" y="106"/>
                  </a:cubicBezTo>
                  <a:cubicBezTo>
                    <a:pt x="2222" y="108"/>
                    <a:pt x="2223" y="110"/>
                    <a:pt x="2223" y="112"/>
                  </a:cubicBezTo>
                  <a:cubicBezTo>
                    <a:pt x="2223" y="115"/>
                    <a:pt x="2223" y="119"/>
                    <a:pt x="2222" y="122"/>
                  </a:cubicBezTo>
                  <a:close/>
                  <a:moveTo>
                    <a:pt x="2224" y="103"/>
                  </a:moveTo>
                  <a:cubicBezTo>
                    <a:pt x="2224" y="102"/>
                    <a:pt x="2223" y="101"/>
                    <a:pt x="2223" y="100"/>
                  </a:cubicBezTo>
                  <a:cubicBezTo>
                    <a:pt x="2223" y="99"/>
                    <a:pt x="2224" y="97"/>
                    <a:pt x="2224" y="96"/>
                  </a:cubicBezTo>
                  <a:cubicBezTo>
                    <a:pt x="2224" y="97"/>
                    <a:pt x="2225" y="97"/>
                    <a:pt x="2225" y="98"/>
                  </a:cubicBezTo>
                  <a:cubicBezTo>
                    <a:pt x="2225" y="100"/>
                    <a:pt x="2224" y="101"/>
                    <a:pt x="2224" y="103"/>
                  </a:cubicBezTo>
                  <a:close/>
                  <a:moveTo>
                    <a:pt x="2225" y="96"/>
                  </a:moveTo>
                  <a:cubicBezTo>
                    <a:pt x="2225" y="95"/>
                    <a:pt x="2225" y="95"/>
                    <a:pt x="2224" y="95"/>
                  </a:cubicBezTo>
                  <a:cubicBezTo>
                    <a:pt x="2225" y="93"/>
                    <a:pt x="2225" y="92"/>
                    <a:pt x="2226" y="91"/>
                  </a:cubicBezTo>
                  <a:cubicBezTo>
                    <a:pt x="2225" y="93"/>
                    <a:pt x="2225" y="94"/>
                    <a:pt x="2225" y="96"/>
                  </a:cubicBezTo>
                  <a:close/>
                  <a:moveTo>
                    <a:pt x="2231" y="95"/>
                  </a:moveTo>
                  <a:cubicBezTo>
                    <a:pt x="2231" y="92"/>
                    <a:pt x="2232" y="89"/>
                    <a:pt x="2232" y="86"/>
                  </a:cubicBezTo>
                  <a:cubicBezTo>
                    <a:pt x="2232" y="86"/>
                    <a:pt x="2233" y="87"/>
                    <a:pt x="2233" y="88"/>
                  </a:cubicBezTo>
                  <a:cubicBezTo>
                    <a:pt x="2233" y="90"/>
                    <a:pt x="2232" y="92"/>
                    <a:pt x="2231" y="95"/>
                  </a:cubicBezTo>
                  <a:close/>
                  <a:moveTo>
                    <a:pt x="2242" y="99"/>
                  </a:moveTo>
                  <a:cubicBezTo>
                    <a:pt x="2242" y="99"/>
                    <a:pt x="2241" y="98"/>
                    <a:pt x="2241" y="97"/>
                  </a:cubicBezTo>
                  <a:cubicBezTo>
                    <a:pt x="2241" y="93"/>
                    <a:pt x="2241" y="89"/>
                    <a:pt x="2241" y="84"/>
                  </a:cubicBezTo>
                  <a:cubicBezTo>
                    <a:pt x="2242" y="80"/>
                    <a:pt x="2245" y="76"/>
                    <a:pt x="2247" y="72"/>
                  </a:cubicBezTo>
                  <a:cubicBezTo>
                    <a:pt x="2248" y="74"/>
                    <a:pt x="2248" y="78"/>
                    <a:pt x="2249" y="82"/>
                  </a:cubicBezTo>
                  <a:cubicBezTo>
                    <a:pt x="2246" y="88"/>
                    <a:pt x="2244" y="93"/>
                    <a:pt x="2242" y="99"/>
                  </a:cubicBezTo>
                  <a:close/>
                  <a:moveTo>
                    <a:pt x="2250" y="75"/>
                  </a:moveTo>
                  <a:cubicBezTo>
                    <a:pt x="2250" y="73"/>
                    <a:pt x="2249" y="71"/>
                    <a:pt x="2249" y="69"/>
                  </a:cubicBezTo>
                  <a:cubicBezTo>
                    <a:pt x="2250" y="68"/>
                    <a:pt x="2250" y="67"/>
                    <a:pt x="2251" y="66"/>
                  </a:cubicBezTo>
                  <a:cubicBezTo>
                    <a:pt x="2251" y="69"/>
                    <a:pt x="2250" y="72"/>
                    <a:pt x="2250" y="75"/>
                  </a:cubicBezTo>
                  <a:close/>
                  <a:moveTo>
                    <a:pt x="2258" y="72"/>
                  </a:moveTo>
                  <a:cubicBezTo>
                    <a:pt x="2258" y="71"/>
                    <a:pt x="2258" y="70"/>
                    <a:pt x="2258" y="70"/>
                  </a:cubicBezTo>
                  <a:cubicBezTo>
                    <a:pt x="2258" y="69"/>
                    <a:pt x="2258" y="69"/>
                    <a:pt x="2258" y="69"/>
                  </a:cubicBezTo>
                  <a:cubicBezTo>
                    <a:pt x="2258" y="71"/>
                    <a:pt x="2258" y="72"/>
                    <a:pt x="2258" y="72"/>
                  </a:cubicBezTo>
                  <a:close/>
                  <a:moveTo>
                    <a:pt x="2258" y="67"/>
                  </a:moveTo>
                  <a:cubicBezTo>
                    <a:pt x="2258" y="67"/>
                    <a:pt x="2258" y="68"/>
                    <a:pt x="2258" y="68"/>
                  </a:cubicBezTo>
                  <a:cubicBezTo>
                    <a:pt x="2258" y="65"/>
                    <a:pt x="2257" y="61"/>
                    <a:pt x="2257" y="58"/>
                  </a:cubicBezTo>
                  <a:cubicBezTo>
                    <a:pt x="2257" y="57"/>
                    <a:pt x="2258" y="56"/>
                    <a:pt x="2259" y="56"/>
                  </a:cubicBezTo>
                  <a:cubicBezTo>
                    <a:pt x="2258" y="60"/>
                    <a:pt x="2258" y="64"/>
                    <a:pt x="2258" y="67"/>
                  </a:cubicBezTo>
                  <a:close/>
                  <a:moveTo>
                    <a:pt x="2266" y="123"/>
                  </a:moveTo>
                  <a:cubicBezTo>
                    <a:pt x="2265" y="124"/>
                    <a:pt x="2264" y="126"/>
                    <a:pt x="2264" y="127"/>
                  </a:cubicBezTo>
                  <a:cubicBezTo>
                    <a:pt x="2264" y="124"/>
                    <a:pt x="2264" y="122"/>
                    <a:pt x="2264" y="119"/>
                  </a:cubicBezTo>
                  <a:cubicBezTo>
                    <a:pt x="2265" y="116"/>
                    <a:pt x="2266" y="112"/>
                    <a:pt x="2267" y="109"/>
                  </a:cubicBezTo>
                  <a:cubicBezTo>
                    <a:pt x="2267" y="111"/>
                    <a:pt x="2267" y="112"/>
                    <a:pt x="2267" y="114"/>
                  </a:cubicBezTo>
                  <a:cubicBezTo>
                    <a:pt x="2267" y="117"/>
                    <a:pt x="2266" y="120"/>
                    <a:pt x="2266" y="123"/>
                  </a:cubicBezTo>
                  <a:close/>
                  <a:moveTo>
                    <a:pt x="2268" y="110"/>
                  </a:moveTo>
                  <a:cubicBezTo>
                    <a:pt x="2268" y="111"/>
                    <a:pt x="2268" y="112"/>
                    <a:pt x="2267" y="112"/>
                  </a:cubicBezTo>
                  <a:cubicBezTo>
                    <a:pt x="2267" y="111"/>
                    <a:pt x="2267" y="110"/>
                    <a:pt x="2267" y="109"/>
                  </a:cubicBezTo>
                  <a:cubicBezTo>
                    <a:pt x="2267" y="107"/>
                    <a:pt x="2268" y="105"/>
                    <a:pt x="2268" y="102"/>
                  </a:cubicBezTo>
                  <a:cubicBezTo>
                    <a:pt x="2268" y="105"/>
                    <a:pt x="2268" y="107"/>
                    <a:pt x="2268" y="110"/>
                  </a:cubicBezTo>
                  <a:close/>
                  <a:moveTo>
                    <a:pt x="2270" y="83"/>
                  </a:moveTo>
                  <a:cubicBezTo>
                    <a:pt x="2270" y="83"/>
                    <a:pt x="2270" y="84"/>
                    <a:pt x="2269" y="85"/>
                  </a:cubicBezTo>
                  <a:cubicBezTo>
                    <a:pt x="2268" y="87"/>
                    <a:pt x="2267" y="89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1"/>
                    <a:pt x="2266" y="91"/>
                    <a:pt x="2266" y="91"/>
                  </a:cubicBezTo>
                  <a:cubicBezTo>
                    <a:pt x="2266" y="92"/>
                    <a:pt x="2265" y="94"/>
                    <a:pt x="2264" y="96"/>
                  </a:cubicBezTo>
                  <a:cubicBezTo>
                    <a:pt x="2264" y="90"/>
                    <a:pt x="2265" y="85"/>
                    <a:pt x="2267" y="79"/>
                  </a:cubicBezTo>
                  <a:cubicBezTo>
                    <a:pt x="2265" y="85"/>
                    <a:pt x="2264" y="90"/>
                    <a:pt x="2262" y="95"/>
                  </a:cubicBezTo>
                  <a:cubicBezTo>
                    <a:pt x="2262" y="85"/>
                    <a:pt x="2263" y="74"/>
                    <a:pt x="2263" y="63"/>
                  </a:cubicBezTo>
                  <a:cubicBezTo>
                    <a:pt x="2266" y="60"/>
                    <a:pt x="2269" y="58"/>
                    <a:pt x="2272" y="55"/>
                  </a:cubicBezTo>
                  <a:cubicBezTo>
                    <a:pt x="2272" y="62"/>
                    <a:pt x="2271" y="72"/>
                    <a:pt x="2270" y="83"/>
                  </a:cubicBezTo>
                  <a:close/>
                  <a:moveTo>
                    <a:pt x="2276" y="105"/>
                  </a:moveTo>
                  <a:cubicBezTo>
                    <a:pt x="2276" y="102"/>
                    <a:pt x="2276" y="99"/>
                    <a:pt x="2276" y="96"/>
                  </a:cubicBezTo>
                  <a:cubicBezTo>
                    <a:pt x="2276" y="97"/>
                    <a:pt x="2277" y="99"/>
                    <a:pt x="2277" y="100"/>
                  </a:cubicBezTo>
                  <a:cubicBezTo>
                    <a:pt x="2277" y="102"/>
                    <a:pt x="2277" y="103"/>
                    <a:pt x="2276" y="105"/>
                  </a:cubicBezTo>
                  <a:cubicBezTo>
                    <a:pt x="2276" y="105"/>
                    <a:pt x="2276" y="105"/>
                    <a:pt x="2276" y="105"/>
                  </a:cubicBezTo>
                  <a:close/>
                  <a:moveTo>
                    <a:pt x="2277" y="130"/>
                  </a:moveTo>
                  <a:cubicBezTo>
                    <a:pt x="2277" y="130"/>
                    <a:pt x="2277" y="130"/>
                    <a:pt x="2277" y="130"/>
                  </a:cubicBezTo>
                  <a:cubicBezTo>
                    <a:pt x="2277" y="129"/>
                    <a:pt x="2277" y="128"/>
                    <a:pt x="2277" y="127"/>
                  </a:cubicBezTo>
                  <a:cubicBezTo>
                    <a:pt x="2277" y="128"/>
                    <a:pt x="2277" y="128"/>
                    <a:pt x="2278" y="129"/>
                  </a:cubicBezTo>
                  <a:cubicBezTo>
                    <a:pt x="2277" y="129"/>
                    <a:pt x="2277" y="130"/>
                    <a:pt x="2277" y="130"/>
                  </a:cubicBezTo>
                  <a:close/>
                  <a:moveTo>
                    <a:pt x="2284" y="74"/>
                  </a:moveTo>
                  <a:cubicBezTo>
                    <a:pt x="2284" y="73"/>
                    <a:pt x="2284" y="71"/>
                    <a:pt x="2284" y="70"/>
                  </a:cubicBezTo>
                  <a:cubicBezTo>
                    <a:pt x="2284" y="70"/>
                    <a:pt x="2285" y="71"/>
                    <a:pt x="2285" y="72"/>
                  </a:cubicBezTo>
                  <a:cubicBezTo>
                    <a:pt x="2285" y="72"/>
                    <a:pt x="2285" y="73"/>
                    <a:pt x="2284" y="74"/>
                  </a:cubicBezTo>
                  <a:close/>
                  <a:moveTo>
                    <a:pt x="2288" y="139"/>
                  </a:moveTo>
                  <a:cubicBezTo>
                    <a:pt x="2288" y="140"/>
                    <a:pt x="2288" y="141"/>
                    <a:pt x="2288" y="142"/>
                  </a:cubicBezTo>
                  <a:cubicBezTo>
                    <a:pt x="2288" y="142"/>
                    <a:pt x="2288" y="141"/>
                    <a:pt x="2288" y="139"/>
                  </a:cubicBezTo>
                  <a:cubicBezTo>
                    <a:pt x="2288" y="138"/>
                    <a:pt x="2288" y="137"/>
                    <a:pt x="2288" y="136"/>
                  </a:cubicBezTo>
                  <a:cubicBezTo>
                    <a:pt x="2288" y="137"/>
                    <a:pt x="2288" y="137"/>
                    <a:pt x="2288" y="137"/>
                  </a:cubicBezTo>
                  <a:cubicBezTo>
                    <a:pt x="2288" y="138"/>
                    <a:pt x="2288" y="139"/>
                    <a:pt x="2288" y="139"/>
                  </a:cubicBezTo>
                  <a:close/>
                  <a:moveTo>
                    <a:pt x="2290" y="122"/>
                  </a:moveTo>
                  <a:cubicBezTo>
                    <a:pt x="2290" y="122"/>
                    <a:pt x="2290" y="122"/>
                    <a:pt x="2290" y="122"/>
                  </a:cubicBezTo>
                  <a:cubicBezTo>
                    <a:pt x="2290" y="121"/>
                    <a:pt x="2290" y="121"/>
                    <a:pt x="2290" y="121"/>
                  </a:cubicBezTo>
                  <a:cubicBezTo>
                    <a:pt x="2290" y="121"/>
                    <a:pt x="2290" y="122"/>
                    <a:pt x="2290" y="122"/>
                  </a:cubicBezTo>
                  <a:close/>
                  <a:moveTo>
                    <a:pt x="2291" y="110"/>
                  </a:moveTo>
                  <a:cubicBezTo>
                    <a:pt x="2290" y="112"/>
                    <a:pt x="2289" y="114"/>
                    <a:pt x="2288" y="116"/>
                  </a:cubicBezTo>
                  <a:cubicBezTo>
                    <a:pt x="2288" y="116"/>
                    <a:pt x="2288" y="117"/>
                    <a:pt x="2288" y="117"/>
                  </a:cubicBezTo>
                  <a:cubicBezTo>
                    <a:pt x="2288" y="113"/>
                    <a:pt x="2287" y="108"/>
                    <a:pt x="2287" y="104"/>
                  </a:cubicBezTo>
                  <a:cubicBezTo>
                    <a:pt x="2288" y="101"/>
                    <a:pt x="2288" y="98"/>
                    <a:pt x="2289" y="96"/>
                  </a:cubicBezTo>
                  <a:cubicBezTo>
                    <a:pt x="2290" y="95"/>
                    <a:pt x="2290" y="95"/>
                    <a:pt x="2290" y="95"/>
                  </a:cubicBezTo>
                  <a:cubicBezTo>
                    <a:pt x="2290" y="98"/>
                    <a:pt x="2291" y="101"/>
                    <a:pt x="2291" y="104"/>
                  </a:cubicBezTo>
                  <a:cubicBezTo>
                    <a:pt x="2291" y="106"/>
                    <a:pt x="2291" y="108"/>
                    <a:pt x="2291" y="110"/>
                  </a:cubicBezTo>
                  <a:close/>
                  <a:moveTo>
                    <a:pt x="2292" y="99"/>
                  </a:moveTo>
                  <a:cubicBezTo>
                    <a:pt x="2291" y="97"/>
                    <a:pt x="2291" y="96"/>
                    <a:pt x="2290" y="94"/>
                  </a:cubicBezTo>
                  <a:cubicBezTo>
                    <a:pt x="2291" y="93"/>
                    <a:pt x="2292" y="92"/>
                    <a:pt x="2292" y="91"/>
                  </a:cubicBezTo>
                  <a:cubicBezTo>
                    <a:pt x="2292" y="94"/>
                    <a:pt x="2292" y="96"/>
                    <a:pt x="2292" y="99"/>
                  </a:cubicBezTo>
                  <a:close/>
                  <a:moveTo>
                    <a:pt x="2286" y="91"/>
                  </a:moveTo>
                  <a:cubicBezTo>
                    <a:pt x="2286" y="89"/>
                    <a:pt x="2286" y="88"/>
                    <a:pt x="2285" y="87"/>
                  </a:cubicBezTo>
                  <a:cubicBezTo>
                    <a:pt x="2287" y="83"/>
                    <a:pt x="2288" y="80"/>
                    <a:pt x="2289" y="76"/>
                  </a:cubicBezTo>
                  <a:cubicBezTo>
                    <a:pt x="2290" y="78"/>
                    <a:pt x="2292" y="80"/>
                    <a:pt x="2293" y="82"/>
                  </a:cubicBezTo>
                  <a:cubicBezTo>
                    <a:pt x="2290" y="85"/>
                    <a:pt x="2288" y="88"/>
                    <a:pt x="2286" y="91"/>
                  </a:cubicBezTo>
                  <a:close/>
                  <a:moveTo>
                    <a:pt x="2293" y="79"/>
                  </a:moveTo>
                  <a:cubicBezTo>
                    <a:pt x="2292" y="77"/>
                    <a:pt x="2291" y="76"/>
                    <a:pt x="2290" y="75"/>
                  </a:cubicBezTo>
                  <a:cubicBezTo>
                    <a:pt x="2291" y="72"/>
                    <a:pt x="2293" y="68"/>
                    <a:pt x="2294" y="65"/>
                  </a:cubicBezTo>
                  <a:cubicBezTo>
                    <a:pt x="2294" y="68"/>
                    <a:pt x="2294" y="73"/>
                    <a:pt x="2293" y="79"/>
                  </a:cubicBezTo>
                  <a:close/>
                  <a:moveTo>
                    <a:pt x="2311" y="54"/>
                  </a:moveTo>
                  <a:cubicBezTo>
                    <a:pt x="2311" y="56"/>
                    <a:pt x="2310" y="58"/>
                    <a:pt x="2310" y="61"/>
                  </a:cubicBezTo>
                  <a:cubicBezTo>
                    <a:pt x="2306" y="65"/>
                    <a:pt x="2302" y="69"/>
                    <a:pt x="2299" y="74"/>
                  </a:cubicBezTo>
                  <a:cubicBezTo>
                    <a:pt x="2302" y="67"/>
                    <a:pt x="2306" y="60"/>
                    <a:pt x="2311" y="54"/>
                  </a:cubicBezTo>
                  <a:close/>
                  <a:moveTo>
                    <a:pt x="2297" y="89"/>
                  </a:moveTo>
                  <a:cubicBezTo>
                    <a:pt x="2297" y="90"/>
                    <a:pt x="2298" y="91"/>
                    <a:pt x="2298" y="92"/>
                  </a:cubicBezTo>
                  <a:cubicBezTo>
                    <a:pt x="2298" y="92"/>
                    <a:pt x="2297" y="93"/>
                    <a:pt x="2297" y="94"/>
                  </a:cubicBezTo>
                  <a:cubicBezTo>
                    <a:pt x="2297" y="92"/>
                    <a:pt x="2297" y="91"/>
                    <a:pt x="2297" y="89"/>
                  </a:cubicBezTo>
                  <a:close/>
                  <a:moveTo>
                    <a:pt x="2299" y="127"/>
                  </a:moveTo>
                  <a:cubicBezTo>
                    <a:pt x="2299" y="125"/>
                    <a:pt x="2299" y="124"/>
                    <a:pt x="2298" y="122"/>
                  </a:cubicBezTo>
                  <a:cubicBezTo>
                    <a:pt x="2298" y="117"/>
                    <a:pt x="2298" y="111"/>
                    <a:pt x="2298" y="105"/>
                  </a:cubicBezTo>
                  <a:cubicBezTo>
                    <a:pt x="2299" y="104"/>
                    <a:pt x="2299" y="102"/>
                    <a:pt x="2300" y="101"/>
                  </a:cubicBezTo>
                  <a:cubicBezTo>
                    <a:pt x="2299" y="102"/>
                    <a:pt x="2299" y="103"/>
                    <a:pt x="2298" y="105"/>
                  </a:cubicBezTo>
                  <a:cubicBezTo>
                    <a:pt x="2297" y="102"/>
                    <a:pt x="2297" y="99"/>
                    <a:pt x="2297" y="96"/>
                  </a:cubicBezTo>
                  <a:cubicBezTo>
                    <a:pt x="2298" y="95"/>
                    <a:pt x="2298" y="94"/>
                    <a:pt x="2298" y="93"/>
                  </a:cubicBezTo>
                  <a:cubicBezTo>
                    <a:pt x="2299" y="95"/>
                    <a:pt x="2300" y="97"/>
                    <a:pt x="2301" y="100"/>
                  </a:cubicBezTo>
                  <a:cubicBezTo>
                    <a:pt x="2301" y="100"/>
                    <a:pt x="2301" y="100"/>
                    <a:pt x="2300" y="101"/>
                  </a:cubicBezTo>
                  <a:cubicBezTo>
                    <a:pt x="2301" y="101"/>
                    <a:pt x="2301" y="100"/>
                    <a:pt x="2301" y="100"/>
                  </a:cubicBezTo>
                  <a:cubicBezTo>
                    <a:pt x="2302" y="101"/>
                    <a:pt x="2302" y="102"/>
                    <a:pt x="2303" y="103"/>
                  </a:cubicBezTo>
                  <a:cubicBezTo>
                    <a:pt x="2301" y="112"/>
                    <a:pt x="2300" y="120"/>
                    <a:pt x="2299" y="127"/>
                  </a:cubicBezTo>
                  <a:close/>
                  <a:moveTo>
                    <a:pt x="2300" y="87"/>
                  </a:moveTo>
                  <a:cubicBezTo>
                    <a:pt x="2301" y="86"/>
                    <a:pt x="2302" y="84"/>
                    <a:pt x="2303" y="83"/>
                  </a:cubicBezTo>
                  <a:cubicBezTo>
                    <a:pt x="2302" y="84"/>
                    <a:pt x="2301" y="86"/>
                    <a:pt x="2300" y="87"/>
                  </a:cubicBezTo>
                  <a:cubicBezTo>
                    <a:pt x="2299" y="86"/>
                    <a:pt x="2298" y="85"/>
                    <a:pt x="2297" y="83"/>
                  </a:cubicBezTo>
                  <a:cubicBezTo>
                    <a:pt x="2301" y="78"/>
                    <a:pt x="2305" y="72"/>
                    <a:pt x="2308" y="67"/>
                  </a:cubicBezTo>
                  <a:cubicBezTo>
                    <a:pt x="2308" y="72"/>
                    <a:pt x="2307" y="76"/>
                    <a:pt x="2306" y="81"/>
                  </a:cubicBezTo>
                  <a:cubicBezTo>
                    <a:pt x="2306" y="80"/>
                    <a:pt x="2305" y="79"/>
                    <a:pt x="2305" y="79"/>
                  </a:cubicBezTo>
                  <a:cubicBezTo>
                    <a:pt x="2305" y="78"/>
                    <a:pt x="2306" y="77"/>
                    <a:pt x="2307" y="75"/>
                  </a:cubicBezTo>
                  <a:cubicBezTo>
                    <a:pt x="2306" y="76"/>
                    <a:pt x="2305" y="77"/>
                    <a:pt x="2305" y="79"/>
                  </a:cubicBezTo>
                  <a:cubicBezTo>
                    <a:pt x="2304" y="78"/>
                    <a:pt x="2304" y="77"/>
                    <a:pt x="2303" y="77"/>
                  </a:cubicBezTo>
                  <a:cubicBezTo>
                    <a:pt x="2303" y="78"/>
                    <a:pt x="2304" y="79"/>
                    <a:pt x="2304" y="79"/>
                  </a:cubicBezTo>
                  <a:cubicBezTo>
                    <a:pt x="2304" y="80"/>
                    <a:pt x="2303" y="81"/>
                    <a:pt x="2303" y="83"/>
                  </a:cubicBezTo>
                  <a:cubicBezTo>
                    <a:pt x="2303" y="82"/>
                    <a:pt x="2304" y="81"/>
                    <a:pt x="2304" y="80"/>
                  </a:cubicBezTo>
                  <a:cubicBezTo>
                    <a:pt x="2305" y="81"/>
                    <a:pt x="2305" y="82"/>
                    <a:pt x="2306" y="84"/>
                  </a:cubicBezTo>
                  <a:cubicBezTo>
                    <a:pt x="2305" y="87"/>
                    <a:pt x="2305" y="90"/>
                    <a:pt x="2304" y="93"/>
                  </a:cubicBezTo>
                  <a:cubicBezTo>
                    <a:pt x="2303" y="91"/>
                    <a:pt x="2302" y="89"/>
                    <a:pt x="2300" y="87"/>
                  </a:cubicBezTo>
                  <a:close/>
                  <a:moveTo>
                    <a:pt x="2305" y="144"/>
                  </a:moveTo>
                  <a:cubicBezTo>
                    <a:pt x="2305" y="144"/>
                    <a:pt x="2305" y="143"/>
                    <a:pt x="2305" y="143"/>
                  </a:cubicBezTo>
                  <a:cubicBezTo>
                    <a:pt x="2305" y="140"/>
                    <a:pt x="2305" y="136"/>
                    <a:pt x="2305" y="131"/>
                  </a:cubicBezTo>
                  <a:cubicBezTo>
                    <a:pt x="2306" y="128"/>
                    <a:pt x="2307" y="126"/>
                    <a:pt x="2307" y="125"/>
                  </a:cubicBezTo>
                  <a:cubicBezTo>
                    <a:pt x="2307" y="125"/>
                    <a:pt x="2307" y="124"/>
                    <a:pt x="2307" y="124"/>
                  </a:cubicBezTo>
                  <a:cubicBezTo>
                    <a:pt x="2306" y="124"/>
                    <a:pt x="2306" y="124"/>
                    <a:pt x="2306" y="124"/>
                  </a:cubicBezTo>
                  <a:cubicBezTo>
                    <a:pt x="2306" y="122"/>
                    <a:pt x="2306" y="120"/>
                    <a:pt x="2306" y="118"/>
                  </a:cubicBezTo>
                  <a:cubicBezTo>
                    <a:pt x="2307" y="121"/>
                    <a:pt x="2308" y="125"/>
                    <a:pt x="2308" y="128"/>
                  </a:cubicBezTo>
                  <a:cubicBezTo>
                    <a:pt x="2307" y="136"/>
                    <a:pt x="2306" y="141"/>
                    <a:pt x="2305" y="144"/>
                  </a:cubicBezTo>
                  <a:close/>
                  <a:moveTo>
                    <a:pt x="2312" y="107"/>
                  </a:moveTo>
                  <a:cubicBezTo>
                    <a:pt x="2311" y="105"/>
                    <a:pt x="2310" y="102"/>
                    <a:pt x="2308" y="100"/>
                  </a:cubicBezTo>
                  <a:cubicBezTo>
                    <a:pt x="2309" y="97"/>
                    <a:pt x="2309" y="95"/>
                    <a:pt x="2309" y="93"/>
                  </a:cubicBezTo>
                  <a:cubicBezTo>
                    <a:pt x="2310" y="96"/>
                    <a:pt x="2312" y="99"/>
                    <a:pt x="2313" y="102"/>
                  </a:cubicBezTo>
                  <a:cubicBezTo>
                    <a:pt x="2313" y="104"/>
                    <a:pt x="2312" y="105"/>
                    <a:pt x="2312" y="107"/>
                  </a:cubicBezTo>
                  <a:close/>
                  <a:moveTo>
                    <a:pt x="2313" y="159"/>
                  </a:moveTo>
                  <a:cubicBezTo>
                    <a:pt x="2313" y="159"/>
                    <a:pt x="2313" y="159"/>
                    <a:pt x="2313" y="159"/>
                  </a:cubicBezTo>
                  <a:cubicBezTo>
                    <a:pt x="2313" y="159"/>
                    <a:pt x="2313" y="159"/>
                    <a:pt x="2314" y="159"/>
                  </a:cubicBezTo>
                  <a:cubicBezTo>
                    <a:pt x="2313" y="159"/>
                    <a:pt x="2313" y="159"/>
                    <a:pt x="2313" y="159"/>
                  </a:cubicBezTo>
                  <a:close/>
                  <a:moveTo>
                    <a:pt x="2314" y="96"/>
                  </a:moveTo>
                  <a:cubicBezTo>
                    <a:pt x="2313" y="93"/>
                    <a:pt x="2311" y="91"/>
                    <a:pt x="2310" y="88"/>
                  </a:cubicBezTo>
                  <a:cubicBezTo>
                    <a:pt x="2312" y="85"/>
                    <a:pt x="2314" y="82"/>
                    <a:pt x="2316" y="79"/>
                  </a:cubicBezTo>
                  <a:cubicBezTo>
                    <a:pt x="2316" y="84"/>
                    <a:pt x="2315" y="90"/>
                    <a:pt x="2314" y="96"/>
                  </a:cubicBezTo>
                  <a:close/>
                  <a:moveTo>
                    <a:pt x="2317" y="75"/>
                  </a:moveTo>
                  <a:cubicBezTo>
                    <a:pt x="2315" y="78"/>
                    <a:pt x="2312" y="82"/>
                    <a:pt x="2310" y="86"/>
                  </a:cubicBezTo>
                  <a:cubicBezTo>
                    <a:pt x="2311" y="77"/>
                    <a:pt x="2312" y="68"/>
                    <a:pt x="2313" y="61"/>
                  </a:cubicBezTo>
                  <a:cubicBezTo>
                    <a:pt x="2315" y="58"/>
                    <a:pt x="2317" y="55"/>
                    <a:pt x="2319" y="53"/>
                  </a:cubicBezTo>
                  <a:cubicBezTo>
                    <a:pt x="2319" y="58"/>
                    <a:pt x="2318" y="66"/>
                    <a:pt x="2317" y="75"/>
                  </a:cubicBezTo>
                  <a:close/>
                  <a:moveTo>
                    <a:pt x="2324" y="139"/>
                  </a:moveTo>
                  <a:cubicBezTo>
                    <a:pt x="2324" y="139"/>
                    <a:pt x="2324" y="139"/>
                    <a:pt x="2323" y="139"/>
                  </a:cubicBezTo>
                  <a:cubicBezTo>
                    <a:pt x="2323" y="138"/>
                    <a:pt x="2323" y="138"/>
                    <a:pt x="2324" y="138"/>
                  </a:cubicBezTo>
                  <a:cubicBezTo>
                    <a:pt x="2324" y="138"/>
                    <a:pt x="2324" y="138"/>
                    <a:pt x="2324" y="138"/>
                  </a:cubicBezTo>
                  <a:cubicBezTo>
                    <a:pt x="2324" y="139"/>
                    <a:pt x="2324" y="139"/>
                    <a:pt x="2324" y="139"/>
                  </a:cubicBezTo>
                  <a:close/>
                  <a:moveTo>
                    <a:pt x="2349" y="137"/>
                  </a:moveTo>
                  <a:cubicBezTo>
                    <a:pt x="2349" y="136"/>
                    <a:pt x="2348" y="135"/>
                    <a:pt x="2348" y="133"/>
                  </a:cubicBezTo>
                  <a:cubicBezTo>
                    <a:pt x="2348" y="132"/>
                    <a:pt x="2348" y="130"/>
                    <a:pt x="2348" y="128"/>
                  </a:cubicBezTo>
                  <a:cubicBezTo>
                    <a:pt x="2348" y="131"/>
                    <a:pt x="2349" y="133"/>
                    <a:pt x="2350" y="135"/>
                  </a:cubicBezTo>
                  <a:cubicBezTo>
                    <a:pt x="2350" y="136"/>
                    <a:pt x="2349" y="137"/>
                    <a:pt x="2349" y="137"/>
                  </a:cubicBezTo>
                  <a:close/>
                  <a:moveTo>
                    <a:pt x="2355" y="99"/>
                  </a:moveTo>
                  <a:cubicBezTo>
                    <a:pt x="2354" y="95"/>
                    <a:pt x="2352" y="92"/>
                    <a:pt x="2350" y="90"/>
                  </a:cubicBezTo>
                  <a:cubicBezTo>
                    <a:pt x="2352" y="93"/>
                    <a:pt x="2354" y="97"/>
                    <a:pt x="2355" y="101"/>
                  </a:cubicBezTo>
                  <a:cubicBezTo>
                    <a:pt x="2354" y="110"/>
                    <a:pt x="2353" y="118"/>
                    <a:pt x="2351" y="125"/>
                  </a:cubicBezTo>
                  <a:cubicBezTo>
                    <a:pt x="2350" y="122"/>
                    <a:pt x="2349" y="119"/>
                    <a:pt x="2349" y="116"/>
                  </a:cubicBezTo>
                  <a:cubicBezTo>
                    <a:pt x="2349" y="102"/>
                    <a:pt x="2350" y="86"/>
                    <a:pt x="2351" y="72"/>
                  </a:cubicBezTo>
                  <a:cubicBezTo>
                    <a:pt x="2353" y="75"/>
                    <a:pt x="2356" y="79"/>
                    <a:pt x="2358" y="82"/>
                  </a:cubicBezTo>
                  <a:cubicBezTo>
                    <a:pt x="2357" y="88"/>
                    <a:pt x="2356" y="93"/>
                    <a:pt x="2355" y="99"/>
                  </a:cubicBezTo>
                  <a:close/>
                  <a:moveTo>
                    <a:pt x="2358" y="142"/>
                  </a:moveTo>
                  <a:cubicBezTo>
                    <a:pt x="2359" y="134"/>
                    <a:pt x="2360" y="127"/>
                    <a:pt x="2360" y="121"/>
                  </a:cubicBezTo>
                  <a:cubicBezTo>
                    <a:pt x="2360" y="123"/>
                    <a:pt x="2361" y="125"/>
                    <a:pt x="2361" y="127"/>
                  </a:cubicBezTo>
                  <a:cubicBezTo>
                    <a:pt x="2360" y="136"/>
                    <a:pt x="2358" y="142"/>
                    <a:pt x="2358" y="142"/>
                  </a:cubicBezTo>
                  <a:close/>
                  <a:moveTo>
                    <a:pt x="2362" y="144"/>
                  </a:moveTo>
                  <a:cubicBezTo>
                    <a:pt x="2362" y="142"/>
                    <a:pt x="2362" y="140"/>
                    <a:pt x="2363" y="137"/>
                  </a:cubicBezTo>
                  <a:cubicBezTo>
                    <a:pt x="2363" y="138"/>
                    <a:pt x="2363" y="138"/>
                    <a:pt x="2363" y="138"/>
                  </a:cubicBezTo>
                  <a:cubicBezTo>
                    <a:pt x="2362" y="142"/>
                    <a:pt x="2362" y="144"/>
                    <a:pt x="2362" y="144"/>
                  </a:cubicBezTo>
                  <a:close/>
                  <a:moveTo>
                    <a:pt x="2361" y="110"/>
                  </a:moveTo>
                  <a:cubicBezTo>
                    <a:pt x="2361" y="103"/>
                    <a:pt x="2362" y="96"/>
                    <a:pt x="2362" y="90"/>
                  </a:cubicBezTo>
                  <a:cubicBezTo>
                    <a:pt x="2364" y="93"/>
                    <a:pt x="2365" y="96"/>
                    <a:pt x="2366" y="99"/>
                  </a:cubicBezTo>
                  <a:cubicBezTo>
                    <a:pt x="2365" y="105"/>
                    <a:pt x="2364" y="111"/>
                    <a:pt x="2363" y="116"/>
                  </a:cubicBezTo>
                  <a:cubicBezTo>
                    <a:pt x="2362" y="114"/>
                    <a:pt x="2362" y="112"/>
                    <a:pt x="2361" y="110"/>
                  </a:cubicBezTo>
                  <a:close/>
                  <a:moveTo>
                    <a:pt x="2366" y="124"/>
                  </a:moveTo>
                  <a:cubicBezTo>
                    <a:pt x="2365" y="123"/>
                    <a:pt x="2365" y="122"/>
                    <a:pt x="2365" y="121"/>
                  </a:cubicBezTo>
                  <a:cubicBezTo>
                    <a:pt x="2365" y="115"/>
                    <a:pt x="2366" y="109"/>
                    <a:pt x="2367" y="103"/>
                  </a:cubicBezTo>
                  <a:cubicBezTo>
                    <a:pt x="2368" y="105"/>
                    <a:pt x="2368" y="107"/>
                    <a:pt x="2369" y="109"/>
                  </a:cubicBezTo>
                  <a:cubicBezTo>
                    <a:pt x="2368" y="114"/>
                    <a:pt x="2367" y="119"/>
                    <a:pt x="2366" y="124"/>
                  </a:cubicBezTo>
                  <a:close/>
                  <a:moveTo>
                    <a:pt x="2371" y="146"/>
                  </a:moveTo>
                  <a:cubicBezTo>
                    <a:pt x="2371" y="145"/>
                    <a:pt x="2371" y="145"/>
                    <a:pt x="2371" y="145"/>
                  </a:cubicBezTo>
                  <a:cubicBezTo>
                    <a:pt x="2372" y="144"/>
                    <a:pt x="2372" y="143"/>
                    <a:pt x="2372" y="141"/>
                  </a:cubicBezTo>
                  <a:cubicBezTo>
                    <a:pt x="2372" y="142"/>
                    <a:pt x="2372" y="143"/>
                    <a:pt x="2372" y="144"/>
                  </a:cubicBezTo>
                  <a:cubicBezTo>
                    <a:pt x="2372" y="145"/>
                    <a:pt x="2372" y="145"/>
                    <a:pt x="2371" y="146"/>
                  </a:cubicBezTo>
                  <a:close/>
                  <a:moveTo>
                    <a:pt x="2395" y="118"/>
                  </a:moveTo>
                  <a:cubicBezTo>
                    <a:pt x="2394" y="114"/>
                    <a:pt x="2392" y="111"/>
                    <a:pt x="2391" y="107"/>
                  </a:cubicBezTo>
                  <a:cubicBezTo>
                    <a:pt x="2391" y="96"/>
                    <a:pt x="2391" y="84"/>
                    <a:pt x="2391" y="74"/>
                  </a:cubicBezTo>
                  <a:cubicBezTo>
                    <a:pt x="2391" y="70"/>
                    <a:pt x="2391" y="67"/>
                    <a:pt x="2390" y="65"/>
                  </a:cubicBezTo>
                  <a:cubicBezTo>
                    <a:pt x="2391" y="74"/>
                    <a:pt x="2395" y="84"/>
                    <a:pt x="2398" y="94"/>
                  </a:cubicBezTo>
                  <a:cubicBezTo>
                    <a:pt x="2397" y="102"/>
                    <a:pt x="2396" y="110"/>
                    <a:pt x="2395" y="118"/>
                  </a:cubicBezTo>
                  <a:close/>
                  <a:moveTo>
                    <a:pt x="2424" y="124"/>
                  </a:moveTo>
                  <a:cubicBezTo>
                    <a:pt x="2423" y="122"/>
                    <a:pt x="2423" y="120"/>
                    <a:pt x="2422" y="117"/>
                  </a:cubicBezTo>
                  <a:cubicBezTo>
                    <a:pt x="2423" y="109"/>
                    <a:pt x="2424" y="100"/>
                    <a:pt x="2425" y="92"/>
                  </a:cubicBezTo>
                  <a:cubicBezTo>
                    <a:pt x="2427" y="96"/>
                    <a:pt x="2428" y="100"/>
                    <a:pt x="2428" y="104"/>
                  </a:cubicBezTo>
                  <a:cubicBezTo>
                    <a:pt x="2427" y="111"/>
                    <a:pt x="2425" y="118"/>
                    <a:pt x="2424" y="124"/>
                  </a:cubicBezTo>
                  <a:close/>
                  <a:moveTo>
                    <a:pt x="2464" y="133"/>
                  </a:moveTo>
                  <a:cubicBezTo>
                    <a:pt x="2464" y="130"/>
                    <a:pt x="2463" y="126"/>
                    <a:pt x="2462" y="122"/>
                  </a:cubicBezTo>
                  <a:cubicBezTo>
                    <a:pt x="2462" y="112"/>
                    <a:pt x="2462" y="100"/>
                    <a:pt x="2463" y="88"/>
                  </a:cubicBezTo>
                  <a:cubicBezTo>
                    <a:pt x="2465" y="96"/>
                    <a:pt x="2467" y="104"/>
                    <a:pt x="2467" y="111"/>
                  </a:cubicBezTo>
                  <a:cubicBezTo>
                    <a:pt x="2468" y="117"/>
                    <a:pt x="2468" y="117"/>
                    <a:pt x="2468" y="117"/>
                  </a:cubicBezTo>
                  <a:cubicBezTo>
                    <a:pt x="2466" y="123"/>
                    <a:pt x="2465" y="129"/>
                    <a:pt x="2464" y="133"/>
                  </a:cubicBezTo>
                  <a:close/>
                  <a:moveTo>
                    <a:pt x="2477" y="110"/>
                  </a:moveTo>
                  <a:cubicBezTo>
                    <a:pt x="2477" y="113"/>
                    <a:pt x="2477" y="116"/>
                    <a:pt x="2477" y="119"/>
                  </a:cubicBezTo>
                  <a:cubicBezTo>
                    <a:pt x="2476" y="122"/>
                    <a:pt x="2476" y="124"/>
                    <a:pt x="2475" y="127"/>
                  </a:cubicBezTo>
                  <a:cubicBezTo>
                    <a:pt x="2475" y="119"/>
                    <a:pt x="2474" y="111"/>
                    <a:pt x="2473" y="104"/>
                  </a:cubicBezTo>
                  <a:cubicBezTo>
                    <a:pt x="2474" y="98"/>
                    <a:pt x="2474" y="91"/>
                    <a:pt x="2475" y="86"/>
                  </a:cubicBezTo>
                  <a:cubicBezTo>
                    <a:pt x="2477" y="93"/>
                    <a:pt x="2477" y="102"/>
                    <a:pt x="2477" y="110"/>
                  </a:cubicBezTo>
                  <a:close/>
                  <a:moveTo>
                    <a:pt x="2487" y="142"/>
                  </a:moveTo>
                  <a:cubicBezTo>
                    <a:pt x="2487" y="142"/>
                    <a:pt x="2487" y="141"/>
                    <a:pt x="2488" y="138"/>
                  </a:cubicBezTo>
                  <a:cubicBezTo>
                    <a:pt x="2489" y="120"/>
                    <a:pt x="2488" y="96"/>
                    <a:pt x="2487" y="77"/>
                  </a:cubicBezTo>
                  <a:cubicBezTo>
                    <a:pt x="2489" y="81"/>
                    <a:pt x="2491" y="86"/>
                    <a:pt x="2492" y="92"/>
                  </a:cubicBezTo>
                  <a:cubicBezTo>
                    <a:pt x="2490" y="108"/>
                    <a:pt x="2488" y="129"/>
                    <a:pt x="2488" y="138"/>
                  </a:cubicBezTo>
                  <a:cubicBezTo>
                    <a:pt x="2487" y="139"/>
                    <a:pt x="2487" y="141"/>
                    <a:pt x="2487" y="142"/>
                  </a:cubicBezTo>
                  <a:close/>
                  <a:moveTo>
                    <a:pt x="2491" y="129"/>
                  </a:moveTo>
                  <a:cubicBezTo>
                    <a:pt x="2491" y="119"/>
                    <a:pt x="2492" y="107"/>
                    <a:pt x="2493" y="97"/>
                  </a:cubicBezTo>
                  <a:cubicBezTo>
                    <a:pt x="2493" y="100"/>
                    <a:pt x="2493" y="103"/>
                    <a:pt x="2493" y="106"/>
                  </a:cubicBezTo>
                  <a:cubicBezTo>
                    <a:pt x="2493" y="114"/>
                    <a:pt x="2492" y="121"/>
                    <a:pt x="2491" y="129"/>
                  </a:cubicBezTo>
                  <a:close/>
                  <a:moveTo>
                    <a:pt x="2502" y="125"/>
                  </a:moveTo>
                  <a:cubicBezTo>
                    <a:pt x="2503" y="120"/>
                    <a:pt x="2503" y="113"/>
                    <a:pt x="2503" y="107"/>
                  </a:cubicBezTo>
                  <a:cubicBezTo>
                    <a:pt x="2503" y="114"/>
                    <a:pt x="2503" y="120"/>
                    <a:pt x="2502" y="125"/>
                  </a:cubicBezTo>
                  <a:close/>
                  <a:moveTo>
                    <a:pt x="2517" y="112"/>
                  </a:moveTo>
                  <a:cubicBezTo>
                    <a:pt x="2517" y="105"/>
                    <a:pt x="2517" y="98"/>
                    <a:pt x="2517" y="91"/>
                  </a:cubicBezTo>
                  <a:cubicBezTo>
                    <a:pt x="2518" y="95"/>
                    <a:pt x="2518" y="99"/>
                    <a:pt x="2518" y="103"/>
                  </a:cubicBezTo>
                  <a:cubicBezTo>
                    <a:pt x="2518" y="106"/>
                    <a:pt x="2518" y="109"/>
                    <a:pt x="2517" y="112"/>
                  </a:cubicBezTo>
                  <a:close/>
                  <a:moveTo>
                    <a:pt x="2528" y="129"/>
                  </a:moveTo>
                  <a:cubicBezTo>
                    <a:pt x="2528" y="129"/>
                    <a:pt x="2528" y="129"/>
                    <a:pt x="2527" y="130"/>
                  </a:cubicBezTo>
                  <a:cubicBezTo>
                    <a:pt x="2527" y="132"/>
                    <a:pt x="2526" y="134"/>
                    <a:pt x="2526" y="137"/>
                  </a:cubicBezTo>
                  <a:cubicBezTo>
                    <a:pt x="2526" y="136"/>
                    <a:pt x="2526" y="136"/>
                    <a:pt x="2526" y="136"/>
                  </a:cubicBezTo>
                  <a:cubicBezTo>
                    <a:pt x="2526" y="134"/>
                    <a:pt x="2527" y="132"/>
                    <a:pt x="2527" y="130"/>
                  </a:cubicBezTo>
                  <a:cubicBezTo>
                    <a:pt x="2528" y="129"/>
                    <a:pt x="2528" y="129"/>
                    <a:pt x="2528" y="129"/>
                  </a:cubicBezTo>
                  <a:cubicBezTo>
                    <a:pt x="2528" y="129"/>
                    <a:pt x="2528" y="129"/>
                    <a:pt x="2528" y="129"/>
                  </a:cubicBezTo>
                  <a:close/>
                  <a:moveTo>
                    <a:pt x="2564" y="130"/>
                  </a:moveTo>
                  <a:cubicBezTo>
                    <a:pt x="2564" y="132"/>
                    <a:pt x="2563" y="134"/>
                    <a:pt x="2562" y="136"/>
                  </a:cubicBezTo>
                  <a:cubicBezTo>
                    <a:pt x="2562" y="131"/>
                    <a:pt x="2562" y="126"/>
                    <a:pt x="2562" y="121"/>
                  </a:cubicBezTo>
                  <a:cubicBezTo>
                    <a:pt x="2564" y="115"/>
                    <a:pt x="2566" y="110"/>
                    <a:pt x="2567" y="104"/>
                  </a:cubicBezTo>
                  <a:cubicBezTo>
                    <a:pt x="2566" y="114"/>
                    <a:pt x="2565" y="123"/>
                    <a:pt x="2564" y="130"/>
                  </a:cubicBezTo>
                  <a:close/>
                  <a:moveTo>
                    <a:pt x="2580" y="124"/>
                  </a:moveTo>
                  <a:cubicBezTo>
                    <a:pt x="2580" y="110"/>
                    <a:pt x="2582" y="94"/>
                    <a:pt x="2583" y="83"/>
                  </a:cubicBezTo>
                  <a:cubicBezTo>
                    <a:pt x="2583" y="87"/>
                    <a:pt x="2583" y="91"/>
                    <a:pt x="2583" y="95"/>
                  </a:cubicBezTo>
                  <a:cubicBezTo>
                    <a:pt x="2583" y="105"/>
                    <a:pt x="2582" y="114"/>
                    <a:pt x="2580" y="124"/>
                  </a:cubicBezTo>
                  <a:close/>
                  <a:moveTo>
                    <a:pt x="2596" y="160"/>
                  </a:moveTo>
                  <a:cubicBezTo>
                    <a:pt x="2596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7" y="159"/>
                  </a:cubicBezTo>
                  <a:cubicBezTo>
                    <a:pt x="2597" y="159"/>
                    <a:pt x="2597" y="159"/>
                    <a:pt x="2596" y="160"/>
                  </a:cubicBezTo>
                  <a:close/>
                  <a:moveTo>
                    <a:pt x="2609" y="116"/>
                  </a:moveTo>
                  <a:cubicBezTo>
                    <a:pt x="2608" y="121"/>
                    <a:pt x="2606" y="127"/>
                    <a:pt x="2604" y="132"/>
                  </a:cubicBezTo>
                  <a:cubicBezTo>
                    <a:pt x="2604" y="127"/>
                    <a:pt x="2604" y="121"/>
                    <a:pt x="2604" y="115"/>
                  </a:cubicBezTo>
                  <a:cubicBezTo>
                    <a:pt x="2605" y="110"/>
                    <a:pt x="2605" y="104"/>
                    <a:pt x="2605" y="98"/>
                  </a:cubicBezTo>
                  <a:cubicBezTo>
                    <a:pt x="2605" y="95"/>
                    <a:pt x="2605" y="92"/>
                    <a:pt x="2605" y="89"/>
                  </a:cubicBezTo>
                  <a:cubicBezTo>
                    <a:pt x="2606" y="78"/>
                    <a:pt x="2607" y="68"/>
                    <a:pt x="2608" y="60"/>
                  </a:cubicBezTo>
                  <a:cubicBezTo>
                    <a:pt x="2611" y="68"/>
                    <a:pt x="2613" y="78"/>
                    <a:pt x="2613" y="87"/>
                  </a:cubicBezTo>
                  <a:cubicBezTo>
                    <a:pt x="2612" y="95"/>
                    <a:pt x="2611" y="106"/>
                    <a:pt x="2609" y="116"/>
                  </a:cubicBezTo>
                  <a:close/>
                  <a:moveTo>
                    <a:pt x="2617" y="136"/>
                  </a:moveTo>
                  <a:cubicBezTo>
                    <a:pt x="2617" y="137"/>
                    <a:pt x="2616" y="138"/>
                    <a:pt x="2616" y="139"/>
                  </a:cubicBezTo>
                  <a:cubicBezTo>
                    <a:pt x="2616" y="137"/>
                    <a:pt x="2616" y="135"/>
                    <a:pt x="2616" y="133"/>
                  </a:cubicBezTo>
                  <a:cubicBezTo>
                    <a:pt x="2617" y="130"/>
                    <a:pt x="2617" y="128"/>
                    <a:pt x="2618" y="125"/>
                  </a:cubicBezTo>
                  <a:cubicBezTo>
                    <a:pt x="2618" y="129"/>
                    <a:pt x="2617" y="133"/>
                    <a:pt x="2617" y="136"/>
                  </a:cubicBezTo>
                  <a:close/>
                  <a:moveTo>
                    <a:pt x="2633" y="126"/>
                  </a:moveTo>
                  <a:cubicBezTo>
                    <a:pt x="2632" y="113"/>
                    <a:pt x="2632" y="96"/>
                    <a:pt x="2632" y="84"/>
                  </a:cubicBezTo>
                  <a:cubicBezTo>
                    <a:pt x="2636" y="90"/>
                    <a:pt x="2638" y="100"/>
                    <a:pt x="2638" y="104"/>
                  </a:cubicBezTo>
                  <a:cubicBezTo>
                    <a:pt x="2638" y="110"/>
                    <a:pt x="2635" y="118"/>
                    <a:pt x="2633" y="126"/>
                  </a:cubicBezTo>
                  <a:close/>
                  <a:moveTo>
                    <a:pt x="2644" y="128"/>
                  </a:moveTo>
                  <a:cubicBezTo>
                    <a:pt x="2645" y="113"/>
                    <a:pt x="2645" y="91"/>
                    <a:pt x="2645" y="76"/>
                  </a:cubicBezTo>
                  <a:cubicBezTo>
                    <a:pt x="2647" y="83"/>
                    <a:pt x="2649" y="90"/>
                    <a:pt x="2649" y="96"/>
                  </a:cubicBezTo>
                  <a:cubicBezTo>
                    <a:pt x="2649" y="107"/>
                    <a:pt x="2646" y="117"/>
                    <a:pt x="2644" y="128"/>
                  </a:cubicBezTo>
                  <a:close/>
                  <a:moveTo>
                    <a:pt x="2684" y="112"/>
                  </a:moveTo>
                  <a:cubicBezTo>
                    <a:pt x="2684" y="110"/>
                    <a:pt x="2684" y="108"/>
                    <a:pt x="2683" y="105"/>
                  </a:cubicBezTo>
                  <a:cubicBezTo>
                    <a:pt x="2684" y="108"/>
                    <a:pt x="2683" y="112"/>
                    <a:pt x="2683" y="115"/>
                  </a:cubicBezTo>
                  <a:cubicBezTo>
                    <a:pt x="2678" y="131"/>
                    <a:pt x="2674" y="144"/>
                    <a:pt x="2674" y="144"/>
                  </a:cubicBezTo>
                  <a:cubicBezTo>
                    <a:pt x="2675" y="133"/>
                    <a:pt x="2679" y="110"/>
                    <a:pt x="2684" y="86"/>
                  </a:cubicBezTo>
                  <a:cubicBezTo>
                    <a:pt x="2686" y="90"/>
                    <a:pt x="2687" y="95"/>
                    <a:pt x="2688" y="99"/>
                  </a:cubicBezTo>
                  <a:cubicBezTo>
                    <a:pt x="2686" y="103"/>
                    <a:pt x="2685" y="108"/>
                    <a:pt x="2684" y="112"/>
                  </a:cubicBezTo>
                  <a:close/>
                  <a:moveTo>
                    <a:pt x="2696" y="133"/>
                  </a:moveTo>
                  <a:cubicBezTo>
                    <a:pt x="2696" y="133"/>
                    <a:pt x="2696" y="134"/>
                    <a:pt x="2696" y="134"/>
                  </a:cubicBezTo>
                  <a:cubicBezTo>
                    <a:pt x="2696" y="134"/>
                    <a:pt x="2696" y="134"/>
                    <a:pt x="2696" y="134"/>
                  </a:cubicBezTo>
                  <a:cubicBezTo>
                    <a:pt x="2696" y="134"/>
                    <a:pt x="2696" y="133"/>
                    <a:pt x="2696" y="133"/>
                  </a:cubicBezTo>
                  <a:cubicBezTo>
                    <a:pt x="2697" y="126"/>
                    <a:pt x="2698" y="117"/>
                    <a:pt x="2699" y="107"/>
                  </a:cubicBezTo>
                  <a:cubicBezTo>
                    <a:pt x="2699" y="110"/>
                    <a:pt x="2699" y="114"/>
                    <a:pt x="2699" y="117"/>
                  </a:cubicBezTo>
                  <a:cubicBezTo>
                    <a:pt x="2698" y="123"/>
                    <a:pt x="2697" y="129"/>
                    <a:pt x="2696" y="133"/>
                  </a:cubicBezTo>
                  <a:close/>
                  <a:moveTo>
                    <a:pt x="2701" y="159"/>
                  </a:move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ubicBezTo>
                    <a:pt x="2701" y="159"/>
                    <a:pt x="2701" y="159"/>
                    <a:pt x="2701" y="159"/>
                  </a:cubicBezTo>
                  <a:close/>
                  <a:moveTo>
                    <a:pt x="2742" y="143"/>
                  </a:moveTo>
                  <a:cubicBezTo>
                    <a:pt x="2742" y="142"/>
                    <a:pt x="2742" y="142"/>
                    <a:pt x="2742" y="141"/>
                  </a:cubicBezTo>
                  <a:cubicBezTo>
                    <a:pt x="2742" y="135"/>
                    <a:pt x="2743" y="127"/>
                    <a:pt x="2743" y="117"/>
                  </a:cubicBezTo>
                  <a:cubicBezTo>
                    <a:pt x="2744" y="121"/>
                    <a:pt x="2744" y="125"/>
                    <a:pt x="2744" y="129"/>
                  </a:cubicBezTo>
                  <a:cubicBezTo>
                    <a:pt x="2743" y="135"/>
                    <a:pt x="2743" y="139"/>
                    <a:pt x="2742" y="143"/>
                  </a:cubicBezTo>
                  <a:close/>
                  <a:moveTo>
                    <a:pt x="2746" y="117"/>
                  </a:moveTo>
                  <a:cubicBezTo>
                    <a:pt x="2745" y="115"/>
                    <a:pt x="2744" y="113"/>
                    <a:pt x="2744" y="111"/>
                  </a:cubicBezTo>
                  <a:cubicBezTo>
                    <a:pt x="2744" y="108"/>
                    <a:pt x="2744" y="104"/>
                    <a:pt x="2745" y="100"/>
                  </a:cubicBezTo>
                  <a:cubicBezTo>
                    <a:pt x="2746" y="103"/>
                    <a:pt x="2746" y="106"/>
                    <a:pt x="2747" y="108"/>
                  </a:cubicBezTo>
                  <a:cubicBezTo>
                    <a:pt x="2746" y="111"/>
                    <a:pt x="2746" y="114"/>
                    <a:pt x="2746" y="117"/>
                  </a:cubicBezTo>
                  <a:close/>
                  <a:moveTo>
                    <a:pt x="2754" y="133"/>
                  </a:moveTo>
                  <a:cubicBezTo>
                    <a:pt x="2754" y="133"/>
                    <a:pt x="2754" y="133"/>
                    <a:pt x="2754" y="133"/>
                  </a:cubicBezTo>
                  <a:cubicBezTo>
                    <a:pt x="2754" y="130"/>
                    <a:pt x="2755" y="127"/>
                    <a:pt x="2755" y="124"/>
                  </a:cubicBezTo>
                  <a:cubicBezTo>
                    <a:pt x="2755" y="125"/>
                    <a:pt x="2755" y="126"/>
                    <a:pt x="2755" y="128"/>
                  </a:cubicBezTo>
                  <a:cubicBezTo>
                    <a:pt x="2755" y="130"/>
                    <a:pt x="2754" y="131"/>
                    <a:pt x="2754" y="133"/>
                  </a:cubicBezTo>
                  <a:close/>
                  <a:moveTo>
                    <a:pt x="2791" y="142"/>
                  </a:moveTo>
                  <a:cubicBezTo>
                    <a:pt x="2791" y="139"/>
                    <a:pt x="2791" y="134"/>
                    <a:pt x="2791" y="128"/>
                  </a:cubicBezTo>
                  <a:cubicBezTo>
                    <a:pt x="2791" y="130"/>
                    <a:pt x="2791" y="132"/>
                    <a:pt x="2792" y="133"/>
                  </a:cubicBezTo>
                  <a:cubicBezTo>
                    <a:pt x="2791" y="139"/>
                    <a:pt x="2791" y="142"/>
                    <a:pt x="2791" y="142"/>
                  </a:cubicBezTo>
                  <a:close/>
                  <a:moveTo>
                    <a:pt x="2812" y="135"/>
                  </a:moveTo>
                  <a:cubicBezTo>
                    <a:pt x="2812" y="134"/>
                    <a:pt x="2812" y="134"/>
                    <a:pt x="2812" y="133"/>
                  </a:cubicBezTo>
                  <a:cubicBezTo>
                    <a:pt x="2812" y="121"/>
                    <a:pt x="2812" y="103"/>
                    <a:pt x="2811" y="88"/>
                  </a:cubicBezTo>
                  <a:cubicBezTo>
                    <a:pt x="2813" y="94"/>
                    <a:pt x="2815" y="100"/>
                    <a:pt x="2816" y="106"/>
                  </a:cubicBezTo>
                  <a:cubicBezTo>
                    <a:pt x="2814" y="118"/>
                    <a:pt x="2813" y="128"/>
                    <a:pt x="2812" y="135"/>
                  </a:cubicBezTo>
                  <a:close/>
                  <a:moveTo>
                    <a:pt x="2819" y="145"/>
                  </a:moveTo>
                  <a:cubicBezTo>
                    <a:pt x="2819" y="141"/>
                    <a:pt x="2819" y="136"/>
                    <a:pt x="2819" y="129"/>
                  </a:cubicBezTo>
                  <a:cubicBezTo>
                    <a:pt x="2820" y="133"/>
                    <a:pt x="2820" y="136"/>
                    <a:pt x="2821" y="139"/>
                  </a:cubicBezTo>
                  <a:cubicBezTo>
                    <a:pt x="2820" y="143"/>
                    <a:pt x="2819" y="145"/>
                    <a:pt x="2819" y="145"/>
                  </a:cubicBezTo>
                  <a:close/>
                  <a:moveTo>
                    <a:pt x="2824" y="159"/>
                  </a:moveTo>
                  <a:cubicBezTo>
                    <a:pt x="2825" y="159"/>
                    <a:pt x="2825" y="159"/>
                    <a:pt x="2825" y="159"/>
                  </a:cubicBezTo>
                  <a:cubicBezTo>
                    <a:pt x="2825" y="159"/>
                    <a:pt x="2825" y="158"/>
                    <a:pt x="2825" y="158"/>
                  </a:cubicBezTo>
                  <a:cubicBezTo>
                    <a:pt x="2825" y="159"/>
                    <a:pt x="2826" y="160"/>
                    <a:pt x="2826" y="160"/>
                  </a:cubicBezTo>
                  <a:cubicBezTo>
                    <a:pt x="2825" y="160"/>
                    <a:pt x="2825" y="159"/>
                    <a:pt x="2824" y="159"/>
                  </a:cubicBezTo>
                  <a:close/>
                  <a:moveTo>
                    <a:pt x="2826" y="121"/>
                  </a:moveTo>
                  <a:cubicBezTo>
                    <a:pt x="2824" y="117"/>
                    <a:pt x="2823" y="114"/>
                    <a:pt x="2821" y="110"/>
                  </a:cubicBezTo>
                  <a:cubicBezTo>
                    <a:pt x="2822" y="105"/>
                    <a:pt x="2822" y="99"/>
                    <a:pt x="2823" y="94"/>
                  </a:cubicBezTo>
                  <a:cubicBezTo>
                    <a:pt x="2823" y="100"/>
                    <a:pt x="2825" y="108"/>
                    <a:pt x="2827" y="116"/>
                  </a:cubicBezTo>
                  <a:cubicBezTo>
                    <a:pt x="2826" y="118"/>
                    <a:pt x="2826" y="119"/>
                    <a:pt x="2826" y="121"/>
                  </a:cubicBezTo>
                  <a:close/>
                  <a:moveTo>
                    <a:pt x="2834" y="142"/>
                  </a:moveTo>
                  <a:cubicBezTo>
                    <a:pt x="2833" y="138"/>
                    <a:pt x="2831" y="134"/>
                    <a:pt x="2829" y="129"/>
                  </a:cubicBezTo>
                  <a:cubicBezTo>
                    <a:pt x="2829" y="129"/>
                    <a:pt x="2829" y="128"/>
                    <a:pt x="2829" y="127"/>
                  </a:cubicBezTo>
                  <a:cubicBezTo>
                    <a:pt x="2831" y="132"/>
                    <a:pt x="2832" y="137"/>
                    <a:pt x="2834" y="142"/>
                  </a:cubicBezTo>
                  <a:cubicBezTo>
                    <a:pt x="2837" y="149"/>
                    <a:pt x="2839" y="153"/>
                    <a:pt x="2839" y="155"/>
                  </a:cubicBezTo>
                  <a:cubicBezTo>
                    <a:pt x="2837" y="151"/>
                    <a:pt x="2836" y="147"/>
                    <a:pt x="2834" y="142"/>
                  </a:cubicBezTo>
                  <a:close/>
                  <a:moveTo>
                    <a:pt x="3059" y="87"/>
                  </a:moveTo>
                  <a:cubicBezTo>
                    <a:pt x="3060" y="90"/>
                    <a:pt x="3061" y="92"/>
                    <a:pt x="3061" y="95"/>
                  </a:cubicBezTo>
                  <a:cubicBezTo>
                    <a:pt x="3061" y="94"/>
                    <a:pt x="3060" y="93"/>
                    <a:pt x="3059" y="92"/>
                  </a:cubicBezTo>
                  <a:cubicBezTo>
                    <a:pt x="3059" y="90"/>
                    <a:pt x="3059" y="89"/>
                    <a:pt x="3059" y="87"/>
                  </a:cubicBezTo>
                  <a:close/>
                  <a:moveTo>
                    <a:pt x="3047" y="84"/>
                  </a:moveTo>
                  <a:cubicBezTo>
                    <a:pt x="3050" y="87"/>
                    <a:pt x="3052" y="92"/>
                    <a:pt x="3055" y="96"/>
                  </a:cubicBezTo>
                  <a:cubicBezTo>
                    <a:pt x="3055" y="97"/>
                    <a:pt x="3056" y="99"/>
                    <a:pt x="3056" y="100"/>
                  </a:cubicBezTo>
                  <a:cubicBezTo>
                    <a:pt x="3056" y="104"/>
                    <a:pt x="3055" y="108"/>
                    <a:pt x="3054" y="112"/>
                  </a:cubicBezTo>
                  <a:cubicBezTo>
                    <a:pt x="3052" y="105"/>
                    <a:pt x="3049" y="98"/>
                    <a:pt x="3046" y="91"/>
                  </a:cubicBezTo>
                  <a:cubicBezTo>
                    <a:pt x="3046" y="89"/>
                    <a:pt x="3047" y="86"/>
                    <a:pt x="3047" y="84"/>
                  </a:cubicBezTo>
                  <a:close/>
                  <a:moveTo>
                    <a:pt x="3052" y="111"/>
                  </a:moveTo>
                  <a:cubicBezTo>
                    <a:pt x="3049" y="108"/>
                    <a:pt x="3047" y="105"/>
                    <a:pt x="3045" y="102"/>
                  </a:cubicBezTo>
                  <a:cubicBezTo>
                    <a:pt x="3045" y="99"/>
                    <a:pt x="3046" y="96"/>
                    <a:pt x="3046" y="93"/>
                  </a:cubicBezTo>
                  <a:cubicBezTo>
                    <a:pt x="3048" y="98"/>
                    <a:pt x="3050" y="105"/>
                    <a:pt x="3052" y="111"/>
                  </a:cubicBezTo>
                  <a:close/>
                  <a:moveTo>
                    <a:pt x="3034" y="56"/>
                  </a:moveTo>
                  <a:cubicBezTo>
                    <a:pt x="3039" y="62"/>
                    <a:pt x="3042" y="68"/>
                    <a:pt x="3045" y="74"/>
                  </a:cubicBezTo>
                  <a:cubicBezTo>
                    <a:pt x="3042" y="69"/>
                    <a:pt x="3038" y="64"/>
                    <a:pt x="3034" y="60"/>
                  </a:cubicBezTo>
                  <a:cubicBezTo>
                    <a:pt x="3034" y="59"/>
                    <a:pt x="3034" y="57"/>
                    <a:pt x="3034" y="56"/>
                  </a:cubicBezTo>
                  <a:close/>
                  <a:moveTo>
                    <a:pt x="3033" y="64"/>
                  </a:moveTo>
                  <a:cubicBezTo>
                    <a:pt x="3037" y="69"/>
                    <a:pt x="3041" y="74"/>
                    <a:pt x="3044" y="80"/>
                  </a:cubicBezTo>
                  <a:cubicBezTo>
                    <a:pt x="3044" y="81"/>
                    <a:pt x="3043" y="83"/>
                    <a:pt x="3043" y="85"/>
                  </a:cubicBezTo>
                  <a:cubicBezTo>
                    <a:pt x="3042" y="84"/>
                    <a:pt x="3042" y="83"/>
                    <a:pt x="3042" y="83"/>
                  </a:cubicBezTo>
                  <a:cubicBezTo>
                    <a:pt x="3042" y="83"/>
                    <a:pt x="3042" y="84"/>
                    <a:pt x="3043" y="85"/>
                  </a:cubicBezTo>
                  <a:cubicBezTo>
                    <a:pt x="3042" y="88"/>
                    <a:pt x="3041" y="91"/>
                    <a:pt x="3040" y="94"/>
                  </a:cubicBezTo>
                  <a:cubicBezTo>
                    <a:pt x="3037" y="89"/>
                    <a:pt x="3034" y="85"/>
                    <a:pt x="3031" y="80"/>
                  </a:cubicBezTo>
                  <a:cubicBezTo>
                    <a:pt x="3032" y="75"/>
                    <a:pt x="3033" y="69"/>
                    <a:pt x="3033" y="64"/>
                  </a:cubicBezTo>
                  <a:close/>
                  <a:moveTo>
                    <a:pt x="3024" y="139"/>
                  </a:moveTo>
                  <a:cubicBezTo>
                    <a:pt x="3024" y="120"/>
                    <a:pt x="3027" y="101"/>
                    <a:pt x="3030" y="83"/>
                  </a:cubicBezTo>
                  <a:cubicBezTo>
                    <a:pt x="3033" y="87"/>
                    <a:pt x="3036" y="91"/>
                    <a:pt x="3039" y="95"/>
                  </a:cubicBezTo>
                  <a:cubicBezTo>
                    <a:pt x="3033" y="114"/>
                    <a:pt x="3027" y="133"/>
                    <a:pt x="3025" y="152"/>
                  </a:cubicBezTo>
                  <a:cubicBezTo>
                    <a:pt x="3024" y="148"/>
                    <a:pt x="3024" y="143"/>
                    <a:pt x="3024" y="139"/>
                  </a:cubicBezTo>
                  <a:close/>
                  <a:moveTo>
                    <a:pt x="3043" y="143"/>
                  </a:moveTo>
                  <a:cubicBezTo>
                    <a:pt x="3043" y="142"/>
                    <a:pt x="3042" y="141"/>
                    <a:pt x="3041" y="140"/>
                  </a:cubicBezTo>
                  <a:cubicBezTo>
                    <a:pt x="3042" y="141"/>
                    <a:pt x="3042" y="143"/>
                    <a:pt x="3043" y="144"/>
                  </a:cubicBezTo>
                  <a:cubicBezTo>
                    <a:pt x="3041" y="146"/>
                    <a:pt x="3040" y="149"/>
                    <a:pt x="3038" y="152"/>
                  </a:cubicBezTo>
                  <a:cubicBezTo>
                    <a:pt x="3039" y="146"/>
                    <a:pt x="3040" y="140"/>
                    <a:pt x="3041" y="135"/>
                  </a:cubicBezTo>
                  <a:cubicBezTo>
                    <a:pt x="3042" y="137"/>
                    <a:pt x="3043" y="139"/>
                    <a:pt x="3044" y="142"/>
                  </a:cubicBezTo>
                  <a:cubicBezTo>
                    <a:pt x="3044" y="142"/>
                    <a:pt x="3043" y="142"/>
                    <a:pt x="3043" y="143"/>
                  </a:cubicBezTo>
                  <a:close/>
                  <a:moveTo>
                    <a:pt x="3042" y="126"/>
                  </a:moveTo>
                  <a:cubicBezTo>
                    <a:pt x="3043" y="118"/>
                    <a:pt x="3044" y="110"/>
                    <a:pt x="3045" y="102"/>
                  </a:cubicBezTo>
                  <a:cubicBezTo>
                    <a:pt x="3048" y="107"/>
                    <a:pt x="3051" y="112"/>
                    <a:pt x="3053" y="116"/>
                  </a:cubicBezTo>
                  <a:cubicBezTo>
                    <a:pt x="3052" y="122"/>
                    <a:pt x="3050" y="127"/>
                    <a:pt x="3048" y="133"/>
                  </a:cubicBezTo>
                  <a:cubicBezTo>
                    <a:pt x="3045" y="130"/>
                    <a:pt x="3043" y="128"/>
                    <a:pt x="3042" y="126"/>
                  </a:cubicBezTo>
                  <a:close/>
                  <a:moveTo>
                    <a:pt x="3054" y="140"/>
                  </a:moveTo>
                  <a:cubicBezTo>
                    <a:pt x="3053" y="140"/>
                    <a:pt x="3053" y="140"/>
                    <a:pt x="3053" y="140"/>
                  </a:cubicBezTo>
                  <a:cubicBezTo>
                    <a:pt x="3054" y="135"/>
                    <a:pt x="3055" y="130"/>
                    <a:pt x="3056" y="125"/>
                  </a:cubicBezTo>
                  <a:cubicBezTo>
                    <a:pt x="3056" y="127"/>
                    <a:pt x="3057" y="128"/>
                    <a:pt x="3057" y="130"/>
                  </a:cubicBezTo>
                  <a:cubicBezTo>
                    <a:pt x="3056" y="133"/>
                    <a:pt x="3055" y="137"/>
                    <a:pt x="3054" y="140"/>
                  </a:cubicBezTo>
                  <a:close/>
                  <a:moveTo>
                    <a:pt x="3060" y="122"/>
                  </a:moveTo>
                  <a:cubicBezTo>
                    <a:pt x="3059" y="120"/>
                    <a:pt x="3058" y="119"/>
                    <a:pt x="3057" y="117"/>
                  </a:cubicBezTo>
                  <a:cubicBezTo>
                    <a:pt x="3057" y="114"/>
                    <a:pt x="3058" y="110"/>
                    <a:pt x="3058" y="106"/>
                  </a:cubicBezTo>
                  <a:cubicBezTo>
                    <a:pt x="3059" y="111"/>
                    <a:pt x="3060" y="115"/>
                    <a:pt x="3061" y="120"/>
                  </a:cubicBezTo>
                  <a:cubicBezTo>
                    <a:pt x="3061" y="120"/>
                    <a:pt x="3061" y="121"/>
                    <a:pt x="3060" y="122"/>
                  </a:cubicBezTo>
                  <a:close/>
                  <a:moveTo>
                    <a:pt x="3062" y="151"/>
                  </a:moveTo>
                  <a:cubicBezTo>
                    <a:pt x="3061" y="151"/>
                    <a:pt x="3061" y="151"/>
                    <a:pt x="3061" y="151"/>
                  </a:cubicBezTo>
                  <a:cubicBezTo>
                    <a:pt x="3062" y="150"/>
                    <a:pt x="3062" y="150"/>
                    <a:pt x="3062" y="149"/>
                  </a:cubicBezTo>
                  <a:cubicBezTo>
                    <a:pt x="3062" y="149"/>
                    <a:pt x="3062" y="149"/>
                    <a:pt x="3062" y="149"/>
                  </a:cubicBezTo>
                  <a:cubicBezTo>
                    <a:pt x="3062" y="150"/>
                    <a:pt x="3062" y="150"/>
                    <a:pt x="3062" y="151"/>
                  </a:cubicBezTo>
                  <a:close/>
                  <a:moveTo>
                    <a:pt x="3062" y="117"/>
                  </a:moveTo>
                  <a:cubicBezTo>
                    <a:pt x="3061" y="112"/>
                    <a:pt x="3060" y="107"/>
                    <a:pt x="3058" y="102"/>
                  </a:cubicBezTo>
                  <a:cubicBezTo>
                    <a:pt x="3058" y="102"/>
                    <a:pt x="3059" y="101"/>
                    <a:pt x="3059" y="101"/>
                  </a:cubicBezTo>
                  <a:cubicBezTo>
                    <a:pt x="3061" y="105"/>
                    <a:pt x="3063" y="108"/>
                    <a:pt x="3065" y="112"/>
                  </a:cubicBezTo>
                  <a:cubicBezTo>
                    <a:pt x="3064" y="113"/>
                    <a:pt x="3063" y="115"/>
                    <a:pt x="3063" y="116"/>
                  </a:cubicBezTo>
                  <a:cubicBezTo>
                    <a:pt x="3062" y="117"/>
                    <a:pt x="3062" y="117"/>
                    <a:pt x="3062" y="117"/>
                  </a:cubicBezTo>
                  <a:close/>
                  <a:moveTo>
                    <a:pt x="3065" y="143"/>
                  </a:moveTo>
                  <a:cubicBezTo>
                    <a:pt x="3064" y="142"/>
                    <a:pt x="3064" y="142"/>
                    <a:pt x="3064" y="142"/>
                  </a:cubicBezTo>
                  <a:cubicBezTo>
                    <a:pt x="3064" y="141"/>
                    <a:pt x="3065" y="141"/>
                    <a:pt x="3065" y="140"/>
                  </a:cubicBezTo>
                  <a:cubicBezTo>
                    <a:pt x="3065" y="140"/>
                    <a:pt x="3065" y="141"/>
                    <a:pt x="3065" y="141"/>
                  </a:cubicBezTo>
                  <a:cubicBezTo>
                    <a:pt x="3065" y="142"/>
                    <a:pt x="3065" y="142"/>
                    <a:pt x="3065" y="143"/>
                  </a:cubicBezTo>
                  <a:close/>
                  <a:moveTo>
                    <a:pt x="3068" y="131"/>
                  </a:move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ubicBezTo>
                    <a:pt x="3068" y="131"/>
                    <a:pt x="3068" y="131"/>
                    <a:pt x="3068" y="131"/>
                  </a:cubicBezTo>
                  <a:close/>
                  <a:moveTo>
                    <a:pt x="3070" y="151"/>
                  </a:moveTo>
                  <a:cubicBezTo>
                    <a:pt x="3070" y="151"/>
                    <a:pt x="3070" y="151"/>
                    <a:pt x="3070" y="151"/>
                  </a:cubicBezTo>
                  <a:cubicBezTo>
                    <a:pt x="3070" y="151"/>
                    <a:pt x="3070" y="151"/>
                    <a:pt x="3070" y="152"/>
                  </a:cubicBezTo>
                  <a:cubicBezTo>
                    <a:pt x="3070" y="152"/>
                    <a:pt x="3070" y="151"/>
                    <a:pt x="3070" y="151"/>
                  </a:cubicBezTo>
                  <a:close/>
                  <a:moveTo>
                    <a:pt x="3072" y="126"/>
                  </a:moveTo>
                  <a:cubicBezTo>
                    <a:pt x="3072" y="128"/>
                    <a:pt x="3071" y="129"/>
                    <a:pt x="3070" y="131"/>
                  </a:cubicBezTo>
                  <a:cubicBezTo>
                    <a:pt x="3070" y="129"/>
                    <a:pt x="3070" y="127"/>
                    <a:pt x="3070" y="125"/>
                  </a:cubicBezTo>
                  <a:cubicBezTo>
                    <a:pt x="3070" y="124"/>
                    <a:pt x="3070" y="123"/>
                    <a:pt x="3071" y="122"/>
                  </a:cubicBezTo>
                  <a:cubicBezTo>
                    <a:pt x="3071" y="123"/>
                    <a:pt x="3072" y="124"/>
                    <a:pt x="3072" y="125"/>
                  </a:cubicBezTo>
                  <a:lnTo>
                    <a:pt x="3072" y="126"/>
                  </a:lnTo>
                  <a:close/>
                  <a:moveTo>
                    <a:pt x="3080" y="91"/>
                  </a:moveTo>
                  <a:cubicBezTo>
                    <a:pt x="3080" y="92"/>
                    <a:pt x="3080" y="94"/>
                    <a:pt x="3080" y="96"/>
                  </a:cubicBezTo>
                  <a:cubicBezTo>
                    <a:pt x="3080" y="95"/>
                    <a:pt x="3080" y="94"/>
                    <a:pt x="3079" y="93"/>
                  </a:cubicBezTo>
                  <a:cubicBezTo>
                    <a:pt x="3079" y="92"/>
                    <a:pt x="3079" y="91"/>
                    <a:pt x="3080" y="91"/>
                  </a:cubicBezTo>
                  <a:close/>
                  <a:moveTo>
                    <a:pt x="3078" y="117"/>
                  </a:moveTo>
                  <a:cubicBezTo>
                    <a:pt x="3077" y="113"/>
                    <a:pt x="3076" y="109"/>
                    <a:pt x="3076" y="106"/>
                  </a:cubicBezTo>
                  <a:cubicBezTo>
                    <a:pt x="3076" y="105"/>
                    <a:pt x="3076" y="105"/>
                    <a:pt x="3076" y="104"/>
                  </a:cubicBezTo>
                  <a:cubicBezTo>
                    <a:pt x="3077" y="107"/>
                    <a:pt x="3078" y="111"/>
                    <a:pt x="3079" y="114"/>
                  </a:cubicBezTo>
                  <a:cubicBezTo>
                    <a:pt x="3079" y="115"/>
                    <a:pt x="3078" y="116"/>
                    <a:pt x="3078" y="117"/>
                  </a:cubicBezTo>
                  <a:close/>
                  <a:moveTo>
                    <a:pt x="3081" y="127"/>
                  </a:moveTo>
                  <a:cubicBezTo>
                    <a:pt x="3080" y="127"/>
                    <a:pt x="3080" y="126"/>
                    <a:pt x="3080" y="126"/>
                  </a:cubicBezTo>
                  <a:cubicBezTo>
                    <a:pt x="3080" y="125"/>
                    <a:pt x="3080" y="125"/>
                    <a:pt x="3081" y="124"/>
                  </a:cubicBezTo>
                  <a:cubicBezTo>
                    <a:pt x="3081" y="125"/>
                    <a:pt x="3081" y="126"/>
                    <a:pt x="3081" y="127"/>
                  </a:cubicBezTo>
                  <a:close/>
                  <a:moveTo>
                    <a:pt x="3087" y="141"/>
                  </a:moveTo>
                  <a:cubicBezTo>
                    <a:pt x="3087" y="140"/>
                    <a:pt x="3087" y="140"/>
                    <a:pt x="3087" y="140"/>
                  </a:cubicBezTo>
                  <a:cubicBezTo>
                    <a:pt x="3087" y="140"/>
                    <a:pt x="3087" y="140"/>
                    <a:pt x="3087" y="140"/>
                  </a:cubicBezTo>
                  <a:cubicBezTo>
                    <a:pt x="3087" y="139"/>
                    <a:pt x="3087" y="139"/>
                    <a:pt x="3087" y="139"/>
                  </a:cubicBezTo>
                  <a:cubicBezTo>
                    <a:pt x="3087" y="139"/>
                    <a:pt x="3087" y="140"/>
                    <a:pt x="3087" y="141"/>
                  </a:cubicBezTo>
                  <a:close/>
                  <a:moveTo>
                    <a:pt x="3119" y="64"/>
                  </a:moveTo>
                  <a:cubicBezTo>
                    <a:pt x="3120" y="69"/>
                    <a:pt x="3121" y="75"/>
                    <a:pt x="3122" y="80"/>
                  </a:cubicBezTo>
                  <a:cubicBezTo>
                    <a:pt x="3120" y="82"/>
                    <a:pt x="3119" y="85"/>
                    <a:pt x="3117" y="87"/>
                  </a:cubicBezTo>
                  <a:cubicBezTo>
                    <a:pt x="3117" y="86"/>
                    <a:pt x="3116" y="84"/>
                    <a:pt x="3115" y="83"/>
                  </a:cubicBezTo>
                  <a:cubicBezTo>
                    <a:pt x="3116" y="84"/>
                    <a:pt x="3117" y="86"/>
                    <a:pt x="3117" y="87"/>
                  </a:cubicBezTo>
                  <a:cubicBezTo>
                    <a:pt x="3116" y="90"/>
                    <a:pt x="3114" y="92"/>
                    <a:pt x="3113" y="94"/>
                  </a:cubicBezTo>
                  <a:cubicBezTo>
                    <a:pt x="3111" y="89"/>
                    <a:pt x="3110" y="85"/>
                    <a:pt x="3108" y="80"/>
                  </a:cubicBezTo>
                  <a:cubicBezTo>
                    <a:pt x="3112" y="74"/>
                    <a:pt x="3116" y="69"/>
                    <a:pt x="3119" y="64"/>
                  </a:cubicBezTo>
                  <a:close/>
                  <a:moveTo>
                    <a:pt x="3097" y="72"/>
                  </a:moveTo>
                  <a:cubicBezTo>
                    <a:pt x="3099" y="75"/>
                    <a:pt x="3100" y="77"/>
                    <a:pt x="3102" y="80"/>
                  </a:cubicBezTo>
                  <a:cubicBezTo>
                    <a:pt x="3100" y="82"/>
                    <a:pt x="3099" y="84"/>
                    <a:pt x="3097" y="86"/>
                  </a:cubicBezTo>
                  <a:cubicBezTo>
                    <a:pt x="3097" y="85"/>
                    <a:pt x="3096" y="83"/>
                    <a:pt x="3096" y="82"/>
                  </a:cubicBezTo>
                  <a:cubicBezTo>
                    <a:pt x="3096" y="78"/>
                    <a:pt x="3096" y="74"/>
                    <a:pt x="3097" y="72"/>
                  </a:cubicBezTo>
                  <a:close/>
                  <a:moveTo>
                    <a:pt x="3090" y="108"/>
                  </a:moveTo>
                  <a:cubicBezTo>
                    <a:pt x="3091" y="106"/>
                    <a:pt x="3093" y="104"/>
                    <a:pt x="3094" y="101"/>
                  </a:cubicBezTo>
                  <a:cubicBezTo>
                    <a:pt x="3094" y="106"/>
                    <a:pt x="3095" y="112"/>
                    <a:pt x="3096" y="117"/>
                  </a:cubicBezTo>
                  <a:cubicBezTo>
                    <a:pt x="3095" y="119"/>
                    <a:pt x="3093" y="120"/>
                    <a:pt x="3092" y="122"/>
                  </a:cubicBezTo>
                  <a:cubicBezTo>
                    <a:pt x="3092" y="117"/>
                    <a:pt x="3091" y="113"/>
                    <a:pt x="3090" y="108"/>
                  </a:cubicBezTo>
                  <a:close/>
                  <a:moveTo>
                    <a:pt x="3097" y="134"/>
                  </a:moveTo>
                  <a:cubicBezTo>
                    <a:pt x="3096" y="131"/>
                    <a:pt x="3095" y="128"/>
                    <a:pt x="3094" y="126"/>
                  </a:cubicBezTo>
                  <a:cubicBezTo>
                    <a:pt x="3095" y="124"/>
                    <a:pt x="3095" y="123"/>
                    <a:pt x="3096" y="122"/>
                  </a:cubicBezTo>
                  <a:cubicBezTo>
                    <a:pt x="3097" y="123"/>
                    <a:pt x="3097" y="125"/>
                    <a:pt x="3097" y="127"/>
                  </a:cubicBezTo>
                  <a:cubicBezTo>
                    <a:pt x="3097" y="129"/>
                    <a:pt x="3097" y="131"/>
                    <a:pt x="3097" y="134"/>
                  </a:cubicBezTo>
                  <a:close/>
                  <a:moveTo>
                    <a:pt x="3096" y="98"/>
                  </a:moveTo>
                  <a:cubicBezTo>
                    <a:pt x="3096" y="98"/>
                    <a:pt x="3096" y="97"/>
                    <a:pt x="3097" y="97"/>
                  </a:cubicBezTo>
                  <a:cubicBezTo>
                    <a:pt x="3097" y="101"/>
                    <a:pt x="3097" y="105"/>
                    <a:pt x="3097" y="108"/>
                  </a:cubicBezTo>
                  <a:cubicBezTo>
                    <a:pt x="3097" y="105"/>
                    <a:pt x="3096" y="101"/>
                    <a:pt x="3096" y="98"/>
                  </a:cubicBezTo>
                  <a:close/>
                  <a:moveTo>
                    <a:pt x="3100" y="92"/>
                  </a:moveTo>
                  <a:cubicBezTo>
                    <a:pt x="3101" y="90"/>
                    <a:pt x="3103" y="88"/>
                    <a:pt x="3104" y="86"/>
                  </a:cubicBezTo>
                  <a:cubicBezTo>
                    <a:pt x="3105" y="88"/>
                    <a:pt x="3106" y="91"/>
                    <a:pt x="3107" y="93"/>
                  </a:cubicBezTo>
                  <a:cubicBezTo>
                    <a:pt x="3107" y="96"/>
                    <a:pt x="3107" y="99"/>
                    <a:pt x="3108" y="102"/>
                  </a:cubicBezTo>
                  <a:cubicBezTo>
                    <a:pt x="3107" y="104"/>
                    <a:pt x="3106" y="105"/>
                    <a:pt x="3104" y="106"/>
                  </a:cubicBezTo>
                  <a:cubicBezTo>
                    <a:pt x="3103" y="102"/>
                    <a:pt x="3102" y="97"/>
                    <a:pt x="3100" y="92"/>
                  </a:cubicBezTo>
                  <a:close/>
                  <a:moveTo>
                    <a:pt x="3105" y="107"/>
                  </a:moveTo>
                  <a:cubicBezTo>
                    <a:pt x="3106" y="106"/>
                    <a:pt x="3107" y="104"/>
                    <a:pt x="3108" y="102"/>
                  </a:cubicBezTo>
                  <a:cubicBezTo>
                    <a:pt x="3110" y="118"/>
                    <a:pt x="3112" y="133"/>
                    <a:pt x="3114" y="149"/>
                  </a:cubicBezTo>
                  <a:cubicBezTo>
                    <a:pt x="3111" y="137"/>
                    <a:pt x="3108" y="122"/>
                    <a:pt x="3105" y="107"/>
                  </a:cubicBezTo>
                  <a:close/>
                  <a:moveTo>
                    <a:pt x="3113" y="95"/>
                  </a:moveTo>
                  <a:cubicBezTo>
                    <a:pt x="3115" y="93"/>
                    <a:pt x="3116" y="91"/>
                    <a:pt x="3118" y="89"/>
                  </a:cubicBezTo>
                  <a:cubicBezTo>
                    <a:pt x="3124" y="103"/>
                    <a:pt x="3125" y="120"/>
                    <a:pt x="3125" y="136"/>
                  </a:cubicBezTo>
                  <a:cubicBezTo>
                    <a:pt x="3122" y="122"/>
                    <a:pt x="3118" y="109"/>
                    <a:pt x="3113" y="95"/>
                  </a:cubicBezTo>
                  <a:close/>
                  <a:moveTo>
                    <a:pt x="3118" y="88"/>
                  </a:moveTo>
                  <a:cubicBezTo>
                    <a:pt x="3120" y="86"/>
                    <a:pt x="3121" y="85"/>
                    <a:pt x="3122" y="83"/>
                  </a:cubicBezTo>
                  <a:cubicBezTo>
                    <a:pt x="3123" y="90"/>
                    <a:pt x="3125" y="98"/>
                    <a:pt x="3126" y="105"/>
                  </a:cubicBezTo>
                  <a:cubicBezTo>
                    <a:pt x="3123" y="99"/>
                    <a:pt x="3121" y="93"/>
                    <a:pt x="3118" y="88"/>
                  </a:cubicBezTo>
                  <a:close/>
                  <a:moveTo>
                    <a:pt x="3131" y="92"/>
                  </a:moveTo>
                  <a:cubicBezTo>
                    <a:pt x="3129" y="86"/>
                    <a:pt x="3128" y="80"/>
                    <a:pt x="3127" y="74"/>
                  </a:cubicBezTo>
                  <a:cubicBezTo>
                    <a:pt x="3129" y="71"/>
                    <a:pt x="3131" y="68"/>
                    <a:pt x="3132" y="65"/>
                  </a:cubicBezTo>
                  <a:cubicBezTo>
                    <a:pt x="3134" y="69"/>
                    <a:pt x="3137" y="72"/>
                    <a:pt x="3139" y="75"/>
                  </a:cubicBezTo>
                  <a:cubicBezTo>
                    <a:pt x="3139" y="77"/>
                    <a:pt x="3139" y="79"/>
                    <a:pt x="3139" y="81"/>
                  </a:cubicBezTo>
                  <a:cubicBezTo>
                    <a:pt x="3138" y="80"/>
                    <a:pt x="3138" y="80"/>
                    <a:pt x="3137" y="79"/>
                  </a:cubicBezTo>
                  <a:cubicBezTo>
                    <a:pt x="3138" y="80"/>
                    <a:pt x="3138" y="81"/>
                    <a:pt x="3139" y="81"/>
                  </a:cubicBezTo>
                  <a:cubicBezTo>
                    <a:pt x="3138" y="86"/>
                    <a:pt x="3138" y="90"/>
                    <a:pt x="3138" y="91"/>
                  </a:cubicBezTo>
                  <a:cubicBezTo>
                    <a:pt x="3138" y="95"/>
                    <a:pt x="3138" y="100"/>
                    <a:pt x="3139" y="104"/>
                  </a:cubicBezTo>
                  <a:cubicBezTo>
                    <a:pt x="3138" y="101"/>
                    <a:pt x="3138" y="99"/>
                    <a:pt x="3137" y="96"/>
                  </a:cubicBezTo>
                  <a:cubicBezTo>
                    <a:pt x="3138" y="100"/>
                    <a:pt x="3138" y="104"/>
                    <a:pt x="3139" y="108"/>
                  </a:cubicBezTo>
                  <a:cubicBezTo>
                    <a:pt x="3139" y="120"/>
                    <a:pt x="3140" y="132"/>
                    <a:pt x="3140" y="143"/>
                  </a:cubicBezTo>
                  <a:cubicBezTo>
                    <a:pt x="3138" y="126"/>
                    <a:pt x="3135" y="109"/>
                    <a:pt x="3131" y="92"/>
                  </a:cubicBezTo>
                  <a:close/>
                  <a:moveTo>
                    <a:pt x="3154" y="125"/>
                  </a:moveTo>
                  <a:cubicBezTo>
                    <a:pt x="3151" y="116"/>
                    <a:pt x="3149" y="108"/>
                    <a:pt x="3146" y="99"/>
                  </a:cubicBezTo>
                  <a:cubicBezTo>
                    <a:pt x="3144" y="93"/>
                    <a:pt x="3143" y="87"/>
                    <a:pt x="3143" y="82"/>
                  </a:cubicBezTo>
                  <a:cubicBezTo>
                    <a:pt x="3148" y="91"/>
                    <a:pt x="3151" y="100"/>
                    <a:pt x="3154" y="109"/>
                  </a:cubicBezTo>
                  <a:cubicBezTo>
                    <a:pt x="3154" y="114"/>
                    <a:pt x="3154" y="120"/>
                    <a:pt x="3154" y="125"/>
                  </a:cubicBezTo>
                  <a:close/>
                  <a:moveTo>
                    <a:pt x="3154" y="97"/>
                  </a:moveTo>
                  <a:cubicBezTo>
                    <a:pt x="3151" y="90"/>
                    <a:pt x="3147" y="83"/>
                    <a:pt x="3142" y="77"/>
                  </a:cubicBezTo>
                  <a:cubicBezTo>
                    <a:pt x="3142" y="72"/>
                    <a:pt x="3141" y="67"/>
                    <a:pt x="3142" y="63"/>
                  </a:cubicBezTo>
                  <a:cubicBezTo>
                    <a:pt x="3147" y="70"/>
                    <a:pt x="3151" y="77"/>
                    <a:pt x="3155" y="85"/>
                  </a:cubicBezTo>
                  <a:cubicBezTo>
                    <a:pt x="3155" y="89"/>
                    <a:pt x="3155" y="93"/>
                    <a:pt x="3154" y="97"/>
                  </a:cubicBezTo>
                  <a:close/>
                  <a:moveTo>
                    <a:pt x="3164" y="119"/>
                  </a:moveTo>
                  <a:cubicBezTo>
                    <a:pt x="3163" y="110"/>
                    <a:pt x="3161" y="102"/>
                    <a:pt x="3159" y="93"/>
                  </a:cubicBezTo>
                  <a:cubicBezTo>
                    <a:pt x="3161" y="98"/>
                    <a:pt x="3164" y="104"/>
                    <a:pt x="3165" y="109"/>
                  </a:cubicBezTo>
                  <a:cubicBezTo>
                    <a:pt x="3166" y="112"/>
                    <a:pt x="3166" y="114"/>
                    <a:pt x="3167" y="116"/>
                  </a:cubicBezTo>
                  <a:cubicBezTo>
                    <a:pt x="3167" y="120"/>
                    <a:pt x="3167" y="124"/>
                    <a:pt x="3167" y="127"/>
                  </a:cubicBezTo>
                  <a:cubicBezTo>
                    <a:pt x="3166" y="125"/>
                    <a:pt x="3165" y="122"/>
                    <a:pt x="3164" y="119"/>
                  </a:cubicBezTo>
                  <a:close/>
                  <a:moveTo>
                    <a:pt x="3175" y="151"/>
                  </a:moveTo>
                  <a:cubicBezTo>
                    <a:pt x="3175" y="151"/>
                    <a:pt x="3175" y="151"/>
                    <a:pt x="3175" y="151"/>
                  </a:cubicBezTo>
                  <a:cubicBezTo>
                    <a:pt x="3175" y="151"/>
                    <a:pt x="3175" y="150"/>
                    <a:pt x="3175" y="150"/>
                  </a:cubicBezTo>
                  <a:cubicBezTo>
                    <a:pt x="3175" y="150"/>
                    <a:pt x="3175" y="150"/>
                    <a:pt x="3175" y="150"/>
                  </a:cubicBezTo>
                  <a:cubicBezTo>
                    <a:pt x="3175" y="151"/>
                    <a:pt x="3175" y="151"/>
                    <a:pt x="3175" y="151"/>
                  </a:cubicBezTo>
                  <a:close/>
                  <a:moveTo>
                    <a:pt x="3181" y="114"/>
                  </a:moveTo>
                  <a:cubicBezTo>
                    <a:pt x="3179" y="105"/>
                    <a:pt x="3176" y="96"/>
                    <a:pt x="3172" y="88"/>
                  </a:cubicBezTo>
                  <a:cubicBezTo>
                    <a:pt x="3176" y="97"/>
                    <a:pt x="3178" y="110"/>
                    <a:pt x="3180" y="122"/>
                  </a:cubicBezTo>
                  <a:cubicBezTo>
                    <a:pt x="3179" y="127"/>
                    <a:pt x="3178" y="132"/>
                    <a:pt x="3177" y="136"/>
                  </a:cubicBezTo>
                  <a:cubicBezTo>
                    <a:pt x="3176" y="134"/>
                    <a:pt x="3176" y="133"/>
                    <a:pt x="3175" y="131"/>
                  </a:cubicBezTo>
                  <a:cubicBezTo>
                    <a:pt x="3175" y="117"/>
                    <a:pt x="3174" y="102"/>
                    <a:pt x="3172" y="87"/>
                  </a:cubicBezTo>
                  <a:cubicBezTo>
                    <a:pt x="3172" y="87"/>
                    <a:pt x="3172" y="88"/>
                    <a:pt x="3172" y="88"/>
                  </a:cubicBezTo>
                  <a:cubicBezTo>
                    <a:pt x="3172" y="88"/>
                    <a:pt x="3172" y="87"/>
                    <a:pt x="3172" y="87"/>
                  </a:cubicBezTo>
                  <a:cubicBezTo>
                    <a:pt x="3171" y="82"/>
                    <a:pt x="3171" y="78"/>
                    <a:pt x="3170" y="73"/>
                  </a:cubicBezTo>
                  <a:cubicBezTo>
                    <a:pt x="3177" y="81"/>
                    <a:pt x="3181" y="91"/>
                    <a:pt x="3184" y="101"/>
                  </a:cubicBezTo>
                  <a:cubicBezTo>
                    <a:pt x="3183" y="105"/>
                    <a:pt x="3182" y="109"/>
                    <a:pt x="3181" y="114"/>
                  </a:cubicBezTo>
                  <a:close/>
                  <a:moveTo>
                    <a:pt x="3188" y="139"/>
                  </a:moveTo>
                  <a:cubicBezTo>
                    <a:pt x="3187" y="137"/>
                    <a:pt x="3187" y="136"/>
                    <a:pt x="3187" y="135"/>
                  </a:cubicBezTo>
                  <a:cubicBezTo>
                    <a:pt x="3187" y="124"/>
                    <a:pt x="3183" y="112"/>
                    <a:pt x="3184" y="101"/>
                  </a:cubicBezTo>
                  <a:cubicBezTo>
                    <a:pt x="3187" y="110"/>
                    <a:pt x="3189" y="119"/>
                    <a:pt x="3190" y="128"/>
                  </a:cubicBezTo>
                  <a:cubicBezTo>
                    <a:pt x="3189" y="132"/>
                    <a:pt x="3188" y="135"/>
                    <a:pt x="3188" y="139"/>
                  </a:cubicBezTo>
                  <a:close/>
                  <a:moveTo>
                    <a:pt x="3203" y="136"/>
                  </a:moveTo>
                  <a:cubicBezTo>
                    <a:pt x="3203" y="135"/>
                    <a:pt x="3202" y="134"/>
                    <a:pt x="3202" y="133"/>
                  </a:cubicBezTo>
                  <a:cubicBezTo>
                    <a:pt x="3201" y="131"/>
                    <a:pt x="3201" y="129"/>
                    <a:pt x="3200" y="128"/>
                  </a:cubicBezTo>
                  <a:cubicBezTo>
                    <a:pt x="3200" y="127"/>
                    <a:pt x="3200" y="127"/>
                    <a:pt x="3200" y="127"/>
                  </a:cubicBezTo>
                  <a:cubicBezTo>
                    <a:pt x="3201" y="129"/>
                    <a:pt x="3201" y="131"/>
                    <a:pt x="3202" y="133"/>
                  </a:cubicBezTo>
                  <a:cubicBezTo>
                    <a:pt x="3202" y="134"/>
                    <a:pt x="3203" y="135"/>
                    <a:pt x="3203" y="136"/>
                  </a:cubicBezTo>
                  <a:cubicBezTo>
                    <a:pt x="3203" y="136"/>
                    <a:pt x="3203" y="136"/>
                    <a:pt x="3203" y="136"/>
                  </a:cubicBezTo>
                  <a:close/>
                  <a:moveTo>
                    <a:pt x="3204" y="133"/>
                  </a:moveTo>
                  <a:cubicBezTo>
                    <a:pt x="3203" y="129"/>
                    <a:pt x="3202" y="125"/>
                    <a:pt x="3200" y="120"/>
                  </a:cubicBezTo>
                  <a:cubicBezTo>
                    <a:pt x="3200" y="119"/>
                    <a:pt x="3200" y="117"/>
                    <a:pt x="3200" y="115"/>
                  </a:cubicBezTo>
                  <a:cubicBezTo>
                    <a:pt x="3200" y="112"/>
                    <a:pt x="3200" y="109"/>
                    <a:pt x="3201" y="105"/>
                  </a:cubicBezTo>
                  <a:cubicBezTo>
                    <a:pt x="3203" y="112"/>
                    <a:pt x="3204" y="119"/>
                    <a:pt x="3206" y="126"/>
                  </a:cubicBezTo>
                  <a:cubicBezTo>
                    <a:pt x="3205" y="128"/>
                    <a:pt x="3205" y="130"/>
                    <a:pt x="3204" y="133"/>
                  </a:cubicBezTo>
                  <a:close/>
                  <a:moveTo>
                    <a:pt x="3218" y="139"/>
                  </a:moveTo>
                  <a:cubicBezTo>
                    <a:pt x="3218" y="139"/>
                    <a:pt x="3218" y="139"/>
                    <a:pt x="3218" y="139"/>
                  </a:cubicBezTo>
                  <a:cubicBezTo>
                    <a:pt x="3218" y="137"/>
                    <a:pt x="3218" y="135"/>
                    <a:pt x="3218" y="133"/>
                  </a:cubicBezTo>
                  <a:cubicBezTo>
                    <a:pt x="3218" y="134"/>
                    <a:pt x="3218" y="134"/>
                    <a:pt x="3218" y="135"/>
                  </a:cubicBezTo>
                  <a:cubicBezTo>
                    <a:pt x="3218" y="136"/>
                    <a:pt x="3218" y="138"/>
                    <a:pt x="3218" y="139"/>
                  </a:cubicBezTo>
                  <a:close/>
                  <a:moveTo>
                    <a:pt x="3239" y="150"/>
                  </a:moveTo>
                  <a:cubicBezTo>
                    <a:pt x="3238" y="148"/>
                    <a:pt x="3237" y="147"/>
                    <a:pt x="3237" y="146"/>
                  </a:cubicBezTo>
                  <a:cubicBezTo>
                    <a:pt x="3236" y="131"/>
                    <a:pt x="3232" y="116"/>
                    <a:pt x="3230" y="101"/>
                  </a:cubicBezTo>
                  <a:cubicBezTo>
                    <a:pt x="3235" y="115"/>
                    <a:pt x="3237" y="132"/>
                    <a:pt x="3239" y="146"/>
                  </a:cubicBezTo>
                  <a:cubicBezTo>
                    <a:pt x="3239" y="147"/>
                    <a:pt x="3239" y="148"/>
                    <a:pt x="3239" y="150"/>
                  </a:cubicBezTo>
                  <a:close/>
                  <a:moveTo>
                    <a:pt x="3243" y="143"/>
                  </a:moveTo>
                  <a:cubicBezTo>
                    <a:pt x="3243" y="142"/>
                    <a:pt x="3243" y="141"/>
                    <a:pt x="3243" y="140"/>
                  </a:cubicBezTo>
                  <a:cubicBezTo>
                    <a:pt x="3243" y="139"/>
                    <a:pt x="3243" y="139"/>
                    <a:pt x="3243" y="139"/>
                  </a:cubicBezTo>
                  <a:cubicBezTo>
                    <a:pt x="3243" y="140"/>
                    <a:pt x="3243" y="141"/>
                    <a:pt x="3243" y="142"/>
                  </a:cubicBezTo>
                  <a:cubicBezTo>
                    <a:pt x="3243" y="142"/>
                    <a:pt x="3243" y="143"/>
                    <a:pt x="3243" y="143"/>
                  </a:cubicBezTo>
                  <a:close/>
                  <a:moveTo>
                    <a:pt x="3256" y="139"/>
                  </a:moveTo>
                  <a:cubicBezTo>
                    <a:pt x="3255" y="142"/>
                    <a:pt x="3254" y="145"/>
                    <a:pt x="3253" y="147"/>
                  </a:cubicBezTo>
                  <a:cubicBezTo>
                    <a:pt x="3253" y="146"/>
                    <a:pt x="3252" y="145"/>
                    <a:pt x="3252" y="144"/>
                  </a:cubicBezTo>
                  <a:cubicBezTo>
                    <a:pt x="3254" y="132"/>
                    <a:pt x="3254" y="120"/>
                    <a:pt x="3256" y="108"/>
                  </a:cubicBezTo>
                  <a:cubicBezTo>
                    <a:pt x="3257" y="104"/>
                    <a:pt x="3257" y="100"/>
                    <a:pt x="3259" y="97"/>
                  </a:cubicBezTo>
                  <a:cubicBezTo>
                    <a:pt x="3260" y="100"/>
                    <a:pt x="3261" y="103"/>
                    <a:pt x="3262" y="107"/>
                  </a:cubicBezTo>
                  <a:cubicBezTo>
                    <a:pt x="3261" y="112"/>
                    <a:pt x="3261" y="117"/>
                    <a:pt x="3260" y="122"/>
                  </a:cubicBezTo>
                  <a:cubicBezTo>
                    <a:pt x="3258" y="116"/>
                    <a:pt x="3257" y="111"/>
                    <a:pt x="3256" y="108"/>
                  </a:cubicBezTo>
                  <a:cubicBezTo>
                    <a:pt x="3258" y="116"/>
                    <a:pt x="3257" y="128"/>
                    <a:pt x="3256" y="139"/>
                  </a:cubicBezTo>
                  <a:close/>
                  <a:moveTo>
                    <a:pt x="3264" y="134"/>
                  </a:moveTo>
                  <a:cubicBezTo>
                    <a:pt x="3263" y="132"/>
                    <a:pt x="3262" y="130"/>
                    <a:pt x="3262" y="128"/>
                  </a:cubicBezTo>
                  <a:cubicBezTo>
                    <a:pt x="3262" y="121"/>
                    <a:pt x="3262" y="114"/>
                    <a:pt x="3262" y="107"/>
                  </a:cubicBezTo>
                  <a:cubicBezTo>
                    <a:pt x="3264" y="113"/>
                    <a:pt x="3265" y="118"/>
                    <a:pt x="3266" y="124"/>
                  </a:cubicBezTo>
                  <a:cubicBezTo>
                    <a:pt x="3265" y="128"/>
                    <a:pt x="3264" y="131"/>
                    <a:pt x="3264" y="134"/>
                  </a:cubicBezTo>
                  <a:close/>
                  <a:moveTo>
                    <a:pt x="3268" y="118"/>
                  </a:moveTo>
                  <a:cubicBezTo>
                    <a:pt x="3266" y="114"/>
                    <a:pt x="3264" y="109"/>
                    <a:pt x="3262" y="105"/>
                  </a:cubicBezTo>
                  <a:cubicBezTo>
                    <a:pt x="3263" y="102"/>
                    <a:pt x="3263" y="99"/>
                    <a:pt x="3264" y="96"/>
                  </a:cubicBezTo>
                  <a:cubicBezTo>
                    <a:pt x="3263" y="99"/>
                    <a:pt x="3263" y="102"/>
                    <a:pt x="3262" y="105"/>
                  </a:cubicBezTo>
                  <a:cubicBezTo>
                    <a:pt x="3261" y="102"/>
                    <a:pt x="3260" y="99"/>
                    <a:pt x="3259" y="96"/>
                  </a:cubicBezTo>
                  <a:cubicBezTo>
                    <a:pt x="3259" y="94"/>
                    <a:pt x="3260" y="91"/>
                    <a:pt x="3261" y="89"/>
                  </a:cubicBezTo>
                  <a:cubicBezTo>
                    <a:pt x="3265" y="95"/>
                    <a:pt x="3268" y="102"/>
                    <a:pt x="3270" y="109"/>
                  </a:cubicBezTo>
                  <a:cubicBezTo>
                    <a:pt x="3270" y="112"/>
                    <a:pt x="3269" y="115"/>
                    <a:pt x="3268" y="118"/>
                  </a:cubicBezTo>
                  <a:close/>
                  <a:moveTo>
                    <a:pt x="3271" y="151"/>
                  </a:moveTo>
                  <a:cubicBezTo>
                    <a:pt x="3271" y="151"/>
                    <a:pt x="3271" y="151"/>
                    <a:pt x="3270" y="151"/>
                  </a:cubicBezTo>
                  <a:cubicBezTo>
                    <a:pt x="3271" y="150"/>
                    <a:pt x="3271" y="148"/>
                    <a:pt x="3271" y="147"/>
                  </a:cubicBezTo>
                  <a:cubicBezTo>
                    <a:pt x="3271" y="147"/>
                    <a:pt x="3271" y="148"/>
                    <a:pt x="3271" y="148"/>
                  </a:cubicBezTo>
                  <a:cubicBezTo>
                    <a:pt x="3271" y="149"/>
                    <a:pt x="3271" y="150"/>
                    <a:pt x="3271" y="151"/>
                  </a:cubicBezTo>
                  <a:close/>
                  <a:moveTo>
                    <a:pt x="3275" y="136"/>
                  </a:moveTo>
                  <a:cubicBezTo>
                    <a:pt x="3274" y="134"/>
                    <a:pt x="3273" y="132"/>
                    <a:pt x="3273" y="130"/>
                  </a:cubicBezTo>
                  <a:cubicBezTo>
                    <a:pt x="3273" y="127"/>
                    <a:pt x="3273" y="123"/>
                    <a:pt x="3274" y="120"/>
                  </a:cubicBezTo>
                  <a:cubicBezTo>
                    <a:pt x="3275" y="123"/>
                    <a:pt x="3276" y="127"/>
                    <a:pt x="3276" y="130"/>
                  </a:cubicBezTo>
                  <a:cubicBezTo>
                    <a:pt x="3276" y="132"/>
                    <a:pt x="3275" y="134"/>
                    <a:pt x="3275" y="136"/>
                  </a:cubicBezTo>
                  <a:close/>
                  <a:moveTo>
                    <a:pt x="3281" y="150"/>
                  </a:moveTo>
                  <a:cubicBezTo>
                    <a:pt x="3281" y="149"/>
                    <a:pt x="3280" y="147"/>
                    <a:pt x="3279" y="146"/>
                  </a:cubicBezTo>
                  <a:cubicBezTo>
                    <a:pt x="3280" y="145"/>
                    <a:pt x="3280" y="145"/>
                    <a:pt x="3280" y="144"/>
                  </a:cubicBezTo>
                  <a:cubicBezTo>
                    <a:pt x="3281" y="146"/>
                    <a:pt x="3281" y="147"/>
                    <a:pt x="3282" y="149"/>
                  </a:cubicBezTo>
                  <a:cubicBezTo>
                    <a:pt x="3281" y="149"/>
                    <a:pt x="3281" y="149"/>
                    <a:pt x="3281" y="150"/>
                  </a:cubicBezTo>
                  <a:close/>
                  <a:moveTo>
                    <a:pt x="3279" y="122"/>
                  </a:moveTo>
                  <a:cubicBezTo>
                    <a:pt x="3278" y="118"/>
                    <a:pt x="3276" y="115"/>
                    <a:pt x="3275" y="111"/>
                  </a:cubicBezTo>
                  <a:cubicBezTo>
                    <a:pt x="3276" y="101"/>
                    <a:pt x="3278" y="90"/>
                    <a:pt x="3282" y="81"/>
                  </a:cubicBezTo>
                  <a:cubicBezTo>
                    <a:pt x="3285" y="86"/>
                    <a:pt x="3288" y="91"/>
                    <a:pt x="3290" y="97"/>
                  </a:cubicBezTo>
                  <a:cubicBezTo>
                    <a:pt x="3288" y="101"/>
                    <a:pt x="3286" y="105"/>
                    <a:pt x="3284" y="109"/>
                  </a:cubicBezTo>
                  <a:cubicBezTo>
                    <a:pt x="3282" y="102"/>
                    <a:pt x="3281" y="96"/>
                    <a:pt x="3279" y="91"/>
                  </a:cubicBezTo>
                  <a:cubicBezTo>
                    <a:pt x="3280" y="99"/>
                    <a:pt x="3281" y="106"/>
                    <a:pt x="3282" y="114"/>
                  </a:cubicBezTo>
                  <a:cubicBezTo>
                    <a:pt x="3281" y="117"/>
                    <a:pt x="3280" y="119"/>
                    <a:pt x="3279" y="122"/>
                  </a:cubicBezTo>
                  <a:close/>
                  <a:moveTo>
                    <a:pt x="3286" y="141"/>
                  </a:moveTo>
                  <a:cubicBezTo>
                    <a:pt x="3285" y="138"/>
                    <a:pt x="3284" y="135"/>
                    <a:pt x="3283" y="131"/>
                  </a:cubicBezTo>
                  <a:cubicBezTo>
                    <a:pt x="3283" y="129"/>
                    <a:pt x="3284" y="127"/>
                    <a:pt x="3284" y="124"/>
                  </a:cubicBezTo>
                  <a:cubicBezTo>
                    <a:pt x="3285" y="130"/>
                    <a:pt x="3286" y="135"/>
                    <a:pt x="3287" y="140"/>
                  </a:cubicBezTo>
                  <a:cubicBezTo>
                    <a:pt x="3287" y="140"/>
                    <a:pt x="3287" y="141"/>
                    <a:pt x="3286" y="141"/>
                  </a:cubicBezTo>
                  <a:close/>
                  <a:moveTo>
                    <a:pt x="3289" y="150"/>
                  </a:moveTo>
                  <a:cubicBezTo>
                    <a:pt x="3289" y="150"/>
                    <a:pt x="3289" y="149"/>
                    <a:pt x="3289" y="149"/>
                  </a:cubicBezTo>
                  <a:cubicBezTo>
                    <a:pt x="3289" y="149"/>
                    <a:pt x="3289" y="149"/>
                    <a:pt x="3289" y="149"/>
                  </a:cubicBezTo>
                  <a:cubicBezTo>
                    <a:pt x="3289" y="149"/>
                    <a:pt x="3289" y="150"/>
                    <a:pt x="3289" y="150"/>
                  </a:cubicBezTo>
                  <a:cubicBezTo>
                    <a:pt x="3289" y="150"/>
                    <a:pt x="3289" y="150"/>
                    <a:pt x="3289" y="150"/>
                  </a:cubicBezTo>
                  <a:close/>
                  <a:moveTo>
                    <a:pt x="3286" y="114"/>
                  </a:moveTo>
                  <a:cubicBezTo>
                    <a:pt x="3287" y="108"/>
                    <a:pt x="3288" y="103"/>
                    <a:pt x="3290" y="97"/>
                  </a:cubicBezTo>
                  <a:cubicBezTo>
                    <a:pt x="3292" y="103"/>
                    <a:pt x="3294" y="110"/>
                    <a:pt x="3296" y="116"/>
                  </a:cubicBezTo>
                  <a:cubicBezTo>
                    <a:pt x="3294" y="121"/>
                    <a:pt x="3293" y="126"/>
                    <a:pt x="3291" y="131"/>
                  </a:cubicBezTo>
                  <a:cubicBezTo>
                    <a:pt x="3289" y="126"/>
                    <a:pt x="3287" y="120"/>
                    <a:pt x="3286" y="114"/>
                  </a:cubicBezTo>
                  <a:close/>
                  <a:moveTo>
                    <a:pt x="3293" y="139"/>
                  </a:moveTo>
                  <a:cubicBezTo>
                    <a:pt x="3295" y="134"/>
                    <a:pt x="3296" y="129"/>
                    <a:pt x="3297" y="124"/>
                  </a:cubicBezTo>
                  <a:cubicBezTo>
                    <a:pt x="3298" y="125"/>
                    <a:pt x="3298" y="126"/>
                    <a:pt x="3298" y="128"/>
                  </a:cubicBezTo>
                  <a:cubicBezTo>
                    <a:pt x="3297" y="132"/>
                    <a:pt x="3295" y="136"/>
                    <a:pt x="3294" y="141"/>
                  </a:cubicBezTo>
                  <a:cubicBezTo>
                    <a:pt x="3294" y="140"/>
                    <a:pt x="3293" y="139"/>
                    <a:pt x="3293" y="139"/>
                  </a:cubicBezTo>
                  <a:close/>
                  <a:moveTo>
                    <a:pt x="3298" y="150"/>
                  </a:moveTo>
                  <a:cubicBezTo>
                    <a:pt x="3298" y="150"/>
                    <a:pt x="3297" y="149"/>
                    <a:pt x="3297" y="149"/>
                  </a:cubicBezTo>
                  <a:cubicBezTo>
                    <a:pt x="3298" y="147"/>
                    <a:pt x="3299" y="144"/>
                    <a:pt x="3300" y="141"/>
                  </a:cubicBezTo>
                  <a:cubicBezTo>
                    <a:pt x="3300" y="143"/>
                    <a:pt x="3301" y="144"/>
                    <a:pt x="3301" y="145"/>
                  </a:cubicBezTo>
                  <a:cubicBezTo>
                    <a:pt x="3300" y="147"/>
                    <a:pt x="3299" y="149"/>
                    <a:pt x="3298" y="150"/>
                  </a:cubicBezTo>
                  <a:close/>
                  <a:moveTo>
                    <a:pt x="3309" y="126"/>
                  </a:moveTo>
                  <a:cubicBezTo>
                    <a:pt x="3308" y="123"/>
                    <a:pt x="3307" y="120"/>
                    <a:pt x="3306" y="117"/>
                  </a:cubicBezTo>
                  <a:cubicBezTo>
                    <a:pt x="3307" y="116"/>
                    <a:pt x="3307" y="115"/>
                    <a:pt x="3307" y="114"/>
                  </a:cubicBezTo>
                  <a:cubicBezTo>
                    <a:pt x="3307" y="116"/>
                    <a:pt x="3308" y="117"/>
                    <a:pt x="3308" y="119"/>
                  </a:cubicBezTo>
                  <a:cubicBezTo>
                    <a:pt x="3309" y="121"/>
                    <a:pt x="3309" y="123"/>
                    <a:pt x="3310" y="125"/>
                  </a:cubicBezTo>
                  <a:cubicBezTo>
                    <a:pt x="3309" y="125"/>
                    <a:pt x="3309" y="125"/>
                    <a:pt x="3309" y="126"/>
                  </a:cubicBezTo>
                  <a:close/>
                  <a:moveTo>
                    <a:pt x="3314" y="142"/>
                  </a:moveTo>
                  <a:cubicBezTo>
                    <a:pt x="3313" y="139"/>
                    <a:pt x="3313" y="136"/>
                    <a:pt x="3312" y="133"/>
                  </a:cubicBezTo>
                  <a:cubicBezTo>
                    <a:pt x="3312" y="133"/>
                    <a:pt x="3312" y="133"/>
                    <a:pt x="3312" y="133"/>
                  </a:cubicBezTo>
                  <a:cubicBezTo>
                    <a:pt x="3313" y="136"/>
                    <a:pt x="3313" y="138"/>
                    <a:pt x="3314" y="141"/>
                  </a:cubicBezTo>
                  <a:cubicBezTo>
                    <a:pt x="3314" y="141"/>
                    <a:pt x="3314" y="141"/>
                    <a:pt x="3314" y="142"/>
                  </a:cubicBezTo>
                  <a:close/>
                  <a:moveTo>
                    <a:pt x="3316" y="148"/>
                  </a:move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ubicBezTo>
                    <a:pt x="3316" y="148"/>
                    <a:pt x="3316" y="148"/>
                    <a:pt x="3316" y="148"/>
                  </a:cubicBezTo>
                  <a:close/>
                  <a:moveTo>
                    <a:pt x="3319" y="141"/>
                  </a:moveTo>
                  <a:cubicBezTo>
                    <a:pt x="3319" y="141"/>
                    <a:pt x="3319" y="141"/>
                    <a:pt x="3319" y="141"/>
                  </a:cubicBezTo>
                  <a:cubicBezTo>
                    <a:pt x="3320" y="137"/>
                    <a:pt x="3321" y="133"/>
                    <a:pt x="3323" y="129"/>
                  </a:cubicBezTo>
                  <a:cubicBezTo>
                    <a:pt x="3323" y="129"/>
                    <a:pt x="3323" y="130"/>
                    <a:pt x="3323" y="131"/>
                  </a:cubicBezTo>
                  <a:cubicBezTo>
                    <a:pt x="3321" y="135"/>
                    <a:pt x="3320" y="138"/>
                    <a:pt x="3319" y="141"/>
                  </a:cubicBezTo>
                  <a:close/>
                  <a:moveTo>
                    <a:pt x="3326" y="122"/>
                  </a:moveTo>
                  <a:cubicBezTo>
                    <a:pt x="3326" y="121"/>
                    <a:pt x="3325" y="120"/>
                    <a:pt x="3325" y="119"/>
                  </a:cubicBezTo>
                  <a:cubicBezTo>
                    <a:pt x="3326" y="117"/>
                    <a:pt x="3326" y="114"/>
                    <a:pt x="3327" y="111"/>
                  </a:cubicBezTo>
                  <a:cubicBezTo>
                    <a:pt x="3328" y="113"/>
                    <a:pt x="3328" y="115"/>
                    <a:pt x="3329" y="117"/>
                  </a:cubicBezTo>
                  <a:cubicBezTo>
                    <a:pt x="3328" y="119"/>
                    <a:pt x="3327" y="121"/>
                    <a:pt x="3326" y="122"/>
                  </a:cubicBezTo>
                  <a:close/>
                  <a:moveTo>
                    <a:pt x="3336" y="147"/>
                  </a:moveTo>
                  <a:cubicBezTo>
                    <a:pt x="3335" y="145"/>
                    <a:pt x="3335" y="144"/>
                    <a:pt x="3334" y="142"/>
                  </a:cubicBezTo>
                  <a:cubicBezTo>
                    <a:pt x="3334" y="140"/>
                    <a:pt x="3333" y="138"/>
                    <a:pt x="3332" y="136"/>
                  </a:cubicBezTo>
                  <a:cubicBezTo>
                    <a:pt x="3332" y="136"/>
                    <a:pt x="3332" y="135"/>
                    <a:pt x="3332" y="134"/>
                  </a:cubicBezTo>
                  <a:cubicBezTo>
                    <a:pt x="3333" y="137"/>
                    <a:pt x="3334" y="139"/>
                    <a:pt x="3334" y="142"/>
                  </a:cubicBezTo>
                  <a:cubicBezTo>
                    <a:pt x="3335" y="144"/>
                    <a:pt x="3335" y="145"/>
                    <a:pt x="3336" y="147"/>
                  </a:cubicBezTo>
                  <a:close/>
                  <a:moveTo>
                    <a:pt x="3339" y="138"/>
                  </a:moveTo>
                  <a:cubicBezTo>
                    <a:pt x="3337" y="133"/>
                    <a:pt x="3336" y="128"/>
                    <a:pt x="3334" y="124"/>
                  </a:cubicBezTo>
                  <a:cubicBezTo>
                    <a:pt x="3334" y="121"/>
                    <a:pt x="3335" y="118"/>
                    <a:pt x="3335" y="116"/>
                  </a:cubicBezTo>
                  <a:cubicBezTo>
                    <a:pt x="3336" y="123"/>
                    <a:pt x="3338" y="129"/>
                    <a:pt x="3340" y="136"/>
                  </a:cubicBezTo>
                  <a:cubicBezTo>
                    <a:pt x="3340" y="137"/>
                    <a:pt x="3339" y="137"/>
                    <a:pt x="3339" y="138"/>
                  </a:cubicBezTo>
                  <a:close/>
                  <a:moveTo>
                    <a:pt x="3336" y="109"/>
                  </a:moveTo>
                  <a:cubicBezTo>
                    <a:pt x="3337" y="103"/>
                    <a:pt x="3339" y="97"/>
                    <a:pt x="3341" y="91"/>
                  </a:cubicBezTo>
                  <a:cubicBezTo>
                    <a:pt x="3343" y="96"/>
                    <a:pt x="3345" y="101"/>
                    <a:pt x="3347" y="106"/>
                  </a:cubicBezTo>
                  <a:cubicBezTo>
                    <a:pt x="3345" y="112"/>
                    <a:pt x="3344" y="120"/>
                    <a:pt x="3342" y="127"/>
                  </a:cubicBezTo>
                  <a:cubicBezTo>
                    <a:pt x="3340" y="121"/>
                    <a:pt x="3338" y="115"/>
                    <a:pt x="3336" y="109"/>
                  </a:cubicBezTo>
                  <a:close/>
                  <a:moveTo>
                    <a:pt x="3343" y="148"/>
                  </a:move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7"/>
                    <a:pt x="3343" y="147"/>
                  </a:cubicBezTo>
                  <a:cubicBezTo>
                    <a:pt x="3343" y="147"/>
                    <a:pt x="3343" y="148"/>
                    <a:pt x="3343" y="148"/>
                  </a:cubicBezTo>
                  <a:close/>
                  <a:moveTo>
                    <a:pt x="3345" y="136"/>
                  </a:moveTo>
                  <a:cubicBezTo>
                    <a:pt x="3347" y="127"/>
                    <a:pt x="3347" y="118"/>
                    <a:pt x="3347" y="109"/>
                  </a:cubicBezTo>
                  <a:cubicBezTo>
                    <a:pt x="3349" y="115"/>
                    <a:pt x="3350" y="121"/>
                    <a:pt x="3351" y="127"/>
                  </a:cubicBezTo>
                  <a:cubicBezTo>
                    <a:pt x="3349" y="131"/>
                    <a:pt x="3348" y="135"/>
                    <a:pt x="3347" y="139"/>
                  </a:cubicBezTo>
                  <a:cubicBezTo>
                    <a:pt x="3346" y="138"/>
                    <a:pt x="3346" y="137"/>
                    <a:pt x="3345" y="136"/>
                  </a:cubicBezTo>
                  <a:close/>
                  <a:moveTo>
                    <a:pt x="3352" y="148"/>
                  </a:moveTo>
                  <a:cubicBezTo>
                    <a:pt x="3351" y="148"/>
                    <a:pt x="3351" y="147"/>
                    <a:pt x="3350" y="146"/>
                  </a:cubicBezTo>
                  <a:cubicBezTo>
                    <a:pt x="3351" y="143"/>
                    <a:pt x="3352" y="140"/>
                    <a:pt x="3352" y="137"/>
                  </a:cubicBezTo>
                  <a:cubicBezTo>
                    <a:pt x="3353" y="140"/>
                    <a:pt x="3353" y="142"/>
                    <a:pt x="3354" y="144"/>
                  </a:cubicBezTo>
                  <a:cubicBezTo>
                    <a:pt x="3353" y="146"/>
                    <a:pt x="3352" y="147"/>
                    <a:pt x="3352" y="148"/>
                  </a:cubicBezTo>
                  <a:close/>
                  <a:moveTo>
                    <a:pt x="3347" y="103"/>
                  </a:moveTo>
                  <a:cubicBezTo>
                    <a:pt x="3347" y="102"/>
                    <a:pt x="3347" y="102"/>
                    <a:pt x="3347" y="102"/>
                  </a:cubicBezTo>
                  <a:cubicBezTo>
                    <a:pt x="3347" y="102"/>
                    <a:pt x="3347" y="103"/>
                    <a:pt x="3347" y="103"/>
                  </a:cubicBezTo>
                  <a:cubicBezTo>
                    <a:pt x="3345" y="98"/>
                    <a:pt x="3343" y="94"/>
                    <a:pt x="3341" y="91"/>
                  </a:cubicBezTo>
                  <a:cubicBezTo>
                    <a:pt x="3342" y="87"/>
                    <a:pt x="3344" y="83"/>
                    <a:pt x="3346" y="80"/>
                  </a:cubicBezTo>
                  <a:cubicBezTo>
                    <a:pt x="3352" y="89"/>
                    <a:pt x="3356" y="99"/>
                    <a:pt x="3358" y="109"/>
                  </a:cubicBezTo>
                  <a:cubicBezTo>
                    <a:pt x="3357" y="112"/>
                    <a:pt x="3355" y="116"/>
                    <a:pt x="3354" y="119"/>
                  </a:cubicBezTo>
                  <a:cubicBezTo>
                    <a:pt x="3352" y="114"/>
                    <a:pt x="3350" y="108"/>
                    <a:pt x="3347" y="103"/>
                  </a:cubicBezTo>
                  <a:close/>
                  <a:moveTo>
                    <a:pt x="3355" y="123"/>
                  </a:moveTo>
                  <a:cubicBezTo>
                    <a:pt x="3356" y="118"/>
                    <a:pt x="3357" y="114"/>
                    <a:pt x="3358" y="110"/>
                  </a:cubicBezTo>
                  <a:cubicBezTo>
                    <a:pt x="3359" y="115"/>
                    <a:pt x="3360" y="120"/>
                    <a:pt x="3361" y="125"/>
                  </a:cubicBezTo>
                  <a:cubicBezTo>
                    <a:pt x="3360" y="128"/>
                    <a:pt x="3359" y="130"/>
                    <a:pt x="3358" y="133"/>
                  </a:cubicBezTo>
                  <a:cubicBezTo>
                    <a:pt x="3357" y="129"/>
                    <a:pt x="3356" y="126"/>
                    <a:pt x="3355" y="123"/>
                  </a:cubicBezTo>
                  <a:close/>
                  <a:moveTo>
                    <a:pt x="3362" y="150"/>
                  </a:moveTo>
                  <a:cubicBezTo>
                    <a:pt x="3362" y="147"/>
                    <a:pt x="3361" y="144"/>
                    <a:pt x="3360" y="140"/>
                  </a:cubicBezTo>
                  <a:cubicBezTo>
                    <a:pt x="3361" y="137"/>
                    <a:pt x="3361" y="135"/>
                    <a:pt x="3361" y="132"/>
                  </a:cubicBezTo>
                  <a:cubicBezTo>
                    <a:pt x="3362" y="137"/>
                    <a:pt x="3362" y="143"/>
                    <a:pt x="3362" y="149"/>
                  </a:cubicBezTo>
                  <a:cubicBezTo>
                    <a:pt x="3362" y="150"/>
                    <a:pt x="3362" y="150"/>
                    <a:pt x="3362" y="150"/>
                  </a:cubicBezTo>
                  <a:close/>
                  <a:moveTo>
                    <a:pt x="3391" y="152"/>
                  </a:moveTo>
                  <a:cubicBezTo>
                    <a:pt x="3391" y="148"/>
                    <a:pt x="3391" y="145"/>
                    <a:pt x="3390" y="141"/>
                  </a:cubicBezTo>
                  <a:cubicBezTo>
                    <a:pt x="3390" y="136"/>
                    <a:pt x="3391" y="131"/>
                    <a:pt x="3391" y="125"/>
                  </a:cubicBezTo>
                  <a:cubicBezTo>
                    <a:pt x="3391" y="134"/>
                    <a:pt x="3391" y="142"/>
                    <a:pt x="3391" y="151"/>
                  </a:cubicBezTo>
                  <a:cubicBezTo>
                    <a:pt x="3391" y="151"/>
                    <a:pt x="3391" y="151"/>
                    <a:pt x="3391" y="152"/>
                  </a:cubicBezTo>
                  <a:close/>
                  <a:moveTo>
                    <a:pt x="3457" y="128"/>
                  </a:moveTo>
                  <a:cubicBezTo>
                    <a:pt x="3457" y="132"/>
                    <a:pt x="3456" y="136"/>
                    <a:pt x="3455" y="140"/>
                  </a:cubicBezTo>
                  <a:cubicBezTo>
                    <a:pt x="3455" y="136"/>
                    <a:pt x="3454" y="133"/>
                    <a:pt x="3453" y="129"/>
                  </a:cubicBezTo>
                  <a:cubicBezTo>
                    <a:pt x="3453" y="126"/>
                    <a:pt x="3453" y="122"/>
                    <a:pt x="3453" y="119"/>
                  </a:cubicBezTo>
                  <a:cubicBezTo>
                    <a:pt x="3453" y="112"/>
                    <a:pt x="3454" y="104"/>
                    <a:pt x="3455" y="97"/>
                  </a:cubicBezTo>
                  <a:cubicBezTo>
                    <a:pt x="3456" y="102"/>
                    <a:pt x="3457" y="107"/>
                    <a:pt x="3457" y="111"/>
                  </a:cubicBezTo>
                  <a:cubicBezTo>
                    <a:pt x="3457" y="122"/>
                    <a:pt x="3457" y="122"/>
                    <a:pt x="3457" y="122"/>
                  </a:cubicBezTo>
                  <a:cubicBezTo>
                    <a:pt x="3457" y="124"/>
                    <a:pt x="3457" y="126"/>
                    <a:pt x="3457" y="128"/>
                  </a:cubicBezTo>
                  <a:close/>
                  <a:moveTo>
                    <a:pt x="3465" y="151"/>
                  </a:moveTo>
                  <a:cubicBezTo>
                    <a:pt x="3465" y="152"/>
                    <a:pt x="3465" y="152"/>
                    <a:pt x="3465" y="152"/>
                  </a:cubicBezTo>
                  <a:cubicBezTo>
                    <a:pt x="3465" y="152"/>
                    <a:pt x="3465" y="152"/>
                    <a:pt x="3465" y="152"/>
                  </a:cubicBezTo>
                  <a:cubicBezTo>
                    <a:pt x="3465" y="136"/>
                    <a:pt x="3465" y="123"/>
                    <a:pt x="3464" y="109"/>
                  </a:cubicBezTo>
                  <a:cubicBezTo>
                    <a:pt x="3464" y="104"/>
                    <a:pt x="3465" y="99"/>
                    <a:pt x="3466" y="93"/>
                  </a:cubicBezTo>
                  <a:cubicBezTo>
                    <a:pt x="3467" y="99"/>
                    <a:pt x="3467" y="105"/>
                    <a:pt x="3467" y="110"/>
                  </a:cubicBezTo>
                  <a:cubicBezTo>
                    <a:pt x="3467" y="124"/>
                    <a:pt x="3465" y="138"/>
                    <a:pt x="3465" y="151"/>
                  </a:cubicBezTo>
                  <a:close/>
                  <a:moveTo>
                    <a:pt x="3492" y="110"/>
                  </a:moveTo>
                  <a:cubicBezTo>
                    <a:pt x="3492" y="109"/>
                    <a:pt x="3492" y="107"/>
                    <a:pt x="3492" y="106"/>
                  </a:cubicBezTo>
                  <a:cubicBezTo>
                    <a:pt x="3492" y="110"/>
                    <a:pt x="3493" y="113"/>
                    <a:pt x="3492" y="116"/>
                  </a:cubicBezTo>
                  <a:cubicBezTo>
                    <a:pt x="3492" y="114"/>
                    <a:pt x="3492" y="112"/>
                    <a:pt x="3492" y="110"/>
                  </a:cubicBezTo>
                  <a:close/>
                  <a:moveTo>
                    <a:pt x="3518" y="120"/>
                  </a:moveTo>
                  <a:cubicBezTo>
                    <a:pt x="3516" y="114"/>
                    <a:pt x="3515" y="109"/>
                    <a:pt x="3515" y="104"/>
                  </a:cubicBezTo>
                  <a:cubicBezTo>
                    <a:pt x="3515" y="102"/>
                    <a:pt x="3515" y="98"/>
                    <a:pt x="3517" y="93"/>
                  </a:cubicBezTo>
                  <a:cubicBezTo>
                    <a:pt x="3518" y="100"/>
                    <a:pt x="3518" y="107"/>
                    <a:pt x="3518" y="112"/>
                  </a:cubicBezTo>
                  <a:cubicBezTo>
                    <a:pt x="3518" y="115"/>
                    <a:pt x="3518" y="117"/>
                    <a:pt x="3518" y="120"/>
                  </a:cubicBezTo>
                  <a:close/>
                  <a:moveTo>
                    <a:pt x="3528" y="145"/>
                  </a:moveTo>
                  <a:cubicBezTo>
                    <a:pt x="3528" y="145"/>
                    <a:pt x="3528" y="144"/>
                    <a:pt x="3528" y="144"/>
                  </a:cubicBezTo>
                  <a:cubicBezTo>
                    <a:pt x="3528" y="139"/>
                    <a:pt x="3528" y="134"/>
                    <a:pt x="3528" y="129"/>
                  </a:cubicBezTo>
                  <a:cubicBezTo>
                    <a:pt x="3529" y="132"/>
                    <a:pt x="3529" y="134"/>
                    <a:pt x="3529" y="137"/>
                  </a:cubicBezTo>
                  <a:cubicBezTo>
                    <a:pt x="3529" y="140"/>
                    <a:pt x="3528" y="142"/>
                    <a:pt x="3528" y="145"/>
                  </a:cubicBezTo>
                  <a:close/>
                  <a:moveTo>
                    <a:pt x="3539" y="145"/>
                  </a:moveTo>
                  <a:cubicBezTo>
                    <a:pt x="3539" y="144"/>
                    <a:pt x="3538" y="143"/>
                    <a:pt x="3538" y="143"/>
                  </a:cubicBezTo>
                  <a:cubicBezTo>
                    <a:pt x="3538" y="142"/>
                    <a:pt x="3538" y="141"/>
                    <a:pt x="3538" y="140"/>
                  </a:cubicBezTo>
                  <a:cubicBezTo>
                    <a:pt x="3539" y="141"/>
                    <a:pt x="3539" y="142"/>
                    <a:pt x="3539" y="143"/>
                  </a:cubicBezTo>
                  <a:cubicBezTo>
                    <a:pt x="3539" y="143"/>
                    <a:pt x="3539" y="144"/>
                    <a:pt x="3539" y="145"/>
                  </a:cubicBezTo>
                  <a:close/>
                  <a:moveTo>
                    <a:pt x="3540" y="138"/>
                  </a:moveTo>
                  <a:cubicBezTo>
                    <a:pt x="3540" y="136"/>
                    <a:pt x="3539" y="135"/>
                    <a:pt x="3539" y="133"/>
                  </a:cubicBezTo>
                  <a:cubicBezTo>
                    <a:pt x="3539" y="129"/>
                    <a:pt x="3539" y="124"/>
                    <a:pt x="3539" y="119"/>
                  </a:cubicBezTo>
                  <a:cubicBezTo>
                    <a:pt x="3540" y="124"/>
                    <a:pt x="3541" y="129"/>
                    <a:pt x="3542" y="134"/>
                  </a:cubicBezTo>
                  <a:cubicBezTo>
                    <a:pt x="3541" y="135"/>
                    <a:pt x="3541" y="137"/>
                    <a:pt x="3540" y="138"/>
                  </a:cubicBezTo>
                  <a:close/>
                  <a:moveTo>
                    <a:pt x="3545" y="154"/>
                  </a:moveTo>
                  <a:cubicBezTo>
                    <a:pt x="3545" y="153"/>
                    <a:pt x="3545" y="152"/>
                    <a:pt x="3545" y="151"/>
                  </a:cubicBezTo>
                  <a:cubicBezTo>
                    <a:pt x="3545" y="151"/>
                    <a:pt x="3545" y="150"/>
                    <a:pt x="3545" y="150"/>
                  </a:cubicBezTo>
                  <a:cubicBezTo>
                    <a:pt x="3545" y="151"/>
                    <a:pt x="3545" y="152"/>
                    <a:pt x="3545" y="154"/>
                  </a:cubicBezTo>
                  <a:close/>
                  <a:moveTo>
                    <a:pt x="3551" y="139"/>
                  </a:moveTo>
                  <a:cubicBezTo>
                    <a:pt x="3550" y="136"/>
                    <a:pt x="3549" y="134"/>
                    <a:pt x="3548" y="132"/>
                  </a:cubicBezTo>
                  <a:cubicBezTo>
                    <a:pt x="3549" y="129"/>
                    <a:pt x="3550" y="127"/>
                    <a:pt x="3551" y="125"/>
                  </a:cubicBezTo>
                  <a:cubicBezTo>
                    <a:pt x="3551" y="128"/>
                    <a:pt x="3552" y="131"/>
                    <a:pt x="3553" y="134"/>
                  </a:cubicBezTo>
                  <a:cubicBezTo>
                    <a:pt x="3552" y="136"/>
                    <a:pt x="3552" y="137"/>
                    <a:pt x="3551" y="139"/>
                  </a:cubicBezTo>
                  <a:close/>
                  <a:moveTo>
                    <a:pt x="3571" y="114"/>
                  </a:moveTo>
                  <a:cubicBezTo>
                    <a:pt x="3570" y="108"/>
                    <a:pt x="3569" y="101"/>
                    <a:pt x="3569" y="95"/>
                  </a:cubicBezTo>
                  <a:cubicBezTo>
                    <a:pt x="3569" y="88"/>
                    <a:pt x="3570" y="81"/>
                    <a:pt x="3571" y="75"/>
                  </a:cubicBezTo>
                  <a:cubicBezTo>
                    <a:pt x="3573" y="81"/>
                    <a:pt x="3573" y="88"/>
                    <a:pt x="3573" y="95"/>
                  </a:cubicBezTo>
                  <a:cubicBezTo>
                    <a:pt x="3573" y="101"/>
                    <a:pt x="3572" y="108"/>
                    <a:pt x="3571" y="114"/>
                  </a:cubicBezTo>
                  <a:close/>
                  <a:moveTo>
                    <a:pt x="3591" y="139"/>
                  </a:moveTo>
                  <a:cubicBezTo>
                    <a:pt x="3591" y="137"/>
                    <a:pt x="3590" y="136"/>
                    <a:pt x="3590" y="134"/>
                  </a:cubicBezTo>
                  <a:cubicBezTo>
                    <a:pt x="3590" y="131"/>
                    <a:pt x="3591" y="128"/>
                    <a:pt x="3592" y="125"/>
                  </a:cubicBezTo>
                  <a:cubicBezTo>
                    <a:pt x="3592" y="127"/>
                    <a:pt x="3593" y="129"/>
                    <a:pt x="3594" y="132"/>
                  </a:cubicBezTo>
                  <a:cubicBezTo>
                    <a:pt x="3593" y="134"/>
                    <a:pt x="3592" y="136"/>
                    <a:pt x="3591" y="139"/>
                  </a:cubicBezTo>
                  <a:close/>
                  <a:moveTo>
                    <a:pt x="3597" y="154"/>
                  </a:moveTo>
                  <a:cubicBezTo>
                    <a:pt x="3597" y="154"/>
                    <a:pt x="3597" y="154"/>
                    <a:pt x="3597" y="154"/>
                  </a:cubicBezTo>
                  <a:cubicBezTo>
                    <a:pt x="3597" y="152"/>
                    <a:pt x="3597" y="151"/>
                    <a:pt x="3598" y="150"/>
                  </a:cubicBezTo>
                  <a:cubicBezTo>
                    <a:pt x="3598" y="150"/>
                    <a:pt x="3598" y="151"/>
                    <a:pt x="3598" y="151"/>
                  </a:cubicBezTo>
                  <a:cubicBezTo>
                    <a:pt x="3597" y="152"/>
                    <a:pt x="3597" y="153"/>
                    <a:pt x="3597" y="154"/>
                  </a:cubicBezTo>
                  <a:close/>
                  <a:moveTo>
                    <a:pt x="3603" y="119"/>
                  </a:move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20"/>
                  </a:cubicBezTo>
                  <a:cubicBezTo>
                    <a:pt x="3603" y="120"/>
                    <a:pt x="3603" y="120"/>
                    <a:pt x="3603" y="119"/>
                  </a:cubicBezTo>
                  <a:close/>
                  <a:moveTo>
                    <a:pt x="3602" y="138"/>
                  </a:moveTo>
                  <a:cubicBezTo>
                    <a:pt x="3601" y="137"/>
                    <a:pt x="3601" y="135"/>
                    <a:pt x="3601" y="134"/>
                  </a:cubicBezTo>
                  <a:cubicBezTo>
                    <a:pt x="3601" y="134"/>
                    <a:pt x="3601" y="134"/>
                    <a:pt x="3601" y="134"/>
                  </a:cubicBezTo>
                  <a:cubicBezTo>
                    <a:pt x="3601" y="134"/>
                    <a:pt x="3602" y="135"/>
                    <a:pt x="3602" y="137"/>
                  </a:cubicBezTo>
                  <a:cubicBezTo>
                    <a:pt x="3602" y="137"/>
                    <a:pt x="3602" y="138"/>
                    <a:pt x="3602" y="138"/>
                  </a:cubicBezTo>
                  <a:close/>
                  <a:moveTo>
                    <a:pt x="3601" y="133"/>
                  </a:moveTo>
                  <a:cubicBezTo>
                    <a:pt x="3601" y="132"/>
                    <a:pt x="3601" y="131"/>
                    <a:pt x="3601" y="130"/>
                  </a:cubicBezTo>
                  <a:cubicBezTo>
                    <a:pt x="3602" y="131"/>
                    <a:pt x="3603" y="133"/>
                    <a:pt x="3603" y="134"/>
                  </a:cubicBezTo>
                  <a:cubicBezTo>
                    <a:pt x="3603" y="135"/>
                    <a:pt x="3603" y="135"/>
                    <a:pt x="3603" y="136"/>
                  </a:cubicBezTo>
                  <a:cubicBezTo>
                    <a:pt x="3602" y="134"/>
                    <a:pt x="3601" y="133"/>
                    <a:pt x="3601" y="133"/>
                  </a:cubicBezTo>
                  <a:close/>
                  <a:moveTo>
                    <a:pt x="3604" y="145"/>
                  </a:moveTo>
                  <a:cubicBezTo>
                    <a:pt x="3603" y="144"/>
                    <a:pt x="3603" y="143"/>
                    <a:pt x="3603" y="143"/>
                  </a:cubicBezTo>
                  <a:cubicBezTo>
                    <a:pt x="3603" y="142"/>
                    <a:pt x="3604" y="141"/>
                    <a:pt x="3604" y="140"/>
                  </a:cubicBezTo>
                  <a:cubicBezTo>
                    <a:pt x="3604" y="140"/>
                    <a:pt x="3604" y="140"/>
                    <a:pt x="3604" y="140"/>
                  </a:cubicBezTo>
                  <a:cubicBezTo>
                    <a:pt x="3604" y="141"/>
                    <a:pt x="3604" y="142"/>
                    <a:pt x="3604" y="143"/>
                  </a:cubicBezTo>
                  <a:cubicBezTo>
                    <a:pt x="3604" y="143"/>
                    <a:pt x="3604" y="144"/>
                    <a:pt x="3604" y="145"/>
                  </a:cubicBezTo>
                  <a:close/>
                  <a:moveTo>
                    <a:pt x="3614" y="134"/>
                  </a:moveTo>
                  <a:cubicBezTo>
                    <a:pt x="3614" y="134"/>
                    <a:pt x="3614" y="133"/>
                    <a:pt x="3614" y="133"/>
                  </a:cubicBezTo>
                  <a:cubicBezTo>
                    <a:pt x="3614" y="132"/>
                    <a:pt x="3614" y="130"/>
                    <a:pt x="3614" y="129"/>
                  </a:cubicBezTo>
                  <a:cubicBezTo>
                    <a:pt x="3614" y="130"/>
                    <a:pt x="3614" y="132"/>
                    <a:pt x="3614" y="134"/>
                  </a:cubicBezTo>
                  <a:close/>
                  <a:moveTo>
                    <a:pt x="3624" y="120"/>
                  </a:moveTo>
                  <a:cubicBezTo>
                    <a:pt x="3624" y="117"/>
                    <a:pt x="3624" y="115"/>
                    <a:pt x="3624" y="112"/>
                  </a:cubicBezTo>
                  <a:cubicBezTo>
                    <a:pt x="3624" y="111"/>
                    <a:pt x="3624" y="111"/>
                    <a:pt x="3624" y="110"/>
                  </a:cubicBezTo>
                  <a:cubicBezTo>
                    <a:pt x="3624" y="113"/>
                    <a:pt x="3624" y="116"/>
                    <a:pt x="3625" y="119"/>
                  </a:cubicBezTo>
                  <a:cubicBezTo>
                    <a:pt x="3625" y="119"/>
                    <a:pt x="3624" y="120"/>
                    <a:pt x="3624" y="120"/>
                  </a:cubicBezTo>
                  <a:close/>
                  <a:moveTo>
                    <a:pt x="3626" y="115"/>
                  </a:moveTo>
                  <a:cubicBezTo>
                    <a:pt x="3625" y="112"/>
                    <a:pt x="3625" y="108"/>
                    <a:pt x="3624" y="104"/>
                  </a:cubicBezTo>
                  <a:cubicBezTo>
                    <a:pt x="3625" y="101"/>
                    <a:pt x="3625" y="97"/>
                    <a:pt x="3626" y="93"/>
                  </a:cubicBezTo>
                  <a:cubicBezTo>
                    <a:pt x="3627" y="98"/>
                    <a:pt x="3627" y="102"/>
                    <a:pt x="3627" y="104"/>
                  </a:cubicBezTo>
                  <a:cubicBezTo>
                    <a:pt x="3627" y="108"/>
                    <a:pt x="3627" y="111"/>
                    <a:pt x="3626" y="115"/>
                  </a:cubicBezTo>
                  <a:close/>
                  <a:moveTo>
                    <a:pt x="3631" y="102"/>
                  </a:moveTo>
                  <a:cubicBezTo>
                    <a:pt x="3631" y="102"/>
                    <a:pt x="3631" y="102"/>
                    <a:pt x="3630" y="103"/>
                  </a:cubicBezTo>
                  <a:cubicBezTo>
                    <a:pt x="3630" y="99"/>
                    <a:pt x="3629" y="94"/>
                    <a:pt x="3626" y="90"/>
                  </a:cubicBezTo>
                  <a:cubicBezTo>
                    <a:pt x="3628" y="84"/>
                    <a:pt x="3630" y="78"/>
                    <a:pt x="3632" y="73"/>
                  </a:cubicBezTo>
                  <a:cubicBezTo>
                    <a:pt x="3631" y="83"/>
                    <a:pt x="3631" y="93"/>
                    <a:pt x="3631" y="102"/>
                  </a:cubicBezTo>
                  <a:close/>
                  <a:moveTo>
                    <a:pt x="3637" y="110"/>
                  </a:moveTo>
                  <a:cubicBezTo>
                    <a:pt x="3637" y="111"/>
                    <a:pt x="3637" y="111"/>
                    <a:pt x="3637" y="111"/>
                  </a:cubicBezTo>
                  <a:cubicBezTo>
                    <a:pt x="3637" y="114"/>
                    <a:pt x="3636" y="116"/>
                    <a:pt x="3636" y="119"/>
                  </a:cubicBezTo>
                  <a:cubicBezTo>
                    <a:pt x="3635" y="114"/>
                    <a:pt x="3635" y="108"/>
                    <a:pt x="3635" y="103"/>
                  </a:cubicBezTo>
                  <a:cubicBezTo>
                    <a:pt x="3635" y="97"/>
                    <a:pt x="3635" y="91"/>
                    <a:pt x="3637" y="85"/>
                  </a:cubicBezTo>
                  <a:cubicBezTo>
                    <a:pt x="3636" y="87"/>
                    <a:pt x="3635" y="89"/>
                    <a:pt x="3634" y="92"/>
                  </a:cubicBezTo>
                  <a:cubicBezTo>
                    <a:pt x="3634" y="87"/>
                    <a:pt x="3634" y="82"/>
                    <a:pt x="3635" y="77"/>
                  </a:cubicBezTo>
                  <a:cubicBezTo>
                    <a:pt x="3637" y="83"/>
                    <a:pt x="3638" y="90"/>
                    <a:pt x="3638" y="96"/>
                  </a:cubicBezTo>
                  <a:cubicBezTo>
                    <a:pt x="3638" y="101"/>
                    <a:pt x="3638" y="106"/>
                    <a:pt x="3637" y="110"/>
                  </a:cubicBezTo>
                  <a:close/>
                  <a:moveTo>
                    <a:pt x="3643" y="127"/>
                  </a:moveTo>
                  <a:cubicBezTo>
                    <a:pt x="3642" y="132"/>
                    <a:pt x="3642" y="134"/>
                    <a:pt x="3642" y="134"/>
                  </a:cubicBezTo>
                  <a:cubicBezTo>
                    <a:pt x="3642" y="129"/>
                    <a:pt x="3643" y="125"/>
                    <a:pt x="3643" y="120"/>
                  </a:cubicBezTo>
                  <a:cubicBezTo>
                    <a:pt x="3643" y="123"/>
                    <a:pt x="3643" y="125"/>
                    <a:pt x="3643" y="127"/>
                  </a:cubicBezTo>
                  <a:close/>
                  <a:moveTo>
                    <a:pt x="3675" y="92"/>
                  </a:moveTo>
                  <a:cubicBezTo>
                    <a:pt x="3675" y="91"/>
                    <a:pt x="3675" y="90"/>
                    <a:pt x="3675" y="89"/>
                  </a:cubicBezTo>
                  <a:cubicBezTo>
                    <a:pt x="3675" y="89"/>
                    <a:pt x="3675" y="90"/>
                    <a:pt x="3675" y="91"/>
                  </a:cubicBezTo>
                  <a:cubicBezTo>
                    <a:pt x="3675" y="91"/>
                    <a:pt x="3675" y="92"/>
                    <a:pt x="3675" y="92"/>
                  </a:cubicBezTo>
                  <a:close/>
                  <a:moveTo>
                    <a:pt x="3677" y="130"/>
                  </a:moveTo>
                  <a:cubicBezTo>
                    <a:pt x="3677" y="132"/>
                    <a:pt x="3677" y="134"/>
                    <a:pt x="3677" y="136"/>
                  </a:cubicBezTo>
                  <a:cubicBezTo>
                    <a:pt x="3676" y="127"/>
                    <a:pt x="3675" y="119"/>
                    <a:pt x="3675" y="110"/>
                  </a:cubicBezTo>
                  <a:cubicBezTo>
                    <a:pt x="3675" y="105"/>
                    <a:pt x="3675" y="99"/>
                    <a:pt x="3676" y="93"/>
                  </a:cubicBezTo>
                  <a:cubicBezTo>
                    <a:pt x="3677" y="99"/>
                    <a:pt x="3678" y="104"/>
                    <a:pt x="3679" y="109"/>
                  </a:cubicBezTo>
                  <a:cubicBezTo>
                    <a:pt x="3678" y="116"/>
                    <a:pt x="3678" y="123"/>
                    <a:pt x="3677" y="130"/>
                  </a:cubicBezTo>
                  <a:close/>
                  <a:moveTo>
                    <a:pt x="3687" y="140"/>
                  </a:moveTo>
                  <a:cubicBezTo>
                    <a:pt x="3687" y="140"/>
                    <a:pt x="3687" y="139"/>
                    <a:pt x="3687" y="139"/>
                  </a:cubicBezTo>
                  <a:cubicBezTo>
                    <a:pt x="3688" y="100"/>
                    <a:pt x="3688" y="100"/>
                    <a:pt x="3688" y="100"/>
                  </a:cubicBezTo>
                  <a:cubicBezTo>
                    <a:pt x="3688" y="106"/>
                    <a:pt x="3689" y="113"/>
                    <a:pt x="3689" y="119"/>
                  </a:cubicBezTo>
                  <a:cubicBezTo>
                    <a:pt x="3689" y="122"/>
                    <a:pt x="3689" y="126"/>
                    <a:pt x="3689" y="129"/>
                  </a:cubicBezTo>
                  <a:cubicBezTo>
                    <a:pt x="3688" y="133"/>
                    <a:pt x="3688" y="136"/>
                    <a:pt x="3687" y="140"/>
                  </a:cubicBezTo>
                  <a:close/>
                  <a:moveTo>
                    <a:pt x="3708" y="105"/>
                  </a:moveTo>
                  <a:cubicBezTo>
                    <a:pt x="3708" y="104"/>
                    <a:pt x="3708" y="102"/>
                    <a:pt x="3708" y="101"/>
                  </a:cubicBezTo>
                  <a:cubicBezTo>
                    <a:pt x="3708" y="102"/>
                    <a:pt x="3709" y="103"/>
                    <a:pt x="3709" y="103"/>
                  </a:cubicBezTo>
                  <a:cubicBezTo>
                    <a:pt x="3708" y="104"/>
                    <a:pt x="3708" y="105"/>
                    <a:pt x="3708" y="105"/>
                  </a:cubicBezTo>
                  <a:close/>
                  <a:moveTo>
                    <a:pt x="3731" y="101"/>
                  </a:moveTo>
                  <a:cubicBezTo>
                    <a:pt x="3730" y="101"/>
                    <a:pt x="3730" y="101"/>
                    <a:pt x="3730" y="100"/>
                  </a:cubicBezTo>
                  <a:cubicBezTo>
                    <a:pt x="3730" y="101"/>
                    <a:pt x="3730" y="101"/>
                    <a:pt x="3731" y="101"/>
                  </a:cubicBezTo>
                  <a:cubicBezTo>
                    <a:pt x="3730" y="111"/>
                    <a:pt x="3729" y="119"/>
                    <a:pt x="3728" y="126"/>
                  </a:cubicBezTo>
                  <a:cubicBezTo>
                    <a:pt x="3727" y="122"/>
                    <a:pt x="3727" y="118"/>
                    <a:pt x="3726" y="114"/>
                  </a:cubicBezTo>
                  <a:cubicBezTo>
                    <a:pt x="3726" y="109"/>
                    <a:pt x="3726" y="103"/>
                    <a:pt x="3726" y="98"/>
                  </a:cubicBezTo>
                  <a:cubicBezTo>
                    <a:pt x="3727" y="92"/>
                    <a:pt x="3729" y="87"/>
                    <a:pt x="3732" y="82"/>
                  </a:cubicBezTo>
                  <a:cubicBezTo>
                    <a:pt x="3731" y="89"/>
                    <a:pt x="3731" y="95"/>
                    <a:pt x="3731" y="101"/>
                  </a:cubicBezTo>
                  <a:close/>
                  <a:moveTo>
                    <a:pt x="3740" y="117"/>
                  </a:moveTo>
                  <a:cubicBezTo>
                    <a:pt x="3740" y="114"/>
                    <a:pt x="3740" y="110"/>
                    <a:pt x="3740" y="106"/>
                  </a:cubicBezTo>
                  <a:cubicBezTo>
                    <a:pt x="3740" y="99"/>
                    <a:pt x="3740" y="90"/>
                    <a:pt x="3743" y="83"/>
                  </a:cubicBezTo>
                  <a:cubicBezTo>
                    <a:pt x="3742" y="95"/>
                    <a:pt x="3741" y="107"/>
                    <a:pt x="3740" y="117"/>
                  </a:cubicBezTo>
                  <a:close/>
                  <a:moveTo>
                    <a:pt x="3746" y="108"/>
                  </a:moveTo>
                  <a:cubicBezTo>
                    <a:pt x="3746" y="106"/>
                    <a:pt x="3746" y="104"/>
                    <a:pt x="3746" y="102"/>
                  </a:cubicBezTo>
                  <a:cubicBezTo>
                    <a:pt x="3747" y="102"/>
                    <a:pt x="3747" y="102"/>
                    <a:pt x="3747" y="103"/>
                  </a:cubicBezTo>
                  <a:cubicBezTo>
                    <a:pt x="3747" y="104"/>
                    <a:pt x="3746" y="106"/>
                    <a:pt x="3746" y="108"/>
                  </a:cubicBezTo>
                  <a:close/>
                  <a:moveTo>
                    <a:pt x="3752" y="111"/>
                  </a:moveTo>
                  <a:cubicBezTo>
                    <a:pt x="3752" y="103"/>
                    <a:pt x="3755" y="95"/>
                    <a:pt x="3757" y="87"/>
                  </a:cubicBezTo>
                  <a:cubicBezTo>
                    <a:pt x="3756" y="95"/>
                    <a:pt x="3754" y="104"/>
                    <a:pt x="3752" y="113"/>
                  </a:cubicBezTo>
                  <a:cubicBezTo>
                    <a:pt x="3752" y="112"/>
                    <a:pt x="3752" y="112"/>
                    <a:pt x="3752" y="111"/>
                  </a:cubicBezTo>
                  <a:close/>
                  <a:moveTo>
                    <a:pt x="3776" y="110"/>
                  </a:moveTo>
                  <a:cubicBezTo>
                    <a:pt x="3776" y="109"/>
                    <a:pt x="3776" y="108"/>
                    <a:pt x="3776" y="107"/>
                  </a:cubicBezTo>
                  <a:cubicBezTo>
                    <a:pt x="3776" y="107"/>
                    <a:pt x="3776" y="108"/>
                    <a:pt x="3776" y="108"/>
                  </a:cubicBezTo>
                  <a:cubicBezTo>
                    <a:pt x="3776" y="109"/>
                    <a:pt x="3776" y="109"/>
                    <a:pt x="3776" y="110"/>
                  </a:cubicBezTo>
                  <a:close/>
                  <a:moveTo>
                    <a:pt x="3787" y="125"/>
                  </a:moveTo>
                  <a:cubicBezTo>
                    <a:pt x="3787" y="123"/>
                    <a:pt x="3787" y="122"/>
                    <a:pt x="3787" y="120"/>
                  </a:cubicBezTo>
                  <a:cubicBezTo>
                    <a:pt x="3787" y="121"/>
                    <a:pt x="3787" y="122"/>
                    <a:pt x="3787" y="123"/>
                  </a:cubicBezTo>
                  <a:cubicBezTo>
                    <a:pt x="3787" y="123"/>
                    <a:pt x="3787" y="124"/>
                    <a:pt x="3787" y="125"/>
                  </a:cubicBezTo>
                  <a:close/>
                  <a:moveTo>
                    <a:pt x="3790" y="115"/>
                  </a:moveTo>
                  <a:cubicBezTo>
                    <a:pt x="3789" y="117"/>
                    <a:pt x="3789" y="118"/>
                    <a:pt x="3788" y="119"/>
                  </a:cubicBezTo>
                  <a:cubicBezTo>
                    <a:pt x="3788" y="118"/>
                    <a:pt x="3787" y="116"/>
                    <a:pt x="3787" y="114"/>
                  </a:cubicBezTo>
                  <a:cubicBezTo>
                    <a:pt x="3787" y="110"/>
                    <a:pt x="3787" y="105"/>
                    <a:pt x="3787" y="100"/>
                  </a:cubicBezTo>
                  <a:cubicBezTo>
                    <a:pt x="3788" y="94"/>
                    <a:pt x="3791" y="89"/>
                    <a:pt x="3794" y="84"/>
                  </a:cubicBezTo>
                  <a:cubicBezTo>
                    <a:pt x="3793" y="93"/>
                    <a:pt x="3791" y="105"/>
                    <a:pt x="3790" y="115"/>
                  </a:cubicBezTo>
                  <a:close/>
                  <a:moveTo>
                    <a:pt x="3797" y="90"/>
                  </a:moveTo>
                  <a:cubicBezTo>
                    <a:pt x="3797" y="88"/>
                    <a:pt x="3796" y="84"/>
                    <a:pt x="3796" y="80"/>
                  </a:cubicBezTo>
                  <a:cubicBezTo>
                    <a:pt x="3796" y="80"/>
                    <a:pt x="3796" y="80"/>
                    <a:pt x="3796" y="80"/>
                  </a:cubicBezTo>
                  <a:cubicBezTo>
                    <a:pt x="3797" y="81"/>
                    <a:pt x="3798" y="83"/>
                    <a:pt x="3798" y="84"/>
                  </a:cubicBezTo>
                  <a:cubicBezTo>
                    <a:pt x="3798" y="88"/>
                    <a:pt x="3797" y="90"/>
                    <a:pt x="3797" y="90"/>
                  </a:cubicBezTo>
                  <a:close/>
                  <a:moveTo>
                    <a:pt x="3799" y="83"/>
                  </a:moveTo>
                  <a:cubicBezTo>
                    <a:pt x="3798" y="81"/>
                    <a:pt x="3797" y="80"/>
                    <a:pt x="3796" y="79"/>
                  </a:cubicBezTo>
                  <a:cubicBezTo>
                    <a:pt x="3797" y="78"/>
                    <a:pt x="3798" y="76"/>
                    <a:pt x="3800" y="75"/>
                  </a:cubicBezTo>
                  <a:cubicBezTo>
                    <a:pt x="3799" y="78"/>
                    <a:pt x="3799" y="81"/>
                    <a:pt x="3799" y="83"/>
                  </a:cubicBezTo>
                  <a:close/>
                  <a:moveTo>
                    <a:pt x="3805" y="104"/>
                  </a:moveTo>
                  <a:cubicBezTo>
                    <a:pt x="3806" y="105"/>
                    <a:pt x="3806" y="107"/>
                    <a:pt x="3806" y="109"/>
                  </a:cubicBezTo>
                  <a:cubicBezTo>
                    <a:pt x="3806" y="111"/>
                    <a:pt x="3805" y="112"/>
                    <a:pt x="3805" y="114"/>
                  </a:cubicBezTo>
                  <a:cubicBezTo>
                    <a:pt x="3805" y="110"/>
                    <a:pt x="3805" y="107"/>
                    <a:pt x="3805" y="104"/>
                  </a:cubicBezTo>
                  <a:close/>
                  <a:moveTo>
                    <a:pt x="3801" y="91"/>
                  </a:move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lose/>
                  <a:moveTo>
                    <a:pt x="3801" y="124"/>
                  </a:moveTo>
                  <a:cubicBezTo>
                    <a:pt x="3802" y="114"/>
                    <a:pt x="3802" y="102"/>
                    <a:pt x="3801" y="91"/>
                  </a:cubicBezTo>
                  <a:cubicBezTo>
                    <a:pt x="3801" y="91"/>
                    <a:pt x="3801" y="91"/>
                    <a:pt x="3801" y="91"/>
                  </a:cubicBezTo>
                  <a:cubicBezTo>
                    <a:pt x="3803" y="94"/>
                    <a:pt x="3804" y="98"/>
                    <a:pt x="3805" y="101"/>
                  </a:cubicBezTo>
                  <a:cubicBezTo>
                    <a:pt x="3803" y="120"/>
                    <a:pt x="3803" y="120"/>
                    <a:pt x="3803" y="120"/>
                  </a:cubicBezTo>
                  <a:cubicBezTo>
                    <a:pt x="3802" y="121"/>
                    <a:pt x="3802" y="122"/>
                    <a:pt x="3801" y="124"/>
                  </a:cubicBezTo>
                  <a:close/>
                  <a:moveTo>
                    <a:pt x="3804" y="136"/>
                  </a:moveTo>
                  <a:cubicBezTo>
                    <a:pt x="3804" y="134"/>
                    <a:pt x="3804" y="133"/>
                    <a:pt x="3804" y="131"/>
                  </a:cubicBezTo>
                  <a:cubicBezTo>
                    <a:pt x="3805" y="126"/>
                    <a:pt x="3806" y="121"/>
                    <a:pt x="3807" y="116"/>
                  </a:cubicBezTo>
                  <a:cubicBezTo>
                    <a:pt x="3808" y="118"/>
                    <a:pt x="3808" y="121"/>
                    <a:pt x="3808" y="123"/>
                  </a:cubicBezTo>
                  <a:cubicBezTo>
                    <a:pt x="3808" y="124"/>
                    <a:pt x="3808" y="124"/>
                    <a:pt x="3808" y="124"/>
                  </a:cubicBezTo>
                  <a:cubicBezTo>
                    <a:pt x="3807" y="128"/>
                    <a:pt x="3805" y="132"/>
                    <a:pt x="3804" y="136"/>
                  </a:cubicBezTo>
                  <a:close/>
                  <a:moveTo>
                    <a:pt x="3808" y="141"/>
                  </a:moveTo>
                  <a:cubicBezTo>
                    <a:pt x="3808" y="141"/>
                    <a:pt x="3808" y="141"/>
                    <a:pt x="3808" y="141"/>
                  </a:cubicBezTo>
                  <a:cubicBezTo>
                    <a:pt x="3809" y="139"/>
                    <a:pt x="3809" y="137"/>
                    <a:pt x="3810" y="135"/>
                  </a:cubicBezTo>
                  <a:cubicBezTo>
                    <a:pt x="3810" y="135"/>
                    <a:pt x="3810" y="135"/>
                    <a:pt x="3810" y="135"/>
                  </a:cubicBezTo>
                  <a:cubicBezTo>
                    <a:pt x="3810" y="137"/>
                    <a:pt x="3809" y="139"/>
                    <a:pt x="3808" y="141"/>
                  </a:cubicBezTo>
                  <a:close/>
                  <a:moveTo>
                    <a:pt x="3815" y="119"/>
                  </a:moveTo>
                  <a:cubicBezTo>
                    <a:pt x="3814" y="119"/>
                    <a:pt x="3814" y="118"/>
                    <a:pt x="3814" y="118"/>
                  </a:cubicBezTo>
                  <a:cubicBezTo>
                    <a:pt x="3814" y="116"/>
                    <a:pt x="3815" y="115"/>
                    <a:pt x="3815" y="113"/>
                  </a:cubicBezTo>
                  <a:cubicBezTo>
                    <a:pt x="3815" y="112"/>
                    <a:pt x="3815" y="112"/>
                    <a:pt x="3815" y="111"/>
                  </a:cubicBezTo>
                  <a:cubicBezTo>
                    <a:pt x="3816" y="112"/>
                    <a:pt x="3816" y="113"/>
                    <a:pt x="3816" y="115"/>
                  </a:cubicBezTo>
                  <a:cubicBezTo>
                    <a:pt x="3816" y="116"/>
                    <a:pt x="3815" y="118"/>
                    <a:pt x="3815" y="119"/>
                  </a:cubicBezTo>
                  <a:close/>
                  <a:moveTo>
                    <a:pt x="3822" y="136"/>
                  </a:moveTo>
                  <a:cubicBezTo>
                    <a:pt x="3821" y="135"/>
                    <a:pt x="3821" y="134"/>
                    <a:pt x="3820" y="133"/>
                  </a:cubicBezTo>
                  <a:cubicBezTo>
                    <a:pt x="3820" y="132"/>
                    <a:pt x="3820" y="132"/>
                    <a:pt x="3820" y="131"/>
                  </a:cubicBezTo>
                  <a:cubicBezTo>
                    <a:pt x="3821" y="133"/>
                    <a:pt x="3821" y="134"/>
                    <a:pt x="3822" y="136"/>
                  </a:cubicBezTo>
                  <a:cubicBezTo>
                    <a:pt x="3822" y="136"/>
                    <a:pt x="3822" y="136"/>
                    <a:pt x="3822" y="136"/>
                  </a:cubicBezTo>
                  <a:close/>
                  <a:moveTo>
                    <a:pt x="3836" y="118"/>
                  </a:moveTo>
                  <a:cubicBezTo>
                    <a:pt x="3836" y="117"/>
                    <a:pt x="3836" y="117"/>
                    <a:pt x="3836" y="117"/>
                  </a:cubicBezTo>
                  <a:cubicBezTo>
                    <a:pt x="3836" y="117"/>
                    <a:pt x="3836" y="117"/>
                    <a:pt x="3836" y="117"/>
                  </a:cubicBezTo>
                  <a:cubicBezTo>
                    <a:pt x="3836" y="118"/>
                    <a:pt x="3836" y="118"/>
                    <a:pt x="3836" y="118"/>
                  </a:cubicBezTo>
                  <a:close/>
                  <a:moveTo>
                    <a:pt x="3842" y="105"/>
                  </a:moveTo>
                  <a:cubicBezTo>
                    <a:pt x="3841" y="106"/>
                    <a:pt x="3840" y="107"/>
                    <a:pt x="3840" y="109"/>
                  </a:cubicBezTo>
                  <a:cubicBezTo>
                    <a:pt x="3839" y="107"/>
                    <a:pt x="3839" y="106"/>
                    <a:pt x="3839" y="104"/>
                  </a:cubicBezTo>
                  <a:cubicBezTo>
                    <a:pt x="3840" y="101"/>
                    <a:pt x="3841" y="98"/>
                    <a:pt x="3843" y="94"/>
                  </a:cubicBezTo>
                  <a:cubicBezTo>
                    <a:pt x="3842" y="98"/>
                    <a:pt x="3842" y="101"/>
                    <a:pt x="3842" y="105"/>
                  </a:cubicBezTo>
                  <a:close/>
                  <a:moveTo>
                    <a:pt x="3847" y="138"/>
                  </a:moveTo>
                  <a:cubicBezTo>
                    <a:pt x="3847" y="137"/>
                    <a:pt x="3847" y="136"/>
                    <a:pt x="3846" y="135"/>
                  </a:cubicBezTo>
                  <a:cubicBezTo>
                    <a:pt x="3846" y="133"/>
                    <a:pt x="3846" y="131"/>
                    <a:pt x="3846" y="129"/>
                  </a:cubicBezTo>
                  <a:cubicBezTo>
                    <a:pt x="3847" y="131"/>
                    <a:pt x="3847" y="133"/>
                    <a:pt x="3848" y="134"/>
                  </a:cubicBezTo>
                  <a:cubicBezTo>
                    <a:pt x="3848" y="135"/>
                    <a:pt x="3848" y="137"/>
                    <a:pt x="3847" y="138"/>
                  </a:cubicBezTo>
                  <a:close/>
                  <a:moveTo>
                    <a:pt x="3849" y="123"/>
                  </a:moveTo>
                  <a:cubicBezTo>
                    <a:pt x="3848" y="121"/>
                    <a:pt x="3847" y="118"/>
                    <a:pt x="3847" y="116"/>
                  </a:cubicBezTo>
                  <a:cubicBezTo>
                    <a:pt x="3848" y="112"/>
                    <a:pt x="3849" y="107"/>
                    <a:pt x="3850" y="103"/>
                  </a:cubicBezTo>
                  <a:cubicBezTo>
                    <a:pt x="3850" y="110"/>
                    <a:pt x="3849" y="117"/>
                    <a:pt x="3849" y="123"/>
                  </a:cubicBezTo>
                  <a:close/>
                  <a:moveTo>
                    <a:pt x="3854" y="69"/>
                  </a:moveTo>
                  <a:cubicBezTo>
                    <a:pt x="3856" y="72"/>
                    <a:pt x="3858" y="75"/>
                    <a:pt x="3859" y="79"/>
                  </a:cubicBezTo>
                  <a:cubicBezTo>
                    <a:pt x="3859" y="79"/>
                    <a:pt x="3859" y="79"/>
                    <a:pt x="3859" y="79"/>
                  </a:cubicBezTo>
                  <a:cubicBezTo>
                    <a:pt x="3857" y="76"/>
                    <a:pt x="3856" y="72"/>
                    <a:pt x="3854" y="69"/>
                  </a:cubicBezTo>
                  <a:cubicBezTo>
                    <a:pt x="3854" y="69"/>
                    <a:pt x="3854" y="69"/>
                    <a:pt x="3854" y="69"/>
                  </a:cubicBezTo>
                  <a:close/>
                  <a:moveTo>
                    <a:pt x="3854" y="74"/>
                  </a:moveTo>
                  <a:cubicBezTo>
                    <a:pt x="3855" y="76"/>
                    <a:pt x="3856" y="79"/>
                    <a:pt x="3857" y="81"/>
                  </a:cubicBezTo>
                  <a:cubicBezTo>
                    <a:pt x="3856" y="82"/>
                    <a:pt x="3855" y="83"/>
                    <a:pt x="3854" y="85"/>
                  </a:cubicBezTo>
                  <a:cubicBezTo>
                    <a:pt x="3854" y="81"/>
                    <a:pt x="3854" y="77"/>
                    <a:pt x="3854" y="74"/>
                  </a:cubicBezTo>
                  <a:close/>
                  <a:moveTo>
                    <a:pt x="3855" y="120"/>
                  </a:moveTo>
                  <a:cubicBezTo>
                    <a:pt x="3855" y="115"/>
                    <a:pt x="3855" y="111"/>
                    <a:pt x="3855" y="106"/>
                  </a:cubicBezTo>
                  <a:cubicBezTo>
                    <a:pt x="3856" y="109"/>
                    <a:pt x="3856" y="112"/>
                    <a:pt x="3857" y="114"/>
                  </a:cubicBezTo>
                  <a:cubicBezTo>
                    <a:pt x="3856" y="116"/>
                    <a:pt x="3856" y="118"/>
                    <a:pt x="3855" y="120"/>
                  </a:cubicBezTo>
                  <a:close/>
                  <a:moveTo>
                    <a:pt x="3858" y="109"/>
                  </a:moveTo>
                  <a:cubicBezTo>
                    <a:pt x="3857" y="107"/>
                    <a:pt x="3856" y="104"/>
                    <a:pt x="3855" y="102"/>
                  </a:cubicBezTo>
                  <a:cubicBezTo>
                    <a:pt x="3855" y="99"/>
                    <a:pt x="3855" y="97"/>
                    <a:pt x="3855" y="94"/>
                  </a:cubicBezTo>
                  <a:cubicBezTo>
                    <a:pt x="3856" y="98"/>
                    <a:pt x="3857" y="102"/>
                    <a:pt x="3859" y="107"/>
                  </a:cubicBezTo>
                  <a:cubicBezTo>
                    <a:pt x="3859" y="108"/>
                    <a:pt x="3858" y="108"/>
                    <a:pt x="3858" y="109"/>
                  </a:cubicBezTo>
                  <a:close/>
                  <a:moveTo>
                    <a:pt x="3862" y="96"/>
                  </a:moveTo>
                  <a:cubicBezTo>
                    <a:pt x="3861" y="98"/>
                    <a:pt x="3860" y="101"/>
                    <a:pt x="3860" y="104"/>
                  </a:cubicBezTo>
                  <a:cubicBezTo>
                    <a:pt x="3858" y="100"/>
                    <a:pt x="3856" y="96"/>
                    <a:pt x="3855" y="92"/>
                  </a:cubicBezTo>
                  <a:cubicBezTo>
                    <a:pt x="3855" y="92"/>
                    <a:pt x="3855" y="92"/>
                    <a:pt x="3855" y="92"/>
                  </a:cubicBezTo>
                  <a:cubicBezTo>
                    <a:pt x="3856" y="89"/>
                    <a:pt x="3857" y="86"/>
                    <a:pt x="3859" y="84"/>
                  </a:cubicBezTo>
                  <a:cubicBezTo>
                    <a:pt x="3860" y="87"/>
                    <a:pt x="3861" y="90"/>
                    <a:pt x="3862" y="93"/>
                  </a:cubicBezTo>
                  <a:cubicBezTo>
                    <a:pt x="3862" y="94"/>
                    <a:pt x="3862" y="95"/>
                    <a:pt x="3862" y="96"/>
                  </a:cubicBezTo>
                  <a:close/>
                  <a:moveTo>
                    <a:pt x="3863" y="90"/>
                  </a:moveTo>
                  <a:cubicBezTo>
                    <a:pt x="3862" y="87"/>
                    <a:pt x="3861" y="84"/>
                    <a:pt x="3860" y="82"/>
                  </a:cubicBezTo>
                  <a:cubicBezTo>
                    <a:pt x="3860" y="81"/>
                    <a:pt x="3860" y="81"/>
                    <a:pt x="3860" y="81"/>
                  </a:cubicBezTo>
                  <a:cubicBezTo>
                    <a:pt x="3861" y="83"/>
                    <a:pt x="3862" y="86"/>
                    <a:pt x="3863" y="89"/>
                  </a:cubicBezTo>
                  <a:cubicBezTo>
                    <a:pt x="3863" y="89"/>
                    <a:pt x="3863" y="89"/>
                    <a:pt x="3863" y="90"/>
                  </a:cubicBezTo>
                  <a:close/>
                  <a:moveTo>
                    <a:pt x="3861" y="79"/>
                  </a:moveTo>
                  <a:cubicBezTo>
                    <a:pt x="3862" y="78"/>
                    <a:pt x="3863" y="77"/>
                    <a:pt x="3863" y="76"/>
                  </a:cubicBezTo>
                  <a:cubicBezTo>
                    <a:pt x="3864" y="78"/>
                    <a:pt x="3864" y="79"/>
                    <a:pt x="3865" y="80"/>
                  </a:cubicBezTo>
                  <a:cubicBezTo>
                    <a:pt x="3865" y="82"/>
                    <a:pt x="3864" y="84"/>
                    <a:pt x="3864" y="85"/>
                  </a:cubicBezTo>
                  <a:cubicBezTo>
                    <a:pt x="3863" y="83"/>
                    <a:pt x="3862" y="81"/>
                    <a:pt x="3861" y="79"/>
                  </a:cubicBezTo>
                  <a:close/>
                  <a:moveTo>
                    <a:pt x="3864" y="116"/>
                  </a:moveTo>
                  <a:cubicBezTo>
                    <a:pt x="3864" y="111"/>
                    <a:pt x="3865" y="106"/>
                    <a:pt x="3865" y="102"/>
                  </a:cubicBezTo>
                  <a:cubicBezTo>
                    <a:pt x="3866" y="105"/>
                    <a:pt x="3867" y="108"/>
                    <a:pt x="3868" y="111"/>
                  </a:cubicBezTo>
                  <a:cubicBezTo>
                    <a:pt x="3867" y="113"/>
                    <a:pt x="3866" y="116"/>
                    <a:pt x="3865" y="118"/>
                  </a:cubicBezTo>
                  <a:cubicBezTo>
                    <a:pt x="3865" y="117"/>
                    <a:pt x="3864" y="117"/>
                    <a:pt x="3864" y="116"/>
                  </a:cubicBezTo>
                  <a:close/>
                  <a:moveTo>
                    <a:pt x="3869" y="130"/>
                  </a:moveTo>
                  <a:cubicBezTo>
                    <a:pt x="3868" y="128"/>
                    <a:pt x="3868" y="127"/>
                    <a:pt x="3867" y="125"/>
                  </a:cubicBezTo>
                  <a:cubicBezTo>
                    <a:pt x="3868" y="123"/>
                    <a:pt x="3868" y="122"/>
                    <a:pt x="3869" y="120"/>
                  </a:cubicBezTo>
                  <a:cubicBezTo>
                    <a:pt x="3869" y="122"/>
                    <a:pt x="3869" y="124"/>
                    <a:pt x="3869" y="127"/>
                  </a:cubicBezTo>
                  <a:cubicBezTo>
                    <a:pt x="3869" y="128"/>
                    <a:pt x="3869" y="129"/>
                    <a:pt x="3869" y="130"/>
                  </a:cubicBezTo>
                  <a:close/>
                  <a:moveTo>
                    <a:pt x="3871" y="105"/>
                  </a:moveTo>
                  <a:cubicBezTo>
                    <a:pt x="3869" y="100"/>
                    <a:pt x="3868" y="95"/>
                    <a:pt x="3866" y="91"/>
                  </a:cubicBezTo>
                  <a:cubicBezTo>
                    <a:pt x="3866" y="89"/>
                    <a:pt x="3866" y="87"/>
                    <a:pt x="3866" y="85"/>
                  </a:cubicBezTo>
                  <a:cubicBezTo>
                    <a:pt x="3869" y="91"/>
                    <a:pt x="3870" y="97"/>
                    <a:pt x="3872" y="103"/>
                  </a:cubicBezTo>
                  <a:cubicBezTo>
                    <a:pt x="3871" y="104"/>
                    <a:pt x="3871" y="105"/>
                    <a:pt x="3871" y="105"/>
                  </a:cubicBezTo>
                  <a:close/>
                  <a:moveTo>
                    <a:pt x="3872" y="111"/>
                  </a:moveTo>
                  <a:cubicBezTo>
                    <a:pt x="3872" y="110"/>
                    <a:pt x="3872" y="110"/>
                    <a:pt x="3872" y="109"/>
                  </a:cubicBezTo>
                  <a:cubicBezTo>
                    <a:pt x="3872" y="109"/>
                    <a:pt x="3872" y="108"/>
                    <a:pt x="3873" y="107"/>
                  </a:cubicBezTo>
                  <a:cubicBezTo>
                    <a:pt x="3873" y="108"/>
                    <a:pt x="3873" y="109"/>
                    <a:pt x="3873" y="109"/>
                  </a:cubicBezTo>
                  <a:cubicBezTo>
                    <a:pt x="3873" y="110"/>
                    <a:pt x="3873" y="110"/>
                    <a:pt x="3872" y="111"/>
                  </a:cubicBezTo>
                  <a:close/>
                  <a:moveTo>
                    <a:pt x="3883" y="94"/>
                  </a:moveTo>
                  <a:cubicBezTo>
                    <a:pt x="3883" y="95"/>
                    <a:pt x="3883" y="95"/>
                    <a:pt x="3884" y="96"/>
                  </a:cubicBezTo>
                  <a:cubicBezTo>
                    <a:pt x="3883" y="97"/>
                    <a:pt x="3883" y="97"/>
                    <a:pt x="3883" y="98"/>
                  </a:cubicBezTo>
                  <a:cubicBezTo>
                    <a:pt x="3883" y="96"/>
                    <a:pt x="3883" y="95"/>
                    <a:pt x="3883" y="94"/>
                  </a:cubicBezTo>
                  <a:close/>
                  <a:moveTo>
                    <a:pt x="3885" y="109"/>
                  </a:moveTo>
                  <a:cubicBezTo>
                    <a:pt x="3884" y="106"/>
                    <a:pt x="3884" y="104"/>
                    <a:pt x="3883" y="102"/>
                  </a:cubicBezTo>
                  <a:cubicBezTo>
                    <a:pt x="3883" y="101"/>
                    <a:pt x="3883" y="99"/>
                    <a:pt x="3883" y="98"/>
                  </a:cubicBezTo>
                  <a:cubicBezTo>
                    <a:pt x="3883" y="98"/>
                    <a:pt x="3884" y="97"/>
                    <a:pt x="3884" y="97"/>
                  </a:cubicBezTo>
                  <a:cubicBezTo>
                    <a:pt x="3884" y="98"/>
                    <a:pt x="3885" y="100"/>
                    <a:pt x="3885" y="102"/>
                  </a:cubicBezTo>
                  <a:cubicBezTo>
                    <a:pt x="3885" y="104"/>
                    <a:pt x="3885" y="107"/>
                    <a:pt x="3885" y="109"/>
                  </a:cubicBezTo>
                  <a:close/>
                  <a:moveTo>
                    <a:pt x="3887" y="84"/>
                  </a:moveTo>
                  <a:cubicBezTo>
                    <a:pt x="3886" y="89"/>
                    <a:pt x="3886" y="94"/>
                    <a:pt x="3886" y="98"/>
                  </a:cubicBezTo>
                  <a:cubicBezTo>
                    <a:pt x="3885" y="97"/>
                    <a:pt x="3885" y="96"/>
                    <a:pt x="3884" y="95"/>
                  </a:cubicBezTo>
                  <a:cubicBezTo>
                    <a:pt x="3885" y="94"/>
                    <a:pt x="3886" y="92"/>
                    <a:pt x="3886" y="91"/>
                  </a:cubicBezTo>
                  <a:cubicBezTo>
                    <a:pt x="3886" y="92"/>
                    <a:pt x="3885" y="94"/>
                    <a:pt x="3884" y="95"/>
                  </a:cubicBezTo>
                  <a:cubicBezTo>
                    <a:pt x="3884" y="94"/>
                    <a:pt x="3883" y="93"/>
                    <a:pt x="3883" y="92"/>
                  </a:cubicBezTo>
                  <a:cubicBezTo>
                    <a:pt x="3883" y="90"/>
                    <a:pt x="3883" y="88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3" y="85"/>
                    <a:pt x="3883" y="85"/>
                    <a:pt x="3883" y="85"/>
                  </a:cubicBezTo>
                  <a:cubicBezTo>
                    <a:pt x="3882" y="75"/>
                    <a:pt x="3882" y="65"/>
                    <a:pt x="3882" y="56"/>
                  </a:cubicBezTo>
                  <a:cubicBezTo>
                    <a:pt x="3885" y="58"/>
                    <a:pt x="3887" y="61"/>
                    <a:pt x="3890" y="63"/>
                  </a:cubicBezTo>
                  <a:cubicBezTo>
                    <a:pt x="3889" y="69"/>
                    <a:pt x="3888" y="76"/>
                    <a:pt x="3887" y="84"/>
                  </a:cubicBezTo>
                  <a:cubicBezTo>
                    <a:pt x="3887" y="82"/>
                    <a:pt x="3886" y="81"/>
                    <a:pt x="3886" y="79"/>
                  </a:cubicBezTo>
                  <a:cubicBezTo>
                    <a:pt x="3886" y="81"/>
                    <a:pt x="3887" y="83"/>
                    <a:pt x="3887" y="84"/>
                  </a:cubicBezTo>
                  <a:close/>
                  <a:moveTo>
                    <a:pt x="3888" y="139"/>
                  </a:moveTo>
                  <a:cubicBezTo>
                    <a:pt x="3888" y="134"/>
                    <a:pt x="3888" y="128"/>
                    <a:pt x="3888" y="121"/>
                  </a:cubicBezTo>
                  <a:cubicBezTo>
                    <a:pt x="3888" y="125"/>
                    <a:pt x="3888" y="129"/>
                    <a:pt x="3889" y="133"/>
                  </a:cubicBezTo>
                  <a:cubicBezTo>
                    <a:pt x="3889" y="135"/>
                    <a:pt x="3889" y="137"/>
                    <a:pt x="3888" y="139"/>
                  </a:cubicBezTo>
                  <a:close/>
                  <a:moveTo>
                    <a:pt x="3888" y="104"/>
                  </a:moveTo>
                  <a:cubicBezTo>
                    <a:pt x="3888" y="102"/>
                    <a:pt x="3888" y="99"/>
                    <a:pt x="3889" y="96"/>
                  </a:cubicBezTo>
                  <a:cubicBezTo>
                    <a:pt x="3889" y="100"/>
                    <a:pt x="3889" y="104"/>
                    <a:pt x="3889" y="107"/>
                  </a:cubicBezTo>
                  <a:cubicBezTo>
                    <a:pt x="3889" y="106"/>
                    <a:pt x="3889" y="105"/>
                    <a:pt x="3888" y="104"/>
                  </a:cubicBezTo>
                  <a:close/>
                  <a:moveTo>
                    <a:pt x="3900" y="85"/>
                  </a:moveTo>
                  <a:cubicBezTo>
                    <a:pt x="3899" y="90"/>
                    <a:pt x="3898" y="96"/>
                    <a:pt x="3897" y="103"/>
                  </a:cubicBezTo>
                  <a:cubicBezTo>
                    <a:pt x="3897" y="101"/>
                    <a:pt x="3897" y="100"/>
                    <a:pt x="3896" y="99"/>
                  </a:cubicBezTo>
                  <a:cubicBezTo>
                    <a:pt x="3896" y="96"/>
                    <a:pt x="3895" y="93"/>
                    <a:pt x="3894" y="90"/>
                  </a:cubicBezTo>
                  <a:cubicBezTo>
                    <a:pt x="3895" y="93"/>
                    <a:pt x="3895" y="96"/>
                    <a:pt x="3895" y="99"/>
                  </a:cubicBezTo>
                  <a:cubicBezTo>
                    <a:pt x="3895" y="104"/>
                    <a:pt x="3894" y="112"/>
                    <a:pt x="3894" y="120"/>
                  </a:cubicBezTo>
                  <a:cubicBezTo>
                    <a:pt x="3893" y="110"/>
                    <a:pt x="3891" y="100"/>
                    <a:pt x="3889" y="91"/>
                  </a:cubicBezTo>
                  <a:cubicBezTo>
                    <a:pt x="3890" y="81"/>
                    <a:pt x="3891" y="72"/>
                    <a:pt x="3891" y="65"/>
                  </a:cubicBezTo>
                  <a:cubicBezTo>
                    <a:pt x="3895" y="69"/>
                    <a:pt x="3898" y="74"/>
                    <a:pt x="3900" y="79"/>
                  </a:cubicBezTo>
                  <a:cubicBezTo>
                    <a:pt x="3900" y="81"/>
                    <a:pt x="3900" y="83"/>
                    <a:pt x="3900" y="85"/>
                  </a:cubicBezTo>
                  <a:close/>
                  <a:moveTo>
                    <a:pt x="3900" y="75"/>
                  </a:moveTo>
                  <a:cubicBezTo>
                    <a:pt x="3900" y="75"/>
                    <a:pt x="3900" y="75"/>
                    <a:pt x="3900" y="75"/>
                  </a:cubicBezTo>
                  <a:cubicBezTo>
                    <a:pt x="3900" y="73"/>
                    <a:pt x="3900" y="72"/>
                    <a:pt x="3899" y="70"/>
                  </a:cubicBezTo>
                  <a:cubicBezTo>
                    <a:pt x="3899" y="70"/>
                    <a:pt x="3900" y="72"/>
                    <a:pt x="3900" y="75"/>
                  </a:cubicBezTo>
                  <a:cubicBezTo>
                    <a:pt x="3897" y="71"/>
                    <a:pt x="3895" y="67"/>
                    <a:pt x="3891" y="64"/>
                  </a:cubicBezTo>
                  <a:cubicBezTo>
                    <a:pt x="3892" y="60"/>
                    <a:pt x="3892" y="57"/>
                    <a:pt x="3893" y="54"/>
                  </a:cubicBezTo>
                  <a:cubicBezTo>
                    <a:pt x="3896" y="58"/>
                    <a:pt x="3899" y="62"/>
                    <a:pt x="3901" y="65"/>
                  </a:cubicBezTo>
                  <a:cubicBezTo>
                    <a:pt x="3901" y="68"/>
                    <a:pt x="3900" y="71"/>
                    <a:pt x="3900" y="75"/>
                  </a:cubicBezTo>
                  <a:close/>
                  <a:moveTo>
                    <a:pt x="3904" y="117"/>
                  </a:moveTo>
                  <a:cubicBezTo>
                    <a:pt x="3903" y="119"/>
                    <a:pt x="3902" y="122"/>
                    <a:pt x="3902" y="125"/>
                  </a:cubicBezTo>
                  <a:cubicBezTo>
                    <a:pt x="3902" y="124"/>
                    <a:pt x="3902" y="123"/>
                    <a:pt x="3902" y="122"/>
                  </a:cubicBezTo>
                  <a:cubicBezTo>
                    <a:pt x="3902" y="110"/>
                    <a:pt x="3902" y="98"/>
                    <a:pt x="3903" y="87"/>
                  </a:cubicBezTo>
                  <a:cubicBezTo>
                    <a:pt x="3904" y="92"/>
                    <a:pt x="3905" y="98"/>
                    <a:pt x="3906" y="103"/>
                  </a:cubicBezTo>
                  <a:cubicBezTo>
                    <a:pt x="3905" y="108"/>
                    <a:pt x="3904" y="112"/>
                    <a:pt x="3904" y="117"/>
                  </a:cubicBezTo>
                  <a:close/>
                  <a:moveTo>
                    <a:pt x="3907" y="89"/>
                  </a:moveTo>
                  <a:cubicBezTo>
                    <a:pt x="3906" y="86"/>
                    <a:pt x="3904" y="83"/>
                    <a:pt x="3903" y="80"/>
                  </a:cubicBezTo>
                  <a:cubicBezTo>
                    <a:pt x="3903" y="76"/>
                    <a:pt x="3903" y="72"/>
                    <a:pt x="3903" y="68"/>
                  </a:cubicBezTo>
                  <a:cubicBezTo>
                    <a:pt x="3905" y="71"/>
                    <a:pt x="3907" y="74"/>
                    <a:pt x="3909" y="78"/>
                  </a:cubicBezTo>
                  <a:cubicBezTo>
                    <a:pt x="3908" y="81"/>
                    <a:pt x="3908" y="85"/>
                    <a:pt x="3907" y="89"/>
                  </a:cubicBezTo>
                  <a:close/>
                  <a:moveTo>
                    <a:pt x="3912" y="96"/>
                  </a:moveTo>
                  <a:cubicBezTo>
                    <a:pt x="3912" y="97"/>
                    <a:pt x="3911" y="98"/>
                    <a:pt x="3911" y="99"/>
                  </a:cubicBezTo>
                  <a:cubicBezTo>
                    <a:pt x="3910" y="98"/>
                    <a:pt x="3910" y="97"/>
                    <a:pt x="3910" y="96"/>
                  </a:cubicBezTo>
                  <a:cubicBezTo>
                    <a:pt x="3910" y="91"/>
                    <a:pt x="3910" y="86"/>
                    <a:pt x="3910" y="80"/>
                  </a:cubicBezTo>
                  <a:cubicBezTo>
                    <a:pt x="3911" y="83"/>
                    <a:pt x="3912" y="86"/>
                    <a:pt x="3913" y="88"/>
                  </a:cubicBezTo>
                  <a:cubicBezTo>
                    <a:pt x="3913" y="91"/>
                    <a:pt x="3913" y="93"/>
                    <a:pt x="3912" y="96"/>
                  </a:cubicBezTo>
                  <a:close/>
                  <a:moveTo>
                    <a:pt x="3934" y="105"/>
                  </a:moveTo>
                  <a:cubicBezTo>
                    <a:pt x="3933" y="103"/>
                    <a:pt x="3933" y="102"/>
                    <a:pt x="3932" y="101"/>
                  </a:cubicBezTo>
                  <a:cubicBezTo>
                    <a:pt x="3934" y="96"/>
                    <a:pt x="3935" y="92"/>
                    <a:pt x="3936" y="89"/>
                  </a:cubicBezTo>
                  <a:cubicBezTo>
                    <a:pt x="3936" y="89"/>
                    <a:pt x="3937" y="89"/>
                    <a:pt x="3937" y="90"/>
                  </a:cubicBezTo>
                  <a:cubicBezTo>
                    <a:pt x="3936" y="95"/>
                    <a:pt x="3935" y="100"/>
                    <a:pt x="3934" y="105"/>
                  </a:cubicBezTo>
                  <a:close/>
                  <a:moveTo>
                    <a:pt x="3950" y="81"/>
                  </a:moveTo>
                  <a:cubicBezTo>
                    <a:pt x="3950" y="81"/>
                    <a:pt x="3950" y="81"/>
                    <a:pt x="3951" y="81"/>
                  </a:cubicBezTo>
                  <a:cubicBezTo>
                    <a:pt x="3950" y="81"/>
                    <a:pt x="3950" y="81"/>
                    <a:pt x="3950" y="81"/>
                  </a:cubicBezTo>
                  <a:cubicBezTo>
                    <a:pt x="3950" y="81"/>
                    <a:pt x="3950" y="81"/>
                    <a:pt x="3950" y="81"/>
                  </a:cubicBezTo>
                  <a:close/>
                  <a:moveTo>
                    <a:pt x="3950" y="88"/>
                  </a:moveTo>
                  <a:cubicBezTo>
                    <a:pt x="3950" y="89"/>
                    <a:pt x="3950" y="89"/>
                    <a:pt x="3950" y="89"/>
                  </a:cubicBezTo>
                  <a:cubicBezTo>
                    <a:pt x="3950" y="90"/>
                    <a:pt x="3950" y="91"/>
                    <a:pt x="3949" y="91"/>
                  </a:cubicBezTo>
                  <a:cubicBezTo>
                    <a:pt x="3950" y="90"/>
                    <a:pt x="3950" y="89"/>
                    <a:pt x="3950" y="88"/>
                  </a:cubicBezTo>
                  <a:close/>
                  <a:moveTo>
                    <a:pt x="3941" y="122"/>
                  </a:moveTo>
                  <a:cubicBezTo>
                    <a:pt x="3941" y="122"/>
                    <a:pt x="3941" y="123"/>
                    <a:pt x="3941" y="123"/>
                  </a:cubicBezTo>
                  <a:cubicBezTo>
                    <a:pt x="3941" y="123"/>
                    <a:pt x="3941" y="123"/>
                    <a:pt x="3941" y="123"/>
                  </a:cubicBezTo>
                  <a:cubicBezTo>
                    <a:pt x="3941" y="123"/>
                    <a:pt x="3941" y="122"/>
                    <a:pt x="3941" y="122"/>
                  </a:cubicBezTo>
                  <a:cubicBezTo>
                    <a:pt x="3941" y="120"/>
                    <a:pt x="3942" y="118"/>
                    <a:pt x="3942" y="115"/>
                  </a:cubicBezTo>
                  <a:cubicBezTo>
                    <a:pt x="3942" y="115"/>
                    <a:pt x="3942" y="115"/>
                    <a:pt x="3942" y="115"/>
                  </a:cubicBezTo>
                  <a:cubicBezTo>
                    <a:pt x="3942" y="116"/>
                    <a:pt x="3942" y="117"/>
                    <a:pt x="3942" y="118"/>
                  </a:cubicBezTo>
                  <a:cubicBezTo>
                    <a:pt x="3942" y="119"/>
                    <a:pt x="3941" y="121"/>
                    <a:pt x="3941" y="122"/>
                  </a:cubicBezTo>
                  <a:close/>
                  <a:moveTo>
                    <a:pt x="3943" y="70"/>
                  </a:moveTo>
                  <a:cubicBezTo>
                    <a:pt x="3946" y="73"/>
                    <a:pt x="3948" y="76"/>
                    <a:pt x="3949" y="79"/>
                  </a:cubicBezTo>
                  <a:cubicBezTo>
                    <a:pt x="3949" y="81"/>
                    <a:pt x="3949" y="82"/>
                    <a:pt x="3948" y="84"/>
                  </a:cubicBezTo>
                  <a:cubicBezTo>
                    <a:pt x="3948" y="84"/>
                    <a:pt x="3948" y="84"/>
                    <a:pt x="3948" y="84"/>
                  </a:cubicBezTo>
                  <a:cubicBezTo>
                    <a:pt x="3948" y="82"/>
                    <a:pt x="3947" y="81"/>
                    <a:pt x="3946" y="79"/>
                  </a:cubicBezTo>
                  <a:cubicBezTo>
                    <a:pt x="3947" y="81"/>
                    <a:pt x="3947" y="83"/>
                    <a:pt x="3948" y="84"/>
                  </a:cubicBezTo>
                  <a:cubicBezTo>
                    <a:pt x="3946" y="87"/>
                    <a:pt x="3945" y="90"/>
                    <a:pt x="3943" y="93"/>
                  </a:cubicBezTo>
                  <a:cubicBezTo>
                    <a:pt x="3944" y="85"/>
                    <a:pt x="3944" y="77"/>
                    <a:pt x="3943" y="70"/>
                  </a:cubicBezTo>
                  <a:close/>
                  <a:moveTo>
                    <a:pt x="3946" y="98"/>
                  </a:moveTo>
                  <a:cubicBezTo>
                    <a:pt x="3946" y="98"/>
                    <a:pt x="3946" y="97"/>
                    <a:pt x="3945" y="96"/>
                  </a:cubicBezTo>
                  <a:cubicBezTo>
                    <a:pt x="3946" y="97"/>
                    <a:pt x="3946" y="98"/>
                    <a:pt x="3946" y="98"/>
                  </a:cubicBezTo>
                  <a:cubicBezTo>
                    <a:pt x="3946" y="99"/>
                    <a:pt x="3946" y="100"/>
                    <a:pt x="3945" y="100"/>
                  </a:cubicBezTo>
                  <a:cubicBezTo>
                    <a:pt x="3945" y="99"/>
                    <a:pt x="3945" y="98"/>
                    <a:pt x="3944" y="97"/>
                  </a:cubicBezTo>
                  <a:cubicBezTo>
                    <a:pt x="3945" y="95"/>
                    <a:pt x="3946" y="93"/>
                    <a:pt x="3947" y="90"/>
                  </a:cubicBezTo>
                  <a:cubicBezTo>
                    <a:pt x="3947" y="93"/>
                    <a:pt x="3946" y="96"/>
                    <a:pt x="3946" y="98"/>
                  </a:cubicBezTo>
                  <a:close/>
                  <a:moveTo>
                    <a:pt x="3953" y="100"/>
                  </a:moveTo>
                  <a:cubicBezTo>
                    <a:pt x="3951" y="104"/>
                    <a:pt x="3950" y="107"/>
                    <a:pt x="3948" y="110"/>
                  </a:cubicBezTo>
                  <a:cubicBezTo>
                    <a:pt x="3948" y="110"/>
                    <a:pt x="3948" y="109"/>
                    <a:pt x="3948" y="109"/>
                  </a:cubicBezTo>
                  <a:cubicBezTo>
                    <a:pt x="3948" y="106"/>
                    <a:pt x="3949" y="102"/>
                    <a:pt x="3949" y="99"/>
                  </a:cubicBezTo>
                  <a:cubicBezTo>
                    <a:pt x="3950" y="95"/>
                    <a:pt x="3950" y="92"/>
                    <a:pt x="3950" y="90"/>
                  </a:cubicBezTo>
                  <a:cubicBezTo>
                    <a:pt x="3951" y="93"/>
                    <a:pt x="3952" y="96"/>
                    <a:pt x="3953" y="100"/>
                  </a:cubicBezTo>
                  <a:cubicBezTo>
                    <a:pt x="3953" y="100"/>
                    <a:pt x="3953" y="100"/>
                    <a:pt x="3953" y="100"/>
                  </a:cubicBezTo>
                  <a:close/>
                  <a:moveTo>
                    <a:pt x="3953" y="97"/>
                  </a:moveTo>
                  <a:cubicBezTo>
                    <a:pt x="3952" y="95"/>
                    <a:pt x="3951" y="92"/>
                    <a:pt x="3950" y="89"/>
                  </a:cubicBezTo>
                  <a:cubicBezTo>
                    <a:pt x="3950" y="89"/>
                    <a:pt x="3950" y="89"/>
                    <a:pt x="3950" y="88"/>
                  </a:cubicBezTo>
                  <a:cubicBezTo>
                    <a:pt x="3950" y="89"/>
                    <a:pt x="3950" y="89"/>
                    <a:pt x="3950" y="89"/>
                  </a:cubicBezTo>
                  <a:cubicBezTo>
                    <a:pt x="3950" y="89"/>
                    <a:pt x="3950" y="88"/>
                    <a:pt x="3950" y="88"/>
                  </a:cubicBezTo>
                  <a:cubicBezTo>
                    <a:pt x="3950" y="87"/>
                    <a:pt x="3950" y="86"/>
                    <a:pt x="3950" y="85"/>
                  </a:cubicBezTo>
                  <a:cubicBezTo>
                    <a:pt x="3950" y="84"/>
                    <a:pt x="3951" y="83"/>
                    <a:pt x="3951" y="82"/>
                  </a:cubicBezTo>
                  <a:cubicBezTo>
                    <a:pt x="3952" y="84"/>
                    <a:pt x="3953" y="86"/>
                    <a:pt x="3954" y="88"/>
                  </a:cubicBezTo>
                  <a:cubicBezTo>
                    <a:pt x="3954" y="91"/>
                    <a:pt x="3954" y="94"/>
                    <a:pt x="3953" y="97"/>
                  </a:cubicBezTo>
                  <a:close/>
                  <a:moveTo>
                    <a:pt x="3955" y="135"/>
                  </a:moveTo>
                  <a:cubicBezTo>
                    <a:pt x="3955" y="136"/>
                    <a:pt x="3955" y="137"/>
                    <a:pt x="3955" y="138"/>
                  </a:cubicBezTo>
                  <a:cubicBezTo>
                    <a:pt x="3955" y="137"/>
                    <a:pt x="3955" y="136"/>
                    <a:pt x="3955" y="135"/>
                  </a:cubicBezTo>
                  <a:cubicBezTo>
                    <a:pt x="3955" y="135"/>
                    <a:pt x="3955" y="135"/>
                    <a:pt x="3955" y="135"/>
                  </a:cubicBezTo>
                  <a:close/>
                  <a:moveTo>
                    <a:pt x="3955" y="83"/>
                  </a:moveTo>
                  <a:cubicBezTo>
                    <a:pt x="3954" y="82"/>
                    <a:pt x="3953" y="81"/>
                    <a:pt x="3953" y="80"/>
                  </a:cubicBezTo>
                  <a:cubicBezTo>
                    <a:pt x="3954" y="78"/>
                    <a:pt x="3955" y="77"/>
                    <a:pt x="3956" y="75"/>
                  </a:cubicBezTo>
                  <a:cubicBezTo>
                    <a:pt x="3955" y="78"/>
                    <a:pt x="3955" y="81"/>
                    <a:pt x="3955" y="83"/>
                  </a:cubicBezTo>
                  <a:close/>
                  <a:moveTo>
                    <a:pt x="3956" y="74"/>
                  </a:moveTo>
                  <a:cubicBezTo>
                    <a:pt x="3954" y="76"/>
                    <a:pt x="3953" y="77"/>
                    <a:pt x="3952" y="79"/>
                  </a:cubicBezTo>
                  <a:cubicBezTo>
                    <a:pt x="3951" y="78"/>
                    <a:pt x="3951" y="78"/>
                    <a:pt x="3951" y="77"/>
                  </a:cubicBezTo>
                  <a:cubicBezTo>
                    <a:pt x="3951" y="72"/>
                    <a:pt x="3951" y="67"/>
                    <a:pt x="3952" y="65"/>
                  </a:cubicBezTo>
                  <a:cubicBezTo>
                    <a:pt x="3953" y="67"/>
                    <a:pt x="3954" y="70"/>
                    <a:pt x="3956" y="72"/>
                  </a:cubicBezTo>
                  <a:cubicBezTo>
                    <a:pt x="3956" y="73"/>
                    <a:pt x="3956" y="73"/>
                    <a:pt x="3956" y="74"/>
                  </a:cubicBezTo>
                  <a:close/>
                  <a:moveTo>
                    <a:pt x="3958" y="75"/>
                  </a:moveTo>
                  <a:cubicBezTo>
                    <a:pt x="3959" y="78"/>
                    <a:pt x="3961" y="81"/>
                    <a:pt x="3963" y="84"/>
                  </a:cubicBezTo>
                  <a:cubicBezTo>
                    <a:pt x="3961" y="86"/>
                    <a:pt x="3960" y="88"/>
                    <a:pt x="3959" y="90"/>
                  </a:cubicBezTo>
                  <a:cubicBezTo>
                    <a:pt x="3959" y="89"/>
                    <a:pt x="3958" y="89"/>
                    <a:pt x="3958" y="89"/>
                  </a:cubicBezTo>
                  <a:cubicBezTo>
                    <a:pt x="3958" y="84"/>
                    <a:pt x="3958" y="79"/>
                    <a:pt x="3958" y="75"/>
                  </a:cubicBezTo>
                  <a:close/>
                  <a:moveTo>
                    <a:pt x="3960" y="110"/>
                  </a:moveTo>
                  <a:cubicBezTo>
                    <a:pt x="3960" y="107"/>
                    <a:pt x="3959" y="104"/>
                    <a:pt x="3958" y="101"/>
                  </a:cubicBezTo>
                  <a:cubicBezTo>
                    <a:pt x="3958" y="100"/>
                    <a:pt x="3958" y="100"/>
                    <a:pt x="3958" y="100"/>
                  </a:cubicBezTo>
                  <a:cubicBezTo>
                    <a:pt x="3958" y="100"/>
                    <a:pt x="3959" y="99"/>
                    <a:pt x="3959" y="99"/>
                  </a:cubicBezTo>
                  <a:cubicBezTo>
                    <a:pt x="3960" y="101"/>
                    <a:pt x="3960" y="104"/>
                    <a:pt x="3961" y="106"/>
                  </a:cubicBezTo>
                  <a:cubicBezTo>
                    <a:pt x="3961" y="108"/>
                    <a:pt x="3961" y="109"/>
                    <a:pt x="3960" y="110"/>
                  </a:cubicBezTo>
                  <a:close/>
                  <a:moveTo>
                    <a:pt x="3961" y="93"/>
                  </a:moveTo>
                  <a:cubicBezTo>
                    <a:pt x="3962" y="91"/>
                    <a:pt x="3963" y="88"/>
                    <a:pt x="3964" y="86"/>
                  </a:cubicBezTo>
                  <a:cubicBezTo>
                    <a:pt x="3964" y="87"/>
                    <a:pt x="3965" y="87"/>
                    <a:pt x="3965" y="88"/>
                  </a:cubicBezTo>
                  <a:cubicBezTo>
                    <a:pt x="3964" y="91"/>
                    <a:pt x="3964" y="94"/>
                    <a:pt x="3963" y="97"/>
                  </a:cubicBezTo>
                  <a:cubicBezTo>
                    <a:pt x="3962" y="96"/>
                    <a:pt x="3961" y="95"/>
                    <a:pt x="3961" y="93"/>
                  </a:cubicBezTo>
                  <a:close/>
                  <a:moveTo>
                    <a:pt x="3964" y="130"/>
                  </a:moveTo>
                  <a:cubicBezTo>
                    <a:pt x="3964" y="129"/>
                    <a:pt x="3964" y="128"/>
                    <a:pt x="3964" y="126"/>
                  </a:cubicBezTo>
                  <a:cubicBezTo>
                    <a:pt x="3964" y="124"/>
                    <a:pt x="3964" y="121"/>
                    <a:pt x="3965" y="119"/>
                  </a:cubicBezTo>
                  <a:cubicBezTo>
                    <a:pt x="3965" y="120"/>
                    <a:pt x="3966" y="122"/>
                    <a:pt x="3966" y="124"/>
                  </a:cubicBezTo>
                  <a:cubicBezTo>
                    <a:pt x="3965" y="126"/>
                    <a:pt x="3965" y="128"/>
                    <a:pt x="3964" y="130"/>
                  </a:cubicBezTo>
                  <a:close/>
                  <a:moveTo>
                    <a:pt x="3968" y="108"/>
                  </a:moveTo>
                  <a:cubicBezTo>
                    <a:pt x="3968" y="107"/>
                    <a:pt x="3967" y="106"/>
                    <a:pt x="3967" y="105"/>
                  </a:cubicBezTo>
                  <a:cubicBezTo>
                    <a:pt x="3967" y="102"/>
                    <a:pt x="3968" y="99"/>
                    <a:pt x="3969" y="96"/>
                  </a:cubicBezTo>
                  <a:cubicBezTo>
                    <a:pt x="3969" y="96"/>
                    <a:pt x="3969" y="97"/>
                    <a:pt x="3969" y="97"/>
                  </a:cubicBezTo>
                  <a:cubicBezTo>
                    <a:pt x="3969" y="101"/>
                    <a:pt x="3968" y="105"/>
                    <a:pt x="3968" y="108"/>
                  </a:cubicBezTo>
                  <a:close/>
                  <a:moveTo>
                    <a:pt x="3970" y="86"/>
                  </a:moveTo>
                  <a:cubicBezTo>
                    <a:pt x="3970" y="86"/>
                    <a:pt x="3970" y="86"/>
                    <a:pt x="3970" y="86"/>
                  </a:cubicBezTo>
                  <a:cubicBezTo>
                    <a:pt x="3970" y="85"/>
                    <a:pt x="3971" y="84"/>
                    <a:pt x="3971" y="83"/>
                  </a:cubicBezTo>
                  <a:cubicBezTo>
                    <a:pt x="3971" y="84"/>
                    <a:pt x="3970" y="85"/>
                    <a:pt x="3970" y="86"/>
                  </a:cubicBezTo>
                  <a:close/>
                  <a:moveTo>
                    <a:pt x="3978" y="80"/>
                  </a:moveTo>
                  <a:cubicBezTo>
                    <a:pt x="3978" y="77"/>
                    <a:pt x="3978" y="75"/>
                    <a:pt x="3978" y="73"/>
                  </a:cubicBezTo>
                  <a:cubicBezTo>
                    <a:pt x="3979" y="73"/>
                    <a:pt x="3979" y="74"/>
                    <a:pt x="3979" y="74"/>
                  </a:cubicBezTo>
                  <a:cubicBezTo>
                    <a:pt x="3979" y="76"/>
                    <a:pt x="3979" y="78"/>
                    <a:pt x="3978" y="80"/>
                  </a:cubicBezTo>
                  <a:close/>
                  <a:moveTo>
                    <a:pt x="3990" y="93"/>
                  </a:moveTo>
                  <a:cubicBezTo>
                    <a:pt x="3989" y="95"/>
                    <a:pt x="3989" y="96"/>
                    <a:pt x="3988" y="97"/>
                  </a:cubicBezTo>
                  <a:cubicBezTo>
                    <a:pt x="3988" y="94"/>
                    <a:pt x="3988" y="91"/>
                    <a:pt x="3987" y="88"/>
                  </a:cubicBezTo>
                  <a:cubicBezTo>
                    <a:pt x="3988" y="89"/>
                    <a:pt x="3989" y="91"/>
                    <a:pt x="3990" y="93"/>
                  </a:cubicBezTo>
                  <a:close/>
                  <a:moveTo>
                    <a:pt x="3991" y="88"/>
                  </a:moveTo>
                  <a:cubicBezTo>
                    <a:pt x="3990" y="86"/>
                    <a:pt x="3989" y="85"/>
                    <a:pt x="3988" y="84"/>
                  </a:cubicBezTo>
                  <a:cubicBezTo>
                    <a:pt x="3989" y="81"/>
                    <a:pt x="3991" y="78"/>
                    <a:pt x="3993" y="75"/>
                  </a:cubicBezTo>
                  <a:cubicBezTo>
                    <a:pt x="3992" y="79"/>
                    <a:pt x="3991" y="84"/>
                    <a:pt x="3991" y="88"/>
                  </a:cubicBezTo>
                  <a:close/>
                  <a:moveTo>
                    <a:pt x="4000" y="77"/>
                  </a:moveTo>
                  <a:cubicBezTo>
                    <a:pt x="4000" y="77"/>
                    <a:pt x="4000" y="77"/>
                    <a:pt x="4000" y="77"/>
                  </a:cubicBezTo>
                  <a:cubicBezTo>
                    <a:pt x="4000" y="74"/>
                    <a:pt x="3999" y="70"/>
                    <a:pt x="3999" y="66"/>
                  </a:cubicBezTo>
                  <a:cubicBezTo>
                    <a:pt x="3999" y="65"/>
                    <a:pt x="4000" y="64"/>
                    <a:pt x="4000" y="63"/>
                  </a:cubicBezTo>
                  <a:cubicBezTo>
                    <a:pt x="4001" y="67"/>
                    <a:pt x="4001" y="72"/>
                    <a:pt x="4000" y="77"/>
                  </a:cubicBezTo>
                  <a:close/>
                  <a:moveTo>
                    <a:pt x="4003" y="72"/>
                  </a:moveTo>
                  <a:cubicBezTo>
                    <a:pt x="4003" y="67"/>
                    <a:pt x="4002" y="64"/>
                    <a:pt x="4001" y="61"/>
                  </a:cubicBezTo>
                  <a:cubicBezTo>
                    <a:pt x="4002" y="60"/>
                    <a:pt x="4003" y="58"/>
                    <a:pt x="4004" y="57"/>
                  </a:cubicBezTo>
                  <a:cubicBezTo>
                    <a:pt x="4004" y="62"/>
                    <a:pt x="4004" y="67"/>
                    <a:pt x="4003" y="72"/>
                  </a:cubicBezTo>
                  <a:close/>
                  <a:moveTo>
                    <a:pt x="4019" y="89"/>
                  </a:moveTo>
                  <a:cubicBezTo>
                    <a:pt x="4020" y="91"/>
                    <a:pt x="4021" y="92"/>
                    <a:pt x="4021" y="94"/>
                  </a:cubicBezTo>
                  <a:cubicBezTo>
                    <a:pt x="4021" y="95"/>
                    <a:pt x="4020" y="97"/>
                    <a:pt x="4020" y="98"/>
                  </a:cubicBezTo>
                  <a:cubicBezTo>
                    <a:pt x="4019" y="97"/>
                    <a:pt x="4019" y="96"/>
                    <a:pt x="4018" y="95"/>
                  </a:cubicBezTo>
                  <a:cubicBezTo>
                    <a:pt x="4018" y="93"/>
                    <a:pt x="4019" y="91"/>
                    <a:pt x="4019" y="89"/>
                  </a:cubicBezTo>
                  <a:close/>
                  <a:moveTo>
                    <a:pt x="4018" y="101"/>
                  </a:moveTo>
                  <a:cubicBezTo>
                    <a:pt x="4018" y="101"/>
                    <a:pt x="4018" y="100"/>
                    <a:pt x="4018" y="100"/>
                  </a:cubicBezTo>
                  <a:cubicBezTo>
                    <a:pt x="4018" y="100"/>
                    <a:pt x="4018" y="101"/>
                    <a:pt x="4018" y="101"/>
                  </a:cubicBezTo>
                  <a:cubicBezTo>
                    <a:pt x="4018" y="101"/>
                    <a:pt x="4018" y="101"/>
                    <a:pt x="4018" y="101"/>
                  </a:cubicBezTo>
                  <a:close/>
                  <a:moveTo>
                    <a:pt x="4020" y="122"/>
                  </a:moveTo>
                  <a:cubicBezTo>
                    <a:pt x="4020" y="121"/>
                    <a:pt x="4019" y="120"/>
                    <a:pt x="4019" y="119"/>
                  </a:cubicBezTo>
                  <a:cubicBezTo>
                    <a:pt x="4019" y="117"/>
                    <a:pt x="4019" y="115"/>
                    <a:pt x="4019" y="112"/>
                  </a:cubicBezTo>
                  <a:cubicBezTo>
                    <a:pt x="4019" y="110"/>
                    <a:pt x="4019" y="108"/>
                    <a:pt x="4020" y="106"/>
                  </a:cubicBezTo>
                  <a:cubicBezTo>
                    <a:pt x="4020" y="108"/>
                    <a:pt x="4021" y="110"/>
                    <a:pt x="4021" y="112"/>
                  </a:cubicBezTo>
                  <a:cubicBezTo>
                    <a:pt x="4021" y="115"/>
                    <a:pt x="4021" y="119"/>
                    <a:pt x="4020" y="122"/>
                  </a:cubicBezTo>
                  <a:close/>
                  <a:moveTo>
                    <a:pt x="4022" y="103"/>
                  </a:moveTo>
                  <a:cubicBezTo>
                    <a:pt x="4022" y="102"/>
                    <a:pt x="4021" y="101"/>
                    <a:pt x="4021" y="100"/>
                  </a:cubicBezTo>
                  <a:cubicBezTo>
                    <a:pt x="4021" y="99"/>
                    <a:pt x="4022" y="97"/>
                    <a:pt x="4022" y="96"/>
                  </a:cubicBezTo>
                  <a:cubicBezTo>
                    <a:pt x="4022" y="97"/>
                    <a:pt x="4023" y="97"/>
                    <a:pt x="4023" y="98"/>
                  </a:cubicBezTo>
                  <a:cubicBezTo>
                    <a:pt x="4023" y="100"/>
                    <a:pt x="4022" y="101"/>
                    <a:pt x="4022" y="103"/>
                  </a:cubicBezTo>
                  <a:close/>
                  <a:moveTo>
                    <a:pt x="4023" y="96"/>
                  </a:moveTo>
                  <a:cubicBezTo>
                    <a:pt x="4023" y="95"/>
                    <a:pt x="4023" y="95"/>
                    <a:pt x="4022" y="95"/>
                  </a:cubicBezTo>
                  <a:cubicBezTo>
                    <a:pt x="4023" y="93"/>
                    <a:pt x="4023" y="92"/>
                    <a:pt x="4024" y="91"/>
                  </a:cubicBezTo>
                  <a:cubicBezTo>
                    <a:pt x="4023" y="93"/>
                    <a:pt x="4023" y="94"/>
                    <a:pt x="4023" y="96"/>
                  </a:cubicBezTo>
                  <a:close/>
                  <a:moveTo>
                    <a:pt x="4029" y="95"/>
                  </a:moveTo>
                  <a:cubicBezTo>
                    <a:pt x="4029" y="92"/>
                    <a:pt x="4030" y="89"/>
                    <a:pt x="4030" y="86"/>
                  </a:cubicBezTo>
                  <a:cubicBezTo>
                    <a:pt x="4030" y="86"/>
                    <a:pt x="4031" y="87"/>
                    <a:pt x="4031" y="88"/>
                  </a:cubicBezTo>
                  <a:cubicBezTo>
                    <a:pt x="4031" y="90"/>
                    <a:pt x="4030" y="92"/>
                    <a:pt x="4029" y="95"/>
                  </a:cubicBezTo>
                  <a:close/>
                  <a:moveTo>
                    <a:pt x="4040" y="99"/>
                  </a:moveTo>
                  <a:cubicBezTo>
                    <a:pt x="4040" y="99"/>
                    <a:pt x="4039" y="98"/>
                    <a:pt x="4039" y="97"/>
                  </a:cubicBezTo>
                  <a:cubicBezTo>
                    <a:pt x="4039" y="93"/>
                    <a:pt x="4039" y="89"/>
                    <a:pt x="4039" y="84"/>
                  </a:cubicBezTo>
                  <a:cubicBezTo>
                    <a:pt x="4040" y="80"/>
                    <a:pt x="4043" y="76"/>
                    <a:pt x="4045" y="72"/>
                  </a:cubicBezTo>
                  <a:cubicBezTo>
                    <a:pt x="4046" y="74"/>
                    <a:pt x="4046" y="78"/>
                    <a:pt x="4047" y="82"/>
                  </a:cubicBezTo>
                  <a:cubicBezTo>
                    <a:pt x="4044" y="88"/>
                    <a:pt x="4042" y="93"/>
                    <a:pt x="4040" y="99"/>
                  </a:cubicBezTo>
                  <a:close/>
                  <a:moveTo>
                    <a:pt x="4048" y="75"/>
                  </a:moveTo>
                  <a:cubicBezTo>
                    <a:pt x="4048" y="73"/>
                    <a:pt x="4047" y="71"/>
                    <a:pt x="4047" y="69"/>
                  </a:cubicBezTo>
                  <a:cubicBezTo>
                    <a:pt x="4048" y="68"/>
                    <a:pt x="4048" y="67"/>
                    <a:pt x="4049" y="66"/>
                  </a:cubicBezTo>
                  <a:cubicBezTo>
                    <a:pt x="4049" y="69"/>
                    <a:pt x="4048" y="72"/>
                    <a:pt x="4048" y="75"/>
                  </a:cubicBezTo>
                  <a:close/>
                  <a:moveTo>
                    <a:pt x="4056" y="72"/>
                  </a:moveTo>
                  <a:cubicBezTo>
                    <a:pt x="4056" y="71"/>
                    <a:pt x="4056" y="70"/>
                    <a:pt x="4056" y="70"/>
                  </a:cubicBezTo>
                  <a:cubicBezTo>
                    <a:pt x="4056" y="69"/>
                    <a:pt x="4056" y="69"/>
                    <a:pt x="4056" y="69"/>
                  </a:cubicBezTo>
                  <a:cubicBezTo>
                    <a:pt x="4056" y="71"/>
                    <a:pt x="4056" y="72"/>
                    <a:pt x="4056" y="72"/>
                  </a:cubicBezTo>
                  <a:close/>
                  <a:moveTo>
                    <a:pt x="4056" y="67"/>
                  </a:moveTo>
                  <a:cubicBezTo>
                    <a:pt x="4056" y="67"/>
                    <a:pt x="4056" y="68"/>
                    <a:pt x="4056" y="68"/>
                  </a:cubicBezTo>
                  <a:cubicBezTo>
                    <a:pt x="4056" y="65"/>
                    <a:pt x="4055" y="61"/>
                    <a:pt x="4055" y="58"/>
                  </a:cubicBezTo>
                  <a:cubicBezTo>
                    <a:pt x="4055" y="57"/>
                    <a:pt x="4056" y="56"/>
                    <a:pt x="4057" y="56"/>
                  </a:cubicBezTo>
                  <a:cubicBezTo>
                    <a:pt x="4056" y="60"/>
                    <a:pt x="4056" y="64"/>
                    <a:pt x="4056" y="67"/>
                  </a:cubicBezTo>
                  <a:close/>
                  <a:moveTo>
                    <a:pt x="4064" y="123"/>
                  </a:moveTo>
                  <a:cubicBezTo>
                    <a:pt x="4063" y="124"/>
                    <a:pt x="4062" y="126"/>
                    <a:pt x="4062" y="127"/>
                  </a:cubicBezTo>
                  <a:cubicBezTo>
                    <a:pt x="4062" y="124"/>
                    <a:pt x="4062" y="122"/>
                    <a:pt x="4061" y="119"/>
                  </a:cubicBezTo>
                  <a:cubicBezTo>
                    <a:pt x="4063" y="116"/>
                    <a:pt x="4064" y="112"/>
                    <a:pt x="4065" y="109"/>
                  </a:cubicBezTo>
                  <a:cubicBezTo>
                    <a:pt x="4065" y="111"/>
                    <a:pt x="4065" y="112"/>
                    <a:pt x="4065" y="114"/>
                  </a:cubicBezTo>
                  <a:cubicBezTo>
                    <a:pt x="4065" y="117"/>
                    <a:pt x="4064" y="120"/>
                    <a:pt x="4064" y="123"/>
                  </a:cubicBezTo>
                  <a:close/>
                  <a:moveTo>
                    <a:pt x="4066" y="110"/>
                  </a:moveTo>
                  <a:cubicBezTo>
                    <a:pt x="4066" y="111"/>
                    <a:pt x="4066" y="112"/>
                    <a:pt x="4065" y="112"/>
                  </a:cubicBezTo>
                  <a:cubicBezTo>
                    <a:pt x="4065" y="111"/>
                    <a:pt x="4065" y="110"/>
                    <a:pt x="4065" y="109"/>
                  </a:cubicBezTo>
                  <a:cubicBezTo>
                    <a:pt x="4065" y="107"/>
                    <a:pt x="4066" y="105"/>
                    <a:pt x="4066" y="102"/>
                  </a:cubicBezTo>
                  <a:cubicBezTo>
                    <a:pt x="4066" y="105"/>
                    <a:pt x="4066" y="108"/>
                    <a:pt x="4066" y="110"/>
                  </a:cubicBezTo>
                  <a:close/>
                  <a:moveTo>
                    <a:pt x="4068" y="83"/>
                  </a:moveTo>
                  <a:cubicBezTo>
                    <a:pt x="4068" y="83"/>
                    <a:pt x="4068" y="84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7" y="85"/>
                    <a:pt x="4067" y="85"/>
                    <a:pt x="4067" y="85"/>
                  </a:cubicBezTo>
                  <a:cubicBezTo>
                    <a:pt x="4066" y="87"/>
                    <a:pt x="4065" y="89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1"/>
                    <a:pt x="4064" y="91"/>
                    <a:pt x="4064" y="91"/>
                  </a:cubicBezTo>
                  <a:cubicBezTo>
                    <a:pt x="4064" y="92"/>
                    <a:pt x="4063" y="94"/>
                    <a:pt x="4062" y="96"/>
                  </a:cubicBezTo>
                  <a:cubicBezTo>
                    <a:pt x="4062" y="90"/>
                    <a:pt x="4063" y="85"/>
                    <a:pt x="4065" y="79"/>
                  </a:cubicBezTo>
                  <a:cubicBezTo>
                    <a:pt x="4063" y="85"/>
                    <a:pt x="4062" y="90"/>
                    <a:pt x="4060" y="95"/>
                  </a:cubicBezTo>
                  <a:cubicBezTo>
                    <a:pt x="4060" y="85"/>
                    <a:pt x="4061" y="74"/>
                    <a:pt x="4061" y="63"/>
                  </a:cubicBezTo>
                  <a:cubicBezTo>
                    <a:pt x="4064" y="60"/>
                    <a:pt x="4067" y="58"/>
                    <a:pt x="4070" y="55"/>
                  </a:cubicBezTo>
                  <a:cubicBezTo>
                    <a:pt x="4070" y="62"/>
                    <a:pt x="4069" y="72"/>
                    <a:pt x="4068" y="83"/>
                  </a:cubicBezTo>
                  <a:close/>
                  <a:moveTo>
                    <a:pt x="4074" y="105"/>
                  </a:moveTo>
                  <a:cubicBezTo>
                    <a:pt x="4074" y="102"/>
                    <a:pt x="4074" y="99"/>
                    <a:pt x="4074" y="96"/>
                  </a:cubicBezTo>
                  <a:cubicBezTo>
                    <a:pt x="4074" y="97"/>
                    <a:pt x="4075" y="99"/>
                    <a:pt x="4075" y="100"/>
                  </a:cubicBezTo>
                  <a:cubicBezTo>
                    <a:pt x="4075" y="102"/>
                    <a:pt x="4075" y="103"/>
                    <a:pt x="4074" y="105"/>
                  </a:cubicBezTo>
                  <a:cubicBezTo>
                    <a:pt x="4074" y="105"/>
                    <a:pt x="4074" y="105"/>
                    <a:pt x="4074" y="105"/>
                  </a:cubicBezTo>
                  <a:close/>
                  <a:moveTo>
                    <a:pt x="4075" y="130"/>
                  </a:moveTo>
                  <a:cubicBezTo>
                    <a:pt x="4075" y="130"/>
                    <a:pt x="4075" y="130"/>
                    <a:pt x="4075" y="130"/>
                  </a:cubicBezTo>
                  <a:cubicBezTo>
                    <a:pt x="4075" y="129"/>
                    <a:pt x="4075" y="128"/>
                    <a:pt x="4075" y="127"/>
                  </a:cubicBezTo>
                  <a:cubicBezTo>
                    <a:pt x="4075" y="128"/>
                    <a:pt x="4075" y="128"/>
                    <a:pt x="4076" y="129"/>
                  </a:cubicBezTo>
                  <a:cubicBezTo>
                    <a:pt x="4075" y="129"/>
                    <a:pt x="4075" y="130"/>
                    <a:pt x="4075" y="130"/>
                  </a:cubicBezTo>
                  <a:close/>
                  <a:moveTo>
                    <a:pt x="4082" y="74"/>
                  </a:moveTo>
                  <a:cubicBezTo>
                    <a:pt x="4082" y="73"/>
                    <a:pt x="4082" y="71"/>
                    <a:pt x="4082" y="70"/>
                  </a:cubicBezTo>
                  <a:cubicBezTo>
                    <a:pt x="4082" y="70"/>
                    <a:pt x="4083" y="71"/>
                    <a:pt x="4083" y="72"/>
                  </a:cubicBezTo>
                  <a:cubicBezTo>
                    <a:pt x="4083" y="72"/>
                    <a:pt x="4083" y="73"/>
                    <a:pt x="4082" y="74"/>
                  </a:cubicBezTo>
                  <a:close/>
                  <a:moveTo>
                    <a:pt x="4086" y="139"/>
                  </a:moveTo>
                  <a:cubicBezTo>
                    <a:pt x="4086" y="140"/>
                    <a:pt x="4086" y="141"/>
                    <a:pt x="4086" y="142"/>
                  </a:cubicBezTo>
                  <a:cubicBezTo>
                    <a:pt x="4086" y="142"/>
                    <a:pt x="4086" y="141"/>
                    <a:pt x="4086" y="139"/>
                  </a:cubicBezTo>
                  <a:cubicBezTo>
                    <a:pt x="4086" y="138"/>
                    <a:pt x="4086" y="137"/>
                    <a:pt x="4086" y="136"/>
                  </a:cubicBezTo>
                  <a:cubicBezTo>
                    <a:pt x="4086" y="137"/>
                    <a:pt x="4086" y="137"/>
                    <a:pt x="4086" y="137"/>
                  </a:cubicBezTo>
                  <a:cubicBezTo>
                    <a:pt x="4086" y="138"/>
                    <a:pt x="4086" y="139"/>
                    <a:pt x="4086" y="139"/>
                  </a:cubicBezTo>
                  <a:close/>
                  <a:moveTo>
                    <a:pt x="4088" y="122"/>
                  </a:moveTo>
                  <a:cubicBezTo>
                    <a:pt x="4088" y="122"/>
                    <a:pt x="4088" y="122"/>
                    <a:pt x="4087" y="122"/>
                  </a:cubicBezTo>
                  <a:cubicBezTo>
                    <a:pt x="4088" y="121"/>
                    <a:pt x="4088" y="121"/>
                    <a:pt x="4088" y="121"/>
                  </a:cubicBezTo>
                  <a:cubicBezTo>
                    <a:pt x="4088" y="121"/>
                    <a:pt x="4088" y="122"/>
                    <a:pt x="4088" y="122"/>
                  </a:cubicBezTo>
                  <a:close/>
                  <a:moveTo>
                    <a:pt x="4089" y="110"/>
                  </a:moveTo>
                  <a:cubicBezTo>
                    <a:pt x="4088" y="112"/>
                    <a:pt x="4087" y="114"/>
                    <a:pt x="4086" y="116"/>
                  </a:cubicBezTo>
                  <a:cubicBezTo>
                    <a:pt x="4086" y="116"/>
                    <a:pt x="4086" y="117"/>
                    <a:pt x="4086" y="117"/>
                  </a:cubicBezTo>
                  <a:cubicBezTo>
                    <a:pt x="4086" y="113"/>
                    <a:pt x="4085" y="108"/>
                    <a:pt x="4085" y="104"/>
                  </a:cubicBezTo>
                  <a:cubicBezTo>
                    <a:pt x="4086" y="101"/>
                    <a:pt x="4086" y="98"/>
                    <a:pt x="4087" y="96"/>
                  </a:cubicBezTo>
                  <a:cubicBezTo>
                    <a:pt x="4088" y="95"/>
                    <a:pt x="4088" y="95"/>
                    <a:pt x="4088" y="95"/>
                  </a:cubicBezTo>
                  <a:cubicBezTo>
                    <a:pt x="4088" y="98"/>
                    <a:pt x="4089" y="101"/>
                    <a:pt x="4089" y="104"/>
                  </a:cubicBezTo>
                  <a:cubicBezTo>
                    <a:pt x="4089" y="106"/>
                    <a:pt x="4089" y="108"/>
                    <a:pt x="4089" y="110"/>
                  </a:cubicBezTo>
                  <a:close/>
                  <a:moveTo>
                    <a:pt x="4090" y="99"/>
                  </a:moveTo>
                  <a:cubicBezTo>
                    <a:pt x="4089" y="97"/>
                    <a:pt x="4089" y="96"/>
                    <a:pt x="4088" y="94"/>
                  </a:cubicBezTo>
                  <a:cubicBezTo>
                    <a:pt x="4089" y="93"/>
                    <a:pt x="4090" y="92"/>
                    <a:pt x="4090" y="91"/>
                  </a:cubicBezTo>
                  <a:cubicBezTo>
                    <a:pt x="4090" y="94"/>
                    <a:pt x="4090" y="96"/>
                    <a:pt x="4090" y="99"/>
                  </a:cubicBezTo>
                  <a:close/>
                  <a:moveTo>
                    <a:pt x="4084" y="91"/>
                  </a:moveTo>
                  <a:cubicBezTo>
                    <a:pt x="4084" y="89"/>
                    <a:pt x="4084" y="88"/>
                    <a:pt x="4083" y="87"/>
                  </a:cubicBezTo>
                  <a:cubicBezTo>
                    <a:pt x="4085" y="83"/>
                    <a:pt x="4086" y="80"/>
                    <a:pt x="4087" y="76"/>
                  </a:cubicBezTo>
                  <a:cubicBezTo>
                    <a:pt x="4088" y="78"/>
                    <a:pt x="4090" y="80"/>
                    <a:pt x="4091" y="82"/>
                  </a:cubicBezTo>
                  <a:cubicBezTo>
                    <a:pt x="4088" y="85"/>
                    <a:pt x="4086" y="88"/>
                    <a:pt x="4084" y="91"/>
                  </a:cubicBezTo>
                  <a:close/>
                  <a:moveTo>
                    <a:pt x="4091" y="79"/>
                  </a:moveTo>
                  <a:cubicBezTo>
                    <a:pt x="4090" y="77"/>
                    <a:pt x="4089" y="76"/>
                    <a:pt x="4088" y="75"/>
                  </a:cubicBezTo>
                  <a:cubicBezTo>
                    <a:pt x="4089" y="72"/>
                    <a:pt x="4091" y="68"/>
                    <a:pt x="4092" y="65"/>
                  </a:cubicBezTo>
                  <a:cubicBezTo>
                    <a:pt x="4092" y="68"/>
                    <a:pt x="4092" y="73"/>
                    <a:pt x="4091" y="79"/>
                  </a:cubicBezTo>
                  <a:close/>
                  <a:moveTo>
                    <a:pt x="4109" y="54"/>
                  </a:moveTo>
                  <a:cubicBezTo>
                    <a:pt x="4109" y="56"/>
                    <a:pt x="4108" y="58"/>
                    <a:pt x="4108" y="61"/>
                  </a:cubicBezTo>
                  <a:cubicBezTo>
                    <a:pt x="4104" y="65"/>
                    <a:pt x="4100" y="69"/>
                    <a:pt x="4097" y="74"/>
                  </a:cubicBezTo>
                  <a:cubicBezTo>
                    <a:pt x="4100" y="67"/>
                    <a:pt x="4104" y="60"/>
                    <a:pt x="4109" y="54"/>
                  </a:cubicBezTo>
                  <a:close/>
                  <a:moveTo>
                    <a:pt x="4095" y="89"/>
                  </a:moveTo>
                  <a:cubicBezTo>
                    <a:pt x="4095" y="90"/>
                    <a:pt x="4096" y="91"/>
                    <a:pt x="4096" y="92"/>
                  </a:cubicBezTo>
                  <a:cubicBezTo>
                    <a:pt x="4096" y="92"/>
                    <a:pt x="4095" y="93"/>
                    <a:pt x="4095" y="94"/>
                  </a:cubicBezTo>
                  <a:cubicBezTo>
                    <a:pt x="4095" y="92"/>
                    <a:pt x="4095" y="91"/>
                    <a:pt x="4095" y="89"/>
                  </a:cubicBezTo>
                  <a:close/>
                  <a:moveTo>
                    <a:pt x="4097" y="127"/>
                  </a:moveTo>
                  <a:cubicBezTo>
                    <a:pt x="4097" y="125"/>
                    <a:pt x="4097" y="124"/>
                    <a:pt x="4096" y="122"/>
                  </a:cubicBezTo>
                  <a:cubicBezTo>
                    <a:pt x="4096" y="117"/>
                    <a:pt x="4096" y="111"/>
                    <a:pt x="4096" y="105"/>
                  </a:cubicBezTo>
                  <a:cubicBezTo>
                    <a:pt x="4097" y="104"/>
                    <a:pt x="4097" y="102"/>
                    <a:pt x="4098" y="101"/>
                  </a:cubicBezTo>
                  <a:cubicBezTo>
                    <a:pt x="4097" y="102"/>
                    <a:pt x="4097" y="103"/>
                    <a:pt x="4096" y="105"/>
                  </a:cubicBezTo>
                  <a:cubicBezTo>
                    <a:pt x="4095" y="102"/>
                    <a:pt x="4095" y="99"/>
                    <a:pt x="4095" y="96"/>
                  </a:cubicBezTo>
                  <a:cubicBezTo>
                    <a:pt x="4096" y="95"/>
                    <a:pt x="4096" y="94"/>
                    <a:pt x="4096" y="93"/>
                  </a:cubicBezTo>
                  <a:cubicBezTo>
                    <a:pt x="4097" y="95"/>
                    <a:pt x="4098" y="97"/>
                    <a:pt x="4099" y="100"/>
                  </a:cubicBezTo>
                  <a:cubicBezTo>
                    <a:pt x="4099" y="100"/>
                    <a:pt x="4099" y="100"/>
                    <a:pt x="4098" y="101"/>
                  </a:cubicBezTo>
                  <a:cubicBezTo>
                    <a:pt x="4099" y="100"/>
                    <a:pt x="4099" y="100"/>
                    <a:pt x="4099" y="100"/>
                  </a:cubicBezTo>
                  <a:cubicBezTo>
                    <a:pt x="4100" y="101"/>
                    <a:pt x="4100" y="102"/>
                    <a:pt x="4101" y="103"/>
                  </a:cubicBezTo>
                  <a:cubicBezTo>
                    <a:pt x="4099" y="112"/>
                    <a:pt x="4098" y="120"/>
                    <a:pt x="4097" y="127"/>
                  </a:cubicBezTo>
                  <a:close/>
                  <a:moveTo>
                    <a:pt x="4098" y="87"/>
                  </a:moveTo>
                  <a:cubicBezTo>
                    <a:pt x="4099" y="86"/>
                    <a:pt x="4100" y="84"/>
                    <a:pt x="4101" y="83"/>
                  </a:cubicBezTo>
                  <a:cubicBezTo>
                    <a:pt x="4100" y="84"/>
                    <a:pt x="4099" y="86"/>
                    <a:pt x="4098" y="87"/>
                  </a:cubicBezTo>
                  <a:cubicBezTo>
                    <a:pt x="4097" y="86"/>
                    <a:pt x="4096" y="85"/>
                    <a:pt x="4095" y="83"/>
                  </a:cubicBezTo>
                  <a:cubicBezTo>
                    <a:pt x="4099" y="78"/>
                    <a:pt x="4103" y="72"/>
                    <a:pt x="4106" y="67"/>
                  </a:cubicBezTo>
                  <a:cubicBezTo>
                    <a:pt x="4106" y="72"/>
                    <a:pt x="4105" y="76"/>
                    <a:pt x="4104" y="81"/>
                  </a:cubicBezTo>
                  <a:cubicBezTo>
                    <a:pt x="4104" y="80"/>
                    <a:pt x="4103" y="79"/>
                    <a:pt x="4103" y="79"/>
                  </a:cubicBezTo>
                  <a:cubicBezTo>
                    <a:pt x="4103" y="78"/>
                    <a:pt x="4104" y="77"/>
                    <a:pt x="4105" y="75"/>
                  </a:cubicBezTo>
                  <a:cubicBezTo>
                    <a:pt x="4104" y="76"/>
                    <a:pt x="4103" y="77"/>
                    <a:pt x="4103" y="79"/>
                  </a:cubicBezTo>
                  <a:cubicBezTo>
                    <a:pt x="4102" y="78"/>
                    <a:pt x="4102" y="77"/>
                    <a:pt x="4101" y="77"/>
                  </a:cubicBezTo>
                  <a:cubicBezTo>
                    <a:pt x="4101" y="78"/>
                    <a:pt x="4102" y="79"/>
                    <a:pt x="4102" y="79"/>
                  </a:cubicBezTo>
                  <a:cubicBezTo>
                    <a:pt x="4102" y="80"/>
                    <a:pt x="4101" y="81"/>
                    <a:pt x="4101" y="83"/>
                  </a:cubicBezTo>
                  <a:cubicBezTo>
                    <a:pt x="4101" y="82"/>
                    <a:pt x="4102" y="81"/>
                    <a:pt x="4102" y="80"/>
                  </a:cubicBezTo>
                  <a:cubicBezTo>
                    <a:pt x="4103" y="81"/>
                    <a:pt x="4103" y="82"/>
                    <a:pt x="4104" y="84"/>
                  </a:cubicBezTo>
                  <a:cubicBezTo>
                    <a:pt x="4103" y="87"/>
                    <a:pt x="4103" y="90"/>
                    <a:pt x="4102" y="93"/>
                  </a:cubicBezTo>
                  <a:cubicBezTo>
                    <a:pt x="4101" y="91"/>
                    <a:pt x="4100" y="89"/>
                    <a:pt x="4098" y="87"/>
                  </a:cubicBezTo>
                  <a:close/>
                  <a:moveTo>
                    <a:pt x="4103" y="144"/>
                  </a:moveTo>
                  <a:cubicBezTo>
                    <a:pt x="4103" y="144"/>
                    <a:pt x="4103" y="143"/>
                    <a:pt x="4103" y="143"/>
                  </a:cubicBezTo>
                  <a:cubicBezTo>
                    <a:pt x="4103" y="140"/>
                    <a:pt x="4103" y="136"/>
                    <a:pt x="4103" y="131"/>
                  </a:cubicBezTo>
                  <a:cubicBezTo>
                    <a:pt x="4104" y="128"/>
                    <a:pt x="4105" y="126"/>
                    <a:pt x="4105" y="125"/>
                  </a:cubicBezTo>
                  <a:cubicBezTo>
                    <a:pt x="4105" y="125"/>
                    <a:pt x="4105" y="124"/>
                    <a:pt x="4105" y="124"/>
                  </a:cubicBezTo>
                  <a:cubicBezTo>
                    <a:pt x="4104" y="124"/>
                    <a:pt x="4104" y="124"/>
                    <a:pt x="4104" y="124"/>
                  </a:cubicBezTo>
                  <a:cubicBezTo>
                    <a:pt x="4104" y="122"/>
                    <a:pt x="4104" y="120"/>
                    <a:pt x="4104" y="118"/>
                  </a:cubicBezTo>
                  <a:cubicBezTo>
                    <a:pt x="4105" y="121"/>
                    <a:pt x="4106" y="125"/>
                    <a:pt x="4106" y="128"/>
                  </a:cubicBezTo>
                  <a:cubicBezTo>
                    <a:pt x="4105" y="136"/>
                    <a:pt x="4104" y="141"/>
                    <a:pt x="4103" y="144"/>
                  </a:cubicBezTo>
                  <a:close/>
                  <a:moveTo>
                    <a:pt x="4110" y="107"/>
                  </a:moveTo>
                  <a:cubicBezTo>
                    <a:pt x="4109" y="105"/>
                    <a:pt x="4108" y="102"/>
                    <a:pt x="4106" y="100"/>
                  </a:cubicBezTo>
                  <a:cubicBezTo>
                    <a:pt x="4107" y="97"/>
                    <a:pt x="4107" y="95"/>
                    <a:pt x="4107" y="93"/>
                  </a:cubicBezTo>
                  <a:cubicBezTo>
                    <a:pt x="4108" y="96"/>
                    <a:pt x="4110" y="99"/>
                    <a:pt x="4111" y="102"/>
                  </a:cubicBezTo>
                  <a:cubicBezTo>
                    <a:pt x="4111" y="104"/>
                    <a:pt x="4110" y="105"/>
                    <a:pt x="4110" y="107"/>
                  </a:cubicBezTo>
                  <a:close/>
                  <a:moveTo>
                    <a:pt x="4111" y="159"/>
                  </a:moveTo>
                  <a:cubicBezTo>
                    <a:pt x="4111" y="159"/>
                    <a:pt x="4111" y="159"/>
                    <a:pt x="4111" y="159"/>
                  </a:cubicBezTo>
                  <a:cubicBezTo>
                    <a:pt x="4111" y="159"/>
                    <a:pt x="4111" y="159"/>
                    <a:pt x="4112" y="159"/>
                  </a:cubicBezTo>
                  <a:cubicBezTo>
                    <a:pt x="4111" y="159"/>
                    <a:pt x="4111" y="159"/>
                    <a:pt x="4111" y="159"/>
                  </a:cubicBezTo>
                  <a:close/>
                  <a:moveTo>
                    <a:pt x="4112" y="96"/>
                  </a:moveTo>
                  <a:cubicBezTo>
                    <a:pt x="4111" y="93"/>
                    <a:pt x="4109" y="91"/>
                    <a:pt x="4108" y="88"/>
                  </a:cubicBezTo>
                  <a:cubicBezTo>
                    <a:pt x="4110" y="85"/>
                    <a:pt x="4112" y="82"/>
                    <a:pt x="4114" y="79"/>
                  </a:cubicBezTo>
                  <a:cubicBezTo>
                    <a:pt x="4114" y="84"/>
                    <a:pt x="4113" y="90"/>
                    <a:pt x="4112" y="96"/>
                  </a:cubicBezTo>
                  <a:close/>
                  <a:moveTo>
                    <a:pt x="4115" y="75"/>
                  </a:moveTo>
                  <a:cubicBezTo>
                    <a:pt x="4113" y="78"/>
                    <a:pt x="4110" y="82"/>
                    <a:pt x="4108" y="86"/>
                  </a:cubicBezTo>
                  <a:cubicBezTo>
                    <a:pt x="4109" y="77"/>
                    <a:pt x="4110" y="68"/>
                    <a:pt x="4111" y="61"/>
                  </a:cubicBezTo>
                  <a:cubicBezTo>
                    <a:pt x="4113" y="58"/>
                    <a:pt x="4115" y="55"/>
                    <a:pt x="4117" y="53"/>
                  </a:cubicBezTo>
                  <a:cubicBezTo>
                    <a:pt x="4117" y="58"/>
                    <a:pt x="4116" y="66"/>
                    <a:pt x="4115" y="75"/>
                  </a:cubicBezTo>
                  <a:close/>
                  <a:moveTo>
                    <a:pt x="4122" y="139"/>
                  </a:moveTo>
                  <a:cubicBezTo>
                    <a:pt x="4122" y="139"/>
                    <a:pt x="4121" y="139"/>
                    <a:pt x="4121" y="139"/>
                  </a:cubicBezTo>
                  <a:cubicBezTo>
                    <a:pt x="4121" y="138"/>
                    <a:pt x="4121" y="138"/>
                    <a:pt x="4122" y="138"/>
                  </a:cubicBezTo>
                  <a:cubicBezTo>
                    <a:pt x="4122" y="138"/>
                    <a:pt x="4122" y="138"/>
                    <a:pt x="4122" y="138"/>
                  </a:cubicBezTo>
                  <a:cubicBezTo>
                    <a:pt x="4122" y="139"/>
                    <a:pt x="4122" y="139"/>
                    <a:pt x="4122" y="139"/>
                  </a:cubicBezTo>
                  <a:close/>
                  <a:moveTo>
                    <a:pt x="4147" y="137"/>
                  </a:moveTo>
                  <a:cubicBezTo>
                    <a:pt x="4147" y="136"/>
                    <a:pt x="4146" y="135"/>
                    <a:pt x="4146" y="133"/>
                  </a:cubicBezTo>
                  <a:cubicBezTo>
                    <a:pt x="4146" y="132"/>
                    <a:pt x="4146" y="130"/>
                    <a:pt x="4146" y="128"/>
                  </a:cubicBezTo>
                  <a:cubicBezTo>
                    <a:pt x="4146" y="131"/>
                    <a:pt x="4147" y="133"/>
                    <a:pt x="4148" y="135"/>
                  </a:cubicBezTo>
                  <a:cubicBezTo>
                    <a:pt x="4148" y="136"/>
                    <a:pt x="4147" y="137"/>
                    <a:pt x="4147" y="137"/>
                  </a:cubicBezTo>
                  <a:close/>
                  <a:moveTo>
                    <a:pt x="4153" y="99"/>
                  </a:moveTo>
                  <a:cubicBezTo>
                    <a:pt x="4152" y="95"/>
                    <a:pt x="4150" y="92"/>
                    <a:pt x="4148" y="90"/>
                  </a:cubicBezTo>
                  <a:cubicBezTo>
                    <a:pt x="4150" y="93"/>
                    <a:pt x="4152" y="97"/>
                    <a:pt x="4153" y="101"/>
                  </a:cubicBezTo>
                  <a:cubicBezTo>
                    <a:pt x="4152" y="110"/>
                    <a:pt x="4151" y="118"/>
                    <a:pt x="4149" y="125"/>
                  </a:cubicBezTo>
                  <a:cubicBezTo>
                    <a:pt x="4148" y="122"/>
                    <a:pt x="4147" y="119"/>
                    <a:pt x="4147" y="116"/>
                  </a:cubicBezTo>
                  <a:cubicBezTo>
                    <a:pt x="4147" y="102"/>
                    <a:pt x="4148" y="86"/>
                    <a:pt x="4149" y="72"/>
                  </a:cubicBezTo>
                  <a:cubicBezTo>
                    <a:pt x="4151" y="75"/>
                    <a:pt x="4154" y="79"/>
                    <a:pt x="4156" y="82"/>
                  </a:cubicBezTo>
                  <a:cubicBezTo>
                    <a:pt x="4155" y="88"/>
                    <a:pt x="4154" y="93"/>
                    <a:pt x="4153" y="99"/>
                  </a:cubicBezTo>
                  <a:close/>
                  <a:moveTo>
                    <a:pt x="4156" y="142"/>
                  </a:moveTo>
                  <a:cubicBezTo>
                    <a:pt x="4157" y="134"/>
                    <a:pt x="4158" y="127"/>
                    <a:pt x="4158" y="121"/>
                  </a:cubicBezTo>
                  <a:cubicBezTo>
                    <a:pt x="4158" y="123"/>
                    <a:pt x="4159" y="125"/>
                    <a:pt x="4159" y="127"/>
                  </a:cubicBezTo>
                  <a:cubicBezTo>
                    <a:pt x="4158" y="136"/>
                    <a:pt x="4156" y="142"/>
                    <a:pt x="4156" y="142"/>
                  </a:cubicBezTo>
                  <a:close/>
                  <a:moveTo>
                    <a:pt x="4160" y="144"/>
                  </a:moveTo>
                  <a:cubicBezTo>
                    <a:pt x="4160" y="142"/>
                    <a:pt x="4160" y="140"/>
                    <a:pt x="4161" y="137"/>
                  </a:cubicBezTo>
                  <a:cubicBezTo>
                    <a:pt x="4161" y="138"/>
                    <a:pt x="4161" y="138"/>
                    <a:pt x="4161" y="138"/>
                  </a:cubicBezTo>
                  <a:cubicBezTo>
                    <a:pt x="4160" y="142"/>
                    <a:pt x="4160" y="144"/>
                    <a:pt x="4160" y="144"/>
                  </a:cubicBezTo>
                  <a:close/>
                  <a:moveTo>
                    <a:pt x="4159" y="110"/>
                  </a:moveTo>
                  <a:cubicBezTo>
                    <a:pt x="4159" y="103"/>
                    <a:pt x="4160" y="96"/>
                    <a:pt x="4160" y="90"/>
                  </a:cubicBezTo>
                  <a:cubicBezTo>
                    <a:pt x="4162" y="93"/>
                    <a:pt x="4163" y="96"/>
                    <a:pt x="4164" y="99"/>
                  </a:cubicBezTo>
                  <a:cubicBezTo>
                    <a:pt x="4163" y="105"/>
                    <a:pt x="4162" y="111"/>
                    <a:pt x="4161" y="116"/>
                  </a:cubicBezTo>
                  <a:cubicBezTo>
                    <a:pt x="4160" y="114"/>
                    <a:pt x="4159" y="112"/>
                    <a:pt x="4159" y="110"/>
                  </a:cubicBezTo>
                  <a:close/>
                  <a:moveTo>
                    <a:pt x="4164" y="124"/>
                  </a:moveTo>
                  <a:cubicBezTo>
                    <a:pt x="4163" y="123"/>
                    <a:pt x="4163" y="122"/>
                    <a:pt x="4163" y="121"/>
                  </a:cubicBezTo>
                  <a:cubicBezTo>
                    <a:pt x="4163" y="115"/>
                    <a:pt x="4164" y="109"/>
                    <a:pt x="4165" y="103"/>
                  </a:cubicBezTo>
                  <a:cubicBezTo>
                    <a:pt x="4165" y="105"/>
                    <a:pt x="4166" y="107"/>
                    <a:pt x="4167" y="109"/>
                  </a:cubicBezTo>
                  <a:cubicBezTo>
                    <a:pt x="4166" y="114"/>
                    <a:pt x="4165" y="119"/>
                    <a:pt x="4164" y="124"/>
                  </a:cubicBezTo>
                  <a:close/>
                  <a:moveTo>
                    <a:pt x="4169" y="146"/>
                  </a:moveTo>
                  <a:cubicBezTo>
                    <a:pt x="4169" y="145"/>
                    <a:pt x="4169" y="145"/>
                    <a:pt x="4169" y="145"/>
                  </a:cubicBezTo>
                  <a:cubicBezTo>
                    <a:pt x="4170" y="144"/>
                    <a:pt x="4170" y="143"/>
                    <a:pt x="4170" y="141"/>
                  </a:cubicBezTo>
                  <a:cubicBezTo>
                    <a:pt x="4170" y="142"/>
                    <a:pt x="4170" y="143"/>
                    <a:pt x="4170" y="144"/>
                  </a:cubicBezTo>
                  <a:cubicBezTo>
                    <a:pt x="4170" y="145"/>
                    <a:pt x="4170" y="145"/>
                    <a:pt x="4169" y="146"/>
                  </a:cubicBezTo>
                  <a:close/>
                  <a:moveTo>
                    <a:pt x="4193" y="118"/>
                  </a:moveTo>
                  <a:cubicBezTo>
                    <a:pt x="4192" y="114"/>
                    <a:pt x="4190" y="111"/>
                    <a:pt x="4189" y="107"/>
                  </a:cubicBezTo>
                  <a:cubicBezTo>
                    <a:pt x="4189" y="96"/>
                    <a:pt x="4189" y="84"/>
                    <a:pt x="4189" y="74"/>
                  </a:cubicBezTo>
                  <a:cubicBezTo>
                    <a:pt x="4189" y="70"/>
                    <a:pt x="4189" y="67"/>
                    <a:pt x="4188" y="65"/>
                  </a:cubicBezTo>
                  <a:cubicBezTo>
                    <a:pt x="4189" y="74"/>
                    <a:pt x="4193" y="84"/>
                    <a:pt x="4196" y="94"/>
                  </a:cubicBezTo>
                  <a:cubicBezTo>
                    <a:pt x="4195" y="102"/>
                    <a:pt x="4194" y="110"/>
                    <a:pt x="4193" y="118"/>
                  </a:cubicBezTo>
                  <a:close/>
                  <a:moveTo>
                    <a:pt x="4222" y="124"/>
                  </a:moveTo>
                  <a:cubicBezTo>
                    <a:pt x="4221" y="122"/>
                    <a:pt x="4221" y="120"/>
                    <a:pt x="4220" y="117"/>
                  </a:cubicBezTo>
                  <a:cubicBezTo>
                    <a:pt x="4221" y="109"/>
                    <a:pt x="4222" y="100"/>
                    <a:pt x="4223" y="92"/>
                  </a:cubicBezTo>
                  <a:cubicBezTo>
                    <a:pt x="4225" y="96"/>
                    <a:pt x="4226" y="100"/>
                    <a:pt x="4226" y="104"/>
                  </a:cubicBezTo>
                  <a:cubicBezTo>
                    <a:pt x="4225" y="111"/>
                    <a:pt x="4223" y="118"/>
                    <a:pt x="4222" y="124"/>
                  </a:cubicBezTo>
                  <a:close/>
                  <a:moveTo>
                    <a:pt x="4262" y="133"/>
                  </a:moveTo>
                  <a:cubicBezTo>
                    <a:pt x="4262" y="130"/>
                    <a:pt x="4261" y="126"/>
                    <a:pt x="4260" y="122"/>
                  </a:cubicBezTo>
                  <a:cubicBezTo>
                    <a:pt x="4260" y="112"/>
                    <a:pt x="4260" y="100"/>
                    <a:pt x="4261" y="88"/>
                  </a:cubicBezTo>
                  <a:cubicBezTo>
                    <a:pt x="4263" y="96"/>
                    <a:pt x="4265" y="104"/>
                    <a:pt x="4265" y="111"/>
                  </a:cubicBezTo>
                  <a:cubicBezTo>
                    <a:pt x="4266" y="117"/>
                    <a:pt x="4266" y="117"/>
                    <a:pt x="4266" y="117"/>
                  </a:cubicBezTo>
                  <a:cubicBezTo>
                    <a:pt x="4264" y="123"/>
                    <a:pt x="4263" y="129"/>
                    <a:pt x="4262" y="133"/>
                  </a:cubicBezTo>
                  <a:close/>
                  <a:moveTo>
                    <a:pt x="4275" y="110"/>
                  </a:moveTo>
                  <a:cubicBezTo>
                    <a:pt x="4275" y="113"/>
                    <a:pt x="4275" y="116"/>
                    <a:pt x="4275" y="119"/>
                  </a:cubicBezTo>
                  <a:cubicBezTo>
                    <a:pt x="4274" y="122"/>
                    <a:pt x="4274" y="124"/>
                    <a:pt x="4273" y="127"/>
                  </a:cubicBezTo>
                  <a:cubicBezTo>
                    <a:pt x="4273" y="119"/>
                    <a:pt x="4272" y="111"/>
                    <a:pt x="4271" y="104"/>
                  </a:cubicBezTo>
                  <a:cubicBezTo>
                    <a:pt x="4272" y="98"/>
                    <a:pt x="4272" y="91"/>
                    <a:pt x="4273" y="86"/>
                  </a:cubicBezTo>
                  <a:cubicBezTo>
                    <a:pt x="4275" y="93"/>
                    <a:pt x="4275" y="102"/>
                    <a:pt x="4275" y="110"/>
                  </a:cubicBezTo>
                  <a:close/>
                  <a:moveTo>
                    <a:pt x="4285" y="142"/>
                  </a:moveTo>
                  <a:cubicBezTo>
                    <a:pt x="4285" y="142"/>
                    <a:pt x="4285" y="141"/>
                    <a:pt x="4286" y="138"/>
                  </a:cubicBezTo>
                  <a:cubicBezTo>
                    <a:pt x="4287" y="120"/>
                    <a:pt x="4286" y="96"/>
                    <a:pt x="4285" y="77"/>
                  </a:cubicBezTo>
                  <a:cubicBezTo>
                    <a:pt x="4287" y="81"/>
                    <a:pt x="4289" y="86"/>
                    <a:pt x="4290" y="92"/>
                  </a:cubicBezTo>
                  <a:cubicBezTo>
                    <a:pt x="4288" y="108"/>
                    <a:pt x="4286" y="129"/>
                    <a:pt x="4286" y="138"/>
                  </a:cubicBezTo>
                  <a:cubicBezTo>
                    <a:pt x="4285" y="139"/>
                    <a:pt x="4285" y="141"/>
                    <a:pt x="4285" y="142"/>
                  </a:cubicBezTo>
                  <a:close/>
                  <a:moveTo>
                    <a:pt x="4289" y="129"/>
                  </a:moveTo>
                  <a:cubicBezTo>
                    <a:pt x="4289" y="119"/>
                    <a:pt x="4290" y="107"/>
                    <a:pt x="4291" y="97"/>
                  </a:cubicBezTo>
                  <a:cubicBezTo>
                    <a:pt x="4291" y="100"/>
                    <a:pt x="4291" y="103"/>
                    <a:pt x="4291" y="106"/>
                  </a:cubicBezTo>
                  <a:cubicBezTo>
                    <a:pt x="4291" y="114"/>
                    <a:pt x="4290" y="121"/>
                    <a:pt x="4289" y="129"/>
                  </a:cubicBezTo>
                  <a:close/>
                  <a:moveTo>
                    <a:pt x="4300" y="125"/>
                  </a:moveTo>
                  <a:cubicBezTo>
                    <a:pt x="4301" y="120"/>
                    <a:pt x="4301" y="113"/>
                    <a:pt x="4301" y="107"/>
                  </a:cubicBezTo>
                  <a:cubicBezTo>
                    <a:pt x="4301" y="114"/>
                    <a:pt x="4301" y="120"/>
                    <a:pt x="4300" y="125"/>
                  </a:cubicBezTo>
                  <a:close/>
                  <a:moveTo>
                    <a:pt x="4315" y="112"/>
                  </a:moveTo>
                  <a:cubicBezTo>
                    <a:pt x="4315" y="105"/>
                    <a:pt x="4315" y="98"/>
                    <a:pt x="4315" y="91"/>
                  </a:cubicBezTo>
                  <a:cubicBezTo>
                    <a:pt x="4316" y="95"/>
                    <a:pt x="4316" y="99"/>
                    <a:pt x="4316" y="103"/>
                  </a:cubicBezTo>
                  <a:cubicBezTo>
                    <a:pt x="4316" y="106"/>
                    <a:pt x="4316" y="109"/>
                    <a:pt x="4315" y="112"/>
                  </a:cubicBezTo>
                  <a:close/>
                  <a:moveTo>
                    <a:pt x="4326" y="129"/>
                  </a:moveTo>
                  <a:cubicBezTo>
                    <a:pt x="4326" y="129"/>
                    <a:pt x="4326" y="129"/>
                    <a:pt x="4325" y="130"/>
                  </a:cubicBezTo>
                  <a:cubicBezTo>
                    <a:pt x="4325" y="132"/>
                    <a:pt x="4324" y="134"/>
                    <a:pt x="4324" y="137"/>
                  </a:cubicBezTo>
                  <a:cubicBezTo>
                    <a:pt x="4324" y="136"/>
                    <a:pt x="4324" y="136"/>
                    <a:pt x="4324" y="136"/>
                  </a:cubicBezTo>
                  <a:cubicBezTo>
                    <a:pt x="4324" y="134"/>
                    <a:pt x="4325" y="132"/>
                    <a:pt x="4325" y="130"/>
                  </a:cubicBezTo>
                  <a:cubicBezTo>
                    <a:pt x="4326" y="129"/>
                    <a:pt x="4326" y="129"/>
                    <a:pt x="4326" y="129"/>
                  </a:cubicBezTo>
                  <a:cubicBezTo>
                    <a:pt x="4326" y="129"/>
                    <a:pt x="4326" y="129"/>
                    <a:pt x="4326" y="129"/>
                  </a:cubicBezTo>
                  <a:close/>
                  <a:moveTo>
                    <a:pt x="4362" y="130"/>
                  </a:moveTo>
                  <a:cubicBezTo>
                    <a:pt x="4362" y="132"/>
                    <a:pt x="4361" y="134"/>
                    <a:pt x="4360" y="136"/>
                  </a:cubicBezTo>
                  <a:cubicBezTo>
                    <a:pt x="4360" y="131"/>
                    <a:pt x="4360" y="126"/>
                    <a:pt x="4360" y="121"/>
                  </a:cubicBezTo>
                  <a:cubicBezTo>
                    <a:pt x="4362" y="115"/>
                    <a:pt x="4364" y="110"/>
                    <a:pt x="4365" y="104"/>
                  </a:cubicBezTo>
                  <a:cubicBezTo>
                    <a:pt x="4364" y="114"/>
                    <a:pt x="4363" y="123"/>
                    <a:pt x="4362" y="130"/>
                  </a:cubicBezTo>
                  <a:close/>
                  <a:moveTo>
                    <a:pt x="4378" y="124"/>
                  </a:moveTo>
                  <a:cubicBezTo>
                    <a:pt x="4378" y="110"/>
                    <a:pt x="4380" y="94"/>
                    <a:pt x="4381" y="83"/>
                  </a:cubicBezTo>
                  <a:cubicBezTo>
                    <a:pt x="4381" y="87"/>
                    <a:pt x="4381" y="91"/>
                    <a:pt x="4381" y="95"/>
                  </a:cubicBezTo>
                  <a:cubicBezTo>
                    <a:pt x="4381" y="105"/>
                    <a:pt x="4380" y="114"/>
                    <a:pt x="4378" y="124"/>
                  </a:cubicBezTo>
                  <a:close/>
                  <a:moveTo>
                    <a:pt x="4394" y="160"/>
                  </a:moveTo>
                  <a:cubicBezTo>
                    <a:pt x="4394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5" y="159"/>
                  </a:cubicBezTo>
                  <a:cubicBezTo>
                    <a:pt x="4395" y="159"/>
                    <a:pt x="4395" y="159"/>
                    <a:pt x="4394" y="160"/>
                  </a:cubicBezTo>
                  <a:close/>
                  <a:moveTo>
                    <a:pt x="4407" y="116"/>
                  </a:moveTo>
                  <a:cubicBezTo>
                    <a:pt x="4406" y="121"/>
                    <a:pt x="4404" y="127"/>
                    <a:pt x="4402" y="132"/>
                  </a:cubicBezTo>
                  <a:cubicBezTo>
                    <a:pt x="4402" y="127"/>
                    <a:pt x="4402" y="121"/>
                    <a:pt x="4402" y="115"/>
                  </a:cubicBezTo>
                  <a:cubicBezTo>
                    <a:pt x="4403" y="110"/>
                    <a:pt x="4403" y="104"/>
                    <a:pt x="4403" y="98"/>
                  </a:cubicBezTo>
                  <a:cubicBezTo>
                    <a:pt x="4403" y="95"/>
                    <a:pt x="4403" y="92"/>
                    <a:pt x="4403" y="89"/>
                  </a:cubicBezTo>
                  <a:cubicBezTo>
                    <a:pt x="4404" y="78"/>
                    <a:pt x="4405" y="68"/>
                    <a:pt x="4406" y="60"/>
                  </a:cubicBezTo>
                  <a:cubicBezTo>
                    <a:pt x="4409" y="68"/>
                    <a:pt x="4411" y="78"/>
                    <a:pt x="4411" y="87"/>
                  </a:cubicBezTo>
                  <a:cubicBezTo>
                    <a:pt x="4410" y="95"/>
                    <a:pt x="4409" y="106"/>
                    <a:pt x="4407" y="116"/>
                  </a:cubicBezTo>
                  <a:close/>
                  <a:moveTo>
                    <a:pt x="4415" y="136"/>
                  </a:moveTo>
                  <a:cubicBezTo>
                    <a:pt x="4415" y="137"/>
                    <a:pt x="4414" y="138"/>
                    <a:pt x="4414" y="139"/>
                  </a:cubicBezTo>
                  <a:cubicBezTo>
                    <a:pt x="4414" y="137"/>
                    <a:pt x="4414" y="135"/>
                    <a:pt x="4414" y="133"/>
                  </a:cubicBezTo>
                  <a:cubicBezTo>
                    <a:pt x="4415" y="130"/>
                    <a:pt x="4415" y="128"/>
                    <a:pt x="4416" y="125"/>
                  </a:cubicBezTo>
                  <a:cubicBezTo>
                    <a:pt x="4416" y="129"/>
                    <a:pt x="4415" y="133"/>
                    <a:pt x="4415" y="136"/>
                  </a:cubicBezTo>
                  <a:close/>
                  <a:moveTo>
                    <a:pt x="4431" y="126"/>
                  </a:moveTo>
                  <a:cubicBezTo>
                    <a:pt x="4430" y="113"/>
                    <a:pt x="4430" y="96"/>
                    <a:pt x="4430" y="84"/>
                  </a:cubicBezTo>
                  <a:cubicBezTo>
                    <a:pt x="4434" y="90"/>
                    <a:pt x="4436" y="100"/>
                    <a:pt x="4436" y="104"/>
                  </a:cubicBezTo>
                  <a:cubicBezTo>
                    <a:pt x="4436" y="110"/>
                    <a:pt x="4433" y="118"/>
                    <a:pt x="4431" y="126"/>
                  </a:cubicBezTo>
                  <a:close/>
                  <a:moveTo>
                    <a:pt x="4442" y="128"/>
                  </a:moveTo>
                  <a:cubicBezTo>
                    <a:pt x="4443" y="113"/>
                    <a:pt x="4443" y="91"/>
                    <a:pt x="4443" y="76"/>
                  </a:cubicBezTo>
                  <a:cubicBezTo>
                    <a:pt x="4445" y="83"/>
                    <a:pt x="4447" y="90"/>
                    <a:pt x="4447" y="96"/>
                  </a:cubicBezTo>
                  <a:cubicBezTo>
                    <a:pt x="4447" y="107"/>
                    <a:pt x="4444" y="117"/>
                    <a:pt x="4442" y="128"/>
                  </a:cubicBezTo>
                  <a:close/>
                  <a:moveTo>
                    <a:pt x="4482" y="112"/>
                  </a:moveTo>
                  <a:cubicBezTo>
                    <a:pt x="4482" y="110"/>
                    <a:pt x="4482" y="108"/>
                    <a:pt x="4481" y="105"/>
                  </a:cubicBezTo>
                  <a:cubicBezTo>
                    <a:pt x="4482" y="108"/>
                    <a:pt x="4481" y="112"/>
                    <a:pt x="4481" y="115"/>
                  </a:cubicBezTo>
                  <a:cubicBezTo>
                    <a:pt x="4476" y="131"/>
                    <a:pt x="4472" y="144"/>
                    <a:pt x="4472" y="144"/>
                  </a:cubicBezTo>
                  <a:cubicBezTo>
                    <a:pt x="4473" y="133"/>
                    <a:pt x="4477" y="110"/>
                    <a:pt x="4482" y="86"/>
                  </a:cubicBezTo>
                  <a:cubicBezTo>
                    <a:pt x="4484" y="90"/>
                    <a:pt x="4485" y="95"/>
                    <a:pt x="4486" y="99"/>
                  </a:cubicBezTo>
                  <a:cubicBezTo>
                    <a:pt x="4484" y="103"/>
                    <a:pt x="4483" y="108"/>
                    <a:pt x="4482" y="112"/>
                  </a:cubicBezTo>
                  <a:close/>
                  <a:moveTo>
                    <a:pt x="4494" y="133"/>
                  </a:moveTo>
                  <a:cubicBezTo>
                    <a:pt x="4494" y="133"/>
                    <a:pt x="4494" y="134"/>
                    <a:pt x="4494" y="134"/>
                  </a:cubicBezTo>
                  <a:cubicBezTo>
                    <a:pt x="4494" y="134"/>
                    <a:pt x="4494" y="134"/>
                    <a:pt x="4494" y="134"/>
                  </a:cubicBezTo>
                  <a:cubicBezTo>
                    <a:pt x="4494" y="134"/>
                    <a:pt x="4494" y="133"/>
                    <a:pt x="4494" y="133"/>
                  </a:cubicBezTo>
                  <a:cubicBezTo>
                    <a:pt x="4495" y="126"/>
                    <a:pt x="4496" y="117"/>
                    <a:pt x="4497" y="107"/>
                  </a:cubicBezTo>
                  <a:cubicBezTo>
                    <a:pt x="4497" y="110"/>
                    <a:pt x="4497" y="114"/>
                    <a:pt x="4497" y="117"/>
                  </a:cubicBezTo>
                  <a:cubicBezTo>
                    <a:pt x="4496" y="123"/>
                    <a:pt x="4495" y="129"/>
                    <a:pt x="4494" y="133"/>
                  </a:cubicBezTo>
                  <a:close/>
                  <a:moveTo>
                    <a:pt x="4499" y="159"/>
                  </a:move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ubicBezTo>
                    <a:pt x="4499" y="159"/>
                    <a:pt x="4499" y="159"/>
                    <a:pt x="4499" y="159"/>
                  </a:cubicBezTo>
                  <a:close/>
                  <a:moveTo>
                    <a:pt x="4540" y="143"/>
                  </a:moveTo>
                  <a:cubicBezTo>
                    <a:pt x="4540" y="142"/>
                    <a:pt x="4540" y="142"/>
                    <a:pt x="4540" y="141"/>
                  </a:cubicBezTo>
                  <a:cubicBezTo>
                    <a:pt x="4540" y="135"/>
                    <a:pt x="4541" y="127"/>
                    <a:pt x="4541" y="117"/>
                  </a:cubicBezTo>
                  <a:cubicBezTo>
                    <a:pt x="4542" y="121"/>
                    <a:pt x="4542" y="125"/>
                    <a:pt x="4542" y="129"/>
                  </a:cubicBezTo>
                  <a:cubicBezTo>
                    <a:pt x="4541" y="135"/>
                    <a:pt x="4541" y="139"/>
                    <a:pt x="4540" y="143"/>
                  </a:cubicBezTo>
                  <a:close/>
                  <a:moveTo>
                    <a:pt x="4544" y="117"/>
                  </a:moveTo>
                  <a:cubicBezTo>
                    <a:pt x="4543" y="115"/>
                    <a:pt x="4542" y="113"/>
                    <a:pt x="4542" y="111"/>
                  </a:cubicBezTo>
                  <a:cubicBezTo>
                    <a:pt x="4542" y="108"/>
                    <a:pt x="4542" y="104"/>
                    <a:pt x="4543" y="100"/>
                  </a:cubicBezTo>
                  <a:cubicBezTo>
                    <a:pt x="4544" y="103"/>
                    <a:pt x="4544" y="106"/>
                    <a:pt x="4545" y="108"/>
                  </a:cubicBezTo>
                  <a:cubicBezTo>
                    <a:pt x="4544" y="111"/>
                    <a:pt x="4544" y="114"/>
                    <a:pt x="4544" y="117"/>
                  </a:cubicBezTo>
                  <a:close/>
                  <a:moveTo>
                    <a:pt x="4552" y="133"/>
                  </a:moveTo>
                  <a:cubicBezTo>
                    <a:pt x="4552" y="133"/>
                    <a:pt x="4552" y="133"/>
                    <a:pt x="4552" y="133"/>
                  </a:cubicBezTo>
                  <a:cubicBezTo>
                    <a:pt x="4552" y="130"/>
                    <a:pt x="4553" y="127"/>
                    <a:pt x="4553" y="124"/>
                  </a:cubicBezTo>
                  <a:cubicBezTo>
                    <a:pt x="4553" y="125"/>
                    <a:pt x="4553" y="126"/>
                    <a:pt x="4553" y="128"/>
                  </a:cubicBezTo>
                  <a:cubicBezTo>
                    <a:pt x="4553" y="130"/>
                    <a:pt x="4552" y="131"/>
                    <a:pt x="4552" y="133"/>
                  </a:cubicBezTo>
                  <a:close/>
                  <a:moveTo>
                    <a:pt x="4589" y="142"/>
                  </a:moveTo>
                  <a:cubicBezTo>
                    <a:pt x="4589" y="139"/>
                    <a:pt x="4589" y="134"/>
                    <a:pt x="4589" y="128"/>
                  </a:cubicBezTo>
                  <a:cubicBezTo>
                    <a:pt x="4589" y="130"/>
                    <a:pt x="4589" y="132"/>
                    <a:pt x="4590" y="133"/>
                  </a:cubicBezTo>
                  <a:cubicBezTo>
                    <a:pt x="4589" y="139"/>
                    <a:pt x="4589" y="142"/>
                    <a:pt x="4589" y="142"/>
                  </a:cubicBezTo>
                  <a:close/>
                  <a:moveTo>
                    <a:pt x="4610" y="135"/>
                  </a:moveTo>
                  <a:cubicBezTo>
                    <a:pt x="4610" y="134"/>
                    <a:pt x="4610" y="134"/>
                    <a:pt x="4610" y="133"/>
                  </a:cubicBezTo>
                  <a:cubicBezTo>
                    <a:pt x="4610" y="121"/>
                    <a:pt x="4610" y="103"/>
                    <a:pt x="4609" y="88"/>
                  </a:cubicBezTo>
                  <a:cubicBezTo>
                    <a:pt x="4611" y="94"/>
                    <a:pt x="4613" y="100"/>
                    <a:pt x="4614" y="106"/>
                  </a:cubicBezTo>
                  <a:cubicBezTo>
                    <a:pt x="4612" y="118"/>
                    <a:pt x="4611" y="128"/>
                    <a:pt x="4610" y="135"/>
                  </a:cubicBezTo>
                  <a:close/>
                  <a:moveTo>
                    <a:pt x="4617" y="145"/>
                  </a:moveTo>
                  <a:cubicBezTo>
                    <a:pt x="4617" y="141"/>
                    <a:pt x="4617" y="136"/>
                    <a:pt x="4617" y="129"/>
                  </a:cubicBezTo>
                  <a:cubicBezTo>
                    <a:pt x="4618" y="133"/>
                    <a:pt x="4618" y="136"/>
                    <a:pt x="4619" y="139"/>
                  </a:cubicBezTo>
                  <a:cubicBezTo>
                    <a:pt x="4618" y="143"/>
                    <a:pt x="4617" y="145"/>
                    <a:pt x="4617" y="145"/>
                  </a:cubicBezTo>
                  <a:close/>
                  <a:moveTo>
                    <a:pt x="4622" y="159"/>
                  </a:moveTo>
                  <a:cubicBezTo>
                    <a:pt x="4623" y="159"/>
                    <a:pt x="4623" y="159"/>
                    <a:pt x="4623" y="159"/>
                  </a:cubicBezTo>
                  <a:cubicBezTo>
                    <a:pt x="4623" y="159"/>
                    <a:pt x="4623" y="158"/>
                    <a:pt x="4623" y="158"/>
                  </a:cubicBezTo>
                  <a:cubicBezTo>
                    <a:pt x="4623" y="159"/>
                    <a:pt x="4624" y="160"/>
                    <a:pt x="4624" y="160"/>
                  </a:cubicBezTo>
                  <a:cubicBezTo>
                    <a:pt x="4623" y="160"/>
                    <a:pt x="4623" y="159"/>
                    <a:pt x="4622" y="159"/>
                  </a:cubicBezTo>
                  <a:close/>
                  <a:moveTo>
                    <a:pt x="4624" y="121"/>
                  </a:moveTo>
                  <a:cubicBezTo>
                    <a:pt x="4622" y="117"/>
                    <a:pt x="4621" y="114"/>
                    <a:pt x="4619" y="110"/>
                  </a:cubicBezTo>
                  <a:cubicBezTo>
                    <a:pt x="4620" y="105"/>
                    <a:pt x="4620" y="99"/>
                    <a:pt x="4621" y="94"/>
                  </a:cubicBezTo>
                  <a:cubicBezTo>
                    <a:pt x="4621" y="100"/>
                    <a:pt x="4623" y="108"/>
                    <a:pt x="4625" y="116"/>
                  </a:cubicBezTo>
                  <a:cubicBezTo>
                    <a:pt x="4624" y="118"/>
                    <a:pt x="4624" y="119"/>
                    <a:pt x="4624" y="121"/>
                  </a:cubicBezTo>
                  <a:close/>
                  <a:moveTo>
                    <a:pt x="4632" y="142"/>
                  </a:moveTo>
                  <a:cubicBezTo>
                    <a:pt x="4631" y="138"/>
                    <a:pt x="4629" y="134"/>
                    <a:pt x="4627" y="129"/>
                  </a:cubicBezTo>
                  <a:cubicBezTo>
                    <a:pt x="4627" y="129"/>
                    <a:pt x="4627" y="128"/>
                    <a:pt x="4627" y="127"/>
                  </a:cubicBezTo>
                  <a:cubicBezTo>
                    <a:pt x="4629" y="132"/>
                    <a:pt x="4630" y="137"/>
                    <a:pt x="4632" y="142"/>
                  </a:cubicBezTo>
                  <a:cubicBezTo>
                    <a:pt x="4635" y="149"/>
                    <a:pt x="4636" y="153"/>
                    <a:pt x="4637" y="155"/>
                  </a:cubicBezTo>
                  <a:cubicBezTo>
                    <a:pt x="4635" y="151"/>
                    <a:pt x="4634" y="147"/>
                    <a:pt x="4632" y="142"/>
                  </a:cubicBezTo>
                  <a:close/>
                  <a:moveTo>
                    <a:pt x="4458" y="105"/>
                  </a:moveTo>
                  <a:cubicBezTo>
                    <a:pt x="4458" y="103"/>
                    <a:pt x="4458" y="101"/>
                    <a:pt x="4457" y="99"/>
                  </a:cubicBezTo>
                  <a:cubicBezTo>
                    <a:pt x="4457" y="101"/>
                    <a:pt x="4458" y="103"/>
                    <a:pt x="4458" y="105"/>
                  </a:cubicBezTo>
                  <a:close/>
                  <a:moveTo>
                    <a:pt x="4466" y="65"/>
                  </a:moveTo>
                  <a:cubicBezTo>
                    <a:pt x="4466" y="64"/>
                    <a:pt x="4466" y="63"/>
                    <a:pt x="4466" y="63"/>
                  </a:cubicBezTo>
                  <a:cubicBezTo>
                    <a:pt x="4466" y="63"/>
                    <a:pt x="4466" y="64"/>
                    <a:pt x="4466" y="65"/>
                  </a:cubicBezTo>
                  <a:close/>
                  <a:moveTo>
                    <a:pt x="4065" y="79"/>
                  </a:moveTo>
                  <a:cubicBezTo>
                    <a:pt x="4066" y="76"/>
                    <a:pt x="4067" y="73"/>
                    <a:pt x="4068" y="70"/>
                  </a:cubicBezTo>
                  <a:cubicBezTo>
                    <a:pt x="4067" y="73"/>
                    <a:pt x="4066" y="76"/>
                    <a:pt x="4065" y="79"/>
                  </a:cubicBezTo>
                  <a:close/>
                  <a:moveTo>
                    <a:pt x="3886" y="79"/>
                  </a:moveTo>
                  <a:cubicBezTo>
                    <a:pt x="3885" y="76"/>
                    <a:pt x="3884" y="73"/>
                    <a:pt x="3882" y="70"/>
                  </a:cubicBezTo>
                  <a:cubicBezTo>
                    <a:pt x="3884" y="73"/>
                    <a:pt x="3885" y="76"/>
                    <a:pt x="3886" y="79"/>
                  </a:cubicBezTo>
                  <a:close/>
                  <a:moveTo>
                    <a:pt x="2267" y="79"/>
                  </a:moveTo>
                  <a:cubicBezTo>
                    <a:pt x="2268" y="76"/>
                    <a:pt x="2269" y="73"/>
                    <a:pt x="2270" y="70"/>
                  </a:cubicBezTo>
                  <a:cubicBezTo>
                    <a:pt x="2269" y="73"/>
                    <a:pt x="2268" y="76"/>
                    <a:pt x="2267" y="79"/>
                  </a:cubicBezTo>
                  <a:close/>
                  <a:moveTo>
                    <a:pt x="3115" y="83"/>
                  </a:moveTo>
                  <a:cubicBezTo>
                    <a:pt x="3114" y="81"/>
                    <a:pt x="3113" y="79"/>
                    <a:pt x="3112" y="78"/>
                  </a:cubicBezTo>
                  <a:cubicBezTo>
                    <a:pt x="3113" y="79"/>
                    <a:pt x="3114" y="81"/>
                    <a:pt x="3115" y="83"/>
                  </a:cubicBezTo>
                  <a:close/>
                  <a:moveTo>
                    <a:pt x="290" y="79"/>
                  </a:moveTo>
                  <a:cubicBezTo>
                    <a:pt x="289" y="76"/>
                    <a:pt x="288" y="73"/>
                    <a:pt x="287" y="70"/>
                  </a:cubicBezTo>
                  <a:cubicBezTo>
                    <a:pt x="288" y="73"/>
                    <a:pt x="289" y="76"/>
                    <a:pt x="290" y="79"/>
                  </a:cubicBezTo>
                  <a:close/>
                  <a:moveTo>
                    <a:pt x="469" y="79"/>
                  </a:moveTo>
                  <a:cubicBezTo>
                    <a:pt x="470" y="76"/>
                    <a:pt x="471" y="73"/>
                    <a:pt x="472" y="70"/>
                  </a:cubicBezTo>
                  <a:cubicBezTo>
                    <a:pt x="471" y="73"/>
                    <a:pt x="470" y="76"/>
                    <a:pt x="469" y="79"/>
                  </a:cubicBezTo>
                  <a:close/>
                  <a:moveTo>
                    <a:pt x="1317" y="83"/>
                  </a:moveTo>
                  <a:cubicBezTo>
                    <a:pt x="1316" y="81"/>
                    <a:pt x="1315" y="79"/>
                    <a:pt x="1314" y="78"/>
                  </a:cubicBezTo>
                  <a:cubicBezTo>
                    <a:pt x="1315" y="79"/>
                    <a:pt x="1316" y="81"/>
                    <a:pt x="1317" y="83"/>
                  </a:cubicBezTo>
                  <a:close/>
                  <a:moveTo>
                    <a:pt x="3042" y="83"/>
                  </a:moveTo>
                  <a:cubicBezTo>
                    <a:pt x="3040" y="80"/>
                    <a:pt x="3039" y="77"/>
                    <a:pt x="3038" y="75"/>
                  </a:cubicBezTo>
                  <a:cubicBezTo>
                    <a:pt x="3039" y="78"/>
                    <a:pt x="3040" y="80"/>
                    <a:pt x="3042" y="83"/>
                  </a:cubicBezTo>
                  <a:close/>
                  <a:moveTo>
                    <a:pt x="2683" y="105"/>
                  </a:moveTo>
                  <a:cubicBezTo>
                    <a:pt x="2683" y="103"/>
                    <a:pt x="2683" y="101"/>
                    <a:pt x="2683" y="99"/>
                  </a:cubicBezTo>
                  <a:cubicBezTo>
                    <a:pt x="2683" y="101"/>
                    <a:pt x="2683" y="103"/>
                    <a:pt x="2683" y="105"/>
                  </a:cubicBezTo>
                  <a:close/>
                  <a:moveTo>
                    <a:pt x="2088" y="79"/>
                  </a:moveTo>
                  <a:cubicBezTo>
                    <a:pt x="2087" y="76"/>
                    <a:pt x="2086" y="73"/>
                    <a:pt x="2084" y="70"/>
                  </a:cubicBezTo>
                  <a:cubicBezTo>
                    <a:pt x="2086" y="73"/>
                    <a:pt x="2087" y="76"/>
                    <a:pt x="2088" y="79"/>
                  </a:cubicBezTo>
                  <a:close/>
                  <a:moveTo>
                    <a:pt x="4481" y="105"/>
                  </a:moveTo>
                  <a:cubicBezTo>
                    <a:pt x="4481" y="103"/>
                    <a:pt x="4481" y="101"/>
                    <a:pt x="4481" y="99"/>
                  </a:cubicBezTo>
                  <a:cubicBezTo>
                    <a:pt x="4481" y="101"/>
                    <a:pt x="4481" y="103"/>
                    <a:pt x="4481" y="105"/>
                  </a:cubicBezTo>
                  <a:close/>
                  <a:moveTo>
                    <a:pt x="1244" y="83"/>
                  </a:moveTo>
                  <a:cubicBezTo>
                    <a:pt x="1242" y="80"/>
                    <a:pt x="1241" y="77"/>
                    <a:pt x="1240" y="75"/>
                  </a:cubicBezTo>
                  <a:cubicBezTo>
                    <a:pt x="1241" y="78"/>
                    <a:pt x="1242" y="80"/>
                    <a:pt x="1244" y="83"/>
                  </a:cubicBezTo>
                  <a:close/>
                  <a:moveTo>
                    <a:pt x="3941" y="33"/>
                  </a:moveTo>
                  <a:cubicBezTo>
                    <a:pt x="3941" y="30"/>
                    <a:pt x="3941" y="28"/>
                    <a:pt x="3940" y="25"/>
                  </a:cubicBezTo>
                  <a:cubicBezTo>
                    <a:pt x="3940" y="25"/>
                    <a:pt x="3941" y="28"/>
                    <a:pt x="3941" y="33"/>
                  </a:cubicBezTo>
                  <a:close/>
                  <a:moveTo>
                    <a:pt x="3210" y="88"/>
                  </a:moveTo>
                  <a:cubicBezTo>
                    <a:pt x="3209" y="86"/>
                    <a:pt x="3208" y="83"/>
                    <a:pt x="3206" y="81"/>
                  </a:cubicBezTo>
                  <a:cubicBezTo>
                    <a:pt x="3207" y="83"/>
                    <a:pt x="3209" y="86"/>
                    <a:pt x="3210" y="88"/>
                  </a:cubicBezTo>
                  <a:close/>
                  <a:moveTo>
                    <a:pt x="3068" y="81"/>
                  </a:moveTo>
                  <a:cubicBezTo>
                    <a:pt x="3062" y="61"/>
                    <a:pt x="3051" y="46"/>
                    <a:pt x="3035" y="25"/>
                  </a:cubicBezTo>
                  <a:cubicBezTo>
                    <a:pt x="3051" y="48"/>
                    <a:pt x="3061" y="64"/>
                    <a:pt x="3068" y="81"/>
                  </a:cubicBezTo>
                  <a:close/>
                  <a:moveTo>
                    <a:pt x="3078" y="79"/>
                  </a:moveTo>
                  <a:cubicBezTo>
                    <a:pt x="3077" y="76"/>
                    <a:pt x="3076" y="73"/>
                    <a:pt x="3074" y="70"/>
                  </a:cubicBezTo>
                  <a:cubicBezTo>
                    <a:pt x="3075" y="73"/>
                    <a:pt x="3077" y="76"/>
                    <a:pt x="3078" y="79"/>
                  </a:cubicBezTo>
                  <a:close/>
                  <a:moveTo>
                    <a:pt x="3317" y="102"/>
                  </a:moveTo>
                  <a:cubicBezTo>
                    <a:pt x="3316" y="100"/>
                    <a:pt x="3315" y="97"/>
                    <a:pt x="3314" y="96"/>
                  </a:cubicBezTo>
                  <a:cubicBezTo>
                    <a:pt x="3315" y="98"/>
                    <a:pt x="3316" y="100"/>
                    <a:pt x="3317" y="102"/>
                  </a:cubicBezTo>
                  <a:close/>
                  <a:moveTo>
                    <a:pt x="3531" y="109"/>
                  </a:moveTo>
                  <a:cubicBezTo>
                    <a:pt x="3530" y="104"/>
                    <a:pt x="3530" y="99"/>
                    <a:pt x="3529" y="95"/>
                  </a:cubicBezTo>
                  <a:cubicBezTo>
                    <a:pt x="3529" y="99"/>
                    <a:pt x="3530" y="104"/>
                    <a:pt x="3531" y="109"/>
                  </a:cubicBezTo>
                  <a:close/>
                  <a:moveTo>
                    <a:pt x="3370" y="100"/>
                  </a:moveTo>
                  <a:cubicBezTo>
                    <a:pt x="3370" y="97"/>
                    <a:pt x="3369" y="95"/>
                    <a:pt x="3368" y="93"/>
                  </a:cubicBezTo>
                  <a:cubicBezTo>
                    <a:pt x="3369" y="96"/>
                    <a:pt x="3370" y="98"/>
                    <a:pt x="3370" y="100"/>
                  </a:cubicBezTo>
                  <a:close/>
                  <a:moveTo>
                    <a:pt x="3610" y="81"/>
                  </a:moveTo>
                  <a:cubicBezTo>
                    <a:pt x="3608" y="75"/>
                    <a:pt x="3606" y="70"/>
                    <a:pt x="3604" y="67"/>
                  </a:cubicBezTo>
                  <a:cubicBezTo>
                    <a:pt x="3604" y="67"/>
                    <a:pt x="3607" y="72"/>
                    <a:pt x="3610" y="81"/>
                  </a:cubicBezTo>
                  <a:close/>
                  <a:moveTo>
                    <a:pt x="2720" y="54"/>
                  </a:moveTo>
                  <a:cubicBezTo>
                    <a:pt x="2720" y="53"/>
                    <a:pt x="2719" y="52"/>
                    <a:pt x="2719" y="52"/>
                  </a:cubicBezTo>
                  <a:cubicBezTo>
                    <a:pt x="2720" y="53"/>
                    <a:pt x="2720" y="53"/>
                    <a:pt x="2720" y="54"/>
                  </a:cubicBezTo>
                  <a:close/>
                  <a:moveTo>
                    <a:pt x="2715" y="90"/>
                  </a:moveTo>
                  <a:cubicBezTo>
                    <a:pt x="2715" y="89"/>
                    <a:pt x="2714" y="87"/>
                    <a:pt x="2713" y="86"/>
                  </a:cubicBezTo>
                  <a:cubicBezTo>
                    <a:pt x="2714" y="87"/>
                    <a:pt x="2715" y="89"/>
                    <a:pt x="2715" y="90"/>
                  </a:cubicBezTo>
                  <a:close/>
                  <a:moveTo>
                    <a:pt x="2835" y="54"/>
                  </a:moveTo>
                  <a:cubicBezTo>
                    <a:pt x="2835" y="54"/>
                    <a:pt x="2835" y="65"/>
                    <a:pt x="2834" y="84"/>
                  </a:cubicBezTo>
                  <a:cubicBezTo>
                    <a:pt x="2836" y="72"/>
                    <a:pt x="2837" y="60"/>
                    <a:pt x="2835" y="54"/>
                  </a:cubicBezTo>
                  <a:close/>
                  <a:moveTo>
                    <a:pt x="2890" y="106"/>
                  </a:moveTo>
                  <a:cubicBezTo>
                    <a:pt x="2890" y="103"/>
                    <a:pt x="2889" y="100"/>
                    <a:pt x="2889" y="96"/>
                  </a:cubicBezTo>
                  <a:cubicBezTo>
                    <a:pt x="2889" y="99"/>
                    <a:pt x="2890" y="103"/>
                    <a:pt x="2890" y="106"/>
                  </a:cubicBezTo>
                  <a:close/>
                  <a:moveTo>
                    <a:pt x="2795" y="47"/>
                  </a:moveTo>
                  <a:cubicBezTo>
                    <a:pt x="2795" y="39"/>
                    <a:pt x="2795" y="33"/>
                    <a:pt x="2793" y="30"/>
                  </a:cubicBezTo>
                  <a:cubicBezTo>
                    <a:pt x="2793" y="30"/>
                    <a:pt x="2794" y="37"/>
                    <a:pt x="2795" y="47"/>
                  </a:cubicBezTo>
                  <a:close/>
                  <a:moveTo>
                    <a:pt x="3995" y="44"/>
                  </a:moveTo>
                  <a:cubicBezTo>
                    <a:pt x="3995" y="43"/>
                    <a:pt x="3995" y="41"/>
                    <a:pt x="3995" y="40"/>
                  </a:cubicBezTo>
                  <a:cubicBezTo>
                    <a:pt x="3995" y="40"/>
                    <a:pt x="3995" y="42"/>
                    <a:pt x="3995" y="44"/>
                  </a:cubicBezTo>
                  <a:close/>
                  <a:moveTo>
                    <a:pt x="4211" y="68"/>
                  </a:moveTo>
                  <a:cubicBezTo>
                    <a:pt x="4211" y="65"/>
                    <a:pt x="4210" y="64"/>
                    <a:pt x="4210" y="64"/>
                  </a:cubicBezTo>
                  <a:cubicBezTo>
                    <a:pt x="4210" y="64"/>
                    <a:pt x="4211" y="66"/>
                    <a:pt x="4211" y="68"/>
                  </a:cubicBezTo>
                  <a:close/>
                  <a:moveTo>
                    <a:pt x="3956" y="52"/>
                  </a:moveTo>
                  <a:cubicBezTo>
                    <a:pt x="3956" y="50"/>
                    <a:pt x="3956" y="49"/>
                    <a:pt x="3956" y="49"/>
                  </a:cubicBezTo>
                  <a:cubicBezTo>
                    <a:pt x="3956" y="50"/>
                    <a:pt x="3956" y="51"/>
                    <a:pt x="3956" y="52"/>
                  </a:cubicBezTo>
                  <a:close/>
                  <a:moveTo>
                    <a:pt x="2672" y="52"/>
                  </a:moveTo>
                  <a:cubicBezTo>
                    <a:pt x="2672" y="50"/>
                    <a:pt x="2672" y="49"/>
                    <a:pt x="2672" y="49"/>
                  </a:cubicBezTo>
                  <a:cubicBezTo>
                    <a:pt x="2672" y="50"/>
                    <a:pt x="2672" y="51"/>
                    <a:pt x="2672" y="52"/>
                  </a:cubicBezTo>
                  <a:close/>
                  <a:moveTo>
                    <a:pt x="4169" y="66"/>
                  </a:moveTo>
                  <a:cubicBezTo>
                    <a:pt x="4169" y="63"/>
                    <a:pt x="4169" y="61"/>
                    <a:pt x="4170" y="59"/>
                  </a:cubicBezTo>
                  <a:cubicBezTo>
                    <a:pt x="4170" y="59"/>
                    <a:pt x="4169" y="62"/>
                    <a:pt x="4169" y="66"/>
                  </a:cubicBezTo>
                  <a:close/>
                  <a:moveTo>
                    <a:pt x="4178" y="100"/>
                  </a:moveTo>
                  <a:cubicBezTo>
                    <a:pt x="4178" y="97"/>
                    <a:pt x="4177" y="95"/>
                    <a:pt x="4177" y="93"/>
                  </a:cubicBezTo>
                  <a:cubicBezTo>
                    <a:pt x="4177" y="96"/>
                    <a:pt x="4178" y="98"/>
                    <a:pt x="4178" y="100"/>
                  </a:cubicBezTo>
                  <a:close/>
                  <a:moveTo>
                    <a:pt x="3772" y="100"/>
                  </a:moveTo>
                  <a:cubicBezTo>
                    <a:pt x="3773" y="98"/>
                    <a:pt x="3773" y="96"/>
                    <a:pt x="3774" y="93"/>
                  </a:cubicBezTo>
                  <a:cubicBezTo>
                    <a:pt x="3773" y="95"/>
                    <a:pt x="3773" y="97"/>
                    <a:pt x="3772" y="100"/>
                  </a:cubicBezTo>
                  <a:close/>
                  <a:moveTo>
                    <a:pt x="3923" y="83"/>
                  </a:moveTo>
                  <a:cubicBezTo>
                    <a:pt x="3922" y="81"/>
                    <a:pt x="3921" y="79"/>
                    <a:pt x="3920" y="78"/>
                  </a:cubicBezTo>
                  <a:cubicBezTo>
                    <a:pt x="3921" y="79"/>
                    <a:pt x="3922" y="81"/>
                    <a:pt x="3923" y="83"/>
                  </a:cubicBezTo>
                  <a:close/>
                  <a:moveTo>
                    <a:pt x="3726" y="68"/>
                  </a:moveTo>
                  <a:cubicBezTo>
                    <a:pt x="3726" y="66"/>
                    <a:pt x="3726" y="65"/>
                    <a:pt x="3726" y="64"/>
                  </a:cubicBezTo>
                  <a:cubicBezTo>
                    <a:pt x="3726" y="64"/>
                    <a:pt x="3726" y="65"/>
                    <a:pt x="3726" y="68"/>
                  </a:cubicBezTo>
                  <a:close/>
                  <a:moveTo>
                    <a:pt x="3705" y="90"/>
                  </a:moveTo>
                  <a:cubicBezTo>
                    <a:pt x="3705" y="89"/>
                    <a:pt x="3704" y="87"/>
                    <a:pt x="3703" y="86"/>
                  </a:cubicBezTo>
                  <a:cubicBezTo>
                    <a:pt x="3704" y="87"/>
                    <a:pt x="3704" y="89"/>
                    <a:pt x="3705" y="90"/>
                  </a:cubicBezTo>
                  <a:close/>
                  <a:moveTo>
                    <a:pt x="3648" y="13"/>
                  </a:moveTo>
                  <a:cubicBezTo>
                    <a:pt x="3648" y="12"/>
                    <a:pt x="3648" y="12"/>
                    <a:pt x="3648" y="12"/>
                  </a:cubicBezTo>
                  <a:cubicBezTo>
                    <a:pt x="3648" y="12"/>
                    <a:pt x="3648" y="13"/>
                    <a:pt x="3648" y="13"/>
                  </a:cubicBezTo>
                  <a:close/>
                  <a:moveTo>
                    <a:pt x="3770" y="61"/>
                  </a:moveTo>
                  <a:cubicBezTo>
                    <a:pt x="3770" y="55"/>
                    <a:pt x="3769" y="49"/>
                    <a:pt x="3768" y="44"/>
                  </a:cubicBezTo>
                  <a:cubicBezTo>
                    <a:pt x="3768" y="44"/>
                    <a:pt x="3769" y="51"/>
                    <a:pt x="3770" y="61"/>
                  </a:cubicBezTo>
                  <a:close/>
                </a:path>
              </a:pathLst>
            </a:custGeom>
            <a:solidFill>
              <a:srgbClr val="001400">
                <a:alpha val="2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7" name="Group 36"/>
            <p:cNvGrpSpPr/>
            <p:nvPr/>
          </p:nvGrpSpPr>
          <p:grpSpPr>
            <a:xfrm>
              <a:off x="-181080" y="2508120"/>
              <a:ext cx="15181200" cy="1064520"/>
              <a:chOff x="-181080" y="2508120"/>
              <a:chExt cx="15181200" cy="1064520"/>
            </a:xfrm>
          </p:grpSpPr>
          <p:sp>
            <p:nvSpPr>
              <p:cNvPr id="2878" name="Freeform 37"/>
              <p:cNvSpPr/>
              <p:nvPr/>
            </p:nvSpPr>
            <p:spPr>
              <a:xfrm>
                <a:off x="-181080" y="2508120"/>
                <a:ext cx="15131880" cy="528120"/>
              </a:xfrm>
              <a:custGeom>
                <a:avLst/>
                <a:gdLst/>
                <a:ahLst/>
                <a:rect l="l" t="t" r="r" b="b"/>
                <a:pathLst>
                  <a:path w="4763" h="166">
                    <a:moveTo>
                      <a:pt x="1928" y="68"/>
                    </a:moveTo>
                    <a:cubicBezTo>
                      <a:pt x="1928" y="66"/>
                      <a:pt x="1928" y="65"/>
                      <a:pt x="1928" y="64"/>
                    </a:cubicBezTo>
                    <a:cubicBezTo>
                      <a:pt x="1928" y="65"/>
                      <a:pt x="1928" y="66"/>
                      <a:pt x="1928" y="68"/>
                    </a:cubicBezTo>
                    <a:close/>
                    <a:moveTo>
                      <a:pt x="1972" y="61"/>
                    </a:moveTo>
                    <a:cubicBezTo>
                      <a:pt x="1972" y="55"/>
                      <a:pt x="1971" y="49"/>
                      <a:pt x="1970" y="44"/>
                    </a:cubicBezTo>
                    <a:cubicBezTo>
                      <a:pt x="1970" y="44"/>
                      <a:pt x="1971" y="51"/>
                      <a:pt x="1972" y="61"/>
                    </a:cubicBezTo>
                    <a:close/>
                    <a:moveTo>
                      <a:pt x="1907" y="90"/>
                    </a:moveTo>
                    <a:cubicBezTo>
                      <a:pt x="1907" y="89"/>
                      <a:pt x="1906" y="87"/>
                      <a:pt x="1905" y="86"/>
                    </a:cubicBezTo>
                    <a:cubicBezTo>
                      <a:pt x="1906" y="87"/>
                      <a:pt x="1906" y="89"/>
                      <a:pt x="1907" y="90"/>
                    </a:cubicBezTo>
                    <a:close/>
                    <a:moveTo>
                      <a:pt x="1733" y="109"/>
                    </a:moveTo>
                    <a:cubicBezTo>
                      <a:pt x="1732" y="104"/>
                      <a:pt x="1732" y="99"/>
                      <a:pt x="1731" y="95"/>
                    </a:cubicBezTo>
                    <a:cubicBezTo>
                      <a:pt x="1731" y="99"/>
                      <a:pt x="1732" y="104"/>
                      <a:pt x="1733" y="109"/>
                    </a:cubicBezTo>
                    <a:close/>
                    <a:moveTo>
                      <a:pt x="1412" y="88"/>
                    </a:moveTo>
                    <a:cubicBezTo>
                      <a:pt x="1411" y="86"/>
                      <a:pt x="1410" y="83"/>
                      <a:pt x="1408" y="81"/>
                    </a:cubicBezTo>
                    <a:cubicBezTo>
                      <a:pt x="1409" y="83"/>
                      <a:pt x="1411" y="86"/>
                      <a:pt x="1412" y="88"/>
                    </a:cubicBezTo>
                    <a:close/>
                    <a:moveTo>
                      <a:pt x="1519" y="102"/>
                    </a:moveTo>
                    <a:cubicBezTo>
                      <a:pt x="1518" y="100"/>
                      <a:pt x="1517" y="97"/>
                      <a:pt x="1516" y="96"/>
                    </a:cubicBezTo>
                    <a:cubicBezTo>
                      <a:pt x="1517" y="98"/>
                      <a:pt x="1518" y="100"/>
                      <a:pt x="1519" y="102"/>
                    </a:cubicBezTo>
                    <a:close/>
                    <a:moveTo>
                      <a:pt x="1280" y="79"/>
                    </a:moveTo>
                    <a:cubicBezTo>
                      <a:pt x="1279" y="76"/>
                      <a:pt x="1278" y="73"/>
                      <a:pt x="1276" y="70"/>
                    </a:cubicBezTo>
                    <a:cubicBezTo>
                      <a:pt x="1278" y="73"/>
                      <a:pt x="1279" y="76"/>
                      <a:pt x="1280" y="79"/>
                    </a:cubicBezTo>
                    <a:close/>
                    <a:moveTo>
                      <a:pt x="1270" y="81"/>
                    </a:moveTo>
                    <a:cubicBezTo>
                      <a:pt x="1264" y="61"/>
                      <a:pt x="1253" y="46"/>
                      <a:pt x="1237" y="25"/>
                    </a:cubicBezTo>
                    <a:cubicBezTo>
                      <a:pt x="1253" y="48"/>
                      <a:pt x="1263" y="64"/>
                      <a:pt x="1270" y="81"/>
                    </a:cubicBezTo>
                    <a:close/>
                    <a:moveTo>
                      <a:pt x="1572" y="100"/>
                    </a:moveTo>
                    <a:cubicBezTo>
                      <a:pt x="1572" y="97"/>
                      <a:pt x="1571" y="95"/>
                      <a:pt x="1570" y="93"/>
                    </a:cubicBezTo>
                    <a:cubicBezTo>
                      <a:pt x="1571" y="96"/>
                      <a:pt x="1572" y="98"/>
                      <a:pt x="1572" y="100"/>
                    </a:cubicBezTo>
                    <a:close/>
                    <a:moveTo>
                      <a:pt x="1812" y="81"/>
                    </a:moveTo>
                    <a:cubicBezTo>
                      <a:pt x="1810" y="75"/>
                      <a:pt x="1808" y="70"/>
                      <a:pt x="1806" y="67"/>
                    </a:cubicBezTo>
                    <a:cubicBezTo>
                      <a:pt x="1806" y="67"/>
                      <a:pt x="1809" y="72"/>
                      <a:pt x="1812" y="81"/>
                    </a:cubicBezTo>
                    <a:close/>
                    <a:moveTo>
                      <a:pt x="1850" y="13"/>
                    </a:moveTo>
                    <a:cubicBezTo>
                      <a:pt x="1850" y="12"/>
                      <a:pt x="1850" y="12"/>
                      <a:pt x="1850" y="12"/>
                    </a:cubicBezTo>
                    <a:cubicBezTo>
                      <a:pt x="1850" y="12"/>
                      <a:pt x="1850" y="13"/>
                      <a:pt x="1850" y="13"/>
                    </a:cubicBezTo>
                    <a:close/>
                    <a:moveTo>
                      <a:pt x="1974" y="100"/>
                    </a:moveTo>
                    <a:cubicBezTo>
                      <a:pt x="1975" y="98"/>
                      <a:pt x="1975" y="96"/>
                      <a:pt x="1976" y="93"/>
                    </a:cubicBezTo>
                    <a:cubicBezTo>
                      <a:pt x="1975" y="95"/>
                      <a:pt x="1975" y="97"/>
                      <a:pt x="1974" y="100"/>
                    </a:cubicBezTo>
                    <a:close/>
                    <a:moveTo>
                      <a:pt x="2660" y="105"/>
                    </a:moveTo>
                    <a:cubicBezTo>
                      <a:pt x="2660" y="103"/>
                      <a:pt x="2660" y="101"/>
                      <a:pt x="2659" y="99"/>
                    </a:cubicBezTo>
                    <a:cubicBezTo>
                      <a:pt x="2659" y="101"/>
                      <a:pt x="2660" y="103"/>
                      <a:pt x="2660" y="105"/>
                    </a:cubicBezTo>
                    <a:close/>
                    <a:moveTo>
                      <a:pt x="2371" y="66"/>
                    </a:moveTo>
                    <a:cubicBezTo>
                      <a:pt x="2371" y="63"/>
                      <a:pt x="2371" y="61"/>
                      <a:pt x="2372" y="59"/>
                    </a:cubicBezTo>
                    <a:cubicBezTo>
                      <a:pt x="2372" y="59"/>
                      <a:pt x="2371" y="62"/>
                      <a:pt x="2371" y="66"/>
                    </a:cubicBezTo>
                    <a:close/>
                    <a:moveTo>
                      <a:pt x="2380" y="100"/>
                    </a:moveTo>
                    <a:cubicBezTo>
                      <a:pt x="2380" y="97"/>
                      <a:pt x="2379" y="95"/>
                      <a:pt x="2379" y="93"/>
                    </a:cubicBezTo>
                    <a:cubicBezTo>
                      <a:pt x="2379" y="96"/>
                      <a:pt x="2380" y="98"/>
                      <a:pt x="2380" y="100"/>
                    </a:cubicBezTo>
                    <a:close/>
                    <a:moveTo>
                      <a:pt x="2413" y="68"/>
                    </a:moveTo>
                    <a:cubicBezTo>
                      <a:pt x="2413" y="65"/>
                      <a:pt x="2412" y="64"/>
                      <a:pt x="2412" y="64"/>
                    </a:cubicBezTo>
                    <a:cubicBezTo>
                      <a:pt x="2412" y="64"/>
                      <a:pt x="2413" y="66"/>
                      <a:pt x="2413" y="68"/>
                    </a:cubicBezTo>
                    <a:close/>
                    <a:moveTo>
                      <a:pt x="2486" y="61"/>
                    </a:moveTo>
                    <a:cubicBezTo>
                      <a:pt x="2486" y="55"/>
                      <a:pt x="2485" y="49"/>
                      <a:pt x="2484" y="44"/>
                    </a:cubicBezTo>
                    <a:cubicBezTo>
                      <a:pt x="2484" y="44"/>
                      <a:pt x="2485" y="51"/>
                      <a:pt x="2486" y="61"/>
                    </a:cubicBezTo>
                    <a:close/>
                    <a:moveTo>
                      <a:pt x="2562" y="68"/>
                    </a:moveTo>
                    <a:cubicBezTo>
                      <a:pt x="2562" y="68"/>
                      <a:pt x="2562" y="71"/>
                      <a:pt x="2562" y="75"/>
                    </a:cubicBezTo>
                    <a:cubicBezTo>
                      <a:pt x="2562" y="72"/>
                      <a:pt x="2562" y="70"/>
                      <a:pt x="2562" y="68"/>
                    </a:cubicBezTo>
                    <a:close/>
                    <a:moveTo>
                      <a:pt x="2197" y="44"/>
                    </a:moveTo>
                    <a:cubicBezTo>
                      <a:pt x="2197" y="43"/>
                      <a:pt x="2197" y="41"/>
                      <a:pt x="2197" y="40"/>
                    </a:cubicBezTo>
                    <a:cubicBezTo>
                      <a:pt x="2197" y="40"/>
                      <a:pt x="2197" y="42"/>
                      <a:pt x="2197" y="44"/>
                    </a:cubicBezTo>
                    <a:close/>
                    <a:moveTo>
                      <a:pt x="2125" y="83"/>
                    </a:moveTo>
                    <a:cubicBezTo>
                      <a:pt x="2124" y="81"/>
                      <a:pt x="2123" y="79"/>
                      <a:pt x="2122" y="78"/>
                    </a:cubicBezTo>
                    <a:cubicBezTo>
                      <a:pt x="2123" y="79"/>
                      <a:pt x="2124" y="81"/>
                      <a:pt x="2125" y="83"/>
                    </a:cubicBezTo>
                    <a:close/>
                    <a:moveTo>
                      <a:pt x="2569" y="62"/>
                    </a:moveTo>
                    <a:cubicBezTo>
                      <a:pt x="2569" y="61"/>
                      <a:pt x="2569" y="60"/>
                      <a:pt x="2569" y="60"/>
                    </a:cubicBezTo>
                    <a:cubicBezTo>
                      <a:pt x="2569" y="60"/>
                      <a:pt x="2569" y="61"/>
                      <a:pt x="2569" y="62"/>
                    </a:cubicBezTo>
                    <a:close/>
                    <a:moveTo>
                      <a:pt x="2158" y="52"/>
                    </a:moveTo>
                    <a:cubicBezTo>
                      <a:pt x="2158" y="50"/>
                      <a:pt x="2158" y="49"/>
                      <a:pt x="2158" y="49"/>
                    </a:cubicBezTo>
                    <a:cubicBezTo>
                      <a:pt x="2158" y="50"/>
                      <a:pt x="2158" y="51"/>
                      <a:pt x="2158" y="52"/>
                    </a:cubicBezTo>
                    <a:close/>
                    <a:moveTo>
                      <a:pt x="2143" y="33"/>
                    </a:moveTo>
                    <a:cubicBezTo>
                      <a:pt x="2143" y="30"/>
                      <a:pt x="2143" y="28"/>
                      <a:pt x="2142" y="25"/>
                    </a:cubicBezTo>
                    <a:cubicBezTo>
                      <a:pt x="2142" y="25"/>
                      <a:pt x="2143" y="28"/>
                      <a:pt x="2143" y="33"/>
                    </a:cubicBezTo>
                    <a:close/>
                    <a:moveTo>
                      <a:pt x="2441" y="67"/>
                    </a:moveTo>
                    <a:cubicBezTo>
                      <a:pt x="2442" y="66"/>
                      <a:pt x="2442" y="65"/>
                      <a:pt x="2441" y="64"/>
                    </a:cubicBezTo>
                    <a:cubicBezTo>
                      <a:pt x="2441" y="64"/>
                      <a:pt x="2441" y="65"/>
                      <a:pt x="2441" y="67"/>
                    </a:cubicBezTo>
                    <a:close/>
                    <a:moveTo>
                      <a:pt x="130" y="68"/>
                    </a:moveTo>
                    <a:cubicBezTo>
                      <a:pt x="130" y="66"/>
                      <a:pt x="130" y="65"/>
                      <a:pt x="130" y="64"/>
                    </a:cubicBezTo>
                    <a:cubicBezTo>
                      <a:pt x="130" y="64"/>
                      <a:pt x="130" y="65"/>
                      <a:pt x="130" y="68"/>
                    </a:cubicBezTo>
                    <a:close/>
                    <a:moveTo>
                      <a:pt x="360" y="52"/>
                    </a:moveTo>
                    <a:cubicBezTo>
                      <a:pt x="360" y="50"/>
                      <a:pt x="360" y="49"/>
                      <a:pt x="360" y="49"/>
                    </a:cubicBezTo>
                    <a:cubicBezTo>
                      <a:pt x="360" y="50"/>
                      <a:pt x="360" y="51"/>
                      <a:pt x="360" y="52"/>
                    </a:cubicBezTo>
                    <a:close/>
                    <a:moveTo>
                      <a:pt x="345" y="33"/>
                    </a:moveTo>
                    <a:cubicBezTo>
                      <a:pt x="345" y="30"/>
                      <a:pt x="345" y="28"/>
                      <a:pt x="344" y="25"/>
                    </a:cubicBezTo>
                    <a:cubicBezTo>
                      <a:pt x="344" y="25"/>
                      <a:pt x="345" y="28"/>
                      <a:pt x="345" y="33"/>
                    </a:cubicBezTo>
                    <a:close/>
                    <a:moveTo>
                      <a:pt x="327" y="83"/>
                    </a:moveTo>
                    <a:cubicBezTo>
                      <a:pt x="326" y="81"/>
                      <a:pt x="325" y="79"/>
                      <a:pt x="324" y="78"/>
                    </a:cubicBezTo>
                    <a:cubicBezTo>
                      <a:pt x="325" y="79"/>
                      <a:pt x="326" y="81"/>
                      <a:pt x="327" y="83"/>
                    </a:cubicBezTo>
                    <a:close/>
                    <a:moveTo>
                      <a:pt x="399" y="44"/>
                    </a:moveTo>
                    <a:cubicBezTo>
                      <a:pt x="399" y="43"/>
                      <a:pt x="399" y="41"/>
                      <a:pt x="399" y="40"/>
                    </a:cubicBezTo>
                    <a:cubicBezTo>
                      <a:pt x="399" y="40"/>
                      <a:pt x="399" y="42"/>
                      <a:pt x="399" y="44"/>
                    </a:cubicBezTo>
                    <a:close/>
                    <a:moveTo>
                      <a:pt x="176" y="100"/>
                    </a:moveTo>
                    <a:cubicBezTo>
                      <a:pt x="177" y="98"/>
                      <a:pt x="177" y="96"/>
                      <a:pt x="178" y="93"/>
                    </a:cubicBezTo>
                    <a:cubicBezTo>
                      <a:pt x="177" y="95"/>
                      <a:pt x="177" y="97"/>
                      <a:pt x="176" y="100"/>
                    </a:cubicBezTo>
                    <a:close/>
                    <a:moveTo>
                      <a:pt x="573" y="66"/>
                    </a:moveTo>
                    <a:cubicBezTo>
                      <a:pt x="573" y="63"/>
                      <a:pt x="574" y="61"/>
                      <a:pt x="574" y="59"/>
                    </a:cubicBezTo>
                    <a:cubicBezTo>
                      <a:pt x="574" y="59"/>
                      <a:pt x="573" y="62"/>
                      <a:pt x="573" y="66"/>
                    </a:cubicBezTo>
                    <a:close/>
                    <a:moveTo>
                      <a:pt x="14" y="81"/>
                    </a:moveTo>
                    <a:cubicBezTo>
                      <a:pt x="12" y="75"/>
                      <a:pt x="10" y="70"/>
                      <a:pt x="9" y="67"/>
                    </a:cubicBezTo>
                    <a:cubicBezTo>
                      <a:pt x="9" y="67"/>
                      <a:pt x="11" y="72"/>
                      <a:pt x="14" y="81"/>
                    </a:cubicBezTo>
                    <a:close/>
                    <a:moveTo>
                      <a:pt x="52" y="13"/>
                    </a:move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3"/>
                      <a:pt x="52" y="13"/>
                    </a:cubicBezTo>
                    <a:close/>
                    <a:moveTo>
                      <a:pt x="583" y="100"/>
                    </a:moveTo>
                    <a:cubicBezTo>
                      <a:pt x="582" y="97"/>
                      <a:pt x="582" y="95"/>
                      <a:pt x="581" y="93"/>
                    </a:cubicBezTo>
                    <a:cubicBezTo>
                      <a:pt x="581" y="96"/>
                      <a:pt x="582" y="98"/>
                      <a:pt x="583" y="100"/>
                    </a:cubicBezTo>
                    <a:close/>
                    <a:moveTo>
                      <a:pt x="2668" y="65"/>
                    </a:moveTo>
                    <a:cubicBezTo>
                      <a:pt x="2668" y="64"/>
                      <a:pt x="2668" y="63"/>
                      <a:pt x="2668" y="63"/>
                    </a:cubicBezTo>
                    <a:cubicBezTo>
                      <a:pt x="2668" y="63"/>
                      <a:pt x="2668" y="64"/>
                      <a:pt x="2668" y="65"/>
                    </a:cubicBezTo>
                    <a:close/>
                    <a:moveTo>
                      <a:pt x="109" y="90"/>
                    </a:moveTo>
                    <a:cubicBezTo>
                      <a:pt x="109" y="89"/>
                      <a:pt x="108" y="87"/>
                      <a:pt x="107" y="86"/>
                    </a:cubicBezTo>
                    <a:cubicBezTo>
                      <a:pt x="108" y="87"/>
                      <a:pt x="109" y="89"/>
                      <a:pt x="109" y="90"/>
                    </a:cubicBezTo>
                    <a:close/>
                    <a:moveTo>
                      <a:pt x="174" y="61"/>
                    </a:moveTo>
                    <a:cubicBezTo>
                      <a:pt x="174" y="55"/>
                      <a:pt x="174" y="49"/>
                      <a:pt x="172" y="44"/>
                    </a:cubicBezTo>
                    <a:cubicBezTo>
                      <a:pt x="172" y="44"/>
                      <a:pt x="173" y="51"/>
                      <a:pt x="174" y="61"/>
                    </a:cubicBezTo>
                    <a:close/>
                    <a:moveTo>
                      <a:pt x="615" y="68"/>
                    </a:moveTo>
                    <a:cubicBezTo>
                      <a:pt x="615" y="65"/>
                      <a:pt x="614" y="64"/>
                      <a:pt x="614" y="64"/>
                    </a:cubicBezTo>
                    <a:cubicBezTo>
                      <a:pt x="614" y="64"/>
                      <a:pt x="615" y="66"/>
                      <a:pt x="615" y="68"/>
                    </a:cubicBezTo>
                    <a:close/>
                    <a:moveTo>
                      <a:pt x="922" y="54"/>
                    </a:moveTo>
                    <a:cubicBezTo>
                      <a:pt x="922" y="53"/>
                      <a:pt x="922" y="52"/>
                      <a:pt x="922" y="52"/>
                    </a:cubicBezTo>
                    <a:cubicBezTo>
                      <a:pt x="922" y="53"/>
                      <a:pt x="922" y="53"/>
                      <a:pt x="922" y="54"/>
                    </a:cubicBezTo>
                    <a:close/>
                    <a:moveTo>
                      <a:pt x="870" y="65"/>
                    </a:moveTo>
                    <a:cubicBezTo>
                      <a:pt x="870" y="64"/>
                      <a:pt x="870" y="63"/>
                      <a:pt x="870" y="63"/>
                    </a:cubicBezTo>
                    <a:cubicBezTo>
                      <a:pt x="870" y="63"/>
                      <a:pt x="870" y="64"/>
                      <a:pt x="870" y="65"/>
                    </a:cubicBezTo>
                    <a:close/>
                    <a:moveTo>
                      <a:pt x="874" y="52"/>
                    </a:moveTo>
                    <a:cubicBezTo>
                      <a:pt x="874" y="50"/>
                      <a:pt x="874" y="49"/>
                      <a:pt x="874" y="49"/>
                    </a:cubicBezTo>
                    <a:cubicBezTo>
                      <a:pt x="874" y="50"/>
                      <a:pt x="874" y="51"/>
                      <a:pt x="874" y="52"/>
                    </a:cubicBezTo>
                    <a:close/>
                    <a:moveTo>
                      <a:pt x="918" y="90"/>
                    </a:moveTo>
                    <a:cubicBezTo>
                      <a:pt x="917" y="89"/>
                      <a:pt x="916" y="87"/>
                      <a:pt x="915" y="86"/>
                    </a:cubicBezTo>
                    <a:cubicBezTo>
                      <a:pt x="916" y="87"/>
                      <a:pt x="917" y="89"/>
                      <a:pt x="918" y="90"/>
                    </a:cubicBezTo>
                    <a:close/>
                    <a:moveTo>
                      <a:pt x="1037" y="54"/>
                    </a:moveTo>
                    <a:cubicBezTo>
                      <a:pt x="1037" y="54"/>
                      <a:pt x="1037" y="65"/>
                      <a:pt x="1036" y="84"/>
                    </a:cubicBezTo>
                    <a:cubicBezTo>
                      <a:pt x="1038" y="72"/>
                      <a:pt x="1039" y="60"/>
                      <a:pt x="1037" y="54"/>
                    </a:cubicBezTo>
                    <a:close/>
                    <a:moveTo>
                      <a:pt x="998" y="47"/>
                    </a:moveTo>
                    <a:cubicBezTo>
                      <a:pt x="997" y="39"/>
                      <a:pt x="997" y="33"/>
                      <a:pt x="996" y="30"/>
                    </a:cubicBezTo>
                    <a:cubicBezTo>
                      <a:pt x="996" y="30"/>
                      <a:pt x="996" y="37"/>
                      <a:pt x="998" y="47"/>
                    </a:cubicBezTo>
                    <a:close/>
                    <a:moveTo>
                      <a:pt x="688" y="61"/>
                    </a:moveTo>
                    <a:cubicBezTo>
                      <a:pt x="688" y="55"/>
                      <a:pt x="687" y="49"/>
                      <a:pt x="686" y="44"/>
                    </a:cubicBezTo>
                    <a:cubicBezTo>
                      <a:pt x="686" y="44"/>
                      <a:pt x="687" y="51"/>
                      <a:pt x="688" y="61"/>
                    </a:cubicBezTo>
                    <a:close/>
                    <a:moveTo>
                      <a:pt x="862" y="105"/>
                    </a:moveTo>
                    <a:cubicBezTo>
                      <a:pt x="862" y="103"/>
                      <a:pt x="862" y="101"/>
                      <a:pt x="861" y="99"/>
                    </a:cubicBezTo>
                    <a:cubicBezTo>
                      <a:pt x="861" y="101"/>
                      <a:pt x="862" y="103"/>
                      <a:pt x="862" y="105"/>
                    </a:cubicBezTo>
                    <a:close/>
                    <a:moveTo>
                      <a:pt x="644" y="67"/>
                    </a:moveTo>
                    <a:cubicBezTo>
                      <a:pt x="644" y="66"/>
                      <a:pt x="644" y="65"/>
                      <a:pt x="644" y="64"/>
                    </a:cubicBezTo>
                    <a:cubicBezTo>
                      <a:pt x="644" y="64"/>
                      <a:pt x="644" y="65"/>
                      <a:pt x="644" y="67"/>
                    </a:cubicBezTo>
                    <a:close/>
                    <a:moveTo>
                      <a:pt x="1092" y="106"/>
                    </a:moveTo>
                    <a:cubicBezTo>
                      <a:pt x="1092" y="103"/>
                      <a:pt x="1092" y="100"/>
                      <a:pt x="1091" y="96"/>
                    </a:cubicBezTo>
                    <a:cubicBezTo>
                      <a:pt x="1091" y="99"/>
                      <a:pt x="1092" y="103"/>
                      <a:pt x="1092" y="106"/>
                    </a:cubicBezTo>
                    <a:close/>
                    <a:moveTo>
                      <a:pt x="764" y="68"/>
                    </a:moveTo>
                    <a:cubicBezTo>
                      <a:pt x="764" y="68"/>
                      <a:pt x="764" y="71"/>
                      <a:pt x="764" y="75"/>
                    </a:cubicBezTo>
                    <a:cubicBezTo>
                      <a:pt x="764" y="72"/>
                      <a:pt x="764" y="70"/>
                      <a:pt x="764" y="68"/>
                    </a:cubicBezTo>
                    <a:close/>
                    <a:moveTo>
                      <a:pt x="771" y="62"/>
                    </a:moveTo>
                    <a:cubicBezTo>
                      <a:pt x="771" y="61"/>
                      <a:pt x="771" y="60"/>
                      <a:pt x="771" y="60"/>
                    </a:cubicBezTo>
                    <a:cubicBezTo>
                      <a:pt x="771" y="60"/>
                      <a:pt x="771" y="61"/>
                      <a:pt x="771" y="62"/>
                    </a:cubicBezTo>
                    <a:close/>
                    <a:moveTo>
                      <a:pt x="4239" y="67"/>
                    </a:moveTo>
                    <a:cubicBezTo>
                      <a:pt x="4239" y="66"/>
                      <a:pt x="4240" y="65"/>
                      <a:pt x="4239" y="64"/>
                    </a:cubicBezTo>
                    <a:cubicBezTo>
                      <a:pt x="4239" y="64"/>
                      <a:pt x="4239" y="65"/>
                      <a:pt x="4239" y="67"/>
                    </a:cubicBezTo>
                    <a:close/>
                    <a:moveTo>
                      <a:pt x="4593" y="47"/>
                    </a:moveTo>
                    <a:cubicBezTo>
                      <a:pt x="4593" y="39"/>
                      <a:pt x="4593" y="33"/>
                      <a:pt x="4591" y="30"/>
                    </a:cubicBezTo>
                    <a:cubicBezTo>
                      <a:pt x="4591" y="30"/>
                      <a:pt x="4592" y="37"/>
                      <a:pt x="4593" y="47"/>
                    </a:cubicBezTo>
                    <a:close/>
                    <a:moveTo>
                      <a:pt x="4518" y="54"/>
                    </a:moveTo>
                    <a:cubicBezTo>
                      <a:pt x="4518" y="53"/>
                      <a:pt x="4517" y="52"/>
                      <a:pt x="4517" y="52"/>
                    </a:cubicBezTo>
                    <a:cubicBezTo>
                      <a:pt x="4518" y="53"/>
                      <a:pt x="4518" y="53"/>
                      <a:pt x="4518" y="54"/>
                    </a:cubicBezTo>
                    <a:close/>
                    <a:moveTo>
                      <a:pt x="4633" y="54"/>
                    </a:moveTo>
                    <a:cubicBezTo>
                      <a:pt x="4633" y="54"/>
                      <a:pt x="4633" y="65"/>
                      <a:pt x="4632" y="84"/>
                    </a:cubicBezTo>
                    <a:cubicBezTo>
                      <a:pt x="4634" y="72"/>
                      <a:pt x="4635" y="60"/>
                      <a:pt x="4633" y="54"/>
                    </a:cubicBezTo>
                    <a:close/>
                    <a:moveTo>
                      <a:pt x="4513" y="90"/>
                    </a:moveTo>
                    <a:cubicBezTo>
                      <a:pt x="4513" y="89"/>
                      <a:pt x="4512" y="87"/>
                      <a:pt x="4511" y="86"/>
                    </a:cubicBezTo>
                    <a:cubicBezTo>
                      <a:pt x="4512" y="87"/>
                      <a:pt x="4513" y="89"/>
                      <a:pt x="4513" y="90"/>
                    </a:cubicBezTo>
                    <a:close/>
                    <a:moveTo>
                      <a:pt x="4688" y="106"/>
                    </a:moveTo>
                    <a:cubicBezTo>
                      <a:pt x="4688" y="103"/>
                      <a:pt x="4687" y="100"/>
                      <a:pt x="4687" y="96"/>
                    </a:cubicBezTo>
                    <a:cubicBezTo>
                      <a:pt x="4687" y="99"/>
                      <a:pt x="4688" y="103"/>
                      <a:pt x="4688" y="106"/>
                    </a:cubicBezTo>
                    <a:close/>
                    <a:moveTo>
                      <a:pt x="886" y="106"/>
                    </a:moveTo>
                    <a:cubicBezTo>
                      <a:pt x="886" y="103"/>
                      <a:pt x="885" y="101"/>
                      <a:pt x="885" y="99"/>
                    </a:cubicBezTo>
                    <a:cubicBezTo>
                      <a:pt x="885" y="101"/>
                      <a:pt x="885" y="103"/>
                      <a:pt x="886" y="106"/>
                    </a:cubicBezTo>
                    <a:close/>
                    <a:moveTo>
                      <a:pt x="4284" y="61"/>
                    </a:moveTo>
                    <a:cubicBezTo>
                      <a:pt x="4284" y="55"/>
                      <a:pt x="4283" y="49"/>
                      <a:pt x="4282" y="44"/>
                    </a:cubicBezTo>
                    <a:cubicBezTo>
                      <a:pt x="4282" y="44"/>
                      <a:pt x="4283" y="51"/>
                      <a:pt x="4284" y="61"/>
                    </a:cubicBezTo>
                    <a:close/>
                    <a:moveTo>
                      <a:pt x="4367" y="62"/>
                    </a:moveTo>
                    <a:cubicBezTo>
                      <a:pt x="4367" y="61"/>
                      <a:pt x="4367" y="60"/>
                      <a:pt x="4367" y="60"/>
                    </a:cubicBezTo>
                    <a:cubicBezTo>
                      <a:pt x="4367" y="60"/>
                      <a:pt x="4367" y="61"/>
                      <a:pt x="4367" y="62"/>
                    </a:cubicBezTo>
                    <a:close/>
                    <a:moveTo>
                      <a:pt x="4470" y="52"/>
                    </a:moveTo>
                    <a:cubicBezTo>
                      <a:pt x="4470" y="50"/>
                      <a:pt x="4470" y="49"/>
                      <a:pt x="4470" y="49"/>
                    </a:cubicBezTo>
                    <a:cubicBezTo>
                      <a:pt x="4470" y="50"/>
                      <a:pt x="4470" y="51"/>
                      <a:pt x="4470" y="52"/>
                    </a:cubicBezTo>
                    <a:close/>
                    <a:moveTo>
                      <a:pt x="4360" y="68"/>
                    </a:moveTo>
                    <a:cubicBezTo>
                      <a:pt x="4360" y="68"/>
                      <a:pt x="4360" y="71"/>
                      <a:pt x="4360" y="75"/>
                    </a:cubicBezTo>
                    <a:cubicBezTo>
                      <a:pt x="4360" y="72"/>
                      <a:pt x="4360" y="70"/>
                      <a:pt x="4360" y="68"/>
                    </a:cubicBezTo>
                    <a:close/>
                    <a:moveTo>
                      <a:pt x="4748" y="85"/>
                    </a:moveTo>
                    <a:cubicBezTo>
                      <a:pt x="4748" y="84"/>
                      <a:pt x="4748" y="84"/>
                      <a:pt x="4747" y="83"/>
                    </a:cubicBezTo>
                    <a:cubicBezTo>
                      <a:pt x="4748" y="84"/>
                      <a:pt x="4748" y="84"/>
                      <a:pt x="4748" y="85"/>
                    </a:cubicBezTo>
                    <a:close/>
                    <a:moveTo>
                      <a:pt x="4748" y="85"/>
                    </a:moveTo>
                    <a:cubicBezTo>
                      <a:pt x="4750" y="92"/>
                      <a:pt x="4750" y="108"/>
                      <a:pt x="4750" y="115"/>
                    </a:cubicBezTo>
                    <a:cubicBezTo>
                      <a:pt x="4750" y="127"/>
                      <a:pt x="4750" y="138"/>
                      <a:pt x="4752" y="150"/>
                    </a:cubicBezTo>
                    <a:cubicBezTo>
                      <a:pt x="4743" y="126"/>
                      <a:pt x="4740" y="99"/>
                      <a:pt x="4733" y="74"/>
                    </a:cubicBezTo>
                    <a:cubicBezTo>
                      <a:pt x="4736" y="91"/>
                      <a:pt x="4732" y="110"/>
                      <a:pt x="4732" y="128"/>
                    </a:cubicBezTo>
                    <a:cubicBezTo>
                      <a:pt x="4732" y="132"/>
                      <a:pt x="4733" y="136"/>
                      <a:pt x="4733" y="140"/>
                    </a:cubicBezTo>
                    <a:cubicBezTo>
                      <a:pt x="4733" y="145"/>
                      <a:pt x="4734" y="149"/>
                      <a:pt x="4735" y="154"/>
                    </a:cubicBezTo>
                    <a:cubicBezTo>
                      <a:pt x="4734" y="149"/>
                      <a:pt x="4733" y="145"/>
                      <a:pt x="4733" y="140"/>
                    </a:cubicBezTo>
                    <a:cubicBezTo>
                      <a:pt x="4730" y="120"/>
                      <a:pt x="4727" y="99"/>
                      <a:pt x="4722" y="80"/>
                    </a:cubicBezTo>
                    <a:cubicBezTo>
                      <a:pt x="4724" y="102"/>
                      <a:pt x="4714" y="126"/>
                      <a:pt x="4714" y="149"/>
                    </a:cubicBezTo>
                    <a:cubicBezTo>
                      <a:pt x="4714" y="156"/>
                      <a:pt x="4714" y="156"/>
                      <a:pt x="4714" y="156"/>
                    </a:cubicBezTo>
                    <a:cubicBezTo>
                      <a:pt x="4710" y="147"/>
                      <a:pt x="4710" y="132"/>
                      <a:pt x="4710" y="122"/>
                    </a:cubicBezTo>
                    <a:cubicBezTo>
                      <a:pt x="4710" y="100"/>
                      <a:pt x="4712" y="79"/>
                      <a:pt x="4711" y="57"/>
                    </a:cubicBezTo>
                    <a:cubicBezTo>
                      <a:pt x="4708" y="62"/>
                      <a:pt x="4707" y="112"/>
                      <a:pt x="4707" y="120"/>
                    </a:cubicBezTo>
                    <a:cubicBezTo>
                      <a:pt x="4707" y="133"/>
                      <a:pt x="4708" y="146"/>
                      <a:pt x="4711" y="159"/>
                    </a:cubicBezTo>
                    <a:cubicBezTo>
                      <a:pt x="4706" y="135"/>
                      <a:pt x="4700" y="108"/>
                      <a:pt x="4688" y="85"/>
                    </a:cubicBezTo>
                    <a:cubicBezTo>
                      <a:pt x="4699" y="106"/>
                      <a:pt x="4694" y="132"/>
                      <a:pt x="4701" y="154"/>
                    </a:cubicBezTo>
                    <a:cubicBezTo>
                      <a:pt x="4693" y="142"/>
                      <a:pt x="4691" y="122"/>
                      <a:pt x="4688" y="106"/>
                    </a:cubicBezTo>
                    <a:cubicBezTo>
                      <a:pt x="4690" y="120"/>
                      <a:pt x="4688" y="134"/>
                      <a:pt x="4690" y="148"/>
                    </a:cubicBezTo>
                    <a:cubicBezTo>
                      <a:pt x="4691" y="151"/>
                      <a:pt x="4692" y="153"/>
                      <a:pt x="4692" y="155"/>
                    </a:cubicBezTo>
                    <a:cubicBezTo>
                      <a:pt x="4691" y="153"/>
                      <a:pt x="4691" y="151"/>
                      <a:pt x="4690" y="148"/>
                    </a:cubicBezTo>
                    <a:cubicBezTo>
                      <a:pt x="4685" y="128"/>
                      <a:pt x="4673" y="75"/>
                      <a:pt x="4661" y="68"/>
                    </a:cubicBezTo>
                    <a:cubicBezTo>
                      <a:pt x="4678" y="90"/>
                      <a:pt x="4676" y="127"/>
                      <a:pt x="4680" y="153"/>
                    </a:cubicBezTo>
                    <a:cubicBezTo>
                      <a:pt x="4676" y="134"/>
                      <a:pt x="4669" y="113"/>
                      <a:pt x="4660" y="95"/>
                    </a:cubicBezTo>
                    <a:cubicBezTo>
                      <a:pt x="4667" y="115"/>
                      <a:pt x="4666" y="136"/>
                      <a:pt x="4675" y="155"/>
                    </a:cubicBezTo>
                    <a:cubicBezTo>
                      <a:pt x="4662" y="144"/>
                      <a:pt x="4655" y="117"/>
                      <a:pt x="4651" y="102"/>
                    </a:cubicBezTo>
                    <a:cubicBezTo>
                      <a:pt x="4651" y="120"/>
                      <a:pt x="4656" y="143"/>
                      <a:pt x="4667" y="158"/>
                    </a:cubicBezTo>
                    <a:cubicBezTo>
                      <a:pt x="4653" y="144"/>
                      <a:pt x="4648" y="103"/>
                      <a:pt x="4643" y="85"/>
                    </a:cubicBezTo>
                    <a:cubicBezTo>
                      <a:pt x="4642" y="88"/>
                      <a:pt x="4642" y="91"/>
                      <a:pt x="4642" y="94"/>
                    </a:cubicBezTo>
                    <a:cubicBezTo>
                      <a:pt x="4642" y="113"/>
                      <a:pt x="4647" y="142"/>
                      <a:pt x="4659" y="159"/>
                    </a:cubicBezTo>
                    <a:cubicBezTo>
                      <a:pt x="4645" y="143"/>
                      <a:pt x="4640" y="123"/>
                      <a:pt x="4634" y="104"/>
                    </a:cubicBezTo>
                    <a:cubicBezTo>
                      <a:pt x="4638" y="122"/>
                      <a:pt x="4638" y="140"/>
                      <a:pt x="4647" y="158"/>
                    </a:cubicBezTo>
                    <a:cubicBezTo>
                      <a:pt x="4637" y="147"/>
                      <a:pt x="4632" y="132"/>
                      <a:pt x="4628" y="117"/>
                    </a:cubicBezTo>
                    <a:cubicBezTo>
                      <a:pt x="4630" y="105"/>
                      <a:pt x="4631" y="93"/>
                      <a:pt x="4632" y="84"/>
                    </a:cubicBezTo>
                    <a:cubicBezTo>
                      <a:pt x="4630" y="92"/>
                      <a:pt x="4628" y="101"/>
                      <a:pt x="4626" y="109"/>
                    </a:cubicBezTo>
                    <a:cubicBezTo>
                      <a:pt x="4625" y="102"/>
                      <a:pt x="4623" y="95"/>
                      <a:pt x="4621" y="89"/>
                    </a:cubicBezTo>
                    <a:cubicBezTo>
                      <a:pt x="4624" y="64"/>
                      <a:pt x="4628" y="40"/>
                      <a:pt x="4628" y="40"/>
                    </a:cubicBezTo>
                    <a:cubicBezTo>
                      <a:pt x="4623" y="51"/>
                      <a:pt x="4618" y="77"/>
                      <a:pt x="4615" y="100"/>
                    </a:cubicBezTo>
                    <a:cubicBezTo>
                      <a:pt x="4613" y="95"/>
                      <a:pt x="4610" y="90"/>
                      <a:pt x="4609" y="86"/>
                    </a:cubicBezTo>
                    <a:cubicBezTo>
                      <a:pt x="4608" y="70"/>
                      <a:pt x="4606" y="58"/>
                      <a:pt x="4606" y="60"/>
                    </a:cubicBezTo>
                    <a:cubicBezTo>
                      <a:pt x="4606" y="61"/>
                      <a:pt x="4606" y="69"/>
                      <a:pt x="4605" y="80"/>
                    </a:cubicBezTo>
                    <a:cubicBezTo>
                      <a:pt x="4604" y="79"/>
                      <a:pt x="4604" y="78"/>
                      <a:pt x="4603" y="78"/>
                    </a:cubicBezTo>
                    <a:cubicBezTo>
                      <a:pt x="4604" y="79"/>
                      <a:pt x="4604" y="80"/>
                      <a:pt x="4605" y="81"/>
                    </a:cubicBezTo>
                    <a:cubicBezTo>
                      <a:pt x="4604" y="87"/>
                      <a:pt x="4604" y="95"/>
                      <a:pt x="4603" y="102"/>
                    </a:cubicBezTo>
                    <a:cubicBezTo>
                      <a:pt x="4603" y="102"/>
                      <a:pt x="4603" y="102"/>
                      <a:pt x="4603" y="102"/>
                    </a:cubicBezTo>
                    <a:cubicBezTo>
                      <a:pt x="4603" y="103"/>
                      <a:pt x="4603" y="103"/>
                      <a:pt x="4603" y="103"/>
                    </a:cubicBezTo>
                    <a:cubicBezTo>
                      <a:pt x="4602" y="113"/>
                      <a:pt x="4602" y="123"/>
                      <a:pt x="4601" y="130"/>
                    </a:cubicBezTo>
                    <a:cubicBezTo>
                      <a:pt x="4601" y="130"/>
                      <a:pt x="4600" y="129"/>
                      <a:pt x="4600" y="128"/>
                    </a:cubicBezTo>
                    <a:cubicBezTo>
                      <a:pt x="4600" y="107"/>
                      <a:pt x="4596" y="69"/>
                      <a:pt x="4593" y="47"/>
                    </a:cubicBezTo>
                    <a:cubicBezTo>
                      <a:pt x="4594" y="64"/>
                      <a:pt x="4593" y="87"/>
                      <a:pt x="4592" y="107"/>
                    </a:cubicBezTo>
                    <a:cubicBezTo>
                      <a:pt x="4591" y="105"/>
                      <a:pt x="4590" y="104"/>
                      <a:pt x="4589" y="102"/>
                    </a:cubicBezTo>
                    <a:cubicBezTo>
                      <a:pt x="4590" y="104"/>
                      <a:pt x="4591" y="106"/>
                      <a:pt x="4591" y="107"/>
                    </a:cubicBezTo>
                    <a:cubicBezTo>
                      <a:pt x="4591" y="114"/>
                      <a:pt x="4591" y="121"/>
                      <a:pt x="4590" y="126"/>
                    </a:cubicBezTo>
                    <a:cubicBezTo>
                      <a:pt x="4590" y="125"/>
                      <a:pt x="4589" y="123"/>
                      <a:pt x="4589" y="122"/>
                    </a:cubicBezTo>
                    <a:cubicBezTo>
                      <a:pt x="4588" y="93"/>
                      <a:pt x="4584" y="46"/>
                      <a:pt x="4584" y="46"/>
                    </a:cubicBezTo>
                    <a:cubicBezTo>
                      <a:pt x="4583" y="65"/>
                      <a:pt x="4577" y="142"/>
                      <a:pt x="4577" y="142"/>
                    </a:cubicBezTo>
                    <a:cubicBezTo>
                      <a:pt x="4571" y="106"/>
                      <a:pt x="4578" y="0"/>
                      <a:pt x="4578" y="0"/>
                    </a:cubicBezTo>
                    <a:cubicBezTo>
                      <a:pt x="4572" y="16"/>
                      <a:pt x="4566" y="131"/>
                      <a:pt x="4566" y="131"/>
                    </a:cubicBezTo>
                    <a:cubicBezTo>
                      <a:pt x="4564" y="36"/>
                      <a:pt x="4560" y="32"/>
                      <a:pt x="4560" y="32"/>
                    </a:cubicBezTo>
                    <a:cubicBezTo>
                      <a:pt x="4562" y="43"/>
                      <a:pt x="4559" y="76"/>
                      <a:pt x="4556" y="103"/>
                    </a:cubicBezTo>
                    <a:cubicBezTo>
                      <a:pt x="4555" y="102"/>
                      <a:pt x="4554" y="100"/>
                      <a:pt x="4553" y="99"/>
                    </a:cubicBezTo>
                    <a:cubicBezTo>
                      <a:pt x="4554" y="101"/>
                      <a:pt x="4555" y="103"/>
                      <a:pt x="4556" y="104"/>
                    </a:cubicBezTo>
                    <a:cubicBezTo>
                      <a:pt x="4555" y="112"/>
                      <a:pt x="4554" y="120"/>
                      <a:pt x="4553" y="126"/>
                    </a:cubicBezTo>
                    <a:cubicBezTo>
                      <a:pt x="4553" y="124"/>
                      <a:pt x="4553" y="123"/>
                      <a:pt x="4553" y="122"/>
                    </a:cubicBezTo>
                    <a:cubicBezTo>
                      <a:pt x="4553" y="94"/>
                      <a:pt x="4552" y="48"/>
                      <a:pt x="4552" y="48"/>
                    </a:cubicBezTo>
                    <a:cubicBezTo>
                      <a:pt x="4551" y="55"/>
                      <a:pt x="4548" y="82"/>
                      <a:pt x="4545" y="106"/>
                    </a:cubicBezTo>
                    <a:cubicBezTo>
                      <a:pt x="4544" y="104"/>
                      <a:pt x="4543" y="102"/>
                      <a:pt x="4543" y="100"/>
                    </a:cubicBezTo>
                    <a:cubicBezTo>
                      <a:pt x="4546" y="60"/>
                      <a:pt x="4550" y="9"/>
                      <a:pt x="4550" y="9"/>
                    </a:cubicBezTo>
                    <a:cubicBezTo>
                      <a:pt x="4545" y="23"/>
                      <a:pt x="4538" y="83"/>
                      <a:pt x="4535" y="117"/>
                    </a:cubicBezTo>
                    <a:cubicBezTo>
                      <a:pt x="4534" y="114"/>
                      <a:pt x="4533" y="111"/>
                      <a:pt x="4532" y="108"/>
                    </a:cubicBezTo>
                    <a:cubicBezTo>
                      <a:pt x="4532" y="90"/>
                      <a:pt x="4530" y="72"/>
                      <a:pt x="4530" y="72"/>
                    </a:cubicBezTo>
                    <a:cubicBezTo>
                      <a:pt x="4530" y="76"/>
                      <a:pt x="4530" y="84"/>
                      <a:pt x="4529" y="94"/>
                    </a:cubicBezTo>
                    <a:cubicBezTo>
                      <a:pt x="4528" y="91"/>
                      <a:pt x="4526" y="88"/>
                      <a:pt x="4525" y="84"/>
                    </a:cubicBezTo>
                    <a:cubicBezTo>
                      <a:pt x="4526" y="88"/>
                      <a:pt x="4528" y="92"/>
                      <a:pt x="4528" y="96"/>
                    </a:cubicBezTo>
                    <a:cubicBezTo>
                      <a:pt x="4528" y="99"/>
                      <a:pt x="4528" y="103"/>
                      <a:pt x="4527" y="107"/>
                    </a:cubicBezTo>
                    <a:cubicBezTo>
                      <a:pt x="4527" y="106"/>
                      <a:pt x="4527" y="106"/>
                      <a:pt x="4527" y="105"/>
                    </a:cubicBezTo>
                    <a:cubicBezTo>
                      <a:pt x="4526" y="107"/>
                      <a:pt x="4526" y="112"/>
                      <a:pt x="4526" y="116"/>
                    </a:cubicBezTo>
                    <a:cubicBezTo>
                      <a:pt x="4525" y="121"/>
                      <a:pt x="4525" y="126"/>
                      <a:pt x="4524" y="130"/>
                    </a:cubicBezTo>
                    <a:cubicBezTo>
                      <a:pt x="4524" y="129"/>
                      <a:pt x="4524" y="128"/>
                      <a:pt x="4524" y="127"/>
                    </a:cubicBezTo>
                    <a:cubicBezTo>
                      <a:pt x="4524" y="101"/>
                      <a:pt x="4519" y="63"/>
                      <a:pt x="4518" y="54"/>
                    </a:cubicBezTo>
                    <a:cubicBezTo>
                      <a:pt x="4518" y="61"/>
                      <a:pt x="4517" y="79"/>
                      <a:pt x="4516" y="96"/>
                    </a:cubicBezTo>
                    <a:cubicBezTo>
                      <a:pt x="4515" y="94"/>
                      <a:pt x="4514" y="92"/>
                      <a:pt x="4513" y="90"/>
                    </a:cubicBezTo>
                    <a:cubicBezTo>
                      <a:pt x="4514" y="93"/>
                      <a:pt x="4515" y="95"/>
                      <a:pt x="4516" y="97"/>
                    </a:cubicBezTo>
                    <a:cubicBezTo>
                      <a:pt x="4514" y="118"/>
                      <a:pt x="4511" y="137"/>
                      <a:pt x="4511" y="137"/>
                    </a:cubicBezTo>
                    <a:cubicBezTo>
                      <a:pt x="4511" y="136"/>
                      <a:pt x="4511" y="134"/>
                      <a:pt x="4511" y="133"/>
                    </a:cubicBezTo>
                    <a:cubicBezTo>
                      <a:pt x="4511" y="125"/>
                      <a:pt x="4511" y="118"/>
                      <a:pt x="4510" y="110"/>
                    </a:cubicBezTo>
                    <a:cubicBezTo>
                      <a:pt x="4509" y="76"/>
                      <a:pt x="4508" y="40"/>
                      <a:pt x="4508" y="40"/>
                    </a:cubicBezTo>
                    <a:cubicBezTo>
                      <a:pt x="4508" y="49"/>
                      <a:pt x="4503" y="79"/>
                      <a:pt x="4499" y="104"/>
                    </a:cubicBezTo>
                    <a:cubicBezTo>
                      <a:pt x="4499" y="99"/>
                      <a:pt x="4498" y="95"/>
                      <a:pt x="4497" y="90"/>
                    </a:cubicBezTo>
                    <a:cubicBezTo>
                      <a:pt x="4498" y="67"/>
                      <a:pt x="4499" y="45"/>
                      <a:pt x="4499" y="45"/>
                    </a:cubicBezTo>
                    <a:cubicBezTo>
                      <a:pt x="4499" y="53"/>
                      <a:pt x="4493" y="75"/>
                      <a:pt x="4486" y="96"/>
                    </a:cubicBezTo>
                    <a:cubicBezTo>
                      <a:pt x="4485" y="93"/>
                      <a:pt x="4484" y="89"/>
                      <a:pt x="4482" y="85"/>
                    </a:cubicBezTo>
                    <a:cubicBezTo>
                      <a:pt x="4489" y="51"/>
                      <a:pt x="4497" y="17"/>
                      <a:pt x="4497" y="17"/>
                    </a:cubicBezTo>
                    <a:cubicBezTo>
                      <a:pt x="4492" y="24"/>
                      <a:pt x="4477" y="95"/>
                      <a:pt x="4470" y="130"/>
                    </a:cubicBezTo>
                    <a:cubicBezTo>
                      <a:pt x="4470" y="130"/>
                      <a:pt x="4470" y="130"/>
                      <a:pt x="4470" y="130"/>
                    </a:cubicBezTo>
                    <a:cubicBezTo>
                      <a:pt x="4474" y="100"/>
                      <a:pt x="4471" y="63"/>
                      <a:pt x="4470" y="52"/>
                    </a:cubicBezTo>
                    <a:cubicBezTo>
                      <a:pt x="4472" y="72"/>
                      <a:pt x="4466" y="109"/>
                      <a:pt x="4462" y="128"/>
                    </a:cubicBezTo>
                    <a:cubicBezTo>
                      <a:pt x="4462" y="126"/>
                      <a:pt x="4462" y="123"/>
                      <a:pt x="4461" y="120"/>
                    </a:cubicBezTo>
                    <a:cubicBezTo>
                      <a:pt x="4463" y="99"/>
                      <a:pt x="4465" y="71"/>
                      <a:pt x="4466" y="65"/>
                    </a:cubicBezTo>
                    <a:cubicBezTo>
                      <a:pt x="4465" y="71"/>
                      <a:pt x="4462" y="89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4" y="125"/>
                      <a:pt x="4451" y="143"/>
                      <a:pt x="4451" y="143"/>
                    </a:cubicBezTo>
                    <a:cubicBezTo>
                      <a:pt x="4461" y="38"/>
                      <a:pt x="4454" y="25"/>
                      <a:pt x="4454" y="25"/>
                    </a:cubicBezTo>
                    <a:cubicBezTo>
                      <a:pt x="4457" y="42"/>
                      <a:pt x="4454" y="72"/>
                      <a:pt x="4449" y="96"/>
                    </a:cubicBezTo>
                    <a:cubicBezTo>
                      <a:pt x="4448" y="89"/>
                      <a:pt x="4446" y="80"/>
                      <a:pt x="4443" y="73"/>
                    </a:cubicBezTo>
                    <a:cubicBezTo>
                      <a:pt x="4442" y="65"/>
                      <a:pt x="4442" y="60"/>
                      <a:pt x="4442" y="60"/>
                    </a:cubicBezTo>
                    <a:cubicBezTo>
                      <a:pt x="4442" y="63"/>
                      <a:pt x="4442" y="67"/>
                      <a:pt x="4441" y="71"/>
                    </a:cubicBezTo>
                    <a:cubicBezTo>
                      <a:pt x="4440" y="69"/>
                      <a:pt x="4439" y="67"/>
                      <a:pt x="4437" y="65"/>
                    </a:cubicBezTo>
                    <a:cubicBezTo>
                      <a:pt x="4439" y="67"/>
                      <a:pt x="4440" y="70"/>
                      <a:pt x="4441" y="73"/>
                    </a:cubicBezTo>
                    <a:cubicBezTo>
                      <a:pt x="4441" y="82"/>
                      <a:pt x="4440" y="92"/>
                      <a:pt x="4438" y="101"/>
                    </a:cubicBezTo>
                    <a:cubicBezTo>
                      <a:pt x="4438" y="95"/>
                      <a:pt x="4435" y="88"/>
                      <a:pt x="4430" y="83"/>
                    </a:cubicBezTo>
                    <a:cubicBezTo>
                      <a:pt x="4430" y="74"/>
                      <a:pt x="4431" y="68"/>
                      <a:pt x="4431" y="68"/>
                    </a:cubicBezTo>
                    <a:cubicBezTo>
                      <a:pt x="4430" y="72"/>
                      <a:pt x="4429" y="76"/>
                      <a:pt x="4428" y="81"/>
                    </a:cubicBezTo>
                    <a:cubicBezTo>
                      <a:pt x="4428" y="81"/>
                      <a:pt x="4427" y="81"/>
                      <a:pt x="4427" y="80"/>
                    </a:cubicBezTo>
                    <a:cubicBezTo>
                      <a:pt x="4427" y="81"/>
                      <a:pt x="4428" y="81"/>
                      <a:pt x="4428" y="82"/>
                    </a:cubicBezTo>
                    <a:cubicBezTo>
                      <a:pt x="4425" y="101"/>
                      <a:pt x="4424" y="130"/>
                      <a:pt x="4424" y="142"/>
                    </a:cubicBezTo>
                    <a:cubicBezTo>
                      <a:pt x="4424" y="143"/>
                      <a:pt x="4423" y="144"/>
                      <a:pt x="4423" y="144"/>
                    </a:cubicBezTo>
                    <a:cubicBezTo>
                      <a:pt x="4422" y="141"/>
                      <a:pt x="4422" y="136"/>
                      <a:pt x="4422" y="131"/>
                    </a:cubicBezTo>
                    <a:cubicBezTo>
                      <a:pt x="4423" y="121"/>
                      <a:pt x="4425" y="112"/>
                      <a:pt x="4426" y="103"/>
                    </a:cubicBezTo>
                    <a:cubicBezTo>
                      <a:pt x="4425" y="108"/>
                      <a:pt x="4424" y="112"/>
                      <a:pt x="4423" y="117"/>
                    </a:cubicBezTo>
                    <a:cubicBezTo>
                      <a:pt x="4424" y="85"/>
                      <a:pt x="4430" y="45"/>
                      <a:pt x="4430" y="45"/>
                    </a:cubicBezTo>
                    <a:cubicBezTo>
                      <a:pt x="4423" y="60"/>
                      <a:pt x="4418" y="95"/>
                      <a:pt x="4416" y="120"/>
                    </a:cubicBezTo>
                    <a:cubicBezTo>
                      <a:pt x="4416" y="123"/>
                      <a:pt x="4415" y="125"/>
                      <a:pt x="4414" y="127"/>
                    </a:cubicBezTo>
                    <a:cubicBezTo>
                      <a:pt x="4413" y="103"/>
                      <a:pt x="4413" y="70"/>
                      <a:pt x="4413" y="70"/>
                    </a:cubicBezTo>
                    <a:cubicBezTo>
                      <a:pt x="4413" y="72"/>
                      <a:pt x="4413" y="76"/>
                      <a:pt x="4412" y="81"/>
                    </a:cubicBezTo>
                    <a:cubicBezTo>
                      <a:pt x="4411" y="73"/>
                      <a:pt x="4409" y="66"/>
                      <a:pt x="4406" y="60"/>
                    </a:cubicBezTo>
                    <a:cubicBezTo>
                      <a:pt x="4407" y="52"/>
                      <a:pt x="4407" y="46"/>
                      <a:pt x="4407" y="46"/>
                    </a:cubicBezTo>
                    <a:cubicBezTo>
                      <a:pt x="4405" y="51"/>
                      <a:pt x="4403" y="64"/>
                      <a:pt x="4402" y="79"/>
                    </a:cubicBezTo>
                    <a:cubicBezTo>
                      <a:pt x="4401" y="77"/>
                      <a:pt x="4401" y="75"/>
                      <a:pt x="4400" y="74"/>
                    </a:cubicBezTo>
                    <a:cubicBezTo>
                      <a:pt x="4399" y="83"/>
                      <a:pt x="4399" y="92"/>
                      <a:pt x="4399" y="102"/>
                    </a:cubicBezTo>
                    <a:cubicBezTo>
                      <a:pt x="4399" y="108"/>
                      <a:pt x="4398" y="115"/>
                      <a:pt x="4397" y="121"/>
                    </a:cubicBezTo>
                    <a:cubicBezTo>
                      <a:pt x="4397" y="123"/>
                      <a:pt x="4396" y="125"/>
                      <a:pt x="4396" y="127"/>
                    </a:cubicBezTo>
                    <a:cubicBezTo>
                      <a:pt x="4396" y="35"/>
                      <a:pt x="4394" y="34"/>
                      <a:pt x="4394" y="34"/>
                    </a:cubicBezTo>
                    <a:cubicBezTo>
                      <a:pt x="4396" y="49"/>
                      <a:pt x="4392" y="77"/>
                      <a:pt x="4388" y="102"/>
                    </a:cubicBezTo>
                    <a:cubicBezTo>
                      <a:pt x="4387" y="94"/>
                      <a:pt x="4385" y="85"/>
                      <a:pt x="4381" y="76"/>
                    </a:cubicBezTo>
                    <a:cubicBezTo>
                      <a:pt x="4382" y="70"/>
                      <a:pt x="4382" y="66"/>
                      <a:pt x="4382" y="66"/>
                    </a:cubicBezTo>
                    <a:cubicBezTo>
                      <a:pt x="4382" y="68"/>
                      <a:pt x="4381" y="71"/>
                      <a:pt x="4380" y="74"/>
                    </a:cubicBezTo>
                    <a:cubicBezTo>
                      <a:pt x="4380" y="73"/>
                      <a:pt x="4379" y="72"/>
                      <a:pt x="4378" y="71"/>
                    </a:cubicBezTo>
                    <a:cubicBezTo>
                      <a:pt x="4379" y="73"/>
                      <a:pt x="4379" y="74"/>
                      <a:pt x="4380" y="76"/>
                    </a:cubicBezTo>
                    <a:cubicBezTo>
                      <a:pt x="4378" y="83"/>
                      <a:pt x="4376" y="93"/>
                      <a:pt x="4374" y="103"/>
                    </a:cubicBezTo>
                    <a:cubicBezTo>
                      <a:pt x="4374" y="98"/>
                      <a:pt x="4373" y="94"/>
                      <a:pt x="4372" y="89"/>
                    </a:cubicBezTo>
                    <a:cubicBezTo>
                      <a:pt x="4373" y="96"/>
                      <a:pt x="4371" y="104"/>
                      <a:pt x="4369" y="112"/>
                    </a:cubicBezTo>
                    <a:cubicBezTo>
                      <a:pt x="4369" y="92"/>
                      <a:pt x="4368" y="70"/>
                      <a:pt x="4367" y="62"/>
                    </a:cubicBezTo>
                    <a:cubicBezTo>
                      <a:pt x="4367" y="67"/>
                      <a:pt x="4367" y="74"/>
                      <a:pt x="4367" y="82"/>
                    </a:cubicBezTo>
                    <a:cubicBezTo>
                      <a:pt x="4365" y="87"/>
                      <a:pt x="4362" y="94"/>
                      <a:pt x="4360" y="101"/>
                    </a:cubicBezTo>
                    <a:cubicBezTo>
                      <a:pt x="4360" y="91"/>
                      <a:pt x="4360" y="82"/>
                      <a:pt x="4360" y="75"/>
                    </a:cubicBezTo>
                    <a:cubicBezTo>
                      <a:pt x="4359" y="86"/>
                      <a:pt x="4357" y="102"/>
                      <a:pt x="4355" y="116"/>
                    </a:cubicBezTo>
                    <a:cubicBezTo>
                      <a:pt x="4353" y="123"/>
                      <a:pt x="4351" y="130"/>
                      <a:pt x="4349" y="136"/>
                    </a:cubicBezTo>
                    <a:cubicBezTo>
                      <a:pt x="4349" y="118"/>
                      <a:pt x="4352" y="89"/>
                      <a:pt x="4352" y="89"/>
                    </a:cubicBezTo>
                    <a:cubicBezTo>
                      <a:pt x="4351" y="93"/>
                      <a:pt x="4349" y="99"/>
                      <a:pt x="4347" y="106"/>
                    </a:cubicBezTo>
                    <a:cubicBezTo>
                      <a:pt x="4347" y="104"/>
                      <a:pt x="4347" y="101"/>
                      <a:pt x="4346" y="99"/>
                    </a:cubicBezTo>
                    <a:cubicBezTo>
                      <a:pt x="4346" y="96"/>
                      <a:pt x="4346" y="96"/>
                      <a:pt x="4346" y="96"/>
                    </a:cubicBezTo>
                    <a:cubicBezTo>
                      <a:pt x="4345" y="95"/>
                      <a:pt x="4345" y="95"/>
                      <a:pt x="4345" y="95"/>
                    </a:cubicBezTo>
                    <a:cubicBezTo>
                      <a:pt x="4345" y="104"/>
                      <a:pt x="4343" y="113"/>
                      <a:pt x="4341" y="122"/>
                    </a:cubicBezTo>
                    <a:cubicBezTo>
                      <a:pt x="4339" y="127"/>
                      <a:pt x="4338" y="131"/>
                      <a:pt x="4336" y="134"/>
                    </a:cubicBezTo>
                    <a:cubicBezTo>
                      <a:pt x="4336" y="130"/>
                      <a:pt x="4336" y="126"/>
                      <a:pt x="4336" y="122"/>
                    </a:cubicBezTo>
                    <a:cubicBezTo>
                      <a:pt x="4340" y="102"/>
                      <a:pt x="4347" y="76"/>
                      <a:pt x="4347" y="76"/>
                    </a:cubicBezTo>
                    <a:cubicBezTo>
                      <a:pt x="4342" y="82"/>
                      <a:pt x="4337" y="94"/>
                      <a:pt x="4333" y="105"/>
                    </a:cubicBezTo>
                    <a:cubicBezTo>
                      <a:pt x="4332" y="102"/>
                      <a:pt x="4331" y="98"/>
                      <a:pt x="4330" y="95"/>
                    </a:cubicBezTo>
                    <a:cubicBezTo>
                      <a:pt x="4331" y="74"/>
                      <a:pt x="4327" y="62"/>
                      <a:pt x="4327" y="62"/>
                    </a:cubicBezTo>
                    <a:cubicBezTo>
                      <a:pt x="4329" y="69"/>
                      <a:pt x="4329" y="78"/>
                      <a:pt x="4328" y="88"/>
                    </a:cubicBezTo>
                    <a:cubicBezTo>
                      <a:pt x="4325" y="83"/>
                      <a:pt x="4322" y="78"/>
                      <a:pt x="4318" y="73"/>
                    </a:cubicBezTo>
                    <a:cubicBezTo>
                      <a:pt x="4322" y="80"/>
                      <a:pt x="4325" y="92"/>
                      <a:pt x="4326" y="102"/>
                    </a:cubicBezTo>
                    <a:cubicBezTo>
                      <a:pt x="4325" y="108"/>
                      <a:pt x="4324" y="115"/>
                      <a:pt x="4323" y="120"/>
                    </a:cubicBezTo>
                    <a:cubicBezTo>
                      <a:pt x="4322" y="113"/>
                      <a:pt x="4321" y="106"/>
                      <a:pt x="4319" y="100"/>
                    </a:cubicBezTo>
                    <a:cubicBezTo>
                      <a:pt x="4320" y="89"/>
                      <a:pt x="4320" y="82"/>
                      <a:pt x="4320" y="82"/>
                    </a:cubicBezTo>
                    <a:cubicBezTo>
                      <a:pt x="4319" y="98"/>
                      <a:pt x="4319" y="98"/>
                      <a:pt x="4319" y="98"/>
                    </a:cubicBezTo>
                    <a:cubicBezTo>
                      <a:pt x="4318" y="94"/>
                      <a:pt x="4317" y="91"/>
                      <a:pt x="4315" y="88"/>
                    </a:cubicBezTo>
                    <a:cubicBezTo>
                      <a:pt x="4315" y="73"/>
                      <a:pt x="4314" y="60"/>
                      <a:pt x="4314" y="60"/>
                    </a:cubicBezTo>
                    <a:cubicBezTo>
                      <a:pt x="4314" y="72"/>
                      <a:pt x="4311" y="90"/>
                      <a:pt x="4311" y="90"/>
                    </a:cubicBezTo>
                    <a:cubicBezTo>
                      <a:pt x="4309" y="84"/>
                      <a:pt x="4309" y="64"/>
                      <a:pt x="4309" y="64"/>
                    </a:cubicBezTo>
                    <a:cubicBezTo>
                      <a:pt x="4309" y="68"/>
                      <a:pt x="4308" y="83"/>
                      <a:pt x="4306" y="98"/>
                    </a:cubicBezTo>
                    <a:cubicBezTo>
                      <a:pt x="4306" y="96"/>
                      <a:pt x="4305" y="95"/>
                      <a:pt x="4305" y="93"/>
                    </a:cubicBezTo>
                    <a:cubicBezTo>
                      <a:pt x="4304" y="88"/>
                      <a:pt x="4302" y="82"/>
                      <a:pt x="4300" y="76"/>
                    </a:cubicBezTo>
                    <a:cubicBezTo>
                      <a:pt x="4300" y="57"/>
                      <a:pt x="4300" y="42"/>
                      <a:pt x="4300" y="42"/>
                    </a:cubicBezTo>
                    <a:cubicBezTo>
                      <a:pt x="4300" y="49"/>
                      <a:pt x="4300" y="59"/>
                      <a:pt x="4299" y="70"/>
                    </a:cubicBezTo>
                    <a:cubicBezTo>
                      <a:pt x="4296" y="64"/>
                      <a:pt x="4294" y="57"/>
                      <a:pt x="4291" y="51"/>
                    </a:cubicBezTo>
                    <a:cubicBezTo>
                      <a:pt x="4290" y="52"/>
                      <a:pt x="4290" y="54"/>
                      <a:pt x="4290" y="55"/>
                    </a:cubicBezTo>
                    <a:cubicBezTo>
                      <a:pt x="4293" y="65"/>
                      <a:pt x="4296" y="74"/>
                      <a:pt x="4297" y="82"/>
                    </a:cubicBezTo>
                    <a:cubicBezTo>
                      <a:pt x="4297" y="88"/>
                      <a:pt x="4296" y="94"/>
                      <a:pt x="4295" y="100"/>
                    </a:cubicBezTo>
                    <a:cubicBezTo>
                      <a:pt x="4294" y="96"/>
                      <a:pt x="4293" y="92"/>
                      <a:pt x="4292" y="88"/>
                    </a:cubicBezTo>
                    <a:cubicBezTo>
                      <a:pt x="4293" y="78"/>
                      <a:pt x="4294" y="70"/>
                      <a:pt x="4294" y="70"/>
                    </a:cubicBezTo>
                    <a:cubicBezTo>
                      <a:pt x="4293" y="72"/>
                      <a:pt x="4292" y="78"/>
                      <a:pt x="4291" y="85"/>
                    </a:cubicBezTo>
                    <a:cubicBezTo>
                      <a:pt x="4289" y="82"/>
                      <a:pt x="4287" y="79"/>
                      <a:pt x="4285" y="76"/>
                    </a:cubicBezTo>
                    <a:cubicBezTo>
                      <a:pt x="4284" y="71"/>
                      <a:pt x="4284" y="66"/>
                      <a:pt x="4284" y="61"/>
                    </a:cubicBezTo>
                    <a:cubicBezTo>
                      <a:pt x="4283" y="73"/>
                      <a:pt x="4281" y="87"/>
                      <a:pt x="4279" y="101"/>
                    </a:cubicBezTo>
                    <a:cubicBezTo>
                      <a:pt x="4277" y="95"/>
                      <a:pt x="4275" y="90"/>
                      <a:pt x="4273" y="86"/>
                    </a:cubicBezTo>
                    <a:cubicBezTo>
                      <a:pt x="4274" y="73"/>
                      <a:pt x="4274" y="64"/>
                      <a:pt x="4274" y="64"/>
                    </a:cubicBezTo>
                    <a:cubicBezTo>
                      <a:pt x="4274" y="71"/>
                      <a:pt x="4272" y="82"/>
                      <a:pt x="4270" y="95"/>
                    </a:cubicBezTo>
                    <a:cubicBezTo>
                      <a:pt x="4268" y="87"/>
                      <a:pt x="4266" y="79"/>
                      <a:pt x="4262" y="71"/>
                    </a:cubicBezTo>
                    <a:cubicBezTo>
                      <a:pt x="4264" y="49"/>
                      <a:pt x="4265" y="30"/>
                      <a:pt x="4265" y="30"/>
                    </a:cubicBezTo>
                    <a:cubicBezTo>
                      <a:pt x="4263" y="35"/>
                      <a:pt x="4261" y="49"/>
                      <a:pt x="4259" y="65"/>
                    </a:cubicBezTo>
                    <a:cubicBezTo>
                      <a:pt x="4258" y="62"/>
                      <a:pt x="4256" y="59"/>
                      <a:pt x="4254" y="56"/>
                    </a:cubicBezTo>
                    <a:cubicBezTo>
                      <a:pt x="4254" y="63"/>
                      <a:pt x="4256" y="70"/>
                      <a:pt x="4258" y="78"/>
                    </a:cubicBezTo>
                    <a:cubicBezTo>
                      <a:pt x="4257" y="87"/>
                      <a:pt x="4256" y="97"/>
                      <a:pt x="4255" y="106"/>
                    </a:cubicBezTo>
                    <a:cubicBezTo>
                      <a:pt x="4255" y="105"/>
                      <a:pt x="4255" y="104"/>
                      <a:pt x="4254" y="103"/>
                    </a:cubicBezTo>
                    <a:cubicBezTo>
                      <a:pt x="4255" y="104"/>
                      <a:pt x="4255" y="106"/>
                      <a:pt x="4255" y="109"/>
                    </a:cubicBezTo>
                    <a:cubicBezTo>
                      <a:pt x="4254" y="120"/>
                      <a:pt x="4253" y="131"/>
                      <a:pt x="4253" y="138"/>
                    </a:cubicBezTo>
                    <a:cubicBezTo>
                      <a:pt x="4253" y="137"/>
                      <a:pt x="4252" y="135"/>
                      <a:pt x="4252" y="134"/>
                    </a:cubicBezTo>
                    <a:cubicBezTo>
                      <a:pt x="4251" y="99"/>
                      <a:pt x="4245" y="41"/>
                      <a:pt x="4245" y="41"/>
                    </a:cubicBezTo>
                    <a:cubicBezTo>
                      <a:pt x="4247" y="58"/>
                      <a:pt x="4246" y="86"/>
                      <a:pt x="4244" y="108"/>
                    </a:cubicBezTo>
                    <a:cubicBezTo>
                      <a:pt x="4242" y="105"/>
                      <a:pt x="4241" y="102"/>
                      <a:pt x="4239" y="99"/>
                    </a:cubicBezTo>
                    <a:cubicBezTo>
                      <a:pt x="4239" y="86"/>
                      <a:pt x="4239" y="73"/>
                      <a:pt x="4239" y="67"/>
                    </a:cubicBezTo>
                    <a:cubicBezTo>
                      <a:pt x="4239" y="75"/>
                      <a:pt x="4238" y="85"/>
                      <a:pt x="4237" y="94"/>
                    </a:cubicBezTo>
                    <a:cubicBezTo>
                      <a:pt x="4236" y="92"/>
                      <a:pt x="4235" y="91"/>
                      <a:pt x="4234" y="89"/>
                    </a:cubicBezTo>
                    <a:cubicBezTo>
                      <a:pt x="4235" y="91"/>
                      <a:pt x="4236" y="94"/>
                      <a:pt x="4236" y="97"/>
                    </a:cubicBezTo>
                    <a:cubicBezTo>
                      <a:pt x="4235" y="103"/>
                      <a:pt x="4234" y="110"/>
                      <a:pt x="4232" y="116"/>
                    </a:cubicBezTo>
                    <a:cubicBezTo>
                      <a:pt x="4231" y="110"/>
                      <a:pt x="4230" y="105"/>
                      <a:pt x="4228" y="101"/>
                    </a:cubicBezTo>
                    <a:cubicBezTo>
                      <a:pt x="4229" y="91"/>
                      <a:pt x="4230" y="83"/>
                      <a:pt x="4230" y="83"/>
                    </a:cubicBezTo>
                    <a:cubicBezTo>
                      <a:pt x="4230" y="86"/>
                      <a:pt x="4229" y="92"/>
                      <a:pt x="4227" y="98"/>
                    </a:cubicBezTo>
                    <a:cubicBezTo>
                      <a:pt x="4226" y="94"/>
                      <a:pt x="4225" y="91"/>
                      <a:pt x="4224" y="89"/>
                    </a:cubicBezTo>
                    <a:cubicBezTo>
                      <a:pt x="4225" y="74"/>
                      <a:pt x="4226" y="62"/>
                      <a:pt x="4226" y="62"/>
                    </a:cubicBezTo>
                    <a:cubicBezTo>
                      <a:pt x="4225" y="65"/>
                      <a:pt x="4224" y="75"/>
                      <a:pt x="4222" y="87"/>
                    </a:cubicBezTo>
                    <a:cubicBezTo>
                      <a:pt x="4220" y="83"/>
                      <a:pt x="4218" y="81"/>
                      <a:pt x="4215" y="78"/>
                    </a:cubicBezTo>
                    <a:cubicBezTo>
                      <a:pt x="4218" y="81"/>
                      <a:pt x="4220" y="84"/>
                      <a:pt x="4222" y="89"/>
                    </a:cubicBezTo>
                    <a:cubicBezTo>
                      <a:pt x="4221" y="96"/>
                      <a:pt x="4220" y="105"/>
                      <a:pt x="4219" y="113"/>
                    </a:cubicBezTo>
                    <a:cubicBezTo>
                      <a:pt x="4218" y="108"/>
                      <a:pt x="4217" y="104"/>
                      <a:pt x="4215" y="100"/>
                    </a:cubicBezTo>
                    <a:cubicBezTo>
                      <a:pt x="4214" y="86"/>
                      <a:pt x="4212" y="74"/>
                      <a:pt x="4211" y="68"/>
                    </a:cubicBezTo>
                    <a:cubicBezTo>
                      <a:pt x="4211" y="71"/>
                      <a:pt x="4212" y="76"/>
                      <a:pt x="4211" y="86"/>
                    </a:cubicBezTo>
                    <a:cubicBezTo>
                      <a:pt x="4211" y="87"/>
                      <a:pt x="4211" y="88"/>
                      <a:pt x="4211" y="90"/>
                    </a:cubicBezTo>
                    <a:cubicBezTo>
                      <a:pt x="4210" y="87"/>
                      <a:pt x="4208" y="84"/>
                      <a:pt x="4206" y="81"/>
                    </a:cubicBezTo>
                    <a:cubicBezTo>
                      <a:pt x="4209" y="85"/>
                      <a:pt x="4210" y="91"/>
                      <a:pt x="4210" y="96"/>
                    </a:cubicBezTo>
                    <a:cubicBezTo>
                      <a:pt x="4209" y="105"/>
                      <a:pt x="4207" y="115"/>
                      <a:pt x="4205" y="124"/>
                    </a:cubicBezTo>
                    <a:cubicBezTo>
                      <a:pt x="4205" y="113"/>
                      <a:pt x="4204" y="102"/>
                      <a:pt x="4202" y="91"/>
                    </a:cubicBezTo>
                    <a:cubicBezTo>
                      <a:pt x="4202" y="77"/>
                      <a:pt x="4202" y="77"/>
                      <a:pt x="4202" y="77"/>
                    </a:cubicBezTo>
                    <a:cubicBezTo>
                      <a:pt x="4205" y="35"/>
                      <a:pt x="4198" y="19"/>
                      <a:pt x="4198" y="19"/>
                    </a:cubicBezTo>
                    <a:cubicBezTo>
                      <a:pt x="4198" y="19"/>
                      <a:pt x="4201" y="31"/>
                      <a:pt x="4200" y="54"/>
                    </a:cubicBezTo>
                    <a:cubicBezTo>
                      <a:pt x="4199" y="59"/>
                      <a:pt x="4199" y="68"/>
                      <a:pt x="4197" y="78"/>
                    </a:cubicBezTo>
                    <a:cubicBezTo>
                      <a:pt x="4195" y="72"/>
                      <a:pt x="4192" y="66"/>
                      <a:pt x="4188" y="60"/>
                    </a:cubicBezTo>
                    <a:cubicBezTo>
                      <a:pt x="4188" y="61"/>
                      <a:pt x="4188" y="61"/>
                      <a:pt x="4188" y="61"/>
                    </a:cubicBezTo>
                    <a:cubicBezTo>
                      <a:pt x="4188" y="62"/>
                      <a:pt x="4188" y="63"/>
                      <a:pt x="4188" y="64"/>
                    </a:cubicBezTo>
                    <a:cubicBezTo>
                      <a:pt x="4186" y="44"/>
                      <a:pt x="4179" y="40"/>
                      <a:pt x="4179" y="40"/>
                    </a:cubicBezTo>
                    <a:cubicBezTo>
                      <a:pt x="4179" y="40"/>
                      <a:pt x="4185" y="44"/>
                      <a:pt x="4185" y="70"/>
                    </a:cubicBezTo>
                    <a:cubicBezTo>
                      <a:pt x="4185" y="76"/>
                      <a:pt x="4184" y="85"/>
                      <a:pt x="4182" y="94"/>
                    </a:cubicBezTo>
                    <a:cubicBezTo>
                      <a:pt x="4180" y="90"/>
                      <a:pt x="4177" y="86"/>
                      <a:pt x="4174" y="83"/>
                    </a:cubicBezTo>
                    <a:cubicBezTo>
                      <a:pt x="4177" y="87"/>
                      <a:pt x="4180" y="92"/>
                      <a:pt x="4182" y="97"/>
                    </a:cubicBezTo>
                    <a:cubicBezTo>
                      <a:pt x="4181" y="100"/>
                      <a:pt x="4181" y="103"/>
                      <a:pt x="4180" y="106"/>
                    </a:cubicBezTo>
                    <a:cubicBezTo>
                      <a:pt x="4179" y="104"/>
                      <a:pt x="4179" y="102"/>
                      <a:pt x="4178" y="100"/>
                    </a:cubicBezTo>
                    <a:cubicBezTo>
                      <a:pt x="4179" y="102"/>
                      <a:pt x="4179" y="105"/>
                      <a:pt x="4180" y="108"/>
                    </a:cubicBezTo>
                    <a:cubicBezTo>
                      <a:pt x="4179" y="111"/>
                      <a:pt x="4178" y="114"/>
                      <a:pt x="4177" y="117"/>
                    </a:cubicBezTo>
                    <a:cubicBezTo>
                      <a:pt x="4176" y="113"/>
                      <a:pt x="4174" y="108"/>
                      <a:pt x="4172" y="104"/>
                    </a:cubicBezTo>
                    <a:cubicBezTo>
                      <a:pt x="4173" y="87"/>
                      <a:pt x="4174" y="71"/>
                      <a:pt x="4174" y="71"/>
                    </a:cubicBezTo>
                    <a:cubicBezTo>
                      <a:pt x="4173" y="73"/>
                      <a:pt x="4171" y="84"/>
                      <a:pt x="4169" y="97"/>
                    </a:cubicBezTo>
                    <a:cubicBezTo>
                      <a:pt x="4168" y="95"/>
                      <a:pt x="4167" y="93"/>
                      <a:pt x="4166" y="92"/>
                    </a:cubicBezTo>
                    <a:cubicBezTo>
                      <a:pt x="4167" y="81"/>
                      <a:pt x="4168" y="72"/>
                      <a:pt x="4169" y="66"/>
                    </a:cubicBezTo>
                    <a:cubicBezTo>
                      <a:pt x="4168" y="73"/>
                      <a:pt x="4167" y="81"/>
                      <a:pt x="4165" y="90"/>
                    </a:cubicBezTo>
                    <a:cubicBezTo>
                      <a:pt x="4164" y="88"/>
                      <a:pt x="4162" y="86"/>
                      <a:pt x="4160" y="83"/>
                    </a:cubicBezTo>
                    <a:cubicBezTo>
                      <a:pt x="4164" y="26"/>
                      <a:pt x="4162" y="12"/>
                      <a:pt x="4162" y="12"/>
                    </a:cubicBezTo>
                    <a:cubicBezTo>
                      <a:pt x="4162" y="12"/>
                      <a:pt x="4162" y="18"/>
                      <a:pt x="4159" y="56"/>
                    </a:cubicBezTo>
                    <a:cubicBezTo>
                      <a:pt x="4158" y="64"/>
                      <a:pt x="4157" y="71"/>
                      <a:pt x="4156" y="78"/>
                    </a:cubicBezTo>
                    <a:cubicBezTo>
                      <a:pt x="4154" y="76"/>
                      <a:pt x="4151" y="73"/>
                      <a:pt x="4149" y="71"/>
                    </a:cubicBezTo>
                    <a:cubicBezTo>
                      <a:pt x="4150" y="48"/>
                      <a:pt x="4151" y="31"/>
                      <a:pt x="4151" y="31"/>
                    </a:cubicBezTo>
                    <a:cubicBezTo>
                      <a:pt x="4149" y="37"/>
                      <a:pt x="4147" y="52"/>
                      <a:pt x="4146" y="68"/>
                    </a:cubicBezTo>
                    <a:cubicBezTo>
                      <a:pt x="4144" y="66"/>
                      <a:pt x="4142" y="65"/>
                      <a:pt x="4140" y="63"/>
                    </a:cubicBezTo>
                    <a:cubicBezTo>
                      <a:pt x="4142" y="65"/>
                      <a:pt x="4144" y="67"/>
                      <a:pt x="4146" y="69"/>
                    </a:cubicBezTo>
                    <a:cubicBezTo>
                      <a:pt x="4145" y="82"/>
                      <a:pt x="4145" y="96"/>
                      <a:pt x="4144" y="109"/>
                    </a:cubicBezTo>
                    <a:cubicBezTo>
                      <a:pt x="4143" y="104"/>
                      <a:pt x="4141" y="99"/>
                      <a:pt x="4140" y="96"/>
                    </a:cubicBezTo>
                    <a:cubicBezTo>
                      <a:pt x="4141" y="104"/>
                      <a:pt x="4142" y="112"/>
                      <a:pt x="4144" y="120"/>
                    </a:cubicBezTo>
                    <a:cubicBezTo>
                      <a:pt x="4144" y="123"/>
                      <a:pt x="4144" y="126"/>
                      <a:pt x="4144" y="128"/>
                    </a:cubicBezTo>
                    <a:cubicBezTo>
                      <a:pt x="4143" y="125"/>
                      <a:pt x="4141" y="122"/>
                      <a:pt x="4140" y="118"/>
                    </a:cubicBezTo>
                    <a:cubicBezTo>
                      <a:pt x="4135" y="80"/>
                      <a:pt x="4128" y="28"/>
                      <a:pt x="4128" y="28"/>
                    </a:cubicBezTo>
                    <a:cubicBezTo>
                      <a:pt x="4128" y="39"/>
                      <a:pt x="4126" y="72"/>
                      <a:pt x="4124" y="100"/>
                    </a:cubicBezTo>
                    <a:cubicBezTo>
                      <a:pt x="4124" y="98"/>
                      <a:pt x="4123" y="97"/>
                      <a:pt x="4122" y="96"/>
                    </a:cubicBezTo>
                    <a:cubicBezTo>
                      <a:pt x="4123" y="97"/>
                      <a:pt x="4124" y="99"/>
                      <a:pt x="4124" y="100"/>
                    </a:cubicBezTo>
                    <a:cubicBezTo>
                      <a:pt x="4124" y="110"/>
                      <a:pt x="4123" y="120"/>
                      <a:pt x="4122" y="128"/>
                    </a:cubicBezTo>
                    <a:cubicBezTo>
                      <a:pt x="4122" y="128"/>
                      <a:pt x="4122" y="127"/>
                      <a:pt x="4122" y="127"/>
                    </a:cubicBezTo>
                    <a:cubicBezTo>
                      <a:pt x="4122" y="109"/>
                      <a:pt x="4120" y="87"/>
                      <a:pt x="4119" y="71"/>
                    </a:cubicBezTo>
                    <a:cubicBezTo>
                      <a:pt x="4120" y="68"/>
                      <a:pt x="4121" y="66"/>
                      <a:pt x="4122" y="64"/>
                    </a:cubicBezTo>
                    <a:cubicBezTo>
                      <a:pt x="4121" y="65"/>
                      <a:pt x="4120" y="67"/>
                      <a:pt x="4118" y="69"/>
                    </a:cubicBezTo>
                    <a:cubicBezTo>
                      <a:pt x="4118" y="61"/>
                      <a:pt x="4117" y="55"/>
                      <a:pt x="4117" y="53"/>
                    </a:cubicBezTo>
                    <a:cubicBezTo>
                      <a:pt x="4117" y="52"/>
                      <a:pt x="4118" y="52"/>
                      <a:pt x="4118" y="51"/>
                    </a:cubicBezTo>
                    <a:cubicBezTo>
                      <a:pt x="4118" y="51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5" y="54"/>
                      <a:pt x="4113" y="56"/>
                      <a:pt x="4111" y="57"/>
                    </a:cubicBezTo>
                    <a:cubicBezTo>
                      <a:pt x="4112" y="54"/>
                      <a:pt x="4112" y="52"/>
                      <a:pt x="4112" y="50"/>
                    </a:cubicBezTo>
                    <a:cubicBezTo>
                      <a:pt x="4116" y="46"/>
                      <a:pt x="4119" y="42"/>
                      <a:pt x="4123" y="38"/>
                    </a:cubicBezTo>
                    <a:cubicBezTo>
                      <a:pt x="4119" y="41"/>
                      <a:pt x="4116" y="44"/>
                      <a:pt x="4113" y="47"/>
                    </a:cubicBezTo>
                    <a:cubicBezTo>
                      <a:pt x="4113" y="43"/>
                      <a:pt x="4114" y="40"/>
                      <a:pt x="4114" y="40"/>
                    </a:cubicBezTo>
                    <a:cubicBezTo>
                      <a:pt x="4113" y="43"/>
                      <a:pt x="4111" y="46"/>
                      <a:pt x="4110" y="50"/>
                    </a:cubicBezTo>
                    <a:cubicBezTo>
                      <a:pt x="4103" y="58"/>
                      <a:pt x="4098" y="66"/>
                      <a:pt x="4094" y="75"/>
                    </a:cubicBezTo>
                    <a:cubicBezTo>
                      <a:pt x="4093" y="70"/>
                      <a:pt x="4093" y="66"/>
                      <a:pt x="4093" y="63"/>
                    </a:cubicBezTo>
                    <a:cubicBezTo>
                      <a:pt x="4096" y="57"/>
                      <a:pt x="4099" y="50"/>
                      <a:pt x="4103" y="42"/>
                    </a:cubicBezTo>
                    <a:cubicBezTo>
                      <a:pt x="4094" y="52"/>
                      <a:pt x="4088" y="61"/>
                      <a:pt x="4084" y="71"/>
                    </a:cubicBezTo>
                    <a:cubicBezTo>
                      <a:pt x="4083" y="70"/>
                      <a:pt x="4082" y="70"/>
                      <a:pt x="4082" y="69"/>
                    </a:cubicBezTo>
                    <a:cubicBezTo>
                      <a:pt x="4082" y="68"/>
                      <a:pt x="4082" y="67"/>
                      <a:pt x="4081" y="65"/>
                    </a:cubicBezTo>
                    <a:cubicBezTo>
                      <a:pt x="4088" y="53"/>
                      <a:pt x="4096" y="41"/>
                      <a:pt x="4107" y="25"/>
                    </a:cubicBezTo>
                    <a:cubicBezTo>
                      <a:pt x="4096" y="40"/>
                      <a:pt x="4088" y="51"/>
                      <a:pt x="4081" y="64"/>
                    </a:cubicBezTo>
                    <a:cubicBezTo>
                      <a:pt x="4079" y="45"/>
                      <a:pt x="4077" y="30"/>
                      <a:pt x="4077" y="30"/>
                    </a:cubicBezTo>
                    <a:cubicBezTo>
                      <a:pt x="4078" y="35"/>
                      <a:pt x="4078" y="49"/>
                      <a:pt x="4078" y="65"/>
                    </a:cubicBezTo>
                    <a:cubicBezTo>
                      <a:pt x="4078" y="65"/>
                      <a:pt x="4077" y="65"/>
                      <a:pt x="4077" y="65"/>
                    </a:cubicBezTo>
                    <a:cubicBezTo>
                      <a:pt x="4077" y="65"/>
                      <a:pt x="4078" y="65"/>
                      <a:pt x="4078" y="65"/>
                    </a:cubicBezTo>
                    <a:cubicBezTo>
                      <a:pt x="4078" y="67"/>
                      <a:pt x="4078" y="69"/>
                      <a:pt x="4077" y="71"/>
                    </a:cubicBezTo>
                    <a:cubicBezTo>
                      <a:pt x="4076" y="74"/>
                      <a:pt x="4075" y="78"/>
                      <a:pt x="4074" y="81"/>
                    </a:cubicBezTo>
                    <a:cubicBezTo>
                      <a:pt x="4075" y="78"/>
                      <a:pt x="4076" y="76"/>
                      <a:pt x="4077" y="73"/>
                    </a:cubicBezTo>
                    <a:cubicBezTo>
                      <a:pt x="4077" y="79"/>
                      <a:pt x="4077" y="85"/>
                      <a:pt x="4077" y="91"/>
                    </a:cubicBezTo>
                    <a:cubicBezTo>
                      <a:pt x="4076" y="93"/>
                      <a:pt x="4076" y="95"/>
                      <a:pt x="4076" y="97"/>
                    </a:cubicBezTo>
                    <a:cubicBezTo>
                      <a:pt x="4075" y="96"/>
                      <a:pt x="4074" y="95"/>
                      <a:pt x="4074" y="94"/>
                    </a:cubicBezTo>
                    <a:cubicBezTo>
                      <a:pt x="4073" y="91"/>
                      <a:pt x="4073" y="88"/>
                      <a:pt x="4073" y="85"/>
                    </a:cubicBezTo>
                    <a:cubicBezTo>
                      <a:pt x="4073" y="83"/>
                      <a:pt x="4074" y="82"/>
                      <a:pt x="4074" y="81"/>
                    </a:cubicBezTo>
                    <a:cubicBezTo>
                      <a:pt x="4074" y="82"/>
                      <a:pt x="4073" y="83"/>
                      <a:pt x="4073" y="84"/>
                    </a:cubicBezTo>
                    <a:cubicBezTo>
                      <a:pt x="4072" y="72"/>
                      <a:pt x="4071" y="62"/>
                      <a:pt x="4071" y="55"/>
                    </a:cubicBezTo>
                    <a:cubicBezTo>
                      <a:pt x="4072" y="54"/>
                      <a:pt x="4073" y="53"/>
                      <a:pt x="4075" y="52"/>
                    </a:cubicBezTo>
                    <a:cubicBezTo>
                      <a:pt x="4073" y="53"/>
                      <a:pt x="4072" y="54"/>
                      <a:pt x="4071" y="54"/>
                    </a:cubicBezTo>
                    <a:cubicBezTo>
                      <a:pt x="4071" y="49"/>
                      <a:pt x="4070" y="46"/>
                      <a:pt x="4070" y="46"/>
                    </a:cubicBezTo>
                    <a:cubicBezTo>
                      <a:pt x="4070" y="48"/>
                      <a:pt x="4070" y="51"/>
                      <a:pt x="4070" y="55"/>
                    </a:cubicBezTo>
                    <a:cubicBezTo>
                      <a:pt x="4067" y="57"/>
                      <a:pt x="4064" y="59"/>
                      <a:pt x="4061" y="62"/>
                    </a:cubicBezTo>
                    <a:cubicBezTo>
                      <a:pt x="4061" y="58"/>
                      <a:pt x="4061" y="54"/>
                      <a:pt x="4061" y="50"/>
                    </a:cubicBezTo>
                    <a:cubicBezTo>
                      <a:pt x="4065" y="45"/>
                      <a:pt x="4070" y="40"/>
                      <a:pt x="4075" y="34"/>
                    </a:cubicBezTo>
                    <a:cubicBezTo>
                      <a:pt x="4070" y="39"/>
                      <a:pt x="4065" y="44"/>
                      <a:pt x="4061" y="48"/>
                    </a:cubicBezTo>
                    <a:cubicBezTo>
                      <a:pt x="4062" y="21"/>
                      <a:pt x="4064" y="0"/>
                      <a:pt x="4064" y="0"/>
                    </a:cubicBezTo>
                    <a:cubicBezTo>
                      <a:pt x="4060" y="10"/>
                      <a:pt x="4058" y="35"/>
                      <a:pt x="4057" y="53"/>
                    </a:cubicBezTo>
                    <a:cubicBezTo>
                      <a:pt x="4056" y="54"/>
                      <a:pt x="4055" y="55"/>
                      <a:pt x="4055" y="56"/>
                    </a:cubicBezTo>
                    <a:cubicBezTo>
                      <a:pt x="4053" y="44"/>
                      <a:pt x="4050" y="33"/>
                      <a:pt x="4050" y="33"/>
                    </a:cubicBezTo>
                    <a:cubicBezTo>
                      <a:pt x="4051" y="39"/>
                      <a:pt x="4051" y="49"/>
                      <a:pt x="4050" y="62"/>
                    </a:cubicBezTo>
                    <a:cubicBezTo>
                      <a:pt x="4048" y="63"/>
                      <a:pt x="4047" y="65"/>
                      <a:pt x="4046" y="67"/>
                    </a:cubicBezTo>
                    <a:cubicBezTo>
                      <a:pt x="4045" y="65"/>
                      <a:pt x="4044" y="63"/>
                      <a:pt x="4043" y="62"/>
                    </a:cubicBezTo>
                    <a:cubicBezTo>
                      <a:pt x="4043" y="63"/>
                      <a:pt x="4044" y="65"/>
                      <a:pt x="4045" y="68"/>
                    </a:cubicBezTo>
                    <a:cubicBezTo>
                      <a:pt x="4042" y="72"/>
                      <a:pt x="4040" y="75"/>
                      <a:pt x="4039" y="78"/>
                    </a:cubicBezTo>
                    <a:cubicBezTo>
                      <a:pt x="4038" y="61"/>
                      <a:pt x="4038" y="48"/>
                      <a:pt x="4038" y="48"/>
                    </a:cubicBezTo>
                    <a:cubicBezTo>
                      <a:pt x="4037" y="52"/>
                      <a:pt x="4036" y="65"/>
                      <a:pt x="4034" y="80"/>
                    </a:cubicBezTo>
                    <a:cubicBezTo>
                      <a:pt x="4033" y="82"/>
                      <a:pt x="4033" y="85"/>
                      <a:pt x="4032" y="87"/>
                    </a:cubicBezTo>
                    <a:cubicBezTo>
                      <a:pt x="4031" y="86"/>
                      <a:pt x="4031" y="86"/>
                      <a:pt x="4030" y="85"/>
                    </a:cubicBezTo>
                    <a:cubicBezTo>
                      <a:pt x="4033" y="48"/>
                      <a:pt x="4036" y="9"/>
                      <a:pt x="4036" y="9"/>
                    </a:cubicBezTo>
                    <a:cubicBezTo>
                      <a:pt x="4032" y="20"/>
                      <a:pt x="4028" y="57"/>
                      <a:pt x="4024" y="89"/>
                    </a:cubicBezTo>
                    <a:cubicBezTo>
                      <a:pt x="4023" y="91"/>
                      <a:pt x="4022" y="92"/>
                      <a:pt x="4022" y="93"/>
                    </a:cubicBezTo>
                    <a:cubicBezTo>
                      <a:pt x="4021" y="92"/>
                      <a:pt x="4020" y="90"/>
                      <a:pt x="4019" y="89"/>
                    </a:cubicBezTo>
                    <a:cubicBezTo>
                      <a:pt x="4022" y="72"/>
                      <a:pt x="4025" y="55"/>
                      <a:pt x="4025" y="37"/>
                    </a:cubicBezTo>
                    <a:cubicBezTo>
                      <a:pt x="4025" y="34"/>
                      <a:pt x="4025" y="30"/>
                      <a:pt x="4025" y="26"/>
                    </a:cubicBezTo>
                    <a:cubicBezTo>
                      <a:pt x="4018" y="45"/>
                      <a:pt x="4017" y="66"/>
                      <a:pt x="4013" y="86"/>
                    </a:cubicBezTo>
                    <a:cubicBezTo>
                      <a:pt x="4012" y="85"/>
                      <a:pt x="4012" y="84"/>
                      <a:pt x="4011" y="84"/>
                    </a:cubicBezTo>
                    <a:cubicBezTo>
                      <a:pt x="4012" y="84"/>
                      <a:pt x="4012" y="85"/>
                      <a:pt x="4013" y="86"/>
                    </a:cubicBezTo>
                    <a:cubicBezTo>
                      <a:pt x="4012" y="88"/>
                      <a:pt x="4012" y="90"/>
                      <a:pt x="4012" y="92"/>
                    </a:cubicBezTo>
                    <a:cubicBezTo>
                      <a:pt x="4011" y="94"/>
                      <a:pt x="4011" y="96"/>
                      <a:pt x="4010" y="98"/>
                    </a:cubicBezTo>
                    <a:cubicBezTo>
                      <a:pt x="4010" y="97"/>
                      <a:pt x="4009" y="96"/>
                      <a:pt x="4008" y="94"/>
                    </a:cubicBezTo>
                    <a:cubicBezTo>
                      <a:pt x="4008" y="86"/>
                      <a:pt x="4007" y="78"/>
                      <a:pt x="4006" y="72"/>
                    </a:cubicBezTo>
                    <a:cubicBezTo>
                      <a:pt x="4009" y="67"/>
                      <a:pt x="4013" y="63"/>
                      <a:pt x="4017" y="59"/>
                    </a:cubicBezTo>
                    <a:cubicBezTo>
                      <a:pt x="4013" y="62"/>
                      <a:pt x="4009" y="66"/>
                      <a:pt x="4006" y="70"/>
                    </a:cubicBezTo>
                    <a:cubicBezTo>
                      <a:pt x="4005" y="64"/>
                      <a:pt x="4005" y="60"/>
                      <a:pt x="4004" y="57"/>
                    </a:cubicBezTo>
                    <a:cubicBezTo>
                      <a:pt x="4005" y="54"/>
                      <a:pt x="4007" y="52"/>
                      <a:pt x="4008" y="50"/>
                    </a:cubicBezTo>
                    <a:cubicBezTo>
                      <a:pt x="4007" y="51"/>
                      <a:pt x="4005" y="53"/>
                      <a:pt x="4004" y="54"/>
                    </a:cubicBezTo>
                    <a:cubicBezTo>
                      <a:pt x="4004" y="53"/>
                      <a:pt x="4004" y="52"/>
                      <a:pt x="4004" y="52"/>
                    </a:cubicBezTo>
                    <a:cubicBezTo>
                      <a:pt x="4004" y="53"/>
                      <a:pt x="4004" y="54"/>
                      <a:pt x="4004" y="54"/>
                    </a:cubicBezTo>
                    <a:cubicBezTo>
                      <a:pt x="4002" y="56"/>
                      <a:pt x="4000" y="58"/>
                      <a:pt x="3998" y="60"/>
                    </a:cubicBezTo>
                    <a:cubicBezTo>
                      <a:pt x="3997" y="54"/>
                      <a:pt x="3996" y="48"/>
                      <a:pt x="3995" y="44"/>
                    </a:cubicBezTo>
                    <a:cubicBezTo>
                      <a:pt x="3996" y="49"/>
                      <a:pt x="3995" y="56"/>
                      <a:pt x="3994" y="64"/>
                    </a:cubicBezTo>
                    <a:cubicBezTo>
                      <a:pt x="3993" y="66"/>
                      <a:pt x="3992" y="68"/>
                      <a:pt x="3991" y="69"/>
                    </a:cubicBezTo>
                    <a:cubicBezTo>
                      <a:pt x="3989" y="67"/>
                      <a:pt x="3988" y="66"/>
                      <a:pt x="3986" y="64"/>
                    </a:cubicBezTo>
                    <a:cubicBezTo>
                      <a:pt x="3988" y="66"/>
                      <a:pt x="3989" y="67"/>
                      <a:pt x="3991" y="69"/>
                    </a:cubicBezTo>
                    <a:cubicBezTo>
                      <a:pt x="3989" y="71"/>
                      <a:pt x="3988" y="73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6" y="76"/>
                      <a:pt x="3985" y="77"/>
                      <a:pt x="3984" y="79"/>
                    </a:cubicBezTo>
                    <a:cubicBezTo>
                      <a:pt x="3984" y="79"/>
                      <a:pt x="3984" y="79"/>
                      <a:pt x="3984" y="79"/>
                    </a:cubicBezTo>
                    <a:cubicBezTo>
                      <a:pt x="3985" y="60"/>
                      <a:pt x="3985" y="45"/>
                      <a:pt x="3985" y="45"/>
                    </a:cubicBezTo>
                    <a:cubicBezTo>
                      <a:pt x="3985" y="50"/>
                      <a:pt x="3983" y="61"/>
                      <a:pt x="3980" y="73"/>
                    </a:cubicBezTo>
                    <a:cubicBezTo>
                      <a:pt x="3979" y="73"/>
                      <a:pt x="3979" y="73"/>
                      <a:pt x="3978" y="72"/>
                    </a:cubicBezTo>
                    <a:cubicBezTo>
                      <a:pt x="3979" y="70"/>
                      <a:pt x="3979" y="68"/>
                      <a:pt x="3979" y="66"/>
                    </a:cubicBezTo>
                    <a:cubicBezTo>
                      <a:pt x="3979" y="65"/>
                      <a:pt x="3979" y="65"/>
                      <a:pt x="3980" y="65"/>
                    </a:cubicBezTo>
                    <a:cubicBezTo>
                      <a:pt x="3979" y="65"/>
                      <a:pt x="3979" y="65"/>
                      <a:pt x="3979" y="66"/>
                    </a:cubicBezTo>
                    <a:cubicBezTo>
                      <a:pt x="3979" y="64"/>
                      <a:pt x="3979" y="63"/>
                      <a:pt x="3979" y="61"/>
                    </a:cubicBezTo>
                    <a:cubicBezTo>
                      <a:pt x="3979" y="55"/>
                      <a:pt x="3979" y="49"/>
                      <a:pt x="3978" y="42"/>
                    </a:cubicBezTo>
                    <a:cubicBezTo>
                      <a:pt x="3981" y="27"/>
                      <a:pt x="3983" y="17"/>
                      <a:pt x="3983" y="17"/>
                    </a:cubicBezTo>
                    <a:cubicBezTo>
                      <a:pt x="3980" y="22"/>
                      <a:pt x="3973" y="49"/>
                      <a:pt x="3967" y="78"/>
                    </a:cubicBezTo>
                    <a:cubicBezTo>
                      <a:pt x="3967" y="78"/>
                      <a:pt x="3967" y="79"/>
                      <a:pt x="3966" y="79"/>
                    </a:cubicBezTo>
                    <a:cubicBezTo>
                      <a:pt x="3965" y="76"/>
                      <a:pt x="3962" y="72"/>
                      <a:pt x="3960" y="69"/>
                    </a:cubicBezTo>
                    <a:cubicBezTo>
                      <a:pt x="3961" y="67"/>
                      <a:pt x="3963" y="66"/>
                      <a:pt x="3965" y="64"/>
                    </a:cubicBezTo>
                    <a:cubicBezTo>
                      <a:pt x="3963" y="66"/>
                      <a:pt x="3961" y="67"/>
                      <a:pt x="3960" y="69"/>
                    </a:cubicBezTo>
                    <a:cubicBezTo>
                      <a:pt x="3959" y="68"/>
                      <a:pt x="3958" y="67"/>
                      <a:pt x="3957" y="66"/>
                    </a:cubicBezTo>
                    <a:cubicBezTo>
                      <a:pt x="3957" y="60"/>
                      <a:pt x="3956" y="55"/>
                      <a:pt x="3956" y="52"/>
                    </a:cubicBezTo>
                    <a:cubicBezTo>
                      <a:pt x="3956" y="56"/>
                      <a:pt x="3956" y="60"/>
                      <a:pt x="3956" y="64"/>
                    </a:cubicBezTo>
                    <a:cubicBezTo>
                      <a:pt x="3952" y="60"/>
                      <a:pt x="3948" y="55"/>
                      <a:pt x="3943" y="50"/>
                    </a:cubicBezTo>
                    <a:cubicBezTo>
                      <a:pt x="3945" y="55"/>
                      <a:pt x="3949" y="60"/>
                      <a:pt x="3952" y="65"/>
                    </a:cubicBezTo>
                    <a:cubicBezTo>
                      <a:pt x="3951" y="68"/>
                      <a:pt x="3951" y="71"/>
                      <a:pt x="3950" y="76"/>
                    </a:cubicBezTo>
                    <a:cubicBezTo>
                      <a:pt x="3948" y="74"/>
                      <a:pt x="3946" y="71"/>
                      <a:pt x="3943" y="68"/>
                    </a:cubicBezTo>
                    <a:cubicBezTo>
                      <a:pt x="3943" y="54"/>
                      <a:pt x="3942" y="41"/>
                      <a:pt x="3941" y="33"/>
                    </a:cubicBezTo>
                    <a:cubicBezTo>
                      <a:pt x="3942" y="42"/>
                      <a:pt x="3941" y="53"/>
                      <a:pt x="3940" y="65"/>
                    </a:cubicBezTo>
                    <a:cubicBezTo>
                      <a:pt x="3938" y="63"/>
                      <a:pt x="3936" y="61"/>
                      <a:pt x="3934" y="59"/>
                    </a:cubicBezTo>
                    <a:cubicBezTo>
                      <a:pt x="3936" y="61"/>
                      <a:pt x="3938" y="63"/>
                      <a:pt x="3940" y="65"/>
                    </a:cubicBezTo>
                    <a:cubicBezTo>
                      <a:pt x="3939" y="72"/>
                      <a:pt x="3938" y="80"/>
                      <a:pt x="3937" y="87"/>
                    </a:cubicBezTo>
                    <a:cubicBezTo>
                      <a:pt x="3937" y="87"/>
                      <a:pt x="3937" y="87"/>
                      <a:pt x="3937" y="87"/>
                    </a:cubicBezTo>
                    <a:cubicBezTo>
                      <a:pt x="3936" y="85"/>
                      <a:pt x="3936" y="84"/>
                      <a:pt x="3935" y="83"/>
                    </a:cubicBezTo>
                    <a:cubicBezTo>
                      <a:pt x="3936" y="82"/>
                      <a:pt x="3936" y="82"/>
                      <a:pt x="3936" y="81"/>
                    </a:cubicBezTo>
                    <a:cubicBezTo>
                      <a:pt x="3936" y="82"/>
                      <a:pt x="3936" y="82"/>
                      <a:pt x="3935" y="83"/>
                    </a:cubicBezTo>
                    <a:cubicBezTo>
                      <a:pt x="3935" y="81"/>
                      <a:pt x="3934" y="79"/>
                      <a:pt x="3933" y="77"/>
                    </a:cubicBezTo>
                    <a:cubicBezTo>
                      <a:pt x="3934" y="79"/>
                      <a:pt x="3934" y="81"/>
                      <a:pt x="3935" y="83"/>
                    </a:cubicBezTo>
                    <a:cubicBezTo>
                      <a:pt x="3934" y="85"/>
                      <a:pt x="3933" y="86"/>
                      <a:pt x="3932" y="88"/>
                    </a:cubicBezTo>
                    <a:cubicBezTo>
                      <a:pt x="3933" y="86"/>
                      <a:pt x="3934" y="85"/>
                      <a:pt x="3935" y="83"/>
                    </a:cubicBezTo>
                    <a:cubicBezTo>
                      <a:pt x="3935" y="85"/>
                      <a:pt x="3936" y="86"/>
                      <a:pt x="3936" y="88"/>
                    </a:cubicBezTo>
                    <a:cubicBezTo>
                      <a:pt x="3934" y="91"/>
                      <a:pt x="3933" y="95"/>
                      <a:pt x="3931" y="98"/>
                    </a:cubicBezTo>
                    <a:cubicBezTo>
                      <a:pt x="3931" y="97"/>
                      <a:pt x="3931" y="97"/>
                      <a:pt x="3930" y="97"/>
                    </a:cubicBezTo>
                    <a:cubicBezTo>
                      <a:pt x="3930" y="95"/>
                      <a:pt x="3930" y="94"/>
                      <a:pt x="3930" y="93"/>
                    </a:cubicBezTo>
                    <a:cubicBezTo>
                      <a:pt x="3930" y="91"/>
                      <a:pt x="3931" y="89"/>
                      <a:pt x="3932" y="88"/>
                    </a:cubicBezTo>
                    <a:cubicBezTo>
                      <a:pt x="3931" y="89"/>
                      <a:pt x="3930" y="91"/>
                      <a:pt x="3929" y="92"/>
                    </a:cubicBezTo>
                    <a:cubicBezTo>
                      <a:pt x="3929" y="92"/>
                      <a:pt x="3929" y="91"/>
                      <a:pt x="3929" y="91"/>
                    </a:cubicBezTo>
                    <a:cubicBezTo>
                      <a:pt x="3929" y="74"/>
                      <a:pt x="3928" y="60"/>
                      <a:pt x="3928" y="60"/>
                    </a:cubicBezTo>
                    <a:cubicBezTo>
                      <a:pt x="3928" y="65"/>
                      <a:pt x="3927" y="73"/>
                      <a:pt x="3927" y="81"/>
                    </a:cubicBezTo>
                    <a:cubicBezTo>
                      <a:pt x="3926" y="79"/>
                      <a:pt x="3926" y="76"/>
                      <a:pt x="3925" y="74"/>
                    </a:cubicBezTo>
                    <a:cubicBezTo>
                      <a:pt x="3926" y="79"/>
                      <a:pt x="3926" y="83"/>
                      <a:pt x="3926" y="88"/>
                    </a:cubicBezTo>
                    <a:cubicBezTo>
                      <a:pt x="3925" y="86"/>
                      <a:pt x="3924" y="84"/>
                      <a:pt x="3923" y="83"/>
                    </a:cubicBezTo>
                    <a:cubicBezTo>
                      <a:pt x="3924" y="85"/>
                      <a:pt x="3925" y="87"/>
                      <a:pt x="3926" y="89"/>
                    </a:cubicBezTo>
                    <a:cubicBezTo>
                      <a:pt x="3926" y="89"/>
                      <a:pt x="3926" y="89"/>
                      <a:pt x="3926" y="89"/>
                    </a:cubicBezTo>
                    <a:cubicBezTo>
                      <a:pt x="3926" y="93"/>
                      <a:pt x="3925" y="97"/>
                      <a:pt x="3925" y="101"/>
                    </a:cubicBezTo>
                    <a:cubicBezTo>
                      <a:pt x="3924" y="103"/>
                      <a:pt x="3923" y="104"/>
                      <a:pt x="3923" y="106"/>
                    </a:cubicBezTo>
                    <a:cubicBezTo>
                      <a:pt x="3921" y="100"/>
                      <a:pt x="3920" y="95"/>
                      <a:pt x="3918" y="90"/>
                    </a:cubicBezTo>
                    <a:cubicBezTo>
                      <a:pt x="3919" y="88"/>
                      <a:pt x="3921" y="85"/>
                      <a:pt x="3922" y="83"/>
                    </a:cubicBezTo>
                    <a:cubicBezTo>
                      <a:pt x="3921" y="85"/>
                      <a:pt x="3919" y="87"/>
                      <a:pt x="3917" y="89"/>
                    </a:cubicBezTo>
                    <a:cubicBezTo>
                      <a:pt x="3917" y="88"/>
                      <a:pt x="3916" y="87"/>
                      <a:pt x="3916" y="87"/>
                    </a:cubicBezTo>
                    <a:cubicBezTo>
                      <a:pt x="3916" y="76"/>
                      <a:pt x="3917" y="68"/>
                      <a:pt x="3917" y="68"/>
                    </a:cubicBezTo>
                    <a:cubicBezTo>
                      <a:pt x="3916" y="72"/>
                      <a:pt x="3915" y="77"/>
                      <a:pt x="3914" y="82"/>
                    </a:cubicBezTo>
                    <a:cubicBezTo>
                      <a:pt x="3914" y="81"/>
                      <a:pt x="3914" y="80"/>
                      <a:pt x="3914" y="80"/>
                    </a:cubicBezTo>
                    <a:cubicBezTo>
                      <a:pt x="3914" y="80"/>
                      <a:pt x="3914" y="81"/>
                      <a:pt x="3914" y="82"/>
                    </a:cubicBezTo>
                    <a:cubicBezTo>
                      <a:pt x="3913" y="80"/>
                      <a:pt x="3912" y="78"/>
                      <a:pt x="3910" y="75"/>
                    </a:cubicBezTo>
                    <a:cubicBezTo>
                      <a:pt x="3911" y="65"/>
                      <a:pt x="3912" y="56"/>
                      <a:pt x="3913" y="48"/>
                    </a:cubicBezTo>
                    <a:cubicBezTo>
                      <a:pt x="3912" y="55"/>
                      <a:pt x="3910" y="64"/>
                      <a:pt x="3909" y="73"/>
                    </a:cubicBezTo>
                    <a:cubicBezTo>
                      <a:pt x="3907" y="70"/>
                      <a:pt x="3905" y="67"/>
                      <a:pt x="3903" y="64"/>
                    </a:cubicBezTo>
                    <a:cubicBezTo>
                      <a:pt x="3903" y="62"/>
                      <a:pt x="3903" y="59"/>
                      <a:pt x="3903" y="57"/>
                    </a:cubicBezTo>
                    <a:cubicBezTo>
                      <a:pt x="3902" y="58"/>
                      <a:pt x="3902" y="60"/>
                      <a:pt x="3901" y="62"/>
                    </a:cubicBezTo>
                    <a:cubicBezTo>
                      <a:pt x="3899" y="59"/>
                      <a:pt x="3896" y="55"/>
                      <a:pt x="3893" y="52"/>
                    </a:cubicBezTo>
                    <a:cubicBezTo>
                      <a:pt x="3893" y="48"/>
                      <a:pt x="3893" y="46"/>
                      <a:pt x="3893" y="46"/>
                    </a:cubicBezTo>
                    <a:cubicBezTo>
                      <a:pt x="3893" y="48"/>
                      <a:pt x="3893" y="49"/>
                      <a:pt x="3892" y="51"/>
                    </a:cubicBezTo>
                    <a:cubicBezTo>
                      <a:pt x="3889" y="47"/>
                      <a:pt x="3885" y="43"/>
                      <a:pt x="3881" y="39"/>
                    </a:cubicBezTo>
                    <a:cubicBezTo>
                      <a:pt x="3881" y="37"/>
                      <a:pt x="3881" y="35"/>
                      <a:pt x="3880" y="34"/>
                    </a:cubicBezTo>
                    <a:cubicBezTo>
                      <a:pt x="3880" y="34"/>
                      <a:pt x="3881" y="36"/>
                      <a:pt x="3881" y="39"/>
                    </a:cubicBezTo>
                    <a:cubicBezTo>
                      <a:pt x="3879" y="37"/>
                      <a:pt x="3878" y="36"/>
                      <a:pt x="3876" y="34"/>
                    </a:cubicBezTo>
                    <a:cubicBezTo>
                      <a:pt x="3878" y="36"/>
                      <a:pt x="3879" y="38"/>
                      <a:pt x="3881" y="40"/>
                    </a:cubicBezTo>
                    <a:cubicBezTo>
                      <a:pt x="3881" y="40"/>
                      <a:pt x="3881" y="40"/>
                      <a:pt x="3881" y="41"/>
                    </a:cubicBezTo>
                    <a:cubicBezTo>
                      <a:pt x="3881" y="40"/>
                      <a:pt x="3881" y="40"/>
                      <a:pt x="3881" y="40"/>
                    </a:cubicBezTo>
                    <a:cubicBezTo>
                      <a:pt x="3885" y="45"/>
                      <a:pt x="3888" y="49"/>
                      <a:pt x="3892" y="53"/>
                    </a:cubicBezTo>
                    <a:cubicBezTo>
                      <a:pt x="3891" y="55"/>
                      <a:pt x="3890" y="59"/>
                      <a:pt x="3890" y="62"/>
                    </a:cubicBezTo>
                    <a:cubicBezTo>
                      <a:pt x="3887" y="60"/>
                      <a:pt x="3885" y="58"/>
                      <a:pt x="3882" y="56"/>
                    </a:cubicBezTo>
                    <a:cubicBezTo>
                      <a:pt x="3881" y="50"/>
                      <a:pt x="3881" y="44"/>
                      <a:pt x="3881" y="41"/>
                    </a:cubicBezTo>
                    <a:cubicBezTo>
                      <a:pt x="3881" y="45"/>
                      <a:pt x="3881" y="50"/>
                      <a:pt x="3880" y="55"/>
                    </a:cubicBezTo>
                    <a:cubicBezTo>
                      <a:pt x="3879" y="54"/>
                      <a:pt x="3878" y="53"/>
                      <a:pt x="3876" y="52"/>
                    </a:cubicBezTo>
                    <a:cubicBezTo>
                      <a:pt x="3878" y="53"/>
                      <a:pt x="3879" y="54"/>
                      <a:pt x="3880" y="55"/>
                    </a:cubicBezTo>
                    <a:cubicBezTo>
                      <a:pt x="3880" y="64"/>
                      <a:pt x="3879" y="73"/>
                      <a:pt x="3877" y="83"/>
                    </a:cubicBezTo>
                    <a:cubicBezTo>
                      <a:pt x="3877" y="82"/>
                      <a:pt x="3877" y="81"/>
                      <a:pt x="3877" y="81"/>
                    </a:cubicBezTo>
                    <a:cubicBezTo>
                      <a:pt x="3877" y="82"/>
                      <a:pt x="3877" y="82"/>
                      <a:pt x="3877" y="83"/>
                    </a:cubicBezTo>
                    <a:cubicBezTo>
                      <a:pt x="3876" y="88"/>
                      <a:pt x="3876" y="92"/>
                      <a:pt x="3875" y="97"/>
                    </a:cubicBezTo>
                    <a:cubicBezTo>
                      <a:pt x="3873" y="89"/>
                      <a:pt x="3871" y="81"/>
                      <a:pt x="3868" y="73"/>
                    </a:cubicBezTo>
                    <a:cubicBezTo>
                      <a:pt x="3868" y="72"/>
                      <a:pt x="3868" y="71"/>
                      <a:pt x="3868" y="71"/>
                    </a:cubicBezTo>
                    <a:cubicBezTo>
                      <a:pt x="3869" y="70"/>
                      <a:pt x="3870" y="69"/>
                      <a:pt x="3871" y="68"/>
                    </a:cubicBezTo>
                    <a:cubicBezTo>
                      <a:pt x="3873" y="72"/>
                      <a:pt x="3875" y="76"/>
                      <a:pt x="3877" y="81"/>
                    </a:cubicBezTo>
                    <a:cubicBezTo>
                      <a:pt x="3875" y="76"/>
                      <a:pt x="3873" y="72"/>
                      <a:pt x="3871" y="67"/>
                    </a:cubicBezTo>
                    <a:cubicBezTo>
                      <a:pt x="3872" y="67"/>
                      <a:pt x="3872" y="66"/>
                      <a:pt x="3873" y="65"/>
                    </a:cubicBezTo>
                    <a:cubicBezTo>
                      <a:pt x="3872" y="66"/>
                      <a:pt x="3872" y="66"/>
                      <a:pt x="3871" y="67"/>
                    </a:cubicBezTo>
                    <a:cubicBezTo>
                      <a:pt x="3865" y="54"/>
                      <a:pt x="3855" y="41"/>
                      <a:pt x="3843" y="25"/>
                    </a:cubicBezTo>
                    <a:cubicBezTo>
                      <a:pt x="3855" y="42"/>
                      <a:pt x="3864" y="55"/>
                      <a:pt x="3870" y="68"/>
                    </a:cubicBezTo>
                    <a:cubicBezTo>
                      <a:pt x="3870" y="68"/>
                      <a:pt x="3869" y="69"/>
                      <a:pt x="3868" y="70"/>
                    </a:cubicBezTo>
                    <a:cubicBezTo>
                      <a:pt x="3868" y="68"/>
                      <a:pt x="3868" y="66"/>
                      <a:pt x="3868" y="66"/>
                    </a:cubicBezTo>
                    <a:cubicBezTo>
                      <a:pt x="3868" y="68"/>
                      <a:pt x="3868" y="69"/>
                      <a:pt x="3867" y="71"/>
                    </a:cubicBezTo>
                    <a:cubicBezTo>
                      <a:pt x="3867" y="71"/>
                      <a:pt x="3867" y="71"/>
                      <a:pt x="3867" y="71"/>
                    </a:cubicBezTo>
                    <a:cubicBezTo>
                      <a:pt x="3863" y="61"/>
                      <a:pt x="3856" y="52"/>
                      <a:pt x="3847" y="42"/>
                    </a:cubicBezTo>
                    <a:cubicBezTo>
                      <a:pt x="3854" y="55"/>
                      <a:pt x="3859" y="65"/>
                      <a:pt x="3863" y="75"/>
                    </a:cubicBezTo>
                    <a:cubicBezTo>
                      <a:pt x="3862" y="76"/>
                      <a:pt x="3861" y="77"/>
                      <a:pt x="3860" y="77"/>
                    </a:cubicBezTo>
                    <a:cubicBezTo>
                      <a:pt x="3858" y="73"/>
                      <a:pt x="3856" y="70"/>
                      <a:pt x="3854" y="68"/>
                    </a:cubicBezTo>
                    <a:cubicBezTo>
                      <a:pt x="3853" y="63"/>
                      <a:pt x="3853" y="60"/>
                      <a:pt x="3853" y="60"/>
                    </a:cubicBezTo>
                    <a:cubicBezTo>
                      <a:pt x="3853" y="62"/>
                      <a:pt x="3853" y="64"/>
                      <a:pt x="3853" y="67"/>
                    </a:cubicBezTo>
                    <a:cubicBezTo>
                      <a:pt x="3847" y="57"/>
                      <a:pt x="3839" y="47"/>
                      <a:pt x="3828" y="38"/>
                    </a:cubicBezTo>
                    <a:cubicBezTo>
                      <a:pt x="3838" y="49"/>
                      <a:pt x="3846" y="60"/>
                      <a:pt x="3852" y="71"/>
                    </a:cubicBezTo>
                    <a:cubicBezTo>
                      <a:pt x="3852" y="75"/>
                      <a:pt x="3852" y="80"/>
                      <a:pt x="3851" y="85"/>
                    </a:cubicBezTo>
                    <a:cubicBezTo>
                      <a:pt x="3851" y="84"/>
                      <a:pt x="3851" y="83"/>
                      <a:pt x="3850" y="83"/>
                    </a:cubicBezTo>
                    <a:cubicBezTo>
                      <a:pt x="3850" y="84"/>
                      <a:pt x="3851" y="85"/>
                      <a:pt x="3851" y="86"/>
                    </a:cubicBezTo>
                    <a:cubicBezTo>
                      <a:pt x="3851" y="87"/>
                      <a:pt x="3851" y="88"/>
                      <a:pt x="3851" y="89"/>
                    </a:cubicBezTo>
                    <a:cubicBezTo>
                      <a:pt x="3849" y="92"/>
                      <a:pt x="3848" y="94"/>
                      <a:pt x="3846" y="97"/>
                    </a:cubicBezTo>
                    <a:cubicBezTo>
                      <a:pt x="3846" y="93"/>
                      <a:pt x="3846" y="90"/>
                      <a:pt x="3846" y="87"/>
                    </a:cubicBezTo>
                    <a:cubicBezTo>
                      <a:pt x="3847" y="84"/>
                      <a:pt x="3848" y="82"/>
                      <a:pt x="3848" y="80"/>
                    </a:cubicBezTo>
                    <a:cubicBezTo>
                      <a:pt x="3849" y="81"/>
                      <a:pt x="3849" y="82"/>
                      <a:pt x="3850" y="83"/>
                    </a:cubicBezTo>
                    <a:cubicBezTo>
                      <a:pt x="3849" y="81"/>
                      <a:pt x="3849" y="80"/>
                      <a:pt x="3848" y="79"/>
                    </a:cubicBezTo>
                    <a:cubicBezTo>
                      <a:pt x="3849" y="79"/>
                      <a:pt x="3849" y="78"/>
                      <a:pt x="3849" y="77"/>
                    </a:cubicBezTo>
                    <a:cubicBezTo>
                      <a:pt x="3849" y="77"/>
                      <a:pt x="3848" y="78"/>
                      <a:pt x="3848" y="79"/>
                    </a:cubicBezTo>
                    <a:cubicBezTo>
                      <a:pt x="3847" y="77"/>
                      <a:pt x="3847" y="76"/>
                      <a:pt x="3846" y="75"/>
                    </a:cubicBezTo>
                    <a:cubicBezTo>
                      <a:pt x="3847" y="77"/>
                      <a:pt x="3847" y="78"/>
                      <a:pt x="3848" y="79"/>
                    </a:cubicBezTo>
                    <a:cubicBezTo>
                      <a:pt x="3847" y="80"/>
                      <a:pt x="3846" y="81"/>
                      <a:pt x="3846" y="82"/>
                    </a:cubicBezTo>
                    <a:cubicBezTo>
                      <a:pt x="3846" y="73"/>
                      <a:pt x="3846" y="68"/>
                      <a:pt x="3846" y="68"/>
                    </a:cubicBezTo>
                    <a:cubicBezTo>
                      <a:pt x="3845" y="72"/>
                      <a:pt x="3845" y="78"/>
                      <a:pt x="3844" y="85"/>
                    </a:cubicBezTo>
                    <a:cubicBezTo>
                      <a:pt x="3841" y="90"/>
                      <a:pt x="3839" y="94"/>
                      <a:pt x="3838" y="99"/>
                    </a:cubicBezTo>
                    <a:cubicBezTo>
                      <a:pt x="3837" y="98"/>
                      <a:pt x="3837" y="97"/>
                      <a:pt x="3837" y="96"/>
                    </a:cubicBezTo>
                    <a:cubicBezTo>
                      <a:pt x="3837" y="92"/>
                      <a:pt x="3838" y="89"/>
                      <a:pt x="3838" y="89"/>
                    </a:cubicBezTo>
                    <a:cubicBezTo>
                      <a:pt x="3838" y="91"/>
                      <a:pt x="3837" y="92"/>
                      <a:pt x="3837" y="94"/>
                    </a:cubicBezTo>
                    <a:cubicBezTo>
                      <a:pt x="3836" y="91"/>
                      <a:pt x="3835" y="88"/>
                      <a:pt x="3835" y="85"/>
                    </a:cubicBezTo>
                    <a:cubicBezTo>
                      <a:pt x="3834" y="88"/>
                      <a:pt x="3834" y="91"/>
                      <a:pt x="3834" y="94"/>
                    </a:cubicBezTo>
                    <a:cubicBezTo>
                      <a:pt x="3834" y="97"/>
                      <a:pt x="3834" y="100"/>
                      <a:pt x="3834" y="103"/>
                    </a:cubicBezTo>
                    <a:cubicBezTo>
                      <a:pt x="3833" y="107"/>
                      <a:pt x="3831" y="112"/>
                      <a:pt x="3830" y="116"/>
                    </a:cubicBezTo>
                    <a:cubicBezTo>
                      <a:pt x="3828" y="112"/>
                      <a:pt x="3827" y="108"/>
                      <a:pt x="3826" y="104"/>
                    </a:cubicBezTo>
                    <a:cubicBezTo>
                      <a:pt x="3827" y="109"/>
                      <a:pt x="3828" y="115"/>
                      <a:pt x="3828" y="120"/>
                    </a:cubicBezTo>
                    <a:cubicBezTo>
                      <a:pt x="3827" y="124"/>
                      <a:pt x="3825" y="127"/>
                      <a:pt x="3824" y="130"/>
                    </a:cubicBezTo>
                    <a:cubicBezTo>
                      <a:pt x="3823" y="128"/>
                      <a:pt x="3822" y="126"/>
                      <a:pt x="3822" y="123"/>
                    </a:cubicBezTo>
                    <a:cubicBezTo>
                      <a:pt x="3823" y="115"/>
                      <a:pt x="3825" y="106"/>
                      <a:pt x="3827" y="98"/>
                    </a:cubicBezTo>
                    <a:cubicBezTo>
                      <a:pt x="3828" y="98"/>
                      <a:pt x="3828" y="97"/>
                      <a:pt x="3828" y="96"/>
                    </a:cubicBezTo>
                    <a:cubicBezTo>
                      <a:pt x="3828" y="96"/>
                      <a:pt x="3828" y="97"/>
                      <a:pt x="3827" y="97"/>
                    </a:cubicBezTo>
                    <a:cubicBezTo>
                      <a:pt x="3830" y="86"/>
                      <a:pt x="3833" y="76"/>
                      <a:pt x="3833" y="76"/>
                    </a:cubicBezTo>
                    <a:cubicBezTo>
                      <a:pt x="3828" y="83"/>
                      <a:pt x="3822" y="96"/>
                      <a:pt x="3818" y="109"/>
                    </a:cubicBezTo>
                    <a:cubicBezTo>
                      <a:pt x="3818" y="107"/>
                      <a:pt x="3817" y="106"/>
                      <a:pt x="3817" y="104"/>
                    </a:cubicBezTo>
                    <a:cubicBezTo>
                      <a:pt x="3819" y="97"/>
                      <a:pt x="3822" y="90"/>
                      <a:pt x="3825" y="84"/>
                    </a:cubicBezTo>
                    <a:cubicBezTo>
                      <a:pt x="3822" y="90"/>
                      <a:pt x="3819" y="96"/>
                      <a:pt x="3817" y="102"/>
                    </a:cubicBezTo>
                    <a:cubicBezTo>
                      <a:pt x="3816" y="102"/>
                      <a:pt x="3816" y="101"/>
                      <a:pt x="3816" y="101"/>
                    </a:cubicBezTo>
                    <a:cubicBezTo>
                      <a:pt x="3818" y="77"/>
                      <a:pt x="3814" y="62"/>
                      <a:pt x="3814" y="62"/>
                    </a:cubicBezTo>
                    <a:cubicBezTo>
                      <a:pt x="3815" y="69"/>
                      <a:pt x="3815" y="80"/>
                      <a:pt x="3813" y="91"/>
                    </a:cubicBezTo>
                    <a:cubicBezTo>
                      <a:pt x="3813" y="89"/>
                      <a:pt x="3813" y="88"/>
                      <a:pt x="3812" y="87"/>
                    </a:cubicBezTo>
                    <a:cubicBezTo>
                      <a:pt x="3812" y="88"/>
                      <a:pt x="3812" y="88"/>
                      <a:pt x="3812" y="88"/>
                    </a:cubicBezTo>
                    <a:cubicBezTo>
                      <a:pt x="3812" y="90"/>
                      <a:pt x="3812" y="93"/>
                      <a:pt x="3813" y="96"/>
                    </a:cubicBezTo>
                    <a:cubicBezTo>
                      <a:pt x="3812" y="101"/>
                      <a:pt x="3812" y="105"/>
                      <a:pt x="3811" y="110"/>
                    </a:cubicBezTo>
                    <a:cubicBezTo>
                      <a:pt x="3810" y="109"/>
                      <a:pt x="3810" y="107"/>
                      <a:pt x="3809" y="106"/>
                    </a:cubicBezTo>
                    <a:cubicBezTo>
                      <a:pt x="3810" y="103"/>
                      <a:pt x="3810" y="99"/>
                      <a:pt x="3811" y="96"/>
                    </a:cubicBezTo>
                    <a:cubicBezTo>
                      <a:pt x="3810" y="98"/>
                      <a:pt x="3809" y="100"/>
                      <a:pt x="3808" y="103"/>
                    </a:cubicBezTo>
                    <a:cubicBezTo>
                      <a:pt x="3807" y="101"/>
                      <a:pt x="3806" y="99"/>
                      <a:pt x="3806" y="98"/>
                    </a:cubicBezTo>
                    <a:cubicBezTo>
                      <a:pt x="3806" y="89"/>
                      <a:pt x="3807" y="82"/>
                      <a:pt x="3807" y="82"/>
                    </a:cubicBezTo>
                    <a:cubicBezTo>
                      <a:pt x="3805" y="97"/>
                      <a:pt x="3805" y="97"/>
                      <a:pt x="3805" y="97"/>
                    </a:cubicBezTo>
                    <a:cubicBezTo>
                      <a:pt x="3804" y="94"/>
                      <a:pt x="3803" y="92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89"/>
                      <a:pt x="3802" y="89"/>
                      <a:pt x="3801" y="88"/>
                    </a:cubicBezTo>
                    <a:cubicBezTo>
                      <a:pt x="3801" y="83"/>
                      <a:pt x="3801" y="78"/>
                      <a:pt x="3801" y="73"/>
                    </a:cubicBezTo>
                    <a:cubicBezTo>
                      <a:pt x="3804" y="70"/>
                      <a:pt x="3807" y="66"/>
                      <a:pt x="3810" y="63"/>
                    </a:cubicBezTo>
                    <a:cubicBezTo>
                      <a:pt x="3807" y="66"/>
                      <a:pt x="3804" y="69"/>
                      <a:pt x="3801" y="71"/>
                    </a:cubicBezTo>
                    <a:cubicBezTo>
                      <a:pt x="3801" y="65"/>
                      <a:pt x="3800" y="60"/>
                      <a:pt x="3800" y="60"/>
                    </a:cubicBezTo>
                    <a:cubicBezTo>
                      <a:pt x="3800" y="64"/>
                      <a:pt x="3800" y="68"/>
                      <a:pt x="3800" y="72"/>
                    </a:cubicBezTo>
                    <a:cubicBezTo>
                      <a:pt x="3798" y="74"/>
                      <a:pt x="3797" y="75"/>
                      <a:pt x="3796" y="77"/>
                    </a:cubicBezTo>
                    <a:cubicBezTo>
                      <a:pt x="3795" y="70"/>
                      <a:pt x="3795" y="64"/>
                      <a:pt x="3795" y="64"/>
                    </a:cubicBezTo>
                    <a:cubicBezTo>
                      <a:pt x="3795" y="66"/>
                      <a:pt x="3795" y="71"/>
                      <a:pt x="3794" y="78"/>
                    </a:cubicBezTo>
                    <a:cubicBezTo>
                      <a:pt x="3791" y="81"/>
                      <a:pt x="3789" y="85"/>
                      <a:pt x="3787" y="88"/>
                    </a:cubicBezTo>
                    <a:cubicBezTo>
                      <a:pt x="3787" y="64"/>
                      <a:pt x="3786" y="42"/>
                      <a:pt x="3786" y="42"/>
                    </a:cubicBezTo>
                    <a:cubicBezTo>
                      <a:pt x="3787" y="55"/>
                      <a:pt x="3784" y="77"/>
                      <a:pt x="3782" y="96"/>
                    </a:cubicBezTo>
                    <a:cubicBezTo>
                      <a:pt x="3780" y="100"/>
                      <a:pt x="3778" y="104"/>
                      <a:pt x="3777" y="107"/>
                    </a:cubicBezTo>
                    <a:cubicBezTo>
                      <a:pt x="3776" y="107"/>
                      <a:pt x="3776" y="106"/>
                      <a:pt x="3776" y="106"/>
                    </a:cubicBezTo>
                    <a:cubicBezTo>
                      <a:pt x="3777" y="87"/>
                      <a:pt x="3780" y="70"/>
                      <a:pt x="3780" y="70"/>
                    </a:cubicBezTo>
                    <a:cubicBezTo>
                      <a:pt x="3778" y="74"/>
                      <a:pt x="3775" y="98"/>
                      <a:pt x="3773" y="117"/>
                    </a:cubicBezTo>
                    <a:cubicBezTo>
                      <a:pt x="3773" y="118"/>
                      <a:pt x="3773" y="119"/>
                      <a:pt x="3773" y="120"/>
                    </a:cubicBezTo>
                    <a:cubicBezTo>
                      <a:pt x="3773" y="119"/>
                      <a:pt x="3773" y="119"/>
                      <a:pt x="3773" y="118"/>
                    </a:cubicBezTo>
                    <a:cubicBezTo>
                      <a:pt x="3773" y="119"/>
                      <a:pt x="3773" y="119"/>
                      <a:pt x="3773" y="120"/>
                    </a:cubicBezTo>
                    <a:cubicBezTo>
                      <a:pt x="3772" y="121"/>
                      <a:pt x="3772" y="121"/>
                      <a:pt x="3772" y="122"/>
                    </a:cubicBezTo>
                    <a:cubicBezTo>
                      <a:pt x="3772" y="115"/>
                      <a:pt x="3772" y="108"/>
                      <a:pt x="3772" y="101"/>
                    </a:cubicBezTo>
                    <a:cubicBezTo>
                      <a:pt x="3772" y="101"/>
                      <a:pt x="3772" y="100"/>
                      <a:pt x="3772" y="100"/>
                    </a:cubicBezTo>
                    <a:cubicBezTo>
                      <a:pt x="3772" y="100"/>
                      <a:pt x="3772" y="101"/>
                      <a:pt x="3772" y="101"/>
                    </a:cubicBezTo>
                    <a:cubicBezTo>
                      <a:pt x="3772" y="98"/>
                      <a:pt x="3772" y="94"/>
                      <a:pt x="3771" y="91"/>
                    </a:cubicBezTo>
                    <a:cubicBezTo>
                      <a:pt x="3773" y="88"/>
                      <a:pt x="3775" y="85"/>
                      <a:pt x="3777" y="83"/>
                    </a:cubicBezTo>
                    <a:cubicBezTo>
                      <a:pt x="3775" y="85"/>
                      <a:pt x="3773" y="87"/>
                      <a:pt x="3771" y="90"/>
                    </a:cubicBezTo>
                    <a:cubicBezTo>
                      <a:pt x="3771" y="79"/>
                      <a:pt x="3770" y="69"/>
                      <a:pt x="3770" y="61"/>
                    </a:cubicBezTo>
                    <a:cubicBezTo>
                      <a:pt x="3769" y="73"/>
                      <a:pt x="3767" y="87"/>
                      <a:pt x="3765" y="100"/>
                    </a:cubicBezTo>
                    <a:cubicBezTo>
                      <a:pt x="3761" y="107"/>
                      <a:pt x="3758" y="115"/>
                      <a:pt x="3756" y="123"/>
                    </a:cubicBezTo>
                    <a:cubicBezTo>
                      <a:pt x="3757" y="109"/>
                      <a:pt x="3758" y="92"/>
                      <a:pt x="3759" y="80"/>
                    </a:cubicBezTo>
                    <a:cubicBezTo>
                      <a:pt x="3761" y="73"/>
                      <a:pt x="3762" y="67"/>
                      <a:pt x="3762" y="61"/>
                    </a:cubicBezTo>
                    <a:cubicBezTo>
                      <a:pt x="3762" y="60"/>
                      <a:pt x="3762" y="60"/>
                      <a:pt x="3762" y="60"/>
                    </a:cubicBezTo>
                    <a:cubicBezTo>
                      <a:pt x="3753" y="75"/>
                      <a:pt x="3749" y="88"/>
                      <a:pt x="3747" y="102"/>
                    </a:cubicBezTo>
                    <a:cubicBezTo>
                      <a:pt x="3747" y="102"/>
                      <a:pt x="3747" y="101"/>
                      <a:pt x="3747" y="101"/>
                    </a:cubicBezTo>
                    <a:cubicBezTo>
                      <a:pt x="3748" y="68"/>
                      <a:pt x="3751" y="30"/>
                      <a:pt x="3751" y="30"/>
                    </a:cubicBezTo>
                    <a:cubicBezTo>
                      <a:pt x="3748" y="38"/>
                      <a:pt x="3746" y="60"/>
                      <a:pt x="3743" y="83"/>
                    </a:cubicBezTo>
                    <a:cubicBezTo>
                      <a:pt x="3741" y="87"/>
                      <a:pt x="3738" y="92"/>
                      <a:pt x="3736" y="97"/>
                    </a:cubicBezTo>
                    <a:cubicBezTo>
                      <a:pt x="3736" y="91"/>
                      <a:pt x="3735" y="85"/>
                      <a:pt x="3735" y="79"/>
                    </a:cubicBezTo>
                    <a:cubicBezTo>
                      <a:pt x="3735" y="78"/>
                      <a:pt x="3735" y="78"/>
                      <a:pt x="3736" y="78"/>
                    </a:cubicBezTo>
                    <a:cubicBezTo>
                      <a:pt x="3735" y="78"/>
                      <a:pt x="3735" y="78"/>
                      <a:pt x="3735" y="78"/>
                    </a:cubicBezTo>
                    <a:cubicBezTo>
                      <a:pt x="3733" y="58"/>
                      <a:pt x="3732" y="41"/>
                      <a:pt x="3732" y="41"/>
                    </a:cubicBezTo>
                    <a:cubicBezTo>
                      <a:pt x="3733" y="52"/>
                      <a:pt x="3733" y="67"/>
                      <a:pt x="3732" y="82"/>
                    </a:cubicBezTo>
                    <a:cubicBezTo>
                      <a:pt x="3730" y="84"/>
                      <a:pt x="3728" y="87"/>
                      <a:pt x="3726" y="92"/>
                    </a:cubicBezTo>
                    <a:cubicBezTo>
                      <a:pt x="3725" y="82"/>
                      <a:pt x="3726" y="72"/>
                      <a:pt x="3726" y="68"/>
                    </a:cubicBezTo>
                    <a:cubicBezTo>
                      <a:pt x="3725" y="77"/>
                      <a:pt x="3724" y="88"/>
                      <a:pt x="3722" y="99"/>
                    </a:cubicBezTo>
                    <a:cubicBezTo>
                      <a:pt x="3720" y="94"/>
                      <a:pt x="3719" y="89"/>
                      <a:pt x="3717" y="84"/>
                    </a:cubicBezTo>
                    <a:cubicBezTo>
                      <a:pt x="3719" y="90"/>
                      <a:pt x="3720" y="96"/>
                      <a:pt x="3721" y="101"/>
                    </a:cubicBezTo>
                    <a:cubicBezTo>
                      <a:pt x="3721" y="105"/>
                      <a:pt x="3720" y="109"/>
                      <a:pt x="3719" y="113"/>
                    </a:cubicBezTo>
                    <a:cubicBezTo>
                      <a:pt x="3719" y="110"/>
                      <a:pt x="3719" y="108"/>
                      <a:pt x="3719" y="105"/>
                    </a:cubicBezTo>
                    <a:cubicBezTo>
                      <a:pt x="3718" y="108"/>
                      <a:pt x="3718" y="115"/>
                      <a:pt x="3718" y="119"/>
                    </a:cubicBezTo>
                    <a:cubicBezTo>
                      <a:pt x="3717" y="120"/>
                      <a:pt x="3717" y="122"/>
                      <a:pt x="3717" y="124"/>
                    </a:cubicBezTo>
                    <a:cubicBezTo>
                      <a:pt x="3716" y="125"/>
                      <a:pt x="3716" y="127"/>
                      <a:pt x="3716" y="128"/>
                    </a:cubicBezTo>
                    <a:cubicBezTo>
                      <a:pt x="3715" y="124"/>
                      <a:pt x="3714" y="120"/>
                      <a:pt x="3713" y="116"/>
                    </a:cubicBezTo>
                    <a:cubicBezTo>
                      <a:pt x="3714" y="108"/>
                      <a:pt x="3714" y="100"/>
                      <a:pt x="3715" y="94"/>
                    </a:cubicBezTo>
                    <a:cubicBezTo>
                      <a:pt x="3716" y="92"/>
                      <a:pt x="3716" y="91"/>
                      <a:pt x="3717" y="89"/>
                    </a:cubicBezTo>
                    <a:cubicBezTo>
                      <a:pt x="3716" y="90"/>
                      <a:pt x="3716" y="91"/>
                      <a:pt x="3715" y="92"/>
                    </a:cubicBezTo>
                    <a:cubicBezTo>
                      <a:pt x="3716" y="87"/>
                      <a:pt x="3716" y="83"/>
                      <a:pt x="3716" y="83"/>
                    </a:cubicBezTo>
                    <a:cubicBezTo>
                      <a:pt x="3716" y="85"/>
                      <a:pt x="3715" y="89"/>
                      <a:pt x="3714" y="93"/>
                    </a:cubicBezTo>
                    <a:cubicBezTo>
                      <a:pt x="3713" y="96"/>
                      <a:pt x="3711" y="99"/>
                      <a:pt x="3710" y="102"/>
                    </a:cubicBezTo>
                    <a:cubicBezTo>
                      <a:pt x="3709" y="101"/>
                      <a:pt x="3709" y="100"/>
                      <a:pt x="3709" y="99"/>
                    </a:cubicBezTo>
                    <a:cubicBezTo>
                      <a:pt x="3711" y="80"/>
                      <a:pt x="3713" y="62"/>
                      <a:pt x="3713" y="62"/>
                    </a:cubicBezTo>
                    <a:cubicBezTo>
                      <a:pt x="3711" y="66"/>
                      <a:pt x="3709" y="80"/>
                      <a:pt x="3707" y="95"/>
                    </a:cubicBezTo>
                    <a:cubicBezTo>
                      <a:pt x="3707" y="94"/>
                      <a:pt x="3706" y="92"/>
                      <a:pt x="3705" y="90"/>
                    </a:cubicBezTo>
                    <a:cubicBezTo>
                      <a:pt x="3706" y="92"/>
                      <a:pt x="3707" y="94"/>
                      <a:pt x="3707" y="96"/>
                    </a:cubicBezTo>
                    <a:cubicBezTo>
                      <a:pt x="3707" y="101"/>
                      <a:pt x="3706" y="106"/>
                      <a:pt x="3706" y="110"/>
                    </a:cubicBezTo>
                    <a:cubicBezTo>
                      <a:pt x="3705" y="113"/>
                      <a:pt x="3704" y="116"/>
                      <a:pt x="3703" y="118"/>
                    </a:cubicBezTo>
                    <a:cubicBezTo>
                      <a:pt x="3701" y="94"/>
                      <a:pt x="3696" y="64"/>
                      <a:pt x="3696" y="64"/>
                    </a:cubicBezTo>
                    <a:cubicBezTo>
                      <a:pt x="3696" y="64"/>
                      <a:pt x="3696" y="73"/>
                      <a:pt x="3697" y="82"/>
                    </a:cubicBezTo>
                    <a:cubicBezTo>
                      <a:pt x="3698" y="88"/>
                      <a:pt x="3697" y="98"/>
                      <a:pt x="3695" y="108"/>
                    </a:cubicBezTo>
                    <a:cubicBezTo>
                      <a:pt x="3694" y="111"/>
                      <a:pt x="3693" y="114"/>
                      <a:pt x="3692" y="117"/>
                    </a:cubicBezTo>
                    <a:cubicBezTo>
                      <a:pt x="3692" y="108"/>
                      <a:pt x="3691" y="99"/>
                      <a:pt x="3689" y="90"/>
                    </a:cubicBezTo>
                    <a:cubicBezTo>
                      <a:pt x="3692" y="78"/>
                      <a:pt x="3697" y="66"/>
                      <a:pt x="3696" y="56"/>
                    </a:cubicBezTo>
                    <a:cubicBezTo>
                      <a:pt x="3693" y="62"/>
                      <a:pt x="3690" y="67"/>
                      <a:pt x="3688" y="72"/>
                    </a:cubicBezTo>
                    <a:cubicBezTo>
                      <a:pt x="3691" y="34"/>
                      <a:pt x="3684" y="19"/>
                      <a:pt x="3684" y="19"/>
                    </a:cubicBezTo>
                    <a:cubicBezTo>
                      <a:pt x="3684" y="19"/>
                      <a:pt x="3687" y="31"/>
                      <a:pt x="3686" y="54"/>
                    </a:cubicBezTo>
                    <a:cubicBezTo>
                      <a:pt x="3685" y="61"/>
                      <a:pt x="3684" y="74"/>
                      <a:pt x="3682" y="88"/>
                    </a:cubicBezTo>
                    <a:cubicBezTo>
                      <a:pt x="3681" y="92"/>
                      <a:pt x="3680" y="97"/>
                      <a:pt x="3680" y="101"/>
                    </a:cubicBezTo>
                    <a:cubicBezTo>
                      <a:pt x="3679" y="98"/>
                      <a:pt x="3678" y="95"/>
                      <a:pt x="3676" y="91"/>
                    </a:cubicBezTo>
                    <a:cubicBezTo>
                      <a:pt x="3677" y="89"/>
                      <a:pt x="3677" y="87"/>
                      <a:pt x="3678" y="85"/>
                    </a:cubicBezTo>
                    <a:cubicBezTo>
                      <a:pt x="3677" y="87"/>
                      <a:pt x="3677" y="88"/>
                      <a:pt x="3676" y="90"/>
                    </a:cubicBezTo>
                    <a:cubicBezTo>
                      <a:pt x="3676" y="89"/>
                      <a:pt x="3675" y="88"/>
                      <a:pt x="3675" y="87"/>
                    </a:cubicBezTo>
                    <a:cubicBezTo>
                      <a:pt x="3675" y="83"/>
                      <a:pt x="3675" y="78"/>
                      <a:pt x="3675" y="74"/>
                    </a:cubicBezTo>
                    <a:cubicBezTo>
                      <a:pt x="3675" y="46"/>
                      <a:pt x="3665" y="40"/>
                      <a:pt x="3665" y="40"/>
                    </a:cubicBezTo>
                    <a:cubicBezTo>
                      <a:pt x="3665" y="40"/>
                      <a:pt x="3671" y="44"/>
                      <a:pt x="3671" y="70"/>
                    </a:cubicBezTo>
                    <a:cubicBezTo>
                      <a:pt x="3671" y="84"/>
                      <a:pt x="3666" y="108"/>
                      <a:pt x="3661" y="125"/>
                    </a:cubicBezTo>
                    <a:cubicBezTo>
                      <a:pt x="3661" y="123"/>
                      <a:pt x="3661" y="120"/>
                      <a:pt x="3660" y="118"/>
                    </a:cubicBezTo>
                    <a:cubicBezTo>
                      <a:pt x="3661" y="111"/>
                      <a:pt x="3662" y="105"/>
                      <a:pt x="3662" y="98"/>
                    </a:cubicBezTo>
                    <a:cubicBezTo>
                      <a:pt x="3661" y="101"/>
                      <a:pt x="3660" y="104"/>
                      <a:pt x="3660" y="107"/>
                    </a:cubicBezTo>
                    <a:cubicBezTo>
                      <a:pt x="3660" y="107"/>
                      <a:pt x="3660" y="106"/>
                      <a:pt x="3660" y="106"/>
                    </a:cubicBezTo>
                    <a:cubicBezTo>
                      <a:pt x="3660" y="97"/>
                      <a:pt x="3661" y="83"/>
                      <a:pt x="3667" y="75"/>
                    </a:cubicBezTo>
                    <a:cubicBezTo>
                      <a:pt x="3664" y="77"/>
                      <a:pt x="3661" y="82"/>
                      <a:pt x="3659" y="87"/>
                    </a:cubicBezTo>
                    <a:cubicBezTo>
                      <a:pt x="3660" y="78"/>
                      <a:pt x="3660" y="71"/>
                      <a:pt x="3660" y="71"/>
                    </a:cubicBezTo>
                    <a:cubicBezTo>
                      <a:pt x="3659" y="75"/>
                      <a:pt x="3656" y="97"/>
                      <a:pt x="3652" y="116"/>
                    </a:cubicBezTo>
                    <a:cubicBezTo>
                      <a:pt x="3652" y="114"/>
                      <a:pt x="3652" y="112"/>
                      <a:pt x="3651" y="110"/>
                    </a:cubicBezTo>
                    <a:cubicBezTo>
                      <a:pt x="3652" y="99"/>
                      <a:pt x="3653" y="87"/>
                      <a:pt x="3654" y="78"/>
                    </a:cubicBezTo>
                    <a:cubicBezTo>
                      <a:pt x="3656" y="71"/>
                      <a:pt x="3658" y="63"/>
                      <a:pt x="3660" y="55"/>
                    </a:cubicBezTo>
                    <a:cubicBezTo>
                      <a:pt x="3660" y="54"/>
                      <a:pt x="3660" y="52"/>
                      <a:pt x="3660" y="51"/>
                    </a:cubicBezTo>
                    <a:cubicBezTo>
                      <a:pt x="3658" y="54"/>
                      <a:pt x="3657" y="57"/>
                      <a:pt x="3656" y="60"/>
                    </a:cubicBezTo>
                    <a:cubicBezTo>
                      <a:pt x="3656" y="60"/>
                      <a:pt x="3656" y="59"/>
                      <a:pt x="3656" y="59"/>
                    </a:cubicBezTo>
                    <a:cubicBezTo>
                      <a:pt x="3656" y="60"/>
                      <a:pt x="3656" y="60"/>
                      <a:pt x="3656" y="60"/>
                    </a:cubicBezTo>
                    <a:cubicBezTo>
                      <a:pt x="3652" y="70"/>
                      <a:pt x="3649" y="80"/>
                      <a:pt x="3646" y="89"/>
                    </a:cubicBezTo>
                    <a:cubicBezTo>
                      <a:pt x="3652" y="30"/>
                      <a:pt x="3649" y="15"/>
                      <a:pt x="3648" y="13"/>
                    </a:cubicBezTo>
                    <a:cubicBezTo>
                      <a:pt x="3648" y="15"/>
                      <a:pt x="3649" y="22"/>
                      <a:pt x="3645" y="56"/>
                    </a:cubicBezTo>
                    <a:cubicBezTo>
                      <a:pt x="3643" y="68"/>
                      <a:pt x="3642" y="80"/>
                      <a:pt x="3640" y="91"/>
                    </a:cubicBezTo>
                    <a:cubicBezTo>
                      <a:pt x="3639" y="85"/>
                      <a:pt x="3637" y="79"/>
                      <a:pt x="3635" y="74"/>
                    </a:cubicBezTo>
                    <a:cubicBezTo>
                      <a:pt x="3636" y="51"/>
                      <a:pt x="3637" y="31"/>
                      <a:pt x="3637" y="31"/>
                    </a:cubicBezTo>
                    <a:cubicBezTo>
                      <a:pt x="3635" y="38"/>
                      <a:pt x="3633" y="53"/>
                      <a:pt x="3632" y="69"/>
                    </a:cubicBezTo>
                    <a:cubicBezTo>
                      <a:pt x="3631" y="68"/>
                      <a:pt x="3630" y="67"/>
                      <a:pt x="3629" y="65"/>
                    </a:cubicBezTo>
                    <a:cubicBezTo>
                      <a:pt x="3630" y="67"/>
                      <a:pt x="3631" y="69"/>
                      <a:pt x="3632" y="71"/>
                    </a:cubicBezTo>
                    <a:cubicBezTo>
                      <a:pt x="3632" y="71"/>
                      <a:pt x="3632" y="72"/>
                      <a:pt x="3632" y="73"/>
                    </a:cubicBezTo>
                    <a:cubicBezTo>
                      <a:pt x="3629" y="77"/>
                      <a:pt x="3626" y="81"/>
                      <a:pt x="3624" y="86"/>
                    </a:cubicBezTo>
                    <a:cubicBezTo>
                      <a:pt x="3623" y="85"/>
                      <a:pt x="3623" y="84"/>
                      <a:pt x="3622" y="83"/>
                    </a:cubicBezTo>
                    <a:cubicBezTo>
                      <a:pt x="3619" y="61"/>
                      <a:pt x="3617" y="38"/>
                      <a:pt x="3614" y="28"/>
                    </a:cubicBezTo>
                    <a:cubicBezTo>
                      <a:pt x="3614" y="28"/>
                      <a:pt x="3617" y="54"/>
                      <a:pt x="3621" y="83"/>
                    </a:cubicBezTo>
                    <a:cubicBezTo>
                      <a:pt x="3620" y="82"/>
                      <a:pt x="3619" y="81"/>
                      <a:pt x="3618" y="80"/>
                    </a:cubicBezTo>
                    <a:cubicBezTo>
                      <a:pt x="3620" y="81"/>
                      <a:pt x="3621" y="82"/>
                      <a:pt x="3622" y="84"/>
                    </a:cubicBezTo>
                    <a:cubicBezTo>
                      <a:pt x="3622" y="85"/>
                      <a:pt x="3622" y="86"/>
                      <a:pt x="3622" y="88"/>
                    </a:cubicBezTo>
                    <a:cubicBezTo>
                      <a:pt x="3622" y="86"/>
                      <a:pt x="3622" y="85"/>
                      <a:pt x="3622" y="84"/>
                    </a:cubicBezTo>
                    <a:cubicBezTo>
                      <a:pt x="3622" y="85"/>
                      <a:pt x="3623" y="86"/>
                      <a:pt x="3624" y="87"/>
                    </a:cubicBezTo>
                    <a:cubicBezTo>
                      <a:pt x="3623" y="88"/>
                      <a:pt x="3623" y="89"/>
                      <a:pt x="3622" y="90"/>
                    </a:cubicBezTo>
                    <a:cubicBezTo>
                      <a:pt x="3622" y="89"/>
                      <a:pt x="3622" y="88"/>
                      <a:pt x="3622" y="88"/>
                    </a:cubicBezTo>
                    <a:cubicBezTo>
                      <a:pt x="3622" y="88"/>
                      <a:pt x="3622" y="89"/>
                      <a:pt x="3622" y="90"/>
                    </a:cubicBezTo>
                    <a:cubicBezTo>
                      <a:pt x="3620" y="95"/>
                      <a:pt x="3619" y="100"/>
                      <a:pt x="3617" y="105"/>
                    </a:cubicBezTo>
                    <a:cubicBezTo>
                      <a:pt x="3617" y="105"/>
                      <a:pt x="3617" y="105"/>
                      <a:pt x="3617" y="105"/>
                    </a:cubicBezTo>
                    <a:cubicBezTo>
                      <a:pt x="3617" y="104"/>
                      <a:pt x="3617" y="104"/>
                      <a:pt x="3617" y="103"/>
                    </a:cubicBezTo>
                    <a:cubicBezTo>
                      <a:pt x="3617" y="104"/>
                      <a:pt x="3617" y="104"/>
                      <a:pt x="3617" y="105"/>
                    </a:cubicBezTo>
                    <a:cubicBezTo>
                      <a:pt x="3614" y="95"/>
                      <a:pt x="3612" y="87"/>
                      <a:pt x="3610" y="81"/>
                    </a:cubicBezTo>
                    <a:cubicBezTo>
                      <a:pt x="3611" y="85"/>
                      <a:pt x="3612" y="90"/>
                      <a:pt x="3613" y="95"/>
                    </a:cubicBezTo>
                    <a:cubicBezTo>
                      <a:pt x="3613" y="100"/>
                      <a:pt x="3612" y="104"/>
                      <a:pt x="3611" y="109"/>
                    </a:cubicBezTo>
                    <a:cubicBezTo>
                      <a:pt x="3612" y="104"/>
                      <a:pt x="3613" y="100"/>
                      <a:pt x="3613" y="95"/>
                    </a:cubicBezTo>
                    <a:cubicBezTo>
                      <a:pt x="3614" y="100"/>
                      <a:pt x="3615" y="105"/>
                      <a:pt x="3616" y="110"/>
                    </a:cubicBezTo>
                    <a:cubicBezTo>
                      <a:pt x="3616" y="110"/>
                      <a:pt x="3616" y="111"/>
                      <a:pt x="3616" y="111"/>
                    </a:cubicBezTo>
                    <a:cubicBezTo>
                      <a:pt x="3615" y="116"/>
                      <a:pt x="3613" y="122"/>
                      <a:pt x="3610" y="127"/>
                    </a:cubicBezTo>
                    <a:cubicBezTo>
                      <a:pt x="3610" y="125"/>
                      <a:pt x="3609" y="123"/>
                      <a:pt x="3609" y="120"/>
                    </a:cubicBezTo>
                    <a:cubicBezTo>
                      <a:pt x="3610" y="117"/>
                      <a:pt x="3611" y="113"/>
                      <a:pt x="3611" y="109"/>
                    </a:cubicBezTo>
                    <a:cubicBezTo>
                      <a:pt x="3611" y="112"/>
                      <a:pt x="3610" y="116"/>
                      <a:pt x="3609" y="119"/>
                    </a:cubicBezTo>
                    <a:cubicBezTo>
                      <a:pt x="3607" y="111"/>
                      <a:pt x="3605" y="103"/>
                      <a:pt x="3605" y="95"/>
                    </a:cubicBezTo>
                    <a:cubicBezTo>
                      <a:pt x="3605" y="96"/>
                      <a:pt x="3605" y="96"/>
                      <a:pt x="3605" y="96"/>
                    </a:cubicBezTo>
                    <a:cubicBezTo>
                      <a:pt x="3605" y="98"/>
                      <a:pt x="3605" y="98"/>
                      <a:pt x="3605" y="98"/>
                    </a:cubicBezTo>
                    <a:cubicBezTo>
                      <a:pt x="3605" y="97"/>
                      <a:pt x="3605" y="96"/>
                      <a:pt x="3605" y="95"/>
                    </a:cubicBezTo>
                    <a:cubicBezTo>
                      <a:pt x="3605" y="84"/>
                      <a:pt x="3603" y="69"/>
                      <a:pt x="3597" y="60"/>
                    </a:cubicBezTo>
                    <a:cubicBezTo>
                      <a:pt x="3601" y="70"/>
                      <a:pt x="3603" y="82"/>
                      <a:pt x="3603" y="93"/>
                    </a:cubicBezTo>
                    <a:cubicBezTo>
                      <a:pt x="3603" y="101"/>
                      <a:pt x="3601" y="109"/>
                      <a:pt x="3599" y="116"/>
                    </a:cubicBezTo>
                    <a:cubicBezTo>
                      <a:pt x="3597" y="115"/>
                      <a:pt x="3597" y="117"/>
                      <a:pt x="3598" y="120"/>
                    </a:cubicBezTo>
                    <a:cubicBezTo>
                      <a:pt x="3598" y="121"/>
                      <a:pt x="3597" y="121"/>
                      <a:pt x="3597" y="122"/>
                    </a:cubicBezTo>
                    <a:cubicBezTo>
                      <a:pt x="3596" y="119"/>
                      <a:pt x="3595" y="115"/>
                      <a:pt x="3594" y="112"/>
                    </a:cubicBezTo>
                    <a:cubicBezTo>
                      <a:pt x="3595" y="107"/>
                      <a:pt x="3595" y="103"/>
                      <a:pt x="3595" y="98"/>
                    </a:cubicBezTo>
                    <a:cubicBezTo>
                      <a:pt x="3595" y="90"/>
                      <a:pt x="3594" y="82"/>
                      <a:pt x="3592" y="74"/>
                    </a:cubicBezTo>
                    <a:cubicBezTo>
                      <a:pt x="3591" y="83"/>
                      <a:pt x="3591" y="93"/>
                      <a:pt x="3591" y="102"/>
                    </a:cubicBezTo>
                    <a:cubicBezTo>
                      <a:pt x="3588" y="94"/>
                      <a:pt x="3585" y="86"/>
                      <a:pt x="3583" y="81"/>
                    </a:cubicBezTo>
                    <a:cubicBezTo>
                      <a:pt x="3583" y="86"/>
                      <a:pt x="3583" y="86"/>
                      <a:pt x="3583" y="86"/>
                    </a:cubicBezTo>
                    <a:cubicBezTo>
                      <a:pt x="3583" y="97"/>
                      <a:pt x="3586" y="108"/>
                      <a:pt x="3590" y="118"/>
                    </a:cubicBezTo>
                    <a:cubicBezTo>
                      <a:pt x="3589" y="119"/>
                      <a:pt x="3589" y="120"/>
                      <a:pt x="3589" y="121"/>
                    </a:cubicBezTo>
                    <a:cubicBezTo>
                      <a:pt x="3589" y="123"/>
                      <a:pt x="3588" y="126"/>
                      <a:pt x="3587" y="128"/>
                    </a:cubicBezTo>
                    <a:cubicBezTo>
                      <a:pt x="3584" y="121"/>
                      <a:pt x="3582" y="113"/>
                      <a:pt x="3580" y="106"/>
                    </a:cubicBezTo>
                    <a:cubicBezTo>
                      <a:pt x="3580" y="101"/>
                      <a:pt x="3579" y="96"/>
                      <a:pt x="3578" y="92"/>
                    </a:cubicBezTo>
                    <a:cubicBezTo>
                      <a:pt x="3578" y="91"/>
                      <a:pt x="3578" y="90"/>
                      <a:pt x="3578" y="89"/>
                    </a:cubicBezTo>
                    <a:cubicBezTo>
                      <a:pt x="3578" y="90"/>
                      <a:pt x="3578" y="90"/>
                      <a:pt x="3578" y="91"/>
                    </a:cubicBezTo>
                    <a:cubicBezTo>
                      <a:pt x="3577" y="85"/>
                      <a:pt x="3575" y="79"/>
                      <a:pt x="3572" y="73"/>
                    </a:cubicBezTo>
                    <a:cubicBezTo>
                      <a:pt x="3572" y="72"/>
                      <a:pt x="3572" y="72"/>
                      <a:pt x="3572" y="71"/>
                    </a:cubicBezTo>
                    <a:cubicBezTo>
                      <a:pt x="3572" y="71"/>
                      <a:pt x="3571" y="72"/>
                      <a:pt x="3571" y="73"/>
                    </a:cubicBezTo>
                    <a:cubicBezTo>
                      <a:pt x="3571" y="72"/>
                      <a:pt x="3571" y="71"/>
                      <a:pt x="3570" y="71"/>
                    </a:cubicBezTo>
                    <a:cubicBezTo>
                      <a:pt x="3570" y="72"/>
                      <a:pt x="3571" y="73"/>
                      <a:pt x="3571" y="73"/>
                    </a:cubicBezTo>
                    <a:cubicBezTo>
                      <a:pt x="3568" y="79"/>
                      <a:pt x="3566" y="85"/>
                      <a:pt x="3564" y="91"/>
                    </a:cubicBezTo>
                    <a:cubicBezTo>
                      <a:pt x="3564" y="90"/>
                      <a:pt x="3564" y="90"/>
                      <a:pt x="3564" y="89"/>
                    </a:cubicBezTo>
                    <a:cubicBezTo>
                      <a:pt x="3564" y="90"/>
                      <a:pt x="3564" y="91"/>
                      <a:pt x="3564" y="92"/>
                    </a:cubicBezTo>
                    <a:cubicBezTo>
                      <a:pt x="3563" y="96"/>
                      <a:pt x="3563" y="101"/>
                      <a:pt x="3562" y="106"/>
                    </a:cubicBezTo>
                    <a:cubicBezTo>
                      <a:pt x="3561" y="113"/>
                      <a:pt x="3558" y="121"/>
                      <a:pt x="3555" y="128"/>
                    </a:cubicBezTo>
                    <a:cubicBezTo>
                      <a:pt x="3554" y="126"/>
                      <a:pt x="3554" y="123"/>
                      <a:pt x="3553" y="121"/>
                    </a:cubicBezTo>
                    <a:cubicBezTo>
                      <a:pt x="3553" y="120"/>
                      <a:pt x="3553" y="119"/>
                      <a:pt x="3553" y="118"/>
                    </a:cubicBezTo>
                    <a:cubicBezTo>
                      <a:pt x="3556" y="108"/>
                      <a:pt x="3559" y="97"/>
                      <a:pt x="3559" y="86"/>
                    </a:cubicBezTo>
                    <a:cubicBezTo>
                      <a:pt x="3559" y="81"/>
                      <a:pt x="3559" y="81"/>
                      <a:pt x="3559" y="81"/>
                    </a:cubicBezTo>
                    <a:cubicBezTo>
                      <a:pt x="3557" y="86"/>
                      <a:pt x="3554" y="94"/>
                      <a:pt x="3551" y="102"/>
                    </a:cubicBezTo>
                    <a:cubicBezTo>
                      <a:pt x="3551" y="93"/>
                      <a:pt x="3551" y="83"/>
                      <a:pt x="3550" y="74"/>
                    </a:cubicBezTo>
                    <a:cubicBezTo>
                      <a:pt x="3548" y="82"/>
                      <a:pt x="3547" y="90"/>
                      <a:pt x="3547" y="98"/>
                    </a:cubicBezTo>
                    <a:cubicBezTo>
                      <a:pt x="3547" y="103"/>
                      <a:pt x="3548" y="107"/>
                      <a:pt x="3548" y="112"/>
                    </a:cubicBezTo>
                    <a:cubicBezTo>
                      <a:pt x="3547" y="115"/>
                      <a:pt x="3546" y="119"/>
                      <a:pt x="3545" y="122"/>
                    </a:cubicBezTo>
                    <a:cubicBezTo>
                      <a:pt x="3542" y="112"/>
                      <a:pt x="3539" y="103"/>
                      <a:pt x="3539" y="93"/>
                    </a:cubicBezTo>
                    <a:cubicBezTo>
                      <a:pt x="3539" y="82"/>
                      <a:pt x="3541" y="70"/>
                      <a:pt x="3545" y="60"/>
                    </a:cubicBezTo>
                    <a:cubicBezTo>
                      <a:pt x="3540" y="69"/>
                      <a:pt x="3538" y="84"/>
                      <a:pt x="3538" y="95"/>
                    </a:cubicBezTo>
                    <a:cubicBezTo>
                      <a:pt x="3538" y="96"/>
                      <a:pt x="3538" y="97"/>
                      <a:pt x="3538" y="98"/>
                    </a:cubicBezTo>
                    <a:cubicBezTo>
                      <a:pt x="3537" y="96"/>
                      <a:pt x="3537" y="96"/>
                      <a:pt x="3537" y="96"/>
                    </a:cubicBezTo>
                    <a:cubicBezTo>
                      <a:pt x="3537" y="95"/>
                      <a:pt x="3537" y="95"/>
                      <a:pt x="3537" y="95"/>
                    </a:cubicBezTo>
                    <a:cubicBezTo>
                      <a:pt x="3537" y="103"/>
                      <a:pt x="3536" y="111"/>
                      <a:pt x="3534" y="119"/>
                    </a:cubicBezTo>
                    <a:cubicBezTo>
                      <a:pt x="3533" y="116"/>
                      <a:pt x="3532" y="112"/>
                      <a:pt x="3531" y="109"/>
                    </a:cubicBezTo>
                    <a:cubicBezTo>
                      <a:pt x="3532" y="113"/>
                      <a:pt x="3533" y="117"/>
                      <a:pt x="3533" y="120"/>
                    </a:cubicBezTo>
                    <a:cubicBezTo>
                      <a:pt x="3533" y="123"/>
                      <a:pt x="3532" y="125"/>
                      <a:pt x="3532" y="127"/>
                    </a:cubicBezTo>
                    <a:cubicBezTo>
                      <a:pt x="3530" y="122"/>
                      <a:pt x="3528" y="116"/>
                      <a:pt x="3526" y="111"/>
                    </a:cubicBezTo>
                    <a:cubicBezTo>
                      <a:pt x="3526" y="109"/>
                      <a:pt x="3526" y="108"/>
                      <a:pt x="3525" y="107"/>
                    </a:cubicBezTo>
                    <a:cubicBezTo>
                      <a:pt x="3525" y="106"/>
                      <a:pt x="3525" y="104"/>
                      <a:pt x="3525" y="103"/>
                    </a:cubicBezTo>
                    <a:cubicBezTo>
                      <a:pt x="3525" y="104"/>
                      <a:pt x="3525" y="105"/>
                      <a:pt x="3525" y="105"/>
                    </a:cubicBezTo>
                    <a:cubicBezTo>
                      <a:pt x="3524" y="99"/>
                      <a:pt x="3522" y="93"/>
                      <a:pt x="3519" y="87"/>
                    </a:cubicBezTo>
                    <a:cubicBezTo>
                      <a:pt x="3520" y="84"/>
                      <a:pt x="3522" y="82"/>
                      <a:pt x="3524" y="80"/>
                    </a:cubicBezTo>
                    <a:cubicBezTo>
                      <a:pt x="3522" y="82"/>
                      <a:pt x="3520" y="84"/>
                      <a:pt x="3518" y="86"/>
                    </a:cubicBezTo>
                    <a:cubicBezTo>
                      <a:pt x="3516" y="81"/>
                      <a:pt x="3513" y="77"/>
                      <a:pt x="3510" y="73"/>
                    </a:cubicBezTo>
                    <a:cubicBezTo>
                      <a:pt x="3513" y="77"/>
                      <a:pt x="3515" y="83"/>
                      <a:pt x="3516" y="90"/>
                    </a:cubicBezTo>
                    <a:cubicBezTo>
                      <a:pt x="3514" y="94"/>
                      <a:pt x="3512" y="99"/>
                      <a:pt x="3512" y="103"/>
                    </a:cubicBezTo>
                    <a:cubicBezTo>
                      <a:pt x="3510" y="97"/>
                      <a:pt x="3508" y="91"/>
                      <a:pt x="3506" y="85"/>
                    </a:cubicBezTo>
                    <a:cubicBezTo>
                      <a:pt x="3508" y="91"/>
                      <a:pt x="3508" y="97"/>
                      <a:pt x="3508" y="103"/>
                    </a:cubicBezTo>
                    <a:cubicBezTo>
                      <a:pt x="3508" y="108"/>
                      <a:pt x="3507" y="114"/>
                      <a:pt x="3507" y="119"/>
                    </a:cubicBezTo>
                    <a:cubicBezTo>
                      <a:pt x="3505" y="111"/>
                      <a:pt x="3504" y="104"/>
                      <a:pt x="3504" y="96"/>
                    </a:cubicBezTo>
                    <a:cubicBezTo>
                      <a:pt x="3504" y="87"/>
                      <a:pt x="3508" y="73"/>
                      <a:pt x="3513" y="65"/>
                    </a:cubicBezTo>
                    <a:cubicBezTo>
                      <a:pt x="3504" y="76"/>
                      <a:pt x="3500" y="96"/>
                      <a:pt x="3500" y="108"/>
                    </a:cubicBezTo>
                    <a:cubicBezTo>
                      <a:pt x="3500" y="119"/>
                      <a:pt x="3503" y="130"/>
                      <a:pt x="3503" y="141"/>
                    </a:cubicBezTo>
                    <a:cubicBezTo>
                      <a:pt x="3503" y="146"/>
                      <a:pt x="3503" y="150"/>
                      <a:pt x="3502" y="154"/>
                    </a:cubicBezTo>
                    <a:cubicBezTo>
                      <a:pt x="3496" y="135"/>
                      <a:pt x="3501" y="113"/>
                      <a:pt x="3497" y="93"/>
                    </a:cubicBezTo>
                    <a:cubicBezTo>
                      <a:pt x="3494" y="79"/>
                      <a:pt x="3489" y="64"/>
                      <a:pt x="3483" y="51"/>
                    </a:cubicBezTo>
                    <a:cubicBezTo>
                      <a:pt x="3482" y="52"/>
                      <a:pt x="3482" y="54"/>
                      <a:pt x="3482" y="55"/>
                    </a:cubicBezTo>
                    <a:cubicBezTo>
                      <a:pt x="3489" y="76"/>
                      <a:pt x="3491" y="92"/>
                      <a:pt x="3492" y="105"/>
                    </a:cubicBezTo>
                    <a:cubicBezTo>
                      <a:pt x="3491" y="109"/>
                      <a:pt x="3490" y="114"/>
                      <a:pt x="3490" y="118"/>
                    </a:cubicBezTo>
                    <a:cubicBezTo>
                      <a:pt x="3488" y="101"/>
                      <a:pt x="3484" y="82"/>
                      <a:pt x="3475" y="75"/>
                    </a:cubicBezTo>
                    <a:cubicBezTo>
                      <a:pt x="3481" y="83"/>
                      <a:pt x="3483" y="97"/>
                      <a:pt x="3483" y="106"/>
                    </a:cubicBezTo>
                    <a:cubicBezTo>
                      <a:pt x="3483" y="106"/>
                      <a:pt x="3483" y="107"/>
                      <a:pt x="3483" y="107"/>
                    </a:cubicBezTo>
                    <a:cubicBezTo>
                      <a:pt x="3482" y="104"/>
                      <a:pt x="3481" y="101"/>
                      <a:pt x="3481" y="98"/>
                    </a:cubicBezTo>
                    <a:cubicBezTo>
                      <a:pt x="3481" y="105"/>
                      <a:pt x="3481" y="111"/>
                      <a:pt x="3482" y="118"/>
                    </a:cubicBezTo>
                    <a:cubicBezTo>
                      <a:pt x="3482" y="122"/>
                      <a:pt x="3481" y="126"/>
                      <a:pt x="3480" y="130"/>
                    </a:cubicBezTo>
                    <a:cubicBezTo>
                      <a:pt x="3479" y="124"/>
                      <a:pt x="3477" y="118"/>
                      <a:pt x="3476" y="113"/>
                    </a:cubicBezTo>
                    <a:cubicBezTo>
                      <a:pt x="3477" y="121"/>
                      <a:pt x="3479" y="128"/>
                      <a:pt x="3479" y="136"/>
                    </a:cubicBezTo>
                    <a:cubicBezTo>
                      <a:pt x="3478" y="140"/>
                      <a:pt x="3477" y="144"/>
                      <a:pt x="3477" y="148"/>
                    </a:cubicBezTo>
                    <a:cubicBezTo>
                      <a:pt x="3477" y="147"/>
                      <a:pt x="3476" y="147"/>
                      <a:pt x="3476" y="146"/>
                    </a:cubicBezTo>
                    <a:cubicBezTo>
                      <a:pt x="3477" y="129"/>
                      <a:pt x="3474" y="106"/>
                      <a:pt x="3467" y="91"/>
                    </a:cubicBezTo>
                    <a:cubicBezTo>
                      <a:pt x="3468" y="88"/>
                      <a:pt x="3468" y="85"/>
                      <a:pt x="3470" y="83"/>
                    </a:cubicBezTo>
                    <a:cubicBezTo>
                      <a:pt x="3468" y="85"/>
                      <a:pt x="3467" y="88"/>
                      <a:pt x="3466" y="90"/>
                    </a:cubicBezTo>
                    <a:cubicBezTo>
                      <a:pt x="3466" y="88"/>
                      <a:pt x="3465" y="87"/>
                      <a:pt x="3464" y="85"/>
                    </a:cubicBezTo>
                    <a:cubicBezTo>
                      <a:pt x="3465" y="87"/>
                      <a:pt x="3466" y="89"/>
                      <a:pt x="3466" y="91"/>
                    </a:cubicBezTo>
                    <a:cubicBezTo>
                      <a:pt x="3465" y="95"/>
                      <a:pt x="3464" y="98"/>
                      <a:pt x="3463" y="101"/>
                    </a:cubicBezTo>
                    <a:cubicBezTo>
                      <a:pt x="3461" y="94"/>
                      <a:pt x="3460" y="87"/>
                      <a:pt x="3457" y="79"/>
                    </a:cubicBezTo>
                    <a:cubicBezTo>
                      <a:pt x="3457" y="78"/>
                      <a:pt x="3457" y="76"/>
                      <a:pt x="3457" y="75"/>
                    </a:cubicBezTo>
                    <a:cubicBezTo>
                      <a:pt x="3457" y="76"/>
                      <a:pt x="3457" y="77"/>
                      <a:pt x="3456" y="78"/>
                    </a:cubicBezTo>
                    <a:cubicBezTo>
                      <a:pt x="3454" y="71"/>
                      <a:pt x="3450" y="64"/>
                      <a:pt x="3446" y="56"/>
                    </a:cubicBezTo>
                    <a:cubicBezTo>
                      <a:pt x="3446" y="66"/>
                      <a:pt x="3450" y="78"/>
                      <a:pt x="3453" y="90"/>
                    </a:cubicBezTo>
                    <a:cubicBezTo>
                      <a:pt x="3451" y="99"/>
                      <a:pt x="3451" y="108"/>
                      <a:pt x="3450" y="117"/>
                    </a:cubicBezTo>
                    <a:cubicBezTo>
                      <a:pt x="3449" y="112"/>
                      <a:pt x="3447" y="107"/>
                      <a:pt x="3446" y="103"/>
                    </a:cubicBezTo>
                    <a:cubicBezTo>
                      <a:pt x="3448" y="109"/>
                      <a:pt x="3446" y="132"/>
                      <a:pt x="3446" y="140"/>
                    </a:cubicBezTo>
                    <a:cubicBezTo>
                      <a:pt x="3446" y="144"/>
                      <a:pt x="3446" y="147"/>
                      <a:pt x="3446" y="151"/>
                    </a:cubicBezTo>
                    <a:cubicBezTo>
                      <a:pt x="3446" y="151"/>
                      <a:pt x="3446" y="151"/>
                      <a:pt x="3446" y="151"/>
                    </a:cubicBezTo>
                    <a:cubicBezTo>
                      <a:pt x="3446" y="144"/>
                      <a:pt x="3445" y="137"/>
                      <a:pt x="3443" y="129"/>
                    </a:cubicBezTo>
                    <a:cubicBezTo>
                      <a:pt x="3441" y="119"/>
                      <a:pt x="3440" y="110"/>
                      <a:pt x="3441" y="100"/>
                    </a:cubicBezTo>
                    <a:cubicBezTo>
                      <a:pt x="3440" y="107"/>
                      <a:pt x="3440" y="113"/>
                      <a:pt x="3440" y="119"/>
                    </a:cubicBezTo>
                    <a:cubicBezTo>
                      <a:pt x="3438" y="114"/>
                      <a:pt x="3436" y="108"/>
                      <a:pt x="3434" y="103"/>
                    </a:cubicBezTo>
                    <a:cubicBezTo>
                      <a:pt x="3434" y="99"/>
                      <a:pt x="3435" y="95"/>
                      <a:pt x="3437" y="90"/>
                    </a:cubicBezTo>
                    <a:cubicBezTo>
                      <a:pt x="3435" y="94"/>
                      <a:pt x="3434" y="98"/>
                      <a:pt x="3433" y="102"/>
                    </a:cubicBezTo>
                    <a:cubicBezTo>
                      <a:pt x="3430" y="97"/>
                      <a:pt x="3428" y="93"/>
                      <a:pt x="3425" y="89"/>
                    </a:cubicBezTo>
                    <a:cubicBezTo>
                      <a:pt x="3428" y="93"/>
                      <a:pt x="3428" y="99"/>
                      <a:pt x="3428" y="103"/>
                    </a:cubicBezTo>
                    <a:cubicBezTo>
                      <a:pt x="3428" y="104"/>
                      <a:pt x="3429" y="109"/>
                      <a:pt x="3429" y="115"/>
                    </a:cubicBezTo>
                    <a:cubicBezTo>
                      <a:pt x="3428" y="120"/>
                      <a:pt x="3427" y="124"/>
                      <a:pt x="3427" y="129"/>
                    </a:cubicBezTo>
                    <a:cubicBezTo>
                      <a:pt x="3426" y="125"/>
                      <a:pt x="3425" y="122"/>
                      <a:pt x="3425" y="119"/>
                    </a:cubicBezTo>
                    <a:cubicBezTo>
                      <a:pt x="3425" y="115"/>
                      <a:pt x="3425" y="108"/>
                      <a:pt x="3424" y="105"/>
                    </a:cubicBezTo>
                    <a:cubicBezTo>
                      <a:pt x="3423" y="108"/>
                      <a:pt x="3423" y="110"/>
                      <a:pt x="3423" y="113"/>
                    </a:cubicBezTo>
                    <a:cubicBezTo>
                      <a:pt x="3422" y="109"/>
                      <a:pt x="3421" y="106"/>
                      <a:pt x="3421" y="103"/>
                    </a:cubicBezTo>
                    <a:cubicBezTo>
                      <a:pt x="3422" y="97"/>
                      <a:pt x="3423" y="90"/>
                      <a:pt x="3426" y="84"/>
                    </a:cubicBezTo>
                    <a:cubicBezTo>
                      <a:pt x="3423" y="90"/>
                      <a:pt x="3421" y="95"/>
                      <a:pt x="3420" y="101"/>
                    </a:cubicBezTo>
                    <a:cubicBezTo>
                      <a:pt x="3415" y="86"/>
                      <a:pt x="3412" y="83"/>
                      <a:pt x="3407" y="78"/>
                    </a:cubicBezTo>
                    <a:cubicBezTo>
                      <a:pt x="3414" y="84"/>
                      <a:pt x="3417" y="97"/>
                      <a:pt x="3418" y="107"/>
                    </a:cubicBezTo>
                    <a:cubicBezTo>
                      <a:pt x="3417" y="114"/>
                      <a:pt x="3415" y="120"/>
                      <a:pt x="3414" y="126"/>
                    </a:cubicBezTo>
                    <a:cubicBezTo>
                      <a:pt x="3413" y="121"/>
                      <a:pt x="3412" y="115"/>
                      <a:pt x="3410" y="109"/>
                    </a:cubicBezTo>
                    <a:cubicBezTo>
                      <a:pt x="3411" y="106"/>
                      <a:pt x="3411" y="103"/>
                      <a:pt x="3412" y="100"/>
                    </a:cubicBezTo>
                    <a:cubicBezTo>
                      <a:pt x="3411" y="102"/>
                      <a:pt x="3411" y="104"/>
                      <a:pt x="3410" y="108"/>
                    </a:cubicBezTo>
                    <a:cubicBezTo>
                      <a:pt x="3409" y="106"/>
                      <a:pt x="3408" y="103"/>
                      <a:pt x="3408" y="101"/>
                    </a:cubicBezTo>
                    <a:cubicBezTo>
                      <a:pt x="3408" y="100"/>
                      <a:pt x="3408" y="99"/>
                      <a:pt x="3409" y="98"/>
                    </a:cubicBezTo>
                    <a:cubicBezTo>
                      <a:pt x="3408" y="99"/>
                      <a:pt x="3408" y="100"/>
                      <a:pt x="3408" y="101"/>
                    </a:cubicBezTo>
                    <a:cubicBezTo>
                      <a:pt x="3405" y="94"/>
                      <a:pt x="3402" y="87"/>
                      <a:pt x="3398" y="81"/>
                    </a:cubicBezTo>
                    <a:cubicBezTo>
                      <a:pt x="3402" y="88"/>
                      <a:pt x="3403" y="99"/>
                      <a:pt x="3403" y="106"/>
                    </a:cubicBezTo>
                    <a:cubicBezTo>
                      <a:pt x="3403" y="111"/>
                      <a:pt x="3402" y="115"/>
                      <a:pt x="3402" y="120"/>
                    </a:cubicBezTo>
                    <a:cubicBezTo>
                      <a:pt x="3400" y="126"/>
                      <a:pt x="3398" y="133"/>
                      <a:pt x="3397" y="139"/>
                    </a:cubicBezTo>
                    <a:cubicBezTo>
                      <a:pt x="3397" y="135"/>
                      <a:pt x="3397" y="135"/>
                      <a:pt x="3397" y="135"/>
                    </a:cubicBezTo>
                    <a:cubicBezTo>
                      <a:pt x="3398" y="127"/>
                      <a:pt x="3398" y="120"/>
                      <a:pt x="3399" y="113"/>
                    </a:cubicBezTo>
                    <a:cubicBezTo>
                      <a:pt x="3398" y="117"/>
                      <a:pt x="3398" y="123"/>
                      <a:pt x="3397" y="129"/>
                    </a:cubicBezTo>
                    <a:cubicBezTo>
                      <a:pt x="3397" y="120"/>
                      <a:pt x="3397" y="111"/>
                      <a:pt x="3395" y="103"/>
                    </a:cubicBezTo>
                    <a:cubicBezTo>
                      <a:pt x="3396" y="101"/>
                      <a:pt x="3397" y="100"/>
                      <a:pt x="3397" y="99"/>
                    </a:cubicBezTo>
                    <a:cubicBezTo>
                      <a:pt x="3397" y="100"/>
                      <a:pt x="3396" y="101"/>
                      <a:pt x="3395" y="102"/>
                    </a:cubicBezTo>
                    <a:cubicBezTo>
                      <a:pt x="3393" y="88"/>
                      <a:pt x="3389" y="75"/>
                      <a:pt x="3380" y="60"/>
                    </a:cubicBezTo>
                    <a:cubicBezTo>
                      <a:pt x="3380" y="61"/>
                      <a:pt x="3380" y="61"/>
                      <a:pt x="3380" y="61"/>
                    </a:cubicBezTo>
                    <a:cubicBezTo>
                      <a:pt x="3380" y="76"/>
                      <a:pt x="3390" y="94"/>
                      <a:pt x="3390" y="111"/>
                    </a:cubicBezTo>
                    <a:cubicBezTo>
                      <a:pt x="3389" y="115"/>
                      <a:pt x="3388" y="120"/>
                      <a:pt x="3387" y="125"/>
                    </a:cubicBezTo>
                    <a:cubicBezTo>
                      <a:pt x="3383" y="109"/>
                      <a:pt x="3376" y="94"/>
                      <a:pt x="3365" y="83"/>
                    </a:cubicBezTo>
                    <a:cubicBezTo>
                      <a:pt x="3372" y="90"/>
                      <a:pt x="3376" y="101"/>
                      <a:pt x="3378" y="111"/>
                    </a:cubicBezTo>
                    <a:cubicBezTo>
                      <a:pt x="3377" y="111"/>
                      <a:pt x="3377" y="110"/>
                      <a:pt x="3377" y="109"/>
                    </a:cubicBezTo>
                    <a:cubicBezTo>
                      <a:pt x="3377" y="117"/>
                      <a:pt x="3378" y="126"/>
                      <a:pt x="3378" y="134"/>
                    </a:cubicBezTo>
                    <a:cubicBezTo>
                      <a:pt x="3378" y="136"/>
                      <a:pt x="3378" y="138"/>
                      <a:pt x="3378" y="140"/>
                    </a:cubicBezTo>
                    <a:cubicBezTo>
                      <a:pt x="3375" y="127"/>
                      <a:pt x="3374" y="113"/>
                      <a:pt x="3370" y="100"/>
                    </a:cubicBezTo>
                    <a:cubicBezTo>
                      <a:pt x="3372" y="109"/>
                      <a:pt x="3372" y="123"/>
                      <a:pt x="3372" y="135"/>
                    </a:cubicBezTo>
                    <a:cubicBezTo>
                      <a:pt x="3373" y="138"/>
                      <a:pt x="3373" y="141"/>
                      <a:pt x="3373" y="144"/>
                    </a:cubicBezTo>
                    <a:cubicBezTo>
                      <a:pt x="3373" y="143"/>
                      <a:pt x="3373" y="142"/>
                      <a:pt x="3373" y="142"/>
                    </a:cubicBezTo>
                    <a:cubicBezTo>
                      <a:pt x="3372" y="139"/>
                      <a:pt x="3372" y="137"/>
                      <a:pt x="3372" y="135"/>
                    </a:cubicBezTo>
                    <a:cubicBezTo>
                      <a:pt x="3372" y="130"/>
                      <a:pt x="3371" y="125"/>
                      <a:pt x="3370" y="120"/>
                    </a:cubicBezTo>
                    <a:cubicBezTo>
                      <a:pt x="3370" y="119"/>
                      <a:pt x="3370" y="119"/>
                      <a:pt x="3370" y="118"/>
                    </a:cubicBezTo>
                    <a:cubicBezTo>
                      <a:pt x="3370" y="119"/>
                      <a:pt x="3370" y="119"/>
                      <a:pt x="3370" y="120"/>
                    </a:cubicBezTo>
                    <a:cubicBezTo>
                      <a:pt x="3369" y="116"/>
                      <a:pt x="3367" y="112"/>
                      <a:pt x="3366" y="108"/>
                    </a:cubicBezTo>
                    <a:cubicBezTo>
                      <a:pt x="3366" y="106"/>
                      <a:pt x="3367" y="105"/>
                      <a:pt x="3368" y="103"/>
                    </a:cubicBezTo>
                    <a:cubicBezTo>
                      <a:pt x="3367" y="105"/>
                      <a:pt x="3366" y="106"/>
                      <a:pt x="3366" y="107"/>
                    </a:cubicBezTo>
                    <a:cubicBezTo>
                      <a:pt x="3359" y="91"/>
                      <a:pt x="3349" y="76"/>
                      <a:pt x="3332" y="63"/>
                    </a:cubicBezTo>
                    <a:cubicBezTo>
                      <a:pt x="3338" y="68"/>
                      <a:pt x="3342" y="74"/>
                      <a:pt x="3346" y="79"/>
                    </a:cubicBezTo>
                    <a:cubicBezTo>
                      <a:pt x="3345" y="81"/>
                      <a:pt x="3343" y="85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38" y="94"/>
                      <a:pt x="3336" y="98"/>
                      <a:pt x="3334" y="103"/>
                    </a:cubicBezTo>
                    <a:cubicBezTo>
                      <a:pt x="3333" y="100"/>
                      <a:pt x="3333" y="98"/>
                      <a:pt x="3332" y="96"/>
                    </a:cubicBezTo>
                    <a:cubicBezTo>
                      <a:pt x="3332" y="99"/>
                      <a:pt x="3333" y="103"/>
                      <a:pt x="3333" y="106"/>
                    </a:cubicBezTo>
                    <a:cubicBezTo>
                      <a:pt x="3332" y="108"/>
                      <a:pt x="3331" y="111"/>
                      <a:pt x="3330" y="113"/>
                    </a:cubicBezTo>
                    <a:cubicBezTo>
                      <a:pt x="3329" y="111"/>
                      <a:pt x="3329" y="109"/>
                      <a:pt x="3328" y="107"/>
                    </a:cubicBezTo>
                    <a:cubicBezTo>
                      <a:pt x="3329" y="100"/>
                      <a:pt x="3330" y="93"/>
                      <a:pt x="3330" y="88"/>
                    </a:cubicBezTo>
                    <a:cubicBezTo>
                      <a:pt x="3330" y="87"/>
                      <a:pt x="3330" y="87"/>
                      <a:pt x="3330" y="87"/>
                    </a:cubicBezTo>
                    <a:cubicBezTo>
                      <a:pt x="3328" y="92"/>
                      <a:pt x="3327" y="97"/>
                      <a:pt x="3326" y="102"/>
                    </a:cubicBezTo>
                    <a:cubicBezTo>
                      <a:pt x="3323" y="96"/>
                      <a:pt x="3321" y="90"/>
                      <a:pt x="3318" y="84"/>
                    </a:cubicBezTo>
                    <a:cubicBezTo>
                      <a:pt x="3321" y="90"/>
                      <a:pt x="3323" y="97"/>
                      <a:pt x="3325" y="104"/>
                    </a:cubicBezTo>
                    <a:cubicBezTo>
                      <a:pt x="3324" y="108"/>
                      <a:pt x="3324" y="111"/>
                      <a:pt x="3323" y="115"/>
                    </a:cubicBezTo>
                    <a:cubicBezTo>
                      <a:pt x="3321" y="110"/>
                      <a:pt x="3319" y="106"/>
                      <a:pt x="3317" y="102"/>
                    </a:cubicBezTo>
                    <a:cubicBezTo>
                      <a:pt x="3319" y="107"/>
                      <a:pt x="3320" y="114"/>
                      <a:pt x="3321" y="121"/>
                    </a:cubicBezTo>
                    <a:cubicBezTo>
                      <a:pt x="3320" y="126"/>
                      <a:pt x="3318" y="131"/>
                      <a:pt x="3317" y="135"/>
                    </a:cubicBezTo>
                    <a:cubicBezTo>
                      <a:pt x="3315" y="132"/>
                      <a:pt x="3314" y="129"/>
                      <a:pt x="3313" y="125"/>
                    </a:cubicBezTo>
                    <a:cubicBezTo>
                      <a:pt x="3314" y="118"/>
                      <a:pt x="3315" y="111"/>
                      <a:pt x="3316" y="104"/>
                    </a:cubicBezTo>
                    <a:cubicBezTo>
                      <a:pt x="3315" y="109"/>
                      <a:pt x="3313" y="114"/>
                      <a:pt x="3311" y="120"/>
                    </a:cubicBezTo>
                    <a:cubicBezTo>
                      <a:pt x="3310" y="115"/>
                      <a:pt x="3309" y="111"/>
                      <a:pt x="3308" y="107"/>
                    </a:cubicBezTo>
                    <a:cubicBezTo>
                      <a:pt x="3308" y="103"/>
                      <a:pt x="3309" y="98"/>
                      <a:pt x="3309" y="94"/>
                    </a:cubicBezTo>
                    <a:cubicBezTo>
                      <a:pt x="3309" y="91"/>
                      <a:pt x="3308" y="88"/>
                      <a:pt x="3308" y="85"/>
                    </a:cubicBezTo>
                    <a:cubicBezTo>
                      <a:pt x="3307" y="89"/>
                      <a:pt x="3306" y="93"/>
                      <a:pt x="3305" y="99"/>
                    </a:cubicBezTo>
                    <a:cubicBezTo>
                      <a:pt x="3302" y="91"/>
                      <a:pt x="3298" y="84"/>
                      <a:pt x="3293" y="77"/>
                    </a:cubicBezTo>
                    <a:cubicBezTo>
                      <a:pt x="3296" y="86"/>
                      <a:pt x="3300" y="95"/>
                      <a:pt x="3303" y="104"/>
                    </a:cubicBezTo>
                    <a:cubicBezTo>
                      <a:pt x="3303" y="106"/>
                      <a:pt x="3303" y="107"/>
                      <a:pt x="3303" y="109"/>
                    </a:cubicBezTo>
                    <a:cubicBezTo>
                      <a:pt x="3302" y="107"/>
                      <a:pt x="3301" y="105"/>
                      <a:pt x="3300" y="103"/>
                    </a:cubicBezTo>
                    <a:cubicBezTo>
                      <a:pt x="3300" y="103"/>
                      <a:pt x="3300" y="102"/>
                      <a:pt x="3300" y="102"/>
                    </a:cubicBezTo>
                    <a:cubicBezTo>
                      <a:pt x="3300" y="102"/>
                      <a:pt x="3300" y="103"/>
                      <a:pt x="3300" y="103"/>
                    </a:cubicBezTo>
                    <a:cubicBezTo>
                      <a:pt x="3295" y="94"/>
                      <a:pt x="3290" y="86"/>
                      <a:pt x="3283" y="79"/>
                    </a:cubicBezTo>
                    <a:cubicBezTo>
                      <a:pt x="3285" y="75"/>
                      <a:pt x="3287" y="71"/>
                      <a:pt x="3289" y="68"/>
                    </a:cubicBezTo>
                    <a:cubicBezTo>
                      <a:pt x="3287" y="69"/>
                      <a:pt x="3284" y="73"/>
                      <a:pt x="3282" y="77"/>
                    </a:cubicBezTo>
                    <a:cubicBezTo>
                      <a:pt x="3278" y="73"/>
                      <a:pt x="3274" y="69"/>
                      <a:pt x="3269" y="65"/>
                    </a:cubicBezTo>
                    <a:cubicBezTo>
                      <a:pt x="3274" y="70"/>
                      <a:pt x="3278" y="75"/>
                      <a:pt x="3281" y="79"/>
                    </a:cubicBezTo>
                    <a:cubicBezTo>
                      <a:pt x="3278" y="86"/>
                      <a:pt x="3275" y="96"/>
                      <a:pt x="3272" y="105"/>
                    </a:cubicBezTo>
                    <a:cubicBezTo>
                      <a:pt x="3269" y="99"/>
                      <a:pt x="3265" y="94"/>
                      <a:pt x="3262" y="88"/>
                    </a:cubicBezTo>
                    <a:cubicBezTo>
                      <a:pt x="3262" y="87"/>
                      <a:pt x="3262" y="86"/>
                      <a:pt x="3263" y="85"/>
                    </a:cubicBezTo>
                    <a:cubicBezTo>
                      <a:pt x="3262" y="86"/>
                      <a:pt x="3262" y="87"/>
                      <a:pt x="3262" y="88"/>
                    </a:cubicBezTo>
                    <a:cubicBezTo>
                      <a:pt x="3261" y="87"/>
                      <a:pt x="3260" y="86"/>
                      <a:pt x="3259" y="85"/>
                    </a:cubicBezTo>
                    <a:cubicBezTo>
                      <a:pt x="3260" y="86"/>
                      <a:pt x="3261" y="87"/>
                      <a:pt x="3261" y="88"/>
                    </a:cubicBezTo>
                    <a:cubicBezTo>
                      <a:pt x="3260" y="91"/>
                      <a:pt x="3259" y="93"/>
                      <a:pt x="3258" y="95"/>
                    </a:cubicBezTo>
                    <a:cubicBezTo>
                      <a:pt x="3257" y="94"/>
                      <a:pt x="3257" y="92"/>
                      <a:pt x="3256" y="91"/>
                    </a:cubicBezTo>
                    <a:cubicBezTo>
                      <a:pt x="3257" y="92"/>
                      <a:pt x="3257" y="94"/>
                      <a:pt x="3258" y="95"/>
                    </a:cubicBezTo>
                    <a:cubicBezTo>
                      <a:pt x="3254" y="103"/>
                      <a:pt x="3251" y="112"/>
                      <a:pt x="3249" y="121"/>
                    </a:cubicBezTo>
                    <a:cubicBezTo>
                      <a:pt x="3248" y="112"/>
                      <a:pt x="3247" y="103"/>
                      <a:pt x="3247" y="97"/>
                    </a:cubicBezTo>
                    <a:cubicBezTo>
                      <a:pt x="3245" y="100"/>
                      <a:pt x="3244" y="105"/>
                      <a:pt x="3243" y="110"/>
                    </a:cubicBezTo>
                    <a:cubicBezTo>
                      <a:pt x="3243" y="92"/>
                      <a:pt x="3242" y="61"/>
                      <a:pt x="3240" y="57"/>
                    </a:cubicBezTo>
                    <a:cubicBezTo>
                      <a:pt x="3239" y="79"/>
                      <a:pt x="3240" y="100"/>
                      <a:pt x="3240" y="122"/>
                    </a:cubicBezTo>
                    <a:cubicBezTo>
                      <a:pt x="3240" y="123"/>
                      <a:pt x="3240" y="124"/>
                      <a:pt x="3240" y="125"/>
                    </a:cubicBezTo>
                    <a:cubicBezTo>
                      <a:pt x="3238" y="114"/>
                      <a:pt x="3234" y="103"/>
                      <a:pt x="3229" y="94"/>
                    </a:cubicBezTo>
                    <a:cubicBezTo>
                      <a:pt x="3228" y="89"/>
                      <a:pt x="3228" y="84"/>
                      <a:pt x="3229" y="80"/>
                    </a:cubicBezTo>
                    <a:cubicBezTo>
                      <a:pt x="3228" y="83"/>
                      <a:pt x="3227" y="87"/>
                      <a:pt x="3226" y="90"/>
                    </a:cubicBezTo>
                    <a:cubicBezTo>
                      <a:pt x="3224" y="88"/>
                      <a:pt x="3222" y="85"/>
                      <a:pt x="3220" y="83"/>
                    </a:cubicBezTo>
                    <a:cubicBezTo>
                      <a:pt x="3222" y="86"/>
                      <a:pt x="3224" y="89"/>
                      <a:pt x="3226" y="92"/>
                    </a:cubicBezTo>
                    <a:cubicBezTo>
                      <a:pt x="3225" y="96"/>
                      <a:pt x="3224" y="100"/>
                      <a:pt x="3224" y="103"/>
                    </a:cubicBezTo>
                    <a:cubicBezTo>
                      <a:pt x="3223" y="102"/>
                      <a:pt x="3223" y="101"/>
                      <a:pt x="3223" y="100"/>
                    </a:cubicBezTo>
                    <a:cubicBezTo>
                      <a:pt x="3223" y="101"/>
                      <a:pt x="3223" y="102"/>
                      <a:pt x="3224" y="104"/>
                    </a:cubicBezTo>
                    <a:cubicBezTo>
                      <a:pt x="3223" y="106"/>
                      <a:pt x="3223" y="109"/>
                      <a:pt x="3222" y="111"/>
                    </a:cubicBezTo>
                    <a:cubicBezTo>
                      <a:pt x="3220" y="107"/>
                      <a:pt x="3219" y="103"/>
                      <a:pt x="3217" y="99"/>
                    </a:cubicBezTo>
                    <a:cubicBezTo>
                      <a:pt x="3216" y="91"/>
                      <a:pt x="3216" y="82"/>
                      <a:pt x="3217" y="74"/>
                    </a:cubicBezTo>
                    <a:cubicBezTo>
                      <a:pt x="3216" y="80"/>
                      <a:pt x="3214" y="86"/>
                      <a:pt x="3213" y="92"/>
                    </a:cubicBezTo>
                    <a:cubicBezTo>
                      <a:pt x="3212" y="91"/>
                      <a:pt x="3211" y="89"/>
                      <a:pt x="3210" y="88"/>
                    </a:cubicBezTo>
                    <a:cubicBezTo>
                      <a:pt x="3211" y="89"/>
                      <a:pt x="3212" y="91"/>
                      <a:pt x="3213" y="93"/>
                    </a:cubicBezTo>
                    <a:cubicBezTo>
                      <a:pt x="3212" y="95"/>
                      <a:pt x="3212" y="97"/>
                      <a:pt x="3212" y="98"/>
                    </a:cubicBezTo>
                    <a:cubicBezTo>
                      <a:pt x="3209" y="93"/>
                      <a:pt x="3207" y="88"/>
                      <a:pt x="3203" y="84"/>
                    </a:cubicBezTo>
                    <a:cubicBezTo>
                      <a:pt x="3206" y="88"/>
                      <a:pt x="3208" y="95"/>
                      <a:pt x="3211" y="103"/>
                    </a:cubicBezTo>
                    <a:cubicBezTo>
                      <a:pt x="3210" y="106"/>
                      <a:pt x="3209" y="110"/>
                      <a:pt x="3209" y="113"/>
                    </a:cubicBezTo>
                    <a:cubicBezTo>
                      <a:pt x="3206" y="108"/>
                      <a:pt x="3204" y="102"/>
                      <a:pt x="3201" y="96"/>
                    </a:cubicBezTo>
                    <a:cubicBezTo>
                      <a:pt x="3201" y="91"/>
                      <a:pt x="3202" y="86"/>
                      <a:pt x="3203" y="83"/>
                    </a:cubicBezTo>
                    <a:cubicBezTo>
                      <a:pt x="3202" y="87"/>
                      <a:pt x="3201" y="90"/>
                      <a:pt x="3199" y="93"/>
                    </a:cubicBezTo>
                    <a:cubicBezTo>
                      <a:pt x="3194" y="83"/>
                      <a:pt x="3187" y="74"/>
                      <a:pt x="3178" y="64"/>
                    </a:cubicBezTo>
                    <a:cubicBezTo>
                      <a:pt x="3187" y="74"/>
                      <a:pt x="3193" y="86"/>
                      <a:pt x="3198" y="97"/>
                    </a:cubicBezTo>
                    <a:cubicBezTo>
                      <a:pt x="3197" y="99"/>
                      <a:pt x="3197" y="101"/>
                      <a:pt x="3196" y="103"/>
                    </a:cubicBezTo>
                    <a:cubicBezTo>
                      <a:pt x="3195" y="98"/>
                      <a:pt x="3194" y="93"/>
                      <a:pt x="3192" y="88"/>
                    </a:cubicBezTo>
                    <a:cubicBezTo>
                      <a:pt x="3192" y="91"/>
                      <a:pt x="3193" y="98"/>
                      <a:pt x="3195" y="106"/>
                    </a:cubicBezTo>
                    <a:cubicBezTo>
                      <a:pt x="3195" y="108"/>
                      <a:pt x="3194" y="109"/>
                      <a:pt x="3194" y="110"/>
                    </a:cubicBezTo>
                    <a:cubicBezTo>
                      <a:pt x="3188" y="97"/>
                      <a:pt x="3181" y="83"/>
                      <a:pt x="3170" y="72"/>
                    </a:cubicBezTo>
                    <a:cubicBezTo>
                      <a:pt x="3168" y="61"/>
                      <a:pt x="3166" y="51"/>
                      <a:pt x="3164" y="41"/>
                    </a:cubicBezTo>
                    <a:cubicBezTo>
                      <a:pt x="3164" y="48"/>
                      <a:pt x="3164" y="55"/>
                      <a:pt x="3164" y="61"/>
                    </a:cubicBezTo>
                    <a:cubicBezTo>
                      <a:pt x="3164" y="63"/>
                      <a:pt x="3164" y="64"/>
                      <a:pt x="3164" y="66"/>
                    </a:cubicBezTo>
                    <a:cubicBezTo>
                      <a:pt x="3163" y="65"/>
                      <a:pt x="3163" y="65"/>
                      <a:pt x="3163" y="65"/>
                    </a:cubicBezTo>
                    <a:cubicBezTo>
                      <a:pt x="3163" y="65"/>
                      <a:pt x="3163" y="65"/>
                      <a:pt x="3164" y="66"/>
                    </a:cubicBezTo>
                    <a:cubicBezTo>
                      <a:pt x="3164" y="75"/>
                      <a:pt x="3165" y="85"/>
                      <a:pt x="3165" y="94"/>
                    </a:cubicBezTo>
                    <a:cubicBezTo>
                      <a:pt x="3163" y="88"/>
                      <a:pt x="3160" y="81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1" y="67"/>
                      <a:pt x="3144" y="59"/>
                      <a:pt x="3134" y="50"/>
                    </a:cubicBezTo>
                    <a:cubicBezTo>
                      <a:pt x="3137" y="54"/>
                      <a:pt x="3139" y="58"/>
                      <a:pt x="3141" y="61"/>
                    </a:cubicBezTo>
                    <a:cubicBezTo>
                      <a:pt x="3140" y="64"/>
                      <a:pt x="3140" y="68"/>
                      <a:pt x="3139" y="73"/>
                    </a:cubicBezTo>
                    <a:cubicBezTo>
                      <a:pt x="3137" y="70"/>
                      <a:pt x="3134" y="67"/>
                      <a:pt x="3132" y="65"/>
                    </a:cubicBezTo>
                    <a:cubicBezTo>
                      <a:pt x="3132" y="64"/>
                      <a:pt x="3132" y="64"/>
                      <a:pt x="3132" y="64"/>
                    </a:cubicBezTo>
                    <a:cubicBezTo>
                      <a:pt x="3132" y="64"/>
                      <a:pt x="3132" y="64"/>
                      <a:pt x="3131" y="64"/>
                    </a:cubicBezTo>
                    <a:cubicBezTo>
                      <a:pt x="3130" y="62"/>
                      <a:pt x="3128" y="61"/>
                      <a:pt x="3126" y="59"/>
                    </a:cubicBezTo>
                    <a:cubicBezTo>
                      <a:pt x="3128" y="61"/>
                      <a:pt x="3129" y="63"/>
                      <a:pt x="3131" y="65"/>
                    </a:cubicBezTo>
                    <a:cubicBezTo>
                      <a:pt x="3130" y="67"/>
                      <a:pt x="3128" y="69"/>
                      <a:pt x="3127" y="72"/>
                    </a:cubicBezTo>
                    <a:cubicBezTo>
                      <a:pt x="3126" y="66"/>
                      <a:pt x="3126" y="61"/>
                      <a:pt x="3125" y="56"/>
                    </a:cubicBezTo>
                    <a:cubicBezTo>
                      <a:pt x="3126" y="54"/>
                      <a:pt x="3127" y="53"/>
                      <a:pt x="3128" y="51"/>
                    </a:cubicBezTo>
                    <a:cubicBezTo>
                      <a:pt x="3127" y="52"/>
                      <a:pt x="3126" y="53"/>
                      <a:pt x="3124" y="55"/>
                    </a:cubicBezTo>
                    <a:cubicBezTo>
                      <a:pt x="3123" y="45"/>
                      <a:pt x="3121" y="35"/>
                      <a:pt x="3118" y="26"/>
                    </a:cubicBezTo>
                    <a:cubicBezTo>
                      <a:pt x="3117" y="30"/>
                      <a:pt x="3117" y="34"/>
                      <a:pt x="3117" y="37"/>
                    </a:cubicBezTo>
                    <a:cubicBezTo>
                      <a:pt x="3117" y="45"/>
                      <a:pt x="3118" y="53"/>
                      <a:pt x="3119" y="60"/>
                    </a:cubicBezTo>
                    <a:cubicBezTo>
                      <a:pt x="3115" y="64"/>
                      <a:pt x="3111" y="69"/>
                      <a:pt x="3106" y="74"/>
                    </a:cubicBezTo>
                    <a:cubicBezTo>
                      <a:pt x="3106" y="72"/>
                      <a:pt x="3105" y="70"/>
                      <a:pt x="3104" y="67"/>
                    </a:cubicBezTo>
                    <a:cubicBezTo>
                      <a:pt x="3104" y="70"/>
                      <a:pt x="3105" y="73"/>
                      <a:pt x="3105" y="76"/>
                    </a:cubicBezTo>
                    <a:cubicBezTo>
                      <a:pt x="3104" y="77"/>
                      <a:pt x="3104" y="77"/>
                      <a:pt x="3104" y="78"/>
                    </a:cubicBezTo>
                    <a:cubicBezTo>
                      <a:pt x="3102" y="75"/>
                      <a:pt x="3100" y="72"/>
                      <a:pt x="3098" y="68"/>
                    </a:cubicBezTo>
                    <a:cubicBezTo>
                      <a:pt x="3098" y="65"/>
                      <a:pt x="3099" y="63"/>
                      <a:pt x="3099" y="62"/>
                    </a:cubicBezTo>
                    <a:cubicBezTo>
                      <a:pt x="3098" y="63"/>
                      <a:pt x="3097" y="65"/>
                      <a:pt x="3096" y="67"/>
                    </a:cubicBezTo>
                    <a:cubicBezTo>
                      <a:pt x="3090" y="57"/>
                      <a:pt x="3081" y="47"/>
                      <a:pt x="3068" y="34"/>
                    </a:cubicBezTo>
                    <a:cubicBezTo>
                      <a:pt x="3081" y="49"/>
                      <a:pt x="3089" y="60"/>
                      <a:pt x="3096" y="69"/>
                    </a:cubicBezTo>
                    <a:cubicBezTo>
                      <a:pt x="3095" y="72"/>
                      <a:pt x="3094" y="75"/>
                      <a:pt x="3094" y="79"/>
                    </a:cubicBezTo>
                    <a:cubicBezTo>
                      <a:pt x="3088" y="68"/>
                      <a:pt x="3080" y="58"/>
                      <a:pt x="3068" y="52"/>
                    </a:cubicBezTo>
                    <a:cubicBezTo>
                      <a:pt x="3082" y="60"/>
                      <a:pt x="3089" y="72"/>
                      <a:pt x="3094" y="84"/>
                    </a:cubicBezTo>
                    <a:cubicBezTo>
                      <a:pt x="3094" y="86"/>
                      <a:pt x="3094" y="89"/>
                      <a:pt x="3094" y="91"/>
                    </a:cubicBezTo>
                    <a:cubicBezTo>
                      <a:pt x="3092" y="94"/>
                      <a:pt x="3090" y="97"/>
                      <a:pt x="3088" y="100"/>
                    </a:cubicBezTo>
                    <a:cubicBezTo>
                      <a:pt x="3087" y="96"/>
                      <a:pt x="3087" y="93"/>
                      <a:pt x="3086" y="90"/>
                    </a:cubicBezTo>
                    <a:cubicBezTo>
                      <a:pt x="3087" y="93"/>
                      <a:pt x="3087" y="97"/>
                      <a:pt x="3087" y="101"/>
                    </a:cubicBezTo>
                    <a:cubicBezTo>
                      <a:pt x="3086" y="102"/>
                      <a:pt x="3085" y="104"/>
                      <a:pt x="3085" y="105"/>
                    </a:cubicBezTo>
                    <a:cubicBezTo>
                      <a:pt x="3084" y="104"/>
                      <a:pt x="3084" y="103"/>
                      <a:pt x="3083" y="102"/>
                    </a:cubicBezTo>
                    <a:cubicBezTo>
                      <a:pt x="3082" y="97"/>
                      <a:pt x="3081" y="93"/>
                      <a:pt x="3080" y="88"/>
                    </a:cubicBezTo>
                    <a:cubicBezTo>
                      <a:pt x="3081" y="83"/>
                      <a:pt x="3082" y="79"/>
                      <a:pt x="3082" y="75"/>
                    </a:cubicBezTo>
                    <a:cubicBezTo>
                      <a:pt x="3081" y="78"/>
                      <a:pt x="3080" y="80"/>
                      <a:pt x="3079" y="82"/>
                    </a:cubicBezTo>
                    <a:cubicBezTo>
                      <a:pt x="3078" y="81"/>
                      <a:pt x="3078" y="80"/>
                      <a:pt x="3078" y="79"/>
                    </a:cubicBezTo>
                    <a:cubicBezTo>
                      <a:pt x="3078" y="80"/>
                      <a:pt x="3078" y="82"/>
                      <a:pt x="3078" y="83"/>
                    </a:cubicBezTo>
                    <a:cubicBezTo>
                      <a:pt x="3078" y="84"/>
                      <a:pt x="3077" y="86"/>
                      <a:pt x="3076" y="87"/>
                    </a:cubicBezTo>
                    <a:cubicBezTo>
                      <a:pt x="3074" y="83"/>
                      <a:pt x="3073" y="79"/>
                      <a:pt x="3071" y="75"/>
                    </a:cubicBezTo>
                    <a:cubicBezTo>
                      <a:pt x="3071" y="80"/>
                      <a:pt x="3072" y="86"/>
                      <a:pt x="3073" y="93"/>
                    </a:cubicBezTo>
                    <a:cubicBezTo>
                      <a:pt x="3073" y="94"/>
                      <a:pt x="3073" y="94"/>
                      <a:pt x="3073" y="94"/>
                    </a:cubicBezTo>
                    <a:cubicBezTo>
                      <a:pt x="3072" y="90"/>
                      <a:pt x="3070" y="85"/>
                      <a:pt x="3068" y="81"/>
                    </a:cubicBezTo>
                    <a:cubicBezTo>
                      <a:pt x="3070" y="86"/>
                      <a:pt x="3071" y="91"/>
                      <a:pt x="3072" y="97"/>
                    </a:cubicBezTo>
                    <a:cubicBezTo>
                      <a:pt x="3070" y="100"/>
                      <a:pt x="3069" y="102"/>
                      <a:pt x="3068" y="105"/>
                    </a:cubicBezTo>
                    <a:cubicBezTo>
                      <a:pt x="3065" y="83"/>
                      <a:pt x="3059" y="63"/>
                      <a:pt x="3039" y="42"/>
                    </a:cubicBezTo>
                    <a:cubicBezTo>
                      <a:pt x="3047" y="58"/>
                      <a:pt x="3053" y="70"/>
                      <a:pt x="3057" y="81"/>
                    </a:cubicBezTo>
                    <a:cubicBezTo>
                      <a:pt x="3057" y="83"/>
                      <a:pt x="3057" y="86"/>
                      <a:pt x="3057" y="89"/>
                    </a:cubicBezTo>
                    <a:cubicBezTo>
                      <a:pt x="3055" y="86"/>
                      <a:pt x="3053" y="84"/>
                      <a:pt x="3052" y="81"/>
                    </a:cubicBezTo>
                    <a:cubicBezTo>
                      <a:pt x="3051" y="79"/>
                      <a:pt x="3049" y="76"/>
                      <a:pt x="3048" y="73"/>
                    </a:cubicBezTo>
                    <a:cubicBezTo>
                      <a:pt x="3048" y="71"/>
                      <a:pt x="3048" y="69"/>
                      <a:pt x="3048" y="67"/>
                    </a:cubicBezTo>
                    <a:cubicBezTo>
                      <a:pt x="3048" y="69"/>
                      <a:pt x="3047" y="70"/>
                      <a:pt x="3047" y="72"/>
                    </a:cubicBezTo>
                    <a:cubicBezTo>
                      <a:pt x="3044" y="66"/>
                      <a:pt x="3040" y="59"/>
                      <a:pt x="3035" y="53"/>
                    </a:cubicBezTo>
                    <a:cubicBezTo>
                      <a:pt x="3035" y="48"/>
                      <a:pt x="3035" y="42"/>
                      <a:pt x="3035" y="37"/>
                    </a:cubicBezTo>
                    <a:cubicBezTo>
                      <a:pt x="3035" y="34"/>
                      <a:pt x="3035" y="30"/>
                      <a:pt x="3035" y="26"/>
                    </a:cubicBezTo>
                    <a:cubicBezTo>
                      <a:pt x="3032" y="33"/>
                      <a:pt x="3031" y="40"/>
                      <a:pt x="3029" y="47"/>
                    </a:cubicBezTo>
                    <a:cubicBezTo>
                      <a:pt x="3026" y="44"/>
                      <a:pt x="3023" y="41"/>
                      <a:pt x="3020" y="38"/>
                    </a:cubicBezTo>
                    <a:cubicBezTo>
                      <a:pt x="3023" y="41"/>
                      <a:pt x="3026" y="45"/>
                      <a:pt x="3029" y="49"/>
                    </a:cubicBezTo>
                    <a:cubicBezTo>
                      <a:pt x="3029" y="51"/>
                      <a:pt x="3028" y="53"/>
                      <a:pt x="3028" y="55"/>
                    </a:cubicBezTo>
                    <a:cubicBezTo>
                      <a:pt x="3027" y="53"/>
                      <a:pt x="3025" y="52"/>
                      <a:pt x="3024" y="51"/>
                    </a:cubicBezTo>
                    <a:cubicBezTo>
                      <a:pt x="3025" y="53"/>
                      <a:pt x="3027" y="54"/>
                      <a:pt x="3028" y="56"/>
                    </a:cubicBezTo>
                    <a:cubicBezTo>
                      <a:pt x="3027" y="61"/>
                      <a:pt x="3026" y="66"/>
                      <a:pt x="3026" y="72"/>
                    </a:cubicBezTo>
                    <a:cubicBezTo>
                      <a:pt x="3024" y="69"/>
                      <a:pt x="3022" y="66"/>
                      <a:pt x="3021" y="64"/>
                    </a:cubicBezTo>
                    <a:cubicBezTo>
                      <a:pt x="3021" y="66"/>
                      <a:pt x="3023" y="70"/>
                      <a:pt x="3025" y="74"/>
                    </a:cubicBezTo>
                    <a:cubicBezTo>
                      <a:pt x="3024" y="80"/>
                      <a:pt x="3023" y="86"/>
                      <a:pt x="3022" y="92"/>
                    </a:cubicBezTo>
                    <a:cubicBezTo>
                      <a:pt x="3018" y="109"/>
                      <a:pt x="3014" y="126"/>
                      <a:pt x="3012" y="143"/>
                    </a:cubicBezTo>
                    <a:cubicBezTo>
                      <a:pt x="3013" y="126"/>
                      <a:pt x="3014" y="109"/>
                      <a:pt x="3014" y="91"/>
                    </a:cubicBezTo>
                    <a:cubicBezTo>
                      <a:pt x="3014" y="87"/>
                      <a:pt x="3014" y="61"/>
                      <a:pt x="3010" y="59"/>
                    </a:cubicBezTo>
                    <a:cubicBezTo>
                      <a:pt x="3015" y="76"/>
                      <a:pt x="3001" y="122"/>
                      <a:pt x="2998" y="146"/>
                    </a:cubicBezTo>
                    <a:cubicBezTo>
                      <a:pt x="2998" y="148"/>
                      <a:pt x="2998" y="150"/>
                      <a:pt x="2997" y="152"/>
                    </a:cubicBezTo>
                    <a:cubicBezTo>
                      <a:pt x="2997" y="150"/>
                      <a:pt x="2998" y="148"/>
                      <a:pt x="2998" y="146"/>
                    </a:cubicBezTo>
                    <a:cubicBezTo>
                      <a:pt x="3000" y="123"/>
                      <a:pt x="2998" y="98"/>
                      <a:pt x="2997" y="75"/>
                    </a:cubicBezTo>
                    <a:cubicBezTo>
                      <a:pt x="2994" y="97"/>
                      <a:pt x="2986" y="119"/>
                      <a:pt x="2986" y="141"/>
                    </a:cubicBezTo>
                    <a:cubicBezTo>
                      <a:pt x="2986" y="146"/>
                      <a:pt x="2986" y="152"/>
                      <a:pt x="2987" y="158"/>
                    </a:cubicBezTo>
                    <a:cubicBezTo>
                      <a:pt x="2985" y="150"/>
                      <a:pt x="2985" y="140"/>
                      <a:pt x="2985" y="133"/>
                    </a:cubicBezTo>
                    <a:cubicBezTo>
                      <a:pt x="2985" y="109"/>
                      <a:pt x="2989" y="85"/>
                      <a:pt x="2989" y="61"/>
                    </a:cubicBezTo>
                    <a:cubicBezTo>
                      <a:pt x="2989" y="55"/>
                      <a:pt x="2989" y="48"/>
                      <a:pt x="2988" y="41"/>
                    </a:cubicBezTo>
                    <a:cubicBezTo>
                      <a:pt x="2981" y="71"/>
                      <a:pt x="2977" y="110"/>
                      <a:pt x="2977" y="140"/>
                    </a:cubicBezTo>
                    <a:cubicBezTo>
                      <a:pt x="2977" y="145"/>
                      <a:pt x="2977" y="149"/>
                      <a:pt x="2977" y="153"/>
                    </a:cubicBezTo>
                    <a:cubicBezTo>
                      <a:pt x="2976" y="135"/>
                      <a:pt x="2972" y="116"/>
                      <a:pt x="2968" y="98"/>
                    </a:cubicBezTo>
                    <a:cubicBezTo>
                      <a:pt x="2970" y="110"/>
                      <a:pt x="2966" y="124"/>
                      <a:pt x="2966" y="136"/>
                    </a:cubicBezTo>
                    <a:cubicBezTo>
                      <a:pt x="2966" y="140"/>
                      <a:pt x="2966" y="143"/>
                      <a:pt x="2966" y="147"/>
                    </a:cubicBezTo>
                    <a:cubicBezTo>
                      <a:pt x="2963" y="125"/>
                      <a:pt x="2958" y="103"/>
                      <a:pt x="2949" y="83"/>
                    </a:cubicBezTo>
                    <a:cubicBezTo>
                      <a:pt x="2952" y="90"/>
                      <a:pt x="2952" y="108"/>
                      <a:pt x="2952" y="115"/>
                    </a:cubicBezTo>
                    <a:cubicBezTo>
                      <a:pt x="2952" y="127"/>
                      <a:pt x="2952" y="138"/>
                      <a:pt x="2954" y="150"/>
                    </a:cubicBezTo>
                    <a:cubicBezTo>
                      <a:pt x="2945" y="126"/>
                      <a:pt x="2942" y="99"/>
                      <a:pt x="2935" y="74"/>
                    </a:cubicBezTo>
                    <a:cubicBezTo>
                      <a:pt x="2938" y="91"/>
                      <a:pt x="2934" y="110"/>
                      <a:pt x="2934" y="128"/>
                    </a:cubicBezTo>
                    <a:cubicBezTo>
                      <a:pt x="2934" y="132"/>
                      <a:pt x="2935" y="136"/>
                      <a:pt x="2935" y="140"/>
                    </a:cubicBezTo>
                    <a:cubicBezTo>
                      <a:pt x="2935" y="145"/>
                      <a:pt x="2936" y="149"/>
                      <a:pt x="2937" y="154"/>
                    </a:cubicBezTo>
                    <a:cubicBezTo>
                      <a:pt x="2936" y="149"/>
                      <a:pt x="2935" y="145"/>
                      <a:pt x="2935" y="140"/>
                    </a:cubicBezTo>
                    <a:cubicBezTo>
                      <a:pt x="2932" y="120"/>
                      <a:pt x="2929" y="99"/>
                      <a:pt x="2924" y="80"/>
                    </a:cubicBezTo>
                    <a:cubicBezTo>
                      <a:pt x="2926" y="102"/>
                      <a:pt x="2916" y="126"/>
                      <a:pt x="2916" y="149"/>
                    </a:cubicBezTo>
                    <a:cubicBezTo>
                      <a:pt x="2916" y="156"/>
                      <a:pt x="2916" y="156"/>
                      <a:pt x="2916" y="156"/>
                    </a:cubicBezTo>
                    <a:cubicBezTo>
                      <a:pt x="2912" y="147"/>
                      <a:pt x="2912" y="132"/>
                      <a:pt x="2912" y="122"/>
                    </a:cubicBezTo>
                    <a:cubicBezTo>
                      <a:pt x="2912" y="100"/>
                      <a:pt x="2914" y="79"/>
                      <a:pt x="2913" y="57"/>
                    </a:cubicBezTo>
                    <a:cubicBezTo>
                      <a:pt x="2910" y="62"/>
                      <a:pt x="2909" y="112"/>
                      <a:pt x="2909" y="120"/>
                    </a:cubicBezTo>
                    <a:cubicBezTo>
                      <a:pt x="2909" y="133"/>
                      <a:pt x="2910" y="146"/>
                      <a:pt x="2913" y="159"/>
                    </a:cubicBezTo>
                    <a:cubicBezTo>
                      <a:pt x="2908" y="135"/>
                      <a:pt x="2902" y="108"/>
                      <a:pt x="2890" y="85"/>
                    </a:cubicBezTo>
                    <a:cubicBezTo>
                      <a:pt x="2901" y="106"/>
                      <a:pt x="2896" y="132"/>
                      <a:pt x="2903" y="154"/>
                    </a:cubicBezTo>
                    <a:cubicBezTo>
                      <a:pt x="2895" y="142"/>
                      <a:pt x="2893" y="122"/>
                      <a:pt x="2890" y="106"/>
                    </a:cubicBezTo>
                    <a:cubicBezTo>
                      <a:pt x="2892" y="120"/>
                      <a:pt x="2890" y="134"/>
                      <a:pt x="2892" y="148"/>
                    </a:cubicBezTo>
                    <a:cubicBezTo>
                      <a:pt x="2893" y="151"/>
                      <a:pt x="2894" y="153"/>
                      <a:pt x="2894" y="155"/>
                    </a:cubicBezTo>
                    <a:cubicBezTo>
                      <a:pt x="2893" y="153"/>
                      <a:pt x="2893" y="151"/>
                      <a:pt x="2892" y="148"/>
                    </a:cubicBezTo>
                    <a:cubicBezTo>
                      <a:pt x="2887" y="128"/>
                      <a:pt x="2875" y="75"/>
                      <a:pt x="2863" y="68"/>
                    </a:cubicBezTo>
                    <a:cubicBezTo>
                      <a:pt x="2880" y="90"/>
                      <a:pt x="2878" y="127"/>
                      <a:pt x="2882" y="153"/>
                    </a:cubicBezTo>
                    <a:cubicBezTo>
                      <a:pt x="2878" y="134"/>
                      <a:pt x="2871" y="113"/>
                      <a:pt x="2862" y="95"/>
                    </a:cubicBezTo>
                    <a:cubicBezTo>
                      <a:pt x="2869" y="115"/>
                      <a:pt x="2868" y="136"/>
                      <a:pt x="2877" y="155"/>
                    </a:cubicBezTo>
                    <a:cubicBezTo>
                      <a:pt x="2864" y="144"/>
                      <a:pt x="2857" y="117"/>
                      <a:pt x="2853" y="102"/>
                    </a:cubicBezTo>
                    <a:cubicBezTo>
                      <a:pt x="2853" y="120"/>
                      <a:pt x="2858" y="143"/>
                      <a:pt x="2869" y="158"/>
                    </a:cubicBezTo>
                    <a:cubicBezTo>
                      <a:pt x="2855" y="144"/>
                      <a:pt x="2850" y="103"/>
                      <a:pt x="2845" y="85"/>
                    </a:cubicBezTo>
                    <a:cubicBezTo>
                      <a:pt x="2844" y="88"/>
                      <a:pt x="2844" y="91"/>
                      <a:pt x="2844" y="94"/>
                    </a:cubicBezTo>
                    <a:cubicBezTo>
                      <a:pt x="2844" y="113"/>
                      <a:pt x="2849" y="142"/>
                      <a:pt x="2861" y="159"/>
                    </a:cubicBezTo>
                    <a:cubicBezTo>
                      <a:pt x="2847" y="143"/>
                      <a:pt x="2842" y="123"/>
                      <a:pt x="2836" y="104"/>
                    </a:cubicBezTo>
                    <a:cubicBezTo>
                      <a:pt x="2840" y="122"/>
                      <a:pt x="2840" y="140"/>
                      <a:pt x="2849" y="158"/>
                    </a:cubicBezTo>
                    <a:cubicBezTo>
                      <a:pt x="2839" y="147"/>
                      <a:pt x="2834" y="132"/>
                      <a:pt x="2830" y="117"/>
                    </a:cubicBezTo>
                    <a:cubicBezTo>
                      <a:pt x="2832" y="105"/>
                      <a:pt x="2833" y="93"/>
                      <a:pt x="2834" y="84"/>
                    </a:cubicBezTo>
                    <a:cubicBezTo>
                      <a:pt x="2832" y="92"/>
                      <a:pt x="2830" y="101"/>
                      <a:pt x="2828" y="109"/>
                    </a:cubicBezTo>
                    <a:cubicBezTo>
                      <a:pt x="2827" y="102"/>
                      <a:pt x="2825" y="95"/>
                      <a:pt x="2823" y="89"/>
                    </a:cubicBezTo>
                    <a:cubicBezTo>
                      <a:pt x="2826" y="64"/>
                      <a:pt x="2830" y="40"/>
                      <a:pt x="2830" y="40"/>
                    </a:cubicBezTo>
                    <a:cubicBezTo>
                      <a:pt x="2825" y="51"/>
                      <a:pt x="2820" y="77"/>
                      <a:pt x="2817" y="100"/>
                    </a:cubicBezTo>
                    <a:cubicBezTo>
                      <a:pt x="2815" y="95"/>
                      <a:pt x="2812" y="90"/>
                      <a:pt x="2811" y="86"/>
                    </a:cubicBezTo>
                    <a:cubicBezTo>
                      <a:pt x="2810" y="70"/>
                      <a:pt x="2808" y="58"/>
                      <a:pt x="2808" y="60"/>
                    </a:cubicBezTo>
                    <a:cubicBezTo>
                      <a:pt x="2808" y="61"/>
                      <a:pt x="2808" y="69"/>
                      <a:pt x="2807" y="80"/>
                    </a:cubicBezTo>
                    <a:cubicBezTo>
                      <a:pt x="2806" y="79"/>
                      <a:pt x="2806" y="78"/>
                      <a:pt x="2805" y="78"/>
                    </a:cubicBezTo>
                    <a:cubicBezTo>
                      <a:pt x="2806" y="79"/>
                      <a:pt x="2806" y="80"/>
                      <a:pt x="2807" y="81"/>
                    </a:cubicBezTo>
                    <a:cubicBezTo>
                      <a:pt x="2806" y="87"/>
                      <a:pt x="2806" y="95"/>
                      <a:pt x="2805" y="102"/>
                    </a:cubicBezTo>
                    <a:cubicBezTo>
                      <a:pt x="2805" y="102"/>
                      <a:pt x="2805" y="102"/>
                      <a:pt x="2805" y="102"/>
                    </a:cubicBezTo>
                    <a:cubicBezTo>
                      <a:pt x="2805" y="103"/>
                      <a:pt x="2805" y="103"/>
                      <a:pt x="2805" y="103"/>
                    </a:cubicBezTo>
                    <a:cubicBezTo>
                      <a:pt x="2804" y="113"/>
                      <a:pt x="2804" y="123"/>
                      <a:pt x="2803" y="130"/>
                    </a:cubicBezTo>
                    <a:cubicBezTo>
                      <a:pt x="2803" y="130"/>
                      <a:pt x="2802" y="129"/>
                      <a:pt x="2802" y="128"/>
                    </a:cubicBezTo>
                    <a:cubicBezTo>
                      <a:pt x="2802" y="107"/>
                      <a:pt x="2798" y="69"/>
                      <a:pt x="2795" y="47"/>
                    </a:cubicBezTo>
                    <a:cubicBezTo>
                      <a:pt x="2796" y="64"/>
                      <a:pt x="2795" y="87"/>
                      <a:pt x="2794" y="107"/>
                    </a:cubicBezTo>
                    <a:cubicBezTo>
                      <a:pt x="2793" y="105"/>
                      <a:pt x="2792" y="104"/>
                      <a:pt x="2791" y="102"/>
                    </a:cubicBezTo>
                    <a:cubicBezTo>
                      <a:pt x="2792" y="104"/>
                      <a:pt x="2793" y="106"/>
                      <a:pt x="2793" y="107"/>
                    </a:cubicBezTo>
                    <a:cubicBezTo>
                      <a:pt x="2793" y="114"/>
                      <a:pt x="2793" y="121"/>
                      <a:pt x="2792" y="126"/>
                    </a:cubicBezTo>
                    <a:cubicBezTo>
                      <a:pt x="2792" y="125"/>
                      <a:pt x="2791" y="123"/>
                      <a:pt x="2791" y="122"/>
                    </a:cubicBezTo>
                    <a:cubicBezTo>
                      <a:pt x="2790" y="93"/>
                      <a:pt x="2786" y="46"/>
                      <a:pt x="2786" y="46"/>
                    </a:cubicBezTo>
                    <a:cubicBezTo>
                      <a:pt x="2785" y="65"/>
                      <a:pt x="2779" y="142"/>
                      <a:pt x="2779" y="142"/>
                    </a:cubicBezTo>
                    <a:cubicBezTo>
                      <a:pt x="2773" y="106"/>
                      <a:pt x="2780" y="0"/>
                      <a:pt x="2780" y="0"/>
                    </a:cubicBezTo>
                    <a:cubicBezTo>
                      <a:pt x="2774" y="16"/>
                      <a:pt x="2768" y="131"/>
                      <a:pt x="2768" y="131"/>
                    </a:cubicBezTo>
                    <a:cubicBezTo>
                      <a:pt x="2766" y="36"/>
                      <a:pt x="2762" y="32"/>
                      <a:pt x="2762" y="32"/>
                    </a:cubicBezTo>
                    <a:cubicBezTo>
                      <a:pt x="2764" y="43"/>
                      <a:pt x="2761" y="76"/>
                      <a:pt x="2758" y="103"/>
                    </a:cubicBezTo>
                    <a:cubicBezTo>
                      <a:pt x="2757" y="102"/>
                      <a:pt x="2756" y="100"/>
                      <a:pt x="2755" y="99"/>
                    </a:cubicBezTo>
                    <a:cubicBezTo>
                      <a:pt x="2756" y="101"/>
                      <a:pt x="2757" y="103"/>
                      <a:pt x="2758" y="104"/>
                    </a:cubicBezTo>
                    <a:cubicBezTo>
                      <a:pt x="2757" y="112"/>
                      <a:pt x="2756" y="120"/>
                      <a:pt x="2755" y="126"/>
                    </a:cubicBezTo>
                    <a:cubicBezTo>
                      <a:pt x="2755" y="124"/>
                      <a:pt x="2755" y="123"/>
                      <a:pt x="2755" y="122"/>
                    </a:cubicBezTo>
                    <a:cubicBezTo>
                      <a:pt x="2755" y="94"/>
                      <a:pt x="2754" y="48"/>
                      <a:pt x="2754" y="48"/>
                    </a:cubicBezTo>
                    <a:cubicBezTo>
                      <a:pt x="2753" y="55"/>
                      <a:pt x="2750" y="82"/>
                      <a:pt x="2747" y="106"/>
                    </a:cubicBezTo>
                    <a:cubicBezTo>
                      <a:pt x="2746" y="104"/>
                      <a:pt x="2745" y="102"/>
                      <a:pt x="2745" y="100"/>
                    </a:cubicBezTo>
                    <a:cubicBezTo>
                      <a:pt x="2748" y="60"/>
                      <a:pt x="2752" y="9"/>
                      <a:pt x="2752" y="9"/>
                    </a:cubicBezTo>
                    <a:cubicBezTo>
                      <a:pt x="2747" y="23"/>
                      <a:pt x="2740" y="83"/>
                      <a:pt x="2737" y="117"/>
                    </a:cubicBezTo>
                    <a:cubicBezTo>
                      <a:pt x="2736" y="114"/>
                      <a:pt x="2735" y="111"/>
                      <a:pt x="2734" y="108"/>
                    </a:cubicBezTo>
                    <a:cubicBezTo>
                      <a:pt x="2734" y="90"/>
                      <a:pt x="2732" y="72"/>
                      <a:pt x="2732" y="72"/>
                    </a:cubicBezTo>
                    <a:cubicBezTo>
                      <a:pt x="2732" y="76"/>
                      <a:pt x="2732" y="84"/>
                      <a:pt x="2731" y="94"/>
                    </a:cubicBezTo>
                    <a:cubicBezTo>
                      <a:pt x="2730" y="91"/>
                      <a:pt x="2728" y="88"/>
                      <a:pt x="2727" y="84"/>
                    </a:cubicBezTo>
                    <a:cubicBezTo>
                      <a:pt x="2728" y="88"/>
                      <a:pt x="2730" y="92"/>
                      <a:pt x="2730" y="96"/>
                    </a:cubicBezTo>
                    <a:cubicBezTo>
                      <a:pt x="2730" y="99"/>
                      <a:pt x="2730" y="103"/>
                      <a:pt x="2729" y="107"/>
                    </a:cubicBezTo>
                    <a:cubicBezTo>
                      <a:pt x="2729" y="106"/>
                      <a:pt x="2729" y="106"/>
                      <a:pt x="2729" y="105"/>
                    </a:cubicBezTo>
                    <a:cubicBezTo>
                      <a:pt x="2728" y="107"/>
                      <a:pt x="2728" y="112"/>
                      <a:pt x="2728" y="116"/>
                    </a:cubicBezTo>
                    <a:cubicBezTo>
                      <a:pt x="2727" y="121"/>
                      <a:pt x="2727" y="126"/>
                      <a:pt x="2726" y="130"/>
                    </a:cubicBezTo>
                    <a:cubicBezTo>
                      <a:pt x="2726" y="129"/>
                      <a:pt x="2726" y="128"/>
                      <a:pt x="2726" y="127"/>
                    </a:cubicBezTo>
                    <a:cubicBezTo>
                      <a:pt x="2726" y="101"/>
                      <a:pt x="2721" y="63"/>
                      <a:pt x="2720" y="54"/>
                    </a:cubicBezTo>
                    <a:cubicBezTo>
                      <a:pt x="2720" y="61"/>
                      <a:pt x="2719" y="79"/>
                      <a:pt x="2718" y="96"/>
                    </a:cubicBezTo>
                    <a:cubicBezTo>
                      <a:pt x="2717" y="94"/>
                      <a:pt x="2716" y="92"/>
                      <a:pt x="2715" y="90"/>
                    </a:cubicBezTo>
                    <a:cubicBezTo>
                      <a:pt x="2716" y="93"/>
                      <a:pt x="2717" y="95"/>
                      <a:pt x="2718" y="97"/>
                    </a:cubicBezTo>
                    <a:cubicBezTo>
                      <a:pt x="2716" y="118"/>
                      <a:pt x="2714" y="137"/>
                      <a:pt x="2714" y="137"/>
                    </a:cubicBezTo>
                    <a:cubicBezTo>
                      <a:pt x="2713" y="136"/>
                      <a:pt x="2713" y="134"/>
                      <a:pt x="2713" y="133"/>
                    </a:cubicBezTo>
                    <a:cubicBezTo>
                      <a:pt x="2713" y="125"/>
                      <a:pt x="2713" y="118"/>
                      <a:pt x="2712" y="110"/>
                    </a:cubicBezTo>
                    <a:cubicBezTo>
                      <a:pt x="2711" y="76"/>
                      <a:pt x="2710" y="40"/>
                      <a:pt x="2710" y="40"/>
                    </a:cubicBezTo>
                    <a:cubicBezTo>
                      <a:pt x="2710" y="49"/>
                      <a:pt x="2705" y="79"/>
                      <a:pt x="2701" y="104"/>
                    </a:cubicBezTo>
                    <a:cubicBezTo>
                      <a:pt x="2701" y="99"/>
                      <a:pt x="2700" y="95"/>
                      <a:pt x="2699" y="90"/>
                    </a:cubicBezTo>
                    <a:cubicBezTo>
                      <a:pt x="2700" y="67"/>
                      <a:pt x="2701" y="45"/>
                      <a:pt x="2701" y="45"/>
                    </a:cubicBezTo>
                    <a:cubicBezTo>
                      <a:pt x="2701" y="53"/>
                      <a:pt x="2695" y="75"/>
                      <a:pt x="2688" y="96"/>
                    </a:cubicBezTo>
                    <a:cubicBezTo>
                      <a:pt x="2687" y="93"/>
                      <a:pt x="2686" y="89"/>
                      <a:pt x="2684" y="85"/>
                    </a:cubicBezTo>
                    <a:cubicBezTo>
                      <a:pt x="2691" y="51"/>
                      <a:pt x="2699" y="17"/>
                      <a:pt x="2699" y="17"/>
                    </a:cubicBezTo>
                    <a:cubicBezTo>
                      <a:pt x="2694" y="24"/>
                      <a:pt x="2679" y="95"/>
                      <a:pt x="2672" y="130"/>
                    </a:cubicBezTo>
                    <a:cubicBezTo>
                      <a:pt x="2672" y="130"/>
                      <a:pt x="2672" y="130"/>
                      <a:pt x="2672" y="130"/>
                    </a:cubicBezTo>
                    <a:cubicBezTo>
                      <a:pt x="2676" y="100"/>
                      <a:pt x="2673" y="63"/>
                      <a:pt x="2672" y="52"/>
                    </a:cubicBezTo>
                    <a:cubicBezTo>
                      <a:pt x="2674" y="72"/>
                      <a:pt x="2668" y="109"/>
                      <a:pt x="2664" y="128"/>
                    </a:cubicBezTo>
                    <a:cubicBezTo>
                      <a:pt x="2664" y="126"/>
                      <a:pt x="2664" y="123"/>
                      <a:pt x="2663" y="120"/>
                    </a:cubicBezTo>
                    <a:cubicBezTo>
                      <a:pt x="2665" y="99"/>
                      <a:pt x="2667" y="71"/>
                      <a:pt x="2668" y="65"/>
                    </a:cubicBezTo>
                    <a:cubicBezTo>
                      <a:pt x="2667" y="71"/>
                      <a:pt x="2664" y="89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56" y="125"/>
                      <a:pt x="2653" y="143"/>
                      <a:pt x="2653" y="143"/>
                    </a:cubicBezTo>
                    <a:cubicBezTo>
                      <a:pt x="2663" y="38"/>
                      <a:pt x="2656" y="25"/>
                      <a:pt x="2656" y="25"/>
                    </a:cubicBezTo>
                    <a:cubicBezTo>
                      <a:pt x="2659" y="42"/>
                      <a:pt x="2656" y="72"/>
                      <a:pt x="2651" y="96"/>
                    </a:cubicBezTo>
                    <a:cubicBezTo>
                      <a:pt x="2650" y="89"/>
                      <a:pt x="2648" y="80"/>
                      <a:pt x="2645" y="73"/>
                    </a:cubicBezTo>
                    <a:cubicBezTo>
                      <a:pt x="2644" y="65"/>
                      <a:pt x="2644" y="60"/>
                      <a:pt x="2644" y="60"/>
                    </a:cubicBezTo>
                    <a:cubicBezTo>
                      <a:pt x="2644" y="63"/>
                      <a:pt x="2644" y="67"/>
                      <a:pt x="2643" y="71"/>
                    </a:cubicBezTo>
                    <a:cubicBezTo>
                      <a:pt x="2642" y="69"/>
                      <a:pt x="2641" y="67"/>
                      <a:pt x="2639" y="65"/>
                    </a:cubicBezTo>
                    <a:cubicBezTo>
                      <a:pt x="2641" y="67"/>
                      <a:pt x="2642" y="70"/>
                      <a:pt x="2643" y="73"/>
                    </a:cubicBezTo>
                    <a:cubicBezTo>
                      <a:pt x="2643" y="82"/>
                      <a:pt x="2642" y="92"/>
                      <a:pt x="2640" y="101"/>
                    </a:cubicBezTo>
                    <a:cubicBezTo>
                      <a:pt x="2640" y="95"/>
                      <a:pt x="2637" y="88"/>
                      <a:pt x="2632" y="83"/>
                    </a:cubicBezTo>
                    <a:cubicBezTo>
                      <a:pt x="2632" y="74"/>
                      <a:pt x="2633" y="68"/>
                      <a:pt x="2633" y="68"/>
                    </a:cubicBezTo>
                    <a:cubicBezTo>
                      <a:pt x="2632" y="72"/>
                      <a:pt x="2631" y="76"/>
                      <a:pt x="2630" y="81"/>
                    </a:cubicBezTo>
                    <a:cubicBezTo>
                      <a:pt x="2630" y="81"/>
                      <a:pt x="2629" y="81"/>
                      <a:pt x="2629" y="80"/>
                    </a:cubicBezTo>
                    <a:cubicBezTo>
                      <a:pt x="2629" y="81"/>
                      <a:pt x="2630" y="81"/>
                      <a:pt x="2630" y="82"/>
                    </a:cubicBezTo>
                    <a:cubicBezTo>
                      <a:pt x="2627" y="101"/>
                      <a:pt x="2626" y="130"/>
                      <a:pt x="2626" y="142"/>
                    </a:cubicBezTo>
                    <a:cubicBezTo>
                      <a:pt x="2626" y="143"/>
                      <a:pt x="2625" y="144"/>
                      <a:pt x="2625" y="144"/>
                    </a:cubicBezTo>
                    <a:cubicBezTo>
                      <a:pt x="2624" y="141"/>
                      <a:pt x="2624" y="136"/>
                      <a:pt x="2624" y="131"/>
                    </a:cubicBezTo>
                    <a:cubicBezTo>
                      <a:pt x="2625" y="121"/>
                      <a:pt x="2627" y="112"/>
                      <a:pt x="2628" y="103"/>
                    </a:cubicBezTo>
                    <a:cubicBezTo>
                      <a:pt x="2627" y="108"/>
                      <a:pt x="2626" y="112"/>
                      <a:pt x="2625" y="117"/>
                    </a:cubicBezTo>
                    <a:cubicBezTo>
                      <a:pt x="2626" y="85"/>
                      <a:pt x="2632" y="45"/>
                      <a:pt x="2632" y="45"/>
                    </a:cubicBezTo>
                    <a:cubicBezTo>
                      <a:pt x="2625" y="60"/>
                      <a:pt x="2620" y="95"/>
                      <a:pt x="2618" y="120"/>
                    </a:cubicBezTo>
                    <a:cubicBezTo>
                      <a:pt x="2618" y="123"/>
                      <a:pt x="2617" y="125"/>
                      <a:pt x="2616" y="127"/>
                    </a:cubicBezTo>
                    <a:cubicBezTo>
                      <a:pt x="2616" y="103"/>
                      <a:pt x="2615" y="70"/>
                      <a:pt x="2615" y="70"/>
                    </a:cubicBezTo>
                    <a:cubicBezTo>
                      <a:pt x="2615" y="72"/>
                      <a:pt x="2615" y="76"/>
                      <a:pt x="2614" y="81"/>
                    </a:cubicBezTo>
                    <a:cubicBezTo>
                      <a:pt x="2613" y="73"/>
                      <a:pt x="2611" y="66"/>
                      <a:pt x="2608" y="60"/>
                    </a:cubicBezTo>
                    <a:cubicBezTo>
                      <a:pt x="2609" y="52"/>
                      <a:pt x="2609" y="46"/>
                      <a:pt x="2609" y="46"/>
                    </a:cubicBezTo>
                    <a:cubicBezTo>
                      <a:pt x="2607" y="51"/>
                      <a:pt x="2605" y="64"/>
                      <a:pt x="2604" y="79"/>
                    </a:cubicBezTo>
                    <a:cubicBezTo>
                      <a:pt x="2603" y="77"/>
                      <a:pt x="2603" y="75"/>
                      <a:pt x="2602" y="74"/>
                    </a:cubicBezTo>
                    <a:cubicBezTo>
                      <a:pt x="2601" y="83"/>
                      <a:pt x="2601" y="92"/>
                      <a:pt x="2601" y="102"/>
                    </a:cubicBezTo>
                    <a:cubicBezTo>
                      <a:pt x="2601" y="108"/>
                      <a:pt x="2600" y="115"/>
                      <a:pt x="2599" y="121"/>
                    </a:cubicBezTo>
                    <a:cubicBezTo>
                      <a:pt x="2599" y="123"/>
                      <a:pt x="2599" y="125"/>
                      <a:pt x="2598" y="127"/>
                    </a:cubicBezTo>
                    <a:cubicBezTo>
                      <a:pt x="2598" y="35"/>
                      <a:pt x="2596" y="34"/>
                      <a:pt x="2596" y="34"/>
                    </a:cubicBezTo>
                    <a:cubicBezTo>
                      <a:pt x="2598" y="49"/>
                      <a:pt x="2594" y="77"/>
                      <a:pt x="2590" y="102"/>
                    </a:cubicBezTo>
                    <a:cubicBezTo>
                      <a:pt x="2589" y="94"/>
                      <a:pt x="2587" y="85"/>
                      <a:pt x="2583" y="76"/>
                    </a:cubicBezTo>
                    <a:cubicBezTo>
                      <a:pt x="2584" y="70"/>
                      <a:pt x="2584" y="66"/>
                      <a:pt x="2584" y="66"/>
                    </a:cubicBezTo>
                    <a:cubicBezTo>
                      <a:pt x="2584" y="68"/>
                      <a:pt x="2583" y="71"/>
                      <a:pt x="2582" y="74"/>
                    </a:cubicBezTo>
                    <a:cubicBezTo>
                      <a:pt x="2582" y="73"/>
                      <a:pt x="2581" y="72"/>
                      <a:pt x="2580" y="71"/>
                    </a:cubicBezTo>
                    <a:cubicBezTo>
                      <a:pt x="2581" y="73"/>
                      <a:pt x="2581" y="74"/>
                      <a:pt x="2582" y="76"/>
                    </a:cubicBezTo>
                    <a:cubicBezTo>
                      <a:pt x="2580" y="83"/>
                      <a:pt x="2578" y="93"/>
                      <a:pt x="2577" y="103"/>
                    </a:cubicBezTo>
                    <a:cubicBezTo>
                      <a:pt x="2576" y="98"/>
                      <a:pt x="2575" y="94"/>
                      <a:pt x="2574" y="89"/>
                    </a:cubicBezTo>
                    <a:cubicBezTo>
                      <a:pt x="2575" y="96"/>
                      <a:pt x="2573" y="104"/>
                      <a:pt x="2571" y="112"/>
                    </a:cubicBezTo>
                    <a:cubicBezTo>
                      <a:pt x="2571" y="92"/>
                      <a:pt x="2570" y="70"/>
                      <a:pt x="2569" y="62"/>
                    </a:cubicBezTo>
                    <a:cubicBezTo>
                      <a:pt x="2569" y="67"/>
                      <a:pt x="2569" y="74"/>
                      <a:pt x="2569" y="82"/>
                    </a:cubicBezTo>
                    <a:cubicBezTo>
                      <a:pt x="2567" y="87"/>
                      <a:pt x="2564" y="94"/>
                      <a:pt x="2562" y="101"/>
                    </a:cubicBezTo>
                    <a:cubicBezTo>
                      <a:pt x="2562" y="91"/>
                      <a:pt x="2562" y="82"/>
                      <a:pt x="2562" y="75"/>
                    </a:cubicBezTo>
                    <a:cubicBezTo>
                      <a:pt x="2561" y="86"/>
                      <a:pt x="2559" y="102"/>
                      <a:pt x="2557" y="116"/>
                    </a:cubicBezTo>
                    <a:cubicBezTo>
                      <a:pt x="2555" y="123"/>
                      <a:pt x="2553" y="130"/>
                      <a:pt x="2551" y="136"/>
                    </a:cubicBezTo>
                    <a:cubicBezTo>
                      <a:pt x="2551" y="118"/>
                      <a:pt x="2554" y="89"/>
                      <a:pt x="2554" y="89"/>
                    </a:cubicBezTo>
                    <a:cubicBezTo>
                      <a:pt x="2553" y="93"/>
                      <a:pt x="2552" y="99"/>
                      <a:pt x="2549" y="106"/>
                    </a:cubicBezTo>
                    <a:cubicBezTo>
                      <a:pt x="2549" y="104"/>
                      <a:pt x="2549" y="101"/>
                      <a:pt x="2548" y="99"/>
                    </a:cubicBezTo>
                    <a:cubicBezTo>
                      <a:pt x="2548" y="96"/>
                      <a:pt x="2548" y="96"/>
                      <a:pt x="2548" y="96"/>
                    </a:cubicBezTo>
                    <a:cubicBezTo>
                      <a:pt x="2547" y="95"/>
                      <a:pt x="2547" y="95"/>
                      <a:pt x="2547" y="95"/>
                    </a:cubicBezTo>
                    <a:cubicBezTo>
                      <a:pt x="2547" y="104"/>
                      <a:pt x="2545" y="113"/>
                      <a:pt x="2543" y="122"/>
                    </a:cubicBezTo>
                    <a:cubicBezTo>
                      <a:pt x="2541" y="127"/>
                      <a:pt x="2540" y="131"/>
                      <a:pt x="2538" y="134"/>
                    </a:cubicBezTo>
                    <a:cubicBezTo>
                      <a:pt x="2538" y="130"/>
                      <a:pt x="2538" y="126"/>
                      <a:pt x="2538" y="122"/>
                    </a:cubicBezTo>
                    <a:cubicBezTo>
                      <a:pt x="2542" y="102"/>
                      <a:pt x="2549" y="76"/>
                      <a:pt x="2549" y="76"/>
                    </a:cubicBezTo>
                    <a:cubicBezTo>
                      <a:pt x="2544" y="82"/>
                      <a:pt x="2539" y="94"/>
                      <a:pt x="2535" y="105"/>
                    </a:cubicBezTo>
                    <a:cubicBezTo>
                      <a:pt x="2535" y="102"/>
                      <a:pt x="2534" y="98"/>
                      <a:pt x="2532" y="95"/>
                    </a:cubicBezTo>
                    <a:cubicBezTo>
                      <a:pt x="2533" y="74"/>
                      <a:pt x="2529" y="62"/>
                      <a:pt x="2529" y="62"/>
                    </a:cubicBezTo>
                    <a:cubicBezTo>
                      <a:pt x="2531" y="69"/>
                      <a:pt x="2531" y="78"/>
                      <a:pt x="2530" y="88"/>
                    </a:cubicBezTo>
                    <a:cubicBezTo>
                      <a:pt x="2527" y="83"/>
                      <a:pt x="2524" y="78"/>
                      <a:pt x="2520" y="73"/>
                    </a:cubicBezTo>
                    <a:cubicBezTo>
                      <a:pt x="2524" y="80"/>
                      <a:pt x="2527" y="92"/>
                      <a:pt x="2528" y="102"/>
                    </a:cubicBezTo>
                    <a:cubicBezTo>
                      <a:pt x="2527" y="108"/>
                      <a:pt x="2526" y="115"/>
                      <a:pt x="2525" y="120"/>
                    </a:cubicBezTo>
                    <a:cubicBezTo>
                      <a:pt x="2524" y="113"/>
                      <a:pt x="2523" y="106"/>
                      <a:pt x="2521" y="100"/>
                    </a:cubicBezTo>
                    <a:cubicBezTo>
                      <a:pt x="2522" y="89"/>
                      <a:pt x="2522" y="82"/>
                      <a:pt x="2522" y="82"/>
                    </a:cubicBezTo>
                    <a:cubicBezTo>
                      <a:pt x="2521" y="98"/>
                      <a:pt x="2521" y="98"/>
                      <a:pt x="2521" y="98"/>
                    </a:cubicBezTo>
                    <a:cubicBezTo>
                      <a:pt x="2520" y="94"/>
                      <a:pt x="2519" y="91"/>
                      <a:pt x="2517" y="88"/>
                    </a:cubicBezTo>
                    <a:cubicBezTo>
                      <a:pt x="2517" y="73"/>
                      <a:pt x="2516" y="60"/>
                      <a:pt x="2516" y="60"/>
                    </a:cubicBezTo>
                    <a:cubicBezTo>
                      <a:pt x="2516" y="72"/>
                      <a:pt x="2513" y="90"/>
                      <a:pt x="2513" y="90"/>
                    </a:cubicBezTo>
                    <a:cubicBezTo>
                      <a:pt x="2511" y="84"/>
                      <a:pt x="2511" y="64"/>
                      <a:pt x="2511" y="64"/>
                    </a:cubicBezTo>
                    <a:cubicBezTo>
                      <a:pt x="2511" y="68"/>
                      <a:pt x="2510" y="83"/>
                      <a:pt x="2508" y="98"/>
                    </a:cubicBezTo>
                    <a:cubicBezTo>
                      <a:pt x="2508" y="96"/>
                      <a:pt x="2507" y="95"/>
                      <a:pt x="2507" y="93"/>
                    </a:cubicBezTo>
                    <a:cubicBezTo>
                      <a:pt x="2506" y="88"/>
                      <a:pt x="2504" y="82"/>
                      <a:pt x="2502" y="76"/>
                    </a:cubicBezTo>
                    <a:cubicBezTo>
                      <a:pt x="2502" y="57"/>
                      <a:pt x="2502" y="42"/>
                      <a:pt x="2502" y="42"/>
                    </a:cubicBezTo>
                    <a:cubicBezTo>
                      <a:pt x="2502" y="49"/>
                      <a:pt x="2502" y="59"/>
                      <a:pt x="2501" y="70"/>
                    </a:cubicBezTo>
                    <a:cubicBezTo>
                      <a:pt x="2498" y="64"/>
                      <a:pt x="2496" y="57"/>
                      <a:pt x="2493" y="51"/>
                    </a:cubicBezTo>
                    <a:cubicBezTo>
                      <a:pt x="2492" y="52"/>
                      <a:pt x="2492" y="54"/>
                      <a:pt x="2492" y="55"/>
                    </a:cubicBezTo>
                    <a:cubicBezTo>
                      <a:pt x="2496" y="65"/>
                      <a:pt x="2498" y="74"/>
                      <a:pt x="2499" y="82"/>
                    </a:cubicBezTo>
                    <a:cubicBezTo>
                      <a:pt x="2499" y="88"/>
                      <a:pt x="2498" y="94"/>
                      <a:pt x="2497" y="100"/>
                    </a:cubicBezTo>
                    <a:cubicBezTo>
                      <a:pt x="2496" y="96"/>
                      <a:pt x="2495" y="92"/>
                      <a:pt x="2494" y="88"/>
                    </a:cubicBezTo>
                    <a:cubicBezTo>
                      <a:pt x="2495" y="78"/>
                      <a:pt x="2496" y="70"/>
                      <a:pt x="2496" y="70"/>
                    </a:cubicBezTo>
                    <a:cubicBezTo>
                      <a:pt x="2495" y="72"/>
                      <a:pt x="2494" y="78"/>
                      <a:pt x="2493" y="85"/>
                    </a:cubicBezTo>
                    <a:cubicBezTo>
                      <a:pt x="2491" y="82"/>
                      <a:pt x="2489" y="79"/>
                      <a:pt x="2487" y="76"/>
                    </a:cubicBezTo>
                    <a:cubicBezTo>
                      <a:pt x="2486" y="71"/>
                      <a:pt x="2486" y="66"/>
                      <a:pt x="2486" y="61"/>
                    </a:cubicBezTo>
                    <a:cubicBezTo>
                      <a:pt x="2485" y="73"/>
                      <a:pt x="2483" y="87"/>
                      <a:pt x="2481" y="101"/>
                    </a:cubicBezTo>
                    <a:cubicBezTo>
                      <a:pt x="2479" y="95"/>
                      <a:pt x="2477" y="90"/>
                      <a:pt x="2475" y="86"/>
                    </a:cubicBezTo>
                    <a:cubicBezTo>
                      <a:pt x="2476" y="73"/>
                      <a:pt x="2476" y="64"/>
                      <a:pt x="2476" y="64"/>
                    </a:cubicBezTo>
                    <a:cubicBezTo>
                      <a:pt x="2476" y="71"/>
                      <a:pt x="2474" y="82"/>
                      <a:pt x="2472" y="95"/>
                    </a:cubicBezTo>
                    <a:cubicBezTo>
                      <a:pt x="2470" y="87"/>
                      <a:pt x="2468" y="79"/>
                      <a:pt x="2464" y="71"/>
                    </a:cubicBezTo>
                    <a:cubicBezTo>
                      <a:pt x="2466" y="49"/>
                      <a:pt x="2467" y="30"/>
                      <a:pt x="2467" y="30"/>
                    </a:cubicBezTo>
                    <a:cubicBezTo>
                      <a:pt x="2465" y="35"/>
                      <a:pt x="2463" y="49"/>
                      <a:pt x="2461" y="65"/>
                    </a:cubicBezTo>
                    <a:cubicBezTo>
                      <a:pt x="2460" y="62"/>
                      <a:pt x="2458" y="59"/>
                      <a:pt x="2456" y="56"/>
                    </a:cubicBezTo>
                    <a:cubicBezTo>
                      <a:pt x="2456" y="63"/>
                      <a:pt x="2458" y="70"/>
                      <a:pt x="2460" y="78"/>
                    </a:cubicBezTo>
                    <a:cubicBezTo>
                      <a:pt x="2459" y="87"/>
                      <a:pt x="2458" y="97"/>
                      <a:pt x="2457" y="106"/>
                    </a:cubicBezTo>
                    <a:cubicBezTo>
                      <a:pt x="2457" y="105"/>
                      <a:pt x="2457" y="104"/>
                      <a:pt x="2456" y="103"/>
                    </a:cubicBezTo>
                    <a:cubicBezTo>
                      <a:pt x="2457" y="104"/>
                      <a:pt x="2457" y="106"/>
                      <a:pt x="2457" y="109"/>
                    </a:cubicBezTo>
                    <a:cubicBezTo>
                      <a:pt x="2456" y="120"/>
                      <a:pt x="2455" y="131"/>
                      <a:pt x="2455" y="138"/>
                    </a:cubicBezTo>
                    <a:cubicBezTo>
                      <a:pt x="2455" y="137"/>
                      <a:pt x="2454" y="135"/>
                      <a:pt x="2454" y="134"/>
                    </a:cubicBezTo>
                    <a:cubicBezTo>
                      <a:pt x="2453" y="99"/>
                      <a:pt x="2448" y="41"/>
                      <a:pt x="2448" y="41"/>
                    </a:cubicBezTo>
                    <a:cubicBezTo>
                      <a:pt x="2449" y="58"/>
                      <a:pt x="2448" y="86"/>
                      <a:pt x="2446" y="108"/>
                    </a:cubicBezTo>
                    <a:cubicBezTo>
                      <a:pt x="2444" y="105"/>
                      <a:pt x="2443" y="102"/>
                      <a:pt x="2441" y="99"/>
                    </a:cubicBezTo>
                    <a:cubicBezTo>
                      <a:pt x="2441" y="86"/>
                      <a:pt x="2441" y="73"/>
                      <a:pt x="2441" y="67"/>
                    </a:cubicBezTo>
                    <a:cubicBezTo>
                      <a:pt x="2441" y="75"/>
                      <a:pt x="2440" y="85"/>
                      <a:pt x="2439" y="94"/>
                    </a:cubicBezTo>
                    <a:cubicBezTo>
                      <a:pt x="2438" y="92"/>
                      <a:pt x="2437" y="91"/>
                      <a:pt x="2436" y="89"/>
                    </a:cubicBezTo>
                    <a:cubicBezTo>
                      <a:pt x="2437" y="91"/>
                      <a:pt x="2438" y="94"/>
                      <a:pt x="2438" y="97"/>
                    </a:cubicBezTo>
                    <a:cubicBezTo>
                      <a:pt x="2437" y="104"/>
                      <a:pt x="2436" y="110"/>
                      <a:pt x="2434" y="116"/>
                    </a:cubicBezTo>
                    <a:cubicBezTo>
                      <a:pt x="2433" y="110"/>
                      <a:pt x="2432" y="105"/>
                      <a:pt x="2430" y="101"/>
                    </a:cubicBezTo>
                    <a:cubicBezTo>
                      <a:pt x="2431" y="91"/>
                      <a:pt x="2432" y="83"/>
                      <a:pt x="2432" y="83"/>
                    </a:cubicBezTo>
                    <a:cubicBezTo>
                      <a:pt x="2432" y="86"/>
                      <a:pt x="2431" y="92"/>
                      <a:pt x="2429" y="98"/>
                    </a:cubicBezTo>
                    <a:cubicBezTo>
                      <a:pt x="2428" y="94"/>
                      <a:pt x="2427" y="91"/>
                      <a:pt x="2426" y="89"/>
                    </a:cubicBezTo>
                    <a:cubicBezTo>
                      <a:pt x="2427" y="74"/>
                      <a:pt x="2428" y="62"/>
                      <a:pt x="2428" y="62"/>
                    </a:cubicBezTo>
                    <a:cubicBezTo>
                      <a:pt x="2427" y="65"/>
                      <a:pt x="2426" y="75"/>
                      <a:pt x="2424" y="87"/>
                    </a:cubicBezTo>
                    <a:cubicBezTo>
                      <a:pt x="2422" y="83"/>
                      <a:pt x="2420" y="81"/>
                      <a:pt x="2417" y="78"/>
                    </a:cubicBezTo>
                    <a:cubicBezTo>
                      <a:pt x="2420" y="81"/>
                      <a:pt x="2422" y="84"/>
                      <a:pt x="2424" y="89"/>
                    </a:cubicBezTo>
                    <a:cubicBezTo>
                      <a:pt x="2423" y="96"/>
                      <a:pt x="2422" y="105"/>
                      <a:pt x="2421" y="113"/>
                    </a:cubicBezTo>
                    <a:cubicBezTo>
                      <a:pt x="2420" y="108"/>
                      <a:pt x="2419" y="104"/>
                      <a:pt x="2417" y="100"/>
                    </a:cubicBezTo>
                    <a:cubicBezTo>
                      <a:pt x="2416" y="86"/>
                      <a:pt x="2414" y="74"/>
                      <a:pt x="2413" y="68"/>
                    </a:cubicBezTo>
                    <a:cubicBezTo>
                      <a:pt x="2413" y="71"/>
                      <a:pt x="2414" y="76"/>
                      <a:pt x="2413" y="86"/>
                    </a:cubicBezTo>
                    <a:cubicBezTo>
                      <a:pt x="2413" y="87"/>
                      <a:pt x="2413" y="88"/>
                      <a:pt x="2413" y="90"/>
                    </a:cubicBezTo>
                    <a:cubicBezTo>
                      <a:pt x="2412" y="87"/>
                      <a:pt x="2410" y="84"/>
                      <a:pt x="2408" y="81"/>
                    </a:cubicBezTo>
                    <a:cubicBezTo>
                      <a:pt x="2411" y="85"/>
                      <a:pt x="2412" y="91"/>
                      <a:pt x="2412" y="96"/>
                    </a:cubicBezTo>
                    <a:cubicBezTo>
                      <a:pt x="2411" y="105"/>
                      <a:pt x="2409" y="115"/>
                      <a:pt x="2407" y="124"/>
                    </a:cubicBezTo>
                    <a:cubicBezTo>
                      <a:pt x="2407" y="113"/>
                      <a:pt x="2406" y="102"/>
                      <a:pt x="2404" y="91"/>
                    </a:cubicBezTo>
                    <a:cubicBezTo>
                      <a:pt x="2404" y="77"/>
                      <a:pt x="2404" y="77"/>
                      <a:pt x="2404" y="77"/>
                    </a:cubicBezTo>
                    <a:cubicBezTo>
                      <a:pt x="2407" y="35"/>
                      <a:pt x="2400" y="19"/>
                      <a:pt x="2400" y="19"/>
                    </a:cubicBezTo>
                    <a:cubicBezTo>
                      <a:pt x="2400" y="19"/>
                      <a:pt x="2403" y="31"/>
                      <a:pt x="2402" y="54"/>
                    </a:cubicBezTo>
                    <a:cubicBezTo>
                      <a:pt x="2401" y="59"/>
                      <a:pt x="2401" y="68"/>
                      <a:pt x="2400" y="78"/>
                    </a:cubicBezTo>
                    <a:cubicBezTo>
                      <a:pt x="2397" y="72"/>
                      <a:pt x="2394" y="66"/>
                      <a:pt x="2390" y="60"/>
                    </a:cubicBezTo>
                    <a:cubicBezTo>
                      <a:pt x="2390" y="61"/>
                      <a:pt x="2390" y="61"/>
                      <a:pt x="2390" y="61"/>
                    </a:cubicBezTo>
                    <a:cubicBezTo>
                      <a:pt x="2390" y="62"/>
                      <a:pt x="2390" y="63"/>
                      <a:pt x="2390" y="64"/>
                    </a:cubicBezTo>
                    <a:cubicBezTo>
                      <a:pt x="2388" y="44"/>
                      <a:pt x="2381" y="40"/>
                      <a:pt x="2381" y="40"/>
                    </a:cubicBezTo>
                    <a:cubicBezTo>
                      <a:pt x="2381" y="40"/>
                      <a:pt x="2387" y="44"/>
                      <a:pt x="2387" y="70"/>
                    </a:cubicBezTo>
                    <a:cubicBezTo>
                      <a:pt x="2387" y="76"/>
                      <a:pt x="2386" y="85"/>
                      <a:pt x="2384" y="94"/>
                    </a:cubicBezTo>
                    <a:cubicBezTo>
                      <a:pt x="2382" y="90"/>
                      <a:pt x="2379" y="86"/>
                      <a:pt x="2376" y="83"/>
                    </a:cubicBezTo>
                    <a:cubicBezTo>
                      <a:pt x="2379" y="87"/>
                      <a:pt x="2382" y="92"/>
                      <a:pt x="2384" y="97"/>
                    </a:cubicBezTo>
                    <a:cubicBezTo>
                      <a:pt x="2383" y="100"/>
                      <a:pt x="2383" y="103"/>
                      <a:pt x="2382" y="106"/>
                    </a:cubicBezTo>
                    <a:cubicBezTo>
                      <a:pt x="2381" y="104"/>
                      <a:pt x="2381" y="102"/>
                      <a:pt x="2380" y="100"/>
                    </a:cubicBezTo>
                    <a:cubicBezTo>
                      <a:pt x="2381" y="102"/>
                      <a:pt x="2381" y="105"/>
                      <a:pt x="2382" y="108"/>
                    </a:cubicBezTo>
                    <a:cubicBezTo>
                      <a:pt x="2381" y="111"/>
                      <a:pt x="2380" y="114"/>
                      <a:pt x="2379" y="117"/>
                    </a:cubicBezTo>
                    <a:cubicBezTo>
                      <a:pt x="2378" y="113"/>
                      <a:pt x="2376" y="108"/>
                      <a:pt x="2374" y="104"/>
                    </a:cubicBezTo>
                    <a:cubicBezTo>
                      <a:pt x="2375" y="87"/>
                      <a:pt x="2376" y="71"/>
                      <a:pt x="2376" y="71"/>
                    </a:cubicBezTo>
                    <a:cubicBezTo>
                      <a:pt x="2375" y="73"/>
                      <a:pt x="2373" y="84"/>
                      <a:pt x="2371" y="97"/>
                    </a:cubicBezTo>
                    <a:cubicBezTo>
                      <a:pt x="2370" y="95"/>
                      <a:pt x="2369" y="93"/>
                      <a:pt x="2368" y="92"/>
                    </a:cubicBezTo>
                    <a:cubicBezTo>
                      <a:pt x="2369" y="81"/>
                      <a:pt x="2370" y="72"/>
                      <a:pt x="2371" y="66"/>
                    </a:cubicBezTo>
                    <a:cubicBezTo>
                      <a:pt x="2370" y="73"/>
                      <a:pt x="2369" y="81"/>
                      <a:pt x="2367" y="90"/>
                    </a:cubicBezTo>
                    <a:cubicBezTo>
                      <a:pt x="2366" y="88"/>
                      <a:pt x="2364" y="86"/>
                      <a:pt x="2362" y="83"/>
                    </a:cubicBezTo>
                    <a:cubicBezTo>
                      <a:pt x="2366" y="26"/>
                      <a:pt x="2364" y="12"/>
                      <a:pt x="2364" y="12"/>
                    </a:cubicBezTo>
                    <a:cubicBezTo>
                      <a:pt x="2364" y="12"/>
                      <a:pt x="2364" y="18"/>
                      <a:pt x="2361" y="56"/>
                    </a:cubicBezTo>
                    <a:cubicBezTo>
                      <a:pt x="2360" y="64"/>
                      <a:pt x="2359" y="71"/>
                      <a:pt x="2358" y="78"/>
                    </a:cubicBezTo>
                    <a:cubicBezTo>
                      <a:pt x="2356" y="76"/>
                      <a:pt x="2353" y="73"/>
                      <a:pt x="2351" y="71"/>
                    </a:cubicBezTo>
                    <a:cubicBezTo>
                      <a:pt x="2352" y="48"/>
                      <a:pt x="2353" y="31"/>
                      <a:pt x="2353" y="31"/>
                    </a:cubicBezTo>
                    <a:cubicBezTo>
                      <a:pt x="2351" y="37"/>
                      <a:pt x="2349" y="52"/>
                      <a:pt x="2348" y="68"/>
                    </a:cubicBezTo>
                    <a:cubicBezTo>
                      <a:pt x="2346" y="66"/>
                      <a:pt x="2344" y="65"/>
                      <a:pt x="2342" y="63"/>
                    </a:cubicBezTo>
                    <a:cubicBezTo>
                      <a:pt x="2344" y="65"/>
                      <a:pt x="2346" y="67"/>
                      <a:pt x="2348" y="69"/>
                    </a:cubicBezTo>
                    <a:cubicBezTo>
                      <a:pt x="2347" y="82"/>
                      <a:pt x="2347" y="96"/>
                      <a:pt x="2346" y="109"/>
                    </a:cubicBezTo>
                    <a:cubicBezTo>
                      <a:pt x="2345" y="104"/>
                      <a:pt x="2343" y="99"/>
                      <a:pt x="2342" y="96"/>
                    </a:cubicBezTo>
                    <a:cubicBezTo>
                      <a:pt x="2343" y="104"/>
                      <a:pt x="2344" y="112"/>
                      <a:pt x="2346" y="120"/>
                    </a:cubicBezTo>
                    <a:cubicBezTo>
                      <a:pt x="2346" y="123"/>
                      <a:pt x="2346" y="126"/>
                      <a:pt x="2346" y="128"/>
                    </a:cubicBezTo>
                    <a:cubicBezTo>
                      <a:pt x="2345" y="125"/>
                      <a:pt x="2343" y="122"/>
                      <a:pt x="2342" y="118"/>
                    </a:cubicBezTo>
                    <a:cubicBezTo>
                      <a:pt x="2337" y="80"/>
                      <a:pt x="2330" y="28"/>
                      <a:pt x="2330" y="28"/>
                    </a:cubicBezTo>
                    <a:cubicBezTo>
                      <a:pt x="2330" y="39"/>
                      <a:pt x="2328" y="72"/>
                      <a:pt x="2326" y="100"/>
                    </a:cubicBezTo>
                    <a:cubicBezTo>
                      <a:pt x="2326" y="98"/>
                      <a:pt x="2325" y="97"/>
                      <a:pt x="2324" y="96"/>
                    </a:cubicBezTo>
                    <a:cubicBezTo>
                      <a:pt x="2325" y="97"/>
                      <a:pt x="2326" y="99"/>
                      <a:pt x="2326" y="100"/>
                    </a:cubicBezTo>
                    <a:cubicBezTo>
                      <a:pt x="2326" y="110"/>
                      <a:pt x="2325" y="120"/>
                      <a:pt x="2324" y="128"/>
                    </a:cubicBezTo>
                    <a:cubicBezTo>
                      <a:pt x="2324" y="128"/>
                      <a:pt x="2324" y="127"/>
                      <a:pt x="2324" y="127"/>
                    </a:cubicBezTo>
                    <a:cubicBezTo>
                      <a:pt x="2324" y="109"/>
                      <a:pt x="2322" y="87"/>
                      <a:pt x="2321" y="71"/>
                    </a:cubicBezTo>
                    <a:cubicBezTo>
                      <a:pt x="2322" y="68"/>
                      <a:pt x="2323" y="66"/>
                      <a:pt x="2324" y="64"/>
                    </a:cubicBezTo>
                    <a:cubicBezTo>
                      <a:pt x="2323" y="65"/>
                      <a:pt x="2322" y="67"/>
                      <a:pt x="2320" y="69"/>
                    </a:cubicBezTo>
                    <a:cubicBezTo>
                      <a:pt x="2320" y="61"/>
                      <a:pt x="2319" y="55"/>
                      <a:pt x="2319" y="53"/>
                    </a:cubicBezTo>
                    <a:cubicBezTo>
                      <a:pt x="2319" y="52"/>
                      <a:pt x="2320" y="52"/>
                      <a:pt x="2320" y="51"/>
                    </a:cubicBezTo>
                    <a:cubicBezTo>
                      <a:pt x="2320" y="51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7" y="54"/>
                      <a:pt x="2315" y="56"/>
                      <a:pt x="2313" y="57"/>
                    </a:cubicBezTo>
                    <a:cubicBezTo>
                      <a:pt x="2314" y="54"/>
                      <a:pt x="2314" y="52"/>
                      <a:pt x="2314" y="50"/>
                    </a:cubicBezTo>
                    <a:cubicBezTo>
                      <a:pt x="2318" y="46"/>
                      <a:pt x="2321" y="42"/>
                      <a:pt x="2325" y="38"/>
                    </a:cubicBezTo>
                    <a:cubicBezTo>
                      <a:pt x="2321" y="41"/>
                      <a:pt x="2318" y="44"/>
                      <a:pt x="2315" y="47"/>
                    </a:cubicBezTo>
                    <a:cubicBezTo>
                      <a:pt x="2315" y="43"/>
                      <a:pt x="2316" y="40"/>
                      <a:pt x="2316" y="40"/>
                    </a:cubicBezTo>
                    <a:cubicBezTo>
                      <a:pt x="2315" y="43"/>
                      <a:pt x="2313" y="46"/>
                      <a:pt x="2312" y="50"/>
                    </a:cubicBezTo>
                    <a:cubicBezTo>
                      <a:pt x="2305" y="58"/>
                      <a:pt x="2300" y="66"/>
                      <a:pt x="2296" y="75"/>
                    </a:cubicBezTo>
                    <a:cubicBezTo>
                      <a:pt x="2295" y="70"/>
                      <a:pt x="2295" y="66"/>
                      <a:pt x="2295" y="63"/>
                    </a:cubicBezTo>
                    <a:cubicBezTo>
                      <a:pt x="2298" y="57"/>
                      <a:pt x="2301" y="50"/>
                      <a:pt x="2305" y="42"/>
                    </a:cubicBezTo>
                    <a:cubicBezTo>
                      <a:pt x="2296" y="52"/>
                      <a:pt x="2290" y="61"/>
                      <a:pt x="2286" y="71"/>
                    </a:cubicBezTo>
                    <a:cubicBezTo>
                      <a:pt x="2285" y="70"/>
                      <a:pt x="2284" y="70"/>
                      <a:pt x="2284" y="69"/>
                    </a:cubicBezTo>
                    <a:cubicBezTo>
                      <a:pt x="2284" y="68"/>
                      <a:pt x="2284" y="67"/>
                      <a:pt x="2283" y="65"/>
                    </a:cubicBezTo>
                    <a:cubicBezTo>
                      <a:pt x="2290" y="53"/>
                      <a:pt x="2298" y="41"/>
                      <a:pt x="2309" y="25"/>
                    </a:cubicBezTo>
                    <a:cubicBezTo>
                      <a:pt x="2298" y="40"/>
                      <a:pt x="2290" y="51"/>
                      <a:pt x="2283" y="63"/>
                    </a:cubicBezTo>
                    <a:cubicBezTo>
                      <a:pt x="2281" y="45"/>
                      <a:pt x="2279" y="30"/>
                      <a:pt x="2279" y="30"/>
                    </a:cubicBezTo>
                    <a:cubicBezTo>
                      <a:pt x="2280" y="35"/>
                      <a:pt x="2280" y="49"/>
                      <a:pt x="2280" y="65"/>
                    </a:cubicBezTo>
                    <a:cubicBezTo>
                      <a:pt x="2280" y="65"/>
                      <a:pt x="2279" y="65"/>
                      <a:pt x="2279" y="65"/>
                    </a:cubicBezTo>
                    <a:cubicBezTo>
                      <a:pt x="2279" y="65"/>
                      <a:pt x="2280" y="65"/>
                      <a:pt x="2280" y="65"/>
                    </a:cubicBezTo>
                    <a:cubicBezTo>
                      <a:pt x="2280" y="67"/>
                      <a:pt x="2280" y="69"/>
                      <a:pt x="2279" y="71"/>
                    </a:cubicBezTo>
                    <a:cubicBezTo>
                      <a:pt x="2278" y="74"/>
                      <a:pt x="2277" y="78"/>
                      <a:pt x="2276" y="81"/>
                    </a:cubicBezTo>
                    <a:cubicBezTo>
                      <a:pt x="2277" y="78"/>
                      <a:pt x="2278" y="76"/>
                      <a:pt x="2279" y="73"/>
                    </a:cubicBezTo>
                    <a:cubicBezTo>
                      <a:pt x="2279" y="79"/>
                      <a:pt x="2279" y="85"/>
                      <a:pt x="2279" y="91"/>
                    </a:cubicBezTo>
                    <a:cubicBezTo>
                      <a:pt x="2278" y="93"/>
                      <a:pt x="2278" y="95"/>
                      <a:pt x="2278" y="97"/>
                    </a:cubicBezTo>
                    <a:cubicBezTo>
                      <a:pt x="2277" y="96"/>
                      <a:pt x="2276" y="95"/>
                      <a:pt x="2276" y="94"/>
                    </a:cubicBezTo>
                    <a:cubicBezTo>
                      <a:pt x="2275" y="91"/>
                      <a:pt x="2275" y="88"/>
                      <a:pt x="2275" y="85"/>
                    </a:cubicBezTo>
                    <a:cubicBezTo>
                      <a:pt x="2275" y="83"/>
                      <a:pt x="2276" y="82"/>
                      <a:pt x="2276" y="81"/>
                    </a:cubicBezTo>
                    <a:cubicBezTo>
                      <a:pt x="2276" y="82"/>
                      <a:pt x="2275" y="83"/>
                      <a:pt x="2275" y="84"/>
                    </a:cubicBezTo>
                    <a:cubicBezTo>
                      <a:pt x="2274" y="72"/>
                      <a:pt x="2273" y="62"/>
                      <a:pt x="2273" y="55"/>
                    </a:cubicBezTo>
                    <a:cubicBezTo>
                      <a:pt x="2274" y="54"/>
                      <a:pt x="2275" y="53"/>
                      <a:pt x="2277" y="52"/>
                    </a:cubicBezTo>
                    <a:cubicBezTo>
                      <a:pt x="2275" y="53"/>
                      <a:pt x="2274" y="54"/>
                      <a:pt x="2273" y="54"/>
                    </a:cubicBezTo>
                    <a:cubicBezTo>
                      <a:pt x="2273" y="49"/>
                      <a:pt x="2272" y="46"/>
                      <a:pt x="2272" y="46"/>
                    </a:cubicBezTo>
                    <a:cubicBezTo>
                      <a:pt x="2272" y="48"/>
                      <a:pt x="2272" y="51"/>
                      <a:pt x="2272" y="55"/>
                    </a:cubicBezTo>
                    <a:cubicBezTo>
                      <a:pt x="2269" y="57"/>
                      <a:pt x="2266" y="59"/>
                      <a:pt x="2263" y="62"/>
                    </a:cubicBezTo>
                    <a:cubicBezTo>
                      <a:pt x="2263" y="58"/>
                      <a:pt x="2263" y="54"/>
                      <a:pt x="2263" y="50"/>
                    </a:cubicBezTo>
                    <a:cubicBezTo>
                      <a:pt x="2267" y="45"/>
                      <a:pt x="2272" y="40"/>
                      <a:pt x="2277" y="34"/>
                    </a:cubicBezTo>
                    <a:cubicBezTo>
                      <a:pt x="2272" y="39"/>
                      <a:pt x="2267" y="44"/>
                      <a:pt x="2263" y="48"/>
                    </a:cubicBezTo>
                    <a:cubicBezTo>
                      <a:pt x="2265" y="21"/>
                      <a:pt x="2266" y="0"/>
                      <a:pt x="2266" y="0"/>
                    </a:cubicBezTo>
                    <a:cubicBezTo>
                      <a:pt x="2262" y="10"/>
                      <a:pt x="2260" y="35"/>
                      <a:pt x="2259" y="53"/>
                    </a:cubicBezTo>
                    <a:cubicBezTo>
                      <a:pt x="2258" y="54"/>
                      <a:pt x="2257" y="55"/>
                      <a:pt x="2257" y="56"/>
                    </a:cubicBezTo>
                    <a:cubicBezTo>
                      <a:pt x="2255" y="44"/>
                      <a:pt x="2252" y="33"/>
                      <a:pt x="2252" y="33"/>
                    </a:cubicBezTo>
                    <a:cubicBezTo>
                      <a:pt x="2253" y="39"/>
                      <a:pt x="2253" y="49"/>
                      <a:pt x="2252" y="62"/>
                    </a:cubicBezTo>
                    <a:cubicBezTo>
                      <a:pt x="2250" y="63"/>
                      <a:pt x="2249" y="65"/>
                      <a:pt x="2248" y="67"/>
                    </a:cubicBezTo>
                    <a:cubicBezTo>
                      <a:pt x="2247" y="65"/>
                      <a:pt x="2246" y="63"/>
                      <a:pt x="2245" y="62"/>
                    </a:cubicBezTo>
                    <a:cubicBezTo>
                      <a:pt x="2245" y="63"/>
                      <a:pt x="2246" y="65"/>
                      <a:pt x="2247" y="68"/>
                    </a:cubicBezTo>
                    <a:cubicBezTo>
                      <a:pt x="2244" y="72"/>
                      <a:pt x="2242" y="75"/>
                      <a:pt x="2241" y="78"/>
                    </a:cubicBezTo>
                    <a:cubicBezTo>
                      <a:pt x="2240" y="61"/>
                      <a:pt x="2240" y="48"/>
                      <a:pt x="2240" y="48"/>
                    </a:cubicBezTo>
                    <a:cubicBezTo>
                      <a:pt x="2239" y="52"/>
                      <a:pt x="2238" y="65"/>
                      <a:pt x="2236" y="80"/>
                    </a:cubicBezTo>
                    <a:cubicBezTo>
                      <a:pt x="2235" y="82"/>
                      <a:pt x="2235" y="85"/>
                      <a:pt x="2234" y="87"/>
                    </a:cubicBezTo>
                    <a:cubicBezTo>
                      <a:pt x="2233" y="86"/>
                      <a:pt x="2233" y="86"/>
                      <a:pt x="2232" y="85"/>
                    </a:cubicBezTo>
                    <a:cubicBezTo>
                      <a:pt x="2235" y="48"/>
                      <a:pt x="2238" y="9"/>
                      <a:pt x="2238" y="9"/>
                    </a:cubicBezTo>
                    <a:cubicBezTo>
                      <a:pt x="2234" y="20"/>
                      <a:pt x="2230" y="57"/>
                      <a:pt x="2226" y="89"/>
                    </a:cubicBezTo>
                    <a:cubicBezTo>
                      <a:pt x="2225" y="91"/>
                      <a:pt x="2224" y="92"/>
                      <a:pt x="2224" y="93"/>
                    </a:cubicBezTo>
                    <a:cubicBezTo>
                      <a:pt x="2223" y="92"/>
                      <a:pt x="2222" y="90"/>
                      <a:pt x="2221" y="89"/>
                    </a:cubicBezTo>
                    <a:cubicBezTo>
                      <a:pt x="2224" y="72"/>
                      <a:pt x="2227" y="55"/>
                      <a:pt x="2227" y="37"/>
                    </a:cubicBezTo>
                    <a:cubicBezTo>
                      <a:pt x="2227" y="34"/>
                      <a:pt x="2227" y="30"/>
                      <a:pt x="2227" y="26"/>
                    </a:cubicBezTo>
                    <a:cubicBezTo>
                      <a:pt x="2220" y="45"/>
                      <a:pt x="2219" y="66"/>
                      <a:pt x="2215" y="86"/>
                    </a:cubicBezTo>
                    <a:cubicBezTo>
                      <a:pt x="2214" y="85"/>
                      <a:pt x="2214" y="84"/>
                      <a:pt x="2214" y="84"/>
                    </a:cubicBezTo>
                    <a:cubicBezTo>
                      <a:pt x="2214" y="84"/>
                      <a:pt x="2214" y="85"/>
                      <a:pt x="2215" y="86"/>
                    </a:cubicBezTo>
                    <a:cubicBezTo>
                      <a:pt x="2214" y="88"/>
                      <a:pt x="2214" y="90"/>
                      <a:pt x="2214" y="92"/>
                    </a:cubicBezTo>
                    <a:cubicBezTo>
                      <a:pt x="2213" y="94"/>
                      <a:pt x="2213" y="96"/>
                      <a:pt x="2212" y="98"/>
                    </a:cubicBezTo>
                    <a:cubicBezTo>
                      <a:pt x="2212" y="97"/>
                      <a:pt x="2211" y="96"/>
                      <a:pt x="2210" y="95"/>
                    </a:cubicBezTo>
                    <a:cubicBezTo>
                      <a:pt x="2210" y="86"/>
                      <a:pt x="2209" y="78"/>
                      <a:pt x="2208" y="72"/>
                    </a:cubicBezTo>
                    <a:cubicBezTo>
                      <a:pt x="2211" y="67"/>
                      <a:pt x="2215" y="63"/>
                      <a:pt x="2219" y="59"/>
                    </a:cubicBezTo>
                    <a:cubicBezTo>
                      <a:pt x="2215" y="62"/>
                      <a:pt x="2211" y="66"/>
                      <a:pt x="2208" y="70"/>
                    </a:cubicBezTo>
                    <a:cubicBezTo>
                      <a:pt x="2207" y="64"/>
                      <a:pt x="2207" y="60"/>
                      <a:pt x="2206" y="57"/>
                    </a:cubicBezTo>
                    <a:cubicBezTo>
                      <a:pt x="2207" y="54"/>
                      <a:pt x="2209" y="52"/>
                      <a:pt x="2210" y="50"/>
                    </a:cubicBezTo>
                    <a:cubicBezTo>
                      <a:pt x="2209" y="51"/>
                      <a:pt x="2207" y="53"/>
                      <a:pt x="2206" y="54"/>
                    </a:cubicBezTo>
                    <a:cubicBezTo>
                      <a:pt x="2206" y="53"/>
                      <a:pt x="2206" y="52"/>
                      <a:pt x="2206" y="52"/>
                    </a:cubicBezTo>
                    <a:cubicBezTo>
                      <a:pt x="2206" y="53"/>
                      <a:pt x="2206" y="54"/>
                      <a:pt x="2206" y="54"/>
                    </a:cubicBezTo>
                    <a:cubicBezTo>
                      <a:pt x="2204" y="56"/>
                      <a:pt x="2202" y="58"/>
                      <a:pt x="2200" y="60"/>
                    </a:cubicBezTo>
                    <a:cubicBezTo>
                      <a:pt x="2199" y="54"/>
                      <a:pt x="2198" y="48"/>
                      <a:pt x="2197" y="44"/>
                    </a:cubicBezTo>
                    <a:cubicBezTo>
                      <a:pt x="2198" y="49"/>
                      <a:pt x="2197" y="56"/>
                      <a:pt x="2196" y="64"/>
                    </a:cubicBezTo>
                    <a:cubicBezTo>
                      <a:pt x="2195" y="66"/>
                      <a:pt x="2194" y="68"/>
                      <a:pt x="2193" y="69"/>
                    </a:cubicBezTo>
                    <a:cubicBezTo>
                      <a:pt x="2191" y="67"/>
                      <a:pt x="2190" y="66"/>
                      <a:pt x="2188" y="64"/>
                    </a:cubicBezTo>
                    <a:cubicBezTo>
                      <a:pt x="2190" y="66"/>
                      <a:pt x="2191" y="67"/>
                      <a:pt x="2193" y="69"/>
                    </a:cubicBezTo>
                    <a:cubicBezTo>
                      <a:pt x="2191" y="71"/>
                      <a:pt x="2190" y="73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8" y="76"/>
                      <a:pt x="2187" y="77"/>
                      <a:pt x="2186" y="79"/>
                    </a:cubicBezTo>
                    <a:cubicBezTo>
                      <a:pt x="2186" y="79"/>
                      <a:pt x="2186" y="79"/>
                      <a:pt x="2186" y="79"/>
                    </a:cubicBezTo>
                    <a:cubicBezTo>
                      <a:pt x="2187" y="60"/>
                      <a:pt x="2187" y="45"/>
                      <a:pt x="2187" y="45"/>
                    </a:cubicBezTo>
                    <a:cubicBezTo>
                      <a:pt x="2187" y="50"/>
                      <a:pt x="2185" y="61"/>
                      <a:pt x="2182" y="73"/>
                    </a:cubicBezTo>
                    <a:cubicBezTo>
                      <a:pt x="2181" y="73"/>
                      <a:pt x="2181" y="73"/>
                      <a:pt x="2180" y="72"/>
                    </a:cubicBezTo>
                    <a:cubicBezTo>
                      <a:pt x="2181" y="70"/>
                      <a:pt x="2181" y="68"/>
                      <a:pt x="2181" y="66"/>
                    </a:cubicBezTo>
                    <a:cubicBezTo>
                      <a:pt x="2181" y="65"/>
                      <a:pt x="2181" y="65"/>
                      <a:pt x="2182" y="65"/>
                    </a:cubicBezTo>
                    <a:cubicBezTo>
                      <a:pt x="2181" y="65"/>
                      <a:pt x="2181" y="65"/>
                      <a:pt x="2181" y="66"/>
                    </a:cubicBezTo>
                    <a:cubicBezTo>
                      <a:pt x="2181" y="64"/>
                      <a:pt x="2181" y="63"/>
                      <a:pt x="2181" y="61"/>
                    </a:cubicBezTo>
                    <a:cubicBezTo>
                      <a:pt x="2181" y="55"/>
                      <a:pt x="2181" y="49"/>
                      <a:pt x="2180" y="42"/>
                    </a:cubicBezTo>
                    <a:cubicBezTo>
                      <a:pt x="2183" y="27"/>
                      <a:pt x="2185" y="17"/>
                      <a:pt x="2185" y="17"/>
                    </a:cubicBezTo>
                    <a:cubicBezTo>
                      <a:pt x="2182" y="22"/>
                      <a:pt x="2175" y="49"/>
                      <a:pt x="2169" y="78"/>
                    </a:cubicBezTo>
                    <a:cubicBezTo>
                      <a:pt x="2169" y="78"/>
                      <a:pt x="2169" y="78"/>
                      <a:pt x="2168" y="79"/>
                    </a:cubicBezTo>
                    <a:cubicBezTo>
                      <a:pt x="2167" y="76"/>
                      <a:pt x="2164" y="72"/>
                      <a:pt x="2162" y="69"/>
                    </a:cubicBezTo>
                    <a:cubicBezTo>
                      <a:pt x="2163" y="67"/>
                      <a:pt x="2165" y="66"/>
                      <a:pt x="2167" y="64"/>
                    </a:cubicBezTo>
                    <a:cubicBezTo>
                      <a:pt x="2165" y="66"/>
                      <a:pt x="2163" y="67"/>
                      <a:pt x="2162" y="69"/>
                    </a:cubicBezTo>
                    <a:cubicBezTo>
                      <a:pt x="2161" y="68"/>
                      <a:pt x="2160" y="67"/>
                      <a:pt x="2159" y="66"/>
                    </a:cubicBezTo>
                    <a:cubicBezTo>
                      <a:pt x="2159" y="60"/>
                      <a:pt x="2158" y="55"/>
                      <a:pt x="2158" y="52"/>
                    </a:cubicBezTo>
                    <a:cubicBezTo>
                      <a:pt x="2158" y="56"/>
                      <a:pt x="2158" y="60"/>
                      <a:pt x="2158" y="64"/>
                    </a:cubicBezTo>
                    <a:cubicBezTo>
                      <a:pt x="2154" y="60"/>
                      <a:pt x="2150" y="55"/>
                      <a:pt x="2145" y="50"/>
                    </a:cubicBezTo>
                    <a:cubicBezTo>
                      <a:pt x="2148" y="55"/>
                      <a:pt x="2151" y="60"/>
                      <a:pt x="2154" y="65"/>
                    </a:cubicBezTo>
                    <a:cubicBezTo>
                      <a:pt x="2153" y="68"/>
                      <a:pt x="2153" y="71"/>
                      <a:pt x="2152" y="76"/>
                    </a:cubicBezTo>
                    <a:cubicBezTo>
                      <a:pt x="2150" y="74"/>
                      <a:pt x="2148" y="71"/>
                      <a:pt x="2145" y="68"/>
                    </a:cubicBezTo>
                    <a:cubicBezTo>
                      <a:pt x="2145" y="54"/>
                      <a:pt x="2144" y="41"/>
                      <a:pt x="2143" y="33"/>
                    </a:cubicBezTo>
                    <a:cubicBezTo>
                      <a:pt x="2144" y="42"/>
                      <a:pt x="2143" y="53"/>
                      <a:pt x="2142" y="65"/>
                    </a:cubicBezTo>
                    <a:cubicBezTo>
                      <a:pt x="2140" y="63"/>
                      <a:pt x="2138" y="61"/>
                      <a:pt x="2136" y="59"/>
                    </a:cubicBezTo>
                    <a:cubicBezTo>
                      <a:pt x="2138" y="61"/>
                      <a:pt x="2140" y="63"/>
                      <a:pt x="2142" y="65"/>
                    </a:cubicBezTo>
                    <a:cubicBezTo>
                      <a:pt x="2141" y="72"/>
                      <a:pt x="2140" y="80"/>
                      <a:pt x="2139" y="87"/>
                    </a:cubicBezTo>
                    <a:cubicBezTo>
                      <a:pt x="2139" y="87"/>
                      <a:pt x="2139" y="87"/>
                      <a:pt x="2139" y="87"/>
                    </a:cubicBezTo>
                    <a:cubicBezTo>
                      <a:pt x="2138" y="85"/>
                      <a:pt x="2138" y="84"/>
                      <a:pt x="2137" y="83"/>
                    </a:cubicBezTo>
                    <a:cubicBezTo>
                      <a:pt x="2138" y="82"/>
                      <a:pt x="2138" y="82"/>
                      <a:pt x="2138" y="81"/>
                    </a:cubicBezTo>
                    <a:cubicBezTo>
                      <a:pt x="2138" y="82"/>
                      <a:pt x="2138" y="82"/>
                      <a:pt x="2137" y="83"/>
                    </a:cubicBezTo>
                    <a:cubicBezTo>
                      <a:pt x="2137" y="81"/>
                      <a:pt x="2136" y="79"/>
                      <a:pt x="2135" y="77"/>
                    </a:cubicBezTo>
                    <a:cubicBezTo>
                      <a:pt x="2136" y="79"/>
                      <a:pt x="2136" y="81"/>
                      <a:pt x="2137" y="83"/>
                    </a:cubicBezTo>
                    <a:cubicBezTo>
                      <a:pt x="2136" y="85"/>
                      <a:pt x="2135" y="86"/>
                      <a:pt x="2134" y="88"/>
                    </a:cubicBezTo>
                    <a:cubicBezTo>
                      <a:pt x="2135" y="86"/>
                      <a:pt x="2136" y="85"/>
                      <a:pt x="2137" y="83"/>
                    </a:cubicBezTo>
                    <a:cubicBezTo>
                      <a:pt x="2137" y="85"/>
                      <a:pt x="2138" y="86"/>
                      <a:pt x="2138" y="88"/>
                    </a:cubicBezTo>
                    <a:cubicBezTo>
                      <a:pt x="2136" y="91"/>
                      <a:pt x="2135" y="95"/>
                      <a:pt x="2133" y="98"/>
                    </a:cubicBezTo>
                    <a:cubicBezTo>
                      <a:pt x="2133" y="97"/>
                      <a:pt x="2133" y="97"/>
                      <a:pt x="2132" y="97"/>
                    </a:cubicBezTo>
                    <a:cubicBezTo>
                      <a:pt x="2132" y="95"/>
                      <a:pt x="2132" y="94"/>
                      <a:pt x="2132" y="93"/>
                    </a:cubicBezTo>
                    <a:cubicBezTo>
                      <a:pt x="2132" y="91"/>
                      <a:pt x="2133" y="89"/>
                      <a:pt x="2134" y="88"/>
                    </a:cubicBezTo>
                    <a:cubicBezTo>
                      <a:pt x="2133" y="89"/>
                      <a:pt x="2132" y="91"/>
                      <a:pt x="2131" y="92"/>
                    </a:cubicBezTo>
                    <a:cubicBezTo>
                      <a:pt x="2131" y="92"/>
                      <a:pt x="2131" y="91"/>
                      <a:pt x="2131" y="91"/>
                    </a:cubicBezTo>
                    <a:cubicBezTo>
                      <a:pt x="2131" y="74"/>
                      <a:pt x="2130" y="60"/>
                      <a:pt x="2130" y="60"/>
                    </a:cubicBezTo>
                    <a:cubicBezTo>
                      <a:pt x="2130" y="65"/>
                      <a:pt x="2130" y="73"/>
                      <a:pt x="2129" y="81"/>
                    </a:cubicBezTo>
                    <a:cubicBezTo>
                      <a:pt x="2128" y="79"/>
                      <a:pt x="2128" y="76"/>
                      <a:pt x="2127" y="74"/>
                    </a:cubicBezTo>
                    <a:cubicBezTo>
                      <a:pt x="2128" y="79"/>
                      <a:pt x="2128" y="83"/>
                      <a:pt x="2128" y="88"/>
                    </a:cubicBezTo>
                    <a:cubicBezTo>
                      <a:pt x="2127" y="86"/>
                      <a:pt x="2126" y="84"/>
                      <a:pt x="2125" y="83"/>
                    </a:cubicBezTo>
                    <a:cubicBezTo>
                      <a:pt x="2126" y="85"/>
                      <a:pt x="2127" y="87"/>
                      <a:pt x="2128" y="89"/>
                    </a:cubicBezTo>
                    <a:cubicBezTo>
                      <a:pt x="2128" y="89"/>
                      <a:pt x="2128" y="89"/>
                      <a:pt x="2128" y="89"/>
                    </a:cubicBezTo>
                    <a:cubicBezTo>
                      <a:pt x="2128" y="93"/>
                      <a:pt x="2127" y="97"/>
                      <a:pt x="2127" y="101"/>
                    </a:cubicBezTo>
                    <a:cubicBezTo>
                      <a:pt x="2126" y="103"/>
                      <a:pt x="2125" y="104"/>
                      <a:pt x="2125" y="106"/>
                    </a:cubicBezTo>
                    <a:cubicBezTo>
                      <a:pt x="2123" y="100"/>
                      <a:pt x="2122" y="95"/>
                      <a:pt x="2120" y="90"/>
                    </a:cubicBezTo>
                    <a:cubicBezTo>
                      <a:pt x="2121" y="88"/>
                      <a:pt x="2123" y="85"/>
                      <a:pt x="2124" y="83"/>
                    </a:cubicBezTo>
                    <a:cubicBezTo>
                      <a:pt x="2123" y="85"/>
                      <a:pt x="2121" y="87"/>
                      <a:pt x="2119" y="89"/>
                    </a:cubicBezTo>
                    <a:cubicBezTo>
                      <a:pt x="2119" y="88"/>
                      <a:pt x="2118" y="87"/>
                      <a:pt x="2118" y="87"/>
                    </a:cubicBezTo>
                    <a:cubicBezTo>
                      <a:pt x="2118" y="76"/>
                      <a:pt x="2119" y="68"/>
                      <a:pt x="2119" y="68"/>
                    </a:cubicBezTo>
                    <a:cubicBezTo>
                      <a:pt x="2118" y="72"/>
                      <a:pt x="2117" y="77"/>
                      <a:pt x="2116" y="82"/>
                    </a:cubicBezTo>
                    <a:cubicBezTo>
                      <a:pt x="2116" y="81"/>
                      <a:pt x="2116" y="80"/>
                      <a:pt x="2116" y="80"/>
                    </a:cubicBezTo>
                    <a:cubicBezTo>
                      <a:pt x="2116" y="80"/>
                      <a:pt x="2116" y="81"/>
                      <a:pt x="2116" y="82"/>
                    </a:cubicBezTo>
                    <a:cubicBezTo>
                      <a:pt x="2115" y="80"/>
                      <a:pt x="2114" y="78"/>
                      <a:pt x="2112" y="75"/>
                    </a:cubicBezTo>
                    <a:cubicBezTo>
                      <a:pt x="2113" y="65"/>
                      <a:pt x="2114" y="56"/>
                      <a:pt x="2115" y="48"/>
                    </a:cubicBezTo>
                    <a:cubicBezTo>
                      <a:pt x="2114" y="55"/>
                      <a:pt x="2112" y="64"/>
                      <a:pt x="2111" y="73"/>
                    </a:cubicBezTo>
                    <a:cubicBezTo>
                      <a:pt x="2109" y="70"/>
                      <a:pt x="2107" y="67"/>
                      <a:pt x="2105" y="64"/>
                    </a:cubicBezTo>
                    <a:cubicBezTo>
                      <a:pt x="2105" y="62"/>
                      <a:pt x="2105" y="59"/>
                      <a:pt x="2105" y="57"/>
                    </a:cubicBezTo>
                    <a:cubicBezTo>
                      <a:pt x="2104" y="58"/>
                      <a:pt x="2104" y="60"/>
                      <a:pt x="2103" y="62"/>
                    </a:cubicBezTo>
                    <a:cubicBezTo>
                      <a:pt x="2101" y="59"/>
                      <a:pt x="2098" y="55"/>
                      <a:pt x="2095" y="52"/>
                    </a:cubicBezTo>
                    <a:cubicBezTo>
                      <a:pt x="2095" y="48"/>
                      <a:pt x="2095" y="46"/>
                      <a:pt x="2095" y="46"/>
                    </a:cubicBezTo>
                    <a:cubicBezTo>
                      <a:pt x="2095" y="48"/>
                      <a:pt x="2095" y="49"/>
                      <a:pt x="2094" y="51"/>
                    </a:cubicBezTo>
                    <a:cubicBezTo>
                      <a:pt x="2091" y="47"/>
                      <a:pt x="2087" y="43"/>
                      <a:pt x="2083" y="39"/>
                    </a:cubicBezTo>
                    <a:cubicBezTo>
                      <a:pt x="2083" y="37"/>
                      <a:pt x="2083" y="35"/>
                      <a:pt x="2082" y="34"/>
                    </a:cubicBezTo>
                    <a:cubicBezTo>
                      <a:pt x="2082" y="34"/>
                      <a:pt x="2083" y="36"/>
                      <a:pt x="2083" y="39"/>
                    </a:cubicBezTo>
                    <a:cubicBezTo>
                      <a:pt x="2081" y="37"/>
                      <a:pt x="2080" y="36"/>
                      <a:pt x="2078" y="34"/>
                    </a:cubicBezTo>
                    <a:cubicBezTo>
                      <a:pt x="2080" y="36"/>
                      <a:pt x="2081" y="38"/>
                      <a:pt x="2083" y="40"/>
                    </a:cubicBezTo>
                    <a:cubicBezTo>
                      <a:pt x="2083" y="40"/>
                      <a:pt x="2083" y="40"/>
                      <a:pt x="2083" y="41"/>
                    </a:cubicBezTo>
                    <a:cubicBezTo>
                      <a:pt x="2083" y="40"/>
                      <a:pt x="2083" y="40"/>
                      <a:pt x="2083" y="40"/>
                    </a:cubicBezTo>
                    <a:cubicBezTo>
                      <a:pt x="2087" y="45"/>
                      <a:pt x="2090" y="49"/>
                      <a:pt x="2094" y="53"/>
                    </a:cubicBezTo>
                    <a:cubicBezTo>
                      <a:pt x="2093" y="55"/>
                      <a:pt x="2092" y="59"/>
                      <a:pt x="2092" y="62"/>
                    </a:cubicBezTo>
                    <a:cubicBezTo>
                      <a:pt x="2089" y="60"/>
                      <a:pt x="2087" y="58"/>
                      <a:pt x="2084" y="56"/>
                    </a:cubicBezTo>
                    <a:cubicBezTo>
                      <a:pt x="2083" y="50"/>
                      <a:pt x="2083" y="44"/>
                      <a:pt x="2083" y="41"/>
                    </a:cubicBezTo>
                    <a:cubicBezTo>
                      <a:pt x="2083" y="45"/>
                      <a:pt x="2083" y="50"/>
                      <a:pt x="2082" y="55"/>
                    </a:cubicBezTo>
                    <a:cubicBezTo>
                      <a:pt x="2081" y="54"/>
                      <a:pt x="2080" y="53"/>
                      <a:pt x="2078" y="52"/>
                    </a:cubicBezTo>
                    <a:cubicBezTo>
                      <a:pt x="2080" y="53"/>
                      <a:pt x="2081" y="54"/>
                      <a:pt x="2082" y="55"/>
                    </a:cubicBezTo>
                    <a:cubicBezTo>
                      <a:pt x="2082" y="64"/>
                      <a:pt x="2081" y="73"/>
                      <a:pt x="2079" y="83"/>
                    </a:cubicBezTo>
                    <a:cubicBezTo>
                      <a:pt x="2079" y="82"/>
                      <a:pt x="2079" y="81"/>
                      <a:pt x="2079" y="81"/>
                    </a:cubicBezTo>
                    <a:cubicBezTo>
                      <a:pt x="2079" y="82"/>
                      <a:pt x="2079" y="82"/>
                      <a:pt x="2079" y="83"/>
                    </a:cubicBezTo>
                    <a:cubicBezTo>
                      <a:pt x="2078" y="88"/>
                      <a:pt x="2078" y="92"/>
                      <a:pt x="2077" y="97"/>
                    </a:cubicBezTo>
                    <a:cubicBezTo>
                      <a:pt x="2075" y="89"/>
                      <a:pt x="2073" y="81"/>
                      <a:pt x="2070" y="73"/>
                    </a:cubicBezTo>
                    <a:cubicBezTo>
                      <a:pt x="2070" y="72"/>
                      <a:pt x="2070" y="71"/>
                      <a:pt x="2070" y="71"/>
                    </a:cubicBezTo>
                    <a:cubicBezTo>
                      <a:pt x="2071" y="70"/>
                      <a:pt x="2072" y="69"/>
                      <a:pt x="2073" y="68"/>
                    </a:cubicBezTo>
                    <a:cubicBezTo>
                      <a:pt x="2075" y="72"/>
                      <a:pt x="2077" y="76"/>
                      <a:pt x="2079" y="81"/>
                    </a:cubicBezTo>
                    <a:cubicBezTo>
                      <a:pt x="2077" y="76"/>
                      <a:pt x="2075" y="72"/>
                      <a:pt x="2073" y="67"/>
                    </a:cubicBezTo>
                    <a:cubicBezTo>
                      <a:pt x="2074" y="67"/>
                      <a:pt x="2074" y="66"/>
                      <a:pt x="2075" y="65"/>
                    </a:cubicBezTo>
                    <a:cubicBezTo>
                      <a:pt x="2074" y="66"/>
                      <a:pt x="2074" y="66"/>
                      <a:pt x="2073" y="67"/>
                    </a:cubicBezTo>
                    <a:cubicBezTo>
                      <a:pt x="2067" y="54"/>
                      <a:pt x="2057" y="41"/>
                      <a:pt x="2045" y="25"/>
                    </a:cubicBezTo>
                    <a:cubicBezTo>
                      <a:pt x="2057" y="42"/>
                      <a:pt x="2066" y="55"/>
                      <a:pt x="2072" y="68"/>
                    </a:cubicBezTo>
                    <a:cubicBezTo>
                      <a:pt x="2072" y="68"/>
                      <a:pt x="2071" y="69"/>
                      <a:pt x="2070" y="70"/>
                    </a:cubicBezTo>
                    <a:cubicBezTo>
                      <a:pt x="2070" y="68"/>
                      <a:pt x="2070" y="66"/>
                      <a:pt x="2070" y="66"/>
                    </a:cubicBezTo>
                    <a:cubicBezTo>
                      <a:pt x="2070" y="68"/>
                      <a:pt x="2070" y="69"/>
                      <a:pt x="2069" y="71"/>
                    </a:cubicBezTo>
                    <a:cubicBezTo>
                      <a:pt x="2069" y="71"/>
                      <a:pt x="2069" y="71"/>
                      <a:pt x="2069" y="71"/>
                    </a:cubicBezTo>
                    <a:cubicBezTo>
                      <a:pt x="2065" y="61"/>
                      <a:pt x="2058" y="52"/>
                      <a:pt x="2049" y="42"/>
                    </a:cubicBezTo>
                    <a:cubicBezTo>
                      <a:pt x="2056" y="55"/>
                      <a:pt x="2061" y="65"/>
                      <a:pt x="2065" y="75"/>
                    </a:cubicBezTo>
                    <a:cubicBezTo>
                      <a:pt x="2064" y="76"/>
                      <a:pt x="2063" y="77"/>
                      <a:pt x="2062" y="77"/>
                    </a:cubicBezTo>
                    <a:cubicBezTo>
                      <a:pt x="2060" y="73"/>
                      <a:pt x="2058" y="70"/>
                      <a:pt x="2056" y="68"/>
                    </a:cubicBezTo>
                    <a:cubicBezTo>
                      <a:pt x="2055" y="63"/>
                      <a:pt x="2055" y="60"/>
                      <a:pt x="2055" y="60"/>
                    </a:cubicBezTo>
                    <a:cubicBezTo>
                      <a:pt x="2055" y="61"/>
                      <a:pt x="2055" y="64"/>
                      <a:pt x="2055" y="67"/>
                    </a:cubicBezTo>
                    <a:cubicBezTo>
                      <a:pt x="2049" y="57"/>
                      <a:pt x="2041" y="47"/>
                      <a:pt x="2030" y="38"/>
                    </a:cubicBezTo>
                    <a:cubicBezTo>
                      <a:pt x="2040" y="49"/>
                      <a:pt x="2048" y="60"/>
                      <a:pt x="2054" y="71"/>
                    </a:cubicBezTo>
                    <a:cubicBezTo>
                      <a:pt x="2054" y="75"/>
                      <a:pt x="2054" y="80"/>
                      <a:pt x="2053" y="85"/>
                    </a:cubicBezTo>
                    <a:cubicBezTo>
                      <a:pt x="2053" y="84"/>
                      <a:pt x="2053" y="84"/>
                      <a:pt x="2052" y="83"/>
                    </a:cubicBezTo>
                    <a:cubicBezTo>
                      <a:pt x="2052" y="84"/>
                      <a:pt x="2053" y="85"/>
                      <a:pt x="2053" y="86"/>
                    </a:cubicBezTo>
                    <a:cubicBezTo>
                      <a:pt x="2053" y="87"/>
                      <a:pt x="2053" y="88"/>
                      <a:pt x="2053" y="89"/>
                    </a:cubicBezTo>
                    <a:cubicBezTo>
                      <a:pt x="2051" y="92"/>
                      <a:pt x="2050" y="94"/>
                      <a:pt x="2048" y="97"/>
                    </a:cubicBezTo>
                    <a:cubicBezTo>
                      <a:pt x="2048" y="93"/>
                      <a:pt x="2048" y="90"/>
                      <a:pt x="2048" y="87"/>
                    </a:cubicBezTo>
                    <a:cubicBezTo>
                      <a:pt x="2049" y="84"/>
                      <a:pt x="2050" y="82"/>
                      <a:pt x="2050" y="80"/>
                    </a:cubicBezTo>
                    <a:cubicBezTo>
                      <a:pt x="2051" y="81"/>
                      <a:pt x="2051" y="82"/>
                      <a:pt x="2052" y="83"/>
                    </a:cubicBezTo>
                    <a:cubicBezTo>
                      <a:pt x="2052" y="81"/>
                      <a:pt x="2051" y="80"/>
                      <a:pt x="2050" y="79"/>
                    </a:cubicBezTo>
                    <a:cubicBezTo>
                      <a:pt x="2051" y="79"/>
                      <a:pt x="2051" y="78"/>
                      <a:pt x="2051" y="77"/>
                    </a:cubicBezTo>
                    <a:cubicBezTo>
                      <a:pt x="2051" y="77"/>
                      <a:pt x="2050" y="78"/>
                      <a:pt x="2050" y="79"/>
                    </a:cubicBezTo>
                    <a:cubicBezTo>
                      <a:pt x="2049" y="77"/>
                      <a:pt x="2049" y="76"/>
                      <a:pt x="2048" y="75"/>
                    </a:cubicBezTo>
                    <a:cubicBezTo>
                      <a:pt x="2049" y="77"/>
                      <a:pt x="2049" y="78"/>
                      <a:pt x="2050" y="79"/>
                    </a:cubicBezTo>
                    <a:cubicBezTo>
                      <a:pt x="2049" y="80"/>
                      <a:pt x="2048" y="81"/>
                      <a:pt x="2048" y="82"/>
                    </a:cubicBezTo>
                    <a:cubicBezTo>
                      <a:pt x="2048" y="73"/>
                      <a:pt x="2048" y="68"/>
                      <a:pt x="2048" y="68"/>
                    </a:cubicBezTo>
                    <a:cubicBezTo>
                      <a:pt x="2047" y="72"/>
                      <a:pt x="2047" y="78"/>
                      <a:pt x="2046" y="85"/>
                    </a:cubicBezTo>
                    <a:cubicBezTo>
                      <a:pt x="2043" y="90"/>
                      <a:pt x="2041" y="94"/>
                      <a:pt x="2040" y="99"/>
                    </a:cubicBezTo>
                    <a:cubicBezTo>
                      <a:pt x="2040" y="98"/>
                      <a:pt x="2039" y="97"/>
                      <a:pt x="2039" y="96"/>
                    </a:cubicBezTo>
                    <a:cubicBezTo>
                      <a:pt x="2039" y="92"/>
                      <a:pt x="2040" y="89"/>
                      <a:pt x="2040" y="89"/>
                    </a:cubicBezTo>
                    <a:cubicBezTo>
                      <a:pt x="2040" y="91"/>
                      <a:pt x="2039" y="92"/>
                      <a:pt x="2039" y="94"/>
                    </a:cubicBezTo>
                    <a:cubicBezTo>
                      <a:pt x="2038" y="91"/>
                      <a:pt x="2037" y="88"/>
                      <a:pt x="2037" y="85"/>
                    </a:cubicBezTo>
                    <a:cubicBezTo>
                      <a:pt x="2036" y="88"/>
                      <a:pt x="2036" y="91"/>
                      <a:pt x="2036" y="94"/>
                    </a:cubicBezTo>
                    <a:cubicBezTo>
                      <a:pt x="2036" y="97"/>
                      <a:pt x="2036" y="100"/>
                      <a:pt x="2036" y="103"/>
                    </a:cubicBezTo>
                    <a:cubicBezTo>
                      <a:pt x="2035" y="107"/>
                      <a:pt x="2033" y="112"/>
                      <a:pt x="2032" y="116"/>
                    </a:cubicBezTo>
                    <a:cubicBezTo>
                      <a:pt x="2030" y="112"/>
                      <a:pt x="2029" y="108"/>
                      <a:pt x="2028" y="104"/>
                    </a:cubicBezTo>
                    <a:cubicBezTo>
                      <a:pt x="2029" y="109"/>
                      <a:pt x="2030" y="115"/>
                      <a:pt x="2030" y="120"/>
                    </a:cubicBezTo>
                    <a:cubicBezTo>
                      <a:pt x="2029" y="124"/>
                      <a:pt x="2027" y="127"/>
                      <a:pt x="2026" y="130"/>
                    </a:cubicBezTo>
                    <a:cubicBezTo>
                      <a:pt x="2025" y="128"/>
                      <a:pt x="2024" y="126"/>
                      <a:pt x="2024" y="123"/>
                    </a:cubicBezTo>
                    <a:cubicBezTo>
                      <a:pt x="2025" y="115"/>
                      <a:pt x="2027" y="106"/>
                      <a:pt x="2029" y="98"/>
                    </a:cubicBezTo>
                    <a:cubicBezTo>
                      <a:pt x="2030" y="98"/>
                      <a:pt x="2030" y="97"/>
                      <a:pt x="2030" y="96"/>
                    </a:cubicBezTo>
                    <a:cubicBezTo>
                      <a:pt x="2030" y="96"/>
                      <a:pt x="2030" y="97"/>
                      <a:pt x="2029" y="97"/>
                    </a:cubicBezTo>
                    <a:cubicBezTo>
                      <a:pt x="2032" y="86"/>
                      <a:pt x="2035" y="76"/>
                      <a:pt x="2035" y="76"/>
                    </a:cubicBezTo>
                    <a:cubicBezTo>
                      <a:pt x="2030" y="83"/>
                      <a:pt x="2024" y="96"/>
                      <a:pt x="2020" y="109"/>
                    </a:cubicBezTo>
                    <a:cubicBezTo>
                      <a:pt x="2020" y="107"/>
                      <a:pt x="2019" y="106"/>
                      <a:pt x="2019" y="104"/>
                    </a:cubicBezTo>
                    <a:cubicBezTo>
                      <a:pt x="2021" y="97"/>
                      <a:pt x="2024" y="90"/>
                      <a:pt x="2027" y="84"/>
                    </a:cubicBezTo>
                    <a:cubicBezTo>
                      <a:pt x="2024" y="90"/>
                      <a:pt x="2021" y="96"/>
                      <a:pt x="2019" y="102"/>
                    </a:cubicBezTo>
                    <a:cubicBezTo>
                      <a:pt x="2018" y="102"/>
                      <a:pt x="2018" y="101"/>
                      <a:pt x="2018" y="101"/>
                    </a:cubicBezTo>
                    <a:cubicBezTo>
                      <a:pt x="2020" y="77"/>
                      <a:pt x="2016" y="62"/>
                      <a:pt x="2016" y="62"/>
                    </a:cubicBezTo>
                    <a:cubicBezTo>
                      <a:pt x="2017" y="69"/>
                      <a:pt x="2017" y="80"/>
                      <a:pt x="2015" y="91"/>
                    </a:cubicBezTo>
                    <a:cubicBezTo>
                      <a:pt x="2015" y="89"/>
                      <a:pt x="2015" y="88"/>
                      <a:pt x="2014" y="87"/>
                    </a:cubicBezTo>
                    <a:cubicBezTo>
                      <a:pt x="2014" y="88"/>
                      <a:pt x="2014" y="88"/>
                      <a:pt x="2014" y="88"/>
                    </a:cubicBezTo>
                    <a:cubicBezTo>
                      <a:pt x="2014" y="90"/>
                      <a:pt x="2014" y="93"/>
                      <a:pt x="2015" y="96"/>
                    </a:cubicBezTo>
                    <a:cubicBezTo>
                      <a:pt x="2014" y="101"/>
                      <a:pt x="2014" y="105"/>
                      <a:pt x="2013" y="110"/>
                    </a:cubicBezTo>
                    <a:cubicBezTo>
                      <a:pt x="2012" y="109"/>
                      <a:pt x="2012" y="107"/>
                      <a:pt x="2011" y="106"/>
                    </a:cubicBezTo>
                    <a:cubicBezTo>
                      <a:pt x="2012" y="103"/>
                      <a:pt x="2012" y="99"/>
                      <a:pt x="2013" y="96"/>
                    </a:cubicBezTo>
                    <a:cubicBezTo>
                      <a:pt x="2012" y="98"/>
                      <a:pt x="2011" y="100"/>
                      <a:pt x="2010" y="103"/>
                    </a:cubicBezTo>
                    <a:cubicBezTo>
                      <a:pt x="2009" y="101"/>
                      <a:pt x="2008" y="99"/>
                      <a:pt x="2008" y="98"/>
                    </a:cubicBezTo>
                    <a:cubicBezTo>
                      <a:pt x="2008" y="89"/>
                      <a:pt x="2009" y="82"/>
                      <a:pt x="2009" y="82"/>
                    </a:cubicBezTo>
                    <a:cubicBezTo>
                      <a:pt x="2007" y="97"/>
                      <a:pt x="2007" y="97"/>
                      <a:pt x="2007" y="97"/>
                    </a:cubicBezTo>
                    <a:cubicBezTo>
                      <a:pt x="2006" y="94"/>
                      <a:pt x="2005" y="92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89"/>
                      <a:pt x="2004" y="89"/>
                      <a:pt x="2003" y="88"/>
                    </a:cubicBezTo>
                    <a:cubicBezTo>
                      <a:pt x="2003" y="83"/>
                      <a:pt x="2003" y="78"/>
                      <a:pt x="2003" y="73"/>
                    </a:cubicBezTo>
                    <a:cubicBezTo>
                      <a:pt x="2006" y="70"/>
                      <a:pt x="2009" y="66"/>
                      <a:pt x="2012" y="63"/>
                    </a:cubicBezTo>
                    <a:cubicBezTo>
                      <a:pt x="2009" y="66"/>
                      <a:pt x="2006" y="69"/>
                      <a:pt x="2003" y="71"/>
                    </a:cubicBezTo>
                    <a:cubicBezTo>
                      <a:pt x="2003" y="65"/>
                      <a:pt x="2002" y="60"/>
                      <a:pt x="2002" y="60"/>
                    </a:cubicBezTo>
                    <a:cubicBezTo>
                      <a:pt x="2002" y="64"/>
                      <a:pt x="2002" y="68"/>
                      <a:pt x="2002" y="72"/>
                    </a:cubicBezTo>
                    <a:cubicBezTo>
                      <a:pt x="2000" y="74"/>
                      <a:pt x="1999" y="75"/>
                      <a:pt x="1998" y="77"/>
                    </a:cubicBezTo>
                    <a:cubicBezTo>
                      <a:pt x="1997" y="70"/>
                      <a:pt x="1997" y="64"/>
                      <a:pt x="1997" y="64"/>
                    </a:cubicBezTo>
                    <a:cubicBezTo>
                      <a:pt x="1997" y="66"/>
                      <a:pt x="1997" y="71"/>
                      <a:pt x="1996" y="78"/>
                    </a:cubicBezTo>
                    <a:cubicBezTo>
                      <a:pt x="1993" y="81"/>
                      <a:pt x="1991" y="85"/>
                      <a:pt x="1989" y="88"/>
                    </a:cubicBezTo>
                    <a:cubicBezTo>
                      <a:pt x="1989" y="64"/>
                      <a:pt x="1988" y="42"/>
                      <a:pt x="1988" y="42"/>
                    </a:cubicBezTo>
                    <a:cubicBezTo>
                      <a:pt x="1989" y="55"/>
                      <a:pt x="1986" y="77"/>
                      <a:pt x="1984" y="96"/>
                    </a:cubicBezTo>
                    <a:cubicBezTo>
                      <a:pt x="1982" y="100"/>
                      <a:pt x="1980" y="104"/>
                      <a:pt x="1979" y="107"/>
                    </a:cubicBezTo>
                    <a:cubicBezTo>
                      <a:pt x="1978" y="107"/>
                      <a:pt x="1978" y="106"/>
                      <a:pt x="1978" y="106"/>
                    </a:cubicBezTo>
                    <a:cubicBezTo>
                      <a:pt x="1979" y="87"/>
                      <a:pt x="1982" y="70"/>
                      <a:pt x="1982" y="70"/>
                    </a:cubicBezTo>
                    <a:cubicBezTo>
                      <a:pt x="1980" y="74"/>
                      <a:pt x="1977" y="98"/>
                      <a:pt x="1975" y="117"/>
                    </a:cubicBezTo>
                    <a:cubicBezTo>
                      <a:pt x="1975" y="118"/>
                      <a:pt x="1975" y="119"/>
                      <a:pt x="1975" y="120"/>
                    </a:cubicBezTo>
                    <a:cubicBezTo>
                      <a:pt x="1975" y="119"/>
                      <a:pt x="1975" y="119"/>
                      <a:pt x="1975" y="118"/>
                    </a:cubicBezTo>
                    <a:cubicBezTo>
                      <a:pt x="1975" y="119"/>
                      <a:pt x="1975" y="119"/>
                      <a:pt x="1975" y="120"/>
                    </a:cubicBezTo>
                    <a:cubicBezTo>
                      <a:pt x="1974" y="121"/>
                      <a:pt x="1974" y="121"/>
                      <a:pt x="1974" y="122"/>
                    </a:cubicBezTo>
                    <a:cubicBezTo>
                      <a:pt x="1974" y="115"/>
                      <a:pt x="1974" y="108"/>
                      <a:pt x="1974" y="101"/>
                    </a:cubicBezTo>
                    <a:cubicBezTo>
                      <a:pt x="1974" y="101"/>
                      <a:pt x="1974" y="100"/>
                      <a:pt x="1974" y="100"/>
                    </a:cubicBezTo>
                    <a:cubicBezTo>
                      <a:pt x="1974" y="100"/>
                      <a:pt x="1974" y="101"/>
                      <a:pt x="1974" y="101"/>
                    </a:cubicBezTo>
                    <a:cubicBezTo>
                      <a:pt x="1974" y="98"/>
                      <a:pt x="1974" y="94"/>
                      <a:pt x="1973" y="91"/>
                    </a:cubicBezTo>
                    <a:cubicBezTo>
                      <a:pt x="1975" y="88"/>
                      <a:pt x="1977" y="85"/>
                      <a:pt x="1979" y="83"/>
                    </a:cubicBezTo>
                    <a:cubicBezTo>
                      <a:pt x="1977" y="85"/>
                      <a:pt x="1975" y="87"/>
                      <a:pt x="1973" y="90"/>
                    </a:cubicBezTo>
                    <a:cubicBezTo>
                      <a:pt x="1973" y="79"/>
                      <a:pt x="1972" y="69"/>
                      <a:pt x="1972" y="61"/>
                    </a:cubicBezTo>
                    <a:cubicBezTo>
                      <a:pt x="1971" y="73"/>
                      <a:pt x="1969" y="87"/>
                      <a:pt x="1967" y="100"/>
                    </a:cubicBezTo>
                    <a:cubicBezTo>
                      <a:pt x="1963" y="107"/>
                      <a:pt x="1960" y="115"/>
                      <a:pt x="1958" y="123"/>
                    </a:cubicBezTo>
                    <a:cubicBezTo>
                      <a:pt x="1959" y="109"/>
                      <a:pt x="1960" y="92"/>
                      <a:pt x="1961" y="80"/>
                    </a:cubicBezTo>
                    <a:cubicBezTo>
                      <a:pt x="1963" y="73"/>
                      <a:pt x="1964" y="67"/>
                      <a:pt x="1964" y="61"/>
                    </a:cubicBezTo>
                    <a:cubicBezTo>
                      <a:pt x="1964" y="60"/>
                      <a:pt x="1964" y="60"/>
                      <a:pt x="1964" y="60"/>
                    </a:cubicBezTo>
                    <a:cubicBezTo>
                      <a:pt x="1955" y="75"/>
                      <a:pt x="1951" y="88"/>
                      <a:pt x="1949" y="102"/>
                    </a:cubicBezTo>
                    <a:cubicBezTo>
                      <a:pt x="1949" y="102"/>
                      <a:pt x="1949" y="101"/>
                      <a:pt x="1949" y="101"/>
                    </a:cubicBezTo>
                    <a:cubicBezTo>
                      <a:pt x="1950" y="68"/>
                      <a:pt x="1953" y="30"/>
                      <a:pt x="1953" y="30"/>
                    </a:cubicBezTo>
                    <a:cubicBezTo>
                      <a:pt x="1951" y="38"/>
                      <a:pt x="1948" y="60"/>
                      <a:pt x="1946" y="83"/>
                    </a:cubicBezTo>
                    <a:cubicBezTo>
                      <a:pt x="1943" y="87"/>
                      <a:pt x="1940" y="92"/>
                      <a:pt x="1938" y="97"/>
                    </a:cubicBezTo>
                    <a:cubicBezTo>
                      <a:pt x="1938" y="91"/>
                      <a:pt x="1937" y="85"/>
                      <a:pt x="1937" y="79"/>
                    </a:cubicBezTo>
                    <a:cubicBezTo>
                      <a:pt x="1937" y="78"/>
                      <a:pt x="1937" y="78"/>
                      <a:pt x="1938" y="78"/>
                    </a:cubicBezTo>
                    <a:cubicBezTo>
                      <a:pt x="1937" y="78"/>
                      <a:pt x="1937" y="78"/>
                      <a:pt x="1937" y="78"/>
                    </a:cubicBezTo>
                    <a:cubicBezTo>
                      <a:pt x="1935" y="58"/>
                      <a:pt x="1934" y="41"/>
                      <a:pt x="1934" y="41"/>
                    </a:cubicBezTo>
                    <a:cubicBezTo>
                      <a:pt x="1935" y="52"/>
                      <a:pt x="1935" y="67"/>
                      <a:pt x="1934" y="82"/>
                    </a:cubicBezTo>
                    <a:cubicBezTo>
                      <a:pt x="1932" y="84"/>
                      <a:pt x="1930" y="87"/>
                      <a:pt x="1928" y="92"/>
                    </a:cubicBezTo>
                    <a:cubicBezTo>
                      <a:pt x="1927" y="82"/>
                      <a:pt x="1928" y="72"/>
                      <a:pt x="1928" y="68"/>
                    </a:cubicBezTo>
                    <a:cubicBezTo>
                      <a:pt x="1927" y="77"/>
                      <a:pt x="1926" y="88"/>
                      <a:pt x="1924" y="99"/>
                    </a:cubicBezTo>
                    <a:cubicBezTo>
                      <a:pt x="1922" y="94"/>
                      <a:pt x="1921" y="89"/>
                      <a:pt x="1919" y="84"/>
                    </a:cubicBezTo>
                    <a:cubicBezTo>
                      <a:pt x="1921" y="90"/>
                      <a:pt x="1922" y="96"/>
                      <a:pt x="1923" y="101"/>
                    </a:cubicBezTo>
                    <a:cubicBezTo>
                      <a:pt x="1923" y="105"/>
                      <a:pt x="1922" y="109"/>
                      <a:pt x="1921" y="113"/>
                    </a:cubicBezTo>
                    <a:cubicBezTo>
                      <a:pt x="1921" y="110"/>
                      <a:pt x="1921" y="108"/>
                      <a:pt x="1921" y="105"/>
                    </a:cubicBezTo>
                    <a:cubicBezTo>
                      <a:pt x="1920" y="108"/>
                      <a:pt x="1920" y="115"/>
                      <a:pt x="1920" y="119"/>
                    </a:cubicBezTo>
                    <a:cubicBezTo>
                      <a:pt x="1919" y="120"/>
                      <a:pt x="1919" y="122"/>
                      <a:pt x="1919" y="124"/>
                    </a:cubicBezTo>
                    <a:cubicBezTo>
                      <a:pt x="1918" y="125"/>
                      <a:pt x="1918" y="127"/>
                      <a:pt x="1918" y="128"/>
                    </a:cubicBezTo>
                    <a:cubicBezTo>
                      <a:pt x="1917" y="124"/>
                      <a:pt x="1916" y="120"/>
                      <a:pt x="1915" y="116"/>
                    </a:cubicBezTo>
                    <a:cubicBezTo>
                      <a:pt x="1916" y="108"/>
                      <a:pt x="1917" y="100"/>
                      <a:pt x="1917" y="94"/>
                    </a:cubicBezTo>
                    <a:cubicBezTo>
                      <a:pt x="1918" y="92"/>
                      <a:pt x="1918" y="91"/>
                      <a:pt x="1919" y="89"/>
                    </a:cubicBezTo>
                    <a:cubicBezTo>
                      <a:pt x="1918" y="90"/>
                      <a:pt x="1918" y="91"/>
                      <a:pt x="1917" y="92"/>
                    </a:cubicBezTo>
                    <a:cubicBezTo>
                      <a:pt x="1918" y="87"/>
                      <a:pt x="1918" y="83"/>
                      <a:pt x="1918" y="83"/>
                    </a:cubicBezTo>
                    <a:cubicBezTo>
                      <a:pt x="1918" y="85"/>
                      <a:pt x="1917" y="89"/>
                      <a:pt x="1916" y="93"/>
                    </a:cubicBezTo>
                    <a:cubicBezTo>
                      <a:pt x="1915" y="96"/>
                      <a:pt x="1913" y="99"/>
                      <a:pt x="1912" y="102"/>
                    </a:cubicBezTo>
                    <a:cubicBezTo>
                      <a:pt x="1911" y="101"/>
                      <a:pt x="1911" y="100"/>
                      <a:pt x="1911" y="99"/>
                    </a:cubicBezTo>
                    <a:cubicBezTo>
                      <a:pt x="1913" y="80"/>
                      <a:pt x="1915" y="62"/>
                      <a:pt x="1915" y="62"/>
                    </a:cubicBezTo>
                    <a:cubicBezTo>
                      <a:pt x="1913" y="66"/>
                      <a:pt x="1911" y="80"/>
                      <a:pt x="1909" y="95"/>
                    </a:cubicBezTo>
                    <a:cubicBezTo>
                      <a:pt x="1909" y="94"/>
                      <a:pt x="1908" y="92"/>
                      <a:pt x="1907" y="90"/>
                    </a:cubicBezTo>
                    <a:cubicBezTo>
                      <a:pt x="1908" y="92"/>
                      <a:pt x="1909" y="94"/>
                      <a:pt x="1909" y="96"/>
                    </a:cubicBezTo>
                    <a:cubicBezTo>
                      <a:pt x="1909" y="101"/>
                      <a:pt x="1908" y="106"/>
                      <a:pt x="1908" y="110"/>
                    </a:cubicBezTo>
                    <a:cubicBezTo>
                      <a:pt x="1907" y="113"/>
                      <a:pt x="1906" y="116"/>
                      <a:pt x="1905" y="118"/>
                    </a:cubicBezTo>
                    <a:cubicBezTo>
                      <a:pt x="1903" y="94"/>
                      <a:pt x="1898" y="64"/>
                      <a:pt x="1898" y="64"/>
                    </a:cubicBezTo>
                    <a:cubicBezTo>
                      <a:pt x="1898" y="64"/>
                      <a:pt x="1898" y="73"/>
                      <a:pt x="1899" y="82"/>
                    </a:cubicBezTo>
                    <a:cubicBezTo>
                      <a:pt x="1900" y="88"/>
                      <a:pt x="1899" y="98"/>
                      <a:pt x="1897" y="108"/>
                    </a:cubicBezTo>
                    <a:cubicBezTo>
                      <a:pt x="1896" y="111"/>
                      <a:pt x="1895" y="114"/>
                      <a:pt x="1894" y="117"/>
                    </a:cubicBezTo>
                    <a:cubicBezTo>
                      <a:pt x="1894" y="108"/>
                      <a:pt x="1893" y="99"/>
                      <a:pt x="1891" y="90"/>
                    </a:cubicBezTo>
                    <a:cubicBezTo>
                      <a:pt x="1894" y="78"/>
                      <a:pt x="1899" y="66"/>
                      <a:pt x="1898" y="56"/>
                    </a:cubicBezTo>
                    <a:cubicBezTo>
                      <a:pt x="1895" y="62"/>
                      <a:pt x="1892" y="67"/>
                      <a:pt x="1890" y="72"/>
                    </a:cubicBezTo>
                    <a:cubicBezTo>
                      <a:pt x="1893" y="34"/>
                      <a:pt x="1886" y="19"/>
                      <a:pt x="1886" y="19"/>
                    </a:cubicBezTo>
                    <a:cubicBezTo>
                      <a:pt x="1886" y="19"/>
                      <a:pt x="1889" y="31"/>
                      <a:pt x="1888" y="54"/>
                    </a:cubicBezTo>
                    <a:cubicBezTo>
                      <a:pt x="1887" y="61"/>
                      <a:pt x="1886" y="74"/>
                      <a:pt x="1885" y="88"/>
                    </a:cubicBezTo>
                    <a:cubicBezTo>
                      <a:pt x="1883" y="92"/>
                      <a:pt x="1882" y="97"/>
                      <a:pt x="1882" y="101"/>
                    </a:cubicBezTo>
                    <a:cubicBezTo>
                      <a:pt x="1881" y="98"/>
                      <a:pt x="1880" y="95"/>
                      <a:pt x="1878" y="91"/>
                    </a:cubicBezTo>
                    <a:cubicBezTo>
                      <a:pt x="1879" y="89"/>
                      <a:pt x="1879" y="87"/>
                      <a:pt x="1880" y="85"/>
                    </a:cubicBezTo>
                    <a:cubicBezTo>
                      <a:pt x="1879" y="87"/>
                      <a:pt x="1879" y="88"/>
                      <a:pt x="1878" y="90"/>
                    </a:cubicBezTo>
                    <a:cubicBezTo>
                      <a:pt x="1878" y="89"/>
                      <a:pt x="1877" y="88"/>
                      <a:pt x="1877" y="87"/>
                    </a:cubicBezTo>
                    <a:cubicBezTo>
                      <a:pt x="1877" y="83"/>
                      <a:pt x="1877" y="78"/>
                      <a:pt x="1877" y="74"/>
                    </a:cubicBezTo>
                    <a:cubicBezTo>
                      <a:pt x="1877" y="46"/>
                      <a:pt x="1867" y="40"/>
                      <a:pt x="1867" y="40"/>
                    </a:cubicBezTo>
                    <a:cubicBezTo>
                      <a:pt x="1867" y="40"/>
                      <a:pt x="1873" y="44"/>
                      <a:pt x="1873" y="70"/>
                    </a:cubicBezTo>
                    <a:cubicBezTo>
                      <a:pt x="1873" y="84"/>
                      <a:pt x="1868" y="108"/>
                      <a:pt x="1863" y="125"/>
                    </a:cubicBezTo>
                    <a:cubicBezTo>
                      <a:pt x="1863" y="123"/>
                      <a:pt x="1863" y="120"/>
                      <a:pt x="1862" y="118"/>
                    </a:cubicBezTo>
                    <a:cubicBezTo>
                      <a:pt x="1863" y="111"/>
                      <a:pt x="1864" y="105"/>
                      <a:pt x="1864" y="98"/>
                    </a:cubicBezTo>
                    <a:cubicBezTo>
                      <a:pt x="1863" y="101"/>
                      <a:pt x="1862" y="104"/>
                      <a:pt x="1862" y="107"/>
                    </a:cubicBezTo>
                    <a:cubicBezTo>
                      <a:pt x="1862" y="107"/>
                      <a:pt x="1862" y="106"/>
                      <a:pt x="1862" y="106"/>
                    </a:cubicBezTo>
                    <a:cubicBezTo>
                      <a:pt x="1862" y="97"/>
                      <a:pt x="1863" y="83"/>
                      <a:pt x="1869" y="75"/>
                    </a:cubicBezTo>
                    <a:cubicBezTo>
                      <a:pt x="1866" y="77"/>
                      <a:pt x="1863" y="82"/>
                      <a:pt x="1861" y="87"/>
                    </a:cubicBezTo>
                    <a:cubicBezTo>
                      <a:pt x="1862" y="78"/>
                      <a:pt x="1862" y="71"/>
                      <a:pt x="1862" y="71"/>
                    </a:cubicBezTo>
                    <a:cubicBezTo>
                      <a:pt x="1861" y="75"/>
                      <a:pt x="1858" y="97"/>
                      <a:pt x="1854" y="116"/>
                    </a:cubicBezTo>
                    <a:cubicBezTo>
                      <a:pt x="1854" y="114"/>
                      <a:pt x="1854" y="112"/>
                      <a:pt x="1853" y="110"/>
                    </a:cubicBezTo>
                    <a:cubicBezTo>
                      <a:pt x="1854" y="99"/>
                      <a:pt x="1855" y="87"/>
                      <a:pt x="1856" y="78"/>
                    </a:cubicBezTo>
                    <a:cubicBezTo>
                      <a:pt x="1858" y="71"/>
                      <a:pt x="1860" y="63"/>
                      <a:pt x="1862" y="55"/>
                    </a:cubicBezTo>
                    <a:cubicBezTo>
                      <a:pt x="1862" y="54"/>
                      <a:pt x="1862" y="52"/>
                      <a:pt x="1862" y="51"/>
                    </a:cubicBezTo>
                    <a:cubicBezTo>
                      <a:pt x="1860" y="54"/>
                      <a:pt x="1859" y="57"/>
                      <a:pt x="1858" y="60"/>
                    </a:cubicBezTo>
                    <a:cubicBezTo>
                      <a:pt x="1858" y="60"/>
                      <a:pt x="1858" y="59"/>
                      <a:pt x="1858" y="59"/>
                    </a:cubicBezTo>
                    <a:cubicBezTo>
                      <a:pt x="1858" y="60"/>
                      <a:pt x="1858" y="60"/>
                      <a:pt x="1858" y="60"/>
                    </a:cubicBezTo>
                    <a:cubicBezTo>
                      <a:pt x="1854" y="70"/>
                      <a:pt x="1851" y="80"/>
                      <a:pt x="1848" y="89"/>
                    </a:cubicBezTo>
                    <a:cubicBezTo>
                      <a:pt x="1854" y="30"/>
                      <a:pt x="1851" y="15"/>
                      <a:pt x="1850" y="13"/>
                    </a:cubicBezTo>
                    <a:cubicBezTo>
                      <a:pt x="1850" y="15"/>
                      <a:pt x="1851" y="22"/>
                      <a:pt x="1847" y="56"/>
                    </a:cubicBezTo>
                    <a:cubicBezTo>
                      <a:pt x="1845" y="68"/>
                      <a:pt x="1844" y="80"/>
                      <a:pt x="1842" y="91"/>
                    </a:cubicBezTo>
                    <a:cubicBezTo>
                      <a:pt x="1841" y="85"/>
                      <a:pt x="1839" y="79"/>
                      <a:pt x="1837" y="74"/>
                    </a:cubicBezTo>
                    <a:cubicBezTo>
                      <a:pt x="1838" y="51"/>
                      <a:pt x="1839" y="31"/>
                      <a:pt x="1839" y="31"/>
                    </a:cubicBezTo>
                    <a:cubicBezTo>
                      <a:pt x="1837" y="38"/>
                      <a:pt x="1835" y="53"/>
                      <a:pt x="1834" y="69"/>
                    </a:cubicBezTo>
                    <a:cubicBezTo>
                      <a:pt x="1833" y="68"/>
                      <a:pt x="1832" y="67"/>
                      <a:pt x="1831" y="65"/>
                    </a:cubicBezTo>
                    <a:cubicBezTo>
                      <a:pt x="1832" y="67"/>
                      <a:pt x="1833" y="69"/>
                      <a:pt x="1834" y="71"/>
                    </a:cubicBezTo>
                    <a:cubicBezTo>
                      <a:pt x="1834" y="71"/>
                      <a:pt x="1834" y="72"/>
                      <a:pt x="1834" y="73"/>
                    </a:cubicBezTo>
                    <a:cubicBezTo>
                      <a:pt x="1831" y="77"/>
                      <a:pt x="1828" y="81"/>
                      <a:pt x="1826" y="86"/>
                    </a:cubicBezTo>
                    <a:cubicBezTo>
                      <a:pt x="1825" y="85"/>
                      <a:pt x="1825" y="84"/>
                      <a:pt x="1824" y="83"/>
                    </a:cubicBezTo>
                    <a:cubicBezTo>
                      <a:pt x="1822" y="61"/>
                      <a:pt x="1819" y="38"/>
                      <a:pt x="1816" y="28"/>
                    </a:cubicBezTo>
                    <a:cubicBezTo>
                      <a:pt x="1816" y="28"/>
                      <a:pt x="1820" y="54"/>
                      <a:pt x="1823" y="83"/>
                    </a:cubicBezTo>
                    <a:cubicBezTo>
                      <a:pt x="1822" y="82"/>
                      <a:pt x="1821" y="81"/>
                      <a:pt x="1820" y="80"/>
                    </a:cubicBezTo>
                    <a:cubicBezTo>
                      <a:pt x="1822" y="81"/>
                      <a:pt x="1823" y="82"/>
                      <a:pt x="1824" y="84"/>
                    </a:cubicBezTo>
                    <a:cubicBezTo>
                      <a:pt x="1824" y="85"/>
                      <a:pt x="1824" y="86"/>
                      <a:pt x="1824" y="88"/>
                    </a:cubicBezTo>
                    <a:cubicBezTo>
                      <a:pt x="1824" y="86"/>
                      <a:pt x="1824" y="85"/>
                      <a:pt x="1824" y="84"/>
                    </a:cubicBezTo>
                    <a:cubicBezTo>
                      <a:pt x="1824" y="85"/>
                      <a:pt x="1825" y="86"/>
                      <a:pt x="1826" y="87"/>
                    </a:cubicBezTo>
                    <a:cubicBezTo>
                      <a:pt x="1825" y="88"/>
                      <a:pt x="1825" y="89"/>
                      <a:pt x="1824" y="90"/>
                    </a:cubicBezTo>
                    <a:cubicBezTo>
                      <a:pt x="1824" y="88"/>
                      <a:pt x="1824" y="88"/>
                      <a:pt x="1824" y="88"/>
                    </a:cubicBezTo>
                    <a:cubicBezTo>
                      <a:pt x="1824" y="88"/>
                      <a:pt x="1824" y="89"/>
                      <a:pt x="1824" y="90"/>
                    </a:cubicBezTo>
                    <a:cubicBezTo>
                      <a:pt x="1822" y="95"/>
                      <a:pt x="1821" y="100"/>
                      <a:pt x="1819" y="105"/>
                    </a:cubicBezTo>
                    <a:cubicBezTo>
                      <a:pt x="1819" y="105"/>
                      <a:pt x="1819" y="105"/>
                      <a:pt x="1819" y="105"/>
                    </a:cubicBezTo>
                    <a:cubicBezTo>
                      <a:pt x="1819" y="104"/>
                      <a:pt x="1819" y="104"/>
                      <a:pt x="1819" y="103"/>
                    </a:cubicBezTo>
                    <a:cubicBezTo>
                      <a:pt x="1819" y="104"/>
                      <a:pt x="1819" y="104"/>
                      <a:pt x="1819" y="105"/>
                    </a:cubicBezTo>
                    <a:cubicBezTo>
                      <a:pt x="1816" y="95"/>
                      <a:pt x="1814" y="87"/>
                      <a:pt x="1812" y="81"/>
                    </a:cubicBezTo>
                    <a:cubicBezTo>
                      <a:pt x="1813" y="85"/>
                      <a:pt x="1814" y="90"/>
                      <a:pt x="1815" y="95"/>
                    </a:cubicBezTo>
                    <a:cubicBezTo>
                      <a:pt x="1815" y="100"/>
                      <a:pt x="1814" y="104"/>
                      <a:pt x="1813" y="109"/>
                    </a:cubicBezTo>
                    <a:cubicBezTo>
                      <a:pt x="1814" y="104"/>
                      <a:pt x="1815" y="100"/>
                      <a:pt x="1815" y="95"/>
                    </a:cubicBezTo>
                    <a:cubicBezTo>
                      <a:pt x="1816" y="100"/>
                      <a:pt x="1817" y="105"/>
                      <a:pt x="1818" y="110"/>
                    </a:cubicBezTo>
                    <a:cubicBezTo>
                      <a:pt x="1818" y="110"/>
                      <a:pt x="1818" y="111"/>
                      <a:pt x="1818" y="111"/>
                    </a:cubicBezTo>
                    <a:cubicBezTo>
                      <a:pt x="1817" y="116"/>
                      <a:pt x="1815" y="122"/>
                      <a:pt x="1812" y="127"/>
                    </a:cubicBezTo>
                    <a:cubicBezTo>
                      <a:pt x="1812" y="125"/>
                      <a:pt x="1811" y="123"/>
                      <a:pt x="1811" y="120"/>
                    </a:cubicBezTo>
                    <a:cubicBezTo>
                      <a:pt x="1812" y="117"/>
                      <a:pt x="1813" y="113"/>
                      <a:pt x="1813" y="109"/>
                    </a:cubicBezTo>
                    <a:cubicBezTo>
                      <a:pt x="1813" y="112"/>
                      <a:pt x="1812" y="116"/>
                      <a:pt x="1811" y="119"/>
                    </a:cubicBezTo>
                    <a:cubicBezTo>
                      <a:pt x="1809" y="111"/>
                      <a:pt x="1807" y="103"/>
                      <a:pt x="1807" y="95"/>
                    </a:cubicBezTo>
                    <a:cubicBezTo>
                      <a:pt x="1807" y="96"/>
                      <a:pt x="1807" y="96"/>
                      <a:pt x="1807" y="96"/>
                    </a:cubicBezTo>
                    <a:cubicBezTo>
                      <a:pt x="1807" y="98"/>
                      <a:pt x="1807" y="98"/>
                      <a:pt x="1807" y="98"/>
                    </a:cubicBezTo>
                    <a:cubicBezTo>
                      <a:pt x="1807" y="97"/>
                      <a:pt x="1807" y="96"/>
                      <a:pt x="1807" y="95"/>
                    </a:cubicBezTo>
                    <a:cubicBezTo>
                      <a:pt x="1807" y="84"/>
                      <a:pt x="1805" y="69"/>
                      <a:pt x="1799" y="60"/>
                    </a:cubicBezTo>
                    <a:cubicBezTo>
                      <a:pt x="1803" y="70"/>
                      <a:pt x="1805" y="82"/>
                      <a:pt x="1805" y="93"/>
                    </a:cubicBezTo>
                    <a:cubicBezTo>
                      <a:pt x="1805" y="101"/>
                      <a:pt x="1803" y="109"/>
                      <a:pt x="1801" y="116"/>
                    </a:cubicBezTo>
                    <a:cubicBezTo>
                      <a:pt x="1799" y="115"/>
                      <a:pt x="1799" y="117"/>
                      <a:pt x="1800" y="120"/>
                    </a:cubicBezTo>
                    <a:cubicBezTo>
                      <a:pt x="1800" y="121"/>
                      <a:pt x="1799" y="121"/>
                      <a:pt x="1799" y="122"/>
                    </a:cubicBezTo>
                    <a:cubicBezTo>
                      <a:pt x="1798" y="119"/>
                      <a:pt x="1797" y="115"/>
                      <a:pt x="1796" y="112"/>
                    </a:cubicBezTo>
                    <a:cubicBezTo>
                      <a:pt x="1797" y="107"/>
                      <a:pt x="1797" y="103"/>
                      <a:pt x="1797" y="98"/>
                    </a:cubicBezTo>
                    <a:cubicBezTo>
                      <a:pt x="1797" y="90"/>
                      <a:pt x="1796" y="82"/>
                      <a:pt x="1794" y="74"/>
                    </a:cubicBezTo>
                    <a:cubicBezTo>
                      <a:pt x="1793" y="83"/>
                      <a:pt x="1793" y="93"/>
                      <a:pt x="1793" y="102"/>
                    </a:cubicBezTo>
                    <a:cubicBezTo>
                      <a:pt x="1790" y="94"/>
                      <a:pt x="1787" y="86"/>
                      <a:pt x="1785" y="81"/>
                    </a:cubicBezTo>
                    <a:cubicBezTo>
                      <a:pt x="1785" y="86"/>
                      <a:pt x="1785" y="86"/>
                      <a:pt x="1785" y="86"/>
                    </a:cubicBezTo>
                    <a:cubicBezTo>
                      <a:pt x="1785" y="97"/>
                      <a:pt x="1788" y="108"/>
                      <a:pt x="1792" y="118"/>
                    </a:cubicBezTo>
                    <a:cubicBezTo>
                      <a:pt x="1791" y="119"/>
                      <a:pt x="1791" y="120"/>
                      <a:pt x="1791" y="121"/>
                    </a:cubicBezTo>
                    <a:cubicBezTo>
                      <a:pt x="1791" y="123"/>
                      <a:pt x="1790" y="126"/>
                      <a:pt x="1789" y="128"/>
                    </a:cubicBezTo>
                    <a:cubicBezTo>
                      <a:pt x="1786" y="121"/>
                      <a:pt x="1784" y="113"/>
                      <a:pt x="1782" y="106"/>
                    </a:cubicBezTo>
                    <a:cubicBezTo>
                      <a:pt x="1782" y="101"/>
                      <a:pt x="1781" y="96"/>
                      <a:pt x="1780" y="92"/>
                    </a:cubicBezTo>
                    <a:cubicBezTo>
                      <a:pt x="1780" y="91"/>
                      <a:pt x="1780" y="90"/>
                      <a:pt x="1780" y="89"/>
                    </a:cubicBezTo>
                    <a:cubicBezTo>
                      <a:pt x="1780" y="90"/>
                      <a:pt x="1780" y="90"/>
                      <a:pt x="1780" y="91"/>
                    </a:cubicBezTo>
                    <a:cubicBezTo>
                      <a:pt x="1779" y="85"/>
                      <a:pt x="1777" y="79"/>
                      <a:pt x="1774" y="73"/>
                    </a:cubicBezTo>
                    <a:cubicBezTo>
                      <a:pt x="1774" y="73"/>
                      <a:pt x="1774" y="72"/>
                      <a:pt x="1774" y="71"/>
                    </a:cubicBezTo>
                    <a:cubicBezTo>
                      <a:pt x="1774" y="71"/>
                      <a:pt x="1773" y="72"/>
                      <a:pt x="1773" y="73"/>
                    </a:cubicBezTo>
                    <a:cubicBezTo>
                      <a:pt x="1773" y="72"/>
                      <a:pt x="1773" y="71"/>
                      <a:pt x="1772" y="71"/>
                    </a:cubicBezTo>
                    <a:cubicBezTo>
                      <a:pt x="1772" y="72"/>
                      <a:pt x="1773" y="73"/>
                      <a:pt x="1773" y="73"/>
                    </a:cubicBezTo>
                    <a:cubicBezTo>
                      <a:pt x="1770" y="79"/>
                      <a:pt x="1768" y="85"/>
                      <a:pt x="1766" y="91"/>
                    </a:cubicBezTo>
                    <a:cubicBezTo>
                      <a:pt x="1766" y="90"/>
                      <a:pt x="1766" y="90"/>
                      <a:pt x="1766" y="89"/>
                    </a:cubicBezTo>
                    <a:cubicBezTo>
                      <a:pt x="1766" y="90"/>
                      <a:pt x="1766" y="91"/>
                      <a:pt x="1766" y="92"/>
                    </a:cubicBezTo>
                    <a:cubicBezTo>
                      <a:pt x="1765" y="96"/>
                      <a:pt x="1765" y="101"/>
                      <a:pt x="1764" y="106"/>
                    </a:cubicBezTo>
                    <a:cubicBezTo>
                      <a:pt x="1763" y="113"/>
                      <a:pt x="1760" y="121"/>
                      <a:pt x="1757" y="128"/>
                    </a:cubicBezTo>
                    <a:cubicBezTo>
                      <a:pt x="1756" y="126"/>
                      <a:pt x="1756" y="123"/>
                      <a:pt x="1755" y="121"/>
                    </a:cubicBezTo>
                    <a:cubicBezTo>
                      <a:pt x="1755" y="120"/>
                      <a:pt x="1755" y="119"/>
                      <a:pt x="1755" y="118"/>
                    </a:cubicBezTo>
                    <a:cubicBezTo>
                      <a:pt x="1758" y="108"/>
                      <a:pt x="1761" y="97"/>
                      <a:pt x="1761" y="86"/>
                    </a:cubicBezTo>
                    <a:cubicBezTo>
                      <a:pt x="1761" y="81"/>
                      <a:pt x="1761" y="81"/>
                      <a:pt x="1761" y="81"/>
                    </a:cubicBezTo>
                    <a:cubicBezTo>
                      <a:pt x="1759" y="86"/>
                      <a:pt x="1756" y="94"/>
                      <a:pt x="1753" y="102"/>
                    </a:cubicBezTo>
                    <a:cubicBezTo>
                      <a:pt x="1753" y="93"/>
                      <a:pt x="1754" y="83"/>
                      <a:pt x="1752" y="74"/>
                    </a:cubicBezTo>
                    <a:cubicBezTo>
                      <a:pt x="1750" y="82"/>
                      <a:pt x="1749" y="90"/>
                      <a:pt x="1749" y="98"/>
                    </a:cubicBezTo>
                    <a:cubicBezTo>
                      <a:pt x="1749" y="103"/>
                      <a:pt x="1750" y="107"/>
                      <a:pt x="1750" y="112"/>
                    </a:cubicBezTo>
                    <a:cubicBezTo>
                      <a:pt x="1749" y="115"/>
                      <a:pt x="1748" y="119"/>
                      <a:pt x="1747" y="122"/>
                    </a:cubicBezTo>
                    <a:cubicBezTo>
                      <a:pt x="1744" y="112"/>
                      <a:pt x="1741" y="103"/>
                      <a:pt x="1741" y="93"/>
                    </a:cubicBezTo>
                    <a:cubicBezTo>
                      <a:pt x="1741" y="82"/>
                      <a:pt x="1743" y="70"/>
                      <a:pt x="1747" y="60"/>
                    </a:cubicBezTo>
                    <a:cubicBezTo>
                      <a:pt x="1742" y="69"/>
                      <a:pt x="1740" y="84"/>
                      <a:pt x="1740" y="95"/>
                    </a:cubicBezTo>
                    <a:cubicBezTo>
                      <a:pt x="1740" y="96"/>
                      <a:pt x="1740" y="97"/>
                      <a:pt x="1740" y="98"/>
                    </a:cubicBezTo>
                    <a:cubicBezTo>
                      <a:pt x="1739" y="96"/>
                      <a:pt x="1739" y="96"/>
                      <a:pt x="1739" y="96"/>
                    </a:cubicBezTo>
                    <a:cubicBezTo>
                      <a:pt x="1739" y="95"/>
                      <a:pt x="1739" y="95"/>
                      <a:pt x="1739" y="95"/>
                    </a:cubicBezTo>
                    <a:cubicBezTo>
                      <a:pt x="1739" y="103"/>
                      <a:pt x="1738" y="111"/>
                      <a:pt x="1736" y="119"/>
                    </a:cubicBezTo>
                    <a:cubicBezTo>
                      <a:pt x="1735" y="116"/>
                      <a:pt x="1734" y="112"/>
                      <a:pt x="1733" y="109"/>
                    </a:cubicBezTo>
                    <a:cubicBezTo>
                      <a:pt x="1734" y="113"/>
                      <a:pt x="1735" y="117"/>
                      <a:pt x="1735" y="120"/>
                    </a:cubicBezTo>
                    <a:cubicBezTo>
                      <a:pt x="1735" y="123"/>
                      <a:pt x="1734" y="125"/>
                      <a:pt x="1734" y="127"/>
                    </a:cubicBezTo>
                    <a:cubicBezTo>
                      <a:pt x="1732" y="122"/>
                      <a:pt x="1730" y="116"/>
                      <a:pt x="1728" y="111"/>
                    </a:cubicBezTo>
                    <a:cubicBezTo>
                      <a:pt x="1728" y="109"/>
                      <a:pt x="1728" y="108"/>
                      <a:pt x="1727" y="107"/>
                    </a:cubicBezTo>
                    <a:cubicBezTo>
                      <a:pt x="1727" y="106"/>
                      <a:pt x="1727" y="104"/>
                      <a:pt x="1727" y="103"/>
                    </a:cubicBezTo>
                    <a:cubicBezTo>
                      <a:pt x="1727" y="104"/>
                      <a:pt x="1727" y="105"/>
                      <a:pt x="1727" y="105"/>
                    </a:cubicBezTo>
                    <a:cubicBezTo>
                      <a:pt x="1726" y="99"/>
                      <a:pt x="1724" y="93"/>
                      <a:pt x="1721" y="87"/>
                    </a:cubicBezTo>
                    <a:cubicBezTo>
                      <a:pt x="1722" y="84"/>
                      <a:pt x="1724" y="82"/>
                      <a:pt x="1726" y="80"/>
                    </a:cubicBezTo>
                    <a:cubicBezTo>
                      <a:pt x="1724" y="82"/>
                      <a:pt x="1722" y="84"/>
                      <a:pt x="1720" y="86"/>
                    </a:cubicBezTo>
                    <a:cubicBezTo>
                      <a:pt x="1718" y="81"/>
                      <a:pt x="1715" y="77"/>
                      <a:pt x="1712" y="73"/>
                    </a:cubicBezTo>
                    <a:cubicBezTo>
                      <a:pt x="1715" y="77"/>
                      <a:pt x="1717" y="83"/>
                      <a:pt x="1718" y="90"/>
                    </a:cubicBezTo>
                    <a:cubicBezTo>
                      <a:pt x="1716" y="94"/>
                      <a:pt x="1714" y="99"/>
                      <a:pt x="1714" y="103"/>
                    </a:cubicBezTo>
                    <a:cubicBezTo>
                      <a:pt x="1712" y="97"/>
                      <a:pt x="1710" y="91"/>
                      <a:pt x="1708" y="85"/>
                    </a:cubicBezTo>
                    <a:cubicBezTo>
                      <a:pt x="1710" y="91"/>
                      <a:pt x="1710" y="97"/>
                      <a:pt x="1710" y="103"/>
                    </a:cubicBezTo>
                    <a:cubicBezTo>
                      <a:pt x="1710" y="108"/>
                      <a:pt x="1709" y="114"/>
                      <a:pt x="1709" y="119"/>
                    </a:cubicBezTo>
                    <a:cubicBezTo>
                      <a:pt x="1707" y="111"/>
                      <a:pt x="1706" y="104"/>
                      <a:pt x="1706" y="96"/>
                    </a:cubicBezTo>
                    <a:cubicBezTo>
                      <a:pt x="1706" y="87"/>
                      <a:pt x="1710" y="73"/>
                      <a:pt x="1715" y="65"/>
                    </a:cubicBezTo>
                    <a:cubicBezTo>
                      <a:pt x="1706" y="76"/>
                      <a:pt x="1702" y="96"/>
                      <a:pt x="1702" y="108"/>
                    </a:cubicBezTo>
                    <a:cubicBezTo>
                      <a:pt x="1702" y="119"/>
                      <a:pt x="1705" y="130"/>
                      <a:pt x="1705" y="141"/>
                    </a:cubicBezTo>
                    <a:cubicBezTo>
                      <a:pt x="1705" y="146"/>
                      <a:pt x="1705" y="150"/>
                      <a:pt x="1704" y="154"/>
                    </a:cubicBezTo>
                    <a:cubicBezTo>
                      <a:pt x="1698" y="135"/>
                      <a:pt x="1703" y="113"/>
                      <a:pt x="1699" y="93"/>
                    </a:cubicBezTo>
                    <a:cubicBezTo>
                      <a:pt x="1696" y="79"/>
                      <a:pt x="1691" y="64"/>
                      <a:pt x="1685" y="51"/>
                    </a:cubicBezTo>
                    <a:cubicBezTo>
                      <a:pt x="1684" y="52"/>
                      <a:pt x="1684" y="54"/>
                      <a:pt x="1684" y="55"/>
                    </a:cubicBezTo>
                    <a:cubicBezTo>
                      <a:pt x="1691" y="76"/>
                      <a:pt x="1693" y="92"/>
                      <a:pt x="1694" y="105"/>
                    </a:cubicBezTo>
                    <a:cubicBezTo>
                      <a:pt x="1693" y="109"/>
                      <a:pt x="1692" y="114"/>
                      <a:pt x="1692" y="118"/>
                    </a:cubicBezTo>
                    <a:cubicBezTo>
                      <a:pt x="1690" y="101"/>
                      <a:pt x="1686" y="82"/>
                      <a:pt x="1677" y="75"/>
                    </a:cubicBezTo>
                    <a:cubicBezTo>
                      <a:pt x="1683" y="83"/>
                      <a:pt x="1685" y="97"/>
                      <a:pt x="1685" y="106"/>
                    </a:cubicBezTo>
                    <a:cubicBezTo>
                      <a:pt x="1685" y="106"/>
                      <a:pt x="1685" y="107"/>
                      <a:pt x="1685" y="107"/>
                    </a:cubicBezTo>
                    <a:cubicBezTo>
                      <a:pt x="1684" y="104"/>
                      <a:pt x="1683" y="101"/>
                      <a:pt x="1683" y="98"/>
                    </a:cubicBezTo>
                    <a:cubicBezTo>
                      <a:pt x="1683" y="105"/>
                      <a:pt x="1683" y="111"/>
                      <a:pt x="1684" y="118"/>
                    </a:cubicBezTo>
                    <a:cubicBezTo>
                      <a:pt x="1684" y="122"/>
                      <a:pt x="1683" y="126"/>
                      <a:pt x="1682" y="130"/>
                    </a:cubicBezTo>
                    <a:cubicBezTo>
                      <a:pt x="1681" y="124"/>
                      <a:pt x="1679" y="118"/>
                      <a:pt x="1678" y="113"/>
                    </a:cubicBezTo>
                    <a:cubicBezTo>
                      <a:pt x="1679" y="121"/>
                      <a:pt x="1681" y="128"/>
                      <a:pt x="1681" y="136"/>
                    </a:cubicBezTo>
                    <a:cubicBezTo>
                      <a:pt x="1680" y="140"/>
                      <a:pt x="1679" y="144"/>
                      <a:pt x="1679" y="148"/>
                    </a:cubicBezTo>
                    <a:cubicBezTo>
                      <a:pt x="1679" y="147"/>
                      <a:pt x="1678" y="147"/>
                      <a:pt x="1678" y="146"/>
                    </a:cubicBezTo>
                    <a:cubicBezTo>
                      <a:pt x="1679" y="129"/>
                      <a:pt x="1676" y="106"/>
                      <a:pt x="1669" y="91"/>
                    </a:cubicBezTo>
                    <a:cubicBezTo>
                      <a:pt x="1670" y="88"/>
                      <a:pt x="1670" y="85"/>
                      <a:pt x="1672" y="83"/>
                    </a:cubicBezTo>
                    <a:cubicBezTo>
                      <a:pt x="1670" y="85"/>
                      <a:pt x="1669" y="88"/>
                      <a:pt x="1668" y="90"/>
                    </a:cubicBezTo>
                    <a:cubicBezTo>
                      <a:pt x="1668" y="88"/>
                      <a:pt x="1667" y="87"/>
                      <a:pt x="1666" y="85"/>
                    </a:cubicBezTo>
                    <a:cubicBezTo>
                      <a:pt x="1667" y="87"/>
                      <a:pt x="1668" y="89"/>
                      <a:pt x="1668" y="91"/>
                    </a:cubicBezTo>
                    <a:cubicBezTo>
                      <a:pt x="1667" y="95"/>
                      <a:pt x="1666" y="98"/>
                      <a:pt x="1665" y="101"/>
                    </a:cubicBezTo>
                    <a:cubicBezTo>
                      <a:pt x="1664" y="94"/>
                      <a:pt x="1662" y="87"/>
                      <a:pt x="1659" y="79"/>
                    </a:cubicBezTo>
                    <a:cubicBezTo>
                      <a:pt x="1659" y="78"/>
                      <a:pt x="1659" y="76"/>
                      <a:pt x="1659" y="75"/>
                    </a:cubicBezTo>
                    <a:cubicBezTo>
                      <a:pt x="1659" y="76"/>
                      <a:pt x="1659" y="77"/>
                      <a:pt x="1658" y="78"/>
                    </a:cubicBezTo>
                    <a:cubicBezTo>
                      <a:pt x="1656" y="71"/>
                      <a:pt x="1653" y="64"/>
                      <a:pt x="1648" y="56"/>
                    </a:cubicBezTo>
                    <a:cubicBezTo>
                      <a:pt x="1648" y="66"/>
                      <a:pt x="1652" y="78"/>
                      <a:pt x="1655" y="90"/>
                    </a:cubicBezTo>
                    <a:cubicBezTo>
                      <a:pt x="1653" y="99"/>
                      <a:pt x="1653" y="108"/>
                      <a:pt x="1652" y="117"/>
                    </a:cubicBezTo>
                    <a:cubicBezTo>
                      <a:pt x="1651" y="112"/>
                      <a:pt x="1649" y="107"/>
                      <a:pt x="1648" y="103"/>
                    </a:cubicBezTo>
                    <a:cubicBezTo>
                      <a:pt x="1650" y="109"/>
                      <a:pt x="1648" y="132"/>
                      <a:pt x="1648" y="140"/>
                    </a:cubicBezTo>
                    <a:cubicBezTo>
                      <a:pt x="1648" y="144"/>
                      <a:pt x="1648" y="147"/>
                      <a:pt x="1648" y="151"/>
                    </a:cubicBezTo>
                    <a:cubicBezTo>
                      <a:pt x="1648" y="151"/>
                      <a:pt x="1648" y="151"/>
                      <a:pt x="1648" y="151"/>
                    </a:cubicBezTo>
                    <a:cubicBezTo>
                      <a:pt x="1648" y="144"/>
                      <a:pt x="1647" y="137"/>
                      <a:pt x="1645" y="129"/>
                    </a:cubicBezTo>
                    <a:cubicBezTo>
                      <a:pt x="1643" y="119"/>
                      <a:pt x="1642" y="110"/>
                      <a:pt x="1643" y="100"/>
                    </a:cubicBezTo>
                    <a:cubicBezTo>
                      <a:pt x="1642" y="107"/>
                      <a:pt x="1642" y="113"/>
                      <a:pt x="1642" y="119"/>
                    </a:cubicBezTo>
                    <a:cubicBezTo>
                      <a:pt x="1640" y="114"/>
                      <a:pt x="1638" y="108"/>
                      <a:pt x="1636" y="103"/>
                    </a:cubicBezTo>
                    <a:cubicBezTo>
                      <a:pt x="1636" y="99"/>
                      <a:pt x="1637" y="95"/>
                      <a:pt x="1639" y="90"/>
                    </a:cubicBezTo>
                    <a:cubicBezTo>
                      <a:pt x="1637" y="94"/>
                      <a:pt x="1636" y="98"/>
                      <a:pt x="1635" y="102"/>
                    </a:cubicBezTo>
                    <a:cubicBezTo>
                      <a:pt x="1632" y="97"/>
                      <a:pt x="1630" y="93"/>
                      <a:pt x="1627" y="89"/>
                    </a:cubicBezTo>
                    <a:cubicBezTo>
                      <a:pt x="1630" y="93"/>
                      <a:pt x="1630" y="99"/>
                      <a:pt x="1630" y="103"/>
                    </a:cubicBezTo>
                    <a:cubicBezTo>
                      <a:pt x="1630" y="104"/>
                      <a:pt x="1631" y="109"/>
                      <a:pt x="1631" y="115"/>
                    </a:cubicBezTo>
                    <a:cubicBezTo>
                      <a:pt x="1630" y="120"/>
                      <a:pt x="1630" y="124"/>
                      <a:pt x="1629" y="129"/>
                    </a:cubicBezTo>
                    <a:cubicBezTo>
                      <a:pt x="1628" y="125"/>
                      <a:pt x="1627" y="122"/>
                      <a:pt x="1627" y="119"/>
                    </a:cubicBezTo>
                    <a:cubicBezTo>
                      <a:pt x="1627" y="115"/>
                      <a:pt x="1627" y="108"/>
                      <a:pt x="1626" y="105"/>
                    </a:cubicBezTo>
                    <a:cubicBezTo>
                      <a:pt x="1625" y="108"/>
                      <a:pt x="1625" y="110"/>
                      <a:pt x="1625" y="113"/>
                    </a:cubicBezTo>
                    <a:cubicBezTo>
                      <a:pt x="1624" y="109"/>
                      <a:pt x="1623" y="106"/>
                      <a:pt x="1623" y="103"/>
                    </a:cubicBezTo>
                    <a:cubicBezTo>
                      <a:pt x="1624" y="97"/>
                      <a:pt x="1625" y="90"/>
                      <a:pt x="1628" y="84"/>
                    </a:cubicBezTo>
                    <a:cubicBezTo>
                      <a:pt x="1625" y="90"/>
                      <a:pt x="1623" y="95"/>
                      <a:pt x="1622" y="101"/>
                    </a:cubicBezTo>
                    <a:cubicBezTo>
                      <a:pt x="1617" y="86"/>
                      <a:pt x="1614" y="83"/>
                      <a:pt x="1609" y="78"/>
                    </a:cubicBezTo>
                    <a:cubicBezTo>
                      <a:pt x="1616" y="84"/>
                      <a:pt x="1619" y="97"/>
                      <a:pt x="1620" y="107"/>
                    </a:cubicBezTo>
                    <a:cubicBezTo>
                      <a:pt x="1619" y="114"/>
                      <a:pt x="1617" y="120"/>
                      <a:pt x="1616" y="126"/>
                    </a:cubicBezTo>
                    <a:cubicBezTo>
                      <a:pt x="1615" y="121"/>
                      <a:pt x="1614" y="115"/>
                      <a:pt x="1612" y="109"/>
                    </a:cubicBezTo>
                    <a:cubicBezTo>
                      <a:pt x="1613" y="106"/>
                      <a:pt x="1613" y="103"/>
                      <a:pt x="1614" y="100"/>
                    </a:cubicBezTo>
                    <a:cubicBezTo>
                      <a:pt x="1613" y="102"/>
                      <a:pt x="1613" y="104"/>
                      <a:pt x="1612" y="108"/>
                    </a:cubicBezTo>
                    <a:cubicBezTo>
                      <a:pt x="1611" y="106"/>
                      <a:pt x="1610" y="103"/>
                      <a:pt x="1610" y="101"/>
                    </a:cubicBezTo>
                    <a:cubicBezTo>
                      <a:pt x="1610" y="100"/>
                      <a:pt x="1610" y="99"/>
                      <a:pt x="1611" y="98"/>
                    </a:cubicBezTo>
                    <a:cubicBezTo>
                      <a:pt x="1610" y="99"/>
                      <a:pt x="1610" y="100"/>
                      <a:pt x="1610" y="101"/>
                    </a:cubicBezTo>
                    <a:cubicBezTo>
                      <a:pt x="1607" y="94"/>
                      <a:pt x="1604" y="87"/>
                      <a:pt x="1600" y="81"/>
                    </a:cubicBezTo>
                    <a:cubicBezTo>
                      <a:pt x="1604" y="88"/>
                      <a:pt x="1605" y="99"/>
                      <a:pt x="1605" y="106"/>
                    </a:cubicBezTo>
                    <a:cubicBezTo>
                      <a:pt x="1605" y="111"/>
                      <a:pt x="1604" y="115"/>
                      <a:pt x="1604" y="120"/>
                    </a:cubicBezTo>
                    <a:cubicBezTo>
                      <a:pt x="1602" y="126"/>
                      <a:pt x="1600" y="133"/>
                      <a:pt x="1599" y="139"/>
                    </a:cubicBezTo>
                    <a:cubicBezTo>
                      <a:pt x="1599" y="137"/>
                      <a:pt x="1599" y="136"/>
                      <a:pt x="1599" y="135"/>
                    </a:cubicBezTo>
                    <a:cubicBezTo>
                      <a:pt x="1600" y="127"/>
                      <a:pt x="1600" y="120"/>
                      <a:pt x="1601" y="113"/>
                    </a:cubicBezTo>
                    <a:cubicBezTo>
                      <a:pt x="1600" y="117"/>
                      <a:pt x="1600" y="123"/>
                      <a:pt x="1599" y="129"/>
                    </a:cubicBezTo>
                    <a:cubicBezTo>
                      <a:pt x="1599" y="120"/>
                      <a:pt x="1599" y="111"/>
                      <a:pt x="1597" y="103"/>
                    </a:cubicBezTo>
                    <a:cubicBezTo>
                      <a:pt x="1598" y="101"/>
                      <a:pt x="1599" y="100"/>
                      <a:pt x="1599" y="99"/>
                    </a:cubicBezTo>
                    <a:cubicBezTo>
                      <a:pt x="1599" y="100"/>
                      <a:pt x="1598" y="101"/>
                      <a:pt x="1597" y="102"/>
                    </a:cubicBezTo>
                    <a:cubicBezTo>
                      <a:pt x="1595" y="88"/>
                      <a:pt x="1591" y="75"/>
                      <a:pt x="1582" y="60"/>
                    </a:cubicBezTo>
                    <a:cubicBezTo>
                      <a:pt x="1582" y="61"/>
                      <a:pt x="1582" y="61"/>
                      <a:pt x="1582" y="61"/>
                    </a:cubicBezTo>
                    <a:cubicBezTo>
                      <a:pt x="1582" y="76"/>
                      <a:pt x="1592" y="94"/>
                      <a:pt x="1592" y="111"/>
                    </a:cubicBezTo>
                    <a:cubicBezTo>
                      <a:pt x="1591" y="115"/>
                      <a:pt x="1590" y="120"/>
                      <a:pt x="1589" y="125"/>
                    </a:cubicBezTo>
                    <a:cubicBezTo>
                      <a:pt x="1585" y="109"/>
                      <a:pt x="1578" y="94"/>
                      <a:pt x="1567" y="83"/>
                    </a:cubicBezTo>
                    <a:cubicBezTo>
                      <a:pt x="1574" y="90"/>
                      <a:pt x="1578" y="101"/>
                      <a:pt x="1580" y="111"/>
                    </a:cubicBezTo>
                    <a:cubicBezTo>
                      <a:pt x="1579" y="111"/>
                      <a:pt x="1579" y="110"/>
                      <a:pt x="1579" y="109"/>
                    </a:cubicBezTo>
                    <a:cubicBezTo>
                      <a:pt x="1579" y="117"/>
                      <a:pt x="1580" y="126"/>
                      <a:pt x="1580" y="134"/>
                    </a:cubicBezTo>
                    <a:cubicBezTo>
                      <a:pt x="1580" y="136"/>
                      <a:pt x="1580" y="138"/>
                      <a:pt x="1580" y="140"/>
                    </a:cubicBezTo>
                    <a:cubicBezTo>
                      <a:pt x="1577" y="127"/>
                      <a:pt x="1576" y="113"/>
                      <a:pt x="1572" y="100"/>
                    </a:cubicBezTo>
                    <a:cubicBezTo>
                      <a:pt x="1574" y="109"/>
                      <a:pt x="1574" y="123"/>
                      <a:pt x="1574" y="135"/>
                    </a:cubicBezTo>
                    <a:cubicBezTo>
                      <a:pt x="1575" y="138"/>
                      <a:pt x="1575" y="141"/>
                      <a:pt x="1575" y="144"/>
                    </a:cubicBezTo>
                    <a:cubicBezTo>
                      <a:pt x="1575" y="143"/>
                      <a:pt x="1575" y="142"/>
                      <a:pt x="1575" y="142"/>
                    </a:cubicBezTo>
                    <a:cubicBezTo>
                      <a:pt x="1574" y="139"/>
                      <a:pt x="1574" y="137"/>
                      <a:pt x="1574" y="135"/>
                    </a:cubicBezTo>
                    <a:cubicBezTo>
                      <a:pt x="1574" y="130"/>
                      <a:pt x="1573" y="125"/>
                      <a:pt x="1572" y="120"/>
                    </a:cubicBezTo>
                    <a:cubicBezTo>
                      <a:pt x="1572" y="119"/>
                      <a:pt x="1572" y="119"/>
                      <a:pt x="1572" y="118"/>
                    </a:cubicBezTo>
                    <a:cubicBezTo>
                      <a:pt x="1572" y="119"/>
                      <a:pt x="1572" y="119"/>
                      <a:pt x="1572" y="120"/>
                    </a:cubicBezTo>
                    <a:cubicBezTo>
                      <a:pt x="1571" y="116"/>
                      <a:pt x="1569" y="112"/>
                      <a:pt x="1568" y="108"/>
                    </a:cubicBezTo>
                    <a:cubicBezTo>
                      <a:pt x="1569" y="106"/>
                      <a:pt x="1569" y="105"/>
                      <a:pt x="1570" y="103"/>
                    </a:cubicBezTo>
                    <a:cubicBezTo>
                      <a:pt x="1569" y="105"/>
                      <a:pt x="1568" y="106"/>
                      <a:pt x="1568" y="107"/>
                    </a:cubicBezTo>
                    <a:cubicBezTo>
                      <a:pt x="1561" y="91"/>
                      <a:pt x="1551" y="76"/>
                      <a:pt x="1534" y="63"/>
                    </a:cubicBezTo>
                    <a:cubicBezTo>
                      <a:pt x="1540" y="68"/>
                      <a:pt x="1544" y="74"/>
                      <a:pt x="1548" y="79"/>
                    </a:cubicBezTo>
                    <a:cubicBezTo>
                      <a:pt x="1547" y="81"/>
                      <a:pt x="1545" y="85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0" y="94"/>
                      <a:pt x="1538" y="98"/>
                      <a:pt x="1536" y="103"/>
                    </a:cubicBezTo>
                    <a:cubicBezTo>
                      <a:pt x="1535" y="100"/>
                      <a:pt x="1535" y="98"/>
                      <a:pt x="1534" y="96"/>
                    </a:cubicBezTo>
                    <a:cubicBezTo>
                      <a:pt x="1534" y="99"/>
                      <a:pt x="1535" y="103"/>
                      <a:pt x="1535" y="106"/>
                    </a:cubicBezTo>
                    <a:cubicBezTo>
                      <a:pt x="1534" y="108"/>
                      <a:pt x="1533" y="111"/>
                      <a:pt x="1532" y="113"/>
                    </a:cubicBezTo>
                    <a:cubicBezTo>
                      <a:pt x="1531" y="111"/>
                      <a:pt x="1531" y="109"/>
                      <a:pt x="1530" y="107"/>
                    </a:cubicBezTo>
                    <a:cubicBezTo>
                      <a:pt x="1531" y="100"/>
                      <a:pt x="1532" y="93"/>
                      <a:pt x="1532" y="88"/>
                    </a:cubicBezTo>
                    <a:cubicBezTo>
                      <a:pt x="1532" y="87"/>
                      <a:pt x="1532" y="87"/>
                      <a:pt x="1532" y="87"/>
                    </a:cubicBezTo>
                    <a:cubicBezTo>
                      <a:pt x="1530" y="92"/>
                      <a:pt x="1529" y="97"/>
                      <a:pt x="1528" y="102"/>
                    </a:cubicBezTo>
                    <a:cubicBezTo>
                      <a:pt x="1525" y="96"/>
                      <a:pt x="1523" y="90"/>
                      <a:pt x="1520" y="84"/>
                    </a:cubicBezTo>
                    <a:cubicBezTo>
                      <a:pt x="1523" y="90"/>
                      <a:pt x="1525" y="97"/>
                      <a:pt x="1527" y="104"/>
                    </a:cubicBezTo>
                    <a:cubicBezTo>
                      <a:pt x="1526" y="108"/>
                      <a:pt x="1526" y="111"/>
                      <a:pt x="1525" y="115"/>
                    </a:cubicBezTo>
                    <a:cubicBezTo>
                      <a:pt x="1523" y="110"/>
                      <a:pt x="1521" y="106"/>
                      <a:pt x="1519" y="102"/>
                    </a:cubicBezTo>
                    <a:cubicBezTo>
                      <a:pt x="1521" y="107"/>
                      <a:pt x="1522" y="114"/>
                      <a:pt x="1523" y="121"/>
                    </a:cubicBezTo>
                    <a:cubicBezTo>
                      <a:pt x="1522" y="126"/>
                      <a:pt x="1520" y="131"/>
                      <a:pt x="1519" y="135"/>
                    </a:cubicBezTo>
                    <a:cubicBezTo>
                      <a:pt x="1517" y="132"/>
                      <a:pt x="1516" y="129"/>
                      <a:pt x="1515" y="125"/>
                    </a:cubicBezTo>
                    <a:cubicBezTo>
                      <a:pt x="1516" y="118"/>
                      <a:pt x="1517" y="111"/>
                      <a:pt x="1518" y="104"/>
                    </a:cubicBezTo>
                    <a:cubicBezTo>
                      <a:pt x="1517" y="109"/>
                      <a:pt x="1515" y="114"/>
                      <a:pt x="1513" y="120"/>
                    </a:cubicBezTo>
                    <a:cubicBezTo>
                      <a:pt x="1512" y="115"/>
                      <a:pt x="1511" y="111"/>
                      <a:pt x="1510" y="107"/>
                    </a:cubicBezTo>
                    <a:cubicBezTo>
                      <a:pt x="1510" y="103"/>
                      <a:pt x="1511" y="98"/>
                      <a:pt x="1511" y="94"/>
                    </a:cubicBezTo>
                    <a:cubicBezTo>
                      <a:pt x="1511" y="91"/>
                      <a:pt x="1510" y="88"/>
                      <a:pt x="1510" y="85"/>
                    </a:cubicBezTo>
                    <a:cubicBezTo>
                      <a:pt x="1509" y="89"/>
                      <a:pt x="1508" y="93"/>
                      <a:pt x="1507" y="99"/>
                    </a:cubicBezTo>
                    <a:cubicBezTo>
                      <a:pt x="1504" y="91"/>
                      <a:pt x="1500" y="84"/>
                      <a:pt x="1495" y="77"/>
                    </a:cubicBezTo>
                    <a:cubicBezTo>
                      <a:pt x="1498" y="86"/>
                      <a:pt x="1502" y="95"/>
                      <a:pt x="1505" y="104"/>
                    </a:cubicBezTo>
                    <a:cubicBezTo>
                      <a:pt x="1505" y="106"/>
                      <a:pt x="1505" y="107"/>
                      <a:pt x="1505" y="109"/>
                    </a:cubicBezTo>
                    <a:cubicBezTo>
                      <a:pt x="1504" y="107"/>
                      <a:pt x="1503" y="105"/>
                      <a:pt x="1502" y="103"/>
                    </a:cubicBezTo>
                    <a:cubicBezTo>
                      <a:pt x="1502" y="103"/>
                      <a:pt x="1502" y="102"/>
                      <a:pt x="1502" y="102"/>
                    </a:cubicBezTo>
                    <a:cubicBezTo>
                      <a:pt x="1502" y="102"/>
                      <a:pt x="1502" y="103"/>
                      <a:pt x="1502" y="103"/>
                    </a:cubicBezTo>
                    <a:cubicBezTo>
                      <a:pt x="1497" y="94"/>
                      <a:pt x="1492" y="86"/>
                      <a:pt x="1485" y="79"/>
                    </a:cubicBezTo>
                    <a:cubicBezTo>
                      <a:pt x="1487" y="75"/>
                      <a:pt x="1489" y="71"/>
                      <a:pt x="1491" y="68"/>
                    </a:cubicBezTo>
                    <a:cubicBezTo>
                      <a:pt x="1489" y="69"/>
                      <a:pt x="1486" y="73"/>
                      <a:pt x="1484" y="77"/>
                    </a:cubicBezTo>
                    <a:cubicBezTo>
                      <a:pt x="1480" y="73"/>
                      <a:pt x="1476" y="69"/>
                      <a:pt x="1471" y="65"/>
                    </a:cubicBezTo>
                    <a:cubicBezTo>
                      <a:pt x="1476" y="70"/>
                      <a:pt x="1480" y="75"/>
                      <a:pt x="1483" y="79"/>
                    </a:cubicBezTo>
                    <a:cubicBezTo>
                      <a:pt x="1480" y="86"/>
                      <a:pt x="1477" y="96"/>
                      <a:pt x="1474" y="105"/>
                    </a:cubicBezTo>
                    <a:cubicBezTo>
                      <a:pt x="1471" y="99"/>
                      <a:pt x="1467" y="94"/>
                      <a:pt x="1464" y="88"/>
                    </a:cubicBezTo>
                    <a:cubicBezTo>
                      <a:pt x="1464" y="87"/>
                      <a:pt x="1464" y="86"/>
                      <a:pt x="1465" y="85"/>
                    </a:cubicBezTo>
                    <a:cubicBezTo>
                      <a:pt x="1464" y="86"/>
                      <a:pt x="1464" y="87"/>
                      <a:pt x="1464" y="88"/>
                    </a:cubicBezTo>
                    <a:cubicBezTo>
                      <a:pt x="1463" y="87"/>
                      <a:pt x="1462" y="86"/>
                      <a:pt x="1461" y="85"/>
                    </a:cubicBezTo>
                    <a:cubicBezTo>
                      <a:pt x="1462" y="86"/>
                      <a:pt x="1463" y="87"/>
                      <a:pt x="1463" y="88"/>
                    </a:cubicBezTo>
                    <a:cubicBezTo>
                      <a:pt x="1462" y="91"/>
                      <a:pt x="1461" y="93"/>
                      <a:pt x="1460" y="95"/>
                    </a:cubicBezTo>
                    <a:cubicBezTo>
                      <a:pt x="1459" y="94"/>
                      <a:pt x="1459" y="92"/>
                      <a:pt x="1458" y="91"/>
                    </a:cubicBezTo>
                    <a:cubicBezTo>
                      <a:pt x="1459" y="92"/>
                      <a:pt x="1459" y="94"/>
                      <a:pt x="1460" y="95"/>
                    </a:cubicBezTo>
                    <a:cubicBezTo>
                      <a:pt x="1456" y="103"/>
                      <a:pt x="1453" y="112"/>
                      <a:pt x="1451" y="121"/>
                    </a:cubicBezTo>
                    <a:cubicBezTo>
                      <a:pt x="1450" y="112"/>
                      <a:pt x="1449" y="103"/>
                      <a:pt x="1449" y="97"/>
                    </a:cubicBezTo>
                    <a:cubicBezTo>
                      <a:pt x="1447" y="100"/>
                      <a:pt x="1446" y="105"/>
                      <a:pt x="1445" y="110"/>
                    </a:cubicBezTo>
                    <a:cubicBezTo>
                      <a:pt x="1445" y="92"/>
                      <a:pt x="1444" y="61"/>
                      <a:pt x="1442" y="57"/>
                    </a:cubicBezTo>
                    <a:cubicBezTo>
                      <a:pt x="1441" y="79"/>
                      <a:pt x="1442" y="100"/>
                      <a:pt x="1442" y="122"/>
                    </a:cubicBezTo>
                    <a:cubicBezTo>
                      <a:pt x="1442" y="123"/>
                      <a:pt x="1442" y="124"/>
                      <a:pt x="1442" y="125"/>
                    </a:cubicBezTo>
                    <a:cubicBezTo>
                      <a:pt x="1440" y="114"/>
                      <a:pt x="1436" y="103"/>
                      <a:pt x="1431" y="94"/>
                    </a:cubicBezTo>
                    <a:cubicBezTo>
                      <a:pt x="1430" y="89"/>
                      <a:pt x="1430" y="84"/>
                      <a:pt x="1431" y="80"/>
                    </a:cubicBezTo>
                    <a:cubicBezTo>
                      <a:pt x="1430" y="83"/>
                      <a:pt x="1429" y="87"/>
                      <a:pt x="1428" y="90"/>
                    </a:cubicBezTo>
                    <a:cubicBezTo>
                      <a:pt x="1426" y="88"/>
                      <a:pt x="1424" y="85"/>
                      <a:pt x="1422" y="83"/>
                    </a:cubicBezTo>
                    <a:cubicBezTo>
                      <a:pt x="1424" y="86"/>
                      <a:pt x="1426" y="89"/>
                      <a:pt x="1428" y="92"/>
                    </a:cubicBezTo>
                    <a:cubicBezTo>
                      <a:pt x="1427" y="96"/>
                      <a:pt x="1426" y="100"/>
                      <a:pt x="1426" y="103"/>
                    </a:cubicBezTo>
                    <a:cubicBezTo>
                      <a:pt x="1425" y="102"/>
                      <a:pt x="1425" y="101"/>
                      <a:pt x="1425" y="100"/>
                    </a:cubicBezTo>
                    <a:cubicBezTo>
                      <a:pt x="1425" y="101"/>
                      <a:pt x="1425" y="102"/>
                      <a:pt x="1426" y="104"/>
                    </a:cubicBezTo>
                    <a:cubicBezTo>
                      <a:pt x="1425" y="106"/>
                      <a:pt x="1425" y="109"/>
                      <a:pt x="1424" y="111"/>
                    </a:cubicBezTo>
                    <a:cubicBezTo>
                      <a:pt x="1422" y="107"/>
                      <a:pt x="1421" y="103"/>
                      <a:pt x="1419" y="99"/>
                    </a:cubicBezTo>
                    <a:cubicBezTo>
                      <a:pt x="1418" y="91"/>
                      <a:pt x="1418" y="82"/>
                      <a:pt x="1419" y="74"/>
                    </a:cubicBezTo>
                    <a:cubicBezTo>
                      <a:pt x="1418" y="80"/>
                      <a:pt x="1416" y="86"/>
                      <a:pt x="1415" y="92"/>
                    </a:cubicBezTo>
                    <a:cubicBezTo>
                      <a:pt x="1414" y="91"/>
                      <a:pt x="1413" y="89"/>
                      <a:pt x="1412" y="88"/>
                    </a:cubicBezTo>
                    <a:cubicBezTo>
                      <a:pt x="1413" y="89"/>
                      <a:pt x="1414" y="91"/>
                      <a:pt x="1415" y="93"/>
                    </a:cubicBezTo>
                    <a:cubicBezTo>
                      <a:pt x="1414" y="95"/>
                      <a:pt x="1414" y="97"/>
                      <a:pt x="1414" y="98"/>
                    </a:cubicBezTo>
                    <a:cubicBezTo>
                      <a:pt x="1411" y="93"/>
                      <a:pt x="1409" y="88"/>
                      <a:pt x="1405" y="84"/>
                    </a:cubicBezTo>
                    <a:cubicBezTo>
                      <a:pt x="1408" y="88"/>
                      <a:pt x="1410" y="95"/>
                      <a:pt x="1413" y="103"/>
                    </a:cubicBezTo>
                    <a:cubicBezTo>
                      <a:pt x="1412" y="106"/>
                      <a:pt x="1411" y="110"/>
                      <a:pt x="1411" y="113"/>
                    </a:cubicBezTo>
                    <a:cubicBezTo>
                      <a:pt x="1408" y="108"/>
                      <a:pt x="1406" y="102"/>
                      <a:pt x="1403" y="96"/>
                    </a:cubicBezTo>
                    <a:cubicBezTo>
                      <a:pt x="1403" y="91"/>
                      <a:pt x="1404" y="86"/>
                      <a:pt x="1405" y="83"/>
                    </a:cubicBezTo>
                    <a:cubicBezTo>
                      <a:pt x="1404" y="87"/>
                      <a:pt x="1403" y="90"/>
                      <a:pt x="1401" y="93"/>
                    </a:cubicBezTo>
                    <a:cubicBezTo>
                      <a:pt x="1396" y="83"/>
                      <a:pt x="1389" y="74"/>
                      <a:pt x="1380" y="64"/>
                    </a:cubicBezTo>
                    <a:cubicBezTo>
                      <a:pt x="1389" y="74"/>
                      <a:pt x="1395" y="86"/>
                      <a:pt x="1400" y="97"/>
                    </a:cubicBezTo>
                    <a:cubicBezTo>
                      <a:pt x="1399" y="99"/>
                      <a:pt x="1399" y="101"/>
                      <a:pt x="1398" y="103"/>
                    </a:cubicBezTo>
                    <a:cubicBezTo>
                      <a:pt x="1397" y="98"/>
                      <a:pt x="1396" y="93"/>
                      <a:pt x="1394" y="88"/>
                    </a:cubicBezTo>
                    <a:cubicBezTo>
                      <a:pt x="1394" y="91"/>
                      <a:pt x="1395" y="98"/>
                      <a:pt x="1397" y="106"/>
                    </a:cubicBezTo>
                    <a:cubicBezTo>
                      <a:pt x="1397" y="108"/>
                      <a:pt x="1396" y="109"/>
                      <a:pt x="1396" y="110"/>
                    </a:cubicBezTo>
                    <a:cubicBezTo>
                      <a:pt x="1390" y="97"/>
                      <a:pt x="1383" y="83"/>
                      <a:pt x="1372" y="72"/>
                    </a:cubicBezTo>
                    <a:cubicBezTo>
                      <a:pt x="1370" y="61"/>
                      <a:pt x="1368" y="51"/>
                      <a:pt x="1366" y="41"/>
                    </a:cubicBezTo>
                    <a:cubicBezTo>
                      <a:pt x="1366" y="48"/>
                      <a:pt x="1366" y="55"/>
                      <a:pt x="1366" y="61"/>
                    </a:cubicBezTo>
                    <a:cubicBezTo>
                      <a:pt x="1366" y="63"/>
                      <a:pt x="1366" y="64"/>
                      <a:pt x="1366" y="66"/>
                    </a:cubicBezTo>
                    <a:cubicBezTo>
                      <a:pt x="1365" y="65"/>
                      <a:pt x="1365" y="65"/>
                      <a:pt x="1365" y="65"/>
                    </a:cubicBezTo>
                    <a:cubicBezTo>
                      <a:pt x="1365" y="65"/>
                      <a:pt x="1365" y="65"/>
                      <a:pt x="1366" y="66"/>
                    </a:cubicBezTo>
                    <a:cubicBezTo>
                      <a:pt x="1366" y="75"/>
                      <a:pt x="1367" y="85"/>
                      <a:pt x="1367" y="94"/>
                    </a:cubicBezTo>
                    <a:cubicBezTo>
                      <a:pt x="1365" y="88"/>
                      <a:pt x="1362" y="81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3" y="67"/>
                      <a:pt x="1346" y="59"/>
                      <a:pt x="1336" y="50"/>
                    </a:cubicBezTo>
                    <a:cubicBezTo>
                      <a:pt x="1339" y="54"/>
                      <a:pt x="1341" y="58"/>
                      <a:pt x="1343" y="61"/>
                    </a:cubicBezTo>
                    <a:cubicBezTo>
                      <a:pt x="1342" y="64"/>
                      <a:pt x="1342" y="68"/>
                      <a:pt x="1341" y="73"/>
                    </a:cubicBezTo>
                    <a:cubicBezTo>
                      <a:pt x="1339" y="70"/>
                      <a:pt x="1336" y="67"/>
                      <a:pt x="1334" y="65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2" y="62"/>
                      <a:pt x="1330" y="61"/>
                      <a:pt x="1328" y="59"/>
                    </a:cubicBezTo>
                    <a:cubicBezTo>
                      <a:pt x="1330" y="61"/>
                      <a:pt x="1332" y="63"/>
                      <a:pt x="1333" y="65"/>
                    </a:cubicBezTo>
                    <a:cubicBezTo>
                      <a:pt x="1332" y="67"/>
                      <a:pt x="1330" y="69"/>
                      <a:pt x="1329" y="72"/>
                    </a:cubicBezTo>
                    <a:cubicBezTo>
                      <a:pt x="1328" y="67"/>
                      <a:pt x="1328" y="61"/>
                      <a:pt x="1327" y="56"/>
                    </a:cubicBezTo>
                    <a:cubicBezTo>
                      <a:pt x="1328" y="54"/>
                      <a:pt x="1329" y="53"/>
                      <a:pt x="1330" y="51"/>
                    </a:cubicBezTo>
                    <a:cubicBezTo>
                      <a:pt x="1329" y="52"/>
                      <a:pt x="1328" y="53"/>
                      <a:pt x="1327" y="55"/>
                    </a:cubicBezTo>
                    <a:cubicBezTo>
                      <a:pt x="1325" y="45"/>
                      <a:pt x="1323" y="35"/>
                      <a:pt x="1320" y="26"/>
                    </a:cubicBezTo>
                    <a:cubicBezTo>
                      <a:pt x="1319" y="30"/>
                      <a:pt x="1319" y="34"/>
                      <a:pt x="1319" y="37"/>
                    </a:cubicBezTo>
                    <a:cubicBezTo>
                      <a:pt x="1319" y="45"/>
                      <a:pt x="1320" y="53"/>
                      <a:pt x="1321" y="60"/>
                    </a:cubicBezTo>
                    <a:cubicBezTo>
                      <a:pt x="1317" y="65"/>
                      <a:pt x="1313" y="69"/>
                      <a:pt x="1308" y="75"/>
                    </a:cubicBezTo>
                    <a:cubicBezTo>
                      <a:pt x="1308" y="72"/>
                      <a:pt x="1307" y="70"/>
                      <a:pt x="1306" y="67"/>
                    </a:cubicBezTo>
                    <a:cubicBezTo>
                      <a:pt x="1306" y="70"/>
                      <a:pt x="1307" y="73"/>
                      <a:pt x="1307" y="76"/>
                    </a:cubicBezTo>
                    <a:cubicBezTo>
                      <a:pt x="1306" y="77"/>
                      <a:pt x="1306" y="78"/>
                      <a:pt x="1306" y="78"/>
                    </a:cubicBezTo>
                    <a:cubicBezTo>
                      <a:pt x="1304" y="75"/>
                      <a:pt x="1302" y="72"/>
                      <a:pt x="1300" y="68"/>
                    </a:cubicBezTo>
                    <a:cubicBezTo>
                      <a:pt x="1300" y="65"/>
                      <a:pt x="1301" y="63"/>
                      <a:pt x="1301" y="62"/>
                    </a:cubicBezTo>
                    <a:cubicBezTo>
                      <a:pt x="1300" y="63"/>
                      <a:pt x="1299" y="65"/>
                      <a:pt x="1298" y="67"/>
                    </a:cubicBezTo>
                    <a:cubicBezTo>
                      <a:pt x="1292" y="57"/>
                      <a:pt x="1283" y="47"/>
                      <a:pt x="1270" y="34"/>
                    </a:cubicBezTo>
                    <a:cubicBezTo>
                      <a:pt x="1283" y="49"/>
                      <a:pt x="1291" y="60"/>
                      <a:pt x="1298" y="69"/>
                    </a:cubicBezTo>
                    <a:cubicBezTo>
                      <a:pt x="1297" y="72"/>
                      <a:pt x="1296" y="75"/>
                      <a:pt x="1296" y="79"/>
                    </a:cubicBezTo>
                    <a:cubicBezTo>
                      <a:pt x="1290" y="68"/>
                      <a:pt x="1282" y="58"/>
                      <a:pt x="1270" y="52"/>
                    </a:cubicBezTo>
                    <a:cubicBezTo>
                      <a:pt x="1284" y="60"/>
                      <a:pt x="1291" y="72"/>
                      <a:pt x="1296" y="84"/>
                    </a:cubicBezTo>
                    <a:cubicBezTo>
                      <a:pt x="1296" y="86"/>
                      <a:pt x="1296" y="89"/>
                      <a:pt x="1296" y="92"/>
                    </a:cubicBezTo>
                    <a:cubicBezTo>
                      <a:pt x="1294" y="94"/>
                      <a:pt x="1292" y="97"/>
                      <a:pt x="1290" y="100"/>
                    </a:cubicBezTo>
                    <a:cubicBezTo>
                      <a:pt x="1289" y="96"/>
                      <a:pt x="1289" y="93"/>
                      <a:pt x="1288" y="90"/>
                    </a:cubicBezTo>
                    <a:cubicBezTo>
                      <a:pt x="1289" y="93"/>
                      <a:pt x="1289" y="97"/>
                      <a:pt x="1289" y="101"/>
                    </a:cubicBezTo>
                    <a:cubicBezTo>
                      <a:pt x="1288" y="102"/>
                      <a:pt x="1288" y="104"/>
                      <a:pt x="1287" y="105"/>
                    </a:cubicBezTo>
                    <a:cubicBezTo>
                      <a:pt x="1286" y="104"/>
                      <a:pt x="1286" y="103"/>
                      <a:pt x="1285" y="102"/>
                    </a:cubicBezTo>
                    <a:cubicBezTo>
                      <a:pt x="1284" y="97"/>
                      <a:pt x="1283" y="93"/>
                      <a:pt x="1282" y="88"/>
                    </a:cubicBezTo>
                    <a:cubicBezTo>
                      <a:pt x="1283" y="84"/>
                      <a:pt x="1284" y="79"/>
                      <a:pt x="1284" y="75"/>
                    </a:cubicBezTo>
                    <a:cubicBezTo>
                      <a:pt x="1283" y="78"/>
                      <a:pt x="1282" y="80"/>
                      <a:pt x="1281" y="83"/>
                    </a:cubicBezTo>
                    <a:cubicBezTo>
                      <a:pt x="1280" y="81"/>
                      <a:pt x="1280" y="80"/>
                      <a:pt x="1280" y="79"/>
                    </a:cubicBezTo>
                    <a:cubicBezTo>
                      <a:pt x="1280" y="81"/>
                      <a:pt x="1280" y="82"/>
                      <a:pt x="1280" y="83"/>
                    </a:cubicBezTo>
                    <a:cubicBezTo>
                      <a:pt x="1280" y="84"/>
                      <a:pt x="1279" y="86"/>
                      <a:pt x="1278" y="87"/>
                    </a:cubicBezTo>
                    <a:cubicBezTo>
                      <a:pt x="1276" y="83"/>
                      <a:pt x="1275" y="79"/>
                      <a:pt x="1273" y="75"/>
                    </a:cubicBezTo>
                    <a:cubicBezTo>
                      <a:pt x="1273" y="80"/>
                      <a:pt x="1274" y="86"/>
                      <a:pt x="1276" y="93"/>
                    </a:cubicBezTo>
                    <a:cubicBezTo>
                      <a:pt x="1275" y="94"/>
                      <a:pt x="1275" y="94"/>
                      <a:pt x="1275" y="95"/>
                    </a:cubicBezTo>
                    <a:cubicBezTo>
                      <a:pt x="1274" y="90"/>
                      <a:pt x="1272" y="85"/>
                      <a:pt x="1270" y="81"/>
                    </a:cubicBezTo>
                    <a:cubicBezTo>
                      <a:pt x="1272" y="86"/>
                      <a:pt x="1273" y="91"/>
                      <a:pt x="1274" y="97"/>
                    </a:cubicBezTo>
                    <a:cubicBezTo>
                      <a:pt x="1272" y="100"/>
                      <a:pt x="1271" y="103"/>
                      <a:pt x="1270" y="105"/>
                    </a:cubicBezTo>
                    <a:cubicBezTo>
                      <a:pt x="1267" y="84"/>
                      <a:pt x="1261" y="63"/>
                      <a:pt x="1241" y="42"/>
                    </a:cubicBezTo>
                    <a:cubicBezTo>
                      <a:pt x="1249" y="58"/>
                      <a:pt x="1255" y="70"/>
                      <a:pt x="1259" y="81"/>
                    </a:cubicBezTo>
                    <a:cubicBezTo>
                      <a:pt x="1259" y="84"/>
                      <a:pt x="1259" y="86"/>
                      <a:pt x="1259" y="89"/>
                    </a:cubicBezTo>
                    <a:cubicBezTo>
                      <a:pt x="1257" y="86"/>
                      <a:pt x="1256" y="84"/>
                      <a:pt x="1254" y="81"/>
                    </a:cubicBezTo>
                    <a:cubicBezTo>
                      <a:pt x="1253" y="79"/>
                      <a:pt x="1251" y="76"/>
                      <a:pt x="1250" y="74"/>
                    </a:cubicBezTo>
                    <a:cubicBezTo>
                      <a:pt x="1250" y="72"/>
                      <a:pt x="1250" y="69"/>
                      <a:pt x="1250" y="67"/>
                    </a:cubicBezTo>
                    <a:cubicBezTo>
                      <a:pt x="1250" y="69"/>
                      <a:pt x="1250" y="70"/>
                      <a:pt x="1249" y="72"/>
                    </a:cubicBezTo>
                    <a:cubicBezTo>
                      <a:pt x="1246" y="66"/>
                      <a:pt x="1242" y="59"/>
                      <a:pt x="1237" y="53"/>
                    </a:cubicBezTo>
                    <a:cubicBezTo>
                      <a:pt x="1237" y="48"/>
                      <a:pt x="1237" y="42"/>
                      <a:pt x="1237" y="37"/>
                    </a:cubicBezTo>
                    <a:cubicBezTo>
                      <a:pt x="1237" y="34"/>
                      <a:pt x="1237" y="30"/>
                      <a:pt x="1237" y="26"/>
                    </a:cubicBezTo>
                    <a:cubicBezTo>
                      <a:pt x="1235" y="33"/>
                      <a:pt x="1233" y="40"/>
                      <a:pt x="1232" y="47"/>
                    </a:cubicBezTo>
                    <a:cubicBezTo>
                      <a:pt x="1229" y="44"/>
                      <a:pt x="1225" y="41"/>
                      <a:pt x="1222" y="38"/>
                    </a:cubicBezTo>
                    <a:cubicBezTo>
                      <a:pt x="1225" y="41"/>
                      <a:pt x="1228" y="45"/>
                      <a:pt x="1231" y="49"/>
                    </a:cubicBezTo>
                    <a:cubicBezTo>
                      <a:pt x="1231" y="51"/>
                      <a:pt x="1231" y="53"/>
                      <a:pt x="1230" y="55"/>
                    </a:cubicBezTo>
                    <a:cubicBezTo>
                      <a:pt x="1229" y="53"/>
                      <a:pt x="1228" y="52"/>
                      <a:pt x="1226" y="51"/>
                    </a:cubicBezTo>
                    <a:cubicBezTo>
                      <a:pt x="1227" y="53"/>
                      <a:pt x="1229" y="54"/>
                      <a:pt x="1230" y="56"/>
                    </a:cubicBezTo>
                    <a:cubicBezTo>
                      <a:pt x="1229" y="61"/>
                      <a:pt x="1228" y="67"/>
                      <a:pt x="1228" y="72"/>
                    </a:cubicBezTo>
                    <a:cubicBezTo>
                      <a:pt x="1226" y="69"/>
                      <a:pt x="1224" y="66"/>
                      <a:pt x="1223" y="64"/>
                    </a:cubicBezTo>
                    <a:cubicBezTo>
                      <a:pt x="1223" y="67"/>
                      <a:pt x="1225" y="70"/>
                      <a:pt x="1227" y="74"/>
                    </a:cubicBezTo>
                    <a:cubicBezTo>
                      <a:pt x="1226" y="81"/>
                      <a:pt x="1225" y="87"/>
                      <a:pt x="1224" y="92"/>
                    </a:cubicBezTo>
                    <a:cubicBezTo>
                      <a:pt x="1220" y="109"/>
                      <a:pt x="1216" y="126"/>
                      <a:pt x="1214" y="143"/>
                    </a:cubicBezTo>
                    <a:cubicBezTo>
                      <a:pt x="1215" y="126"/>
                      <a:pt x="1216" y="109"/>
                      <a:pt x="1216" y="91"/>
                    </a:cubicBezTo>
                    <a:cubicBezTo>
                      <a:pt x="1216" y="87"/>
                      <a:pt x="1216" y="61"/>
                      <a:pt x="1212" y="59"/>
                    </a:cubicBezTo>
                    <a:cubicBezTo>
                      <a:pt x="1217" y="76"/>
                      <a:pt x="1203" y="122"/>
                      <a:pt x="1200" y="146"/>
                    </a:cubicBezTo>
                    <a:cubicBezTo>
                      <a:pt x="1200" y="148"/>
                      <a:pt x="1200" y="150"/>
                      <a:pt x="1200" y="152"/>
                    </a:cubicBezTo>
                    <a:cubicBezTo>
                      <a:pt x="1200" y="150"/>
                      <a:pt x="1200" y="148"/>
                      <a:pt x="1200" y="146"/>
                    </a:cubicBezTo>
                    <a:cubicBezTo>
                      <a:pt x="1202" y="123"/>
                      <a:pt x="1201" y="97"/>
                      <a:pt x="1199" y="75"/>
                    </a:cubicBezTo>
                    <a:cubicBezTo>
                      <a:pt x="1196" y="97"/>
                      <a:pt x="1188" y="119"/>
                      <a:pt x="1188" y="141"/>
                    </a:cubicBezTo>
                    <a:cubicBezTo>
                      <a:pt x="1188" y="146"/>
                      <a:pt x="1189" y="152"/>
                      <a:pt x="1189" y="158"/>
                    </a:cubicBezTo>
                    <a:cubicBezTo>
                      <a:pt x="1187" y="150"/>
                      <a:pt x="1187" y="140"/>
                      <a:pt x="1187" y="133"/>
                    </a:cubicBezTo>
                    <a:cubicBezTo>
                      <a:pt x="1187" y="109"/>
                      <a:pt x="1191" y="85"/>
                      <a:pt x="1191" y="61"/>
                    </a:cubicBezTo>
                    <a:cubicBezTo>
                      <a:pt x="1191" y="55"/>
                      <a:pt x="1191" y="48"/>
                      <a:pt x="1191" y="41"/>
                    </a:cubicBezTo>
                    <a:cubicBezTo>
                      <a:pt x="1183" y="71"/>
                      <a:pt x="1179" y="110"/>
                      <a:pt x="1179" y="140"/>
                    </a:cubicBezTo>
                    <a:cubicBezTo>
                      <a:pt x="1179" y="145"/>
                      <a:pt x="1179" y="149"/>
                      <a:pt x="1180" y="153"/>
                    </a:cubicBezTo>
                    <a:cubicBezTo>
                      <a:pt x="1179" y="135"/>
                      <a:pt x="1174" y="116"/>
                      <a:pt x="1170" y="98"/>
                    </a:cubicBezTo>
                    <a:cubicBezTo>
                      <a:pt x="1172" y="110"/>
                      <a:pt x="1168" y="124"/>
                      <a:pt x="1168" y="136"/>
                    </a:cubicBezTo>
                    <a:cubicBezTo>
                      <a:pt x="1168" y="140"/>
                      <a:pt x="1168" y="143"/>
                      <a:pt x="1168" y="147"/>
                    </a:cubicBezTo>
                    <a:cubicBezTo>
                      <a:pt x="1165" y="125"/>
                      <a:pt x="1160" y="103"/>
                      <a:pt x="1151" y="83"/>
                    </a:cubicBezTo>
                    <a:cubicBezTo>
                      <a:pt x="1154" y="90"/>
                      <a:pt x="1154" y="108"/>
                      <a:pt x="1154" y="115"/>
                    </a:cubicBezTo>
                    <a:cubicBezTo>
                      <a:pt x="1154" y="127"/>
                      <a:pt x="1154" y="138"/>
                      <a:pt x="1156" y="150"/>
                    </a:cubicBezTo>
                    <a:cubicBezTo>
                      <a:pt x="1147" y="126"/>
                      <a:pt x="1144" y="99"/>
                      <a:pt x="1137" y="74"/>
                    </a:cubicBezTo>
                    <a:cubicBezTo>
                      <a:pt x="1140" y="91"/>
                      <a:pt x="1137" y="110"/>
                      <a:pt x="1137" y="128"/>
                    </a:cubicBezTo>
                    <a:cubicBezTo>
                      <a:pt x="1137" y="132"/>
                      <a:pt x="1137" y="136"/>
                      <a:pt x="1137" y="140"/>
                    </a:cubicBezTo>
                    <a:cubicBezTo>
                      <a:pt x="1138" y="145"/>
                      <a:pt x="1138" y="149"/>
                      <a:pt x="1139" y="154"/>
                    </a:cubicBezTo>
                    <a:cubicBezTo>
                      <a:pt x="1138" y="149"/>
                      <a:pt x="1137" y="145"/>
                      <a:pt x="1137" y="140"/>
                    </a:cubicBezTo>
                    <a:cubicBezTo>
                      <a:pt x="1134" y="120"/>
                      <a:pt x="1131" y="99"/>
                      <a:pt x="1126" y="80"/>
                    </a:cubicBezTo>
                    <a:cubicBezTo>
                      <a:pt x="1128" y="102"/>
                      <a:pt x="1118" y="126"/>
                      <a:pt x="1118" y="149"/>
                    </a:cubicBezTo>
                    <a:cubicBezTo>
                      <a:pt x="1118" y="156"/>
                      <a:pt x="1118" y="156"/>
                      <a:pt x="1118" y="156"/>
                    </a:cubicBezTo>
                    <a:cubicBezTo>
                      <a:pt x="1114" y="147"/>
                      <a:pt x="1114" y="132"/>
                      <a:pt x="1114" y="122"/>
                    </a:cubicBezTo>
                    <a:cubicBezTo>
                      <a:pt x="1114" y="100"/>
                      <a:pt x="1116" y="79"/>
                      <a:pt x="1115" y="57"/>
                    </a:cubicBezTo>
                    <a:cubicBezTo>
                      <a:pt x="1112" y="62"/>
                      <a:pt x="1111" y="112"/>
                      <a:pt x="1111" y="120"/>
                    </a:cubicBezTo>
                    <a:cubicBezTo>
                      <a:pt x="1111" y="133"/>
                      <a:pt x="1112" y="146"/>
                      <a:pt x="1115" y="159"/>
                    </a:cubicBezTo>
                    <a:cubicBezTo>
                      <a:pt x="1110" y="135"/>
                      <a:pt x="1104" y="108"/>
                      <a:pt x="1092" y="85"/>
                    </a:cubicBezTo>
                    <a:cubicBezTo>
                      <a:pt x="1103" y="106"/>
                      <a:pt x="1098" y="132"/>
                      <a:pt x="1105" y="154"/>
                    </a:cubicBezTo>
                    <a:cubicBezTo>
                      <a:pt x="1097" y="142"/>
                      <a:pt x="1095" y="122"/>
                      <a:pt x="1092" y="106"/>
                    </a:cubicBezTo>
                    <a:cubicBezTo>
                      <a:pt x="1094" y="120"/>
                      <a:pt x="1092" y="134"/>
                      <a:pt x="1094" y="148"/>
                    </a:cubicBezTo>
                    <a:cubicBezTo>
                      <a:pt x="1095" y="151"/>
                      <a:pt x="1096" y="153"/>
                      <a:pt x="1096" y="155"/>
                    </a:cubicBezTo>
                    <a:cubicBezTo>
                      <a:pt x="1095" y="153"/>
                      <a:pt x="1095" y="151"/>
                      <a:pt x="1094" y="148"/>
                    </a:cubicBezTo>
                    <a:cubicBezTo>
                      <a:pt x="1090" y="127"/>
                      <a:pt x="1077" y="75"/>
                      <a:pt x="1066" y="68"/>
                    </a:cubicBezTo>
                    <a:cubicBezTo>
                      <a:pt x="1083" y="90"/>
                      <a:pt x="1080" y="127"/>
                      <a:pt x="1085" y="153"/>
                    </a:cubicBezTo>
                    <a:cubicBezTo>
                      <a:pt x="1080" y="134"/>
                      <a:pt x="1073" y="113"/>
                      <a:pt x="1064" y="95"/>
                    </a:cubicBezTo>
                    <a:cubicBezTo>
                      <a:pt x="1071" y="115"/>
                      <a:pt x="1070" y="136"/>
                      <a:pt x="1079" y="155"/>
                    </a:cubicBezTo>
                    <a:cubicBezTo>
                      <a:pt x="1066" y="144"/>
                      <a:pt x="1059" y="117"/>
                      <a:pt x="1055" y="102"/>
                    </a:cubicBezTo>
                    <a:cubicBezTo>
                      <a:pt x="1056" y="120"/>
                      <a:pt x="1060" y="143"/>
                      <a:pt x="1071" y="158"/>
                    </a:cubicBezTo>
                    <a:cubicBezTo>
                      <a:pt x="1057" y="144"/>
                      <a:pt x="1052" y="103"/>
                      <a:pt x="1047" y="85"/>
                    </a:cubicBezTo>
                    <a:cubicBezTo>
                      <a:pt x="1046" y="88"/>
                      <a:pt x="1046" y="91"/>
                      <a:pt x="1046" y="94"/>
                    </a:cubicBezTo>
                    <a:cubicBezTo>
                      <a:pt x="1046" y="113"/>
                      <a:pt x="1052" y="142"/>
                      <a:pt x="1063" y="159"/>
                    </a:cubicBezTo>
                    <a:cubicBezTo>
                      <a:pt x="1050" y="143"/>
                      <a:pt x="1044" y="123"/>
                      <a:pt x="1038" y="104"/>
                    </a:cubicBezTo>
                    <a:cubicBezTo>
                      <a:pt x="1042" y="122"/>
                      <a:pt x="1042" y="140"/>
                      <a:pt x="1051" y="158"/>
                    </a:cubicBezTo>
                    <a:cubicBezTo>
                      <a:pt x="1041" y="147"/>
                      <a:pt x="1037" y="132"/>
                      <a:pt x="1033" y="117"/>
                    </a:cubicBezTo>
                    <a:cubicBezTo>
                      <a:pt x="1034" y="105"/>
                      <a:pt x="1035" y="93"/>
                      <a:pt x="1036" y="84"/>
                    </a:cubicBezTo>
                    <a:cubicBezTo>
                      <a:pt x="1034" y="92"/>
                      <a:pt x="1033" y="101"/>
                      <a:pt x="1031" y="109"/>
                    </a:cubicBezTo>
                    <a:cubicBezTo>
                      <a:pt x="1029" y="102"/>
                      <a:pt x="1027" y="95"/>
                      <a:pt x="1025" y="89"/>
                    </a:cubicBezTo>
                    <a:cubicBezTo>
                      <a:pt x="1028" y="64"/>
                      <a:pt x="1032" y="40"/>
                      <a:pt x="1032" y="40"/>
                    </a:cubicBezTo>
                    <a:cubicBezTo>
                      <a:pt x="1027" y="51"/>
                      <a:pt x="1022" y="77"/>
                      <a:pt x="1019" y="100"/>
                    </a:cubicBezTo>
                    <a:cubicBezTo>
                      <a:pt x="1017" y="95"/>
                      <a:pt x="1015" y="90"/>
                      <a:pt x="1013" y="86"/>
                    </a:cubicBezTo>
                    <a:cubicBezTo>
                      <a:pt x="1012" y="70"/>
                      <a:pt x="1011" y="58"/>
                      <a:pt x="1011" y="60"/>
                    </a:cubicBezTo>
                    <a:cubicBezTo>
                      <a:pt x="1011" y="61"/>
                      <a:pt x="1010" y="69"/>
                      <a:pt x="1009" y="80"/>
                    </a:cubicBezTo>
                    <a:cubicBezTo>
                      <a:pt x="1008" y="79"/>
                      <a:pt x="1008" y="78"/>
                      <a:pt x="1007" y="78"/>
                    </a:cubicBezTo>
                    <a:cubicBezTo>
                      <a:pt x="1008" y="79"/>
                      <a:pt x="1008" y="80"/>
                      <a:pt x="1009" y="81"/>
                    </a:cubicBezTo>
                    <a:cubicBezTo>
                      <a:pt x="1009" y="87"/>
                      <a:pt x="1008" y="95"/>
                      <a:pt x="1007" y="102"/>
                    </a:cubicBezTo>
                    <a:cubicBezTo>
                      <a:pt x="1007" y="102"/>
                      <a:pt x="1007" y="102"/>
                      <a:pt x="1007" y="102"/>
                    </a:cubicBezTo>
                    <a:cubicBezTo>
                      <a:pt x="1007" y="103"/>
                      <a:pt x="1007" y="103"/>
                      <a:pt x="1007" y="103"/>
                    </a:cubicBezTo>
                    <a:cubicBezTo>
                      <a:pt x="1006" y="113"/>
                      <a:pt x="1006" y="123"/>
                      <a:pt x="1005" y="130"/>
                    </a:cubicBezTo>
                    <a:cubicBezTo>
                      <a:pt x="1005" y="130"/>
                      <a:pt x="1005" y="129"/>
                      <a:pt x="1004" y="128"/>
                    </a:cubicBezTo>
                    <a:cubicBezTo>
                      <a:pt x="1004" y="107"/>
                      <a:pt x="1000" y="69"/>
                      <a:pt x="998" y="47"/>
                    </a:cubicBezTo>
                    <a:cubicBezTo>
                      <a:pt x="998" y="64"/>
                      <a:pt x="997" y="87"/>
                      <a:pt x="996" y="107"/>
                    </a:cubicBezTo>
                    <a:cubicBezTo>
                      <a:pt x="995" y="105"/>
                      <a:pt x="994" y="104"/>
                      <a:pt x="994" y="102"/>
                    </a:cubicBezTo>
                    <a:cubicBezTo>
                      <a:pt x="994" y="104"/>
                      <a:pt x="995" y="106"/>
                      <a:pt x="996" y="107"/>
                    </a:cubicBezTo>
                    <a:cubicBezTo>
                      <a:pt x="995" y="114"/>
                      <a:pt x="995" y="121"/>
                      <a:pt x="994" y="126"/>
                    </a:cubicBezTo>
                    <a:cubicBezTo>
                      <a:pt x="994" y="125"/>
                      <a:pt x="993" y="123"/>
                      <a:pt x="993" y="122"/>
                    </a:cubicBezTo>
                    <a:cubicBezTo>
                      <a:pt x="992" y="93"/>
                      <a:pt x="988" y="46"/>
                      <a:pt x="988" y="46"/>
                    </a:cubicBezTo>
                    <a:cubicBezTo>
                      <a:pt x="988" y="65"/>
                      <a:pt x="981" y="142"/>
                      <a:pt x="981" y="142"/>
                    </a:cubicBezTo>
                    <a:cubicBezTo>
                      <a:pt x="975" y="106"/>
                      <a:pt x="982" y="0"/>
                      <a:pt x="982" y="0"/>
                    </a:cubicBezTo>
                    <a:cubicBezTo>
                      <a:pt x="976" y="16"/>
                      <a:pt x="970" y="131"/>
                      <a:pt x="970" y="131"/>
                    </a:cubicBezTo>
                    <a:cubicBezTo>
                      <a:pt x="968" y="36"/>
                      <a:pt x="964" y="32"/>
                      <a:pt x="964" y="32"/>
                    </a:cubicBezTo>
                    <a:cubicBezTo>
                      <a:pt x="966" y="43"/>
                      <a:pt x="963" y="76"/>
                      <a:pt x="960" y="103"/>
                    </a:cubicBezTo>
                    <a:cubicBezTo>
                      <a:pt x="959" y="102"/>
                      <a:pt x="958" y="100"/>
                      <a:pt x="957" y="99"/>
                    </a:cubicBezTo>
                    <a:cubicBezTo>
                      <a:pt x="958" y="101"/>
                      <a:pt x="959" y="103"/>
                      <a:pt x="960" y="104"/>
                    </a:cubicBezTo>
                    <a:cubicBezTo>
                      <a:pt x="959" y="112"/>
                      <a:pt x="958" y="120"/>
                      <a:pt x="957" y="126"/>
                    </a:cubicBezTo>
                    <a:cubicBezTo>
                      <a:pt x="957" y="124"/>
                      <a:pt x="957" y="123"/>
                      <a:pt x="957" y="122"/>
                    </a:cubicBezTo>
                    <a:cubicBezTo>
                      <a:pt x="958" y="94"/>
                      <a:pt x="956" y="48"/>
                      <a:pt x="956" y="48"/>
                    </a:cubicBezTo>
                    <a:cubicBezTo>
                      <a:pt x="955" y="55"/>
                      <a:pt x="952" y="82"/>
                      <a:pt x="949" y="106"/>
                    </a:cubicBezTo>
                    <a:cubicBezTo>
                      <a:pt x="948" y="104"/>
                      <a:pt x="948" y="102"/>
                      <a:pt x="947" y="100"/>
                    </a:cubicBezTo>
                    <a:cubicBezTo>
                      <a:pt x="950" y="60"/>
                      <a:pt x="954" y="9"/>
                      <a:pt x="954" y="9"/>
                    </a:cubicBezTo>
                    <a:cubicBezTo>
                      <a:pt x="949" y="23"/>
                      <a:pt x="942" y="83"/>
                      <a:pt x="939" y="117"/>
                    </a:cubicBezTo>
                    <a:cubicBezTo>
                      <a:pt x="938" y="114"/>
                      <a:pt x="937" y="111"/>
                      <a:pt x="937" y="108"/>
                    </a:cubicBezTo>
                    <a:cubicBezTo>
                      <a:pt x="936" y="90"/>
                      <a:pt x="934" y="72"/>
                      <a:pt x="934" y="72"/>
                    </a:cubicBezTo>
                    <a:cubicBezTo>
                      <a:pt x="935" y="76"/>
                      <a:pt x="934" y="84"/>
                      <a:pt x="933" y="94"/>
                    </a:cubicBezTo>
                    <a:cubicBezTo>
                      <a:pt x="932" y="91"/>
                      <a:pt x="930" y="88"/>
                      <a:pt x="929" y="84"/>
                    </a:cubicBezTo>
                    <a:cubicBezTo>
                      <a:pt x="931" y="88"/>
                      <a:pt x="932" y="92"/>
                      <a:pt x="933" y="96"/>
                    </a:cubicBezTo>
                    <a:cubicBezTo>
                      <a:pt x="932" y="99"/>
                      <a:pt x="932" y="103"/>
                      <a:pt x="931" y="107"/>
                    </a:cubicBezTo>
                    <a:cubicBezTo>
                      <a:pt x="931" y="106"/>
                      <a:pt x="931" y="106"/>
                      <a:pt x="931" y="105"/>
                    </a:cubicBezTo>
                    <a:cubicBezTo>
                      <a:pt x="930" y="107"/>
                      <a:pt x="930" y="112"/>
                      <a:pt x="930" y="116"/>
                    </a:cubicBezTo>
                    <a:cubicBezTo>
                      <a:pt x="929" y="121"/>
                      <a:pt x="929" y="126"/>
                      <a:pt x="928" y="130"/>
                    </a:cubicBezTo>
                    <a:cubicBezTo>
                      <a:pt x="928" y="129"/>
                      <a:pt x="928" y="128"/>
                      <a:pt x="928" y="127"/>
                    </a:cubicBezTo>
                    <a:cubicBezTo>
                      <a:pt x="928" y="101"/>
                      <a:pt x="923" y="63"/>
                      <a:pt x="922" y="54"/>
                    </a:cubicBezTo>
                    <a:cubicBezTo>
                      <a:pt x="923" y="61"/>
                      <a:pt x="921" y="79"/>
                      <a:pt x="920" y="96"/>
                    </a:cubicBezTo>
                    <a:cubicBezTo>
                      <a:pt x="919" y="94"/>
                      <a:pt x="918" y="92"/>
                      <a:pt x="918" y="90"/>
                    </a:cubicBezTo>
                    <a:cubicBezTo>
                      <a:pt x="918" y="92"/>
                      <a:pt x="919" y="95"/>
                      <a:pt x="920" y="97"/>
                    </a:cubicBezTo>
                    <a:cubicBezTo>
                      <a:pt x="918" y="118"/>
                      <a:pt x="916" y="137"/>
                      <a:pt x="916" y="137"/>
                    </a:cubicBezTo>
                    <a:cubicBezTo>
                      <a:pt x="916" y="136"/>
                      <a:pt x="916" y="134"/>
                      <a:pt x="915" y="133"/>
                    </a:cubicBezTo>
                    <a:cubicBezTo>
                      <a:pt x="915" y="125"/>
                      <a:pt x="915" y="118"/>
                      <a:pt x="915" y="110"/>
                    </a:cubicBezTo>
                    <a:cubicBezTo>
                      <a:pt x="913" y="76"/>
                      <a:pt x="913" y="40"/>
                      <a:pt x="913" y="40"/>
                    </a:cubicBezTo>
                    <a:cubicBezTo>
                      <a:pt x="912" y="49"/>
                      <a:pt x="908" y="79"/>
                      <a:pt x="903" y="104"/>
                    </a:cubicBezTo>
                    <a:cubicBezTo>
                      <a:pt x="903" y="99"/>
                      <a:pt x="902" y="95"/>
                      <a:pt x="902" y="90"/>
                    </a:cubicBezTo>
                    <a:cubicBezTo>
                      <a:pt x="903" y="67"/>
                      <a:pt x="903" y="45"/>
                      <a:pt x="903" y="45"/>
                    </a:cubicBezTo>
                    <a:cubicBezTo>
                      <a:pt x="903" y="53"/>
                      <a:pt x="897" y="75"/>
                      <a:pt x="891" y="96"/>
                    </a:cubicBezTo>
                    <a:cubicBezTo>
                      <a:pt x="889" y="93"/>
                      <a:pt x="888" y="89"/>
                      <a:pt x="886" y="85"/>
                    </a:cubicBezTo>
                    <a:cubicBezTo>
                      <a:pt x="893" y="51"/>
                      <a:pt x="901" y="17"/>
                      <a:pt x="901" y="17"/>
                    </a:cubicBezTo>
                    <a:cubicBezTo>
                      <a:pt x="896" y="24"/>
                      <a:pt x="881" y="95"/>
                      <a:pt x="874" y="130"/>
                    </a:cubicBezTo>
                    <a:cubicBezTo>
                      <a:pt x="874" y="130"/>
                      <a:pt x="874" y="130"/>
                      <a:pt x="874" y="130"/>
                    </a:cubicBezTo>
                    <a:cubicBezTo>
                      <a:pt x="878" y="100"/>
                      <a:pt x="875" y="63"/>
                      <a:pt x="874" y="52"/>
                    </a:cubicBezTo>
                    <a:cubicBezTo>
                      <a:pt x="876" y="72"/>
                      <a:pt x="870" y="109"/>
                      <a:pt x="866" y="128"/>
                    </a:cubicBezTo>
                    <a:cubicBezTo>
                      <a:pt x="866" y="126"/>
                      <a:pt x="866" y="123"/>
                      <a:pt x="865" y="120"/>
                    </a:cubicBezTo>
                    <a:cubicBezTo>
                      <a:pt x="867" y="99"/>
                      <a:pt x="869" y="71"/>
                      <a:pt x="870" y="65"/>
                    </a:cubicBezTo>
                    <a:cubicBezTo>
                      <a:pt x="869" y="71"/>
                      <a:pt x="866" y="89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59" y="125"/>
                      <a:pt x="855" y="143"/>
                      <a:pt x="855" y="143"/>
                    </a:cubicBezTo>
                    <a:cubicBezTo>
                      <a:pt x="865" y="38"/>
                      <a:pt x="858" y="25"/>
                      <a:pt x="858" y="25"/>
                    </a:cubicBezTo>
                    <a:cubicBezTo>
                      <a:pt x="861" y="42"/>
                      <a:pt x="858" y="72"/>
                      <a:pt x="853" y="96"/>
                    </a:cubicBezTo>
                    <a:cubicBezTo>
                      <a:pt x="852" y="89"/>
                      <a:pt x="850" y="80"/>
                      <a:pt x="847" y="73"/>
                    </a:cubicBezTo>
                    <a:cubicBezTo>
                      <a:pt x="846" y="65"/>
                      <a:pt x="846" y="60"/>
                      <a:pt x="846" y="60"/>
                    </a:cubicBezTo>
                    <a:cubicBezTo>
                      <a:pt x="846" y="63"/>
                      <a:pt x="846" y="67"/>
                      <a:pt x="846" y="71"/>
                    </a:cubicBezTo>
                    <a:cubicBezTo>
                      <a:pt x="844" y="69"/>
                      <a:pt x="843" y="67"/>
                      <a:pt x="842" y="65"/>
                    </a:cubicBezTo>
                    <a:cubicBezTo>
                      <a:pt x="843" y="67"/>
                      <a:pt x="844" y="70"/>
                      <a:pt x="845" y="73"/>
                    </a:cubicBezTo>
                    <a:cubicBezTo>
                      <a:pt x="845" y="82"/>
                      <a:pt x="844" y="92"/>
                      <a:pt x="843" y="101"/>
                    </a:cubicBezTo>
                    <a:cubicBezTo>
                      <a:pt x="842" y="95"/>
                      <a:pt x="839" y="88"/>
                      <a:pt x="834" y="83"/>
                    </a:cubicBezTo>
                    <a:cubicBezTo>
                      <a:pt x="834" y="74"/>
                      <a:pt x="835" y="68"/>
                      <a:pt x="835" y="68"/>
                    </a:cubicBezTo>
                    <a:cubicBezTo>
                      <a:pt x="834" y="72"/>
                      <a:pt x="833" y="76"/>
                      <a:pt x="832" y="81"/>
                    </a:cubicBezTo>
                    <a:cubicBezTo>
                      <a:pt x="832" y="81"/>
                      <a:pt x="831" y="81"/>
                      <a:pt x="831" y="80"/>
                    </a:cubicBezTo>
                    <a:cubicBezTo>
                      <a:pt x="831" y="81"/>
                      <a:pt x="832" y="81"/>
                      <a:pt x="832" y="82"/>
                    </a:cubicBezTo>
                    <a:cubicBezTo>
                      <a:pt x="830" y="101"/>
                      <a:pt x="828" y="130"/>
                      <a:pt x="828" y="142"/>
                    </a:cubicBezTo>
                    <a:cubicBezTo>
                      <a:pt x="828" y="143"/>
                      <a:pt x="827" y="144"/>
                      <a:pt x="827" y="144"/>
                    </a:cubicBezTo>
                    <a:cubicBezTo>
                      <a:pt x="827" y="140"/>
                      <a:pt x="826" y="136"/>
                      <a:pt x="826" y="131"/>
                    </a:cubicBezTo>
                    <a:cubicBezTo>
                      <a:pt x="828" y="121"/>
                      <a:pt x="829" y="112"/>
                      <a:pt x="830" y="103"/>
                    </a:cubicBezTo>
                    <a:cubicBezTo>
                      <a:pt x="829" y="108"/>
                      <a:pt x="828" y="112"/>
                      <a:pt x="827" y="117"/>
                    </a:cubicBezTo>
                    <a:cubicBezTo>
                      <a:pt x="828" y="85"/>
                      <a:pt x="834" y="45"/>
                      <a:pt x="834" y="45"/>
                    </a:cubicBezTo>
                    <a:cubicBezTo>
                      <a:pt x="827" y="60"/>
                      <a:pt x="823" y="95"/>
                      <a:pt x="820" y="120"/>
                    </a:cubicBezTo>
                    <a:cubicBezTo>
                      <a:pt x="820" y="123"/>
                      <a:pt x="819" y="125"/>
                      <a:pt x="818" y="127"/>
                    </a:cubicBezTo>
                    <a:cubicBezTo>
                      <a:pt x="818" y="103"/>
                      <a:pt x="818" y="70"/>
                      <a:pt x="818" y="70"/>
                    </a:cubicBezTo>
                    <a:cubicBezTo>
                      <a:pt x="817" y="72"/>
                      <a:pt x="817" y="76"/>
                      <a:pt x="816" y="81"/>
                    </a:cubicBezTo>
                    <a:cubicBezTo>
                      <a:pt x="815" y="73"/>
                      <a:pt x="813" y="66"/>
                      <a:pt x="810" y="60"/>
                    </a:cubicBezTo>
                    <a:cubicBezTo>
                      <a:pt x="811" y="52"/>
                      <a:pt x="812" y="46"/>
                      <a:pt x="812" y="46"/>
                    </a:cubicBezTo>
                    <a:cubicBezTo>
                      <a:pt x="809" y="51"/>
                      <a:pt x="807" y="64"/>
                      <a:pt x="806" y="79"/>
                    </a:cubicBezTo>
                    <a:cubicBezTo>
                      <a:pt x="805" y="77"/>
                      <a:pt x="805" y="75"/>
                      <a:pt x="805" y="74"/>
                    </a:cubicBezTo>
                    <a:cubicBezTo>
                      <a:pt x="803" y="83"/>
                      <a:pt x="803" y="92"/>
                      <a:pt x="803" y="102"/>
                    </a:cubicBezTo>
                    <a:cubicBezTo>
                      <a:pt x="803" y="108"/>
                      <a:pt x="802" y="115"/>
                      <a:pt x="802" y="121"/>
                    </a:cubicBezTo>
                    <a:cubicBezTo>
                      <a:pt x="801" y="123"/>
                      <a:pt x="801" y="125"/>
                      <a:pt x="800" y="127"/>
                    </a:cubicBezTo>
                    <a:cubicBezTo>
                      <a:pt x="801" y="35"/>
                      <a:pt x="798" y="34"/>
                      <a:pt x="798" y="34"/>
                    </a:cubicBezTo>
                    <a:cubicBezTo>
                      <a:pt x="800" y="49"/>
                      <a:pt x="796" y="77"/>
                      <a:pt x="792" y="102"/>
                    </a:cubicBezTo>
                    <a:cubicBezTo>
                      <a:pt x="791" y="94"/>
                      <a:pt x="790" y="85"/>
                      <a:pt x="785" y="76"/>
                    </a:cubicBezTo>
                    <a:cubicBezTo>
                      <a:pt x="786" y="70"/>
                      <a:pt x="786" y="66"/>
                      <a:pt x="786" y="66"/>
                    </a:cubicBezTo>
                    <a:cubicBezTo>
                      <a:pt x="786" y="68"/>
                      <a:pt x="785" y="71"/>
                      <a:pt x="784" y="74"/>
                    </a:cubicBezTo>
                    <a:cubicBezTo>
                      <a:pt x="784" y="73"/>
                      <a:pt x="783" y="72"/>
                      <a:pt x="783" y="71"/>
                    </a:cubicBezTo>
                    <a:cubicBezTo>
                      <a:pt x="783" y="73"/>
                      <a:pt x="784" y="74"/>
                      <a:pt x="784" y="76"/>
                    </a:cubicBezTo>
                    <a:cubicBezTo>
                      <a:pt x="782" y="83"/>
                      <a:pt x="780" y="93"/>
                      <a:pt x="779" y="103"/>
                    </a:cubicBezTo>
                    <a:cubicBezTo>
                      <a:pt x="778" y="98"/>
                      <a:pt x="778" y="94"/>
                      <a:pt x="776" y="89"/>
                    </a:cubicBezTo>
                    <a:cubicBezTo>
                      <a:pt x="777" y="96"/>
                      <a:pt x="776" y="104"/>
                      <a:pt x="773" y="112"/>
                    </a:cubicBezTo>
                    <a:cubicBezTo>
                      <a:pt x="773" y="92"/>
                      <a:pt x="772" y="70"/>
                      <a:pt x="771" y="62"/>
                    </a:cubicBezTo>
                    <a:cubicBezTo>
                      <a:pt x="772" y="67"/>
                      <a:pt x="771" y="74"/>
                      <a:pt x="771" y="82"/>
                    </a:cubicBezTo>
                    <a:cubicBezTo>
                      <a:pt x="769" y="87"/>
                      <a:pt x="767" y="94"/>
                      <a:pt x="764" y="101"/>
                    </a:cubicBezTo>
                    <a:cubicBezTo>
                      <a:pt x="764" y="91"/>
                      <a:pt x="764" y="82"/>
                      <a:pt x="764" y="75"/>
                    </a:cubicBezTo>
                    <a:cubicBezTo>
                      <a:pt x="763" y="86"/>
                      <a:pt x="761" y="102"/>
                      <a:pt x="759" y="116"/>
                    </a:cubicBezTo>
                    <a:cubicBezTo>
                      <a:pt x="757" y="123"/>
                      <a:pt x="755" y="130"/>
                      <a:pt x="753" y="136"/>
                    </a:cubicBezTo>
                    <a:cubicBezTo>
                      <a:pt x="753" y="118"/>
                      <a:pt x="756" y="89"/>
                      <a:pt x="756" y="89"/>
                    </a:cubicBezTo>
                    <a:cubicBezTo>
                      <a:pt x="755" y="93"/>
                      <a:pt x="754" y="99"/>
                      <a:pt x="751" y="106"/>
                    </a:cubicBezTo>
                    <a:cubicBezTo>
                      <a:pt x="751" y="104"/>
                      <a:pt x="751" y="101"/>
                      <a:pt x="750" y="99"/>
                    </a:cubicBezTo>
                    <a:cubicBezTo>
                      <a:pt x="750" y="96"/>
                      <a:pt x="750" y="96"/>
                      <a:pt x="750" y="96"/>
                    </a:cubicBezTo>
                    <a:cubicBezTo>
                      <a:pt x="749" y="95"/>
                      <a:pt x="749" y="95"/>
                      <a:pt x="749" y="95"/>
                    </a:cubicBezTo>
                    <a:cubicBezTo>
                      <a:pt x="749" y="104"/>
                      <a:pt x="747" y="113"/>
                      <a:pt x="745" y="122"/>
                    </a:cubicBezTo>
                    <a:cubicBezTo>
                      <a:pt x="744" y="127"/>
                      <a:pt x="742" y="131"/>
                      <a:pt x="741" y="134"/>
                    </a:cubicBezTo>
                    <a:cubicBezTo>
                      <a:pt x="741" y="130"/>
                      <a:pt x="740" y="126"/>
                      <a:pt x="740" y="122"/>
                    </a:cubicBezTo>
                    <a:cubicBezTo>
                      <a:pt x="744" y="102"/>
                      <a:pt x="751" y="76"/>
                      <a:pt x="751" y="76"/>
                    </a:cubicBezTo>
                    <a:cubicBezTo>
                      <a:pt x="746" y="82"/>
                      <a:pt x="742" y="94"/>
                      <a:pt x="737" y="105"/>
                    </a:cubicBezTo>
                    <a:cubicBezTo>
                      <a:pt x="737" y="102"/>
                      <a:pt x="736" y="98"/>
                      <a:pt x="734" y="95"/>
                    </a:cubicBezTo>
                    <a:cubicBezTo>
                      <a:pt x="735" y="74"/>
                      <a:pt x="732" y="62"/>
                      <a:pt x="732" y="62"/>
                    </a:cubicBezTo>
                    <a:cubicBezTo>
                      <a:pt x="733" y="69"/>
                      <a:pt x="733" y="78"/>
                      <a:pt x="732" y="88"/>
                    </a:cubicBezTo>
                    <a:cubicBezTo>
                      <a:pt x="729" y="83"/>
                      <a:pt x="726" y="78"/>
                      <a:pt x="722" y="73"/>
                    </a:cubicBezTo>
                    <a:cubicBezTo>
                      <a:pt x="727" y="80"/>
                      <a:pt x="729" y="92"/>
                      <a:pt x="730" y="102"/>
                    </a:cubicBezTo>
                    <a:cubicBezTo>
                      <a:pt x="729" y="108"/>
                      <a:pt x="728" y="115"/>
                      <a:pt x="727" y="120"/>
                    </a:cubicBezTo>
                    <a:cubicBezTo>
                      <a:pt x="726" y="113"/>
                      <a:pt x="725" y="106"/>
                      <a:pt x="723" y="100"/>
                    </a:cubicBezTo>
                    <a:cubicBezTo>
                      <a:pt x="724" y="89"/>
                      <a:pt x="725" y="82"/>
                      <a:pt x="725" y="82"/>
                    </a:cubicBezTo>
                    <a:cubicBezTo>
                      <a:pt x="723" y="98"/>
                      <a:pt x="723" y="98"/>
                      <a:pt x="723" y="98"/>
                    </a:cubicBezTo>
                    <a:cubicBezTo>
                      <a:pt x="722" y="94"/>
                      <a:pt x="721" y="91"/>
                      <a:pt x="719" y="88"/>
                    </a:cubicBezTo>
                    <a:cubicBezTo>
                      <a:pt x="719" y="73"/>
                      <a:pt x="719" y="60"/>
                      <a:pt x="719" y="60"/>
                    </a:cubicBezTo>
                    <a:cubicBezTo>
                      <a:pt x="719" y="72"/>
                      <a:pt x="716" y="90"/>
                      <a:pt x="716" y="90"/>
                    </a:cubicBezTo>
                    <a:cubicBezTo>
                      <a:pt x="714" y="84"/>
                      <a:pt x="714" y="64"/>
                      <a:pt x="714" y="64"/>
                    </a:cubicBezTo>
                    <a:cubicBezTo>
                      <a:pt x="714" y="68"/>
                      <a:pt x="712" y="83"/>
                      <a:pt x="710" y="98"/>
                    </a:cubicBezTo>
                    <a:cubicBezTo>
                      <a:pt x="710" y="96"/>
                      <a:pt x="710" y="95"/>
                      <a:pt x="709" y="93"/>
                    </a:cubicBezTo>
                    <a:cubicBezTo>
                      <a:pt x="708" y="88"/>
                      <a:pt x="706" y="82"/>
                      <a:pt x="705" y="76"/>
                    </a:cubicBezTo>
                    <a:cubicBezTo>
                      <a:pt x="705" y="57"/>
                      <a:pt x="704" y="42"/>
                      <a:pt x="704" y="42"/>
                    </a:cubicBezTo>
                    <a:cubicBezTo>
                      <a:pt x="705" y="49"/>
                      <a:pt x="704" y="59"/>
                      <a:pt x="703" y="70"/>
                    </a:cubicBezTo>
                    <a:cubicBezTo>
                      <a:pt x="701" y="64"/>
                      <a:pt x="698" y="57"/>
                      <a:pt x="695" y="51"/>
                    </a:cubicBezTo>
                    <a:cubicBezTo>
                      <a:pt x="695" y="52"/>
                      <a:pt x="694" y="54"/>
                      <a:pt x="694" y="55"/>
                    </a:cubicBezTo>
                    <a:cubicBezTo>
                      <a:pt x="698" y="65"/>
                      <a:pt x="700" y="74"/>
                      <a:pt x="702" y="82"/>
                    </a:cubicBezTo>
                    <a:cubicBezTo>
                      <a:pt x="701" y="88"/>
                      <a:pt x="700" y="94"/>
                      <a:pt x="699" y="100"/>
                    </a:cubicBezTo>
                    <a:cubicBezTo>
                      <a:pt x="698" y="96"/>
                      <a:pt x="697" y="92"/>
                      <a:pt x="696" y="88"/>
                    </a:cubicBezTo>
                    <a:cubicBezTo>
                      <a:pt x="697" y="78"/>
                      <a:pt x="698" y="70"/>
                      <a:pt x="698" y="70"/>
                    </a:cubicBezTo>
                    <a:cubicBezTo>
                      <a:pt x="697" y="72"/>
                      <a:pt x="696" y="78"/>
                      <a:pt x="695" y="85"/>
                    </a:cubicBezTo>
                    <a:cubicBezTo>
                      <a:pt x="693" y="82"/>
                      <a:pt x="691" y="79"/>
                      <a:pt x="689" y="76"/>
                    </a:cubicBezTo>
                    <a:cubicBezTo>
                      <a:pt x="688" y="71"/>
                      <a:pt x="688" y="66"/>
                      <a:pt x="688" y="61"/>
                    </a:cubicBezTo>
                    <a:cubicBezTo>
                      <a:pt x="688" y="73"/>
                      <a:pt x="685" y="88"/>
                      <a:pt x="683" y="101"/>
                    </a:cubicBezTo>
                    <a:cubicBezTo>
                      <a:pt x="681" y="95"/>
                      <a:pt x="679" y="90"/>
                      <a:pt x="677" y="86"/>
                    </a:cubicBezTo>
                    <a:cubicBezTo>
                      <a:pt x="678" y="73"/>
                      <a:pt x="678" y="64"/>
                      <a:pt x="678" y="64"/>
                    </a:cubicBezTo>
                    <a:cubicBezTo>
                      <a:pt x="678" y="71"/>
                      <a:pt x="676" y="82"/>
                      <a:pt x="674" y="95"/>
                    </a:cubicBezTo>
                    <a:cubicBezTo>
                      <a:pt x="672" y="87"/>
                      <a:pt x="670" y="79"/>
                      <a:pt x="666" y="71"/>
                    </a:cubicBezTo>
                    <a:cubicBezTo>
                      <a:pt x="668" y="49"/>
                      <a:pt x="669" y="30"/>
                      <a:pt x="669" y="30"/>
                    </a:cubicBezTo>
                    <a:cubicBezTo>
                      <a:pt x="667" y="35"/>
                      <a:pt x="665" y="49"/>
                      <a:pt x="663" y="65"/>
                    </a:cubicBezTo>
                    <a:cubicBezTo>
                      <a:pt x="662" y="62"/>
                      <a:pt x="660" y="59"/>
                      <a:pt x="658" y="56"/>
                    </a:cubicBezTo>
                    <a:cubicBezTo>
                      <a:pt x="658" y="63"/>
                      <a:pt x="660" y="70"/>
                      <a:pt x="662" y="78"/>
                    </a:cubicBezTo>
                    <a:cubicBezTo>
                      <a:pt x="661" y="87"/>
                      <a:pt x="660" y="97"/>
                      <a:pt x="659" y="106"/>
                    </a:cubicBezTo>
                    <a:cubicBezTo>
                      <a:pt x="659" y="105"/>
                      <a:pt x="659" y="104"/>
                      <a:pt x="658" y="103"/>
                    </a:cubicBezTo>
                    <a:cubicBezTo>
                      <a:pt x="659" y="104"/>
                      <a:pt x="659" y="106"/>
                      <a:pt x="659" y="109"/>
                    </a:cubicBezTo>
                    <a:cubicBezTo>
                      <a:pt x="658" y="120"/>
                      <a:pt x="657" y="131"/>
                      <a:pt x="657" y="138"/>
                    </a:cubicBezTo>
                    <a:cubicBezTo>
                      <a:pt x="657" y="137"/>
                      <a:pt x="656" y="135"/>
                      <a:pt x="656" y="134"/>
                    </a:cubicBezTo>
                    <a:cubicBezTo>
                      <a:pt x="655" y="99"/>
                      <a:pt x="650" y="41"/>
                      <a:pt x="650" y="41"/>
                    </a:cubicBezTo>
                    <a:cubicBezTo>
                      <a:pt x="652" y="58"/>
                      <a:pt x="650" y="86"/>
                      <a:pt x="648" y="108"/>
                    </a:cubicBezTo>
                    <a:cubicBezTo>
                      <a:pt x="647" y="105"/>
                      <a:pt x="645" y="102"/>
                      <a:pt x="644" y="99"/>
                    </a:cubicBezTo>
                    <a:cubicBezTo>
                      <a:pt x="644" y="86"/>
                      <a:pt x="644" y="73"/>
                      <a:pt x="644" y="67"/>
                    </a:cubicBezTo>
                    <a:cubicBezTo>
                      <a:pt x="643" y="75"/>
                      <a:pt x="642" y="85"/>
                      <a:pt x="641" y="94"/>
                    </a:cubicBezTo>
                    <a:cubicBezTo>
                      <a:pt x="640" y="92"/>
                      <a:pt x="639" y="91"/>
                      <a:pt x="638" y="89"/>
                    </a:cubicBezTo>
                    <a:cubicBezTo>
                      <a:pt x="639" y="91"/>
                      <a:pt x="640" y="94"/>
                      <a:pt x="640" y="97"/>
                    </a:cubicBezTo>
                    <a:cubicBezTo>
                      <a:pt x="639" y="104"/>
                      <a:pt x="638" y="110"/>
                      <a:pt x="636" y="116"/>
                    </a:cubicBezTo>
                    <a:cubicBezTo>
                      <a:pt x="635" y="110"/>
                      <a:pt x="634" y="105"/>
                      <a:pt x="632" y="101"/>
                    </a:cubicBezTo>
                    <a:cubicBezTo>
                      <a:pt x="633" y="91"/>
                      <a:pt x="634" y="83"/>
                      <a:pt x="634" y="83"/>
                    </a:cubicBezTo>
                    <a:cubicBezTo>
                      <a:pt x="634" y="86"/>
                      <a:pt x="633" y="92"/>
                      <a:pt x="631" y="98"/>
                    </a:cubicBezTo>
                    <a:cubicBezTo>
                      <a:pt x="630" y="94"/>
                      <a:pt x="629" y="91"/>
                      <a:pt x="628" y="89"/>
                    </a:cubicBezTo>
                    <a:cubicBezTo>
                      <a:pt x="629" y="74"/>
                      <a:pt x="631" y="62"/>
                      <a:pt x="631" y="62"/>
                    </a:cubicBezTo>
                    <a:cubicBezTo>
                      <a:pt x="629" y="65"/>
                      <a:pt x="628" y="75"/>
                      <a:pt x="626" y="87"/>
                    </a:cubicBezTo>
                    <a:cubicBezTo>
                      <a:pt x="624" y="83"/>
                      <a:pt x="622" y="81"/>
                      <a:pt x="619" y="78"/>
                    </a:cubicBezTo>
                    <a:cubicBezTo>
                      <a:pt x="622" y="81"/>
                      <a:pt x="624" y="84"/>
                      <a:pt x="626" y="89"/>
                    </a:cubicBezTo>
                    <a:cubicBezTo>
                      <a:pt x="625" y="96"/>
                      <a:pt x="624" y="105"/>
                      <a:pt x="623" y="113"/>
                    </a:cubicBezTo>
                    <a:cubicBezTo>
                      <a:pt x="622" y="108"/>
                      <a:pt x="621" y="104"/>
                      <a:pt x="619" y="100"/>
                    </a:cubicBezTo>
                    <a:cubicBezTo>
                      <a:pt x="618" y="86"/>
                      <a:pt x="616" y="73"/>
                      <a:pt x="615" y="68"/>
                    </a:cubicBezTo>
                    <a:cubicBezTo>
                      <a:pt x="615" y="71"/>
                      <a:pt x="616" y="76"/>
                      <a:pt x="615" y="86"/>
                    </a:cubicBezTo>
                    <a:cubicBezTo>
                      <a:pt x="615" y="87"/>
                      <a:pt x="615" y="88"/>
                      <a:pt x="615" y="90"/>
                    </a:cubicBezTo>
                    <a:cubicBezTo>
                      <a:pt x="614" y="87"/>
                      <a:pt x="612" y="84"/>
                      <a:pt x="610" y="81"/>
                    </a:cubicBezTo>
                    <a:cubicBezTo>
                      <a:pt x="613" y="85"/>
                      <a:pt x="614" y="91"/>
                      <a:pt x="614" y="96"/>
                    </a:cubicBezTo>
                    <a:cubicBezTo>
                      <a:pt x="613" y="105"/>
                      <a:pt x="611" y="115"/>
                      <a:pt x="609" y="124"/>
                    </a:cubicBezTo>
                    <a:cubicBezTo>
                      <a:pt x="609" y="113"/>
                      <a:pt x="608" y="102"/>
                      <a:pt x="606" y="91"/>
                    </a:cubicBezTo>
                    <a:cubicBezTo>
                      <a:pt x="606" y="77"/>
                      <a:pt x="606" y="77"/>
                      <a:pt x="606" y="77"/>
                    </a:cubicBezTo>
                    <a:cubicBezTo>
                      <a:pt x="609" y="35"/>
                      <a:pt x="602" y="19"/>
                      <a:pt x="602" y="19"/>
                    </a:cubicBezTo>
                    <a:cubicBezTo>
                      <a:pt x="602" y="19"/>
                      <a:pt x="605" y="31"/>
                      <a:pt x="604" y="54"/>
                    </a:cubicBezTo>
                    <a:cubicBezTo>
                      <a:pt x="604" y="59"/>
                      <a:pt x="603" y="68"/>
                      <a:pt x="602" y="78"/>
                    </a:cubicBezTo>
                    <a:cubicBezTo>
                      <a:pt x="599" y="72"/>
                      <a:pt x="596" y="66"/>
                      <a:pt x="592" y="60"/>
                    </a:cubicBezTo>
                    <a:cubicBezTo>
                      <a:pt x="592" y="61"/>
                      <a:pt x="592" y="61"/>
                      <a:pt x="592" y="61"/>
                    </a:cubicBezTo>
                    <a:cubicBezTo>
                      <a:pt x="592" y="62"/>
                      <a:pt x="592" y="63"/>
                      <a:pt x="592" y="64"/>
                    </a:cubicBezTo>
                    <a:cubicBezTo>
                      <a:pt x="591" y="44"/>
                      <a:pt x="583" y="40"/>
                      <a:pt x="583" y="40"/>
                    </a:cubicBezTo>
                    <a:cubicBezTo>
                      <a:pt x="583" y="40"/>
                      <a:pt x="589" y="44"/>
                      <a:pt x="589" y="70"/>
                    </a:cubicBezTo>
                    <a:cubicBezTo>
                      <a:pt x="589" y="76"/>
                      <a:pt x="588" y="85"/>
                      <a:pt x="586" y="94"/>
                    </a:cubicBezTo>
                    <a:cubicBezTo>
                      <a:pt x="584" y="90"/>
                      <a:pt x="581" y="86"/>
                      <a:pt x="578" y="83"/>
                    </a:cubicBezTo>
                    <a:cubicBezTo>
                      <a:pt x="581" y="87"/>
                      <a:pt x="584" y="92"/>
                      <a:pt x="586" y="97"/>
                    </a:cubicBezTo>
                    <a:cubicBezTo>
                      <a:pt x="585" y="100"/>
                      <a:pt x="585" y="103"/>
                      <a:pt x="584" y="106"/>
                    </a:cubicBezTo>
                    <a:cubicBezTo>
                      <a:pt x="584" y="104"/>
                      <a:pt x="583" y="102"/>
                      <a:pt x="583" y="100"/>
                    </a:cubicBezTo>
                    <a:cubicBezTo>
                      <a:pt x="583" y="102"/>
                      <a:pt x="583" y="105"/>
                      <a:pt x="584" y="108"/>
                    </a:cubicBezTo>
                    <a:cubicBezTo>
                      <a:pt x="583" y="111"/>
                      <a:pt x="582" y="114"/>
                      <a:pt x="581" y="117"/>
                    </a:cubicBezTo>
                    <a:cubicBezTo>
                      <a:pt x="580" y="113"/>
                      <a:pt x="579" y="108"/>
                      <a:pt x="577" y="104"/>
                    </a:cubicBezTo>
                    <a:cubicBezTo>
                      <a:pt x="577" y="87"/>
                      <a:pt x="578" y="71"/>
                      <a:pt x="578" y="71"/>
                    </a:cubicBezTo>
                    <a:cubicBezTo>
                      <a:pt x="578" y="73"/>
                      <a:pt x="576" y="84"/>
                      <a:pt x="573" y="97"/>
                    </a:cubicBezTo>
                    <a:cubicBezTo>
                      <a:pt x="572" y="95"/>
                      <a:pt x="571" y="93"/>
                      <a:pt x="570" y="92"/>
                    </a:cubicBezTo>
                    <a:cubicBezTo>
                      <a:pt x="571" y="81"/>
                      <a:pt x="572" y="72"/>
                      <a:pt x="573" y="66"/>
                    </a:cubicBezTo>
                    <a:cubicBezTo>
                      <a:pt x="572" y="73"/>
                      <a:pt x="571" y="81"/>
                      <a:pt x="569" y="90"/>
                    </a:cubicBezTo>
                    <a:cubicBezTo>
                      <a:pt x="568" y="88"/>
                      <a:pt x="566" y="86"/>
                      <a:pt x="565" y="83"/>
                    </a:cubicBezTo>
                    <a:cubicBezTo>
                      <a:pt x="568" y="26"/>
                      <a:pt x="566" y="12"/>
                      <a:pt x="566" y="12"/>
                    </a:cubicBezTo>
                    <a:cubicBezTo>
                      <a:pt x="566" y="12"/>
                      <a:pt x="566" y="18"/>
                      <a:pt x="563" y="56"/>
                    </a:cubicBezTo>
                    <a:cubicBezTo>
                      <a:pt x="562" y="64"/>
                      <a:pt x="561" y="71"/>
                      <a:pt x="560" y="78"/>
                    </a:cubicBezTo>
                    <a:cubicBezTo>
                      <a:pt x="558" y="76"/>
                      <a:pt x="556" y="73"/>
                      <a:pt x="553" y="71"/>
                    </a:cubicBezTo>
                    <a:cubicBezTo>
                      <a:pt x="554" y="48"/>
                      <a:pt x="555" y="31"/>
                      <a:pt x="555" y="31"/>
                    </a:cubicBezTo>
                    <a:cubicBezTo>
                      <a:pt x="553" y="37"/>
                      <a:pt x="551" y="52"/>
                      <a:pt x="550" y="68"/>
                    </a:cubicBezTo>
                    <a:cubicBezTo>
                      <a:pt x="548" y="66"/>
                      <a:pt x="546" y="65"/>
                      <a:pt x="544" y="63"/>
                    </a:cubicBezTo>
                    <a:cubicBezTo>
                      <a:pt x="547" y="65"/>
                      <a:pt x="548" y="67"/>
                      <a:pt x="550" y="69"/>
                    </a:cubicBezTo>
                    <a:cubicBezTo>
                      <a:pt x="549" y="82"/>
                      <a:pt x="549" y="96"/>
                      <a:pt x="548" y="109"/>
                    </a:cubicBezTo>
                    <a:cubicBezTo>
                      <a:pt x="547" y="104"/>
                      <a:pt x="545" y="99"/>
                      <a:pt x="544" y="96"/>
                    </a:cubicBezTo>
                    <a:cubicBezTo>
                      <a:pt x="545" y="104"/>
                      <a:pt x="546" y="112"/>
                      <a:pt x="548" y="120"/>
                    </a:cubicBezTo>
                    <a:cubicBezTo>
                      <a:pt x="548" y="123"/>
                      <a:pt x="548" y="126"/>
                      <a:pt x="548" y="128"/>
                    </a:cubicBezTo>
                    <a:cubicBezTo>
                      <a:pt x="547" y="125"/>
                      <a:pt x="545" y="122"/>
                      <a:pt x="544" y="118"/>
                    </a:cubicBezTo>
                    <a:cubicBezTo>
                      <a:pt x="539" y="80"/>
                      <a:pt x="532" y="28"/>
                      <a:pt x="532" y="28"/>
                    </a:cubicBezTo>
                    <a:cubicBezTo>
                      <a:pt x="532" y="39"/>
                      <a:pt x="530" y="72"/>
                      <a:pt x="528" y="100"/>
                    </a:cubicBezTo>
                    <a:cubicBezTo>
                      <a:pt x="528" y="98"/>
                      <a:pt x="527" y="97"/>
                      <a:pt x="526" y="96"/>
                    </a:cubicBezTo>
                    <a:cubicBezTo>
                      <a:pt x="527" y="97"/>
                      <a:pt x="528" y="99"/>
                      <a:pt x="528" y="100"/>
                    </a:cubicBezTo>
                    <a:cubicBezTo>
                      <a:pt x="528" y="110"/>
                      <a:pt x="527" y="120"/>
                      <a:pt x="526" y="128"/>
                    </a:cubicBezTo>
                    <a:cubicBezTo>
                      <a:pt x="526" y="128"/>
                      <a:pt x="526" y="127"/>
                      <a:pt x="526" y="127"/>
                    </a:cubicBezTo>
                    <a:cubicBezTo>
                      <a:pt x="526" y="109"/>
                      <a:pt x="524" y="87"/>
                      <a:pt x="523" y="71"/>
                    </a:cubicBezTo>
                    <a:cubicBezTo>
                      <a:pt x="524" y="68"/>
                      <a:pt x="525" y="66"/>
                      <a:pt x="526" y="64"/>
                    </a:cubicBezTo>
                    <a:cubicBezTo>
                      <a:pt x="525" y="65"/>
                      <a:pt x="524" y="67"/>
                      <a:pt x="523" y="69"/>
                    </a:cubicBezTo>
                    <a:cubicBezTo>
                      <a:pt x="522" y="61"/>
                      <a:pt x="521" y="55"/>
                      <a:pt x="521" y="53"/>
                    </a:cubicBezTo>
                    <a:cubicBezTo>
                      <a:pt x="521" y="52"/>
                      <a:pt x="522" y="52"/>
                      <a:pt x="522" y="51"/>
                    </a:cubicBezTo>
                    <a:cubicBezTo>
                      <a:pt x="522" y="51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19" y="54"/>
                      <a:pt x="517" y="56"/>
                      <a:pt x="516" y="57"/>
                    </a:cubicBezTo>
                    <a:cubicBezTo>
                      <a:pt x="516" y="54"/>
                      <a:pt x="516" y="52"/>
                      <a:pt x="517" y="50"/>
                    </a:cubicBezTo>
                    <a:cubicBezTo>
                      <a:pt x="520" y="46"/>
                      <a:pt x="523" y="42"/>
                      <a:pt x="527" y="38"/>
                    </a:cubicBezTo>
                    <a:cubicBezTo>
                      <a:pt x="523" y="41"/>
                      <a:pt x="520" y="44"/>
                      <a:pt x="517" y="47"/>
                    </a:cubicBezTo>
                    <a:cubicBezTo>
                      <a:pt x="517" y="43"/>
                      <a:pt x="518" y="40"/>
                      <a:pt x="518" y="40"/>
                    </a:cubicBezTo>
                    <a:cubicBezTo>
                      <a:pt x="517" y="43"/>
                      <a:pt x="516" y="46"/>
                      <a:pt x="515" y="50"/>
                    </a:cubicBezTo>
                    <a:cubicBezTo>
                      <a:pt x="507" y="58"/>
                      <a:pt x="502" y="66"/>
                      <a:pt x="498" y="75"/>
                    </a:cubicBezTo>
                    <a:cubicBezTo>
                      <a:pt x="498" y="70"/>
                      <a:pt x="497" y="66"/>
                      <a:pt x="497" y="63"/>
                    </a:cubicBezTo>
                    <a:cubicBezTo>
                      <a:pt x="500" y="57"/>
                      <a:pt x="503" y="50"/>
                      <a:pt x="507" y="42"/>
                    </a:cubicBezTo>
                    <a:cubicBezTo>
                      <a:pt x="498" y="52"/>
                      <a:pt x="492" y="61"/>
                      <a:pt x="488" y="71"/>
                    </a:cubicBezTo>
                    <a:cubicBezTo>
                      <a:pt x="487" y="70"/>
                      <a:pt x="487" y="70"/>
                      <a:pt x="486" y="69"/>
                    </a:cubicBezTo>
                    <a:cubicBezTo>
                      <a:pt x="486" y="68"/>
                      <a:pt x="486" y="67"/>
                      <a:pt x="486" y="65"/>
                    </a:cubicBezTo>
                    <a:cubicBezTo>
                      <a:pt x="492" y="53"/>
                      <a:pt x="500" y="41"/>
                      <a:pt x="511" y="25"/>
                    </a:cubicBezTo>
                    <a:cubicBezTo>
                      <a:pt x="500" y="40"/>
                      <a:pt x="492" y="51"/>
                      <a:pt x="485" y="63"/>
                    </a:cubicBezTo>
                    <a:cubicBezTo>
                      <a:pt x="483" y="45"/>
                      <a:pt x="482" y="30"/>
                      <a:pt x="482" y="30"/>
                    </a:cubicBezTo>
                    <a:cubicBezTo>
                      <a:pt x="482" y="35"/>
                      <a:pt x="482" y="49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7"/>
                      <a:pt x="482" y="69"/>
                      <a:pt x="482" y="71"/>
                    </a:cubicBezTo>
                    <a:cubicBezTo>
                      <a:pt x="480" y="74"/>
                      <a:pt x="479" y="78"/>
                      <a:pt x="478" y="81"/>
                    </a:cubicBezTo>
                    <a:cubicBezTo>
                      <a:pt x="479" y="78"/>
                      <a:pt x="480" y="76"/>
                      <a:pt x="482" y="73"/>
                    </a:cubicBezTo>
                    <a:cubicBezTo>
                      <a:pt x="481" y="79"/>
                      <a:pt x="481" y="85"/>
                      <a:pt x="481" y="91"/>
                    </a:cubicBezTo>
                    <a:cubicBezTo>
                      <a:pt x="481" y="93"/>
                      <a:pt x="480" y="95"/>
                      <a:pt x="480" y="97"/>
                    </a:cubicBezTo>
                    <a:cubicBezTo>
                      <a:pt x="479" y="96"/>
                      <a:pt x="478" y="95"/>
                      <a:pt x="478" y="94"/>
                    </a:cubicBezTo>
                    <a:cubicBezTo>
                      <a:pt x="478" y="91"/>
                      <a:pt x="477" y="88"/>
                      <a:pt x="477" y="85"/>
                    </a:cubicBezTo>
                    <a:cubicBezTo>
                      <a:pt x="477" y="83"/>
                      <a:pt x="478" y="82"/>
                      <a:pt x="478" y="81"/>
                    </a:cubicBezTo>
                    <a:cubicBezTo>
                      <a:pt x="478" y="82"/>
                      <a:pt x="477" y="83"/>
                      <a:pt x="477" y="84"/>
                    </a:cubicBezTo>
                    <a:cubicBezTo>
                      <a:pt x="476" y="72"/>
                      <a:pt x="476" y="62"/>
                      <a:pt x="475" y="55"/>
                    </a:cubicBezTo>
                    <a:cubicBezTo>
                      <a:pt x="476" y="54"/>
                      <a:pt x="477" y="53"/>
                      <a:pt x="479" y="52"/>
                    </a:cubicBezTo>
                    <a:cubicBezTo>
                      <a:pt x="477" y="53"/>
                      <a:pt x="476" y="54"/>
                      <a:pt x="475" y="54"/>
                    </a:cubicBezTo>
                    <a:cubicBezTo>
                      <a:pt x="475" y="49"/>
                      <a:pt x="475" y="46"/>
                      <a:pt x="475" y="46"/>
                    </a:cubicBezTo>
                    <a:cubicBezTo>
                      <a:pt x="475" y="48"/>
                      <a:pt x="474" y="51"/>
                      <a:pt x="474" y="55"/>
                    </a:cubicBezTo>
                    <a:cubicBezTo>
                      <a:pt x="471" y="57"/>
                      <a:pt x="468" y="59"/>
                      <a:pt x="465" y="62"/>
                    </a:cubicBezTo>
                    <a:cubicBezTo>
                      <a:pt x="465" y="58"/>
                      <a:pt x="465" y="54"/>
                      <a:pt x="466" y="50"/>
                    </a:cubicBezTo>
                    <a:cubicBezTo>
                      <a:pt x="469" y="45"/>
                      <a:pt x="474" y="40"/>
                      <a:pt x="479" y="34"/>
                    </a:cubicBezTo>
                    <a:cubicBezTo>
                      <a:pt x="474" y="39"/>
                      <a:pt x="470" y="44"/>
                      <a:pt x="466" y="48"/>
                    </a:cubicBezTo>
                    <a:cubicBezTo>
                      <a:pt x="467" y="21"/>
                      <a:pt x="468" y="0"/>
                      <a:pt x="468" y="0"/>
                    </a:cubicBezTo>
                    <a:cubicBezTo>
                      <a:pt x="464" y="10"/>
                      <a:pt x="462" y="35"/>
                      <a:pt x="461" y="53"/>
                    </a:cubicBezTo>
                    <a:cubicBezTo>
                      <a:pt x="460" y="54"/>
                      <a:pt x="459" y="55"/>
                      <a:pt x="459" y="56"/>
                    </a:cubicBezTo>
                    <a:cubicBezTo>
                      <a:pt x="457" y="44"/>
                      <a:pt x="454" y="33"/>
                      <a:pt x="454" y="33"/>
                    </a:cubicBezTo>
                    <a:cubicBezTo>
                      <a:pt x="456" y="39"/>
                      <a:pt x="455" y="49"/>
                      <a:pt x="454" y="62"/>
                    </a:cubicBezTo>
                    <a:cubicBezTo>
                      <a:pt x="452" y="63"/>
                      <a:pt x="451" y="65"/>
                      <a:pt x="450" y="67"/>
                    </a:cubicBezTo>
                    <a:cubicBezTo>
                      <a:pt x="449" y="65"/>
                      <a:pt x="448" y="63"/>
                      <a:pt x="447" y="62"/>
                    </a:cubicBezTo>
                    <a:cubicBezTo>
                      <a:pt x="447" y="63"/>
                      <a:pt x="448" y="65"/>
                      <a:pt x="449" y="68"/>
                    </a:cubicBezTo>
                    <a:cubicBezTo>
                      <a:pt x="447" y="72"/>
                      <a:pt x="445" y="75"/>
                      <a:pt x="443" y="78"/>
                    </a:cubicBezTo>
                    <a:cubicBezTo>
                      <a:pt x="442" y="61"/>
                      <a:pt x="442" y="48"/>
                      <a:pt x="442" y="48"/>
                    </a:cubicBezTo>
                    <a:cubicBezTo>
                      <a:pt x="442" y="52"/>
                      <a:pt x="440" y="65"/>
                      <a:pt x="438" y="80"/>
                    </a:cubicBezTo>
                    <a:cubicBezTo>
                      <a:pt x="438" y="82"/>
                      <a:pt x="437" y="85"/>
                      <a:pt x="436" y="87"/>
                    </a:cubicBezTo>
                    <a:cubicBezTo>
                      <a:pt x="435" y="86"/>
                      <a:pt x="435" y="86"/>
                      <a:pt x="434" y="85"/>
                    </a:cubicBezTo>
                    <a:cubicBezTo>
                      <a:pt x="437" y="48"/>
                      <a:pt x="440" y="9"/>
                      <a:pt x="440" y="9"/>
                    </a:cubicBezTo>
                    <a:cubicBezTo>
                      <a:pt x="436" y="20"/>
                      <a:pt x="432" y="57"/>
                      <a:pt x="428" y="89"/>
                    </a:cubicBezTo>
                    <a:cubicBezTo>
                      <a:pt x="427" y="91"/>
                      <a:pt x="427" y="92"/>
                      <a:pt x="426" y="93"/>
                    </a:cubicBezTo>
                    <a:cubicBezTo>
                      <a:pt x="425" y="92"/>
                      <a:pt x="424" y="90"/>
                      <a:pt x="423" y="89"/>
                    </a:cubicBezTo>
                    <a:cubicBezTo>
                      <a:pt x="426" y="72"/>
                      <a:pt x="429" y="55"/>
                      <a:pt x="429" y="37"/>
                    </a:cubicBezTo>
                    <a:cubicBezTo>
                      <a:pt x="429" y="34"/>
                      <a:pt x="429" y="30"/>
                      <a:pt x="429" y="26"/>
                    </a:cubicBezTo>
                    <a:cubicBezTo>
                      <a:pt x="422" y="45"/>
                      <a:pt x="421" y="66"/>
                      <a:pt x="417" y="86"/>
                    </a:cubicBezTo>
                    <a:cubicBezTo>
                      <a:pt x="417" y="85"/>
                      <a:pt x="416" y="84"/>
                      <a:pt x="416" y="84"/>
                    </a:cubicBezTo>
                    <a:cubicBezTo>
                      <a:pt x="416" y="84"/>
                      <a:pt x="417" y="85"/>
                      <a:pt x="417" y="86"/>
                    </a:cubicBezTo>
                    <a:cubicBezTo>
                      <a:pt x="417" y="88"/>
                      <a:pt x="416" y="90"/>
                      <a:pt x="416" y="92"/>
                    </a:cubicBezTo>
                    <a:cubicBezTo>
                      <a:pt x="415" y="94"/>
                      <a:pt x="415" y="96"/>
                      <a:pt x="414" y="98"/>
                    </a:cubicBezTo>
                    <a:cubicBezTo>
                      <a:pt x="414" y="97"/>
                      <a:pt x="413" y="96"/>
                      <a:pt x="412" y="95"/>
                    </a:cubicBezTo>
                    <a:cubicBezTo>
                      <a:pt x="412" y="86"/>
                      <a:pt x="411" y="78"/>
                      <a:pt x="410" y="72"/>
                    </a:cubicBezTo>
                    <a:cubicBezTo>
                      <a:pt x="413" y="67"/>
                      <a:pt x="417" y="63"/>
                      <a:pt x="421" y="59"/>
                    </a:cubicBezTo>
                    <a:cubicBezTo>
                      <a:pt x="417" y="62"/>
                      <a:pt x="413" y="66"/>
                      <a:pt x="410" y="70"/>
                    </a:cubicBezTo>
                    <a:cubicBezTo>
                      <a:pt x="409" y="64"/>
                      <a:pt x="409" y="60"/>
                      <a:pt x="408" y="57"/>
                    </a:cubicBezTo>
                    <a:cubicBezTo>
                      <a:pt x="410" y="54"/>
                      <a:pt x="411" y="52"/>
                      <a:pt x="412" y="50"/>
                    </a:cubicBezTo>
                    <a:cubicBezTo>
                      <a:pt x="411" y="51"/>
                      <a:pt x="409" y="53"/>
                      <a:pt x="408" y="54"/>
                    </a:cubicBezTo>
                    <a:cubicBezTo>
                      <a:pt x="408" y="53"/>
                      <a:pt x="408" y="52"/>
                      <a:pt x="408" y="52"/>
                    </a:cubicBezTo>
                    <a:cubicBezTo>
                      <a:pt x="408" y="53"/>
                      <a:pt x="408" y="54"/>
                      <a:pt x="408" y="54"/>
                    </a:cubicBezTo>
                    <a:cubicBezTo>
                      <a:pt x="406" y="56"/>
                      <a:pt x="404" y="58"/>
                      <a:pt x="402" y="60"/>
                    </a:cubicBezTo>
                    <a:cubicBezTo>
                      <a:pt x="401" y="54"/>
                      <a:pt x="400" y="48"/>
                      <a:pt x="399" y="44"/>
                    </a:cubicBezTo>
                    <a:cubicBezTo>
                      <a:pt x="400" y="49"/>
                      <a:pt x="399" y="56"/>
                      <a:pt x="398" y="64"/>
                    </a:cubicBezTo>
                    <a:cubicBezTo>
                      <a:pt x="397" y="66"/>
                      <a:pt x="396" y="68"/>
                      <a:pt x="395" y="69"/>
                    </a:cubicBezTo>
                    <a:cubicBezTo>
                      <a:pt x="393" y="67"/>
                      <a:pt x="392" y="66"/>
                      <a:pt x="390" y="64"/>
                    </a:cubicBezTo>
                    <a:cubicBezTo>
                      <a:pt x="392" y="66"/>
                      <a:pt x="393" y="67"/>
                      <a:pt x="395" y="69"/>
                    </a:cubicBezTo>
                    <a:cubicBezTo>
                      <a:pt x="393" y="71"/>
                      <a:pt x="392" y="73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0" y="76"/>
                      <a:pt x="389" y="77"/>
                      <a:pt x="388" y="79"/>
                    </a:cubicBezTo>
                    <a:cubicBezTo>
                      <a:pt x="388" y="79"/>
                      <a:pt x="388" y="79"/>
                      <a:pt x="388" y="79"/>
                    </a:cubicBezTo>
                    <a:cubicBezTo>
                      <a:pt x="389" y="60"/>
                      <a:pt x="389" y="45"/>
                      <a:pt x="389" y="45"/>
                    </a:cubicBezTo>
                    <a:cubicBezTo>
                      <a:pt x="389" y="50"/>
                      <a:pt x="387" y="61"/>
                      <a:pt x="384" y="73"/>
                    </a:cubicBezTo>
                    <a:cubicBezTo>
                      <a:pt x="383" y="73"/>
                      <a:pt x="383" y="73"/>
                      <a:pt x="383" y="72"/>
                    </a:cubicBezTo>
                    <a:cubicBezTo>
                      <a:pt x="383" y="70"/>
                      <a:pt x="383" y="68"/>
                      <a:pt x="383" y="66"/>
                    </a:cubicBezTo>
                    <a:cubicBezTo>
                      <a:pt x="383" y="65"/>
                      <a:pt x="383" y="65"/>
                      <a:pt x="384" y="65"/>
                    </a:cubicBezTo>
                    <a:cubicBezTo>
                      <a:pt x="383" y="65"/>
                      <a:pt x="383" y="65"/>
                      <a:pt x="383" y="66"/>
                    </a:cubicBezTo>
                    <a:cubicBezTo>
                      <a:pt x="383" y="64"/>
                      <a:pt x="383" y="63"/>
                      <a:pt x="383" y="61"/>
                    </a:cubicBezTo>
                    <a:cubicBezTo>
                      <a:pt x="383" y="55"/>
                      <a:pt x="383" y="49"/>
                      <a:pt x="382" y="42"/>
                    </a:cubicBezTo>
                    <a:cubicBezTo>
                      <a:pt x="385" y="27"/>
                      <a:pt x="387" y="17"/>
                      <a:pt x="387" y="17"/>
                    </a:cubicBezTo>
                    <a:cubicBezTo>
                      <a:pt x="384" y="22"/>
                      <a:pt x="377" y="49"/>
                      <a:pt x="371" y="78"/>
                    </a:cubicBezTo>
                    <a:cubicBezTo>
                      <a:pt x="371" y="78"/>
                      <a:pt x="371" y="79"/>
                      <a:pt x="371" y="79"/>
                    </a:cubicBezTo>
                    <a:cubicBezTo>
                      <a:pt x="369" y="76"/>
                      <a:pt x="367" y="72"/>
                      <a:pt x="364" y="69"/>
                    </a:cubicBezTo>
                    <a:cubicBezTo>
                      <a:pt x="366" y="67"/>
                      <a:pt x="367" y="66"/>
                      <a:pt x="369" y="64"/>
                    </a:cubicBezTo>
                    <a:cubicBezTo>
                      <a:pt x="367" y="66"/>
                      <a:pt x="365" y="67"/>
                      <a:pt x="364" y="69"/>
                    </a:cubicBezTo>
                    <a:cubicBezTo>
                      <a:pt x="363" y="68"/>
                      <a:pt x="362" y="67"/>
                      <a:pt x="361" y="66"/>
                    </a:cubicBezTo>
                    <a:cubicBezTo>
                      <a:pt x="361" y="60"/>
                      <a:pt x="361" y="55"/>
                      <a:pt x="360" y="52"/>
                    </a:cubicBezTo>
                    <a:cubicBezTo>
                      <a:pt x="361" y="56"/>
                      <a:pt x="361" y="60"/>
                      <a:pt x="360" y="64"/>
                    </a:cubicBezTo>
                    <a:cubicBezTo>
                      <a:pt x="357" y="60"/>
                      <a:pt x="352" y="55"/>
                      <a:pt x="347" y="50"/>
                    </a:cubicBezTo>
                    <a:cubicBezTo>
                      <a:pt x="350" y="55"/>
                      <a:pt x="353" y="60"/>
                      <a:pt x="356" y="65"/>
                    </a:cubicBezTo>
                    <a:cubicBezTo>
                      <a:pt x="355" y="68"/>
                      <a:pt x="355" y="71"/>
                      <a:pt x="354" y="76"/>
                    </a:cubicBezTo>
                    <a:cubicBezTo>
                      <a:pt x="352" y="74"/>
                      <a:pt x="350" y="71"/>
                      <a:pt x="348" y="68"/>
                    </a:cubicBezTo>
                    <a:cubicBezTo>
                      <a:pt x="347" y="54"/>
                      <a:pt x="346" y="41"/>
                      <a:pt x="345" y="33"/>
                    </a:cubicBezTo>
                    <a:cubicBezTo>
                      <a:pt x="346" y="42"/>
                      <a:pt x="345" y="53"/>
                      <a:pt x="344" y="65"/>
                    </a:cubicBezTo>
                    <a:cubicBezTo>
                      <a:pt x="342" y="63"/>
                      <a:pt x="340" y="61"/>
                      <a:pt x="338" y="59"/>
                    </a:cubicBezTo>
                    <a:cubicBezTo>
                      <a:pt x="340" y="61"/>
                      <a:pt x="342" y="63"/>
                      <a:pt x="344" y="65"/>
                    </a:cubicBezTo>
                    <a:cubicBezTo>
                      <a:pt x="343" y="72"/>
                      <a:pt x="342" y="80"/>
                      <a:pt x="341" y="87"/>
                    </a:cubicBezTo>
                    <a:cubicBezTo>
                      <a:pt x="341" y="87"/>
                      <a:pt x="341" y="87"/>
                      <a:pt x="341" y="87"/>
                    </a:cubicBezTo>
                    <a:cubicBezTo>
                      <a:pt x="341" y="85"/>
                      <a:pt x="340" y="84"/>
                      <a:pt x="340" y="83"/>
                    </a:cubicBezTo>
                    <a:cubicBezTo>
                      <a:pt x="340" y="82"/>
                      <a:pt x="340" y="82"/>
                      <a:pt x="340" y="81"/>
                    </a:cubicBezTo>
                    <a:cubicBezTo>
                      <a:pt x="340" y="82"/>
                      <a:pt x="340" y="82"/>
                      <a:pt x="340" y="83"/>
                    </a:cubicBezTo>
                    <a:cubicBezTo>
                      <a:pt x="339" y="81"/>
                      <a:pt x="338" y="79"/>
                      <a:pt x="337" y="77"/>
                    </a:cubicBezTo>
                    <a:cubicBezTo>
                      <a:pt x="338" y="79"/>
                      <a:pt x="339" y="81"/>
                      <a:pt x="339" y="83"/>
                    </a:cubicBezTo>
                    <a:cubicBezTo>
                      <a:pt x="338" y="85"/>
                      <a:pt x="337" y="86"/>
                      <a:pt x="336" y="88"/>
                    </a:cubicBezTo>
                    <a:cubicBezTo>
                      <a:pt x="337" y="86"/>
                      <a:pt x="338" y="85"/>
                      <a:pt x="339" y="83"/>
                    </a:cubicBezTo>
                    <a:cubicBezTo>
                      <a:pt x="340" y="85"/>
                      <a:pt x="340" y="86"/>
                      <a:pt x="340" y="88"/>
                    </a:cubicBezTo>
                    <a:cubicBezTo>
                      <a:pt x="338" y="91"/>
                      <a:pt x="337" y="95"/>
                      <a:pt x="335" y="98"/>
                    </a:cubicBezTo>
                    <a:cubicBezTo>
                      <a:pt x="335" y="97"/>
                      <a:pt x="335" y="97"/>
                      <a:pt x="334" y="97"/>
                    </a:cubicBezTo>
                    <a:cubicBezTo>
                      <a:pt x="334" y="95"/>
                      <a:pt x="334" y="94"/>
                      <a:pt x="334" y="93"/>
                    </a:cubicBezTo>
                    <a:cubicBezTo>
                      <a:pt x="334" y="91"/>
                      <a:pt x="335" y="89"/>
                      <a:pt x="336" y="88"/>
                    </a:cubicBezTo>
                    <a:cubicBezTo>
                      <a:pt x="335" y="89"/>
                      <a:pt x="334" y="91"/>
                      <a:pt x="334" y="92"/>
                    </a:cubicBezTo>
                    <a:cubicBezTo>
                      <a:pt x="333" y="92"/>
                      <a:pt x="333" y="91"/>
                      <a:pt x="333" y="91"/>
                    </a:cubicBezTo>
                    <a:cubicBezTo>
                      <a:pt x="333" y="74"/>
                      <a:pt x="332" y="60"/>
                      <a:pt x="332" y="60"/>
                    </a:cubicBezTo>
                    <a:cubicBezTo>
                      <a:pt x="332" y="65"/>
                      <a:pt x="332" y="73"/>
                      <a:pt x="331" y="81"/>
                    </a:cubicBezTo>
                    <a:cubicBezTo>
                      <a:pt x="330" y="79"/>
                      <a:pt x="330" y="76"/>
                      <a:pt x="329" y="74"/>
                    </a:cubicBezTo>
                    <a:cubicBezTo>
                      <a:pt x="330" y="79"/>
                      <a:pt x="330" y="83"/>
                      <a:pt x="330" y="88"/>
                    </a:cubicBezTo>
                    <a:cubicBezTo>
                      <a:pt x="329" y="86"/>
                      <a:pt x="328" y="84"/>
                      <a:pt x="327" y="83"/>
                    </a:cubicBezTo>
                    <a:cubicBezTo>
                      <a:pt x="328" y="85"/>
                      <a:pt x="329" y="87"/>
                      <a:pt x="330" y="89"/>
                    </a:cubicBezTo>
                    <a:cubicBezTo>
                      <a:pt x="330" y="89"/>
                      <a:pt x="330" y="89"/>
                      <a:pt x="330" y="89"/>
                    </a:cubicBezTo>
                    <a:cubicBezTo>
                      <a:pt x="330" y="93"/>
                      <a:pt x="329" y="97"/>
                      <a:pt x="329" y="101"/>
                    </a:cubicBezTo>
                    <a:cubicBezTo>
                      <a:pt x="328" y="103"/>
                      <a:pt x="327" y="104"/>
                      <a:pt x="327" y="106"/>
                    </a:cubicBezTo>
                    <a:cubicBezTo>
                      <a:pt x="325" y="100"/>
                      <a:pt x="324" y="95"/>
                      <a:pt x="322" y="90"/>
                    </a:cubicBezTo>
                    <a:cubicBezTo>
                      <a:pt x="323" y="88"/>
                      <a:pt x="325" y="85"/>
                      <a:pt x="327" y="83"/>
                    </a:cubicBezTo>
                    <a:cubicBezTo>
                      <a:pt x="325" y="85"/>
                      <a:pt x="323" y="87"/>
                      <a:pt x="321" y="89"/>
                    </a:cubicBezTo>
                    <a:cubicBezTo>
                      <a:pt x="321" y="88"/>
                      <a:pt x="321" y="87"/>
                      <a:pt x="320" y="87"/>
                    </a:cubicBezTo>
                    <a:cubicBezTo>
                      <a:pt x="320" y="76"/>
                      <a:pt x="321" y="68"/>
                      <a:pt x="321" y="68"/>
                    </a:cubicBezTo>
                    <a:cubicBezTo>
                      <a:pt x="320" y="72"/>
                      <a:pt x="319" y="77"/>
                      <a:pt x="318" y="82"/>
                    </a:cubicBezTo>
                    <a:cubicBezTo>
                      <a:pt x="318" y="81"/>
                      <a:pt x="318" y="80"/>
                      <a:pt x="318" y="80"/>
                    </a:cubicBezTo>
                    <a:cubicBezTo>
                      <a:pt x="318" y="80"/>
                      <a:pt x="318" y="81"/>
                      <a:pt x="318" y="82"/>
                    </a:cubicBezTo>
                    <a:cubicBezTo>
                      <a:pt x="317" y="80"/>
                      <a:pt x="316" y="78"/>
                      <a:pt x="314" y="75"/>
                    </a:cubicBezTo>
                    <a:cubicBezTo>
                      <a:pt x="315" y="65"/>
                      <a:pt x="316" y="56"/>
                      <a:pt x="317" y="48"/>
                    </a:cubicBezTo>
                    <a:cubicBezTo>
                      <a:pt x="316" y="55"/>
                      <a:pt x="315" y="64"/>
                      <a:pt x="313" y="73"/>
                    </a:cubicBezTo>
                    <a:cubicBezTo>
                      <a:pt x="311" y="70"/>
                      <a:pt x="309" y="67"/>
                      <a:pt x="307" y="64"/>
                    </a:cubicBezTo>
                    <a:cubicBezTo>
                      <a:pt x="307" y="62"/>
                      <a:pt x="307" y="59"/>
                      <a:pt x="307" y="57"/>
                    </a:cubicBezTo>
                    <a:cubicBezTo>
                      <a:pt x="306" y="58"/>
                      <a:pt x="306" y="60"/>
                      <a:pt x="305" y="62"/>
                    </a:cubicBezTo>
                    <a:cubicBezTo>
                      <a:pt x="303" y="59"/>
                      <a:pt x="300" y="55"/>
                      <a:pt x="297" y="52"/>
                    </a:cubicBezTo>
                    <a:cubicBezTo>
                      <a:pt x="297" y="48"/>
                      <a:pt x="298" y="46"/>
                      <a:pt x="298" y="46"/>
                    </a:cubicBezTo>
                    <a:cubicBezTo>
                      <a:pt x="297" y="48"/>
                      <a:pt x="297" y="49"/>
                      <a:pt x="296" y="51"/>
                    </a:cubicBezTo>
                    <a:cubicBezTo>
                      <a:pt x="293" y="47"/>
                      <a:pt x="289" y="43"/>
                      <a:pt x="285" y="39"/>
                    </a:cubicBezTo>
                    <a:cubicBezTo>
                      <a:pt x="285" y="37"/>
                      <a:pt x="285" y="35"/>
                      <a:pt x="285" y="34"/>
                    </a:cubicBezTo>
                    <a:cubicBezTo>
                      <a:pt x="285" y="34"/>
                      <a:pt x="285" y="36"/>
                      <a:pt x="285" y="39"/>
                    </a:cubicBezTo>
                    <a:cubicBezTo>
                      <a:pt x="283" y="37"/>
                      <a:pt x="282" y="36"/>
                      <a:pt x="280" y="34"/>
                    </a:cubicBezTo>
                    <a:cubicBezTo>
                      <a:pt x="282" y="36"/>
                      <a:pt x="283" y="38"/>
                      <a:pt x="285" y="40"/>
                    </a:cubicBezTo>
                    <a:cubicBezTo>
                      <a:pt x="285" y="40"/>
                      <a:pt x="285" y="40"/>
                      <a:pt x="285" y="41"/>
                    </a:cubicBezTo>
                    <a:cubicBezTo>
                      <a:pt x="285" y="40"/>
                      <a:pt x="285" y="40"/>
                      <a:pt x="285" y="40"/>
                    </a:cubicBezTo>
                    <a:cubicBezTo>
                      <a:pt x="289" y="45"/>
                      <a:pt x="293" y="49"/>
                      <a:pt x="296" y="53"/>
                    </a:cubicBezTo>
                    <a:cubicBezTo>
                      <a:pt x="295" y="55"/>
                      <a:pt x="295" y="59"/>
                      <a:pt x="294" y="62"/>
                    </a:cubicBezTo>
                    <a:cubicBezTo>
                      <a:pt x="292" y="60"/>
                      <a:pt x="289" y="58"/>
                      <a:pt x="286" y="56"/>
                    </a:cubicBezTo>
                    <a:cubicBezTo>
                      <a:pt x="285" y="50"/>
                      <a:pt x="285" y="44"/>
                      <a:pt x="285" y="41"/>
                    </a:cubicBezTo>
                    <a:cubicBezTo>
                      <a:pt x="285" y="45"/>
                      <a:pt x="285" y="50"/>
                      <a:pt x="284" y="55"/>
                    </a:cubicBezTo>
                    <a:cubicBezTo>
                      <a:pt x="283" y="54"/>
                      <a:pt x="282" y="53"/>
                      <a:pt x="280" y="52"/>
                    </a:cubicBezTo>
                    <a:cubicBezTo>
                      <a:pt x="282" y="53"/>
                      <a:pt x="283" y="54"/>
                      <a:pt x="284" y="55"/>
                    </a:cubicBezTo>
                    <a:cubicBezTo>
                      <a:pt x="284" y="64"/>
                      <a:pt x="283" y="73"/>
                      <a:pt x="281" y="83"/>
                    </a:cubicBezTo>
                    <a:cubicBezTo>
                      <a:pt x="281" y="82"/>
                      <a:pt x="281" y="81"/>
                      <a:pt x="281" y="81"/>
                    </a:cubicBezTo>
                    <a:cubicBezTo>
                      <a:pt x="281" y="82"/>
                      <a:pt x="281" y="82"/>
                      <a:pt x="281" y="83"/>
                    </a:cubicBezTo>
                    <a:cubicBezTo>
                      <a:pt x="281" y="88"/>
                      <a:pt x="280" y="92"/>
                      <a:pt x="279" y="97"/>
                    </a:cubicBezTo>
                    <a:cubicBezTo>
                      <a:pt x="278" y="89"/>
                      <a:pt x="275" y="81"/>
                      <a:pt x="272" y="73"/>
                    </a:cubicBezTo>
                    <a:cubicBezTo>
                      <a:pt x="272" y="72"/>
                      <a:pt x="272" y="71"/>
                      <a:pt x="272" y="71"/>
                    </a:cubicBezTo>
                    <a:cubicBezTo>
                      <a:pt x="273" y="70"/>
                      <a:pt x="274" y="69"/>
                      <a:pt x="275" y="68"/>
                    </a:cubicBezTo>
                    <a:cubicBezTo>
                      <a:pt x="277" y="72"/>
                      <a:pt x="279" y="76"/>
                      <a:pt x="281" y="81"/>
                    </a:cubicBezTo>
                    <a:cubicBezTo>
                      <a:pt x="279" y="76"/>
                      <a:pt x="278" y="72"/>
                      <a:pt x="275" y="67"/>
                    </a:cubicBezTo>
                    <a:cubicBezTo>
                      <a:pt x="276" y="67"/>
                      <a:pt x="277" y="66"/>
                      <a:pt x="277" y="65"/>
                    </a:cubicBezTo>
                    <a:cubicBezTo>
                      <a:pt x="277" y="66"/>
                      <a:pt x="276" y="66"/>
                      <a:pt x="275" y="67"/>
                    </a:cubicBezTo>
                    <a:cubicBezTo>
                      <a:pt x="269" y="54"/>
                      <a:pt x="259" y="41"/>
                      <a:pt x="247" y="25"/>
                    </a:cubicBezTo>
                    <a:cubicBezTo>
                      <a:pt x="259" y="42"/>
                      <a:pt x="268" y="55"/>
                      <a:pt x="275" y="68"/>
                    </a:cubicBezTo>
                    <a:cubicBezTo>
                      <a:pt x="274" y="68"/>
                      <a:pt x="273" y="69"/>
                      <a:pt x="272" y="70"/>
                    </a:cubicBezTo>
                    <a:cubicBezTo>
                      <a:pt x="272" y="68"/>
                      <a:pt x="272" y="66"/>
                      <a:pt x="272" y="66"/>
                    </a:cubicBezTo>
                    <a:cubicBezTo>
                      <a:pt x="272" y="68"/>
                      <a:pt x="272" y="69"/>
                      <a:pt x="271" y="71"/>
                    </a:cubicBezTo>
                    <a:cubicBezTo>
                      <a:pt x="271" y="71"/>
                      <a:pt x="271" y="71"/>
                      <a:pt x="271" y="71"/>
                    </a:cubicBezTo>
                    <a:cubicBezTo>
                      <a:pt x="267" y="61"/>
                      <a:pt x="260" y="52"/>
                      <a:pt x="251" y="42"/>
                    </a:cubicBezTo>
                    <a:cubicBezTo>
                      <a:pt x="258" y="55"/>
                      <a:pt x="263" y="65"/>
                      <a:pt x="267" y="75"/>
                    </a:cubicBezTo>
                    <a:cubicBezTo>
                      <a:pt x="266" y="76"/>
                      <a:pt x="265" y="77"/>
                      <a:pt x="264" y="77"/>
                    </a:cubicBezTo>
                    <a:cubicBezTo>
                      <a:pt x="262" y="73"/>
                      <a:pt x="260" y="70"/>
                      <a:pt x="258" y="68"/>
                    </a:cubicBezTo>
                    <a:cubicBezTo>
                      <a:pt x="258" y="63"/>
                      <a:pt x="257" y="60"/>
                      <a:pt x="257" y="60"/>
                    </a:cubicBezTo>
                    <a:cubicBezTo>
                      <a:pt x="257" y="62"/>
                      <a:pt x="257" y="64"/>
                      <a:pt x="257" y="67"/>
                    </a:cubicBezTo>
                    <a:cubicBezTo>
                      <a:pt x="251" y="57"/>
                      <a:pt x="243" y="47"/>
                      <a:pt x="232" y="38"/>
                    </a:cubicBezTo>
                    <a:cubicBezTo>
                      <a:pt x="243" y="49"/>
                      <a:pt x="251" y="60"/>
                      <a:pt x="257" y="71"/>
                    </a:cubicBezTo>
                    <a:cubicBezTo>
                      <a:pt x="256" y="75"/>
                      <a:pt x="256" y="80"/>
                      <a:pt x="256" y="85"/>
                    </a:cubicBezTo>
                    <a:cubicBezTo>
                      <a:pt x="255" y="84"/>
                      <a:pt x="255" y="84"/>
                      <a:pt x="254" y="83"/>
                    </a:cubicBezTo>
                    <a:cubicBezTo>
                      <a:pt x="255" y="84"/>
                      <a:pt x="255" y="85"/>
                      <a:pt x="256" y="86"/>
                    </a:cubicBezTo>
                    <a:cubicBezTo>
                      <a:pt x="255" y="87"/>
                      <a:pt x="255" y="88"/>
                      <a:pt x="255" y="89"/>
                    </a:cubicBezTo>
                    <a:cubicBezTo>
                      <a:pt x="253" y="92"/>
                      <a:pt x="252" y="94"/>
                      <a:pt x="250" y="97"/>
                    </a:cubicBezTo>
                    <a:cubicBezTo>
                      <a:pt x="250" y="93"/>
                      <a:pt x="250" y="90"/>
                      <a:pt x="250" y="87"/>
                    </a:cubicBezTo>
                    <a:cubicBezTo>
                      <a:pt x="251" y="84"/>
                      <a:pt x="252" y="82"/>
                      <a:pt x="253" y="80"/>
                    </a:cubicBezTo>
                    <a:cubicBezTo>
                      <a:pt x="253" y="81"/>
                      <a:pt x="254" y="82"/>
                      <a:pt x="254" y="83"/>
                    </a:cubicBezTo>
                    <a:cubicBezTo>
                      <a:pt x="254" y="81"/>
                      <a:pt x="253" y="80"/>
                      <a:pt x="253" y="79"/>
                    </a:cubicBezTo>
                    <a:cubicBezTo>
                      <a:pt x="253" y="79"/>
                      <a:pt x="253" y="78"/>
                      <a:pt x="254" y="77"/>
                    </a:cubicBezTo>
                    <a:cubicBezTo>
                      <a:pt x="253" y="77"/>
                      <a:pt x="253" y="78"/>
                      <a:pt x="252" y="79"/>
                    </a:cubicBezTo>
                    <a:cubicBezTo>
                      <a:pt x="251" y="77"/>
                      <a:pt x="251" y="76"/>
                      <a:pt x="250" y="75"/>
                    </a:cubicBezTo>
                    <a:cubicBezTo>
                      <a:pt x="251" y="77"/>
                      <a:pt x="251" y="78"/>
                      <a:pt x="252" y="79"/>
                    </a:cubicBezTo>
                    <a:cubicBezTo>
                      <a:pt x="251" y="80"/>
                      <a:pt x="251" y="81"/>
                      <a:pt x="250" y="82"/>
                    </a:cubicBezTo>
                    <a:cubicBezTo>
                      <a:pt x="250" y="73"/>
                      <a:pt x="250" y="68"/>
                      <a:pt x="250" y="68"/>
                    </a:cubicBezTo>
                    <a:cubicBezTo>
                      <a:pt x="250" y="72"/>
                      <a:pt x="249" y="78"/>
                      <a:pt x="248" y="85"/>
                    </a:cubicBezTo>
                    <a:cubicBezTo>
                      <a:pt x="246" y="90"/>
                      <a:pt x="244" y="94"/>
                      <a:pt x="242" y="99"/>
                    </a:cubicBezTo>
                    <a:cubicBezTo>
                      <a:pt x="242" y="98"/>
                      <a:pt x="241" y="97"/>
                      <a:pt x="241" y="96"/>
                    </a:cubicBezTo>
                    <a:cubicBezTo>
                      <a:pt x="242" y="92"/>
                      <a:pt x="242" y="89"/>
                      <a:pt x="242" y="89"/>
                    </a:cubicBezTo>
                    <a:cubicBezTo>
                      <a:pt x="242" y="91"/>
                      <a:pt x="241" y="92"/>
                      <a:pt x="241" y="94"/>
                    </a:cubicBezTo>
                    <a:cubicBezTo>
                      <a:pt x="240" y="91"/>
                      <a:pt x="239" y="88"/>
                      <a:pt x="239" y="85"/>
                    </a:cubicBezTo>
                    <a:cubicBezTo>
                      <a:pt x="238" y="88"/>
                      <a:pt x="238" y="91"/>
                      <a:pt x="238" y="94"/>
                    </a:cubicBezTo>
                    <a:cubicBezTo>
                      <a:pt x="238" y="97"/>
                      <a:pt x="238" y="100"/>
                      <a:pt x="238" y="103"/>
                    </a:cubicBezTo>
                    <a:cubicBezTo>
                      <a:pt x="237" y="107"/>
                      <a:pt x="236" y="112"/>
                      <a:pt x="234" y="116"/>
                    </a:cubicBezTo>
                    <a:cubicBezTo>
                      <a:pt x="233" y="112"/>
                      <a:pt x="231" y="108"/>
                      <a:pt x="230" y="104"/>
                    </a:cubicBezTo>
                    <a:cubicBezTo>
                      <a:pt x="231" y="109"/>
                      <a:pt x="232" y="115"/>
                      <a:pt x="233" y="120"/>
                    </a:cubicBezTo>
                    <a:cubicBezTo>
                      <a:pt x="231" y="124"/>
                      <a:pt x="230" y="127"/>
                      <a:pt x="228" y="130"/>
                    </a:cubicBezTo>
                    <a:cubicBezTo>
                      <a:pt x="227" y="128"/>
                      <a:pt x="227" y="126"/>
                      <a:pt x="226" y="123"/>
                    </a:cubicBezTo>
                    <a:cubicBezTo>
                      <a:pt x="227" y="115"/>
                      <a:pt x="229" y="106"/>
                      <a:pt x="231" y="99"/>
                    </a:cubicBezTo>
                    <a:cubicBezTo>
                      <a:pt x="232" y="98"/>
                      <a:pt x="232" y="97"/>
                      <a:pt x="232" y="96"/>
                    </a:cubicBezTo>
                    <a:cubicBezTo>
                      <a:pt x="232" y="96"/>
                      <a:pt x="232" y="97"/>
                      <a:pt x="232" y="97"/>
                    </a:cubicBezTo>
                    <a:cubicBezTo>
                      <a:pt x="234" y="86"/>
                      <a:pt x="237" y="76"/>
                      <a:pt x="237" y="76"/>
                    </a:cubicBezTo>
                    <a:cubicBezTo>
                      <a:pt x="232" y="83"/>
                      <a:pt x="227" y="96"/>
                      <a:pt x="222" y="109"/>
                    </a:cubicBezTo>
                    <a:cubicBezTo>
                      <a:pt x="222" y="107"/>
                      <a:pt x="222" y="106"/>
                      <a:pt x="221" y="104"/>
                    </a:cubicBezTo>
                    <a:cubicBezTo>
                      <a:pt x="223" y="97"/>
                      <a:pt x="226" y="90"/>
                      <a:pt x="229" y="84"/>
                    </a:cubicBezTo>
                    <a:cubicBezTo>
                      <a:pt x="226" y="90"/>
                      <a:pt x="223" y="96"/>
                      <a:pt x="221" y="102"/>
                    </a:cubicBezTo>
                    <a:cubicBezTo>
                      <a:pt x="221" y="102"/>
                      <a:pt x="220" y="101"/>
                      <a:pt x="220" y="101"/>
                    </a:cubicBezTo>
                    <a:cubicBezTo>
                      <a:pt x="222" y="77"/>
                      <a:pt x="218" y="62"/>
                      <a:pt x="218" y="62"/>
                    </a:cubicBezTo>
                    <a:cubicBezTo>
                      <a:pt x="219" y="69"/>
                      <a:pt x="219" y="80"/>
                      <a:pt x="218" y="91"/>
                    </a:cubicBezTo>
                    <a:cubicBezTo>
                      <a:pt x="217" y="89"/>
                      <a:pt x="217" y="88"/>
                      <a:pt x="216" y="87"/>
                    </a:cubicBezTo>
                    <a:cubicBezTo>
                      <a:pt x="216" y="88"/>
                      <a:pt x="216" y="88"/>
                      <a:pt x="216" y="88"/>
                    </a:cubicBezTo>
                    <a:cubicBezTo>
                      <a:pt x="216" y="90"/>
                      <a:pt x="217" y="93"/>
                      <a:pt x="217" y="96"/>
                    </a:cubicBezTo>
                    <a:cubicBezTo>
                      <a:pt x="216" y="101"/>
                      <a:pt x="216" y="105"/>
                      <a:pt x="215" y="110"/>
                    </a:cubicBezTo>
                    <a:cubicBezTo>
                      <a:pt x="214" y="109"/>
                      <a:pt x="214" y="107"/>
                      <a:pt x="213" y="106"/>
                    </a:cubicBezTo>
                    <a:cubicBezTo>
                      <a:pt x="214" y="103"/>
                      <a:pt x="214" y="99"/>
                      <a:pt x="215" y="96"/>
                    </a:cubicBezTo>
                    <a:cubicBezTo>
                      <a:pt x="214" y="98"/>
                      <a:pt x="213" y="100"/>
                      <a:pt x="212" y="103"/>
                    </a:cubicBezTo>
                    <a:cubicBezTo>
                      <a:pt x="211" y="101"/>
                      <a:pt x="210" y="99"/>
                      <a:pt x="210" y="98"/>
                    </a:cubicBezTo>
                    <a:cubicBezTo>
                      <a:pt x="210" y="89"/>
                      <a:pt x="211" y="82"/>
                      <a:pt x="211" y="82"/>
                    </a:cubicBezTo>
                    <a:cubicBezTo>
                      <a:pt x="209" y="97"/>
                      <a:pt x="209" y="97"/>
                      <a:pt x="209" y="97"/>
                    </a:cubicBezTo>
                    <a:cubicBezTo>
                      <a:pt x="208" y="94"/>
                      <a:pt x="207" y="92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89"/>
                      <a:pt x="206" y="89"/>
                      <a:pt x="205" y="88"/>
                    </a:cubicBezTo>
                    <a:cubicBezTo>
                      <a:pt x="205" y="83"/>
                      <a:pt x="205" y="78"/>
                      <a:pt x="205" y="73"/>
                    </a:cubicBezTo>
                    <a:cubicBezTo>
                      <a:pt x="208" y="70"/>
                      <a:pt x="211" y="66"/>
                      <a:pt x="214" y="63"/>
                    </a:cubicBezTo>
                    <a:cubicBezTo>
                      <a:pt x="211" y="66"/>
                      <a:pt x="208" y="69"/>
                      <a:pt x="205" y="71"/>
                    </a:cubicBezTo>
                    <a:cubicBezTo>
                      <a:pt x="205" y="65"/>
                      <a:pt x="205" y="60"/>
                      <a:pt x="205" y="60"/>
                    </a:cubicBezTo>
                    <a:cubicBezTo>
                      <a:pt x="205" y="64"/>
                      <a:pt x="204" y="68"/>
                      <a:pt x="204" y="72"/>
                    </a:cubicBezTo>
                    <a:cubicBezTo>
                      <a:pt x="203" y="74"/>
                      <a:pt x="201" y="75"/>
                      <a:pt x="200" y="77"/>
                    </a:cubicBezTo>
                    <a:cubicBezTo>
                      <a:pt x="200" y="70"/>
                      <a:pt x="200" y="64"/>
                      <a:pt x="200" y="64"/>
                    </a:cubicBezTo>
                    <a:cubicBezTo>
                      <a:pt x="200" y="66"/>
                      <a:pt x="199" y="71"/>
                      <a:pt x="198" y="78"/>
                    </a:cubicBezTo>
                    <a:cubicBezTo>
                      <a:pt x="196" y="81"/>
                      <a:pt x="193" y="85"/>
                      <a:pt x="191" y="88"/>
                    </a:cubicBezTo>
                    <a:cubicBezTo>
                      <a:pt x="191" y="64"/>
                      <a:pt x="191" y="42"/>
                      <a:pt x="191" y="42"/>
                    </a:cubicBezTo>
                    <a:cubicBezTo>
                      <a:pt x="191" y="55"/>
                      <a:pt x="188" y="77"/>
                      <a:pt x="186" y="96"/>
                    </a:cubicBezTo>
                    <a:cubicBezTo>
                      <a:pt x="184" y="100"/>
                      <a:pt x="182" y="104"/>
                      <a:pt x="181" y="107"/>
                    </a:cubicBezTo>
                    <a:cubicBezTo>
                      <a:pt x="181" y="107"/>
                      <a:pt x="180" y="106"/>
                      <a:pt x="180" y="106"/>
                    </a:cubicBezTo>
                    <a:cubicBezTo>
                      <a:pt x="182" y="87"/>
                      <a:pt x="184" y="70"/>
                      <a:pt x="184" y="70"/>
                    </a:cubicBezTo>
                    <a:cubicBezTo>
                      <a:pt x="182" y="74"/>
                      <a:pt x="179" y="98"/>
                      <a:pt x="177" y="118"/>
                    </a:cubicBezTo>
                    <a:cubicBezTo>
                      <a:pt x="177" y="118"/>
                      <a:pt x="177" y="119"/>
                      <a:pt x="177" y="120"/>
                    </a:cubicBezTo>
                    <a:cubicBezTo>
                      <a:pt x="177" y="119"/>
                      <a:pt x="177" y="119"/>
                      <a:pt x="177" y="118"/>
                    </a:cubicBezTo>
                    <a:cubicBezTo>
                      <a:pt x="177" y="119"/>
                      <a:pt x="177" y="119"/>
                      <a:pt x="177" y="120"/>
                    </a:cubicBezTo>
                    <a:cubicBezTo>
                      <a:pt x="177" y="121"/>
                      <a:pt x="176" y="121"/>
                      <a:pt x="176" y="122"/>
                    </a:cubicBezTo>
                    <a:cubicBezTo>
                      <a:pt x="176" y="115"/>
                      <a:pt x="176" y="108"/>
                      <a:pt x="176" y="101"/>
                    </a:cubicBezTo>
                    <a:cubicBezTo>
                      <a:pt x="176" y="101"/>
                      <a:pt x="176" y="100"/>
                      <a:pt x="176" y="100"/>
                    </a:cubicBezTo>
                    <a:cubicBezTo>
                      <a:pt x="176" y="100"/>
                      <a:pt x="176" y="101"/>
                      <a:pt x="176" y="101"/>
                    </a:cubicBezTo>
                    <a:cubicBezTo>
                      <a:pt x="176" y="98"/>
                      <a:pt x="176" y="94"/>
                      <a:pt x="176" y="91"/>
                    </a:cubicBezTo>
                    <a:cubicBezTo>
                      <a:pt x="177" y="88"/>
                      <a:pt x="179" y="85"/>
                      <a:pt x="181" y="83"/>
                    </a:cubicBezTo>
                    <a:cubicBezTo>
                      <a:pt x="179" y="85"/>
                      <a:pt x="177" y="87"/>
                      <a:pt x="176" y="90"/>
                    </a:cubicBezTo>
                    <a:cubicBezTo>
                      <a:pt x="175" y="79"/>
                      <a:pt x="174" y="69"/>
                      <a:pt x="174" y="61"/>
                    </a:cubicBezTo>
                    <a:cubicBezTo>
                      <a:pt x="174" y="73"/>
                      <a:pt x="172" y="87"/>
                      <a:pt x="169" y="100"/>
                    </a:cubicBezTo>
                    <a:cubicBezTo>
                      <a:pt x="165" y="107"/>
                      <a:pt x="162" y="115"/>
                      <a:pt x="160" y="123"/>
                    </a:cubicBezTo>
                    <a:cubicBezTo>
                      <a:pt x="161" y="109"/>
                      <a:pt x="162" y="92"/>
                      <a:pt x="163" y="80"/>
                    </a:cubicBezTo>
                    <a:cubicBezTo>
                      <a:pt x="165" y="73"/>
                      <a:pt x="167" y="67"/>
                      <a:pt x="167" y="61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57" y="75"/>
                      <a:pt x="153" y="88"/>
                      <a:pt x="151" y="102"/>
                    </a:cubicBezTo>
                    <a:cubicBezTo>
                      <a:pt x="151" y="102"/>
                      <a:pt x="151" y="101"/>
                      <a:pt x="151" y="101"/>
                    </a:cubicBezTo>
                    <a:cubicBezTo>
                      <a:pt x="152" y="68"/>
                      <a:pt x="155" y="30"/>
                      <a:pt x="155" y="30"/>
                    </a:cubicBezTo>
                    <a:cubicBezTo>
                      <a:pt x="153" y="38"/>
                      <a:pt x="150" y="60"/>
                      <a:pt x="148" y="83"/>
                    </a:cubicBezTo>
                    <a:cubicBezTo>
                      <a:pt x="145" y="87"/>
                      <a:pt x="143" y="92"/>
                      <a:pt x="140" y="97"/>
                    </a:cubicBezTo>
                    <a:cubicBezTo>
                      <a:pt x="140" y="91"/>
                      <a:pt x="139" y="85"/>
                      <a:pt x="139" y="79"/>
                    </a:cubicBezTo>
                    <a:cubicBezTo>
                      <a:pt x="139" y="78"/>
                      <a:pt x="139" y="78"/>
                      <a:pt x="140" y="78"/>
                    </a:cubicBezTo>
                    <a:cubicBezTo>
                      <a:pt x="139" y="78"/>
                      <a:pt x="139" y="78"/>
                      <a:pt x="139" y="78"/>
                    </a:cubicBezTo>
                    <a:cubicBezTo>
                      <a:pt x="137" y="58"/>
                      <a:pt x="136" y="41"/>
                      <a:pt x="136" y="41"/>
                    </a:cubicBezTo>
                    <a:cubicBezTo>
                      <a:pt x="137" y="52"/>
                      <a:pt x="137" y="67"/>
                      <a:pt x="136" y="82"/>
                    </a:cubicBezTo>
                    <a:cubicBezTo>
                      <a:pt x="134" y="84"/>
                      <a:pt x="132" y="87"/>
                      <a:pt x="130" y="92"/>
                    </a:cubicBezTo>
                    <a:cubicBezTo>
                      <a:pt x="130" y="82"/>
                      <a:pt x="130" y="72"/>
                      <a:pt x="130" y="68"/>
                    </a:cubicBezTo>
                    <a:cubicBezTo>
                      <a:pt x="129" y="77"/>
                      <a:pt x="128" y="88"/>
                      <a:pt x="126" y="99"/>
                    </a:cubicBezTo>
                    <a:cubicBezTo>
                      <a:pt x="125" y="94"/>
                      <a:pt x="123" y="89"/>
                      <a:pt x="121" y="84"/>
                    </a:cubicBezTo>
                    <a:cubicBezTo>
                      <a:pt x="123" y="90"/>
                      <a:pt x="125" y="96"/>
                      <a:pt x="126" y="101"/>
                    </a:cubicBezTo>
                    <a:cubicBezTo>
                      <a:pt x="125" y="105"/>
                      <a:pt x="124" y="109"/>
                      <a:pt x="123" y="113"/>
                    </a:cubicBezTo>
                    <a:cubicBezTo>
                      <a:pt x="123" y="110"/>
                      <a:pt x="123" y="108"/>
                      <a:pt x="123" y="105"/>
                    </a:cubicBezTo>
                    <a:cubicBezTo>
                      <a:pt x="122" y="108"/>
                      <a:pt x="122" y="115"/>
                      <a:pt x="122" y="119"/>
                    </a:cubicBezTo>
                    <a:cubicBezTo>
                      <a:pt x="122" y="120"/>
                      <a:pt x="121" y="122"/>
                      <a:pt x="121" y="124"/>
                    </a:cubicBezTo>
                    <a:cubicBezTo>
                      <a:pt x="120" y="125"/>
                      <a:pt x="120" y="127"/>
                      <a:pt x="120" y="128"/>
                    </a:cubicBezTo>
                    <a:cubicBezTo>
                      <a:pt x="119" y="124"/>
                      <a:pt x="118" y="120"/>
                      <a:pt x="117" y="116"/>
                    </a:cubicBezTo>
                    <a:cubicBezTo>
                      <a:pt x="118" y="108"/>
                      <a:pt x="119" y="100"/>
                      <a:pt x="119" y="94"/>
                    </a:cubicBezTo>
                    <a:cubicBezTo>
                      <a:pt x="120" y="92"/>
                      <a:pt x="120" y="91"/>
                      <a:pt x="121" y="89"/>
                    </a:cubicBezTo>
                    <a:cubicBezTo>
                      <a:pt x="121" y="90"/>
                      <a:pt x="120" y="91"/>
                      <a:pt x="119" y="92"/>
                    </a:cubicBezTo>
                    <a:cubicBezTo>
                      <a:pt x="120" y="87"/>
                      <a:pt x="120" y="83"/>
                      <a:pt x="120" y="83"/>
                    </a:cubicBezTo>
                    <a:cubicBezTo>
                      <a:pt x="120" y="85"/>
                      <a:pt x="119" y="89"/>
                      <a:pt x="118" y="93"/>
                    </a:cubicBezTo>
                    <a:cubicBezTo>
                      <a:pt x="117" y="96"/>
                      <a:pt x="115" y="99"/>
                      <a:pt x="114" y="102"/>
                    </a:cubicBezTo>
                    <a:cubicBezTo>
                      <a:pt x="113" y="101"/>
                      <a:pt x="113" y="100"/>
                      <a:pt x="113" y="99"/>
                    </a:cubicBezTo>
                    <a:cubicBezTo>
                      <a:pt x="115" y="80"/>
                      <a:pt x="117" y="62"/>
                      <a:pt x="117" y="62"/>
                    </a:cubicBezTo>
                    <a:cubicBezTo>
                      <a:pt x="115" y="66"/>
                      <a:pt x="113" y="80"/>
                      <a:pt x="111" y="95"/>
                    </a:cubicBezTo>
                    <a:cubicBezTo>
                      <a:pt x="111" y="94"/>
                      <a:pt x="110" y="92"/>
                      <a:pt x="109" y="90"/>
                    </a:cubicBezTo>
                    <a:cubicBezTo>
                      <a:pt x="110" y="92"/>
                      <a:pt x="111" y="94"/>
                      <a:pt x="111" y="96"/>
                    </a:cubicBezTo>
                    <a:cubicBezTo>
                      <a:pt x="111" y="101"/>
                      <a:pt x="110" y="106"/>
                      <a:pt x="110" y="110"/>
                    </a:cubicBezTo>
                    <a:cubicBezTo>
                      <a:pt x="109" y="113"/>
                      <a:pt x="108" y="116"/>
                      <a:pt x="107" y="118"/>
                    </a:cubicBezTo>
                    <a:cubicBezTo>
                      <a:pt x="106" y="94"/>
                      <a:pt x="101" y="64"/>
                      <a:pt x="101" y="64"/>
                    </a:cubicBezTo>
                    <a:cubicBezTo>
                      <a:pt x="101" y="64"/>
                      <a:pt x="101" y="73"/>
                      <a:pt x="101" y="82"/>
                    </a:cubicBezTo>
                    <a:cubicBezTo>
                      <a:pt x="102" y="88"/>
                      <a:pt x="101" y="98"/>
                      <a:pt x="99" y="108"/>
                    </a:cubicBezTo>
                    <a:cubicBezTo>
                      <a:pt x="98" y="111"/>
                      <a:pt x="97" y="114"/>
                      <a:pt x="96" y="117"/>
                    </a:cubicBezTo>
                    <a:cubicBezTo>
                      <a:pt x="96" y="108"/>
                      <a:pt x="95" y="99"/>
                      <a:pt x="93" y="90"/>
                    </a:cubicBezTo>
                    <a:cubicBezTo>
                      <a:pt x="97" y="78"/>
                      <a:pt x="101" y="66"/>
                      <a:pt x="100" y="56"/>
                    </a:cubicBezTo>
                    <a:cubicBezTo>
                      <a:pt x="97" y="62"/>
                      <a:pt x="95" y="67"/>
                      <a:pt x="92" y="72"/>
                    </a:cubicBezTo>
                    <a:cubicBezTo>
                      <a:pt x="95" y="34"/>
                      <a:pt x="88" y="19"/>
                      <a:pt x="88" y="19"/>
                    </a:cubicBezTo>
                    <a:cubicBezTo>
                      <a:pt x="88" y="19"/>
                      <a:pt x="92" y="31"/>
                      <a:pt x="90" y="54"/>
                    </a:cubicBezTo>
                    <a:cubicBezTo>
                      <a:pt x="89" y="61"/>
                      <a:pt x="88" y="74"/>
                      <a:pt x="87" y="88"/>
                    </a:cubicBezTo>
                    <a:cubicBezTo>
                      <a:pt x="85" y="92"/>
                      <a:pt x="85" y="97"/>
                      <a:pt x="84" y="101"/>
                    </a:cubicBezTo>
                    <a:cubicBezTo>
                      <a:pt x="83" y="98"/>
                      <a:pt x="82" y="95"/>
                      <a:pt x="81" y="91"/>
                    </a:cubicBezTo>
                    <a:cubicBezTo>
                      <a:pt x="81" y="89"/>
                      <a:pt x="81" y="87"/>
                      <a:pt x="82" y="85"/>
                    </a:cubicBezTo>
                    <a:cubicBezTo>
                      <a:pt x="81" y="87"/>
                      <a:pt x="81" y="88"/>
                      <a:pt x="80" y="90"/>
                    </a:cubicBezTo>
                    <a:cubicBezTo>
                      <a:pt x="80" y="89"/>
                      <a:pt x="79" y="88"/>
                      <a:pt x="79" y="87"/>
                    </a:cubicBezTo>
                    <a:cubicBezTo>
                      <a:pt x="79" y="83"/>
                      <a:pt x="79" y="78"/>
                      <a:pt x="79" y="74"/>
                    </a:cubicBezTo>
                    <a:cubicBezTo>
                      <a:pt x="79" y="46"/>
                      <a:pt x="69" y="40"/>
                      <a:pt x="69" y="40"/>
                    </a:cubicBezTo>
                    <a:cubicBezTo>
                      <a:pt x="69" y="40"/>
                      <a:pt x="75" y="44"/>
                      <a:pt x="75" y="70"/>
                    </a:cubicBezTo>
                    <a:cubicBezTo>
                      <a:pt x="75" y="84"/>
                      <a:pt x="70" y="108"/>
                      <a:pt x="65" y="125"/>
                    </a:cubicBezTo>
                    <a:cubicBezTo>
                      <a:pt x="65" y="123"/>
                      <a:pt x="65" y="120"/>
                      <a:pt x="64" y="118"/>
                    </a:cubicBezTo>
                    <a:cubicBezTo>
                      <a:pt x="65" y="111"/>
                      <a:pt x="66" y="105"/>
                      <a:pt x="66" y="98"/>
                    </a:cubicBezTo>
                    <a:cubicBezTo>
                      <a:pt x="65" y="101"/>
                      <a:pt x="64" y="104"/>
                      <a:pt x="64" y="107"/>
                    </a:cubicBezTo>
                    <a:cubicBezTo>
                      <a:pt x="64" y="107"/>
                      <a:pt x="64" y="106"/>
                      <a:pt x="64" y="106"/>
                    </a:cubicBezTo>
                    <a:cubicBezTo>
                      <a:pt x="64" y="97"/>
                      <a:pt x="65" y="83"/>
                      <a:pt x="72" y="75"/>
                    </a:cubicBezTo>
                    <a:cubicBezTo>
                      <a:pt x="68" y="77"/>
                      <a:pt x="65" y="82"/>
                      <a:pt x="63" y="87"/>
                    </a:cubicBezTo>
                    <a:cubicBezTo>
                      <a:pt x="64" y="78"/>
                      <a:pt x="64" y="71"/>
                      <a:pt x="64" y="71"/>
                    </a:cubicBezTo>
                    <a:cubicBezTo>
                      <a:pt x="64" y="75"/>
                      <a:pt x="60" y="97"/>
                      <a:pt x="56" y="116"/>
                    </a:cubicBezTo>
                    <a:cubicBezTo>
                      <a:pt x="56" y="114"/>
                      <a:pt x="56" y="112"/>
                      <a:pt x="55" y="110"/>
                    </a:cubicBezTo>
                    <a:cubicBezTo>
                      <a:pt x="56" y="99"/>
                      <a:pt x="57" y="87"/>
                      <a:pt x="58" y="78"/>
                    </a:cubicBezTo>
                    <a:cubicBezTo>
                      <a:pt x="60" y="71"/>
                      <a:pt x="62" y="63"/>
                      <a:pt x="65" y="55"/>
                    </a:cubicBezTo>
                    <a:cubicBezTo>
                      <a:pt x="65" y="54"/>
                      <a:pt x="64" y="52"/>
                      <a:pt x="64" y="51"/>
                    </a:cubicBezTo>
                    <a:cubicBezTo>
                      <a:pt x="62" y="54"/>
                      <a:pt x="61" y="57"/>
                      <a:pt x="60" y="60"/>
                    </a:cubicBezTo>
                    <a:cubicBezTo>
                      <a:pt x="60" y="60"/>
                      <a:pt x="60" y="59"/>
                      <a:pt x="60" y="59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56" y="70"/>
                      <a:pt x="53" y="80"/>
                      <a:pt x="51" y="89"/>
                    </a:cubicBezTo>
                    <a:cubicBezTo>
                      <a:pt x="56" y="30"/>
                      <a:pt x="53" y="15"/>
                      <a:pt x="52" y="13"/>
                    </a:cubicBezTo>
                    <a:cubicBezTo>
                      <a:pt x="52" y="15"/>
                      <a:pt x="53" y="22"/>
                      <a:pt x="49" y="56"/>
                    </a:cubicBezTo>
                    <a:cubicBezTo>
                      <a:pt x="47" y="68"/>
                      <a:pt x="46" y="80"/>
                      <a:pt x="44" y="91"/>
                    </a:cubicBezTo>
                    <a:cubicBezTo>
                      <a:pt x="43" y="85"/>
                      <a:pt x="41" y="79"/>
                      <a:pt x="39" y="74"/>
                    </a:cubicBezTo>
                    <a:cubicBezTo>
                      <a:pt x="40" y="51"/>
                      <a:pt x="41" y="31"/>
                      <a:pt x="41" y="31"/>
                    </a:cubicBezTo>
                    <a:cubicBezTo>
                      <a:pt x="39" y="38"/>
                      <a:pt x="38" y="53"/>
                      <a:pt x="36" y="69"/>
                    </a:cubicBezTo>
                    <a:cubicBezTo>
                      <a:pt x="35" y="68"/>
                      <a:pt x="34" y="67"/>
                      <a:pt x="33" y="65"/>
                    </a:cubicBezTo>
                    <a:cubicBezTo>
                      <a:pt x="34" y="67"/>
                      <a:pt x="35" y="69"/>
                      <a:pt x="36" y="71"/>
                    </a:cubicBezTo>
                    <a:cubicBezTo>
                      <a:pt x="36" y="71"/>
                      <a:pt x="36" y="72"/>
                      <a:pt x="36" y="73"/>
                    </a:cubicBezTo>
                    <a:cubicBezTo>
                      <a:pt x="33" y="77"/>
                      <a:pt x="31" y="81"/>
                      <a:pt x="28" y="86"/>
                    </a:cubicBezTo>
                    <a:cubicBezTo>
                      <a:pt x="28" y="85"/>
                      <a:pt x="27" y="84"/>
                      <a:pt x="26" y="83"/>
                    </a:cubicBezTo>
                    <a:cubicBezTo>
                      <a:pt x="24" y="61"/>
                      <a:pt x="21" y="38"/>
                      <a:pt x="18" y="28"/>
                    </a:cubicBezTo>
                    <a:cubicBezTo>
                      <a:pt x="18" y="28"/>
                      <a:pt x="22" y="54"/>
                      <a:pt x="26" y="83"/>
                    </a:cubicBezTo>
                    <a:cubicBezTo>
                      <a:pt x="25" y="82"/>
                      <a:pt x="24" y="81"/>
                      <a:pt x="22" y="80"/>
                    </a:cubicBezTo>
                    <a:cubicBezTo>
                      <a:pt x="24" y="81"/>
                      <a:pt x="25" y="82"/>
                      <a:pt x="26" y="84"/>
                    </a:cubicBezTo>
                    <a:cubicBezTo>
                      <a:pt x="26" y="85"/>
                      <a:pt x="26" y="86"/>
                      <a:pt x="26" y="88"/>
                    </a:cubicBezTo>
                    <a:cubicBezTo>
                      <a:pt x="26" y="86"/>
                      <a:pt x="26" y="85"/>
                      <a:pt x="26" y="84"/>
                    </a:cubicBezTo>
                    <a:cubicBezTo>
                      <a:pt x="27" y="85"/>
                      <a:pt x="27" y="86"/>
                      <a:pt x="28" y="87"/>
                    </a:cubicBezTo>
                    <a:cubicBezTo>
                      <a:pt x="27" y="88"/>
                      <a:pt x="27" y="89"/>
                      <a:pt x="26" y="90"/>
                    </a:cubicBezTo>
                    <a:cubicBezTo>
                      <a:pt x="26" y="89"/>
                      <a:pt x="26" y="88"/>
                      <a:pt x="26" y="88"/>
                    </a:cubicBezTo>
                    <a:cubicBezTo>
                      <a:pt x="26" y="88"/>
                      <a:pt x="26" y="89"/>
                      <a:pt x="26" y="90"/>
                    </a:cubicBezTo>
                    <a:cubicBezTo>
                      <a:pt x="24" y="95"/>
                      <a:pt x="23" y="100"/>
                      <a:pt x="21" y="105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4"/>
                      <a:pt x="22" y="104"/>
                      <a:pt x="22" y="103"/>
                    </a:cubicBezTo>
                    <a:cubicBezTo>
                      <a:pt x="22" y="104"/>
                      <a:pt x="21" y="104"/>
                      <a:pt x="21" y="105"/>
                    </a:cubicBezTo>
                    <a:cubicBezTo>
                      <a:pt x="19" y="95"/>
                      <a:pt x="16" y="87"/>
                      <a:pt x="14" y="81"/>
                    </a:cubicBezTo>
                    <a:cubicBezTo>
                      <a:pt x="15" y="85"/>
                      <a:pt x="16" y="90"/>
                      <a:pt x="17" y="95"/>
                    </a:cubicBezTo>
                    <a:cubicBezTo>
                      <a:pt x="17" y="100"/>
                      <a:pt x="16" y="104"/>
                      <a:pt x="15" y="109"/>
                    </a:cubicBezTo>
                    <a:cubicBezTo>
                      <a:pt x="17" y="104"/>
                      <a:pt x="17" y="100"/>
                      <a:pt x="17" y="95"/>
                    </a:cubicBezTo>
                    <a:cubicBezTo>
                      <a:pt x="18" y="100"/>
                      <a:pt x="19" y="105"/>
                      <a:pt x="20" y="110"/>
                    </a:cubicBezTo>
                    <a:cubicBezTo>
                      <a:pt x="20" y="110"/>
                      <a:pt x="20" y="111"/>
                      <a:pt x="20" y="111"/>
                    </a:cubicBezTo>
                    <a:cubicBezTo>
                      <a:pt x="19" y="116"/>
                      <a:pt x="17" y="122"/>
                      <a:pt x="15" y="127"/>
                    </a:cubicBezTo>
                    <a:cubicBezTo>
                      <a:pt x="14" y="125"/>
                      <a:pt x="14" y="123"/>
                      <a:pt x="13" y="120"/>
                    </a:cubicBezTo>
                    <a:cubicBezTo>
                      <a:pt x="14" y="117"/>
                      <a:pt x="15" y="113"/>
                      <a:pt x="15" y="109"/>
                    </a:cubicBezTo>
                    <a:cubicBezTo>
                      <a:pt x="15" y="112"/>
                      <a:pt x="14" y="116"/>
                      <a:pt x="13" y="119"/>
                    </a:cubicBezTo>
                    <a:cubicBezTo>
                      <a:pt x="11" y="111"/>
                      <a:pt x="10" y="103"/>
                      <a:pt x="10" y="95"/>
                    </a:cubicBezTo>
                    <a:cubicBezTo>
                      <a:pt x="9" y="96"/>
                      <a:pt x="9" y="96"/>
                      <a:pt x="9" y="96"/>
                    </a:cubicBezTo>
                    <a:cubicBezTo>
                      <a:pt x="9" y="98"/>
                      <a:pt x="9" y="98"/>
                      <a:pt x="9" y="98"/>
                    </a:cubicBezTo>
                    <a:cubicBezTo>
                      <a:pt x="9" y="97"/>
                      <a:pt x="9" y="96"/>
                      <a:pt x="9" y="95"/>
                    </a:cubicBezTo>
                    <a:cubicBezTo>
                      <a:pt x="9" y="84"/>
                      <a:pt x="7" y="69"/>
                      <a:pt x="1" y="60"/>
                    </a:cubicBezTo>
                    <a:cubicBezTo>
                      <a:pt x="6" y="70"/>
                      <a:pt x="7" y="82"/>
                      <a:pt x="7" y="93"/>
                    </a:cubicBezTo>
                    <a:cubicBezTo>
                      <a:pt x="7" y="101"/>
                      <a:pt x="5" y="109"/>
                      <a:pt x="3" y="116"/>
                    </a:cubicBezTo>
                    <a:cubicBezTo>
                      <a:pt x="1" y="115"/>
                      <a:pt x="1" y="117"/>
                      <a:pt x="2" y="120"/>
                    </a:cubicBezTo>
                    <a:cubicBezTo>
                      <a:pt x="2" y="121"/>
                      <a:pt x="2" y="121"/>
                      <a:pt x="1" y="122"/>
                    </a:cubicBezTo>
                    <a:cubicBezTo>
                      <a:pt x="1" y="121"/>
                      <a:pt x="1" y="120"/>
                      <a:pt x="0" y="119"/>
                    </a:cubicBezTo>
                    <a:cubicBezTo>
                      <a:pt x="0" y="166"/>
                      <a:pt x="0" y="166"/>
                      <a:pt x="0" y="166"/>
                    </a:cubicBezTo>
                    <a:cubicBezTo>
                      <a:pt x="90" y="166"/>
                      <a:pt x="179" y="166"/>
                      <a:pt x="269" y="166"/>
                    </a:cubicBezTo>
                    <a:cubicBezTo>
                      <a:pt x="269" y="166"/>
                      <a:pt x="269" y="166"/>
                      <a:pt x="269" y="166"/>
                    </a:cubicBezTo>
                    <a:cubicBezTo>
                      <a:pt x="306" y="166"/>
                      <a:pt x="342" y="166"/>
                      <a:pt x="379" y="166"/>
                    </a:cubicBezTo>
                    <a:cubicBezTo>
                      <a:pt x="416" y="166"/>
                      <a:pt x="453" y="166"/>
                      <a:pt x="490" y="166"/>
                    </a:cubicBezTo>
                    <a:cubicBezTo>
                      <a:pt x="490" y="166"/>
                      <a:pt x="490" y="166"/>
                      <a:pt x="490" y="166"/>
                    </a:cubicBezTo>
                    <a:cubicBezTo>
                      <a:pt x="746" y="166"/>
                      <a:pt x="1002" y="166"/>
                      <a:pt x="1258" y="166"/>
                    </a:cubicBezTo>
                    <a:cubicBezTo>
                      <a:pt x="1258" y="166"/>
                      <a:pt x="1258" y="166"/>
                      <a:pt x="1258" y="166"/>
                    </a:cubicBezTo>
                    <a:cubicBezTo>
                      <a:pt x="1430" y="166"/>
                      <a:pt x="1602" y="166"/>
                      <a:pt x="1773" y="166"/>
                    </a:cubicBezTo>
                    <a:cubicBezTo>
                      <a:pt x="1871" y="166"/>
                      <a:pt x="1969" y="166"/>
                      <a:pt x="2066" y="166"/>
                    </a:cubicBezTo>
                    <a:cubicBezTo>
                      <a:pt x="2066" y="166"/>
                      <a:pt x="2066" y="166"/>
                      <a:pt x="2066" y="166"/>
                    </a:cubicBezTo>
                    <a:cubicBezTo>
                      <a:pt x="2103" y="166"/>
                      <a:pt x="2140" y="166"/>
                      <a:pt x="2177" y="166"/>
                    </a:cubicBezTo>
                    <a:cubicBezTo>
                      <a:pt x="2214" y="166"/>
                      <a:pt x="2251" y="166"/>
                      <a:pt x="2288" y="166"/>
                    </a:cubicBezTo>
                    <a:cubicBezTo>
                      <a:pt x="2288" y="166"/>
                      <a:pt x="2288" y="166"/>
                      <a:pt x="2288" y="166"/>
                    </a:cubicBezTo>
                    <a:cubicBezTo>
                      <a:pt x="2544" y="166"/>
                      <a:pt x="2800" y="166"/>
                      <a:pt x="3056" y="166"/>
                    </a:cubicBezTo>
                    <a:cubicBezTo>
                      <a:pt x="3056" y="166"/>
                      <a:pt x="3056" y="166"/>
                      <a:pt x="3056" y="166"/>
                    </a:cubicBezTo>
                    <a:cubicBezTo>
                      <a:pt x="3228" y="166"/>
                      <a:pt x="3400" y="166"/>
                      <a:pt x="3571" y="166"/>
                    </a:cubicBezTo>
                    <a:cubicBezTo>
                      <a:pt x="3669" y="166"/>
                      <a:pt x="3767" y="166"/>
                      <a:pt x="3864" y="166"/>
                    </a:cubicBezTo>
                    <a:cubicBezTo>
                      <a:pt x="3864" y="166"/>
                      <a:pt x="3864" y="166"/>
                      <a:pt x="3864" y="166"/>
                    </a:cubicBezTo>
                    <a:cubicBezTo>
                      <a:pt x="3901" y="166"/>
                      <a:pt x="3938" y="166"/>
                      <a:pt x="3975" y="166"/>
                    </a:cubicBezTo>
                    <a:cubicBezTo>
                      <a:pt x="4012" y="166"/>
                      <a:pt x="4049" y="166"/>
                      <a:pt x="4086" y="166"/>
                    </a:cubicBezTo>
                    <a:cubicBezTo>
                      <a:pt x="4086" y="166"/>
                      <a:pt x="4086" y="166"/>
                      <a:pt x="4086" y="166"/>
                    </a:cubicBezTo>
                    <a:cubicBezTo>
                      <a:pt x="4312" y="166"/>
                      <a:pt x="4537" y="166"/>
                      <a:pt x="4763" y="166"/>
                    </a:cubicBezTo>
                    <a:cubicBezTo>
                      <a:pt x="4763" y="137"/>
                      <a:pt x="4763" y="137"/>
                      <a:pt x="4763" y="137"/>
                    </a:cubicBezTo>
                    <a:cubicBezTo>
                      <a:pt x="4760" y="119"/>
                      <a:pt x="4755" y="101"/>
                      <a:pt x="4748" y="85"/>
                    </a:cubicBezTo>
                    <a:close/>
                    <a:moveTo>
                      <a:pt x="1" y="154"/>
                    </a:moveTo>
                    <a:cubicBezTo>
                      <a:pt x="1" y="154"/>
                      <a:pt x="1" y="154"/>
                      <a:pt x="1" y="154"/>
                    </a:cubicBezTo>
                    <a:cubicBezTo>
                      <a:pt x="1" y="152"/>
                      <a:pt x="2" y="151"/>
                      <a:pt x="2" y="150"/>
                    </a:cubicBezTo>
                    <a:cubicBezTo>
                      <a:pt x="2" y="150"/>
                      <a:pt x="2" y="151"/>
                      <a:pt x="2" y="151"/>
                    </a:cubicBezTo>
                    <a:cubicBezTo>
                      <a:pt x="2" y="152"/>
                      <a:pt x="1" y="153"/>
                      <a:pt x="1" y="154"/>
                    </a:cubicBezTo>
                    <a:close/>
                    <a:moveTo>
                      <a:pt x="7" y="119"/>
                    </a:move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19"/>
                    </a:cubicBezTo>
                    <a:close/>
                    <a:moveTo>
                      <a:pt x="6" y="138"/>
                    </a:moveTo>
                    <a:cubicBezTo>
                      <a:pt x="6" y="137"/>
                      <a:pt x="5" y="135"/>
                      <a:pt x="5" y="134"/>
                    </a:cubicBezTo>
                    <a:cubicBezTo>
                      <a:pt x="5" y="134"/>
                      <a:pt x="5" y="134"/>
                      <a:pt x="5" y="133"/>
                    </a:cubicBezTo>
                    <a:cubicBezTo>
                      <a:pt x="5" y="134"/>
                      <a:pt x="6" y="135"/>
                      <a:pt x="6" y="137"/>
                    </a:cubicBezTo>
                    <a:cubicBezTo>
                      <a:pt x="6" y="137"/>
                      <a:pt x="6" y="138"/>
                      <a:pt x="6" y="138"/>
                    </a:cubicBezTo>
                    <a:close/>
                    <a:moveTo>
                      <a:pt x="5" y="133"/>
                    </a:moveTo>
                    <a:cubicBezTo>
                      <a:pt x="5" y="132"/>
                      <a:pt x="5" y="131"/>
                      <a:pt x="6" y="130"/>
                    </a:cubicBezTo>
                    <a:cubicBezTo>
                      <a:pt x="6" y="131"/>
                      <a:pt x="7" y="133"/>
                      <a:pt x="7" y="134"/>
                    </a:cubicBezTo>
                    <a:cubicBezTo>
                      <a:pt x="7" y="135"/>
                      <a:pt x="7" y="135"/>
                      <a:pt x="7" y="136"/>
                    </a:cubicBezTo>
                    <a:cubicBezTo>
                      <a:pt x="6" y="134"/>
                      <a:pt x="5" y="133"/>
                      <a:pt x="5" y="133"/>
                    </a:cubicBezTo>
                    <a:close/>
                    <a:moveTo>
                      <a:pt x="8" y="145"/>
                    </a:moveTo>
                    <a:cubicBezTo>
                      <a:pt x="8" y="144"/>
                      <a:pt x="7" y="143"/>
                      <a:pt x="7" y="143"/>
                    </a:cubicBezTo>
                    <a:cubicBezTo>
                      <a:pt x="8" y="142"/>
                      <a:pt x="8" y="141"/>
                      <a:pt x="8" y="14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8" y="141"/>
                      <a:pt x="8" y="142"/>
                      <a:pt x="8" y="143"/>
                    </a:cubicBezTo>
                    <a:cubicBezTo>
                      <a:pt x="8" y="143"/>
                      <a:pt x="8" y="144"/>
                      <a:pt x="8" y="145"/>
                    </a:cubicBezTo>
                    <a:close/>
                    <a:moveTo>
                      <a:pt x="18" y="134"/>
                    </a:moveTo>
                    <a:cubicBezTo>
                      <a:pt x="18" y="134"/>
                      <a:pt x="18" y="133"/>
                      <a:pt x="18" y="133"/>
                    </a:cubicBezTo>
                    <a:cubicBezTo>
                      <a:pt x="18" y="132"/>
                      <a:pt x="18" y="130"/>
                      <a:pt x="18" y="129"/>
                    </a:cubicBezTo>
                    <a:cubicBezTo>
                      <a:pt x="18" y="130"/>
                      <a:pt x="18" y="132"/>
                      <a:pt x="18" y="134"/>
                    </a:cubicBezTo>
                    <a:close/>
                    <a:moveTo>
                      <a:pt x="28" y="120"/>
                    </a:moveTo>
                    <a:cubicBezTo>
                      <a:pt x="28" y="117"/>
                      <a:pt x="28" y="115"/>
                      <a:pt x="28" y="112"/>
                    </a:cubicBezTo>
                    <a:cubicBezTo>
                      <a:pt x="28" y="111"/>
                      <a:pt x="28" y="111"/>
                      <a:pt x="28" y="110"/>
                    </a:cubicBezTo>
                    <a:cubicBezTo>
                      <a:pt x="28" y="114"/>
                      <a:pt x="29" y="116"/>
                      <a:pt x="29" y="119"/>
                    </a:cubicBezTo>
                    <a:cubicBezTo>
                      <a:pt x="29" y="119"/>
                      <a:pt x="29" y="120"/>
                      <a:pt x="28" y="120"/>
                    </a:cubicBezTo>
                    <a:close/>
                    <a:moveTo>
                      <a:pt x="30" y="115"/>
                    </a:moveTo>
                    <a:cubicBezTo>
                      <a:pt x="29" y="112"/>
                      <a:pt x="29" y="108"/>
                      <a:pt x="28" y="104"/>
                    </a:cubicBezTo>
                    <a:cubicBezTo>
                      <a:pt x="29" y="101"/>
                      <a:pt x="29" y="97"/>
                      <a:pt x="30" y="93"/>
                    </a:cubicBezTo>
                    <a:cubicBezTo>
                      <a:pt x="31" y="98"/>
                      <a:pt x="32" y="102"/>
                      <a:pt x="32" y="104"/>
                    </a:cubicBezTo>
                    <a:cubicBezTo>
                      <a:pt x="32" y="108"/>
                      <a:pt x="31" y="111"/>
                      <a:pt x="30" y="115"/>
                    </a:cubicBezTo>
                    <a:close/>
                    <a:moveTo>
                      <a:pt x="35" y="102"/>
                    </a:moveTo>
                    <a:cubicBezTo>
                      <a:pt x="35" y="102"/>
                      <a:pt x="35" y="102"/>
                      <a:pt x="35" y="103"/>
                    </a:cubicBezTo>
                    <a:cubicBezTo>
                      <a:pt x="34" y="99"/>
                      <a:pt x="33" y="94"/>
                      <a:pt x="31" y="90"/>
                    </a:cubicBezTo>
                    <a:cubicBezTo>
                      <a:pt x="32" y="84"/>
                      <a:pt x="34" y="78"/>
                      <a:pt x="36" y="73"/>
                    </a:cubicBezTo>
                    <a:cubicBezTo>
                      <a:pt x="36" y="83"/>
                      <a:pt x="35" y="93"/>
                      <a:pt x="35" y="102"/>
                    </a:cubicBezTo>
                    <a:close/>
                    <a:moveTo>
                      <a:pt x="41" y="111"/>
                    </a:moveTo>
                    <a:cubicBezTo>
                      <a:pt x="41" y="111"/>
                      <a:pt x="41" y="111"/>
                      <a:pt x="41" y="111"/>
                    </a:cubicBezTo>
                    <a:cubicBezTo>
                      <a:pt x="41" y="114"/>
                      <a:pt x="40" y="116"/>
                      <a:pt x="40" y="119"/>
                    </a:cubicBezTo>
                    <a:cubicBezTo>
                      <a:pt x="39" y="114"/>
                      <a:pt x="39" y="108"/>
                      <a:pt x="39" y="103"/>
                    </a:cubicBezTo>
                    <a:cubicBezTo>
                      <a:pt x="39" y="97"/>
                      <a:pt x="39" y="91"/>
                      <a:pt x="41" y="85"/>
                    </a:cubicBezTo>
                    <a:cubicBezTo>
                      <a:pt x="40" y="87"/>
                      <a:pt x="39" y="89"/>
                      <a:pt x="38" y="92"/>
                    </a:cubicBezTo>
                    <a:cubicBezTo>
                      <a:pt x="38" y="87"/>
                      <a:pt x="39" y="82"/>
                      <a:pt x="39" y="77"/>
                    </a:cubicBezTo>
                    <a:cubicBezTo>
                      <a:pt x="41" y="83"/>
                      <a:pt x="43" y="90"/>
                      <a:pt x="43" y="96"/>
                    </a:cubicBezTo>
                    <a:cubicBezTo>
                      <a:pt x="43" y="101"/>
                      <a:pt x="42" y="106"/>
                      <a:pt x="41" y="111"/>
                    </a:cubicBezTo>
                    <a:close/>
                    <a:moveTo>
                      <a:pt x="48" y="127"/>
                    </a:moveTo>
                    <a:cubicBezTo>
                      <a:pt x="47" y="132"/>
                      <a:pt x="46" y="134"/>
                      <a:pt x="46" y="134"/>
                    </a:cubicBezTo>
                    <a:cubicBezTo>
                      <a:pt x="47" y="129"/>
                      <a:pt x="47" y="125"/>
                      <a:pt x="48" y="120"/>
                    </a:cubicBezTo>
                    <a:cubicBezTo>
                      <a:pt x="48" y="123"/>
                      <a:pt x="48" y="125"/>
                      <a:pt x="48" y="127"/>
                    </a:cubicBezTo>
                    <a:close/>
                    <a:moveTo>
                      <a:pt x="79" y="92"/>
                    </a:moveTo>
                    <a:cubicBezTo>
                      <a:pt x="79" y="91"/>
                      <a:pt x="79" y="90"/>
                      <a:pt x="79" y="89"/>
                    </a:cubicBezTo>
                    <a:cubicBezTo>
                      <a:pt x="79" y="89"/>
                      <a:pt x="79" y="90"/>
                      <a:pt x="80" y="91"/>
                    </a:cubicBezTo>
                    <a:cubicBezTo>
                      <a:pt x="79" y="91"/>
                      <a:pt x="79" y="92"/>
                      <a:pt x="79" y="92"/>
                    </a:cubicBezTo>
                    <a:close/>
                    <a:moveTo>
                      <a:pt x="82" y="130"/>
                    </a:moveTo>
                    <a:cubicBezTo>
                      <a:pt x="81" y="132"/>
                      <a:pt x="81" y="134"/>
                      <a:pt x="81" y="136"/>
                    </a:cubicBezTo>
                    <a:cubicBezTo>
                      <a:pt x="80" y="127"/>
                      <a:pt x="80" y="119"/>
                      <a:pt x="80" y="110"/>
                    </a:cubicBezTo>
                    <a:cubicBezTo>
                      <a:pt x="80" y="105"/>
                      <a:pt x="80" y="99"/>
                      <a:pt x="80" y="93"/>
                    </a:cubicBezTo>
                    <a:cubicBezTo>
                      <a:pt x="82" y="99"/>
                      <a:pt x="82" y="104"/>
                      <a:pt x="83" y="109"/>
                    </a:cubicBezTo>
                    <a:cubicBezTo>
                      <a:pt x="82" y="116"/>
                      <a:pt x="82" y="123"/>
                      <a:pt x="82" y="130"/>
                    </a:cubicBezTo>
                    <a:close/>
                    <a:moveTo>
                      <a:pt x="91" y="140"/>
                    </a:moveTo>
                    <a:cubicBezTo>
                      <a:pt x="91" y="140"/>
                      <a:pt x="91" y="139"/>
                      <a:pt x="91" y="139"/>
                    </a:cubicBezTo>
                    <a:cubicBezTo>
                      <a:pt x="92" y="100"/>
                      <a:pt x="92" y="100"/>
                      <a:pt x="92" y="100"/>
                    </a:cubicBezTo>
                    <a:cubicBezTo>
                      <a:pt x="92" y="106"/>
                      <a:pt x="93" y="113"/>
                      <a:pt x="93" y="119"/>
                    </a:cubicBezTo>
                    <a:cubicBezTo>
                      <a:pt x="93" y="122"/>
                      <a:pt x="93" y="126"/>
                      <a:pt x="93" y="129"/>
                    </a:cubicBezTo>
                    <a:cubicBezTo>
                      <a:pt x="92" y="133"/>
                      <a:pt x="92" y="136"/>
                      <a:pt x="91" y="140"/>
                    </a:cubicBezTo>
                    <a:close/>
                    <a:moveTo>
                      <a:pt x="112" y="105"/>
                    </a:moveTo>
                    <a:cubicBezTo>
                      <a:pt x="112" y="104"/>
                      <a:pt x="112" y="102"/>
                      <a:pt x="112" y="101"/>
                    </a:cubicBezTo>
                    <a:cubicBezTo>
                      <a:pt x="113" y="102"/>
                      <a:pt x="113" y="103"/>
                      <a:pt x="113" y="103"/>
                    </a:cubicBezTo>
                    <a:cubicBezTo>
                      <a:pt x="113" y="104"/>
                      <a:pt x="112" y="105"/>
                      <a:pt x="112" y="105"/>
                    </a:cubicBezTo>
                    <a:close/>
                    <a:moveTo>
                      <a:pt x="135" y="101"/>
                    </a:moveTo>
                    <a:cubicBezTo>
                      <a:pt x="135" y="101"/>
                      <a:pt x="135" y="101"/>
                      <a:pt x="134" y="100"/>
                    </a:cubicBezTo>
                    <a:cubicBezTo>
                      <a:pt x="135" y="101"/>
                      <a:pt x="135" y="101"/>
                      <a:pt x="135" y="101"/>
                    </a:cubicBezTo>
                    <a:cubicBezTo>
                      <a:pt x="134" y="111"/>
                      <a:pt x="133" y="119"/>
                      <a:pt x="132" y="126"/>
                    </a:cubicBezTo>
                    <a:cubicBezTo>
                      <a:pt x="131" y="122"/>
                      <a:pt x="131" y="118"/>
                      <a:pt x="130" y="114"/>
                    </a:cubicBezTo>
                    <a:cubicBezTo>
                      <a:pt x="130" y="109"/>
                      <a:pt x="130" y="103"/>
                      <a:pt x="130" y="98"/>
                    </a:cubicBezTo>
                    <a:cubicBezTo>
                      <a:pt x="131" y="92"/>
                      <a:pt x="133" y="87"/>
                      <a:pt x="136" y="82"/>
                    </a:cubicBezTo>
                    <a:cubicBezTo>
                      <a:pt x="136" y="89"/>
                      <a:pt x="135" y="95"/>
                      <a:pt x="135" y="101"/>
                    </a:cubicBezTo>
                    <a:close/>
                    <a:moveTo>
                      <a:pt x="145" y="117"/>
                    </a:moveTo>
                    <a:cubicBezTo>
                      <a:pt x="144" y="114"/>
                      <a:pt x="144" y="110"/>
                      <a:pt x="144" y="106"/>
                    </a:cubicBezTo>
                    <a:cubicBezTo>
                      <a:pt x="144" y="99"/>
                      <a:pt x="144" y="90"/>
                      <a:pt x="148" y="83"/>
                    </a:cubicBezTo>
                    <a:cubicBezTo>
                      <a:pt x="146" y="95"/>
                      <a:pt x="145" y="107"/>
                      <a:pt x="145" y="117"/>
                    </a:cubicBezTo>
                    <a:close/>
                    <a:moveTo>
                      <a:pt x="150" y="108"/>
                    </a:moveTo>
                    <a:cubicBezTo>
                      <a:pt x="150" y="106"/>
                      <a:pt x="151" y="104"/>
                      <a:pt x="151" y="102"/>
                    </a:cubicBezTo>
                    <a:cubicBezTo>
                      <a:pt x="151" y="102"/>
                      <a:pt x="151" y="102"/>
                      <a:pt x="151" y="103"/>
                    </a:cubicBezTo>
                    <a:cubicBezTo>
                      <a:pt x="151" y="104"/>
                      <a:pt x="151" y="106"/>
                      <a:pt x="150" y="108"/>
                    </a:cubicBezTo>
                    <a:close/>
                    <a:moveTo>
                      <a:pt x="156" y="111"/>
                    </a:moveTo>
                    <a:cubicBezTo>
                      <a:pt x="156" y="103"/>
                      <a:pt x="159" y="95"/>
                      <a:pt x="161" y="87"/>
                    </a:cubicBezTo>
                    <a:cubicBezTo>
                      <a:pt x="160" y="95"/>
                      <a:pt x="158" y="104"/>
                      <a:pt x="157" y="113"/>
                    </a:cubicBezTo>
                    <a:cubicBezTo>
                      <a:pt x="156" y="112"/>
                      <a:pt x="156" y="112"/>
                      <a:pt x="156" y="111"/>
                    </a:cubicBezTo>
                    <a:close/>
                    <a:moveTo>
                      <a:pt x="180" y="110"/>
                    </a:moveTo>
                    <a:cubicBezTo>
                      <a:pt x="180" y="109"/>
                      <a:pt x="180" y="108"/>
                      <a:pt x="180" y="107"/>
                    </a:cubicBezTo>
                    <a:cubicBezTo>
                      <a:pt x="180" y="107"/>
                      <a:pt x="180" y="108"/>
                      <a:pt x="180" y="108"/>
                    </a:cubicBezTo>
                    <a:cubicBezTo>
                      <a:pt x="180" y="109"/>
                      <a:pt x="180" y="109"/>
                      <a:pt x="180" y="110"/>
                    </a:cubicBezTo>
                    <a:close/>
                    <a:moveTo>
                      <a:pt x="191" y="125"/>
                    </a:moveTo>
                    <a:cubicBezTo>
                      <a:pt x="191" y="123"/>
                      <a:pt x="191" y="122"/>
                      <a:pt x="191" y="120"/>
                    </a:cubicBezTo>
                    <a:cubicBezTo>
                      <a:pt x="191" y="121"/>
                      <a:pt x="191" y="122"/>
                      <a:pt x="191" y="123"/>
                    </a:cubicBezTo>
                    <a:cubicBezTo>
                      <a:pt x="191" y="123"/>
                      <a:pt x="191" y="124"/>
                      <a:pt x="191" y="125"/>
                    </a:cubicBezTo>
                    <a:close/>
                    <a:moveTo>
                      <a:pt x="194" y="115"/>
                    </a:moveTo>
                    <a:cubicBezTo>
                      <a:pt x="194" y="117"/>
                      <a:pt x="193" y="118"/>
                      <a:pt x="193" y="119"/>
                    </a:cubicBezTo>
                    <a:cubicBezTo>
                      <a:pt x="192" y="118"/>
                      <a:pt x="191" y="116"/>
                      <a:pt x="191" y="114"/>
                    </a:cubicBezTo>
                    <a:cubicBezTo>
                      <a:pt x="191" y="110"/>
                      <a:pt x="191" y="105"/>
                      <a:pt x="191" y="100"/>
                    </a:cubicBezTo>
                    <a:cubicBezTo>
                      <a:pt x="193" y="94"/>
                      <a:pt x="195" y="89"/>
                      <a:pt x="198" y="84"/>
                    </a:cubicBezTo>
                    <a:cubicBezTo>
                      <a:pt x="197" y="93"/>
                      <a:pt x="195" y="105"/>
                      <a:pt x="194" y="115"/>
                    </a:cubicBezTo>
                    <a:close/>
                    <a:moveTo>
                      <a:pt x="202" y="90"/>
                    </a:moveTo>
                    <a:cubicBezTo>
                      <a:pt x="201" y="88"/>
                      <a:pt x="200" y="84"/>
                      <a:pt x="200" y="80"/>
                    </a:cubicBezTo>
                    <a:cubicBezTo>
                      <a:pt x="200" y="80"/>
                      <a:pt x="200" y="80"/>
                      <a:pt x="200" y="80"/>
                    </a:cubicBezTo>
                    <a:cubicBezTo>
                      <a:pt x="201" y="81"/>
                      <a:pt x="202" y="83"/>
                      <a:pt x="203" y="84"/>
                    </a:cubicBezTo>
                    <a:cubicBezTo>
                      <a:pt x="202" y="88"/>
                      <a:pt x="202" y="90"/>
                      <a:pt x="202" y="90"/>
                    </a:cubicBezTo>
                    <a:close/>
                    <a:moveTo>
                      <a:pt x="203" y="83"/>
                    </a:moveTo>
                    <a:cubicBezTo>
                      <a:pt x="202" y="81"/>
                      <a:pt x="201" y="80"/>
                      <a:pt x="201" y="79"/>
                    </a:cubicBezTo>
                    <a:cubicBezTo>
                      <a:pt x="202" y="78"/>
                      <a:pt x="203" y="76"/>
                      <a:pt x="204" y="75"/>
                    </a:cubicBezTo>
                    <a:cubicBezTo>
                      <a:pt x="203" y="78"/>
                      <a:pt x="203" y="81"/>
                      <a:pt x="203" y="83"/>
                    </a:cubicBezTo>
                    <a:close/>
                    <a:moveTo>
                      <a:pt x="209" y="104"/>
                    </a:moveTo>
                    <a:cubicBezTo>
                      <a:pt x="210" y="105"/>
                      <a:pt x="210" y="107"/>
                      <a:pt x="210" y="109"/>
                    </a:cubicBezTo>
                    <a:cubicBezTo>
                      <a:pt x="210" y="111"/>
                      <a:pt x="209" y="112"/>
                      <a:pt x="209" y="114"/>
                    </a:cubicBezTo>
                    <a:cubicBezTo>
                      <a:pt x="209" y="110"/>
                      <a:pt x="209" y="107"/>
                      <a:pt x="209" y="104"/>
                    </a:cubicBezTo>
                    <a:close/>
                    <a:moveTo>
                      <a:pt x="205" y="91"/>
                    </a:moveTo>
                    <a:cubicBezTo>
                      <a:pt x="206" y="91"/>
                      <a:pt x="206" y="91"/>
                      <a:pt x="206" y="91"/>
                    </a:cubicBezTo>
                    <a:cubicBezTo>
                      <a:pt x="206" y="91"/>
                      <a:pt x="206" y="91"/>
                      <a:pt x="205" y="91"/>
                    </a:cubicBezTo>
                    <a:close/>
                    <a:moveTo>
                      <a:pt x="206" y="124"/>
                    </a:moveTo>
                    <a:cubicBezTo>
                      <a:pt x="206" y="114"/>
                      <a:pt x="206" y="102"/>
                      <a:pt x="205" y="91"/>
                    </a:cubicBezTo>
                    <a:cubicBezTo>
                      <a:pt x="206" y="91"/>
                      <a:pt x="206" y="91"/>
                      <a:pt x="206" y="91"/>
                    </a:cubicBezTo>
                    <a:cubicBezTo>
                      <a:pt x="207" y="94"/>
                      <a:pt x="208" y="98"/>
                      <a:pt x="209" y="101"/>
                    </a:cubicBezTo>
                    <a:cubicBezTo>
                      <a:pt x="207" y="120"/>
                      <a:pt x="207" y="120"/>
                      <a:pt x="207" y="120"/>
                    </a:cubicBezTo>
                    <a:cubicBezTo>
                      <a:pt x="206" y="121"/>
                      <a:pt x="206" y="122"/>
                      <a:pt x="206" y="124"/>
                    </a:cubicBezTo>
                    <a:close/>
                    <a:moveTo>
                      <a:pt x="208" y="136"/>
                    </a:moveTo>
                    <a:cubicBezTo>
                      <a:pt x="208" y="134"/>
                      <a:pt x="208" y="133"/>
                      <a:pt x="208" y="131"/>
                    </a:cubicBezTo>
                    <a:cubicBezTo>
                      <a:pt x="209" y="126"/>
                      <a:pt x="211" y="121"/>
                      <a:pt x="212" y="116"/>
                    </a:cubicBezTo>
                    <a:cubicBezTo>
                      <a:pt x="212" y="118"/>
                      <a:pt x="212" y="121"/>
                      <a:pt x="213" y="123"/>
                    </a:cubicBezTo>
                    <a:cubicBezTo>
                      <a:pt x="213" y="124"/>
                      <a:pt x="212" y="124"/>
                      <a:pt x="212" y="124"/>
                    </a:cubicBezTo>
                    <a:cubicBezTo>
                      <a:pt x="211" y="128"/>
                      <a:pt x="210" y="132"/>
                      <a:pt x="208" y="136"/>
                    </a:cubicBezTo>
                    <a:close/>
                    <a:moveTo>
                      <a:pt x="212" y="141"/>
                    </a:moveTo>
                    <a:cubicBezTo>
                      <a:pt x="212" y="141"/>
                      <a:pt x="213" y="141"/>
                      <a:pt x="213" y="140"/>
                    </a:cubicBezTo>
                    <a:cubicBezTo>
                      <a:pt x="213" y="139"/>
                      <a:pt x="213" y="137"/>
                      <a:pt x="214" y="135"/>
                    </a:cubicBezTo>
                    <a:cubicBezTo>
                      <a:pt x="214" y="135"/>
                      <a:pt x="214" y="135"/>
                      <a:pt x="214" y="135"/>
                    </a:cubicBezTo>
                    <a:cubicBezTo>
                      <a:pt x="214" y="137"/>
                      <a:pt x="213" y="139"/>
                      <a:pt x="212" y="141"/>
                    </a:cubicBezTo>
                    <a:close/>
                    <a:moveTo>
                      <a:pt x="219" y="119"/>
                    </a:moveTo>
                    <a:cubicBezTo>
                      <a:pt x="219" y="119"/>
                      <a:pt x="218" y="118"/>
                      <a:pt x="218" y="118"/>
                    </a:cubicBezTo>
                    <a:cubicBezTo>
                      <a:pt x="218" y="116"/>
                      <a:pt x="219" y="115"/>
                      <a:pt x="219" y="113"/>
                    </a:cubicBezTo>
                    <a:cubicBezTo>
                      <a:pt x="219" y="112"/>
                      <a:pt x="219" y="112"/>
                      <a:pt x="219" y="111"/>
                    </a:cubicBezTo>
                    <a:cubicBezTo>
                      <a:pt x="220" y="112"/>
                      <a:pt x="220" y="113"/>
                      <a:pt x="220" y="115"/>
                    </a:cubicBezTo>
                    <a:cubicBezTo>
                      <a:pt x="220" y="116"/>
                      <a:pt x="219" y="118"/>
                      <a:pt x="219" y="119"/>
                    </a:cubicBezTo>
                    <a:close/>
                    <a:moveTo>
                      <a:pt x="226" y="136"/>
                    </a:moveTo>
                    <a:cubicBezTo>
                      <a:pt x="225" y="135"/>
                      <a:pt x="225" y="134"/>
                      <a:pt x="224" y="133"/>
                    </a:cubicBezTo>
                    <a:cubicBezTo>
                      <a:pt x="224" y="132"/>
                      <a:pt x="224" y="132"/>
                      <a:pt x="224" y="131"/>
                    </a:cubicBezTo>
                    <a:cubicBezTo>
                      <a:pt x="225" y="133"/>
                      <a:pt x="225" y="134"/>
                      <a:pt x="226" y="136"/>
                    </a:cubicBezTo>
                    <a:cubicBezTo>
                      <a:pt x="226" y="136"/>
                      <a:pt x="226" y="136"/>
                      <a:pt x="226" y="136"/>
                    </a:cubicBezTo>
                    <a:close/>
                    <a:moveTo>
                      <a:pt x="240" y="118"/>
                    </a:moveTo>
                    <a:cubicBezTo>
                      <a:pt x="240" y="118"/>
                      <a:pt x="240" y="117"/>
                      <a:pt x="240" y="117"/>
                    </a:cubicBezTo>
                    <a:cubicBezTo>
                      <a:pt x="240" y="117"/>
                      <a:pt x="240" y="117"/>
                      <a:pt x="240" y="117"/>
                    </a:cubicBezTo>
                    <a:cubicBezTo>
                      <a:pt x="240" y="118"/>
                      <a:pt x="240" y="118"/>
                      <a:pt x="240" y="118"/>
                    </a:cubicBezTo>
                    <a:close/>
                    <a:moveTo>
                      <a:pt x="246" y="105"/>
                    </a:moveTo>
                    <a:cubicBezTo>
                      <a:pt x="245" y="106"/>
                      <a:pt x="244" y="107"/>
                      <a:pt x="244" y="109"/>
                    </a:cubicBezTo>
                    <a:cubicBezTo>
                      <a:pt x="244" y="107"/>
                      <a:pt x="243" y="106"/>
                      <a:pt x="243" y="104"/>
                    </a:cubicBezTo>
                    <a:cubicBezTo>
                      <a:pt x="244" y="101"/>
                      <a:pt x="246" y="98"/>
                      <a:pt x="247" y="94"/>
                    </a:cubicBezTo>
                    <a:cubicBezTo>
                      <a:pt x="247" y="98"/>
                      <a:pt x="246" y="101"/>
                      <a:pt x="246" y="105"/>
                    </a:cubicBezTo>
                    <a:close/>
                    <a:moveTo>
                      <a:pt x="252" y="138"/>
                    </a:moveTo>
                    <a:cubicBezTo>
                      <a:pt x="251" y="137"/>
                      <a:pt x="251" y="136"/>
                      <a:pt x="251" y="135"/>
                    </a:cubicBezTo>
                    <a:cubicBezTo>
                      <a:pt x="251" y="133"/>
                      <a:pt x="251" y="131"/>
                      <a:pt x="251" y="129"/>
                    </a:cubicBezTo>
                    <a:cubicBezTo>
                      <a:pt x="251" y="131"/>
                      <a:pt x="251" y="133"/>
                      <a:pt x="252" y="134"/>
                    </a:cubicBezTo>
                    <a:cubicBezTo>
                      <a:pt x="252" y="135"/>
                      <a:pt x="252" y="137"/>
                      <a:pt x="252" y="138"/>
                    </a:cubicBezTo>
                    <a:close/>
                    <a:moveTo>
                      <a:pt x="253" y="123"/>
                    </a:moveTo>
                    <a:cubicBezTo>
                      <a:pt x="252" y="121"/>
                      <a:pt x="251" y="118"/>
                      <a:pt x="251" y="116"/>
                    </a:cubicBezTo>
                    <a:cubicBezTo>
                      <a:pt x="252" y="112"/>
                      <a:pt x="253" y="107"/>
                      <a:pt x="254" y="103"/>
                    </a:cubicBezTo>
                    <a:cubicBezTo>
                      <a:pt x="254" y="110"/>
                      <a:pt x="253" y="117"/>
                      <a:pt x="253" y="123"/>
                    </a:cubicBezTo>
                    <a:close/>
                    <a:moveTo>
                      <a:pt x="258" y="69"/>
                    </a:moveTo>
                    <a:cubicBezTo>
                      <a:pt x="260" y="72"/>
                      <a:pt x="262" y="75"/>
                      <a:pt x="264" y="79"/>
                    </a:cubicBezTo>
                    <a:cubicBezTo>
                      <a:pt x="263" y="79"/>
                      <a:pt x="263" y="79"/>
                      <a:pt x="263" y="79"/>
                    </a:cubicBezTo>
                    <a:cubicBezTo>
                      <a:pt x="262" y="76"/>
                      <a:pt x="260" y="72"/>
                      <a:pt x="258" y="69"/>
                    </a:cubicBezTo>
                    <a:cubicBezTo>
                      <a:pt x="258" y="69"/>
                      <a:pt x="258" y="69"/>
                      <a:pt x="258" y="69"/>
                    </a:cubicBezTo>
                    <a:close/>
                    <a:moveTo>
                      <a:pt x="258" y="74"/>
                    </a:moveTo>
                    <a:cubicBezTo>
                      <a:pt x="259" y="76"/>
                      <a:pt x="260" y="79"/>
                      <a:pt x="261" y="81"/>
                    </a:cubicBezTo>
                    <a:cubicBezTo>
                      <a:pt x="260" y="82"/>
                      <a:pt x="259" y="83"/>
                      <a:pt x="259" y="85"/>
                    </a:cubicBezTo>
                    <a:cubicBezTo>
                      <a:pt x="258" y="81"/>
                      <a:pt x="258" y="77"/>
                      <a:pt x="258" y="74"/>
                    </a:cubicBezTo>
                    <a:close/>
                    <a:moveTo>
                      <a:pt x="259" y="120"/>
                    </a:moveTo>
                    <a:cubicBezTo>
                      <a:pt x="259" y="115"/>
                      <a:pt x="259" y="111"/>
                      <a:pt x="259" y="106"/>
                    </a:cubicBezTo>
                    <a:cubicBezTo>
                      <a:pt x="260" y="109"/>
                      <a:pt x="260" y="112"/>
                      <a:pt x="261" y="114"/>
                    </a:cubicBezTo>
                    <a:cubicBezTo>
                      <a:pt x="260" y="116"/>
                      <a:pt x="260" y="118"/>
                      <a:pt x="259" y="120"/>
                    </a:cubicBezTo>
                    <a:close/>
                    <a:moveTo>
                      <a:pt x="262" y="109"/>
                    </a:moveTo>
                    <a:cubicBezTo>
                      <a:pt x="261" y="107"/>
                      <a:pt x="260" y="104"/>
                      <a:pt x="259" y="102"/>
                    </a:cubicBezTo>
                    <a:cubicBezTo>
                      <a:pt x="259" y="99"/>
                      <a:pt x="259" y="97"/>
                      <a:pt x="259" y="94"/>
                    </a:cubicBezTo>
                    <a:cubicBezTo>
                      <a:pt x="260" y="98"/>
                      <a:pt x="262" y="102"/>
                      <a:pt x="263" y="107"/>
                    </a:cubicBezTo>
                    <a:cubicBezTo>
                      <a:pt x="263" y="108"/>
                      <a:pt x="262" y="108"/>
                      <a:pt x="262" y="109"/>
                    </a:cubicBezTo>
                    <a:close/>
                    <a:moveTo>
                      <a:pt x="266" y="96"/>
                    </a:moveTo>
                    <a:cubicBezTo>
                      <a:pt x="265" y="98"/>
                      <a:pt x="264" y="101"/>
                      <a:pt x="264" y="104"/>
                    </a:cubicBezTo>
                    <a:cubicBezTo>
                      <a:pt x="262" y="100"/>
                      <a:pt x="261" y="96"/>
                      <a:pt x="259" y="92"/>
                    </a:cubicBezTo>
                    <a:cubicBezTo>
                      <a:pt x="259" y="92"/>
                      <a:pt x="259" y="92"/>
                      <a:pt x="259" y="92"/>
                    </a:cubicBezTo>
                    <a:cubicBezTo>
                      <a:pt x="260" y="89"/>
                      <a:pt x="261" y="86"/>
                      <a:pt x="263" y="84"/>
                    </a:cubicBezTo>
                    <a:cubicBezTo>
                      <a:pt x="264" y="87"/>
                      <a:pt x="265" y="90"/>
                      <a:pt x="266" y="93"/>
                    </a:cubicBezTo>
                    <a:cubicBezTo>
                      <a:pt x="266" y="94"/>
                      <a:pt x="266" y="95"/>
                      <a:pt x="266" y="96"/>
                    </a:cubicBezTo>
                    <a:close/>
                    <a:moveTo>
                      <a:pt x="267" y="90"/>
                    </a:moveTo>
                    <a:cubicBezTo>
                      <a:pt x="266" y="87"/>
                      <a:pt x="265" y="84"/>
                      <a:pt x="264" y="82"/>
                    </a:cubicBezTo>
                    <a:cubicBezTo>
                      <a:pt x="264" y="81"/>
                      <a:pt x="264" y="81"/>
                      <a:pt x="265" y="81"/>
                    </a:cubicBezTo>
                    <a:cubicBezTo>
                      <a:pt x="266" y="83"/>
                      <a:pt x="267" y="86"/>
                      <a:pt x="267" y="89"/>
                    </a:cubicBezTo>
                    <a:cubicBezTo>
                      <a:pt x="267" y="89"/>
                      <a:pt x="267" y="89"/>
                      <a:pt x="267" y="90"/>
                    </a:cubicBezTo>
                    <a:close/>
                    <a:moveTo>
                      <a:pt x="265" y="79"/>
                    </a:moveTo>
                    <a:cubicBezTo>
                      <a:pt x="266" y="78"/>
                      <a:pt x="267" y="77"/>
                      <a:pt x="268" y="76"/>
                    </a:cubicBezTo>
                    <a:cubicBezTo>
                      <a:pt x="268" y="78"/>
                      <a:pt x="269" y="79"/>
                      <a:pt x="269" y="80"/>
                    </a:cubicBezTo>
                    <a:cubicBezTo>
                      <a:pt x="269" y="82"/>
                      <a:pt x="268" y="84"/>
                      <a:pt x="268" y="85"/>
                    </a:cubicBezTo>
                    <a:cubicBezTo>
                      <a:pt x="267" y="83"/>
                      <a:pt x="266" y="81"/>
                      <a:pt x="265" y="79"/>
                    </a:cubicBezTo>
                    <a:close/>
                    <a:moveTo>
                      <a:pt x="268" y="116"/>
                    </a:moveTo>
                    <a:cubicBezTo>
                      <a:pt x="269" y="111"/>
                      <a:pt x="269" y="106"/>
                      <a:pt x="269" y="102"/>
                    </a:cubicBezTo>
                    <a:cubicBezTo>
                      <a:pt x="270" y="105"/>
                      <a:pt x="271" y="108"/>
                      <a:pt x="272" y="111"/>
                    </a:cubicBezTo>
                    <a:cubicBezTo>
                      <a:pt x="271" y="113"/>
                      <a:pt x="270" y="116"/>
                      <a:pt x="269" y="118"/>
                    </a:cubicBezTo>
                    <a:cubicBezTo>
                      <a:pt x="269" y="117"/>
                      <a:pt x="268" y="117"/>
                      <a:pt x="268" y="116"/>
                    </a:cubicBezTo>
                    <a:close/>
                    <a:moveTo>
                      <a:pt x="273" y="130"/>
                    </a:moveTo>
                    <a:cubicBezTo>
                      <a:pt x="272" y="128"/>
                      <a:pt x="272" y="127"/>
                      <a:pt x="271" y="125"/>
                    </a:cubicBezTo>
                    <a:cubicBezTo>
                      <a:pt x="272" y="123"/>
                      <a:pt x="272" y="122"/>
                      <a:pt x="273" y="120"/>
                    </a:cubicBezTo>
                    <a:cubicBezTo>
                      <a:pt x="273" y="122"/>
                      <a:pt x="273" y="124"/>
                      <a:pt x="274" y="127"/>
                    </a:cubicBezTo>
                    <a:cubicBezTo>
                      <a:pt x="273" y="128"/>
                      <a:pt x="273" y="129"/>
                      <a:pt x="273" y="130"/>
                    </a:cubicBezTo>
                    <a:close/>
                    <a:moveTo>
                      <a:pt x="275" y="105"/>
                    </a:moveTo>
                    <a:cubicBezTo>
                      <a:pt x="273" y="100"/>
                      <a:pt x="272" y="95"/>
                      <a:pt x="270" y="91"/>
                    </a:cubicBezTo>
                    <a:cubicBezTo>
                      <a:pt x="270" y="89"/>
                      <a:pt x="270" y="87"/>
                      <a:pt x="271" y="85"/>
                    </a:cubicBezTo>
                    <a:cubicBezTo>
                      <a:pt x="273" y="91"/>
                      <a:pt x="274" y="97"/>
                      <a:pt x="276" y="103"/>
                    </a:cubicBezTo>
                    <a:cubicBezTo>
                      <a:pt x="275" y="104"/>
                      <a:pt x="275" y="105"/>
                      <a:pt x="275" y="105"/>
                    </a:cubicBezTo>
                    <a:close/>
                    <a:moveTo>
                      <a:pt x="277" y="111"/>
                    </a:moveTo>
                    <a:cubicBezTo>
                      <a:pt x="276" y="110"/>
                      <a:pt x="276" y="110"/>
                      <a:pt x="276" y="109"/>
                    </a:cubicBezTo>
                    <a:cubicBezTo>
                      <a:pt x="276" y="109"/>
                      <a:pt x="276" y="108"/>
                      <a:pt x="277" y="107"/>
                    </a:cubicBezTo>
                    <a:cubicBezTo>
                      <a:pt x="277" y="108"/>
                      <a:pt x="277" y="109"/>
                      <a:pt x="277" y="109"/>
                    </a:cubicBezTo>
                    <a:cubicBezTo>
                      <a:pt x="277" y="110"/>
                      <a:pt x="277" y="110"/>
                      <a:pt x="277" y="111"/>
                    </a:cubicBezTo>
                    <a:close/>
                    <a:moveTo>
                      <a:pt x="287" y="94"/>
                    </a:moveTo>
                    <a:cubicBezTo>
                      <a:pt x="287" y="95"/>
                      <a:pt x="288" y="95"/>
                      <a:pt x="288" y="96"/>
                    </a:cubicBezTo>
                    <a:cubicBezTo>
                      <a:pt x="288" y="97"/>
                      <a:pt x="287" y="97"/>
                      <a:pt x="287" y="98"/>
                    </a:cubicBezTo>
                    <a:cubicBezTo>
                      <a:pt x="287" y="96"/>
                      <a:pt x="287" y="95"/>
                      <a:pt x="287" y="94"/>
                    </a:cubicBezTo>
                    <a:close/>
                    <a:moveTo>
                      <a:pt x="289" y="109"/>
                    </a:moveTo>
                    <a:cubicBezTo>
                      <a:pt x="288" y="106"/>
                      <a:pt x="288" y="104"/>
                      <a:pt x="287" y="102"/>
                    </a:cubicBezTo>
                    <a:cubicBezTo>
                      <a:pt x="287" y="101"/>
                      <a:pt x="287" y="99"/>
                      <a:pt x="287" y="98"/>
                    </a:cubicBezTo>
                    <a:cubicBezTo>
                      <a:pt x="287" y="98"/>
                      <a:pt x="288" y="97"/>
                      <a:pt x="288" y="97"/>
                    </a:cubicBezTo>
                    <a:cubicBezTo>
                      <a:pt x="288" y="98"/>
                      <a:pt x="289" y="100"/>
                      <a:pt x="289" y="102"/>
                    </a:cubicBezTo>
                    <a:cubicBezTo>
                      <a:pt x="289" y="104"/>
                      <a:pt x="289" y="107"/>
                      <a:pt x="289" y="109"/>
                    </a:cubicBezTo>
                    <a:close/>
                    <a:moveTo>
                      <a:pt x="291" y="84"/>
                    </a:moveTo>
                    <a:cubicBezTo>
                      <a:pt x="291" y="89"/>
                      <a:pt x="290" y="94"/>
                      <a:pt x="290" y="98"/>
                    </a:cubicBezTo>
                    <a:cubicBezTo>
                      <a:pt x="289" y="97"/>
                      <a:pt x="289" y="96"/>
                      <a:pt x="288" y="95"/>
                    </a:cubicBezTo>
                    <a:cubicBezTo>
                      <a:pt x="289" y="94"/>
                      <a:pt x="290" y="92"/>
                      <a:pt x="290" y="91"/>
                    </a:cubicBezTo>
                    <a:cubicBezTo>
                      <a:pt x="290" y="92"/>
                      <a:pt x="289" y="94"/>
                      <a:pt x="288" y="95"/>
                    </a:cubicBezTo>
                    <a:cubicBezTo>
                      <a:pt x="288" y="94"/>
                      <a:pt x="287" y="93"/>
                      <a:pt x="287" y="92"/>
                    </a:cubicBezTo>
                    <a:cubicBezTo>
                      <a:pt x="287" y="90"/>
                      <a:pt x="287" y="88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75"/>
                      <a:pt x="286" y="65"/>
                      <a:pt x="286" y="56"/>
                    </a:cubicBezTo>
                    <a:cubicBezTo>
                      <a:pt x="289" y="58"/>
                      <a:pt x="292" y="61"/>
                      <a:pt x="294" y="63"/>
                    </a:cubicBezTo>
                    <a:cubicBezTo>
                      <a:pt x="293" y="69"/>
                      <a:pt x="292" y="76"/>
                      <a:pt x="291" y="84"/>
                    </a:cubicBezTo>
                    <a:cubicBezTo>
                      <a:pt x="291" y="82"/>
                      <a:pt x="290" y="81"/>
                      <a:pt x="290" y="79"/>
                    </a:cubicBezTo>
                    <a:cubicBezTo>
                      <a:pt x="290" y="81"/>
                      <a:pt x="291" y="83"/>
                      <a:pt x="291" y="84"/>
                    </a:cubicBezTo>
                    <a:close/>
                    <a:moveTo>
                      <a:pt x="293" y="139"/>
                    </a:moveTo>
                    <a:cubicBezTo>
                      <a:pt x="292" y="134"/>
                      <a:pt x="292" y="128"/>
                      <a:pt x="292" y="121"/>
                    </a:cubicBezTo>
                    <a:cubicBezTo>
                      <a:pt x="292" y="125"/>
                      <a:pt x="293" y="129"/>
                      <a:pt x="293" y="133"/>
                    </a:cubicBezTo>
                    <a:cubicBezTo>
                      <a:pt x="293" y="135"/>
                      <a:pt x="293" y="137"/>
                      <a:pt x="293" y="139"/>
                    </a:cubicBezTo>
                    <a:close/>
                    <a:moveTo>
                      <a:pt x="292" y="104"/>
                    </a:moveTo>
                    <a:cubicBezTo>
                      <a:pt x="292" y="102"/>
                      <a:pt x="293" y="99"/>
                      <a:pt x="293" y="96"/>
                    </a:cubicBezTo>
                    <a:cubicBezTo>
                      <a:pt x="293" y="100"/>
                      <a:pt x="293" y="104"/>
                      <a:pt x="293" y="107"/>
                    </a:cubicBezTo>
                    <a:cubicBezTo>
                      <a:pt x="293" y="106"/>
                      <a:pt x="293" y="105"/>
                      <a:pt x="292" y="104"/>
                    </a:cubicBezTo>
                    <a:close/>
                    <a:moveTo>
                      <a:pt x="304" y="85"/>
                    </a:moveTo>
                    <a:cubicBezTo>
                      <a:pt x="303" y="90"/>
                      <a:pt x="303" y="96"/>
                      <a:pt x="302" y="103"/>
                    </a:cubicBezTo>
                    <a:cubicBezTo>
                      <a:pt x="301" y="101"/>
                      <a:pt x="301" y="100"/>
                      <a:pt x="300" y="99"/>
                    </a:cubicBezTo>
                    <a:cubicBezTo>
                      <a:pt x="300" y="96"/>
                      <a:pt x="299" y="93"/>
                      <a:pt x="298" y="90"/>
                    </a:cubicBezTo>
                    <a:cubicBezTo>
                      <a:pt x="299" y="93"/>
                      <a:pt x="299" y="96"/>
                      <a:pt x="299" y="99"/>
                    </a:cubicBezTo>
                    <a:cubicBezTo>
                      <a:pt x="299" y="104"/>
                      <a:pt x="299" y="112"/>
                      <a:pt x="298" y="120"/>
                    </a:cubicBezTo>
                    <a:cubicBezTo>
                      <a:pt x="297" y="110"/>
                      <a:pt x="295" y="100"/>
                      <a:pt x="293" y="91"/>
                    </a:cubicBezTo>
                    <a:cubicBezTo>
                      <a:pt x="294" y="81"/>
                      <a:pt x="295" y="72"/>
                      <a:pt x="295" y="65"/>
                    </a:cubicBezTo>
                    <a:cubicBezTo>
                      <a:pt x="299" y="69"/>
                      <a:pt x="302" y="74"/>
                      <a:pt x="304" y="79"/>
                    </a:cubicBezTo>
                    <a:cubicBezTo>
                      <a:pt x="304" y="81"/>
                      <a:pt x="304" y="83"/>
                      <a:pt x="304" y="85"/>
                    </a:cubicBezTo>
                    <a:close/>
                    <a:moveTo>
                      <a:pt x="304" y="75"/>
                    </a:moveTo>
                    <a:cubicBezTo>
                      <a:pt x="304" y="75"/>
                      <a:pt x="304" y="75"/>
                      <a:pt x="304" y="75"/>
                    </a:cubicBezTo>
                    <a:cubicBezTo>
                      <a:pt x="304" y="73"/>
                      <a:pt x="304" y="72"/>
                      <a:pt x="304" y="70"/>
                    </a:cubicBezTo>
                    <a:cubicBezTo>
                      <a:pt x="304" y="70"/>
                      <a:pt x="304" y="72"/>
                      <a:pt x="304" y="75"/>
                    </a:cubicBezTo>
                    <a:cubicBezTo>
                      <a:pt x="301" y="71"/>
                      <a:pt x="299" y="67"/>
                      <a:pt x="296" y="64"/>
                    </a:cubicBezTo>
                    <a:cubicBezTo>
                      <a:pt x="296" y="60"/>
                      <a:pt x="296" y="57"/>
                      <a:pt x="297" y="54"/>
                    </a:cubicBezTo>
                    <a:cubicBezTo>
                      <a:pt x="300" y="58"/>
                      <a:pt x="303" y="62"/>
                      <a:pt x="305" y="65"/>
                    </a:cubicBezTo>
                    <a:cubicBezTo>
                      <a:pt x="305" y="68"/>
                      <a:pt x="305" y="71"/>
                      <a:pt x="304" y="75"/>
                    </a:cubicBezTo>
                    <a:close/>
                    <a:moveTo>
                      <a:pt x="308" y="117"/>
                    </a:moveTo>
                    <a:cubicBezTo>
                      <a:pt x="307" y="119"/>
                      <a:pt x="307" y="122"/>
                      <a:pt x="306" y="125"/>
                    </a:cubicBezTo>
                    <a:cubicBezTo>
                      <a:pt x="306" y="124"/>
                      <a:pt x="306" y="123"/>
                      <a:pt x="306" y="122"/>
                    </a:cubicBezTo>
                    <a:cubicBezTo>
                      <a:pt x="306" y="110"/>
                      <a:pt x="307" y="98"/>
                      <a:pt x="307" y="87"/>
                    </a:cubicBezTo>
                    <a:cubicBezTo>
                      <a:pt x="308" y="92"/>
                      <a:pt x="309" y="98"/>
                      <a:pt x="310" y="103"/>
                    </a:cubicBezTo>
                    <a:cubicBezTo>
                      <a:pt x="309" y="108"/>
                      <a:pt x="309" y="112"/>
                      <a:pt x="308" y="117"/>
                    </a:cubicBezTo>
                    <a:close/>
                    <a:moveTo>
                      <a:pt x="311" y="89"/>
                    </a:moveTo>
                    <a:cubicBezTo>
                      <a:pt x="310" y="86"/>
                      <a:pt x="309" y="83"/>
                      <a:pt x="307" y="80"/>
                    </a:cubicBezTo>
                    <a:cubicBezTo>
                      <a:pt x="307" y="76"/>
                      <a:pt x="307" y="72"/>
                      <a:pt x="307" y="68"/>
                    </a:cubicBezTo>
                    <a:cubicBezTo>
                      <a:pt x="309" y="71"/>
                      <a:pt x="311" y="74"/>
                      <a:pt x="313" y="78"/>
                    </a:cubicBezTo>
                    <a:cubicBezTo>
                      <a:pt x="312" y="81"/>
                      <a:pt x="312" y="85"/>
                      <a:pt x="311" y="89"/>
                    </a:cubicBezTo>
                    <a:close/>
                    <a:moveTo>
                      <a:pt x="317" y="96"/>
                    </a:moveTo>
                    <a:cubicBezTo>
                      <a:pt x="316" y="97"/>
                      <a:pt x="315" y="98"/>
                      <a:pt x="315" y="99"/>
                    </a:cubicBezTo>
                    <a:cubicBezTo>
                      <a:pt x="314" y="98"/>
                      <a:pt x="314" y="97"/>
                      <a:pt x="314" y="96"/>
                    </a:cubicBezTo>
                    <a:cubicBezTo>
                      <a:pt x="314" y="91"/>
                      <a:pt x="314" y="86"/>
                      <a:pt x="314" y="80"/>
                    </a:cubicBezTo>
                    <a:cubicBezTo>
                      <a:pt x="315" y="83"/>
                      <a:pt x="317" y="86"/>
                      <a:pt x="317" y="88"/>
                    </a:cubicBezTo>
                    <a:cubicBezTo>
                      <a:pt x="317" y="91"/>
                      <a:pt x="317" y="93"/>
                      <a:pt x="317" y="96"/>
                    </a:cubicBezTo>
                    <a:close/>
                    <a:moveTo>
                      <a:pt x="338" y="105"/>
                    </a:moveTo>
                    <a:cubicBezTo>
                      <a:pt x="338" y="103"/>
                      <a:pt x="337" y="102"/>
                      <a:pt x="336" y="101"/>
                    </a:cubicBezTo>
                    <a:cubicBezTo>
                      <a:pt x="338" y="96"/>
                      <a:pt x="339" y="92"/>
                      <a:pt x="341" y="89"/>
                    </a:cubicBezTo>
                    <a:cubicBezTo>
                      <a:pt x="341" y="89"/>
                      <a:pt x="341" y="89"/>
                      <a:pt x="341" y="90"/>
                    </a:cubicBezTo>
                    <a:cubicBezTo>
                      <a:pt x="340" y="95"/>
                      <a:pt x="339" y="100"/>
                      <a:pt x="338" y="105"/>
                    </a:cubicBezTo>
                    <a:close/>
                    <a:moveTo>
                      <a:pt x="354" y="81"/>
                    </a:moveTo>
                    <a:cubicBezTo>
                      <a:pt x="355" y="81"/>
                      <a:pt x="355" y="81"/>
                      <a:pt x="355" y="81"/>
                    </a:cubicBezTo>
                    <a:cubicBezTo>
                      <a:pt x="355" y="81"/>
                      <a:pt x="355" y="81"/>
                      <a:pt x="354" y="81"/>
                    </a:cubicBezTo>
                    <a:cubicBezTo>
                      <a:pt x="354" y="81"/>
                      <a:pt x="354" y="81"/>
                      <a:pt x="354" y="81"/>
                    </a:cubicBezTo>
                    <a:close/>
                    <a:moveTo>
                      <a:pt x="354" y="88"/>
                    </a:move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90"/>
                      <a:pt x="354" y="91"/>
                      <a:pt x="354" y="91"/>
                    </a:cubicBezTo>
                    <a:cubicBezTo>
                      <a:pt x="354" y="90"/>
                      <a:pt x="354" y="89"/>
                      <a:pt x="354" y="88"/>
                    </a:cubicBezTo>
                    <a:close/>
                    <a:moveTo>
                      <a:pt x="345" y="122"/>
                    </a:moveTo>
                    <a:cubicBezTo>
                      <a:pt x="345" y="122"/>
                      <a:pt x="345" y="123"/>
                      <a:pt x="345" y="123"/>
                    </a:cubicBezTo>
                    <a:cubicBezTo>
                      <a:pt x="345" y="123"/>
                      <a:pt x="345" y="123"/>
                      <a:pt x="345" y="123"/>
                    </a:cubicBezTo>
                    <a:cubicBezTo>
                      <a:pt x="345" y="123"/>
                      <a:pt x="345" y="122"/>
                      <a:pt x="345" y="122"/>
                    </a:cubicBezTo>
                    <a:cubicBezTo>
                      <a:pt x="345" y="120"/>
                      <a:pt x="346" y="118"/>
                      <a:pt x="346" y="115"/>
                    </a:cubicBezTo>
                    <a:cubicBezTo>
                      <a:pt x="346" y="115"/>
                      <a:pt x="346" y="115"/>
                      <a:pt x="346" y="115"/>
                    </a:cubicBezTo>
                    <a:cubicBezTo>
                      <a:pt x="346" y="116"/>
                      <a:pt x="346" y="117"/>
                      <a:pt x="346" y="118"/>
                    </a:cubicBezTo>
                    <a:cubicBezTo>
                      <a:pt x="346" y="119"/>
                      <a:pt x="345" y="121"/>
                      <a:pt x="345" y="122"/>
                    </a:cubicBezTo>
                    <a:close/>
                    <a:moveTo>
                      <a:pt x="348" y="70"/>
                    </a:moveTo>
                    <a:cubicBezTo>
                      <a:pt x="350" y="73"/>
                      <a:pt x="352" y="76"/>
                      <a:pt x="354" y="79"/>
                    </a:cubicBezTo>
                    <a:cubicBezTo>
                      <a:pt x="353" y="81"/>
                      <a:pt x="353" y="82"/>
                      <a:pt x="353" y="84"/>
                    </a:cubicBezTo>
                    <a:cubicBezTo>
                      <a:pt x="353" y="84"/>
                      <a:pt x="353" y="84"/>
                      <a:pt x="352" y="84"/>
                    </a:cubicBezTo>
                    <a:cubicBezTo>
                      <a:pt x="352" y="82"/>
                      <a:pt x="351" y="81"/>
                      <a:pt x="350" y="79"/>
                    </a:cubicBezTo>
                    <a:cubicBezTo>
                      <a:pt x="351" y="81"/>
                      <a:pt x="352" y="83"/>
                      <a:pt x="352" y="84"/>
                    </a:cubicBezTo>
                    <a:cubicBezTo>
                      <a:pt x="351" y="87"/>
                      <a:pt x="349" y="90"/>
                      <a:pt x="348" y="93"/>
                    </a:cubicBezTo>
                    <a:cubicBezTo>
                      <a:pt x="348" y="85"/>
                      <a:pt x="348" y="77"/>
                      <a:pt x="348" y="70"/>
                    </a:cubicBezTo>
                    <a:close/>
                    <a:moveTo>
                      <a:pt x="350" y="98"/>
                    </a:moveTo>
                    <a:cubicBezTo>
                      <a:pt x="350" y="98"/>
                      <a:pt x="350" y="97"/>
                      <a:pt x="350" y="96"/>
                    </a:cubicBezTo>
                    <a:cubicBezTo>
                      <a:pt x="350" y="97"/>
                      <a:pt x="350" y="98"/>
                      <a:pt x="350" y="98"/>
                    </a:cubicBezTo>
                    <a:cubicBezTo>
                      <a:pt x="350" y="99"/>
                      <a:pt x="350" y="100"/>
                      <a:pt x="350" y="100"/>
                    </a:cubicBezTo>
                    <a:cubicBezTo>
                      <a:pt x="349" y="99"/>
                      <a:pt x="349" y="98"/>
                      <a:pt x="349" y="97"/>
                    </a:cubicBezTo>
                    <a:cubicBezTo>
                      <a:pt x="349" y="95"/>
                      <a:pt x="350" y="93"/>
                      <a:pt x="351" y="90"/>
                    </a:cubicBezTo>
                    <a:cubicBezTo>
                      <a:pt x="351" y="93"/>
                      <a:pt x="350" y="96"/>
                      <a:pt x="350" y="98"/>
                    </a:cubicBezTo>
                    <a:close/>
                    <a:moveTo>
                      <a:pt x="357" y="100"/>
                    </a:moveTo>
                    <a:cubicBezTo>
                      <a:pt x="355" y="104"/>
                      <a:pt x="354" y="107"/>
                      <a:pt x="353" y="110"/>
                    </a:cubicBezTo>
                    <a:cubicBezTo>
                      <a:pt x="352" y="110"/>
                      <a:pt x="352" y="109"/>
                      <a:pt x="352" y="109"/>
                    </a:cubicBezTo>
                    <a:cubicBezTo>
                      <a:pt x="352" y="106"/>
                      <a:pt x="353" y="102"/>
                      <a:pt x="353" y="99"/>
                    </a:cubicBezTo>
                    <a:cubicBezTo>
                      <a:pt x="354" y="95"/>
                      <a:pt x="354" y="92"/>
                      <a:pt x="354" y="90"/>
                    </a:cubicBezTo>
                    <a:cubicBezTo>
                      <a:pt x="355" y="93"/>
                      <a:pt x="356" y="96"/>
                      <a:pt x="357" y="100"/>
                    </a:cubicBezTo>
                    <a:cubicBezTo>
                      <a:pt x="357" y="100"/>
                      <a:pt x="357" y="100"/>
                      <a:pt x="357" y="100"/>
                    </a:cubicBezTo>
                    <a:close/>
                    <a:moveTo>
                      <a:pt x="357" y="97"/>
                    </a:moveTo>
                    <a:cubicBezTo>
                      <a:pt x="356" y="95"/>
                      <a:pt x="355" y="92"/>
                      <a:pt x="354" y="89"/>
                    </a:cubicBezTo>
                    <a:cubicBezTo>
                      <a:pt x="354" y="89"/>
                      <a:pt x="354" y="89"/>
                      <a:pt x="354" y="88"/>
                    </a:cubicBez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89"/>
                      <a:pt x="354" y="88"/>
                      <a:pt x="354" y="88"/>
                    </a:cubicBezTo>
                    <a:cubicBezTo>
                      <a:pt x="354" y="87"/>
                      <a:pt x="354" y="86"/>
                      <a:pt x="354" y="85"/>
                    </a:cubicBezTo>
                    <a:cubicBezTo>
                      <a:pt x="355" y="84"/>
                      <a:pt x="355" y="83"/>
                      <a:pt x="355" y="82"/>
                    </a:cubicBezTo>
                    <a:cubicBezTo>
                      <a:pt x="357" y="84"/>
                      <a:pt x="358" y="86"/>
                      <a:pt x="358" y="88"/>
                    </a:cubicBezTo>
                    <a:cubicBezTo>
                      <a:pt x="358" y="91"/>
                      <a:pt x="358" y="94"/>
                      <a:pt x="357" y="97"/>
                    </a:cubicBezTo>
                    <a:close/>
                    <a:moveTo>
                      <a:pt x="360" y="135"/>
                    </a:moveTo>
                    <a:cubicBezTo>
                      <a:pt x="359" y="136"/>
                      <a:pt x="359" y="137"/>
                      <a:pt x="359" y="138"/>
                    </a:cubicBezTo>
                    <a:cubicBezTo>
                      <a:pt x="359" y="137"/>
                      <a:pt x="359" y="136"/>
                      <a:pt x="360" y="135"/>
                    </a:cubicBezTo>
                    <a:cubicBezTo>
                      <a:pt x="360" y="135"/>
                      <a:pt x="360" y="135"/>
                      <a:pt x="360" y="135"/>
                    </a:cubicBezTo>
                    <a:close/>
                    <a:moveTo>
                      <a:pt x="359" y="83"/>
                    </a:moveTo>
                    <a:cubicBezTo>
                      <a:pt x="358" y="82"/>
                      <a:pt x="358" y="81"/>
                      <a:pt x="357" y="80"/>
                    </a:cubicBezTo>
                    <a:cubicBezTo>
                      <a:pt x="358" y="78"/>
                      <a:pt x="359" y="77"/>
                      <a:pt x="360" y="75"/>
                    </a:cubicBezTo>
                    <a:cubicBezTo>
                      <a:pt x="360" y="78"/>
                      <a:pt x="359" y="81"/>
                      <a:pt x="359" y="83"/>
                    </a:cubicBezTo>
                    <a:close/>
                    <a:moveTo>
                      <a:pt x="360" y="74"/>
                    </a:moveTo>
                    <a:cubicBezTo>
                      <a:pt x="359" y="76"/>
                      <a:pt x="357" y="77"/>
                      <a:pt x="356" y="79"/>
                    </a:cubicBezTo>
                    <a:cubicBezTo>
                      <a:pt x="356" y="78"/>
                      <a:pt x="355" y="78"/>
                      <a:pt x="355" y="77"/>
                    </a:cubicBezTo>
                    <a:cubicBezTo>
                      <a:pt x="355" y="72"/>
                      <a:pt x="356" y="67"/>
                      <a:pt x="356" y="65"/>
                    </a:cubicBezTo>
                    <a:cubicBezTo>
                      <a:pt x="357" y="67"/>
                      <a:pt x="359" y="70"/>
                      <a:pt x="360" y="72"/>
                    </a:cubicBezTo>
                    <a:cubicBezTo>
                      <a:pt x="360" y="73"/>
                      <a:pt x="360" y="73"/>
                      <a:pt x="360" y="74"/>
                    </a:cubicBezTo>
                    <a:close/>
                    <a:moveTo>
                      <a:pt x="362" y="75"/>
                    </a:moveTo>
                    <a:cubicBezTo>
                      <a:pt x="364" y="78"/>
                      <a:pt x="365" y="81"/>
                      <a:pt x="367" y="84"/>
                    </a:cubicBezTo>
                    <a:cubicBezTo>
                      <a:pt x="365" y="86"/>
                      <a:pt x="364" y="88"/>
                      <a:pt x="363" y="90"/>
                    </a:cubicBezTo>
                    <a:cubicBezTo>
                      <a:pt x="363" y="89"/>
                      <a:pt x="362" y="89"/>
                      <a:pt x="362" y="89"/>
                    </a:cubicBezTo>
                    <a:cubicBezTo>
                      <a:pt x="362" y="84"/>
                      <a:pt x="362" y="79"/>
                      <a:pt x="362" y="75"/>
                    </a:cubicBezTo>
                    <a:close/>
                    <a:moveTo>
                      <a:pt x="364" y="110"/>
                    </a:moveTo>
                    <a:cubicBezTo>
                      <a:pt x="364" y="107"/>
                      <a:pt x="363" y="104"/>
                      <a:pt x="362" y="101"/>
                    </a:cubicBezTo>
                    <a:cubicBezTo>
                      <a:pt x="362" y="101"/>
                      <a:pt x="362" y="100"/>
                      <a:pt x="362" y="100"/>
                    </a:cubicBezTo>
                    <a:cubicBezTo>
                      <a:pt x="362" y="100"/>
                      <a:pt x="363" y="99"/>
                      <a:pt x="363" y="99"/>
                    </a:cubicBezTo>
                    <a:cubicBezTo>
                      <a:pt x="364" y="101"/>
                      <a:pt x="365" y="104"/>
                      <a:pt x="365" y="106"/>
                    </a:cubicBezTo>
                    <a:cubicBezTo>
                      <a:pt x="365" y="108"/>
                      <a:pt x="365" y="109"/>
                      <a:pt x="364" y="110"/>
                    </a:cubicBezTo>
                    <a:close/>
                    <a:moveTo>
                      <a:pt x="365" y="93"/>
                    </a:moveTo>
                    <a:cubicBezTo>
                      <a:pt x="366" y="91"/>
                      <a:pt x="367" y="88"/>
                      <a:pt x="368" y="86"/>
                    </a:cubicBezTo>
                    <a:cubicBezTo>
                      <a:pt x="368" y="87"/>
                      <a:pt x="369" y="87"/>
                      <a:pt x="369" y="88"/>
                    </a:cubicBezTo>
                    <a:cubicBezTo>
                      <a:pt x="368" y="91"/>
                      <a:pt x="368" y="94"/>
                      <a:pt x="367" y="97"/>
                    </a:cubicBezTo>
                    <a:cubicBezTo>
                      <a:pt x="366" y="96"/>
                      <a:pt x="366" y="95"/>
                      <a:pt x="365" y="93"/>
                    </a:cubicBezTo>
                    <a:close/>
                    <a:moveTo>
                      <a:pt x="368" y="130"/>
                    </a:moveTo>
                    <a:cubicBezTo>
                      <a:pt x="368" y="129"/>
                      <a:pt x="368" y="128"/>
                      <a:pt x="368" y="126"/>
                    </a:cubicBezTo>
                    <a:cubicBezTo>
                      <a:pt x="368" y="124"/>
                      <a:pt x="368" y="121"/>
                      <a:pt x="369" y="119"/>
                    </a:cubicBezTo>
                    <a:cubicBezTo>
                      <a:pt x="369" y="120"/>
                      <a:pt x="370" y="122"/>
                      <a:pt x="370" y="124"/>
                    </a:cubicBezTo>
                    <a:cubicBezTo>
                      <a:pt x="369" y="126"/>
                      <a:pt x="369" y="128"/>
                      <a:pt x="368" y="130"/>
                    </a:cubicBezTo>
                    <a:close/>
                    <a:moveTo>
                      <a:pt x="372" y="108"/>
                    </a:moveTo>
                    <a:cubicBezTo>
                      <a:pt x="372" y="107"/>
                      <a:pt x="371" y="106"/>
                      <a:pt x="371" y="105"/>
                    </a:cubicBezTo>
                    <a:cubicBezTo>
                      <a:pt x="372" y="102"/>
                      <a:pt x="372" y="99"/>
                      <a:pt x="373" y="96"/>
                    </a:cubicBezTo>
                    <a:cubicBezTo>
                      <a:pt x="373" y="96"/>
                      <a:pt x="373" y="97"/>
                      <a:pt x="373" y="97"/>
                    </a:cubicBezTo>
                    <a:cubicBezTo>
                      <a:pt x="373" y="101"/>
                      <a:pt x="373" y="105"/>
                      <a:pt x="372" y="108"/>
                    </a:cubicBezTo>
                    <a:close/>
                    <a:moveTo>
                      <a:pt x="374" y="86"/>
                    </a:moveTo>
                    <a:cubicBezTo>
                      <a:pt x="374" y="86"/>
                      <a:pt x="374" y="86"/>
                      <a:pt x="374" y="86"/>
                    </a:cubicBezTo>
                    <a:cubicBezTo>
                      <a:pt x="375" y="85"/>
                      <a:pt x="375" y="84"/>
                      <a:pt x="375" y="83"/>
                    </a:cubicBezTo>
                    <a:cubicBezTo>
                      <a:pt x="375" y="84"/>
                      <a:pt x="375" y="85"/>
                      <a:pt x="374" y="86"/>
                    </a:cubicBezTo>
                    <a:close/>
                    <a:moveTo>
                      <a:pt x="382" y="80"/>
                    </a:moveTo>
                    <a:cubicBezTo>
                      <a:pt x="382" y="77"/>
                      <a:pt x="382" y="75"/>
                      <a:pt x="383" y="73"/>
                    </a:cubicBezTo>
                    <a:cubicBezTo>
                      <a:pt x="383" y="73"/>
                      <a:pt x="383" y="74"/>
                      <a:pt x="384" y="74"/>
                    </a:cubicBezTo>
                    <a:cubicBezTo>
                      <a:pt x="383" y="76"/>
                      <a:pt x="383" y="78"/>
                      <a:pt x="382" y="80"/>
                    </a:cubicBezTo>
                    <a:close/>
                    <a:moveTo>
                      <a:pt x="394" y="93"/>
                    </a:moveTo>
                    <a:cubicBezTo>
                      <a:pt x="393" y="95"/>
                      <a:pt x="393" y="96"/>
                      <a:pt x="392" y="97"/>
                    </a:cubicBezTo>
                    <a:cubicBezTo>
                      <a:pt x="392" y="94"/>
                      <a:pt x="392" y="91"/>
                      <a:pt x="392" y="88"/>
                    </a:cubicBezTo>
                    <a:cubicBezTo>
                      <a:pt x="392" y="89"/>
                      <a:pt x="393" y="91"/>
                      <a:pt x="394" y="93"/>
                    </a:cubicBezTo>
                    <a:close/>
                    <a:moveTo>
                      <a:pt x="395" y="88"/>
                    </a:moveTo>
                    <a:cubicBezTo>
                      <a:pt x="394" y="86"/>
                      <a:pt x="393" y="85"/>
                      <a:pt x="392" y="84"/>
                    </a:cubicBezTo>
                    <a:cubicBezTo>
                      <a:pt x="394" y="81"/>
                      <a:pt x="395" y="78"/>
                      <a:pt x="397" y="75"/>
                    </a:cubicBezTo>
                    <a:cubicBezTo>
                      <a:pt x="396" y="79"/>
                      <a:pt x="396" y="84"/>
                      <a:pt x="395" y="88"/>
                    </a:cubicBezTo>
                    <a:close/>
                    <a:moveTo>
                      <a:pt x="404" y="77"/>
                    </a:moveTo>
                    <a:cubicBezTo>
                      <a:pt x="404" y="77"/>
                      <a:pt x="404" y="77"/>
                      <a:pt x="404" y="77"/>
                    </a:cubicBezTo>
                    <a:cubicBezTo>
                      <a:pt x="404" y="74"/>
                      <a:pt x="403" y="70"/>
                      <a:pt x="403" y="66"/>
                    </a:cubicBezTo>
                    <a:cubicBezTo>
                      <a:pt x="403" y="65"/>
                      <a:pt x="404" y="64"/>
                      <a:pt x="404" y="63"/>
                    </a:cubicBezTo>
                    <a:cubicBezTo>
                      <a:pt x="405" y="67"/>
                      <a:pt x="405" y="72"/>
                      <a:pt x="404" y="77"/>
                    </a:cubicBezTo>
                    <a:close/>
                    <a:moveTo>
                      <a:pt x="407" y="72"/>
                    </a:moveTo>
                    <a:cubicBezTo>
                      <a:pt x="407" y="67"/>
                      <a:pt x="406" y="64"/>
                      <a:pt x="405" y="61"/>
                    </a:cubicBezTo>
                    <a:cubicBezTo>
                      <a:pt x="406" y="60"/>
                      <a:pt x="407" y="58"/>
                      <a:pt x="408" y="57"/>
                    </a:cubicBezTo>
                    <a:cubicBezTo>
                      <a:pt x="409" y="62"/>
                      <a:pt x="408" y="67"/>
                      <a:pt x="407" y="72"/>
                    </a:cubicBezTo>
                    <a:close/>
                    <a:moveTo>
                      <a:pt x="423" y="89"/>
                    </a:moveTo>
                    <a:cubicBezTo>
                      <a:pt x="424" y="91"/>
                      <a:pt x="425" y="92"/>
                      <a:pt x="426" y="94"/>
                    </a:cubicBezTo>
                    <a:cubicBezTo>
                      <a:pt x="425" y="95"/>
                      <a:pt x="424" y="97"/>
                      <a:pt x="424" y="98"/>
                    </a:cubicBezTo>
                    <a:cubicBezTo>
                      <a:pt x="423" y="97"/>
                      <a:pt x="423" y="96"/>
                      <a:pt x="422" y="95"/>
                    </a:cubicBezTo>
                    <a:cubicBezTo>
                      <a:pt x="423" y="93"/>
                      <a:pt x="423" y="91"/>
                      <a:pt x="423" y="89"/>
                    </a:cubicBezTo>
                    <a:close/>
                    <a:moveTo>
                      <a:pt x="422" y="101"/>
                    </a:moveTo>
                    <a:cubicBezTo>
                      <a:pt x="422" y="101"/>
                      <a:pt x="422" y="100"/>
                      <a:pt x="422" y="100"/>
                    </a:cubicBezTo>
                    <a:cubicBezTo>
                      <a:pt x="422" y="100"/>
                      <a:pt x="422" y="101"/>
                      <a:pt x="423" y="101"/>
                    </a:cubicBezTo>
                    <a:cubicBezTo>
                      <a:pt x="422" y="101"/>
                      <a:pt x="422" y="101"/>
                      <a:pt x="422" y="101"/>
                    </a:cubicBezTo>
                    <a:close/>
                    <a:moveTo>
                      <a:pt x="424" y="122"/>
                    </a:moveTo>
                    <a:cubicBezTo>
                      <a:pt x="424" y="121"/>
                      <a:pt x="424" y="120"/>
                      <a:pt x="423" y="119"/>
                    </a:cubicBezTo>
                    <a:cubicBezTo>
                      <a:pt x="423" y="117"/>
                      <a:pt x="423" y="115"/>
                      <a:pt x="423" y="112"/>
                    </a:cubicBezTo>
                    <a:cubicBezTo>
                      <a:pt x="423" y="110"/>
                      <a:pt x="424" y="108"/>
                      <a:pt x="424" y="106"/>
                    </a:cubicBezTo>
                    <a:cubicBezTo>
                      <a:pt x="424" y="108"/>
                      <a:pt x="425" y="110"/>
                      <a:pt x="425" y="112"/>
                    </a:cubicBezTo>
                    <a:cubicBezTo>
                      <a:pt x="425" y="115"/>
                      <a:pt x="425" y="119"/>
                      <a:pt x="424" y="122"/>
                    </a:cubicBezTo>
                    <a:close/>
                    <a:moveTo>
                      <a:pt x="426" y="103"/>
                    </a:moveTo>
                    <a:cubicBezTo>
                      <a:pt x="426" y="102"/>
                      <a:pt x="425" y="101"/>
                      <a:pt x="425" y="100"/>
                    </a:cubicBezTo>
                    <a:cubicBezTo>
                      <a:pt x="425" y="99"/>
                      <a:pt x="426" y="97"/>
                      <a:pt x="426" y="96"/>
                    </a:cubicBezTo>
                    <a:cubicBezTo>
                      <a:pt x="426" y="97"/>
                      <a:pt x="427" y="97"/>
                      <a:pt x="427" y="98"/>
                    </a:cubicBezTo>
                    <a:cubicBezTo>
                      <a:pt x="427" y="100"/>
                      <a:pt x="427" y="101"/>
                      <a:pt x="426" y="103"/>
                    </a:cubicBezTo>
                    <a:close/>
                    <a:moveTo>
                      <a:pt x="427" y="96"/>
                    </a:moveTo>
                    <a:cubicBezTo>
                      <a:pt x="427" y="95"/>
                      <a:pt x="427" y="95"/>
                      <a:pt x="427" y="95"/>
                    </a:cubicBezTo>
                    <a:cubicBezTo>
                      <a:pt x="427" y="93"/>
                      <a:pt x="427" y="92"/>
                      <a:pt x="428" y="91"/>
                    </a:cubicBezTo>
                    <a:cubicBezTo>
                      <a:pt x="428" y="93"/>
                      <a:pt x="427" y="94"/>
                      <a:pt x="427" y="96"/>
                    </a:cubicBezTo>
                    <a:close/>
                    <a:moveTo>
                      <a:pt x="433" y="95"/>
                    </a:moveTo>
                    <a:cubicBezTo>
                      <a:pt x="434" y="92"/>
                      <a:pt x="434" y="89"/>
                      <a:pt x="434" y="86"/>
                    </a:cubicBezTo>
                    <a:cubicBezTo>
                      <a:pt x="435" y="86"/>
                      <a:pt x="435" y="87"/>
                      <a:pt x="436" y="88"/>
                    </a:cubicBezTo>
                    <a:cubicBezTo>
                      <a:pt x="435" y="90"/>
                      <a:pt x="434" y="92"/>
                      <a:pt x="433" y="95"/>
                    </a:cubicBezTo>
                    <a:close/>
                    <a:moveTo>
                      <a:pt x="444" y="99"/>
                    </a:moveTo>
                    <a:cubicBezTo>
                      <a:pt x="444" y="99"/>
                      <a:pt x="443" y="98"/>
                      <a:pt x="443" y="97"/>
                    </a:cubicBezTo>
                    <a:cubicBezTo>
                      <a:pt x="443" y="93"/>
                      <a:pt x="443" y="89"/>
                      <a:pt x="443" y="84"/>
                    </a:cubicBezTo>
                    <a:cubicBezTo>
                      <a:pt x="445" y="80"/>
                      <a:pt x="447" y="76"/>
                      <a:pt x="450" y="72"/>
                    </a:cubicBezTo>
                    <a:cubicBezTo>
                      <a:pt x="450" y="74"/>
                      <a:pt x="450" y="78"/>
                      <a:pt x="451" y="82"/>
                    </a:cubicBezTo>
                    <a:cubicBezTo>
                      <a:pt x="448" y="88"/>
                      <a:pt x="446" y="93"/>
                      <a:pt x="444" y="99"/>
                    </a:cubicBezTo>
                    <a:close/>
                    <a:moveTo>
                      <a:pt x="452" y="75"/>
                    </a:moveTo>
                    <a:cubicBezTo>
                      <a:pt x="452" y="73"/>
                      <a:pt x="451" y="71"/>
                      <a:pt x="451" y="69"/>
                    </a:cubicBezTo>
                    <a:cubicBezTo>
                      <a:pt x="452" y="68"/>
                      <a:pt x="453" y="67"/>
                      <a:pt x="453" y="66"/>
                    </a:cubicBezTo>
                    <a:cubicBezTo>
                      <a:pt x="453" y="69"/>
                      <a:pt x="453" y="72"/>
                      <a:pt x="452" y="75"/>
                    </a:cubicBezTo>
                    <a:close/>
                    <a:moveTo>
                      <a:pt x="460" y="72"/>
                    </a:moveTo>
                    <a:cubicBezTo>
                      <a:pt x="460" y="71"/>
                      <a:pt x="460" y="70"/>
                      <a:pt x="460" y="70"/>
                    </a:cubicBezTo>
                    <a:cubicBezTo>
                      <a:pt x="460" y="69"/>
                      <a:pt x="460" y="69"/>
                      <a:pt x="460" y="69"/>
                    </a:cubicBezTo>
                    <a:cubicBezTo>
                      <a:pt x="460" y="71"/>
                      <a:pt x="460" y="72"/>
                      <a:pt x="460" y="72"/>
                    </a:cubicBezTo>
                    <a:close/>
                    <a:moveTo>
                      <a:pt x="460" y="67"/>
                    </a:moveTo>
                    <a:cubicBezTo>
                      <a:pt x="460" y="67"/>
                      <a:pt x="460" y="68"/>
                      <a:pt x="460" y="68"/>
                    </a:cubicBezTo>
                    <a:cubicBezTo>
                      <a:pt x="460" y="65"/>
                      <a:pt x="459" y="61"/>
                      <a:pt x="459" y="58"/>
                    </a:cubicBezTo>
                    <a:cubicBezTo>
                      <a:pt x="460" y="57"/>
                      <a:pt x="460" y="56"/>
                      <a:pt x="461" y="56"/>
                    </a:cubicBezTo>
                    <a:cubicBezTo>
                      <a:pt x="461" y="60"/>
                      <a:pt x="460" y="64"/>
                      <a:pt x="460" y="67"/>
                    </a:cubicBezTo>
                    <a:close/>
                    <a:moveTo>
                      <a:pt x="468" y="123"/>
                    </a:moveTo>
                    <a:cubicBezTo>
                      <a:pt x="467" y="124"/>
                      <a:pt x="466" y="126"/>
                      <a:pt x="466" y="127"/>
                    </a:cubicBezTo>
                    <a:cubicBezTo>
                      <a:pt x="466" y="124"/>
                      <a:pt x="466" y="122"/>
                      <a:pt x="466" y="119"/>
                    </a:cubicBezTo>
                    <a:cubicBezTo>
                      <a:pt x="467" y="116"/>
                      <a:pt x="468" y="112"/>
                      <a:pt x="469" y="109"/>
                    </a:cubicBezTo>
                    <a:cubicBezTo>
                      <a:pt x="469" y="111"/>
                      <a:pt x="469" y="112"/>
                      <a:pt x="469" y="114"/>
                    </a:cubicBezTo>
                    <a:cubicBezTo>
                      <a:pt x="469" y="117"/>
                      <a:pt x="468" y="120"/>
                      <a:pt x="468" y="123"/>
                    </a:cubicBezTo>
                    <a:close/>
                    <a:moveTo>
                      <a:pt x="470" y="110"/>
                    </a:moveTo>
                    <a:cubicBezTo>
                      <a:pt x="470" y="111"/>
                      <a:pt x="470" y="112"/>
                      <a:pt x="470" y="112"/>
                    </a:cubicBezTo>
                    <a:cubicBezTo>
                      <a:pt x="469" y="111"/>
                      <a:pt x="469" y="110"/>
                      <a:pt x="469" y="109"/>
                    </a:cubicBezTo>
                    <a:cubicBezTo>
                      <a:pt x="469" y="107"/>
                      <a:pt x="470" y="105"/>
                      <a:pt x="471" y="102"/>
                    </a:cubicBezTo>
                    <a:cubicBezTo>
                      <a:pt x="470" y="105"/>
                      <a:pt x="470" y="108"/>
                      <a:pt x="470" y="110"/>
                    </a:cubicBezTo>
                    <a:close/>
                    <a:moveTo>
                      <a:pt x="472" y="83"/>
                    </a:moveTo>
                    <a:cubicBezTo>
                      <a:pt x="472" y="83"/>
                      <a:pt x="472" y="84"/>
                      <a:pt x="471" y="85"/>
                    </a:cubicBezTo>
                    <a:cubicBezTo>
                      <a:pt x="470" y="87"/>
                      <a:pt x="470" y="89"/>
                      <a:pt x="469" y="91"/>
                    </a:cubicBezTo>
                    <a:cubicBezTo>
                      <a:pt x="468" y="91"/>
                      <a:pt x="468" y="91"/>
                      <a:pt x="468" y="91"/>
                    </a:cubicBezTo>
                    <a:cubicBezTo>
                      <a:pt x="468" y="91"/>
                      <a:pt x="468" y="91"/>
                      <a:pt x="469" y="91"/>
                    </a:cubicBezTo>
                    <a:cubicBezTo>
                      <a:pt x="468" y="92"/>
                      <a:pt x="467" y="94"/>
                      <a:pt x="466" y="96"/>
                    </a:cubicBezTo>
                    <a:cubicBezTo>
                      <a:pt x="467" y="90"/>
                      <a:pt x="467" y="85"/>
                      <a:pt x="469" y="79"/>
                    </a:cubicBezTo>
                    <a:cubicBezTo>
                      <a:pt x="467" y="85"/>
                      <a:pt x="466" y="90"/>
                      <a:pt x="465" y="95"/>
                    </a:cubicBezTo>
                    <a:cubicBezTo>
                      <a:pt x="465" y="85"/>
                      <a:pt x="465" y="74"/>
                      <a:pt x="465" y="63"/>
                    </a:cubicBezTo>
                    <a:cubicBezTo>
                      <a:pt x="468" y="60"/>
                      <a:pt x="471" y="58"/>
                      <a:pt x="474" y="55"/>
                    </a:cubicBezTo>
                    <a:cubicBezTo>
                      <a:pt x="474" y="62"/>
                      <a:pt x="473" y="72"/>
                      <a:pt x="472" y="83"/>
                    </a:cubicBezTo>
                    <a:close/>
                    <a:moveTo>
                      <a:pt x="478" y="105"/>
                    </a:moveTo>
                    <a:cubicBezTo>
                      <a:pt x="478" y="102"/>
                      <a:pt x="478" y="99"/>
                      <a:pt x="478" y="96"/>
                    </a:cubicBezTo>
                    <a:cubicBezTo>
                      <a:pt x="478" y="97"/>
                      <a:pt x="479" y="99"/>
                      <a:pt x="479" y="100"/>
                    </a:cubicBezTo>
                    <a:cubicBezTo>
                      <a:pt x="479" y="102"/>
                      <a:pt x="479" y="103"/>
                      <a:pt x="478" y="105"/>
                    </a:cubicBezTo>
                    <a:cubicBezTo>
                      <a:pt x="478" y="105"/>
                      <a:pt x="478" y="105"/>
                      <a:pt x="478" y="105"/>
                    </a:cubicBezTo>
                    <a:close/>
                    <a:moveTo>
                      <a:pt x="480" y="130"/>
                    </a:moveTo>
                    <a:cubicBezTo>
                      <a:pt x="480" y="130"/>
                      <a:pt x="479" y="130"/>
                      <a:pt x="479" y="130"/>
                    </a:cubicBezTo>
                    <a:cubicBezTo>
                      <a:pt x="479" y="129"/>
                      <a:pt x="479" y="128"/>
                      <a:pt x="479" y="127"/>
                    </a:cubicBezTo>
                    <a:cubicBezTo>
                      <a:pt x="479" y="128"/>
                      <a:pt x="480" y="128"/>
                      <a:pt x="480" y="129"/>
                    </a:cubicBezTo>
                    <a:cubicBezTo>
                      <a:pt x="480" y="129"/>
                      <a:pt x="480" y="130"/>
                      <a:pt x="480" y="130"/>
                    </a:cubicBezTo>
                    <a:close/>
                    <a:moveTo>
                      <a:pt x="486" y="74"/>
                    </a:moveTo>
                    <a:cubicBezTo>
                      <a:pt x="486" y="73"/>
                      <a:pt x="486" y="71"/>
                      <a:pt x="486" y="70"/>
                    </a:cubicBezTo>
                    <a:cubicBezTo>
                      <a:pt x="487" y="70"/>
                      <a:pt x="487" y="71"/>
                      <a:pt x="487" y="72"/>
                    </a:cubicBezTo>
                    <a:cubicBezTo>
                      <a:pt x="487" y="72"/>
                      <a:pt x="487" y="73"/>
                      <a:pt x="486" y="74"/>
                    </a:cubicBezTo>
                    <a:close/>
                    <a:moveTo>
                      <a:pt x="490" y="139"/>
                    </a:moveTo>
                    <a:cubicBezTo>
                      <a:pt x="490" y="140"/>
                      <a:pt x="490" y="141"/>
                      <a:pt x="490" y="142"/>
                    </a:cubicBezTo>
                    <a:cubicBezTo>
                      <a:pt x="490" y="142"/>
                      <a:pt x="490" y="141"/>
                      <a:pt x="490" y="139"/>
                    </a:cubicBezTo>
                    <a:cubicBezTo>
                      <a:pt x="490" y="138"/>
                      <a:pt x="490" y="137"/>
                      <a:pt x="491" y="136"/>
                    </a:cubicBezTo>
                    <a:cubicBezTo>
                      <a:pt x="491" y="137"/>
                      <a:pt x="491" y="137"/>
                      <a:pt x="491" y="137"/>
                    </a:cubicBezTo>
                    <a:cubicBezTo>
                      <a:pt x="491" y="138"/>
                      <a:pt x="490" y="139"/>
                      <a:pt x="490" y="139"/>
                    </a:cubicBezTo>
                    <a:close/>
                    <a:moveTo>
                      <a:pt x="492" y="122"/>
                    </a:moveTo>
                    <a:cubicBezTo>
                      <a:pt x="492" y="122"/>
                      <a:pt x="492" y="122"/>
                      <a:pt x="492" y="122"/>
                    </a:cubicBezTo>
                    <a:cubicBezTo>
                      <a:pt x="492" y="121"/>
                      <a:pt x="492" y="121"/>
                      <a:pt x="492" y="121"/>
                    </a:cubicBezTo>
                    <a:cubicBezTo>
                      <a:pt x="492" y="121"/>
                      <a:pt x="492" y="122"/>
                      <a:pt x="492" y="122"/>
                    </a:cubicBezTo>
                    <a:close/>
                    <a:moveTo>
                      <a:pt x="493" y="110"/>
                    </a:moveTo>
                    <a:cubicBezTo>
                      <a:pt x="492" y="112"/>
                      <a:pt x="491" y="114"/>
                      <a:pt x="491" y="116"/>
                    </a:cubicBezTo>
                    <a:cubicBezTo>
                      <a:pt x="490" y="116"/>
                      <a:pt x="490" y="117"/>
                      <a:pt x="490" y="117"/>
                    </a:cubicBezTo>
                    <a:cubicBezTo>
                      <a:pt x="490" y="113"/>
                      <a:pt x="489" y="108"/>
                      <a:pt x="489" y="104"/>
                    </a:cubicBezTo>
                    <a:cubicBezTo>
                      <a:pt x="490" y="101"/>
                      <a:pt x="491" y="98"/>
                      <a:pt x="492" y="96"/>
                    </a:cubicBezTo>
                    <a:cubicBezTo>
                      <a:pt x="492" y="95"/>
                      <a:pt x="492" y="95"/>
                      <a:pt x="492" y="95"/>
                    </a:cubicBezTo>
                    <a:cubicBezTo>
                      <a:pt x="492" y="98"/>
                      <a:pt x="493" y="101"/>
                      <a:pt x="493" y="104"/>
                    </a:cubicBezTo>
                    <a:cubicBezTo>
                      <a:pt x="493" y="106"/>
                      <a:pt x="493" y="108"/>
                      <a:pt x="493" y="110"/>
                    </a:cubicBezTo>
                    <a:close/>
                    <a:moveTo>
                      <a:pt x="494" y="99"/>
                    </a:moveTo>
                    <a:cubicBezTo>
                      <a:pt x="493" y="97"/>
                      <a:pt x="493" y="96"/>
                      <a:pt x="492" y="94"/>
                    </a:cubicBezTo>
                    <a:cubicBezTo>
                      <a:pt x="493" y="93"/>
                      <a:pt x="494" y="92"/>
                      <a:pt x="494" y="91"/>
                    </a:cubicBezTo>
                    <a:cubicBezTo>
                      <a:pt x="494" y="94"/>
                      <a:pt x="494" y="96"/>
                      <a:pt x="494" y="99"/>
                    </a:cubicBezTo>
                    <a:close/>
                    <a:moveTo>
                      <a:pt x="488" y="91"/>
                    </a:moveTo>
                    <a:cubicBezTo>
                      <a:pt x="488" y="89"/>
                      <a:pt x="488" y="88"/>
                      <a:pt x="488" y="87"/>
                    </a:cubicBezTo>
                    <a:cubicBezTo>
                      <a:pt x="489" y="83"/>
                      <a:pt x="490" y="80"/>
                      <a:pt x="491" y="76"/>
                    </a:cubicBezTo>
                    <a:cubicBezTo>
                      <a:pt x="493" y="78"/>
                      <a:pt x="494" y="80"/>
                      <a:pt x="495" y="82"/>
                    </a:cubicBezTo>
                    <a:cubicBezTo>
                      <a:pt x="492" y="85"/>
                      <a:pt x="490" y="88"/>
                      <a:pt x="488" y="91"/>
                    </a:cubicBezTo>
                    <a:close/>
                    <a:moveTo>
                      <a:pt x="495" y="79"/>
                    </a:moveTo>
                    <a:cubicBezTo>
                      <a:pt x="494" y="77"/>
                      <a:pt x="493" y="76"/>
                      <a:pt x="492" y="75"/>
                    </a:cubicBezTo>
                    <a:cubicBezTo>
                      <a:pt x="493" y="72"/>
                      <a:pt x="495" y="68"/>
                      <a:pt x="496" y="65"/>
                    </a:cubicBezTo>
                    <a:cubicBezTo>
                      <a:pt x="496" y="68"/>
                      <a:pt x="496" y="73"/>
                      <a:pt x="495" y="79"/>
                    </a:cubicBezTo>
                    <a:close/>
                    <a:moveTo>
                      <a:pt x="514" y="54"/>
                    </a:moveTo>
                    <a:cubicBezTo>
                      <a:pt x="513" y="56"/>
                      <a:pt x="512" y="58"/>
                      <a:pt x="512" y="61"/>
                    </a:cubicBezTo>
                    <a:cubicBezTo>
                      <a:pt x="508" y="65"/>
                      <a:pt x="505" y="69"/>
                      <a:pt x="501" y="74"/>
                    </a:cubicBezTo>
                    <a:cubicBezTo>
                      <a:pt x="504" y="67"/>
                      <a:pt x="509" y="60"/>
                      <a:pt x="514" y="54"/>
                    </a:cubicBezTo>
                    <a:close/>
                    <a:moveTo>
                      <a:pt x="499" y="89"/>
                    </a:moveTo>
                    <a:cubicBezTo>
                      <a:pt x="499" y="90"/>
                      <a:pt x="500" y="91"/>
                      <a:pt x="500" y="92"/>
                    </a:cubicBezTo>
                    <a:cubicBezTo>
                      <a:pt x="500" y="92"/>
                      <a:pt x="500" y="93"/>
                      <a:pt x="499" y="94"/>
                    </a:cubicBezTo>
                    <a:cubicBezTo>
                      <a:pt x="499" y="92"/>
                      <a:pt x="499" y="91"/>
                      <a:pt x="499" y="89"/>
                    </a:cubicBezTo>
                    <a:close/>
                    <a:moveTo>
                      <a:pt x="502" y="127"/>
                    </a:moveTo>
                    <a:cubicBezTo>
                      <a:pt x="501" y="125"/>
                      <a:pt x="501" y="124"/>
                      <a:pt x="500" y="122"/>
                    </a:cubicBezTo>
                    <a:cubicBezTo>
                      <a:pt x="500" y="117"/>
                      <a:pt x="500" y="111"/>
                      <a:pt x="500" y="105"/>
                    </a:cubicBezTo>
                    <a:cubicBezTo>
                      <a:pt x="501" y="104"/>
                      <a:pt x="502" y="102"/>
                      <a:pt x="503" y="101"/>
                    </a:cubicBezTo>
                    <a:cubicBezTo>
                      <a:pt x="502" y="102"/>
                      <a:pt x="501" y="103"/>
                      <a:pt x="500" y="105"/>
                    </a:cubicBezTo>
                    <a:cubicBezTo>
                      <a:pt x="500" y="102"/>
                      <a:pt x="499" y="99"/>
                      <a:pt x="499" y="96"/>
                    </a:cubicBezTo>
                    <a:cubicBezTo>
                      <a:pt x="500" y="95"/>
                      <a:pt x="500" y="94"/>
                      <a:pt x="501" y="93"/>
                    </a:cubicBezTo>
                    <a:cubicBezTo>
                      <a:pt x="502" y="95"/>
                      <a:pt x="503" y="97"/>
                      <a:pt x="503" y="100"/>
                    </a:cubicBezTo>
                    <a:cubicBezTo>
                      <a:pt x="503" y="100"/>
                      <a:pt x="503" y="100"/>
                      <a:pt x="503" y="101"/>
                    </a:cubicBezTo>
                    <a:cubicBezTo>
                      <a:pt x="503" y="101"/>
                      <a:pt x="503" y="100"/>
                      <a:pt x="503" y="100"/>
                    </a:cubicBezTo>
                    <a:cubicBezTo>
                      <a:pt x="504" y="101"/>
                      <a:pt x="504" y="102"/>
                      <a:pt x="505" y="103"/>
                    </a:cubicBezTo>
                    <a:cubicBezTo>
                      <a:pt x="503" y="112"/>
                      <a:pt x="502" y="120"/>
                      <a:pt x="502" y="127"/>
                    </a:cubicBezTo>
                    <a:close/>
                    <a:moveTo>
                      <a:pt x="503" y="87"/>
                    </a:moveTo>
                    <a:cubicBezTo>
                      <a:pt x="503" y="86"/>
                      <a:pt x="504" y="84"/>
                      <a:pt x="505" y="83"/>
                    </a:cubicBezTo>
                    <a:cubicBezTo>
                      <a:pt x="504" y="84"/>
                      <a:pt x="503" y="86"/>
                      <a:pt x="502" y="87"/>
                    </a:cubicBezTo>
                    <a:cubicBezTo>
                      <a:pt x="501" y="86"/>
                      <a:pt x="500" y="85"/>
                      <a:pt x="499" y="83"/>
                    </a:cubicBezTo>
                    <a:cubicBezTo>
                      <a:pt x="503" y="78"/>
                      <a:pt x="507" y="72"/>
                      <a:pt x="511" y="67"/>
                    </a:cubicBezTo>
                    <a:cubicBezTo>
                      <a:pt x="510" y="72"/>
                      <a:pt x="509" y="76"/>
                      <a:pt x="508" y="81"/>
                    </a:cubicBezTo>
                    <a:cubicBezTo>
                      <a:pt x="508" y="80"/>
                      <a:pt x="507" y="79"/>
                      <a:pt x="507" y="79"/>
                    </a:cubicBezTo>
                    <a:cubicBezTo>
                      <a:pt x="507" y="78"/>
                      <a:pt x="508" y="77"/>
                      <a:pt x="509" y="75"/>
                    </a:cubicBezTo>
                    <a:cubicBezTo>
                      <a:pt x="508" y="76"/>
                      <a:pt x="507" y="77"/>
                      <a:pt x="507" y="79"/>
                    </a:cubicBezTo>
                    <a:cubicBezTo>
                      <a:pt x="506" y="78"/>
                      <a:pt x="506" y="77"/>
                      <a:pt x="505" y="77"/>
                    </a:cubicBezTo>
                    <a:cubicBezTo>
                      <a:pt x="506" y="78"/>
                      <a:pt x="506" y="79"/>
                      <a:pt x="506" y="79"/>
                    </a:cubicBezTo>
                    <a:cubicBezTo>
                      <a:pt x="506" y="80"/>
                      <a:pt x="505" y="81"/>
                      <a:pt x="505" y="83"/>
                    </a:cubicBezTo>
                    <a:cubicBezTo>
                      <a:pt x="505" y="82"/>
                      <a:pt x="506" y="81"/>
                      <a:pt x="506" y="80"/>
                    </a:cubicBezTo>
                    <a:cubicBezTo>
                      <a:pt x="507" y="81"/>
                      <a:pt x="507" y="82"/>
                      <a:pt x="508" y="84"/>
                    </a:cubicBezTo>
                    <a:cubicBezTo>
                      <a:pt x="507" y="87"/>
                      <a:pt x="507" y="90"/>
                      <a:pt x="506" y="93"/>
                    </a:cubicBezTo>
                    <a:cubicBezTo>
                      <a:pt x="505" y="91"/>
                      <a:pt x="504" y="89"/>
                      <a:pt x="503" y="87"/>
                    </a:cubicBezTo>
                    <a:close/>
                    <a:moveTo>
                      <a:pt x="508" y="144"/>
                    </a:moveTo>
                    <a:cubicBezTo>
                      <a:pt x="507" y="144"/>
                      <a:pt x="507" y="143"/>
                      <a:pt x="507" y="143"/>
                    </a:cubicBezTo>
                    <a:cubicBezTo>
                      <a:pt x="507" y="140"/>
                      <a:pt x="507" y="136"/>
                      <a:pt x="508" y="131"/>
                    </a:cubicBezTo>
                    <a:cubicBezTo>
                      <a:pt x="509" y="128"/>
                      <a:pt x="509" y="126"/>
                      <a:pt x="509" y="125"/>
                    </a:cubicBezTo>
                    <a:cubicBezTo>
                      <a:pt x="509" y="125"/>
                      <a:pt x="509" y="124"/>
                      <a:pt x="509" y="124"/>
                    </a:cubicBezTo>
                    <a:cubicBezTo>
                      <a:pt x="509" y="124"/>
                      <a:pt x="508" y="124"/>
                      <a:pt x="508" y="124"/>
                    </a:cubicBezTo>
                    <a:cubicBezTo>
                      <a:pt x="508" y="122"/>
                      <a:pt x="508" y="120"/>
                      <a:pt x="509" y="118"/>
                    </a:cubicBezTo>
                    <a:cubicBezTo>
                      <a:pt x="509" y="121"/>
                      <a:pt x="510" y="125"/>
                      <a:pt x="510" y="128"/>
                    </a:cubicBezTo>
                    <a:cubicBezTo>
                      <a:pt x="509" y="136"/>
                      <a:pt x="508" y="141"/>
                      <a:pt x="508" y="144"/>
                    </a:cubicBezTo>
                    <a:close/>
                    <a:moveTo>
                      <a:pt x="514" y="107"/>
                    </a:moveTo>
                    <a:cubicBezTo>
                      <a:pt x="513" y="105"/>
                      <a:pt x="512" y="102"/>
                      <a:pt x="510" y="100"/>
                    </a:cubicBezTo>
                    <a:cubicBezTo>
                      <a:pt x="511" y="97"/>
                      <a:pt x="511" y="95"/>
                      <a:pt x="511" y="93"/>
                    </a:cubicBezTo>
                    <a:cubicBezTo>
                      <a:pt x="512" y="96"/>
                      <a:pt x="514" y="99"/>
                      <a:pt x="515" y="102"/>
                    </a:cubicBezTo>
                    <a:cubicBezTo>
                      <a:pt x="515" y="104"/>
                      <a:pt x="514" y="105"/>
                      <a:pt x="514" y="107"/>
                    </a:cubicBezTo>
                    <a:close/>
                    <a:moveTo>
                      <a:pt x="515" y="159"/>
                    </a:move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5" y="159"/>
                      <a:pt x="515" y="159"/>
                    </a:cubicBezTo>
                    <a:close/>
                    <a:moveTo>
                      <a:pt x="516" y="96"/>
                    </a:moveTo>
                    <a:cubicBezTo>
                      <a:pt x="515" y="93"/>
                      <a:pt x="514" y="91"/>
                      <a:pt x="512" y="88"/>
                    </a:cubicBezTo>
                    <a:cubicBezTo>
                      <a:pt x="515" y="85"/>
                      <a:pt x="517" y="82"/>
                      <a:pt x="518" y="79"/>
                    </a:cubicBezTo>
                    <a:cubicBezTo>
                      <a:pt x="518" y="84"/>
                      <a:pt x="517" y="90"/>
                      <a:pt x="516" y="96"/>
                    </a:cubicBezTo>
                    <a:close/>
                    <a:moveTo>
                      <a:pt x="519" y="75"/>
                    </a:moveTo>
                    <a:cubicBezTo>
                      <a:pt x="517" y="78"/>
                      <a:pt x="514" y="82"/>
                      <a:pt x="512" y="86"/>
                    </a:cubicBezTo>
                    <a:cubicBezTo>
                      <a:pt x="513" y="77"/>
                      <a:pt x="514" y="68"/>
                      <a:pt x="515" y="61"/>
                    </a:cubicBezTo>
                    <a:cubicBezTo>
                      <a:pt x="517" y="58"/>
                      <a:pt x="519" y="55"/>
                      <a:pt x="521" y="53"/>
                    </a:cubicBezTo>
                    <a:cubicBezTo>
                      <a:pt x="521" y="58"/>
                      <a:pt x="520" y="66"/>
                      <a:pt x="519" y="75"/>
                    </a:cubicBezTo>
                    <a:close/>
                    <a:moveTo>
                      <a:pt x="526" y="139"/>
                    </a:moveTo>
                    <a:cubicBezTo>
                      <a:pt x="526" y="139"/>
                      <a:pt x="526" y="139"/>
                      <a:pt x="526" y="139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9"/>
                      <a:pt x="526" y="139"/>
                      <a:pt x="526" y="139"/>
                    </a:cubicBezTo>
                    <a:close/>
                    <a:moveTo>
                      <a:pt x="551" y="137"/>
                    </a:moveTo>
                    <a:cubicBezTo>
                      <a:pt x="551" y="136"/>
                      <a:pt x="550" y="135"/>
                      <a:pt x="550" y="133"/>
                    </a:cubicBezTo>
                    <a:cubicBezTo>
                      <a:pt x="550" y="132"/>
                      <a:pt x="550" y="130"/>
                      <a:pt x="550" y="128"/>
                    </a:cubicBezTo>
                    <a:cubicBezTo>
                      <a:pt x="551" y="131"/>
                      <a:pt x="551" y="133"/>
                      <a:pt x="552" y="135"/>
                    </a:cubicBezTo>
                    <a:cubicBezTo>
                      <a:pt x="552" y="136"/>
                      <a:pt x="552" y="137"/>
                      <a:pt x="551" y="137"/>
                    </a:cubicBezTo>
                    <a:close/>
                    <a:moveTo>
                      <a:pt x="558" y="99"/>
                    </a:moveTo>
                    <a:cubicBezTo>
                      <a:pt x="556" y="95"/>
                      <a:pt x="554" y="92"/>
                      <a:pt x="552" y="90"/>
                    </a:cubicBezTo>
                    <a:cubicBezTo>
                      <a:pt x="554" y="93"/>
                      <a:pt x="556" y="97"/>
                      <a:pt x="557" y="101"/>
                    </a:cubicBezTo>
                    <a:cubicBezTo>
                      <a:pt x="556" y="110"/>
                      <a:pt x="555" y="118"/>
                      <a:pt x="554" y="125"/>
                    </a:cubicBezTo>
                    <a:cubicBezTo>
                      <a:pt x="553" y="122"/>
                      <a:pt x="552" y="119"/>
                      <a:pt x="551" y="116"/>
                    </a:cubicBezTo>
                    <a:cubicBezTo>
                      <a:pt x="551" y="102"/>
                      <a:pt x="552" y="86"/>
                      <a:pt x="553" y="72"/>
                    </a:cubicBezTo>
                    <a:cubicBezTo>
                      <a:pt x="556" y="75"/>
                      <a:pt x="558" y="79"/>
                      <a:pt x="560" y="82"/>
                    </a:cubicBezTo>
                    <a:cubicBezTo>
                      <a:pt x="559" y="88"/>
                      <a:pt x="558" y="93"/>
                      <a:pt x="558" y="99"/>
                    </a:cubicBezTo>
                    <a:close/>
                    <a:moveTo>
                      <a:pt x="561" y="142"/>
                    </a:moveTo>
                    <a:cubicBezTo>
                      <a:pt x="561" y="134"/>
                      <a:pt x="562" y="127"/>
                      <a:pt x="562" y="121"/>
                    </a:cubicBezTo>
                    <a:cubicBezTo>
                      <a:pt x="563" y="123"/>
                      <a:pt x="563" y="125"/>
                      <a:pt x="563" y="127"/>
                    </a:cubicBezTo>
                    <a:cubicBezTo>
                      <a:pt x="562" y="136"/>
                      <a:pt x="561" y="142"/>
                      <a:pt x="561" y="142"/>
                    </a:cubicBezTo>
                    <a:close/>
                    <a:moveTo>
                      <a:pt x="564" y="144"/>
                    </a:moveTo>
                    <a:cubicBezTo>
                      <a:pt x="564" y="142"/>
                      <a:pt x="564" y="140"/>
                      <a:pt x="565" y="137"/>
                    </a:cubicBezTo>
                    <a:cubicBezTo>
                      <a:pt x="565" y="138"/>
                      <a:pt x="565" y="138"/>
                      <a:pt x="565" y="138"/>
                    </a:cubicBezTo>
                    <a:cubicBezTo>
                      <a:pt x="564" y="142"/>
                      <a:pt x="564" y="144"/>
                      <a:pt x="564" y="144"/>
                    </a:cubicBezTo>
                    <a:close/>
                    <a:moveTo>
                      <a:pt x="563" y="110"/>
                    </a:moveTo>
                    <a:cubicBezTo>
                      <a:pt x="563" y="103"/>
                      <a:pt x="564" y="96"/>
                      <a:pt x="564" y="90"/>
                    </a:cubicBezTo>
                    <a:cubicBezTo>
                      <a:pt x="566" y="93"/>
                      <a:pt x="567" y="96"/>
                      <a:pt x="568" y="99"/>
                    </a:cubicBezTo>
                    <a:cubicBezTo>
                      <a:pt x="567" y="105"/>
                      <a:pt x="566" y="111"/>
                      <a:pt x="565" y="116"/>
                    </a:cubicBezTo>
                    <a:cubicBezTo>
                      <a:pt x="564" y="114"/>
                      <a:pt x="564" y="112"/>
                      <a:pt x="563" y="110"/>
                    </a:cubicBezTo>
                    <a:close/>
                    <a:moveTo>
                      <a:pt x="568" y="124"/>
                    </a:moveTo>
                    <a:cubicBezTo>
                      <a:pt x="568" y="123"/>
                      <a:pt x="567" y="122"/>
                      <a:pt x="567" y="121"/>
                    </a:cubicBezTo>
                    <a:cubicBezTo>
                      <a:pt x="568" y="115"/>
                      <a:pt x="568" y="109"/>
                      <a:pt x="569" y="103"/>
                    </a:cubicBezTo>
                    <a:cubicBezTo>
                      <a:pt x="570" y="105"/>
                      <a:pt x="570" y="107"/>
                      <a:pt x="571" y="109"/>
                    </a:cubicBezTo>
                    <a:cubicBezTo>
                      <a:pt x="570" y="114"/>
                      <a:pt x="569" y="119"/>
                      <a:pt x="568" y="124"/>
                    </a:cubicBezTo>
                    <a:close/>
                    <a:moveTo>
                      <a:pt x="574" y="146"/>
                    </a:moveTo>
                    <a:cubicBezTo>
                      <a:pt x="574" y="145"/>
                      <a:pt x="574" y="145"/>
                      <a:pt x="574" y="145"/>
                    </a:cubicBezTo>
                    <a:cubicBezTo>
                      <a:pt x="574" y="144"/>
                      <a:pt x="574" y="143"/>
                      <a:pt x="574" y="142"/>
                    </a:cubicBezTo>
                    <a:cubicBezTo>
                      <a:pt x="574" y="142"/>
                      <a:pt x="574" y="143"/>
                      <a:pt x="574" y="144"/>
                    </a:cubicBezTo>
                    <a:cubicBezTo>
                      <a:pt x="574" y="145"/>
                      <a:pt x="574" y="145"/>
                      <a:pt x="574" y="146"/>
                    </a:cubicBezTo>
                    <a:close/>
                    <a:moveTo>
                      <a:pt x="597" y="118"/>
                    </a:moveTo>
                    <a:cubicBezTo>
                      <a:pt x="596" y="114"/>
                      <a:pt x="595" y="111"/>
                      <a:pt x="593" y="107"/>
                    </a:cubicBezTo>
                    <a:cubicBezTo>
                      <a:pt x="593" y="96"/>
                      <a:pt x="593" y="84"/>
                      <a:pt x="593" y="74"/>
                    </a:cubicBezTo>
                    <a:cubicBezTo>
                      <a:pt x="593" y="70"/>
                      <a:pt x="593" y="67"/>
                      <a:pt x="592" y="65"/>
                    </a:cubicBezTo>
                    <a:cubicBezTo>
                      <a:pt x="593" y="74"/>
                      <a:pt x="597" y="84"/>
                      <a:pt x="600" y="94"/>
                    </a:cubicBezTo>
                    <a:cubicBezTo>
                      <a:pt x="599" y="102"/>
                      <a:pt x="598" y="110"/>
                      <a:pt x="597" y="118"/>
                    </a:cubicBezTo>
                    <a:close/>
                    <a:moveTo>
                      <a:pt x="626" y="124"/>
                    </a:moveTo>
                    <a:cubicBezTo>
                      <a:pt x="626" y="122"/>
                      <a:pt x="625" y="120"/>
                      <a:pt x="625" y="117"/>
                    </a:cubicBezTo>
                    <a:cubicBezTo>
                      <a:pt x="626" y="109"/>
                      <a:pt x="627" y="100"/>
                      <a:pt x="627" y="92"/>
                    </a:cubicBezTo>
                    <a:cubicBezTo>
                      <a:pt x="629" y="96"/>
                      <a:pt x="630" y="100"/>
                      <a:pt x="630" y="104"/>
                    </a:cubicBezTo>
                    <a:cubicBezTo>
                      <a:pt x="629" y="111"/>
                      <a:pt x="627" y="118"/>
                      <a:pt x="626" y="124"/>
                    </a:cubicBezTo>
                    <a:close/>
                    <a:moveTo>
                      <a:pt x="667" y="133"/>
                    </a:moveTo>
                    <a:cubicBezTo>
                      <a:pt x="666" y="130"/>
                      <a:pt x="665" y="126"/>
                      <a:pt x="664" y="122"/>
                    </a:cubicBezTo>
                    <a:cubicBezTo>
                      <a:pt x="664" y="112"/>
                      <a:pt x="665" y="100"/>
                      <a:pt x="665" y="88"/>
                    </a:cubicBezTo>
                    <a:cubicBezTo>
                      <a:pt x="667" y="96"/>
                      <a:pt x="669" y="104"/>
                      <a:pt x="670" y="111"/>
                    </a:cubicBezTo>
                    <a:cubicBezTo>
                      <a:pt x="670" y="117"/>
                      <a:pt x="670" y="117"/>
                      <a:pt x="670" y="117"/>
                    </a:cubicBezTo>
                    <a:cubicBezTo>
                      <a:pt x="668" y="123"/>
                      <a:pt x="667" y="129"/>
                      <a:pt x="667" y="133"/>
                    </a:cubicBezTo>
                    <a:close/>
                    <a:moveTo>
                      <a:pt x="679" y="110"/>
                    </a:moveTo>
                    <a:cubicBezTo>
                      <a:pt x="679" y="113"/>
                      <a:pt x="679" y="116"/>
                      <a:pt x="679" y="119"/>
                    </a:cubicBezTo>
                    <a:cubicBezTo>
                      <a:pt x="678" y="122"/>
                      <a:pt x="678" y="124"/>
                      <a:pt x="677" y="127"/>
                    </a:cubicBezTo>
                    <a:cubicBezTo>
                      <a:pt x="677" y="119"/>
                      <a:pt x="676" y="111"/>
                      <a:pt x="675" y="104"/>
                    </a:cubicBezTo>
                    <a:cubicBezTo>
                      <a:pt x="676" y="98"/>
                      <a:pt x="676" y="91"/>
                      <a:pt x="677" y="86"/>
                    </a:cubicBezTo>
                    <a:cubicBezTo>
                      <a:pt x="679" y="93"/>
                      <a:pt x="679" y="102"/>
                      <a:pt x="679" y="110"/>
                    </a:cubicBezTo>
                    <a:close/>
                    <a:moveTo>
                      <a:pt x="689" y="142"/>
                    </a:moveTo>
                    <a:cubicBezTo>
                      <a:pt x="689" y="142"/>
                      <a:pt x="689" y="141"/>
                      <a:pt x="690" y="138"/>
                    </a:cubicBezTo>
                    <a:cubicBezTo>
                      <a:pt x="691" y="120"/>
                      <a:pt x="690" y="96"/>
                      <a:pt x="689" y="77"/>
                    </a:cubicBezTo>
                    <a:cubicBezTo>
                      <a:pt x="691" y="81"/>
                      <a:pt x="693" y="86"/>
                      <a:pt x="694" y="92"/>
                    </a:cubicBezTo>
                    <a:cubicBezTo>
                      <a:pt x="692" y="108"/>
                      <a:pt x="690" y="129"/>
                      <a:pt x="690" y="138"/>
                    </a:cubicBezTo>
                    <a:cubicBezTo>
                      <a:pt x="690" y="139"/>
                      <a:pt x="689" y="141"/>
                      <a:pt x="689" y="142"/>
                    </a:cubicBezTo>
                    <a:close/>
                    <a:moveTo>
                      <a:pt x="693" y="129"/>
                    </a:moveTo>
                    <a:cubicBezTo>
                      <a:pt x="693" y="119"/>
                      <a:pt x="694" y="107"/>
                      <a:pt x="695" y="97"/>
                    </a:cubicBezTo>
                    <a:cubicBezTo>
                      <a:pt x="695" y="100"/>
                      <a:pt x="695" y="103"/>
                      <a:pt x="695" y="106"/>
                    </a:cubicBezTo>
                    <a:cubicBezTo>
                      <a:pt x="695" y="114"/>
                      <a:pt x="694" y="121"/>
                      <a:pt x="693" y="129"/>
                    </a:cubicBezTo>
                    <a:close/>
                    <a:moveTo>
                      <a:pt x="705" y="125"/>
                    </a:moveTo>
                    <a:cubicBezTo>
                      <a:pt x="705" y="120"/>
                      <a:pt x="705" y="113"/>
                      <a:pt x="705" y="107"/>
                    </a:cubicBezTo>
                    <a:cubicBezTo>
                      <a:pt x="705" y="114"/>
                      <a:pt x="705" y="120"/>
                      <a:pt x="705" y="125"/>
                    </a:cubicBezTo>
                    <a:close/>
                    <a:moveTo>
                      <a:pt x="720" y="112"/>
                    </a:moveTo>
                    <a:cubicBezTo>
                      <a:pt x="720" y="105"/>
                      <a:pt x="720" y="98"/>
                      <a:pt x="719" y="91"/>
                    </a:cubicBezTo>
                    <a:cubicBezTo>
                      <a:pt x="720" y="95"/>
                      <a:pt x="720" y="99"/>
                      <a:pt x="720" y="103"/>
                    </a:cubicBezTo>
                    <a:cubicBezTo>
                      <a:pt x="720" y="106"/>
                      <a:pt x="720" y="109"/>
                      <a:pt x="720" y="112"/>
                    </a:cubicBezTo>
                    <a:close/>
                    <a:moveTo>
                      <a:pt x="730" y="129"/>
                    </a:moveTo>
                    <a:cubicBezTo>
                      <a:pt x="730" y="129"/>
                      <a:pt x="730" y="129"/>
                      <a:pt x="730" y="130"/>
                    </a:cubicBezTo>
                    <a:cubicBezTo>
                      <a:pt x="729" y="132"/>
                      <a:pt x="728" y="134"/>
                      <a:pt x="728" y="137"/>
                    </a:cubicBezTo>
                    <a:cubicBezTo>
                      <a:pt x="728" y="136"/>
                      <a:pt x="728" y="136"/>
                      <a:pt x="728" y="136"/>
                    </a:cubicBezTo>
                    <a:cubicBezTo>
                      <a:pt x="728" y="134"/>
                      <a:pt x="729" y="132"/>
                      <a:pt x="730" y="130"/>
                    </a:cubicBezTo>
                    <a:cubicBezTo>
                      <a:pt x="730" y="129"/>
                      <a:pt x="730" y="129"/>
                      <a:pt x="730" y="129"/>
                    </a:cubicBezTo>
                    <a:cubicBezTo>
                      <a:pt x="730" y="129"/>
                      <a:pt x="730" y="129"/>
                      <a:pt x="730" y="129"/>
                    </a:cubicBezTo>
                    <a:close/>
                    <a:moveTo>
                      <a:pt x="767" y="130"/>
                    </a:moveTo>
                    <a:cubicBezTo>
                      <a:pt x="766" y="132"/>
                      <a:pt x="765" y="134"/>
                      <a:pt x="765" y="136"/>
                    </a:cubicBezTo>
                    <a:cubicBezTo>
                      <a:pt x="764" y="131"/>
                      <a:pt x="764" y="126"/>
                      <a:pt x="764" y="121"/>
                    </a:cubicBezTo>
                    <a:cubicBezTo>
                      <a:pt x="766" y="115"/>
                      <a:pt x="768" y="110"/>
                      <a:pt x="769" y="104"/>
                    </a:cubicBezTo>
                    <a:cubicBezTo>
                      <a:pt x="768" y="114"/>
                      <a:pt x="767" y="123"/>
                      <a:pt x="767" y="130"/>
                    </a:cubicBezTo>
                    <a:close/>
                    <a:moveTo>
                      <a:pt x="782" y="124"/>
                    </a:moveTo>
                    <a:cubicBezTo>
                      <a:pt x="782" y="110"/>
                      <a:pt x="784" y="94"/>
                      <a:pt x="785" y="83"/>
                    </a:cubicBezTo>
                    <a:cubicBezTo>
                      <a:pt x="785" y="87"/>
                      <a:pt x="785" y="91"/>
                      <a:pt x="785" y="95"/>
                    </a:cubicBezTo>
                    <a:cubicBezTo>
                      <a:pt x="785" y="105"/>
                      <a:pt x="784" y="114"/>
                      <a:pt x="782" y="124"/>
                    </a:cubicBezTo>
                    <a:close/>
                    <a:moveTo>
                      <a:pt x="799" y="160"/>
                    </a:move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60"/>
                    </a:cubicBezTo>
                    <a:close/>
                    <a:moveTo>
                      <a:pt x="811" y="116"/>
                    </a:moveTo>
                    <a:cubicBezTo>
                      <a:pt x="810" y="121"/>
                      <a:pt x="808" y="127"/>
                      <a:pt x="806" y="132"/>
                    </a:cubicBezTo>
                    <a:cubicBezTo>
                      <a:pt x="806" y="127"/>
                      <a:pt x="806" y="121"/>
                      <a:pt x="806" y="115"/>
                    </a:cubicBezTo>
                    <a:cubicBezTo>
                      <a:pt x="807" y="110"/>
                      <a:pt x="808" y="104"/>
                      <a:pt x="808" y="98"/>
                    </a:cubicBezTo>
                    <a:cubicBezTo>
                      <a:pt x="808" y="95"/>
                      <a:pt x="807" y="92"/>
                      <a:pt x="807" y="89"/>
                    </a:cubicBezTo>
                    <a:cubicBezTo>
                      <a:pt x="808" y="78"/>
                      <a:pt x="809" y="68"/>
                      <a:pt x="810" y="60"/>
                    </a:cubicBezTo>
                    <a:cubicBezTo>
                      <a:pt x="813" y="68"/>
                      <a:pt x="815" y="78"/>
                      <a:pt x="815" y="87"/>
                    </a:cubicBezTo>
                    <a:cubicBezTo>
                      <a:pt x="814" y="95"/>
                      <a:pt x="813" y="106"/>
                      <a:pt x="811" y="116"/>
                    </a:cubicBezTo>
                    <a:close/>
                    <a:moveTo>
                      <a:pt x="819" y="136"/>
                    </a:moveTo>
                    <a:cubicBezTo>
                      <a:pt x="819" y="137"/>
                      <a:pt x="819" y="138"/>
                      <a:pt x="818" y="139"/>
                    </a:cubicBezTo>
                    <a:cubicBezTo>
                      <a:pt x="818" y="137"/>
                      <a:pt x="818" y="135"/>
                      <a:pt x="818" y="133"/>
                    </a:cubicBezTo>
                    <a:cubicBezTo>
                      <a:pt x="819" y="130"/>
                      <a:pt x="819" y="128"/>
                      <a:pt x="820" y="125"/>
                    </a:cubicBezTo>
                    <a:cubicBezTo>
                      <a:pt x="820" y="129"/>
                      <a:pt x="819" y="133"/>
                      <a:pt x="819" y="136"/>
                    </a:cubicBezTo>
                    <a:close/>
                    <a:moveTo>
                      <a:pt x="835" y="126"/>
                    </a:moveTo>
                    <a:cubicBezTo>
                      <a:pt x="834" y="113"/>
                      <a:pt x="834" y="96"/>
                      <a:pt x="834" y="84"/>
                    </a:cubicBezTo>
                    <a:cubicBezTo>
                      <a:pt x="838" y="90"/>
                      <a:pt x="840" y="100"/>
                      <a:pt x="840" y="104"/>
                    </a:cubicBezTo>
                    <a:cubicBezTo>
                      <a:pt x="840" y="110"/>
                      <a:pt x="838" y="118"/>
                      <a:pt x="835" y="126"/>
                    </a:cubicBezTo>
                    <a:close/>
                    <a:moveTo>
                      <a:pt x="846" y="128"/>
                    </a:moveTo>
                    <a:cubicBezTo>
                      <a:pt x="848" y="113"/>
                      <a:pt x="847" y="91"/>
                      <a:pt x="847" y="76"/>
                    </a:cubicBezTo>
                    <a:cubicBezTo>
                      <a:pt x="849" y="83"/>
                      <a:pt x="851" y="90"/>
                      <a:pt x="851" y="96"/>
                    </a:cubicBezTo>
                    <a:cubicBezTo>
                      <a:pt x="851" y="107"/>
                      <a:pt x="849" y="117"/>
                      <a:pt x="846" y="128"/>
                    </a:cubicBezTo>
                    <a:close/>
                    <a:moveTo>
                      <a:pt x="886" y="112"/>
                    </a:moveTo>
                    <a:cubicBezTo>
                      <a:pt x="886" y="110"/>
                      <a:pt x="886" y="108"/>
                      <a:pt x="886" y="106"/>
                    </a:cubicBezTo>
                    <a:cubicBezTo>
                      <a:pt x="886" y="108"/>
                      <a:pt x="885" y="112"/>
                      <a:pt x="885" y="115"/>
                    </a:cubicBezTo>
                    <a:cubicBezTo>
                      <a:pt x="880" y="131"/>
                      <a:pt x="876" y="144"/>
                      <a:pt x="876" y="144"/>
                    </a:cubicBezTo>
                    <a:cubicBezTo>
                      <a:pt x="877" y="133"/>
                      <a:pt x="881" y="110"/>
                      <a:pt x="886" y="86"/>
                    </a:cubicBezTo>
                    <a:cubicBezTo>
                      <a:pt x="888" y="90"/>
                      <a:pt x="889" y="95"/>
                      <a:pt x="890" y="99"/>
                    </a:cubicBezTo>
                    <a:cubicBezTo>
                      <a:pt x="888" y="103"/>
                      <a:pt x="887" y="108"/>
                      <a:pt x="886" y="112"/>
                    </a:cubicBezTo>
                    <a:close/>
                    <a:moveTo>
                      <a:pt x="899" y="133"/>
                    </a:moveTo>
                    <a:cubicBezTo>
                      <a:pt x="899" y="133"/>
                      <a:pt x="899" y="134"/>
                      <a:pt x="898" y="134"/>
                    </a:cubicBezTo>
                    <a:cubicBezTo>
                      <a:pt x="898" y="134"/>
                      <a:pt x="898" y="134"/>
                      <a:pt x="898" y="134"/>
                    </a:cubicBezTo>
                    <a:cubicBezTo>
                      <a:pt x="898" y="134"/>
                      <a:pt x="899" y="133"/>
                      <a:pt x="899" y="133"/>
                    </a:cubicBezTo>
                    <a:cubicBezTo>
                      <a:pt x="899" y="126"/>
                      <a:pt x="900" y="117"/>
                      <a:pt x="901" y="107"/>
                    </a:cubicBezTo>
                    <a:cubicBezTo>
                      <a:pt x="901" y="110"/>
                      <a:pt x="901" y="114"/>
                      <a:pt x="901" y="117"/>
                    </a:cubicBezTo>
                    <a:cubicBezTo>
                      <a:pt x="900" y="123"/>
                      <a:pt x="899" y="129"/>
                      <a:pt x="899" y="133"/>
                    </a:cubicBezTo>
                    <a:close/>
                    <a:moveTo>
                      <a:pt x="903" y="159"/>
                    </a:move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lose/>
                    <a:moveTo>
                      <a:pt x="944" y="143"/>
                    </a:moveTo>
                    <a:cubicBezTo>
                      <a:pt x="944" y="142"/>
                      <a:pt x="944" y="142"/>
                      <a:pt x="944" y="141"/>
                    </a:cubicBezTo>
                    <a:cubicBezTo>
                      <a:pt x="944" y="135"/>
                      <a:pt x="945" y="127"/>
                      <a:pt x="946" y="117"/>
                    </a:cubicBezTo>
                    <a:cubicBezTo>
                      <a:pt x="946" y="121"/>
                      <a:pt x="946" y="125"/>
                      <a:pt x="946" y="129"/>
                    </a:cubicBezTo>
                    <a:cubicBezTo>
                      <a:pt x="945" y="135"/>
                      <a:pt x="945" y="139"/>
                      <a:pt x="944" y="143"/>
                    </a:cubicBezTo>
                    <a:close/>
                    <a:moveTo>
                      <a:pt x="948" y="117"/>
                    </a:moveTo>
                    <a:cubicBezTo>
                      <a:pt x="947" y="115"/>
                      <a:pt x="947" y="113"/>
                      <a:pt x="946" y="111"/>
                    </a:cubicBezTo>
                    <a:cubicBezTo>
                      <a:pt x="946" y="108"/>
                      <a:pt x="947" y="104"/>
                      <a:pt x="947" y="100"/>
                    </a:cubicBezTo>
                    <a:cubicBezTo>
                      <a:pt x="948" y="103"/>
                      <a:pt x="948" y="106"/>
                      <a:pt x="949" y="108"/>
                    </a:cubicBezTo>
                    <a:cubicBezTo>
                      <a:pt x="948" y="111"/>
                      <a:pt x="948" y="114"/>
                      <a:pt x="948" y="117"/>
                    </a:cubicBezTo>
                    <a:close/>
                    <a:moveTo>
                      <a:pt x="956" y="133"/>
                    </a:moveTo>
                    <a:cubicBezTo>
                      <a:pt x="956" y="133"/>
                      <a:pt x="956" y="133"/>
                      <a:pt x="956" y="133"/>
                    </a:cubicBezTo>
                    <a:cubicBezTo>
                      <a:pt x="957" y="130"/>
                      <a:pt x="957" y="127"/>
                      <a:pt x="957" y="124"/>
                    </a:cubicBezTo>
                    <a:cubicBezTo>
                      <a:pt x="957" y="125"/>
                      <a:pt x="957" y="126"/>
                      <a:pt x="957" y="128"/>
                    </a:cubicBezTo>
                    <a:cubicBezTo>
                      <a:pt x="957" y="130"/>
                      <a:pt x="957" y="131"/>
                      <a:pt x="956" y="133"/>
                    </a:cubicBezTo>
                    <a:close/>
                    <a:moveTo>
                      <a:pt x="993" y="142"/>
                    </a:moveTo>
                    <a:cubicBezTo>
                      <a:pt x="993" y="139"/>
                      <a:pt x="993" y="134"/>
                      <a:pt x="993" y="128"/>
                    </a:cubicBezTo>
                    <a:cubicBezTo>
                      <a:pt x="993" y="130"/>
                      <a:pt x="994" y="132"/>
                      <a:pt x="994" y="133"/>
                    </a:cubicBezTo>
                    <a:cubicBezTo>
                      <a:pt x="993" y="139"/>
                      <a:pt x="993" y="142"/>
                      <a:pt x="993" y="142"/>
                    </a:cubicBezTo>
                    <a:close/>
                    <a:moveTo>
                      <a:pt x="1015" y="135"/>
                    </a:moveTo>
                    <a:cubicBezTo>
                      <a:pt x="1014" y="134"/>
                      <a:pt x="1014" y="134"/>
                      <a:pt x="1014" y="133"/>
                    </a:cubicBezTo>
                    <a:cubicBezTo>
                      <a:pt x="1014" y="121"/>
                      <a:pt x="1014" y="103"/>
                      <a:pt x="1013" y="88"/>
                    </a:cubicBezTo>
                    <a:cubicBezTo>
                      <a:pt x="1015" y="94"/>
                      <a:pt x="1017" y="100"/>
                      <a:pt x="1018" y="106"/>
                    </a:cubicBezTo>
                    <a:cubicBezTo>
                      <a:pt x="1017" y="118"/>
                      <a:pt x="1015" y="128"/>
                      <a:pt x="1015" y="135"/>
                    </a:cubicBezTo>
                    <a:close/>
                    <a:moveTo>
                      <a:pt x="1021" y="145"/>
                    </a:moveTo>
                    <a:cubicBezTo>
                      <a:pt x="1021" y="141"/>
                      <a:pt x="1021" y="136"/>
                      <a:pt x="1022" y="129"/>
                    </a:cubicBezTo>
                    <a:cubicBezTo>
                      <a:pt x="1022" y="133"/>
                      <a:pt x="1022" y="136"/>
                      <a:pt x="1023" y="139"/>
                    </a:cubicBezTo>
                    <a:cubicBezTo>
                      <a:pt x="1022" y="143"/>
                      <a:pt x="1021" y="145"/>
                      <a:pt x="1021" y="145"/>
                    </a:cubicBezTo>
                    <a:close/>
                    <a:moveTo>
                      <a:pt x="1027" y="159"/>
                    </a:moveTo>
                    <a:cubicBezTo>
                      <a:pt x="1027" y="159"/>
                      <a:pt x="1027" y="159"/>
                      <a:pt x="1027" y="159"/>
                    </a:cubicBezTo>
                    <a:cubicBezTo>
                      <a:pt x="1027" y="159"/>
                      <a:pt x="1027" y="158"/>
                      <a:pt x="1027" y="158"/>
                    </a:cubicBezTo>
                    <a:cubicBezTo>
                      <a:pt x="1027" y="159"/>
                      <a:pt x="1028" y="160"/>
                      <a:pt x="1028" y="160"/>
                    </a:cubicBezTo>
                    <a:cubicBezTo>
                      <a:pt x="1028" y="160"/>
                      <a:pt x="1027" y="159"/>
                      <a:pt x="1027" y="159"/>
                    </a:cubicBezTo>
                    <a:close/>
                    <a:moveTo>
                      <a:pt x="1028" y="121"/>
                    </a:moveTo>
                    <a:cubicBezTo>
                      <a:pt x="1026" y="117"/>
                      <a:pt x="1025" y="114"/>
                      <a:pt x="1023" y="110"/>
                    </a:cubicBezTo>
                    <a:cubicBezTo>
                      <a:pt x="1024" y="105"/>
                      <a:pt x="1024" y="99"/>
                      <a:pt x="1025" y="94"/>
                    </a:cubicBezTo>
                    <a:cubicBezTo>
                      <a:pt x="1026" y="100"/>
                      <a:pt x="1027" y="108"/>
                      <a:pt x="1029" y="116"/>
                    </a:cubicBezTo>
                    <a:cubicBezTo>
                      <a:pt x="1029" y="118"/>
                      <a:pt x="1028" y="119"/>
                      <a:pt x="1028" y="121"/>
                    </a:cubicBezTo>
                    <a:close/>
                    <a:moveTo>
                      <a:pt x="1036" y="142"/>
                    </a:moveTo>
                    <a:cubicBezTo>
                      <a:pt x="1035" y="138"/>
                      <a:pt x="1033" y="134"/>
                      <a:pt x="1031" y="129"/>
                    </a:cubicBezTo>
                    <a:cubicBezTo>
                      <a:pt x="1031" y="129"/>
                      <a:pt x="1031" y="128"/>
                      <a:pt x="1032" y="127"/>
                    </a:cubicBezTo>
                    <a:cubicBezTo>
                      <a:pt x="1033" y="132"/>
                      <a:pt x="1035" y="137"/>
                      <a:pt x="1036" y="142"/>
                    </a:cubicBezTo>
                    <a:cubicBezTo>
                      <a:pt x="1039" y="149"/>
                      <a:pt x="1041" y="153"/>
                      <a:pt x="1041" y="155"/>
                    </a:cubicBezTo>
                    <a:cubicBezTo>
                      <a:pt x="1040" y="151"/>
                      <a:pt x="1038" y="147"/>
                      <a:pt x="1036" y="142"/>
                    </a:cubicBezTo>
                    <a:close/>
                    <a:moveTo>
                      <a:pt x="1261" y="88"/>
                    </a:moveTo>
                    <a:cubicBezTo>
                      <a:pt x="1262" y="90"/>
                      <a:pt x="1263" y="93"/>
                      <a:pt x="1263" y="95"/>
                    </a:cubicBezTo>
                    <a:cubicBezTo>
                      <a:pt x="1263" y="94"/>
                      <a:pt x="1262" y="93"/>
                      <a:pt x="1261" y="92"/>
                    </a:cubicBezTo>
                    <a:cubicBezTo>
                      <a:pt x="1261" y="90"/>
                      <a:pt x="1261" y="89"/>
                      <a:pt x="1261" y="88"/>
                    </a:cubicBezTo>
                    <a:close/>
                    <a:moveTo>
                      <a:pt x="1249" y="84"/>
                    </a:moveTo>
                    <a:cubicBezTo>
                      <a:pt x="1252" y="88"/>
                      <a:pt x="1254" y="92"/>
                      <a:pt x="1257" y="96"/>
                    </a:cubicBezTo>
                    <a:cubicBezTo>
                      <a:pt x="1257" y="97"/>
                      <a:pt x="1258" y="99"/>
                      <a:pt x="1258" y="100"/>
                    </a:cubicBezTo>
                    <a:cubicBezTo>
                      <a:pt x="1258" y="104"/>
                      <a:pt x="1257" y="108"/>
                      <a:pt x="1256" y="112"/>
                    </a:cubicBezTo>
                    <a:cubicBezTo>
                      <a:pt x="1254" y="105"/>
                      <a:pt x="1251" y="98"/>
                      <a:pt x="1248" y="92"/>
                    </a:cubicBezTo>
                    <a:cubicBezTo>
                      <a:pt x="1249" y="89"/>
                      <a:pt x="1249" y="86"/>
                      <a:pt x="1249" y="84"/>
                    </a:cubicBezTo>
                    <a:close/>
                    <a:moveTo>
                      <a:pt x="1254" y="111"/>
                    </a:moveTo>
                    <a:cubicBezTo>
                      <a:pt x="1251" y="108"/>
                      <a:pt x="1249" y="105"/>
                      <a:pt x="1247" y="102"/>
                    </a:cubicBezTo>
                    <a:cubicBezTo>
                      <a:pt x="1247" y="99"/>
                      <a:pt x="1248" y="96"/>
                      <a:pt x="1248" y="93"/>
                    </a:cubicBezTo>
                    <a:cubicBezTo>
                      <a:pt x="1250" y="99"/>
                      <a:pt x="1252" y="105"/>
                      <a:pt x="1254" y="111"/>
                    </a:cubicBezTo>
                    <a:close/>
                    <a:moveTo>
                      <a:pt x="1236" y="56"/>
                    </a:moveTo>
                    <a:cubicBezTo>
                      <a:pt x="1241" y="62"/>
                      <a:pt x="1244" y="68"/>
                      <a:pt x="1248" y="74"/>
                    </a:cubicBezTo>
                    <a:cubicBezTo>
                      <a:pt x="1244" y="69"/>
                      <a:pt x="1240" y="64"/>
                      <a:pt x="1236" y="60"/>
                    </a:cubicBezTo>
                    <a:cubicBezTo>
                      <a:pt x="1236" y="59"/>
                      <a:pt x="1236" y="57"/>
                      <a:pt x="1236" y="56"/>
                    </a:cubicBezTo>
                    <a:close/>
                    <a:moveTo>
                      <a:pt x="1235" y="64"/>
                    </a:moveTo>
                    <a:cubicBezTo>
                      <a:pt x="1239" y="69"/>
                      <a:pt x="1243" y="74"/>
                      <a:pt x="1247" y="80"/>
                    </a:cubicBezTo>
                    <a:cubicBezTo>
                      <a:pt x="1246" y="82"/>
                      <a:pt x="1245" y="83"/>
                      <a:pt x="1245" y="85"/>
                    </a:cubicBezTo>
                    <a:cubicBezTo>
                      <a:pt x="1245" y="84"/>
                      <a:pt x="1244" y="83"/>
                      <a:pt x="1244" y="83"/>
                    </a:cubicBezTo>
                    <a:cubicBezTo>
                      <a:pt x="1244" y="83"/>
                      <a:pt x="1245" y="84"/>
                      <a:pt x="1245" y="85"/>
                    </a:cubicBezTo>
                    <a:cubicBezTo>
                      <a:pt x="1244" y="88"/>
                      <a:pt x="1243" y="91"/>
                      <a:pt x="1242" y="94"/>
                    </a:cubicBezTo>
                    <a:cubicBezTo>
                      <a:pt x="1239" y="90"/>
                      <a:pt x="1236" y="85"/>
                      <a:pt x="1233" y="80"/>
                    </a:cubicBezTo>
                    <a:cubicBezTo>
                      <a:pt x="1234" y="75"/>
                      <a:pt x="1235" y="69"/>
                      <a:pt x="1235" y="64"/>
                    </a:cubicBezTo>
                    <a:close/>
                    <a:moveTo>
                      <a:pt x="1226" y="139"/>
                    </a:moveTo>
                    <a:cubicBezTo>
                      <a:pt x="1226" y="120"/>
                      <a:pt x="1229" y="101"/>
                      <a:pt x="1233" y="83"/>
                    </a:cubicBezTo>
                    <a:cubicBezTo>
                      <a:pt x="1235" y="87"/>
                      <a:pt x="1238" y="91"/>
                      <a:pt x="1241" y="95"/>
                    </a:cubicBezTo>
                    <a:cubicBezTo>
                      <a:pt x="1235" y="114"/>
                      <a:pt x="1229" y="133"/>
                      <a:pt x="1227" y="152"/>
                    </a:cubicBezTo>
                    <a:cubicBezTo>
                      <a:pt x="1226" y="148"/>
                      <a:pt x="1226" y="143"/>
                      <a:pt x="1226" y="139"/>
                    </a:cubicBezTo>
                    <a:close/>
                    <a:moveTo>
                      <a:pt x="1245" y="143"/>
                    </a:moveTo>
                    <a:cubicBezTo>
                      <a:pt x="1245" y="142"/>
                      <a:pt x="1244" y="141"/>
                      <a:pt x="1243" y="140"/>
                    </a:cubicBezTo>
                    <a:cubicBezTo>
                      <a:pt x="1244" y="141"/>
                      <a:pt x="1244" y="143"/>
                      <a:pt x="1245" y="144"/>
                    </a:cubicBezTo>
                    <a:cubicBezTo>
                      <a:pt x="1243" y="147"/>
                      <a:pt x="1242" y="149"/>
                      <a:pt x="1241" y="152"/>
                    </a:cubicBezTo>
                    <a:cubicBezTo>
                      <a:pt x="1241" y="146"/>
                      <a:pt x="1242" y="141"/>
                      <a:pt x="1243" y="135"/>
                    </a:cubicBezTo>
                    <a:cubicBezTo>
                      <a:pt x="1244" y="137"/>
                      <a:pt x="1245" y="139"/>
                      <a:pt x="1246" y="142"/>
                    </a:cubicBezTo>
                    <a:cubicBezTo>
                      <a:pt x="1246" y="142"/>
                      <a:pt x="1246" y="142"/>
                      <a:pt x="1245" y="143"/>
                    </a:cubicBezTo>
                    <a:close/>
                    <a:moveTo>
                      <a:pt x="1244" y="127"/>
                    </a:moveTo>
                    <a:cubicBezTo>
                      <a:pt x="1245" y="119"/>
                      <a:pt x="1246" y="111"/>
                      <a:pt x="1247" y="103"/>
                    </a:cubicBezTo>
                    <a:cubicBezTo>
                      <a:pt x="1250" y="107"/>
                      <a:pt x="1253" y="112"/>
                      <a:pt x="1255" y="116"/>
                    </a:cubicBezTo>
                    <a:cubicBezTo>
                      <a:pt x="1254" y="122"/>
                      <a:pt x="1252" y="127"/>
                      <a:pt x="1250" y="133"/>
                    </a:cubicBezTo>
                    <a:cubicBezTo>
                      <a:pt x="1248" y="131"/>
                      <a:pt x="1246" y="128"/>
                      <a:pt x="1244" y="127"/>
                    </a:cubicBezTo>
                    <a:close/>
                    <a:moveTo>
                      <a:pt x="1256" y="140"/>
                    </a:moveTo>
                    <a:cubicBezTo>
                      <a:pt x="1256" y="140"/>
                      <a:pt x="1255" y="140"/>
                      <a:pt x="1255" y="140"/>
                    </a:cubicBezTo>
                    <a:cubicBezTo>
                      <a:pt x="1256" y="135"/>
                      <a:pt x="1257" y="130"/>
                      <a:pt x="1258" y="125"/>
                    </a:cubicBezTo>
                    <a:cubicBezTo>
                      <a:pt x="1258" y="127"/>
                      <a:pt x="1259" y="129"/>
                      <a:pt x="1259" y="130"/>
                    </a:cubicBezTo>
                    <a:cubicBezTo>
                      <a:pt x="1258" y="134"/>
                      <a:pt x="1257" y="137"/>
                      <a:pt x="1256" y="140"/>
                    </a:cubicBezTo>
                    <a:close/>
                    <a:moveTo>
                      <a:pt x="1262" y="122"/>
                    </a:moveTo>
                    <a:cubicBezTo>
                      <a:pt x="1261" y="120"/>
                      <a:pt x="1260" y="119"/>
                      <a:pt x="1259" y="117"/>
                    </a:cubicBezTo>
                    <a:cubicBezTo>
                      <a:pt x="1259" y="114"/>
                      <a:pt x="1260" y="110"/>
                      <a:pt x="1260" y="107"/>
                    </a:cubicBezTo>
                    <a:cubicBezTo>
                      <a:pt x="1261" y="111"/>
                      <a:pt x="1262" y="115"/>
                      <a:pt x="1263" y="120"/>
                    </a:cubicBezTo>
                    <a:cubicBezTo>
                      <a:pt x="1263" y="120"/>
                      <a:pt x="1263" y="121"/>
                      <a:pt x="1262" y="122"/>
                    </a:cubicBezTo>
                    <a:close/>
                    <a:moveTo>
                      <a:pt x="1264" y="151"/>
                    </a:moveTo>
                    <a:cubicBezTo>
                      <a:pt x="1264" y="151"/>
                      <a:pt x="1264" y="151"/>
                      <a:pt x="1264" y="151"/>
                    </a:cubicBezTo>
                    <a:cubicBezTo>
                      <a:pt x="1264" y="150"/>
                      <a:pt x="1264" y="150"/>
                      <a:pt x="1264" y="149"/>
                    </a:cubicBezTo>
                    <a:cubicBezTo>
                      <a:pt x="1264" y="149"/>
                      <a:pt x="1264" y="149"/>
                      <a:pt x="1264" y="149"/>
                    </a:cubicBezTo>
                    <a:cubicBezTo>
                      <a:pt x="1264" y="150"/>
                      <a:pt x="1264" y="150"/>
                      <a:pt x="1264" y="151"/>
                    </a:cubicBezTo>
                    <a:close/>
                    <a:moveTo>
                      <a:pt x="1264" y="118"/>
                    </a:moveTo>
                    <a:cubicBezTo>
                      <a:pt x="1263" y="112"/>
                      <a:pt x="1262" y="107"/>
                      <a:pt x="1261" y="102"/>
                    </a:cubicBezTo>
                    <a:cubicBezTo>
                      <a:pt x="1261" y="102"/>
                      <a:pt x="1261" y="102"/>
                      <a:pt x="1261" y="101"/>
                    </a:cubicBezTo>
                    <a:cubicBezTo>
                      <a:pt x="1263" y="105"/>
                      <a:pt x="1265" y="108"/>
                      <a:pt x="1267" y="112"/>
                    </a:cubicBezTo>
                    <a:cubicBezTo>
                      <a:pt x="1266" y="113"/>
                      <a:pt x="1265" y="115"/>
                      <a:pt x="1265" y="116"/>
                    </a:cubicBezTo>
                    <a:cubicBezTo>
                      <a:pt x="1265" y="117"/>
                      <a:pt x="1264" y="117"/>
                      <a:pt x="1264" y="118"/>
                    </a:cubicBezTo>
                    <a:close/>
                    <a:moveTo>
                      <a:pt x="1267" y="143"/>
                    </a:moveTo>
                    <a:cubicBezTo>
                      <a:pt x="1267" y="143"/>
                      <a:pt x="1266" y="142"/>
                      <a:pt x="1266" y="142"/>
                    </a:cubicBezTo>
                    <a:cubicBezTo>
                      <a:pt x="1267" y="141"/>
                      <a:pt x="1267" y="141"/>
                      <a:pt x="1267" y="140"/>
                    </a:cubicBezTo>
                    <a:cubicBezTo>
                      <a:pt x="1267" y="141"/>
                      <a:pt x="1267" y="141"/>
                      <a:pt x="1267" y="142"/>
                    </a:cubicBezTo>
                    <a:cubicBezTo>
                      <a:pt x="1267" y="142"/>
                      <a:pt x="1267" y="142"/>
                      <a:pt x="1267" y="143"/>
                    </a:cubicBezTo>
                    <a:close/>
                    <a:moveTo>
                      <a:pt x="1272" y="151"/>
                    </a:moveTo>
                    <a:cubicBezTo>
                      <a:pt x="1272" y="151"/>
                      <a:pt x="1272" y="151"/>
                      <a:pt x="1272" y="151"/>
                    </a:cubicBezTo>
                    <a:cubicBezTo>
                      <a:pt x="1272" y="151"/>
                      <a:pt x="1272" y="152"/>
                      <a:pt x="1272" y="152"/>
                    </a:cubicBezTo>
                    <a:cubicBezTo>
                      <a:pt x="1272" y="152"/>
                      <a:pt x="1272" y="152"/>
                      <a:pt x="1272" y="151"/>
                    </a:cubicBezTo>
                    <a:close/>
                    <a:moveTo>
                      <a:pt x="1274" y="126"/>
                    </a:moveTo>
                    <a:cubicBezTo>
                      <a:pt x="1274" y="128"/>
                      <a:pt x="1273" y="129"/>
                      <a:pt x="1272" y="131"/>
                    </a:cubicBezTo>
                    <a:cubicBezTo>
                      <a:pt x="1272" y="129"/>
                      <a:pt x="1272" y="127"/>
                      <a:pt x="1272" y="125"/>
                    </a:cubicBezTo>
                    <a:cubicBezTo>
                      <a:pt x="1272" y="124"/>
                      <a:pt x="1272" y="123"/>
                      <a:pt x="1273" y="122"/>
                    </a:cubicBezTo>
                    <a:cubicBezTo>
                      <a:pt x="1273" y="123"/>
                      <a:pt x="1274" y="124"/>
                      <a:pt x="1274" y="125"/>
                    </a:cubicBezTo>
                    <a:lnTo>
                      <a:pt x="1274" y="126"/>
                    </a:lnTo>
                    <a:close/>
                    <a:moveTo>
                      <a:pt x="1282" y="91"/>
                    </a:moveTo>
                    <a:cubicBezTo>
                      <a:pt x="1282" y="93"/>
                      <a:pt x="1282" y="94"/>
                      <a:pt x="1282" y="96"/>
                    </a:cubicBezTo>
                    <a:cubicBezTo>
                      <a:pt x="1282" y="95"/>
                      <a:pt x="1282" y="94"/>
                      <a:pt x="1281" y="93"/>
                    </a:cubicBezTo>
                    <a:cubicBezTo>
                      <a:pt x="1281" y="93"/>
                      <a:pt x="1282" y="92"/>
                      <a:pt x="1282" y="91"/>
                    </a:cubicBezTo>
                    <a:close/>
                    <a:moveTo>
                      <a:pt x="1280" y="117"/>
                    </a:moveTo>
                    <a:cubicBezTo>
                      <a:pt x="1279" y="113"/>
                      <a:pt x="1278" y="110"/>
                      <a:pt x="1278" y="106"/>
                    </a:cubicBezTo>
                    <a:cubicBezTo>
                      <a:pt x="1278" y="106"/>
                      <a:pt x="1278" y="105"/>
                      <a:pt x="1278" y="104"/>
                    </a:cubicBezTo>
                    <a:cubicBezTo>
                      <a:pt x="1279" y="107"/>
                      <a:pt x="1280" y="111"/>
                      <a:pt x="1281" y="114"/>
                    </a:cubicBezTo>
                    <a:cubicBezTo>
                      <a:pt x="1281" y="115"/>
                      <a:pt x="1280" y="116"/>
                      <a:pt x="1280" y="117"/>
                    </a:cubicBezTo>
                    <a:close/>
                    <a:moveTo>
                      <a:pt x="1283" y="127"/>
                    </a:moveTo>
                    <a:cubicBezTo>
                      <a:pt x="1282" y="127"/>
                      <a:pt x="1282" y="126"/>
                      <a:pt x="1282" y="126"/>
                    </a:cubicBezTo>
                    <a:cubicBezTo>
                      <a:pt x="1282" y="125"/>
                      <a:pt x="1282" y="125"/>
                      <a:pt x="1283" y="124"/>
                    </a:cubicBezTo>
                    <a:cubicBezTo>
                      <a:pt x="1283" y="125"/>
                      <a:pt x="1283" y="126"/>
                      <a:pt x="1283" y="127"/>
                    </a:cubicBezTo>
                    <a:close/>
                    <a:moveTo>
                      <a:pt x="1289" y="141"/>
                    </a:moveTo>
                    <a:cubicBezTo>
                      <a:pt x="1289" y="140"/>
                      <a:pt x="1289" y="140"/>
                      <a:pt x="1289" y="140"/>
                    </a:cubicBezTo>
                    <a:cubicBezTo>
                      <a:pt x="1289" y="139"/>
                      <a:pt x="1289" y="139"/>
                      <a:pt x="1289" y="139"/>
                    </a:cubicBezTo>
                    <a:cubicBezTo>
                      <a:pt x="1289" y="139"/>
                      <a:pt x="1289" y="140"/>
                      <a:pt x="1289" y="141"/>
                    </a:cubicBezTo>
                    <a:close/>
                    <a:moveTo>
                      <a:pt x="1321" y="64"/>
                    </a:moveTo>
                    <a:cubicBezTo>
                      <a:pt x="1322" y="69"/>
                      <a:pt x="1323" y="75"/>
                      <a:pt x="1324" y="80"/>
                    </a:cubicBezTo>
                    <a:cubicBezTo>
                      <a:pt x="1322" y="83"/>
                      <a:pt x="1321" y="85"/>
                      <a:pt x="1319" y="87"/>
                    </a:cubicBezTo>
                    <a:cubicBezTo>
                      <a:pt x="1319" y="86"/>
                      <a:pt x="1318" y="84"/>
                      <a:pt x="1317" y="83"/>
                    </a:cubicBezTo>
                    <a:cubicBezTo>
                      <a:pt x="1318" y="84"/>
                      <a:pt x="1319" y="86"/>
                      <a:pt x="1319" y="87"/>
                    </a:cubicBezTo>
                    <a:cubicBezTo>
                      <a:pt x="1318" y="90"/>
                      <a:pt x="1316" y="92"/>
                      <a:pt x="1315" y="94"/>
                    </a:cubicBezTo>
                    <a:cubicBezTo>
                      <a:pt x="1313" y="89"/>
                      <a:pt x="1312" y="85"/>
                      <a:pt x="1310" y="80"/>
                    </a:cubicBezTo>
                    <a:cubicBezTo>
                      <a:pt x="1314" y="74"/>
                      <a:pt x="1318" y="69"/>
                      <a:pt x="1321" y="64"/>
                    </a:cubicBezTo>
                    <a:close/>
                    <a:moveTo>
                      <a:pt x="1292" y="108"/>
                    </a:moveTo>
                    <a:cubicBezTo>
                      <a:pt x="1293" y="106"/>
                      <a:pt x="1295" y="104"/>
                      <a:pt x="1296" y="101"/>
                    </a:cubicBezTo>
                    <a:cubicBezTo>
                      <a:pt x="1296" y="107"/>
                      <a:pt x="1297" y="112"/>
                      <a:pt x="1298" y="117"/>
                    </a:cubicBezTo>
                    <a:cubicBezTo>
                      <a:pt x="1297" y="119"/>
                      <a:pt x="1295" y="120"/>
                      <a:pt x="1294" y="122"/>
                    </a:cubicBezTo>
                    <a:cubicBezTo>
                      <a:pt x="1294" y="117"/>
                      <a:pt x="1293" y="113"/>
                      <a:pt x="1292" y="108"/>
                    </a:cubicBezTo>
                    <a:close/>
                    <a:moveTo>
                      <a:pt x="1299" y="134"/>
                    </a:moveTo>
                    <a:cubicBezTo>
                      <a:pt x="1298" y="131"/>
                      <a:pt x="1297" y="128"/>
                      <a:pt x="1296" y="126"/>
                    </a:cubicBezTo>
                    <a:cubicBezTo>
                      <a:pt x="1297" y="125"/>
                      <a:pt x="1298" y="123"/>
                      <a:pt x="1298" y="122"/>
                    </a:cubicBezTo>
                    <a:cubicBezTo>
                      <a:pt x="1299" y="124"/>
                      <a:pt x="1299" y="125"/>
                      <a:pt x="1299" y="127"/>
                    </a:cubicBezTo>
                    <a:cubicBezTo>
                      <a:pt x="1299" y="129"/>
                      <a:pt x="1299" y="131"/>
                      <a:pt x="1299" y="134"/>
                    </a:cubicBezTo>
                    <a:close/>
                    <a:moveTo>
                      <a:pt x="1298" y="98"/>
                    </a:moveTo>
                    <a:cubicBezTo>
                      <a:pt x="1298" y="98"/>
                      <a:pt x="1298" y="98"/>
                      <a:pt x="1299" y="97"/>
                    </a:cubicBezTo>
                    <a:cubicBezTo>
                      <a:pt x="1299" y="101"/>
                      <a:pt x="1299" y="105"/>
                      <a:pt x="1299" y="108"/>
                    </a:cubicBezTo>
                    <a:cubicBezTo>
                      <a:pt x="1299" y="105"/>
                      <a:pt x="1298" y="101"/>
                      <a:pt x="1298" y="98"/>
                    </a:cubicBezTo>
                    <a:close/>
                    <a:moveTo>
                      <a:pt x="1298" y="82"/>
                    </a:moveTo>
                    <a:cubicBezTo>
                      <a:pt x="1298" y="78"/>
                      <a:pt x="1298" y="74"/>
                      <a:pt x="1299" y="72"/>
                    </a:cubicBezTo>
                    <a:cubicBezTo>
                      <a:pt x="1301" y="75"/>
                      <a:pt x="1302" y="78"/>
                      <a:pt x="1304" y="80"/>
                    </a:cubicBezTo>
                    <a:cubicBezTo>
                      <a:pt x="1302" y="82"/>
                      <a:pt x="1301" y="84"/>
                      <a:pt x="1299" y="86"/>
                    </a:cubicBezTo>
                    <a:cubicBezTo>
                      <a:pt x="1299" y="85"/>
                      <a:pt x="1298" y="83"/>
                      <a:pt x="1298" y="82"/>
                    </a:cubicBezTo>
                    <a:close/>
                    <a:moveTo>
                      <a:pt x="1302" y="92"/>
                    </a:moveTo>
                    <a:cubicBezTo>
                      <a:pt x="1303" y="90"/>
                      <a:pt x="1305" y="88"/>
                      <a:pt x="1306" y="86"/>
                    </a:cubicBezTo>
                    <a:cubicBezTo>
                      <a:pt x="1307" y="88"/>
                      <a:pt x="1308" y="91"/>
                      <a:pt x="1309" y="93"/>
                    </a:cubicBezTo>
                    <a:cubicBezTo>
                      <a:pt x="1309" y="96"/>
                      <a:pt x="1309" y="99"/>
                      <a:pt x="1310" y="102"/>
                    </a:cubicBezTo>
                    <a:cubicBezTo>
                      <a:pt x="1309" y="104"/>
                      <a:pt x="1308" y="105"/>
                      <a:pt x="1306" y="106"/>
                    </a:cubicBezTo>
                    <a:cubicBezTo>
                      <a:pt x="1305" y="102"/>
                      <a:pt x="1304" y="97"/>
                      <a:pt x="1302" y="92"/>
                    </a:cubicBezTo>
                    <a:close/>
                    <a:moveTo>
                      <a:pt x="1307" y="108"/>
                    </a:moveTo>
                    <a:cubicBezTo>
                      <a:pt x="1308" y="106"/>
                      <a:pt x="1309" y="104"/>
                      <a:pt x="1310" y="103"/>
                    </a:cubicBezTo>
                    <a:cubicBezTo>
                      <a:pt x="1312" y="118"/>
                      <a:pt x="1314" y="133"/>
                      <a:pt x="1316" y="149"/>
                    </a:cubicBezTo>
                    <a:cubicBezTo>
                      <a:pt x="1313" y="137"/>
                      <a:pt x="1311" y="122"/>
                      <a:pt x="1307" y="108"/>
                    </a:cubicBezTo>
                    <a:close/>
                    <a:moveTo>
                      <a:pt x="1315" y="95"/>
                    </a:moveTo>
                    <a:cubicBezTo>
                      <a:pt x="1317" y="93"/>
                      <a:pt x="1318" y="91"/>
                      <a:pt x="1320" y="89"/>
                    </a:cubicBezTo>
                    <a:cubicBezTo>
                      <a:pt x="1326" y="103"/>
                      <a:pt x="1327" y="120"/>
                      <a:pt x="1327" y="136"/>
                    </a:cubicBezTo>
                    <a:cubicBezTo>
                      <a:pt x="1324" y="122"/>
                      <a:pt x="1320" y="109"/>
                      <a:pt x="1315" y="95"/>
                    </a:cubicBezTo>
                    <a:close/>
                    <a:moveTo>
                      <a:pt x="1320" y="89"/>
                    </a:moveTo>
                    <a:cubicBezTo>
                      <a:pt x="1322" y="87"/>
                      <a:pt x="1323" y="85"/>
                      <a:pt x="1324" y="83"/>
                    </a:cubicBezTo>
                    <a:cubicBezTo>
                      <a:pt x="1325" y="90"/>
                      <a:pt x="1327" y="98"/>
                      <a:pt x="1328" y="105"/>
                    </a:cubicBezTo>
                    <a:cubicBezTo>
                      <a:pt x="1325" y="99"/>
                      <a:pt x="1323" y="94"/>
                      <a:pt x="1320" y="89"/>
                    </a:cubicBezTo>
                    <a:close/>
                    <a:moveTo>
                      <a:pt x="1333" y="92"/>
                    </a:moveTo>
                    <a:cubicBezTo>
                      <a:pt x="1331" y="87"/>
                      <a:pt x="1330" y="81"/>
                      <a:pt x="1329" y="74"/>
                    </a:cubicBezTo>
                    <a:cubicBezTo>
                      <a:pt x="1331" y="71"/>
                      <a:pt x="1333" y="68"/>
                      <a:pt x="1334" y="65"/>
                    </a:cubicBezTo>
                    <a:cubicBezTo>
                      <a:pt x="1336" y="69"/>
                      <a:pt x="1339" y="72"/>
                      <a:pt x="1341" y="75"/>
                    </a:cubicBezTo>
                    <a:cubicBezTo>
                      <a:pt x="1341" y="77"/>
                      <a:pt x="1341" y="79"/>
                      <a:pt x="1341" y="81"/>
                    </a:cubicBezTo>
                    <a:cubicBezTo>
                      <a:pt x="1340" y="80"/>
                      <a:pt x="1340" y="80"/>
                      <a:pt x="1339" y="79"/>
                    </a:cubicBezTo>
                    <a:cubicBezTo>
                      <a:pt x="1340" y="80"/>
                      <a:pt x="1340" y="81"/>
                      <a:pt x="1341" y="81"/>
                    </a:cubicBezTo>
                    <a:cubicBezTo>
                      <a:pt x="1340" y="86"/>
                      <a:pt x="1340" y="90"/>
                      <a:pt x="1340" y="91"/>
                    </a:cubicBezTo>
                    <a:cubicBezTo>
                      <a:pt x="1340" y="95"/>
                      <a:pt x="1340" y="100"/>
                      <a:pt x="1341" y="104"/>
                    </a:cubicBezTo>
                    <a:cubicBezTo>
                      <a:pt x="1340" y="101"/>
                      <a:pt x="1340" y="99"/>
                      <a:pt x="1339" y="96"/>
                    </a:cubicBezTo>
                    <a:cubicBezTo>
                      <a:pt x="1340" y="100"/>
                      <a:pt x="1340" y="104"/>
                      <a:pt x="1341" y="108"/>
                    </a:cubicBezTo>
                    <a:cubicBezTo>
                      <a:pt x="1341" y="120"/>
                      <a:pt x="1342" y="132"/>
                      <a:pt x="1342" y="143"/>
                    </a:cubicBezTo>
                    <a:cubicBezTo>
                      <a:pt x="1340" y="126"/>
                      <a:pt x="1337" y="109"/>
                      <a:pt x="1333" y="92"/>
                    </a:cubicBezTo>
                    <a:close/>
                    <a:moveTo>
                      <a:pt x="1356" y="125"/>
                    </a:moveTo>
                    <a:cubicBezTo>
                      <a:pt x="1353" y="116"/>
                      <a:pt x="1351" y="108"/>
                      <a:pt x="1348" y="99"/>
                    </a:cubicBezTo>
                    <a:cubicBezTo>
                      <a:pt x="1346" y="93"/>
                      <a:pt x="1345" y="87"/>
                      <a:pt x="1345" y="82"/>
                    </a:cubicBezTo>
                    <a:cubicBezTo>
                      <a:pt x="1350" y="91"/>
                      <a:pt x="1353" y="100"/>
                      <a:pt x="1356" y="109"/>
                    </a:cubicBezTo>
                    <a:cubicBezTo>
                      <a:pt x="1356" y="114"/>
                      <a:pt x="1356" y="120"/>
                      <a:pt x="1356" y="125"/>
                    </a:cubicBezTo>
                    <a:close/>
                    <a:moveTo>
                      <a:pt x="1356" y="97"/>
                    </a:moveTo>
                    <a:cubicBezTo>
                      <a:pt x="1353" y="90"/>
                      <a:pt x="1349" y="83"/>
                      <a:pt x="1344" y="77"/>
                    </a:cubicBezTo>
                    <a:cubicBezTo>
                      <a:pt x="1344" y="72"/>
                      <a:pt x="1343" y="67"/>
                      <a:pt x="1344" y="63"/>
                    </a:cubicBezTo>
                    <a:cubicBezTo>
                      <a:pt x="1349" y="70"/>
                      <a:pt x="1353" y="77"/>
                      <a:pt x="1357" y="85"/>
                    </a:cubicBezTo>
                    <a:cubicBezTo>
                      <a:pt x="1357" y="89"/>
                      <a:pt x="1357" y="93"/>
                      <a:pt x="1356" y="97"/>
                    </a:cubicBezTo>
                    <a:close/>
                    <a:moveTo>
                      <a:pt x="1366" y="119"/>
                    </a:moveTo>
                    <a:cubicBezTo>
                      <a:pt x="1365" y="110"/>
                      <a:pt x="1363" y="102"/>
                      <a:pt x="1361" y="93"/>
                    </a:cubicBezTo>
                    <a:cubicBezTo>
                      <a:pt x="1363" y="98"/>
                      <a:pt x="1366" y="104"/>
                      <a:pt x="1367" y="109"/>
                    </a:cubicBezTo>
                    <a:cubicBezTo>
                      <a:pt x="1368" y="112"/>
                      <a:pt x="1368" y="114"/>
                      <a:pt x="1369" y="116"/>
                    </a:cubicBezTo>
                    <a:cubicBezTo>
                      <a:pt x="1369" y="120"/>
                      <a:pt x="1369" y="124"/>
                      <a:pt x="1369" y="127"/>
                    </a:cubicBezTo>
                    <a:cubicBezTo>
                      <a:pt x="1368" y="125"/>
                      <a:pt x="1367" y="122"/>
                      <a:pt x="1366" y="119"/>
                    </a:cubicBezTo>
                    <a:close/>
                    <a:moveTo>
                      <a:pt x="1377" y="151"/>
                    </a:moveTo>
                    <a:cubicBezTo>
                      <a:pt x="1377" y="151"/>
                      <a:pt x="1377" y="151"/>
                      <a:pt x="1377" y="151"/>
                    </a:cubicBezTo>
                    <a:cubicBezTo>
                      <a:pt x="1377" y="151"/>
                      <a:pt x="1377" y="150"/>
                      <a:pt x="1377" y="150"/>
                    </a:cubicBezTo>
                    <a:cubicBezTo>
                      <a:pt x="1377" y="150"/>
                      <a:pt x="1377" y="150"/>
                      <a:pt x="1377" y="150"/>
                    </a:cubicBezTo>
                    <a:cubicBezTo>
                      <a:pt x="1377" y="151"/>
                      <a:pt x="1377" y="151"/>
                      <a:pt x="1377" y="151"/>
                    </a:cubicBezTo>
                    <a:close/>
                    <a:moveTo>
                      <a:pt x="1383" y="114"/>
                    </a:moveTo>
                    <a:cubicBezTo>
                      <a:pt x="1381" y="105"/>
                      <a:pt x="1378" y="96"/>
                      <a:pt x="1374" y="88"/>
                    </a:cubicBezTo>
                    <a:cubicBezTo>
                      <a:pt x="1378" y="97"/>
                      <a:pt x="1380" y="110"/>
                      <a:pt x="1382" y="122"/>
                    </a:cubicBezTo>
                    <a:cubicBezTo>
                      <a:pt x="1381" y="127"/>
                      <a:pt x="1380" y="132"/>
                      <a:pt x="1379" y="136"/>
                    </a:cubicBezTo>
                    <a:cubicBezTo>
                      <a:pt x="1378" y="134"/>
                      <a:pt x="1378" y="133"/>
                      <a:pt x="1377" y="131"/>
                    </a:cubicBezTo>
                    <a:cubicBezTo>
                      <a:pt x="1377" y="117"/>
                      <a:pt x="1376" y="102"/>
                      <a:pt x="1374" y="87"/>
                    </a:cubicBezTo>
                    <a:cubicBezTo>
                      <a:pt x="1374" y="87"/>
                      <a:pt x="1374" y="88"/>
                      <a:pt x="1374" y="88"/>
                    </a:cubicBezTo>
                    <a:cubicBezTo>
                      <a:pt x="1374" y="88"/>
                      <a:pt x="1374" y="87"/>
                      <a:pt x="1374" y="87"/>
                    </a:cubicBezTo>
                    <a:cubicBezTo>
                      <a:pt x="1373" y="82"/>
                      <a:pt x="1373" y="78"/>
                      <a:pt x="1372" y="73"/>
                    </a:cubicBezTo>
                    <a:cubicBezTo>
                      <a:pt x="1379" y="81"/>
                      <a:pt x="1383" y="91"/>
                      <a:pt x="1386" y="101"/>
                    </a:cubicBezTo>
                    <a:cubicBezTo>
                      <a:pt x="1385" y="105"/>
                      <a:pt x="1384" y="109"/>
                      <a:pt x="1383" y="114"/>
                    </a:cubicBezTo>
                    <a:close/>
                    <a:moveTo>
                      <a:pt x="1390" y="138"/>
                    </a:moveTo>
                    <a:cubicBezTo>
                      <a:pt x="1389" y="137"/>
                      <a:pt x="1389" y="136"/>
                      <a:pt x="1389" y="135"/>
                    </a:cubicBezTo>
                    <a:cubicBezTo>
                      <a:pt x="1389" y="124"/>
                      <a:pt x="1385" y="112"/>
                      <a:pt x="1386" y="101"/>
                    </a:cubicBezTo>
                    <a:cubicBezTo>
                      <a:pt x="1389" y="110"/>
                      <a:pt x="1391" y="119"/>
                      <a:pt x="1392" y="128"/>
                    </a:cubicBezTo>
                    <a:cubicBezTo>
                      <a:pt x="1391" y="132"/>
                      <a:pt x="1390" y="135"/>
                      <a:pt x="1390" y="138"/>
                    </a:cubicBezTo>
                    <a:close/>
                    <a:moveTo>
                      <a:pt x="1405" y="136"/>
                    </a:moveTo>
                    <a:cubicBezTo>
                      <a:pt x="1405" y="135"/>
                      <a:pt x="1404" y="134"/>
                      <a:pt x="1404" y="133"/>
                    </a:cubicBezTo>
                    <a:cubicBezTo>
                      <a:pt x="1403" y="131"/>
                      <a:pt x="1403" y="129"/>
                      <a:pt x="1402" y="128"/>
                    </a:cubicBezTo>
                    <a:cubicBezTo>
                      <a:pt x="1402" y="127"/>
                      <a:pt x="1402" y="127"/>
                      <a:pt x="1402" y="127"/>
                    </a:cubicBezTo>
                    <a:cubicBezTo>
                      <a:pt x="1403" y="129"/>
                      <a:pt x="1403" y="131"/>
                      <a:pt x="1404" y="133"/>
                    </a:cubicBezTo>
                    <a:cubicBezTo>
                      <a:pt x="1404" y="134"/>
                      <a:pt x="1405" y="135"/>
                      <a:pt x="1405" y="136"/>
                    </a:cubicBezTo>
                    <a:cubicBezTo>
                      <a:pt x="1405" y="136"/>
                      <a:pt x="1405" y="136"/>
                      <a:pt x="1405" y="136"/>
                    </a:cubicBezTo>
                    <a:close/>
                    <a:moveTo>
                      <a:pt x="1406" y="133"/>
                    </a:moveTo>
                    <a:cubicBezTo>
                      <a:pt x="1405" y="129"/>
                      <a:pt x="1404" y="125"/>
                      <a:pt x="1402" y="120"/>
                    </a:cubicBezTo>
                    <a:cubicBezTo>
                      <a:pt x="1402" y="119"/>
                      <a:pt x="1402" y="117"/>
                      <a:pt x="1402" y="115"/>
                    </a:cubicBezTo>
                    <a:cubicBezTo>
                      <a:pt x="1402" y="112"/>
                      <a:pt x="1402" y="109"/>
                      <a:pt x="1403" y="105"/>
                    </a:cubicBezTo>
                    <a:cubicBezTo>
                      <a:pt x="1405" y="112"/>
                      <a:pt x="1406" y="119"/>
                      <a:pt x="1408" y="126"/>
                    </a:cubicBezTo>
                    <a:cubicBezTo>
                      <a:pt x="1407" y="128"/>
                      <a:pt x="1407" y="130"/>
                      <a:pt x="1406" y="133"/>
                    </a:cubicBezTo>
                    <a:close/>
                    <a:moveTo>
                      <a:pt x="1420" y="139"/>
                    </a:moveTo>
                    <a:cubicBezTo>
                      <a:pt x="1420" y="139"/>
                      <a:pt x="1420" y="139"/>
                      <a:pt x="1420" y="139"/>
                    </a:cubicBezTo>
                    <a:cubicBezTo>
                      <a:pt x="1420" y="137"/>
                      <a:pt x="1420" y="135"/>
                      <a:pt x="1420" y="133"/>
                    </a:cubicBezTo>
                    <a:cubicBezTo>
                      <a:pt x="1420" y="134"/>
                      <a:pt x="1420" y="134"/>
                      <a:pt x="1420" y="135"/>
                    </a:cubicBezTo>
                    <a:cubicBezTo>
                      <a:pt x="1420" y="136"/>
                      <a:pt x="1420" y="138"/>
                      <a:pt x="1420" y="139"/>
                    </a:cubicBezTo>
                    <a:close/>
                    <a:moveTo>
                      <a:pt x="1441" y="150"/>
                    </a:moveTo>
                    <a:cubicBezTo>
                      <a:pt x="1440" y="148"/>
                      <a:pt x="1439" y="147"/>
                      <a:pt x="1439" y="146"/>
                    </a:cubicBezTo>
                    <a:cubicBezTo>
                      <a:pt x="1438" y="131"/>
                      <a:pt x="1434" y="116"/>
                      <a:pt x="1432" y="101"/>
                    </a:cubicBezTo>
                    <a:cubicBezTo>
                      <a:pt x="1437" y="115"/>
                      <a:pt x="1439" y="132"/>
                      <a:pt x="1441" y="146"/>
                    </a:cubicBezTo>
                    <a:cubicBezTo>
                      <a:pt x="1441" y="147"/>
                      <a:pt x="1441" y="148"/>
                      <a:pt x="1441" y="150"/>
                    </a:cubicBezTo>
                    <a:close/>
                    <a:moveTo>
                      <a:pt x="1445" y="143"/>
                    </a:moveTo>
                    <a:cubicBezTo>
                      <a:pt x="1445" y="142"/>
                      <a:pt x="1445" y="141"/>
                      <a:pt x="1445" y="140"/>
                    </a:cubicBezTo>
                    <a:cubicBezTo>
                      <a:pt x="1445" y="139"/>
                      <a:pt x="1445" y="139"/>
                      <a:pt x="1445" y="139"/>
                    </a:cubicBezTo>
                    <a:cubicBezTo>
                      <a:pt x="1445" y="140"/>
                      <a:pt x="1445" y="141"/>
                      <a:pt x="1445" y="142"/>
                    </a:cubicBezTo>
                    <a:cubicBezTo>
                      <a:pt x="1445" y="142"/>
                      <a:pt x="1445" y="143"/>
                      <a:pt x="1445" y="143"/>
                    </a:cubicBezTo>
                    <a:close/>
                    <a:moveTo>
                      <a:pt x="1458" y="139"/>
                    </a:moveTo>
                    <a:cubicBezTo>
                      <a:pt x="1457" y="142"/>
                      <a:pt x="1456" y="145"/>
                      <a:pt x="1455" y="147"/>
                    </a:cubicBezTo>
                    <a:cubicBezTo>
                      <a:pt x="1455" y="146"/>
                      <a:pt x="1454" y="145"/>
                      <a:pt x="1454" y="144"/>
                    </a:cubicBezTo>
                    <a:cubicBezTo>
                      <a:pt x="1456" y="132"/>
                      <a:pt x="1456" y="120"/>
                      <a:pt x="1458" y="108"/>
                    </a:cubicBezTo>
                    <a:cubicBezTo>
                      <a:pt x="1460" y="116"/>
                      <a:pt x="1459" y="128"/>
                      <a:pt x="1458" y="139"/>
                    </a:cubicBezTo>
                    <a:close/>
                    <a:moveTo>
                      <a:pt x="1458" y="108"/>
                    </a:moveTo>
                    <a:cubicBezTo>
                      <a:pt x="1459" y="104"/>
                      <a:pt x="1459" y="100"/>
                      <a:pt x="1461" y="97"/>
                    </a:cubicBezTo>
                    <a:cubicBezTo>
                      <a:pt x="1462" y="100"/>
                      <a:pt x="1463" y="103"/>
                      <a:pt x="1464" y="107"/>
                    </a:cubicBezTo>
                    <a:cubicBezTo>
                      <a:pt x="1463" y="112"/>
                      <a:pt x="1463" y="117"/>
                      <a:pt x="1462" y="122"/>
                    </a:cubicBezTo>
                    <a:cubicBezTo>
                      <a:pt x="1460" y="116"/>
                      <a:pt x="1459" y="111"/>
                      <a:pt x="1458" y="108"/>
                    </a:cubicBezTo>
                    <a:close/>
                    <a:moveTo>
                      <a:pt x="1466" y="134"/>
                    </a:moveTo>
                    <a:cubicBezTo>
                      <a:pt x="1465" y="132"/>
                      <a:pt x="1464" y="130"/>
                      <a:pt x="1464" y="128"/>
                    </a:cubicBezTo>
                    <a:cubicBezTo>
                      <a:pt x="1464" y="121"/>
                      <a:pt x="1464" y="114"/>
                      <a:pt x="1464" y="107"/>
                    </a:cubicBezTo>
                    <a:cubicBezTo>
                      <a:pt x="1466" y="113"/>
                      <a:pt x="1467" y="118"/>
                      <a:pt x="1468" y="124"/>
                    </a:cubicBezTo>
                    <a:cubicBezTo>
                      <a:pt x="1467" y="128"/>
                      <a:pt x="1466" y="131"/>
                      <a:pt x="1466" y="134"/>
                    </a:cubicBezTo>
                    <a:close/>
                    <a:moveTo>
                      <a:pt x="1470" y="118"/>
                    </a:moveTo>
                    <a:cubicBezTo>
                      <a:pt x="1468" y="114"/>
                      <a:pt x="1466" y="109"/>
                      <a:pt x="1464" y="105"/>
                    </a:cubicBezTo>
                    <a:cubicBezTo>
                      <a:pt x="1465" y="102"/>
                      <a:pt x="1465" y="99"/>
                      <a:pt x="1466" y="96"/>
                    </a:cubicBezTo>
                    <a:cubicBezTo>
                      <a:pt x="1465" y="99"/>
                      <a:pt x="1465" y="102"/>
                      <a:pt x="1464" y="105"/>
                    </a:cubicBezTo>
                    <a:cubicBezTo>
                      <a:pt x="1463" y="102"/>
                      <a:pt x="1462" y="99"/>
                      <a:pt x="1461" y="96"/>
                    </a:cubicBezTo>
                    <a:cubicBezTo>
                      <a:pt x="1461" y="94"/>
                      <a:pt x="1462" y="91"/>
                      <a:pt x="1463" y="89"/>
                    </a:cubicBezTo>
                    <a:cubicBezTo>
                      <a:pt x="1467" y="95"/>
                      <a:pt x="1470" y="102"/>
                      <a:pt x="1472" y="109"/>
                    </a:cubicBezTo>
                    <a:cubicBezTo>
                      <a:pt x="1472" y="112"/>
                      <a:pt x="1471" y="115"/>
                      <a:pt x="1470" y="118"/>
                    </a:cubicBezTo>
                    <a:close/>
                    <a:moveTo>
                      <a:pt x="1473" y="151"/>
                    </a:moveTo>
                    <a:cubicBezTo>
                      <a:pt x="1473" y="151"/>
                      <a:pt x="1473" y="151"/>
                      <a:pt x="1472" y="151"/>
                    </a:cubicBezTo>
                    <a:cubicBezTo>
                      <a:pt x="1473" y="150"/>
                      <a:pt x="1473" y="148"/>
                      <a:pt x="1473" y="147"/>
                    </a:cubicBezTo>
                    <a:cubicBezTo>
                      <a:pt x="1473" y="147"/>
                      <a:pt x="1473" y="148"/>
                      <a:pt x="1473" y="148"/>
                    </a:cubicBezTo>
                    <a:cubicBezTo>
                      <a:pt x="1473" y="149"/>
                      <a:pt x="1473" y="150"/>
                      <a:pt x="1473" y="151"/>
                    </a:cubicBezTo>
                    <a:close/>
                    <a:moveTo>
                      <a:pt x="1477" y="136"/>
                    </a:moveTo>
                    <a:cubicBezTo>
                      <a:pt x="1476" y="134"/>
                      <a:pt x="1475" y="132"/>
                      <a:pt x="1475" y="130"/>
                    </a:cubicBezTo>
                    <a:cubicBezTo>
                      <a:pt x="1475" y="127"/>
                      <a:pt x="1475" y="123"/>
                      <a:pt x="1476" y="120"/>
                    </a:cubicBezTo>
                    <a:cubicBezTo>
                      <a:pt x="1477" y="123"/>
                      <a:pt x="1478" y="127"/>
                      <a:pt x="1479" y="130"/>
                    </a:cubicBezTo>
                    <a:cubicBezTo>
                      <a:pt x="1478" y="132"/>
                      <a:pt x="1477" y="134"/>
                      <a:pt x="1477" y="136"/>
                    </a:cubicBezTo>
                    <a:close/>
                    <a:moveTo>
                      <a:pt x="1483" y="150"/>
                    </a:moveTo>
                    <a:cubicBezTo>
                      <a:pt x="1483" y="149"/>
                      <a:pt x="1482" y="147"/>
                      <a:pt x="1481" y="146"/>
                    </a:cubicBezTo>
                    <a:cubicBezTo>
                      <a:pt x="1482" y="145"/>
                      <a:pt x="1482" y="145"/>
                      <a:pt x="1482" y="144"/>
                    </a:cubicBezTo>
                    <a:cubicBezTo>
                      <a:pt x="1483" y="146"/>
                      <a:pt x="1483" y="147"/>
                      <a:pt x="1484" y="149"/>
                    </a:cubicBezTo>
                    <a:cubicBezTo>
                      <a:pt x="1484" y="149"/>
                      <a:pt x="1483" y="149"/>
                      <a:pt x="1483" y="150"/>
                    </a:cubicBezTo>
                    <a:close/>
                    <a:moveTo>
                      <a:pt x="1481" y="122"/>
                    </a:moveTo>
                    <a:cubicBezTo>
                      <a:pt x="1480" y="118"/>
                      <a:pt x="1478" y="115"/>
                      <a:pt x="1477" y="111"/>
                    </a:cubicBezTo>
                    <a:cubicBezTo>
                      <a:pt x="1478" y="101"/>
                      <a:pt x="1480" y="90"/>
                      <a:pt x="1484" y="81"/>
                    </a:cubicBezTo>
                    <a:cubicBezTo>
                      <a:pt x="1487" y="86"/>
                      <a:pt x="1490" y="91"/>
                      <a:pt x="1492" y="97"/>
                    </a:cubicBezTo>
                    <a:cubicBezTo>
                      <a:pt x="1490" y="101"/>
                      <a:pt x="1488" y="105"/>
                      <a:pt x="1486" y="109"/>
                    </a:cubicBezTo>
                    <a:cubicBezTo>
                      <a:pt x="1484" y="102"/>
                      <a:pt x="1483" y="96"/>
                      <a:pt x="1481" y="91"/>
                    </a:cubicBezTo>
                    <a:cubicBezTo>
                      <a:pt x="1482" y="99"/>
                      <a:pt x="1483" y="106"/>
                      <a:pt x="1484" y="114"/>
                    </a:cubicBezTo>
                    <a:cubicBezTo>
                      <a:pt x="1483" y="117"/>
                      <a:pt x="1482" y="119"/>
                      <a:pt x="1481" y="122"/>
                    </a:cubicBezTo>
                    <a:close/>
                    <a:moveTo>
                      <a:pt x="1488" y="141"/>
                    </a:moveTo>
                    <a:cubicBezTo>
                      <a:pt x="1487" y="138"/>
                      <a:pt x="1486" y="135"/>
                      <a:pt x="1485" y="131"/>
                    </a:cubicBezTo>
                    <a:cubicBezTo>
                      <a:pt x="1485" y="129"/>
                      <a:pt x="1486" y="127"/>
                      <a:pt x="1486" y="124"/>
                    </a:cubicBezTo>
                    <a:cubicBezTo>
                      <a:pt x="1487" y="130"/>
                      <a:pt x="1488" y="135"/>
                      <a:pt x="1489" y="140"/>
                    </a:cubicBezTo>
                    <a:cubicBezTo>
                      <a:pt x="1489" y="140"/>
                      <a:pt x="1489" y="141"/>
                      <a:pt x="1488" y="141"/>
                    </a:cubicBezTo>
                    <a:close/>
                    <a:moveTo>
                      <a:pt x="1491" y="150"/>
                    </a:moveTo>
                    <a:cubicBezTo>
                      <a:pt x="1491" y="150"/>
                      <a:pt x="1491" y="149"/>
                      <a:pt x="1491" y="149"/>
                    </a:cubicBezTo>
                    <a:cubicBezTo>
                      <a:pt x="1491" y="149"/>
                      <a:pt x="1491" y="149"/>
                      <a:pt x="1491" y="149"/>
                    </a:cubicBezTo>
                    <a:cubicBezTo>
                      <a:pt x="1491" y="149"/>
                      <a:pt x="1491" y="150"/>
                      <a:pt x="1491" y="150"/>
                    </a:cubicBezTo>
                    <a:cubicBezTo>
                      <a:pt x="1491" y="150"/>
                      <a:pt x="1491" y="150"/>
                      <a:pt x="1491" y="150"/>
                    </a:cubicBezTo>
                    <a:close/>
                    <a:moveTo>
                      <a:pt x="1488" y="114"/>
                    </a:moveTo>
                    <a:cubicBezTo>
                      <a:pt x="1489" y="108"/>
                      <a:pt x="1490" y="103"/>
                      <a:pt x="1492" y="97"/>
                    </a:cubicBezTo>
                    <a:cubicBezTo>
                      <a:pt x="1494" y="103"/>
                      <a:pt x="1496" y="110"/>
                      <a:pt x="1498" y="116"/>
                    </a:cubicBezTo>
                    <a:cubicBezTo>
                      <a:pt x="1496" y="121"/>
                      <a:pt x="1495" y="126"/>
                      <a:pt x="1493" y="131"/>
                    </a:cubicBezTo>
                    <a:cubicBezTo>
                      <a:pt x="1491" y="126"/>
                      <a:pt x="1489" y="120"/>
                      <a:pt x="1488" y="114"/>
                    </a:cubicBezTo>
                    <a:close/>
                    <a:moveTo>
                      <a:pt x="1495" y="139"/>
                    </a:moveTo>
                    <a:cubicBezTo>
                      <a:pt x="1497" y="134"/>
                      <a:pt x="1498" y="129"/>
                      <a:pt x="1499" y="124"/>
                    </a:cubicBezTo>
                    <a:cubicBezTo>
                      <a:pt x="1500" y="125"/>
                      <a:pt x="1500" y="126"/>
                      <a:pt x="1500" y="128"/>
                    </a:cubicBezTo>
                    <a:cubicBezTo>
                      <a:pt x="1499" y="132"/>
                      <a:pt x="1497" y="136"/>
                      <a:pt x="1496" y="141"/>
                    </a:cubicBezTo>
                    <a:cubicBezTo>
                      <a:pt x="1496" y="140"/>
                      <a:pt x="1495" y="139"/>
                      <a:pt x="1495" y="139"/>
                    </a:cubicBezTo>
                    <a:close/>
                    <a:moveTo>
                      <a:pt x="1500" y="150"/>
                    </a:moveTo>
                    <a:cubicBezTo>
                      <a:pt x="1500" y="150"/>
                      <a:pt x="1499" y="149"/>
                      <a:pt x="1499" y="149"/>
                    </a:cubicBezTo>
                    <a:cubicBezTo>
                      <a:pt x="1500" y="147"/>
                      <a:pt x="1501" y="144"/>
                      <a:pt x="1502" y="141"/>
                    </a:cubicBezTo>
                    <a:cubicBezTo>
                      <a:pt x="1502" y="143"/>
                      <a:pt x="1503" y="144"/>
                      <a:pt x="1503" y="145"/>
                    </a:cubicBezTo>
                    <a:cubicBezTo>
                      <a:pt x="1502" y="147"/>
                      <a:pt x="1501" y="149"/>
                      <a:pt x="1500" y="150"/>
                    </a:cubicBezTo>
                    <a:close/>
                    <a:moveTo>
                      <a:pt x="1511" y="126"/>
                    </a:moveTo>
                    <a:cubicBezTo>
                      <a:pt x="1510" y="123"/>
                      <a:pt x="1509" y="120"/>
                      <a:pt x="1508" y="117"/>
                    </a:cubicBezTo>
                    <a:cubicBezTo>
                      <a:pt x="1509" y="116"/>
                      <a:pt x="1509" y="115"/>
                      <a:pt x="1509" y="114"/>
                    </a:cubicBezTo>
                    <a:cubicBezTo>
                      <a:pt x="1509" y="116"/>
                      <a:pt x="1510" y="117"/>
                      <a:pt x="1510" y="119"/>
                    </a:cubicBezTo>
                    <a:cubicBezTo>
                      <a:pt x="1511" y="121"/>
                      <a:pt x="1511" y="123"/>
                      <a:pt x="1512" y="125"/>
                    </a:cubicBezTo>
                    <a:cubicBezTo>
                      <a:pt x="1512" y="125"/>
                      <a:pt x="1511" y="125"/>
                      <a:pt x="1511" y="126"/>
                    </a:cubicBezTo>
                    <a:close/>
                    <a:moveTo>
                      <a:pt x="1516" y="142"/>
                    </a:moveTo>
                    <a:cubicBezTo>
                      <a:pt x="1515" y="139"/>
                      <a:pt x="1515" y="136"/>
                      <a:pt x="1514" y="133"/>
                    </a:cubicBezTo>
                    <a:cubicBezTo>
                      <a:pt x="1514" y="133"/>
                      <a:pt x="1514" y="133"/>
                      <a:pt x="1514" y="133"/>
                    </a:cubicBezTo>
                    <a:cubicBezTo>
                      <a:pt x="1515" y="136"/>
                      <a:pt x="1516" y="138"/>
                      <a:pt x="1516" y="141"/>
                    </a:cubicBezTo>
                    <a:cubicBezTo>
                      <a:pt x="1516" y="141"/>
                      <a:pt x="1516" y="141"/>
                      <a:pt x="1516" y="142"/>
                    </a:cubicBezTo>
                    <a:close/>
                    <a:moveTo>
                      <a:pt x="1518" y="148"/>
                    </a:move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lose/>
                    <a:moveTo>
                      <a:pt x="1521" y="141"/>
                    </a:moveTo>
                    <a:cubicBezTo>
                      <a:pt x="1521" y="141"/>
                      <a:pt x="1521" y="141"/>
                      <a:pt x="1521" y="141"/>
                    </a:cubicBezTo>
                    <a:cubicBezTo>
                      <a:pt x="1522" y="137"/>
                      <a:pt x="1523" y="133"/>
                      <a:pt x="1525" y="129"/>
                    </a:cubicBezTo>
                    <a:cubicBezTo>
                      <a:pt x="1525" y="129"/>
                      <a:pt x="1525" y="130"/>
                      <a:pt x="1525" y="131"/>
                    </a:cubicBezTo>
                    <a:cubicBezTo>
                      <a:pt x="1523" y="135"/>
                      <a:pt x="1522" y="138"/>
                      <a:pt x="1521" y="141"/>
                    </a:cubicBezTo>
                    <a:close/>
                    <a:moveTo>
                      <a:pt x="1528" y="122"/>
                    </a:moveTo>
                    <a:cubicBezTo>
                      <a:pt x="1528" y="121"/>
                      <a:pt x="1527" y="120"/>
                      <a:pt x="1527" y="119"/>
                    </a:cubicBezTo>
                    <a:cubicBezTo>
                      <a:pt x="1528" y="117"/>
                      <a:pt x="1528" y="114"/>
                      <a:pt x="1529" y="111"/>
                    </a:cubicBezTo>
                    <a:cubicBezTo>
                      <a:pt x="1530" y="113"/>
                      <a:pt x="1530" y="115"/>
                      <a:pt x="1531" y="117"/>
                    </a:cubicBezTo>
                    <a:cubicBezTo>
                      <a:pt x="1530" y="119"/>
                      <a:pt x="1529" y="121"/>
                      <a:pt x="1528" y="122"/>
                    </a:cubicBezTo>
                    <a:close/>
                    <a:moveTo>
                      <a:pt x="1538" y="147"/>
                    </a:moveTo>
                    <a:cubicBezTo>
                      <a:pt x="1537" y="145"/>
                      <a:pt x="1537" y="144"/>
                      <a:pt x="1536" y="142"/>
                    </a:cubicBezTo>
                    <a:cubicBezTo>
                      <a:pt x="1536" y="140"/>
                      <a:pt x="1535" y="138"/>
                      <a:pt x="1534" y="136"/>
                    </a:cubicBezTo>
                    <a:cubicBezTo>
                      <a:pt x="1534" y="136"/>
                      <a:pt x="1534" y="135"/>
                      <a:pt x="1534" y="134"/>
                    </a:cubicBezTo>
                    <a:cubicBezTo>
                      <a:pt x="1535" y="137"/>
                      <a:pt x="1536" y="139"/>
                      <a:pt x="1536" y="142"/>
                    </a:cubicBezTo>
                    <a:cubicBezTo>
                      <a:pt x="1537" y="143"/>
                      <a:pt x="1537" y="145"/>
                      <a:pt x="1538" y="147"/>
                    </a:cubicBezTo>
                    <a:cubicBezTo>
                      <a:pt x="1538" y="147"/>
                      <a:pt x="1538" y="147"/>
                      <a:pt x="1538" y="147"/>
                    </a:cubicBezTo>
                    <a:close/>
                    <a:moveTo>
                      <a:pt x="1541" y="138"/>
                    </a:moveTo>
                    <a:cubicBezTo>
                      <a:pt x="1539" y="133"/>
                      <a:pt x="1538" y="128"/>
                      <a:pt x="1536" y="124"/>
                    </a:cubicBezTo>
                    <a:cubicBezTo>
                      <a:pt x="1536" y="121"/>
                      <a:pt x="1537" y="118"/>
                      <a:pt x="1537" y="116"/>
                    </a:cubicBezTo>
                    <a:cubicBezTo>
                      <a:pt x="1538" y="123"/>
                      <a:pt x="1540" y="129"/>
                      <a:pt x="1542" y="136"/>
                    </a:cubicBezTo>
                    <a:cubicBezTo>
                      <a:pt x="1542" y="137"/>
                      <a:pt x="1541" y="137"/>
                      <a:pt x="1541" y="138"/>
                    </a:cubicBezTo>
                    <a:close/>
                    <a:moveTo>
                      <a:pt x="1538" y="109"/>
                    </a:moveTo>
                    <a:cubicBezTo>
                      <a:pt x="1539" y="103"/>
                      <a:pt x="1541" y="97"/>
                      <a:pt x="1543" y="91"/>
                    </a:cubicBezTo>
                    <a:cubicBezTo>
                      <a:pt x="1545" y="96"/>
                      <a:pt x="1547" y="101"/>
                      <a:pt x="1549" y="106"/>
                    </a:cubicBezTo>
                    <a:cubicBezTo>
                      <a:pt x="1547" y="112"/>
                      <a:pt x="1546" y="120"/>
                      <a:pt x="1544" y="127"/>
                    </a:cubicBezTo>
                    <a:cubicBezTo>
                      <a:pt x="1542" y="121"/>
                      <a:pt x="1540" y="115"/>
                      <a:pt x="1538" y="109"/>
                    </a:cubicBezTo>
                    <a:close/>
                    <a:moveTo>
                      <a:pt x="1545" y="148"/>
                    </a:move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8"/>
                      <a:pt x="1545" y="148"/>
                    </a:cubicBezTo>
                    <a:close/>
                    <a:moveTo>
                      <a:pt x="1547" y="136"/>
                    </a:moveTo>
                    <a:cubicBezTo>
                      <a:pt x="1549" y="127"/>
                      <a:pt x="1549" y="118"/>
                      <a:pt x="1549" y="109"/>
                    </a:cubicBezTo>
                    <a:cubicBezTo>
                      <a:pt x="1551" y="115"/>
                      <a:pt x="1552" y="121"/>
                      <a:pt x="1553" y="127"/>
                    </a:cubicBezTo>
                    <a:cubicBezTo>
                      <a:pt x="1551" y="131"/>
                      <a:pt x="1550" y="135"/>
                      <a:pt x="1549" y="139"/>
                    </a:cubicBezTo>
                    <a:cubicBezTo>
                      <a:pt x="1548" y="138"/>
                      <a:pt x="1548" y="137"/>
                      <a:pt x="1547" y="136"/>
                    </a:cubicBezTo>
                    <a:close/>
                    <a:moveTo>
                      <a:pt x="1554" y="148"/>
                    </a:moveTo>
                    <a:cubicBezTo>
                      <a:pt x="1553" y="148"/>
                      <a:pt x="1553" y="147"/>
                      <a:pt x="1552" y="146"/>
                    </a:cubicBezTo>
                    <a:cubicBezTo>
                      <a:pt x="1553" y="143"/>
                      <a:pt x="1554" y="140"/>
                      <a:pt x="1554" y="137"/>
                    </a:cubicBezTo>
                    <a:cubicBezTo>
                      <a:pt x="1555" y="140"/>
                      <a:pt x="1555" y="142"/>
                      <a:pt x="1556" y="144"/>
                    </a:cubicBezTo>
                    <a:cubicBezTo>
                      <a:pt x="1555" y="146"/>
                      <a:pt x="1554" y="147"/>
                      <a:pt x="1554" y="148"/>
                    </a:cubicBezTo>
                    <a:close/>
                    <a:moveTo>
                      <a:pt x="1549" y="103"/>
                    </a:moveTo>
                    <a:cubicBezTo>
                      <a:pt x="1549" y="102"/>
                      <a:pt x="1549" y="102"/>
                      <a:pt x="1549" y="102"/>
                    </a:cubicBezTo>
                    <a:cubicBezTo>
                      <a:pt x="1549" y="102"/>
                      <a:pt x="1549" y="103"/>
                      <a:pt x="1549" y="103"/>
                    </a:cubicBezTo>
                    <a:cubicBezTo>
                      <a:pt x="1547" y="98"/>
                      <a:pt x="1545" y="94"/>
                      <a:pt x="1543" y="91"/>
                    </a:cubicBezTo>
                    <a:cubicBezTo>
                      <a:pt x="1544" y="87"/>
                      <a:pt x="1546" y="83"/>
                      <a:pt x="1548" y="80"/>
                    </a:cubicBezTo>
                    <a:cubicBezTo>
                      <a:pt x="1554" y="89"/>
                      <a:pt x="1558" y="99"/>
                      <a:pt x="1560" y="109"/>
                    </a:cubicBezTo>
                    <a:cubicBezTo>
                      <a:pt x="1559" y="112"/>
                      <a:pt x="1557" y="116"/>
                      <a:pt x="1556" y="119"/>
                    </a:cubicBezTo>
                    <a:cubicBezTo>
                      <a:pt x="1554" y="114"/>
                      <a:pt x="1552" y="108"/>
                      <a:pt x="1549" y="103"/>
                    </a:cubicBezTo>
                    <a:close/>
                    <a:moveTo>
                      <a:pt x="1557" y="123"/>
                    </a:moveTo>
                    <a:cubicBezTo>
                      <a:pt x="1558" y="118"/>
                      <a:pt x="1559" y="114"/>
                      <a:pt x="1560" y="110"/>
                    </a:cubicBezTo>
                    <a:cubicBezTo>
                      <a:pt x="1561" y="115"/>
                      <a:pt x="1562" y="120"/>
                      <a:pt x="1563" y="125"/>
                    </a:cubicBezTo>
                    <a:cubicBezTo>
                      <a:pt x="1562" y="128"/>
                      <a:pt x="1561" y="130"/>
                      <a:pt x="1560" y="133"/>
                    </a:cubicBezTo>
                    <a:cubicBezTo>
                      <a:pt x="1559" y="129"/>
                      <a:pt x="1558" y="126"/>
                      <a:pt x="1557" y="123"/>
                    </a:cubicBezTo>
                    <a:close/>
                    <a:moveTo>
                      <a:pt x="1564" y="150"/>
                    </a:moveTo>
                    <a:cubicBezTo>
                      <a:pt x="1564" y="147"/>
                      <a:pt x="1563" y="144"/>
                      <a:pt x="1562" y="140"/>
                    </a:cubicBezTo>
                    <a:cubicBezTo>
                      <a:pt x="1563" y="137"/>
                      <a:pt x="1563" y="135"/>
                      <a:pt x="1563" y="132"/>
                    </a:cubicBezTo>
                    <a:cubicBezTo>
                      <a:pt x="1564" y="137"/>
                      <a:pt x="1564" y="143"/>
                      <a:pt x="1564" y="149"/>
                    </a:cubicBezTo>
                    <a:cubicBezTo>
                      <a:pt x="1564" y="150"/>
                      <a:pt x="1564" y="150"/>
                      <a:pt x="1564" y="150"/>
                    </a:cubicBezTo>
                    <a:close/>
                    <a:moveTo>
                      <a:pt x="1593" y="152"/>
                    </a:moveTo>
                    <a:cubicBezTo>
                      <a:pt x="1593" y="148"/>
                      <a:pt x="1593" y="145"/>
                      <a:pt x="1592" y="141"/>
                    </a:cubicBezTo>
                    <a:cubicBezTo>
                      <a:pt x="1592" y="136"/>
                      <a:pt x="1593" y="131"/>
                      <a:pt x="1593" y="125"/>
                    </a:cubicBezTo>
                    <a:cubicBezTo>
                      <a:pt x="1593" y="134"/>
                      <a:pt x="1593" y="142"/>
                      <a:pt x="1593" y="151"/>
                    </a:cubicBezTo>
                    <a:cubicBezTo>
                      <a:pt x="1593" y="151"/>
                      <a:pt x="1593" y="151"/>
                      <a:pt x="1593" y="152"/>
                    </a:cubicBezTo>
                    <a:close/>
                    <a:moveTo>
                      <a:pt x="1659" y="128"/>
                    </a:moveTo>
                    <a:cubicBezTo>
                      <a:pt x="1659" y="132"/>
                      <a:pt x="1658" y="136"/>
                      <a:pt x="1657" y="140"/>
                    </a:cubicBezTo>
                    <a:cubicBezTo>
                      <a:pt x="1657" y="136"/>
                      <a:pt x="1656" y="133"/>
                      <a:pt x="1655" y="129"/>
                    </a:cubicBezTo>
                    <a:cubicBezTo>
                      <a:pt x="1655" y="126"/>
                      <a:pt x="1655" y="122"/>
                      <a:pt x="1655" y="119"/>
                    </a:cubicBezTo>
                    <a:cubicBezTo>
                      <a:pt x="1655" y="112"/>
                      <a:pt x="1656" y="104"/>
                      <a:pt x="1657" y="97"/>
                    </a:cubicBezTo>
                    <a:cubicBezTo>
                      <a:pt x="1658" y="102"/>
                      <a:pt x="1659" y="107"/>
                      <a:pt x="1659" y="111"/>
                    </a:cubicBezTo>
                    <a:cubicBezTo>
                      <a:pt x="1659" y="122"/>
                      <a:pt x="1659" y="122"/>
                      <a:pt x="1659" y="122"/>
                    </a:cubicBezTo>
                    <a:cubicBezTo>
                      <a:pt x="1659" y="124"/>
                      <a:pt x="1659" y="126"/>
                      <a:pt x="1659" y="128"/>
                    </a:cubicBezTo>
                    <a:close/>
                    <a:moveTo>
                      <a:pt x="1667" y="151"/>
                    </a:move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36"/>
                      <a:pt x="1667" y="123"/>
                      <a:pt x="1666" y="109"/>
                    </a:cubicBezTo>
                    <a:cubicBezTo>
                      <a:pt x="1666" y="104"/>
                      <a:pt x="1667" y="99"/>
                      <a:pt x="1668" y="93"/>
                    </a:cubicBezTo>
                    <a:cubicBezTo>
                      <a:pt x="1669" y="99"/>
                      <a:pt x="1669" y="105"/>
                      <a:pt x="1669" y="110"/>
                    </a:cubicBezTo>
                    <a:cubicBezTo>
                      <a:pt x="1669" y="124"/>
                      <a:pt x="1667" y="138"/>
                      <a:pt x="1667" y="151"/>
                    </a:cubicBezTo>
                    <a:close/>
                    <a:moveTo>
                      <a:pt x="1694" y="110"/>
                    </a:moveTo>
                    <a:cubicBezTo>
                      <a:pt x="1694" y="109"/>
                      <a:pt x="1694" y="107"/>
                      <a:pt x="1694" y="106"/>
                    </a:cubicBezTo>
                    <a:cubicBezTo>
                      <a:pt x="1694" y="110"/>
                      <a:pt x="1695" y="113"/>
                      <a:pt x="1695" y="116"/>
                    </a:cubicBezTo>
                    <a:cubicBezTo>
                      <a:pt x="1694" y="114"/>
                      <a:pt x="1694" y="112"/>
                      <a:pt x="1694" y="110"/>
                    </a:cubicBezTo>
                    <a:close/>
                    <a:moveTo>
                      <a:pt x="1720" y="120"/>
                    </a:moveTo>
                    <a:cubicBezTo>
                      <a:pt x="1718" y="114"/>
                      <a:pt x="1717" y="109"/>
                      <a:pt x="1717" y="104"/>
                    </a:cubicBezTo>
                    <a:cubicBezTo>
                      <a:pt x="1717" y="102"/>
                      <a:pt x="1717" y="98"/>
                      <a:pt x="1719" y="93"/>
                    </a:cubicBezTo>
                    <a:cubicBezTo>
                      <a:pt x="1720" y="100"/>
                      <a:pt x="1720" y="107"/>
                      <a:pt x="1720" y="112"/>
                    </a:cubicBezTo>
                    <a:cubicBezTo>
                      <a:pt x="1720" y="115"/>
                      <a:pt x="1720" y="117"/>
                      <a:pt x="1720" y="120"/>
                    </a:cubicBezTo>
                    <a:close/>
                    <a:moveTo>
                      <a:pt x="1730" y="145"/>
                    </a:moveTo>
                    <a:cubicBezTo>
                      <a:pt x="1730" y="145"/>
                      <a:pt x="1730" y="145"/>
                      <a:pt x="1730" y="144"/>
                    </a:cubicBezTo>
                    <a:cubicBezTo>
                      <a:pt x="1730" y="139"/>
                      <a:pt x="1730" y="134"/>
                      <a:pt x="1730" y="129"/>
                    </a:cubicBezTo>
                    <a:cubicBezTo>
                      <a:pt x="1731" y="132"/>
                      <a:pt x="1731" y="135"/>
                      <a:pt x="1731" y="137"/>
                    </a:cubicBezTo>
                    <a:cubicBezTo>
                      <a:pt x="1731" y="140"/>
                      <a:pt x="1730" y="142"/>
                      <a:pt x="1730" y="145"/>
                    </a:cubicBezTo>
                    <a:close/>
                    <a:moveTo>
                      <a:pt x="1741" y="145"/>
                    </a:moveTo>
                    <a:cubicBezTo>
                      <a:pt x="1741" y="144"/>
                      <a:pt x="1740" y="143"/>
                      <a:pt x="1740" y="143"/>
                    </a:cubicBezTo>
                    <a:cubicBezTo>
                      <a:pt x="1740" y="142"/>
                      <a:pt x="1740" y="141"/>
                      <a:pt x="1740" y="140"/>
                    </a:cubicBezTo>
                    <a:cubicBezTo>
                      <a:pt x="1741" y="141"/>
                      <a:pt x="1741" y="142"/>
                      <a:pt x="1741" y="143"/>
                    </a:cubicBezTo>
                    <a:cubicBezTo>
                      <a:pt x="1741" y="143"/>
                      <a:pt x="1741" y="144"/>
                      <a:pt x="1741" y="145"/>
                    </a:cubicBezTo>
                    <a:close/>
                    <a:moveTo>
                      <a:pt x="1742" y="138"/>
                    </a:moveTo>
                    <a:cubicBezTo>
                      <a:pt x="1742" y="136"/>
                      <a:pt x="1741" y="135"/>
                      <a:pt x="1741" y="133"/>
                    </a:cubicBezTo>
                    <a:cubicBezTo>
                      <a:pt x="1741" y="129"/>
                      <a:pt x="1741" y="124"/>
                      <a:pt x="1741" y="119"/>
                    </a:cubicBezTo>
                    <a:cubicBezTo>
                      <a:pt x="1742" y="124"/>
                      <a:pt x="1743" y="129"/>
                      <a:pt x="1744" y="134"/>
                    </a:cubicBezTo>
                    <a:cubicBezTo>
                      <a:pt x="1743" y="135"/>
                      <a:pt x="1743" y="137"/>
                      <a:pt x="1742" y="138"/>
                    </a:cubicBezTo>
                    <a:close/>
                    <a:moveTo>
                      <a:pt x="1747" y="154"/>
                    </a:moveTo>
                    <a:cubicBezTo>
                      <a:pt x="1747" y="153"/>
                      <a:pt x="1747" y="152"/>
                      <a:pt x="1747" y="151"/>
                    </a:cubicBezTo>
                    <a:cubicBezTo>
                      <a:pt x="1747" y="151"/>
                      <a:pt x="1747" y="150"/>
                      <a:pt x="1747" y="150"/>
                    </a:cubicBezTo>
                    <a:cubicBezTo>
                      <a:pt x="1747" y="151"/>
                      <a:pt x="1747" y="152"/>
                      <a:pt x="1747" y="154"/>
                    </a:cubicBezTo>
                    <a:cubicBezTo>
                      <a:pt x="1747" y="154"/>
                      <a:pt x="1747" y="154"/>
                      <a:pt x="1747" y="154"/>
                    </a:cubicBezTo>
                    <a:close/>
                    <a:moveTo>
                      <a:pt x="1753" y="139"/>
                    </a:moveTo>
                    <a:cubicBezTo>
                      <a:pt x="1752" y="136"/>
                      <a:pt x="1751" y="134"/>
                      <a:pt x="1751" y="132"/>
                    </a:cubicBezTo>
                    <a:cubicBezTo>
                      <a:pt x="1751" y="129"/>
                      <a:pt x="1752" y="127"/>
                      <a:pt x="1753" y="125"/>
                    </a:cubicBezTo>
                    <a:cubicBezTo>
                      <a:pt x="1753" y="128"/>
                      <a:pt x="1754" y="131"/>
                      <a:pt x="1755" y="134"/>
                    </a:cubicBezTo>
                    <a:cubicBezTo>
                      <a:pt x="1754" y="136"/>
                      <a:pt x="1754" y="137"/>
                      <a:pt x="1753" y="139"/>
                    </a:cubicBezTo>
                    <a:close/>
                    <a:moveTo>
                      <a:pt x="1773" y="114"/>
                    </a:moveTo>
                    <a:cubicBezTo>
                      <a:pt x="1772" y="108"/>
                      <a:pt x="1771" y="101"/>
                      <a:pt x="1771" y="95"/>
                    </a:cubicBezTo>
                    <a:cubicBezTo>
                      <a:pt x="1771" y="88"/>
                      <a:pt x="1772" y="81"/>
                      <a:pt x="1773" y="75"/>
                    </a:cubicBezTo>
                    <a:cubicBezTo>
                      <a:pt x="1775" y="81"/>
                      <a:pt x="1775" y="88"/>
                      <a:pt x="1775" y="95"/>
                    </a:cubicBezTo>
                    <a:cubicBezTo>
                      <a:pt x="1775" y="101"/>
                      <a:pt x="1774" y="108"/>
                      <a:pt x="1773" y="114"/>
                    </a:cubicBezTo>
                    <a:close/>
                    <a:moveTo>
                      <a:pt x="1793" y="139"/>
                    </a:moveTo>
                    <a:cubicBezTo>
                      <a:pt x="1793" y="137"/>
                      <a:pt x="1792" y="136"/>
                      <a:pt x="1792" y="134"/>
                    </a:cubicBezTo>
                    <a:cubicBezTo>
                      <a:pt x="1792" y="131"/>
                      <a:pt x="1793" y="128"/>
                      <a:pt x="1794" y="125"/>
                    </a:cubicBezTo>
                    <a:cubicBezTo>
                      <a:pt x="1794" y="127"/>
                      <a:pt x="1795" y="129"/>
                      <a:pt x="1796" y="132"/>
                    </a:cubicBezTo>
                    <a:cubicBezTo>
                      <a:pt x="1795" y="134"/>
                      <a:pt x="1794" y="136"/>
                      <a:pt x="1793" y="139"/>
                    </a:cubicBezTo>
                    <a:close/>
                    <a:moveTo>
                      <a:pt x="1799" y="154"/>
                    </a:moveTo>
                    <a:cubicBezTo>
                      <a:pt x="1799" y="154"/>
                      <a:pt x="1799" y="154"/>
                      <a:pt x="1799" y="154"/>
                    </a:cubicBezTo>
                    <a:cubicBezTo>
                      <a:pt x="1799" y="152"/>
                      <a:pt x="1799" y="151"/>
                      <a:pt x="1800" y="150"/>
                    </a:cubicBezTo>
                    <a:cubicBezTo>
                      <a:pt x="1800" y="150"/>
                      <a:pt x="1800" y="151"/>
                      <a:pt x="1800" y="151"/>
                    </a:cubicBezTo>
                    <a:cubicBezTo>
                      <a:pt x="1799" y="152"/>
                      <a:pt x="1799" y="153"/>
                      <a:pt x="1799" y="154"/>
                    </a:cubicBezTo>
                    <a:close/>
                    <a:moveTo>
                      <a:pt x="1805" y="119"/>
                    </a:move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19"/>
                    </a:cubicBezTo>
                    <a:close/>
                    <a:moveTo>
                      <a:pt x="1804" y="138"/>
                    </a:moveTo>
                    <a:cubicBezTo>
                      <a:pt x="1804" y="137"/>
                      <a:pt x="1803" y="135"/>
                      <a:pt x="1803" y="134"/>
                    </a:cubicBezTo>
                    <a:cubicBezTo>
                      <a:pt x="1803" y="134"/>
                      <a:pt x="1803" y="134"/>
                      <a:pt x="1803" y="133"/>
                    </a:cubicBezTo>
                    <a:cubicBezTo>
                      <a:pt x="1803" y="134"/>
                      <a:pt x="1804" y="135"/>
                      <a:pt x="1804" y="137"/>
                    </a:cubicBezTo>
                    <a:cubicBezTo>
                      <a:pt x="1804" y="137"/>
                      <a:pt x="1804" y="138"/>
                      <a:pt x="1804" y="138"/>
                    </a:cubicBezTo>
                    <a:close/>
                    <a:moveTo>
                      <a:pt x="1803" y="133"/>
                    </a:moveTo>
                    <a:cubicBezTo>
                      <a:pt x="1803" y="132"/>
                      <a:pt x="1803" y="131"/>
                      <a:pt x="1803" y="130"/>
                    </a:cubicBezTo>
                    <a:cubicBezTo>
                      <a:pt x="1804" y="131"/>
                      <a:pt x="1805" y="133"/>
                      <a:pt x="1805" y="134"/>
                    </a:cubicBezTo>
                    <a:cubicBezTo>
                      <a:pt x="1805" y="135"/>
                      <a:pt x="1805" y="135"/>
                      <a:pt x="1805" y="136"/>
                    </a:cubicBezTo>
                    <a:cubicBezTo>
                      <a:pt x="1804" y="134"/>
                      <a:pt x="1803" y="133"/>
                      <a:pt x="1803" y="133"/>
                    </a:cubicBezTo>
                    <a:close/>
                    <a:moveTo>
                      <a:pt x="1806" y="145"/>
                    </a:moveTo>
                    <a:cubicBezTo>
                      <a:pt x="1805" y="144"/>
                      <a:pt x="1805" y="143"/>
                      <a:pt x="1805" y="143"/>
                    </a:cubicBezTo>
                    <a:cubicBezTo>
                      <a:pt x="1805" y="142"/>
                      <a:pt x="1806" y="141"/>
                      <a:pt x="1806" y="140"/>
                    </a:cubicBezTo>
                    <a:cubicBezTo>
                      <a:pt x="1806" y="140"/>
                      <a:pt x="1806" y="140"/>
                      <a:pt x="1806" y="140"/>
                    </a:cubicBezTo>
                    <a:cubicBezTo>
                      <a:pt x="1806" y="141"/>
                      <a:pt x="1806" y="142"/>
                      <a:pt x="1806" y="143"/>
                    </a:cubicBezTo>
                    <a:cubicBezTo>
                      <a:pt x="1806" y="143"/>
                      <a:pt x="1806" y="144"/>
                      <a:pt x="1806" y="145"/>
                    </a:cubicBezTo>
                    <a:close/>
                    <a:moveTo>
                      <a:pt x="1816" y="134"/>
                    </a:moveTo>
                    <a:cubicBezTo>
                      <a:pt x="1816" y="134"/>
                      <a:pt x="1816" y="133"/>
                      <a:pt x="1816" y="133"/>
                    </a:cubicBezTo>
                    <a:cubicBezTo>
                      <a:pt x="1816" y="132"/>
                      <a:pt x="1816" y="130"/>
                      <a:pt x="1816" y="129"/>
                    </a:cubicBezTo>
                    <a:cubicBezTo>
                      <a:pt x="1816" y="130"/>
                      <a:pt x="1816" y="132"/>
                      <a:pt x="1816" y="134"/>
                    </a:cubicBezTo>
                    <a:close/>
                    <a:moveTo>
                      <a:pt x="1826" y="120"/>
                    </a:moveTo>
                    <a:cubicBezTo>
                      <a:pt x="1826" y="117"/>
                      <a:pt x="1826" y="115"/>
                      <a:pt x="1826" y="112"/>
                    </a:cubicBezTo>
                    <a:cubicBezTo>
                      <a:pt x="1826" y="111"/>
                      <a:pt x="1826" y="111"/>
                      <a:pt x="1826" y="110"/>
                    </a:cubicBezTo>
                    <a:cubicBezTo>
                      <a:pt x="1826" y="113"/>
                      <a:pt x="1826" y="116"/>
                      <a:pt x="1827" y="119"/>
                    </a:cubicBezTo>
                    <a:cubicBezTo>
                      <a:pt x="1827" y="119"/>
                      <a:pt x="1826" y="120"/>
                      <a:pt x="1826" y="120"/>
                    </a:cubicBezTo>
                    <a:close/>
                    <a:moveTo>
                      <a:pt x="1828" y="115"/>
                    </a:moveTo>
                    <a:cubicBezTo>
                      <a:pt x="1827" y="112"/>
                      <a:pt x="1827" y="108"/>
                      <a:pt x="1826" y="104"/>
                    </a:cubicBezTo>
                    <a:cubicBezTo>
                      <a:pt x="1827" y="101"/>
                      <a:pt x="1827" y="97"/>
                      <a:pt x="1828" y="93"/>
                    </a:cubicBezTo>
                    <a:cubicBezTo>
                      <a:pt x="1829" y="98"/>
                      <a:pt x="1829" y="102"/>
                      <a:pt x="1829" y="104"/>
                    </a:cubicBezTo>
                    <a:cubicBezTo>
                      <a:pt x="1829" y="108"/>
                      <a:pt x="1829" y="111"/>
                      <a:pt x="1828" y="115"/>
                    </a:cubicBezTo>
                    <a:close/>
                    <a:moveTo>
                      <a:pt x="1833" y="102"/>
                    </a:moveTo>
                    <a:cubicBezTo>
                      <a:pt x="1833" y="102"/>
                      <a:pt x="1833" y="102"/>
                      <a:pt x="1832" y="103"/>
                    </a:cubicBezTo>
                    <a:cubicBezTo>
                      <a:pt x="1832" y="99"/>
                      <a:pt x="1831" y="94"/>
                      <a:pt x="1828" y="90"/>
                    </a:cubicBezTo>
                    <a:cubicBezTo>
                      <a:pt x="1830" y="84"/>
                      <a:pt x="1832" y="78"/>
                      <a:pt x="1834" y="73"/>
                    </a:cubicBezTo>
                    <a:cubicBezTo>
                      <a:pt x="1833" y="83"/>
                      <a:pt x="1833" y="93"/>
                      <a:pt x="1833" y="102"/>
                    </a:cubicBezTo>
                    <a:close/>
                    <a:moveTo>
                      <a:pt x="1839" y="111"/>
                    </a:moveTo>
                    <a:cubicBezTo>
                      <a:pt x="1839" y="111"/>
                      <a:pt x="1839" y="111"/>
                      <a:pt x="1839" y="111"/>
                    </a:cubicBezTo>
                    <a:cubicBezTo>
                      <a:pt x="1839" y="114"/>
                      <a:pt x="1838" y="116"/>
                      <a:pt x="1838" y="119"/>
                    </a:cubicBezTo>
                    <a:cubicBezTo>
                      <a:pt x="1837" y="114"/>
                      <a:pt x="1837" y="108"/>
                      <a:pt x="1837" y="103"/>
                    </a:cubicBezTo>
                    <a:cubicBezTo>
                      <a:pt x="1837" y="97"/>
                      <a:pt x="1837" y="91"/>
                      <a:pt x="1839" y="85"/>
                    </a:cubicBezTo>
                    <a:cubicBezTo>
                      <a:pt x="1838" y="87"/>
                      <a:pt x="1837" y="89"/>
                      <a:pt x="1836" y="92"/>
                    </a:cubicBezTo>
                    <a:cubicBezTo>
                      <a:pt x="1836" y="87"/>
                      <a:pt x="1836" y="82"/>
                      <a:pt x="1837" y="77"/>
                    </a:cubicBezTo>
                    <a:cubicBezTo>
                      <a:pt x="1839" y="83"/>
                      <a:pt x="1840" y="90"/>
                      <a:pt x="1840" y="96"/>
                    </a:cubicBezTo>
                    <a:cubicBezTo>
                      <a:pt x="1840" y="101"/>
                      <a:pt x="1840" y="106"/>
                      <a:pt x="1839" y="111"/>
                    </a:cubicBezTo>
                    <a:close/>
                    <a:moveTo>
                      <a:pt x="1845" y="127"/>
                    </a:moveTo>
                    <a:cubicBezTo>
                      <a:pt x="1844" y="132"/>
                      <a:pt x="1844" y="134"/>
                      <a:pt x="1844" y="134"/>
                    </a:cubicBezTo>
                    <a:cubicBezTo>
                      <a:pt x="1844" y="129"/>
                      <a:pt x="1845" y="125"/>
                      <a:pt x="1845" y="120"/>
                    </a:cubicBezTo>
                    <a:cubicBezTo>
                      <a:pt x="1845" y="123"/>
                      <a:pt x="1845" y="125"/>
                      <a:pt x="1845" y="127"/>
                    </a:cubicBezTo>
                    <a:close/>
                    <a:moveTo>
                      <a:pt x="1877" y="92"/>
                    </a:moveTo>
                    <a:cubicBezTo>
                      <a:pt x="1877" y="91"/>
                      <a:pt x="1877" y="90"/>
                      <a:pt x="1877" y="89"/>
                    </a:cubicBezTo>
                    <a:cubicBezTo>
                      <a:pt x="1877" y="89"/>
                      <a:pt x="1877" y="90"/>
                      <a:pt x="1877" y="91"/>
                    </a:cubicBezTo>
                    <a:cubicBezTo>
                      <a:pt x="1877" y="91"/>
                      <a:pt x="1877" y="92"/>
                      <a:pt x="1877" y="92"/>
                    </a:cubicBezTo>
                    <a:close/>
                    <a:moveTo>
                      <a:pt x="1880" y="130"/>
                    </a:moveTo>
                    <a:cubicBezTo>
                      <a:pt x="1879" y="132"/>
                      <a:pt x="1879" y="134"/>
                      <a:pt x="1879" y="136"/>
                    </a:cubicBezTo>
                    <a:cubicBezTo>
                      <a:pt x="1878" y="127"/>
                      <a:pt x="1877" y="119"/>
                      <a:pt x="1877" y="110"/>
                    </a:cubicBezTo>
                    <a:cubicBezTo>
                      <a:pt x="1877" y="105"/>
                      <a:pt x="1877" y="99"/>
                      <a:pt x="1878" y="93"/>
                    </a:cubicBezTo>
                    <a:cubicBezTo>
                      <a:pt x="1879" y="99"/>
                      <a:pt x="1880" y="104"/>
                      <a:pt x="1881" y="109"/>
                    </a:cubicBezTo>
                    <a:cubicBezTo>
                      <a:pt x="1880" y="116"/>
                      <a:pt x="1880" y="123"/>
                      <a:pt x="1880" y="130"/>
                    </a:cubicBezTo>
                    <a:close/>
                    <a:moveTo>
                      <a:pt x="1889" y="140"/>
                    </a:moveTo>
                    <a:cubicBezTo>
                      <a:pt x="1889" y="140"/>
                      <a:pt x="1889" y="139"/>
                      <a:pt x="1889" y="139"/>
                    </a:cubicBezTo>
                    <a:cubicBezTo>
                      <a:pt x="1890" y="100"/>
                      <a:pt x="1890" y="100"/>
                      <a:pt x="1890" y="100"/>
                    </a:cubicBezTo>
                    <a:cubicBezTo>
                      <a:pt x="1890" y="106"/>
                      <a:pt x="1891" y="113"/>
                      <a:pt x="1891" y="119"/>
                    </a:cubicBezTo>
                    <a:cubicBezTo>
                      <a:pt x="1891" y="122"/>
                      <a:pt x="1891" y="126"/>
                      <a:pt x="1891" y="129"/>
                    </a:cubicBezTo>
                    <a:cubicBezTo>
                      <a:pt x="1890" y="133"/>
                      <a:pt x="1890" y="136"/>
                      <a:pt x="1889" y="140"/>
                    </a:cubicBezTo>
                    <a:close/>
                    <a:moveTo>
                      <a:pt x="1910" y="105"/>
                    </a:moveTo>
                    <a:cubicBezTo>
                      <a:pt x="1910" y="104"/>
                      <a:pt x="1910" y="102"/>
                      <a:pt x="1910" y="101"/>
                    </a:cubicBezTo>
                    <a:cubicBezTo>
                      <a:pt x="1910" y="102"/>
                      <a:pt x="1911" y="103"/>
                      <a:pt x="1911" y="103"/>
                    </a:cubicBezTo>
                    <a:cubicBezTo>
                      <a:pt x="1910" y="104"/>
                      <a:pt x="1910" y="105"/>
                      <a:pt x="1910" y="105"/>
                    </a:cubicBezTo>
                    <a:close/>
                    <a:moveTo>
                      <a:pt x="1933" y="101"/>
                    </a:moveTo>
                    <a:cubicBezTo>
                      <a:pt x="1932" y="101"/>
                      <a:pt x="1932" y="101"/>
                      <a:pt x="1932" y="100"/>
                    </a:cubicBezTo>
                    <a:cubicBezTo>
                      <a:pt x="1932" y="101"/>
                      <a:pt x="1932" y="101"/>
                      <a:pt x="1933" y="101"/>
                    </a:cubicBezTo>
                    <a:cubicBezTo>
                      <a:pt x="1932" y="111"/>
                      <a:pt x="1931" y="119"/>
                      <a:pt x="1930" y="126"/>
                    </a:cubicBezTo>
                    <a:cubicBezTo>
                      <a:pt x="1929" y="122"/>
                      <a:pt x="1929" y="118"/>
                      <a:pt x="1928" y="114"/>
                    </a:cubicBezTo>
                    <a:cubicBezTo>
                      <a:pt x="1928" y="109"/>
                      <a:pt x="1928" y="103"/>
                      <a:pt x="1928" y="98"/>
                    </a:cubicBezTo>
                    <a:cubicBezTo>
                      <a:pt x="1929" y="92"/>
                      <a:pt x="1931" y="87"/>
                      <a:pt x="1934" y="82"/>
                    </a:cubicBezTo>
                    <a:cubicBezTo>
                      <a:pt x="1933" y="89"/>
                      <a:pt x="1933" y="95"/>
                      <a:pt x="1933" y="101"/>
                    </a:cubicBezTo>
                    <a:close/>
                    <a:moveTo>
                      <a:pt x="1942" y="117"/>
                    </a:moveTo>
                    <a:cubicBezTo>
                      <a:pt x="1942" y="114"/>
                      <a:pt x="1942" y="110"/>
                      <a:pt x="1942" y="106"/>
                    </a:cubicBezTo>
                    <a:cubicBezTo>
                      <a:pt x="1942" y="99"/>
                      <a:pt x="1942" y="90"/>
                      <a:pt x="1945" y="83"/>
                    </a:cubicBezTo>
                    <a:cubicBezTo>
                      <a:pt x="1944" y="95"/>
                      <a:pt x="1943" y="107"/>
                      <a:pt x="1942" y="117"/>
                    </a:cubicBezTo>
                    <a:close/>
                    <a:moveTo>
                      <a:pt x="1948" y="108"/>
                    </a:moveTo>
                    <a:cubicBezTo>
                      <a:pt x="1948" y="106"/>
                      <a:pt x="1948" y="104"/>
                      <a:pt x="1949" y="102"/>
                    </a:cubicBezTo>
                    <a:cubicBezTo>
                      <a:pt x="1949" y="102"/>
                      <a:pt x="1949" y="102"/>
                      <a:pt x="1949" y="103"/>
                    </a:cubicBezTo>
                    <a:cubicBezTo>
                      <a:pt x="1949" y="104"/>
                      <a:pt x="1948" y="106"/>
                      <a:pt x="1948" y="108"/>
                    </a:cubicBezTo>
                    <a:close/>
                    <a:moveTo>
                      <a:pt x="1954" y="111"/>
                    </a:moveTo>
                    <a:cubicBezTo>
                      <a:pt x="1954" y="103"/>
                      <a:pt x="1957" y="95"/>
                      <a:pt x="1959" y="87"/>
                    </a:cubicBezTo>
                    <a:cubicBezTo>
                      <a:pt x="1958" y="95"/>
                      <a:pt x="1956" y="104"/>
                      <a:pt x="1954" y="113"/>
                    </a:cubicBezTo>
                    <a:cubicBezTo>
                      <a:pt x="1954" y="112"/>
                      <a:pt x="1954" y="112"/>
                      <a:pt x="1954" y="111"/>
                    </a:cubicBezTo>
                    <a:close/>
                    <a:moveTo>
                      <a:pt x="1978" y="110"/>
                    </a:moveTo>
                    <a:cubicBezTo>
                      <a:pt x="1978" y="109"/>
                      <a:pt x="1978" y="108"/>
                      <a:pt x="1978" y="107"/>
                    </a:cubicBezTo>
                    <a:cubicBezTo>
                      <a:pt x="1978" y="107"/>
                      <a:pt x="1978" y="108"/>
                      <a:pt x="1978" y="108"/>
                    </a:cubicBezTo>
                    <a:cubicBezTo>
                      <a:pt x="1978" y="109"/>
                      <a:pt x="1978" y="109"/>
                      <a:pt x="1978" y="110"/>
                    </a:cubicBezTo>
                    <a:close/>
                    <a:moveTo>
                      <a:pt x="1989" y="125"/>
                    </a:moveTo>
                    <a:cubicBezTo>
                      <a:pt x="1989" y="123"/>
                      <a:pt x="1989" y="122"/>
                      <a:pt x="1989" y="120"/>
                    </a:cubicBezTo>
                    <a:cubicBezTo>
                      <a:pt x="1989" y="121"/>
                      <a:pt x="1989" y="122"/>
                      <a:pt x="1989" y="123"/>
                    </a:cubicBezTo>
                    <a:cubicBezTo>
                      <a:pt x="1989" y="123"/>
                      <a:pt x="1989" y="124"/>
                      <a:pt x="1989" y="125"/>
                    </a:cubicBezTo>
                    <a:close/>
                    <a:moveTo>
                      <a:pt x="1992" y="115"/>
                    </a:moveTo>
                    <a:cubicBezTo>
                      <a:pt x="1991" y="117"/>
                      <a:pt x="1991" y="118"/>
                      <a:pt x="1990" y="119"/>
                    </a:cubicBezTo>
                    <a:cubicBezTo>
                      <a:pt x="1990" y="118"/>
                      <a:pt x="1989" y="116"/>
                      <a:pt x="1989" y="114"/>
                    </a:cubicBezTo>
                    <a:cubicBezTo>
                      <a:pt x="1989" y="110"/>
                      <a:pt x="1989" y="105"/>
                      <a:pt x="1989" y="100"/>
                    </a:cubicBezTo>
                    <a:cubicBezTo>
                      <a:pt x="1990" y="94"/>
                      <a:pt x="1993" y="89"/>
                      <a:pt x="1996" y="84"/>
                    </a:cubicBezTo>
                    <a:cubicBezTo>
                      <a:pt x="1995" y="93"/>
                      <a:pt x="1993" y="105"/>
                      <a:pt x="1992" y="115"/>
                    </a:cubicBezTo>
                    <a:close/>
                    <a:moveTo>
                      <a:pt x="1999" y="90"/>
                    </a:moveTo>
                    <a:cubicBezTo>
                      <a:pt x="1999" y="88"/>
                      <a:pt x="1998" y="84"/>
                      <a:pt x="1998" y="80"/>
                    </a:cubicBezTo>
                    <a:cubicBezTo>
                      <a:pt x="1998" y="80"/>
                      <a:pt x="1998" y="80"/>
                      <a:pt x="1998" y="80"/>
                    </a:cubicBezTo>
                    <a:cubicBezTo>
                      <a:pt x="1999" y="81"/>
                      <a:pt x="2000" y="83"/>
                      <a:pt x="2000" y="84"/>
                    </a:cubicBezTo>
                    <a:cubicBezTo>
                      <a:pt x="2000" y="88"/>
                      <a:pt x="1999" y="90"/>
                      <a:pt x="1999" y="90"/>
                    </a:cubicBezTo>
                    <a:close/>
                    <a:moveTo>
                      <a:pt x="2001" y="83"/>
                    </a:moveTo>
                    <a:cubicBezTo>
                      <a:pt x="2000" y="81"/>
                      <a:pt x="1999" y="80"/>
                      <a:pt x="1998" y="79"/>
                    </a:cubicBezTo>
                    <a:cubicBezTo>
                      <a:pt x="1999" y="78"/>
                      <a:pt x="2000" y="76"/>
                      <a:pt x="2002" y="75"/>
                    </a:cubicBezTo>
                    <a:cubicBezTo>
                      <a:pt x="2001" y="78"/>
                      <a:pt x="2001" y="81"/>
                      <a:pt x="2001" y="83"/>
                    </a:cubicBezTo>
                    <a:close/>
                    <a:moveTo>
                      <a:pt x="2007" y="104"/>
                    </a:moveTo>
                    <a:cubicBezTo>
                      <a:pt x="2008" y="105"/>
                      <a:pt x="2008" y="107"/>
                      <a:pt x="2008" y="109"/>
                    </a:cubicBezTo>
                    <a:cubicBezTo>
                      <a:pt x="2008" y="111"/>
                      <a:pt x="2007" y="112"/>
                      <a:pt x="2007" y="114"/>
                    </a:cubicBezTo>
                    <a:cubicBezTo>
                      <a:pt x="2007" y="110"/>
                      <a:pt x="2007" y="107"/>
                      <a:pt x="2007" y="104"/>
                    </a:cubicBezTo>
                    <a:close/>
                    <a:moveTo>
                      <a:pt x="2003" y="91"/>
                    </a:move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lose/>
                    <a:moveTo>
                      <a:pt x="2003" y="124"/>
                    </a:moveTo>
                    <a:cubicBezTo>
                      <a:pt x="2004" y="114"/>
                      <a:pt x="2004" y="102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5" y="94"/>
                      <a:pt x="2006" y="98"/>
                      <a:pt x="2007" y="101"/>
                    </a:cubicBezTo>
                    <a:cubicBezTo>
                      <a:pt x="2005" y="120"/>
                      <a:pt x="2005" y="120"/>
                      <a:pt x="2005" y="120"/>
                    </a:cubicBezTo>
                    <a:cubicBezTo>
                      <a:pt x="2004" y="121"/>
                      <a:pt x="2004" y="122"/>
                      <a:pt x="2003" y="124"/>
                    </a:cubicBezTo>
                    <a:close/>
                    <a:moveTo>
                      <a:pt x="2006" y="136"/>
                    </a:moveTo>
                    <a:cubicBezTo>
                      <a:pt x="2006" y="134"/>
                      <a:pt x="2006" y="133"/>
                      <a:pt x="2006" y="131"/>
                    </a:cubicBezTo>
                    <a:cubicBezTo>
                      <a:pt x="2007" y="126"/>
                      <a:pt x="2008" y="121"/>
                      <a:pt x="2009" y="116"/>
                    </a:cubicBezTo>
                    <a:cubicBezTo>
                      <a:pt x="2010" y="118"/>
                      <a:pt x="2010" y="121"/>
                      <a:pt x="2010" y="123"/>
                    </a:cubicBezTo>
                    <a:cubicBezTo>
                      <a:pt x="2010" y="124"/>
                      <a:pt x="2010" y="124"/>
                      <a:pt x="2010" y="124"/>
                    </a:cubicBezTo>
                    <a:cubicBezTo>
                      <a:pt x="2009" y="128"/>
                      <a:pt x="2007" y="132"/>
                      <a:pt x="2006" y="136"/>
                    </a:cubicBezTo>
                    <a:close/>
                    <a:moveTo>
                      <a:pt x="2010" y="141"/>
                    </a:moveTo>
                    <a:cubicBezTo>
                      <a:pt x="2010" y="141"/>
                      <a:pt x="2010" y="141"/>
                      <a:pt x="2010" y="141"/>
                    </a:cubicBezTo>
                    <a:cubicBezTo>
                      <a:pt x="2011" y="139"/>
                      <a:pt x="2011" y="137"/>
                      <a:pt x="2012" y="135"/>
                    </a:cubicBezTo>
                    <a:cubicBezTo>
                      <a:pt x="2012" y="135"/>
                      <a:pt x="2012" y="135"/>
                      <a:pt x="2012" y="135"/>
                    </a:cubicBezTo>
                    <a:cubicBezTo>
                      <a:pt x="2012" y="137"/>
                      <a:pt x="2011" y="139"/>
                      <a:pt x="2010" y="141"/>
                    </a:cubicBezTo>
                    <a:close/>
                    <a:moveTo>
                      <a:pt x="2017" y="119"/>
                    </a:moveTo>
                    <a:cubicBezTo>
                      <a:pt x="2016" y="119"/>
                      <a:pt x="2016" y="118"/>
                      <a:pt x="2016" y="118"/>
                    </a:cubicBezTo>
                    <a:cubicBezTo>
                      <a:pt x="2016" y="116"/>
                      <a:pt x="2017" y="115"/>
                      <a:pt x="2017" y="113"/>
                    </a:cubicBezTo>
                    <a:cubicBezTo>
                      <a:pt x="2017" y="112"/>
                      <a:pt x="2017" y="112"/>
                      <a:pt x="2017" y="111"/>
                    </a:cubicBezTo>
                    <a:cubicBezTo>
                      <a:pt x="2018" y="112"/>
                      <a:pt x="2018" y="113"/>
                      <a:pt x="2018" y="115"/>
                    </a:cubicBezTo>
                    <a:cubicBezTo>
                      <a:pt x="2018" y="116"/>
                      <a:pt x="2017" y="118"/>
                      <a:pt x="2017" y="119"/>
                    </a:cubicBezTo>
                    <a:close/>
                    <a:moveTo>
                      <a:pt x="2024" y="136"/>
                    </a:moveTo>
                    <a:cubicBezTo>
                      <a:pt x="2023" y="135"/>
                      <a:pt x="2023" y="134"/>
                      <a:pt x="2022" y="133"/>
                    </a:cubicBezTo>
                    <a:cubicBezTo>
                      <a:pt x="2022" y="132"/>
                      <a:pt x="2022" y="132"/>
                      <a:pt x="2022" y="131"/>
                    </a:cubicBezTo>
                    <a:cubicBezTo>
                      <a:pt x="2023" y="133"/>
                      <a:pt x="2023" y="134"/>
                      <a:pt x="2024" y="136"/>
                    </a:cubicBezTo>
                    <a:cubicBezTo>
                      <a:pt x="2024" y="136"/>
                      <a:pt x="2024" y="136"/>
                      <a:pt x="2024" y="136"/>
                    </a:cubicBezTo>
                    <a:close/>
                    <a:moveTo>
                      <a:pt x="2038" y="118"/>
                    </a:moveTo>
                    <a:cubicBezTo>
                      <a:pt x="2038" y="118"/>
                      <a:pt x="2038" y="117"/>
                      <a:pt x="2038" y="117"/>
                    </a:cubicBezTo>
                    <a:cubicBezTo>
                      <a:pt x="2038" y="117"/>
                      <a:pt x="2038" y="117"/>
                      <a:pt x="2038" y="117"/>
                    </a:cubicBezTo>
                    <a:cubicBezTo>
                      <a:pt x="2038" y="118"/>
                      <a:pt x="2038" y="118"/>
                      <a:pt x="2038" y="118"/>
                    </a:cubicBezTo>
                    <a:close/>
                    <a:moveTo>
                      <a:pt x="2044" y="105"/>
                    </a:moveTo>
                    <a:cubicBezTo>
                      <a:pt x="2043" y="106"/>
                      <a:pt x="2042" y="107"/>
                      <a:pt x="2042" y="109"/>
                    </a:cubicBezTo>
                    <a:cubicBezTo>
                      <a:pt x="2041" y="107"/>
                      <a:pt x="2041" y="106"/>
                      <a:pt x="2041" y="104"/>
                    </a:cubicBezTo>
                    <a:cubicBezTo>
                      <a:pt x="2042" y="101"/>
                      <a:pt x="2044" y="98"/>
                      <a:pt x="2045" y="94"/>
                    </a:cubicBezTo>
                    <a:cubicBezTo>
                      <a:pt x="2044" y="98"/>
                      <a:pt x="2044" y="101"/>
                      <a:pt x="2044" y="105"/>
                    </a:cubicBezTo>
                    <a:close/>
                    <a:moveTo>
                      <a:pt x="2049" y="138"/>
                    </a:moveTo>
                    <a:cubicBezTo>
                      <a:pt x="2049" y="137"/>
                      <a:pt x="2049" y="136"/>
                      <a:pt x="2048" y="135"/>
                    </a:cubicBezTo>
                    <a:cubicBezTo>
                      <a:pt x="2048" y="133"/>
                      <a:pt x="2048" y="131"/>
                      <a:pt x="2048" y="129"/>
                    </a:cubicBezTo>
                    <a:cubicBezTo>
                      <a:pt x="2049" y="131"/>
                      <a:pt x="2049" y="133"/>
                      <a:pt x="2050" y="134"/>
                    </a:cubicBezTo>
                    <a:cubicBezTo>
                      <a:pt x="2050" y="135"/>
                      <a:pt x="2050" y="137"/>
                      <a:pt x="2049" y="138"/>
                    </a:cubicBezTo>
                    <a:close/>
                    <a:moveTo>
                      <a:pt x="2051" y="123"/>
                    </a:moveTo>
                    <a:cubicBezTo>
                      <a:pt x="2050" y="121"/>
                      <a:pt x="2049" y="118"/>
                      <a:pt x="2049" y="116"/>
                    </a:cubicBezTo>
                    <a:cubicBezTo>
                      <a:pt x="2050" y="112"/>
                      <a:pt x="2051" y="107"/>
                      <a:pt x="2052" y="103"/>
                    </a:cubicBezTo>
                    <a:cubicBezTo>
                      <a:pt x="2052" y="110"/>
                      <a:pt x="2051" y="117"/>
                      <a:pt x="2051" y="123"/>
                    </a:cubicBezTo>
                    <a:close/>
                    <a:moveTo>
                      <a:pt x="2056" y="69"/>
                    </a:moveTo>
                    <a:cubicBezTo>
                      <a:pt x="2058" y="72"/>
                      <a:pt x="2060" y="75"/>
                      <a:pt x="2061" y="79"/>
                    </a:cubicBezTo>
                    <a:cubicBezTo>
                      <a:pt x="2061" y="79"/>
                      <a:pt x="2061" y="79"/>
                      <a:pt x="2061" y="79"/>
                    </a:cubicBezTo>
                    <a:cubicBezTo>
                      <a:pt x="2059" y="76"/>
                      <a:pt x="2058" y="72"/>
                      <a:pt x="2056" y="69"/>
                    </a:cubicBezTo>
                    <a:cubicBezTo>
                      <a:pt x="2056" y="69"/>
                      <a:pt x="2056" y="69"/>
                      <a:pt x="2056" y="69"/>
                    </a:cubicBezTo>
                    <a:close/>
                    <a:moveTo>
                      <a:pt x="2056" y="74"/>
                    </a:moveTo>
                    <a:cubicBezTo>
                      <a:pt x="2057" y="76"/>
                      <a:pt x="2058" y="79"/>
                      <a:pt x="2059" y="81"/>
                    </a:cubicBezTo>
                    <a:cubicBezTo>
                      <a:pt x="2058" y="82"/>
                      <a:pt x="2057" y="83"/>
                      <a:pt x="2056" y="85"/>
                    </a:cubicBezTo>
                    <a:cubicBezTo>
                      <a:pt x="2056" y="81"/>
                      <a:pt x="2056" y="77"/>
                      <a:pt x="2056" y="74"/>
                    </a:cubicBezTo>
                    <a:close/>
                    <a:moveTo>
                      <a:pt x="2057" y="120"/>
                    </a:moveTo>
                    <a:cubicBezTo>
                      <a:pt x="2057" y="115"/>
                      <a:pt x="2057" y="111"/>
                      <a:pt x="2057" y="106"/>
                    </a:cubicBezTo>
                    <a:cubicBezTo>
                      <a:pt x="2058" y="109"/>
                      <a:pt x="2058" y="112"/>
                      <a:pt x="2059" y="114"/>
                    </a:cubicBezTo>
                    <a:cubicBezTo>
                      <a:pt x="2058" y="116"/>
                      <a:pt x="2058" y="118"/>
                      <a:pt x="2057" y="120"/>
                    </a:cubicBezTo>
                    <a:close/>
                    <a:moveTo>
                      <a:pt x="2060" y="109"/>
                    </a:moveTo>
                    <a:cubicBezTo>
                      <a:pt x="2059" y="107"/>
                      <a:pt x="2058" y="104"/>
                      <a:pt x="2057" y="102"/>
                    </a:cubicBezTo>
                    <a:cubicBezTo>
                      <a:pt x="2057" y="99"/>
                      <a:pt x="2057" y="97"/>
                      <a:pt x="2057" y="94"/>
                    </a:cubicBezTo>
                    <a:cubicBezTo>
                      <a:pt x="2058" y="98"/>
                      <a:pt x="2059" y="102"/>
                      <a:pt x="2061" y="107"/>
                    </a:cubicBezTo>
                    <a:cubicBezTo>
                      <a:pt x="2061" y="108"/>
                      <a:pt x="2060" y="108"/>
                      <a:pt x="2060" y="109"/>
                    </a:cubicBezTo>
                    <a:close/>
                    <a:moveTo>
                      <a:pt x="2064" y="96"/>
                    </a:moveTo>
                    <a:cubicBezTo>
                      <a:pt x="2063" y="98"/>
                      <a:pt x="2062" y="101"/>
                      <a:pt x="2062" y="104"/>
                    </a:cubicBezTo>
                    <a:cubicBezTo>
                      <a:pt x="2060" y="100"/>
                      <a:pt x="2058" y="96"/>
                      <a:pt x="2057" y="92"/>
                    </a:cubicBezTo>
                    <a:cubicBezTo>
                      <a:pt x="2057" y="92"/>
                      <a:pt x="2057" y="92"/>
                      <a:pt x="2057" y="92"/>
                    </a:cubicBezTo>
                    <a:cubicBezTo>
                      <a:pt x="2058" y="89"/>
                      <a:pt x="2059" y="86"/>
                      <a:pt x="2061" y="84"/>
                    </a:cubicBezTo>
                    <a:cubicBezTo>
                      <a:pt x="2062" y="87"/>
                      <a:pt x="2063" y="90"/>
                      <a:pt x="2064" y="93"/>
                    </a:cubicBezTo>
                    <a:cubicBezTo>
                      <a:pt x="2064" y="94"/>
                      <a:pt x="2064" y="95"/>
                      <a:pt x="2064" y="96"/>
                    </a:cubicBezTo>
                    <a:close/>
                    <a:moveTo>
                      <a:pt x="2065" y="90"/>
                    </a:moveTo>
                    <a:cubicBezTo>
                      <a:pt x="2064" y="87"/>
                      <a:pt x="2063" y="84"/>
                      <a:pt x="2062" y="82"/>
                    </a:cubicBezTo>
                    <a:cubicBezTo>
                      <a:pt x="2062" y="81"/>
                      <a:pt x="2062" y="81"/>
                      <a:pt x="2062" y="81"/>
                    </a:cubicBezTo>
                    <a:cubicBezTo>
                      <a:pt x="2063" y="83"/>
                      <a:pt x="2064" y="86"/>
                      <a:pt x="2065" y="89"/>
                    </a:cubicBezTo>
                    <a:cubicBezTo>
                      <a:pt x="2065" y="89"/>
                      <a:pt x="2065" y="89"/>
                      <a:pt x="2065" y="90"/>
                    </a:cubicBezTo>
                    <a:close/>
                    <a:moveTo>
                      <a:pt x="2063" y="79"/>
                    </a:moveTo>
                    <a:cubicBezTo>
                      <a:pt x="2064" y="78"/>
                      <a:pt x="2065" y="77"/>
                      <a:pt x="2065" y="77"/>
                    </a:cubicBezTo>
                    <a:cubicBezTo>
                      <a:pt x="2066" y="78"/>
                      <a:pt x="2066" y="79"/>
                      <a:pt x="2067" y="80"/>
                    </a:cubicBezTo>
                    <a:cubicBezTo>
                      <a:pt x="2067" y="82"/>
                      <a:pt x="2066" y="84"/>
                      <a:pt x="2066" y="85"/>
                    </a:cubicBezTo>
                    <a:cubicBezTo>
                      <a:pt x="2065" y="83"/>
                      <a:pt x="2064" y="81"/>
                      <a:pt x="2063" y="79"/>
                    </a:cubicBezTo>
                    <a:close/>
                    <a:moveTo>
                      <a:pt x="2066" y="116"/>
                    </a:moveTo>
                    <a:cubicBezTo>
                      <a:pt x="2066" y="111"/>
                      <a:pt x="2067" y="106"/>
                      <a:pt x="2067" y="102"/>
                    </a:cubicBezTo>
                    <a:cubicBezTo>
                      <a:pt x="2068" y="105"/>
                      <a:pt x="2069" y="108"/>
                      <a:pt x="2070" y="111"/>
                    </a:cubicBezTo>
                    <a:cubicBezTo>
                      <a:pt x="2069" y="113"/>
                      <a:pt x="2068" y="116"/>
                      <a:pt x="2067" y="118"/>
                    </a:cubicBezTo>
                    <a:cubicBezTo>
                      <a:pt x="2067" y="117"/>
                      <a:pt x="2066" y="117"/>
                      <a:pt x="2066" y="116"/>
                    </a:cubicBezTo>
                    <a:close/>
                    <a:moveTo>
                      <a:pt x="2071" y="130"/>
                    </a:moveTo>
                    <a:cubicBezTo>
                      <a:pt x="2070" y="128"/>
                      <a:pt x="2070" y="127"/>
                      <a:pt x="2069" y="125"/>
                    </a:cubicBezTo>
                    <a:cubicBezTo>
                      <a:pt x="2070" y="123"/>
                      <a:pt x="2070" y="122"/>
                      <a:pt x="2071" y="120"/>
                    </a:cubicBezTo>
                    <a:cubicBezTo>
                      <a:pt x="2071" y="122"/>
                      <a:pt x="2071" y="124"/>
                      <a:pt x="2071" y="127"/>
                    </a:cubicBezTo>
                    <a:cubicBezTo>
                      <a:pt x="2071" y="128"/>
                      <a:pt x="2071" y="129"/>
                      <a:pt x="2071" y="130"/>
                    </a:cubicBezTo>
                    <a:close/>
                    <a:moveTo>
                      <a:pt x="2073" y="105"/>
                    </a:moveTo>
                    <a:cubicBezTo>
                      <a:pt x="2071" y="100"/>
                      <a:pt x="2070" y="95"/>
                      <a:pt x="2068" y="91"/>
                    </a:cubicBezTo>
                    <a:cubicBezTo>
                      <a:pt x="2068" y="89"/>
                      <a:pt x="2068" y="87"/>
                      <a:pt x="2069" y="85"/>
                    </a:cubicBezTo>
                    <a:cubicBezTo>
                      <a:pt x="2071" y="91"/>
                      <a:pt x="2072" y="97"/>
                      <a:pt x="2074" y="103"/>
                    </a:cubicBezTo>
                    <a:cubicBezTo>
                      <a:pt x="2073" y="104"/>
                      <a:pt x="2073" y="105"/>
                      <a:pt x="2073" y="105"/>
                    </a:cubicBezTo>
                    <a:close/>
                    <a:moveTo>
                      <a:pt x="2074" y="111"/>
                    </a:moveTo>
                    <a:cubicBezTo>
                      <a:pt x="2074" y="110"/>
                      <a:pt x="2074" y="110"/>
                      <a:pt x="2074" y="109"/>
                    </a:cubicBezTo>
                    <a:cubicBezTo>
                      <a:pt x="2074" y="109"/>
                      <a:pt x="2074" y="108"/>
                      <a:pt x="2075" y="107"/>
                    </a:cubicBezTo>
                    <a:cubicBezTo>
                      <a:pt x="2075" y="108"/>
                      <a:pt x="2075" y="109"/>
                      <a:pt x="2075" y="109"/>
                    </a:cubicBezTo>
                    <a:cubicBezTo>
                      <a:pt x="2075" y="110"/>
                      <a:pt x="2075" y="110"/>
                      <a:pt x="2074" y="111"/>
                    </a:cubicBezTo>
                    <a:close/>
                    <a:moveTo>
                      <a:pt x="2085" y="94"/>
                    </a:moveTo>
                    <a:cubicBezTo>
                      <a:pt x="2085" y="95"/>
                      <a:pt x="2085" y="95"/>
                      <a:pt x="2086" y="96"/>
                    </a:cubicBezTo>
                    <a:cubicBezTo>
                      <a:pt x="2085" y="97"/>
                      <a:pt x="2085" y="97"/>
                      <a:pt x="2085" y="98"/>
                    </a:cubicBezTo>
                    <a:cubicBezTo>
                      <a:pt x="2085" y="96"/>
                      <a:pt x="2085" y="95"/>
                      <a:pt x="2085" y="94"/>
                    </a:cubicBezTo>
                    <a:close/>
                    <a:moveTo>
                      <a:pt x="2087" y="109"/>
                    </a:moveTo>
                    <a:cubicBezTo>
                      <a:pt x="2086" y="106"/>
                      <a:pt x="2086" y="104"/>
                      <a:pt x="2085" y="102"/>
                    </a:cubicBezTo>
                    <a:cubicBezTo>
                      <a:pt x="2085" y="101"/>
                      <a:pt x="2085" y="99"/>
                      <a:pt x="2085" y="98"/>
                    </a:cubicBezTo>
                    <a:cubicBezTo>
                      <a:pt x="2085" y="98"/>
                      <a:pt x="2086" y="97"/>
                      <a:pt x="2086" y="97"/>
                    </a:cubicBezTo>
                    <a:cubicBezTo>
                      <a:pt x="2086" y="98"/>
                      <a:pt x="2087" y="100"/>
                      <a:pt x="2087" y="102"/>
                    </a:cubicBezTo>
                    <a:cubicBezTo>
                      <a:pt x="2087" y="104"/>
                      <a:pt x="2087" y="107"/>
                      <a:pt x="2087" y="109"/>
                    </a:cubicBezTo>
                    <a:close/>
                    <a:moveTo>
                      <a:pt x="2089" y="84"/>
                    </a:moveTo>
                    <a:cubicBezTo>
                      <a:pt x="2089" y="89"/>
                      <a:pt x="2088" y="94"/>
                      <a:pt x="2088" y="98"/>
                    </a:cubicBezTo>
                    <a:cubicBezTo>
                      <a:pt x="2087" y="97"/>
                      <a:pt x="2087" y="96"/>
                      <a:pt x="2086" y="95"/>
                    </a:cubicBezTo>
                    <a:cubicBezTo>
                      <a:pt x="2087" y="94"/>
                      <a:pt x="2088" y="92"/>
                      <a:pt x="2088" y="91"/>
                    </a:cubicBezTo>
                    <a:cubicBezTo>
                      <a:pt x="2088" y="92"/>
                      <a:pt x="2087" y="94"/>
                      <a:pt x="2086" y="95"/>
                    </a:cubicBezTo>
                    <a:cubicBezTo>
                      <a:pt x="2086" y="94"/>
                      <a:pt x="2085" y="93"/>
                      <a:pt x="2085" y="92"/>
                    </a:cubicBezTo>
                    <a:cubicBezTo>
                      <a:pt x="2085" y="90"/>
                      <a:pt x="2085" y="88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4" y="75"/>
                      <a:pt x="2084" y="65"/>
                      <a:pt x="2084" y="56"/>
                    </a:cubicBezTo>
                    <a:cubicBezTo>
                      <a:pt x="2087" y="58"/>
                      <a:pt x="2089" y="61"/>
                      <a:pt x="2092" y="63"/>
                    </a:cubicBezTo>
                    <a:cubicBezTo>
                      <a:pt x="2091" y="69"/>
                      <a:pt x="2090" y="76"/>
                      <a:pt x="2089" y="84"/>
                    </a:cubicBezTo>
                    <a:cubicBezTo>
                      <a:pt x="2089" y="82"/>
                      <a:pt x="2088" y="81"/>
                      <a:pt x="2088" y="79"/>
                    </a:cubicBezTo>
                    <a:cubicBezTo>
                      <a:pt x="2088" y="81"/>
                      <a:pt x="2089" y="83"/>
                      <a:pt x="2089" y="84"/>
                    </a:cubicBezTo>
                    <a:close/>
                    <a:moveTo>
                      <a:pt x="2090" y="139"/>
                    </a:moveTo>
                    <a:cubicBezTo>
                      <a:pt x="2090" y="134"/>
                      <a:pt x="2090" y="128"/>
                      <a:pt x="2090" y="121"/>
                    </a:cubicBezTo>
                    <a:cubicBezTo>
                      <a:pt x="2090" y="125"/>
                      <a:pt x="2090" y="129"/>
                      <a:pt x="2091" y="133"/>
                    </a:cubicBezTo>
                    <a:cubicBezTo>
                      <a:pt x="2091" y="135"/>
                      <a:pt x="2091" y="137"/>
                      <a:pt x="2090" y="139"/>
                    </a:cubicBezTo>
                    <a:close/>
                    <a:moveTo>
                      <a:pt x="2090" y="104"/>
                    </a:moveTo>
                    <a:cubicBezTo>
                      <a:pt x="2090" y="102"/>
                      <a:pt x="2090" y="99"/>
                      <a:pt x="2091" y="96"/>
                    </a:cubicBezTo>
                    <a:cubicBezTo>
                      <a:pt x="2091" y="100"/>
                      <a:pt x="2091" y="104"/>
                      <a:pt x="2091" y="107"/>
                    </a:cubicBezTo>
                    <a:cubicBezTo>
                      <a:pt x="2091" y="106"/>
                      <a:pt x="2091" y="105"/>
                      <a:pt x="2090" y="104"/>
                    </a:cubicBezTo>
                    <a:close/>
                    <a:moveTo>
                      <a:pt x="2102" y="85"/>
                    </a:moveTo>
                    <a:cubicBezTo>
                      <a:pt x="2101" y="90"/>
                      <a:pt x="2100" y="96"/>
                      <a:pt x="2099" y="103"/>
                    </a:cubicBezTo>
                    <a:cubicBezTo>
                      <a:pt x="2099" y="101"/>
                      <a:pt x="2099" y="100"/>
                      <a:pt x="2098" y="99"/>
                    </a:cubicBezTo>
                    <a:cubicBezTo>
                      <a:pt x="2098" y="96"/>
                      <a:pt x="2097" y="93"/>
                      <a:pt x="2096" y="90"/>
                    </a:cubicBezTo>
                    <a:cubicBezTo>
                      <a:pt x="2097" y="93"/>
                      <a:pt x="2097" y="96"/>
                      <a:pt x="2097" y="99"/>
                    </a:cubicBezTo>
                    <a:cubicBezTo>
                      <a:pt x="2097" y="104"/>
                      <a:pt x="2096" y="112"/>
                      <a:pt x="2096" y="120"/>
                    </a:cubicBezTo>
                    <a:cubicBezTo>
                      <a:pt x="2095" y="110"/>
                      <a:pt x="2093" y="100"/>
                      <a:pt x="2091" y="91"/>
                    </a:cubicBezTo>
                    <a:cubicBezTo>
                      <a:pt x="2092" y="81"/>
                      <a:pt x="2093" y="72"/>
                      <a:pt x="2093" y="65"/>
                    </a:cubicBezTo>
                    <a:cubicBezTo>
                      <a:pt x="2097" y="69"/>
                      <a:pt x="2100" y="74"/>
                      <a:pt x="2102" y="79"/>
                    </a:cubicBezTo>
                    <a:cubicBezTo>
                      <a:pt x="2102" y="81"/>
                      <a:pt x="2102" y="83"/>
                      <a:pt x="2102" y="85"/>
                    </a:cubicBezTo>
                    <a:close/>
                    <a:moveTo>
                      <a:pt x="2102" y="75"/>
                    </a:moveTo>
                    <a:cubicBezTo>
                      <a:pt x="2102" y="75"/>
                      <a:pt x="2102" y="75"/>
                      <a:pt x="2102" y="75"/>
                    </a:cubicBezTo>
                    <a:cubicBezTo>
                      <a:pt x="2102" y="73"/>
                      <a:pt x="2102" y="72"/>
                      <a:pt x="2101" y="70"/>
                    </a:cubicBezTo>
                    <a:cubicBezTo>
                      <a:pt x="2101" y="70"/>
                      <a:pt x="2102" y="72"/>
                      <a:pt x="2102" y="75"/>
                    </a:cubicBezTo>
                    <a:cubicBezTo>
                      <a:pt x="2099" y="71"/>
                      <a:pt x="2097" y="67"/>
                      <a:pt x="2093" y="64"/>
                    </a:cubicBezTo>
                    <a:cubicBezTo>
                      <a:pt x="2094" y="60"/>
                      <a:pt x="2094" y="57"/>
                      <a:pt x="2095" y="54"/>
                    </a:cubicBezTo>
                    <a:cubicBezTo>
                      <a:pt x="2098" y="58"/>
                      <a:pt x="2101" y="62"/>
                      <a:pt x="2103" y="65"/>
                    </a:cubicBezTo>
                    <a:cubicBezTo>
                      <a:pt x="2103" y="68"/>
                      <a:pt x="2102" y="71"/>
                      <a:pt x="2102" y="75"/>
                    </a:cubicBezTo>
                    <a:close/>
                    <a:moveTo>
                      <a:pt x="2106" y="117"/>
                    </a:moveTo>
                    <a:cubicBezTo>
                      <a:pt x="2105" y="120"/>
                      <a:pt x="2104" y="122"/>
                      <a:pt x="2104" y="125"/>
                    </a:cubicBezTo>
                    <a:cubicBezTo>
                      <a:pt x="2104" y="124"/>
                      <a:pt x="2104" y="123"/>
                      <a:pt x="2104" y="122"/>
                    </a:cubicBezTo>
                    <a:cubicBezTo>
                      <a:pt x="2104" y="110"/>
                      <a:pt x="2104" y="98"/>
                      <a:pt x="2105" y="87"/>
                    </a:cubicBezTo>
                    <a:cubicBezTo>
                      <a:pt x="2106" y="92"/>
                      <a:pt x="2107" y="98"/>
                      <a:pt x="2108" y="103"/>
                    </a:cubicBezTo>
                    <a:cubicBezTo>
                      <a:pt x="2107" y="108"/>
                      <a:pt x="2106" y="112"/>
                      <a:pt x="2106" y="117"/>
                    </a:cubicBezTo>
                    <a:close/>
                    <a:moveTo>
                      <a:pt x="2109" y="89"/>
                    </a:moveTo>
                    <a:cubicBezTo>
                      <a:pt x="2108" y="86"/>
                      <a:pt x="2106" y="83"/>
                      <a:pt x="2105" y="80"/>
                    </a:cubicBezTo>
                    <a:cubicBezTo>
                      <a:pt x="2105" y="76"/>
                      <a:pt x="2105" y="72"/>
                      <a:pt x="2105" y="68"/>
                    </a:cubicBezTo>
                    <a:cubicBezTo>
                      <a:pt x="2107" y="71"/>
                      <a:pt x="2109" y="74"/>
                      <a:pt x="2111" y="78"/>
                    </a:cubicBezTo>
                    <a:cubicBezTo>
                      <a:pt x="2110" y="81"/>
                      <a:pt x="2110" y="85"/>
                      <a:pt x="2109" y="89"/>
                    </a:cubicBezTo>
                    <a:close/>
                    <a:moveTo>
                      <a:pt x="2114" y="96"/>
                    </a:moveTo>
                    <a:cubicBezTo>
                      <a:pt x="2114" y="97"/>
                      <a:pt x="2113" y="98"/>
                      <a:pt x="2113" y="99"/>
                    </a:cubicBezTo>
                    <a:cubicBezTo>
                      <a:pt x="2112" y="98"/>
                      <a:pt x="2112" y="97"/>
                      <a:pt x="2112" y="96"/>
                    </a:cubicBezTo>
                    <a:cubicBezTo>
                      <a:pt x="2112" y="91"/>
                      <a:pt x="2112" y="86"/>
                      <a:pt x="2112" y="80"/>
                    </a:cubicBezTo>
                    <a:cubicBezTo>
                      <a:pt x="2113" y="83"/>
                      <a:pt x="2114" y="86"/>
                      <a:pt x="2115" y="88"/>
                    </a:cubicBezTo>
                    <a:cubicBezTo>
                      <a:pt x="2115" y="91"/>
                      <a:pt x="2115" y="93"/>
                      <a:pt x="2114" y="96"/>
                    </a:cubicBezTo>
                    <a:close/>
                    <a:moveTo>
                      <a:pt x="2136" y="105"/>
                    </a:moveTo>
                    <a:cubicBezTo>
                      <a:pt x="2135" y="103"/>
                      <a:pt x="2135" y="102"/>
                      <a:pt x="2134" y="101"/>
                    </a:cubicBezTo>
                    <a:cubicBezTo>
                      <a:pt x="2136" y="96"/>
                      <a:pt x="2137" y="92"/>
                      <a:pt x="2138" y="89"/>
                    </a:cubicBezTo>
                    <a:cubicBezTo>
                      <a:pt x="2138" y="89"/>
                      <a:pt x="2139" y="89"/>
                      <a:pt x="2139" y="90"/>
                    </a:cubicBezTo>
                    <a:cubicBezTo>
                      <a:pt x="2138" y="95"/>
                      <a:pt x="2137" y="100"/>
                      <a:pt x="2136" y="105"/>
                    </a:cubicBezTo>
                    <a:close/>
                    <a:moveTo>
                      <a:pt x="2152" y="81"/>
                    </a:moveTo>
                    <a:cubicBezTo>
                      <a:pt x="2152" y="81"/>
                      <a:pt x="2153" y="81"/>
                      <a:pt x="2153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lose/>
                    <a:moveTo>
                      <a:pt x="2152" y="88"/>
                    </a:move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90"/>
                      <a:pt x="2152" y="91"/>
                      <a:pt x="2152" y="91"/>
                    </a:cubicBezTo>
                    <a:cubicBezTo>
                      <a:pt x="2152" y="90"/>
                      <a:pt x="2152" y="89"/>
                      <a:pt x="2152" y="88"/>
                    </a:cubicBezTo>
                    <a:close/>
                    <a:moveTo>
                      <a:pt x="2143" y="122"/>
                    </a:moveTo>
                    <a:cubicBezTo>
                      <a:pt x="2143" y="122"/>
                      <a:pt x="2143" y="123"/>
                      <a:pt x="2143" y="123"/>
                    </a:cubicBezTo>
                    <a:cubicBezTo>
                      <a:pt x="2143" y="123"/>
                      <a:pt x="2143" y="123"/>
                      <a:pt x="2143" y="123"/>
                    </a:cubicBezTo>
                    <a:cubicBezTo>
                      <a:pt x="2143" y="123"/>
                      <a:pt x="2143" y="122"/>
                      <a:pt x="2143" y="122"/>
                    </a:cubicBezTo>
                    <a:cubicBezTo>
                      <a:pt x="2143" y="120"/>
                      <a:pt x="2144" y="118"/>
                      <a:pt x="2144" y="115"/>
                    </a:cubicBezTo>
                    <a:cubicBezTo>
                      <a:pt x="2144" y="115"/>
                      <a:pt x="2144" y="115"/>
                      <a:pt x="2144" y="115"/>
                    </a:cubicBezTo>
                    <a:cubicBezTo>
                      <a:pt x="2144" y="116"/>
                      <a:pt x="2144" y="117"/>
                      <a:pt x="2144" y="118"/>
                    </a:cubicBezTo>
                    <a:cubicBezTo>
                      <a:pt x="2144" y="119"/>
                      <a:pt x="2143" y="121"/>
                      <a:pt x="2143" y="122"/>
                    </a:cubicBezTo>
                    <a:close/>
                    <a:moveTo>
                      <a:pt x="2145" y="70"/>
                    </a:moveTo>
                    <a:cubicBezTo>
                      <a:pt x="2148" y="73"/>
                      <a:pt x="2150" y="76"/>
                      <a:pt x="2151" y="79"/>
                    </a:cubicBezTo>
                    <a:cubicBezTo>
                      <a:pt x="2151" y="81"/>
                      <a:pt x="2151" y="82"/>
                      <a:pt x="2150" y="84"/>
                    </a:cubicBezTo>
                    <a:cubicBezTo>
                      <a:pt x="2150" y="84"/>
                      <a:pt x="2150" y="84"/>
                      <a:pt x="2150" y="84"/>
                    </a:cubicBezTo>
                    <a:cubicBezTo>
                      <a:pt x="2150" y="82"/>
                      <a:pt x="2149" y="81"/>
                      <a:pt x="2148" y="79"/>
                    </a:cubicBezTo>
                    <a:cubicBezTo>
                      <a:pt x="2149" y="81"/>
                      <a:pt x="2149" y="83"/>
                      <a:pt x="2150" y="84"/>
                    </a:cubicBezTo>
                    <a:cubicBezTo>
                      <a:pt x="2149" y="87"/>
                      <a:pt x="2147" y="90"/>
                      <a:pt x="2145" y="93"/>
                    </a:cubicBezTo>
                    <a:cubicBezTo>
                      <a:pt x="2146" y="85"/>
                      <a:pt x="2146" y="77"/>
                      <a:pt x="2145" y="70"/>
                    </a:cubicBezTo>
                    <a:close/>
                    <a:moveTo>
                      <a:pt x="2148" y="98"/>
                    </a:moveTo>
                    <a:cubicBezTo>
                      <a:pt x="2148" y="98"/>
                      <a:pt x="2148" y="97"/>
                      <a:pt x="2147" y="96"/>
                    </a:cubicBezTo>
                    <a:cubicBezTo>
                      <a:pt x="2148" y="97"/>
                      <a:pt x="2148" y="98"/>
                      <a:pt x="2148" y="98"/>
                    </a:cubicBezTo>
                    <a:cubicBezTo>
                      <a:pt x="2148" y="99"/>
                      <a:pt x="2148" y="100"/>
                      <a:pt x="2147" y="100"/>
                    </a:cubicBezTo>
                    <a:cubicBezTo>
                      <a:pt x="2147" y="99"/>
                      <a:pt x="2147" y="98"/>
                      <a:pt x="2146" y="97"/>
                    </a:cubicBezTo>
                    <a:cubicBezTo>
                      <a:pt x="2147" y="95"/>
                      <a:pt x="2148" y="93"/>
                      <a:pt x="2149" y="90"/>
                    </a:cubicBezTo>
                    <a:cubicBezTo>
                      <a:pt x="2149" y="93"/>
                      <a:pt x="2148" y="96"/>
                      <a:pt x="2148" y="98"/>
                    </a:cubicBezTo>
                    <a:close/>
                    <a:moveTo>
                      <a:pt x="2155" y="100"/>
                    </a:moveTo>
                    <a:cubicBezTo>
                      <a:pt x="2153" y="104"/>
                      <a:pt x="2152" y="107"/>
                      <a:pt x="2150" y="110"/>
                    </a:cubicBezTo>
                    <a:cubicBezTo>
                      <a:pt x="2150" y="110"/>
                      <a:pt x="2150" y="109"/>
                      <a:pt x="2150" y="109"/>
                    </a:cubicBezTo>
                    <a:cubicBezTo>
                      <a:pt x="2150" y="106"/>
                      <a:pt x="2151" y="102"/>
                      <a:pt x="2151" y="99"/>
                    </a:cubicBezTo>
                    <a:cubicBezTo>
                      <a:pt x="2152" y="95"/>
                      <a:pt x="2152" y="92"/>
                      <a:pt x="2152" y="90"/>
                    </a:cubicBezTo>
                    <a:cubicBezTo>
                      <a:pt x="2153" y="93"/>
                      <a:pt x="2154" y="96"/>
                      <a:pt x="2155" y="100"/>
                    </a:cubicBezTo>
                    <a:cubicBezTo>
                      <a:pt x="2155" y="100"/>
                      <a:pt x="2155" y="100"/>
                      <a:pt x="2155" y="100"/>
                    </a:cubicBezTo>
                    <a:close/>
                    <a:moveTo>
                      <a:pt x="2155" y="97"/>
                    </a:moveTo>
                    <a:cubicBezTo>
                      <a:pt x="2154" y="95"/>
                      <a:pt x="2153" y="92"/>
                      <a:pt x="2152" y="89"/>
                    </a:cubicBezTo>
                    <a:cubicBezTo>
                      <a:pt x="2152" y="89"/>
                      <a:pt x="2152" y="89"/>
                      <a:pt x="2152" y="88"/>
                    </a:cubicBez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89"/>
                      <a:pt x="2152" y="88"/>
                      <a:pt x="2152" y="88"/>
                    </a:cubicBezTo>
                    <a:cubicBezTo>
                      <a:pt x="2152" y="87"/>
                      <a:pt x="2152" y="86"/>
                      <a:pt x="2152" y="85"/>
                    </a:cubicBezTo>
                    <a:cubicBezTo>
                      <a:pt x="2152" y="84"/>
                      <a:pt x="2153" y="83"/>
                      <a:pt x="2153" y="82"/>
                    </a:cubicBezTo>
                    <a:cubicBezTo>
                      <a:pt x="2154" y="84"/>
                      <a:pt x="2155" y="86"/>
                      <a:pt x="2156" y="88"/>
                    </a:cubicBezTo>
                    <a:cubicBezTo>
                      <a:pt x="2156" y="91"/>
                      <a:pt x="2156" y="94"/>
                      <a:pt x="2155" y="97"/>
                    </a:cubicBezTo>
                    <a:close/>
                    <a:moveTo>
                      <a:pt x="2157" y="135"/>
                    </a:moveTo>
                    <a:cubicBezTo>
                      <a:pt x="2157" y="136"/>
                      <a:pt x="2157" y="137"/>
                      <a:pt x="2157" y="138"/>
                    </a:cubicBezTo>
                    <a:cubicBezTo>
                      <a:pt x="2157" y="137"/>
                      <a:pt x="2157" y="136"/>
                      <a:pt x="2157" y="135"/>
                    </a:cubicBezTo>
                    <a:cubicBezTo>
                      <a:pt x="2157" y="135"/>
                      <a:pt x="2157" y="135"/>
                      <a:pt x="2157" y="135"/>
                    </a:cubicBezTo>
                    <a:close/>
                    <a:moveTo>
                      <a:pt x="2157" y="83"/>
                    </a:moveTo>
                    <a:cubicBezTo>
                      <a:pt x="2156" y="82"/>
                      <a:pt x="2155" y="81"/>
                      <a:pt x="2155" y="80"/>
                    </a:cubicBezTo>
                    <a:cubicBezTo>
                      <a:pt x="2156" y="78"/>
                      <a:pt x="2157" y="77"/>
                      <a:pt x="2158" y="75"/>
                    </a:cubicBezTo>
                    <a:cubicBezTo>
                      <a:pt x="2157" y="78"/>
                      <a:pt x="2157" y="81"/>
                      <a:pt x="2157" y="83"/>
                    </a:cubicBezTo>
                    <a:close/>
                    <a:moveTo>
                      <a:pt x="2158" y="74"/>
                    </a:moveTo>
                    <a:cubicBezTo>
                      <a:pt x="2156" y="76"/>
                      <a:pt x="2155" y="77"/>
                      <a:pt x="2154" y="79"/>
                    </a:cubicBezTo>
                    <a:cubicBezTo>
                      <a:pt x="2153" y="78"/>
                      <a:pt x="2153" y="78"/>
                      <a:pt x="2153" y="77"/>
                    </a:cubicBezTo>
                    <a:cubicBezTo>
                      <a:pt x="2153" y="72"/>
                      <a:pt x="2153" y="67"/>
                      <a:pt x="2154" y="65"/>
                    </a:cubicBezTo>
                    <a:cubicBezTo>
                      <a:pt x="2155" y="67"/>
                      <a:pt x="2156" y="70"/>
                      <a:pt x="2158" y="72"/>
                    </a:cubicBezTo>
                    <a:cubicBezTo>
                      <a:pt x="2158" y="73"/>
                      <a:pt x="2158" y="73"/>
                      <a:pt x="2158" y="74"/>
                    </a:cubicBezTo>
                    <a:close/>
                    <a:moveTo>
                      <a:pt x="2160" y="75"/>
                    </a:moveTo>
                    <a:cubicBezTo>
                      <a:pt x="2161" y="78"/>
                      <a:pt x="2163" y="81"/>
                      <a:pt x="2165" y="84"/>
                    </a:cubicBezTo>
                    <a:cubicBezTo>
                      <a:pt x="2163" y="86"/>
                      <a:pt x="2162" y="88"/>
                      <a:pt x="2161" y="90"/>
                    </a:cubicBezTo>
                    <a:cubicBezTo>
                      <a:pt x="2161" y="89"/>
                      <a:pt x="2160" y="89"/>
                      <a:pt x="2160" y="89"/>
                    </a:cubicBezTo>
                    <a:cubicBezTo>
                      <a:pt x="2160" y="84"/>
                      <a:pt x="2160" y="79"/>
                      <a:pt x="2160" y="75"/>
                    </a:cubicBezTo>
                    <a:close/>
                    <a:moveTo>
                      <a:pt x="2162" y="110"/>
                    </a:moveTo>
                    <a:cubicBezTo>
                      <a:pt x="2162" y="107"/>
                      <a:pt x="2161" y="104"/>
                      <a:pt x="2160" y="101"/>
                    </a:cubicBezTo>
                    <a:cubicBezTo>
                      <a:pt x="2160" y="101"/>
                      <a:pt x="2160" y="100"/>
                      <a:pt x="2160" y="100"/>
                    </a:cubicBezTo>
                    <a:cubicBezTo>
                      <a:pt x="2160" y="100"/>
                      <a:pt x="2161" y="99"/>
                      <a:pt x="2161" y="99"/>
                    </a:cubicBezTo>
                    <a:cubicBezTo>
                      <a:pt x="2162" y="101"/>
                      <a:pt x="2162" y="104"/>
                      <a:pt x="2163" y="106"/>
                    </a:cubicBezTo>
                    <a:cubicBezTo>
                      <a:pt x="2163" y="108"/>
                      <a:pt x="2163" y="109"/>
                      <a:pt x="2162" y="110"/>
                    </a:cubicBezTo>
                    <a:close/>
                    <a:moveTo>
                      <a:pt x="2163" y="93"/>
                    </a:moveTo>
                    <a:cubicBezTo>
                      <a:pt x="2164" y="91"/>
                      <a:pt x="2165" y="88"/>
                      <a:pt x="2166" y="86"/>
                    </a:cubicBezTo>
                    <a:cubicBezTo>
                      <a:pt x="2166" y="87"/>
                      <a:pt x="2167" y="87"/>
                      <a:pt x="2167" y="88"/>
                    </a:cubicBezTo>
                    <a:cubicBezTo>
                      <a:pt x="2166" y="91"/>
                      <a:pt x="2166" y="94"/>
                      <a:pt x="2165" y="97"/>
                    </a:cubicBezTo>
                    <a:cubicBezTo>
                      <a:pt x="2164" y="96"/>
                      <a:pt x="2163" y="95"/>
                      <a:pt x="2163" y="93"/>
                    </a:cubicBezTo>
                    <a:close/>
                    <a:moveTo>
                      <a:pt x="2166" y="130"/>
                    </a:moveTo>
                    <a:cubicBezTo>
                      <a:pt x="2166" y="129"/>
                      <a:pt x="2166" y="128"/>
                      <a:pt x="2166" y="126"/>
                    </a:cubicBezTo>
                    <a:cubicBezTo>
                      <a:pt x="2166" y="124"/>
                      <a:pt x="2166" y="121"/>
                      <a:pt x="2167" y="119"/>
                    </a:cubicBezTo>
                    <a:cubicBezTo>
                      <a:pt x="2167" y="120"/>
                      <a:pt x="2168" y="122"/>
                      <a:pt x="2168" y="124"/>
                    </a:cubicBezTo>
                    <a:cubicBezTo>
                      <a:pt x="2167" y="126"/>
                      <a:pt x="2167" y="128"/>
                      <a:pt x="2166" y="130"/>
                    </a:cubicBezTo>
                    <a:close/>
                    <a:moveTo>
                      <a:pt x="2170" y="108"/>
                    </a:moveTo>
                    <a:cubicBezTo>
                      <a:pt x="2170" y="107"/>
                      <a:pt x="2169" y="106"/>
                      <a:pt x="2169" y="105"/>
                    </a:cubicBezTo>
                    <a:cubicBezTo>
                      <a:pt x="2169" y="102"/>
                      <a:pt x="2170" y="99"/>
                      <a:pt x="2171" y="96"/>
                    </a:cubicBezTo>
                    <a:cubicBezTo>
                      <a:pt x="2171" y="96"/>
                      <a:pt x="2171" y="97"/>
                      <a:pt x="2171" y="97"/>
                    </a:cubicBezTo>
                    <a:cubicBezTo>
                      <a:pt x="2171" y="101"/>
                      <a:pt x="2170" y="105"/>
                      <a:pt x="2170" y="108"/>
                    </a:cubicBezTo>
                    <a:close/>
                    <a:moveTo>
                      <a:pt x="2172" y="86"/>
                    </a:moveTo>
                    <a:cubicBezTo>
                      <a:pt x="2172" y="86"/>
                      <a:pt x="2172" y="86"/>
                      <a:pt x="2172" y="86"/>
                    </a:cubicBezTo>
                    <a:cubicBezTo>
                      <a:pt x="2172" y="85"/>
                      <a:pt x="2173" y="84"/>
                      <a:pt x="2173" y="83"/>
                    </a:cubicBezTo>
                    <a:cubicBezTo>
                      <a:pt x="2173" y="84"/>
                      <a:pt x="2172" y="85"/>
                      <a:pt x="2172" y="86"/>
                    </a:cubicBezTo>
                    <a:close/>
                    <a:moveTo>
                      <a:pt x="2180" y="80"/>
                    </a:moveTo>
                    <a:cubicBezTo>
                      <a:pt x="2180" y="77"/>
                      <a:pt x="2180" y="75"/>
                      <a:pt x="2180" y="73"/>
                    </a:cubicBezTo>
                    <a:cubicBezTo>
                      <a:pt x="2181" y="73"/>
                      <a:pt x="2181" y="74"/>
                      <a:pt x="2181" y="74"/>
                    </a:cubicBezTo>
                    <a:cubicBezTo>
                      <a:pt x="2181" y="76"/>
                      <a:pt x="2181" y="78"/>
                      <a:pt x="2180" y="80"/>
                    </a:cubicBezTo>
                    <a:close/>
                    <a:moveTo>
                      <a:pt x="2192" y="93"/>
                    </a:moveTo>
                    <a:cubicBezTo>
                      <a:pt x="2191" y="95"/>
                      <a:pt x="2191" y="96"/>
                      <a:pt x="2190" y="97"/>
                    </a:cubicBezTo>
                    <a:cubicBezTo>
                      <a:pt x="2190" y="94"/>
                      <a:pt x="2190" y="91"/>
                      <a:pt x="2189" y="88"/>
                    </a:cubicBezTo>
                    <a:cubicBezTo>
                      <a:pt x="2190" y="89"/>
                      <a:pt x="2191" y="91"/>
                      <a:pt x="2192" y="93"/>
                    </a:cubicBezTo>
                    <a:cubicBezTo>
                      <a:pt x="2192" y="93"/>
                      <a:pt x="2192" y="93"/>
                      <a:pt x="2192" y="93"/>
                    </a:cubicBezTo>
                    <a:close/>
                    <a:moveTo>
                      <a:pt x="2193" y="88"/>
                    </a:moveTo>
                    <a:cubicBezTo>
                      <a:pt x="2192" y="86"/>
                      <a:pt x="2191" y="85"/>
                      <a:pt x="2190" y="84"/>
                    </a:cubicBezTo>
                    <a:cubicBezTo>
                      <a:pt x="2191" y="81"/>
                      <a:pt x="2193" y="78"/>
                      <a:pt x="2195" y="75"/>
                    </a:cubicBezTo>
                    <a:cubicBezTo>
                      <a:pt x="2194" y="79"/>
                      <a:pt x="2193" y="84"/>
                      <a:pt x="2193" y="88"/>
                    </a:cubicBezTo>
                    <a:close/>
                    <a:moveTo>
                      <a:pt x="2202" y="77"/>
                    </a:moveTo>
                    <a:cubicBezTo>
                      <a:pt x="2202" y="77"/>
                      <a:pt x="2202" y="77"/>
                      <a:pt x="2202" y="77"/>
                    </a:cubicBezTo>
                    <a:cubicBezTo>
                      <a:pt x="2202" y="74"/>
                      <a:pt x="2201" y="70"/>
                      <a:pt x="2201" y="66"/>
                    </a:cubicBezTo>
                    <a:cubicBezTo>
                      <a:pt x="2201" y="65"/>
                      <a:pt x="2202" y="64"/>
                      <a:pt x="2202" y="63"/>
                    </a:cubicBezTo>
                    <a:cubicBezTo>
                      <a:pt x="2203" y="67"/>
                      <a:pt x="2203" y="72"/>
                      <a:pt x="2202" y="77"/>
                    </a:cubicBezTo>
                    <a:close/>
                    <a:moveTo>
                      <a:pt x="2205" y="72"/>
                    </a:moveTo>
                    <a:cubicBezTo>
                      <a:pt x="2205" y="67"/>
                      <a:pt x="2204" y="64"/>
                      <a:pt x="2203" y="61"/>
                    </a:cubicBezTo>
                    <a:cubicBezTo>
                      <a:pt x="2204" y="60"/>
                      <a:pt x="2205" y="58"/>
                      <a:pt x="2206" y="57"/>
                    </a:cubicBezTo>
                    <a:cubicBezTo>
                      <a:pt x="2206" y="62"/>
                      <a:pt x="2206" y="67"/>
                      <a:pt x="2205" y="72"/>
                    </a:cubicBezTo>
                    <a:close/>
                    <a:moveTo>
                      <a:pt x="2221" y="89"/>
                    </a:moveTo>
                    <a:cubicBezTo>
                      <a:pt x="2222" y="91"/>
                      <a:pt x="2223" y="92"/>
                      <a:pt x="2223" y="94"/>
                    </a:cubicBezTo>
                    <a:cubicBezTo>
                      <a:pt x="2223" y="95"/>
                      <a:pt x="2222" y="97"/>
                      <a:pt x="2222" y="98"/>
                    </a:cubicBezTo>
                    <a:cubicBezTo>
                      <a:pt x="2221" y="97"/>
                      <a:pt x="2221" y="96"/>
                      <a:pt x="2220" y="95"/>
                    </a:cubicBezTo>
                    <a:cubicBezTo>
                      <a:pt x="2220" y="93"/>
                      <a:pt x="2221" y="91"/>
                      <a:pt x="2221" y="89"/>
                    </a:cubicBezTo>
                    <a:close/>
                    <a:moveTo>
                      <a:pt x="2220" y="101"/>
                    </a:moveTo>
                    <a:cubicBezTo>
                      <a:pt x="2220" y="101"/>
                      <a:pt x="2220" y="100"/>
                      <a:pt x="2220" y="100"/>
                    </a:cubicBezTo>
                    <a:cubicBezTo>
                      <a:pt x="2220" y="100"/>
                      <a:pt x="2220" y="101"/>
                      <a:pt x="2220" y="101"/>
                    </a:cubicBezTo>
                    <a:cubicBezTo>
                      <a:pt x="2220" y="101"/>
                      <a:pt x="2220" y="101"/>
                      <a:pt x="2220" y="101"/>
                    </a:cubicBezTo>
                    <a:close/>
                    <a:moveTo>
                      <a:pt x="2222" y="122"/>
                    </a:moveTo>
                    <a:cubicBezTo>
                      <a:pt x="2222" y="121"/>
                      <a:pt x="2221" y="120"/>
                      <a:pt x="2221" y="119"/>
                    </a:cubicBezTo>
                    <a:cubicBezTo>
                      <a:pt x="2221" y="117"/>
                      <a:pt x="2221" y="115"/>
                      <a:pt x="2221" y="112"/>
                    </a:cubicBezTo>
                    <a:cubicBezTo>
                      <a:pt x="2221" y="110"/>
                      <a:pt x="2221" y="108"/>
                      <a:pt x="2222" y="106"/>
                    </a:cubicBezTo>
                    <a:cubicBezTo>
                      <a:pt x="2222" y="108"/>
                      <a:pt x="2223" y="110"/>
                      <a:pt x="2223" y="112"/>
                    </a:cubicBezTo>
                    <a:cubicBezTo>
                      <a:pt x="2223" y="115"/>
                      <a:pt x="2223" y="119"/>
                      <a:pt x="2222" y="122"/>
                    </a:cubicBezTo>
                    <a:close/>
                    <a:moveTo>
                      <a:pt x="2224" y="103"/>
                    </a:moveTo>
                    <a:cubicBezTo>
                      <a:pt x="2224" y="102"/>
                      <a:pt x="2223" y="101"/>
                      <a:pt x="2223" y="100"/>
                    </a:cubicBezTo>
                    <a:cubicBezTo>
                      <a:pt x="2223" y="99"/>
                      <a:pt x="2224" y="97"/>
                      <a:pt x="2224" y="96"/>
                    </a:cubicBezTo>
                    <a:cubicBezTo>
                      <a:pt x="2224" y="97"/>
                      <a:pt x="2225" y="97"/>
                      <a:pt x="2225" y="98"/>
                    </a:cubicBezTo>
                    <a:cubicBezTo>
                      <a:pt x="2225" y="100"/>
                      <a:pt x="2224" y="101"/>
                      <a:pt x="2224" y="103"/>
                    </a:cubicBezTo>
                    <a:close/>
                    <a:moveTo>
                      <a:pt x="2225" y="96"/>
                    </a:moveTo>
                    <a:cubicBezTo>
                      <a:pt x="2225" y="95"/>
                      <a:pt x="2225" y="95"/>
                      <a:pt x="2224" y="95"/>
                    </a:cubicBezTo>
                    <a:cubicBezTo>
                      <a:pt x="2225" y="93"/>
                      <a:pt x="2225" y="92"/>
                      <a:pt x="2226" y="91"/>
                    </a:cubicBezTo>
                    <a:cubicBezTo>
                      <a:pt x="2225" y="93"/>
                      <a:pt x="2225" y="94"/>
                      <a:pt x="2225" y="96"/>
                    </a:cubicBezTo>
                    <a:close/>
                    <a:moveTo>
                      <a:pt x="2231" y="95"/>
                    </a:moveTo>
                    <a:cubicBezTo>
                      <a:pt x="2231" y="92"/>
                      <a:pt x="2232" y="89"/>
                      <a:pt x="2232" y="86"/>
                    </a:cubicBezTo>
                    <a:cubicBezTo>
                      <a:pt x="2232" y="86"/>
                      <a:pt x="2233" y="87"/>
                      <a:pt x="2233" y="88"/>
                    </a:cubicBezTo>
                    <a:cubicBezTo>
                      <a:pt x="2233" y="90"/>
                      <a:pt x="2232" y="92"/>
                      <a:pt x="2231" y="95"/>
                    </a:cubicBezTo>
                    <a:close/>
                    <a:moveTo>
                      <a:pt x="2242" y="99"/>
                    </a:moveTo>
                    <a:cubicBezTo>
                      <a:pt x="2242" y="99"/>
                      <a:pt x="2241" y="98"/>
                      <a:pt x="2241" y="97"/>
                    </a:cubicBezTo>
                    <a:cubicBezTo>
                      <a:pt x="2241" y="93"/>
                      <a:pt x="2241" y="89"/>
                      <a:pt x="2241" y="84"/>
                    </a:cubicBezTo>
                    <a:cubicBezTo>
                      <a:pt x="2242" y="80"/>
                      <a:pt x="2245" y="76"/>
                      <a:pt x="2247" y="72"/>
                    </a:cubicBezTo>
                    <a:cubicBezTo>
                      <a:pt x="2248" y="74"/>
                      <a:pt x="2248" y="78"/>
                      <a:pt x="2249" y="82"/>
                    </a:cubicBezTo>
                    <a:cubicBezTo>
                      <a:pt x="2246" y="88"/>
                      <a:pt x="2244" y="93"/>
                      <a:pt x="2242" y="99"/>
                    </a:cubicBezTo>
                    <a:close/>
                    <a:moveTo>
                      <a:pt x="2250" y="75"/>
                    </a:moveTo>
                    <a:cubicBezTo>
                      <a:pt x="2250" y="73"/>
                      <a:pt x="2249" y="71"/>
                      <a:pt x="2249" y="69"/>
                    </a:cubicBezTo>
                    <a:cubicBezTo>
                      <a:pt x="2250" y="68"/>
                      <a:pt x="2250" y="67"/>
                      <a:pt x="2251" y="66"/>
                    </a:cubicBezTo>
                    <a:cubicBezTo>
                      <a:pt x="2251" y="69"/>
                      <a:pt x="2250" y="72"/>
                      <a:pt x="2250" y="75"/>
                    </a:cubicBezTo>
                    <a:close/>
                    <a:moveTo>
                      <a:pt x="2258" y="72"/>
                    </a:moveTo>
                    <a:cubicBezTo>
                      <a:pt x="2258" y="71"/>
                      <a:pt x="2258" y="70"/>
                      <a:pt x="2258" y="70"/>
                    </a:cubicBezTo>
                    <a:cubicBezTo>
                      <a:pt x="2258" y="69"/>
                      <a:pt x="2258" y="69"/>
                      <a:pt x="2258" y="69"/>
                    </a:cubicBezTo>
                    <a:cubicBezTo>
                      <a:pt x="2258" y="71"/>
                      <a:pt x="2258" y="72"/>
                      <a:pt x="2258" y="72"/>
                    </a:cubicBezTo>
                    <a:close/>
                    <a:moveTo>
                      <a:pt x="2258" y="67"/>
                    </a:moveTo>
                    <a:cubicBezTo>
                      <a:pt x="2258" y="67"/>
                      <a:pt x="2258" y="68"/>
                      <a:pt x="2258" y="68"/>
                    </a:cubicBezTo>
                    <a:cubicBezTo>
                      <a:pt x="2258" y="65"/>
                      <a:pt x="2257" y="61"/>
                      <a:pt x="2257" y="58"/>
                    </a:cubicBezTo>
                    <a:cubicBezTo>
                      <a:pt x="2257" y="57"/>
                      <a:pt x="2258" y="56"/>
                      <a:pt x="2259" y="56"/>
                    </a:cubicBezTo>
                    <a:cubicBezTo>
                      <a:pt x="2258" y="60"/>
                      <a:pt x="2258" y="64"/>
                      <a:pt x="2258" y="67"/>
                    </a:cubicBezTo>
                    <a:close/>
                    <a:moveTo>
                      <a:pt x="2266" y="123"/>
                    </a:moveTo>
                    <a:cubicBezTo>
                      <a:pt x="2265" y="124"/>
                      <a:pt x="2264" y="126"/>
                      <a:pt x="2264" y="127"/>
                    </a:cubicBezTo>
                    <a:cubicBezTo>
                      <a:pt x="2264" y="124"/>
                      <a:pt x="2264" y="122"/>
                      <a:pt x="2264" y="119"/>
                    </a:cubicBezTo>
                    <a:cubicBezTo>
                      <a:pt x="2265" y="116"/>
                      <a:pt x="2266" y="112"/>
                      <a:pt x="2267" y="109"/>
                    </a:cubicBezTo>
                    <a:cubicBezTo>
                      <a:pt x="2267" y="111"/>
                      <a:pt x="2267" y="112"/>
                      <a:pt x="2267" y="114"/>
                    </a:cubicBezTo>
                    <a:cubicBezTo>
                      <a:pt x="2267" y="117"/>
                      <a:pt x="2266" y="120"/>
                      <a:pt x="2266" y="123"/>
                    </a:cubicBezTo>
                    <a:close/>
                    <a:moveTo>
                      <a:pt x="2268" y="110"/>
                    </a:moveTo>
                    <a:cubicBezTo>
                      <a:pt x="2268" y="111"/>
                      <a:pt x="2268" y="112"/>
                      <a:pt x="2267" y="112"/>
                    </a:cubicBezTo>
                    <a:cubicBezTo>
                      <a:pt x="2267" y="111"/>
                      <a:pt x="2267" y="110"/>
                      <a:pt x="2267" y="109"/>
                    </a:cubicBezTo>
                    <a:cubicBezTo>
                      <a:pt x="2267" y="107"/>
                      <a:pt x="2268" y="105"/>
                      <a:pt x="2268" y="102"/>
                    </a:cubicBezTo>
                    <a:cubicBezTo>
                      <a:pt x="2268" y="105"/>
                      <a:pt x="2268" y="107"/>
                      <a:pt x="2268" y="110"/>
                    </a:cubicBezTo>
                    <a:close/>
                    <a:moveTo>
                      <a:pt x="2270" y="83"/>
                    </a:moveTo>
                    <a:cubicBezTo>
                      <a:pt x="2270" y="83"/>
                      <a:pt x="2270" y="84"/>
                      <a:pt x="2269" y="85"/>
                    </a:cubicBezTo>
                    <a:cubicBezTo>
                      <a:pt x="2268" y="87"/>
                      <a:pt x="2267" y="89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2"/>
                      <a:pt x="2265" y="94"/>
                      <a:pt x="2264" y="96"/>
                    </a:cubicBezTo>
                    <a:cubicBezTo>
                      <a:pt x="2264" y="90"/>
                      <a:pt x="2265" y="85"/>
                      <a:pt x="2267" y="79"/>
                    </a:cubicBezTo>
                    <a:cubicBezTo>
                      <a:pt x="2265" y="85"/>
                      <a:pt x="2264" y="90"/>
                      <a:pt x="2262" y="95"/>
                    </a:cubicBezTo>
                    <a:cubicBezTo>
                      <a:pt x="2262" y="85"/>
                      <a:pt x="2263" y="74"/>
                      <a:pt x="2263" y="63"/>
                    </a:cubicBezTo>
                    <a:cubicBezTo>
                      <a:pt x="2266" y="60"/>
                      <a:pt x="2269" y="58"/>
                      <a:pt x="2272" y="55"/>
                    </a:cubicBezTo>
                    <a:cubicBezTo>
                      <a:pt x="2272" y="62"/>
                      <a:pt x="2271" y="72"/>
                      <a:pt x="2270" y="83"/>
                    </a:cubicBezTo>
                    <a:close/>
                    <a:moveTo>
                      <a:pt x="2276" y="105"/>
                    </a:moveTo>
                    <a:cubicBezTo>
                      <a:pt x="2276" y="102"/>
                      <a:pt x="2276" y="99"/>
                      <a:pt x="2276" y="96"/>
                    </a:cubicBezTo>
                    <a:cubicBezTo>
                      <a:pt x="2276" y="97"/>
                      <a:pt x="2277" y="99"/>
                      <a:pt x="2277" y="100"/>
                    </a:cubicBezTo>
                    <a:cubicBezTo>
                      <a:pt x="2277" y="102"/>
                      <a:pt x="2277" y="103"/>
                      <a:pt x="2276" y="105"/>
                    </a:cubicBezTo>
                    <a:cubicBezTo>
                      <a:pt x="2276" y="105"/>
                      <a:pt x="2276" y="105"/>
                      <a:pt x="2276" y="105"/>
                    </a:cubicBezTo>
                    <a:close/>
                    <a:moveTo>
                      <a:pt x="2277" y="130"/>
                    </a:moveTo>
                    <a:cubicBezTo>
                      <a:pt x="2277" y="130"/>
                      <a:pt x="2277" y="130"/>
                      <a:pt x="2277" y="130"/>
                    </a:cubicBezTo>
                    <a:cubicBezTo>
                      <a:pt x="2277" y="129"/>
                      <a:pt x="2277" y="128"/>
                      <a:pt x="2277" y="127"/>
                    </a:cubicBezTo>
                    <a:cubicBezTo>
                      <a:pt x="2277" y="128"/>
                      <a:pt x="2277" y="128"/>
                      <a:pt x="2278" y="129"/>
                    </a:cubicBezTo>
                    <a:cubicBezTo>
                      <a:pt x="2277" y="129"/>
                      <a:pt x="2277" y="130"/>
                      <a:pt x="2277" y="130"/>
                    </a:cubicBezTo>
                    <a:close/>
                    <a:moveTo>
                      <a:pt x="2284" y="74"/>
                    </a:moveTo>
                    <a:cubicBezTo>
                      <a:pt x="2284" y="73"/>
                      <a:pt x="2284" y="71"/>
                      <a:pt x="2284" y="70"/>
                    </a:cubicBezTo>
                    <a:cubicBezTo>
                      <a:pt x="2284" y="70"/>
                      <a:pt x="2285" y="71"/>
                      <a:pt x="2285" y="72"/>
                    </a:cubicBezTo>
                    <a:cubicBezTo>
                      <a:pt x="2285" y="72"/>
                      <a:pt x="2285" y="73"/>
                      <a:pt x="2284" y="74"/>
                    </a:cubicBezTo>
                    <a:close/>
                    <a:moveTo>
                      <a:pt x="2288" y="139"/>
                    </a:moveTo>
                    <a:cubicBezTo>
                      <a:pt x="2288" y="140"/>
                      <a:pt x="2288" y="141"/>
                      <a:pt x="2288" y="142"/>
                    </a:cubicBezTo>
                    <a:cubicBezTo>
                      <a:pt x="2288" y="142"/>
                      <a:pt x="2288" y="141"/>
                      <a:pt x="2288" y="139"/>
                    </a:cubicBezTo>
                    <a:cubicBezTo>
                      <a:pt x="2288" y="138"/>
                      <a:pt x="2288" y="137"/>
                      <a:pt x="2288" y="136"/>
                    </a:cubicBezTo>
                    <a:cubicBezTo>
                      <a:pt x="2288" y="137"/>
                      <a:pt x="2288" y="137"/>
                      <a:pt x="2288" y="137"/>
                    </a:cubicBezTo>
                    <a:cubicBezTo>
                      <a:pt x="2288" y="138"/>
                      <a:pt x="2288" y="139"/>
                      <a:pt x="2288" y="139"/>
                    </a:cubicBezTo>
                    <a:close/>
                    <a:moveTo>
                      <a:pt x="2290" y="122"/>
                    </a:moveTo>
                    <a:cubicBezTo>
                      <a:pt x="2290" y="122"/>
                      <a:pt x="2290" y="122"/>
                      <a:pt x="2290" y="122"/>
                    </a:cubicBezTo>
                    <a:cubicBezTo>
                      <a:pt x="2290" y="121"/>
                      <a:pt x="2290" y="121"/>
                      <a:pt x="2290" y="121"/>
                    </a:cubicBezTo>
                    <a:cubicBezTo>
                      <a:pt x="2290" y="121"/>
                      <a:pt x="2290" y="122"/>
                      <a:pt x="2290" y="122"/>
                    </a:cubicBezTo>
                    <a:close/>
                    <a:moveTo>
                      <a:pt x="2291" y="110"/>
                    </a:moveTo>
                    <a:cubicBezTo>
                      <a:pt x="2290" y="112"/>
                      <a:pt x="2289" y="114"/>
                      <a:pt x="2288" y="116"/>
                    </a:cubicBezTo>
                    <a:cubicBezTo>
                      <a:pt x="2288" y="116"/>
                      <a:pt x="2288" y="117"/>
                      <a:pt x="2288" y="117"/>
                    </a:cubicBezTo>
                    <a:cubicBezTo>
                      <a:pt x="2288" y="113"/>
                      <a:pt x="2287" y="108"/>
                      <a:pt x="2287" y="104"/>
                    </a:cubicBezTo>
                    <a:cubicBezTo>
                      <a:pt x="2288" y="101"/>
                      <a:pt x="2288" y="98"/>
                      <a:pt x="2289" y="96"/>
                    </a:cubicBezTo>
                    <a:cubicBezTo>
                      <a:pt x="2290" y="95"/>
                      <a:pt x="2290" y="95"/>
                      <a:pt x="2290" y="95"/>
                    </a:cubicBezTo>
                    <a:cubicBezTo>
                      <a:pt x="2290" y="98"/>
                      <a:pt x="2291" y="101"/>
                      <a:pt x="2291" y="104"/>
                    </a:cubicBezTo>
                    <a:cubicBezTo>
                      <a:pt x="2291" y="106"/>
                      <a:pt x="2291" y="108"/>
                      <a:pt x="2291" y="110"/>
                    </a:cubicBezTo>
                    <a:close/>
                    <a:moveTo>
                      <a:pt x="2292" y="99"/>
                    </a:moveTo>
                    <a:cubicBezTo>
                      <a:pt x="2291" y="97"/>
                      <a:pt x="2291" y="96"/>
                      <a:pt x="2290" y="94"/>
                    </a:cubicBezTo>
                    <a:cubicBezTo>
                      <a:pt x="2291" y="93"/>
                      <a:pt x="2292" y="92"/>
                      <a:pt x="2292" y="91"/>
                    </a:cubicBezTo>
                    <a:cubicBezTo>
                      <a:pt x="2292" y="94"/>
                      <a:pt x="2292" y="96"/>
                      <a:pt x="2292" y="99"/>
                    </a:cubicBezTo>
                    <a:close/>
                    <a:moveTo>
                      <a:pt x="2286" y="91"/>
                    </a:moveTo>
                    <a:cubicBezTo>
                      <a:pt x="2286" y="89"/>
                      <a:pt x="2286" y="88"/>
                      <a:pt x="2285" y="87"/>
                    </a:cubicBezTo>
                    <a:cubicBezTo>
                      <a:pt x="2287" y="83"/>
                      <a:pt x="2288" y="80"/>
                      <a:pt x="2289" y="76"/>
                    </a:cubicBezTo>
                    <a:cubicBezTo>
                      <a:pt x="2290" y="78"/>
                      <a:pt x="2292" y="80"/>
                      <a:pt x="2293" y="82"/>
                    </a:cubicBezTo>
                    <a:cubicBezTo>
                      <a:pt x="2290" y="85"/>
                      <a:pt x="2288" y="88"/>
                      <a:pt x="2286" y="91"/>
                    </a:cubicBezTo>
                    <a:close/>
                    <a:moveTo>
                      <a:pt x="2293" y="79"/>
                    </a:moveTo>
                    <a:cubicBezTo>
                      <a:pt x="2292" y="77"/>
                      <a:pt x="2291" y="76"/>
                      <a:pt x="2290" y="75"/>
                    </a:cubicBezTo>
                    <a:cubicBezTo>
                      <a:pt x="2291" y="72"/>
                      <a:pt x="2293" y="68"/>
                      <a:pt x="2294" y="65"/>
                    </a:cubicBezTo>
                    <a:cubicBezTo>
                      <a:pt x="2294" y="68"/>
                      <a:pt x="2294" y="73"/>
                      <a:pt x="2293" y="79"/>
                    </a:cubicBezTo>
                    <a:close/>
                    <a:moveTo>
                      <a:pt x="2311" y="54"/>
                    </a:moveTo>
                    <a:cubicBezTo>
                      <a:pt x="2311" y="56"/>
                      <a:pt x="2310" y="58"/>
                      <a:pt x="2310" y="61"/>
                    </a:cubicBezTo>
                    <a:cubicBezTo>
                      <a:pt x="2306" y="65"/>
                      <a:pt x="2302" y="69"/>
                      <a:pt x="2299" y="74"/>
                    </a:cubicBezTo>
                    <a:cubicBezTo>
                      <a:pt x="2302" y="67"/>
                      <a:pt x="2306" y="60"/>
                      <a:pt x="2311" y="54"/>
                    </a:cubicBezTo>
                    <a:close/>
                    <a:moveTo>
                      <a:pt x="2297" y="89"/>
                    </a:moveTo>
                    <a:cubicBezTo>
                      <a:pt x="2297" y="90"/>
                      <a:pt x="2298" y="91"/>
                      <a:pt x="2298" y="92"/>
                    </a:cubicBezTo>
                    <a:cubicBezTo>
                      <a:pt x="2298" y="92"/>
                      <a:pt x="2297" y="93"/>
                      <a:pt x="2297" y="94"/>
                    </a:cubicBezTo>
                    <a:cubicBezTo>
                      <a:pt x="2297" y="92"/>
                      <a:pt x="2297" y="91"/>
                      <a:pt x="2297" y="89"/>
                    </a:cubicBezTo>
                    <a:close/>
                    <a:moveTo>
                      <a:pt x="2299" y="127"/>
                    </a:moveTo>
                    <a:cubicBezTo>
                      <a:pt x="2299" y="125"/>
                      <a:pt x="2299" y="124"/>
                      <a:pt x="2298" y="122"/>
                    </a:cubicBezTo>
                    <a:cubicBezTo>
                      <a:pt x="2298" y="117"/>
                      <a:pt x="2298" y="111"/>
                      <a:pt x="2298" y="105"/>
                    </a:cubicBezTo>
                    <a:cubicBezTo>
                      <a:pt x="2299" y="104"/>
                      <a:pt x="2299" y="102"/>
                      <a:pt x="2300" y="101"/>
                    </a:cubicBezTo>
                    <a:cubicBezTo>
                      <a:pt x="2299" y="102"/>
                      <a:pt x="2299" y="103"/>
                      <a:pt x="2298" y="105"/>
                    </a:cubicBezTo>
                    <a:cubicBezTo>
                      <a:pt x="2297" y="102"/>
                      <a:pt x="2297" y="99"/>
                      <a:pt x="2297" y="96"/>
                    </a:cubicBezTo>
                    <a:cubicBezTo>
                      <a:pt x="2298" y="95"/>
                      <a:pt x="2298" y="94"/>
                      <a:pt x="2298" y="93"/>
                    </a:cubicBezTo>
                    <a:cubicBezTo>
                      <a:pt x="2299" y="95"/>
                      <a:pt x="2300" y="97"/>
                      <a:pt x="2301" y="100"/>
                    </a:cubicBezTo>
                    <a:cubicBezTo>
                      <a:pt x="2301" y="100"/>
                      <a:pt x="2301" y="100"/>
                      <a:pt x="2300" y="101"/>
                    </a:cubicBezTo>
                    <a:cubicBezTo>
                      <a:pt x="2301" y="101"/>
                      <a:pt x="2301" y="100"/>
                      <a:pt x="2301" y="100"/>
                    </a:cubicBezTo>
                    <a:cubicBezTo>
                      <a:pt x="2302" y="101"/>
                      <a:pt x="2302" y="102"/>
                      <a:pt x="2303" y="103"/>
                    </a:cubicBezTo>
                    <a:cubicBezTo>
                      <a:pt x="2301" y="112"/>
                      <a:pt x="2300" y="120"/>
                      <a:pt x="2299" y="127"/>
                    </a:cubicBezTo>
                    <a:close/>
                    <a:moveTo>
                      <a:pt x="2300" y="87"/>
                    </a:moveTo>
                    <a:cubicBezTo>
                      <a:pt x="2301" y="86"/>
                      <a:pt x="2302" y="84"/>
                      <a:pt x="2303" y="83"/>
                    </a:cubicBezTo>
                    <a:cubicBezTo>
                      <a:pt x="2302" y="84"/>
                      <a:pt x="2301" y="86"/>
                      <a:pt x="2300" y="87"/>
                    </a:cubicBezTo>
                    <a:cubicBezTo>
                      <a:pt x="2299" y="86"/>
                      <a:pt x="2298" y="85"/>
                      <a:pt x="2297" y="83"/>
                    </a:cubicBezTo>
                    <a:cubicBezTo>
                      <a:pt x="2301" y="78"/>
                      <a:pt x="2305" y="72"/>
                      <a:pt x="2308" y="67"/>
                    </a:cubicBezTo>
                    <a:cubicBezTo>
                      <a:pt x="2308" y="72"/>
                      <a:pt x="2307" y="76"/>
                      <a:pt x="2306" y="81"/>
                    </a:cubicBezTo>
                    <a:cubicBezTo>
                      <a:pt x="2306" y="80"/>
                      <a:pt x="2305" y="79"/>
                      <a:pt x="2305" y="79"/>
                    </a:cubicBezTo>
                    <a:cubicBezTo>
                      <a:pt x="2305" y="78"/>
                      <a:pt x="2306" y="77"/>
                      <a:pt x="2307" y="75"/>
                    </a:cubicBezTo>
                    <a:cubicBezTo>
                      <a:pt x="2306" y="76"/>
                      <a:pt x="2305" y="77"/>
                      <a:pt x="2305" y="79"/>
                    </a:cubicBezTo>
                    <a:cubicBezTo>
                      <a:pt x="2304" y="78"/>
                      <a:pt x="2304" y="77"/>
                      <a:pt x="2303" y="77"/>
                    </a:cubicBezTo>
                    <a:cubicBezTo>
                      <a:pt x="2303" y="78"/>
                      <a:pt x="2304" y="79"/>
                      <a:pt x="2304" y="79"/>
                    </a:cubicBezTo>
                    <a:cubicBezTo>
                      <a:pt x="2304" y="80"/>
                      <a:pt x="2303" y="81"/>
                      <a:pt x="2303" y="83"/>
                    </a:cubicBezTo>
                    <a:cubicBezTo>
                      <a:pt x="2303" y="82"/>
                      <a:pt x="2304" y="81"/>
                      <a:pt x="2304" y="80"/>
                    </a:cubicBezTo>
                    <a:cubicBezTo>
                      <a:pt x="2305" y="81"/>
                      <a:pt x="2305" y="82"/>
                      <a:pt x="2306" y="84"/>
                    </a:cubicBezTo>
                    <a:cubicBezTo>
                      <a:pt x="2305" y="87"/>
                      <a:pt x="2305" y="90"/>
                      <a:pt x="2304" y="93"/>
                    </a:cubicBezTo>
                    <a:cubicBezTo>
                      <a:pt x="2303" y="91"/>
                      <a:pt x="2302" y="89"/>
                      <a:pt x="2300" y="87"/>
                    </a:cubicBezTo>
                    <a:close/>
                    <a:moveTo>
                      <a:pt x="2305" y="144"/>
                    </a:moveTo>
                    <a:cubicBezTo>
                      <a:pt x="2305" y="144"/>
                      <a:pt x="2305" y="143"/>
                      <a:pt x="2305" y="143"/>
                    </a:cubicBezTo>
                    <a:cubicBezTo>
                      <a:pt x="2305" y="140"/>
                      <a:pt x="2305" y="136"/>
                      <a:pt x="2305" y="131"/>
                    </a:cubicBezTo>
                    <a:cubicBezTo>
                      <a:pt x="2306" y="128"/>
                      <a:pt x="2307" y="126"/>
                      <a:pt x="2307" y="125"/>
                    </a:cubicBezTo>
                    <a:cubicBezTo>
                      <a:pt x="2307" y="125"/>
                      <a:pt x="2307" y="124"/>
                      <a:pt x="2307" y="124"/>
                    </a:cubicBezTo>
                    <a:cubicBezTo>
                      <a:pt x="2306" y="124"/>
                      <a:pt x="2306" y="124"/>
                      <a:pt x="2306" y="124"/>
                    </a:cubicBezTo>
                    <a:cubicBezTo>
                      <a:pt x="2306" y="122"/>
                      <a:pt x="2306" y="120"/>
                      <a:pt x="2306" y="118"/>
                    </a:cubicBezTo>
                    <a:cubicBezTo>
                      <a:pt x="2307" y="121"/>
                      <a:pt x="2308" y="125"/>
                      <a:pt x="2308" y="128"/>
                    </a:cubicBezTo>
                    <a:cubicBezTo>
                      <a:pt x="2307" y="136"/>
                      <a:pt x="2306" y="141"/>
                      <a:pt x="2305" y="144"/>
                    </a:cubicBezTo>
                    <a:close/>
                    <a:moveTo>
                      <a:pt x="2312" y="107"/>
                    </a:moveTo>
                    <a:cubicBezTo>
                      <a:pt x="2311" y="105"/>
                      <a:pt x="2310" y="102"/>
                      <a:pt x="2308" y="100"/>
                    </a:cubicBezTo>
                    <a:cubicBezTo>
                      <a:pt x="2309" y="97"/>
                      <a:pt x="2309" y="95"/>
                      <a:pt x="2309" y="93"/>
                    </a:cubicBezTo>
                    <a:cubicBezTo>
                      <a:pt x="2310" y="96"/>
                      <a:pt x="2312" y="99"/>
                      <a:pt x="2313" y="102"/>
                    </a:cubicBezTo>
                    <a:cubicBezTo>
                      <a:pt x="2313" y="104"/>
                      <a:pt x="2312" y="105"/>
                      <a:pt x="2312" y="107"/>
                    </a:cubicBezTo>
                    <a:close/>
                    <a:moveTo>
                      <a:pt x="2313" y="159"/>
                    </a:moveTo>
                    <a:cubicBezTo>
                      <a:pt x="2313" y="159"/>
                      <a:pt x="2313" y="159"/>
                      <a:pt x="2313" y="159"/>
                    </a:cubicBezTo>
                    <a:cubicBezTo>
                      <a:pt x="2313" y="159"/>
                      <a:pt x="2313" y="159"/>
                      <a:pt x="2314" y="159"/>
                    </a:cubicBezTo>
                    <a:cubicBezTo>
                      <a:pt x="2313" y="159"/>
                      <a:pt x="2313" y="159"/>
                      <a:pt x="2313" y="159"/>
                    </a:cubicBezTo>
                    <a:close/>
                    <a:moveTo>
                      <a:pt x="2314" y="96"/>
                    </a:moveTo>
                    <a:cubicBezTo>
                      <a:pt x="2313" y="93"/>
                      <a:pt x="2311" y="91"/>
                      <a:pt x="2310" y="88"/>
                    </a:cubicBezTo>
                    <a:cubicBezTo>
                      <a:pt x="2312" y="85"/>
                      <a:pt x="2314" y="82"/>
                      <a:pt x="2316" y="79"/>
                    </a:cubicBezTo>
                    <a:cubicBezTo>
                      <a:pt x="2316" y="84"/>
                      <a:pt x="2315" y="90"/>
                      <a:pt x="2314" y="96"/>
                    </a:cubicBezTo>
                    <a:close/>
                    <a:moveTo>
                      <a:pt x="2317" y="75"/>
                    </a:moveTo>
                    <a:cubicBezTo>
                      <a:pt x="2315" y="78"/>
                      <a:pt x="2312" y="82"/>
                      <a:pt x="2310" y="86"/>
                    </a:cubicBezTo>
                    <a:cubicBezTo>
                      <a:pt x="2311" y="77"/>
                      <a:pt x="2312" y="68"/>
                      <a:pt x="2313" y="61"/>
                    </a:cubicBezTo>
                    <a:cubicBezTo>
                      <a:pt x="2315" y="58"/>
                      <a:pt x="2317" y="55"/>
                      <a:pt x="2319" y="53"/>
                    </a:cubicBezTo>
                    <a:cubicBezTo>
                      <a:pt x="2319" y="58"/>
                      <a:pt x="2318" y="66"/>
                      <a:pt x="2317" y="75"/>
                    </a:cubicBezTo>
                    <a:close/>
                    <a:moveTo>
                      <a:pt x="2324" y="139"/>
                    </a:moveTo>
                    <a:cubicBezTo>
                      <a:pt x="2324" y="139"/>
                      <a:pt x="2324" y="139"/>
                      <a:pt x="2323" y="139"/>
                    </a:cubicBezTo>
                    <a:cubicBezTo>
                      <a:pt x="2323" y="138"/>
                      <a:pt x="2323" y="138"/>
                      <a:pt x="2324" y="138"/>
                    </a:cubicBezTo>
                    <a:cubicBezTo>
                      <a:pt x="2324" y="138"/>
                      <a:pt x="2324" y="138"/>
                      <a:pt x="2324" y="138"/>
                    </a:cubicBezTo>
                    <a:cubicBezTo>
                      <a:pt x="2324" y="139"/>
                      <a:pt x="2324" y="139"/>
                      <a:pt x="2324" y="139"/>
                    </a:cubicBezTo>
                    <a:close/>
                    <a:moveTo>
                      <a:pt x="2349" y="137"/>
                    </a:moveTo>
                    <a:cubicBezTo>
                      <a:pt x="2349" y="136"/>
                      <a:pt x="2348" y="135"/>
                      <a:pt x="2348" y="133"/>
                    </a:cubicBezTo>
                    <a:cubicBezTo>
                      <a:pt x="2348" y="132"/>
                      <a:pt x="2348" y="130"/>
                      <a:pt x="2348" y="128"/>
                    </a:cubicBezTo>
                    <a:cubicBezTo>
                      <a:pt x="2348" y="131"/>
                      <a:pt x="2349" y="133"/>
                      <a:pt x="2350" y="135"/>
                    </a:cubicBezTo>
                    <a:cubicBezTo>
                      <a:pt x="2350" y="136"/>
                      <a:pt x="2349" y="137"/>
                      <a:pt x="2349" y="137"/>
                    </a:cubicBezTo>
                    <a:close/>
                    <a:moveTo>
                      <a:pt x="2355" y="99"/>
                    </a:moveTo>
                    <a:cubicBezTo>
                      <a:pt x="2354" y="95"/>
                      <a:pt x="2352" y="92"/>
                      <a:pt x="2350" y="90"/>
                    </a:cubicBezTo>
                    <a:cubicBezTo>
                      <a:pt x="2352" y="93"/>
                      <a:pt x="2354" y="97"/>
                      <a:pt x="2355" y="101"/>
                    </a:cubicBezTo>
                    <a:cubicBezTo>
                      <a:pt x="2354" y="110"/>
                      <a:pt x="2353" y="118"/>
                      <a:pt x="2351" y="125"/>
                    </a:cubicBezTo>
                    <a:cubicBezTo>
                      <a:pt x="2350" y="122"/>
                      <a:pt x="2349" y="119"/>
                      <a:pt x="2349" y="116"/>
                    </a:cubicBezTo>
                    <a:cubicBezTo>
                      <a:pt x="2349" y="102"/>
                      <a:pt x="2350" y="86"/>
                      <a:pt x="2351" y="72"/>
                    </a:cubicBezTo>
                    <a:cubicBezTo>
                      <a:pt x="2353" y="75"/>
                      <a:pt x="2356" y="79"/>
                      <a:pt x="2358" y="82"/>
                    </a:cubicBezTo>
                    <a:cubicBezTo>
                      <a:pt x="2357" y="88"/>
                      <a:pt x="2356" y="93"/>
                      <a:pt x="2355" y="99"/>
                    </a:cubicBezTo>
                    <a:close/>
                    <a:moveTo>
                      <a:pt x="2358" y="142"/>
                    </a:moveTo>
                    <a:cubicBezTo>
                      <a:pt x="2359" y="134"/>
                      <a:pt x="2360" y="127"/>
                      <a:pt x="2360" y="121"/>
                    </a:cubicBezTo>
                    <a:cubicBezTo>
                      <a:pt x="2360" y="123"/>
                      <a:pt x="2361" y="125"/>
                      <a:pt x="2361" y="127"/>
                    </a:cubicBezTo>
                    <a:cubicBezTo>
                      <a:pt x="2360" y="136"/>
                      <a:pt x="2358" y="142"/>
                      <a:pt x="2358" y="142"/>
                    </a:cubicBezTo>
                    <a:close/>
                    <a:moveTo>
                      <a:pt x="2362" y="144"/>
                    </a:moveTo>
                    <a:cubicBezTo>
                      <a:pt x="2362" y="142"/>
                      <a:pt x="2362" y="140"/>
                      <a:pt x="2363" y="137"/>
                    </a:cubicBezTo>
                    <a:cubicBezTo>
                      <a:pt x="2363" y="138"/>
                      <a:pt x="2363" y="138"/>
                      <a:pt x="2363" y="138"/>
                    </a:cubicBezTo>
                    <a:cubicBezTo>
                      <a:pt x="2362" y="142"/>
                      <a:pt x="2362" y="144"/>
                      <a:pt x="2362" y="144"/>
                    </a:cubicBezTo>
                    <a:close/>
                    <a:moveTo>
                      <a:pt x="2361" y="110"/>
                    </a:moveTo>
                    <a:cubicBezTo>
                      <a:pt x="2361" y="103"/>
                      <a:pt x="2362" y="96"/>
                      <a:pt x="2362" y="90"/>
                    </a:cubicBezTo>
                    <a:cubicBezTo>
                      <a:pt x="2364" y="93"/>
                      <a:pt x="2365" y="96"/>
                      <a:pt x="2366" y="99"/>
                    </a:cubicBezTo>
                    <a:cubicBezTo>
                      <a:pt x="2365" y="105"/>
                      <a:pt x="2364" y="111"/>
                      <a:pt x="2363" y="116"/>
                    </a:cubicBezTo>
                    <a:cubicBezTo>
                      <a:pt x="2362" y="114"/>
                      <a:pt x="2362" y="112"/>
                      <a:pt x="2361" y="110"/>
                    </a:cubicBezTo>
                    <a:close/>
                    <a:moveTo>
                      <a:pt x="2366" y="124"/>
                    </a:moveTo>
                    <a:cubicBezTo>
                      <a:pt x="2365" y="123"/>
                      <a:pt x="2365" y="122"/>
                      <a:pt x="2365" y="121"/>
                    </a:cubicBezTo>
                    <a:cubicBezTo>
                      <a:pt x="2365" y="115"/>
                      <a:pt x="2366" y="109"/>
                      <a:pt x="2367" y="103"/>
                    </a:cubicBezTo>
                    <a:cubicBezTo>
                      <a:pt x="2368" y="105"/>
                      <a:pt x="2368" y="107"/>
                      <a:pt x="2369" y="109"/>
                    </a:cubicBezTo>
                    <a:cubicBezTo>
                      <a:pt x="2368" y="114"/>
                      <a:pt x="2367" y="119"/>
                      <a:pt x="2366" y="124"/>
                    </a:cubicBezTo>
                    <a:close/>
                    <a:moveTo>
                      <a:pt x="2371" y="146"/>
                    </a:moveTo>
                    <a:cubicBezTo>
                      <a:pt x="2371" y="145"/>
                      <a:pt x="2371" y="145"/>
                      <a:pt x="2371" y="145"/>
                    </a:cubicBezTo>
                    <a:cubicBezTo>
                      <a:pt x="2372" y="144"/>
                      <a:pt x="2372" y="143"/>
                      <a:pt x="2372" y="141"/>
                    </a:cubicBezTo>
                    <a:cubicBezTo>
                      <a:pt x="2372" y="142"/>
                      <a:pt x="2372" y="143"/>
                      <a:pt x="2372" y="144"/>
                    </a:cubicBezTo>
                    <a:cubicBezTo>
                      <a:pt x="2372" y="145"/>
                      <a:pt x="2372" y="145"/>
                      <a:pt x="2371" y="146"/>
                    </a:cubicBezTo>
                    <a:close/>
                    <a:moveTo>
                      <a:pt x="2395" y="118"/>
                    </a:moveTo>
                    <a:cubicBezTo>
                      <a:pt x="2394" y="114"/>
                      <a:pt x="2392" y="111"/>
                      <a:pt x="2391" y="107"/>
                    </a:cubicBezTo>
                    <a:cubicBezTo>
                      <a:pt x="2391" y="96"/>
                      <a:pt x="2391" y="84"/>
                      <a:pt x="2391" y="74"/>
                    </a:cubicBezTo>
                    <a:cubicBezTo>
                      <a:pt x="2391" y="70"/>
                      <a:pt x="2391" y="67"/>
                      <a:pt x="2390" y="65"/>
                    </a:cubicBezTo>
                    <a:cubicBezTo>
                      <a:pt x="2391" y="74"/>
                      <a:pt x="2395" y="84"/>
                      <a:pt x="2398" y="94"/>
                    </a:cubicBezTo>
                    <a:cubicBezTo>
                      <a:pt x="2397" y="102"/>
                      <a:pt x="2396" y="110"/>
                      <a:pt x="2395" y="118"/>
                    </a:cubicBezTo>
                    <a:close/>
                    <a:moveTo>
                      <a:pt x="2424" y="124"/>
                    </a:moveTo>
                    <a:cubicBezTo>
                      <a:pt x="2423" y="122"/>
                      <a:pt x="2423" y="120"/>
                      <a:pt x="2422" y="117"/>
                    </a:cubicBezTo>
                    <a:cubicBezTo>
                      <a:pt x="2423" y="109"/>
                      <a:pt x="2424" y="100"/>
                      <a:pt x="2425" y="92"/>
                    </a:cubicBezTo>
                    <a:cubicBezTo>
                      <a:pt x="2427" y="96"/>
                      <a:pt x="2428" y="100"/>
                      <a:pt x="2428" y="104"/>
                    </a:cubicBezTo>
                    <a:cubicBezTo>
                      <a:pt x="2427" y="111"/>
                      <a:pt x="2425" y="118"/>
                      <a:pt x="2424" y="124"/>
                    </a:cubicBezTo>
                    <a:close/>
                    <a:moveTo>
                      <a:pt x="2464" y="133"/>
                    </a:moveTo>
                    <a:cubicBezTo>
                      <a:pt x="2464" y="130"/>
                      <a:pt x="2463" y="126"/>
                      <a:pt x="2462" y="122"/>
                    </a:cubicBezTo>
                    <a:cubicBezTo>
                      <a:pt x="2462" y="112"/>
                      <a:pt x="2462" y="100"/>
                      <a:pt x="2463" y="88"/>
                    </a:cubicBezTo>
                    <a:cubicBezTo>
                      <a:pt x="2465" y="96"/>
                      <a:pt x="2467" y="104"/>
                      <a:pt x="2467" y="111"/>
                    </a:cubicBezTo>
                    <a:cubicBezTo>
                      <a:pt x="2468" y="117"/>
                      <a:pt x="2468" y="117"/>
                      <a:pt x="2468" y="117"/>
                    </a:cubicBezTo>
                    <a:cubicBezTo>
                      <a:pt x="2466" y="123"/>
                      <a:pt x="2465" y="129"/>
                      <a:pt x="2464" y="133"/>
                    </a:cubicBezTo>
                    <a:close/>
                    <a:moveTo>
                      <a:pt x="2477" y="110"/>
                    </a:moveTo>
                    <a:cubicBezTo>
                      <a:pt x="2477" y="113"/>
                      <a:pt x="2477" y="116"/>
                      <a:pt x="2477" y="119"/>
                    </a:cubicBezTo>
                    <a:cubicBezTo>
                      <a:pt x="2476" y="122"/>
                      <a:pt x="2476" y="124"/>
                      <a:pt x="2475" y="127"/>
                    </a:cubicBezTo>
                    <a:cubicBezTo>
                      <a:pt x="2475" y="119"/>
                      <a:pt x="2474" y="111"/>
                      <a:pt x="2473" y="104"/>
                    </a:cubicBezTo>
                    <a:cubicBezTo>
                      <a:pt x="2474" y="98"/>
                      <a:pt x="2474" y="91"/>
                      <a:pt x="2475" y="86"/>
                    </a:cubicBezTo>
                    <a:cubicBezTo>
                      <a:pt x="2477" y="93"/>
                      <a:pt x="2477" y="102"/>
                      <a:pt x="2477" y="110"/>
                    </a:cubicBezTo>
                    <a:close/>
                    <a:moveTo>
                      <a:pt x="2487" y="142"/>
                    </a:moveTo>
                    <a:cubicBezTo>
                      <a:pt x="2487" y="142"/>
                      <a:pt x="2487" y="141"/>
                      <a:pt x="2488" y="138"/>
                    </a:cubicBezTo>
                    <a:cubicBezTo>
                      <a:pt x="2489" y="120"/>
                      <a:pt x="2488" y="96"/>
                      <a:pt x="2487" y="77"/>
                    </a:cubicBezTo>
                    <a:cubicBezTo>
                      <a:pt x="2489" y="81"/>
                      <a:pt x="2491" y="86"/>
                      <a:pt x="2492" y="92"/>
                    </a:cubicBezTo>
                    <a:cubicBezTo>
                      <a:pt x="2490" y="108"/>
                      <a:pt x="2488" y="129"/>
                      <a:pt x="2488" y="138"/>
                    </a:cubicBezTo>
                    <a:cubicBezTo>
                      <a:pt x="2487" y="139"/>
                      <a:pt x="2487" y="141"/>
                      <a:pt x="2487" y="142"/>
                    </a:cubicBezTo>
                    <a:close/>
                    <a:moveTo>
                      <a:pt x="2491" y="129"/>
                    </a:moveTo>
                    <a:cubicBezTo>
                      <a:pt x="2491" y="119"/>
                      <a:pt x="2492" y="107"/>
                      <a:pt x="2493" y="97"/>
                    </a:cubicBezTo>
                    <a:cubicBezTo>
                      <a:pt x="2493" y="100"/>
                      <a:pt x="2493" y="103"/>
                      <a:pt x="2493" y="106"/>
                    </a:cubicBezTo>
                    <a:cubicBezTo>
                      <a:pt x="2493" y="114"/>
                      <a:pt x="2492" y="121"/>
                      <a:pt x="2491" y="129"/>
                    </a:cubicBezTo>
                    <a:close/>
                    <a:moveTo>
                      <a:pt x="2502" y="125"/>
                    </a:moveTo>
                    <a:cubicBezTo>
                      <a:pt x="2503" y="120"/>
                      <a:pt x="2503" y="113"/>
                      <a:pt x="2503" y="107"/>
                    </a:cubicBezTo>
                    <a:cubicBezTo>
                      <a:pt x="2503" y="114"/>
                      <a:pt x="2503" y="120"/>
                      <a:pt x="2502" y="125"/>
                    </a:cubicBezTo>
                    <a:close/>
                    <a:moveTo>
                      <a:pt x="2517" y="112"/>
                    </a:moveTo>
                    <a:cubicBezTo>
                      <a:pt x="2517" y="105"/>
                      <a:pt x="2517" y="98"/>
                      <a:pt x="2517" y="91"/>
                    </a:cubicBezTo>
                    <a:cubicBezTo>
                      <a:pt x="2518" y="95"/>
                      <a:pt x="2518" y="99"/>
                      <a:pt x="2518" y="103"/>
                    </a:cubicBezTo>
                    <a:cubicBezTo>
                      <a:pt x="2518" y="106"/>
                      <a:pt x="2518" y="109"/>
                      <a:pt x="2517" y="112"/>
                    </a:cubicBezTo>
                    <a:close/>
                    <a:moveTo>
                      <a:pt x="2528" y="129"/>
                    </a:moveTo>
                    <a:cubicBezTo>
                      <a:pt x="2528" y="129"/>
                      <a:pt x="2528" y="129"/>
                      <a:pt x="2527" y="130"/>
                    </a:cubicBezTo>
                    <a:cubicBezTo>
                      <a:pt x="2527" y="132"/>
                      <a:pt x="2526" y="134"/>
                      <a:pt x="2526" y="137"/>
                    </a:cubicBezTo>
                    <a:cubicBezTo>
                      <a:pt x="2526" y="136"/>
                      <a:pt x="2526" y="136"/>
                      <a:pt x="2526" y="136"/>
                    </a:cubicBezTo>
                    <a:cubicBezTo>
                      <a:pt x="2526" y="134"/>
                      <a:pt x="2527" y="132"/>
                      <a:pt x="2527" y="130"/>
                    </a:cubicBezTo>
                    <a:cubicBezTo>
                      <a:pt x="2528" y="129"/>
                      <a:pt x="2528" y="129"/>
                      <a:pt x="2528" y="129"/>
                    </a:cubicBezTo>
                    <a:cubicBezTo>
                      <a:pt x="2528" y="129"/>
                      <a:pt x="2528" y="129"/>
                      <a:pt x="2528" y="129"/>
                    </a:cubicBezTo>
                    <a:close/>
                    <a:moveTo>
                      <a:pt x="2564" y="130"/>
                    </a:moveTo>
                    <a:cubicBezTo>
                      <a:pt x="2564" y="132"/>
                      <a:pt x="2563" y="134"/>
                      <a:pt x="2562" y="136"/>
                    </a:cubicBezTo>
                    <a:cubicBezTo>
                      <a:pt x="2562" y="131"/>
                      <a:pt x="2562" y="126"/>
                      <a:pt x="2562" y="121"/>
                    </a:cubicBezTo>
                    <a:cubicBezTo>
                      <a:pt x="2564" y="115"/>
                      <a:pt x="2566" y="110"/>
                      <a:pt x="2567" y="104"/>
                    </a:cubicBezTo>
                    <a:cubicBezTo>
                      <a:pt x="2566" y="114"/>
                      <a:pt x="2565" y="123"/>
                      <a:pt x="2564" y="130"/>
                    </a:cubicBezTo>
                    <a:close/>
                    <a:moveTo>
                      <a:pt x="2580" y="124"/>
                    </a:moveTo>
                    <a:cubicBezTo>
                      <a:pt x="2580" y="110"/>
                      <a:pt x="2582" y="94"/>
                      <a:pt x="2583" y="83"/>
                    </a:cubicBezTo>
                    <a:cubicBezTo>
                      <a:pt x="2583" y="87"/>
                      <a:pt x="2583" y="91"/>
                      <a:pt x="2583" y="95"/>
                    </a:cubicBezTo>
                    <a:cubicBezTo>
                      <a:pt x="2583" y="105"/>
                      <a:pt x="2582" y="114"/>
                      <a:pt x="2580" y="124"/>
                    </a:cubicBezTo>
                    <a:close/>
                    <a:moveTo>
                      <a:pt x="2596" y="160"/>
                    </a:moveTo>
                    <a:cubicBezTo>
                      <a:pt x="2596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6" y="160"/>
                    </a:cubicBezTo>
                    <a:close/>
                    <a:moveTo>
                      <a:pt x="2609" y="116"/>
                    </a:moveTo>
                    <a:cubicBezTo>
                      <a:pt x="2608" y="121"/>
                      <a:pt x="2606" y="127"/>
                      <a:pt x="2604" y="132"/>
                    </a:cubicBezTo>
                    <a:cubicBezTo>
                      <a:pt x="2604" y="127"/>
                      <a:pt x="2604" y="121"/>
                      <a:pt x="2604" y="115"/>
                    </a:cubicBezTo>
                    <a:cubicBezTo>
                      <a:pt x="2605" y="110"/>
                      <a:pt x="2605" y="104"/>
                      <a:pt x="2605" y="98"/>
                    </a:cubicBezTo>
                    <a:cubicBezTo>
                      <a:pt x="2605" y="95"/>
                      <a:pt x="2605" y="92"/>
                      <a:pt x="2605" y="89"/>
                    </a:cubicBezTo>
                    <a:cubicBezTo>
                      <a:pt x="2606" y="78"/>
                      <a:pt x="2607" y="68"/>
                      <a:pt x="2608" y="60"/>
                    </a:cubicBezTo>
                    <a:cubicBezTo>
                      <a:pt x="2611" y="68"/>
                      <a:pt x="2613" y="78"/>
                      <a:pt x="2613" y="87"/>
                    </a:cubicBezTo>
                    <a:cubicBezTo>
                      <a:pt x="2612" y="95"/>
                      <a:pt x="2611" y="106"/>
                      <a:pt x="2609" y="116"/>
                    </a:cubicBezTo>
                    <a:close/>
                    <a:moveTo>
                      <a:pt x="2617" y="136"/>
                    </a:moveTo>
                    <a:cubicBezTo>
                      <a:pt x="2617" y="137"/>
                      <a:pt x="2616" y="138"/>
                      <a:pt x="2616" y="139"/>
                    </a:cubicBezTo>
                    <a:cubicBezTo>
                      <a:pt x="2616" y="137"/>
                      <a:pt x="2616" y="135"/>
                      <a:pt x="2616" y="133"/>
                    </a:cubicBezTo>
                    <a:cubicBezTo>
                      <a:pt x="2617" y="130"/>
                      <a:pt x="2617" y="128"/>
                      <a:pt x="2618" y="125"/>
                    </a:cubicBezTo>
                    <a:cubicBezTo>
                      <a:pt x="2618" y="129"/>
                      <a:pt x="2617" y="133"/>
                      <a:pt x="2617" y="136"/>
                    </a:cubicBezTo>
                    <a:close/>
                    <a:moveTo>
                      <a:pt x="2633" y="126"/>
                    </a:moveTo>
                    <a:cubicBezTo>
                      <a:pt x="2632" y="113"/>
                      <a:pt x="2632" y="96"/>
                      <a:pt x="2632" y="84"/>
                    </a:cubicBezTo>
                    <a:cubicBezTo>
                      <a:pt x="2636" y="90"/>
                      <a:pt x="2638" y="100"/>
                      <a:pt x="2638" y="104"/>
                    </a:cubicBezTo>
                    <a:cubicBezTo>
                      <a:pt x="2638" y="110"/>
                      <a:pt x="2635" y="118"/>
                      <a:pt x="2633" y="126"/>
                    </a:cubicBezTo>
                    <a:close/>
                    <a:moveTo>
                      <a:pt x="2644" y="128"/>
                    </a:moveTo>
                    <a:cubicBezTo>
                      <a:pt x="2645" y="113"/>
                      <a:pt x="2645" y="91"/>
                      <a:pt x="2645" y="76"/>
                    </a:cubicBezTo>
                    <a:cubicBezTo>
                      <a:pt x="2647" y="83"/>
                      <a:pt x="2649" y="90"/>
                      <a:pt x="2649" y="96"/>
                    </a:cubicBezTo>
                    <a:cubicBezTo>
                      <a:pt x="2649" y="107"/>
                      <a:pt x="2646" y="117"/>
                      <a:pt x="2644" y="128"/>
                    </a:cubicBezTo>
                    <a:close/>
                    <a:moveTo>
                      <a:pt x="2684" y="112"/>
                    </a:moveTo>
                    <a:cubicBezTo>
                      <a:pt x="2684" y="110"/>
                      <a:pt x="2684" y="108"/>
                      <a:pt x="2683" y="105"/>
                    </a:cubicBezTo>
                    <a:cubicBezTo>
                      <a:pt x="2684" y="108"/>
                      <a:pt x="2683" y="112"/>
                      <a:pt x="2683" y="115"/>
                    </a:cubicBezTo>
                    <a:cubicBezTo>
                      <a:pt x="2678" y="131"/>
                      <a:pt x="2674" y="144"/>
                      <a:pt x="2674" y="144"/>
                    </a:cubicBezTo>
                    <a:cubicBezTo>
                      <a:pt x="2675" y="133"/>
                      <a:pt x="2679" y="110"/>
                      <a:pt x="2684" y="86"/>
                    </a:cubicBezTo>
                    <a:cubicBezTo>
                      <a:pt x="2686" y="90"/>
                      <a:pt x="2687" y="95"/>
                      <a:pt x="2688" y="99"/>
                    </a:cubicBezTo>
                    <a:cubicBezTo>
                      <a:pt x="2686" y="103"/>
                      <a:pt x="2685" y="108"/>
                      <a:pt x="2684" y="112"/>
                    </a:cubicBezTo>
                    <a:close/>
                    <a:moveTo>
                      <a:pt x="2696" y="133"/>
                    </a:moveTo>
                    <a:cubicBezTo>
                      <a:pt x="2696" y="133"/>
                      <a:pt x="2696" y="134"/>
                      <a:pt x="2696" y="134"/>
                    </a:cubicBezTo>
                    <a:cubicBezTo>
                      <a:pt x="2696" y="134"/>
                      <a:pt x="2696" y="134"/>
                      <a:pt x="2696" y="134"/>
                    </a:cubicBezTo>
                    <a:cubicBezTo>
                      <a:pt x="2696" y="134"/>
                      <a:pt x="2696" y="133"/>
                      <a:pt x="2696" y="133"/>
                    </a:cubicBezTo>
                    <a:cubicBezTo>
                      <a:pt x="2697" y="126"/>
                      <a:pt x="2698" y="117"/>
                      <a:pt x="2699" y="107"/>
                    </a:cubicBezTo>
                    <a:cubicBezTo>
                      <a:pt x="2699" y="110"/>
                      <a:pt x="2699" y="114"/>
                      <a:pt x="2699" y="117"/>
                    </a:cubicBezTo>
                    <a:cubicBezTo>
                      <a:pt x="2698" y="123"/>
                      <a:pt x="2697" y="129"/>
                      <a:pt x="2696" y="133"/>
                    </a:cubicBezTo>
                    <a:close/>
                    <a:moveTo>
                      <a:pt x="2701" y="159"/>
                    </a:move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lose/>
                    <a:moveTo>
                      <a:pt x="2742" y="143"/>
                    </a:moveTo>
                    <a:cubicBezTo>
                      <a:pt x="2742" y="142"/>
                      <a:pt x="2742" y="142"/>
                      <a:pt x="2742" y="141"/>
                    </a:cubicBezTo>
                    <a:cubicBezTo>
                      <a:pt x="2742" y="135"/>
                      <a:pt x="2743" y="127"/>
                      <a:pt x="2743" y="117"/>
                    </a:cubicBezTo>
                    <a:cubicBezTo>
                      <a:pt x="2744" y="121"/>
                      <a:pt x="2744" y="125"/>
                      <a:pt x="2744" y="129"/>
                    </a:cubicBezTo>
                    <a:cubicBezTo>
                      <a:pt x="2743" y="135"/>
                      <a:pt x="2743" y="139"/>
                      <a:pt x="2742" y="143"/>
                    </a:cubicBezTo>
                    <a:close/>
                    <a:moveTo>
                      <a:pt x="2746" y="117"/>
                    </a:moveTo>
                    <a:cubicBezTo>
                      <a:pt x="2745" y="115"/>
                      <a:pt x="2744" y="113"/>
                      <a:pt x="2744" y="111"/>
                    </a:cubicBezTo>
                    <a:cubicBezTo>
                      <a:pt x="2744" y="108"/>
                      <a:pt x="2744" y="104"/>
                      <a:pt x="2745" y="100"/>
                    </a:cubicBezTo>
                    <a:cubicBezTo>
                      <a:pt x="2746" y="103"/>
                      <a:pt x="2746" y="106"/>
                      <a:pt x="2747" y="108"/>
                    </a:cubicBezTo>
                    <a:cubicBezTo>
                      <a:pt x="2746" y="111"/>
                      <a:pt x="2746" y="114"/>
                      <a:pt x="2746" y="117"/>
                    </a:cubicBezTo>
                    <a:close/>
                    <a:moveTo>
                      <a:pt x="2754" y="133"/>
                    </a:moveTo>
                    <a:cubicBezTo>
                      <a:pt x="2754" y="133"/>
                      <a:pt x="2754" y="133"/>
                      <a:pt x="2754" y="133"/>
                    </a:cubicBezTo>
                    <a:cubicBezTo>
                      <a:pt x="2754" y="130"/>
                      <a:pt x="2755" y="127"/>
                      <a:pt x="2755" y="124"/>
                    </a:cubicBezTo>
                    <a:cubicBezTo>
                      <a:pt x="2755" y="125"/>
                      <a:pt x="2755" y="126"/>
                      <a:pt x="2755" y="128"/>
                    </a:cubicBezTo>
                    <a:cubicBezTo>
                      <a:pt x="2755" y="130"/>
                      <a:pt x="2754" y="131"/>
                      <a:pt x="2754" y="133"/>
                    </a:cubicBezTo>
                    <a:close/>
                    <a:moveTo>
                      <a:pt x="2791" y="142"/>
                    </a:moveTo>
                    <a:cubicBezTo>
                      <a:pt x="2791" y="139"/>
                      <a:pt x="2791" y="134"/>
                      <a:pt x="2791" y="128"/>
                    </a:cubicBezTo>
                    <a:cubicBezTo>
                      <a:pt x="2791" y="130"/>
                      <a:pt x="2791" y="132"/>
                      <a:pt x="2792" y="133"/>
                    </a:cubicBezTo>
                    <a:cubicBezTo>
                      <a:pt x="2791" y="139"/>
                      <a:pt x="2791" y="142"/>
                      <a:pt x="2791" y="142"/>
                    </a:cubicBezTo>
                    <a:close/>
                    <a:moveTo>
                      <a:pt x="2812" y="135"/>
                    </a:moveTo>
                    <a:cubicBezTo>
                      <a:pt x="2812" y="134"/>
                      <a:pt x="2812" y="134"/>
                      <a:pt x="2812" y="133"/>
                    </a:cubicBezTo>
                    <a:cubicBezTo>
                      <a:pt x="2812" y="121"/>
                      <a:pt x="2812" y="103"/>
                      <a:pt x="2811" y="88"/>
                    </a:cubicBezTo>
                    <a:cubicBezTo>
                      <a:pt x="2813" y="94"/>
                      <a:pt x="2815" y="100"/>
                      <a:pt x="2816" y="106"/>
                    </a:cubicBezTo>
                    <a:cubicBezTo>
                      <a:pt x="2814" y="118"/>
                      <a:pt x="2813" y="128"/>
                      <a:pt x="2812" y="135"/>
                    </a:cubicBezTo>
                    <a:close/>
                    <a:moveTo>
                      <a:pt x="2819" y="145"/>
                    </a:moveTo>
                    <a:cubicBezTo>
                      <a:pt x="2819" y="141"/>
                      <a:pt x="2819" y="136"/>
                      <a:pt x="2819" y="129"/>
                    </a:cubicBezTo>
                    <a:cubicBezTo>
                      <a:pt x="2820" y="133"/>
                      <a:pt x="2820" y="136"/>
                      <a:pt x="2821" y="139"/>
                    </a:cubicBezTo>
                    <a:cubicBezTo>
                      <a:pt x="2820" y="143"/>
                      <a:pt x="2819" y="145"/>
                      <a:pt x="2819" y="145"/>
                    </a:cubicBezTo>
                    <a:close/>
                    <a:moveTo>
                      <a:pt x="2824" y="159"/>
                    </a:moveTo>
                    <a:cubicBezTo>
                      <a:pt x="2825" y="159"/>
                      <a:pt x="2825" y="159"/>
                      <a:pt x="2825" y="159"/>
                    </a:cubicBezTo>
                    <a:cubicBezTo>
                      <a:pt x="2825" y="159"/>
                      <a:pt x="2825" y="158"/>
                      <a:pt x="2825" y="158"/>
                    </a:cubicBezTo>
                    <a:cubicBezTo>
                      <a:pt x="2825" y="159"/>
                      <a:pt x="2826" y="160"/>
                      <a:pt x="2826" y="160"/>
                    </a:cubicBezTo>
                    <a:cubicBezTo>
                      <a:pt x="2825" y="160"/>
                      <a:pt x="2825" y="159"/>
                      <a:pt x="2824" y="159"/>
                    </a:cubicBezTo>
                    <a:close/>
                    <a:moveTo>
                      <a:pt x="2826" y="121"/>
                    </a:moveTo>
                    <a:cubicBezTo>
                      <a:pt x="2824" y="117"/>
                      <a:pt x="2823" y="114"/>
                      <a:pt x="2821" y="110"/>
                    </a:cubicBezTo>
                    <a:cubicBezTo>
                      <a:pt x="2822" y="105"/>
                      <a:pt x="2822" y="99"/>
                      <a:pt x="2823" y="94"/>
                    </a:cubicBezTo>
                    <a:cubicBezTo>
                      <a:pt x="2823" y="100"/>
                      <a:pt x="2825" y="108"/>
                      <a:pt x="2827" y="116"/>
                    </a:cubicBezTo>
                    <a:cubicBezTo>
                      <a:pt x="2826" y="118"/>
                      <a:pt x="2826" y="119"/>
                      <a:pt x="2826" y="121"/>
                    </a:cubicBezTo>
                    <a:close/>
                    <a:moveTo>
                      <a:pt x="2834" y="142"/>
                    </a:moveTo>
                    <a:cubicBezTo>
                      <a:pt x="2833" y="138"/>
                      <a:pt x="2831" y="134"/>
                      <a:pt x="2829" y="129"/>
                    </a:cubicBezTo>
                    <a:cubicBezTo>
                      <a:pt x="2829" y="129"/>
                      <a:pt x="2829" y="128"/>
                      <a:pt x="2829" y="127"/>
                    </a:cubicBezTo>
                    <a:cubicBezTo>
                      <a:pt x="2831" y="132"/>
                      <a:pt x="2832" y="137"/>
                      <a:pt x="2834" y="142"/>
                    </a:cubicBezTo>
                    <a:cubicBezTo>
                      <a:pt x="2837" y="149"/>
                      <a:pt x="2839" y="153"/>
                      <a:pt x="2839" y="155"/>
                    </a:cubicBezTo>
                    <a:cubicBezTo>
                      <a:pt x="2837" y="151"/>
                      <a:pt x="2836" y="147"/>
                      <a:pt x="2834" y="142"/>
                    </a:cubicBezTo>
                    <a:close/>
                    <a:moveTo>
                      <a:pt x="3059" y="87"/>
                    </a:moveTo>
                    <a:cubicBezTo>
                      <a:pt x="3060" y="90"/>
                      <a:pt x="3061" y="92"/>
                      <a:pt x="3061" y="95"/>
                    </a:cubicBezTo>
                    <a:cubicBezTo>
                      <a:pt x="3061" y="94"/>
                      <a:pt x="3060" y="93"/>
                      <a:pt x="3059" y="92"/>
                    </a:cubicBezTo>
                    <a:cubicBezTo>
                      <a:pt x="3059" y="90"/>
                      <a:pt x="3059" y="89"/>
                      <a:pt x="3059" y="87"/>
                    </a:cubicBezTo>
                    <a:close/>
                    <a:moveTo>
                      <a:pt x="3047" y="84"/>
                    </a:moveTo>
                    <a:cubicBezTo>
                      <a:pt x="3050" y="87"/>
                      <a:pt x="3052" y="92"/>
                      <a:pt x="3055" y="96"/>
                    </a:cubicBezTo>
                    <a:cubicBezTo>
                      <a:pt x="3055" y="97"/>
                      <a:pt x="3056" y="99"/>
                      <a:pt x="3056" y="100"/>
                    </a:cubicBezTo>
                    <a:cubicBezTo>
                      <a:pt x="3056" y="104"/>
                      <a:pt x="3055" y="108"/>
                      <a:pt x="3054" y="112"/>
                    </a:cubicBezTo>
                    <a:cubicBezTo>
                      <a:pt x="3052" y="105"/>
                      <a:pt x="3049" y="98"/>
                      <a:pt x="3046" y="91"/>
                    </a:cubicBezTo>
                    <a:cubicBezTo>
                      <a:pt x="3046" y="89"/>
                      <a:pt x="3047" y="86"/>
                      <a:pt x="3047" y="84"/>
                    </a:cubicBezTo>
                    <a:close/>
                    <a:moveTo>
                      <a:pt x="3052" y="111"/>
                    </a:moveTo>
                    <a:cubicBezTo>
                      <a:pt x="3049" y="108"/>
                      <a:pt x="3047" y="105"/>
                      <a:pt x="3045" y="102"/>
                    </a:cubicBezTo>
                    <a:cubicBezTo>
                      <a:pt x="3045" y="99"/>
                      <a:pt x="3046" y="96"/>
                      <a:pt x="3046" y="93"/>
                    </a:cubicBezTo>
                    <a:cubicBezTo>
                      <a:pt x="3048" y="98"/>
                      <a:pt x="3050" y="105"/>
                      <a:pt x="3052" y="111"/>
                    </a:cubicBezTo>
                    <a:close/>
                    <a:moveTo>
                      <a:pt x="3034" y="56"/>
                    </a:moveTo>
                    <a:cubicBezTo>
                      <a:pt x="3039" y="62"/>
                      <a:pt x="3042" y="68"/>
                      <a:pt x="3045" y="74"/>
                    </a:cubicBezTo>
                    <a:cubicBezTo>
                      <a:pt x="3042" y="69"/>
                      <a:pt x="3038" y="64"/>
                      <a:pt x="3034" y="60"/>
                    </a:cubicBezTo>
                    <a:cubicBezTo>
                      <a:pt x="3034" y="59"/>
                      <a:pt x="3034" y="57"/>
                      <a:pt x="3034" y="56"/>
                    </a:cubicBezTo>
                    <a:close/>
                    <a:moveTo>
                      <a:pt x="3033" y="64"/>
                    </a:moveTo>
                    <a:cubicBezTo>
                      <a:pt x="3037" y="69"/>
                      <a:pt x="3041" y="74"/>
                      <a:pt x="3044" y="80"/>
                    </a:cubicBezTo>
                    <a:cubicBezTo>
                      <a:pt x="3044" y="81"/>
                      <a:pt x="3043" y="83"/>
                      <a:pt x="3043" y="85"/>
                    </a:cubicBezTo>
                    <a:cubicBezTo>
                      <a:pt x="3042" y="84"/>
                      <a:pt x="3042" y="83"/>
                      <a:pt x="3042" y="83"/>
                    </a:cubicBezTo>
                    <a:cubicBezTo>
                      <a:pt x="3042" y="83"/>
                      <a:pt x="3042" y="84"/>
                      <a:pt x="3043" y="85"/>
                    </a:cubicBezTo>
                    <a:cubicBezTo>
                      <a:pt x="3042" y="88"/>
                      <a:pt x="3041" y="91"/>
                      <a:pt x="3040" y="94"/>
                    </a:cubicBezTo>
                    <a:cubicBezTo>
                      <a:pt x="3037" y="89"/>
                      <a:pt x="3034" y="85"/>
                      <a:pt x="3031" y="80"/>
                    </a:cubicBezTo>
                    <a:cubicBezTo>
                      <a:pt x="3032" y="75"/>
                      <a:pt x="3033" y="69"/>
                      <a:pt x="3033" y="64"/>
                    </a:cubicBezTo>
                    <a:close/>
                    <a:moveTo>
                      <a:pt x="3024" y="139"/>
                    </a:moveTo>
                    <a:cubicBezTo>
                      <a:pt x="3024" y="120"/>
                      <a:pt x="3027" y="101"/>
                      <a:pt x="3030" y="83"/>
                    </a:cubicBezTo>
                    <a:cubicBezTo>
                      <a:pt x="3033" y="87"/>
                      <a:pt x="3036" y="91"/>
                      <a:pt x="3039" y="95"/>
                    </a:cubicBezTo>
                    <a:cubicBezTo>
                      <a:pt x="3033" y="114"/>
                      <a:pt x="3027" y="133"/>
                      <a:pt x="3025" y="152"/>
                    </a:cubicBezTo>
                    <a:cubicBezTo>
                      <a:pt x="3024" y="148"/>
                      <a:pt x="3024" y="143"/>
                      <a:pt x="3024" y="139"/>
                    </a:cubicBezTo>
                    <a:close/>
                    <a:moveTo>
                      <a:pt x="3043" y="143"/>
                    </a:moveTo>
                    <a:cubicBezTo>
                      <a:pt x="3043" y="142"/>
                      <a:pt x="3042" y="141"/>
                      <a:pt x="3041" y="140"/>
                    </a:cubicBezTo>
                    <a:cubicBezTo>
                      <a:pt x="3042" y="141"/>
                      <a:pt x="3042" y="143"/>
                      <a:pt x="3043" y="144"/>
                    </a:cubicBezTo>
                    <a:cubicBezTo>
                      <a:pt x="3041" y="146"/>
                      <a:pt x="3040" y="149"/>
                      <a:pt x="3038" y="152"/>
                    </a:cubicBezTo>
                    <a:cubicBezTo>
                      <a:pt x="3039" y="146"/>
                      <a:pt x="3040" y="140"/>
                      <a:pt x="3041" y="135"/>
                    </a:cubicBezTo>
                    <a:cubicBezTo>
                      <a:pt x="3042" y="137"/>
                      <a:pt x="3043" y="139"/>
                      <a:pt x="3044" y="142"/>
                    </a:cubicBezTo>
                    <a:cubicBezTo>
                      <a:pt x="3044" y="142"/>
                      <a:pt x="3043" y="142"/>
                      <a:pt x="3043" y="143"/>
                    </a:cubicBezTo>
                    <a:close/>
                    <a:moveTo>
                      <a:pt x="3042" y="126"/>
                    </a:moveTo>
                    <a:cubicBezTo>
                      <a:pt x="3043" y="118"/>
                      <a:pt x="3044" y="110"/>
                      <a:pt x="3045" y="102"/>
                    </a:cubicBezTo>
                    <a:cubicBezTo>
                      <a:pt x="3048" y="107"/>
                      <a:pt x="3051" y="112"/>
                      <a:pt x="3053" y="116"/>
                    </a:cubicBezTo>
                    <a:cubicBezTo>
                      <a:pt x="3052" y="122"/>
                      <a:pt x="3050" y="127"/>
                      <a:pt x="3048" y="133"/>
                    </a:cubicBezTo>
                    <a:cubicBezTo>
                      <a:pt x="3045" y="130"/>
                      <a:pt x="3043" y="128"/>
                      <a:pt x="3042" y="126"/>
                    </a:cubicBezTo>
                    <a:close/>
                    <a:moveTo>
                      <a:pt x="3054" y="140"/>
                    </a:moveTo>
                    <a:cubicBezTo>
                      <a:pt x="3053" y="140"/>
                      <a:pt x="3053" y="140"/>
                      <a:pt x="3053" y="140"/>
                    </a:cubicBezTo>
                    <a:cubicBezTo>
                      <a:pt x="3054" y="135"/>
                      <a:pt x="3055" y="130"/>
                      <a:pt x="3056" y="125"/>
                    </a:cubicBezTo>
                    <a:cubicBezTo>
                      <a:pt x="3056" y="127"/>
                      <a:pt x="3057" y="128"/>
                      <a:pt x="3057" y="130"/>
                    </a:cubicBezTo>
                    <a:cubicBezTo>
                      <a:pt x="3056" y="133"/>
                      <a:pt x="3055" y="137"/>
                      <a:pt x="3054" y="140"/>
                    </a:cubicBezTo>
                    <a:close/>
                    <a:moveTo>
                      <a:pt x="3060" y="122"/>
                    </a:moveTo>
                    <a:cubicBezTo>
                      <a:pt x="3059" y="120"/>
                      <a:pt x="3058" y="119"/>
                      <a:pt x="3057" y="117"/>
                    </a:cubicBezTo>
                    <a:cubicBezTo>
                      <a:pt x="3057" y="114"/>
                      <a:pt x="3058" y="110"/>
                      <a:pt x="3058" y="106"/>
                    </a:cubicBezTo>
                    <a:cubicBezTo>
                      <a:pt x="3059" y="111"/>
                      <a:pt x="3060" y="115"/>
                      <a:pt x="3061" y="120"/>
                    </a:cubicBezTo>
                    <a:cubicBezTo>
                      <a:pt x="3061" y="120"/>
                      <a:pt x="3061" y="121"/>
                      <a:pt x="3060" y="122"/>
                    </a:cubicBezTo>
                    <a:close/>
                    <a:moveTo>
                      <a:pt x="3062" y="151"/>
                    </a:moveTo>
                    <a:cubicBezTo>
                      <a:pt x="3061" y="151"/>
                      <a:pt x="3061" y="151"/>
                      <a:pt x="3061" y="151"/>
                    </a:cubicBezTo>
                    <a:cubicBezTo>
                      <a:pt x="3062" y="150"/>
                      <a:pt x="3062" y="150"/>
                      <a:pt x="3062" y="149"/>
                    </a:cubicBezTo>
                    <a:cubicBezTo>
                      <a:pt x="3062" y="149"/>
                      <a:pt x="3062" y="149"/>
                      <a:pt x="3062" y="149"/>
                    </a:cubicBezTo>
                    <a:cubicBezTo>
                      <a:pt x="3062" y="150"/>
                      <a:pt x="3062" y="150"/>
                      <a:pt x="3062" y="151"/>
                    </a:cubicBezTo>
                    <a:close/>
                    <a:moveTo>
                      <a:pt x="3062" y="117"/>
                    </a:moveTo>
                    <a:cubicBezTo>
                      <a:pt x="3061" y="112"/>
                      <a:pt x="3060" y="107"/>
                      <a:pt x="3058" y="102"/>
                    </a:cubicBezTo>
                    <a:cubicBezTo>
                      <a:pt x="3058" y="102"/>
                      <a:pt x="3059" y="101"/>
                      <a:pt x="3059" y="101"/>
                    </a:cubicBezTo>
                    <a:cubicBezTo>
                      <a:pt x="3061" y="105"/>
                      <a:pt x="3063" y="108"/>
                      <a:pt x="3065" y="112"/>
                    </a:cubicBezTo>
                    <a:cubicBezTo>
                      <a:pt x="3064" y="113"/>
                      <a:pt x="3063" y="115"/>
                      <a:pt x="3063" y="116"/>
                    </a:cubicBezTo>
                    <a:cubicBezTo>
                      <a:pt x="3062" y="117"/>
                      <a:pt x="3062" y="117"/>
                      <a:pt x="3062" y="117"/>
                    </a:cubicBezTo>
                    <a:close/>
                    <a:moveTo>
                      <a:pt x="3065" y="143"/>
                    </a:moveTo>
                    <a:cubicBezTo>
                      <a:pt x="3064" y="142"/>
                      <a:pt x="3064" y="142"/>
                      <a:pt x="3064" y="142"/>
                    </a:cubicBezTo>
                    <a:cubicBezTo>
                      <a:pt x="3064" y="141"/>
                      <a:pt x="3065" y="141"/>
                      <a:pt x="3065" y="140"/>
                    </a:cubicBezTo>
                    <a:cubicBezTo>
                      <a:pt x="3065" y="140"/>
                      <a:pt x="3065" y="141"/>
                      <a:pt x="3065" y="141"/>
                    </a:cubicBezTo>
                    <a:cubicBezTo>
                      <a:pt x="3065" y="142"/>
                      <a:pt x="3065" y="142"/>
                      <a:pt x="3065" y="143"/>
                    </a:cubicBezTo>
                    <a:close/>
                    <a:moveTo>
                      <a:pt x="3068" y="131"/>
                    </a:move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lose/>
                    <a:moveTo>
                      <a:pt x="3070" y="151"/>
                    </a:moveTo>
                    <a:cubicBezTo>
                      <a:pt x="3070" y="151"/>
                      <a:pt x="3070" y="151"/>
                      <a:pt x="3070" y="151"/>
                    </a:cubicBezTo>
                    <a:cubicBezTo>
                      <a:pt x="3070" y="151"/>
                      <a:pt x="3070" y="151"/>
                      <a:pt x="3070" y="152"/>
                    </a:cubicBezTo>
                    <a:cubicBezTo>
                      <a:pt x="3070" y="152"/>
                      <a:pt x="3070" y="151"/>
                      <a:pt x="3070" y="151"/>
                    </a:cubicBezTo>
                    <a:close/>
                    <a:moveTo>
                      <a:pt x="3072" y="126"/>
                    </a:moveTo>
                    <a:cubicBezTo>
                      <a:pt x="3072" y="128"/>
                      <a:pt x="3071" y="129"/>
                      <a:pt x="3070" y="131"/>
                    </a:cubicBezTo>
                    <a:cubicBezTo>
                      <a:pt x="3070" y="129"/>
                      <a:pt x="3070" y="127"/>
                      <a:pt x="3070" y="125"/>
                    </a:cubicBezTo>
                    <a:cubicBezTo>
                      <a:pt x="3070" y="124"/>
                      <a:pt x="3070" y="123"/>
                      <a:pt x="3071" y="122"/>
                    </a:cubicBezTo>
                    <a:cubicBezTo>
                      <a:pt x="3071" y="123"/>
                      <a:pt x="3072" y="124"/>
                      <a:pt x="3072" y="125"/>
                    </a:cubicBezTo>
                    <a:lnTo>
                      <a:pt x="3072" y="126"/>
                    </a:lnTo>
                    <a:close/>
                    <a:moveTo>
                      <a:pt x="3080" y="91"/>
                    </a:moveTo>
                    <a:cubicBezTo>
                      <a:pt x="3080" y="92"/>
                      <a:pt x="3080" y="94"/>
                      <a:pt x="3080" y="96"/>
                    </a:cubicBezTo>
                    <a:cubicBezTo>
                      <a:pt x="3080" y="95"/>
                      <a:pt x="3080" y="94"/>
                      <a:pt x="3079" y="93"/>
                    </a:cubicBezTo>
                    <a:cubicBezTo>
                      <a:pt x="3079" y="92"/>
                      <a:pt x="3079" y="91"/>
                      <a:pt x="3080" y="91"/>
                    </a:cubicBezTo>
                    <a:close/>
                    <a:moveTo>
                      <a:pt x="3078" y="117"/>
                    </a:moveTo>
                    <a:cubicBezTo>
                      <a:pt x="3077" y="113"/>
                      <a:pt x="3076" y="109"/>
                      <a:pt x="3076" y="106"/>
                    </a:cubicBezTo>
                    <a:cubicBezTo>
                      <a:pt x="3076" y="105"/>
                      <a:pt x="3076" y="105"/>
                      <a:pt x="3076" y="104"/>
                    </a:cubicBezTo>
                    <a:cubicBezTo>
                      <a:pt x="3077" y="107"/>
                      <a:pt x="3078" y="111"/>
                      <a:pt x="3079" y="114"/>
                    </a:cubicBezTo>
                    <a:cubicBezTo>
                      <a:pt x="3079" y="115"/>
                      <a:pt x="3078" y="116"/>
                      <a:pt x="3078" y="117"/>
                    </a:cubicBezTo>
                    <a:close/>
                    <a:moveTo>
                      <a:pt x="3081" y="127"/>
                    </a:moveTo>
                    <a:cubicBezTo>
                      <a:pt x="3080" y="127"/>
                      <a:pt x="3080" y="126"/>
                      <a:pt x="3080" y="126"/>
                    </a:cubicBezTo>
                    <a:cubicBezTo>
                      <a:pt x="3080" y="125"/>
                      <a:pt x="3080" y="125"/>
                      <a:pt x="3081" y="124"/>
                    </a:cubicBezTo>
                    <a:cubicBezTo>
                      <a:pt x="3081" y="125"/>
                      <a:pt x="3081" y="126"/>
                      <a:pt x="3081" y="127"/>
                    </a:cubicBezTo>
                    <a:close/>
                    <a:moveTo>
                      <a:pt x="3087" y="141"/>
                    </a:move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39"/>
                      <a:pt x="3087" y="139"/>
                      <a:pt x="3087" y="139"/>
                    </a:cubicBezTo>
                    <a:cubicBezTo>
                      <a:pt x="3087" y="139"/>
                      <a:pt x="3087" y="140"/>
                      <a:pt x="3087" y="141"/>
                    </a:cubicBezTo>
                    <a:close/>
                    <a:moveTo>
                      <a:pt x="3119" y="64"/>
                    </a:moveTo>
                    <a:cubicBezTo>
                      <a:pt x="3120" y="69"/>
                      <a:pt x="3121" y="75"/>
                      <a:pt x="3122" y="80"/>
                    </a:cubicBezTo>
                    <a:cubicBezTo>
                      <a:pt x="3120" y="82"/>
                      <a:pt x="3119" y="85"/>
                      <a:pt x="3117" y="87"/>
                    </a:cubicBezTo>
                    <a:cubicBezTo>
                      <a:pt x="3117" y="86"/>
                      <a:pt x="3116" y="84"/>
                      <a:pt x="3115" y="83"/>
                    </a:cubicBezTo>
                    <a:cubicBezTo>
                      <a:pt x="3116" y="84"/>
                      <a:pt x="3117" y="86"/>
                      <a:pt x="3117" y="87"/>
                    </a:cubicBezTo>
                    <a:cubicBezTo>
                      <a:pt x="3116" y="90"/>
                      <a:pt x="3114" y="92"/>
                      <a:pt x="3113" y="94"/>
                    </a:cubicBezTo>
                    <a:cubicBezTo>
                      <a:pt x="3111" y="89"/>
                      <a:pt x="3110" y="85"/>
                      <a:pt x="3108" y="80"/>
                    </a:cubicBezTo>
                    <a:cubicBezTo>
                      <a:pt x="3112" y="74"/>
                      <a:pt x="3116" y="69"/>
                      <a:pt x="3119" y="64"/>
                    </a:cubicBezTo>
                    <a:close/>
                    <a:moveTo>
                      <a:pt x="3097" y="72"/>
                    </a:moveTo>
                    <a:cubicBezTo>
                      <a:pt x="3099" y="75"/>
                      <a:pt x="3100" y="77"/>
                      <a:pt x="3102" y="80"/>
                    </a:cubicBezTo>
                    <a:cubicBezTo>
                      <a:pt x="3100" y="82"/>
                      <a:pt x="3099" y="84"/>
                      <a:pt x="3097" y="86"/>
                    </a:cubicBezTo>
                    <a:cubicBezTo>
                      <a:pt x="3097" y="85"/>
                      <a:pt x="3096" y="83"/>
                      <a:pt x="3096" y="82"/>
                    </a:cubicBezTo>
                    <a:cubicBezTo>
                      <a:pt x="3096" y="78"/>
                      <a:pt x="3096" y="74"/>
                      <a:pt x="3097" y="72"/>
                    </a:cubicBezTo>
                    <a:close/>
                    <a:moveTo>
                      <a:pt x="3090" y="108"/>
                    </a:moveTo>
                    <a:cubicBezTo>
                      <a:pt x="3091" y="106"/>
                      <a:pt x="3093" y="104"/>
                      <a:pt x="3094" y="101"/>
                    </a:cubicBezTo>
                    <a:cubicBezTo>
                      <a:pt x="3094" y="106"/>
                      <a:pt x="3095" y="112"/>
                      <a:pt x="3096" y="117"/>
                    </a:cubicBezTo>
                    <a:cubicBezTo>
                      <a:pt x="3095" y="119"/>
                      <a:pt x="3093" y="120"/>
                      <a:pt x="3092" y="122"/>
                    </a:cubicBezTo>
                    <a:cubicBezTo>
                      <a:pt x="3092" y="117"/>
                      <a:pt x="3091" y="113"/>
                      <a:pt x="3090" y="108"/>
                    </a:cubicBezTo>
                    <a:close/>
                    <a:moveTo>
                      <a:pt x="3097" y="134"/>
                    </a:moveTo>
                    <a:cubicBezTo>
                      <a:pt x="3096" y="131"/>
                      <a:pt x="3095" y="128"/>
                      <a:pt x="3094" y="126"/>
                    </a:cubicBezTo>
                    <a:cubicBezTo>
                      <a:pt x="3095" y="124"/>
                      <a:pt x="3095" y="123"/>
                      <a:pt x="3096" y="122"/>
                    </a:cubicBezTo>
                    <a:cubicBezTo>
                      <a:pt x="3097" y="123"/>
                      <a:pt x="3097" y="125"/>
                      <a:pt x="3097" y="127"/>
                    </a:cubicBezTo>
                    <a:cubicBezTo>
                      <a:pt x="3097" y="129"/>
                      <a:pt x="3097" y="131"/>
                      <a:pt x="3097" y="134"/>
                    </a:cubicBezTo>
                    <a:close/>
                    <a:moveTo>
                      <a:pt x="3096" y="98"/>
                    </a:moveTo>
                    <a:cubicBezTo>
                      <a:pt x="3096" y="98"/>
                      <a:pt x="3096" y="97"/>
                      <a:pt x="3097" y="97"/>
                    </a:cubicBezTo>
                    <a:cubicBezTo>
                      <a:pt x="3097" y="101"/>
                      <a:pt x="3097" y="105"/>
                      <a:pt x="3097" y="108"/>
                    </a:cubicBezTo>
                    <a:cubicBezTo>
                      <a:pt x="3097" y="105"/>
                      <a:pt x="3096" y="101"/>
                      <a:pt x="3096" y="98"/>
                    </a:cubicBezTo>
                    <a:close/>
                    <a:moveTo>
                      <a:pt x="3100" y="92"/>
                    </a:moveTo>
                    <a:cubicBezTo>
                      <a:pt x="3101" y="90"/>
                      <a:pt x="3103" y="88"/>
                      <a:pt x="3104" y="86"/>
                    </a:cubicBezTo>
                    <a:cubicBezTo>
                      <a:pt x="3105" y="88"/>
                      <a:pt x="3106" y="91"/>
                      <a:pt x="3107" y="93"/>
                    </a:cubicBezTo>
                    <a:cubicBezTo>
                      <a:pt x="3107" y="96"/>
                      <a:pt x="3107" y="99"/>
                      <a:pt x="3108" y="102"/>
                    </a:cubicBezTo>
                    <a:cubicBezTo>
                      <a:pt x="3107" y="104"/>
                      <a:pt x="3106" y="105"/>
                      <a:pt x="3104" y="106"/>
                    </a:cubicBezTo>
                    <a:cubicBezTo>
                      <a:pt x="3103" y="102"/>
                      <a:pt x="3102" y="97"/>
                      <a:pt x="3100" y="92"/>
                    </a:cubicBezTo>
                    <a:close/>
                    <a:moveTo>
                      <a:pt x="3105" y="107"/>
                    </a:moveTo>
                    <a:cubicBezTo>
                      <a:pt x="3106" y="106"/>
                      <a:pt x="3107" y="104"/>
                      <a:pt x="3108" y="102"/>
                    </a:cubicBezTo>
                    <a:cubicBezTo>
                      <a:pt x="3110" y="118"/>
                      <a:pt x="3112" y="133"/>
                      <a:pt x="3114" y="149"/>
                    </a:cubicBezTo>
                    <a:cubicBezTo>
                      <a:pt x="3111" y="137"/>
                      <a:pt x="3108" y="122"/>
                      <a:pt x="3105" y="107"/>
                    </a:cubicBezTo>
                    <a:close/>
                    <a:moveTo>
                      <a:pt x="3113" y="95"/>
                    </a:moveTo>
                    <a:cubicBezTo>
                      <a:pt x="3115" y="93"/>
                      <a:pt x="3116" y="91"/>
                      <a:pt x="3118" y="89"/>
                    </a:cubicBezTo>
                    <a:cubicBezTo>
                      <a:pt x="3124" y="103"/>
                      <a:pt x="3125" y="120"/>
                      <a:pt x="3125" y="136"/>
                    </a:cubicBezTo>
                    <a:cubicBezTo>
                      <a:pt x="3122" y="122"/>
                      <a:pt x="3118" y="109"/>
                      <a:pt x="3113" y="95"/>
                    </a:cubicBezTo>
                    <a:close/>
                    <a:moveTo>
                      <a:pt x="3118" y="88"/>
                    </a:moveTo>
                    <a:cubicBezTo>
                      <a:pt x="3120" y="86"/>
                      <a:pt x="3121" y="85"/>
                      <a:pt x="3122" y="83"/>
                    </a:cubicBezTo>
                    <a:cubicBezTo>
                      <a:pt x="3123" y="90"/>
                      <a:pt x="3125" y="98"/>
                      <a:pt x="3126" y="105"/>
                    </a:cubicBezTo>
                    <a:cubicBezTo>
                      <a:pt x="3123" y="99"/>
                      <a:pt x="3121" y="93"/>
                      <a:pt x="3118" y="88"/>
                    </a:cubicBezTo>
                    <a:close/>
                    <a:moveTo>
                      <a:pt x="3131" y="92"/>
                    </a:moveTo>
                    <a:cubicBezTo>
                      <a:pt x="3129" y="86"/>
                      <a:pt x="3128" y="80"/>
                      <a:pt x="3127" y="74"/>
                    </a:cubicBezTo>
                    <a:cubicBezTo>
                      <a:pt x="3129" y="71"/>
                      <a:pt x="3131" y="68"/>
                      <a:pt x="3132" y="65"/>
                    </a:cubicBezTo>
                    <a:cubicBezTo>
                      <a:pt x="3134" y="69"/>
                      <a:pt x="3137" y="72"/>
                      <a:pt x="3139" y="75"/>
                    </a:cubicBezTo>
                    <a:cubicBezTo>
                      <a:pt x="3139" y="77"/>
                      <a:pt x="3139" y="79"/>
                      <a:pt x="3139" y="81"/>
                    </a:cubicBezTo>
                    <a:cubicBezTo>
                      <a:pt x="3138" y="80"/>
                      <a:pt x="3138" y="80"/>
                      <a:pt x="3137" y="79"/>
                    </a:cubicBezTo>
                    <a:cubicBezTo>
                      <a:pt x="3138" y="80"/>
                      <a:pt x="3138" y="81"/>
                      <a:pt x="3139" y="81"/>
                    </a:cubicBezTo>
                    <a:cubicBezTo>
                      <a:pt x="3138" y="86"/>
                      <a:pt x="3138" y="90"/>
                      <a:pt x="3138" y="91"/>
                    </a:cubicBezTo>
                    <a:cubicBezTo>
                      <a:pt x="3138" y="95"/>
                      <a:pt x="3138" y="100"/>
                      <a:pt x="3139" y="104"/>
                    </a:cubicBezTo>
                    <a:cubicBezTo>
                      <a:pt x="3138" y="101"/>
                      <a:pt x="3138" y="99"/>
                      <a:pt x="3137" y="96"/>
                    </a:cubicBezTo>
                    <a:cubicBezTo>
                      <a:pt x="3138" y="100"/>
                      <a:pt x="3138" y="104"/>
                      <a:pt x="3139" y="108"/>
                    </a:cubicBezTo>
                    <a:cubicBezTo>
                      <a:pt x="3139" y="120"/>
                      <a:pt x="3140" y="132"/>
                      <a:pt x="3140" y="143"/>
                    </a:cubicBezTo>
                    <a:cubicBezTo>
                      <a:pt x="3138" y="126"/>
                      <a:pt x="3135" y="109"/>
                      <a:pt x="3131" y="92"/>
                    </a:cubicBezTo>
                    <a:close/>
                    <a:moveTo>
                      <a:pt x="3154" y="125"/>
                    </a:moveTo>
                    <a:cubicBezTo>
                      <a:pt x="3151" y="116"/>
                      <a:pt x="3149" y="108"/>
                      <a:pt x="3146" y="99"/>
                    </a:cubicBezTo>
                    <a:cubicBezTo>
                      <a:pt x="3144" y="93"/>
                      <a:pt x="3143" y="87"/>
                      <a:pt x="3143" y="82"/>
                    </a:cubicBezTo>
                    <a:cubicBezTo>
                      <a:pt x="3148" y="91"/>
                      <a:pt x="3151" y="100"/>
                      <a:pt x="3154" y="109"/>
                    </a:cubicBezTo>
                    <a:cubicBezTo>
                      <a:pt x="3154" y="114"/>
                      <a:pt x="3154" y="120"/>
                      <a:pt x="3154" y="125"/>
                    </a:cubicBezTo>
                    <a:close/>
                    <a:moveTo>
                      <a:pt x="3154" y="97"/>
                    </a:moveTo>
                    <a:cubicBezTo>
                      <a:pt x="3151" y="90"/>
                      <a:pt x="3147" y="83"/>
                      <a:pt x="3142" y="77"/>
                    </a:cubicBezTo>
                    <a:cubicBezTo>
                      <a:pt x="3142" y="72"/>
                      <a:pt x="3141" y="67"/>
                      <a:pt x="3142" y="63"/>
                    </a:cubicBezTo>
                    <a:cubicBezTo>
                      <a:pt x="3147" y="70"/>
                      <a:pt x="3151" y="77"/>
                      <a:pt x="3155" y="85"/>
                    </a:cubicBezTo>
                    <a:cubicBezTo>
                      <a:pt x="3155" y="89"/>
                      <a:pt x="3155" y="93"/>
                      <a:pt x="3154" y="97"/>
                    </a:cubicBezTo>
                    <a:close/>
                    <a:moveTo>
                      <a:pt x="3164" y="119"/>
                    </a:moveTo>
                    <a:cubicBezTo>
                      <a:pt x="3163" y="110"/>
                      <a:pt x="3161" y="102"/>
                      <a:pt x="3159" y="93"/>
                    </a:cubicBezTo>
                    <a:cubicBezTo>
                      <a:pt x="3161" y="98"/>
                      <a:pt x="3164" y="104"/>
                      <a:pt x="3165" y="109"/>
                    </a:cubicBezTo>
                    <a:cubicBezTo>
                      <a:pt x="3166" y="112"/>
                      <a:pt x="3166" y="114"/>
                      <a:pt x="3167" y="116"/>
                    </a:cubicBezTo>
                    <a:cubicBezTo>
                      <a:pt x="3167" y="120"/>
                      <a:pt x="3167" y="124"/>
                      <a:pt x="3167" y="127"/>
                    </a:cubicBezTo>
                    <a:cubicBezTo>
                      <a:pt x="3166" y="125"/>
                      <a:pt x="3165" y="122"/>
                      <a:pt x="3164" y="119"/>
                    </a:cubicBezTo>
                    <a:close/>
                    <a:moveTo>
                      <a:pt x="3175" y="151"/>
                    </a:moveTo>
                    <a:cubicBezTo>
                      <a:pt x="3175" y="151"/>
                      <a:pt x="3175" y="151"/>
                      <a:pt x="3175" y="151"/>
                    </a:cubicBezTo>
                    <a:cubicBezTo>
                      <a:pt x="3175" y="151"/>
                      <a:pt x="3175" y="150"/>
                      <a:pt x="3175" y="150"/>
                    </a:cubicBezTo>
                    <a:cubicBezTo>
                      <a:pt x="3175" y="150"/>
                      <a:pt x="3175" y="150"/>
                      <a:pt x="3175" y="150"/>
                    </a:cubicBezTo>
                    <a:cubicBezTo>
                      <a:pt x="3175" y="151"/>
                      <a:pt x="3175" y="151"/>
                      <a:pt x="3175" y="151"/>
                    </a:cubicBezTo>
                    <a:close/>
                    <a:moveTo>
                      <a:pt x="3181" y="114"/>
                    </a:moveTo>
                    <a:cubicBezTo>
                      <a:pt x="3179" y="105"/>
                      <a:pt x="3176" y="96"/>
                      <a:pt x="3172" y="88"/>
                    </a:cubicBezTo>
                    <a:cubicBezTo>
                      <a:pt x="3176" y="97"/>
                      <a:pt x="3178" y="110"/>
                      <a:pt x="3180" y="122"/>
                    </a:cubicBezTo>
                    <a:cubicBezTo>
                      <a:pt x="3179" y="127"/>
                      <a:pt x="3178" y="132"/>
                      <a:pt x="3177" y="136"/>
                    </a:cubicBezTo>
                    <a:cubicBezTo>
                      <a:pt x="3176" y="134"/>
                      <a:pt x="3176" y="133"/>
                      <a:pt x="3175" y="131"/>
                    </a:cubicBezTo>
                    <a:cubicBezTo>
                      <a:pt x="3175" y="117"/>
                      <a:pt x="3174" y="102"/>
                      <a:pt x="3172" y="87"/>
                    </a:cubicBezTo>
                    <a:cubicBezTo>
                      <a:pt x="3172" y="87"/>
                      <a:pt x="3172" y="88"/>
                      <a:pt x="3172" y="88"/>
                    </a:cubicBezTo>
                    <a:cubicBezTo>
                      <a:pt x="3172" y="88"/>
                      <a:pt x="3172" y="87"/>
                      <a:pt x="3172" y="87"/>
                    </a:cubicBezTo>
                    <a:cubicBezTo>
                      <a:pt x="3171" y="82"/>
                      <a:pt x="3171" y="78"/>
                      <a:pt x="3170" y="73"/>
                    </a:cubicBezTo>
                    <a:cubicBezTo>
                      <a:pt x="3177" y="81"/>
                      <a:pt x="3181" y="91"/>
                      <a:pt x="3184" y="101"/>
                    </a:cubicBezTo>
                    <a:cubicBezTo>
                      <a:pt x="3183" y="105"/>
                      <a:pt x="3182" y="109"/>
                      <a:pt x="3181" y="114"/>
                    </a:cubicBezTo>
                    <a:close/>
                    <a:moveTo>
                      <a:pt x="3188" y="139"/>
                    </a:moveTo>
                    <a:cubicBezTo>
                      <a:pt x="3187" y="137"/>
                      <a:pt x="3187" y="136"/>
                      <a:pt x="3187" y="135"/>
                    </a:cubicBezTo>
                    <a:cubicBezTo>
                      <a:pt x="3187" y="124"/>
                      <a:pt x="3183" y="112"/>
                      <a:pt x="3184" y="101"/>
                    </a:cubicBezTo>
                    <a:cubicBezTo>
                      <a:pt x="3187" y="110"/>
                      <a:pt x="3189" y="119"/>
                      <a:pt x="3190" y="128"/>
                    </a:cubicBezTo>
                    <a:cubicBezTo>
                      <a:pt x="3189" y="132"/>
                      <a:pt x="3188" y="135"/>
                      <a:pt x="3188" y="139"/>
                    </a:cubicBezTo>
                    <a:close/>
                    <a:moveTo>
                      <a:pt x="3203" y="136"/>
                    </a:moveTo>
                    <a:cubicBezTo>
                      <a:pt x="3203" y="135"/>
                      <a:pt x="3202" y="134"/>
                      <a:pt x="3202" y="133"/>
                    </a:cubicBezTo>
                    <a:cubicBezTo>
                      <a:pt x="3201" y="131"/>
                      <a:pt x="3201" y="129"/>
                      <a:pt x="3200" y="128"/>
                    </a:cubicBezTo>
                    <a:cubicBezTo>
                      <a:pt x="3200" y="127"/>
                      <a:pt x="3200" y="127"/>
                      <a:pt x="3200" y="127"/>
                    </a:cubicBezTo>
                    <a:cubicBezTo>
                      <a:pt x="3201" y="129"/>
                      <a:pt x="3201" y="131"/>
                      <a:pt x="3202" y="133"/>
                    </a:cubicBezTo>
                    <a:cubicBezTo>
                      <a:pt x="3202" y="134"/>
                      <a:pt x="3203" y="135"/>
                      <a:pt x="3203" y="136"/>
                    </a:cubicBezTo>
                    <a:cubicBezTo>
                      <a:pt x="3203" y="136"/>
                      <a:pt x="3203" y="136"/>
                      <a:pt x="3203" y="136"/>
                    </a:cubicBezTo>
                    <a:close/>
                    <a:moveTo>
                      <a:pt x="3204" y="133"/>
                    </a:moveTo>
                    <a:cubicBezTo>
                      <a:pt x="3203" y="129"/>
                      <a:pt x="3202" y="125"/>
                      <a:pt x="3200" y="120"/>
                    </a:cubicBezTo>
                    <a:cubicBezTo>
                      <a:pt x="3200" y="119"/>
                      <a:pt x="3200" y="117"/>
                      <a:pt x="3200" y="115"/>
                    </a:cubicBezTo>
                    <a:cubicBezTo>
                      <a:pt x="3200" y="112"/>
                      <a:pt x="3200" y="109"/>
                      <a:pt x="3201" y="105"/>
                    </a:cubicBezTo>
                    <a:cubicBezTo>
                      <a:pt x="3203" y="112"/>
                      <a:pt x="3204" y="119"/>
                      <a:pt x="3206" y="126"/>
                    </a:cubicBezTo>
                    <a:cubicBezTo>
                      <a:pt x="3205" y="128"/>
                      <a:pt x="3205" y="130"/>
                      <a:pt x="3204" y="133"/>
                    </a:cubicBezTo>
                    <a:close/>
                    <a:moveTo>
                      <a:pt x="3218" y="139"/>
                    </a:moveTo>
                    <a:cubicBezTo>
                      <a:pt x="3218" y="139"/>
                      <a:pt x="3218" y="139"/>
                      <a:pt x="3218" y="139"/>
                    </a:cubicBezTo>
                    <a:cubicBezTo>
                      <a:pt x="3218" y="137"/>
                      <a:pt x="3218" y="135"/>
                      <a:pt x="3218" y="133"/>
                    </a:cubicBezTo>
                    <a:cubicBezTo>
                      <a:pt x="3218" y="134"/>
                      <a:pt x="3218" y="134"/>
                      <a:pt x="3218" y="135"/>
                    </a:cubicBezTo>
                    <a:cubicBezTo>
                      <a:pt x="3218" y="136"/>
                      <a:pt x="3218" y="138"/>
                      <a:pt x="3218" y="139"/>
                    </a:cubicBezTo>
                    <a:close/>
                    <a:moveTo>
                      <a:pt x="3239" y="150"/>
                    </a:moveTo>
                    <a:cubicBezTo>
                      <a:pt x="3238" y="148"/>
                      <a:pt x="3237" y="147"/>
                      <a:pt x="3237" y="146"/>
                    </a:cubicBezTo>
                    <a:cubicBezTo>
                      <a:pt x="3236" y="131"/>
                      <a:pt x="3232" y="116"/>
                      <a:pt x="3230" y="101"/>
                    </a:cubicBezTo>
                    <a:cubicBezTo>
                      <a:pt x="3235" y="115"/>
                      <a:pt x="3237" y="132"/>
                      <a:pt x="3239" y="146"/>
                    </a:cubicBezTo>
                    <a:cubicBezTo>
                      <a:pt x="3239" y="147"/>
                      <a:pt x="3239" y="148"/>
                      <a:pt x="3239" y="150"/>
                    </a:cubicBezTo>
                    <a:close/>
                    <a:moveTo>
                      <a:pt x="3243" y="143"/>
                    </a:moveTo>
                    <a:cubicBezTo>
                      <a:pt x="3243" y="142"/>
                      <a:pt x="3243" y="141"/>
                      <a:pt x="3243" y="140"/>
                    </a:cubicBezTo>
                    <a:cubicBezTo>
                      <a:pt x="3243" y="139"/>
                      <a:pt x="3243" y="139"/>
                      <a:pt x="3243" y="139"/>
                    </a:cubicBezTo>
                    <a:cubicBezTo>
                      <a:pt x="3243" y="140"/>
                      <a:pt x="3243" y="141"/>
                      <a:pt x="3243" y="142"/>
                    </a:cubicBezTo>
                    <a:cubicBezTo>
                      <a:pt x="3243" y="142"/>
                      <a:pt x="3243" y="143"/>
                      <a:pt x="3243" y="143"/>
                    </a:cubicBezTo>
                    <a:close/>
                    <a:moveTo>
                      <a:pt x="3256" y="139"/>
                    </a:moveTo>
                    <a:cubicBezTo>
                      <a:pt x="3255" y="142"/>
                      <a:pt x="3254" y="145"/>
                      <a:pt x="3253" y="147"/>
                    </a:cubicBezTo>
                    <a:cubicBezTo>
                      <a:pt x="3253" y="146"/>
                      <a:pt x="3252" y="145"/>
                      <a:pt x="3252" y="144"/>
                    </a:cubicBezTo>
                    <a:cubicBezTo>
                      <a:pt x="3254" y="132"/>
                      <a:pt x="3254" y="120"/>
                      <a:pt x="3256" y="108"/>
                    </a:cubicBezTo>
                    <a:cubicBezTo>
                      <a:pt x="3257" y="104"/>
                      <a:pt x="3257" y="100"/>
                      <a:pt x="3259" y="97"/>
                    </a:cubicBezTo>
                    <a:cubicBezTo>
                      <a:pt x="3260" y="100"/>
                      <a:pt x="3261" y="103"/>
                      <a:pt x="3262" y="107"/>
                    </a:cubicBezTo>
                    <a:cubicBezTo>
                      <a:pt x="3261" y="112"/>
                      <a:pt x="3261" y="117"/>
                      <a:pt x="3260" y="122"/>
                    </a:cubicBezTo>
                    <a:cubicBezTo>
                      <a:pt x="3258" y="116"/>
                      <a:pt x="3257" y="111"/>
                      <a:pt x="3256" y="108"/>
                    </a:cubicBezTo>
                    <a:cubicBezTo>
                      <a:pt x="3258" y="116"/>
                      <a:pt x="3257" y="128"/>
                      <a:pt x="3256" y="139"/>
                    </a:cubicBezTo>
                    <a:close/>
                    <a:moveTo>
                      <a:pt x="3264" y="134"/>
                    </a:moveTo>
                    <a:cubicBezTo>
                      <a:pt x="3263" y="132"/>
                      <a:pt x="3262" y="130"/>
                      <a:pt x="3262" y="128"/>
                    </a:cubicBezTo>
                    <a:cubicBezTo>
                      <a:pt x="3262" y="121"/>
                      <a:pt x="3262" y="114"/>
                      <a:pt x="3262" y="107"/>
                    </a:cubicBezTo>
                    <a:cubicBezTo>
                      <a:pt x="3264" y="113"/>
                      <a:pt x="3265" y="118"/>
                      <a:pt x="3266" y="124"/>
                    </a:cubicBezTo>
                    <a:cubicBezTo>
                      <a:pt x="3265" y="128"/>
                      <a:pt x="3264" y="131"/>
                      <a:pt x="3264" y="134"/>
                    </a:cubicBezTo>
                    <a:close/>
                    <a:moveTo>
                      <a:pt x="3268" y="118"/>
                    </a:moveTo>
                    <a:cubicBezTo>
                      <a:pt x="3266" y="114"/>
                      <a:pt x="3264" y="109"/>
                      <a:pt x="3262" y="105"/>
                    </a:cubicBezTo>
                    <a:cubicBezTo>
                      <a:pt x="3263" y="102"/>
                      <a:pt x="3263" y="99"/>
                      <a:pt x="3264" y="96"/>
                    </a:cubicBezTo>
                    <a:cubicBezTo>
                      <a:pt x="3263" y="99"/>
                      <a:pt x="3263" y="102"/>
                      <a:pt x="3262" y="105"/>
                    </a:cubicBezTo>
                    <a:cubicBezTo>
                      <a:pt x="3261" y="102"/>
                      <a:pt x="3260" y="99"/>
                      <a:pt x="3259" y="96"/>
                    </a:cubicBezTo>
                    <a:cubicBezTo>
                      <a:pt x="3259" y="94"/>
                      <a:pt x="3260" y="91"/>
                      <a:pt x="3261" y="89"/>
                    </a:cubicBezTo>
                    <a:cubicBezTo>
                      <a:pt x="3265" y="95"/>
                      <a:pt x="3268" y="102"/>
                      <a:pt x="3270" y="109"/>
                    </a:cubicBezTo>
                    <a:cubicBezTo>
                      <a:pt x="3270" y="112"/>
                      <a:pt x="3269" y="115"/>
                      <a:pt x="3268" y="118"/>
                    </a:cubicBezTo>
                    <a:close/>
                    <a:moveTo>
                      <a:pt x="3271" y="151"/>
                    </a:moveTo>
                    <a:cubicBezTo>
                      <a:pt x="3271" y="151"/>
                      <a:pt x="3271" y="151"/>
                      <a:pt x="3270" y="151"/>
                    </a:cubicBezTo>
                    <a:cubicBezTo>
                      <a:pt x="3271" y="150"/>
                      <a:pt x="3271" y="148"/>
                      <a:pt x="3271" y="147"/>
                    </a:cubicBezTo>
                    <a:cubicBezTo>
                      <a:pt x="3271" y="147"/>
                      <a:pt x="3271" y="148"/>
                      <a:pt x="3271" y="148"/>
                    </a:cubicBezTo>
                    <a:cubicBezTo>
                      <a:pt x="3271" y="149"/>
                      <a:pt x="3271" y="150"/>
                      <a:pt x="3271" y="151"/>
                    </a:cubicBezTo>
                    <a:close/>
                    <a:moveTo>
                      <a:pt x="3275" y="136"/>
                    </a:moveTo>
                    <a:cubicBezTo>
                      <a:pt x="3274" y="134"/>
                      <a:pt x="3273" y="132"/>
                      <a:pt x="3273" y="130"/>
                    </a:cubicBezTo>
                    <a:cubicBezTo>
                      <a:pt x="3273" y="127"/>
                      <a:pt x="3273" y="123"/>
                      <a:pt x="3274" y="120"/>
                    </a:cubicBezTo>
                    <a:cubicBezTo>
                      <a:pt x="3275" y="123"/>
                      <a:pt x="3276" y="127"/>
                      <a:pt x="3276" y="130"/>
                    </a:cubicBezTo>
                    <a:cubicBezTo>
                      <a:pt x="3276" y="132"/>
                      <a:pt x="3275" y="134"/>
                      <a:pt x="3275" y="136"/>
                    </a:cubicBezTo>
                    <a:close/>
                    <a:moveTo>
                      <a:pt x="3281" y="150"/>
                    </a:moveTo>
                    <a:cubicBezTo>
                      <a:pt x="3281" y="149"/>
                      <a:pt x="3280" y="147"/>
                      <a:pt x="3279" y="146"/>
                    </a:cubicBezTo>
                    <a:cubicBezTo>
                      <a:pt x="3280" y="145"/>
                      <a:pt x="3280" y="145"/>
                      <a:pt x="3280" y="144"/>
                    </a:cubicBezTo>
                    <a:cubicBezTo>
                      <a:pt x="3281" y="146"/>
                      <a:pt x="3281" y="147"/>
                      <a:pt x="3282" y="149"/>
                    </a:cubicBezTo>
                    <a:cubicBezTo>
                      <a:pt x="3281" y="149"/>
                      <a:pt x="3281" y="149"/>
                      <a:pt x="3281" y="150"/>
                    </a:cubicBezTo>
                    <a:close/>
                    <a:moveTo>
                      <a:pt x="3279" y="122"/>
                    </a:moveTo>
                    <a:cubicBezTo>
                      <a:pt x="3278" y="118"/>
                      <a:pt x="3276" y="115"/>
                      <a:pt x="3275" y="111"/>
                    </a:cubicBezTo>
                    <a:cubicBezTo>
                      <a:pt x="3276" y="101"/>
                      <a:pt x="3278" y="90"/>
                      <a:pt x="3282" y="81"/>
                    </a:cubicBezTo>
                    <a:cubicBezTo>
                      <a:pt x="3285" y="86"/>
                      <a:pt x="3288" y="91"/>
                      <a:pt x="3290" y="97"/>
                    </a:cubicBezTo>
                    <a:cubicBezTo>
                      <a:pt x="3288" y="101"/>
                      <a:pt x="3286" y="105"/>
                      <a:pt x="3284" y="109"/>
                    </a:cubicBezTo>
                    <a:cubicBezTo>
                      <a:pt x="3282" y="102"/>
                      <a:pt x="3281" y="96"/>
                      <a:pt x="3279" y="91"/>
                    </a:cubicBezTo>
                    <a:cubicBezTo>
                      <a:pt x="3280" y="99"/>
                      <a:pt x="3281" y="106"/>
                      <a:pt x="3282" y="114"/>
                    </a:cubicBezTo>
                    <a:cubicBezTo>
                      <a:pt x="3281" y="117"/>
                      <a:pt x="3280" y="119"/>
                      <a:pt x="3279" y="122"/>
                    </a:cubicBezTo>
                    <a:close/>
                    <a:moveTo>
                      <a:pt x="3286" y="141"/>
                    </a:moveTo>
                    <a:cubicBezTo>
                      <a:pt x="3285" y="138"/>
                      <a:pt x="3284" y="135"/>
                      <a:pt x="3283" y="131"/>
                    </a:cubicBezTo>
                    <a:cubicBezTo>
                      <a:pt x="3283" y="129"/>
                      <a:pt x="3284" y="127"/>
                      <a:pt x="3284" y="124"/>
                    </a:cubicBezTo>
                    <a:cubicBezTo>
                      <a:pt x="3285" y="130"/>
                      <a:pt x="3286" y="135"/>
                      <a:pt x="3287" y="140"/>
                    </a:cubicBezTo>
                    <a:cubicBezTo>
                      <a:pt x="3287" y="140"/>
                      <a:pt x="3287" y="141"/>
                      <a:pt x="3286" y="141"/>
                    </a:cubicBezTo>
                    <a:close/>
                    <a:moveTo>
                      <a:pt x="3289" y="150"/>
                    </a:moveTo>
                    <a:cubicBezTo>
                      <a:pt x="3289" y="150"/>
                      <a:pt x="3289" y="149"/>
                      <a:pt x="3289" y="149"/>
                    </a:cubicBezTo>
                    <a:cubicBezTo>
                      <a:pt x="3289" y="149"/>
                      <a:pt x="3289" y="149"/>
                      <a:pt x="3289" y="149"/>
                    </a:cubicBezTo>
                    <a:cubicBezTo>
                      <a:pt x="3289" y="149"/>
                      <a:pt x="3289" y="150"/>
                      <a:pt x="3289" y="150"/>
                    </a:cubicBezTo>
                    <a:cubicBezTo>
                      <a:pt x="3289" y="150"/>
                      <a:pt x="3289" y="150"/>
                      <a:pt x="3289" y="150"/>
                    </a:cubicBezTo>
                    <a:close/>
                    <a:moveTo>
                      <a:pt x="3286" y="114"/>
                    </a:moveTo>
                    <a:cubicBezTo>
                      <a:pt x="3287" y="108"/>
                      <a:pt x="3288" y="103"/>
                      <a:pt x="3290" y="97"/>
                    </a:cubicBezTo>
                    <a:cubicBezTo>
                      <a:pt x="3292" y="103"/>
                      <a:pt x="3294" y="110"/>
                      <a:pt x="3296" y="116"/>
                    </a:cubicBezTo>
                    <a:cubicBezTo>
                      <a:pt x="3294" y="121"/>
                      <a:pt x="3293" y="126"/>
                      <a:pt x="3291" y="131"/>
                    </a:cubicBezTo>
                    <a:cubicBezTo>
                      <a:pt x="3289" y="126"/>
                      <a:pt x="3287" y="120"/>
                      <a:pt x="3286" y="114"/>
                    </a:cubicBezTo>
                    <a:close/>
                    <a:moveTo>
                      <a:pt x="3293" y="139"/>
                    </a:moveTo>
                    <a:cubicBezTo>
                      <a:pt x="3295" y="134"/>
                      <a:pt x="3296" y="129"/>
                      <a:pt x="3297" y="124"/>
                    </a:cubicBezTo>
                    <a:cubicBezTo>
                      <a:pt x="3298" y="125"/>
                      <a:pt x="3298" y="126"/>
                      <a:pt x="3298" y="128"/>
                    </a:cubicBezTo>
                    <a:cubicBezTo>
                      <a:pt x="3297" y="132"/>
                      <a:pt x="3295" y="136"/>
                      <a:pt x="3294" y="141"/>
                    </a:cubicBezTo>
                    <a:cubicBezTo>
                      <a:pt x="3294" y="140"/>
                      <a:pt x="3293" y="139"/>
                      <a:pt x="3293" y="139"/>
                    </a:cubicBezTo>
                    <a:close/>
                    <a:moveTo>
                      <a:pt x="3298" y="150"/>
                    </a:moveTo>
                    <a:cubicBezTo>
                      <a:pt x="3298" y="150"/>
                      <a:pt x="3297" y="149"/>
                      <a:pt x="3297" y="149"/>
                    </a:cubicBezTo>
                    <a:cubicBezTo>
                      <a:pt x="3298" y="147"/>
                      <a:pt x="3299" y="144"/>
                      <a:pt x="3300" y="141"/>
                    </a:cubicBezTo>
                    <a:cubicBezTo>
                      <a:pt x="3300" y="143"/>
                      <a:pt x="3301" y="144"/>
                      <a:pt x="3301" y="145"/>
                    </a:cubicBezTo>
                    <a:cubicBezTo>
                      <a:pt x="3300" y="147"/>
                      <a:pt x="3299" y="149"/>
                      <a:pt x="3298" y="150"/>
                    </a:cubicBezTo>
                    <a:close/>
                    <a:moveTo>
                      <a:pt x="3309" y="126"/>
                    </a:moveTo>
                    <a:cubicBezTo>
                      <a:pt x="3308" y="123"/>
                      <a:pt x="3307" y="120"/>
                      <a:pt x="3306" y="117"/>
                    </a:cubicBezTo>
                    <a:cubicBezTo>
                      <a:pt x="3307" y="116"/>
                      <a:pt x="3307" y="115"/>
                      <a:pt x="3307" y="114"/>
                    </a:cubicBezTo>
                    <a:cubicBezTo>
                      <a:pt x="3307" y="116"/>
                      <a:pt x="3308" y="117"/>
                      <a:pt x="3308" y="119"/>
                    </a:cubicBezTo>
                    <a:cubicBezTo>
                      <a:pt x="3309" y="121"/>
                      <a:pt x="3309" y="123"/>
                      <a:pt x="3310" y="125"/>
                    </a:cubicBezTo>
                    <a:cubicBezTo>
                      <a:pt x="3309" y="125"/>
                      <a:pt x="3309" y="125"/>
                      <a:pt x="3309" y="126"/>
                    </a:cubicBezTo>
                    <a:close/>
                    <a:moveTo>
                      <a:pt x="3314" y="142"/>
                    </a:moveTo>
                    <a:cubicBezTo>
                      <a:pt x="3313" y="139"/>
                      <a:pt x="3313" y="136"/>
                      <a:pt x="3312" y="133"/>
                    </a:cubicBezTo>
                    <a:cubicBezTo>
                      <a:pt x="3312" y="133"/>
                      <a:pt x="3312" y="133"/>
                      <a:pt x="3312" y="133"/>
                    </a:cubicBezTo>
                    <a:cubicBezTo>
                      <a:pt x="3313" y="136"/>
                      <a:pt x="3313" y="138"/>
                      <a:pt x="3314" y="141"/>
                    </a:cubicBezTo>
                    <a:cubicBezTo>
                      <a:pt x="3314" y="141"/>
                      <a:pt x="3314" y="141"/>
                      <a:pt x="3314" y="142"/>
                    </a:cubicBezTo>
                    <a:close/>
                    <a:moveTo>
                      <a:pt x="3316" y="148"/>
                    </a:move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lose/>
                    <a:moveTo>
                      <a:pt x="3319" y="141"/>
                    </a:moveTo>
                    <a:cubicBezTo>
                      <a:pt x="3319" y="141"/>
                      <a:pt x="3319" y="141"/>
                      <a:pt x="3319" y="141"/>
                    </a:cubicBezTo>
                    <a:cubicBezTo>
                      <a:pt x="3320" y="137"/>
                      <a:pt x="3321" y="133"/>
                      <a:pt x="3323" y="129"/>
                    </a:cubicBezTo>
                    <a:cubicBezTo>
                      <a:pt x="3323" y="129"/>
                      <a:pt x="3323" y="130"/>
                      <a:pt x="3323" y="131"/>
                    </a:cubicBezTo>
                    <a:cubicBezTo>
                      <a:pt x="3321" y="135"/>
                      <a:pt x="3320" y="138"/>
                      <a:pt x="3319" y="141"/>
                    </a:cubicBezTo>
                    <a:close/>
                    <a:moveTo>
                      <a:pt x="3326" y="122"/>
                    </a:moveTo>
                    <a:cubicBezTo>
                      <a:pt x="3326" y="121"/>
                      <a:pt x="3325" y="120"/>
                      <a:pt x="3325" y="119"/>
                    </a:cubicBezTo>
                    <a:cubicBezTo>
                      <a:pt x="3326" y="117"/>
                      <a:pt x="3326" y="114"/>
                      <a:pt x="3327" y="111"/>
                    </a:cubicBezTo>
                    <a:cubicBezTo>
                      <a:pt x="3328" y="113"/>
                      <a:pt x="3328" y="115"/>
                      <a:pt x="3329" y="117"/>
                    </a:cubicBezTo>
                    <a:cubicBezTo>
                      <a:pt x="3328" y="119"/>
                      <a:pt x="3327" y="121"/>
                      <a:pt x="3326" y="122"/>
                    </a:cubicBezTo>
                    <a:close/>
                    <a:moveTo>
                      <a:pt x="3336" y="147"/>
                    </a:moveTo>
                    <a:cubicBezTo>
                      <a:pt x="3335" y="145"/>
                      <a:pt x="3335" y="144"/>
                      <a:pt x="3334" y="142"/>
                    </a:cubicBezTo>
                    <a:cubicBezTo>
                      <a:pt x="3334" y="140"/>
                      <a:pt x="3333" y="138"/>
                      <a:pt x="3332" y="136"/>
                    </a:cubicBezTo>
                    <a:cubicBezTo>
                      <a:pt x="3332" y="136"/>
                      <a:pt x="3332" y="135"/>
                      <a:pt x="3332" y="134"/>
                    </a:cubicBezTo>
                    <a:cubicBezTo>
                      <a:pt x="3333" y="137"/>
                      <a:pt x="3334" y="139"/>
                      <a:pt x="3334" y="142"/>
                    </a:cubicBezTo>
                    <a:cubicBezTo>
                      <a:pt x="3335" y="144"/>
                      <a:pt x="3335" y="145"/>
                      <a:pt x="3336" y="147"/>
                    </a:cubicBezTo>
                    <a:close/>
                    <a:moveTo>
                      <a:pt x="3339" y="138"/>
                    </a:moveTo>
                    <a:cubicBezTo>
                      <a:pt x="3337" y="133"/>
                      <a:pt x="3336" y="128"/>
                      <a:pt x="3334" y="124"/>
                    </a:cubicBezTo>
                    <a:cubicBezTo>
                      <a:pt x="3334" y="121"/>
                      <a:pt x="3335" y="118"/>
                      <a:pt x="3335" y="116"/>
                    </a:cubicBezTo>
                    <a:cubicBezTo>
                      <a:pt x="3336" y="123"/>
                      <a:pt x="3338" y="129"/>
                      <a:pt x="3340" y="136"/>
                    </a:cubicBezTo>
                    <a:cubicBezTo>
                      <a:pt x="3340" y="137"/>
                      <a:pt x="3339" y="137"/>
                      <a:pt x="3339" y="138"/>
                    </a:cubicBezTo>
                    <a:close/>
                    <a:moveTo>
                      <a:pt x="3336" y="109"/>
                    </a:moveTo>
                    <a:cubicBezTo>
                      <a:pt x="3337" y="103"/>
                      <a:pt x="3339" y="97"/>
                      <a:pt x="3341" y="91"/>
                    </a:cubicBezTo>
                    <a:cubicBezTo>
                      <a:pt x="3343" y="96"/>
                      <a:pt x="3345" y="101"/>
                      <a:pt x="3347" y="106"/>
                    </a:cubicBezTo>
                    <a:cubicBezTo>
                      <a:pt x="3345" y="112"/>
                      <a:pt x="3344" y="120"/>
                      <a:pt x="3342" y="127"/>
                    </a:cubicBezTo>
                    <a:cubicBezTo>
                      <a:pt x="3340" y="121"/>
                      <a:pt x="3338" y="115"/>
                      <a:pt x="3336" y="109"/>
                    </a:cubicBezTo>
                    <a:close/>
                    <a:moveTo>
                      <a:pt x="3343" y="148"/>
                    </a:move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8"/>
                      <a:pt x="3343" y="148"/>
                    </a:cubicBezTo>
                    <a:close/>
                    <a:moveTo>
                      <a:pt x="3345" y="136"/>
                    </a:moveTo>
                    <a:cubicBezTo>
                      <a:pt x="3347" y="127"/>
                      <a:pt x="3347" y="118"/>
                      <a:pt x="3347" y="109"/>
                    </a:cubicBezTo>
                    <a:cubicBezTo>
                      <a:pt x="3349" y="115"/>
                      <a:pt x="3350" y="121"/>
                      <a:pt x="3351" y="127"/>
                    </a:cubicBezTo>
                    <a:cubicBezTo>
                      <a:pt x="3349" y="131"/>
                      <a:pt x="3348" y="135"/>
                      <a:pt x="3347" y="139"/>
                    </a:cubicBezTo>
                    <a:cubicBezTo>
                      <a:pt x="3346" y="138"/>
                      <a:pt x="3346" y="137"/>
                      <a:pt x="3345" y="136"/>
                    </a:cubicBezTo>
                    <a:close/>
                    <a:moveTo>
                      <a:pt x="3352" y="148"/>
                    </a:moveTo>
                    <a:cubicBezTo>
                      <a:pt x="3351" y="148"/>
                      <a:pt x="3351" y="147"/>
                      <a:pt x="3350" y="146"/>
                    </a:cubicBezTo>
                    <a:cubicBezTo>
                      <a:pt x="3351" y="143"/>
                      <a:pt x="3352" y="140"/>
                      <a:pt x="3352" y="137"/>
                    </a:cubicBezTo>
                    <a:cubicBezTo>
                      <a:pt x="3353" y="140"/>
                      <a:pt x="3353" y="142"/>
                      <a:pt x="3354" y="144"/>
                    </a:cubicBezTo>
                    <a:cubicBezTo>
                      <a:pt x="3353" y="146"/>
                      <a:pt x="3352" y="147"/>
                      <a:pt x="3352" y="148"/>
                    </a:cubicBezTo>
                    <a:close/>
                    <a:moveTo>
                      <a:pt x="3347" y="103"/>
                    </a:moveTo>
                    <a:cubicBezTo>
                      <a:pt x="3347" y="102"/>
                      <a:pt x="3347" y="102"/>
                      <a:pt x="3347" y="102"/>
                    </a:cubicBezTo>
                    <a:cubicBezTo>
                      <a:pt x="3347" y="102"/>
                      <a:pt x="3347" y="103"/>
                      <a:pt x="3347" y="103"/>
                    </a:cubicBezTo>
                    <a:cubicBezTo>
                      <a:pt x="3345" y="98"/>
                      <a:pt x="3343" y="94"/>
                      <a:pt x="3341" y="91"/>
                    </a:cubicBezTo>
                    <a:cubicBezTo>
                      <a:pt x="3342" y="87"/>
                      <a:pt x="3344" y="83"/>
                      <a:pt x="3346" y="80"/>
                    </a:cubicBezTo>
                    <a:cubicBezTo>
                      <a:pt x="3352" y="89"/>
                      <a:pt x="3356" y="99"/>
                      <a:pt x="3358" y="109"/>
                    </a:cubicBezTo>
                    <a:cubicBezTo>
                      <a:pt x="3357" y="112"/>
                      <a:pt x="3355" y="116"/>
                      <a:pt x="3354" y="119"/>
                    </a:cubicBezTo>
                    <a:cubicBezTo>
                      <a:pt x="3352" y="114"/>
                      <a:pt x="3350" y="108"/>
                      <a:pt x="3347" y="103"/>
                    </a:cubicBezTo>
                    <a:close/>
                    <a:moveTo>
                      <a:pt x="3355" y="123"/>
                    </a:moveTo>
                    <a:cubicBezTo>
                      <a:pt x="3356" y="118"/>
                      <a:pt x="3357" y="114"/>
                      <a:pt x="3358" y="110"/>
                    </a:cubicBezTo>
                    <a:cubicBezTo>
                      <a:pt x="3359" y="115"/>
                      <a:pt x="3360" y="120"/>
                      <a:pt x="3361" y="125"/>
                    </a:cubicBezTo>
                    <a:cubicBezTo>
                      <a:pt x="3360" y="128"/>
                      <a:pt x="3359" y="130"/>
                      <a:pt x="3358" y="133"/>
                    </a:cubicBezTo>
                    <a:cubicBezTo>
                      <a:pt x="3357" y="129"/>
                      <a:pt x="3356" y="126"/>
                      <a:pt x="3355" y="123"/>
                    </a:cubicBezTo>
                    <a:close/>
                    <a:moveTo>
                      <a:pt x="3362" y="150"/>
                    </a:moveTo>
                    <a:cubicBezTo>
                      <a:pt x="3362" y="147"/>
                      <a:pt x="3361" y="144"/>
                      <a:pt x="3360" y="140"/>
                    </a:cubicBezTo>
                    <a:cubicBezTo>
                      <a:pt x="3361" y="137"/>
                      <a:pt x="3361" y="135"/>
                      <a:pt x="3361" y="132"/>
                    </a:cubicBezTo>
                    <a:cubicBezTo>
                      <a:pt x="3362" y="137"/>
                      <a:pt x="3362" y="143"/>
                      <a:pt x="3362" y="149"/>
                    </a:cubicBezTo>
                    <a:cubicBezTo>
                      <a:pt x="3362" y="150"/>
                      <a:pt x="3362" y="150"/>
                      <a:pt x="3362" y="150"/>
                    </a:cubicBezTo>
                    <a:close/>
                    <a:moveTo>
                      <a:pt x="3391" y="152"/>
                    </a:moveTo>
                    <a:cubicBezTo>
                      <a:pt x="3391" y="148"/>
                      <a:pt x="3391" y="145"/>
                      <a:pt x="3390" y="141"/>
                    </a:cubicBezTo>
                    <a:cubicBezTo>
                      <a:pt x="3390" y="136"/>
                      <a:pt x="3391" y="131"/>
                      <a:pt x="3391" y="125"/>
                    </a:cubicBezTo>
                    <a:cubicBezTo>
                      <a:pt x="3391" y="134"/>
                      <a:pt x="3391" y="142"/>
                      <a:pt x="3391" y="151"/>
                    </a:cubicBezTo>
                    <a:cubicBezTo>
                      <a:pt x="3391" y="151"/>
                      <a:pt x="3391" y="151"/>
                      <a:pt x="3391" y="152"/>
                    </a:cubicBezTo>
                    <a:close/>
                    <a:moveTo>
                      <a:pt x="3457" y="128"/>
                    </a:moveTo>
                    <a:cubicBezTo>
                      <a:pt x="3457" y="132"/>
                      <a:pt x="3456" y="136"/>
                      <a:pt x="3455" y="140"/>
                    </a:cubicBezTo>
                    <a:cubicBezTo>
                      <a:pt x="3455" y="136"/>
                      <a:pt x="3454" y="133"/>
                      <a:pt x="3453" y="129"/>
                    </a:cubicBezTo>
                    <a:cubicBezTo>
                      <a:pt x="3453" y="126"/>
                      <a:pt x="3453" y="122"/>
                      <a:pt x="3453" y="119"/>
                    </a:cubicBezTo>
                    <a:cubicBezTo>
                      <a:pt x="3453" y="112"/>
                      <a:pt x="3454" y="104"/>
                      <a:pt x="3455" y="97"/>
                    </a:cubicBezTo>
                    <a:cubicBezTo>
                      <a:pt x="3456" y="102"/>
                      <a:pt x="3457" y="107"/>
                      <a:pt x="3457" y="111"/>
                    </a:cubicBezTo>
                    <a:cubicBezTo>
                      <a:pt x="3457" y="122"/>
                      <a:pt x="3457" y="122"/>
                      <a:pt x="3457" y="122"/>
                    </a:cubicBezTo>
                    <a:cubicBezTo>
                      <a:pt x="3457" y="124"/>
                      <a:pt x="3457" y="126"/>
                      <a:pt x="3457" y="128"/>
                    </a:cubicBezTo>
                    <a:close/>
                    <a:moveTo>
                      <a:pt x="3465" y="151"/>
                    </a:move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36"/>
                      <a:pt x="3465" y="123"/>
                      <a:pt x="3464" y="109"/>
                    </a:cubicBezTo>
                    <a:cubicBezTo>
                      <a:pt x="3464" y="104"/>
                      <a:pt x="3465" y="99"/>
                      <a:pt x="3466" y="93"/>
                    </a:cubicBezTo>
                    <a:cubicBezTo>
                      <a:pt x="3467" y="99"/>
                      <a:pt x="3467" y="105"/>
                      <a:pt x="3467" y="110"/>
                    </a:cubicBezTo>
                    <a:cubicBezTo>
                      <a:pt x="3467" y="124"/>
                      <a:pt x="3465" y="138"/>
                      <a:pt x="3465" y="151"/>
                    </a:cubicBezTo>
                    <a:close/>
                    <a:moveTo>
                      <a:pt x="3492" y="110"/>
                    </a:moveTo>
                    <a:cubicBezTo>
                      <a:pt x="3492" y="109"/>
                      <a:pt x="3492" y="107"/>
                      <a:pt x="3492" y="106"/>
                    </a:cubicBezTo>
                    <a:cubicBezTo>
                      <a:pt x="3492" y="110"/>
                      <a:pt x="3493" y="113"/>
                      <a:pt x="3492" y="116"/>
                    </a:cubicBezTo>
                    <a:cubicBezTo>
                      <a:pt x="3492" y="114"/>
                      <a:pt x="3492" y="112"/>
                      <a:pt x="3492" y="110"/>
                    </a:cubicBezTo>
                    <a:close/>
                    <a:moveTo>
                      <a:pt x="3518" y="120"/>
                    </a:moveTo>
                    <a:cubicBezTo>
                      <a:pt x="3516" y="114"/>
                      <a:pt x="3515" y="109"/>
                      <a:pt x="3515" y="104"/>
                    </a:cubicBezTo>
                    <a:cubicBezTo>
                      <a:pt x="3515" y="102"/>
                      <a:pt x="3515" y="98"/>
                      <a:pt x="3517" y="93"/>
                    </a:cubicBezTo>
                    <a:cubicBezTo>
                      <a:pt x="3518" y="100"/>
                      <a:pt x="3518" y="107"/>
                      <a:pt x="3518" y="112"/>
                    </a:cubicBezTo>
                    <a:cubicBezTo>
                      <a:pt x="3518" y="115"/>
                      <a:pt x="3518" y="117"/>
                      <a:pt x="3518" y="120"/>
                    </a:cubicBezTo>
                    <a:close/>
                    <a:moveTo>
                      <a:pt x="3528" y="145"/>
                    </a:moveTo>
                    <a:cubicBezTo>
                      <a:pt x="3528" y="145"/>
                      <a:pt x="3528" y="144"/>
                      <a:pt x="3528" y="144"/>
                    </a:cubicBezTo>
                    <a:cubicBezTo>
                      <a:pt x="3528" y="139"/>
                      <a:pt x="3528" y="134"/>
                      <a:pt x="3528" y="129"/>
                    </a:cubicBezTo>
                    <a:cubicBezTo>
                      <a:pt x="3529" y="132"/>
                      <a:pt x="3529" y="134"/>
                      <a:pt x="3529" y="137"/>
                    </a:cubicBezTo>
                    <a:cubicBezTo>
                      <a:pt x="3529" y="140"/>
                      <a:pt x="3528" y="142"/>
                      <a:pt x="3528" y="145"/>
                    </a:cubicBezTo>
                    <a:close/>
                    <a:moveTo>
                      <a:pt x="3539" y="145"/>
                    </a:moveTo>
                    <a:cubicBezTo>
                      <a:pt x="3539" y="144"/>
                      <a:pt x="3538" y="143"/>
                      <a:pt x="3538" y="143"/>
                    </a:cubicBezTo>
                    <a:cubicBezTo>
                      <a:pt x="3538" y="142"/>
                      <a:pt x="3538" y="141"/>
                      <a:pt x="3538" y="140"/>
                    </a:cubicBezTo>
                    <a:cubicBezTo>
                      <a:pt x="3539" y="141"/>
                      <a:pt x="3539" y="142"/>
                      <a:pt x="3539" y="143"/>
                    </a:cubicBezTo>
                    <a:cubicBezTo>
                      <a:pt x="3539" y="143"/>
                      <a:pt x="3539" y="144"/>
                      <a:pt x="3539" y="145"/>
                    </a:cubicBezTo>
                    <a:close/>
                    <a:moveTo>
                      <a:pt x="3540" y="138"/>
                    </a:moveTo>
                    <a:cubicBezTo>
                      <a:pt x="3540" y="136"/>
                      <a:pt x="3539" y="135"/>
                      <a:pt x="3539" y="133"/>
                    </a:cubicBezTo>
                    <a:cubicBezTo>
                      <a:pt x="3539" y="129"/>
                      <a:pt x="3539" y="124"/>
                      <a:pt x="3539" y="119"/>
                    </a:cubicBezTo>
                    <a:cubicBezTo>
                      <a:pt x="3540" y="124"/>
                      <a:pt x="3541" y="129"/>
                      <a:pt x="3542" y="134"/>
                    </a:cubicBezTo>
                    <a:cubicBezTo>
                      <a:pt x="3541" y="135"/>
                      <a:pt x="3541" y="137"/>
                      <a:pt x="3540" y="138"/>
                    </a:cubicBezTo>
                    <a:close/>
                    <a:moveTo>
                      <a:pt x="3545" y="154"/>
                    </a:moveTo>
                    <a:cubicBezTo>
                      <a:pt x="3545" y="153"/>
                      <a:pt x="3545" y="152"/>
                      <a:pt x="3545" y="151"/>
                    </a:cubicBezTo>
                    <a:cubicBezTo>
                      <a:pt x="3545" y="151"/>
                      <a:pt x="3545" y="150"/>
                      <a:pt x="3545" y="150"/>
                    </a:cubicBezTo>
                    <a:cubicBezTo>
                      <a:pt x="3545" y="151"/>
                      <a:pt x="3545" y="152"/>
                      <a:pt x="3545" y="154"/>
                    </a:cubicBezTo>
                    <a:close/>
                    <a:moveTo>
                      <a:pt x="3551" y="139"/>
                    </a:moveTo>
                    <a:cubicBezTo>
                      <a:pt x="3550" y="136"/>
                      <a:pt x="3549" y="134"/>
                      <a:pt x="3548" y="132"/>
                    </a:cubicBezTo>
                    <a:cubicBezTo>
                      <a:pt x="3549" y="129"/>
                      <a:pt x="3550" y="127"/>
                      <a:pt x="3551" y="125"/>
                    </a:cubicBezTo>
                    <a:cubicBezTo>
                      <a:pt x="3551" y="128"/>
                      <a:pt x="3552" y="131"/>
                      <a:pt x="3553" y="134"/>
                    </a:cubicBezTo>
                    <a:cubicBezTo>
                      <a:pt x="3552" y="136"/>
                      <a:pt x="3552" y="137"/>
                      <a:pt x="3551" y="139"/>
                    </a:cubicBezTo>
                    <a:close/>
                    <a:moveTo>
                      <a:pt x="3571" y="114"/>
                    </a:moveTo>
                    <a:cubicBezTo>
                      <a:pt x="3570" y="108"/>
                      <a:pt x="3569" y="101"/>
                      <a:pt x="3569" y="95"/>
                    </a:cubicBezTo>
                    <a:cubicBezTo>
                      <a:pt x="3569" y="88"/>
                      <a:pt x="3570" y="81"/>
                      <a:pt x="3571" y="75"/>
                    </a:cubicBezTo>
                    <a:cubicBezTo>
                      <a:pt x="3573" y="81"/>
                      <a:pt x="3573" y="88"/>
                      <a:pt x="3573" y="95"/>
                    </a:cubicBezTo>
                    <a:cubicBezTo>
                      <a:pt x="3573" y="101"/>
                      <a:pt x="3572" y="108"/>
                      <a:pt x="3571" y="114"/>
                    </a:cubicBezTo>
                    <a:close/>
                    <a:moveTo>
                      <a:pt x="3591" y="139"/>
                    </a:moveTo>
                    <a:cubicBezTo>
                      <a:pt x="3591" y="137"/>
                      <a:pt x="3590" y="136"/>
                      <a:pt x="3590" y="134"/>
                    </a:cubicBezTo>
                    <a:cubicBezTo>
                      <a:pt x="3590" y="131"/>
                      <a:pt x="3591" y="128"/>
                      <a:pt x="3592" y="125"/>
                    </a:cubicBezTo>
                    <a:cubicBezTo>
                      <a:pt x="3592" y="127"/>
                      <a:pt x="3593" y="129"/>
                      <a:pt x="3594" y="132"/>
                    </a:cubicBezTo>
                    <a:cubicBezTo>
                      <a:pt x="3593" y="134"/>
                      <a:pt x="3592" y="136"/>
                      <a:pt x="3591" y="139"/>
                    </a:cubicBezTo>
                    <a:close/>
                    <a:moveTo>
                      <a:pt x="3597" y="154"/>
                    </a:moveTo>
                    <a:cubicBezTo>
                      <a:pt x="3597" y="154"/>
                      <a:pt x="3597" y="154"/>
                      <a:pt x="3597" y="154"/>
                    </a:cubicBezTo>
                    <a:cubicBezTo>
                      <a:pt x="3597" y="152"/>
                      <a:pt x="3597" y="151"/>
                      <a:pt x="3598" y="150"/>
                    </a:cubicBezTo>
                    <a:cubicBezTo>
                      <a:pt x="3598" y="150"/>
                      <a:pt x="3598" y="151"/>
                      <a:pt x="3598" y="151"/>
                    </a:cubicBezTo>
                    <a:cubicBezTo>
                      <a:pt x="3597" y="152"/>
                      <a:pt x="3597" y="153"/>
                      <a:pt x="3597" y="154"/>
                    </a:cubicBezTo>
                    <a:close/>
                    <a:moveTo>
                      <a:pt x="3603" y="119"/>
                    </a:move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19"/>
                    </a:cubicBezTo>
                    <a:close/>
                    <a:moveTo>
                      <a:pt x="3602" y="138"/>
                    </a:moveTo>
                    <a:cubicBezTo>
                      <a:pt x="3601" y="137"/>
                      <a:pt x="3601" y="135"/>
                      <a:pt x="3601" y="134"/>
                    </a:cubicBezTo>
                    <a:cubicBezTo>
                      <a:pt x="3601" y="134"/>
                      <a:pt x="3601" y="134"/>
                      <a:pt x="3601" y="134"/>
                    </a:cubicBezTo>
                    <a:cubicBezTo>
                      <a:pt x="3601" y="134"/>
                      <a:pt x="3602" y="135"/>
                      <a:pt x="3602" y="137"/>
                    </a:cubicBezTo>
                    <a:cubicBezTo>
                      <a:pt x="3602" y="137"/>
                      <a:pt x="3602" y="138"/>
                      <a:pt x="3602" y="138"/>
                    </a:cubicBezTo>
                    <a:close/>
                    <a:moveTo>
                      <a:pt x="3601" y="133"/>
                    </a:moveTo>
                    <a:cubicBezTo>
                      <a:pt x="3601" y="132"/>
                      <a:pt x="3601" y="131"/>
                      <a:pt x="3601" y="130"/>
                    </a:cubicBezTo>
                    <a:cubicBezTo>
                      <a:pt x="3602" y="131"/>
                      <a:pt x="3603" y="133"/>
                      <a:pt x="3603" y="134"/>
                    </a:cubicBezTo>
                    <a:cubicBezTo>
                      <a:pt x="3603" y="135"/>
                      <a:pt x="3603" y="135"/>
                      <a:pt x="3603" y="136"/>
                    </a:cubicBezTo>
                    <a:cubicBezTo>
                      <a:pt x="3602" y="134"/>
                      <a:pt x="3601" y="133"/>
                      <a:pt x="3601" y="133"/>
                    </a:cubicBezTo>
                    <a:close/>
                    <a:moveTo>
                      <a:pt x="3604" y="145"/>
                    </a:moveTo>
                    <a:cubicBezTo>
                      <a:pt x="3603" y="144"/>
                      <a:pt x="3603" y="143"/>
                      <a:pt x="3603" y="143"/>
                    </a:cubicBezTo>
                    <a:cubicBezTo>
                      <a:pt x="3603" y="142"/>
                      <a:pt x="3604" y="141"/>
                      <a:pt x="3604" y="140"/>
                    </a:cubicBezTo>
                    <a:cubicBezTo>
                      <a:pt x="3604" y="140"/>
                      <a:pt x="3604" y="140"/>
                      <a:pt x="3604" y="140"/>
                    </a:cubicBezTo>
                    <a:cubicBezTo>
                      <a:pt x="3604" y="141"/>
                      <a:pt x="3604" y="142"/>
                      <a:pt x="3604" y="143"/>
                    </a:cubicBezTo>
                    <a:cubicBezTo>
                      <a:pt x="3604" y="143"/>
                      <a:pt x="3604" y="144"/>
                      <a:pt x="3604" y="145"/>
                    </a:cubicBezTo>
                    <a:close/>
                    <a:moveTo>
                      <a:pt x="3614" y="134"/>
                    </a:moveTo>
                    <a:cubicBezTo>
                      <a:pt x="3614" y="134"/>
                      <a:pt x="3614" y="133"/>
                      <a:pt x="3614" y="133"/>
                    </a:cubicBezTo>
                    <a:cubicBezTo>
                      <a:pt x="3614" y="132"/>
                      <a:pt x="3614" y="130"/>
                      <a:pt x="3614" y="129"/>
                    </a:cubicBezTo>
                    <a:cubicBezTo>
                      <a:pt x="3614" y="130"/>
                      <a:pt x="3614" y="132"/>
                      <a:pt x="3614" y="134"/>
                    </a:cubicBezTo>
                    <a:close/>
                    <a:moveTo>
                      <a:pt x="3624" y="120"/>
                    </a:moveTo>
                    <a:cubicBezTo>
                      <a:pt x="3624" y="117"/>
                      <a:pt x="3624" y="115"/>
                      <a:pt x="3624" y="112"/>
                    </a:cubicBezTo>
                    <a:cubicBezTo>
                      <a:pt x="3624" y="111"/>
                      <a:pt x="3624" y="111"/>
                      <a:pt x="3624" y="110"/>
                    </a:cubicBezTo>
                    <a:cubicBezTo>
                      <a:pt x="3624" y="113"/>
                      <a:pt x="3624" y="116"/>
                      <a:pt x="3625" y="119"/>
                    </a:cubicBezTo>
                    <a:cubicBezTo>
                      <a:pt x="3625" y="119"/>
                      <a:pt x="3624" y="120"/>
                      <a:pt x="3624" y="120"/>
                    </a:cubicBezTo>
                    <a:close/>
                    <a:moveTo>
                      <a:pt x="3626" y="115"/>
                    </a:moveTo>
                    <a:cubicBezTo>
                      <a:pt x="3625" y="112"/>
                      <a:pt x="3625" y="108"/>
                      <a:pt x="3624" y="104"/>
                    </a:cubicBezTo>
                    <a:cubicBezTo>
                      <a:pt x="3625" y="101"/>
                      <a:pt x="3625" y="97"/>
                      <a:pt x="3626" y="93"/>
                    </a:cubicBezTo>
                    <a:cubicBezTo>
                      <a:pt x="3627" y="98"/>
                      <a:pt x="3627" y="102"/>
                      <a:pt x="3627" y="104"/>
                    </a:cubicBezTo>
                    <a:cubicBezTo>
                      <a:pt x="3627" y="108"/>
                      <a:pt x="3627" y="111"/>
                      <a:pt x="3626" y="115"/>
                    </a:cubicBezTo>
                    <a:close/>
                    <a:moveTo>
                      <a:pt x="3631" y="102"/>
                    </a:moveTo>
                    <a:cubicBezTo>
                      <a:pt x="3631" y="102"/>
                      <a:pt x="3631" y="102"/>
                      <a:pt x="3630" y="103"/>
                    </a:cubicBezTo>
                    <a:cubicBezTo>
                      <a:pt x="3630" y="99"/>
                      <a:pt x="3629" y="94"/>
                      <a:pt x="3626" y="90"/>
                    </a:cubicBezTo>
                    <a:cubicBezTo>
                      <a:pt x="3628" y="84"/>
                      <a:pt x="3630" y="78"/>
                      <a:pt x="3632" y="73"/>
                    </a:cubicBezTo>
                    <a:cubicBezTo>
                      <a:pt x="3631" y="83"/>
                      <a:pt x="3631" y="93"/>
                      <a:pt x="3631" y="102"/>
                    </a:cubicBezTo>
                    <a:close/>
                    <a:moveTo>
                      <a:pt x="3637" y="110"/>
                    </a:moveTo>
                    <a:cubicBezTo>
                      <a:pt x="3637" y="111"/>
                      <a:pt x="3637" y="111"/>
                      <a:pt x="3637" y="111"/>
                    </a:cubicBezTo>
                    <a:cubicBezTo>
                      <a:pt x="3637" y="114"/>
                      <a:pt x="3636" y="116"/>
                      <a:pt x="3636" y="119"/>
                    </a:cubicBezTo>
                    <a:cubicBezTo>
                      <a:pt x="3635" y="114"/>
                      <a:pt x="3635" y="108"/>
                      <a:pt x="3635" y="103"/>
                    </a:cubicBezTo>
                    <a:cubicBezTo>
                      <a:pt x="3635" y="97"/>
                      <a:pt x="3635" y="91"/>
                      <a:pt x="3637" y="85"/>
                    </a:cubicBezTo>
                    <a:cubicBezTo>
                      <a:pt x="3636" y="87"/>
                      <a:pt x="3635" y="89"/>
                      <a:pt x="3634" y="92"/>
                    </a:cubicBezTo>
                    <a:cubicBezTo>
                      <a:pt x="3634" y="87"/>
                      <a:pt x="3634" y="82"/>
                      <a:pt x="3635" y="77"/>
                    </a:cubicBezTo>
                    <a:cubicBezTo>
                      <a:pt x="3637" y="83"/>
                      <a:pt x="3638" y="90"/>
                      <a:pt x="3638" y="96"/>
                    </a:cubicBezTo>
                    <a:cubicBezTo>
                      <a:pt x="3638" y="101"/>
                      <a:pt x="3638" y="106"/>
                      <a:pt x="3637" y="110"/>
                    </a:cubicBezTo>
                    <a:close/>
                    <a:moveTo>
                      <a:pt x="3643" y="127"/>
                    </a:moveTo>
                    <a:cubicBezTo>
                      <a:pt x="3642" y="132"/>
                      <a:pt x="3642" y="134"/>
                      <a:pt x="3642" y="134"/>
                    </a:cubicBezTo>
                    <a:cubicBezTo>
                      <a:pt x="3642" y="129"/>
                      <a:pt x="3643" y="125"/>
                      <a:pt x="3643" y="120"/>
                    </a:cubicBezTo>
                    <a:cubicBezTo>
                      <a:pt x="3643" y="123"/>
                      <a:pt x="3643" y="125"/>
                      <a:pt x="3643" y="127"/>
                    </a:cubicBezTo>
                    <a:close/>
                    <a:moveTo>
                      <a:pt x="3675" y="92"/>
                    </a:moveTo>
                    <a:cubicBezTo>
                      <a:pt x="3675" y="91"/>
                      <a:pt x="3675" y="90"/>
                      <a:pt x="3675" y="89"/>
                    </a:cubicBezTo>
                    <a:cubicBezTo>
                      <a:pt x="3675" y="89"/>
                      <a:pt x="3675" y="90"/>
                      <a:pt x="3675" y="91"/>
                    </a:cubicBezTo>
                    <a:cubicBezTo>
                      <a:pt x="3675" y="91"/>
                      <a:pt x="3675" y="92"/>
                      <a:pt x="3675" y="92"/>
                    </a:cubicBezTo>
                    <a:close/>
                    <a:moveTo>
                      <a:pt x="3677" y="130"/>
                    </a:moveTo>
                    <a:cubicBezTo>
                      <a:pt x="3677" y="132"/>
                      <a:pt x="3677" y="134"/>
                      <a:pt x="3677" y="136"/>
                    </a:cubicBezTo>
                    <a:cubicBezTo>
                      <a:pt x="3676" y="127"/>
                      <a:pt x="3675" y="119"/>
                      <a:pt x="3675" y="110"/>
                    </a:cubicBezTo>
                    <a:cubicBezTo>
                      <a:pt x="3675" y="105"/>
                      <a:pt x="3675" y="99"/>
                      <a:pt x="3676" y="93"/>
                    </a:cubicBezTo>
                    <a:cubicBezTo>
                      <a:pt x="3677" y="99"/>
                      <a:pt x="3678" y="104"/>
                      <a:pt x="3679" y="109"/>
                    </a:cubicBezTo>
                    <a:cubicBezTo>
                      <a:pt x="3678" y="116"/>
                      <a:pt x="3678" y="123"/>
                      <a:pt x="3677" y="130"/>
                    </a:cubicBezTo>
                    <a:close/>
                    <a:moveTo>
                      <a:pt x="3687" y="140"/>
                    </a:moveTo>
                    <a:cubicBezTo>
                      <a:pt x="3687" y="140"/>
                      <a:pt x="3687" y="139"/>
                      <a:pt x="3687" y="139"/>
                    </a:cubicBezTo>
                    <a:cubicBezTo>
                      <a:pt x="3688" y="100"/>
                      <a:pt x="3688" y="100"/>
                      <a:pt x="3688" y="100"/>
                    </a:cubicBezTo>
                    <a:cubicBezTo>
                      <a:pt x="3688" y="106"/>
                      <a:pt x="3689" y="113"/>
                      <a:pt x="3689" y="119"/>
                    </a:cubicBezTo>
                    <a:cubicBezTo>
                      <a:pt x="3689" y="122"/>
                      <a:pt x="3689" y="126"/>
                      <a:pt x="3689" y="129"/>
                    </a:cubicBezTo>
                    <a:cubicBezTo>
                      <a:pt x="3688" y="133"/>
                      <a:pt x="3688" y="136"/>
                      <a:pt x="3687" y="140"/>
                    </a:cubicBezTo>
                    <a:close/>
                    <a:moveTo>
                      <a:pt x="3708" y="105"/>
                    </a:moveTo>
                    <a:cubicBezTo>
                      <a:pt x="3708" y="104"/>
                      <a:pt x="3708" y="102"/>
                      <a:pt x="3708" y="101"/>
                    </a:cubicBezTo>
                    <a:cubicBezTo>
                      <a:pt x="3708" y="102"/>
                      <a:pt x="3709" y="103"/>
                      <a:pt x="3709" y="103"/>
                    </a:cubicBezTo>
                    <a:cubicBezTo>
                      <a:pt x="3708" y="104"/>
                      <a:pt x="3708" y="105"/>
                      <a:pt x="3708" y="105"/>
                    </a:cubicBezTo>
                    <a:close/>
                    <a:moveTo>
                      <a:pt x="3731" y="101"/>
                    </a:moveTo>
                    <a:cubicBezTo>
                      <a:pt x="3730" y="101"/>
                      <a:pt x="3730" y="101"/>
                      <a:pt x="3730" y="100"/>
                    </a:cubicBezTo>
                    <a:cubicBezTo>
                      <a:pt x="3730" y="101"/>
                      <a:pt x="3730" y="101"/>
                      <a:pt x="3731" y="101"/>
                    </a:cubicBezTo>
                    <a:cubicBezTo>
                      <a:pt x="3730" y="111"/>
                      <a:pt x="3729" y="119"/>
                      <a:pt x="3728" y="126"/>
                    </a:cubicBezTo>
                    <a:cubicBezTo>
                      <a:pt x="3727" y="122"/>
                      <a:pt x="3727" y="118"/>
                      <a:pt x="3726" y="114"/>
                    </a:cubicBezTo>
                    <a:cubicBezTo>
                      <a:pt x="3726" y="109"/>
                      <a:pt x="3726" y="103"/>
                      <a:pt x="3726" y="98"/>
                    </a:cubicBezTo>
                    <a:cubicBezTo>
                      <a:pt x="3727" y="92"/>
                      <a:pt x="3729" y="87"/>
                      <a:pt x="3732" y="82"/>
                    </a:cubicBezTo>
                    <a:cubicBezTo>
                      <a:pt x="3731" y="89"/>
                      <a:pt x="3731" y="95"/>
                      <a:pt x="3731" y="101"/>
                    </a:cubicBezTo>
                    <a:close/>
                    <a:moveTo>
                      <a:pt x="3740" y="117"/>
                    </a:moveTo>
                    <a:cubicBezTo>
                      <a:pt x="3740" y="114"/>
                      <a:pt x="3740" y="110"/>
                      <a:pt x="3740" y="106"/>
                    </a:cubicBezTo>
                    <a:cubicBezTo>
                      <a:pt x="3740" y="99"/>
                      <a:pt x="3740" y="90"/>
                      <a:pt x="3743" y="83"/>
                    </a:cubicBezTo>
                    <a:cubicBezTo>
                      <a:pt x="3742" y="95"/>
                      <a:pt x="3741" y="107"/>
                      <a:pt x="3740" y="117"/>
                    </a:cubicBezTo>
                    <a:close/>
                    <a:moveTo>
                      <a:pt x="3746" y="108"/>
                    </a:moveTo>
                    <a:cubicBezTo>
                      <a:pt x="3746" y="106"/>
                      <a:pt x="3746" y="104"/>
                      <a:pt x="3746" y="102"/>
                    </a:cubicBezTo>
                    <a:cubicBezTo>
                      <a:pt x="3747" y="102"/>
                      <a:pt x="3747" y="102"/>
                      <a:pt x="3747" y="103"/>
                    </a:cubicBezTo>
                    <a:cubicBezTo>
                      <a:pt x="3747" y="104"/>
                      <a:pt x="3746" y="106"/>
                      <a:pt x="3746" y="108"/>
                    </a:cubicBezTo>
                    <a:close/>
                    <a:moveTo>
                      <a:pt x="3752" y="111"/>
                    </a:moveTo>
                    <a:cubicBezTo>
                      <a:pt x="3752" y="103"/>
                      <a:pt x="3755" y="95"/>
                      <a:pt x="3757" y="87"/>
                    </a:cubicBezTo>
                    <a:cubicBezTo>
                      <a:pt x="3756" y="95"/>
                      <a:pt x="3754" y="104"/>
                      <a:pt x="3752" y="113"/>
                    </a:cubicBezTo>
                    <a:cubicBezTo>
                      <a:pt x="3752" y="112"/>
                      <a:pt x="3752" y="112"/>
                      <a:pt x="3752" y="111"/>
                    </a:cubicBezTo>
                    <a:close/>
                    <a:moveTo>
                      <a:pt x="3776" y="110"/>
                    </a:moveTo>
                    <a:cubicBezTo>
                      <a:pt x="3776" y="109"/>
                      <a:pt x="3776" y="108"/>
                      <a:pt x="3776" y="107"/>
                    </a:cubicBezTo>
                    <a:cubicBezTo>
                      <a:pt x="3776" y="107"/>
                      <a:pt x="3776" y="108"/>
                      <a:pt x="3776" y="108"/>
                    </a:cubicBezTo>
                    <a:cubicBezTo>
                      <a:pt x="3776" y="109"/>
                      <a:pt x="3776" y="109"/>
                      <a:pt x="3776" y="110"/>
                    </a:cubicBezTo>
                    <a:close/>
                    <a:moveTo>
                      <a:pt x="3787" y="125"/>
                    </a:moveTo>
                    <a:cubicBezTo>
                      <a:pt x="3787" y="123"/>
                      <a:pt x="3787" y="122"/>
                      <a:pt x="3787" y="120"/>
                    </a:cubicBezTo>
                    <a:cubicBezTo>
                      <a:pt x="3787" y="121"/>
                      <a:pt x="3787" y="122"/>
                      <a:pt x="3787" y="123"/>
                    </a:cubicBezTo>
                    <a:cubicBezTo>
                      <a:pt x="3787" y="123"/>
                      <a:pt x="3787" y="124"/>
                      <a:pt x="3787" y="125"/>
                    </a:cubicBezTo>
                    <a:close/>
                    <a:moveTo>
                      <a:pt x="3790" y="115"/>
                    </a:moveTo>
                    <a:cubicBezTo>
                      <a:pt x="3789" y="117"/>
                      <a:pt x="3789" y="118"/>
                      <a:pt x="3788" y="119"/>
                    </a:cubicBezTo>
                    <a:cubicBezTo>
                      <a:pt x="3788" y="118"/>
                      <a:pt x="3787" y="116"/>
                      <a:pt x="3787" y="114"/>
                    </a:cubicBezTo>
                    <a:cubicBezTo>
                      <a:pt x="3787" y="110"/>
                      <a:pt x="3787" y="105"/>
                      <a:pt x="3787" y="100"/>
                    </a:cubicBezTo>
                    <a:cubicBezTo>
                      <a:pt x="3788" y="94"/>
                      <a:pt x="3791" y="89"/>
                      <a:pt x="3794" y="84"/>
                    </a:cubicBezTo>
                    <a:cubicBezTo>
                      <a:pt x="3793" y="93"/>
                      <a:pt x="3791" y="105"/>
                      <a:pt x="3790" y="115"/>
                    </a:cubicBezTo>
                    <a:close/>
                    <a:moveTo>
                      <a:pt x="3797" y="90"/>
                    </a:moveTo>
                    <a:cubicBezTo>
                      <a:pt x="3797" y="88"/>
                      <a:pt x="3796" y="84"/>
                      <a:pt x="3796" y="80"/>
                    </a:cubicBezTo>
                    <a:cubicBezTo>
                      <a:pt x="3796" y="80"/>
                      <a:pt x="3796" y="80"/>
                      <a:pt x="3796" y="80"/>
                    </a:cubicBezTo>
                    <a:cubicBezTo>
                      <a:pt x="3797" y="81"/>
                      <a:pt x="3798" y="83"/>
                      <a:pt x="3798" y="84"/>
                    </a:cubicBezTo>
                    <a:cubicBezTo>
                      <a:pt x="3798" y="88"/>
                      <a:pt x="3797" y="90"/>
                      <a:pt x="3797" y="90"/>
                    </a:cubicBezTo>
                    <a:close/>
                    <a:moveTo>
                      <a:pt x="3799" y="83"/>
                    </a:moveTo>
                    <a:cubicBezTo>
                      <a:pt x="3798" y="81"/>
                      <a:pt x="3797" y="80"/>
                      <a:pt x="3796" y="79"/>
                    </a:cubicBezTo>
                    <a:cubicBezTo>
                      <a:pt x="3797" y="78"/>
                      <a:pt x="3798" y="76"/>
                      <a:pt x="3800" y="75"/>
                    </a:cubicBezTo>
                    <a:cubicBezTo>
                      <a:pt x="3799" y="78"/>
                      <a:pt x="3799" y="81"/>
                      <a:pt x="3799" y="83"/>
                    </a:cubicBezTo>
                    <a:close/>
                    <a:moveTo>
                      <a:pt x="3805" y="104"/>
                    </a:moveTo>
                    <a:cubicBezTo>
                      <a:pt x="3806" y="105"/>
                      <a:pt x="3806" y="107"/>
                      <a:pt x="3806" y="109"/>
                    </a:cubicBezTo>
                    <a:cubicBezTo>
                      <a:pt x="3806" y="111"/>
                      <a:pt x="3805" y="112"/>
                      <a:pt x="3805" y="114"/>
                    </a:cubicBezTo>
                    <a:cubicBezTo>
                      <a:pt x="3805" y="110"/>
                      <a:pt x="3805" y="107"/>
                      <a:pt x="3805" y="104"/>
                    </a:cubicBezTo>
                    <a:close/>
                    <a:moveTo>
                      <a:pt x="3801" y="91"/>
                    </a:move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lose/>
                    <a:moveTo>
                      <a:pt x="3801" y="124"/>
                    </a:moveTo>
                    <a:cubicBezTo>
                      <a:pt x="3802" y="114"/>
                      <a:pt x="3802" y="102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3" y="94"/>
                      <a:pt x="3804" y="98"/>
                      <a:pt x="3805" y="101"/>
                    </a:cubicBezTo>
                    <a:cubicBezTo>
                      <a:pt x="3803" y="120"/>
                      <a:pt x="3803" y="120"/>
                      <a:pt x="3803" y="120"/>
                    </a:cubicBezTo>
                    <a:cubicBezTo>
                      <a:pt x="3802" y="121"/>
                      <a:pt x="3802" y="122"/>
                      <a:pt x="3801" y="124"/>
                    </a:cubicBezTo>
                    <a:close/>
                    <a:moveTo>
                      <a:pt x="3804" y="136"/>
                    </a:moveTo>
                    <a:cubicBezTo>
                      <a:pt x="3804" y="134"/>
                      <a:pt x="3804" y="133"/>
                      <a:pt x="3804" y="131"/>
                    </a:cubicBezTo>
                    <a:cubicBezTo>
                      <a:pt x="3805" y="126"/>
                      <a:pt x="3806" y="121"/>
                      <a:pt x="3807" y="116"/>
                    </a:cubicBezTo>
                    <a:cubicBezTo>
                      <a:pt x="3808" y="118"/>
                      <a:pt x="3808" y="121"/>
                      <a:pt x="3808" y="123"/>
                    </a:cubicBezTo>
                    <a:cubicBezTo>
                      <a:pt x="3808" y="124"/>
                      <a:pt x="3808" y="124"/>
                      <a:pt x="3808" y="124"/>
                    </a:cubicBezTo>
                    <a:cubicBezTo>
                      <a:pt x="3807" y="128"/>
                      <a:pt x="3805" y="132"/>
                      <a:pt x="3804" y="136"/>
                    </a:cubicBezTo>
                    <a:close/>
                    <a:moveTo>
                      <a:pt x="3808" y="141"/>
                    </a:moveTo>
                    <a:cubicBezTo>
                      <a:pt x="3808" y="141"/>
                      <a:pt x="3808" y="141"/>
                      <a:pt x="3808" y="141"/>
                    </a:cubicBezTo>
                    <a:cubicBezTo>
                      <a:pt x="3809" y="139"/>
                      <a:pt x="3809" y="137"/>
                      <a:pt x="3810" y="135"/>
                    </a:cubicBezTo>
                    <a:cubicBezTo>
                      <a:pt x="3810" y="135"/>
                      <a:pt x="3810" y="135"/>
                      <a:pt x="3810" y="135"/>
                    </a:cubicBezTo>
                    <a:cubicBezTo>
                      <a:pt x="3810" y="137"/>
                      <a:pt x="3809" y="139"/>
                      <a:pt x="3808" y="141"/>
                    </a:cubicBezTo>
                    <a:close/>
                    <a:moveTo>
                      <a:pt x="3815" y="119"/>
                    </a:moveTo>
                    <a:cubicBezTo>
                      <a:pt x="3814" y="119"/>
                      <a:pt x="3814" y="118"/>
                      <a:pt x="3814" y="118"/>
                    </a:cubicBezTo>
                    <a:cubicBezTo>
                      <a:pt x="3814" y="116"/>
                      <a:pt x="3815" y="115"/>
                      <a:pt x="3815" y="113"/>
                    </a:cubicBezTo>
                    <a:cubicBezTo>
                      <a:pt x="3815" y="112"/>
                      <a:pt x="3815" y="112"/>
                      <a:pt x="3815" y="111"/>
                    </a:cubicBezTo>
                    <a:cubicBezTo>
                      <a:pt x="3816" y="112"/>
                      <a:pt x="3816" y="113"/>
                      <a:pt x="3816" y="115"/>
                    </a:cubicBezTo>
                    <a:cubicBezTo>
                      <a:pt x="3816" y="116"/>
                      <a:pt x="3815" y="118"/>
                      <a:pt x="3815" y="119"/>
                    </a:cubicBezTo>
                    <a:close/>
                    <a:moveTo>
                      <a:pt x="3822" y="136"/>
                    </a:moveTo>
                    <a:cubicBezTo>
                      <a:pt x="3821" y="135"/>
                      <a:pt x="3821" y="134"/>
                      <a:pt x="3820" y="133"/>
                    </a:cubicBezTo>
                    <a:cubicBezTo>
                      <a:pt x="3820" y="132"/>
                      <a:pt x="3820" y="132"/>
                      <a:pt x="3820" y="131"/>
                    </a:cubicBezTo>
                    <a:cubicBezTo>
                      <a:pt x="3821" y="133"/>
                      <a:pt x="3821" y="134"/>
                      <a:pt x="3822" y="136"/>
                    </a:cubicBezTo>
                    <a:cubicBezTo>
                      <a:pt x="3822" y="136"/>
                      <a:pt x="3822" y="136"/>
                      <a:pt x="3822" y="136"/>
                    </a:cubicBezTo>
                    <a:close/>
                    <a:moveTo>
                      <a:pt x="3836" y="118"/>
                    </a:move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8"/>
                      <a:pt x="3836" y="118"/>
                      <a:pt x="3836" y="118"/>
                    </a:cubicBezTo>
                    <a:close/>
                    <a:moveTo>
                      <a:pt x="3842" y="105"/>
                    </a:moveTo>
                    <a:cubicBezTo>
                      <a:pt x="3841" y="106"/>
                      <a:pt x="3840" y="107"/>
                      <a:pt x="3840" y="109"/>
                    </a:cubicBezTo>
                    <a:cubicBezTo>
                      <a:pt x="3839" y="107"/>
                      <a:pt x="3839" y="106"/>
                      <a:pt x="3839" y="104"/>
                    </a:cubicBezTo>
                    <a:cubicBezTo>
                      <a:pt x="3840" y="101"/>
                      <a:pt x="3841" y="98"/>
                      <a:pt x="3843" y="94"/>
                    </a:cubicBezTo>
                    <a:cubicBezTo>
                      <a:pt x="3842" y="98"/>
                      <a:pt x="3842" y="101"/>
                      <a:pt x="3842" y="105"/>
                    </a:cubicBezTo>
                    <a:close/>
                    <a:moveTo>
                      <a:pt x="3847" y="138"/>
                    </a:moveTo>
                    <a:cubicBezTo>
                      <a:pt x="3847" y="137"/>
                      <a:pt x="3847" y="136"/>
                      <a:pt x="3846" y="135"/>
                    </a:cubicBezTo>
                    <a:cubicBezTo>
                      <a:pt x="3846" y="133"/>
                      <a:pt x="3846" y="131"/>
                      <a:pt x="3846" y="129"/>
                    </a:cubicBezTo>
                    <a:cubicBezTo>
                      <a:pt x="3847" y="131"/>
                      <a:pt x="3847" y="133"/>
                      <a:pt x="3848" y="134"/>
                    </a:cubicBezTo>
                    <a:cubicBezTo>
                      <a:pt x="3848" y="135"/>
                      <a:pt x="3848" y="137"/>
                      <a:pt x="3847" y="138"/>
                    </a:cubicBezTo>
                    <a:close/>
                    <a:moveTo>
                      <a:pt x="3849" y="123"/>
                    </a:moveTo>
                    <a:cubicBezTo>
                      <a:pt x="3848" y="121"/>
                      <a:pt x="3847" y="118"/>
                      <a:pt x="3847" y="116"/>
                    </a:cubicBezTo>
                    <a:cubicBezTo>
                      <a:pt x="3848" y="112"/>
                      <a:pt x="3849" y="107"/>
                      <a:pt x="3850" y="103"/>
                    </a:cubicBezTo>
                    <a:cubicBezTo>
                      <a:pt x="3850" y="110"/>
                      <a:pt x="3849" y="117"/>
                      <a:pt x="3849" y="123"/>
                    </a:cubicBezTo>
                    <a:close/>
                    <a:moveTo>
                      <a:pt x="3854" y="69"/>
                    </a:moveTo>
                    <a:cubicBezTo>
                      <a:pt x="3856" y="72"/>
                      <a:pt x="3858" y="75"/>
                      <a:pt x="3859" y="79"/>
                    </a:cubicBezTo>
                    <a:cubicBezTo>
                      <a:pt x="3859" y="79"/>
                      <a:pt x="3859" y="79"/>
                      <a:pt x="3859" y="79"/>
                    </a:cubicBezTo>
                    <a:cubicBezTo>
                      <a:pt x="3857" y="76"/>
                      <a:pt x="3856" y="72"/>
                      <a:pt x="3854" y="69"/>
                    </a:cubicBezTo>
                    <a:cubicBezTo>
                      <a:pt x="3854" y="69"/>
                      <a:pt x="3854" y="69"/>
                      <a:pt x="3854" y="69"/>
                    </a:cubicBezTo>
                    <a:close/>
                    <a:moveTo>
                      <a:pt x="3854" y="74"/>
                    </a:moveTo>
                    <a:cubicBezTo>
                      <a:pt x="3855" y="76"/>
                      <a:pt x="3856" y="79"/>
                      <a:pt x="3857" y="81"/>
                    </a:cubicBezTo>
                    <a:cubicBezTo>
                      <a:pt x="3856" y="82"/>
                      <a:pt x="3855" y="83"/>
                      <a:pt x="3854" y="85"/>
                    </a:cubicBezTo>
                    <a:cubicBezTo>
                      <a:pt x="3854" y="81"/>
                      <a:pt x="3854" y="77"/>
                      <a:pt x="3854" y="74"/>
                    </a:cubicBezTo>
                    <a:close/>
                    <a:moveTo>
                      <a:pt x="3855" y="120"/>
                    </a:moveTo>
                    <a:cubicBezTo>
                      <a:pt x="3855" y="115"/>
                      <a:pt x="3855" y="111"/>
                      <a:pt x="3855" y="106"/>
                    </a:cubicBezTo>
                    <a:cubicBezTo>
                      <a:pt x="3856" y="109"/>
                      <a:pt x="3856" y="112"/>
                      <a:pt x="3857" y="114"/>
                    </a:cubicBezTo>
                    <a:cubicBezTo>
                      <a:pt x="3856" y="116"/>
                      <a:pt x="3856" y="118"/>
                      <a:pt x="3855" y="120"/>
                    </a:cubicBezTo>
                    <a:close/>
                    <a:moveTo>
                      <a:pt x="3858" y="109"/>
                    </a:moveTo>
                    <a:cubicBezTo>
                      <a:pt x="3857" y="107"/>
                      <a:pt x="3856" y="104"/>
                      <a:pt x="3855" y="102"/>
                    </a:cubicBezTo>
                    <a:cubicBezTo>
                      <a:pt x="3855" y="99"/>
                      <a:pt x="3855" y="97"/>
                      <a:pt x="3855" y="94"/>
                    </a:cubicBezTo>
                    <a:cubicBezTo>
                      <a:pt x="3856" y="98"/>
                      <a:pt x="3857" y="102"/>
                      <a:pt x="3859" y="107"/>
                    </a:cubicBezTo>
                    <a:cubicBezTo>
                      <a:pt x="3859" y="108"/>
                      <a:pt x="3858" y="108"/>
                      <a:pt x="3858" y="109"/>
                    </a:cubicBezTo>
                    <a:close/>
                    <a:moveTo>
                      <a:pt x="3862" y="96"/>
                    </a:moveTo>
                    <a:cubicBezTo>
                      <a:pt x="3861" y="98"/>
                      <a:pt x="3860" y="101"/>
                      <a:pt x="3860" y="104"/>
                    </a:cubicBezTo>
                    <a:cubicBezTo>
                      <a:pt x="3858" y="100"/>
                      <a:pt x="3856" y="96"/>
                      <a:pt x="3855" y="92"/>
                    </a:cubicBezTo>
                    <a:cubicBezTo>
                      <a:pt x="3855" y="92"/>
                      <a:pt x="3855" y="92"/>
                      <a:pt x="3855" y="92"/>
                    </a:cubicBezTo>
                    <a:cubicBezTo>
                      <a:pt x="3856" y="89"/>
                      <a:pt x="3857" y="86"/>
                      <a:pt x="3859" y="84"/>
                    </a:cubicBezTo>
                    <a:cubicBezTo>
                      <a:pt x="3860" y="87"/>
                      <a:pt x="3861" y="90"/>
                      <a:pt x="3862" y="93"/>
                    </a:cubicBezTo>
                    <a:cubicBezTo>
                      <a:pt x="3862" y="94"/>
                      <a:pt x="3862" y="95"/>
                      <a:pt x="3862" y="96"/>
                    </a:cubicBezTo>
                    <a:close/>
                    <a:moveTo>
                      <a:pt x="3863" y="90"/>
                    </a:moveTo>
                    <a:cubicBezTo>
                      <a:pt x="3862" y="87"/>
                      <a:pt x="3861" y="84"/>
                      <a:pt x="3860" y="82"/>
                    </a:cubicBezTo>
                    <a:cubicBezTo>
                      <a:pt x="3860" y="81"/>
                      <a:pt x="3860" y="81"/>
                      <a:pt x="3860" y="81"/>
                    </a:cubicBezTo>
                    <a:cubicBezTo>
                      <a:pt x="3861" y="83"/>
                      <a:pt x="3862" y="86"/>
                      <a:pt x="3863" y="89"/>
                    </a:cubicBezTo>
                    <a:cubicBezTo>
                      <a:pt x="3863" y="89"/>
                      <a:pt x="3863" y="89"/>
                      <a:pt x="3863" y="90"/>
                    </a:cubicBezTo>
                    <a:close/>
                    <a:moveTo>
                      <a:pt x="3861" y="79"/>
                    </a:moveTo>
                    <a:cubicBezTo>
                      <a:pt x="3862" y="78"/>
                      <a:pt x="3863" y="77"/>
                      <a:pt x="3863" y="76"/>
                    </a:cubicBezTo>
                    <a:cubicBezTo>
                      <a:pt x="3864" y="78"/>
                      <a:pt x="3864" y="79"/>
                      <a:pt x="3865" y="80"/>
                    </a:cubicBezTo>
                    <a:cubicBezTo>
                      <a:pt x="3865" y="82"/>
                      <a:pt x="3864" y="84"/>
                      <a:pt x="3864" y="85"/>
                    </a:cubicBezTo>
                    <a:cubicBezTo>
                      <a:pt x="3863" y="83"/>
                      <a:pt x="3862" y="81"/>
                      <a:pt x="3861" y="79"/>
                    </a:cubicBezTo>
                    <a:close/>
                    <a:moveTo>
                      <a:pt x="3864" y="116"/>
                    </a:moveTo>
                    <a:cubicBezTo>
                      <a:pt x="3864" y="111"/>
                      <a:pt x="3865" y="106"/>
                      <a:pt x="3865" y="102"/>
                    </a:cubicBezTo>
                    <a:cubicBezTo>
                      <a:pt x="3866" y="105"/>
                      <a:pt x="3867" y="108"/>
                      <a:pt x="3868" y="111"/>
                    </a:cubicBezTo>
                    <a:cubicBezTo>
                      <a:pt x="3867" y="113"/>
                      <a:pt x="3866" y="116"/>
                      <a:pt x="3865" y="118"/>
                    </a:cubicBezTo>
                    <a:cubicBezTo>
                      <a:pt x="3865" y="117"/>
                      <a:pt x="3864" y="117"/>
                      <a:pt x="3864" y="116"/>
                    </a:cubicBezTo>
                    <a:close/>
                    <a:moveTo>
                      <a:pt x="3869" y="130"/>
                    </a:moveTo>
                    <a:cubicBezTo>
                      <a:pt x="3868" y="128"/>
                      <a:pt x="3868" y="127"/>
                      <a:pt x="3867" y="125"/>
                    </a:cubicBezTo>
                    <a:cubicBezTo>
                      <a:pt x="3868" y="123"/>
                      <a:pt x="3868" y="122"/>
                      <a:pt x="3869" y="120"/>
                    </a:cubicBezTo>
                    <a:cubicBezTo>
                      <a:pt x="3869" y="122"/>
                      <a:pt x="3869" y="124"/>
                      <a:pt x="3869" y="127"/>
                    </a:cubicBezTo>
                    <a:cubicBezTo>
                      <a:pt x="3869" y="128"/>
                      <a:pt x="3869" y="129"/>
                      <a:pt x="3869" y="130"/>
                    </a:cubicBezTo>
                    <a:close/>
                    <a:moveTo>
                      <a:pt x="3871" y="105"/>
                    </a:moveTo>
                    <a:cubicBezTo>
                      <a:pt x="3869" y="100"/>
                      <a:pt x="3868" y="95"/>
                      <a:pt x="3866" y="91"/>
                    </a:cubicBezTo>
                    <a:cubicBezTo>
                      <a:pt x="3866" y="89"/>
                      <a:pt x="3866" y="87"/>
                      <a:pt x="3866" y="85"/>
                    </a:cubicBezTo>
                    <a:cubicBezTo>
                      <a:pt x="3869" y="91"/>
                      <a:pt x="3870" y="97"/>
                      <a:pt x="3872" y="103"/>
                    </a:cubicBezTo>
                    <a:cubicBezTo>
                      <a:pt x="3871" y="104"/>
                      <a:pt x="3871" y="105"/>
                      <a:pt x="3871" y="105"/>
                    </a:cubicBezTo>
                    <a:close/>
                    <a:moveTo>
                      <a:pt x="3872" y="111"/>
                    </a:moveTo>
                    <a:cubicBezTo>
                      <a:pt x="3872" y="110"/>
                      <a:pt x="3872" y="110"/>
                      <a:pt x="3872" y="109"/>
                    </a:cubicBezTo>
                    <a:cubicBezTo>
                      <a:pt x="3872" y="109"/>
                      <a:pt x="3872" y="108"/>
                      <a:pt x="3873" y="107"/>
                    </a:cubicBezTo>
                    <a:cubicBezTo>
                      <a:pt x="3873" y="108"/>
                      <a:pt x="3873" y="109"/>
                      <a:pt x="3873" y="109"/>
                    </a:cubicBezTo>
                    <a:cubicBezTo>
                      <a:pt x="3873" y="110"/>
                      <a:pt x="3873" y="110"/>
                      <a:pt x="3872" y="111"/>
                    </a:cubicBezTo>
                    <a:close/>
                    <a:moveTo>
                      <a:pt x="3883" y="94"/>
                    </a:moveTo>
                    <a:cubicBezTo>
                      <a:pt x="3883" y="95"/>
                      <a:pt x="3883" y="95"/>
                      <a:pt x="3884" y="96"/>
                    </a:cubicBezTo>
                    <a:cubicBezTo>
                      <a:pt x="3883" y="97"/>
                      <a:pt x="3883" y="97"/>
                      <a:pt x="3883" y="98"/>
                    </a:cubicBezTo>
                    <a:cubicBezTo>
                      <a:pt x="3883" y="96"/>
                      <a:pt x="3883" y="95"/>
                      <a:pt x="3883" y="94"/>
                    </a:cubicBezTo>
                    <a:close/>
                    <a:moveTo>
                      <a:pt x="3885" y="109"/>
                    </a:moveTo>
                    <a:cubicBezTo>
                      <a:pt x="3884" y="106"/>
                      <a:pt x="3884" y="104"/>
                      <a:pt x="3883" y="102"/>
                    </a:cubicBezTo>
                    <a:cubicBezTo>
                      <a:pt x="3883" y="101"/>
                      <a:pt x="3883" y="99"/>
                      <a:pt x="3883" y="98"/>
                    </a:cubicBezTo>
                    <a:cubicBezTo>
                      <a:pt x="3883" y="98"/>
                      <a:pt x="3884" y="97"/>
                      <a:pt x="3884" y="97"/>
                    </a:cubicBezTo>
                    <a:cubicBezTo>
                      <a:pt x="3884" y="98"/>
                      <a:pt x="3885" y="100"/>
                      <a:pt x="3885" y="102"/>
                    </a:cubicBezTo>
                    <a:cubicBezTo>
                      <a:pt x="3885" y="104"/>
                      <a:pt x="3885" y="107"/>
                      <a:pt x="3885" y="109"/>
                    </a:cubicBezTo>
                    <a:close/>
                    <a:moveTo>
                      <a:pt x="3887" y="84"/>
                    </a:moveTo>
                    <a:cubicBezTo>
                      <a:pt x="3886" y="89"/>
                      <a:pt x="3886" y="94"/>
                      <a:pt x="3886" y="98"/>
                    </a:cubicBezTo>
                    <a:cubicBezTo>
                      <a:pt x="3885" y="97"/>
                      <a:pt x="3885" y="96"/>
                      <a:pt x="3884" y="95"/>
                    </a:cubicBezTo>
                    <a:cubicBezTo>
                      <a:pt x="3885" y="94"/>
                      <a:pt x="3886" y="92"/>
                      <a:pt x="3886" y="91"/>
                    </a:cubicBezTo>
                    <a:cubicBezTo>
                      <a:pt x="3886" y="92"/>
                      <a:pt x="3885" y="94"/>
                      <a:pt x="3884" y="95"/>
                    </a:cubicBezTo>
                    <a:cubicBezTo>
                      <a:pt x="3884" y="94"/>
                      <a:pt x="3883" y="93"/>
                      <a:pt x="3883" y="92"/>
                    </a:cubicBezTo>
                    <a:cubicBezTo>
                      <a:pt x="3883" y="90"/>
                      <a:pt x="3883" y="88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2" y="75"/>
                      <a:pt x="3882" y="65"/>
                      <a:pt x="3882" y="56"/>
                    </a:cubicBezTo>
                    <a:cubicBezTo>
                      <a:pt x="3885" y="58"/>
                      <a:pt x="3887" y="61"/>
                      <a:pt x="3890" y="63"/>
                    </a:cubicBezTo>
                    <a:cubicBezTo>
                      <a:pt x="3889" y="69"/>
                      <a:pt x="3888" y="76"/>
                      <a:pt x="3887" y="84"/>
                    </a:cubicBezTo>
                    <a:cubicBezTo>
                      <a:pt x="3887" y="82"/>
                      <a:pt x="3886" y="81"/>
                      <a:pt x="3886" y="79"/>
                    </a:cubicBezTo>
                    <a:cubicBezTo>
                      <a:pt x="3886" y="81"/>
                      <a:pt x="3887" y="83"/>
                      <a:pt x="3887" y="84"/>
                    </a:cubicBezTo>
                    <a:close/>
                    <a:moveTo>
                      <a:pt x="3888" y="139"/>
                    </a:moveTo>
                    <a:cubicBezTo>
                      <a:pt x="3888" y="134"/>
                      <a:pt x="3888" y="128"/>
                      <a:pt x="3888" y="121"/>
                    </a:cubicBezTo>
                    <a:cubicBezTo>
                      <a:pt x="3888" y="125"/>
                      <a:pt x="3888" y="129"/>
                      <a:pt x="3889" y="133"/>
                    </a:cubicBezTo>
                    <a:cubicBezTo>
                      <a:pt x="3889" y="135"/>
                      <a:pt x="3889" y="137"/>
                      <a:pt x="3888" y="139"/>
                    </a:cubicBezTo>
                    <a:close/>
                    <a:moveTo>
                      <a:pt x="3888" y="104"/>
                    </a:moveTo>
                    <a:cubicBezTo>
                      <a:pt x="3888" y="102"/>
                      <a:pt x="3888" y="99"/>
                      <a:pt x="3889" y="96"/>
                    </a:cubicBezTo>
                    <a:cubicBezTo>
                      <a:pt x="3889" y="100"/>
                      <a:pt x="3889" y="104"/>
                      <a:pt x="3889" y="107"/>
                    </a:cubicBezTo>
                    <a:cubicBezTo>
                      <a:pt x="3889" y="106"/>
                      <a:pt x="3889" y="105"/>
                      <a:pt x="3888" y="104"/>
                    </a:cubicBezTo>
                    <a:close/>
                    <a:moveTo>
                      <a:pt x="3900" y="85"/>
                    </a:moveTo>
                    <a:cubicBezTo>
                      <a:pt x="3899" y="90"/>
                      <a:pt x="3898" y="96"/>
                      <a:pt x="3897" y="103"/>
                    </a:cubicBezTo>
                    <a:cubicBezTo>
                      <a:pt x="3897" y="101"/>
                      <a:pt x="3897" y="100"/>
                      <a:pt x="3896" y="99"/>
                    </a:cubicBezTo>
                    <a:cubicBezTo>
                      <a:pt x="3896" y="96"/>
                      <a:pt x="3895" y="93"/>
                      <a:pt x="3894" y="90"/>
                    </a:cubicBezTo>
                    <a:cubicBezTo>
                      <a:pt x="3895" y="93"/>
                      <a:pt x="3895" y="96"/>
                      <a:pt x="3895" y="99"/>
                    </a:cubicBezTo>
                    <a:cubicBezTo>
                      <a:pt x="3895" y="104"/>
                      <a:pt x="3894" y="112"/>
                      <a:pt x="3894" y="120"/>
                    </a:cubicBezTo>
                    <a:cubicBezTo>
                      <a:pt x="3893" y="110"/>
                      <a:pt x="3891" y="100"/>
                      <a:pt x="3889" y="91"/>
                    </a:cubicBezTo>
                    <a:cubicBezTo>
                      <a:pt x="3890" y="81"/>
                      <a:pt x="3891" y="72"/>
                      <a:pt x="3891" y="65"/>
                    </a:cubicBezTo>
                    <a:cubicBezTo>
                      <a:pt x="3895" y="69"/>
                      <a:pt x="3898" y="74"/>
                      <a:pt x="3900" y="79"/>
                    </a:cubicBezTo>
                    <a:cubicBezTo>
                      <a:pt x="3900" y="81"/>
                      <a:pt x="3900" y="83"/>
                      <a:pt x="3900" y="85"/>
                    </a:cubicBezTo>
                    <a:close/>
                    <a:moveTo>
                      <a:pt x="3900" y="75"/>
                    </a:moveTo>
                    <a:cubicBezTo>
                      <a:pt x="3900" y="75"/>
                      <a:pt x="3900" y="75"/>
                      <a:pt x="3900" y="75"/>
                    </a:cubicBezTo>
                    <a:cubicBezTo>
                      <a:pt x="3900" y="73"/>
                      <a:pt x="3900" y="72"/>
                      <a:pt x="3899" y="70"/>
                    </a:cubicBezTo>
                    <a:cubicBezTo>
                      <a:pt x="3899" y="70"/>
                      <a:pt x="3900" y="72"/>
                      <a:pt x="3900" y="75"/>
                    </a:cubicBezTo>
                    <a:cubicBezTo>
                      <a:pt x="3897" y="71"/>
                      <a:pt x="3895" y="67"/>
                      <a:pt x="3891" y="64"/>
                    </a:cubicBezTo>
                    <a:cubicBezTo>
                      <a:pt x="3892" y="60"/>
                      <a:pt x="3892" y="57"/>
                      <a:pt x="3893" y="54"/>
                    </a:cubicBezTo>
                    <a:cubicBezTo>
                      <a:pt x="3896" y="58"/>
                      <a:pt x="3899" y="62"/>
                      <a:pt x="3901" y="65"/>
                    </a:cubicBezTo>
                    <a:cubicBezTo>
                      <a:pt x="3901" y="68"/>
                      <a:pt x="3900" y="71"/>
                      <a:pt x="3900" y="75"/>
                    </a:cubicBezTo>
                    <a:close/>
                    <a:moveTo>
                      <a:pt x="3904" y="117"/>
                    </a:moveTo>
                    <a:cubicBezTo>
                      <a:pt x="3903" y="119"/>
                      <a:pt x="3902" y="122"/>
                      <a:pt x="3902" y="125"/>
                    </a:cubicBezTo>
                    <a:cubicBezTo>
                      <a:pt x="3902" y="124"/>
                      <a:pt x="3902" y="123"/>
                      <a:pt x="3902" y="122"/>
                    </a:cubicBezTo>
                    <a:cubicBezTo>
                      <a:pt x="3902" y="110"/>
                      <a:pt x="3902" y="98"/>
                      <a:pt x="3903" y="87"/>
                    </a:cubicBezTo>
                    <a:cubicBezTo>
                      <a:pt x="3904" y="92"/>
                      <a:pt x="3905" y="98"/>
                      <a:pt x="3906" y="103"/>
                    </a:cubicBezTo>
                    <a:cubicBezTo>
                      <a:pt x="3905" y="108"/>
                      <a:pt x="3904" y="112"/>
                      <a:pt x="3904" y="117"/>
                    </a:cubicBezTo>
                    <a:close/>
                    <a:moveTo>
                      <a:pt x="3907" y="89"/>
                    </a:moveTo>
                    <a:cubicBezTo>
                      <a:pt x="3906" y="86"/>
                      <a:pt x="3904" y="83"/>
                      <a:pt x="3903" y="80"/>
                    </a:cubicBezTo>
                    <a:cubicBezTo>
                      <a:pt x="3903" y="76"/>
                      <a:pt x="3903" y="72"/>
                      <a:pt x="3903" y="68"/>
                    </a:cubicBezTo>
                    <a:cubicBezTo>
                      <a:pt x="3905" y="71"/>
                      <a:pt x="3907" y="74"/>
                      <a:pt x="3909" y="78"/>
                    </a:cubicBezTo>
                    <a:cubicBezTo>
                      <a:pt x="3908" y="81"/>
                      <a:pt x="3908" y="85"/>
                      <a:pt x="3907" y="89"/>
                    </a:cubicBezTo>
                    <a:close/>
                    <a:moveTo>
                      <a:pt x="3912" y="96"/>
                    </a:moveTo>
                    <a:cubicBezTo>
                      <a:pt x="3912" y="97"/>
                      <a:pt x="3911" y="98"/>
                      <a:pt x="3911" y="99"/>
                    </a:cubicBezTo>
                    <a:cubicBezTo>
                      <a:pt x="3910" y="98"/>
                      <a:pt x="3910" y="97"/>
                      <a:pt x="3910" y="96"/>
                    </a:cubicBezTo>
                    <a:cubicBezTo>
                      <a:pt x="3910" y="91"/>
                      <a:pt x="3910" y="86"/>
                      <a:pt x="3910" y="80"/>
                    </a:cubicBezTo>
                    <a:cubicBezTo>
                      <a:pt x="3911" y="83"/>
                      <a:pt x="3912" y="86"/>
                      <a:pt x="3913" y="88"/>
                    </a:cubicBezTo>
                    <a:cubicBezTo>
                      <a:pt x="3913" y="91"/>
                      <a:pt x="3913" y="93"/>
                      <a:pt x="3912" y="96"/>
                    </a:cubicBezTo>
                    <a:close/>
                    <a:moveTo>
                      <a:pt x="3934" y="105"/>
                    </a:moveTo>
                    <a:cubicBezTo>
                      <a:pt x="3933" y="103"/>
                      <a:pt x="3933" y="102"/>
                      <a:pt x="3932" y="101"/>
                    </a:cubicBezTo>
                    <a:cubicBezTo>
                      <a:pt x="3934" y="96"/>
                      <a:pt x="3935" y="92"/>
                      <a:pt x="3936" y="89"/>
                    </a:cubicBezTo>
                    <a:cubicBezTo>
                      <a:pt x="3936" y="89"/>
                      <a:pt x="3937" y="89"/>
                      <a:pt x="3937" y="90"/>
                    </a:cubicBezTo>
                    <a:cubicBezTo>
                      <a:pt x="3936" y="95"/>
                      <a:pt x="3935" y="100"/>
                      <a:pt x="3934" y="105"/>
                    </a:cubicBezTo>
                    <a:close/>
                    <a:moveTo>
                      <a:pt x="3950" y="81"/>
                    </a:moveTo>
                    <a:cubicBezTo>
                      <a:pt x="3950" y="81"/>
                      <a:pt x="3950" y="81"/>
                      <a:pt x="3951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lose/>
                    <a:moveTo>
                      <a:pt x="3950" y="88"/>
                    </a:move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90"/>
                      <a:pt x="3950" y="91"/>
                      <a:pt x="3949" y="91"/>
                    </a:cubicBezTo>
                    <a:cubicBezTo>
                      <a:pt x="3950" y="90"/>
                      <a:pt x="3950" y="89"/>
                      <a:pt x="3950" y="88"/>
                    </a:cubicBezTo>
                    <a:close/>
                    <a:moveTo>
                      <a:pt x="3941" y="122"/>
                    </a:moveTo>
                    <a:cubicBezTo>
                      <a:pt x="3941" y="122"/>
                      <a:pt x="3941" y="123"/>
                      <a:pt x="3941" y="123"/>
                    </a:cubicBezTo>
                    <a:cubicBezTo>
                      <a:pt x="3941" y="123"/>
                      <a:pt x="3941" y="123"/>
                      <a:pt x="3941" y="123"/>
                    </a:cubicBezTo>
                    <a:cubicBezTo>
                      <a:pt x="3941" y="123"/>
                      <a:pt x="3941" y="122"/>
                      <a:pt x="3941" y="122"/>
                    </a:cubicBezTo>
                    <a:cubicBezTo>
                      <a:pt x="3941" y="120"/>
                      <a:pt x="3942" y="118"/>
                      <a:pt x="3942" y="115"/>
                    </a:cubicBezTo>
                    <a:cubicBezTo>
                      <a:pt x="3942" y="115"/>
                      <a:pt x="3942" y="115"/>
                      <a:pt x="3942" y="115"/>
                    </a:cubicBezTo>
                    <a:cubicBezTo>
                      <a:pt x="3942" y="116"/>
                      <a:pt x="3942" y="117"/>
                      <a:pt x="3942" y="118"/>
                    </a:cubicBezTo>
                    <a:cubicBezTo>
                      <a:pt x="3942" y="119"/>
                      <a:pt x="3941" y="121"/>
                      <a:pt x="3941" y="122"/>
                    </a:cubicBezTo>
                    <a:close/>
                    <a:moveTo>
                      <a:pt x="3943" y="70"/>
                    </a:moveTo>
                    <a:cubicBezTo>
                      <a:pt x="3946" y="73"/>
                      <a:pt x="3948" y="76"/>
                      <a:pt x="3949" y="79"/>
                    </a:cubicBezTo>
                    <a:cubicBezTo>
                      <a:pt x="3949" y="81"/>
                      <a:pt x="3949" y="82"/>
                      <a:pt x="3948" y="84"/>
                    </a:cubicBezTo>
                    <a:cubicBezTo>
                      <a:pt x="3948" y="84"/>
                      <a:pt x="3948" y="84"/>
                      <a:pt x="3948" y="84"/>
                    </a:cubicBezTo>
                    <a:cubicBezTo>
                      <a:pt x="3948" y="82"/>
                      <a:pt x="3947" y="81"/>
                      <a:pt x="3946" y="79"/>
                    </a:cubicBezTo>
                    <a:cubicBezTo>
                      <a:pt x="3947" y="81"/>
                      <a:pt x="3947" y="83"/>
                      <a:pt x="3948" y="84"/>
                    </a:cubicBezTo>
                    <a:cubicBezTo>
                      <a:pt x="3946" y="87"/>
                      <a:pt x="3945" y="90"/>
                      <a:pt x="3943" y="93"/>
                    </a:cubicBezTo>
                    <a:cubicBezTo>
                      <a:pt x="3944" y="85"/>
                      <a:pt x="3944" y="77"/>
                      <a:pt x="3943" y="70"/>
                    </a:cubicBezTo>
                    <a:close/>
                    <a:moveTo>
                      <a:pt x="3946" y="98"/>
                    </a:moveTo>
                    <a:cubicBezTo>
                      <a:pt x="3946" y="98"/>
                      <a:pt x="3946" y="97"/>
                      <a:pt x="3945" y="96"/>
                    </a:cubicBezTo>
                    <a:cubicBezTo>
                      <a:pt x="3946" y="97"/>
                      <a:pt x="3946" y="98"/>
                      <a:pt x="3946" y="98"/>
                    </a:cubicBezTo>
                    <a:cubicBezTo>
                      <a:pt x="3946" y="99"/>
                      <a:pt x="3946" y="100"/>
                      <a:pt x="3945" y="100"/>
                    </a:cubicBezTo>
                    <a:cubicBezTo>
                      <a:pt x="3945" y="99"/>
                      <a:pt x="3945" y="98"/>
                      <a:pt x="3944" y="97"/>
                    </a:cubicBezTo>
                    <a:cubicBezTo>
                      <a:pt x="3945" y="95"/>
                      <a:pt x="3946" y="93"/>
                      <a:pt x="3947" y="90"/>
                    </a:cubicBezTo>
                    <a:cubicBezTo>
                      <a:pt x="3947" y="93"/>
                      <a:pt x="3946" y="96"/>
                      <a:pt x="3946" y="98"/>
                    </a:cubicBezTo>
                    <a:close/>
                    <a:moveTo>
                      <a:pt x="3953" y="100"/>
                    </a:moveTo>
                    <a:cubicBezTo>
                      <a:pt x="3951" y="104"/>
                      <a:pt x="3950" y="107"/>
                      <a:pt x="3948" y="110"/>
                    </a:cubicBezTo>
                    <a:cubicBezTo>
                      <a:pt x="3948" y="110"/>
                      <a:pt x="3948" y="109"/>
                      <a:pt x="3948" y="109"/>
                    </a:cubicBezTo>
                    <a:cubicBezTo>
                      <a:pt x="3948" y="106"/>
                      <a:pt x="3949" y="102"/>
                      <a:pt x="3949" y="99"/>
                    </a:cubicBezTo>
                    <a:cubicBezTo>
                      <a:pt x="3950" y="95"/>
                      <a:pt x="3950" y="92"/>
                      <a:pt x="3950" y="90"/>
                    </a:cubicBezTo>
                    <a:cubicBezTo>
                      <a:pt x="3951" y="93"/>
                      <a:pt x="3952" y="96"/>
                      <a:pt x="3953" y="100"/>
                    </a:cubicBezTo>
                    <a:cubicBezTo>
                      <a:pt x="3953" y="100"/>
                      <a:pt x="3953" y="100"/>
                      <a:pt x="3953" y="100"/>
                    </a:cubicBezTo>
                    <a:close/>
                    <a:moveTo>
                      <a:pt x="3953" y="97"/>
                    </a:moveTo>
                    <a:cubicBezTo>
                      <a:pt x="3952" y="95"/>
                      <a:pt x="3951" y="92"/>
                      <a:pt x="3950" y="89"/>
                    </a:cubicBezTo>
                    <a:cubicBezTo>
                      <a:pt x="3950" y="89"/>
                      <a:pt x="3950" y="89"/>
                      <a:pt x="3950" y="88"/>
                    </a:cubicBez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89"/>
                      <a:pt x="3950" y="88"/>
                      <a:pt x="3950" y="88"/>
                    </a:cubicBezTo>
                    <a:cubicBezTo>
                      <a:pt x="3950" y="87"/>
                      <a:pt x="3950" y="86"/>
                      <a:pt x="3950" y="85"/>
                    </a:cubicBezTo>
                    <a:cubicBezTo>
                      <a:pt x="3950" y="84"/>
                      <a:pt x="3951" y="83"/>
                      <a:pt x="3951" y="82"/>
                    </a:cubicBezTo>
                    <a:cubicBezTo>
                      <a:pt x="3952" y="84"/>
                      <a:pt x="3953" y="86"/>
                      <a:pt x="3954" y="88"/>
                    </a:cubicBezTo>
                    <a:cubicBezTo>
                      <a:pt x="3954" y="91"/>
                      <a:pt x="3954" y="94"/>
                      <a:pt x="3953" y="97"/>
                    </a:cubicBezTo>
                    <a:close/>
                    <a:moveTo>
                      <a:pt x="3955" y="135"/>
                    </a:moveTo>
                    <a:cubicBezTo>
                      <a:pt x="3955" y="136"/>
                      <a:pt x="3955" y="137"/>
                      <a:pt x="3955" y="138"/>
                    </a:cubicBezTo>
                    <a:cubicBezTo>
                      <a:pt x="3955" y="137"/>
                      <a:pt x="3955" y="136"/>
                      <a:pt x="3955" y="135"/>
                    </a:cubicBezTo>
                    <a:cubicBezTo>
                      <a:pt x="3955" y="135"/>
                      <a:pt x="3955" y="135"/>
                      <a:pt x="3955" y="135"/>
                    </a:cubicBezTo>
                    <a:close/>
                    <a:moveTo>
                      <a:pt x="3955" y="83"/>
                    </a:moveTo>
                    <a:cubicBezTo>
                      <a:pt x="3954" y="82"/>
                      <a:pt x="3953" y="81"/>
                      <a:pt x="3953" y="80"/>
                    </a:cubicBezTo>
                    <a:cubicBezTo>
                      <a:pt x="3954" y="78"/>
                      <a:pt x="3955" y="77"/>
                      <a:pt x="3956" y="75"/>
                    </a:cubicBezTo>
                    <a:cubicBezTo>
                      <a:pt x="3955" y="78"/>
                      <a:pt x="3955" y="81"/>
                      <a:pt x="3955" y="83"/>
                    </a:cubicBezTo>
                    <a:close/>
                    <a:moveTo>
                      <a:pt x="3956" y="74"/>
                    </a:moveTo>
                    <a:cubicBezTo>
                      <a:pt x="3954" y="76"/>
                      <a:pt x="3953" y="77"/>
                      <a:pt x="3952" y="79"/>
                    </a:cubicBezTo>
                    <a:cubicBezTo>
                      <a:pt x="3951" y="78"/>
                      <a:pt x="3951" y="78"/>
                      <a:pt x="3951" y="77"/>
                    </a:cubicBezTo>
                    <a:cubicBezTo>
                      <a:pt x="3951" y="72"/>
                      <a:pt x="3951" y="67"/>
                      <a:pt x="3952" y="65"/>
                    </a:cubicBezTo>
                    <a:cubicBezTo>
                      <a:pt x="3953" y="67"/>
                      <a:pt x="3954" y="70"/>
                      <a:pt x="3956" y="72"/>
                    </a:cubicBezTo>
                    <a:cubicBezTo>
                      <a:pt x="3956" y="73"/>
                      <a:pt x="3956" y="73"/>
                      <a:pt x="3956" y="74"/>
                    </a:cubicBezTo>
                    <a:close/>
                    <a:moveTo>
                      <a:pt x="3958" y="75"/>
                    </a:moveTo>
                    <a:cubicBezTo>
                      <a:pt x="3959" y="78"/>
                      <a:pt x="3961" y="81"/>
                      <a:pt x="3963" y="84"/>
                    </a:cubicBezTo>
                    <a:cubicBezTo>
                      <a:pt x="3961" y="86"/>
                      <a:pt x="3960" y="88"/>
                      <a:pt x="3959" y="90"/>
                    </a:cubicBezTo>
                    <a:cubicBezTo>
                      <a:pt x="3959" y="89"/>
                      <a:pt x="3958" y="89"/>
                      <a:pt x="3958" y="89"/>
                    </a:cubicBezTo>
                    <a:cubicBezTo>
                      <a:pt x="3958" y="84"/>
                      <a:pt x="3958" y="79"/>
                      <a:pt x="3958" y="75"/>
                    </a:cubicBezTo>
                    <a:close/>
                    <a:moveTo>
                      <a:pt x="3960" y="110"/>
                    </a:moveTo>
                    <a:cubicBezTo>
                      <a:pt x="3960" y="107"/>
                      <a:pt x="3959" y="104"/>
                      <a:pt x="3958" y="101"/>
                    </a:cubicBezTo>
                    <a:cubicBezTo>
                      <a:pt x="3958" y="100"/>
                      <a:pt x="3958" y="100"/>
                      <a:pt x="3958" y="100"/>
                    </a:cubicBezTo>
                    <a:cubicBezTo>
                      <a:pt x="3958" y="100"/>
                      <a:pt x="3959" y="99"/>
                      <a:pt x="3959" y="99"/>
                    </a:cubicBezTo>
                    <a:cubicBezTo>
                      <a:pt x="3960" y="101"/>
                      <a:pt x="3960" y="104"/>
                      <a:pt x="3961" y="106"/>
                    </a:cubicBezTo>
                    <a:cubicBezTo>
                      <a:pt x="3961" y="108"/>
                      <a:pt x="3961" y="109"/>
                      <a:pt x="3960" y="110"/>
                    </a:cubicBezTo>
                    <a:close/>
                    <a:moveTo>
                      <a:pt x="3961" y="93"/>
                    </a:moveTo>
                    <a:cubicBezTo>
                      <a:pt x="3962" y="91"/>
                      <a:pt x="3963" y="88"/>
                      <a:pt x="3964" y="86"/>
                    </a:cubicBezTo>
                    <a:cubicBezTo>
                      <a:pt x="3964" y="87"/>
                      <a:pt x="3965" y="87"/>
                      <a:pt x="3965" y="88"/>
                    </a:cubicBezTo>
                    <a:cubicBezTo>
                      <a:pt x="3964" y="91"/>
                      <a:pt x="3964" y="94"/>
                      <a:pt x="3963" y="97"/>
                    </a:cubicBezTo>
                    <a:cubicBezTo>
                      <a:pt x="3962" y="96"/>
                      <a:pt x="3961" y="95"/>
                      <a:pt x="3961" y="93"/>
                    </a:cubicBezTo>
                    <a:close/>
                    <a:moveTo>
                      <a:pt x="3964" y="130"/>
                    </a:moveTo>
                    <a:cubicBezTo>
                      <a:pt x="3964" y="129"/>
                      <a:pt x="3964" y="128"/>
                      <a:pt x="3964" y="126"/>
                    </a:cubicBezTo>
                    <a:cubicBezTo>
                      <a:pt x="3964" y="124"/>
                      <a:pt x="3964" y="121"/>
                      <a:pt x="3965" y="119"/>
                    </a:cubicBezTo>
                    <a:cubicBezTo>
                      <a:pt x="3965" y="120"/>
                      <a:pt x="3966" y="122"/>
                      <a:pt x="3966" y="124"/>
                    </a:cubicBezTo>
                    <a:cubicBezTo>
                      <a:pt x="3965" y="126"/>
                      <a:pt x="3965" y="128"/>
                      <a:pt x="3964" y="130"/>
                    </a:cubicBezTo>
                    <a:close/>
                    <a:moveTo>
                      <a:pt x="3968" y="108"/>
                    </a:moveTo>
                    <a:cubicBezTo>
                      <a:pt x="3968" y="107"/>
                      <a:pt x="3967" y="106"/>
                      <a:pt x="3967" y="105"/>
                    </a:cubicBezTo>
                    <a:cubicBezTo>
                      <a:pt x="3967" y="102"/>
                      <a:pt x="3968" y="99"/>
                      <a:pt x="3969" y="96"/>
                    </a:cubicBezTo>
                    <a:cubicBezTo>
                      <a:pt x="3969" y="96"/>
                      <a:pt x="3969" y="97"/>
                      <a:pt x="3969" y="97"/>
                    </a:cubicBezTo>
                    <a:cubicBezTo>
                      <a:pt x="3969" y="101"/>
                      <a:pt x="3968" y="105"/>
                      <a:pt x="3968" y="108"/>
                    </a:cubicBezTo>
                    <a:close/>
                    <a:moveTo>
                      <a:pt x="3970" y="86"/>
                    </a:moveTo>
                    <a:cubicBezTo>
                      <a:pt x="3970" y="86"/>
                      <a:pt x="3970" y="86"/>
                      <a:pt x="3970" y="86"/>
                    </a:cubicBezTo>
                    <a:cubicBezTo>
                      <a:pt x="3970" y="85"/>
                      <a:pt x="3971" y="84"/>
                      <a:pt x="3971" y="83"/>
                    </a:cubicBezTo>
                    <a:cubicBezTo>
                      <a:pt x="3971" y="84"/>
                      <a:pt x="3970" y="85"/>
                      <a:pt x="3970" y="86"/>
                    </a:cubicBezTo>
                    <a:close/>
                    <a:moveTo>
                      <a:pt x="3978" y="80"/>
                    </a:moveTo>
                    <a:cubicBezTo>
                      <a:pt x="3978" y="77"/>
                      <a:pt x="3978" y="75"/>
                      <a:pt x="3978" y="73"/>
                    </a:cubicBezTo>
                    <a:cubicBezTo>
                      <a:pt x="3979" y="73"/>
                      <a:pt x="3979" y="74"/>
                      <a:pt x="3979" y="74"/>
                    </a:cubicBezTo>
                    <a:cubicBezTo>
                      <a:pt x="3979" y="76"/>
                      <a:pt x="3979" y="78"/>
                      <a:pt x="3978" y="80"/>
                    </a:cubicBezTo>
                    <a:close/>
                    <a:moveTo>
                      <a:pt x="3990" y="93"/>
                    </a:moveTo>
                    <a:cubicBezTo>
                      <a:pt x="3989" y="95"/>
                      <a:pt x="3989" y="96"/>
                      <a:pt x="3988" y="97"/>
                    </a:cubicBezTo>
                    <a:cubicBezTo>
                      <a:pt x="3988" y="94"/>
                      <a:pt x="3988" y="91"/>
                      <a:pt x="3987" y="88"/>
                    </a:cubicBezTo>
                    <a:cubicBezTo>
                      <a:pt x="3988" y="89"/>
                      <a:pt x="3989" y="91"/>
                      <a:pt x="3990" y="93"/>
                    </a:cubicBezTo>
                    <a:close/>
                    <a:moveTo>
                      <a:pt x="3991" y="88"/>
                    </a:moveTo>
                    <a:cubicBezTo>
                      <a:pt x="3990" y="86"/>
                      <a:pt x="3989" y="85"/>
                      <a:pt x="3988" y="84"/>
                    </a:cubicBezTo>
                    <a:cubicBezTo>
                      <a:pt x="3989" y="81"/>
                      <a:pt x="3991" y="78"/>
                      <a:pt x="3993" y="75"/>
                    </a:cubicBezTo>
                    <a:cubicBezTo>
                      <a:pt x="3992" y="79"/>
                      <a:pt x="3991" y="84"/>
                      <a:pt x="3991" y="88"/>
                    </a:cubicBezTo>
                    <a:close/>
                    <a:moveTo>
                      <a:pt x="4000" y="77"/>
                    </a:moveTo>
                    <a:cubicBezTo>
                      <a:pt x="4000" y="77"/>
                      <a:pt x="4000" y="77"/>
                      <a:pt x="4000" y="77"/>
                    </a:cubicBezTo>
                    <a:cubicBezTo>
                      <a:pt x="4000" y="74"/>
                      <a:pt x="3999" y="70"/>
                      <a:pt x="3999" y="66"/>
                    </a:cubicBezTo>
                    <a:cubicBezTo>
                      <a:pt x="3999" y="65"/>
                      <a:pt x="4000" y="64"/>
                      <a:pt x="4000" y="63"/>
                    </a:cubicBezTo>
                    <a:cubicBezTo>
                      <a:pt x="4001" y="67"/>
                      <a:pt x="4001" y="72"/>
                      <a:pt x="4000" y="77"/>
                    </a:cubicBezTo>
                    <a:close/>
                    <a:moveTo>
                      <a:pt x="4003" y="72"/>
                    </a:moveTo>
                    <a:cubicBezTo>
                      <a:pt x="4003" y="67"/>
                      <a:pt x="4002" y="64"/>
                      <a:pt x="4001" y="61"/>
                    </a:cubicBezTo>
                    <a:cubicBezTo>
                      <a:pt x="4002" y="60"/>
                      <a:pt x="4003" y="58"/>
                      <a:pt x="4004" y="57"/>
                    </a:cubicBezTo>
                    <a:cubicBezTo>
                      <a:pt x="4004" y="62"/>
                      <a:pt x="4004" y="67"/>
                      <a:pt x="4003" y="72"/>
                    </a:cubicBezTo>
                    <a:close/>
                    <a:moveTo>
                      <a:pt x="4019" y="89"/>
                    </a:moveTo>
                    <a:cubicBezTo>
                      <a:pt x="4020" y="91"/>
                      <a:pt x="4021" y="92"/>
                      <a:pt x="4021" y="94"/>
                    </a:cubicBezTo>
                    <a:cubicBezTo>
                      <a:pt x="4021" y="95"/>
                      <a:pt x="4020" y="97"/>
                      <a:pt x="4020" y="98"/>
                    </a:cubicBezTo>
                    <a:cubicBezTo>
                      <a:pt x="4019" y="97"/>
                      <a:pt x="4019" y="96"/>
                      <a:pt x="4018" y="95"/>
                    </a:cubicBezTo>
                    <a:cubicBezTo>
                      <a:pt x="4018" y="93"/>
                      <a:pt x="4019" y="91"/>
                      <a:pt x="4019" y="89"/>
                    </a:cubicBezTo>
                    <a:close/>
                    <a:moveTo>
                      <a:pt x="4018" y="101"/>
                    </a:moveTo>
                    <a:cubicBezTo>
                      <a:pt x="4018" y="101"/>
                      <a:pt x="4018" y="100"/>
                      <a:pt x="4018" y="100"/>
                    </a:cubicBezTo>
                    <a:cubicBezTo>
                      <a:pt x="4018" y="100"/>
                      <a:pt x="4018" y="101"/>
                      <a:pt x="4018" y="101"/>
                    </a:cubicBezTo>
                    <a:cubicBezTo>
                      <a:pt x="4018" y="101"/>
                      <a:pt x="4018" y="101"/>
                      <a:pt x="4018" y="101"/>
                    </a:cubicBezTo>
                    <a:close/>
                    <a:moveTo>
                      <a:pt x="4020" y="122"/>
                    </a:moveTo>
                    <a:cubicBezTo>
                      <a:pt x="4020" y="121"/>
                      <a:pt x="4019" y="120"/>
                      <a:pt x="4019" y="119"/>
                    </a:cubicBezTo>
                    <a:cubicBezTo>
                      <a:pt x="4019" y="117"/>
                      <a:pt x="4019" y="115"/>
                      <a:pt x="4019" y="112"/>
                    </a:cubicBezTo>
                    <a:cubicBezTo>
                      <a:pt x="4019" y="110"/>
                      <a:pt x="4019" y="108"/>
                      <a:pt x="4020" y="106"/>
                    </a:cubicBezTo>
                    <a:cubicBezTo>
                      <a:pt x="4020" y="108"/>
                      <a:pt x="4021" y="110"/>
                      <a:pt x="4021" y="112"/>
                    </a:cubicBezTo>
                    <a:cubicBezTo>
                      <a:pt x="4021" y="115"/>
                      <a:pt x="4021" y="119"/>
                      <a:pt x="4020" y="122"/>
                    </a:cubicBezTo>
                    <a:close/>
                    <a:moveTo>
                      <a:pt x="4022" y="103"/>
                    </a:moveTo>
                    <a:cubicBezTo>
                      <a:pt x="4022" y="102"/>
                      <a:pt x="4021" y="101"/>
                      <a:pt x="4021" y="100"/>
                    </a:cubicBezTo>
                    <a:cubicBezTo>
                      <a:pt x="4021" y="99"/>
                      <a:pt x="4022" y="97"/>
                      <a:pt x="4022" y="96"/>
                    </a:cubicBezTo>
                    <a:cubicBezTo>
                      <a:pt x="4022" y="97"/>
                      <a:pt x="4023" y="97"/>
                      <a:pt x="4023" y="98"/>
                    </a:cubicBezTo>
                    <a:cubicBezTo>
                      <a:pt x="4023" y="100"/>
                      <a:pt x="4022" y="101"/>
                      <a:pt x="4022" y="103"/>
                    </a:cubicBezTo>
                    <a:close/>
                    <a:moveTo>
                      <a:pt x="4023" y="96"/>
                    </a:moveTo>
                    <a:cubicBezTo>
                      <a:pt x="4023" y="95"/>
                      <a:pt x="4023" y="95"/>
                      <a:pt x="4022" y="95"/>
                    </a:cubicBezTo>
                    <a:cubicBezTo>
                      <a:pt x="4023" y="93"/>
                      <a:pt x="4023" y="92"/>
                      <a:pt x="4024" y="91"/>
                    </a:cubicBezTo>
                    <a:cubicBezTo>
                      <a:pt x="4023" y="93"/>
                      <a:pt x="4023" y="94"/>
                      <a:pt x="4023" y="96"/>
                    </a:cubicBezTo>
                    <a:close/>
                    <a:moveTo>
                      <a:pt x="4029" y="95"/>
                    </a:moveTo>
                    <a:cubicBezTo>
                      <a:pt x="4029" y="92"/>
                      <a:pt x="4030" y="89"/>
                      <a:pt x="4030" y="86"/>
                    </a:cubicBezTo>
                    <a:cubicBezTo>
                      <a:pt x="4030" y="86"/>
                      <a:pt x="4031" y="87"/>
                      <a:pt x="4031" y="88"/>
                    </a:cubicBezTo>
                    <a:cubicBezTo>
                      <a:pt x="4031" y="90"/>
                      <a:pt x="4030" y="92"/>
                      <a:pt x="4029" y="95"/>
                    </a:cubicBezTo>
                    <a:close/>
                    <a:moveTo>
                      <a:pt x="4040" y="99"/>
                    </a:moveTo>
                    <a:cubicBezTo>
                      <a:pt x="4040" y="99"/>
                      <a:pt x="4039" y="98"/>
                      <a:pt x="4039" y="97"/>
                    </a:cubicBezTo>
                    <a:cubicBezTo>
                      <a:pt x="4039" y="93"/>
                      <a:pt x="4039" y="89"/>
                      <a:pt x="4039" y="84"/>
                    </a:cubicBezTo>
                    <a:cubicBezTo>
                      <a:pt x="4040" y="80"/>
                      <a:pt x="4043" y="76"/>
                      <a:pt x="4045" y="72"/>
                    </a:cubicBezTo>
                    <a:cubicBezTo>
                      <a:pt x="4046" y="74"/>
                      <a:pt x="4046" y="78"/>
                      <a:pt x="4047" y="82"/>
                    </a:cubicBezTo>
                    <a:cubicBezTo>
                      <a:pt x="4044" y="88"/>
                      <a:pt x="4042" y="93"/>
                      <a:pt x="4040" y="99"/>
                    </a:cubicBezTo>
                    <a:close/>
                    <a:moveTo>
                      <a:pt x="4048" y="75"/>
                    </a:moveTo>
                    <a:cubicBezTo>
                      <a:pt x="4048" y="73"/>
                      <a:pt x="4047" y="71"/>
                      <a:pt x="4047" y="69"/>
                    </a:cubicBezTo>
                    <a:cubicBezTo>
                      <a:pt x="4048" y="68"/>
                      <a:pt x="4048" y="67"/>
                      <a:pt x="4049" y="66"/>
                    </a:cubicBezTo>
                    <a:cubicBezTo>
                      <a:pt x="4049" y="69"/>
                      <a:pt x="4048" y="72"/>
                      <a:pt x="4048" y="75"/>
                    </a:cubicBezTo>
                    <a:close/>
                    <a:moveTo>
                      <a:pt x="4056" y="72"/>
                    </a:moveTo>
                    <a:cubicBezTo>
                      <a:pt x="4056" y="71"/>
                      <a:pt x="4056" y="70"/>
                      <a:pt x="4056" y="70"/>
                    </a:cubicBezTo>
                    <a:cubicBezTo>
                      <a:pt x="4056" y="69"/>
                      <a:pt x="4056" y="69"/>
                      <a:pt x="4056" y="69"/>
                    </a:cubicBezTo>
                    <a:cubicBezTo>
                      <a:pt x="4056" y="71"/>
                      <a:pt x="4056" y="72"/>
                      <a:pt x="4056" y="72"/>
                    </a:cubicBezTo>
                    <a:close/>
                    <a:moveTo>
                      <a:pt x="4056" y="67"/>
                    </a:moveTo>
                    <a:cubicBezTo>
                      <a:pt x="4056" y="67"/>
                      <a:pt x="4056" y="68"/>
                      <a:pt x="4056" y="68"/>
                    </a:cubicBezTo>
                    <a:cubicBezTo>
                      <a:pt x="4056" y="65"/>
                      <a:pt x="4055" y="61"/>
                      <a:pt x="4055" y="58"/>
                    </a:cubicBezTo>
                    <a:cubicBezTo>
                      <a:pt x="4055" y="57"/>
                      <a:pt x="4056" y="56"/>
                      <a:pt x="4057" y="56"/>
                    </a:cubicBezTo>
                    <a:cubicBezTo>
                      <a:pt x="4056" y="60"/>
                      <a:pt x="4056" y="64"/>
                      <a:pt x="4056" y="67"/>
                    </a:cubicBezTo>
                    <a:close/>
                    <a:moveTo>
                      <a:pt x="4064" y="123"/>
                    </a:moveTo>
                    <a:cubicBezTo>
                      <a:pt x="4063" y="124"/>
                      <a:pt x="4062" y="126"/>
                      <a:pt x="4062" y="127"/>
                    </a:cubicBezTo>
                    <a:cubicBezTo>
                      <a:pt x="4062" y="124"/>
                      <a:pt x="4062" y="122"/>
                      <a:pt x="4061" y="119"/>
                    </a:cubicBezTo>
                    <a:cubicBezTo>
                      <a:pt x="4063" y="116"/>
                      <a:pt x="4064" y="112"/>
                      <a:pt x="4065" y="109"/>
                    </a:cubicBezTo>
                    <a:cubicBezTo>
                      <a:pt x="4065" y="111"/>
                      <a:pt x="4065" y="112"/>
                      <a:pt x="4065" y="114"/>
                    </a:cubicBezTo>
                    <a:cubicBezTo>
                      <a:pt x="4065" y="117"/>
                      <a:pt x="4064" y="120"/>
                      <a:pt x="4064" y="123"/>
                    </a:cubicBezTo>
                    <a:close/>
                    <a:moveTo>
                      <a:pt x="4066" y="110"/>
                    </a:moveTo>
                    <a:cubicBezTo>
                      <a:pt x="4066" y="111"/>
                      <a:pt x="4066" y="112"/>
                      <a:pt x="4065" y="112"/>
                    </a:cubicBezTo>
                    <a:cubicBezTo>
                      <a:pt x="4065" y="111"/>
                      <a:pt x="4065" y="110"/>
                      <a:pt x="4065" y="109"/>
                    </a:cubicBezTo>
                    <a:cubicBezTo>
                      <a:pt x="4065" y="107"/>
                      <a:pt x="4066" y="105"/>
                      <a:pt x="4066" y="102"/>
                    </a:cubicBezTo>
                    <a:cubicBezTo>
                      <a:pt x="4066" y="105"/>
                      <a:pt x="4066" y="108"/>
                      <a:pt x="4066" y="110"/>
                    </a:cubicBezTo>
                    <a:close/>
                    <a:moveTo>
                      <a:pt x="4068" y="83"/>
                    </a:moveTo>
                    <a:cubicBezTo>
                      <a:pt x="4068" y="83"/>
                      <a:pt x="4068" y="84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6" y="87"/>
                      <a:pt x="4065" y="89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2"/>
                      <a:pt x="4063" y="94"/>
                      <a:pt x="4062" y="96"/>
                    </a:cubicBezTo>
                    <a:cubicBezTo>
                      <a:pt x="4062" y="90"/>
                      <a:pt x="4063" y="85"/>
                      <a:pt x="4065" y="79"/>
                    </a:cubicBezTo>
                    <a:cubicBezTo>
                      <a:pt x="4063" y="85"/>
                      <a:pt x="4062" y="90"/>
                      <a:pt x="4060" y="95"/>
                    </a:cubicBezTo>
                    <a:cubicBezTo>
                      <a:pt x="4060" y="85"/>
                      <a:pt x="4061" y="74"/>
                      <a:pt x="4061" y="63"/>
                    </a:cubicBezTo>
                    <a:cubicBezTo>
                      <a:pt x="4064" y="60"/>
                      <a:pt x="4067" y="58"/>
                      <a:pt x="4070" y="55"/>
                    </a:cubicBezTo>
                    <a:cubicBezTo>
                      <a:pt x="4070" y="62"/>
                      <a:pt x="4069" y="72"/>
                      <a:pt x="4068" y="83"/>
                    </a:cubicBezTo>
                    <a:close/>
                    <a:moveTo>
                      <a:pt x="4074" y="105"/>
                    </a:moveTo>
                    <a:cubicBezTo>
                      <a:pt x="4074" y="102"/>
                      <a:pt x="4074" y="99"/>
                      <a:pt x="4074" y="96"/>
                    </a:cubicBezTo>
                    <a:cubicBezTo>
                      <a:pt x="4074" y="97"/>
                      <a:pt x="4075" y="99"/>
                      <a:pt x="4075" y="100"/>
                    </a:cubicBezTo>
                    <a:cubicBezTo>
                      <a:pt x="4075" y="102"/>
                      <a:pt x="4075" y="103"/>
                      <a:pt x="4074" y="105"/>
                    </a:cubicBezTo>
                    <a:cubicBezTo>
                      <a:pt x="4074" y="105"/>
                      <a:pt x="4074" y="105"/>
                      <a:pt x="4074" y="105"/>
                    </a:cubicBezTo>
                    <a:close/>
                    <a:moveTo>
                      <a:pt x="4075" y="130"/>
                    </a:moveTo>
                    <a:cubicBezTo>
                      <a:pt x="4075" y="130"/>
                      <a:pt x="4075" y="130"/>
                      <a:pt x="4075" y="130"/>
                    </a:cubicBezTo>
                    <a:cubicBezTo>
                      <a:pt x="4075" y="129"/>
                      <a:pt x="4075" y="128"/>
                      <a:pt x="4075" y="127"/>
                    </a:cubicBezTo>
                    <a:cubicBezTo>
                      <a:pt x="4075" y="128"/>
                      <a:pt x="4075" y="128"/>
                      <a:pt x="4076" y="129"/>
                    </a:cubicBezTo>
                    <a:cubicBezTo>
                      <a:pt x="4075" y="129"/>
                      <a:pt x="4075" y="130"/>
                      <a:pt x="4075" y="130"/>
                    </a:cubicBezTo>
                    <a:close/>
                    <a:moveTo>
                      <a:pt x="4082" y="74"/>
                    </a:moveTo>
                    <a:cubicBezTo>
                      <a:pt x="4082" y="73"/>
                      <a:pt x="4082" y="71"/>
                      <a:pt x="4082" y="70"/>
                    </a:cubicBezTo>
                    <a:cubicBezTo>
                      <a:pt x="4082" y="70"/>
                      <a:pt x="4083" y="71"/>
                      <a:pt x="4083" y="72"/>
                    </a:cubicBezTo>
                    <a:cubicBezTo>
                      <a:pt x="4083" y="72"/>
                      <a:pt x="4083" y="73"/>
                      <a:pt x="4082" y="74"/>
                    </a:cubicBezTo>
                    <a:close/>
                    <a:moveTo>
                      <a:pt x="4086" y="139"/>
                    </a:moveTo>
                    <a:cubicBezTo>
                      <a:pt x="4086" y="140"/>
                      <a:pt x="4086" y="141"/>
                      <a:pt x="4086" y="142"/>
                    </a:cubicBezTo>
                    <a:cubicBezTo>
                      <a:pt x="4086" y="142"/>
                      <a:pt x="4086" y="141"/>
                      <a:pt x="4086" y="139"/>
                    </a:cubicBezTo>
                    <a:cubicBezTo>
                      <a:pt x="4086" y="138"/>
                      <a:pt x="4086" y="137"/>
                      <a:pt x="4086" y="136"/>
                    </a:cubicBezTo>
                    <a:cubicBezTo>
                      <a:pt x="4086" y="137"/>
                      <a:pt x="4086" y="137"/>
                      <a:pt x="4086" y="137"/>
                    </a:cubicBezTo>
                    <a:cubicBezTo>
                      <a:pt x="4086" y="138"/>
                      <a:pt x="4086" y="139"/>
                      <a:pt x="4086" y="139"/>
                    </a:cubicBezTo>
                    <a:close/>
                    <a:moveTo>
                      <a:pt x="4088" y="122"/>
                    </a:moveTo>
                    <a:cubicBezTo>
                      <a:pt x="4088" y="122"/>
                      <a:pt x="4088" y="122"/>
                      <a:pt x="4087" y="122"/>
                    </a:cubicBezTo>
                    <a:cubicBezTo>
                      <a:pt x="4088" y="121"/>
                      <a:pt x="4088" y="121"/>
                      <a:pt x="4088" y="121"/>
                    </a:cubicBezTo>
                    <a:cubicBezTo>
                      <a:pt x="4088" y="121"/>
                      <a:pt x="4088" y="122"/>
                      <a:pt x="4088" y="122"/>
                    </a:cubicBezTo>
                    <a:close/>
                    <a:moveTo>
                      <a:pt x="4089" y="110"/>
                    </a:moveTo>
                    <a:cubicBezTo>
                      <a:pt x="4088" y="112"/>
                      <a:pt x="4087" y="114"/>
                      <a:pt x="4086" y="116"/>
                    </a:cubicBezTo>
                    <a:cubicBezTo>
                      <a:pt x="4086" y="116"/>
                      <a:pt x="4086" y="117"/>
                      <a:pt x="4086" y="117"/>
                    </a:cubicBezTo>
                    <a:cubicBezTo>
                      <a:pt x="4086" y="113"/>
                      <a:pt x="4085" y="108"/>
                      <a:pt x="4085" y="104"/>
                    </a:cubicBezTo>
                    <a:cubicBezTo>
                      <a:pt x="4086" y="101"/>
                      <a:pt x="4086" y="98"/>
                      <a:pt x="4087" y="96"/>
                    </a:cubicBezTo>
                    <a:cubicBezTo>
                      <a:pt x="4088" y="95"/>
                      <a:pt x="4088" y="95"/>
                      <a:pt x="4088" y="95"/>
                    </a:cubicBezTo>
                    <a:cubicBezTo>
                      <a:pt x="4088" y="98"/>
                      <a:pt x="4089" y="101"/>
                      <a:pt x="4089" y="104"/>
                    </a:cubicBezTo>
                    <a:cubicBezTo>
                      <a:pt x="4089" y="106"/>
                      <a:pt x="4089" y="108"/>
                      <a:pt x="4089" y="110"/>
                    </a:cubicBezTo>
                    <a:close/>
                    <a:moveTo>
                      <a:pt x="4090" y="99"/>
                    </a:moveTo>
                    <a:cubicBezTo>
                      <a:pt x="4089" y="97"/>
                      <a:pt x="4089" y="96"/>
                      <a:pt x="4088" y="94"/>
                    </a:cubicBezTo>
                    <a:cubicBezTo>
                      <a:pt x="4089" y="93"/>
                      <a:pt x="4090" y="92"/>
                      <a:pt x="4090" y="91"/>
                    </a:cubicBezTo>
                    <a:cubicBezTo>
                      <a:pt x="4090" y="94"/>
                      <a:pt x="4090" y="96"/>
                      <a:pt x="4090" y="99"/>
                    </a:cubicBezTo>
                    <a:close/>
                    <a:moveTo>
                      <a:pt x="4084" y="91"/>
                    </a:moveTo>
                    <a:cubicBezTo>
                      <a:pt x="4084" y="89"/>
                      <a:pt x="4084" y="88"/>
                      <a:pt x="4083" y="87"/>
                    </a:cubicBezTo>
                    <a:cubicBezTo>
                      <a:pt x="4085" y="83"/>
                      <a:pt x="4086" y="80"/>
                      <a:pt x="4087" y="76"/>
                    </a:cubicBezTo>
                    <a:cubicBezTo>
                      <a:pt x="4088" y="78"/>
                      <a:pt x="4090" y="80"/>
                      <a:pt x="4091" y="82"/>
                    </a:cubicBezTo>
                    <a:cubicBezTo>
                      <a:pt x="4088" y="85"/>
                      <a:pt x="4086" y="88"/>
                      <a:pt x="4084" y="91"/>
                    </a:cubicBezTo>
                    <a:close/>
                    <a:moveTo>
                      <a:pt x="4091" y="79"/>
                    </a:moveTo>
                    <a:cubicBezTo>
                      <a:pt x="4090" y="77"/>
                      <a:pt x="4089" y="76"/>
                      <a:pt x="4088" y="75"/>
                    </a:cubicBezTo>
                    <a:cubicBezTo>
                      <a:pt x="4089" y="72"/>
                      <a:pt x="4091" y="68"/>
                      <a:pt x="4092" y="65"/>
                    </a:cubicBezTo>
                    <a:cubicBezTo>
                      <a:pt x="4092" y="68"/>
                      <a:pt x="4092" y="73"/>
                      <a:pt x="4091" y="79"/>
                    </a:cubicBezTo>
                    <a:close/>
                    <a:moveTo>
                      <a:pt x="4109" y="54"/>
                    </a:moveTo>
                    <a:cubicBezTo>
                      <a:pt x="4109" y="56"/>
                      <a:pt x="4108" y="58"/>
                      <a:pt x="4108" y="61"/>
                    </a:cubicBezTo>
                    <a:cubicBezTo>
                      <a:pt x="4104" y="65"/>
                      <a:pt x="4100" y="69"/>
                      <a:pt x="4097" y="74"/>
                    </a:cubicBezTo>
                    <a:cubicBezTo>
                      <a:pt x="4100" y="67"/>
                      <a:pt x="4104" y="60"/>
                      <a:pt x="4109" y="54"/>
                    </a:cubicBezTo>
                    <a:close/>
                    <a:moveTo>
                      <a:pt x="4095" y="89"/>
                    </a:moveTo>
                    <a:cubicBezTo>
                      <a:pt x="4095" y="90"/>
                      <a:pt x="4096" y="91"/>
                      <a:pt x="4096" y="92"/>
                    </a:cubicBezTo>
                    <a:cubicBezTo>
                      <a:pt x="4096" y="92"/>
                      <a:pt x="4095" y="93"/>
                      <a:pt x="4095" y="94"/>
                    </a:cubicBezTo>
                    <a:cubicBezTo>
                      <a:pt x="4095" y="92"/>
                      <a:pt x="4095" y="91"/>
                      <a:pt x="4095" y="89"/>
                    </a:cubicBezTo>
                    <a:close/>
                    <a:moveTo>
                      <a:pt x="4097" y="127"/>
                    </a:moveTo>
                    <a:cubicBezTo>
                      <a:pt x="4097" y="125"/>
                      <a:pt x="4097" y="124"/>
                      <a:pt x="4096" y="122"/>
                    </a:cubicBezTo>
                    <a:cubicBezTo>
                      <a:pt x="4096" y="117"/>
                      <a:pt x="4096" y="111"/>
                      <a:pt x="4096" y="105"/>
                    </a:cubicBezTo>
                    <a:cubicBezTo>
                      <a:pt x="4097" y="104"/>
                      <a:pt x="4097" y="102"/>
                      <a:pt x="4098" y="101"/>
                    </a:cubicBezTo>
                    <a:cubicBezTo>
                      <a:pt x="4097" y="102"/>
                      <a:pt x="4097" y="103"/>
                      <a:pt x="4096" y="105"/>
                    </a:cubicBezTo>
                    <a:cubicBezTo>
                      <a:pt x="4095" y="102"/>
                      <a:pt x="4095" y="99"/>
                      <a:pt x="4095" y="96"/>
                    </a:cubicBezTo>
                    <a:cubicBezTo>
                      <a:pt x="4096" y="95"/>
                      <a:pt x="4096" y="94"/>
                      <a:pt x="4096" y="93"/>
                    </a:cubicBezTo>
                    <a:cubicBezTo>
                      <a:pt x="4097" y="95"/>
                      <a:pt x="4098" y="97"/>
                      <a:pt x="4099" y="100"/>
                    </a:cubicBezTo>
                    <a:cubicBezTo>
                      <a:pt x="4099" y="100"/>
                      <a:pt x="4099" y="100"/>
                      <a:pt x="4098" y="101"/>
                    </a:cubicBezTo>
                    <a:cubicBezTo>
                      <a:pt x="4099" y="100"/>
                      <a:pt x="4099" y="100"/>
                      <a:pt x="4099" y="100"/>
                    </a:cubicBezTo>
                    <a:cubicBezTo>
                      <a:pt x="4100" y="101"/>
                      <a:pt x="4100" y="102"/>
                      <a:pt x="4101" y="103"/>
                    </a:cubicBezTo>
                    <a:cubicBezTo>
                      <a:pt x="4099" y="112"/>
                      <a:pt x="4098" y="120"/>
                      <a:pt x="4097" y="127"/>
                    </a:cubicBezTo>
                    <a:close/>
                    <a:moveTo>
                      <a:pt x="4098" y="87"/>
                    </a:moveTo>
                    <a:cubicBezTo>
                      <a:pt x="4099" y="86"/>
                      <a:pt x="4100" y="84"/>
                      <a:pt x="4101" y="83"/>
                    </a:cubicBezTo>
                    <a:cubicBezTo>
                      <a:pt x="4100" y="84"/>
                      <a:pt x="4099" y="86"/>
                      <a:pt x="4098" y="87"/>
                    </a:cubicBezTo>
                    <a:cubicBezTo>
                      <a:pt x="4097" y="86"/>
                      <a:pt x="4096" y="85"/>
                      <a:pt x="4095" y="83"/>
                    </a:cubicBezTo>
                    <a:cubicBezTo>
                      <a:pt x="4099" y="78"/>
                      <a:pt x="4103" y="72"/>
                      <a:pt x="4106" y="67"/>
                    </a:cubicBezTo>
                    <a:cubicBezTo>
                      <a:pt x="4106" y="72"/>
                      <a:pt x="4105" y="76"/>
                      <a:pt x="4104" y="81"/>
                    </a:cubicBezTo>
                    <a:cubicBezTo>
                      <a:pt x="4104" y="80"/>
                      <a:pt x="4103" y="79"/>
                      <a:pt x="4103" y="79"/>
                    </a:cubicBezTo>
                    <a:cubicBezTo>
                      <a:pt x="4103" y="78"/>
                      <a:pt x="4104" y="77"/>
                      <a:pt x="4105" y="75"/>
                    </a:cubicBezTo>
                    <a:cubicBezTo>
                      <a:pt x="4104" y="76"/>
                      <a:pt x="4103" y="77"/>
                      <a:pt x="4103" y="79"/>
                    </a:cubicBezTo>
                    <a:cubicBezTo>
                      <a:pt x="4102" y="78"/>
                      <a:pt x="4102" y="77"/>
                      <a:pt x="4101" y="77"/>
                    </a:cubicBezTo>
                    <a:cubicBezTo>
                      <a:pt x="4101" y="78"/>
                      <a:pt x="4102" y="79"/>
                      <a:pt x="4102" y="79"/>
                    </a:cubicBezTo>
                    <a:cubicBezTo>
                      <a:pt x="4102" y="80"/>
                      <a:pt x="4101" y="81"/>
                      <a:pt x="4101" y="83"/>
                    </a:cubicBezTo>
                    <a:cubicBezTo>
                      <a:pt x="4101" y="82"/>
                      <a:pt x="4102" y="81"/>
                      <a:pt x="4102" y="80"/>
                    </a:cubicBezTo>
                    <a:cubicBezTo>
                      <a:pt x="4103" y="81"/>
                      <a:pt x="4103" y="82"/>
                      <a:pt x="4104" y="84"/>
                    </a:cubicBezTo>
                    <a:cubicBezTo>
                      <a:pt x="4103" y="87"/>
                      <a:pt x="4103" y="90"/>
                      <a:pt x="4102" y="93"/>
                    </a:cubicBezTo>
                    <a:cubicBezTo>
                      <a:pt x="4101" y="91"/>
                      <a:pt x="4100" y="89"/>
                      <a:pt x="4098" y="87"/>
                    </a:cubicBezTo>
                    <a:close/>
                    <a:moveTo>
                      <a:pt x="4103" y="144"/>
                    </a:moveTo>
                    <a:cubicBezTo>
                      <a:pt x="4103" y="144"/>
                      <a:pt x="4103" y="143"/>
                      <a:pt x="4103" y="143"/>
                    </a:cubicBezTo>
                    <a:cubicBezTo>
                      <a:pt x="4103" y="140"/>
                      <a:pt x="4103" y="136"/>
                      <a:pt x="4103" y="131"/>
                    </a:cubicBezTo>
                    <a:cubicBezTo>
                      <a:pt x="4104" y="128"/>
                      <a:pt x="4105" y="126"/>
                      <a:pt x="4105" y="125"/>
                    </a:cubicBezTo>
                    <a:cubicBezTo>
                      <a:pt x="4105" y="125"/>
                      <a:pt x="4105" y="124"/>
                      <a:pt x="4105" y="124"/>
                    </a:cubicBezTo>
                    <a:cubicBezTo>
                      <a:pt x="4104" y="124"/>
                      <a:pt x="4104" y="124"/>
                      <a:pt x="4104" y="124"/>
                    </a:cubicBezTo>
                    <a:cubicBezTo>
                      <a:pt x="4104" y="122"/>
                      <a:pt x="4104" y="120"/>
                      <a:pt x="4104" y="118"/>
                    </a:cubicBezTo>
                    <a:cubicBezTo>
                      <a:pt x="4105" y="121"/>
                      <a:pt x="4106" y="125"/>
                      <a:pt x="4106" y="128"/>
                    </a:cubicBezTo>
                    <a:cubicBezTo>
                      <a:pt x="4105" y="136"/>
                      <a:pt x="4104" y="141"/>
                      <a:pt x="4103" y="144"/>
                    </a:cubicBezTo>
                    <a:close/>
                    <a:moveTo>
                      <a:pt x="4110" y="107"/>
                    </a:moveTo>
                    <a:cubicBezTo>
                      <a:pt x="4109" y="105"/>
                      <a:pt x="4108" y="102"/>
                      <a:pt x="4106" y="100"/>
                    </a:cubicBezTo>
                    <a:cubicBezTo>
                      <a:pt x="4107" y="97"/>
                      <a:pt x="4107" y="95"/>
                      <a:pt x="4107" y="93"/>
                    </a:cubicBezTo>
                    <a:cubicBezTo>
                      <a:pt x="4108" y="96"/>
                      <a:pt x="4110" y="99"/>
                      <a:pt x="4111" y="102"/>
                    </a:cubicBezTo>
                    <a:cubicBezTo>
                      <a:pt x="4111" y="104"/>
                      <a:pt x="4110" y="105"/>
                      <a:pt x="4110" y="107"/>
                    </a:cubicBezTo>
                    <a:close/>
                    <a:moveTo>
                      <a:pt x="4111" y="159"/>
                    </a:moveTo>
                    <a:cubicBezTo>
                      <a:pt x="4111" y="159"/>
                      <a:pt x="4111" y="159"/>
                      <a:pt x="4111" y="159"/>
                    </a:cubicBezTo>
                    <a:cubicBezTo>
                      <a:pt x="4111" y="159"/>
                      <a:pt x="4111" y="159"/>
                      <a:pt x="4112" y="159"/>
                    </a:cubicBezTo>
                    <a:cubicBezTo>
                      <a:pt x="4111" y="159"/>
                      <a:pt x="4111" y="159"/>
                      <a:pt x="4111" y="159"/>
                    </a:cubicBezTo>
                    <a:close/>
                    <a:moveTo>
                      <a:pt x="4112" y="96"/>
                    </a:moveTo>
                    <a:cubicBezTo>
                      <a:pt x="4111" y="93"/>
                      <a:pt x="4109" y="91"/>
                      <a:pt x="4108" y="88"/>
                    </a:cubicBezTo>
                    <a:cubicBezTo>
                      <a:pt x="4110" y="85"/>
                      <a:pt x="4112" y="82"/>
                      <a:pt x="4114" y="79"/>
                    </a:cubicBezTo>
                    <a:cubicBezTo>
                      <a:pt x="4114" y="84"/>
                      <a:pt x="4113" y="90"/>
                      <a:pt x="4112" y="96"/>
                    </a:cubicBezTo>
                    <a:close/>
                    <a:moveTo>
                      <a:pt x="4115" y="75"/>
                    </a:moveTo>
                    <a:cubicBezTo>
                      <a:pt x="4113" y="78"/>
                      <a:pt x="4110" y="82"/>
                      <a:pt x="4108" y="86"/>
                    </a:cubicBezTo>
                    <a:cubicBezTo>
                      <a:pt x="4109" y="77"/>
                      <a:pt x="4110" y="68"/>
                      <a:pt x="4111" y="61"/>
                    </a:cubicBezTo>
                    <a:cubicBezTo>
                      <a:pt x="4113" y="58"/>
                      <a:pt x="4115" y="55"/>
                      <a:pt x="4117" y="53"/>
                    </a:cubicBezTo>
                    <a:cubicBezTo>
                      <a:pt x="4117" y="58"/>
                      <a:pt x="4116" y="66"/>
                      <a:pt x="4115" y="75"/>
                    </a:cubicBezTo>
                    <a:close/>
                    <a:moveTo>
                      <a:pt x="4122" y="139"/>
                    </a:moveTo>
                    <a:cubicBezTo>
                      <a:pt x="4122" y="139"/>
                      <a:pt x="4121" y="139"/>
                      <a:pt x="4121" y="139"/>
                    </a:cubicBezTo>
                    <a:cubicBezTo>
                      <a:pt x="4121" y="138"/>
                      <a:pt x="4121" y="138"/>
                      <a:pt x="4122" y="138"/>
                    </a:cubicBezTo>
                    <a:cubicBezTo>
                      <a:pt x="4122" y="138"/>
                      <a:pt x="4122" y="138"/>
                      <a:pt x="4122" y="138"/>
                    </a:cubicBezTo>
                    <a:cubicBezTo>
                      <a:pt x="4122" y="139"/>
                      <a:pt x="4122" y="139"/>
                      <a:pt x="4122" y="139"/>
                    </a:cubicBezTo>
                    <a:close/>
                    <a:moveTo>
                      <a:pt x="4147" y="137"/>
                    </a:moveTo>
                    <a:cubicBezTo>
                      <a:pt x="4147" y="136"/>
                      <a:pt x="4146" y="135"/>
                      <a:pt x="4146" y="133"/>
                    </a:cubicBezTo>
                    <a:cubicBezTo>
                      <a:pt x="4146" y="132"/>
                      <a:pt x="4146" y="130"/>
                      <a:pt x="4146" y="128"/>
                    </a:cubicBezTo>
                    <a:cubicBezTo>
                      <a:pt x="4146" y="131"/>
                      <a:pt x="4147" y="133"/>
                      <a:pt x="4148" y="135"/>
                    </a:cubicBezTo>
                    <a:cubicBezTo>
                      <a:pt x="4148" y="136"/>
                      <a:pt x="4147" y="137"/>
                      <a:pt x="4147" y="137"/>
                    </a:cubicBezTo>
                    <a:close/>
                    <a:moveTo>
                      <a:pt x="4153" y="99"/>
                    </a:moveTo>
                    <a:cubicBezTo>
                      <a:pt x="4152" y="95"/>
                      <a:pt x="4150" y="92"/>
                      <a:pt x="4148" y="90"/>
                    </a:cubicBezTo>
                    <a:cubicBezTo>
                      <a:pt x="4150" y="93"/>
                      <a:pt x="4152" y="97"/>
                      <a:pt x="4153" y="101"/>
                    </a:cubicBezTo>
                    <a:cubicBezTo>
                      <a:pt x="4152" y="110"/>
                      <a:pt x="4151" y="118"/>
                      <a:pt x="4149" y="125"/>
                    </a:cubicBezTo>
                    <a:cubicBezTo>
                      <a:pt x="4148" y="122"/>
                      <a:pt x="4147" y="119"/>
                      <a:pt x="4147" y="116"/>
                    </a:cubicBezTo>
                    <a:cubicBezTo>
                      <a:pt x="4147" y="102"/>
                      <a:pt x="4148" y="86"/>
                      <a:pt x="4149" y="72"/>
                    </a:cubicBezTo>
                    <a:cubicBezTo>
                      <a:pt x="4151" y="75"/>
                      <a:pt x="4154" y="79"/>
                      <a:pt x="4156" y="82"/>
                    </a:cubicBezTo>
                    <a:cubicBezTo>
                      <a:pt x="4155" y="88"/>
                      <a:pt x="4154" y="93"/>
                      <a:pt x="4153" y="99"/>
                    </a:cubicBezTo>
                    <a:close/>
                    <a:moveTo>
                      <a:pt x="4156" y="142"/>
                    </a:moveTo>
                    <a:cubicBezTo>
                      <a:pt x="4157" y="134"/>
                      <a:pt x="4158" y="127"/>
                      <a:pt x="4158" y="121"/>
                    </a:cubicBezTo>
                    <a:cubicBezTo>
                      <a:pt x="4158" y="123"/>
                      <a:pt x="4159" y="125"/>
                      <a:pt x="4159" y="127"/>
                    </a:cubicBezTo>
                    <a:cubicBezTo>
                      <a:pt x="4158" y="136"/>
                      <a:pt x="4156" y="142"/>
                      <a:pt x="4156" y="142"/>
                    </a:cubicBezTo>
                    <a:close/>
                    <a:moveTo>
                      <a:pt x="4160" y="144"/>
                    </a:moveTo>
                    <a:cubicBezTo>
                      <a:pt x="4160" y="142"/>
                      <a:pt x="4160" y="140"/>
                      <a:pt x="4161" y="137"/>
                    </a:cubicBezTo>
                    <a:cubicBezTo>
                      <a:pt x="4161" y="138"/>
                      <a:pt x="4161" y="138"/>
                      <a:pt x="4161" y="138"/>
                    </a:cubicBezTo>
                    <a:cubicBezTo>
                      <a:pt x="4160" y="142"/>
                      <a:pt x="4160" y="144"/>
                      <a:pt x="4160" y="144"/>
                    </a:cubicBezTo>
                    <a:close/>
                    <a:moveTo>
                      <a:pt x="4159" y="110"/>
                    </a:moveTo>
                    <a:cubicBezTo>
                      <a:pt x="4159" y="103"/>
                      <a:pt x="4160" y="96"/>
                      <a:pt x="4160" y="90"/>
                    </a:cubicBezTo>
                    <a:cubicBezTo>
                      <a:pt x="4162" y="93"/>
                      <a:pt x="4163" y="96"/>
                      <a:pt x="4164" y="99"/>
                    </a:cubicBezTo>
                    <a:cubicBezTo>
                      <a:pt x="4163" y="105"/>
                      <a:pt x="4162" y="111"/>
                      <a:pt x="4161" y="116"/>
                    </a:cubicBezTo>
                    <a:cubicBezTo>
                      <a:pt x="4160" y="114"/>
                      <a:pt x="4159" y="112"/>
                      <a:pt x="4159" y="110"/>
                    </a:cubicBezTo>
                    <a:close/>
                    <a:moveTo>
                      <a:pt x="4164" y="124"/>
                    </a:moveTo>
                    <a:cubicBezTo>
                      <a:pt x="4163" y="123"/>
                      <a:pt x="4163" y="122"/>
                      <a:pt x="4163" y="121"/>
                    </a:cubicBezTo>
                    <a:cubicBezTo>
                      <a:pt x="4163" y="115"/>
                      <a:pt x="4164" y="109"/>
                      <a:pt x="4165" y="103"/>
                    </a:cubicBezTo>
                    <a:cubicBezTo>
                      <a:pt x="4165" y="105"/>
                      <a:pt x="4166" y="107"/>
                      <a:pt x="4167" y="109"/>
                    </a:cubicBezTo>
                    <a:cubicBezTo>
                      <a:pt x="4166" y="114"/>
                      <a:pt x="4165" y="119"/>
                      <a:pt x="4164" y="124"/>
                    </a:cubicBezTo>
                    <a:close/>
                    <a:moveTo>
                      <a:pt x="4169" y="146"/>
                    </a:moveTo>
                    <a:cubicBezTo>
                      <a:pt x="4169" y="145"/>
                      <a:pt x="4169" y="145"/>
                      <a:pt x="4169" y="145"/>
                    </a:cubicBezTo>
                    <a:cubicBezTo>
                      <a:pt x="4170" y="144"/>
                      <a:pt x="4170" y="143"/>
                      <a:pt x="4170" y="141"/>
                    </a:cubicBezTo>
                    <a:cubicBezTo>
                      <a:pt x="4170" y="142"/>
                      <a:pt x="4170" y="143"/>
                      <a:pt x="4170" y="144"/>
                    </a:cubicBezTo>
                    <a:cubicBezTo>
                      <a:pt x="4170" y="145"/>
                      <a:pt x="4170" y="145"/>
                      <a:pt x="4169" y="146"/>
                    </a:cubicBezTo>
                    <a:close/>
                    <a:moveTo>
                      <a:pt x="4193" y="118"/>
                    </a:moveTo>
                    <a:cubicBezTo>
                      <a:pt x="4192" y="114"/>
                      <a:pt x="4190" y="111"/>
                      <a:pt x="4189" y="107"/>
                    </a:cubicBezTo>
                    <a:cubicBezTo>
                      <a:pt x="4189" y="96"/>
                      <a:pt x="4189" y="84"/>
                      <a:pt x="4189" y="74"/>
                    </a:cubicBezTo>
                    <a:cubicBezTo>
                      <a:pt x="4189" y="70"/>
                      <a:pt x="4189" y="67"/>
                      <a:pt x="4188" y="65"/>
                    </a:cubicBezTo>
                    <a:cubicBezTo>
                      <a:pt x="4189" y="74"/>
                      <a:pt x="4193" y="84"/>
                      <a:pt x="4196" y="94"/>
                    </a:cubicBezTo>
                    <a:cubicBezTo>
                      <a:pt x="4195" y="102"/>
                      <a:pt x="4194" y="110"/>
                      <a:pt x="4193" y="118"/>
                    </a:cubicBezTo>
                    <a:close/>
                    <a:moveTo>
                      <a:pt x="4222" y="124"/>
                    </a:moveTo>
                    <a:cubicBezTo>
                      <a:pt x="4221" y="122"/>
                      <a:pt x="4221" y="120"/>
                      <a:pt x="4220" y="117"/>
                    </a:cubicBezTo>
                    <a:cubicBezTo>
                      <a:pt x="4221" y="109"/>
                      <a:pt x="4222" y="100"/>
                      <a:pt x="4223" y="92"/>
                    </a:cubicBezTo>
                    <a:cubicBezTo>
                      <a:pt x="4225" y="96"/>
                      <a:pt x="4226" y="100"/>
                      <a:pt x="4226" y="104"/>
                    </a:cubicBezTo>
                    <a:cubicBezTo>
                      <a:pt x="4225" y="111"/>
                      <a:pt x="4223" y="118"/>
                      <a:pt x="4222" y="124"/>
                    </a:cubicBezTo>
                    <a:close/>
                    <a:moveTo>
                      <a:pt x="4262" y="133"/>
                    </a:moveTo>
                    <a:cubicBezTo>
                      <a:pt x="4262" y="130"/>
                      <a:pt x="4261" y="126"/>
                      <a:pt x="4260" y="122"/>
                    </a:cubicBezTo>
                    <a:cubicBezTo>
                      <a:pt x="4260" y="112"/>
                      <a:pt x="4260" y="100"/>
                      <a:pt x="4261" y="88"/>
                    </a:cubicBezTo>
                    <a:cubicBezTo>
                      <a:pt x="4263" y="96"/>
                      <a:pt x="4265" y="104"/>
                      <a:pt x="4265" y="111"/>
                    </a:cubicBezTo>
                    <a:cubicBezTo>
                      <a:pt x="4266" y="117"/>
                      <a:pt x="4266" y="117"/>
                      <a:pt x="4266" y="117"/>
                    </a:cubicBezTo>
                    <a:cubicBezTo>
                      <a:pt x="4264" y="123"/>
                      <a:pt x="4263" y="129"/>
                      <a:pt x="4262" y="133"/>
                    </a:cubicBezTo>
                    <a:close/>
                    <a:moveTo>
                      <a:pt x="4275" y="110"/>
                    </a:moveTo>
                    <a:cubicBezTo>
                      <a:pt x="4275" y="113"/>
                      <a:pt x="4275" y="116"/>
                      <a:pt x="4275" y="119"/>
                    </a:cubicBezTo>
                    <a:cubicBezTo>
                      <a:pt x="4274" y="122"/>
                      <a:pt x="4274" y="124"/>
                      <a:pt x="4273" y="127"/>
                    </a:cubicBezTo>
                    <a:cubicBezTo>
                      <a:pt x="4273" y="119"/>
                      <a:pt x="4272" y="111"/>
                      <a:pt x="4271" y="104"/>
                    </a:cubicBezTo>
                    <a:cubicBezTo>
                      <a:pt x="4272" y="98"/>
                      <a:pt x="4272" y="91"/>
                      <a:pt x="4273" y="86"/>
                    </a:cubicBezTo>
                    <a:cubicBezTo>
                      <a:pt x="4275" y="93"/>
                      <a:pt x="4275" y="102"/>
                      <a:pt x="4275" y="110"/>
                    </a:cubicBezTo>
                    <a:close/>
                    <a:moveTo>
                      <a:pt x="4285" y="142"/>
                    </a:moveTo>
                    <a:cubicBezTo>
                      <a:pt x="4285" y="142"/>
                      <a:pt x="4285" y="141"/>
                      <a:pt x="4286" y="138"/>
                    </a:cubicBezTo>
                    <a:cubicBezTo>
                      <a:pt x="4287" y="120"/>
                      <a:pt x="4286" y="96"/>
                      <a:pt x="4285" y="77"/>
                    </a:cubicBezTo>
                    <a:cubicBezTo>
                      <a:pt x="4287" y="81"/>
                      <a:pt x="4289" y="86"/>
                      <a:pt x="4290" y="92"/>
                    </a:cubicBezTo>
                    <a:cubicBezTo>
                      <a:pt x="4288" y="108"/>
                      <a:pt x="4286" y="129"/>
                      <a:pt x="4286" y="138"/>
                    </a:cubicBezTo>
                    <a:cubicBezTo>
                      <a:pt x="4285" y="139"/>
                      <a:pt x="4285" y="141"/>
                      <a:pt x="4285" y="142"/>
                    </a:cubicBezTo>
                    <a:close/>
                    <a:moveTo>
                      <a:pt x="4289" y="129"/>
                    </a:moveTo>
                    <a:cubicBezTo>
                      <a:pt x="4289" y="119"/>
                      <a:pt x="4290" y="107"/>
                      <a:pt x="4291" y="97"/>
                    </a:cubicBezTo>
                    <a:cubicBezTo>
                      <a:pt x="4291" y="100"/>
                      <a:pt x="4291" y="103"/>
                      <a:pt x="4291" y="106"/>
                    </a:cubicBezTo>
                    <a:cubicBezTo>
                      <a:pt x="4291" y="114"/>
                      <a:pt x="4290" y="121"/>
                      <a:pt x="4289" y="129"/>
                    </a:cubicBezTo>
                    <a:close/>
                    <a:moveTo>
                      <a:pt x="4300" y="125"/>
                    </a:moveTo>
                    <a:cubicBezTo>
                      <a:pt x="4301" y="120"/>
                      <a:pt x="4301" y="113"/>
                      <a:pt x="4301" y="107"/>
                    </a:cubicBezTo>
                    <a:cubicBezTo>
                      <a:pt x="4301" y="114"/>
                      <a:pt x="4301" y="120"/>
                      <a:pt x="4300" y="125"/>
                    </a:cubicBezTo>
                    <a:close/>
                    <a:moveTo>
                      <a:pt x="4315" y="112"/>
                    </a:moveTo>
                    <a:cubicBezTo>
                      <a:pt x="4315" y="105"/>
                      <a:pt x="4315" y="98"/>
                      <a:pt x="4315" y="91"/>
                    </a:cubicBezTo>
                    <a:cubicBezTo>
                      <a:pt x="4316" y="95"/>
                      <a:pt x="4316" y="99"/>
                      <a:pt x="4316" y="103"/>
                    </a:cubicBezTo>
                    <a:cubicBezTo>
                      <a:pt x="4316" y="106"/>
                      <a:pt x="4316" y="109"/>
                      <a:pt x="4315" y="112"/>
                    </a:cubicBezTo>
                    <a:close/>
                    <a:moveTo>
                      <a:pt x="4326" y="129"/>
                    </a:moveTo>
                    <a:cubicBezTo>
                      <a:pt x="4326" y="129"/>
                      <a:pt x="4326" y="129"/>
                      <a:pt x="4325" y="130"/>
                    </a:cubicBezTo>
                    <a:cubicBezTo>
                      <a:pt x="4325" y="132"/>
                      <a:pt x="4324" y="134"/>
                      <a:pt x="4324" y="137"/>
                    </a:cubicBezTo>
                    <a:cubicBezTo>
                      <a:pt x="4324" y="136"/>
                      <a:pt x="4324" y="136"/>
                      <a:pt x="4324" y="136"/>
                    </a:cubicBezTo>
                    <a:cubicBezTo>
                      <a:pt x="4324" y="134"/>
                      <a:pt x="4325" y="132"/>
                      <a:pt x="4325" y="130"/>
                    </a:cubicBezTo>
                    <a:cubicBezTo>
                      <a:pt x="4326" y="129"/>
                      <a:pt x="4326" y="129"/>
                      <a:pt x="4326" y="129"/>
                    </a:cubicBezTo>
                    <a:cubicBezTo>
                      <a:pt x="4326" y="129"/>
                      <a:pt x="4326" y="129"/>
                      <a:pt x="4326" y="129"/>
                    </a:cubicBezTo>
                    <a:close/>
                    <a:moveTo>
                      <a:pt x="4362" y="130"/>
                    </a:moveTo>
                    <a:cubicBezTo>
                      <a:pt x="4362" y="132"/>
                      <a:pt x="4361" y="134"/>
                      <a:pt x="4360" y="136"/>
                    </a:cubicBezTo>
                    <a:cubicBezTo>
                      <a:pt x="4360" y="131"/>
                      <a:pt x="4360" y="126"/>
                      <a:pt x="4360" y="121"/>
                    </a:cubicBezTo>
                    <a:cubicBezTo>
                      <a:pt x="4362" y="115"/>
                      <a:pt x="4364" y="110"/>
                      <a:pt x="4365" y="104"/>
                    </a:cubicBezTo>
                    <a:cubicBezTo>
                      <a:pt x="4364" y="114"/>
                      <a:pt x="4363" y="123"/>
                      <a:pt x="4362" y="130"/>
                    </a:cubicBezTo>
                    <a:close/>
                    <a:moveTo>
                      <a:pt x="4378" y="124"/>
                    </a:moveTo>
                    <a:cubicBezTo>
                      <a:pt x="4378" y="110"/>
                      <a:pt x="4380" y="94"/>
                      <a:pt x="4381" y="83"/>
                    </a:cubicBezTo>
                    <a:cubicBezTo>
                      <a:pt x="4381" y="87"/>
                      <a:pt x="4381" y="91"/>
                      <a:pt x="4381" y="95"/>
                    </a:cubicBezTo>
                    <a:cubicBezTo>
                      <a:pt x="4381" y="105"/>
                      <a:pt x="4380" y="114"/>
                      <a:pt x="4378" y="124"/>
                    </a:cubicBezTo>
                    <a:close/>
                    <a:moveTo>
                      <a:pt x="4394" y="160"/>
                    </a:moveTo>
                    <a:cubicBezTo>
                      <a:pt x="4394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4" y="160"/>
                    </a:cubicBezTo>
                    <a:close/>
                    <a:moveTo>
                      <a:pt x="4407" y="116"/>
                    </a:moveTo>
                    <a:cubicBezTo>
                      <a:pt x="4406" y="121"/>
                      <a:pt x="4404" y="127"/>
                      <a:pt x="4402" y="132"/>
                    </a:cubicBezTo>
                    <a:cubicBezTo>
                      <a:pt x="4402" y="127"/>
                      <a:pt x="4402" y="121"/>
                      <a:pt x="4402" y="115"/>
                    </a:cubicBezTo>
                    <a:cubicBezTo>
                      <a:pt x="4403" y="110"/>
                      <a:pt x="4403" y="104"/>
                      <a:pt x="4403" y="98"/>
                    </a:cubicBezTo>
                    <a:cubicBezTo>
                      <a:pt x="4403" y="95"/>
                      <a:pt x="4403" y="92"/>
                      <a:pt x="4403" y="89"/>
                    </a:cubicBezTo>
                    <a:cubicBezTo>
                      <a:pt x="4404" y="78"/>
                      <a:pt x="4405" y="68"/>
                      <a:pt x="4406" y="60"/>
                    </a:cubicBezTo>
                    <a:cubicBezTo>
                      <a:pt x="4409" y="68"/>
                      <a:pt x="4411" y="78"/>
                      <a:pt x="4411" y="87"/>
                    </a:cubicBezTo>
                    <a:cubicBezTo>
                      <a:pt x="4410" y="95"/>
                      <a:pt x="4409" y="106"/>
                      <a:pt x="4407" y="116"/>
                    </a:cubicBezTo>
                    <a:close/>
                    <a:moveTo>
                      <a:pt x="4415" y="136"/>
                    </a:moveTo>
                    <a:cubicBezTo>
                      <a:pt x="4415" y="137"/>
                      <a:pt x="4414" y="138"/>
                      <a:pt x="4414" y="139"/>
                    </a:cubicBezTo>
                    <a:cubicBezTo>
                      <a:pt x="4414" y="137"/>
                      <a:pt x="4414" y="135"/>
                      <a:pt x="4414" y="133"/>
                    </a:cubicBezTo>
                    <a:cubicBezTo>
                      <a:pt x="4415" y="130"/>
                      <a:pt x="4415" y="128"/>
                      <a:pt x="4416" y="125"/>
                    </a:cubicBezTo>
                    <a:cubicBezTo>
                      <a:pt x="4416" y="129"/>
                      <a:pt x="4415" y="133"/>
                      <a:pt x="4415" y="136"/>
                    </a:cubicBezTo>
                    <a:close/>
                    <a:moveTo>
                      <a:pt x="4431" y="126"/>
                    </a:moveTo>
                    <a:cubicBezTo>
                      <a:pt x="4430" y="113"/>
                      <a:pt x="4430" y="96"/>
                      <a:pt x="4430" y="84"/>
                    </a:cubicBezTo>
                    <a:cubicBezTo>
                      <a:pt x="4434" y="90"/>
                      <a:pt x="4436" y="100"/>
                      <a:pt x="4436" y="104"/>
                    </a:cubicBezTo>
                    <a:cubicBezTo>
                      <a:pt x="4436" y="110"/>
                      <a:pt x="4433" y="118"/>
                      <a:pt x="4431" y="126"/>
                    </a:cubicBezTo>
                    <a:close/>
                    <a:moveTo>
                      <a:pt x="4442" y="128"/>
                    </a:moveTo>
                    <a:cubicBezTo>
                      <a:pt x="4443" y="113"/>
                      <a:pt x="4443" y="91"/>
                      <a:pt x="4443" y="76"/>
                    </a:cubicBezTo>
                    <a:cubicBezTo>
                      <a:pt x="4445" y="83"/>
                      <a:pt x="4447" y="90"/>
                      <a:pt x="4447" y="96"/>
                    </a:cubicBezTo>
                    <a:cubicBezTo>
                      <a:pt x="4447" y="107"/>
                      <a:pt x="4444" y="117"/>
                      <a:pt x="4442" y="128"/>
                    </a:cubicBezTo>
                    <a:close/>
                    <a:moveTo>
                      <a:pt x="4482" y="112"/>
                    </a:moveTo>
                    <a:cubicBezTo>
                      <a:pt x="4482" y="110"/>
                      <a:pt x="4482" y="108"/>
                      <a:pt x="4481" y="105"/>
                    </a:cubicBezTo>
                    <a:cubicBezTo>
                      <a:pt x="4482" y="108"/>
                      <a:pt x="4481" y="112"/>
                      <a:pt x="4481" y="115"/>
                    </a:cubicBezTo>
                    <a:cubicBezTo>
                      <a:pt x="4476" y="131"/>
                      <a:pt x="4472" y="144"/>
                      <a:pt x="4472" y="144"/>
                    </a:cubicBezTo>
                    <a:cubicBezTo>
                      <a:pt x="4473" y="133"/>
                      <a:pt x="4477" y="110"/>
                      <a:pt x="4482" y="86"/>
                    </a:cubicBezTo>
                    <a:cubicBezTo>
                      <a:pt x="4484" y="90"/>
                      <a:pt x="4485" y="95"/>
                      <a:pt x="4486" y="99"/>
                    </a:cubicBezTo>
                    <a:cubicBezTo>
                      <a:pt x="4484" y="103"/>
                      <a:pt x="4483" y="108"/>
                      <a:pt x="4482" y="112"/>
                    </a:cubicBezTo>
                    <a:close/>
                    <a:moveTo>
                      <a:pt x="4494" y="133"/>
                    </a:moveTo>
                    <a:cubicBezTo>
                      <a:pt x="4494" y="133"/>
                      <a:pt x="4494" y="134"/>
                      <a:pt x="4494" y="134"/>
                    </a:cubicBezTo>
                    <a:cubicBezTo>
                      <a:pt x="4494" y="134"/>
                      <a:pt x="4494" y="134"/>
                      <a:pt x="4494" y="134"/>
                    </a:cubicBezTo>
                    <a:cubicBezTo>
                      <a:pt x="4494" y="134"/>
                      <a:pt x="4494" y="133"/>
                      <a:pt x="4494" y="133"/>
                    </a:cubicBezTo>
                    <a:cubicBezTo>
                      <a:pt x="4495" y="126"/>
                      <a:pt x="4496" y="117"/>
                      <a:pt x="4497" y="107"/>
                    </a:cubicBezTo>
                    <a:cubicBezTo>
                      <a:pt x="4497" y="110"/>
                      <a:pt x="4497" y="114"/>
                      <a:pt x="4497" y="117"/>
                    </a:cubicBezTo>
                    <a:cubicBezTo>
                      <a:pt x="4496" y="123"/>
                      <a:pt x="4495" y="129"/>
                      <a:pt x="4494" y="133"/>
                    </a:cubicBezTo>
                    <a:close/>
                    <a:moveTo>
                      <a:pt x="4499" y="159"/>
                    </a:move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lose/>
                    <a:moveTo>
                      <a:pt x="4540" y="143"/>
                    </a:moveTo>
                    <a:cubicBezTo>
                      <a:pt x="4540" y="142"/>
                      <a:pt x="4540" y="142"/>
                      <a:pt x="4540" y="141"/>
                    </a:cubicBezTo>
                    <a:cubicBezTo>
                      <a:pt x="4540" y="135"/>
                      <a:pt x="4541" y="127"/>
                      <a:pt x="4541" y="117"/>
                    </a:cubicBezTo>
                    <a:cubicBezTo>
                      <a:pt x="4542" y="121"/>
                      <a:pt x="4542" y="125"/>
                      <a:pt x="4542" y="129"/>
                    </a:cubicBezTo>
                    <a:cubicBezTo>
                      <a:pt x="4541" y="135"/>
                      <a:pt x="4541" y="139"/>
                      <a:pt x="4540" y="143"/>
                    </a:cubicBezTo>
                    <a:close/>
                    <a:moveTo>
                      <a:pt x="4544" y="117"/>
                    </a:moveTo>
                    <a:cubicBezTo>
                      <a:pt x="4543" y="115"/>
                      <a:pt x="4542" y="113"/>
                      <a:pt x="4542" y="111"/>
                    </a:cubicBezTo>
                    <a:cubicBezTo>
                      <a:pt x="4542" y="108"/>
                      <a:pt x="4542" y="104"/>
                      <a:pt x="4543" y="100"/>
                    </a:cubicBezTo>
                    <a:cubicBezTo>
                      <a:pt x="4544" y="103"/>
                      <a:pt x="4544" y="106"/>
                      <a:pt x="4545" y="108"/>
                    </a:cubicBezTo>
                    <a:cubicBezTo>
                      <a:pt x="4544" y="111"/>
                      <a:pt x="4544" y="114"/>
                      <a:pt x="4544" y="117"/>
                    </a:cubicBezTo>
                    <a:close/>
                    <a:moveTo>
                      <a:pt x="4552" y="133"/>
                    </a:moveTo>
                    <a:cubicBezTo>
                      <a:pt x="4552" y="133"/>
                      <a:pt x="4552" y="133"/>
                      <a:pt x="4552" y="133"/>
                    </a:cubicBezTo>
                    <a:cubicBezTo>
                      <a:pt x="4552" y="130"/>
                      <a:pt x="4553" y="127"/>
                      <a:pt x="4553" y="124"/>
                    </a:cubicBezTo>
                    <a:cubicBezTo>
                      <a:pt x="4553" y="125"/>
                      <a:pt x="4553" y="126"/>
                      <a:pt x="4553" y="128"/>
                    </a:cubicBezTo>
                    <a:cubicBezTo>
                      <a:pt x="4553" y="130"/>
                      <a:pt x="4552" y="131"/>
                      <a:pt x="4552" y="133"/>
                    </a:cubicBezTo>
                    <a:close/>
                    <a:moveTo>
                      <a:pt x="4589" y="142"/>
                    </a:moveTo>
                    <a:cubicBezTo>
                      <a:pt x="4589" y="139"/>
                      <a:pt x="4589" y="134"/>
                      <a:pt x="4589" y="128"/>
                    </a:cubicBezTo>
                    <a:cubicBezTo>
                      <a:pt x="4589" y="130"/>
                      <a:pt x="4589" y="132"/>
                      <a:pt x="4590" y="133"/>
                    </a:cubicBezTo>
                    <a:cubicBezTo>
                      <a:pt x="4589" y="139"/>
                      <a:pt x="4589" y="142"/>
                      <a:pt x="4589" y="142"/>
                    </a:cubicBezTo>
                    <a:close/>
                    <a:moveTo>
                      <a:pt x="4610" y="135"/>
                    </a:moveTo>
                    <a:cubicBezTo>
                      <a:pt x="4610" y="134"/>
                      <a:pt x="4610" y="134"/>
                      <a:pt x="4610" y="133"/>
                    </a:cubicBezTo>
                    <a:cubicBezTo>
                      <a:pt x="4610" y="121"/>
                      <a:pt x="4610" y="103"/>
                      <a:pt x="4609" y="88"/>
                    </a:cubicBezTo>
                    <a:cubicBezTo>
                      <a:pt x="4611" y="94"/>
                      <a:pt x="4613" y="100"/>
                      <a:pt x="4614" y="106"/>
                    </a:cubicBezTo>
                    <a:cubicBezTo>
                      <a:pt x="4612" y="118"/>
                      <a:pt x="4611" y="128"/>
                      <a:pt x="4610" y="135"/>
                    </a:cubicBezTo>
                    <a:close/>
                    <a:moveTo>
                      <a:pt x="4617" y="145"/>
                    </a:moveTo>
                    <a:cubicBezTo>
                      <a:pt x="4617" y="141"/>
                      <a:pt x="4617" y="136"/>
                      <a:pt x="4617" y="129"/>
                    </a:cubicBezTo>
                    <a:cubicBezTo>
                      <a:pt x="4618" y="133"/>
                      <a:pt x="4618" y="136"/>
                      <a:pt x="4619" y="139"/>
                    </a:cubicBezTo>
                    <a:cubicBezTo>
                      <a:pt x="4618" y="143"/>
                      <a:pt x="4617" y="145"/>
                      <a:pt x="4617" y="145"/>
                    </a:cubicBezTo>
                    <a:close/>
                    <a:moveTo>
                      <a:pt x="4622" y="159"/>
                    </a:moveTo>
                    <a:cubicBezTo>
                      <a:pt x="4623" y="159"/>
                      <a:pt x="4623" y="159"/>
                      <a:pt x="4623" y="159"/>
                    </a:cubicBezTo>
                    <a:cubicBezTo>
                      <a:pt x="4623" y="159"/>
                      <a:pt x="4623" y="158"/>
                      <a:pt x="4623" y="158"/>
                    </a:cubicBezTo>
                    <a:cubicBezTo>
                      <a:pt x="4623" y="159"/>
                      <a:pt x="4624" y="160"/>
                      <a:pt x="4624" y="160"/>
                    </a:cubicBezTo>
                    <a:cubicBezTo>
                      <a:pt x="4623" y="160"/>
                      <a:pt x="4623" y="159"/>
                      <a:pt x="4622" y="159"/>
                    </a:cubicBezTo>
                    <a:close/>
                    <a:moveTo>
                      <a:pt x="4624" y="121"/>
                    </a:moveTo>
                    <a:cubicBezTo>
                      <a:pt x="4622" y="117"/>
                      <a:pt x="4621" y="114"/>
                      <a:pt x="4619" y="110"/>
                    </a:cubicBezTo>
                    <a:cubicBezTo>
                      <a:pt x="4620" y="105"/>
                      <a:pt x="4620" y="99"/>
                      <a:pt x="4621" y="94"/>
                    </a:cubicBezTo>
                    <a:cubicBezTo>
                      <a:pt x="4621" y="100"/>
                      <a:pt x="4623" y="108"/>
                      <a:pt x="4625" y="116"/>
                    </a:cubicBezTo>
                    <a:cubicBezTo>
                      <a:pt x="4624" y="118"/>
                      <a:pt x="4624" y="119"/>
                      <a:pt x="4624" y="121"/>
                    </a:cubicBezTo>
                    <a:close/>
                    <a:moveTo>
                      <a:pt x="4632" y="142"/>
                    </a:moveTo>
                    <a:cubicBezTo>
                      <a:pt x="4631" y="138"/>
                      <a:pt x="4629" y="134"/>
                      <a:pt x="4627" y="129"/>
                    </a:cubicBezTo>
                    <a:cubicBezTo>
                      <a:pt x="4627" y="129"/>
                      <a:pt x="4627" y="128"/>
                      <a:pt x="4627" y="127"/>
                    </a:cubicBezTo>
                    <a:cubicBezTo>
                      <a:pt x="4629" y="132"/>
                      <a:pt x="4630" y="137"/>
                      <a:pt x="4632" y="142"/>
                    </a:cubicBezTo>
                    <a:cubicBezTo>
                      <a:pt x="4635" y="149"/>
                      <a:pt x="4636" y="153"/>
                      <a:pt x="4637" y="155"/>
                    </a:cubicBezTo>
                    <a:cubicBezTo>
                      <a:pt x="4635" y="151"/>
                      <a:pt x="4634" y="147"/>
                      <a:pt x="4632" y="142"/>
                    </a:cubicBezTo>
                    <a:close/>
                    <a:moveTo>
                      <a:pt x="4458" y="105"/>
                    </a:moveTo>
                    <a:cubicBezTo>
                      <a:pt x="4458" y="103"/>
                      <a:pt x="4458" y="101"/>
                      <a:pt x="4457" y="99"/>
                    </a:cubicBezTo>
                    <a:cubicBezTo>
                      <a:pt x="4457" y="101"/>
                      <a:pt x="4458" y="103"/>
                      <a:pt x="4458" y="105"/>
                    </a:cubicBezTo>
                    <a:close/>
                    <a:moveTo>
                      <a:pt x="4466" y="65"/>
                    </a:moveTo>
                    <a:cubicBezTo>
                      <a:pt x="4466" y="64"/>
                      <a:pt x="4466" y="63"/>
                      <a:pt x="4466" y="63"/>
                    </a:cubicBezTo>
                    <a:cubicBezTo>
                      <a:pt x="4466" y="63"/>
                      <a:pt x="4466" y="64"/>
                      <a:pt x="4466" y="65"/>
                    </a:cubicBezTo>
                    <a:close/>
                    <a:moveTo>
                      <a:pt x="4065" y="79"/>
                    </a:moveTo>
                    <a:cubicBezTo>
                      <a:pt x="4066" y="76"/>
                      <a:pt x="4067" y="73"/>
                      <a:pt x="4068" y="70"/>
                    </a:cubicBezTo>
                    <a:cubicBezTo>
                      <a:pt x="4067" y="73"/>
                      <a:pt x="4066" y="76"/>
                      <a:pt x="4065" y="79"/>
                    </a:cubicBezTo>
                    <a:close/>
                    <a:moveTo>
                      <a:pt x="3886" y="79"/>
                    </a:moveTo>
                    <a:cubicBezTo>
                      <a:pt x="3885" y="76"/>
                      <a:pt x="3884" y="73"/>
                      <a:pt x="3882" y="70"/>
                    </a:cubicBezTo>
                    <a:cubicBezTo>
                      <a:pt x="3884" y="73"/>
                      <a:pt x="3885" y="76"/>
                      <a:pt x="3886" y="79"/>
                    </a:cubicBezTo>
                    <a:close/>
                    <a:moveTo>
                      <a:pt x="2267" y="79"/>
                    </a:moveTo>
                    <a:cubicBezTo>
                      <a:pt x="2268" y="76"/>
                      <a:pt x="2269" y="73"/>
                      <a:pt x="2270" y="70"/>
                    </a:cubicBezTo>
                    <a:cubicBezTo>
                      <a:pt x="2269" y="73"/>
                      <a:pt x="2268" y="76"/>
                      <a:pt x="2267" y="79"/>
                    </a:cubicBezTo>
                    <a:close/>
                    <a:moveTo>
                      <a:pt x="3115" y="83"/>
                    </a:moveTo>
                    <a:cubicBezTo>
                      <a:pt x="3114" y="81"/>
                      <a:pt x="3113" y="79"/>
                      <a:pt x="3112" y="78"/>
                    </a:cubicBezTo>
                    <a:cubicBezTo>
                      <a:pt x="3113" y="79"/>
                      <a:pt x="3114" y="81"/>
                      <a:pt x="3115" y="83"/>
                    </a:cubicBezTo>
                    <a:close/>
                    <a:moveTo>
                      <a:pt x="290" y="79"/>
                    </a:moveTo>
                    <a:cubicBezTo>
                      <a:pt x="289" y="76"/>
                      <a:pt x="288" y="73"/>
                      <a:pt x="287" y="70"/>
                    </a:cubicBezTo>
                    <a:cubicBezTo>
                      <a:pt x="288" y="73"/>
                      <a:pt x="289" y="76"/>
                      <a:pt x="290" y="79"/>
                    </a:cubicBezTo>
                    <a:close/>
                    <a:moveTo>
                      <a:pt x="469" y="79"/>
                    </a:moveTo>
                    <a:cubicBezTo>
                      <a:pt x="470" y="76"/>
                      <a:pt x="471" y="73"/>
                      <a:pt x="472" y="70"/>
                    </a:cubicBezTo>
                    <a:cubicBezTo>
                      <a:pt x="471" y="73"/>
                      <a:pt x="470" y="76"/>
                      <a:pt x="469" y="79"/>
                    </a:cubicBezTo>
                    <a:close/>
                    <a:moveTo>
                      <a:pt x="1317" y="83"/>
                    </a:moveTo>
                    <a:cubicBezTo>
                      <a:pt x="1316" y="81"/>
                      <a:pt x="1315" y="79"/>
                      <a:pt x="1314" y="78"/>
                    </a:cubicBezTo>
                    <a:cubicBezTo>
                      <a:pt x="1315" y="79"/>
                      <a:pt x="1316" y="81"/>
                      <a:pt x="1317" y="83"/>
                    </a:cubicBezTo>
                    <a:close/>
                    <a:moveTo>
                      <a:pt x="3042" y="83"/>
                    </a:moveTo>
                    <a:cubicBezTo>
                      <a:pt x="3040" y="80"/>
                      <a:pt x="3039" y="77"/>
                      <a:pt x="3038" y="75"/>
                    </a:cubicBezTo>
                    <a:cubicBezTo>
                      <a:pt x="3039" y="78"/>
                      <a:pt x="3040" y="80"/>
                      <a:pt x="3042" y="83"/>
                    </a:cubicBezTo>
                    <a:close/>
                    <a:moveTo>
                      <a:pt x="2683" y="105"/>
                    </a:moveTo>
                    <a:cubicBezTo>
                      <a:pt x="2683" y="103"/>
                      <a:pt x="2683" y="101"/>
                      <a:pt x="2683" y="99"/>
                    </a:cubicBezTo>
                    <a:cubicBezTo>
                      <a:pt x="2683" y="101"/>
                      <a:pt x="2683" y="103"/>
                      <a:pt x="2683" y="105"/>
                    </a:cubicBezTo>
                    <a:close/>
                    <a:moveTo>
                      <a:pt x="2088" y="79"/>
                    </a:moveTo>
                    <a:cubicBezTo>
                      <a:pt x="2087" y="76"/>
                      <a:pt x="2086" y="73"/>
                      <a:pt x="2084" y="70"/>
                    </a:cubicBezTo>
                    <a:cubicBezTo>
                      <a:pt x="2086" y="73"/>
                      <a:pt x="2087" y="76"/>
                      <a:pt x="2088" y="79"/>
                    </a:cubicBezTo>
                    <a:close/>
                    <a:moveTo>
                      <a:pt x="4481" y="105"/>
                    </a:moveTo>
                    <a:cubicBezTo>
                      <a:pt x="4481" y="103"/>
                      <a:pt x="4481" y="101"/>
                      <a:pt x="4481" y="99"/>
                    </a:cubicBezTo>
                    <a:cubicBezTo>
                      <a:pt x="4481" y="101"/>
                      <a:pt x="4481" y="103"/>
                      <a:pt x="4481" y="105"/>
                    </a:cubicBezTo>
                    <a:close/>
                    <a:moveTo>
                      <a:pt x="1244" y="83"/>
                    </a:moveTo>
                    <a:cubicBezTo>
                      <a:pt x="1242" y="80"/>
                      <a:pt x="1241" y="77"/>
                      <a:pt x="1240" y="75"/>
                    </a:cubicBezTo>
                    <a:cubicBezTo>
                      <a:pt x="1241" y="78"/>
                      <a:pt x="1242" y="80"/>
                      <a:pt x="1244" y="83"/>
                    </a:cubicBezTo>
                    <a:close/>
                    <a:moveTo>
                      <a:pt x="3941" y="33"/>
                    </a:moveTo>
                    <a:cubicBezTo>
                      <a:pt x="3941" y="30"/>
                      <a:pt x="3941" y="28"/>
                      <a:pt x="3940" y="25"/>
                    </a:cubicBezTo>
                    <a:cubicBezTo>
                      <a:pt x="3940" y="25"/>
                      <a:pt x="3941" y="28"/>
                      <a:pt x="3941" y="33"/>
                    </a:cubicBezTo>
                    <a:close/>
                    <a:moveTo>
                      <a:pt x="3210" y="88"/>
                    </a:moveTo>
                    <a:cubicBezTo>
                      <a:pt x="3209" y="86"/>
                      <a:pt x="3208" y="83"/>
                      <a:pt x="3206" y="81"/>
                    </a:cubicBezTo>
                    <a:cubicBezTo>
                      <a:pt x="3207" y="83"/>
                      <a:pt x="3209" y="86"/>
                      <a:pt x="3210" y="88"/>
                    </a:cubicBezTo>
                    <a:close/>
                    <a:moveTo>
                      <a:pt x="3068" y="81"/>
                    </a:moveTo>
                    <a:cubicBezTo>
                      <a:pt x="3062" y="61"/>
                      <a:pt x="3051" y="46"/>
                      <a:pt x="3035" y="25"/>
                    </a:cubicBezTo>
                    <a:cubicBezTo>
                      <a:pt x="3051" y="48"/>
                      <a:pt x="3061" y="64"/>
                      <a:pt x="3068" y="81"/>
                    </a:cubicBezTo>
                    <a:close/>
                    <a:moveTo>
                      <a:pt x="3078" y="79"/>
                    </a:moveTo>
                    <a:cubicBezTo>
                      <a:pt x="3077" y="76"/>
                      <a:pt x="3076" y="73"/>
                      <a:pt x="3074" y="70"/>
                    </a:cubicBezTo>
                    <a:cubicBezTo>
                      <a:pt x="3075" y="73"/>
                      <a:pt x="3077" y="76"/>
                      <a:pt x="3078" y="79"/>
                    </a:cubicBezTo>
                    <a:close/>
                    <a:moveTo>
                      <a:pt x="3317" y="102"/>
                    </a:moveTo>
                    <a:cubicBezTo>
                      <a:pt x="3316" y="100"/>
                      <a:pt x="3315" y="97"/>
                      <a:pt x="3314" y="96"/>
                    </a:cubicBezTo>
                    <a:cubicBezTo>
                      <a:pt x="3315" y="98"/>
                      <a:pt x="3316" y="100"/>
                      <a:pt x="3317" y="102"/>
                    </a:cubicBezTo>
                    <a:close/>
                    <a:moveTo>
                      <a:pt x="3531" y="109"/>
                    </a:moveTo>
                    <a:cubicBezTo>
                      <a:pt x="3530" y="104"/>
                      <a:pt x="3530" y="99"/>
                      <a:pt x="3529" y="95"/>
                    </a:cubicBezTo>
                    <a:cubicBezTo>
                      <a:pt x="3529" y="99"/>
                      <a:pt x="3530" y="104"/>
                      <a:pt x="3531" y="109"/>
                    </a:cubicBezTo>
                    <a:close/>
                    <a:moveTo>
                      <a:pt x="3370" y="100"/>
                    </a:moveTo>
                    <a:cubicBezTo>
                      <a:pt x="3370" y="97"/>
                      <a:pt x="3369" y="95"/>
                      <a:pt x="3368" y="93"/>
                    </a:cubicBezTo>
                    <a:cubicBezTo>
                      <a:pt x="3369" y="96"/>
                      <a:pt x="3370" y="98"/>
                      <a:pt x="3370" y="100"/>
                    </a:cubicBezTo>
                    <a:close/>
                    <a:moveTo>
                      <a:pt x="3610" y="81"/>
                    </a:moveTo>
                    <a:cubicBezTo>
                      <a:pt x="3608" y="75"/>
                      <a:pt x="3606" y="70"/>
                      <a:pt x="3604" y="67"/>
                    </a:cubicBezTo>
                    <a:cubicBezTo>
                      <a:pt x="3604" y="67"/>
                      <a:pt x="3607" y="72"/>
                      <a:pt x="3610" y="81"/>
                    </a:cubicBezTo>
                    <a:close/>
                    <a:moveTo>
                      <a:pt x="2720" y="54"/>
                    </a:moveTo>
                    <a:cubicBezTo>
                      <a:pt x="2720" y="53"/>
                      <a:pt x="2719" y="52"/>
                      <a:pt x="2719" y="52"/>
                    </a:cubicBezTo>
                    <a:cubicBezTo>
                      <a:pt x="2720" y="53"/>
                      <a:pt x="2720" y="53"/>
                      <a:pt x="2720" y="54"/>
                    </a:cubicBezTo>
                    <a:close/>
                    <a:moveTo>
                      <a:pt x="2715" y="90"/>
                    </a:moveTo>
                    <a:cubicBezTo>
                      <a:pt x="2715" y="89"/>
                      <a:pt x="2714" y="87"/>
                      <a:pt x="2713" y="86"/>
                    </a:cubicBezTo>
                    <a:cubicBezTo>
                      <a:pt x="2714" y="87"/>
                      <a:pt x="2715" y="89"/>
                      <a:pt x="2715" y="90"/>
                    </a:cubicBezTo>
                    <a:close/>
                    <a:moveTo>
                      <a:pt x="2835" y="54"/>
                    </a:moveTo>
                    <a:cubicBezTo>
                      <a:pt x="2835" y="54"/>
                      <a:pt x="2835" y="65"/>
                      <a:pt x="2834" y="84"/>
                    </a:cubicBezTo>
                    <a:cubicBezTo>
                      <a:pt x="2836" y="72"/>
                      <a:pt x="2837" y="60"/>
                      <a:pt x="2835" y="54"/>
                    </a:cubicBezTo>
                    <a:close/>
                    <a:moveTo>
                      <a:pt x="2890" y="106"/>
                    </a:moveTo>
                    <a:cubicBezTo>
                      <a:pt x="2890" y="103"/>
                      <a:pt x="2889" y="100"/>
                      <a:pt x="2889" y="96"/>
                    </a:cubicBezTo>
                    <a:cubicBezTo>
                      <a:pt x="2889" y="99"/>
                      <a:pt x="2890" y="103"/>
                      <a:pt x="2890" y="106"/>
                    </a:cubicBezTo>
                    <a:close/>
                    <a:moveTo>
                      <a:pt x="2795" y="47"/>
                    </a:moveTo>
                    <a:cubicBezTo>
                      <a:pt x="2795" y="39"/>
                      <a:pt x="2795" y="33"/>
                      <a:pt x="2793" y="30"/>
                    </a:cubicBezTo>
                    <a:cubicBezTo>
                      <a:pt x="2793" y="30"/>
                      <a:pt x="2794" y="37"/>
                      <a:pt x="2795" y="47"/>
                    </a:cubicBezTo>
                    <a:close/>
                    <a:moveTo>
                      <a:pt x="3995" y="44"/>
                    </a:moveTo>
                    <a:cubicBezTo>
                      <a:pt x="3995" y="43"/>
                      <a:pt x="3995" y="41"/>
                      <a:pt x="3995" y="40"/>
                    </a:cubicBezTo>
                    <a:cubicBezTo>
                      <a:pt x="3995" y="40"/>
                      <a:pt x="3995" y="42"/>
                      <a:pt x="3995" y="44"/>
                    </a:cubicBezTo>
                    <a:close/>
                    <a:moveTo>
                      <a:pt x="4211" y="68"/>
                    </a:moveTo>
                    <a:cubicBezTo>
                      <a:pt x="4211" y="65"/>
                      <a:pt x="4210" y="64"/>
                      <a:pt x="4210" y="64"/>
                    </a:cubicBezTo>
                    <a:cubicBezTo>
                      <a:pt x="4210" y="64"/>
                      <a:pt x="4211" y="66"/>
                      <a:pt x="4211" y="68"/>
                    </a:cubicBezTo>
                    <a:close/>
                    <a:moveTo>
                      <a:pt x="3956" y="52"/>
                    </a:moveTo>
                    <a:cubicBezTo>
                      <a:pt x="3956" y="50"/>
                      <a:pt x="3956" y="49"/>
                      <a:pt x="3956" y="49"/>
                    </a:cubicBezTo>
                    <a:cubicBezTo>
                      <a:pt x="3956" y="50"/>
                      <a:pt x="3956" y="51"/>
                      <a:pt x="3956" y="52"/>
                    </a:cubicBezTo>
                    <a:close/>
                    <a:moveTo>
                      <a:pt x="2672" y="52"/>
                    </a:moveTo>
                    <a:cubicBezTo>
                      <a:pt x="2672" y="50"/>
                      <a:pt x="2672" y="49"/>
                      <a:pt x="2672" y="49"/>
                    </a:cubicBezTo>
                    <a:cubicBezTo>
                      <a:pt x="2672" y="50"/>
                      <a:pt x="2672" y="51"/>
                      <a:pt x="2672" y="52"/>
                    </a:cubicBezTo>
                    <a:close/>
                    <a:moveTo>
                      <a:pt x="4169" y="66"/>
                    </a:moveTo>
                    <a:cubicBezTo>
                      <a:pt x="4169" y="63"/>
                      <a:pt x="4169" y="61"/>
                      <a:pt x="4170" y="59"/>
                    </a:cubicBezTo>
                    <a:cubicBezTo>
                      <a:pt x="4170" y="59"/>
                      <a:pt x="4169" y="62"/>
                      <a:pt x="4169" y="66"/>
                    </a:cubicBezTo>
                    <a:close/>
                    <a:moveTo>
                      <a:pt x="4178" y="100"/>
                    </a:moveTo>
                    <a:cubicBezTo>
                      <a:pt x="4178" y="97"/>
                      <a:pt x="4177" y="95"/>
                      <a:pt x="4177" y="93"/>
                    </a:cubicBezTo>
                    <a:cubicBezTo>
                      <a:pt x="4177" y="96"/>
                      <a:pt x="4178" y="98"/>
                      <a:pt x="4178" y="100"/>
                    </a:cubicBezTo>
                    <a:close/>
                    <a:moveTo>
                      <a:pt x="3772" y="100"/>
                    </a:moveTo>
                    <a:cubicBezTo>
                      <a:pt x="3773" y="98"/>
                      <a:pt x="3773" y="96"/>
                      <a:pt x="3774" y="93"/>
                    </a:cubicBezTo>
                    <a:cubicBezTo>
                      <a:pt x="3773" y="95"/>
                      <a:pt x="3773" y="97"/>
                      <a:pt x="3772" y="100"/>
                    </a:cubicBezTo>
                    <a:close/>
                    <a:moveTo>
                      <a:pt x="3923" y="83"/>
                    </a:moveTo>
                    <a:cubicBezTo>
                      <a:pt x="3922" y="81"/>
                      <a:pt x="3921" y="79"/>
                      <a:pt x="3920" y="78"/>
                    </a:cubicBezTo>
                    <a:cubicBezTo>
                      <a:pt x="3921" y="79"/>
                      <a:pt x="3922" y="81"/>
                      <a:pt x="3923" y="83"/>
                    </a:cubicBezTo>
                    <a:close/>
                    <a:moveTo>
                      <a:pt x="3726" y="68"/>
                    </a:moveTo>
                    <a:cubicBezTo>
                      <a:pt x="3726" y="66"/>
                      <a:pt x="3726" y="65"/>
                      <a:pt x="3726" y="64"/>
                    </a:cubicBezTo>
                    <a:cubicBezTo>
                      <a:pt x="3726" y="64"/>
                      <a:pt x="3726" y="65"/>
                      <a:pt x="3726" y="68"/>
                    </a:cubicBezTo>
                    <a:close/>
                    <a:moveTo>
                      <a:pt x="3705" y="90"/>
                    </a:moveTo>
                    <a:cubicBezTo>
                      <a:pt x="3705" y="89"/>
                      <a:pt x="3704" y="87"/>
                      <a:pt x="3703" y="86"/>
                    </a:cubicBezTo>
                    <a:cubicBezTo>
                      <a:pt x="3704" y="87"/>
                      <a:pt x="3704" y="89"/>
                      <a:pt x="3705" y="90"/>
                    </a:cubicBezTo>
                    <a:close/>
                    <a:moveTo>
                      <a:pt x="3648" y="13"/>
                    </a:moveTo>
                    <a:cubicBezTo>
                      <a:pt x="3648" y="12"/>
                      <a:pt x="3648" y="12"/>
                      <a:pt x="3648" y="12"/>
                    </a:cubicBezTo>
                    <a:cubicBezTo>
                      <a:pt x="3648" y="12"/>
                      <a:pt x="3648" y="13"/>
                      <a:pt x="3648" y="13"/>
                    </a:cubicBezTo>
                    <a:close/>
                    <a:moveTo>
                      <a:pt x="3770" y="61"/>
                    </a:moveTo>
                    <a:cubicBezTo>
                      <a:pt x="3770" y="55"/>
                      <a:pt x="3769" y="49"/>
                      <a:pt x="3768" y="44"/>
                    </a:cubicBezTo>
                    <a:cubicBezTo>
                      <a:pt x="3768" y="44"/>
                      <a:pt x="3769" y="51"/>
                      <a:pt x="3770" y="6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12109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38"/>
              <p:cNvSpPr/>
              <p:nvPr/>
            </p:nvSpPr>
            <p:spPr>
              <a:xfrm flipV="1">
                <a:off x="-131400" y="3043800"/>
                <a:ext cx="15131880" cy="528480"/>
              </a:xfrm>
              <a:custGeom>
                <a:avLst/>
                <a:gdLst/>
                <a:ahLst/>
                <a:rect l="l" t="t" r="r" b="b"/>
                <a:pathLst>
                  <a:path w="4763" h="166">
                    <a:moveTo>
                      <a:pt x="1928" y="68"/>
                    </a:moveTo>
                    <a:cubicBezTo>
                      <a:pt x="1928" y="66"/>
                      <a:pt x="1928" y="65"/>
                      <a:pt x="1928" y="64"/>
                    </a:cubicBezTo>
                    <a:cubicBezTo>
                      <a:pt x="1928" y="65"/>
                      <a:pt x="1928" y="66"/>
                      <a:pt x="1928" y="68"/>
                    </a:cubicBezTo>
                    <a:close/>
                    <a:moveTo>
                      <a:pt x="1972" y="61"/>
                    </a:moveTo>
                    <a:cubicBezTo>
                      <a:pt x="1972" y="55"/>
                      <a:pt x="1971" y="49"/>
                      <a:pt x="1970" y="44"/>
                    </a:cubicBezTo>
                    <a:cubicBezTo>
                      <a:pt x="1970" y="44"/>
                      <a:pt x="1971" y="51"/>
                      <a:pt x="1972" y="61"/>
                    </a:cubicBezTo>
                    <a:close/>
                    <a:moveTo>
                      <a:pt x="1907" y="90"/>
                    </a:moveTo>
                    <a:cubicBezTo>
                      <a:pt x="1907" y="89"/>
                      <a:pt x="1906" y="87"/>
                      <a:pt x="1905" y="86"/>
                    </a:cubicBezTo>
                    <a:cubicBezTo>
                      <a:pt x="1906" y="87"/>
                      <a:pt x="1906" y="89"/>
                      <a:pt x="1907" y="90"/>
                    </a:cubicBezTo>
                    <a:close/>
                    <a:moveTo>
                      <a:pt x="1733" y="109"/>
                    </a:moveTo>
                    <a:cubicBezTo>
                      <a:pt x="1732" y="104"/>
                      <a:pt x="1732" y="99"/>
                      <a:pt x="1731" y="95"/>
                    </a:cubicBezTo>
                    <a:cubicBezTo>
                      <a:pt x="1731" y="99"/>
                      <a:pt x="1732" y="104"/>
                      <a:pt x="1733" y="109"/>
                    </a:cubicBezTo>
                    <a:close/>
                    <a:moveTo>
                      <a:pt x="1412" y="88"/>
                    </a:moveTo>
                    <a:cubicBezTo>
                      <a:pt x="1411" y="86"/>
                      <a:pt x="1410" y="83"/>
                      <a:pt x="1408" y="81"/>
                    </a:cubicBezTo>
                    <a:cubicBezTo>
                      <a:pt x="1409" y="83"/>
                      <a:pt x="1411" y="86"/>
                      <a:pt x="1412" y="88"/>
                    </a:cubicBezTo>
                    <a:close/>
                    <a:moveTo>
                      <a:pt x="1519" y="102"/>
                    </a:moveTo>
                    <a:cubicBezTo>
                      <a:pt x="1518" y="100"/>
                      <a:pt x="1517" y="97"/>
                      <a:pt x="1516" y="96"/>
                    </a:cubicBezTo>
                    <a:cubicBezTo>
                      <a:pt x="1517" y="98"/>
                      <a:pt x="1518" y="100"/>
                      <a:pt x="1519" y="102"/>
                    </a:cubicBezTo>
                    <a:close/>
                    <a:moveTo>
                      <a:pt x="1280" y="79"/>
                    </a:moveTo>
                    <a:cubicBezTo>
                      <a:pt x="1279" y="76"/>
                      <a:pt x="1278" y="73"/>
                      <a:pt x="1276" y="70"/>
                    </a:cubicBezTo>
                    <a:cubicBezTo>
                      <a:pt x="1278" y="73"/>
                      <a:pt x="1279" y="76"/>
                      <a:pt x="1280" y="79"/>
                    </a:cubicBezTo>
                    <a:close/>
                    <a:moveTo>
                      <a:pt x="1270" y="81"/>
                    </a:moveTo>
                    <a:cubicBezTo>
                      <a:pt x="1264" y="61"/>
                      <a:pt x="1253" y="46"/>
                      <a:pt x="1237" y="25"/>
                    </a:cubicBezTo>
                    <a:cubicBezTo>
                      <a:pt x="1253" y="48"/>
                      <a:pt x="1263" y="64"/>
                      <a:pt x="1270" y="81"/>
                    </a:cubicBezTo>
                    <a:close/>
                    <a:moveTo>
                      <a:pt x="1572" y="100"/>
                    </a:moveTo>
                    <a:cubicBezTo>
                      <a:pt x="1572" y="97"/>
                      <a:pt x="1571" y="95"/>
                      <a:pt x="1570" y="93"/>
                    </a:cubicBezTo>
                    <a:cubicBezTo>
                      <a:pt x="1571" y="96"/>
                      <a:pt x="1572" y="98"/>
                      <a:pt x="1572" y="100"/>
                    </a:cubicBezTo>
                    <a:close/>
                    <a:moveTo>
                      <a:pt x="1812" y="81"/>
                    </a:moveTo>
                    <a:cubicBezTo>
                      <a:pt x="1810" y="75"/>
                      <a:pt x="1808" y="70"/>
                      <a:pt x="1806" y="67"/>
                    </a:cubicBezTo>
                    <a:cubicBezTo>
                      <a:pt x="1806" y="67"/>
                      <a:pt x="1809" y="72"/>
                      <a:pt x="1812" y="81"/>
                    </a:cubicBezTo>
                    <a:close/>
                    <a:moveTo>
                      <a:pt x="1850" y="13"/>
                    </a:moveTo>
                    <a:cubicBezTo>
                      <a:pt x="1850" y="12"/>
                      <a:pt x="1850" y="12"/>
                      <a:pt x="1850" y="12"/>
                    </a:cubicBezTo>
                    <a:cubicBezTo>
                      <a:pt x="1850" y="12"/>
                      <a:pt x="1850" y="13"/>
                      <a:pt x="1850" y="13"/>
                    </a:cubicBezTo>
                    <a:close/>
                    <a:moveTo>
                      <a:pt x="1974" y="100"/>
                    </a:moveTo>
                    <a:cubicBezTo>
                      <a:pt x="1975" y="98"/>
                      <a:pt x="1975" y="96"/>
                      <a:pt x="1976" y="93"/>
                    </a:cubicBezTo>
                    <a:cubicBezTo>
                      <a:pt x="1975" y="95"/>
                      <a:pt x="1975" y="97"/>
                      <a:pt x="1974" y="100"/>
                    </a:cubicBezTo>
                    <a:close/>
                    <a:moveTo>
                      <a:pt x="2660" y="105"/>
                    </a:moveTo>
                    <a:cubicBezTo>
                      <a:pt x="2660" y="103"/>
                      <a:pt x="2660" y="101"/>
                      <a:pt x="2659" y="99"/>
                    </a:cubicBezTo>
                    <a:cubicBezTo>
                      <a:pt x="2659" y="101"/>
                      <a:pt x="2660" y="103"/>
                      <a:pt x="2660" y="105"/>
                    </a:cubicBezTo>
                    <a:close/>
                    <a:moveTo>
                      <a:pt x="2371" y="66"/>
                    </a:moveTo>
                    <a:cubicBezTo>
                      <a:pt x="2371" y="63"/>
                      <a:pt x="2371" y="61"/>
                      <a:pt x="2372" y="59"/>
                    </a:cubicBezTo>
                    <a:cubicBezTo>
                      <a:pt x="2372" y="59"/>
                      <a:pt x="2371" y="62"/>
                      <a:pt x="2371" y="66"/>
                    </a:cubicBezTo>
                    <a:close/>
                    <a:moveTo>
                      <a:pt x="2380" y="100"/>
                    </a:moveTo>
                    <a:cubicBezTo>
                      <a:pt x="2380" y="97"/>
                      <a:pt x="2379" y="95"/>
                      <a:pt x="2379" y="93"/>
                    </a:cubicBezTo>
                    <a:cubicBezTo>
                      <a:pt x="2379" y="96"/>
                      <a:pt x="2380" y="98"/>
                      <a:pt x="2380" y="100"/>
                    </a:cubicBezTo>
                    <a:close/>
                    <a:moveTo>
                      <a:pt x="2413" y="68"/>
                    </a:moveTo>
                    <a:cubicBezTo>
                      <a:pt x="2413" y="65"/>
                      <a:pt x="2412" y="64"/>
                      <a:pt x="2412" y="64"/>
                    </a:cubicBezTo>
                    <a:cubicBezTo>
                      <a:pt x="2412" y="64"/>
                      <a:pt x="2413" y="66"/>
                      <a:pt x="2413" y="68"/>
                    </a:cubicBezTo>
                    <a:close/>
                    <a:moveTo>
                      <a:pt x="2486" y="61"/>
                    </a:moveTo>
                    <a:cubicBezTo>
                      <a:pt x="2486" y="55"/>
                      <a:pt x="2485" y="49"/>
                      <a:pt x="2484" y="44"/>
                    </a:cubicBezTo>
                    <a:cubicBezTo>
                      <a:pt x="2484" y="44"/>
                      <a:pt x="2485" y="51"/>
                      <a:pt x="2486" y="61"/>
                    </a:cubicBezTo>
                    <a:close/>
                    <a:moveTo>
                      <a:pt x="2562" y="68"/>
                    </a:moveTo>
                    <a:cubicBezTo>
                      <a:pt x="2562" y="68"/>
                      <a:pt x="2562" y="71"/>
                      <a:pt x="2562" y="75"/>
                    </a:cubicBezTo>
                    <a:cubicBezTo>
                      <a:pt x="2562" y="72"/>
                      <a:pt x="2562" y="70"/>
                      <a:pt x="2562" y="68"/>
                    </a:cubicBezTo>
                    <a:close/>
                    <a:moveTo>
                      <a:pt x="2197" y="44"/>
                    </a:moveTo>
                    <a:cubicBezTo>
                      <a:pt x="2197" y="43"/>
                      <a:pt x="2197" y="41"/>
                      <a:pt x="2197" y="40"/>
                    </a:cubicBezTo>
                    <a:cubicBezTo>
                      <a:pt x="2197" y="40"/>
                      <a:pt x="2197" y="42"/>
                      <a:pt x="2197" y="44"/>
                    </a:cubicBezTo>
                    <a:close/>
                    <a:moveTo>
                      <a:pt x="2125" y="83"/>
                    </a:moveTo>
                    <a:cubicBezTo>
                      <a:pt x="2124" y="81"/>
                      <a:pt x="2123" y="79"/>
                      <a:pt x="2122" y="78"/>
                    </a:cubicBezTo>
                    <a:cubicBezTo>
                      <a:pt x="2123" y="79"/>
                      <a:pt x="2124" y="81"/>
                      <a:pt x="2125" y="83"/>
                    </a:cubicBezTo>
                    <a:close/>
                    <a:moveTo>
                      <a:pt x="2569" y="62"/>
                    </a:moveTo>
                    <a:cubicBezTo>
                      <a:pt x="2569" y="61"/>
                      <a:pt x="2569" y="60"/>
                      <a:pt x="2569" y="60"/>
                    </a:cubicBezTo>
                    <a:cubicBezTo>
                      <a:pt x="2569" y="60"/>
                      <a:pt x="2569" y="61"/>
                      <a:pt x="2569" y="62"/>
                    </a:cubicBezTo>
                    <a:close/>
                    <a:moveTo>
                      <a:pt x="2158" y="52"/>
                    </a:moveTo>
                    <a:cubicBezTo>
                      <a:pt x="2158" y="50"/>
                      <a:pt x="2158" y="49"/>
                      <a:pt x="2158" y="49"/>
                    </a:cubicBezTo>
                    <a:cubicBezTo>
                      <a:pt x="2158" y="50"/>
                      <a:pt x="2158" y="51"/>
                      <a:pt x="2158" y="52"/>
                    </a:cubicBezTo>
                    <a:close/>
                    <a:moveTo>
                      <a:pt x="2143" y="33"/>
                    </a:moveTo>
                    <a:cubicBezTo>
                      <a:pt x="2143" y="30"/>
                      <a:pt x="2143" y="28"/>
                      <a:pt x="2142" y="25"/>
                    </a:cubicBezTo>
                    <a:cubicBezTo>
                      <a:pt x="2142" y="25"/>
                      <a:pt x="2143" y="28"/>
                      <a:pt x="2143" y="33"/>
                    </a:cubicBezTo>
                    <a:close/>
                    <a:moveTo>
                      <a:pt x="2441" y="67"/>
                    </a:moveTo>
                    <a:cubicBezTo>
                      <a:pt x="2442" y="66"/>
                      <a:pt x="2442" y="65"/>
                      <a:pt x="2441" y="64"/>
                    </a:cubicBezTo>
                    <a:cubicBezTo>
                      <a:pt x="2441" y="64"/>
                      <a:pt x="2441" y="65"/>
                      <a:pt x="2441" y="67"/>
                    </a:cubicBezTo>
                    <a:close/>
                    <a:moveTo>
                      <a:pt x="130" y="68"/>
                    </a:moveTo>
                    <a:cubicBezTo>
                      <a:pt x="130" y="66"/>
                      <a:pt x="130" y="65"/>
                      <a:pt x="130" y="64"/>
                    </a:cubicBezTo>
                    <a:cubicBezTo>
                      <a:pt x="130" y="64"/>
                      <a:pt x="130" y="65"/>
                      <a:pt x="130" y="68"/>
                    </a:cubicBezTo>
                    <a:close/>
                    <a:moveTo>
                      <a:pt x="360" y="52"/>
                    </a:moveTo>
                    <a:cubicBezTo>
                      <a:pt x="360" y="50"/>
                      <a:pt x="360" y="49"/>
                      <a:pt x="360" y="49"/>
                    </a:cubicBezTo>
                    <a:cubicBezTo>
                      <a:pt x="360" y="50"/>
                      <a:pt x="360" y="51"/>
                      <a:pt x="360" y="52"/>
                    </a:cubicBezTo>
                    <a:close/>
                    <a:moveTo>
                      <a:pt x="345" y="33"/>
                    </a:moveTo>
                    <a:cubicBezTo>
                      <a:pt x="345" y="30"/>
                      <a:pt x="345" y="28"/>
                      <a:pt x="344" y="25"/>
                    </a:cubicBezTo>
                    <a:cubicBezTo>
                      <a:pt x="344" y="25"/>
                      <a:pt x="345" y="28"/>
                      <a:pt x="345" y="33"/>
                    </a:cubicBezTo>
                    <a:close/>
                    <a:moveTo>
                      <a:pt x="327" y="83"/>
                    </a:moveTo>
                    <a:cubicBezTo>
                      <a:pt x="326" y="81"/>
                      <a:pt x="325" y="79"/>
                      <a:pt x="324" y="78"/>
                    </a:cubicBezTo>
                    <a:cubicBezTo>
                      <a:pt x="325" y="79"/>
                      <a:pt x="326" y="81"/>
                      <a:pt x="327" y="83"/>
                    </a:cubicBezTo>
                    <a:close/>
                    <a:moveTo>
                      <a:pt x="399" y="44"/>
                    </a:moveTo>
                    <a:cubicBezTo>
                      <a:pt x="399" y="43"/>
                      <a:pt x="399" y="41"/>
                      <a:pt x="399" y="40"/>
                    </a:cubicBezTo>
                    <a:cubicBezTo>
                      <a:pt x="399" y="40"/>
                      <a:pt x="399" y="42"/>
                      <a:pt x="399" y="44"/>
                    </a:cubicBezTo>
                    <a:close/>
                    <a:moveTo>
                      <a:pt x="176" y="100"/>
                    </a:moveTo>
                    <a:cubicBezTo>
                      <a:pt x="177" y="98"/>
                      <a:pt x="177" y="96"/>
                      <a:pt x="178" y="93"/>
                    </a:cubicBezTo>
                    <a:cubicBezTo>
                      <a:pt x="177" y="95"/>
                      <a:pt x="177" y="97"/>
                      <a:pt x="176" y="100"/>
                    </a:cubicBezTo>
                    <a:close/>
                    <a:moveTo>
                      <a:pt x="573" y="66"/>
                    </a:moveTo>
                    <a:cubicBezTo>
                      <a:pt x="573" y="63"/>
                      <a:pt x="574" y="61"/>
                      <a:pt x="574" y="59"/>
                    </a:cubicBezTo>
                    <a:cubicBezTo>
                      <a:pt x="574" y="59"/>
                      <a:pt x="573" y="62"/>
                      <a:pt x="573" y="66"/>
                    </a:cubicBezTo>
                    <a:close/>
                    <a:moveTo>
                      <a:pt x="14" y="81"/>
                    </a:moveTo>
                    <a:cubicBezTo>
                      <a:pt x="12" y="75"/>
                      <a:pt x="10" y="70"/>
                      <a:pt x="9" y="67"/>
                    </a:cubicBezTo>
                    <a:cubicBezTo>
                      <a:pt x="9" y="67"/>
                      <a:pt x="11" y="72"/>
                      <a:pt x="14" y="81"/>
                    </a:cubicBezTo>
                    <a:close/>
                    <a:moveTo>
                      <a:pt x="52" y="13"/>
                    </a:move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3"/>
                      <a:pt x="52" y="13"/>
                    </a:cubicBezTo>
                    <a:close/>
                    <a:moveTo>
                      <a:pt x="583" y="100"/>
                    </a:moveTo>
                    <a:cubicBezTo>
                      <a:pt x="582" y="97"/>
                      <a:pt x="582" y="95"/>
                      <a:pt x="581" y="93"/>
                    </a:cubicBezTo>
                    <a:cubicBezTo>
                      <a:pt x="581" y="96"/>
                      <a:pt x="582" y="98"/>
                      <a:pt x="583" y="100"/>
                    </a:cubicBezTo>
                    <a:close/>
                    <a:moveTo>
                      <a:pt x="2668" y="65"/>
                    </a:moveTo>
                    <a:cubicBezTo>
                      <a:pt x="2668" y="64"/>
                      <a:pt x="2668" y="63"/>
                      <a:pt x="2668" y="63"/>
                    </a:cubicBezTo>
                    <a:cubicBezTo>
                      <a:pt x="2668" y="63"/>
                      <a:pt x="2668" y="64"/>
                      <a:pt x="2668" y="65"/>
                    </a:cubicBezTo>
                    <a:close/>
                    <a:moveTo>
                      <a:pt x="109" y="90"/>
                    </a:moveTo>
                    <a:cubicBezTo>
                      <a:pt x="109" y="89"/>
                      <a:pt x="108" y="87"/>
                      <a:pt x="107" y="86"/>
                    </a:cubicBezTo>
                    <a:cubicBezTo>
                      <a:pt x="108" y="87"/>
                      <a:pt x="109" y="89"/>
                      <a:pt x="109" y="90"/>
                    </a:cubicBezTo>
                    <a:close/>
                    <a:moveTo>
                      <a:pt x="174" y="61"/>
                    </a:moveTo>
                    <a:cubicBezTo>
                      <a:pt x="174" y="55"/>
                      <a:pt x="174" y="49"/>
                      <a:pt x="172" y="44"/>
                    </a:cubicBezTo>
                    <a:cubicBezTo>
                      <a:pt x="172" y="44"/>
                      <a:pt x="173" y="51"/>
                      <a:pt x="174" y="61"/>
                    </a:cubicBezTo>
                    <a:close/>
                    <a:moveTo>
                      <a:pt x="615" y="68"/>
                    </a:moveTo>
                    <a:cubicBezTo>
                      <a:pt x="615" y="65"/>
                      <a:pt x="614" y="64"/>
                      <a:pt x="614" y="64"/>
                    </a:cubicBezTo>
                    <a:cubicBezTo>
                      <a:pt x="614" y="64"/>
                      <a:pt x="615" y="66"/>
                      <a:pt x="615" y="68"/>
                    </a:cubicBezTo>
                    <a:close/>
                    <a:moveTo>
                      <a:pt x="922" y="54"/>
                    </a:moveTo>
                    <a:cubicBezTo>
                      <a:pt x="922" y="53"/>
                      <a:pt x="922" y="52"/>
                      <a:pt x="922" y="52"/>
                    </a:cubicBezTo>
                    <a:cubicBezTo>
                      <a:pt x="922" y="53"/>
                      <a:pt x="922" y="53"/>
                      <a:pt x="922" y="54"/>
                    </a:cubicBezTo>
                    <a:close/>
                    <a:moveTo>
                      <a:pt x="870" y="65"/>
                    </a:moveTo>
                    <a:cubicBezTo>
                      <a:pt x="870" y="64"/>
                      <a:pt x="870" y="63"/>
                      <a:pt x="870" y="63"/>
                    </a:cubicBezTo>
                    <a:cubicBezTo>
                      <a:pt x="870" y="63"/>
                      <a:pt x="870" y="64"/>
                      <a:pt x="870" y="65"/>
                    </a:cubicBezTo>
                    <a:close/>
                    <a:moveTo>
                      <a:pt x="874" y="52"/>
                    </a:moveTo>
                    <a:cubicBezTo>
                      <a:pt x="874" y="50"/>
                      <a:pt x="874" y="49"/>
                      <a:pt x="874" y="49"/>
                    </a:cubicBezTo>
                    <a:cubicBezTo>
                      <a:pt x="874" y="50"/>
                      <a:pt x="874" y="51"/>
                      <a:pt x="874" y="52"/>
                    </a:cubicBezTo>
                    <a:close/>
                    <a:moveTo>
                      <a:pt x="918" y="90"/>
                    </a:moveTo>
                    <a:cubicBezTo>
                      <a:pt x="917" y="89"/>
                      <a:pt x="916" y="87"/>
                      <a:pt x="915" y="86"/>
                    </a:cubicBezTo>
                    <a:cubicBezTo>
                      <a:pt x="916" y="87"/>
                      <a:pt x="917" y="89"/>
                      <a:pt x="918" y="90"/>
                    </a:cubicBezTo>
                    <a:close/>
                    <a:moveTo>
                      <a:pt x="1037" y="54"/>
                    </a:moveTo>
                    <a:cubicBezTo>
                      <a:pt x="1037" y="54"/>
                      <a:pt x="1037" y="65"/>
                      <a:pt x="1036" y="84"/>
                    </a:cubicBezTo>
                    <a:cubicBezTo>
                      <a:pt x="1038" y="72"/>
                      <a:pt x="1039" y="60"/>
                      <a:pt x="1037" y="54"/>
                    </a:cubicBezTo>
                    <a:close/>
                    <a:moveTo>
                      <a:pt x="998" y="47"/>
                    </a:moveTo>
                    <a:cubicBezTo>
                      <a:pt x="997" y="39"/>
                      <a:pt x="997" y="33"/>
                      <a:pt x="996" y="30"/>
                    </a:cubicBezTo>
                    <a:cubicBezTo>
                      <a:pt x="996" y="30"/>
                      <a:pt x="996" y="37"/>
                      <a:pt x="998" y="47"/>
                    </a:cubicBezTo>
                    <a:close/>
                    <a:moveTo>
                      <a:pt x="688" y="61"/>
                    </a:moveTo>
                    <a:cubicBezTo>
                      <a:pt x="688" y="55"/>
                      <a:pt x="687" y="49"/>
                      <a:pt x="686" y="44"/>
                    </a:cubicBezTo>
                    <a:cubicBezTo>
                      <a:pt x="686" y="44"/>
                      <a:pt x="687" y="51"/>
                      <a:pt x="688" y="61"/>
                    </a:cubicBezTo>
                    <a:close/>
                    <a:moveTo>
                      <a:pt x="862" y="105"/>
                    </a:moveTo>
                    <a:cubicBezTo>
                      <a:pt x="862" y="103"/>
                      <a:pt x="862" y="101"/>
                      <a:pt x="861" y="99"/>
                    </a:cubicBezTo>
                    <a:cubicBezTo>
                      <a:pt x="861" y="101"/>
                      <a:pt x="862" y="103"/>
                      <a:pt x="862" y="105"/>
                    </a:cubicBezTo>
                    <a:close/>
                    <a:moveTo>
                      <a:pt x="644" y="67"/>
                    </a:moveTo>
                    <a:cubicBezTo>
                      <a:pt x="644" y="66"/>
                      <a:pt x="644" y="65"/>
                      <a:pt x="644" y="64"/>
                    </a:cubicBezTo>
                    <a:cubicBezTo>
                      <a:pt x="644" y="64"/>
                      <a:pt x="644" y="65"/>
                      <a:pt x="644" y="67"/>
                    </a:cubicBezTo>
                    <a:close/>
                    <a:moveTo>
                      <a:pt x="1092" y="106"/>
                    </a:moveTo>
                    <a:cubicBezTo>
                      <a:pt x="1092" y="103"/>
                      <a:pt x="1092" y="100"/>
                      <a:pt x="1091" y="96"/>
                    </a:cubicBezTo>
                    <a:cubicBezTo>
                      <a:pt x="1091" y="99"/>
                      <a:pt x="1092" y="103"/>
                      <a:pt x="1092" y="106"/>
                    </a:cubicBezTo>
                    <a:close/>
                    <a:moveTo>
                      <a:pt x="764" y="68"/>
                    </a:moveTo>
                    <a:cubicBezTo>
                      <a:pt x="764" y="68"/>
                      <a:pt x="764" y="71"/>
                      <a:pt x="764" y="75"/>
                    </a:cubicBezTo>
                    <a:cubicBezTo>
                      <a:pt x="764" y="72"/>
                      <a:pt x="764" y="70"/>
                      <a:pt x="764" y="68"/>
                    </a:cubicBezTo>
                    <a:close/>
                    <a:moveTo>
                      <a:pt x="771" y="62"/>
                    </a:moveTo>
                    <a:cubicBezTo>
                      <a:pt x="771" y="61"/>
                      <a:pt x="771" y="60"/>
                      <a:pt x="771" y="60"/>
                    </a:cubicBezTo>
                    <a:cubicBezTo>
                      <a:pt x="771" y="60"/>
                      <a:pt x="771" y="61"/>
                      <a:pt x="771" y="62"/>
                    </a:cubicBezTo>
                    <a:close/>
                    <a:moveTo>
                      <a:pt x="4239" y="67"/>
                    </a:moveTo>
                    <a:cubicBezTo>
                      <a:pt x="4239" y="66"/>
                      <a:pt x="4240" y="65"/>
                      <a:pt x="4239" y="64"/>
                    </a:cubicBezTo>
                    <a:cubicBezTo>
                      <a:pt x="4239" y="64"/>
                      <a:pt x="4239" y="65"/>
                      <a:pt x="4239" y="67"/>
                    </a:cubicBezTo>
                    <a:close/>
                    <a:moveTo>
                      <a:pt x="4593" y="47"/>
                    </a:moveTo>
                    <a:cubicBezTo>
                      <a:pt x="4593" y="39"/>
                      <a:pt x="4593" y="33"/>
                      <a:pt x="4591" y="30"/>
                    </a:cubicBezTo>
                    <a:cubicBezTo>
                      <a:pt x="4591" y="30"/>
                      <a:pt x="4592" y="37"/>
                      <a:pt x="4593" y="47"/>
                    </a:cubicBezTo>
                    <a:close/>
                    <a:moveTo>
                      <a:pt x="4518" y="54"/>
                    </a:moveTo>
                    <a:cubicBezTo>
                      <a:pt x="4518" y="53"/>
                      <a:pt x="4517" y="52"/>
                      <a:pt x="4517" y="52"/>
                    </a:cubicBezTo>
                    <a:cubicBezTo>
                      <a:pt x="4518" y="53"/>
                      <a:pt x="4518" y="53"/>
                      <a:pt x="4518" y="54"/>
                    </a:cubicBezTo>
                    <a:close/>
                    <a:moveTo>
                      <a:pt x="4633" y="54"/>
                    </a:moveTo>
                    <a:cubicBezTo>
                      <a:pt x="4633" y="54"/>
                      <a:pt x="4633" y="65"/>
                      <a:pt x="4632" y="84"/>
                    </a:cubicBezTo>
                    <a:cubicBezTo>
                      <a:pt x="4634" y="72"/>
                      <a:pt x="4635" y="60"/>
                      <a:pt x="4633" y="54"/>
                    </a:cubicBezTo>
                    <a:close/>
                    <a:moveTo>
                      <a:pt x="4513" y="90"/>
                    </a:moveTo>
                    <a:cubicBezTo>
                      <a:pt x="4513" y="89"/>
                      <a:pt x="4512" y="87"/>
                      <a:pt x="4511" y="86"/>
                    </a:cubicBezTo>
                    <a:cubicBezTo>
                      <a:pt x="4512" y="87"/>
                      <a:pt x="4513" y="89"/>
                      <a:pt x="4513" y="90"/>
                    </a:cubicBezTo>
                    <a:close/>
                    <a:moveTo>
                      <a:pt x="4688" y="106"/>
                    </a:moveTo>
                    <a:cubicBezTo>
                      <a:pt x="4688" y="103"/>
                      <a:pt x="4687" y="100"/>
                      <a:pt x="4687" y="96"/>
                    </a:cubicBezTo>
                    <a:cubicBezTo>
                      <a:pt x="4687" y="99"/>
                      <a:pt x="4688" y="103"/>
                      <a:pt x="4688" y="106"/>
                    </a:cubicBezTo>
                    <a:close/>
                    <a:moveTo>
                      <a:pt x="886" y="106"/>
                    </a:moveTo>
                    <a:cubicBezTo>
                      <a:pt x="886" y="103"/>
                      <a:pt x="885" y="101"/>
                      <a:pt x="885" y="99"/>
                    </a:cubicBezTo>
                    <a:cubicBezTo>
                      <a:pt x="885" y="101"/>
                      <a:pt x="885" y="103"/>
                      <a:pt x="886" y="106"/>
                    </a:cubicBezTo>
                    <a:close/>
                    <a:moveTo>
                      <a:pt x="4284" y="61"/>
                    </a:moveTo>
                    <a:cubicBezTo>
                      <a:pt x="4284" y="55"/>
                      <a:pt x="4283" y="49"/>
                      <a:pt x="4282" y="44"/>
                    </a:cubicBezTo>
                    <a:cubicBezTo>
                      <a:pt x="4282" y="44"/>
                      <a:pt x="4283" y="51"/>
                      <a:pt x="4284" y="61"/>
                    </a:cubicBezTo>
                    <a:close/>
                    <a:moveTo>
                      <a:pt x="4367" y="62"/>
                    </a:moveTo>
                    <a:cubicBezTo>
                      <a:pt x="4367" y="61"/>
                      <a:pt x="4367" y="60"/>
                      <a:pt x="4367" y="60"/>
                    </a:cubicBezTo>
                    <a:cubicBezTo>
                      <a:pt x="4367" y="60"/>
                      <a:pt x="4367" y="61"/>
                      <a:pt x="4367" y="62"/>
                    </a:cubicBezTo>
                    <a:close/>
                    <a:moveTo>
                      <a:pt x="4470" y="52"/>
                    </a:moveTo>
                    <a:cubicBezTo>
                      <a:pt x="4470" y="50"/>
                      <a:pt x="4470" y="49"/>
                      <a:pt x="4470" y="49"/>
                    </a:cubicBezTo>
                    <a:cubicBezTo>
                      <a:pt x="4470" y="50"/>
                      <a:pt x="4470" y="51"/>
                      <a:pt x="4470" y="52"/>
                    </a:cubicBezTo>
                    <a:close/>
                    <a:moveTo>
                      <a:pt x="4360" y="68"/>
                    </a:moveTo>
                    <a:cubicBezTo>
                      <a:pt x="4360" y="68"/>
                      <a:pt x="4360" y="71"/>
                      <a:pt x="4360" y="75"/>
                    </a:cubicBezTo>
                    <a:cubicBezTo>
                      <a:pt x="4360" y="72"/>
                      <a:pt x="4360" y="70"/>
                      <a:pt x="4360" y="68"/>
                    </a:cubicBezTo>
                    <a:close/>
                    <a:moveTo>
                      <a:pt x="4748" y="85"/>
                    </a:moveTo>
                    <a:cubicBezTo>
                      <a:pt x="4748" y="84"/>
                      <a:pt x="4748" y="84"/>
                      <a:pt x="4747" y="83"/>
                    </a:cubicBezTo>
                    <a:cubicBezTo>
                      <a:pt x="4748" y="84"/>
                      <a:pt x="4748" y="84"/>
                      <a:pt x="4748" y="85"/>
                    </a:cubicBezTo>
                    <a:close/>
                    <a:moveTo>
                      <a:pt x="4748" y="85"/>
                    </a:moveTo>
                    <a:cubicBezTo>
                      <a:pt x="4750" y="92"/>
                      <a:pt x="4750" y="108"/>
                      <a:pt x="4750" y="115"/>
                    </a:cubicBezTo>
                    <a:cubicBezTo>
                      <a:pt x="4750" y="127"/>
                      <a:pt x="4750" y="138"/>
                      <a:pt x="4752" y="150"/>
                    </a:cubicBezTo>
                    <a:cubicBezTo>
                      <a:pt x="4743" y="126"/>
                      <a:pt x="4740" y="99"/>
                      <a:pt x="4733" y="74"/>
                    </a:cubicBezTo>
                    <a:cubicBezTo>
                      <a:pt x="4736" y="91"/>
                      <a:pt x="4732" y="110"/>
                      <a:pt x="4732" y="128"/>
                    </a:cubicBezTo>
                    <a:cubicBezTo>
                      <a:pt x="4732" y="132"/>
                      <a:pt x="4733" y="136"/>
                      <a:pt x="4733" y="140"/>
                    </a:cubicBezTo>
                    <a:cubicBezTo>
                      <a:pt x="4733" y="145"/>
                      <a:pt x="4734" y="149"/>
                      <a:pt x="4735" y="154"/>
                    </a:cubicBezTo>
                    <a:cubicBezTo>
                      <a:pt x="4734" y="149"/>
                      <a:pt x="4733" y="145"/>
                      <a:pt x="4733" y="140"/>
                    </a:cubicBezTo>
                    <a:cubicBezTo>
                      <a:pt x="4730" y="120"/>
                      <a:pt x="4727" y="99"/>
                      <a:pt x="4722" y="80"/>
                    </a:cubicBezTo>
                    <a:cubicBezTo>
                      <a:pt x="4724" y="102"/>
                      <a:pt x="4714" y="126"/>
                      <a:pt x="4714" y="149"/>
                    </a:cubicBezTo>
                    <a:cubicBezTo>
                      <a:pt x="4714" y="156"/>
                      <a:pt x="4714" y="156"/>
                      <a:pt x="4714" y="156"/>
                    </a:cubicBezTo>
                    <a:cubicBezTo>
                      <a:pt x="4710" y="147"/>
                      <a:pt x="4710" y="132"/>
                      <a:pt x="4710" y="122"/>
                    </a:cubicBezTo>
                    <a:cubicBezTo>
                      <a:pt x="4710" y="100"/>
                      <a:pt x="4712" y="79"/>
                      <a:pt x="4711" y="57"/>
                    </a:cubicBezTo>
                    <a:cubicBezTo>
                      <a:pt x="4708" y="62"/>
                      <a:pt x="4707" y="112"/>
                      <a:pt x="4707" y="120"/>
                    </a:cubicBezTo>
                    <a:cubicBezTo>
                      <a:pt x="4707" y="133"/>
                      <a:pt x="4708" y="146"/>
                      <a:pt x="4711" y="159"/>
                    </a:cubicBezTo>
                    <a:cubicBezTo>
                      <a:pt x="4706" y="135"/>
                      <a:pt x="4700" y="108"/>
                      <a:pt x="4688" y="85"/>
                    </a:cubicBezTo>
                    <a:cubicBezTo>
                      <a:pt x="4699" y="106"/>
                      <a:pt x="4694" y="132"/>
                      <a:pt x="4701" y="154"/>
                    </a:cubicBezTo>
                    <a:cubicBezTo>
                      <a:pt x="4693" y="142"/>
                      <a:pt x="4691" y="122"/>
                      <a:pt x="4688" y="106"/>
                    </a:cubicBezTo>
                    <a:cubicBezTo>
                      <a:pt x="4690" y="120"/>
                      <a:pt x="4688" y="134"/>
                      <a:pt x="4690" y="148"/>
                    </a:cubicBezTo>
                    <a:cubicBezTo>
                      <a:pt x="4691" y="151"/>
                      <a:pt x="4692" y="153"/>
                      <a:pt x="4692" y="155"/>
                    </a:cubicBezTo>
                    <a:cubicBezTo>
                      <a:pt x="4691" y="153"/>
                      <a:pt x="4691" y="151"/>
                      <a:pt x="4690" y="148"/>
                    </a:cubicBezTo>
                    <a:cubicBezTo>
                      <a:pt x="4685" y="128"/>
                      <a:pt x="4673" y="75"/>
                      <a:pt x="4661" y="68"/>
                    </a:cubicBezTo>
                    <a:cubicBezTo>
                      <a:pt x="4678" y="90"/>
                      <a:pt x="4676" y="127"/>
                      <a:pt x="4680" y="153"/>
                    </a:cubicBezTo>
                    <a:cubicBezTo>
                      <a:pt x="4676" y="134"/>
                      <a:pt x="4669" y="113"/>
                      <a:pt x="4660" y="95"/>
                    </a:cubicBezTo>
                    <a:cubicBezTo>
                      <a:pt x="4667" y="115"/>
                      <a:pt x="4666" y="136"/>
                      <a:pt x="4675" y="155"/>
                    </a:cubicBezTo>
                    <a:cubicBezTo>
                      <a:pt x="4662" y="144"/>
                      <a:pt x="4655" y="117"/>
                      <a:pt x="4651" y="102"/>
                    </a:cubicBezTo>
                    <a:cubicBezTo>
                      <a:pt x="4651" y="120"/>
                      <a:pt x="4656" y="143"/>
                      <a:pt x="4667" y="158"/>
                    </a:cubicBezTo>
                    <a:cubicBezTo>
                      <a:pt x="4653" y="144"/>
                      <a:pt x="4648" y="103"/>
                      <a:pt x="4643" y="85"/>
                    </a:cubicBezTo>
                    <a:cubicBezTo>
                      <a:pt x="4642" y="88"/>
                      <a:pt x="4642" y="91"/>
                      <a:pt x="4642" y="94"/>
                    </a:cubicBezTo>
                    <a:cubicBezTo>
                      <a:pt x="4642" y="113"/>
                      <a:pt x="4647" y="142"/>
                      <a:pt x="4659" y="159"/>
                    </a:cubicBezTo>
                    <a:cubicBezTo>
                      <a:pt x="4645" y="143"/>
                      <a:pt x="4640" y="123"/>
                      <a:pt x="4634" y="104"/>
                    </a:cubicBezTo>
                    <a:cubicBezTo>
                      <a:pt x="4638" y="122"/>
                      <a:pt x="4638" y="140"/>
                      <a:pt x="4647" y="158"/>
                    </a:cubicBezTo>
                    <a:cubicBezTo>
                      <a:pt x="4637" y="147"/>
                      <a:pt x="4632" y="132"/>
                      <a:pt x="4628" y="117"/>
                    </a:cubicBezTo>
                    <a:cubicBezTo>
                      <a:pt x="4630" y="105"/>
                      <a:pt x="4631" y="93"/>
                      <a:pt x="4632" y="84"/>
                    </a:cubicBezTo>
                    <a:cubicBezTo>
                      <a:pt x="4630" y="92"/>
                      <a:pt x="4628" y="101"/>
                      <a:pt x="4626" y="109"/>
                    </a:cubicBezTo>
                    <a:cubicBezTo>
                      <a:pt x="4625" y="102"/>
                      <a:pt x="4623" y="95"/>
                      <a:pt x="4621" y="89"/>
                    </a:cubicBezTo>
                    <a:cubicBezTo>
                      <a:pt x="4624" y="64"/>
                      <a:pt x="4628" y="40"/>
                      <a:pt x="4628" y="40"/>
                    </a:cubicBezTo>
                    <a:cubicBezTo>
                      <a:pt x="4623" y="51"/>
                      <a:pt x="4618" y="77"/>
                      <a:pt x="4615" y="100"/>
                    </a:cubicBezTo>
                    <a:cubicBezTo>
                      <a:pt x="4613" y="95"/>
                      <a:pt x="4610" y="90"/>
                      <a:pt x="4609" y="86"/>
                    </a:cubicBezTo>
                    <a:cubicBezTo>
                      <a:pt x="4608" y="70"/>
                      <a:pt x="4606" y="58"/>
                      <a:pt x="4606" y="60"/>
                    </a:cubicBezTo>
                    <a:cubicBezTo>
                      <a:pt x="4606" y="61"/>
                      <a:pt x="4606" y="69"/>
                      <a:pt x="4605" y="80"/>
                    </a:cubicBezTo>
                    <a:cubicBezTo>
                      <a:pt x="4604" y="79"/>
                      <a:pt x="4604" y="78"/>
                      <a:pt x="4603" y="78"/>
                    </a:cubicBezTo>
                    <a:cubicBezTo>
                      <a:pt x="4604" y="79"/>
                      <a:pt x="4604" y="80"/>
                      <a:pt x="4605" y="81"/>
                    </a:cubicBezTo>
                    <a:cubicBezTo>
                      <a:pt x="4604" y="87"/>
                      <a:pt x="4604" y="95"/>
                      <a:pt x="4603" y="102"/>
                    </a:cubicBezTo>
                    <a:cubicBezTo>
                      <a:pt x="4603" y="102"/>
                      <a:pt x="4603" y="102"/>
                      <a:pt x="4603" y="102"/>
                    </a:cubicBezTo>
                    <a:cubicBezTo>
                      <a:pt x="4603" y="103"/>
                      <a:pt x="4603" y="103"/>
                      <a:pt x="4603" y="103"/>
                    </a:cubicBezTo>
                    <a:cubicBezTo>
                      <a:pt x="4602" y="113"/>
                      <a:pt x="4602" y="123"/>
                      <a:pt x="4601" y="130"/>
                    </a:cubicBezTo>
                    <a:cubicBezTo>
                      <a:pt x="4601" y="130"/>
                      <a:pt x="4600" y="129"/>
                      <a:pt x="4600" y="128"/>
                    </a:cubicBezTo>
                    <a:cubicBezTo>
                      <a:pt x="4600" y="107"/>
                      <a:pt x="4596" y="69"/>
                      <a:pt x="4593" y="47"/>
                    </a:cubicBezTo>
                    <a:cubicBezTo>
                      <a:pt x="4594" y="64"/>
                      <a:pt x="4593" y="87"/>
                      <a:pt x="4592" y="107"/>
                    </a:cubicBezTo>
                    <a:cubicBezTo>
                      <a:pt x="4591" y="105"/>
                      <a:pt x="4590" y="104"/>
                      <a:pt x="4589" y="102"/>
                    </a:cubicBezTo>
                    <a:cubicBezTo>
                      <a:pt x="4590" y="104"/>
                      <a:pt x="4591" y="106"/>
                      <a:pt x="4591" y="107"/>
                    </a:cubicBezTo>
                    <a:cubicBezTo>
                      <a:pt x="4591" y="114"/>
                      <a:pt x="4591" y="121"/>
                      <a:pt x="4590" y="126"/>
                    </a:cubicBezTo>
                    <a:cubicBezTo>
                      <a:pt x="4590" y="125"/>
                      <a:pt x="4589" y="123"/>
                      <a:pt x="4589" y="122"/>
                    </a:cubicBezTo>
                    <a:cubicBezTo>
                      <a:pt x="4588" y="93"/>
                      <a:pt x="4584" y="46"/>
                      <a:pt x="4584" y="46"/>
                    </a:cubicBezTo>
                    <a:cubicBezTo>
                      <a:pt x="4583" y="65"/>
                      <a:pt x="4577" y="142"/>
                      <a:pt x="4577" y="142"/>
                    </a:cubicBezTo>
                    <a:cubicBezTo>
                      <a:pt x="4571" y="106"/>
                      <a:pt x="4578" y="0"/>
                      <a:pt x="4578" y="0"/>
                    </a:cubicBezTo>
                    <a:cubicBezTo>
                      <a:pt x="4572" y="16"/>
                      <a:pt x="4566" y="131"/>
                      <a:pt x="4566" y="131"/>
                    </a:cubicBezTo>
                    <a:cubicBezTo>
                      <a:pt x="4564" y="36"/>
                      <a:pt x="4560" y="32"/>
                      <a:pt x="4560" y="32"/>
                    </a:cubicBezTo>
                    <a:cubicBezTo>
                      <a:pt x="4562" y="43"/>
                      <a:pt x="4559" y="76"/>
                      <a:pt x="4556" y="103"/>
                    </a:cubicBezTo>
                    <a:cubicBezTo>
                      <a:pt x="4555" y="102"/>
                      <a:pt x="4554" y="100"/>
                      <a:pt x="4553" y="99"/>
                    </a:cubicBezTo>
                    <a:cubicBezTo>
                      <a:pt x="4554" y="101"/>
                      <a:pt x="4555" y="103"/>
                      <a:pt x="4556" y="104"/>
                    </a:cubicBezTo>
                    <a:cubicBezTo>
                      <a:pt x="4555" y="112"/>
                      <a:pt x="4554" y="120"/>
                      <a:pt x="4553" y="126"/>
                    </a:cubicBezTo>
                    <a:cubicBezTo>
                      <a:pt x="4553" y="124"/>
                      <a:pt x="4553" y="123"/>
                      <a:pt x="4553" y="122"/>
                    </a:cubicBezTo>
                    <a:cubicBezTo>
                      <a:pt x="4553" y="94"/>
                      <a:pt x="4552" y="48"/>
                      <a:pt x="4552" y="48"/>
                    </a:cubicBezTo>
                    <a:cubicBezTo>
                      <a:pt x="4551" y="55"/>
                      <a:pt x="4548" y="82"/>
                      <a:pt x="4545" y="106"/>
                    </a:cubicBezTo>
                    <a:cubicBezTo>
                      <a:pt x="4544" y="104"/>
                      <a:pt x="4543" y="102"/>
                      <a:pt x="4543" y="100"/>
                    </a:cubicBezTo>
                    <a:cubicBezTo>
                      <a:pt x="4546" y="60"/>
                      <a:pt x="4550" y="9"/>
                      <a:pt x="4550" y="9"/>
                    </a:cubicBezTo>
                    <a:cubicBezTo>
                      <a:pt x="4545" y="23"/>
                      <a:pt x="4538" y="83"/>
                      <a:pt x="4535" y="117"/>
                    </a:cubicBezTo>
                    <a:cubicBezTo>
                      <a:pt x="4534" y="114"/>
                      <a:pt x="4533" y="111"/>
                      <a:pt x="4532" y="108"/>
                    </a:cubicBezTo>
                    <a:cubicBezTo>
                      <a:pt x="4532" y="90"/>
                      <a:pt x="4530" y="72"/>
                      <a:pt x="4530" y="72"/>
                    </a:cubicBezTo>
                    <a:cubicBezTo>
                      <a:pt x="4530" y="76"/>
                      <a:pt x="4530" y="84"/>
                      <a:pt x="4529" y="94"/>
                    </a:cubicBezTo>
                    <a:cubicBezTo>
                      <a:pt x="4528" y="91"/>
                      <a:pt x="4526" y="88"/>
                      <a:pt x="4525" y="84"/>
                    </a:cubicBezTo>
                    <a:cubicBezTo>
                      <a:pt x="4526" y="88"/>
                      <a:pt x="4528" y="92"/>
                      <a:pt x="4528" y="96"/>
                    </a:cubicBezTo>
                    <a:cubicBezTo>
                      <a:pt x="4528" y="99"/>
                      <a:pt x="4528" y="103"/>
                      <a:pt x="4527" y="107"/>
                    </a:cubicBezTo>
                    <a:cubicBezTo>
                      <a:pt x="4527" y="106"/>
                      <a:pt x="4527" y="106"/>
                      <a:pt x="4527" y="105"/>
                    </a:cubicBezTo>
                    <a:cubicBezTo>
                      <a:pt x="4526" y="107"/>
                      <a:pt x="4526" y="112"/>
                      <a:pt x="4526" y="116"/>
                    </a:cubicBezTo>
                    <a:cubicBezTo>
                      <a:pt x="4525" y="121"/>
                      <a:pt x="4525" y="126"/>
                      <a:pt x="4524" y="130"/>
                    </a:cubicBezTo>
                    <a:cubicBezTo>
                      <a:pt x="4524" y="129"/>
                      <a:pt x="4524" y="128"/>
                      <a:pt x="4524" y="127"/>
                    </a:cubicBezTo>
                    <a:cubicBezTo>
                      <a:pt x="4524" y="101"/>
                      <a:pt x="4519" y="63"/>
                      <a:pt x="4518" y="54"/>
                    </a:cubicBezTo>
                    <a:cubicBezTo>
                      <a:pt x="4518" y="61"/>
                      <a:pt x="4517" y="79"/>
                      <a:pt x="4516" y="96"/>
                    </a:cubicBezTo>
                    <a:cubicBezTo>
                      <a:pt x="4515" y="94"/>
                      <a:pt x="4514" y="92"/>
                      <a:pt x="4513" y="90"/>
                    </a:cubicBezTo>
                    <a:cubicBezTo>
                      <a:pt x="4514" y="93"/>
                      <a:pt x="4515" y="95"/>
                      <a:pt x="4516" y="97"/>
                    </a:cubicBezTo>
                    <a:cubicBezTo>
                      <a:pt x="4514" y="118"/>
                      <a:pt x="4511" y="137"/>
                      <a:pt x="4511" y="137"/>
                    </a:cubicBezTo>
                    <a:cubicBezTo>
                      <a:pt x="4511" y="136"/>
                      <a:pt x="4511" y="134"/>
                      <a:pt x="4511" y="133"/>
                    </a:cubicBezTo>
                    <a:cubicBezTo>
                      <a:pt x="4511" y="125"/>
                      <a:pt x="4511" y="118"/>
                      <a:pt x="4510" y="110"/>
                    </a:cubicBezTo>
                    <a:cubicBezTo>
                      <a:pt x="4509" y="76"/>
                      <a:pt x="4508" y="40"/>
                      <a:pt x="4508" y="40"/>
                    </a:cubicBezTo>
                    <a:cubicBezTo>
                      <a:pt x="4508" y="49"/>
                      <a:pt x="4503" y="79"/>
                      <a:pt x="4499" y="104"/>
                    </a:cubicBezTo>
                    <a:cubicBezTo>
                      <a:pt x="4499" y="99"/>
                      <a:pt x="4498" y="95"/>
                      <a:pt x="4497" y="90"/>
                    </a:cubicBezTo>
                    <a:cubicBezTo>
                      <a:pt x="4498" y="67"/>
                      <a:pt x="4499" y="45"/>
                      <a:pt x="4499" y="45"/>
                    </a:cubicBezTo>
                    <a:cubicBezTo>
                      <a:pt x="4499" y="53"/>
                      <a:pt x="4493" y="75"/>
                      <a:pt x="4486" y="96"/>
                    </a:cubicBezTo>
                    <a:cubicBezTo>
                      <a:pt x="4485" y="93"/>
                      <a:pt x="4484" y="89"/>
                      <a:pt x="4482" y="85"/>
                    </a:cubicBezTo>
                    <a:cubicBezTo>
                      <a:pt x="4489" y="51"/>
                      <a:pt x="4497" y="17"/>
                      <a:pt x="4497" y="17"/>
                    </a:cubicBezTo>
                    <a:cubicBezTo>
                      <a:pt x="4492" y="24"/>
                      <a:pt x="4477" y="95"/>
                      <a:pt x="4470" y="130"/>
                    </a:cubicBezTo>
                    <a:cubicBezTo>
                      <a:pt x="4470" y="130"/>
                      <a:pt x="4470" y="130"/>
                      <a:pt x="4470" y="130"/>
                    </a:cubicBezTo>
                    <a:cubicBezTo>
                      <a:pt x="4474" y="100"/>
                      <a:pt x="4471" y="63"/>
                      <a:pt x="4470" y="52"/>
                    </a:cubicBezTo>
                    <a:cubicBezTo>
                      <a:pt x="4472" y="72"/>
                      <a:pt x="4466" y="109"/>
                      <a:pt x="4462" y="128"/>
                    </a:cubicBezTo>
                    <a:cubicBezTo>
                      <a:pt x="4462" y="126"/>
                      <a:pt x="4462" y="123"/>
                      <a:pt x="4461" y="120"/>
                    </a:cubicBezTo>
                    <a:cubicBezTo>
                      <a:pt x="4463" y="99"/>
                      <a:pt x="4465" y="71"/>
                      <a:pt x="4466" y="65"/>
                    </a:cubicBezTo>
                    <a:cubicBezTo>
                      <a:pt x="4465" y="71"/>
                      <a:pt x="4462" y="89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8" y="105"/>
                      <a:pt x="4458" y="105"/>
                      <a:pt x="4458" y="105"/>
                    </a:cubicBezTo>
                    <a:cubicBezTo>
                      <a:pt x="4454" y="125"/>
                      <a:pt x="4451" y="143"/>
                      <a:pt x="4451" y="143"/>
                    </a:cubicBezTo>
                    <a:cubicBezTo>
                      <a:pt x="4461" y="38"/>
                      <a:pt x="4454" y="25"/>
                      <a:pt x="4454" y="25"/>
                    </a:cubicBezTo>
                    <a:cubicBezTo>
                      <a:pt x="4457" y="42"/>
                      <a:pt x="4454" y="72"/>
                      <a:pt x="4449" y="96"/>
                    </a:cubicBezTo>
                    <a:cubicBezTo>
                      <a:pt x="4448" y="89"/>
                      <a:pt x="4446" y="80"/>
                      <a:pt x="4443" y="73"/>
                    </a:cubicBezTo>
                    <a:cubicBezTo>
                      <a:pt x="4442" y="65"/>
                      <a:pt x="4442" y="60"/>
                      <a:pt x="4442" y="60"/>
                    </a:cubicBezTo>
                    <a:cubicBezTo>
                      <a:pt x="4442" y="63"/>
                      <a:pt x="4442" y="67"/>
                      <a:pt x="4441" y="71"/>
                    </a:cubicBezTo>
                    <a:cubicBezTo>
                      <a:pt x="4440" y="69"/>
                      <a:pt x="4439" y="67"/>
                      <a:pt x="4437" y="65"/>
                    </a:cubicBezTo>
                    <a:cubicBezTo>
                      <a:pt x="4439" y="67"/>
                      <a:pt x="4440" y="70"/>
                      <a:pt x="4441" y="73"/>
                    </a:cubicBezTo>
                    <a:cubicBezTo>
                      <a:pt x="4441" y="82"/>
                      <a:pt x="4440" y="92"/>
                      <a:pt x="4438" y="101"/>
                    </a:cubicBezTo>
                    <a:cubicBezTo>
                      <a:pt x="4438" y="95"/>
                      <a:pt x="4435" y="88"/>
                      <a:pt x="4430" y="83"/>
                    </a:cubicBezTo>
                    <a:cubicBezTo>
                      <a:pt x="4430" y="74"/>
                      <a:pt x="4431" y="68"/>
                      <a:pt x="4431" y="68"/>
                    </a:cubicBezTo>
                    <a:cubicBezTo>
                      <a:pt x="4430" y="72"/>
                      <a:pt x="4429" y="76"/>
                      <a:pt x="4428" y="81"/>
                    </a:cubicBezTo>
                    <a:cubicBezTo>
                      <a:pt x="4428" y="81"/>
                      <a:pt x="4427" y="81"/>
                      <a:pt x="4427" y="80"/>
                    </a:cubicBezTo>
                    <a:cubicBezTo>
                      <a:pt x="4427" y="81"/>
                      <a:pt x="4428" y="81"/>
                      <a:pt x="4428" y="82"/>
                    </a:cubicBezTo>
                    <a:cubicBezTo>
                      <a:pt x="4425" y="101"/>
                      <a:pt x="4424" y="130"/>
                      <a:pt x="4424" y="142"/>
                    </a:cubicBezTo>
                    <a:cubicBezTo>
                      <a:pt x="4424" y="143"/>
                      <a:pt x="4423" y="144"/>
                      <a:pt x="4423" y="144"/>
                    </a:cubicBezTo>
                    <a:cubicBezTo>
                      <a:pt x="4422" y="141"/>
                      <a:pt x="4422" y="136"/>
                      <a:pt x="4422" y="131"/>
                    </a:cubicBezTo>
                    <a:cubicBezTo>
                      <a:pt x="4423" y="121"/>
                      <a:pt x="4425" y="112"/>
                      <a:pt x="4426" y="103"/>
                    </a:cubicBezTo>
                    <a:cubicBezTo>
                      <a:pt x="4425" y="108"/>
                      <a:pt x="4424" y="112"/>
                      <a:pt x="4423" y="117"/>
                    </a:cubicBezTo>
                    <a:cubicBezTo>
                      <a:pt x="4424" y="85"/>
                      <a:pt x="4430" y="45"/>
                      <a:pt x="4430" y="45"/>
                    </a:cubicBezTo>
                    <a:cubicBezTo>
                      <a:pt x="4423" y="60"/>
                      <a:pt x="4418" y="95"/>
                      <a:pt x="4416" y="120"/>
                    </a:cubicBezTo>
                    <a:cubicBezTo>
                      <a:pt x="4416" y="123"/>
                      <a:pt x="4415" y="125"/>
                      <a:pt x="4414" y="127"/>
                    </a:cubicBezTo>
                    <a:cubicBezTo>
                      <a:pt x="4413" y="103"/>
                      <a:pt x="4413" y="70"/>
                      <a:pt x="4413" y="70"/>
                    </a:cubicBezTo>
                    <a:cubicBezTo>
                      <a:pt x="4413" y="72"/>
                      <a:pt x="4413" y="76"/>
                      <a:pt x="4412" y="81"/>
                    </a:cubicBezTo>
                    <a:cubicBezTo>
                      <a:pt x="4411" y="73"/>
                      <a:pt x="4409" y="66"/>
                      <a:pt x="4406" y="60"/>
                    </a:cubicBezTo>
                    <a:cubicBezTo>
                      <a:pt x="4407" y="52"/>
                      <a:pt x="4407" y="46"/>
                      <a:pt x="4407" y="46"/>
                    </a:cubicBezTo>
                    <a:cubicBezTo>
                      <a:pt x="4405" y="51"/>
                      <a:pt x="4403" y="64"/>
                      <a:pt x="4402" y="79"/>
                    </a:cubicBezTo>
                    <a:cubicBezTo>
                      <a:pt x="4401" y="77"/>
                      <a:pt x="4401" y="75"/>
                      <a:pt x="4400" y="74"/>
                    </a:cubicBezTo>
                    <a:cubicBezTo>
                      <a:pt x="4399" y="83"/>
                      <a:pt x="4399" y="92"/>
                      <a:pt x="4399" y="102"/>
                    </a:cubicBezTo>
                    <a:cubicBezTo>
                      <a:pt x="4399" y="108"/>
                      <a:pt x="4398" y="115"/>
                      <a:pt x="4397" y="121"/>
                    </a:cubicBezTo>
                    <a:cubicBezTo>
                      <a:pt x="4397" y="123"/>
                      <a:pt x="4396" y="125"/>
                      <a:pt x="4396" y="127"/>
                    </a:cubicBezTo>
                    <a:cubicBezTo>
                      <a:pt x="4396" y="35"/>
                      <a:pt x="4394" y="34"/>
                      <a:pt x="4394" y="34"/>
                    </a:cubicBezTo>
                    <a:cubicBezTo>
                      <a:pt x="4396" y="49"/>
                      <a:pt x="4392" y="77"/>
                      <a:pt x="4388" y="102"/>
                    </a:cubicBezTo>
                    <a:cubicBezTo>
                      <a:pt x="4387" y="94"/>
                      <a:pt x="4385" y="85"/>
                      <a:pt x="4381" y="76"/>
                    </a:cubicBezTo>
                    <a:cubicBezTo>
                      <a:pt x="4382" y="70"/>
                      <a:pt x="4382" y="66"/>
                      <a:pt x="4382" y="66"/>
                    </a:cubicBezTo>
                    <a:cubicBezTo>
                      <a:pt x="4382" y="68"/>
                      <a:pt x="4381" y="71"/>
                      <a:pt x="4380" y="74"/>
                    </a:cubicBezTo>
                    <a:cubicBezTo>
                      <a:pt x="4380" y="73"/>
                      <a:pt x="4379" y="72"/>
                      <a:pt x="4378" y="71"/>
                    </a:cubicBezTo>
                    <a:cubicBezTo>
                      <a:pt x="4379" y="73"/>
                      <a:pt x="4379" y="74"/>
                      <a:pt x="4380" y="76"/>
                    </a:cubicBezTo>
                    <a:cubicBezTo>
                      <a:pt x="4378" y="83"/>
                      <a:pt x="4376" y="93"/>
                      <a:pt x="4374" y="103"/>
                    </a:cubicBezTo>
                    <a:cubicBezTo>
                      <a:pt x="4374" y="98"/>
                      <a:pt x="4373" y="94"/>
                      <a:pt x="4372" y="89"/>
                    </a:cubicBezTo>
                    <a:cubicBezTo>
                      <a:pt x="4373" y="96"/>
                      <a:pt x="4371" y="104"/>
                      <a:pt x="4369" y="112"/>
                    </a:cubicBezTo>
                    <a:cubicBezTo>
                      <a:pt x="4369" y="92"/>
                      <a:pt x="4368" y="70"/>
                      <a:pt x="4367" y="62"/>
                    </a:cubicBezTo>
                    <a:cubicBezTo>
                      <a:pt x="4367" y="67"/>
                      <a:pt x="4367" y="74"/>
                      <a:pt x="4367" y="82"/>
                    </a:cubicBezTo>
                    <a:cubicBezTo>
                      <a:pt x="4365" y="87"/>
                      <a:pt x="4362" y="94"/>
                      <a:pt x="4360" y="101"/>
                    </a:cubicBezTo>
                    <a:cubicBezTo>
                      <a:pt x="4360" y="91"/>
                      <a:pt x="4360" y="82"/>
                      <a:pt x="4360" y="75"/>
                    </a:cubicBezTo>
                    <a:cubicBezTo>
                      <a:pt x="4359" y="86"/>
                      <a:pt x="4357" y="102"/>
                      <a:pt x="4355" y="116"/>
                    </a:cubicBezTo>
                    <a:cubicBezTo>
                      <a:pt x="4353" y="123"/>
                      <a:pt x="4351" y="130"/>
                      <a:pt x="4349" y="136"/>
                    </a:cubicBezTo>
                    <a:cubicBezTo>
                      <a:pt x="4349" y="118"/>
                      <a:pt x="4352" y="89"/>
                      <a:pt x="4352" y="89"/>
                    </a:cubicBezTo>
                    <a:cubicBezTo>
                      <a:pt x="4351" y="93"/>
                      <a:pt x="4349" y="99"/>
                      <a:pt x="4347" y="106"/>
                    </a:cubicBezTo>
                    <a:cubicBezTo>
                      <a:pt x="4347" y="104"/>
                      <a:pt x="4347" y="101"/>
                      <a:pt x="4346" y="99"/>
                    </a:cubicBezTo>
                    <a:cubicBezTo>
                      <a:pt x="4346" y="96"/>
                      <a:pt x="4346" y="96"/>
                      <a:pt x="4346" y="96"/>
                    </a:cubicBezTo>
                    <a:cubicBezTo>
                      <a:pt x="4345" y="95"/>
                      <a:pt x="4345" y="95"/>
                      <a:pt x="4345" y="95"/>
                    </a:cubicBezTo>
                    <a:cubicBezTo>
                      <a:pt x="4345" y="104"/>
                      <a:pt x="4343" y="113"/>
                      <a:pt x="4341" y="122"/>
                    </a:cubicBezTo>
                    <a:cubicBezTo>
                      <a:pt x="4339" y="127"/>
                      <a:pt x="4338" y="131"/>
                      <a:pt x="4336" y="134"/>
                    </a:cubicBezTo>
                    <a:cubicBezTo>
                      <a:pt x="4336" y="130"/>
                      <a:pt x="4336" y="126"/>
                      <a:pt x="4336" y="122"/>
                    </a:cubicBezTo>
                    <a:cubicBezTo>
                      <a:pt x="4340" y="102"/>
                      <a:pt x="4347" y="76"/>
                      <a:pt x="4347" y="76"/>
                    </a:cubicBezTo>
                    <a:cubicBezTo>
                      <a:pt x="4342" y="82"/>
                      <a:pt x="4337" y="94"/>
                      <a:pt x="4333" y="105"/>
                    </a:cubicBezTo>
                    <a:cubicBezTo>
                      <a:pt x="4332" y="102"/>
                      <a:pt x="4331" y="98"/>
                      <a:pt x="4330" y="95"/>
                    </a:cubicBezTo>
                    <a:cubicBezTo>
                      <a:pt x="4331" y="74"/>
                      <a:pt x="4327" y="62"/>
                      <a:pt x="4327" y="62"/>
                    </a:cubicBezTo>
                    <a:cubicBezTo>
                      <a:pt x="4329" y="69"/>
                      <a:pt x="4329" y="78"/>
                      <a:pt x="4328" y="88"/>
                    </a:cubicBezTo>
                    <a:cubicBezTo>
                      <a:pt x="4325" y="83"/>
                      <a:pt x="4322" y="78"/>
                      <a:pt x="4318" y="73"/>
                    </a:cubicBezTo>
                    <a:cubicBezTo>
                      <a:pt x="4322" y="80"/>
                      <a:pt x="4325" y="92"/>
                      <a:pt x="4326" y="102"/>
                    </a:cubicBezTo>
                    <a:cubicBezTo>
                      <a:pt x="4325" y="108"/>
                      <a:pt x="4324" y="115"/>
                      <a:pt x="4323" y="120"/>
                    </a:cubicBezTo>
                    <a:cubicBezTo>
                      <a:pt x="4322" y="113"/>
                      <a:pt x="4321" y="106"/>
                      <a:pt x="4319" y="100"/>
                    </a:cubicBezTo>
                    <a:cubicBezTo>
                      <a:pt x="4320" y="89"/>
                      <a:pt x="4320" y="82"/>
                      <a:pt x="4320" y="82"/>
                    </a:cubicBezTo>
                    <a:cubicBezTo>
                      <a:pt x="4319" y="98"/>
                      <a:pt x="4319" y="98"/>
                      <a:pt x="4319" y="98"/>
                    </a:cubicBezTo>
                    <a:cubicBezTo>
                      <a:pt x="4318" y="94"/>
                      <a:pt x="4317" y="91"/>
                      <a:pt x="4315" y="88"/>
                    </a:cubicBezTo>
                    <a:cubicBezTo>
                      <a:pt x="4315" y="73"/>
                      <a:pt x="4314" y="60"/>
                      <a:pt x="4314" y="60"/>
                    </a:cubicBezTo>
                    <a:cubicBezTo>
                      <a:pt x="4314" y="72"/>
                      <a:pt x="4311" y="90"/>
                      <a:pt x="4311" y="90"/>
                    </a:cubicBezTo>
                    <a:cubicBezTo>
                      <a:pt x="4309" y="84"/>
                      <a:pt x="4309" y="64"/>
                      <a:pt x="4309" y="64"/>
                    </a:cubicBezTo>
                    <a:cubicBezTo>
                      <a:pt x="4309" y="68"/>
                      <a:pt x="4308" y="83"/>
                      <a:pt x="4306" y="98"/>
                    </a:cubicBezTo>
                    <a:cubicBezTo>
                      <a:pt x="4306" y="96"/>
                      <a:pt x="4305" y="95"/>
                      <a:pt x="4305" y="93"/>
                    </a:cubicBezTo>
                    <a:cubicBezTo>
                      <a:pt x="4304" y="88"/>
                      <a:pt x="4302" y="82"/>
                      <a:pt x="4300" y="76"/>
                    </a:cubicBezTo>
                    <a:cubicBezTo>
                      <a:pt x="4300" y="57"/>
                      <a:pt x="4300" y="42"/>
                      <a:pt x="4300" y="42"/>
                    </a:cubicBezTo>
                    <a:cubicBezTo>
                      <a:pt x="4300" y="49"/>
                      <a:pt x="4300" y="59"/>
                      <a:pt x="4299" y="70"/>
                    </a:cubicBezTo>
                    <a:cubicBezTo>
                      <a:pt x="4296" y="64"/>
                      <a:pt x="4294" y="57"/>
                      <a:pt x="4291" y="51"/>
                    </a:cubicBezTo>
                    <a:cubicBezTo>
                      <a:pt x="4290" y="52"/>
                      <a:pt x="4290" y="54"/>
                      <a:pt x="4290" y="55"/>
                    </a:cubicBezTo>
                    <a:cubicBezTo>
                      <a:pt x="4293" y="65"/>
                      <a:pt x="4296" y="74"/>
                      <a:pt x="4297" y="82"/>
                    </a:cubicBezTo>
                    <a:cubicBezTo>
                      <a:pt x="4297" y="88"/>
                      <a:pt x="4296" y="94"/>
                      <a:pt x="4295" y="100"/>
                    </a:cubicBezTo>
                    <a:cubicBezTo>
                      <a:pt x="4294" y="96"/>
                      <a:pt x="4293" y="92"/>
                      <a:pt x="4292" y="88"/>
                    </a:cubicBezTo>
                    <a:cubicBezTo>
                      <a:pt x="4293" y="78"/>
                      <a:pt x="4294" y="70"/>
                      <a:pt x="4294" y="70"/>
                    </a:cubicBezTo>
                    <a:cubicBezTo>
                      <a:pt x="4293" y="72"/>
                      <a:pt x="4292" y="78"/>
                      <a:pt x="4291" y="85"/>
                    </a:cubicBezTo>
                    <a:cubicBezTo>
                      <a:pt x="4289" y="82"/>
                      <a:pt x="4287" y="79"/>
                      <a:pt x="4285" y="76"/>
                    </a:cubicBezTo>
                    <a:cubicBezTo>
                      <a:pt x="4284" y="71"/>
                      <a:pt x="4284" y="66"/>
                      <a:pt x="4284" y="61"/>
                    </a:cubicBezTo>
                    <a:cubicBezTo>
                      <a:pt x="4283" y="73"/>
                      <a:pt x="4281" y="87"/>
                      <a:pt x="4279" y="101"/>
                    </a:cubicBezTo>
                    <a:cubicBezTo>
                      <a:pt x="4277" y="95"/>
                      <a:pt x="4275" y="90"/>
                      <a:pt x="4273" y="86"/>
                    </a:cubicBezTo>
                    <a:cubicBezTo>
                      <a:pt x="4274" y="73"/>
                      <a:pt x="4274" y="64"/>
                      <a:pt x="4274" y="64"/>
                    </a:cubicBezTo>
                    <a:cubicBezTo>
                      <a:pt x="4274" y="71"/>
                      <a:pt x="4272" y="82"/>
                      <a:pt x="4270" y="95"/>
                    </a:cubicBezTo>
                    <a:cubicBezTo>
                      <a:pt x="4268" y="87"/>
                      <a:pt x="4266" y="79"/>
                      <a:pt x="4262" y="71"/>
                    </a:cubicBezTo>
                    <a:cubicBezTo>
                      <a:pt x="4264" y="49"/>
                      <a:pt x="4265" y="30"/>
                      <a:pt x="4265" y="30"/>
                    </a:cubicBezTo>
                    <a:cubicBezTo>
                      <a:pt x="4263" y="35"/>
                      <a:pt x="4261" y="49"/>
                      <a:pt x="4259" y="65"/>
                    </a:cubicBezTo>
                    <a:cubicBezTo>
                      <a:pt x="4258" y="62"/>
                      <a:pt x="4256" y="59"/>
                      <a:pt x="4254" y="56"/>
                    </a:cubicBezTo>
                    <a:cubicBezTo>
                      <a:pt x="4254" y="63"/>
                      <a:pt x="4256" y="70"/>
                      <a:pt x="4258" y="78"/>
                    </a:cubicBezTo>
                    <a:cubicBezTo>
                      <a:pt x="4257" y="87"/>
                      <a:pt x="4256" y="97"/>
                      <a:pt x="4255" y="106"/>
                    </a:cubicBezTo>
                    <a:cubicBezTo>
                      <a:pt x="4255" y="105"/>
                      <a:pt x="4255" y="104"/>
                      <a:pt x="4254" y="103"/>
                    </a:cubicBezTo>
                    <a:cubicBezTo>
                      <a:pt x="4255" y="104"/>
                      <a:pt x="4255" y="106"/>
                      <a:pt x="4255" y="109"/>
                    </a:cubicBezTo>
                    <a:cubicBezTo>
                      <a:pt x="4254" y="120"/>
                      <a:pt x="4253" y="131"/>
                      <a:pt x="4253" y="138"/>
                    </a:cubicBezTo>
                    <a:cubicBezTo>
                      <a:pt x="4253" y="137"/>
                      <a:pt x="4252" y="135"/>
                      <a:pt x="4252" y="134"/>
                    </a:cubicBezTo>
                    <a:cubicBezTo>
                      <a:pt x="4251" y="99"/>
                      <a:pt x="4245" y="41"/>
                      <a:pt x="4245" y="41"/>
                    </a:cubicBezTo>
                    <a:cubicBezTo>
                      <a:pt x="4247" y="58"/>
                      <a:pt x="4246" y="86"/>
                      <a:pt x="4244" y="108"/>
                    </a:cubicBezTo>
                    <a:cubicBezTo>
                      <a:pt x="4242" y="105"/>
                      <a:pt x="4241" y="102"/>
                      <a:pt x="4239" y="99"/>
                    </a:cubicBezTo>
                    <a:cubicBezTo>
                      <a:pt x="4239" y="86"/>
                      <a:pt x="4239" y="73"/>
                      <a:pt x="4239" y="67"/>
                    </a:cubicBezTo>
                    <a:cubicBezTo>
                      <a:pt x="4239" y="75"/>
                      <a:pt x="4238" y="85"/>
                      <a:pt x="4237" y="94"/>
                    </a:cubicBezTo>
                    <a:cubicBezTo>
                      <a:pt x="4236" y="92"/>
                      <a:pt x="4235" y="91"/>
                      <a:pt x="4234" y="89"/>
                    </a:cubicBezTo>
                    <a:cubicBezTo>
                      <a:pt x="4235" y="91"/>
                      <a:pt x="4236" y="94"/>
                      <a:pt x="4236" y="97"/>
                    </a:cubicBezTo>
                    <a:cubicBezTo>
                      <a:pt x="4235" y="103"/>
                      <a:pt x="4234" y="110"/>
                      <a:pt x="4232" y="116"/>
                    </a:cubicBezTo>
                    <a:cubicBezTo>
                      <a:pt x="4231" y="110"/>
                      <a:pt x="4230" y="105"/>
                      <a:pt x="4228" y="101"/>
                    </a:cubicBezTo>
                    <a:cubicBezTo>
                      <a:pt x="4229" y="91"/>
                      <a:pt x="4230" y="83"/>
                      <a:pt x="4230" y="83"/>
                    </a:cubicBezTo>
                    <a:cubicBezTo>
                      <a:pt x="4230" y="86"/>
                      <a:pt x="4229" y="92"/>
                      <a:pt x="4227" y="98"/>
                    </a:cubicBezTo>
                    <a:cubicBezTo>
                      <a:pt x="4226" y="94"/>
                      <a:pt x="4225" y="91"/>
                      <a:pt x="4224" y="89"/>
                    </a:cubicBezTo>
                    <a:cubicBezTo>
                      <a:pt x="4225" y="74"/>
                      <a:pt x="4226" y="62"/>
                      <a:pt x="4226" y="62"/>
                    </a:cubicBezTo>
                    <a:cubicBezTo>
                      <a:pt x="4225" y="65"/>
                      <a:pt x="4224" y="75"/>
                      <a:pt x="4222" y="87"/>
                    </a:cubicBezTo>
                    <a:cubicBezTo>
                      <a:pt x="4220" y="83"/>
                      <a:pt x="4218" y="81"/>
                      <a:pt x="4215" y="78"/>
                    </a:cubicBezTo>
                    <a:cubicBezTo>
                      <a:pt x="4218" y="81"/>
                      <a:pt x="4220" y="84"/>
                      <a:pt x="4222" y="89"/>
                    </a:cubicBezTo>
                    <a:cubicBezTo>
                      <a:pt x="4221" y="96"/>
                      <a:pt x="4220" y="105"/>
                      <a:pt x="4219" y="113"/>
                    </a:cubicBezTo>
                    <a:cubicBezTo>
                      <a:pt x="4218" y="108"/>
                      <a:pt x="4217" y="104"/>
                      <a:pt x="4215" y="100"/>
                    </a:cubicBezTo>
                    <a:cubicBezTo>
                      <a:pt x="4214" y="86"/>
                      <a:pt x="4212" y="74"/>
                      <a:pt x="4211" y="68"/>
                    </a:cubicBezTo>
                    <a:cubicBezTo>
                      <a:pt x="4211" y="71"/>
                      <a:pt x="4212" y="76"/>
                      <a:pt x="4211" y="86"/>
                    </a:cubicBezTo>
                    <a:cubicBezTo>
                      <a:pt x="4211" y="87"/>
                      <a:pt x="4211" y="88"/>
                      <a:pt x="4211" y="90"/>
                    </a:cubicBezTo>
                    <a:cubicBezTo>
                      <a:pt x="4210" y="87"/>
                      <a:pt x="4208" y="84"/>
                      <a:pt x="4206" y="81"/>
                    </a:cubicBezTo>
                    <a:cubicBezTo>
                      <a:pt x="4209" y="85"/>
                      <a:pt x="4210" y="91"/>
                      <a:pt x="4210" y="96"/>
                    </a:cubicBezTo>
                    <a:cubicBezTo>
                      <a:pt x="4209" y="105"/>
                      <a:pt x="4207" y="115"/>
                      <a:pt x="4205" y="124"/>
                    </a:cubicBezTo>
                    <a:cubicBezTo>
                      <a:pt x="4205" y="113"/>
                      <a:pt x="4204" y="102"/>
                      <a:pt x="4202" y="91"/>
                    </a:cubicBezTo>
                    <a:cubicBezTo>
                      <a:pt x="4202" y="77"/>
                      <a:pt x="4202" y="77"/>
                      <a:pt x="4202" y="77"/>
                    </a:cubicBezTo>
                    <a:cubicBezTo>
                      <a:pt x="4205" y="35"/>
                      <a:pt x="4198" y="19"/>
                      <a:pt x="4198" y="19"/>
                    </a:cubicBezTo>
                    <a:cubicBezTo>
                      <a:pt x="4198" y="19"/>
                      <a:pt x="4201" y="31"/>
                      <a:pt x="4200" y="54"/>
                    </a:cubicBezTo>
                    <a:cubicBezTo>
                      <a:pt x="4199" y="59"/>
                      <a:pt x="4199" y="68"/>
                      <a:pt x="4197" y="78"/>
                    </a:cubicBezTo>
                    <a:cubicBezTo>
                      <a:pt x="4195" y="72"/>
                      <a:pt x="4192" y="66"/>
                      <a:pt x="4188" y="60"/>
                    </a:cubicBezTo>
                    <a:cubicBezTo>
                      <a:pt x="4188" y="61"/>
                      <a:pt x="4188" y="61"/>
                      <a:pt x="4188" y="61"/>
                    </a:cubicBezTo>
                    <a:cubicBezTo>
                      <a:pt x="4188" y="62"/>
                      <a:pt x="4188" y="63"/>
                      <a:pt x="4188" y="64"/>
                    </a:cubicBezTo>
                    <a:cubicBezTo>
                      <a:pt x="4186" y="44"/>
                      <a:pt x="4179" y="40"/>
                      <a:pt x="4179" y="40"/>
                    </a:cubicBezTo>
                    <a:cubicBezTo>
                      <a:pt x="4179" y="40"/>
                      <a:pt x="4185" y="44"/>
                      <a:pt x="4185" y="70"/>
                    </a:cubicBezTo>
                    <a:cubicBezTo>
                      <a:pt x="4185" y="76"/>
                      <a:pt x="4184" y="85"/>
                      <a:pt x="4182" y="94"/>
                    </a:cubicBezTo>
                    <a:cubicBezTo>
                      <a:pt x="4180" y="90"/>
                      <a:pt x="4177" y="86"/>
                      <a:pt x="4174" y="83"/>
                    </a:cubicBezTo>
                    <a:cubicBezTo>
                      <a:pt x="4177" y="87"/>
                      <a:pt x="4180" y="92"/>
                      <a:pt x="4182" y="97"/>
                    </a:cubicBezTo>
                    <a:cubicBezTo>
                      <a:pt x="4181" y="100"/>
                      <a:pt x="4181" y="103"/>
                      <a:pt x="4180" y="106"/>
                    </a:cubicBezTo>
                    <a:cubicBezTo>
                      <a:pt x="4179" y="104"/>
                      <a:pt x="4179" y="102"/>
                      <a:pt x="4178" y="100"/>
                    </a:cubicBezTo>
                    <a:cubicBezTo>
                      <a:pt x="4179" y="102"/>
                      <a:pt x="4179" y="105"/>
                      <a:pt x="4180" y="108"/>
                    </a:cubicBezTo>
                    <a:cubicBezTo>
                      <a:pt x="4179" y="111"/>
                      <a:pt x="4178" y="114"/>
                      <a:pt x="4177" y="117"/>
                    </a:cubicBezTo>
                    <a:cubicBezTo>
                      <a:pt x="4176" y="113"/>
                      <a:pt x="4174" y="108"/>
                      <a:pt x="4172" y="104"/>
                    </a:cubicBezTo>
                    <a:cubicBezTo>
                      <a:pt x="4173" y="87"/>
                      <a:pt x="4174" y="71"/>
                      <a:pt x="4174" y="71"/>
                    </a:cubicBezTo>
                    <a:cubicBezTo>
                      <a:pt x="4173" y="73"/>
                      <a:pt x="4171" y="84"/>
                      <a:pt x="4169" y="97"/>
                    </a:cubicBezTo>
                    <a:cubicBezTo>
                      <a:pt x="4168" y="95"/>
                      <a:pt x="4167" y="93"/>
                      <a:pt x="4166" y="92"/>
                    </a:cubicBezTo>
                    <a:cubicBezTo>
                      <a:pt x="4167" y="81"/>
                      <a:pt x="4168" y="72"/>
                      <a:pt x="4169" y="66"/>
                    </a:cubicBezTo>
                    <a:cubicBezTo>
                      <a:pt x="4168" y="73"/>
                      <a:pt x="4167" y="81"/>
                      <a:pt x="4165" y="90"/>
                    </a:cubicBezTo>
                    <a:cubicBezTo>
                      <a:pt x="4164" y="88"/>
                      <a:pt x="4162" y="86"/>
                      <a:pt x="4160" y="83"/>
                    </a:cubicBezTo>
                    <a:cubicBezTo>
                      <a:pt x="4164" y="26"/>
                      <a:pt x="4162" y="12"/>
                      <a:pt x="4162" y="12"/>
                    </a:cubicBezTo>
                    <a:cubicBezTo>
                      <a:pt x="4162" y="12"/>
                      <a:pt x="4162" y="18"/>
                      <a:pt x="4159" y="56"/>
                    </a:cubicBezTo>
                    <a:cubicBezTo>
                      <a:pt x="4158" y="64"/>
                      <a:pt x="4157" y="71"/>
                      <a:pt x="4156" y="78"/>
                    </a:cubicBezTo>
                    <a:cubicBezTo>
                      <a:pt x="4154" y="76"/>
                      <a:pt x="4151" y="73"/>
                      <a:pt x="4149" y="71"/>
                    </a:cubicBezTo>
                    <a:cubicBezTo>
                      <a:pt x="4150" y="48"/>
                      <a:pt x="4151" y="31"/>
                      <a:pt x="4151" y="31"/>
                    </a:cubicBezTo>
                    <a:cubicBezTo>
                      <a:pt x="4149" y="37"/>
                      <a:pt x="4147" y="52"/>
                      <a:pt x="4146" y="68"/>
                    </a:cubicBezTo>
                    <a:cubicBezTo>
                      <a:pt x="4144" y="66"/>
                      <a:pt x="4142" y="65"/>
                      <a:pt x="4140" y="63"/>
                    </a:cubicBezTo>
                    <a:cubicBezTo>
                      <a:pt x="4142" y="65"/>
                      <a:pt x="4144" y="67"/>
                      <a:pt x="4146" y="69"/>
                    </a:cubicBezTo>
                    <a:cubicBezTo>
                      <a:pt x="4145" y="82"/>
                      <a:pt x="4145" y="96"/>
                      <a:pt x="4144" y="109"/>
                    </a:cubicBezTo>
                    <a:cubicBezTo>
                      <a:pt x="4143" y="104"/>
                      <a:pt x="4141" y="99"/>
                      <a:pt x="4140" y="96"/>
                    </a:cubicBezTo>
                    <a:cubicBezTo>
                      <a:pt x="4141" y="104"/>
                      <a:pt x="4142" y="112"/>
                      <a:pt x="4144" y="120"/>
                    </a:cubicBezTo>
                    <a:cubicBezTo>
                      <a:pt x="4144" y="123"/>
                      <a:pt x="4144" y="126"/>
                      <a:pt x="4144" y="128"/>
                    </a:cubicBezTo>
                    <a:cubicBezTo>
                      <a:pt x="4143" y="125"/>
                      <a:pt x="4141" y="122"/>
                      <a:pt x="4140" y="118"/>
                    </a:cubicBezTo>
                    <a:cubicBezTo>
                      <a:pt x="4135" y="80"/>
                      <a:pt x="4128" y="28"/>
                      <a:pt x="4128" y="28"/>
                    </a:cubicBezTo>
                    <a:cubicBezTo>
                      <a:pt x="4128" y="39"/>
                      <a:pt x="4126" y="72"/>
                      <a:pt x="4124" y="100"/>
                    </a:cubicBezTo>
                    <a:cubicBezTo>
                      <a:pt x="4124" y="98"/>
                      <a:pt x="4123" y="97"/>
                      <a:pt x="4122" y="96"/>
                    </a:cubicBezTo>
                    <a:cubicBezTo>
                      <a:pt x="4123" y="97"/>
                      <a:pt x="4124" y="99"/>
                      <a:pt x="4124" y="100"/>
                    </a:cubicBezTo>
                    <a:cubicBezTo>
                      <a:pt x="4124" y="110"/>
                      <a:pt x="4123" y="120"/>
                      <a:pt x="4122" y="128"/>
                    </a:cubicBezTo>
                    <a:cubicBezTo>
                      <a:pt x="4122" y="128"/>
                      <a:pt x="4122" y="127"/>
                      <a:pt x="4122" y="127"/>
                    </a:cubicBezTo>
                    <a:cubicBezTo>
                      <a:pt x="4122" y="109"/>
                      <a:pt x="4120" y="87"/>
                      <a:pt x="4119" y="71"/>
                    </a:cubicBezTo>
                    <a:cubicBezTo>
                      <a:pt x="4120" y="68"/>
                      <a:pt x="4121" y="66"/>
                      <a:pt x="4122" y="64"/>
                    </a:cubicBezTo>
                    <a:cubicBezTo>
                      <a:pt x="4121" y="65"/>
                      <a:pt x="4120" y="67"/>
                      <a:pt x="4118" y="69"/>
                    </a:cubicBezTo>
                    <a:cubicBezTo>
                      <a:pt x="4118" y="61"/>
                      <a:pt x="4117" y="55"/>
                      <a:pt x="4117" y="53"/>
                    </a:cubicBezTo>
                    <a:cubicBezTo>
                      <a:pt x="4117" y="52"/>
                      <a:pt x="4118" y="52"/>
                      <a:pt x="4118" y="51"/>
                    </a:cubicBezTo>
                    <a:cubicBezTo>
                      <a:pt x="4118" y="51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7" y="52"/>
                      <a:pt x="4117" y="52"/>
                      <a:pt x="4117" y="52"/>
                    </a:cubicBezTo>
                    <a:cubicBezTo>
                      <a:pt x="4115" y="54"/>
                      <a:pt x="4113" y="56"/>
                      <a:pt x="4111" y="57"/>
                    </a:cubicBezTo>
                    <a:cubicBezTo>
                      <a:pt x="4112" y="54"/>
                      <a:pt x="4112" y="52"/>
                      <a:pt x="4112" y="50"/>
                    </a:cubicBezTo>
                    <a:cubicBezTo>
                      <a:pt x="4116" y="46"/>
                      <a:pt x="4119" y="42"/>
                      <a:pt x="4123" y="38"/>
                    </a:cubicBezTo>
                    <a:cubicBezTo>
                      <a:pt x="4119" y="41"/>
                      <a:pt x="4116" y="44"/>
                      <a:pt x="4113" y="47"/>
                    </a:cubicBezTo>
                    <a:cubicBezTo>
                      <a:pt x="4113" y="43"/>
                      <a:pt x="4114" y="40"/>
                      <a:pt x="4114" y="40"/>
                    </a:cubicBezTo>
                    <a:cubicBezTo>
                      <a:pt x="4113" y="43"/>
                      <a:pt x="4111" y="46"/>
                      <a:pt x="4110" y="50"/>
                    </a:cubicBezTo>
                    <a:cubicBezTo>
                      <a:pt x="4103" y="58"/>
                      <a:pt x="4098" y="66"/>
                      <a:pt x="4094" y="75"/>
                    </a:cubicBezTo>
                    <a:cubicBezTo>
                      <a:pt x="4093" y="70"/>
                      <a:pt x="4093" y="66"/>
                      <a:pt x="4093" y="63"/>
                    </a:cubicBezTo>
                    <a:cubicBezTo>
                      <a:pt x="4096" y="57"/>
                      <a:pt x="4099" y="50"/>
                      <a:pt x="4103" y="42"/>
                    </a:cubicBezTo>
                    <a:cubicBezTo>
                      <a:pt x="4094" y="52"/>
                      <a:pt x="4088" y="61"/>
                      <a:pt x="4084" y="71"/>
                    </a:cubicBezTo>
                    <a:cubicBezTo>
                      <a:pt x="4083" y="70"/>
                      <a:pt x="4082" y="70"/>
                      <a:pt x="4082" y="69"/>
                    </a:cubicBezTo>
                    <a:cubicBezTo>
                      <a:pt x="4082" y="68"/>
                      <a:pt x="4082" y="67"/>
                      <a:pt x="4081" y="65"/>
                    </a:cubicBezTo>
                    <a:cubicBezTo>
                      <a:pt x="4088" y="53"/>
                      <a:pt x="4096" y="41"/>
                      <a:pt x="4107" y="25"/>
                    </a:cubicBezTo>
                    <a:cubicBezTo>
                      <a:pt x="4096" y="40"/>
                      <a:pt x="4088" y="51"/>
                      <a:pt x="4081" y="64"/>
                    </a:cubicBezTo>
                    <a:cubicBezTo>
                      <a:pt x="4079" y="45"/>
                      <a:pt x="4077" y="30"/>
                      <a:pt x="4077" y="30"/>
                    </a:cubicBezTo>
                    <a:cubicBezTo>
                      <a:pt x="4078" y="35"/>
                      <a:pt x="4078" y="49"/>
                      <a:pt x="4078" y="65"/>
                    </a:cubicBezTo>
                    <a:cubicBezTo>
                      <a:pt x="4078" y="65"/>
                      <a:pt x="4077" y="65"/>
                      <a:pt x="4077" y="65"/>
                    </a:cubicBezTo>
                    <a:cubicBezTo>
                      <a:pt x="4077" y="65"/>
                      <a:pt x="4078" y="65"/>
                      <a:pt x="4078" y="65"/>
                    </a:cubicBezTo>
                    <a:cubicBezTo>
                      <a:pt x="4078" y="67"/>
                      <a:pt x="4078" y="69"/>
                      <a:pt x="4077" y="71"/>
                    </a:cubicBezTo>
                    <a:cubicBezTo>
                      <a:pt x="4076" y="74"/>
                      <a:pt x="4075" y="78"/>
                      <a:pt x="4074" y="81"/>
                    </a:cubicBezTo>
                    <a:cubicBezTo>
                      <a:pt x="4075" y="78"/>
                      <a:pt x="4076" y="76"/>
                      <a:pt x="4077" y="73"/>
                    </a:cubicBezTo>
                    <a:cubicBezTo>
                      <a:pt x="4077" y="79"/>
                      <a:pt x="4077" y="85"/>
                      <a:pt x="4077" y="91"/>
                    </a:cubicBezTo>
                    <a:cubicBezTo>
                      <a:pt x="4076" y="93"/>
                      <a:pt x="4076" y="95"/>
                      <a:pt x="4076" y="97"/>
                    </a:cubicBezTo>
                    <a:cubicBezTo>
                      <a:pt x="4075" y="96"/>
                      <a:pt x="4074" y="95"/>
                      <a:pt x="4074" y="94"/>
                    </a:cubicBezTo>
                    <a:cubicBezTo>
                      <a:pt x="4073" y="91"/>
                      <a:pt x="4073" y="88"/>
                      <a:pt x="4073" y="85"/>
                    </a:cubicBezTo>
                    <a:cubicBezTo>
                      <a:pt x="4073" y="83"/>
                      <a:pt x="4074" y="82"/>
                      <a:pt x="4074" y="81"/>
                    </a:cubicBezTo>
                    <a:cubicBezTo>
                      <a:pt x="4074" y="82"/>
                      <a:pt x="4073" y="83"/>
                      <a:pt x="4073" y="84"/>
                    </a:cubicBezTo>
                    <a:cubicBezTo>
                      <a:pt x="4072" y="72"/>
                      <a:pt x="4071" y="62"/>
                      <a:pt x="4071" y="55"/>
                    </a:cubicBezTo>
                    <a:cubicBezTo>
                      <a:pt x="4072" y="54"/>
                      <a:pt x="4073" y="53"/>
                      <a:pt x="4075" y="52"/>
                    </a:cubicBezTo>
                    <a:cubicBezTo>
                      <a:pt x="4073" y="53"/>
                      <a:pt x="4072" y="54"/>
                      <a:pt x="4071" y="54"/>
                    </a:cubicBezTo>
                    <a:cubicBezTo>
                      <a:pt x="4071" y="49"/>
                      <a:pt x="4070" y="46"/>
                      <a:pt x="4070" y="46"/>
                    </a:cubicBezTo>
                    <a:cubicBezTo>
                      <a:pt x="4070" y="48"/>
                      <a:pt x="4070" y="51"/>
                      <a:pt x="4070" y="55"/>
                    </a:cubicBezTo>
                    <a:cubicBezTo>
                      <a:pt x="4067" y="57"/>
                      <a:pt x="4064" y="59"/>
                      <a:pt x="4061" y="62"/>
                    </a:cubicBezTo>
                    <a:cubicBezTo>
                      <a:pt x="4061" y="58"/>
                      <a:pt x="4061" y="54"/>
                      <a:pt x="4061" y="50"/>
                    </a:cubicBezTo>
                    <a:cubicBezTo>
                      <a:pt x="4065" y="45"/>
                      <a:pt x="4070" y="40"/>
                      <a:pt x="4075" y="34"/>
                    </a:cubicBezTo>
                    <a:cubicBezTo>
                      <a:pt x="4070" y="39"/>
                      <a:pt x="4065" y="44"/>
                      <a:pt x="4061" y="48"/>
                    </a:cubicBezTo>
                    <a:cubicBezTo>
                      <a:pt x="4062" y="21"/>
                      <a:pt x="4064" y="0"/>
                      <a:pt x="4064" y="0"/>
                    </a:cubicBezTo>
                    <a:cubicBezTo>
                      <a:pt x="4060" y="10"/>
                      <a:pt x="4058" y="35"/>
                      <a:pt x="4057" y="53"/>
                    </a:cubicBezTo>
                    <a:cubicBezTo>
                      <a:pt x="4056" y="54"/>
                      <a:pt x="4055" y="55"/>
                      <a:pt x="4055" y="56"/>
                    </a:cubicBezTo>
                    <a:cubicBezTo>
                      <a:pt x="4053" y="44"/>
                      <a:pt x="4050" y="33"/>
                      <a:pt x="4050" y="33"/>
                    </a:cubicBezTo>
                    <a:cubicBezTo>
                      <a:pt x="4051" y="39"/>
                      <a:pt x="4051" y="49"/>
                      <a:pt x="4050" y="62"/>
                    </a:cubicBezTo>
                    <a:cubicBezTo>
                      <a:pt x="4048" y="63"/>
                      <a:pt x="4047" y="65"/>
                      <a:pt x="4046" y="67"/>
                    </a:cubicBezTo>
                    <a:cubicBezTo>
                      <a:pt x="4045" y="65"/>
                      <a:pt x="4044" y="63"/>
                      <a:pt x="4043" y="62"/>
                    </a:cubicBezTo>
                    <a:cubicBezTo>
                      <a:pt x="4043" y="63"/>
                      <a:pt x="4044" y="65"/>
                      <a:pt x="4045" y="68"/>
                    </a:cubicBezTo>
                    <a:cubicBezTo>
                      <a:pt x="4042" y="72"/>
                      <a:pt x="4040" y="75"/>
                      <a:pt x="4039" y="78"/>
                    </a:cubicBezTo>
                    <a:cubicBezTo>
                      <a:pt x="4038" y="61"/>
                      <a:pt x="4038" y="48"/>
                      <a:pt x="4038" y="48"/>
                    </a:cubicBezTo>
                    <a:cubicBezTo>
                      <a:pt x="4037" y="52"/>
                      <a:pt x="4036" y="65"/>
                      <a:pt x="4034" y="80"/>
                    </a:cubicBezTo>
                    <a:cubicBezTo>
                      <a:pt x="4033" y="82"/>
                      <a:pt x="4033" y="85"/>
                      <a:pt x="4032" y="87"/>
                    </a:cubicBezTo>
                    <a:cubicBezTo>
                      <a:pt x="4031" y="86"/>
                      <a:pt x="4031" y="86"/>
                      <a:pt x="4030" y="85"/>
                    </a:cubicBezTo>
                    <a:cubicBezTo>
                      <a:pt x="4033" y="48"/>
                      <a:pt x="4036" y="9"/>
                      <a:pt x="4036" y="9"/>
                    </a:cubicBezTo>
                    <a:cubicBezTo>
                      <a:pt x="4032" y="20"/>
                      <a:pt x="4028" y="57"/>
                      <a:pt x="4024" y="89"/>
                    </a:cubicBezTo>
                    <a:cubicBezTo>
                      <a:pt x="4023" y="91"/>
                      <a:pt x="4022" y="92"/>
                      <a:pt x="4022" y="93"/>
                    </a:cubicBezTo>
                    <a:cubicBezTo>
                      <a:pt x="4021" y="92"/>
                      <a:pt x="4020" y="90"/>
                      <a:pt x="4019" y="89"/>
                    </a:cubicBezTo>
                    <a:cubicBezTo>
                      <a:pt x="4022" y="72"/>
                      <a:pt x="4025" y="55"/>
                      <a:pt x="4025" y="37"/>
                    </a:cubicBezTo>
                    <a:cubicBezTo>
                      <a:pt x="4025" y="34"/>
                      <a:pt x="4025" y="30"/>
                      <a:pt x="4025" y="26"/>
                    </a:cubicBezTo>
                    <a:cubicBezTo>
                      <a:pt x="4018" y="45"/>
                      <a:pt x="4017" y="66"/>
                      <a:pt x="4013" y="86"/>
                    </a:cubicBezTo>
                    <a:cubicBezTo>
                      <a:pt x="4012" y="85"/>
                      <a:pt x="4012" y="84"/>
                      <a:pt x="4011" y="84"/>
                    </a:cubicBezTo>
                    <a:cubicBezTo>
                      <a:pt x="4012" y="84"/>
                      <a:pt x="4012" y="85"/>
                      <a:pt x="4013" y="86"/>
                    </a:cubicBezTo>
                    <a:cubicBezTo>
                      <a:pt x="4012" y="88"/>
                      <a:pt x="4012" y="90"/>
                      <a:pt x="4012" y="92"/>
                    </a:cubicBezTo>
                    <a:cubicBezTo>
                      <a:pt x="4011" y="94"/>
                      <a:pt x="4011" y="96"/>
                      <a:pt x="4010" y="98"/>
                    </a:cubicBezTo>
                    <a:cubicBezTo>
                      <a:pt x="4010" y="97"/>
                      <a:pt x="4009" y="96"/>
                      <a:pt x="4008" y="94"/>
                    </a:cubicBezTo>
                    <a:cubicBezTo>
                      <a:pt x="4008" y="86"/>
                      <a:pt x="4007" y="78"/>
                      <a:pt x="4006" y="72"/>
                    </a:cubicBezTo>
                    <a:cubicBezTo>
                      <a:pt x="4009" y="67"/>
                      <a:pt x="4013" y="63"/>
                      <a:pt x="4017" y="59"/>
                    </a:cubicBezTo>
                    <a:cubicBezTo>
                      <a:pt x="4013" y="62"/>
                      <a:pt x="4009" y="66"/>
                      <a:pt x="4006" y="70"/>
                    </a:cubicBezTo>
                    <a:cubicBezTo>
                      <a:pt x="4005" y="64"/>
                      <a:pt x="4005" y="60"/>
                      <a:pt x="4004" y="57"/>
                    </a:cubicBezTo>
                    <a:cubicBezTo>
                      <a:pt x="4005" y="54"/>
                      <a:pt x="4007" y="52"/>
                      <a:pt x="4008" y="50"/>
                    </a:cubicBezTo>
                    <a:cubicBezTo>
                      <a:pt x="4007" y="51"/>
                      <a:pt x="4005" y="53"/>
                      <a:pt x="4004" y="54"/>
                    </a:cubicBezTo>
                    <a:cubicBezTo>
                      <a:pt x="4004" y="53"/>
                      <a:pt x="4004" y="52"/>
                      <a:pt x="4004" y="52"/>
                    </a:cubicBezTo>
                    <a:cubicBezTo>
                      <a:pt x="4004" y="53"/>
                      <a:pt x="4004" y="54"/>
                      <a:pt x="4004" y="54"/>
                    </a:cubicBezTo>
                    <a:cubicBezTo>
                      <a:pt x="4002" y="56"/>
                      <a:pt x="4000" y="58"/>
                      <a:pt x="3998" y="60"/>
                    </a:cubicBezTo>
                    <a:cubicBezTo>
                      <a:pt x="3997" y="54"/>
                      <a:pt x="3996" y="48"/>
                      <a:pt x="3995" y="44"/>
                    </a:cubicBezTo>
                    <a:cubicBezTo>
                      <a:pt x="3996" y="49"/>
                      <a:pt x="3995" y="56"/>
                      <a:pt x="3994" y="64"/>
                    </a:cubicBezTo>
                    <a:cubicBezTo>
                      <a:pt x="3993" y="66"/>
                      <a:pt x="3992" y="68"/>
                      <a:pt x="3991" y="69"/>
                    </a:cubicBezTo>
                    <a:cubicBezTo>
                      <a:pt x="3989" y="67"/>
                      <a:pt x="3988" y="66"/>
                      <a:pt x="3986" y="64"/>
                    </a:cubicBezTo>
                    <a:cubicBezTo>
                      <a:pt x="3988" y="66"/>
                      <a:pt x="3989" y="67"/>
                      <a:pt x="3991" y="69"/>
                    </a:cubicBezTo>
                    <a:cubicBezTo>
                      <a:pt x="3989" y="71"/>
                      <a:pt x="3988" y="73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7" y="75"/>
                      <a:pt x="3987" y="75"/>
                      <a:pt x="3987" y="75"/>
                    </a:cubicBezTo>
                    <a:cubicBezTo>
                      <a:pt x="3986" y="76"/>
                      <a:pt x="3985" y="77"/>
                      <a:pt x="3984" y="79"/>
                    </a:cubicBezTo>
                    <a:cubicBezTo>
                      <a:pt x="3984" y="79"/>
                      <a:pt x="3984" y="79"/>
                      <a:pt x="3984" y="79"/>
                    </a:cubicBezTo>
                    <a:cubicBezTo>
                      <a:pt x="3985" y="60"/>
                      <a:pt x="3985" y="45"/>
                      <a:pt x="3985" y="45"/>
                    </a:cubicBezTo>
                    <a:cubicBezTo>
                      <a:pt x="3985" y="50"/>
                      <a:pt x="3983" y="61"/>
                      <a:pt x="3980" y="73"/>
                    </a:cubicBezTo>
                    <a:cubicBezTo>
                      <a:pt x="3979" y="73"/>
                      <a:pt x="3979" y="73"/>
                      <a:pt x="3978" y="72"/>
                    </a:cubicBezTo>
                    <a:cubicBezTo>
                      <a:pt x="3979" y="70"/>
                      <a:pt x="3979" y="68"/>
                      <a:pt x="3979" y="66"/>
                    </a:cubicBezTo>
                    <a:cubicBezTo>
                      <a:pt x="3979" y="65"/>
                      <a:pt x="3979" y="65"/>
                      <a:pt x="3980" y="65"/>
                    </a:cubicBezTo>
                    <a:cubicBezTo>
                      <a:pt x="3979" y="65"/>
                      <a:pt x="3979" y="65"/>
                      <a:pt x="3979" y="66"/>
                    </a:cubicBezTo>
                    <a:cubicBezTo>
                      <a:pt x="3979" y="64"/>
                      <a:pt x="3979" y="63"/>
                      <a:pt x="3979" y="61"/>
                    </a:cubicBezTo>
                    <a:cubicBezTo>
                      <a:pt x="3979" y="55"/>
                      <a:pt x="3979" y="49"/>
                      <a:pt x="3978" y="42"/>
                    </a:cubicBezTo>
                    <a:cubicBezTo>
                      <a:pt x="3981" y="27"/>
                      <a:pt x="3983" y="17"/>
                      <a:pt x="3983" y="17"/>
                    </a:cubicBezTo>
                    <a:cubicBezTo>
                      <a:pt x="3980" y="22"/>
                      <a:pt x="3973" y="49"/>
                      <a:pt x="3967" y="78"/>
                    </a:cubicBezTo>
                    <a:cubicBezTo>
                      <a:pt x="3967" y="78"/>
                      <a:pt x="3967" y="79"/>
                      <a:pt x="3966" y="79"/>
                    </a:cubicBezTo>
                    <a:cubicBezTo>
                      <a:pt x="3965" y="76"/>
                      <a:pt x="3962" y="72"/>
                      <a:pt x="3960" y="69"/>
                    </a:cubicBezTo>
                    <a:cubicBezTo>
                      <a:pt x="3961" y="67"/>
                      <a:pt x="3963" y="66"/>
                      <a:pt x="3965" y="64"/>
                    </a:cubicBezTo>
                    <a:cubicBezTo>
                      <a:pt x="3963" y="66"/>
                      <a:pt x="3961" y="67"/>
                      <a:pt x="3960" y="69"/>
                    </a:cubicBezTo>
                    <a:cubicBezTo>
                      <a:pt x="3959" y="68"/>
                      <a:pt x="3958" y="67"/>
                      <a:pt x="3957" y="66"/>
                    </a:cubicBezTo>
                    <a:cubicBezTo>
                      <a:pt x="3957" y="60"/>
                      <a:pt x="3956" y="55"/>
                      <a:pt x="3956" y="52"/>
                    </a:cubicBezTo>
                    <a:cubicBezTo>
                      <a:pt x="3956" y="56"/>
                      <a:pt x="3956" y="60"/>
                      <a:pt x="3956" y="64"/>
                    </a:cubicBezTo>
                    <a:cubicBezTo>
                      <a:pt x="3952" y="60"/>
                      <a:pt x="3948" y="55"/>
                      <a:pt x="3943" y="50"/>
                    </a:cubicBezTo>
                    <a:cubicBezTo>
                      <a:pt x="3945" y="55"/>
                      <a:pt x="3949" y="60"/>
                      <a:pt x="3952" y="65"/>
                    </a:cubicBezTo>
                    <a:cubicBezTo>
                      <a:pt x="3951" y="68"/>
                      <a:pt x="3951" y="71"/>
                      <a:pt x="3950" y="76"/>
                    </a:cubicBezTo>
                    <a:cubicBezTo>
                      <a:pt x="3948" y="74"/>
                      <a:pt x="3946" y="71"/>
                      <a:pt x="3943" y="68"/>
                    </a:cubicBezTo>
                    <a:cubicBezTo>
                      <a:pt x="3943" y="54"/>
                      <a:pt x="3942" y="41"/>
                      <a:pt x="3941" y="33"/>
                    </a:cubicBezTo>
                    <a:cubicBezTo>
                      <a:pt x="3942" y="42"/>
                      <a:pt x="3941" y="53"/>
                      <a:pt x="3940" y="65"/>
                    </a:cubicBezTo>
                    <a:cubicBezTo>
                      <a:pt x="3938" y="63"/>
                      <a:pt x="3936" y="61"/>
                      <a:pt x="3934" y="59"/>
                    </a:cubicBezTo>
                    <a:cubicBezTo>
                      <a:pt x="3936" y="61"/>
                      <a:pt x="3938" y="63"/>
                      <a:pt x="3940" y="65"/>
                    </a:cubicBezTo>
                    <a:cubicBezTo>
                      <a:pt x="3939" y="72"/>
                      <a:pt x="3938" y="80"/>
                      <a:pt x="3937" y="87"/>
                    </a:cubicBezTo>
                    <a:cubicBezTo>
                      <a:pt x="3937" y="87"/>
                      <a:pt x="3937" y="87"/>
                      <a:pt x="3937" y="87"/>
                    </a:cubicBezTo>
                    <a:cubicBezTo>
                      <a:pt x="3936" y="85"/>
                      <a:pt x="3936" y="84"/>
                      <a:pt x="3935" y="83"/>
                    </a:cubicBezTo>
                    <a:cubicBezTo>
                      <a:pt x="3936" y="82"/>
                      <a:pt x="3936" y="82"/>
                      <a:pt x="3936" y="81"/>
                    </a:cubicBezTo>
                    <a:cubicBezTo>
                      <a:pt x="3936" y="82"/>
                      <a:pt x="3936" y="82"/>
                      <a:pt x="3935" y="83"/>
                    </a:cubicBezTo>
                    <a:cubicBezTo>
                      <a:pt x="3935" y="81"/>
                      <a:pt x="3934" y="79"/>
                      <a:pt x="3933" y="77"/>
                    </a:cubicBezTo>
                    <a:cubicBezTo>
                      <a:pt x="3934" y="79"/>
                      <a:pt x="3934" y="81"/>
                      <a:pt x="3935" y="83"/>
                    </a:cubicBezTo>
                    <a:cubicBezTo>
                      <a:pt x="3934" y="85"/>
                      <a:pt x="3933" y="86"/>
                      <a:pt x="3932" y="88"/>
                    </a:cubicBezTo>
                    <a:cubicBezTo>
                      <a:pt x="3933" y="86"/>
                      <a:pt x="3934" y="85"/>
                      <a:pt x="3935" y="83"/>
                    </a:cubicBezTo>
                    <a:cubicBezTo>
                      <a:pt x="3935" y="85"/>
                      <a:pt x="3936" y="86"/>
                      <a:pt x="3936" y="88"/>
                    </a:cubicBezTo>
                    <a:cubicBezTo>
                      <a:pt x="3934" y="91"/>
                      <a:pt x="3933" y="95"/>
                      <a:pt x="3931" y="98"/>
                    </a:cubicBezTo>
                    <a:cubicBezTo>
                      <a:pt x="3931" y="97"/>
                      <a:pt x="3931" y="97"/>
                      <a:pt x="3930" y="97"/>
                    </a:cubicBezTo>
                    <a:cubicBezTo>
                      <a:pt x="3930" y="95"/>
                      <a:pt x="3930" y="94"/>
                      <a:pt x="3930" y="93"/>
                    </a:cubicBezTo>
                    <a:cubicBezTo>
                      <a:pt x="3930" y="91"/>
                      <a:pt x="3931" y="89"/>
                      <a:pt x="3932" y="88"/>
                    </a:cubicBezTo>
                    <a:cubicBezTo>
                      <a:pt x="3931" y="89"/>
                      <a:pt x="3930" y="91"/>
                      <a:pt x="3929" y="92"/>
                    </a:cubicBezTo>
                    <a:cubicBezTo>
                      <a:pt x="3929" y="92"/>
                      <a:pt x="3929" y="91"/>
                      <a:pt x="3929" y="91"/>
                    </a:cubicBezTo>
                    <a:cubicBezTo>
                      <a:pt x="3929" y="74"/>
                      <a:pt x="3928" y="60"/>
                      <a:pt x="3928" y="60"/>
                    </a:cubicBezTo>
                    <a:cubicBezTo>
                      <a:pt x="3928" y="65"/>
                      <a:pt x="3927" y="73"/>
                      <a:pt x="3927" y="81"/>
                    </a:cubicBezTo>
                    <a:cubicBezTo>
                      <a:pt x="3926" y="79"/>
                      <a:pt x="3926" y="76"/>
                      <a:pt x="3925" y="74"/>
                    </a:cubicBezTo>
                    <a:cubicBezTo>
                      <a:pt x="3926" y="79"/>
                      <a:pt x="3926" y="83"/>
                      <a:pt x="3926" y="88"/>
                    </a:cubicBezTo>
                    <a:cubicBezTo>
                      <a:pt x="3925" y="86"/>
                      <a:pt x="3924" y="84"/>
                      <a:pt x="3923" y="83"/>
                    </a:cubicBezTo>
                    <a:cubicBezTo>
                      <a:pt x="3924" y="85"/>
                      <a:pt x="3925" y="87"/>
                      <a:pt x="3926" y="89"/>
                    </a:cubicBezTo>
                    <a:cubicBezTo>
                      <a:pt x="3926" y="89"/>
                      <a:pt x="3926" y="89"/>
                      <a:pt x="3926" y="89"/>
                    </a:cubicBezTo>
                    <a:cubicBezTo>
                      <a:pt x="3926" y="93"/>
                      <a:pt x="3925" y="97"/>
                      <a:pt x="3925" y="101"/>
                    </a:cubicBezTo>
                    <a:cubicBezTo>
                      <a:pt x="3924" y="103"/>
                      <a:pt x="3923" y="104"/>
                      <a:pt x="3923" y="106"/>
                    </a:cubicBezTo>
                    <a:cubicBezTo>
                      <a:pt x="3921" y="100"/>
                      <a:pt x="3920" y="95"/>
                      <a:pt x="3918" y="90"/>
                    </a:cubicBezTo>
                    <a:cubicBezTo>
                      <a:pt x="3919" y="88"/>
                      <a:pt x="3921" y="85"/>
                      <a:pt x="3922" y="83"/>
                    </a:cubicBezTo>
                    <a:cubicBezTo>
                      <a:pt x="3921" y="85"/>
                      <a:pt x="3919" y="87"/>
                      <a:pt x="3917" y="89"/>
                    </a:cubicBezTo>
                    <a:cubicBezTo>
                      <a:pt x="3917" y="88"/>
                      <a:pt x="3916" y="87"/>
                      <a:pt x="3916" y="87"/>
                    </a:cubicBezTo>
                    <a:cubicBezTo>
                      <a:pt x="3916" y="76"/>
                      <a:pt x="3917" y="68"/>
                      <a:pt x="3917" y="68"/>
                    </a:cubicBezTo>
                    <a:cubicBezTo>
                      <a:pt x="3916" y="72"/>
                      <a:pt x="3915" y="77"/>
                      <a:pt x="3914" y="82"/>
                    </a:cubicBezTo>
                    <a:cubicBezTo>
                      <a:pt x="3914" y="81"/>
                      <a:pt x="3914" y="80"/>
                      <a:pt x="3914" y="80"/>
                    </a:cubicBezTo>
                    <a:cubicBezTo>
                      <a:pt x="3914" y="80"/>
                      <a:pt x="3914" y="81"/>
                      <a:pt x="3914" y="82"/>
                    </a:cubicBezTo>
                    <a:cubicBezTo>
                      <a:pt x="3913" y="80"/>
                      <a:pt x="3912" y="78"/>
                      <a:pt x="3910" y="75"/>
                    </a:cubicBezTo>
                    <a:cubicBezTo>
                      <a:pt x="3911" y="65"/>
                      <a:pt x="3912" y="56"/>
                      <a:pt x="3913" y="48"/>
                    </a:cubicBezTo>
                    <a:cubicBezTo>
                      <a:pt x="3912" y="55"/>
                      <a:pt x="3910" y="64"/>
                      <a:pt x="3909" y="73"/>
                    </a:cubicBezTo>
                    <a:cubicBezTo>
                      <a:pt x="3907" y="70"/>
                      <a:pt x="3905" y="67"/>
                      <a:pt x="3903" y="64"/>
                    </a:cubicBezTo>
                    <a:cubicBezTo>
                      <a:pt x="3903" y="62"/>
                      <a:pt x="3903" y="59"/>
                      <a:pt x="3903" y="57"/>
                    </a:cubicBezTo>
                    <a:cubicBezTo>
                      <a:pt x="3902" y="58"/>
                      <a:pt x="3902" y="60"/>
                      <a:pt x="3901" y="62"/>
                    </a:cubicBezTo>
                    <a:cubicBezTo>
                      <a:pt x="3899" y="59"/>
                      <a:pt x="3896" y="55"/>
                      <a:pt x="3893" y="52"/>
                    </a:cubicBezTo>
                    <a:cubicBezTo>
                      <a:pt x="3893" y="48"/>
                      <a:pt x="3893" y="46"/>
                      <a:pt x="3893" y="46"/>
                    </a:cubicBezTo>
                    <a:cubicBezTo>
                      <a:pt x="3893" y="48"/>
                      <a:pt x="3893" y="49"/>
                      <a:pt x="3892" y="51"/>
                    </a:cubicBezTo>
                    <a:cubicBezTo>
                      <a:pt x="3889" y="47"/>
                      <a:pt x="3885" y="43"/>
                      <a:pt x="3881" y="39"/>
                    </a:cubicBezTo>
                    <a:cubicBezTo>
                      <a:pt x="3881" y="37"/>
                      <a:pt x="3881" y="35"/>
                      <a:pt x="3880" y="34"/>
                    </a:cubicBezTo>
                    <a:cubicBezTo>
                      <a:pt x="3880" y="34"/>
                      <a:pt x="3881" y="36"/>
                      <a:pt x="3881" y="39"/>
                    </a:cubicBezTo>
                    <a:cubicBezTo>
                      <a:pt x="3879" y="37"/>
                      <a:pt x="3878" y="36"/>
                      <a:pt x="3876" y="34"/>
                    </a:cubicBezTo>
                    <a:cubicBezTo>
                      <a:pt x="3878" y="36"/>
                      <a:pt x="3879" y="38"/>
                      <a:pt x="3881" y="40"/>
                    </a:cubicBezTo>
                    <a:cubicBezTo>
                      <a:pt x="3881" y="40"/>
                      <a:pt x="3881" y="40"/>
                      <a:pt x="3881" y="41"/>
                    </a:cubicBezTo>
                    <a:cubicBezTo>
                      <a:pt x="3881" y="40"/>
                      <a:pt x="3881" y="40"/>
                      <a:pt x="3881" y="40"/>
                    </a:cubicBezTo>
                    <a:cubicBezTo>
                      <a:pt x="3885" y="45"/>
                      <a:pt x="3888" y="49"/>
                      <a:pt x="3892" y="53"/>
                    </a:cubicBezTo>
                    <a:cubicBezTo>
                      <a:pt x="3891" y="55"/>
                      <a:pt x="3890" y="59"/>
                      <a:pt x="3890" y="62"/>
                    </a:cubicBezTo>
                    <a:cubicBezTo>
                      <a:pt x="3887" y="60"/>
                      <a:pt x="3885" y="58"/>
                      <a:pt x="3882" y="56"/>
                    </a:cubicBezTo>
                    <a:cubicBezTo>
                      <a:pt x="3881" y="50"/>
                      <a:pt x="3881" y="44"/>
                      <a:pt x="3881" y="41"/>
                    </a:cubicBezTo>
                    <a:cubicBezTo>
                      <a:pt x="3881" y="45"/>
                      <a:pt x="3881" y="50"/>
                      <a:pt x="3880" y="55"/>
                    </a:cubicBezTo>
                    <a:cubicBezTo>
                      <a:pt x="3879" y="54"/>
                      <a:pt x="3878" y="53"/>
                      <a:pt x="3876" y="52"/>
                    </a:cubicBezTo>
                    <a:cubicBezTo>
                      <a:pt x="3878" y="53"/>
                      <a:pt x="3879" y="54"/>
                      <a:pt x="3880" y="55"/>
                    </a:cubicBezTo>
                    <a:cubicBezTo>
                      <a:pt x="3880" y="64"/>
                      <a:pt x="3879" y="73"/>
                      <a:pt x="3877" y="83"/>
                    </a:cubicBezTo>
                    <a:cubicBezTo>
                      <a:pt x="3877" y="82"/>
                      <a:pt x="3877" y="81"/>
                      <a:pt x="3877" y="81"/>
                    </a:cubicBezTo>
                    <a:cubicBezTo>
                      <a:pt x="3877" y="82"/>
                      <a:pt x="3877" y="82"/>
                      <a:pt x="3877" y="83"/>
                    </a:cubicBezTo>
                    <a:cubicBezTo>
                      <a:pt x="3876" y="88"/>
                      <a:pt x="3876" y="92"/>
                      <a:pt x="3875" y="97"/>
                    </a:cubicBezTo>
                    <a:cubicBezTo>
                      <a:pt x="3873" y="89"/>
                      <a:pt x="3871" y="81"/>
                      <a:pt x="3868" y="73"/>
                    </a:cubicBezTo>
                    <a:cubicBezTo>
                      <a:pt x="3868" y="72"/>
                      <a:pt x="3868" y="71"/>
                      <a:pt x="3868" y="71"/>
                    </a:cubicBezTo>
                    <a:cubicBezTo>
                      <a:pt x="3869" y="70"/>
                      <a:pt x="3870" y="69"/>
                      <a:pt x="3871" y="68"/>
                    </a:cubicBezTo>
                    <a:cubicBezTo>
                      <a:pt x="3873" y="72"/>
                      <a:pt x="3875" y="76"/>
                      <a:pt x="3877" y="81"/>
                    </a:cubicBezTo>
                    <a:cubicBezTo>
                      <a:pt x="3875" y="76"/>
                      <a:pt x="3873" y="72"/>
                      <a:pt x="3871" y="67"/>
                    </a:cubicBezTo>
                    <a:cubicBezTo>
                      <a:pt x="3872" y="67"/>
                      <a:pt x="3872" y="66"/>
                      <a:pt x="3873" y="65"/>
                    </a:cubicBezTo>
                    <a:cubicBezTo>
                      <a:pt x="3872" y="66"/>
                      <a:pt x="3872" y="66"/>
                      <a:pt x="3871" y="67"/>
                    </a:cubicBezTo>
                    <a:cubicBezTo>
                      <a:pt x="3865" y="54"/>
                      <a:pt x="3855" y="41"/>
                      <a:pt x="3843" y="25"/>
                    </a:cubicBezTo>
                    <a:cubicBezTo>
                      <a:pt x="3855" y="42"/>
                      <a:pt x="3864" y="55"/>
                      <a:pt x="3870" y="68"/>
                    </a:cubicBezTo>
                    <a:cubicBezTo>
                      <a:pt x="3870" y="68"/>
                      <a:pt x="3869" y="69"/>
                      <a:pt x="3868" y="70"/>
                    </a:cubicBezTo>
                    <a:cubicBezTo>
                      <a:pt x="3868" y="68"/>
                      <a:pt x="3868" y="66"/>
                      <a:pt x="3868" y="66"/>
                    </a:cubicBezTo>
                    <a:cubicBezTo>
                      <a:pt x="3868" y="68"/>
                      <a:pt x="3868" y="69"/>
                      <a:pt x="3867" y="71"/>
                    </a:cubicBezTo>
                    <a:cubicBezTo>
                      <a:pt x="3867" y="71"/>
                      <a:pt x="3867" y="71"/>
                      <a:pt x="3867" y="71"/>
                    </a:cubicBezTo>
                    <a:cubicBezTo>
                      <a:pt x="3863" y="61"/>
                      <a:pt x="3856" y="52"/>
                      <a:pt x="3847" y="42"/>
                    </a:cubicBezTo>
                    <a:cubicBezTo>
                      <a:pt x="3854" y="55"/>
                      <a:pt x="3859" y="65"/>
                      <a:pt x="3863" y="75"/>
                    </a:cubicBezTo>
                    <a:cubicBezTo>
                      <a:pt x="3862" y="76"/>
                      <a:pt x="3861" y="77"/>
                      <a:pt x="3860" y="77"/>
                    </a:cubicBezTo>
                    <a:cubicBezTo>
                      <a:pt x="3858" y="73"/>
                      <a:pt x="3856" y="70"/>
                      <a:pt x="3854" y="68"/>
                    </a:cubicBezTo>
                    <a:cubicBezTo>
                      <a:pt x="3853" y="63"/>
                      <a:pt x="3853" y="60"/>
                      <a:pt x="3853" y="60"/>
                    </a:cubicBezTo>
                    <a:cubicBezTo>
                      <a:pt x="3853" y="62"/>
                      <a:pt x="3853" y="64"/>
                      <a:pt x="3853" y="67"/>
                    </a:cubicBezTo>
                    <a:cubicBezTo>
                      <a:pt x="3847" y="57"/>
                      <a:pt x="3839" y="47"/>
                      <a:pt x="3828" y="38"/>
                    </a:cubicBezTo>
                    <a:cubicBezTo>
                      <a:pt x="3838" y="49"/>
                      <a:pt x="3846" y="60"/>
                      <a:pt x="3852" y="71"/>
                    </a:cubicBezTo>
                    <a:cubicBezTo>
                      <a:pt x="3852" y="75"/>
                      <a:pt x="3852" y="80"/>
                      <a:pt x="3851" y="85"/>
                    </a:cubicBezTo>
                    <a:cubicBezTo>
                      <a:pt x="3851" y="84"/>
                      <a:pt x="3851" y="83"/>
                      <a:pt x="3850" y="83"/>
                    </a:cubicBezTo>
                    <a:cubicBezTo>
                      <a:pt x="3850" y="84"/>
                      <a:pt x="3851" y="85"/>
                      <a:pt x="3851" y="86"/>
                    </a:cubicBezTo>
                    <a:cubicBezTo>
                      <a:pt x="3851" y="87"/>
                      <a:pt x="3851" y="88"/>
                      <a:pt x="3851" y="89"/>
                    </a:cubicBezTo>
                    <a:cubicBezTo>
                      <a:pt x="3849" y="92"/>
                      <a:pt x="3848" y="94"/>
                      <a:pt x="3846" y="97"/>
                    </a:cubicBezTo>
                    <a:cubicBezTo>
                      <a:pt x="3846" y="93"/>
                      <a:pt x="3846" y="90"/>
                      <a:pt x="3846" y="87"/>
                    </a:cubicBezTo>
                    <a:cubicBezTo>
                      <a:pt x="3847" y="84"/>
                      <a:pt x="3848" y="82"/>
                      <a:pt x="3848" y="80"/>
                    </a:cubicBezTo>
                    <a:cubicBezTo>
                      <a:pt x="3849" y="81"/>
                      <a:pt x="3849" y="82"/>
                      <a:pt x="3850" y="83"/>
                    </a:cubicBezTo>
                    <a:cubicBezTo>
                      <a:pt x="3849" y="81"/>
                      <a:pt x="3849" y="80"/>
                      <a:pt x="3848" y="79"/>
                    </a:cubicBezTo>
                    <a:cubicBezTo>
                      <a:pt x="3849" y="79"/>
                      <a:pt x="3849" y="78"/>
                      <a:pt x="3849" y="77"/>
                    </a:cubicBezTo>
                    <a:cubicBezTo>
                      <a:pt x="3849" y="77"/>
                      <a:pt x="3848" y="78"/>
                      <a:pt x="3848" y="79"/>
                    </a:cubicBezTo>
                    <a:cubicBezTo>
                      <a:pt x="3847" y="77"/>
                      <a:pt x="3847" y="76"/>
                      <a:pt x="3846" y="75"/>
                    </a:cubicBezTo>
                    <a:cubicBezTo>
                      <a:pt x="3847" y="77"/>
                      <a:pt x="3847" y="78"/>
                      <a:pt x="3848" y="79"/>
                    </a:cubicBezTo>
                    <a:cubicBezTo>
                      <a:pt x="3847" y="80"/>
                      <a:pt x="3846" y="81"/>
                      <a:pt x="3846" y="82"/>
                    </a:cubicBezTo>
                    <a:cubicBezTo>
                      <a:pt x="3846" y="73"/>
                      <a:pt x="3846" y="68"/>
                      <a:pt x="3846" y="68"/>
                    </a:cubicBezTo>
                    <a:cubicBezTo>
                      <a:pt x="3845" y="72"/>
                      <a:pt x="3845" y="78"/>
                      <a:pt x="3844" y="85"/>
                    </a:cubicBezTo>
                    <a:cubicBezTo>
                      <a:pt x="3841" y="90"/>
                      <a:pt x="3839" y="94"/>
                      <a:pt x="3838" y="99"/>
                    </a:cubicBezTo>
                    <a:cubicBezTo>
                      <a:pt x="3837" y="98"/>
                      <a:pt x="3837" y="97"/>
                      <a:pt x="3837" y="96"/>
                    </a:cubicBezTo>
                    <a:cubicBezTo>
                      <a:pt x="3837" y="92"/>
                      <a:pt x="3838" y="89"/>
                      <a:pt x="3838" y="89"/>
                    </a:cubicBezTo>
                    <a:cubicBezTo>
                      <a:pt x="3838" y="91"/>
                      <a:pt x="3837" y="92"/>
                      <a:pt x="3837" y="94"/>
                    </a:cubicBezTo>
                    <a:cubicBezTo>
                      <a:pt x="3836" y="91"/>
                      <a:pt x="3835" y="88"/>
                      <a:pt x="3835" y="85"/>
                    </a:cubicBezTo>
                    <a:cubicBezTo>
                      <a:pt x="3834" y="88"/>
                      <a:pt x="3834" y="91"/>
                      <a:pt x="3834" y="94"/>
                    </a:cubicBezTo>
                    <a:cubicBezTo>
                      <a:pt x="3834" y="97"/>
                      <a:pt x="3834" y="100"/>
                      <a:pt x="3834" y="103"/>
                    </a:cubicBezTo>
                    <a:cubicBezTo>
                      <a:pt x="3833" y="107"/>
                      <a:pt x="3831" y="112"/>
                      <a:pt x="3830" y="116"/>
                    </a:cubicBezTo>
                    <a:cubicBezTo>
                      <a:pt x="3828" y="112"/>
                      <a:pt x="3827" y="108"/>
                      <a:pt x="3826" y="104"/>
                    </a:cubicBezTo>
                    <a:cubicBezTo>
                      <a:pt x="3827" y="109"/>
                      <a:pt x="3828" y="115"/>
                      <a:pt x="3828" y="120"/>
                    </a:cubicBezTo>
                    <a:cubicBezTo>
                      <a:pt x="3827" y="124"/>
                      <a:pt x="3825" y="127"/>
                      <a:pt x="3824" y="130"/>
                    </a:cubicBezTo>
                    <a:cubicBezTo>
                      <a:pt x="3823" y="128"/>
                      <a:pt x="3822" y="126"/>
                      <a:pt x="3822" y="123"/>
                    </a:cubicBezTo>
                    <a:cubicBezTo>
                      <a:pt x="3823" y="115"/>
                      <a:pt x="3825" y="106"/>
                      <a:pt x="3827" y="98"/>
                    </a:cubicBezTo>
                    <a:cubicBezTo>
                      <a:pt x="3828" y="98"/>
                      <a:pt x="3828" y="97"/>
                      <a:pt x="3828" y="96"/>
                    </a:cubicBezTo>
                    <a:cubicBezTo>
                      <a:pt x="3828" y="96"/>
                      <a:pt x="3828" y="97"/>
                      <a:pt x="3827" y="97"/>
                    </a:cubicBezTo>
                    <a:cubicBezTo>
                      <a:pt x="3830" y="86"/>
                      <a:pt x="3833" y="76"/>
                      <a:pt x="3833" y="76"/>
                    </a:cubicBezTo>
                    <a:cubicBezTo>
                      <a:pt x="3828" y="83"/>
                      <a:pt x="3822" y="96"/>
                      <a:pt x="3818" y="109"/>
                    </a:cubicBezTo>
                    <a:cubicBezTo>
                      <a:pt x="3818" y="107"/>
                      <a:pt x="3817" y="106"/>
                      <a:pt x="3817" y="104"/>
                    </a:cubicBezTo>
                    <a:cubicBezTo>
                      <a:pt x="3819" y="97"/>
                      <a:pt x="3822" y="90"/>
                      <a:pt x="3825" y="84"/>
                    </a:cubicBezTo>
                    <a:cubicBezTo>
                      <a:pt x="3822" y="90"/>
                      <a:pt x="3819" y="96"/>
                      <a:pt x="3817" y="102"/>
                    </a:cubicBezTo>
                    <a:cubicBezTo>
                      <a:pt x="3816" y="102"/>
                      <a:pt x="3816" y="101"/>
                      <a:pt x="3816" y="101"/>
                    </a:cubicBezTo>
                    <a:cubicBezTo>
                      <a:pt x="3818" y="77"/>
                      <a:pt x="3814" y="62"/>
                      <a:pt x="3814" y="62"/>
                    </a:cubicBezTo>
                    <a:cubicBezTo>
                      <a:pt x="3815" y="69"/>
                      <a:pt x="3815" y="80"/>
                      <a:pt x="3813" y="91"/>
                    </a:cubicBezTo>
                    <a:cubicBezTo>
                      <a:pt x="3813" y="89"/>
                      <a:pt x="3813" y="88"/>
                      <a:pt x="3812" y="87"/>
                    </a:cubicBezTo>
                    <a:cubicBezTo>
                      <a:pt x="3812" y="88"/>
                      <a:pt x="3812" y="88"/>
                      <a:pt x="3812" y="88"/>
                    </a:cubicBezTo>
                    <a:cubicBezTo>
                      <a:pt x="3812" y="90"/>
                      <a:pt x="3812" y="93"/>
                      <a:pt x="3813" y="96"/>
                    </a:cubicBezTo>
                    <a:cubicBezTo>
                      <a:pt x="3812" y="101"/>
                      <a:pt x="3812" y="105"/>
                      <a:pt x="3811" y="110"/>
                    </a:cubicBezTo>
                    <a:cubicBezTo>
                      <a:pt x="3810" y="109"/>
                      <a:pt x="3810" y="107"/>
                      <a:pt x="3809" y="106"/>
                    </a:cubicBezTo>
                    <a:cubicBezTo>
                      <a:pt x="3810" y="103"/>
                      <a:pt x="3810" y="99"/>
                      <a:pt x="3811" y="96"/>
                    </a:cubicBezTo>
                    <a:cubicBezTo>
                      <a:pt x="3810" y="98"/>
                      <a:pt x="3809" y="100"/>
                      <a:pt x="3808" y="103"/>
                    </a:cubicBezTo>
                    <a:cubicBezTo>
                      <a:pt x="3807" y="101"/>
                      <a:pt x="3806" y="99"/>
                      <a:pt x="3806" y="98"/>
                    </a:cubicBezTo>
                    <a:cubicBezTo>
                      <a:pt x="3806" y="89"/>
                      <a:pt x="3807" y="82"/>
                      <a:pt x="3807" y="82"/>
                    </a:cubicBezTo>
                    <a:cubicBezTo>
                      <a:pt x="3805" y="97"/>
                      <a:pt x="3805" y="97"/>
                      <a:pt x="3805" y="97"/>
                    </a:cubicBezTo>
                    <a:cubicBezTo>
                      <a:pt x="3804" y="94"/>
                      <a:pt x="3803" y="92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90"/>
                      <a:pt x="3802" y="90"/>
                      <a:pt x="3802" y="90"/>
                    </a:cubicBezTo>
                    <a:cubicBezTo>
                      <a:pt x="3802" y="89"/>
                      <a:pt x="3802" y="89"/>
                      <a:pt x="3801" y="88"/>
                    </a:cubicBezTo>
                    <a:cubicBezTo>
                      <a:pt x="3801" y="83"/>
                      <a:pt x="3801" y="78"/>
                      <a:pt x="3801" y="73"/>
                    </a:cubicBezTo>
                    <a:cubicBezTo>
                      <a:pt x="3804" y="70"/>
                      <a:pt x="3807" y="66"/>
                      <a:pt x="3810" y="63"/>
                    </a:cubicBezTo>
                    <a:cubicBezTo>
                      <a:pt x="3807" y="66"/>
                      <a:pt x="3804" y="69"/>
                      <a:pt x="3801" y="71"/>
                    </a:cubicBezTo>
                    <a:cubicBezTo>
                      <a:pt x="3801" y="65"/>
                      <a:pt x="3800" y="60"/>
                      <a:pt x="3800" y="60"/>
                    </a:cubicBezTo>
                    <a:cubicBezTo>
                      <a:pt x="3800" y="64"/>
                      <a:pt x="3800" y="68"/>
                      <a:pt x="3800" y="72"/>
                    </a:cubicBezTo>
                    <a:cubicBezTo>
                      <a:pt x="3798" y="74"/>
                      <a:pt x="3797" y="75"/>
                      <a:pt x="3796" y="77"/>
                    </a:cubicBezTo>
                    <a:cubicBezTo>
                      <a:pt x="3795" y="70"/>
                      <a:pt x="3795" y="64"/>
                      <a:pt x="3795" y="64"/>
                    </a:cubicBezTo>
                    <a:cubicBezTo>
                      <a:pt x="3795" y="66"/>
                      <a:pt x="3795" y="71"/>
                      <a:pt x="3794" y="78"/>
                    </a:cubicBezTo>
                    <a:cubicBezTo>
                      <a:pt x="3791" y="81"/>
                      <a:pt x="3789" y="85"/>
                      <a:pt x="3787" y="88"/>
                    </a:cubicBezTo>
                    <a:cubicBezTo>
                      <a:pt x="3787" y="64"/>
                      <a:pt x="3786" y="42"/>
                      <a:pt x="3786" y="42"/>
                    </a:cubicBezTo>
                    <a:cubicBezTo>
                      <a:pt x="3787" y="55"/>
                      <a:pt x="3784" y="77"/>
                      <a:pt x="3782" y="96"/>
                    </a:cubicBezTo>
                    <a:cubicBezTo>
                      <a:pt x="3780" y="100"/>
                      <a:pt x="3778" y="104"/>
                      <a:pt x="3777" y="107"/>
                    </a:cubicBezTo>
                    <a:cubicBezTo>
                      <a:pt x="3776" y="107"/>
                      <a:pt x="3776" y="106"/>
                      <a:pt x="3776" y="106"/>
                    </a:cubicBezTo>
                    <a:cubicBezTo>
                      <a:pt x="3777" y="87"/>
                      <a:pt x="3780" y="70"/>
                      <a:pt x="3780" y="70"/>
                    </a:cubicBezTo>
                    <a:cubicBezTo>
                      <a:pt x="3778" y="74"/>
                      <a:pt x="3775" y="98"/>
                      <a:pt x="3773" y="117"/>
                    </a:cubicBezTo>
                    <a:cubicBezTo>
                      <a:pt x="3773" y="118"/>
                      <a:pt x="3773" y="119"/>
                      <a:pt x="3773" y="120"/>
                    </a:cubicBezTo>
                    <a:cubicBezTo>
                      <a:pt x="3773" y="119"/>
                      <a:pt x="3773" y="119"/>
                      <a:pt x="3773" y="118"/>
                    </a:cubicBezTo>
                    <a:cubicBezTo>
                      <a:pt x="3773" y="119"/>
                      <a:pt x="3773" y="119"/>
                      <a:pt x="3773" y="120"/>
                    </a:cubicBezTo>
                    <a:cubicBezTo>
                      <a:pt x="3772" y="121"/>
                      <a:pt x="3772" y="121"/>
                      <a:pt x="3772" y="122"/>
                    </a:cubicBezTo>
                    <a:cubicBezTo>
                      <a:pt x="3772" y="115"/>
                      <a:pt x="3772" y="108"/>
                      <a:pt x="3772" y="101"/>
                    </a:cubicBezTo>
                    <a:cubicBezTo>
                      <a:pt x="3772" y="101"/>
                      <a:pt x="3772" y="100"/>
                      <a:pt x="3772" y="100"/>
                    </a:cubicBezTo>
                    <a:cubicBezTo>
                      <a:pt x="3772" y="100"/>
                      <a:pt x="3772" y="101"/>
                      <a:pt x="3772" y="101"/>
                    </a:cubicBezTo>
                    <a:cubicBezTo>
                      <a:pt x="3772" y="98"/>
                      <a:pt x="3772" y="94"/>
                      <a:pt x="3771" y="91"/>
                    </a:cubicBezTo>
                    <a:cubicBezTo>
                      <a:pt x="3773" y="88"/>
                      <a:pt x="3775" y="85"/>
                      <a:pt x="3777" y="83"/>
                    </a:cubicBezTo>
                    <a:cubicBezTo>
                      <a:pt x="3775" y="85"/>
                      <a:pt x="3773" y="87"/>
                      <a:pt x="3771" y="90"/>
                    </a:cubicBezTo>
                    <a:cubicBezTo>
                      <a:pt x="3771" y="79"/>
                      <a:pt x="3770" y="69"/>
                      <a:pt x="3770" y="61"/>
                    </a:cubicBezTo>
                    <a:cubicBezTo>
                      <a:pt x="3769" y="73"/>
                      <a:pt x="3767" y="87"/>
                      <a:pt x="3765" y="100"/>
                    </a:cubicBezTo>
                    <a:cubicBezTo>
                      <a:pt x="3761" y="107"/>
                      <a:pt x="3758" y="115"/>
                      <a:pt x="3756" y="123"/>
                    </a:cubicBezTo>
                    <a:cubicBezTo>
                      <a:pt x="3757" y="109"/>
                      <a:pt x="3758" y="92"/>
                      <a:pt x="3759" y="80"/>
                    </a:cubicBezTo>
                    <a:cubicBezTo>
                      <a:pt x="3761" y="73"/>
                      <a:pt x="3762" y="67"/>
                      <a:pt x="3762" y="61"/>
                    </a:cubicBezTo>
                    <a:cubicBezTo>
                      <a:pt x="3762" y="60"/>
                      <a:pt x="3762" y="60"/>
                      <a:pt x="3762" y="60"/>
                    </a:cubicBezTo>
                    <a:cubicBezTo>
                      <a:pt x="3753" y="75"/>
                      <a:pt x="3749" y="88"/>
                      <a:pt x="3747" y="102"/>
                    </a:cubicBezTo>
                    <a:cubicBezTo>
                      <a:pt x="3747" y="102"/>
                      <a:pt x="3747" y="101"/>
                      <a:pt x="3747" y="101"/>
                    </a:cubicBezTo>
                    <a:cubicBezTo>
                      <a:pt x="3748" y="68"/>
                      <a:pt x="3751" y="30"/>
                      <a:pt x="3751" y="30"/>
                    </a:cubicBezTo>
                    <a:cubicBezTo>
                      <a:pt x="3748" y="38"/>
                      <a:pt x="3746" y="60"/>
                      <a:pt x="3743" y="83"/>
                    </a:cubicBezTo>
                    <a:cubicBezTo>
                      <a:pt x="3741" y="87"/>
                      <a:pt x="3738" y="92"/>
                      <a:pt x="3736" y="97"/>
                    </a:cubicBezTo>
                    <a:cubicBezTo>
                      <a:pt x="3736" y="91"/>
                      <a:pt x="3735" y="85"/>
                      <a:pt x="3735" y="79"/>
                    </a:cubicBezTo>
                    <a:cubicBezTo>
                      <a:pt x="3735" y="78"/>
                      <a:pt x="3735" y="78"/>
                      <a:pt x="3736" y="78"/>
                    </a:cubicBezTo>
                    <a:cubicBezTo>
                      <a:pt x="3735" y="78"/>
                      <a:pt x="3735" y="78"/>
                      <a:pt x="3735" y="78"/>
                    </a:cubicBezTo>
                    <a:cubicBezTo>
                      <a:pt x="3733" y="58"/>
                      <a:pt x="3732" y="41"/>
                      <a:pt x="3732" y="41"/>
                    </a:cubicBezTo>
                    <a:cubicBezTo>
                      <a:pt x="3733" y="52"/>
                      <a:pt x="3733" y="67"/>
                      <a:pt x="3732" y="82"/>
                    </a:cubicBezTo>
                    <a:cubicBezTo>
                      <a:pt x="3730" y="84"/>
                      <a:pt x="3728" y="87"/>
                      <a:pt x="3726" y="92"/>
                    </a:cubicBezTo>
                    <a:cubicBezTo>
                      <a:pt x="3725" y="82"/>
                      <a:pt x="3726" y="72"/>
                      <a:pt x="3726" y="68"/>
                    </a:cubicBezTo>
                    <a:cubicBezTo>
                      <a:pt x="3725" y="77"/>
                      <a:pt x="3724" y="88"/>
                      <a:pt x="3722" y="99"/>
                    </a:cubicBezTo>
                    <a:cubicBezTo>
                      <a:pt x="3720" y="94"/>
                      <a:pt x="3719" y="89"/>
                      <a:pt x="3717" y="84"/>
                    </a:cubicBezTo>
                    <a:cubicBezTo>
                      <a:pt x="3719" y="90"/>
                      <a:pt x="3720" y="96"/>
                      <a:pt x="3721" y="101"/>
                    </a:cubicBezTo>
                    <a:cubicBezTo>
                      <a:pt x="3721" y="105"/>
                      <a:pt x="3720" y="109"/>
                      <a:pt x="3719" y="113"/>
                    </a:cubicBezTo>
                    <a:cubicBezTo>
                      <a:pt x="3719" y="110"/>
                      <a:pt x="3719" y="108"/>
                      <a:pt x="3719" y="105"/>
                    </a:cubicBezTo>
                    <a:cubicBezTo>
                      <a:pt x="3718" y="108"/>
                      <a:pt x="3718" y="115"/>
                      <a:pt x="3718" y="119"/>
                    </a:cubicBezTo>
                    <a:cubicBezTo>
                      <a:pt x="3717" y="120"/>
                      <a:pt x="3717" y="122"/>
                      <a:pt x="3717" y="124"/>
                    </a:cubicBezTo>
                    <a:cubicBezTo>
                      <a:pt x="3716" y="125"/>
                      <a:pt x="3716" y="127"/>
                      <a:pt x="3716" y="128"/>
                    </a:cubicBezTo>
                    <a:cubicBezTo>
                      <a:pt x="3715" y="124"/>
                      <a:pt x="3714" y="120"/>
                      <a:pt x="3713" y="116"/>
                    </a:cubicBezTo>
                    <a:cubicBezTo>
                      <a:pt x="3714" y="108"/>
                      <a:pt x="3714" y="100"/>
                      <a:pt x="3715" y="94"/>
                    </a:cubicBezTo>
                    <a:cubicBezTo>
                      <a:pt x="3716" y="92"/>
                      <a:pt x="3716" y="91"/>
                      <a:pt x="3717" y="89"/>
                    </a:cubicBezTo>
                    <a:cubicBezTo>
                      <a:pt x="3716" y="90"/>
                      <a:pt x="3716" y="91"/>
                      <a:pt x="3715" y="92"/>
                    </a:cubicBezTo>
                    <a:cubicBezTo>
                      <a:pt x="3716" y="87"/>
                      <a:pt x="3716" y="83"/>
                      <a:pt x="3716" y="83"/>
                    </a:cubicBezTo>
                    <a:cubicBezTo>
                      <a:pt x="3716" y="85"/>
                      <a:pt x="3715" y="89"/>
                      <a:pt x="3714" y="93"/>
                    </a:cubicBezTo>
                    <a:cubicBezTo>
                      <a:pt x="3713" y="96"/>
                      <a:pt x="3711" y="99"/>
                      <a:pt x="3710" y="102"/>
                    </a:cubicBezTo>
                    <a:cubicBezTo>
                      <a:pt x="3709" y="101"/>
                      <a:pt x="3709" y="100"/>
                      <a:pt x="3709" y="99"/>
                    </a:cubicBezTo>
                    <a:cubicBezTo>
                      <a:pt x="3711" y="80"/>
                      <a:pt x="3713" y="62"/>
                      <a:pt x="3713" y="62"/>
                    </a:cubicBezTo>
                    <a:cubicBezTo>
                      <a:pt x="3711" y="66"/>
                      <a:pt x="3709" y="80"/>
                      <a:pt x="3707" y="95"/>
                    </a:cubicBezTo>
                    <a:cubicBezTo>
                      <a:pt x="3707" y="94"/>
                      <a:pt x="3706" y="92"/>
                      <a:pt x="3705" y="90"/>
                    </a:cubicBezTo>
                    <a:cubicBezTo>
                      <a:pt x="3706" y="92"/>
                      <a:pt x="3707" y="94"/>
                      <a:pt x="3707" y="96"/>
                    </a:cubicBezTo>
                    <a:cubicBezTo>
                      <a:pt x="3707" y="101"/>
                      <a:pt x="3706" y="106"/>
                      <a:pt x="3706" y="110"/>
                    </a:cubicBezTo>
                    <a:cubicBezTo>
                      <a:pt x="3705" y="113"/>
                      <a:pt x="3704" y="116"/>
                      <a:pt x="3703" y="118"/>
                    </a:cubicBezTo>
                    <a:cubicBezTo>
                      <a:pt x="3701" y="94"/>
                      <a:pt x="3696" y="64"/>
                      <a:pt x="3696" y="64"/>
                    </a:cubicBezTo>
                    <a:cubicBezTo>
                      <a:pt x="3696" y="64"/>
                      <a:pt x="3696" y="73"/>
                      <a:pt x="3697" y="82"/>
                    </a:cubicBezTo>
                    <a:cubicBezTo>
                      <a:pt x="3698" y="88"/>
                      <a:pt x="3697" y="98"/>
                      <a:pt x="3695" y="108"/>
                    </a:cubicBezTo>
                    <a:cubicBezTo>
                      <a:pt x="3694" y="111"/>
                      <a:pt x="3693" y="114"/>
                      <a:pt x="3692" y="117"/>
                    </a:cubicBezTo>
                    <a:cubicBezTo>
                      <a:pt x="3692" y="108"/>
                      <a:pt x="3691" y="99"/>
                      <a:pt x="3689" y="90"/>
                    </a:cubicBezTo>
                    <a:cubicBezTo>
                      <a:pt x="3692" y="78"/>
                      <a:pt x="3697" y="66"/>
                      <a:pt x="3696" y="56"/>
                    </a:cubicBezTo>
                    <a:cubicBezTo>
                      <a:pt x="3693" y="62"/>
                      <a:pt x="3690" y="67"/>
                      <a:pt x="3688" y="72"/>
                    </a:cubicBezTo>
                    <a:cubicBezTo>
                      <a:pt x="3691" y="34"/>
                      <a:pt x="3684" y="19"/>
                      <a:pt x="3684" y="19"/>
                    </a:cubicBezTo>
                    <a:cubicBezTo>
                      <a:pt x="3684" y="19"/>
                      <a:pt x="3687" y="31"/>
                      <a:pt x="3686" y="54"/>
                    </a:cubicBezTo>
                    <a:cubicBezTo>
                      <a:pt x="3685" y="61"/>
                      <a:pt x="3684" y="74"/>
                      <a:pt x="3682" y="88"/>
                    </a:cubicBezTo>
                    <a:cubicBezTo>
                      <a:pt x="3681" y="92"/>
                      <a:pt x="3680" y="97"/>
                      <a:pt x="3680" y="101"/>
                    </a:cubicBezTo>
                    <a:cubicBezTo>
                      <a:pt x="3679" y="98"/>
                      <a:pt x="3678" y="95"/>
                      <a:pt x="3676" y="91"/>
                    </a:cubicBezTo>
                    <a:cubicBezTo>
                      <a:pt x="3677" y="89"/>
                      <a:pt x="3677" y="87"/>
                      <a:pt x="3678" y="85"/>
                    </a:cubicBezTo>
                    <a:cubicBezTo>
                      <a:pt x="3677" y="87"/>
                      <a:pt x="3677" y="88"/>
                      <a:pt x="3676" y="90"/>
                    </a:cubicBezTo>
                    <a:cubicBezTo>
                      <a:pt x="3676" y="89"/>
                      <a:pt x="3675" y="88"/>
                      <a:pt x="3675" y="87"/>
                    </a:cubicBezTo>
                    <a:cubicBezTo>
                      <a:pt x="3675" y="83"/>
                      <a:pt x="3675" y="78"/>
                      <a:pt x="3675" y="74"/>
                    </a:cubicBezTo>
                    <a:cubicBezTo>
                      <a:pt x="3675" y="46"/>
                      <a:pt x="3665" y="40"/>
                      <a:pt x="3665" y="40"/>
                    </a:cubicBezTo>
                    <a:cubicBezTo>
                      <a:pt x="3665" y="40"/>
                      <a:pt x="3671" y="44"/>
                      <a:pt x="3671" y="70"/>
                    </a:cubicBezTo>
                    <a:cubicBezTo>
                      <a:pt x="3671" y="84"/>
                      <a:pt x="3666" y="108"/>
                      <a:pt x="3661" y="125"/>
                    </a:cubicBezTo>
                    <a:cubicBezTo>
                      <a:pt x="3661" y="123"/>
                      <a:pt x="3661" y="120"/>
                      <a:pt x="3660" y="118"/>
                    </a:cubicBezTo>
                    <a:cubicBezTo>
                      <a:pt x="3661" y="111"/>
                      <a:pt x="3662" y="105"/>
                      <a:pt x="3662" y="98"/>
                    </a:cubicBezTo>
                    <a:cubicBezTo>
                      <a:pt x="3661" y="101"/>
                      <a:pt x="3660" y="104"/>
                      <a:pt x="3660" y="107"/>
                    </a:cubicBezTo>
                    <a:cubicBezTo>
                      <a:pt x="3660" y="107"/>
                      <a:pt x="3660" y="106"/>
                      <a:pt x="3660" y="106"/>
                    </a:cubicBezTo>
                    <a:cubicBezTo>
                      <a:pt x="3660" y="97"/>
                      <a:pt x="3661" y="83"/>
                      <a:pt x="3667" y="75"/>
                    </a:cubicBezTo>
                    <a:cubicBezTo>
                      <a:pt x="3664" y="77"/>
                      <a:pt x="3661" y="82"/>
                      <a:pt x="3659" y="87"/>
                    </a:cubicBezTo>
                    <a:cubicBezTo>
                      <a:pt x="3660" y="78"/>
                      <a:pt x="3660" y="71"/>
                      <a:pt x="3660" y="71"/>
                    </a:cubicBezTo>
                    <a:cubicBezTo>
                      <a:pt x="3659" y="75"/>
                      <a:pt x="3656" y="97"/>
                      <a:pt x="3652" y="116"/>
                    </a:cubicBezTo>
                    <a:cubicBezTo>
                      <a:pt x="3652" y="114"/>
                      <a:pt x="3652" y="112"/>
                      <a:pt x="3651" y="110"/>
                    </a:cubicBezTo>
                    <a:cubicBezTo>
                      <a:pt x="3652" y="99"/>
                      <a:pt x="3653" y="87"/>
                      <a:pt x="3654" y="78"/>
                    </a:cubicBezTo>
                    <a:cubicBezTo>
                      <a:pt x="3656" y="71"/>
                      <a:pt x="3658" y="63"/>
                      <a:pt x="3660" y="55"/>
                    </a:cubicBezTo>
                    <a:cubicBezTo>
                      <a:pt x="3660" y="54"/>
                      <a:pt x="3660" y="52"/>
                      <a:pt x="3660" y="51"/>
                    </a:cubicBezTo>
                    <a:cubicBezTo>
                      <a:pt x="3658" y="54"/>
                      <a:pt x="3657" y="57"/>
                      <a:pt x="3656" y="60"/>
                    </a:cubicBezTo>
                    <a:cubicBezTo>
                      <a:pt x="3656" y="60"/>
                      <a:pt x="3656" y="59"/>
                      <a:pt x="3656" y="59"/>
                    </a:cubicBezTo>
                    <a:cubicBezTo>
                      <a:pt x="3656" y="60"/>
                      <a:pt x="3656" y="60"/>
                      <a:pt x="3656" y="60"/>
                    </a:cubicBezTo>
                    <a:cubicBezTo>
                      <a:pt x="3652" y="70"/>
                      <a:pt x="3649" y="80"/>
                      <a:pt x="3646" y="89"/>
                    </a:cubicBezTo>
                    <a:cubicBezTo>
                      <a:pt x="3652" y="30"/>
                      <a:pt x="3649" y="15"/>
                      <a:pt x="3648" y="13"/>
                    </a:cubicBezTo>
                    <a:cubicBezTo>
                      <a:pt x="3648" y="15"/>
                      <a:pt x="3649" y="22"/>
                      <a:pt x="3645" y="56"/>
                    </a:cubicBezTo>
                    <a:cubicBezTo>
                      <a:pt x="3643" y="68"/>
                      <a:pt x="3642" y="80"/>
                      <a:pt x="3640" y="91"/>
                    </a:cubicBezTo>
                    <a:cubicBezTo>
                      <a:pt x="3639" y="85"/>
                      <a:pt x="3637" y="79"/>
                      <a:pt x="3635" y="74"/>
                    </a:cubicBezTo>
                    <a:cubicBezTo>
                      <a:pt x="3636" y="51"/>
                      <a:pt x="3637" y="31"/>
                      <a:pt x="3637" y="31"/>
                    </a:cubicBezTo>
                    <a:cubicBezTo>
                      <a:pt x="3635" y="38"/>
                      <a:pt x="3633" y="53"/>
                      <a:pt x="3632" y="69"/>
                    </a:cubicBezTo>
                    <a:cubicBezTo>
                      <a:pt x="3631" y="68"/>
                      <a:pt x="3630" y="67"/>
                      <a:pt x="3629" y="65"/>
                    </a:cubicBezTo>
                    <a:cubicBezTo>
                      <a:pt x="3630" y="67"/>
                      <a:pt x="3631" y="69"/>
                      <a:pt x="3632" y="71"/>
                    </a:cubicBezTo>
                    <a:cubicBezTo>
                      <a:pt x="3632" y="71"/>
                      <a:pt x="3632" y="72"/>
                      <a:pt x="3632" y="73"/>
                    </a:cubicBezTo>
                    <a:cubicBezTo>
                      <a:pt x="3629" y="77"/>
                      <a:pt x="3626" y="81"/>
                      <a:pt x="3624" y="86"/>
                    </a:cubicBezTo>
                    <a:cubicBezTo>
                      <a:pt x="3623" y="85"/>
                      <a:pt x="3623" y="84"/>
                      <a:pt x="3622" y="83"/>
                    </a:cubicBezTo>
                    <a:cubicBezTo>
                      <a:pt x="3619" y="61"/>
                      <a:pt x="3617" y="38"/>
                      <a:pt x="3614" y="28"/>
                    </a:cubicBezTo>
                    <a:cubicBezTo>
                      <a:pt x="3614" y="28"/>
                      <a:pt x="3617" y="54"/>
                      <a:pt x="3621" y="83"/>
                    </a:cubicBezTo>
                    <a:cubicBezTo>
                      <a:pt x="3620" y="82"/>
                      <a:pt x="3619" y="81"/>
                      <a:pt x="3618" y="80"/>
                    </a:cubicBezTo>
                    <a:cubicBezTo>
                      <a:pt x="3620" y="81"/>
                      <a:pt x="3621" y="82"/>
                      <a:pt x="3622" y="84"/>
                    </a:cubicBezTo>
                    <a:cubicBezTo>
                      <a:pt x="3622" y="85"/>
                      <a:pt x="3622" y="86"/>
                      <a:pt x="3622" y="88"/>
                    </a:cubicBezTo>
                    <a:cubicBezTo>
                      <a:pt x="3622" y="86"/>
                      <a:pt x="3622" y="85"/>
                      <a:pt x="3622" y="84"/>
                    </a:cubicBezTo>
                    <a:cubicBezTo>
                      <a:pt x="3622" y="85"/>
                      <a:pt x="3623" y="86"/>
                      <a:pt x="3624" y="87"/>
                    </a:cubicBezTo>
                    <a:cubicBezTo>
                      <a:pt x="3623" y="88"/>
                      <a:pt x="3623" y="89"/>
                      <a:pt x="3622" y="90"/>
                    </a:cubicBezTo>
                    <a:cubicBezTo>
                      <a:pt x="3622" y="89"/>
                      <a:pt x="3622" y="88"/>
                      <a:pt x="3622" y="88"/>
                    </a:cubicBezTo>
                    <a:cubicBezTo>
                      <a:pt x="3622" y="88"/>
                      <a:pt x="3622" y="89"/>
                      <a:pt x="3622" y="90"/>
                    </a:cubicBezTo>
                    <a:cubicBezTo>
                      <a:pt x="3620" y="95"/>
                      <a:pt x="3619" y="100"/>
                      <a:pt x="3617" y="105"/>
                    </a:cubicBezTo>
                    <a:cubicBezTo>
                      <a:pt x="3617" y="105"/>
                      <a:pt x="3617" y="105"/>
                      <a:pt x="3617" y="105"/>
                    </a:cubicBezTo>
                    <a:cubicBezTo>
                      <a:pt x="3617" y="104"/>
                      <a:pt x="3617" y="104"/>
                      <a:pt x="3617" y="103"/>
                    </a:cubicBezTo>
                    <a:cubicBezTo>
                      <a:pt x="3617" y="104"/>
                      <a:pt x="3617" y="104"/>
                      <a:pt x="3617" y="105"/>
                    </a:cubicBezTo>
                    <a:cubicBezTo>
                      <a:pt x="3614" y="95"/>
                      <a:pt x="3612" y="87"/>
                      <a:pt x="3610" y="81"/>
                    </a:cubicBezTo>
                    <a:cubicBezTo>
                      <a:pt x="3611" y="85"/>
                      <a:pt x="3612" y="90"/>
                      <a:pt x="3613" y="95"/>
                    </a:cubicBezTo>
                    <a:cubicBezTo>
                      <a:pt x="3613" y="100"/>
                      <a:pt x="3612" y="104"/>
                      <a:pt x="3611" y="109"/>
                    </a:cubicBezTo>
                    <a:cubicBezTo>
                      <a:pt x="3612" y="104"/>
                      <a:pt x="3613" y="100"/>
                      <a:pt x="3613" y="95"/>
                    </a:cubicBezTo>
                    <a:cubicBezTo>
                      <a:pt x="3614" y="100"/>
                      <a:pt x="3615" y="105"/>
                      <a:pt x="3616" y="110"/>
                    </a:cubicBezTo>
                    <a:cubicBezTo>
                      <a:pt x="3616" y="110"/>
                      <a:pt x="3616" y="111"/>
                      <a:pt x="3616" y="111"/>
                    </a:cubicBezTo>
                    <a:cubicBezTo>
                      <a:pt x="3615" y="116"/>
                      <a:pt x="3613" y="122"/>
                      <a:pt x="3610" y="127"/>
                    </a:cubicBezTo>
                    <a:cubicBezTo>
                      <a:pt x="3610" y="125"/>
                      <a:pt x="3609" y="123"/>
                      <a:pt x="3609" y="120"/>
                    </a:cubicBezTo>
                    <a:cubicBezTo>
                      <a:pt x="3610" y="117"/>
                      <a:pt x="3611" y="113"/>
                      <a:pt x="3611" y="109"/>
                    </a:cubicBezTo>
                    <a:cubicBezTo>
                      <a:pt x="3611" y="112"/>
                      <a:pt x="3610" y="116"/>
                      <a:pt x="3609" y="119"/>
                    </a:cubicBezTo>
                    <a:cubicBezTo>
                      <a:pt x="3607" y="111"/>
                      <a:pt x="3605" y="103"/>
                      <a:pt x="3605" y="95"/>
                    </a:cubicBezTo>
                    <a:cubicBezTo>
                      <a:pt x="3605" y="96"/>
                      <a:pt x="3605" y="96"/>
                      <a:pt x="3605" y="96"/>
                    </a:cubicBezTo>
                    <a:cubicBezTo>
                      <a:pt x="3605" y="98"/>
                      <a:pt x="3605" y="98"/>
                      <a:pt x="3605" y="98"/>
                    </a:cubicBezTo>
                    <a:cubicBezTo>
                      <a:pt x="3605" y="97"/>
                      <a:pt x="3605" y="96"/>
                      <a:pt x="3605" y="95"/>
                    </a:cubicBezTo>
                    <a:cubicBezTo>
                      <a:pt x="3605" y="84"/>
                      <a:pt x="3603" y="69"/>
                      <a:pt x="3597" y="60"/>
                    </a:cubicBezTo>
                    <a:cubicBezTo>
                      <a:pt x="3601" y="70"/>
                      <a:pt x="3603" y="82"/>
                      <a:pt x="3603" y="93"/>
                    </a:cubicBezTo>
                    <a:cubicBezTo>
                      <a:pt x="3603" y="101"/>
                      <a:pt x="3601" y="109"/>
                      <a:pt x="3599" y="116"/>
                    </a:cubicBezTo>
                    <a:cubicBezTo>
                      <a:pt x="3597" y="115"/>
                      <a:pt x="3597" y="117"/>
                      <a:pt x="3598" y="120"/>
                    </a:cubicBezTo>
                    <a:cubicBezTo>
                      <a:pt x="3598" y="121"/>
                      <a:pt x="3597" y="121"/>
                      <a:pt x="3597" y="122"/>
                    </a:cubicBezTo>
                    <a:cubicBezTo>
                      <a:pt x="3596" y="119"/>
                      <a:pt x="3595" y="115"/>
                      <a:pt x="3594" y="112"/>
                    </a:cubicBezTo>
                    <a:cubicBezTo>
                      <a:pt x="3595" y="107"/>
                      <a:pt x="3595" y="103"/>
                      <a:pt x="3595" y="98"/>
                    </a:cubicBezTo>
                    <a:cubicBezTo>
                      <a:pt x="3595" y="90"/>
                      <a:pt x="3594" y="82"/>
                      <a:pt x="3592" y="74"/>
                    </a:cubicBezTo>
                    <a:cubicBezTo>
                      <a:pt x="3591" y="83"/>
                      <a:pt x="3591" y="93"/>
                      <a:pt x="3591" y="102"/>
                    </a:cubicBezTo>
                    <a:cubicBezTo>
                      <a:pt x="3588" y="94"/>
                      <a:pt x="3585" y="86"/>
                      <a:pt x="3583" y="81"/>
                    </a:cubicBezTo>
                    <a:cubicBezTo>
                      <a:pt x="3583" y="86"/>
                      <a:pt x="3583" y="86"/>
                      <a:pt x="3583" y="86"/>
                    </a:cubicBezTo>
                    <a:cubicBezTo>
                      <a:pt x="3583" y="97"/>
                      <a:pt x="3586" y="108"/>
                      <a:pt x="3590" y="118"/>
                    </a:cubicBezTo>
                    <a:cubicBezTo>
                      <a:pt x="3589" y="119"/>
                      <a:pt x="3589" y="120"/>
                      <a:pt x="3589" y="121"/>
                    </a:cubicBezTo>
                    <a:cubicBezTo>
                      <a:pt x="3589" y="123"/>
                      <a:pt x="3588" y="126"/>
                      <a:pt x="3587" y="128"/>
                    </a:cubicBezTo>
                    <a:cubicBezTo>
                      <a:pt x="3584" y="121"/>
                      <a:pt x="3582" y="113"/>
                      <a:pt x="3580" y="106"/>
                    </a:cubicBezTo>
                    <a:cubicBezTo>
                      <a:pt x="3580" y="101"/>
                      <a:pt x="3579" y="96"/>
                      <a:pt x="3578" y="92"/>
                    </a:cubicBezTo>
                    <a:cubicBezTo>
                      <a:pt x="3578" y="91"/>
                      <a:pt x="3578" y="90"/>
                      <a:pt x="3578" y="89"/>
                    </a:cubicBezTo>
                    <a:cubicBezTo>
                      <a:pt x="3578" y="90"/>
                      <a:pt x="3578" y="90"/>
                      <a:pt x="3578" y="91"/>
                    </a:cubicBezTo>
                    <a:cubicBezTo>
                      <a:pt x="3577" y="85"/>
                      <a:pt x="3575" y="79"/>
                      <a:pt x="3572" y="73"/>
                    </a:cubicBezTo>
                    <a:cubicBezTo>
                      <a:pt x="3572" y="72"/>
                      <a:pt x="3572" y="72"/>
                      <a:pt x="3572" y="71"/>
                    </a:cubicBezTo>
                    <a:cubicBezTo>
                      <a:pt x="3572" y="71"/>
                      <a:pt x="3571" y="72"/>
                      <a:pt x="3571" y="73"/>
                    </a:cubicBezTo>
                    <a:cubicBezTo>
                      <a:pt x="3571" y="72"/>
                      <a:pt x="3571" y="71"/>
                      <a:pt x="3570" y="71"/>
                    </a:cubicBezTo>
                    <a:cubicBezTo>
                      <a:pt x="3570" y="72"/>
                      <a:pt x="3571" y="73"/>
                      <a:pt x="3571" y="73"/>
                    </a:cubicBezTo>
                    <a:cubicBezTo>
                      <a:pt x="3568" y="79"/>
                      <a:pt x="3566" y="85"/>
                      <a:pt x="3564" y="91"/>
                    </a:cubicBezTo>
                    <a:cubicBezTo>
                      <a:pt x="3564" y="90"/>
                      <a:pt x="3564" y="90"/>
                      <a:pt x="3564" y="89"/>
                    </a:cubicBezTo>
                    <a:cubicBezTo>
                      <a:pt x="3564" y="90"/>
                      <a:pt x="3564" y="91"/>
                      <a:pt x="3564" y="92"/>
                    </a:cubicBezTo>
                    <a:cubicBezTo>
                      <a:pt x="3563" y="96"/>
                      <a:pt x="3563" y="101"/>
                      <a:pt x="3562" y="106"/>
                    </a:cubicBezTo>
                    <a:cubicBezTo>
                      <a:pt x="3561" y="113"/>
                      <a:pt x="3558" y="121"/>
                      <a:pt x="3555" y="128"/>
                    </a:cubicBezTo>
                    <a:cubicBezTo>
                      <a:pt x="3554" y="126"/>
                      <a:pt x="3554" y="123"/>
                      <a:pt x="3553" y="121"/>
                    </a:cubicBezTo>
                    <a:cubicBezTo>
                      <a:pt x="3553" y="120"/>
                      <a:pt x="3553" y="119"/>
                      <a:pt x="3553" y="118"/>
                    </a:cubicBezTo>
                    <a:cubicBezTo>
                      <a:pt x="3556" y="108"/>
                      <a:pt x="3559" y="97"/>
                      <a:pt x="3559" y="86"/>
                    </a:cubicBezTo>
                    <a:cubicBezTo>
                      <a:pt x="3559" y="81"/>
                      <a:pt x="3559" y="81"/>
                      <a:pt x="3559" y="81"/>
                    </a:cubicBezTo>
                    <a:cubicBezTo>
                      <a:pt x="3557" y="86"/>
                      <a:pt x="3554" y="94"/>
                      <a:pt x="3551" y="102"/>
                    </a:cubicBezTo>
                    <a:cubicBezTo>
                      <a:pt x="3551" y="93"/>
                      <a:pt x="3551" y="83"/>
                      <a:pt x="3550" y="74"/>
                    </a:cubicBezTo>
                    <a:cubicBezTo>
                      <a:pt x="3548" y="82"/>
                      <a:pt x="3547" y="90"/>
                      <a:pt x="3547" y="98"/>
                    </a:cubicBezTo>
                    <a:cubicBezTo>
                      <a:pt x="3547" y="103"/>
                      <a:pt x="3548" y="107"/>
                      <a:pt x="3548" y="112"/>
                    </a:cubicBezTo>
                    <a:cubicBezTo>
                      <a:pt x="3547" y="115"/>
                      <a:pt x="3546" y="119"/>
                      <a:pt x="3545" y="122"/>
                    </a:cubicBezTo>
                    <a:cubicBezTo>
                      <a:pt x="3542" y="112"/>
                      <a:pt x="3539" y="103"/>
                      <a:pt x="3539" y="93"/>
                    </a:cubicBezTo>
                    <a:cubicBezTo>
                      <a:pt x="3539" y="82"/>
                      <a:pt x="3541" y="70"/>
                      <a:pt x="3545" y="60"/>
                    </a:cubicBezTo>
                    <a:cubicBezTo>
                      <a:pt x="3540" y="69"/>
                      <a:pt x="3538" y="84"/>
                      <a:pt x="3538" y="95"/>
                    </a:cubicBezTo>
                    <a:cubicBezTo>
                      <a:pt x="3538" y="96"/>
                      <a:pt x="3538" y="97"/>
                      <a:pt x="3538" y="98"/>
                    </a:cubicBezTo>
                    <a:cubicBezTo>
                      <a:pt x="3537" y="96"/>
                      <a:pt x="3537" y="96"/>
                      <a:pt x="3537" y="96"/>
                    </a:cubicBezTo>
                    <a:cubicBezTo>
                      <a:pt x="3537" y="95"/>
                      <a:pt x="3537" y="95"/>
                      <a:pt x="3537" y="95"/>
                    </a:cubicBezTo>
                    <a:cubicBezTo>
                      <a:pt x="3537" y="103"/>
                      <a:pt x="3536" y="111"/>
                      <a:pt x="3534" y="119"/>
                    </a:cubicBezTo>
                    <a:cubicBezTo>
                      <a:pt x="3533" y="116"/>
                      <a:pt x="3532" y="112"/>
                      <a:pt x="3531" y="109"/>
                    </a:cubicBezTo>
                    <a:cubicBezTo>
                      <a:pt x="3532" y="113"/>
                      <a:pt x="3533" y="117"/>
                      <a:pt x="3533" y="120"/>
                    </a:cubicBezTo>
                    <a:cubicBezTo>
                      <a:pt x="3533" y="123"/>
                      <a:pt x="3532" y="125"/>
                      <a:pt x="3532" y="127"/>
                    </a:cubicBezTo>
                    <a:cubicBezTo>
                      <a:pt x="3530" y="122"/>
                      <a:pt x="3528" y="116"/>
                      <a:pt x="3526" y="111"/>
                    </a:cubicBezTo>
                    <a:cubicBezTo>
                      <a:pt x="3526" y="109"/>
                      <a:pt x="3526" y="108"/>
                      <a:pt x="3525" y="107"/>
                    </a:cubicBezTo>
                    <a:cubicBezTo>
                      <a:pt x="3525" y="106"/>
                      <a:pt x="3525" y="104"/>
                      <a:pt x="3525" y="103"/>
                    </a:cubicBezTo>
                    <a:cubicBezTo>
                      <a:pt x="3525" y="104"/>
                      <a:pt x="3525" y="105"/>
                      <a:pt x="3525" y="105"/>
                    </a:cubicBezTo>
                    <a:cubicBezTo>
                      <a:pt x="3524" y="99"/>
                      <a:pt x="3522" y="93"/>
                      <a:pt x="3519" y="87"/>
                    </a:cubicBezTo>
                    <a:cubicBezTo>
                      <a:pt x="3520" y="84"/>
                      <a:pt x="3522" y="82"/>
                      <a:pt x="3524" y="80"/>
                    </a:cubicBezTo>
                    <a:cubicBezTo>
                      <a:pt x="3522" y="82"/>
                      <a:pt x="3520" y="84"/>
                      <a:pt x="3518" y="86"/>
                    </a:cubicBezTo>
                    <a:cubicBezTo>
                      <a:pt x="3516" y="81"/>
                      <a:pt x="3513" y="77"/>
                      <a:pt x="3510" y="73"/>
                    </a:cubicBezTo>
                    <a:cubicBezTo>
                      <a:pt x="3513" y="77"/>
                      <a:pt x="3515" y="83"/>
                      <a:pt x="3516" y="90"/>
                    </a:cubicBezTo>
                    <a:cubicBezTo>
                      <a:pt x="3514" y="94"/>
                      <a:pt x="3512" y="99"/>
                      <a:pt x="3512" y="103"/>
                    </a:cubicBezTo>
                    <a:cubicBezTo>
                      <a:pt x="3510" y="97"/>
                      <a:pt x="3508" y="91"/>
                      <a:pt x="3506" y="85"/>
                    </a:cubicBezTo>
                    <a:cubicBezTo>
                      <a:pt x="3508" y="91"/>
                      <a:pt x="3508" y="97"/>
                      <a:pt x="3508" y="103"/>
                    </a:cubicBezTo>
                    <a:cubicBezTo>
                      <a:pt x="3508" y="108"/>
                      <a:pt x="3507" y="114"/>
                      <a:pt x="3507" y="119"/>
                    </a:cubicBezTo>
                    <a:cubicBezTo>
                      <a:pt x="3505" y="111"/>
                      <a:pt x="3504" y="104"/>
                      <a:pt x="3504" y="96"/>
                    </a:cubicBezTo>
                    <a:cubicBezTo>
                      <a:pt x="3504" y="87"/>
                      <a:pt x="3508" y="73"/>
                      <a:pt x="3513" y="65"/>
                    </a:cubicBezTo>
                    <a:cubicBezTo>
                      <a:pt x="3504" y="76"/>
                      <a:pt x="3500" y="96"/>
                      <a:pt x="3500" y="108"/>
                    </a:cubicBezTo>
                    <a:cubicBezTo>
                      <a:pt x="3500" y="119"/>
                      <a:pt x="3503" y="130"/>
                      <a:pt x="3503" y="141"/>
                    </a:cubicBezTo>
                    <a:cubicBezTo>
                      <a:pt x="3503" y="146"/>
                      <a:pt x="3503" y="150"/>
                      <a:pt x="3502" y="154"/>
                    </a:cubicBezTo>
                    <a:cubicBezTo>
                      <a:pt x="3496" y="135"/>
                      <a:pt x="3501" y="113"/>
                      <a:pt x="3497" y="93"/>
                    </a:cubicBezTo>
                    <a:cubicBezTo>
                      <a:pt x="3494" y="79"/>
                      <a:pt x="3489" y="64"/>
                      <a:pt x="3483" y="51"/>
                    </a:cubicBezTo>
                    <a:cubicBezTo>
                      <a:pt x="3482" y="52"/>
                      <a:pt x="3482" y="54"/>
                      <a:pt x="3482" y="55"/>
                    </a:cubicBezTo>
                    <a:cubicBezTo>
                      <a:pt x="3489" y="76"/>
                      <a:pt x="3491" y="92"/>
                      <a:pt x="3492" y="105"/>
                    </a:cubicBezTo>
                    <a:cubicBezTo>
                      <a:pt x="3491" y="109"/>
                      <a:pt x="3490" y="114"/>
                      <a:pt x="3490" y="118"/>
                    </a:cubicBezTo>
                    <a:cubicBezTo>
                      <a:pt x="3488" y="101"/>
                      <a:pt x="3484" y="82"/>
                      <a:pt x="3475" y="75"/>
                    </a:cubicBezTo>
                    <a:cubicBezTo>
                      <a:pt x="3481" y="83"/>
                      <a:pt x="3483" y="97"/>
                      <a:pt x="3483" y="106"/>
                    </a:cubicBezTo>
                    <a:cubicBezTo>
                      <a:pt x="3483" y="106"/>
                      <a:pt x="3483" y="107"/>
                      <a:pt x="3483" y="107"/>
                    </a:cubicBezTo>
                    <a:cubicBezTo>
                      <a:pt x="3482" y="104"/>
                      <a:pt x="3481" y="101"/>
                      <a:pt x="3481" y="98"/>
                    </a:cubicBezTo>
                    <a:cubicBezTo>
                      <a:pt x="3481" y="105"/>
                      <a:pt x="3481" y="111"/>
                      <a:pt x="3482" y="118"/>
                    </a:cubicBezTo>
                    <a:cubicBezTo>
                      <a:pt x="3482" y="122"/>
                      <a:pt x="3481" y="126"/>
                      <a:pt x="3480" y="130"/>
                    </a:cubicBezTo>
                    <a:cubicBezTo>
                      <a:pt x="3479" y="124"/>
                      <a:pt x="3477" y="118"/>
                      <a:pt x="3476" y="113"/>
                    </a:cubicBezTo>
                    <a:cubicBezTo>
                      <a:pt x="3477" y="121"/>
                      <a:pt x="3479" y="128"/>
                      <a:pt x="3479" y="136"/>
                    </a:cubicBezTo>
                    <a:cubicBezTo>
                      <a:pt x="3478" y="140"/>
                      <a:pt x="3477" y="144"/>
                      <a:pt x="3477" y="148"/>
                    </a:cubicBezTo>
                    <a:cubicBezTo>
                      <a:pt x="3477" y="147"/>
                      <a:pt x="3476" y="147"/>
                      <a:pt x="3476" y="146"/>
                    </a:cubicBezTo>
                    <a:cubicBezTo>
                      <a:pt x="3477" y="129"/>
                      <a:pt x="3474" y="106"/>
                      <a:pt x="3467" y="91"/>
                    </a:cubicBezTo>
                    <a:cubicBezTo>
                      <a:pt x="3468" y="88"/>
                      <a:pt x="3468" y="85"/>
                      <a:pt x="3470" y="83"/>
                    </a:cubicBezTo>
                    <a:cubicBezTo>
                      <a:pt x="3468" y="85"/>
                      <a:pt x="3467" y="88"/>
                      <a:pt x="3466" y="90"/>
                    </a:cubicBezTo>
                    <a:cubicBezTo>
                      <a:pt x="3466" y="88"/>
                      <a:pt x="3465" y="87"/>
                      <a:pt x="3464" y="85"/>
                    </a:cubicBezTo>
                    <a:cubicBezTo>
                      <a:pt x="3465" y="87"/>
                      <a:pt x="3466" y="89"/>
                      <a:pt x="3466" y="91"/>
                    </a:cubicBezTo>
                    <a:cubicBezTo>
                      <a:pt x="3465" y="95"/>
                      <a:pt x="3464" y="98"/>
                      <a:pt x="3463" y="101"/>
                    </a:cubicBezTo>
                    <a:cubicBezTo>
                      <a:pt x="3461" y="94"/>
                      <a:pt x="3460" y="87"/>
                      <a:pt x="3457" y="79"/>
                    </a:cubicBezTo>
                    <a:cubicBezTo>
                      <a:pt x="3457" y="78"/>
                      <a:pt x="3457" y="76"/>
                      <a:pt x="3457" y="75"/>
                    </a:cubicBezTo>
                    <a:cubicBezTo>
                      <a:pt x="3457" y="76"/>
                      <a:pt x="3457" y="77"/>
                      <a:pt x="3456" y="78"/>
                    </a:cubicBezTo>
                    <a:cubicBezTo>
                      <a:pt x="3454" y="71"/>
                      <a:pt x="3450" y="64"/>
                      <a:pt x="3446" y="56"/>
                    </a:cubicBezTo>
                    <a:cubicBezTo>
                      <a:pt x="3446" y="66"/>
                      <a:pt x="3450" y="78"/>
                      <a:pt x="3453" y="90"/>
                    </a:cubicBezTo>
                    <a:cubicBezTo>
                      <a:pt x="3451" y="99"/>
                      <a:pt x="3451" y="108"/>
                      <a:pt x="3450" y="117"/>
                    </a:cubicBezTo>
                    <a:cubicBezTo>
                      <a:pt x="3449" y="112"/>
                      <a:pt x="3447" y="107"/>
                      <a:pt x="3446" y="103"/>
                    </a:cubicBezTo>
                    <a:cubicBezTo>
                      <a:pt x="3448" y="109"/>
                      <a:pt x="3446" y="132"/>
                      <a:pt x="3446" y="140"/>
                    </a:cubicBezTo>
                    <a:cubicBezTo>
                      <a:pt x="3446" y="144"/>
                      <a:pt x="3446" y="147"/>
                      <a:pt x="3446" y="151"/>
                    </a:cubicBezTo>
                    <a:cubicBezTo>
                      <a:pt x="3446" y="151"/>
                      <a:pt x="3446" y="151"/>
                      <a:pt x="3446" y="151"/>
                    </a:cubicBezTo>
                    <a:cubicBezTo>
                      <a:pt x="3446" y="144"/>
                      <a:pt x="3445" y="137"/>
                      <a:pt x="3443" y="129"/>
                    </a:cubicBezTo>
                    <a:cubicBezTo>
                      <a:pt x="3441" y="119"/>
                      <a:pt x="3440" y="110"/>
                      <a:pt x="3441" y="100"/>
                    </a:cubicBezTo>
                    <a:cubicBezTo>
                      <a:pt x="3440" y="107"/>
                      <a:pt x="3440" y="113"/>
                      <a:pt x="3440" y="119"/>
                    </a:cubicBezTo>
                    <a:cubicBezTo>
                      <a:pt x="3438" y="114"/>
                      <a:pt x="3436" y="108"/>
                      <a:pt x="3434" y="103"/>
                    </a:cubicBezTo>
                    <a:cubicBezTo>
                      <a:pt x="3434" y="99"/>
                      <a:pt x="3435" y="95"/>
                      <a:pt x="3437" y="90"/>
                    </a:cubicBezTo>
                    <a:cubicBezTo>
                      <a:pt x="3435" y="94"/>
                      <a:pt x="3434" y="98"/>
                      <a:pt x="3433" y="102"/>
                    </a:cubicBezTo>
                    <a:cubicBezTo>
                      <a:pt x="3430" y="97"/>
                      <a:pt x="3428" y="93"/>
                      <a:pt x="3425" y="89"/>
                    </a:cubicBezTo>
                    <a:cubicBezTo>
                      <a:pt x="3428" y="93"/>
                      <a:pt x="3428" y="99"/>
                      <a:pt x="3428" y="103"/>
                    </a:cubicBezTo>
                    <a:cubicBezTo>
                      <a:pt x="3428" y="104"/>
                      <a:pt x="3429" y="109"/>
                      <a:pt x="3429" y="115"/>
                    </a:cubicBezTo>
                    <a:cubicBezTo>
                      <a:pt x="3428" y="120"/>
                      <a:pt x="3427" y="124"/>
                      <a:pt x="3427" y="129"/>
                    </a:cubicBezTo>
                    <a:cubicBezTo>
                      <a:pt x="3426" y="125"/>
                      <a:pt x="3425" y="122"/>
                      <a:pt x="3425" y="119"/>
                    </a:cubicBezTo>
                    <a:cubicBezTo>
                      <a:pt x="3425" y="115"/>
                      <a:pt x="3425" y="108"/>
                      <a:pt x="3424" y="105"/>
                    </a:cubicBezTo>
                    <a:cubicBezTo>
                      <a:pt x="3423" y="108"/>
                      <a:pt x="3423" y="110"/>
                      <a:pt x="3423" y="113"/>
                    </a:cubicBezTo>
                    <a:cubicBezTo>
                      <a:pt x="3422" y="109"/>
                      <a:pt x="3421" y="106"/>
                      <a:pt x="3421" y="103"/>
                    </a:cubicBezTo>
                    <a:cubicBezTo>
                      <a:pt x="3422" y="97"/>
                      <a:pt x="3423" y="90"/>
                      <a:pt x="3426" y="84"/>
                    </a:cubicBezTo>
                    <a:cubicBezTo>
                      <a:pt x="3423" y="90"/>
                      <a:pt x="3421" y="95"/>
                      <a:pt x="3420" y="101"/>
                    </a:cubicBezTo>
                    <a:cubicBezTo>
                      <a:pt x="3415" y="86"/>
                      <a:pt x="3412" y="83"/>
                      <a:pt x="3407" y="78"/>
                    </a:cubicBezTo>
                    <a:cubicBezTo>
                      <a:pt x="3414" y="84"/>
                      <a:pt x="3417" y="97"/>
                      <a:pt x="3418" y="107"/>
                    </a:cubicBezTo>
                    <a:cubicBezTo>
                      <a:pt x="3417" y="114"/>
                      <a:pt x="3415" y="120"/>
                      <a:pt x="3414" y="126"/>
                    </a:cubicBezTo>
                    <a:cubicBezTo>
                      <a:pt x="3413" y="121"/>
                      <a:pt x="3412" y="115"/>
                      <a:pt x="3410" y="109"/>
                    </a:cubicBezTo>
                    <a:cubicBezTo>
                      <a:pt x="3411" y="106"/>
                      <a:pt x="3411" y="103"/>
                      <a:pt x="3412" y="100"/>
                    </a:cubicBezTo>
                    <a:cubicBezTo>
                      <a:pt x="3411" y="102"/>
                      <a:pt x="3411" y="104"/>
                      <a:pt x="3410" y="108"/>
                    </a:cubicBezTo>
                    <a:cubicBezTo>
                      <a:pt x="3409" y="106"/>
                      <a:pt x="3408" y="103"/>
                      <a:pt x="3408" y="101"/>
                    </a:cubicBezTo>
                    <a:cubicBezTo>
                      <a:pt x="3408" y="100"/>
                      <a:pt x="3408" y="99"/>
                      <a:pt x="3409" y="98"/>
                    </a:cubicBezTo>
                    <a:cubicBezTo>
                      <a:pt x="3408" y="99"/>
                      <a:pt x="3408" y="100"/>
                      <a:pt x="3408" y="101"/>
                    </a:cubicBezTo>
                    <a:cubicBezTo>
                      <a:pt x="3405" y="94"/>
                      <a:pt x="3402" y="87"/>
                      <a:pt x="3398" y="81"/>
                    </a:cubicBezTo>
                    <a:cubicBezTo>
                      <a:pt x="3402" y="88"/>
                      <a:pt x="3403" y="99"/>
                      <a:pt x="3403" y="106"/>
                    </a:cubicBezTo>
                    <a:cubicBezTo>
                      <a:pt x="3403" y="111"/>
                      <a:pt x="3402" y="115"/>
                      <a:pt x="3402" y="120"/>
                    </a:cubicBezTo>
                    <a:cubicBezTo>
                      <a:pt x="3400" y="126"/>
                      <a:pt x="3398" y="133"/>
                      <a:pt x="3397" y="139"/>
                    </a:cubicBezTo>
                    <a:cubicBezTo>
                      <a:pt x="3397" y="135"/>
                      <a:pt x="3397" y="135"/>
                      <a:pt x="3397" y="135"/>
                    </a:cubicBezTo>
                    <a:cubicBezTo>
                      <a:pt x="3398" y="127"/>
                      <a:pt x="3398" y="120"/>
                      <a:pt x="3399" y="113"/>
                    </a:cubicBezTo>
                    <a:cubicBezTo>
                      <a:pt x="3398" y="117"/>
                      <a:pt x="3398" y="123"/>
                      <a:pt x="3397" y="129"/>
                    </a:cubicBezTo>
                    <a:cubicBezTo>
                      <a:pt x="3397" y="120"/>
                      <a:pt x="3397" y="111"/>
                      <a:pt x="3395" y="103"/>
                    </a:cubicBezTo>
                    <a:cubicBezTo>
                      <a:pt x="3396" y="101"/>
                      <a:pt x="3397" y="100"/>
                      <a:pt x="3397" y="99"/>
                    </a:cubicBezTo>
                    <a:cubicBezTo>
                      <a:pt x="3397" y="100"/>
                      <a:pt x="3396" y="101"/>
                      <a:pt x="3395" y="102"/>
                    </a:cubicBezTo>
                    <a:cubicBezTo>
                      <a:pt x="3393" y="88"/>
                      <a:pt x="3389" y="75"/>
                      <a:pt x="3380" y="60"/>
                    </a:cubicBezTo>
                    <a:cubicBezTo>
                      <a:pt x="3380" y="61"/>
                      <a:pt x="3380" y="61"/>
                      <a:pt x="3380" y="61"/>
                    </a:cubicBezTo>
                    <a:cubicBezTo>
                      <a:pt x="3380" y="76"/>
                      <a:pt x="3390" y="94"/>
                      <a:pt x="3390" y="111"/>
                    </a:cubicBezTo>
                    <a:cubicBezTo>
                      <a:pt x="3389" y="115"/>
                      <a:pt x="3388" y="120"/>
                      <a:pt x="3387" y="125"/>
                    </a:cubicBezTo>
                    <a:cubicBezTo>
                      <a:pt x="3383" y="109"/>
                      <a:pt x="3376" y="94"/>
                      <a:pt x="3365" y="83"/>
                    </a:cubicBezTo>
                    <a:cubicBezTo>
                      <a:pt x="3372" y="90"/>
                      <a:pt x="3376" y="101"/>
                      <a:pt x="3378" y="111"/>
                    </a:cubicBezTo>
                    <a:cubicBezTo>
                      <a:pt x="3377" y="111"/>
                      <a:pt x="3377" y="110"/>
                      <a:pt x="3377" y="109"/>
                    </a:cubicBezTo>
                    <a:cubicBezTo>
                      <a:pt x="3377" y="117"/>
                      <a:pt x="3378" y="126"/>
                      <a:pt x="3378" y="134"/>
                    </a:cubicBezTo>
                    <a:cubicBezTo>
                      <a:pt x="3378" y="136"/>
                      <a:pt x="3378" y="138"/>
                      <a:pt x="3378" y="140"/>
                    </a:cubicBezTo>
                    <a:cubicBezTo>
                      <a:pt x="3375" y="127"/>
                      <a:pt x="3374" y="113"/>
                      <a:pt x="3370" y="100"/>
                    </a:cubicBezTo>
                    <a:cubicBezTo>
                      <a:pt x="3372" y="109"/>
                      <a:pt x="3372" y="123"/>
                      <a:pt x="3372" y="135"/>
                    </a:cubicBezTo>
                    <a:cubicBezTo>
                      <a:pt x="3373" y="138"/>
                      <a:pt x="3373" y="141"/>
                      <a:pt x="3373" y="144"/>
                    </a:cubicBezTo>
                    <a:cubicBezTo>
                      <a:pt x="3373" y="143"/>
                      <a:pt x="3373" y="142"/>
                      <a:pt x="3373" y="142"/>
                    </a:cubicBezTo>
                    <a:cubicBezTo>
                      <a:pt x="3372" y="139"/>
                      <a:pt x="3372" y="137"/>
                      <a:pt x="3372" y="135"/>
                    </a:cubicBezTo>
                    <a:cubicBezTo>
                      <a:pt x="3372" y="130"/>
                      <a:pt x="3371" y="125"/>
                      <a:pt x="3370" y="120"/>
                    </a:cubicBezTo>
                    <a:cubicBezTo>
                      <a:pt x="3370" y="119"/>
                      <a:pt x="3370" y="119"/>
                      <a:pt x="3370" y="118"/>
                    </a:cubicBezTo>
                    <a:cubicBezTo>
                      <a:pt x="3370" y="119"/>
                      <a:pt x="3370" y="119"/>
                      <a:pt x="3370" y="120"/>
                    </a:cubicBezTo>
                    <a:cubicBezTo>
                      <a:pt x="3369" y="116"/>
                      <a:pt x="3367" y="112"/>
                      <a:pt x="3366" y="108"/>
                    </a:cubicBezTo>
                    <a:cubicBezTo>
                      <a:pt x="3366" y="106"/>
                      <a:pt x="3367" y="105"/>
                      <a:pt x="3368" y="103"/>
                    </a:cubicBezTo>
                    <a:cubicBezTo>
                      <a:pt x="3367" y="105"/>
                      <a:pt x="3366" y="106"/>
                      <a:pt x="3366" y="107"/>
                    </a:cubicBezTo>
                    <a:cubicBezTo>
                      <a:pt x="3359" y="91"/>
                      <a:pt x="3349" y="76"/>
                      <a:pt x="3332" y="63"/>
                    </a:cubicBezTo>
                    <a:cubicBezTo>
                      <a:pt x="3338" y="68"/>
                      <a:pt x="3342" y="74"/>
                      <a:pt x="3346" y="79"/>
                    </a:cubicBezTo>
                    <a:cubicBezTo>
                      <a:pt x="3345" y="81"/>
                      <a:pt x="3343" y="85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40" y="90"/>
                      <a:pt x="3340" y="90"/>
                      <a:pt x="3340" y="90"/>
                    </a:cubicBezTo>
                    <a:cubicBezTo>
                      <a:pt x="3338" y="94"/>
                      <a:pt x="3336" y="98"/>
                      <a:pt x="3334" y="103"/>
                    </a:cubicBezTo>
                    <a:cubicBezTo>
                      <a:pt x="3333" y="100"/>
                      <a:pt x="3333" y="98"/>
                      <a:pt x="3332" y="96"/>
                    </a:cubicBezTo>
                    <a:cubicBezTo>
                      <a:pt x="3332" y="99"/>
                      <a:pt x="3333" y="103"/>
                      <a:pt x="3333" y="106"/>
                    </a:cubicBezTo>
                    <a:cubicBezTo>
                      <a:pt x="3332" y="108"/>
                      <a:pt x="3331" y="111"/>
                      <a:pt x="3330" y="113"/>
                    </a:cubicBezTo>
                    <a:cubicBezTo>
                      <a:pt x="3329" y="111"/>
                      <a:pt x="3329" y="109"/>
                      <a:pt x="3328" y="107"/>
                    </a:cubicBezTo>
                    <a:cubicBezTo>
                      <a:pt x="3329" y="100"/>
                      <a:pt x="3330" y="93"/>
                      <a:pt x="3330" y="88"/>
                    </a:cubicBezTo>
                    <a:cubicBezTo>
                      <a:pt x="3330" y="87"/>
                      <a:pt x="3330" y="87"/>
                      <a:pt x="3330" y="87"/>
                    </a:cubicBezTo>
                    <a:cubicBezTo>
                      <a:pt x="3328" y="92"/>
                      <a:pt x="3327" y="97"/>
                      <a:pt x="3326" y="102"/>
                    </a:cubicBezTo>
                    <a:cubicBezTo>
                      <a:pt x="3323" y="96"/>
                      <a:pt x="3321" y="90"/>
                      <a:pt x="3318" y="84"/>
                    </a:cubicBezTo>
                    <a:cubicBezTo>
                      <a:pt x="3321" y="90"/>
                      <a:pt x="3323" y="97"/>
                      <a:pt x="3325" y="104"/>
                    </a:cubicBezTo>
                    <a:cubicBezTo>
                      <a:pt x="3324" y="108"/>
                      <a:pt x="3324" y="111"/>
                      <a:pt x="3323" y="115"/>
                    </a:cubicBezTo>
                    <a:cubicBezTo>
                      <a:pt x="3321" y="110"/>
                      <a:pt x="3319" y="106"/>
                      <a:pt x="3317" y="102"/>
                    </a:cubicBezTo>
                    <a:cubicBezTo>
                      <a:pt x="3319" y="107"/>
                      <a:pt x="3320" y="114"/>
                      <a:pt x="3321" y="121"/>
                    </a:cubicBezTo>
                    <a:cubicBezTo>
                      <a:pt x="3320" y="126"/>
                      <a:pt x="3318" y="131"/>
                      <a:pt x="3317" y="135"/>
                    </a:cubicBezTo>
                    <a:cubicBezTo>
                      <a:pt x="3315" y="132"/>
                      <a:pt x="3314" y="129"/>
                      <a:pt x="3313" y="125"/>
                    </a:cubicBezTo>
                    <a:cubicBezTo>
                      <a:pt x="3314" y="118"/>
                      <a:pt x="3315" y="111"/>
                      <a:pt x="3316" y="104"/>
                    </a:cubicBezTo>
                    <a:cubicBezTo>
                      <a:pt x="3315" y="109"/>
                      <a:pt x="3313" y="114"/>
                      <a:pt x="3311" y="120"/>
                    </a:cubicBezTo>
                    <a:cubicBezTo>
                      <a:pt x="3310" y="115"/>
                      <a:pt x="3309" y="111"/>
                      <a:pt x="3308" y="107"/>
                    </a:cubicBezTo>
                    <a:cubicBezTo>
                      <a:pt x="3308" y="103"/>
                      <a:pt x="3309" y="98"/>
                      <a:pt x="3309" y="94"/>
                    </a:cubicBezTo>
                    <a:cubicBezTo>
                      <a:pt x="3309" y="91"/>
                      <a:pt x="3308" y="88"/>
                      <a:pt x="3308" y="85"/>
                    </a:cubicBezTo>
                    <a:cubicBezTo>
                      <a:pt x="3307" y="89"/>
                      <a:pt x="3306" y="93"/>
                      <a:pt x="3305" y="99"/>
                    </a:cubicBezTo>
                    <a:cubicBezTo>
                      <a:pt x="3302" y="91"/>
                      <a:pt x="3298" y="84"/>
                      <a:pt x="3293" y="77"/>
                    </a:cubicBezTo>
                    <a:cubicBezTo>
                      <a:pt x="3296" y="86"/>
                      <a:pt x="3300" y="95"/>
                      <a:pt x="3303" y="104"/>
                    </a:cubicBezTo>
                    <a:cubicBezTo>
                      <a:pt x="3303" y="106"/>
                      <a:pt x="3303" y="107"/>
                      <a:pt x="3303" y="109"/>
                    </a:cubicBezTo>
                    <a:cubicBezTo>
                      <a:pt x="3302" y="107"/>
                      <a:pt x="3301" y="105"/>
                      <a:pt x="3300" y="103"/>
                    </a:cubicBezTo>
                    <a:cubicBezTo>
                      <a:pt x="3300" y="103"/>
                      <a:pt x="3300" y="102"/>
                      <a:pt x="3300" y="102"/>
                    </a:cubicBezTo>
                    <a:cubicBezTo>
                      <a:pt x="3300" y="102"/>
                      <a:pt x="3300" y="103"/>
                      <a:pt x="3300" y="103"/>
                    </a:cubicBezTo>
                    <a:cubicBezTo>
                      <a:pt x="3295" y="94"/>
                      <a:pt x="3290" y="86"/>
                      <a:pt x="3283" y="79"/>
                    </a:cubicBezTo>
                    <a:cubicBezTo>
                      <a:pt x="3285" y="75"/>
                      <a:pt x="3287" y="71"/>
                      <a:pt x="3289" y="68"/>
                    </a:cubicBezTo>
                    <a:cubicBezTo>
                      <a:pt x="3287" y="69"/>
                      <a:pt x="3284" y="73"/>
                      <a:pt x="3282" y="77"/>
                    </a:cubicBezTo>
                    <a:cubicBezTo>
                      <a:pt x="3278" y="73"/>
                      <a:pt x="3274" y="69"/>
                      <a:pt x="3269" y="65"/>
                    </a:cubicBezTo>
                    <a:cubicBezTo>
                      <a:pt x="3274" y="70"/>
                      <a:pt x="3278" y="75"/>
                      <a:pt x="3281" y="79"/>
                    </a:cubicBezTo>
                    <a:cubicBezTo>
                      <a:pt x="3278" y="86"/>
                      <a:pt x="3275" y="96"/>
                      <a:pt x="3272" y="105"/>
                    </a:cubicBezTo>
                    <a:cubicBezTo>
                      <a:pt x="3269" y="99"/>
                      <a:pt x="3265" y="94"/>
                      <a:pt x="3262" y="88"/>
                    </a:cubicBezTo>
                    <a:cubicBezTo>
                      <a:pt x="3262" y="87"/>
                      <a:pt x="3262" y="86"/>
                      <a:pt x="3263" y="85"/>
                    </a:cubicBezTo>
                    <a:cubicBezTo>
                      <a:pt x="3262" y="86"/>
                      <a:pt x="3262" y="87"/>
                      <a:pt x="3262" y="88"/>
                    </a:cubicBezTo>
                    <a:cubicBezTo>
                      <a:pt x="3261" y="87"/>
                      <a:pt x="3260" y="86"/>
                      <a:pt x="3259" y="85"/>
                    </a:cubicBezTo>
                    <a:cubicBezTo>
                      <a:pt x="3260" y="86"/>
                      <a:pt x="3261" y="87"/>
                      <a:pt x="3261" y="88"/>
                    </a:cubicBezTo>
                    <a:cubicBezTo>
                      <a:pt x="3260" y="91"/>
                      <a:pt x="3259" y="93"/>
                      <a:pt x="3258" y="95"/>
                    </a:cubicBezTo>
                    <a:cubicBezTo>
                      <a:pt x="3257" y="94"/>
                      <a:pt x="3257" y="92"/>
                      <a:pt x="3256" y="91"/>
                    </a:cubicBezTo>
                    <a:cubicBezTo>
                      <a:pt x="3257" y="92"/>
                      <a:pt x="3257" y="94"/>
                      <a:pt x="3258" y="95"/>
                    </a:cubicBezTo>
                    <a:cubicBezTo>
                      <a:pt x="3254" y="103"/>
                      <a:pt x="3251" y="112"/>
                      <a:pt x="3249" y="121"/>
                    </a:cubicBezTo>
                    <a:cubicBezTo>
                      <a:pt x="3248" y="112"/>
                      <a:pt x="3247" y="103"/>
                      <a:pt x="3247" y="97"/>
                    </a:cubicBezTo>
                    <a:cubicBezTo>
                      <a:pt x="3245" y="100"/>
                      <a:pt x="3244" y="105"/>
                      <a:pt x="3243" y="110"/>
                    </a:cubicBezTo>
                    <a:cubicBezTo>
                      <a:pt x="3243" y="92"/>
                      <a:pt x="3242" y="61"/>
                      <a:pt x="3240" y="57"/>
                    </a:cubicBezTo>
                    <a:cubicBezTo>
                      <a:pt x="3239" y="79"/>
                      <a:pt x="3240" y="100"/>
                      <a:pt x="3240" y="122"/>
                    </a:cubicBezTo>
                    <a:cubicBezTo>
                      <a:pt x="3240" y="123"/>
                      <a:pt x="3240" y="124"/>
                      <a:pt x="3240" y="125"/>
                    </a:cubicBezTo>
                    <a:cubicBezTo>
                      <a:pt x="3238" y="114"/>
                      <a:pt x="3234" y="103"/>
                      <a:pt x="3229" y="94"/>
                    </a:cubicBezTo>
                    <a:cubicBezTo>
                      <a:pt x="3228" y="89"/>
                      <a:pt x="3228" y="84"/>
                      <a:pt x="3229" y="80"/>
                    </a:cubicBezTo>
                    <a:cubicBezTo>
                      <a:pt x="3228" y="83"/>
                      <a:pt x="3227" y="87"/>
                      <a:pt x="3226" y="90"/>
                    </a:cubicBezTo>
                    <a:cubicBezTo>
                      <a:pt x="3224" y="88"/>
                      <a:pt x="3222" y="85"/>
                      <a:pt x="3220" y="83"/>
                    </a:cubicBezTo>
                    <a:cubicBezTo>
                      <a:pt x="3222" y="86"/>
                      <a:pt x="3224" y="89"/>
                      <a:pt x="3226" y="92"/>
                    </a:cubicBezTo>
                    <a:cubicBezTo>
                      <a:pt x="3225" y="96"/>
                      <a:pt x="3224" y="100"/>
                      <a:pt x="3224" y="103"/>
                    </a:cubicBezTo>
                    <a:cubicBezTo>
                      <a:pt x="3223" y="102"/>
                      <a:pt x="3223" y="101"/>
                      <a:pt x="3223" y="100"/>
                    </a:cubicBezTo>
                    <a:cubicBezTo>
                      <a:pt x="3223" y="101"/>
                      <a:pt x="3223" y="102"/>
                      <a:pt x="3224" y="104"/>
                    </a:cubicBezTo>
                    <a:cubicBezTo>
                      <a:pt x="3223" y="106"/>
                      <a:pt x="3223" y="109"/>
                      <a:pt x="3222" y="111"/>
                    </a:cubicBezTo>
                    <a:cubicBezTo>
                      <a:pt x="3220" y="107"/>
                      <a:pt x="3219" y="103"/>
                      <a:pt x="3217" y="99"/>
                    </a:cubicBezTo>
                    <a:cubicBezTo>
                      <a:pt x="3216" y="91"/>
                      <a:pt x="3216" y="82"/>
                      <a:pt x="3217" y="74"/>
                    </a:cubicBezTo>
                    <a:cubicBezTo>
                      <a:pt x="3216" y="80"/>
                      <a:pt x="3214" y="86"/>
                      <a:pt x="3213" y="92"/>
                    </a:cubicBezTo>
                    <a:cubicBezTo>
                      <a:pt x="3212" y="91"/>
                      <a:pt x="3211" y="89"/>
                      <a:pt x="3210" y="88"/>
                    </a:cubicBezTo>
                    <a:cubicBezTo>
                      <a:pt x="3211" y="89"/>
                      <a:pt x="3212" y="91"/>
                      <a:pt x="3213" y="93"/>
                    </a:cubicBezTo>
                    <a:cubicBezTo>
                      <a:pt x="3212" y="95"/>
                      <a:pt x="3212" y="97"/>
                      <a:pt x="3212" y="98"/>
                    </a:cubicBezTo>
                    <a:cubicBezTo>
                      <a:pt x="3209" y="93"/>
                      <a:pt x="3207" y="88"/>
                      <a:pt x="3203" y="84"/>
                    </a:cubicBezTo>
                    <a:cubicBezTo>
                      <a:pt x="3206" y="88"/>
                      <a:pt x="3208" y="95"/>
                      <a:pt x="3211" y="103"/>
                    </a:cubicBezTo>
                    <a:cubicBezTo>
                      <a:pt x="3210" y="106"/>
                      <a:pt x="3209" y="110"/>
                      <a:pt x="3209" y="113"/>
                    </a:cubicBezTo>
                    <a:cubicBezTo>
                      <a:pt x="3206" y="108"/>
                      <a:pt x="3204" y="102"/>
                      <a:pt x="3201" y="96"/>
                    </a:cubicBezTo>
                    <a:cubicBezTo>
                      <a:pt x="3201" y="91"/>
                      <a:pt x="3202" y="86"/>
                      <a:pt x="3203" y="83"/>
                    </a:cubicBezTo>
                    <a:cubicBezTo>
                      <a:pt x="3202" y="87"/>
                      <a:pt x="3201" y="90"/>
                      <a:pt x="3199" y="93"/>
                    </a:cubicBezTo>
                    <a:cubicBezTo>
                      <a:pt x="3194" y="83"/>
                      <a:pt x="3187" y="74"/>
                      <a:pt x="3178" y="64"/>
                    </a:cubicBezTo>
                    <a:cubicBezTo>
                      <a:pt x="3187" y="74"/>
                      <a:pt x="3193" y="86"/>
                      <a:pt x="3198" y="97"/>
                    </a:cubicBezTo>
                    <a:cubicBezTo>
                      <a:pt x="3197" y="99"/>
                      <a:pt x="3197" y="101"/>
                      <a:pt x="3196" y="103"/>
                    </a:cubicBezTo>
                    <a:cubicBezTo>
                      <a:pt x="3195" y="98"/>
                      <a:pt x="3194" y="93"/>
                      <a:pt x="3192" y="88"/>
                    </a:cubicBezTo>
                    <a:cubicBezTo>
                      <a:pt x="3192" y="91"/>
                      <a:pt x="3193" y="98"/>
                      <a:pt x="3195" y="106"/>
                    </a:cubicBezTo>
                    <a:cubicBezTo>
                      <a:pt x="3195" y="108"/>
                      <a:pt x="3194" y="109"/>
                      <a:pt x="3194" y="110"/>
                    </a:cubicBezTo>
                    <a:cubicBezTo>
                      <a:pt x="3188" y="97"/>
                      <a:pt x="3181" y="83"/>
                      <a:pt x="3170" y="72"/>
                    </a:cubicBezTo>
                    <a:cubicBezTo>
                      <a:pt x="3168" y="61"/>
                      <a:pt x="3166" y="51"/>
                      <a:pt x="3164" y="41"/>
                    </a:cubicBezTo>
                    <a:cubicBezTo>
                      <a:pt x="3164" y="48"/>
                      <a:pt x="3164" y="55"/>
                      <a:pt x="3164" y="61"/>
                    </a:cubicBezTo>
                    <a:cubicBezTo>
                      <a:pt x="3164" y="63"/>
                      <a:pt x="3164" y="64"/>
                      <a:pt x="3164" y="66"/>
                    </a:cubicBezTo>
                    <a:cubicBezTo>
                      <a:pt x="3163" y="65"/>
                      <a:pt x="3163" y="65"/>
                      <a:pt x="3163" y="65"/>
                    </a:cubicBezTo>
                    <a:cubicBezTo>
                      <a:pt x="3163" y="65"/>
                      <a:pt x="3163" y="65"/>
                      <a:pt x="3164" y="66"/>
                    </a:cubicBezTo>
                    <a:cubicBezTo>
                      <a:pt x="3164" y="75"/>
                      <a:pt x="3165" y="85"/>
                      <a:pt x="3165" y="94"/>
                    </a:cubicBezTo>
                    <a:cubicBezTo>
                      <a:pt x="3163" y="88"/>
                      <a:pt x="3160" y="81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6" y="75"/>
                      <a:pt x="3156" y="75"/>
                      <a:pt x="3156" y="75"/>
                    </a:cubicBezTo>
                    <a:cubicBezTo>
                      <a:pt x="3151" y="67"/>
                      <a:pt x="3144" y="59"/>
                      <a:pt x="3134" y="50"/>
                    </a:cubicBezTo>
                    <a:cubicBezTo>
                      <a:pt x="3137" y="54"/>
                      <a:pt x="3139" y="58"/>
                      <a:pt x="3141" y="61"/>
                    </a:cubicBezTo>
                    <a:cubicBezTo>
                      <a:pt x="3140" y="64"/>
                      <a:pt x="3140" y="68"/>
                      <a:pt x="3139" y="73"/>
                    </a:cubicBezTo>
                    <a:cubicBezTo>
                      <a:pt x="3137" y="70"/>
                      <a:pt x="3134" y="67"/>
                      <a:pt x="3132" y="65"/>
                    </a:cubicBezTo>
                    <a:cubicBezTo>
                      <a:pt x="3132" y="64"/>
                      <a:pt x="3132" y="64"/>
                      <a:pt x="3132" y="64"/>
                    </a:cubicBezTo>
                    <a:cubicBezTo>
                      <a:pt x="3132" y="64"/>
                      <a:pt x="3132" y="64"/>
                      <a:pt x="3131" y="64"/>
                    </a:cubicBezTo>
                    <a:cubicBezTo>
                      <a:pt x="3130" y="62"/>
                      <a:pt x="3128" y="61"/>
                      <a:pt x="3126" y="59"/>
                    </a:cubicBezTo>
                    <a:cubicBezTo>
                      <a:pt x="3128" y="61"/>
                      <a:pt x="3129" y="63"/>
                      <a:pt x="3131" y="65"/>
                    </a:cubicBezTo>
                    <a:cubicBezTo>
                      <a:pt x="3130" y="67"/>
                      <a:pt x="3128" y="69"/>
                      <a:pt x="3127" y="72"/>
                    </a:cubicBezTo>
                    <a:cubicBezTo>
                      <a:pt x="3126" y="66"/>
                      <a:pt x="3126" y="61"/>
                      <a:pt x="3125" y="56"/>
                    </a:cubicBezTo>
                    <a:cubicBezTo>
                      <a:pt x="3126" y="54"/>
                      <a:pt x="3127" y="53"/>
                      <a:pt x="3128" y="51"/>
                    </a:cubicBezTo>
                    <a:cubicBezTo>
                      <a:pt x="3127" y="52"/>
                      <a:pt x="3126" y="53"/>
                      <a:pt x="3124" y="55"/>
                    </a:cubicBezTo>
                    <a:cubicBezTo>
                      <a:pt x="3123" y="45"/>
                      <a:pt x="3121" y="35"/>
                      <a:pt x="3118" y="26"/>
                    </a:cubicBezTo>
                    <a:cubicBezTo>
                      <a:pt x="3117" y="30"/>
                      <a:pt x="3117" y="34"/>
                      <a:pt x="3117" y="37"/>
                    </a:cubicBezTo>
                    <a:cubicBezTo>
                      <a:pt x="3117" y="45"/>
                      <a:pt x="3118" y="53"/>
                      <a:pt x="3119" y="60"/>
                    </a:cubicBezTo>
                    <a:cubicBezTo>
                      <a:pt x="3115" y="64"/>
                      <a:pt x="3111" y="69"/>
                      <a:pt x="3106" y="74"/>
                    </a:cubicBezTo>
                    <a:cubicBezTo>
                      <a:pt x="3106" y="72"/>
                      <a:pt x="3105" y="70"/>
                      <a:pt x="3104" y="67"/>
                    </a:cubicBezTo>
                    <a:cubicBezTo>
                      <a:pt x="3104" y="70"/>
                      <a:pt x="3105" y="73"/>
                      <a:pt x="3105" y="76"/>
                    </a:cubicBezTo>
                    <a:cubicBezTo>
                      <a:pt x="3104" y="77"/>
                      <a:pt x="3104" y="77"/>
                      <a:pt x="3104" y="78"/>
                    </a:cubicBezTo>
                    <a:cubicBezTo>
                      <a:pt x="3102" y="75"/>
                      <a:pt x="3100" y="72"/>
                      <a:pt x="3098" y="68"/>
                    </a:cubicBezTo>
                    <a:cubicBezTo>
                      <a:pt x="3098" y="65"/>
                      <a:pt x="3099" y="63"/>
                      <a:pt x="3099" y="62"/>
                    </a:cubicBezTo>
                    <a:cubicBezTo>
                      <a:pt x="3098" y="63"/>
                      <a:pt x="3097" y="65"/>
                      <a:pt x="3096" y="67"/>
                    </a:cubicBezTo>
                    <a:cubicBezTo>
                      <a:pt x="3090" y="57"/>
                      <a:pt x="3081" y="47"/>
                      <a:pt x="3068" y="34"/>
                    </a:cubicBezTo>
                    <a:cubicBezTo>
                      <a:pt x="3081" y="49"/>
                      <a:pt x="3089" y="60"/>
                      <a:pt x="3096" y="69"/>
                    </a:cubicBezTo>
                    <a:cubicBezTo>
                      <a:pt x="3095" y="72"/>
                      <a:pt x="3094" y="75"/>
                      <a:pt x="3094" y="79"/>
                    </a:cubicBezTo>
                    <a:cubicBezTo>
                      <a:pt x="3088" y="68"/>
                      <a:pt x="3080" y="58"/>
                      <a:pt x="3068" y="52"/>
                    </a:cubicBezTo>
                    <a:cubicBezTo>
                      <a:pt x="3082" y="60"/>
                      <a:pt x="3089" y="72"/>
                      <a:pt x="3094" y="84"/>
                    </a:cubicBezTo>
                    <a:cubicBezTo>
                      <a:pt x="3094" y="86"/>
                      <a:pt x="3094" y="89"/>
                      <a:pt x="3094" y="91"/>
                    </a:cubicBezTo>
                    <a:cubicBezTo>
                      <a:pt x="3092" y="94"/>
                      <a:pt x="3090" y="97"/>
                      <a:pt x="3088" y="100"/>
                    </a:cubicBezTo>
                    <a:cubicBezTo>
                      <a:pt x="3087" y="96"/>
                      <a:pt x="3087" y="93"/>
                      <a:pt x="3086" y="90"/>
                    </a:cubicBezTo>
                    <a:cubicBezTo>
                      <a:pt x="3087" y="93"/>
                      <a:pt x="3087" y="97"/>
                      <a:pt x="3087" y="101"/>
                    </a:cubicBezTo>
                    <a:cubicBezTo>
                      <a:pt x="3086" y="102"/>
                      <a:pt x="3085" y="104"/>
                      <a:pt x="3085" y="105"/>
                    </a:cubicBezTo>
                    <a:cubicBezTo>
                      <a:pt x="3084" y="104"/>
                      <a:pt x="3084" y="103"/>
                      <a:pt x="3083" y="102"/>
                    </a:cubicBezTo>
                    <a:cubicBezTo>
                      <a:pt x="3082" y="97"/>
                      <a:pt x="3081" y="93"/>
                      <a:pt x="3080" y="88"/>
                    </a:cubicBezTo>
                    <a:cubicBezTo>
                      <a:pt x="3081" y="83"/>
                      <a:pt x="3082" y="79"/>
                      <a:pt x="3082" y="75"/>
                    </a:cubicBezTo>
                    <a:cubicBezTo>
                      <a:pt x="3081" y="78"/>
                      <a:pt x="3080" y="80"/>
                      <a:pt x="3079" y="82"/>
                    </a:cubicBezTo>
                    <a:cubicBezTo>
                      <a:pt x="3078" y="81"/>
                      <a:pt x="3078" y="80"/>
                      <a:pt x="3078" y="79"/>
                    </a:cubicBezTo>
                    <a:cubicBezTo>
                      <a:pt x="3078" y="80"/>
                      <a:pt x="3078" y="82"/>
                      <a:pt x="3078" y="83"/>
                    </a:cubicBezTo>
                    <a:cubicBezTo>
                      <a:pt x="3078" y="84"/>
                      <a:pt x="3077" y="86"/>
                      <a:pt x="3076" y="87"/>
                    </a:cubicBezTo>
                    <a:cubicBezTo>
                      <a:pt x="3074" y="83"/>
                      <a:pt x="3073" y="79"/>
                      <a:pt x="3071" y="75"/>
                    </a:cubicBezTo>
                    <a:cubicBezTo>
                      <a:pt x="3071" y="80"/>
                      <a:pt x="3072" y="86"/>
                      <a:pt x="3073" y="93"/>
                    </a:cubicBezTo>
                    <a:cubicBezTo>
                      <a:pt x="3073" y="94"/>
                      <a:pt x="3073" y="94"/>
                      <a:pt x="3073" y="94"/>
                    </a:cubicBezTo>
                    <a:cubicBezTo>
                      <a:pt x="3072" y="90"/>
                      <a:pt x="3070" y="85"/>
                      <a:pt x="3068" y="81"/>
                    </a:cubicBezTo>
                    <a:cubicBezTo>
                      <a:pt x="3070" y="86"/>
                      <a:pt x="3071" y="91"/>
                      <a:pt x="3072" y="97"/>
                    </a:cubicBezTo>
                    <a:cubicBezTo>
                      <a:pt x="3070" y="100"/>
                      <a:pt x="3069" y="102"/>
                      <a:pt x="3068" y="105"/>
                    </a:cubicBezTo>
                    <a:cubicBezTo>
                      <a:pt x="3065" y="83"/>
                      <a:pt x="3059" y="63"/>
                      <a:pt x="3039" y="42"/>
                    </a:cubicBezTo>
                    <a:cubicBezTo>
                      <a:pt x="3047" y="58"/>
                      <a:pt x="3053" y="70"/>
                      <a:pt x="3057" y="81"/>
                    </a:cubicBezTo>
                    <a:cubicBezTo>
                      <a:pt x="3057" y="83"/>
                      <a:pt x="3057" y="86"/>
                      <a:pt x="3057" y="89"/>
                    </a:cubicBezTo>
                    <a:cubicBezTo>
                      <a:pt x="3055" y="86"/>
                      <a:pt x="3053" y="84"/>
                      <a:pt x="3052" y="81"/>
                    </a:cubicBezTo>
                    <a:cubicBezTo>
                      <a:pt x="3051" y="79"/>
                      <a:pt x="3049" y="76"/>
                      <a:pt x="3048" y="73"/>
                    </a:cubicBezTo>
                    <a:cubicBezTo>
                      <a:pt x="3048" y="71"/>
                      <a:pt x="3048" y="69"/>
                      <a:pt x="3048" y="67"/>
                    </a:cubicBezTo>
                    <a:cubicBezTo>
                      <a:pt x="3048" y="69"/>
                      <a:pt x="3047" y="70"/>
                      <a:pt x="3047" y="72"/>
                    </a:cubicBezTo>
                    <a:cubicBezTo>
                      <a:pt x="3044" y="66"/>
                      <a:pt x="3040" y="59"/>
                      <a:pt x="3035" y="53"/>
                    </a:cubicBezTo>
                    <a:cubicBezTo>
                      <a:pt x="3035" y="48"/>
                      <a:pt x="3035" y="42"/>
                      <a:pt x="3035" y="37"/>
                    </a:cubicBezTo>
                    <a:cubicBezTo>
                      <a:pt x="3035" y="34"/>
                      <a:pt x="3035" y="30"/>
                      <a:pt x="3035" y="26"/>
                    </a:cubicBezTo>
                    <a:cubicBezTo>
                      <a:pt x="3032" y="33"/>
                      <a:pt x="3031" y="40"/>
                      <a:pt x="3029" y="47"/>
                    </a:cubicBezTo>
                    <a:cubicBezTo>
                      <a:pt x="3026" y="44"/>
                      <a:pt x="3023" y="41"/>
                      <a:pt x="3020" y="38"/>
                    </a:cubicBezTo>
                    <a:cubicBezTo>
                      <a:pt x="3023" y="41"/>
                      <a:pt x="3026" y="45"/>
                      <a:pt x="3029" y="49"/>
                    </a:cubicBezTo>
                    <a:cubicBezTo>
                      <a:pt x="3029" y="51"/>
                      <a:pt x="3028" y="53"/>
                      <a:pt x="3028" y="55"/>
                    </a:cubicBezTo>
                    <a:cubicBezTo>
                      <a:pt x="3027" y="53"/>
                      <a:pt x="3025" y="52"/>
                      <a:pt x="3024" y="51"/>
                    </a:cubicBezTo>
                    <a:cubicBezTo>
                      <a:pt x="3025" y="53"/>
                      <a:pt x="3027" y="54"/>
                      <a:pt x="3028" y="56"/>
                    </a:cubicBezTo>
                    <a:cubicBezTo>
                      <a:pt x="3027" y="61"/>
                      <a:pt x="3026" y="66"/>
                      <a:pt x="3026" y="72"/>
                    </a:cubicBezTo>
                    <a:cubicBezTo>
                      <a:pt x="3024" y="69"/>
                      <a:pt x="3022" y="66"/>
                      <a:pt x="3021" y="64"/>
                    </a:cubicBezTo>
                    <a:cubicBezTo>
                      <a:pt x="3021" y="66"/>
                      <a:pt x="3023" y="70"/>
                      <a:pt x="3025" y="74"/>
                    </a:cubicBezTo>
                    <a:cubicBezTo>
                      <a:pt x="3024" y="80"/>
                      <a:pt x="3023" y="86"/>
                      <a:pt x="3022" y="92"/>
                    </a:cubicBezTo>
                    <a:cubicBezTo>
                      <a:pt x="3018" y="109"/>
                      <a:pt x="3014" y="126"/>
                      <a:pt x="3012" y="143"/>
                    </a:cubicBezTo>
                    <a:cubicBezTo>
                      <a:pt x="3013" y="126"/>
                      <a:pt x="3014" y="109"/>
                      <a:pt x="3014" y="91"/>
                    </a:cubicBezTo>
                    <a:cubicBezTo>
                      <a:pt x="3014" y="87"/>
                      <a:pt x="3014" y="61"/>
                      <a:pt x="3010" y="59"/>
                    </a:cubicBezTo>
                    <a:cubicBezTo>
                      <a:pt x="3015" y="76"/>
                      <a:pt x="3001" y="122"/>
                      <a:pt x="2998" y="146"/>
                    </a:cubicBezTo>
                    <a:cubicBezTo>
                      <a:pt x="2998" y="148"/>
                      <a:pt x="2998" y="150"/>
                      <a:pt x="2997" y="152"/>
                    </a:cubicBezTo>
                    <a:cubicBezTo>
                      <a:pt x="2997" y="150"/>
                      <a:pt x="2998" y="148"/>
                      <a:pt x="2998" y="146"/>
                    </a:cubicBezTo>
                    <a:cubicBezTo>
                      <a:pt x="3000" y="123"/>
                      <a:pt x="2998" y="98"/>
                      <a:pt x="2997" y="75"/>
                    </a:cubicBezTo>
                    <a:cubicBezTo>
                      <a:pt x="2994" y="97"/>
                      <a:pt x="2986" y="119"/>
                      <a:pt x="2986" y="141"/>
                    </a:cubicBezTo>
                    <a:cubicBezTo>
                      <a:pt x="2986" y="146"/>
                      <a:pt x="2986" y="152"/>
                      <a:pt x="2987" y="158"/>
                    </a:cubicBezTo>
                    <a:cubicBezTo>
                      <a:pt x="2985" y="150"/>
                      <a:pt x="2985" y="140"/>
                      <a:pt x="2985" y="133"/>
                    </a:cubicBezTo>
                    <a:cubicBezTo>
                      <a:pt x="2985" y="109"/>
                      <a:pt x="2989" y="85"/>
                      <a:pt x="2989" y="61"/>
                    </a:cubicBezTo>
                    <a:cubicBezTo>
                      <a:pt x="2989" y="55"/>
                      <a:pt x="2989" y="48"/>
                      <a:pt x="2988" y="41"/>
                    </a:cubicBezTo>
                    <a:cubicBezTo>
                      <a:pt x="2981" y="71"/>
                      <a:pt x="2977" y="110"/>
                      <a:pt x="2977" y="140"/>
                    </a:cubicBezTo>
                    <a:cubicBezTo>
                      <a:pt x="2977" y="145"/>
                      <a:pt x="2977" y="149"/>
                      <a:pt x="2977" y="153"/>
                    </a:cubicBezTo>
                    <a:cubicBezTo>
                      <a:pt x="2976" y="135"/>
                      <a:pt x="2972" y="116"/>
                      <a:pt x="2968" y="98"/>
                    </a:cubicBezTo>
                    <a:cubicBezTo>
                      <a:pt x="2970" y="110"/>
                      <a:pt x="2966" y="124"/>
                      <a:pt x="2966" y="136"/>
                    </a:cubicBezTo>
                    <a:cubicBezTo>
                      <a:pt x="2966" y="140"/>
                      <a:pt x="2966" y="143"/>
                      <a:pt x="2966" y="147"/>
                    </a:cubicBezTo>
                    <a:cubicBezTo>
                      <a:pt x="2963" y="125"/>
                      <a:pt x="2958" y="103"/>
                      <a:pt x="2949" y="83"/>
                    </a:cubicBezTo>
                    <a:cubicBezTo>
                      <a:pt x="2952" y="90"/>
                      <a:pt x="2952" y="108"/>
                      <a:pt x="2952" y="115"/>
                    </a:cubicBezTo>
                    <a:cubicBezTo>
                      <a:pt x="2952" y="127"/>
                      <a:pt x="2952" y="138"/>
                      <a:pt x="2954" y="150"/>
                    </a:cubicBezTo>
                    <a:cubicBezTo>
                      <a:pt x="2945" y="126"/>
                      <a:pt x="2942" y="99"/>
                      <a:pt x="2935" y="74"/>
                    </a:cubicBezTo>
                    <a:cubicBezTo>
                      <a:pt x="2938" y="91"/>
                      <a:pt x="2934" y="110"/>
                      <a:pt x="2934" y="128"/>
                    </a:cubicBezTo>
                    <a:cubicBezTo>
                      <a:pt x="2934" y="132"/>
                      <a:pt x="2935" y="136"/>
                      <a:pt x="2935" y="140"/>
                    </a:cubicBezTo>
                    <a:cubicBezTo>
                      <a:pt x="2935" y="145"/>
                      <a:pt x="2936" y="149"/>
                      <a:pt x="2937" y="154"/>
                    </a:cubicBezTo>
                    <a:cubicBezTo>
                      <a:pt x="2936" y="149"/>
                      <a:pt x="2935" y="145"/>
                      <a:pt x="2935" y="140"/>
                    </a:cubicBezTo>
                    <a:cubicBezTo>
                      <a:pt x="2932" y="120"/>
                      <a:pt x="2929" y="99"/>
                      <a:pt x="2924" y="80"/>
                    </a:cubicBezTo>
                    <a:cubicBezTo>
                      <a:pt x="2926" y="102"/>
                      <a:pt x="2916" y="126"/>
                      <a:pt x="2916" y="149"/>
                    </a:cubicBezTo>
                    <a:cubicBezTo>
                      <a:pt x="2916" y="156"/>
                      <a:pt x="2916" y="156"/>
                      <a:pt x="2916" y="156"/>
                    </a:cubicBezTo>
                    <a:cubicBezTo>
                      <a:pt x="2912" y="147"/>
                      <a:pt x="2912" y="132"/>
                      <a:pt x="2912" y="122"/>
                    </a:cubicBezTo>
                    <a:cubicBezTo>
                      <a:pt x="2912" y="100"/>
                      <a:pt x="2914" y="79"/>
                      <a:pt x="2913" y="57"/>
                    </a:cubicBezTo>
                    <a:cubicBezTo>
                      <a:pt x="2910" y="62"/>
                      <a:pt x="2909" y="112"/>
                      <a:pt x="2909" y="120"/>
                    </a:cubicBezTo>
                    <a:cubicBezTo>
                      <a:pt x="2909" y="133"/>
                      <a:pt x="2910" y="146"/>
                      <a:pt x="2913" y="159"/>
                    </a:cubicBezTo>
                    <a:cubicBezTo>
                      <a:pt x="2908" y="135"/>
                      <a:pt x="2902" y="108"/>
                      <a:pt x="2890" y="85"/>
                    </a:cubicBezTo>
                    <a:cubicBezTo>
                      <a:pt x="2901" y="106"/>
                      <a:pt x="2896" y="132"/>
                      <a:pt x="2903" y="154"/>
                    </a:cubicBezTo>
                    <a:cubicBezTo>
                      <a:pt x="2895" y="142"/>
                      <a:pt x="2893" y="122"/>
                      <a:pt x="2890" y="106"/>
                    </a:cubicBezTo>
                    <a:cubicBezTo>
                      <a:pt x="2892" y="120"/>
                      <a:pt x="2890" y="134"/>
                      <a:pt x="2892" y="148"/>
                    </a:cubicBezTo>
                    <a:cubicBezTo>
                      <a:pt x="2893" y="151"/>
                      <a:pt x="2894" y="153"/>
                      <a:pt x="2894" y="155"/>
                    </a:cubicBezTo>
                    <a:cubicBezTo>
                      <a:pt x="2893" y="153"/>
                      <a:pt x="2893" y="151"/>
                      <a:pt x="2892" y="148"/>
                    </a:cubicBezTo>
                    <a:cubicBezTo>
                      <a:pt x="2887" y="128"/>
                      <a:pt x="2875" y="75"/>
                      <a:pt x="2863" y="68"/>
                    </a:cubicBezTo>
                    <a:cubicBezTo>
                      <a:pt x="2880" y="90"/>
                      <a:pt x="2878" y="127"/>
                      <a:pt x="2882" y="153"/>
                    </a:cubicBezTo>
                    <a:cubicBezTo>
                      <a:pt x="2878" y="134"/>
                      <a:pt x="2871" y="113"/>
                      <a:pt x="2862" y="95"/>
                    </a:cubicBezTo>
                    <a:cubicBezTo>
                      <a:pt x="2869" y="115"/>
                      <a:pt x="2868" y="136"/>
                      <a:pt x="2877" y="155"/>
                    </a:cubicBezTo>
                    <a:cubicBezTo>
                      <a:pt x="2864" y="144"/>
                      <a:pt x="2857" y="117"/>
                      <a:pt x="2853" y="102"/>
                    </a:cubicBezTo>
                    <a:cubicBezTo>
                      <a:pt x="2853" y="120"/>
                      <a:pt x="2858" y="143"/>
                      <a:pt x="2869" y="158"/>
                    </a:cubicBezTo>
                    <a:cubicBezTo>
                      <a:pt x="2855" y="144"/>
                      <a:pt x="2850" y="103"/>
                      <a:pt x="2845" y="85"/>
                    </a:cubicBezTo>
                    <a:cubicBezTo>
                      <a:pt x="2844" y="88"/>
                      <a:pt x="2844" y="91"/>
                      <a:pt x="2844" y="94"/>
                    </a:cubicBezTo>
                    <a:cubicBezTo>
                      <a:pt x="2844" y="113"/>
                      <a:pt x="2849" y="142"/>
                      <a:pt x="2861" y="159"/>
                    </a:cubicBezTo>
                    <a:cubicBezTo>
                      <a:pt x="2847" y="143"/>
                      <a:pt x="2842" y="123"/>
                      <a:pt x="2836" y="104"/>
                    </a:cubicBezTo>
                    <a:cubicBezTo>
                      <a:pt x="2840" y="122"/>
                      <a:pt x="2840" y="140"/>
                      <a:pt x="2849" y="158"/>
                    </a:cubicBezTo>
                    <a:cubicBezTo>
                      <a:pt x="2839" y="147"/>
                      <a:pt x="2834" y="132"/>
                      <a:pt x="2830" y="117"/>
                    </a:cubicBezTo>
                    <a:cubicBezTo>
                      <a:pt x="2832" y="105"/>
                      <a:pt x="2833" y="93"/>
                      <a:pt x="2834" y="84"/>
                    </a:cubicBezTo>
                    <a:cubicBezTo>
                      <a:pt x="2832" y="92"/>
                      <a:pt x="2830" y="101"/>
                      <a:pt x="2828" y="109"/>
                    </a:cubicBezTo>
                    <a:cubicBezTo>
                      <a:pt x="2827" y="102"/>
                      <a:pt x="2825" y="95"/>
                      <a:pt x="2823" y="89"/>
                    </a:cubicBezTo>
                    <a:cubicBezTo>
                      <a:pt x="2826" y="64"/>
                      <a:pt x="2830" y="40"/>
                      <a:pt x="2830" y="40"/>
                    </a:cubicBezTo>
                    <a:cubicBezTo>
                      <a:pt x="2825" y="51"/>
                      <a:pt x="2820" y="77"/>
                      <a:pt x="2817" y="100"/>
                    </a:cubicBezTo>
                    <a:cubicBezTo>
                      <a:pt x="2815" y="95"/>
                      <a:pt x="2812" y="90"/>
                      <a:pt x="2811" y="86"/>
                    </a:cubicBezTo>
                    <a:cubicBezTo>
                      <a:pt x="2810" y="70"/>
                      <a:pt x="2808" y="58"/>
                      <a:pt x="2808" y="60"/>
                    </a:cubicBezTo>
                    <a:cubicBezTo>
                      <a:pt x="2808" y="61"/>
                      <a:pt x="2808" y="69"/>
                      <a:pt x="2807" y="80"/>
                    </a:cubicBezTo>
                    <a:cubicBezTo>
                      <a:pt x="2806" y="79"/>
                      <a:pt x="2806" y="78"/>
                      <a:pt x="2805" y="78"/>
                    </a:cubicBezTo>
                    <a:cubicBezTo>
                      <a:pt x="2806" y="79"/>
                      <a:pt x="2806" y="80"/>
                      <a:pt x="2807" y="81"/>
                    </a:cubicBezTo>
                    <a:cubicBezTo>
                      <a:pt x="2806" y="87"/>
                      <a:pt x="2806" y="95"/>
                      <a:pt x="2805" y="102"/>
                    </a:cubicBezTo>
                    <a:cubicBezTo>
                      <a:pt x="2805" y="102"/>
                      <a:pt x="2805" y="102"/>
                      <a:pt x="2805" y="102"/>
                    </a:cubicBezTo>
                    <a:cubicBezTo>
                      <a:pt x="2805" y="103"/>
                      <a:pt x="2805" y="103"/>
                      <a:pt x="2805" y="103"/>
                    </a:cubicBezTo>
                    <a:cubicBezTo>
                      <a:pt x="2804" y="113"/>
                      <a:pt x="2804" y="123"/>
                      <a:pt x="2803" y="130"/>
                    </a:cubicBezTo>
                    <a:cubicBezTo>
                      <a:pt x="2803" y="130"/>
                      <a:pt x="2802" y="129"/>
                      <a:pt x="2802" y="128"/>
                    </a:cubicBezTo>
                    <a:cubicBezTo>
                      <a:pt x="2802" y="107"/>
                      <a:pt x="2798" y="69"/>
                      <a:pt x="2795" y="47"/>
                    </a:cubicBezTo>
                    <a:cubicBezTo>
                      <a:pt x="2796" y="64"/>
                      <a:pt x="2795" y="87"/>
                      <a:pt x="2794" y="107"/>
                    </a:cubicBezTo>
                    <a:cubicBezTo>
                      <a:pt x="2793" y="105"/>
                      <a:pt x="2792" y="104"/>
                      <a:pt x="2791" y="102"/>
                    </a:cubicBezTo>
                    <a:cubicBezTo>
                      <a:pt x="2792" y="104"/>
                      <a:pt x="2793" y="106"/>
                      <a:pt x="2793" y="107"/>
                    </a:cubicBezTo>
                    <a:cubicBezTo>
                      <a:pt x="2793" y="114"/>
                      <a:pt x="2793" y="121"/>
                      <a:pt x="2792" y="126"/>
                    </a:cubicBezTo>
                    <a:cubicBezTo>
                      <a:pt x="2792" y="125"/>
                      <a:pt x="2791" y="123"/>
                      <a:pt x="2791" y="122"/>
                    </a:cubicBezTo>
                    <a:cubicBezTo>
                      <a:pt x="2790" y="93"/>
                      <a:pt x="2786" y="46"/>
                      <a:pt x="2786" y="46"/>
                    </a:cubicBezTo>
                    <a:cubicBezTo>
                      <a:pt x="2785" y="65"/>
                      <a:pt x="2779" y="142"/>
                      <a:pt x="2779" y="142"/>
                    </a:cubicBezTo>
                    <a:cubicBezTo>
                      <a:pt x="2773" y="106"/>
                      <a:pt x="2780" y="0"/>
                      <a:pt x="2780" y="0"/>
                    </a:cubicBezTo>
                    <a:cubicBezTo>
                      <a:pt x="2774" y="16"/>
                      <a:pt x="2768" y="131"/>
                      <a:pt x="2768" y="131"/>
                    </a:cubicBezTo>
                    <a:cubicBezTo>
                      <a:pt x="2766" y="36"/>
                      <a:pt x="2762" y="32"/>
                      <a:pt x="2762" y="32"/>
                    </a:cubicBezTo>
                    <a:cubicBezTo>
                      <a:pt x="2764" y="43"/>
                      <a:pt x="2761" y="76"/>
                      <a:pt x="2758" y="103"/>
                    </a:cubicBezTo>
                    <a:cubicBezTo>
                      <a:pt x="2757" y="102"/>
                      <a:pt x="2756" y="100"/>
                      <a:pt x="2755" y="99"/>
                    </a:cubicBezTo>
                    <a:cubicBezTo>
                      <a:pt x="2756" y="101"/>
                      <a:pt x="2757" y="103"/>
                      <a:pt x="2758" y="104"/>
                    </a:cubicBezTo>
                    <a:cubicBezTo>
                      <a:pt x="2757" y="112"/>
                      <a:pt x="2756" y="120"/>
                      <a:pt x="2755" y="126"/>
                    </a:cubicBezTo>
                    <a:cubicBezTo>
                      <a:pt x="2755" y="124"/>
                      <a:pt x="2755" y="123"/>
                      <a:pt x="2755" y="122"/>
                    </a:cubicBezTo>
                    <a:cubicBezTo>
                      <a:pt x="2755" y="94"/>
                      <a:pt x="2754" y="48"/>
                      <a:pt x="2754" y="48"/>
                    </a:cubicBezTo>
                    <a:cubicBezTo>
                      <a:pt x="2753" y="55"/>
                      <a:pt x="2750" y="82"/>
                      <a:pt x="2747" y="106"/>
                    </a:cubicBezTo>
                    <a:cubicBezTo>
                      <a:pt x="2746" y="104"/>
                      <a:pt x="2745" y="102"/>
                      <a:pt x="2745" y="100"/>
                    </a:cubicBezTo>
                    <a:cubicBezTo>
                      <a:pt x="2748" y="60"/>
                      <a:pt x="2752" y="9"/>
                      <a:pt x="2752" y="9"/>
                    </a:cubicBezTo>
                    <a:cubicBezTo>
                      <a:pt x="2747" y="23"/>
                      <a:pt x="2740" y="83"/>
                      <a:pt x="2737" y="117"/>
                    </a:cubicBezTo>
                    <a:cubicBezTo>
                      <a:pt x="2736" y="114"/>
                      <a:pt x="2735" y="111"/>
                      <a:pt x="2734" y="108"/>
                    </a:cubicBezTo>
                    <a:cubicBezTo>
                      <a:pt x="2734" y="90"/>
                      <a:pt x="2732" y="72"/>
                      <a:pt x="2732" y="72"/>
                    </a:cubicBezTo>
                    <a:cubicBezTo>
                      <a:pt x="2732" y="76"/>
                      <a:pt x="2732" y="84"/>
                      <a:pt x="2731" y="94"/>
                    </a:cubicBezTo>
                    <a:cubicBezTo>
                      <a:pt x="2730" y="91"/>
                      <a:pt x="2728" y="88"/>
                      <a:pt x="2727" y="84"/>
                    </a:cubicBezTo>
                    <a:cubicBezTo>
                      <a:pt x="2728" y="88"/>
                      <a:pt x="2730" y="92"/>
                      <a:pt x="2730" y="96"/>
                    </a:cubicBezTo>
                    <a:cubicBezTo>
                      <a:pt x="2730" y="99"/>
                      <a:pt x="2730" y="103"/>
                      <a:pt x="2729" y="107"/>
                    </a:cubicBezTo>
                    <a:cubicBezTo>
                      <a:pt x="2729" y="106"/>
                      <a:pt x="2729" y="106"/>
                      <a:pt x="2729" y="105"/>
                    </a:cubicBezTo>
                    <a:cubicBezTo>
                      <a:pt x="2728" y="107"/>
                      <a:pt x="2728" y="112"/>
                      <a:pt x="2728" y="116"/>
                    </a:cubicBezTo>
                    <a:cubicBezTo>
                      <a:pt x="2727" y="121"/>
                      <a:pt x="2727" y="126"/>
                      <a:pt x="2726" y="130"/>
                    </a:cubicBezTo>
                    <a:cubicBezTo>
                      <a:pt x="2726" y="129"/>
                      <a:pt x="2726" y="128"/>
                      <a:pt x="2726" y="127"/>
                    </a:cubicBezTo>
                    <a:cubicBezTo>
                      <a:pt x="2726" y="101"/>
                      <a:pt x="2721" y="63"/>
                      <a:pt x="2720" y="54"/>
                    </a:cubicBezTo>
                    <a:cubicBezTo>
                      <a:pt x="2720" y="61"/>
                      <a:pt x="2719" y="79"/>
                      <a:pt x="2718" y="96"/>
                    </a:cubicBezTo>
                    <a:cubicBezTo>
                      <a:pt x="2717" y="94"/>
                      <a:pt x="2716" y="92"/>
                      <a:pt x="2715" y="90"/>
                    </a:cubicBezTo>
                    <a:cubicBezTo>
                      <a:pt x="2716" y="93"/>
                      <a:pt x="2717" y="95"/>
                      <a:pt x="2718" y="97"/>
                    </a:cubicBezTo>
                    <a:cubicBezTo>
                      <a:pt x="2716" y="118"/>
                      <a:pt x="2714" y="137"/>
                      <a:pt x="2714" y="137"/>
                    </a:cubicBezTo>
                    <a:cubicBezTo>
                      <a:pt x="2713" y="136"/>
                      <a:pt x="2713" y="134"/>
                      <a:pt x="2713" y="133"/>
                    </a:cubicBezTo>
                    <a:cubicBezTo>
                      <a:pt x="2713" y="125"/>
                      <a:pt x="2713" y="118"/>
                      <a:pt x="2712" y="110"/>
                    </a:cubicBezTo>
                    <a:cubicBezTo>
                      <a:pt x="2711" y="76"/>
                      <a:pt x="2710" y="40"/>
                      <a:pt x="2710" y="40"/>
                    </a:cubicBezTo>
                    <a:cubicBezTo>
                      <a:pt x="2710" y="49"/>
                      <a:pt x="2705" y="79"/>
                      <a:pt x="2701" y="104"/>
                    </a:cubicBezTo>
                    <a:cubicBezTo>
                      <a:pt x="2701" y="99"/>
                      <a:pt x="2700" y="95"/>
                      <a:pt x="2699" y="90"/>
                    </a:cubicBezTo>
                    <a:cubicBezTo>
                      <a:pt x="2700" y="67"/>
                      <a:pt x="2701" y="45"/>
                      <a:pt x="2701" y="45"/>
                    </a:cubicBezTo>
                    <a:cubicBezTo>
                      <a:pt x="2701" y="53"/>
                      <a:pt x="2695" y="75"/>
                      <a:pt x="2688" y="96"/>
                    </a:cubicBezTo>
                    <a:cubicBezTo>
                      <a:pt x="2687" y="93"/>
                      <a:pt x="2686" y="89"/>
                      <a:pt x="2684" y="85"/>
                    </a:cubicBezTo>
                    <a:cubicBezTo>
                      <a:pt x="2691" y="51"/>
                      <a:pt x="2699" y="17"/>
                      <a:pt x="2699" y="17"/>
                    </a:cubicBezTo>
                    <a:cubicBezTo>
                      <a:pt x="2694" y="24"/>
                      <a:pt x="2679" y="95"/>
                      <a:pt x="2672" y="130"/>
                    </a:cubicBezTo>
                    <a:cubicBezTo>
                      <a:pt x="2672" y="130"/>
                      <a:pt x="2672" y="130"/>
                      <a:pt x="2672" y="130"/>
                    </a:cubicBezTo>
                    <a:cubicBezTo>
                      <a:pt x="2676" y="100"/>
                      <a:pt x="2673" y="63"/>
                      <a:pt x="2672" y="52"/>
                    </a:cubicBezTo>
                    <a:cubicBezTo>
                      <a:pt x="2674" y="72"/>
                      <a:pt x="2668" y="109"/>
                      <a:pt x="2664" y="128"/>
                    </a:cubicBezTo>
                    <a:cubicBezTo>
                      <a:pt x="2664" y="126"/>
                      <a:pt x="2664" y="123"/>
                      <a:pt x="2663" y="120"/>
                    </a:cubicBezTo>
                    <a:cubicBezTo>
                      <a:pt x="2665" y="99"/>
                      <a:pt x="2667" y="71"/>
                      <a:pt x="2668" y="65"/>
                    </a:cubicBezTo>
                    <a:cubicBezTo>
                      <a:pt x="2667" y="71"/>
                      <a:pt x="2664" y="89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60" y="105"/>
                      <a:pt x="2660" y="105"/>
                      <a:pt x="2660" y="105"/>
                    </a:cubicBezTo>
                    <a:cubicBezTo>
                      <a:pt x="2656" y="125"/>
                      <a:pt x="2653" y="143"/>
                      <a:pt x="2653" y="143"/>
                    </a:cubicBezTo>
                    <a:cubicBezTo>
                      <a:pt x="2663" y="38"/>
                      <a:pt x="2656" y="25"/>
                      <a:pt x="2656" y="25"/>
                    </a:cubicBezTo>
                    <a:cubicBezTo>
                      <a:pt x="2659" y="42"/>
                      <a:pt x="2656" y="72"/>
                      <a:pt x="2651" y="96"/>
                    </a:cubicBezTo>
                    <a:cubicBezTo>
                      <a:pt x="2650" y="89"/>
                      <a:pt x="2648" y="80"/>
                      <a:pt x="2645" y="73"/>
                    </a:cubicBezTo>
                    <a:cubicBezTo>
                      <a:pt x="2644" y="65"/>
                      <a:pt x="2644" y="60"/>
                      <a:pt x="2644" y="60"/>
                    </a:cubicBezTo>
                    <a:cubicBezTo>
                      <a:pt x="2644" y="63"/>
                      <a:pt x="2644" y="67"/>
                      <a:pt x="2643" y="71"/>
                    </a:cubicBezTo>
                    <a:cubicBezTo>
                      <a:pt x="2642" y="69"/>
                      <a:pt x="2641" y="67"/>
                      <a:pt x="2639" y="65"/>
                    </a:cubicBezTo>
                    <a:cubicBezTo>
                      <a:pt x="2641" y="67"/>
                      <a:pt x="2642" y="70"/>
                      <a:pt x="2643" y="73"/>
                    </a:cubicBezTo>
                    <a:cubicBezTo>
                      <a:pt x="2643" y="82"/>
                      <a:pt x="2642" y="92"/>
                      <a:pt x="2640" y="101"/>
                    </a:cubicBezTo>
                    <a:cubicBezTo>
                      <a:pt x="2640" y="95"/>
                      <a:pt x="2637" y="88"/>
                      <a:pt x="2632" y="83"/>
                    </a:cubicBezTo>
                    <a:cubicBezTo>
                      <a:pt x="2632" y="74"/>
                      <a:pt x="2633" y="68"/>
                      <a:pt x="2633" y="68"/>
                    </a:cubicBezTo>
                    <a:cubicBezTo>
                      <a:pt x="2632" y="72"/>
                      <a:pt x="2631" y="76"/>
                      <a:pt x="2630" y="81"/>
                    </a:cubicBezTo>
                    <a:cubicBezTo>
                      <a:pt x="2630" y="81"/>
                      <a:pt x="2629" y="81"/>
                      <a:pt x="2629" y="80"/>
                    </a:cubicBezTo>
                    <a:cubicBezTo>
                      <a:pt x="2629" y="81"/>
                      <a:pt x="2630" y="81"/>
                      <a:pt x="2630" y="82"/>
                    </a:cubicBezTo>
                    <a:cubicBezTo>
                      <a:pt x="2627" y="101"/>
                      <a:pt x="2626" y="130"/>
                      <a:pt x="2626" y="142"/>
                    </a:cubicBezTo>
                    <a:cubicBezTo>
                      <a:pt x="2626" y="143"/>
                      <a:pt x="2625" y="144"/>
                      <a:pt x="2625" y="144"/>
                    </a:cubicBezTo>
                    <a:cubicBezTo>
                      <a:pt x="2624" y="141"/>
                      <a:pt x="2624" y="136"/>
                      <a:pt x="2624" y="131"/>
                    </a:cubicBezTo>
                    <a:cubicBezTo>
                      <a:pt x="2625" y="121"/>
                      <a:pt x="2627" y="112"/>
                      <a:pt x="2628" y="103"/>
                    </a:cubicBezTo>
                    <a:cubicBezTo>
                      <a:pt x="2627" y="108"/>
                      <a:pt x="2626" y="112"/>
                      <a:pt x="2625" y="117"/>
                    </a:cubicBezTo>
                    <a:cubicBezTo>
                      <a:pt x="2626" y="85"/>
                      <a:pt x="2632" y="45"/>
                      <a:pt x="2632" y="45"/>
                    </a:cubicBezTo>
                    <a:cubicBezTo>
                      <a:pt x="2625" y="60"/>
                      <a:pt x="2620" y="95"/>
                      <a:pt x="2618" y="120"/>
                    </a:cubicBezTo>
                    <a:cubicBezTo>
                      <a:pt x="2618" y="123"/>
                      <a:pt x="2617" y="125"/>
                      <a:pt x="2616" y="127"/>
                    </a:cubicBezTo>
                    <a:cubicBezTo>
                      <a:pt x="2616" y="103"/>
                      <a:pt x="2615" y="70"/>
                      <a:pt x="2615" y="70"/>
                    </a:cubicBezTo>
                    <a:cubicBezTo>
                      <a:pt x="2615" y="72"/>
                      <a:pt x="2615" y="76"/>
                      <a:pt x="2614" y="81"/>
                    </a:cubicBezTo>
                    <a:cubicBezTo>
                      <a:pt x="2613" y="73"/>
                      <a:pt x="2611" y="66"/>
                      <a:pt x="2608" y="60"/>
                    </a:cubicBezTo>
                    <a:cubicBezTo>
                      <a:pt x="2609" y="52"/>
                      <a:pt x="2609" y="46"/>
                      <a:pt x="2609" y="46"/>
                    </a:cubicBezTo>
                    <a:cubicBezTo>
                      <a:pt x="2607" y="51"/>
                      <a:pt x="2605" y="64"/>
                      <a:pt x="2604" y="79"/>
                    </a:cubicBezTo>
                    <a:cubicBezTo>
                      <a:pt x="2603" y="77"/>
                      <a:pt x="2603" y="75"/>
                      <a:pt x="2602" y="74"/>
                    </a:cubicBezTo>
                    <a:cubicBezTo>
                      <a:pt x="2601" y="83"/>
                      <a:pt x="2601" y="92"/>
                      <a:pt x="2601" y="102"/>
                    </a:cubicBezTo>
                    <a:cubicBezTo>
                      <a:pt x="2601" y="108"/>
                      <a:pt x="2600" y="115"/>
                      <a:pt x="2599" y="121"/>
                    </a:cubicBezTo>
                    <a:cubicBezTo>
                      <a:pt x="2599" y="123"/>
                      <a:pt x="2599" y="125"/>
                      <a:pt x="2598" y="127"/>
                    </a:cubicBezTo>
                    <a:cubicBezTo>
                      <a:pt x="2598" y="35"/>
                      <a:pt x="2596" y="34"/>
                      <a:pt x="2596" y="34"/>
                    </a:cubicBezTo>
                    <a:cubicBezTo>
                      <a:pt x="2598" y="49"/>
                      <a:pt x="2594" y="77"/>
                      <a:pt x="2590" y="102"/>
                    </a:cubicBezTo>
                    <a:cubicBezTo>
                      <a:pt x="2589" y="94"/>
                      <a:pt x="2587" y="85"/>
                      <a:pt x="2583" y="76"/>
                    </a:cubicBezTo>
                    <a:cubicBezTo>
                      <a:pt x="2584" y="70"/>
                      <a:pt x="2584" y="66"/>
                      <a:pt x="2584" y="66"/>
                    </a:cubicBezTo>
                    <a:cubicBezTo>
                      <a:pt x="2584" y="68"/>
                      <a:pt x="2583" y="71"/>
                      <a:pt x="2582" y="74"/>
                    </a:cubicBezTo>
                    <a:cubicBezTo>
                      <a:pt x="2582" y="73"/>
                      <a:pt x="2581" y="72"/>
                      <a:pt x="2580" y="71"/>
                    </a:cubicBezTo>
                    <a:cubicBezTo>
                      <a:pt x="2581" y="73"/>
                      <a:pt x="2581" y="74"/>
                      <a:pt x="2582" y="76"/>
                    </a:cubicBezTo>
                    <a:cubicBezTo>
                      <a:pt x="2580" y="83"/>
                      <a:pt x="2578" y="93"/>
                      <a:pt x="2577" y="103"/>
                    </a:cubicBezTo>
                    <a:cubicBezTo>
                      <a:pt x="2576" y="98"/>
                      <a:pt x="2575" y="94"/>
                      <a:pt x="2574" y="89"/>
                    </a:cubicBezTo>
                    <a:cubicBezTo>
                      <a:pt x="2575" y="96"/>
                      <a:pt x="2573" y="104"/>
                      <a:pt x="2571" y="112"/>
                    </a:cubicBezTo>
                    <a:cubicBezTo>
                      <a:pt x="2571" y="92"/>
                      <a:pt x="2570" y="70"/>
                      <a:pt x="2569" y="62"/>
                    </a:cubicBezTo>
                    <a:cubicBezTo>
                      <a:pt x="2569" y="67"/>
                      <a:pt x="2569" y="74"/>
                      <a:pt x="2569" y="82"/>
                    </a:cubicBezTo>
                    <a:cubicBezTo>
                      <a:pt x="2567" y="87"/>
                      <a:pt x="2564" y="94"/>
                      <a:pt x="2562" y="101"/>
                    </a:cubicBezTo>
                    <a:cubicBezTo>
                      <a:pt x="2562" y="91"/>
                      <a:pt x="2562" y="82"/>
                      <a:pt x="2562" y="75"/>
                    </a:cubicBezTo>
                    <a:cubicBezTo>
                      <a:pt x="2561" y="86"/>
                      <a:pt x="2559" y="102"/>
                      <a:pt x="2557" y="116"/>
                    </a:cubicBezTo>
                    <a:cubicBezTo>
                      <a:pt x="2555" y="123"/>
                      <a:pt x="2553" y="130"/>
                      <a:pt x="2551" y="136"/>
                    </a:cubicBezTo>
                    <a:cubicBezTo>
                      <a:pt x="2551" y="118"/>
                      <a:pt x="2554" y="89"/>
                      <a:pt x="2554" y="89"/>
                    </a:cubicBezTo>
                    <a:cubicBezTo>
                      <a:pt x="2553" y="93"/>
                      <a:pt x="2552" y="99"/>
                      <a:pt x="2549" y="106"/>
                    </a:cubicBezTo>
                    <a:cubicBezTo>
                      <a:pt x="2549" y="104"/>
                      <a:pt x="2549" y="101"/>
                      <a:pt x="2548" y="99"/>
                    </a:cubicBezTo>
                    <a:cubicBezTo>
                      <a:pt x="2548" y="96"/>
                      <a:pt x="2548" y="96"/>
                      <a:pt x="2548" y="96"/>
                    </a:cubicBezTo>
                    <a:cubicBezTo>
                      <a:pt x="2547" y="95"/>
                      <a:pt x="2547" y="95"/>
                      <a:pt x="2547" y="95"/>
                    </a:cubicBezTo>
                    <a:cubicBezTo>
                      <a:pt x="2547" y="104"/>
                      <a:pt x="2545" y="113"/>
                      <a:pt x="2543" y="122"/>
                    </a:cubicBezTo>
                    <a:cubicBezTo>
                      <a:pt x="2541" y="127"/>
                      <a:pt x="2540" y="131"/>
                      <a:pt x="2538" y="134"/>
                    </a:cubicBezTo>
                    <a:cubicBezTo>
                      <a:pt x="2538" y="130"/>
                      <a:pt x="2538" y="126"/>
                      <a:pt x="2538" y="122"/>
                    </a:cubicBezTo>
                    <a:cubicBezTo>
                      <a:pt x="2542" y="102"/>
                      <a:pt x="2549" y="76"/>
                      <a:pt x="2549" y="76"/>
                    </a:cubicBezTo>
                    <a:cubicBezTo>
                      <a:pt x="2544" y="82"/>
                      <a:pt x="2539" y="94"/>
                      <a:pt x="2535" y="105"/>
                    </a:cubicBezTo>
                    <a:cubicBezTo>
                      <a:pt x="2535" y="102"/>
                      <a:pt x="2534" y="98"/>
                      <a:pt x="2532" y="95"/>
                    </a:cubicBezTo>
                    <a:cubicBezTo>
                      <a:pt x="2533" y="74"/>
                      <a:pt x="2529" y="62"/>
                      <a:pt x="2529" y="62"/>
                    </a:cubicBezTo>
                    <a:cubicBezTo>
                      <a:pt x="2531" y="69"/>
                      <a:pt x="2531" y="78"/>
                      <a:pt x="2530" y="88"/>
                    </a:cubicBezTo>
                    <a:cubicBezTo>
                      <a:pt x="2527" y="83"/>
                      <a:pt x="2524" y="78"/>
                      <a:pt x="2520" y="73"/>
                    </a:cubicBezTo>
                    <a:cubicBezTo>
                      <a:pt x="2524" y="80"/>
                      <a:pt x="2527" y="92"/>
                      <a:pt x="2528" y="102"/>
                    </a:cubicBezTo>
                    <a:cubicBezTo>
                      <a:pt x="2527" y="108"/>
                      <a:pt x="2526" y="115"/>
                      <a:pt x="2525" y="120"/>
                    </a:cubicBezTo>
                    <a:cubicBezTo>
                      <a:pt x="2524" y="113"/>
                      <a:pt x="2523" y="106"/>
                      <a:pt x="2521" y="100"/>
                    </a:cubicBezTo>
                    <a:cubicBezTo>
                      <a:pt x="2522" y="89"/>
                      <a:pt x="2522" y="82"/>
                      <a:pt x="2522" y="82"/>
                    </a:cubicBezTo>
                    <a:cubicBezTo>
                      <a:pt x="2521" y="98"/>
                      <a:pt x="2521" y="98"/>
                      <a:pt x="2521" y="98"/>
                    </a:cubicBezTo>
                    <a:cubicBezTo>
                      <a:pt x="2520" y="94"/>
                      <a:pt x="2519" y="91"/>
                      <a:pt x="2517" y="88"/>
                    </a:cubicBezTo>
                    <a:cubicBezTo>
                      <a:pt x="2517" y="73"/>
                      <a:pt x="2516" y="60"/>
                      <a:pt x="2516" y="60"/>
                    </a:cubicBezTo>
                    <a:cubicBezTo>
                      <a:pt x="2516" y="72"/>
                      <a:pt x="2513" y="90"/>
                      <a:pt x="2513" y="90"/>
                    </a:cubicBezTo>
                    <a:cubicBezTo>
                      <a:pt x="2511" y="84"/>
                      <a:pt x="2511" y="64"/>
                      <a:pt x="2511" y="64"/>
                    </a:cubicBezTo>
                    <a:cubicBezTo>
                      <a:pt x="2511" y="68"/>
                      <a:pt x="2510" y="83"/>
                      <a:pt x="2508" y="98"/>
                    </a:cubicBezTo>
                    <a:cubicBezTo>
                      <a:pt x="2508" y="96"/>
                      <a:pt x="2507" y="95"/>
                      <a:pt x="2507" y="93"/>
                    </a:cubicBezTo>
                    <a:cubicBezTo>
                      <a:pt x="2506" y="88"/>
                      <a:pt x="2504" y="82"/>
                      <a:pt x="2502" y="76"/>
                    </a:cubicBezTo>
                    <a:cubicBezTo>
                      <a:pt x="2502" y="57"/>
                      <a:pt x="2502" y="42"/>
                      <a:pt x="2502" y="42"/>
                    </a:cubicBezTo>
                    <a:cubicBezTo>
                      <a:pt x="2502" y="49"/>
                      <a:pt x="2502" y="59"/>
                      <a:pt x="2501" y="70"/>
                    </a:cubicBezTo>
                    <a:cubicBezTo>
                      <a:pt x="2498" y="64"/>
                      <a:pt x="2496" y="57"/>
                      <a:pt x="2493" y="51"/>
                    </a:cubicBezTo>
                    <a:cubicBezTo>
                      <a:pt x="2492" y="52"/>
                      <a:pt x="2492" y="54"/>
                      <a:pt x="2492" y="55"/>
                    </a:cubicBezTo>
                    <a:cubicBezTo>
                      <a:pt x="2496" y="65"/>
                      <a:pt x="2498" y="74"/>
                      <a:pt x="2499" y="82"/>
                    </a:cubicBezTo>
                    <a:cubicBezTo>
                      <a:pt x="2499" y="88"/>
                      <a:pt x="2498" y="94"/>
                      <a:pt x="2497" y="100"/>
                    </a:cubicBezTo>
                    <a:cubicBezTo>
                      <a:pt x="2496" y="96"/>
                      <a:pt x="2495" y="92"/>
                      <a:pt x="2494" y="88"/>
                    </a:cubicBezTo>
                    <a:cubicBezTo>
                      <a:pt x="2495" y="78"/>
                      <a:pt x="2496" y="70"/>
                      <a:pt x="2496" y="70"/>
                    </a:cubicBezTo>
                    <a:cubicBezTo>
                      <a:pt x="2495" y="72"/>
                      <a:pt x="2494" y="78"/>
                      <a:pt x="2493" y="85"/>
                    </a:cubicBezTo>
                    <a:cubicBezTo>
                      <a:pt x="2491" y="82"/>
                      <a:pt x="2489" y="79"/>
                      <a:pt x="2487" y="76"/>
                    </a:cubicBezTo>
                    <a:cubicBezTo>
                      <a:pt x="2486" y="71"/>
                      <a:pt x="2486" y="66"/>
                      <a:pt x="2486" y="61"/>
                    </a:cubicBezTo>
                    <a:cubicBezTo>
                      <a:pt x="2485" y="73"/>
                      <a:pt x="2483" y="87"/>
                      <a:pt x="2481" y="101"/>
                    </a:cubicBezTo>
                    <a:cubicBezTo>
                      <a:pt x="2479" y="95"/>
                      <a:pt x="2477" y="90"/>
                      <a:pt x="2475" y="86"/>
                    </a:cubicBezTo>
                    <a:cubicBezTo>
                      <a:pt x="2476" y="73"/>
                      <a:pt x="2476" y="64"/>
                      <a:pt x="2476" y="64"/>
                    </a:cubicBezTo>
                    <a:cubicBezTo>
                      <a:pt x="2476" y="71"/>
                      <a:pt x="2474" y="82"/>
                      <a:pt x="2472" y="95"/>
                    </a:cubicBezTo>
                    <a:cubicBezTo>
                      <a:pt x="2470" y="87"/>
                      <a:pt x="2468" y="79"/>
                      <a:pt x="2464" y="71"/>
                    </a:cubicBezTo>
                    <a:cubicBezTo>
                      <a:pt x="2466" y="49"/>
                      <a:pt x="2467" y="30"/>
                      <a:pt x="2467" y="30"/>
                    </a:cubicBezTo>
                    <a:cubicBezTo>
                      <a:pt x="2465" y="35"/>
                      <a:pt x="2463" y="49"/>
                      <a:pt x="2461" y="65"/>
                    </a:cubicBezTo>
                    <a:cubicBezTo>
                      <a:pt x="2460" y="62"/>
                      <a:pt x="2458" y="59"/>
                      <a:pt x="2456" y="56"/>
                    </a:cubicBezTo>
                    <a:cubicBezTo>
                      <a:pt x="2456" y="63"/>
                      <a:pt x="2458" y="70"/>
                      <a:pt x="2460" y="78"/>
                    </a:cubicBezTo>
                    <a:cubicBezTo>
                      <a:pt x="2459" y="87"/>
                      <a:pt x="2458" y="97"/>
                      <a:pt x="2457" y="106"/>
                    </a:cubicBezTo>
                    <a:cubicBezTo>
                      <a:pt x="2457" y="105"/>
                      <a:pt x="2457" y="104"/>
                      <a:pt x="2456" y="103"/>
                    </a:cubicBezTo>
                    <a:cubicBezTo>
                      <a:pt x="2457" y="104"/>
                      <a:pt x="2457" y="106"/>
                      <a:pt x="2457" y="109"/>
                    </a:cubicBezTo>
                    <a:cubicBezTo>
                      <a:pt x="2456" y="120"/>
                      <a:pt x="2455" y="131"/>
                      <a:pt x="2455" y="138"/>
                    </a:cubicBezTo>
                    <a:cubicBezTo>
                      <a:pt x="2455" y="137"/>
                      <a:pt x="2454" y="135"/>
                      <a:pt x="2454" y="134"/>
                    </a:cubicBezTo>
                    <a:cubicBezTo>
                      <a:pt x="2453" y="99"/>
                      <a:pt x="2448" y="41"/>
                      <a:pt x="2448" y="41"/>
                    </a:cubicBezTo>
                    <a:cubicBezTo>
                      <a:pt x="2449" y="58"/>
                      <a:pt x="2448" y="86"/>
                      <a:pt x="2446" y="108"/>
                    </a:cubicBezTo>
                    <a:cubicBezTo>
                      <a:pt x="2444" y="105"/>
                      <a:pt x="2443" y="102"/>
                      <a:pt x="2441" y="99"/>
                    </a:cubicBezTo>
                    <a:cubicBezTo>
                      <a:pt x="2441" y="86"/>
                      <a:pt x="2441" y="73"/>
                      <a:pt x="2441" y="67"/>
                    </a:cubicBezTo>
                    <a:cubicBezTo>
                      <a:pt x="2441" y="75"/>
                      <a:pt x="2440" y="85"/>
                      <a:pt x="2439" y="94"/>
                    </a:cubicBezTo>
                    <a:cubicBezTo>
                      <a:pt x="2438" y="92"/>
                      <a:pt x="2437" y="91"/>
                      <a:pt x="2436" y="89"/>
                    </a:cubicBezTo>
                    <a:cubicBezTo>
                      <a:pt x="2437" y="91"/>
                      <a:pt x="2438" y="94"/>
                      <a:pt x="2438" y="97"/>
                    </a:cubicBezTo>
                    <a:cubicBezTo>
                      <a:pt x="2437" y="104"/>
                      <a:pt x="2436" y="110"/>
                      <a:pt x="2434" y="116"/>
                    </a:cubicBezTo>
                    <a:cubicBezTo>
                      <a:pt x="2433" y="110"/>
                      <a:pt x="2432" y="105"/>
                      <a:pt x="2430" y="101"/>
                    </a:cubicBezTo>
                    <a:cubicBezTo>
                      <a:pt x="2431" y="91"/>
                      <a:pt x="2432" y="83"/>
                      <a:pt x="2432" y="83"/>
                    </a:cubicBezTo>
                    <a:cubicBezTo>
                      <a:pt x="2432" y="86"/>
                      <a:pt x="2431" y="92"/>
                      <a:pt x="2429" y="98"/>
                    </a:cubicBezTo>
                    <a:cubicBezTo>
                      <a:pt x="2428" y="94"/>
                      <a:pt x="2427" y="91"/>
                      <a:pt x="2426" y="89"/>
                    </a:cubicBezTo>
                    <a:cubicBezTo>
                      <a:pt x="2427" y="74"/>
                      <a:pt x="2428" y="62"/>
                      <a:pt x="2428" y="62"/>
                    </a:cubicBezTo>
                    <a:cubicBezTo>
                      <a:pt x="2427" y="65"/>
                      <a:pt x="2426" y="75"/>
                      <a:pt x="2424" y="87"/>
                    </a:cubicBezTo>
                    <a:cubicBezTo>
                      <a:pt x="2422" y="83"/>
                      <a:pt x="2420" y="81"/>
                      <a:pt x="2417" y="78"/>
                    </a:cubicBezTo>
                    <a:cubicBezTo>
                      <a:pt x="2420" y="81"/>
                      <a:pt x="2422" y="84"/>
                      <a:pt x="2424" y="89"/>
                    </a:cubicBezTo>
                    <a:cubicBezTo>
                      <a:pt x="2423" y="96"/>
                      <a:pt x="2422" y="105"/>
                      <a:pt x="2421" y="113"/>
                    </a:cubicBezTo>
                    <a:cubicBezTo>
                      <a:pt x="2420" y="108"/>
                      <a:pt x="2419" y="104"/>
                      <a:pt x="2417" y="100"/>
                    </a:cubicBezTo>
                    <a:cubicBezTo>
                      <a:pt x="2416" y="86"/>
                      <a:pt x="2414" y="74"/>
                      <a:pt x="2413" y="68"/>
                    </a:cubicBezTo>
                    <a:cubicBezTo>
                      <a:pt x="2413" y="71"/>
                      <a:pt x="2414" y="76"/>
                      <a:pt x="2413" y="86"/>
                    </a:cubicBezTo>
                    <a:cubicBezTo>
                      <a:pt x="2413" y="87"/>
                      <a:pt x="2413" y="88"/>
                      <a:pt x="2413" y="90"/>
                    </a:cubicBezTo>
                    <a:cubicBezTo>
                      <a:pt x="2412" y="87"/>
                      <a:pt x="2410" y="84"/>
                      <a:pt x="2408" y="81"/>
                    </a:cubicBezTo>
                    <a:cubicBezTo>
                      <a:pt x="2411" y="85"/>
                      <a:pt x="2412" y="91"/>
                      <a:pt x="2412" y="96"/>
                    </a:cubicBezTo>
                    <a:cubicBezTo>
                      <a:pt x="2411" y="105"/>
                      <a:pt x="2409" y="115"/>
                      <a:pt x="2407" y="124"/>
                    </a:cubicBezTo>
                    <a:cubicBezTo>
                      <a:pt x="2407" y="113"/>
                      <a:pt x="2406" y="102"/>
                      <a:pt x="2404" y="91"/>
                    </a:cubicBezTo>
                    <a:cubicBezTo>
                      <a:pt x="2404" y="77"/>
                      <a:pt x="2404" y="77"/>
                      <a:pt x="2404" y="77"/>
                    </a:cubicBezTo>
                    <a:cubicBezTo>
                      <a:pt x="2407" y="35"/>
                      <a:pt x="2400" y="19"/>
                      <a:pt x="2400" y="19"/>
                    </a:cubicBezTo>
                    <a:cubicBezTo>
                      <a:pt x="2400" y="19"/>
                      <a:pt x="2403" y="31"/>
                      <a:pt x="2402" y="54"/>
                    </a:cubicBezTo>
                    <a:cubicBezTo>
                      <a:pt x="2401" y="59"/>
                      <a:pt x="2401" y="68"/>
                      <a:pt x="2400" y="78"/>
                    </a:cubicBezTo>
                    <a:cubicBezTo>
                      <a:pt x="2397" y="72"/>
                      <a:pt x="2394" y="66"/>
                      <a:pt x="2390" y="60"/>
                    </a:cubicBezTo>
                    <a:cubicBezTo>
                      <a:pt x="2390" y="61"/>
                      <a:pt x="2390" y="61"/>
                      <a:pt x="2390" y="61"/>
                    </a:cubicBezTo>
                    <a:cubicBezTo>
                      <a:pt x="2390" y="62"/>
                      <a:pt x="2390" y="63"/>
                      <a:pt x="2390" y="64"/>
                    </a:cubicBezTo>
                    <a:cubicBezTo>
                      <a:pt x="2388" y="44"/>
                      <a:pt x="2381" y="40"/>
                      <a:pt x="2381" y="40"/>
                    </a:cubicBezTo>
                    <a:cubicBezTo>
                      <a:pt x="2381" y="40"/>
                      <a:pt x="2387" y="44"/>
                      <a:pt x="2387" y="70"/>
                    </a:cubicBezTo>
                    <a:cubicBezTo>
                      <a:pt x="2387" y="76"/>
                      <a:pt x="2386" y="85"/>
                      <a:pt x="2384" y="94"/>
                    </a:cubicBezTo>
                    <a:cubicBezTo>
                      <a:pt x="2382" y="90"/>
                      <a:pt x="2379" y="86"/>
                      <a:pt x="2376" y="83"/>
                    </a:cubicBezTo>
                    <a:cubicBezTo>
                      <a:pt x="2379" y="87"/>
                      <a:pt x="2382" y="92"/>
                      <a:pt x="2384" y="97"/>
                    </a:cubicBezTo>
                    <a:cubicBezTo>
                      <a:pt x="2383" y="100"/>
                      <a:pt x="2383" y="103"/>
                      <a:pt x="2382" y="106"/>
                    </a:cubicBezTo>
                    <a:cubicBezTo>
                      <a:pt x="2381" y="104"/>
                      <a:pt x="2381" y="102"/>
                      <a:pt x="2380" y="100"/>
                    </a:cubicBezTo>
                    <a:cubicBezTo>
                      <a:pt x="2381" y="102"/>
                      <a:pt x="2381" y="105"/>
                      <a:pt x="2382" y="108"/>
                    </a:cubicBezTo>
                    <a:cubicBezTo>
                      <a:pt x="2381" y="111"/>
                      <a:pt x="2380" y="114"/>
                      <a:pt x="2379" y="117"/>
                    </a:cubicBezTo>
                    <a:cubicBezTo>
                      <a:pt x="2378" y="113"/>
                      <a:pt x="2376" y="108"/>
                      <a:pt x="2374" y="104"/>
                    </a:cubicBezTo>
                    <a:cubicBezTo>
                      <a:pt x="2375" y="87"/>
                      <a:pt x="2376" y="71"/>
                      <a:pt x="2376" y="71"/>
                    </a:cubicBezTo>
                    <a:cubicBezTo>
                      <a:pt x="2375" y="73"/>
                      <a:pt x="2373" y="84"/>
                      <a:pt x="2371" y="97"/>
                    </a:cubicBezTo>
                    <a:cubicBezTo>
                      <a:pt x="2370" y="95"/>
                      <a:pt x="2369" y="93"/>
                      <a:pt x="2368" y="92"/>
                    </a:cubicBezTo>
                    <a:cubicBezTo>
                      <a:pt x="2369" y="81"/>
                      <a:pt x="2370" y="72"/>
                      <a:pt x="2371" y="66"/>
                    </a:cubicBezTo>
                    <a:cubicBezTo>
                      <a:pt x="2370" y="73"/>
                      <a:pt x="2369" y="81"/>
                      <a:pt x="2367" y="90"/>
                    </a:cubicBezTo>
                    <a:cubicBezTo>
                      <a:pt x="2366" y="88"/>
                      <a:pt x="2364" y="86"/>
                      <a:pt x="2362" y="83"/>
                    </a:cubicBezTo>
                    <a:cubicBezTo>
                      <a:pt x="2366" y="26"/>
                      <a:pt x="2364" y="12"/>
                      <a:pt x="2364" y="12"/>
                    </a:cubicBezTo>
                    <a:cubicBezTo>
                      <a:pt x="2364" y="12"/>
                      <a:pt x="2364" y="18"/>
                      <a:pt x="2361" y="56"/>
                    </a:cubicBezTo>
                    <a:cubicBezTo>
                      <a:pt x="2360" y="64"/>
                      <a:pt x="2359" y="71"/>
                      <a:pt x="2358" y="78"/>
                    </a:cubicBezTo>
                    <a:cubicBezTo>
                      <a:pt x="2356" y="76"/>
                      <a:pt x="2353" y="73"/>
                      <a:pt x="2351" y="71"/>
                    </a:cubicBezTo>
                    <a:cubicBezTo>
                      <a:pt x="2352" y="48"/>
                      <a:pt x="2353" y="31"/>
                      <a:pt x="2353" y="31"/>
                    </a:cubicBezTo>
                    <a:cubicBezTo>
                      <a:pt x="2351" y="37"/>
                      <a:pt x="2349" y="52"/>
                      <a:pt x="2348" y="68"/>
                    </a:cubicBezTo>
                    <a:cubicBezTo>
                      <a:pt x="2346" y="66"/>
                      <a:pt x="2344" y="65"/>
                      <a:pt x="2342" y="63"/>
                    </a:cubicBezTo>
                    <a:cubicBezTo>
                      <a:pt x="2344" y="65"/>
                      <a:pt x="2346" y="67"/>
                      <a:pt x="2348" y="69"/>
                    </a:cubicBezTo>
                    <a:cubicBezTo>
                      <a:pt x="2347" y="82"/>
                      <a:pt x="2347" y="96"/>
                      <a:pt x="2346" y="109"/>
                    </a:cubicBezTo>
                    <a:cubicBezTo>
                      <a:pt x="2345" y="104"/>
                      <a:pt x="2343" y="99"/>
                      <a:pt x="2342" y="96"/>
                    </a:cubicBezTo>
                    <a:cubicBezTo>
                      <a:pt x="2343" y="104"/>
                      <a:pt x="2344" y="112"/>
                      <a:pt x="2346" y="120"/>
                    </a:cubicBezTo>
                    <a:cubicBezTo>
                      <a:pt x="2346" y="123"/>
                      <a:pt x="2346" y="126"/>
                      <a:pt x="2346" y="128"/>
                    </a:cubicBezTo>
                    <a:cubicBezTo>
                      <a:pt x="2345" y="125"/>
                      <a:pt x="2343" y="122"/>
                      <a:pt x="2342" y="118"/>
                    </a:cubicBezTo>
                    <a:cubicBezTo>
                      <a:pt x="2337" y="80"/>
                      <a:pt x="2330" y="28"/>
                      <a:pt x="2330" y="28"/>
                    </a:cubicBezTo>
                    <a:cubicBezTo>
                      <a:pt x="2330" y="39"/>
                      <a:pt x="2328" y="72"/>
                      <a:pt x="2326" y="100"/>
                    </a:cubicBezTo>
                    <a:cubicBezTo>
                      <a:pt x="2326" y="98"/>
                      <a:pt x="2325" y="97"/>
                      <a:pt x="2324" y="96"/>
                    </a:cubicBezTo>
                    <a:cubicBezTo>
                      <a:pt x="2325" y="97"/>
                      <a:pt x="2326" y="99"/>
                      <a:pt x="2326" y="100"/>
                    </a:cubicBezTo>
                    <a:cubicBezTo>
                      <a:pt x="2326" y="110"/>
                      <a:pt x="2325" y="120"/>
                      <a:pt x="2324" y="128"/>
                    </a:cubicBezTo>
                    <a:cubicBezTo>
                      <a:pt x="2324" y="128"/>
                      <a:pt x="2324" y="127"/>
                      <a:pt x="2324" y="127"/>
                    </a:cubicBezTo>
                    <a:cubicBezTo>
                      <a:pt x="2324" y="109"/>
                      <a:pt x="2322" y="87"/>
                      <a:pt x="2321" y="71"/>
                    </a:cubicBezTo>
                    <a:cubicBezTo>
                      <a:pt x="2322" y="68"/>
                      <a:pt x="2323" y="66"/>
                      <a:pt x="2324" y="64"/>
                    </a:cubicBezTo>
                    <a:cubicBezTo>
                      <a:pt x="2323" y="65"/>
                      <a:pt x="2322" y="67"/>
                      <a:pt x="2320" y="69"/>
                    </a:cubicBezTo>
                    <a:cubicBezTo>
                      <a:pt x="2320" y="61"/>
                      <a:pt x="2319" y="55"/>
                      <a:pt x="2319" y="53"/>
                    </a:cubicBezTo>
                    <a:cubicBezTo>
                      <a:pt x="2319" y="52"/>
                      <a:pt x="2320" y="52"/>
                      <a:pt x="2320" y="51"/>
                    </a:cubicBezTo>
                    <a:cubicBezTo>
                      <a:pt x="2320" y="51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9" y="52"/>
                      <a:pt x="2319" y="52"/>
                      <a:pt x="2319" y="52"/>
                    </a:cubicBezTo>
                    <a:cubicBezTo>
                      <a:pt x="2317" y="54"/>
                      <a:pt x="2315" y="56"/>
                      <a:pt x="2313" y="57"/>
                    </a:cubicBezTo>
                    <a:cubicBezTo>
                      <a:pt x="2314" y="54"/>
                      <a:pt x="2314" y="52"/>
                      <a:pt x="2314" y="50"/>
                    </a:cubicBezTo>
                    <a:cubicBezTo>
                      <a:pt x="2318" y="46"/>
                      <a:pt x="2321" y="42"/>
                      <a:pt x="2325" y="38"/>
                    </a:cubicBezTo>
                    <a:cubicBezTo>
                      <a:pt x="2321" y="41"/>
                      <a:pt x="2318" y="44"/>
                      <a:pt x="2315" y="47"/>
                    </a:cubicBezTo>
                    <a:cubicBezTo>
                      <a:pt x="2315" y="43"/>
                      <a:pt x="2316" y="40"/>
                      <a:pt x="2316" y="40"/>
                    </a:cubicBezTo>
                    <a:cubicBezTo>
                      <a:pt x="2315" y="43"/>
                      <a:pt x="2313" y="46"/>
                      <a:pt x="2312" y="50"/>
                    </a:cubicBezTo>
                    <a:cubicBezTo>
                      <a:pt x="2305" y="58"/>
                      <a:pt x="2300" y="66"/>
                      <a:pt x="2296" y="75"/>
                    </a:cubicBezTo>
                    <a:cubicBezTo>
                      <a:pt x="2295" y="70"/>
                      <a:pt x="2295" y="66"/>
                      <a:pt x="2295" y="63"/>
                    </a:cubicBezTo>
                    <a:cubicBezTo>
                      <a:pt x="2298" y="57"/>
                      <a:pt x="2301" y="50"/>
                      <a:pt x="2305" y="42"/>
                    </a:cubicBezTo>
                    <a:cubicBezTo>
                      <a:pt x="2296" y="52"/>
                      <a:pt x="2290" y="61"/>
                      <a:pt x="2286" y="71"/>
                    </a:cubicBezTo>
                    <a:cubicBezTo>
                      <a:pt x="2285" y="70"/>
                      <a:pt x="2284" y="70"/>
                      <a:pt x="2284" y="69"/>
                    </a:cubicBezTo>
                    <a:cubicBezTo>
                      <a:pt x="2284" y="68"/>
                      <a:pt x="2284" y="67"/>
                      <a:pt x="2283" y="65"/>
                    </a:cubicBezTo>
                    <a:cubicBezTo>
                      <a:pt x="2290" y="53"/>
                      <a:pt x="2298" y="41"/>
                      <a:pt x="2309" y="25"/>
                    </a:cubicBezTo>
                    <a:cubicBezTo>
                      <a:pt x="2298" y="40"/>
                      <a:pt x="2290" y="51"/>
                      <a:pt x="2283" y="63"/>
                    </a:cubicBezTo>
                    <a:cubicBezTo>
                      <a:pt x="2281" y="45"/>
                      <a:pt x="2279" y="30"/>
                      <a:pt x="2279" y="30"/>
                    </a:cubicBezTo>
                    <a:cubicBezTo>
                      <a:pt x="2280" y="35"/>
                      <a:pt x="2280" y="49"/>
                      <a:pt x="2280" y="65"/>
                    </a:cubicBezTo>
                    <a:cubicBezTo>
                      <a:pt x="2280" y="65"/>
                      <a:pt x="2279" y="65"/>
                      <a:pt x="2279" y="65"/>
                    </a:cubicBezTo>
                    <a:cubicBezTo>
                      <a:pt x="2279" y="65"/>
                      <a:pt x="2280" y="65"/>
                      <a:pt x="2280" y="65"/>
                    </a:cubicBezTo>
                    <a:cubicBezTo>
                      <a:pt x="2280" y="67"/>
                      <a:pt x="2280" y="69"/>
                      <a:pt x="2279" y="71"/>
                    </a:cubicBezTo>
                    <a:cubicBezTo>
                      <a:pt x="2278" y="74"/>
                      <a:pt x="2277" y="78"/>
                      <a:pt x="2276" y="81"/>
                    </a:cubicBezTo>
                    <a:cubicBezTo>
                      <a:pt x="2277" y="78"/>
                      <a:pt x="2278" y="76"/>
                      <a:pt x="2279" y="73"/>
                    </a:cubicBezTo>
                    <a:cubicBezTo>
                      <a:pt x="2279" y="79"/>
                      <a:pt x="2279" y="85"/>
                      <a:pt x="2279" y="91"/>
                    </a:cubicBezTo>
                    <a:cubicBezTo>
                      <a:pt x="2278" y="93"/>
                      <a:pt x="2278" y="95"/>
                      <a:pt x="2278" y="97"/>
                    </a:cubicBezTo>
                    <a:cubicBezTo>
                      <a:pt x="2277" y="96"/>
                      <a:pt x="2276" y="95"/>
                      <a:pt x="2276" y="94"/>
                    </a:cubicBezTo>
                    <a:cubicBezTo>
                      <a:pt x="2275" y="91"/>
                      <a:pt x="2275" y="88"/>
                      <a:pt x="2275" y="85"/>
                    </a:cubicBezTo>
                    <a:cubicBezTo>
                      <a:pt x="2275" y="83"/>
                      <a:pt x="2276" y="82"/>
                      <a:pt x="2276" y="81"/>
                    </a:cubicBezTo>
                    <a:cubicBezTo>
                      <a:pt x="2276" y="82"/>
                      <a:pt x="2275" y="83"/>
                      <a:pt x="2275" y="84"/>
                    </a:cubicBezTo>
                    <a:cubicBezTo>
                      <a:pt x="2274" y="72"/>
                      <a:pt x="2273" y="62"/>
                      <a:pt x="2273" y="55"/>
                    </a:cubicBezTo>
                    <a:cubicBezTo>
                      <a:pt x="2274" y="54"/>
                      <a:pt x="2275" y="53"/>
                      <a:pt x="2277" y="52"/>
                    </a:cubicBezTo>
                    <a:cubicBezTo>
                      <a:pt x="2275" y="53"/>
                      <a:pt x="2274" y="54"/>
                      <a:pt x="2273" y="54"/>
                    </a:cubicBezTo>
                    <a:cubicBezTo>
                      <a:pt x="2273" y="49"/>
                      <a:pt x="2272" y="46"/>
                      <a:pt x="2272" y="46"/>
                    </a:cubicBezTo>
                    <a:cubicBezTo>
                      <a:pt x="2272" y="48"/>
                      <a:pt x="2272" y="51"/>
                      <a:pt x="2272" y="55"/>
                    </a:cubicBezTo>
                    <a:cubicBezTo>
                      <a:pt x="2269" y="57"/>
                      <a:pt x="2266" y="59"/>
                      <a:pt x="2263" y="62"/>
                    </a:cubicBezTo>
                    <a:cubicBezTo>
                      <a:pt x="2263" y="58"/>
                      <a:pt x="2263" y="54"/>
                      <a:pt x="2263" y="50"/>
                    </a:cubicBezTo>
                    <a:cubicBezTo>
                      <a:pt x="2267" y="45"/>
                      <a:pt x="2272" y="40"/>
                      <a:pt x="2277" y="34"/>
                    </a:cubicBezTo>
                    <a:cubicBezTo>
                      <a:pt x="2272" y="39"/>
                      <a:pt x="2267" y="44"/>
                      <a:pt x="2263" y="48"/>
                    </a:cubicBezTo>
                    <a:cubicBezTo>
                      <a:pt x="2265" y="21"/>
                      <a:pt x="2266" y="0"/>
                      <a:pt x="2266" y="0"/>
                    </a:cubicBezTo>
                    <a:cubicBezTo>
                      <a:pt x="2262" y="10"/>
                      <a:pt x="2260" y="35"/>
                      <a:pt x="2259" y="53"/>
                    </a:cubicBezTo>
                    <a:cubicBezTo>
                      <a:pt x="2258" y="54"/>
                      <a:pt x="2257" y="55"/>
                      <a:pt x="2257" y="56"/>
                    </a:cubicBezTo>
                    <a:cubicBezTo>
                      <a:pt x="2255" y="44"/>
                      <a:pt x="2252" y="33"/>
                      <a:pt x="2252" y="33"/>
                    </a:cubicBezTo>
                    <a:cubicBezTo>
                      <a:pt x="2253" y="39"/>
                      <a:pt x="2253" y="49"/>
                      <a:pt x="2252" y="62"/>
                    </a:cubicBezTo>
                    <a:cubicBezTo>
                      <a:pt x="2250" y="63"/>
                      <a:pt x="2249" y="65"/>
                      <a:pt x="2248" y="67"/>
                    </a:cubicBezTo>
                    <a:cubicBezTo>
                      <a:pt x="2247" y="65"/>
                      <a:pt x="2246" y="63"/>
                      <a:pt x="2245" y="62"/>
                    </a:cubicBezTo>
                    <a:cubicBezTo>
                      <a:pt x="2245" y="63"/>
                      <a:pt x="2246" y="65"/>
                      <a:pt x="2247" y="68"/>
                    </a:cubicBezTo>
                    <a:cubicBezTo>
                      <a:pt x="2244" y="72"/>
                      <a:pt x="2242" y="75"/>
                      <a:pt x="2241" y="78"/>
                    </a:cubicBezTo>
                    <a:cubicBezTo>
                      <a:pt x="2240" y="61"/>
                      <a:pt x="2240" y="48"/>
                      <a:pt x="2240" y="48"/>
                    </a:cubicBezTo>
                    <a:cubicBezTo>
                      <a:pt x="2239" y="52"/>
                      <a:pt x="2238" y="65"/>
                      <a:pt x="2236" y="80"/>
                    </a:cubicBezTo>
                    <a:cubicBezTo>
                      <a:pt x="2235" y="82"/>
                      <a:pt x="2235" y="85"/>
                      <a:pt x="2234" y="87"/>
                    </a:cubicBezTo>
                    <a:cubicBezTo>
                      <a:pt x="2233" y="86"/>
                      <a:pt x="2233" y="86"/>
                      <a:pt x="2232" y="85"/>
                    </a:cubicBezTo>
                    <a:cubicBezTo>
                      <a:pt x="2235" y="48"/>
                      <a:pt x="2238" y="9"/>
                      <a:pt x="2238" y="9"/>
                    </a:cubicBezTo>
                    <a:cubicBezTo>
                      <a:pt x="2234" y="20"/>
                      <a:pt x="2230" y="57"/>
                      <a:pt x="2226" y="89"/>
                    </a:cubicBezTo>
                    <a:cubicBezTo>
                      <a:pt x="2225" y="91"/>
                      <a:pt x="2224" y="92"/>
                      <a:pt x="2224" y="93"/>
                    </a:cubicBezTo>
                    <a:cubicBezTo>
                      <a:pt x="2223" y="92"/>
                      <a:pt x="2222" y="90"/>
                      <a:pt x="2221" y="89"/>
                    </a:cubicBezTo>
                    <a:cubicBezTo>
                      <a:pt x="2224" y="72"/>
                      <a:pt x="2227" y="55"/>
                      <a:pt x="2227" y="37"/>
                    </a:cubicBezTo>
                    <a:cubicBezTo>
                      <a:pt x="2227" y="34"/>
                      <a:pt x="2227" y="30"/>
                      <a:pt x="2227" y="26"/>
                    </a:cubicBezTo>
                    <a:cubicBezTo>
                      <a:pt x="2220" y="45"/>
                      <a:pt x="2219" y="66"/>
                      <a:pt x="2215" y="86"/>
                    </a:cubicBezTo>
                    <a:cubicBezTo>
                      <a:pt x="2214" y="85"/>
                      <a:pt x="2214" y="84"/>
                      <a:pt x="2214" y="84"/>
                    </a:cubicBezTo>
                    <a:cubicBezTo>
                      <a:pt x="2214" y="84"/>
                      <a:pt x="2214" y="85"/>
                      <a:pt x="2215" y="86"/>
                    </a:cubicBezTo>
                    <a:cubicBezTo>
                      <a:pt x="2214" y="88"/>
                      <a:pt x="2214" y="90"/>
                      <a:pt x="2214" y="92"/>
                    </a:cubicBezTo>
                    <a:cubicBezTo>
                      <a:pt x="2213" y="94"/>
                      <a:pt x="2213" y="96"/>
                      <a:pt x="2212" y="98"/>
                    </a:cubicBezTo>
                    <a:cubicBezTo>
                      <a:pt x="2212" y="97"/>
                      <a:pt x="2211" y="96"/>
                      <a:pt x="2210" y="95"/>
                    </a:cubicBezTo>
                    <a:cubicBezTo>
                      <a:pt x="2210" y="86"/>
                      <a:pt x="2209" y="78"/>
                      <a:pt x="2208" y="72"/>
                    </a:cubicBezTo>
                    <a:cubicBezTo>
                      <a:pt x="2211" y="67"/>
                      <a:pt x="2215" y="63"/>
                      <a:pt x="2219" y="59"/>
                    </a:cubicBezTo>
                    <a:cubicBezTo>
                      <a:pt x="2215" y="62"/>
                      <a:pt x="2211" y="66"/>
                      <a:pt x="2208" y="70"/>
                    </a:cubicBezTo>
                    <a:cubicBezTo>
                      <a:pt x="2207" y="64"/>
                      <a:pt x="2207" y="60"/>
                      <a:pt x="2206" y="57"/>
                    </a:cubicBezTo>
                    <a:cubicBezTo>
                      <a:pt x="2207" y="54"/>
                      <a:pt x="2209" y="52"/>
                      <a:pt x="2210" y="50"/>
                    </a:cubicBezTo>
                    <a:cubicBezTo>
                      <a:pt x="2209" y="51"/>
                      <a:pt x="2207" y="53"/>
                      <a:pt x="2206" y="54"/>
                    </a:cubicBezTo>
                    <a:cubicBezTo>
                      <a:pt x="2206" y="53"/>
                      <a:pt x="2206" y="52"/>
                      <a:pt x="2206" y="52"/>
                    </a:cubicBezTo>
                    <a:cubicBezTo>
                      <a:pt x="2206" y="53"/>
                      <a:pt x="2206" y="54"/>
                      <a:pt x="2206" y="54"/>
                    </a:cubicBezTo>
                    <a:cubicBezTo>
                      <a:pt x="2204" y="56"/>
                      <a:pt x="2202" y="58"/>
                      <a:pt x="2200" y="60"/>
                    </a:cubicBezTo>
                    <a:cubicBezTo>
                      <a:pt x="2199" y="54"/>
                      <a:pt x="2198" y="48"/>
                      <a:pt x="2197" y="44"/>
                    </a:cubicBezTo>
                    <a:cubicBezTo>
                      <a:pt x="2198" y="49"/>
                      <a:pt x="2197" y="56"/>
                      <a:pt x="2196" y="64"/>
                    </a:cubicBezTo>
                    <a:cubicBezTo>
                      <a:pt x="2195" y="66"/>
                      <a:pt x="2194" y="68"/>
                      <a:pt x="2193" y="69"/>
                    </a:cubicBezTo>
                    <a:cubicBezTo>
                      <a:pt x="2191" y="67"/>
                      <a:pt x="2190" y="66"/>
                      <a:pt x="2188" y="64"/>
                    </a:cubicBezTo>
                    <a:cubicBezTo>
                      <a:pt x="2190" y="66"/>
                      <a:pt x="2191" y="67"/>
                      <a:pt x="2193" y="69"/>
                    </a:cubicBezTo>
                    <a:cubicBezTo>
                      <a:pt x="2191" y="71"/>
                      <a:pt x="2190" y="73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9" y="75"/>
                      <a:pt x="2189" y="75"/>
                      <a:pt x="2189" y="75"/>
                    </a:cubicBezTo>
                    <a:cubicBezTo>
                      <a:pt x="2188" y="76"/>
                      <a:pt x="2187" y="77"/>
                      <a:pt x="2186" y="79"/>
                    </a:cubicBezTo>
                    <a:cubicBezTo>
                      <a:pt x="2186" y="79"/>
                      <a:pt x="2186" y="79"/>
                      <a:pt x="2186" y="79"/>
                    </a:cubicBezTo>
                    <a:cubicBezTo>
                      <a:pt x="2187" y="60"/>
                      <a:pt x="2187" y="45"/>
                      <a:pt x="2187" y="45"/>
                    </a:cubicBezTo>
                    <a:cubicBezTo>
                      <a:pt x="2187" y="50"/>
                      <a:pt x="2185" y="61"/>
                      <a:pt x="2182" y="73"/>
                    </a:cubicBezTo>
                    <a:cubicBezTo>
                      <a:pt x="2181" y="73"/>
                      <a:pt x="2181" y="73"/>
                      <a:pt x="2180" y="72"/>
                    </a:cubicBezTo>
                    <a:cubicBezTo>
                      <a:pt x="2181" y="70"/>
                      <a:pt x="2181" y="68"/>
                      <a:pt x="2181" y="66"/>
                    </a:cubicBezTo>
                    <a:cubicBezTo>
                      <a:pt x="2181" y="65"/>
                      <a:pt x="2181" y="65"/>
                      <a:pt x="2182" y="65"/>
                    </a:cubicBezTo>
                    <a:cubicBezTo>
                      <a:pt x="2181" y="65"/>
                      <a:pt x="2181" y="65"/>
                      <a:pt x="2181" y="66"/>
                    </a:cubicBezTo>
                    <a:cubicBezTo>
                      <a:pt x="2181" y="64"/>
                      <a:pt x="2181" y="63"/>
                      <a:pt x="2181" y="61"/>
                    </a:cubicBezTo>
                    <a:cubicBezTo>
                      <a:pt x="2181" y="55"/>
                      <a:pt x="2181" y="49"/>
                      <a:pt x="2180" y="42"/>
                    </a:cubicBezTo>
                    <a:cubicBezTo>
                      <a:pt x="2183" y="27"/>
                      <a:pt x="2185" y="17"/>
                      <a:pt x="2185" y="17"/>
                    </a:cubicBezTo>
                    <a:cubicBezTo>
                      <a:pt x="2182" y="22"/>
                      <a:pt x="2175" y="49"/>
                      <a:pt x="2169" y="78"/>
                    </a:cubicBezTo>
                    <a:cubicBezTo>
                      <a:pt x="2169" y="78"/>
                      <a:pt x="2169" y="78"/>
                      <a:pt x="2168" y="79"/>
                    </a:cubicBezTo>
                    <a:cubicBezTo>
                      <a:pt x="2167" y="76"/>
                      <a:pt x="2164" y="72"/>
                      <a:pt x="2162" y="69"/>
                    </a:cubicBezTo>
                    <a:cubicBezTo>
                      <a:pt x="2163" y="67"/>
                      <a:pt x="2165" y="66"/>
                      <a:pt x="2167" y="64"/>
                    </a:cubicBezTo>
                    <a:cubicBezTo>
                      <a:pt x="2165" y="66"/>
                      <a:pt x="2163" y="67"/>
                      <a:pt x="2162" y="69"/>
                    </a:cubicBezTo>
                    <a:cubicBezTo>
                      <a:pt x="2161" y="68"/>
                      <a:pt x="2160" y="67"/>
                      <a:pt x="2159" y="66"/>
                    </a:cubicBezTo>
                    <a:cubicBezTo>
                      <a:pt x="2159" y="60"/>
                      <a:pt x="2158" y="55"/>
                      <a:pt x="2158" y="52"/>
                    </a:cubicBezTo>
                    <a:cubicBezTo>
                      <a:pt x="2158" y="56"/>
                      <a:pt x="2158" y="60"/>
                      <a:pt x="2158" y="64"/>
                    </a:cubicBezTo>
                    <a:cubicBezTo>
                      <a:pt x="2154" y="60"/>
                      <a:pt x="2150" y="55"/>
                      <a:pt x="2145" y="50"/>
                    </a:cubicBezTo>
                    <a:cubicBezTo>
                      <a:pt x="2148" y="55"/>
                      <a:pt x="2151" y="60"/>
                      <a:pt x="2154" y="65"/>
                    </a:cubicBezTo>
                    <a:cubicBezTo>
                      <a:pt x="2153" y="68"/>
                      <a:pt x="2153" y="71"/>
                      <a:pt x="2152" y="76"/>
                    </a:cubicBezTo>
                    <a:cubicBezTo>
                      <a:pt x="2150" y="74"/>
                      <a:pt x="2148" y="71"/>
                      <a:pt x="2145" y="68"/>
                    </a:cubicBezTo>
                    <a:cubicBezTo>
                      <a:pt x="2145" y="54"/>
                      <a:pt x="2144" y="41"/>
                      <a:pt x="2143" y="33"/>
                    </a:cubicBezTo>
                    <a:cubicBezTo>
                      <a:pt x="2144" y="42"/>
                      <a:pt x="2143" y="53"/>
                      <a:pt x="2142" y="65"/>
                    </a:cubicBezTo>
                    <a:cubicBezTo>
                      <a:pt x="2140" y="63"/>
                      <a:pt x="2138" y="61"/>
                      <a:pt x="2136" y="59"/>
                    </a:cubicBezTo>
                    <a:cubicBezTo>
                      <a:pt x="2138" y="61"/>
                      <a:pt x="2140" y="63"/>
                      <a:pt x="2142" y="65"/>
                    </a:cubicBezTo>
                    <a:cubicBezTo>
                      <a:pt x="2141" y="72"/>
                      <a:pt x="2140" y="80"/>
                      <a:pt x="2139" y="87"/>
                    </a:cubicBezTo>
                    <a:cubicBezTo>
                      <a:pt x="2139" y="87"/>
                      <a:pt x="2139" y="87"/>
                      <a:pt x="2139" y="87"/>
                    </a:cubicBezTo>
                    <a:cubicBezTo>
                      <a:pt x="2138" y="85"/>
                      <a:pt x="2138" y="84"/>
                      <a:pt x="2137" y="83"/>
                    </a:cubicBezTo>
                    <a:cubicBezTo>
                      <a:pt x="2138" y="82"/>
                      <a:pt x="2138" y="82"/>
                      <a:pt x="2138" y="81"/>
                    </a:cubicBezTo>
                    <a:cubicBezTo>
                      <a:pt x="2138" y="82"/>
                      <a:pt x="2138" y="82"/>
                      <a:pt x="2137" y="83"/>
                    </a:cubicBezTo>
                    <a:cubicBezTo>
                      <a:pt x="2137" y="81"/>
                      <a:pt x="2136" y="79"/>
                      <a:pt x="2135" y="77"/>
                    </a:cubicBezTo>
                    <a:cubicBezTo>
                      <a:pt x="2136" y="79"/>
                      <a:pt x="2136" y="81"/>
                      <a:pt x="2137" y="83"/>
                    </a:cubicBezTo>
                    <a:cubicBezTo>
                      <a:pt x="2136" y="85"/>
                      <a:pt x="2135" y="86"/>
                      <a:pt x="2134" y="88"/>
                    </a:cubicBezTo>
                    <a:cubicBezTo>
                      <a:pt x="2135" y="86"/>
                      <a:pt x="2136" y="85"/>
                      <a:pt x="2137" y="83"/>
                    </a:cubicBezTo>
                    <a:cubicBezTo>
                      <a:pt x="2137" y="85"/>
                      <a:pt x="2138" y="86"/>
                      <a:pt x="2138" y="88"/>
                    </a:cubicBezTo>
                    <a:cubicBezTo>
                      <a:pt x="2136" y="91"/>
                      <a:pt x="2135" y="95"/>
                      <a:pt x="2133" y="98"/>
                    </a:cubicBezTo>
                    <a:cubicBezTo>
                      <a:pt x="2133" y="97"/>
                      <a:pt x="2133" y="97"/>
                      <a:pt x="2132" y="97"/>
                    </a:cubicBezTo>
                    <a:cubicBezTo>
                      <a:pt x="2132" y="95"/>
                      <a:pt x="2132" y="94"/>
                      <a:pt x="2132" y="93"/>
                    </a:cubicBezTo>
                    <a:cubicBezTo>
                      <a:pt x="2132" y="91"/>
                      <a:pt x="2133" y="89"/>
                      <a:pt x="2134" y="88"/>
                    </a:cubicBezTo>
                    <a:cubicBezTo>
                      <a:pt x="2133" y="89"/>
                      <a:pt x="2132" y="91"/>
                      <a:pt x="2131" y="92"/>
                    </a:cubicBezTo>
                    <a:cubicBezTo>
                      <a:pt x="2131" y="92"/>
                      <a:pt x="2131" y="91"/>
                      <a:pt x="2131" y="91"/>
                    </a:cubicBezTo>
                    <a:cubicBezTo>
                      <a:pt x="2131" y="74"/>
                      <a:pt x="2130" y="60"/>
                      <a:pt x="2130" y="60"/>
                    </a:cubicBezTo>
                    <a:cubicBezTo>
                      <a:pt x="2130" y="65"/>
                      <a:pt x="2130" y="73"/>
                      <a:pt x="2129" y="81"/>
                    </a:cubicBezTo>
                    <a:cubicBezTo>
                      <a:pt x="2128" y="79"/>
                      <a:pt x="2128" y="76"/>
                      <a:pt x="2127" y="74"/>
                    </a:cubicBezTo>
                    <a:cubicBezTo>
                      <a:pt x="2128" y="79"/>
                      <a:pt x="2128" y="83"/>
                      <a:pt x="2128" y="88"/>
                    </a:cubicBezTo>
                    <a:cubicBezTo>
                      <a:pt x="2127" y="86"/>
                      <a:pt x="2126" y="84"/>
                      <a:pt x="2125" y="83"/>
                    </a:cubicBezTo>
                    <a:cubicBezTo>
                      <a:pt x="2126" y="85"/>
                      <a:pt x="2127" y="87"/>
                      <a:pt x="2128" y="89"/>
                    </a:cubicBezTo>
                    <a:cubicBezTo>
                      <a:pt x="2128" y="89"/>
                      <a:pt x="2128" y="89"/>
                      <a:pt x="2128" y="89"/>
                    </a:cubicBezTo>
                    <a:cubicBezTo>
                      <a:pt x="2128" y="93"/>
                      <a:pt x="2127" y="97"/>
                      <a:pt x="2127" y="101"/>
                    </a:cubicBezTo>
                    <a:cubicBezTo>
                      <a:pt x="2126" y="103"/>
                      <a:pt x="2125" y="104"/>
                      <a:pt x="2125" y="106"/>
                    </a:cubicBezTo>
                    <a:cubicBezTo>
                      <a:pt x="2123" y="100"/>
                      <a:pt x="2122" y="95"/>
                      <a:pt x="2120" y="90"/>
                    </a:cubicBezTo>
                    <a:cubicBezTo>
                      <a:pt x="2121" y="88"/>
                      <a:pt x="2123" y="85"/>
                      <a:pt x="2124" y="83"/>
                    </a:cubicBezTo>
                    <a:cubicBezTo>
                      <a:pt x="2123" y="85"/>
                      <a:pt x="2121" y="87"/>
                      <a:pt x="2119" y="89"/>
                    </a:cubicBezTo>
                    <a:cubicBezTo>
                      <a:pt x="2119" y="88"/>
                      <a:pt x="2118" y="87"/>
                      <a:pt x="2118" y="87"/>
                    </a:cubicBezTo>
                    <a:cubicBezTo>
                      <a:pt x="2118" y="76"/>
                      <a:pt x="2119" y="68"/>
                      <a:pt x="2119" y="68"/>
                    </a:cubicBezTo>
                    <a:cubicBezTo>
                      <a:pt x="2118" y="72"/>
                      <a:pt x="2117" y="77"/>
                      <a:pt x="2116" y="82"/>
                    </a:cubicBezTo>
                    <a:cubicBezTo>
                      <a:pt x="2116" y="81"/>
                      <a:pt x="2116" y="80"/>
                      <a:pt x="2116" y="80"/>
                    </a:cubicBezTo>
                    <a:cubicBezTo>
                      <a:pt x="2116" y="80"/>
                      <a:pt x="2116" y="81"/>
                      <a:pt x="2116" y="82"/>
                    </a:cubicBezTo>
                    <a:cubicBezTo>
                      <a:pt x="2115" y="80"/>
                      <a:pt x="2114" y="78"/>
                      <a:pt x="2112" y="75"/>
                    </a:cubicBezTo>
                    <a:cubicBezTo>
                      <a:pt x="2113" y="65"/>
                      <a:pt x="2114" y="56"/>
                      <a:pt x="2115" y="48"/>
                    </a:cubicBezTo>
                    <a:cubicBezTo>
                      <a:pt x="2114" y="55"/>
                      <a:pt x="2112" y="64"/>
                      <a:pt x="2111" y="73"/>
                    </a:cubicBezTo>
                    <a:cubicBezTo>
                      <a:pt x="2109" y="70"/>
                      <a:pt x="2107" y="67"/>
                      <a:pt x="2105" y="64"/>
                    </a:cubicBezTo>
                    <a:cubicBezTo>
                      <a:pt x="2105" y="62"/>
                      <a:pt x="2105" y="59"/>
                      <a:pt x="2105" y="57"/>
                    </a:cubicBezTo>
                    <a:cubicBezTo>
                      <a:pt x="2104" y="58"/>
                      <a:pt x="2104" y="60"/>
                      <a:pt x="2103" y="62"/>
                    </a:cubicBezTo>
                    <a:cubicBezTo>
                      <a:pt x="2101" y="59"/>
                      <a:pt x="2098" y="55"/>
                      <a:pt x="2095" y="52"/>
                    </a:cubicBezTo>
                    <a:cubicBezTo>
                      <a:pt x="2095" y="48"/>
                      <a:pt x="2095" y="46"/>
                      <a:pt x="2095" y="46"/>
                    </a:cubicBezTo>
                    <a:cubicBezTo>
                      <a:pt x="2095" y="48"/>
                      <a:pt x="2095" y="49"/>
                      <a:pt x="2094" y="51"/>
                    </a:cubicBezTo>
                    <a:cubicBezTo>
                      <a:pt x="2091" y="47"/>
                      <a:pt x="2087" y="43"/>
                      <a:pt x="2083" y="39"/>
                    </a:cubicBezTo>
                    <a:cubicBezTo>
                      <a:pt x="2083" y="37"/>
                      <a:pt x="2083" y="35"/>
                      <a:pt x="2082" y="34"/>
                    </a:cubicBezTo>
                    <a:cubicBezTo>
                      <a:pt x="2082" y="34"/>
                      <a:pt x="2083" y="36"/>
                      <a:pt x="2083" y="39"/>
                    </a:cubicBezTo>
                    <a:cubicBezTo>
                      <a:pt x="2081" y="37"/>
                      <a:pt x="2080" y="36"/>
                      <a:pt x="2078" y="34"/>
                    </a:cubicBezTo>
                    <a:cubicBezTo>
                      <a:pt x="2080" y="36"/>
                      <a:pt x="2081" y="38"/>
                      <a:pt x="2083" y="40"/>
                    </a:cubicBezTo>
                    <a:cubicBezTo>
                      <a:pt x="2083" y="40"/>
                      <a:pt x="2083" y="40"/>
                      <a:pt x="2083" y="41"/>
                    </a:cubicBezTo>
                    <a:cubicBezTo>
                      <a:pt x="2083" y="40"/>
                      <a:pt x="2083" y="40"/>
                      <a:pt x="2083" y="40"/>
                    </a:cubicBezTo>
                    <a:cubicBezTo>
                      <a:pt x="2087" y="45"/>
                      <a:pt x="2090" y="49"/>
                      <a:pt x="2094" y="53"/>
                    </a:cubicBezTo>
                    <a:cubicBezTo>
                      <a:pt x="2093" y="55"/>
                      <a:pt x="2092" y="59"/>
                      <a:pt x="2092" y="62"/>
                    </a:cubicBezTo>
                    <a:cubicBezTo>
                      <a:pt x="2089" y="60"/>
                      <a:pt x="2087" y="58"/>
                      <a:pt x="2084" y="56"/>
                    </a:cubicBezTo>
                    <a:cubicBezTo>
                      <a:pt x="2083" y="50"/>
                      <a:pt x="2083" y="44"/>
                      <a:pt x="2083" y="41"/>
                    </a:cubicBezTo>
                    <a:cubicBezTo>
                      <a:pt x="2083" y="45"/>
                      <a:pt x="2083" y="50"/>
                      <a:pt x="2082" y="55"/>
                    </a:cubicBezTo>
                    <a:cubicBezTo>
                      <a:pt x="2081" y="54"/>
                      <a:pt x="2080" y="53"/>
                      <a:pt x="2078" y="52"/>
                    </a:cubicBezTo>
                    <a:cubicBezTo>
                      <a:pt x="2080" y="53"/>
                      <a:pt x="2081" y="54"/>
                      <a:pt x="2082" y="55"/>
                    </a:cubicBezTo>
                    <a:cubicBezTo>
                      <a:pt x="2082" y="64"/>
                      <a:pt x="2081" y="73"/>
                      <a:pt x="2079" y="83"/>
                    </a:cubicBezTo>
                    <a:cubicBezTo>
                      <a:pt x="2079" y="82"/>
                      <a:pt x="2079" y="81"/>
                      <a:pt x="2079" y="81"/>
                    </a:cubicBezTo>
                    <a:cubicBezTo>
                      <a:pt x="2079" y="82"/>
                      <a:pt x="2079" y="82"/>
                      <a:pt x="2079" y="83"/>
                    </a:cubicBezTo>
                    <a:cubicBezTo>
                      <a:pt x="2078" y="88"/>
                      <a:pt x="2078" y="92"/>
                      <a:pt x="2077" y="97"/>
                    </a:cubicBezTo>
                    <a:cubicBezTo>
                      <a:pt x="2075" y="89"/>
                      <a:pt x="2073" y="81"/>
                      <a:pt x="2070" y="73"/>
                    </a:cubicBezTo>
                    <a:cubicBezTo>
                      <a:pt x="2070" y="72"/>
                      <a:pt x="2070" y="71"/>
                      <a:pt x="2070" y="71"/>
                    </a:cubicBezTo>
                    <a:cubicBezTo>
                      <a:pt x="2071" y="70"/>
                      <a:pt x="2072" y="69"/>
                      <a:pt x="2073" y="68"/>
                    </a:cubicBezTo>
                    <a:cubicBezTo>
                      <a:pt x="2075" y="72"/>
                      <a:pt x="2077" y="76"/>
                      <a:pt x="2079" y="81"/>
                    </a:cubicBezTo>
                    <a:cubicBezTo>
                      <a:pt x="2077" y="76"/>
                      <a:pt x="2075" y="72"/>
                      <a:pt x="2073" y="67"/>
                    </a:cubicBezTo>
                    <a:cubicBezTo>
                      <a:pt x="2074" y="67"/>
                      <a:pt x="2074" y="66"/>
                      <a:pt x="2075" y="65"/>
                    </a:cubicBezTo>
                    <a:cubicBezTo>
                      <a:pt x="2074" y="66"/>
                      <a:pt x="2074" y="66"/>
                      <a:pt x="2073" y="67"/>
                    </a:cubicBezTo>
                    <a:cubicBezTo>
                      <a:pt x="2067" y="54"/>
                      <a:pt x="2057" y="41"/>
                      <a:pt x="2045" y="25"/>
                    </a:cubicBezTo>
                    <a:cubicBezTo>
                      <a:pt x="2057" y="42"/>
                      <a:pt x="2066" y="55"/>
                      <a:pt x="2072" y="68"/>
                    </a:cubicBezTo>
                    <a:cubicBezTo>
                      <a:pt x="2072" y="68"/>
                      <a:pt x="2071" y="69"/>
                      <a:pt x="2070" y="70"/>
                    </a:cubicBezTo>
                    <a:cubicBezTo>
                      <a:pt x="2070" y="68"/>
                      <a:pt x="2070" y="66"/>
                      <a:pt x="2070" y="66"/>
                    </a:cubicBezTo>
                    <a:cubicBezTo>
                      <a:pt x="2070" y="68"/>
                      <a:pt x="2070" y="69"/>
                      <a:pt x="2069" y="71"/>
                    </a:cubicBezTo>
                    <a:cubicBezTo>
                      <a:pt x="2069" y="71"/>
                      <a:pt x="2069" y="71"/>
                      <a:pt x="2069" y="71"/>
                    </a:cubicBezTo>
                    <a:cubicBezTo>
                      <a:pt x="2065" y="61"/>
                      <a:pt x="2058" y="52"/>
                      <a:pt x="2049" y="42"/>
                    </a:cubicBezTo>
                    <a:cubicBezTo>
                      <a:pt x="2056" y="55"/>
                      <a:pt x="2061" y="65"/>
                      <a:pt x="2065" y="75"/>
                    </a:cubicBezTo>
                    <a:cubicBezTo>
                      <a:pt x="2064" y="76"/>
                      <a:pt x="2063" y="77"/>
                      <a:pt x="2062" y="77"/>
                    </a:cubicBezTo>
                    <a:cubicBezTo>
                      <a:pt x="2060" y="73"/>
                      <a:pt x="2058" y="70"/>
                      <a:pt x="2056" y="68"/>
                    </a:cubicBezTo>
                    <a:cubicBezTo>
                      <a:pt x="2055" y="63"/>
                      <a:pt x="2055" y="60"/>
                      <a:pt x="2055" y="60"/>
                    </a:cubicBezTo>
                    <a:cubicBezTo>
                      <a:pt x="2055" y="61"/>
                      <a:pt x="2055" y="64"/>
                      <a:pt x="2055" y="67"/>
                    </a:cubicBezTo>
                    <a:cubicBezTo>
                      <a:pt x="2049" y="57"/>
                      <a:pt x="2041" y="47"/>
                      <a:pt x="2030" y="38"/>
                    </a:cubicBezTo>
                    <a:cubicBezTo>
                      <a:pt x="2040" y="49"/>
                      <a:pt x="2048" y="60"/>
                      <a:pt x="2054" y="71"/>
                    </a:cubicBezTo>
                    <a:cubicBezTo>
                      <a:pt x="2054" y="75"/>
                      <a:pt x="2054" y="80"/>
                      <a:pt x="2053" y="85"/>
                    </a:cubicBezTo>
                    <a:cubicBezTo>
                      <a:pt x="2053" y="84"/>
                      <a:pt x="2053" y="84"/>
                      <a:pt x="2052" y="83"/>
                    </a:cubicBezTo>
                    <a:cubicBezTo>
                      <a:pt x="2052" y="84"/>
                      <a:pt x="2053" y="85"/>
                      <a:pt x="2053" y="86"/>
                    </a:cubicBezTo>
                    <a:cubicBezTo>
                      <a:pt x="2053" y="87"/>
                      <a:pt x="2053" y="88"/>
                      <a:pt x="2053" y="89"/>
                    </a:cubicBezTo>
                    <a:cubicBezTo>
                      <a:pt x="2051" y="92"/>
                      <a:pt x="2050" y="94"/>
                      <a:pt x="2048" y="97"/>
                    </a:cubicBezTo>
                    <a:cubicBezTo>
                      <a:pt x="2048" y="93"/>
                      <a:pt x="2048" y="90"/>
                      <a:pt x="2048" y="87"/>
                    </a:cubicBezTo>
                    <a:cubicBezTo>
                      <a:pt x="2049" y="84"/>
                      <a:pt x="2050" y="82"/>
                      <a:pt x="2050" y="80"/>
                    </a:cubicBezTo>
                    <a:cubicBezTo>
                      <a:pt x="2051" y="81"/>
                      <a:pt x="2051" y="82"/>
                      <a:pt x="2052" y="83"/>
                    </a:cubicBezTo>
                    <a:cubicBezTo>
                      <a:pt x="2052" y="81"/>
                      <a:pt x="2051" y="80"/>
                      <a:pt x="2050" y="79"/>
                    </a:cubicBezTo>
                    <a:cubicBezTo>
                      <a:pt x="2051" y="79"/>
                      <a:pt x="2051" y="78"/>
                      <a:pt x="2051" y="77"/>
                    </a:cubicBezTo>
                    <a:cubicBezTo>
                      <a:pt x="2051" y="77"/>
                      <a:pt x="2050" y="78"/>
                      <a:pt x="2050" y="79"/>
                    </a:cubicBezTo>
                    <a:cubicBezTo>
                      <a:pt x="2049" y="77"/>
                      <a:pt x="2049" y="76"/>
                      <a:pt x="2048" y="75"/>
                    </a:cubicBezTo>
                    <a:cubicBezTo>
                      <a:pt x="2049" y="77"/>
                      <a:pt x="2049" y="78"/>
                      <a:pt x="2050" y="79"/>
                    </a:cubicBezTo>
                    <a:cubicBezTo>
                      <a:pt x="2049" y="80"/>
                      <a:pt x="2048" y="81"/>
                      <a:pt x="2048" y="82"/>
                    </a:cubicBezTo>
                    <a:cubicBezTo>
                      <a:pt x="2048" y="73"/>
                      <a:pt x="2048" y="68"/>
                      <a:pt x="2048" y="68"/>
                    </a:cubicBezTo>
                    <a:cubicBezTo>
                      <a:pt x="2047" y="72"/>
                      <a:pt x="2047" y="78"/>
                      <a:pt x="2046" y="85"/>
                    </a:cubicBezTo>
                    <a:cubicBezTo>
                      <a:pt x="2043" y="90"/>
                      <a:pt x="2041" y="94"/>
                      <a:pt x="2040" y="99"/>
                    </a:cubicBezTo>
                    <a:cubicBezTo>
                      <a:pt x="2040" y="98"/>
                      <a:pt x="2039" y="97"/>
                      <a:pt x="2039" y="96"/>
                    </a:cubicBezTo>
                    <a:cubicBezTo>
                      <a:pt x="2039" y="92"/>
                      <a:pt x="2040" y="89"/>
                      <a:pt x="2040" y="89"/>
                    </a:cubicBezTo>
                    <a:cubicBezTo>
                      <a:pt x="2040" y="91"/>
                      <a:pt x="2039" y="92"/>
                      <a:pt x="2039" y="94"/>
                    </a:cubicBezTo>
                    <a:cubicBezTo>
                      <a:pt x="2038" y="91"/>
                      <a:pt x="2037" y="88"/>
                      <a:pt x="2037" y="85"/>
                    </a:cubicBezTo>
                    <a:cubicBezTo>
                      <a:pt x="2036" y="88"/>
                      <a:pt x="2036" y="91"/>
                      <a:pt x="2036" y="94"/>
                    </a:cubicBezTo>
                    <a:cubicBezTo>
                      <a:pt x="2036" y="97"/>
                      <a:pt x="2036" y="100"/>
                      <a:pt x="2036" y="103"/>
                    </a:cubicBezTo>
                    <a:cubicBezTo>
                      <a:pt x="2035" y="107"/>
                      <a:pt x="2033" y="112"/>
                      <a:pt x="2032" y="116"/>
                    </a:cubicBezTo>
                    <a:cubicBezTo>
                      <a:pt x="2030" y="112"/>
                      <a:pt x="2029" y="108"/>
                      <a:pt x="2028" y="104"/>
                    </a:cubicBezTo>
                    <a:cubicBezTo>
                      <a:pt x="2029" y="109"/>
                      <a:pt x="2030" y="115"/>
                      <a:pt x="2030" y="120"/>
                    </a:cubicBezTo>
                    <a:cubicBezTo>
                      <a:pt x="2029" y="124"/>
                      <a:pt x="2027" y="127"/>
                      <a:pt x="2026" y="130"/>
                    </a:cubicBezTo>
                    <a:cubicBezTo>
                      <a:pt x="2025" y="128"/>
                      <a:pt x="2024" y="126"/>
                      <a:pt x="2024" y="123"/>
                    </a:cubicBezTo>
                    <a:cubicBezTo>
                      <a:pt x="2025" y="115"/>
                      <a:pt x="2027" y="106"/>
                      <a:pt x="2029" y="98"/>
                    </a:cubicBezTo>
                    <a:cubicBezTo>
                      <a:pt x="2030" y="98"/>
                      <a:pt x="2030" y="97"/>
                      <a:pt x="2030" y="96"/>
                    </a:cubicBezTo>
                    <a:cubicBezTo>
                      <a:pt x="2030" y="96"/>
                      <a:pt x="2030" y="97"/>
                      <a:pt x="2029" y="97"/>
                    </a:cubicBezTo>
                    <a:cubicBezTo>
                      <a:pt x="2032" y="86"/>
                      <a:pt x="2035" y="76"/>
                      <a:pt x="2035" y="76"/>
                    </a:cubicBezTo>
                    <a:cubicBezTo>
                      <a:pt x="2030" y="83"/>
                      <a:pt x="2024" y="96"/>
                      <a:pt x="2020" y="109"/>
                    </a:cubicBezTo>
                    <a:cubicBezTo>
                      <a:pt x="2020" y="107"/>
                      <a:pt x="2019" y="106"/>
                      <a:pt x="2019" y="104"/>
                    </a:cubicBezTo>
                    <a:cubicBezTo>
                      <a:pt x="2021" y="97"/>
                      <a:pt x="2024" y="90"/>
                      <a:pt x="2027" y="84"/>
                    </a:cubicBezTo>
                    <a:cubicBezTo>
                      <a:pt x="2024" y="90"/>
                      <a:pt x="2021" y="96"/>
                      <a:pt x="2019" y="102"/>
                    </a:cubicBezTo>
                    <a:cubicBezTo>
                      <a:pt x="2018" y="102"/>
                      <a:pt x="2018" y="101"/>
                      <a:pt x="2018" y="101"/>
                    </a:cubicBezTo>
                    <a:cubicBezTo>
                      <a:pt x="2020" y="77"/>
                      <a:pt x="2016" y="62"/>
                      <a:pt x="2016" y="62"/>
                    </a:cubicBezTo>
                    <a:cubicBezTo>
                      <a:pt x="2017" y="69"/>
                      <a:pt x="2017" y="80"/>
                      <a:pt x="2015" y="91"/>
                    </a:cubicBezTo>
                    <a:cubicBezTo>
                      <a:pt x="2015" y="89"/>
                      <a:pt x="2015" y="88"/>
                      <a:pt x="2014" y="87"/>
                    </a:cubicBezTo>
                    <a:cubicBezTo>
                      <a:pt x="2014" y="88"/>
                      <a:pt x="2014" y="88"/>
                      <a:pt x="2014" y="88"/>
                    </a:cubicBezTo>
                    <a:cubicBezTo>
                      <a:pt x="2014" y="90"/>
                      <a:pt x="2014" y="93"/>
                      <a:pt x="2015" y="96"/>
                    </a:cubicBezTo>
                    <a:cubicBezTo>
                      <a:pt x="2014" y="101"/>
                      <a:pt x="2014" y="105"/>
                      <a:pt x="2013" y="110"/>
                    </a:cubicBezTo>
                    <a:cubicBezTo>
                      <a:pt x="2012" y="109"/>
                      <a:pt x="2012" y="107"/>
                      <a:pt x="2011" y="106"/>
                    </a:cubicBezTo>
                    <a:cubicBezTo>
                      <a:pt x="2012" y="103"/>
                      <a:pt x="2012" y="99"/>
                      <a:pt x="2013" y="96"/>
                    </a:cubicBezTo>
                    <a:cubicBezTo>
                      <a:pt x="2012" y="98"/>
                      <a:pt x="2011" y="100"/>
                      <a:pt x="2010" y="103"/>
                    </a:cubicBezTo>
                    <a:cubicBezTo>
                      <a:pt x="2009" y="101"/>
                      <a:pt x="2008" y="99"/>
                      <a:pt x="2008" y="98"/>
                    </a:cubicBezTo>
                    <a:cubicBezTo>
                      <a:pt x="2008" y="89"/>
                      <a:pt x="2009" y="82"/>
                      <a:pt x="2009" y="82"/>
                    </a:cubicBezTo>
                    <a:cubicBezTo>
                      <a:pt x="2007" y="97"/>
                      <a:pt x="2007" y="97"/>
                      <a:pt x="2007" y="97"/>
                    </a:cubicBezTo>
                    <a:cubicBezTo>
                      <a:pt x="2006" y="94"/>
                      <a:pt x="2005" y="92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90"/>
                      <a:pt x="2004" y="90"/>
                      <a:pt x="2004" y="90"/>
                    </a:cubicBezTo>
                    <a:cubicBezTo>
                      <a:pt x="2004" y="89"/>
                      <a:pt x="2004" y="89"/>
                      <a:pt x="2003" y="88"/>
                    </a:cubicBezTo>
                    <a:cubicBezTo>
                      <a:pt x="2003" y="83"/>
                      <a:pt x="2003" y="78"/>
                      <a:pt x="2003" y="73"/>
                    </a:cubicBezTo>
                    <a:cubicBezTo>
                      <a:pt x="2006" y="70"/>
                      <a:pt x="2009" y="66"/>
                      <a:pt x="2012" y="63"/>
                    </a:cubicBezTo>
                    <a:cubicBezTo>
                      <a:pt x="2009" y="66"/>
                      <a:pt x="2006" y="69"/>
                      <a:pt x="2003" y="71"/>
                    </a:cubicBezTo>
                    <a:cubicBezTo>
                      <a:pt x="2003" y="65"/>
                      <a:pt x="2002" y="60"/>
                      <a:pt x="2002" y="60"/>
                    </a:cubicBezTo>
                    <a:cubicBezTo>
                      <a:pt x="2002" y="64"/>
                      <a:pt x="2002" y="68"/>
                      <a:pt x="2002" y="72"/>
                    </a:cubicBezTo>
                    <a:cubicBezTo>
                      <a:pt x="2000" y="74"/>
                      <a:pt x="1999" y="75"/>
                      <a:pt x="1998" y="77"/>
                    </a:cubicBezTo>
                    <a:cubicBezTo>
                      <a:pt x="1997" y="70"/>
                      <a:pt x="1997" y="64"/>
                      <a:pt x="1997" y="64"/>
                    </a:cubicBezTo>
                    <a:cubicBezTo>
                      <a:pt x="1997" y="66"/>
                      <a:pt x="1997" y="71"/>
                      <a:pt x="1996" y="78"/>
                    </a:cubicBezTo>
                    <a:cubicBezTo>
                      <a:pt x="1993" y="81"/>
                      <a:pt x="1991" y="85"/>
                      <a:pt x="1989" y="88"/>
                    </a:cubicBezTo>
                    <a:cubicBezTo>
                      <a:pt x="1989" y="64"/>
                      <a:pt x="1988" y="42"/>
                      <a:pt x="1988" y="42"/>
                    </a:cubicBezTo>
                    <a:cubicBezTo>
                      <a:pt x="1989" y="55"/>
                      <a:pt x="1986" y="77"/>
                      <a:pt x="1984" y="96"/>
                    </a:cubicBezTo>
                    <a:cubicBezTo>
                      <a:pt x="1982" y="100"/>
                      <a:pt x="1980" y="104"/>
                      <a:pt x="1979" y="107"/>
                    </a:cubicBezTo>
                    <a:cubicBezTo>
                      <a:pt x="1978" y="107"/>
                      <a:pt x="1978" y="106"/>
                      <a:pt x="1978" y="106"/>
                    </a:cubicBezTo>
                    <a:cubicBezTo>
                      <a:pt x="1979" y="87"/>
                      <a:pt x="1982" y="70"/>
                      <a:pt x="1982" y="70"/>
                    </a:cubicBezTo>
                    <a:cubicBezTo>
                      <a:pt x="1980" y="74"/>
                      <a:pt x="1977" y="98"/>
                      <a:pt x="1975" y="117"/>
                    </a:cubicBezTo>
                    <a:cubicBezTo>
                      <a:pt x="1975" y="118"/>
                      <a:pt x="1975" y="119"/>
                      <a:pt x="1975" y="120"/>
                    </a:cubicBezTo>
                    <a:cubicBezTo>
                      <a:pt x="1975" y="119"/>
                      <a:pt x="1975" y="119"/>
                      <a:pt x="1975" y="118"/>
                    </a:cubicBezTo>
                    <a:cubicBezTo>
                      <a:pt x="1975" y="119"/>
                      <a:pt x="1975" y="119"/>
                      <a:pt x="1975" y="120"/>
                    </a:cubicBezTo>
                    <a:cubicBezTo>
                      <a:pt x="1974" y="121"/>
                      <a:pt x="1974" y="121"/>
                      <a:pt x="1974" y="122"/>
                    </a:cubicBezTo>
                    <a:cubicBezTo>
                      <a:pt x="1974" y="115"/>
                      <a:pt x="1974" y="108"/>
                      <a:pt x="1974" y="101"/>
                    </a:cubicBezTo>
                    <a:cubicBezTo>
                      <a:pt x="1974" y="101"/>
                      <a:pt x="1974" y="100"/>
                      <a:pt x="1974" y="100"/>
                    </a:cubicBezTo>
                    <a:cubicBezTo>
                      <a:pt x="1974" y="100"/>
                      <a:pt x="1974" y="101"/>
                      <a:pt x="1974" y="101"/>
                    </a:cubicBezTo>
                    <a:cubicBezTo>
                      <a:pt x="1974" y="98"/>
                      <a:pt x="1974" y="94"/>
                      <a:pt x="1973" y="91"/>
                    </a:cubicBezTo>
                    <a:cubicBezTo>
                      <a:pt x="1975" y="88"/>
                      <a:pt x="1977" y="85"/>
                      <a:pt x="1979" y="83"/>
                    </a:cubicBezTo>
                    <a:cubicBezTo>
                      <a:pt x="1977" y="85"/>
                      <a:pt x="1975" y="87"/>
                      <a:pt x="1973" y="90"/>
                    </a:cubicBezTo>
                    <a:cubicBezTo>
                      <a:pt x="1973" y="79"/>
                      <a:pt x="1972" y="69"/>
                      <a:pt x="1972" y="61"/>
                    </a:cubicBezTo>
                    <a:cubicBezTo>
                      <a:pt x="1971" y="73"/>
                      <a:pt x="1969" y="87"/>
                      <a:pt x="1967" y="100"/>
                    </a:cubicBezTo>
                    <a:cubicBezTo>
                      <a:pt x="1963" y="107"/>
                      <a:pt x="1960" y="115"/>
                      <a:pt x="1958" y="123"/>
                    </a:cubicBezTo>
                    <a:cubicBezTo>
                      <a:pt x="1959" y="109"/>
                      <a:pt x="1960" y="92"/>
                      <a:pt x="1961" y="80"/>
                    </a:cubicBezTo>
                    <a:cubicBezTo>
                      <a:pt x="1963" y="73"/>
                      <a:pt x="1964" y="67"/>
                      <a:pt x="1964" y="61"/>
                    </a:cubicBezTo>
                    <a:cubicBezTo>
                      <a:pt x="1964" y="60"/>
                      <a:pt x="1964" y="60"/>
                      <a:pt x="1964" y="60"/>
                    </a:cubicBezTo>
                    <a:cubicBezTo>
                      <a:pt x="1955" y="75"/>
                      <a:pt x="1951" y="88"/>
                      <a:pt x="1949" y="102"/>
                    </a:cubicBezTo>
                    <a:cubicBezTo>
                      <a:pt x="1949" y="102"/>
                      <a:pt x="1949" y="101"/>
                      <a:pt x="1949" y="101"/>
                    </a:cubicBezTo>
                    <a:cubicBezTo>
                      <a:pt x="1950" y="68"/>
                      <a:pt x="1953" y="30"/>
                      <a:pt x="1953" y="30"/>
                    </a:cubicBezTo>
                    <a:cubicBezTo>
                      <a:pt x="1951" y="38"/>
                      <a:pt x="1948" y="60"/>
                      <a:pt x="1946" y="83"/>
                    </a:cubicBezTo>
                    <a:cubicBezTo>
                      <a:pt x="1943" y="87"/>
                      <a:pt x="1940" y="92"/>
                      <a:pt x="1938" y="97"/>
                    </a:cubicBezTo>
                    <a:cubicBezTo>
                      <a:pt x="1938" y="91"/>
                      <a:pt x="1937" y="85"/>
                      <a:pt x="1937" y="79"/>
                    </a:cubicBezTo>
                    <a:cubicBezTo>
                      <a:pt x="1937" y="78"/>
                      <a:pt x="1937" y="78"/>
                      <a:pt x="1938" y="78"/>
                    </a:cubicBezTo>
                    <a:cubicBezTo>
                      <a:pt x="1937" y="78"/>
                      <a:pt x="1937" y="78"/>
                      <a:pt x="1937" y="78"/>
                    </a:cubicBezTo>
                    <a:cubicBezTo>
                      <a:pt x="1935" y="58"/>
                      <a:pt x="1934" y="41"/>
                      <a:pt x="1934" y="41"/>
                    </a:cubicBezTo>
                    <a:cubicBezTo>
                      <a:pt x="1935" y="52"/>
                      <a:pt x="1935" y="67"/>
                      <a:pt x="1934" y="82"/>
                    </a:cubicBezTo>
                    <a:cubicBezTo>
                      <a:pt x="1932" y="84"/>
                      <a:pt x="1930" y="87"/>
                      <a:pt x="1928" y="92"/>
                    </a:cubicBezTo>
                    <a:cubicBezTo>
                      <a:pt x="1927" y="82"/>
                      <a:pt x="1928" y="72"/>
                      <a:pt x="1928" y="68"/>
                    </a:cubicBezTo>
                    <a:cubicBezTo>
                      <a:pt x="1927" y="77"/>
                      <a:pt x="1926" y="88"/>
                      <a:pt x="1924" y="99"/>
                    </a:cubicBezTo>
                    <a:cubicBezTo>
                      <a:pt x="1922" y="94"/>
                      <a:pt x="1921" y="89"/>
                      <a:pt x="1919" y="84"/>
                    </a:cubicBezTo>
                    <a:cubicBezTo>
                      <a:pt x="1921" y="90"/>
                      <a:pt x="1922" y="96"/>
                      <a:pt x="1923" y="101"/>
                    </a:cubicBezTo>
                    <a:cubicBezTo>
                      <a:pt x="1923" y="105"/>
                      <a:pt x="1922" y="109"/>
                      <a:pt x="1921" y="113"/>
                    </a:cubicBezTo>
                    <a:cubicBezTo>
                      <a:pt x="1921" y="110"/>
                      <a:pt x="1921" y="108"/>
                      <a:pt x="1921" y="105"/>
                    </a:cubicBezTo>
                    <a:cubicBezTo>
                      <a:pt x="1920" y="108"/>
                      <a:pt x="1920" y="115"/>
                      <a:pt x="1920" y="119"/>
                    </a:cubicBezTo>
                    <a:cubicBezTo>
                      <a:pt x="1919" y="120"/>
                      <a:pt x="1919" y="122"/>
                      <a:pt x="1919" y="124"/>
                    </a:cubicBezTo>
                    <a:cubicBezTo>
                      <a:pt x="1918" y="125"/>
                      <a:pt x="1918" y="127"/>
                      <a:pt x="1918" y="128"/>
                    </a:cubicBezTo>
                    <a:cubicBezTo>
                      <a:pt x="1917" y="124"/>
                      <a:pt x="1916" y="120"/>
                      <a:pt x="1915" y="116"/>
                    </a:cubicBezTo>
                    <a:cubicBezTo>
                      <a:pt x="1916" y="108"/>
                      <a:pt x="1917" y="100"/>
                      <a:pt x="1917" y="94"/>
                    </a:cubicBezTo>
                    <a:cubicBezTo>
                      <a:pt x="1918" y="92"/>
                      <a:pt x="1918" y="91"/>
                      <a:pt x="1919" y="89"/>
                    </a:cubicBezTo>
                    <a:cubicBezTo>
                      <a:pt x="1918" y="90"/>
                      <a:pt x="1918" y="91"/>
                      <a:pt x="1917" y="92"/>
                    </a:cubicBezTo>
                    <a:cubicBezTo>
                      <a:pt x="1918" y="87"/>
                      <a:pt x="1918" y="83"/>
                      <a:pt x="1918" y="83"/>
                    </a:cubicBezTo>
                    <a:cubicBezTo>
                      <a:pt x="1918" y="85"/>
                      <a:pt x="1917" y="89"/>
                      <a:pt x="1916" y="93"/>
                    </a:cubicBezTo>
                    <a:cubicBezTo>
                      <a:pt x="1915" y="96"/>
                      <a:pt x="1913" y="99"/>
                      <a:pt x="1912" y="102"/>
                    </a:cubicBezTo>
                    <a:cubicBezTo>
                      <a:pt x="1911" y="101"/>
                      <a:pt x="1911" y="100"/>
                      <a:pt x="1911" y="99"/>
                    </a:cubicBezTo>
                    <a:cubicBezTo>
                      <a:pt x="1913" y="80"/>
                      <a:pt x="1915" y="62"/>
                      <a:pt x="1915" y="62"/>
                    </a:cubicBezTo>
                    <a:cubicBezTo>
                      <a:pt x="1913" y="66"/>
                      <a:pt x="1911" y="80"/>
                      <a:pt x="1909" y="95"/>
                    </a:cubicBezTo>
                    <a:cubicBezTo>
                      <a:pt x="1909" y="94"/>
                      <a:pt x="1908" y="92"/>
                      <a:pt x="1907" y="90"/>
                    </a:cubicBezTo>
                    <a:cubicBezTo>
                      <a:pt x="1908" y="92"/>
                      <a:pt x="1909" y="94"/>
                      <a:pt x="1909" y="96"/>
                    </a:cubicBezTo>
                    <a:cubicBezTo>
                      <a:pt x="1909" y="101"/>
                      <a:pt x="1908" y="106"/>
                      <a:pt x="1908" y="110"/>
                    </a:cubicBezTo>
                    <a:cubicBezTo>
                      <a:pt x="1907" y="113"/>
                      <a:pt x="1906" y="116"/>
                      <a:pt x="1905" y="118"/>
                    </a:cubicBezTo>
                    <a:cubicBezTo>
                      <a:pt x="1903" y="94"/>
                      <a:pt x="1898" y="64"/>
                      <a:pt x="1898" y="64"/>
                    </a:cubicBezTo>
                    <a:cubicBezTo>
                      <a:pt x="1898" y="64"/>
                      <a:pt x="1898" y="73"/>
                      <a:pt x="1899" y="82"/>
                    </a:cubicBezTo>
                    <a:cubicBezTo>
                      <a:pt x="1900" y="88"/>
                      <a:pt x="1899" y="98"/>
                      <a:pt x="1897" y="108"/>
                    </a:cubicBezTo>
                    <a:cubicBezTo>
                      <a:pt x="1896" y="111"/>
                      <a:pt x="1895" y="114"/>
                      <a:pt x="1894" y="117"/>
                    </a:cubicBezTo>
                    <a:cubicBezTo>
                      <a:pt x="1894" y="108"/>
                      <a:pt x="1893" y="99"/>
                      <a:pt x="1891" y="90"/>
                    </a:cubicBezTo>
                    <a:cubicBezTo>
                      <a:pt x="1894" y="78"/>
                      <a:pt x="1899" y="66"/>
                      <a:pt x="1898" y="56"/>
                    </a:cubicBezTo>
                    <a:cubicBezTo>
                      <a:pt x="1895" y="62"/>
                      <a:pt x="1892" y="67"/>
                      <a:pt x="1890" y="72"/>
                    </a:cubicBezTo>
                    <a:cubicBezTo>
                      <a:pt x="1893" y="34"/>
                      <a:pt x="1886" y="19"/>
                      <a:pt x="1886" y="19"/>
                    </a:cubicBezTo>
                    <a:cubicBezTo>
                      <a:pt x="1886" y="19"/>
                      <a:pt x="1889" y="31"/>
                      <a:pt x="1888" y="54"/>
                    </a:cubicBezTo>
                    <a:cubicBezTo>
                      <a:pt x="1887" y="61"/>
                      <a:pt x="1886" y="74"/>
                      <a:pt x="1885" y="88"/>
                    </a:cubicBezTo>
                    <a:cubicBezTo>
                      <a:pt x="1883" y="92"/>
                      <a:pt x="1882" y="97"/>
                      <a:pt x="1882" y="101"/>
                    </a:cubicBezTo>
                    <a:cubicBezTo>
                      <a:pt x="1881" y="98"/>
                      <a:pt x="1880" y="95"/>
                      <a:pt x="1878" y="91"/>
                    </a:cubicBezTo>
                    <a:cubicBezTo>
                      <a:pt x="1879" y="89"/>
                      <a:pt x="1879" y="87"/>
                      <a:pt x="1880" y="85"/>
                    </a:cubicBezTo>
                    <a:cubicBezTo>
                      <a:pt x="1879" y="87"/>
                      <a:pt x="1879" y="88"/>
                      <a:pt x="1878" y="90"/>
                    </a:cubicBezTo>
                    <a:cubicBezTo>
                      <a:pt x="1878" y="89"/>
                      <a:pt x="1877" y="88"/>
                      <a:pt x="1877" y="87"/>
                    </a:cubicBezTo>
                    <a:cubicBezTo>
                      <a:pt x="1877" y="83"/>
                      <a:pt x="1877" y="78"/>
                      <a:pt x="1877" y="74"/>
                    </a:cubicBezTo>
                    <a:cubicBezTo>
                      <a:pt x="1877" y="46"/>
                      <a:pt x="1867" y="40"/>
                      <a:pt x="1867" y="40"/>
                    </a:cubicBezTo>
                    <a:cubicBezTo>
                      <a:pt x="1867" y="40"/>
                      <a:pt x="1873" y="44"/>
                      <a:pt x="1873" y="70"/>
                    </a:cubicBezTo>
                    <a:cubicBezTo>
                      <a:pt x="1873" y="84"/>
                      <a:pt x="1868" y="108"/>
                      <a:pt x="1863" y="125"/>
                    </a:cubicBezTo>
                    <a:cubicBezTo>
                      <a:pt x="1863" y="123"/>
                      <a:pt x="1863" y="120"/>
                      <a:pt x="1862" y="118"/>
                    </a:cubicBezTo>
                    <a:cubicBezTo>
                      <a:pt x="1863" y="111"/>
                      <a:pt x="1864" y="105"/>
                      <a:pt x="1864" y="98"/>
                    </a:cubicBezTo>
                    <a:cubicBezTo>
                      <a:pt x="1863" y="101"/>
                      <a:pt x="1862" y="104"/>
                      <a:pt x="1862" y="107"/>
                    </a:cubicBezTo>
                    <a:cubicBezTo>
                      <a:pt x="1862" y="107"/>
                      <a:pt x="1862" y="106"/>
                      <a:pt x="1862" y="106"/>
                    </a:cubicBezTo>
                    <a:cubicBezTo>
                      <a:pt x="1862" y="97"/>
                      <a:pt x="1863" y="83"/>
                      <a:pt x="1869" y="75"/>
                    </a:cubicBezTo>
                    <a:cubicBezTo>
                      <a:pt x="1866" y="77"/>
                      <a:pt x="1863" y="82"/>
                      <a:pt x="1861" y="87"/>
                    </a:cubicBezTo>
                    <a:cubicBezTo>
                      <a:pt x="1862" y="78"/>
                      <a:pt x="1862" y="71"/>
                      <a:pt x="1862" y="71"/>
                    </a:cubicBezTo>
                    <a:cubicBezTo>
                      <a:pt x="1861" y="75"/>
                      <a:pt x="1858" y="97"/>
                      <a:pt x="1854" y="116"/>
                    </a:cubicBezTo>
                    <a:cubicBezTo>
                      <a:pt x="1854" y="114"/>
                      <a:pt x="1854" y="112"/>
                      <a:pt x="1853" y="110"/>
                    </a:cubicBezTo>
                    <a:cubicBezTo>
                      <a:pt x="1854" y="99"/>
                      <a:pt x="1855" y="87"/>
                      <a:pt x="1856" y="78"/>
                    </a:cubicBezTo>
                    <a:cubicBezTo>
                      <a:pt x="1858" y="71"/>
                      <a:pt x="1860" y="63"/>
                      <a:pt x="1862" y="55"/>
                    </a:cubicBezTo>
                    <a:cubicBezTo>
                      <a:pt x="1862" y="54"/>
                      <a:pt x="1862" y="52"/>
                      <a:pt x="1862" y="51"/>
                    </a:cubicBezTo>
                    <a:cubicBezTo>
                      <a:pt x="1860" y="54"/>
                      <a:pt x="1859" y="57"/>
                      <a:pt x="1858" y="60"/>
                    </a:cubicBezTo>
                    <a:cubicBezTo>
                      <a:pt x="1858" y="60"/>
                      <a:pt x="1858" y="59"/>
                      <a:pt x="1858" y="59"/>
                    </a:cubicBezTo>
                    <a:cubicBezTo>
                      <a:pt x="1858" y="60"/>
                      <a:pt x="1858" y="60"/>
                      <a:pt x="1858" y="60"/>
                    </a:cubicBezTo>
                    <a:cubicBezTo>
                      <a:pt x="1854" y="70"/>
                      <a:pt x="1851" y="80"/>
                      <a:pt x="1848" y="89"/>
                    </a:cubicBezTo>
                    <a:cubicBezTo>
                      <a:pt x="1854" y="30"/>
                      <a:pt x="1851" y="15"/>
                      <a:pt x="1850" y="13"/>
                    </a:cubicBezTo>
                    <a:cubicBezTo>
                      <a:pt x="1850" y="15"/>
                      <a:pt x="1851" y="22"/>
                      <a:pt x="1847" y="56"/>
                    </a:cubicBezTo>
                    <a:cubicBezTo>
                      <a:pt x="1845" y="68"/>
                      <a:pt x="1844" y="80"/>
                      <a:pt x="1842" y="91"/>
                    </a:cubicBezTo>
                    <a:cubicBezTo>
                      <a:pt x="1841" y="85"/>
                      <a:pt x="1839" y="79"/>
                      <a:pt x="1837" y="74"/>
                    </a:cubicBezTo>
                    <a:cubicBezTo>
                      <a:pt x="1838" y="51"/>
                      <a:pt x="1839" y="31"/>
                      <a:pt x="1839" y="31"/>
                    </a:cubicBezTo>
                    <a:cubicBezTo>
                      <a:pt x="1837" y="38"/>
                      <a:pt x="1835" y="53"/>
                      <a:pt x="1834" y="69"/>
                    </a:cubicBezTo>
                    <a:cubicBezTo>
                      <a:pt x="1833" y="68"/>
                      <a:pt x="1832" y="67"/>
                      <a:pt x="1831" y="65"/>
                    </a:cubicBezTo>
                    <a:cubicBezTo>
                      <a:pt x="1832" y="67"/>
                      <a:pt x="1833" y="69"/>
                      <a:pt x="1834" y="71"/>
                    </a:cubicBezTo>
                    <a:cubicBezTo>
                      <a:pt x="1834" y="71"/>
                      <a:pt x="1834" y="72"/>
                      <a:pt x="1834" y="73"/>
                    </a:cubicBezTo>
                    <a:cubicBezTo>
                      <a:pt x="1831" y="77"/>
                      <a:pt x="1828" y="81"/>
                      <a:pt x="1826" y="86"/>
                    </a:cubicBezTo>
                    <a:cubicBezTo>
                      <a:pt x="1825" y="85"/>
                      <a:pt x="1825" y="84"/>
                      <a:pt x="1824" y="83"/>
                    </a:cubicBezTo>
                    <a:cubicBezTo>
                      <a:pt x="1822" y="61"/>
                      <a:pt x="1819" y="38"/>
                      <a:pt x="1816" y="28"/>
                    </a:cubicBezTo>
                    <a:cubicBezTo>
                      <a:pt x="1816" y="28"/>
                      <a:pt x="1820" y="54"/>
                      <a:pt x="1823" y="83"/>
                    </a:cubicBezTo>
                    <a:cubicBezTo>
                      <a:pt x="1822" y="82"/>
                      <a:pt x="1821" y="81"/>
                      <a:pt x="1820" y="80"/>
                    </a:cubicBezTo>
                    <a:cubicBezTo>
                      <a:pt x="1822" y="81"/>
                      <a:pt x="1823" y="82"/>
                      <a:pt x="1824" y="84"/>
                    </a:cubicBezTo>
                    <a:cubicBezTo>
                      <a:pt x="1824" y="85"/>
                      <a:pt x="1824" y="86"/>
                      <a:pt x="1824" y="88"/>
                    </a:cubicBezTo>
                    <a:cubicBezTo>
                      <a:pt x="1824" y="86"/>
                      <a:pt x="1824" y="85"/>
                      <a:pt x="1824" y="84"/>
                    </a:cubicBezTo>
                    <a:cubicBezTo>
                      <a:pt x="1824" y="85"/>
                      <a:pt x="1825" y="86"/>
                      <a:pt x="1826" y="87"/>
                    </a:cubicBezTo>
                    <a:cubicBezTo>
                      <a:pt x="1825" y="88"/>
                      <a:pt x="1825" y="89"/>
                      <a:pt x="1824" y="90"/>
                    </a:cubicBezTo>
                    <a:cubicBezTo>
                      <a:pt x="1824" y="88"/>
                      <a:pt x="1824" y="88"/>
                      <a:pt x="1824" y="88"/>
                    </a:cubicBezTo>
                    <a:cubicBezTo>
                      <a:pt x="1824" y="88"/>
                      <a:pt x="1824" y="89"/>
                      <a:pt x="1824" y="90"/>
                    </a:cubicBezTo>
                    <a:cubicBezTo>
                      <a:pt x="1822" y="95"/>
                      <a:pt x="1821" y="100"/>
                      <a:pt x="1819" y="105"/>
                    </a:cubicBezTo>
                    <a:cubicBezTo>
                      <a:pt x="1819" y="105"/>
                      <a:pt x="1819" y="105"/>
                      <a:pt x="1819" y="105"/>
                    </a:cubicBezTo>
                    <a:cubicBezTo>
                      <a:pt x="1819" y="104"/>
                      <a:pt x="1819" y="104"/>
                      <a:pt x="1819" y="103"/>
                    </a:cubicBezTo>
                    <a:cubicBezTo>
                      <a:pt x="1819" y="104"/>
                      <a:pt x="1819" y="104"/>
                      <a:pt x="1819" y="105"/>
                    </a:cubicBezTo>
                    <a:cubicBezTo>
                      <a:pt x="1816" y="95"/>
                      <a:pt x="1814" y="87"/>
                      <a:pt x="1812" y="81"/>
                    </a:cubicBezTo>
                    <a:cubicBezTo>
                      <a:pt x="1813" y="85"/>
                      <a:pt x="1814" y="90"/>
                      <a:pt x="1815" y="95"/>
                    </a:cubicBezTo>
                    <a:cubicBezTo>
                      <a:pt x="1815" y="100"/>
                      <a:pt x="1814" y="104"/>
                      <a:pt x="1813" y="109"/>
                    </a:cubicBezTo>
                    <a:cubicBezTo>
                      <a:pt x="1814" y="104"/>
                      <a:pt x="1815" y="100"/>
                      <a:pt x="1815" y="95"/>
                    </a:cubicBezTo>
                    <a:cubicBezTo>
                      <a:pt x="1816" y="100"/>
                      <a:pt x="1817" y="105"/>
                      <a:pt x="1818" y="110"/>
                    </a:cubicBezTo>
                    <a:cubicBezTo>
                      <a:pt x="1818" y="110"/>
                      <a:pt x="1818" y="111"/>
                      <a:pt x="1818" y="111"/>
                    </a:cubicBezTo>
                    <a:cubicBezTo>
                      <a:pt x="1817" y="116"/>
                      <a:pt x="1815" y="122"/>
                      <a:pt x="1812" y="127"/>
                    </a:cubicBezTo>
                    <a:cubicBezTo>
                      <a:pt x="1812" y="125"/>
                      <a:pt x="1811" y="123"/>
                      <a:pt x="1811" y="120"/>
                    </a:cubicBezTo>
                    <a:cubicBezTo>
                      <a:pt x="1812" y="117"/>
                      <a:pt x="1813" y="113"/>
                      <a:pt x="1813" y="109"/>
                    </a:cubicBezTo>
                    <a:cubicBezTo>
                      <a:pt x="1813" y="112"/>
                      <a:pt x="1812" y="116"/>
                      <a:pt x="1811" y="119"/>
                    </a:cubicBezTo>
                    <a:cubicBezTo>
                      <a:pt x="1809" y="111"/>
                      <a:pt x="1807" y="103"/>
                      <a:pt x="1807" y="95"/>
                    </a:cubicBezTo>
                    <a:cubicBezTo>
                      <a:pt x="1807" y="96"/>
                      <a:pt x="1807" y="96"/>
                      <a:pt x="1807" y="96"/>
                    </a:cubicBezTo>
                    <a:cubicBezTo>
                      <a:pt x="1807" y="98"/>
                      <a:pt x="1807" y="98"/>
                      <a:pt x="1807" y="98"/>
                    </a:cubicBezTo>
                    <a:cubicBezTo>
                      <a:pt x="1807" y="97"/>
                      <a:pt x="1807" y="96"/>
                      <a:pt x="1807" y="95"/>
                    </a:cubicBezTo>
                    <a:cubicBezTo>
                      <a:pt x="1807" y="84"/>
                      <a:pt x="1805" y="69"/>
                      <a:pt x="1799" y="60"/>
                    </a:cubicBezTo>
                    <a:cubicBezTo>
                      <a:pt x="1803" y="70"/>
                      <a:pt x="1805" y="82"/>
                      <a:pt x="1805" y="93"/>
                    </a:cubicBezTo>
                    <a:cubicBezTo>
                      <a:pt x="1805" y="101"/>
                      <a:pt x="1803" y="109"/>
                      <a:pt x="1801" y="116"/>
                    </a:cubicBezTo>
                    <a:cubicBezTo>
                      <a:pt x="1799" y="115"/>
                      <a:pt x="1799" y="117"/>
                      <a:pt x="1800" y="120"/>
                    </a:cubicBezTo>
                    <a:cubicBezTo>
                      <a:pt x="1800" y="121"/>
                      <a:pt x="1799" y="121"/>
                      <a:pt x="1799" y="122"/>
                    </a:cubicBezTo>
                    <a:cubicBezTo>
                      <a:pt x="1798" y="119"/>
                      <a:pt x="1797" y="115"/>
                      <a:pt x="1796" y="112"/>
                    </a:cubicBezTo>
                    <a:cubicBezTo>
                      <a:pt x="1797" y="107"/>
                      <a:pt x="1797" y="103"/>
                      <a:pt x="1797" y="98"/>
                    </a:cubicBezTo>
                    <a:cubicBezTo>
                      <a:pt x="1797" y="90"/>
                      <a:pt x="1796" y="82"/>
                      <a:pt x="1794" y="74"/>
                    </a:cubicBezTo>
                    <a:cubicBezTo>
                      <a:pt x="1793" y="83"/>
                      <a:pt x="1793" y="93"/>
                      <a:pt x="1793" y="102"/>
                    </a:cubicBezTo>
                    <a:cubicBezTo>
                      <a:pt x="1790" y="94"/>
                      <a:pt x="1787" y="86"/>
                      <a:pt x="1785" y="81"/>
                    </a:cubicBezTo>
                    <a:cubicBezTo>
                      <a:pt x="1785" y="86"/>
                      <a:pt x="1785" y="86"/>
                      <a:pt x="1785" y="86"/>
                    </a:cubicBezTo>
                    <a:cubicBezTo>
                      <a:pt x="1785" y="97"/>
                      <a:pt x="1788" y="108"/>
                      <a:pt x="1792" y="118"/>
                    </a:cubicBezTo>
                    <a:cubicBezTo>
                      <a:pt x="1791" y="119"/>
                      <a:pt x="1791" y="120"/>
                      <a:pt x="1791" y="121"/>
                    </a:cubicBezTo>
                    <a:cubicBezTo>
                      <a:pt x="1791" y="123"/>
                      <a:pt x="1790" y="126"/>
                      <a:pt x="1789" y="128"/>
                    </a:cubicBezTo>
                    <a:cubicBezTo>
                      <a:pt x="1786" y="121"/>
                      <a:pt x="1784" y="113"/>
                      <a:pt x="1782" y="106"/>
                    </a:cubicBezTo>
                    <a:cubicBezTo>
                      <a:pt x="1782" y="101"/>
                      <a:pt x="1781" y="96"/>
                      <a:pt x="1780" y="92"/>
                    </a:cubicBezTo>
                    <a:cubicBezTo>
                      <a:pt x="1780" y="91"/>
                      <a:pt x="1780" y="90"/>
                      <a:pt x="1780" y="89"/>
                    </a:cubicBezTo>
                    <a:cubicBezTo>
                      <a:pt x="1780" y="90"/>
                      <a:pt x="1780" y="90"/>
                      <a:pt x="1780" y="91"/>
                    </a:cubicBezTo>
                    <a:cubicBezTo>
                      <a:pt x="1779" y="85"/>
                      <a:pt x="1777" y="79"/>
                      <a:pt x="1774" y="73"/>
                    </a:cubicBezTo>
                    <a:cubicBezTo>
                      <a:pt x="1774" y="73"/>
                      <a:pt x="1774" y="72"/>
                      <a:pt x="1774" y="71"/>
                    </a:cubicBezTo>
                    <a:cubicBezTo>
                      <a:pt x="1774" y="71"/>
                      <a:pt x="1773" y="72"/>
                      <a:pt x="1773" y="73"/>
                    </a:cubicBezTo>
                    <a:cubicBezTo>
                      <a:pt x="1773" y="72"/>
                      <a:pt x="1773" y="71"/>
                      <a:pt x="1772" y="71"/>
                    </a:cubicBezTo>
                    <a:cubicBezTo>
                      <a:pt x="1772" y="72"/>
                      <a:pt x="1773" y="73"/>
                      <a:pt x="1773" y="73"/>
                    </a:cubicBezTo>
                    <a:cubicBezTo>
                      <a:pt x="1770" y="79"/>
                      <a:pt x="1768" y="85"/>
                      <a:pt x="1766" y="91"/>
                    </a:cubicBezTo>
                    <a:cubicBezTo>
                      <a:pt x="1766" y="90"/>
                      <a:pt x="1766" y="90"/>
                      <a:pt x="1766" y="89"/>
                    </a:cubicBezTo>
                    <a:cubicBezTo>
                      <a:pt x="1766" y="90"/>
                      <a:pt x="1766" y="91"/>
                      <a:pt x="1766" y="92"/>
                    </a:cubicBezTo>
                    <a:cubicBezTo>
                      <a:pt x="1765" y="96"/>
                      <a:pt x="1765" y="101"/>
                      <a:pt x="1764" y="106"/>
                    </a:cubicBezTo>
                    <a:cubicBezTo>
                      <a:pt x="1763" y="113"/>
                      <a:pt x="1760" y="121"/>
                      <a:pt x="1757" y="128"/>
                    </a:cubicBezTo>
                    <a:cubicBezTo>
                      <a:pt x="1756" y="126"/>
                      <a:pt x="1756" y="123"/>
                      <a:pt x="1755" y="121"/>
                    </a:cubicBezTo>
                    <a:cubicBezTo>
                      <a:pt x="1755" y="120"/>
                      <a:pt x="1755" y="119"/>
                      <a:pt x="1755" y="118"/>
                    </a:cubicBezTo>
                    <a:cubicBezTo>
                      <a:pt x="1758" y="108"/>
                      <a:pt x="1761" y="97"/>
                      <a:pt x="1761" y="86"/>
                    </a:cubicBezTo>
                    <a:cubicBezTo>
                      <a:pt x="1761" y="81"/>
                      <a:pt x="1761" y="81"/>
                      <a:pt x="1761" y="81"/>
                    </a:cubicBezTo>
                    <a:cubicBezTo>
                      <a:pt x="1759" y="86"/>
                      <a:pt x="1756" y="94"/>
                      <a:pt x="1753" y="102"/>
                    </a:cubicBezTo>
                    <a:cubicBezTo>
                      <a:pt x="1753" y="93"/>
                      <a:pt x="1754" y="83"/>
                      <a:pt x="1752" y="74"/>
                    </a:cubicBezTo>
                    <a:cubicBezTo>
                      <a:pt x="1750" y="82"/>
                      <a:pt x="1749" y="90"/>
                      <a:pt x="1749" y="98"/>
                    </a:cubicBezTo>
                    <a:cubicBezTo>
                      <a:pt x="1749" y="103"/>
                      <a:pt x="1750" y="107"/>
                      <a:pt x="1750" y="112"/>
                    </a:cubicBezTo>
                    <a:cubicBezTo>
                      <a:pt x="1749" y="115"/>
                      <a:pt x="1748" y="119"/>
                      <a:pt x="1747" y="122"/>
                    </a:cubicBezTo>
                    <a:cubicBezTo>
                      <a:pt x="1744" y="112"/>
                      <a:pt x="1741" y="103"/>
                      <a:pt x="1741" y="93"/>
                    </a:cubicBezTo>
                    <a:cubicBezTo>
                      <a:pt x="1741" y="82"/>
                      <a:pt x="1743" y="70"/>
                      <a:pt x="1747" y="60"/>
                    </a:cubicBezTo>
                    <a:cubicBezTo>
                      <a:pt x="1742" y="69"/>
                      <a:pt x="1740" y="84"/>
                      <a:pt x="1740" y="95"/>
                    </a:cubicBezTo>
                    <a:cubicBezTo>
                      <a:pt x="1740" y="96"/>
                      <a:pt x="1740" y="97"/>
                      <a:pt x="1740" y="98"/>
                    </a:cubicBezTo>
                    <a:cubicBezTo>
                      <a:pt x="1739" y="96"/>
                      <a:pt x="1739" y="96"/>
                      <a:pt x="1739" y="96"/>
                    </a:cubicBezTo>
                    <a:cubicBezTo>
                      <a:pt x="1739" y="95"/>
                      <a:pt x="1739" y="95"/>
                      <a:pt x="1739" y="95"/>
                    </a:cubicBezTo>
                    <a:cubicBezTo>
                      <a:pt x="1739" y="103"/>
                      <a:pt x="1738" y="111"/>
                      <a:pt x="1736" y="119"/>
                    </a:cubicBezTo>
                    <a:cubicBezTo>
                      <a:pt x="1735" y="116"/>
                      <a:pt x="1734" y="112"/>
                      <a:pt x="1733" y="109"/>
                    </a:cubicBezTo>
                    <a:cubicBezTo>
                      <a:pt x="1734" y="113"/>
                      <a:pt x="1735" y="117"/>
                      <a:pt x="1735" y="120"/>
                    </a:cubicBezTo>
                    <a:cubicBezTo>
                      <a:pt x="1735" y="123"/>
                      <a:pt x="1734" y="125"/>
                      <a:pt x="1734" y="127"/>
                    </a:cubicBezTo>
                    <a:cubicBezTo>
                      <a:pt x="1732" y="122"/>
                      <a:pt x="1730" y="116"/>
                      <a:pt x="1728" y="111"/>
                    </a:cubicBezTo>
                    <a:cubicBezTo>
                      <a:pt x="1728" y="109"/>
                      <a:pt x="1728" y="108"/>
                      <a:pt x="1727" y="107"/>
                    </a:cubicBezTo>
                    <a:cubicBezTo>
                      <a:pt x="1727" y="106"/>
                      <a:pt x="1727" y="104"/>
                      <a:pt x="1727" y="103"/>
                    </a:cubicBezTo>
                    <a:cubicBezTo>
                      <a:pt x="1727" y="104"/>
                      <a:pt x="1727" y="105"/>
                      <a:pt x="1727" y="105"/>
                    </a:cubicBezTo>
                    <a:cubicBezTo>
                      <a:pt x="1726" y="99"/>
                      <a:pt x="1724" y="93"/>
                      <a:pt x="1721" y="87"/>
                    </a:cubicBezTo>
                    <a:cubicBezTo>
                      <a:pt x="1722" y="84"/>
                      <a:pt x="1724" y="82"/>
                      <a:pt x="1726" y="80"/>
                    </a:cubicBezTo>
                    <a:cubicBezTo>
                      <a:pt x="1724" y="82"/>
                      <a:pt x="1722" y="84"/>
                      <a:pt x="1720" y="86"/>
                    </a:cubicBezTo>
                    <a:cubicBezTo>
                      <a:pt x="1718" y="81"/>
                      <a:pt x="1715" y="77"/>
                      <a:pt x="1712" y="73"/>
                    </a:cubicBezTo>
                    <a:cubicBezTo>
                      <a:pt x="1715" y="77"/>
                      <a:pt x="1717" y="83"/>
                      <a:pt x="1718" y="90"/>
                    </a:cubicBezTo>
                    <a:cubicBezTo>
                      <a:pt x="1716" y="94"/>
                      <a:pt x="1714" y="99"/>
                      <a:pt x="1714" y="103"/>
                    </a:cubicBezTo>
                    <a:cubicBezTo>
                      <a:pt x="1712" y="97"/>
                      <a:pt x="1710" y="91"/>
                      <a:pt x="1708" y="85"/>
                    </a:cubicBezTo>
                    <a:cubicBezTo>
                      <a:pt x="1710" y="91"/>
                      <a:pt x="1710" y="97"/>
                      <a:pt x="1710" y="103"/>
                    </a:cubicBezTo>
                    <a:cubicBezTo>
                      <a:pt x="1710" y="108"/>
                      <a:pt x="1709" y="114"/>
                      <a:pt x="1709" y="119"/>
                    </a:cubicBezTo>
                    <a:cubicBezTo>
                      <a:pt x="1707" y="111"/>
                      <a:pt x="1706" y="104"/>
                      <a:pt x="1706" y="96"/>
                    </a:cubicBezTo>
                    <a:cubicBezTo>
                      <a:pt x="1706" y="87"/>
                      <a:pt x="1710" y="73"/>
                      <a:pt x="1715" y="65"/>
                    </a:cubicBezTo>
                    <a:cubicBezTo>
                      <a:pt x="1706" y="76"/>
                      <a:pt x="1702" y="96"/>
                      <a:pt x="1702" y="108"/>
                    </a:cubicBezTo>
                    <a:cubicBezTo>
                      <a:pt x="1702" y="119"/>
                      <a:pt x="1705" y="130"/>
                      <a:pt x="1705" y="141"/>
                    </a:cubicBezTo>
                    <a:cubicBezTo>
                      <a:pt x="1705" y="146"/>
                      <a:pt x="1705" y="150"/>
                      <a:pt x="1704" y="154"/>
                    </a:cubicBezTo>
                    <a:cubicBezTo>
                      <a:pt x="1698" y="135"/>
                      <a:pt x="1703" y="113"/>
                      <a:pt x="1699" y="93"/>
                    </a:cubicBezTo>
                    <a:cubicBezTo>
                      <a:pt x="1696" y="79"/>
                      <a:pt x="1691" y="64"/>
                      <a:pt x="1685" y="51"/>
                    </a:cubicBezTo>
                    <a:cubicBezTo>
                      <a:pt x="1684" y="52"/>
                      <a:pt x="1684" y="54"/>
                      <a:pt x="1684" y="55"/>
                    </a:cubicBezTo>
                    <a:cubicBezTo>
                      <a:pt x="1691" y="76"/>
                      <a:pt x="1693" y="92"/>
                      <a:pt x="1694" y="105"/>
                    </a:cubicBezTo>
                    <a:cubicBezTo>
                      <a:pt x="1693" y="109"/>
                      <a:pt x="1692" y="114"/>
                      <a:pt x="1692" y="118"/>
                    </a:cubicBezTo>
                    <a:cubicBezTo>
                      <a:pt x="1690" y="101"/>
                      <a:pt x="1686" y="82"/>
                      <a:pt x="1677" y="75"/>
                    </a:cubicBezTo>
                    <a:cubicBezTo>
                      <a:pt x="1683" y="83"/>
                      <a:pt x="1685" y="97"/>
                      <a:pt x="1685" y="106"/>
                    </a:cubicBezTo>
                    <a:cubicBezTo>
                      <a:pt x="1685" y="106"/>
                      <a:pt x="1685" y="107"/>
                      <a:pt x="1685" y="107"/>
                    </a:cubicBezTo>
                    <a:cubicBezTo>
                      <a:pt x="1684" y="104"/>
                      <a:pt x="1683" y="101"/>
                      <a:pt x="1683" y="98"/>
                    </a:cubicBezTo>
                    <a:cubicBezTo>
                      <a:pt x="1683" y="105"/>
                      <a:pt x="1683" y="111"/>
                      <a:pt x="1684" y="118"/>
                    </a:cubicBezTo>
                    <a:cubicBezTo>
                      <a:pt x="1684" y="122"/>
                      <a:pt x="1683" y="126"/>
                      <a:pt x="1682" y="130"/>
                    </a:cubicBezTo>
                    <a:cubicBezTo>
                      <a:pt x="1681" y="124"/>
                      <a:pt x="1679" y="118"/>
                      <a:pt x="1678" y="113"/>
                    </a:cubicBezTo>
                    <a:cubicBezTo>
                      <a:pt x="1679" y="121"/>
                      <a:pt x="1681" y="128"/>
                      <a:pt x="1681" y="136"/>
                    </a:cubicBezTo>
                    <a:cubicBezTo>
                      <a:pt x="1680" y="140"/>
                      <a:pt x="1679" y="144"/>
                      <a:pt x="1679" y="148"/>
                    </a:cubicBezTo>
                    <a:cubicBezTo>
                      <a:pt x="1679" y="147"/>
                      <a:pt x="1678" y="147"/>
                      <a:pt x="1678" y="146"/>
                    </a:cubicBezTo>
                    <a:cubicBezTo>
                      <a:pt x="1679" y="129"/>
                      <a:pt x="1676" y="106"/>
                      <a:pt x="1669" y="91"/>
                    </a:cubicBezTo>
                    <a:cubicBezTo>
                      <a:pt x="1670" y="88"/>
                      <a:pt x="1670" y="85"/>
                      <a:pt x="1672" y="83"/>
                    </a:cubicBezTo>
                    <a:cubicBezTo>
                      <a:pt x="1670" y="85"/>
                      <a:pt x="1669" y="88"/>
                      <a:pt x="1668" y="90"/>
                    </a:cubicBezTo>
                    <a:cubicBezTo>
                      <a:pt x="1668" y="88"/>
                      <a:pt x="1667" y="87"/>
                      <a:pt x="1666" y="85"/>
                    </a:cubicBezTo>
                    <a:cubicBezTo>
                      <a:pt x="1667" y="87"/>
                      <a:pt x="1668" y="89"/>
                      <a:pt x="1668" y="91"/>
                    </a:cubicBezTo>
                    <a:cubicBezTo>
                      <a:pt x="1667" y="95"/>
                      <a:pt x="1666" y="98"/>
                      <a:pt x="1665" y="101"/>
                    </a:cubicBezTo>
                    <a:cubicBezTo>
                      <a:pt x="1664" y="94"/>
                      <a:pt x="1662" y="87"/>
                      <a:pt x="1659" y="79"/>
                    </a:cubicBezTo>
                    <a:cubicBezTo>
                      <a:pt x="1659" y="78"/>
                      <a:pt x="1659" y="76"/>
                      <a:pt x="1659" y="75"/>
                    </a:cubicBezTo>
                    <a:cubicBezTo>
                      <a:pt x="1659" y="76"/>
                      <a:pt x="1659" y="77"/>
                      <a:pt x="1658" y="78"/>
                    </a:cubicBezTo>
                    <a:cubicBezTo>
                      <a:pt x="1656" y="71"/>
                      <a:pt x="1653" y="64"/>
                      <a:pt x="1648" y="56"/>
                    </a:cubicBezTo>
                    <a:cubicBezTo>
                      <a:pt x="1648" y="66"/>
                      <a:pt x="1652" y="78"/>
                      <a:pt x="1655" y="90"/>
                    </a:cubicBezTo>
                    <a:cubicBezTo>
                      <a:pt x="1653" y="99"/>
                      <a:pt x="1653" y="108"/>
                      <a:pt x="1652" y="117"/>
                    </a:cubicBezTo>
                    <a:cubicBezTo>
                      <a:pt x="1651" y="112"/>
                      <a:pt x="1649" y="107"/>
                      <a:pt x="1648" y="103"/>
                    </a:cubicBezTo>
                    <a:cubicBezTo>
                      <a:pt x="1650" y="109"/>
                      <a:pt x="1648" y="132"/>
                      <a:pt x="1648" y="140"/>
                    </a:cubicBezTo>
                    <a:cubicBezTo>
                      <a:pt x="1648" y="144"/>
                      <a:pt x="1648" y="147"/>
                      <a:pt x="1648" y="151"/>
                    </a:cubicBezTo>
                    <a:cubicBezTo>
                      <a:pt x="1648" y="151"/>
                      <a:pt x="1648" y="151"/>
                      <a:pt x="1648" y="151"/>
                    </a:cubicBezTo>
                    <a:cubicBezTo>
                      <a:pt x="1648" y="144"/>
                      <a:pt x="1647" y="137"/>
                      <a:pt x="1645" y="129"/>
                    </a:cubicBezTo>
                    <a:cubicBezTo>
                      <a:pt x="1643" y="119"/>
                      <a:pt x="1642" y="110"/>
                      <a:pt x="1643" y="100"/>
                    </a:cubicBezTo>
                    <a:cubicBezTo>
                      <a:pt x="1642" y="107"/>
                      <a:pt x="1642" y="113"/>
                      <a:pt x="1642" y="119"/>
                    </a:cubicBezTo>
                    <a:cubicBezTo>
                      <a:pt x="1640" y="114"/>
                      <a:pt x="1638" y="108"/>
                      <a:pt x="1636" y="103"/>
                    </a:cubicBezTo>
                    <a:cubicBezTo>
                      <a:pt x="1636" y="99"/>
                      <a:pt x="1637" y="95"/>
                      <a:pt x="1639" y="90"/>
                    </a:cubicBezTo>
                    <a:cubicBezTo>
                      <a:pt x="1637" y="94"/>
                      <a:pt x="1636" y="98"/>
                      <a:pt x="1635" y="102"/>
                    </a:cubicBezTo>
                    <a:cubicBezTo>
                      <a:pt x="1632" y="97"/>
                      <a:pt x="1630" y="93"/>
                      <a:pt x="1627" y="89"/>
                    </a:cubicBezTo>
                    <a:cubicBezTo>
                      <a:pt x="1630" y="93"/>
                      <a:pt x="1630" y="99"/>
                      <a:pt x="1630" y="103"/>
                    </a:cubicBezTo>
                    <a:cubicBezTo>
                      <a:pt x="1630" y="104"/>
                      <a:pt x="1631" y="109"/>
                      <a:pt x="1631" y="115"/>
                    </a:cubicBezTo>
                    <a:cubicBezTo>
                      <a:pt x="1630" y="120"/>
                      <a:pt x="1630" y="124"/>
                      <a:pt x="1629" y="129"/>
                    </a:cubicBezTo>
                    <a:cubicBezTo>
                      <a:pt x="1628" y="125"/>
                      <a:pt x="1627" y="122"/>
                      <a:pt x="1627" y="119"/>
                    </a:cubicBezTo>
                    <a:cubicBezTo>
                      <a:pt x="1627" y="115"/>
                      <a:pt x="1627" y="108"/>
                      <a:pt x="1626" y="105"/>
                    </a:cubicBezTo>
                    <a:cubicBezTo>
                      <a:pt x="1625" y="108"/>
                      <a:pt x="1625" y="110"/>
                      <a:pt x="1625" y="113"/>
                    </a:cubicBezTo>
                    <a:cubicBezTo>
                      <a:pt x="1624" y="109"/>
                      <a:pt x="1623" y="106"/>
                      <a:pt x="1623" y="103"/>
                    </a:cubicBezTo>
                    <a:cubicBezTo>
                      <a:pt x="1624" y="97"/>
                      <a:pt x="1625" y="90"/>
                      <a:pt x="1628" y="84"/>
                    </a:cubicBezTo>
                    <a:cubicBezTo>
                      <a:pt x="1625" y="90"/>
                      <a:pt x="1623" y="95"/>
                      <a:pt x="1622" y="101"/>
                    </a:cubicBezTo>
                    <a:cubicBezTo>
                      <a:pt x="1617" y="86"/>
                      <a:pt x="1614" y="83"/>
                      <a:pt x="1609" y="78"/>
                    </a:cubicBezTo>
                    <a:cubicBezTo>
                      <a:pt x="1616" y="84"/>
                      <a:pt x="1619" y="97"/>
                      <a:pt x="1620" y="107"/>
                    </a:cubicBezTo>
                    <a:cubicBezTo>
                      <a:pt x="1619" y="114"/>
                      <a:pt x="1617" y="120"/>
                      <a:pt x="1616" y="126"/>
                    </a:cubicBezTo>
                    <a:cubicBezTo>
                      <a:pt x="1615" y="121"/>
                      <a:pt x="1614" y="115"/>
                      <a:pt x="1612" y="109"/>
                    </a:cubicBezTo>
                    <a:cubicBezTo>
                      <a:pt x="1613" y="106"/>
                      <a:pt x="1613" y="103"/>
                      <a:pt x="1614" y="100"/>
                    </a:cubicBezTo>
                    <a:cubicBezTo>
                      <a:pt x="1613" y="102"/>
                      <a:pt x="1613" y="104"/>
                      <a:pt x="1612" y="108"/>
                    </a:cubicBezTo>
                    <a:cubicBezTo>
                      <a:pt x="1611" y="106"/>
                      <a:pt x="1610" y="103"/>
                      <a:pt x="1610" y="101"/>
                    </a:cubicBezTo>
                    <a:cubicBezTo>
                      <a:pt x="1610" y="100"/>
                      <a:pt x="1610" y="99"/>
                      <a:pt x="1611" y="98"/>
                    </a:cubicBezTo>
                    <a:cubicBezTo>
                      <a:pt x="1610" y="99"/>
                      <a:pt x="1610" y="100"/>
                      <a:pt x="1610" y="101"/>
                    </a:cubicBezTo>
                    <a:cubicBezTo>
                      <a:pt x="1607" y="94"/>
                      <a:pt x="1604" y="87"/>
                      <a:pt x="1600" y="81"/>
                    </a:cubicBezTo>
                    <a:cubicBezTo>
                      <a:pt x="1604" y="88"/>
                      <a:pt x="1605" y="99"/>
                      <a:pt x="1605" y="106"/>
                    </a:cubicBezTo>
                    <a:cubicBezTo>
                      <a:pt x="1605" y="111"/>
                      <a:pt x="1604" y="115"/>
                      <a:pt x="1604" y="120"/>
                    </a:cubicBezTo>
                    <a:cubicBezTo>
                      <a:pt x="1602" y="126"/>
                      <a:pt x="1600" y="133"/>
                      <a:pt x="1599" y="139"/>
                    </a:cubicBezTo>
                    <a:cubicBezTo>
                      <a:pt x="1599" y="137"/>
                      <a:pt x="1599" y="136"/>
                      <a:pt x="1599" y="135"/>
                    </a:cubicBezTo>
                    <a:cubicBezTo>
                      <a:pt x="1600" y="127"/>
                      <a:pt x="1600" y="120"/>
                      <a:pt x="1601" y="113"/>
                    </a:cubicBezTo>
                    <a:cubicBezTo>
                      <a:pt x="1600" y="117"/>
                      <a:pt x="1600" y="123"/>
                      <a:pt x="1599" y="129"/>
                    </a:cubicBezTo>
                    <a:cubicBezTo>
                      <a:pt x="1599" y="120"/>
                      <a:pt x="1599" y="111"/>
                      <a:pt x="1597" y="103"/>
                    </a:cubicBezTo>
                    <a:cubicBezTo>
                      <a:pt x="1598" y="101"/>
                      <a:pt x="1599" y="100"/>
                      <a:pt x="1599" y="99"/>
                    </a:cubicBezTo>
                    <a:cubicBezTo>
                      <a:pt x="1599" y="100"/>
                      <a:pt x="1598" y="101"/>
                      <a:pt x="1597" y="102"/>
                    </a:cubicBezTo>
                    <a:cubicBezTo>
                      <a:pt x="1595" y="88"/>
                      <a:pt x="1591" y="75"/>
                      <a:pt x="1582" y="60"/>
                    </a:cubicBezTo>
                    <a:cubicBezTo>
                      <a:pt x="1582" y="61"/>
                      <a:pt x="1582" y="61"/>
                      <a:pt x="1582" y="61"/>
                    </a:cubicBezTo>
                    <a:cubicBezTo>
                      <a:pt x="1582" y="76"/>
                      <a:pt x="1592" y="94"/>
                      <a:pt x="1592" y="111"/>
                    </a:cubicBezTo>
                    <a:cubicBezTo>
                      <a:pt x="1591" y="115"/>
                      <a:pt x="1590" y="120"/>
                      <a:pt x="1589" y="125"/>
                    </a:cubicBezTo>
                    <a:cubicBezTo>
                      <a:pt x="1585" y="109"/>
                      <a:pt x="1578" y="94"/>
                      <a:pt x="1567" y="83"/>
                    </a:cubicBezTo>
                    <a:cubicBezTo>
                      <a:pt x="1574" y="90"/>
                      <a:pt x="1578" y="101"/>
                      <a:pt x="1580" y="111"/>
                    </a:cubicBezTo>
                    <a:cubicBezTo>
                      <a:pt x="1579" y="111"/>
                      <a:pt x="1579" y="110"/>
                      <a:pt x="1579" y="109"/>
                    </a:cubicBezTo>
                    <a:cubicBezTo>
                      <a:pt x="1579" y="117"/>
                      <a:pt x="1580" y="126"/>
                      <a:pt x="1580" y="134"/>
                    </a:cubicBezTo>
                    <a:cubicBezTo>
                      <a:pt x="1580" y="136"/>
                      <a:pt x="1580" y="138"/>
                      <a:pt x="1580" y="140"/>
                    </a:cubicBezTo>
                    <a:cubicBezTo>
                      <a:pt x="1577" y="127"/>
                      <a:pt x="1576" y="113"/>
                      <a:pt x="1572" y="100"/>
                    </a:cubicBezTo>
                    <a:cubicBezTo>
                      <a:pt x="1574" y="109"/>
                      <a:pt x="1574" y="123"/>
                      <a:pt x="1574" y="135"/>
                    </a:cubicBezTo>
                    <a:cubicBezTo>
                      <a:pt x="1575" y="138"/>
                      <a:pt x="1575" y="141"/>
                      <a:pt x="1575" y="144"/>
                    </a:cubicBezTo>
                    <a:cubicBezTo>
                      <a:pt x="1575" y="143"/>
                      <a:pt x="1575" y="142"/>
                      <a:pt x="1575" y="142"/>
                    </a:cubicBezTo>
                    <a:cubicBezTo>
                      <a:pt x="1574" y="139"/>
                      <a:pt x="1574" y="137"/>
                      <a:pt x="1574" y="135"/>
                    </a:cubicBezTo>
                    <a:cubicBezTo>
                      <a:pt x="1574" y="130"/>
                      <a:pt x="1573" y="125"/>
                      <a:pt x="1572" y="120"/>
                    </a:cubicBezTo>
                    <a:cubicBezTo>
                      <a:pt x="1572" y="119"/>
                      <a:pt x="1572" y="119"/>
                      <a:pt x="1572" y="118"/>
                    </a:cubicBezTo>
                    <a:cubicBezTo>
                      <a:pt x="1572" y="119"/>
                      <a:pt x="1572" y="119"/>
                      <a:pt x="1572" y="120"/>
                    </a:cubicBezTo>
                    <a:cubicBezTo>
                      <a:pt x="1571" y="116"/>
                      <a:pt x="1569" y="112"/>
                      <a:pt x="1568" y="108"/>
                    </a:cubicBezTo>
                    <a:cubicBezTo>
                      <a:pt x="1569" y="106"/>
                      <a:pt x="1569" y="105"/>
                      <a:pt x="1570" y="103"/>
                    </a:cubicBezTo>
                    <a:cubicBezTo>
                      <a:pt x="1569" y="105"/>
                      <a:pt x="1568" y="106"/>
                      <a:pt x="1568" y="107"/>
                    </a:cubicBezTo>
                    <a:cubicBezTo>
                      <a:pt x="1561" y="91"/>
                      <a:pt x="1551" y="76"/>
                      <a:pt x="1534" y="63"/>
                    </a:cubicBezTo>
                    <a:cubicBezTo>
                      <a:pt x="1540" y="68"/>
                      <a:pt x="1544" y="74"/>
                      <a:pt x="1548" y="79"/>
                    </a:cubicBezTo>
                    <a:cubicBezTo>
                      <a:pt x="1547" y="81"/>
                      <a:pt x="1545" y="85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2" y="90"/>
                      <a:pt x="1542" y="90"/>
                      <a:pt x="1542" y="90"/>
                    </a:cubicBezTo>
                    <a:cubicBezTo>
                      <a:pt x="1540" y="94"/>
                      <a:pt x="1538" y="98"/>
                      <a:pt x="1536" y="103"/>
                    </a:cubicBezTo>
                    <a:cubicBezTo>
                      <a:pt x="1535" y="100"/>
                      <a:pt x="1535" y="98"/>
                      <a:pt x="1534" y="96"/>
                    </a:cubicBezTo>
                    <a:cubicBezTo>
                      <a:pt x="1534" y="99"/>
                      <a:pt x="1535" y="103"/>
                      <a:pt x="1535" y="106"/>
                    </a:cubicBezTo>
                    <a:cubicBezTo>
                      <a:pt x="1534" y="108"/>
                      <a:pt x="1533" y="111"/>
                      <a:pt x="1532" y="113"/>
                    </a:cubicBezTo>
                    <a:cubicBezTo>
                      <a:pt x="1531" y="111"/>
                      <a:pt x="1531" y="109"/>
                      <a:pt x="1530" y="107"/>
                    </a:cubicBezTo>
                    <a:cubicBezTo>
                      <a:pt x="1531" y="100"/>
                      <a:pt x="1532" y="93"/>
                      <a:pt x="1532" y="88"/>
                    </a:cubicBezTo>
                    <a:cubicBezTo>
                      <a:pt x="1532" y="87"/>
                      <a:pt x="1532" y="87"/>
                      <a:pt x="1532" y="87"/>
                    </a:cubicBezTo>
                    <a:cubicBezTo>
                      <a:pt x="1530" y="92"/>
                      <a:pt x="1529" y="97"/>
                      <a:pt x="1528" y="102"/>
                    </a:cubicBezTo>
                    <a:cubicBezTo>
                      <a:pt x="1525" y="96"/>
                      <a:pt x="1523" y="90"/>
                      <a:pt x="1520" y="84"/>
                    </a:cubicBezTo>
                    <a:cubicBezTo>
                      <a:pt x="1523" y="90"/>
                      <a:pt x="1525" y="97"/>
                      <a:pt x="1527" y="104"/>
                    </a:cubicBezTo>
                    <a:cubicBezTo>
                      <a:pt x="1526" y="108"/>
                      <a:pt x="1526" y="111"/>
                      <a:pt x="1525" y="115"/>
                    </a:cubicBezTo>
                    <a:cubicBezTo>
                      <a:pt x="1523" y="110"/>
                      <a:pt x="1521" y="106"/>
                      <a:pt x="1519" y="102"/>
                    </a:cubicBezTo>
                    <a:cubicBezTo>
                      <a:pt x="1521" y="107"/>
                      <a:pt x="1522" y="114"/>
                      <a:pt x="1523" y="121"/>
                    </a:cubicBezTo>
                    <a:cubicBezTo>
                      <a:pt x="1522" y="126"/>
                      <a:pt x="1520" y="131"/>
                      <a:pt x="1519" y="135"/>
                    </a:cubicBezTo>
                    <a:cubicBezTo>
                      <a:pt x="1517" y="132"/>
                      <a:pt x="1516" y="129"/>
                      <a:pt x="1515" y="125"/>
                    </a:cubicBezTo>
                    <a:cubicBezTo>
                      <a:pt x="1516" y="118"/>
                      <a:pt x="1517" y="111"/>
                      <a:pt x="1518" y="104"/>
                    </a:cubicBezTo>
                    <a:cubicBezTo>
                      <a:pt x="1517" y="109"/>
                      <a:pt x="1515" y="114"/>
                      <a:pt x="1513" y="120"/>
                    </a:cubicBezTo>
                    <a:cubicBezTo>
                      <a:pt x="1512" y="115"/>
                      <a:pt x="1511" y="111"/>
                      <a:pt x="1510" y="107"/>
                    </a:cubicBezTo>
                    <a:cubicBezTo>
                      <a:pt x="1510" y="103"/>
                      <a:pt x="1511" y="98"/>
                      <a:pt x="1511" y="94"/>
                    </a:cubicBezTo>
                    <a:cubicBezTo>
                      <a:pt x="1511" y="91"/>
                      <a:pt x="1510" y="88"/>
                      <a:pt x="1510" y="85"/>
                    </a:cubicBezTo>
                    <a:cubicBezTo>
                      <a:pt x="1509" y="89"/>
                      <a:pt x="1508" y="93"/>
                      <a:pt x="1507" y="99"/>
                    </a:cubicBezTo>
                    <a:cubicBezTo>
                      <a:pt x="1504" y="91"/>
                      <a:pt x="1500" y="84"/>
                      <a:pt x="1495" y="77"/>
                    </a:cubicBezTo>
                    <a:cubicBezTo>
                      <a:pt x="1498" y="86"/>
                      <a:pt x="1502" y="95"/>
                      <a:pt x="1505" y="104"/>
                    </a:cubicBezTo>
                    <a:cubicBezTo>
                      <a:pt x="1505" y="106"/>
                      <a:pt x="1505" y="107"/>
                      <a:pt x="1505" y="109"/>
                    </a:cubicBezTo>
                    <a:cubicBezTo>
                      <a:pt x="1504" y="107"/>
                      <a:pt x="1503" y="105"/>
                      <a:pt x="1502" y="103"/>
                    </a:cubicBezTo>
                    <a:cubicBezTo>
                      <a:pt x="1502" y="103"/>
                      <a:pt x="1502" y="102"/>
                      <a:pt x="1502" y="102"/>
                    </a:cubicBezTo>
                    <a:cubicBezTo>
                      <a:pt x="1502" y="102"/>
                      <a:pt x="1502" y="103"/>
                      <a:pt x="1502" y="103"/>
                    </a:cubicBezTo>
                    <a:cubicBezTo>
                      <a:pt x="1497" y="94"/>
                      <a:pt x="1492" y="86"/>
                      <a:pt x="1485" y="79"/>
                    </a:cubicBezTo>
                    <a:cubicBezTo>
                      <a:pt x="1487" y="75"/>
                      <a:pt x="1489" y="71"/>
                      <a:pt x="1491" y="68"/>
                    </a:cubicBezTo>
                    <a:cubicBezTo>
                      <a:pt x="1489" y="69"/>
                      <a:pt x="1486" y="73"/>
                      <a:pt x="1484" y="77"/>
                    </a:cubicBezTo>
                    <a:cubicBezTo>
                      <a:pt x="1480" y="73"/>
                      <a:pt x="1476" y="69"/>
                      <a:pt x="1471" y="65"/>
                    </a:cubicBezTo>
                    <a:cubicBezTo>
                      <a:pt x="1476" y="70"/>
                      <a:pt x="1480" y="75"/>
                      <a:pt x="1483" y="79"/>
                    </a:cubicBezTo>
                    <a:cubicBezTo>
                      <a:pt x="1480" y="86"/>
                      <a:pt x="1477" y="96"/>
                      <a:pt x="1474" y="105"/>
                    </a:cubicBezTo>
                    <a:cubicBezTo>
                      <a:pt x="1471" y="99"/>
                      <a:pt x="1467" y="94"/>
                      <a:pt x="1464" y="88"/>
                    </a:cubicBezTo>
                    <a:cubicBezTo>
                      <a:pt x="1464" y="87"/>
                      <a:pt x="1464" y="86"/>
                      <a:pt x="1465" y="85"/>
                    </a:cubicBezTo>
                    <a:cubicBezTo>
                      <a:pt x="1464" y="86"/>
                      <a:pt x="1464" y="87"/>
                      <a:pt x="1464" y="88"/>
                    </a:cubicBezTo>
                    <a:cubicBezTo>
                      <a:pt x="1463" y="87"/>
                      <a:pt x="1462" y="86"/>
                      <a:pt x="1461" y="85"/>
                    </a:cubicBezTo>
                    <a:cubicBezTo>
                      <a:pt x="1462" y="86"/>
                      <a:pt x="1463" y="87"/>
                      <a:pt x="1463" y="88"/>
                    </a:cubicBezTo>
                    <a:cubicBezTo>
                      <a:pt x="1462" y="91"/>
                      <a:pt x="1461" y="93"/>
                      <a:pt x="1460" y="95"/>
                    </a:cubicBezTo>
                    <a:cubicBezTo>
                      <a:pt x="1459" y="94"/>
                      <a:pt x="1459" y="92"/>
                      <a:pt x="1458" y="91"/>
                    </a:cubicBezTo>
                    <a:cubicBezTo>
                      <a:pt x="1459" y="92"/>
                      <a:pt x="1459" y="94"/>
                      <a:pt x="1460" y="95"/>
                    </a:cubicBezTo>
                    <a:cubicBezTo>
                      <a:pt x="1456" y="103"/>
                      <a:pt x="1453" y="112"/>
                      <a:pt x="1451" y="121"/>
                    </a:cubicBezTo>
                    <a:cubicBezTo>
                      <a:pt x="1450" y="112"/>
                      <a:pt x="1449" y="103"/>
                      <a:pt x="1449" y="97"/>
                    </a:cubicBezTo>
                    <a:cubicBezTo>
                      <a:pt x="1447" y="100"/>
                      <a:pt x="1446" y="105"/>
                      <a:pt x="1445" y="110"/>
                    </a:cubicBezTo>
                    <a:cubicBezTo>
                      <a:pt x="1445" y="92"/>
                      <a:pt x="1444" y="61"/>
                      <a:pt x="1442" y="57"/>
                    </a:cubicBezTo>
                    <a:cubicBezTo>
                      <a:pt x="1441" y="79"/>
                      <a:pt x="1442" y="100"/>
                      <a:pt x="1442" y="122"/>
                    </a:cubicBezTo>
                    <a:cubicBezTo>
                      <a:pt x="1442" y="123"/>
                      <a:pt x="1442" y="124"/>
                      <a:pt x="1442" y="125"/>
                    </a:cubicBezTo>
                    <a:cubicBezTo>
                      <a:pt x="1440" y="114"/>
                      <a:pt x="1436" y="103"/>
                      <a:pt x="1431" y="94"/>
                    </a:cubicBezTo>
                    <a:cubicBezTo>
                      <a:pt x="1430" y="89"/>
                      <a:pt x="1430" y="84"/>
                      <a:pt x="1431" y="80"/>
                    </a:cubicBezTo>
                    <a:cubicBezTo>
                      <a:pt x="1430" y="83"/>
                      <a:pt x="1429" y="87"/>
                      <a:pt x="1428" y="90"/>
                    </a:cubicBezTo>
                    <a:cubicBezTo>
                      <a:pt x="1426" y="88"/>
                      <a:pt x="1424" y="85"/>
                      <a:pt x="1422" y="83"/>
                    </a:cubicBezTo>
                    <a:cubicBezTo>
                      <a:pt x="1424" y="86"/>
                      <a:pt x="1426" y="89"/>
                      <a:pt x="1428" y="92"/>
                    </a:cubicBezTo>
                    <a:cubicBezTo>
                      <a:pt x="1427" y="96"/>
                      <a:pt x="1426" y="100"/>
                      <a:pt x="1426" y="103"/>
                    </a:cubicBezTo>
                    <a:cubicBezTo>
                      <a:pt x="1425" y="102"/>
                      <a:pt x="1425" y="101"/>
                      <a:pt x="1425" y="100"/>
                    </a:cubicBezTo>
                    <a:cubicBezTo>
                      <a:pt x="1425" y="101"/>
                      <a:pt x="1425" y="102"/>
                      <a:pt x="1426" y="104"/>
                    </a:cubicBezTo>
                    <a:cubicBezTo>
                      <a:pt x="1425" y="106"/>
                      <a:pt x="1425" y="109"/>
                      <a:pt x="1424" y="111"/>
                    </a:cubicBezTo>
                    <a:cubicBezTo>
                      <a:pt x="1422" y="107"/>
                      <a:pt x="1421" y="103"/>
                      <a:pt x="1419" y="99"/>
                    </a:cubicBezTo>
                    <a:cubicBezTo>
                      <a:pt x="1418" y="91"/>
                      <a:pt x="1418" y="82"/>
                      <a:pt x="1419" y="74"/>
                    </a:cubicBezTo>
                    <a:cubicBezTo>
                      <a:pt x="1418" y="80"/>
                      <a:pt x="1416" y="86"/>
                      <a:pt x="1415" y="92"/>
                    </a:cubicBezTo>
                    <a:cubicBezTo>
                      <a:pt x="1414" y="91"/>
                      <a:pt x="1413" y="89"/>
                      <a:pt x="1412" y="88"/>
                    </a:cubicBezTo>
                    <a:cubicBezTo>
                      <a:pt x="1413" y="89"/>
                      <a:pt x="1414" y="91"/>
                      <a:pt x="1415" y="93"/>
                    </a:cubicBezTo>
                    <a:cubicBezTo>
                      <a:pt x="1414" y="95"/>
                      <a:pt x="1414" y="97"/>
                      <a:pt x="1414" y="98"/>
                    </a:cubicBezTo>
                    <a:cubicBezTo>
                      <a:pt x="1411" y="93"/>
                      <a:pt x="1409" y="88"/>
                      <a:pt x="1405" y="84"/>
                    </a:cubicBezTo>
                    <a:cubicBezTo>
                      <a:pt x="1408" y="88"/>
                      <a:pt x="1410" y="95"/>
                      <a:pt x="1413" y="103"/>
                    </a:cubicBezTo>
                    <a:cubicBezTo>
                      <a:pt x="1412" y="106"/>
                      <a:pt x="1411" y="110"/>
                      <a:pt x="1411" y="113"/>
                    </a:cubicBezTo>
                    <a:cubicBezTo>
                      <a:pt x="1408" y="108"/>
                      <a:pt x="1406" y="102"/>
                      <a:pt x="1403" y="96"/>
                    </a:cubicBezTo>
                    <a:cubicBezTo>
                      <a:pt x="1403" y="91"/>
                      <a:pt x="1404" y="86"/>
                      <a:pt x="1405" y="83"/>
                    </a:cubicBezTo>
                    <a:cubicBezTo>
                      <a:pt x="1404" y="87"/>
                      <a:pt x="1403" y="90"/>
                      <a:pt x="1401" y="93"/>
                    </a:cubicBezTo>
                    <a:cubicBezTo>
                      <a:pt x="1396" y="83"/>
                      <a:pt x="1389" y="74"/>
                      <a:pt x="1380" y="64"/>
                    </a:cubicBezTo>
                    <a:cubicBezTo>
                      <a:pt x="1389" y="74"/>
                      <a:pt x="1395" y="86"/>
                      <a:pt x="1400" y="97"/>
                    </a:cubicBezTo>
                    <a:cubicBezTo>
                      <a:pt x="1399" y="99"/>
                      <a:pt x="1399" y="101"/>
                      <a:pt x="1398" y="103"/>
                    </a:cubicBezTo>
                    <a:cubicBezTo>
                      <a:pt x="1397" y="98"/>
                      <a:pt x="1396" y="93"/>
                      <a:pt x="1394" y="88"/>
                    </a:cubicBezTo>
                    <a:cubicBezTo>
                      <a:pt x="1394" y="91"/>
                      <a:pt x="1395" y="98"/>
                      <a:pt x="1397" y="106"/>
                    </a:cubicBezTo>
                    <a:cubicBezTo>
                      <a:pt x="1397" y="108"/>
                      <a:pt x="1396" y="109"/>
                      <a:pt x="1396" y="110"/>
                    </a:cubicBezTo>
                    <a:cubicBezTo>
                      <a:pt x="1390" y="97"/>
                      <a:pt x="1383" y="83"/>
                      <a:pt x="1372" y="72"/>
                    </a:cubicBezTo>
                    <a:cubicBezTo>
                      <a:pt x="1370" y="61"/>
                      <a:pt x="1368" y="51"/>
                      <a:pt x="1366" y="41"/>
                    </a:cubicBezTo>
                    <a:cubicBezTo>
                      <a:pt x="1366" y="48"/>
                      <a:pt x="1366" y="55"/>
                      <a:pt x="1366" y="61"/>
                    </a:cubicBezTo>
                    <a:cubicBezTo>
                      <a:pt x="1366" y="63"/>
                      <a:pt x="1366" y="64"/>
                      <a:pt x="1366" y="66"/>
                    </a:cubicBezTo>
                    <a:cubicBezTo>
                      <a:pt x="1365" y="65"/>
                      <a:pt x="1365" y="65"/>
                      <a:pt x="1365" y="65"/>
                    </a:cubicBezTo>
                    <a:cubicBezTo>
                      <a:pt x="1365" y="65"/>
                      <a:pt x="1365" y="65"/>
                      <a:pt x="1366" y="66"/>
                    </a:cubicBezTo>
                    <a:cubicBezTo>
                      <a:pt x="1366" y="75"/>
                      <a:pt x="1367" y="85"/>
                      <a:pt x="1367" y="94"/>
                    </a:cubicBezTo>
                    <a:cubicBezTo>
                      <a:pt x="1365" y="88"/>
                      <a:pt x="1362" y="81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8" y="75"/>
                      <a:pt x="1358" y="75"/>
                      <a:pt x="1358" y="75"/>
                    </a:cubicBezTo>
                    <a:cubicBezTo>
                      <a:pt x="1353" y="67"/>
                      <a:pt x="1346" y="59"/>
                      <a:pt x="1336" y="50"/>
                    </a:cubicBezTo>
                    <a:cubicBezTo>
                      <a:pt x="1339" y="54"/>
                      <a:pt x="1341" y="58"/>
                      <a:pt x="1343" y="61"/>
                    </a:cubicBezTo>
                    <a:cubicBezTo>
                      <a:pt x="1342" y="64"/>
                      <a:pt x="1342" y="68"/>
                      <a:pt x="1341" y="73"/>
                    </a:cubicBezTo>
                    <a:cubicBezTo>
                      <a:pt x="1339" y="70"/>
                      <a:pt x="1336" y="67"/>
                      <a:pt x="1334" y="65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4" y="64"/>
                      <a:pt x="1334" y="64"/>
                      <a:pt x="1334" y="64"/>
                    </a:cubicBezTo>
                    <a:cubicBezTo>
                      <a:pt x="1332" y="62"/>
                      <a:pt x="1330" y="61"/>
                      <a:pt x="1328" y="59"/>
                    </a:cubicBezTo>
                    <a:cubicBezTo>
                      <a:pt x="1330" y="61"/>
                      <a:pt x="1332" y="63"/>
                      <a:pt x="1333" y="65"/>
                    </a:cubicBezTo>
                    <a:cubicBezTo>
                      <a:pt x="1332" y="67"/>
                      <a:pt x="1330" y="69"/>
                      <a:pt x="1329" y="72"/>
                    </a:cubicBezTo>
                    <a:cubicBezTo>
                      <a:pt x="1328" y="67"/>
                      <a:pt x="1328" y="61"/>
                      <a:pt x="1327" y="56"/>
                    </a:cubicBezTo>
                    <a:cubicBezTo>
                      <a:pt x="1328" y="54"/>
                      <a:pt x="1329" y="53"/>
                      <a:pt x="1330" y="51"/>
                    </a:cubicBezTo>
                    <a:cubicBezTo>
                      <a:pt x="1329" y="52"/>
                      <a:pt x="1328" y="53"/>
                      <a:pt x="1327" y="55"/>
                    </a:cubicBezTo>
                    <a:cubicBezTo>
                      <a:pt x="1325" y="45"/>
                      <a:pt x="1323" y="35"/>
                      <a:pt x="1320" y="26"/>
                    </a:cubicBezTo>
                    <a:cubicBezTo>
                      <a:pt x="1319" y="30"/>
                      <a:pt x="1319" y="34"/>
                      <a:pt x="1319" y="37"/>
                    </a:cubicBezTo>
                    <a:cubicBezTo>
                      <a:pt x="1319" y="45"/>
                      <a:pt x="1320" y="53"/>
                      <a:pt x="1321" y="60"/>
                    </a:cubicBezTo>
                    <a:cubicBezTo>
                      <a:pt x="1317" y="65"/>
                      <a:pt x="1313" y="69"/>
                      <a:pt x="1308" y="75"/>
                    </a:cubicBezTo>
                    <a:cubicBezTo>
                      <a:pt x="1308" y="72"/>
                      <a:pt x="1307" y="70"/>
                      <a:pt x="1306" y="67"/>
                    </a:cubicBezTo>
                    <a:cubicBezTo>
                      <a:pt x="1306" y="70"/>
                      <a:pt x="1307" y="73"/>
                      <a:pt x="1307" y="76"/>
                    </a:cubicBezTo>
                    <a:cubicBezTo>
                      <a:pt x="1306" y="77"/>
                      <a:pt x="1306" y="78"/>
                      <a:pt x="1306" y="78"/>
                    </a:cubicBezTo>
                    <a:cubicBezTo>
                      <a:pt x="1304" y="75"/>
                      <a:pt x="1302" y="72"/>
                      <a:pt x="1300" y="68"/>
                    </a:cubicBezTo>
                    <a:cubicBezTo>
                      <a:pt x="1300" y="65"/>
                      <a:pt x="1301" y="63"/>
                      <a:pt x="1301" y="62"/>
                    </a:cubicBezTo>
                    <a:cubicBezTo>
                      <a:pt x="1300" y="63"/>
                      <a:pt x="1299" y="65"/>
                      <a:pt x="1298" y="67"/>
                    </a:cubicBezTo>
                    <a:cubicBezTo>
                      <a:pt x="1292" y="57"/>
                      <a:pt x="1283" y="47"/>
                      <a:pt x="1270" y="34"/>
                    </a:cubicBezTo>
                    <a:cubicBezTo>
                      <a:pt x="1283" y="49"/>
                      <a:pt x="1291" y="60"/>
                      <a:pt x="1298" y="69"/>
                    </a:cubicBezTo>
                    <a:cubicBezTo>
                      <a:pt x="1297" y="72"/>
                      <a:pt x="1296" y="75"/>
                      <a:pt x="1296" y="79"/>
                    </a:cubicBezTo>
                    <a:cubicBezTo>
                      <a:pt x="1290" y="68"/>
                      <a:pt x="1282" y="58"/>
                      <a:pt x="1270" y="52"/>
                    </a:cubicBezTo>
                    <a:cubicBezTo>
                      <a:pt x="1284" y="60"/>
                      <a:pt x="1291" y="72"/>
                      <a:pt x="1296" y="84"/>
                    </a:cubicBezTo>
                    <a:cubicBezTo>
                      <a:pt x="1296" y="86"/>
                      <a:pt x="1296" y="89"/>
                      <a:pt x="1296" y="92"/>
                    </a:cubicBezTo>
                    <a:cubicBezTo>
                      <a:pt x="1294" y="94"/>
                      <a:pt x="1292" y="97"/>
                      <a:pt x="1290" y="100"/>
                    </a:cubicBezTo>
                    <a:cubicBezTo>
                      <a:pt x="1289" y="96"/>
                      <a:pt x="1289" y="93"/>
                      <a:pt x="1288" y="90"/>
                    </a:cubicBezTo>
                    <a:cubicBezTo>
                      <a:pt x="1289" y="93"/>
                      <a:pt x="1289" y="97"/>
                      <a:pt x="1289" y="101"/>
                    </a:cubicBezTo>
                    <a:cubicBezTo>
                      <a:pt x="1288" y="102"/>
                      <a:pt x="1288" y="104"/>
                      <a:pt x="1287" y="105"/>
                    </a:cubicBezTo>
                    <a:cubicBezTo>
                      <a:pt x="1286" y="104"/>
                      <a:pt x="1286" y="103"/>
                      <a:pt x="1285" y="102"/>
                    </a:cubicBezTo>
                    <a:cubicBezTo>
                      <a:pt x="1284" y="97"/>
                      <a:pt x="1283" y="93"/>
                      <a:pt x="1282" y="88"/>
                    </a:cubicBezTo>
                    <a:cubicBezTo>
                      <a:pt x="1283" y="84"/>
                      <a:pt x="1284" y="79"/>
                      <a:pt x="1284" y="75"/>
                    </a:cubicBezTo>
                    <a:cubicBezTo>
                      <a:pt x="1283" y="78"/>
                      <a:pt x="1282" y="80"/>
                      <a:pt x="1281" y="83"/>
                    </a:cubicBezTo>
                    <a:cubicBezTo>
                      <a:pt x="1280" y="81"/>
                      <a:pt x="1280" y="80"/>
                      <a:pt x="1280" y="79"/>
                    </a:cubicBezTo>
                    <a:cubicBezTo>
                      <a:pt x="1280" y="81"/>
                      <a:pt x="1280" y="82"/>
                      <a:pt x="1280" y="83"/>
                    </a:cubicBezTo>
                    <a:cubicBezTo>
                      <a:pt x="1280" y="84"/>
                      <a:pt x="1279" y="86"/>
                      <a:pt x="1278" y="87"/>
                    </a:cubicBezTo>
                    <a:cubicBezTo>
                      <a:pt x="1276" y="83"/>
                      <a:pt x="1275" y="79"/>
                      <a:pt x="1273" y="75"/>
                    </a:cubicBezTo>
                    <a:cubicBezTo>
                      <a:pt x="1273" y="80"/>
                      <a:pt x="1274" y="86"/>
                      <a:pt x="1276" y="93"/>
                    </a:cubicBezTo>
                    <a:cubicBezTo>
                      <a:pt x="1275" y="94"/>
                      <a:pt x="1275" y="94"/>
                      <a:pt x="1275" y="95"/>
                    </a:cubicBezTo>
                    <a:cubicBezTo>
                      <a:pt x="1274" y="90"/>
                      <a:pt x="1272" y="85"/>
                      <a:pt x="1270" y="81"/>
                    </a:cubicBezTo>
                    <a:cubicBezTo>
                      <a:pt x="1272" y="86"/>
                      <a:pt x="1273" y="91"/>
                      <a:pt x="1274" y="97"/>
                    </a:cubicBezTo>
                    <a:cubicBezTo>
                      <a:pt x="1272" y="100"/>
                      <a:pt x="1271" y="103"/>
                      <a:pt x="1270" y="105"/>
                    </a:cubicBezTo>
                    <a:cubicBezTo>
                      <a:pt x="1267" y="84"/>
                      <a:pt x="1261" y="63"/>
                      <a:pt x="1241" y="42"/>
                    </a:cubicBezTo>
                    <a:cubicBezTo>
                      <a:pt x="1249" y="58"/>
                      <a:pt x="1255" y="70"/>
                      <a:pt x="1259" y="81"/>
                    </a:cubicBezTo>
                    <a:cubicBezTo>
                      <a:pt x="1259" y="84"/>
                      <a:pt x="1259" y="86"/>
                      <a:pt x="1259" y="89"/>
                    </a:cubicBezTo>
                    <a:cubicBezTo>
                      <a:pt x="1257" y="86"/>
                      <a:pt x="1256" y="84"/>
                      <a:pt x="1254" y="81"/>
                    </a:cubicBezTo>
                    <a:cubicBezTo>
                      <a:pt x="1253" y="79"/>
                      <a:pt x="1251" y="76"/>
                      <a:pt x="1250" y="74"/>
                    </a:cubicBezTo>
                    <a:cubicBezTo>
                      <a:pt x="1250" y="72"/>
                      <a:pt x="1250" y="69"/>
                      <a:pt x="1250" y="67"/>
                    </a:cubicBezTo>
                    <a:cubicBezTo>
                      <a:pt x="1250" y="69"/>
                      <a:pt x="1250" y="70"/>
                      <a:pt x="1249" y="72"/>
                    </a:cubicBezTo>
                    <a:cubicBezTo>
                      <a:pt x="1246" y="66"/>
                      <a:pt x="1242" y="59"/>
                      <a:pt x="1237" y="53"/>
                    </a:cubicBezTo>
                    <a:cubicBezTo>
                      <a:pt x="1237" y="48"/>
                      <a:pt x="1237" y="42"/>
                      <a:pt x="1237" y="37"/>
                    </a:cubicBezTo>
                    <a:cubicBezTo>
                      <a:pt x="1237" y="34"/>
                      <a:pt x="1237" y="30"/>
                      <a:pt x="1237" y="26"/>
                    </a:cubicBezTo>
                    <a:cubicBezTo>
                      <a:pt x="1235" y="33"/>
                      <a:pt x="1233" y="40"/>
                      <a:pt x="1232" y="47"/>
                    </a:cubicBezTo>
                    <a:cubicBezTo>
                      <a:pt x="1229" y="44"/>
                      <a:pt x="1225" y="41"/>
                      <a:pt x="1222" y="38"/>
                    </a:cubicBezTo>
                    <a:cubicBezTo>
                      <a:pt x="1225" y="41"/>
                      <a:pt x="1228" y="45"/>
                      <a:pt x="1231" y="49"/>
                    </a:cubicBezTo>
                    <a:cubicBezTo>
                      <a:pt x="1231" y="51"/>
                      <a:pt x="1231" y="53"/>
                      <a:pt x="1230" y="55"/>
                    </a:cubicBezTo>
                    <a:cubicBezTo>
                      <a:pt x="1229" y="53"/>
                      <a:pt x="1228" y="52"/>
                      <a:pt x="1226" y="51"/>
                    </a:cubicBezTo>
                    <a:cubicBezTo>
                      <a:pt x="1227" y="53"/>
                      <a:pt x="1229" y="54"/>
                      <a:pt x="1230" y="56"/>
                    </a:cubicBezTo>
                    <a:cubicBezTo>
                      <a:pt x="1229" y="61"/>
                      <a:pt x="1228" y="67"/>
                      <a:pt x="1228" y="72"/>
                    </a:cubicBezTo>
                    <a:cubicBezTo>
                      <a:pt x="1226" y="69"/>
                      <a:pt x="1224" y="66"/>
                      <a:pt x="1223" y="64"/>
                    </a:cubicBezTo>
                    <a:cubicBezTo>
                      <a:pt x="1223" y="67"/>
                      <a:pt x="1225" y="70"/>
                      <a:pt x="1227" y="74"/>
                    </a:cubicBezTo>
                    <a:cubicBezTo>
                      <a:pt x="1226" y="81"/>
                      <a:pt x="1225" y="87"/>
                      <a:pt x="1224" y="92"/>
                    </a:cubicBezTo>
                    <a:cubicBezTo>
                      <a:pt x="1220" y="109"/>
                      <a:pt x="1216" y="126"/>
                      <a:pt x="1214" y="143"/>
                    </a:cubicBezTo>
                    <a:cubicBezTo>
                      <a:pt x="1215" y="126"/>
                      <a:pt x="1216" y="109"/>
                      <a:pt x="1216" y="91"/>
                    </a:cubicBezTo>
                    <a:cubicBezTo>
                      <a:pt x="1216" y="87"/>
                      <a:pt x="1216" y="61"/>
                      <a:pt x="1212" y="59"/>
                    </a:cubicBezTo>
                    <a:cubicBezTo>
                      <a:pt x="1217" y="76"/>
                      <a:pt x="1203" y="122"/>
                      <a:pt x="1200" y="146"/>
                    </a:cubicBezTo>
                    <a:cubicBezTo>
                      <a:pt x="1200" y="148"/>
                      <a:pt x="1200" y="150"/>
                      <a:pt x="1200" y="152"/>
                    </a:cubicBezTo>
                    <a:cubicBezTo>
                      <a:pt x="1200" y="150"/>
                      <a:pt x="1200" y="148"/>
                      <a:pt x="1200" y="146"/>
                    </a:cubicBezTo>
                    <a:cubicBezTo>
                      <a:pt x="1202" y="123"/>
                      <a:pt x="1201" y="97"/>
                      <a:pt x="1199" y="75"/>
                    </a:cubicBezTo>
                    <a:cubicBezTo>
                      <a:pt x="1196" y="97"/>
                      <a:pt x="1188" y="119"/>
                      <a:pt x="1188" y="141"/>
                    </a:cubicBezTo>
                    <a:cubicBezTo>
                      <a:pt x="1188" y="146"/>
                      <a:pt x="1189" y="152"/>
                      <a:pt x="1189" y="158"/>
                    </a:cubicBezTo>
                    <a:cubicBezTo>
                      <a:pt x="1187" y="150"/>
                      <a:pt x="1187" y="140"/>
                      <a:pt x="1187" y="133"/>
                    </a:cubicBezTo>
                    <a:cubicBezTo>
                      <a:pt x="1187" y="109"/>
                      <a:pt x="1191" y="85"/>
                      <a:pt x="1191" y="61"/>
                    </a:cubicBezTo>
                    <a:cubicBezTo>
                      <a:pt x="1191" y="55"/>
                      <a:pt x="1191" y="48"/>
                      <a:pt x="1191" y="41"/>
                    </a:cubicBezTo>
                    <a:cubicBezTo>
                      <a:pt x="1183" y="71"/>
                      <a:pt x="1179" y="110"/>
                      <a:pt x="1179" y="140"/>
                    </a:cubicBezTo>
                    <a:cubicBezTo>
                      <a:pt x="1179" y="145"/>
                      <a:pt x="1179" y="149"/>
                      <a:pt x="1180" y="153"/>
                    </a:cubicBezTo>
                    <a:cubicBezTo>
                      <a:pt x="1179" y="135"/>
                      <a:pt x="1174" y="116"/>
                      <a:pt x="1170" y="98"/>
                    </a:cubicBezTo>
                    <a:cubicBezTo>
                      <a:pt x="1172" y="110"/>
                      <a:pt x="1168" y="124"/>
                      <a:pt x="1168" y="136"/>
                    </a:cubicBezTo>
                    <a:cubicBezTo>
                      <a:pt x="1168" y="140"/>
                      <a:pt x="1168" y="143"/>
                      <a:pt x="1168" y="147"/>
                    </a:cubicBezTo>
                    <a:cubicBezTo>
                      <a:pt x="1165" y="125"/>
                      <a:pt x="1160" y="103"/>
                      <a:pt x="1151" y="83"/>
                    </a:cubicBezTo>
                    <a:cubicBezTo>
                      <a:pt x="1154" y="90"/>
                      <a:pt x="1154" y="108"/>
                      <a:pt x="1154" y="115"/>
                    </a:cubicBezTo>
                    <a:cubicBezTo>
                      <a:pt x="1154" y="127"/>
                      <a:pt x="1154" y="138"/>
                      <a:pt x="1156" y="150"/>
                    </a:cubicBezTo>
                    <a:cubicBezTo>
                      <a:pt x="1147" y="126"/>
                      <a:pt x="1144" y="99"/>
                      <a:pt x="1137" y="74"/>
                    </a:cubicBezTo>
                    <a:cubicBezTo>
                      <a:pt x="1140" y="91"/>
                      <a:pt x="1137" y="110"/>
                      <a:pt x="1137" y="128"/>
                    </a:cubicBezTo>
                    <a:cubicBezTo>
                      <a:pt x="1137" y="132"/>
                      <a:pt x="1137" y="136"/>
                      <a:pt x="1137" y="140"/>
                    </a:cubicBezTo>
                    <a:cubicBezTo>
                      <a:pt x="1138" y="145"/>
                      <a:pt x="1138" y="149"/>
                      <a:pt x="1139" y="154"/>
                    </a:cubicBezTo>
                    <a:cubicBezTo>
                      <a:pt x="1138" y="149"/>
                      <a:pt x="1137" y="145"/>
                      <a:pt x="1137" y="140"/>
                    </a:cubicBezTo>
                    <a:cubicBezTo>
                      <a:pt x="1134" y="120"/>
                      <a:pt x="1131" y="99"/>
                      <a:pt x="1126" y="80"/>
                    </a:cubicBezTo>
                    <a:cubicBezTo>
                      <a:pt x="1128" y="102"/>
                      <a:pt x="1118" y="126"/>
                      <a:pt x="1118" y="149"/>
                    </a:cubicBezTo>
                    <a:cubicBezTo>
                      <a:pt x="1118" y="156"/>
                      <a:pt x="1118" y="156"/>
                      <a:pt x="1118" y="156"/>
                    </a:cubicBezTo>
                    <a:cubicBezTo>
                      <a:pt x="1114" y="147"/>
                      <a:pt x="1114" y="132"/>
                      <a:pt x="1114" y="122"/>
                    </a:cubicBezTo>
                    <a:cubicBezTo>
                      <a:pt x="1114" y="100"/>
                      <a:pt x="1116" y="79"/>
                      <a:pt x="1115" y="57"/>
                    </a:cubicBezTo>
                    <a:cubicBezTo>
                      <a:pt x="1112" y="62"/>
                      <a:pt x="1111" y="112"/>
                      <a:pt x="1111" y="120"/>
                    </a:cubicBezTo>
                    <a:cubicBezTo>
                      <a:pt x="1111" y="133"/>
                      <a:pt x="1112" y="146"/>
                      <a:pt x="1115" y="159"/>
                    </a:cubicBezTo>
                    <a:cubicBezTo>
                      <a:pt x="1110" y="135"/>
                      <a:pt x="1104" y="108"/>
                      <a:pt x="1092" y="85"/>
                    </a:cubicBezTo>
                    <a:cubicBezTo>
                      <a:pt x="1103" y="106"/>
                      <a:pt x="1098" y="132"/>
                      <a:pt x="1105" y="154"/>
                    </a:cubicBezTo>
                    <a:cubicBezTo>
                      <a:pt x="1097" y="142"/>
                      <a:pt x="1095" y="122"/>
                      <a:pt x="1092" y="106"/>
                    </a:cubicBezTo>
                    <a:cubicBezTo>
                      <a:pt x="1094" y="120"/>
                      <a:pt x="1092" y="134"/>
                      <a:pt x="1094" y="148"/>
                    </a:cubicBezTo>
                    <a:cubicBezTo>
                      <a:pt x="1095" y="151"/>
                      <a:pt x="1096" y="153"/>
                      <a:pt x="1096" y="155"/>
                    </a:cubicBezTo>
                    <a:cubicBezTo>
                      <a:pt x="1095" y="153"/>
                      <a:pt x="1095" y="151"/>
                      <a:pt x="1094" y="148"/>
                    </a:cubicBezTo>
                    <a:cubicBezTo>
                      <a:pt x="1090" y="127"/>
                      <a:pt x="1077" y="75"/>
                      <a:pt x="1066" y="68"/>
                    </a:cubicBezTo>
                    <a:cubicBezTo>
                      <a:pt x="1083" y="90"/>
                      <a:pt x="1080" y="127"/>
                      <a:pt x="1085" y="153"/>
                    </a:cubicBezTo>
                    <a:cubicBezTo>
                      <a:pt x="1080" y="134"/>
                      <a:pt x="1073" y="113"/>
                      <a:pt x="1064" y="95"/>
                    </a:cubicBezTo>
                    <a:cubicBezTo>
                      <a:pt x="1071" y="115"/>
                      <a:pt x="1070" y="136"/>
                      <a:pt x="1079" y="155"/>
                    </a:cubicBezTo>
                    <a:cubicBezTo>
                      <a:pt x="1066" y="144"/>
                      <a:pt x="1059" y="117"/>
                      <a:pt x="1055" y="102"/>
                    </a:cubicBezTo>
                    <a:cubicBezTo>
                      <a:pt x="1056" y="120"/>
                      <a:pt x="1060" y="143"/>
                      <a:pt x="1071" y="158"/>
                    </a:cubicBezTo>
                    <a:cubicBezTo>
                      <a:pt x="1057" y="144"/>
                      <a:pt x="1052" y="103"/>
                      <a:pt x="1047" y="85"/>
                    </a:cubicBezTo>
                    <a:cubicBezTo>
                      <a:pt x="1046" y="88"/>
                      <a:pt x="1046" y="91"/>
                      <a:pt x="1046" y="94"/>
                    </a:cubicBezTo>
                    <a:cubicBezTo>
                      <a:pt x="1046" y="113"/>
                      <a:pt x="1052" y="142"/>
                      <a:pt x="1063" y="159"/>
                    </a:cubicBezTo>
                    <a:cubicBezTo>
                      <a:pt x="1050" y="143"/>
                      <a:pt x="1044" y="123"/>
                      <a:pt x="1038" y="104"/>
                    </a:cubicBezTo>
                    <a:cubicBezTo>
                      <a:pt x="1042" y="122"/>
                      <a:pt x="1042" y="140"/>
                      <a:pt x="1051" y="158"/>
                    </a:cubicBezTo>
                    <a:cubicBezTo>
                      <a:pt x="1041" y="147"/>
                      <a:pt x="1037" y="132"/>
                      <a:pt x="1033" y="117"/>
                    </a:cubicBezTo>
                    <a:cubicBezTo>
                      <a:pt x="1034" y="105"/>
                      <a:pt x="1035" y="93"/>
                      <a:pt x="1036" y="84"/>
                    </a:cubicBezTo>
                    <a:cubicBezTo>
                      <a:pt x="1034" y="92"/>
                      <a:pt x="1033" y="101"/>
                      <a:pt x="1031" y="109"/>
                    </a:cubicBezTo>
                    <a:cubicBezTo>
                      <a:pt x="1029" y="102"/>
                      <a:pt x="1027" y="95"/>
                      <a:pt x="1025" y="89"/>
                    </a:cubicBezTo>
                    <a:cubicBezTo>
                      <a:pt x="1028" y="64"/>
                      <a:pt x="1032" y="40"/>
                      <a:pt x="1032" y="40"/>
                    </a:cubicBezTo>
                    <a:cubicBezTo>
                      <a:pt x="1027" y="51"/>
                      <a:pt x="1022" y="77"/>
                      <a:pt x="1019" y="100"/>
                    </a:cubicBezTo>
                    <a:cubicBezTo>
                      <a:pt x="1017" y="95"/>
                      <a:pt x="1015" y="90"/>
                      <a:pt x="1013" y="86"/>
                    </a:cubicBezTo>
                    <a:cubicBezTo>
                      <a:pt x="1012" y="70"/>
                      <a:pt x="1011" y="58"/>
                      <a:pt x="1011" y="60"/>
                    </a:cubicBezTo>
                    <a:cubicBezTo>
                      <a:pt x="1011" y="61"/>
                      <a:pt x="1010" y="69"/>
                      <a:pt x="1009" y="80"/>
                    </a:cubicBezTo>
                    <a:cubicBezTo>
                      <a:pt x="1008" y="79"/>
                      <a:pt x="1008" y="78"/>
                      <a:pt x="1007" y="78"/>
                    </a:cubicBezTo>
                    <a:cubicBezTo>
                      <a:pt x="1008" y="79"/>
                      <a:pt x="1008" y="80"/>
                      <a:pt x="1009" y="81"/>
                    </a:cubicBezTo>
                    <a:cubicBezTo>
                      <a:pt x="1009" y="87"/>
                      <a:pt x="1008" y="95"/>
                      <a:pt x="1007" y="102"/>
                    </a:cubicBezTo>
                    <a:cubicBezTo>
                      <a:pt x="1007" y="102"/>
                      <a:pt x="1007" y="102"/>
                      <a:pt x="1007" y="102"/>
                    </a:cubicBezTo>
                    <a:cubicBezTo>
                      <a:pt x="1007" y="103"/>
                      <a:pt x="1007" y="103"/>
                      <a:pt x="1007" y="103"/>
                    </a:cubicBezTo>
                    <a:cubicBezTo>
                      <a:pt x="1006" y="113"/>
                      <a:pt x="1006" y="123"/>
                      <a:pt x="1005" y="130"/>
                    </a:cubicBezTo>
                    <a:cubicBezTo>
                      <a:pt x="1005" y="130"/>
                      <a:pt x="1005" y="129"/>
                      <a:pt x="1004" y="128"/>
                    </a:cubicBezTo>
                    <a:cubicBezTo>
                      <a:pt x="1004" y="107"/>
                      <a:pt x="1000" y="69"/>
                      <a:pt x="998" y="47"/>
                    </a:cubicBezTo>
                    <a:cubicBezTo>
                      <a:pt x="998" y="64"/>
                      <a:pt x="997" y="87"/>
                      <a:pt x="996" y="107"/>
                    </a:cubicBezTo>
                    <a:cubicBezTo>
                      <a:pt x="995" y="105"/>
                      <a:pt x="994" y="104"/>
                      <a:pt x="994" y="102"/>
                    </a:cubicBezTo>
                    <a:cubicBezTo>
                      <a:pt x="994" y="104"/>
                      <a:pt x="995" y="106"/>
                      <a:pt x="996" y="107"/>
                    </a:cubicBezTo>
                    <a:cubicBezTo>
                      <a:pt x="995" y="114"/>
                      <a:pt x="995" y="121"/>
                      <a:pt x="994" y="126"/>
                    </a:cubicBezTo>
                    <a:cubicBezTo>
                      <a:pt x="994" y="125"/>
                      <a:pt x="993" y="123"/>
                      <a:pt x="993" y="122"/>
                    </a:cubicBezTo>
                    <a:cubicBezTo>
                      <a:pt x="992" y="93"/>
                      <a:pt x="988" y="46"/>
                      <a:pt x="988" y="46"/>
                    </a:cubicBezTo>
                    <a:cubicBezTo>
                      <a:pt x="988" y="65"/>
                      <a:pt x="981" y="142"/>
                      <a:pt x="981" y="142"/>
                    </a:cubicBezTo>
                    <a:cubicBezTo>
                      <a:pt x="975" y="106"/>
                      <a:pt x="982" y="0"/>
                      <a:pt x="982" y="0"/>
                    </a:cubicBezTo>
                    <a:cubicBezTo>
                      <a:pt x="976" y="16"/>
                      <a:pt x="970" y="131"/>
                      <a:pt x="970" y="131"/>
                    </a:cubicBezTo>
                    <a:cubicBezTo>
                      <a:pt x="968" y="36"/>
                      <a:pt x="964" y="32"/>
                      <a:pt x="964" y="32"/>
                    </a:cubicBezTo>
                    <a:cubicBezTo>
                      <a:pt x="966" y="43"/>
                      <a:pt x="963" y="76"/>
                      <a:pt x="960" y="103"/>
                    </a:cubicBezTo>
                    <a:cubicBezTo>
                      <a:pt x="959" y="102"/>
                      <a:pt x="958" y="100"/>
                      <a:pt x="957" y="99"/>
                    </a:cubicBezTo>
                    <a:cubicBezTo>
                      <a:pt x="958" y="101"/>
                      <a:pt x="959" y="103"/>
                      <a:pt x="960" y="104"/>
                    </a:cubicBezTo>
                    <a:cubicBezTo>
                      <a:pt x="959" y="112"/>
                      <a:pt x="958" y="120"/>
                      <a:pt x="957" y="126"/>
                    </a:cubicBezTo>
                    <a:cubicBezTo>
                      <a:pt x="957" y="124"/>
                      <a:pt x="957" y="123"/>
                      <a:pt x="957" y="122"/>
                    </a:cubicBezTo>
                    <a:cubicBezTo>
                      <a:pt x="958" y="94"/>
                      <a:pt x="956" y="48"/>
                      <a:pt x="956" y="48"/>
                    </a:cubicBezTo>
                    <a:cubicBezTo>
                      <a:pt x="955" y="55"/>
                      <a:pt x="952" y="82"/>
                      <a:pt x="949" y="106"/>
                    </a:cubicBezTo>
                    <a:cubicBezTo>
                      <a:pt x="948" y="104"/>
                      <a:pt x="948" y="102"/>
                      <a:pt x="947" y="100"/>
                    </a:cubicBezTo>
                    <a:cubicBezTo>
                      <a:pt x="950" y="60"/>
                      <a:pt x="954" y="9"/>
                      <a:pt x="954" y="9"/>
                    </a:cubicBezTo>
                    <a:cubicBezTo>
                      <a:pt x="949" y="23"/>
                      <a:pt x="942" y="83"/>
                      <a:pt x="939" y="117"/>
                    </a:cubicBezTo>
                    <a:cubicBezTo>
                      <a:pt x="938" y="114"/>
                      <a:pt x="937" y="111"/>
                      <a:pt x="937" y="108"/>
                    </a:cubicBezTo>
                    <a:cubicBezTo>
                      <a:pt x="936" y="90"/>
                      <a:pt x="934" y="72"/>
                      <a:pt x="934" y="72"/>
                    </a:cubicBezTo>
                    <a:cubicBezTo>
                      <a:pt x="935" y="76"/>
                      <a:pt x="934" y="84"/>
                      <a:pt x="933" y="94"/>
                    </a:cubicBezTo>
                    <a:cubicBezTo>
                      <a:pt x="932" y="91"/>
                      <a:pt x="930" y="88"/>
                      <a:pt x="929" y="84"/>
                    </a:cubicBezTo>
                    <a:cubicBezTo>
                      <a:pt x="931" y="88"/>
                      <a:pt x="932" y="92"/>
                      <a:pt x="933" y="96"/>
                    </a:cubicBezTo>
                    <a:cubicBezTo>
                      <a:pt x="932" y="99"/>
                      <a:pt x="932" y="103"/>
                      <a:pt x="931" y="107"/>
                    </a:cubicBezTo>
                    <a:cubicBezTo>
                      <a:pt x="931" y="106"/>
                      <a:pt x="931" y="106"/>
                      <a:pt x="931" y="105"/>
                    </a:cubicBezTo>
                    <a:cubicBezTo>
                      <a:pt x="930" y="107"/>
                      <a:pt x="930" y="112"/>
                      <a:pt x="930" y="116"/>
                    </a:cubicBezTo>
                    <a:cubicBezTo>
                      <a:pt x="929" y="121"/>
                      <a:pt x="929" y="126"/>
                      <a:pt x="928" y="130"/>
                    </a:cubicBezTo>
                    <a:cubicBezTo>
                      <a:pt x="928" y="129"/>
                      <a:pt x="928" y="128"/>
                      <a:pt x="928" y="127"/>
                    </a:cubicBezTo>
                    <a:cubicBezTo>
                      <a:pt x="928" y="101"/>
                      <a:pt x="923" y="63"/>
                      <a:pt x="922" y="54"/>
                    </a:cubicBezTo>
                    <a:cubicBezTo>
                      <a:pt x="923" y="61"/>
                      <a:pt x="921" y="79"/>
                      <a:pt x="920" y="96"/>
                    </a:cubicBezTo>
                    <a:cubicBezTo>
                      <a:pt x="919" y="94"/>
                      <a:pt x="918" y="92"/>
                      <a:pt x="918" y="90"/>
                    </a:cubicBezTo>
                    <a:cubicBezTo>
                      <a:pt x="918" y="92"/>
                      <a:pt x="919" y="95"/>
                      <a:pt x="920" y="97"/>
                    </a:cubicBezTo>
                    <a:cubicBezTo>
                      <a:pt x="918" y="118"/>
                      <a:pt x="916" y="137"/>
                      <a:pt x="916" y="137"/>
                    </a:cubicBezTo>
                    <a:cubicBezTo>
                      <a:pt x="916" y="136"/>
                      <a:pt x="916" y="134"/>
                      <a:pt x="915" y="133"/>
                    </a:cubicBezTo>
                    <a:cubicBezTo>
                      <a:pt x="915" y="125"/>
                      <a:pt x="915" y="118"/>
                      <a:pt x="915" y="110"/>
                    </a:cubicBezTo>
                    <a:cubicBezTo>
                      <a:pt x="913" y="76"/>
                      <a:pt x="913" y="40"/>
                      <a:pt x="913" y="40"/>
                    </a:cubicBezTo>
                    <a:cubicBezTo>
                      <a:pt x="912" y="49"/>
                      <a:pt x="908" y="79"/>
                      <a:pt x="903" y="104"/>
                    </a:cubicBezTo>
                    <a:cubicBezTo>
                      <a:pt x="903" y="99"/>
                      <a:pt x="902" y="95"/>
                      <a:pt x="902" y="90"/>
                    </a:cubicBezTo>
                    <a:cubicBezTo>
                      <a:pt x="903" y="67"/>
                      <a:pt x="903" y="45"/>
                      <a:pt x="903" y="45"/>
                    </a:cubicBezTo>
                    <a:cubicBezTo>
                      <a:pt x="903" y="53"/>
                      <a:pt x="897" y="75"/>
                      <a:pt x="891" y="96"/>
                    </a:cubicBezTo>
                    <a:cubicBezTo>
                      <a:pt x="889" y="93"/>
                      <a:pt x="888" y="89"/>
                      <a:pt x="886" y="85"/>
                    </a:cubicBezTo>
                    <a:cubicBezTo>
                      <a:pt x="893" y="51"/>
                      <a:pt x="901" y="17"/>
                      <a:pt x="901" y="17"/>
                    </a:cubicBezTo>
                    <a:cubicBezTo>
                      <a:pt x="896" y="24"/>
                      <a:pt x="881" y="95"/>
                      <a:pt x="874" y="130"/>
                    </a:cubicBezTo>
                    <a:cubicBezTo>
                      <a:pt x="874" y="130"/>
                      <a:pt x="874" y="130"/>
                      <a:pt x="874" y="130"/>
                    </a:cubicBezTo>
                    <a:cubicBezTo>
                      <a:pt x="878" y="100"/>
                      <a:pt x="875" y="63"/>
                      <a:pt x="874" y="52"/>
                    </a:cubicBezTo>
                    <a:cubicBezTo>
                      <a:pt x="876" y="72"/>
                      <a:pt x="870" y="109"/>
                      <a:pt x="866" y="128"/>
                    </a:cubicBezTo>
                    <a:cubicBezTo>
                      <a:pt x="866" y="126"/>
                      <a:pt x="866" y="123"/>
                      <a:pt x="865" y="120"/>
                    </a:cubicBezTo>
                    <a:cubicBezTo>
                      <a:pt x="867" y="99"/>
                      <a:pt x="869" y="71"/>
                      <a:pt x="870" y="65"/>
                    </a:cubicBezTo>
                    <a:cubicBezTo>
                      <a:pt x="869" y="71"/>
                      <a:pt x="866" y="89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62" y="105"/>
                      <a:pt x="862" y="105"/>
                      <a:pt x="862" y="105"/>
                    </a:cubicBezTo>
                    <a:cubicBezTo>
                      <a:pt x="859" y="125"/>
                      <a:pt x="855" y="143"/>
                      <a:pt x="855" y="143"/>
                    </a:cubicBezTo>
                    <a:cubicBezTo>
                      <a:pt x="865" y="38"/>
                      <a:pt x="858" y="25"/>
                      <a:pt x="858" y="25"/>
                    </a:cubicBezTo>
                    <a:cubicBezTo>
                      <a:pt x="861" y="42"/>
                      <a:pt x="858" y="72"/>
                      <a:pt x="853" y="96"/>
                    </a:cubicBezTo>
                    <a:cubicBezTo>
                      <a:pt x="852" y="89"/>
                      <a:pt x="850" y="80"/>
                      <a:pt x="847" y="73"/>
                    </a:cubicBezTo>
                    <a:cubicBezTo>
                      <a:pt x="846" y="65"/>
                      <a:pt x="846" y="60"/>
                      <a:pt x="846" y="60"/>
                    </a:cubicBezTo>
                    <a:cubicBezTo>
                      <a:pt x="846" y="63"/>
                      <a:pt x="846" y="67"/>
                      <a:pt x="846" y="71"/>
                    </a:cubicBezTo>
                    <a:cubicBezTo>
                      <a:pt x="844" y="69"/>
                      <a:pt x="843" y="67"/>
                      <a:pt x="842" y="65"/>
                    </a:cubicBezTo>
                    <a:cubicBezTo>
                      <a:pt x="843" y="67"/>
                      <a:pt x="844" y="70"/>
                      <a:pt x="845" y="73"/>
                    </a:cubicBezTo>
                    <a:cubicBezTo>
                      <a:pt x="845" y="82"/>
                      <a:pt x="844" y="92"/>
                      <a:pt x="843" y="101"/>
                    </a:cubicBezTo>
                    <a:cubicBezTo>
                      <a:pt x="842" y="95"/>
                      <a:pt x="839" y="88"/>
                      <a:pt x="834" y="83"/>
                    </a:cubicBezTo>
                    <a:cubicBezTo>
                      <a:pt x="834" y="74"/>
                      <a:pt x="835" y="68"/>
                      <a:pt x="835" y="68"/>
                    </a:cubicBezTo>
                    <a:cubicBezTo>
                      <a:pt x="834" y="72"/>
                      <a:pt x="833" y="76"/>
                      <a:pt x="832" y="81"/>
                    </a:cubicBezTo>
                    <a:cubicBezTo>
                      <a:pt x="832" y="81"/>
                      <a:pt x="831" y="81"/>
                      <a:pt x="831" y="80"/>
                    </a:cubicBezTo>
                    <a:cubicBezTo>
                      <a:pt x="831" y="81"/>
                      <a:pt x="832" y="81"/>
                      <a:pt x="832" y="82"/>
                    </a:cubicBezTo>
                    <a:cubicBezTo>
                      <a:pt x="830" y="101"/>
                      <a:pt x="828" y="130"/>
                      <a:pt x="828" y="142"/>
                    </a:cubicBezTo>
                    <a:cubicBezTo>
                      <a:pt x="828" y="143"/>
                      <a:pt x="827" y="144"/>
                      <a:pt x="827" y="144"/>
                    </a:cubicBezTo>
                    <a:cubicBezTo>
                      <a:pt x="827" y="140"/>
                      <a:pt x="826" y="136"/>
                      <a:pt x="826" y="131"/>
                    </a:cubicBezTo>
                    <a:cubicBezTo>
                      <a:pt x="828" y="121"/>
                      <a:pt x="829" y="112"/>
                      <a:pt x="830" y="103"/>
                    </a:cubicBezTo>
                    <a:cubicBezTo>
                      <a:pt x="829" y="108"/>
                      <a:pt x="828" y="112"/>
                      <a:pt x="827" y="117"/>
                    </a:cubicBezTo>
                    <a:cubicBezTo>
                      <a:pt x="828" y="85"/>
                      <a:pt x="834" y="45"/>
                      <a:pt x="834" y="45"/>
                    </a:cubicBezTo>
                    <a:cubicBezTo>
                      <a:pt x="827" y="60"/>
                      <a:pt x="823" y="95"/>
                      <a:pt x="820" y="120"/>
                    </a:cubicBezTo>
                    <a:cubicBezTo>
                      <a:pt x="820" y="123"/>
                      <a:pt x="819" y="125"/>
                      <a:pt x="818" y="127"/>
                    </a:cubicBezTo>
                    <a:cubicBezTo>
                      <a:pt x="818" y="103"/>
                      <a:pt x="818" y="70"/>
                      <a:pt x="818" y="70"/>
                    </a:cubicBezTo>
                    <a:cubicBezTo>
                      <a:pt x="817" y="72"/>
                      <a:pt x="817" y="76"/>
                      <a:pt x="816" y="81"/>
                    </a:cubicBezTo>
                    <a:cubicBezTo>
                      <a:pt x="815" y="73"/>
                      <a:pt x="813" y="66"/>
                      <a:pt x="810" y="60"/>
                    </a:cubicBezTo>
                    <a:cubicBezTo>
                      <a:pt x="811" y="52"/>
                      <a:pt x="812" y="46"/>
                      <a:pt x="812" y="46"/>
                    </a:cubicBezTo>
                    <a:cubicBezTo>
                      <a:pt x="809" y="51"/>
                      <a:pt x="807" y="64"/>
                      <a:pt x="806" y="79"/>
                    </a:cubicBezTo>
                    <a:cubicBezTo>
                      <a:pt x="805" y="77"/>
                      <a:pt x="805" y="75"/>
                      <a:pt x="805" y="74"/>
                    </a:cubicBezTo>
                    <a:cubicBezTo>
                      <a:pt x="803" y="83"/>
                      <a:pt x="803" y="92"/>
                      <a:pt x="803" y="102"/>
                    </a:cubicBezTo>
                    <a:cubicBezTo>
                      <a:pt x="803" y="108"/>
                      <a:pt x="802" y="115"/>
                      <a:pt x="802" y="121"/>
                    </a:cubicBezTo>
                    <a:cubicBezTo>
                      <a:pt x="801" y="123"/>
                      <a:pt x="801" y="125"/>
                      <a:pt x="800" y="127"/>
                    </a:cubicBezTo>
                    <a:cubicBezTo>
                      <a:pt x="801" y="35"/>
                      <a:pt x="798" y="34"/>
                      <a:pt x="798" y="34"/>
                    </a:cubicBezTo>
                    <a:cubicBezTo>
                      <a:pt x="800" y="49"/>
                      <a:pt x="796" y="77"/>
                      <a:pt x="792" y="102"/>
                    </a:cubicBezTo>
                    <a:cubicBezTo>
                      <a:pt x="791" y="94"/>
                      <a:pt x="790" y="85"/>
                      <a:pt x="785" y="76"/>
                    </a:cubicBezTo>
                    <a:cubicBezTo>
                      <a:pt x="786" y="70"/>
                      <a:pt x="786" y="66"/>
                      <a:pt x="786" y="66"/>
                    </a:cubicBezTo>
                    <a:cubicBezTo>
                      <a:pt x="786" y="68"/>
                      <a:pt x="785" y="71"/>
                      <a:pt x="784" y="74"/>
                    </a:cubicBezTo>
                    <a:cubicBezTo>
                      <a:pt x="784" y="73"/>
                      <a:pt x="783" y="72"/>
                      <a:pt x="783" y="71"/>
                    </a:cubicBezTo>
                    <a:cubicBezTo>
                      <a:pt x="783" y="73"/>
                      <a:pt x="784" y="74"/>
                      <a:pt x="784" y="76"/>
                    </a:cubicBezTo>
                    <a:cubicBezTo>
                      <a:pt x="782" y="83"/>
                      <a:pt x="780" y="93"/>
                      <a:pt x="779" y="103"/>
                    </a:cubicBezTo>
                    <a:cubicBezTo>
                      <a:pt x="778" y="98"/>
                      <a:pt x="778" y="94"/>
                      <a:pt x="776" y="89"/>
                    </a:cubicBezTo>
                    <a:cubicBezTo>
                      <a:pt x="777" y="96"/>
                      <a:pt x="776" y="104"/>
                      <a:pt x="773" y="112"/>
                    </a:cubicBezTo>
                    <a:cubicBezTo>
                      <a:pt x="773" y="92"/>
                      <a:pt x="772" y="70"/>
                      <a:pt x="771" y="62"/>
                    </a:cubicBezTo>
                    <a:cubicBezTo>
                      <a:pt x="772" y="67"/>
                      <a:pt x="771" y="74"/>
                      <a:pt x="771" y="82"/>
                    </a:cubicBezTo>
                    <a:cubicBezTo>
                      <a:pt x="769" y="87"/>
                      <a:pt x="767" y="94"/>
                      <a:pt x="764" y="101"/>
                    </a:cubicBezTo>
                    <a:cubicBezTo>
                      <a:pt x="764" y="91"/>
                      <a:pt x="764" y="82"/>
                      <a:pt x="764" y="75"/>
                    </a:cubicBezTo>
                    <a:cubicBezTo>
                      <a:pt x="763" y="86"/>
                      <a:pt x="761" y="102"/>
                      <a:pt x="759" y="116"/>
                    </a:cubicBezTo>
                    <a:cubicBezTo>
                      <a:pt x="757" y="123"/>
                      <a:pt x="755" y="130"/>
                      <a:pt x="753" y="136"/>
                    </a:cubicBezTo>
                    <a:cubicBezTo>
                      <a:pt x="753" y="118"/>
                      <a:pt x="756" y="89"/>
                      <a:pt x="756" y="89"/>
                    </a:cubicBezTo>
                    <a:cubicBezTo>
                      <a:pt x="755" y="93"/>
                      <a:pt x="754" y="99"/>
                      <a:pt x="751" y="106"/>
                    </a:cubicBezTo>
                    <a:cubicBezTo>
                      <a:pt x="751" y="104"/>
                      <a:pt x="751" y="101"/>
                      <a:pt x="750" y="99"/>
                    </a:cubicBezTo>
                    <a:cubicBezTo>
                      <a:pt x="750" y="96"/>
                      <a:pt x="750" y="96"/>
                      <a:pt x="750" y="96"/>
                    </a:cubicBezTo>
                    <a:cubicBezTo>
                      <a:pt x="749" y="95"/>
                      <a:pt x="749" y="95"/>
                      <a:pt x="749" y="95"/>
                    </a:cubicBezTo>
                    <a:cubicBezTo>
                      <a:pt x="749" y="104"/>
                      <a:pt x="747" y="113"/>
                      <a:pt x="745" y="122"/>
                    </a:cubicBezTo>
                    <a:cubicBezTo>
                      <a:pt x="744" y="127"/>
                      <a:pt x="742" y="131"/>
                      <a:pt x="741" y="134"/>
                    </a:cubicBezTo>
                    <a:cubicBezTo>
                      <a:pt x="741" y="130"/>
                      <a:pt x="740" y="126"/>
                      <a:pt x="740" y="122"/>
                    </a:cubicBezTo>
                    <a:cubicBezTo>
                      <a:pt x="744" y="102"/>
                      <a:pt x="751" y="76"/>
                      <a:pt x="751" y="76"/>
                    </a:cubicBezTo>
                    <a:cubicBezTo>
                      <a:pt x="746" y="82"/>
                      <a:pt x="742" y="94"/>
                      <a:pt x="737" y="105"/>
                    </a:cubicBezTo>
                    <a:cubicBezTo>
                      <a:pt x="737" y="102"/>
                      <a:pt x="736" y="98"/>
                      <a:pt x="734" y="95"/>
                    </a:cubicBezTo>
                    <a:cubicBezTo>
                      <a:pt x="735" y="74"/>
                      <a:pt x="732" y="62"/>
                      <a:pt x="732" y="62"/>
                    </a:cubicBezTo>
                    <a:cubicBezTo>
                      <a:pt x="733" y="69"/>
                      <a:pt x="733" y="78"/>
                      <a:pt x="732" y="88"/>
                    </a:cubicBezTo>
                    <a:cubicBezTo>
                      <a:pt x="729" y="83"/>
                      <a:pt x="726" y="78"/>
                      <a:pt x="722" y="73"/>
                    </a:cubicBezTo>
                    <a:cubicBezTo>
                      <a:pt x="727" y="80"/>
                      <a:pt x="729" y="92"/>
                      <a:pt x="730" y="102"/>
                    </a:cubicBezTo>
                    <a:cubicBezTo>
                      <a:pt x="729" y="108"/>
                      <a:pt x="728" y="115"/>
                      <a:pt x="727" y="120"/>
                    </a:cubicBezTo>
                    <a:cubicBezTo>
                      <a:pt x="726" y="113"/>
                      <a:pt x="725" y="106"/>
                      <a:pt x="723" y="100"/>
                    </a:cubicBezTo>
                    <a:cubicBezTo>
                      <a:pt x="724" y="89"/>
                      <a:pt x="725" y="82"/>
                      <a:pt x="725" y="82"/>
                    </a:cubicBezTo>
                    <a:cubicBezTo>
                      <a:pt x="723" y="98"/>
                      <a:pt x="723" y="98"/>
                      <a:pt x="723" y="98"/>
                    </a:cubicBezTo>
                    <a:cubicBezTo>
                      <a:pt x="722" y="94"/>
                      <a:pt x="721" y="91"/>
                      <a:pt x="719" y="88"/>
                    </a:cubicBezTo>
                    <a:cubicBezTo>
                      <a:pt x="719" y="73"/>
                      <a:pt x="719" y="60"/>
                      <a:pt x="719" y="60"/>
                    </a:cubicBezTo>
                    <a:cubicBezTo>
                      <a:pt x="719" y="72"/>
                      <a:pt x="716" y="90"/>
                      <a:pt x="716" y="90"/>
                    </a:cubicBezTo>
                    <a:cubicBezTo>
                      <a:pt x="714" y="84"/>
                      <a:pt x="714" y="64"/>
                      <a:pt x="714" y="64"/>
                    </a:cubicBezTo>
                    <a:cubicBezTo>
                      <a:pt x="714" y="68"/>
                      <a:pt x="712" y="83"/>
                      <a:pt x="710" y="98"/>
                    </a:cubicBezTo>
                    <a:cubicBezTo>
                      <a:pt x="710" y="96"/>
                      <a:pt x="710" y="95"/>
                      <a:pt x="709" y="93"/>
                    </a:cubicBezTo>
                    <a:cubicBezTo>
                      <a:pt x="708" y="88"/>
                      <a:pt x="706" y="82"/>
                      <a:pt x="705" y="76"/>
                    </a:cubicBezTo>
                    <a:cubicBezTo>
                      <a:pt x="705" y="57"/>
                      <a:pt x="704" y="42"/>
                      <a:pt x="704" y="42"/>
                    </a:cubicBezTo>
                    <a:cubicBezTo>
                      <a:pt x="705" y="49"/>
                      <a:pt x="704" y="59"/>
                      <a:pt x="703" y="70"/>
                    </a:cubicBezTo>
                    <a:cubicBezTo>
                      <a:pt x="701" y="64"/>
                      <a:pt x="698" y="57"/>
                      <a:pt x="695" y="51"/>
                    </a:cubicBezTo>
                    <a:cubicBezTo>
                      <a:pt x="695" y="52"/>
                      <a:pt x="694" y="54"/>
                      <a:pt x="694" y="55"/>
                    </a:cubicBezTo>
                    <a:cubicBezTo>
                      <a:pt x="698" y="65"/>
                      <a:pt x="700" y="74"/>
                      <a:pt x="702" y="82"/>
                    </a:cubicBezTo>
                    <a:cubicBezTo>
                      <a:pt x="701" y="88"/>
                      <a:pt x="700" y="94"/>
                      <a:pt x="699" y="100"/>
                    </a:cubicBezTo>
                    <a:cubicBezTo>
                      <a:pt x="698" y="96"/>
                      <a:pt x="697" y="92"/>
                      <a:pt x="696" y="88"/>
                    </a:cubicBezTo>
                    <a:cubicBezTo>
                      <a:pt x="697" y="78"/>
                      <a:pt x="698" y="70"/>
                      <a:pt x="698" y="70"/>
                    </a:cubicBezTo>
                    <a:cubicBezTo>
                      <a:pt x="697" y="72"/>
                      <a:pt x="696" y="78"/>
                      <a:pt x="695" y="85"/>
                    </a:cubicBezTo>
                    <a:cubicBezTo>
                      <a:pt x="693" y="82"/>
                      <a:pt x="691" y="79"/>
                      <a:pt x="689" y="76"/>
                    </a:cubicBezTo>
                    <a:cubicBezTo>
                      <a:pt x="688" y="71"/>
                      <a:pt x="688" y="66"/>
                      <a:pt x="688" y="61"/>
                    </a:cubicBezTo>
                    <a:cubicBezTo>
                      <a:pt x="688" y="73"/>
                      <a:pt x="685" y="88"/>
                      <a:pt x="683" y="101"/>
                    </a:cubicBezTo>
                    <a:cubicBezTo>
                      <a:pt x="681" y="95"/>
                      <a:pt x="679" y="90"/>
                      <a:pt x="677" y="86"/>
                    </a:cubicBezTo>
                    <a:cubicBezTo>
                      <a:pt x="678" y="73"/>
                      <a:pt x="678" y="64"/>
                      <a:pt x="678" y="64"/>
                    </a:cubicBezTo>
                    <a:cubicBezTo>
                      <a:pt x="678" y="71"/>
                      <a:pt x="676" y="82"/>
                      <a:pt x="674" y="95"/>
                    </a:cubicBezTo>
                    <a:cubicBezTo>
                      <a:pt x="672" y="87"/>
                      <a:pt x="670" y="79"/>
                      <a:pt x="666" y="71"/>
                    </a:cubicBezTo>
                    <a:cubicBezTo>
                      <a:pt x="668" y="49"/>
                      <a:pt x="669" y="30"/>
                      <a:pt x="669" y="30"/>
                    </a:cubicBezTo>
                    <a:cubicBezTo>
                      <a:pt x="667" y="35"/>
                      <a:pt x="665" y="49"/>
                      <a:pt x="663" y="65"/>
                    </a:cubicBezTo>
                    <a:cubicBezTo>
                      <a:pt x="662" y="62"/>
                      <a:pt x="660" y="59"/>
                      <a:pt x="658" y="56"/>
                    </a:cubicBezTo>
                    <a:cubicBezTo>
                      <a:pt x="658" y="63"/>
                      <a:pt x="660" y="70"/>
                      <a:pt x="662" y="78"/>
                    </a:cubicBezTo>
                    <a:cubicBezTo>
                      <a:pt x="661" y="87"/>
                      <a:pt x="660" y="97"/>
                      <a:pt x="659" y="106"/>
                    </a:cubicBezTo>
                    <a:cubicBezTo>
                      <a:pt x="659" y="105"/>
                      <a:pt x="659" y="104"/>
                      <a:pt x="658" y="103"/>
                    </a:cubicBezTo>
                    <a:cubicBezTo>
                      <a:pt x="659" y="104"/>
                      <a:pt x="659" y="106"/>
                      <a:pt x="659" y="109"/>
                    </a:cubicBezTo>
                    <a:cubicBezTo>
                      <a:pt x="658" y="120"/>
                      <a:pt x="657" y="131"/>
                      <a:pt x="657" y="138"/>
                    </a:cubicBezTo>
                    <a:cubicBezTo>
                      <a:pt x="657" y="137"/>
                      <a:pt x="656" y="135"/>
                      <a:pt x="656" y="134"/>
                    </a:cubicBezTo>
                    <a:cubicBezTo>
                      <a:pt x="655" y="99"/>
                      <a:pt x="650" y="41"/>
                      <a:pt x="650" y="41"/>
                    </a:cubicBezTo>
                    <a:cubicBezTo>
                      <a:pt x="652" y="58"/>
                      <a:pt x="650" y="86"/>
                      <a:pt x="648" y="108"/>
                    </a:cubicBezTo>
                    <a:cubicBezTo>
                      <a:pt x="647" y="105"/>
                      <a:pt x="645" y="102"/>
                      <a:pt x="644" y="99"/>
                    </a:cubicBezTo>
                    <a:cubicBezTo>
                      <a:pt x="644" y="86"/>
                      <a:pt x="644" y="73"/>
                      <a:pt x="644" y="67"/>
                    </a:cubicBezTo>
                    <a:cubicBezTo>
                      <a:pt x="643" y="75"/>
                      <a:pt x="642" y="85"/>
                      <a:pt x="641" y="94"/>
                    </a:cubicBezTo>
                    <a:cubicBezTo>
                      <a:pt x="640" y="92"/>
                      <a:pt x="639" y="91"/>
                      <a:pt x="638" y="89"/>
                    </a:cubicBezTo>
                    <a:cubicBezTo>
                      <a:pt x="639" y="91"/>
                      <a:pt x="640" y="94"/>
                      <a:pt x="640" y="97"/>
                    </a:cubicBezTo>
                    <a:cubicBezTo>
                      <a:pt x="639" y="104"/>
                      <a:pt x="638" y="110"/>
                      <a:pt x="636" y="116"/>
                    </a:cubicBezTo>
                    <a:cubicBezTo>
                      <a:pt x="635" y="110"/>
                      <a:pt x="634" y="105"/>
                      <a:pt x="632" y="101"/>
                    </a:cubicBezTo>
                    <a:cubicBezTo>
                      <a:pt x="633" y="91"/>
                      <a:pt x="634" y="83"/>
                      <a:pt x="634" y="83"/>
                    </a:cubicBezTo>
                    <a:cubicBezTo>
                      <a:pt x="634" y="86"/>
                      <a:pt x="633" y="92"/>
                      <a:pt x="631" y="98"/>
                    </a:cubicBezTo>
                    <a:cubicBezTo>
                      <a:pt x="630" y="94"/>
                      <a:pt x="629" y="91"/>
                      <a:pt x="628" y="89"/>
                    </a:cubicBezTo>
                    <a:cubicBezTo>
                      <a:pt x="629" y="74"/>
                      <a:pt x="631" y="62"/>
                      <a:pt x="631" y="62"/>
                    </a:cubicBezTo>
                    <a:cubicBezTo>
                      <a:pt x="629" y="65"/>
                      <a:pt x="628" y="75"/>
                      <a:pt x="626" y="87"/>
                    </a:cubicBezTo>
                    <a:cubicBezTo>
                      <a:pt x="624" y="83"/>
                      <a:pt x="622" y="81"/>
                      <a:pt x="619" y="78"/>
                    </a:cubicBezTo>
                    <a:cubicBezTo>
                      <a:pt x="622" y="81"/>
                      <a:pt x="624" y="84"/>
                      <a:pt x="626" y="89"/>
                    </a:cubicBezTo>
                    <a:cubicBezTo>
                      <a:pt x="625" y="96"/>
                      <a:pt x="624" y="105"/>
                      <a:pt x="623" y="113"/>
                    </a:cubicBezTo>
                    <a:cubicBezTo>
                      <a:pt x="622" y="108"/>
                      <a:pt x="621" y="104"/>
                      <a:pt x="619" y="100"/>
                    </a:cubicBezTo>
                    <a:cubicBezTo>
                      <a:pt x="618" y="86"/>
                      <a:pt x="616" y="73"/>
                      <a:pt x="615" y="68"/>
                    </a:cubicBezTo>
                    <a:cubicBezTo>
                      <a:pt x="615" y="71"/>
                      <a:pt x="616" y="76"/>
                      <a:pt x="615" y="86"/>
                    </a:cubicBezTo>
                    <a:cubicBezTo>
                      <a:pt x="615" y="87"/>
                      <a:pt x="615" y="88"/>
                      <a:pt x="615" y="90"/>
                    </a:cubicBezTo>
                    <a:cubicBezTo>
                      <a:pt x="614" y="87"/>
                      <a:pt x="612" y="84"/>
                      <a:pt x="610" y="81"/>
                    </a:cubicBezTo>
                    <a:cubicBezTo>
                      <a:pt x="613" y="85"/>
                      <a:pt x="614" y="91"/>
                      <a:pt x="614" y="96"/>
                    </a:cubicBezTo>
                    <a:cubicBezTo>
                      <a:pt x="613" y="105"/>
                      <a:pt x="611" y="115"/>
                      <a:pt x="609" y="124"/>
                    </a:cubicBezTo>
                    <a:cubicBezTo>
                      <a:pt x="609" y="113"/>
                      <a:pt x="608" y="102"/>
                      <a:pt x="606" y="91"/>
                    </a:cubicBezTo>
                    <a:cubicBezTo>
                      <a:pt x="606" y="77"/>
                      <a:pt x="606" y="77"/>
                      <a:pt x="606" y="77"/>
                    </a:cubicBezTo>
                    <a:cubicBezTo>
                      <a:pt x="609" y="35"/>
                      <a:pt x="602" y="19"/>
                      <a:pt x="602" y="19"/>
                    </a:cubicBezTo>
                    <a:cubicBezTo>
                      <a:pt x="602" y="19"/>
                      <a:pt x="605" y="31"/>
                      <a:pt x="604" y="54"/>
                    </a:cubicBezTo>
                    <a:cubicBezTo>
                      <a:pt x="604" y="59"/>
                      <a:pt x="603" y="68"/>
                      <a:pt x="602" y="78"/>
                    </a:cubicBezTo>
                    <a:cubicBezTo>
                      <a:pt x="599" y="72"/>
                      <a:pt x="596" y="66"/>
                      <a:pt x="592" y="60"/>
                    </a:cubicBezTo>
                    <a:cubicBezTo>
                      <a:pt x="592" y="61"/>
                      <a:pt x="592" y="61"/>
                      <a:pt x="592" y="61"/>
                    </a:cubicBezTo>
                    <a:cubicBezTo>
                      <a:pt x="592" y="62"/>
                      <a:pt x="592" y="63"/>
                      <a:pt x="592" y="64"/>
                    </a:cubicBezTo>
                    <a:cubicBezTo>
                      <a:pt x="591" y="44"/>
                      <a:pt x="583" y="40"/>
                      <a:pt x="583" y="40"/>
                    </a:cubicBezTo>
                    <a:cubicBezTo>
                      <a:pt x="583" y="40"/>
                      <a:pt x="589" y="44"/>
                      <a:pt x="589" y="70"/>
                    </a:cubicBezTo>
                    <a:cubicBezTo>
                      <a:pt x="589" y="76"/>
                      <a:pt x="588" y="85"/>
                      <a:pt x="586" y="94"/>
                    </a:cubicBezTo>
                    <a:cubicBezTo>
                      <a:pt x="584" y="90"/>
                      <a:pt x="581" y="86"/>
                      <a:pt x="578" y="83"/>
                    </a:cubicBezTo>
                    <a:cubicBezTo>
                      <a:pt x="581" y="87"/>
                      <a:pt x="584" y="92"/>
                      <a:pt x="586" y="97"/>
                    </a:cubicBezTo>
                    <a:cubicBezTo>
                      <a:pt x="585" y="100"/>
                      <a:pt x="585" y="103"/>
                      <a:pt x="584" y="106"/>
                    </a:cubicBezTo>
                    <a:cubicBezTo>
                      <a:pt x="584" y="104"/>
                      <a:pt x="583" y="102"/>
                      <a:pt x="583" y="100"/>
                    </a:cubicBezTo>
                    <a:cubicBezTo>
                      <a:pt x="583" y="102"/>
                      <a:pt x="583" y="105"/>
                      <a:pt x="584" y="108"/>
                    </a:cubicBezTo>
                    <a:cubicBezTo>
                      <a:pt x="583" y="111"/>
                      <a:pt x="582" y="114"/>
                      <a:pt x="581" y="117"/>
                    </a:cubicBezTo>
                    <a:cubicBezTo>
                      <a:pt x="580" y="113"/>
                      <a:pt x="579" y="108"/>
                      <a:pt x="577" y="104"/>
                    </a:cubicBezTo>
                    <a:cubicBezTo>
                      <a:pt x="577" y="87"/>
                      <a:pt x="578" y="71"/>
                      <a:pt x="578" y="71"/>
                    </a:cubicBezTo>
                    <a:cubicBezTo>
                      <a:pt x="578" y="73"/>
                      <a:pt x="576" y="84"/>
                      <a:pt x="573" y="97"/>
                    </a:cubicBezTo>
                    <a:cubicBezTo>
                      <a:pt x="572" y="95"/>
                      <a:pt x="571" y="93"/>
                      <a:pt x="570" y="92"/>
                    </a:cubicBezTo>
                    <a:cubicBezTo>
                      <a:pt x="571" y="81"/>
                      <a:pt x="572" y="72"/>
                      <a:pt x="573" y="66"/>
                    </a:cubicBezTo>
                    <a:cubicBezTo>
                      <a:pt x="572" y="73"/>
                      <a:pt x="571" y="81"/>
                      <a:pt x="569" y="90"/>
                    </a:cubicBezTo>
                    <a:cubicBezTo>
                      <a:pt x="568" y="88"/>
                      <a:pt x="566" y="86"/>
                      <a:pt x="565" y="83"/>
                    </a:cubicBezTo>
                    <a:cubicBezTo>
                      <a:pt x="568" y="26"/>
                      <a:pt x="566" y="12"/>
                      <a:pt x="566" y="12"/>
                    </a:cubicBezTo>
                    <a:cubicBezTo>
                      <a:pt x="566" y="12"/>
                      <a:pt x="566" y="18"/>
                      <a:pt x="563" y="56"/>
                    </a:cubicBezTo>
                    <a:cubicBezTo>
                      <a:pt x="562" y="64"/>
                      <a:pt x="561" y="71"/>
                      <a:pt x="560" y="78"/>
                    </a:cubicBezTo>
                    <a:cubicBezTo>
                      <a:pt x="558" y="76"/>
                      <a:pt x="556" y="73"/>
                      <a:pt x="553" y="71"/>
                    </a:cubicBezTo>
                    <a:cubicBezTo>
                      <a:pt x="554" y="48"/>
                      <a:pt x="555" y="31"/>
                      <a:pt x="555" y="31"/>
                    </a:cubicBezTo>
                    <a:cubicBezTo>
                      <a:pt x="553" y="37"/>
                      <a:pt x="551" y="52"/>
                      <a:pt x="550" y="68"/>
                    </a:cubicBezTo>
                    <a:cubicBezTo>
                      <a:pt x="548" y="66"/>
                      <a:pt x="546" y="65"/>
                      <a:pt x="544" y="63"/>
                    </a:cubicBezTo>
                    <a:cubicBezTo>
                      <a:pt x="547" y="65"/>
                      <a:pt x="548" y="67"/>
                      <a:pt x="550" y="69"/>
                    </a:cubicBezTo>
                    <a:cubicBezTo>
                      <a:pt x="549" y="82"/>
                      <a:pt x="549" y="96"/>
                      <a:pt x="548" y="109"/>
                    </a:cubicBezTo>
                    <a:cubicBezTo>
                      <a:pt x="547" y="104"/>
                      <a:pt x="545" y="99"/>
                      <a:pt x="544" y="96"/>
                    </a:cubicBezTo>
                    <a:cubicBezTo>
                      <a:pt x="545" y="104"/>
                      <a:pt x="546" y="112"/>
                      <a:pt x="548" y="120"/>
                    </a:cubicBezTo>
                    <a:cubicBezTo>
                      <a:pt x="548" y="123"/>
                      <a:pt x="548" y="126"/>
                      <a:pt x="548" y="128"/>
                    </a:cubicBezTo>
                    <a:cubicBezTo>
                      <a:pt x="547" y="125"/>
                      <a:pt x="545" y="122"/>
                      <a:pt x="544" y="118"/>
                    </a:cubicBezTo>
                    <a:cubicBezTo>
                      <a:pt x="539" y="80"/>
                      <a:pt x="532" y="28"/>
                      <a:pt x="532" y="28"/>
                    </a:cubicBezTo>
                    <a:cubicBezTo>
                      <a:pt x="532" y="39"/>
                      <a:pt x="530" y="72"/>
                      <a:pt x="528" y="100"/>
                    </a:cubicBezTo>
                    <a:cubicBezTo>
                      <a:pt x="528" y="98"/>
                      <a:pt x="527" y="97"/>
                      <a:pt x="526" y="96"/>
                    </a:cubicBezTo>
                    <a:cubicBezTo>
                      <a:pt x="527" y="97"/>
                      <a:pt x="528" y="99"/>
                      <a:pt x="528" y="100"/>
                    </a:cubicBezTo>
                    <a:cubicBezTo>
                      <a:pt x="528" y="110"/>
                      <a:pt x="527" y="120"/>
                      <a:pt x="526" y="128"/>
                    </a:cubicBezTo>
                    <a:cubicBezTo>
                      <a:pt x="526" y="128"/>
                      <a:pt x="526" y="127"/>
                      <a:pt x="526" y="127"/>
                    </a:cubicBezTo>
                    <a:cubicBezTo>
                      <a:pt x="526" y="109"/>
                      <a:pt x="524" y="87"/>
                      <a:pt x="523" y="71"/>
                    </a:cubicBezTo>
                    <a:cubicBezTo>
                      <a:pt x="524" y="68"/>
                      <a:pt x="525" y="66"/>
                      <a:pt x="526" y="64"/>
                    </a:cubicBezTo>
                    <a:cubicBezTo>
                      <a:pt x="525" y="65"/>
                      <a:pt x="524" y="67"/>
                      <a:pt x="523" y="69"/>
                    </a:cubicBezTo>
                    <a:cubicBezTo>
                      <a:pt x="522" y="61"/>
                      <a:pt x="521" y="55"/>
                      <a:pt x="521" y="53"/>
                    </a:cubicBezTo>
                    <a:cubicBezTo>
                      <a:pt x="521" y="52"/>
                      <a:pt x="522" y="52"/>
                      <a:pt x="522" y="51"/>
                    </a:cubicBezTo>
                    <a:cubicBezTo>
                      <a:pt x="522" y="51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21" y="52"/>
                      <a:pt x="521" y="52"/>
                      <a:pt x="521" y="52"/>
                    </a:cubicBezTo>
                    <a:cubicBezTo>
                      <a:pt x="519" y="54"/>
                      <a:pt x="517" y="56"/>
                      <a:pt x="516" y="57"/>
                    </a:cubicBezTo>
                    <a:cubicBezTo>
                      <a:pt x="516" y="54"/>
                      <a:pt x="516" y="52"/>
                      <a:pt x="517" y="50"/>
                    </a:cubicBezTo>
                    <a:cubicBezTo>
                      <a:pt x="520" y="46"/>
                      <a:pt x="523" y="42"/>
                      <a:pt x="527" y="38"/>
                    </a:cubicBezTo>
                    <a:cubicBezTo>
                      <a:pt x="523" y="41"/>
                      <a:pt x="520" y="44"/>
                      <a:pt x="517" y="47"/>
                    </a:cubicBezTo>
                    <a:cubicBezTo>
                      <a:pt x="517" y="43"/>
                      <a:pt x="518" y="40"/>
                      <a:pt x="518" y="40"/>
                    </a:cubicBezTo>
                    <a:cubicBezTo>
                      <a:pt x="517" y="43"/>
                      <a:pt x="516" y="46"/>
                      <a:pt x="515" y="50"/>
                    </a:cubicBezTo>
                    <a:cubicBezTo>
                      <a:pt x="507" y="58"/>
                      <a:pt x="502" y="66"/>
                      <a:pt x="498" y="75"/>
                    </a:cubicBezTo>
                    <a:cubicBezTo>
                      <a:pt x="498" y="70"/>
                      <a:pt x="497" y="66"/>
                      <a:pt x="497" y="63"/>
                    </a:cubicBezTo>
                    <a:cubicBezTo>
                      <a:pt x="500" y="57"/>
                      <a:pt x="503" y="50"/>
                      <a:pt x="507" y="42"/>
                    </a:cubicBezTo>
                    <a:cubicBezTo>
                      <a:pt x="498" y="52"/>
                      <a:pt x="492" y="61"/>
                      <a:pt x="488" y="71"/>
                    </a:cubicBezTo>
                    <a:cubicBezTo>
                      <a:pt x="487" y="70"/>
                      <a:pt x="487" y="70"/>
                      <a:pt x="486" y="69"/>
                    </a:cubicBezTo>
                    <a:cubicBezTo>
                      <a:pt x="486" y="68"/>
                      <a:pt x="486" y="67"/>
                      <a:pt x="486" y="65"/>
                    </a:cubicBezTo>
                    <a:cubicBezTo>
                      <a:pt x="492" y="53"/>
                      <a:pt x="500" y="41"/>
                      <a:pt x="511" y="25"/>
                    </a:cubicBezTo>
                    <a:cubicBezTo>
                      <a:pt x="500" y="40"/>
                      <a:pt x="492" y="51"/>
                      <a:pt x="485" y="63"/>
                    </a:cubicBezTo>
                    <a:cubicBezTo>
                      <a:pt x="483" y="45"/>
                      <a:pt x="482" y="30"/>
                      <a:pt x="482" y="30"/>
                    </a:cubicBezTo>
                    <a:cubicBezTo>
                      <a:pt x="482" y="35"/>
                      <a:pt x="482" y="49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5"/>
                      <a:pt x="482" y="65"/>
                      <a:pt x="482" y="65"/>
                    </a:cubicBezTo>
                    <a:cubicBezTo>
                      <a:pt x="482" y="67"/>
                      <a:pt x="482" y="69"/>
                      <a:pt x="482" y="71"/>
                    </a:cubicBezTo>
                    <a:cubicBezTo>
                      <a:pt x="480" y="74"/>
                      <a:pt x="479" y="78"/>
                      <a:pt x="478" y="81"/>
                    </a:cubicBezTo>
                    <a:cubicBezTo>
                      <a:pt x="479" y="78"/>
                      <a:pt x="480" y="76"/>
                      <a:pt x="482" y="73"/>
                    </a:cubicBezTo>
                    <a:cubicBezTo>
                      <a:pt x="481" y="79"/>
                      <a:pt x="481" y="85"/>
                      <a:pt x="481" y="91"/>
                    </a:cubicBezTo>
                    <a:cubicBezTo>
                      <a:pt x="481" y="93"/>
                      <a:pt x="480" y="95"/>
                      <a:pt x="480" y="97"/>
                    </a:cubicBezTo>
                    <a:cubicBezTo>
                      <a:pt x="479" y="96"/>
                      <a:pt x="478" y="95"/>
                      <a:pt x="478" y="94"/>
                    </a:cubicBezTo>
                    <a:cubicBezTo>
                      <a:pt x="478" y="91"/>
                      <a:pt x="477" y="88"/>
                      <a:pt x="477" y="85"/>
                    </a:cubicBezTo>
                    <a:cubicBezTo>
                      <a:pt x="477" y="83"/>
                      <a:pt x="478" y="82"/>
                      <a:pt x="478" y="81"/>
                    </a:cubicBezTo>
                    <a:cubicBezTo>
                      <a:pt x="478" y="82"/>
                      <a:pt x="477" y="83"/>
                      <a:pt x="477" y="84"/>
                    </a:cubicBezTo>
                    <a:cubicBezTo>
                      <a:pt x="476" y="72"/>
                      <a:pt x="476" y="62"/>
                      <a:pt x="475" y="55"/>
                    </a:cubicBezTo>
                    <a:cubicBezTo>
                      <a:pt x="476" y="54"/>
                      <a:pt x="477" y="53"/>
                      <a:pt x="479" y="52"/>
                    </a:cubicBezTo>
                    <a:cubicBezTo>
                      <a:pt x="477" y="53"/>
                      <a:pt x="476" y="54"/>
                      <a:pt x="475" y="54"/>
                    </a:cubicBezTo>
                    <a:cubicBezTo>
                      <a:pt x="475" y="49"/>
                      <a:pt x="475" y="46"/>
                      <a:pt x="475" y="46"/>
                    </a:cubicBezTo>
                    <a:cubicBezTo>
                      <a:pt x="475" y="48"/>
                      <a:pt x="474" y="51"/>
                      <a:pt x="474" y="55"/>
                    </a:cubicBezTo>
                    <a:cubicBezTo>
                      <a:pt x="471" y="57"/>
                      <a:pt x="468" y="59"/>
                      <a:pt x="465" y="62"/>
                    </a:cubicBezTo>
                    <a:cubicBezTo>
                      <a:pt x="465" y="58"/>
                      <a:pt x="465" y="54"/>
                      <a:pt x="466" y="50"/>
                    </a:cubicBezTo>
                    <a:cubicBezTo>
                      <a:pt x="469" y="45"/>
                      <a:pt x="474" y="40"/>
                      <a:pt x="479" y="34"/>
                    </a:cubicBezTo>
                    <a:cubicBezTo>
                      <a:pt x="474" y="39"/>
                      <a:pt x="470" y="44"/>
                      <a:pt x="466" y="48"/>
                    </a:cubicBezTo>
                    <a:cubicBezTo>
                      <a:pt x="467" y="21"/>
                      <a:pt x="468" y="0"/>
                      <a:pt x="468" y="0"/>
                    </a:cubicBezTo>
                    <a:cubicBezTo>
                      <a:pt x="464" y="10"/>
                      <a:pt x="462" y="35"/>
                      <a:pt x="461" y="53"/>
                    </a:cubicBezTo>
                    <a:cubicBezTo>
                      <a:pt x="460" y="54"/>
                      <a:pt x="459" y="55"/>
                      <a:pt x="459" y="56"/>
                    </a:cubicBezTo>
                    <a:cubicBezTo>
                      <a:pt x="457" y="44"/>
                      <a:pt x="454" y="33"/>
                      <a:pt x="454" y="33"/>
                    </a:cubicBezTo>
                    <a:cubicBezTo>
                      <a:pt x="456" y="39"/>
                      <a:pt x="455" y="49"/>
                      <a:pt x="454" y="62"/>
                    </a:cubicBezTo>
                    <a:cubicBezTo>
                      <a:pt x="452" y="63"/>
                      <a:pt x="451" y="65"/>
                      <a:pt x="450" y="67"/>
                    </a:cubicBezTo>
                    <a:cubicBezTo>
                      <a:pt x="449" y="65"/>
                      <a:pt x="448" y="63"/>
                      <a:pt x="447" y="62"/>
                    </a:cubicBezTo>
                    <a:cubicBezTo>
                      <a:pt x="447" y="63"/>
                      <a:pt x="448" y="65"/>
                      <a:pt x="449" y="68"/>
                    </a:cubicBezTo>
                    <a:cubicBezTo>
                      <a:pt x="447" y="72"/>
                      <a:pt x="445" y="75"/>
                      <a:pt x="443" y="78"/>
                    </a:cubicBezTo>
                    <a:cubicBezTo>
                      <a:pt x="442" y="61"/>
                      <a:pt x="442" y="48"/>
                      <a:pt x="442" y="48"/>
                    </a:cubicBezTo>
                    <a:cubicBezTo>
                      <a:pt x="442" y="52"/>
                      <a:pt x="440" y="65"/>
                      <a:pt x="438" y="80"/>
                    </a:cubicBezTo>
                    <a:cubicBezTo>
                      <a:pt x="438" y="82"/>
                      <a:pt x="437" y="85"/>
                      <a:pt x="436" y="87"/>
                    </a:cubicBezTo>
                    <a:cubicBezTo>
                      <a:pt x="435" y="86"/>
                      <a:pt x="435" y="86"/>
                      <a:pt x="434" y="85"/>
                    </a:cubicBezTo>
                    <a:cubicBezTo>
                      <a:pt x="437" y="48"/>
                      <a:pt x="440" y="9"/>
                      <a:pt x="440" y="9"/>
                    </a:cubicBezTo>
                    <a:cubicBezTo>
                      <a:pt x="436" y="20"/>
                      <a:pt x="432" y="57"/>
                      <a:pt x="428" y="89"/>
                    </a:cubicBezTo>
                    <a:cubicBezTo>
                      <a:pt x="427" y="91"/>
                      <a:pt x="427" y="92"/>
                      <a:pt x="426" y="93"/>
                    </a:cubicBezTo>
                    <a:cubicBezTo>
                      <a:pt x="425" y="92"/>
                      <a:pt x="424" y="90"/>
                      <a:pt x="423" y="89"/>
                    </a:cubicBezTo>
                    <a:cubicBezTo>
                      <a:pt x="426" y="72"/>
                      <a:pt x="429" y="55"/>
                      <a:pt x="429" y="37"/>
                    </a:cubicBezTo>
                    <a:cubicBezTo>
                      <a:pt x="429" y="34"/>
                      <a:pt x="429" y="30"/>
                      <a:pt x="429" y="26"/>
                    </a:cubicBezTo>
                    <a:cubicBezTo>
                      <a:pt x="422" y="45"/>
                      <a:pt x="421" y="66"/>
                      <a:pt x="417" y="86"/>
                    </a:cubicBezTo>
                    <a:cubicBezTo>
                      <a:pt x="417" y="85"/>
                      <a:pt x="416" y="84"/>
                      <a:pt x="416" y="84"/>
                    </a:cubicBezTo>
                    <a:cubicBezTo>
                      <a:pt x="416" y="84"/>
                      <a:pt x="417" y="85"/>
                      <a:pt x="417" y="86"/>
                    </a:cubicBezTo>
                    <a:cubicBezTo>
                      <a:pt x="417" y="88"/>
                      <a:pt x="416" y="90"/>
                      <a:pt x="416" y="92"/>
                    </a:cubicBezTo>
                    <a:cubicBezTo>
                      <a:pt x="415" y="94"/>
                      <a:pt x="415" y="96"/>
                      <a:pt x="414" y="98"/>
                    </a:cubicBezTo>
                    <a:cubicBezTo>
                      <a:pt x="414" y="97"/>
                      <a:pt x="413" y="96"/>
                      <a:pt x="412" y="95"/>
                    </a:cubicBezTo>
                    <a:cubicBezTo>
                      <a:pt x="412" y="86"/>
                      <a:pt x="411" y="78"/>
                      <a:pt x="410" y="72"/>
                    </a:cubicBezTo>
                    <a:cubicBezTo>
                      <a:pt x="413" y="67"/>
                      <a:pt x="417" y="63"/>
                      <a:pt x="421" y="59"/>
                    </a:cubicBezTo>
                    <a:cubicBezTo>
                      <a:pt x="417" y="62"/>
                      <a:pt x="413" y="66"/>
                      <a:pt x="410" y="70"/>
                    </a:cubicBezTo>
                    <a:cubicBezTo>
                      <a:pt x="409" y="64"/>
                      <a:pt x="409" y="60"/>
                      <a:pt x="408" y="57"/>
                    </a:cubicBezTo>
                    <a:cubicBezTo>
                      <a:pt x="410" y="54"/>
                      <a:pt x="411" y="52"/>
                      <a:pt x="412" y="50"/>
                    </a:cubicBezTo>
                    <a:cubicBezTo>
                      <a:pt x="411" y="51"/>
                      <a:pt x="409" y="53"/>
                      <a:pt x="408" y="54"/>
                    </a:cubicBezTo>
                    <a:cubicBezTo>
                      <a:pt x="408" y="53"/>
                      <a:pt x="408" y="52"/>
                      <a:pt x="408" y="52"/>
                    </a:cubicBezTo>
                    <a:cubicBezTo>
                      <a:pt x="408" y="53"/>
                      <a:pt x="408" y="54"/>
                      <a:pt x="408" y="54"/>
                    </a:cubicBezTo>
                    <a:cubicBezTo>
                      <a:pt x="406" y="56"/>
                      <a:pt x="404" y="58"/>
                      <a:pt x="402" y="60"/>
                    </a:cubicBezTo>
                    <a:cubicBezTo>
                      <a:pt x="401" y="54"/>
                      <a:pt x="400" y="48"/>
                      <a:pt x="399" y="44"/>
                    </a:cubicBezTo>
                    <a:cubicBezTo>
                      <a:pt x="400" y="49"/>
                      <a:pt x="399" y="56"/>
                      <a:pt x="398" y="64"/>
                    </a:cubicBezTo>
                    <a:cubicBezTo>
                      <a:pt x="397" y="66"/>
                      <a:pt x="396" y="68"/>
                      <a:pt x="395" y="69"/>
                    </a:cubicBezTo>
                    <a:cubicBezTo>
                      <a:pt x="393" y="67"/>
                      <a:pt x="392" y="66"/>
                      <a:pt x="390" y="64"/>
                    </a:cubicBezTo>
                    <a:cubicBezTo>
                      <a:pt x="392" y="66"/>
                      <a:pt x="393" y="67"/>
                      <a:pt x="395" y="69"/>
                    </a:cubicBezTo>
                    <a:cubicBezTo>
                      <a:pt x="393" y="71"/>
                      <a:pt x="392" y="73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1" y="75"/>
                      <a:pt x="391" y="75"/>
                      <a:pt x="391" y="75"/>
                    </a:cubicBezTo>
                    <a:cubicBezTo>
                      <a:pt x="390" y="76"/>
                      <a:pt x="389" y="77"/>
                      <a:pt x="388" y="79"/>
                    </a:cubicBezTo>
                    <a:cubicBezTo>
                      <a:pt x="388" y="79"/>
                      <a:pt x="388" y="79"/>
                      <a:pt x="388" y="79"/>
                    </a:cubicBezTo>
                    <a:cubicBezTo>
                      <a:pt x="389" y="60"/>
                      <a:pt x="389" y="45"/>
                      <a:pt x="389" y="45"/>
                    </a:cubicBezTo>
                    <a:cubicBezTo>
                      <a:pt x="389" y="50"/>
                      <a:pt x="387" y="61"/>
                      <a:pt x="384" y="73"/>
                    </a:cubicBezTo>
                    <a:cubicBezTo>
                      <a:pt x="383" y="73"/>
                      <a:pt x="383" y="73"/>
                      <a:pt x="383" y="72"/>
                    </a:cubicBezTo>
                    <a:cubicBezTo>
                      <a:pt x="383" y="70"/>
                      <a:pt x="383" y="68"/>
                      <a:pt x="383" y="66"/>
                    </a:cubicBezTo>
                    <a:cubicBezTo>
                      <a:pt x="383" y="65"/>
                      <a:pt x="383" y="65"/>
                      <a:pt x="384" y="65"/>
                    </a:cubicBezTo>
                    <a:cubicBezTo>
                      <a:pt x="383" y="65"/>
                      <a:pt x="383" y="65"/>
                      <a:pt x="383" y="66"/>
                    </a:cubicBezTo>
                    <a:cubicBezTo>
                      <a:pt x="383" y="64"/>
                      <a:pt x="383" y="63"/>
                      <a:pt x="383" y="61"/>
                    </a:cubicBezTo>
                    <a:cubicBezTo>
                      <a:pt x="383" y="55"/>
                      <a:pt x="383" y="49"/>
                      <a:pt x="382" y="42"/>
                    </a:cubicBezTo>
                    <a:cubicBezTo>
                      <a:pt x="385" y="27"/>
                      <a:pt x="387" y="17"/>
                      <a:pt x="387" y="17"/>
                    </a:cubicBezTo>
                    <a:cubicBezTo>
                      <a:pt x="384" y="22"/>
                      <a:pt x="377" y="49"/>
                      <a:pt x="371" y="78"/>
                    </a:cubicBezTo>
                    <a:cubicBezTo>
                      <a:pt x="371" y="78"/>
                      <a:pt x="371" y="79"/>
                      <a:pt x="371" y="79"/>
                    </a:cubicBezTo>
                    <a:cubicBezTo>
                      <a:pt x="369" y="76"/>
                      <a:pt x="367" y="72"/>
                      <a:pt x="364" y="69"/>
                    </a:cubicBezTo>
                    <a:cubicBezTo>
                      <a:pt x="366" y="67"/>
                      <a:pt x="367" y="66"/>
                      <a:pt x="369" y="64"/>
                    </a:cubicBezTo>
                    <a:cubicBezTo>
                      <a:pt x="367" y="66"/>
                      <a:pt x="365" y="67"/>
                      <a:pt x="364" y="69"/>
                    </a:cubicBezTo>
                    <a:cubicBezTo>
                      <a:pt x="363" y="68"/>
                      <a:pt x="362" y="67"/>
                      <a:pt x="361" y="66"/>
                    </a:cubicBezTo>
                    <a:cubicBezTo>
                      <a:pt x="361" y="60"/>
                      <a:pt x="361" y="55"/>
                      <a:pt x="360" y="52"/>
                    </a:cubicBezTo>
                    <a:cubicBezTo>
                      <a:pt x="361" y="56"/>
                      <a:pt x="361" y="60"/>
                      <a:pt x="360" y="64"/>
                    </a:cubicBezTo>
                    <a:cubicBezTo>
                      <a:pt x="357" y="60"/>
                      <a:pt x="352" y="55"/>
                      <a:pt x="347" y="50"/>
                    </a:cubicBezTo>
                    <a:cubicBezTo>
                      <a:pt x="350" y="55"/>
                      <a:pt x="353" y="60"/>
                      <a:pt x="356" y="65"/>
                    </a:cubicBezTo>
                    <a:cubicBezTo>
                      <a:pt x="355" y="68"/>
                      <a:pt x="355" y="71"/>
                      <a:pt x="354" y="76"/>
                    </a:cubicBezTo>
                    <a:cubicBezTo>
                      <a:pt x="352" y="74"/>
                      <a:pt x="350" y="71"/>
                      <a:pt x="348" y="68"/>
                    </a:cubicBezTo>
                    <a:cubicBezTo>
                      <a:pt x="347" y="54"/>
                      <a:pt x="346" y="41"/>
                      <a:pt x="345" y="33"/>
                    </a:cubicBezTo>
                    <a:cubicBezTo>
                      <a:pt x="346" y="42"/>
                      <a:pt x="345" y="53"/>
                      <a:pt x="344" y="65"/>
                    </a:cubicBezTo>
                    <a:cubicBezTo>
                      <a:pt x="342" y="63"/>
                      <a:pt x="340" y="61"/>
                      <a:pt x="338" y="59"/>
                    </a:cubicBezTo>
                    <a:cubicBezTo>
                      <a:pt x="340" y="61"/>
                      <a:pt x="342" y="63"/>
                      <a:pt x="344" y="65"/>
                    </a:cubicBezTo>
                    <a:cubicBezTo>
                      <a:pt x="343" y="72"/>
                      <a:pt x="342" y="80"/>
                      <a:pt x="341" y="87"/>
                    </a:cubicBezTo>
                    <a:cubicBezTo>
                      <a:pt x="341" y="87"/>
                      <a:pt x="341" y="87"/>
                      <a:pt x="341" y="87"/>
                    </a:cubicBezTo>
                    <a:cubicBezTo>
                      <a:pt x="341" y="85"/>
                      <a:pt x="340" y="84"/>
                      <a:pt x="340" y="83"/>
                    </a:cubicBezTo>
                    <a:cubicBezTo>
                      <a:pt x="340" y="82"/>
                      <a:pt x="340" y="82"/>
                      <a:pt x="340" y="81"/>
                    </a:cubicBezTo>
                    <a:cubicBezTo>
                      <a:pt x="340" y="82"/>
                      <a:pt x="340" y="82"/>
                      <a:pt x="340" y="83"/>
                    </a:cubicBezTo>
                    <a:cubicBezTo>
                      <a:pt x="339" y="81"/>
                      <a:pt x="338" y="79"/>
                      <a:pt x="337" y="77"/>
                    </a:cubicBezTo>
                    <a:cubicBezTo>
                      <a:pt x="338" y="79"/>
                      <a:pt x="339" y="81"/>
                      <a:pt x="339" y="83"/>
                    </a:cubicBezTo>
                    <a:cubicBezTo>
                      <a:pt x="338" y="85"/>
                      <a:pt x="337" y="86"/>
                      <a:pt x="336" y="88"/>
                    </a:cubicBezTo>
                    <a:cubicBezTo>
                      <a:pt x="337" y="86"/>
                      <a:pt x="338" y="85"/>
                      <a:pt x="339" y="83"/>
                    </a:cubicBezTo>
                    <a:cubicBezTo>
                      <a:pt x="340" y="85"/>
                      <a:pt x="340" y="86"/>
                      <a:pt x="340" y="88"/>
                    </a:cubicBezTo>
                    <a:cubicBezTo>
                      <a:pt x="338" y="91"/>
                      <a:pt x="337" y="95"/>
                      <a:pt x="335" y="98"/>
                    </a:cubicBezTo>
                    <a:cubicBezTo>
                      <a:pt x="335" y="97"/>
                      <a:pt x="335" y="97"/>
                      <a:pt x="334" y="97"/>
                    </a:cubicBezTo>
                    <a:cubicBezTo>
                      <a:pt x="334" y="95"/>
                      <a:pt x="334" y="94"/>
                      <a:pt x="334" y="93"/>
                    </a:cubicBezTo>
                    <a:cubicBezTo>
                      <a:pt x="334" y="91"/>
                      <a:pt x="335" y="89"/>
                      <a:pt x="336" y="88"/>
                    </a:cubicBezTo>
                    <a:cubicBezTo>
                      <a:pt x="335" y="89"/>
                      <a:pt x="334" y="91"/>
                      <a:pt x="334" y="92"/>
                    </a:cubicBezTo>
                    <a:cubicBezTo>
                      <a:pt x="333" y="92"/>
                      <a:pt x="333" y="91"/>
                      <a:pt x="333" y="91"/>
                    </a:cubicBezTo>
                    <a:cubicBezTo>
                      <a:pt x="333" y="74"/>
                      <a:pt x="332" y="60"/>
                      <a:pt x="332" y="60"/>
                    </a:cubicBezTo>
                    <a:cubicBezTo>
                      <a:pt x="332" y="65"/>
                      <a:pt x="332" y="73"/>
                      <a:pt x="331" y="81"/>
                    </a:cubicBezTo>
                    <a:cubicBezTo>
                      <a:pt x="330" y="79"/>
                      <a:pt x="330" y="76"/>
                      <a:pt x="329" y="74"/>
                    </a:cubicBezTo>
                    <a:cubicBezTo>
                      <a:pt x="330" y="79"/>
                      <a:pt x="330" y="83"/>
                      <a:pt x="330" y="88"/>
                    </a:cubicBezTo>
                    <a:cubicBezTo>
                      <a:pt x="329" y="86"/>
                      <a:pt x="328" y="84"/>
                      <a:pt x="327" y="83"/>
                    </a:cubicBezTo>
                    <a:cubicBezTo>
                      <a:pt x="328" y="85"/>
                      <a:pt x="329" y="87"/>
                      <a:pt x="330" y="89"/>
                    </a:cubicBezTo>
                    <a:cubicBezTo>
                      <a:pt x="330" y="89"/>
                      <a:pt x="330" y="89"/>
                      <a:pt x="330" y="89"/>
                    </a:cubicBezTo>
                    <a:cubicBezTo>
                      <a:pt x="330" y="93"/>
                      <a:pt x="329" y="97"/>
                      <a:pt x="329" y="101"/>
                    </a:cubicBezTo>
                    <a:cubicBezTo>
                      <a:pt x="328" y="103"/>
                      <a:pt x="327" y="104"/>
                      <a:pt x="327" y="106"/>
                    </a:cubicBezTo>
                    <a:cubicBezTo>
                      <a:pt x="325" y="100"/>
                      <a:pt x="324" y="95"/>
                      <a:pt x="322" y="90"/>
                    </a:cubicBezTo>
                    <a:cubicBezTo>
                      <a:pt x="323" y="88"/>
                      <a:pt x="325" y="85"/>
                      <a:pt x="327" y="83"/>
                    </a:cubicBezTo>
                    <a:cubicBezTo>
                      <a:pt x="325" y="85"/>
                      <a:pt x="323" y="87"/>
                      <a:pt x="321" y="89"/>
                    </a:cubicBezTo>
                    <a:cubicBezTo>
                      <a:pt x="321" y="88"/>
                      <a:pt x="321" y="87"/>
                      <a:pt x="320" y="87"/>
                    </a:cubicBezTo>
                    <a:cubicBezTo>
                      <a:pt x="320" y="76"/>
                      <a:pt x="321" y="68"/>
                      <a:pt x="321" y="68"/>
                    </a:cubicBezTo>
                    <a:cubicBezTo>
                      <a:pt x="320" y="72"/>
                      <a:pt x="319" y="77"/>
                      <a:pt x="318" y="82"/>
                    </a:cubicBezTo>
                    <a:cubicBezTo>
                      <a:pt x="318" y="81"/>
                      <a:pt x="318" y="80"/>
                      <a:pt x="318" y="80"/>
                    </a:cubicBezTo>
                    <a:cubicBezTo>
                      <a:pt x="318" y="80"/>
                      <a:pt x="318" y="81"/>
                      <a:pt x="318" y="82"/>
                    </a:cubicBezTo>
                    <a:cubicBezTo>
                      <a:pt x="317" y="80"/>
                      <a:pt x="316" y="78"/>
                      <a:pt x="314" y="75"/>
                    </a:cubicBezTo>
                    <a:cubicBezTo>
                      <a:pt x="315" y="65"/>
                      <a:pt x="316" y="56"/>
                      <a:pt x="317" y="48"/>
                    </a:cubicBezTo>
                    <a:cubicBezTo>
                      <a:pt x="316" y="55"/>
                      <a:pt x="315" y="64"/>
                      <a:pt x="313" y="73"/>
                    </a:cubicBezTo>
                    <a:cubicBezTo>
                      <a:pt x="311" y="70"/>
                      <a:pt x="309" y="67"/>
                      <a:pt x="307" y="64"/>
                    </a:cubicBezTo>
                    <a:cubicBezTo>
                      <a:pt x="307" y="62"/>
                      <a:pt x="307" y="59"/>
                      <a:pt x="307" y="57"/>
                    </a:cubicBezTo>
                    <a:cubicBezTo>
                      <a:pt x="306" y="58"/>
                      <a:pt x="306" y="60"/>
                      <a:pt x="305" y="62"/>
                    </a:cubicBezTo>
                    <a:cubicBezTo>
                      <a:pt x="303" y="59"/>
                      <a:pt x="300" y="55"/>
                      <a:pt x="297" y="52"/>
                    </a:cubicBezTo>
                    <a:cubicBezTo>
                      <a:pt x="297" y="48"/>
                      <a:pt x="298" y="46"/>
                      <a:pt x="298" y="46"/>
                    </a:cubicBezTo>
                    <a:cubicBezTo>
                      <a:pt x="297" y="48"/>
                      <a:pt x="297" y="49"/>
                      <a:pt x="296" y="51"/>
                    </a:cubicBezTo>
                    <a:cubicBezTo>
                      <a:pt x="293" y="47"/>
                      <a:pt x="289" y="43"/>
                      <a:pt x="285" y="39"/>
                    </a:cubicBezTo>
                    <a:cubicBezTo>
                      <a:pt x="285" y="37"/>
                      <a:pt x="285" y="35"/>
                      <a:pt x="285" y="34"/>
                    </a:cubicBezTo>
                    <a:cubicBezTo>
                      <a:pt x="285" y="34"/>
                      <a:pt x="285" y="36"/>
                      <a:pt x="285" y="39"/>
                    </a:cubicBezTo>
                    <a:cubicBezTo>
                      <a:pt x="283" y="37"/>
                      <a:pt x="282" y="36"/>
                      <a:pt x="280" y="34"/>
                    </a:cubicBezTo>
                    <a:cubicBezTo>
                      <a:pt x="282" y="36"/>
                      <a:pt x="283" y="38"/>
                      <a:pt x="285" y="40"/>
                    </a:cubicBezTo>
                    <a:cubicBezTo>
                      <a:pt x="285" y="40"/>
                      <a:pt x="285" y="40"/>
                      <a:pt x="285" y="41"/>
                    </a:cubicBezTo>
                    <a:cubicBezTo>
                      <a:pt x="285" y="40"/>
                      <a:pt x="285" y="40"/>
                      <a:pt x="285" y="40"/>
                    </a:cubicBezTo>
                    <a:cubicBezTo>
                      <a:pt x="289" y="45"/>
                      <a:pt x="293" y="49"/>
                      <a:pt x="296" y="53"/>
                    </a:cubicBezTo>
                    <a:cubicBezTo>
                      <a:pt x="295" y="55"/>
                      <a:pt x="295" y="59"/>
                      <a:pt x="294" y="62"/>
                    </a:cubicBezTo>
                    <a:cubicBezTo>
                      <a:pt x="292" y="60"/>
                      <a:pt x="289" y="58"/>
                      <a:pt x="286" y="56"/>
                    </a:cubicBezTo>
                    <a:cubicBezTo>
                      <a:pt x="285" y="50"/>
                      <a:pt x="285" y="44"/>
                      <a:pt x="285" y="41"/>
                    </a:cubicBezTo>
                    <a:cubicBezTo>
                      <a:pt x="285" y="45"/>
                      <a:pt x="285" y="50"/>
                      <a:pt x="284" y="55"/>
                    </a:cubicBezTo>
                    <a:cubicBezTo>
                      <a:pt x="283" y="54"/>
                      <a:pt x="282" y="53"/>
                      <a:pt x="280" y="52"/>
                    </a:cubicBezTo>
                    <a:cubicBezTo>
                      <a:pt x="282" y="53"/>
                      <a:pt x="283" y="54"/>
                      <a:pt x="284" y="55"/>
                    </a:cubicBezTo>
                    <a:cubicBezTo>
                      <a:pt x="284" y="64"/>
                      <a:pt x="283" y="73"/>
                      <a:pt x="281" y="83"/>
                    </a:cubicBezTo>
                    <a:cubicBezTo>
                      <a:pt x="281" y="82"/>
                      <a:pt x="281" y="81"/>
                      <a:pt x="281" y="81"/>
                    </a:cubicBezTo>
                    <a:cubicBezTo>
                      <a:pt x="281" y="82"/>
                      <a:pt x="281" y="82"/>
                      <a:pt x="281" y="83"/>
                    </a:cubicBezTo>
                    <a:cubicBezTo>
                      <a:pt x="281" y="88"/>
                      <a:pt x="280" y="92"/>
                      <a:pt x="279" y="97"/>
                    </a:cubicBezTo>
                    <a:cubicBezTo>
                      <a:pt x="278" y="89"/>
                      <a:pt x="275" y="81"/>
                      <a:pt x="272" y="73"/>
                    </a:cubicBezTo>
                    <a:cubicBezTo>
                      <a:pt x="272" y="72"/>
                      <a:pt x="272" y="71"/>
                      <a:pt x="272" y="71"/>
                    </a:cubicBezTo>
                    <a:cubicBezTo>
                      <a:pt x="273" y="70"/>
                      <a:pt x="274" y="69"/>
                      <a:pt x="275" y="68"/>
                    </a:cubicBezTo>
                    <a:cubicBezTo>
                      <a:pt x="277" y="72"/>
                      <a:pt x="279" y="76"/>
                      <a:pt x="281" y="81"/>
                    </a:cubicBezTo>
                    <a:cubicBezTo>
                      <a:pt x="279" y="76"/>
                      <a:pt x="278" y="72"/>
                      <a:pt x="275" y="67"/>
                    </a:cubicBezTo>
                    <a:cubicBezTo>
                      <a:pt x="276" y="67"/>
                      <a:pt x="277" y="66"/>
                      <a:pt x="277" y="65"/>
                    </a:cubicBezTo>
                    <a:cubicBezTo>
                      <a:pt x="277" y="66"/>
                      <a:pt x="276" y="66"/>
                      <a:pt x="275" y="67"/>
                    </a:cubicBezTo>
                    <a:cubicBezTo>
                      <a:pt x="269" y="54"/>
                      <a:pt x="259" y="41"/>
                      <a:pt x="247" y="25"/>
                    </a:cubicBezTo>
                    <a:cubicBezTo>
                      <a:pt x="259" y="42"/>
                      <a:pt x="268" y="55"/>
                      <a:pt x="275" y="68"/>
                    </a:cubicBezTo>
                    <a:cubicBezTo>
                      <a:pt x="274" y="68"/>
                      <a:pt x="273" y="69"/>
                      <a:pt x="272" y="70"/>
                    </a:cubicBezTo>
                    <a:cubicBezTo>
                      <a:pt x="272" y="68"/>
                      <a:pt x="272" y="66"/>
                      <a:pt x="272" y="66"/>
                    </a:cubicBezTo>
                    <a:cubicBezTo>
                      <a:pt x="272" y="68"/>
                      <a:pt x="272" y="69"/>
                      <a:pt x="271" y="71"/>
                    </a:cubicBezTo>
                    <a:cubicBezTo>
                      <a:pt x="271" y="71"/>
                      <a:pt x="271" y="71"/>
                      <a:pt x="271" y="71"/>
                    </a:cubicBezTo>
                    <a:cubicBezTo>
                      <a:pt x="267" y="61"/>
                      <a:pt x="260" y="52"/>
                      <a:pt x="251" y="42"/>
                    </a:cubicBezTo>
                    <a:cubicBezTo>
                      <a:pt x="258" y="55"/>
                      <a:pt x="263" y="65"/>
                      <a:pt x="267" y="75"/>
                    </a:cubicBezTo>
                    <a:cubicBezTo>
                      <a:pt x="266" y="76"/>
                      <a:pt x="265" y="77"/>
                      <a:pt x="264" y="77"/>
                    </a:cubicBezTo>
                    <a:cubicBezTo>
                      <a:pt x="262" y="73"/>
                      <a:pt x="260" y="70"/>
                      <a:pt x="258" y="68"/>
                    </a:cubicBezTo>
                    <a:cubicBezTo>
                      <a:pt x="258" y="63"/>
                      <a:pt x="257" y="60"/>
                      <a:pt x="257" y="60"/>
                    </a:cubicBezTo>
                    <a:cubicBezTo>
                      <a:pt x="257" y="62"/>
                      <a:pt x="257" y="64"/>
                      <a:pt x="257" y="67"/>
                    </a:cubicBezTo>
                    <a:cubicBezTo>
                      <a:pt x="251" y="57"/>
                      <a:pt x="243" y="47"/>
                      <a:pt x="232" y="38"/>
                    </a:cubicBezTo>
                    <a:cubicBezTo>
                      <a:pt x="243" y="49"/>
                      <a:pt x="251" y="60"/>
                      <a:pt x="257" y="71"/>
                    </a:cubicBezTo>
                    <a:cubicBezTo>
                      <a:pt x="256" y="75"/>
                      <a:pt x="256" y="80"/>
                      <a:pt x="256" y="85"/>
                    </a:cubicBezTo>
                    <a:cubicBezTo>
                      <a:pt x="255" y="84"/>
                      <a:pt x="255" y="84"/>
                      <a:pt x="254" y="83"/>
                    </a:cubicBezTo>
                    <a:cubicBezTo>
                      <a:pt x="255" y="84"/>
                      <a:pt x="255" y="85"/>
                      <a:pt x="256" y="86"/>
                    </a:cubicBezTo>
                    <a:cubicBezTo>
                      <a:pt x="255" y="87"/>
                      <a:pt x="255" y="88"/>
                      <a:pt x="255" y="89"/>
                    </a:cubicBezTo>
                    <a:cubicBezTo>
                      <a:pt x="253" y="92"/>
                      <a:pt x="252" y="94"/>
                      <a:pt x="250" y="97"/>
                    </a:cubicBezTo>
                    <a:cubicBezTo>
                      <a:pt x="250" y="93"/>
                      <a:pt x="250" y="90"/>
                      <a:pt x="250" y="87"/>
                    </a:cubicBezTo>
                    <a:cubicBezTo>
                      <a:pt x="251" y="84"/>
                      <a:pt x="252" y="82"/>
                      <a:pt x="253" y="80"/>
                    </a:cubicBezTo>
                    <a:cubicBezTo>
                      <a:pt x="253" y="81"/>
                      <a:pt x="254" y="82"/>
                      <a:pt x="254" y="83"/>
                    </a:cubicBezTo>
                    <a:cubicBezTo>
                      <a:pt x="254" y="81"/>
                      <a:pt x="253" y="80"/>
                      <a:pt x="253" y="79"/>
                    </a:cubicBezTo>
                    <a:cubicBezTo>
                      <a:pt x="253" y="79"/>
                      <a:pt x="253" y="78"/>
                      <a:pt x="254" y="77"/>
                    </a:cubicBezTo>
                    <a:cubicBezTo>
                      <a:pt x="253" y="77"/>
                      <a:pt x="253" y="78"/>
                      <a:pt x="252" y="79"/>
                    </a:cubicBezTo>
                    <a:cubicBezTo>
                      <a:pt x="251" y="77"/>
                      <a:pt x="251" y="76"/>
                      <a:pt x="250" y="75"/>
                    </a:cubicBezTo>
                    <a:cubicBezTo>
                      <a:pt x="251" y="77"/>
                      <a:pt x="251" y="78"/>
                      <a:pt x="252" y="79"/>
                    </a:cubicBezTo>
                    <a:cubicBezTo>
                      <a:pt x="251" y="80"/>
                      <a:pt x="251" y="81"/>
                      <a:pt x="250" y="82"/>
                    </a:cubicBezTo>
                    <a:cubicBezTo>
                      <a:pt x="250" y="73"/>
                      <a:pt x="250" y="68"/>
                      <a:pt x="250" y="68"/>
                    </a:cubicBezTo>
                    <a:cubicBezTo>
                      <a:pt x="250" y="72"/>
                      <a:pt x="249" y="78"/>
                      <a:pt x="248" y="85"/>
                    </a:cubicBezTo>
                    <a:cubicBezTo>
                      <a:pt x="246" y="90"/>
                      <a:pt x="244" y="94"/>
                      <a:pt x="242" y="99"/>
                    </a:cubicBezTo>
                    <a:cubicBezTo>
                      <a:pt x="242" y="98"/>
                      <a:pt x="241" y="97"/>
                      <a:pt x="241" y="96"/>
                    </a:cubicBezTo>
                    <a:cubicBezTo>
                      <a:pt x="242" y="92"/>
                      <a:pt x="242" y="89"/>
                      <a:pt x="242" y="89"/>
                    </a:cubicBezTo>
                    <a:cubicBezTo>
                      <a:pt x="242" y="91"/>
                      <a:pt x="241" y="92"/>
                      <a:pt x="241" y="94"/>
                    </a:cubicBezTo>
                    <a:cubicBezTo>
                      <a:pt x="240" y="91"/>
                      <a:pt x="239" y="88"/>
                      <a:pt x="239" y="85"/>
                    </a:cubicBezTo>
                    <a:cubicBezTo>
                      <a:pt x="238" y="88"/>
                      <a:pt x="238" y="91"/>
                      <a:pt x="238" y="94"/>
                    </a:cubicBezTo>
                    <a:cubicBezTo>
                      <a:pt x="238" y="97"/>
                      <a:pt x="238" y="100"/>
                      <a:pt x="238" y="103"/>
                    </a:cubicBezTo>
                    <a:cubicBezTo>
                      <a:pt x="237" y="107"/>
                      <a:pt x="236" y="112"/>
                      <a:pt x="234" y="116"/>
                    </a:cubicBezTo>
                    <a:cubicBezTo>
                      <a:pt x="233" y="112"/>
                      <a:pt x="231" y="108"/>
                      <a:pt x="230" y="104"/>
                    </a:cubicBezTo>
                    <a:cubicBezTo>
                      <a:pt x="231" y="109"/>
                      <a:pt x="232" y="115"/>
                      <a:pt x="233" y="120"/>
                    </a:cubicBezTo>
                    <a:cubicBezTo>
                      <a:pt x="231" y="124"/>
                      <a:pt x="230" y="127"/>
                      <a:pt x="228" y="130"/>
                    </a:cubicBezTo>
                    <a:cubicBezTo>
                      <a:pt x="227" y="128"/>
                      <a:pt x="227" y="126"/>
                      <a:pt x="226" y="123"/>
                    </a:cubicBezTo>
                    <a:cubicBezTo>
                      <a:pt x="227" y="115"/>
                      <a:pt x="229" y="106"/>
                      <a:pt x="231" y="99"/>
                    </a:cubicBezTo>
                    <a:cubicBezTo>
                      <a:pt x="232" y="98"/>
                      <a:pt x="232" y="97"/>
                      <a:pt x="232" y="96"/>
                    </a:cubicBezTo>
                    <a:cubicBezTo>
                      <a:pt x="232" y="96"/>
                      <a:pt x="232" y="97"/>
                      <a:pt x="232" y="97"/>
                    </a:cubicBezTo>
                    <a:cubicBezTo>
                      <a:pt x="234" y="86"/>
                      <a:pt x="237" y="76"/>
                      <a:pt x="237" y="76"/>
                    </a:cubicBezTo>
                    <a:cubicBezTo>
                      <a:pt x="232" y="83"/>
                      <a:pt x="227" y="96"/>
                      <a:pt x="222" y="109"/>
                    </a:cubicBezTo>
                    <a:cubicBezTo>
                      <a:pt x="222" y="107"/>
                      <a:pt x="222" y="106"/>
                      <a:pt x="221" y="104"/>
                    </a:cubicBezTo>
                    <a:cubicBezTo>
                      <a:pt x="223" y="97"/>
                      <a:pt x="226" y="90"/>
                      <a:pt x="229" y="84"/>
                    </a:cubicBezTo>
                    <a:cubicBezTo>
                      <a:pt x="226" y="90"/>
                      <a:pt x="223" y="96"/>
                      <a:pt x="221" y="102"/>
                    </a:cubicBezTo>
                    <a:cubicBezTo>
                      <a:pt x="221" y="102"/>
                      <a:pt x="220" y="101"/>
                      <a:pt x="220" y="101"/>
                    </a:cubicBezTo>
                    <a:cubicBezTo>
                      <a:pt x="222" y="77"/>
                      <a:pt x="218" y="62"/>
                      <a:pt x="218" y="62"/>
                    </a:cubicBezTo>
                    <a:cubicBezTo>
                      <a:pt x="219" y="69"/>
                      <a:pt x="219" y="80"/>
                      <a:pt x="218" y="91"/>
                    </a:cubicBezTo>
                    <a:cubicBezTo>
                      <a:pt x="217" y="89"/>
                      <a:pt x="217" y="88"/>
                      <a:pt x="216" y="87"/>
                    </a:cubicBezTo>
                    <a:cubicBezTo>
                      <a:pt x="216" y="88"/>
                      <a:pt x="216" y="88"/>
                      <a:pt x="216" y="88"/>
                    </a:cubicBezTo>
                    <a:cubicBezTo>
                      <a:pt x="216" y="90"/>
                      <a:pt x="217" y="93"/>
                      <a:pt x="217" y="96"/>
                    </a:cubicBezTo>
                    <a:cubicBezTo>
                      <a:pt x="216" y="101"/>
                      <a:pt x="216" y="105"/>
                      <a:pt x="215" y="110"/>
                    </a:cubicBezTo>
                    <a:cubicBezTo>
                      <a:pt x="214" y="109"/>
                      <a:pt x="214" y="107"/>
                      <a:pt x="213" y="106"/>
                    </a:cubicBezTo>
                    <a:cubicBezTo>
                      <a:pt x="214" y="103"/>
                      <a:pt x="214" y="99"/>
                      <a:pt x="215" y="96"/>
                    </a:cubicBezTo>
                    <a:cubicBezTo>
                      <a:pt x="214" y="98"/>
                      <a:pt x="213" y="100"/>
                      <a:pt x="212" y="103"/>
                    </a:cubicBezTo>
                    <a:cubicBezTo>
                      <a:pt x="211" y="101"/>
                      <a:pt x="210" y="99"/>
                      <a:pt x="210" y="98"/>
                    </a:cubicBezTo>
                    <a:cubicBezTo>
                      <a:pt x="210" y="89"/>
                      <a:pt x="211" y="82"/>
                      <a:pt x="211" y="82"/>
                    </a:cubicBezTo>
                    <a:cubicBezTo>
                      <a:pt x="209" y="97"/>
                      <a:pt x="209" y="97"/>
                      <a:pt x="209" y="97"/>
                    </a:cubicBezTo>
                    <a:cubicBezTo>
                      <a:pt x="208" y="94"/>
                      <a:pt x="207" y="92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90"/>
                      <a:pt x="206" y="90"/>
                      <a:pt x="206" y="90"/>
                    </a:cubicBezTo>
                    <a:cubicBezTo>
                      <a:pt x="206" y="89"/>
                      <a:pt x="206" y="89"/>
                      <a:pt x="205" y="88"/>
                    </a:cubicBezTo>
                    <a:cubicBezTo>
                      <a:pt x="205" y="83"/>
                      <a:pt x="205" y="78"/>
                      <a:pt x="205" y="73"/>
                    </a:cubicBezTo>
                    <a:cubicBezTo>
                      <a:pt x="208" y="70"/>
                      <a:pt x="211" y="66"/>
                      <a:pt x="214" y="63"/>
                    </a:cubicBezTo>
                    <a:cubicBezTo>
                      <a:pt x="211" y="66"/>
                      <a:pt x="208" y="69"/>
                      <a:pt x="205" y="71"/>
                    </a:cubicBezTo>
                    <a:cubicBezTo>
                      <a:pt x="205" y="65"/>
                      <a:pt x="205" y="60"/>
                      <a:pt x="205" y="60"/>
                    </a:cubicBezTo>
                    <a:cubicBezTo>
                      <a:pt x="205" y="64"/>
                      <a:pt x="204" y="68"/>
                      <a:pt x="204" y="72"/>
                    </a:cubicBezTo>
                    <a:cubicBezTo>
                      <a:pt x="203" y="74"/>
                      <a:pt x="201" y="75"/>
                      <a:pt x="200" y="77"/>
                    </a:cubicBezTo>
                    <a:cubicBezTo>
                      <a:pt x="200" y="70"/>
                      <a:pt x="200" y="64"/>
                      <a:pt x="200" y="64"/>
                    </a:cubicBezTo>
                    <a:cubicBezTo>
                      <a:pt x="200" y="66"/>
                      <a:pt x="199" y="71"/>
                      <a:pt x="198" y="78"/>
                    </a:cubicBezTo>
                    <a:cubicBezTo>
                      <a:pt x="196" y="81"/>
                      <a:pt x="193" y="85"/>
                      <a:pt x="191" y="88"/>
                    </a:cubicBezTo>
                    <a:cubicBezTo>
                      <a:pt x="191" y="64"/>
                      <a:pt x="191" y="42"/>
                      <a:pt x="191" y="42"/>
                    </a:cubicBezTo>
                    <a:cubicBezTo>
                      <a:pt x="191" y="55"/>
                      <a:pt x="188" y="77"/>
                      <a:pt x="186" y="96"/>
                    </a:cubicBezTo>
                    <a:cubicBezTo>
                      <a:pt x="184" y="100"/>
                      <a:pt x="182" y="104"/>
                      <a:pt x="181" y="107"/>
                    </a:cubicBezTo>
                    <a:cubicBezTo>
                      <a:pt x="181" y="107"/>
                      <a:pt x="180" y="106"/>
                      <a:pt x="180" y="106"/>
                    </a:cubicBezTo>
                    <a:cubicBezTo>
                      <a:pt x="182" y="87"/>
                      <a:pt x="184" y="70"/>
                      <a:pt x="184" y="70"/>
                    </a:cubicBezTo>
                    <a:cubicBezTo>
                      <a:pt x="182" y="74"/>
                      <a:pt x="179" y="98"/>
                      <a:pt x="177" y="118"/>
                    </a:cubicBezTo>
                    <a:cubicBezTo>
                      <a:pt x="177" y="118"/>
                      <a:pt x="177" y="119"/>
                      <a:pt x="177" y="120"/>
                    </a:cubicBezTo>
                    <a:cubicBezTo>
                      <a:pt x="177" y="119"/>
                      <a:pt x="177" y="119"/>
                      <a:pt x="177" y="118"/>
                    </a:cubicBezTo>
                    <a:cubicBezTo>
                      <a:pt x="177" y="119"/>
                      <a:pt x="177" y="119"/>
                      <a:pt x="177" y="120"/>
                    </a:cubicBezTo>
                    <a:cubicBezTo>
                      <a:pt x="177" y="121"/>
                      <a:pt x="176" y="121"/>
                      <a:pt x="176" y="122"/>
                    </a:cubicBezTo>
                    <a:cubicBezTo>
                      <a:pt x="176" y="115"/>
                      <a:pt x="176" y="108"/>
                      <a:pt x="176" y="101"/>
                    </a:cubicBezTo>
                    <a:cubicBezTo>
                      <a:pt x="176" y="101"/>
                      <a:pt x="176" y="100"/>
                      <a:pt x="176" y="100"/>
                    </a:cubicBezTo>
                    <a:cubicBezTo>
                      <a:pt x="176" y="100"/>
                      <a:pt x="176" y="101"/>
                      <a:pt x="176" y="101"/>
                    </a:cubicBezTo>
                    <a:cubicBezTo>
                      <a:pt x="176" y="98"/>
                      <a:pt x="176" y="94"/>
                      <a:pt x="176" y="91"/>
                    </a:cubicBezTo>
                    <a:cubicBezTo>
                      <a:pt x="177" y="88"/>
                      <a:pt x="179" y="85"/>
                      <a:pt x="181" y="83"/>
                    </a:cubicBezTo>
                    <a:cubicBezTo>
                      <a:pt x="179" y="85"/>
                      <a:pt x="177" y="87"/>
                      <a:pt x="176" y="90"/>
                    </a:cubicBezTo>
                    <a:cubicBezTo>
                      <a:pt x="175" y="79"/>
                      <a:pt x="174" y="69"/>
                      <a:pt x="174" y="61"/>
                    </a:cubicBezTo>
                    <a:cubicBezTo>
                      <a:pt x="174" y="73"/>
                      <a:pt x="172" y="87"/>
                      <a:pt x="169" y="100"/>
                    </a:cubicBezTo>
                    <a:cubicBezTo>
                      <a:pt x="165" y="107"/>
                      <a:pt x="162" y="115"/>
                      <a:pt x="160" y="123"/>
                    </a:cubicBezTo>
                    <a:cubicBezTo>
                      <a:pt x="161" y="109"/>
                      <a:pt x="162" y="92"/>
                      <a:pt x="163" y="80"/>
                    </a:cubicBezTo>
                    <a:cubicBezTo>
                      <a:pt x="165" y="73"/>
                      <a:pt x="167" y="67"/>
                      <a:pt x="167" y="61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57" y="75"/>
                      <a:pt x="153" y="88"/>
                      <a:pt x="151" y="102"/>
                    </a:cubicBezTo>
                    <a:cubicBezTo>
                      <a:pt x="151" y="102"/>
                      <a:pt x="151" y="101"/>
                      <a:pt x="151" y="101"/>
                    </a:cubicBezTo>
                    <a:cubicBezTo>
                      <a:pt x="152" y="68"/>
                      <a:pt x="155" y="30"/>
                      <a:pt x="155" y="30"/>
                    </a:cubicBezTo>
                    <a:cubicBezTo>
                      <a:pt x="153" y="38"/>
                      <a:pt x="150" y="60"/>
                      <a:pt x="148" y="83"/>
                    </a:cubicBezTo>
                    <a:cubicBezTo>
                      <a:pt x="145" y="87"/>
                      <a:pt x="143" y="92"/>
                      <a:pt x="140" y="97"/>
                    </a:cubicBezTo>
                    <a:cubicBezTo>
                      <a:pt x="140" y="91"/>
                      <a:pt x="139" y="85"/>
                      <a:pt x="139" y="79"/>
                    </a:cubicBezTo>
                    <a:cubicBezTo>
                      <a:pt x="139" y="78"/>
                      <a:pt x="139" y="78"/>
                      <a:pt x="140" y="78"/>
                    </a:cubicBezTo>
                    <a:cubicBezTo>
                      <a:pt x="139" y="78"/>
                      <a:pt x="139" y="78"/>
                      <a:pt x="139" y="78"/>
                    </a:cubicBezTo>
                    <a:cubicBezTo>
                      <a:pt x="137" y="58"/>
                      <a:pt x="136" y="41"/>
                      <a:pt x="136" y="41"/>
                    </a:cubicBezTo>
                    <a:cubicBezTo>
                      <a:pt x="137" y="52"/>
                      <a:pt x="137" y="67"/>
                      <a:pt x="136" y="82"/>
                    </a:cubicBezTo>
                    <a:cubicBezTo>
                      <a:pt x="134" y="84"/>
                      <a:pt x="132" y="87"/>
                      <a:pt x="130" y="92"/>
                    </a:cubicBezTo>
                    <a:cubicBezTo>
                      <a:pt x="130" y="82"/>
                      <a:pt x="130" y="72"/>
                      <a:pt x="130" y="68"/>
                    </a:cubicBezTo>
                    <a:cubicBezTo>
                      <a:pt x="129" y="77"/>
                      <a:pt x="128" y="88"/>
                      <a:pt x="126" y="99"/>
                    </a:cubicBezTo>
                    <a:cubicBezTo>
                      <a:pt x="125" y="94"/>
                      <a:pt x="123" y="89"/>
                      <a:pt x="121" y="84"/>
                    </a:cubicBezTo>
                    <a:cubicBezTo>
                      <a:pt x="123" y="90"/>
                      <a:pt x="125" y="96"/>
                      <a:pt x="126" y="101"/>
                    </a:cubicBezTo>
                    <a:cubicBezTo>
                      <a:pt x="125" y="105"/>
                      <a:pt x="124" y="109"/>
                      <a:pt x="123" y="113"/>
                    </a:cubicBezTo>
                    <a:cubicBezTo>
                      <a:pt x="123" y="110"/>
                      <a:pt x="123" y="108"/>
                      <a:pt x="123" y="105"/>
                    </a:cubicBezTo>
                    <a:cubicBezTo>
                      <a:pt x="122" y="108"/>
                      <a:pt x="122" y="115"/>
                      <a:pt x="122" y="119"/>
                    </a:cubicBezTo>
                    <a:cubicBezTo>
                      <a:pt x="122" y="120"/>
                      <a:pt x="121" y="122"/>
                      <a:pt x="121" y="124"/>
                    </a:cubicBezTo>
                    <a:cubicBezTo>
                      <a:pt x="120" y="125"/>
                      <a:pt x="120" y="127"/>
                      <a:pt x="120" y="128"/>
                    </a:cubicBezTo>
                    <a:cubicBezTo>
                      <a:pt x="119" y="124"/>
                      <a:pt x="118" y="120"/>
                      <a:pt x="117" y="116"/>
                    </a:cubicBezTo>
                    <a:cubicBezTo>
                      <a:pt x="118" y="108"/>
                      <a:pt x="119" y="100"/>
                      <a:pt x="119" y="94"/>
                    </a:cubicBezTo>
                    <a:cubicBezTo>
                      <a:pt x="120" y="92"/>
                      <a:pt x="120" y="91"/>
                      <a:pt x="121" y="89"/>
                    </a:cubicBezTo>
                    <a:cubicBezTo>
                      <a:pt x="121" y="90"/>
                      <a:pt x="120" y="91"/>
                      <a:pt x="119" y="92"/>
                    </a:cubicBezTo>
                    <a:cubicBezTo>
                      <a:pt x="120" y="87"/>
                      <a:pt x="120" y="83"/>
                      <a:pt x="120" y="83"/>
                    </a:cubicBezTo>
                    <a:cubicBezTo>
                      <a:pt x="120" y="85"/>
                      <a:pt x="119" y="89"/>
                      <a:pt x="118" y="93"/>
                    </a:cubicBezTo>
                    <a:cubicBezTo>
                      <a:pt x="117" y="96"/>
                      <a:pt x="115" y="99"/>
                      <a:pt x="114" y="102"/>
                    </a:cubicBezTo>
                    <a:cubicBezTo>
                      <a:pt x="113" y="101"/>
                      <a:pt x="113" y="100"/>
                      <a:pt x="113" y="99"/>
                    </a:cubicBezTo>
                    <a:cubicBezTo>
                      <a:pt x="115" y="80"/>
                      <a:pt x="117" y="62"/>
                      <a:pt x="117" y="62"/>
                    </a:cubicBezTo>
                    <a:cubicBezTo>
                      <a:pt x="115" y="66"/>
                      <a:pt x="113" y="80"/>
                      <a:pt x="111" y="95"/>
                    </a:cubicBezTo>
                    <a:cubicBezTo>
                      <a:pt x="111" y="94"/>
                      <a:pt x="110" y="92"/>
                      <a:pt x="109" y="90"/>
                    </a:cubicBezTo>
                    <a:cubicBezTo>
                      <a:pt x="110" y="92"/>
                      <a:pt x="111" y="94"/>
                      <a:pt x="111" y="96"/>
                    </a:cubicBezTo>
                    <a:cubicBezTo>
                      <a:pt x="111" y="101"/>
                      <a:pt x="110" y="106"/>
                      <a:pt x="110" y="110"/>
                    </a:cubicBezTo>
                    <a:cubicBezTo>
                      <a:pt x="109" y="113"/>
                      <a:pt x="108" y="116"/>
                      <a:pt x="107" y="118"/>
                    </a:cubicBezTo>
                    <a:cubicBezTo>
                      <a:pt x="106" y="94"/>
                      <a:pt x="101" y="64"/>
                      <a:pt x="101" y="64"/>
                    </a:cubicBezTo>
                    <a:cubicBezTo>
                      <a:pt x="101" y="64"/>
                      <a:pt x="101" y="73"/>
                      <a:pt x="101" y="82"/>
                    </a:cubicBezTo>
                    <a:cubicBezTo>
                      <a:pt x="102" y="88"/>
                      <a:pt x="101" y="98"/>
                      <a:pt x="99" y="108"/>
                    </a:cubicBezTo>
                    <a:cubicBezTo>
                      <a:pt x="98" y="111"/>
                      <a:pt x="97" y="114"/>
                      <a:pt x="96" y="117"/>
                    </a:cubicBezTo>
                    <a:cubicBezTo>
                      <a:pt x="96" y="108"/>
                      <a:pt x="95" y="99"/>
                      <a:pt x="93" y="90"/>
                    </a:cubicBezTo>
                    <a:cubicBezTo>
                      <a:pt x="97" y="78"/>
                      <a:pt x="101" y="66"/>
                      <a:pt x="100" y="56"/>
                    </a:cubicBezTo>
                    <a:cubicBezTo>
                      <a:pt x="97" y="62"/>
                      <a:pt x="95" y="67"/>
                      <a:pt x="92" y="72"/>
                    </a:cubicBezTo>
                    <a:cubicBezTo>
                      <a:pt x="95" y="34"/>
                      <a:pt x="88" y="19"/>
                      <a:pt x="88" y="19"/>
                    </a:cubicBezTo>
                    <a:cubicBezTo>
                      <a:pt x="88" y="19"/>
                      <a:pt x="92" y="31"/>
                      <a:pt x="90" y="54"/>
                    </a:cubicBezTo>
                    <a:cubicBezTo>
                      <a:pt x="89" y="61"/>
                      <a:pt x="88" y="74"/>
                      <a:pt x="87" y="88"/>
                    </a:cubicBezTo>
                    <a:cubicBezTo>
                      <a:pt x="85" y="92"/>
                      <a:pt x="85" y="97"/>
                      <a:pt x="84" y="101"/>
                    </a:cubicBezTo>
                    <a:cubicBezTo>
                      <a:pt x="83" y="98"/>
                      <a:pt x="82" y="95"/>
                      <a:pt x="81" y="91"/>
                    </a:cubicBezTo>
                    <a:cubicBezTo>
                      <a:pt x="81" y="89"/>
                      <a:pt x="81" y="87"/>
                      <a:pt x="82" y="85"/>
                    </a:cubicBezTo>
                    <a:cubicBezTo>
                      <a:pt x="81" y="87"/>
                      <a:pt x="81" y="88"/>
                      <a:pt x="80" y="90"/>
                    </a:cubicBezTo>
                    <a:cubicBezTo>
                      <a:pt x="80" y="89"/>
                      <a:pt x="79" y="88"/>
                      <a:pt x="79" y="87"/>
                    </a:cubicBezTo>
                    <a:cubicBezTo>
                      <a:pt x="79" y="83"/>
                      <a:pt x="79" y="78"/>
                      <a:pt x="79" y="74"/>
                    </a:cubicBezTo>
                    <a:cubicBezTo>
                      <a:pt x="79" y="46"/>
                      <a:pt x="69" y="40"/>
                      <a:pt x="69" y="40"/>
                    </a:cubicBezTo>
                    <a:cubicBezTo>
                      <a:pt x="69" y="40"/>
                      <a:pt x="75" y="44"/>
                      <a:pt x="75" y="70"/>
                    </a:cubicBezTo>
                    <a:cubicBezTo>
                      <a:pt x="75" y="84"/>
                      <a:pt x="70" y="108"/>
                      <a:pt x="65" y="125"/>
                    </a:cubicBezTo>
                    <a:cubicBezTo>
                      <a:pt x="65" y="123"/>
                      <a:pt x="65" y="120"/>
                      <a:pt x="64" y="118"/>
                    </a:cubicBezTo>
                    <a:cubicBezTo>
                      <a:pt x="65" y="111"/>
                      <a:pt x="66" y="105"/>
                      <a:pt x="66" y="98"/>
                    </a:cubicBezTo>
                    <a:cubicBezTo>
                      <a:pt x="65" y="101"/>
                      <a:pt x="64" y="104"/>
                      <a:pt x="64" y="107"/>
                    </a:cubicBezTo>
                    <a:cubicBezTo>
                      <a:pt x="64" y="107"/>
                      <a:pt x="64" y="106"/>
                      <a:pt x="64" y="106"/>
                    </a:cubicBezTo>
                    <a:cubicBezTo>
                      <a:pt x="64" y="97"/>
                      <a:pt x="65" y="83"/>
                      <a:pt x="72" y="75"/>
                    </a:cubicBezTo>
                    <a:cubicBezTo>
                      <a:pt x="68" y="77"/>
                      <a:pt x="65" y="82"/>
                      <a:pt x="63" y="87"/>
                    </a:cubicBezTo>
                    <a:cubicBezTo>
                      <a:pt x="64" y="78"/>
                      <a:pt x="64" y="71"/>
                      <a:pt x="64" y="71"/>
                    </a:cubicBezTo>
                    <a:cubicBezTo>
                      <a:pt x="64" y="75"/>
                      <a:pt x="60" y="97"/>
                      <a:pt x="56" y="116"/>
                    </a:cubicBezTo>
                    <a:cubicBezTo>
                      <a:pt x="56" y="114"/>
                      <a:pt x="56" y="112"/>
                      <a:pt x="55" y="110"/>
                    </a:cubicBezTo>
                    <a:cubicBezTo>
                      <a:pt x="56" y="99"/>
                      <a:pt x="57" y="87"/>
                      <a:pt x="58" y="78"/>
                    </a:cubicBezTo>
                    <a:cubicBezTo>
                      <a:pt x="60" y="71"/>
                      <a:pt x="62" y="63"/>
                      <a:pt x="65" y="55"/>
                    </a:cubicBezTo>
                    <a:cubicBezTo>
                      <a:pt x="65" y="54"/>
                      <a:pt x="64" y="52"/>
                      <a:pt x="64" y="51"/>
                    </a:cubicBezTo>
                    <a:cubicBezTo>
                      <a:pt x="62" y="54"/>
                      <a:pt x="61" y="57"/>
                      <a:pt x="60" y="60"/>
                    </a:cubicBezTo>
                    <a:cubicBezTo>
                      <a:pt x="60" y="60"/>
                      <a:pt x="60" y="59"/>
                      <a:pt x="60" y="59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56" y="70"/>
                      <a:pt x="53" y="80"/>
                      <a:pt x="51" y="89"/>
                    </a:cubicBezTo>
                    <a:cubicBezTo>
                      <a:pt x="56" y="30"/>
                      <a:pt x="53" y="15"/>
                      <a:pt x="52" y="13"/>
                    </a:cubicBezTo>
                    <a:cubicBezTo>
                      <a:pt x="52" y="15"/>
                      <a:pt x="53" y="22"/>
                      <a:pt x="49" y="56"/>
                    </a:cubicBezTo>
                    <a:cubicBezTo>
                      <a:pt x="47" y="68"/>
                      <a:pt x="46" y="80"/>
                      <a:pt x="44" y="91"/>
                    </a:cubicBezTo>
                    <a:cubicBezTo>
                      <a:pt x="43" y="85"/>
                      <a:pt x="41" y="79"/>
                      <a:pt x="39" y="74"/>
                    </a:cubicBezTo>
                    <a:cubicBezTo>
                      <a:pt x="40" y="51"/>
                      <a:pt x="41" y="31"/>
                      <a:pt x="41" y="31"/>
                    </a:cubicBezTo>
                    <a:cubicBezTo>
                      <a:pt x="39" y="38"/>
                      <a:pt x="38" y="53"/>
                      <a:pt x="36" y="69"/>
                    </a:cubicBezTo>
                    <a:cubicBezTo>
                      <a:pt x="35" y="68"/>
                      <a:pt x="34" y="67"/>
                      <a:pt x="33" y="65"/>
                    </a:cubicBezTo>
                    <a:cubicBezTo>
                      <a:pt x="34" y="67"/>
                      <a:pt x="35" y="69"/>
                      <a:pt x="36" y="71"/>
                    </a:cubicBezTo>
                    <a:cubicBezTo>
                      <a:pt x="36" y="71"/>
                      <a:pt x="36" y="72"/>
                      <a:pt x="36" y="73"/>
                    </a:cubicBezTo>
                    <a:cubicBezTo>
                      <a:pt x="33" y="77"/>
                      <a:pt x="31" y="81"/>
                      <a:pt x="28" y="86"/>
                    </a:cubicBezTo>
                    <a:cubicBezTo>
                      <a:pt x="28" y="85"/>
                      <a:pt x="27" y="84"/>
                      <a:pt x="26" y="83"/>
                    </a:cubicBezTo>
                    <a:cubicBezTo>
                      <a:pt x="24" y="61"/>
                      <a:pt x="21" y="38"/>
                      <a:pt x="18" y="28"/>
                    </a:cubicBezTo>
                    <a:cubicBezTo>
                      <a:pt x="18" y="28"/>
                      <a:pt x="22" y="54"/>
                      <a:pt x="26" y="83"/>
                    </a:cubicBezTo>
                    <a:cubicBezTo>
                      <a:pt x="25" y="82"/>
                      <a:pt x="24" y="81"/>
                      <a:pt x="22" y="80"/>
                    </a:cubicBezTo>
                    <a:cubicBezTo>
                      <a:pt x="24" y="81"/>
                      <a:pt x="25" y="82"/>
                      <a:pt x="26" y="84"/>
                    </a:cubicBezTo>
                    <a:cubicBezTo>
                      <a:pt x="26" y="85"/>
                      <a:pt x="26" y="86"/>
                      <a:pt x="26" y="88"/>
                    </a:cubicBezTo>
                    <a:cubicBezTo>
                      <a:pt x="26" y="86"/>
                      <a:pt x="26" y="85"/>
                      <a:pt x="26" y="84"/>
                    </a:cubicBezTo>
                    <a:cubicBezTo>
                      <a:pt x="27" y="85"/>
                      <a:pt x="27" y="86"/>
                      <a:pt x="28" y="87"/>
                    </a:cubicBezTo>
                    <a:cubicBezTo>
                      <a:pt x="27" y="88"/>
                      <a:pt x="27" y="89"/>
                      <a:pt x="26" y="90"/>
                    </a:cubicBezTo>
                    <a:cubicBezTo>
                      <a:pt x="26" y="89"/>
                      <a:pt x="26" y="88"/>
                      <a:pt x="26" y="88"/>
                    </a:cubicBezTo>
                    <a:cubicBezTo>
                      <a:pt x="26" y="88"/>
                      <a:pt x="26" y="89"/>
                      <a:pt x="26" y="90"/>
                    </a:cubicBezTo>
                    <a:cubicBezTo>
                      <a:pt x="24" y="95"/>
                      <a:pt x="23" y="100"/>
                      <a:pt x="21" y="105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4"/>
                      <a:pt x="22" y="104"/>
                      <a:pt x="22" y="103"/>
                    </a:cubicBezTo>
                    <a:cubicBezTo>
                      <a:pt x="22" y="104"/>
                      <a:pt x="21" y="104"/>
                      <a:pt x="21" y="105"/>
                    </a:cubicBezTo>
                    <a:cubicBezTo>
                      <a:pt x="19" y="95"/>
                      <a:pt x="16" y="87"/>
                      <a:pt x="14" y="81"/>
                    </a:cubicBezTo>
                    <a:cubicBezTo>
                      <a:pt x="15" y="85"/>
                      <a:pt x="16" y="90"/>
                      <a:pt x="17" y="95"/>
                    </a:cubicBezTo>
                    <a:cubicBezTo>
                      <a:pt x="17" y="100"/>
                      <a:pt x="16" y="104"/>
                      <a:pt x="15" y="109"/>
                    </a:cubicBezTo>
                    <a:cubicBezTo>
                      <a:pt x="17" y="104"/>
                      <a:pt x="17" y="100"/>
                      <a:pt x="17" y="95"/>
                    </a:cubicBezTo>
                    <a:cubicBezTo>
                      <a:pt x="18" y="100"/>
                      <a:pt x="19" y="105"/>
                      <a:pt x="20" y="110"/>
                    </a:cubicBezTo>
                    <a:cubicBezTo>
                      <a:pt x="20" y="110"/>
                      <a:pt x="20" y="111"/>
                      <a:pt x="20" y="111"/>
                    </a:cubicBezTo>
                    <a:cubicBezTo>
                      <a:pt x="19" y="116"/>
                      <a:pt x="17" y="122"/>
                      <a:pt x="15" y="127"/>
                    </a:cubicBezTo>
                    <a:cubicBezTo>
                      <a:pt x="14" y="125"/>
                      <a:pt x="14" y="123"/>
                      <a:pt x="13" y="120"/>
                    </a:cubicBezTo>
                    <a:cubicBezTo>
                      <a:pt x="14" y="117"/>
                      <a:pt x="15" y="113"/>
                      <a:pt x="15" y="109"/>
                    </a:cubicBezTo>
                    <a:cubicBezTo>
                      <a:pt x="15" y="112"/>
                      <a:pt x="14" y="116"/>
                      <a:pt x="13" y="119"/>
                    </a:cubicBezTo>
                    <a:cubicBezTo>
                      <a:pt x="11" y="111"/>
                      <a:pt x="10" y="103"/>
                      <a:pt x="10" y="95"/>
                    </a:cubicBezTo>
                    <a:cubicBezTo>
                      <a:pt x="9" y="96"/>
                      <a:pt x="9" y="96"/>
                      <a:pt x="9" y="96"/>
                    </a:cubicBezTo>
                    <a:cubicBezTo>
                      <a:pt x="9" y="98"/>
                      <a:pt x="9" y="98"/>
                      <a:pt x="9" y="98"/>
                    </a:cubicBezTo>
                    <a:cubicBezTo>
                      <a:pt x="9" y="97"/>
                      <a:pt x="9" y="96"/>
                      <a:pt x="9" y="95"/>
                    </a:cubicBezTo>
                    <a:cubicBezTo>
                      <a:pt x="9" y="84"/>
                      <a:pt x="7" y="69"/>
                      <a:pt x="1" y="60"/>
                    </a:cubicBezTo>
                    <a:cubicBezTo>
                      <a:pt x="6" y="70"/>
                      <a:pt x="7" y="82"/>
                      <a:pt x="7" y="93"/>
                    </a:cubicBezTo>
                    <a:cubicBezTo>
                      <a:pt x="7" y="101"/>
                      <a:pt x="5" y="109"/>
                      <a:pt x="3" y="116"/>
                    </a:cubicBezTo>
                    <a:cubicBezTo>
                      <a:pt x="1" y="115"/>
                      <a:pt x="1" y="117"/>
                      <a:pt x="2" y="120"/>
                    </a:cubicBezTo>
                    <a:cubicBezTo>
                      <a:pt x="2" y="121"/>
                      <a:pt x="2" y="121"/>
                      <a:pt x="1" y="122"/>
                    </a:cubicBezTo>
                    <a:cubicBezTo>
                      <a:pt x="1" y="121"/>
                      <a:pt x="1" y="120"/>
                      <a:pt x="0" y="119"/>
                    </a:cubicBezTo>
                    <a:cubicBezTo>
                      <a:pt x="0" y="166"/>
                      <a:pt x="0" y="166"/>
                      <a:pt x="0" y="166"/>
                    </a:cubicBezTo>
                    <a:cubicBezTo>
                      <a:pt x="90" y="166"/>
                      <a:pt x="179" y="166"/>
                      <a:pt x="269" y="166"/>
                    </a:cubicBezTo>
                    <a:cubicBezTo>
                      <a:pt x="269" y="166"/>
                      <a:pt x="269" y="166"/>
                      <a:pt x="269" y="166"/>
                    </a:cubicBezTo>
                    <a:cubicBezTo>
                      <a:pt x="306" y="166"/>
                      <a:pt x="342" y="166"/>
                      <a:pt x="379" y="166"/>
                    </a:cubicBezTo>
                    <a:cubicBezTo>
                      <a:pt x="416" y="166"/>
                      <a:pt x="453" y="166"/>
                      <a:pt x="490" y="166"/>
                    </a:cubicBezTo>
                    <a:cubicBezTo>
                      <a:pt x="490" y="166"/>
                      <a:pt x="490" y="166"/>
                      <a:pt x="490" y="166"/>
                    </a:cubicBezTo>
                    <a:cubicBezTo>
                      <a:pt x="746" y="166"/>
                      <a:pt x="1002" y="166"/>
                      <a:pt x="1258" y="166"/>
                    </a:cubicBezTo>
                    <a:cubicBezTo>
                      <a:pt x="1258" y="166"/>
                      <a:pt x="1258" y="166"/>
                      <a:pt x="1258" y="166"/>
                    </a:cubicBezTo>
                    <a:cubicBezTo>
                      <a:pt x="1430" y="166"/>
                      <a:pt x="1602" y="166"/>
                      <a:pt x="1773" y="166"/>
                    </a:cubicBezTo>
                    <a:cubicBezTo>
                      <a:pt x="1871" y="166"/>
                      <a:pt x="1969" y="166"/>
                      <a:pt x="2066" y="166"/>
                    </a:cubicBezTo>
                    <a:cubicBezTo>
                      <a:pt x="2066" y="166"/>
                      <a:pt x="2066" y="166"/>
                      <a:pt x="2066" y="166"/>
                    </a:cubicBezTo>
                    <a:cubicBezTo>
                      <a:pt x="2103" y="166"/>
                      <a:pt x="2140" y="166"/>
                      <a:pt x="2177" y="166"/>
                    </a:cubicBezTo>
                    <a:cubicBezTo>
                      <a:pt x="2214" y="166"/>
                      <a:pt x="2251" y="166"/>
                      <a:pt x="2288" y="166"/>
                    </a:cubicBezTo>
                    <a:cubicBezTo>
                      <a:pt x="2288" y="166"/>
                      <a:pt x="2288" y="166"/>
                      <a:pt x="2288" y="166"/>
                    </a:cubicBezTo>
                    <a:cubicBezTo>
                      <a:pt x="2544" y="166"/>
                      <a:pt x="2800" y="166"/>
                      <a:pt x="3056" y="166"/>
                    </a:cubicBezTo>
                    <a:cubicBezTo>
                      <a:pt x="3056" y="166"/>
                      <a:pt x="3056" y="166"/>
                      <a:pt x="3056" y="166"/>
                    </a:cubicBezTo>
                    <a:cubicBezTo>
                      <a:pt x="3228" y="166"/>
                      <a:pt x="3400" y="166"/>
                      <a:pt x="3571" y="166"/>
                    </a:cubicBezTo>
                    <a:cubicBezTo>
                      <a:pt x="3669" y="166"/>
                      <a:pt x="3767" y="166"/>
                      <a:pt x="3864" y="166"/>
                    </a:cubicBezTo>
                    <a:cubicBezTo>
                      <a:pt x="3864" y="166"/>
                      <a:pt x="3864" y="166"/>
                      <a:pt x="3864" y="166"/>
                    </a:cubicBezTo>
                    <a:cubicBezTo>
                      <a:pt x="3901" y="166"/>
                      <a:pt x="3938" y="166"/>
                      <a:pt x="3975" y="166"/>
                    </a:cubicBezTo>
                    <a:cubicBezTo>
                      <a:pt x="4012" y="166"/>
                      <a:pt x="4049" y="166"/>
                      <a:pt x="4086" y="166"/>
                    </a:cubicBezTo>
                    <a:cubicBezTo>
                      <a:pt x="4086" y="166"/>
                      <a:pt x="4086" y="166"/>
                      <a:pt x="4086" y="166"/>
                    </a:cubicBezTo>
                    <a:cubicBezTo>
                      <a:pt x="4312" y="166"/>
                      <a:pt x="4537" y="166"/>
                      <a:pt x="4763" y="166"/>
                    </a:cubicBezTo>
                    <a:cubicBezTo>
                      <a:pt x="4763" y="137"/>
                      <a:pt x="4763" y="137"/>
                      <a:pt x="4763" y="137"/>
                    </a:cubicBezTo>
                    <a:cubicBezTo>
                      <a:pt x="4760" y="119"/>
                      <a:pt x="4755" y="101"/>
                      <a:pt x="4748" y="85"/>
                    </a:cubicBezTo>
                    <a:close/>
                    <a:moveTo>
                      <a:pt x="1" y="154"/>
                    </a:moveTo>
                    <a:cubicBezTo>
                      <a:pt x="1" y="154"/>
                      <a:pt x="1" y="154"/>
                      <a:pt x="1" y="154"/>
                    </a:cubicBezTo>
                    <a:cubicBezTo>
                      <a:pt x="1" y="152"/>
                      <a:pt x="2" y="151"/>
                      <a:pt x="2" y="150"/>
                    </a:cubicBezTo>
                    <a:cubicBezTo>
                      <a:pt x="2" y="150"/>
                      <a:pt x="2" y="151"/>
                      <a:pt x="2" y="151"/>
                    </a:cubicBezTo>
                    <a:cubicBezTo>
                      <a:pt x="2" y="152"/>
                      <a:pt x="1" y="153"/>
                      <a:pt x="1" y="154"/>
                    </a:cubicBezTo>
                    <a:close/>
                    <a:moveTo>
                      <a:pt x="7" y="119"/>
                    </a:move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7" y="120"/>
                      <a:pt x="7" y="120"/>
                      <a:pt x="7" y="119"/>
                    </a:cubicBezTo>
                    <a:close/>
                    <a:moveTo>
                      <a:pt x="6" y="138"/>
                    </a:moveTo>
                    <a:cubicBezTo>
                      <a:pt x="6" y="137"/>
                      <a:pt x="5" y="135"/>
                      <a:pt x="5" y="134"/>
                    </a:cubicBezTo>
                    <a:cubicBezTo>
                      <a:pt x="5" y="134"/>
                      <a:pt x="5" y="134"/>
                      <a:pt x="5" y="133"/>
                    </a:cubicBezTo>
                    <a:cubicBezTo>
                      <a:pt x="5" y="134"/>
                      <a:pt x="6" y="135"/>
                      <a:pt x="6" y="137"/>
                    </a:cubicBezTo>
                    <a:cubicBezTo>
                      <a:pt x="6" y="137"/>
                      <a:pt x="6" y="138"/>
                      <a:pt x="6" y="138"/>
                    </a:cubicBezTo>
                    <a:close/>
                    <a:moveTo>
                      <a:pt x="5" y="133"/>
                    </a:moveTo>
                    <a:cubicBezTo>
                      <a:pt x="5" y="132"/>
                      <a:pt x="5" y="131"/>
                      <a:pt x="6" y="130"/>
                    </a:cubicBezTo>
                    <a:cubicBezTo>
                      <a:pt x="6" y="131"/>
                      <a:pt x="7" y="133"/>
                      <a:pt x="7" y="134"/>
                    </a:cubicBezTo>
                    <a:cubicBezTo>
                      <a:pt x="7" y="135"/>
                      <a:pt x="7" y="135"/>
                      <a:pt x="7" y="136"/>
                    </a:cubicBezTo>
                    <a:cubicBezTo>
                      <a:pt x="6" y="134"/>
                      <a:pt x="5" y="133"/>
                      <a:pt x="5" y="133"/>
                    </a:cubicBezTo>
                    <a:close/>
                    <a:moveTo>
                      <a:pt x="8" y="145"/>
                    </a:moveTo>
                    <a:cubicBezTo>
                      <a:pt x="8" y="144"/>
                      <a:pt x="7" y="143"/>
                      <a:pt x="7" y="143"/>
                    </a:cubicBezTo>
                    <a:cubicBezTo>
                      <a:pt x="8" y="142"/>
                      <a:pt x="8" y="141"/>
                      <a:pt x="8" y="140"/>
                    </a:cubicBezTo>
                    <a:cubicBezTo>
                      <a:pt x="8" y="140"/>
                      <a:pt x="8" y="140"/>
                      <a:pt x="8" y="140"/>
                    </a:cubicBezTo>
                    <a:cubicBezTo>
                      <a:pt x="8" y="141"/>
                      <a:pt x="8" y="142"/>
                      <a:pt x="8" y="143"/>
                    </a:cubicBezTo>
                    <a:cubicBezTo>
                      <a:pt x="8" y="143"/>
                      <a:pt x="8" y="144"/>
                      <a:pt x="8" y="145"/>
                    </a:cubicBezTo>
                    <a:close/>
                    <a:moveTo>
                      <a:pt x="18" y="134"/>
                    </a:moveTo>
                    <a:cubicBezTo>
                      <a:pt x="18" y="134"/>
                      <a:pt x="18" y="133"/>
                      <a:pt x="18" y="133"/>
                    </a:cubicBezTo>
                    <a:cubicBezTo>
                      <a:pt x="18" y="132"/>
                      <a:pt x="18" y="130"/>
                      <a:pt x="18" y="129"/>
                    </a:cubicBezTo>
                    <a:cubicBezTo>
                      <a:pt x="18" y="130"/>
                      <a:pt x="18" y="132"/>
                      <a:pt x="18" y="134"/>
                    </a:cubicBezTo>
                    <a:close/>
                    <a:moveTo>
                      <a:pt x="28" y="120"/>
                    </a:moveTo>
                    <a:cubicBezTo>
                      <a:pt x="28" y="117"/>
                      <a:pt x="28" y="115"/>
                      <a:pt x="28" y="112"/>
                    </a:cubicBezTo>
                    <a:cubicBezTo>
                      <a:pt x="28" y="111"/>
                      <a:pt x="28" y="111"/>
                      <a:pt x="28" y="110"/>
                    </a:cubicBezTo>
                    <a:cubicBezTo>
                      <a:pt x="28" y="114"/>
                      <a:pt x="29" y="116"/>
                      <a:pt x="29" y="119"/>
                    </a:cubicBezTo>
                    <a:cubicBezTo>
                      <a:pt x="29" y="119"/>
                      <a:pt x="29" y="120"/>
                      <a:pt x="28" y="120"/>
                    </a:cubicBezTo>
                    <a:close/>
                    <a:moveTo>
                      <a:pt x="30" y="115"/>
                    </a:moveTo>
                    <a:cubicBezTo>
                      <a:pt x="29" y="112"/>
                      <a:pt x="29" y="108"/>
                      <a:pt x="28" y="104"/>
                    </a:cubicBezTo>
                    <a:cubicBezTo>
                      <a:pt x="29" y="101"/>
                      <a:pt x="29" y="97"/>
                      <a:pt x="30" y="93"/>
                    </a:cubicBezTo>
                    <a:cubicBezTo>
                      <a:pt x="31" y="98"/>
                      <a:pt x="32" y="102"/>
                      <a:pt x="32" y="104"/>
                    </a:cubicBezTo>
                    <a:cubicBezTo>
                      <a:pt x="32" y="108"/>
                      <a:pt x="31" y="111"/>
                      <a:pt x="30" y="115"/>
                    </a:cubicBezTo>
                    <a:close/>
                    <a:moveTo>
                      <a:pt x="35" y="102"/>
                    </a:moveTo>
                    <a:cubicBezTo>
                      <a:pt x="35" y="102"/>
                      <a:pt x="35" y="102"/>
                      <a:pt x="35" y="103"/>
                    </a:cubicBezTo>
                    <a:cubicBezTo>
                      <a:pt x="34" y="99"/>
                      <a:pt x="33" y="94"/>
                      <a:pt x="31" y="90"/>
                    </a:cubicBezTo>
                    <a:cubicBezTo>
                      <a:pt x="32" y="84"/>
                      <a:pt x="34" y="78"/>
                      <a:pt x="36" y="73"/>
                    </a:cubicBezTo>
                    <a:cubicBezTo>
                      <a:pt x="36" y="83"/>
                      <a:pt x="35" y="93"/>
                      <a:pt x="35" y="102"/>
                    </a:cubicBezTo>
                    <a:close/>
                    <a:moveTo>
                      <a:pt x="41" y="111"/>
                    </a:moveTo>
                    <a:cubicBezTo>
                      <a:pt x="41" y="111"/>
                      <a:pt x="41" y="111"/>
                      <a:pt x="41" y="111"/>
                    </a:cubicBezTo>
                    <a:cubicBezTo>
                      <a:pt x="41" y="114"/>
                      <a:pt x="40" y="116"/>
                      <a:pt x="40" y="119"/>
                    </a:cubicBezTo>
                    <a:cubicBezTo>
                      <a:pt x="39" y="114"/>
                      <a:pt x="39" y="108"/>
                      <a:pt x="39" y="103"/>
                    </a:cubicBezTo>
                    <a:cubicBezTo>
                      <a:pt x="39" y="97"/>
                      <a:pt x="39" y="91"/>
                      <a:pt x="41" y="85"/>
                    </a:cubicBezTo>
                    <a:cubicBezTo>
                      <a:pt x="40" y="87"/>
                      <a:pt x="39" y="89"/>
                      <a:pt x="38" y="92"/>
                    </a:cubicBezTo>
                    <a:cubicBezTo>
                      <a:pt x="38" y="87"/>
                      <a:pt x="39" y="82"/>
                      <a:pt x="39" y="77"/>
                    </a:cubicBezTo>
                    <a:cubicBezTo>
                      <a:pt x="41" y="83"/>
                      <a:pt x="43" y="90"/>
                      <a:pt x="43" y="96"/>
                    </a:cubicBezTo>
                    <a:cubicBezTo>
                      <a:pt x="43" y="101"/>
                      <a:pt x="42" y="106"/>
                      <a:pt x="41" y="111"/>
                    </a:cubicBezTo>
                    <a:close/>
                    <a:moveTo>
                      <a:pt x="48" y="127"/>
                    </a:moveTo>
                    <a:cubicBezTo>
                      <a:pt x="47" y="132"/>
                      <a:pt x="46" y="134"/>
                      <a:pt x="46" y="134"/>
                    </a:cubicBezTo>
                    <a:cubicBezTo>
                      <a:pt x="47" y="129"/>
                      <a:pt x="47" y="125"/>
                      <a:pt x="48" y="120"/>
                    </a:cubicBezTo>
                    <a:cubicBezTo>
                      <a:pt x="48" y="123"/>
                      <a:pt x="48" y="125"/>
                      <a:pt x="48" y="127"/>
                    </a:cubicBezTo>
                    <a:close/>
                    <a:moveTo>
                      <a:pt x="79" y="92"/>
                    </a:moveTo>
                    <a:cubicBezTo>
                      <a:pt x="79" y="91"/>
                      <a:pt x="79" y="90"/>
                      <a:pt x="79" y="89"/>
                    </a:cubicBezTo>
                    <a:cubicBezTo>
                      <a:pt x="79" y="89"/>
                      <a:pt x="79" y="90"/>
                      <a:pt x="80" y="91"/>
                    </a:cubicBezTo>
                    <a:cubicBezTo>
                      <a:pt x="79" y="91"/>
                      <a:pt x="79" y="92"/>
                      <a:pt x="79" y="92"/>
                    </a:cubicBezTo>
                    <a:close/>
                    <a:moveTo>
                      <a:pt x="82" y="130"/>
                    </a:moveTo>
                    <a:cubicBezTo>
                      <a:pt x="81" y="132"/>
                      <a:pt x="81" y="134"/>
                      <a:pt x="81" y="136"/>
                    </a:cubicBezTo>
                    <a:cubicBezTo>
                      <a:pt x="80" y="127"/>
                      <a:pt x="80" y="119"/>
                      <a:pt x="80" y="110"/>
                    </a:cubicBezTo>
                    <a:cubicBezTo>
                      <a:pt x="80" y="105"/>
                      <a:pt x="80" y="99"/>
                      <a:pt x="80" y="93"/>
                    </a:cubicBezTo>
                    <a:cubicBezTo>
                      <a:pt x="82" y="99"/>
                      <a:pt x="82" y="104"/>
                      <a:pt x="83" y="109"/>
                    </a:cubicBezTo>
                    <a:cubicBezTo>
                      <a:pt x="82" y="116"/>
                      <a:pt x="82" y="123"/>
                      <a:pt x="82" y="130"/>
                    </a:cubicBezTo>
                    <a:close/>
                    <a:moveTo>
                      <a:pt x="91" y="140"/>
                    </a:moveTo>
                    <a:cubicBezTo>
                      <a:pt x="91" y="140"/>
                      <a:pt x="91" y="139"/>
                      <a:pt x="91" y="139"/>
                    </a:cubicBezTo>
                    <a:cubicBezTo>
                      <a:pt x="92" y="100"/>
                      <a:pt x="92" y="100"/>
                      <a:pt x="92" y="100"/>
                    </a:cubicBezTo>
                    <a:cubicBezTo>
                      <a:pt x="92" y="106"/>
                      <a:pt x="93" y="113"/>
                      <a:pt x="93" y="119"/>
                    </a:cubicBezTo>
                    <a:cubicBezTo>
                      <a:pt x="93" y="122"/>
                      <a:pt x="93" y="126"/>
                      <a:pt x="93" y="129"/>
                    </a:cubicBezTo>
                    <a:cubicBezTo>
                      <a:pt x="92" y="133"/>
                      <a:pt x="92" y="136"/>
                      <a:pt x="91" y="140"/>
                    </a:cubicBezTo>
                    <a:close/>
                    <a:moveTo>
                      <a:pt x="112" y="105"/>
                    </a:moveTo>
                    <a:cubicBezTo>
                      <a:pt x="112" y="104"/>
                      <a:pt x="112" y="102"/>
                      <a:pt x="112" y="101"/>
                    </a:cubicBezTo>
                    <a:cubicBezTo>
                      <a:pt x="113" y="102"/>
                      <a:pt x="113" y="103"/>
                      <a:pt x="113" y="103"/>
                    </a:cubicBezTo>
                    <a:cubicBezTo>
                      <a:pt x="113" y="104"/>
                      <a:pt x="112" y="105"/>
                      <a:pt x="112" y="105"/>
                    </a:cubicBezTo>
                    <a:close/>
                    <a:moveTo>
                      <a:pt x="135" y="101"/>
                    </a:moveTo>
                    <a:cubicBezTo>
                      <a:pt x="135" y="101"/>
                      <a:pt x="135" y="101"/>
                      <a:pt x="134" y="100"/>
                    </a:cubicBezTo>
                    <a:cubicBezTo>
                      <a:pt x="135" y="101"/>
                      <a:pt x="135" y="101"/>
                      <a:pt x="135" y="101"/>
                    </a:cubicBezTo>
                    <a:cubicBezTo>
                      <a:pt x="134" y="111"/>
                      <a:pt x="133" y="119"/>
                      <a:pt x="132" y="126"/>
                    </a:cubicBezTo>
                    <a:cubicBezTo>
                      <a:pt x="131" y="122"/>
                      <a:pt x="131" y="118"/>
                      <a:pt x="130" y="114"/>
                    </a:cubicBezTo>
                    <a:cubicBezTo>
                      <a:pt x="130" y="109"/>
                      <a:pt x="130" y="103"/>
                      <a:pt x="130" y="98"/>
                    </a:cubicBezTo>
                    <a:cubicBezTo>
                      <a:pt x="131" y="92"/>
                      <a:pt x="133" y="87"/>
                      <a:pt x="136" y="82"/>
                    </a:cubicBezTo>
                    <a:cubicBezTo>
                      <a:pt x="136" y="89"/>
                      <a:pt x="135" y="95"/>
                      <a:pt x="135" y="101"/>
                    </a:cubicBezTo>
                    <a:close/>
                    <a:moveTo>
                      <a:pt x="145" y="117"/>
                    </a:moveTo>
                    <a:cubicBezTo>
                      <a:pt x="144" y="114"/>
                      <a:pt x="144" y="110"/>
                      <a:pt x="144" y="106"/>
                    </a:cubicBezTo>
                    <a:cubicBezTo>
                      <a:pt x="144" y="99"/>
                      <a:pt x="144" y="90"/>
                      <a:pt x="148" y="83"/>
                    </a:cubicBezTo>
                    <a:cubicBezTo>
                      <a:pt x="146" y="95"/>
                      <a:pt x="145" y="107"/>
                      <a:pt x="145" y="117"/>
                    </a:cubicBezTo>
                    <a:close/>
                    <a:moveTo>
                      <a:pt x="150" y="108"/>
                    </a:moveTo>
                    <a:cubicBezTo>
                      <a:pt x="150" y="106"/>
                      <a:pt x="151" y="104"/>
                      <a:pt x="151" y="102"/>
                    </a:cubicBezTo>
                    <a:cubicBezTo>
                      <a:pt x="151" y="102"/>
                      <a:pt x="151" y="102"/>
                      <a:pt x="151" y="103"/>
                    </a:cubicBezTo>
                    <a:cubicBezTo>
                      <a:pt x="151" y="104"/>
                      <a:pt x="151" y="106"/>
                      <a:pt x="150" y="108"/>
                    </a:cubicBezTo>
                    <a:close/>
                    <a:moveTo>
                      <a:pt x="156" y="111"/>
                    </a:moveTo>
                    <a:cubicBezTo>
                      <a:pt x="156" y="103"/>
                      <a:pt x="159" y="95"/>
                      <a:pt x="161" y="87"/>
                    </a:cubicBezTo>
                    <a:cubicBezTo>
                      <a:pt x="160" y="95"/>
                      <a:pt x="158" y="104"/>
                      <a:pt x="157" y="113"/>
                    </a:cubicBezTo>
                    <a:cubicBezTo>
                      <a:pt x="156" y="112"/>
                      <a:pt x="156" y="112"/>
                      <a:pt x="156" y="111"/>
                    </a:cubicBezTo>
                    <a:close/>
                    <a:moveTo>
                      <a:pt x="180" y="110"/>
                    </a:moveTo>
                    <a:cubicBezTo>
                      <a:pt x="180" y="109"/>
                      <a:pt x="180" y="108"/>
                      <a:pt x="180" y="107"/>
                    </a:cubicBezTo>
                    <a:cubicBezTo>
                      <a:pt x="180" y="107"/>
                      <a:pt x="180" y="108"/>
                      <a:pt x="180" y="108"/>
                    </a:cubicBezTo>
                    <a:cubicBezTo>
                      <a:pt x="180" y="109"/>
                      <a:pt x="180" y="109"/>
                      <a:pt x="180" y="110"/>
                    </a:cubicBezTo>
                    <a:close/>
                    <a:moveTo>
                      <a:pt x="191" y="125"/>
                    </a:moveTo>
                    <a:cubicBezTo>
                      <a:pt x="191" y="123"/>
                      <a:pt x="191" y="122"/>
                      <a:pt x="191" y="120"/>
                    </a:cubicBezTo>
                    <a:cubicBezTo>
                      <a:pt x="191" y="121"/>
                      <a:pt x="191" y="122"/>
                      <a:pt x="191" y="123"/>
                    </a:cubicBezTo>
                    <a:cubicBezTo>
                      <a:pt x="191" y="123"/>
                      <a:pt x="191" y="124"/>
                      <a:pt x="191" y="125"/>
                    </a:cubicBezTo>
                    <a:close/>
                    <a:moveTo>
                      <a:pt x="194" y="115"/>
                    </a:moveTo>
                    <a:cubicBezTo>
                      <a:pt x="194" y="117"/>
                      <a:pt x="193" y="118"/>
                      <a:pt x="193" y="119"/>
                    </a:cubicBezTo>
                    <a:cubicBezTo>
                      <a:pt x="192" y="118"/>
                      <a:pt x="191" y="116"/>
                      <a:pt x="191" y="114"/>
                    </a:cubicBezTo>
                    <a:cubicBezTo>
                      <a:pt x="191" y="110"/>
                      <a:pt x="191" y="105"/>
                      <a:pt x="191" y="100"/>
                    </a:cubicBezTo>
                    <a:cubicBezTo>
                      <a:pt x="193" y="94"/>
                      <a:pt x="195" y="89"/>
                      <a:pt x="198" y="84"/>
                    </a:cubicBezTo>
                    <a:cubicBezTo>
                      <a:pt x="197" y="93"/>
                      <a:pt x="195" y="105"/>
                      <a:pt x="194" y="115"/>
                    </a:cubicBezTo>
                    <a:close/>
                    <a:moveTo>
                      <a:pt x="202" y="90"/>
                    </a:moveTo>
                    <a:cubicBezTo>
                      <a:pt x="201" y="88"/>
                      <a:pt x="200" y="84"/>
                      <a:pt x="200" y="80"/>
                    </a:cubicBezTo>
                    <a:cubicBezTo>
                      <a:pt x="200" y="80"/>
                      <a:pt x="200" y="80"/>
                      <a:pt x="200" y="80"/>
                    </a:cubicBezTo>
                    <a:cubicBezTo>
                      <a:pt x="201" y="81"/>
                      <a:pt x="202" y="83"/>
                      <a:pt x="203" y="84"/>
                    </a:cubicBezTo>
                    <a:cubicBezTo>
                      <a:pt x="202" y="88"/>
                      <a:pt x="202" y="90"/>
                      <a:pt x="202" y="90"/>
                    </a:cubicBezTo>
                    <a:close/>
                    <a:moveTo>
                      <a:pt x="203" y="83"/>
                    </a:moveTo>
                    <a:cubicBezTo>
                      <a:pt x="202" y="81"/>
                      <a:pt x="201" y="80"/>
                      <a:pt x="201" y="79"/>
                    </a:cubicBezTo>
                    <a:cubicBezTo>
                      <a:pt x="202" y="78"/>
                      <a:pt x="203" y="76"/>
                      <a:pt x="204" y="75"/>
                    </a:cubicBezTo>
                    <a:cubicBezTo>
                      <a:pt x="203" y="78"/>
                      <a:pt x="203" y="81"/>
                      <a:pt x="203" y="83"/>
                    </a:cubicBezTo>
                    <a:close/>
                    <a:moveTo>
                      <a:pt x="209" y="104"/>
                    </a:moveTo>
                    <a:cubicBezTo>
                      <a:pt x="210" y="105"/>
                      <a:pt x="210" y="107"/>
                      <a:pt x="210" y="109"/>
                    </a:cubicBezTo>
                    <a:cubicBezTo>
                      <a:pt x="210" y="111"/>
                      <a:pt x="209" y="112"/>
                      <a:pt x="209" y="114"/>
                    </a:cubicBezTo>
                    <a:cubicBezTo>
                      <a:pt x="209" y="110"/>
                      <a:pt x="209" y="107"/>
                      <a:pt x="209" y="104"/>
                    </a:cubicBezTo>
                    <a:close/>
                    <a:moveTo>
                      <a:pt x="205" y="91"/>
                    </a:moveTo>
                    <a:cubicBezTo>
                      <a:pt x="206" y="91"/>
                      <a:pt x="206" y="91"/>
                      <a:pt x="206" y="91"/>
                    </a:cubicBezTo>
                    <a:cubicBezTo>
                      <a:pt x="206" y="91"/>
                      <a:pt x="206" y="91"/>
                      <a:pt x="205" y="91"/>
                    </a:cubicBezTo>
                    <a:close/>
                    <a:moveTo>
                      <a:pt x="206" y="124"/>
                    </a:moveTo>
                    <a:cubicBezTo>
                      <a:pt x="206" y="114"/>
                      <a:pt x="206" y="102"/>
                      <a:pt x="205" y="91"/>
                    </a:cubicBezTo>
                    <a:cubicBezTo>
                      <a:pt x="206" y="91"/>
                      <a:pt x="206" y="91"/>
                      <a:pt x="206" y="91"/>
                    </a:cubicBezTo>
                    <a:cubicBezTo>
                      <a:pt x="207" y="94"/>
                      <a:pt x="208" y="98"/>
                      <a:pt x="209" y="101"/>
                    </a:cubicBezTo>
                    <a:cubicBezTo>
                      <a:pt x="207" y="120"/>
                      <a:pt x="207" y="120"/>
                      <a:pt x="207" y="120"/>
                    </a:cubicBezTo>
                    <a:cubicBezTo>
                      <a:pt x="206" y="121"/>
                      <a:pt x="206" y="122"/>
                      <a:pt x="206" y="124"/>
                    </a:cubicBezTo>
                    <a:close/>
                    <a:moveTo>
                      <a:pt x="208" y="136"/>
                    </a:moveTo>
                    <a:cubicBezTo>
                      <a:pt x="208" y="134"/>
                      <a:pt x="208" y="133"/>
                      <a:pt x="208" y="131"/>
                    </a:cubicBezTo>
                    <a:cubicBezTo>
                      <a:pt x="209" y="126"/>
                      <a:pt x="211" y="121"/>
                      <a:pt x="212" y="116"/>
                    </a:cubicBezTo>
                    <a:cubicBezTo>
                      <a:pt x="212" y="118"/>
                      <a:pt x="212" y="121"/>
                      <a:pt x="213" y="123"/>
                    </a:cubicBezTo>
                    <a:cubicBezTo>
                      <a:pt x="213" y="124"/>
                      <a:pt x="212" y="124"/>
                      <a:pt x="212" y="124"/>
                    </a:cubicBezTo>
                    <a:cubicBezTo>
                      <a:pt x="211" y="128"/>
                      <a:pt x="210" y="132"/>
                      <a:pt x="208" y="136"/>
                    </a:cubicBezTo>
                    <a:close/>
                    <a:moveTo>
                      <a:pt x="212" y="141"/>
                    </a:moveTo>
                    <a:cubicBezTo>
                      <a:pt x="212" y="141"/>
                      <a:pt x="213" y="141"/>
                      <a:pt x="213" y="140"/>
                    </a:cubicBezTo>
                    <a:cubicBezTo>
                      <a:pt x="213" y="139"/>
                      <a:pt x="213" y="137"/>
                      <a:pt x="214" y="135"/>
                    </a:cubicBezTo>
                    <a:cubicBezTo>
                      <a:pt x="214" y="135"/>
                      <a:pt x="214" y="135"/>
                      <a:pt x="214" y="135"/>
                    </a:cubicBezTo>
                    <a:cubicBezTo>
                      <a:pt x="214" y="137"/>
                      <a:pt x="213" y="139"/>
                      <a:pt x="212" y="141"/>
                    </a:cubicBezTo>
                    <a:close/>
                    <a:moveTo>
                      <a:pt x="219" y="119"/>
                    </a:moveTo>
                    <a:cubicBezTo>
                      <a:pt x="219" y="119"/>
                      <a:pt x="218" y="118"/>
                      <a:pt x="218" y="118"/>
                    </a:cubicBezTo>
                    <a:cubicBezTo>
                      <a:pt x="218" y="116"/>
                      <a:pt x="219" y="115"/>
                      <a:pt x="219" y="113"/>
                    </a:cubicBezTo>
                    <a:cubicBezTo>
                      <a:pt x="219" y="112"/>
                      <a:pt x="219" y="112"/>
                      <a:pt x="219" y="111"/>
                    </a:cubicBezTo>
                    <a:cubicBezTo>
                      <a:pt x="220" y="112"/>
                      <a:pt x="220" y="113"/>
                      <a:pt x="220" y="115"/>
                    </a:cubicBezTo>
                    <a:cubicBezTo>
                      <a:pt x="220" y="116"/>
                      <a:pt x="219" y="118"/>
                      <a:pt x="219" y="119"/>
                    </a:cubicBezTo>
                    <a:close/>
                    <a:moveTo>
                      <a:pt x="226" y="136"/>
                    </a:moveTo>
                    <a:cubicBezTo>
                      <a:pt x="225" y="135"/>
                      <a:pt x="225" y="134"/>
                      <a:pt x="224" y="133"/>
                    </a:cubicBezTo>
                    <a:cubicBezTo>
                      <a:pt x="224" y="132"/>
                      <a:pt x="224" y="132"/>
                      <a:pt x="224" y="131"/>
                    </a:cubicBezTo>
                    <a:cubicBezTo>
                      <a:pt x="225" y="133"/>
                      <a:pt x="225" y="134"/>
                      <a:pt x="226" y="136"/>
                    </a:cubicBezTo>
                    <a:cubicBezTo>
                      <a:pt x="226" y="136"/>
                      <a:pt x="226" y="136"/>
                      <a:pt x="226" y="136"/>
                    </a:cubicBezTo>
                    <a:close/>
                    <a:moveTo>
                      <a:pt x="240" y="118"/>
                    </a:moveTo>
                    <a:cubicBezTo>
                      <a:pt x="240" y="118"/>
                      <a:pt x="240" y="117"/>
                      <a:pt x="240" y="117"/>
                    </a:cubicBezTo>
                    <a:cubicBezTo>
                      <a:pt x="240" y="117"/>
                      <a:pt x="240" y="117"/>
                      <a:pt x="240" y="117"/>
                    </a:cubicBezTo>
                    <a:cubicBezTo>
                      <a:pt x="240" y="118"/>
                      <a:pt x="240" y="118"/>
                      <a:pt x="240" y="118"/>
                    </a:cubicBezTo>
                    <a:close/>
                    <a:moveTo>
                      <a:pt x="246" y="105"/>
                    </a:moveTo>
                    <a:cubicBezTo>
                      <a:pt x="245" y="106"/>
                      <a:pt x="244" y="107"/>
                      <a:pt x="244" y="109"/>
                    </a:cubicBezTo>
                    <a:cubicBezTo>
                      <a:pt x="244" y="107"/>
                      <a:pt x="243" y="106"/>
                      <a:pt x="243" y="104"/>
                    </a:cubicBezTo>
                    <a:cubicBezTo>
                      <a:pt x="244" y="101"/>
                      <a:pt x="246" y="98"/>
                      <a:pt x="247" y="94"/>
                    </a:cubicBezTo>
                    <a:cubicBezTo>
                      <a:pt x="247" y="98"/>
                      <a:pt x="246" y="101"/>
                      <a:pt x="246" y="105"/>
                    </a:cubicBezTo>
                    <a:close/>
                    <a:moveTo>
                      <a:pt x="252" y="138"/>
                    </a:moveTo>
                    <a:cubicBezTo>
                      <a:pt x="251" y="137"/>
                      <a:pt x="251" y="136"/>
                      <a:pt x="251" y="135"/>
                    </a:cubicBezTo>
                    <a:cubicBezTo>
                      <a:pt x="251" y="133"/>
                      <a:pt x="251" y="131"/>
                      <a:pt x="251" y="129"/>
                    </a:cubicBezTo>
                    <a:cubicBezTo>
                      <a:pt x="251" y="131"/>
                      <a:pt x="251" y="133"/>
                      <a:pt x="252" y="134"/>
                    </a:cubicBezTo>
                    <a:cubicBezTo>
                      <a:pt x="252" y="135"/>
                      <a:pt x="252" y="137"/>
                      <a:pt x="252" y="138"/>
                    </a:cubicBezTo>
                    <a:close/>
                    <a:moveTo>
                      <a:pt x="253" y="123"/>
                    </a:moveTo>
                    <a:cubicBezTo>
                      <a:pt x="252" y="121"/>
                      <a:pt x="251" y="118"/>
                      <a:pt x="251" y="116"/>
                    </a:cubicBezTo>
                    <a:cubicBezTo>
                      <a:pt x="252" y="112"/>
                      <a:pt x="253" y="107"/>
                      <a:pt x="254" y="103"/>
                    </a:cubicBezTo>
                    <a:cubicBezTo>
                      <a:pt x="254" y="110"/>
                      <a:pt x="253" y="117"/>
                      <a:pt x="253" y="123"/>
                    </a:cubicBezTo>
                    <a:close/>
                    <a:moveTo>
                      <a:pt x="258" y="69"/>
                    </a:moveTo>
                    <a:cubicBezTo>
                      <a:pt x="260" y="72"/>
                      <a:pt x="262" y="75"/>
                      <a:pt x="264" y="79"/>
                    </a:cubicBezTo>
                    <a:cubicBezTo>
                      <a:pt x="263" y="79"/>
                      <a:pt x="263" y="79"/>
                      <a:pt x="263" y="79"/>
                    </a:cubicBezTo>
                    <a:cubicBezTo>
                      <a:pt x="262" y="76"/>
                      <a:pt x="260" y="72"/>
                      <a:pt x="258" y="69"/>
                    </a:cubicBezTo>
                    <a:cubicBezTo>
                      <a:pt x="258" y="69"/>
                      <a:pt x="258" y="69"/>
                      <a:pt x="258" y="69"/>
                    </a:cubicBezTo>
                    <a:close/>
                    <a:moveTo>
                      <a:pt x="258" y="74"/>
                    </a:moveTo>
                    <a:cubicBezTo>
                      <a:pt x="259" y="76"/>
                      <a:pt x="260" y="79"/>
                      <a:pt x="261" y="81"/>
                    </a:cubicBezTo>
                    <a:cubicBezTo>
                      <a:pt x="260" y="82"/>
                      <a:pt x="259" y="83"/>
                      <a:pt x="259" y="85"/>
                    </a:cubicBezTo>
                    <a:cubicBezTo>
                      <a:pt x="258" y="81"/>
                      <a:pt x="258" y="77"/>
                      <a:pt x="258" y="74"/>
                    </a:cubicBezTo>
                    <a:close/>
                    <a:moveTo>
                      <a:pt x="259" y="120"/>
                    </a:moveTo>
                    <a:cubicBezTo>
                      <a:pt x="259" y="115"/>
                      <a:pt x="259" y="111"/>
                      <a:pt x="259" y="106"/>
                    </a:cubicBezTo>
                    <a:cubicBezTo>
                      <a:pt x="260" y="109"/>
                      <a:pt x="260" y="112"/>
                      <a:pt x="261" y="114"/>
                    </a:cubicBezTo>
                    <a:cubicBezTo>
                      <a:pt x="260" y="116"/>
                      <a:pt x="260" y="118"/>
                      <a:pt x="259" y="120"/>
                    </a:cubicBezTo>
                    <a:close/>
                    <a:moveTo>
                      <a:pt x="262" y="109"/>
                    </a:moveTo>
                    <a:cubicBezTo>
                      <a:pt x="261" y="107"/>
                      <a:pt x="260" y="104"/>
                      <a:pt x="259" y="102"/>
                    </a:cubicBezTo>
                    <a:cubicBezTo>
                      <a:pt x="259" y="99"/>
                      <a:pt x="259" y="97"/>
                      <a:pt x="259" y="94"/>
                    </a:cubicBezTo>
                    <a:cubicBezTo>
                      <a:pt x="260" y="98"/>
                      <a:pt x="262" y="102"/>
                      <a:pt x="263" y="107"/>
                    </a:cubicBezTo>
                    <a:cubicBezTo>
                      <a:pt x="263" y="108"/>
                      <a:pt x="262" y="108"/>
                      <a:pt x="262" y="109"/>
                    </a:cubicBezTo>
                    <a:close/>
                    <a:moveTo>
                      <a:pt x="266" y="96"/>
                    </a:moveTo>
                    <a:cubicBezTo>
                      <a:pt x="265" y="98"/>
                      <a:pt x="264" y="101"/>
                      <a:pt x="264" y="104"/>
                    </a:cubicBezTo>
                    <a:cubicBezTo>
                      <a:pt x="262" y="100"/>
                      <a:pt x="261" y="96"/>
                      <a:pt x="259" y="92"/>
                    </a:cubicBezTo>
                    <a:cubicBezTo>
                      <a:pt x="259" y="92"/>
                      <a:pt x="259" y="92"/>
                      <a:pt x="259" y="92"/>
                    </a:cubicBezTo>
                    <a:cubicBezTo>
                      <a:pt x="260" y="89"/>
                      <a:pt x="261" y="86"/>
                      <a:pt x="263" y="84"/>
                    </a:cubicBezTo>
                    <a:cubicBezTo>
                      <a:pt x="264" y="87"/>
                      <a:pt x="265" y="90"/>
                      <a:pt x="266" y="93"/>
                    </a:cubicBezTo>
                    <a:cubicBezTo>
                      <a:pt x="266" y="94"/>
                      <a:pt x="266" y="95"/>
                      <a:pt x="266" y="96"/>
                    </a:cubicBezTo>
                    <a:close/>
                    <a:moveTo>
                      <a:pt x="267" y="90"/>
                    </a:moveTo>
                    <a:cubicBezTo>
                      <a:pt x="266" y="87"/>
                      <a:pt x="265" y="84"/>
                      <a:pt x="264" y="82"/>
                    </a:cubicBezTo>
                    <a:cubicBezTo>
                      <a:pt x="264" y="81"/>
                      <a:pt x="264" y="81"/>
                      <a:pt x="265" y="81"/>
                    </a:cubicBezTo>
                    <a:cubicBezTo>
                      <a:pt x="266" y="83"/>
                      <a:pt x="267" y="86"/>
                      <a:pt x="267" y="89"/>
                    </a:cubicBezTo>
                    <a:cubicBezTo>
                      <a:pt x="267" y="89"/>
                      <a:pt x="267" y="89"/>
                      <a:pt x="267" y="90"/>
                    </a:cubicBezTo>
                    <a:close/>
                    <a:moveTo>
                      <a:pt x="265" y="79"/>
                    </a:moveTo>
                    <a:cubicBezTo>
                      <a:pt x="266" y="78"/>
                      <a:pt x="267" y="77"/>
                      <a:pt x="268" y="76"/>
                    </a:cubicBezTo>
                    <a:cubicBezTo>
                      <a:pt x="268" y="78"/>
                      <a:pt x="269" y="79"/>
                      <a:pt x="269" y="80"/>
                    </a:cubicBezTo>
                    <a:cubicBezTo>
                      <a:pt x="269" y="82"/>
                      <a:pt x="268" y="84"/>
                      <a:pt x="268" y="85"/>
                    </a:cubicBezTo>
                    <a:cubicBezTo>
                      <a:pt x="267" y="83"/>
                      <a:pt x="266" y="81"/>
                      <a:pt x="265" y="79"/>
                    </a:cubicBezTo>
                    <a:close/>
                    <a:moveTo>
                      <a:pt x="268" y="116"/>
                    </a:moveTo>
                    <a:cubicBezTo>
                      <a:pt x="269" y="111"/>
                      <a:pt x="269" y="106"/>
                      <a:pt x="269" y="102"/>
                    </a:cubicBezTo>
                    <a:cubicBezTo>
                      <a:pt x="270" y="105"/>
                      <a:pt x="271" y="108"/>
                      <a:pt x="272" y="111"/>
                    </a:cubicBezTo>
                    <a:cubicBezTo>
                      <a:pt x="271" y="113"/>
                      <a:pt x="270" y="116"/>
                      <a:pt x="269" y="118"/>
                    </a:cubicBezTo>
                    <a:cubicBezTo>
                      <a:pt x="269" y="117"/>
                      <a:pt x="268" y="117"/>
                      <a:pt x="268" y="116"/>
                    </a:cubicBezTo>
                    <a:close/>
                    <a:moveTo>
                      <a:pt x="273" y="130"/>
                    </a:moveTo>
                    <a:cubicBezTo>
                      <a:pt x="272" y="128"/>
                      <a:pt x="272" y="127"/>
                      <a:pt x="271" y="125"/>
                    </a:cubicBezTo>
                    <a:cubicBezTo>
                      <a:pt x="272" y="123"/>
                      <a:pt x="272" y="122"/>
                      <a:pt x="273" y="120"/>
                    </a:cubicBezTo>
                    <a:cubicBezTo>
                      <a:pt x="273" y="122"/>
                      <a:pt x="273" y="124"/>
                      <a:pt x="274" y="127"/>
                    </a:cubicBezTo>
                    <a:cubicBezTo>
                      <a:pt x="273" y="128"/>
                      <a:pt x="273" y="129"/>
                      <a:pt x="273" y="130"/>
                    </a:cubicBezTo>
                    <a:close/>
                    <a:moveTo>
                      <a:pt x="275" y="105"/>
                    </a:moveTo>
                    <a:cubicBezTo>
                      <a:pt x="273" y="100"/>
                      <a:pt x="272" y="95"/>
                      <a:pt x="270" y="91"/>
                    </a:cubicBezTo>
                    <a:cubicBezTo>
                      <a:pt x="270" y="89"/>
                      <a:pt x="270" y="87"/>
                      <a:pt x="271" y="85"/>
                    </a:cubicBezTo>
                    <a:cubicBezTo>
                      <a:pt x="273" y="91"/>
                      <a:pt x="274" y="97"/>
                      <a:pt x="276" y="103"/>
                    </a:cubicBezTo>
                    <a:cubicBezTo>
                      <a:pt x="275" y="104"/>
                      <a:pt x="275" y="105"/>
                      <a:pt x="275" y="105"/>
                    </a:cubicBezTo>
                    <a:close/>
                    <a:moveTo>
                      <a:pt x="277" y="111"/>
                    </a:moveTo>
                    <a:cubicBezTo>
                      <a:pt x="276" y="110"/>
                      <a:pt x="276" y="110"/>
                      <a:pt x="276" y="109"/>
                    </a:cubicBezTo>
                    <a:cubicBezTo>
                      <a:pt x="276" y="109"/>
                      <a:pt x="276" y="108"/>
                      <a:pt x="277" y="107"/>
                    </a:cubicBezTo>
                    <a:cubicBezTo>
                      <a:pt x="277" y="108"/>
                      <a:pt x="277" y="109"/>
                      <a:pt x="277" y="109"/>
                    </a:cubicBezTo>
                    <a:cubicBezTo>
                      <a:pt x="277" y="110"/>
                      <a:pt x="277" y="110"/>
                      <a:pt x="277" y="111"/>
                    </a:cubicBezTo>
                    <a:close/>
                    <a:moveTo>
                      <a:pt x="287" y="94"/>
                    </a:moveTo>
                    <a:cubicBezTo>
                      <a:pt x="287" y="95"/>
                      <a:pt x="288" y="95"/>
                      <a:pt x="288" y="96"/>
                    </a:cubicBezTo>
                    <a:cubicBezTo>
                      <a:pt x="288" y="97"/>
                      <a:pt x="287" y="97"/>
                      <a:pt x="287" y="98"/>
                    </a:cubicBezTo>
                    <a:cubicBezTo>
                      <a:pt x="287" y="96"/>
                      <a:pt x="287" y="95"/>
                      <a:pt x="287" y="94"/>
                    </a:cubicBezTo>
                    <a:close/>
                    <a:moveTo>
                      <a:pt x="289" y="109"/>
                    </a:moveTo>
                    <a:cubicBezTo>
                      <a:pt x="288" y="106"/>
                      <a:pt x="288" y="104"/>
                      <a:pt x="287" y="102"/>
                    </a:cubicBezTo>
                    <a:cubicBezTo>
                      <a:pt x="287" y="101"/>
                      <a:pt x="287" y="99"/>
                      <a:pt x="287" y="98"/>
                    </a:cubicBezTo>
                    <a:cubicBezTo>
                      <a:pt x="287" y="98"/>
                      <a:pt x="288" y="97"/>
                      <a:pt x="288" y="97"/>
                    </a:cubicBezTo>
                    <a:cubicBezTo>
                      <a:pt x="288" y="98"/>
                      <a:pt x="289" y="100"/>
                      <a:pt x="289" y="102"/>
                    </a:cubicBezTo>
                    <a:cubicBezTo>
                      <a:pt x="289" y="104"/>
                      <a:pt x="289" y="107"/>
                      <a:pt x="289" y="109"/>
                    </a:cubicBezTo>
                    <a:close/>
                    <a:moveTo>
                      <a:pt x="291" y="84"/>
                    </a:moveTo>
                    <a:cubicBezTo>
                      <a:pt x="291" y="89"/>
                      <a:pt x="290" y="94"/>
                      <a:pt x="290" y="98"/>
                    </a:cubicBezTo>
                    <a:cubicBezTo>
                      <a:pt x="289" y="97"/>
                      <a:pt x="289" y="96"/>
                      <a:pt x="288" y="95"/>
                    </a:cubicBezTo>
                    <a:cubicBezTo>
                      <a:pt x="289" y="94"/>
                      <a:pt x="290" y="92"/>
                      <a:pt x="290" y="91"/>
                    </a:cubicBezTo>
                    <a:cubicBezTo>
                      <a:pt x="290" y="92"/>
                      <a:pt x="289" y="94"/>
                      <a:pt x="288" y="95"/>
                    </a:cubicBezTo>
                    <a:cubicBezTo>
                      <a:pt x="288" y="94"/>
                      <a:pt x="287" y="93"/>
                      <a:pt x="287" y="92"/>
                    </a:cubicBezTo>
                    <a:cubicBezTo>
                      <a:pt x="287" y="90"/>
                      <a:pt x="287" y="88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85"/>
                      <a:pt x="287" y="85"/>
                      <a:pt x="287" y="85"/>
                    </a:cubicBezTo>
                    <a:cubicBezTo>
                      <a:pt x="287" y="75"/>
                      <a:pt x="286" y="65"/>
                      <a:pt x="286" y="56"/>
                    </a:cubicBezTo>
                    <a:cubicBezTo>
                      <a:pt x="289" y="58"/>
                      <a:pt x="292" y="61"/>
                      <a:pt x="294" y="63"/>
                    </a:cubicBezTo>
                    <a:cubicBezTo>
                      <a:pt x="293" y="69"/>
                      <a:pt x="292" y="76"/>
                      <a:pt x="291" y="84"/>
                    </a:cubicBezTo>
                    <a:cubicBezTo>
                      <a:pt x="291" y="82"/>
                      <a:pt x="290" y="81"/>
                      <a:pt x="290" y="79"/>
                    </a:cubicBezTo>
                    <a:cubicBezTo>
                      <a:pt x="290" y="81"/>
                      <a:pt x="291" y="83"/>
                      <a:pt x="291" y="84"/>
                    </a:cubicBezTo>
                    <a:close/>
                    <a:moveTo>
                      <a:pt x="293" y="139"/>
                    </a:moveTo>
                    <a:cubicBezTo>
                      <a:pt x="292" y="134"/>
                      <a:pt x="292" y="128"/>
                      <a:pt x="292" y="121"/>
                    </a:cubicBezTo>
                    <a:cubicBezTo>
                      <a:pt x="292" y="125"/>
                      <a:pt x="293" y="129"/>
                      <a:pt x="293" y="133"/>
                    </a:cubicBezTo>
                    <a:cubicBezTo>
                      <a:pt x="293" y="135"/>
                      <a:pt x="293" y="137"/>
                      <a:pt x="293" y="139"/>
                    </a:cubicBezTo>
                    <a:close/>
                    <a:moveTo>
                      <a:pt x="292" y="104"/>
                    </a:moveTo>
                    <a:cubicBezTo>
                      <a:pt x="292" y="102"/>
                      <a:pt x="293" y="99"/>
                      <a:pt x="293" y="96"/>
                    </a:cubicBezTo>
                    <a:cubicBezTo>
                      <a:pt x="293" y="100"/>
                      <a:pt x="293" y="104"/>
                      <a:pt x="293" y="107"/>
                    </a:cubicBezTo>
                    <a:cubicBezTo>
                      <a:pt x="293" y="106"/>
                      <a:pt x="293" y="105"/>
                      <a:pt x="292" y="104"/>
                    </a:cubicBezTo>
                    <a:close/>
                    <a:moveTo>
                      <a:pt x="304" y="85"/>
                    </a:moveTo>
                    <a:cubicBezTo>
                      <a:pt x="303" y="90"/>
                      <a:pt x="303" y="96"/>
                      <a:pt x="302" y="103"/>
                    </a:cubicBezTo>
                    <a:cubicBezTo>
                      <a:pt x="301" y="101"/>
                      <a:pt x="301" y="100"/>
                      <a:pt x="300" y="99"/>
                    </a:cubicBezTo>
                    <a:cubicBezTo>
                      <a:pt x="300" y="96"/>
                      <a:pt x="299" y="93"/>
                      <a:pt x="298" y="90"/>
                    </a:cubicBezTo>
                    <a:cubicBezTo>
                      <a:pt x="299" y="93"/>
                      <a:pt x="299" y="96"/>
                      <a:pt x="299" y="99"/>
                    </a:cubicBezTo>
                    <a:cubicBezTo>
                      <a:pt x="299" y="104"/>
                      <a:pt x="299" y="112"/>
                      <a:pt x="298" y="120"/>
                    </a:cubicBezTo>
                    <a:cubicBezTo>
                      <a:pt x="297" y="110"/>
                      <a:pt x="295" y="100"/>
                      <a:pt x="293" y="91"/>
                    </a:cubicBezTo>
                    <a:cubicBezTo>
                      <a:pt x="294" y="81"/>
                      <a:pt x="295" y="72"/>
                      <a:pt x="295" y="65"/>
                    </a:cubicBezTo>
                    <a:cubicBezTo>
                      <a:pt x="299" y="69"/>
                      <a:pt x="302" y="74"/>
                      <a:pt x="304" y="79"/>
                    </a:cubicBezTo>
                    <a:cubicBezTo>
                      <a:pt x="304" y="81"/>
                      <a:pt x="304" y="83"/>
                      <a:pt x="304" y="85"/>
                    </a:cubicBezTo>
                    <a:close/>
                    <a:moveTo>
                      <a:pt x="304" y="75"/>
                    </a:moveTo>
                    <a:cubicBezTo>
                      <a:pt x="304" y="75"/>
                      <a:pt x="304" y="75"/>
                      <a:pt x="304" y="75"/>
                    </a:cubicBezTo>
                    <a:cubicBezTo>
                      <a:pt x="304" y="73"/>
                      <a:pt x="304" y="72"/>
                      <a:pt x="304" y="70"/>
                    </a:cubicBezTo>
                    <a:cubicBezTo>
                      <a:pt x="304" y="70"/>
                      <a:pt x="304" y="72"/>
                      <a:pt x="304" y="75"/>
                    </a:cubicBezTo>
                    <a:cubicBezTo>
                      <a:pt x="301" y="71"/>
                      <a:pt x="299" y="67"/>
                      <a:pt x="296" y="64"/>
                    </a:cubicBezTo>
                    <a:cubicBezTo>
                      <a:pt x="296" y="60"/>
                      <a:pt x="296" y="57"/>
                      <a:pt x="297" y="54"/>
                    </a:cubicBezTo>
                    <a:cubicBezTo>
                      <a:pt x="300" y="58"/>
                      <a:pt x="303" y="62"/>
                      <a:pt x="305" y="65"/>
                    </a:cubicBezTo>
                    <a:cubicBezTo>
                      <a:pt x="305" y="68"/>
                      <a:pt x="305" y="71"/>
                      <a:pt x="304" y="75"/>
                    </a:cubicBezTo>
                    <a:close/>
                    <a:moveTo>
                      <a:pt x="308" y="117"/>
                    </a:moveTo>
                    <a:cubicBezTo>
                      <a:pt x="307" y="119"/>
                      <a:pt x="307" y="122"/>
                      <a:pt x="306" y="125"/>
                    </a:cubicBezTo>
                    <a:cubicBezTo>
                      <a:pt x="306" y="124"/>
                      <a:pt x="306" y="123"/>
                      <a:pt x="306" y="122"/>
                    </a:cubicBezTo>
                    <a:cubicBezTo>
                      <a:pt x="306" y="110"/>
                      <a:pt x="307" y="98"/>
                      <a:pt x="307" y="87"/>
                    </a:cubicBezTo>
                    <a:cubicBezTo>
                      <a:pt x="308" y="92"/>
                      <a:pt x="309" y="98"/>
                      <a:pt x="310" y="103"/>
                    </a:cubicBezTo>
                    <a:cubicBezTo>
                      <a:pt x="309" y="108"/>
                      <a:pt x="309" y="112"/>
                      <a:pt x="308" y="117"/>
                    </a:cubicBezTo>
                    <a:close/>
                    <a:moveTo>
                      <a:pt x="311" y="89"/>
                    </a:moveTo>
                    <a:cubicBezTo>
                      <a:pt x="310" y="86"/>
                      <a:pt x="309" y="83"/>
                      <a:pt x="307" y="80"/>
                    </a:cubicBezTo>
                    <a:cubicBezTo>
                      <a:pt x="307" y="76"/>
                      <a:pt x="307" y="72"/>
                      <a:pt x="307" y="68"/>
                    </a:cubicBezTo>
                    <a:cubicBezTo>
                      <a:pt x="309" y="71"/>
                      <a:pt x="311" y="74"/>
                      <a:pt x="313" y="78"/>
                    </a:cubicBezTo>
                    <a:cubicBezTo>
                      <a:pt x="312" y="81"/>
                      <a:pt x="312" y="85"/>
                      <a:pt x="311" y="89"/>
                    </a:cubicBezTo>
                    <a:close/>
                    <a:moveTo>
                      <a:pt x="317" y="96"/>
                    </a:moveTo>
                    <a:cubicBezTo>
                      <a:pt x="316" y="97"/>
                      <a:pt x="315" y="98"/>
                      <a:pt x="315" y="99"/>
                    </a:cubicBezTo>
                    <a:cubicBezTo>
                      <a:pt x="314" y="98"/>
                      <a:pt x="314" y="97"/>
                      <a:pt x="314" y="96"/>
                    </a:cubicBezTo>
                    <a:cubicBezTo>
                      <a:pt x="314" y="91"/>
                      <a:pt x="314" y="86"/>
                      <a:pt x="314" y="80"/>
                    </a:cubicBezTo>
                    <a:cubicBezTo>
                      <a:pt x="315" y="83"/>
                      <a:pt x="317" y="86"/>
                      <a:pt x="317" y="88"/>
                    </a:cubicBezTo>
                    <a:cubicBezTo>
                      <a:pt x="317" y="91"/>
                      <a:pt x="317" y="93"/>
                      <a:pt x="317" y="96"/>
                    </a:cubicBezTo>
                    <a:close/>
                    <a:moveTo>
                      <a:pt x="338" y="105"/>
                    </a:moveTo>
                    <a:cubicBezTo>
                      <a:pt x="338" y="103"/>
                      <a:pt x="337" y="102"/>
                      <a:pt x="336" y="101"/>
                    </a:cubicBezTo>
                    <a:cubicBezTo>
                      <a:pt x="338" y="96"/>
                      <a:pt x="339" y="92"/>
                      <a:pt x="341" y="89"/>
                    </a:cubicBezTo>
                    <a:cubicBezTo>
                      <a:pt x="341" y="89"/>
                      <a:pt x="341" y="89"/>
                      <a:pt x="341" y="90"/>
                    </a:cubicBezTo>
                    <a:cubicBezTo>
                      <a:pt x="340" y="95"/>
                      <a:pt x="339" y="100"/>
                      <a:pt x="338" y="105"/>
                    </a:cubicBezTo>
                    <a:close/>
                    <a:moveTo>
                      <a:pt x="354" y="81"/>
                    </a:moveTo>
                    <a:cubicBezTo>
                      <a:pt x="355" y="81"/>
                      <a:pt x="355" y="81"/>
                      <a:pt x="355" y="81"/>
                    </a:cubicBezTo>
                    <a:cubicBezTo>
                      <a:pt x="355" y="81"/>
                      <a:pt x="355" y="81"/>
                      <a:pt x="354" y="81"/>
                    </a:cubicBezTo>
                    <a:cubicBezTo>
                      <a:pt x="354" y="81"/>
                      <a:pt x="354" y="81"/>
                      <a:pt x="354" y="81"/>
                    </a:cubicBezTo>
                    <a:close/>
                    <a:moveTo>
                      <a:pt x="354" y="88"/>
                    </a:move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90"/>
                      <a:pt x="354" y="91"/>
                      <a:pt x="354" y="91"/>
                    </a:cubicBezTo>
                    <a:cubicBezTo>
                      <a:pt x="354" y="90"/>
                      <a:pt x="354" y="89"/>
                      <a:pt x="354" y="88"/>
                    </a:cubicBezTo>
                    <a:close/>
                    <a:moveTo>
                      <a:pt x="345" y="122"/>
                    </a:moveTo>
                    <a:cubicBezTo>
                      <a:pt x="345" y="122"/>
                      <a:pt x="345" y="123"/>
                      <a:pt x="345" y="123"/>
                    </a:cubicBezTo>
                    <a:cubicBezTo>
                      <a:pt x="345" y="123"/>
                      <a:pt x="345" y="123"/>
                      <a:pt x="345" y="123"/>
                    </a:cubicBezTo>
                    <a:cubicBezTo>
                      <a:pt x="345" y="123"/>
                      <a:pt x="345" y="122"/>
                      <a:pt x="345" y="122"/>
                    </a:cubicBezTo>
                    <a:cubicBezTo>
                      <a:pt x="345" y="120"/>
                      <a:pt x="346" y="118"/>
                      <a:pt x="346" y="115"/>
                    </a:cubicBezTo>
                    <a:cubicBezTo>
                      <a:pt x="346" y="115"/>
                      <a:pt x="346" y="115"/>
                      <a:pt x="346" y="115"/>
                    </a:cubicBezTo>
                    <a:cubicBezTo>
                      <a:pt x="346" y="116"/>
                      <a:pt x="346" y="117"/>
                      <a:pt x="346" y="118"/>
                    </a:cubicBezTo>
                    <a:cubicBezTo>
                      <a:pt x="346" y="119"/>
                      <a:pt x="345" y="121"/>
                      <a:pt x="345" y="122"/>
                    </a:cubicBezTo>
                    <a:close/>
                    <a:moveTo>
                      <a:pt x="348" y="70"/>
                    </a:moveTo>
                    <a:cubicBezTo>
                      <a:pt x="350" y="73"/>
                      <a:pt x="352" y="76"/>
                      <a:pt x="354" y="79"/>
                    </a:cubicBezTo>
                    <a:cubicBezTo>
                      <a:pt x="353" y="81"/>
                      <a:pt x="353" y="82"/>
                      <a:pt x="353" y="84"/>
                    </a:cubicBezTo>
                    <a:cubicBezTo>
                      <a:pt x="353" y="84"/>
                      <a:pt x="353" y="84"/>
                      <a:pt x="352" y="84"/>
                    </a:cubicBezTo>
                    <a:cubicBezTo>
                      <a:pt x="352" y="82"/>
                      <a:pt x="351" y="81"/>
                      <a:pt x="350" y="79"/>
                    </a:cubicBezTo>
                    <a:cubicBezTo>
                      <a:pt x="351" y="81"/>
                      <a:pt x="352" y="83"/>
                      <a:pt x="352" y="84"/>
                    </a:cubicBezTo>
                    <a:cubicBezTo>
                      <a:pt x="351" y="87"/>
                      <a:pt x="349" y="90"/>
                      <a:pt x="348" y="93"/>
                    </a:cubicBezTo>
                    <a:cubicBezTo>
                      <a:pt x="348" y="85"/>
                      <a:pt x="348" y="77"/>
                      <a:pt x="348" y="70"/>
                    </a:cubicBezTo>
                    <a:close/>
                    <a:moveTo>
                      <a:pt x="350" y="98"/>
                    </a:moveTo>
                    <a:cubicBezTo>
                      <a:pt x="350" y="98"/>
                      <a:pt x="350" y="97"/>
                      <a:pt x="350" y="96"/>
                    </a:cubicBezTo>
                    <a:cubicBezTo>
                      <a:pt x="350" y="97"/>
                      <a:pt x="350" y="98"/>
                      <a:pt x="350" y="98"/>
                    </a:cubicBezTo>
                    <a:cubicBezTo>
                      <a:pt x="350" y="99"/>
                      <a:pt x="350" y="100"/>
                      <a:pt x="350" y="100"/>
                    </a:cubicBezTo>
                    <a:cubicBezTo>
                      <a:pt x="349" y="99"/>
                      <a:pt x="349" y="98"/>
                      <a:pt x="349" y="97"/>
                    </a:cubicBezTo>
                    <a:cubicBezTo>
                      <a:pt x="349" y="95"/>
                      <a:pt x="350" y="93"/>
                      <a:pt x="351" y="90"/>
                    </a:cubicBezTo>
                    <a:cubicBezTo>
                      <a:pt x="351" y="93"/>
                      <a:pt x="350" y="96"/>
                      <a:pt x="350" y="98"/>
                    </a:cubicBezTo>
                    <a:close/>
                    <a:moveTo>
                      <a:pt x="357" y="100"/>
                    </a:moveTo>
                    <a:cubicBezTo>
                      <a:pt x="355" y="104"/>
                      <a:pt x="354" y="107"/>
                      <a:pt x="353" y="110"/>
                    </a:cubicBezTo>
                    <a:cubicBezTo>
                      <a:pt x="352" y="110"/>
                      <a:pt x="352" y="109"/>
                      <a:pt x="352" y="109"/>
                    </a:cubicBezTo>
                    <a:cubicBezTo>
                      <a:pt x="352" y="106"/>
                      <a:pt x="353" y="102"/>
                      <a:pt x="353" y="99"/>
                    </a:cubicBezTo>
                    <a:cubicBezTo>
                      <a:pt x="354" y="95"/>
                      <a:pt x="354" y="92"/>
                      <a:pt x="354" y="90"/>
                    </a:cubicBezTo>
                    <a:cubicBezTo>
                      <a:pt x="355" y="93"/>
                      <a:pt x="356" y="96"/>
                      <a:pt x="357" y="100"/>
                    </a:cubicBezTo>
                    <a:cubicBezTo>
                      <a:pt x="357" y="100"/>
                      <a:pt x="357" y="100"/>
                      <a:pt x="357" y="100"/>
                    </a:cubicBezTo>
                    <a:close/>
                    <a:moveTo>
                      <a:pt x="357" y="97"/>
                    </a:moveTo>
                    <a:cubicBezTo>
                      <a:pt x="356" y="95"/>
                      <a:pt x="355" y="92"/>
                      <a:pt x="354" y="89"/>
                    </a:cubicBezTo>
                    <a:cubicBezTo>
                      <a:pt x="354" y="89"/>
                      <a:pt x="354" y="89"/>
                      <a:pt x="354" y="88"/>
                    </a:cubicBezTo>
                    <a:cubicBezTo>
                      <a:pt x="354" y="89"/>
                      <a:pt x="354" y="89"/>
                      <a:pt x="354" y="89"/>
                    </a:cubicBezTo>
                    <a:cubicBezTo>
                      <a:pt x="354" y="89"/>
                      <a:pt x="354" y="88"/>
                      <a:pt x="354" y="88"/>
                    </a:cubicBezTo>
                    <a:cubicBezTo>
                      <a:pt x="354" y="87"/>
                      <a:pt x="354" y="86"/>
                      <a:pt x="354" y="85"/>
                    </a:cubicBezTo>
                    <a:cubicBezTo>
                      <a:pt x="355" y="84"/>
                      <a:pt x="355" y="83"/>
                      <a:pt x="355" y="82"/>
                    </a:cubicBezTo>
                    <a:cubicBezTo>
                      <a:pt x="357" y="84"/>
                      <a:pt x="358" y="86"/>
                      <a:pt x="358" y="88"/>
                    </a:cubicBezTo>
                    <a:cubicBezTo>
                      <a:pt x="358" y="91"/>
                      <a:pt x="358" y="94"/>
                      <a:pt x="357" y="97"/>
                    </a:cubicBezTo>
                    <a:close/>
                    <a:moveTo>
                      <a:pt x="360" y="135"/>
                    </a:moveTo>
                    <a:cubicBezTo>
                      <a:pt x="359" y="136"/>
                      <a:pt x="359" y="137"/>
                      <a:pt x="359" y="138"/>
                    </a:cubicBezTo>
                    <a:cubicBezTo>
                      <a:pt x="359" y="137"/>
                      <a:pt x="359" y="136"/>
                      <a:pt x="360" y="135"/>
                    </a:cubicBezTo>
                    <a:cubicBezTo>
                      <a:pt x="360" y="135"/>
                      <a:pt x="360" y="135"/>
                      <a:pt x="360" y="135"/>
                    </a:cubicBezTo>
                    <a:close/>
                    <a:moveTo>
                      <a:pt x="359" y="83"/>
                    </a:moveTo>
                    <a:cubicBezTo>
                      <a:pt x="358" y="82"/>
                      <a:pt x="358" y="81"/>
                      <a:pt x="357" y="80"/>
                    </a:cubicBezTo>
                    <a:cubicBezTo>
                      <a:pt x="358" y="78"/>
                      <a:pt x="359" y="77"/>
                      <a:pt x="360" y="75"/>
                    </a:cubicBezTo>
                    <a:cubicBezTo>
                      <a:pt x="360" y="78"/>
                      <a:pt x="359" y="81"/>
                      <a:pt x="359" y="83"/>
                    </a:cubicBezTo>
                    <a:close/>
                    <a:moveTo>
                      <a:pt x="360" y="74"/>
                    </a:moveTo>
                    <a:cubicBezTo>
                      <a:pt x="359" y="76"/>
                      <a:pt x="357" y="77"/>
                      <a:pt x="356" y="79"/>
                    </a:cubicBezTo>
                    <a:cubicBezTo>
                      <a:pt x="356" y="78"/>
                      <a:pt x="355" y="78"/>
                      <a:pt x="355" y="77"/>
                    </a:cubicBezTo>
                    <a:cubicBezTo>
                      <a:pt x="355" y="72"/>
                      <a:pt x="356" y="67"/>
                      <a:pt x="356" y="65"/>
                    </a:cubicBezTo>
                    <a:cubicBezTo>
                      <a:pt x="357" y="67"/>
                      <a:pt x="359" y="70"/>
                      <a:pt x="360" y="72"/>
                    </a:cubicBezTo>
                    <a:cubicBezTo>
                      <a:pt x="360" y="73"/>
                      <a:pt x="360" y="73"/>
                      <a:pt x="360" y="74"/>
                    </a:cubicBezTo>
                    <a:close/>
                    <a:moveTo>
                      <a:pt x="362" y="75"/>
                    </a:moveTo>
                    <a:cubicBezTo>
                      <a:pt x="364" y="78"/>
                      <a:pt x="365" y="81"/>
                      <a:pt x="367" y="84"/>
                    </a:cubicBezTo>
                    <a:cubicBezTo>
                      <a:pt x="365" y="86"/>
                      <a:pt x="364" y="88"/>
                      <a:pt x="363" y="90"/>
                    </a:cubicBezTo>
                    <a:cubicBezTo>
                      <a:pt x="363" y="89"/>
                      <a:pt x="362" y="89"/>
                      <a:pt x="362" y="89"/>
                    </a:cubicBezTo>
                    <a:cubicBezTo>
                      <a:pt x="362" y="84"/>
                      <a:pt x="362" y="79"/>
                      <a:pt x="362" y="75"/>
                    </a:cubicBezTo>
                    <a:close/>
                    <a:moveTo>
                      <a:pt x="364" y="110"/>
                    </a:moveTo>
                    <a:cubicBezTo>
                      <a:pt x="364" y="107"/>
                      <a:pt x="363" y="104"/>
                      <a:pt x="362" y="101"/>
                    </a:cubicBezTo>
                    <a:cubicBezTo>
                      <a:pt x="362" y="101"/>
                      <a:pt x="362" y="100"/>
                      <a:pt x="362" y="100"/>
                    </a:cubicBezTo>
                    <a:cubicBezTo>
                      <a:pt x="362" y="100"/>
                      <a:pt x="363" y="99"/>
                      <a:pt x="363" y="99"/>
                    </a:cubicBezTo>
                    <a:cubicBezTo>
                      <a:pt x="364" y="101"/>
                      <a:pt x="365" y="104"/>
                      <a:pt x="365" y="106"/>
                    </a:cubicBezTo>
                    <a:cubicBezTo>
                      <a:pt x="365" y="108"/>
                      <a:pt x="365" y="109"/>
                      <a:pt x="364" y="110"/>
                    </a:cubicBezTo>
                    <a:close/>
                    <a:moveTo>
                      <a:pt x="365" y="93"/>
                    </a:moveTo>
                    <a:cubicBezTo>
                      <a:pt x="366" y="91"/>
                      <a:pt x="367" y="88"/>
                      <a:pt x="368" y="86"/>
                    </a:cubicBezTo>
                    <a:cubicBezTo>
                      <a:pt x="368" y="87"/>
                      <a:pt x="369" y="87"/>
                      <a:pt x="369" y="88"/>
                    </a:cubicBezTo>
                    <a:cubicBezTo>
                      <a:pt x="368" y="91"/>
                      <a:pt x="368" y="94"/>
                      <a:pt x="367" y="97"/>
                    </a:cubicBezTo>
                    <a:cubicBezTo>
                      <a:pt x="366" y="96"/>
                      <a:pt x="366" y="95"/>
                      <a:pt x="365" y="93"/>
                    </a:cubicBezTo>
                    <a:close/>
                    <a:moveTo>
                      <a:pt x="368" y="130"/>
                    </a:moveTo>
                    <a:cubicBezTo>
                      <a:pt x="368" y="129"/>
                      <a:pt x="368" y="128"/>
                      <a:pt x="368" y="126"/>
                    </a:cubicBezTo>
                    <a:cubicBezTo>
                      <a:pt x="368" y="124"/>
                      <a:pt x="368" y="121"/>
                      <a:pt x="369" y="119"/>
                    </a:cubicBezTo>
                    <a:cubicBezTo>
                      <a:pt x="369" y="120"/>
                      <a:pt x="370" y="122"/>
                      <a:pt x="370" y="124"/>
                    </a:cubicBezTo>
                    <a:cubicBezTo>
                      <a:pt x="369" y="126"/>
                      <a:pt x="369" y="128"/>
                      <a:pt x="368" y="130"/>
                    </a:cubicBezTo>
                    <a:close/>
                    <a:moveTo>
                      <a:pt x="372" y="108"/>
                    </a:moveTo>
                    <a:cubicBezTo>
                      <a:pt x="372" y="107"/>
                      <a:pt x="371" y="106"/>
                      <a:pt x="371" y="105"/>
                    </a:cubicBezTo>
                    <a:cubicBezTo>
                      <a:pt x="372" y="102"/>
                      <a:pt x="372" y="99"/>
                      <a:pt x="373" y="96"/>
                    </a:cubicBezTo>
                    <a:cubicBezTo>
                      <a:pt x="373" y="96"/>
                      <a:pt x="373" y="97"/>
                      <a:pt x="373" y="97"/>
                    </a:cubicBezTo>
                    <a:cubicBezTo>
                      <a:pt x="373" y="101"/>
                      <a:pt x="373" y="105"/>
                      <a:pt x="372" y="108"/>
                    </a:cubicBezTo>
                    <a:close/>
                    <a:moveTo>
                      <a:pt x="374" y="86"/>
                    </a:moveTo>
                    <a:cubicBezTo>
                      <a:pt x="374" y="86"/>
                      <a:pt x="374" y="86"/>
                      <a:pt x="374" y="86"/>
                    </a:cubicBezTo>
                    <a:cubicBezTo>
                      <a:pt x="375" y="85"/>
                      <a:pt x="375" y="84"/>
                      <a:pt x="375" y="83"/>
                    </a:cubicBezTo>
                    <a:cubicBezTo>
                      <a:pt x="375" y="84"/>
                      <a:pt x="375" y="85"/>
                      <a:pt x="374" y="86"/>
                    </a:cubicBezTo>
                    <a:close/>
                    <a:moveTo>
                      <a:pt x="382" y="80"/>
                    </a:moveTo>
                    <a:cubicBezTo>
                      <a:pt x="382" y="77"/>
                      <a:pt x="382" y="75"/>
                      <a:pt x="383" y="73"/>
                    </a:cubicBezTo>
                    <a:cubicBezTo>
                      <a:pt x="383" y="73"/>
                      <a:pt x="383" y="74"/>
                      <a:pt x="384" y="74"/>
                    </a:cubicBezTo>
                    <a:cubicBezTo>
                      <a:pt x="383" y="76"/>
                      <a:pt x="383" y="78"/>
                      <a:pt x="382" y="80"/>
                    </a:cubicBezTo>
                    <a:close/>
                    <a:moveTo>
                      <a:pt x="394" y="93"/>
                    </a:moveTo>
                    <a:cubicBezTo>
                      <a:pt x="393" y="95"/>
                      <a:pt x="393" y="96"/>
                      <a:pt x="392" y="97"/>
                    </a:cubicBezTo>
                    <a:cubicBezTo>
                      <a:pt x="392" y="94"/>
                      <a:pt x="392" y="91"/>
                      <a:pt x="392" y="88"/>
                    </a:cubicBezTo>
                    <a:cubicBezTo>
                      <a:pt x="392" y="89"/>
                      <a:pt x="393" y="91"/>
                      <a:pt x="394" y="93"/>
                    </a:cubicBezTo>
                    <a:close/>
                    <a:moveTo>
                      <a:pt x="395" y="88"/>
                    </a:moveTo>
                    <a:cubicBezTo>
                      <a:pt x="394" y="86"/>
                      <a:pt x="393" y="85"/>
                      <a:pt x="392" y="84"/>
                    </a:cubicBezTo>
                    <a:cubicBezTo>
                      <a:pt x="394" y="81"/>
                      <a:pt x="395" y="78"/>
                      <a:pt x="397" y="75"/>
                    </a:cubicBezTo>
                    <a:cubicBezTo>
                      <a:pt x="396" y="79"/>
                      <a:pt x="396" y="84"/>
                      <a:pt x="395" y="88"/>
                    </a:cubicBezTo>
                    <a:close/>
                    <a:moveTo>
                      <a:pt x="404" y="77"/>
                    </a:moveTo>
                    <a:cubicBezTo>
                      <a:pt x="404" y="77"/>
                      <a:pt x="404" y="77"/>
                      <a:pt x="404" y="77"/>
                    </a:cubicBezTo>
                    <a:cubicBezTo>
                      <a:pt x="404" y="74"/>
                      <a:pt x="403" y="70"/>
                      <a:pt x="403" y="66"/>
                    </a:cubicBezTo>
                    <a:cubicBezTo>
                      <a:pt x="403" y="65"/>
                      <a:pt x="404" y="64"/>
                      <a:pt x="404" y="63"/>
                    </a:cubicBezTo>
                    <a:cubicBezTo>
                      <a:pt x="405" y="67"/>
                      <a:pt x="405" y="72"/>
                      <a:pt x="404" y="77"/>
                    </a:cubicBezTo>
                    <a:close/>
                    <a:moveTo>
                      <a:pt x="407" y="72"/>
                    </a:moveTo>
                    <a:cubicBezTo>
                      <a:pt x="407" y="67"/>
                      <a:pt x="406" y="64"/>
                      <a:pt x="405" y="61"/>
                    </a:cubicBezTo>
                    <a:cubicBezTo>
                      <a:pt x="406" y="60"/>
                      <a:pt x="407" y="58"/>
                      <a:pt x="408" y="57"/>
                    </a:cubicBezTo>
                    <a:cubicBezTo>
                      <a:pt x="409" y="62"/>
                      <a:pt x="408" y="67"/>
                      <a:pt x="407" y="72"/>
                    </a:cubicBezTo>
                    <a:close/>
                    <a:moveTo>
                      <a:pt x="423" y="89"/>
                    </a:moveTo>
                    <a:cubicBezTo>
                      <a:pt x="424" y="91"/>
                      <a:pt x="425" y="92"/>
                      <a:pt x="426" y="94"/>
                    </a:cubicBezTo>
                    <a:cubicBezTo>
                      <a:pt x="425" y="95"/>
                      <a:pt x="424" y="97"/>
                      <a:pt x="424" y="98"/>
                    </a:cubicBezTo>
                    <a:cubicBezTo>
                      <a:pt x="423" y="97"/>
                      <a:pt x="423" y="96"/>
                      <a:pt x="422" y="95"/>
                    </a:cubicBezTo>
                    <a:cubicBezTo>
                      <a:pt x="423" y="93"/>
                      <a:pt x="423" y="91"/>
                      <a:pt x="423" y="89"/>
                    </a:cubicBezTo>
                    <a:close/>
                    <a:moveTo>
                      <a:pt x="422" y="101"/>
                    </a:moveTo>
                    <a:cubicBezTo>
                      <a:pt x="422" y="101"/>
                      <a:pt x="422" y="100"/>
                      <a:pt x="422" y="100"/>
                    </a:cubicBezTo>
                    <a:cubicBezTo>
                      <a:pt x="422" y="100"/>
                      <a:pt x="422" y="101"/>
                      <a:pt x="423" y="101"/>
                    </a:cubicBezTo>
                    <a:cubicBezTo>
                      <a:pt x="422" y="101"/>
                      <a:pt x="422" y="101"/>
                      <a:pt x="422" y="101"/>
                    </a:cubicBezTo>
                    <a:close/>
                    <a:moveTo>
                      <a:pt x="424" y="122"/>
                    </a:moveTo>
                    <a:cubicBezTo>
                      <a:pt x="424" y="121"/>
                      <a:pt x="424" y="120"/>
                      <a:pt x="423" y="119"/>
                    </a:cubicBezTo>
                    <a:cubicBezTo>
                      <a:pt x="423" y="117"/>
                      <a:pt x="423" y="115"/>
                      <a:pt x="423" y="112"/>
                    </a:cubicBezTo>
                    <a:cubicBezTo>
                      <a:pt x="423" y="110"/>
                      <a:pt x="424" y="108"/>
                      <a:pt x="424" y="106"/>
                    </a:cubicBezTo>
                    <a:cubicBezTo>
                      <a:pt x="424" y="108"/>
                      <a:pt x="425" y="110"/>
                      <a:pt x="425" y="112"/>
                    </a:cubicBezTo>
                    <a:cubicBezTo>
                      <a:pt x="425" y="115"/>
                      <a:pt x="425" y="119"/>
                      <a:pt x="424" y="122"/>
                    </a:cubicBezTo>
                    <a:close/>
                    <a:moveTo>
                      <a:pt x="426" y="103"/>
                    </a:moveTo>
                    <a:cubicBezTo>
                      <a:pt x="426" y="102"/>
                      <a:pt x="425" y="101"/>
                      <a:pt x="425" y="100"/>
                    </a:cubicBezTo>
                    <a:cubicBezTo>
                      <a:pt x="425" y="99"/>
                      <a:pt x="426" y="97"/>
                      <a:pt x="426" y="96"/>
                    </a:cubicBezTo>
                    <a:cubicBezTo>
                      <a:pt x="426" y="97"/>
                      <a:pt x="427" y="97"/>
                      <a:pt x="427" y="98"/>
                    </a:cubicBezTo>
                    <a:cubicBezTo>
                      <a:pt x="427" y="100"/>
                      <a:pt x="427" y="101"/>
                      <a:pt x="426" y="103"/>
                    </a:cubicBezTo>
                    <a:close/>
                    <a:moveTo>
                      <a:pt x="427" y="96"/>
                    </a:moveTo>
                    <a:cubicBezTo>
                      <a:pt x="427" y="95"/>
                      <a:pt x="427" y="95"/>
                      <a:pt x="427" y="95"/>
                    </a:cubicBezTo>
                    <a:cubicBezTo>
                      <a:pt x="427" y="93"/>
                      <a:pt x="427" y="92"/>
                      <a:pt x="428" y="91"/>
                    </a:cubicBezTo>
                    <a:cubicBezTo>
                      <a:pt x="428" y="93"/>
                      <a:pt x="427" y="94"/>
                      <a:pt x="427" y="96"/>
                    </a:cubicBezTo>
                    <a:close/>
                    <a:moveTo>
                      <a:pt x="433" y="95"/>
                    </a:moveTo>
                    <a:cubicBezTo>
                      <a:pt x="434" y="92"/>
                      <a:pt x="434" y="89"/>
                      <a:pt x="434" y="86"/>
                    </a:cubicBezTo>
                    <a:cubicBezTo>
                      <a:pt x="435" y="86"/>
                      <a:pt x="435" y="87"/>
                      <a:pt x="436" y="88"/>
                    </a:cubicBezTo>
                    <a:cubicBezTo>
                      <a:pt x="435" y="90"/>
                      <a:pt x="434" y="92"/>
                      <a:pt x="433" y="95"/>
                    </a:cubicBezTo>
                    <a:close/>
                    <a:moveTo>
                      <a:pt x="444" y="99"/>
                    </a:moveTo>
                    <a:cubicBezTo>
                      <a:pt x="444" y="99"/>
                      <a:pt x="443" y="98"/>
                      <a:pt x="443" y="97"/>
                    </a:cubicBezTo>
                    <a:cubicBezTo>
                      <a:pt x="443" y="93"/>
                      <a:pt x="443" y="89"/>
                      <a:pt x="443" y="84"/>
                    </a:cubicBezTo>
                    <a:cubicBezTo>
                      <a:pt x="445" y="80"/>
                      <a:pt x="447" y="76"/>
                      <a:pt x="450" y="72"/>
                    </a:cubicBezTo>
                    <a:cubicBezTo>
                      <a:pt x="450" y="74"/>
                      <a:pt x="450" y="78"/>
                      <a:pt x="451" y="82"/>
                    </a:cubicBezTo>
                    <a:cubicBezTo>
                      <a:pt x="448" y="88"/>
                      <a:pt x="446" y="93"/>
                      <a:pt x="444" y="99"/>
                    </a:cubicBezTo>
                    <a:close/>
                    <a:moveTo>
                      <a:pt x="452" y="75"/>
                    </a:moveTo>
                    <a:cubicBezTo>
                      <a:pt x="452" y="73"/>
                      <a:pt x="451" y="71"/>
                      <a:pt x="451" y="69"/>
                    </a:cubicBezTo>
                    <a:cubicBezTo>
                      <a:pt x="452" y="68"/>
                      <a:pt x="453" y="67"/>
                      <a:pt x="453" y="66"/>
                    </a:cubicBezTo>
                    <a:cubicBezTo>
                      <a:pt x="453" y="69"/>
                      <a:pt x="453" y="72"/>
                      <a:pt x="452" y="75"/>
                    </a:cubicBezTo>
                    <a:close/>
                    <a:moveTo>
                      <a:pt x="460" y="72"/>
                    </a:moveTo>
                    <a:cubicBezTo>
                      <a:pt x="460" y="71"/>
                      <a:pt x="460" y="70"/>
                      <a:pt x="460" y="70"/>
                    </a:cubicBezTo>
                    <a:cubicBezTo>
                      <a:pt x="460" y="69"/>
                      <a:pt x="460" y="69"/>
                      <a:pt x="460" y="69"/>
                    </a:cubicBezTo>
                    <a:cubicBezTo>
                      <a:pt x="460" y="71"/>
                      <a:pt x="460" y="72"/>
                      <a:pt x="460" y="72"/>
                    </a:cubicBezTo>
                    <a:close/>
                    <a:moveTo>
                      <a:pt x="460" y="67"/>
                    </a:moveTo>
                    <a:cubicBezTo>
                      <a:pt x="460" y="67"/>
                      <a:pt x="460" y="68"/>
                      <a:pt x="460" y="68"/>
                    </a:cubicBezTo>
                    <a:cubicBezTo>
                      <a:pt x="460" y="65"/>
                      <a:pt x="459" y="61"/>
                      <a:pt x="459" y="58"/>
                    </a:cubicBezTo>
                    <a:cubicBezTo>
                      <a:pt x="460" y="57"/>
                      <a:pt x="460" y="56"/>
                      <a:pt x="461" y="56"/>
                    </a:cubicBezTo>
                    <a:cubicBezTo>
                      <a:pt x="461" y="60"/>
                      <a:pt x="460" y="64"/>
                      <a:pt x="460" y="67"/>
                    </a:cubicBezTo>
                    <a:close/>
                    <a:moveTo>
                      <a:pt x="468" y="123"/>
                    </a:moveTo>
                    <a:cubicBezTo>
                      <a:pt x="467" y="124"/>
                      <a:pt x="466" y="126"/>
                      <a:pt x="466" y="127"/>
                    </a:cubicBezTo>
                    <a:cubicBezTo>
                      <a:pt x="466" y="124"/>
                      <a:pt x="466" y="122"/>
                      <a:pt x="466" y="119"/>
                    </a:cubicBezTo>
                    <a:cubicBezTo>
                      <a:pt x="467" y="116"/>
                      <a:pt x="468" y="112"/>
                      <a:pt x="469" y="109"/>
                    </a:cubicBezTo>
                    <a:cubicBezTo>
                      <a:pt x="469" y="111"/>
                      <a:pt x="469" y="112"/>
                      <a:pt x="469" y="114"/>
                    </a:cubicBezTo>
                    <a:cubicBezTo>
                      <a:pt x="469" y="117"/>
                      <a:pt x="468" y="120"/>
                      <a:pt x="468" y="123"/>
                    </a:cubicBezTo>
                    <a:close/>
                    <a:moveTo>
                      <a:pt x="470" y="110"/>
                    </a:moveTo>
                    <a:cubicBezTo>
                      <a:pt x="470" y="111"/>
                      <a:pt x="470" y="112"/>
                      <a:pt x="470" y="112"/>
                    </a:cubicBezTo>
                    <a:cubicBezTo>
                      <a:pt x="469" y="111"/>
                      <a:pt x="469" y="110"/>
                      <a:pt x="469" y="109"/>
                    </a:cubicBezTo>
                    <a:cubicBezTo>
                      <a:pt x="469" y="107"/>
                      <a:pt x="470" y="105"/>
                      <a:pt x="471" y="102"/>
                    </a:cubicBezTo>
                    <a:cubicBezTo>
                      <a:pt x="470" y="105"/>
                      <a:pt x="470" y="108"/>
                      <a:pt x="470" y="110"/>
                    </a:cubicBezTo>
                    <a:close/>
                    <a:moveTo>
                      <a:pt x="472" y="83"/>
                    </a:moveTo>
                    <a:cubicBezTo>
                      <a:pt x="472" y="83"/>
                      <a:pt x="472" y="84"/>
                      <a:pt x="471" y="85"/>
                    </a:cubicBezTo>
                    <a:cubicBezTo>
                      <a:pt x="470" y="87"/>
                      <a:pt x="470" y="89"/>
                      <a:pt x="469" y="91"/>
                    </a:cubicBezTo>
                    <a:cubicBezTo>
                      <a:pt x="468" y="91"/>
                      <a:pt x="468" y="91"/>
                      <a:pt x="468" y="91"/>
                    </a:cubicBezTo>
                    <a:cubicBezTo>
                      <a:pt x="468" y="91"/>
                      <a:pt x="468" y="91"/>
                      <a:pt x="469" y="91"/>
                    </a:cubicBezTo>
                    <a:cubicBezTo>
                      <a:pt x="468" y="92"/>
                      <a:pt x="467" y="94"/>
                      <a:pt x="466" y="96"/>
                    </a:cubicBezTo>
                    <a:cubicBezTo>
                      <a:pt x="467" y="90"/>
                      <a:pt x="467" y="85"/>
                      <a:pt x="469" y="79"/>
                    </a:cubicBezTo>
                    <a:cubicBezTo>
                      <a:pt x="467" y="85"/>
                      <a:pt x="466" y="90"/>
                      <a:pt x="465" y="95"/>
                    </a:cubicBezTo>
                    <a:cubicBezTo>
                      <a:pt x="465" y="85"/>
                      <a:pt x="465" y="74"/>
                      <a:pt x="465" y="63"/>
                    </a:cubicBezTo>
                    <a:cubicBezTo>
                      <a:pt x="468" y="60"/>
                      <a:pt x="471" y="58"/>
                      <a:pt x="474" y="55"/>
                    </a:cubicBezTo>
                    <a:cubicBezTo>
                      <a:pt x="474" y="62"/>
                      <a:pt x="473" y="72"/>
                      <a:pt x="472" y="83"/>
                    </a:cubicBezTo>
                    <a:close/>
                    <a:moveTo>
                      <a:pt x="478" y="105"/>
                    </a:moveTo>
                    <a:cubicBezTo>
                      <a:pt x="478" y="102"/>
                      <a:pt x="478" y="99"/>
                      <a:pt x="478" y="96"/>
                    </a:cubicBezTo>
                    <a:cubicBezTo>
                      <a:pt x="478" y="97"/>
                      <a:pt x="479" y="99"/>
                      <a:pt x="479" y="100"/>
                    </a:cubicBezTo>
                    <a:cubicBezTo>
                      <a:pt x="479" y="102"/>
                      <a:pt x="479" y="103"/>
                      <a:pt x="478" y="105"/>
                    </a:cubicBezTo>
                    <a:cubicBezTo>
                      <a:pt x="478" y="105"/>
                      <a:pt x="478" y="105"/>
                      <a:pt x="478" y="105"/>
                    </a:cubicBezTo>
                    <a:close/>
                    <a:moveTo>
                      <a:pt x="480" y="130"/>
                    </a:moveTo>
                    <a:cubicBezTo>
                      <a:pt x="480" y="130"/>
                      <a:pt x="479" y="130"/>
                      <a:pt x="479" y="130"/>
                    </a:cubicBezTo>
                    <a:cubicBezTo>
                      <a:pt x="479" y="129"/>
                      <a:pt x="479" y="128"/>
                      <a:pt x="479" y="127"/>
                    </a:cubicBezTo>
                    <a:cubicBezTo>
                      <a:pt x="479" y="128"/>
                      <a:pt x="480" y="128"/>
                      <a:pt x="480" y="129"/>
                    </a:cubicBezTo>
                    <a:cubicBezTo>
                      <a:pt x="480" y="129"/>
                      <a:pt x="480" y="130"/>
                      <a:pt x="480" y="130"/>
                    </a:cubicBezTo>
                    <a:close/>
                    <a:moveTo>
                      <a:pt x="486" y="74"/>
                    </a:moveTo>
                    <a:cubicBezTo>
                      <a:pt x="486" y="73"/>
                      <a:pt x="486" y="71"/>
                      <a:pt x="486" y="70"/>
                    </a:cubicBezTo>
                    <a:cubicBezTo>
                      <a:pt x="487" y="70"/>
                      <a:pt x="487" y="71"/>
                      <a:pt x="487" y="72"/>
                    </a:cubicBezTo>
                    <a:cubicBezTo>
                      <a:pt x="487" y="72"/>
                      <a:pt x="487" y="73"/>
                      <a:pt x="486" y="74"/>
                    </a:cubicBezTo>
                    <a:close/>
                    <a:moveTo>
                      <a:pt x="490" y="139"/>
                    </a:moveTo>
                    <a:cubicBezTo>
                      <a:pt x="490" y="140"/>
                      <a:pt x="490" y="141"/>
                      <a:pt x="490" y="142"/>
                    </a:cubicBezTo>
                    <a:cubicBezTo>
                      <a:pt x="490" y="142"/>
                      <a:pt x="490" y="141"/>
                      <a:pt x="490" y="139"/>
                    </a:cubicBezTo>
                    <a:cubicBezTo>
                      <a:pt x="490" y="138"/>
                      <a:pt x="490" y="137"/>
                      <a:pt x="491" y="136"/>
                    </a:cubicBezTo>
                    <a:cubicBezTo>
                      <a:pt x="491" y="137"/>
                      <a:pt x="491" y="137"/>
                      <a:pt x="491" y="137"/>
                    </a:cubicBezTo>
                    <a:cubicBezTo>
                      <a:pt x="491" y="138"/>
                      <a:pt x="490" y="139"/>
                      <a:pt x="490" y="139"/>
                    </a:cubicBezTo>
                    <a:close/>
                    <a:moveTo>
                      <a:pt x="492" y="122"/>
                    </a:moveTo>
                    <a:cubicBezTo>
                      <a:pt x="492" y="122"/>
                      <a:pt x="492" y="122"/>
                      <a:pt x="492" y="122"/>
                    </a:cubicBezTo>
                    <a:cubicBezTo>
                      <a:pt x="492" y="121"/>
                      <a:pt x="492" y="121"/>
                      <a:pt x="492" y="121"/>
                    </a:cubicBezTo>
                    <a:cubicBezTo>
                      <a:pt x="492" y="121"/>
                      <a:pt x="492" y="122"/>
                      <a:pt x="492" y="122"/>
                    </a:cubicBezTo>
                    <a:close/>
                    <a:moveTo>
                      <a:pt x="493" y="110"/>
                    </a:moveTo>
                    <a:cubicBezTo>
                      <a:pt x="492" y="112"/>
                      <a:pt x="491" y="114"/>
                      <a:pt x="491" y="116"/>
                    </a:cubicBezTo>
                    <a:cubicBezTo>
                      <a:pt x="490" y="116"/>
                      <a:pt x="490" y="117"/>
                      <a:pt x="490" y="117"/>
                    </a:cubicBezTo>
                    <a:cubicBezTo>
                      <a:pt x="490" y="113"/>
                      <a:pt x="489" y="108"/>
                      <a:pt x="489" y="104"/>
                    </a:cubicBezTo>
                    <a:cubicBezTo>
                      <a:pt x="490" y="101"/>
                      <a:pt x="491" y="98"/>
                      <a:pt x="492" y="96"/>
                    </a:cubicBezTo>
                    <a:cubicBezTo>
                      <a:pt x="492" y="95"/>
                      <a:pt x="492" y="95"/>
                      <a:pt x="492" y="95"/>
                    </a:cubicBezTo>
                    <a:cubicBezTo>
                      <a:pt x="492" y="98"/>
                      <a:pt x="493" y="101"/>
                      <a:pt x="493" y="104"/>
                    </a:cubicBezTo>
                    <a:cubicBezTo>
                      <a:pt x="493" y="106"/>
                      <a:pt x="493" y="108"/>
                      <a:pt x="493" y="110"/>
                    </a:cubicBezTo>
                    <a:close/>
                    <a:moveTo>
                      <a:pt x="494" y="99"/>
                    </a:moveTo>
                    <a:cubicBezTo>
                      <a:pt x="493" y="97"/>
                      <a:pt x="493" y="96"/>
                      <a:pt x="492" y="94"/>
                    </a:cubicBezTo>
                    <a:cubicBezTo>
                      <a:pt x="493" y="93"/>
                      <a:pt x="494" y="92"/>
                      <a:pt x="494" y="91"/>
                    </a:cubicBezTo>
                    <a:cubicBezTo>
                      <a:pt x="494" y="94"/>
                      <a:pt x="494" y="96"/>
                      <a:pt x="494" y="99"/>
                    </a:cubicBezTo>
                    <a:close/>
                    <a:moveTo>
                      <a:pt x="488" y="91"/>
                    </a:moveTo>
                    <a:cubicBezTo>
                      <a:pt x="488" y="89"/>
                      <a:pt x="488" y="88"/>
                      <a:pt x="488" y="87"/>
                    </a:cubicBezTo>
                    <a:cubicBezTo>
                      <a:pt x="489" y="83"/>
                      <a:pt x="490" y="80"/>
                      <a:pt x="491" y="76"/>
                    </a:cubicBezTo>
                    <a:cubicBezTo>
                      <a:pt x="493" y="78"/>
                      <a:pt x="494" y="80"/>
                      <a:pt x="495" y="82"/>
                    </a:cubicBezTo>
                    <a:cubicBezTo>
                      <a:pt x="492" y="85"/>
                      <a:pt x="490" y="88"/>
                      <a:pt x="488" y="91"/>
                    </a:cubicBezTo>
                    <a:close/>
                    <a:moveTo>
                      <a:pt x="495" y="79"/>
                    </a:moveTo>
                    <a:cubicBezTo>
                      <a:pt x="494" y="77"/>
                      <a:pt x="493" y="76"/>
                      <a:pt x="492" y="75"/>
                    </a:cubicBezTo>
                    <a:cubicBezTo>
                      <a:pt x="493" y="72"/>
                      <a:pt x="495" y="68"/>
                      <a:pt x="496" y="65"/>
                    </a:cubicBezTo>
                    <a:cubicBezTo>
                      <a:pt x="496" y="68"/>
                      <a:pt x="496" y="73"/>
                      <a:pt x="495" y="79"/>
                    </a:cubicBezTo>
                    <a:close/>
                    <a:moveTo>
                      <a:pt x="514" y="54"/>
                    </a:moveTo>
                    <a:cubicBezTo>
                      <a:pt x="513" y="56"/>
                      <a:pt x="512" y="58"/>
                      <a:pt x="512" y="61"/>
                    </a:cubicBezTo>
                    <a:cubicBezTo>
                      <a:pt x="508" y="65"/>
                      <a:pt x="505" y="69"/>
                      <a:pt x="501" y="74"/>
                    </a:cubicBezTo>
                    <a:cubicBezTo>
                      <a:pt x="504" y="67"/>
                      <a:pt x="509" y="60"/>
                      <a:pt x="514" y="54"/>
                    </a:cubicBezTo>
                    <a:close/>
                    <a:moveTo>
                      <a:pt x="499" y="89"/>
                    </a:moveTo>
                    <a:cubicBezTo>
                      <a:pt x="499" y="90"/>
                      <a:pt x="500" y="91"/>
                      <a:pt x="500" y="92"/>
                    </a:cubicBezTo>
                    <a:cubicBezTo>
                      <a:pt x="500" y="92"/>
                      <a:pt x="500" y="93"/>
                      <a:pt x="499" y="94"/>
                    </a:cubicBezTo>
                    <a:cubicBezTo>
                      <a:pt x="499" y="92"/>
                      <a:pt x="499" y="91"/>
                      <a:pt x="499" y="89"/>
                    </a:cubicBezTo>
                    <a:close/>
                    <a:moveTo>
                      <a:pt x="502" y="127"/>
                    </a:moveTo>
                    <a:cubicBezTo>
                      <a:pt x="501" y="125"/>
                      <a:pt x="501" y="124"/>
                      <a:pt x="500" y="122"/>
                    </a:cubicBezTo>
                    <a:cubicBezTo>
                      <a:pt x="500" y="117"/>
                      <a:pt x="500" y="111"/>
                      <a:pt x="500" y="105"/>
                    </a:cubicBezTo>
                    <a:cubicBezTo>
                      <a:pt x="501" y="104"/>
                      <a:pt x="502" y="102"/>
                      <a:pt x="503" y="101"/>
                    </a:cubicBezTo>
                    <a:cubicBezTo>
                      <a:pt x="502" y="102"/>
                      <a:pt x="501" y="103"/>
                      <a:pt x="500" y="105"/>
                    </a:cubicBezTo>
                    <a:cubicBezTo>
                      <a:pt x="500" y="102"/>
                      <a:pt x="499" y="99"/>
                      <a:pt x="499" y="96"/>
                    </a:cubicBezTo>
                    <a:cubicBezTo>
                      <a:pt x="500" y="95"/>
                      <a:pt x="500" y="94"/>
                      <a:pt x="501" y="93"/>
                    </a:cubicBezTo>
                    <a:cubicBezTo>
                      <a:pt x="502" y="95"/>
                      <a:pt x="503" y="97"/>
                      <a:pt x="503" y="100"/>
                    </a:cubicBezTo>
                    <a:cubicBezTo>
                      <a:pt x="503" y="100"/>
                      <a:pt x="503" y="100"/>
                      <a:pt x="503" y="101"/>
                    </a:cubicBezTo>
                    <a:cubicBezTo>
                      <a:pt x="503" y="101"/>
                      <a:pt x="503" y="100"/>
                      <a:pt x="503" y="100"/>
                    </a:cubicBezTo>
                    <a:cubicBezTo>
                      <a:pt x="504" y="101"/>
                      <a:pt x="504" y="102"/>
                      <a:pt x="505" y="103"/>
                    </a:cubicBezTo>
                    <a:cubicBezTo>
                      <a:pt x="503" y="112"/>
                      <a:pt x="502" y="120"/>
                      <a:pt x="502" y="127"/>
                    </a:cubicBezTo>
                    <a:close/>
                    <a:moveTo>
                      <a:pt x="503" y="87"/>
                    </a:moveTo>
                    <a:cubicBezTo>
                      <a:pt x="503" y="86"/>
                      <a:pt x="504" y="84"/>
                      <a:pt x="505" y="83"/>
                    </a:cubicBezTo>
                    <a:cubicBezTo>
                      <a:pt x="504" y="84"/>
                      <a:pt x="503" y="86"/>
                      <a:pt x="502" y="87"/>
                    </a:cubicBezTo>
                    <a:cubicBezTo>
                      <a:pt x="501" y="86"/>
                      <a:pt x="500" y="85"/>
                      <a:pt x="499" y="83"/>
                    </a:cubicBezTo>
                    <a:cubicBezTo>
                      <a:pt x="503" y="78"/>
                      <a:pt x="507" y="72"/>
                      <a:pt x="511" y="67"/>
                    </a:cubicBezTo>
                    <a:cubicBezTo>
                      <a:pt x="510" y="72"/>
                      <a:pt x="509" y="76"/>
                      <a:pt x="508" y="81"/>
                    </a:cubicBezTo>
                    <a:cubicBezTo>
                      <a:pt x="508" y="80"/>
                      <a:pt x="507" y="79"/>
                      <a:pt x="507" y="79"/>
                    </a:cubicBezTo>
                    <a:cubicBezTo>
                      <a:pt x="507" y="78"/>
                      <a:pt x="508" y="77"/>
                      <a:pt x="509" y="75"/>
                    </a:cubicBezTo>
                    <a:cubicBezTo>
                      <a:pt x="508" y="76"/>
                      <a:pt x="507" y="77"/>
                      <a:pt x="507" y="79"/>
                    </a:cubicBezTo>
                    <a:cubicBezTo>
                      <a:pt x="506" y="78"/>
                      <a:pt x="506" y="77"/>
                      <a:pt x="505" y="77"/>
                    </a:cubicBezTo>
                    <a:cubicBezTo>
                      <a:pt x="506" y="78"/>
                      <a:pt x="506" y="79"/>
                      <a:pt x="506" y="79"/>
                    </a:cubicBezTo>
                    <a:cubicBezTo>
                      <a:pt x="506" y="80"/>
                      <a:pt x="505" y="81"/>
                      <a:pt x="505" y="83"/>
                    </a:cubicBezTo>
                    <a:cubicBezTo>
                      <a:pt x="505" y="82"/>
                      <a:pt x="506" y="81"/>
                      <a:pt x="506" y="80"/>
                    </a:cubicBezTo>
                    <a:cubicBezTo>
                      <a:pt x="507" y="81"/>
                      <a:pt x="507" y="82"/>
                      <a:pt x="508" y="84"/>
                    </a:cubicBezTo>
                    <a:cubicBezTo>
                      <a:pt x="507" y="87"/>
                      <a:pt x="507" y="90"/>
                      <a:pt x="506" y="93"/>
                    </a:cubicBezTo>
                    <a:cubicBezTo>
                      <a:pt x="505" y="91"/>
                      <a:pt x="504" y="89"/>
                      <a:pt x="503" y="87"/>
                    </a:cubicBezTo>
                    <a:close/>
                    <a:moveTo>
                      <a:pt x="508" y="144"/>
                    </a:moveTo>
                    <a:cubicBezTo>
                      <a:pt x="507" y="144"/>
                      <a:pt x="507" y="143"/>
                      <a:pt x="507" y="143"/>
                    </a:cubicBezTo>
                    <a:cubicBezTo>
                      <a:pt x="507" y="140"/>
                      <a:pt x="507" y="136"/>
                      <a:pt x="508" y="131"/>
                    </a:cubicBezTo>
                    <a:cubicBezTo>
                      <a:pt x="509" y="128"/>
                      <a:pt x="509" y="126"/>
                      <a:pt x="509" y="125"/>
                    </a:cubicBezTo>
                    <a:cubicBezTo>
                      <a:pt x="509" y="125"/>
                      <a:pt x="509" y="124"/>
                      <a:pt x="509" y="124"/>
                    </a:cubicBezTo>
                    <a:cubicBezTo>
                      <a:pt x="509" y="124"/>
                      <a:pt x="508" y="124"/>
                      <a:pt x="508" y="124"/>
                    </a:cubicBezTo>
                    <a:cubicBezTo>
                      <a:pt x="508" y="122"/>
                      <a:pt x="508" y="120"/>
                      <a:pt x="509" y="118"/>
                    </a:cubicBezTo>
                    <a:cubicBezTo>
                      <a:pt x="509" y="121"/>
                      <a:pt x="510" y="125"/>
                      <a:pt x="510" y="128"/>
                    </a:cubicBezTo>
                    <a:cubicBezTo>
                      <a:pt x="509" y="136"/>
                      <a:pt x="508" y="141"/>
                      <a:pt x="508" y="144"/>
                    </a:cubicBezTo>
                    <a:close/>
                    <a:moveTo>
                      <a:pt x="514" y="107"/>
                    </a:moveTo>
                    <a:cubicBezTo>
                      <a:pt x="513" y="105"/>
                      <a:pt x="512" y="102"/>
                      <a:pt x="510" y="100"/>
                    </a:cubicBezTo>
                    <a:cubicBezTo>
                      <a:pt x="511" y="97"/>
                      <a:pt x="511" y="95"/>
                      <a:pt x="511" y="93"/>
                    </a:cubicBezTo>
                    <a:cubicBezTo>
                      <a:pt x="512" y="96"/>
                      <a:pt x="514" y="99"/>
                      <a:pt x="515" y="102"/>
                    </a:cubicBezTo>
                    <a:cubicBezTo>
                      <a:pt x="515" y="104"/>
                      <a:pt x="514" y="105"/>
                      <a:pt x="514" y="107"/>
                    </a:cubicBezTo>
                    <a:close/>
                    <a:moveTo>
                      <a:pt x="515" y="159"/>
                    </a:move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6" y="159"/>
                      <a:pt x="516" y="159"/>
                    </a:cubicBezTo>
                    <a:cubicBezTo>
                      <a:pt x="516" y="159"/>
                      <a:pt x="515" y="159"/>
                      <a:pt x="515" y="159"/>
                    </a:cubicBezTo>
                    <a:close/>
                    <a:moveTo>
                      <a:pt x="516" y="96"/>
                    </a:moveTo>
                    <a:cubicBezTo>
                      <a:pt x="515" y="93"/>
                      <a:pt x="514" y="91"/>
                      <a:pt x="512" y="88"/>
                    </a:cubicBezTo>
                    <a:cubicBezTo>
                      <a:pt x="515" y="85"/>
                      <a:pt x="517" y="82"/>
                      <a:pt x="518" y="79"/>
                    </a:cubicBezTo>
                    <a:cubicBezTo>
                      <a:pt x="518" y="84"/>
                      <a:pt x="517" y="90"/>
                      <a:pt x="516" y="96"/>
                    </a:cubicBezTo>
                    <a:close/>
                    <a:moveTo>
                      <a:pt x="519" y="75"/>
                    </a:moveTo>
                    <a:cubicBezTo>
                      <a:pt x="517" y="78"/>
                      <a:pt x="514" y="82"/>
                      <a:pt x="512" y="86"/>
                    </a:cubicBezTo>
                    <a:cubicBezTo>
                      <a:pt x="513" y="77"/>
                      <a:pt x="514" y="68"/>
                      <a:pt x="515" y="61"/>
                    </a:cubicBezTo>
                    <a:cubicBezTo>
                      <a:pt x="517" y="58"/>
                      <a:pt x="519" y="55"/>
                      <a:pt x="521" y="53"/>
                    </a:cubicBezTo>
                    <a:cubicBezTo>
                      <a:pt x="521" y="58"/>
                      <a:pt x="520" y="66"/>
                      <a:pt x="519" y="75"/>
                    </a:cubicBezTo>
                    <a:close/>
                    <a:moveTo>
                      <a:pt x="526" y="139"/>
                    </a:moveTo>
                    <a:cubicBezTo>
                      <a:pt x="526" y="139"/>
                      <a:pt x="526" y="139"/>
                      <a:pt x="526" y="139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8"/>
                      <a:pt x="526" y="138"/>
                      <a:pt x="526" y="138"/>
                    </a:cubicBezTo>
                    <a:cubicBezTo>
                      <a:pt x="526" y="139"/>
                      <a:pt x="526" y="139"/>
                      <a:pt x="526" y="139"/>
                    </a:cubicBezTo>
                    <a:close/>
                    <a:moveTo>
                      <a:pt x="551" y="137"/>
                    </a:moveTo>
                    <a:cubicBezTo>
                      <a:pt x="551" y="136"/>
                      <a:pt x="550" y="135"/>
                      <a:pt x="550" y="133"/>
                    </a:cubicBezTo>
                    <a:cubicBezTo>
                      <a:pt x="550" y="132"/>
                      <a:pt x="550" y="130"/>
                      <a:pt x="550" y="128"/>
                    </a:cubicBezTo>
                    <a:cubicBezTo>
                      <a:pt x="551" y="131"/>
                      <a:pt x="551" y="133"/>
                      <a:pt x="552" y="135"/>
                    </a:cubicBezTo>
                    <a:cubicBezTo>
                      <a:pt x="552" y="136"/>
                      <a:pt x="552" y="137"/>
                      <a:pt x="551" y="137"/>
                    </a:cubicBezTo>
                    <a:close/>
                    <a:moveTo>
                      <a:pt x="558" y="99"/>
                    </a:moveTo>
                    <a:cubicBezTo>
                      <a:pt x="556" y="95"/>
                      <a:pt x="554" y="92"/>
                      <a:pt x="552" y="90"/>
                    </a:cubicBezTo>
                    <a:cubicBezTo>
                      <a:pt x="554" y="93"/>
                      <a:pt x="556" y="97"/>
                      <a:pt x="557" y="101"/>
                    </a:cubicBezTo>
                    <a:cubicBezTo>
                      <a:pt x="556" y="110"/>
                      <a:pt x="555" y="118"/>
                      <a:pt x="554" y="125"/>
                    </a:cubicBezTo>
                    <a:cubicBezTo>
                      <a:pt x="553" y="122"/>
                      <a:pt x="552" y="119"/>
                      <a:pt x="551" y="116"/>
                    </a:cubicBezTo>
                    <a:cubicBezTo>
                      <a:pt x="551" y="102"/>
                      <a:pt x="552" y="86"/>
                      <a:pt x="553" y="72"/>
                    </a:cubicBezTo>
                    <a:cubicBezTo>
                      <a:pt x="556" y="75"/>
                      <a:pt x="558" y="79"/>
                      <a:pt x="560" y="82"/>
                    </a:cubicBezTo>
                    <a:cubicBezTo>
                      <a:pt x="559" y="88"/>
                      <a:pt x="558" y="93"/>
                      <a:pt x="558" y="99"/>
                    </a:cubicBezTo>
                    <a:close/>
                    <a:moveTo>
                      <a:pt x="561" y="142"/>
                    </a:moveTo>
                    <a:cubicBezTo>
                      <a:pt x="561" y="134"/>
                      <a:pt x="562" y="127"/>
                      <a:pt x="562" y="121"/>
                    </a:cubicBezTo>
                    <a:cubicBezTo>
                      <a:pt x="563" y="123"/>
                      <a:pt x="563" y="125"/>
                      <a:pt x="563" y="127"/>
                    </a:cubicBezTo>
                    <a:cubicBezTo>
                      <a:pt x="562" y="136"/>
                      <a:pt x="561" y="142"/>
                      <a:pt x="561" y="142"/>
                    </a:cubicBezTo>
                    <a:close/>
                    <a:moveTo>
                      <a:pt x="564" y="144"/>
                    </a:moveTo>
                    <a:cubicBezTo>
                      <a:pt x="564" y="142"/>
                      <a:pt x="564" y="140"/>
                      <a:pt x="565" y="137"/>
                    </a:cubicBezTo>
                    <a:cubicBezTo>
                      <a:pt x="565" y="138"/>
                      <a:pt x="565" y="138"/>
                      <a:pt x="565" y="138"/>
                    </a:cubicBezTo>
                    <a:cubicBezTo>
                      <a:pt x="564" y="142"/>
                      <a:pt x="564" y="144"/>
                      <a:pt x="564" y="144"/>
                    </a:cubicBezTo>
                    <a:close/>
                    <a:moveTo>
                      <a:pt x="563" y="110"/>
                    </a:moveTo>
                    <a:cubicBezTo>
                      <a:pt x="563" y="103"/>
                      <a:pt x="564" y="96"/>
                      <a:pt x="564" y="90"/>
                    </a:cubicBezTo>
                    <a:cubicBezTo>
                      <a:pt x="566" y="93"/>
                      <a:pt x="567" y="96"/>
                      <a:pt x="568" y="99"/>
                    </a:cubicBezTo>
                    <a:cubicBezTo>
                      <a:pt x="567" y="105"/>
                      <a:pt x="566" y="111"/>
                      <a:pt x="565" y="116"/>
                    </a:cubicBezTo>
                    <a:cubicBezTo>
                      <a:pt x="564" y="114"/>
                      <a:pt x="564" y="112"/>
                      <a:pt x="563" y="110"/>
                    </a:cubicBezTo>
                    <a:close/>
                    <a:moveTo>
                      <a:pt x="568" y="124"/>
                    </a:moveTo>
                    <a:cubicBezTo>
                      <a:pt x="568" y="123"/>
                      <a:pt x="567" y="122"/>
                      <a:pt x="567" y="121"/>
                    </a:cubicBezTo>
                    <a:cubicBezTo>
                      <a:pt x="568" y="115"/>
                      <a:pt x="568" y="109"/>
                      <a:pt x="569" y="103"/>
                    </a:cubicBezTo>
                    <a:cubicBezTo>
                      <a:pt x="570" y="105"/>
                      <a:pt x="570" y="107"/>
                      <a:pt x="571" y="109"/>
                    </a:cubicBezTo>
                    <a:cubicBezTo>
                      <a:pt x="570" y="114"/>
                      <a:pt x="569" y="119"/>
                      <a:pt x="568" y="124"/>
                    </a:cubicBezTo>
                    <a:close/>
                    <a:moveTo>
                      <a:pt x="574" y="146"/>
                    </a:moveTo>
                    <a:cubicBezTo>
                      <a:pt x="574" y="145"/>
                      <a:pt x="574" y="145"/>
                      <a:pt x="574" y="145"/>
                    </a:cubicBezTo>
                    <a:cubicBezTo>
                      <a:pt x="574" y="144"/>
                      <a:pt x="574" y="143"/>
                      <a:pt x="574" y="142"/>
                    </a:cubicBezTo>
                    <a:cubicBezTo>
                      <a:pt x="574" y="142"/>
                      <a:pt x="574" y="143"/>
                      <a:pt x="574" y="144"/>
                    </a:cubicBezTo>
                    <a:cubicBezTo>
                      <a:pt x="574" y="145"/>
                      <a:pt x="574" y="145"/>
                      <a:pt x="574" y="146"/>
                    </a:cubicBezTo>
                    <a:close/>
                    <a:moveTo>
                      <a:pt x="597" y="118"/>
                    </a:moveTo>
                    <a:cubicBezTo>
                      <a:pt x="596" y="114"/>
                      <a:pt x="595" y="111"/>
                      <a:pt x="593" y="107"/>
                    </a:cubicBezTo>
                    <a:cubicBezTo>
                      <a:pt x="593" y="96"/>
                      <a:pt x="593" y="84"/>
                      <a:pt x="593" y="74"/>
                    </a:cubicBezTo>
                    <a:cubicBezTo>
                      <a:pt x="593" y="70"/>
                      <a:pt x="593" y="67"/>
                      <a:pt x="592" y="65"/>
                    </a:cubicBezTo>
                    <a:cubicBezTo>
                      <a:pt x="593" y="74"/>
                      <a:pt x="597" y="84"/>
                      <a:pt x="600" y="94"/>
                    </a:cubicBezTo>
                    <a:cubicBezTo>
                      <a:pt x="599" y="102"/>
                      <a:pt x="598" y="110"/>
                      <a:pt x="597" y="118"/>
                    </a:cubicBezTo>
                    <a:close/>
                    <a:moveTo>
                      <a:pt x="626" y="124"/>
                    </a:moveTo>
                    <a:cubicBezTo>
                      <a:pt x="626" y="122"/>
                      <a:pt x="625" y="120"/>
                      <a:pt x="625" y="117"/>
                    </a:cubicBezTo>
                    <a:cubicBezTo>
                      <a:pt x="626" y="109"/>
                      <a:pt x="627" y="100"/>
                      <a:pt x="627" y="92"/>
                    </a:cubicBezTo>
                    <a:cubicBezTo>
                      <a:pt x="629" y="96"/>
                      <a:pt x="630" y="100"/>
                      <a:pt x="630" y="104"/>
                    </a:cubicBezTo>
                    <a:cubicBezTo>
                      <a:pt x="629" y="111"/>
                      <a:pt x="627" y="118"/>
                      <a:pt x="626" y="124"/>
                    </a:cubicBezTo>
                    <a:close/>
                    <a:moveTo>
                      <a:pt x="667" y="133"/>
                    </a:moveTo>
                    <a:cubicBezTo>
                      <a:pt x="666" y="130"/>
                      <a:pt x="665" y="126"/>
                      <a:pt x="664" y="122"/>
                    </a:cubicBezTo>
                    <a:cubicBezTo>
                      <a:pt x="664" y="112"/>
                      <a:pt x="665" y="100"/>
                      <a:pt x="665" y="88"/>
                    </a:cubicBezTo>
                    <a:cubicBezTo>
                      <a:pt x="667" y="96"/>
                      <a:pt x="669" y="104"/>
                      <a:pt x="670" y="111"/>
                    </a:cubicBezTo>
                    <a:cubicBezTo>
                      <a:pt x="670" y="117"/>
                      <a:pt x="670" y="117"/>
                      <a:pt x="670" y="117"/>
                    </a:cubicBezTo>
                    <a:cubicBezTo>
                      <a:pt x="668" y="123"/>
                      <a:pt x="667" y="129"/>
                      <a:pt x="667" y="133"/>
                    </a:cubicBezTo>
                    <a:close/>
                    <a:moveTo>
                      <a:pt x="679" y="110"/>
                    </a:moveTo>
                    <a:cubicBezTo>
                      <a:pt x="679" y="113"/>
                      <a:pt x="679" y="116"/>
                      <a:pt x="679" y="119"/>
                    </a:cubicBezTo>
                    <a:cubicBezTo>
                      <a:pt x="678" y="122"/>
                      <a:pt x="678" y="124"/>
                      <a:pt x="677" y="127"/>
                    </a:cubicBezTo>
                    <a:cubicBezTo>
                      <a:pt x="677" y="119"/>
                      <a:pt x="676" y="111"/>
                      <a:pt x="675" y="104"/>
                    </a:cubicBezTo>
                    <a:cubicBezTo>
                      <a:pt x="676" y="98"/>
                      <a:pt x="676" y="91"/>
                      <a:pt x="677" y="86"/>
                    </a:cubicBezTo>
                    <a:cubicBezTo>
                      <a:pt x="679" y="93"/>
                      <a:pt x="679" y="102"/>
                      <a:pt x="679" y="110"/>
                    </a:cubicBezTo>
                    <a:close/>
                    <a:moveTo>
                      <a:pt x="689" y="142"/>
                    </a:moveTo>
                    <a:cubicBezTo>
                      <a:pt x="689" y="142"/>
                      <a:pt x="689" y="141"/>
                      <a:pt x="690" y="138"/>
                    </a:cubicBezTo>
                    <a:cubicBezTo>
                      <a:pt x="691" y="120"/>
                      <a:pt x="690" y="96"/>
                      <a:pt x="689" y="77"/>
                    </a:cubicBezTo>
                    <a:cubicBezTo>
                      <a:pt x="691" y="81"/>
                      <a:pt x="693" y="86"/>
                      <a:pt x="694" y="92"/>
                    </a:cubicBezTo>
                    <a:cubicBezTo>
                      <a:pt x="692" y="108"/>
                      <a:pt x="690" y="129"/>
                      <a:pt x="690" y="138"/>
                    </a:cubicBezTo>
                    <a:cubicBezTo>
                      <a:pt x="690" y="139"/>
                      <a:pt x="689" y="141"/>
                      <a:pt x="689" y="142"/>
                    </a:cubicBezTo>
                    <a:close/>
                    <a:moveTo>
                      <a:pt x="693" y="129"/>
                    </a:moveTo>
                    <a:cubicBezTo>
                      <a:pt x="693" y="119"/>
                      <a:pt x="694" y="107"/>
                      <a:pt x="695" y="97"/>
                    </a:cubicBezTo>
                    <a:cubicBezTo>
                      <a:pt x="695" y="100"/>
                      <a:pt x="695" y="103"/>
                      <a:pt x="695" y="106"/>
                    </a:cubicBezTo>
                    <a:cubicBezTo>
                      <a:pt x="695" y="114"/>
                      <a:pt x="694" y="121"/>
                      <a:pt x="693" y="129"/>
                    </a:cubicBezTo>
                    <a:close/>
                    <a:moveTo>
                      <a:pt x="705" y="125"/>
                    </a:moveTo>
                    <a:cubicBezTo>
                      <a:pt x="705" y="120"/>
                      <a:pt x="705" y="113"/>
                      <a:pt x="705" y="107"/>
                    </a:cubicBezTo>
                    <a:cubicBezTo>
                      <a:pt x="705" y="114"/>
                      <a:pt x="705" y="120"/>
                      <a:pt x="705" y="125"/>
                    </a:cubicBezTo>
                    <a:close/>
                    <a:moveTo>
                      <a:pt x="720" y="112"/>
                    </a:moveTo>
                    <a:cubicBezTo>
                      <a:pt x="720" y="105"/>
                      <a:pt x="720" y="98"/>
                      <a:pt x="719" y="91"/>
                    </a:cubicBezTo>
                    <a:cubicBezTo>
                      <a:pt x="720" y="95"/>
                      <a:pt x="720" y="99"/>
                      <a:pt x="720" y="103"/>
                    </a:cubicBezTo>
                    <a:cubicBezTo>
                      <a:pt x="720" y="106"/>
                      <a:pt x="720" y="109"/>
                      <a:pt x="720" y="112"/>
                    </a:cubicBezTo>
                    <a:close/>
                    <a:moveTo>
                      <a:pt x="730" y="129"/>
                    </a:moveTo>
                    <a:cubicBezTo>
                      <a:pt x="730" y="129"/>
                      <a:pt x="730" y="129"/>
                      <a:pt x="730" y="130"/>
                    </a:cubicBezTo>
                    <a:cubicBezTo>
                      <a:pt x="729" y="132"/>
                      <a:pt x="728" y="134"/>
                      <a:pt x="728" y="137"/>
                    </a:cubicBezTo>
                    <a:cubicBezTo>
                      <a:pt x="728" y="136"/>
                      <a:pt x="728" y="136"/>
                      <a:pt x="728" y="136"/>
                    </a:cubicBezTo>
                    <a:cubicBezTo>
                      <a:pt x="728" y="134"/>
                      <a:pt x="729" y="132"/>
                      <a:pt x="730" y="130"/>
                    </a:cubicBezTo>
                    <a:cubicBezTo>
                      <a:pt x="730" y="129"/>
                      <a:pt x="730" y="129"/>
                      <a:pt x="730" y="129"/>
                    </a:cubicBezTo>
                    <a:cubicBezTo>
                      <a:pt x="730" y="129"/>
                      <a:pt x="730" y="129"/>
                      <a:pt x="730" y="129"/>
                    </a:cubicBezTo>
                    <a:close/>
                    <a:moveTo>
                      <a:pt x="767" y="130"/>
                    </a:moveTo>
                    <a:cubicBezTo>
                      <a:pt x="766" y="132"/>
                      <a:pt x="765" y="134"/>
                      <a:pt x="765" y="136"/>
                    </a:cubicBezTo>
                    <a:cubicBezTo>
                      <a:pt x="764" y="131"/>
                      <a:pt x="764" y="126"/>
                      <a:pt x="764" y="121"/>
                    </a:cubicBezTo>
                    <a:cubicBezTo>
                      <a:pt x="766" y="115"/>
                      <a:pt x="768" y="110"/>
                      <a:pt x="769" y="104"/>
                    </a:cubicBezTo>
                    <a:cubicBezTo>
                      <a:pt x="768" y="114"/>
                      <a:pt x="767" y="123"/>
                      <a:pt x="767" y="130"/>
                    </a:cubicBezTo>
                    <a:close/>
                    <a:moveTo>
                      <a:pt x="782" y="124"/>
                    </a:moveTo>
                    <a:cubicBezTo>
                      <a:pt x="782" y="110"/>
                      <a:pt x="784" y="94"/>
                      <a:pt x="785" y="83"/>
                    </a:cubicBezTo>
                    <a:cubicBezTo>
                      <a:pt x="785" y="87"/>
                      <a:pt x="785" y="91"/>
                      <a:pt x="785" y="95"/>
                    </a:cubicBezTo>
                    <a:cubicBezTo>
                      <a:pt x="785" y="105"/>
                      <a:pt x="784" y="114"/>
                      <a:pt x="782" y="124"/>
                    </a:cubicBezTo>
                    <a:close/>
                    <a:moveTo>
                      <a:pt x="799" y="160"/>
                    </a:move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59"/>
                    </a:cubicBezTo>
                    <a:cubicBezTo>
                      <a:pt x="799" y="159"/>
                      <a:pt x="799" y="159"/>
                      <a:pt x="799" y="160"/>
                    </a:cubicBezTo>
                    <a:close/>
                    <a:moveTo>
                      <a:pt x="811" y="116"/>
                    </a:moveTo>
                    <a:cubicBezTo>
                      <a:pt x="810" y="121"/>
                      <a:pt x="808" y="127"/>
                      <a:pt x="806" y="132"/>
                    </a:cubicBezTo>
                    <a:cubicBezTo>
                      <a:pt x="806" y="127"/>
                      <a:pt x="806" y="121"/>
                      <a:pt x="806" y="115"/>
                    </a:cubicBezTo>
                    <a:cubicBezTo>
                      <a:pt x="807" y="110"/>
                      <a:pt x="808" y="104"/>
                      <a:pt x="808" y="98"/>
                    </a:cubicBezTo>
                    <a:cubicBezTo>
                      <a:pt x="808" y="95"/>
                      <a:pt x="807" y="92"/>
                      <a:pt x="807" y="89"/>
                    </a:cubicBezTo>
                    <a:cubicBezTo>
                      <a:pt x="808" y="78"/>
                      <a:pt x="809" y="68"/>
                      <a:pt x="810" y="60"/>
                    </a:cubicBezTo>
                    <a:cubicBezTo>
                      <a:pt x="813" y="68"/>
                      <a:pt x="815" y="78"/>
                      <a:pt x="815" y="87"/>
                    </a:cubicBezTo>
                    <a:cubicBezTo>
                      <a:pt x="814" y="95"/>
                      <a:pt x="813" y="106"/>
                      <a:pt x="811" y="116"/>
                    </a:cubicBezTo>
                    <a:close/>
                    <a:moveTo>
                      <a:pt x="819" y="136"/>
                    </a:moveTo>
                    <a:cubicBezTo>
                      <a:pt x="819" y="137"/>
                      <a:pt x="819" y="138"/>
                      <a:pt x="818" y="139"/>
                    </a:cubicBezTo>
                    <a:cubicBezTo>
                      <a:pt x="818" y="137"/>
                      <a:pt x="818" y="135"/>
                      <a:pt x="818" y="133"/>
                    </a:cubicBezTo>
                    <a:cubicBezTo>
                      <a:pt x="819" y="130"/>
                      <a:pt x="819" y="128"/>
                      <a:pt x="820" y="125"/>
                    </a:cubicBezTo>
                    <a:cubicBezTo>
                      <a:pt x="820" y="129"/>
                      <a:pt x="819" y="133"/>
                      <a:pt x="819" y="136"/>
                    </a:cubicBezTo>
                    <a:close/>
                    <a:moveTo>
                      <a:pt x="835" y="126"/>
                    </a:moveTo>
                    <a:cubicBezTo>
                      <a:pt x="834" y="113"/>
                      <a:pt x="834" y="96"/>
                      <a:pt x="834" y="84"/>
                    </a:cubicBezTo>
                    <a:cubicBezTo>
                      <a:pt x="838" y="90"/>
                      <a:pt x="840" y="100"/>
                      <a:pt x="840" y="104"/>
                    </a:cubicBezTo>
                    <a:cubicBezTo>
                      <a:pt x="840" y="110"/>
                      <a:pt x="838" y="118"/>
                      <a:pt x="835" y="126"/>
                    </a:cubicBezTo>
                    <a:close/>
                    <a:moveTo>
                      <a:pt x="846" y="128"/>
                    </a:moveTo>
                    <a:cubicBezTo>
                      <a:pt x="848" y="113"/>
                      <a:pt x="847" y="91"/>
                      <a:pt x="847" y="76"/>
                    </a:cubicBezTo>
                    <a:cubicBezTo>
                      <a:pt x="849" y="83"/>
                      <a:pt x="851" y="90"/>
                      <a:pt x="851" y="96"/>
                    </a:cubicBezTo>
                    <a:cubicBezTo>
                      <a:pt x="851" y="107"/>
                      <a:pt x="849" y="117"/>
                      <a:pt x="846" y="128"/>
                    </a:cubicBezTo>
                    <a:close/>
                    <a:moveTo>
                      <a:pt x="886" y="112"/>
                    </a:moveTo>
                    <a:cubicBezTo>
                      <a:pt x="886" y="110"/>
                      <a:pt x="886" y="108"/>
                      <a:pt x="886" y="106"/>
                    </a:cubicBezTo>
                    <a:cubicBezTo>
                      <a:pt x="886" y="108"/>
                      <a:pt x="885" y="112"/>
                      <a:pt x="885" y="115"/>
                    </a:cubicBezTo>
                    <a:cubicBezTo>
                      <a:pt x="880" y="131"/>
                      <a:pt x="876" y="144"/>
                      <a:pt x="876" y="144"/>
                    </a:cubicBezTo>
                    <a:cubicBezTo>
                      <a:pt x="877" y="133"/>
                      <a:pt x="881" y="110"/>
                      <a:pt x="886" y="86"/>
                    </a:cubicBezTo>
                    <a:cubicBezTo>
                      <a:pt x="888" y="90"/>
                      <a:pt x="889" y="95"/>
                      <a:pt x="890" y="99"/>
                    </a:cubicBezTo>
                    <a:cubicBezTo>
                      <a:pt x="888" y="103"/>
                      <a:pt x="887" y="108"/>
                      <a:pt x="886" y="112"/>
                    </a:cubicBezTo>
                    <a:close/>
                    <a:moveTo>
                      <a:pt x="899" y="133"/>
                    </a:moveTo>
                    <a:cubicBezTo>
                      <a:pt x="899" y="133"/>
                      <a:pt x="899" y="134"/>
                      <a:pt x="898" y="134"/>
                    </a:cubicBezTo>
                    <a:cubicBezTo>
                      <a:pt x="898" y="134"/>
                      <a:pt x="898" y="134"/>
                      <a:pt x="898" y="134"/>
                    </a:cubicBezTo>
                    <a:cubicBezTo>
                      <a:pt x="898" y="134"/>
                      <a:pt x="899" y="133"/>
                      <a:pt x="899" y="133"/>
                    </a:cubicBezTo>
                    <a:cubicBezTo>
                      <a:pt x="899" y="126"/>
                      <a:pt x="900" y="117"/>
                      <a:pt x="901" y="107"/>
                    </a:cubicBezTo>
                    <a:cubicBezTo>
                      <a:pt x="901" y="110"/>
                      <a:pt x="901" y="114"/>
                      <a:pt x="901" y="117"/>
                    </a:cubicBezTo>
                    <a:cubicBezTo>
                      <a:pt x="900" y="123"/>
                      <a:pt x="899" y="129"/>
                      <a:pt x="899" y="133"/>
                    </a:cubicBezTo>
                    <a:close/>
                    <a:moveTo>
                      <a:pt x="903" y="159"/>
                    </a:move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ubicBezTo>
                      <a:pt x="903" y="159"/>
                      <a:pt x="903" y="159"/>
                      <a:pt x="903" y="159"/>
                    </a:cubicBezTo>
                    <a:close/>
                    <a:moveTo>
                      <a:pt x="944" y="143"/>
                    </a:moveTo>
                    <a:cubicBezTo>
                      <a:pt x="944" y="142"/>
                      <a:pt x="944" y="142"/>
                      <a:pt x="944" y="141"/>
                    </a:cubicBezTo>
                    <a:cubicBezTo>
                      <a:pt x="944" y="135"/>
                      <a:pt x="945" y="127"/>
                      <a:pt x="946" y="117"/>
                    </a:cubicBezTo>
                    <a:cubicBezTo>
                      <a:pt x="946" y="121"/>
                      <a:pt x="946" y="125"/>
                      <a:pt x="946" y="129"/>
                    </a:cubicBezTo>
                    <a:cubicBezTo>
                      <a:pt x="945" y="135"/>
                      <a:pt x="945" y="139"/>
                      <a:pt x="944" y="143"/>
                    </a:cubicBezTo>
                    <a:close/>
                    <a:moveTo>
                      <a:pt x="948" y="117"/>
                    </a:moveTo>
                    <a:cubicBezTo>
                      <a:pt x="947" y="115"/>
                      <a:pt x="947" y="113"/>
                      <a:pt x="946" y="111"/>
                    </a:cubicBezTo>
                    <a:cubicBezTo>
                      <a:pt x="946" y="108"/>
                      <a:pt x="947" y="104"/>
                      <a:pt x="947" y="100"/>
                    </a:cubicBezTo>
                    <a:cubicBezTo>
                      <a:pt x="948" y="103"/>
                      <a:pt x="948" y="106"/>
                      <a:pt x="949" y="108"/>
                    </a:cubicBezTo>
                    <a:cubicBezTo>
                      <a:pt x="948" y="111"/>
                      <a:pt x="948" y="114"/>
                      <a:pt x="948" y="117"/>
                    </a:cubicBezTo>
                    <a:close/>
                    <a:moveTo>
                      <a:pt x="956" y="133"/>
                    </a:moveTo>
                    <a:cubicBezTo>
                      <a:pt x="956" y="133"/>
                      <a:pt x="956" y="133"/>
                      <a:pt x="956" y="133"/>
                    </a:cubicBezTo>
                    <a:cubicBezTo>
                      <a:pt x="957" y="130"/>
                      <a:pt x="957" y="127"/>
                      <a:pt x="957" y="124"/>
                    </a:cubicBezTo>
                    <a:cubicBezTo>
                      <a:pt x="957" y="125"/>
                      <a:pt x="957" y="126"/>
                      <a:pt x="957" y="128"/>
                    </a:cubicBezTo>
                    <a:cubicBezTo>
                      <a:pt x="957" y="130"/>
                      <a:pt x="957" y="131"/>
                      <a:pt x="956" y="133"/>
                    </a:cubicBezTo>
                    <a:close/>
                    <a:moveTo>
                      <a:pt x="993" y="142"/>
                    </a:moveTo>
                    <a:cubicBezTo>
                      <a:pt x="993" y="139"/>
                      <a:pt x="993" y="134"/>
                      <a:pt x="993" y="128"/>
                    </a:cubicBezTo>
                    <a:cubicBezTo>
                      <a:pt x="993" y="130"/>
                      <a:pt x="994" y="132"/>
                      <a:pt x="994" y="133"/>
                    </a:cubicBezTo>
                    <a:cubicBezTo>
                      <a:pt x="993" y="139"/>
                      <a:pt x="993" y="142"/>
                      <a:pt x="993" y="142"/>
                    </a:cubicBezTo>
                    <a:close/>
                    <a:moveTo>
                      <a:pt x="1015" y="135"/>
                    </a:moveTo>
                    <a:cubicBezTo>
                      <a:pt x="1014" y="134"/>
                      <a:pt x="1014" y="134"/>
                      <a:pt x="1014" y="133"/>
                    </a:cubicBezTo>
                    <a:cubicBezTo>
                      <a:pt x="1014" y="121"/>
                      <a:pt x="1014" y="103"/>
                      <a:pt x="1013" y="88"/>
                    </a:cubicBezTo>
                    <a:cubicBezTo>
                      <a:pt x="1015" y="94"/>
                      <a:pt x="1017" y="100"/>
                      <a:pt x="1018" y="106"/>
                    </a:cubicBezTo>
                    <a:cubicBezTo>
                      <a:pt x="1017" y="118"/>
                      <a:pt x="1015" y="128"/>
                      <a:pt x="1015" y="135"/>
                    </a:cubicBezTo>
                    <a:close/>
                    <a:moveTo>
                      <a:pt x="1021" y="145"/>
                    </a:moveTo>
                    <a:cubicBezTo>
                      <a:pt x="1021" y="141"/>
                      <a:pt x="1021" y="136"/>
                      <a:pt x="1022" y="129"/>
                    </a:cubicBezTo>
                    <a:cubicBezTo>
                      <a:pt x="1022" y="133"/>
                      <a:pt x="1022" y="136"/>
                      <a:pt x="1023" y="139"/>
                    </a:cubicBezTo>
                    <a:cubicBezTo>
                      <a:pt x="1022" y="143"/>
                      <a:pt x="1021" y="145"/>
                      <a:pt x="1021" y="145"/>
                    </a:cubicBezTo>
                    <a:close/>
                    <a:moveTo>
                      <a:pt x="1027" y="159"/>
                    </a:moveTo>
                    <a:cubicBezTo>
                      <a:pt x="1027" y="159"/>
                      <a:pt x="1027" y="159"/>
                      <a:pt x="1027" y="159"/>
                    </a:cubicBezTo>
                    <a:cubicBezTo>
                      <a:pt x="1027" y="159"/>
                      <a:pt x="1027" y="158"/>
                      <a:pt x="1027" y="158"/>
                    </a:cubicBezTo>
                    <a:cubicBezTo>
                      <a:pt x="1027" y="159"/>
                      <a:pt x="1028" y="160"/>
                      <a:pt x="1028" y="160"/>
                    </a:cubicBezTo>
                    <a:cubicBezTo>
                      <a:pt x="1028" y="160"/>
                      <a:pt x="1027" y="159"/>
                      <a:pt x="1027" y="159"/>
                    </a:cubicBezTo>
                    <a:close/>
                    <a:moveTo>
                      <a:pt x="1028" y="121"/>
                    </a:moveTo>
                    <a:cubicBezTo>
                      <a:pt x="1026" y="117"/>
                      <a:pt x="1025" y="114"/>
                      <a:pt x="1023" y="110"/>
                    </a:cubicBezTo>
                    <a:cubicBezTo>
                      <a:pt x="1024" y="105"/>
                      <a:pt x="1024" y="99"/>
                      <a:pt x="1025" y="94"/>
                    </a:cubicBezTo>
                    <a:cubicBezTo>
                      <a:pt x="1026" y="100"/>
                      <a:pt x="1027" y="108"/>
                      <a:pt x="1029" y="116"/>
                    </a:cubicBezTo>
                    <a:cubicBezTo>
                      <a:pt x="1029" y="118"/>
                      <a:pt x="1028" y="119"/>
                      <a:pt x="1028" y="121"/>
                    </a:cubicBezTo>
                    <a:close/>
                    <a:moveTo>
                      <a:pt x="1036" y="142"/>
                    </a:moveTo>
                    <a:cubicBezTo>
                      <a:pt x="1035" y="138"/>
                      <a:pt x="1033" y="134"/>
                      <a:pt x="1031" y="129"/>
                    </a:cubicBezTo>
                    <a:cubicBezTo>
                      <a:pt x="1031" y="129"/>
                      <a:pt x="1031" y="128"/>
                      <a:pt x="1032" y="127"/>
                    </a:cubicBezTo>
                    <a:cubicBezTo>
                      <a:pt x="1033" y="132"/>
                      <a:pt x="1035" y="137"/>
                      <a:pt x="1036" y="142"/>
                    </a:cubicBezTo>
                    <a:cubicBezTo>
                      <a:pt x="1039" y="149"/>
                      <a:pt x="1041" y="153"/>
                      <a:pt x="1041" y="155"/>
                    </a:cubicBezTo>
                    <a:cubicBezTo>
                      <a:pt x="1040" y="151"/>
                      <a:pt x="1038" y="147"/>
                      <a:pt x="1036" y="142"/>
                    </a:cubicBezTo>
                    <a:close/>
                    <a:moveTo>
                      <a:pt x="1261" y="88"/>
                    </a:moveTo>
                    <a:cubicBezTo>
                      <a:pt x="1262" y="90"/>
                      <a:pt x="1263" y="93"/>
                      <a:pt x="1263" y="95"/>
                    </a:cubicBezTo>
                    <a:cubicBezTo>
                      <a:pt x="1263" y="94"/>
                      <a:pt x="1262" y="93"/>
                      <a:pt x="1261" y="92"/>
                    </a:cubicBezTo>
                    <a:cubicBezTo>
                      <a:pt x="1261" y="90"/>
                      <a:pt x="1261" y="89"/>
                      <a:pt x="1261" y="88"/>
                    </a:cubicBezTo>
                    <a:close/>
                    <a:moveTo>
                      <a:pt x="1249" y="84"/>
                    </a:moveTo>
                    <a:cubicBezTo>
                      <a:pt x="1252" y="88"/>
                      <a:pt x="1254" y="92"/>
                      <a:pt x="1257" y="96"/>
                    </a:cubicBezTo>
                    <a:cubicBezTo>
                      <a:pt x="1257" y="97"/>
                      <a:pt x="1258" y="99"/>
                      <a:pt x="1258" y="100"/>
                    </a:cubicBezTo>
                    <a:cubicBezTo>
                      <a:pt x="1258" y="104"/>
                      <a:pt x="1257" y="108"/>
                      <a:pt x="1256" y="112"/>
                    </a:cubicBezTo>
                    <a:cubicBezTo>
                      <a:pt x="1254" y="105"/>
                      <a:pt x="1251" y="98"/>
                      <a:pt x="1248" y="92"/>
                    </a:cubicBezTo>
                    <a:cubicBezTo>
                      <a:pt x="1249" y="89"/>
                      <a:pt x="1249" y="86"/>
                      <a:pt x="1249" y="84"/>
                    </a:cubicBezTo>
                    <a:close/>
                    <a:moveTo>
                      <a:pt x="1254" y="111"/>
                    </a:moveTo>
                    <a:cubicBezTo>
                      <a:pt x="1251" y="108"/>
                      <a:pt x="1249" y="105"/>
                      <a:pt x="1247" y="102"/>
                    </a:cubicBezTo>
                    <a:cubicBezTo>
                      <a:pt x="1247" y="99"/>
                      <a:pt x="1248" y="96"/>
                      <a:pt x="1248" y="93"/>
                    </a:cubicBezTo>
                    <a:cubicBezTo>
                      <a:pt x="1250" y="99"/>
                      <a:pt x="1252" y="105"/>
                      <a:pt x="1254" y="111"/>
                    </a:cubicBezTo>
                    <a:close/>
                    <a:moveTo>
                      <a:pt x="1236" y="56"/>
                    </a:moveTo>
                    <a:cubicBezTo>
                      <a:pt x="1241" y="62"/>
                      <a:pt x="1244" y="68"/>
                      <a:pt x="1248" y="74"/>
                    </a:cubicBezTo>
                    <a:cubicBezTo>
                      <a:pt x="1244" y="69"/>
                      <a:pt x="1240" y="64"/>
                      <a:pt x="1236" y="60"/>
                    </a:cubicBezTo>
                    <a:cubicBezTo>
                      <a:pt x="1236" y="59"/>
                      <a:pt x="1236" y="57"/>
                      <a:pt x="1236" y="56"/>
                    </a:cubicBezTo>
                    <a:close/>
                    <a:moveTo>
                      <a:pt x="1235" y="64"/>
                    </a:moveTo>
                    <a:cubicBezTo>
                      <a:pt x="1239" y="69"/>
                      <a:pt x="1243" y="74"/>
                      <a:pt x="1247" y="80"/>
                    </a:cubicBezTo>
                    <a:cubicBezTo>
                      <a:pt x="1246" y="82"/>
                      <a:pt x="1245" y="83"/>
                      <a:pt x="1245" y="85"/>
                    </a:cubicBezTo>
                    <a:cubicBezTo>
                      <a:pt x="1245" y="84"/>
                      <a:pt x="1244" y="83"/>
                      <a:pt x="1244" y="83"/>
                    </a:cubicBezTo>
                    <a:cubicBezTo>
                      <a:pt x="1244" y="83"/>
                      <a:pt x="1245" y="84"/>
                      <a:pt x="1245" y="85"/>
                    </a:cubicBezTo>
                    <a:cubicBezTo>
                      <a:pt x="1244" y="88"/>
                      <a:pt x="1243" y="91"/>
                      <a:pt x="1242" y="94"/>
                    </a:cubicBezTo>
                    <a:cubicBezTo>
                      <a:pt x="1239" y="90"/>
                      <a:pt x="1236" y="85"/>
                      <a:pt x="1233" y="80"/>
                    </a:cubicBezTo>
                    <a:cubicBezTo>
                      <a:pt x="1234" y="75"/>
                      <a:pt x="1235" y="69"/>
                      <a:pt x="1235" y="64"/>
                    </a:cubicBezTo>
                    <a:close/>
                    <a:moveTo>
                      <a:pt x="1226" y="139"/>
                    </a:moveTo>
                    <a:cubicBezTo>
                      <a:pt x="1226" y="120"/>
                      <a:pt x="1229" y="101"/>
                      <a:pt x="1233" y="83"/>
                    </a:cubicBezTo>
                    <a:cubicBezTo>
                      <a:pt x="1235" y="87"/>
                      <a:pt x="1238" y="91"/>
                      <a:pt x="1241" y="95"/>
                    </a:cubicBezTo>
                    <a:cubicBezTo>
                      <a:pt x="1235" y="114"/>
                      <a:pt x="1229" y="133"/>
                      <a:pt x="1227" y="152"/>
                    </a:cubicBezTo>
                    <a:cubicBezTo>
                      <a:pt x="1226" y="148"/>
                      <a:pt x="1226" y="143"/>
                      <a:pt x="1226" y="139"/>
                    </a:cubicBezTo>
                    <a:close/>
                    <a:moveTo>
                      <a:pt x="1245" y="143"/>
                    </a:moveTo>
                    <a:cubicBezTo>
                      <a:pt x="1245" y="142"/>
                      <a:pt x="1244" y="141"/>
                      <a:pt x="1243" y="140"/>
                    </a:cubicBezTo>
                    <a:cubicBezTo>
                      <a:pt x="1244" y="141"/>
                      <a:pt x="1244" y="143"/>
                      <a:pt x="1245" y="144"/>
                    </a:cubicBezTo>
                    <a:cubicBezTo>
                      <a:pt x="1243" y="147"/>
                      <a:pt x="1242" y="149"/>
                      <a:pt x="1241" y="152"/>
                    </a:cubicBezTo>
                    <a:cubicBezTo>
                      <a:pt x="1241" y="146"/>
                      <a:pt x="1242" y="141"/>
                      <a:pt x="1243" y="135"/>
                    </a:cubicBezTo>
                    <a:cubicBezTo>
                      <a:pt x="1244" y="137"/>
                      <a:pt x="1245" y="139"/>
                      <a:pt x="1246" y="142"/>
                    </a:cubicBezTo>
                    <a:cubicBezTo>
                      <a:pt x="1246" y="142"/>
                      <a:pt x="1246" y="142"/>
                      <a:pt x="1245" y="143"/>
                    </a:cubicBezTo>
                    <a:close/>
                    <a:moveTo>
                      <a:pt x="1244" y="127"/>
                    </a:moveTo>
                    <a:cubicBezTo>
                      <a:pt x="1245" y="119"/>
                      <a:pt x="1246" y="111"/>
                      <a:pt x="1247" y="103"/>
                    </a:cubicBezTo>
                    <a:cubicBezTo>
                      <a:pt x="1250" y="107"/>
                      <a:pt x="1253" y="112"/>
                      <a:pt x="1255" y="116"/>
                    </a:cubicBezTo>
                    <a:cubicBezTo>
                      <a:pt x="1254" y="122"/>
                      <a:pt x="1252" y="127"/>
                      <a:pt x="1250" y="133"/>
                    </a:cubicBezTo>
                    <a:cubicBezTo>
                      <a:pt x="1248" y="131"/>
                      <a:pt x="1246" y="128"/>
                      <a:pt x="1244" y="127"/>
                    </a:cubicBezTo>
                    <a:close/>
                    <a:moveTo>
                      <a:pt x="1256" y="140"/>
                    </a:moveTo>
                    <a:cubicBezTo>
                      <a:pt x="1256" y="140"/>
                      <a:pt x="1255" y="140"/>
                      <a:pt x="1255" y="140"/>
                    </a:cubicBezTo>
                    <a:cubicBezTo>
                      <a:pt x="1256" y="135"/>
                      <a:pt x="1257" y="130"/>
                      <a:pt x="1258" y="125"/>
                    </a:cubicBezTo>
                    <a:cubicBezTo>
                      <a:pt x="1258" y="127"/>
                      <a:pt x="1259" y="129"/>
                      <a:pt x="1259" y="130"/>
                    </a:cubicBezTo>
                    <a:cubicBezTo>
                      <a:pt x="1258" y="134"/>
                      <a:pt x="1257" y="137"/>
                      <a:pt x="1256" y="140"/>
                    </a:cubicBezTo>
                    <a:close/>
                    <a:moveTo>
                      <a:pt x="1262" y="122"/>
                    </a:moveTo>
                    <a:cubicBezTo>
                      <a:pt x="1261" y="120"/>
                      <a:pt x="1260" y="119"/>
                      <a:pt x="1259" y="117"/>
                    </a:cubicBezTo>
                    <a:cubicBezTo>
                      <a:pt x="1259" y="114"/>
                      <a:pt x="1260" y="110"/>
                      <a:pt x="1260" y="107"/>
                    </a:cubicBezTo>
                    <a:cubicBezTo>
                      <a:pt x="1261" y="111"/>
                      <a:pt x="1262" y="115"/>
                      <a:pt x="1263" y="120"/>
                    </a:cubicBezTo>
                    <a:cubicBezTo>
                      <a:pt x="1263" y="120"/>
                      <a:pt x="1263" y="121"/>
                      <a:pt x="1262" y="122"/>
                    </a:cubicBezTo>
                    <a:close/>
                    <a:moveTo>
                      <a:pt x="1264" y="151"/>
                    </a:moveTo>
                    <a:cubicBezTo>
                      <a:pt x="1264" y="151"/>
                      <a:pt x="1264" y="151"/>
                      <a:pt x="1264" y="151"/>
                    </a:cubicBezTo>
                    <a:cubicBezTo>
                      <a:pt x="1264" y="150"/>
                      <a:pt x="1264" y="150"/>
                      <a:pt x="1264" y="149"/>
                    </a:cubicBezTo>
                    <a:cubicBezTo>
                      <a:pt x="1264" y="149"/>
                      <a:pt x="1264" y="149"/>
                      <a:pt x="1264" y="149"/>
                    </a:cubicBezTo>
                    <a:cubicBezTo>
                      <a:pt x="1264" y="150"/>
                      <a:pt x="1264" y="150"/>
                      <a:pt x="1264" y="151"/>
                    </a:cubicBezTo>
                    <a:close/>
                    <a:moveTo>
                      <a:pt x="1264" y="118"/>
                    </a:moveTo>
                    <a:cubicBezTo>
                      <a:pt x="1263" y="112"/>
                      <a:pt x="1262" y="107"/>
                      <a:pt x="1261" y="102"/>
                    </a:cubicBezTo>
                    <a:cubicBezTo>
                      <a:pt x="1261" y="102"/>
                      <a:pt x="1261" y="102"/>
                      <a:pt x="1261" y="101"/>
                    </a:cubicBezTo>
                    <a:cubicBezTo>
                      <a:pt x="1263" y="105"/>
                      <a:pt x="1265" y="108"/>
                      <a:pt x="1267" y="112"/>
                    </a:cubicBezTo>
                    <a:cubicBezTo>
                      <a:pt x="1266" y="113"/>
                      <a:pt x="1265" y="115"/>
                      <a:pt x="1265" y="116"/>
                    </a:cubicBezTo>
                    <a:cubicBezTo>
                      <a:pt x="1265" y="117"/>
                      <a:pt x="1264" y="117"/>
                      <a:pt x="1264" y="118"/>
                    </a:cubicBezTo>
                    <a:close/>
                    <a:moveTo>
                      <a:pt x="1267" y="143"/>
                    </a:moveTo>
                    <a:cubicBezTo>
                      <a:pt x="1267" y="143"/>
                      <a:pt x="1266" y="142"/>
                      <a:pt x="1266" y="142"/>
                    </a:cubicBezTo>
                    <a:cubicBezTo>
                      <a:pt x="1267" y="141"/>
                      <a:pt x="1267" y="141"/>
                      <a:pt x="1267" y="140"/>
                    </a:cubicBezTo>
                    <a:cubicBezTo>
                      <a:pt x="1267" y="141"/>
                      <a:pt x="1267" y="141"/>
                      <a:pt x="1267" y="142"/>
                    </a:cubicBezTo>
                    <a:cubicBezTo>
                      <a:pt x="1267" y="142"/>
                      <a:pt x="1267" y="142"/>
                      <a:pt x="1267" y="143"/>
                    </a:cubicBezTo>
                    <a:close/>
                    <a:moveTo>
                      <a:pt x="1272" y="151"/>
                    </a:moveTo>
                    <a:cubicBezTo>
                      <a:pt x="1272" y="151"/>
                      <a:pt x="1272" y="151"/>
                      <a:pt x="1272" y="151"/>
                    </a:cubicBezTo>
                    <a:cubicBezTo>
                      <a:pt x="1272" y="151"/>
                      <a:pt x="1272" y="152"/>
                      <a:pt x="1272" y="152"/>
                    </a:cubicBezTo>
                    <a:cubicBezTo>
                      <a:pt x="1272" y="152"/>
                      <a:pt x="1272" y="152"/>
                      <a:pt x="1272" y="151"/>
                    </a:cubicBezTo>
                    <a:close/>
                    <a:moveTo>
                      <a:pt x="1274" y="126"/>
                    </a:moveTo>
                    <a:cubicBezTo>
                      <a:pt x="1274" y="128"/>
                      <a:pt x="1273" y="129"/>
                      <a:pt x="1272" y="131"/>
                    </a:cubicBezTo>
                    <a:cubicBezTo>
                      <a:pt x="1272" y="129"/>
                      <a:pt x="1272" y="127"/>
                      <a:pt x="1272" y="125"/>
                    </a:cubicBezTo>
                    <a:cubicBezTo>
                      <a:pt x="1272" y="124"/>
                      <a:pt x="1272" y="123"/>
                      <a:pt x="1273" y="122"/>
                    </a:cubicBezTo>
                    <a:cubicBezTo>
                      <a:pt x="1273" y="123"/>
                      <a:pt x="1274" y="124"/>
                      <a:pt x="1274" y="125"/>
                    </a:cubicBezTo>
                    <a:lnTo>
                      <a:pt x="1274" y="126"/>
                    </a:lnTo>
                    <a:close/>
                    <a:moveTo>
                      <a:pt x="1282" y="91"/>
                    </a:moveTo>
                    <a:cubicBezTo>
                      <a:pt x="1282" y="93"/>
                      <a:pt x="1282" y="94"/>
                      <a:pt x="1282" y="96"/>
                    </a:cubicBezTo>
                    <a:cubicBezTo>
                      <a:pt x="1282" y="95"/>
                      <a:pt x="1282" y="94"/>
                      <a:pt x="1281" y="93"/>
                    </a:cubicBezTo>
                    <a:cubicBezTo>
                      <a:pt x="1281" y="93"/>
                      <a:pt x="1282" y="92"/>
                      <a:pt x="1282" y="91"/>
                    </a:cubicBezTo>
                    <a:close/>
                    <a:moveTo>
                      <a:pt x="1280" y="117"/>
                    </a:moveTo>
                    <a:cubicBezTo>
                      <a:pt x="1279" y="113"/>
                      <a:pt x="1278" y="110"/>
                      <a:pt x="1278" y="106"/>
                    </a:cubicBezTo>
                    <a:cubicBezTo>
                      <a:pt x="1278" y="106"/>
                      <a:pt x="1278" y="105"/>
                      <a:pt x="1278" y="104"/>
                    </a:cubicBezTo>
                    <a:cubicBezTo>
                      <a:pt x="1279" y="107"/>
                      <a:pt x="1280" y="111"/>
                      <a:pt x="1281" y="114"/>
                    </a:cubicBezTo>
                    <a:cubicBezTo>
                      <a:pt x="1281" y="115"/>
                      <a:pt x="1280" y="116"/>
                      <a:pt x="1280" y="117"/>
                    </a:cubicBezTo>
                    <a:close/>
                    <a:moveTo>
                      <a:pt x="1283" y="127"/>
                    </a:moveTo>
                    <a:cubicBezTo>
                      <a:pt x="1282" y="127"/>
                      <a:pt x="1282" y="126"/>
                      <a:pt x="1282" y="126"/>
                    </a:cubicBezTo>
                    <a:cubicBezTo>
                      <a:pt x="1282" y="125"/>
                      <a:pt x="1282" y="125"/>
                      <a:pt x="1283" y="124"/>
                    </a:cubicBezTo>
                    <a:cubicBezTo>
                      <a:pt x="1283" y="125"/>
                      <a:pt x="1283" y="126"/>
                      <a:pt x="1283" y="127"/>
                    </a:cubicBezTo>
                    <a:close/>
                    <a:moveTo>
                      <a:pt x="1289" y="141"/>
                    </a:moveTo>
                    <a:cubicBezTo>
                      <a:pt x="1289" y="140"/>
                      <a:pt x="1289" y="140"/>
                      <a:pt x="1289" y="140"/>
                    </a:cubicBezTo>
                    <a:cubicBezTo>
                      <a:pt x="1289" y="139"/>
                      <a:pt x="1289" y="139"/>
                      <a:pt x="1289" y="139"/>
                    </a:cubicBezTo>
                    <a:cubicBezTo>
                      <a:pt x="1289" y="139"/>
                      <a:pt x="1289" y="140"/>
                      <a:pt x="1289" y="141"/>
                    </a:cubicBezTo>
                    <a:close/>
                    <a:moveTo>
                      <a:pt x="1321" y="64"/>
                    </a:moveTo>
                    <a:cubicBezTo>
                      <a:pt x="1322" y="69"/>
                      <a:pt x="1323" y="75"/>
                      <a:pt x="1324" y="80"/>
                    </a:cubicBezTo>
                    <a:cubicBezTo>
                      <a:pt x="1322" y="83"/>
                      <a:pt x="1321" y="85"/>
                      <a:pt x="1319" y="87"/>
                    </a:cubicBezTo>
                    <a:cubicBezTo>
                      <a:pt x="1319" y="86"/>
                      <a:pt x="1318" y="84"/>
                      <a:pt x="1317" y="83"/>
                    </a:cubicBezTo>
                    <a:cubicBezTo>
                      <a:pt x="1318" y="84"/>
                      <a:pt x="1319" y="86"/>
                      <a:pt x="1319" y="87"/>
                    </a:cubicBezTo>
                    <a:cubicBezTo>
                      <a:pt x="1318" y="90"/>
                      <a:pt x="1316" y="92"/>
                      <a:pt x="1315" y="94"/>
                    </a:cubicBezTo>
                    <a:cubicBezTo>
                      <a:pt x="1313" y="89"/>
                      <a:pt x="1312" y="85"/>
                      <a:pt x="1310" y="80"/>
                    </a:cubicBezTo>
                    <a:cubicBezTo>
                      <a:pt x="1314" y="74"/>
                      <a:pt x="1318" y="69"/>
                      <a:pt x="1321" y="64"/>
                    </a:cubicBezTo>
                    <a:close/>
                    <a:moveTo>
                      <a:pt x="1292" y="108"/>
                    </a:moveTo>
                    <a:cubicBezTo>
                      <a:pt x="1293" y="106"/>
                      <a:pt x="1295" y="104"/>
                      <a:pt x="1296" y="101"/>
                    </a:cubicBezTo>
                    <a:cubicBezTo>
                      <a:pt x="1296" y="107"/>
                      <a:pt x="1297" y="112"/>
                      <a:pt x="1298" y="117"/>
                    </a:cubicBezTo>
                    <a:cubicBezTo>
                      <a:pt x="1297" y="119"/>
                      <a:pt x="1295" y="120"/>
                      <a:pt x="1294" y="122"/>
                    </a:cubicBezTo>
                    <a:cubicBezTo>
                      <a:pt x="1294" y="117"/>
                      <a:pt x="1293" y="113"/>
                      <a:pt x="1292" y="108"/>
                    </a:cubicBezTo>
                    <a:close/>
                    <a:moveTo>
                      <a:pt x="1299" y="134"/>
                    </a:moveTo>
                    <a:cubicBezTo>
                      <a:pt x="1298" y="131"/>
                      <a:pt x="1297" y="128"/>
                      <a:pt x="1296" y="126"/>
                    </a:cubicBezTo>
                    <a:cubicBezTo>
                      <a:pt x="1297" y="125"/>
                      <a:pt x="1298" y="123"/>
                      <a:pt x="1298" y="122"/>
                    </a:cubicBezTo>
                    <a:cubicBezTo>
                      <a:pt x="1299" y="124"/>
                      <a:pt x="1299" y="125"/>
                      <a:pt x="1299" y="127"/>
                    </a:cubicBezTo>
                    <a:cubicBezTo>
                      <a:pt x="1299" y="129"/>
                      <a:pt x="1299" y="131"/>
                      <a:pt x="1299" y="134"/>
                    </a:cubicBezTo>
                    <a:close/>
                    <a:moveTo>
                      <a:pt x="1298" y="98"/>
                    </a:moveTo>
                    <a:cubicBezTo>
                      <a:pt x="1298" y="98"/>
                      <a:pt x="1298" y="98"/>
                      <a:pt x="1299" y="97"/>
                    </a:cubicBezTo>
                    <a:cubicBezTo>
                      <a:pt x="1299" y="101"/>
                      <a:pt x="1299" y="105"/>
                      <a:pt x="1299" y="108"/>
                    </a:cubicBezTo>
                    <a:cubicBezTo>
                      <a:pt x="1299" y="105"/>
                      <a:pt x="1298" y="101"/>
                      <a:pt x="1298" y="98"/>
                    </a:cubicBezTo>
                    <a:close/>
                    <a:moveTo>
                      <a:pt x="1298" y="82"/>
                    </a:moveTo>
                    <a:cubicBezTo>
                      <a:pt x="1298" y="78"/>
                      <a:pt x="1298" y="74"/>
                      <a:pt x="1299" y="72"/>
                    </a:cubicBezTo>
                    <a:cubicBezTo>
                      <a:pt x="1301" y="75"/>
                      <a:pt x="1302" y="78"/>
                      <a:pt x="1304" y="80"/>
                    </a:cubicBezTo>
                    <a:cubicBezTo>
                      <a:pt x="1302" y="82"/>
                      <a:pt x="1301" y="84"/>
                      <a:pt x="1299" y="86"/>
                    </a:cubicBezTo>
                    <a:cubicBezTo>
                      <a:pt x="1299" y="85"/>
                      <a:pt x="1298" y="83"/>
                      <a:pt x="1298" y="82"/>
                    </a:cubicBezTo>
                    <a:close/>
                    <a:moveTo>
                      <a:pt x="1302" y="92"/>
                    </a:moveTo>
                    <a:cubicBezTo>
                      <a:pt x="1303" y="90"/>
                      <a:pt x="1305" y="88"/>
                      <a:pt x="1306" y="86"/>
                    </a:cubicBezTo>
                    <a:cubicBezTo>
                      <a:pt x="1307" y="88"/>
                      <a:pt x="1308" y="91"/>
                      <a:pt x="1309" y="93"/>
                    </a:cubicBezTo>
                    <a:cubicBezTo>
                      <a:pt x="1309" y="96"/>
                      <a:pt x="1309" y="99"/>
                      <a:pt x="1310" y="102"/>
                    </a:cubicBezTo>
                    <a:cubicBezTo>
                      <a:pt x="1309" y="104"/>
                      <a:pt x="1308" y="105"/>
                      <a:pt x="1306" y="106"/>
                    </a:cubicBezTo>
                    <a:cubicBezTo>
                      <a:pt x="1305" y="102"/>
                      <a:pt x="1304" y="97"/>
                      <a:pt x="1302" y="92"/>
                    </a:cubicBezTo>
                    <a:close/>
                    <a:moveTo>
                      <a:pt x="1307" y="108"/>
                    </a:moveTo>
                    <a:cubicBezTo>
                      <a:pt x="1308" y="106"/>
                      <a:pt x="1309" y="104"/>
                      <a:pt x="1310" y="103"/>
                    </a:cubicBezTo>
                    <a:cubicBezTo>
                      <a:pt x="1312" y="118"/>
                      <a:pt x="1314" y="133"/>
                      <a:pt x="1316" y="149"/>
                    </a:cubicBezTo>
                    <a:cubicBezTo>
                      <a:pt x="1313" y="137"/>
                      <a:pt x="1311" y="122"/>
                      <a:pt x="1307" y="108"/>
                    </a:cubicBezTo>
                    <a:close/>
                    <a:moveTo>
                      <a:pt x="1315" y="95"/>
                    </a:moveTo>
                    <a:cubicBezTo>
                      <a:pt x="1317" y="93"/>
                      <a:pt x="1318" y="91"/>
                      <a:pt x="1320" y="89"/>
                    </a:cubicBezTo>
                    <a:cubicBezTo>
                      <a:pt x="1326" y="103"/>
                      <a:pt x="1327" y="120"/>
                      <a:pt x="1327" y="136"/>
                    </a:cubicBezTo>
                    <a:cubicBezTo>
                      <a:pt x="1324" y="122"/>
                      <a:pt x="1320" y="109"/>
                      <a:pt x="1315" y="95"/>
                    </a:cubicBezTo>
                    <a:close/>
                    <a:moveTo>
                      <a:pt x="1320" y="89"/>
                    </a:moveTo>
                    <a:cubicBezTo>
                      <a:pt x="1322" y="87"/>
                      <a:pt x="1323" y="85"/>
                      <a:pt x="1324" y="83"/>
                    </a:cubicBezTo>
                    <a:cubicBezTo>
                      <a:pt x="1325" y="90"/>
                      <a:pt x="1327" y="98"/>
                      <a:pt x="1328" y="105"/>
                    </a:cubicBezTo>
                    <a:cubicBezTo>
                      <a:pt x="1325" y="99"/>
                      <a:pt x="1323" y="94"/>
                      <a:pt x="1320" y="89"/>
                    </a:cubicBezTo>
                    <a:close/>
                    <a:moveTo>
                      <a:pt x="1333" y="92"/>
                    </a:moveTo>
                    <a:cubicBezTo>
                      <a:pt x="1331" y="87"/>
                      <a:pt x="1330" y="81"/>
                      <a:pt x="1329" y="74"/>
                    </a:cubicBezTo>
                    <a:cubicBezTo>
                      <a:pt x="1331" y="71"/>
                      <a:pt x="1333" y="68"/>
                      <a:pt x="1334" y="65"/>
                    </a:cubicBezTo>
                    <a:cubicBezTo>
                      <a:pt x="1336" y="69"/>
                      <a:pt x="1339" y="72"/>
                      <a:pt x="1341" y="75"/>
                    </a:cubicBezTo>
                    <a:cubicBezTo>
                      <a:pt x="1341" y="77"/>
                      <a:pt x="1341" y="79"/>
                      <a:pt x="1341" y="81"/>
                    </a:cubicBezTo>
                    <a:cubicBezTo>
                      <a:pt x="1340" y="80"/>
                      <a:pt x="1340" y="80"/>
                      <a:pt x="1339" y="79"/>
                    </a:cubicBezTo>
                    <a:cubicBezTo>
                      <a:pt x="1340" y="80"/>
                      <a:pt x="1340" y="81"/>
                      <a:pt x="1341" y="81"/>
                    </a:cubicBezTo>
                    <a:cubicBezTo>
                      <a:pt x="1340" y="86"/>
                      <a:pt x="1340" y="90"/>
                      <a:pt x="1340" y="91"/>
                    </a:cubicBezTo>
                    <a:cubicBezTo>
                      <a:pt x="1340" y="95"/>
                      <a:pt x="1340" y="100"/>
                      <a:pt x="1341" y="104"/>
                    </a:cubicBezTo>
                    <a:cubicBezTo>
                      <a:pt x="1340" y="101"/>
                      <a:pt x="1340" y="99"/>
                      <a:pt x="1339" y="96"/>
                    </a:cubicBezTo>
                    <a:cubicBezTo>
                      <a:pt x="1340" y="100"/>
                      <a:pt x="1340" y="104"/>
                      <a:pt x="1341" y="108"/>
                    </a:cubicBezTo>
                    <a:cubicBezTo>
                      <a:pt x="1341" y="120"/>
                      <a:pt x="1342" y="132"/>
                      <a:pt x="1342" y="143"/>
                    </a:cubicBezTo>
                    <a:cubicBezTo>
                      <a:pt x="1340" y="126"/>
                      <a:pt x="1337" y="109"/>
                      <a:pt x="1333" y="92"/>
                    </a:cubicBezTo>
                    <a:close/>
                    <a:moveTo>
                      <a:pt x="1356" y="125"/>
                    </a:moveTo>
                    <a:cubicBezTo>
                      <a:pt x="1353" y="116"/>
                      <a:pt x="1351" y="108"/>
                      <a:pt x="1348" y="99"/>
                    </a:cubicBezTo>
                    <a:cubicBezTo>
                      <a:pt x="1346" y="93"/>
                      <a:pt x="1345" y="87"/>
                      <a:pt x="1345" y="82"/>
                    </a:cubicBezTo>
                    <a:cubicBezTo>
                      <a:pt x="1350" y="91"/>
                      <a:pt x="1353" y="100"/>
                      <a:pt x="1356" y="109"/>
                    </a:cubicBezTo>
                    <a:cubicBezTo>
                      <a:pt x="1356" y="114"/>
                      <a:pt x="1356" y="120"/>
                      <a:pt x="1356" y="125"/>
                    </a:cubicBezTo>
                    <a:close/>
                    <a:moveTo>
                      <a:pt x="1356" y="97"/>
                    </a:moveTo>
                    <a:cubicBezTo>
                      <a:pt x="1353" y="90"/>
                      <a:pt x="1349" y="83"/>
                      <a:pt x="1344" y="77"/>
                    </a:cubicBezTo>
                    <a:cubicBezTo>
                      <a:pt x="1344" y="72"/>
                      <a:pt x="1343" y="67"/>
                      <a:pt x="1344" y="63"/>
                    </a:cubicBezTo>
                    <a:cubicBezTo>
                      <a:pt x="1349" y="70"/>
                      <a:pt x="1353" y="77"/>
                      <a:pt x="1357" y="85"/>
                    </a:cubicBezTo>
                    <a:cubicBezTo>
                      <a:pt x="1357" y="89"/>
                      <a:pt x="1357" y="93"/>
                      <a:pt x="1356" y="97"/>
                    </a:cubicBezTo>
                    <a:close/>
                    <a:moveTo>
                      <a:pt x="1366" y="119"/>
                    </a:moveTo>
                    <a:cubicBezTo>
                      <a:pt x="1365" y="110"/>
                      <a:pt x="1363" y="102"/>
                      <a:pt x="1361" y="93"/>
                    </a:cubicBezTo>
                    <a:cubicBezTo>
                      <a:pt x="1363" y="98"/>
                      <a:pt x="1366" y="104"/>
                      <a:pt x="1367" y="109"/>
                    </a:cubicBezTo>
                    <a:cubicBezTo>
                      <a:pt x="1368" y="112"/>
                      <a:pt x="1368" y="114"/>
                      <a:pt x="1369" y="116"/>
                    </a:cubicBezTo>
                    <a:cubicBezTo>
                      <a:pt x="1369" y="120"/>
                      <a:pt x="1369" y="124"/>
                      <a:pt x="1369" y="127"/>
                    </a:cubicBezTo>
                    <a:cubicBezTo>
                      <a:pt x="1368" y="125"/>
                      <a:pt x="1367" y="122"/>
                      <a:pt x="1366" y="119"/>
                    </a:cubicBezTo>
                    <a:close/>
                    <a:moveTo>
                      <a:pt x="1377" y="151"/>
                    </a:moveTo>
                    <a:cubicBezTo>
                      <a:pt x="1377" y="151"/>
                      <a:pt x="1377" y="151"/>
                      <a:pt x="1377" y="151"/>
                    </a:cubicBezTo>
                    <a:cubicBezTo>
                      <a:pt x="1377" y="151"/>
                      <a:pt x="1377" y="150"/>
                      <a:pt x="1377" y="150"/>
                    </a:cubicBezTo>
                    <a:cubicBezTo>
                      <a:pt x="1377" y="150"/>
                      <a:pt x="1377" y="150"/>
                      <a:pt x="1377" y="150"/>
                    </a:cubicBezTo>
                    <a:cubicBezTo>
                      <a:pt x="1377" y="151"/>
                      <a:pt x="1377" y="151"/>
                      <a:pt x="1377" y="151"/>
                    </a:cubicBezTo>
                    <a:close/>
                    <a:moveTo>
                      <a:pt x="1383" y="114"/>
                    </a:moveTo>
                    <a:cubicBezTo>
                      <a:pt x="1381" y="105"/>
                      <a:pt x="1378" y="96"/>
                      <a:pt x="1374" y="88"/>
                    </a:cubicBezTo>
                    <a:cubicBezTo>
                      <a:pt x="1378" y="97"/>
                      <a:pt x="1380" y="110"/>
                      <a:pt x="1382" y="122"/>
                    </a:cubicBezTo>
                    <a:cubicBezTo>
                      <a:pt x="1381" y="127"/>
                      <a:pt x="1380" y="132"/>
                      <a:pt x="1379" y="136"/>
                    </a:cubicBezTo>
                    <a:cubicBezTo>
                      <a:pt x="1378" y="134"/>
                      <a:pt x="1378" y="133"/>
                      <a:pt x="1377" y="131"/>
                    </a:cubicBezTo>
                    <a:cubicBezTo>
                      <a:pt x="1377" y="117"/>
                      <a:pt x="1376" y="102"/>
                      <a:pt x="1374" y="87"/>
                    </a:cubicBezTo>
                    <a:cubicBezTo>
                      <a:pt x="1374" y="87"/>
                      <a:pt x="1374" y="88"/>
                      <a:pt x="1374" y="88"/>
                    </a:cubicBezTo>
                    <a:cubicBezTo>
                      <a:pt x="1374" y="88"/>
                      <a:pt x="1374" y="87"/>
                      <a:pt x="1374" y="87"/>
                    </a:cubicBezTo>
                    <a:cubicBezTo>
                      <a:pt x="1373" y="82"/>
                      <a:pt x="1373" y="78"/>
                      <a:pt x="1372" y="73"/>
                    </a:cubicBezTo>
                    <a:cubicBezTo>
                      <a:pt x="1379" y="81"/>
                      <a:pt x="1383" y="91"/>
                      <a:pt x="1386" y="101"/>
                    </a:cubicBezTo>
                    <a:cubicBezTo>
                      <a:pt x="1385" y="105"/>
                      <a:pt x="1384" y="109"/>
                      <a:pt x="1383" y="114"/>
                    </a:cubicBezTo>
                    <a:close/>
                    <a:moveTo>
                      <a:pt x="1390" y="138"/>
                    </a:moveTo>
                    <a:cubicBezTo>
                      <a:pt x="1389" y="137"/>
                      <a:pt x="1389" y="136"/>
                      <a:pt x="1389" y="135"/>
                    </a:cubicBezTo>
                    <a:cubicBezTo>
                      <a:pt x="1389" y="124"/>
                      <a:pt x="1385" y="112"/>
                      <a:pt x="1386" y="101"/>
                    </a:cubicBezTo>
                    <a:cubicBezTo>
                      <a:pt x="1389" y="110"/>
                      <a:pt x="1391" y="119"/>
                      <a:pt x="1392" y="128"/>
                    </a:cubicBezTo>
                    <a:cubicBezTo>
                      <a:pt x="1391" y="132"/>
                      <a:pt x="1390" y="135"/>
                      <a:pt x="1390" y="138"/>
                    </a:cubicBezTo>
                    <a:close/>
                    <a:moveTo>
                      <a:pt x="1405" y="136"/>
                    </a:moveTo>
                    <a:cubicBezTo>
                      <a:pt x="1405" y="135"/>
                      <a:pt x="1404" y="134"/>
                      <a:pt x="1404" y="133"/>
                    </a:cubicBezTo>
                    <a:cubicBezTo>
                      <a:pt x="1403" y="131"/>
                      <a:pt x="1403" y="129"/>
                      <a:pt x="1402" y="128"/>
                    </a:cubicBezTo>
                    <a:cubicBezTo>
                      <a:pt x="1402" y="127"/>
                      <a:pt x="1402" y="127"/>
                      <a:pt x="1402" y="127"/>
                    </a:cubicBezTo>
                    <a:cubicBezTo>
                      <a:pt x="1403" y="129"/>
                      <a:pt x="1403" y="131"/>
                      <a:pt x="1404" y="133"/>
                    </a:cubicBezTo>
                    <a:cubicBezTo>
                      <a:pt x="1404" y="134"/>
                      <a:pt x="1405" y="135"/>
                      <a:pt x="1405" y="136"/>
                    </a:cubicBezTo>
                    <a:cubicBezTo>
                      <a:pt x="1405" y="136"/>
                      <a:pt x="1405" y="136"/>
                      <a:pt x="1405" y="136"/>
                    </a:cubicBezTo>
                    <a:close/>
                    <a:moveTo>
                      <a:pt x="1406" y="133"/>
                    </a:moveTo>
                    <a:cubicBezTo>
                      <a:pt x="1405" y="129"/>
                      <a:pt x="1404" y="125"/>
                      <a:pt x="1402" y="120"/>
                    </a:cubicBezTo>
                    <a:cubicBezTo>
                      <a:pt x="1402" y="119"/>
                      <a:pt x="1402" y="117"/>
                      <a:pt x="1402" y="115"/>
                    </a:cubicBezTo>
                    <a:cubicBezTo>
                      <a:pt x="1402" y="112"/>
                      <a:pt x="1402" y="109"/>
                      <a:pt x="1403" y="105"/>
                    </a:cubicBezTo>
                    <a:cubicBezTo>
                      <a:pt x="1405" y="112"/>
                      <a:pt x="1406" y="119"/>
                      <a:pt x="1408" y="126"/>
                    </a:cubicBezTo>
                    <a:cubicBezTo>
                      <a:pt x="1407" y="128"/>
                      <a:pt x="1407" y="130"/>
                      <a:pt x="1406" y="133"/>
                    </a:cubicBezTo>
                    <a:close/>
                    <a:moveTo>
                      <a:pt x="1420" y="139"/>
                    </a:moveTo>
                    <a:cubicBezTo>
                      <a:pt x="1420" y="139"/>
                      <a:pt x="1420" y="139"/>
                      <a:pt x="1420" y="139"/>
                    </a:cubicBezTo>
                    <a:cubicBezTo>
                      <a:pt x="1420" y="137"/>
                      <a:pt x="1420" y="135"/>
                      <a:pt x="1420" y="133"/>
                    </a:cubicBezTo>
                    <a:cubicBezTo>
                      <a:pt x="1420" y="134"/>
                      <a:pt x="1420" y="134"/>
                      <a:pt x="1420" y="135"/>
                    </a:cubicBezTo>
                    <a:cubicBezTo>
                      <a:pt x="1420" y="136"/>
                      <a:pt x="1420" y="138"/>
                      <a:pt x="1420" y="139"/>
                    </a:cubicBezTo>
                    <a:close/>
                    <a:moveTo>
                      <a:pt x="1441" y="150"/>
                    </a:moveTo>
                    <a:cubicBezTo>
                      <a:pt x="1440" y="148"/>
                      <a:pt x="1439" y="147"/>
                      <a:pt x="1439" y="146"/>
                    </a:cubicBezTo>
                    <a:cubicBezTo>
                      <a:pt x="1438" y="131"/>
                      <a:pt x="1434" y="116"/>
                      <a:pt x="1432" y="101"/>
                    </a:cubicBezTo>
                    <a:cubicBezTo>
                      <a:pt x="1437" y="115"/>
                      <a:pt x="1439" y="132"/>
                      <a:pt x="1441" y="146"/>
                    </a:cubicBezTo>
                    <a:cubicBezTo>
                      <a:pt x="1441" y="147"/>
                      <a:pt x="1441" y="148"/>
                      <a:pt x="1441" y="150"/>
                    </a:cubicBezTo>
                    <a:close/>
                    <a:moveTo>
                      <a:pt x="1445" y="143"/>
                    </a:moveTo>
                    <a:cubicBezTo>
                      <a:pt x="1445" y="142"/>
                      <a:pt x="1445" y="141"/>
                      <a:pt x="1445" y="140"/>
                    </a:cubicBezTo>
                    <a:cubicBezTo>
                      <a:pt x="1445" y="139"/>
                      <a:pt x="1445" y="139"/>
                      <a:pt x="1445" y="139"/>
                    </a:cubicBezTo>
                    <a:cubicBezTo>
                      <a:pt x="1445" y="140"/>
                      <a:pt x="1445" y="141"/>
                      <a:pt x="1445" y="142"/>
                    </a:cubicBezTo>
                    <a:cubicBezTo>
                      <a:pt x="1445" y="142"/>
                      <a:pt x="1445" y="143"/>
                      <a:pt x="1445" y="143"/>
                    </a:cubicBezTo>
                    <a:close/>
                    <a:moveTo>
                      <a:pt x="1458" y="139"/>
                    </a:moveTo>
                    <a:cubicBezTo>
                      <a:pt x="1457" y="142"/>
                      <a:pt x="1456" y="145"/>
                      <a:pt x="1455" y="147"/>
                    </a:cubicBezTo>
                    <a:cubicBezTo>
                      <a:pt x="1455" y="146"/>
                      <a:pt x="1454" y="145"/>
                      <a:pt x="1454" y="144"/>
                    </a:cubicBezTo>
                    <a:cubicBezTo>
                      <a:pt x="1456" y="132"/>
                      <a:pt x="1456" y="120"/>
                      <a:pt x="1458" y="108"/>
                    </a:cubicBezTo>
                    <a:cubicBezTo>
                      <a:pt x="1460" y="116"/>
                      <a:pt x="1459" y="128"/>
                      <a:pt x="1458" y="139"/>
                    </a:cubicBezTo>
                    <a:close/>
                    <a:moveTo>
                      <a:pt x="1458" y="108"/>
                    </a:moveTo>
                    <a:cubicBezTo>
                      <a:pt x="1459" y="104"/>
                      <a:pt x="1459" y="100"/>
                      <a:pt x="1461" y="97"/>
                    </a:cubicBezTo>
                    <a:cubicBezTo>
                      <a:pt x="1462" y="100"/>
                      <a:pt x="1463" y="103"/>
                      <a:pt x="1464" y="107"/>
                    </a:cubicBezTo>
                    <a:cubicBezTo>
                      <a:pt x="1463" y="112"/>
                      <a:pt x="1463" y="117"/>
                      <a:pt x="1462" y="122"/>
                    </a:cubicBezTo>
                    <a:cubicBezTo>
                      <a:pt x="1460" y="116"/>
                      <a:pt x="1459" y="111"/>
                      <a:pt x="1458" y="108"/>
                    </a:cubicBezTo>
                    <a:close/>
                    <a:moveTo>
                      <a:pt x="1466" y="134"/>
                    </a:moveTo>
                    <a:cubicBezTo>
                      <a:pt x="1465" y="132"/>
                      <a:pt x="1464" y="130"/>
                      <a:pt x="1464" y="128"/>
                    </a:cubicBezTo>
                    <a:cubicBezTo>
                      <a:pt x="1464" y="121"/>
                      <a:pt x="1464" y="114"/>
                      <a:pt x="1464" y="107"/>
                    </a:cubicBezTo>
                    <a:cubicBezTo>
                      <a:pt x="1466" y="113"/>
                      <a:pt x="1467" y="118"/>
                      <a:pt x="1468" y="124"/>
                    </a:cubicBezTo>
                    <a:cubicBezTo>
                      <a:pt x="1467" y="128"/>
                      <a:pt x="1466" y="131"/>
                      <a:pt x="1466" y="134"/>
                    </a:cubicBezTo>
                    <a:close/>
                    <a:moveTo>
                      <a:pt x="1470" y="118"/>
                    </a:moveTo>
                    <a:cubicBezTo>
                      <a:pt x="1468" y="114"/>
                      <a:pt x="1466" y="109"/>
                      <a:pt x="1464" y="105"/>
                    </a:cubicBezTo>
                    <a:cubicBezTo>
                      <a:pt x="1465" y="102"/>
                      <a:pt x="1465" y="99"/>
                      <a:pt x="1466" y="96"/>
                    </a:cubicBezTo>
                    <a:cubicBezTo>
                      <a:pt x="1465" y="99"/>
                      <a:pt x="1465" y="102"/>
                      <a:pt x="1464" y="105"/>
                    </a:cubicBezTo>
                    <a:cubicBezTo>
                      <a:pt x="1463" y="102"/>
                      <a:pt x="1462" y="99"/>
                      <a:pt x="1461" y="96"/>
                    </a:cubicBezTo>
                    <a:cubicBezTo>
                      <a:pt x="1461" y="94"/>
                      <a:pt x="1462" y="91"/>
                      <a:pt x="1463" y="89"/>
                    </a:cubicBezTo>
                    <a:cubicBezTo>
                      <a:pt x="1467" y="95"/>
                      <a:pt x="1470" y="102"/>
                      <a:pt x="1472" y="109"/>
                    </a:cubicBezTo>
                    <a:cubicBezTo>
                      <a:pt x="1472" y="112"/>
                      <a:pt x="1471" y="115"/>
                      <a:pt x="1470" y="118"/>
                    </a:cubicBezTo>
                    <a:close/>
                    <a:moveTo>
                      <a:pt x="1473" y="151"/>
                    </a:moveTo>
                    <a:cubicBezTo>
                      <a:pt x="1473" y="151"/>
                      <a:pt x="1473" y="151"/>
                      <a:pt x="1472" y="151"/>
                    </a:cubicBezTo>
                    <a:cubicBezTo>
                      <a:pt x="1473" y="150"/>
                      <a:pt x="1473" y="148"/>
                      <a:pt x="1473" y="147"/>
                    </a:cubicBezTo>
                    <a:cubicBezTo>
                      <a:pt x="1473" y="147"/>
                      <a:pt x="1473" y="148"/>
                      <a:pt x="1473" y="148"/>
                    </a:cubicBezTo>
                    <a:cubicBezTo>
                      <a:pt x="1473" y="149"/>
                      <a:pt x="1473" y="150"/>
                      <a:pt x="1473" y="151"/>
                    </a:cubicBezTo>
                    <a:close/>
                    <a:moveTo>
                      <a:pt x="1477" y="136"/>
                    </a:moveTo>
                    <a:cubicBezTo>
                      <a:pt x="1476" y="134"/>
                      <a:pt x="1475" y="132"/>
                      <a:pt x="1475" y="130"/>
                    </a:cubicBezTo>
                    <a:cubicBezTo>
                      <a:pt x="1475" y="127"/>
                      <a:pt x="1475" y="123"/>
                      <a:pt x="1476" y="120"/>
                    </a:cubicBezTo>
                    <a:cubicBezTo>
                      <a:pt x="1477" y="123"/>
                      <a:pt x="1478" y="127"/>
                      <a:pt x="1479" y="130"/>
                    </a:cubicBezTo>
                    <a:cubicBezTo>
                      <a:pt x="1478" y="132"/>
                      <a:pt x="1477" y="134"/>
                      <a:pt x="1477" y="136"/>
                    </a:cubicBezTo>
                    <a:close/>
                    <a:moveTo>
                      <a:pt x="1483" y="150"/>
                    </a:moveTo>
                    <a:cubicBezTo>
                      <a:pt x="1483" y="149"/>
                      <a:pt x="1482" y="147"/>
                      <a:pt x="1481" y="146"/>
                    </a:cubicBezTo>
                    <a:cubicBezTo>
                      <a:pt x="1482" y="145"/>
                      <a:pt x="1482" y="145"/>
                      <a:pt x="1482" y="144"/>
                    </a:cubicBezTo>
                    <a:cubicBezTo>
                      <a:pt x="1483" y="146"/>
                      <a:pt x="1483" y="147"/>
                      <a:pt x="1484" y="149"/>
                    </a:cubicBezTo>
                    <a:cubicBezTo>
                      <a:pt x="1484" y="149"/>
                      <a:pt x="1483" y="149"/>
                      <a:pt x="1483" y="150"/>
                    </a:cubicBezTo>
                    <a:close/>
                    <a:moveTo>
                      <a:pt x="1481" y="122"/>
                    </a:moveTo>
                    <a:cubicBezTo>
                      <a:pt x="1480" y="118"/>
                      <a:pt x="1478" y="115"/>
                      <a:pt x="1477" y="111"/>
                    </a:cubicBezTo>
                    <a:cubicBezTo>
                      <a:pt x="1478" y="101"/>
                      <a:pt x="1480" y="90"/>
                      <a:pt x="1484" y="81"/>
                    </a:cubicBezTo>
                    <a:cubicBezTo>
                      <a:pt x="1487" y="86"/>
                      <a:pt x="1490" y="91"/>
                      <a:pt x="1492" y="97"/>
                    </a:cubicBezTo>
                    <a:cubicBezTo>
                      <a:pt x="1490" y="101"/>
                      <a:pt x="1488" y="105"/>
                      <a:pt x="1486" y="109"/>
                    </a:cubicBezTo>
                    <a:cubicBezTo>
                      <a:pt x="1484" y="102"/>
                      <a:pt x="1483" y="96"/>
                      <a:pt x="1481" y="91"/>
                    </a:cubicBezTo>
                    <a:cubicBezTo>
                      <a:pt x="1482" y="99"/>
                      <a:pt x="1483" y="106"/>
                      <a:pt x="1484" y="114"/>
                    </a:cubicBezTo>
                    <a:cubicBezTo>
                      <a:pt x="1483" y="117"/>
                      <a:pt x="1482" y="119"/>
                      <a:pt x="1481" y="122"/>
                    </a:cubicBezTo>
                    <a:close/>
                    <a:moveTo>
                      <a:pt x="1488" y="141"/>
                    </a:moveTo>
                    <a:cubicBezTo>
                      <a:pt x="1487" y="138"/>
                      <a:pt x="1486" y="135"/>
                      <a:pt x="1485" y="131"/>
                    </a:cubicBezTo>
                    <a:cubicBezTo>
                      <a:pt x="1485" y="129"/>
                      <a:pt x="1486" y="127"/>
                      <a:pt x="1486" y="124"/>
                    </a:cubicBezTo>
                    <a:cubicBezTo>
                      <a:pt x="1487" y="130"/>
                      <a:pt x="1488" y="135"/>
                      <a:pt x="1489" y="140"/>
                    </a:cubicBezTo>
                    <a:cubicBezTo>
                      <a:pt x="1489" y="140"/>
                      <a:pt x="1489" y="141"/>
                      <a:pt x="1488" y="141"/>
                    </a:cubicBezTo>
                    <a:close/>
                    <a:moveTo>
                      <a:pt x="1491" y="150"/>
                    </a:moveTo>
                    <a:cubicBezTo>
                      <a:pt x="1491" y="150"/>
                      <a:pt x="1491" y="149"/>
                      <a:pt x="1491" y="149"/>
                    </a:cubicBezTo>
                    <a:cubicBezTo>
                      <a:pt x="1491" y="149"/>
                      <a:pt x="1491" y="149"/>
                      <a:pt x="1491" y="149"/>
                    </a:cubicBezTo>
                    <a:cubicBezTo>
                      <a:pt x="1491" y="149"/>
                      <a:pt x="1491" y="150"/>
                      <a:pt x="1491" y="150"/>
                    </a:cubicBezTo>
                    <a:cubicBezTo>
                      <a:pt x="1491" y="150"/>
                      <a:pt x="1491" y="150"/>
                      <a:pt x="1491" y="150"/>
                    </a:cubicBezTo>
                    <a:close/>
                    <a:moveTo>
                      <a:pt x="1488" y="114"/>
                    </a:moveTo>
                    <a:cubicBezTo>
                      <a:pt x="1489" y="108"/>
                      <a:pt x="1490" y="103"/>
                      <a:pt x="1492" y="97"/>
                    </a:cubicBezTo>
                    <a:cubicBezTo>
                      <a:pt x="1494" y="103"/>
                      <a:pt x="1496" y="110"/>
                      <a:pt x="1498" y="116"/>
                    </a:cubicBezTo>
                    <a:cubicBezTo>
                      <a:pt x="1496" y="121"/>
                      <a:pt x="1495" y="126"/>
                      <a:pt x="1493" y="131"/>
                    </a:cubicBezTo>
                    <a:cubicBezTo>
                      <a:pt x="1491" y="126"/>
                      <a:pt x="1489" y="120"/>
                      <a:pt x="1488" y="114"/>
                    </a:cubicBezTo>
                    <a:close/>
                    <a:moveTo>
                      <a:pt x="1495" y="139"/>
                    </a:moveTo>
                    <a:cubicBezTo>
                      <a:pt x="1497" y="134"/>
                      <a:pt x="1498" y="129"/>
                      <a:pt x="1499" y="124"/>
                    </a:cubicBezTo>
                    <a:cubicBezTo>
                      <a:pt x="1500" y="125"/>
                      <a:pt x="1500" y="126"/>
                      <a:pt x="1500" y="128"/>
                    </a:cubicBezTo>
                    <a:cubicBezTo>
                      <a:pt x="1499" y="132"/>
                      <a:pt x="1497" y="136"/>
                      <a:pt x="1496" y="141"/>
                    </a:cubicBezTo>
                    <a:cubicBezTo>
                      <a:pt x="1496" y="140"/>
                      <a:pt x="1495" y="139"/>
                      <a:pt x="1495" y="139"/>
                    </a:cubicBezTo>
                    <a:close/>
                    <a:moveTo>
                      <a:pt x="1500" y="150"/>
                    </a:moveTo>
                    <a:cubicBezTo>
                      <a:pt x="1500" y="150"/>
                      <a:pt x="1499" y="149"/>
                      <a:pt x="1499" y="149"/>
                    </a:cubicBezTo>
                    <a:cubicBezTo>
                      <a:pt x="1500" y="147"/>
                      <a:pt x="1501" y="144"/>
                      <a:pt x="1502" y="141"/>
                    </a:cubicBezTo>
                    <a:cubicBezTo>
                      <a:pt x="1502" y="143"/>
                      <a:pt x="1503" y="144"/>
                      <a:pt x="1503" y="145"/>
                    </a:cubicBezTo>
                    <a:cubicBezTo>
                      <a:pt x="1502" y="147"/>
                      <a:pt x="1501" y="149"/>
                      <a:pt x="1500" y="150"/>
                    </a:cubicBezTo>
                    <a:close/>
                    <a:moveTo>
                      <a:pt x="1511" y="126"/>
                    </a:moveTo>
                    <a:cubicBezTo>
                      <a:pt x="1510" y="123"/>
                      <a:pt x="1509" y="120"/>
                      <a:pt x="1508" y="117"/>
                    </a:cubicBezTo>
                    <a:cubicBezTo>
                      <a:pt x="1509" y="116"/>
                      <a:pt x="1509" y="115"/>
                      <a:pt x="1509" y="114"/>
                    </a:cubicBezTo>
                    <a:cubicBezTo>
                      <a:pt x="1509" y="116"/>
                      <a:pt x="1510" y="117"/>
                      <a:pt x="1510" y="119"/>
                    </a:cubicBezTo>
                    <a:cubicBezTo>
                      <a:pt x="1511" y="121"/>
                      <a:pt x="1511" y="123"/>
                      <a:pt x="1512" y="125"/>
                    </a:cubicBezTo>
                    <a:cubicBezTo>
                      <a:pt x="1512" y="125"/>
                      <a:pt x="1511" y="125"/>
                      <a:pt x="1511" y="126"/>
                    </a:cubicBezTo>
                    <a:close/>
                    <a:moveTo>
                      <a:pt x="1516" y="142"/>
                    </a:moveTo>
                    <a:cubicBezTo>
                      <a:pt x="1515" y="139"/>
                      <a:pt x="1515" y="136"/>
                      <a:pt x="1514" y="133"/>
                    </a:cubicBezTo>
                    <a:cubicBezTo>
                      <a:pt x="1514" y="133"/>
                      <a:pt x="1514" y="133"/>
                      <a:pt x="1514" y="133"/>
                    </a:cubicBezTo>
                    <a:cubicBezTo>
                      <a:pt x="1515" y="136"/>
                      <a:pt x="1516" y="138"/>
                      <a:pt x="1516" y="141"/>
                    </a:cubicBezTo>
                    <a:cubicBezTo>
                      <a:pt x="1516" y="141"/>
                      <a:pt x="1516" y="141"/>
                      <a:pt x="1516" y="142"/>
                    </a:cubicBezTo>
                    <a:close/>
                    <a:moveTo>
                      <a:pt x="1518" y="148"/>
                    </a:move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ubicBezTo>
                      <a:pt x="1518" y="148"/>
                      <a:pt x="1518" y="148"/>
                      <a:pt x="1518" y="148"/>
                    </a:cubicBezTo>
                    <a:close/>
                    <a:moveTo>
                      <a:pt x="1521" y="141"/>
                    </a:moveTo>
                    <a:cubicBezTo>
                      <a:pt x="1521" y="141"/>
                      <a:pt x="1521" y="141"/>
                      <a:pt x="1521" y="141"/>
                    </a:cubicBezTo>
                    <a:cubicBezTo>
                      <a:pt x="1522" y="137"/>
                      <a:pt x="1523" y="133"/>
                      <a:pt x="1525" y="129"/>
                    </a:cubicBezTo>
                    <a:cubicBezTo>
                      <a:pt x="1525" y="129"/>
                      <a:pt x="1525" y="130"/>
                      <a:pt x="1525" y="131"/>
                    </a:cubicBezTo>
                    <a:cubicBezTo>
                      <a:pt x="1523" y="135"/>
                      <a:pt x="1522" y="138"/>
                      <a:pt x="1521" y="141"/>
                    </a:cubicBezTo>
                    <a:close/>
                    <a:moveTo>
                      <a:pt x="1528" y="122"/>
                    </a:moveTo>
                    <a:cubicBezTo>
                      <a:pt x="1528" y="121"/>
                      <a:pt x="1527" y="120"/>
                      <a:pt x="1527" y="119"/>
                    </a:cubicBezTo>
                    <a:cubicBezTo>
                      <a:pt x="1528" y="117"/>
                      <a:pt x="1528" y="114"/>
                      <a:pt x="1529" y="111"/>
                    </a:cubicBezTo>
                    <a:cubicBezTo>
                      <a:pt x="1530" y="113"/>
                      <a:pt x="1530" y="115"/>
                      <a:pt x="1531" y="117"/>
                    </a:cubicBezTo>
                    <a:cubicBezTo>
                      <a:pt x="1530" y="119"/>
                      <a:pt x="1529" y="121"/>
                      <a:pt x="1528" y="122"/>
                    </a:cubicBezTo>
                    <a:close/>
                    <a:moveTo>
                      <a:pt x="1538" y="147"/>
                    </a:moveTo>
                    <a:cubicBezTo>
                      <a:pt x="1537" y="145"/>
                      <a:pt x="1537" y="144"/>
                      <a:pt x="1536" y="142"/>
                    </a:cubicBezTo>
                    <a:cubicBezTo>
                      <a:pt x="1536" y="140"/>
                      <a:pt x="1535" y="138"/>
                      <a:pt x="1534" y="136"/>
                    </a:cubicBezTo>
                    <a:cubicBezTo>
                      <a:pt x="1534" y="136"/>
                      <a:pt x="1534" y="135"/>
                      <a:pt x="1534" y="134"/>
                    </a:cubicBezTo>
                    <a:cubicBezTo>
                      <a:pt x="1535" y="137"/>
                      <a:pt x="1536" y="139"/>
                      <a:pt x="1536" y="142"/>
                    </a:cubicBezTo>
                    <a:cubicBezTo>
                      <a:pt x="1537" y="143"/>
                      <a:pt x="1537" y="145"/>
                      <a:pt x="1538" y="147"/>
                    </a:cubicBezTo>
                    <a:cubicBezTo>
                      <a:pt x="1538" y="147"/>
                      <a:pt x="1538" y="147"/>
                      <a:pt x="1538" y="147"/>
                    </a:cubicBezTo>
                    <a:close/>
                    <a:moveTo>
                      <a:pt x="1541" y="138"/>
                    </a:moveTo>
                    <a:cubicBezTo>
                      <a:pt x="1539" y="133"/>
                      <a:pt x="1538" y="128"/>
                      <a:pt x="1536" y="124"/>
                    </a:cubicBezTo>
                    <a:cubicBezTo>
                      <a:pt x="1536" y="121"/>
                      <a:pt x="1537" y="118"/>
                      <a:pt x="1537" y="116"/>
                    </a:cubicBezTo>
                    <a:cubicBezTo>
                      <a:pt x="1538" y="123"/>
                      <a:pt x="1540" y="129"/>
                      <a:pt x="1542" y="136"/>
                    </a:cubicBezTo>
                    <a:cubicBezTo>
                      <a:pt x="1542" y="137"/>
                      <a:pt x="1541" y="137"/>
                      <a:pt x="1541" y="138"/>
                    </a:cubicBezTo>
                    <a:close/>
                    <a:moveTo>
                      <a:pt x="1538" y="109"/>
                    </a:moveTo>
                    <a:cubicBezTo>
                      <a:pt x="1539" y="103"/>
                      <a:pt x="1541" y="97"/>
                      <a:pt x="1543" y="91"/>
                    </a:cubicBezTo>
                    <a:cubicBezTo>
                      <a:pt x="1545" y="96"/>
                      <a:pt x="1547" y="101"/>
                      <a:pt x="1549" y="106"/>
                    </a:cubicBezTo>
                    <a:cubicBezTo>
                      <a:pt x="1547" y="112"/>
                      <a:pt x="1546" y="120"/>
                      <a:pt x="1544" y="127"/>
                    </a:cubicBezTo>
                    <a:cubicBezTo>
                      <a:pt x="1542" y="121"/>
                      <a:pt x="1540" y="115"/>
                      <a:pt x="1538" y="109"/>
                    </a:cubicBezTo>
                    <a:close/>
                    <a:moveTo>
                      <a:pt x="1545" y="148"/>
                    </a:move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7"/>
                      <a:pt x="1545" y="147"/>
                    </a:cubicBezTo>
                    <a:cubicBezTo>
                      <a:pt x="1545" y="147"/>
                      <a:pt x="1545" y="148"/>
                      <a:pt x="1545" y="148"/>
                    </a:cubicBezTo>
                    <a:close/>
                    <a:moveTo>
                      <a:pt x="1547" y="136"/>
                    </a:moveTo>
                    <a:cubicBezTo>
                      <a:pt x="1549" y="127"/>
                      <a:pt x="1549" y="118"/>
                      <a:pt x="1549" y="109"/>
                    </a:cubicBezTo>
                    <a:cubicBezTo>
                      <a:pt x="1551" y="115"/>
                      <a:pt x="1552" y="121"/>
                      <a:pt x="1553" y="127"/>
                    </a:cubicBezTo>
                    <a:cubicBezTo>
                      <a:pt x="1551" y="131"/>
                      <a:pt x="1550" y="135"/>
                      <a:pt x="1549" y="139"/>
                    </a:cubicBezTo>
                    <a:cubicBezTo>
                      <a:pt x="1548" y="138"/>
                      <a:pt x="1548" y="137"/>
                      <a:pt x="1547" y="136"/>
                    </a:cubicBezTo>
                    <a:close/>
                    <a:moveTo>
                      <a:pt x="1554" y="148"/>
                    </a:moveTo>
                    <a:cubicBezTo>
                      <a:pt x="1553" y="148"/>
                      <a:pt x="1553" y="147"/>
                      <a:pt x="1552" y="146"/>
                    </a:cubicBezTo>
                    <a:cubicBezTo>
                      <a:pt x="1553" y="143"/>
                      <a:pt x="1554" y="140"/>
                      <a:pt x="1554" y="137"/>
                    </a:cubicBezTo>
                    <a:cubicBezTo>
                      <a:pt x="1555" y="140"/>
                      <a:pt x="1555" y="142"/>
                      <a:pt x="1556" y="144"/>
                    </a:cubicBezTo>
                    <a:cubicBezTo>
                      <a:pt x="1555" y="146"/>
                      <a:pt x="1554" y="147"/>
                      <a:pt x="1554" y="148"/>
                    </a:cubicBezTo>
                    <a:close/>
                    <a:moveTo>
                      <a:pt x="1549" y="103"/>
                    </a:moveTo>
                    <a:cubicBezTo>
                      <a:pt x="1549" y="102"/>
                      <a:pt x="1549" y="102"/>
                      <a:pt x="1549" y="102"/>
                    </a:cubicBezTo>
                    <a:cubicBezTo>
                      <a:pt x="1549" y="102"/>
                      <a:pt x="1549" y="103"/>
                      <a:pt x="1549" y="103"/>
                    </a:cubicBezTo>
                    <a:cubicBezTo>
                      <a:pt x="1547" y="98"/>
                      <a:pt x="1545" y="94"/>
                      <a:pt x="1543" y="91"/>
                    </a:cubicBezTo>
                    <a:cubicBezTo>
                      <a:pt x="1544" y="87"/>
                      <a:pt x="1546" y="83"/>
                      <a:pt x="1548" y="80"/>
                    </a:cubicBezTo>
                    <a:cubicBezTo>
                      <a:pt x="1554" y="89"/>
                      <a:pt x="1558" y="99"/>
                      <a:pt x="1560" y="109"/>
                    </a:cubicBezTo>
                    <a:cubicBezTo>
                      <a:pt x="1559" y="112"/>
                      <a:pt x="1557" y="116"/>
                      <a:pt x="1556" y="119"/>
                    </a:cubicBezTo>
                    <a:cubicBezTo>
                      <a:pt x="1554" y="114"/>
                      <a:pt x="1552" y="108"/>
                      <a:pt x="1549" y="103"/>
                    </a:cubicBezTo>
                    <a:close/>
                    <a:moveTo>
                      <a:pt x="1557" y="123"/>
                    </a:moveTo>
                    <a:cubicBezTo>
                      <a:pt x="1558" y="118"/>
                      <a:pt x="1559" y="114"/>
                      <a:pt x="1560" y="110"/>
                    </a:cubicBezTo>
                    <a:cubicBezTo>
                      <a:pt x="1561" y="115"/>
                      <a:pt x="1562" y="120"/>
                      <a:pt x="1563" y="125"/>
                    </a:cubicBezTo>
                    <a:cubicBezTo>
                      <a:pt x="1562" y="128"/>
                      <a:pt x="1561" y="130"/>
                      <a:pt x="1560" y="133"/>
                    </a:cubicBezTo>
                    <a:cubicBezTo>
                      <a:pt x="1559" y="129"/>
                      <a:pt x="1558" y="126"/>
                      <a:pt x="1557" y="123"/>
                    </a:cubicBezTo>
                    <a:close/>
                    <a:moveTo>
                      <a:pt x="1564" y="150"/>
                    </a:moveTo>
                    <a:cubicBezTo>
                      <a:pt x="1564" y="147"/>
                      <a:pt x="1563" y="144"/>
                      <a:pt x="1562" y="140"/>
                    </a:cubicBezTo>
                    <a:cubicBezTo>
                      <a:pt x="1563" y="137"/>
                      <a:pt x="1563" y="135"/>
                      <a:pt x="1563" y="132"/>
                    </a:cubicBezTo>
                    <a:cubicBezTo>
                      <a:pt x="1564" y="137"/>
                      <a:pt x="1564" y="143"/>
                      <a:pt x="1564" y="149"/>
                    </a:cubicBezTo>
                    <a:cubicBezTo>
                      <a:pt x="1564" y="150"/>
                      <a:pt x="1564" y="150"/>
                      <a:pt x="1564" y="150"/>
                    </a:cubicBezTo>
                    <a:close/>
                    <a:moveTo>
                      <a:pt x="1593" y="152"/>
                    </a:moveTo>
                    <a:cubicBezTo>
                      <a:pt x="1593" y="148"/>
                      <a:pt x="1593" y="145"/>
                      <a:pt x="1592" y="141"/>
                    </a:cubicBezTo>
                    <a:cubicBezTo>
                      <a:pt x="1592" y="136"/>
                      <a:pt x="1593" y="131"/>
                      <a:pt x="1593" y="125"/>
                    </a:cubicBezTo>
                    <a:cubicBezTo>
                      <a:pt x="1593" y="134"/>
                      <a:pt x="1593" y="142"/>
                      <a:pt x="1593" y="151"/>
                    </a:cubicBezTo>
                    <a:cubicBezTo>
                      <a:pt x="1593" y="151"/>
                      <a:pt x="1593" y="151"/>
                      <a:pt x="1593" y="152"/>
                    </a:cubicBezTo>
                    <a:close/>
                    <a:moveTo>
                      <a:pt x="1659" y="128"/>
                    </a:moveTo>
                    <a:cubicBezTo>
                      <a:pt x="1659" y="132"/>
                      <a:pt x="1658" y="136"/>
                      <a:pt x="1657" y="140"/>
                    </a:cubicBezTo>
                    <a:cubicBezTo>
                      <a:pt x="1657" y="136"/>
                      <a:pt x="1656" y="133"/>
                      <a:pt x="1655" y="129"/>
                    </a:cubicBezTo>
                    <a:cubicBezTo>
                      <a:pt x="1655" y="126"/>
                      <a:pt x="1655" y="122"/>
                      <a:pt x="1655" y="119"/>
                    </a:cubicBezTo>
                    <a:cubicBezTo>
                      <a:pt x="1655" y="112"/>
                      <a:pt x="1656" y="104"/>
                      <a:pt x="1657" y="97"/>
                    </a:cubicBezTo>
                    <a:cubicBezTo>
                      <a:pt x="1658" y="102"/>
                      <a:pt x="1659" y="107"/>
                      <a:pt x="1659" y="111"/>
                    </a:cubicBezTo>
                    <a:cubicBezTo>
                      <a:pt x="1659" y="122"/>
                      <a:pt x="1659" y="122"/>
                      <a:pt x="1659" y="122"/>
                    </a:cubicBezTo>
                    <a:cubicBezTo>
                      <a:pt x="1659" y="124"/>
                      <a:pt x="1659" y="126"/>
                      <a:pt x="1659" y="128"/>
                    </a:cubicBezTo>
                    <a:close/>
                    <a:moveTo>
                      <a:pt x="1667" y="151"/>
                    </a:move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52"/>
                      <a:pt x="1667" y="152"/>
                      <a:pt x="1667" y="152"/>
                    </a:cubicBezTo>
                    <a:cubicBezTo>
                      <a:pt x="1667" y="136"/>
                      <a:pt x="1667" y="123"/>
                      <a:pt x="1666" y="109"/>
                    </a:cubicBezTo>
                    <a:cubicBezTo>
                      <a:pt x="1666" y="104"/>
                      <a:pt x="1667" y="99"/>
                      <a:pt x="1668" y="93"/>
                    </a:cubicBezTo>
                    <a:cubicBezTo>
                      <a:pt x="1669" y="99"/>
                      <a:pt x="1669" y="105"/>
                      <a:pt x="1669" y="110"/>
                    </a:cubicBezTo>
                    <a:cubicBezTo>
                      <a:pt x="1669" y="124"/>
                      <a:pt x="1667" y="138"/>
                      <a:pt x="1667" y="151"/>
                    </a:cubicBezTo>
                    <a:close/>
                    <a:moveTo>
                      <a:pt x="1694" y="110"/>
                    </a:moveTo>
                    <a:cubicBezTo>
                      <a:pt x="1694" y="109"/>
                      <a:pt x="1694" y="107"/>
                      <a:pt x="1694" y="106"/>
                    </a:cubicBezTo>
                    <a:cubicBezTo>
                      <a:pt x="1694" y="110"/>
                      <a:pt x="1695" y="113"/>
                      <a:pt x="1695" y="116"/>
                    </a:cubicBezTo>
                    <a:cubicBezTo>
                      <a:pt x="1694" y="114"/>
                      <a:pt x="1694" y="112"/>
                      <a:pt x="1694" y="110"/>
                    </a:cubicBezTo>
                    <a:close/>
                    <a:moveTo>
                      <a:pt x="1720" y="120"/>
                    </a:moveTo>
                    <a:cubicBezTo>
                      <a:pt x="1718" y="114"/>
                      <a:pt x="1717" y="109"/>
                      <a:pt x="1717" y="104"/>
                    </a:cubicBezTo>
                    <a:cubicBezTo>
                      <a:pt x="1717" y="102"/>
                      <a:pt x="1717" y="98"/>
                      <a:pt x="1719" y="93"/>
                    </a:cubicBezTo>
                    <a:cubicBezTo>
                      <a:pt x="1720" y="100"/>
                      <a:pt x="1720" y="107"/>
                      <a:pt x="1720" y="112"/>
                    </a:cubicBezTo>
                    <a:cubicBezTo>
                      <a:pt x="1720" y="115"/>
                      <a:pt x="1720" y="117"/>
                      <a:pt x="1720" y="120"/>
                    </a:cubicBezTo>
                    <a:close/>
                    <a:moveTo>
                      <a:pt x="1730" y="145"/>
                    </a:moveTo>
                    <a:cubicBezTo>
                      <a:pt x="1730" y="145"/>
                      <a:pt x="1730" y="145"/>
                      <a:pt x="1730" y="144"/>
                    </a:cubicBezTo>
                    <a:cubicBezTo>
                      <a:pt x="1730" y="139"/>
                      <a:pt x="1730" y="134"/>
                      <a:pt x="1730" y="129"/>
                    </a:cubicBezTo>
                    <a:cubicBezTo>
                      <a:pt x="1731" y="132"/>
                      <a:pt x="1731" y="135"/>
                      <a:pt x="1731" y="137"/>
                    </a:cubicBezTo>
                    <a:cubicBezTo>
                      <a:pt x="1731" y="140"/>
                      <a:pt x="1730" y="142"/>
                      <a:pt x="1730" y="145"/>
                    </a:cubicBezTo>
                    <a:close/>
                    <a:moveTo>
                      <a:pt x="1741" y="145"/>
                    </a:moveTo>
                    <a:cubicBezTo>
                      <a:pt x="1741" y="144"/>
                      <a:pt x="1740" y="143"/>
                      <a:pt x="1740" y="143"/>
                    </a:cubicBezTo>
                    <a:cubicBezTo>
                      <a:pt x="1740" y="142"/>
                      <a:pt x="1740" y="141"/>
                      <a:pt x="1740" y="140"/>
                    </a:cubicBezTo>
                    <a:cubicBezTo>
                      <a:pt x="1741" y="141"/>
                      <a:pt x="1741" y="142"/>
                      <a:pt x="1741" y="143"/>
                    </a:cubicBezTo>
                    <a:cubicBezTo>
                      <a:pt x="1741" y="143"/>
                      <a:pt x="1741" y="144"/>
                      <a:pt x="1741" y="145"/>
                    </a:cubicBezTo>
                    <a:close/>
                    <a:moveTo>
                      <a:pt x="1742" y="138"/>
                    </a:moveTo>
                    <a:cubicBezTo>
                      <a:pt x="1742" y="136"/>
                      <a:pt x="1741" y="135"/>
                      <a:pt x="1741" y="133"/>
                    </a:cubicBezTo>
                    <a:cubicBezTo>
                      <a:pt x="1741" y="129"/>
                      <a:pt x="1741" y="124"/>
                      <a:pt x="1741" y="119"/>
                    </a:cubicBezTo>
                    <a:cubicBezTo>
                      <a:pt x="1742" y="124"/>
                      <a:pt x="1743" y="129"/>
                      <a:pt x="1744" y="134"/>
                    </a:cubicBezTo>
                    <a:cubicBezTo>
                      <a:pt x="1743" y="135"/>
                      <a:pt x="1743" y="137"/>
                      <a:pt x="1742" y="138"/>
                    </a:cubicBezTo>
                    <a:close/>
                    <a:moveTo>
                      <a:pt x="1747" y="154"/>
                    </a:moveTo>
                    <a:cubicBezTo>
                      <a:pt x="1747" y="153"/>
                      <a:pt x="1747" y="152"/>
                      <a:pt x="1747" y="151"/>
                    </a:cubicBezTo>
                    <a:cubicBezTo>
                      <a:pt x="1747" y="151"/>
                      <a:pt x="1747" y="150"/>
                      <a:pt x="1747" y="150"/>
                    </a:cubicBezTo>
                    <a:cubicBezTo>
                      <a:pt x="1747" y="151"/>
                      <a:pt x="1747" y="152"/>
                      <a:pt x="1747" y="154"/>
                    </a:cubicBezTo>
                    <a:cubicBezTo>
                      <a:pt x="1747" y="154"/>
                      <a:pt x="1747" y="154"/>
                      <a:pt x="1747" y="154"/>
                    </a:cubicBezTo>
                    <a:close/>
                    <a:moveTo>
                      <a:pt x="1753" y="139"/>
                    </a:moveTo>
                    <a:cubicBezTo>
                      <a:pt x="1752" y="136"/>
                      <a:pt x="1751" y="134"/>
                      <a:pt x="1751" y="132"/>
                    </a:cubicBezTo>
                    <a:cubicBezTo>
                      <a:pt x="1751" y="129"/>
                      <a:pt x="1752" y="127"/>
                      <a:pt x="1753" y="125"/>
                    </a:cubicBezTo>
                    <a:cubicBezTo>
                      <a:pt x="1753" y="128"/>
                      <a:pt x="1754" y="131"/>
                      <a:pt x="1755" y="134"/>
                    </a:cubicBezTo>
                    <a:cubicBezTo>
                      <a:pt x="1754" y="136"/>
                      <a:pt x="1754" y="137"/>
                      <a:pt x="1753" y="139"/>
                    </a:cubicBezTo>
                    <a:close/>
                    <a:moveTo>
                      <a:pt x="1773" y="114"/>
                    </a:moveTo>
                    <a:cubicBezTo>
                      <a:pt x="1772" y="108"/>
                      <a:pt x="1771" y="101"/>
                      <a:pt x="1771" y="95"/>
                    </a:cubicBezTo>
                    <a:cubicBezTo>
                      <a:pt x="1771" y="88"/>
                      <a:pt x="1772" y="81"/>
                      <a:pt x="1773" y="75"/>
                    </a:cubicBezTo>
                    <a:cubicBezTo>
                      <a:pt x="1775" y="81"/>
                      <a:pt x="1775" y="88"/>
                      <a:pt x="1775" y="95"/>
                    </a:cubicBezTo>
                    <a:cubicBezTo>
                      <a:pt x="1775" y="101"/>
                      <a:pt x="1774" y="108"/>
                      <a:pt x="1773" y="114"/>
                    </a:cubicBezTo>
                    <a:close/>
                    <a:moveTo>
                      <a:pt x="1793" y="139"/>
                    </a:moveTo>
                    <a:cubicBezTo>
                      <a:pt x="1793" y="137"/>
                      <a:pt x="1792" y="136"/>
                      <a:pt x="1792" y="134"/>
                    </a:cubicBezTo>
                    <a:cubicBezTo>
                      <a:pt x="1792" y="131"/>
                      <a:pt x="1793" y="128"/>
                      <a:pt x="1794" y="125"/>
                    </a:cubicBezTo>
                    <a:cubicBezTo>
                      <a:pt x="1794" y="127"/>
                      <a:pt x="1795" y="129"/>
                      <a:pt x="1796" y="132"/>
                    </a:cubicBezTo>
                    <a:cubicBezTo>
                      <a:pt x="1795" y="134"/>
                      <a:pt x="1794" y="136"/>
                      <a:pt x="1793" y="139"/>
                    </a:cubicBezTo>
                    <a:close/>
                    <a:moveTo>
                      <a:pt x="1799" y="154"/>
                    </a:moveTo>
                    <a:cubicBezTo>
                      <a:pt x="1799" y="154"/>
                      <a:pt x="1799" y="154"/>
                      <a:pt x="1799" y="154"/>
                    </a:cubicBezTo>
                    <a:cubicBezTo>
                      <a:pt x="1799" y="152"/>
                      <a:pt x="1799" y="151"/>
                      <a:pt x="1800" y="150"/>
                    </a:cubicBezTo>
                    <a:cubicBezTo>
                      <a:pt x="1800" y="150"/>
                      <a:pt x="1800" y="151"/>
                      <a:pt x="1800" y="151"/>
                    </a:cubicBezTo>
                    <a:cubicBezTo>
                      <a:pt x="1799" y="152"/>
                      <a:pt x="1799" y="153"/>
                      <a:pt x="1799" y="154"/>
                    </a:cubicBezTo>
                    <a:close/>
                    <a:moveTo>
                      <a:pt x="1805" y="119"/>
                    </a:move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20"/>
                    </a:cubicBezTo>
                    <a:cubicBezTo>
                      <a:pt x="1805" y="120"/>
                      <a:pt x="1805" y="120"/>
                      <a:pt x="1805" y="119"/>
                    </a:cubicBezTo>
                    <a:close/>
                    <a:moveTo>
                      <a:pt x="1804" y="138"/>
                    </a:moveTo>
                    <a:cubicBezTo>
                      <a:pt x="1804" y="137"/>
                      <a:pt x="1803" y="135"/>
                      <a:pt x="1803" y="134"/>
                    </a:cubicBezTo>
                    <a:cubicBezTo>
                      <a:pt x="1803" y="134"/>
                      <a:pt x="1803" y="134"/>
                      <a:pt x="1803" y="133"/>
                    </a:cubicBezTo>
                    <a:cubicBezTo>
                      <a:pt x="1803" y="134"/>
                      <a:pt x="1804" y="135"/>
                      <a:pt x="1804" y="137"/>
                    </a:cubicBezTo>
                    <a:cubicBezTo>
                      <a:pt x="1804" y="137"/>
                      <a:pt x="1804" y="138"/>
                      <a:pt x="1804" y="138"/>
                    </a:cubicBezTo>
                    <a:close/>
                    <a:moveTo>
                      <a:pt x="1803" y="133"/>
                    </a:moveTo>
                    <a:cubicBezTo>
                      <a:pt x="1803" y="132"/>
                      <a:pt x="1803" y="131"/>
                      <a:pt x="1803" y="130"/>
                    </a:cubicBezTo>
                    <a:cubicBezTo>
                      <a:pt x="1804" y="131"/>
                      <a:pt x="1805" y="133"/>
                      <a:pt x="1805" y="134"/>
                    </a:cubicBezTo>
                    <a:cubicBezTo>
                      <a:pt x="1805" y="135"/>
                      <a:pt x="1805" y="135"/>
                      <a:pt x="1805" y="136"/>
                    </a:cubicBezTo>
                    <a:cubicBezTo>
                      <a:pt x="1804" y="134"/>
                      <a:pt x="1803" y="133"/>
                      <a:pt x="1803" y="133"/>
                    </a:cubicBezTo>
                    <a:close/>
                    <a:moveTo>
                      <a:pt x="1806" y="145"/>
                    </a:moveTo>
                    <a:cubicBezTo>
                      <a:pt x="1805" y="144"/>
                      <a:pt x="1805" y="143"/>
                      <a:pt x="1805" y="143"/>
                    </a:cubicBezTo>
                    <a:cubicBezTo>
                      <a:pt x="1805" y="142"/>
                      <a:pt x="1806" y="141"/>
                      <a:pt x="1806" y="140"/>
                    </a:cubicBezTo>
                    <a:cubicBezTo>
                      <a:pt x="1806" y="140"/>
                      <a:pt x="1806" y="140"/>
                      <a:pt x="1806" y="140"/>
                    </a:cubicBezTo>
                    <a:cubicBezTo>
                      <a:pt x="1806" y="141"/>
                      <a:pt x="1806" y="142"/>
                      <a:pt x="1806" y="143"/>
                    </a:cubicBezTo>
                    <a:cubicBezTo>
                      <a:pt x="1806" y="143"/>
                      <a:pt x="1806" y="144"/>
                      <a:pt x="1806" y="145"/>
                    </a:cubicBezTo>
                    <a:close/>
                    <a:moveTo>
                      <a:pt x="1816" y="134"/>
                    </a:moveTo>
                    <a:cubicBezTo>
                      <a:pt x="1816" y="134"/>
                      <a:pt x="1816" y="133"/>
                      <a:pt x="1816" y="133"/>
                    </a:cubicBezTo>
                    <a:cubicBezTo>
                      <a:pt x="1816" y="132"/>
                      <a:pt x="1816" y="130"/>
                      <a:pt x="1816" y="129"/>
                    </a:cubicBezTo>
                    <a:cubicBezTo>
                      <a:pt x="1816" y="130"/>
                      <a:pt x="1816" y="132"/>
                      <a:pt x="1816" y="134"/>
                    </a:cubicBezTo>
                    <a:close/>
                    <a:moveTo>
                      <a:pt x="1826" y="120"/>
                    </a:moveTo>
                    <a:cubicBezTo>
                      <a:pt x="1826" y="117"/>
                      <a:pt x="1826" y="115"/>
                      <a:pt x="1826" y="112"/>
                    </a:cubicBezTo>
                    <a:cubicBezTo>
                      <a:pt x="1826" y="111"/>
                      <a:pt x="1826" y="111"/>
                      <a:pt x="1826" y="110"/>
                    </a:cubicBezTo>
                    <a:cubicBezTo>
                      <a:pt x="1826" y="113"/>
                      <a:pt x="1826" y="116"/>
                      <a:pt x="1827" y="119"/>
                    </a:cubicBezTo>
                    <a:cubicBezTo>
                      <a:pt x="1827" y="119"/>
                      <a:pt x="1826" y="120"/>
                      <a:pt x="1826" y="120"/>
                    </a:cubicBezTo>
                    <a:close/>
                    <a:moveTo>
                      <a:pt x="1828" y="115"/>
                    </a:moveTo>
                    <a:cubicBezTo>
                      <a:pt x="1827" y="112"/>
                      <a:pt x="1827" y="108"/>
                      <a:pt x="1826" y="104"/>
                    </a:cubicBezTo>
                    <a:cubicBezTo>
                      <a:pt x="1827" y="101"/>
                      <a:pt x="1827" y="97"/>
                      <a:pt x="1828" y="93"/>
                    </a:cubicBezTo>
                    <a:cubicBezTo>
                      <a:pt x="1829" y="98"/>
                      <a:pt x="1829" y="102"/>
                      <a:pt x="1829" y="104"/>
                    </a:cubicBezTo>
                    <a:cubicBezTo>
                      <a:pt x="1829" y="108"/>
                      <a:pt x="1829" y="111"/>
                      <a:pt x="1828" y="115"/>
                    </a:cubicBezTo>
                    <a:close/>
                    <a:moveTo>
                      <a:pt x="1833" y="102"/>
                    </a:moveTo>
                    <a:cubicBezTo>
                      <a:pt x="1833" y="102"/>
                      <a:pt x="1833" y="102"/>
                      <a:pt x="1832" y="103"/>
                    </a:cubicBezTo>
                    <a:cubicBezTo>
                      <a:pt x="1832" y="99"/>
                      <a:pt x="1831" y="94"/>
                      <a:pt x="1828" y="90"/>
                    </a:cubicBezTo>
                    <a:cubicBezTo>
                      <a:pt x="1830" y="84"/>
                      <a:pt x="1832" y="78"/>
                      <a:pt x="1834" y="73"/>
                    </a:cubicBezTo>
                    <a:cubicBezTo>
                      <a:pt x="1833" y="83"/>
                      <a:pt x="1833" y="93"/>
                      <a:pt x="1833" y="102"/>
                    </a:cubicBezTo>
                    <a:close/>
                    <a:moveTo>
                      <a:pt x="1839" y="111"/>
                    </a:moveTo>
                    <a:cubicBezTo>
                      <a:pt x="1839" y="111"/>
                      <a:pt x="1839" y="111"/>
                      <a:pt x="1839" y="111"/>
                    </a:cubicBezTo>
                    <a:cubicBezTo>
                      <a:pt x="1839" y="114"/>
                      <a:pt x="1838" y="116"/>
                      <a:pt x="1838" y="119"/>
                    </a:cubicBezTo>
                    <a:cubicBezTo>
                      <a:pt x="1837" y="114"/>
                      <a:pt x="1837" y="108"/>
                      <a:pt x="1837" y="103"/>
                    </a:cubicBezTo>
                    <a:cubicBezTo>
                      <a:pt x="1837" y="97"/>
                      <a:pt x="1837" y="91"/>
                      <a:pt x="1839" y="85"/>
                    </a:cubicBezTo>
                    <a:cubicBezTo>
                      <a:pt x="1838" y="87"/>
                      <a:pt x="1837" y="89"/>
                      <a:pt x="1836" y="92"/>
                    </a:cubicBezTo>
                    <a:cubicBezTo>
                      <a:pt x="1836" y="87"/>
                      <a:pt x="1836" y="82"/>
                      <a:pt x="1837" y="77"/>
                    </a:cubicBezTo>
                    <a:cubicBezTo>
                      <a:pt x="1839" y="83"/>
                      <a:pt x="1840" y="90"/>
                      <a:pt x="1840" y="96"/>
                    </a:cubicBezTo>
                    <a:cubicBezTo>
                      <a:pt x="1840" y="101"/>
                      <a:pt x="1840" y="106"/>
                      <a:pt x="1839" y="111"/>
                    </a:cubicBezTo>
                    <a:close/>
                    <a:moveTo>
                      <a:pt x="1845" y="127"/>
                    </a:moveTo>
                    <a:cubicBezTo>
                      <a:pt x="1844" y="132"/>
                      <a:pt x="1844" y="134"/>
                      <a:pt x="1844" y="134"/>
                    </a:cubicBezTo>
                    <a:cubicBezTo>
                      <a:pt x="1844" y="129"/>
                      <a:pt x="1845" y="125"/>
                      <a:pt x="1845" y="120"/>
                    </a:cubicBezTo>
                    <a:cubicBezTo>
                      <a:pt x="1845" y="123"/>
                      <a:pt x="1845" y="125"/>
                      <a:pt x="1845" y="127"/>
                    </a:cubicBezTo>
                    <a:close/>
                    <a:moveTo>
                      <a:pt x="1877" y="92"/>
                    </a:moveTo>
                    <a:cubicBezTo>
                      <a:pt x="1877" y="91"/>
                      <a:pt x="1877" y="90"/>
                      <a:pt x="1877" y="89"/>
                    </a:cubicBezTo>
                    <a:cubicBezTo>
                      <a:pt x="1877" y="89"/>
                      <a:pt x="1877" y="90"/>
                      <a:pt x="1877" y="91"/>
                    </a:cubicBezTo>
                    <a:cubicBezTo>
                      <a:pt x="1877" y="91"/>
                      <a:pt x="1877" y="92"/>
                      <a:pt x="1877" y="92"/>
                    </a:cubicBezTo>
                    <a:close/>
                    <a:moveTo>
                      <a:pt x="1880" y="130"/>
                    </a:moveTo>
                    <a:cubicBezTo>
                      <a:pt x="1879" y="132"/>
                      <a:pt x="1879" y="134"/>
                      <a:pt x="1879" y="136"/>
                    </a:cubicBezTo>
                    <a:cubicBezTo>
                      <a:pt x="1878" y="127"/>
                      <a:pt x="1877" y="119"/>
                      <a:pt x="1877" y="110"/>
                    </a:cubicBezTo>
                    <a:cubicBezTo>
                      <a:pt x="1877" y="105"/>
                      <a:pt x="1877" y="99"/>
                      <a:pt x="1878" y="93"/>
                    </a:cubicBezTo>
                    <a:cubicBezTo>
                      <a:pt x="1879" y="99"/>
                      <a:pt x="1880" y="104"/>
                      <a:pt x="1881" y="109"/>
                    </a:cubicBezTo>
                    <a:cubicBezTo>
                      <a:pt x="1880" y="116"/>
                      <a:pt x="1880" y="123"/>
                      <a:pt x="1880" y="130"/>
                    </a:cubicBezTo>
                    <a:close/>
                    <a:moveTo>
                      <a:pt x="1889" y="140"/>
                    </a:moveTo>
                    <a:cubicBezTo>
                      <a:pt x="1889" y="140"/>
                      <a:pt x="1889" y="139"/>
                      <a:pt x="1889" y="139"/>
                    </a:cubicBezTo>
                    <a:cubicBezTo>
                      <a:pt x="1890" y="100"/>
                      <a:pt x="1890" y="100"/>
                      <a:pt x="1890" y="100"/>
                    </a:cubicBezTo>
                    <a:cubicBezTo>
                      <a:pt x="1890" y="106"/>
                      <a:pt x="1891" y="113"/>
                      <a:pt x="1891" y="119"/>
                    </a:cubicBezTo>
                    <a:cubicBezTo>
                      <a:pt x="1891" y="122"/>
                      <a:pt x="1891" y="126"/>
                      <a:pt x="1891" y="129"/>
                    </a:cubicBezTo>
                    <a:cubicBezTo>
                      <a:pt x="1890" y="133"/>
                      <a:pt x="1890" y="136"/>
                      <a:pt x="1889" y="140"/>
                    </a:cubicBezTo>
                    <a:close/>
                    <a:moveTo>
                      <a:pt x="1910" y="105"/>
                    </a:moveTo>
                    <a:cubicBezTo>
                      <a:pt x="1910" y="104"/>
                      <a:pt x="1910" y="102"/>
                      <a:pt x="1910" y="101"/>
                    </a:cubicBezTo>
                    <a:cubicBezTo>
                      <a:pt x="1910" y="102"/>
                      <a:pt x="1911" y="103"/>
                      <a:pt x="1911" y="103"/>
                    </a:cubicBezTo>
                    <a:cubicBezTo>
                      <a:pt x="1910" y="104"/>
                      <a:pt x="1910" y="105"/>
                      <a:pt x="1910" y="105"/>
                    </a:cubicBezTo>
                    <a:close/>
                    <a:moveTo>
                      <a:pt x="1933" y="101"/>
                    </a:moveTo>
                    <a:cubicBezTo>
                      <a:pt x="1932" y="101"/>
                      <a:pt x="1932" y="101"/>
                      <a:pt x="1932" y="100"/>
                    </a:cubicBezTo>
                    <a:cubicBezTo>
                      <a:pt x="1932" y="101"/>
                      <a:pt x="1932" y="101"/>
                      <a:pt x="1933" y="101"/>
                    </a:cubicBezTo>
                    <a:cubicBezTo>
                      <a:pt x="1932" y="111"/>
                      <a:pt x="1931" y="119"/>
                      <a:pt x="1930" y="126"/>
                    </a:cubicBezTo>
                    <a:cubicBezTo>
                      <a:pt x="1929" y="122"/>
                      <a:pt x="1929" y="118"/>
                      <a:pt x="1928" y="114"/>
                    </a:cubicBezTo>
                    <a:cubicBezTo>
                      <a:pt x="1928" y="109"/>
                      <a:pt x="1928" y="103"/>
                      <a:pt x="1928" y="98"/>
                    </a:cubicBezTo>
                    <a:cubicBezTo>
                      <a:pt x="1929" y="92"/>
                      <a:pt x="1931" y="87"/>
                      <a:pt x="1934" y="82"/>
                    </a:cubicBezTo>
                    <a:cubicBezTo>
                      <a:pt x="1933" y="89"/>
                      <a:pt x="1933" y="95"/>
                      <a:pt x="1933" y="101"/>
                    </a:cubicBezTo>
                    <a:close/>
                    <a:moveTo>
                      <a:pt x="1942" y="117"/>
                    </a:moveTo>
                    <a:cubicBezTo>
                      <a:pt x="1942" y="114"/>
                      <a:pt x="1942" y="110"/>
                      <a:pt x="1942" y="106"/>
                    </a:cubicBezTo>
                    <a:cubicBezTo>
                      <a:pt x="1942" y="99"/>
                      <a:pt x="1942" y="90"/>
                      <a:pt x="1945" y="83"/>
                    </a:cubicBezTo>
                    <a:cubicBezTo>
                      <a:pt x="1944" y="95"/>
                      <a:pt x="1943" y="107"/>
                      <a:pt x="1942" y="117"/>
                    </a:cubicBezTo>
                    <a:close/>
                    <a:moveTo>
                      <a:pt x="1948" y="108"/>
                    </a:moveTo>
                    <a:cubicBezTo>
                      <a:pt x="1948" y="106"/>
                      <a:pt x="1948" y="104"/>
                      <a:pt x="1949" y="102"/>
                    </a:cubicBezTo>
                    <a:cubicBezTo>
                      <a:pt x="1949" y="102"/>
                      <a:pt x="1949" y="102"/>
                      <a:pt x="1949" y="103"/>
                    </a:cubicBezTo>
                    <a:cubicBezTo>
                      <a:pt x="1949" y="104"/>
                      <a:pt x="1948" y="106"/>
                      <a:pt x="1948" y="108"/>
                    </a:cubicBezTo>
                    <a:close/>
                    <a:moveTo>
                      <a:pt x="1954" y="111"/>
                    </a:moveTo>
                    <a:cubicBezTo>
                      <a:pt x="1954" y="103"/>
                      <a:pt x="1957" y="95"/>
                      <a:pt x="1959" y="87"/>
                    </a:cubicBezTo>
                    <a:cubicBezTo>
                      <a:pt x="1958" y="95"/>
                      <a:pt x="1956" y="104"/>
                      <a:pt x="1954" y="113"/>
                    </a:cubicBezTo>
                    <a:cubicBezTo>
                      <a:pt x="1954" y="112"/>
                      <a:pt x="1954" y="112"/>
                      <a:pt x="1954" y="111"/>
                    </a:cubicBezTo>
                    <a:close/>
                    <a:moveTo>
                      <a:pt x="1978" y="110"/>
                    </a:moveTo>
                    <a:cubicBezTo>
                      <a:pt x="1978" y="109"/>
                      <a:pt x="1978" y="108"/>
                      <a:pt x="1978" y="107"/>
                    </a:cubicBezTo>
                    <a:cubicBezTo>
                      <a:pt x="1978" y="107"/>
                      <a:pt x="1978" y="108"/>
                      <a:pt x="1978" y="108"/>
                    </a:cubicBezTo>
                    <a:cubicBezTo>
                      <a:pt x="1978" y="109"/>
                      <a:pt x="1978" y="109"/>
                      <a:pt x="1978" y="110"/>
                    </a:cubicBezTo>
                    <a:close/>
                    <a:moveTo>
                      <a:pt x="1989" y="125"/>
                    </a:moveTo>
                    <a:cubicBezTo>
                      <a:pt x="1989" y="123"/>
                      <a:pt x="1989" y="122"/>
                      <a:pt x="1989" y="120"/>
                    </a:cubicBezTo>
                    <a:cubicBezTo>
                      <a:pt x="1989" y="121"/>
                      <a:pt x="1989" y="122"/>
                      <a:pt x="1989" y="123"/>
                    </a:cubicBezTo>
                    <a:cubicBezTo>
                      <a:pt x="1989" y="123"/>
                      <a:pt x="1989" y="124"/>
                      <a:pt x="1989" y="125"/>
                    </a:cubicBezTo>
                    <a:close/>
                    <a:moveTo>
                      <a:pt x="1992" y="115"/>
                    </a:moveTo>
                    <a:cubicBezTo>
                      <a:pt x="1991" y="117"/>
                      <a:pt x="1991" y="118"/>
                      <a:pt x="1990" y="119"/>
                    </a:cubicBezTo>
                    <a:cubicBezTo>
                      <a:pt x="1990" y="118"/>
                      <a:pt x="1989" y="116"/>
                      <a:pt x="1989" y="114"/>
                    </a:cubicBezTo>
                    <a:cubicBezTo>
                      <a:pt x="1989" y="110"/>
                      <a:pt x="1989" y="105"/>
                      <a:pt x="1989" y="100"/>
                    </a:cubicBezTo>
                    <a:cubicBezTo>
                      <a:pt x="1990" y="94"/>
                      <a:pt x="1993" y="89"/>
                      <a:pt x="1996" y="84"/>
                    </a:cubicBezTo>
                    <a:cubicBezTo>
                      <a:pt x="1995" y="93"/>
                      <a:pt x="1993" y="105"/>
                      <a:pt x="1992" y="115"/>
                    </a:cubicBezTo>
                    <a:close/>
                    <a:moveTo>
                      <a:pt x="1999" y="90"/>
                    </a:moveTo>
                    <a:cubicBezTo>
                      <a:pt x="1999" y="88"/>
                      <a:pt x="1998" y="84"/>
                      <a:pt x="1998" y="80"/>
                    </a:cubicBezTo>
                    <a:cubicBezTo>
                      <a:pt x="1998" y="80"/>
                      <a:pt x="1998" y="80"/>
                      <a:pt x="1998" y="80"/>
                    </a:cubicBezTo>
                    <a:cubicBezTo>
                      <a:pt x="1999" y="81"/>
                      <a:pt x="2000" y="83"/>
                      <a:pt x="2000" y="84"/>
                    </a:cubicBezTo>
                    <a:cubicBezTo>
                      <a:pt x="2000" y="88"/>
                      <a:pt x="1999" y="90"/>
                      <a:pt x="1999" y="90"/>
                    </a:cubicBezTo>
                    <a:close/>
                    <a:moveTo>
                      <a:pt x="2001" y="83"/>
                    </a:moveTo>
                    <a:cubicBezTo>
                      <a:pt x="2000" y="81"/>
                      <a:pt x="1999" y="80"/>
                      <a:pt x="1998" y="79"/>
                    </a:cubicBezTo>
                    <a:cubicBezTo>
                      <a:pt x="1999" y="78"/>
                      <a:pt x="2000" y="76"/>
                      <a:pt x="2002" y="75"/>
                    </a:cubicBezTo>
                    <a:cubicBezTo>
                      <a:pt x="2001" y="78"/>
                      <a:pt x="2001" y="81"/>
                      <a:pt x="2001" y="83"/>
                    </a:cubicBezTo>
                    <a:close/>
                    <a:moveTo>
                      <a:pt x="2007" y="104"/>
                    </a:moveTo>
                    <a:cubicBezTo>
                      <a:pt x="2008" y="105"/>
                      <a:pt x="2008" y="107"/>
                      <a:pt x="2008" y="109"/>
                    </a:cubicBezTo>
                    <a:cubicBezTo>
                      <a:pt x="2008" y="111"/>
                      <a:pt x="2007" y="112"/>
                      <a:pt x="2007" y="114"/>
                    </a:cubicBezTo>
                    <a:cubicBezTo>
                      <a:pt x="2007" y="110"/>
                      <a:pt x="2007" y="107"/>
                      <a:pt x="2007" y="104"/>
                    </a:cubicBezTo>
                    <a:close/>
                    <a:moveTo>
                      <a:pt x="2003" y="91"/>
                    </a:move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lose/>
                    <a:moveTo>
                      <a:pt x="2003" y="124"/>
                    </a:moveTo>
                    <a:cubicBezTo>
                      <a:pt x="2004" y="114"/>
                      <a:pt x="2004" y="102"/>
                      <a:pt x="2003" y="91"/>
                    </a:cubicBezTo>
                    <a:cubicBezTo>
                      <a:pt x="2003" y="91"/>
                      <a:pt x="2003" y="91"/>
                      <a:pt x="2003" y="91"/>
                    </a:cubicBezTo>
                    <a:cubicBezTo>
                      <a:pt x="2005" y="94"/>
                      <a:pt x="2006" y="98"/>
                      <a:pt x="2007" y="101"/>
                    </a:cubicBezTo>
                    <a:cubicBezTo>
                      <a:pt x="2005" y="120"/>
                      <a:pt x="2005" y="120"/>
                      <a:pt x="2005" y="120"/>
                    </a:cubicBezTo>
                    <a:cubicBezTo>
                      <a:pt x="2004" y="121"/>
                      <a:pt x="2004" y="122"/>
                      <a:pt x="2003" y="124"/>
                    </a:cubicBezTo>
                    <a:close/>
                    <a:moveTo>
                      <a:pt x="2006" y="136"/>
                    </a:moveTo>
                    <a:cubicBezTo>
                      <a:pt x="2006" y="134"/>
                      <a:pt x="2006" y="133"/>
                      <a:pt x="2006" y="131"/>
                    </a:cubicBezTo>
                    <a:cubicBezTo>
                      <a:pt x="2007" y="126"/>
                      <a:pt x="2008" y="121"/>
                      <a:pt x="2009" y="116"/>
                    </a:cubicBezTo>
                    <a:cubicBezTo>
                      <a:pt x="2010" y="118"/>
                      <a:pt x="2010" y="121"/>
                      <a:pt x="2010" y="123"/>
                    </a:cubicBezTo>
                    <a:cubicBezTo>
                      <a:pt x="2010" y="124"/>
                      <a:pt x="2010" y="124"/>
                      <a:pt x="2010" y="124"/>
                    </a:cubicBezTo>
                    <a:cubicBezTo>
                      <a:pt x="2009" y="128"/>
                      <a:pt x="2007" y="132"/>
                      <a:pt x="2006" y="136"/>
                    </a:cubicBezTo>
                    <a:close/>
                    <a:moveTo>
                      <a:pt x="2010" y="141"/>
                    </a:moveTo>
                    <a:cubicBezTo>
                      <a:pt x="2010" y="141"/>
                      <a:pt x="2010" y="141"/>
                      <a:pt x="2010" y="141"/>
                    </a:cubicBezTo>
                    <a:cubicBezTo>
                      <a:pt x="2011" y="139"/>
                      <a:pt x="2011" y="137"/>
                      <a:pt x="2012" y="135"/>
                    </a:cubicBezTo>
                    <a:cubicBezTo>
                      <a:pt x="2012" y="135"/>
                      <a:pt x="2012" y="135"/>
                      <a:pt x="2012" y="135"/>
                    </a:cubicBezTo>
                    <a:cubicBezTo>
                      <a:pt x="2012" y="137"/>
                      <a:pt x="2011" y="139"/>
                      <a:pt x="2010" y="141"/>
                    </a:cubicBezTo>
                    <a:close/>
                    <a:moveTo>
                      <a:pt x="2017" y="119"/>
                    </a:moveTo>
                    <a:cubicBezTo>
                      <a:pt x="2016" y="119"/>
                      <a:pt x="2016" y="118"/>
                      <a:pt x="2016" y="118"/>
                    </a:cubicBezTo>
                    <a:cubicBezTo>
                      <a:pt x="2016" y="116"/>
                      <a:pt x="2017" y="115"/>
                      <a:pt x="2017" y="113"/>
                    </a:cubicBezTo>
                    <a:cubicBezTo>
                      <a:pt x="2017" y="112"/>
                      <a:pt x="2017" y="112"/>
                      <a:pt x="2017" y="111"/>
                    </a:cubicBezTo>
                    <a:cubicBezTo>
                      <a:pt x="2018" y="112"/>
                      <a:pt x="2018" y="113"/>
                      <a:pt x="2018" y="115"/>
                    </a:cubicBezTo>
                    <a:cubicBezTo>
                      <a:pt x="2018" y="116"/>
                      <a:pt x="2017" y="118"/>
                      <a:pt x="2017" y="119"/>
                    </a:cubicBezTo>
                    <a:close/>
                    <a:moveTo>
                      <a:pt x="2024" y="136"/>
                    </a:moveTo>
                    <a:cubicBezTo>
                      <a:pt x="2023" y="135"/>
                      <a:pt x="2023" y="134"/>
                      <a:pt x="2022" y="133"/>
                    </a:cubicBezTo>
                    <a:cubicBezTo>
                      <a:pt x="2022" y="132"/>
                      <a:pt x="2022" y="132"/>
                      <a:pt x="2022" y="131"/>
                    </a:cubicBezTo>
                    <a:cubicBezTo>
                      <a:pt x="2023" y="133"/>
                      <a:pt x="2023" y="134"/>
                      <a:pt x="2024" y="136"/>
                    </a:cubicBezTo>
                    <a:cubicBezTo>
                      <a:pt x="2024" y="136"/>
                      <a:pt x="2024" y="136"/>
                      <a:pt x="2024" y="136"/>
                    </a:cubicBezTo>
                    <a:close/>
                    <a:moveTo>
                      <a:pt x="2038" y="118"/>
                    </a:moveTo>
                    <a:cubicBezTo>
                      <a:pt x="2038" y="118"/>
                      <a:pt x="2038" y="117"/>
                      <a:pt x="2038" y="117"/>
                    </a:cubicBezTo>
                    <a:cubicBezTo>
                      <a:pt x="2038" y="117"/>
                      <a:pt x="2038" y="117"/>
                      <a:pt x="2038" y="117"/>
                    </a:cubicBezTo>
                    <a:cubicBezTo>
                      <a:pt x="2038" y="118"/>
                      <a:pt x="2038" y="118"/>
                      <a:pt x="2038" y="118"/>
                    </a:cubicBezTo>
                    <a:close/>
                    <a:moveTo>
                      <a:pt x="2044" y="105"/>
                    </a:moveTo>
                    <a:cubicBezTo>
                      <a:pt x="2043" y="106"/>
                      <a:pt x="2042" y="107"/>
                      <a:pt x="2042" y="109"/>
                    </a:cubicBezTo>
                    <a:cubicBezTo>
                      <a:pt x="2041" y="107"/>
                      <a:pt x="2041" y="106"/>
                      <a:pt x="2041" y="104"/>
                    </a:cubicBezTo>
                    <a:cubicBezTo>
                      <a:pt x="2042" y="101"/>
                      <a:pt x="2044" y="98"/>
                      <a:pt x="2045" y="94"/>
                    </a:cubicBezTo>
                    <a:cubicBezTo>
                      <a:pt x="2044" y="98"/>
                      <a:pt x="2044" y="101"/>
                      <a:pt x="2044" y="105"/>
                    </a:cubicBezTo>
                    <a:close/>
                    <a:moveTo>
                      <a:pt x="2049" y="138"/>
                    </a:moveTo>
                    <a:cubicBezTo>
                      <a:pt x="2049" y="137"/>
                      <a:pt x="2049" y="136"/>
                      <a:pt x="2048" y="135"/>
                    </a:cubicBezTo>
                    <a:cubicBezTo>
                      <a:pt x="2048" y="133"/>
                      <a:pt x="2048" y="131"/>
                      <a:pt x="2048" y="129"/>
                    </a:cubicBezTo>
                    <a:cubicBezTo>
                      <a:pt x="2049" y="131"/>
                      <a:pt x="2049" y="133"/>
                      <a:pt x="2050" y="134"/>
                    </a:cubicBezTo>
                    <a:cubicBezTo>
                      <a:pt x="2050" y="135"/>
                      <a:pt x="2050" y="137"/>
                      <a:pt x="2049" y="138"/>
                    </a:cubicBezTo>
                    <a:close/>
                    <a:moveTo>
                      <a:pt x="2051" y="123"/>
                    </a:moveTo>
                    <a:cubicBezTo>
                      <a:pt x="2050" y="121"/>
                      <a:pt x="2049" y="118"/>
                      <a:pt x="2049" y="116"/>
                    </a:cubicBezTo>
                    <a:cubicBezTo>
                      <a:pt x="2050" y="112"/>
                      <a:pt x="2051" y="107"/>
                      <a:pt x="2052" y="103"/>
                    </a:cubicBezTo>
                    <a:cubicBezTo>
                      <a:pt x="2052" y="110"/>
                      <a:pt x="2051" y="117"/>
                      <a:pt x="2051" y="123"/>
                    </a:cubicBezTo>
                    <a:close/>
                    <a:moveTo>
                      <a:pt x="2056" y="69"/>
                    </a:moveTo>
                    <a:cubicBezTo>
                      <a:pt x="2058" y="72"/>
                      <a:pt x="2060" y="75"/>
                      <a:pt x="2061" y="79"/>
                    </a:cubicBezTo>
                    <a:cubicBezTo>
                      <a:pt x="2061" y="79"/>
                      <a:pt x="2061" y="79"/>
                      <a:pt x="2061" y="79"/>
                    </a:cubicBezTo>
                    <a:cubicBezTo>
                      <a:pt x="2059" y="76"/>
                      <a:pt x="2058" y="72"/>
                      <a:pt x="2056" y="69"/>
                    </a:cubicBezTo>
                    <a:cubicBezTo>
                      <a:pt x="2056" y="69"/>
                      <a:pt x="2056" y="69"/>
                      <a:pt x="2056" y="69"/>
                    </a:cubicBezTo>
                    <a:close/>
                    <a:moveTo>
                      <a:pt x="2056" y="74"/>
                    </a:moveTo>
                    <a:cubicBezTo>
                      <a:pt x="2057" y="76"/>
                      <a:pt x="2058" y="79"/>
                      <a:pt x="2059" y="81"/>
                    </a:cubicBezTo>
                    <a:cubicBezTo>
                      <a:pt x="2058" y="82"/>
                      <a:pt x="2057" y="83"/>
                      <a:pt x="2056" y="85"/>
                    </a:cubicBezTo>
                    <a:cubicBezTo>
                      <a:pt x="2056" y="81"/>
                      <a:pt x="2056" y="77"/>
                      <a:pt x="2056" y="74"/>
                    </a:cubicBezTo>
                    <a:close/>
                    <a:moveTo>
                      <a:pt x="2057" y="120"/>
                    </a:moveTo>
                    <a:cubicBezTo>
                      <a:pt x="2057" y="115"/>
                      <a:pt x="2057" y="111"/>
                      <a:pt x="2057" y="106"/>
                    </a:cubicBezTo>
                    <a:cubicBezTo>
                      <a:pt x="2058" y="109"/>
                      <a:pt x="2058" y="112"/>
                      <a:pt x="2059" y="114"/>
                    </a:cubicBezTo>
                    <a:cubicBezTo>
                      <a:pt x="2058" y="116"/>
                      <a:pt x="2058" y="118"/>
                      <a:pt x="2057" y="120"/>
                    </a:cubicBezTo>
                    <a:close/>
                    <a:moveTo>
                      <a:pt x="2060" y="109"/>
                    </a:moveTo>
                    <a:cubicBezTo>
                      <a:pt x="2059" y="107"/>
                      <a:pt x="2058" y="104"/>
                      <a:pt x="2057" y="102"/>
                    </a:cubicBezTo>
                    <a:cubicBezTo>
                      <a:pt x="2057" y="99"/>
                      <a:pt x="2057" y="97"/>
                      <a:pt x="2057" y="94"/>
                    </a:cubicBezTo>
                    <a:cubicBezTo>
                      <a:pt x="2058" y="98"/>
                      <a:pt x="2059" y="102"/>
                      <a:pt x="2061" y="107"/>
                    </a:cubicBezTo>
                    <a:cubicBezTo>
                      <a:pt x="2061" y="108"/>
                      <a:pt x="2060" y="108"/>
                      <a:pt x="2060" y="109"/>
                    </a:cubicBezTo>
                    <a:close/>
                    <a:moveTo>
                      <a:pt x="2064" y="96"/>
                    </a:moveTo>
                    <a:cubicBezTo>
                      <a:pt x="2063" y="98"/>
                      <a:pt x="2062" y="101"/>
                      <a:pt x="2062" y="104"/>
                    </a:cubicBezTo>
                    <a:cubicBezTo>
                      <a:pt x="2060" y="100"/>
                      <a:pt x="2058" y="96"/>
                      <a:pt x="2057" y="92"/>
                    </a:cubicBezTo>
                    <a:cubicBezTo>
                      <a:pt x="2057" y="92"/>
                      <a:pt x="2057" y="92"/>
                      <a:pt x="2057" y="92"/>
                    </a:cubicBezTo>
                    <a:cubicBezTo>
                      <a:pt x="2058" y="89"/>
                      <a:pt x="2059" y="86"/>
                      <a:pt x="2061" y="84"/>
                    </a:cubicBezTo>
                    <a:cubicBezTo>
                      <a:pt x="2062" y="87"/>
                      <a:pt x="2063" y="90"/>
                      <a:pt x="2064" y="93"/>
                    </a:cubicBezTo>
                    <a:cubicBezTo>
                      <a:pt x="2064" y="94"/>
                      <a:pt x="2064" y="95"/>
                      <a:pt x="2064" y="96"/>
                    </a:cubicBezTo>
                    <a:close/>
                    <a:moveTo>
                      <a:pt x="2065" y="90"/>
                    </a:moveTo>
                    <a:cubicBezTo>
                      <a:pt x="2064" y="87"/>
                      <a:pt x="2063" y="84"/>
                      <a:pt x="2062" y="82"/>
                    </a:cubicBezTo>
                    <a:cubicBezTo>
                      <a:pt x="2062" y="81"/>
                      <a:pt x="2062" y="81"/>
                      <a:pt x="2062" y="81"/>
                    </a:cubicBezTo>
                    <a:cubicBezTo>
                      <a:pt x="2063" y="83"/>
                      <a:pt x="2064" y="86"/>
                      <a:pt x="2065" y="89"/>
                    </a:cubicBezTo>
                    <a:cubicBezTo>
                      <a:pt x="2065" y="89"/>
                      <a:pt x="2065" y="89"/>
                      <a:pt x="2065" y="90"/>
                    </a:cubicBezTo>
                    <a:close/>
                    <a:moveTo>
                      <a:pt x="2063" y="79"/>
                    </a:moveTo>
                    <a:cubicBezTo>
                      <a:pt x="2064" y="78"/>
                      <a:pt x="2065" y="77"/>
                      <a:pt x="2065" y="77"/>
                    </a:cubicBezTo>
                    <a:cubicBezTo>
                      <a:pt x="2066" y="78"/>
                      <a:pt x="2066" y="79"/>
                      <a:pt x="2067" y="80"/>
                    </a:cubicBezTo>
                    <a:cubicBezTo>
                      <a:pt x="2067" y="82"/>
                      <a:pt x="2066" y="84"/>
                      <a:pt x="2066" y="85"/>
                    </a:cubicBezTo>
                    <a:cubicBezTo>
                      <a:pt x="2065" y="83"/>
                      <a:pt x="2064" y="81"/>
                      <a:pt x="2063" y="79"/>
                    </a:cubicBezTo>
                    <a:close/>
                    <a:moveTo>
                      <a:pt x="2066" y="116"/>
                    </a:moveTo>
                    <a:cubicBezTo>
                      <a:pt x="2066" y="111"/>
                      <a:pt x="2067" y="106"/>
                      <a:pt x="2067" y="102"/>
                    </a:cubicBezTo>
                    <a:cubicBezTo>
                      <a:pt x="2068" y="105"/>
                      <a:pt x="2069" y="108"/>
                      <a:pt x="2070" y="111"/>
                    </a:cubicBezTo>
                    <a:cubicBezTo>
                      <a:pt x="2069" y="113"/>
                      <a:pt x="2068" y="116"/>
                      <a:pt x="2067" y="118"/>
                    </a:cubicBezTo>
                    <a:cubicBezTo>
                      <a:pt x="2067" y="117"/>
                      <a:pt x="2066" y="117"/>
                      <a:pt x="2066" y="116"/>
                    </a:cubicBezTo>
                    <a:close/>
                    <a:moveTo>
                      <a:pt x="2071" y="130"/>
                    </a:moveTo>
                    <a:cubicBezTo>
                      <a:pt x="2070" y="128"/>
                      <a:pt x="2070" y="127"/>
                      <a:pt x="2069" y="125"/>
                    </a:cubicBezTo>
                    <a:cubicBezTo>
                      <a:pt x="2070" y="123"/>
                      <a:pt x="2070" y="122"/>
                      <a:pt x="2071" y="120"/>
                    </a:cubicBezTo>
                    <a:cubicBezTo>
                      <a:pt x="2071" y="122"/>
                      <a:pt x="2071" y="124"/>
                      <a:pt x="2071" y="127"/>
                    </a:cubicBezTo>
                    <a:cubicBezTo>
                      <a:pt x="2071" y="128"/>
                      <a:pt x="2071" y="129"/>
                      <a:pt x="2071" y="130"/>
                    </a:cubicBezTo>
                    <a:close/>
                    <a:moveTo>
                      <a:pt x="2073" y="105"/>
                    </a:moveTo>
                    <a:cubicBezTo>
                      <a:pt x="2071" y="100"/>
                      <a:pt x="2070" y="95"/>
                      <a:pt x="2068" y="91"/>
                    </a:cubicBezTo>
                    <a:cubicBezTo>
                      <a:pt x="2068" y="89"/>
                      <a:pt x="2068" y="87"/>
                      <a:pt x="2069" y="85"/>
                    </a:cubicBezTo>
                    <a:cubicBezTo>
                      <a:pt x="2071" y="91"/>
                      <a:pt x="2072" y="97"/>
                      <a:pt x="2074" y="103"/>
                    </a:cubicBezTo>
                    <a:cubicBezTo>
                      <a:pt x="2073" y="104"/>
                      <a:pt x="2073" y="105"/>
                      <a:pt x="2073" y="105"/>
                    </a:cubicBezTo>
                    <a:close/>
                    <a:moveTo>
                      <a:pt x="2074" y="111"/>
                    </a:moveTo>
                    <a:cubicBezTo>
                      <a:pt x="2074" y="110"/>
                      <a:pt x="2074" y="110"/>
                      <a:pt x="2074" y="109"/>
                    </a:cubicBezTo>
                    <a:cubicBezTo>
                      <a:pt x="2074" y="109"/>
                      <a:pt x="2074" y="108"/>
                      <a:pt x="2075" y="107"/>
                    </a:cubicBezTo>
                    <a:cubicBezTo>
                      <a:pt x="2075" y="108"/>
                      <a:pt x="2075" y="109"/>
                      <a:pt x="2075" y="109"/>
                    </a:cubicBezTo>
                    <a:cubicBezTo>
                      <a:pt x="2075" y="110"/>
                      <a:pt x="2075" y="110"/>
                      <a:pt x="2074" y="111"/>
                    </a:cubicBezTo>
                    <a:close/>
                    <a:moveTo>
                      <a:pt x="2085" y="94"/>
                    </a:moveTo>
                    <a:cubicBezTo>
                      <a:pt x="2085" y="95"/>
                      <a:pt x="2085" y="95"/>
                      <a:pt x="2086" y="96"/>
                    </a:cubicBezTo>
                    <a:cubicBezTo>
                      <a:pt x="2085" y="97"/>
                      <a:pt x="2085" y="97"/>
                      <a:pt x="2085" y="98"/>
                    </a:cubicBezTo>
                    <a:cubicBezTo>
                      <a:pt x="2085" y="96"/>
                      <a:pt x="2085" y="95"/>
                      <a:pt x="2085" y="94"/>
                    </a:cubicBezTo>
                    <a:close/>
                    <a:moveTo>
                      <a:pt x="2087" y="109"/>
                    </a:moveTo>
                    <a:cubicBezTo>
                      <a:pt x="2086" y="106"/>
                      <a:pt x="2086" y="104"/>
                      <a:pt x="2085" y="102"/>
                    </a:cubicBezTo>
                    <a:cubicBezTo>
                      <a:pt x="2085" y="101"/>
                      <a:pt x="2085" y="99"/>
                      <a:pt x="2085" y="98"/>
                    </a:cubicBezTo>
                    <a:cubicBezTo>
                      <a:pt x="2085" y="98"/>
                      <a:pt x="2086" y="97"/>
                      <a:pt x="2086" y="97"/>
                    </a:cubicBezTo>
                    <a:cubicBezTo>
                      <a:pt x="2086" y="98"/>
                      <a:pt x="2087" y="100"/>
                      <a:pt x="2087" y="102"/>
                    </a:cubicBezTo>
                    <a:cubicBezTo>
                      <a:pt x="2087" y="104"/>
                      <a:pt x="2087" y="107"/>
                      <a:pt x="2087" y="109"/>
                    </a:cubicBezTo>
                    <a:close/>
                    <a:moveTo>
                      <a:pt x="2089" y="84"/>
                    </a:moveTo>
                    <a:cubicBezTo>
                      <a:pt x="2089" y="89"/>
                      <a:pt x="2088" y="94"/>
                      <a:pt x="2088" y="98"/>
                    </a:cubicBezTo>
                    <a:cubicBezTo>
                      <a:pt x="2087" y="97"/>
                      <a:pt x="2087" y="96"/>
                      <a:pt x="2086" y="95"/>
                    </a:cubicBezTo>
                    <a:cubicBezTo>
                      <a:pt x="2087" y="94"/>
                      <a:pt x="2088" y="92"/>
                      <a:pt x="2088" y="91"/>
                    </a:cubicBezTo>
                    <a:cubicBezTo>
                      <a:pt x="2088" y="92"/>
                      <a:pt x="2087" y="94"/>
                      <a:pt x="2086" y="95"/>
                    </a:cubicBezTo>
                    <a:cubicBezTo>
                      <a:pt x="2086" y="94"/>
                      <a:pt x="2085" y="93"/>
                      <a:pt x="2085" y="92"/>
                    </a:cubicBezTo>
                    <a:cubicBezTo>
                      <a:pt x="2085" y="90"/>
                      <a:pt x="2085" y="88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5" y="85"/>
                      <a:pt x="2085" y="85"/>
                      <a:pt x="2085" y="85"/>
                    </a:cubicBezTo>
                    <a:cubicBezTo>
                      <a:pt x="2084" y="75"/>
                      <a:pt x="2084" y="65"/>
                      <a:pt x="2084" y="56"/>
                    </a:cubicBezTo>
                    <a:cubicBezTo>
                      <a:pt x="2087" y="58"/>
                      <a:pt x="2089" y="61"/>
                      <a:pt x="2092" y="63"/>
                    </a:cubicBezTo>
                    <a:cubicBezTo>
                      <a:pt x="2091" y="69"/>
                      <a:pt x="2090" y="76"/>
                      <a:pt x="2089" y="84"/>
                    </a:cubicBezTo>
                    <a:cubicBezTo>
                      <a:pt x="2089" y="82"/>
                      <a:pt x="2088" y="81"/>
                      <a:pt x="2088" y="79"/>
                    </a:cubicBezTo>
                    <a:cubicBezTo>
                      <a:pt x="2088" y="81"/>
                      <a:pt x="2089" y="83"/>
                      <a:pt x="2089" y="84"/>
                    </a:cubicBezTo>
                    <a:close/>
                    <a:moveTo>
                      <a:pt x="2090" y="139"/>
                    </a:moveTo>
                    <a:cubicBezTo>
                      <a:pt x="2090" y="134"/>
                      <a:pt x="2090" y="128"/>
                      <a:pt x="2090" y="121"/>
                    </a:cubicBezTo>
                    <a:cubicBezTo>
                      <a:pt x="2090" y="125"/>
                      <a:pt x="2090" y="129"/>
                      <a:pt x="2091" y="133"/>
                    </a:cubicBezTo>
                    <a:cubicBezTo>
                      <a:pt x="2091" y="135"/>
                      <a:pt x="2091" y="137"/>
                      <a:pt x="2090" y="139"/>
                    </a:cubicBezTo>
                    <a:close/>
                    <a:moveTo>
                      <a:pt x="2090" y="104"/>
                    </a:moveTo>
                    <a:cubicBezTo>
                      <a:pt x="2090" y="102"/>
                      <a:pt x="2090" y="99"/>
                      <a:pt x="2091" y="96"/>
                    </a:cubicBezTo>
                    <a:cubicBezTo>
                      <a:pt x="2091" y="100"/>
                      <a:pt x="2091" y="104"/>
                      <a:pt x="2091" y="107"/>
                    </a:cubicBezTo>
                    <a:cubicBezTo>
                      <a:pt x="2091" y="106"/>
                      <a:pt x="2091" y="105"/>
                      <a:pt x="2090" y="104"/>
                    </a:cubicBezTo>
                    <a:close/>
                    <a:moveTo>
                      <a:pt x="2102" y="85"/>
                    </a:moveTo>
                    <a:cubicBezTo>
                      <a:pt x="2101" y="90"/>
                      <a:pt x="2100" y="96"/>
                      <a:pt x="2099" y="103"/>
                    </a:cubicBezTo>
                    <a:cubicBezTo>
                      <a:pt x="2099" y="101"/>
                      <a:pt x="2099" y="100"/>
                      <a:pt x="2098" y="99"/>
                    </a:cubicBezTo>
                    <a:cubicBezTo>
                      <a:pt x="2098" y="96"/>
                      <a:pt x="2097" y="93"/>
                      <a:pt x="2096" y="90"/>
                    </a:cubicBezTo>
                    <a:cubicBezTo>
                      <a:pt x="2097" y="93"/>
                      <a:pt x="2097" y="96"/>
                      <a:pt x="2097" y="99"/>
                    </a:cubicBezTo>
                    <a:cubicBezTo>
                      <a:pt x="2097" y="104"/>
                      <a:pt x="2096" y="112"/>
                      <a:pt x="2096" y="120"/>
                    </a:cubicBezTo>
                    <a:cubicBezTo>
                      <a:pt x="2095" y="110"/>
                      <a:pt x="2093" y="100"/>
                      <a:pt x="2091" y="91"/>
                    </a:cubicBezTo>
                    <a:cubicBezTo>
                      <a:pt x="2092" y="81"/>
                      <a:pt x="2093" y="72"/>
                      <a:pt x="2093" y="65"/>
                    </a:cubicBezTo>
                    <a:cubicBezTo>
                      <a:pt x="2097" y="69"/>
                      <a:pt x="2100" y="74"/>
                      <a:pt x="2102" y="79"/>
                    </a:cubicBezTo>
                    <a:cubicBezTo>
                      <a:pt x="2102" y="81"/>
                      <a:pt x="2102" y="83"/>
                      <a:pt x="2102" y="85"/>
                    </a:cubicBezTo>
                    <a:close/>
                    <a:moveTo>
                      <a:pt x="2102" y="75"/>
                    </a:moveTo>
                    <a:cubicBezTo>
                      <a:pt x="2102" y="75"/>
                      <a:pt x="2102" y="75"/>
                      <a:pt x="2102" y="75"/>
                    </a:cubicBezTo>
                    <a:cubicBezTo>
                      <a:pt x="2102" y="73"/>
                      <a:pt x="2102" y="72"/>
                      <a:pt x="2101" y="70"/>
                    </a:cubicBezTo>
                    <a:cubicBezTo>
                      <a:pt x="2101" y="70"/>
                      <a:pt x="2102" y="72"/>
                      <a:pt x="2102" y="75"/>
                    </a:cubicBezTo>
                    <a:cubicBezTo>
                      <a:pt x="2099" y="71"/>
                      <a:pt x="2097" y="67"/>
                      <a:pt x="2093" y="64"/>
                    </a:cubicBezTo>
                    <a:cubicBezTo>
                      <a:pt x="2094" y="60"/>
                      <a:pt x="2094" y="57"/>
                      <a:pt x="2095" y="54"/>
                    </a:cubicBezTo>
                    <a:cubicBezTo>
                      <a:pt x="2098" y="58"/>
                      <a:pt x="2101" y="62"/>
                      <a:pt x="2103" y="65"/>
                    </a:cubicBezTo>
                    <a:cubicBezTo>
                      <a:pt x="2103" y="68"/>
                      <a:pt x="2102" y="71"/>
                      <a:pt x="2102" y="75"/>
                    </a:cubicBezTo>
                    <a:close/>
                    <a:moveTo>
                      <a:pt x="2106" y="117"/>
                    </a:moveTo>
                    <a:cubicBezTo>
                      <a:pt x="2105" y="120"/>
                      <a:pt x="2104" y="122"/>
                      <a:pt x="2104" y="125"/>
                    </a:cubicBezTo>
                    <a:cubicBezTo>
                      <a:pt x="2104" y="124"/>
                      <a:pt x="2104" y="123"/>
                      <a:pt x="2104" y="122"/>
                    </a:cubicBezTo>
                    <a:cubicBezTo>
                      <a:pt x="2104" y="110"/>
                      <a:pt x="2104" y="98"/>
                      <a:pt x="2105" y="87"/>
                    </a:cubicBezTo>
                    <a:cubicBezTo>
                      <a:pt x="2106" y="92"/>
                      <a:pt x="2107" y="98"/>
                      <a:pt x="2108" y="103"/>
                    </a:cubicBezTo>
                    <a:cubicBezTo>
                      <a:pt x="2107" y="108"/>
                      <a:pt x="2106" y="112"/>
                      <a:pt x="2106" y="117"/>
                    </a:cubicBezTo>
                    <a:close/>
                    <a:moveTo>
                      <a:pt x="2109" y="89"/>
                    </a:moveTo>
                    <a:cubicBezTo>
                      <a:pt x="2108" y="86"/>
                      <a:pt x="2106" y="83"/>
                      <a:pt x="2105" y="80"/>
                    </a:cubicBezTo>
                    <a:cubicBezTo>
                      <a:pt x="2105" y="76"/>
                      <a:pt x="2105" y="72"/>
                      <a:pt x="2105" y="68"/>
                    </a:cubicBezTo>
                    <a:cubicBezTo>
                      <a:pt x="2107" y="71"/>
                      <a:pt x="2109" y="74"/>
                      <a:pt x="2111" y="78"/>
                    </a:cubicBezTo>
                    <a:cubicBezTo>
                      <a:pt x="2110" y="81"/>
                      <a:pt x="2110" y="85"/>
                      <a:pt x="2109" y="89"/>
                    </a:cubicBezTo>
                    <a:close/>
                    <a:moveTo>
                      <a:pt x="2114" y="96"/>
                    </a:moveTo>
                    <a:cubicBezTo>
                      <a:pt x="2114" y="97"/>
                      <a:pt x="2113" y="98"/>
                      <a:pt x="2113" y="99"/>
                    </a:cubicBezTo>
                    <a:cubicBezTo>
                      <a:pt x="2112" y="98"/>
                      <a:pt x="2112" y="97"/>
                      <a:pt x="2112" y="96"/>
                    </a:cubicBezTo>
                    <a:cubicBezTo>
                      <a:pt x="2112" y="91"/>
                      <a:pt x="2112" y="86"/>
                      <a:pt x="2112" y="80"/>
                    </a:cubicBezTo>
                    <a:cubicBezTo>
                      <a:pt x="2113" y="83"/>
                      <a:pt x="2114" y="86"/>
                      <a:pt x="2115" y="88"/>
                    </a:cubicBezTo>
                    <a:cubicBezTo>
                      <a:pt x="2115" y="91"/>
                      <a:pt x="2115" y="93"/>
                      <a:pt x="2114" y="96"/>
                    </a:cubicBezTo>
                    <a:close/>
                    <a:moveTo>
                      <a:pt x="2136" y="105"/>
                    </a:moveTo>
                    <a:cubicBezTo>
                      <a:pt x="2135" y="103"/>
                      <a:pt x="2135" y="102"/>
                      <a:pt x="2134" y="101"/>
                    </a:cubicBezTo>
                    <a:cubicBezTo>
                      <a:pt x="2136" y="96"/>
                      <a:pt x="2137" y="92"/>
                      <a:pt x="2138" y="89"/>
                    </a:cubicBezTo>
                    <a:cubicBezTo>
                      <a:pt x="2138" y="89"/>
                      <a:pt x="2139" y="89"/>
                      <a:pt x="2139" y="90"/>
                    </a:cubicBezTo>
                    <a:cubicBezTo>
                      <a:pt x="2138" y="95"/>
                      <a:pt x="2137" y="100"/>
                      <a:pt x="2136" y="105"/>
                    </a:cubicBezTo>
                    <a:close/>
                    <a:moveTo>
                      <a:pt x="2152" y="81"/>
                    </a:moveTo>
                    <a:cubicBezTo>
                      <a:pt x="2152" y="81"/>
                      <a:pt x="2153" y="81"/>
                      <a:pt x="2153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ubicBezTo>
                      <a:pt x="2152" y="81"/>
                      <a:pt x="2152" y="81"/>
                      <a:pt x="2152" y="81"/>
                    </a:cubicBezTo>
                    <a:close/>
                    <a:moveTo>
                      <a:pt x="2152" y="88"/>
                    </a:move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90"/>
                      <a:pt x="2152" y="91"/>
                      <a:pt x="2152" y="91"/>
                    </a:cubicBezTo>
                    <a:cubicBezTo>
                      <a:pt x="2152" y="90"/>
                      <a:pt x="2152" y="89"/>
                      <a:pt x="2152" y="88"/>
                    </a:cubicBezTo>
                    <a:close/>
                    <a:moveTo>
                      <a:pt x="2143" y="122"/>
                    </a:moveTo>
                    <a:cubicBezTo>
                      <a:pt x="2143" y="122"/>
                      <a:pt x="2143" y="123"/>
                      <a:pt x="2143" y="123"/>
                    </a:cubicBezTo>
                    <a:cubicBezTo>
                      <a:pt x="2143" y="123"/>
                      <a:pt x="2143" y="123"/>
                      <a:pt x="2143" y="123"/>
                    </a:cubicBezTo>
                    <a:cubicBezTo>
                      <a:pt x="2143" y="123"/>
                      <a:pt x="2143" y="122"/>
                      <a:pt x="2143" y="122"/>
                    </a:cubicBezTo>
                    <a:cubicBezTo>
                      <a:pt x="2143" y="120"/>
                      <a:pt x="2144" y="118"/>
                      <a:pt x="2144" y="115"/>
                    </a:cubicBezTo>
                    <a:cubicBezTo>
                      <a:pt x="2144" y="115"/>
                      <a:pt x="2144" y="115"/>
                      <a:pt x="2144" y="115"/>
                    </a:cubicBezTo>
                    <a:cubicBezTo>
                      <a:pt x="2144" y="116"/>
                      <a:pt x="2144" y="117"/>
                      <a:pt x="2144" y="118"/>
                    </a:cubicBezTo>
                    <a:cubicBezTo>
                      <a:pt x="2144" y="119"/>
                      <a:pt x="2143" y="121"/>
                      <a:pt x="2143" y="122"/>
                    </a:cubicBezTo>
                    <a:close/>
                    <a:moveTo>
                      <a:pt x="2145" y="70"/>
                    </a:moveTo>
                    <a:cubicBezTo>
                      <a:pt x="2148" y="73"/>
                      <a:pt x="2150" y="76"/>
                      <a:pt x="2151" y="79"/>
                    </a:cubicBezTo>
                    <a:cubicBezTo>
                      <a:pt x="2151" y="81"/>
                      <a:pt x="2151" y="82"/>
                      <a:pt x="2150" y="84"/>
                    </a:cubicBezTo>
                    <a:cubicBezTo>
                      <a:pt x="2150" y="84"/>
                      <a:pt x="2150" y="84"/>
                      <a:pt x="2150" y="84"/>
                    </a:cubicBezTo>
                    <a:cubicBezTo>
                      <a:pt x="2150" y="82"/>
                      <a:pt x="2149" y="81"/>
                      <a:pt x="2148" y="79"/>
                    </a:cubicBezTo>
                    <a:cubicBezTo>
                      <a:pt x="2149" y="81"/>
                      <a:pt x="2149" y="83"/>
                      <a:pt x="2150" y="84"/>
                    </a:cubicBezTo>
                    <a:cubicBezTo>
                      <a:pt x="2149" y="87"/>
                      <a:pt x="2147" y="90"/>
                      <a:pt x="2145" y="93"/>
                    </a:cubicBezTo>
                    <a:cubicBezTo>
                      <a:pt x="2146" y="85"/>
                      <a:pt x="2146" y="77"/>
                      <a:pt x="2145" y="70"/>
                    </a:cubicBezTo>
                    <a:close/>
                    <a:moveTo>
                      <a:pt x="2148" y="98"/>
                    </a:moveTo>
                    <a:cubicBezTo>
                      <a:pt x="2148" y="98"/>
                      <a:pt x="2148" y="97"/>
                      <a:pt x="2147" y="96"/>
                    </a:cubicBezTo>
                    <a:cubicBezTo>
                      <a:pt x="2148" y="97"/>
                      <a:pt x="2148" y="98"/>
                      <a:pt x="2148" y="98"/>
                    </a:cubicBezTo>
                    <a:cubicBezTo>
                      <a:pt x="2148" y="99"/>
                      <a:pt x="2148" y="100"/>
                      <a:pt x="2147" y="100"/>
                    </a:cubicBezTo>
                    <a:cubicBezTo>
                      <a:pt x="2147" y="99"/>
                      <a:pt x="2147" y="98"/>
                      <a:pt x="2146" y="97"/>
                    </a:cubicBezTo>
                    <a:cubicBezTo>
                      <a:pt x="2147" y="95"/>
                      <a:pt x="2148" y="93"/>
                      <a:pt x="2149" y="90"/>
                    </a:cubicBezTo>
                    <a:cubicBezTo>
                      <a:pt x="2149" y="93"/>
                      <a:pt x="2148" y="96"/>
                      <a:pt x="2148" y="98"/>
                    </a:cubicBezTo>
                    <a:close/>
                    <a:moveTo>
                      <a:pt x="2155" y="100"/>
                    </a:moveTo>
                    <a:cubicBezTo>
                      <a:pt x="2153" y="104"/>
                      <a:pt x="2152" y="107"/>
                      <a:pt x="2150" y="110"/>
                    </a:cubicBezTo>
                    <a:cubicBezTo>
                      <a:pt x="2150" y="110"/>
                      <a:pt x="2150" y="109"/>
                      <a:pt x="2150" y="109"/>
                    </a:cubicBezTo>
                    <a:cubicBezTo>
                      <a:pt x="2150" y="106"/>
                      <a:pt x="2151" y="102"/>
                      <a:pt x="2151" y="99"/>
                    </a:cubicBezTo>
                    <a:cubicBezTo>
                      <a:pt x="2152" y="95"/>
                      <a:pt x="2152" y="92"/>
                      <a:pt x="2152" y="90"/>
                    </a:cubicBezTo>
                    <a:cubicBezTo>
                      <a:pt x="2153" y="93"/>
                      <a:pt x="2154" y="96"/>
                      <a:pt x="2155" y="100"/>
                    </a:cubicBezTo>
                    <a:cubicBezTo>
                      <a:pt x="2155" y="100"/>
                      <a:pt x="2155" y="100"/>
                      <a:pt x="2155" y="100"/>
                    </a:cubicBezTo>
                    <a:close/>
                    <a:moveTo>
                      <a:pt x="2155" y="97"/>
                    </a:moveTo>
                    <a:cubicBezTo>
                      <a:pt x="2154" y="95"/>
                      <a:pt x="2153" y="92"/>
                      <a:pt x="2152" y="89"/>
                    </a:cubicBezTo>
                    <a:cubicBezTo>
                      <a:pt x="2152" y="89"/>
                      <a:pt x="2152" y="89"/>
                      <a:pt x="2152" y="88"/>
                    </a:cubicBezTo>
                    <a:cubicBezTo>
                      <a:pt x="2152" y="89"/>
                      <a:pt x="2152" y="89"/>
                      <a:pt x="2152" y="89"/>
                    </a:cubicBezTo>
                    <a:cubicBezTo>
                      <a:pt x="2152" y="89"/>
                      <a:pt x="2152" y="88"/>
                      <a:pt x="2152" y="88"/>
                    </a:cubicBezTo>
                    <a:cubicBezTo>
                      <a:pt x="2152" y="87"/>
                      <a:pt x="2152" y="86"/>
                      <a:pt x="2152" y="85"/>
                    </a:cubicBezTo>
                    <a:cubicBezTo>
                      <a:pt x="2152" y="84"/>
                      <a:pt x="2153" y="83"/>
                      <a:pt x="2153" y="82"/>
                    </a:cubicBezTo>
                    <a:cubicBezTo>
                      <a:pt x="2154" y="84"/>
                      <a:pt x="2155" y="86"/>
                      <a:pt x="2156" y="88"/>
                    </a:cubicBezTo>
                    <a:cubicBezTo>
                      <a:pt x="2156" y="91"/>
                      <a:pt x="2156" y="94"/>
                      <a:pt x="2155" y="97"/>
                    </a:cubicBezTo>
                    <a:close/>
                    <a:moveTo>
                      <a:pt x="2157" y="135"/>
                    </a:moveTo>
                    <a:cubicBezTo>
                      <a:pt x="2157" y="136"/>
                      <a:pt x="2157" y="137"/>
                      <a:pt x="2157" y="138"/>
                    </a:cubicBezTo>
                    <a:cubicBezTo>
                      <a:pt x="2157" y="137"/>
                      <a:pt x="2157" y="136"/>
                      <a:pt x="2157" y="135"/>
                    </a:cubicBezTo>
                    <a:cubicBezTo>
                      <a:pt x="2157" y="135"/>
                      <a:pt x="2157" y="135"/>
                      <a:pt x="2157" y="135"/>
                    </a:cubicBezTo>
                    <a:close/>
                    <a:moveTo>
                      <a:pt x="2157" y="83"/>
                    </a:moveTo>
                    <a:cubicBezTo>
                      <a:pt x="2156" y="82"/>
                      <a:pt x="2155" y="81"/>
                      <a:pt x="2155" y="80"/>
                    </a:cubicBezTo>
                    <a:cubicBezTo>
                      <a:pt x="2156" y="78"/>
                      <a:pt x="2157" y="77"/>
                      <a:pt x="2158" y="75"/>
                    </a:cubicBezTo>
                    <a:cubicBezTo>
                      <a:pt x="2157" y="78"/>
                      <a:pt x="2157" y="81"/>
                      <a:pt x="2157" y="83"/>
                    </a:cubicBezTo>
                    <a:close/>
                    <a:moveTo>
                      <a:pt x="2158" y="74"/>
                    </a:moveTo>
                    <a:cubicBezTo>
                      <a:pt x="2156" y="76"/>
                      <a:pt x="2155" y="77"/>
                      <a:pt x="2154" y="79"/>
                    </a:cubicBezTo>
                    <a:cubicBezTo>
                      <a:pt x="2153" y="78"/>
                      <a:pt x="2153" y="78"/>
                      <a:pt x="2153" y="77"/>
                    </a:cubicBezTo>
                    <a:cubicBezTo>
                      <a:pt x="2153" y="72"/>
                      <a:pt x="2153" y="67"/>
                      <a:pt x="2154" y="65"/>
                    </a:cubicBezTo>
                    <a:cubicBezTo>
                      <a:pt x="2155" y="67"/>
                      <a:pt x="2156" y="70"/>
                      <a:pt x="2158" y="72"/>
                    </a:cubicBezTo>
                    <a:cubicBezTo>
                      <a:pt x="2158" y="73"/>
                      <a:pt x="2158" y="73"/>
                      <a:pt x="2158" y="74"/>
                    </a:cubicBezTo>
                    <a:close/>
                    <a:moveTo>
                      <a:pt x="2160" y="75"/>
                    </a:moveTo>
                    <a:cubicBezTo>
                      <a:pt x="2161" y="78"/>
                      <a:pt x="2163" y="81"/>
                      <a:pt x="2165" y="84"/>
                    </a:cubicBezTo>
                    <a:cubicBezTo>
                      <a:pt x="2163" y="86"/>
                      <a:pt x="2162" y="88"/>
                      <a:pt x="2161" y="90"/>
                    </a:cubicBezTo>
                    <a:cubicBezTo>
                      <a:pt x="2161" y="89"/>
                      <a:pt x="2160" y="89"/>
                      <a:pt x="2160" y="89"/>
                    </a:cubicBezTo>
                    <a:cubicBezTo>
                      <a:pt x="2160" y="84"/>
                      <a:pt x="2160" y="79"/>
                      <a:pt x="2160" y="75"/>
                    </a:cubicBezTo>
                    <a:close/>
                    <a:moveTo>
                      <a:pt x="2162" y="110"/>
                    </a:moveTo>
                    <a:cubicBezTo>
                      <a:pt x="2162" y="107"/>
                      <a:pt x="2161" y="104"/>
                      <a:pt x="2160" y="101"/>
                    </a:cubicBezTo>
                    <a:cubicBezTo>
                      <a:pt x="2160" y="101"/>
                      <a:pt x="2160" y="100"/>
                      <a:pt x="2160" y="100"/>
                    </a:cubicBezTo>
                    <a:cubicBezTo>
                      <a:pt x="2160" y="100"/>
                      <a:pt x="2161" y="99"/>
                      <a:pt x="2161" y="99"/>
                    </a:cubicBezTo>
                    <a:cubicBezTo>
                      <a:pt x="2162" y="101"/>
                      <a:pt x="2162" y="104"/>
                      <a:pt x="2163" y="106"/>
                    </a:cubicBezTo>
                    <a:cubicBezTo>
                      <a:pt x="2163" y="108"/>
                      <a:pt x="2163" y="109"/>
                      <a:pt x="2162" y="110"/>
                    </a:cubicBezTo>
                    <a:close/>
                    <a:moveTo>
                      <a:pt x="2163" y="93"/>
                    </a:moveTo>
                    <a:cubicBezTo>
                      <a:pt x="2164" y="91"/>
                      <a:pt x="2165" y="88"/>
                      <a:pt x="2166" y="86"/>
                    </a:cubicBezTo>
                    <a:cubicBezTo>
                      <a:pt x="2166" y="87"/>
                      <a:pt x="2167" y="87"/>
                      <a:pt x="2167" y="88"/>
                    </a:cubicBezTo>
                    <a:cubicBezTo>
                      <a:pt x="2166" y="91"/>
                      <a:pt x="2166" y="94"/>
                      <a:pt x="2165" y="97"/>
                    </a:cubicBezTo>
                    <a:cubicBezTo>
                      <a:pt x="2164" y="96"/>
                      <a:pt x="2163" y="95"/>
                      <a:pt x="2163" y="93"/>
                    </a:cubicBezTo>
                    <a:close/>
                    <a:moveTo>
                      <a:pt x="2166" y="130"/>
                    </a:moveTo>
                    <a:cubicBezTo>
                      <a:pt x="2166" y="129"/>
                      <a:pt x="2166" y="128"/>
                      <a:pt x="2166" y="126"/>
                    </a:cubicBezTo>
                    <a:cubicBezTo>
                      <a:pt x="2166" y="124"/>
                      <a:pt x="2166" y="121"/>
                      <a:pt x="2167" y="119"/>
                    </a:cubicBezTo>
                    <a:cubicBezTo>
                      <a:pt x="2167" y="120"/>
                      <a:pt x="2168" y="122"/>
                      <a:pt x="2168" y="124"/>
                    </a:cubicBezTo>
                    <a:cubicBezTo>
                      <a:pt x="2167" y="126"/>
                      <a:pt x="2167" y="128"/>
                      <a:pt x="2166" y="130"/>
                    </a:cubicBezTo>
                    <a:close/>
                    <a:moveTo>
                      <a:pt x="2170" y="108"/>
                    </a:moveTo>
                    <a:cubicBezTo>
                      <a:pt x="2170" y="107"/>
                      <a:pt x="2169" y="106"/>
                      <a:pt x="2169" y="105"/>
                    </a:cubicBezTo>
                    <a:cubicBezTo>
                      <a:pt x="2169" y="102"/>
                      <a:pt x="2170" y="99"/>
                      <a:pt x="2171" y="96"/>
                    </a:cubicBezTo>
                    <a:cubicBezTo>
                      <a:pt x="2171" y="96"/>
                      <a:pt x="2171" y="97"/>
                      <a:pt x="2171" y="97"/>
                    </a:cubicBezTo>
                    <a:cubicBezTo>
                      <a:pt x="2171" y="101"/>
                      <a:pt x="2170" y="105"/>
                      <a:pt x="2170" y="108"/>
                    </a:cubicBezTo>
                    <a:close/>
                    <a:moveTo>
                      <a:pt x="2172" y="86"/>
                    </a:moveTo>
                    <a:cubicBezTo>
                      <a:pt x="2172" y="86"/>
                      <a:pt x="2172" y="86"/>
                      <a:pt x="2172" y="86"/>
                    </a:cubicBezTo>
                    <a:cubicBezTo>
                      <a:pt x="2172" y="85"/>
                      <a:pt x="2173" y="84"/>
                      <a:pt x="2173" y="83"/>
                    </a:cubicBezTo>
                    <a:cubicBezTo>
                      <a:pt x="2173" y="84"/>
                      <a:pt x="2172" y="85"/>
                      <a:pt x="2172" y="86"/>
                    </a:cubicBezTo>
                    <a:close/>
                    <a:moveTo>
                      <a:pt x="2180" y="80"/>
                    </a:moveTo>
                    <a:cubicBezTo>
                      <a:pt x="2180" y="77"/>
                      <a:pt x="2180" y="75"/>
                      <a:pt x="2180" y="73"/>
                    </a:cubicBezTo>
                    <a:cubicBezTo>
                      <a:pt x="2181" y="73"/>
                      <a:pt x="2181" y="74"/>
                      <a:pt x="2181" y="74"/>
                    </a:cubicBezTo>
                    <a:cubicBezTo>
                      <a:pt x="2181" y="76"/>
                      <a:pt x="2181" y="78"/>
                      <a:pt x="2180" y="80"/>
                    </a:cubicBezTo>
                    <a:close/>
                    <a:moveTo>
                      <a:pt x="2192" y="93"/>
                    </a:moveTo>
                    <a:cubicBezTo>
                      <a:pt x="2191" y="95"/>
                      <a:pt x="2191" y="96"/>
                      <a:pt x="2190" y="97"/>
                    </a:cubicBezTo>
                    <a:cubicBezTo>
                      <a:pt x="2190" y="94"/>
                      <a:pt x="2190" y="91"/>
                      <a:pt x="2189" y="88"/>
                    </a:cubicBezTo>
                    <a:cubicBezTo>
                      <a:pt x="2190" y="89"/>
                      <a:pt x="2191" y="91"/>
                      <a:pt x="2192" y="93"/>
                    </a:cubicBezTo>
                    <a:cubicBezTo>
                      <a:pt x="2192" y="93"/>
                      <a:pt x="2192" y="93"/>
                      <a:pt x="2192" y="93"/>
                    </a:cubicBezTo>
                    <a:close/>
                    <a:moveTo>
                      <a:pt x="2193" y="88"/>
                    </a:moveTo>
                    <a:cubicBezTo>
                      <a:pt x="2192" y="86"/>
                      <a:pt x="2191" y="85"/>
                      <a:pt x="2190" y="84"/>
                    </a:cubicBezTo>
                    <a:cubicBezTo>
                      <a:pt x="2191" y="81"/>
                      <a:pt x="2193" y="78"/>
                      <a:pt x="2195" y="75"/>
                    </a:cubicBezTo>
                    <a:cubicBezTo>
                      <a:pt x="2194" y="79"/>
                      <a:pt x="2193" y="84"/>
                      <a:pt x="2193" y="88"/>
                    </a:cubicBezTo>
                    <a:close/>
                    <a:moveTo>
                      <a:pt x="2202" y="77"/>
                    </a:moveTo>
                    <a:cubicBezTo>
                      <a:pt x="2202" y="77"/>
                      <a:pt x="2202" y="77"/>
                      <a:pt x="2202" y="77"/>
                    </a:cubicBezTo>
                    <a:cubicBezTo>
                      <a:pt x="2202" y="74"/>
                      <a:pt x="2201" y="70"/>
                      <a:pt x="2201" y="66"/>
                    </a:cubicBezTo>
                    <a:cubicBezTo>
                      <a:pt x="2201" y="65"/>
                      <a:pt x="2202" y="64"/>
                      <a:pt x="2202" y="63"/>
                    </a:cubicBezTo>
                    <a:cubicBezTo>
                      <a:pt x="2203" y="67"/>
                      <a:pt x="2203" y="72"/>
                      <a:pt x="2202" y="77"/>
                    </a:cubicBezTo>
                    <a:close/>
                    <a:moveTo>
                      <a:pt x="2205" y="72"/>
                    </a:moveTo>
                    <a:cubicBezTo>
                      <a:pt x="2205" y="67"/>
                      <a:pt x="2204" y="64"/>
                      <a:pt x="2203" y="61"/>
                    </a:cubicBezTo>
                    <a:cubicBezTo>
                      <a:pt x="2204" y="60"/>
                      <a:pt x="2205" y="58"/>
                      <a:pt x="2206" y="57"/>
                    </a:cubicBezTo>
                    <a:cubicBezTo>
                      <a:pt x="2206" y="62"/>
                      <a:pt x="2206" y="67"/>
                      <a:pt x="2205" y="72"/>
                    </a:cubicBezTo>
                    <a:close/>
                    <a:moveTo>
                      <a:pt x="2221" y="89"/>
                    </a:moveTo>
                    <a:cubicBezTo>
                      <a:pt x="2222" y="91"/>
                      <a:pt x="2223" y="92"/>
                      <a:pt x="2223" y="94"/>
                    </a:cubicBezTo>
                    <a:cubicBezTo>
                      <a:pt x="2223" y="95"/>
                      <a:pt x="2222" y="97"/>
                      <a:pt x="2222" y="98"/>
                    </a:cubicBezTo>
                    <a:cubicBezTo>
                      <a:pt x="2221" y="97"/>
                      <a:pt x="2221" y="96"/>
                      <a:pt x="2220" y="95"/>
                    </a:cubicBezTo>
                    <a:cubicBezTo>
                      <a:pt x="2220" y="93"/>
                      <a:pt x="2221" y="91"/>
                      <a:pt x="2221" y="89"/>
                    </a:cubicBezTo>
                    <a:close/>
                    <a:moveTo>
                      <a:pt x="2220" y="101"/>
                    </a:moveTo>
                    <a:cubicBezTo>
                      <a:pt x="2220" y="101"/>
                      <a:pt x="2220" y="100"/>
                      <a:pt x="2220" y="100"/>
                    </a:cubicBezTo>
                    <a:cubicBezTo>
                      <a:pt x="2220" y="100"/>
                      <a:pt x="2220" y="101"/>
                      <a:pt x="2220" y="101"/>
                    </a:cubicBezTo>
                    <a:cubicBezTo>
                      <a:pt x="2220" y="101"/>
                      <a:pt x="2220" y="101"/>
                      <a:pt x="2220" y="101"/>
                    </a:cubicBezTo>
                    <a:close/>
                    <a:moveTo>
                      <a:pt x="2222" y="122"/>
                    </a:moveTo>
                    <a:cubicBezTo>
                      <a:pt x="2222" y="121"/>
                      <a:pt x="2221" y="120"/>
                      <a:pt x="2221" y="119"/>
                    </a:cubicBezTo>
                    <a:cubicBezTo>
                      <a:pt x="2221" y="117"/>
                      <a:pt x="2221" y="115"/>
                      <a:pt x="2221" y="112"/>
                    </a:cubicBezTo>
                    <a:cubicBezTo>
                      <a:pt x="2221" y="110"/>
                      <a:pt x="2221" y="108"/>
                      <a:pt x="2222" y="106"/>
                    </a:cubicBezTo>
                    <a:cubicBezTo>
                      <a:pt x="2222" y="108"/>
                      <a:pt x="2223" y="110"/>
                      <a:pt x="2223" y="112"/>
                    </a:cubicBezTo>
                    <a:cubicBezTo>
                      <a:pt x="2223" y="115"/>
                      <a:pt x="2223" y="119"/>
                      <a:pt x="2222" y="122"/>
                    </a:cubicBezTo>
                    <a:close/>
                    <a:moveTo>
                      <a:pt x="2224" y="103"/>
                    </a:moveTo>
                    <a:cubicBezTo>
                      <a:pt x="2224" y="102"/>
                      <a:pt x="2223" y="101"/>
                      <a:pt x="2223" y="100"/>
                    </a:cubicBezTo>
                    <a:cubicBezTo>
                      <a:pt x="2223" y="99"/>
                      <a:pt x="2224" y="97"/>
                      <a:pt x="2224" y="96"/>
                    </a:cubicBezTo>
                    <a:cubicBezTo>
                      <a:pt x="2224" y="97"/>
                      <a:pt x="2225" y="97"/>
                      <a:pt x="2225" y="98"/>
                    </a:cubicBezTo>
                    <a:cubicBezTo>
                      <a:pt x="2225" y="100"/>
                      <a:pt x="2224" y="101"/>
                      <a:pt x="2224" y="103"/>
                    </a:cubicBezTo>
                    <a:close/>
                    <a:moveTo>
                      <a:pt x="2225" y="96"/>
                    </a:moveTo>
                    <a:cubicBezTo>
                      <a:pt x="2225" y="95"/>
                      <a:pt x="2225" y="95"/>
                      <a:pt x="2224" y="95"/>
                    </a:cubicBezTo>
                    <a:cubicBezTo>
                      <a:pt x="2225" y="93"/>
                      <a:pt x="2225" y="92"/>
                      <a:pt x="2226" y="91"/>
                    </a:cubicBezTo>
                    <a:cubicBezTo>
                      <a:pt x="2225" y="93"/>
                      <a:pt x="2225" y="94"/>
                      <a:pt x="2225" y="96"/>
                    </a:cubicBezTo>
                    <a:close/>
                    <a:moveTo>
                      <a:pt x="2231" y="95"/>
                    </a:moveTo>
                    <a:cubicBezTo>
                      <a:pt x="2231" y="92"/>
                      <a:pt x="2232" y="89"/>
                      <a:pt x="2232" y="86"/>
                    </a:cubicBezTo>
                    <a:cubicBezTo>
                      <a:pt x="2232" y="86"/>
                      <a:pt x="2233" y="87"/>
                      <a:pt x="2233" y="88"/>
                    </a:cubicBezTo>
                    <a:cubicBezTo>
                      <a:pt x="2233" y="90"/>
                      <a:pt x="2232" y="92"/>
                      <a:pt x="2231" y="95"/>
                    </a:cubicBezTo>
                    <a:close/>
                    <a:moveTo>
                      <a:pt x="2242" y="99"/>
                    </a:moveTo>
                    <a:cubicBezTo>
                      <a:pt x="2242" y="99"/>
                      <a:pt x="2241" y="98"/>
                      <a:pt x="2241" y="97"/>
                    </a:cubicBezTo>
                    <a:cubicBezTo>
                      <a:pt x="2241" y="93"/>
                      <a:pt x="2241" y="89"/>
                      <a:pt x="2241" y="84"/>
                    </a:cubicBezTo>
                    <a:cubicBezTo>
                      <a:pt x="2242" y="80"/>
                      <a:pt x="2245" y="76"/>
                      <a:pt x="2247" y="72"/>
                    </a:cubicBezTo>
                    <a:cubicBezTo>
                      <a:pt x="2248" y="74"/>
                      <a:pt x="2248" y="78"/>
                      <a:pt x="2249" y="82"/>
                    </a:cubicBezTo>
                    <a:cubicBezTo>
                      <a:pt x="2246" y="88"/>
                      <a:pt x="2244" y="93"/>
                      <a:pt x="2242" y="99"/>
                    </a:cubicBezTo>
                    <a:close/>
                    <a:moveTo>
                      <a:pt x="2250" y="75"/>
                    </a:moveTo>
                    <a:cubicBezTo>
                      <a:pt x="2250" y="73"/>
                      <a:pt x="2249" y="71"/>
                      <a:pt x="2249" y="69"/>
                    </a:cubicBezTo>
                    <a:cubicBezTo>
                      <a:pt x="2250" y="68"/>
                      <a:pt x="2250" y="67"/>
                      <a:pt x="2251" y="66"/>
                    </a:cubicBezTo>
                    <a:cubicBezTo>
                      <a:pt x="2251" y="69"/>
                      <a:pt x="2250" y="72"/>
                      <a:pt x="2250" y="75"/>
                    </a:cubicBezTo>
                    <a:close/>
                    <a:moveTo>
                      <a:pt x="2258" y="72"/>
                    </a:moveTo>
                    <a:cubicBezTo>
                      <a:pt x="2258" y="71"/>
                      <a:pt x="2258" y="70"/>
                      <a:pt x="2258" y="70"/>
                    </a:cubicBezTo>
                    <a:cubicBezTo>
                      <a:pt x="2258" y="69"/>
                      <a:pt x="2258" y="69"/>
                      <a:pt x="2258" y="69"/>
                    </a:cubicBezTo>
                    <a:cubicBezTo>
                      <a:pt x="2258" y="71"/>
                      <a:pt x="2258" y="72"/>
                      <a:pt x="2258" y="72"/>
                    </a:cubicBezTo>
                    <a:close/>
                    <a:moveTo>
                      <a:pt x="2258" y="67"/>
                    </a:moveTo>
                    <a:cubicBezTo>
                      <a:pt x="2258" y="67"/>
                      <a:pt x="2258" y="68"/>
                      <a:pt x="2258" y="68"/>
                    </a:cubicBezTo>
                    <a:cubicBezTo>
                      <a:pt x="2258" y="65"/>
                      <a:pt x="2257" y="61"/>
                      <a:pt x="2257" y="58"/>
                    </a:cubicBezTo>
                    <a:cubicBezTo>
                      <a:pt x="2257" y="57"/>
                      <a:pt x="2258" y="56"/>
                      <a:pt x="2259" y="56"/>
                    </a:cubicBezTo>
                    <a:cubicBezTo>
                      <a:pt x="2258" y="60"/>
                      <a:pt x="2258" y="64"/>
                      <a:pt x="2258" y="67"/>
                    </a:cubicBezTo>
                    <a:close/>
                    <a:moveTo>
                      <a:pt x="2266" y="123"/>
                    </a:moveTo>
                    <a:cubicBezTo>
                      <a:pt x="2265" y="124"/>
                      <a:pt x="2264" y="126"/>
                      <a:pt x="2264" y="127"/>
                    </a:cubicBezTo>
                    <a:cubicBezTo>
                      <a:pt x="2264" y="124"/>
                      <a:pt x="2264" y="122"/>
                      <a:pt x="2264" y="119"/>
                    </a:cubicBezTo>
                    <a:cubicBezTo>
                      <a:pt x="2265" y="116"/>
                      <a:pt x="2266" y="112"/>
                      <a:pt x="2267" y="109"/>
                    </a:cubicBezTo>
                    <a:cubicBezTo>
                      <a:pt x="2267" y="111"/>
                      <a:pt x="2267" y="112"/>
                      <a:pt x="2267" y="114"/>
                    </a:cubicBezTo>
                    <a:cubicBezTo>
                      <a:pt x="2267" y="117"/>
                      <a:pt x="2266" y="120"/>
                      <a:pt x="2266" y="123"/>
                    </a:cubicBezTo>
                    <a:close/>
                    <a:moveTo>
                      <a:pt x="2268" y="110"/>
                    </a:moveTo>
                    <a:cubicBezTo>
                      <a:pt x="2268" y="111"/>
                      <a:pt x="2268" y="112"/>
                      <a:pt x="2267" y="112"/>
                    </a:cubicBezTo>
                    <a:cubicBezTo>
                      <a:pt x="2267" y="111"/>
                      <a:pt x="2267" y="110"/>
                      <a:pt x="2267" y="109"/>
                    </a:cubicBezTo>
                    <a:cubicBezTo>
                      <a:pt x="2267" y="107"/>
                      <a:pt x="2268" y="105"/>
                      <a:pt x="2268" y="102"/>
                    </a:cubicBezTo>
                    <a:cubicBezTo>
                      <a:pt x="2268" y="105"/>
                      <a:pt x="2268" y="107"/>
                      <a:pt x="2268" y="110"/>
                    </a:cubicBezTo>
                    <a:close/>
                    <a:moveTo>
                      <a:pt x="2270" y="83"/>
                    </a:moveTo>
                    <a:cubicBezTo>
                      <a:pt x="2270" y="83"/>
                      <a:pt x="2270" y="84"/>
                      <a:pt x="2269" y="85"/>
                    </a:cubicBezTo>
                    <a:cubicBezTo>
                      <a:pt x="2268" y="87"/>
                      <a:pt x="2267" y="89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1"/>
                      <a:pt x="2266" y="91"/>
                      <a:pt x="2266" y="91"/>
                    </a:cubicBezTo>
                    <a:cubicBezTo>
                      <a:pt x="2266" y="92"/>
                      <a:pt x="2265" y="94"/>
                      <a:pt x="2264" y="96"/>
                    </a:cubicBezTo>
                    <a:cubicBezTo>
                      <a:pt x="2264" y="90"/>
                      <a:pt x="2265" y="85"/>
                      <a:pt x="2267" y="79"/>
                    </a:cubicBezTo>
                    <a:cubicBezTo>
                      <a:pt x="2265" y="85"/>
                      <a:pt x="2264" y="90"/>
                      <a:pt x="2262" y="95"/>
                    </a:cubicBezTo>
                    <a:cubicBezTo>
                      <a:pt x="2262" y="85"/>
                      <a:pt x="2263" y="74"/>
                      <a:pt x="2263" y="63"/>
                    </a:cubicBezTo>
                    <a:cubicBezTo>
                      <a:pt x="2266" y="60"/>
                      <a:pt x="2269" y="58"/>
                      <a:pt x="2272" y="55"/>
                    </a:cubicBezTo>
                    <a:cubicBezTo>
                      <a:pt x="2272" y="62"/>
                      <a:pt x="2271" y="72"/>
                      <a:pt x="2270" y="83"/>
                    </a:cubicBezTo>
                    <a:close/>
                    <a:moveTo>
                      <a:pt x="2276" y="105"/>
                    </a:moveTo>
                    <a:cubicBezTo>
                      <a:pt x="2276" y="102"/>
                      <a:pt x="2276" y="99"/>
                      <a:pt x="2276" y="96"/>
                    </a:cubicBezTo>
                    <a:cubicBezTo>
                      <a:pt x="2276" y="97"/>
                      <a:pt x="2277" y="99"/>
                      <a:pt x="2277" y="100"/>
                    </a:cubicBezTo>
                    <a:cubicBezTo>
                      <a:pt x="2277" y="102"/>
                      <a:pt x="2277" y="103"/>
                      <a:pt x="2276" y="105"/>
                    </a:cubicBezTo>
                    <a:cubicBezTo>
                      <a:pt x="2276" y="105"/>
                      <a:pt x="2276" y="105"/>
                      <a:pt x="2276" y="105"/>
                    </a:cubicBezTo>
                    <a:close/>
                    <a:moveTo>
                      <a:pt x="2277" y="130"/>
                    </a:moveTo>
                    <a:cubicBezTo>
                      <a:pt x="2277" y="130"/>
                      <a:pt x="2277" y="130"/>
                      <a:pt x="2277" y="130"/>
                    </a:cubicBezTo>
                    <a:cubicBezTo>
                      <a:pt x="2277" y="129"/>
                      <a:pt x="2277" y="128"/>
                      <a:pt x="2277" y="127"/>
                    </a:cubicBezTo>
                    <a:cubicBezTo>
                      <a:pt x="2277" y="128"/>
                      <a:pt x="2277" y="128"/>
                      <a:pt x="2278" y="129"/>
                    </a:cubicBezTo>
                    <a:cubicBezTo>
                      <a:pt x="2277" y="129"/>
                      <a:pt x="2277" y="130"/>
                      <a:pt x="2277" y="130"/>
                    </a:cubicBezTo>
                    <a:close/>
                    <a:moveTo>
                      <a:pt x="2284" y="74"/>
                    </a:moveTo>
                    <a:cubicBezTo>
                      <a:pt x="2284" y="73"/>
                      <a:pt x="2284" y="71"/>
                      <a:pt x="2284" y="70"/>
                    </a:cubicBezTo>
                    <a:cubicBezTo>
                      <a:pt x="2284" y="70"/>
                      <a:pt x="2285" y="71"/>
                      <a:pt x="2285" y="72"/>
                    </a:cubicBezTo>
                    <a:cubicBezTo>
                      <a:pt x="2285" y="72"/>
                      <a:pt x="2285" y="73"/>
                      <a:pt x="2284" y="74"/>
                    </a:cubicBezTo>
                    <a:close/>
                    <a:moveTo>
                      <a:pt x="2288" y="139"/>
                    </a:moveTo>
                    <a:cubicBezTo>
                      <a:pt x="2288" y="140"/>
                      <a:pt x="2288" y="141"/>
                      <a:pt x="2288" y="142"/>
                    </a:cubicBezTo>
                    <a:cubicBezTo>
                      <a:pt x="2288" y="142"/>
                      <a:pt x="2288" y="141"/>
                      <a:pt x="2288" y="139"/>
                    </a:cubicBezTo>
                    <a:cubicBezTo>
                      <a:pt x="2288" y="138"/>
                      <a:pt x="2288" y="137"/>
                      <a:pt x="2288" y="136"/>
                    </a:cubicBezTo>
                    <a:cubicBezTo>
                      <a:pt x="2288" y="137"/>
                      <a:pt x="2288" y="137"/>
                      <a:pt x="2288" y="137"/>
                    </a:cubicBezTo>
                    <a:cubicBezTo>
                      <a:pt x="2288" y="138"/>
                      <a:pt x="2288" y="139"/>
                      <a:pt x="2288" y="139"/>
                    </a:cubicBezTo>
                    <a:close/>
                    <a:moveTo>
                      <a:pt x="2290" y="122"/>
                    </a:moveTo>
                    <a:cubicBezTo>
                      <a:pt x="2290" y="122"/>
                      <a:pt x="2290" y="122"/>
                      <a:pt x="2290" y="122"/>
                    </a:cubicBezTo>
                    <a:cubicBezTo>
                      <a:pt x="2290" y="121"/>
                      <a:pt x="2290" y="121"/>
                      <a:pt x="2290" y="121"/>
                    </a:cubicBezTo>
                    <a:cubicBezTo>
                      <a:pt x="2290" y="121"/>
                      <a:pt x="2290" y="122"/>
                      <a:pt x="2290" y="122"/>
                    </a:cubicBezTo>
                    <a:close/>
                    <a:moveTo>
                      <a:pt x="2291" y="110"/>
                    </a:moveTo>
                    <a:cubicBezTo>
                      <a:pt x="2290" y="112"/>
                      <a:pt x="2289" y="114"/>
                      <a:pt x="2288" y="116"/>
                    </a:cubicBezTo>
                    <a:cubicBezTo>
                      <a:pt x="2288" y="116"/>
                      <a:pt x="2288" y="117"/>
                      <a:pt x="2288" y="117"/>
                    </a:cubicBezTo>
                    <a:cubicBezTo>
                      <a:pt x="2288" y="113"/>
                      <a:pt x="2287" y="108"/>
                      <a:pt x="2287" y="104"/>
                    </a:cubicBezTo>
                    <a:cubicBezTo>
                      <a:pt x="2288" y="101"/>
                      <a:pt x="2288" y="98"/>
                      <a:pt x="2289" y="96"/>
                    </a:cubicBezTo>
                    <a:cubicBezTo>
                      <a:pt x="2290" y="95"/>
                      <a:pt x="2290" y="95"/>
                      <a:pt x="2290" y="95"/>
                    </a:cubicBezTo>
                    <a:cubicBezTo>
                      <a:pt x="2290" y="98"/>
                      <a:pt x="2291" y="101"/>
                      <a:pt x="2291" y="104"/>
                    </a:cubicBezTo>
                    <a:cubicBezTo>
                      <a:pt x="2291" y="106"/>
                      <a:pt x="2291" y="108"/>
                      <a:pt x="2291" y="110"/>
                    </a:cubicBezTo>
                    <a:close/>
                    <a:moveTo>
                      <a:pt x="2292" y="99"/>
                    </a:moveTo>
                    <a:cubicBezTo>
                      <a:pt x="2291" y="97"/>
                      <a:pt x="2291" y="96"/>
                      <a:pt x="2290" y="94"/>
                    </a:cubicBezTo>
                    <a:cubicBezTo>
                      <a:pt x="2291" y="93"/>
                      <a:pt x="2292" y="92"/>
                      <a:pt x="2292" y="91"/>
                    </a:cubicBezTo>
                    <a:cubicBezTo>
                      <a:pt x="2292" y="94"/>
                      <a:pt x="2292" y="96"/>
                      <a:pt x="2292" y="99"/>
                    </a:cubicBezTo>
                    <a:close/>
                    <a:moveTo>
                      <a:pt x="2286" y="91"/>
                    </a:moveTo>
                    <a:cubicBezTo>
                      <a:pt x="2286" y="89"/>
                      <a:pt x="2286" y="88"/>
                      <a:pt x="2285" y="87"/>
                    </a:cubicBezTo>
                    <a:cubicBezTo>
                      <a:pt x="2287" y="83"/>
                      <a:pt x="2288" y="80"/>
                      <a:pt x="2289" y="76"/>
                    </a:cubicBezTo>
                    <a:cubicBezTo>
                      <a:pt x="2290" y="78"/>
                      <a:pt x="2292" y="80"/>
                      <a:pt x="2293" y="82"/>
                    </a:cubicBezTo>
                    <a:cubicBezTo>
                      <a:pt x="2290" y="85"/>
                      <a:pt x="2288" y="88"/>
                      <a:pt x="2286" y="91"/>
                    </a:cubicBezTo>
                    <a:close/>
                    <a:moveTo>
                      <a:pt x="2293" y="79"/>
                    </a:moveTo>
                    <a:cubicBezTo>
                      <a:pt x="2292" y="77"/>
                      <a:pt x="2291" y="76"/>
                      <a:pt x="2290" y="75"/>
                    </a:cubicBezTo>
                    <a:cubicBezTo>
                      <a:pt x="2291" y="72"/>
                      <a:pt x="2293" y="68"/>
                      <a:pt x="2294" y="65"/>
                    </a:cubicBezTo>
                    <a:cubicBezTo>
                      <a:pt x="2294" y="68"/>
                      <a:pt x="2294" y="73"/>
                      <a:pt x="2293" y="79"/>
                    </a:cubicBezTo>
                    <a:close/>
                    <a:moveTo>
                      <a:pt x="2311" y="54"/>
                    </a:moveTo>
                    <a:cubicBezTo>
                      <a:pt x="2311" y="56"/>
                      <a:pt x="2310" y="58"/>
                      <a:pt x="2310" y="61"/>
                    </a:cubicBezTo>
                    <a:cubicBezTo>
                      <a:pt x="2306" y="65"/>
                      <a:pt x="2302" y="69"/>
                      <a:pt x="2299" y="74"/>
                    </a:cubicBezTo>
                    <a:cubicBezTo>
                      <a:pt x="2302" y="67"/>
                      <a:pt x="2306" y="60"/>
                      <a:pt x="2311" y="54"/>
                    </a:cubicBezTo>
                    <a:close/>
                    <a:moveTo>
                      <a:pt x="2297" y="89"/>
                    </a:moveTo>
                    <a:cubicBezTo>
                      <a:pt x="2297" y="90"/>
                      <a:pt x="2298" y="91"/>
                      <a:pt x="2298" y="92"/>
                    </a:cubicBezTo>
                    <a:cubicBezTo>
                      <a:pt x="2298" y="92"/>
                      <a:pt x="2297" y="93"/>
                      <a:pt x="2297" y="94"/>
                    </a:cubicBezTo>
                    <a:cubicBezTo>
                      <a:pt x="2297" y="92"/>
                      <a:pt x="2297" y="91"/>
                      <a:pt x="2297" y="89"/>
                    </a:cubicBezTo>
                    <a:close/>
                    <a:moveTo>
                      <a:pt x="2299" y="127"/>
                    </a:moveTo>
                    <a:cubicBezTo>
                      <a:pt x="2299" y="125"/>
                      <a:pt x="2299" y="124"/>
                      <a:pt x="2298" y="122"/>
                    </a:cubicBezTo>
                    <a:cubicBezTo>
                      <a:pt x="2298" y="117"/>
                      <a:pt x="2298" y="111"/>
                      <a:pt x="2298" y="105"/>
                    </a:cubicBezTo>
                    <a:cubicBezTo>
                      <a:pt x="2299" y="104"/>
                      <a:pt x="2299" y="102"/>
                      <a:pt x="2300" y="101"/>
                    </a:cubicBezTo>
                    <a:cubicBezTo>
                      <a:pt x="2299" y="102"/>
                      <a:pt x="2299" y="103"/>
                      <a:pt x="2298" y="105"/>
                    </a:cubicBezTo>
                    <a:cubicBezTo>
                      <a:pt x="2297" y="102"/>
                      <a:pt x="2297" y="99"/>
                      <a:pt x="2297" y="96"/>
                    </a:cubicBezTo>
                    <a:cubicBezTo>
                      <a:pt x="2298" y="95"/>
                      <a:pt x="2298" y="94"/>
                      <a:pt x="2298" y="93"/>
                    </a:cubicBezTo>
                    <a:cubicBezTo>
                      <a:pt x="2299" y="95"/>
                      <a:pt x="2300" y="97"/>
                      <a:pt x="2301" y="100"/>
                    </a:cubicBezTo>
                    <a:cubicBezTo>
                      <a:pt x="2301" y="100"/>
                      <a:pt x="2301" y="100"/>
                      <a:pt x="2300" y="101"/>
                    </a:cubicBezTo>
                    <a:cubicBezTo>
                      <a:pt x="2301" y="101"/>
                      <a:pt x="2301" y="100"/>
                      <a:pt x="2301" y="100"/>
                    </a:cubicBezTo>
                    <a:cubicBezTo>
                      <a:pt x="2302" y="101"/>
                      <a:pt x="2302" y="102"/>
                      <a:pt x="2303" y="103"/>
                    </a:cubicBezTo>
                    <a:cubicBezTo>
                      <a:pt x="2301" y="112"/>
                      <a:pt x="2300" y="120"/>
                      <a:pt x="2299" y="127"/>
                    </a:cubicBezTo>
                    <a:close/>
                    <a:moveTo>
                      <a:pt x="2300" y="87"/>
                    </a:moveTo>
                    <a:cubicBezTo>
                      <a:pt x="2301" y="86"/>
                      <a:pt x="2302" y="84"/>
                      <a:pt x="2303" y="83"/>
                    </a:cubicBezTo>
                    <a:cubicBezTo>
                      <a:pt x="2302" y="84"/>
                      <a:pt x="2301" y="86"/>
                      <a:pt x="2300" y="87"/>
                    </a:cubicBezTo>
                    <a:cubicBezTo>
                      <a:pt x="2299" y="86"/>
                      <a:pt x="2298" y="85"/>
                      <a:pt x="2297" y="83"/>
                    </a:cubicBezTo>
                    <a:cubicBezTo>
                      <a:pt x="2301" y="78"/>
                      <a:pt x="2305" y="72"/>
                      <a:pt x="2308" y="67"/>
                    </a:cubicBezTo>
                    <a:cubicBezTo>
                      <a:pt x="2308" y="72"/>
                      <a:pt x="2307" y="76"/>
                      <a:pt x="2306" y="81"/>
                    </a:cubicBezTo>
                    <a:cubicBezTo>
                      <a:pt x="2306" y="80"/>
                      <a:pt x="2305" y="79"/>
                      <a:pt x="2305" y="79"/>
                    </a:cubicBezTo>
                    <a:cubicBezTo>
                      <a:pt x="2305" y="78"/>
                      <a:pt x="2306" y="77"/>
                      <a:pt x="2307" y="75"/>
                    </a:cubicBezTo>
                    <a:cubicBezTo>
                      <a:pt x="2306" y="76"/>
                      <a:pt x="2305" y="77"/>
                      <a:pt x="2305" y="79"/>
                    </a:cubicBezTo>
                    <a:cubicBezTo>
                      <a:pt x="2304" y="78"/>
                      <a:pt x="2304" y="77"/>
                      <a:pt x="2303" y="77"/>
                    </a:cubicBezTo>
                    <a:cubicBezTo>
                      <a:pt x="2303" y="78"/>
                      <a:pt x="2304" y="79"/>
                      <a:pt x="2304" y="79"/>
                    </a:cubicBezTo>
                    <a:cubicBezTo>
                      <a:pt x="2304" y="80"/>
                      <a:pt x="2303" y="81"/>
                      <a:pt x="2303" y="83"/>
                    </a:cubicBezTo>
                    <a:cubicBezTo>
                      <a:pt x="2303" y="82"/>
                      <a:pt x="2304" y="81"/>
                      <a:pt x="2304" y="80"/>
                    </a:cubicBezTo>
                    <a:cubicBezTo>
                      <a:pt x="2305" y="81"/>
                      <a:pt x="2305" y="82"/>
                      <a:pt x="2306" y="84"/>
                    </a:cubicBezTo>
                    <a:cubicBezTo>
                      <a:pt x="2305" y="87"/>
                      <a:pt x="2305" y="90"/>
                      <a:pt x="2304" y="93"/>
                    </a:cubicBezTo>
                    <a:cubicBezTo>
                      <a:pt x="2303" y="91"/>
                      <a:pt x="2302" y="89"/>
                      <a:pt x="2300" y="87"/>
                    </a:cubicBezTo>
                    <a:close/>
                    <a:moveTo>
                      <a:pt x="2305" y="144"/>
                    </a:moveTo>
                    <a:cubicBezTo>
                      <a:pt x="2305" y="144"/>
                      <a:pt x="2305" y="143"/>
                      <a:pt x="2305" y="143"/>
                    </a:cubicBezTo>
                    <a:cubicBezTo>
                      <a:pt x="2305" y="140"/>
                      <a:pt x="2305" y="136"/>
                      <a:pt x="2305" y="131"/>
                    </a:cubicBezTo>
                    <a:cubicBezTo>
                      <a:pt x="2306" y="128"/>
                      <a:pt x="2307" y="126"/>
                      <a:pt x="2307" y="125"/>
                    </a:cubicBezTo>
                    <a:cubicBezTo>
                      <a:pt x="2307" y="125"/>
                      <a:pt x="2307" y="124"/>
                      <a:pt x="2307" y="124"/>
                    </a:cubicBezTo>
                    <a:cubicBezTo>
                      <a:pt x="2306" y="124"/>
                      <a:pt x="2306" y="124"/>
                      <a:pt x="2306" y="124"/>
                    </a:cubicBezTo>
                    <a:cubicBezTo>
                      <a:pt x="2306" y="122"/>
                      <a:pt x="2306" y="120"/>
                      <a:pt x="2306" y="118"/>
                    </a:cubicBezTo>
                    <a:cubicBezTo>
                      <a:pt x="2307" y="121"/>
                      <a:pt x="2308" y="125"/>
                      <a:pt x="2308" y="128"/>
                    </a:cubicBezTo>
                    <a:cubicBezTo>
                      <a:pt x="2307" y="136"/>
                      <a:pt x="2306" y="141"/>
                      <a:pt x="2305" y="144"/>
                    </a:cubicBezTo>
                    <a:close/>
                    <a:moveTo>
                      <a:pt x="2312" y="107"/>
                    </a:moveTo>
                    <a:cubicBezTo>
                      <a:pt x="2311" y="105"/>
                      <a:pt x="2310" y="102"/>
                      <a:pt x="2308" y="100"/>
                    </a:cubicBezTo>
                    <a:cubicBezTo>
                      <a:pt x="2309" y="97"/>
                      <a:pt x="2309" y="95"/>
                      <a:pt x="2309" y="93"/>
                    </a:cubicBezTo>
                    <a:cubicBezTo>
                      <a:pt x="2310" y="96"/>
                      <a:pt x="2312" y="99"/>
                      <a:pt x="2313" y="102"/>
                    </a:cubicBezTo>
                    <a:cubicBezTo>
                      <a:pt x="2313" y="104"/>
                      <a:pt x="2312" y="105"/>
                      <a:pt x="2312" y="107"/>
                    </a:cubicBezTo>
                    <a:close/>
                    <a:moveTo>
                      <a:pt x="2313" y="159"/>
                    </a:moveTo>
                    <a:cubicBezTo>
                      <a:pt x="2313" y="159"/>
                      <a:pt x="2313" y="159"/>
                      <a:pt x="2313" y="159"/>
                    </a:cubicBezTo>
                    <a:cubicBezTo>
                      <a:pt x="2313" y="159"/>
                      <a:pt x="2313" y="159"/>
                      <a:pt x="2314" y="159"/>
                    </a:cubicBezTo>
                    <a:cubicBezTo>
                      <a:pt x="2313" y="159"/>
                      <a:pt x="2313" y="159"/>
                      <a:pt x="2313" y="159"/>
                    </a:cubicBezTo>
                    <a:close/>
                    <a:moveTo>
                      <a:pt x="2314" y="96"/>
                    </a:moveTo>
                    <a:cubicBezTo>
                      <a:pt x="2313" y="93"/>
                      <a:pt x="2311" y="91"/>
                      <a:pt x="2310" y="88"/>
                    </a:cubicBezTo>
                    <a:cubicBezTo>
                      <a:pt x="2312" y="85"/>
                      <a:pt x="2314" y="82"/>
                      <a:pt x="2316" y="79"/>
                    </a:cubicBezTo>
                    <a:cubicBezTo>
                      <a:pt x="2316" y="84"/>
                      <a:pt x="2315" y="90"/>
                      <a:pt x="2314" y="96"/>
                    </a:cubicBezTo>
                    <a:close/>
                    <a:moveTo>
                      <a:pt x="2317" y="75"/>
                    </a:moveTo>
                    <a:cubicBezTo>
                      <a:pt x="2315" y="78"/>
                      <a:pt x="2312" y="82"/>
                      <a:pt x="2310" y="86"/>
                    </a:cubicBezTo>
                    <a:cubicBezTo>
                      <a:pt x="2311" y="77"/>
                      <a:pt x="2312" y="68"/>
                      <a:pt x="2313" y="61"/>
                    </a:cubicBezTo>
                    <a:cubicBezTo>
                      <a:pt x="2315" y="58"/>
                      <a:pt x="2317" y="55"/>
                      <a:pt x="2319" y="53"/>
                    </a:cubicBezTo>
                    <a:cubicBezTo>
                      <a:pt x="2319" y="58"/>
                      <a:pt x="2318" y="66"/>
                      <a:pt x="2317" y="75"/>
                    </a:cubicBezTo>
                    <a:close/>
                    <a:moveTo>
                      <a:pt x="2324" y="139"/>
                    </a:moveTo>
                    <a:cubicBezTo>
                      <a:pt x="2324" y="139"/>
                      <a:pt x="2324" y="139"/>
                      <a:pt x="2323" y="139"/>
                    </a:cubicBezTo>
                    <a:cubicBezTo>
                      <a:pt x="2323" y="138"/>
                      <a:pt x="2323" y="138"/>
                      <a:pt x="2324" y="138"/>
                    </a:cubicBezTo>
                    <a:cubicBezTo>
                      <a:pt x="2324" y="138"/>
                      <a:pt x="2324" y="138"/>
                      <a:pt x="2324" y="138"/>
                    </a:cubicBezTo>
                    <a:cubicBezTo>
                      <a:pt x="2324" y="139"/>
                      <a:pt x="2324" y="139"/>
                      <a:pt x="2324" y="139"/>
                    </a:cubicBezTo>
                    <a:close/>
                    <a:moveTo>
                      <a:pt x="2349" y="137"/>
                    </a:moveTo>
                    <a:cubicBezTo>
                      <a:pt x="2349" y="136"/>
                      <a:pt x="2348" y="135"/>
                      <a:pt x="2348" y="133"/>
                    </a:cubicBezTo>
                    <a:cubicBezTo>
                      <a:pt x="2348" y="132"/>
                      <a:pt x="2348" y="130"/>
                      <a:pt x="2348" y="128"/>
                    </a:cubicBezTo>
                    <a:cubicBezTo>
                      <a:pt x="2348" y="131"/>
                      <a:pt x="2349" y="133"/>
                      <a:pt x="2350" y="135"/>
                    </a:cubicBezTo>
                    <a:cubicBezTo>
                      <a:pt x="2350" y="136"/>
                      <a:pt x="2349" y="137"/>
                      <a:pt x="2349" y="137"/>
                    </a:cubicBezTo>
                    <a:close/>
                    <a:moveTo>
                      <a:pt x="2355" y="99"/>
                    </a:moveTo>
                    <a:cubicBezTo>
                      <a:pt x="2354" y="95"/>
                      <a:pt x="2352" y="92"/>
                      <a:pt x="2350" y="90"/>
                    </a:cubicBezTo>
                    <a:cubicBezTo>
                      <a:pt x="2352" y="93"/>
                      <a:pt x="2354" y="97"/>
                      <a:pt x="2355" y="101"/>
                    </a:cubicBezTo>
                    <a:cubicBezTo>
                      <a:pt x="2354" y="110"/>
                      <a:pt x="2353" y="118"/>
                      <a:pt x="2351" y="125"/>
                    </a:cubicBezTo>
                    <a:cubicBezTo>
                      <a:pt x="2350" y="122"/>
                      <a:pt x="2349" y="119"/>
                      <a:pt x="2349" y="116"/>
                    </a:cubicBezTo>
                    <a:cubicBezTo>
                      <a:pt x="2349" y="102"/>
                      <a:pt x="2350" y="86"/>
                      <a:pt x="2351" y="72"/>
                    </a:cubicBezTo>
                    <a:cubicBezTo>
                      <a:pt x="2353" y="75"/>
                      <a:pt x="2356" y="79"/>
                      <a:pt x="2358" y="82"/>
                    </a:cubicBezTo>
                    <a:cubicBezTo>
                      <a:pt x="2357" y="88"/>
                      <a:pt x="2356" y="93"/>
                      <a:pt x="2355" y="99"/>
                    </a:cubicBezTo>
                    <a:close/>
                    <a:moveTo>
                      <a:pt x="2358" y="142"/>
                    </a:moveTo>
                    <a:cubicBezTo>
                      <a:pt x="2359" y="134"/>
                      <a:pt x="2360" y="127"/>
                      <a:pt x="2360" y="121"/>
                    </a:cubicBezTo>
                    <a:cubicBezTo>
                      <a:pt x="2360" y="123"/>
                      <a:pt x="2361" y="125"/>
                      <a:pt x="2361" y="127"/>
                    </a:cubicBezTo>
                    <a:cubicBezTo>
                      <a:pt x="2360" y="136"/>
                      <a:pt x="2358" y="142"/>
                      <a:pt x="2358" y="142"/>
                    </a:cubicBezTo>
                    <a:close/>
                    <a:moveTo>
                      <a:pt x="2362" y="144"/>
                    </a:moveTo>
                    <a:cubicBezTo>
                      <a:pt x="2362" y="142"/>
                      <a:pt x="2362" y="140"/>
                      <a:pt x="2363" y="137"/>
                    </a:cubicBezTo>
                    <a:cubicBezTo>
                      <a:pt x="2363" y="138"/>
                      <a:pt x="2363" y="138"/>
                      <a:pt x="2363" y="138"/>
                    </a:cubicBezTo>
                    <a:cubicBezTo>
                      <a:pt x="2362" y="142"/>
                      <a:pt x="2362" y="144"/>
                      <a:pt x="2362" y="144"/>
                    </a:cubicBezTo>
                    <a:close/>
                    <a:moveTo>
                      <a:pt x="2361" y="110"/>
                    </a:moveTo>
                    <a:cubicBezTo>
                      <a:pt x="2361" y="103"/>
                      <a:pt x="2362" y="96"/>
                      <a:pt x="2362" y="90"/>
                    </a:cubicBezTo>
                    <a:cubicBezTo>
                      <a:pt x="2364" y="93"/>
                      <a:pt x="2365" y="96"/>
                      <a:pt x="2366" y="99"/>
                    </a:cubicBezTo>
                    <a:cubicBezTo>
                      <a:pt x="2365" y="105"/>
                      <a:pt x="2364" y="111"/>
                      <a:pt x="2363" y="116"/>
                    </a:cubicBezTo>
                    <a:cubicBezTo>
                      <a:pt x="2362" y="114"/>
                      <a:pt x="2362" y="112"/>
                      <a:pt x="2361" y="110"/>
                    </a:cubicBezTo>
                    <a:close/>
                    <a:moveTo>
                      <a:pt x="2366" y="124"/>
                    </a:moveTo>
                    <a:cubicBezTo>
                      <a:pt x="2365" y="123"/>
                      <a:pt x="2365" y="122"/>
                      <a:pt x="2365" y="121"/>
                    </a:cubicBezTo>
                    <a:cubicBezTo>
                      <a:pt x="2365" y="115"/>
                      <a:pt x="2366" y="109"/>
                      <a:pt x="2367" y="103"/>
                    </a:cubicBezTo>
                    <a:cubicBezTo>
                      <a:pt x="2368" y="105"/>
                      <a:pt x="2368" y="107"/>
                      <a:pt x="2369" y="109"/>
                    </a:cubicBezTo>
                    <a:cubicBezTo>
                      <a:pt x="2368" y="114"/>
                      <a:pt x="2367" y="119"/>
                      <a:pt x="2366" y="124"/>
                    </a:cubicBezTo>
                    <a:close/>
                    <a:moveTo>
                      <a:pt x="2371" y="146"/>
                    </a:moveTo>
                    <a:cubicBezTo>
                      <a:pt x="2371" y="145"/>
                      <a:pt x="2371" y="145"/>
                      <a:pt x="2371" y="145"/>
                    </a:cubicBezTo>
                    <a:cubicBezTo>
                      <a:pt x="2372" y="144"/>
                      <a:pt x="2372" y="143"/>
                      <a:pt x="2372" y="141"/>
                    </a:cubicBezTo>
                    <a:cubicBezTo>
                      <a:pt x="2372" y="142"/>
                      <a:pt x="2372" y="143"/>
                      <a:pt x="2372" y="144"/>
                    </a:cubicBezTo>
                    <a:cubicBezTo>
                      <a:pt x="2372" y="145"/>
                      <a:pt x="2372" y="145"/>
                      <a:pt x="2371" y="146"/>
                    </a:cubicBezTo>
                    <a:close/>
                    <a:moveTo>
                      <a:pt x="2395" y="118"/>
                    </a:moveTo>
                    <a:cubicBezTo>
                      <a:pt x="2394" y="114"/>
                      <a:pt x="2392" y="111"/>
                      <a:pt x="2391" y="107"/>
                    </a:cubicBezTo>
                    <a:cubicBezTo>
                      <a:pt x="2391" y="96"/>
                      <a:pt x="2391" y="84"/>
                      <a:pt x="2391" y="74"/>
                    </a:cubicBezTo>
                    <a:cubicBezTo>
                      <a:pt x="2391" y="70"/>
                      <a:pt x="2391" y="67"/>
                      <a:pt x="2390" y="65"/>
                    </a:cubicBezTo>
                    <a:cubicBezTo>
                      <a:pt x="2391" y="74"/>
                      <a:pt x="2395" y="84"/>
                      <a:pt x="2398" y="94"/>
                    </a:cubicBezTo>
                    <a:cubicBezTo>
                      <a:pt x="2397" y="102"/>
                      <a:pt x="2396" y="110"/>
                      <a:pt x="2395" y="118"/>
                    </a:cubicBezTo>
                    <a:close/>
                    <a:moveTo>
                      <a:pt x="2424" y="124"/>
                    </a:moveTo>
                    <a:cubicBezTo>
                      <a:pt x="2423" y="122"/>
                      <a:pt x="2423" y="120"/>
                      <a:pt x="2422" y="117"/>
                    </a:cubicBezTo>
                    <a:cubicBezTo>
                      <a:pt x="2423" y="109"/>
                      <a:pt x="2424" y="100"/>
                      <a:pt x="2425" y="92"/>
                    </a:cubicBezTo>
                    <a:cubicBezTo>
                      <a:pt x="2427" y="96"/>
                      <a:pt x="2428" y="100"/>
                      <a:pt x="2428" y="104"/>
                    </a:cubicBezTo>
                    <a:cubicBezTo>
                      <a:pt x="2427" y="111"/>
                      <a:pt x="2425" y="118"/>
                      <a:pt x="2424" y="124"/>
                    </a:cubicBezTo>
                    <a:close/>
                    <a:moveTo>
                      <a:pt x="2464" y="133"/>
                    </a:moveTo>
                    <a:cubicBezTo>
                      <a:pt x="2464" y="130"/>
                      <a:pt x="2463" y="126"/>
                      <a:pt x="2462" y="122"/>
                    </a:cubicBezTo>
                    <a:cubicBezTo>
                      <a:pt x="2462" y="112"/>
                      <a:pt x="2462" y="100"/>
                      <a:pt x="2463" y="88"/>
                    </a:cubicBezTo>
                    <a:cubicBezTo>
                      <a:pt x="2465" y="96"/>
                      <a:pt x="2467" y="104"/>
                      <a:pt x="2467" y="111"/>
                    </a:cubicBezTo>
                    <a:cubicBezTo>
                      <a:pt x="2468" y="117"/>
                      <a:pt x="2468" y="117"/>
                      <a:pt x="2468" y="117"/>
                    </a:cubicBezTo>
                    <a:cubicBezTo>
                      <a:pt x="2466" y="123"/>
                      <a:pt x="2465" y="129"/>
                      <a:pt x="2464" y="133"/>
                    </a:cubicBezTo>
                    <a:close/>
                    <a:moveTo>
                      <a:pt x="2477" y="110"/>
                    </a:moveTo>
                    <a:cubicBezTo>
                      <a:pt x="2477" y="113"/>
                      <a:pt x="2477" y="116"/>
                      <a:pt x="2477" y="119"/>
                    </a:cubicBezTo>
                    <a:cubicBezTo>
                      <a:pt x="2476" y="122"/>
                      <a:pt x="2476" y="124"/>
                      <a:pt x="2475" y="127"/>
                    </a:cubicBezTo>
                    <a:cubicBezTo>
                      <a:pt x="2475" y="119"/>
                      <a:pt x="2474" y="111"/>
                      <a:pt x="2473" y="104"/>
                    </a:cubicBezTo>
                    <a:cubicBezTo>
                      <a:pt x="2474" y="98"/>
                      <a:pt x="2474" y="91"/>
                      <a:pt x="2475" y="86"/>
                    </a:cubicBezTo>
                    <a:cubicBezTo>
                      <a:pt x="2477" y="93"/>
                      <a:pt x="2477" y="102"/>
                      <a:pt x="2477" y="110"/>
                    </a:cubicBezTo>
                    <a:close/>
                    <a:moveTo>
                      <a:pt x="2487" y="142"/>
                    </a:moveTo>
                    <a:cubicBezTo>
                      <a:pt x="2487" y="142"/>
                      <a:pt x="2487" y="141"/>
                      <a:pt x="2488" y="138"/>
                    </a:cubicBezTo>
                    <a:cubicBezTo>
                      <a:pt x="2489" y="120"/>
                      <a:pt x="2488" y="96"/>
                      <a:pt x="2487" y="77"/>
                    </a:cubicBezTo>
                    <a:cubicBezTo>
                      <a:pt x="2489" y="81"/>
                      <a:pt x="2491" y="86"/>
                      <a:pt x="2492" y="92"/>
                    </a:cubicBezTo>
                    <a:cubicBezTo>
                      <a:pt x="2490" y="108"/>
                      <a:pt x="2488" y="129"/>
                      <a:pt x="2488" y="138"/>
                    </a:cubicBezTo>
                    <a:cubicBezTo>
                      <a:pt x="2487" y="139"/>
                      <a:pt x="2487" y="141"/>
                      <a:pt x="2487" y="142"/>
                    </a:cubicBezTo>
                    <a:close/>
                    <a:moveTo>
                      <a:pt x="2491" y="129"/>
                    </a:moveTo>
                    <a:cubicBezTo>
                      <a:pt x="2491" y="119"/>
                      <a:pt x="2492" y="107"/>
                      <a:pt x="2493" y="97"/>
                    </a:cubicBezTo>
                    <a:cubicBezTo>
                      <a:pt x="2493" y="100"/>
                      <a:pt x="2493" y="103"/>
                      <a:pt x="2493" y="106"/>
                    </a:cubicBezTo>
                    <a:cubicBezTo>
                      <a:pt x="2493" y="114"/>
                      <a:pt x="2492" y="121"/>
                      <a:pt x="2491" y="129"/>
                    </a:cubicBezTo>
                    <a:close/>
                    <a:moveTo>
                      <a:pt x="2502" y="125"/>
                    </a:moveTo>
                    <a:cubicBezTo>
                      <a:pt x="2503" y="120"/>
                      <a:pt x="2503" y="113"/>
                      <a:pt x="2503" y="107"/>
                    </a:cubicBezTo>
                    <a:cubicBezTo>
                      <a:pt x="2503" y="114"/>
                      <a:pt x="2503" y="120"/>
                      <a:pt x="2502" y="125"/>
                    </a:cubicBezTo>
                    <a:close/>
                    <a:moveTo>
                      <a:pt x="2517" y="112"/>
                    </a:moveTo>
                    <a:cubicBezTo>
                      <a:pt x="2517" y="105"/>
                      <a:pt x="2517" y="98"/>
                      <a:pt x="2517" y="91"/>
                    </a:cubicBezTo>
                    <a:cubicBezTo>
                      <a:pt x="2518" y="95"/>
                      <a:pt x="2518" y="99"/>
                      <a:pt x="2518" y="103"/>
                    </a:cubicBezTo>
                    <a:cubicBezTo>
                      <a:pt x="2518" y="106"/>
                      <a:pt x="2518" y="109"/>
                      <a:pt x="2517" y="112"/>
                    </a:cubicBezTo>
                    <a:close/>
                    <a:moveTo>
                      <a:pt x="2528" y="129"/>
                    </a:moveTo>
                    <a:cubicBezTo>
                      <a:pt x="2528" y="129"/>
                      <a:pt x="2528" y="129"/>
                      <a:pt x="2527" y="130"/>
                    </a:cubicBezTo>
                    <a:cubicBezTo>
                      <a:pt x="2527" y="132"/>
                      <a:pt x="2526" y="134"/>
                      <a:pt x="2526" y="137"/>
                    </a:cubicBezTo>
                    <a:cubicBezTo>
                      <a:pt x="2526" y="136"/>
                      <a:pt x="2526" y="136"/>
                      <a:pt x="2526" y="136"/>
                    </a:cubicBezTo>
                    <a:cubicBezTo>
                      <a:pt x="2526" y="134"/>
                      <a:pt x="2527" y="132"/>
                      <a:pt x="2527" y="130"/>
                    </a:cubicBezTo>
                    <a:cubicBezTo>
                      <a:pt x="2528" y="129"/>
                      <a:pt x="2528" y="129"/>
                      <a:pt x="2528" y="129"/>
                    </a:cubicBezTo>
                    <a:cubicBezTo>
                      <a:pt x="2528" y="129"/>
                      <a:pt x="2528" y="129"/>
                      <a:pt x="2528" y="129"/>
                    </a:cubicBezTo>
                    <a:close/>
                    <a:moveTo>
                      <a:pt x="2564" y="130"/>
                    </a:moveTo>
                    <a:cubicBezTo>
                      <a:pt x="2564" y="132"/>
                      <a:pt x="2563" y="134"/>
                      <a:pt x="2562" y="136"/>
                    </a:cubicBezTo>
                    <a:cubicBezTo>
                      <a:pt x="2562" y="131"/>
                      <a:pt x="2562" y="126"/>
                      <a:pt x="2562" y="121"/>
                    </a:cubicBezTo>
                    <a:cubicBezTo>
                      <a:pt x="2564" y="115"/>
                      <a:pt x="2566" y="110"/>
                      <a:pt x="2567" y="104"/>
                    </a:cubicBezTo>
                    <a:cubicBezTo>
                      <a:pt x="2566" y="114"/>
                      <a:pt x="2565" y="123"/>
                      <a:pt x="2564" y="130"/>
                    </a:cubicBezTo>
                    <a:close/>
                    <a:moveTo>
                      <a:pt x="2580" y="124"/>
                    </a:moveTo>
                    <a:cubicBezTo>
                      <a:pt x="2580" y="110"/>
                      <a:pt x="2582" y="94"/>
                      <a:pt x="2583" y="83"/>
                    </a:cubicBezTo>
                    <a:cubicBezTo>
                      <a:pt x="2583" y="87"/>
                      <a:pt x="2583" y="91"/>
                      <a:pt x="2583" y="95"/>
                    </a:cubicBezTo>
                    <a:cubicBezTo>
                      <a:pt x="2583" y="105"/>
                      <a:pt x="2582" y="114"/>
                      <a:pt x="2580" y="124"/>
                    </a:cubicBezTo>
                    <a:close/>
                    <a:moveTo>
                      <a:pt x="2596" y="160"/>
                    </a:moveTo>
                    <a:cubicBezTo>
                      <a:pt x="2596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7" y="159"/>
                    </a:cubicBezTo>
                    <a:cubicBezTo>
                      <a:pt x="2597" y="159"/>
                      <a:pt x="2597" y="159"/>
                      <a:pt x="2596" y="160"/>
                    </a:cubicBezTo>
                    <a:close/>
                    <a:moveTo>
                      <a:pt x="2609" y="116"/>
                    </a:moveTo>
                    <a:cubicBezTo>
                      <a:pt x="2608" y="121"/>
                      <a:pt x="2606" y="127"/>
                      <a:pt x="2604" y="132"/>
                    </a:cubicBezTo>
                    <a:cubicBezTo>
                      <a:pt x="2604" y="127"/>
                      <a:pt x="2604" y="121"/>
                      <a:pt x="2604" y="115"/>
                    </a:cubicBezTo>
                    <a:cubicBezTo>
                      <a:pt x="2605" y="110"/>
                      <a:pt x="2605" y="104"/>
                      <a:pt x="2605" y="98"/>
                    </a:cubicBezTo>
                    <a:cubicBezTo>
                      <a:pt x="2605" y="95"/>
                      <a:pt x="2605" y="92"/>
                      <a:pt x="2605" y="89"/>
                    </a:cubicBezTo>
                    <a:cubicBezTo>
                      <a:pt x="2606" y="78"/>
                      <a:pt x="2607" y="68"/>
                      <a:pt x="2608" y="60"/>
                    </a:cubicBezTo>
                    <a:cubicBezTo>
                      <a:pt x="2611" y="68"/>
                      <a:pt x="2613" y="78"/>
                      <a:pt x="2613" y="87"/>
                    </a:cubicBezTo>
                    <a:cubicBezTo>
                      <a:pt x="2612" y="95"/>
                      <a:pt x="2611" y="106"/>
                      <a:pt x="2609" y="116"/>
                    </a:cubicBezTo>
                    <a:close/>
                    <a:moveTo>
                      <a:pt x="2617" y="136"/>
                    </a:moveTo>
                    <a:cubicBezTo>
                      <a:pt x="2617" y="137"/>
                      <a:pt x="2616" y="138"/>
                      <a:pt x="2616" y="139"/>
                    </a:cubicBezTo>
                    <a:cubicBezTo>
                      <a:pt x="2616" y="137"/>
                      <a:pt x="2616" y="135"/>
                      <a:pt x="2616" y="133"/>
                    </a:cubicBezTo>
                    <a:cubicBezTo>
                      <a:pt x="2617" y="130"/>
                      <a:pt x="2617" y="128"/>
                      <a:pt x="2618" y="125"/>
                    </a:cubicBezTo>
                    <a:cubicBezTo>
                      <a:pt x="2618" y="129"/>
                      <a:pt x="2617" y="133"/>
                      <a:pt x="2617" y="136"/>
                    </a:cubicBezTo>
                    <a:close/>
                    <a:moveTo>
                      <a:pt x="2633" y="126"/>
                    </a:moveTo>
                    <a:cubicBezTo>
                      <a:pt x="2632" y="113"/>
                      <a:pt x="2632" y="96"/>
                      <a:pt x="2632" y="84"/>
                    </a:cubicBezTo>
                    <a:cubicBezTo>
                      <a:pt x="2636" y="90"/>
                      <a:pt x="2638" y="100"/>
                      <a:pt x="2638" y="104"/>
                    </a:cubicBezTo>
                    <a:cubicBezTo>
                      <a:pt x="2638" y="110"/>
                      <a:pt x="2635" y="118"/>
                      <a:pt x="2633" y="126"/>
                    </a:cubicBezTo>
                    <a:close/>
                    <a:moveTo>
                      <a:pt x="2644" y="128"/>
                    </a:moveTo>
                    <a:cubicBezTo>
                      <a:pt x="2645" y="113"/>
                      <a:pt x="2645" y="91"/>
                      <a:pt x="2645" y="76"/>
                    </a:cubicBezTo>
                    <a:cubicBezTo>
                      <a:pt x="2647" y="83"/>
                      <a:pt x="2649" y="90"/>
                      <a:pt x="2649" y="96"/>
                    </a:cubicBezTo>
                    <a:cubicBezTo>
                      <a:pt x="2649" y="107"/>
                      <a:pt x="2646" y="117"/>
                      <a:pt x="2644" y="128"/>
                    </a:cubicBezTo>
                    <a:close/>
                    <a:moveTo>
                      <a:pt x="2684" y="112"/>
                    </a:moveTo>
                    <a:cubicBezTo>
                      <a:pt x="2684" y="110"/>
                      <a:pt x="2684" y="108"/>
                      <a:pt x="2683" y="105"/>
                    </a:cubicBezTo>
                    <a:cubicBezTo>
                      <a:pt x="2684" y="108"/>
                      <a:pt x="2683" y="112"/>
                      <a:pt x="2683" y="115"/>
                    </a:cubicBezTo>
                    <a:cubicBezTo>
                      <a:pt x="2678" y="131"/>
                      <a:pt x="2674" y="144"/>
                      <a:pt x="2674" y="144"/>
                    </a:cubicBezTo>
                    <a:cubicBezTo>
                      <a:pt x="2675" y="133"/>
                      <a:pt x="2679" y="110"/>
                      <a:pt x="2684" y="86"/>
                    </a:cubicBezTo>
                    <a:cubicBezTo>
                      <a:pt x="2686" y="90"/>
                      <a:pt x="2687" y="95"/>
                      <a:pt x="2688" y="99"/>
                    </a:cubicBezTo>
                    <a:cubicBezTo>
                      <a:pt x="2686" y="103"/>
                      <a:pt x="2685" y="108"/>
                      <a:pt x="2684" y="112"/>
                    </a:cubicBezTo>
                    <a:close/>
                    <a:moveTo>
                      <a:pt x="2696" y="133"/>
                    </a:moveTo>
                    <a:cubicBezTo>
                      <a:pt x="2696" y="133"/>
                      <a:pt x="2696" y="134"/>
                      <a:pt x="2696" y="134"/>
                    </a:cubicBezTo>
                    <a:cubicBezTo>
                      <a:pt x="2696" y="134"/>
                      <a:pt x="2696" y="134"/>
                      <a:pt x="2696" y="134"/>
                    </a:cubicBezTo>
                    <a:cubicBezTo>
                      <a:pt x="2696" y="134"/>
                      <a:pt x="2696" y="133"/>
                      <a:pt x="2696" y="133"/>
                    </a:cubicBezTo>
                    <a:cubicBezTo>
                      <a:pt x="2697" y="126"/>
                      <a:pt x="2698" y="117"/>
                      <a:pt x="2699" y="107"/>
                    </a:cubicBezTo>
                    <a:cubicBezTo>
                      <a:pt x="2699" y="110"/>
                      <a:pt x="2699" y="114"/>
                      <a:pt x="2699" y="117"/>
                    </a:cubicBezTo>
                    <a:cubicBezTo>
                      <a:pt x="2698" y="123"/>
                      <a:pt x="2697" y="129"/>
                      <a:pt x="2696" y="133"/>
                    </a:cubicBezTo>
                    <a:close/>
                    <a:moveTo>
                      <a:pt x="2701" y="159"/>
                    </a:move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ubicBezTo>
                      <a:pt x="2701" y="159"/>
                      <a:pt x="2701" y="159"/>
                      <a:pt x="2701" y="159"/>
                    </a:cubicBezTo>
                    <a:close/>
                    <a:moveTo>
                      <a:pt x="2742" y="143"/>
                    </a:moveTo>
                    <a:cubicBezTo>
                      <a:pt x="2742" y="142"/>
                      <a:pt x="2742" y="142"/>
                      <a:pt x="2742" y="141"/>
                    </a:cubicBezTo>
                    <a:cubicBezTo>
                      <a:pt x="2742" y="135"/>
                      <a:pt x="2743" y="127"/>
                      <a:pt x="2743" y="117"/>
                    </a:cubicBezTo>
                    <a:cubicBezTo>
                      <a:pt x="2744" y="121"/>
                      <a:pt x="2744" y="125"/>
                      <a:pt x="2744" y="129"/>
                    </a:cubicBezTo>
                    <a:cubicBezTo>
                      <a:pt x="2743" y="135"/>
                      <a:pt x="2743" y="139"/>
                      <a:pt x="2742" y="143"/>
                    </a:cubicBezTo>
                    <a:close/>
                    <a:moveTo>
                      <a:pt x="2746" y="117"/>
                    </a:moveTo>
                    <a:cubicBezTo>
                      <a:pt x="2745" y="115"/>
                      <a:pt x="2744" y="113"/>
                      <a:pt x="2744" y="111"/>
                    </a:cubicBezTo>
                    <a:cubicBezTo>
                      <a:pt x="2744" y="108"/>
                      <a:pt x="2744" y="104"/>
                      <a:pt x="2745" y="100"/>
                    </a:cubicBezTo>
                    <a:cubicBezTo>
                      <a:pt x="2746" y="103"/>
                      <a:pt x="2746" y="106"/>
                      <a:pt x="2747" y="108"/>
                    </a:cubicBezTo>
                    <a:cubicBezTo>
                      <a:pt x="2746" y="111"/>
                      <a:pt x="2746" y="114"/>
                      <a:pt x="2746" y="117"/>
                    </a:cubicBezTo>
                    <a:close/>
                    <a:moveTo>
                      <a:pt x="2754" y="133"/>
                    </a:moveTo>
                    <a:cubicBezTo>
                      <a:pt x="2754" y="133"/>
                      <a:pt x="2754" y="133"/>
                      <a:pt x="2754" y="133"/>
                    </a:cubicBezTo>
                    <a:cubicBezTo>
                      <a:pt x="2754" y="130"/>
                      <a:pt x="2755" y="127"/>
                      <a:pt x="2755" y="124"/>
                    </a:cubicBezTo>
                    <a:cubicBezTo>
                      <a:pt x="2755" y="125"/>
                      <a:pt x="2755" y="126"/>
                      <a:pt x="2755" y="128"/>
                    </a:cubicBezTo>
                    <a:cubicBezTo>
                      <a:pt x="2755" y="130"/>
                      <a:pt x="2754" y="131"/>
                      <a:pt x="2754" y="133"/>
                    </a:cubicBezTo>
                    <a:close/>
                    <a:moveTo>
                      <a:pt x="2791" y="142"/>
                    </a:moveTo>
                    <a:cubicBezTo>
                      <a:pt x="2791" y="139"/>
                      <a:pt x="2791" y="134"/>
                      <a:pt x="2791" y="128"/>
                    </a:cubicBezTo>
                    <a:cubicBezTo>
                      <a:pt x="2791" y="130"/>
                      <a:pt x="2791" y="132"/>
                      <a:pt x="2792" y="133"/>
                    </a:cubicBezTo>
                    <a:cubicBezTo>
                      <a:pt x="2791" y="139"/>
                      <a:pt x="2791" y="142"/>
                      <a:pt x="2791" y="142"/>
                    </a:cubicBezTo>
                    <a:close/>
                    <a:moveTo>
                      <a:pt x="2812" y="135"/>
                    </a:moveTo>
                    <a:cubicBezTo>
                      <a:pt x="2812" y="134"/>
                      <a:pt x="2812" y="134"/>
                      <a:pt x="2812" y="133"/>
                    </a:cubicBezTo>
                    <a:cubicBezTo>
                      <a:pt x="2812" y="121"/>
                      <a:pt x="2812" y="103"/>
                      <a:pt x="2811" y="88"/>
                    </a:cubicBezTo>
                    <a:cubicBezTo>
                      <a:pt x="2813" y="94"/>
                      <a:pt x="2815" y="100"/>
                      <a:pt x="2816" y="106"/>
                    </a:cubicBezTo>
                    <a:cubicBezTo>
                      <a:pt x="2814" y="118"/>
                      <a:pt x="2813" y="128"/>
                      <a:pt x="2812" y="135"/>
                    </a:cubicBezTo>
                    <a:close/>
                    <a:moveTo>
                      <a:pt x="2819" y="145"/>
                    </a:moveTo>
                    <a:cubicBezTo>
                      <a:pt x="2819" y="141"/>
                      <a:pt x="2819" y="136"/>
                      <a:pt x="2819" y="129"/>
                    </a:cubicBezTo>
                    <a:cubicBezTo>
                      <a:pt x="2820" y="133"/>
                      <a:pt x="2820" y="136"/>
                      <a:pt x="2821" y="139"/>
                    </a:cubicBezTo>
                    <a:cubicBezTo>
                      <a:pt x="2820" y="143"/>
                      <a:pt x="2819" y="145"/>
                      <a:pt x="2819" y="145"/>
                    </a:cubicBezTo>
                    <a:close/>
                    <a:moveTo>
                      <a:pt x="2824" y="159"/>
                    </a:moveTo>
                    <a:cubicBezTo>
                      <a:pt x="2825" y="159"/>
                      <a:pt x="2825" y="159"/>
                      <a:pt x="2825" y="159"/>
                    </a:cubicBezTo>
                    <a:cubicBezTo>
                      <a:pt x="2825" y="159"/>
                      <a:pt x="2825" y="158"/>
                      <a:pt x="2825" y="158"/>
                    </a:cubicBezTo>
                    <a:cubicBezTo>
                      <a:pt x="2825" y="159"/>
                      <a:pt x="2826" y="160"/>
                      <a:pt x="2826" y="160"/>
                    </a:cubicBezTo>
                    <a:cubicBezTo>
                      <a:pt x="2825" y="160"/>
                      <a:pt x="2825" y="159"/>
                      <a:pt x="2824" y="159"/>
                    </a:cubicBezTo>
                    <a:close/>
                    <a:moveTo>
                      <a:pt x="2826" y="121"/>
                    </a:moveTo>
                    <a:cubicBezTo>
                      <a:pt x="2824" y="117"/>
                      <a:pt x="2823" y="114"/>
                      <a:pt x="2821" y="110"/>
                    </a:cubicBezTo>
                    <a:cubicBezTo>
                      <a:pt x="2822" y="105"/>
                      <a:pt x="2822" y="99"/>
                      <a:pt x="2823" y="94"/>
                    </a:cubicBezTo>
                    <a:cubicBezTo>
                      <a:pt x="2823" y="100"/>
                      <a:pt x="2825" y="108"/>
                      <a:pt x="2827" y="116"/>
                    </a:cubicBezTo>
                    <a:cubicBezTo>
                      <a:pt x="2826" y="118"/>
                      <a:pt x="2826" y="119"/>
                      <a:pt x="2826" y="121"/>
                    </a:cubicBezTo>
                    <a:close/>
                    <a:moveTo>
                      <a:pt x="2834" y="142"/>
                    </a:moveTo>
                    <a:cubicBezTo>
                      <a:pt x="2833" y="138"/>
                      <a:pt x="2831" y="134"/>
                      <a:pt x="2829" y="129"/>
                    </a:cubicBezTo>
                    <a:cubicBezTo>
                      <a:pt x="2829" y="129"/>
                      <a:pt x="2829" y="128"/>
                      <a:pt x="2829" y="127"/>
                    </a:cubicBezTo>
                    <a:cubicBezTo>
                      <a:pt x="2831" y="132"/>
                      <a:pt x="2832" y="137"/>
                      <a:pt x="2834" y="142"/>
                    </a:cubicBezTo>
                    <a:cubicBezTo>
                      <a:pt x="2837" y="149"/>
                      <a:pt x="2839" y="153"/>
                      <a:pt x="2839" y="155"/>
                    </a:cubicBezTo>
                    <a:cubicBezTo>
                      <a:pt x="2837" y="151"/>
                      <a:pt x="2836" y="147"/>
                      <a:pt x="2834" y="142"/>
                    </a:cubicBezTo>
                    <a:close/>
                    <a:moveTo>
                      <a:pt x="3059" y="87"/>
                    </a:moveTo>
                    <a:cubicBezTo>
                      <a:pt x="3060" y="90"/>
                      <a:pt x="3061" y="92"/>
                      <a:pt x="3061" y="95"/>
                    </a:cubicBezTo>
                    <a:cubicBezTo>
                      <a:pt x="3061" y="94"/>
                      <a:pt x="3060" y="93"/>
                      <a:pt x="3059" y="92"/>
                    </a:cubicBezTo>
                    <a:cubicBezTo>
                      <a:pt x="3059" y="90"/>
                      <a:pt x="3059" y="89"/>
                      <a:pt x="3059" y="87"/>
                    </a:cubicBezTo>
                    <a:close/>
                    <a:moveTo>
                      <a:pt x="3047" y="84"/>
                    </a:moveTo>
                    <a:cubicBezTo>
                      <a:pt x="3050" y="87"/>
                      <a:pt x="3052" y="92"/>
                      <a:pt x="3055" y="96"/>
                    </a:cubicBezTo>
                    <a:cubicBezTo>
                      <a:pt x="3055" y="97"/>
                      <a:pt x="3056" y="99"/>
                      <a:pt x="3056" y="100"/>
                    </a:cubicBezTo>
                    <a:cubicBezTo>
                      <a:pt x="3056" y="104"/>
                      <a:pt x="3055" y="108"/>
                      <a:pt x="3054" y="112"/>
                    </a:cubicBezTo>
                    <a:cubicBezTo>
                      <a:pt x="3052" y="105"/>
                      <a:pt x="3049" y="98"/>
                      <a:pt x="3046" y="91"/>
                    </a:cubicBezTo>
                    <a:cubicBezTo>
                      <a:pt x="3046" y="89"/>
                      <a:pt x="3047" y="86"/>
                      <a:pt x="3047" y="84"/>
                    </a:cubicBezTo>
                    <a:close/>
                    <a:moveTo>
                      <a:pt x="3052" y="111"/>
                    </a:moveTo>
                    <a:cubicBezTo>
                      <a:pt x="3049" y="108"/>
                      <a:pt x="3047" y="105"/>
                      <a:pt x="3045" y="102"/>
                    </a:cubicBezTo>
                    <a:cubicBezTo>
                      <a:pt x="3045" y="99"/>
                      <a:pt x="3046" y="96"/>
                      <a:pt x="3046" y="93"/>
                    </a:cubicBezTo>
                    <a:cubicBezTo>
                      <a:pt x="3048" y="98"/>
                      <a:pt x="3050" y="105"/>
                      <a:pt x="3052" y="111"/>
                    </a:cubicBezTo>
                    <a:close/>
                    <a:moveTo>
                      <a:pt x="3034" y="56"/>
                    </a:moveTo>
                    <a:cubicBezTo>
                      <a:pt x="3039" y="62"/>
                      <a:pt x="3042" y="68"/>
                      <a:pt x="3045" y="74"/>
                    </a:cubicBezTo>
                    <a:cubicBezTo>
                      <a:pt x="3042" y="69"/>
                      <a:pt x="3038" y="64"/>
                      <a:pt x="3034" y="60"/>
                    </a:cubicBezTo>
                    <a:cubicBezTo>
                      <a:pt x="3034" y="59"/>
                      <a:pt x="3034" y="57"/>
                      <a:pt x="3034" y="56"/>
                    </a:cubicBezTo>
                    <a:close/>
                    <a:moveTo>
                      <a:pt x="3033" y="64"/>
                    </a:moveTo>
                    <a:cubicBezTo>
                      <a:pt x="3037" y="69"/>
                      <a:pt x="3041" y="74"/>
                      <a:pt x="3044" y="80"/>
                    </a:cubicBezTo>
                    <a:cubicBezTo>
                      <a:pt x="3044" y="81"/>
                      <a:pt x="3043" y="83"/>
                      <a:pt x="3043" y="85"/>
                    </a:cubicBezTo>
                    <a:cubicBezTo>
                      <a:pt x="3042" y="84"/>
                      <a:pt x="3042" y="83"/>
                      <a:pt x="3042" y="83"/>
                    </a:cubicBezTo>
                    <a:cubicBezTo>
                      <a:pt x="3042" y="83"/>
                      <a:pt x="3042" y="84"/>
                      <a:pt x="3043" y="85"/>
                    </a:cubicBezTo>
                    <a:cubicBezTo>
                      <a:pt x="3042" y="88"/>
                      <a:pt x="3041" y="91"/>
                      <a:pt x="3040" y="94"/>
                    </a:cubicBezTo>
                    <a:cubicBezTo>
                      <a:pt x="3037" y="89"/>
                      <a:pt x="3034" y="85"/>
                      <a:pt x="3031" y="80"/>
                    </a:cubicBezTo>
                    <a:cubicBezTo>
                      <a:pt x="3032" y="75"/>
                      <a:pt x="3033" y="69"/>
                      <a:pt x="3033" y="64"/>
                    </a:cubicBezTo>
                    <a:close/>
                    <a:moveTo>
                      <a:pt x="3024" y="139"/>
                    </a:moveTo>
                    <a:cubicBezTo>
                      <a:pt x="3024" y="120"/>
                      <a:pt x="3027" y="101"/>
                      <a:pt x="3030" y="83"/>
                    </a:cubicBezTo>
                    <a:cubicBezTo>
                      <a:pt x="3033" y="87"/>
                      <a:pt x="3036" y="91"/>
                      <a:pt x="3039" y="95"/>
                    </a:cubicBezTo>
                    <a:cubicBezTo>
                      <a:pt x="3033" y="114"/>
                      <a:pt x="3027" y="133"/>
                      <a:pt x="3025" y="152"/>
                    </a:cubicBezTo>
                    <a:cubicBezTo>
                      <a:pt x="3024" y="148"/>
                      <a:pt x="3024" y="143"/>
                      <a:pt x="3024" y="139"/>
                    </a:cubicBezTo>
                    <a:close/>
                    <a:moveTo>
                      <a:pt x="3043" y="143"/>
                    </a:moveTo>
                    <a:cubicBezTo>
                      <a:pt x="3043" y="142"/>
                      <a:pt x="3042" y="141"/>
                      <a:pt x="3041" y="140"/>
                    </a:cubicBezTo>
                    <a:cubicBezTo>
                      <a:pt x="3042" y="141"/>
                      <a:pt x="3042" y="143"/>
                      <a:pt x="3043" y="144"/>
                    </a:cubicBezTo>
                    <a:cubicBezTo>
                      <a:pt x="3041" y="146"/>
                      <a:pt x="3040" y="149"/>
                      <a:pt x="3038" y="152"/>
                    </a:cubicBezTo>
                    <a:cubicBezTo>
                      <a:pt x="3039" y="146"/>
                      <a:pt x="3040" y="140"/>
                      <a:pt x="3041" y="135"/>
                    </a:cubicBezTo>
                    <a:cubicBezTo>
                      <a:pt x="3042" y="137"/>
                      <a:pt x="3043" y="139"/>
                      <a:pt x="3044" y="142"/>
                    </a:cubicBezTo>
                    <a:cubicBezTo>
                      <a:pt x="3044" y="142"/>
                      <a:pt x="3043" y="142"/>
                      <a:pt x="3043" y="143"/>
                    </a:cubicBezTo>
                    <a:close/>
                    <a:moveTo>
                      <a:pt x="3042" y="126"/>
                    </a:moveTo>
                    <a:cubicBezTo>
                      <a:pt x="3043" y="118"/>
                      <a:pt x="3044" y="110"/>
                      <a:pt x="3045" y="102"/>
                    </a:cubicBezTo>
                    <a:cubicBezTo>
                      <a:pt x="3048" y="107"/>
                      <a:pt x="3051" y="112"/>
                      <a:pt x="3053" y="116"/>
                    </a:cubicBezTo>
                    <a:cubicBezTo>
                      <a:pt x="3052" y="122"/>
                      <a:pt x="3050" y="127"/>
                      <a:pt x="3048" y="133"/>
                    </a:cubicBezTo>
                    <a:cubicBezTo>
                      <a:pt x="3045" y="130"/>
                      <a:pt x="3043" y="128"/>
                      <a:pt x="3042" y="126"/>
                    </a:cubicBezTo>
                    <a:close/>
                    <a:moveTo>
                      <a:pt x="3054" y="140"/>
                    </a:moveTo>
                    <a:cubicBezTo>
                      <a:pt x="3053" y="140"/>
                      <a:pt x="3053" y="140"/>
                      <a:pt x="3053" y="140"/>
                    </a:cubicBezTo>
                    <a:cubicBezTo>
                      <a:pt x="3054" y="135"/>
                      <a:pt x="3055" y="130"/>
                      <a:pt x="3056" y="125"/>
                    </a:cubicBezTo>
                    <a:cubicBezTo>
                      <a:pt x="3056" y="127"/>
                      <a:pt x="3057" y="128"/>
                      <a:pt x="3057" y="130"/>
                    </a:cubicBezTo>
                    <a:cubicBezTo>
                      <a:pt x="3056" y="133"/>
                      <a:pt x="3055" y="137"/>
                      <a:pt x="3054" y="140"/>
                    </a:cubicBezTo>
                    <a:close/>
                    <a:moveTo>
                      <a:pt x="3060" y="122"/>
                    </a:moveTo>
                    <a:cubicBezTo>
                      <a:pt x="3059" y="120"/>
                      <a:pt x="3058" y="119"/>
                      <a:pt x="3057" y="117"/>
                    </a:cubicBezTo>
                    <a:cubicBezTo>
                      <a:pt x="3057" y="114"/>
                      <a:pt x="3058" y="110"/>
                      <a:pt x="3058" y="106"/>
                    </a:cubicBezTo>
                    <a:cubicBezTo>
                      <a:pt x="3059" y="111"/>
                      <a:pt x="3060" y="115"/>
                      <a:pt x="3061" y="120"/>
                    </a:cubicBezTo>
                    <a:cubicBezTo>
                      <a:pt x="3061" y="120"/>
                      <a:pt x="3061" y="121"/>
                      <a:pt x="3060" y="122"/>
                    </a:cubicBezTo>
                    <a:close/>
                    <a:moveTo>
                      <a:pt x="3062" y="151"/>
                    </a:moveTo>
                    <a:cubicBezTo>
                      <a:pt x="3061" y="151"/>
                      <a:pt x="3061" y="151"/>
                      <a:pt x="3061" y="151"/>
                    </a:cubicBezTo>
                    <a:cubicBezTo>
                      <a:pt x="3062" y="150"/>
                      <a:pt x="3062" y="150"/>
                      <a:pt x="3062" y="149"/>
                    </a:cubicBezTo>
                    <a:cubicBezTo>
                      <a:pt x="3062" y="149"/>
                      <a:pt x="3062" y="149"/>
                      <a:pt x="3062" y="149"/>
                    </a:cubicBezTo>
                    <a:cubicBezTo>
                      <a:pt x="3062" y="150"/>
                      <a:pt x="3062" y="150"/>
                      <a:pt x="3062" y="151"/>
                    </a:cubicBezTo>
                    <a:close/>
                    <a:moveTo>
                      <a:pt x="3062" y="117"/>
                    </a:moveTo>
                    <a:cubicBezTo>
                      <a:pt x="3061" y="112"/>
                      <a:pt x="3060" y="107"/>
                      <a:pt x="3058" y="102"/>
                    </a:cubicBezTo>
                    <a:cubicBezTo>
                      <a:pt x="3058" y="102"/>
                      <a:pt x="3059" y="101"/>
                      <a:pt x="3059" y="101"/>
                    </a:cubicBezTo>
                    <a:cubicBezTo>
                      <a:pt x="3061" y="105"/>
                      <a:pt x="3063" y="108"/>
                      <a:pt x="3065" y="112"/>
                    </a:cubicBezTo>
                    <a:cubicBezTo>
                      <a:pt x="3064" y="113"/>
                      <a:pt x="3063" y="115"/>
                      <a:pt x="3063" y="116"/>
                    </a:cubicBezTo>
                    <a:cubicBezTo>
                      <a:pt x="3062" y="117"/>
                      <a:pt x="3062" y="117"/>
                      <a:pt x="3062" y="117"/>
                    </a:cubicBezTo>
                    <a:close/>
                    <a:moveTo>
                      <a:pt x="3065" y="143"/>
                    </a:moveTo>
                    <a:cubicBezTo>
                      <a:pt x="3064" y="142"/>
                      <a:pt x="3064" y="142"/>
                      <a:pt x="3064" y="142"/>
                    </a:cubicBezTo>
                    <a:cubicBezTo>
                      <a:pt x="3064" y="141"/>
                      <a:pt x="3065" y="141"/>
                      <a:pt x="3065" y="140"/>
                    </a:cubicBezTo>
                    <a:cubicBezTo>
                      <a:pt x="3065" y="140"/>
                      <a:pt x="3065" y="141"/>
                      <a:pt x="3065" y="141"/>
                    </a:cubicBezTo>
                    <a:cubicBezTo>
                      <a:pt x="3065" y="142"/>
                      <a:pt x="3065" y="142"/>
                      <a:pt x="3065" y="143"/>
                    </a:cubicBezTo>
                    <a:close/>
                    <a:moveTo>
                      <a:pt x="3068" y="131"/>
                    </a:move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ubicBezTo>
                      <a:pt x="3068" y="131"/>
                      <a:pt x="3068" y="131"/>
                      <a:pt x="3068" y="131"/>
                    </a:cubicBezTo>
                    <a:close/>
                    <a:moveTo>
                      <a:pt x="3070" y="151"/>
                    </a:moveTo>
                    <a:cubicBezTo>
                      <a:pt x="3070" y="151"/>
                      <a:pt x="3070" y="151"/>
                      <a:pt x="3070" y="151"/>
                    </a:cubicBezTo>
                    <a:cubicBezTo>
                      <a:pt x="3070" y="151"/>
                      <a:pt x="3070" y="151"/>
                      <a:pt x="3070" y="152"/>
                    </a:cubicBezTo>
                    <a:cubicBezTo>
                      <a:pt x="3070" y="152"/>
                      <a:pt x="3070" y="151"/>
                      <a:pt x="3070" y="151"/>
                    </a:cubicBezTo>
                    <a:close/>
                    <a:moveTo>
                      <a:pt x="3072" y="126"/>
                    </a:moveTo>
                    <a:cubicBezTo>
                      <a:pt x="3072" y="128"/>
                      <a:pt x="3071" y="129"/>
                      <a:pt x="3070" y="131"/>
                    </a:cubicBezTo>
                    <a:cubicBezTo>
                      <a:pt x="3070" y="129"/>
                      <a:pt x="3070" y="127"/>
                      <a:pt x="3070" y="125"/>
                    </a:cubicBezTo>
                    <a:cubicBezTo>
                      <a:pt x="3070" y="124"/>
                      <a:pt x="3070" y="123"/>
                      <a:pt x="3071" y="122"/>
                    </a:cubicBezTo>
                    <a:cubicBezTo>
                      <a:pt x="3071" y="123"/>
                      <a:pt x="3072" y="124"/>
                      <a:pt x="3072" y="125"/>
                    </a:cubicBezTo>
                    <a:lnTo>
                      <a:pt x="3072" y="126"/>
                    </a:lnTo>
                    <a:close/>
                    <a:moveTo>
                      <a:pt x="3080" y="91"/>
                    </a:moveTo>
                    <a:cubicBezTo>
                      <a:pt x="3080" y="92"/>
                      <a:pt x="3080" y="94"/>
                      <a:pt x="3080" y="96"/>
                    </a:cubicBezTo>
                    <a:cubicBezTo>
                      <a:pt x="3080" y="95"/>
                      <a:pt x="3080" y="94"/>
                      <a:pt x="3079" y="93"/>
                    </a:cubicBezTo>
                    <a:cubicBezTo>
                      <a:pt x="3079" y="92"/>
                      <a:pt x="3079" y="91"/>
                      <a:pt x="3080" y="91"/>
                    </a:cubicBezTo>
                    <a:close/>
                    <a:moveTo>
                      <a:pt x="3078" y="117"/>
                    </a:moveTo>
                    <a:cubicBezTo>
                      <a:pt x="3077" y="113"/>
                      <a:pt x="3076" y="109"/>
                      <a:pt x="3076" y="106"/>
                    </a:cubicBezTo>
                    <a:cubicBezTo>
                      <a:pt x="3076" y="105"/>
                      <a:pt x="3076" y="105"/>
                      <a:pt x="3076" y="104"/>
                    </a:cubicBezTo>
                    <a:cubicBezTo>
                      <a:pt x="3077" y="107"/>
                      <a:pt x="3078" y="111"/>
                      <a:pt x="3079" y="114"/>
                    </a:cubicBezTo>
                    <a:cubicBezTo>
                      <a:pt x="3079" y="115"/>
                      <a:pt x="3078" y="116"/>
                      <a:pt x="3078" y="117"/>
                    </a:cubicBezTo>
                    <a:close/>
                    <a:moveTo>
                      <a:pt x="3081" y="127"/>
                    </a:moveTo>
                    <a:cubicBezTo>
                      <a:pt x="3080" y="127"/>
                      <a:pt x="3080" y="126"/>
                      <a:pt x="3080" y="126"/>
                    </a:cubicBezTo>
                    <a:cubicBezTo>
                      <a:pt x="3080" y="125"/>
                      <a:pt x="3080" y="125"/>
                      <a:pt x="3081" y="124"/>
                    </a:cubicBezTo>
                    <a:cubicBezTo>
                      <a:pt x="3081" y="125"/>
                      <a:pt x="3081" y="126"/>
                      <a:pt x="3081" y="127"/>
                    </a:cubicBezTo>
                    <a:close/>
                    <a:moveTo>
                      <a:pt x="3087" y="141"/>
                    </a:move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40"/>
                      <a:pt x="3087" y="140"/>
                      <a:pt x="3087" y="140"/>
                    </a:cubicBezTo>
                    <a:cubicBezTo>
                      <a:pt x="3087" y="139"/>
                      <a:pt x="3087" y="139"/>
                      <a:pt x="3087" y="139"/>
                    </a:cubicBezTo>
                    <a:cubicBezTo>
                      <a:pt x="3087" y="139"/>
                      <a:pt x="3087" y="140"/>
                      <a:pt x="3087" y="141"/>
                    </a:cubicBezTo>
                    <a:close/>
                    <a:moveTo>
                      <a:pt x="3119" y="64"/>
                    </a:moveTo>
                    <a:cubicBezTo>
                      <a:pt x="3120" y="69"/>
                      <a:pt x="3121" y="75"/>
                      <a:pt x="3122" y="80"/>
                    </a:cubicBezTo>
                    <a:cubicBezTo>
                      <a:pt x="3120" y="82"/>
                      <a:pt x="3119" y="85"/>
                      <a:pt x="3117" y="87"/>
                    </a:cubicBezTo>
                    <a:cubicBezTo>
                      <a:pt x="3117" y="86"/>
                      <a:pt x="3116" y="84"/>
                      <a:pt x="3115" y="83"/>
                    </a:cubicBezTo>
                    <a:cubicBezTo>
                      <a:pt x="3116" y="84"/>
                      <a:pt x="3117" y="86"/>
                      <a:pt x="3117" y="87"/>
                    </a:cubicBezTo>
                    <a:cubicBezTo>
                      <a:pt x="3116" y="90"/>
                      <a:pt x="3114" y="92"/>
                      <a:pt x="3113" y="94"/>
                    </a:cubicBezTo>
                    <a:cubicBezTo>
                      <a:pt x="3111" y="89"/>
                      <a:pt x="3110" y="85"/>
                      <a:pt x="3108" y="80"/>
                    </a:cubicBezTo>
                    <a:cubicBezTo>
                      <a:pt x="3112" y="74"/>
                      <a:pt x="3116" y="69"/>
                      <a:pt x="3119" y="64"/>
                    </a:cubicBezTo>
                    <a:close/>
                    <a:moveTo>
                      <a:pt x="3097" y="72"/>
                    </a:moveTo>
                    <a:cubicBezTo>
                      <a:pt x="3099" y="75"/>
                      <a:pt x="3100" y="77"/>
                      <a:pt x="3102" y="80"/>
                    </a:cubicBezTo>
                    <a:cubicBezTo>
                      <a:pt x="3100" y="82"/>
                      <a:pt x="3099" y="84"/>
                      <a:pt x="3097" y="86"/>
                    </a:cubicBezTo>
                    <a:cubicBezTo>
                      <a:pt x="3097" y="85"/>
                      <a:pt x="3096" y="83"/>
                      <a:pt x="3096" y="82"/>
                    </a:cubicBezTo>
                    <a:cubicBezTo>
                      <a:pt x="3096" y="78"/>
                      <a:pt x="3096" y="74"/>
                      <a:pt x="3097" y="72"/>
                    </a:cubicBezTo>
                    <a:close/>
                    <a:moveTo>
                      <a:pt x="3090" y="108"/>
                    </a:moveTo>
                    <a:cubicBezTo>
                      <a:pt x="3091" y="106"/>
                      <a:pt x="3093" y="104"/>
                      <a:pt x="3094" y="101"/>
                    </a:cubicBezTo>
                    <a:cubicBezTo>
                      <a:pt x="3094" y="106"/>
                      <a:pt x="3095" y="112"/>
                      <a:pt x="3096" y="117"/>
                    </a:cubicBezTo>
                    <a:cubicBezTo>
                      <a:pt x="3095" y="119"/>
                      <a:pt x="3093" y="120"/>
                      <a:pt x="3092" y="122"/>
                    </a:cubicBezTo>
                    <a:cubicBezTo>
                      <a:pt x="3092" y="117"/>
                      <a:pt x="3091" y="113"/>
                      <a:pt x="3090" y="108"/>
                    </a:cubicBezTo>
                    <a:close/>
                    <a:moveTo>
                      <a:pt x="3097" y="134"/>
                    </a:moveTo>
                    <a:cubicBezTo>
                      <a:pt x="3096" y="131"/>
                      <a:pt x="3095" y="128"/>
                      <a:pt x="3094" y="126"/>
                    </a:cubicBezTo>
                    <a:cubicBezTo>
                      <a:pt x="3095" y="124"/>
                      <a:pt x="3095" y="123"/>
                      <a:pt x="3096" y="122"/>
                    </a:cubicBezTo>
                    <a:cubicBezTo>
                      <a:pt x="3097" y="123"/>
                      <a:pt x="3097" y="125"/>
                      <a:pt x="3097" y="127"/>
                    </a:cubicBezTo>
                    <a:cubicBezTo>
                      <a:pt x="3097" y="129"/>
                      <a:pt x="3097" y="131"/>
                      <a:pt x="3097" y="134"/>
                    </a:cubicBezTo>
                    <a:close/>
                    <a:moveTo>
                      <a:pt x="3096" y="98"/>
                    </a:moveTo>
                    <a:cubicBezTo>
                      <a:pt x="3096" y="98"/>
                      <a:pt x="3096" y="97"/>
                      <a:pt x="3097" y="97"/>
                    </a:cubicBezTo>
                    <a:cubicBezTo>
                      <a:pt x="3097" y="101"/>
                      <a:pt x="3097" y="105"/>
                      <a:pt x="3097" y="108"/>
                    </a:cubicBezTo>
                    <a:cubicBezTo>
                      <a:pt x="3097" y="105"/>
                      <a:pt x="3096" y="101"/>
                      <a:pt x="3096" y="98"/>
                    </a:cubicBezTo>
                    <a:close/>
                    <a:moveTo>
                      <a:pt x="3100" y="92"/>
                    </a:moveTo>
                    <a:cubicBezTo>
                      <a:pt x="3101" y="90"/>
                      <a:pt x="3103" y="88"/>
                      <a:pt x="3104" y="86"/>
                    </a:cubicBezTo>
                    <a:cubicBezTo>
                      <a:pt x="3105" y="88"/>
                      <a:pt x="3106" y="91"/>
                      <a:pt x="3107" y="93"/>
                    </a:cubicBezTo>
                    <a:cubicBezTo>
                      <a:pt x="3107" y="96"/>
                      <a:pt x="3107" y="99"/>
                      <a:pt x="3108" y="102"/>
                    </a:cubicBezTo>
                    <a:cubicBezTo>
                      <a:pt x="3107" y="104"/>
                      <a:pt x="3106" y="105"/>
                      <a:pt x="3104" y="106"/>
                    </a:cubicBezTo>
                    <a:cubicBezTo>
                      <a:pt x="3103" y="102"/>
                      <a:pt x="3102" y="97"/>
                      <a:pt x="3100" y="92"/>
                    </a:cubicBezTo>
                    <a:close/>
                    <a:moveTo>
                      <a:pt x="3105" y="107"/>
                    </a:moveTo>
                    <a:cubicBezTo>
                      <a:pt x="3106" y="106"/>
                      <a:pt x="3107" y="104"/>
                      <a:pt x="3108" y="102"/>
                    </a:cubicBezTo>
                    <a:cubicBezTo>
                      <a:pt x="3110" y="118"/>
                      <a:pt x="3112" y="133"/>
                      <a:pt x="3114" y="149"/>
                    </a:cubicBezTo>
                    <a:cubicBezTo>
                      <a:pt x="3111" y="137"/>
                      <a:pt x="3108" y="122"/>
                      <a:pt x="3105" y="107"/>
                    </a:cubicBezTo>
                    <a:close/>
                    <a:moveTo>
                      <a:pt x="3113" y="95"/>
                    </a:moveTo>
                    <a:cubicBezTo>
                      <a:pt x="3115" y="93"/>
                      <a:pt x="3116" y="91"/>
                      <a:pt x="3118" y="89"/>
                    </a:cubicBezTo>
                    <a:cubicBezTo>
                      <a:pt x="3124" y="103"/>
                      <a:pt x="3125" y="120"/>
                      <a:pt x="3125" y="136"/>
                    </a:cubicBezTo>
                    <a:cubicBezTo>
                      <a:pt x="3122" y="122"/>
                      <a:pt x="3118" y="109"/>
                      <a:pt x="3113" y="95"/>
                    </a:cubicBezTo>
                    <a:close/>
                    <a:moveTo>
                      <a:pt x="3118" y="88"/>
                    </a:moveTo>
                    <a:cubicBezTo>
                      <a:pt x="3120" y="86"/>
                      <a:pt x="3121" y="85"/>
                      <a:pt x="3122" y="83"/>
                    </a:cubicBezTo>
                    <a:cubicBezTo>
                      <a:pt x="3123" y="90"/>
                      <a:pt x="3125" y="98"/>
                      <a:pt x="3126" y="105"/>
                    </a:cubicBezTo>
                    <a:cubicBezTo>
                      <a:pt x="3123" y="99"/>
                      <a:pt x="3121" y="93"/>
                      <a:pt x="3118" y="88"/>
                    </a:cubicBezTo>
                    <a:close/>
                    <a:moveTo>
                      <a:pt x="3131" y="92"/>
                    </a:moveTo>
                    <a:cubicBezTo>
                      <a:pt x="3129" y="86"/>
                      <a:pt x="3128" y="80"/>
                      <a:pt x="3127" y="74"/>
                    </a:cubicBezTo>
                    <a:cubicBezTo>
                      <a:pt x="3129" y="71"/>
                      <a:pt x="3131" y="68"/>
                      <a:pt x="3132" y="65"/>
                    </a:cubicBezTo>
                    <a:cubicBezTo>
                      <a:pt x="3134" y="69"/>
                      <a:pt x="3137" y="72"/>
                      <a:pt x="3139" y="75"/>
                    </a:cubicBezTo>
                    <a:cubicBezTo>
                      <a:pt x="3139" y="77"/>
                      <a:pt x="3139" y="79"/>
                      <a:pt x="3139" y="81"/>
                    </a:cubicBezTo>
                    <a:cubicBezTo>
                      <a:pt x="3138" y="80"/>
                      <a:pt x="3138" y="80"/>
                      <a:pt x="3137" y="79"/>
                    </a:cubicBezTo>
                    <a:cubicBezTo>
                      <a:pt x="3138" y="80"/>
                      <a:pt x="3138" y="81"/>
                      <a:pt x="3139" y="81"/>
                    </a:cubicBezTo>
                    <a:cubicBezTo>
                      <a:pt x="3138" y="86"/>
                      <a:pt x="3138" y="90"/>
                      <a:pt x="3138" y="91"/>
                    </a:cubicBezTo>
                    <a:cubicBezTo>
                      <a:pt x="3138" y="95"/>
                      <a:pt x="3138" y="100"/>
                      <a:pt x="3139" y="104"/>
                    </a:cubicBezTo>
                    <a:cubicBezTo>
                      <a:pt x="3138" y="101"/>
                      <a:pt x="3138" y="99"/>
                      <a:pt x="3137" y="96"/>
                    </a:cubicBezTo>
                    <a:cubicBezTo>
                      <a:pt x="3138" y="100"/>
                      <a:pt x="3138" y="104"/>
                      <a:pt x="3139" y="108"/>
                    </a:cubicBezTo>
                    <a:cubicBezTo>
                      <a:pt x="3139" y="120"/>
                      <a:pt x="3140" y="132"/>
                      <a:pt x="3140" y="143"/>
                    </a:cubicBezTo>
                    <a:cubicBezTo>
                      <a:pt x="3138" y="126"/>
                      <a:pt x="3135" y="109"/>
                      <a:pt x="3131" y="92"/>
                    </a:cubicBezTo>
                    <a:close/>
                    <a:moveTo>
                      <a:pt x="3154" y="125"/>
                    </a:moveTo>
                    <a:cubicBezTo>
                      <a:pt x="3151" y="116"/>
                      <a:pt x="3149" y="108"/>
                      <a:pt x="3146" y="99"/>
                    </a:cubicBezTo>
                    <a:cubicBezTo>
                      <a:pt x="3144" y="93"/>
                      <a:pt x="3143" y="87"/>
                      <a:pt x="3143" y="82"/>
                    </a:cubicBezTo>
                    <a:cubicBezTo>
                      <a:pt x="3148" y="91"/>
                      <a:pt x="3151" y="100"/>
                      <a:pt x="3154" y="109"/>
                    </a:cubicBezTo>
                    <a:cubicBezTo>
                      <a:pt x="3154" y="114"/>
                      <a:pt x="3154" y="120"/>
                      <a:pt x="3154" y="125"/>
                    </a:cubicBezTo>
                    <a:close/>
                    <a:moveTo>
                      <a:pt x="3154" y="97"/>
                    </a:moveTo>
                    <a:cubicBezTo>
                      <a:pt x="3151" y="90"/>
                      <a:pt x="3147" y="83"/>
                      <a:pt x="3142" y="77"/>
                    </a:cubicBezTo>
                    <a:cubicBezTo>
                      <a:pt x="3142" y="72"/>
                      <a:pt x="3141" y="67"/>
                      <a:pt x="3142" y="63"/>
                    </a:cubicBezTo>
                    <a:cubicBezTo>
                      <a:pt x="3147" y="70"/>
                      <a:pt x="3151" y="77"/>
                      <a:pt x="3155" y="85"/>
                    </a:cubicBezTo>
                    <a:cubicBezTo>
                      <a:pt x="3155" y="89"/>
                      <a:pt x="3155" y="93"/>
                      <a:pt x="3154" y="97"/>
                    </a:cubicBezTo>
                    <a:close/>
                    <a:moveTo>
                      <a:pt x="3164" y="119"/>
                    </a:moveTo>
                    <a:cubicBezTo>
                      <a:pt x="3163" y="110"/>
                      <a:pt x="3161" y="102"/>
                      <a:pt x="3159" y="93"/>
                    </a:cubicBezTo>
                    <a:cubicBezTo>
                      <a:pt x="3161" y="98"/>
                      <a:pt x="3164" y="104"/>
                      <a:pt x="3165" y="109"/>
                    </a:cubicBezTo>
                    <a:cubicBezTo>
                      <a:pt x="3166" y="112"/>
                      <a:pt x="3166" y="114"/>
                      <a:pt x="3167" y="116"/>
                    </a:cubicBezTo>
                    <a:cubicBezTo>
                      <a:pt x="3167" y="120"/>
                      <a:pt x="3167" y="124"/>
                      <a:pt x="3167" y="127"/>
                    </a:cubicBezTo>
                    <a:cubicBezTo>
                      <a:pt x="3166" y="125"/>
                      <a:pt x="3165" y="122"/>
                      <a:pt x="3164" y="119"/>
                    </a:cubicBezTo>
                    <a:close/>
                    <a:moveTo>
                      <a:pt x="3175" y="151"/>
                    </a:moveTo>
                    <a:cubicBezTo>
                      <a:pt x="3175" y="151"/>
                      <a:pt x="3175" y="151"/>
                      <a:pt x="3175" y="151"/>
                    </a:cubicBezTo>
                    <a:cubicBezTo>
                      <a:pt x="3175" y="151"/>
                      <a:pt x="3175" y="150"/>
                      <a:pt x="3175" y="150"/>
                    </a:cubicBezTo>
                    <a:cubicBezTo>
                      <a:pt x="3175" y="150"/>
                      <a:pt x="3175" y="150"/>
                      <a:pt x="3175" y="150"/>
                    </a:cubicBezTo>
                    <a:cubicBezTo>
                      <a:pt x="3175" y="151"/>
                      <a:pt x="3175" y="151"/>
                      <a:pt x="3175" y="151"/>
                    </a:cubicBezTo>
                    <a:close/>
                    <a:moveTo>
                      <a:pt x="3181" y="114"/>
                    </a:moveTo>
                    <a:cubicBezTo>
                      <a:pt x="3179" y="105"/>
                      <a:pt x="3176" y="96"/>
                      <a:pt x="3172" y="88"/>
                    </a:cubicBezTo>
                    <a:cubicBezTo>
                      <a:pt x="3176" y="97"/>
                      <a:pt x="3178" y="110"/>
                      <a:pt x="3180" y="122"/>
                    </a:cubicBezTo>
                    <a:cubicBezTo>
                      <a:pt x="3179" y="127"/>
                      <a:pt x="3178" y="132"/>
                      <a:pt x="3177" y="136"/>
                    </a:cubicBezTo>
                    <a:cubicBezTo>
                      <a:pt x="3176" y="134"/>
                      <a:pt x="3176" y="133"/>
                      <a:pt x="3175" y="131"/>
                    </a:cubicBezTo>
                    <a:cubicBezTo>
                      <a:pt x="3175" y="117"/>
                      <a:pt x="3174" y="102"/>
                      <a:pt x="3172" y="87"/>
                    </a:cubicBezTo>
                    <a:cubicBezTo>
                      <a:pt x="3172" y="87"/>
                      <a:pt x="3172" y="88"/>
                      <a:pt x="3172" y="88"/>
                    </a:cubicBezTo>
                    <a:cubicBezTo>
                      <a:pt x="3172" y="88"/>
                      <a:pt x="3172" y="87"/>
                      <a:pt x="3172" y="87"/>
                    </a:cubicBezTo>
                    <a:cubicBezTo>
                      <a:pt x="3171" y="82"/>
                      <a:pt x="3171" y="78"/>
                      <a:pt x="3170" y="73"/>
                    </a:cubicBezTo>
                    <a:cubicBezTo>
                      <a:pt x="3177" y="81"/>
                      <a:pt x="3181" y="91"/>
                      <a:pt x="3184" y="101"/>
                    </a:cubicBezTo>
                    <a:cubicBezTo>
                      <a:pt x="3183" y="105"/>
                      <a:pt x="3182" y="109"/>
                      <a:pt x="3181" y="114"/>
                    </a:cubicBezTo>
                    <a:close/>
                    <a:moveTo>
                      <a:pt x="3188" y="139"/>
                    </a:moveTo>
                    <a:cubicBezTo>
                      <a:pt x="3187" y="137"/>
                      <a:pt x="3187" y="136"/>
                      <a:pt x="3187" y="135"/>
                    </a:cubicBezTo>
                    <a:cubicBezTo>
                      <a:pt x="3187" y="124"/>
                      <a:pt x="3183" y="112"/>
                      <a:pt x="3184" y="101"/>
                    </a:cubicBezTo>
                    <a:cubicBezTo>
                      <a:pt x="3187" y="110"/>
                      <a:pt x="3189" y="119"/>
                      <a:pt x="3190" y="128"/>
                    </a:cubicBezTo>
                    <a:cubicBezTo>
                      <a:pt x="3189" y="132"/>
                      <a:pt x="3188" y="135"/>
                      <a:pt x="3188" y="139"/>
                    </a:cubicBezTo>
                    <a:close/>
                    <a:moveTo>
                      <a:pt x="3203" y="136"/>
                    </a:moveTo>
                    <a:cubicBezTo>
                      <a:pt x="3203" y="135"/>
                      <a:pt x="3202" y="134"/>
                      <a:pt x="3202" y="133"/>
                    </a:cubicBezTo>
                    <a:cubicBezTo>
                      <a:pt x="3201" y="131"/>
                      <a:pt x="3201" y="129"/>
                      <a:pt x="3200" y="128"/>
                    </a:cubicBezTo>
                    <a:cubicBezTo>
                      <a:pt x="3200" y="127"/>
                      <a:pt x="3200" y="127"/>
                      <a:pt x="3200" y="127"/>
                    </a:cubicBezTo>
                    <a:cubicBezTo>
                      <a:pt x="3201" y="129"/>
                      <a:pt x="3201" y="131"/>
                      <a:pt x="3202" y="133"/>
                    </a:cubicBezTo>
                    <a:cubicBezTo>
                      <a:pt x="3202" y="134"/>
                      <a:pt x="3203" y="135"/>
                      <a:pt x="3203" y="136"/>
                    </a:cubicBezTo>
                    <a:cubicBezTo>
                      <a:pt x="3203" y="136"/>
                      <a:pt x="3203" y="136"/>
                      <a:pt x="3203" y="136"/>
                    </a:cubicBezTo>
                    <a:close/>
                    <a:moveTo>
                      <a:pt x="3204" y="133"/>
                    </a:moveTo>
                    <a:cubicBezTo>
                      <a:pt x="3203" y="129"/>
                      <a:pt x="3202" y="125"/>
                      <a:pt x="3200" y="120"/>
                    </a:cubicBezTo>
                    <a:cubicBezTo>
                      <a:pt x="3200" y="119"/>
                      <a:pt x="3200" y="117"/>
                      <a:pt x="3200" y="115"/>
                    </a:cubicBezTo>
                    <a:cubicBezTo>
                      <a:pt x="3200" y="112"/>
                      <a:pt x="3200" y="109"/>
                      <a:pt x="3201" y="105"/>
                    </a:cubicBezTo>
                    <a:cubicBezTo>
                      <a:pt x="3203" y="112"/>
                      <a:pt x="3204" y="119"/>
                      <a:pt x="3206" y="126"/>
                    </a:cubicBezTo>
                    <a:cubicBezTo>
                      <a:pt x="3205" y="128"/>
                      <a:pt x="3205" y="130"/>
                      <a:pt x="3204" y="133"/>
                    </a:cubicBezTo>
                    <a:close/>
                    <a:moveTo>
                      <a:pt x="3218" y="139"/>
                    </a:moveTo>
                    <a:cubicBezTo>
                      <a:pt x="3218" y="139"/>
                      <a:pt x="3218" y="139"/>
                      <a:pt x="3218" y="139"/>
                    </a:cubicBezTo>
                    <a:cubicBezTo>
                      <a:pt x="3218" y="137"/>
                      <a:pt x="3218" y="135"/>
                      <a:pt x="3218" y="133"/>
                    </a:cubicBezTo>
                    <a:cubicBezTo>
                      <a:pt x="3218" y="134"/>
                      <a:pt x="3218" y="134"/>
                      <a:pt x="3218" y="135"/>
                    </a:cubicBezTo>
                    <a:cubicBezTo>
                      <a:pt x="3218" y="136"/>
                      <a:pt x="3218" y="138"/>
                      <a:pt x="3218" y="139"/>
                    </a:cubicBezTo>
                    <a:close/>
                    <a:moveTo>
                      <a:pt x="3239" y="150"/>
                    </a:moveTo>
                    <a:cubicBezTo>
                      <a:pt x="3238" y="148"/>
                      <a:pt x="3237" y="147"/>
                      <a:pt x="3237" y="146"/>
                    </a:cubicBezTo>
                    <a:cubicBezTo>
                      <a:pt x="3236" y="131"/>
                      <a:pt x="3232" y="116"/>
                      <a:pt x="3230" y="101"/>
                    </a:cubicBezTo>
                    <a:cubicBezTo>
                      <a:pt x="3235" y="115"/>
                      <a:pt x="3237" y="132"/>
                      <a:pt x="3239" y="146"/>
                    </a:cubicBezTo>
                    <a:cubicBezTo>
                      <a:pt x="3239" y="147"/>
                      <a:pt x="3239" y="148"/>
                      <a:pt x="3239" y="150"/>
                    </a:cubicBezTo>
                    <a:close/>
                    <a:moveTo>
                      <a:pt x="3243" y="143"/>
                    </a:moveTo>
                    <a:cubicBezTo>
                      <a:pt x="3243" y="142"/>
                      <a:pt x="3243" y="141"/>
                      <a:pt x="3243" y="140"/>
                    </a:cubicBezTo>
                    <a:cubicBezTo>
                      <a:pt x="3243" y="139"/>
                      <a:pt x="3243" y="139"/>
                      <a:pt x="3243" y="139"/>
                    </a:cubicBezTo>
                    <a:cubicBezTo>
                      <a:pt x="3243" y="140"/>
                      <a:pt x="3243" y="141"/>
                      <a:pt x="3243" y="142"/>
                    </a:cubicBezTo>
                    <a:cubicBezTo>
                      <a:pt x="3243" y="142"/>
                      <a:pt x="3243" y="143"/>
                      <a:pt x="3243" y="143"/>
                    </a:cubicBezTo>
                    <a:close/>
                    <a:moveTo>
                      <a:pt x="3256" y="139"/>
                    </a:moveTo>
                    <a:cubicBezTo>
                      <a:pt x="3255" y="142"/>
                      <a:pt x="3254" y="145"/>
                      <a:pt x="3253" y="147"/>
                    </a:cubicBezTo>
                    <a:cubicBezTo>
                      <a:pt x="3253" y="146"/>
                      <a:pt x="3252" y="145"/>
                      <a:pt x="3252" y="144"/>
                    </a:cubicBezTo>
                    <a:cubicBezTo>
                      <a:pt x="3254" y="132"/>
                      <a:pt x="3254" y="120"/>
                      <a:pt x="3256" y="108"/>
                    </a:cubicBezTo>
                    <a:cubicBezTo>
                      <a:pt x="3257" y="104"/>
                      <a:pt x="3257" y="100"/>
                      <a:pt x="3259" y="97"/>
                    </a:cubicBezTo>
                    <a:cubicBezTo>
                      <a:pt x="3260" y="100"/>
                      <a:pt x="3261" y="103"/>
                      <a:pt x="3262" y="107"/>
                    </a:cubicBezTo>
                    <a:cubicBezTo>
                      <a:pt x="3261" y="112"/>
                      <a:pt x="3261" y="117"/>
                      <a:pt x="3260" y="122"/>
                    </a:cubicBezTo>
                    <a:cubicBezTo>
                      <a:pt x="3258" y="116"/>
                      <a:pt x="3257" y="111"/>
                      <a:pt x="3256" y="108"/>
                    </a:cubicBezTo>
                    <a:cubicBezTo>
                      <a:pt x="3258" y="116"/>
                      <a:pt x="3257" y="128"/>
                      <a:pt x="3256" y="139"/>
                    </a:cubicBezTo>
                    <a:close/>
                    <a:moveTo>
                      <a:pt x="3264" y="134"/>
                    </a:moveTo>
                    <a:cubicBezTo>
                      <a:pt x="3263" y="132"/>
                      <a:pt x="3262" y="130"/>
                      <a:pt x="3262" y="128"/>
                    </a:cubicBezTo>
                    <a:cubicBezTo>
                      <a:pt x="3262" y="121"/>
                      <a:pt x="3262" y="114"/>
                      <a:pt x="3262" y="107"/>
                    </a:cubicBezTo>
                    <a:cubicBezTo>
                      <a:pt x="3264" y="113"/>
                      <a:pt x="3265" y="118"/>
                      <a:pt x="3266" y="124"/>
                    </a:cubicBezTo>
                    <a:cubicBezTo>
                      <a:pt x="3265" y="128"/>
                      <a:pt x="3264" y="131"/>
                      <a:pt x="3264" y="134"/>
                    </a:cubicBezTo>
                    <a:close/>
                    <a:moveTo>
                      <a:pt x="3268" y="118"/>
                    </a:moveTo>
                    <a:cubicBezTo>
                      <a:pt x="3266" y="114"/>
                      <a:pt x="3264" y="109"/>
                      <a:pt x="3262" y="105"/>
                    </a:cubicBezTo>
                    <a:cubicBezTo>
                      <a:pt x="3263" y="102"/>
                      <a:pt x="3263" y="99"/>
                      <a:pt x="3264" y="96"/>
                    </a:cubicBezTo>
                    <a:cubicBezTo>
                      <a:pt x="3263" y="99"/>
                      <a:pt x="3263" y="102"/>
                      <a:pt x="3262" y="105"/>
                    </a:cubicBezTo>
                    <a:cubicBezTo>
                      <a:pt x="3261" y="102"/>
                      <a:pt x="3260" y="99"/>
                      <a:pt x="3259" y="96"/>
                    </a:cubicBezTo>
                    <a:cubicBezTo>
                      <a:pt x="3259" y="94"/>
                      <a:pt x="3260" y="91"/>
                      <a:pt x="3261" y="89"/>
                    </a:cubicBezTo>
                    <a:cubicBezTo>
                      <a:pt x="3265" y="95"/>
                      <a:pt x="3268" y="102"/>
                      <a:pt x="3270" y="109"/>
                    </a:cubicBezTo>
                    <a:cubicBezTo>
                      <a:pt x="3270" y="112"/>
                      <a:pt x="3269" y="115"/>
                      <a:pt x="3268" y="118"/>
                    </a:cubicBezTo>
                    <a:close/>
                    <a:moveTo>
                      <a:pt x="3271" y="151"/>
                    </a:moveTo>
                    <a:cubicBezTo>
                      <a:pt x="3271" y="151"/>
                      <a:pt x="3271" y="151"/>
                      <a:pt x="3270" y="151"/>
                    </a:cubicBezTo>
                    <a:cubicBezTo>
                      <a:pt x="3271" y="150"/>
                      <a:pt x="3271" y="148"/>
                      <a:pt x="3271" y="147"/>
                    </a:cubicBezTo>
                    <a:cubicBezTo>
                      <a:pt x="3271" y="147"/>
                      <a:pt x="3271" y="148"/>
                      <a:pt x="3271" y="148"/>
                    </a:cubicBezTo>
                    <a:cubicBezTo>
                      <a:pt x="3271" y="149"/>
                      <a:pt x="3271" y="150"/>
                      <a:pt x="3271" y="151"/>
                    </a:cubicBezTo>
                    <a:close/>
                    <a:moveTo>
                      <a:pt x="3275" y="136"/>
                    </a:moveTo>
                    <a:cubicBezTo>
                      <a:pt x="3274" y="134"/>
                      <a:pt x="3273" y="132"/>
                      <a:pt x="3273" y="130"/>
                    </a:cubicBezTo>
                    <a:cubicBezTo>
                      <a:pt x="3273" y="127"/>
                      <a:pt x="3273" y="123"/>
                      <a:pt x="3274" y="120"/>
                    </a:cubicBezTo>
                    <a:cubicBezTo>
                      <a:pt x="3275" y="123"/>
                      <a:pt x="3276" y="127"/>
                      <a:pt x="3276" y="130"/>
                    </a:cubicBezTo>
                    <a:cubicBezTo>
                      <a:pt x="3276" y="132"/>
                      <a:pt x="3275" y="134"/>
                      <a:pt x="3275" y="136"/>
                    </a:cubicBezTo>
                    <a:close/>
                    <a:moveTo>
                      <a:pt x="3281" y="150"/>
                    </a:moveTo>
                    <a:cubicBezTo>
                      <a:pt x="3281" y="149"/>
                      <a:pt x="3280" y="147"/>
                      <a:pt x="3279" y="146"/>
                    </a:cubicBezTo>
                    <a:cubicBezTo>
                      <a:pt x="3280" y="145"/>
                      <a:pt x="3280" y="145"/>
                      <a:pt x="3280" y="144"/>
                    </a:cubicBezTo>
                    <a:cubicBezTo>
                      <a:pt x="3281" y="146"/>
                      <a:pt x="3281" y="147"/>
                      <a:pt x="3282" y="149"/>
                    </a:cubicBezTo>
                    <a:cubicBezTo>
                      <a:pt x="3281" y="149"/>
                      <a:pt x="3281" y="149"/>
                      <a:pt x="3281" y="150"/>
                    </a:cubicBezTo>
                    <a:close/>
                    <a:moveTo>
                      <a:pt x="3279" y="122"/>
                    </a:moveTo>
                    <a:cubicBezTo>
                      <a:pt x="3278" y="118"/>
                      <a:pt x="3276" y="115"/>
                      <a:pt x="3275" y="111"/>
                    </a:cubicBezTo>
                    <a:cubicBezTo>
                      <a:pt x="3276" y="101"/>
                      <a:pt x="3278" y="90"/>
                      <a:pt x="3282" y="81"/>
                    </a:cubicBezTo>
                    <a:cubicBezTo>
                      <a:pt x="3285" y="86"/>
                      <a:pt x="3288" y="91"/>
                      <a:pt x="3290" y="97"/>
                    </a:cubicBezTo>
                    <a:cubicBezTo>
                      <a:pt x="3288" y="101"/>
                      <a:pt x="3286" y="105"/>
                      <a:pt x="3284" y="109"/>
                    </a:cubicBezTo>
                    <a:cubicBezTo>
                      <a:pt x="3282" y="102"/>
                      <a:pt x="3281" y="96"/>
                      <a:pt x="3279" y="91"/>
                    </a:cubicBezTo>
                    <a:cubicBezTo>
                      <a:pt x="3280" y="99"/>
                      <a:pt x="3281" y="106"/>
                      <a:pt x="3282" y="114"/>
                    </a:cubicBezTo>
                    <a:cubicBezTo>
                      <a:pt x="3281" y="117"/>
                      <a:pt x="3280" y="119"/>
                      <a:pt x="3279" y="122"/>
                    </a:cubicBezTo>
                    <a:close/>
                    <a:moveTo>
                      <a:pt x="3286" y="141"/>
                    </a:moveTo>
                    <a:cubicBezTo>
                      <a:pt x="3285" y="138"/>
                      <a:pt x="3284" y="135"/>
                      <a:pt x="3283" y="131"/>
                    </a:cubicBezTo>
                    <a:cubicBezTo>
                      <a:pt x="3283" y="129"/>
                      <a:pt x="3284" y="127"/>
                      <a:pt x="3284" y="124"/>
                    </a:cubicBezTo>
                    <a:cubicBezTo>
                      <a:pt x="3285" y="130"/>
                      <a:pt x="3286" y="135"/>
                      <a:pt x="3287" y="140"/>
                    </a:cubicBezTo>
                    <a:cubicBezTo>
                      <a:pt x="3287" y="140"/>
                      <a:pt x="3287" y="141"/>
                      <a:pt x="3286" y="141"/>
                    </a:cubicBezTo>
                    <a:close/>
                    <a:moveTo>
                      <a:pt x="3289" y="150"/>
                    </a:moveTo>
                    <a:cubicBezTo>
                      <a:pt x="3289" y="150"/>
                      <a:pt x="3289" y="149"/>
                      <a:pt x="3289" y="149"/>
                    </a:cubicBezTo>
                    <a:cubicBezTo>
                      <a:pt x="3289" y="149"/>
                      <a:pt x="3289" y="149"/>
                      <a:pt x="3289" y="149"/>
                    </a:cubicBezTo>
                    <a:cubicBezTo>
                      <a:pt x="3289" y="149"/>
                      <a:pt x="3289" y="150"/>
                      <a:pt x="3289" y="150"/>
                    </a:cubicBezTo>
                    <a:cubicBezTo>
                      <a:pt x="3289" y="150"/>
                      <a:pt x="3289" y="150"/>
                      <a:pt x="3289" y="150"/>
                    </a:cubicBezTo>
                    <a:close/>
                    <a:moveTo>
                      <a:pt x="3286" y="114"/>
                    </a:moveTo>
                    <a:cubicBezTo>
                      <a:pt x="3287" y="108"/>
                      <a:pt x="3288" y="103"/>
                      <a:pt x="3290" y="97"/>
                    </a:cubicBezTo>
                    <a:cubicBezTo>
                      <a:pt x="3292" y="103"/>
                      <a:pt x="3294" y="110"/>
                      <a:pt x="3296" y="116"/>
                    </a:cubicBezTo>
                    <a:cubicBezTo>
                      <a:pt x="3294" y="121"/>
                      <a:pt x="3293" y="126"/>
                      <a:pt x="3291" y="131"/>
                    </a:cubicBezTo>
                    <a:cubicBezTo>
                      <a:pt x="3289" y="126"/>
                      <a:pt x="3287" y="120"/>
                      <a:pt x="3286" y="114"/>
                    </a:cubicBezTo>
                    <a:close/>
                    <a:moveTo>
                      <a:pt x="3293" y="139"/>
                    </a:moveTo>
                    <a:cubicBezTo>
                      <a:pt x="3295" y="134"/>
                      <a:pt x="3296" y="129"/>
                      <a:pt x="3297" y="124"/>
                    </a:cubicBezTo>
                    <a:cubicBezTo>
                      <a:pt x="3298" y="125"/>
                      <a:pt x="3298" y="126"/>
                      <a:pt x="3298" y="128"/>
                    </a:cubicBezTo>
                    <a:cubicBezTo>
                      <a:pt x="3297" y="132"/>
                      <a:pt x="3295" y="136"/>
                      <a:pt x="3294" y="141"/>
                    </a:cubicBezTo>
                    <a:cubicBezTo>
                      <a:pt x="3294" y="140"/>
                      <a:pt x="3293" y="139"/>
                      <a:pt x="3293" y="139"/>
                    </a:cubicBezTo>
                    <a:close/>
                    <a:moveTo>
                      <a:pt x="3298" y="150"/>
                    </a:moveTo>
                    <a:cubicBezTo>
                      <a:pt x="3298" y="150"/>
                      <a:pt x="3297" y="149"/>
                      <a:pt x="3297" y="149"/>
                    </a:cubicBezTo>
                    <a:cubicBezTo>
                      <a:pt x="3298" y="147"/>
                      <a:pt x="3299" y="144"/>
                      <a:pt x="3300" y="141"/>
                    </a:cubicBezTo>
                    <a:cubicBezTo>
                      <a:pt x="3300" y="143"/>
                      <a:pt x="3301" y="144"/>
                      <a:pt x="3301" y="145"/>
                    </a:cubicBezTo>
                    <a:cubicBezTo>
                      <a:pt x="3300" y="147"/>
                      <a:pt x="3299" y="149"/>
                      <a:pt x="3298" y="150"/>
                    </a:cubicBezTo>
                    <a:close/>
                    <a:moveTo>
                      <a:pt x="3309" y="126"/>
                    </a:moveTo>
                    <a:cubicBezTo>
                      <a:pt x="3308" y="123"/>
                      <a:pt x="3307" y="120"/>
                      <a:pt x="3306" y="117"/>
                    </a:cubicBezTo>
                    <a:cubicBezTo>
                      <a:pt x="3307" y="116"/>
                      <a:pt x="3307" y="115"/>
                      <a:pt x="3307" y="114"/>
                    </a:cubicBezTo>
                    <a:cubicBezTo>
                      <a:pt x="3307" y="116"/>
                      <a:pt x="3308" y="117"/>
                      <a:pt x="3308" y="119"/>
                    </a:cubicBezTo>
                    <a:cubicBezTo>
                      <a:pt x="3309" y="121"/>
                      <a:pt x="3309" y="123"/>
                      <a:pt x="3310" y="125"/>
                    </a:cubicBezTo>
                    <a:cubicBezTo>
                      <a:pt x="3309" y="125"/>
                      <a:pt x="3309" y="125"/>
                      <a:pt x="3309" y="126"/>
                    </a:cubicBezTo>
                    <a:close/>
                    <a:moveTo>
                      <a:pt x="3314" y="142"/>
                    </a:moveTo>
                    <a:cubicBezTo>
                      <a:pt x="3313" y="139"/>
                      <a:pt x="3313" y="136"/>
                      <a:pt x="3312" y="133"/>
                    </a:cubicBezTo>
                    <a:cubicBezTo>
                      <a:pt x="3312" y="133"/>
                      <a:pt x="3312" y="133"/>
                      <a:pt x="3312" y="133"/>
                    </a:cubicBezTo>
                    <a:cubicBezTo>
                      <a:pt x="3313" y="136"/>
                      <a:pt x="3313" y="138"/>
                      <a:pt x="3314" y="141"/>
                    </a:cubicBezTo>
                    <a:cubicBezTo>
                      <a:pt x="3314" y="141"/>
                      <a:pt x="3314" y="141"/>
                      <a:pt x="3314" y="142"/>
                    </a:cubicBezTo>
                    <a:close/>
                    <a:moveTo>
                      <a:pt x="3316" y="148"/>
                    </a:move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ubicBezTo>
                      <a:pt x="3316" y="148"/>
                      <a:pt x="3316" y="148"/>
                      <a:pt x="3316" y="148"/>
                    </a:cubicBezTo>
                    <a:close/>
                    <a:moveTo>
                      <a:pt x="3319" y="141"/>
                    </a:moveTo>
                    <a:cubicBezTo>
                      <a:pt x="3319" y="141"/>
                      <a:pt x="3319" y="141"/>
                      <a:pt x="3319" y="141"/>
                    </a:cubicBezTo>
                    <a:cubicBezTo>
                      <a:pt x="3320" y="137"/>
                      <a:pt x="3321" y="133"/>
                      <a:pt x="3323" y="129"/>
                    </a:cubicBezTo>
                    <a:cubicBezTo>
                      <a:pt x="3323" y="129"/>
                      <a:pt x="3323" y="130"/>
                      <a:pt x="3323" y="131"/>
                    </a:cubicBezTo>
                    <a:cubicBezTo>
                      <a:pt x="3321" y="135"/>
                      <a:pt x="3320" y="138"/>
                      <a:pt x="3319" y="141"/>
                    </a:cubicBezTo>
                    <a:close/>
                    <a:moveTo>
                      <a:pt x="3326" y="122"/>
                    </a:moveTo>
                    <a:cubicBezTo>
                      <a:pt x="3326" y="121"/>
                      <a:pt x="3325" y="120"/>
                      <a:pt x="3325" y="119"/>
                    </a:cubicBezTo>
                    <a:cubicBezTo>
                      <a:pt x="3326" y="117"/>
                      <a:pt x="3326" y="114"/>
                      <a:pt x="3327" y="111"/>
                    </a:cubicBezTo>
                    <a:cubicBezTo>
                      <a:pt x="3328" y="113"/>
                      <a:pt x="3328" y="115"/>
                      <a:pt x="3329" y="117"/>
                    </a:cubicBezTo>
                    <a:cubicBezTo>
                      <a:pt x="3328" y="119"/>
                      <a:pt x="3327" y="121"/>
                      <a:pt x="3326" y="122"/>
                    </a:cubicBezTo>
                    <a:close/>
                    <a:moveTo>
                      <a:pt x="3336" y="147"/>
                    </a:moveTo>
                    <a:cubicBezTo>
                      <a:pt x="3335" y="145"/>
                      <a:pt x="3335" y="144"/>
                      <a:pt x="3334" y="142"/>
                    </a:cubicBezTo>
                    <a:cubicBezTo>
                      <a:pt x="3334" y="140"/>
                      <a:pt x="3333" y="138"/>
                      <a:pt x="3332" y="136"/>
                    </a:cubicBezTo>
                    <a:cubicBezTo>
                      <a:pt x="3332" y="136"/>
                      <a:pt x="3332" y="135"/>
                      <a:pt x="3332" y="134"/>
                    </a:cubicBezTo>
                    <a:cubicBezTo>
                      <a:pt x="3333" y="137"/>
                      <a:pt x="3334" y="139"/>
                      <a:pt x="3334" y="142"/>
                    </a:cubicBezTo>
                    <a:cubicBezTo>
                      <a:pt x="3335" y="144"/>
                      <a:pt x="3335" y="145"/>
                      <a:pt x="3336" y="147"/>
                    </a:cubicBezTo>
                    <a:close/>
                    <a:moveTo>
                      <a:pt x="3339" y="138"/>
                    </a:moveTo>
                    <a:cubicBezTo>
                      <a:pt x="3337" y="133"/>
                      <a:pt x="3336" y="128"/>
                      <a:pt x="3334" y="124"/>
                    </a:cubicBezTo>
                    <a:cubicBezTo>
                      <a:pt x="3334" y="121"/>
                      <a:pt x="3335" y="118"/>
                      <a:pt x="3335" y="116"/>
                    </a:cubicBezTo>
                    <a:cubicBezTo>
                      <a:pt x="3336" y="123"/>
                      <a:pt x="3338" y="129"/>
                      <a:pt x="3340" y="136"/>
                    </a:cubicBezTo>
                    <a:cubicBezTo>
                      <a:pt x="3340" y="137"/>
                      <a:pt x="3339" y="137"/>
                      <a:pt x="3339" y="138"/>
                    </a:cubicBezTo>
                    <a:close/>
                    <a:moveTo>
                      <a:pt x="3336" y="109"/>
                    </a:moveTo>
                    <a:cubicBezTo>
                      <a:pt x="3337" y="103"/>
                      <a:pt x="3339" y="97"/>
                      <a:pt x="3341" y="91"/>
                    </a:cubicBezTo>
                    <a:cubicBezTo>
                      <a:pt x="3343" y="96"/>
                      <a:pt x="3345" y="101"/>
                      <a:pt x="3347" y="106"/>
                    </a:cubicBezTo>
                    <a:cubicBezTo>
                      <a:pt x="3345" y="112"/>
                      <a:pt x="3344" y="120"/>
                      <a:pt x="3342" y="127"/>
                    </a:cubicBezTo>
                    <a:cubicBezTo>
                      <a:pt x="3340" y="121"/>
                      <a:pt x="3338" y="115"/>
                      <a:pt x="3336" y="109"/>
                    </a:cubicBezTo>
                    <a:close/>
                    <a:moveTo>
                      <a:pt x="3343" y="148"/>
                    </a:move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7"/>
                      <a:pt x="3343" y="147"/>
                    </a:cubicBezTo>
                    <a:cubicBezTo>
                      <a:pt x="3343" y="147"/>
                      <a:pt x="3343" y="148"/>
                      <a:pt x="3343" y="148"/>
                    </a:cubicBezTo>
                    <a:close/>
                    <a:moveTo>
                      <a:pt x="3345" y="136"/>
                    </a:moveTo>
                    <a:cubicBezTo>
                      <a:pt x="3347" y="127"/>
                      <a:pt x="3347" y="118"/>
                      <a:pt x="3347" y="109"/>
                    </a:cubicBezTo>
                    <a:cubicBezTo>
                      <a:pt x="3349" y="115"/>
                      <a:pt x="3350" y="121"/>
                      <a:pt x="3351" y="127"/>
                    </a:cubicBezTo>
                    <a:cubicBezTo>
                      <a:pt x="3349" y="131"/>
                      <a:pt x="3348" y="135"/>
                      <a:pt x="3347" y="139"/>
                    </a:cubicBezTo>
                    <a:cubicBezTo>
                      <a:pt x="3346" y="138"/>
                      <a:pt x="3346" y="137"/>
                      <a:pt x="3345" y="136"/>
                    </a:cubicBezTo>
                    <a:close/>
                    <a:moveTo>
                      <a:pt x="3352" y="148"/>
                    </a:moveTo>
                    <a:cubicBezTo>
                      <a:pt x="3351" y="148"/>
                      <a:pt x="3351" y="147"/>
                      <a:pt x="3350" y="146"/>
                    </a:cubicBezTo>
                    <a:cubicBezTo>
                      <a:pt x="3351" y="143"/>
                      <a:pt x="3352" y="140"/>
                      <a:pt x="3352" y="137"/>
                    </a:cubicBezTo>
                    <a:cubicBezTo>
                      <a:pt x="3353" y="140"/>
                      <a:pt x="3353" y="142"/>
                      <a:pt x="3354" y="144"/>
                    </a:cubicBezTo>
                    <a:cubicBezTo>
                      <a:pt x="3353" y="146"/>
                      <a:pt x="3352" y="147"/>
                      <a:pt x="3352" y="148"/>
                    </a:cubicBezTo>
                    <a:close/>
                    <a:moveTo>
                      <a:pt x="3347" y="103"/>
                    </a:moveTo>
                    <a:cubicBezTo>
                      <a:pt x="3347" y="102"/>
                      <a:pt x="3347" y="102"/>
                      <a:pt x="3347" y="102"/>
                    </a:cubicBezTo>
                    <a:cubicBezTo>
                      <a:pt x="3347" y="102"/>
                      <a:pt x="3347" y="103"/>
                      <a:pt x="3347" y="103"/>
                    </a:cubicBezTo>
                    <a:cubicBezTo>
                      <a:pt x="3345" y="98"/>
                      <a:pt x="3343" y="94"/>
                      <a:pt x="3341" y="91"/>
                    </a:cubicBezTo>
                    <a:cubicBezTo>
                      <a:pt x="3342" y="87"/>
                      <a:pt x="3344" y="83"/>
                      <a:pt x="3346" y="80"/>
                    </a:cubicBezTo>
                    <a:cubicBezTo>
                      <a:pt x="3352" y="89"/>
                      <a:pt x="3356" y="99"/>
                      <a:pt x="3358" y="109"/>
                    </a:cubicBezTo>
                    <a:cubicBezTo>
                      <a:pt x="3357" y="112"/>
                      <a:pt x="3355" y="116"/>
                      <a:pt x="3354" y="119"/>
                    </a:cubicBezTo>
                    <a:cubicBezTo>
                      <a:pt x="3352" y="114"/>
                      <a:pt x="3350" y="108"/>
                      <a:pt x="3347" y="103"/>
                    </a:cubicBezTo>
                    <a:close/>
                    <a:moveTo>
                      <a:pt x="3355" y="123"/>
                    </a:moveTo>
                    <a:cubicBezTo>
                      <a:pt x="3356" y="118"/>
                      <a:pt x="3357" y="114"/>
                      <a:pt x="3358" y="110"/>
                    </a:cubicBezTo>
                    <a:cubicBezTo>
                      <a:pt x="3359" y="115"/>
                      <a:pt x="3360" y="120"/>
                      <a:pt x="3361" y="125"/>
                    </a:cubicBezTo>
                    <a:cubicBezTo>
                      <a:pt x="3360" y="128"/>
                      <a:pt x="3359" y="130"/>
                      <a:pt x="3358" y="133"/>
                    </a:cubicBezTo>
                    <a:cubicBezTo>
                      <a:pt x="3357" y="129"/>
                      <a:pt x="3356" y="126"/>
                      <a:pt x="3355" y="123"/>
                    </a:cubicBezTo>
                    <a:close/>
                    <a:moveTo>
                      <a:pt x="3362" y="150"/>
                    </a:moveTo>
                    <a:cubicBezTo>
                      <a:pt x="3362" y="147"/>
                      <a:pt x="3361" y="144"/>
                      <a:pt x="3360" y="140"/>
                    </a:cubicBezTo>
                    <a:cubicBezTo>
                      <a:pt x="3361" y="137"/>
                      <a:pt x="3361" y="135"/>
                      <a:pt x="3361" y="132"/>
                    </a:cubicBezTo>
                    <a:cubicBezTo>
                      <a:pt x="3362" y="137"/>
                      <a:pt x="3362" y="143"/>
                      <a:pt x="3362" y="149"/>
                    </a:cubicBezTo>
                    <a:cubicBezTo>
                      <a:pt x="3362" y="150"/>
                      <a:pt x="3362" y="150"/>
                      <a:pt x="3362" y="150"/>
                    </a:cubicBezTo>
                    <a:close/>
                    <a:moveTo>
                      <a:pt x="3391" y="152"/>
                    </a:moveTo>
                    <a:cubicBezTo>
                      <a:pt x="3391" y="148"/>
                      <a:pt x="3391" y="145"/>
                      <a:pt x="3390" y="141"/>
                    </a:cubicBezTo>
                    <a:cubicBezTo>
                      <a:pt x="3390" y="136"/>
                      <a:pt x="3391" y="131"/>
                      <a:pt x="3391" y="125"/>
                    </a:cubicBezTo>
                    <a:cubicBezTo>
                      <a:pt x="3391" y="134"/>
                      <a:pt x="3391" y="142"/>
                      <a:pt x="3391" y="151"/>
                    </a:cubicBezTo>
                    <a:cubicBezTo>
                      <a:pt x="3391" y="151"/>
                      <a:pt x="3391" y="151"/>
                      <a:pt x="3391" y="152"/>
                    </a:cubicBezTo>
                    <a:close/>
                    <a:moveTo>
                      <a:pt x="3457" y="128"/>
                    </a:moveTo>
                    <a:cubicBezTo>
                      <a:pt x="3457" y="132"/>
                      <a:pt x="3456" y="136"/>
                      <a:pt x="3455" y="140"/>
                    </a:cubicBezTo>
                    <a:cubicBezTo>
                      <a:pt x="3455" y="136"/>
                      <a:pt x="3454" y="133"/>
                      <a:pt x="3453" y="129"/>
                    </a:cubicBezTo>
                    <a:cubicBezTo>
                      <a:pt x="3453" y="126"/>
                      <a:pt x="3453" y="122"/>
                      <a:pt x="3453" y="119"/>
                    </a:cubicBezTo>
                    <a:cubicBezTo>
                      <a:pt x="3453" y="112"/>
                      <a:pt x="3454" y="104"/>
                      <a:pt x="3455" y="97"/>
                    </a:cubicBezTo>
                    <a:cubicBezTo>
                      <a:pt x="3456" y="102"/>
                      <a:pt x="3457" y="107"/>
                      <a:pt x="3457" y="111"/>
                    </a:cubicBezTo>
                    <a:cubicBezTo>
                      <a:pt x="3457" y="122"/>
                      <a:pt x="3457" y="122"/>
                      <a:pt x="3457" y="122"/>
                    </a:cubicBezTo>
                    <a:cubicBezTo>
                      <a:pt x="3457" y="124"/>
                      <a:pt x="3457" y="126"/>
                      <a:pt x="3457" y="128"/>
                    </a:cubicBezTo>
                    <a:close/>
                    <a:moveTo>
                      <a:pt x="3465" y="151"/>
                    </a:move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52"/>
                      <a:pt x="3465" y="152"/>
                      <a:pt x="3465" y="152"/>
                    </a:cubicBezTo>
                    <a:cubicBezTo>
                      <a:pt x="3465" y="136"/>
                      <a:pt x="3465" y="123"/>
                      <a:pt x="3464" y="109"/>
                    </a:cubicBezTo>
                    <a:cubicBezTo>
                      <a:pt x="3464" y="104"/>
                      <a:pt x="3465" y="99"/>
                      <a:pt x="3466" y="93"/>
                    </a:cubicBezTo>
                    <a:cubicBezTo>
                      <a:pt x="3467" y="99"/>
                      <a:pt x="3467" y="105"/>
                      <a:pt x="3467" y="110"/>
                    </a:cubicBezTo>
                    <a:cubicBezTo>
                      <a:pt x="3467" y="124"/>
                      <a:pt x="3465" y="138"/>
                      <a:pt x="3465" y="151"/>
                    </a:cubicBezTo>
                    <a:close/>
                    <a:moveTo>
                      <a:pt x="3492" y="110"/>
                    </a:moveTo>
                    <a:cubicBezTo>
                      <a:pt x="3492" y="109"/>
                      <a:pt x="3492" y="107"/>
                      <a:pt x="3492" y="106"/>
                    </a:cubicBezTo>
                    <a:cubicBezTo>
                      <a:pt x="3492" y="110"/>
                      <a:pt x="3493" y="113"/>
                      <a:pt x="3492" y="116"/>
                    </a:cubicBezTo>
                    <a:cubicBezTo>
                      <a:pt x="3492" y="114"/>
                      <a:pt x="3492" y="112"/>
                      <a:pt x="3492" y="110"/>
                    </a:cubicBezTo>
                    <a:close/>
                    <a:moveTo>
                      <a:pt x="3518" y="120"/>
                    </a:moveTo>
                    <a:cubicBezTo>
                      <a:pt x="3516" y="114"/>
                      <a:pt x="3515" y="109"/>
                      <a:pt x="3515" y="104"/>
                    </a:cubicBezTo>
                    <a:cubicBezTo>
                      <a:pt x="3515" y="102"/>
                      <a:pt x="3515" y="98"/>
                      <a:pt x="3517" y="93"/>
                    </a:cubicBezTo>
                    <a:cubicBezTo>
                      <a:pt x="3518" y="100"/>
                      <a:pt x="3518" y="107"/>
                      <a:pt x="3518" y="112"/>
                    </a:cubicBezTo>
                    <a:cubicBezTo>
                      <a:pt x="3518" y="115"/>
                      <a:pt x="3518" y="117"/>
                      <a:pt x="3518" y="120"/>
                    </a:cubicBezTo>
                    <a:close/>
                    <a:moveTo>
                      <a:pt x="3528" y="145"/>
                    </a:moveTo>
                    <a:cubicBezTo>
                      <a:pt x="3528" y="145"/>
                      <a:pt x="3528" y="144"/>
                      <a:pt x="3528" y="144"/>
                    </a:cubicBezTo>
                    <a:cubicBezTo>
                      <a:pt x="3528" y="139"/>
                      <a:pt x="3528" y="134"/>
                      <a:pt x="3528" y="129"/>
                    </a:cubicBezTo>
                    <a:cubicBezTo>
                      <a:pt x="3529" y="132"/>
                      <a:pt x="3529" y="134"/>
                      <a:pt x="3529" y="137"/>
                    </a:cubicBezTo>
                    <a:cubicBezTo>
                      <a:pt x="3529" y="140"/>
                      <a:pt x="3528" y="142"/>
                      <a:pt x="3528" y="145"/>
                    </a:cubicBezTo>
                    <a:close/>
                    <a:moveTo>
                      <a:pt x="3539" y="145"/>
                    </a:moveTo>
                    <a:cubicBezTo>
                      <a:pt x="3539" y="144"/>
                      <a:pt x="3538" y="143"/>
                      <a:pt x="3538" y="143"/>
                    </a:cubicBezTo>
                    <a:cubicBezTo>
                      <a:pt x="3538" y="142"/>
                      <a:pt x="3538" y="141"/>
                      <a:pt x="3538" y="140"/>
                    </a:cubicBezTo>
                    <a:cubicBezTo>
                      <a:pt x="3539" y="141"/>
                      <a:pt x="3539" y="142"/>
                      <a:pt x="3539" y="143"/>
                    </a:cubicBezTo>
                    <a:cubicBezTo>
                      <a:pt x="3539" y="143"/>
                      <a:pt x="3539" y="144"/>
                      <a:pt x="3539" y="145"/>
                    </a:cubicBezTo>
                    <a:close/>
                    <a:moveTo>
                      <a:pt x="3540" y="138"/>
                    </a:moveTo>
                    <a:cubicBezTo>
                      <a:pt x="3540" y="136"/>
                      <a:pt x="3539" y="135"/>
                      <a:pt x="3539" y="133"/>
                    </a:cubicBezTo>
                    <a:cubicBezTo>
                      <a:pt x="3539" y="129"/>
                      <a:pt x="3539" y="124"/>
                      <a:pt x="3539" y="119"/>
                    </a:cubicBezTo>
                    <a:cubicBezTo>
                      <a:pt x="3540" y="124"/>
                      <a:pt x="3541" y="129"/>
                      <a:pt x="3542" y="134"/>
                    </a:cubicBezTo>
                    <a:cubicBezTo>
                      <a:pt x="3541" y="135"/>
                      <a:pt x="3541" y="137"/>
                      <a:pt x="3540" y="138"/>
                    </a:cubicBezTo>
                    <a:close/>
                    <a:moveTo>
                      <a:pt x="3545" y="154"/>
                    </a:moveTo>
                    <a:cubicBezTo>
                      <a:pt x="3545" y="153"/>
                      <a:pt x="3545" y="152"/>
                      <a:pt x="3545" y="151"/>
                    </a:cubicBezTo>
                    <a:cubicBezTo>
                      <a:pt x="3545" y="151"/>
                      <a:pt x="3545" y="150"/>
                      <a:pt x="3545" y="150"/>
                    </a:cubicBezTo>
                    <a:cubicBezTo>
                      <a:pt x="3545" y="151"/>
                      <a:pt x="3545" y="152"/>
                      <a:pt x="3545" y="154"/>
                    </a:cubicBezTo>
                    <a:close/>
                    <a:moveTo>
                      <a:pt x="3551" y="139"/>
                    </a:moveTo>
                    <a:cubicBezTo>
                      <a:pt x="3550" y="136"/>
                      <a:pt x="3549" y="134"/>
                      <a:pt x="3548" y="132"/>
                    </a:cubicBezTo>
                    <a:cubicBezTo>
                      <a:pt x="3549" y="129"/>
                      <a:pt x="3550" y="127"/>
                      <a:pt x="3551" y="125"/>
                    </a:cubicBezTo>
                    <a:cubicBezTo>
                      <a:pt x="3551" y="128"/>
                      <a:pt x="3552" y="131"/>
                      <a:pt x="3553" y="134"/>
                    </a:cubicBezTo>
                    <a:cubicBezTo>
                      <a:pt x="3552" y="136"/>
                      <a:pt x="3552" y="137"/>
                      <a:pt x="3551" y="139"/>
                    </a:cubicBezTo>
                    <a:close/>
                    <a:moveTo>
                      <a:pt x="3571" y="114"/>
                    </a:moveTo>
                    <a:cubicBezTo>
                      <a:pt x="3570" y="108"/>
                      <a:pt x="3569" y="101"/>
                      <a:pt x="3569" y="95"/>
                    </a:cubicBezTo>
                    <a:cubicBezTo>
                      <a:pt x="3569" y="88"/>
                      <a:pt x="3570" y="81"/>
                      <a:pt x="3571" y="75"/>
                    </a:cubicBezTo>
                    <a:cubicBezTo>
                      <a:pt x="3573" y="81"/>
                      <a:pt x="3573" y="88"/>
                      <a:pt x="3573" y="95"/>
                    </a:cubicBezTo>
                    <a:cubicBezTo>
                      <a:pt x="3573" y="101"/>
                      <a:pt x="3572" y="108"/>
                      <a:pt x="3571" y="114"/>
                    </a:cubicBezTo>
                    <a:close/>
                    <a:moveTo>
                      <a:pt x="3591" y="139"/>
                    </a:moveTo>
                    <a:cubicBezTo>
                      <a:pt x="3591" y="137"/>
                      <a:pt x="3590" y="136"/>
                      <a:pt x="3590" y="134"/>
                    </a:cubicBezTo>
                    <a:cubicBezTo>
                      <a:pt x="3590" y="131"/>
                      <a:pt x="3591" y="128"/>
                      <a:pt x="3592" y="125"/>
                    </a:cubicBezTo>
                    <a:cubicBezTo>
                      <a:pt x="3592" y="127"/>
                      <a:pt x="3593" y="129"/>
                      <a:pt x="3594" y="132"/>
                    </a:cubicBezTo>
                    <a:cubicBezTo>
                      <a:pt x="3593" y="134"/>
                      <a:pt x="3592" y="136"/>
                      <a:pt x="3591" y="139"/>
                    </a:cubicBezTo>
                    <a:close/>
                    <a:moveTo>
                      <a:pt x="3597" y="154"/>
                    </a:moveTo>
                    <a:cubicBezTo>
                      <a:pt x="3597" y="154"/>
                      <a:pt x="3597" y="154"/>
                      <a:pt x="3597" y="154"/>
                    </a:cubicBezTo>
                    <a:cubicBezTo>
                      <a:pt x="3597" y="152"/>
                      <a:pt x="3597" y="151"/>
                      <a:pt x="3598" y="150"/>
                    </a:cubicBezTo>
                    <a:cubicBezTo>
                      <a:pt x="3598" y="150"/>
                      <a:pt x="3598" y="151"/>
                      <a:pt x="3598" y="151"/>
                    </a:cubicBezTo>
                    <a:cubicBezTo>
                      <a:pt x="3597" y="152"/>
                      <a:pt x="3597" y="153"/>
                      <a:pt x="3597" y="154"/>
                    </a:cubicBezTo>
                    <a:close/>
                    <a:moveTo>
                      <a:pt x="3603" y="119"/>
                    </a:move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20"/>
                    </a:cubicBezTo>
                    <a:cubicBezTo>
                      <a:pt x="3603" y="120"/>
                      <a:pt x="3603" y="120"/>
                      <a:pt x="3603" y="119"/>
                    </a:cubicBezTo>
                    <a:close/>
                    <a:moveTo>
                      <a:pt x="3602" y="138"/>
                    </a:moveTo>
                    <a:cubicBezTo>
                      <a:pt x="3601" y="137"/>
                      <a:pt x="3601" y="135"/>
                      <a:pt x="3601" y="134"/>
                    </a:cubicBezTo>
                    <a:cubicBezTo>
                      <a:pt x="3601" y="134"/>
                      <a:pt x="3601" y="134"/>
                      <a:pt x="3601" y="134"/>
                    </a:cubicBezTo>
                    <a:cubicBezTo>
                      <a:pt x="3601" y="134"/>
                      <a:pt x="3602" y="135"/>
                      <a:pt x="3602" y="137"/>
                    </a:cubicBezTo>
                    <a:cubicBezTo>
                      <a:pt x="3602" y="137"/>
                      <a:pt x="3602" y="138"/>
                      <a:pt x="3602" y="138"/>
                    </a:cubicBezTo>
                    <a:close/>
                    <a:moveTo>
                      <a:pt x="3601" y="133"/>
                    </a:moveTo>
                    <a:cubicBezTo>
                      <a:pt x="3601" y="132"/>
                      <a:pt x="3601" y="131"/>
                      <a:pt x="3601" y="130"/>
                    </a:cubicBezTo>
                    <a:cubicBezTo>
                      <a:pt x="3602" y="131"/>
                      <a:pt x="3603" y="133"/>
                      <a:pt x="3603" y="134"/>
                    </a:cubicBezTo>
                    <a:cubicBezTo>
                      <a:pt x="3603" y="135"/>
                      <a:pt x="3603" y="135"/>
                      <a:pt x="3603" y="136"/>
                    </a:cubicBezTo>
                    <a:cubicBezTo>
                      <a:pt x="3602" y="134"/>
                      <a:pt x="3601" y="133"/>
                      <a:pt x="3601" y="133"/>
                    </a:cubicBezTo>
                    <a:close/>
                    <a:moveTo>
                      <a:pt x="3604" y="145"/>
                    </a:moveTo>
                    <a:cubicBezTo>
                      <a:pt x="3603" y="144"/>
                      <a:pt x="3603" y="143"/>
                      <a:pt x="3603" y="143"/>
                    </a:cubicBezTo>
                    <a:cubicBezTo>
                      <a:pt x="3603" y="142"/>
                      <a:pt x="3604" y="141"/>
                      <a:pt x="3604" y="140"/>
                    </a:cubicBezTo>
                    <a:cubicBezTo>
                      <a:pt x="3604" y="140"/>
                      <a:pt x="3604" y="140"/>
                      <a:pt x="3604" y="140"/>
                    </a:cubicBezTo>
                    <a:cubicBezTo>
                      <a:pt x="3604" y="141"/>
                      <a:pt x="3604" y="142"/>
                      <a:pt x="3604" y="143"/>
                    </a:cubicBezTo>
                    <a:cubicBezTo>
                      <a:pt x="3604" y="143"/>
                      <a:pt x="3604" y="144"/>
                      <a:pt x="3604" y="145"/>
                    </a:cubicBezTo>
                    <a:close/>
                    <a:moveTo>
                      <a:pt x="3614" y="134"/>
                    </a:moveTo>
                    <a:cubicBezTo>
                      <a:pt x="3614" y="134"/>
                      <a:pt x="3614" y="133"/>
                      <a:pt x="3614" y="133"/>
                    </a:cubicBezTo>
                    <a:cubicBezTo>
                      <a:pt x="3614" y="132"/>
                      <a:pt x="3614" y="130"/>
                      <a:pt x="3614" y="129"/>
                    </a:cubicBezTo>
                    <a:cubicBezTo>
                      <a:pt x="3614" y="130"/>
                      <a:pt x="3614" y="132"/>
                      <a:pt x="3614" y="134"/>
                    </a:cubicBezTo>
                    <a:close/>
                    <a:moveTo>
                      <a:pt x="3624" y="120"/>
                    </a:moveTo>
                    <a:cubicBezTo>
                      <a:pt x="3624" y="117"/>
                      <a:pt x="3624" y="115"/>
                      <a:pt x="3624" y="112"/>
                    </a:cubicBezTo>
                    <a:cubicBezTo>
                      <a:pt x="3624" y="111"/>
                      <a:pt x="3624" y="111"/>
                      <a:pt x="3624" y="110"/>
                    </a:cubicBezTo>
                    <a:cubicBezTo>
                      <a:pt x="3624" y="113"/>
                      <a:pt x="3624" y="116"/>
                      <a:pt x="3625" y="119"/>
                    </a:cubicBezTo>
                    <a:cubicBezTo>
                      <a:pt x="3625" y="119"/>
                      <a:pt x="3624" y="120"/>
                      <a:pt x="3624" y="120"/>
                    </a:cubicBezTo>
                    <a:close/>
                    <a:moveTo>
                      <a:pt x="3626" y="115"/>
                    </a:moveTo>
                    <a:cubicBezTo>
                      <a:pt x="3625" y="112"/>
                      <a:pt x="3625" y="108"/>
                      <a:pt x="3624" y="104"/>
                    </a:cubicBezTo>
                    <a:cubicBezTo>
                      <a:pt x="3625" y="101"/>
                      <a:pt x="3625" y="97"/>
                      <a:pt x="3626" y="93"/>
                    </a:cubicBezTo>
                    <a:cubicBezTo>
                      <a:pt x="3627" y="98"/>
                      <a:pt x="3627" y="102"/>
                      <a:pt x="3627" y="104"/>
                    </a:cubicBezTo>
                    <a:cubicBezTo>
                      <a:pt x="3627" y="108"/>
                      <a:pt x="3627" y="111"/>
                      <a:pt x="3626" y="115"/>
                    </a:cubicBezTo>
                    <a:close/>
                    <a:moveTo>
                      <a:pt x="3631" y="102"/>
                    </a:moveTo>
                    <a:cubicBezTo>
                      <a:pt x="3631" y="102"/>
                      <a:pt x="3631" y="102"/>
                      <a:pt x="3630" y="103"/>
                    </a:cubicBezTo>
                    <a:cubicBezTo>
                      <a:pt x="3630" y="99"/>
                      <a:pt x="3629" y="94"/>
                      <a:pt x="3626" y="90"/>
                    </a:cubicBezTo>
                    <a:cubicBezTo>
                      <a:pt x="3628" y="84"/>
                      <a:pt x="3630" y="78"/>
                      <a:pt x="3632" y="73"/>
                    </a:cubicBezTo>
                    <a:cubicBezTo>
                      <a:pt x="3631" y="83"/>
                      <a:pt x="3631" y="93"/>
                      <a:pt x="3631" y="102"/>
                    </a:cubicBezTo>
                    <a:close/>
                    <a:moveTo>
                      <a:pt x="3637" y="110"/>
                    </a:moveTo>
                    <a:cubicBezTo>
                      <a:pt x="3637" y="111"/>
                      <a:pt x="3637" y="111"/>
                      <a:pt x="3637" y="111"/>
                    </a:cubicBezTo>
                    <a:cubicBezTo>
                      <a:pt x="3637" y="114"/>
                      <a:pt x="3636" y="116"/>
                      <a:pt x="3636" y="119"/>
                    </a:cubicBezTo>
                    <a:cubicBezTo>
                      <a:pt x="3635" y="114"/>
                      <a:pt x="3635" y="108"/>
                      <a:pt x="3635" y="103"/>
                    </a:cubicBezTo>
                    <a:cubicBezTo>
                      <a:pt x="3635" y="97"/>
                      <a:pt x="3635" y="91"/>
                      <a:pt x="3637" y="85"/>
                    </a:cubicBezTo>
                    <a:cubicBezTo>
                      <a:pt x="3636" y="87"/>
                      <a:pt x="3635" y="89"/>
                      <a:pt x="3634" y="92"/>
                    </a:cubicBezTo>
                    <a:cubicBezTo>
                      <a:pt x="3634" y="87"/>
                      <a:pt x="3634" y="82"/>
                      <a:pt x="3635" y="77"/>
                    </a:cubicBezTo>
                    <a:cubicBezTo>
                      <a:pt x="3637" y="83"/>
                      <a:pt x="3638" y="90"/>
                      <a:pt x="3638" y="96"/>
                    </a:cubicBezTo>
                    <a:cubicBezTo>
                      <a:pt x="3638" y="101"/>
                      <a:pt x="3638" y="106"/>
                      <a:pt x="3637" y="110"/>
                    </a:cubicBezTo>
                    <a:close/>
                    <a:moveTo>
                      <a:pt x="3643" y="127"/>
                    </a:moveTo>
                    <a:cubicBezTo>
                      <a:pt x="3642" y="132"/>
                      <a:pt x="3642" y="134"/>
                      <a:pt x="3642" y="134"/>
                    </a:cubicBezTo>
                    <a:cubicBezTo>
                      <a:pt x="3642" y="129"/>
                      <a:pt x="3643" y="125"/>
                      <a:pt x="3643" y="120"/>
                    </a:cubicBezTo>
                    <a:cubicBezTo>
                      <a:pt x="3643" y="123"/>
                      <a:pt x="3643" y="125"/>
                      <a:pt x="3643" y="127"/>
                    </a:cubicBezTo>
                    <a:close/>
                    <a:moveTo>
                      <a:pt x="3675" y="92"/>
                    </a:moveTo>
                    <a:cubicBezTo>
                      <a:pt x="3675" y="91"/>
                      <a:pt x="3675" y="90"/>
                      <a:pt x="3675" y="89"/>
                    </a:cubicBezTo>
                    <a:cubicBezTo>
                      <a:pt x="3675" y="89"/>
                      <a:pt x="3675" y="90"/>
                      <a:pt x="3675" y="91"/>
                    </a:cubicBezTo>
                    <a:cubicBezTo>
                      <a:pt x="3675" y="91"/>
                      <a:pt x="3675" y="92"/>
                      <a:pt x="3675" y="92"/>
                    </a:cubicBezTo>
                    <a:close/>
                    <a:moveTo>
                      <a:pt x="3677" y="130"/>
                    </a:moveTo>
                    <a:cubicBezTo>
                      <a:pt x="3677" y="132"/>
                      <a:pt x="3677" y="134"/>
                      <a:pt x="3677" y="136"/>
                    </a:cubicBezTo>
                    <a:cubicBezTo>
                      <a:pt x="3676" y="127"/>
                      <a:pt x="3675" y="119"/>
                      <a:pt x="3675" y="110"/>
                    </a:cubicBezTo>
                    <a:cubicBezTo>
                      <a:pt x="3675" y="105"/>
                      <a:pt x="3675" y="99"/>
                      <a:pt x="3676" y="93"/>
                    </a:cubicBezTo>
                    <a:cubicBezTo>
                      <a:pt x="3677" y="99"/>
                      <a:pt x="3678" y="104"/>
                      <a:pt x="3679" y="109"/>
                    </a:cubicBezTo>
                    <a:cubicBezTo>
                      <a:pt x="3678" y="116"/>
                      <a:pt x="3678" y="123"/>
                      <a:pt x="3677" y="130"/>
                    </a:cubicBezTo>
                    <a:close/>
                    <a:moveTo>
                      <a:pt x="3687" y="140"/>
                    </a:moveTo>
                    <a:cubicBezTo>
                      <a:pt x="3687" y="140"/>
                      <a:pt x="3687" y="139"/>
                      <a:pt x="3687" y="139"/>
                    </a:cubicBezTo>
                    <a:cubicBezTo>
                      <a:pt x="3688" y="100"/>
                      <a:pt x="3688" y="100"/>
                      <a:pt x="3688" y="100"/>
                    </a:cubicBezTo>
                    <a:cubicBezTo>
                      <a:pt x="3688" y="106"/>
                      <a:pt x="3689" y="113"/>
                      <a:pt x="3689" y="119"/>
                    </a:cubicBezTo>
                    <a:cubicBezTo>
                      <a:pt x="3689" y="122"/>
                      <a:pt x="3689" y="126"/>
                      <a:pt x="3689" y="129"/>
                    </a:cubicBezTo>
                    <a:cubicBezTo>
                      <a:pt x="3688" y="133"/>
                      <a:pt x="3688" y="136"/>
                      <a:pt x="3687" y="140"/>
                    </a:cubicBezTo>
                    <a:close/>
                    <a:moveTo>
                      <a:pt x="3708" y="105"/>
                    </a:moveTo>
                    <a:cubicBezTo>
                      <a:pt x="3708" y="104"/>
                      <a:pt x="3708" y="102"/>
                      <a:pt x="3708" y="101"/>
                    </a:cubicBezTo>
                    <a:cubicBezTo>
                      <a:pt x="3708" y="102"/>
                      <a:pt x="3709" y="103"/>
                      <a:pt x="3709" y="103"/>
                    </a:cubicBezTo>
                    <a:cubicBezTo>
                      <a:pt x="3708" y="104"/>
                      <a:pt x="3708" y="105"/>
                      <a:pt x="3708" y="105"/>
                    </a:cubicBezTo>
                    <a:close/>
                    <a:moveTo>
                      <a:pt x="3731" y="101"/>
                    </a:moveTo>
                    <a:cubicBezTo>
                      <a:pt x="3730" y="101"/>
                      <a:pt x="3730" y="101"/>
                      <a:pt x="3730" y="100"/>
                    </a:cubicBezTo>
                    <a:cubicBezTo>
                      <a:pt x="3730" y="101"/>
                      <a:pt x="3730" y="101"/>
                      <a:pt x="3731" y="101"/>
                    </a:cubicBezTo>
                    <a:cubicBezTo>
                      <a:pt x="3730" y="111"/>
                      <a:pt x="3729" y="119"/>
                      <a:pt x="3728" y="126"/>
                    </a:cubicBezTo>
                    <a:cubicBezTo>
                      <a:pt x="3727" y="122"/>
                      <a:pt x="3727" y="118"/>
                      <a:pt x="3726" y="114"/>
                    </a:cubicBezTo>
                    <a:cubicBezTo>
                      <a:pt x="3726" y="109"/>
                      <a:pt x="3726" y="103"/>
                      <a:pt x="3726" y="98"/>
                    </a:cubicBezTo>
                    <a:cubicBezTo>
                      <a:pt x="3727" y="92"/>
                      <a:pt x="3729" y="87"/>
                      <a:pt x="3732" y="82"/>
                    </a:cubicBezTo>
                    <a:cubicBezTo>
                      <a:pt x="3731" y="89"/>
                      <a:pt x="3731" y="95"/>
                      <a:pt x="3731" y="101"/>
                    </a:cubicBezTo>
                    <a:close/>
                    <a:moveTo>
                      <a:pt x="3740" y="117"/>
                    </a:moveTo>
                    <a:cubicBezTo>
                      <a:pt x="3740" y="114"/>
                      <a:pt x="3740" y="110"/>
                      <a:pt x="3740" y="106"/>
                    </a:cubicBezTo>
                    <a:cubicBezTo>
                      <a:pt x="3740" y="99"/>
                      <a:pt x="3740" y="90"/>
                      <a:pt x="3743" y="83"/>
                    </a:cubicBezTo>
                    <a:cubicBezTo>
                      <a:pt x="3742" y="95"/>
                      <a:pt x="3741" y="107"/>
                      <a:pt x="3740" y="117"/>
                    </a:cubicBezTo>
                    <a:close/>
                    <a:moveTo>
                      <a:pt x="3746" y="108"/>
                    </a:moveTo>
                    <a:cubicBezTo>
                      <a:pt x="3746" y="106"/>
                      <a:pt x="3746" y="104"/>
                      <a:pt x="3746" y="102"/>
                    </a:cubicBezTo>
                    <a:cubicBezTo>
                      <a:pt x="3747" y="102"/>
                      <a:pt x="3747" y="102"/>
                      <a:pt x="3747" y="103"/>
                    </a:cubicBezTo>
                    <a:cubicBezTo>
                      <a:pt x="3747" y="104"/>
                      <a:pt x="3746" y="106"/>
                      <a:pt x="3746" y="108"/>
                    </a:cubicBezTo>
                    <a:close/>
                    <a:moveTo>
                      <a:pt x="3752" y="111"/>
                    </a:moveTo>
                    <a:cubicBezTo>
                      <a:pt x="3752" y="103"/>
                      <a:pt x="3755" y="95"/>
                      <a:pt x="3757" y="87"/>
                    </a:cubicBezTo>
                    <a:cubicBezTo>
                      <a:pt x="3756" y="95"/>
                      <a:pt x="3754" y="104"/>
                      <a:pt x="3752" y="113"/>
                    </a:cubicBezTo>
                    <a:cubicBezTo>
                      <a:pt x="3752" y="112"/>
                      <a:pt x="3752" y="112"/>
                      <a:pt x="3752" y="111"/>
                    </a:cubicBezTo>
                    <a:close/>
                    <a:moveTo>
                      <a:pt x="3776" y="110"/>
                    </a:moveTo>
                    <a:cubicBezTo>
                      <a:pt x="3776" y="109"/>
                      <a:pt x="3776" y="108"/>
                      <a:pt x="3776" y="107"/>
                    </a:cubicBezTo>
                    <a:cubicBezTo>
                      <a:pt x="3776" y="107"/>
                      <a:pt x="3776" y="108"/>
                      <a:pt x="3776" y="108"/>
                    </a:cubicBezTo>
                    <a:cubicBezTo>
                      <a:pt x="3776" y="109"/>
                      <a:pt x="3776" y="109"/>
                      <a:pt x="3776" y="110"/>
                    </a:cubicBezTo>
                    <a:close/>
                    <a:moveTo>
                      <a:pt x="3787" y="125"/>
                    </a:moveTo>
                    <a:cubicBezTo>
                      <a:pt x="3787" y="123"/>
                      <a:pt x="3787" y="122"/>
                      <a:pt x="3787" y="120"/>
                    </a:cubicBezTo>
                    <a:cubicBezTo>
                      <a:pt x="3787" y="121"/>
                      <a:pt x="3787" y="122"/>
                      <a:pt x="3787" y="123"/>
                    </a:cubicBezTo>
                    <a:cubicBezTo>
                      <a:pt x="3787" y="123"/>
                      <a:pt x="3787" y="124"/>
                      <a:pt x="3787" y="125"/>
                    </a:cubicBezTo>
                    <a:close/>
                    <a:moveTo>
                      <a:pt x="3790" y="115"/>
                    </a:moveTo>
                    <a:cubicBezTo>
                      <a:pt x="3789" y="117"/>
                      <a:pt x="3789" y="118"/>
                      <a:pt x="3788" y="119"/>
                    </a:cubicBezTo>
                    <a:cubicBezTo>
                      <a:pt x="3788" y="118"/>
                      <a:pt x="3787" y="116"/>
                      <a:pt x="3787" y="114"/>
                    </a:cubicBezTo>
                    <a:cubicBezTo>
                      <a:pt x="3787" y="110"/>
                      <a:pt x="3787" y="105"/>
                      <a:pt x="3787" y="100"/>
                    </a:cubicBezTo>
                    <a:cubicBezTo>
                      <a:pt x="3788" y="94"/>
                      <a:pt x="3791" y="89"/>
                      <a:pt x="3794" y="84"/>
                    </a:cubicBezTo>
                    <a:cubicBezTo>
                      <a:pt x="3793" y="93"/>
                      <a:pt x="3791" y="105"/>
                      <a:pt x="3790" y="115"/>
                    </a:cubicBezTo>
                    <a:close/>
                    <a:moveTo>
                      <a:pt x="3797" y="90"/>
                    </a:moveTo>
                    <a:cubicBezTo>
                      <a:pt x="3797" y="88"/>
                      <a:pt x="3796" y="84"/>
                      <a:pt x="3796" y="80"/>
                    </a:cubicBezTo>
                    <a:cubicBezTo>
                      <a:pt x="3796" y="80"/>
                      <a:pt x="3796" y="80"/>
                      <a:pt x="3796" y="80"/>
                    </a:cubicBezTo>
                    <a:cubicBezTo>
                      <a:pt x="3797" y="81"/>
                      <a:pt x="3798" y="83"/>
                      <a:pt x="3798" y="84"/>
                    </a:cubicBezTo>
                    <a:cubicBezTo>
                      <a:pt x="3798" y="88"/>
                      <a:pt x="3797" y="90"/>
                      <a:pt x="3797" y="90"/>
                    </a:cubicBezTo>
                    <a:close/>
                    <a:moveTo>
                      <a:pt x="3799" y="83"/>
                    </a:moveTo>
                    <a:cubicBezTo>
                      <a:pt x="3798" y="81"/>
                      <a:pt x="3797" y="80"/>
                      <a:pt x="3796" y="79"/>
                    </a:cubicBezTo>
                    <a:cubicBezTo>
                      <a:pt x="3797" y="78"/>
                      <a:pt x="3798" y="76"/>
                      <a:pt x="3800" y="75"/>
                    </a:cubicBezTo>
                    <a:cubicBezTo>
                      <a:pt x="3799" y="78"/>
                      <a:pt x="3799" y="81"/>
                      <a:pt x="3799" y="83"/>
                    </a:cubicBezTo>
                    <a:close/>
                    <a:moveTo>
                      <a:pt x="3805" y="104"/>
                    </a:moveTo>
                    <a:cubicBezTo>
                      <a:pt x="3806" y="105"/>
                      <a:pt x="3806" y="107"/>
                      <a:pt x="3806" y="109"/>
                    </a:cubicBezTo>
                    <a:cubicBezTo>
                      <a:pt x="3806" y="111"/>
                      <a:pt x="3805" y="112"/>
                      <a:pt x="3805" y="114"/>
                    </a:cubicBezTo>
                    <a:cubicBezTo>
                      <a:pt x="3805" y="110"/>
                      <a:pt x="3805" y="107"/>
                      <a:pt x="3805" y="104"/>
                    </a:cubicBezTo>
                    <a:close/>
                    <a:moveTo>
                      <a:pt x="3801" y="91"/>
                    </a:move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lose/>
                    <a:moveTo>
                      <a:pt x="3801" y="124"/>
                    </a:moveTo>
                    <a:cubicBezTo>
                      <a:pt x="3802" y="114"/>
                      <a:pt x="3802" y="102"/>
                      <a:pt x="3801" y="91"/>
                    </a:cubicBezTo>
                    <a:cubicBezTo>
                      <a:pt x="3801" y="91"/>
                      <a:pt x="3801" y="91"/>
                      <a:pt x="3801" y="91"/>
                    </a:cubicBezTo>
                    <a:cubicBezTo>
                      <a:pt x="3803" y="94"/>
                      <a:pt x="3804" y="98"/>
                      <a:pt x="3805" y="101"/>
                    </a:cubicBezTo>
                    <a:cubicBezTo>
                      <a:pt x="3803" y="120"/>
                      <a:pt x="3803" y="120"/>
                      <a:pt x="3803" y="120"/>
                    </a:cubicBezTo>
                    <a:cubicBezTo>
                      <a:pt x="3802" y="121"/>
                      <a:pt x="3802" y="122"/>
                      <a:pt x="3801" y="124"/>
                    </a:cubicBezTo>
                    <a:close/>
                    <a:moveTo>
                      <a:pt x="3804" y="136"/>
                    </a:moveTo>
                    <a:cubicBezTo>
                      <a:pt x="3804" y="134"/>
                      <a:pt x="3804" y="133"/>
                      <a:pt x="3804" y="131"/>
                    </a:cubicBezTo>
                    <a:cubicBezTo>
                      <a:pt x="3805" y="126"/>
                      <a:pt x="3806" y="121"/>
                      <a:pt x="3807" y="116"/>
                    </a:cubicBezTo>
                    <a:cubicBezTo>
                      <a:pt x="3808" y="118"/>
                      <a:pt x="3808" y="121"/>
                      <a:pt x="3808" y="123"/>
                    </a:cubicBezTo>
                    <a:cubicBezTo>
                      <a:pt x="3808" y="124"/>
                      <a:pt x="3808" y="124"/>
                      <a:pt x="3808" y="124"/>
                    </a:cubicBezTo>
                    <a:cubicBezTo>
                      <a:pt x="3807" y="128"/>
                      <a:pt x="3805" y="132"/>
                      <a:pt x="3804" y="136"/>
                    </a:cubicBezTo>
                    <a:close/>
                    <a:moveTo>
                      <a:pt x="3808" y="141"/>
                    </a:moveTo>
                    <a:cubicBezTo>
                      <a:pt x="3808" y="141"/>
                      <a:pt x="3808" y="141"/>
                      <a:pt x="3808" y="141"/>
                    </a:cubicBezTo>
                    <a:cubicBezTo>
                      <a:pt x="3809" y="139"/>
                      <a:pt x="3809" y="137"/>
                      <a:pt x="3810" y="135"/>
                    </a:cubicBezTo>
                    <a:cubicBezTo>
                      <a:pt x="3810" y="135"/>
                      <a:pt x="3810" y="135"/>
                      <a:pt x="3810" y="135"/>
                    </a:cubicBezTo>
                    <a:cubicBezTo>
                      <a:pt x="3810" y="137"/>
                      <a:pt x="3809" y="139"/>
                      <a:pt x="3808" y="141"/>
                    </a:cubicBezTo>
                    <a:close/>
                    <a:moveTo>
                      <a:pt x="3815" y="119"/>
                    </a:moveTo>
                    <a:cubicBezTo>
                      <a:pt x="3814" y="119"/>
                      <a:pt x="3814" y="118"/>
                      <a:pt x="3814" y="118"/>
                    </a:cubicBezTo>
                    <a:cubicBezTo>
                      <a:pt x="3814" y="116"/>
                      <a:pt x="3815" y="115"/>
                      <a:pt x="3815" y="113"/>
                    </a:cubicBezTo>
                    <a:cubicBezTo>
                      <a:pt x="3815" y="112"/>
                      <a:pt x="3815" y="112"/>
                      <a:pt x="3815" y="111"/>
                    </a:cubicBezTo>
                    <a:cubicBezTo>
                      <a:pt x="3816" y="112"/>
                      <a:pt x="3816" y="113"/>
                      <a:pt x="3816" y="115"/>
                    </a:cubicBezTo>
                    <a:cubicBezTo>
                      <a:pt x="3816" y="116"/>
                      <a:pt x="3815" y="118"/>
                      <a:pt x="3815" y="119"/>
                    </a:cubicBezTo>
                    <a:close/>
                    <a:moveTo>
                      <a:pt x="3822" y="136"/>
                    </a:moveTo>
                    <a:cubicBezTo>
                      <a:pt x="3821" y="135"/>
                      <a:pt x="3821" y="134"/>
                      <a:pt x="3820" y="133"/>
                    </a:cubicBezTo>
                    <a:cubicBezTo>
                      <a:pt x="3820" y="132"/>
                      <a:pt x="3820" y="132"/>
                      <a:pt x="3820" y="131"/>
                    </a:cubicBezTo>
                    <a:cubicBezTo>
                      <a:pt x="3821" y="133"/>
                      <a:pt x="3821" y="134"/>
                      <a:pt x="3822" y="136"/>
                    </a:cubicBezTo>
                    <a:cubicBezTo>
                      <a:pt x="3822" y="136"/>
                      <a:pt x="3822" y="136"/>
                      <a:pt x="3822" y="136"/>
                    </a:cubicBezTo>
                    <a:close/>
                    <a:moveTo>
                      <a:pt x="3836" y="118"/>
                    </a:move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7"/>
                      <a:pt x="3836" y="117"/>
                      <a:pt x="3836" y="117"/>
                    </a:cubicBezTo>
                    <a:cubicBezTo>
                      <a:pt x="3836" y="118"/>
                      <a:pt x="3836" y="118"/>
                      <a:pt x="3836" y="118"/>
                    </a:cubicBezTo>
                    <a:close/>
                    <a:moveTo>
                      <a:pt x="3842" y="105"/>
                    </a:moveTo>
                    <a:cubicBezTo>
                      <a:pt x="3841" y="106"/>
                      <a:pt x="3840" y="107"/>
                      <a:pt x="3840" y="109"/>
                    </a:cubicBezTo>
                    <a:cubicBezTo>
                      <a:pt x="3839" y="107"/>
                      <a:pt x="3839" y="106"/>
                      <a:pt x="3839" y="104"/>
                    </a:cubicBezTo>
                    <a:cubicBezTo>
                      <a:pt x="3840" y="101"/>
                      <a:pt x="3841" y="98"/>
                      <a:pt x="3843" y="94"/>
                    </a:cubicBezTo>
                    <a:cubicBezTo>
                      <a:pt x="3842" y="98"/>
                      <a:pt x="3842" y="101"/>
                      <a:pt x="3842" y="105"/>
                    </a:cubicBezTo>
                    <a:close/>
                    <a:moveTo>
                      <a:pt x="3847" y="138"/>
                    </a:moveTo>
                    <a:cubicBezTo>
                      <a:pt x="3847" y="137"/>
                      <a:pt x="3847" y="136"/>
                      <a:pt x="3846" y="135"/>
                    </a:cubicBezTo>
                    <a:cubicBezTo>
                      <a:pt x="3846" y="133"/>
                      <a:pt x="3846" y="131"/>
                      <a:pt x="3846" y="129"/>
                    </a:cubicBezTo>
                    <a:cubicBezTo>
                      <a:pt x="3847" y="131"/>
                      <a:pt x="3847" y="133"/>
                      <a:pt x="3848" y="134"/>
                    </a:cubicBezTo>
                    <a:cubicBezTo>
                      <a:pt x="3848" y="135"/>
                      <a:pt x="3848" y="137"/>
                      <a:pt x="3847" y="138"/>
                    </a:cubicBezTo>
                    <a:close/>
                    <a:moveTo>
                      <a:pt x="3849" y="123"/>
                    </a:moveTo>
                    <a:cubicBezTo>
                      <a:pt x="3848" y="121"/>
                      <a:pt x="3847" y="118"/>
                      <a:pt x="3847" y="116"/>
                    </a:cubicBezTo>
                    <a:cubicBezTo>
                      <a:pt x="3848" y="112"/>
                      <a:pt x="3849" y="107"/>
                      <a:pt x="3850" y="103"/>
                    </a:cubicBezTo>
                    <a:cubicBezTo>
                      <a:pt x="3850" y="110"/>
                      <a:pt x="3849" y="117"/>
                      <a:pt x="3849" y="123"/>
                    </a:cubicBezTo>
                    <a:close/>
                    <a:moveTo>
                      <a:pt x="3854" y="69"/>
                    </a:moveTo>
                    <a:cubicBezTo>
                      <a:pt x="3856" y="72"/>
                      <a:pt x="3858" y="75"/>
                      <a:pt x="3859" y="79"/>
                    </a:cubicBezTo>
                    <a:cubicBezTo>
                      <a:pt x="3859" y="79"/>
                      <a:pt x="3859" y="79"/>
                      <a:pt x="3859" y="79"/>
                    </a:cubicBezTo>
                    <a:cubicBezTo>
                      <a:pt x="3857" y="76"/>
                      <a:pt x="3856" y="72"/>
                      <a:pt x="3854" y="69"/>
                    </a:cubicBezTo>
                    <a:cubicBezTo>
                      <a:pt x="3854" y="69"/>
                      <a:pt x="3854" y="69"/>
                      <a:pt x="3854" y="69"/>
                    </a:cubicBezTo>
                    <a:close/>
                    <a:moveTo>
                      <a:pt x="3854" y="74"/>
                    </a:moveTo>
                    <a:cubicBezTo>
                      <a:pt x="3855" y="76"/>
                      <a:pt x="3856" y="79"/>
                      <a:pt x="3857" y="81"/>
                    </a:cubicBezTo>
                    <a:cubicBezTo>
                      <a:pt x="3856" y="82"/>
                      <a:pt x="3855" y="83"/>
                      <a:pt x="3854" y="85"/>
                    </a:cubicBezTo>
                    <a:cubicBezTo>
                      <a:pt x="3854" y="81"/>
                      <a:pt x="3854" y="77"/>
                      <a:pt x="3854" y="74"/>
                    </a:cubicBezTo>
                    <a:close/>
                    <a:moveTo>
                      <a:pt x="3855" y="120"/>
                    </a:moveTo>
                    <a:cubicBezTo>
                      <a:pt x="3855" y="115"/>
                      <a:pt x="3855" y="111"/>
                      <a:pt x="3855" y="106"/>
                    </a:cubicBezTo>
                    <a:cubicBezTo>
                      <a:pt x="3856" y="109"/>
                      <a:pt x="3856" y="112"/>
                      <a:pt x="3857" y="114"/>
                    </a:cubicBezTo>
                    <a:cubicBezTo>
                      <a:pt x="3856" y="116"/>
                      <a:pt x="3856" y="118"/>
                      <a:pt x="3855" y="120"/>
                    </a:cubicBezTo>
                    <a:close/>
                    <a:moveTo>
                      <a:pt x="3858" y="109"/>
                    </a:moveTo>
                    <a:cubicBezTo>
                      <a:pt x="3857" y="107"/>
                      <a:pt x="3856" y="104"/>
                      <a:pt x="3855" y="102"/>
                    </a:cubicBezTo>
                    <a:cubicBezTo>
                      <a:pt x="3855" y="99"/>
                      <a:pt x="3855" y="97"/>
                      <a:pt x="3855" y="94"/>
                    </a:cubicBezTo>
                    <a:cubicBezTo>
                      <a:pt x="3856" y="98"/>
                      <a:pt x="3857" y="102"/>
                      <a:pt x="3859" y="107"/>
                    </a:cubicBezTo>
                    <a:cubicBezTo>
                      <a:pt x="3859" y="108"/>
                      <a:pt x="3858" y="108"/>
                      <a:pt x="3858" y="109"/>
                    </a:cubicBezTo>
                    <a:close/>
                    <a:moveTo>
                      <a:pt x="3862" y="96"/>
                    </a:moveTo>
                    <a:cubicBezTo>
                      <a:pt x="3861" y="98"/>
                      <a:pt x="3860" y="101"/>
                      <a:pt x="3860" y="104"/>
                    </a:cubicBezTo>
                    <a:cubicBezTo>
                      <a:pt x="3858" y="100"/>
                      <a:pt x="3856" y="96"/>
                      <a:pt x="3855" y="92"/>
                    </a:cubicBezTo>
                    <a:cubicBezTo>
                      <a:pt x="3855" y="92"/>
                      <a:pt x="3855" y="92"/>
                      <a:pt x="3855" y="92"/>
                    </a:cubicBezTo>
                    <a:cubicBezTo>
                      <a:pt x="3856" y="89"/>
                      <a:pt x="3857" y="86"/>
                      <a:pt x="3859" y="84"/>
                    </a:cubicBezTo>
                    <a:cubicBezTo>
                      <a:pt x="3860" y="87"/>
                      <a:pt x="3861" y="90"/>
                      <a:pt x="3862" y="93"/>
                    </a:cubicBezTo>
                    <a:cubicBezTo>
                      <a:pt x="3862" y="94"/>
                      <a:pt x="3862" y="95"/>
                      <a:pt x="3862" y="96"/>
                    </a:cubicBezTo>
                    <a:close/>
                    <a:moveTo>
                      <a:pt x="3863" y="90"/>
                    </a:moveTo>
                    <a:cubicBezTo>
                      <a:pt x="3862" y="87"/>
                      <a:pt x="3861" y="84"/>
                      <a:pt x="3860" y="82"/>
                    </a:cubicBezTo>
                    <a:cubicBezTo>
                      <a:pt x="3860" y="81"/>
                      <a:pt x="3860" y="81"/>
                      <a:pt x="3860" y="81"/>
                    </a:cubicBezTo>
                    <a:cubicBezTo>
                      <a:pt x="3861" y="83"/>
                      <a:pt x="3862" y="86"/>
                      <a:pt x="3863" y="89"/>
                    </a:cubicBezTo>
                    <a:cubicBezTo>
                      <a:pt x="3863" y="89"/>
                      <a:pt x="3863" y="89"/>
                      <a:pt x="3863" y="90"/>
                    </a:cubicBezTo>
                    <a:close/>
                    <a:moveTo>
                      <a:pt x="3861" y="79"/>
                    </a:moveTo>
                    <a:cubicBezTo>
                      <a:pt x="3862" y="78"/>
                      <a:pt x="3863" y="77"/>
                      <a:pt x="3863" y="76"/>
                    </a:cubicBezTo>
                    <a:cubicBezTo>
                      <a:pt x="3864" y="78"/>
                      <a:pt x="3864" y="79"/>
                      <a:pt x="3865" y="80"/>
                    </a:cubicBezTo>
                    <a:cubicBezTo>
                      <a:pt x="3865" y="82"/>
                      <a:pt x="3864" y="84"/>
                      <a:pt x="3864" y="85"/>
                    </a:cubicBezTo>
                    <a:cubicBezTo>
                      <a:pt x="3863" y="83"/>
                      <a:pt x="3862" y="81"/>
                      <a:pt x="3861" y="79"/>
                    </a:cubicBezTo>
                    <a:close/>
                    <a:moveTo>
                      <a:pt x="3864" y="116"/>
                    </a:moveTo>
                    <a:cubicBezTo>
                      <a:pt x="3864" y="111"/>
                      <a:pt x="3865" y="106"/>
                      <a:pt x="3865" y="102"/>
                    </a:cubicBezTo>
                    <a:cubicBezTo>
                      <a:pt x="3866" y="105"/>
                      <a:pt x="3867" y="108"/>
                      <a:pt x="3868" y="111"/>
                    </a:cubicBezTo>
                    <a:cubicBezTo>
                      <a:pt x="3867" y="113"/>
                      <a:pt x="3866" y="116"/>
                      <a:pt x="3865" y="118"/>
                    </a:cubicBezTo>
                    <a:cubicBezTo>
                      <a:pt x="3865" y="117"/>
                      <a:pt x="3864" y="117"/>
                      <a:pt x="3864" y="116"/>
                    </a:cubicBezTo>
                    <a:close/>
                    <a:moveTo>
                      <a:pt x="3869" y="130"/>
                    </a:moveTo>
                    <a:cubicBezTo>
                      <a:pt x="3868" y="128"/>
                      <a:pt x="3868" y="127"/>
                      <a:pt x="3867" y="125"/>
                    </a:cubicBezTo>
                    <a:cubicBezTo>
                      <a:pt x="3868" y="123"/>
                      <a:pt x="3868" y="122"/>
                      <a:pt x="3869" y="120"/>
                    </a:cubicBezTo>
                    <a:cubicBezTo>
                      <a:pt x="3869" y="122"/>
                      <a:pt x="3869" y="124"/>
                      <a:pt x="3869" y="127"/>
                    </a:cubicBezTo>
                    <a:cubicBezTo>
                      <a:pt x="3869" y="128"/>
                      <a:pt x="3869" y="129"/>
                      <a:pt x="3869" y="130"/>
                    </a:cubicBezTo>
                    <a:close/>
                    <a:moveTo>
                      <a:pt x="3871" y="105"/>
                    </a:moveTo>
                    <a:cubicBezTo>
                      <a:pt x="3869" y="100"/>
                      <a:pt x="3868" y="95"/>
                      <a:pt x="3866" y="91"/>
                    </a:cubicBezTo>
                    <a:cubicBezTo>
                      <a:pt x="3866" y="89"/>
                      <a:pt x="3866" y="87"/>
                      <a:pt x="3866" y="85"/>
                    </a:cubicBezTo>
                    <a:cubicBezTo>
                      <a:pt x="3869" y="91"/>
                      <a:pt x="3870" y="97"/>
                      <a:pt x="3872" y="103"/>
                    </a:cubicBezTo>
                    <a:cubicBezTo>
                      <a:pt x="3871" y="104"/>
                      <a:pt x="3871" y="105"/>
                      <a:pt x="3871" y="105"/>
                    </a:cubicBezTo>
                    <a:close/>
                    <a:moveTo>
                      <a:pt x="3872" y="111"/>
                    </a:moveTo>
                    <a:cubicBezTo>
                      <a:pt x="3872" y="110"/>
                      <a:pt x="3872" y="110"/>
                      <a:pt x="3872" y="109"/>
                    </a:cubicBezTo>
                    <a:cubicBezTo>
                      <a:pt x="3872" y="109"/>
                      <a:pt x="3872" y="108"/>
                      <a:pt x="3873" y="107"/>
                    </a:cubicBezTo>
                    <a:cubicBezTo>
                      <a:pt x="3873" y="108"/>
                      <a:pt x="3873" y="109"/>
                      <a:pt x="3873" y="109"/>
                    </a:cubicBezTo>
                    <a:cubicBezTo>
                      <a:pt x="3873" y="110"/>
                      <a:pt x="3873" y="110"/>
                      <a:pt x="3872" y="111"/>
                    </a:cubicBezTo>
                    <a:close/>
                    <a:moveTo>
                      <a:pt x="3883" y="94"/>
                    </a:moveTo>
                    <a:cubicBezTo>
                      <a:pt x="3883" y="95"/>
                      <a:pt x="3883" y="95"/>
                      <a:pt x="3884" y="96"/>
                    </a:cubicBezTo>
                    <a:cubicBezTo>
                      <a:pt x="3883" y="97"/>
                      <a:pt x="3883" y="97"/>
                      <a:pt x="3883" y="98"/>
                    </a:cubicBezTo>
                    <a:cubicBezTo>
                      <a:pt x="3883" y="96"/>
                      <a:pt x="3883" y="95"/>
                      <a:pt x="3883" y="94"/>
                    </a:cubicBezTo>
                    <a:close/>
                    <a:moveTo>
                      <a:pt x="3885" y="109"/>
                    </a:moveTo>
                    <a:cubicBezTo>
                      <a:pt x="3884" y="106"/>
                      <a:pt x="3884" y="104"/>
                      <a:pt x="3883" y="102"/>
                    </a:cubicBezTo>
                    <a:cubicBezTo>
                      <a:pt x="3883" y="101"/>
                      <a:pt x="3883" y="99"/>
                      <a:pt x="3883" y="98"/>
                    </a:cubicBezTo>
                    <a:cubicBezTo>
                      <a:pt x="3883" y="98"/>
                      <a:pt x="3884" y="97"/>
                      <a:pt x="3884" y="97"/>
                    </a:cubicBezTo>
                    <a:cubicBezTo>
                      <a:pt x="3884" y="98"/>
                      <a:pt x="3885" y="100"/>
                      <a:pt x="3885" y="102"/>
                    </a:cubicBezTo>
                    <a:cubicBezTo>
                      <a:pt x="3885" y="104"/>
                      <a:pt x="3885" y="107"/>
                      <a:pt x="3885" y="109"/>
                    </a:cubicBezTo>
                    <a:close/>
                    <a:moveTo>
                      <a:pt x="3887" y="84"/>
                    </a:moveTo>
                    <a:cubicBezTo>
                      <a:pt x="3886" y="89"/>
                      <a:pt x="3886" y="94"/>
                      <a:pt x="3886" y="98"/>
                    </a:cubicBezTo>
                    <a:cubicBezTo>
                      <a:pt x="3885" y="97"/>
                      <a:pt x="3885" y="96"/>
                      <a:pt x="3884" y="95"/>
                    </a:cubicBezTo>
                    <a:cubicBezTo>
                      <a:pt x="3885" y="94"/>
                      <a:pt x="3886" y="92"/>
                      <a:pt x="3886" y="91"/>
                    </a:cubicBezTo>
                    <a:cubicBezTo>
                      <a:pt x="3886" y="92"/>
                      <a:pt x="3885" y="94"/>
                      <a:pt x="3884" y="95"/>
                    </a:cubicBezTo>
                    <a:cubicBezTo>
                      <a:pt x="3884" y="94"/>
                      <a:pt x="3883" y="93"/>
                      <a:pt x="3883" y="92"/>
                    </a:cubicBezTo>
                    <a:cubicBezTo>
                      <a:pt x="3883" y="90"/>
                      <a:pt x="3883" y="88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3" y="85"/>
                      <a:pt x="3883" y="85"/>
                      <a:pt x="3883" y="85"/>
                    </a:cubicBezTo>
                    <a:cubicBezTo>
                      <a:pt x="3882" y="75"/>
                      <a:pt x="3882" y="65"/>
                      <a:pt x="3882" y="56"/>
                    </a:cubicBezTo>
                    <a:cubicBezTo>
                      <a:pt x="3885" y="58"/>
                      <a:pt x="3887" y="61"/>
                      <a:pt x="3890" y="63"/>
                    </a:cubicBezTo>
                    <a:cubicBezTo>
                      <a:pt x="3889" y="69"/>
                      <a:pt x="3888" y="76"/>
                      <a:pt x="3887" y="84"/>
                    </a:cubicBezTo>
                    <a:cubicBezTo>
                      <a:pt x="3887" y="82"/>
                      <a:pt x="3886" y="81"/>
                      <a:pt x="3886" y="79"/>
                    </a:cubicBezTo>
                    <a:cubicBezTo>
                      <a:pt x="3886" y="81"/>
                      <a:pt x="3887" y="83"/>
                      <a:pt x="3887" y="84"/>
                    </a:cubicBezTo>
                    <a:close/>
                    <a:moveTo>
                      <a:pt x="3888" y="139"/>
                    </a:moveTo>
                    <a:cubicBezTo>
                      <a:pt x="3888" y="134"/>
                      <a:pt x="3888" y="128"/>
                      <a:pt x="3888" y="121"/>
                    </a:cubicBezTo>
                    <a:cubicBezTo>
                      <a:pt x="3888" y="125"/>
                      <a:pt x="3888" y="129"/>
                      <a:pt x="3889" y="133"/>
                    </a:cubicBezTo>
                    <a:cubicBezTo>
                      <a:pt x="3889" y="135"/>
                      <a:pt x="3889" y="137"/>
                      <a:pt x="3888" y="139"/>
                    </a:cubicBezTo>
                    <a:close/>
                    <a:moveTo>
                      <a:pt x="3888" y="104"/>
                    </a:moveTo>
                    <a:cubicBezTo>
                      <a:pt x="3888" y="102"/>
                      <a:pt x="3888" y="99"/>
                      <a:pt x="3889" y="96"/>
                    </a:cubicBezTo>
                    <a:cubicBezTo>
                      <a:pt x="3889" y="100"/>
                      <a:pt x="3889" y="104"/>
                      <a:pt x="3889" y="107"/>
                    </a:cubicBezTo>
                    <a:cubicBezTo>
                      <a:pt x="3889" y="106"/>
                      <a:pt x="3889" y="105"/>
                      <a:pt x="3888" y="104"/>
                    </a:cubicBezTo>
                    <a:close/>
                    <a:moveTo>
                      <a:pt x="3900" y="85"/>
                    </a:moveTo>
                    <a:cubicBezTo>
                      <a:pt x="3899" y="90"/>
                      <a:pt x="3898" y="96"/>
                      <a:pt x="3897" y="103"/>
                    </a:cubicBezTo>
                    <a:cubicBezTo>
                      <a:pt x="3897" y="101"/>
                      <a:pt x="3897" y="100"/>
                      <a:pt x="3896" y="99"/>
                    </a:cubicBezTo>
                    <a:cubicBezTo>
                      <a:pt x="3896" y="96"/>
                      <a:pt x="3895" y="93"/>
                      <a:pt x="3894" y="90"/>
                    </a:cubicBezTo>
                    <a:cubicBezTo>
                      <a:pt x="3895" y="93"/>
                      <a:pt x="3895" y="96"/>
                      <a:pt x="3895" y="99"/>
                    </a:cubicBezTo>
                    <a:cubicBezTo>
                      <a:pt x="3895" y="104"/>
                      <a:pt x="3894" y="112"/>
                      <a:pt x="3894" y="120"/>
                    </a:cubicBezTo>
                    <a:cubicBezTo>
                      <a:pt x="3893" y="110"/>
                      <a:pt x="3891" y="100"/>
                      <a:pt x="3889" y="91"/>
                    </a:cubicBezTo>
                    <a:cubicBezTo>
                      <a:pt x="3890" y="81"/>
                      <a:pt x="3891" y="72"/>
                      <a:pt x="3891" y="65"/>
                    </a:cubicBezTo>
                    <a:cubicBezTo>
                      <a:pt x="3895" y="69"/>
                      <a:pt x="3898" y="74"/>
                      <a:pt x="3900" y="79"/>
                    </a:cubicBezTo>
                    <a:cubicBezTo>
                      <a:pt x="3900" y="81"/>
                      <a:pt x="3900" y="83"/>
                      <a:pt x="3900" y="85"/>
                    </a:cubicBezTo>
                    <a:close/>
                    <a:moveTo>
                      <a:pt x="3900" y="75"/>
                    </a:moveTo>
                    <a:cubicBezTo>
                      <a:pt x="3900" y="75"/>
                      <a:pt x="3900" y="75"/>
                      <a:pt x="3900" y="75"/>
                    </a:cubicBezTo>
                    <a:cubicBezTo>
                      <a:pt x="3900" y="73"/>
                      <a:pt x="3900" y="72"/>
                      <a:pt x="3899" y="70"/>
                    </a:cubicBezTo>
                    <a:cubicBezTo>
                      <a:pt x="3899" y="70"/>
                      <a:pt x="3900" y="72"/>
                      <a:pt x="3900" y="75"/>
                    </a:cubicBezTo>
                    <a:cubicBezTo>
                      <a:pt x="3897" y="71"/>
                      <a:pt x="3895" y="67"/>
                      <a:pt x="3891" y="64"/>
                    </a:cubicBezTo>
                    <a:cubicBezTo>
                      <a:pt x="3892" y="60"/>
                      <a:pt x="3892" y="57"/>
                      <a:pt x="3893" y="54"/>
                    </a:cubicBezTo>
                    <a:cubicBezTo>
                      <a:pt x="3896" y="58"/>
                      <a:pt x="3899" y="62"/>
                      <a:pt x="3901" y="65"/>
                    </a:cubicBezTo>
                    <a:cubicBezTo>
                      <a:pt x="3901" y="68"/>
                      <a:pt x="3900" y="71"/>
                      <a:pt x="3900" y="75"/>
                    </a:cubicBezTo>
                    <a:close/>
                    <a:moveTo>
                      <a:pt x="3904" y="117"/>
                    </a:moveTo>
                    <a:cubicBezTo>
                      <a:pt x="3903" y="119"/>
                      <a:pt x="3902" y="122"/>
                      <a:pt x="3902" y="125"/>
                    </a:cubicBezTo>
                    <a:cubicBezTo>
                      <a:pt x="3902" y="124"/>
                      <a:pt x="3902" y="123"/>
                      <a:pt x="3902" y="122"/>
                    </a:cubicBezTo>
                    <a:cubicBezTo>
                      <a:pt x="3902" y="110"/>
                      <a:pt x="3902" y="98"/>
                      <a:pt x="3903" y="87"/>
                    </a:cubicBezTo>
                    <a:cubicBezTo>
                      <a:pt x="3904" y="92"/>
                      <a:pt x="3905" y="98"/>
                      <a:pt x="3906" y="103"/>
                    </a:cubicBezTo>
                    <a:cubicBezTo>
                      <a:pt x="3905" y="108"/>
                      <a:pt x="3904" y="112"/>
                      <a:pt x="3904" y="117"/>
                    </a:cubicBezTo>
                    <a:close/>
                    <a:moveTo>
                      <a:pt x="3907" y="89"/>
                    </a:moveTo>
                    <a:cubicBezTo>
                      <a:pt x="3906" y="86"/>
                      <a:pt x="3904" y="83"/>
                      <a:pt x="3903" y="80"/>
                    </a:cubicBezTo>
                    <a:cubicBezTo>
                      <a:pt x="3903" y="76"/>
                      <a:pt x="3903" y="72"/>
                      <a:pt x="3903" y="68"/>
                    </a:cubicBezTo>
                    <a:cubicBezTo>
                      <a:pt x="3905" y="71"/>
                      <a:pt x="3907" y="74"/>
                      <a:pt x="3909" y="78"/>
                    </a:cubicBezTo>
                    <a:cubicBezTo>
                      <a:pt x="3908" y="81"/>
                      <a:pt x="3908" y="85"/>
                      <a:pt x="3907" y="89"/>
                    </a:cubicBezTo>
                    <a:close/>
                    <a:moveTo>
                      <a:pt x="3912" y="96"/>
                    </a:moveTo>
                    <a:cubicBezTo>
                      <a:pt x="3912" y="97"/>
                      <a:pt x="3911" y="98"/>
                      <a:pt x="3911" y="99"/>
                    </a:cubicBezTo>
                    <a:cubicBezTo>
                      <a:pt x="3910" y="98"/>
                      <a:pt x="3910" y="97"/>
                      <a:pt x="3910" y="96"/>
                    </a:cubicBezTo>
                    <a:cubicBezTo>
                      <a:pt x="3910" y="91"/>
                      <a:pt x="3910" y="86"/>
                      <a:pt x="3910" y="80"/>
                    </a:cubicBezTo>
                    <a:cubicBezTo>
                      <a:pt x="3911" y="83"/>
                      <a:pt x="3912" y="86"/>
                      <a:pt x="3913" y="88"/>
                    </a:cubicBezTo>
                    <a:cubicBezTo>
                      <a:pt x="3913" y="91"/>
                      <a:pt x="3913" y="93"/>
                      <a:pt x="3912" y="96"/>
                    </a:cubicBezTo>
                    <a:close/>
                    <a:moveTo>
                      <a:pt x="3934" y="105"/>
                    </a:moveTo>
                    <a:cubicBezTo>
                      <a:pt x="3933" y="103"/>
                      <a:pt x="3933" y="102"/>
                      <a:pt x="3932" y="101"/>
                    </a:cubicBezTo>
                    <a:cubicBezTo>
                      <a:pt x="3934" y="96"/>
                      <a:pt x="3935" y="92"/>
                      <a:pt x="3936" y="89"/>
                    </a:cubicBezTo>
                    <a:cubicBezTo>
                      <a:pt x="3936" y="89"/>
                      <a:pt x="3937" y="89"/>
                      <a:pt x="3937" y="90"/>
                    </a:cubicBezTo>
                    <a:cubicBezTo>
                      <a:pt x="3936" y="95"/>
                      <a:pt x="3935" y="100"/>
                      <a:pt x="3934" y="105"/>
                    </a:cubicBezTo>
                    <a:close/>
                    <a:moveTo>
                      <a:pt x="3950" y="81"/>
                    </a:moveTo>
                    <a:cubicBezTo>
                      <a:pt x="3950" y="81"/>
                      <a:pt x="3950" y="81"/>
                      <a:pt x="3951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ubicBezTo>
                      <a:pt x="3950" y="81"/>
                      <a:pt x="3950" y="81"/>
                      <a:pt x="3950" y="81"/>
                    </a:cubicBezTo>
                    <a:close/>
                    <a:moveTo>
                      <a:pt x="3950" y="88"/>
                    </a:move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90"/>
                      <a:pt x="3950" y="91"/>
                      <a:pt x="3949" y="91"/>
                    </a:cubicBezTo>
                    <a:cubicBezTo>
                      <a:pt x="3950" y="90"/>
                      <a:pt x="3950" y="89"/>
                      <a:pt x="3950" y="88"/>
                    </a:cubicBezTo>
                    <a:close/>
                    <a:moveTo>
                      <a:pt x="3941" y="122"/>
                    </a:moveTo>
                    <a:cubicBezTo>
                      <a:pt x="3941" y="122"/>
                      <a:pt x="3941" y="123"/>
                      <a:pt x="3941" y="123"/>
                    </a:cubicBezTo>
                    <a:cubicBezTo>
                      <a:pt x="3941" y="123"/>
                      <a:pt x="3941" y="123"/>
                      <a:pt x="3941" y="123"/>
                    </a:cubicBezTo>
                    <a:cubicBezTo>
                      <a:pt x="3941" y="123"/>
                      <a:pt x="3941" y="122"/>
                      <a:pt x="3941" y="122"/>
                    </a:cubicBezTo>
                    <a:cubicBezTo>
                      <a:pt x="3941" y="120"/>
                      <a:pt x="3942" y="118"/>
                      <a:pt x="3942" y="115"/>
                    </a:cubicBezTo>
                    <a:cubicBezTo>
                      <a:pt x="3942" y="115"/>
                      <a:pt x="3942" y="115"/>
                      <a:pt x="3942" y="115"/>
                    </a:cubicBezTo>
                    <a:cubicBezTo>
                      <a:pt x="3942" y="116"/>
                      <a:pt x="3942" y="117"/>
                      <a:pt x="3942" y="118"/>
                    </a:cubicBezTo>
                    <a:cubicBezTo>
                      <a:pt x="3942" y="119"/>
                      <a:pt x="3941" y="121"/>
                      <a:pt x="3941" y="122"/>
                    </a:cubicBezTo>
                    <a:close/>
                    <a:moveTo>
                      <a:pt x="3943" y="70"/>
                    </a:moveTo>
                    <a:cubicBezTo>
                      <a:pt x="3946" y="73"/>
                      <a:pt x="3948" y="76"/>
                      <a:pt x="3949" y="79"/>
                    </a:cubicBezTo>
                    <a:cubicBezTo>
                      <a:pt x="3949" y="81"/>
                      <a:pt x="3949" y="82"/>
                      <a:pt x="3948" y="84"/>
                    </a:cubicBezTo>
                    <a:cubicBezTo>
                      <a:pt x="3948" y="84"/>
                      <a:pt x="3948" y="84"/>
                      <a:pt x="3948" y="84"/>
                    </a:cubicBezTo>
                    <a:cubicBezTo>
                      <a:pt x="3948" y="82"/>
                      <a:pt x="3947" y="81"/>
                      <a:pt x="3946" y="79"/>
                    </a:cubicBezTo>
                    <a:cubicBezTo>
                      <a:pt x="3947" y="81"/>
                      <a:pt x="3947" y="83"/>
                      <a:pt x="3948" y="84"/>
                    </a:cubicBezTo>
                    <a:cubicBezTo>
                      <a:pt x="3946" y="87"/>
                      <a:pt x="3945" y="90"/>
                      <a:pt x="3943" y="93"/>
                    </a:cubicBezTo>
                    <a:cubicBezTo>
                      <a:pt x="3944" y="85"/>
                      <a:pt x="3944" y="77"/>
                      <a:pt x="3943" y="70"/>
                    </a:cubicBezTo>
                    <a:close/>
                    <a:moveTo>
                      <a:pt x="3946" y="98"/>
                    </a:moveTo>
                    <a:cubicBezTo>
                      <a:pt x="3946" y="98"/>
                      <a:pt x="3946" y="97"/>
                      <a:pt x="3945" y="96"/>
                    </a:cubicBezTo>
                    <a:cubicBezTo>
                      <a:pt x="3946" y="97"/>
                      <a:pt x="3946" y="98"/>
                      <a:pt x="3946" y="98"/>
                    </a:cubicBezTo>
                    <a:cubicBezTo>
                      <a:pt x="3946" y="99"/>
                      <a:pt x="3946" y="100"/>
                      <a:pt x="3945" y="100"/>
                    </a:cubicBezTo>
                    <a:cubicBezTo>
                      <a:pt x="3945" y="99"/>
                      <a:pt x="3945" y="98"/>
                      <a:pt x="3944" y="97"/>
                    </a:cubicBezTo>
                    <a:cubicBezTo>
                      <a:pt x="3945" y="95"/>
                      <a:pt x="3946" y="93"/>
                      <a:pt x="3947" y="90"/>
                    </a:cubicBezTo>
                    <a:cubicBezTo>
                      <a:pt x="3947" y="93"/>
                      <a:pt x="3946" y="96"/>
                      <a:pt x="3946" y="98"/>
                    </a:cubicBezTo>
                    <a:close/>
                    <a:moveTo>
                      <a:pt x="3953" y="100"/>
                    </a:moveTo>
                    <a:cubicBezTo>
                      <a:pt x="3951" y="104"/>
                      <a:pt x="3950" y="107"/>
                      <a:pt x="3948" y="110"/>
                    </a:cubicBezTo>
                    <a:cubicBezTo>
                      <a:pt x="3948" y="110"/>
                      <a:pt x="3948" y="109"/>
                      <a:pt x="3948" y="109"/>
                    </a:cubicBezTo>
                    <a:cubicBezTo>
                      <a:pt x="3948" y="106"/>
                      <a:pt x="3949" y="102"/>
                      <a:pt x="3949" y="99"/>
                    </a:cubicBezTo>
                    <a:cubicBezTo>
                      <a:pt x="3950" y="95"/>
                      <a:pt x="3950" y="92"/>
                      <a:pt x="3950" y="90"/>
                    </a:cubicBezTo>
                    <a:cubicBezTo>
                      <a:pt x="3951" y="93"/>
                      <a:pt x="3952" y="96"/>
                      <a:pt x="3953" y="100"/>
                    </a:cubicBezTo>
                    <a:cubicBezTo>
                      <a:pt x="3953" y="100"/>
                      <a:pt x="3953" y="100"/>
                      <a:pt x="3953" y="100"/>
                    </a:cubicBezTo>
                    <a:close/>
                    <a:moveTo>
                      <a:pt x="3953" y="97"/>
                    </a:moveTo>
                    <a:cubicBezTo>
                      <a:pt x="3952" y="95"/>
                      <a:pt x="3951" y="92"/>
                      <a:pt x="3950" y="89"/>
                    </a:cubicBezTo>
                    <a:cubicBezTo>
                      <a:pt x="3950" y="89"/>
                      <a:pt x="3950" y="89"/>
                      <a:pt x="3950" y="88"/>
                    </a:cubicBezTo>
                    <a:cubicBezTo>
                      <a:pt x="3950" y="89"/>
                      <a:pt x="3950" y="89"/>
                      <a:pt x="3950" y="89"/>
                    </a:cubicBezTo>
                    <a:cubicBezTo>
                      <a:pt x="3950" y="89"/>
                      <a:pt x="3950" y="88"/>
                      <a:pt x="3950" y="88"/>
                    </a:cubicBezTo>
                    <a:cubicBezTo>
                      <a:pt x="3950" y="87"/>
                      <a:pt x="3950" y="86"/>
                      <a:pt x="3950" y="85"/>
                    </a:cubicBezTo>
                    <a:cubicBezTo>
                      <a:pt x="3950" y="84"/>
                      <a:pt x="3951" y="83"/>
                      <a:pt x="3951" y="82"/>
                    </a:cubicBezTo>
                    <a:cubicBezTo>
                      <a:pt x="3952" y="84"/>
                      <a:pt x="3953" y="86"/>
                      <a:pt x="3954" y="88"/>
                    </a:cubicBezTo>
                    <a:cubicBezTo>
                      <a:pt x="3954" y="91"/>
                      <a:pt x="3954" y="94"/>
                      <a:pt x="3953" y="97"/>
                    </a:cubicBezTo>
                    <a:close/>
                    <a:moveTo>
                      <a:pt x="3955" y="135"/>
                    </a:moveTo>
                    <a:cubicBezTo>
                      <a:pt x="3955" y="136"/>
                      <a:pt x="3955" y="137"/>
                      <a:pt x="3955" y="138"/>
                    </a:cubicBezTo>
                    <a:cubicBezTo>
                      <a:pt x="3955" y="137"/>
                      <a:pt x="3955" y="136"/>
                      <a:pt x="3955" y="135"/>
                    </a:cubicBezTo>
                    <a:cubicBezTo>
                      <a:pt x="3955" y="135"/>
                      <a:pt x="3955" y="135"/>
                      <a:pt x="3955" y="135"/>
                    </a:cubicBezTo>
                    <a:close/>
                    <a:moveTo>
                      <a:pt x="3955" y="83"/>
                    </a:moveTo>
                    <a:cubicBezTo>
                      <a:pt x="3954" y="82"/>
                      <a:pt x="3953" y="81"/>
                      <a:pt x="3953" y="80"/>
                    </a:cubicBezTo>
                    <a:cubicBezTo>
                      <a:pt x="3954" y="78"/>
                      <a:pt x="3955" y="77"/>
                      <a:pt x="3956" y="75"/>
                    </a:cubicBezTo>
                    <a:cubicBezTo>
                      <a:pt x="3955" y="78"/>
                      <a:pt x="3955" y="81"/>
                      <a:pt x="3955" y="83"/>
                    </a:cubicBezTo>
                    <a:close/>
                    <a:moveTo>
                      <a:pt x="3956" y="74"/>
                    </a:moveTo>
                    <a:cubicBezTo>
                      <a:pt x="3954" y="76"/>
                      <a:pt x="3953" y="77"/>
                      <a:pt x="3952" y="79"/>
                    </a:cubicBezTo>
                    <a:cubicBezTo>
                      <a:pt x="3951" y="78"/>
                      <a:pt x="3951" y="78"/>
                      <a:pt x="3951" y="77"/>
                    </a:cubicBezTo>
                    <a:cubicBezTo>
                      <a:pt x="3951" y="72"/>
                      <a:pt x="3951" y="67"/>
                      <a:pt x="3952" y="65"/>
                    </a:cubicBezTo>
                    <a:cubicBezTo>
                      <a:pt x="3953" y="67"/>
                      <a:pt x="3954" y="70"/>
                      <a:pt x="3956" y="72"/>
                    </a:cubicBezTo>
                    <a:cubicBezTo>
                      <a:pt x="3956" y="73"/>
                      <a:pt x="3956" y="73"/>
                      <a:pt x="3956" y="74"/>
                    </a:cubicBezTo>
                    <a:close/>
                    <a:moveTo>
                      <a:pt x="3958" y="75"/>
                    </a:moveTo>
                    <a:cubicBezTo>
                      <a:pt x="3959" y="78"/>
                      <a:pt x="3961" y="81"/>
                      <a:pt x="3963" y="84"/>
                    </a:cubicBezTo>
                    <a:cubicBezTo>
                      <a:pt x="3961" y="86"/>
                      <a:pt x="3960" y="88"/>
                      <a:pt x="3959" y="90"/>
                    </a:cubicBezTo>
                    <a:cubicBezTo>
                      <a:pt x="3959" y="89"/>
                      <a:pt x="3958" y="89"/>
                      <a:pt x="3958" y="89"/>
                    </a:cubicBezTo>
                    <a:cubicBezTo>
                      <a:pt x="3958" y="84"/>
                      <a:pt x="3958" y="79"/>
                      <a:pt x="3958" y="75"/>
                    </a:cubicBezTo>
                    <a:close/>
                    <a:moveTo>
                      <a:pt x="3960" y="110"/>
                    </a:moveTo>
                    <a:cubicBezTo>
                      <a:pt x="3960" y="107"/>
                      <a:pt x="3959" y="104"/>
                      <a:pt x="3958" y="101"/>
                    </a:cubicBezTo>
                    <a:cubicBezTo>
                      <a:pt x="3958" y="100"/>
                      <a:pt x="3958" y="100"/>
                      <a:pt x="3958" y="100"/>
                    </a:cubicBezTo>
                    <a:cubicBezTo>
                      <a:pt x="3958" y="100"/>
                      <a:pt x="3959" y="99"/>
                      <a:pt x="3959" y="99"/>
                    </a:cubicBezTo>
                    <a:cubicBezTo>
                      <a:pt x="3960" y="101"/>
                      <a:pt x="3960" y="104"/>
                      <a:pt x="3961" y="106"/>
                    </a:cubicBezTo>
                    <a:cubicBezTo>
                      <a:pt x="3961" y="108"/>
                      <a:pt x="3961" y="109"/>
                      <a:pt x="3960" y="110"/>
                    </a:cubicBezTo>
                    <a:close/>
                    <a:moveTo>
                      <a:pt x="3961" y="93"/>
                    </a:moveTo>
                    <a:cubicBezTo>
                      <a:pt x="3962" y="91"/>
                      <a:pt x="3963" y="88"/>
                      <a:pt x="3964" y="86"/>
                    </a:cubicBezTo>
                    <a:cubicBezTo>
                      <a:pt x="3964" y="87"/>
                      <a:pt x="3965" y="87"/>
                      <a:pt x="3965" y="88"/>
                    </a:cubicBezTo>
                    <a:cubicBezTo>
                      <a:pt x="3964" y="91"/>
                      <a:pt x="3964" y="94"/>
                      <a:pt x="3963" y="97"/>
                    </a:cubicBezTo>
                    <a:cubicBezTo>
                      <a:pt x="3962" y="96"/>
                      <a:pt x="3961" y="95"/>
                      <a:pt x="3961" y="93"/>
                    </a:cubicBezTo>
                    <a:close/>
                    <a:moveTo>
                      <a:pt x="3964" y="130"/>
                    </a:moveTo>
                    <a:cubicBezTo>
                      <a:pt x="3964" y="129"/>
                      <a:pt x="3964" y="128"/>
                      <a:pt x="3964" y="126"/>
                    </a:cubicBezTo>
                    <a:cubicBezTo>
                      <a:pt x="3964" y="124"/>
                      <a:pt x="3964" y="121"/>
                      <a:pt x="3965" y="119"/>
                    </a:cubicBezTo>
                    <a:cubicBezTo>
                      <a:pt x="3965" y="120"/>
                      <a:pt x="3966" y="122"/>
                      <a:pt x="3966" y="124"/>
                    </a:cubicBezTo>
                    <a:cubicBezTo>
                      <a:pt x="3965" y="126"/>
                      <a:pt x="3965" y="128"/>
                      <a:pt x="3964" y="130"/>
                    </a:cubicBezTo>
                    <a:close/>
                    <a:moveTo>
                      <a:pt x="3968" y="108"/>
                    </a:moveTo>
                    <a:cubicBezTo>
                      <a:pt x="3968" y="107"/>
                      <a:pt x="3967" y="106"/>
                      <a:pt x="3967" y="105"/>
                    </a:cubicBezTo>
                    <a:cubicBezTo>
                      <a:pt x="3967" y="102"/>
                      <a:pt x="3968" y="99"/>
                      <a:pt x="3969" y="96"/>
                    </a:cubicBezTo>
                    <a:cubicBezTo>
                      <a:pt x="3969" y="96"/>
                      <a:pt x="3969" y="97"/>
                      <a:pt x="3969" y="97"/>
                    </a:cubicBezTo>
                    <a:cubicBezTo>
                      <a:pt x="3969" y="101"/>
                      <a:pt x="3968" y="105"/>
                      <a:pt x="3968" y="108"/>
                    </a:cubicBezTo>
                    <a:close/>
                    <a:moveTo>
                      <a:pt x="3970" y="86"/>
                    </a:moveTo>
                    <a:cubicBezTo>
                      <a:pt x="3970" y="86"/>
                      <a:pt x="3970" y="86"/>
                      <a:pt x="3970" y="86"/>
                    </a:cubicBezTo>
                    <a:cubicBezTo>
                      <a:pt x="3970" y="85"/>
                      <a:pt x="3971" y="84"/>
                      <a:pt x="3971" y="83"/>
                    </a:cubicBezTo>
                    <a:cubicBezTo>
                      <a:pt x="3971" y="84"/>
                      <a:pt x="3970" y="85"/>
                      <a:pt x="3970" y="86"/>
                    </a:cubicBezTo>
                    <a:close/>
                    <a:moveTo>
                      <a:pt x="3978" y="80"/>
                    </a:moveTo>
                    <a:cubicBezTo>
                      <a:pt x="3978" y="77"/>
                      <a:pt x="3978" y="75"/>
                      <a:pt x="3978" y="73"/>
                    </a:cubicBezTo>
                    <a:cubicBezTo>
                      <a:pt x="3979" y="73"/>
                      <a:pt x="3979" y="74"/>
                      <a:pt x="3979" y="74"/>
                    </a:cubicBezTo>
                    <a:cubicBezTo>
                      <a:pt x="3979" y="76"/>
                      <a:pt x="3979" y="78"/>
                      <a:pt x="3978" y="80"/>
                    </a:cubicBezTo>
                    <a:close/>
                    <a:moveTo>
                      <a:pt x="3990" y="93"/>
                    </a:moveTo>
                    <a:cubicBezTo>
                      <a:pt x="3989" y="95"/>
                      <a:pt x="3989" y="96"/>
                      <a:pt x="3988" y="97"/>
                    </a:cubicBezTo>
                    <a:cubicBezTo>
                      <a:pt x="3988" y="94"/>
                      <a:pt x="3988" y="91"/>
                      <a:pt x="3987" y="88"/>
                    </a:cubicBezTo>
                    <a:cubicBezTo>
                      <a:pt x="3988" y="89"/>
                      <a:pt x="3989" y="91"/>
                      <a:pt x="3990" y="93"/>
                    </a:cubicBezTo>
                    <a:close/>
                    <a:moveTo>
                      <a:pt x="3991" y="88"/>
                    </a:moveTo>
                    <a:cubicBezTo>
                      <a:pt x="3990" y="86"/>
                      <a:pt x="3989" y="85"/>
                      <a:pt x="3988" y="84"/>
                    </a:cubicBezTo>
                    <a:cubicBezTo>
                      <a:pt x="3989" y="81"/>
                      <a:pt x="3991" y="78"/>
                      <a:pt x="3993" y="75"/>
                    </a:cubicBezTo>
                    <a:cubicBezTo>
                      <a:pt x="3992" y="79"/>
                      <a:pt x="3991" y="84"/>
                      <a:pt x="3991" y="88"/>
                    </a:cubicBezTo>
                    <a:close/>
                    <a:moveTo>
                      <a:pt x="4000" y="77"/>
                    </a:moveTo>
                    <a:cubicBezTo>
                      <a:pt x="4000" y="77"/>
                      <a:pt x="4000" y="77"/>
                      <a:pt x="4000" y="77"/>
                    </a:cubicBezTo>
                    <a:cubicBezTo>
                      <a:pt x="4000" y="74"/>
                      <a:pt x="3999" y="70"/>
                      <a:pt x="3999" y="66"/>
                    </a:cubicBezTo>
                    <a:cubicBezTo>
                      <a:pt x="3999" y="65"/>
                      <a:pt x="4000" y="64"/>
                      <a:pt x="4000" y="63"/>
                    </a:cubicBezTo>
                    <a:cubicBezTo>
                      <a:pt x="4001" y="67"/>
                      <a:pt x="4001" y="72"/>
                      <a:pt x="4000" y="77"/>
                    </a:cubicBezTo>
                    <a:close/>
                    <a:moveTo>
                      <a:pt x="4003" y="72"/>
                    </a:moveTo>
                    <a:cubicBezTo>
                      <a:pt x="4003" y="67"/>
                      <a:pt x="4002" y="64"/>
                      <a:pt x="4001" y="61"/>
                    </a:cubicBezTo>
                    <a:cubicBezTo>
                      <a:pt x="4002" y="60"/>
                      <a:pt x="4003" y="58"/>
                      <a:pt x="4004" y="57"/>
                    </a:cubicBezTo>
                    <a:cubicBezTo>
                      <a:pt x="4004" y="62"/>
                      <a:pt x="4004" y="67"/>
                      <a:pt x="4003" y="72"/>
                    </a:cubicBezTo>
                    <a:close/>
                    <a:moveTo>
                      <a:pt x="4019" y="89"/>
                    </a:moveTo>
                    <a:cubicBezTo>
                      <a:pt x="4020" y="91"/>
                      <a:pt x="4021" y="92"/>
                      <a:pt x="4021" y="94"/>
                    </a:cubicBezTo>
                    <a:cubicBezTo>
                      <a:pt x="4021" y="95"/>
                      <a:pt x="4020" y="97"/>
                      <a:pt x="4020" y="98"/>
                    </a:cubicBezTo>
                    <a:cubicBezTo>
                      <a:pt x="4019" y="97"/>
                      <a:pt x="4019" y="96"/>
                      <a:pt x="4018" y="95"/>
                    </a:cubicBezTo>
                    <a:cubicBezTo>
                      <a:pt x="4018" y="93"/>
                      <a:pt x="4019" y="91"/>
                      <a:pt x="4019" y="89"/>
                    </a:cubicBezTo>
                    <a:close/>
                    <a:moveTo>
                      <a:pt x="4018" y="101"/>
                    </a:moveTo>
                    <a:cubicBezTo>
                      <a:pt x="4018" y="101"/>
                      <a:pt x="4018" y="100"/>
                      <a:pt x="4018" y="100"/>
                    </a:cubicBezTo>
                    <a:cubicBezTo>
                      <a:pt x="4018" y="100"/>
                      <a:pt x="4018" y="101"/>
                      <a:pt x="4018" y="101"/>
                    </a:cubicBezTo>
                    <a:cubicBezTo>
                      <a:pt x="4018" y="101"/>
                      <a:pt x="4018" y="101"/>
                      <a:pt x="4018" y="101"/>
                    </a:cubicBezTo>
                    <a:close/>
                    <a:moveTo>
                      <a:pt x="4020" y="122"/>
                    </a:moveTo>
                    <a:cubicBezTo>
                      <a:pt x="4020" y="121"/>
                      <a:pt x="4019" y="120"/>
                      <a:pt x="4019" y="119"/>
                    </a:cubicBezTo>
                    <a:cubicBezTo>
                      <a:pt x="4019" y="117"/>
                      <a:pt x="4019" y="115"/>
                      <a:pt x="4019" y="112"/>
                    </a:cubicBezTo>
                    <a:cubicBezTo>
                      <a:pt x="4019" y="110"/>
                      <a:pt x="4019" y="108"/>
                      <a:pt x="4020" y="106"/>
                    </a:cubicBezTo>
                    <a:cubicBezTo>
                      <a:pt x="4020" y="108"/>
                      <a:pt x="4021" y="110"/>
                      <a:pt x="4021" y="112"/>
                    </a:cubicBezTo>
                    <a:cubicBezTo>
                      <a:pt x="4021" y="115"/>
                      <a:pt x="4021" y="119"/>
                      <a:pt x="4020" y="122"/>
                    </a:cubicBezTo>
                    <a:close/>
                    <a:moveTo>
                      <a:pt x="4022" y="103"/>
                    </a:moveTo>
                    <a:cubicBezTo>
                      <a:pt x="4022" y="102"/>
                      <a:pt x="4021" y="101"/>
                      <a:pt x="4021" y="100"/>
                    </a:cubicBezTo>
                    <a:cubicBezTo>
                      <a:pt x="4021" y="99"/>
                      <a:pt x="4022" y="97"/>
                      <a:pt x="4022" y="96"/>
                    </a:cubicBezTo>
                    <a:cubicBezTo>
                      <a:pt x="4022" y="97"/>
                      <a:pt x="4023" y="97"/>
                      <a:pt x="4023" y="98"/>
                    </a:cubicBezTo>
                    <a:cubicBezTo>
                      <a:pt x="4023" y="100"/>
                      <a:pt x="4022" y="101"/>
                      <a:pt x="4022" y="103"/>
                    </a:cubicBezTo>
                    <a:close/>
                    <a:moveTo>
                      <a:pt x="4023" y="96"/>
                    </a:moveTo>
                    <a:cubicBezTo>
                      <a:pt x="4023" y="95"/>
                      <a:pt x="4023" y="95"/>
                      <a:pt x="4022" y="95"/>
                    </a:cubicBezTo>
                    <a:cubicBezTo>
                      <a:pt x="4023" y="93"/>
                      <a:pt x="4023" y="92"/>
                      <a:pt x="4024" y="91"/>
                    </a:cubicBezTo>
                    <a:cubicBezTo>
                      <a:pt x="4023" y="93"/>
                      <a:pt x="4023" y="94"/>
                      <a:pt x="4023" y="96"/>
                    </a:cubicBezTo>
                    <a:close/>
                    <a:moveTo>
                      <a:pt x="4029" y="95"/>
                    </a:moveTo>
                    <a:cubicBezTo>
                      <a:pt x="4029" y="92"/>
                      <a:pt x="4030" y="89"/>
                      <a:pt x="4030" y="86"/>
                    </a:cubicBezTo>
                    <a:cubicBezTo>
                      <a:pt x="4030" y="86"/>
                      <a:pt x="4031" y="87"/>
                      <a:pt x="4031" y="88"/>
                    </a:cubicBezTo>
                    <a:cubicBezTo>
                      <a:pt x="4031" y="90"/>
                      <a:pt x="4030" y="92"/>
                      <a:pt x="4029" y="95"/>
                    </a:cubicBezTo>
                    <a:close/>
                    <a:moveTo>
                      <a:pt x="4040" y="99"/>
                    </a:moveTo>
                    <a:cubicBezTo>
                      <a:pt x="4040" y="99"/>
                      <a:pt x="4039" y="98"/>
                      <a:pt x="4039" y="97"/>
                    </a:cubicBezTo>
                    <a:cubicBezTo>
                      <a:pt x="4039" y="93"/>
                      <a:pt x="4039" y="89"/>
                      <a:pt x="4039" y="84"/>
                    </a:cubicBezTo>
                    <a:cubicBezTo>
                      <a:pt x="4040" y="80"/>
                      <a:pt x="4043" y="76"/>
                      <a:pt x="4045" y="72"/>
                    </a:cubicBezTo>
                    <a:cubicBezTo>
                      <a:pt x="4046" y="74"/>
                      <a:pt x="4046" y="78"/>
                      <a:pt x="4047" y="82"/>
                    </a:cubicBezTo>
                    <a:cubicBezTo>
                      <a:pt x="4044" y="88"/>
                      <a:pt x="4042" y="93"/>
                      <a:pt x="4040" y="99"/>
                    </a:cubicBezTo>
                    <a:close/>
                    <a:moveTo>
                      <a:pt x="4048" y="75"/>
                    </a:moveTo>
                    <a:cubicBezTo>
                      <a:pt x="4048" y="73"/>
                      <a:pt x="4047" y="71"/>
                      <a:pt x="4047" y="69"/>
                    </a:cubicBezTo>
                    <a:cubicBezTo>
                      <a:pt x="4048" y="68"/>
                      <a:pt x="4048" y="67"/>
                      <a:pt x="4049" y="66"/>
                    </a:cubicBezTo>
                    <a:cubicBezTo>
                      <a:pt x="4049" y="69"/>
                      <a:pt x="4048" y="72"/>
                      <a:pt x="4048" y="75"/>
                    </a:cubicBezTo>
                    <a:close/>
                    <a:moveTo>
                      <a:pt x="4056" y="72"/>
                    </a:moveTo>
                    <a:cubicBezTo>
                      <a:pt x="4056" y="71"/>
                      <a:pt x="4056" y="70"/>
                      <a:pt x="4056" y="70"/>
                    </a:cubicBezTo>
                    <a:cubicBezTo>
                      <a:pt x="4056" y="69"/>
                      <a:pt x="4056" y="69"/>
                      <a:pt x="4056" y="69"/>
                    </a:cubicBezTo>
                    <a:cubicBezTo>
                      <a:pt x="4056" y="71"/>
                      <a:pt x="4056" y="72"/>
                      <a:pt x="4056" y="72"/>
                    </a:cubicBezTo>
                    <a:close/>
                    <a:moveTo>
                      <a:pt x="4056" y="67"/>
                    </a:moveTo>
                    <a:cubicBezTo>
                      <a:pt x="4056" y="67"/>
                      <a:pt x="4056" y="68"/>
                      <a:pt x="4056" y="68"/>
                    </a:cubicBezTo>
                    <a:cubicBezTo>
                      <a:pt x="4056" y="65"/>
                      <a:pt x="4055" y="61"/>
                      <a:pt x="4055" y="58"/>
                    </a:cubicBezTo>
                    <a:cubicBezTo>
                      <a:pt x="4055" y="57"/>
                      <a:pt x="4056" y="56"/>
                      <a:pt x="4057" y="56"/>
                    </a:cubicBezTo>
                    <a:cubicBezTo>
                      <a:pt x="4056" y="60"/>
                      <a:pt x="4056" y="64"/>
                      <a:pt x="4056" y="67"/>
                    </a:cubicBezTo>
                    <a:close/>
                    <a:moveTo>
                      <a:pt x="4064" y="123"/>
                    </a:moveTo>
                    <a:cubicBezTo>
                      <a:pt x="4063" y="124"/>
                      <a:pt x="4062" y="126"/>
                      <a:pt x="4062" y="127"/>
                    </a:cubicBezTo>
                    <a:cubicBezTo>
                      <a:pt x="4062" y="124"/>
                      <a:pt x="4062" y="122"/>
                      <a:pt x="4061" y="119"/>
                    </a:cubicBezTo>
                    <a:cubicBezTo>
                      <a:pt x="4063" y="116"/>
                      <a:pt x="4064" y="112"/>
                      <a:pt x="4065" y="109"/>
                    </a:cubicBezTo>
                    <a:cubicBezTo>
                      <a:pt x="4065" y="111"/>
                      <a:pt x="4065" y="112"/>
                      <a:pt x="4065" y="114"/>
                    </a:cubicBezTo>
                    <a:cubicBezTo>
                      <a:pt x="4065" y="117"/>
                      <a:pt x="4064" y="120"/>
                      <a:pt x="4064" y="123"/>
                    </a:cubicBezTo>
                    <a:close/>
                    <a:moveTo>
                      <a:pt x="4066" y="110"/>
                    </a:moveTo>
                    <a:cubicBezTo>
                      <a:pt x="4066" y="111"/>
                      <a:pt x="4066" y="112"/>
                      <a:pt x="4065" y="112"/>
                    </a:cubicBezTo>
                    <a:cubicBezTo>
                      <a:pt x="4065" y="111"/>
                      <a:pt x="4065" y="110"/>
                      <a:pt x="4065" y="109"/>
                    </a:cubicBezTo>
                    <a:cubicBezTo>
                      <a:pt x="4065" y="107"/>
                      <a:pt x="4066" y="105"/>
                      <a:pt x="4066" y="102"/>
                    </a:cubicBezTo>
                    <a:cubicBezTo>
                      <a:pt x="4066" y="105"/>
                      <a:pt x="4066" y="108"/>
                      <a:pt x="4066" y="110"/>
                    </a:cubicBezTo>
                    <a:close/>
                    <a:moveTo>
                      <a:pt x="4068" y="83"/>
                    </a:moveTo>
                    <a:cubicBezTo>
                      <a:pt x="4068" y="83"/>
                      <a:pt x="4068" y="84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7" y="85"/>
                      <a:pt x="4067" y="85"/>
                      <a:pt x="4067" y="85"/>
                    </a:cubicBezTo>
                    <a:cubicBezTo>
                      <a:pt x="4066" y="87"/>
                      <a:pt x="4065" y="89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1"/>
                      <a:pt x="4064" y="91"/>
                      <a:pt x="4064" y="91"/>
                    </a:cubicBezTo>
                    <a:cubicBezTo>
                      <a:pt x="4064" y="92"/>
                      <a:pt x="4063" y="94"/>
                      <a:pt x="4062" y="96"/>
                    </a:cubicBezTo>
                    <a:cubicBezTo>
                      <a:pt x="4062" y="90"/>
                      <a:pt x="4063" y="85"/>
                      <a:pt x="4065" y="79"/>
                    </a:cubicBezTo>
                    <a:cubicBezTo>
                      <a:pt x="4063" y="85"/>
                      <a:pt x="4062" y="90"/>
                      <a:pt x="4060" y="95"/>
                    </a:cubicBezTo>
                    <a:cubicBezTo>
                      <a:pt x="4060" y="85"/>
                      <a:pt x="4061" y="74"/>
                      <a:pt x="4061" y="63"/>
                    </a:cubicBezTo>
                    <a:cubicBezTo>
                      <a:pt x="4064" y="60"/>
                      <a:pt x="4067" y="58"/>
                      <a:pt x="4070" y="55"/>
                    </a:cubicBezTo>
                    <a:cubicBezTo>
                      <a:pt x="4070" y="62"/>
                      <a:pt x="4069" y="72"/>
                      <a:pt x="4068" y="83"/>
                    </a:cubicBezTo>
                    <a:close/>
                    <a:moveTo>
                      <a:pt x="4074" y="105"/>
                    </a:moveTo>
                    <a:cubicBezTo>
                      <a:pt x="4074" y="102"/>
                      <a:pt x="4074" y="99"/>
                      <a:pt x="4074" y="96"/>
                    </a:cubicBezTo>
                    <a:cubicBezTo>
                      <a:pt x="4074" y="97"/>
                      <a:pt x="4075" y="99"/>
                      <a:pt x="4075" y="100"/>
                    </a:cubicBezTo>
                    <a:cubicBezTo>
                      <a:pt x="4075" y="102"/>
                      <a:pt x="4075" y="103"/>
                      <a:pt x="4074" y="105"/>
                    </a:cubicBezTo>
                    <a:cubicBezTo>
                      <a:pt x="4074" y="105"/>
                      <a:pt x="4074" y="105"/>
                      <a:pt x="4074" y="105"/>
                    </a:cubicBezTo>
                    <a:close/>
                    <a:moveTo>
                      <a:pt x="4075" y="130"/>
                    </a:moveTo>
                    <a:cubicBezTo>
                      <a:pt x="4075" y="130"/>
                      <a:pt x="4075" y="130"/>
                      <a:pt x="4075" y="130"/>
                    </a:cubicBezTo>
                    <a:cubicBezTo>
                      <a:pt x="4075" y="129"/>
                      <a:pt x="4075" y="128"/>
                      <a:pt x="4075" y="127"/>
                    </a:cubicBezTo>
                    <a:cubicBezTo>
                      <a:pt x="4075" y="128"/>
                      <a:pt x="4075" y="128"/>
                      <a:pt x="4076" y="129"/>
                    </a:cubicBezTo>
                    <a:cubicBezTo>
                      <a:pt x="4075" y="129"/>
                      <a:pt x="4075" y="130"/>
                      <a:pt x="4075" y="130"/>
                    </a:cubicBezTo>
                    <a:close/>
                    <a:moveTo>
                      <a:pt x="4082" y="74"/>
                    </a:moveTo>
                    <a:cubicBezTo>
                      <a:pt x="4082" y="73"/>
                      <a:pt x="4082" y="71"/>
                      <a:pt x="4082" y="70"/>
                    </a:cubicBezTo>
                    <a:cubicBezTo>
                      <a:pt x="4082" y="70"/>
                      <a:pt x="4083" y="71"/>
                      <a:pt x="4083" y="72"/>
                    </a:cubicBezTo>
                    <a:cubicBezTo>
                      <a:pt x="4083" y="72"/>
                      <a:pt x="4083" y="73"/>
                      <a:pt x="4082" y="74"/>
                    </a:cubicBezTo>
                    <a:close/>
                    <a:moveTo>
                      <a:pt x="4086" y="139"/>
                    </a:moveTo>
                    <a:cubicBezTo>
                      <a:pt x="4086" y="140"/>
                      <a:pt x="4086" y="141"/>
                      <a:pt x="4086" y="142"/>
                    </a:cubicBezTo>
                    <a:cubicBezTo>
                      <a:pt x="4086" y="142"/>
                      <a:pt x="4086" y="141"/>
                      <a:pt x="4086" y="139"/>
                    </a:cubicBezTo>
                    <a:cubicBezTo>
                      <a:pt x="4086" y="138"/>
                      <a:pt x="4086" y="137"/>
                      <a:pt x="4086" y="136"/>
                    </a:cubicBezTo>
                    <a:cubicBezTo>
                      <a:pt x="4086" y="137"/>
                      <a:pt x="4086" y="137"/>
                      <a:pt x="4086" y="137"/>
                    </a:cubicBezTo>
                    <a:cubicBezTo>
                      <a:pt x="4086" y="138"/>
                      <a:pt x="4086" y="139"/>
                      <a:pt x="4086" y="139"/>
                    </a:cubicBezTo>
                    <a:close/>
                    <a:moveTo>
                      <a:pt x="4088" y="122"/>
                    </a:moveTo>
                    <a:cubicBezTo>
                      <a:pt x="4088" y="122"/>
                      <a:pt x="4088" y="122"/>
                      <a:pt x="4087" y="122"/>
                    </a:cubicBezTo>
                    <a:cubicBezTo>
                      <a:pt x="4088" y="121"/>
                      <a:pt x="4088" y="121"/>
                      <a:pt x="4088" y="121"/>
                    </a:cubicBezTo>
                    <a:cubicBezTo>
                      <a:pt x="4088" y="121"/>
                      <a:pt x="4088" y="122"/>
                      <a:pt x="4088" y="122"/>
                    </a:cubicBezTo>
                    <a:close/>
                    <a:moveTo>
                      <a:pt x="4089" y="110"/>
                    </a:moveTo>
                    <a:cubicBezTo>
                      <a:pt x="4088" y="112"/>
                      <a:pt x="4087" y="114"/>
                      <a:pt x="4086" y="116"/>
                    </a:cubicBezTo>
                    <a:cubicBezTo>
                      <a:pt x="4086" y="116"/>
                      <a:pt x="4086" y="117"/>
                      <a:pt x="4086" y="117"/>
                    </a:cubicBezTo>
                    <a:cubicBezTo>
                      <a:pt x="4086" y="113"/>
                      <a:pt x="4085" y="108"/>
                      <a:pt x="4085" y="104"/>
                    </a:cubicBezTo>
                    <a:cubicBezTo>
                      <a:pt x="4086" y="101"/>
                      <a:pt x="4086" y="98"/>
                      <a:pt x="4087" y="96"/>
                    </a:cubicBezTo>
                    <a:cubicBezTo>
                      <a:pt x="4088" y="95"/>
                      <a:pt x="4088" y="95"/>
                      <a:pt x="4088" y="95"/>
                    </a:cubicBezTo>
                    <a:cubicBezTo>
                      <a:pt x="4088" y="98"/>
                      <a:pt x="4089" y="101"/>
                      <a:pt x="4089" y="104"/>
                    </a:cubicBezTo>
                    <a:cubicBezTo>
                      <a:pt x="4089" y="106"/>
                      <a:pt x="4089" y="108"/>
                      <a:pt x="4089" y="110"/>
                    </a:cubicBezTo>
                    <a:close/>
                    <a:moveTo>
                      <a:pt x="4090" y="99"/>
                    </a:moveTo>
                    <a:cubicBezTo>
                      <a:pt x="4089" y="97"/>
                      <a:pt x="4089" y="96"/>
                      <a:pt x="4088" y="94"/>
                    </a:cubicBezTo>
                    <a:cubicBezTo>
                      <a:pt x="4089" y="93"/>
                      <a:pt x="4090" y="92"/>
                      <a:pt x="4090" y="91"/>
                    </a:cubicBezTo>
                    <a:cubicBezTo>
                      <a:pt x="4090" y="94"/>
                      <a:pt x="4090" y="96"/>
                      <a:pt x="4090" y="99"/>
                    </a:cubicBezTo>
                    <a:close/>
                    <a:moveTo>
                      <a:pt x="4084" y="91"/>
                    </a:moveTo>
                    <a:cubicBezTo>
                      <a:pt x="4084" y="89"/>
                      <a:pt x="4084" y="88"/>
                      <a:pt x="4083" y="87"/>
                    </a:cubicBezTo>
                    <a:cubicBezTo>
                      <a:pt x="4085" y="83"/>
                      <a:pt x="4086" y="80"/>
                      <a:pt x="4087" y="76"/>
                    </a:cubicBezTo>
                    <a:cubicBezTo>
                      <a:pt x="4088" y="78"/>
                      <a:pt x="4090" y="80"/>
                      <a:pt x="4091" y="82"/>
                    </a:cubicBezTo>
                    <a:cubicBezTo>
                      <a:pt x="4088" y="85"/>
                      <a:pt x="4086" y="88"/>
                      <a:pt x="4084" y="91"/>
                    </a:cubicBezTo>
                    <a:close/>
                    <a:moveTo>
                      <a:pt x="4091" y="79"/>
                    </a:moveTo>
                    <a:cubicBezTo>
                      <a:pt x="4090" y="77"/>
                      <a:pt x="4089" y="76"/>
                      <a:pt x="4088" y="75"/>
                    </a:cubicBezTo>
                    <a:cubicBezTo>
                      <a:pt x="4089" y="72"/>
                      <a:pt x="4091" y="68"/>
                      <a:pt x="4092" y="65"/>
                    </a:cubicBezTo>
                    <a:cubicBezTo>
                      <a:pt x="4092" y="68"/>
                      <a:pt x="4092" y="73"/>
                      <a:pt x="4091" y="79"/>
                    </a:cubicBezTo>
                    <a:close/>
                    <a:moveTo>
                      <a:pt x="4109" y="54"/>
                    </a:moveTo>
                    <a:cubicBezTo>
                      <a:pt x="4109" y="56"/>
                      <a:pt x="4108" y="58"/>
                      <a:pt x="4108" y="61"/>
                    </a:cubicBezTo>
                    <a:cubicBezTo>
                      <a:pt x="4104" y="65"/>
                      <a:pt x="4100" y="69"/>
                      <a:pt x="4097" y="74"/>
                    </a:cubicBezTo>
                    <a:cubicBezTo>
                      <a:pt x="4100" y="67"/>
                      <a:pt x="4104" y="60"/>
                      <a:pt x="4109" y="54"/>
                    </a:cubicBezTo>
                    <a:close/>
                    <a:moveTo>
                      <a:pt x="4095" y="89"/>
                    </a:moveTo>
                    <a:cubicBezTo>
                      <a:pt x="4095" y="90"/>
                      <a:pt x="4096" y="91"/>
                      <a:pt x="4096" y="92"/>
                    </a:cubicBezTo>
                    <a:cubicBezTo>
                      <a:pt x="4096" y="92"/>
                      <a:pt x="4095" y="93"/>
                      <a:pt x="4095" y="94"/>
                    </a:cubicBezTo>
                    <a:cubicBezTo>
                      <a:pt x="4095" y="92"/>
                      <a:pt x="4095" y="91"/>
                      <a:pt x="4095" y="89"/>
                    </a:cubicBezTo>
                    <a:close/>
                    <a:moveTo>
                      <a:pt x="4097" y="127"/>
                    </a:moveTo>
                    <a:cubicBezTo>
                      <a:pt x="4097" y="125"/>
                      <a:pt x="4097" y="124"/>
                      <a:pt x="4096" y="122"/>
                    </a:cubicBezTo>
                    <a:cubicBezTo>
                      <a:pt x="4096" y="117"/>
                      <a:pt x="4096" y="111"/>
                      <a:pt x="4096" y="105"/>
                    </a:cubicBezTo>
                    <a:cubicBezTo>
                      <a:pt x="4097" y="104"/>
                      <a:pt x="4097" y="102"/>
                      <a:pt x="4098" y="101"/>
                    </a:cubicBezTo>
                    <a:cubicBezTo>
                      <a:pt x="4097" y="102"/>
                      <a:pt x="4097" y="103"/>
                      <a:pt x="4096" y="105"/>
                    </a:cubicBezTo>
                    <a:cubicBezTo>
                      <a:pt x="4095" y="102"/>
                      <a:pt x="4095" y="99"/>
                      <a:pt x="4095" y="96"/>
                    </a:cubicBezTo>
                    <a:cubicBezTo>
                      <a:pt x="4096" y="95"/>
                      <a:pt x="4096" y="94"/>
                      <a:pt x="4096" y="93"/>
                    </a:cubicBezTo>
                    <a:cubicBezTo>
                      <a:pt x="4097" y="95"/>
                      <a:pt x="4098" y="97"/>
                      <a:pt x="4099" y="100"/>
                    </a:cubicBezTo>
                    <a:cubicBezTo>
                      <a:pt x="4099" y="100"/>
                      <a:pt x="4099" y="100"/>
                      <a:pt x="4098" y="101"/>
                    </a:cubicBezTo>
                    <a:cubicBezTo>
                      <a:pt x="4099" y="100"/>
                      <a:pt x="4099" y="100"/>
                      <a:pt x="4099" y="100"/>
                    </a:cubicBezTo>
                    <a:cubicBezTo>
                      <a:pt x="4100" y="101"/>
                      <a:pt x="4100" y="102"/>
                      <a:pt x="4101" y="103"/>
                    </a:cubicBezTo>
                    <a:cubicBezTo>
                      <a:pt x="4099" y="112"/>
                      <a:pt x="4098" y="120"/>
                      <a:pt x="4097" y="127"/>
                    </a:cubicBezTo>
                    <a:close/>
                    <a:moveTo>
                      <a:pt x="4098" y="87"/>
                    </a:moveTo>
                    <a:cubicBezTo>
                      <a:pt x="4099" y="86"/>
                      <a:pt x="4100" y="84"/>
                      <a:pt x="4101" y="83"/>
                    </a:cubicBezTo>
                    <a:cubicBezTo>
                      <a:pt x="4100" y="84"/>
                      <a:pt x="4099" y="86"/>
                      <a:pt x="4098" y="87"/>
                    </a:cubicBezTo>
                    <a:cubicBezTo>
                      <a:pt x="4097" y="86"/>
                      <a:pt x="4096" y="85"/>
                      <a:pt x="4095" y="83"/>
                    </a:cubicBezTo>
                    <a:cubicBezTo>
                      <a:pt x="4099" y="78"/>
                      <a:pt x="4103" y="72"/>
                      <a:pt x="4106" y="67"/>
                    </a:cubicBezTo>
                    <a:cubicBezTo>
                      <a:pt x="4106" y="72"/>
                      <a:pt x="4105" y="76"/>
                      <a:pt x="4104" y="81"/>
                    </a:cubicBezTo>
                    <a:cubicBezTo>
                      <a:pt x="4104" y="80"/>
                      <a:pt x="4103" y="79"/>
                      <a:pt x="4103" y="79"/>
                    </a:cubicBezTo>
                    <a:cubicBezTo>
                      <a:pt x="4103" y="78"/>
                      <a:pt x="4104" y="77"/>
                      <a:pt x="4105" y="75"/>
                    </a:cubicBezTo>
                    <a:cubicBezTo>
                      <a:pt x="4104" y="76"/>
                      <a:pt x="4103" y="77"/>
                      <a:pt x="4103" y="79"/>
                    </a:cubicBezTo>
                    <a:cubicBezTo>
                      <a:pt x="4102" y="78"/>
                      <a:pt x="4102" y="77"/>
                      <a:pt x="4101" y="77"/>
                    </a:cubicBezTo>
                    <a:cubicBezTo>
                      <a:pt x="4101" y="78"/>
                      <a:pt x="4102" y="79"/>
                      <a:pt x="4102" y="79"/>
                    </a:cubicBezTo>
                    <a:cubicBezTo>
                      <a:pt x="4102" y="80"/>
                      <a:pt x="4101" y="81"/>
                      <a:pt x="4101" y="83"/>
                    </a:cubicBezTo>
                    <a:cubicBezTo>
                      <a:pt x="4101" y="82"/>
                      <a:pt x="4102" y="81"/>
                      <a:pt x="4102" y="80"/>
                    </a:cubicBezTo>
                    <a:cubicBezTo>
                      <a:pt x="4103" y="81"/>
                      <a:pt x="4103" y="82"/>
                      <a:pt x="4104" y="84"/>
                    </a:cubicBezTo>
                    <a:cubicBezTo>
                      <a:pt x="4103" y="87"/>
                      <a:pt x="4103" y="90"/>
                      <a:pt x="4102" y="93"/>
                    </a:cubicBezTo>
                    <a:cubicBezTo>
                      <a:pt x="4101" y="91"/>
                      <a:pt x="4100" y="89"/>
                      <a:pt x="4098" y="87"/>
                    </a:cubicBezTo>
                    <a:close/>
                    <a:moveTo>
                      <a:pt x="4103" y="144"/>
                    </a:moveTo>
                    <a:cubicBezTo>
                      <a:pt x="4103" y="144"/>
                      <a:pt x="4103" y="143"/>
                      <a:pt x="4103" y="143"/>
                    </a:cubicBezTo>
                    <a:cubicBezTo>
                      <a:pt x="4103" y="140"/>
                      <a:pt x="4103" y="136"/>
                      <a:pt x="4103" y="131"/>
                    </a:cubicBezTo>
                    <a:cubicBezTo>
                      <a:pt x="4104" y="128"/>
                      <a:pt x="4105" y="126"/>
                      <a:pt x="4105" y="125"/>
                    </a:cubicBezTo>
                    <a:cubicBezTo>
                      <a:pt x="4105" y="125"/>
                      <a:pt x="4105" y="124"/>
                      <a:pt x="4105" y="124"/>
                    </a:cubicBezTo>
                    <a:cubicBezTo>
                      <a:pt x="4104" y="124"/>
                      <a:pt x="4104" y="124"/>
                      <a:pt x="4104" y="124"/>
                    </a:cubicBezTo>
                    <a:cubicBezTo>
                      <a:pt x="4104" y="122"/>
                      <a:pt x="4104" y="120"/>
                      <a:pt x="4104" y="118"/>
                    </a:cubicBezTo>
                    <a:cubicBezTo>
                      <a:pt x="4105" y="121"/>
                      <a:pt x="4106" y="125"/>
                      <a:pt x="4106" y="128"/>
                    </a:cubicBezTo>
                    <a:cubicBezTo>
                      <a:pt x="4105" y="136"/>
                      <a:pt x="4104" y="141"/>
                      <a:pt x="4103" y="144"/>
                    </a:cubicBezTo>
                    <a:close/>
                    <a:moveTo>
                      <a:pt x="4110" y="107"/>
                    </a:moveTo>
                    <a:cubicBezTo>
                      <a:pt x="4109" y="105"/>
                      <a:pt x="4108" y="102"/>
                      <a:pt x="4106" y="100"/>
                    </a:cubicBezTo>
                    <a:cubicBezTo>
                      <a:pt x="4107" y="97"/>
                      <a:pt x="4107" y="95"/>
                      <a:pt x="4107" y="93"/>
                    </a:cubicBezTo>
                    <a:cubicBezTo>
                      <a:pt x="4108" y="96"/>
                      <a:pt x="4110" y="99"/>
                      <a:pt x="4111" y="102"/>
                    </a:cubicBezTo>
                    <a:cubicBezTo>
                      <a:pt x="4111" y="104"/>
                      <a:pt x="4110" y="105"/>
                      <a:pt x="4110" y="107"/>
                    </a:cubicBezTo>
                    <a:close/>
                    <a:moveTo>
                      <a:pt x="4111" y="159"/>
                    </a:moveTo>
                    <a:cubicBezTo>
                      <a:pt x="4111" y="159"/>
                      <a:pt x="4111" y="159"/>
                      <a:pt x="4111" y="159"/>
                    </a:cubicBezTo>
                    <a:cubicBezTo>
                      <a:pt x="4111" y="159"/>
                      <a:pt x="4111" y="159"/>
                      <a:pt x="4112" y="159"/>
                    </a:cubicBezTo>
                    <a:cubicBezTo>
                      <a:pt x="4111" y="159"/>
                      <a:pt x="4111" y="159"/>
                      <a:pt x="4111" y="159"/>
                    </a:cubicBezTo>
                    <a:close/>
                    <a:moveTo>
                      <a:pt x="4112" y="96"/>
                    </a:moveTo>
                    <a:cubicBezTo>
                      <a:pt x="4111" y="93"/>
                      <a:pt x="4109" y="91"/>
                      <a:pt x="4108" y="88"/>
                    </a:cubicBezTo>
                    <a:cubicBezTo>
                      <a:pt x="4110" y="85"/>
                      <a:pt x="4112" y="82"/>
                      <a:pt x="4114" y="79"/>
                    </a:cubicBezTo>
                    <a:cubicBezTo>
                      <a:pt x="4114" y="84"/>
                      <a:pt x="4113" y="90"/>
                      <a:pt x="4112" y="96"/>
                    </a:cubicBezTo>
                    <a:close/>
                    <a:moveTo>
                      <a:pt x="4115" y="75"/>
                    </a:moveTo>
                    <a:cubicBezTo>
                      <a:pt x="4113" y="78"/>
                      <a:pt x="4110" y="82"/>
                      <a:pt x="4108" y="86"/>
                    </a:cubicBezTo>
                    <a:cubicBezTo>
                      <a:pt x="4109" y="77"/>
                      <a:pt x="4110" y="68"/>
                      <a:pt x="4111" y="61"/>
                    </a:cubicBezTo>
                    <a:cubicBezTo>
                      <a:pt x="4113" y="58"/>
                      <a:pt x="4115" y="55"/>
                      <a:pt x="4117" y="53"/>
                    </a:cubicBezTo>
                    <a:cubicBezTo>
                      <a:pt x="4117" y="58"/>
                      <a:pt x="4116" y="66"/>
                      <a:pt x="4115" y="75"/>
                    </a:cubicBezTo>
                    <a:close/>
                    <a:moveTo>
                      <a:pt x="4122" y="139"/>
                    </a:moveTo>
                    <a:cubicBezTo>
                      <a:pt x="4122" y="139"/>
                      <a:pt x="4121" y="139"/>
                      <a:pt x="4121" y="139"/>
                    </a:cubicBezTo>
                    <a:cubicBezTo>
                      <a:pt x="4121" y="138"/>
                      <a:pt x="4121" y="138"/>
                      <a:pt x="4122" y="138"/>
                    </a:cubicBezTo>
                    <a:cubicBezTo>
                      <a:pt x="4122" y="138"/>
                      <a:pt x="4122" y="138"/>
                      <a:pt x="4122" y="138"/>
                    </a:cubicBezTo>
                    <a:cubicBezTo>
                      <a:pt x="4122" y="139"/>
                      <a:pt x="4122" y="139"/>
                      <a:pt x="4122" y="139"/>
                    </a:cubicBezTo>
                    <a:close/>
                    <a:moveTo>
                      <a:pt x="4147" y="137"/>
                    </a:moveTo>
                    <a:cubicBezTo>
                      <a:pt x="4147" y="136"/>
                      <a:pt x="4146" y="135"/>
                      <a:pt x="4146" y="133"/>
                    </a:cubicBezTo>
                    <a:cubicBezTo>
                      <a:pt x="4146" y="132"/>
                      <a:pt x="4146" y="130"/>
                      <a:pt x="4146" y="128"/>
                    </a:cubicBezTo>
                    <a:cubicBezTo>
                      <a:pt x="4146" y="131"/>
                      <a:pt x="4147" y="133"/>
                      <a:pt x="4148" y="135"/>
                    </a:cubicBezTo>
                    <a:cubicBezTo>
                      <a:pt x="4148" y="136"/>
                      <a:pt x="4147" y="137"/>
                      <a:pt x="4147" y="137"/>
                    </a:cubicBezTo>
                    <a:close/>
                    <a:moveTo>
                      <a:pt x="4153" y="99"/>
                    </a:moveTo>
                    <a:cubicBezTo>
                      <a:pt x="4152" y="95"/>
                      <a:pt x="4150" y="92"/>
                      <a:pt x="4148" y="90"/>
                    </a:cubicBezTo>
                    <a:cubicBezTo>
                      <a:pt x="4150" y="93"/>
                      <a:pt x="4152" y="97"/>
                      <a:pt x="4153" y="101"/>
                    </a:cubicBezTo>
                    <a:cubicBezTo>
                      <a:pt x="4152" y="110"/>
                      <a:pt x="4151" y="118"/>
                      <a:pt x="4149" y="125"/>
                    </a:cubicBezTo>
                    <a:cubicBezTo>
                      <a:pt x="4148" y="122"/>
                      <a:pt x="4147" y="119"/>
                      <a:pt x="4147" y="116"/>
                    </a:cubicBezTo>
                    <a:cubicBezTo>
                      <a:pt x="4147" y="102"/>
                      <a:pt x="4148" y="86"/>
                      <a:pt x="4149" y="72"/>
                    </a:cubicBezTo>
                    <a:cubicBezTo>
                      <a:pt x="4151" y="75"/>
                      <a:pt x="4154" y="79"/>
                      <a:pt x="4156" y="82"/>
                    </a:cubicBezTo>
                    <a:cubicBezTo>
                      <a:pt x="4155" y="88"/>
                      <a:pt x="4154" y="93"/>
                      <a:pt x="4153" y="99"/>
                    </a:cubicBezTo>
                    <a:close/>
                    <a:moveTo>
                      <a:pt x="4156" y="142"/>
                    </a:moveTo>
                    <a:cubicBezTo>
                      <a:pt x="4157" y="134"/>
                      <a:pt x="4158" y="127"/>
                      <a:pt x="4158" y="121"/>
                    </a:cubicBezTo>
                    <a:cubicBezTo>
                      <a:pt x="4158" y="123"/>
                      <a:pt x="4159" y="125"/>
                      <a:pt x="4159" y="127"/>
                    </a:cubicBezTo>
                    <a:cubicBezTo>
                      <a:pt x="4158" y="136"/>
                      <a:pt x="4156" y="142"/>
                      <a:pt x="4156" y="142"/>
                    </a:cubicBezTo>
                    <a:close/>
                    <a:moveTo>
                      <a:pt x="4160" y="144"/>
                    </a:moveTo>
                    <a:cubicBezTo>
                      <a:pt x="4160" y="142"/>
                      <a:pt x="4160" y="140"/>
                      <a:pt x="4161" y="137"/>
                    </a:cubicBezTo>
                    <a:cubicBezTo>
                      <a:pt x="4161" y="138"/>
                      <a:pt x="4161" y="138"/>
                      <a:pt x="4161" y="138"/>
                    </a:cubicBezTo>
                    <a:cubicBezTo>
                      <a:pt x="4160" y="142"/>
                      <a:pt x="4160" y="144"/>
                      <a:pt x="4160" y="144"/>
                    </a:cubicBezTo>
                    <a:close/>
                    <a:moveTo>
                      <a:pt x="4159" y="110"/>
                    </a:moveTo>
                    <a:cubicBezTo>
                      <a:pt x="4159" y="103"/>
                      <a:pt x="4160" y="96"/>
                      <a:pt x="4160" y="90"/>
                    </a:cubicBezTo>
                    <a:cubicBezTo>
                      <a:pt x="4162" y="93"/>
                      <a:pt x="4163" y="96"/>
                      <a:pt x="4164" y="99"/>
                    </a:cubicBezTo>
                    <a:cubicBezTo>
                      <a:pt x="4163" y="105"/>
                      <a:pt x="4162" y="111"/>
                      <a:pt x="4161" y="116"/>
                    </a:cubicBezTo>
                    <a:cubicBezTo>
                      <a:pt x="4160" y="114"/>
                      <a:pt x="4159" y="112"/>
                      <a:pt x="4159" y="110"/>
                    </a:cubicBezTo>
                    <a:close/>
                    <a:moveTo>
                      <a:pt x="4164" y="124"/>
                    </a:moveTo>
                    <a:cubicBezTo>
                      <a:pt x="4163" y="123"/>
                      <a:pt x="4163" y="122"/>
                      <a:pt x="4163" y="121"/>
                    </a:cubicBezTo>
                    <a:cubicBezTo>
                      <a:pt x="4163" y="115"/>
                      <a:pt x="4164" y="109"/>
                      <a:pt x="4165" y="103"/>
                    </a:cubicBezTo>
                    <a:cubicBezTo>
                      <a:pt x="4165" y="105"/>
                      <a:pt x="4166" y="107"/>
                      <a:pt x="4167" y="109"/>
                    </a:cubicBezTo>
                    <a:cubicBezTo>
                      <a:pt x="4166" y="114"/>
                      <a:pt x="4165" y="119"/>
                      <a:pt x="4164" y="124"/>
                    </a:cubicBezTo>
                    <a:close/>
                    <a:moveTo>
                      <a:pt x="4169" y="146"/>
                    </a:moveTo>
                    <a:cubicBezTo>
                      <a:pt x="4169" y="145"/>
                      <a:pt x="4169" y="145"/>
                      <a:pt x="4169" y="145"/>
                    </a:cubicBezTo>
                    <a:cubicBezTo>
                      <a:pt x="4170" y="144"/>
                      <a:pt x="4170" y="143"/>
                      <a:pt x="4170" y="141"/>
                    </a:cubicBezTo>
                    <a:cubicBezTo>
                      <a:pt x="4170" y="142"/>
                      <a:pt x="4170" y="143"/>
                      <a:pt x="4170" y="144"/>
                    </a:cubicBezTo>
                    <a:cubicBezTo>
                      <a:pt x="4170" y="145"/>
                      <a:pt x="4170" y="145"/>
                      <a:pt x="4169" y="146"/>
                    </a:cubicBezTo>
                    <a:close/>
                    <a:moveTo>
                      <a:pt x="4193" y="118"/>
                    </a:moveTo>
                    <a:cubicBezTo>
                      <a:pt x="4192" y="114"/>
                      <a:pt x="4190" y="111"/>
                      <a:pt x="4189" y="107"/>
                    </a:cubicBezTo>
                    <a:cubicBezTo>
                      <a:pt x="4189" y="96"/>
                      <a:pt x="4189" y="84"/>
                      <a:pt x="4189" y="74"/>
                    </a:cubicBezTo>
                    <a:cubicBezTo>
                      <a:pt x="4189" y="70"/>
                      <a:pt x="4189" y="67"/>
                      <a:pt x="4188" y="65"/>
                    </a:cubicBezTo>
                    <a:cubicBezTo>
                      <a:pt x="4189" y="74"/>
                      <a:pt x="4193" y="84"/>
                      <a:pt x="4196" y="94"/>
                    </a:cubicBezTo>
                    <a:cubicBezTo>
                      <a:pt x="4195" y="102"/>
                      <a:pt x="4194" y="110"/>
                      <a:pt x="4193" y="118"/>
                    </a:cubicBezTo>
                    <a:close/>
                    <a:moveTo>
                      <a:pt x="4222" y="124"/>
                    </a:moveTo>
                    <a:cubicBezTo>
                      <a:pt x="4221" y="122"/>
                      <a:pt x="4221" y="120"/>
                      <a:pt x="4220" y="117"/>
                    </a:cubicBezTo>
                    <a:cubicBezTo>
                      <a:pt x="4221" y="109"/>
                      <a:pt x="4222" y="100"/>
                      <a:pt x="4223" y="92"/>
                    </a:cubicBezTo>
                    <a:cubicBezTo>
                      <a:pt x="4225" y="96"/>
                      <a:pt x="4226" y="100"/>
                      <a:pt x="4226" y="104"/>
                    </a:cubicBezTo>
                    <a:cubicBezTo>
                      <a:pt x="4225" y="111"/>
                      <a:pt x="4223" y="118"/>
                      <a:pt x="4222" y="124"/>
                    </a:cubicBezTo>
                    <a:close/>
                    <a:moveTo>
                      <a:pt x="4262" y="133"/>
                    </a:moveTo>
                    <a:cubicBezTo>
                      <a:pt x="4262" y="130"/>
                      <a:pt x="4261" y="126"/>
                      <a:pt x="4260" y="122"/>
                    </a:cubicBezTo>
                    <a:cubicBezTo>
                      <a:pt x="4260" y="112"/>
                      <a:pt x="4260" y="100"/>
                      <a:pt x="4261" y="88"/>
                    </a:cubicBezTo>
                    <a:cubicBezTo>
                      <a:pt x="4263" y="96"/>
                      <a:pt x="4265" y="104"/>
                      <a:pt x="4265" y="111"/>
                    </a:cubicBezTo>
                    <a:cubicBezTo>
                      <a:pt x="4266" y="117"/>
                      <a:pt x="4266" y="117"/>
                      <a:pt x="4266" y="117"/>
                    </a:cubicBezTo>
                    <a:cubicBezTo>
                      <a:pt x="4264" y="123"/>
                      <a:pt x="4263" y="129"/>
                      <a:pt x="4262" y="133"/>
                    </a:cubicBezTo>
                    <a:close/>
                    <a:moveTo>
                      <a:pt x="4275" y="110"/>
                    </a:moveTo>
                    <a:cubicBezTo>
                      <a:pt x="4275" y="113"/>
                      <a:pt x="4275" y="116"/>
                      <a:pt x="4275" y="119"/>
                    </a:cubicBezTo>
                    <a:cubicBezTo>
                      <a:pt x="4274" y="122"/>
                      <a:pt x="4274" y="124"/>
                      <a:pt x="4273" y="127"/>
                    </a:cubicBezTo>
                    <a:cubicBezTo>
                      <a:pt x="4273" y="119"/>
                      <a:pt x="4272" y="111"/>
                      <a:pt x="4271" y="104"/>
                    </a:cubicBezTo>
                    <a:cubicBezTo>
                      <a:pt x="4272" y="98"/>
                      <a:pt x="4272" y="91"/>
                      <a:pt x="4273" y="86"/>
                    </a:cubicBezTo>
                    <a:cubicBezTo>
                      <a:pt x="4275" y="93"/>
                      <a:pt x="4275" y="102"/>
                      <a:pt x="4275" y="110"/>
                    </a:cubicBezTo>
                    <a:close/>
                    <a:moveTo>
                      <a:pt x="4285" y="142"/>
                    </a:moveTo>
                    <a:cubicBezTo>
                      <a:pt x="4285" y="142"/>
                      <a:pt x="4285" y="141"/>
                      <a:pt x="4286" y="138"/>
                    </a:cubicBezTo>
                    <a:cubicBezTo>
                      <a:pt x="4287" y="120"/>
                      <a:pt x="4286" y="96"/>
                      <a:pt x="4285" y="77"/>
                    </a:cubicBezTo>
                    <a:cubicBezTo>
                      <a:pt x="4287" y="81"/>
                      <a:pt x="4289" y="86"/>
                      <a:pt x="4290" y="92"/>
                    </a:cubicBezTo>
                    <a:cubicBezTo>
                      <a:pt x="4288" y="108"/>
                      <a:pt x="4286" y="129"/>
                      <a:pt x="4286" y="138"/>
                    </a:cubicBezTo>
                    <a:cubicBezTo>
                      <a:pt x="4285" y="139"/>
                      <a:pt x="4285" y="141"/>
                      <a:pt x="4285" y="142"/>
                    </a:cubicBezTo>
                    <a:close/>
                    <a:moveTo>
                      <a:pt x="4289" y="129"/>
                    </a:moveTo>
                    <a:cubicBezTo>
                      <a:pt x="4289" y="119"/>
                      <a:pt x="4290" y="107"/>
                      <a:pt x="4291" y="97"/>
                    </a:cubicBezTo>
                    <a:cubicBezTo>
                      <a:pt x="4291" y="100"/>
                      <a:pt x="4291" y="103"/>
                      <a:pt x="4291" y="106"/>
                    </a:cubicBezTo>
                    <a:cubicBezTo>
                      <a:pt x="4291" y="114"/>
                      <a:pt x="4290" y="121"/>
                      <a:pt x="4289" y="129"/>
                    </a:cubicBezTo>
                    <a:close/>
                    <a:moveTo>
                      <a:pt x="4300" y="125"/>
                    </a:moveTo>
                    <a:cubicBezTo>
                      <a:pt x="4301" y="120"/>
                      <a:pt x="4301" y="113"/>
                      <a:pt x="4301" y="107"/>
                    </a:cubicBezTo>
                    <a:cubicBezTo>
                      <a:pt x="4301" y="114"/>
                      <a:pt x="4301" y="120"/>
                      <a:pt x="4300" y="125"/>
                    </a:cubicBezTo>
                    <a:close/>
                    <a:moveTo>
                      <a:pt x="4315" y="112"/>
                    </a:moveTo>
                    <a:cubicBezTo>
                      <a:pt x="4315" y="105"/>
                      <a:pt x="4315" y="98"/>
                      <a:pt x="4315" y="91"/>
                    </a:cubicBezTo>
                    <a:cubicBezTo>
                      <a:pt x="4316" y="95"/>
                      <a:pt x="4316" y="99"/>
                      <a:pt x="4316" y="103"/>
                    </a:cubicBezTo>
                    <a:cubicBezTo>
                      <a:pt x="4316" y="106"/>
                      <a:pt x="4316" y="109"/>
                      <a:pt x="4315" y="112"/>
                    </a:cubicBezTo>
                    <a:close/>
                    <a:moveTo>
                      <a:pt x="4326" y="129"/>
                    </a:moveTo>
                    <a:cubicBezTo>
                      <a:pt x="4326" y="129"/>
                      <a:pt x="4326" y="129"/>
                      <a:pt x="4325" y="130"/>
                    </a:cubicBezTo>
                    <a:cubicBezTo>
                      <a:pt x="4325" y="132"/>
                      <a:pt x="4324" y="134"/>
                      <a:pt x="4324" y="137"/>
                    </a:cubicBezTo>
                    <a:cubicBezTo>
                      <a:pt x="4324" y="136"/>
                      <a:pt x="4324" y="136"/>
                      <a:pt x="4324" y="136"/>
                    </a:cubicBezTo>
                    <a:cubicBezTo>
                      <a:pt x="4324" y="134"/>
                      <a:pt x="4325" y="132"/>
                      <a:pt x="4325" y="130"/>
                    </a:cubicBezTo>
                    <a:cubicBezTo>
                      <a:pt x="4326" y="129"/>
                      <a:pt x="4326" y="129"/>
                      <a:pt x="4326" y="129"/>
                    </a:cubicBezTo>
                    <a:cubicBezTo>
                      <a:pt x="4326" y="129"/>
                      <a:pt x="4326" y="129"/>
                      <a:pt x="4326" y="129"/>
                    </a:cubicBezTo>
                    <a:close/>
                    <a:moveTo>
                      <a:pt x="4362" y="130"/>
                    </a:moveTo>
                    <a:cubicBezTo>
                      <a:pt x="4362" y="132"/>
                      <a:pt x="4361" y="134"/>
                      <a:pt x="4360" y="136"/>
                    </a:cubicBezTo>
                    <a:cubicBezTo>
                      <a:pt x="4360" y="131"/>
                      <a:pt x="4360" y="126"/>
                      <a:pt x="4360" y="121"/>
                    </a:cubicBezTo>
                    <a:cubicBezTo>
                      <a:pt x="4362" y="115"/>
                      <a:pt x="4364" y="110"/>
                      <a:pt x="4365" y="104"/>
                    </a:cubicBezTo>
                    <a:cubicBezTo>
                      <a:pt x="4364" y="114"/>
                      <a:pt x="4363" y="123"/>
                      <a:pt x="4362" y="130"/>
                    </a:cubicBezTo>
                    <a:close/>
                    <a:moveTo>
                      <a:pt x="4378" y="124"/>
                    </a:moveTo>
                    <a:cubicBezTo>
                      <a:pt x="4378" y="110"/>
                      <a:pt x="4380" y="94"/>
                      <a:pt x="4381" y="83"/>
                    </a:cubicBezTo>
                    <a:cubicBezTo>
                      <a:pt x="4381" y="87"/>
                      <a:pt x="4381" y="91"/>
                      <a:pt x="4381" y="95"/>
                    </a:cubicBezTo>
                    <a:cubicBezTo>
                      <a:pt x="4381" y="105"/>
                      <a:pt x="4380" y="114"/>
                      <a:pt x="4378" y="124"/>
                    </a:cubicBezTo>
                    <a:close/>
                    <a:moveTo>
                      <a:pt x="4394" y="160"/>
                    </a:moveTo>
                    <a:cubicBezTo>
                      <a:pt x="4394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5" y="159"/>
                    </a:cubicBezTo>
                    <a:cubicBezTo>
                      <a:pt x="4395" y="159"/>
                      <a:pt x="4395" y="159"/>
                      <a:pt x="4394" y="160"/>
                    </a:cubicBezTo>
                    <a:close/>
                    <a:moveTo>
                      <a:pt x="4407" y="116"/>
                    </a:moveTo>
                    <a:cubicBezTo>
                      <a:pt x="4406" y="121"/>
                      <a:pt x="4404" y="127"/>
                      <a:pt x="4402" y="132"/>
                    </a:cubicBezTo>
                    <a:cubicBezTo>
                      <a:pt x="4402" y="127"/>
                      <a:pt x="4402" y="121"/>
                      <a:pt x="4402" y="115"/>
                    </a:cubicBezTo>
                    <a:cubicBezTo>
                      <a:pt x="4403" y="110"/>
                      <a:pt x="4403" y="104"/>
                      <a:pt x="4403" y="98"/>
                    </a:cubicBezTo>
                    <a:cubicBezTo>
                      <a:pt x="4403" y="95"/>
                      <a:pt x="4403" y="92"/>
                      <a:pt x="4403" y="89"/>
                    </a:cubicBezTo>
                    <a:cubicBezTo>
                      <a:pt x="4404" y="78"/>
                      <a:pt x="4405" y="68"/>
                      <a:pt x="4406" y="60"/>
                    </a:cubicBezTo>
                    <a:cubicBezTo>
                      <a:pt x="4409" y="68"/>
                      <a:pt x="4411" y="78"/>
                      <a:pt x="4411" y="87"/>
                    </a:cubicBezTo>
                    <a:cubicBezTo>
                      <a:pt x="4410" y="95"/>
                      <a:pt x="4409" y="106"/>
                      <a:pt x="4407" y="116"/>
                    </a:cubicBezTo>
                    <a:close/>
                    <a:moveTo>
                      <a:pt x="4415" y="136"/>
                    </a:moveTo>
                    <a:cubicBezTo>
                      <a:pt x="4415" y="137"/>
                      <a:pt x="4414" y="138"/>
                      <a:pt x="4414" y="139"/>
                    </a:cubicBezTo>
                    <a:cubicBezTo>
                      <a:pt x="4414" y="137"/>
                      <a:pt x="4414" y="135"/>
                      <a:pt x="4414" y="133"/>
                    </a:cubicBezTo>
                    <a:cubicBezTo>
                      <a:pt x="4415" y="130"/>
                      <a:pt x="4415" y="128"/>
                      <a:pt x="4416" y="125"/>
                    </a:cubicBezTo>
                    <a:cubicBezTo>
                      <a:pt x="4416" y="129"/>
                      <a:pt x="4415" y="133"/>
                      <a:pt x="4415" y="136"/>
                    </a:cubicBezTo>
                    <a:close/>
                    <a:moveTo>
                      <a:pt x="4431" y="126"/>
                    </a:moveTo>
                    <a:cubicBezTo>
                      <a:pt x="4430" y="113"/>
                      <a:pt x="4430" y="96"/>
                      <a:pt x="4430" y="84"/>
                    </a:cubicBezTo>
                    <a:cubicBezTo>
                      <a:pt x="4434" y="90"/>
                      <a:pt x="4436" y="100"/>
                      <a:pt x="4436" y="104"/>
                    </a:cubicBezTo>
                    <a:cubicBezTo>
                      <a:pt x="4436" y="110"/>
                      <a:pt x="4433" y="118"/>
                      <a:pt x="4431" y="126"/>
                    </a:cubicBezTo>
                    <a:close/>
                    <a:moveTo>
                      <a:pt x="4442" y="128"/>
                    </a:moveTo>
                    <a:cubicBezTo>
                      <a:pt x="4443" y="113"/>
                      <a:pt x="4443" y="91"/>
                      <a:pt x="4443" y="76"/>
                    </a:cubicBezTo>
                    <a:cubicBezTo>
                      <a:pt x="4445" y="83"/>
                      <a:pt x="4447" y="90"/>
                      <a:pt x="4447" y="96"/>
                    </a:cubicBezTo>
                    <a:cubicBezTo>
                      <a:pt x="4447" y="107"/>
                      <a:pt x="4444" y="117"/>
                      <a:pt x="4442" y="128"/>
                    </a:cubicBezTo>
                    <a:close/>
                    <a:moveTo>
                      <a:pt x="4482" y="112"/>
                    </a:moveTo>
                    <a:cubicBezTo>
                      <a:pt x="4482" y="110"/>
                      <a:pt x="4482" y="108"/>
                      <a:pt x="4481" y="105"/>
                    </a:cubicBezTo>
                    <a:cubicBezTo>
                      <a:pt x="4482" y="108"/>
                      <a:pt x="4481" y="112"/>
                      <a:pt x="4481" y="115"/>
                    </a:cubicBezTo>
                    <a:cubicBezTo>
                      <a:pt x="4476" y="131"/>
                      <a:pt x="4472" y="144"/>
                      <a:pt x="4472" y="144"/>
                    </a:cubicBezTo>
                    <a:cubicBezTo>
                      <a:pt x="4473" y="133"/>
                      <a:pt x="4477" y="110"/>
                      <a:pt x="4482" y="86"/>
                    </a:cubicBezTo>
                    <a:cubicBezTo>
                      <a:pt x="4484" y="90"/>
                      <a:pt x="4485" y="95"/>
                      <a:pt x="4486" y="99"/>
                    </a:cubicBezTo>
                    <a:cubicBezTo>
                      <a:pt x="4484" y="103"/>
                      <a:pt x="4483" y="108"/>
                      <a:pt x="4482" y="112"/>
                    </a:cubicBezTo>
                    <a:close/>
                    <a:moveTo>
                      <a:pt x="4494" y="133"/>
                    </a:moveTo>
                    <a:cubicBezTo>
                      <a:pt x="4494" y="133"/>
                      <a:pt x="4494" y="134"/>
                      <a:pt x="4494" y="134"/>
                    </a:cubicBezTo>
                    <a:cubicBezTo>
                      <a:pt x="4494" y="134"/>
                      <a:pt x="4494" y="134"/>
                      <a:pt x="4494" y="134"/>
                    </a:cubicBezTo>
                    <a:cubicBezTo>
                      <a:pt x="4494" y="134"/>
                      <a:pt x="4494" y="133"/>
                      <a:pt x="4494" y="133"/>
                    </a:cubicBezTo>
                    <a:cubicBezTo>
                      <a:pt x="4495" y="126"/>
                      <a:pt x="4496" y="117"/>
                      <a:pt x="4497" y="107"/>
                    </a:cubicBezTo>
                    <a:cubicBezTo>
                      <a:pt x="4497" y="110"/>
                      <a:pt x="4497" y="114"/>
                      <a:pt x="4497" y="117"/>
                    </a:cubicBezTo>
                    <a:cubicBezTo>
                      <a:pt x="4496" y="123"/>
                      <a:pt x="4495" y="129"/>
                      <a:pt x="4494" y="133"/>
                    </a:cubicBezTo>
                    <a:close/>
                    <a:moveTo>
                      <a:pt x="4499" y="159"/>
                    </a:move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ubicBezTo>
                      <a:pt x="4499" y="159"/>
                      <a:pt x="4499" y="159"/>
                      <a:pt x="4499" y="159"/>
                    </a:cubicBezTo>
                    <a:close/>
                    <a:moveTo>
                      <a:pt x="4540" y="143"/>
                    </a:moveTo>
                    <a:cubicBezTo>
                      <a:pt x="4540" y="142"/>
                      <a:pt x="4540" y="142"/>
                      <a:pt x="4540" y="141"/>
                    </a:cubicBezTo>
                    <a:cubicBezTo>
                      <a:pt x="4540" y="135"/>
                      <a:pt x="4541" y="127"/>
                      <a:pt x="4541" y="117"/>
                    </a:cubicBezTo>
                    <a:cubicBezTo>
                      <a:pt x="4542" y="121"/>
                      <a:pt x="4542" y="125"/>
                      <a:pt x="4542" y="129"/>
                    </a:cubicBezTo>
                    <a:cubicBezTo>
                      <a:pt x="4541" y="135"/>
                      <a:pt x="4541" y="139"/>
                      <a:pt x="4540" y="143"/>
                    </a:cubicBezTo>
                    <a:close/>
                    <a:moveTo>
                      <a:pt x="4544" y="117"/>
                    </a:moveTo>
                    <a:cubicBezTo>
                      <a:pt x="4543" y="115"/>
                      <a:pt x="4542" y="113"/>
                      <a:pt x="4542" y="111"/>
                    </a:cubicBezTo>
                    <a:cubicBezTo>
                      <a:pt x="4542" y="108"/>
                      <a:pt x="4542" y="104"/>
                      <a:pt x="4543" y="100"/>
                    </a:cubicBezTo>
                    <a:cubicBezTo>
                      <a:pt x="4544" y="103"/>
                      <a:pt x="4544" y="106"/>
                      <a:pt x="4545" y="108"/>
                    </a:cubicBezTo>
                    <a:cubicBezTo>
                      <a:pt x="4544" y="111"/>
                      <a:pt x="4544" y="114"/>
                      <a:pt x="4544" y="117"/>
                    </a:cubicBezTo>
                    <a:close/>
                    <a:moveTo>
                      <a:pt x="4552" y="133"/>
                    </a:moveTo>
                    <a:cubicBezTo>
                      <a:pt x="4552" y="133"/>
                      <a:pt x="4552" y="133"/>
                      <a:pt x="4552" y="133"/>
                    </a:cubicBezTo>
                    <a:cubicBezTo>
                      <a:pt x="4552" y="130"/>
                      <a:pt x="4553" y="127"/>
                      <a:pt x="4553" y="124"/>
                    </a:cubicBezTo>
                    <a:cubicBezTo>
                      <a:pt x="4553" y="125"/>
                      <a:pt x="4553" y="126"/>
                      <a:pt x="4553" y="128"/>
                    </a:cubicBezTo>
                    <a:cubicBezTo>
                      <a:pt x="4553" y="130"/>
                      <a:pt x="4552" y="131"/>
                      <a:pt x="4552" y="133"/>
                    </a:cubicBezTo>
                    <a:close/>
                    <a:moveTo>
                      <a:pt x="4589" y="142"/>
                    </a:moveTo>
                    <a:cubicBezTo>
                      <a:pt x="4589" y="139"/>
                      <a:pt x="4589" y="134"/>
                      <a:pt x="4589" y="128"/>
                    </a:cubicBezTo>
                    <a:cubicBezTo>
                      <a:pt x="4589" y="130"/>
                      <a:pt x="4589" y="132"/>
                      <a:pt x="4590" y="133"/>
                    </a:cubicBezTo>
                    <a:cubicBezTo>
                      <a:pt x="4589" y="139"/>
                      <a:pt x="4589" y="142"/>
                      <a:pt x="4589" y="142"/>
                    </a:cubicBezTo>
                    <a:close/>
                    <a:moveTo>
                      <a:pt x="4610" y="135"/>
                    </a:moveTo>
                    <a:cubicBezTo>
                      <a:pt x="4610" y="134"/>
                      <a:pt x="4610" y="134"/>
                      <a:pt x="4610" y="133"/>
                    </a:cubicBezTo>
                    <a:cubicBezTo>
                      <a:pt x="4610" y="121"/>
                      <a:pt x="4610" y="103"/>
                      <a:pt x="4609" y="88"/>
                    </a:cubicBezTo>
                    <a:cubicBezTo>
                      <a:pt x="4611" y="94"/>
                      <a:pt x="4613" y="100"/>
                      <a:pt x="4614" y="106"/>
                    </a:cubicBezTo>
                    <a:cubicBezTo>
                      <a:pt x="4612" y="118"/>
                      <a:pt x="4611" y="128"/>
                      <a:pt x="4610" y="135"/>
                    </a:cubicBezTo>
                    <a:close/>
                    <a:moveTo>
                      <a:pt x="4617" y="145"/>
                    </a:moveTo>
                    <a:cubicBezTo>
                      <a:pt x="4617" y="141"/>
                      <a:pt x="4617" y="136"/>
                      <a:pt x="4617" y="129"/>
                    </a:cubicBezTo>
                    <a:cubicBezTo>
                      <a:pt x="4618" y="133"/>
                      <a:pt x="4618" y="136"/>
                      <a:pt x="4619" y="139"/>
                    </a:cubicBezTo>
                    <a:cubicBezTo>
                      <a:pt x="4618" y="143"/>
                      <a:pt x="4617" y="145"/>
                      <a:pt x="4617" y="145"/>
                    </a:cubicBezTo>
                    <a:close/>
                    <a:moveTo>
                      <a:pt x="4622" y="159"/>
                    </a:moveTo>
                    <a:cubicBezTo>
                      <a:pt x="4623" y="159"/>
                      <a:pt x="4623" y="159"/>
                      <a:pt x="4623" y="159"/>
                    </a:cubicBezTo>
                    <a:cubicBezTo>
                      <a:pt x="4623" y="159"/>
                      <a:pt x="4623" y="158"/>
                      <a:pt x="4623" y="158"/>
                    </a:cubicBezTo>
                    <a:cubicBezTo>
                      <a:pt x="4623" y="159"/>
                      <a:pt x="4624" y="160"/>
                      <a:pt x="4624" y="160"/>
                    </a:cubicBezTo>
                    <a:cubicBezTo>
                      <a:pt x="4623" y="160"/>
                      <a:pt x="4623" y="159"/>
                      <a:pt x="4622" y="159"/>
                    </a:cubicBezTo>
                    <a:close/>
                    <a:moveTo>
                      <a:pt x="4624" y="121"/>
                    </a:moveTo>
                    <a:cubicBezTo>
                      <a:pt x="4622" y="117"/>
                      <a:pt x="4621" y="114"/>
                      <a:pt x="4619" y="110"/>
                    </a:cubicBezTo>
                    <a:cubicBezTo>
                      <a:pt x="4620" y="105"/>
                      <a:pt x="4620" y="99"/>
                      <a:pt x="4621" y="94"/>
                    </a:cubicBezTo>
                    <a:cubicBezTo>
                      <a:pt x="4621" y="100"/>
                      <a:pt x="4623" y="108"/>
                      <a:pt x="4625" y="116"/>
                    </a:cubicBezTo>
                    <a:cubicBezTo>
                      <a:pt x="4624" y="118"/>
                      <a:pt x="4624" y="119"/>
                      <a:pt x="4624" y="121"/>
                    </a:cubicBezTo>
                    <a:close/>
                    <a:moveTo>
                      <a:pt x="4632" y="142"/>
                    </a:moveTo>
                    <a:cubicBezTo>
                      <a:pt x="4631" y="138"/>
                      <a:pt x="4629" y="134"/>
                      <a:pt x="4627" y="129"/>
                    </a:cubicBezTo>
                    <a:cubicBezTo>
                      <a:pt x="4627" y="129"/>
                      <a:pt x="4627" y="128"/>
                      <a:pt x="4627" y="127"/>
                    </a:cubicBezTo>
                    <a:cubicBezTo>
                      <a:pt x="4629" y="132"/>
                      <a:pt x="4630" y="137"/>
                      <a:pt x="4632" y="142"/>
                    </a:cubicBezTo>
                    <a:cubicBezTo>
                      <a:pt x="4635" y="149"/>
                      <a:pt x="4636" y="153"/>
                      <a:pt x="4637" y="155"/>
                    </a:cubicBezTo>
                    <a:cubicBezTo>
                      <a:pt x="4635" y="151"/>
                      <a:pt x="4634" y="147"/>
                      <a:pt x="4632" y="142"/>
                    </a:cubicBezTo>
                    <a:close/>
                    <a:moveTo>
                      <a:pt x="4458" y="105"/>
                    </a:moveTo>
                    <a:cubicBezTo>
                      <a:pt x="4458" y="103"/>
                      <a:pt x="4458" y="101"/>
                      <a:pt x="4457" y="99"/>
                    </a:cubicBezTo>
                    <a:cubicBezTo>
                      <a:pt x="4457" y="101"/>
                      <a:pt x="4458" y="103"/>
                      <a:pt x="4458" y="105"/>
                    </a:cubicBezTo>
                    <a:close/>
                    <a:moveTo>
                      <a:pt x="4466" y="65"/>
                    </a:moveTo>
                    <a:cubicBezTo>
                      <a:pt x="4466" y="64"/>
                      <a:pt x="4466" y="63"/>
                      <a:pt x="4466" y="63"/>
                    </a:cubicBezTo>
                    <a:cubicBezTo>
                      <a:pt x="4466" y="63"/>
                      <a:pt x="4466" y="64"/>
                      <a:pt x="4466" y="65"/>
                    </a:cubicBezTo>
                    <a:close/>
                    <a:moveTo>
                      <a:pt x="4065" y="79"/>
                    </a:moveTo>
                    <a:cubicBezTo>
                      <a:pt x="4066" y="76"/>
                      <a:pt x="4067" y="73"/>
                      <a:pt x="4068" y="70"/>
                    </a:cubicBezTo>
                    <a:cubicBezTo>
                      <a:pt x="4067" y="73"/>
                      <a:pt x="4066" y="76"/>
                      <a:pt x="4065" y="79"/>
                    </a:cubicBezTo>
                    <a:close/>
                    <a:moveTo>
                      <a:pt x="3886" y="79"/>
                    </a:moveTo>
                    <a:cubicBezTo>
                      <a:pt x="3885" y="76"/>
                      <a:pt x="3884" y="73"/>
                      <a:pt x="3882" y="70"/>
                    </a:cubicBezTo>
                    <a:cubicBezTo>
                      <a:pt x="3884" y="73"/>
                      <a:pt x="3885" y="76"/>
                      <a:pt x="3886" y="79"/>
                    </a:cubicBezTo>
                    <a:close/>
                    <a:moveTo>
                      <a:pt x="2267" y="79"/>
                    </a:moveTo>
                    <a:cubicBezTo>
                      <a:pt x="2268" y="76"/>
                      <a:pt x="2269" y="73"/>
                      <a:pt x="2270" y="70"/>
                    </a:cubicBezTo>
                    <a:cubicBezTo>
                      <a:pt x="2269" y="73"/>
                      <a:pt x="2268" y="76"/>
                      <a:pt x="2267" y="79"/>
                    </a:cubicBezTo>
                    <a:close/>
                    <a:moveTo>
                      <a:pt x="3115" y="83"/>
                    </a:moveTo>
                    <a:cubicBezTo>
                      <a:pt x="3114" y="81"/>
                      <a:pt x="3113" y="79"/>
                      <a:pt x="3112" y="78"/>
                    </a:cubicBezTo>
                    <a:cubicBezTo>
                      <a:pt x="3113" y="79"/>
                      <a:pt x="3114" y="81"/>
                      <a:pt x="3115" y="83"/>
                    </a:cubicBezTo>
                    <a:close/>
                    <a:moveTo>
                      <a:pt x="290" y="79"/>
                    </a:moveTo>
                    <a:cubicBezTo>
                      <a:pt x="289" y="76"/>
                      <a:pt x="288" y="73"/>
                      <a:pt x="287" y="70"/>
                    </a:cubicBezTo>
                    <a:cubicBezTo>
                      <a:pt x="288" y="73"/>
                      <a:pt x="289" y="76"/>
                      <a:pt x="290" y="79"/>
                    </a:cubicBezTo>
                    <a:close/>
                    <a:moveTo>
                      <a:pt x="469" y="79"/>
                    </a:moveTo>
                    <a:cubicBezTo>
                      <a:pt x="470" y="76"/>
                      <a:pt x="471" y="73"/>
                      <a:pt x="472" y="70"/>
                    </a:cubicBezTo>
                    <a:cubicBezTo>
                      <a:pt x="471" y="73"/>
                      <a:pt x="470" y="76"/>
                      <a:pt x="469" y="79"/>
                    </a:cubicBezTo>
                    <a:close/>
                    <a:moveTo>
                      <a:pt x="1317" y="83"/>
                    </a:moveTo>
                    <a:cubicBezTo>
                      <a:pt x="1316" y="81"/>
                      <a:pt x="1315" y="79"/>
                      <a:pt x="1314" y="78"/>
                    </a:cubicBezTo>
                    <a:cubicBezTo>
                      <a:pt x="1315" y="79"/>
                      <a:pt x="1316" y="81"/>
                      <a:pt x="1317" y="83"/>
                    </a:cubicBezTo>
                    <a:close/>
                    <a:moveTo>
                      <a:pt x="3042" y="83"/>
                    </a:moveTo>
                    <a:cubicBezTo>
                      <a:pt x="3040" y="80"/>
                      <a:pt x="3039" y="77"/>
                      <a:pt x="3038" y="75"/>
                    </a:cubicBezTo>
                    <a:cubicBezTo>
                      <a:pt x="3039" y="78"/>
                      <a:pt x="3040" y="80"/>
                      <a:pt x="3042" y="83"/>
                    </a:cubicBezTo>
                    <a:close/>
                    <a:moveTo>
                      <a:pt x="2683" y="105"/>
                    </a:moveTo>
                    <a:cubicBezTo>
                      <a:pt x="2683" y="103"/>
                      <a:pt x="2683" y="101"/>
                      <a:pt x="2683" y="99"/>
                    </a:cubicBezTo>
                    <a:cubicBezTo>
                      <a:pt x="2683" y="101"/>
                      <a:pt x="2683" y="103"/>
                      <a:pt x="2683" y="105"/>
                    </a:cubicBezTo>
                    <a:close/>
                    <a:moveTo>
                      <a:pt x="2088" y="79"/>
                    </a:moveTo>
                    <a:cubicBezTo>
                      <a:pt x="2087" y="76"/>
                      <a:pt x="2086" y="73"/>
                      <a:pt x="2084" y="70"/>
                    </a:cubicBezTo>
                    <a:cubicBezTo>
                      <a:pt x="2086" y="73"/>
                      <a:pt x="2087" y="76"/>
                      <a:pt x="2088" y="79"/>
                    </a:cubicBezTo>
                    <a:close/>
                    <a:moveTo>
                      <a:pt x="4481" y="105"/>
                    </a:moveTo>
                    <a:cubicBezTo>
                      <a:pt x="4481" y="103"/>
                      <a:pt x="4481" y="101"/>
                      <a:pt x="4481" y="99"/>
                    </a:cubicBezTo>
                    <a:cubicBezTo>
                      <a:pt x="4481" y="101"/>
                      <a:pt x="4481" y="103"/>
                      <a:pt x="4481" y="105"/>
                    </a:cubicBezTo>
                    <a:close/>
                    <a:moveTo>
                      <a:pt x="1244" y="83"/>
                    </a:moveTo>
                    <a:cubicBezTo>
                      <a:pt x="1242" y="80"/>
                      <a:pt x="1241" y="77"/>
                      <a:pt x="1240" y="75"/>
                    </a:cubicBezTo>
                    <a:cubicBezTo>
                      <a:pt x="1241" y="78"/>
                      <a:pt x="1242" y="80"/>
                      <a:pt x="1244" y="83"/>
                    </a:cubicBezTo>
                    <a:close/>
                    <a:moveTo>
                      <a:pt x="3941" y="33"/>
                    </a:moveTo>
                    <a:cubicBezTo>
                      <a:pt x="3941" y="30"/>
                      <a:pt x="3941" y="28"/>
                      <a:pt x="3940" y="25"/>
                    </a:cubicBezTo>
                    <a:cubicBezTo>
                      <a:pt x="3940" y="25"/>
                      <a:pt x="3941" y="28"/>
                      <a:pt x="3941" y="33"/>
                    </a:cubicBezTo>
                    <a:close/>
                    <a:moveTo>
                      <a:pt x="3210" y="88"/>
                    </a:moveTo>
                    <a:cubicBezTo>
                      <a:pt x="3209" y="86"/>
                      <a:pt x="3208" y="83"/>
                      <a:pt x="3206" y="81"/>
                    </a:cubicBezTo>
                    <a:cubicBezTo>
                      <a:pt x="3207" y="83"/>
                      <a:pt x="3209" y="86"/>
                      <a:pt x="3210" y="88"/>
                    </a:cubicBezTo>
                    <a:close/>
                    <a:moveTo>
                      <a:pt x="3068" y="81"/>
                    </a:moveTo>
                    <a:cubicBezTo>
                      <a:pt x="3062" y="61"/>
                      <a:pt x="3051" y="46"/>
                      <a:pt x="3035" y="25"/>
                    </a:cubicBezTo>
                    <a:cubicBezTo>
                      <a:pt x="3051" y="48"/>
                      <a:pt x="3061" y="64"/>
                      <a:pt x="3068" y="81"/>
                    </a:cubicBezTo>
                    <a:close/>
                    <a:moveTo>
                      <a:pt x="3078" y="79"/>
                    </a:moveTo>
                    <a:cubicBezTo>
                      <a:pt x="3077" y="76"/>
                      <a:pt x="3076" y="73"/>
                      <a:pt x="3074" y="70"/>
                    </a:cubicBezTo>
                    <a:cubicBezTo>
                      <a:pt x="3075" y="73"/>
                      <a:pt x="3077" y="76"/>
                      <a:pt x="3078" y="79"/>
                    </a:cubicBezTo>
                    <a:close/>
                    <a:moveTo>
                      <a:pt x="3317" y="102"/>
                    </a:moveTo>
                    <a:cubicBezTo>
                      <a:pt x="3316" y="100"/>
                      <a:pt x="3315" y="97"/>
                      <a:pt x="3314" y="96"/>
                    </a:cubicBezTo>
                    <a:cubicBezTo>
                      <a:pt x="3315" y="98"/>
                      <a:pt x="3316" y="100"/>
                      <a:pt x="3317" y="102"/>
                    </a:cubicBezTo>
                    <a:close/>
                    <a:moveTo>
                      <a:pt x="3531" y="109"/>
                    </a:moveTo>
                    <a:cubicBezTo>
                      <a:pt x="3530" y="104"/>
                      <a:pt x="3530" y="99"/>
                      <a:pt x="3529" y="95"/>
                    </a:cubicBezTo>
                    <a:cubicBezTo>
                      <a:pt x="3529" y="99"/>
                      <a:pt x="3530" y="104"/>
                      <a:pt x="3531" y="109"/>
                    </a:cubicBezTo>
                    <a:close/>
                    <a:moveTo>
                      <a:pt x="3370" y="100"/>
                    </a:moveTo>
                    <a:cubicBezTo>
                      <a:pt x="3370" y="97"/>
                      <a:pt x="3369" y="95"/>
                      <a:pt x="3368" y="93"/>
                    </a:cubicBezTo>
                    <a:cubicBezTo>
                      <a:pt x="3369" y="96"/>
                      <a:pt x="3370" y="98"/>
                      <a:pt x="3370" y="100"/>
                    </a:cubicBezTo>
                    <a:close/>
                    <a:moveTo>
                      <a:pt x="3610" y="81"/>
                    </a:moveTo>
                    <a:cubicBezTo>
                      <a:pt x="3608" y="75"/>
                      <a:pt x="3606" y="70"/>
                      <a:pt x="3604" y="67"/>
                    </a:cubicBezTo>
                    <a:cubicBezTo>
                      <a:pt x="3604" y="67"/>
                      <a:pt x="3607" y="72"/>
                      <a:pt x="3610" y="81"/>
                    </a:cubicBezTo>
                    <a:close/>
                    <a:moveTo>
                      <a:pt x="2720" y="54"/>
                    </a:moveTo>
                    <a:cubicBezTo>
                      <a:pt x="2720" y="53"/>
                      <a:pt x="2719" y="52"/>
                      <a:pt x="2719" y="52"/>
                    </a:cubicBezTo>
                    <a:cubicBezTo>
                      <a:pt x="2720" y="53"/>
                      <a:pt x="2720" y="53"/>
                      <a:pt x="2720" y="54"/>
                    </a:cubicBezTo>
                    <a:close/>
                    <a:moveTo>
                      <a:pt x="2715" y="90"/>
                    </a:moveTo>
                    <a:cubicBezTo>
                      <a:pt x="2715" y="89"/>
                      <a:pt x="2714" y="87"/>
                      <a:pt x="2713" y="86"/>
                    </a:cubicBezTo>
                    <a:cubicBezTo>
                      <a:pt x="2714" y="87"/>
                      <a:pt x="2715" y="89"/>
                      <a:pt x="2715" y="90"/>
                    </a:cubicBezTo>
                    <a:close/>
                    <a:moveTo>
                      <a:pt x="2835" y="54"/>
                    </a:moveTo>
                    <a:cubicBezTo>
                      <a:pt x="2835" y="54"/>
                      <a:pt x="2835" y="65"/>
                      <a:pt x="2834" y="84"/>
                    </a:cubicBezTo>
                    <a:cubicBezTo>
                      <a:pt x="2836" y="72"/>
                      <a:pt x="2837" y="60"/>
                      <a:pt x="2835" y="54"/>
                    </a:cubicBezTo>
                    <a:close/>
                    <a:moveTo>
                      <a:pt x="2890" y="106"/>
                    </a:moveTo>
                    <a:cubicBezTo>
                      <a:pt x="2890" y="103"/>
                      <a:pt x="2889" y="100"/>
                      <a:pt x="2889" y="96"/>
                    </a:cubicBezTo>
                    <a:cubicBezTo>
                      <a:pt x="2889" y="99"/>
                      <a:pt x="2890" y="103"/>
                      <a:pt x="2890" y="106"/>
                    </a:cubicBezTo>
                    <a:close/>
                    <a:moveTo>
                      <a:pt x="2795" y="47"/>
                    </a:moveTo>
                    <a:cubicBezTo>
                      <a:pt x="2795" y="39"/>
                      <a:pt x="2795" y="33"/>
                      <a:pt x="2793" y="30"/>
                    </a:cubicBezTo>
                    <a:cubicBezTo>
                      <a:pt x="2793" y="30"/>
                      <a:pt x="2794" y="37"/>
                      <a:pt x="2795" y="47"/>
                    </a:cubicBezTo>
                    <a:close/>
                    <a:moveTo>
                      <a:pt x="3995" y="44"/>
                    </a:moveTo>
                    <a:cubicBezTo>
                      <a:pt x="3995" y="43"/>
                      <a:pt x="3995" y="41"/>
                      <a:pt x="3995" y="40"/>
                    </a:cubicBezTo>
                    <a:cubicBezTo>
                      <a:pt x="3995" y="40"/>
                      <a:pt x="3995" y="42"/>
                      <a:pt x="3995" y="44"/>
                    </a:cubicBezTo>
                    <a:close/>
                    <a:moveTo>
                      <a:pt x="4211" y="68"/>
                    </a:moveTo>
                    <a:cubicBezTo>
                      <a:pt x="4211" y="65"/>
                      <a:pt x="4210" y="64"/>
                      <a:pt x="4210" y="64"/>
                    </a:cubicBezTo>
                    <a:cubicBezTo>
                      <a:pt x="4210" y="64"/>
                      <a:pt x="4211" y="66"/>
                      <a:pt x="4211" y="68"/>
                    </a:cubicBezTo>
                    <a:close/>
                    <a:moveTo>
                      <a:pt x="3956" y="52"/>
                    </a:moveTo>
                    <a:cubicBezTo>
                      <a:pt x="3956" y="50"/>
                      <a:pt x="3956" y="49"/>
                      <a:pt x="3956" y="49"/>
                    </a:cubicBezTo>
                    <a:cubicBezTo>
                      <a:pt x="3956" y="50"/>
                      <a:pt x="3956" y="51"/>
                      <a:pt x="3956" y="52"/>
                    </a:cubicBezTo>
                    <a:close/>
                    <a:moveTo>
                      <a:pt x="2672" y="52"/>
                    </a:moveTo>
                    <a:cubicBezTo>
                      <a:pt x="2672" y="50"/>
                      <a:pt x="2672" y="49"/>
                      <a:pt x="2672" y="49"/>
                    </a:cubicBezTo>
                    <a:cubicBezTo>
                      <a:pt x="2672" y="50"/>
                      <a:pt x="2672" y="51"/>
                      <a:pt x="2672" y="52"/>
                    </a:cubicBezTo>
                    <a:close/>
                    <a:moveTo>
                      <a:pt x="4169" y="66"/>
                    </a:moveTo>
                    <a:cubicBezTo>
                      <a:pt x="4169" y="63"/>
                      <a:pt x="4169" y="61"/>
                      <a:pt x="4170" y="59"/>
                    </a:cubicBezTo>
                    <a:cubicBezTo>
                      <a:pt x="4170" y="59"/>
                      <a:pt x="4169" y="62"/>
                      <a:pt x="4169" y="66"/>
                    </a:cubicBezTo>
                    <a:close/>
                    <a:moveTo>
                      <a:pt x="4178" y="100"/>
                    </a:moveTo>
                    <a:cubicBezTo>
                      <a:pt x="4178" y="97"/>
                      <a:pt x="4177" y="95"/>
                      <a:pt x="4177" y="93"/>
                    </a:cubicBezTo>
                    <a:cubicBezTo>
                      <a:pt x="4177" y="96"/>
                      <a:pt x="4178" y="98"/>
                      <a:pt x="4178" y="100"/>
                    </a:cubicBezTo>
                    <a:close/>
                    <a:moveTo>
                      <a:pt x="3772" y="100"/>
                    </a:moveTo>
                    <a:cubicBezTo>
                      <a:pt x="3773" y="98"/>
                      <a:pt x="3773" y="96"/>
                      <a:pt x="3774" y="93"/>
                    </a:cubicBezTo>
                    <a:cubicBezTo>
                      <a:pt x="3773" y="95"/>
                      <a:pt x="3773" y="97"/>
                      <a:pt x="3772" y="100"/>
                    </a:cubicBezTo>
                    <a:close/>
                    <a:moveTo>
                      <a:pt x="3923" y="83"/>
                    </a:moveTo>
                    <a:cubicBezTo>
                      <a:pt x="3922" y="81"/>
                      <a:pt x="3921" y="79"/>
                      <a:pt x="3920" y="78"/>
                    </a:cubicBezTo>
                    <a:cubicBezTo>
                      <a:pt x="3921" y="79"/>
                      <a:pt x="3922" y="81"/>
                      <a:pt x="3923" y="83"/>
                    </a:cubicBezTo>
                    <a:close/>
                    <a:moveTo>
                      <a:pt x="3726" y="68"/>
                    </a:moveTo>
                    <a:cubicBezTo>
                      <a:pt x="3726" y="66"/>
                      <a:pt x="3726" y="65"/>
                      <a:pt x="3726" y="64"/>
                    </a:cubicBezTo>
                    <a:cubicBezTo>
                      <a:pt x="3726" y="64"/>
                      <a:pt x="3726" y="65"/>
                      <a:pt x="3726" y="68"/>
                    </a:cubicBezTo>
                    <a:close/>
                    <a:moveTo>
                      <a:pt x="3705" y="90"/>
                    </a:moveTo>
                    <a:cubicBezTo>
                      <a:pt x="3705" y="89"/>
                      <a:pt x="3704" y="87"/>
                      <a:pt x="3703" y="86"/>
                    </a:cubicBezTo>
                    <a:cubicBezTo>
                      <a:pt x="3704" y="87"/>
                      <a:pt x="3704" y="89"/>
                      <a:pt x="3705" y="90"/>
                    </a:cubicBezTo>
                    <a:close/>
                    <a:moveTo>
                      <a:pt x="3648" y="13"/>
                    </a:moveTo>
                    <a:cubicBezTo>
                      <a:pt x="3648" y="12"/>
                      <a:pt x="3648" y="12"/>
                      <a:pt x="3648" y="12"/>
                    </a:cubicBezTo>
                    <a:cubicBezTo>
                      <a:pt x="3648" y="12"/>
                      <a:pt x="3648" y="13"/>
                      <a:pt x="3648" y="13"/>
                    </a:cubicBezTo>
                    <a:close/>
                    <a:moveTo>
                      <a:pt x="3770" y="61"/>
                    </a:moveTo>
                    <a:cubicBezTo>
                      <a:pt x="3770" y="55"/>
                      <a:pt x="3769" y="49"/>
                      <a:pt x="3768" y="44"/>
                    </a:cubicBezTo>
                    <a:cubicBezTo>
                      <a:pt x="3768" y="44"/>
                      <a:pt x="3769" y="51"/>
                      <a:pt x="3770" y="61"/>
                    </a:cubicBezTo>
                    <a:close/>
                  </a:path>
                </a:pathLst>
              </a:custGeom>
              <a:solidFill>
                <a:srgbClr val="001400">
                  <a:alpha val="2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0" name="Group 59"/>
          <p:cNvGrpSpPr/>
          <p:nvPr/>
        </p:nvGrpSpPr>
        <p:grpSpPr>
          <a:xfrm>
            <a:off x="-5497560" y="12151800"/>
            <a:ext cx="1325520" cy="717480"/>
            <a:chOff x="-5497560" y="12151800"/>
            <a:chExt cx="1325520" cy="717480"/>
          </a:xfrm>
        </p:grpSpPr>
        <p:sp>
          <p:nvSpPr>
            <p:cNvPr id="2881" name="Freeform 60"/>
            <p:cNvSpPr/>
            <p:nvPr/>
          </p:nvSpPr>
          <p:spPr>
            <a:xfrm flipH="1" flipV="1" rot="21193200">
              <a:off x="-5374800" y="12216600"/>
              <a:ext cx="1133640" cy="39240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61"/>
            <p:cNvSpPr/>
            <p:nvPr/>
          </p:nvSpPr>
          <p:spPr>
            <a:xfrm>
              <a:off x="-5497560" y="12558600"/>
              <a:ext cx="190440" cy="152280"/>
            </a:xfrm>
            <a:custGeom>
              <a:avLst/>
              <a:gdLst/>
              <a:ahLst/>
              <a:rect l="l" t="t" r="r" b="b"/>
              <a:pathLst>
                <a:path w="120" h="96">
                  <a:moveTo>
                    <a:pt x="59" y="96"/>
                  </a:moveTo>
                  <a:lnTo>
                    <a:pt x="0" y="46"/>
                  </a:lnTo>
                  <a:lnTo>
                    <a:pt x="120" y="0"/>
                  </a:lnTo>
                  <a:lnTo>
                    <a:pt x="114" y="78"/>
                  </a:lnTo>
                  <a:lnTo>
                    <a:pt x="59" y="96"/>
                  </a:lnTo>
                  <a:close/>
                </a:path>
              </a:pathLst>
            </a:cu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62"/>
            <p:cNvSpPr/>
            <p:nvPr/>
          </p:nvSpPr>
          <p:spPr>
            <a:xfrm flipH="1" flipV="1" rot="21073800">
              <a:off x="-5395680" y="12603960"/>
              <a:ext cx="1217520" cy="173160"/>
            </a:xfrm>
            <a:custGeom>
              <a:avLst/>
              <a:gdLst/>
              <a:ahLst/>
              <a:rect l="l" t="t" r="r" b="b"/>
              <a:pathLst>
                <a:path w="2202" h="625">
                  <a:moveTo>
                    <a:pt x="2058" y="625"/>
                  </a:moveTo>
                  <a:lnTo>
                    <a:pt x="2202" y="291"/>
                  </a:lnTo>
                  <a:lnTo>
                    <a:pt x="1482" y="0"/>
                  </a:lnTo>
                  <a:lnTo>
                    <a:pt x="0" y="625"/>
                  </a:lnTo>
                  <a:lnTo>
                    <a:pt x="2058" y="625"/>
                  </a:ln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4" name="Group 63"/>
            <p:cNvGrpSpPr/>
            <p:nvPr/>
          </p:nvGrpSpPr>
          <p:grpSpPr>
            <a:xfrm>
              <a:off x="-5375880" y="12166920"/>
              <a:ext cx="1177920" cy="516240"/>
              <a:chOff x="-5375880" y="12166920"/>
              <a:chExt cx="1177920" cy="516240"/>
            </a:xfrm>
          </p:grpSpPr>
          <p:sp>
            <p:nvSpPr>
              <p:cNvPr id="2885" name="Freeform 64"/>
              <p:cNvSpPr/>
              <p:nvPr/>
            </p:nvSpPr>
            <p:spPr>
              <a:xfrm flipH="1" flipV="1" rot="21101400">
                <a:off x="-5354280" y="12247200"/>
                <a:ext cx="1129680" cy="35532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Freeform 65"/>
              <p:cNvSpPr/>
              <p:nvPr/>
            </p:nvSpPr>
            <p:spPr>
              <a:xfrm flipH="1" flipV="1" rot="21101400">
                <a:off x="-4888800" y="12355560"/>
                <a:ext cx="675720" cy="21276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66"/>
              <p:cNvSpPr/>
              <p:nvPr/>
            </p:nvSpPr>
            <p:spPr>
              <a:xfrm flipH="1" flipV="1" rot="21101400">
                <a:off x="-4824720" y="12351960"/>
                <a:ext cx="608400" cy="21384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67"/>
              <p:cNvSpPr/>
              <p:nvPr/>
            </p:nvSpPr>
            <p:spPr>
              <a:xfrm flipV="1" rot="6221400">
                <a:off x="-4817880" y="12390480"/>
                <a:ext cx="66240" cy="82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Freeform 68"/>
              <p:cNvSpPr/>
              <p:nvPr/>
            </p:nvSpPr>
            <p:spPr>
              <a:xfrm flipH="1" flipV="1" rot="21101400">
                <a:off x="-5356080" y="12246120"/>
                <a:ext cx="1129320" cy="35496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69"/>
              <p:cNvSpPr/>
              <p:nvPr/>
            </p:nvSpPr>
            <p:spPr>
              <a:xfrm flipH="1" flipV="1" rot="21101400">
                <a:off x="-4892760" y="12351600"/>
                <a:ext cx="682920" cy="21636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70"/>
              <p:cNvSpPr/>
              <p:nvPr/>
            </p:nvSpPr>
            <p:spPr>
              <a:xfrm flipV="1" rot="6221400">
                <a:off x="-4819680" y="12387240"/>
                <a:ext cx="66240" cy="82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2" name="Group 71"/>
            <p:cNvGrpSpPr/>
            <p:nvPr/>
          </p:nvGrpSpPr>
          <p:grpSpPr>
            <a:xfrm>
              <a:off x="-5431320" y="12538080"/>
              <a:ext cx="1231560" cy="311760"/>
              <a:chOff x="-5431320" y="12538080"/>
              <a:chExt cx="1231560" cy="311760"/>
            </a:xfrm>
          </p:grpSpPr>
          <p:sp>
            <p:nvSpPr>
              <p:cNvPr id="2893" name="Freeform 72"/>
              <p:cNvSpPr/>
              <p:nvPr/>
            </p:nvSpPr>
            <p:spPr>
              <a:xfrm flipH="1" flipV="1" rot="21204600">
                <a:off x="-5425200" y="12607920"/>
                <a:ext cx="1217880" cy="1724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73"/>
              <p:cNvSpPr/>
              <p:nvPr/>
            </p:nvSpPr>
            <p:spPr>
              <a:xfrm flipH="1" flipV="1" rot="21204600">
                <a:off x="-5029920" y="12584160"/>
                <a:ext cx="822960" cy="172800"/>
              </a:xfrm>
              <a:custGeom>
                <a:avLst/>
                <a:gdLst/>
                <a:ahLst/>
                <a:rect l="l" t="t" r="r" b="b"/>
                <a:pathLst>
                  <a:path w="1488" h="628">
                    <a:moveTo>
                      <a:pt x="1239" y="628"/>
                    </a:moveTo>
                    <a:lnTo>
                      <a:pt x="1488" y="0"/>
                    </a:lnTo>
                    <a:lnTo>
                      <a:pt x="0" y="621"/>
                    </a:lnTo>
                    <a:lnTo>
                      <a:pt x="1239" y="628"/>
                    </a:lnTo>
                    <a:close/>
                  </a:path>
                </a:pathLst>
              </a:cu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5" name="Oval 74"/>
          <p:cNvSpPr/>
          <p:nvPr/>
        </p:nvSpPr>
        <p:spPr>
          <a:xfrm>
            <a:off x="1836720" y="10175760"/>
            <a:ext cx="496800" cy="162000"/>
          </a:xfrm>
          <a:prstGeom prst="ellipse">
            <a:avLst/>
          </a:prstGeom>
          <a:noFill/>
          <a:ln w="9360">
            <a:solidFill>
              <a:srgbClr val="eff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6" name="Group 76"/>
          <p:cNvGrpSpPr/>
          <p:nvPr/>
        </p:nvGrpSpPr>
        <p:grpSpPr>
          <a:xfrm>
            <a:off x="3564000" y="9694800"/>
            <a:ext cx="852480" cy="466920"/>
            <a:chOff x="3564000" y="9694800"/>
            <a:chExt cx="852480" cy="466920"/>
          </a:xfrm>
        </p:grpSpPr>
        <p:sp>
          <p:nvSpPr>
            <p:cNvPr id="2897" name="Freeform 77"/>
            <p:cNvSpPr/>
            <p:nvPr/>
          </p:nvSpPr>
          <p:spPr>
            <a:xfrm>
              <a:off x="3564000" y="9786600"/>
              <a:ext cx="375480" cy="366120"/>
            </a:xfrm>
            <a:custGeom>
              <a:avLst/>
              <a:gdLst/>
              <a:ahLst/>
              <a:rect l="l" t="t" r="r" b="b"/>
              <a:pathLst>
                <a:path w="2261" h="2205">
                  <a:moveTo>
                    <a:pt x="1816" y="439"/>
                  </a:moveTo>
                  <a:cubicBezTo>
                    <a:pt x="1946" y="435"/>
                    <a:pt x="2056" y="461"/>
                    <a:pt x="2137" y="521"/>
                  </a:cubicBezTo>
                  <a:cubicBezTo>
                    <a:pt x="2218" y="580"/>
                    <a:pt x="2261" y="657"/>
                    <a:pt x="2261" y="760"/>
                  </a:cubicBezTo>
                  <a:cubicBezTo>
                    <a:pt x="2261" y="803"/>
                    <a:pt x="2223" y="965"/>
                    <a:pt x="2155" y="1247"/>
                  </a:cubicBezTo>
                  <a:cubicBezTo>
                    <a:pt x="2087" y="1528"/>
                    <a:pt x="2024" y="1712"/>
                    <a:pt x="1973" y="1803"/>
                  </a:cubicBezTo>
                  <a:cubicBezTo>
                    <a:pt x="1923" y="1895"/>
                    <a:pt x="1870" y="1960"/>
                    <a:pt x="1819" y="2004"/>
                  </a:cubicBezTo>
                  <a:cubicBezTo>
                    <a:pt x="1765" y="2046"/>
                    <a:pt x="1726" y="2067"/>
                    <a:pt x="1705" y="2067"/>
                  </a:cubicBezTo>
                  <a:cubicBezTo>
                    <a:pt x="1680" y="2068"/>
                    <a:pt x="1646" y="2015"/>
                    <a:pt x="1602" y="1906"/>
                  </a:cubicBezTo>
                  <a:cubicBezTo>
                    <a:pt x="1557" y="1797"/>
                    <a:pt x="1517" y="1645"/>
                    <a:pt x="1487" y="1452"/>
                  </a:cubicBezTo>
                  <a:cubicBezTo>
                    <a:pt x="1395" y="1647"/>
                    <a:pt x="1314" y="1783"/>
                    <a:pt x="1257" y="1862"/>
                  </a:cubicBezTo>
                  <a:cubicBezTo>
                    <a:pt x="1207" y="1935"/>
                    <a:pt x="1120" y="2027"/>
                    <a:pt x="1000" y="2145"/>
                  </a:cubicBezTo>
                  <a:cubicBezTo>
                    <a:pt x="958" y="2186"/>
                    <a:pt x="934" y="2205"/>
                    <a:pt x="928" y="2201"/>
                  </a:cubicBezTo>
                  <a:cubicBezTo>
                    <a:pt x="928" y="2189"/>
                    <a:pt x="959" y="2136"/>
                    <a:pt x="1018" y="2045"/>
                  </a:cubicBezTo>
                  <a:cubicBezTo>
                    <a:pt x="1075" y="1953"/>
                    <a:pt x="1153" y="1795"/>
                    <a:pt x="1242" y="1566"/>
                  </a:cubicBezTo>
                  <a:cubicBezTo>
                    <a:pt x="1328" y="1340"/>
                    <a:pt x="1403" y="1128"/>
                    <a:pt x="1457" y="925"/>
                  </a:cubicBezTo>
                  <a:cubicBezTo>
                    <a:pt x="1454" y="916"/>
                    <a:pt x="1447" y="903"/>
                    <a:pt x="1436" y="888"/>
                  </a:cubicBezTo>
                  <a:cubicBezTo>
                    <a:pt x="1402" y="904"/>
                    <a:pt x="1366" y="907"/>
                    <a:pt x="1321" y="904"/>
                  </a:cubicBezTo>
                  <a:cubicBezTo>
                    <a:pt x="1300" y="930"/>
                    <a:pt x="1272" y="979"/>
                    <a:pt x="1239" y="1055"/>
                  </a:cubicBezTo>
                  <a:cubicBezTo>
                    <a:pt x="1206" y="1133"/>
                    <a:pt x="1191" y="1186"/>
                    <a:pt x="1191" y="1217"/>
                  </a:cubicBezTo>
                  <a:cubicBezTo>
                    <a:pt x="1191" y="1251"/>
                    <a:pt x="1194" y="1276"/>
                    <a:pt x="1197" y="1298"/>
                  </a:cubicBezTo>
                  <a:cubicBezTo>
                    <a:pt x="1224" y="1351"/>
                    <a:pt x="1236" y="1398"/>
                    <a:pt x="1236" y="1432"/>
                  </a:cubicBezTo>
                  <a:cubicBezTo>
                    <a:pt x="1236" y="1510"/>
                    <a:pt x="1224" y="1556"/>
                    <a:pt x="1197" y="1576"/>
                  </a:cubicBezTo>
                  <a:cubicBezTo>
                    <a:pt x="1170" y="1595"/>
                    <a:pt x="1148" y="1604"/>
                    <a:pt x="1130" y="1604"/>
                  </a:cubicBezTo>
                  <a:cubicBezTo>
                    <a:pt x="1112" y="1604"/>
                    <a:pt x="1069" y="1574"/>
                    <a:pt x="1000" y="1515"/>
                  </a:cubicBezTo>
                  <a:cubicBezTo>
                    <a:pt x="868" y="1576"/>
                    <a:pt x="764" y="1628"/>
                    <a:pt x="695" y="1673"/>
                  </a:cubicBezTo>
                  <a:cubicBezTo>
                    <a:pt x="626" y="1721"/>
                    <a:pt x="577" y="1764"/>
                    <a:pt x="556" y="1808"/>
                  </a:cubicBezTo>
                  <a:cubicBezTo>
                    <a:pt x="535" y="1856"/>
                    <a:pt x="508" y="1877"/>
                    <a:pt x="481" y="1878"/>
                  </a:cubicBezTo>
                  <a:cubicBezTo>
                    <a:pt x="438" y="1878"/>
                    <a:pt x="389" y="1851"/>
                    <a:pt x="338" y="1791"/>
                  </a:cubicBezTo>
                  <a:cubicBezTo>
                    <a:pt x="285" y="1732"/>
                    <a:pt x="257" y="1649"/>
                    <a:pt x="257" y="1536"/>
                  </a:cubicBezTo>
                  <a:cubicBezTo>
                    <a:pt x="257" y="1502"/>
                    <a:pt x="263" y="1474"/>
                    <a:pt x="275" y="1449"/>
                  </a:cubicBezTo>
                  <a:cubicBezTo>
                    <a:pt x="287" y="1427"/>
                    <a:pt x="315" y="1393"/>
                    <a:pt x="357" y="1352"/>
                  </a:cubicBezTo>
                  <a:cubicBezTo>
                    <a:pt x="420" y="1291"/>
                    <a:pt x="466" y="1223"/>
                    <a:pt x="493" y="1151"/>
                  </a:cubicBezTo>
                  <a:cubicBezTo>
                    <a:pt x="442" y="1199"/>
                    <a:pt x="381" y="1239"/>
                    <a:pt x="314" y="1271"/>
                  </a:cubicBezTo>
                  <a:cubicBezTo>
                    <a:pt x="248" y="1306"/>
                    <a:pt x="196" y="1322"/>
                    <a:pt x="163" y="1322"/>
                  </a:cubicBezTo>
                  <a:cubicBezTo>
                    <a:pt x="127" y="1322"/>
                    <a:pt x="90" y="1304"/>
                    <a:pt x="54" y="1267"/>
                  </a:cubicBezTo>
                  <a:cubicBezTo>
                    <a:pt x="19" y="1232"/>
                    <a:pt x="0" y="1186"/>
                    <a:pt x="0" y="1127"/>
                  </a:cubicBezTo>
                  <a:cubicBezTo>
                    <a:pt x="0" y="1068"/>
                    <a:pt x="3" y="1024"/>
                    <a:pt x="12" y="996"/>
                  </a:cubicBezTo>
                  <a:cubicBezTo>
                    <a:pt x="18" y="968"/>
                    <a:pt x="30" y="949"/>
                    <a:pt x="45" y="943"/>
                  </a:cubicBezTo>
                  <a:cubicBezTo>
                    <a:pt x="60" y="936"/>
                    <a:pt x="91" y="914"/>
                    <a:pt x="130" y="880"/>
                  </a:cubicBezTo>
                  <a:cubicBezTo>
                    <a:pt x="169" y="844"/>
                    <a:pt x="200" y="817"/>
                    <a:pt x="221" y="791"/>
                  </a:cubicBezTo>
                  <a:cubicBezTo>
                    <a:pt x="289" y="728"/>
                    <a:pt x="360" y="666"/>
                    <a:pt x="429" y="603"/>
                  </a:cubicBezTo>
                  <a:cubicBezTo>
                    <a:pt x="534" y="504"/>
                    <a:pt x="599" y="436"/>
                    <a:pt x="617" y="395"/>
                  </a:cubicBezTo>
                  <a:cubicBezTo>
                    <a:pt x="569" y="349"/>
                    <a:pt x="519" y="297"/>
                    <a:pt x="475" y="231"/>
                  </a:cubicBezTo>
                  <a:cubicBezTo>
                    <a:pt x="427" y="166"/>
                    <a:pt x="402" y="126"/>
                    <a:pt x="402" y="110"/>
                  </a:cubicBezTo>
                  <a:cubicBezTo>
                    <a:pt x="402" y="95"/>
                    <a:pt x="411" y="88"/>
                    <a:pt x="429" y="88"/>
                  </a:cubicBezTo>
                  <a:cubicBezTo>
                    <a:pt x="444" y="88"/>
                    <a:pt x="465" y="91"/>
                    <a:pt x="493" y="100"/>
                  </a:cubicBezTo>
                  <a:cubicBezTo>
                    <a:pt x="520" y="109"/>
                    <a:pt x="544" y="115"/>
                    <a:pt x="571" y="115"/>
                  </a:cubicBezTo>
                  <a:cubicBezTo>
                    <a:pt x="665" y="114"/>
                    <a:pt x="750" y="96"/>
                    <a:pt x="828" y="57"/>
                  </a:cubicBezTo>
                  <a:cubicBezTo>
                    <a:pt x="849" y="47"/>
                    <a:pt x="864" y="44"/>
                    <a:pt x="879" y="44"/>
                  </a:cubicBezTo>
                  <a:cubicBezTo>
                    <a:pt x="913" y="44"/>
                    <a:pt x="962" y="77"/>
                    <a:pt x="1025" y="146"/>
                  </a:cubicBezTo>
                  <a:cubicBezTo>
                    <a:pt x="1087" y="215"/>
                    <a:pt x="1118" y="260"/>
                    <a:pt x="1118" y="285"/>
                  </a:cubicBezTo>
                  <a:cubicBezTo>
                    <a:pt x="1118" y="313"/>
                    <a:pt x="1097" y="341"/>
                    <a:pt x="1055" y="373"/>
                  </a:cubicBezTo>
                  <a:cubicBezTo>
                    <a:pt x="1013" y="408"/>
                    <a:pt x="912" y="470"/>
                    <a:pt x="756" y="569"/>
                  </a:cubicBezTo>
                  <a:cubicBezTo>
                    <a:pt x="596" y="668"/>
                    <a:pt x="508" y="720"/>
                    <a:pt x="487" y="730"/>
                  </a:cubicBezTo>
                  <a:cubicBezTo>
                    <a:pt x="261" y="855"/>
                    <a:pt x="145" y="926"/>
                    <a:pt x="145" y="954"/>
                  </a:cubicBezTo>
                  <a:cubicBezTo>
                    <a:pt x="145" y="964"/>
                    <a:pt x="154" y="967"/>
                    <a:pt x="172" y="966"/>
                  </a:cubicBezTo>
                  <a:cubicBezTo>
                    <a:pt x="190" y="966"/>
                    <a:pt x="209" y="963"/>
                    <a:pt x="224" y="960"/>
                  </a:cubicBezTo>
                  <a:cubicBezTo>
                    <a:pt x="239" y="957"/>
                    <a:pt x="303" y="932"/>
                    <a:pt x="414" y="883"/>
                  </a:cubicBezTo>
                  <a:cubicBezTo>
                    <a:pt x="526" y="835"/>
                    <a:pt x="626" y="795"/>
                    <a:pt x="716" y="753"/>
                  </a:cubicBezTo>
                  <a:cubicBezTo>
                    <a:pt x="804" y="711"/>
                    <a:pt x="855" y="690"/>
                    <a:pt x="864" y="680"/>
                  </a:cubicBezTo>
                  <a:cubicBezTo>
                    <a:pt x="909" y="642"/>
                    <a:pt x="946" y="624"/>
                    <a:pt x="976" y="623"/>
                  </a:cubicBezTo>
                  <a:cubicBezTo>
                    <a:pt x="1003" y="623"/>
                    <a:pt x="1043" y="641"/>
                    <a:pt x="1088" y="682"/>
                  </a:cubicBezTo>
                  <a:cubicBezTo>
                    <a:pt x="1133" y="722"/>
                    <a:pt x="1154" y="759"/>
                    <a:pt x="1154" y="800"/>
                  </a:cubicBezTo>
                  <a:cubicBezTo>
                    <a:pt x="1154" y="853"/>
                    <a:pt x="1115" y="890"/>
                    <a:pt x="1040" y="913"/>
                  </a:cubicBezTo>
                  <a:cubicBezTo>
                    <a:pt x="992" y="951"/>
                    <a:pt x="942" y="1000"/>
                    <a:pt x="895" y="1067"/>
                  </a:cubicBezTo>
                  <a:cubicBezTo>
                    <a:pt x="847" y="1133"/>
                    <a:pt x="770" y="1213"/>
                    <a:pt x="671" y="1312"/>
                  </a:cubicBezTo>
                  <a:cubicBezTo>
                    <a:pt x="572" y="1410"/>
                    <a:pt x="520" y="1469"/>
                    <a:pt x="520" y="1484"/>
                  </a:cubicBezTo>
                  <a:cubicBezTo>
                    <a:pt x="520" y="1487"/>
                    <a:pt x="523" y="1491"/>
                    <a:pt x="532" y="1491"/>
                  </a:cubicBezTo>
                  <a:cubicBezTo>
                    <a:pt x="550" y="1490"/>
                    <a:pt x="675" y="1444"/>
                    <a:pt x="904" y="1350"/>
                  </a:cubicBezTo>
                  <a:cubicBezTo>
                    <a:pt x="895" y="1313"/>
                    <a:pt x="889" y="1282"/>
                    <a:pt x="889" y="1260"/>
                  </a:cubicBezTo>
                  <a:cubicBezTo>
                    <a:pt x="889" y="1238"/>
                    <a:pt x="904" y="1217"/>
                    <a:pt x="931" y="1194"/>
                  </a:cubicBezTo>
                  <a:cubicBezTo>
                    <a:pt x="958" y="1172"/>
                    <a:pt x="982" y="1160"/>
                    <a:pt x="1003" y="1159"/>
                  </a:cubicBezTo>
                  <a:cubicBezTo>
                    <a:pt x="1025" y="1159"/>
                    <a:pt x="1049" y="1165"/>
                    <a:pt x="1079" y="1174"/>
                  </a:cubicBezTo>
                  <a:cubicBezTo>
                    <a:pt x="1171" y="933"/>
                    <a:pt x="1249" y="781"/>
                    <a:pt x="1303" y="711"/>
                  </a:cubicBezTo>
                  <a:cubicBezTo>
                    <a:pt x="1356" y="642"/>
                    <a:pt x="1433" y="583"/>
                    <a:pt x="1532" y="532"/>
                  </a:cubicBezTo>
                  <a:cubicBezTo>
                    <a:pt x="1541" y="363"/>
                    <a:pt x="1554" y="241"/>
                    <a:pt x="1562" y="170"/>
                  </a:cubicBezTo>
                  <a:cubicBezTo>
                    <a:pt x="1571" y="98"/>
                    <a:pt x="1587" y="54"/>
                    <a:pt x="1608" y="32"/>
                  </a:cubicBezTo>
                  <a:cubicBezTo>
                    <a:pt x="1626" y="10"/>
                    <a:pt x="1659" y="0"/>
                    <a:pt x="1711" y="0"/>
                  </a:cubicBezTo>
                  <a:cubicBezTo>
                    <a:pt x="1759" y="0"/>
                    <a:pt x="1795" y="12"/>
                    <a:pt x="1822" y="40"/>
                  </a:cubicBezTo>
                  <a:cubicBezTo>
                    <a:pt x="1849" y="68"/>
                    <a:pt x="1862" y="111"/>
                    <a:pt x="1862" y="170"/>
                  </a:cubicBezTo>
                  <a:cubicBezTo>
                    <a:pt x="1862" y="230"/>
                    <a:pt x="1846" y="317"/>
                    <a:pt x="1816" y="439"/>
                  </a:cubicBezTo>
                  <a:close/>
                  <a:moveTo>
                    <a:pt x="1605" y="462"/>
                  </a:moveTo>
                  <a:cubicBezTo>
                    <a:pt x="1652" y="365"/>
                    <a:pt x="1677" y="287"/>
                    <a:pt x="1677" y="222"/>
                  </a:cubicBezTo>
                  <a:cubicBezTo>
                    <a:pt x="1677" y="181"/>
                    <a:pt x="1668" y="163"/>
                    <a:pt x="1650" y="163"/>
                  </a:cubicBezTo>
                  <a:cubicBezTo>
                    <a:pt x="1632" y="163"/>
                    <a:pt x="1620" y="200"/>
                    <a:pt x="1611" y="275"/>
                  </a:cubicBezTo>
                  <a:cubicBezTo>
                    <a:pt x="1602" y="353"/>
                    <a:pt x="1602" y="416"/>
                    <a:pt x="1605" y="462"/>
                  </a:cubicBezTo>
                  <a:close/>
                  <a:moveTo>
                    <a:pt x="1544" y="1274"/>
                  </a:moveTo>
                  <a:cubicBezTo>
                    <a:pt x="1541" y="1389"/>
                    <a:pt x="1572" y="1482"/>
                    <a:pt x="1632" y="1550"/>
                  </a:cubicBezTo>
                  <a:cubicBezTo>
                    <a:pt x="1692" y="1622"/>
                    <a:pt x="1732" y="1656"/>
                    <a:pt x="1753" y="1655"/>
                  </a:cubicBezTo>
                  <a:cubicBezTo>
                    <a:pt x="1774" y="1655"/>
                    <a:pt x="1789" y="1640"/>
                    <a:pt x="1801" y="1611"/>
                  </a:cubicBezTo>
                  <a:cubicBezTo>
                    <a:pt x="1810" y="1583"/>
                    <a:pt x="1848" y="1452"/>
                    <a:pt x="1907" y="1218"/>
                  </a:cubicBezTo>
                  <a:cubicBezTo>
                    <a:pt x="1966" y="983"/>
                    <a:pt x="1998" y="830"/>
                    <a:pt x="1998" y="759"/>
                  </a:cubicBezTo>
                  <a:cubicBezTo>
                    <a:pt x="1998" y="690"/>
                    <a:pt x="1983" y="656"/>
                    <a:pt x="1952" y="656"/>
                  </a:cubicBezTo>
                  <a:cubicBezTo>
                    <a:pt x="1943" y="656"/>
                    <a:pt x="1916" y="662"/>
                    <a:pt x="1865" y="679"/>
                  </a:cubicBezTo>
                  <a:cubicBezTo>
                    <a:pt x="1813" y="695"/>
                    <a:pt x="1774" y="713"/>
                    <a:pt x="1741" y="729"/>
                  </a:cubicBezTo>
                  <a:cubicBezTo>
                    <a:pt x="1738" y="776"/>
                    <a:pt x="1669" y="957"/>
                    <a:pt x="1544" y="12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78"/>
            <p:cNvSpPr/>
            <p:nvPr/>
          </p:nvSpPr>
          <p:spPr>
            <a:xfrm>
              <a:off x="4028760" y="9694800"/>
              <a:ext cx="387720" cy="466920"/>
            </a:xfrm>
            <a:custGeom>
              <a:avLst/>
              <a:gdLst/>
              <a:ahLst/>
              <a:rect l="l" t="t" r="r" b="b"/>
              <a:pathLst>
                <a:path w="2336" h="2810">
                  <a:moveTo>
                    <a:pt x="1608" y="1590"/>
                  </a:moveTo>
                  <a:cubicBezTo>
                    <a:pt x="1712" y="1852"/>
                    <a:pt x="1821" y="2055"/>
                    <a:pt x="1925" y="2205"/>
                  </a:cubicBezTo>
                  <a:cubicBezTo>
                    <a:pt x="2029" y="2358"/>
                    <a:pt x="2097" y="2431"/>
                    <a:pt x="2131" y="2431"/>
                  </a:cubicBezTo>
                  <a:cubicBezTo>
                    <a:pt x="2164" y="2431"/>
                    <a:pt x="2201" y="2362"/>
                    <a:pt x="2239" y="2227"/>
                  </a:cubicBezTo>
                  <a:cubicBezTo>
                    <a:pt x="2254" y="2180"/>
                    <a:pt x="2267" y="2155"/>
                    <a:pt x="2276" y="2155"/>
                  </a:cubicBezTo>
                  <a:cubicBezTo>
                    <a:pt x="2285" y="2155"/>
                    <a:pt x="2294" y="2171"/>
                    <a:pt x="2303" y="2205"/>
                  </a:cubicBezTo>
                  <a:cubicBezTo>
                    <a:pt x="2312" y="2239"/>
                    <a:pt x="2315" y="2277"/>
                    <a:pt x="2315" y="2317"/>
                  </a:cubicBezTo>
                  <a:cubicBezTo>
                    <a:pt x="2312" y="2402"/>
                    <a:pt x="2309" y="2488"/>
                    <a:pt x="2306" y="2573"/>
                  </a:cubicBezTo>
                  <a:cubicBezTo>
                    <a:pt x="2306" y="2607"/>
                    <a:pt x="2312" y="2641"/>
                    <a:pt x="2321" y="2682"/>
                  </a:cubicBezTo>
                  <a:cubicBezTo>
                    <a:pt x="2330" y="2719"/>
                    <a:pt x="2336" y="2750"/>
                    <a:pt x="2336" y="2775"/>
                  </a:cubicBezTo>
                  <a:cubicBezTo>
                    <a:pt x="2336" y="2797"/>
                    <a:pt x="2327" y="2810"/>
                    <a:pt x="2309" y="2810"/>
                  </a:cubicBezTo>
                  <a:cubicBezTo>
                    <a:pt x="2288" y="2810"/>
                    <a:pt x="2248" y="2795"/>
                    <a:pt x="2185" y="2761"/>
                  </a:cubicBezTo>
                  <a:cubicBezTo>
                    <a:pt x="2122" y="2727"/>
                    <a:pt x="2076" y="2697"/>
                    <a:pt x="2043" y="2668"/>
                  </a:cubicBezTo>
                  <a:cubicBezTo>
                    <a:pt x="2010" y="2640"/>
                    <a:pt x="1957" y="2570"/>
                    <a:pt x="1883" y="2455"/>
                  </a:cubicBezTo>
                  <a:cubicBezTo>
                    <a:pt x="1808" y="2339"/>
                    <a:pt x="1737" y="2222"/>
                    <a:pt x="1674" y="2104"/>
                  </a:cubicBezTo>
                  <a:cubicBezTo>
                    <a:pt x="1612" y="1985"/>
                    <a:pt x="1552" y="1850"/>
                    <a:pt x="1499" y="1697"/>
                  </a:cubicBezTo>
                  <a:cubicBezTo>
                    <a:pt x="1385" y="1752"/>
                    <a:pt x="1309" y="1779"/>
                    <a:pt x="1269" y="1780"/>
                  </a:cubicBezTo>
                  <a:cubicBezTo>
                    <a:pt x="1230" y="1780"/>
                    <a:pt x="1197" y="1774"/>
                    <a:pt x="1173" y="1765"/>
                  </a:cubicBezTo>
                  <a:cubicBezTo>
                    <a:pt x="1146" y="1756"/>
                    <a:pt x="1133" y="1747"/>
                    <a:pt x="1133" y="1737"/>
                  </a:cubicBezTo>
                  <a:cubicBezTo>
                    <a:pt x="1133" y="1728"/>
                    <a:pt x="1142" y="1722"/>
                    <a:pt x="1161" y="1712"/>
                  </a:cubicBezTo>
                  <a:cubicBezTo>
                    <a:pt x="1242" y="1673"/>
                    <a:pt x="1334" y="1605"/>
                    <a:pt x="1426" y="1504"/>
                  </a:cubicBezTo>
                  <a:cubicBezTo>
                    <a:pt x="1305" y="1183"/>
                    <a:pt x="1208" y="923"/>
                    <a:pt x="1139" y="721"/>
                  </a:cubicBezTo>
                  <a:cubicBezTo>
                    <a:pt x="1016" y="760"/>
                    <a:pt x="915" y="800"/>
                    <a:pt x="834" y="845"/>
                  </a:cubicBezTo>
                  <a:cubicBezTo>
                    <a:pt x="753" y="890"/>
                    <a:pt x="689" y="911"/>
                    <a:pt x="644" y="912"/>
                  </a:cubicBezTo>
                  <a:cubicBezTo>
                    <a:pt x="598" y="912"/>
                    <a:pt x="544" y="909"/>
                    <a:pt x="481" y="900"/>
                  </a:cubicBezTo>
                  <a:cubicBezTo>
                    <a:pt x="486" y="928"/>
                    <a:pt x="490" y="957"/>
                    <a:pt x="490" y="985"/>
                  </a:cubicBezTo>
                  <a:cubicBezTo>
                    <a:pt x="490" y="1013"/>
                    <a:pt x="483" y="1053"/>
                    <a:pt x="471" y="1109"/>
                  </a:cubicBezTo>
                  <a:cubicBezTo>
                    <a:pt x="652" y="1041"/>
                    <a:pt x="792" y="977"/>
                    <a:pt x="892" y="910"/>
                  </a:cubicBezTo>
                  <a:cubicBezTo>
                    <a:pt x="931" y="884"/>
                    <a:pt x="967" y="872"/>
                    <a:pt x="1006" y="871"/>
                  </a:cubicBezTo>
                  <a:cubicBezTo>
                    <a:pt x="1046" y="871"/>
                    <a:pt x="1082" y="889"/>
                    <a:pt x="1121" y="927"/>
                  </a:cubicBezTo>
                  <a:cubicBezTo>
                    <a:pt x="1160" y="967"/>
                    <a:pt x="1179" y="998"/>
                    <a:pt x="1179" y="1023"/>
                  </a:cubicBezTo>
                  <a:cubicBezTo>
                    <a:pt x="1179" y="1057"/>
                    <a:pt x="1145" y="1082"/>
                    <a:pt x="1082" y="1092"/>
                  </a:cubicBezTo>
                  <a:cubicBezTo>
                    <a:pt x="985" y="1106"/>
                    <a:pt x="897" y="1149"/>
                    <a:pt x="819" y="1225"/>
                  </a:cubicBezTo>
                  <a:cubicBezTo>
                    <a:pt x="774" y="1270"/>
                    <a:pt x="731" y="1291"/>
                    <a:pt x="686" y="1292"/>
                  </a:cubicBezTo>
                  <a:cubicBezTo>
                    <a:pt x="671" y="1292"/>
                    <a:pt x="641" y="1286"/>
                    <a:pt x="595" y="1274"/>
                  </a:cubicBezTo>
                  <a:cubicBezTo>
                    <a:pt x="550" y="1265"/>
                    <a:pt x="501" y="1241"/>
                    <a:pt x="456" y="1206"/>
                  </a:cubicBezTo>
                  <a:cubicBezTo>
                    <a:pt x="447" y="1303"/>
                    <a:pt x="444" y="1381"/>
                    <a:pt x="444" y="1446"/>
                  </a:cubicBezTo>
                  <a:cubicBezTo>
                    <a:pt x="474" y="1456"/>
                    <a:pt x="508" y="1474"/>
                    <a:pt x="544" y="1496"/>
                  </a:cubicBezTo>
                  <a:cubicBezTo>
                    <a:pt x="631" y="1435"/>
                    <a:pt x="701" y="1392"/>
                    <a:pt x="750" y="1363"/>
                  </a:cubicBezTo>
                  <a:cubicBezTo>
                    <a:pt x="795" y="1337"/>
                    <a:pt x="831" y="1310"/>
                    <a:pt x="858" y="1278"/>
                  </a:cubicBezTo>
                  <a:cubicBezTo>
                    <a:pt x="885" y="1246"/>
                    <a:pt x="910" y="1225"/>
                    <a:pt x="934" y="1215"/>
                  </a:cubicBezTo>
                  <a:cubicBezTo>
                    <a:pt x="958" y="1205"/>
                    <a:pt x="1000" y="1202"/>
                    <a:pt x="1058" y="1201"/>
                  </a:cubicBezTo>
                  <a:cubicBezTo>
                    <a:pt x="1115" y="1201"/>
                    <a:pt x="1155" y="1222"/>
                    <a:pt x="1176" y="1269"/>
                  </a:cubicBezTo>
                  <a:cubicBezTo>
                    <a:pt x="1193" y="1316"/>
                    <a:pt x="1203" y="1359"/>
                    <a:pt x="1203" y="1394"/>
                  </a:cubicBezTo>
                  <a:cubicBezTo>
                    <a:pt x="1203" y="1415"/>
                    <a:pt x="1191" y="1437"/>
                    <a:pt x="1167" y="1453"/>
                  </a:cubicBezTo>
                  <a:cubicBezTo>
                    <a:pt x="1134" y="1476"/>
                    <a:pt x="1118" y="1519"/>
                    <a:pt x="1118" y="1584"/>
                  </a:cubicBezTo>
                  <a:cubicBezTo>
                    <a:pt x="1136" y="1600"/>
                    <a:pt x="1145" y="1619"/>
                    <a:pt x="1145" y="1640"/>
                  </a:cubicBezTo>
                  <a:cubicBezTo>
                    <a:pt x="1145" y="1678"/>
                    <a:pt x="1124" y="1703"/>
                    <a:pt x="1085" y="1716"/>
                  </a:cubicBezTo>
                  <a:cubicBezTo>
                    <a:pt x="931" y="1765"/>
                    <a:pt x="800" y="1835"/>
                    <a:pt x="689" y="1934"/>
                  </a:cubicBezTo>
                  <a:cubicBezTo>
                    <a:pt x="668" y="1953"/>
                    <a:pt x="650" y="1962"/>
                    <a:pt x="629" y="1963"/>
                  </a:cubicBezTo>
                  <a:cubicBezTo>
                    <a:pt x="589" y="1963"/>
                    <a:pt x="546" y="1923"/>
                    <a:pt x="508" y="1845"/>
                  </a:cubicBezTo>
                  <a:cubicBezTo>
                    <a:pt x="469" y="1767"/>
                    <a:pt x="444" y="1680"/>
                    <a:pt x="438" y="1577"/>
                  </a:cubicBezTo>
                  <a:cubicBezTo>
                    <a:pt x="417" y="1690"/>
                    <a:pt x="396" y="1771"/>
                    <a:pt x="375" y="1821"/>
                  </a:cubicBezTo>
                  <a:cubicBezTo>
                    <a:pt x="351" y="1871"/>
                    <a:pt x="314" y="1924"/>
                    <a:pt x="266" y="1981"/>
                  </a:cubicBezTo>
                  <a:cubicBezTo>
                    <a:pt x="215" y="2041"/>
                    <a:pt x="181" y="2078"/>
                    <a:pt x="166" y="2094"/>
                  </a:cubicBezTo>
                  <a:cubicBezTo>
                    <a:pt x="148" y="2113"/>
                    <a:pt x="133" y="2122"/>
                    <a:pt x="121" y="2122"/>
                  </a:cubicBezTo>
                  <a:cubicBezTo>
                    <a:pt x="97" y="2123"/>
                    <a:pt x="69" y="2079"/>
                    <a:pt x="42" y="1995"/>
                  </a:cubicBezTo>
                  <a:cubicBezTo>
                    <a:pt x="16" y="1911"/>
                    <a:pt x="0" y="1855"/>
                    <a:pt x="0" y="1833"/>
                  </a:cubicBezTo>
                  <a:cubicBezTo>
                    <a:pt x="0" y="1812"/>
                    <a:pt x="3" y="1802"/>
                    <a:pt x="12" y="1802"/>
                  </a:cubicBezTo>
                  <a:cubicBezTo>
                    <a:pt x="18" y="1802"/>
                    <a:pt x="30" y="1811"/>
                    <a:pt x="45" y="1830"/>
                  </a:cubicBezTo>
                  <a:cubicBezTo>
                    <a:pt x="60" y="1849"/>
                    <a:pt x="79" y="1858"/>
                    <a:pt x="94" y="1858"/>
                  </a:cubicBezTo>
                  <a:cubicBezTo>
                    <a:pt x="124" y="1857"/>
                    <a:pt x="161" y="1804"/>
                    <a:pt x="206" y="1701"/>
                  </a:cubicBezTo>
                  <a:cubicBezTo>
                    <a:pt x="250" y="1597"/>
                    <a:pt x="272" y="1482"/>
                    <a:pt x="272" y="1348"/>
                  </a:cubicBezTo>
                  <a:cubicBezTo>
                    <a:pt x="272" y="1292"/>
                    <a:pt x="269" y="1230"/>
                    <a:pt x="260" y="1161"/>
                  </a:cubicBezTo>
                  <a:cubicBezTo>
                    <a:pt x="251" y="1096"/>
                    <a:pt x="242" y="1040"/>
                    <a:pt x="230" y="996"/>
                  </a:cubicBezTo>
                  <a:cubicBezTo>
                    <a:pt x="218" y="955"/>
                    <a:pt x="196" y="922"/>
                    <a:pt x="166" y="900"/>
                  </a:cubicBezTo>
                  <a:cubicBezTo>
                    <a:pt x="145" y="884"/>
                    <a:pt x="133" y="863"/>
                    <a:pt x="133" y="831"/>
                  </a:cubicBezTo>
                  <a:cubicBezTo>
                    <a:pt x="133" y="778"/>
                    <a:pt x="139" y="753"/>
                    <a:pt x="148" y="753"/>
                  </a:cubicBezTo>
                  <a:cubicBezTo>
                    <a:pt x="157" y="753"/>
                    <a:pt x="169" y="759"/>
                    <a:pt x="184" y="772"/>
                  </a:cubicBezTo>
                  <a:cubicBezTo>
                    <a:pt x="199" y="784"/>
                    <a:pt x="218" y="793"/>
                    <a:pt x="239" y="796"/>
                  </a:cubicBezTo>
                  <a:cubicBezTo>
                    <a:pt x="260" y="803"/>
                    <a:pt x="308" y="808"/>
                    <a:pt x="387" y="817"/>
                  </a:cubicBezTo>
                  <a:cubicBezTo>
                    <a:pt x="709" y="650"/>
                    <a:pt x="934" y="545"/>
                    <a:pt x="1058" y="494"/>
                  </a:cubicBezTo>
                  <a:cubicBezTo>
                    <a:pt x="915" y="232"/>
                    <a:pt x="810" y="112"/>
                    <a:pt x="747" y="131"/>
                  </a:cubicBezTo>
                  <a:cubicBezTo>
                    <a:pt x="737" y="135"/>
                    <a:pt x="731" y="135"/>
                    <a:pt x="722" y="135"/>
                  </a:cubicBezTo>
                  <a:cubicBezTo>
                    <a:pt x="713" y="135"/>
                    <a:pt x="704" y="125"/>
                    <a:pt x="698" y="104"/>
                  </a:cubicBezTo>
                  <a:cubicBezTo>
                    <a:pt x="692" y="85"/>
                    <a:pt x="689" y="69"/>
                    <a:pt x="689" y="60"/>
                  </a:cubicBezTo>
                  <a:cubicBezTo>
                    <a:pt x="689" y="19"/>
                    <a:pt x="713" y="1"/>
                    <a:pt x="765" y="0"/>
                  </a:cubicBezTo>
                  <a:cubicBezTo>
                    <a:pt x="777" y="0"/>
                    <a:pt x="798" y="3"/>
                    <a:pt x="825" y="9"/>
                  </a:cubicBezTo>
                  <a:cubicBezTo>
                    <a:pt x="852" y="15"/>
                    <a:pt x="882" y="18"/>
                    <a:pt x="916" y="21"/>
                  </a:cubicBezTo>
                  <a:cubicBezTo>
                    <a:pt x="1015" y="26"/>
                    <a:pt x="1092" y="59"/>
                    <a:pt x="1145" y="122"/>
                  </a:cubicBezTo>
                  <a:cubicBezTo>
                    <a:pt x="1199" y="187"/>
                    <a:pt x="1249" y="280"/>
                    <a:pt x="1290" y="408"/>
                  </a:cubicBezTo>
                  <a:cubicBezTo>
                    <a:pt x="1378" y="400"/>
                    <a:pt x="1439" y="412"/>
                    <a:pt x="1472" y="447"/>
                  </a:cubicBezTo>
                  <a:cubicBezTo>
                    <a:pt x="1505" y="481"/>
                    <a:pt x="1523" y="515"/>
                    <a:pt x="1523" y="543"/>
                  </a:cubicBezTo>
                  <a:cubicBezTo>
                    <a:pt x="1523" y="571"/>
                    <a:pt x="1511" y="602"/>
                    <a:pt x="1484" y="634"/>
                  </a:cubicBezTo>
                  <a:cubicBezTo>
                    <a:pt x="1457" y="665"/>
                    <a:pt x="1423" y="687"/>
                    <a:pt x="1384" y="697"/>
                  </a:cubicBezTo>
                  <a:cubicBezTo>
                    <a:pt x="1381" y="741"/>
                    <a:pt x="1381" y="778"/>
                    <a:pt x="1381" y="806"/>
                  </a:cubicBezTo>
                  <a:cubicBezTo>
                    <a:pt x="1381" y="900"/>
                    <a:pt x="1394" y="990"/>
                    <a:pt x="1420" y="1080"/>
                  </a:cubicBezTo>
                  <a:cubicBezTo>
                    <a:pt x="1444" y="1170"/>
                    <a:pt x="1479" y="1266"/>
                    <a:pt x="1523" y="1375"/>
                  </a:cubicBezTo>
                  <a:cubicBezTo>
                    <a:pt x="1633" y="1205"/>
                    <a:pt x="1689" y="1103"/>
                    <a:pt x="1689" y="1062"/>
                  </a:cubicBezTo>
                  <a:cubicBezTo>
                    <a:pt x="1689" y="1050"/>
                    <a:pt x="1683" y="1034"/>
                    <a:pt x="1674" y="1019"/>
                  </a:cubicBezTo>
                  <a:cubicBezTo>
                    <a:pt x="1665" y="1003"/>
                    <a:pt x="1659" y="988"/>
                    <a:pt x="1659" y="966"/>
                  </a:cubicBezTo>
                  <a:cubicBezTo>
                    <a:pt x="1659" y="944"/>
                    <a:pt x="1677" y="935"/>
                    <a:pt x="1711" y="934"/>
                  </a:cubicBezTo>
                  <a:cubicBezTo>
                    <a:pt x="1744" y="934"/>
                    <a:pt x="1790" y="952"/>
                    <a:pt x="1844" y="992"/>
                  </a:cubicBezTo>
                  <a:cubicBezTo>
                    <a:pt x="1898" y="1033"/>
                    <a:pt x="1925" y="1082"/>
                    <a:pt x="1925" y="1138"/>
                  </a:cubicBezTo>
                  <a:cubicBezTo>
                    <a:pt x="1925" y="1223"/>
                    <a:pt x="1817" y="1371"/>
                    <a:pt x="1608" y="1590"/>
                  </a:cubicBezTo>
                  <a:close/>
                  <a:moveTo>
                    <a:pt x="650" y="1719"/>
                  </a:moveTo>
                  <a:cubicBezTo>
                    <a:pt x="776" y="1667"/>
                    <a:pt x="853" y="1621"/>
                    <a:pt x="873" y="1580"/>
                  </a:cubicBezTo>
                  <a:cubicBezTo>
                    <a:pt x="894" y="1539"/>
                    <a:pt x="907" y="1511"/>
                    <a:pt x="907" y="1496"/>
                  </a:cubicBezTo>
                  <a:cubicBezTo>
                    <a:pt x="907" y="1480"/>
                    <a:pt x="901" y="1474"/>
                    <a:pt x="892" y="1474"/>
                  </a:cubicBezTo>
                  <a:cubicBezTo>
                    <a:pt x="882" y="1474"/>
                    <a:pt x="867" y="1483"/>
                    <a:pt x="849" y="1499"/>
                  </a:cubicBezTo>
                  <a:cubicBezTo>
                    <a:pt x="810" y="1537"/>
                    <a:pt x="734" y="1568"/>
                    <a:pt x="620" y="1592"/>
                  </a:cubicBezTo>
                  <a:cubicBezTo>
                    <a:pt x="623" y="1638"/>
                    <a:pt x="635" y="1679"/>
                    <a:pt x="650" y="1719"/>
                  </a:cubicBezTo>
                  <a:close/>
                  <a:moveTo>
                    <a:pt x="1708" y="114"/>
                  </a:moveTo>
                  <a:cubicBezTo>
                    <a:pt x="1759" y="114"/>
                    <a:pt x="1808" y="135"/>
                    <a:pt x="1853" y="182"/>
                  </a:cubicBezTo>
                  <a:cubicBezTo>
                    <a:pt x="1894" y="229"/>
                    <a:pt x="1916" y="281"/>
                    <a:pt x="1916" y="340"/>
                  </a:cubicBezTo>
                  <a:cubicBezTo>
                    <a:pt x="1916" y="368"/>
                    <a:pt x="1904" y="384"/>
                    <a:pt x="1883" y="393"/>
                  </a:cubicBezTo>
                  <a:cubicBezTo>
                    <a:pt x="1862" y="403"/>
                    <a:pt x="1822" y="410"/>
                    <a:pt x="1768" y="410"/>
                  </a:cubicBezTo>
                  <a:cubicBezTo>
                    <a:pt x="1714" y="410"/>
                    <a:pt x="1668" y="399"/>
                    <a:pt x="1632" y="374"/>
                  </a:cubicBezTo>
                  <a:cubicBezTo>
                    <a:pt x="1596" y="352"/>
                    <a:pt x="1556" y="319"/>
                    <a:pt x="1511" y="272"/>
                  </a:cubicBezTo>
                  <a:cubicBezTo>
                    <a:pt x="1466" y="225"/>
                    <a:pt x="1445" y="197"/>
                    <a:pt x="1445" y="188"/>
                  </a:cubicBezTo>
                  <a:cubicBezTo>
                    <a:pt x="1445" y="179"/>
                    <a:pt x="1454" y="172"/>
                    <a:pt x="1475" y="169"/>
                  </a:cubicBezTo>
                  <a:cubicBezTo>
                    <a:pt x="1532" y="159"/>
                    <a:pt x="1581" y="150"/>
                    <a:pt x="1623" y="134"/>
                  </a:cubicBezTo>
                  <a:cubicBezTo>
                    <a:pt x="1665" y="121"/>
                    <a:pt x="1692" y="114"/>
                    <a:pt x="1708" y="114"/>
                  </a:cubicBezTo>
                  <a:close/>
                  <a:moveTo>
                    <a:pt x="1173" y="1986"/>
                  </a:moveTo>
                  <a:cubicBezTo>
                    <a:pt x="1187" y="1958"/>
                    <a:pt x="1194" y="1930"/>
                    <a:pt x="1194" y="1908"/>
                  </a:cubicBezTo>
                  <a:cubicBezTo>
                    <a:pt x="1194" y="1886"/>
                    <a:pt x="1188" y="1871"/>
                    <a:pt x="1179" y="1861"/>
                  </a:cubicBezTo>
                  <a:cubicBezTo>
                    <a:pt x="1170" y="1852"/>
                    <a:pt x="1164" y="1840"/>
                    <a:pt x="1164" y="1824"/>
                  </a:cubicBezTo>
                  <a:cubicBezTo>
                    <a:pt x="1164" y="1809"/>
                    <a:pt x="1185" y="1802"/>
                    <a:pt x="1224" y="1802"/>
                  </a:cubicBezTo>
                  <a:cubicBezTo>
                    <a:pt x="1263" y="1802"/>
                    <a:pt x="1303" y="1817"/>
                    <a:pt x="1339" y="1851"/>
                  </a:cubicBezTo>
                  <a:cubicBezTo>
                    <a:pt x="1372" y="1885"/>
                    <a:pt x="1390" y="1932"/>
                    <a:pt x="1390" y="1988"/>
                  </a:cubicBezTo>
                  <a:cubicBezTo>
                    <a:pt x="1390" y="2019"/>
                    <a:pt x="1381" y="2062"/>
                    <a:pt x="1360" y="2119"/>
                  </a:cubicBezTo>
                  <a:cubicBezTo>
                    <a:pt x="1339" y="2178"/>
                    <a:pt x="1312" y="2207"/>
                    <a:pt x="1284" y="2207"/>
                  </a:cubicBezTo>
                  <a:cubicBezTo>
                    <a:pt x="1191" y="2208"/>
                    <a:pt x="1142" y="2167"/>
                    <a:pt x="1139" y="2089"/>
                  </a:cubicBezTo>
                  <a:cubicBezTo>
                    <a:pt x="1136" y="2058"/>
                    <a:pt x="1127" y="2034"/>
                    <a:pt x="1112" y="2015"/>
                  </a:cubicBezTo>
                  <a:cubicBezTo>
                    <a:pt x="1097" y="1996"/>
                    <a:pt x="1073" y="1975"/>
                    <a:pt x="1043" y="1947"/>
                  </a:cubicBezTo>
                  <a:cubicBezTo>
                    <a:pt x="1025" y="2031"/>
                    <a:pt x="1000" y="2106"/>
                    <a:pt x="967" y="2178"/>
                  </a:cubicBezTo>
                  <a:cubicBezTo>
                    <a:pt x="934" y="2250"/>
                    <a:pt x="910" y="2285"/>
                    <a:pt x="895" y="2285"/>
                  </a:cubicBezTo>
                  <a:cubicBezTo>
                    <a:pt x="879" y="2285"/>
                    <a:pt x="852" y="2254"/>
                    <a:pt x="816" y="2192"/>
                  </a:cubicBezTo>
                  <a:cubicBezTo>
                    <a:pt x="777" y="2129"/>
                    <a:pt x="759" y="2086"/>
                    <a:pt x="759" y="2061"/>
                  </a:cubicBezTo>
                  <a:cubicBezTo>
                    <a:pt x="759" y="2039"/>
                    <a:pt x="771" y="2002"/>
                    <a:pt x="795" y="1949"/>
                  </a:cubicBezTo>
                  <a:cubicBezTo>
                    <a:pt x="816" y="1899"/>
                    <a:pt x="837" y="1874"/>
                    <a:pt x="855" y="1873"/>
                  </a:cubicBezTo>
                  <a:cubicBezTo>
                    <a:pt x="864" y="1873"/>
                    <a:pt x="877" y="1889"/>
                    <a:pt x="885" y="1917"/>
                  </a:cubicBezTo>
                  <a:cubicBezTo>
                    <a:pt x="894" y="1945"/>
                    <a:pt x="910" y="1966"/>
                    <a:pt x="937" y="1976"/>
                  </a:cubicBezTo>
                  <a:cubicBezTo>
                    <a:pt x="994" y="1900"/>
                    <a:pt x="1034" y="1863"/>
                    <a:pt x="1055" y="1862"/>
                  </a:cubicBezTo>
                  <a:cubicBezTo>
                    <a:pt x="1064" y="1862"/>
                    <a:pt x="1067" y="1869"/>
                    <a:pt x="1067" y="1878"/>
                  </a:cubicBezTo>
                  <a:cubicBezTo>
                    <a:pt x="1067" y="1890"/>
                    <a:pt x="1064" y="1906"/>
                    <a:pt x="1055" y="1922"/>
                  </a:cubicBezTo>
                  <a:cubicBezTo>
                    <a:pt x="1082" y="1956"/>
                    <a:pt x="1121" y="1977"/>
                    <a:pt x="1173" y="1986"/>
                  </a:cubicBezTo>
                  <a:close/>
                  <a:moveTo>
                    <a:pt x="366" y="2071"/>
                  </a:moveTo>
                  <a:cubicBezTo>
                    <a:pt x="390" y="2042"/>
                    <a:pt x="408" y="2027"/>
                    <a:pt x="420" y="2017"/>
                  </a:cubicBezTo>
                  <a:cubicBezTo>
                    <a:pt x="432" y="2011"/>
                    <a:pt x="456" y="2008"/>
                    <a:pt x="490" y="2007"/>
                  </a:cubicBezTo>
                  <a:cubicBezTo>
                    <a:pt x="523" y="2007"/>
                    <a:pt x="550" y="2019"/>
                    <a:pt x="571" y="2047"/>
                  </a:cubicBezTo>
                  <a:cubicBezTo>
                    <a:pt x="592" y="2075"/>
                    <a:pt x="620" y="2121"/>
                    <a:pt x="647" y="2187"/>
                  </a:cubicBezTo>
                  <a:cubicBezTo>
                    <a:pt x="673" y="2252"/>
                    <a:pt x="716" y="2295"/>
                    <a:pt x="780" y="2320"/>
                  </a:cubicBezTo>
                  <a:cubicBezTo>
                    <a:pt x="840" y="2342"/>
                    <a:pt x="940" y="2350"/>
                    <a:pt x="1076" y="2349"/>
                  </a:cubicBezTo>
                  <a:cubicBezTo>
                    <a:pt x="1100" y="2349"/>
                    <a:pt x="1112" y="2330"/>
                    <a:pt x="1112" y="2292"/>
                  </a:cubicBezTo>
                  <a:cubicBezTo>
                    <a:pt x="1112" y="2255"/>
                    <a:pt x="1093" y="2209"/>
                    <a:pt x="1055" y="2156"/>
                  </a:cubicBezTo>
                  <a:cubicBezTo>
                    <a:pt x="1046" y="2140"/>
                    <a:pt x="1040" y="2125"/>
                    <a:pt x="1040" y="2115"/>
                  </a:cubicBezTo>
                  <a:cubicBezTo>
                    <a:pt x="1040" y="2106"/>
                    <a:pt x="1046" y="2103"/>
                    <a:pt x="1055" y="2103"/>
                  </a:cubicBezTo>
                  <a:cubicBezTo>
                    <a:pt x="1064" y="2103"/>
                    <a:pt x="1082" y="2115"/>
                    <a:pt x="1106" y="2143"/>
                  </a:cubicBezTo>
                  <a:cubicBezTo>
                    <a:pt x="1229" y="2277"/>
                    <a:pt x="1309" y="2353"/>
                    <a:pt x="1348" y="2381"/>
                  </a:cubicBezTo>
                  <a:cubicBezTo>
                    <a:pt x="1387" y="2409"/>
                    <a:pt x="1405" y="2433"/>
                    <a:pt x="1405" y="2455"/>
                  </a:cubicBezTo>
                  <a:cubicBezTo>
                    <a:pt x="1405" y="2477"/>
                    <a:pt x="1366" y="2496"/>
                    <a:pt x="1290" y="2512"/>
                  </a:cubicBezTo>
                  <a:cubicBezTo>
                    <a:pt x="1212" y="2529"/>
                    <a:pt x="1142" y="2535"/>
                    <a:pt x="1079" y="2536"/>
                  </a:cubicBezTo>
                  <a:cubicBezTo>
                    <a:pt x="931" y="2537"/>
                    <a:pt x="803" y="2508"/>
                    <a:pt x="698" y="2442"/>
                  </a:cubicBezTo>
                  <a:cubicBezTo>
                    <a:pt x="593" y="2377"/>
                    <a:pt x="510" y="2257"/>
                    <a:pt x="453" y="2073"/>
                  </a:cubicBezTo>
                  <a:cubicBezTo>
                    <a:pt x="438" y="2070"/>
                    <a:pt x="426" y="2083"/>
                    <a:pt x="417" y="2105"/>
                  </a:cubicBezTo>
                  <a:cubicBezTo>
                    <a:pt x="405" y="2127"/>
                    <a:pt x="399" y="2148"/>
                    <a:pt x="399" y="2170"/>
                  </a:cubicBezTo>
                  <a:cubicBezTo>
                    <a:pt x="399" y="2192"/>
                    <a:pt x="402" y="2217"/>
                    <a:pt x="405" y="2239"/>
                  </a:cubicBezTo>
                  <a:cubicBezTo>
                    <a:pt x="408" y="2261"/>
                    <a:pt x="411" y="2292"/>
                    <a:pt x="411" y="2332"/>
                  </a:cubicBezTo>
                  <a:cubicBezTo>
                    <a:pt x="411" y="2370"/>
                    <a:pt x="408" y="2420"/>
                    <a:pt x="405" y="2479"/>
                  </a:cubicBezTo>
                  <a:cubicBezTo>
                    <a:pt x="402" y="2538"/>
                    <a:pt x="396" y="2572"/>
                    <a:pt x="393" y="2582"/>
                  </a:cubicBezTo>
                  <a:cubicBezTo>
                    <a:pt x="390" y="2588"/>
                    <a:pt x="384" y="2591"/>
                    <a:pt x="378" y="2591"/>
                  </a:cubicBezTo>
                  <a:cubicBezTo>
                    <a:pt x="357" y="2591"/>
                    <a:pt x="326" y="2555"/>
                    <a:pt x="287" y="2477"/>
                  </a:cubicBezTo>
                  <a:cubicBezTo>
                    <a:pt x="248" y="2399"/>
                    <a:pt x="227" y="2343"/>
                    <a:pt x="227" y="2309"/>
                  </a:cubicBezTo>
                  <a:cubicBezTo>
                    <a:pt x="227" y="2274"/>
                    <a:pt x="236" y="2228"/>
                    <a:pt x="251" y="2175"/>
                  </a:cubicBezTo>
                  <a:cubicBezTo>
                    <a:pt x="266" y="2121"/>
                    <a:pt x="275" y="2078"/>
                    <a:pt x="278" y="2040"/>
                  </a:cubicBezTo>
                  <a:cubicBezTo>
                    <a:pt x="281" y="2006"/>
                    <a:pt x="290" y="1987"/>
                    <a:pt x="308" y="1987"/>
                  </a:cubicBezTo>
                  <a:cubicBezTo>
                    <a:pt x="323" y="1987"/>
                    <a:pt x="345" y="2015"/>
                    <a:pt x="366" y="20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Group 79"/>
          <p:cNvGrpSpPr/>
          <p:nvPr/>
        </p:nvGrpSpPr>
        <p:grpSpPr>
          <a:xfrm>
            <a:off x="3602160" y="10568160"/>
            <a:ext cx="852480" cy="466560"/>
            <a:chOff x="3602160" y="10568160"/>
            <a:chExt cx="852480" cy="466560"/>
          </a:xfrm>
        </p:grpSpPr>
        <p:sp>
          <p:nvSpPr>
            <p:cNvPr id="2900" name="Freeform 80"/>
            <p:cNvSpPr/>
            <p:nvPr/>
          </p:nvSpPr>
          <p:spPr>
            <a:xfrm flipV="1">
              <a:off x="3602160" y="10577520"/>
              <a:ext cx="375480" cy="365760"/>
            </a:xfrm>
            <a:custGeom>
              <a:avLst/>
              <a:gdLst/>
              <a:ahLst/>
              <a:rect l="l" t="t" r="r" b="b"/>
              <a:pathLst>
                <a:path w="2261" h="2205">
                  <a:moveTo>
                    <a:pt x="1816" y="439"/>
                  </a:moveTo>
                  <a:cubicBezTo>
                    <a:pt x="1946" y="435"/>
                    <a:pt x="2056" y="461"/>
                    <a:pt x="2137" y="521"/>
                  </a:cubicBezTo>
                  <a:cubicBezTo>
                    <a:pt x="2218" y="580"/>
                    <a:pt x="2261" y="657"/>
                    <a:pt x="2261" y="760"/>
                  </a:cubicBezTo>
                  <a:cubicBezTo>
                    <a:pt x="2261" y="803"/>
                    <a:pt x="2223" y="965"/>
                    <a:pt x="2155" y="1247"/>
                  </a:cubicBezTo>
                  <a:cubicBezTo>
                    <a:pt x="2087" y="1528"/>
                    <a:pt x="2024" y="1712"/>
                    <a:pt x="1973" y="1803"/>
                  </a:cubicBezTo>
                  <a:cubicBezTo>
                    <a:pt x="1923" y="1895"/>
                    <a:pt x="1870" y="1960"/>
                    <a:pt x="1819" y="2004"/>
                  </a:cubicBezTo>
                  <a:cubicBezTo>
                    <a:pt x="1765" y="2046"/>
                    <a:pt x="1726" y="2067"/>
                    <a:pt x="1705" y="2067"/>
                  </a:cubicBezTo>
                  <a:cubicBezTo>
                    <a:pt x="1680" y="2068"/>
                    <a:pt x="1646" y="2015"/>
                    <a:pt x="1602" y="1906"/>
                  </a:cubicBezTo>
                  <a:cubicBezTo>
                    <a:pt x="1557" y="1797"/>
                    <a:pt x="1517" y="1645"/>
                    <a:pt x="1487" y="1452"/>
                  </a:cubicBezTo>
                  <a:cubicBezTo>
                    <a:pt x="1395" y="1647"/>
                    <a:pt x="1314" y="1783"/>
                    <a:pt x="1257" y="1862"/>
                  </a:cubicBezTo>
                  <a:cubicBezTo>
                    <a:pt x="1207" y="1935"/>
                    <a:pt x="1120" y="2027"/>
                    <a:pt x="1000" y="2145"/>
                  </a:cubicBezTo>
                  <a:cubicBezTo>
                    <a:pt x="958" y="2186"/>
                    <a:pt x="934" y="2205"/>
                    <a:pt x="928" y="2201"/>
                  </a:cubicBezTo>
                  <a:cubicBezTo>
                    <a:pt x="928" y="2189"/>
                    <a:pt x="959" y="2136"/>
                    <a:pt x="1018" y="2045"/>
                  </a:cubicBezTo>
                  <a:cubicBezTo>
                    <a:pt x="1075" y="1953"/>
                    <a:pt x="1153" y="1795"/>
                    <a:pt x="1242" y="1566"/>
                  </a:cubicBezTo>
                  <a:cubicBezTo>
                    <a:pt x="1328" y="1340"/>
                    <a:pt x="1403" y="1128"/>
                    <a:pt x="1457" y="925"/>
                  </a:cubicBezTo>
                  <a:cubicBezTo>
                    <a:pt x="1454" y="916"/>
                    <a:pt x="1447" y="903"/>
                    <a:pt x="1436" y="888"/>
                  </a:cubicBezTo>
                  <a:cubicBezTo>
                    <a:pt x="1402" y="904"/>
                    <a:pt x="1366" y="907"/>
                    <a:pt x="1321" y="904"/>
                  </a:cubicBezTo>
                  <a:cubicBezTo>
                    <a:pt x="1300" y="930"/>
                    <a:pt x="1272" y="979"/>
                    <a:pt x="1239" y="1055"/>
                  </a:cubicBezTo>
                  <a:cubicBezTo>
                    <a:pt x="1206" y="1133"/>
                    <a:pt x="1191" y="1186"/>
                    <a:pt x="1191" y="1217"/>
                  </a:cubicBezTo>
                  <a:cubicBezTo>
                    <a:pt x="1191" y="1251"/>
                    <a:pt x="1194" y="1276"/>
                    <a:pt x="1197" y="1298"/>
                  </a:cubicBezTo>
                  <a:cubicBezTo>
                    <a:pt x="1224" y="1351"/>
                    <a:pt x="1236" y="1398"/>
                    <a:pt x="1236" y="1432"/>
                  </a:cubicBezTo>
                  <a:cubicBezTo>
                    <a:pt x="1236" y="1510"/>
                    <a:pt x="1224" y="1556"/>
                    <a:pt x="1197" y="1576"/>
                  </a:cubicBezTo>
                  <a:cubicBezTo>
                    <a:pt x="1170" y="1595"/>
                    <a:pt x="1148" y="1604"/>
                    <a:pt x="1130" y="1604"/>
                  </a:cubicBezTo>
                  <a:cubicBezTo>
                    <a:pt x="1112" y="1604"/>
                    <a:pt x="1069" y="1574"/>
                    <a:pt x="1000" y="1515"/>
                  </a:cubicBezTo>
                  <a:cubicBezTo>
                    <a:pt x="868" y="1576"/>
                    <a:pt x="764" y="1628"/>
                    <a:pt x="695" y="1673"/>
                  </a:cubicBezTo>
                  <a:cubicBezTo>
                    <a:pt x="626" y="1721"/>
                    <a:pt x="577" y="1764"/>
                    <a:pt x="556" y="1808"/>
                  </a:cubicBezTo>
                  <a:cubicBezTo>
                    <a:pt x="535" y="1856"/>
                    <a:pt x="508" y="1877"/>
                    <a:pt x="481" y="1878"/>
                  </a:cubicBezTo>
                  <a:cubicBezTo>
                    <a:pt x="438" y="1878"/>
                    <a:pt x="389" y="1851"/>
                    <a:pt x="338" y="1791"/>
                  </a:cubicBezTo>
                  <a:cubicBezTo>
                    <a:pt x="285" y="1732"/>
                    <a:pt x="257" y="1649"/>
                    <a:pt x="257" y="1536"/>
                  </a:cubicBezTo>
                  <a:cubicBezTo>
                    <a:pt x="257" y="1502"/>
                    <a:pt x="263" y="1474"/>
                    <a:pt x="275" y="1449"/>
                  </a:cubicBezTo>
                  <a:cubicBezTo>
                    <a:pt x="287" y="1427"/>
                    <a:pt x="315" y="1393"/>
                    <a:pt x="357" y="1352"/>
                  </a:cubicBezTo>
                  <a:cubicBezTo>
                    <a:pt x="420" y="1291"/>
                    <a:pt x="466" y="1223"/>
                    <a:pt x="493" y="1151"/>
                  </a:cubicBezTo>
                  <a:cubicBezTo>
                    <a:pt x="442" y="1199"/>
                    <a:pt x="381" y="1239"/>
                    <a:pt x="314" y="1271"/>
                  </a:cubicBezTo>
                  <a:cubicBezTo>
                    <a:pt x="248" y="1306"/>
                    <a:pt x="196" y="1322"/>
                    <a:pt x="163" y="1322"/>
                  </a:cubicBezTo>
                  <a:cubicBezTo>
                    <a:pt x="127" y="1322"/>
                    <a:pt x="90" y="1304"/>
                    <a:pt x="54" y="1267"/>
                  </a:cubicBezTo>
                  <a:cubicBezTo>
                    <a:pt x="19" y="1232"/>
                    <a:pt x="0" y="1186"/>
                    <a:pt x="0" y="1127"/>
                  </a:cubicBezTo>
                  <a:cubicBezTo>
                    <a:pt x="0" y="1068"/>
                    <a:pt x="3" y="1024"/>
                    <a:pt x="12" y="996"/>
                  </a:cubicBezTo>
                  <a:cubicBezTo>
                    <a:pt x="18" y="968"/>
                    <a:pt x="30" y="949"/>
                    <a:pt x="45" y="943"/>
                  </a:cubicBezTo>
                  <a:cubicBezTo>
                    <a:pt x="60" y="936"/>
                    <a:pt x="91" y="914"/>
                    <a:pt x="130" y="880"/>
                  </a:cubicBezTo>
                  <a:cubicBezTo>
                    <a:pt x="169" y="844"/>
                    <a:pt x="200" y="817"/>
                    <a:pt x="221" y="791"/>
                  </a:cubicBezTo>
                  <a:cubicBezTo>
                    <a:pt x="289" y="728"/>
                    <a:pt x="360" y="666"/>
                    <a:pt x="429" y="603"/>
                  </a:cubicBezTo>
                  <a:cubicBezTo>
                    <a:pt x="534" y="504"/>
                    <a:pt x="599" y="436"/>
                    <a:pt x="617" y="395"/>
                  </a:cubicBezTo>
                  <a:cubicBezTo>
                    <a:pt x="569" y="349"/>
                    <a:pt x="519" y="297"/>
                    <a:pt x="475" y="231"/>
                  </a:cubicBezTo>
                  <a:cubicBezTo>
                    <a:pt x="427" y="166"/>
                    <a:pt x="402" y="126"/>
                    <a:pt x="402" y="110"/>
                  </a:cubicBezTo>
                  <a:cubicBezTo>
                    <a:pt x="402" y="95"/>
                    <a:pt x="411" y="88"/>
                    <a:pt x="429" y="88"/>
                  </a:cubicBezTo>
                  <a:cubicBezTo>
                    <a:pt x="444" y="88"/>
                    <a:pt x="465" y="91"/>
                    <a:pt x="493" y="100"/>
                  </a:cubicBezTo>
                  <a:cubicBezTo>
                    <a:pt x="520" y="109"/>
                    <a:pt x="544" y="115"/>
                    <a:pt x="571" y="115"/>
                  </a:cubicBezTo>
                  <a:cubicBezTo>
                    <a:pt x="665" y="114"/>
                    <a:pt x="750" y="96"/>
                    <a:pt x="828" y="57"/>
                  </a:cubicBezTo>
                  <a:cubicBezTo>
                    <a:pt x="849" y="47"/>
                    <a:pt x="864" y="44"/>
                    <a:pt x="879" y="44"/>
                  </a:cubicBezTo>
                  <a:cubicBezTo>
                    <a:pt x="913" y="44"/>
                    <a:pt x="962" y="77"/>
                    <a:pt x="1025" y="146"/>
                  </a:cubicBezTo>
                  <a:cubicBezTo>
                    <a:pt x="1087" y="215"/>
                    <a:pt x="1118" y="260"/>
                    <a:pt x="1118" y="285"/>
                  </a:cubicBezTo>
                  <a:cubicBezTo>
                    <a:pt x="1118" y="313"/>
                    <a:pt x="1097" y="341"/>
                    <a:pt x="1055" y="373"/>
                  </a:cubicBezTo>
                  <a:cubicBezTo>
                    <a:pt x="1013" y="408"/>
                    <a:pt x="912" y="470"/>
                    <a:pt x="756" y="569"/>
                  </a:cubicBezTo>
                  <a:cubicBezTo>
                    <a:pt x="596" y="668"/>
                    <a:pt x="508" y="720"/>
                    <a:pt x="487" y="730"/>
                  </a:cubicBezTo>
                  <a:cubicBezTo>
                    <a:pt x="261" y="855"/>
                    <a:pt x="145" y="926"/>
                    <a:pt x="145" y="954"/>
                  </a:cubicBezTo>
                  <a:cubicBezTo>
                    <a:pt x="145" y="964"/>
                    <a:pt x="154" y="967"/>
                    <a:pt x="172" y="966"/>
                  </a:cubicBezTo>
                  <a:cubicBezTo>
                    <a:pt x="190" y="966"/>
                    <a:pt x="209" y="963"/>
                    <a:pt x="224" y="960"/>
                  </a:cubicBezTo>
                  <a:cubicBezTo>
                    <a:pt x="239" y="957"/>
                    <a:pt x="303" y="932"/>
                    <a:pt x="414" y="883"/>
                  </a:cubicBezTo>
                  <a:cubicBezTo>
                    <a:pt x="526" y="835"/>
                    <a:pt x="626" y="795"/>
                    <a:pt x="716" y="753"/>
                  </a:cubicBezTo>
                  <a:cubicBezTo>
                    <a:pt x="804" y="711"/>
                    <a:pt x="855" y="690"/>
                    <a:pt x="864" y="680"/>
                  </a:cubicBezTo>
                  <a:cubicBezTo>
                    <a:pt x="909" y="642"/>
                    <a:pt x="946" y="624"/>
                    <a:pt x="976" y="623"/>
                  </a:cubicBezTo>
                  <a:cubicBezTo>
                    <a:pt x="1003" y="623"/>
                    <a:pt x="1043" y="641"/>
                    <a:pt x="1088" y="682"/>
                  </a:cubicBezTo>
                  <a:cubicBezTo>
                    <a:pt x="1133" y="722"/>
                    <a:pt x="1154" y="759"/>
                    <a:pt x="1154" y="800"/>
                  </a:cubicBezTo>
                  <a:cubicBezTo>
                    <a:pt x="1154" y="853"/>
                    <a:pt x="1115" y="890"/>
                    <a:pt x="1040" y="913"/>
                  </a:cubicBezTo>
                  <a:cubicBezTo>
                    <a:pt x="992" y="951"/>
                    <a:pt x="942" y="1000"/>
                    <a:pt x="895" y="1067"/>
                  </a:cubicBezTo>
                  <a:cubicBezTo>
                    <a:pt x="847" y="1133"/>
                    <a:pt x="770" y="1213"/>
                    <a:pt x="671" y="1312"/>
                  </a:cubicBezTo>
                  <a:cubicBezTo>
                    <a:pt x="572" y="1410"/>
                    <a:pt x="520" y="1469"/>
                    <a:pt x="520" y="1484"/>
                  </a:cubicBezTo>
                  <a:cubicBezTo>
                    <a:pt x="520" y="1487"/>
                    <a:pt x="523" y="1491"/>
                    <a:pt x="532" y="1491"/>
                  </a:cubicBezTo>
                  <a:cubicBezTo>
                    <a:pt x="550" y="1490"/>
                    <a:pt x="675" y="1444"/>
                    <a:pt x="904" y="1350"/>
                  </a:cubicBezTo>
                  <a:cubicBezTo>
                    <a:pt x="895" y="1313"/>
                    <a:pt x="889" y="1282"/>
                    <a:pt x="889" y="1260"/>
                  </a:cubicBezTo>
                  <a:cubicBezTo>
                    <a:pt x="889" y="1238"/>
                    <a:pt x="904" y="1217"/>
                    <a:pt x="931" y="1194"/>
                  </a:cubicBezTo>
                  <a:cubicBezTo>
                    <a:pt x="958" y="1172"/>
                    <a:pt x="982" y="1160"/>
                    <a:pt x="1003" y="1159"/>
                  </a:cubicBezTo>
                  <a:cubicBezTo>
                    <a:pt x="1025" y="1159"/>
                    <a:pt x="1049" y="1165"/>
                    <a:pt x="1079" y="1174"/>
                  </a:cubicBezTo>
                  <a:cubicBezTo>
                    <a:pt x="1171" y="933"/>
                    <a:pt x="1249" y="781"/>
                    <a:pt x="1303" y="711"/>
                  </a:cubicBezTo>
                  <a:cubicBezTo>
                    <a:pt x="1356" y="642"/>
                    <a:pt x="1433" y="583"/>
                    <a:pt x="1532" y="532"/>
                  </a:cubicBezTo>
                  <a:cubicBezTo>
                    <a:pt x="1541" y="363"/>
                    <a:pt x="1554" y="241"/>
                    <a:pt x="1562" y="170"/>
                  </a:cubicBezTo>
                  <a:cubicBezTo>
                    <a:pt x="1571" y="98"/>
                    <a:pt x="1587" y="54"/>
                    <a:pt x="1608" y="32"/>
                  </a:cubicBezTo>
                  <a:cubicBezTo>
                    <a:pt x="1626" y="10"/>
                    <a:pt x="1659" y="0"/>
                    <a:pt x="1711" y="0"/>
                  </a:cubicBezTo>
                  <a:cubicBezTo>
                    <a:pt x="1759" y="0"/>
                    <a:pt x="1795" y="12"/>
                    <a:pt x="1822" y="40"/>
                  </a:cubicBezTo>
                  <a:cubicBezTo>
                    <a:pt x="1849" y="68"/>
                    <a:pt x="1862" y="111"/>
                    <a:pt x="1862" y="170"/>
                  </a:cubicBezTo>
                  <a:cubicBezTo>
                    <a:pt x="1862" y="230"/>
                    <a:pt x="1846" y="317"/>
                    <a:pt x="1816" y="439"/>
                  </a:cubicBezTo>
                  <a:close/>
                  <a:moveTo>
                    <a:pt x="1605" y="462"/>
                  </a:moveTo>
                  <a:cubicBezTo>
                    <a:pt x="1652" y="365"/>
                    <a:pt x="1677" y="287"/>
                    <a:pt x="1677" y="222"/>
                  </a:cubicBezTo>
                  <a:cubicBezTo>
                    <a:pt x="1677" y="181"/>
                    <a:pt x="1668" y="163"/>
                    <a:pt x="1650" y="163"/>
                  </a:cubicBezTo>
                  <a:cubicBezTo>
                    <a:pt x="1632" y="163"/>
                    <a:pt x="1620" y="200"/>
                    <a:pt x="1611" y="275"/>
                  </a:cubicBezTo>
                  <a:cubicBezTo>
                    <a:pt x="1602" y="353"/>
                    <a:pt x="1602" y="416"/>
                    <a:pt x="1605" y="462"/>
                  </a:cubicBezTo>
                  <a:close/>
                  <a:moveTo>
                    <a:pt x="1544" y="1274"/>
                  </a:moveTo>
                  <a:cubicBezTo>
                    <a:pt x="1541" y="1389"/>
                    <a:pt x="1572" y="1482"/>
                    <a:pt x="1632" y="1550"/>
                  </a:cubicBezTo>
                  <a:cubicBezTo>
                    <a:pt x="1692" y="1622"/>
                    <a:pt x="1732" y="1656"/>
                    <a:pt x="1753" y="1655"/>
                  </a:cubicBezTo>
                  <a:cubicBezTo>
                    <a:pt x="1774" y="1655"/>
                    <a:pt x="1789" y="1640"/>
                    <a:pt x="1801" y="1611"/>
                  </a:cubicBezTo>
                  <a:cubicBezTo>
                    <a:pt x="1810" y="1583"/>
                    <a:pt x="1848" y="1452"/>
                    <a:pt x="1907" y="1218"/>
                  </a:cubicBezTo>
                  <a:cubicBezTo>
                    <a:pt x="1966" y="983"/>
                    <a:pt x="1998" y="830"/>
                    <a:pt x="1998" y="759"/>
                  </a:cubicBezTo>
                  <a:cubicBezTo>
                    <a:pt x="1998" y="690"/>
                    <a:pt x="1983" y="656"/>
                    <a:pt x="1952" y="656"/>
                  </a:cubicBezTo>
                  <a:cubicBezTo>
                    <a:pt x="1943" y="656"/>
                    <a:pt x="1916" y="662"/>
                    <a:pt x="1865" y="679"/>
                  </a:cubicBezTo>
                  <a:cubicBezTo>
                    <a:pt x="1813" y="695"/>
                    <a:pt x="1774" y="713"/>
                    <a:pt x="1741" y="729"/>
                  </a:cubicBezTo>
                  <a:cubicBezTo>
                    <a:pt x="1738" y="776"/>
                    <a:pt x="1669" y="957"/>
                    <a:pt x="1544" y="1274"/>
                  </a:cubicBez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81"/>
            <p:cNvSpPr/>
            <p:nvPr/>
          </p:nvSpPr>
          <p:spPr>
            <a:xfrm flipV="1">
              <a:off x="4066920" y="10568160"/>
              <a:ext cx="387720" cy="466560"/>
            </a:xfrm>
            <a:custGeom>
              <a:avLst/>
              <a:gdLst/>
              <a:ahLst/>
              <a:rect l="l" t="t" r="r" b="b"/>
              <a:pathLst>
                <a:path w="2336" h="2810">
                  <a:moveTo>
                    <a:pt x="1608" y="1590"/>
                  </a:moveTo>
                  <a:cubicBezTo>
                    <a:pt x="1712" y="1852"/>
                    <a:pt x="1821" y="2055"/>
                    <a:pt x="1925" y="2205"/>
                  </a:cubicBezTo>
                  <a:cubicBezTo>
                    <a:pt x="2029" y="2358"/>
                    <a:pt x="2097" y="2431"/>
                    <a:pt x="2131" y="2431"/>
                  </a:cubicBezTo>
                  <a:cubicBezTo>
                    <a:pt x="2164" y="2431"/>
                    <a:pt x="2201" y="2362"/>
                    <a:pt x="2239" y="2227"/>
                  </a:cubicBezTo>
                  <a:cubicBezTo>
                    <a:pt x="2254" y="2180"/>
                    <a:pt x="2267" y="2155"/>
                    <a:pt x="2276" y="2155"/>
                  </a:cubicBezTo>
                  <a:cubicBezTo>
                    <a:pt x="2285" y="2155"/>
                    <a:pt x="2294" y="2171"/>
                    <a:pt x="2303" y="2205"/>
                  </a:cubicBezTo>
                  <a:cubicBezTo>
                    <a:pt x="2312" y="2239"/>
                    <a:pt x="2315" y="2277"/>
                    <a:pt x="2315" y="2317"/>
                  </a:cubicBezTo>
                  <a:cubicBezTo>
                    <a:pt x="2312" y="2402"/>
                    <a:pt x="2309" y="2488"/>
                    <a:pt x="2306" y="2573"/>
                  </a:cubicBezTo>
                  <a:cubicBezTo>
                    <a:pt x="2306" y="2607"/>
                    <a:pt x="2312" y="2641"/>
                    <a:pt x="2321" y="2682"/>
                  </a:cubicBezTo>
                  <a:cubicBezTo>
                    <a:pt x="2330" y="2719"/>
                    <a:pt x="2336" y="2750"/>
                    <a:pt x="2336" y="2775"/>
                  </a:cubicBezTo>
                  <a:cubicBezTo>
                    <a:pt x="2336" y="2797"/>
                    <a:pt x="2327" y="2810"/>
                    <a:pt x="2309" y="2810"/>
                  </a:cubicBezTo>
                  <a:cubicBezTo>
                    <a:pt x="2288" y="2810"/>
                    <a:pt x="2248" y="2795"/>
                    <a:pt x="2185" y="2761"/>
                  </a:cubicBezTo>
                  <a:cubicBezTo>
                    <a:pt x="2122" y="2727"/>
                    <a:pt x="2076" y="2697"/>
                    <a:pt x="2043" y="2668"/>
                  </a:cubicBezTo>
                  <a:cubicBezTo>
                    <a:pt x="2010" y="2640"/>
                    <a:pt x="1957" y="2570"/>
                    <a:pt x="1883" y="2455"/>
                  </a:cubicBezTo>
                  <a:cubicBezTo>
                    <a:pt x="1808" y="2339"/>
                    <a:pt x="1737" y="2222"/>
                    <a:pt x="1674" y="2104"/>
                  </a:cubicBezTo>
                  <a:cubicBezTo>
                    <a:pt x="1612" y="1985"/>
                    <a:pt x="1552" y="1850"/>
                    <a:pt x="1499" y="1697"/>
                  </a:cubicBezTo>
                  <a:cubicBezTo>
                    <a:pt x="1385" y="1752"/>
                    <a:pt x="1309" y="1779"/>
                    <a:pt x="1269" y="1780"/>
                  </a:cubicBezTo>
                  <a:cubicBezTo>
                    <a:pt x="1230" y="1780"/>
                    <a:pt x="1197" y="1774"/>
                    <a:pt x="1173" y="1765"/>
                  </a:cubicBezTo>
                  <a:cubicBezTo>
                    <a:pt x="1146" y="1756"/>
                    <a:pt x="1133" y="1747"/>
                    <a:pt x="1133" y="1737"/>
                  </a:cubicBezTo>
                  <a:cubicBezTo>
                    <a:pt x="1133" y="1728"/>
                    <a:pt x="1142" y="1722"/>
                    <a:pt x="1161" y="1712"/>
                  </a:cubicBezTo>
                  <a:cubicBezTo>
                    <a:pt x="1242" y="1673"/>
                    <a:pt x="1334" y="1605"/>
                    <a:pt x="1426" y="1504"/>
                  </a:cubicBezTo>
                  <a:cubicBezTo>
                    <a:pt x="1305" y="1183"/>
                    <a:pt x="1208" y="923"/>
                    <a:pt x="1139" y="721"/>
                  </a:cubicBezTo>
                  <a:cubicBezTo>
                    <a:pt x="1016" y="760"/>
                    <a:pt x="915" y="800"/>
                    <a:pt x="834" y="845"/>
                  </a:cubicBezTo>
                  <a:cubicBezTo>
                    <a:pt x="753" y="890"/>
                    <a:pt x="689" y="911"/>
                    <a:pt x="644" y="912"/>
                  </a:cubicBezTo>
                  <a:cubicBezTo>
                    <a:pt x="598" y="912"/>
                    <a:pt x="544" y="909"/>
                    <a:pt x="481" y="900"/>
                  </a:cubicBezTo>
                  <a:cubicBezTo>
                    <a:pt x="486" y="928"/>
                    <a:pt x="490" y="957"/>
                    <a:pt x="490" y="985"/>
                  </a:cubicBezTo>
                  <a:cubicBezTo>
                    <a:pt x="490" y="1013"/>
                    <a:pt x="483" y="1053"/>
                    <a:pt x="471" y="1109"/>
                  </a:cubicBezTo>
                  <a:cubicBezTo>
                    <a:pt x="652" y="1041"/>
                    <a:pt x="792" y="977"/>
                    <a:pt x="892" y="910"/>
                  </a:cubicBezTo>
                  <a:cubicBezTo>
                    <a:pt x="931" y="884"/>
                    <a:pt x="967" y="872"/>
                    <a:pt x="1006" y="871"/>
                  </a:cubicBezTo>
                  <a:cubicBezTo>
                    <a:pt x="1046" y="871"/>
                    <a:pt x="1082" y="889"/>
                    <a:pt x="1121" y="927"/>
                  </a:cubicBezTo>
                  <a:cubicBezTo>
                    <a:pt x="1160" y="967"/>
                    <a:pt x="1179" y="998"/>
                    <a:pt x="1179" y="1023"/>
                  </a:cubicBezTo>
                  <a:cubicBezTo>
                    <a:pt x="1179" y="1057"/>
                    <a:pt x="1145" y="1082"/>
                    <a:pt x="1082" y="1092"/>
                  </a:cubicBezTo>
                  <a:cubicBezTo>
                    <a:pt x="985" y="1106"/>
                    <a:pt x="897" y="1149"/>
                    <a:pt x="819" y="1225"/>
                  </a:cubicBezTo>
                  <a:cubicBezTo>
                    <a:pt x="774" y="1270"/>
                    <a:pt x="731" y="1291"/>
                    <a:pt x="686" y="1292"/>
                  </a:cubicBezTo>
                  <a:cubicBezTo>
                    <a:pt x="671" y="1292"/>
                    <a:pt x="641" y="1286"/>
                    <a:pt x="595" y="1274"/>
                  </a:cubicBezTo>
                  <a:cubicBezTo>
                    <a:pt x="550" y="1265"/>
                    <a:pt x="501" y="1241"/>
                    <a:pt x="456" y="1206"/>
                  </a:cubicBezTo>
                  <a:cubicBezTo>
                    <a:pt x="447" y="1303"/>
                    <a:pt x="444" y="1381"/>
                    <a:pt x="444" y="1446"/>
                  </a:cubicBezTo>
                  <a:cubicBezTo>
                    <a:pt x="474" y="1456"/>
                    <a:pt x="508" y="1474"/>
                    <a:pt x="544" y="1496"/>
                  </a:cubicBezTo>
                  <a:cubicBezTo>
                    <a:pt x="631" y="1435"/>
                    <a:pt x="701" y="1392"/>
                    <a:pt x="750" y="1363"/>
                  </a:cubicBezTo>
                  <a:cubicBezTo>
                    <a:pt x="795" y="1337"/>
                    <a:pt x="831" y="1310"/>
                    <a:pt x="858" y="1278"/>
                  </a:cubicBezTo>
                  <a:cubicBezTo>
                    <a:pt x="885" y="1246"/>
                    <a:pt x="910" y="1225"/>
                    <a:pt x="934" y="1215"/>
                  </a:cubicBezTo>
                  <a:cubicBezTo>
                    <a:pt x="958" y="1205"/>
                    <a:pt x="1000" y="1202"/>
                    <a:pt x="1058" y="1201"/>
                  </a:cubicBezTo>
                  <a:cubicBezTo>
                    <a:pt x="1115" y="1201"/>
                    <a:pt x="1155" y="1222"/>
                    <a:pt x="1176" y="1269"/>
                  </a:cubicBezTo>
                  <a:cubicBezTo>
                    <a:pt x="1193" y="1316"/>
                    <a:pt x="1203" y="1359"/>
                    <a:pt x="1203" y="1394"/>
                  </a:cubicBezTo>
                  <a:cubicBezTo>
                    <a:pt x="1203" y="1415"/>
                    <a:pt x="1191" y="1437"/>
                    <a:pt x="1167" y="1453"/>
                  </a:cubicBezTo>
                  <a:cubicBezTo>
                    <a:pt x="1134" y="1476"/>
                    <a:pt x="1118" y="1519"/>
                    <a:pt x="1118" y="1584"/>
                  </a:cubicBezTo>
                  <a:cubicBezTo>
                    <a:pt x="1136" y="1600"/>
                    <a:pt x="1145" y="1619"/>
                    <a:pt x="1145" y="1640"/>
                  </a:cubicBezTo>
                  <a:cubicBezTo>
                    <a:pt x="1145" y="1678"/>
                    <a:pt x="1124" y="1703"/>
                    <a:pt x="1085" y="1716"/>
                  </a:cubicBezTo>
                  <a:cubicBezTo>
                    <a:pt x="931" y="1765"/>
                    <a:pt x="800" y="1835"/>
                    <a:pt x="689" y="1934"/>
                  </a:cubicBezTo>
                  <a:cubicBezTo>
                    <a:pt x="668" y="1953"/>
                    <a:pt x="650" y="1962"/>
                    <a:pt x="629" y="1963"/>
                  </a:cubicBezTo>
                  <a:cubicBezTo>
                    <a:pt x="589" y="1963"/>
                    <a:pt x="546" y="1923"/>
                    <a:pt x="508" y="1845"/>
                  </a:cubicBezTo>
                  <a:cubicBezTo>
                    <a:pt x="469" y="1767"/>
                    <a:pt x="444" y="1680"/>
                    <a:pt x="438" y="1577"/>
                  </a:cubicBezTo>
                  <a:cubicBezTo>
                    <a:pt x="417" y="1690"/>
                    <a:pt x="396" y="1771"/>
                    <a:pt x="375" y="1821"/>
                  </a:cubicBezTo>
                  <a:cubicBezTo>
                    <a:pt x="351" y="1871"/>
                    <a:pt x="314" y="1924"/>
                    <a:pt x="266" y="1981"/>
                  </a:cubicBezTo>
                  <a:cubicBezTo>
                    <a:pt x="215" y="2041"/>
                    <a:pt x="181" y="2078"/>
                    <a:pt x="166" y="2094"/>
                  </a:cubicBezTo>
                  <a:cubicBezTo>
                    <a:pt x="148" y="2113"/>
                    <a:pt x="133" y="2122"/>
                    <a:pt x="121" y="2122"/>
                  </a:cubicBezTo>
                  <a:cubicBezTo>
                    <a:pt x="97" y="2123"/>
                    <a:pt x="69" y="2079"/>
                    <a:pt x="42" y="1995"/>
                  </a:cubicBezTo>
                  <a:cubicBezTo>
                    <a:pt x="16" y="1911"/>
                    <a:pt x="0" y="1855"/>
                    <a:pt x="0" y="1833"/>
                  </a:cubicBezTo>
                  <a:cubicBezTo>
                    <a:pt x="0" y="1812"/>
                    <a:pt x="3" y="1802"/>
                    <a:pt x="12" y="1802"/>
                  </a:cubicBezTo>
                  <a:cubicBezTo>
                    <a:pt x="18" y="1802"/>
                    <a:pt x="30" y="1811"/>
                    <a:pt x="45" y="1830"/>
                  </a:cubicBezTo>
                  <a:cubicBezTo>
                    <a:pt x="60" y="1849"/>
                    <a:pt x="79" y="1858"/>
                    <a:pt x="94" y="1858"/>
                  </a:cubicBezTo>
                  <a:cubicBezTo>
                    <a:pt x="124" y="1857"/>
                    <a:pt x="161" y="1804"/>
                    <a:pt x="206" y="1701"/>
                  </a:cubicBezTo>
                  <a:cubicBezTo>
                    <a:pt x="250" y="1597"/>
                    <a:pt x="272" y="1482"/>
                    <a:pt x="272" y="1348"/>
                  </a:cubicBezTo>
                  <a:cubicBezTo>
                    <a:pt x="272" y="1292"/>
                    <a:pt x="269" y="1230"/>
                    <a:pt x="260" y="1161"/>
                  </a:cubicBezTo>
                  <a:cubicBezTo>
                    <a:pt x="251" y="1096"/>
                    <a:pt x="242" y="1040"/>
                    <a:pt x="230" y="996"/>
                  </a:cubicBezTo>
                  <a:cubicBezTo>
                    <a:pt x="218" y="955"/>
                    <a:pt x="196" y="922"/>
                    <a:pt x="166" y="900"/>
                  </a:cubicBezTo>
                  <a:cubicBezTo>
                    <a:pt x="145" y="884"/>
                    <a:pt x="133" y="863"/>
                    <a:pt x="133" y="831"/>
                  </a:cubicBezTo>
                  <a:cubicBezTo>
                    <a:pt x="133" y="778"/>
                    <a:pt x="139" y="753"/>
                    <a:pt x="148" y="753"/>
                  </a:cubicBezTo>
                  <a:cubicBezTo>
                    <a:pt x="157" y="753"/>
                    <a:pt x="169" y="759"/>
                    <a:pt x="184" y="772"/>
                  </a:cubicBezTo>
                  <a:cubicBezTo>
                    <a:pt x="199" y="784"/>
                    <a:pt x="218" y="793"/>
                    <a:pt x="239" y="796"/>
                  </a:cubicBezTo>
                  <a:cubicBezTo>
                    <a:pt x="260" y="803"/>
                    <a:pt x="308" y="808"/>
                    <a:pt x="387" y="817"/>
                  </a:cubicBezTo>
                  <a:cubicBezTo>
                    <a:pt x="709" y="650"/>
                    <a:pt x="934" y="545"/>
                    <a:pt x="1058" y="494"/>
                  </a:cubicBezTo>
                  <a:cubicBezTo>
                    <a:pt x="915" y="232"/>
                    <a:pt x="810" y="112"/>
                    <a:pt x="747" y="131"/>
                  </a:cubicBezTo>
                  <a:cubicBezTo>
                    <a:pt x="737" y="135"/>
                    <a:pt x="731" y="135"/>
                    <a:pt x="722" y="135"/>
                  </a:cubicBezTo>
                  <a:cubicBezTo>
                    <a:pt x="713" y="135"/>
                    <a:pt x="704" y="125"/>
                    <a:pt x="698" y="104"/>
                  </a:cubicBezTo>
                  <a:cubicBezTo>
                    <a:pt x="692" y="85"/>
                    <a:pt x="689" y="69"/>
                    <a:pt x="689" y="60"/>
                  </a:cubicBezTo>
                  <a:cubicBezTo>
                    <a:pt x="689" y="19"/>
                    <a:pt x="713" y="1"/>
                    <a:pt x="765" y="0"/>
                  </a:cubicBezTo>
                  <a:cubicBezTo>
                    <a:pt x="777" y="0"/>
                    <a:pt x="798" y="3"/>
                    <a:pt x="825" y="9"/>
                  </a:cubicBezTo>
                  <a:cubicBezTo>
                    <a:pt x="852" y="15"/>
                    <a:pt x="882" y="18"/>
                    <a:pt x="916" y="21"/>
                  </a:cubicBezTo>
                  <a:cubicBezTo>
                    <a:pt x="1015" y="26"/>
                    <a:pt x="1092" y="59"/>
                    <a:pt x="1145" y="122"/>
                  </a:cubicBezTo>
                  <a:cubicBezTo>
                    <a:pt x="1199" y="187"/>
                    <a:pt x="1249" y="280"/>
                    <a:pt x="1290" y="408"/>
                  </a:cubicBezTo>
                  <a:cubicBezTo>
                    <a:pt x="1378" y="400"/>
                    <a:pt x="1439" y="412"/>
                    <a:pt x="1472" y="447"/>
                  </a:cubicBezTo>
                  <a:cubicBezTo>
                    <a:pt x="1505" y="481"/>
                    <a:pt x="1523" y="515"/>
                    <a:pt x="1523" y="543"/>
                  </a:cubicBezTo>
                  <a:cubicBezTo>
                    <a:pt x="1523" y="571"/>
                    <a:pt x="1511" y="602"/>
                    <a:pt x="1484" y="634"/>
                  </a:cubicBezTo>
                  <a:cubicBezTo>
                    <a:pt x="1457" y="665"/>
                    <a:pt x="1423" y="687"/>
                    <a:pt x="1384" y="697"/>
                  </a:cubicBezTo>
                  <a:cubicBezTo>
                    <a:pt x="1381" y="741"/>
                    <a:pt x="1381" y="778"/>
                    <a:pt x="1381" y="806"/>
                  </a:cubicBezTo>
                  <a:cubicBezTo>
                    <a:pt x="1381" y="900"/>
                    <a:pt x="1394" y="990"/>
                    <a:pt x="1420" y="1080"/>
                  </a:cubicBezTo>
                  <a:cubicBezTo>
                    <a:pt x="1444" y="1170"/>
                    <a:pt x="1479" y="1266"/>
                    <a:pt x="1523" y="1375"/>
                  </a:cubicBezTo>
                  <a:cubicBezTo>
                    <a:pt x="1633" y="1205"/>
                    <a:pt x="1689" y="1103"/>
                    <a:pt x="1689" y="1062"/>
                  </a:cubicBezTo>
                  <a:cubicBezTo>
                    <a:pt x="1689" y="1050"/>
                    <a:pt x="1683" y="1034"/>
                    <a:pt x="1674" y="1019"/>
                  </a:cubicBezTo>
                  <a:cubicBezTo>
                    <a:pt x="1665" y="1003"/>
                    <a:pt x="1659" y="988"/>
                    <a:pt x="1659" y="966"/>
                  </a:cubicBezTo>
                  <a:cubicBezTo>
                    <a:pt x="1659" y="944"/>
                    <a:pt x="1677" y="935"/>
                    <a:pt x="1711" y="934"/>
                  </a:cubicBezTo>
                  <a:cubicBezTo>
                    <a:pt x="1744" y="934"/>
                    <a:pt x="1790" y="952"/>
                    <a:pt x="1844" y="992"/>
                  </a:cubicBezTo>
                  <a:cubicBezTo>
                    <a:pt x="1898" y="1033"/>
                    <a:pt x="1925" y="1082"/>
                    <a:pt x="1925" y="1138"/>
                  </a:cubicBezTo>
                  <a:cubicBezTo>
                    <a:pt x="1925" y="1223"/>
                    <a:pt x="1817" y="1371"/>
                    <a:pt x="1608" y="1590"/>
                  </a:cubicBezTo>
                  <a:close/>
                  <a:moveTo>
                    <a:pt x="650" y="1719"/>
                  </a:moveTo>
                  <a:cubicBezTo>
                    <a:pt x="776" y="1667"/>
                    <a:pt x="853" y="1621"/>
                    <a:pt x="873" y="1580"/>
                  </a:cubicBezTo>
                  <a:cubicBezTo>
                    <a:pt x="894" y="1539"/>
                    <a:pt x="907" y="1511"/>
                    <a:pt x="907" y="1496"/>
                  </a:cubicBezTo>
                  <a:cubicBezTo>
                    <a:pt x="907" y="1480"/>
                    <a:pt x="901" y="1474"/>
                    <a:pt x="892" y="1474"/>
                  </a:cubicBezTo>
                  <a:cubicBezTo>
                    <a:pt x="882" y="1474"/>
                    <a:pt x="867" y="1483"/>
                    <a:pt x="849" y="1499"/>
                  </a:cubicBezTo>
                  <a:cubicBezTo>
                    <a:pt x="810" y="1537"/>
                    <a:pt x="734" y="1568"/>
                    <a:pt x="620" y="1592"/>
                  </a:cubicBezTo>
                  <a:cubicBezTo>
                    <a:pt x="623" y="1638"/>
                    <a:pt x="635" y="1679"/>
                    <a:pt x="650" y="1719"/>
                  </a:cubicBezTo>
                  <a:close/>
                  <a:moveTo>
                    <a:pt x="1708" y="114"/>
                  </a:moveTo>
                  <a:cubicBezTo>
                    <a:pt x="1759" y="114"/>
                    <a:pt x="1808" y="135"/>
                    <a:pt x="1853" y="182"/>
                  </a:cubicBezTo>
                  <a:cubicBezTo>
                    <a:pt x="1894" y="229"/>
                    <a:pt x="1916" y="281"/>
                    <a:pt x="1916" y="340"/>
                  </a:cubicBezTo>
                  <a:cubicBezTo>
                    <a:pt x="1916" y="368"/>
                    <a:pt x="1904" y="384"/>
                    <a:pt x="1883" y="393"/>
                  </a:cubicBezTo>
                  <a:cubicBezTo>
                    <a:pt x="1862" y="403"/>
                    <a:pt x="1822" y="410"/>
                    <a:pt x="1768" y="410"/>
                  </a:cubicBezTo>
                  <a:cubicBezTo>
                    <a:pt x="1714" y="410"/>
                    <a:pt x="1668" y="399"/>
                    <a:pt x="1632" y="374"/>
                  </a:cubicBezTo>
                  <a:cubicBezTo>
                    <a:pt x="1596" y="352"/>
                    <a:pt x="1556" y="319"/>
                    <a:pt x="1511" y="272"/>
                  </a:cubicBezTo>
                  <a:cubicBezTo>
                    <a:pt x="1466" y="225"/>
                    <a:pt x="1445" y="197"/>
                    <a:pt x="1445" y="188"/>
                  </a:cubicBezTo>
                  <a:cubicBezTo>
                    <a:pt x="1445" y="179"/>
                    <a:pt x="1454" y="172"/>
                    <a:pt x="1475" y="169"/>
                  </a:cubicBezTo>
                  <a:cubicBezTo>
                    <a:pt x="1532" y="159"/>
                    <a:pt x="1581" y="150"/>
                    <a:pt x="1623" y="134"/>
                  </a:cubicBezTo>
                  <a:cubicBezTo>
                    <a:pt x="1665" y="121"/>
                    <a:pt x="1692" y="114"/>
                    <a:pt x="1708" y="114"/>
                  </a:cubicBezTo>
                  <a:close/>
                  <a:moveTo>
                    <a:pt x="1173" y="1986"/>
                  </a:moveTo>
                  <a:cubicBezTo>
                    <a:pt x="1187" y="1958"/>
                    <a:pt x="1194" y="1930"/>
                    <a:pt x="1194" y="1908"/>
                  </a:cubicBezTo>
                  <a:cubicBezTo>
                    <a:pt x="1194" y="1886"/>
                    <a:pt x="1188" y="1871"/>
                    <a:pt x="1179" y="1861"/>
                  </a:cubicBezTo>
                  <a:cubicBezTo>
                    <a:pt x="1170" y="1852"/>
                    <a:pt x="1164" y="1840"/>
                    <a:pt x="1164" y="1824"/>
                  </a:cubicBezTo>
                  <a:cubicBezTo>
                    <a:pt x="1164" y="1809"/>
                    <a:pt x="1185" y="1802"/>
                    <a:pt x="1224" y="1802"/>
                  </a:cubicBezTo>
                  <a:cubicBezTo>
                    <a:pt x="1263" y="1802"/>
                    <a:pt x="1303" y="1817"/>
                    <a:pt x="1339" y="1851"/>
                  </a:cubicBezTo>
                  <a:cubicBezTo>
                    <a:pt x="1372" y="1885"/>
                    <a:pt x="1390" y="1932"/>
                    <a:pt x="1390" y="1988"/>
                  </a:cubicBezTo>
                  <a:cubicBezTo>
                    <a:pt x="1390" y="2019"/>
                    <a:pt x="1381" y="2062"/>
                    <a:pt x="1360" y="2119"/>
                  </a:cubicBezTo>
                  <a:cubicBezTo>
                    <a:pt x="1339" y="2178"/>
                    <a:pt x="1312" y="2207"/>
                    <a:pt x="1284" y="2207"/>
                  </a:cubicBezTo>
                  <a:cubicBezTo>
                    <a:pt x="1191" y="2208"/>
                    <a:pt x="1142" y="2167"/>
                    <a:pt x="1139" y="2089"/>
                  </a:cubicBezTo>
                  <a:cubicBezTo>
                    <a:pt x="1136" y="2058"/>
                    <a:pt x="1127" y="2034"/>
                    <a:pt x="1112" y="2015"/>
                  </a:cubicBezTo>
                  <a:cubicBezTo>
                    <a:pt x="1097" y="1996"/>
                    <a:pt x="1073" y="1975"/>
                    <a:pt x="1043" y="1947"/>
                  </a:cubicBezTo>
                  <a:cubicBezTo>
                    <a:pt x="1025" y="2031"/>
                    <a:pt x="1000" y="2106"/>
                    <a:pt x="967" y="2178"/>
                  </a:cubicBezTo>
                  <a:cubicBezTo>
                    <a:pt x="934" y="2250"/>
                    <a:pt x="910" y="2285"/>
                    <a:pt x="895" y="2285"/>
                  </a:cubicBezTo>
                  <a:cubicBezTo>
                    <a:pt x="879" y="2285"/>
                    <a:pt x="852" y="2254"/>
                    <a:pt x="816" y="2192"/>
                  </a:cubicBezTo>
                  <a:cubicBezTo>
                    <a:pt x="777" y="2129"/>
                    <a:pt x="759" y="2086"/>
                    <a:pt x="759" y="2061"/>
                  </a:cubicBezTo>
                  <a:cubicBezTo>
                    <a:pt x="759" y="2039"/>
                    <a:pt x="771" y="2002"/>
                    <a:pt x="795" y="1949"/>
                  </a:cubicBezTo>
                  <a:cubicBezTo>
                    <a:pt x="816" y="1899"/>
                    <a:pt x="837" y="1874"/>
                    <a:pt x="855" y="1873"/>
                  </a:cubicBezTo>
                  <a:cubicBezTo>
                    <a:pt x="864" y="1873"/>
                    <a:pt x="877" y="1889"/>
                    <a:pt x="885" y="1917"/>
                  </a:cubicBezTo>
                  <a:cubicBezTo>
                    <a:pt x="894" y="1945"/>
                    <a:pt x="910" y="1966"/>
                    <a:pt x="937" y="1976"/>
                  </a:cubicBezTo>
                  <a:cubicBezTo>
                    <a:pt x="994" y="1900"/>
                    <a:pt x="1034" y="1863"/>
                    <a:pt x="1055" y="1862"/>
                  </a:cubicBezTo>
                  <a:cubicBezTo>
                    <a:pt x="1064" y="1862"/>
                    <a:pt x="1067" y="1869"/>
                    <a:pt x="1067" y="1878"/>
                  </a:cubicBezTo>
                  <a:cubicBezTo>
                    <a:pt x="1067" y="1890"/>
                    <a:pt x="1064" y="1906"/>
                    <a:pt x="1055" y="1922"/>
                  </a:cubicBezTo>
                  <a:cubicBezTo>
                    <a:pt x="1082" y="1956"/>
                    <a:pt x="1121" y="1977"/>
                    <a:pt x="1173" y="1986"/>
                  </a:cubicBezTo>
                  <a:close/>
                  <a:moveTo>
                    <a:pt x="366" y="2071"/>
                  </a:moveTo>
                  <a:cubicBezTo>
                    <a:pt x="390" y="2042"/>
                    <a:pt x="408" y="2027"/>
                    <a:pt x="420" y="2017"/>
                  </a:cubicBezTo>
                  <a:cubicBezTo>
                    <a:pt x="432" y="2011"/>
                    <a:pt x="456" y="2008"/>
                    <a:pt x="490" y="2007"/>
                  </a:cubicBezTo>
                  <a:cubicBezTo>
                    <a:pt x="523" y="2007"/>
                    <a:pt x="550" y="2019"/>
                    <a:pt x="571" y="2047"/>
                  </a:cubicBezTo>
                  <a:cubicBezTo>
                    <a:pt x="592" y="2075"/>
                    <a:pt x="620" y="2121"/>
                    <a:pt x="647" y="2187"/>
                  </a:cubicBezTo>
                  <a:cubicBezTo>
                    <a:pt x="673" y="2252"/>
                    <a:pt x="716" y="2295"/>
                    <a:pt x="780" y="2320"/>
                  </a:cubicBezTo>
                  <a:cubicBezTo>
                    <a:pt x="840" y="2342"/>
                    <a:pt x="940" y="2350"/>
                    <a:pt x="1076" y="2349"/>
                  </a:cubicBezTo>
                  <a:cubicBezTo>
                    <a:pt x="1100" y="2349"/>
                    <a:pt x="1112" y="2330"/>
                    <a:pt x="1112" y="2292"/>
                  </a:cubicBezTo>
                  <a:cubicBezTo>
                    <a:pt x="1112" y="2255"/>
                    <a:pt x="1093" y="2209"/>
                    <a:pt x="1055" y="2156"/>
                  </a:cubicBezTo>
                  <a:cubicBezTo>
                    <a:pt x="1046" y="2140"/>
                    <a:pt x="1040" y="2125"/>
                    <a:pt x="1040" y="2115"/>
                  </a:cubicBezTo>
                  <a:cubicBezTo>
                    <a:pt x="1040" y="2106"/>
                    <a:pt x="1046" y="2103"/>
                    <a:pt x="1055" y="2103"/>
                  </a:cubicBezTo>
                  <a:cubicBezTo>
                    <a:pt x="1064" y="2103"/>
                    <a:pt x="1082" y="2115"/>
                    <a:pt x="1106" y="2143"/>
                  </a:cubicBezTo>
                  <a:cubicBezTo>
                    <a:pt x="1229" y="2277"/>
                    <a:pt x="1309" y="2353"/>
                    <a:pt x="1348" y="2381"/>
                  </a:cubicBezTo>
                  <a:cubicBezTo>
                    <a:pt x="1387" y="2409"/>
                    <a:pt x="1405" y="2433"/>
                    <a:pt x="1405" y="2455"/>
                  </a:cubicBezTo>
                  <a:cubicBezTo>
                    <a:pt x="1405" y="2477"/>
                    <a:pt x="1366" y="2496"/>
                    <a:pt x="1290" y="2512"/>
                  </a:cubicBezTo>
                  <a:cubicBezTo>
                    <a:pt x="1212" y="2529"/>
                    <a:pt x="1142" y="2535"/>
                    <a:pt x="1079" y="2536"/>
                  </a:cubicBezTo>
                  <a:cubicBezTo>
                    <a:pt x="931" y="2537"/>
                    <a:pt x="803" y="2508"/>
                    <a:pt x="698" y="2442"/>
                  </a:cubicBezTo>
                  <a:cubicBezTo>
                    <a:pt x="593" y="2377"/>
                    <a:pt x="510" y="2257"/>
                    <a:pt x="453" y="2073"/>
                  </a:cubicBezTo>
                  <a:cubicBezTo>
                    <a:pt x="438" y="2070"/>
                    <a:pt x="426" y="2083"/>
                    <a:pt x="417" y="2105"/>
                  </a:cubicBezTo>
                  <a:cubicBezTo>
                    <a:pt x="405" y="2127"/>
                    <a:pt x="399" y="2148"/>
                    <a:pt x="399" y="2170"/>
                  </a:cubicBezTo>
                  <a:cubicBezTo>
                    <a:pt x="399" y="2192"/>
                    <a:pt x="402" y="2217"/>
                    <a:pt x="405" y="2239"/>
                  </a:cubicBezTo>
                  <a:cubicBezTo>
                    <a:pt x="408" y="2261"/>
                    <a:pt x="411" y="2292"/>
                    <a:pt x="411" y="2332"/>
                  </a:cubicBezTo>
                  <a:cubicBezTo>
                    <a:pt x="411" y="2370"/>
                    <a:pt x="408" y="2420"/>
                    <a:pt x="405" y="2479"/>
                  </a:cubicBezTo>
                  <a:cubicBezTo>
                    <a:pt x="402" y="2538"/>
                    <a:pt x="396" y="2572"/>
                    <a:pt x="393" y="2582"/>
                  </a:cubicBezTo>
                  <a:cubicBezTo>
                    <a:pt x="390" y="2588"/>
                    <a:pt x="384" y="2591"/>
                    <a:pt x="378" y="2591"/>
                  </a:cubicBezTo>
                  <a:cubicBezTo>
                    <a:pt x="357" y="2591"/>
                    <a:pt x="326" y="2555"/>
                    <a:pt x="287" y="2477"/>
                  </a:cubicBezTo>
                  <a:cubicBezTo>
                    <a:pt x="248" y="2399"/>
                    <a:pt x="227" y="2343"/>
                    <a:pt x="227" y="2309"/>
                  </a:cubicBezTo>
                  <a:cubicBezTo>
                    <a:pt x="227" y="2274"/>
                    <a:pt x="236" y="2228"/>
                    <a:pt x="251" y="2175"/>
                  </a:cubicBezTo>
                  <a:cubicBezTo>
                    <a:pt x="266" y="2121"/>
                    <a:pt x="275" y="2078"/>
                    <a:pt x="278" y="2040"/>
                  </a:cubicBezTo>
                  <a:cubicBezTo>
                    <a:pt x="281" y="2006"/>
                    <a:pt x="290" y="1987"/>
                    <a:pt x="308" y="1987"/>
                  </a:cubicBezTo>
                  <a:cubicBezTo>
                    <a:pt x="323" y="1987"/>
                    <a:pt x="345" y="2015"/>
                    <a:pt x="366" y="2071"/>
                  </a:cubicBez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2" name="Oval 82"/>
          <p:cNvSpPr/>
          <p:nvPr/>
        </p:nvSpPr>
        <p:spPr>
          <a:xfrm>
            <a:off x="7115040" y="10406160"/>
            <a:ext cx="497160" cy="162000"/>
          </a:xfrm>
          <a:prstGeom prst="ellipse">
            <a:avLst/>
          </a:prstGeom>
          <a:noFill/>
          <a:ln w="9360">
            <a:solidFill>
              <a:srgbClr val="eff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3" name="Group 39"/>
          <p:cNvGrpSpPr/>
          <p:nvPr/>
        </p:nvGrpSpPr>
        <p:grpSpPr>
          <a:xfrm>
            <a:off x="-5371200" y="-559080"/>
            <a:ext cx="1255320" cy="710280"/>
            <a:chOff x="-5371200" y="-559080"/>
            <a:chExt cx="1255320" cy="710280"/>
          </a:xfrm>
        </p:grpSpPr>
        <p:sp>
          <p:nvSpPr>
            <p:cNvPr id="2904" name="Freeform 40"/>
            <p:cNvSpPr/>
            <p:nvPr/>
          </p:nvSpPr>
          <p:spPr>
            <a:xfrm flipH="1" rot="406800">
              <a:off x="-5288760" y="-307440"/>
              <a:ext cx="1132920" cy="39312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5" name="Group 41"/>
            <p:cNvGrpSpPr/>
            <p:nvPr/>
          </p:nvGrpSpPr>
          <p:grpSpPr>
            <a:xfrm>
              <a:off x="-5371200" y="-559080"/>
              <a:ext cx="1255320" cy="527760"/>
              <a:chOff x="-5371200" y="-559080"/>
              <a:chExt cx="1255320" cy="527760"/>
            </a:xfrm>
          </p:grpSpPr>
          <p:grpSp>
            <p:nvGrpSpPr>
              <p:cNvPr id="2906" name="Group 42"/>
              <p:cNvGrpSpPr/>
              <p:nvPr/>
            </p:nvGrpSpPr>
            <p:grpSpPr>
              <a:xfrm>
                <a:off x="-5371200" y="-387360"/>
                <a:ext cx="1231560" cy="356040"/>
                <a:chOff x="-5371200" y="-387360"/>
                <a:chExt cx="1231560" cy="356040"/>
              </a:xfrm>
            </p:grpSpPr>
            <p:sp>
              <p:nvSpPr>
                <p:cNvPr id="2907" name="Freeform 43"/>
                <p:cNvSpPr/>
                <p:nvPr/>
              </p:nvSpPr>
              <p:spPr>
                <a:xfrm flipH="1" flipV="1" rot="526800">
                  <a:off x="-5365080" y="-295560"/>
                  <a:ext cx="1217880" cy="1724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Freeform 44"/>
                <p:cNvSpPr/>
                <p:nvPr/>
              </p:nvSpPr>
              <p:spPr>
                <a:xfrm flipH="1" flipV="1" rot="526800">
                  <a:off x="-4970880" y="-266040"/>
                  <a:ext cx="822960" cy="17280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9" name="Freeform 45"/>
              <p:cNvSpPr/>
              <p:nvPr/>
            </p:nvSpPr>
            <p:spPr>
              <a:xfrm flipH="1" rot="526800">
                <a:off x="-5339520" y="-466920"/>
                <a:ext cx="1217520" cy="1724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0" name="Group 46"/>
            <p:cNvGrpSpPr/>
            <p:nvPr/>
          </p:nvGrpSpPr>
          <p:grpSpPr>
            <a:xfrm>
              <a:off x="-5316120" y="-337320"/>
              <a:ext cx="1173240" cy="488520"/>
              <a:chOff x="-5316120" y="-337320"/>
              <a:chExt cx="1173240" cy="488520"/>
            </a:xfrm>
          </p:grpSpPr>
          <p:sp>
            <p:nvSpPr>
              <p:cNvPr id="2911" name="Freeform 47"/>
              <p:cNvSpPr/>
              <p:nvPr/>
            </p:nvSpPr>
            <p:spPr>
              <a:xfrm flipH="1" rot="406800">
                <a:off x="-5297400" y="-271800"/>
                <a:ext cx="1130400" cy="35568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48"/>
              <p:cNvSpPr/>
              <p:nvPr/>
            </p:nvSpPr>
            <p:spPr>
              <a:xfrm flipH="1" rot="406800">
                <a:off x="-4832280" y="-243720"/>
                <a:ext cx="676080" cy="21312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49"/>
              <p:cNvSpPr/>
              <p:nvPr/>
            </p:nvSpPr>
            <p:spPr>
              <a:xfrm flipH="1" rot="406800">
                <a:off x="-4768560" y="-242280"/>
                <a:ext cx="608760" cy="2145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Freeform 50"/>
              <p:cNvSpPr/>
              <p:nvPr/>
            </p:nvSpPr>
            <p:spPr>
              <a:xfrm rot="15286800">
                <a:off x="-4761360" y="-141120"/>
                <a:ext cx="66960" cy="81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51"/>
              <p:cNvSpPr/>
              <p:nvPr/>
            </p:nvSpPr>
            <p:spPr>
              <a:xfrm flipH="1" rot="406800">
                <a:off x="-5298840" y="-270360"/>
                <a:ext cx="1130040" cy="3560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52"/>
              <p:cNvSpPr/>
              <p:nvPr/>
            </p:nvSpPr>
            <p:spPr>
              <a:xfrm flipH="1" rot="406800">
                <a:off x="-4837320" y="-243720"/>
                <a:ext cx="683640" cy="21672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53"/>
              <p:cNvSpPr/>
              <p:nvPr/>
            </p:nvSpPr>
            <p:spPr>
              <a:xfrm rot="15286800">
                <a:off x="-4762800" y="-137880"/>
                <a:ext cx="66960" cy="81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8" name="Group 54"/>
            <p:cNvGrpSpPr/>
            <p:nvPr/>
          </p:nvGrpSpPr>
          <p:grpSpPr>
            <a:xfrm>
              <a:off x="-5368320" y="-527760"/>
              <a:ext cx="1251720" cy="508680"/>
              <a:chOff x="-5368320" y="-527760"/>
              <a:chExt cx="1251720" cy="508680"/>
            </a:xfrm>
          </p:grpSpPr>
          <p:grpSp>
            <p:nvGrpSpPr>
              <p:cNvPr id="2919" name="Group 55"/>
              <p:cNvGrpSpPr/>
              <p:nvPr/>
            </p:nvGrpSpPr>
            <p:grpSpPr>
              <a:xfrm>
                <a:off x="-5368320" y="-344880"/>
                <a:ext cx="1233000" cy="325800"/>
                <a:chOff x="-5368320" y="-344880"/>
                <a:chExt cx="1233000" cy="325800"/>
              </a:xfrm>
            </p:grpSpPr>
            <p:sp>
              <p:nvSpPr>
                <p:cNvPr id="2920" name="Freeform 56"/>
                <p:cNvSpPr/>
                <p:nvPr/>
              </p:nvSpPr>
              <p:spPr>
                <a:xfrm flipH="1" flipV="1" rot="406800">
                  <a:off x="-5361840" y="-273600"/>
                  <a:ext cx="1217880" cy="1832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Freeform 57"/>
                <p:cNvSpPr/>
                <p:nvPr/>
              </p:nvSpPr>
              <p:spPr>
                <a:xfrm flipH="1" flipV="1" rot="406800">
                  <a:off x="-4966200" y="-250920"/>
                  <a:ext cx="822960" cy="18432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2" name="Freeform 58"/>
              <p:cNvSpPr/>
              <p:nvPr/>
            </p:nvSpPr>
            <p:spPr>
              <a:xfrm flipH="1" rot="406800">
                <a:off x="-5340240" y="-456480"/>
                <a:ext cx="1217520" cy="18288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23" name="Picture 75" descr="图片21副本"/>
          <p:cNvPicPr/>
          <p:nvPr/>
        </p:nvPicPr>
        <p:blipFill>
          <a:blip r:embed="rId21"/>
          <a:stretch/>
        </p:blipFill>
        <p:spPr>
          <a:xfrm flipH="1" rot="181800">
            <a:off x="-5395680" y="-468360"/>
            <a:ext cx="1224000" cy="525600"/>
          </a:xfrm>
          <a:prstGeom prst="rect">
            <a:avLst/>
          </a:prstGeom>
          <a:ln w="0">
            <a:noFill/>
          </a:ln>
        </p:spPr>
      </p:pic>
      <p:grpSp>
        <p:nvGrpSpPr>
          <p:cNvPr id="2924" name="Group 157"/>
          <p:cNvGrpSpPr/>
          <p:nvPr/>
        </p:nvGrpSpPr>
        <p:grpSpPr>
          <a:xfrm>
            <a:off x="10150560" y="9786960"/>
            <a:ext cx="909360" cy="488880"/>
            <a:chOff x="10150560" y="9786960"/>
            <a:chExt cx="909360" cy="488880"/>
          </a:xfrm>
        </p:grpSpPr>
        <p:sp>
          <p:nvSpPr>
            <p:cNvPr id="2925" name="Freeform 141"/>
            <p:cNvSpPr/>
            <p:nvPr/>
          </p:nvSpPr>
          <p:spPr>
            <a:xfrm>
              <a:off x="10150560" y="9853560"/>
              <a:ext cx="423720" cy="379080"/>
            </a:xfrm>
            <a:custGeom>
              <a:avLst/>
              <a:gdLst/>
              <a:ahLst/>
              <a:rect l="l" t="t" r="r" b="b"/>
              <a:pathLst>
                <a:path w="267" h="239">
                  <a:moveTo>
                    <a:pt x="137" y="69"/>
                  </a:moveTo>
                  <a:lnTo>
                    <a:pt x="139" y="69"/>
                  </a:lnTo>
                  <a:lnTo>
                    <a:pt x="143" y="69"/>
                  </a:lnTo>
                  <a:lnTo>
                    <a:pt x="147" y="69"/>
                  </a:lnTo>
                  <a:lnTo>
                    <a:pt x="151" y="69"/>
                  </a:lnTo>
                  <a:lnTo>
                    <a:pt x="154" y="71"/>
                  </a:lnTo>
                  <a:lnTo>
                    <a:pt x="158" y="73"/>
                  </a:lnTo>
                  <a:lnTo>
                    <a:pt x="162" y="74"/>
                  </a:lnTo>
                  <a:lnTo>
                    <a:pt x="164" y="78"/>
                  </a:lnTo>
                  <a:lnTo>
                    <a:pt x="166" y="80"/>
                  </a:lnTo>
                  <a:lnTo>
                    <a:pt x="166" y="84"/>
                  </a:lnTo>
                  <a:lnTo>
                    <a:pt x="166" y="88"/>
                  </a:lnTo>
                  <a:lnTo>
                    <a:pt x="162" y="90"/>
                  </a:lnTo>
                  <a:lnTo>
                    <a:pt x="158" y="94"/>
                  </a:lnTo>
                  <a:lnTo>
                    <a:pt x="153" y="96"/>
                  </a:lnTo>
                  <a:lnTo>
                    <a:pt x="149" y="103"/>
                  </a:lnTo>
                  <a:lnTo>
                    <a:pt x="147" y="109"/>
                  </a:lnTo>
                  <a:lnTo>
                    <a:pt x="145" y="117"/>
                  </a:lnTo>
                  <a:lnTo>
                    <a:pt x="141" y="122"/>
                  </a:lnTo>
                  <a:lnTo>
                    <a:pt x="139" y="128"/>
                  </a:lnTo>
                  <a:lnTo>
                    <a:pt x="137" y="132"/>
                  </a:lnTo>
                  <a:lnTo>
                    <a:pt x="137" y="138"/>
                  </a:lnTo>
                  <a:lnTo>
                    <a:pt x="135" y="141"/>
                  </a:lnTo>
                  <a:lnTo>
                    <a:pt x="133" y="147"/>
                  </a:lnTo>
                  <a:lnTo>
                    <a:pt x="132" y="153"/>
                  </a:lnTo>
                  <a:lnTo>
                    <a:pt x="132" y="157"/>
                  </a:lnTo>
                  <a:lnTo>
                    <a:pt x="132" y="161"/>
                  </a:lnTo>
                  <a:lnTo>
                    <a:pt x="132" y="166"/>
                  </a:lnTo>
                  <a:lnTo>
                    <a:pt x="133" y="174"/>
                  </a:lnTo>
                  <a:lnTo>
                    <a:pt x="133" y="178"/>
                  </a:lnTo>
                  <a:lnTo>
                    <a:pt x="133" y="183"/>
                  </a:lnTo>
                  <a:lnTo>
                    <a:pt x="133" y="193"/>
                  </a:lnTo>
                  <a:lnTo>
                    <a:pt x="133" y="204"/>
                  </a:lnTo>
                  <a:lnTo>
                    <a:pt x="133" y="212"/>
                  </a:lnTo>
                  <a:lnTo>
                    <a:pt x="133" y="218"/>
                  </a:lnTo>
                  <a:lnTo>
                    <a:pt x="132" y="224"/>
                  </a:lnTo>
                  <a:lnTo>
                    <a:pt x="132" y="227"/>
                  </a:lnTo>
                  <a:lnTo>
                    <a:pt x="130" y="231"/>
                  </a:lnTo>
                  <a:lnTo>
                    <a:pt x="128" y="231"/>
                  </a:lnTo>
                  <a:lnTo>
                    <a:pt x="128" y="231"/>
                  </a:lnTo>
                  <a:lnTo>
                    <a:pt x="126" y="231"/>
                  </a:lnTo>
                  <a:lnTo>
                    <a:pt x="126" y="229"/>
                  </a:lnTo>
                  <a:lnTo>
                    <a:pt x="124" y="227"/>
                  </a:lnTo>
                  <a:lnTo>
                    <a:pt x="122" y="224"/>
                  </a:lnTo>
                  <a:lnTo>
                    <a:pt x="120" y="222"/>
                  </a:lnTo>
                  <a:lnTo>
                    <a:pt x="120" y="218"/>
                  </a:lnTo>
                  <a:lnTo>
                    <a:pt x="118" y="212"/>
                  </a:lnTo>
                  <a:lnTo>
                    <a:pt x="114" y="204"/>
                  </a:lnTo>
                  <a:lnTo>
                    <a:pt x="112" y="197"/>
                  </a:lnTo>
                  <a:lnTo>
                    <a:pt x="111" y="191"/>
                  </a:lnTo>
                  <a:lnTo>
                    <a:pt x="112" y="187"/>
                  </a:lnTo>
                  <a:lnTo>
                    <a:pt x="114" y="168"/>
                  </a:lnTo>
                  <a:lnTo>
                    <a:pt x="116" y="153"/>
                  </a:lnTo>
                  <a:lnTo>
                    <a:pt x="116" y="143"/>
                  </a:lnTo>
                  <a:lnTo>
                    <a:pt x="116" y="132"/>
                  </a:lnTo>
                  <a:lnTo>
                    <a:pt x="116" y="120"/>
                  </a:lnTo>
                  <a:lnTo>
                    <a:pt x="116" y="105"/>
                  </a:lnTo>
                  <a:lnTo>
                    <a:pt x="107" y="111"/>
                  </a:lnTo>
                  <a:lnTo>
                    <a:pt x="97" y="115"/>
                  </a:lnTo>
                  <a:lnTo>
                    <a:pt x="88" y="120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1"/>
                  </a:lnTo>
                  <a:lnTo>
                    <a:pt x="78" y="157"/>
                  </a:lnTo>
                  <a:lnTo>
                    <a:pt x="78" y="164"/>
                  </a:lnTo>
                  <a:lnTo>
                    <a:pt x="78" y="172"/>
                  </a:lnTo>
                  <a:lnTo>
                    <a:pt x="74" y="189"/>
                  </a:lnTo>
                  <a:lnTo>
                    <a:pt x="72" y="195"/>
                  </a:lnTo>
                  <a:lnTo>
                    <a:pt x="70" y="201"/>
                  </a:lnTo>
                  <a:lnTo>
                    <a:pt x="67" y="206"/>
                  </a:lnTo>
                  <a:lnTo>
                    <a:pt x="65" y="210"/>
                  </a:lnTo>
                  <a:lnTo>
                    <a:pt x="61" y="212"/>
                  </a:lnTo>
                  <a:lnTo>
                    <a:pt x="59" y="214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55" y="214"/>
                  </a:lnTo>
                  <a:lnTo>
                    <a:pt x="53" y="214"/>
                  </a:lnTo>
                  <a:lnTo>
                    <a:pt x="53" y="214"/>
                  </a:lnTo>
                  <a:lnTo>
                    <a:pt x="53" y="212"/>
                  </a:lnTo>
                  <a:lnTo>
                    <a:pt x="53" y="208"/>
                  </a:lnTo>
                  <a:lnTo>
                    <a:pt x="53" y="204"/>
                  </a:lnTo>
                  <a:lnTo>
                    <a:pt x="51" y="197"/>
                  </a:lnTo>
                  <a:lnTo>
                    <a:pt x="51" y="191"/>
                  </a:lnTo>
                  <a:lnTo>
                    <a:pt x="51" y="187"/>
                  </a:lnTo>
                  <a:lnTo>
                    <a:pt x="53" y="183"/>
                  </a:lnTo>
                  <a:lnTo>
                    <a:pt x="53" y="180"/>
                  </a:lnTo>
                  <a:lnTo>
                    <a:pt x="55" y="176"/>
                  </a:lnTo>
                  <a:lnTo>
                    <a:pt x="57" y="166"/>
                  </a:lnTo>
                  <a:lnTo>
                    <a:pt x="57" y="159"/>
                  </a:lnTo>
                  <a:lnTo>
                    <a:pt x="57" y="153"/>
                  </a:lnTo>
                  <a:lnTo>
                    <a:pt x="57" y="147"/>
                  </a:lnTo>
                  <a:lnTo>
                    <a:pt x="49" y="153"/>
                  </a:lnTo>
                  <a:lnTo>
                    <a:pt x="44" y="157"/>
                  </a:lnTo>
                  <a:lnTo>
                    <a:pt x="38" y="161"/>
                  </a:lnTo>
                  <a:lnTo>
                    <a:pt x="32" y="161"/>
                  </a:lnTo>
                  <a:lnTo>
                    <a:pt x="28" y="161"/>
                  </a:lnTo>
                  <a:lnTo>
                    <a:pt x="25" y="159"/>
                  </a:lnTo>
                  <a:lnTo>
                    <a:pt x="19" y="157"/>
                  </a:lnTo>
                  <a:lnTo>
                    <a:pt x="15" y="155"/>
                  </a:lnTo>
                  <a:lnTo>
                    <a:pt x="11" y="153"/>
                  </a:lnTo>
                  <a:lnTo>
                    <a:pt x="9" y="149"/>
                  </a:lnTo>
                  <a:lnTo>
                    <a:pt x="6" y="145"/>
                  </a:lnTo>
                  <a:lnTo>
                    <a:pt x="4" y="141"/>
                  </a:lnTo>
                  <a:lnTo>
                    <a:pt x="2" y="136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6" y="128"/>
                  </a:lnTo>
                  <a:lnTo>
                    <a:pt x="7" y="128"/>
                  </a:lnTo>
                  <a:lnTo>
                    <a:pt x="11" y="130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7" y="124"/>
                  </a:lnTo>
                  <a:lnTo>
                    <a:pt x="32" y="122"/>
                  </a:lnTo>
                  <a:lnTo>
                    <a:pt x="38" y="118"/>
                  </a:lnTo>
                  <a:lnTo>
                    <a:pt x="46" y="115"/>
                  </a:lnTo>
                  <a:lnTo>
                    <a:pt x="53" y="109"/>
                  </a:lnTo>
                  <a:lnTo>
                    <a:pt x="55" y="99"/>
                  </a:lnTo>
                  <a:lnTo>
                    <a:pt x="57" y="90"/>
                  </a:lnTo>
                  <a:lnTo>
                    <a:pt x="59" y="82"/>
                  </a:lnTo>
                  <a:lnTo>
                    <a:pt x="63" y="74"/>
                  </a:lnTo>
                  <a:lnTo>
                    <a:pt x="57" y="76"/>
                  </a:lnTo>
                  <a:lnTo>
                    <a:pt x="53" y="78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49" y="80"/>
                  </a:lnTo>
                  <a:lnTo>
                    <a:pt x="49" y="80"/>
                  </a:lnTo>
                  <a:lnTo>
                    <a:pt x="49" y="78"/>
                  </a:lnTo>
                  <a:lnTo>
                    <a:pt x="51" y="76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76" y="55"/>
                  </a:lnTo>
                  <a:lnTo>
                    <a:pt x="82" y="48"/>
                  </a:lnTo>
                  <a:lnTo>
                    <a:pt x="76" y="44"/>
                  </a:lnTo>
                  <a:lnTo>
                    <a:pt x="72" y="40"/>
                  </a:lnTo>
                  <a:lnTo>
                    <a:pt x="67" y="36"/>
                  </a:lnTo>
                  <a:lnTo>
                    <a:pt x="63" y="31"/>
                  </a:lnTo>
                  <a:lnTo>
                    <a:pt x="59" y="25"/>
                  </a:lnTo>
                  <a:lnTo>
                    <a:pt x="57" y="21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5"/>
                  </a:lnTo>
                  <a:lnTo>
                    <a:pt x="57" y="15"/>
                  </a:lnTo>
                  <a:lnTo>
                    <a:pt x="59" y="15"/>
                  </a:lnTo>
                  <a:lnTo>
                    <a:pt x="61" y="15"/>
                  </a:lnTo>
                  <a:lnTo>
                    <a:pt x="63" y="15"/>
                  </a:lnTo>
                  <a:lnTo>
                    <a:pt x="67" y="17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6" y="15"/>
                  </a:lnTo>
                  <a:lnTo>
                    <a:pt x="82" y="15"/>
                  </a:lnTo>
                  <a:lnTo>
                    <a:pt x="86" y="13"/>
                  </a:lnTo>
                  <a:lnTo>
                    <a:pt x="91" y="11"/>
                  </a:lnTo>
                  <a:lnTo>
                    <a:pt x="97" y="10"/>
                  </a:lnTo>
                  <a:lnTo>
                    <a:pt x="105" y="6"/>
                  </a:lnTo>
                  <a:lnTo>
                    <a:pt x="112" y="4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5" y="2"/>
                  </a:lnTo>
                  <a:lnTo>
                    <a:pt x="139" y="4"/>
                  </a:lnTo>
                  <a:lnTo>
                    <a:pt x="143" y="6"/>
                  </a:lnTo>
                  <a:lnTo>
                    <a:pt x="145" y="10"/>
                  </a:lnTo>
                  <a:lnTo>
                    <a:pt x="149" y="11"/>
                  </a:lnTo>
                  <a:lnTo>
                    <a:pt x="149" y="15"/>
                  </a:lnTo>
                  <a:lnTo>
                    <a:pt x="151" y="19"/>
                  </a:lnTo>
                  <a:lnTo>
                    <a:pt x="149" y="23"/>
                  </a:lnTo>
                  <a:lnTo>
                    <a:pt x="147" y="27"/>
                  </a:lnTo>
                  <a:lnTo>
                    <a:pt x="141" y="31"/>
                  </a:lnTo>
                  <a:lnTo>
                    <a:pt x="135" y="34"/>
                  </a:lnTo>
                  <a:lnTo>
                    <a:pt x="130" y="34"/>
                  </a:lnTo>
                  <a:lnTo>
                    <a:pt x="124" y="38"/>
                  </a:lnTo>
                  <a:lnTo>
                    <a:pt x="120" y="40"/>
                  </a:lnTo>
                  <a:lnTo>
                    <a:pt x="114" y="46"/>
                  </a:lnTo>
                  <a:lnTo>
                    <a:pt x="120" y="46"/>
                  </a:lnTo>
                  <a:lnTo>
                    <a:pt x="124" y="48"/>
                  </a:lnTo>
                  <a:lnTo>
                    <a:pt x="128" y="50"/>
                  </a:lnTo>
                  <a:lnTo>
                    <a:pt x="130" y="52"/>
                  </a:lnTo>
                  <a:lnTo>
                    <a:pt x="133" y="55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7" y="69"/>
                  </a:lnTo>
                  <a:lnTo>
                    <a:pt x="137" y="69"/>
                  </a:lnTo>
                  <a:close/>
                  <a:moveTo>
                    <a:pt x="116" y="74"/>
                  </a:moveTo>
                  <a:lnTo>
                    <a:pt x="116" y="69"/>
                  </a:lnTo>
                  <a:lnTo>
                    <a:pt x="116" y="65"/>
                  </a:lnTo>
                  <a:lnTo>
                    <a:pt x="114" y="61"/>
                  </a:lnTo>
                  <a:lnTo>
                    <a:pt x="114" y="57"/>
                  </a:lnTo>
                  <a:lnTo>
                    <a:pt x="112" y="55"/>
                  </a:lnTo>
                  <a:lnTo>
                    <a:pt x="111" y="53"/>
                  </a:lnTo>
                  <a:lnTo>
                    <a:pt x="109" y="52"/>
                  </a:lnTo>
                  <a:lnTo>
                    <a:pt x="105" y="52"/>
                  </a:lnTo>
                  <a:lnTo>
                    <a:pt x="95" y="55"/>
                  </a:lnTo>
                  <a:lnTo>
                    <a:pt x="88" y="61"/>
                  </a:lnTo>
                  <a:lnTo>
                    <a:pt x="80" y="65"/>
                  </a:lnTo>
                  <a:lnTo>
                    <a:pt x="74" y="69"/>
                  </a:lnTo>
                  <a:lnTo>
                    <a:pt x="76" y="76"/>
                  </a:lnTo>
                  <a:lnTo>
                    <a:pt x="76" y="80"/>
                  </a:lnTo>
                  <a:lnTo>
                    <a:pt x="76" y="84"/>
                  </a:lnTo>
                  <a:lnTo>
                    <a:pt x="76" y="90"/>
                  </a:lnTo>
                  <a:lnTo>
                    <a:pt x="76" y="96"/>
                  </a:lnTo>
                  <a:lnTo>
                    <a:pt x="86" y="90"/>
                  </a:lnTo>
                  <a:lnTo>
                    <a:pt x="95" y="84"/>
                  </a:lnTo>
                  <a:lnTo>
                    <a:pt x="116" y="74"/>
                  </a:lnTo>
                  <a:lnTo>
                    <a:pt x="116" y="74"/>
                  </a:lnTo>
                  <a:close/>
                  <a:moveTo>
                    <a:pt x="151" y="96"/>
                  </a:moveTo>
                  <a:lnTo>
                    <a:pt x="141" y="96"/>
                  </a:lnTo>
                  <a:lnTo>
                    <a:pt x="133" y="97"/>
                  </a:lnTo>
                  <a:lnTo>
                    <a:pt x="132" y="109"/>
                  </a:lnTo>
                  <a:lnTo>
                    <a:pt x="132" y="120"/>
                  </a:lnTo>
                  <a:lnTo>
                    <a:pt x="130" y="128"/>
                  </a:lnTo>
                  <a:lnTo>
                    <a:pt x="132" y="136"/>
                  </a:lnTo>
                  <a:lnTo>
                    <a:pt x="139" y="117"/>
                  </a:lnTo>
                  <a:lnTo>
                    <a:pt x="145" y="105"/>
                  </a:lnTo>
                  <a:lnTo>
                    <a:pt x="151" y="96"/>
                  </a:lnTo>
                  <a:lnTo>
                    <a:pt x="151" y="96"/>
                  </a:lnTo>
                  <a:close/>
                  <a:moveTo>
                    <a:pt x="252" y="21"/>
                  </a:moveTo>
                  <a:lnTo>
                    <a:pt x="250" y="23"/>
                  </a:lnTo>
                  <a:lnTo>
                    <a:pt x="250" y="25"/>
                  </a:lnTo>
                  <a:lnTo>
                    <a:pt x="248" y="27"/>
                  </a:lnTo>
                  <a:lnTo>
                    <a:pt x="248" y="29"/>
                  </a:lnTo>
                  <a:lnTo>
                    <a:pt x="233" y="38"/>
                  </a:lnTo>
                  <a:lnTo>
                    <a:pt x="217" y="50"/>
                  </a:lnTo>
                  <a:lnTo>
                    <a:pt x="200" y="63"/>
                  </a:lnTo>
                  <a:lnTo>
                    <a:pt x="183" y="76"/>
                  </a:lnTo>
                  <a:lnTo>
                    <a:pt x="181" y="78"/>
                  </a:lnTo>
                  <a:lnTo>
                    <a:pt x="179" y="78"/>
                  </a:lnTo>
                  <a:lnTo>
                    <a:pt x="177" y="80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5" y="76"/>
                  </a:lnTo>
                  <a:lnTo>
                    <a:pt x="175" y="76"/>
                  </a:lnTo>
                  <a:lnTo>
                    <a:pt x="177" y="73"/>
                  </a:lnTo>
                  <a:lnTo>
                    <a:pt x="177" y="71"/>
                  </a:lnTo>
                  <a:lnTo>
                    <a:pt x="179" y="65"/>
                  </a:lnTo>
                  <a:lnTo>
                    <a:pt x="179" y="61"/>
                  </a:lnTo>
                  <a:lnTo>
                    <a:pt x="181" y="57"/>
                  </a:lnTo>
                  <a:lnTo>
                    <a:pt x="183" y="55"/>
                  </a:lnTo>
                  <a:lnTo>
                    <a:pt x="183" y="53"/>
                  </a:lnTo>
                  <a:lnTo>
                    <a:pt x="185" y="52"/>
                  </a:lnTo>
                  <a:lnTo>
                    <a:pt x="185" y="50"/>
                  </a:lnTo>
                  <a:lnTo>
                    <a:pt x="191" y="46"/>
                  </a:lnTo>
                  <a:lnTo>
                    <a:pt x="193" y="42"/>
                  </a:lnTo>
                  <a:lnTo>
                    <a:pt x="196" y="38"/>
                  </a:lnTo>
                  <a:lnTo>
                    <a:pt x="198" y="34"/>
                  </a:lnTo>
                  <a:lnTo>
                    <a:pt x="204" y="31"/>
                  </a:lnTo>
                  <a:lnTo>
                    <a:pt x="206" y="25"/>
                  </a:lnTo>
                  <a:lnTo>
                    <a:pt x="210" y="21"/>
                  </a:lnTo>
                  <a:lnTo>
                    <a:pt x="212" y="17"/>
                  </a:lnTo>
                  <a:lnTo>
                    <a:pt x="212" y="15"/>
                  </a:lnTo>
                  <a:lnTo>
                    <a:pt x="212" y="11"/>
                  </a:lnTo>
                  <a:lnTo>
                    <a:pt x="210" y="11"/>
                  </a:lnTo>
                  <a:lnTo>
                    <a:pt x="210" y="10"/>
                  </a:lnTo>
                  <a:lnTo>
                    <a:pt x="206" y="10"/>
                  </a:lnTo>
                  <a:lnTo>
                    <a:pt x="204" y="8"/>
                  </a:lnTo>
                  <a:lnTo>
                    <a:pt x="202" y="8"/>
                  </a:lnTo>
                  <a:lnTo>
                    <a:pt x="202" y="6"/>
                  </a:lnTo>
                  <a:lnTo>
                    <a:pt x="202" y="6"/>
                  </a:lnTo>
                  <a:lnTo>
                    <a:pt x="202" y="4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4" y="2"/>
                  </a:lnTo>
                  <a:lnTo>
                    <a:pt x="221" y="2"/>
                  </a:lnTo>
                  <a:lnTo>
                    <a:pt x="229" y="2"/>
                  </a:lnTo>
                  <a:lnTo>
                    <a:pt x="235" y="4"/>
                  </a:lnTo>
                  <a:lnTo>
                    <a:pt x="240" y="8"/>
                  </a:lnTo>
                  <a:lnTo>
                    <a:pt x="244" y="11"/>
                  </a:lnTo>
                  <a:lnTo>
                    <a:pt x="248" y="13"/>
                  </a:lnTo>
                  <a:lnTo>
                    <a:pt x="250" y="17"/>
                  </a:lnTo>
                  <a:lnTo>
                    <a:pt x="252" y="21"/>
                  </a:lnTo>
                  <a:lnTo>
                    <a:pt x="252" y="21"/>
                  </a:lnTo>
                  <a:close/>
                  <a:moveTo>
                    <a:pt x="252" y="92"/>
                  </a:moveTo>
                  <a:lnTo>
                    <a:pt x="252" y="94"/>
                  </a:lnTo>
                  <a:lnTo>
                    <a:pt x="250" y="96"/>
                  </a:lnTo>
                  <a:lnTo>
                    <a:pt x="248" y="97"/>
                  </a:lnTo>
                  <a:lnTo>
                    <a:pt x="246" y="99"/>
                  </a:lnTo>
                  <a:lnTo>
                    <a:pt x="242" y="103"/>
                  </a:lnTo>
                  <a:lnTo>
                    <a:pt x="238" y="109"/>
                  </a:lnTo>
                  <a:lnTo>
                    <a:pt x="233" y="115"/>
                  </a:lnTo>
                  <a:lnTo>
                    <a:pt x="227" y="118"/>
                  </a:lnTo>
                  <a:lnTo>
                    <a:pt x="221" y="124"/>
                  </a:lnTo>
                  <a:lnTo>
                    <a:pt x="217" y="128"/>
                  </a:lnTo>
                  <a:lnTo>
                    <a:pt x="206" y="134"/>
                  </a:lnTo>
                  <a:lnTo>
                    <a:pt x="196" y="141"/>
                  </a:lnTo>
                  <a:lnTo>
                    <a:pt x="191" y="143"/>
                  </a:lnTo>
                  <a:lnTo>
                    <a:pt x="189" y="145"/>
                  </a:lnTo>
                  <a:lnTo>
                    <a:pt x="185" y="147"/>
                  </a:lnTo>
                  <a:lnTo>
                    <a:pt x="185" y="147"/>
                  </a:lnTo>
                  <a:lnTo>
                    <a:pt x="183" y="147"/>
                  </a:lnTo>
                  <a:lnTo>
                    <a:pt x="183" y="145"/>
                  </a:lnTo>
                  <a:lnTo>
                    <a:pt x="183" y="143"/>
                  </a:lnTo>
                  <a:lnTo>
                    <a:pt x="185" y="139"/>
                  </a:lnTo>
                  <a:lnTo>
                    <a:pt x="185" y="136"/>
                  </a:lnTo>
                  <a:lnTo>
                    <a:pt x="187" y="132"/>
                  </a:lnTo>
                  <a:lnTo>
                    <a:pt x="189" y="126"/>
                  </a:lnTo>
                  <a:lnTo>
                    <a:pt x="193" y="120"/>
                  </a:lnTo>
                  <a:lnTo>
                    <a:pt x="195" y="117"/>
                  </a:lnTo>
                  <a:lnTo>
                    <a:pt x="198" y="113"/>
                  </a:lnTo>
                  <a:lnTo>
                    <a:pt x="202" y="111"/>
                  </a:lnTo>
                  <a:lnTo>
                    <a:pt x="206" y="107"/>
                  </a:lnTo>
                  <a:lnTo>
                    <a:pt x="210" y="101"/>
                  </a:lnTo>
                  <a:lnTo>
                    <a:pt x="216" y="96"/>
                  </a:lnTo>
                  <a:lnTo>
                    <a:pt x="219" y="90"/>
                  </a:lnTo>
                  <a:lnTo>
                    <a:pt x="221" y="86"/>
                  </a:lnTo>
                  <a:lnTo>
                    <a:pt x="223" y="82"/>
                  </a:lnTo>
                  <a:lnTo>
                    <a:pt x="225" y="78"/>
                  </a:lnTo>
                  <a:lnTo>
                    <a:pt x="223" y="74"/>
                  </a:lnTo>
                  <a:lnTo>
                    <a:pt x="223" y="73"/>
                  </a:lnTo>
                  <a:lnTo>
                    <a:pt x="221" y="69"/>
                  </a:lnTo>
                  <a:lnTo>
                    <a:pt x="219" y="67"/>
                  </a:lnTo>
                  <a:lnTo>
                    <a:pt x="217" y="65"/>
                  </a:lnTo>
                  <a:lnTo>
                    <a:pt x="216" y="63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9" y="61"/>
                  </a:lnTo>
                  <a:lnTo>
                    <a:pt x="223" y="63"/>
                  </a:lnTo>
                  <a:lnTo>
                    <a:pt x="229" y="67"/>
                  </a:lnTo>
                  <a:lnTo>
                    <a:pt x="237" y="71"/>
                  </a:lnTo>
                  <a:lnTo>
                    <a:pt x="238" y="74"/>
                  </a:lnTo>
                  <a:lnTo>
                    <a:pt x="242" y="76"/>
                  </a:lnTo>
                  <a:lnTo>
                    <a:pt x="246" y="78"/>
                  </a:lnTo>
                  <a:lnTo>
                    <a:pt x="248" y="82"/>
                  </a:lnTo>
                  <a:lnTo>
                    <a:pt x="250" y="84"/>
                  </a:lnTo>
                  <a:lnTo>
                    <a:pt x="250" y="86"/>
                  </a:lnTo>
                  <a:lnTo>
                    <a:pt x="252" y="88"/>
                  </a:lnTo>
                  <a:lnTo>
                    <a:pt x="252" y="92"/>
                  </a:lnTo>
                  <a:lnTo>
                    <a:pt x="252" y="92"/>
                  </a:lnTo>
                  <a:close/>
                  <a:moveTo>
                    <a:pt x="238" y="118"/>
                  </a:moveTo>
                  <a:lnTo>
                    <a:pt x="240" y="118"/>
                  </a:lnTo>
                  <a:lnTo>
                    <a:pt x="242" y="120"/>
                  </a:lnTo>
                  <a:lnTo>
                    <a:pt x="246" y="120"/>
                  </a:lnTo>
                  <a:lnTo>
                    <a:pt x="250" y="122"/>
                  </a:lnTo>
                  <a:lnTo>
                    <a:pt x="256" y="128"/>
                  </a:lnTo>
                  <a:lnTo>
                    <a:pt x="261" y="134"/>
                  </a:lnTo>
                  <a:lnTo>
                    <a:pt x="263" y="136"/>
                  </a:lnTo>
                  <a:lnTo>
                    <a:pt x="265" y="138"/>
                  </a:lnTo>
                  <a:lnTo>
                    <a:pt x="267" y="141"/>
                  </a:lnTo>
                  <a:lnTo>
                    <a:pt x="267" y="143"/>
                  </a:lnTo>
                  <a:lnTo>
                    <a:pt x="267" y="147"/>
                  </a:lnTo>
                  <a:lnTo>
                    <a:pt x="265" y="153"/>
                  </a:lnTo>
                  <a:lnTo>
                    <a:pt x="263" y="155"/>
                  </a:lnTo>
                  <a:lnTo>
                    <a:pt x="259" y="159"/>
                  </a:lnTo>
                  <a:lnTo>
                    <a:pt x="254" y="164"/>
                  </a:lnTo>
                  <a:lnTo>
                    <a:pt x="248" y="172"/>
                  </a:lnTo>
                  <a:lnTo>
                    <a:pt x="240" y="180"/>
                  </a:lnTo>
                  <a:lnTo>
                    <a:pt x="233" y="187"/>
                  </a:lnTo>
                  <a:lnTo>
                    <a:pt x="217" y="201"/>
                  </a:lnTo>
                  <a:lnTo>
                    <a:pt x="210" y="206"/>
                  </a:lnTo>
                  <a:lnTo>
                    <a:pt x="204" y="212"/>
                  </a:lnTo>
                  <a:lnTo>
                    <a:pt x="196" y="218"/>
                  </a:lnTo>
                  <a:lnTo>
                    <a:pt x="191" y="222"/>
                  </a:lnTo>
                  <a:lnTo>
                    <a:pt x="177" y="229"/>
                  </a:lnTo>
                  <a:lnTo>
                    <a:pt x="172" y="233"/>
                  </a:lnTo>
                  <a:lnTo>
                    <a:pt x="166" y="235"/>
                  </a:lnTo>
                  <a:lnTo>
                    <a:pt x="162" y="237"/>
                  </a:lnTo>
                  <a:lnTo>
                    <a:pt x="156" y="237"/>
                  </a:lnTo>
                  <a:lnTo>
                    <a:pt x="154" y="239"/>
                  </a:lnTo>
                  <a:lnTo>
                    <a:pt x="151" y="239"/>
                  </a:lnTo>
                  <a:lnTo>
                    <a:pt x="149" y="239"/>
                  </a:lnTo>
                  <a:lnTo>
                    <a:pt x="147" y="237"/>
                  </a:lnTo>
                  <a:lnTo>
                    <a:pt x="145" y="237"/>
                  </a:lnTo>
                  <a:lnTo>
                    <a:pt x="145" y="235"/>
                  </a:lnTo>
                  <a:lnTo>
                    <a:pt x="145" y="233"/>
                  </a:lnTo>
                  <a:lnTo>
                    <a:pt x="145" y="231"/>
                  </a:lnTo>
                  <a:lnTo>
                    <a:pt x="147" y="231"/>
                  </a:lnTo>
                  <a:lnTo>
                    <a:pt x="151" y="229"/>
                  </a:lnTo>
                  <a:lnTo>
                    <a:pt x="156" y="224"/>
                  </a:lnTo>
                  <a:lnTo>
                    <a:pt x="164" y="220"/>
                  </a:lnTo>
                  <a:lnTo>
                    <a:pt x="172" y="212"/>
                  </a:lnTo>
                  <a:lnTo>
                    <a:pt x="181" y="204"/>
                  </a:lnTo>
                  <a:lnTo>
                    <a:pt x="189" y="197"/>
                  </a:lnTo>
                  <a:lnTo>
                    <a:pt x="198" y="187"/>
                  </a:lnTo>
                  <a:lnTo>
                    <a:pt x="208" y="178"/>
                  </a:lnTo>
                  <a:lnTo>
                    <a:pt x="217" y="168"/>
                  </a:lnTo>
                  <a:lnTo>
                    <a:pt x="221" y="162"/>
                  </a:lnTo>
                  <a:lnTo>
                    <a:pt x="225" y="157"/>
                  </a:lnTo>
                  <a:lnTo>
                    <a:pt x="229" y="153"/>
                  </a:lnTo>
                  <a:lnTo>
                    <a:pt x="231" y="149"/>
                  </a:lnTo>
                  <a:lnTo>
                    <a:pt x="233" y="147"/>
                  </a:lnTo>
                  <a:lnTo>
                    <a:pt x="237" y="143"/>
                  </a:lnTo>
                  <a:lnTo>
                    <a:pt x="237" y="141"/>
                  </a:lnTo>
                  <a:lnTo>
                    <a:pt x="238" y="141"/>
                  </a:lnTo>
                  <a:lnTo>
                    <a:pt x="240" y="136"/>
                  </a:lnTo>
                  <a:lnTo>
                    <a:pt x="242" y="132"/>
                  </a:lnTo>
                  <a:lnTo>
                    <a:pt x="240" y="128"/>
                  </a:lnTo>
                  <a:lnTo>
                    <a:pt x="240" y="124"/>
                  </a:lnTo>
                  <a:lnTo>
                    <a:pt x="238" y="122"/>
                  </a:lnTo>
                  <a:lnTo>
                    <a:pt x="238" y="120"/>
                  </a:lnTo>
                  <a:lnTo>
                    <a:pt x="238" y="118"/>
                  </a:lnTo>
                  <a:lnTo>
                    <a:pt x="238" y="118"/>
                  </a:lnTo>
                  <a:lnTo>
                    <a:pt x="238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142"/>
            <p:cNvSpPr/>
            <p:nvPr/>
          </p:nvSpPr>
          <p:spPr>
            <a:xfrm>
              <a:off x="10696320" y="9786960"/>
              <a:ext cx="363600" cy="488880"/>
            </a:xfrm>
            <a:custGeom>
              <a:avLst/>
              <a:gdLst/>
              <a:ahLst/>
              <a:rect l="l" t="t" r="r" b="b"/>
              <a:pathLst>
                <a:path w="229" h="308">
                  <a:moveTo>
                    <a:pt x="143" y="216"/>
                  </a:moveTo>
                  <a:lnTo>
                    <a:pt x="152" y="216"/>
                  </a:lnTo>
                  <a:lnTo>
                    <a:pt x="164" y="218"/>
                  </a:lnTo>
                  <a:lnTo>
                    <a:pt x="173" y="220"/>
                  </a:lnTo>
                  <a:lnTo>
                    <a:pt x="187" y="222"/>
                  </a:lnTo>
                  <a:lnTo>
                    <a:pt x="192" y="224"/>
                  </a:lnTo>
                  <a:lnTo>
                    <a:pt x="196" y="224"/>
                  </a:lnTo>
                  <a:lnTo>
                    <a:pt x="202" y="225"/>
                  </a:lnTo>
                  <a:lnTo>
                    <a:pt x="206" y="227"/>
                  </a:lnTo>
                  <a:lnTo>
                    <a:pt x="210" y="229"/>
                  </a:lnTo>
                  <a:lnTo>
                    <a:pt x="213" y="231"/>
                  </a:lnTo>
                  <a:lnTo>
                    <a:pt x="217" y="233"/>
                  </a:lnTo>
                  <a:lnTo>
                    <a:pt x="219" y="237"/>
                  </a:lnTo>
                  <a:lnTo>
                    <a:pt x="223" y="241"/>
                  </a:lnTo>
                  <a:lnTo>
                    <a:pt x="225" y="245"/>
                  </a:lnTo>
                  <a:lnTo>
                    <a:pt x="227" y="248"/>
                  </a:lnTo>
                  <a:lnTo>
                    <a:pt x="229" y="250"/>
                  </a:lnTo>
                  <a:lnTo>
                    <a:pt x="227" y="254"/>
                  </a:lnTo>
                  <a:lnTo>
                    <a:pt x="227" y="256"/>
                  </a:lnTo>
                  <a:lnTo>
                    <a:pt x="225" y="258"/>
                  </a:lnTo>
                  <a:lnTo>
                    <a:pt x="221" y="258"/>
                  </a:lnTo>
                  <a:lnTo>
                    <a:pt x="221" y="258"/>
                  </a:lnTo>
                  <a:lnTo>
                    <a:pt x="219" y="258"/>
                  </a:lnTo>
                  <a:lnTo>
                    <a:pt x="217" y="256"/>
                  </a:lnTo>
                  <a:lnTo>
                    <a:pt x="215" y="256"/>
                  </a:lnTo>
                  <a:lnTo>
                    <a:pt x="210" y="254"/>
                  </a:lnTo>
                  <a:lnTo>
                    <a:pt x="202" y="252"/>
                  </a:lnTo>
                  <a:lnTo>
                    <a:pt x="194" y="250"/>
                  </a:lnTo>
                  <a:lnTo>
                    <a:pt x="185" y="246"/>
                  </a:lnTo>
                  <a:lnTo>
                    <a:pt x="168" y="243"/>
                  </a:lnTo>
                  <a:lnTo>
                    <a:pt x="160" y="241"/>
                  </a:lnTo>
                  <a:lnTo>
                    <a:pt x="154" y="241"/>
                  </a:lnTo>
                  <a:lnTo>
                    <a:pt x="150" y="239"/>
                  </a:lnTo>
                  <a:lnTo>
                    <a:pt x="147" y="239"/>
                  </a:lnTo>
                  <a:lnTo>
                    <a:pt x="139" y="239"/>
                  </a:lnTo>
                  <a:lnTo>
                    <a:pt x="133" y="241"/>
                  </a:lnTo>
                  <a:lnTo>
                    <a:pt x="131" y="248"/>
                  </a:lnTo>
                  <a:lnTo>
                    <a:pt x="129" y="256"/>
                  </a:lnTo>
                  <a:lnTo>
                    <a:pt x="127" y="264"/>
                  </a:lnTo>
                  <a:lnTo>
                    <a:pt x="126" y="271"/>
                  </a:lnTo>
                  <a:lnTo>
                    <a:pt x="124" y="277"/>
                  </a:lnTo>
                  <a:lnTo>
                    <a:pt x="122" y="283"/>
                  </a:lnTo>
                  <a:lnTo>
                    <a:pt x="118" y="287"/>
                  </a:lnTo>
                  <a:lnTo>
                    <a:pt x="116" y="292"/>
                  </a:lnTo>
                  <a:lnTo>
                    <a:pt x="108" y="298"/>
                  </a:lnTo>
                  <a:lnTo>
                    <a:pt x="106" y="302"/>
                  </a:lnTo>
                  <a:lnTo>
                    <a:pt x="103" y="304"/>
                  </a:lnTo>
                  <a:lnTo>
                    <a:pt x="101" y="306"/>
                  </a:lnTo>
                  <a:lnTo>
                    <a:pt x="97" y="306"/>
                  </a:lnTo>
                  <a:lnTo>
                    <a:pt x="95" y="308"/>
                  </a:lnTo>
                  <a:lnTo>
                    <a:pt x="93" y="308"/>
                  </a:lnTo>
                  <a:lnTo>
                    <a:pt x="87" y="308"/>
                  </a:lnTo>
                  <a:lnTo>
                    <a:pt x="85" y="306"/>
                  </a:lnTo>
                  <a:lnTo>
                    <a:pt x="82" y="304"/>
                  </a:lnTo>
                  <a:lnTo>
                    <a:pt x="74" y="300"/>
                  </a:lnTo>
                  <a:lnTo>
                    <a:pt x="68" y="298"/>
                  </a:lnTo>
                  <a:lnTo>
                    <a:pt x="63" y="294"/>
                  </a:lnTo>
                  <a:lnTo>
                    <a:pt x="59" y="292"/>
                  </a:lnTo>
                  <a:lnTo>
                    <a:pt x="55" y="290"/>
                  </a:lnTo>
                  <a:lnTo>
                    <a:pt x="51" y="289"/>
                  </a:lnTo>
                  <a:lnTo>
                    <a:pt x="49" y="287"/>
                  </a:lnTo>
                  <a:lnTo>
                    <a:pt x="47" y="287"/>
                  </a:lnTo>
                  <a:lnTo>
                    <a:pt x="43" y="283"/>
                  </a:lnTo>
                  <a:lnTo>
                    <a:pt x="42" y="281"/>
                  </a:lnTo>
                  <a:lnTo>
                    <a:pt x="38" y="277"/>
                  </a:lnTo>
                  <a:lnTo>
                    <a:pt x="36" y="271"/>
                  </a:lnTo>
                  <a:lnTo>
                    <a:pt x="28" y="262"/>
                  </a:lnTo>
                  <a:lnTo>
                    <a:pt x="24" y="250"/>
                  </a:lnTo>
                  <a:lnTo>
                    <a:pt x="21" y="241"/>
                  </a:lnTo>
                  <a:lnTo>
                    <a:pt x="21" y="235"/>
                  </a:lnTo>
                  <a:lnTo>
                    <a:pt x="21" y="231"/>
                  </a:lnTo>
                  <a:lnTo>
                    <a:pt x="21" y="229"/>
                  </a:lnTo>
                  <a:lnTo>
                    <a:pt x="21" y="227"/>
                  </a:lnTo>
                  <a:lnTo>
                    <a:pt x="21" y="225"/>
                  </a:lnTo>
                  <a:lnTo>
                    <a:pt x="22" y="224"/>
                  </a:lnTo>
                  <a:lnTo>
                    <a:pt x="22" y="220"/>
                  </a:lnTo>
                  <a:lnTo>
                    <a:pt x="22" y="218"/>
                  </a:lnTo>
                  <a:lnTo>
                    <a:pt x="24" y="214"/>
                  </a:lnTo>
                  <a:lnTo>
                    <a:pt x="17" y="216"/>
                  </a:lnTo>
                  <a:lnTo>
                    <a:pt x="9" y="222"/>
                  </a:lnTo>
                  <a:lnTo>
                    <a:pt x="7" y="224"/>
                  </a:lnTo>
                  <a:lnTo>
                    <a:pt x="3" y="225"/>
                  </a:lnTo>
                  <a:lnTo>
                    <a:pt x="1" y="227"/>
                  </a:lnTo>
                  <a:lnTo>
                    <a:pt x="1" y="227"/>
                  </a:lnTo>
                  <a:lnTo>
                    <a:pt x="0" y="227"/>
                  </a:lnTo>
                  <a:lnTo>
                    <a:pt x="0" y="225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1" y="216"/>
                  </a:lnTo>
                  <a:lnTo>
                    <a:pt x="1" y="212"/>
                  </a:lnTo>
                  <a:lnTo>
                    <a:pt x="3" y="206"/>
                  </a:lnTo>
                  <a:lnTo>
                    <a:pt x="5" y="203"/>
                  </a:lnTo>
                  <a:lnTo>
                    <a:pt x="7" y="201"/>
                  </a:lnTo>
                  <a:lnTo>
                    <a:pt x="7" y="199"/>
                  </a:lnTo>
                  <a:lnTo>
                    <a:pt x="11" y="197"/>
                  </a:lnTo>
                  <a:lnTo>
                    <a:pt x="15" y="195"/>
                  </a:lnTo>
                  <a:lnTo>
                    <a:pt x="17" y="195"/>
                  </a:lnTo>
                  <a:lnTo>
                    <a:pt x="21" y="193"/>
                  </a:lnTo>
                  <a:lnTo>
                    <a:pt x="26" y="189"/>
                  </a:lnTo>
                  <a:lnTo>
                    <a:pt x="34" y="185"/>
                  </a:lnTo>
                  <a:lnTo>
                    <a:pt x="42" y="180"/>
                  </a:lnTo>
                  <a:lnTo>
                    <a:pt x="49" y="174"/>
                  </a:lnTo>
                  <a:lnTo>
                    <a:pt x="59" y="168"/>
                  </a:lnTo>
                  <a:lnTo>
                    <a:pt x="68" y="160"/>
                  </a:lnTo>
                  <a:lnTo>
                    <a:pt x="63" y="162"/>
                  </a:lnTo>
                  <a:lnTo>
                    <a:pt x="57" y="162"/>
                  </a:lnTo>
                  <a:lnTo>
                    <a:pt x="53" y="162"/>
                  </a:lnTo>
                  <a:lnTo>
                    <a:pt x="49" y="160"/>
                  </a:lnTo>
                  <a:lnTo>
                    <a:pt x="49" y="164"/>
                  </a:lnTo>
                  <a:lnTo>
                    <a:pt x="47" y="166"/>
                  </a:lnTo>
                  <a:lnTo>
                    <a:pt x="45" y="168"/>
                  </a:lnTo>
                  <a:lnTo>
                    <a:pt x="45" y="170"/>
                  </a:lnTo>
                  <a:lnTo>
                    <a:pt x="43" y="168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8" y="159"/>
                  </a:lnTo>
                  <a:lnTo>
                    <a:pt x="36" y="153"/>
                  </a:lnTo>
                  <a:lnTo>
                    <a:pt x="34" y="149"/>
                  </a:lnTo>
                  <a:lnTo>
                    <a:pt x="32" y="145"/>
                  </a:lnTo>
                  <a:lnTo>
                    <a:pt x="32" y="143"/>
                  </a:lnTo>
                  <a:lnTo>
                    <a:pt x="32" y="139"/>
                  </a:lnTo>
                  <a:lnTo>
                    <a:pt x="32" y="139"/>
                  </a:lnTo>
                  <a:lnTo>
                    <a:pt x="34" y="139"/>
                  </a:lnTo>
                  <a:lnTo>
                    <a:pt x="34" y="134"/>
                  </a:lnTo>
                  <a:lnTo>
                    <a:pt x="36" y="130"/>
                  </a:lnTo>
                  <a:lnTo>
                    <a:pt x="36" y="124"/>
                  </a:lnTo>
                  <a:lnTo>
                    <a:pt x="36" y="118"/>
                  </a:lnTo>
                  <a:lnTo>
                    <a:pt x="36" y="115"/>
                  </a:lnTo>
                  <a:lnTo>
                    <a:pt x="34" y="113"/>
                  </a:lnTo>
                  <a:lnTo>
                    <a:pt x="34" y="111"/>
                  </a:lnTo>
                  <a:lnTo>
                    <a:pt x="34" y="107"/>
                  </a:lnTo>
                  <a:lnTo>
                    <a:pt x="36" y="105"/>
                  </a:lnTo>
                  <a:lnTo>
                    <a:pt x="36" y="103"/>
                  </a:lnTo>
                  <a:lnTo>
                    <a:pt x="38" y="103"/>
                  </a:lnTo>
                  <a:lnTo>
                    <a:pt x="40" y="105"/>
                  </a:lnTo>
                  <a:lnTo>
                    <a:pt x="43" y="107"/>
                  </a:lnTo>
                  <a:lnTo>
                    <a:pt x="45" y="109"/>
                  </a:lnTo>
                  <a:lnTo>
                    <a:pt x="45" y="111"/>
                  </a:lnTo>
                  <a:lnTo>
                    <a:pt x="47" y="113"/>
                  </a:lnTo>
                  <a:lnTo>
                    <a:pt x="49" y="116"/>
                  </a:lnTo>
                  <a:lnTo>
                    <a:pt x="51" y="115"/>
                  </a:lnTo>
                  <a:lnTo>
                    <a:pt x="55" y="113"/>
                  </a:lnTo>
                  <a:lnTo>
                    <a:pt x="61" y="109"/>
                  </a:lnTo>
                  <a:lnTo>
                    <a:pt x="66" y="105"/>
                  </a:lnTo>
                  <a:lnTo>
                    <a:pt x="63" y="105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5" y="105"/>
                  </a:lnTo>
                  <a:lnTo>
                    <a:pt x="55" y="103"/>
                  </a:lnTo>
                  <a:lnTo>
                    <a:pt x="55" y="101"/>
                  </a:lnTo>
                  <a:lnTo>
                    <a:pt x="59" y="99"/>
                  </a:lnTo>
                  <a:lnTo>
                    <a:pt x="63" y="95"/>
                  </a:lnTo>
                  <a:lnTo>
                    <a:pt x="70" y="94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97" y="76"/>
                  </a:lnTo>
                  <a:lnTo>
                    <a:pt x="103" y="71"/>
                  </a:lnTo>
                  <a:lnTo>
                    <a:pt x="106" y="67"/>
                  </a:lnTo>
                  <a:lnTo>
                    <a:pt x="110" y="61"/>
                  </a:lnTo>
                  <a:lnTo>
                    <a:pt x="114" y="59"/>
                  </a:lnTo>
                  <a:lnTo>
                    <a:pt x="116" y="55"/>
                  </a:lnTo>
                  <a:lnTo>
                    <a:pt x="118" y="52"/>
                  </a:lnTo>
                  <a:lnTo>
                    <a:pt x="118" y="50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116" y="46"/>
                  </a:lnTo>
                  <a:lnTo>
                    <a:pt x="97" y="57"/>
                  </a:lnTo>
                  <a:lnTo>
                    <a:pt x="76" y="69"/>
                  </a:lnTo>
                  <a:lnTo>
                    <a:pt x="70" y="73"/>
                  </a:lnTo>
                  <a:lnTo>
                    <a:pt x="66" y="74"/>
                  </a:lnTo>
                  <a:lnTo>
                    <a:pt x="63" y="76"/>
                  </a:lnTo>
                  <a:lnTo>
                    <a:pt x="59" y="78"/>
                  </a:lnTo>
                  <a:lnTo>
                    <a:pt x="57" y="78"/>
                  </a:lnTo>
                  <a:lnTo>
                    <a:pt x="55" y="80"/>
                  </a:lnTo>
                  <a:lnTo>
                    <a:pt x="53" y="80"/>
                  </a:lnTo>
                  <a:lnTo>
                    <a:pt x="53" y="82"/>
                  </a:lnTo>
                  <a:lnTo>
                    <a:pt x="51" y="82"/>
                  </a:lnTo>
                  <a:lnTo>
                    <a:pt x="49" y="82"/>
                  </a:lnTo>
                  <a:lnTo>
                    <a:pt x="47" y="82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5" y="76"/>
                  </a:lnTo>
                  <a:lnTo>
                    <a:pt x="45" y="67"/>
                  </a:lnTo>
                  <a:lnTo>
                    <a:pt x="47" y="57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61" y="44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38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5" y="23"/>
                  </a:lnTo>
                  <a:lnTo>
                    <a:pt x="87" y="19"/>
                  </a:lnTo>
                  <a:lnTo>
                    <a:pt x="89" y="17"/>
                  </a:lnTo>
                  <a:lnTo>
                    <a:pt x="93" y="13"/>
                  </a:lnTo>
                  <a:lnTo>
                    <a:pt x="93" y="9"/>
                  </a:lnTo>
                  <a:lnTo>
                    <a:pt x="93" y="8"/>
                  </a:lnTo>
                  <a:lnTo>
                    <a:pt x="91" y="6"/>
                  </a:lnTo>
                  <a:lnTo>
                    <a:pt x="89" y="6"/>
                  </a:lnTo>
                  <a:lnTo>
                    <a:pt x="87" y="4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8"/>
                  </a:lnTo>
                  <a:lnTo>
                    <a:pt x="120" y="13"/>
                  </a:lnTo>
                  <a:lnTo>
                    <a:pt x="124" y="17"/>
                  </a:lnTo>
                  <a:lnTo>
                    <a:pt x="126" y="21"/>
                  </a:lnTo>
                  <a:lnTo>
                    <a:pt x="126" y="27"/>
                  </a:lnTo>
                  <a:lnTo>
                    <a:pt x="126" y="29"/>
                  </a:lnTo>
                  <a:lnTo>
                    <a:pt x="126" y="32"/>
                  </a:lnTo>
                  <a:lnTo>
                    <a:pt x="129" y="32"/>
                  </a:lnTo>
                  <a:lnTo>
                    <a:pt x="131" y="34"/>
                  </a:lnTo>
                  <a:lnTo>
                    <a:pt x="135" y="36"/>
                  </a:lnTo>
                  <a:lnTo>
                    <a:pt x="137" y="40"/>
                  </a:lnTo>
                  <a:lnTo>
                    <a:pt x="139" y="44"/>
                  </a:lnTo>
                  <a:lnTo>
                    <a:pt x="141" y="48"/>
                  </a:lnTo>
                  <a:lnTo>
                    <a:pt x="141" y="52"/>
                  </a:lnTo>
                  <a:lnTo>
                    <a:pt x="143" y="53"/>
                  </a:lnTo>
                  <a:lnTo>
                    <a:pt x="141" y="57"/>
                  </a:lnTo>
                  <a:lnTo>
                    <a:pt x="141" y="59"/>
                  </a:lnTo>
                  <a:lnTo>
                    <a:pt x="139" y="67"/>
                  </a:lnTo>
                  <a:lnTo>
                    <a:pt x="135" y="69"/>
                  </a:lnTo>
                  <a:lnTo>
                    <a:pt x="133" y="73"/>
                  </a:lnTo>
                  <a:lnTo>
                    <a:pt x="127" y="76"/>
                  </a:lnTo>
                  <a:lnTo>
                    <a:pt x="126" y="78"/>
                  </a:lnTo>
                  <a:lnTo>
                    <a:pt x="124" y="80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35" y="80"/>
                  </a:lnTo>
                  <a:lnTo>
                    <a:pt x="143" y="80"/>
                  </a:lnTo>
                  <a:lnTo>
                    <a:pt x="148" y="80"/>
                  </a:lnTo>
                  <a:lnTo>
                    <a:pt x="154" y="80"/>
                  </a:lnTo>
                  <a:lnTo>
                    <a:pt x="160" y="82"/>
                  </a:lnTo>
                  <a:lnTo>
                    <a:pt x="168" y="84"/>
                  </a:lnTo>
                  <a:lnTo>
                    <a:pt x="175" y="88"/>
                  </a:lnTo>
                  <a:lnTo>
                    <a:pt x="181" y="92"/>
                  </a:lnTo>
                  <a:lnTo>
                    <a:pt x="185" y="97"/>
                  </a:lnTo>
                  <a:lnTo>
                    <a:pt x="187" y="99"/>
                  </a:lnTo>
                  <a:lnTo>
                    <a:pt x="189" y="103"/>
                  </a:lnTo>
                  <a:lnTo>
                    <a:pt x="189" y="105"/>
                  </a:lnTo>
                  <a:lnTo>
                    <a:pt x="190" y="109"/>
                  </a:lnTo>
                  <a:lnTo>
                    <a:pt x="189" y="111"/>
                  </a:lnTo>
                  <a:lnTo>
                    <a:pt x="189" y="111"/>
                  </a:lnTo>
                  <a:lnTo>
                    <a:pt x="189" y="115"/>
                  </a:lnTo>
                  <a:lnTo>
                    <a:pt x="187" y="115"/>
                  </a:lnTo>
                  <a:lnTo>
                    <a:pt x="185" y="116"/>
                  </a:lnTo>
                  <a:lnTo>
                    <a:pt x="181" y="116"/>
                  </a:lnTo>
                  <a:lnTo>
                    <a:pt x="179" y="118"/>
                  </a:lnTo>
                  <a:lnTo>
                    <a:pt x="175" y="120"/>
                  </a:lnTo>
                  <a:lnTo>
                    <a:pt x="171" y="124"/>
                  </a:lnTo>
                  <a:lnTo>
                    <a:pt x="162" y="130"/>
                  </a:lnTo>
                  <a:lnTo>
                    <a:pt x="158" y="132"/>
                  </a:lnTo>
                  <a:lnTo>
                    <a:pt x="156" y="134"/>
                  </a:lnTo>
                  <a:lnTo>
                    <a:pt x="152" y="138"/>
                  </a:lnTo>
                  <a:lnTo>
                    <a:pt x="148" y="139"/>
                  </a:lnTo>
                  <a:lnTo>
                    <a:pt x="147" y="139"/>
                  </a:lnTo>
                  <a:lnTo>
                    <a:pt x="143" y="141"/>
                  </a:lnTo>
                  <a:lnTo>
                    <a:pt x="139" y="141"/>
                  </a:lnTo>
                  <a:lnTo>
                    <a:pt x="135" y="143"/>
                  </a:lnTo>
                  <a:lnTo>
                    <a:pt x="129" y="143"/>
                  </a:lnTo>
                  <a:lnTo>
                    <a:pt x="122" y="145"/>
                  </a:lnTo>
                  <a:lnTo>
                    <a:pt x="114" y="153"/>
                  </a:lnTo>
                  <a:lnTo>
                    <a:pt x="106" y="160"/>
                  </a:lnTo>
                  <a:lnTo>
                    <a:pt x="97" y="168"/>
                  </a:lnTo>
                  <a:lnTo>
                    <a:pt x="89" y="174"/>
                  </a:lnTo>
                  <a:lnTo>
                    <a:pt x="95" y="174"/>
                  </a:lnTo>
                  <a:lnTo>
                    <a:pt x="103" y="178"/>
                  </a:lnTo>
                  <a:lnTo>
                    <a:pt x="112" y="181"/>
                  </a:lnTo>
                  <a:lnTo>
                    <a:pt x="116" y="183"/>
                  </a:lnTo>
                  <a:lnTo>
                    <a:pt x="122" y="187"/>
                  </a:lnTo>
                  <a:lnTo>
                    <a:pt x="127" y="181"/>
                  </a:lnTo>
                  <a:lnTo>
                    <a:pt x="131" y="176"/>
                  </a:lnTo>
                  <a:lnTo>
                    <a:pt x="137" y="170"/>
                  </a:lnTo>
                  <a:lnTo>
                    <a:pt x="143" y="166"/>
                  </a:lnTo>
                  <a:lnTo>
                    <a:pt x="147" y="162"/>
                  </a:lnTo>
                  <a:lnTo>
                    <a:pt x="150" y="159"/>
                  </a:lnTo>
                  <a:lnTo>
                    <a:pt x="154" y="157"/>
                  </a:lnTo>
                  <a:lnTo>
                    <a:pt x="158" y="155"/>
                  </a:lnTo>
                  <a:lnTo>
                    <a:pt x="160" y="151"/>
                  </a:lnTo>
                  <a:lnTo>
                    <a:pt x="162" y="151"/>
                  </a:lnTo>
                  <a:lnTo>
                    <a:pt x="164" y="149"/>
                  </a:lnTo>
                  <a:lnTo>
                    <a:pt x="166" y="149"/>
                  </a:lnTo>
                  <a:lnTo>
                    <a:pt x="169" y="149"/>
                  </a:lnTo>
                  <a:lnTo>
                    <a:pt x="173" y="151"/>
                  </a:lnTo>
                  <a:lnTo>
                    <a:pt x="175" y="151"/>
                  </a:lnTo>
                  <a:lnTo>
                    <a:pt x="177" y="153"/>
                  </a:lnTo>
                  <a:lnTo>
                    <a:pt x="179" y="155"/>
                  </a:lnTo>
                  <a:lnTo>
                    <a:pt x="179" y="157"/>
                  </a:lnTo>
                  <a:lnTo>
                    <a:pt x="179" y="159"/>
                  </a:lnTo>
                  <a:lnTo>
                    <a:pt x="179" y="162"/>
                  </a:lnTo>
                  <a:lnTo>
                    <a:pt x="179" y="166"/>
                  </a:lnTo>
                  <a:lnTo>
                    <a:pt x="179" y="170"/>
                  </a:lnTo>
                  <a:lnTo>
                    <a:pt x="177" y="174"/>
                  </a:lnTo>
                  <a:lnTo>
                    <a:pt x="175" y="176"/>
                  </a:lnTo>
                  <a:lnTo>
                    <a:pt x="171" y="181"/>
                  </a:lnTo>
                  <a:lnTo>
                    <a:pt x="162" y="191"/>
                  </a:lnTo>
                  <a:lnTo>
                    <a:pt x="154" y="199"/>
                  </a:lnTo>
                  <a:lnTo>
                    <a:pt x="148" y="208"/>
                  </a:lnTo>
                  <a:lnTo>
                    <a:pt x="143" y="216"/>
                  </a:lnTo>
                  <a:lnTo>
                    <a:pt x="143" y="216"/>
                  </a:lnTo>
                  <a:close/>
                  <a:moveTo>
                    <a:pt x="114" y="132"/>
                  </a:moveTo>
                  <a:lnTo>
                    <a:pt x="116" y="132"/>
                  </a:lnTo>
                  <a:lnTo>
                    <a:pt x="120" y="130"/>
                  </a:lnTo>
                  <a:lnTo>
                    <a:pt x="124" y="130"/>
                  </a:lnTo>
                  <a:lnTo>
                    <a:pt x="129" y="128"/>
                  </a:lnTo>
                  <a:lnTo>
                    <a:pt x="133" y="126"/>
                  </a:lnTo>
                  <a:lnTo>
                    <a:pt x="137" y="122"/>
                  </a:lnTo>
                  <a:lnTo>
                    <a:pt x="143" y="116"/>
                  </a:lnTo>
                  <a:lnTo>
                    <a:pt x="148" y="111"/>
                  </a:lnTo>
                  <a:lnTo>
                    <a:pt x="152" y="105"/>
                  </a:lnTo>
                  <a:lnTo>
                    <a:pt x="156" y="101"/>
                  </a:lnTo>
                  <a:lnTo>
                    <a:pt x="158" y="97"/>
                  </a:lnTo>
                  <a:lnTo>
                    <a:pt x="158" y="95"/>
                  </a:lnTo>
                  <a:lnTo>
                    <a:pt x="158" y="94"/>
                  </a:lnTo>
                  <a:lnTo>
                    <a:pt x="158" y="92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2" y="92"/>
                  </a:lnTo>
                  <a:lnTo>
                    <a:pt x="148" y="92"/>
                  </a:lnTo>
                  <a:lnTo>
                    <a:pt x="139" y="97"/>
                  </a:lnTo>
                  <a:lnTo>
                    <a:pt x="127" y="101"/>
                  </a:lnTo>
                  <a:lnTo>
                    <a:pt x="118" y="103"/>
                  </a:lnTo>
                  <a:lnTo>
                    <a:pt x="108" y="107"/>
                  </a:lnTo>
                  <a:lnTo>
                    <a:pt x="112" y="109"/>
                  </a:lnTo>
                  <a:lnTo>
                    <a:pt x="114" y="113"/>
                  </a:lnTo>
                  <a:lnTo>
                    <a:pt x="114" y="115"/>
                  </a:lnTo>
                  <a:lnTo>
                    <a:pt x="114" y="116"/>
                  </a:lnTo>
                  <a:lnTo>
                    <a:pt x="114" y="120"/>
                  </a:lnTo>
                  <a:lnTo>
                    <a:pt x="114" y="122"/>
                  </a:lnTo>
                  <a:lnTo>
                    <a:pt x="114" y="126"/>
                  </a:lnTo>
                  <a:lnTo>
                    <a:pt x="114" y="132"/>
                  </a:lnTo>
                  <a:lnTo>
                    <a:pt x="114" y="132"/>
                  </a:lnTo>
                  <a:close/>
                  <a:moveTo>
                    <a:pt x="78" y="136"/>
                  </a:moveTo>
                  <a:lnTo>
                    <a:pt x="82" y="132"/>
                  </a:lnTo>
                  <a:lnTo>
                    <a:pt x="85" y="128"/>
                  </a:lnTo>
                  <a:lnTo>
                    <a:pt x="87" y="126"/>
                  </a:lnTo>
                  <a:lnTo>
                    <a:pt x="87" y="124"/>
                  </a:lnTo>
                  <a:lnTo>
                    <a:pt x="87" y="122"/>
                  </a:lnTo>
                  <a:lnTo>
                    <a:pt x="85" y="120"/>
                  </a:lnTo>
                  <a:lnTo>
                    <a:pt x="82" y="116"/>
                  </a:lnTo>
                  <a:lnTo>
                    <a:pt x="78" y="116"/>
                  </a:lnTo>
                  <a:lnTo>
                    <a:pt x="68" y="120"/>
                  </a:lnTo>
                  <a:lnTo>
                    <a:pt x="63" y="124"/>
                  </a:lnTo>
                  <a:lnTo>
                    <a:pt x="57" y="128"/>
                  </a:lnTo>
                  <a:lnTo>
                    <a:pt x="55" y="128"/>
                  </a:lnTo>
                  <a:lnTo>
                    <a:pt x="53" y="130"/>
                  </a:lnTo>
                  <a:lnTo>
                    <a:pt x="55" y="134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5" y="143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0" y="138"/>
                  </a:lnTo>
                  <a:lnTo>
                    <a:pt x="78" y="136"/>
                  </a:lnTo>
                  <a:lnTo>
                    <a:pt x="78" y="136"/>
                  </a:lnTo>
                  <a:close/>
                  <a:moveTo>
                    <a:pt x="160" y="159"/>
                  </a:moveTo>
                  <a:lnTo>
                    <a:pt x="154" y="164"/>
                  </a:lnTo>
                  <a:lnTo>
                    <a:pt x="148" y="168"/>
                  </a:lnTo>
                  <a:lnTo>
                    <a:pt x="143" y="174"/>
                  </a:lnTo>
                  <a:lnTo>
                    <a:pt x="139" y="178"/>
                  </a:lnTo>
                  <a:lnTo>
                    <a:pt x="133" y="181"/>
                  </a:lnTo>
                  <a:lnTo>
                    <a:pt x="131" y="185"/>
                  </a:lnTo>
                  <a:lnTo>
                    <a:pt x="127" y="189"/>
                  </a:lnTo>
                  <a:lnTo>
                    <a:pt x="126" y="193"/>
                  </a:lnTo>
                  <a:lnTo>
                    <a:pt x="127" y="197"/>
                  </a:lnTo>
                  <a:lnTo>
                    <a:pt x="127" y="199"/>
                  </a:lnTo>
                  <a:lnTo>
                    <a:pt x="129" y="201"/>
                  </a:lnTo>
                  <a:lnTo>
                    <a:pt x="129" y="203"/>
                  </a:lnTo>
                  <a:lnTo>
                    <a:pt x="133" y="199"/>
                  </a:lnTo>
                  <a:lnTo>
                    <a:pt x="137" y="193"/>
                  </a:lnTo>
                  <a:lnTo>
                    <a:pt x="141" y="187"/>
                  </a:lnTo>
                  <a:lnTo>
                    <a:pt x="147" y="181"/>
                  </a:lnTo>
                  <a:lnTo>
                    <a:pt x="150" y="176"/>
                  </a:lnTo>
                  <a:lnTo>
                    <a:pt x="154" y="170"/>
                  </a:lnTo>
                  <a:lnTo>
                    <a:pt x="156" y="166"/>
                  </a:lnTo>
                  <a:lnTo>
                    <a:pt x="158" y="164"/>
                  </a:lnTo>
                  <a:lnTo>
                    <a:pt x="158" y="162"/>
                  </a:lnTo>
                  <a:lnTo>
                    <a:pt x="160" y="160"/>
                  </a:lnTo>
                  <a:lnTo>
                    <a:pt x="160" y="159"/>
                  </a:lnTo>
                  <a:lnTo>
                    <a:pt x="160" y="159"/>
                  </a:lnTo>
                  <a:close/>
                  <a:moveTo>
                    <a:pt x="106" y="199"/>
                  </a:moveTo>
                  <a:lnTo>
                    <a:pt x="106" y="197"/>
                  </a:lnTo>
                  <a:lnTo>
                    <a:pt x="105" y="195"/>
                  </a:lnTo>
                  <a:lnTo>
                    <a:pt x="101" y="193"/>
                  </a:lnTo>
                  <a:lnTo>
                    <a:pt x="99" y="193"/>
                  </a:lnTo>
                  <a:lnTo>
                    <a:pt x="93" y="191"/>
                  </a:lnTo>
                  <a:lnTo>
                    <a:pt x="89" y="191"/>
                  </a:lnTo>
                  <a:lnTo>
                    <a:pt x="87" y="191"/>
                  </a:lnTo>
                  <a:lnTo>
                    <a:pt x="89" y="195"/>
                  </a:lnTo>
                  <a:lnTo>
                    <a:pt x="89" y="201"/>
                  </a:lnTo>
                  <a:lnTo>
                    <a:pt x="91" y="201"/>
                  </a:lnTo>
                  <a:lnTo>
                    <a:pt x="95" y="201"/>
                  </a:lnTo>
                  <a:lnTo>
                    <a:pt x="99" y="203"/>
                  </a:lnTo>
                  <a:lnTo>
                    <a:pt x="103" y="204"/>
                  </a:lnTo>
                  <a:lnTo>
                    <a:pt x="105" y="203"/>
                  </a:lnTo>
                  <a:lnTo>
                    <a:pt x="106" y="201"/>
                  </a:lnTo>
                  <a:lnTo>
                    <a:pt x="106" y="199"/>
                  </a:lnTo>
                  <a:lnTo>
                    <a:pt x="106" y="199"/>
                  </a:lnTo>
                  <a:lnTo>
                    <a:pt x="106" y="199"/>
                  </a:lnTo>
                  <a:close/>
                  <a:moveTo>
                    <a:pt x="61" y="197"/>
                  </a:moveTo>
                  <a:lnTo>
                    <a:pt x="53" y="201"/>
                  </a:lnTo>
                  <a:lnTo>
                    <a:pt x="45" y="204"/>
                  </a:lnTo>
                  <a:lnTo>
                    <a:pt x="28" y="210"/>
                  </a:lnTo>
                  <a:lnTo>
                    <a:pt x="26" y="214"/>
                  </a:lnTo>
                  <a:lnTo>
                    <a:pt x="24" y="218"/>
                  </a:lnTo>
                  <a:lnTo>
                    <a:pt x="24" y="224"/>
                  </a:lnTo>
                  <a:lnTo>
                    <a:pt x="24" y="227"/>
                  </a:lnTo>
                  <a:lnTo>
                    <a:pt x="24" y="233"/>
                  </a:lnTo>
                  <a:lnTo>
                    <a:pt x="26" y="239"/>
                  </a:lnTo>
                  <a:lnTo>
                    <a:pt x="28" y="245"/>
                  </a:lnTo>
                  <a:lnTo>
                    <a:pt x="30" y="250"/>
                  </a:lnTo>
                  <a:lnTo>
                    <a:pt x="32" y="245"/>
                  </a:lnTo>
                  <a:lnTo>
                    <a:pt x="32" y="239"/>
                  </a:lnTo>
                  <a:lnTo>
                    <a:pt x="34" y="235"/>
                  </a:lnTo>
                  <a:lnTo>
                    <a:pt x="36" y="231"/>
                  </a:lnTo>
                  <a:lnTo>
                    <a:pt x="36" y="229"/>
                  </a:lnTo>
                  <a:lnTo>
                    <a:pt x="38" y="227"/>
                  </a:lnTo>
                  <a:lnTo>
                    <a:pt x="38" y="225"/>
                  </a:lnTo>
                  <a:lnTo>
                    <a:pt x="40" y="225"/>
                  </a:lnTo>
                  <a:lnTo>
                    <a:pt x="40" y="224"/>
                  </a:lnTo>
                  <a:lnTo>
                    <a:pt x="43" y="224"/>
                  </a:lnTo>
                  <a:lnTo>
                    <a:pt x="45" y="224"/>
                  </a:lnTo>
                  <a:lnTo>
                    <a:pt x="47" y="222"/>
                  </a:lnTo>
                  <a:lnTo>
                    <a:pt x="51" y="218"/>
                  </a:lnTo>
                  <a:lnTo>
                    <a:pt x="55" y="212"/>
                  </a:lnTo>
                  <a:lnTo>
                    <a:pt x="59" y="208"/>
                  </a:lnTo>
                  <a:lnTo>
                    <a:pt x="61" y="204"/>
                  </a:lnTo>
                  <a:lnTo>
                    <a:pt x="63" y="201"/>
                  </a:lnTo>
                  <a:lnTo>
                    <a:pt x="63" y="201"/>
                  </a:lnTo>
                  <a:lnTo>
                    <a:pt x="63" y="199"/>
                  </a:lnTo>
                  <a:lnTo>
                    <a:pt x="61" y="197"/>
                  </a:lnTo>
                  <a:lnTo>
                    <a:pt x="61" y="197"/>
                  </a:lnTo>
                  <a:close/>
                  <a:moveTo>
                    <a:pt x="116" y="220"/>
                  </a:moveTo>
                  <a:lnTo>
                    <a:pt x="116" y="214"/>
                  </a:lnTo>
                  <a:lnTo>
                    <a:pt x="116" y="212"/>
                  </a:lnTo>
                  <a:lnTo>
                    <a:pt x="114" y="208"/>
                  </a:lnTo>
                  <a:lnTo>
                    <a:pt x="114" y="206"/>
                  </a:lnTo>
                  <a:lnTo>
                    <a:pt x="110" y="208"/>
                  </a:lnTo>
                  <a:lnTo>
                    <a:pt x="106" y="212"/>
                  </a:lnTo>
                  <a:lnTo>
                    <a:pt x="103" y="222"/>
                  </a:lnTo>
                  <a:lnTo>
                    <a:pt x="101" y="229"/>
                  </a:lnTo>
                  <a:lnTo>
                    <a:pt x="97" y="239"/>
                  </a:lnTo>
                  <a:lnTo>
                    <a:pt x="91" y="248"/>
                  </a:lnTo>
                  <a:lnTo>
                    <a:pt x="87" y="256"/>
                  </a:lnTo>
                  <a:lnTo>
                    <a:pt x="82" y="264"/>
                  </a:lnTo>
                  <a:lnTo>
                    <a:pt x="76" y="269"/>
                  </a:lnTo>
                  <a:lnTo>
                    <a:pt x="72" y="275"/>
                  </a:lnTo>
                  <a:lnTo>
                    <a:pt x="76" y="277"/>
                  </a:lnTo>
                  <a:lnTo>
                    <a:pt x="82" y="277"/>
                  </a:lnTo>
                  <a:lnTo>
                    <a:pt x="91" y="277"/>
                  </a:lnTo>
                  <a:lnTo>
                    <a:pt x="97" y="277"/>
                  </a:lnTo>
                  <a:lnTo>
                    <a:pt x="99" y="277"/>
                  </a:lnTo>
                  <a:lnTo>
                    <a:pt x="101" y="275"/>
                  </a:lnTo>
                  <a:lnTo>
                    <a:pt x="103" y="273"/>
                  </a:lnTo>
                  <a:lnTo>
                    <a:pt x="105" y="269"/>
                  </a:lnTo>
                  <a:lnTo>
                    <a:pt x="106" y="267"/>
                  </a:lnTo>
                  <a:lnTo>
                    <a:pt x="108" y="264"/>
                  </a:lnTo>
                  <a:lnTo>
                    <a:pt x="110" y="258"/>
                  </a:lnTo>
                  <a:lnTo>
                    <a:pt x="112" y="254"/>
                  </a:lnTo>
                  <a:lnTo>
                    <a:pt x="114" y="248"/>
                  </a:lnTo>
                  <a:lnTo>
                    <a:pt x="116" y="241"/>
                  </a:lnTo>
                  <a:lnTo>
                    <a:pt x="108" y="241"/>
                  </a:lnTo>
                  <a:lnTo>
                    <a:pt x="105" y="241"/>
                  </a:lnTo>
                  <a:lnTo>
                    <a:pt x="101" y="239"/>
                  </a:lnTo>
                  <a:lnTo>
                    <a:pt x="101" y="237"/>
                  </a:lnTo>
                  <a:lnTo>
                    <a:pt x="101" y="235"/>
                  </a:lnTo>
                  <a:lnTo>
                    <a:pt x="103" y="233"/>
                  </a:lnTo>
                  <a:lnTo>
                    <a:pt x="105" y="227"/>
                  </a:lnTo>
                  <a:lnTo>
                    <a:pt x="106" y="225"/>
                  </a:lnTo>
                  <a:lnTo>
                    <a:pt x="108" y="224"/>
                  </a:lnTo>
                  <a:lnTo>
                    <a:pt x="112" y="222"/>
                  </a:lnTo>
                  <a:lnTo>
                    <a:pt x="116" y="220"/>
                  </a:lnTo>
                  <a:lnTo>
                    <a:pt x="116" y="220"/>
                  </a:lnTo>
                  <a:close/>
                  <a:moveTo>
                    <a:pt x="53" y="267"/>
                  </a:moveTo>
                  <a:lnTo>
                    <a:pt x="55" y="260"/>
                  </a:lnTo>
                  <a:lnTo>
                    <a:pt x="57" y="258"/>
                  </a:lnTo>
                  <a:lnTo>
                    <a:pt x="59" y="254"/>
                  </a:lnTo>
                  <a:lnTo>
                    <a:pt x="61" y="252"/>
                  </a:lnTo>
                  <a:lnTo>
                    <a:pt x="63" y="250"/>
                  </a:lnTo>
                  <a:lnTo>
                    <a:pt x="64" y="246"/>
                  </a:lnTo>
                  <a:lnTo>
                    <a:pt x="68" y="245"/>
                  </a:lnTo>
                  <a:lnTo>
                    <a:pt x="74" y="237"/>
                  </a:lnTo>
                  <a:lnTo>
                    <a:pt x="78" y="233"/>
                  </a:lnTo>
                  <a:lnTo>
                    <a:pt x="82" y="227"/>
                  </a:lnTo>
                  <a:lnTo>
                    <a:pt x="84" y="224"/>
                  </a:lnTo>
                  <a:lnTo>
                    <a:pt x="85" y="220"/>
                  </a:lnTo>
                  <a:lnTo>
                    <a:pt x="87" y="218"/>
                  </a:lnTo>
                  <a:lnTo>
                    <a:pt x="87" y="216"/>
                  </a:lnTo>
                  <a:lnTo>
                    <a:pt x="87" y="214"/>
                  </a:lnTo>
                  <a:lnTo>
                    <a:pt x="85" y="212"/>
                  </a:lnTo>
                  <a:lnTo>
                    <a:pt x="84" y="212"/>
                  </a:lnTo>
                  <a:lnTo>
                    <a:pt x="82" y="214"/>
                  </a:lnTo>
                  <a:lnTo>
                    <a:pt x="72" y="225"/>
                  </a:lnTo>
                  <a:lnTo>
                    <a:pt x="63" y="235"/>
                  </a:lnTo>
                  <a:lnTo>
                    <a:pt x="57" y="239"/>
                  </a:lnTo>
                  <a:lnTo>
                    <a:pt x="53" y="243"/>
                  </a:lnTo>
                  <a:lnTo>
                    <a:pt x="51" y="245"/>
                  </a:lnTo>
                  <a:lnTo>
                    <a:pt x="49" y="246"/>
                  </a:lnTo>
                  <a:lnTo>
                    <a:pt x="43" y="248"/>
                  </a:lnTo>
                  <a:lnTo>
                    <a:pt x="40" y="250"/>
                  </a:lnTo>
                  <a:lnTo>
                    <a:pt x="38" y="252"/>
                  </a:lnTo>
                  <a:lnTo>
                    <a:pt x="36" y="256"/>
                  </a:lnTo>
                  <a:lnTo>
                    <a:pt x="43" y="262"/>
                  </a:lnTo>
                  <a:lnTo>
                    <a:pt x="53" y="267"/>
                  </a:lnTo>
                  <a:lnTo>
                    <a:pt x="53" y="2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7" name="Group 158"/>
          <p:cNvGrpSpPr/>
          <p:nvPr/>
        </p:nvGrpSpPr>
        <p:grpSpPr>
          <a:xfrm>
            <a:off x="10150560" y="10836360"/>
            <a:ext cx="909360" cy="488880"/>
            <a:chOff x="10150560" y="10836360"/>
            <a:chExt cx="909360" cy="488880"/>
          </a:xfrm>
        </p:grpSpPr>
        <p:sp>
          <p:nvSpPr>
            <p:cNvPr id="2928" name="Freeform 159"/>
            <p:cNvSpPr/>
            <p:nvPr/>
          </p:nvSpPr>
          <p:spPr>
            <a:xfrm flipV="1">
              <a:off x="10150560" y="10879200"/>
              <a:ext cx="423720" cy="379080"/>
            </a:xfrm>
            <a:custGeom>
              <a:avLst/>
              <a:gdLst/>
              <a:ahLst/>
              <a:rect l="l" t="t" r="r" b="b"/>
              <a:pathLst>
                <a:path w="267" h="239">
                  <a:moveTo>
                    <a:pt x="137" y="69"/>
                  </a:moveTo>
                  <a:lnTo>
                    <a:pt x="139" y="69"/>
                  </a:lnTo>
                  <a:lnTo>
                    <a:pt x="143" y="69"/>
                  </a:lnTo>
                  <a:lnTo>
                    <a:pt x="147" y="69"/>
                  </a:lnTo>
                  <a:lnTo>
                    <a:pt x="151" y="69"/>
                  </a:lnTo>
                  <a:lnTo>
                    <a:pt x="154" y="71"/>
                  </a:lnTo>
                  <a:lnTo>
                    <a:pt x="158" y="73"/>
                  </a:lnTo>
                  <a:lnTo>
                    <a:pt x="162" y="74"/>
                  </a:lnTo>
                  <a:lnTo>
                    <a:pt x="164" y="78"/>
                  </a:lnTo>
                  <a:lnTo>
                    <a:pt x="166" y="80"/>
                  </a:lnTo>
                  <a:lnTo>
                    <a:pt x="166" y="84"/>
                  </a:lnTo>
                  <a:lnTo>
                    <a:pt x="166" y="88"/>
                  </a:lnTo>
                  <a:lnTo>
                    <a:pt x="162" y="90"/>
                  </a:lnTo>
                  <a:lnTo>
                    <a:pt x="158" y="94"/>
                  </a:lnTo>
                  <a:lnTo>
                    <a:pt x="153" y="96"/>
                  </a:lnTo>
                  <a:lnTo>
                    <a:pt x="149" y="103"/>
                  </a:lnTo>
                  <a:lnTo>
                    <a:pt x="147" y="109"/>
                  </a:lnTo>
                  <a:lnTo>
                    <a:pt x="145" y="117"/>
                  </a:lnTo>
                  <a:lnTo>
                    <a:pt x="141" y="122"/>
                  </a:lnTo>
                  <a:lnTo>
                    <a:pt x="139" y="128"/>
                  </a:lnTo>
                  <a:lnTo>
                    <a:pt x="137" y="132"/>
                  </a:lnTo>
                  <a:lnTo>
                    <a:pt x="137" y="138"/>
                  </a:lnTo>
                  <a:lnTo>
                    <a:pt x="135" y="141"/>
                  </a:lnTo>
                  <a:lnTo>
                    <a:pt x="133" y="147"/>
                  </a:lnTo>
                  <a:lnTo>
                    <a:pt x="132" y="153"/>
                  </a:lnTo>
                  <a:lnTo>
                    <a:pt x="132" y="157"/>
                  </a:lnTo>
                  <a:lnTo>
                    <a:pt x="132" y="161"/>
                  </a:lnTo>
                  <a:lnTo>
                    <a:pt x="132" y="166"/>
                  </a:lnTo>
                  <a:lnTo>
                    <a:pt x="133" y="174"/>
                  </a:lnTo>
                  <a:lnTo>
                    <a:pt x="133" y="178"/>
                  </a:lnTo>
                  <a:lnTo>
                    <a:pt x="133" y="183"/>
                  </a:lnTo>
                  <a:lnTo>
                    <a:pt x="133" y="193"/>
                  </a:lnTo>
                  <a:lnTo>
                    <a:pt x="133" y="204"/>
                  </a:lnTo>
                  <a:lnTo>
                    <a:pt x="133" y="212"/>
                  </a:lnTo>
                  <a:lnTo>
                    <a:pt x="133" y="218"/>
                  </a:lnTo>
                  <a:lnTo>
                    <a:pt x="132" y="224"/>
                  </a:lnTo>
                  <a:lnTo>
                    <a:pt x="132" y="227"/>
                  </a:lnTo>
                  <a:lnTo>
                    <a:pt x="130" y="231"/>
                  </a:lnTo>
                  <a:lnTo>
                    <a:pt x="128" y="231"/>
                  </a:lnTo>
                  <a:lnTo>
                    <a:pt x="128" y="231"/>
                  </a:lnTo>
                  <a:lnTo>
                    <a:pt x="126" y="231"/>
                  </a:lnTo>
                  <a:lnTo>
                    <a:pt x="126" y="229"/>
                  </a:lnTo>
                  <a:lnTo>
                    <a:pt x="124" y="227"/>
                  </a:lnTo>
                  <a:lnTo>
                    <a:pt x="122" y="224"/>
                  </a:lnTo>
                  <a:lnTo>
                    <a:pt x="120" y="222"/>
                  </a:lnTo>
                  <a:lnTo>
                    <a:pt x="120" y="218"/>
                  </a:lnTo>
                  <a:lnTo>
                    <a:pt x="118" y="212"/>
                  </a:lnTo>
                  <a:lnTo>
                    <a:pt x="114" y="204"/>
                  </a:lnTo>
                  <a:lnTo>
                    <a:pt x="112" y="197"/>
                  </a:lnTo>
                  <a:lnTo>
                    <a:pt x="111" y="191"/>
                  </a:lnTo>
                  <a:lnTo>
                    <a:pt x="112" y="187"/>
                  </a:lnTo>
                  <a:lnTo>
                    <a:pt x="114" y="168"/>
                  </a:lnTo>
                  <a:lnTo>
                    <a:pt x="116" y="153"/>
                  </a:lnTo>
                  <a:lnTo>
                    <a:pt x="116" y="143"/>
                  </a:lnTo>
                  <a:lnTo>
                    <a:pt x="116" y="132"/>
                  </a:lnTo>
                  <a:lnTo>
                    <a:pt x="116" y="120"/>
                  </a:lnTo>
                  <a:lnTo>
                    <a:pt x="116" y="105"/>
                  </a:lnTo>
                  <a:lnTo>
                    <a:pt x="107" y="111"/>
                  </a:lnTo>
                  <a:lnTo>
                    <a:pt x="97" y="115"/>
                  </a:lnTo>
                  <a:lnTo>
                    <a:pt x="88" y="120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1"/>
                  </a:lnTo>
                  <a:lnTo>
                    <a:pt x="78" y="157"/>
                  </a:lnTo>
                  <a:lnTo>
                    <a:pt x="78" y="164"/>
                  </a:lnTo>
                  <a:lnTo>
                    <a:pt x="78" y="172"/>
                  </a:lnTo>
                  <a:lnTo>
                    <a:pt x="74" y="189"/>
                  </a:lnTo>
                  <a:lnTo>
                    <a:pt x="72" y="195"/>
                  </a:lnTo>
                  <a:lnTo>
                    <a:pt x="70" y="201"/>
                  </a:lnTo>
                  <a:lnTo>
                    <a:pt x="67" y="206"/>
                  </a:lnTo>
                  <a:lnTo>
                    <a:pt x="65" y="210"/>
                  </a:lnTo>
                  <a:lnTo>
                    <a:pt x="61" y="212"/>
                  </a:lnTo>
                  <a:lnTo>
                    <a:pt x="59" y="214"/>
                  </a:lnTo>
                  <a:lnTo>
                    <a:pt x="57" y="214"/>
                  </a:lnTo>
                  <a:lnTo>
                    <a:pt x="57" y="214"/>
                  </a:lnTo>
                  <a:lnTo>
                    <a:pt x="55" y="214"/>
                  </a:lnTo>
                  <a:lnTo>
                    <a:pt x="53" y="214"/>
                  </a:lnTo>
                  <a:lnTo>
                    <a:pt x="53" y="214"/>
                  </a:lnTo>
                  <a:lnTo>
                    <a:pt x="53" y="212"/>
                  </a:lnTo>
                  <a:lnTo>
                    <a:pt x="53" y="208"/>
                  </a:lnTo>
                  <a:lnTo>
                    <a:pt x="53" y="204"/>
                  </a:lnTo>
                  <a:lnTo>
                    <a:pt x="51" y="197"/>
                  </a:lnTo>
                  <a:lnTo>
                    <a:pt x="51" y="191"/>
                  </a:lnTo>
                  <a:lnTo>
                    <a:pt x="51" y="187"/>
                  </a:lnTo>
                  <a:lnTo>
                    <a:pt x="53" y="183"/>
                  </a:lnTo>
                  <a:lnTo>
                    <a:pt x="53" y="180"/>
                  </a:lnTo>
                  <a:lnTo>
                    <a:pt x="55" y="176"/>
                  </a:lnTo>
                  <a:lnTo>
                    <a:pt x="57" y="166"/>
                  </a:lnTo>
                  <a:lnTo>
                    <a:pt x="57" y="159"/>
                  </a:lnTo>
                  <a:lnTo>
                    <a:pt x="57" y="153"/>
                  </a:lnTo>
                  <a:lnTo>
                    <a:pt x="57" y="147"/>
                  </a:lnTo>
                  <a:lnTo>
                    <a:pt x="49" y="153"/>
                  </a:lnTo>
                  <a:lnTo>
                    <a:pt x="44" y="157"/>
                  </a:lnTo>
                  <a:lnTo>
                    <a:pt x="38" y="161"/>
                  </a:lnTo>
                  <a:lnTo>
                    <a:pt x="32" y="161"/>
                  </a:lnTo>
                  <a:lnTo>
                    <a:pt x="28" y="161"/>
                  </a:lnTo>
                  <a:lnTo>
                    <a:pt x="25" y="159"/>
                  </a:lnTo>
                  <a:lnTo>
                    <a:pt x="19" y="157"/>
                  </a:lnTo>
                  <a:lnTo>
                    <a:pt x="15" y="155"/>
                  </a:lnTo>
                  <a:lnTo>
                    <a:pt x="11" y="153"/>
                  </a:lnTo>
                  <a:lnTo>
                    <a:pt x="9" y="149"/>
                  </a:lnTo>
                  <a:lnTo>
                    <a:pt x="6" y="145"/>
                  </a:lnTo>
                  <a:lnTo>
                    <a:pt x="4" y="141"/>
                  </a:lnTo>
                  <a:lnTo>
                    <a:pt x="2" y="136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6" y="128"/>
                  </a:lnTo>
                  <a:lnTo>
                    <a:pt x="7" y="128"/>
                  </a:lnTo>
                  <a:lnTo>
                    <a:pt x="11" y="130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7" y="124"/>
                  </a:lnTo>
                  <a:lnTo>
                    <a:pt x="32" y="122"/>
                  </a:lnTo>
                  <a:lnTo>
                    <a:pt x="38" y="118"/>
                  </a:lnTo>
                  <a:lnTo>
                    <a:pt x="46" y="115"/>
                  </a:lnTo>
                  <a:lnTo>
                    <a:pt x="53" y="109"/>
                  </a:lnTo>
                  <a:lnTo>
                    <a:pt x="55" y="99"/>
                  </a:lnTo>
                  <a:lnTo>
                    <a:pt x="57" y="90"/>
                  </a:lnTo>
                  <a:lnTo>
                    <a:pt x="59" y="82"/>
                  </a:lnTo>
                  <a:lnTo>
                    <a:pt x="63" y="74"/>
                  </a:lnTo>
                  <a:lnTo>
                    <a:pt x="57" y="76"/>
                  </a:lnTo>
                  <a:lnTo>
                    <a:pt x="53" y="78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49" y="80"/>
                  </a:lnTo>
                  <a:lnTo>
                    <a:pt x="49" y="80"/>
                  </a:lnTo>
                  <a:lnTo>
                    <a:pt x="49" y="78"/>
                  </a:lnTo>
                  <a:lnTo>
                    <a:pt x="51" y="76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76" y="55"/>
                  </a:lnTo>
                  <a:lnTo>
                    <a:pt x="82" y="48"/>
                  </a:lnTo>
                  <a:lnTo>
                    <a:pt x="76" y="44"/>
                  </a:lnTo>
                  <a:lnTo>
                    <a:pt x="72" y="40"/>
                  </a:lnTo>
                  <a:lnTo>
                    <a:pt x="67" y="36"/>
                  </a:lnTo>
                  <a:lnTo>
                    <a:pt x="63" y="31"/>
                  </a:lnTo>
                  <a:lnTo>
                    <a:pt x="59" y="25"/>
                  </a:lnTo>
                  <a:lnTo>
                    <a:pt x="57" y="21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5"/>
                  </a:lnTo>
                  <a:lnTo>
                    <a:pt x="57" y="15"/>
                  </a:lnTo>
                  <a:lnTo>
                    <a:pt x="59" y="15"/>
                  </a:lnTo>
                  <a:lnTo>
                    <a:pt x="61" y="15"/>
                  </a:lnTo>
                  <a:lnTo>
                    <a:pt x="63" y="15"/>
                  </a:lnTo>
                  <a:lnTo>
                    <a:pt x="67" y="17"/>
                  </a:lnTo>
                  <a:lnTo>
                    <a:pt x="70" y="17"/>
                  </a:lnTo>
                  <a:lnTo>
                    <a:pt x="72" y="17"/>
                  </a:lnTo>
                  <a:lnTo>
                    <a:pt x="76" y="15"/>
                  </a:lnTo>
                  <a:lnTo>
                    <a:pt x="82" y="15"/>
                  </a:lnTo>
                  <a:lnTo>
                    <a:pt x="86" y="13"/>
                  </a:lnTo>
                  <a:lnTo>
                    <a:pt x="91" y="11"/>
                  </a:lnTo>
                  <a:lnTo>
                    <a:pt x="97" y="10"/>
                  </a:lnTo>
                  <a:lnTo>
                    <a:pt x="105" y="6"/>
                  </a:lnTo>
                  <a:lnTo>
                    <a:pt x="112" y="4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5" y="2"/>
                  </a:lnTo>
                  <a:lnTo>
                    <a:pt x="139" y="4"/>
                  </a:lnTo>
                  <a:lnTo>
                    <a:pt x="143" y="6"/>
                  </a:lnTo>
                  <a:lnTo>
                    <a:pt x="145" y="10"/>
                  </a:lnTo>
                  <a:lnTo>
                    <a:pt x="149" y="11"/>
                  </a:lnTo>
                  <a:lnTo>
                    <a:pt x="149" y="15"/>
                  </a:lnTo>
                  <a:lnTo>
                    <a:pt x="151" y="19"/>
                  </a:lnTo>
                  <a:lnTo>
                    <a:pt x="149" y="23"/>
                  </a:lnTo>
                  <a:lnTo>
                    <a:pt x="147" y="27"/>
                  </a:lnTo>
                  <a:lnTo>
                    <a:pt x="141" y="31"/>
                  </a:lnTo>
                  <a:lnTo>
                    <a:pt x="135" y="34"/>
                  </a:lnTo>
                  <a:lnTo>
                    <a:pt x="130" y="34"/>
                  </a:lnTo>
                  <a:lnTo>
                    <a:pt x="124" y="38"/>
                  </a:lnTo>
                  <a:lnTo>
                    <a:pt x="120" y="40"/>
                  </a:lnTo>
                  <a:lnTo>
                    <a:pt x="114" y="46"/>
                  </a:lnTo>
                  <a:lnTo>
                    <a:pt x="120" y="46"/>
                  </a:lnTo>
                  <a:lnTo>
                    <a:pt x="124" y="48"/>
                  </a:lnTo>
                  <a:lnTo>
                    <a:pt x="128" y="50"/>
                  </a:lnTo>
                  <a:lnTo>
                    <a:pt x="130" y="52"/>
                  </a:lnTo>
                  <a:lnTo>
                    <a:pt x="133" y="55"/>
                  </a:lnTo>
                  <a:lnTo>
                    <a:pt x="135" y="59"/>
                  </a:lnTo>
                  <a:lnTo>
                    <a:pt x="135" y="63"/>
                  </a:lnTo>
                  <a:lnTo>
                    <a:pt x="137" y="69"/>
                  </a:lnTo>
                  <a:lnTo>
                    <a:pt x="137" y="69"/>
                  </a:lnTo>
                  <a:close/>
                  <a:moveTo>
                    <a:pt x="116" y="74"/>
                  </a:moveTo>
                  <a:lnTo>
                    <a:pt x="116" y="69"/>
                  </a:lnTo>
                  <a:lnTo>
                    <a:pt x="116" y="65"/>
                  </a:lnTo>
                  <a:lnTo>
                    <a:pt x="114" y="61"/>
                  </a:lnTo>
                  <a:lnTo>
                    <a:pt x="114" y="57"/>
                  </a:lnTo>
                  <a:lnTo>
                    <a:pt x="112" y="55"/>
                  </a:lnTo>
                  <a:lnTo>
                    <a:pt x="111" y="53"/>
                  </a:lnTo>
                  <a:lnTo>
                    <a:pt x="109" y="52"/>
                  </a:lnTo>
                  <a:lnTo>
                    <a:pt x="105" y="52"/>
                  </a:lnTo>
                  <a:lnTo>
                    <a:pt x="95" y="55"/>
                  </a:lnTo>
                  <a:lnTo>
                    <a:pt x="88" y="61"/>
                  </a:lnTo>
                  <a:lnTo>
                    <a:pt x="80" y="65"/>
                  </a:lnTo>
                  <a:lnTo>
                    <a:pt x="74" y="69"/>
                  </a:lnTo>
                  <a:lnTo>
                    <a:pt x="76" y="76"/>
                  </a:lnTo>
                  <a:lnTo>
                    <a:pt x="76" y="80"/>
                  </a:lnTo>
                  <a:lnTo>
                    <a:pt x="76" y="84"/>
                  </a:lnTo>
                  <a:lnTo>
                    <a:pt x="76" y="90"/>
                  </a:lnTo>
                  <a:lnTo>
                    <a:pt x="76" y="96"/>
                  </a:lnTo>
                  <a:lnTo>
                    <a:pt x="86" y="90"/>
                  </a:lnTo>
                  <a:lnTo>
                    <a:pt x="95" y="84"/>
                  </a:lnTo>
                  <a:lnTo>
                    <a:pt x="116" y="74"/>
                  </a:lnTo>
                  <a:lnTo>
                    <a:pt x="116" y="74"/>
                  </a:lnTo>
                  <a:close/>
                  <a:moveTo>
                    <a:pt x="151" y="96"/>
                  </a:moveTo>
                  <a:lnTo>
                    <a:pt x="141" y="96"/>
                  </a:lnTo>
                  <a:lnTo>
                    <a:pt x="133" y="97"/>
                  </a:lnTo>
                  <a:lnTo>
                    <a:pt x="132" y="109"/>
                  </a:lnTo>
                  <a:lnTo>
                    <a:pt x="132" y="120"/>
                  </a:lnTo>
                  <a:lnTo>
                    <a:pt x="130" y="128"/>
                  </a:lnTo>
                  <a:lnTo>
                    <a:pt x="132" y="136"/>
                  </a:lnTo>
                  <a:lnTo>
                    <a:pt x="139" y="117"/>
                  </a:lnTo>
                  <a:lnTo>
                    <a:pt x="145" y="105"/>
                  </a:lnTo>
                  <a:lnTo>
                    <a:pt x="151" y="96"/>
                  </a:lnTo>
                  <a:lnTo>
                    <a:pt x="151" y="96"/>
                  </a:lnTo>
                  <a:close/>
                  <a:moveTo>
                    <a:pt x="252" y="21"/>
                  </a:moveTo>
                  <a:lnTo>
                    <a:pt x="250" y="23"/>
                  </a:lnTo>
                  <a:lnTo>
                    <a:pt x="250" y="25"/>
                  </a:lnTo>
                  <a:lnTo>
                    <a:pt x="248" y="27"/>
                  </a:lnTo>
                  <a:lnTo>
                    <a:pt x="248" y="29"/>
                  </a:lnTo>
                  <a:lnTo>
                    <a:pt x="233" y="38"/>
                  </a:lnTo>
                  <a:lnTo>
                    <a:pt x="217" y="50"/>
                  </a:lnTo>
                  <a:lnTo>
                    <a:pt x="200" y="63"/>
                  </a:lnTo>
                  <a:lnTo>
                    <a:pt x="183" y="76"/>
                  </a:lnTo>
                  <a:lnTo>
                    <a:pt x="181" y="78"/>
                  </a:lnTo>
                  <a:lnTo>
                    <a:pt x="179" y="78"/>
                  </a:lnTo>
                  <a:lnTo>
                    <a:pt x="177" y="80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5" y="76"/>
                  </a:lnTo>
                  <a:lnTo>
                    <a:pt x="175" y="76"/>
                  </a:lnTo>
                  <a:lnTo>
                    <a:pt x="177" y="73"/>
                  </a:lnTo>
                  <a:lnTo>
                    <a:pt x="177" y="71"/>
                  </a:lnTo>
                  <a:lnTo>
                    <a:pt x="179" y="65"/>
                  </a:lnTo>
                  <a:lnTo>
                    <a:pt x="179" y="61"/>
                  </a:lnTo>
                  <a:lnTo>
                    <a:pt x="181" y="57"/>
                  </a:lnTo>
                  <a:lnTo>
                    <a:pt x="183" y="55"/>
                  </a:lnTo>
                  <a:lnTo>
                    <a:pt x="183" y="53"/>
                  </a:lnTo>
                  <a:lnTo>
                    <a:pt x="185" y="52"/>
                  </a:lnTo>
                  <a:lnTo>
                    <a:pt x="185" y="50"/>
                  </a:lnTo>
                  <a:lnTo>
                    <a:pt x="191" y="46"/>
                  </a:lnTo>
                  <a:lnTo>
                    <a:pt x="193" y="42"/>
                  </a:lnTo>
                  <a:lnTo>
                    <a:pt x="196" y="38"/>
                  </a:lnTo>
                  <a:lnTo>
                    <a:pt x="198" y="34"/>
                  </a:lnTo>
                  <a:lnTo>
                    <a:pt x="204" y="31"/>
                  </a:lnTo>
                  <a:lnTo>
                    <a:pt x="206" y="25"/>
                  </a:lnTo>
                  <a:lnTo>
                    <a:pt x="210" y="21"/>
                  </a:lnTo>
                  <a:lnTo>
                    <a:pt x="212" y="17"/>
                  </a:lnTo>
                  <a:lnTo>
                    <a:pt x="212" y="15"/>
                  </a:lnTo>
                  <a:lnTo>
                    <a:pt x="212" y="11"/>
                  </a:lnTo>
                  <a:lnTo>
                    <a:pt x="210" y="11"/>
                  </a:lnTo>
                  <a:lnTo>
                    <a:pt x="210" y="10"/>
                  </a:lnTo>
                  <a:lnTo>
                    <a:pt x="206" y="10"/>
                  </a:lnTo>
                  <a:lnTo>
                    <a:pt x="204" y="8"/>
                  </a:lnTo>
                  <a:lnTo>
                    <a:pt x="202" y="8"/>
                  </a:lnTo>
                  <a:lnTo>
                    <a:pt x="202" y="6"/>
                  </a:lnTo>
                  <a:lnTo>
                    <a:pt x="202" y="6"/>
                  </a:lnTo>
                  <a:lnTo>
                    <a:pt x="202" y="4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4" y="2"/>
                  </a:lnTo>
                  <a:lnTo>
                    <a:pt x="221" y="2"/>
                  </a:lnTo>
                  <a:lnTo>
                    <a:pt x="229" y="2"/>
                  </a:lnTo>
                  <a:lnTo>
                    <a:pt x="235" y="4"/>
                  </a:lnTo>
                  <a:lnTo>
                    <a:pt x="240" y="8"/>
                  </a:lnTo>
                  <a:lnTo>
                    <a:pt x="244" y="11"/>
                  </a:lnTo>
                  <a:lnTo>
                    <a:pt x="248" y="13"/>
                  </a:lnTo>
                  <a:lnTo>
                    <a:pt x="250" y="17"/>
                  </a:lnTo>
                  <a:lnTo>
                    <a:pt x="252" y="21"/>
                  </a:lnTo>
                  <a:lnTo>
                    <a:pt x="252" y="21"/>
                  </a:lnTo>
                  <a:close/>
                  <a:moveTo>
                    <a:pt x="252" y="92"/>
                  </a:moveTo>
                  <a:lnTo>
                    <a:pt x="252" y="94"/>
                  </a:lnTo>
                  <a:lnTo>
                    <a:pt x="250" y="96"/>
                  </a:lnTo>
                  <a:lnTo>
                    <a:pt x="248" y="97"/>
                  </a:lnTo>
                  <a:lnTo>
                    <a:pt x="246" y="99"/>
                  </a:lnTo>
                  <a:lnTo>
                    <a:pt x="242" y="103"/>
                  </a:lnTo>
                  <a:lnTo>
                    <a:pt x="238" y="109"/>
                  </a:lnTo>
                  <a:lnTo>
                    <a:pt x="233" y="115"/>
                  </a:lnTo>
                  <a:lnTo>
                    <a:pt x="227" y="118"/>
                  </a:lnTo>
                  <a:lnTo>
                    <a:pt x="221" y="124"/>
                  </a:lnTo>
                  <a:lnTo>
                    <a:pt x="217" y="128"/>
                  </a:lnTo>
                  <a:lnTo>
                    <a:pt x="206" y="134"/>
                  </a:lnTo>
                  <a:lnTo>
                    <a:pt x="196" y="141"/>
                  </a:lnTo>
                  <a:lnTo>
                    <a:pt x="191" y="143"/>
                  </a:lnTo>
                  <a:lnTo>
                    <a:pt x="189" y="145"/>
                  </a:lnTo>
                  <a:lnTo>
                    <a:pt x="185" y="147"/>
                  </a:lnTo>
                  <a:lnTo>
                    <a:pt x="185" y="147"/>
                  </a:lnTo>
                  <a:lnTo>
                    <a:pt x="183" y="147"/>
                  </a:lnTo>
                  <a:lnTo>
                    <a:pt x="183" y="145"/>
                  </a:lnTo>
                  <a:lnTo>
                    <a:pt x="183" y="143"/>
                  </a:lnTo>
                  <a:lnTo>
                    <a:pt x="185" y="139"/>
                  </a:lnTo>
                  <a:lnTo>
                    <a:pt x="185" y="136"/>
                  </a:lnTo>
                  <a:lnTo>
                    <a:pt x="187" y="132"/>
                  </a:lnTo>
                  <a:lnTo>
                    <a:pt x="189" y="126"/>
                  </a:lnTo>
                  <a:lnTo>
                    <a:pt x="193" y="120"/>
                  </a:lnTo>
                  <a:lnTo>
                    <a:pt x="195" y="117"/>
                  </a:lnTo>
                  <a:lnTo>
                    <a:pt x="198" y="113"/>
                  </a:lnTo>
                  <a:lnTo>
                    <a:pt x="202" y="111"/>
                  </a:lnTo>
                  <a:lnTo>
                    <a:pt x="206" y="107"/>
                  </a:lnTo>
                  <a:lnTo>
                    <a:pt x="210" y="101"/>
                  </a:lnTo>
                  <a:lnTo>
                    <a:pt x="216" y="96"/>
                  </a:lnTo>
                  <a:lnTo>
                    <a:pt x="219" y="90"/>
                  </a:lnTo>
                  <a:lnTo>
                    <a:pt x="221" y="86"/>
                  </a:lnTo>
                  <a:lnTo>
                    <a:pt x="223" y="82"/>
                  </a:lnTo>
                  <a:lnTo>
                    <a:pt x="225" y="78"/>
                  </a:lnTo>
                  <a:lnTo>
                    <a:pt x="223" y="74"/>
                  </a:lnTo>
                  <a:lnTo>
                    <a:pt x="223" y="73"/>
                  </a:lnTo>
                  <a:lnTo>
                    <a:pt x="221" y="69"/>
                  </a:lnTo>
                  <a:lnTo>
                    <a:pt x="219" y="67"/>
                  </a:lnTo>
                  <a:lnTo>
                    <a:pt x="217" y="65"/>
                  </a:lnTo>
                  <a:lnTo>
                    <a:pt x="216" y="63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19" y="61"/>
                  </a:lnTo>
                  <a:lnTo>
                    <a:pt x="223" y="63"/>
                  </a:lnTo>
                  <a:lnTo>
                    <a:pt x="229" y="67"/>
                  </a:lnTo>
                  <a:lnTo>
                    <a:pt x="237" y="71"/>
                  </a:lnTo>
                  <a:lnTo>
                    <a:pt x="238" y="74"/>
                  </a:lnTo>
                  <a:lnTo>
                    <a:pt x="242" y="76"/>
                  </a:lnTo>
                  <a:lnTo>
                    <a:pt x="246" y="78"/>
                  </a:lnTo>
                  <a:lnTo>
                    <a:pt x="248" y="82"/>
                  </a:lnTo>
                  <a:lnTo>
                    <a:pt x="250" y="84"/>
                  </a:lnTo>
                  <a:lnTo>
                    <a:pt x="250" y="86"/>
                  </a:lnTo>
                  <a:lnTo>
                    <a:pt x="252" y="88"/>
                  </a:lnTo>
                  <a:lnTo>
                    <a:pt x="252" y="92"/>
                  </a:lnTo>
                  <a:lnTo>
                    <a:pt x="252" y="92"/>
                  </a:lnTo>
                  <a:close/>
                  <a:moveTo>
                    <a:pt x="238" y="118"/>
                  </a:moveTo>
                  <a:lnTo>
                    <a:pt x="240" y="118"/>
                  </a:lnTo>
                  <a:lnTo>
                    <a:pt x="242" y="120"/>
                  </a:lnTo>
                  <a:lnTo>
                    <a:pt x="246" y="120"/>
                  </a:lnTo>
                  <a:lnTo>
                    <a:pt x="250" y="122"/>
                  </a:lnTo>
                  <a:lnTo>
                    <a:pt x="256" y="128"/>
                  </a:lnTo>
                  <a:lnTo>
                    <a:pt x="261" y="134"/>
                  </a:lnTo>
                  <a:lnTo>
                    <a:pt x="263" y="136"/>
                  </a:lnTo>
                  <a:lnTo>
                    <a:pt x="265" y="138"/>
                  </a:lnTo>
                  <a:lnTo>
                    <a:pt x="267" y="141"/>
                  </a:lnTo>
                  <a:lnTo>
                    <a:pt x="267" y="143"/>
                  </a:lnTo>
                  <a:lnTo>
                    <a:pt x="267" y="147"/>
                  </a:lnTo>
                  <a:lnTo>
                    <a:pt x="265" y="153"/>
                  </a:lnTo>
                  <a:lnTo>
                    <a:pt x="263" y="155"/>
                  </a:lnTo>
                  <a:lnTo>
                    <a:pt x="259" y="159"/>
                  </a:lnTo>
                  <a:lnTo>
                    <a:pt x="254" y="164"/>
                  </a:lnTo>
                  <a:lnTo>
                    <a:pt x="248" y="172"/>
                  </a:lnTo>
                  <a:lnTo>
                    <a:pt x="240" y="180"/>
                  </a:lnTo>
                  <a:lnTo>
                    <a:pt x="233" y="187"/>
                  </a:lnTo>
                  <a:lnTo>
                    <a:pt x="217" y="201"/>
                  </a:lnTo>
                  <a:lnTo>
                    <a:pt x="210" y="206"/>
                  </a:lnTo>
                  <a:lnTo>
                    <a:pt x="204" y="212"/>
                  </a:lnTo>
                  <a:lnTo>
                    <a:pt x="196" y="218"/>
                  </a:lnTo>
                  <a:lnTo>
                    <a:pt x="191" y="222"/>
                  </a:lnTo>
                  <a:lnTo>
                    <a:pt x="177" y="229"/>
                  </a:lnTo>
                  <a:lnTo>
                    <a:pt x="172" y="233"/>
                  </a:lnTo>
                  <a:lnTo>
                    <a:pt x="166" y="235"/>
                  </a:lnTo>
                  <a:lnTo>
                    <a:pt x="162" y="237"/>
                  </a:lnTo>
                  <a:lnTo>
                    <a:pt x="156" y="237"/>
                  </a:lnTo>
                  <a:lnTo>
                    <a:pt x="154" y="239"/>
                  </a:lnTo>
                  <a:lnTo>
                    <a:pt x="151" y="239"/>
                  </a:lnTo>
                  <a:lnTo>
                    <a:pt x="149" y="239"/>
                  </a:lnTo>
                  <a:lnTo>
                    <a:pt x="147" y="237"/>
                  </a:lnTo>
                  <a:lnTo>
                    <a:pt x="145" y="237"/>
                  </a:lnTo>
                  <a:lnTo>
                    <a:pt x="145" y="235"/>
                  </a:lnTo>
                  <a:lnTo>
                    <a:pt x="145" y="233"/>
                  </a:lnTo>
                  <a:lnTo>
                    <a:pt x="145" y="231"/>
                  </a:lnTo>
                  <a:lnTo>
                    <a:pt x="147" y="231"/>
                  </a:lnTo>
                  <a:lnTo>
                    <a:pt x="151" y="229"/>
                  </a:lnTo>
                  <a:lnTo>
                    <a:pt x="156" y="224"/>
                  </a:lnTo>
                  <a:lnTo>
                    <a:pt x="164" y="220"/>
                  </a:lnTo>
                  <a:lnTo>
                    <a:pt x="172" y="212"/>
                  </a:lnTo>
                  <a:lnTo>
                    <a:pt x="181" y="204"/>
                  </a:lnTo>
                  <a:lnTo>
                    <a:pt x="189" y="197"/>
                  </a:lnTo>
                  <a:lnTo>
                    <a:pt x="198" y="187"/>
                  </a:lnTo>
                  <a:lnTo>
                    <a:pt x="208" y="178"/>
                  </a:lnTo>
                  <a:lnTo>
                    <a:pt x="217" y="168"/>
                  </a:lnTo>
                  <a:lnTo>
                    <a:pt x="221" y="162"/>
                  </a:lnTo>
                  <a:lnTo>
                    <a:pt x="225" y="157"/>
                  </a:lnTo>
                  <a:lnTo>
                    <a:pt x="229" y="153"/>
                  </a:lnTo>
                  <a:lnTo>
                    <a:pt x="231" y="149"/>
                  </a:lnTo>
                  <a:lnTo>
                    <a:pt x="233" y="147"/>
                  </a:lnTo>
                  <a:lnTo>
                    <a:pt x="237" y="143"/>
                  </a:lnTo>
                  <a:lnTo>
                    <a:pt x="237" y="141"/>
                  </a:lnTo>
                  <a:lnTo>
                    <a:pt x="238" y="141"/>
                  </a:lnTo>
                  <a:lnTo>
                    <a:pt x="240" y="136"/>
                  </a:lnTo>
                  <a:lnTo>
                    <a:pt x="242" y="132"/>
                  </a:lnTo>
                  <a:lnTo>
                    <a:pt x="240" y="128"/>
                  </a:lnTo>
                  <a:lnTo>
                    <a:pt x="240" y="124"/>
                  </a:lnTo>
                  <a:lnTo>
                    <a:pt x="238" y="122"/>
                  </a:lnTo>
                  <a:lnTo>
                    <a:pt x="238" y="120"/>
                  </a:lnTo>
                  <a:lnTo>
                    <a:pt x="238" y="118"/>
                  </a:lnTo>
                  <a:lnTo>
                    <a:pt x="238" y="118"/>
                  </a:lnTo>
                  <a:lnTo>
                    <a:pt x="238" y="118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160"/>
            <p:cNvSpPr/>
            <p:nvPr/>
          </p:nvSpPr>
          <p:spPr>
            <a:xfrm flipV="1">
              <a:off x="10696320" y="10836360"/>
              <a:ext cx="363600" cy="488880"/>
            </a:xfrm>
            <a:custGeom>
              <a:avLst/>
              <a:gdLst/>
              <a:ahLst/>
              <a:rect l="l" t="t" r="r" b="b"/>
              <a:pathLst>
                <a:path w="229" h="308">
                  <a:moveTo>
                    <a:pt x="143" y="216"/>
                  </a:moveTo>
                  <a:lnTo>
                    <a:pt x="152" y="216"/>
                  </a:lnTo>
                  <a:lnTo>
                    <a:pt x="164" y="218"/>
                  </a:lnTo>
                  <a:lnTo>
                    <a:pt x="173" y="220"/>
                  </a:lnTo>
                  <a:lnTo>
                    <a:pt x="187" y="222"/>
                  </a:lnTo>
                  <a:lnTo>
                    <a:pt x="192" y="224"/>
                  </a:lnTo>
                  <a:lnTo>
                    <a:pt x="196" y="224"/>
                  </a:lnTo>
                  <a:lnTo>
                    <a:pt x="202" y="225"/>
                  </a:lnTo>
                  <a:lnTo>
                    <a:pt x="206" y="227"/>
                  </a:lnTo>
                  <a:lnTo>
                    <a:pt x="210" y="229"/>
                  </a:lnTo>
                  <a:lnTo>
                    <a:pt x="213" y="231"/>
                  </a:lnTo>
                  <a:lnTo>
                    <a:pt x="217" y="233"/>
                  </a:lnTo>
                  <a:lnTo>
                    <a:pt x="219" y="237"/>
                  </a:lnTo>
                  <a:lnTo>
                    <a:pt x="223" y="241"/>
                  </a:lnTo>
                  <a:lnTo>
                    <a:pt x="225" y="245"/>
                  </a:lnTo>
                  <a:lnTo>
                    <a:pt x="227" y="248"/>
                  </a:lnTo>
                  <a:lnTo>
                    <a:pt x="229" y="250"/>
                  </a:lnTo>
                  <a:lnTo>
                    <a:pt x="227" y="254"/>
                  </a:lnTo>
                  <a:lnTo>
                    <a:pt x="227" y="256"/>
                  </a:lnTo>
                  <a:lnTo>
                    <a:pt x="225" y="258"/>
                  </a:lnTo>
                  <a:lnTo>
                    <a:pt x="221" y="258"/>
                  </a:lnTo>
                  <a:lnTo>
                    <a:pt x="221" y="258"/>
                  </a:lnTo>
                  <a:lnTo>
                    <a:pt x="219" y="258"/>
                  </a:lnTo>
                  <a:lnTo>
                    <a:pt x="217" y="256"/>
                  </a:lnTo>
                  <a:lnTo>
                    <a:pt x="215" y="256"/>
                  </a:lnTo>
                  <a:lnTo>
                    <a:pt x="210" y="254"/>
                  </a:lnTo>
                  <a:lnTo>
                    <a:pt x="202" y="252"/>
                  </a:lnTo>
                  <a:lnTo>
                    <a:pt x="194" y="250"/>
                  </a:lnTo>
                  <a:lnTo>
                    <a:pt x="185" y="246"/>
                  </a:lnTo>
                  <a:lnTo>
                    <a:pt x="168" y="243"/>
                  </a:lnTo>
                  <a:lnTo>
                    <a:pt x="160" y="241"/>
                  </a:lnTo>
                  <a:lnTo>
                    <a:pt x="154" y="241"/>
                  </a:lnTo>
                  <a:lnTo>
                    <a:pt x="150" y="239"/>
                  </a:lnTo>
                  <a:lnTo>
                    <a:pt x="147" y="239"/>
                  </a:lnTo>
                  <a:lnTo>
                    <a:pt x="139" y="239"/>
                  </a:lnTo>
                  <a:lnTo>
                    <a:pt x="133" y="241"/>
                  </a:lnTo>
                  <a:lnTo>
                    <a:pt x="131" y="248"/>
                  </a:lnTo>
                  <a:lnTo>
                    <a:pt x="129" y="256"/>
                  </a:lnTo>
                  <a:lnTo>
                    <a:pt x="127" y="264"/>
                  </a:lnTo>
                  <a:lnTo>
                    <a:pt x="126" y="271"/>
                  </a:lnTo>
                  <a:lnTo>
                    <a:pt x="124" y="277"/>
                  </a:lnTo>
                  <a:lnTo>
                    <a:pt x="122" y="283"/>
                  </a:lnTo>
                  <a:lnTo>
                    <a:pt x="118" y="287"/>
                  </a:lnTo>
                  <a:lnTo>
                    <a:pt x="116" y="292"/>
                  </a:lnTo>
                  <a:lnTo>
                    <a:pt x="108" y="298"/>
                  </a:lnTo>
                  <a:lnTo>
                    <a:pt x="106" y="302"/>
                  </a:lnTo>
                  <a:lnTo>
                    <a:pt x="103" y="304"/>
                  </a:lnTo>
                  <a:lnTo>
                    <a:pt x="101" y="306"/>
                  </a:lnTo>
                  <a:lnTo>
                    <a:pt x="97" y="306"/>
                  </a:lnTo>
                  <a:lnTo>
                    <a:pt x="95" y="308"/>
                  </a:lnTo>
                  <a:lnTo>
                    <a:pt x="93" y="308"/>
                  </a:lnTo>
                  <a:lnTo>
                    <a:pt x="87" y="308"/>
                  </a:lnTo>
                  <a:lnTo>
                    <a:pt x="85" y="306"/>
                  </a:lnTo>
                  <a:lnTo>
                    <a:pt x="82" y="304"/>
                  </a:lnTo>
                  <a:lnTo>
                    <a:pt x="74" y="300"/>
                  </a:lnTo>
                  <a:lnTo>
                    <a:pt x="68" y="298"/>
                  </a:lnTo>
                  <a:lnTo>
                    <a:pt x="63" y="294"/>
                  </a:lnTo>
                  <a:lnTo>
                    <a:pt x="59" y="292"/>
                  </a:lnTo>
                  <a:lnTo>
                    <a:pt x="55" y="290"/>
                  </a:lnTo>
                  <a:lnTo>
                    <a:pt x="51" y="289"/>
                  </a:lnTo>
                  <a:lnTo>
                    <a:pt x="49" y="287"/>
                  </a:lnTo>
                  <a:lnTo>
                    <a:pt x="47" y="287"/>
                  </a:lnTo>
                  <a:lnTo>
                    <a:pt x="43" y="283"/>
                  </a:lnTo>
                  <a:lnTo>
                    <a:pt x="42" y="281"/>
                  </a:lnTo>
                  <a:lnTo>
                    <a:pt x="38" y="277"/>
                  </a:lnTo>
                  <a:lnTo>
                    <a:pt x="36" y="271"/>
                  </a:lnTo>
                  <a:lnTo>
                    <a:pt x="28" y="262"/>
                  </a:lnTo>
                  <a:lnTo>
                    <a:pt x="24" y="250"/>
                  </a:lnTo>
                  <a:lnTo>
                    <a:pt x="21" y="241"/>
                  </a:lnTo>
                  <a:lnTo>
                    <a:pt x="21" y="235"/>
                  </a:lnTo>
                  <a:lnTo>
                    <a:pt x="21" y="231"/>
                  </a:lnTo>
                  <a:lnTo>
                    <a:pt x="21" y="229"/>
                  </a:lnTo>
                  <a:lnTo>
                    <a:pt x="21" y="227"/>
                  </a:lnTo>
                  <a:lnTo>
                    <a:pt x="21" y="225"/>
                  </a:lnTo>
                  <a:lnTo>
                    <a:pt x="22" y="224"/>
                  </a:lnTo>
                  <a:lnTo>
                    <a:pt x="22" y="220"/>
                  </a:lnTo>
                  <a:lnTo>
                    <a:pt x="22" y="218"/>
                  </a:lnTo>
                  <a:lnTo>
                    <a:pt x="24" y="214"/>
                  </a:lnTo>
                  <a:lnTo>
                    <a:pt x="17" y="216"/>
                  </a:lnTo>
                  <a:lnTo>
                    <a:pt x="9" y="222"/>
                  </a:lnTo>
                  <a:lnTo>
                    <a:pt x="7" y="224"/>
                  </a:lnTo>
                  <a:lnTo>
                    <a:pt x="3" y="225"/>
                  </a:lnTo>
                  <a:lnTo>
                    <a:pt x="1" y="227"/>
                  </a:lnTo>
                  <a:lnTo>
                    <a:pt x="1" y="227"/>
                  </a:lnTo>
                  <a:lnTo>
                    <a:pt x="0" y="227"/>
                  </a:lnTo>
                  <a:lnTo>
                    <a:pt x="0" y="225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1" y="216"/>
                  </a:lnTo>
                  <a:lnTo>
                    <a:pt x="1" y="212"/>
                  </a:lnTo>
                  <a:lnTo>
                    <a:pt x="3" y="206"/>
                  </a:lnTo>
                  <a:lnTo>
                    <a:pt x="5" y="203"/>
                  </a:lnTo>
                  <a:lnTo>
                    <a:pt x="7" y="201"/>
                  </a:lnTo>
                  <a:lnTo>
                    <a:pt x="7" y="199"/>
                  </a:lnTo>
                  <a:lnTo>
                    <a:pt x="11" y="197"/>
                  </a:lnTo>
                  <a:lnTo>
                    <a:pt x="15" y="195"/>
                  </a:lnTo>
                  <a:lnTo>
                    <a:pt x="17" y="195"/>
                  </a:lnTo>
                  <a:lnTo>
                    <a:pt x="21" y="193"/>
                  </a:lnTo>
                  <a:lnTo>
                    <a:pt x="26" y="189"/>
                  </a:lnTo>
                  <a:lnTo>
                    <a:pt x="34" y="185"/>
                  </a:lnTo>
                  <a:lnTo>
                    <a:pt x="42" y="180"/>
                  </a:lnTo>
                  <a:lnTo>
                    <a:pt x="49" y="174"/>
                  </a:lnTo>
                  <a:lnTo>
                    <a:pt x="59" y="168"/>
                  </a:lnTo>
                  <a:lnTo>
                    <a:pt x="68" y="160"/>
                  </a:lnTo>
                  <a:lnTo>
                    <a:pt x="63" y="162"/>
                  </a:lnTo>
                  <a:lnTo>
                    <a:pt x="57" y="162"/>
                  </a:lnTo>
                  <a:lnTo>
                    <a:pt x="53" y="162"/>
                  </a:lnTo>
                  <a:lnTo>
                    <a:pt x="49" y="160"/>
                  </a:lnTo>
                  <a:lnTo>
                    <a:pt x="49" y="164"/>
                  </a:lnTo>
                  <a:lnTo>
                    <a:pt x="47" y="166"/>
                  </a:lnTo>
                  <a:lnTo>
                    <a:pt x="45" y="168"/>
                  </a:lnTo>
                  <a:lnTo>
                    <a:pt x="45" y="170"/>
                  </a:lnTo>
                  <a:lnTo>
                    <a:pt x="43" y="168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8" y="159"/>
                  </a:lnTo>
                  <a:lnTo>
                    <a:pt x="36" y="153"/>
                  </a:lnTo>
                  <a:lnTo>
                    <a:pt x="34" y="149"/>
                  </a:lnTo>
                  <a:lnTo>
                    <a:pt x="32" y="145"/>
                  </a:lnTo>
                  <a:lnTo>
                    <a:pt x="32" y="143"/>
                  </a:lnTo>
                  <a:lnTo>
                    <a:pt x="32" y="139"/>
                  </a:lnTo>
                  <a:lnTo>
                    <a:pt x="32" y="139"/>
                  </a:lnTo>
                  <a:lnTo>
                    <a:pt x="34" y="139"/>
                  </a:lnTo>
                  <a:lnTo>
                    <a:pt x="34" y="134"/>
                  </a:lnTo>
                  <a:lnTo>
                    <a:pt x="36" y="130"/>
                  </a:lnTo>
                  <a:lnTo>
                    <a:pt x="36" y="124"/>
                  </a:lnTo>
                  <a:lnTo>
                    <a:pt x="36" y="118"/>
                  </a:lnTo>
                  <a:lnTo>
                    <a:pt x="36" y="115"/>
                  </a:lnTo>
                  <a:lnTo>
                    <a:pt x="34" y="113"/>
                  </a:lnTo>
                  <a:lnTo>
                    <a:pt x="34" y="111"/>
                  </a:lnTo>
                  <a:lnTo>
                    <a:pt x="34" y="107"/>
                  </a:lnTo>
                  <a:lnTo>
                    <a:pt x="36" y="105"/>
                  </a:lnTo>
                  <a:lnTo>
                    <a:pt x="36" y="103"/>
                  </a:lnTo>
                  <a:lnTo>
                    <a:pt x="38" y="103"/>
                  </a:lnTo>
                  <a:lnTo>
                    <a:pt x="40" y="105"/>
                  </a:lnTo>
                  <a:lnTo>
                    <a:pt x="43" y="107"/>
                  </a:lnTo>
                  <a:lnTo>
                    <a:pt x="45" y="109"/>
                  </a:lnTo>
                  <a:lnTo>
                    <a:pt x="45" y="111"/>
                  </a:lnTo>
                  <a:lnTo>
                    <a:pt x="47" y="113"/>
                  </a:lnTo>
                  <a:lnTo>
                    <a:pt x="49" y="116"/>
                  </a:lnTo>
                  <a:lnTo>
                    <a:pt x="51" y="115"/>
                  </a:lnTo>
                  <a:lnTo>
                    <a:pt x="55" y="113"/>
                  </a:lnTo>
                  <a:lnTo>
                    <a:pt x="61" y="109"/>
                  </a:lnTo>
                  <a:lnTo>
                    <a:pt x="66" y="105"/>
                  </a:lnTo>
                  <a:lnTo>
                    <a:pt x="63" y="105"/>
                  </a:lnTo>
                  <a:lnTo>
                    <a:pt x="59" y="105"/>
                  </a:lnTo>
                  <a:lnTo>
                    <a:pt x="57" y="105"/>
                  </a:lnTo>
                  <a:lnTo>
                    <a:pt x="55" y="105"/>
                  </a:lnTo>
                  <a:lnTo>
                    <a:pt x="55" y="103"/>
                  </a:lnTo>
                  <a:lnTo>
                    <a:pt x="55" y="101"/>
                  </a:lnTo>
                  <a:lnTo>
                    <a:pt x="59" y="99"/>
                  </a:lnTo>
                  <a:lnTo>
                    <a:pt x="63" y="95"/>
                  </a:lnTo>
                  <a:lnTo>
                    <a:pt x="70" y="94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97" y="76"/>
                  </a:lnTo>
                  <a:lnTo>
                    <a:pt x="103" y="71"/>
                  </a:lnTo>
                  <a:lnTo>
                    <a:pt x="106" y="67"/>
                  </a:lnTo>
                  <a:lnTo>
                    <a:pt x="110" y="61"/>
                  </a:lnTo>
                  <a:lnTo>
                    <a:pt x="114" y="59"/>
                  </a:lnTo>
                  <a:lnTo>
                    <a:pt x="116" y="55"/>
                  </a:lnTo>
                  <a:lnTo>
                    <a:pt x="118" y="52"/>
                  </a:lnTo>
                  <a:lnTo>
                    <a:pt x="118" y="50"/>
                  </a:lnTo>
                  <a:lnTo>
                    <a:pt x="118" y="48"/>
                  </a:lnTo>
                  <a:lnTo>
                    <a:pt x="118" y="48"/>
                  </a:lnTo>
                  <a:lnTo>
                    <a:pt x="116" y="46"/>
                  </a:lnTo>
                  <a:lnTo>
                    <a:pt x="97" y="57"/>
                  </a:lnTo>
                  <a:lnTo>
                    <a:pt x="76" y="69"/>
                  </a:lnTo>
                  <a:lnTo>
                    <a:pt x="70" y="73"/>
                  </a:lnTo>
                  <a:lnTo>
                    <a:pt x="66" y="74"/>
                  </a:lnTo>
                  <a:lnTo>
                    <a:pt x="63" y="76"/>
                  </a:lnTo>
                  <a:lnTo>
                    <a:pt x="59" y="78"/>
                  </a:lnTo>
                  <a:lnTo>
                    <a:pt x="57" y="78"/>
                  </a:lnTo>
                  <a:lnTo>
                    <a:pt x="55" y="80"/>
                  </a:lnTo>
                  <a:lnTo>
                    <a:pt x="53" y="80"/>
                  </a:lnTo>
                  <a:lnTo>
                    <a:pt x="53" y="82"/>
                  </a:lnTo>
                  <a:lnTo>
                    <a:pt x="51" y="82"/>
                  </a:lnTo>
                  <a:lnTo>
                    <a:pt x="49" y="82"/>
                  </a:lnTo>
                  <a:lnTo>
                    <a:pt x="47" y="82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5" y="76"/>
                  </a:lnTo>
                  <a:lnTo>
                    <a:pt x="45" y="67"/>
                  </a:lnTo>
                  <a:lnTo>
                    <a:pt x="47" y="57"/>
                  </a:lnTo>
                  <a:lnTo>
                    <a:pt x="47" y="53"/>
                  </a:lnTo>
                  <a:lnTo>
                    <a:pt x="47" y="52"/>
                  </a:lnTo>
                  <a:lnTo>
                    <a:pt x="49" y="50"/>
                  </a:lnTo>
                  <a:lnTo>
                    <a:pt x="51" y="48"/>
                  </a:lnTo>
                  <a:lnTo>
                    <a:pt x="51" y="46"/>
                  </a:lnTo>
                  <a:lnTo>
                    <a:pt x="53" y="46"/>
                  </a:lnTo>
                  <a:lnTo>
                    <a:pt x="55" y="46"/>
                  </a:lnTo>
                  <a:lnTo>
                    <a:pt x="57" y="46"/>
                  </a:lnTo>
                  <a:lnTo>
                    <a:pt x="61" y="44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38"/>
                  </a:lnTo>
                  <a:lnTo>
                    <a:pt x="72" y="36"/>
                  </a:lnTo>
                  <a:lnTo>
                    <a:pt x="76" y="32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5" y="23"/>
                  </a:lnTo>
                  <a:lnTo>
                    <a:pt x="87" y="19"/>
                  </a:lnTo>
                  <a:lnTo>
                    <a:pt x="89" y="17"/>
                  </a:lnTo>
                  <a:lnTo>
                    <a:pt x="93" y="13"/>
                  </a:lnTo>
                  <a:lnTo>
                    <a:pt x="93" y="9"/>
                  </a:lnTo>
                  <a:lnTo>
                    <a:pt x="93" y="8"/>
                  </a:lnTo>
                  <a:lnTo>
                    <a:pt x="91" y="6"/>
                  </a:lnTo>
                  <a:lnTo>
                    <a:pt x="89" y="6"/>
                  </a:lnTo>
                  <a:lnTo>
                    <a:pt x="87" y="4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6" y="2"/>
                  </a:lnTo>
                  <a:lnTo>
                    <a:pt x="112" y="4"/>
                  </a:lnTo>
                  <a:lnTo>
                    <a:pt x="116" y="8"/>
                  </a:lnTo>
                  <a:lnTo>
                    <a:pt x="120" y="13"/>
                  </a:lnTo>
                  <a:lnTo>
                    <a:pt x="124" y="17"/>
                  </a:lnTo>
                  <a:lnTo>
                    <a:pt x="126" y="21"/>
                  </a:lnTo>
                  <a:lnTo>
                    <a:pt x="126" y="27"/>
                  </a:lnTo>
                  <a:lnTo>
                    <a:pt x="126" y="29"/>
                  </a:lnTo>
                  <a:lnTo>
                    <a:pt x="126" y="32"/>
                  </a:lnTo>
                  <a:lnTo>
                    <a:pt x="129" y="32"/>
                  </a:lnTo>
                  <a:lnTo>
                    <a:pt x="131" y="34"/>
                  </a:lnTo>
                  <a:lnTo>
                    <a:pt x="135" y="36"/>
                  </a:lnTo>
                  <a:lnTo>
                    <a:pt x="137" y="40"/>
                  </a:lnTo>
                  <a:lnTo>
                    <a:pt x="139" y="44"/>
                  </a:lnTo>
                  <a:lnTo>
                    <a:pt x="141" y="48"/>
                  </a:lnTo>
                  <a:lnTo>
                    <a:pt x="141" y="52"/>
                  </a:lnTo>
                  <a:lnTo>
                    <a:pt x="143" y="53"/>
                  </a:lnTo>
                  <a:lnTo>
                    <a:pt x="141" y="57"/>
                  </a:lnTo>
                  <a:lnTo>
                    <a:pt x="141" y="59"/>
                  </a:lnTo>
                  <a:lnTo>
                    <a:pt x="139" y="67"/>
                  </a:lnTo>
                  <a:lnTo>
                    <a:pt x="135" y="69"/>
                  </a:lnTo>
                  <a:lnTo>
                    <a:pt x="133" y="73"/>
                  </a:lnTo>
                  <a:lnTo>
                    <a:pt x="127" y="76"/>
                  </a:lnTo>
                  <a:lnTo>
                    <a:pt x="126" y="78"/>
                  </a:lnTo>
                  <a:lnTo>
                    <a:pt x="124" y="80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35" y="80"/>
                  </a:lnTo>
                  <a:lnTo>
                    <a:pt x="143" y="80"/>
                  </a:lnTo>
                  <a:lnTo>
                    <a:pt x="148" y="80"/>
                  </a:lnTo>
                  <a:lnTo>
                    <a:pt x="154" y="80"/>
                  </a:lnTo>
                  <a:lnTo>
                    <a:pt x="160" y="82"/>
                  </a:lnTo>
                  <a:lnTo>
                    <a:pt x="168" y="84"/>
                  </a:lnTo>
                  <a:lnTo>
                    <a:pt x="175" y="88"/>
                  </a:lnTo>
                  <a:lnTo>
                    <a:pt x="181" y="92"/>
                  </a:lnTo>
                  <a:lnTo>
                    <a:pt x="185" y="97"/>
                  </a:lnTo>
                  <a:lnTo>
                    <a:pt x="187" y="99"/>
                  </a:lnTo>
                  <a:lnTo>
                    <a:pt x="189" y="103"/>
                  </a:lnTo>
                  <a:lnTo>
                    <a:pt x="189" y="105"/>
                  </a:lnTo>
                  <a:lnTo>
                    <a:pt x="190" y="109"/>
                  </a:lnTo>
                  <a:lnTo>
                    <a:pt x="189" y="111"/>
                  </a:lnTo>
                  <a:lnTo>
                    <a:pt x="189" y="111"/>
                  </a:lnTo>
                  <a:lnTo>
                    <a:pt x="189" y="115"/>
                  </a:lnTo>
                  <a:lnTo>
                    <a:pt x="187" y="115"/>
                  </a:lnTo>
                  <a:lnTo>
                    <a:pt x="185" y="116"/>
                  </a:lnTo>
                  <a:lnTo>
                    <a:pt x="181" y="116"/>
                  </a:lnTo>
                  <a:lnTo>
                    <a:pt x="179" y="118"/>
                  </a:lnTo>
                  <a:lnTo>
                    <a:pt x="175" y="120"/>
                  </a:lnTo>
                  <a:lnTo>
                    <a:pt x="171" y="124"/>
                  </a:lnTo>
                  <a:lnTo>
                    <a:pt x="162" y="130"/>
                  </a:lnTo>
                  <a:lnTo>
                    <a:pt x="158" y="132"/>
                  </a:lnTo>
                  <a:lnTo>
                    <a:pt x="156" y="134"/>
                  </a:lnTo>
                  <a:lnTo>
                    <a:pt x="152" y="138"/>
                  </a:lnTo>
                  <a:lnTo>
                    <a:pt x="148" y="139"/>
                  </a:lnTo>
                  <a:lnTo>
                    <a:pt x="147" y="139"/>
                  </a:lnTo>
                  <a:lnTo>
                    <a:pt x="143" y="141"/>
                  </a:lnTo>
                  <a:lnTo>
                    <a:pt x="139" y="141"/>
                  </a:lnTo>
                  <a:lnTo>
                    <a:pt x="135" y="143"/>
                  </a:lnTo>
                  <a:lnTo>
                    <a:pt x="129" y="143"/>
                  </a:lnTo>
                  <a:lnTo>
                    <a:pt x="122" y="145"/>
                  </a:lnTo>
                  <a:lnTo>
                    <a:pt x="114" y="153"/>
                  </a:lnTo>
                  <a:lnTo>
                    <a:pt x="106" y="160"/>
                  </a:lnTo>
                  <a:lnTo>
                    <a:pt x="97" y="168"/>
                  </a:lnTo>
                  <a:lnTo>
                    <a:pt x="89" y="174"/>
                  </a:lnTo>
                  <a:lnTo>
                    <a:pt x="95" y="174"/>
                  </a:lnTo>
                  <a:lnTo>
                    <a:pt x="103" y="178"/>
                  </a:lnTo>
                  <a:lnTo>
                    <a:pt x="112" y="181"/>
                  </a:lnTo>
                  <a:lnTo>
                    <a:pt x="116" y="183"/>
                  </a:lnTo>
                  <a:lnTo>
                    <a:pt x="122" y="187"/>
                  </a:lnTo>
                  <a:lnTo>
                    <a:pt x="127" y="181"/>
                  </a:lnTo>
                  <a:lnTo>
                    <a:pt x="131" y="176"/>
                  </a:lnTo>
                  <a:lnTo>
                    <a:pt x="137" y="170"/>
                  </a:lnTo>
                  <a:lnTo>
                    <a:pt x="143" y="166"/>
                  </a:lnTo>
                  <a:lnTo>
                    <a:pt x="147" y="162"/>
                  </a:lnTo>
                  <a:lnTo>
                    <a:pt x="150" y="159"/>
                  </a:lnTo>
                  <a:lnTo>
                    <a:pt x="154" y="157"/>
                  </a:lnTo>
                  <a:lnTo>
                    <a:pt x="158" y="155"/>
                  </a:lnTo>
                  <a:lnTo>
                    <a:pt x="160" y="151"/>
                  </a:lnTo>
                  <a:lnTo>
                    <a:pt x="162" y="151"/>
                  </a:lnTo>
                  <a:lnTo>
                    <a:pt x="164" y="149"/>
                  </a:lnTo>
                  <a:lnTo>
                    <a:pt x="166" y="149"/>
                  </a:lnTo>
                  <a:lnTo>
                    <a:pt x="169" y="149"/>
                  </a:lnTo>
                  <a:lnTo>
                    <a:pt x="173" y="151"/>
                  </a:lnTo>
                  <a:lnTo>
                    <a:pt x="175" y="151"/>
                  </a:lnTo>
                  <a:lnTo>
                    <a:pt x="177" y="153"/>
                  </a:lnTo>
                  <a:lnTo>
                    <a:pt x="179" y="155"/>
                  </a:lnTo>
                  <a:lnTo>
                    <a:pt x="179" y="157"/>
                  </a:lnTo>
                  <a:lnTo>
                    <a:pt x="179" y="159"/>
                  </a:lnTo>
                  <a:lnTo>
                    <a:pt x="179" y="162"/>
                  </a:lnTo>
                  <a:lnTo>
                    <a:pt x="179" y="166"/>
                  </a:lnTo>
                  <a:lnTo>
                    <a:pt x="179" y="170"/>
                  </a:lnTo>
                  <a:lnTo>
                    <a:pt x="177" y="174"/>
                  </a:lnTo>
                  <a:lnTo>
                    <a:pt x="175" y="176"/>
                  </a:lnTo>
                  <a:lnTo>
                    <a:pt x="171" y="181"/>
                  </a:lnTo>
                  <a:lnTo>
                    <a:pt x="162" y="191"/>
                  </a:lnTo>
                  <a:lnTo>
                    <a:pt x="154" y="199"/>
                  </a:lnTo>
                  <a:lnTo>
                    <a:pt x="148" y="208"/>
                  </a:lnTo>
                  <a:lnTo>
                    <a:pt x="143" y="216"/>
                  </a:lnTo>
                  <a:lnTo>
                    <a:pt x="143" y="216"/>
                  </a:lnTo>
                  <a:close/>
                  <a:moveTo>
                    <a:pt x="114" y="132"/>
                  </a:moveTo>
                  <a:lnTo>
                    <a:pt x="116" y="132"/>
                  </a:lnTo>
                  <a:lnTo>
                    <a:pt x="120" y="130"/>
                  </a:lnTo>
                  <a:lnTo>
                    <a:pt x="124" y="130"/>
                  </a:lnTo>
                  <a:lnTo>
                    <a:pt x="129" y="128"/>
                  </a:lnTo>
                  <a:lnTo>
                    <a:pt x="133" y="126"/>
                  </a:lnTo>
                  <a:lnTo>
                    <a:pt x="137" y="122"/>
                  </a:lnTo>
                  <a:lnTo>
                    <a:pt x="143" y="116"/>
                  </a:lnTo>
                  <a:lnTo>
                    <a:pt x="148" y="111"/>
                  </a:lnTo>
                  <a:lnTo>
                    <a:pt x="152" y="105"/>
                  </a:lnTo>
                  <a:lnTo>
                    <a:pt x="156" y="101"/>
                  </a:lnTo>
                  <a:lnTo>
                    <a:pt x="158" y="97"/>
                  </a:lnTo>
                  <a:lnTo>
                    <a:pt x="158" y="95"/>
                  </a:lnTo>
                  <a:lnTo>
                    <a:pt x="158" y="94"/>
                  </a:lnTo>
                  <a:lnTo>
                    <a:pt x="158" y="92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2" y="92"/>
                  </a:lnTo>
                  <a:lnTo>
                    <a:pt x="148" y="92"/>
                  </a:lnTo>
                  <a:lnTo>
                    <a:pt x="139" y="97"/>
                  </a:lnTo>
                  <a:lnTo>
                    <a:pt x="127" y="101"/>
                  </a:lnTo>
                  <a:lnTo>
                    <a:pt x="118" y="103"/>
                  </a:lnTo>
                  <a:lnTo>
                    <a:pt x="108" y="107"/>
                  </a:lnTo>
                  <a:lnTo>
                    <a:pt x="112" y="109"/>
                  </a:lnTo>
                  <a:lnTo>
                    <a:pt x="114" y="113"/>
                  </a:lnTo>
                  <a:lnTo>
                    <a:pt x="114" y="115"/>
                  </a:lnTo>
                  <a:lnTo>
                    <a:pt x="114" y="116"/>
                  </a:lnTo>
                  <a:lnTo>
                    <a:pt x="114" y="120"/>
                  </a:lnTo>
                  <a:lnTo>
                    <a:pt x="114" y="122"/>
                  </a:lnTo>
                  <a:lnTo>
                    <a:pt x="114" y="126"/>
                  </a:lnTo>
                  <a:lnTo>
                    <a:pt x="114" y="132"/>
                  </a:lnTo>
                  <a:lnTo>
                    <a:pt x="114" y="132"/>
                  </a:lnTo>
                  <a:close/>
                  <a:moveTo>
                    <a:pt x="78" y="136"/>
                  </a:moveTo>
                  <a:lnTo>
                    <a:pt x="82" y="132"/>
                  </a:lnTo>
                  <a:lnTo>
                    <a:pt x="85" y="128"/>
                  </a:lnTo>
                  <a:lnTo>
                    <a:pt x="87" y="126"/>
                  </a:lnTo>
                  <a:lnTo>
                    <a:pt x="87" y="124"/>
                  </a:lnTo>
                  <a:lnTo>
                    <a:pt x="87" y="122"/>
                  </a:lnTo>
                  <a:lnTo>
                    <a:pt x="85" y="120"/>
                  </a:lnTo>
                  <a:lnTo>
                    <a:pt x="82" y="116"/>
                  </a:lnTo>
                  <a:lnTo>
                    <a:pt x="78" y="116"/>
                  </a:lnTo>
                  <a:lnTo>
                    <a:pt x="68" y="120"/>
                  </a:lnTo>
                  <a:lnTo>
                    <a:pt x="63" y="124"/>
                  </a:lnTo>
                  <a:lnTo>
                    <a:pt x="57" y="128"/>
                  </a:lnTo>
                  <a:lnTo>
                    <a:pt x="55" y="128"/>
                  </a:lnTo>
                  <a:lnTo>
                    <a:pt x="53" y="130"/>
                  </a:lnTo>
                  <a:lnTo>
                    <a:pt x="55" y="134"/>
                  </a:lnTo>
                  <a:lnTo>
                    <a:pt x="55" y="138"/>
                  </a:lnTo>
                  <a:lnTo>
                    <a:pt x="55" y="139"/>
                  </a:lnTo>
                  <a:lnTo>
                    <a:pt x="55" y="143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0" y="138"/>
                  </a:lnTo>
                  <a:lnTo>
                    <a:pt x="78" y="136"/>
                  </a:lnTo>
                  <a:lnTo>
                    <a:pt x="78" y="136"/>
                  </a:lnTo>
                  <a:close/>
                  <a:moveTo>
                    <a:pt x="160" y="159"/>
                  </a:moveTo>
                  <a:lnTo>
                    <a:pt x="154" y="164"/>
                  </a:lnTo>
                  <a:lnTo>
                    <a:pt x="148" y="168"/>
                  </a:lnTo>
                  <a:lnTo>
                    <a:pt x="143" y="174"/>
                  </a:lnTo>
                  <a:lnTo>
                    <a:pt x="139" y="178"/>
                  </a:lnTo>
                  <a:lnTo>
                    <a:pt x="133" y="181"/>
                  </a:lnTo>
                  <a:lnTo>
                    <a:pt x="131" y="185"/>
                  </a:lnTo>
                  <a:lnTo>
                    <a:pt x="127" y="189"/>
                  </a:lnTo>
                  <a:lnTo>
                    <a:pt x="126" y="193"/>
                  </a:lnTo>
                  <a:lnTo>
                    <a:pt x="127" y="197"/>
                  </a:lnTo>
                  <a:lnTo>
                    <a:pt x="127" y="199"/>
                  </a:lnTo>
                  <a:lnTo>
                    <a:pt x="129" y="201"/>
                  </a:lnTo>
                  <a:lnTo>
                    <a:pt x="129" y="203"/>
                  </a:lnTo>
                  <a:lnTo>
                    <a:pt x="133" y="199"/>
                  </a:lnTo>
                  <a:lnTo>
                    <a:pt x="137" y="193"/>
                  </a:lnTo>
                  <a:lnTo>
                    <a:pt x="141" y="187"/>
                  </a:lnTo>
                  <a:lnTo>
                    <a:pt x="147" y="181"/>
                  </a:lnTo>
                  <a:lnTo>
                    <a:pt x="150" y="176"/>
                  </a:lnTo>
                  <a:lnTo>
                    <a:pt x="154" y="170"/>
                  </a:lnTo>
                  <a:lnTo>
                    <a:pt x="156" y="166"/>
                  </a:lnTo>
                  <a:lnTo>
                    <a:pt x="158" y="164"/>
                  </a:lnTo>
                  <a:lnTo>
                    <a:pt x="158" y="162"/>
                  </a:lnTo>
                  <a:lnTo>
                    <a:pt x="160" y="160"/>
                  </a:lnTo>
                  <a:lnTo>
                    <a:pt x="160" y="159"/>
                  </a:lnTo>
                  <a:lnTo>
                    <a:pt x="160" y="159"/>
                  </a:lnTo>
                  <a:close/>
                  <a:moveTo>
                    <a:pt x="106" y="199"/>
                  </a:moveTo>
                  <a:lnTo>
                    <a:pt x="106" y="197"/>
                  </a:lnTo>
                  <a:lnTo>
                    <a:pt x="105" y="195"/>
                  </a:lnTo>
                  <a:lnTo>
                    <a:pt x="101" y="193"/>
                  </a:lnTo>
                  <a:lnTo>
                    <a:pt x="99" y="193"/>
                  </a:lnTo>
                  <a:lnTo>
                    <a:pt x="93" y="191"/>
                  </a:lnTo>
                  <a:lnTo>
                    <a:pt x="89" y="191"/>
                  </a:lnTo>
                  <a:lnTo>
                    <a:pt x="87" y="191"/>
                  </a:lnTo>
                  <a:lnTo>
                    <a:pt x="89" y="195"/>
                  </a:lnTo>
                  <a:lnTo>
                    <a:pt x="89" y="201"/>
                  </a:lnTo>
                  <a:lnTo>
                    <a:pt x="91" y="201"/>
                  </a:lnTo>
                  <a:lnTo>
                    <a:pt x="95" y="201"/>
                  </a:lnTo>
                  <a:lnTo>
                    <a:pt x="99" y="203"/>
                  </a:lnTo>
                  <a:lnTo>
                    <a:pt x="103" y="204"/>
                  </a:lnTo>
                  <a:lnTo>
                    <a:pt x="105" y="203"/>
                  </a:lnTo>
                  <a:lnTo>
                    <a:pt x="106" y="201"/>
                  </a:lnTo>
                  <a:lnTo>
                    <a:pt x="106" y="199"/>
                  </a:lnTo>
                  <a:lnTo>
                    <a:pt x="106" y="199"/>
                  </a:lnTo>
                  <a:lnTo>
                    <a:pt x="106" y="199"/>
                  </a:lnTo>
                  <a:close/>
                  <a:moveTo>
                    <a:pt x="61" y="197"/>
                  </a:moveTo>
                  <a:lnTo>
                    <a:pt x="53" y="201"/>
                  </a:lnTo>
                  <a:lnTo>
                    <a:pt x="45" y="204"/>
                  </a:lnTo>
                  <a:lnTo>
                    <a:pt x="28" y="210"/>
                  </a:lnTo>
                  <a:lnTo>
                    <a:pt x="26" y="214"/>
                  </a:lnTo>
                  <a:lnTo>
                    <a:pt x="24" y="218"/>
                  </a:lnTo>
                  <a:lnTo>
                    <a:pt x="24" y="224"/>
                  </a:lnTo>
                  <a:lnTo>
                    <a:pt x="24" y="227"/>
                  </a:lnTo>
                  <a:lnTo>
                    <a:pt x="24" y="233"/>
                  </a:lnTo>
                  <a:lnTo>
                    <a:pt x="26" y="239"/>
                  </a:lnTo>
                  <a:lnTo>
                    <a:pt x="28" y="245"/>
                  </a:lnTo>
                  <a:lnTo>
                    <a:pt x="30" y="250"/>
                  </a:lnTo>
                  <a:lnTo>
                    <a:pt x="32" y="245"/>
                  </a:lnTo>
                  <a:lnTo>
                    <a:pt x="32" y="239"/>
                  </a:lnTo>
                  <a:lnTo>
                    <a:pt x="34" y="235"/>
                  </a:lnTo>
                  <a:lnTo>
                    <a:pt x="36" y="231"/>
                  </a:lnTo>
                  <a:lnTo>
                    <a:pt x="36" y="229"/>
                  </a:lnTo>
                  <a:lnTo>
                    <a:pt x="38" y="227"/>
                  </a:lnTo>
                  <a:lnTo>
                    <a:pt x="38" y="225"/>
                  </a:lnTo>
                  <a:lnTo>
                    <a:pt x="40" y="225"/>
                  </a:lnTo>
                  <a:lnTo>
                    <a:pt x="40" y="224"/>
                  </a:lnTo>
                  <a:lnTo>
                    <a:pt x="43" y="224"/>
                  </a:lnTo>
                  <a:lnTo>
                    <a:pt x="45" y="224"/>
                  </a:lnTo>
                  <a:lnTo>
                    <a:pt x="47" y="222"/>
                  </a:lnTo>
                  <a:lnTo>
                    <a:pt x="51" y="218"/>
                  </a:lnTo>
                  <a:lnTo>
                    <a:pt x="55" y="212"/>
                  </a:lnTo>
                  <a:lnTo>
                    <a:pt x="59" y="208"/>
                  </a:lnTo>
                  <a:lnTo>
                    <a:pt x="61" y="204"/>
                  </a:lnTo>
                  <a:lnTo>
                    <a:pt x="63" y="201"/>
                  </a:lnTo>
                  <a:lnTo>
                    <a:pt x="63" y="201"/>
                  </a:lnTo>
                  <a:lnTo>
                    <a:pt x="63" y="199"/>
                  </a:lnTo>
                  <a:lnTo>
                    <a:pt x="61" y="197"/>
                  </a:lnTo>
                  <a:lnTo>
                    <a:pt x="61" y="197"/>
                  </a:lnTo>
                  <a:close/>
                  <a:moveTo>
                    <a:pt x="116" y="220"/>
                  </a:moveTo>
                  <a:lnTo>
                    <a:pt x="116" y="214"/>
                  </a:lnTo>
                  <a:lnTo>
                    <a:pt x="116" y="212"/>
                  </a:lnTo>
                  <a:lnTo>
                    <a:pt x="114" y="208"/>
                  </a:lnTo>
                  <a:lnTo>
                    <a:pt x="114" y="206"/>
                  </a:lnTo>
                  <a:lnTo>
                    <a:pt x="110" y="208"/>
                  </a:lnTo>
                  <a:lnTo>
                    <a:pt x="106" y="212"/>
                  </a:lnTo>
                  <a:lnTo>
                    <a:pt x="103" y="222"/>
                  </a:lnTo>
                  <a:lnTo>
                    <a:pt x="101" y="229"/>
                  </a:lnTo>
                  <a:lnTo>
                    <a:pt x="97" y="239"/>
                  </a:lnTo>
                  <a:lnTo>
                    <a:pt x="91" y="248"/>
                  </a:lnTo>
                  <a:lnTo>
                    <a:pt x="87" y="256"/>
                  </a:lnTo>
                  <a:lnTo>
                    <a:pt x="82" y="264"/>
                  </a:lnTo>
                  <a:lnTo>
                    <a:pt x="76" y="269"/>
                  </a:lnTo>
                  <a:lnTo>
                    <a:pt x="72" y="275"/>
                  </a:lnTo>
                  <a:lnTo>
                    <a:pt x="76" y="277"/>
                  </a:lnTo>
                  <a:lnTo>
                    <a:pt x="82" y="277"/>
                  </a:lnTo>
                  <a:lnTo>
                    <a:pt x="91" y="277"/>
                  </a:lnTo>
                  <a:lnTo>
                    <a:pt x="97" y="277"/>
                  </a:lnTo>
                  <a:lnTo>
                    <a:pt x="99" y="277"/>
                  </a:lnTo>
                  <a:lnTo>
                    <a:pt x="101" y="275"/>
                  </a:lnTo>
                  <a:lnTo>
                    <a:pt x="103" y="273"/>
                  </a:lnTo>
                  <a:lnTo>
                    <a:pt x="105" y="269"/>
                  </a:lnTo>
                  <a:lnTo>
                    <a:pt x="106" y="267"/>
                  </a:lnTo>
                  <a:lnTo>
                    <a:pt x="108" y="264"/>
                  </a:lnTo>
                  <a:lnTo>
                    <a:pt x="110" y="258"/>
                  </a:lnTo>
                  <a:lnTo>
                    <a:pt x="112" y="254"/>
                  </a:lnTo>
                  <a:lnTo>
                    <a:pt x="114" y="248"/>
                  </a:lnTo>
                  <a:lnTo>
                    <a:pt x="116" y="241"/>
                  </a:lnTo>
                  <a:lnTo>
                    <a:pt x="108" y="241"/>
                  </a:lnTo>
                  <a:lnTo>
                    <a:pt x="105" y="241"/>
                  </a:lnTo>
                  <a:lnTo>
                    <a:pt x="101" y="239"/>
                  </a:lnTo>
                  <a:lnTo>
                    <a:pt x="101" y="237"/>
                  </a:lnTo>
                  <a:lnTo>
                    <a:pt x="101" y="235"/>
                  </a:lnTo>
                  <a:lnTo>
                    <a:pt x="103" y="233"/>
                  </a:lnTo>
                  <a:lnTo>
                    <a:pt x="105" y="227"/>
                  </a:lnTo>
                  <a:lnTo>
                    <a:pt x="106" y="225"/>
                  </a:lnTo>
                  <a:lnTo>
                    <a:pt x="108" y="224"/>
                  </a:lnTo>
                  <a:lnTo>
                    <a:pt x="112" y="222"/>
                  </a:lnTo>
                  <a:lnTo>
                    <a:pt x="116" y="220"/>
                  </a:lnTo>
                  <a:lnTo>
                    <a:pt x="116" y="220"/>
                  </a:lnTo>
                  <a:close/>
                  <a:moveTo>
                    <a:pt x="53" y="267"/>
                  </a:moveTo>
                  <a:lnTo>
                    <a:pt x="55" y="260"/>
                  </a:lnTo>
                  <a:lnTo>
                    <a:pt x="57" y="258"/>
                  </a:lnTo>
                  <a:lnTo>
                    <a:pt x="59" y="254"/>
                  </a:lnTo>
                  <a:lnTo>
                    <a:pt x="61" y="252"/>
                  </a:lnTo>
                  <a:lnTo>
                    <a:pt x="63" y="250"/>
                  </a:lnTo>
                  <a:lnTo>
                    <a:pt x="64" y="246"/>
                  </a:lnTo>
                  <a:lnTo>
                    <a:pt x="68" y="245"/>
                  </a:lnTo>
                  <a:lnTo>
                    <a:pt x="74" y="237"/>
                  </a:lnTo>
                  <a:lnTo>
                    <a:pt x="78" y="233"/>
                  </a:lnTo>
                  <a:lnTo>
                    <a:pt x="82" y="227"/>
                  </a:lnTo>
                  <a:lnTo>
                    <a:pt x="84" y="224"/>
                  </a:lnTo>
                  <a:lnTo>
                    <a:pt x="85" y="220"/>
                  </a:lnTo>
                  <a:lnTo>
                    <a:pt x="87" y="218"/>
                  </a:lnTo>
                  <a:lnTo>
                    <a:pt x="87" y="216"/>
                  </a:lnTo>
                  <a:lnTo>
                    <a:pt x="87" y="214"/>
                  </a:lnTo>
                  <a:lnTo>
                    <a:pt x="85" y="212"/>
                  </a:lnTo>
                  <a:lnTo>
                    <a:pt x="84" y="212"/>
                  </a:lnTo>
                  <a:lnTo>
                    <a:pt x="82" y="214"/>
                  </a:lnTo>
                  <a:lnTo>
                    <a:pt x="72" y="225"/>
                  </a:lnTo>
                  <a:lnTo>
                    <a:pt x="63" y="235"/>
                  </a:lnTo>
                  <a:lnTo>
                    <a:pt x="57" y="239"/>
                  </a:lnTo>
                  <a:lnTo>
                    <a:pt x="53" y="243"/>
                  </a:lnTo>
                  <a:lnTo>
                    <a:pt x="51" y="245"/>
                  </a:lnTo>
                  <a:lnTo>
                    <a:pt x="49" y="246"/>
                  </a:lnTo>
                  <a:lnTo>
                    <a:pt x="43" y="248"/>
                  </a:lnTo>
                  <a:lnTo>
                    <a:pt x="40" y="250"/>
                  </a:lnTo>
                  <a:lnTo>
                    <a:pt x="38" y="252"/>
                  </a:lnTo>
                  <a:lnTo>
                    <a:pt x="36" y="256"/>
                  </a:lnTo>
                  <a:lnTo>
                    <a:pt x="43" y="262"/>
                  </a:lnTo>
                  <a:lnTo>
                    <a:pt x="53" y="267"/>
                  </a:lnTo>
                  <a:lnTo>
                    <a:pt x="53" y="267"/>
                  </a:lnTo>
                  <a:close/>
                </a:path>
              </a:pathLst>
            </a:custGeom>
            <a:solidFill>
              <a:srgbClr val="fffff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0" name="Text Box 217"/>
          <p:cNvSpPr/>
          <p:nvPr/>
        </p:nvSpPr>
        <p:spPr>
          <a:xfrm>
            <a:off x="2989440" y="3276720"/>
            <a:ext cx="1103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更多精彩尽在</a:t>
            </a:r>
            <a:r>
              <a:rPr b="0" lang="en-US" sz="80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Rectangle 219"/>
          <p:cNvSpPr/>
          <p:nvPr/>
        </p:nvSpPr>
        <p:spPr>
          <a:xfrm>
            <a:off x="-252360" y="-108000"/>
            <a:ext cx="15122520" cy="9267840"/>
          </a:xfrm>
          <a:prstGeom prst="rect">
            <a:avLst/>
          </a:prstGeom>
          <a:gradFill rotWithShape="0">
            <a:gsLst>
              <a:gs pos="0">
                <a:srgbClr val="ccffff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2" name="Picture 218" descr="图片21副本"/>
          <p:cNvPicPr/>
          <p:nvPr/>
        </p:nvPicPr>
        <p:blipFill>
          <a:blip r:embed="rId22"/>
          <a:stretch/>
        </p:blipFill>
        <p:spPr>
          <a:xfrm flipH="1" rot="21355800">
            <a:off x="5541480" y="0"/>
            <a:ext cx="11034720" cy="47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0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9" dur="500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3" dur="1000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1" repeatCount="4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1" repeatCount="4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1" repeatCount="4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1" repeatCount="4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1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1" repeatCount="4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1" repeatCount="4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1" repeatCount="4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1" repeatCount="4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1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1" repeatCount="4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1" repeatCount="4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1" repeatCount="4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2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1" repeatCount="4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2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1" repeatCount="4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1" repeatCount="400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3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1" repeatCount="400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3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1" repeatCount="4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4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1" repeatCount="4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4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</p:cBhvr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47" dur="1500" fill="hold"/>
                                        <p:tgtEl>
                                          <p:spTgt spid="2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49" dur="1500" fill="hold"/>
                                        <p:tgtEl>
                                          <p:spTgt spid="2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1" dur="1500" fill="hold"/>
                                        <p:tgtEl>
                                          <p:spTgt spid="2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3" dur="1500" fill="hold"/>
                                        <p:tgtEl>
                                          <p:spTgt spid="2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5" dur="1500" fill="hold"/>
                                        <p:tgtEl>
                                          <p:spTgt spid="2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7" dur="1500" fill="hold"/>
                                        <p:tgtEl>
                                          <p:spTgt spid="2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59" dur="1500" fill="hold"/>
                                        <p:tgtEl>
                                          <p:spTgt spid="2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1" dur="1500" fill="hold"/>
                                        <p:tgtEl>
                                          <p:spTgt spid="2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3" dur="1500" fill="hold"/>
                                        <p:tgtEl>
                                          <p:spTgt spid="2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5" dur="1500" fill="hold"/>
                                        <p:tgtEl>
                                          <p:spTgt spid="2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7" dur="1500" fill="hold"/>
                                        <p:tgtEl>
                                          <p:spTgt spid="2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69" dur="1500" fill="hold"/>
                                        <p:tgtEl>
                                          <p:spTgt spid="2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1" dur="1500" fill="hold"/>
                                        <p:tgtEl>
                                          <p:spTgt spid="2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3" dur="1500" fill="hold"/>
                                        <p:tgtEl>
                                          <p:spTgt spid="2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5" dur="1500" fill="hold"/>
                                        <p:tgtEl>
                                          <p:spTgt spid="2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7" dur="1500" fill="hold"/>
                                        <p:tgtEl>
                                          <p:spTgt spid="2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79" dur="1500" fill="hold"/>
                                        <p:tgtEl>
                                          <p:spTgt spid="2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81" dur="1500" fill="hold"/>
                                        <p:tgtEl>
                                          <p:spTgt spid="2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83" dur="1500" fill="hold"/>
                                        <p:tgtEl>
                                          <p:spTgt spid="2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-0.45838 0 E">
                                      <p:cBhvr>
                                        <p:cTn id="885" dur="1500" fill="hold"/>
                                        <p:tgtEl>
                                          <p:spTgt spid="2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2078 0 E">
                                      <p:cBhvr>
                                        <p:cTn id="887" dur="2000" fill="hold"/>
                                        <p:tgtEl>
                                          <p:spTgt spid="2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2078 0 E">
                                      <p:cBhvr>
                                        <p:cTn id="889" dur="2000" fill="hold"/>
                                        <p:tgtEl>
                                          <p:spTgt spid="2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4301E-006 -2.17054E-006 C 0.04054 0.01991 0.12075 0.00916 0.2428 0.11857 C 0.36506 0.2278 0.62344 0.55744 0.73355 0.65592 C 0.84366 0.75476 0.85731 0.69997 0.90377 0.71054 C 0.95022 0.72111 0.9657 0.73344 1.01215 0.71899 C 1.0586 0.70455 1.05613 0.72639 1.18248 0.62386 C 1.30882 0.52132 1.64774 0.21177 1.77011 0.10324 E">
                                      <p:cBhvr>
                                        <p:cTn id="893" dur="4000" fill="hold"/>
                                        <p:tgtEl>
                                          <p:spTgt spid="2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895" dur="2000" fill="hold"/>
                                        <p:tgtEl>
                                          <p:spTgt spid="29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897" dur="2000" fill="hold"/>
                                        <p:tgtEl>
                                          <p:spTgt spid="288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6568E-006 3.8448E-006 C 0.04051 -0.01711 0.1211 -0.00794 0.24285 -0.10194 C 0.36524 -0.19577 0.58059 -0.48731 0.73382 -0.5635 C 0.88706 -0.63916 0.99 -0.6351 1.16279 -0.55609 C 1.33548 -0.47725 1.6442 -0.18625 1.7709 -0.08907 E">
                                      <p:cBhvr>
                                        <p:cTn id="899" dur="4000" fill="hold"/>
                                        <p:tgtEl>
                                          <p:spTgt spid="2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evt="end">
                                        <p:tn val="900"/>
                                      </p:cond>
                                    </p:stCondLst>
                                  </p:cTn>
                                  <p:tgtEl>
                                    <p:spTgt spid="2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50538E-006 -2.72727E-006 C 0.04054 0.01973 0.12075 0.00916 0.2428 0.1184 C 0.36506 0.22728 0.62108 0.5562 0.73355 0.65487 C 0.84602 0.75423 0.86882 0.70155 0.91753 0.71195 C 0.96624 0.72217 0.98054 0.73062 1.02592 0.716 C 1.07129 0.70155 1.06581 0.72728 1.18979 0.62544 C 1.31376 0.52343 1.64914 0.21195 1.77011 0.1036 E">
                                      <p:cBhvr>
                                        <p:cTn id="906" dur="4000" fill="hold"/>
                                        <p:tgtEl>
                                          <p:spTgt spid="2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910" dur="2000" fill="hold"/>
                                        <p:tgtEl>
                                          <p:spTgt spid="2895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1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path" presetID="0" repeatCount="1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46857 -0.40447 L 0.2625 -0.40447 E">
                                      <p:cBhvr>
                                        <p:cTn id="915" dur="1000" fill="hold"/>
                                        <p:tgtEl>
                                          <p:spTgt spid="2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919" dur="2000" fill="hold"/>
                                        <p:tgtEl>
                                          <p:spTgt spid="289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path" presetID="0" repeatCount="1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30733 -0.42105 L -0.10245 -0.47507 E">
                                      <p:cBhvr>
                                        <p:cTn id="924" dur="2200" fill="hold"/>
                                        <p:tgtEl>
                                          <p:spTgt spid="2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928" dur="2000" fill="hold"/>
                                        <p:tgtEl>
                                          <p:spTgt spid="289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 repeatCount="1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30475 -0.4459 L -0.10503 -0.27978 E">
                                      <p:cBhvr>
                                        <p:cTn id="933" dur="2200" fill="hold"/>
                                        <p:tgtEl>
                                          <p:spTgt spid="2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6" repeatCount="1000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937" dur="2000" fill="hold"/>
                                        <p:tgtEl>
                                          <p:spTgt spid="2902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 repeatCount="100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1000"/>
                                        <p:tgtEl>
                                          <p:spTgt spid="2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 repeatCount="100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19965 -0.42998 L -0.00645 -0.42998 E">
                                      <p:cBhvr>
                                        <p:cTn id="942" dur="1000" fill="hold"/>
                                        <p:tgtEl>
                                          <p:spTgt spid="2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mph" presetID="6" repeatCount="1000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946" dur="2000" fill="hold"/>
                                        <p:tgtEl>
                                          <p:spTgt spid="292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0" repeatCount="100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2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0" repeatCount="100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3785 -0.44802 L -0.44742 -0.50193 E">
                                      <p:cBhvr>
                                        <p:cTn id="951" dur="2200" fill="hold"/>
                                        <p:tgtEl>
                                          <p:spTgt spid="2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 repeatCount="1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6" repeatCount="1000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955" dur="2000" fill="hold"/>
                                        <p:tgtEl>
                                          <p:spTgt spid="292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0" repeatCount="100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path" presetID="0" repeatCount="100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04355 -0.47815 L -0.45323 -0.31202 E">
                                      <p:cBhvr>
                                        <p:cTn id="960" dur="2200" fill="hold"/>
                                        <p:tgtEl>
                                          <p:spTgt spid="2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52713E-007 2.14689E-006 L -1.05685 -0.44474 E">
                                      <p:cBhvr>
                                        <p:cTn id="962" dur="500" fill="hold"/>
                                        <p:tgtEl>
                                          <p:spTgt spid="2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36779E-006 2.14689E-006 L -0.87414 -0.44474 E">
                                      <p:cBhvr>
                                        <p:cTn id="964" dur="500" fill="hold"/>
                                        <p:tgtEl>
                                          <p:spTgt spid="2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8.03618E-006 2.88136E-006 L 8.03618E-006 -1.66967 E">
                                      <p:cBhvr>
                                        <p:cTn id="966" dur="2000" fill="hold"/>
                                        <p:tgtEl>
                                          <p:spTgt spid="2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16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16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path" presetID="0" repeatCount="649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3.27304E-007 2.0904E-006 L 1.67797 1.08845 E">
                                      <p:cBhvr>
                                        <p:cTn id="972" dur="2000" fill="hold"/>
                                        <p:tgtEl>
                                          <p:spTgt spid="2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720000">
                                      <p:cBhvr>
                                        <p:cTn id="974" dur="10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3a2"/>
            </a:gs>
            <a:gs pos="100000">
              <a:srgbClr val="009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3" name="Group 7"/>
          <p:cNvGrpSpPr/>
          <p:nvPr/>
        </p:nvGrpSpPr>
        <p:grpSpPr>
          <a:xfrm>
            <a:off x="4782240" y="3385800"/>
            <a:ext cx="2980080" cy="919440"/>
            <a:chOff x="4782240" y="3385800"/>
            <a:chExt cx="2980080" cy="919440"/>
          </a:xfrm>
        </p:grpSpPr>
        <p:sp>
          <p:nvSpPr>
            <p:cNvPr id="2934" name="Freeform 8"/>
            <p:cNvSpPr/>
            <p:nvPr/>
          </p:nvSpPr>
          <p:spPr>
            <a:xfrm rot="259200">
              <a:off x="6274440" y="3549600"/>
              <a:ext cx="1475280" cy="388080"/>
            </a:xfrm>
            <a:custGeom>
              <a:avLst/>
              <a:gdLst/>
              <a:ahLst/>
              <a:rect l="l" t="t" r="r" b="b"/>
              <a:pathLst>
                <a:path w="822" h="471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15" y="78"/>
                  </a:lnTo>
                  <a:lnTo>
                    <a:pt x="18" y="93"/>
                  </a:lnTo>
                  <a:lnTo>
                    <a:pt x="21" y="108"/>
                  </a:lnTo>
                  <a:lnTo>
                    <a:pt x="99" y="471"/>
                  </a:lnTo>
                  <a:lnTo>
                    <a:pt x="675" y="444"/>
                  </a:lnTo>
                  <a:lnTo>
                    <a:pt x="822" y="24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9"/>
            <p:cNvSpPr/>
            <p:nvPr/>
          </p:nvSpPr>
          <p:spPr>
            <a:xfrm rot="259200">
              <a:off x="4799160" y="3440520"/>
              <a:ext cx="1479960" cy="504720"/>
            </a:xfrm>
            <a:custGeom>
              <a:avLst/>
              <a:gdLst/>
              <a:ahLst/>
              <a:rect l="l" t="t" r="r" b="b"/>
              <a:pathLst>
                <a:path w="825" h="612">
                  <a:moveTo>
                    <a:pt x="825" y="9"/>
                  </a:moveTo>
                  <a:lnTo>
                    <a:pt x="822" y="0"/>
                  </a:lnTo>
                  <a:lnTo>
                    <a:pt x="3" y="441"/>
                  </a:lnTo>
                  <a:lnTo>
                    <a:pt x="0" y="450"/>
                  </a:lnTo>
                  <a:lnTo>
                    <a:pt x="135" y="612"/>
                  </a:lnTo>
                  <a:lnTo>
                    <a:pt x="723" y="492"/>
                  </a:lnTo>
                  <a:lnTo>
                    <a:pt x="723" y="480"/>
                  </a:lnTo>
                  <a:lnTo>
                    <a:pt x="723" y="471"/>
                  </a:lnTo>
                  <a:lnTo>
                    <a:pt x="729" y="447"/>
                  </a:lnTo>
                  <a:lnTo>
                    <a:pt x="729" y="444"/>
                  </a:lnTo>
                  <a:lnTo>
                    <a:pt x="732" y="432"/>
                  </a:lnTo>
                  <a:lnTo>
                    <a:pt x="732" y="429"/>
                  </a:lnTo>
                  <a:lnTo>
                    <a:pt x="735" y="420"/>
                  </a:lnTo>
                  <a:lnTo>
                    <a:pt x="735" y="417"/>
                  </a:lnTo>
                  <a:lnTo>
                    <a:pt x="738" y="405"/>
                  </a:lnTo>
                  <a:lnTo>
                    <a:pt x="738" y="402"/>
                  </a:lnTo>
                  <a:lnTo>
                    <a:pt x="741" y="393"/>
                  </a:lnTo>
                  <a:lnTo>
                    <a:pt x="741" y="387"/>
                  </a:lnTo>
                  <a:lnTo>
                    <a:pt x="744" y="381"/>
                  </a:lnTo>
                  <a:lnTo>
                    <a:pt x="744" y="375"/>
                  </a:lnTo>
                  <a:lnTo>
                    <a:pt x="747" y="366"/>
                  </a:lnTo>
                  <a:lnTo>
                    <a:pt x="747" y="360"/>
                  </a:lnTo>
                  <a:lnTo>
                    <a:pt x="750" y="354"/>
                  </a:lnTo>
                  <a:lnTo>
                    <a:pt x="822" y="24"/>
                  </a:lnTo>
                  <a:lnTo>
                    <a:pt x="825" y="9"/>
                  </a:lnTo>
                  <a:close/>
                </a:path>
              </a:pathLst>
            </a:cu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10"/>
            <p:cNvSpPr/>
            <p:nvPr/>
          </p:nvSpPr>
          <p:spPr>
            <a:xfrm rot="259200">
              <a:off x="6307920" y="3560040"/>
              <a:ext cx="9720" cy="12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ebc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11"/>
            <p:cNvSpPr/>
            <p:nvPr/>
          </p:nvSpPr>
          <p:spPr>
            <a:xfrm rot="259200">
              <a:off x="6082920" y="3512880"/>
              <a:ext cx="301320" cy="749160"/>
            </a:xfrm>
            <a:custGeom>
              <a:avLst/>
              <a:gdLst/>
              <a:ahLst/>
              <a:rect l="l" t="t" r="r" b="b"/>
              <a:pathLst>
                <a:path w="168" h="909">
                  <a:moveTo>
                    <a:pt x="108" y="21"/>
                  </a:moveTo>
                  <a:lnTo>
                    <a:pt x="108" y="12"/>
                  </a:lnTo>
                  <a:lnTo>
                    <a:pt x="99" y="0"/>
                  </a:lnTo>
                  <a:lnTo>
                    <a:pt x="27" y="330"/>
                  </a:lnTo>
                  <a:lnTo>
                    <a:pt x="24" y="336"/>
                  </a:lnTo>
                  <a:lnTo>
                    <a:pt x="24" y="342"/>
                  </a:lnTo>
                  <a:lnTo>
                    <a:pt x="21" y="351"/>
                  </a:lnTo>
                  <a:lnTo>
                    <a:pt x="21" y="357"/>
                  </a:lnTo>
                  <a:lnTo>
                    <a:pt x="18" y="363"/>
                  </a:lnTo>
                  <a:lnTo>
                    <a:pt x="18" y="369"/>
                  </a:lnTo>
                  <a:lnTo>
                    <a:pt x="15" y="378"/>
                  </a:lnTo>
                  <a:lnTo>
                    <a:pt x="15" y="381"/>
                  </a:lnTo>
                  <a:lnTo>
                    <a:pt x="12" y="393"/>
                  </a:lnTo>
                  <a:lnTo>
                    <a:pt x="12" y="396"/>
                  </a:lnTo>
                  <a:lnTo>
                    <a:pt x="9" y="405"/>
                  </a:lnTo>
                  <a:lnTo>
                    <a:pt x="9" y="408"/>
                  </a:lnTo>
                  <a:lnTo>
                    <a:pt x="6" y="420"/>
                  </a:lnTo>
                  <a:lnTo>
                    <a:pt x="6" y="423"/>
                  </a:lnTo>
                  <a:lnTo>
                    <a:pt x="0" y="447"/>
                  </a:lnTo>
                  <a:lnTo>
                    <a:pt x="0" y="456"/>
                  </a:lnTo>
                  <a:lnTo>
                    <a:pt x="111" y="771"/>
                  </a:lnTo>
                  <a:lnTo>
                    <a:pt x="111" y="774"/>
                  </a:lnTo>
                  <a:lnTo>
                    <a:pt x="114" y="780"/>
                  </a:lnTo>
                  <a:lnTo>
                    <a:pt x="114" y="783"/>
                  </a:lnTo>
                  <a:lnTo>
                    <a:pt x="117" y="789"/>
                  </a:lnTo>
                  <a:lnTo>
                    <a:pt x="117" y="792"/>
                  </a:lnTo>
                  <a:lnTo>
                    <a:pt x="120" y="798"/>
                  </a:lnTo>
                  <a:lnTo>
                    <a:pt x="120" y="801"/>
                  </a:lnTo>
                  <a:lnTo>
                    <a:pt x="123" y="807"/>
                  </a:lnTo>
                  <a:lnTo>
                    <a:pt x="123" y="810"/>
                  </a:lnTo>
                  <a:lnTo>
                    <a:pt x="126" y="816"/>
                  </a:lnTo>
                  <a:lnTo>
                    <a:pt x="126" y="819"/>
                  </a:lnTo>
                  <a:lnTo>
                    <a:pt x="129" y="825"/>
                  </a:lnTo>
                  <a:lnTo>
                    <a:pt x="129" y="828"/>
                  </a:lnTo>
                  <a:lnTo>
                    <a:pt x="132" y="834"/>
                  </a:lnTo>
                  <a:lnTo>
                    <a:pt x="132" y="837"/>
                  </a:lnTo>
                  <a:lnTo>
                    <a:pt x="135" y="840"/>
                  </a:lnTo>
                  <a:lnTo>
                    <a:pt x="135" y="846"/>
                  </a:lnTo>
                  <a:lnTo>
                    <a:pt x="138" y="849"/>
                  </a:lnTo>
                  <a:lnTo>
                    <a:pt x="138" y="855"/>
                  </a:lnTo>
                  <a:lnTo>
                    <a:pt x="141" y="858"/>
                  </a:lnTo>
                  <a:lnTo>
                    <a:pt x="141" y="864"/>
                  </a:lnTo>
                  <a:lnTo>
                    <a:pt x="144" y="867"/>
                  </a:lnTo>
                  <a:lnTo>
                    <a:pt x="144" y="873"/>
                  </a:lnTo>
                  <a:lnTo>
                    <a:pt x="147" y="876"/>
                  </a:lnTo>
                  <a:lnTo>
                    <a:pt x="147" y="882"/>
                  </a:lnTo>
                  <a:lnTo>
                    <a:pt x="150" y="885"/>
                  </a:lnTo>
                  <a:lnTo>
                    <a:pt x="150" y="891"/>
                  </a:lnTo>
                  <a:lnTo>
                    <a:pt x="165" y="909"/>
                  </a:lnTo>
                  <a:lnTo>
                    <a:pt x="168" y="909"/>
                  </a:lnTo>
                  <a:lnTo>
                    <a:pt x="129" y="300"/>
                  </a:lnTo>
                  <a:lnTo>
                    <a:pt x="126" y="291"/>
                  </a:lnTo>
                  <a:lnTo>
                    <a:pt x="126" y="261"/>
                  </a:lnTo>
                  <a:lnTo>
                    <a:pt x="123" y="246"/>
                  </a:lnTo>
                  <a:lnTo>
                    <a:pt x="123" y="219"/>
                  </a:lnTo>
                  <a:lnTo>
                    <a:pt x="120" y="201"/>
                  </a:lnTo>
                  <a:lnTo>
                    <a:pt x="120" y="177"/>
                  </a:lnTo>
                  <a:lnTo>
                    <a:pt x="117" y="156"/>
                  </a:lnTo>
                  <a:lnTo>
                    <a:pt x="114" y="93"/>
                  </a:lnTo>
                  <a:lnTo>
                    <a:pt x="111" y="66"/>
                  </a:lnTo>
                  <a:lnTo>
                    <a:pt x="111" y="5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12"/>
            <p:cNvSpPr/>
            <p:nvPr/>
          </p:nvSpPr>
          <p:spPr>
            <a:xfrm rot="259200">
              <a:off x="6284880" y="3590280"/>
              <a:ext cx="167040" cy="694800"/>
            </a:xfrm>
            <a:custGeom>
              <a:avLst/>
              <a:gdLst/>
              <a:ahLst/>
              <a:rect l="l" t="t" r="r" b="b"/>
              <a:pathLst>
                <a:path w="93" h="843">
                  <a:moveTo>
                    <a:pt x="6" y="0"/>
                  </a:moveTo>
                  <a:lnTo>
                    <a:pt x="0" y="12"/>
                  </a:lnTo>
                  <a:lnTo>
                    <a:pt x="3" y="75"/>
                  </a:lnTo>
                  <a:lnTo>
                    <a:pt x="6" y="96"/>
                  </a:lnTo>
                  <a:lnTo>
                    <a:pt x="6" y="120"/>
                  </a:lnTo>
                  <a:lnTo>
                    <a:pt x="9" y="138"/>
                  </a:lnTo>
                  <a:lnTo>
                    <a:pt x="9" y="165"/>
                  </a:lnTo>
                  <a:lnTo>
                    <a:pt x="12" y="180"/>
                  </a:lnTo>
                  <a:lnTo>
                    <a:pt x="12" y="210"/>
                  </a:lnTo>
                  <a:lnTo>
                    <a:pt x="15" y="219"/>
                  </a:lnTo>
                  <a:lnTo>
                    <a:pt x="54" y="828"/>
                  </a:lnTo>
                  <a:lnTo>
                    <a:pt x="57" y="843"/>
                  </a:lnTo>
                  <a:lnTo>
                    <a:pt x="93" y="369"/>
                  </a:lnTo>
                  <a:lnTo>
                    <a:pt x="84" y="36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13"/>
            <p:cNvSpPr/>
            <p:nvPr/>
          </p:nvSpPr>
          <p:spPr>
            <a:xfrm rot="259200">
              <a:off x="6375240" y="3899160"/>
              <a:ext cx="85320" cy="403200"/>
            </a:xfrm>
            <a:custGeom>
              <a:avLst/>
              <a:gdLst/>
              <a:ahLst/>
              <a:rect l="l" t="t" r="r" b="b"/>
              <a:pathLst>
                <a:path w="48" h="489">
                  <a:moveTo>
                    <a:pt x="48" y="0"/>
                  </a:moveTo>
                  <a:lnTo>
                    <a:pt x="36" y="0"/>
                  </a:lnTo>
                  <a:lnTo>
                    <a:pt x="0" y="474"/>
                  </a:lnTo>
                  <a:lnTo>
                    <a:pt x="3" y="489"/>
                  </a:lnTo>
                  <a:lnTo>
                    <a:pt x="12" y="48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14"/>
            <p:cNvSpPr/>
            <p:nvPr/>
          </p:nvSpPr>
          <p:spPr>
            <a:xfrm rot="259200">
              <a:off x="6437880" y="3911400"/>
              <a:ext cx="1034280" cy="27360"/>
            </a:xfrm>
            <a:custGeom>
              <a:avLst/>
              <a:gdLst/>
              <a:ahLst/>
              <a:rect l="l" t="t" r="r" b="b"/>
              <a:pathLst>
                <a:path w="576" h="33">
                  <a:moveTo>
                    <a:pt x="9" y="33"/>
                  </a:moveTo>
                  <a:lnTo>
                    <a:pt x="21" y="33"/>
                  </a:lnTo>
                  <a:lnTo>
                    <a:pt x="576" y="6"/>
                  </a:lnTo>
                  <a:lnTo>
                    <a:pt x="576" y="0"/>
                  </a:lnTo>
                  <a:lnTo>
                    <a:pt x="0" y="27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464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15"/>
            <p:cNvSpPr/>
            <p:nvPr/>
          </p:nvSpPr>
          <p:spPr>
            <a:xfrm rot="259200">
              <a:off x="6073200" y="3885120"/>
              <a:ext cx="200160" cy="259560"/>
            </a:xfrm>
            <a:custGeom>
              <a:avLst/>
              <a:gdLst/>
              <a:ahLst/>
              <a:rect l="l" t="t" r="r" b="b"/>
              <a:pathLst>
                <a:path w="111" h="315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99" y="300"/>
                  </a:lnTo>
                  <a:lnTo>
                    <a:pt x="111" y="3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16"/>
            <p:cNvSpPr/>
            <p:nvPr/>
          </p:nvSpPr>
          <p:spPr>
            <a:xfrm rot="259200">
              <a:off x="5024880" y="3848040"/>
              <a:ext cx="1061280" cy="103680"/>
            </a:xfrm>
            <a:custGeom>
              <a:avLst/>
              <a:gdLst/>
              <a:ahLst/>
              <a:rect l="l" t="t" r="r" b="b"/>
              <a:pathLst>
                <a:path w="591" h="126">
                  <a:moveTo>
                    <a:pt x="591" y="6"/>
                  </a:moveTo>
                  <a:lnTo>
                    <a:pt x="588" y="0"/>
                  </a:lnTo>
                  <a:lnTo>
                    <a:pt x="0" y="120"/>
                  </a:lnTo>
                  <a:lnTo>
                    <a:pt x="15" y="126"/>
                  </a:lnTo>
                  <a:lnTo>
                    <a:pt x="591" y="6"/>
                  </a:lnTo>
                  <a:close/>
                </a:path>
              </a:pathLst>
            </a:custGeom>
            <a:solidFill>
              <a:srgbClr val="545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17"/>
            <p:cNvSpPr/>
            <p:nvPr/>
          </p:nvSpPr>
          <p:spPr>
            <a:xfrm rot="259200">
              <a:off x="6324480" y="4256640"/>
              <a:ext cx="26640" cy="2448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30"/>
                  </a:moveTo>
                  <a:lnTo>
                    <a:pt x="15" y="18"/>
                  </a:lnTo>
                  <a:lnTo>
                    <a:pt x="0" y="0"/>
                  </a:lnTo>
                  <a:lnTo>
                    <a:pt x="12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18"/>
            <p:cNvSpPr/>
            <p:nvPr/>
          </p:nvSpPr>
          <p:spPr>
            <a:xfrm rot="259200">
              <a:off x="7477560" y="3792960"/>
              <a:ext cx="274680" cy="173160"/>
            </a:xfrm>
            <a:custGeom>
              <a:avLst/>
              <a:gdLst/>
              <a:ahLst/>
              <a:rect l="l" t="t" r="r" b="b"/>
              <a:pathLst>
                <a:path w="153" h="210">
                  <a:moveTo>
                    <a:pt x="153" y="6"/>
                  </a:moveTo>
                  <a:lnTo>
                    <a:pt x="147" y="0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6f6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5" name="Text Box 61"/>
          <p:cNvSpPr/>
          <p:nvPr/>
        </p:nvSpPr>
        <p:spPr>
          <a:xfrm>
            <a:off x="2989440" y="3276720"/>
            <a:ext cx="1103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更多精彩尽在</a:t>
            </a:r>
            <a:r>
              <a:rPr b="0" lang="en-US" sz="80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1461960"/>
                <a:tab algn="l" pos="2924280"/>
                <a:tab algn="l" pos="4386240"/>
                <a:tab algn="l" pos="5848200"/>
                <a:tab algn="l" pos="7310520"/>
                <a:tab algn="l" pos="8772480"/>
                <a:tab algn="l" pos="102344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0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0" dur="1000" fill="hold"/>
                                        <p:tgtEl>
                                          <p:spTgt spid="294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8501E-006 1.63842E-006 L 0.03241 0.09763 E">
                                      <p:cBhvr>
                                        <p:cTn id="982" dur="1000" fill="hold"/>
                                        <p:tgtEl>
                                          <p:spTgt spid="2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40000">
                                      <p:cBhvr>
                                        <p:cTn id="989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23" presetSubtype="2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1" dur="200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3a2"/>
            </a:gs>
            <a:gs pos="100000">
              <a:srgbClr val="009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6" name="Group 14"/>
          <p:cNvGrpSpPr/>
          <p:nvPr/>
        </p:nvGrpSpPr>
        <p:grpSpPr>
          <a:xfrm>
            <a:off x="5092560" y="2500920"/>
            <a:ext cx="1852200" cy="2789280"/>
            <a:chOff x="5092560" y="2500920"/>
            <a:chExt cx="1852200" cy="2789280"/>
          </a:xfrm>
        </p:grpSpPr>
        <p:sp>
          <p:nvSpPr>
            <p:cNvPr id="2947" name="Freeform 15"/>
            <p:cNvSpPr/>
            <p:nvPr/>
          </p:nvSpPr>
          <p:spPr>
            <a:xfrm rot="18063000">
              <a:off x="5660280" y="3038760"/>
              <a:ext cx="1475280" cy="388080"/>
            </a:xfrm>
            <a:custGeom>
              <a:avLst/>
              <a:gdLst/>
              <a:ahLst/>
              <a:rect l="l" t="t" r="r" b="b"/>
              <a:pathLst>
                <a:path w="822" h="471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12"/>
                  </a:lnTo>
                  <a:lnTo>
                    <a:pt x="9" y="39"/>
                  </a:lnTo>
                  <a:lnTo>
                    <a:pt x="9" y="48"/>
                  </a:lnTo>
                  <a:lnTo>
                    <a:pt x="15" y="78"/>
                  </a:lnTo>
                  <a:lnTo>
                    <a:pt x="18" y="93"/>
                  </a:lnTo>
                  <a:lnTo>
                    <a:pt x="21" y="108"/>
                  </a:lnTo>
                  <a:lnTo>
                    <a:pt x="99" y="471"/>
                  </a:lnTo>
                  <a:lnTo>
                    <a:pt x="675" y="444"/>
                  </a:lnTo>
                  <a:lnTo>
                    <a:pt x="822" y="24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16"/>
            <p:cNvSpPr/>
            <p:nvPr/>
          </p:nvSpPr>
          <p:spPr>
            <a:xfrm rot="18063000">
              <a:off x="4950360" y="4273560"/>
              <a:ext cx="1479960" cy="504720"/>
            </a:xfrm>
            <a:custGeom>
              <a:avLst/>
              <a:gdLst/>
              <a:ahLst/>
              <a:rect l="l" t="t" r="r" b="b"/>
              <a:pathLst>
                <a:path w="825" h="612">
                  <a:moveTo>
                    <a:pt x="825" y="9"/>
                  </a:moveTo>
                  <a:lnTo>
                    <a:pt x="822" y="0"/>
                  </a:lnTo>
                  <a:lnTo>
                    <a:pt x="3" y="441"/>
                  </a:lnTo>
                  <a:lnTo>
                    <a:pt x="0" y="450"/>
                  </a:lnTo>
                  <a:lnTo>
                    <a:pt x="135" y="612"/>
                  </a:lnTo>
                  <a:lnTo>
                    <a:pt x="723" y="492"/>
                  </a:lnTo>
                  <a:lnTo>
                    <a:pt x="723" y="480"/>
                  </a:lnTo>
                  <a:lnTo>
                    <a:pt x="723" y="471"/>
                  </a:lnTo>
                  <a:lnTo>
                    <a:pt x="729" y="447"/>
                  </a:lnTo>
                  <a:lnTo>
                    <a:pt x="729" y="444"/>
                  </a:lnTo>
                  <a:lnTo>
                    <a:pt x="732" y="432"/>
                  </a:lnTo>
                  <a:lnTo>
                    <a:pt x="732" y="429"/>
                  </a:lnTo>
                  <a:lnTo>
                    <a:pt x="735" y="420"/>
                  </a:lnTo>
                  <a:lnTo>
                    <a:pt x="735" y="417"/>
                  </a:lnTo>
                  <a:lnTo>
                    <a:pt x="738" y="405"/>
                  </a:lnTo>
                  <a:lnTo>
                    <a:pt x="738" y="402"/>
                  </a:lnTo>
                  <a:lnTo>
                    <a:pt x="741" y="393"/>
                  </a:lnTo>
                  <a:lnTo>
                    <a:pt x="741" y="387"/>
                  </a:lnTo>
                  <a:lnTo>
                    <a:pt x="744" y="381"/>
                  </a:lnTo>
                  <a:lnTo>
                    <a:pt x="744" y="375"/>
                  </a:lnTo>
                  <a:lnTo>
                    <a:pt x="747" y="366"/>
                  </a:lnTo>
                  <a:lnTo>
                    <a:pt x="747" y="360"/>
                  </a:lnTo>
                  <a:lnTo>
                    <a:pt x="750" y="354"/>
                  </a:lnTo>
                  <a:lnTo>
                    <a:pt x="822" y="24"/>
                  </a:lnTo>
                  <a:lnTo>
                    <a:pt x="825" y="9"/>
                  </a:lnTo>
                  <a:close/>
                </a:path>
              </a:pathLst>
            </a:cu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17"/>
            <p:cNvSpPr/>
            <p:nvPr/>
          </p:nvSpPr>
          <p:spPr>
            <a:xfrm rot="18063000">
              <a:off x="5920200" y="3771720"/>
              <a:ext cx="9720" cy="1224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ebc3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18"/>
            <p:cNvSpPr/>
            <p:nvPr/>
          </p:nvSpPr>
          <p:spPr>
            <a:xfrm rot="18063000">
              <a:off x="6026040" y="3618360"/>
              <a:ext cx="301320" cy="749520"/>
            </a:xfrm>
            <a:custGeom>
              <a:avLst/>
              <a:gdLst/>
              <a:ahLst/>
              <a:rect l="l" t="t" r="r" b="b"/>
              <a:pathLst>
                <a:path w="168" h="909">
                  <a:moveTo>
                    <a:pt x="108" y="21"/>
                  </a:moveTo>
                  <a:lnTo>
                    <a:pt x="108" y="12"/>
                  </a:lnTo>
                  <a:lnTo>
                    <a:pt x="99" y="0"/>
                  </a:lnTo>
                  <a:lnTo>
                    <a:pt x="27" y="330"/>
                  </a:lnTo>
                  <a:lnTo>
                    <a:pt x="24" y="336"/>
                  </a:lnTo>
                  <a:lnTo>
                    <a:pt x="24" y="342"/>
                  </a:lnTo>
                  <a:lnTo>
                    <a:pt x="21" y="351"/>
                  </a:lnTo>
                  <a:lnTo>
                    <a:pt x="21" y="357"/>
                  </a:lnTo>
                  <a:lnTo>
                    <a:pt x="18" y="363"/>
                  </a:lnTo>
                  <a:lnTo>
                    <a:pt x="18" y="369"/>
                  </a:lnTo>
                  <a:lnTo>
                    <a:pt x="15" y="378"/>
                  </a:lnTo>
                  <a:lnTo>
                    <a:pt x="15" y="381"/>
                  </a:lnTo>
                  <a:lnTo>
                    <a:pt x="12" y="393"/>
                  </a:lnTo>
                  <a:lnTo>
                    <a:pt x="12" y="396"/>
                  </a:lnTo>
                  <a:lnTo>
                    <a:pt x="9" y="405"/>
                  </a:lnTo>
                  <a:lnTo>
                    <a:pt x="9" y="408"/>
                  </a:lnTo>
                  <a:lnTo>
                    <a:pt x="6" y="420"/>
                  </a:lnTo>
                  <a:lnTo>
                    <a:pt x="6" y="423"/>
                  </a:lnTo>
                  <a:lnTo>
                    <a:pt x="0" y="447"/>
                  </a:lnTo>
                  <a:lnTo>
                    <a:pt x="0" y="456"/>
                  </a:lnTo>
                  <a:lnTo>
                    <a:pt x="111" y="771"/>
                  </a:lnTo>
                  <a:lnTo>
                    <a:pt x="111" y="774"/>
                  </a:lnTo>
                  <a:lnTo>
                    <a:pt x="114" y="780"/>
                  </a:lnTo>
                  <a:lnTo>
                    <a:pt x="114" y="783"/>
                  </a:lnTo>
                  <a:lnTo>
                    <a:pt x="117" y="789"/>
                  </a:lnTo>
                  <a:lnTo>
                    <a:pt x="117" y="792"/>
                  </a:lnTo>
                  <a:lnTo>
                    <a:pt x="120" y="798"/>
                  </a:lnTo>
                  <a:lnTo>
                    <a:pt x="120" y="801"/>
                  </a:lnTo>
                  <a:lnTo>
                    <a:pt x="123" y="807"/>
                  </a:lnTo>
                  <a:lnTo>
                    <a:pt x="123" y="810"/>
                  </a:lnTo>
                  <a:lnTo>
                    <a:pt x="126" y="816"/>
                  </a:lnTo>
                  <a:lnTo>
                    <a:pt x="126" y="819"/>
                  </a:lnTo>
                  <a:lnTo>
                    <a:pt x="129" y="825"/>
                  </a:lnTo>
                  <a:lnTo>
                    <a:pt x="129" y="828"/>
                  </a:lnTo>
                  <a:lnTo>
                    <a:pt x="132" y="834"/>
                  </a:lnTo>
                  <a:lnTo>
                    <a:pt x="132" y="837"/>
                  </a:lnTo>
                  <a:lnTo>
                    <a:pt x="135" y="840"/>
                  </a:lnTo>
                  <a:lnTo>
                    <a:pt x="135" y="846"/>
                  </a:lnTo>
                  <a:lnTo>
                    <a:pt x="138" y="849"/>
                  </a:lnTo>
                  <a:lnTo>
                    <a:pt x="138" y="855"/>
                  </a:lnTo>
                  <a:lnTo>
                    <a:pt x="141" y="858"/>
                  </a:lnTo>
                  <a:lnTo>
                    <a:pt x="141" y="864"/>
                  </a:lnTo>
                  <a:lnTo>
                    <a:pt x="144" y="867"/>
                  </a:lnTo>
                  <a:lnTo>
                    <a:pt x="144" y="873"/>
                  </a:lnTo>
                  <a:lnTo>
                    <a:pt x="147" y="876"/>
                  </a:lnTo>
                  <a:lnTo>
                    <a:pt x="147" y="882"/>
                  </a:lnTo>
                  <a:lnTo>
                    <a:pt x="150" y="885"/>
                  </a:lnTo>
                  <a:lnTo>
                    <a:pt x="150" y="891"/>
                  </a:lnTo>
                  <a:lnTo>
                    <a:pt x="165" y="909"/>
                  </a:lnTo>
                  <a:lnTo>
                    <a:pt x="168" y="909"/>
                  </a:lnTo>
                  <a:lnTo>
                    <a:pt x="129" y="300"/>
                  </a:lnTo>
                  <a:lnTo>
                    <a:pt x="126" y="291"/>
                  </a:lnTo>
                  <a:lnTo>
                    <a:pt x="126" y="261"/>
                  </a:lnTo>
                  <a:lnTo>
                    <a:pt x="123" y="246"/>
                  </a:lnTo>
                  <a:lnTo>
                    <a:pt x="123" y="219"/>
                  </a:lnTo>
                  <a:lnTo>
                    <a:pt x="120" y="201"/>
                  </a:lnTo>
                  <a:lnTo>
                    <a:pt x="120" y="177"/>
                  </a:lnTo>
                  <a:lnTo>
                    <a:pt x="117" y="156"/>
                  </a:lnTo>
                  <a:lnTo>
                    <a:pt x="114" y="93"/>
                  </a:lnTo>
                  <a:lnTo>
                    <a:pt x="111" y="66"/>
                  </a:lnTo>
                  <a:lnTo>
                    <a:pt x="111" y="51"/>
                  </a:lnTo>
                  <a:lnTo>
                    <a:pt x="108" y="2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19"/>
            <p:cNvSpPr/>
            <p:nvPr/>
          </p:nvSpPr>
          <p:spPr>
            <a:xfrm rot="18063000">
              <a:off x="6198120" y="3547440"/>
              <a:ext cx="167040" cy="695160"/>
            </a:xfrm>
            <a:custGeom>
              <a:avLst/>
              <a:gdLst/>
              <a:ahLst/>
              <a:rect l="l" t="t" r="r" b="b"/>
              <a:pathLst>
                <a:path w="93" h="843">
                  <a:moveTo>
                    <a:pt x="6" y="0"/>
                  </a:moveTo>
                  <a:lnTo>
                    <a:pt x="0" y="12"/>
                  </a:lnTo>
                  <a:lnTo>
                    <a:pt x="3" y="75"/>
                  </a:lnTo>
                  <a:lnTo>
                    <a:pt x="6" y="96"/>
                  </a:lnTo>
                  <a:lnTo>
                    <a:pt x="6" y="120"/>
                  </a:lnTo>
                  <a:lnTo>
                    <a:pt x="9" y="138"/>
                  </a:lnTo>
                  <a:lnTo>
                    <a:pt x="9" y="165"/>
                  </a:lnTo>
                  <a:lnTo>
                    <a:pt x="12" y="180"/>
                  </a:lnTo>
                  <a:lnTo>
                    <a:pt x="12" y="210"/>
                  </a:lnTo>
                  <a:lnTo>
                    <a:pt x="15" y="219"/>
                  </a:lnTo>
                  <a:lnTo>
                    <a:pt x="54" y="828"/>
                  </a:lnTo>
                  <a:lnTo>
                    <a:pt x="57" y="843"/>
                  </a:lnTo>
                  <a:lnTo>
                    <a:pt x="93" y="369"/>
                  </a:lnTo>
                  <a:lnTo>
                    <a:pt x="84" y="36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20"/>
            <p:cNvSpPr/>
            <p:nvPr/>
          </p:nvSpPr>
          <p:spPr>
            <a:xfrm rot="18063000">
              <a:off x="6406920" y="3722400"/>
              <a:ext cx="85320" cy="403200"/>
            </a:xfrm>
            <a:custGeom>
              <a:avLst/>
              <a:gdLst/>
              <a:ahLst/>
              <a:rect l="l" t="t" r="r" b="b"/>
              <a:pathLst>
                <a:path w="48" h="489">
                  <a:moveTo>
                    <a:pt x="48" y="0"/>
                  </a:moveTo>
                  <a:lnTo>
                    <a:pt x="36" y="0"/>
                  </a:lnTo>
                  <a:lnTo>
                    <a:pt x="0" y="474"/>
                  </a:lnTo>
                  <a:lnTo>
                    <a:pt x="3" y="489"/>
                  </a:lnTo>
                  <a:lnTo>
                    <a:pt x="12" y="48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21"/>
            <p:cNvSpPr/>
            <p:nvPr/>
          </p:nvSpPr>
          <p:spPr>
            <a:xfrm rot="18063000">
              <a:off x="6017040" y="3351960"/>
              <a:ext cx="1034280" cy="27360"/>
            </a:xfrm>
            <a:custGeom>
              <a:avLst/>
              <a:gdLst/>
              <a:ahLst/>
              <a:rect l="l" t="t" r="r" b="b"/>
              <a:pathLst>
                <a:path w="576" h="33">
                  <a:moveTo>
                    <a:pt x="9" y="33"/>
                  </a:moveTo>
                  <a:lnTo>
                    <a:pt x="21" y="33"/>
                  </a:lnTo>
                  <a:lnTo>
                    <a:pt x="576" y="6"/>
                  </a:lnTo>
                  <a:lnTo>
                    <a:pt x="576" y="0"/>
                  </a:lnTo>
                  <a:lnTo>
                    <a:pt x="0" y="27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464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22"/>
            <p:cNvSpPr/>
            <p:nvPr/>
          </p:nvSpPr>
          <p:spPr>
            <a:xfrm rot="18063000">
              <a:off x="6163200" y="3974400"/>
              <a:ext cx="200160" cy="259560"/>
            </a:xfrm>
            <a:custGeom>
              <a:avLst/>
              <a:gdLst/>
              <a:ahLst/>
              <a:rect l="l" t="t" r="r" b="b"/>
              <a:pathLst>
                <a:path w="111" h="315">
                  <a:moveTo>
                    <a:pt x="0" y="0"/>
                  </a:moveTo>
                  <a:lnTo>
                    <a:pt x="0" y="12"/>
                  </a:lnTo>
                  <a:lnTo>
                    <a:pt x="3" y="18"/>
                  </a:lnTo>
                  <a:lnTo>
                    <a:pt x="99" y="300"/>
                  </a:lnTo>
                  <a:lnTo>
                    <a:pt x="111" y="3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23"/>
            <p:cNvSpPr/>
            <p:nvPr/>
          </p:nvSpPr>
          <p:spPr>
            <a:xfrm rot="18063000">
              <a:off x="5351760" y="4552200"/>
              <a:ext cx="1061280" cy="103680"/>
            </a:xfrm>
            <a:custGeom>
              <a:avLst/>
              <a:gdLst/>
              <a:ahLst/>
              <a:rect l="l" t="t" r="r" b="b"/>
              <a:pathLst>
                <a:path w="591" h="126">
                  <a:moveTo>
                    <a:pt x="591" y="6"/>
                  </a:moveTo>
                  <a:lnTo>
                    <a:pt x="588" y="0"/>
                  </a:lnTo>
                  <a:lnTo>
                    <a:pt x="0" y="120"/>
                  </a:lnTo>
                  <a:lnTo>
                    <a:pt x="15" y="126"/>
                  </a:lnTo>
                  <a:lnTo>
                    <a:pt x="591" y="6"/>
                  </a:lnTo>
                  <a:close/>
                </a:path>
              </a:pathLst>
            </a:custGeom>
            <a:solidFill>
              <a:srgbClr val="5454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24"/>
            <p:cNvSpPr/>
            <p:nvPr/>
          </p:nvSpPr>
          <p:spPr>
            <a:xfrm rot="18063000">
              <a:off x="6550920" y="4059000"/>
              <a:ext cx="26640" cy="2448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30"/>
                  </a:moveTo>
                  <a:lnTo>
                    <a:pt x="15" y="18"/>
                  </a:lnTo>
                  <a:lnTo>
                    <a:pt x="0" y="0"/>
                  </a:lnTo>
                  <a:lnTo>
                    <a:pt x="12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494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25"/>
            <p:cNvSpPr/>
            <p:nvPr/>
          </p:nvSpPr>
          <p:spPr>
            <a:xfrm rot="18063000">
              <a:off x="6652800" y="2669040"/>
              <a:ext cx="274680" cy="173160"/>
            </a:xfrm>
            <a:custGeom>
              <a:avLst/>
              <a:gdLst/>
              <a:ahLst/>
              <a:rect l="l" t="t" r="r" b="b"/>
              <a:pathLst>
                <a:path w="153" h="210">
                  <a:moveTo>
                    <a:pt x="153" y="6"/>
                  </a:moveTo>
                  <a:lnTo>
                    <a:pt x="147" y="0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6f6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Freeform 61"/>
          <p:cNvSpPr/>
          <p:nvPr/>
        </p:nvSpPr>
        <p:spPr>
          <a:xfrm>
            <a:off x="5510160" y="2914560"/>
            <a:ext cx="1860480" cy="1971720"/>
          </a:xfrm>
          <a:custGeom>
            <a:avLst/>
            <a:gdLst/>
            <a:ahLst/>
            <a:rect l="l" t="t" r="r" b="b"/>
            <a:pathLst>
              <a:path w="1172" h="1242">
                <a:moveTo>
                  <a:pt x="682" y="0"/>
                </a:moveTo>
                <a:lnTo>
                  <a:pt x="455" y="407"/>
                </a:lnTo>
                <a:lnTo>
                  <a:pt x="640" y="662"/>
                </a:lnTo>
                <a:lnTo>
                  <a:pt x="264" y="772"/>
                </a:lnTo>
                <a:lnTo>
                  <a:pt x="0" y="1242"/>
                </a:lnTo>
                <a:lnTo>
                  <a:pt x="1172" y="839"/>
                </a:lnTo>
                <a:lnTo>
                  <a:pt x="682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Freeform 60"/>
          <p:cNvSpPr/>
          <p:nvPr/>
        </p:nvSpPr>
        <p:spPr>
          <a:xfrm>
            <a:off x="5292720" y="2914560"/>
            <a:ext cx="1305000" cy="2389320"/>
          </a:xfrm>
          <a:custGeom>
            <a:avLst/>
            <a:gdLst/>
            <a:ahLst/>
            <a:rect l="l" t="t" r="r" b="b"/>
            <a:pathLst>
              <a:path w="1993" h="3650">
                <a:moveTo>
                  <a:pt x="0" y="0"/>
                </a:moveTo>
                <a:lnTo>
                  <a:pt x="0" y="3650"/>
                </a:lnTo>
                <a:lnTo>
                  <a:pt x="199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Freeform 77"/>
          <p:cNvSpPr/>
          <p:nvPr/>
        </p:nvSpPr>
        <p:spPr>
          <a:xfrm>
            <a:off x="1836720" y="4572000"/>
            <a:ext cx="1066680" cy="18288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576"/>
                </a:moveTo>
                <a:lnTo>
                  <a:pt x="48" y="0"/>
                </a:lnTo>
                <a:lnTo>
                  <a:pt x="336" y="336"/>
                </a:lnTo>
                <a:lnTo>
                  <a:pt x="0" y="57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Freeform 78"/>
          <p:cNvSpPr/>
          <p:nvPr/>
        </p:nvSpPr>
        <p:spPr>
          <a:xfrm>
            <a:off x="3205080" y="6227640"/>
            <a:ext cx="1524240" cy="60984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0" y="144"/>
                </a:moveTo>
                <a:lnTo>
                  <a:pt x="480" y="0"/>
                </a:lnTo>
                <a:lnTo>
                  <a:pt x="144" y="192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reeform 79"/>
          <p:cNvSpPr/>
          <p:nvPr/>
        </p:nvSpPr>
        <p:spPr>
          <a:xfrm>
            <a:off x="3492360" y="4714920"/>
            <a:ext cx="476280" cy="123804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48" y="0"/>
                </a:moveTo>
                <a:lnTo>
                  <a:pt x="0" y="336"/>
                </a:lnTo>
                <a:lnTo>
                  <a:pt x="96" y="624"/>
                </a:lnTo>
                <a:lnTo>
                  <a:pt x="240" y="24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Freeform 80"/>
          <p:cNvSpPr/>
          <p:nvPr/>
        </p:nvSpPr>
        <p:spPr>
          <a:xfrm>
            <a:off x="3492360" y="1258920"/>
            <a:ext cx="2140200" cy="13716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240"/>
                </a:moveTo>
                <a:lnTo>
                  <a:pt x="480" y="0"/>
                </a:lnTo>
                <a:lnTo>
                  <a:pt x="672" y="384"/>
                </a:lnTo>
                <a:lnTo>
                  <a:pt x="480" y="432"/>
                </a:lnTo>
                <a:lnTo>
                  <a:pt x="0" y="24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Freeform 81"/>
          <p:cNvSpPr/>
          <p:nvPr/>
        </p:nvSpPr>
        <p:spPr>
          <a:xfrm>
            <a:off x="1692360" y="2914560"/>
            <a:ext cx="1981080" cy="198144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384"/>
                </a:moveTo>
                <a:lnTo>
                  <a:pt x="576" y="0"/>
                </a:lnTo>
                <a:lnTo>
                  <a:pt x="480" y="288"/>
                </a:lnTo>
                <a:lnTo>
                  <a:pt x="624" y="624"/>
                </a:lnTo>
                <a:lnTo>
                  <a:pt x="384" y="480"/>
                </a:lnTo>
                <a:lnTo>
                  <a:pt x="0" y="384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Freeform 82"/>
          <p:cNvSpPr/>
          <p:nvPr/>
        </p:nvSpPr>
        <p:spPr>
          <a:xfrm>
            <a:off x="4141800" y="4427640"/>
            <a:ext cx="1066680" cy="121896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0"/>
                </a:moveTo>
                <a:lnTo>
                  <a:pt x="96" y="240"/>
                </a:lnTo>
                <a:lnTo>
                  <a:pt x="336" y="384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Freeform 83"/>
          <p:cNvSpPr/>
          <p:nvPr/>
        </p:nvSpPr>
        <p:spPr>
          <a:xfrm>
            <a:off x="3421080" y="3059280"/>
            <a:ext cx="1047600" cy="104760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96"/>
                </a:moveTo>
                <a:lnTo>
                  <a:pt x="528" y="528"/>
                </a:lnTo>
                <a:lnTo>
                  <a:pt x="432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Freeform 84"/>
          <p:cNvSpPr/>
          <p:nvPr/>
        </p:nvSpPr>
        <p:spPr>
          <a:xfrm>
            <a:off x="4581360" y="2301840"/>
            <a:ext cx="1327320" cy="76212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672" y="0"/>
                </a:moveTo>
                <a:lnTo>
                  <a:pt x="480" y="384"/>
                </a:lnTo>
                <a:lnTo>
                  <a:pt x="0" y="96"/>
                </a:lnTo>
                <a:lnTo>
                  <a:pt x="384" y="14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Freeform 85"/>
          <p:cNvSpPr/>
          <p:nvPr/>
        </p:nvSpPr>
        <p:spPr>
          <a:xfrm rot="16200000">
            <a:off x="2446200" y="1369800"/>
            <a:ext cx="762120" cy="198108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48" y="0"/>
                </a:moveTo>
                <a:lnTo>
                  <a:pt x="0" y="336"/>
                </a:lnTo>
                <a:lnTo>
                  <a:pt x="96" y="624"/>
                </a:lnTo>
                <a:lnTo>
                  <a:pt x="240" y="24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Freeform 86"/>
          <p:cNvSpPr/>
          <p:nvPr/>
        </p:nvSpPr>
        <p:spPr>
          <a:xfrm>
            <a:off x="9758520" y="250920"/>
            <a:ext cx="1523880" cy="18288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0" y="0"/>
                </a:moveTo>
                <a:lnTo>
                  <a:pt x="480" y="240"/>
                </a:lnTo>
                <a:lnTo>
                  <a:pt x="144" y="576"/>
                </a:lnTo>
                <a:lnTo>
                  <a:pt x="144" y="1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Freeform 87"/>
          <p:cNvSpPr/>
          <p:nvPr/>
        </p:nvSpPr>
        <p:spPr>
          <a:xfrm>
            <a:off x="12926880" y="682560"/>
            <a:ext cx="762120" cy="198144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48" y="0"/>
                </a:moveTo>
                <a:lnTo>
                  <a:pt x="0" y="336"/>
                </a:lnTo>
                <a:lnTo>
                  <a:pt x="96" y="624"/>
                </a:lnTo>
                <a:lnTo>
                  <a:pt x="240" y="240"/>
                </a:lnTo>
                <a:lnTo>
                  <a:pt x="48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Freeform 88"/>
          <p:cNvSpPr/>
          <p:nvPr/>
        </p:nvSpPr>
        <p:spPr>
          <a:xfrm>
            <a:off x="6300720" y="898560"/>
            <a:ext cx="1219320" cy="167652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288"/>
                </a:moveTo>
                <a:lnTo>
                  <a:pt x="384" y="0"/>
                </a:lnTo>
                <a:lnTo>
                  <a:pt x="240" y="528"/>
                </a:lnTo>
                <a:lnTo>
                  <a:pt x="192" y="336"/>
                </a:lnTo>
                <a:lnTo>
                  <a:pt x="0" y="288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Freeform 89"/>
          <p:cNvSpPr/>
          <p:nvPr/>
        </p:nvSpPr>
        <p:spPr>
          <a:xfrm>
            <a:off x="5191200" y="2530440"/>
            <a:ext cx="1066680" cy="121932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lnTo>
                  <a:pt x="336" y="192"/>
                </a:lnTo>
                <a:lnTo>
                  <a:pt x="0" y="384"/>
                </a:lnTo>
                <a:lnTo>
                  <a:pt x="0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Freeform 90"/>
          <p:cNvSpPr/>
          <p:nvPr/>
        </p:nvSpPr>
        <p:spPr>
          <a:xfrm>
            <a:off x="5942160" y="4643280"/>
            <a:ext cx="914400" cy="167652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144" y="0"/>
                </a:moveTo>
                <a:lnTo>
                  <a:pt x="288" y="528"/>
                </a:lnTo>
                <a:lnTo>
                  <a:pt x="0" y="288"/>
                </a:lnTo>
                <a:lnTo>
                  <a:pt x="144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Freeform 91"/>
          <p:cNvSpPr/>
          <p:nvPr/>
        </p:nvSpPr>
        <p:spPr>
          <a:xfrm>
            <a:off x="6029280" y="2759040"/>
            <a:ext cx="476280" cy="123840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0" y="0"/>
                </a:moveTo>
                <a:lnTo>
                  <a:pt x="48" y="384"/>
                </a:lnTo>
                <a:lnTo>
                  <a:pt x="240" y="624"/>
                </a:lnTo>
                <a:lnTo>
                  <a:pt x="192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Freeform 92"/>
          <p:cNvSpPr/>
          <p:nvPr/>
        </p:nvSpPr>
        <p:spPr>
          <a:xfrm>
            <a:off x="10261440" y="1979640"/>
            <a:ext cx="660600" cy="113652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576"/>
                </a:moveTo>
                <a:lnTo>
                  <a:pt x="48" y="0"/>
                </a:lnTo>
                <a:lnTo>
                  <a:pt x="336" y="336"/>
                </a:lnTo>
                <a:lnTo>
                  <a:pt x="0" y="57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reeform 93"/>
          <p:cNvSpPr/>
          <p:nvPr/>
        </p:nvSpPr>
        <p:spPr>
          <a:xfrm>
            <a:off x="7885080" y="1979640"/>
            <a:ext cx="660600" cy="76212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lnTo>
                  <a:pt x="336" y="192"/>
                </a:lnTo>
                <a:lnTo>
                  <a:pt x="0" y="384"/>
                </a:lnTo>
                <a:lnTo>
                  <a:pt x="0" y="144"/>
                </a:lnTo>
                <a:lnTo>
                  <a:pt x="336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Freeform 94"/>
          <p:cNvSpPr/>
          <p:nvPr/>
        </p:nvSpPr>
        <p:spPr>
          <a:xfrm>
            <a:off x="4573440" y="3274920"/>
            <a:ext cx="571680" cy="104796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144" y="0"/>
                </a:moveTo>
                <a:lnTo>
                  <a:pt x="288" y="528"/>
                </a:lnTo>
                <a:lnTo>
                  <a:pt x="0" y="288"/>
                </a:lnTo>
                <a:lnTo>
                  <a:pt x="144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Freeform 95"/>
          <p:cNvSpPr/>
          <p:nvPr/>
        </p:nvSpPr>
        <p:spPr>
          <a:xfrm>
            <a:off x="8389800" y="2843280"/>
            <a:ext cx="666720" cy="76176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0"/>
                </a:moveTo>
                <a:lnTo>
                  <a:pt x="96" y="240"/>
                </a:lnTo>
                <a:lnTo>
                  <a:pt x="336" y="384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Freeform 96"/>
          <p:cNvSpPr/>
          <p:nvPr/>
        </p:nvSpPr>
        <p:spPr>
          <a:xfrm rot="5033400">
            <a:off x="11218320" y="1885680"/>
            <a:ext cx="914400" cy="1676520"/>
          </a:xfrm>
          <a:custGeom>
            <a:avLst/>
            <a:gdLst/>
            <a:ahLst/>
            <a:rect l="l" t="t" r="r" b="b"/>
            <a:pathLst>
              <a:path w="288" h="528">
                <a:moveTo>
                  <a:pt x="144" y="0"/>
                </a:moveTo>
                <a:lnTo>
                  <a:pt x="288" y="528"/>
                </a:lnTo>
                <a:lnTo>
                  <a:pt x="0" y="288"/>
                </a:lnTo>
                <a:lnTo>
                  <a:pt x="144" y="144"/>
                </a:lnTo>
                <a:lnTo>
                  <a:pt x="144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Freeform 97"/>
          <p:cNvSpPr/>
          <p:nvPr/>
        </p:nvSpPr>
        <p:spPr>
          <a:xfrm>
            <a:off x="6950160" y="5938920"/>
            <a:ext cx="761760" cy="1047600"/>
          </a:xfrm>
          <a:custGeom>
            <a:avLst/>
            <a:gdLst/>
            <a:ahLst/>
            <a:rect l="l" t="t" r="r" b="b"/>
            <a:pathLst>
              <a:path w="384" h="528">
                <a:moveTo>
                  <a:pt x="0" y="288"/>
                </a:moveTo>
                <a:lnTo>
                  <a:pt x="384" y="0"/>
                </a:lnTo>
                <a:lnTo>
                  <a:pt x="240" y="528"/>
                </a:lnTo>
                <a:lnTo>
                  <a:pt x="192" y="336"/>
                </a:lnTo>
                <a:lnTo>
                  <a:pt x="0" y="288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Freeform 98"/>
          <p:cNvSpPr/>
          <p:nvPr/>
        </p:nvSpPr>
        <p:spPr>
          <a:xfrm>
            <a:off x="9758520" y="5796000"/>
            <a:ext cx="1981080" cy="9144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0"/>
                </a:moveTo>
                <a:lnTo>
                  <a:pt x="624" y="288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Freeform 99"/>
          <p:cNvSpPr/>
          <p:nvPr/>
        </p:nvSpPr>
        <p:spPr>
          <a:xfrm>
            <a:off x="9901080" y="4356000"/>
            <a:ext cx="1676520" cy="167652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96"/>
                </a:moveTo>
                <a:lnTo>
                  <a:pt x="528" y="528"/>
                </a:lnTo>
                <a:lnTo>
                  <a:pt x="432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Freeform 100"/>
          <p:cNvSpPr/>
          <p:nvPr/>
        </p:nvSpPr>
        <p:spPr>
          <a:xfrm>
            <a:off x="8029440" y="4138560"/>
            <a:ext cx="762120" cy="198108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0" y="0"/>
                </a:moveTo>
                <a:lnTo>
                  <a:pt x="48" y="384"/>
                </a:lnTo>
                <a:lnTo>
                  <a:pt x="240" y="624"/>
                </a:lnTo>
                <a:lnTo>
                  <a:pt x="192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Freeform 101"/>
          <p:cNvSpPr/>
          <p:nvPr/>
        </p:nvSpPr>
        <p:spPr>
          <a:xfrm>
            <a:off x="9685440" y="6875640"/>
            <a:ext cx="2133360" cy="121896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672" y="0"/>
                </a:moveTo>
                <a:lnTo>
                  <a:pt x="480" y="384"/>
                </a:lnTo>
                <a:lnTo>
                  <a:pt x="0" y="96"/>
                </a:lnTo>
                <a:lnTo>
                  <a:pt x="384" y="14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Freeform 102"/>
          <p:cNvSpPr/>
          <p:nvPr/>
        </p:nvSpPr>
        <p:spPr>
          <a:xfrm>
            <a:off x="7813800" y="6875640"/>
            <a:ext cx="1333440" cy="85716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240"/>
                </a:moveTo>
                <a:lnTo>
                  <a:pt x="480" y="0"/>
                </a:lnTo>
                <a:lnTo>
                  <a:pt x="672" y="384"/>
                </a:lnTo>
                <a:lnTo>
                  <a:pt x="480" y="432"/>
                </a:lnTo>
                <a:lnTo>
                  <a:pt x="0" y="24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Freeform 103"/>
          <p:cNvSpPr/>
          <p:nvPr/>
        </p:nvSpPr>
        <p:spPr>
          <a:xfrm>
            <a:off x="8893080" y="4211640"/>
            <a:ext cx="1238400" cy="123840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0" y="384"/>
                </a:moveTo>
                <a:lnTo>
                  <a:pt x="576" y="0"/>
                </a:lnTo>
                <a:lnTo>
                  <a:pt x="480" y="288"/>
                </a:lnTo>
                <a:lnTo>
                  <a:pt x="624" y="624"/>
                </a:lnTo>
                <a:lnTo>
                  <a:pt x="384" y="480"/>
                </a:lnTo>
                <a:lnTo>
                  <a:pt x="0" y="384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Freeform 104"/>
          <p:cNvSpPr/>
          <p:nvPr/>
        </p:nvSpPr>
        <p:spPr>
          <a:xfrm>
            <a:off x="11630160" y="3564000"/>
            <a:ext cx="761760" cy="1981080"/>
          </a:xfrm>
          <a:custGeom>
            <a:avLst/>
            <a:gdLst/>
            <a:ahLst/>
            <a:rect l="l" t="t" r="r" b="b"/>
            <a:pathLst>
              <a:path w="240" h="624">
                <a:moveTo>
                  <a:pt x="0" y="0"/>
                </a:moveTo>
                <a:lnTo>
                  <a:pt x="48" y="384"/>
                </a:lnTo>
                <a:lnTo>
                  <a:pt x="240" y="624"/>
                </a:lnTo>
                <a:lnTo>
                  <a:pt x="192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Freeform 105"/>
          <p:cNvSpPr/>
          <p:nvPr/>
        </p:nvSpPr>
        <p:spPr>
          <a:xfrm>
            <a:off x="5648400" y="3444840"/>
            <a:ext cx="660240" cy="113652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576"/>
                </a:moveTo>
                <a:lnTo>
                  <a:pt x="48" y="0"/>
                </a:lnTo>
                <a:lnTo>
                  <a:pt x="336" y="336"/>
                </a:lnTo>
                <a:lnTo>
                  <a:pt x="0" y="576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Freeform 108"/>
          <p:cNvSpPr/>
          <p:nvPr/>
        </p:nvSpPr>
        <p:spPr>
          <a:xfrm>
            <a:off x="6485040" y="4643280"/>
            <a:ext cx="787320" cy="393840"/>
          </a:xfrm>
          <a:custGeom>
            <a:avLst/>
            <a:gdLst/>
            <a:ahLst/>
            <a:rect l="l" t="t" r="r" b="b"/>
            <a:pathLst>
              <a:path w="496" h="248">
                <a:moveTo>
                  <a:pt x="0" y="220"/>
                </a:moveTo>
                <a:lnTo>
                  <a:pt x="496" y="248"/>
                </a:lnTo>
                <a:lnTo>
                  <a:pt x="128" y="0"/>
                </a:lnTo>
                <a:lnTo>
                  <a:pt x="0" y="22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0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9785E-006 9.73202E-007 L -0.01 -0.01252 E">
                                      <p:cBhvr>
                                        <p:cTn id="1000" dur="2000" fill="hold"/>
                                        <p:tgtEl>
                                          <p:spTgt spid="2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2" dur="20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10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591E-006 2.32722E-006 L 0.01495 0.01058 E">
                                      <p:cBhvr>
                                        <p:cTn id="1004" dur="2000" fill="hold"/>
                                        <p:tgtEl>
                                          <p:spTgt spid="2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6" dur="20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10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52455E-006 1.75141E-006 L -0.69767 -0.35646 E">
                                      <p:cBhvr>
                                        <p:cTn id="1008" dur="2000" fill="hold"/>
                                        <p:tgtEl>
                                          <p:spTgt spid="2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8898E-006 -2.0339E-006 L -0.29673 -0.25406 E">
                                      <p:cBhvr>
                                        <p:cTn id="1010" dur="2000" fill="hold"/>
                                        <p:tgtEl>
                                          <p:spTgt spid="2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891E-006 2.46604E-006 L -0.41579 -0.14535 E">
                                      <p:cBhvr>
                                        <p:cTn id="1012" dur="2000" fill="hold"/>
                                        <p:tgtEl>
                                          <p:spTgt spid="29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7673E-006 -1.8169E-007 L -0.37212 -0.3221 E">
                                      <p:cBhvr>
                                        <p:cTn id="1014" dur="2000" fill="hold"/>
                                        <p:tgtEl>
                                          <p:spTgt spid="29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7916E-006 4.29379E-006 L -0.10272 -0.37412 E">
                                      <p:cBhvr>
                                        <p:cTn id="1016" dur="2000" fill="hold"/>
                                        <p:tgtEl>
                                          <p:spTgt spid="29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9931E-006 4.68927E-006 L -0.57999 -0.01024 E">
                                      <p:cBhvr>
                                        <p:cTn id="1018" dur="2000" fill="hold"/>
                                        <p:tgtEl>
                                          <p:spTgt spid="29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5263E-006 5.08475E-007 L -0.4073 0.04255 E">
                                      <p:cBhvr>
                                        <p:cTn id="1020" dur="2000" fill="hold"/>
                                        <p:tgtEl>
                                          <p:spTgt spid="2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5245E-006 1.63842E-006 L -0.16893 0.62288 E">
                                      <p:cBhvr>
                                        <p:cTn id="1022" dur="2000" fill="hold"/>
                                        <p:tgtEl>
                                          <p:spTgt spid="2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2527E-006 2.87529E-006 L -0.31372 -0.06068 E">
                                      <p:cBhvr>
                                        <p:cTn id="1024" dur="2000" fill="hold"/>
                                        <p:tgtEl>
                                          <p:spTgt spid="2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98 0.02772 L 0.41225 -0.27772 E">
                                      <p:cBhvr>
                                        <p:cTn id="1026" dur="2000" fill="hold"/>
                                        <p:tgtEl>
                                          <p:spTgt spid="2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4617E-006 2.42938E-006 L 0.37457 0.05826 E">
                                      <p:cBhvr>
                                        <p:cTn id="1028" dur="2000" fill="hold"/>
                                        <p:tgtEl>
                                          <p:spTgt spid="29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9 -0.07345 L 0.30545 -0.31727 E">
                                      <p:cBhvr>
                                        <p:cTn id="1030" dur="2000" fill="hold"/>
                                        <p:tgtEl>
                                          <p:spTgt spid="29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66122E-006 4.84742E-006 L 0.22929 -0.47293 E">
                                      <p:cBhvr>
                                        <p:cTn id="1032" dur="2000" fill="hold"/>
                                        <p:tgtEl>
                                          <p:spTgt spid="29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9335E-006 -2.13442E-006 L 0.42268 -0.72517 E">
                                      <p:cBhvr>
                                        <p:cTn id="1034" dur="2000" fill="hold"/>
                                        <p:tgtEl>
                                          <p:spTgt spid="29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5754E-006 -4.84565E-006 L 0.48526 -0.4514 E">
                                      <p:cBhvr>
                                        <p:cTn id="1036" dur="2000" fill="hold"/>
                                        <p:tgtEl>
                                          <p:spTgt spid="29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4677E-006 1.35593E-006 L 0.29016 -0.42355 E">
                                      <p:cBhvr>
                                        <p:cTn id="1038" dur="2000" fill="hold"/>
                                        <p:tgtEl>
                                          <p:spTgt spid="29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65116E-007 -4.23729E-006 L 0.13889 -0.43838 E">
                                      <p:cBhvr>
                                        <p:cTn id="1040" dur="2000" fill="hold"/>
                                        <p:tgtEl>
                                          <p:spTgt spid="2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3375E-006 -1.1607E-006 L 0.21134 -0.5172 E">
                                      <p:cBhvr>
                                        <p:cTn id="1042" dur="2000" fill="hold"/>
                                        <p:tgtEl>
                                          <p:spTgt spid="29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909E-006 -4.24413E-006 L 0.48956 -0.21026 E">
                                      <p:cBhvr>
                                        <p:cTn id="1044" dur="2000" fill="hold"/>
                                        <p:tgtEl>
                                          <p:spTgt spid="29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9828E-006 3.89831E-006 L 0.29479 0.02136 E">
                                      <p:cBhvr>
                                        <p:cTn id="1046" dur="2000" fill="hold"/>
                                        <p:tgtEl>
                                          <p:spTgt spid="2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3204E-006 -4.91525E-006 L 0.30878 0.60594 E">
                                      <p:cBhvr>
                                        <p:cTn id="1048" dur="2000" fill="hold"/>
                                        <p:tgtEl>
                                          <p:spTgt spid="2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26873E-007 -3.61582E-006 L 0.51938 0.66755 E">
                                      <p:cBhvr>
                                        <p:cTn id="1050" dur="2000" fill="hold"/>
                                        <p:tgtEl>
                                          <p:spTgt spid="2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02E-008 -1.78868E-006 L 0.46687 -0.01376 E">
                                      <p:cBhvr>
                                        <p:cTn id="1052" dur="2000" fill="hold"/>
                                        <p:tgtEl>
                                          <p:spTgt spid="2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0108E-007 -6.27202E-007 L 0.22043 0.25211 E">
                                      <p:cBhvr>
                                        <p:cTn id="1054" dur="2000" fill="hold"/>
                                        <p:tgtEl>
                                          <p:spTgt spid="2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9785E-006 3.93939E-006 L 0.18892 0.32012 E">
                                      <p:cBhvr>
                                        <p:cTn id="1056" dur="2000" fill="hold"/>
                                        <p:tgtEl>
                                          <p:spTgt spid="2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889E-008 4.88446E-006 L 0.38535 0.50926 E">
                                      <p:cBhvr>
                                        <p:cTn id="1058" dur="2000" fill="hold"/>
                                        <p:tgtEl>
                                          <p:spTgt spid="2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16796E-007 -2.48588E-006 L 0.57483 0.15413 E">
                                      <p:cBhvr>
                                        <p:cTn id="1060" dur="2000" fill="hold"/>
                                        <p:tgtEl>
                                          <p:spTgt spid="2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98818E-006 4.65608E-006 L 0.69268 -0.44392 E">
                                      <p:cBhvr>
                                        <p:cTn id="1062" dur="2000" fill="hold"/>
                                        <p:tgtEl>
                                          <p:spTgt spid="2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5033E-006 3.93015E-006 L 0.69617 0.18204 E">
                                      <p:cBhvr>
                                        <p:cTn id="1064" dur="2000" fill="hold"/>
                                        <p:tgtEl>
                                          <p:spTgt spid="2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66" dur="20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68" dur="20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0" dur="20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2" dur="20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4" dur="20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6" dur="20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78" dur="20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80" dur="20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82" dur="20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84" dur="200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86" dur="20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88" dur="20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0" dur="20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2" dur="2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4" dur="20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6" dur="20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98" dur="20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0" dur="20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2" dur="20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4" dur="20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6" dur="20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08" dur="200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0" dur="20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2" dur="200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4" dur="200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6" dur="20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18" dur="200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20" dur="200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22" dur="20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1124" dur="20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1126" dur="200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09479 L -3.44086E-006 4.22833E-008 E">
                                      <p:cBhvr>
                                        <p:cTn id="1128" dur="2000" fill="hold"/>
                                        <p:tgtEl>
                                          <p:spTgt spid="2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84"/>
          <p:cNvSpPr/>
          <p:nvPr/>
        </p:nvSpPr>
        <p:spPr>
          <a:xfrm rot="5400000">
            <a:off x="4732560" y="2284920"/>
            <a:ext cx="5054400" cy="3598920"/>
          </a:xfrm>
          <a:custGeom>
            <a:avLst/>
            <a:gdLst/>
            <a:ahLst/>
            <a:rect l="l" t="t" r="r" b="b"/>
            <a:pathLst>
              <a:path w="6875" h="4257">
                <a:moveTo>
                  <a:pt x="6840" y="1458"/>
                </a:moveTo>
                <a:lnTo>
                  <a:pt x="6853" y="564"/>
                </a:lnTo>
                <a:lnTo>
                  <a:pt x="6875" y="0"/>
                </a:lnTo>
                <a:lnTo>
                  <a:pt x="6307" y="19"/>
                </a:lnTo>
                <a:lnTo>
                  <a:pt x="5586" y="29"/>
                </a:lnTo>
                <a:lnTo>
                  <a:pt x="0" y="29"/>
                </a:lnTo>
                <a:lnTo>
                  <a:pt x="0" y="4255"/>
                </a:lnTo>
                <a:lnTo>
                  <a:pt x="6841" y="4257"/>
                </a:lnTo>
                <a:lnTo>
                  <a:pt x="6840" y="1458"/>
                </a:lnTo>
                <a:close/>
              </a:path>
            </a:pathLst>
          </a:custGeom>
          <a:solidFill>
            <a:srgbClr val="fefef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5"/>
          <p:cNvSpPr/>
          <p:nvPr/>
        </p:nvSpPr>
        <p:spPr>
          <a:xfrm rot="5400000">
            <a:off x="4727880" y="2272320"/>
            <a:ext cx="5067360" cy="3598920"/>
          </a:xfrm>
          <a:custGeom>
            <a:avLst/>
            <a:gdLst/>
            <a:ahLst/>
            <a:rect l="l" t="t" r="r" b="b"/>
            <a:pathLst>
              <a:path w="6896" h="4273">
                <a:moveTo>
                  <a:pt x="6836" y="2248"/>
                </a:moveTo>
                <a:lnTo>
                  <a:pt x="6836" y="1980"/>
                </a:lnTo>
                <a:lnTo>
                  <a:pt x="6840" y="1710"/>
                </a:lnTo>
                <a:lnTo>
                  <a:pt x="6844" y="1435"/>
                </a:lnTo>
                <a:lnTo>
                  <a:pt x="6851" y="1157"/>
                </a:lnTo>
                <a:lnTo>
                  <a:pt x="6858" y="874"/>
                </a:lnTo>
                <a:lnTo>
                  <a:pt x="6869" y="587"/>
                </a:lnTo>
                <a:lnTo>
                  <a:pt x="6881" y="295"/>
                </a:lnTo>
                <a:lnTo>
                  <a:pt x="6896" y="0"/>
                </a:lnTo>
                <a:lnTo>
                  <a:pt x="6330" y="25"/>
                </a:lnTo>
                <a:lnTo>
                  <a:pt x="5424" y="45"/>
                </a:lnTo>
                <a:lnTo>
                  <a:pt x="0" y="45"/>
                </a:lnTo>
                <a:lnTo>
                  <a:pt x="0" y="4271"/>
                </a:lnTo>
                <a:lnTo>
                  <a:pt x="6467" y="4273"/>
                </a:lnTo>
                <a:lnTo>
                  <a:pt x="6836" y="4269"/>
                </a:lnTo>
                <a:lnTo>
                  <a:pt x="6836" y="2248"/>
                </a:lnTo>
                <a:close/>
              </a:path>
            </a:pathLst>
          </a:custGeom>
          <a:solidFill>
            <a:srgbClr val="fefef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6"/>
          <p:cNvSpPr/>
          <p:nvPr/>
        </p:nvSpPr>
        <p:spPr>
          <a:xfrm rot="5400000">
            <a:off x="4734000" y="2300760"/>
            <a:ext cx="5089320" cy="3598920"/>
          </a:xfrm>
          <a:custGeom>
            <a:avLst/>
            <a:gdLst/>
            <a:ahLst/>
            <a:rect l="l" t="t" r="r" b="b"/>
            <a:pathLst>
              <a:path w="6925" h="4285">
                <a:moveTo>
                  <a:pt x="6836" y="2682"/>
                </a:moveTo>
                <a:lnTo>
                  <a:pt x="6838" y="2493"/>
                </a:lnTo>
                <a:lnTo>
                  <a:pt x="6840" y="2307"/>
                </a:lnTo>
                <a:lnTo>
                  <a:pt x="6842" y="2124"/>
                </a:lnTo>
                <a:lnTo>
                  <a:pt x="6847" y="1945"/>
                </a:lnTo>
                <a:lnTo>
                  <a:pt x="6850" y="1766"/>
                </a:lnTo>
                <a:lnTo>
                  <a:pt x="6854" y="1592"/>
                </a:lnTo>
                <a:lnTo>
                  <a:pt x="6859" y="1421"/>
                </a:lnTo>
                <a:lnTo>
                  <a:pt x="6865" y="1253"/>
                </a:lnTo>
                <a:lnTo>
                  <a:pt x="6870" y="1086"/>
                </a:lnTo>
                <a:lnTo>
                  <a:pt x="6876" y="923"/>
                </a:lnTo>
                <a:lnTo>
                  <a:pt x="6883" y="762"/>
                </a:lnTo>
                <a:lnTo>
                  <a:pt x="6890" y="605"/>
                </a:lnTo>
                <a:lnTo>
                  <a:pt x="6898" y="449"/>
                </a:lnTo>
                <a:lnTo>
                  <a:pt x="6906" y="296"/>
                </a:lnTo>
                <a:lnTo>
                  <a:pt x="6916" y="146"/>
                </a:lnTo>
                <a:lnTo>
                  <a:pt x="6925" y="0"/>
                </a:lnTo>
                <a:lnTo>
                  <a:pt x="6066" y="42"/>
                </a:lnTo>
                <a:lnTo>
                  <a:pt x="5314" y="59"/>
                </a:lnTo>
                <a:lnTo>
                  <a:pt x="0" y="59"/>
                </a:lnTo>
                <a:lnTo>
                  <a:pt x="0" y="4285"/>
                </a:lnTo>
                <a:lnTo>
                  <a:pt x="6155" y="4285"/>
                </a:lnTo>
                <a:lnTo>
                  <a:pt x="6834" y="4279"/>
                </a:lnTo>
                <a:lnTo>
                  <a:pt x="6836" y="2682"/>
                </a:lnTo>
                <a:close/>
              </a:path>
            </a:pathLst>
          </a:custGeom>
          <a:solidFill>
            <a:srgbClr val="fefef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7"/>
          <p:cNvSpPr/>
          <p:nvPr/>
        </p:nvSpPr>
        <p:spPr>
          <a:xfrm rot="5400000">
            <a:off x="4707000" y="2316600"/>
            <a:ext cx="5111640" cy="3598920"/>
          </a:xfrm>
          <a:custGeom>
            <a:avLst/>
            <a:gdLst/>
            <a:ahLst/>
            <a:rect l="l" t="t" r="r" b="b"/>
            <a:pathLst>
              <a:path w="6956" h="4295">
                <a:moveTo>
                  <a:pt x="6852" y="2161"/>
                </a:moveTo>
                <a:lnTo>
                  <a:pt x="6880" y="1361"/>
                </a:lnTo>
                <a:lnTo>
                  <a:pt x="6956" y="0"/>
                </a:lnTo>
                <a:lnTo>
                  <a:pt x="6040" y="46"/>
                </a:lnTo>
                <a:lnTo>
                  <a:pt x="5176" y="71"/>
                </a:lnTo>
                <a:lnTo>
                  <a:pt x="0" y="69"/>
                </a:lnTo>
                <a:lnTo>
                  <a:pt x="0" y="4295"/>
                </a:lnTo>
                <a:lnTo>
                  <a:pt x="5456" y="4295"/>
                </a:lnTo>
                <a:lnTo>
                  <a:pt x="6833" y="4284"/>
                </a:lnTo>
                <a:lnTo>
                  <a:pt x="6838" y="3168"/>
                </a:lnTo>
                <a:lnTo>
                  <a:pt x="6852" y="2161"/>
                </a:lnTo>
                <a:close/>
              </a:path>
            </a:pathLst>
          </a:custGeom>
          <a:solidFill>
            <a:srgbClr val="fdfdf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8"/>
          <p:cNvSpPr/>
          <p:nvPr/>
        </p:nvSpPr>
        <p:spPr>
          <a:xfrm rot="5400000">
            <a:off x="4699080" y="2311920"/>
            <a:ext cx="5133960" cy="3598920"/>
          </a:xfrm>
          <a:custGeom>
            <a:avLst/>
            <a:gdLst/>
            <a:ahLst/>
            <a:rect l="l" t="t" r="r" b="b"/>
            <a:pathLst>
              <a:path w="6982" h="4291">
                <a:moveTo>
                  <a:pt x="6866" y="2423"/>
                </a:moveTo>
                <a:lnTo>
                  <a:pt x="6888" y="1856"/>
                </a:lnTo>
                <a:lnTo>
                  <a:pt x="6966" y="405"/>
                </a:lnTo>
                <a:lnTo>
                  <a:pt x="6982" y="0"/>
                </a:lnTo>
                <a:lnTo>
                  <a:pt x="5804" y="49"/>
                </a:lnTo>
                <a:lnTo>
                  <a:pt x="5089" y="68"/>
                </a:lnTo>
                <a:lnTo>
                  <a:pt x="0" y="65"/>
                </a:lnTo>
                <a:lnTo>
                  <a:pt x="0" y="4291"/>
                </a:lnTo>
                <a:lnTo>
                  <a:pt x="4893" y="4291"/>
                </a:lnTo>
                <a:lnTo>
                  <a:pt x="6208" y="4283"/>
                </a:lnTo>
                <a:lnTo>
                  <a:pt x="6840" y="4273"/>
                </a:lnTo>
                <a:lnTo>
                  <a:pt x="6846" y="3428"/>
                </a:lnTo>
                <a:lnTo>
                  <a:pt x="6866" y="2423"/>
                </a:lnTo>
                <a:close/>
              </a:path>
            </a:pathLst>
          </a:custGeom>
          <a:solidFill>
            <a:srgbClr val="fcfcf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9"/>
          <p:cNvSpPr/>
          <p:nvPr/>
        </p:nvSpPr>
        <p:spPr>
          <a:xfrm rot="5400000">
            <a:off x="4670640" y="2318040"/>
            <a:ext cx="5149800" cy="3598920"/>
          </a:xfrm>
          <a:custGeom>
            <a:avLst/>
            <a:gdLst/>
            <a:ahLst/>
            <a:rect l="l" t="t" r="r" b="b"/>
            <a:pathLst>
              <a:path w="7003" h="4271">
                <a:moveTo>
                  <a:pt x="6989" y="640"/>
                </a:moveTo>
                <a:lnTo>
                  <a:pt x="6999" y="286"/>
                </a:lnTo>
                <a:lnTo>
                  <a:pt x="7003" y="0"/>
                </a:lnTo>
                <a:lnTo>
                  <a:pt x="4904" y="51"/>
                </a:lnTo>
                <a:lnTo>
                  <a:pt x="0" y="45"/>
                </a:lnTo>
                <a:lnTo>
                  <a:pt x="0" y="4271"/>
                </a:lnTo>
                <a:lnTo>
                  <a:pt x="4415" y="4271"/>
                </a:lnTo>
                <a:lnTo>
                  <a:pt x="5966" y="4259"/>
                </a:lnTo>
                <a:lnTo>
                  <a:pt x="6860" y="4241"/>
                </a:lnTo>
                <a:lnTo>
                  <a:pt x="6866" y="3623"/>
                </a:lnTo>
                <a:lnTo>
                  <a:pt x="6890" y="2653"/>
                </a:lnTo>
                <a:lnTo>
                  <a:pt x="6920" y="1950"/>
                </a:lnTo>
                <a:lnTo>
                  <a:pt x="6989" y="640"/>
                </a:lnTo>
                <a:close/>
              </a:path>
            </a:pathLst>
          </a:custGeom>
          <a:solidFill>
            <a:srgbClr val="fbfbf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0"/>
          <p:cNvSpPr/>
          <p:nvPr/>
        </p:nvSpPr>
        <p:spPr>
          <a:xfrm rot="5400000">
            <a:off x="4636080" y="2332800"/>
            <a:ext cx="5156280" cy="3598560"/>
          </a:xfrm>
          <a:custGeom>
            <a:avLst/>
            <a:gdLst/>
            <a:ahLst/>
            <a:rect l="l" t="t" r="r" b="b"/>
            <a:pathLst>
              <a:path w="7015" h="4226">
                <a:moveTo>
                  <a:pt x="7015" y="792"/>
                </a:moveTo>
                <a:lnTo>
                  <a:pt x="7014" y="261"/>
                </a:lnTo>
                <a:lnTo>
                  <a:pt x="7000" y="0"/>
                </a:lnTo>
                <a:lnTo>
                  <a:pt x="0" y="0"/>
                </a:lnTo>
                <a:lnTo>
                  <a:pt x="0" y="4226"/>
                </a:lnTo>
                <a:lnTo>
                  <a:pt x="4018" y="4226"/>
                </a:lnTo>
                <a:lnTo>
                  <a:pt x="5772" y="4210"/>
                </a:lnTo>
                <a:lnTo>
                  <a:pt x="6896" y="4189"/>
                </a:lnTo>
                <a:lnTo>
                  <a:pt x="6905" y="3508"/>
                </a:lnTo>
                <a:lnTo>
                  <a:pt x="6923" y="2890"/>
                </a:lnTo>
                <a:lnTo>
                  <a:pt x="7006" y="1155"/>
                </a:lnTo>
                <a:lnTo>
                  <a:pt x="7015" y="792"/>
                </a:lnTo>
                <a:close/>
              </a:path>
            </a:pathLst>
          </a:custGeom>
          <a:solidFill>
            <a:srgbClr val="f8f8f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1"/>
          <p:cNvSpPr/>
          <p:nvPr/>
        </p:nvSpPr>
        <p:spPr>
          <a:xfrm rot="5400000">
            <a:off x="4643640" y="2340360"/>
            <a:ext cx="5172120" cy="3598920"/>
          </a:xfrm>
          <a:custGeom>
            <a:avLst/>
            <a:gdLst/>
            <a:ahLst/>
            <a:rect l="l" t="t" r="r" b="b"/>
            <a:pathLst>
              <a:path w="7039" h="4226">
                <a:moveTo>
                  <a:pt x="7018" y="513"/>
                </a:moveTo>
                <a:lnTo>
                  <a:pt x="6997" y="298"/>
                </a:lnTo>
                <a:lnTo>
                  <a:pt x="6965" y="66"/>
                </a:lnTo>
                <a:lnTo>
                  <a:pt x="6595" y="33"/>
                </a:lnTo>
                <a:lnTo>
                  <a:pt x="6329" y="18"/>
                </a:lnTo>
                <a:lnTo>
                  <a:pt x="5741" y="2"/>
                </a:lnTo>
                <a:lnTo>
                  <a:pt x="0" y="0"/>
                </a:lnTo>
                <a:lnTo>
                  <a:pt x="0" y="4226"/>
                </a:lnTo>
                <a:lnTo>
                  <a:pt x="3624" y="4226"/>
                </a:lnTo>
                <a:lnTo>
                  <a:pt x="5214" y="4214"/>
                </a:lnTo>
                <a:lnTo>
                  <a:pt x="6950" y="4188"/>
                </a:lnTo>
                <a:lnTo>
                  <a:pt x="6960" y="3386"/>
                </a:lnTo>
                <a:lnTo>
                  <a:pt x="7033" y="1532"/>
                </a:lnTo>
                <a:lnTo>
                  <a:pt x="7039" y="1069"/>
                </a:lnTo>
                <a:lnTo>
                  <a:pt x="7034" y="817"/>
                </a:lnTo>
                <a:lnTo>
                  <a:pt x="7018" y="513"/>
                </a:lnTo>
                <a:close/>
              </a:path>
            </a:pathLst>
          </a:custGeom>
          <a:solidFill>
            <a:srgbClr val="f4f4f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2"/>
          <p:cNvSpPr/>
          <p:nvPr/>
        </p:nvSpPr>
        <p:spPr>
          <a:xfrm rot="5400000">
            <a:off x="4637880" y="2347560"/>
            <a:ext cx="5186520" cy="3598920"/>
          </a:xfrm>
          <a:custGeom>
            <a:avLst/>
            <a:gdLst/>
            <a:ahLst/>
            <a:rect l="l" t="t" r="r" b="b"/>
            <a:pathLst>
              <a:path w="7058" h="4226">
                <a:moveTo>
                  <a:pt x="6983" y="613"/>
                </a:moveTo>
                <a:lnTo>
                  <a:pt x="6931" y="352"/>
                </a:lnTo>
                <a:lnTo>
                  <a:pt x="6876" y="146"/>
                </a:lnTo>
                <a:lnTo>
                  <a:pt x="6529" y="88"/>
                </a:lnTo>
                <a:lnTo>
                  <a:pt x="6239" y="54"/>
                </a:lnTo>
                <a:lnTo>
                  <a:pt x="5964" y="31"/>
                </a:lnTo>
                <a:lnTo>
                  <a:pt x="5685" y="14"/>
                </a:lnTo>
                <a:lnTo>
                  <a:pt x="5370" y="4"/>
                </a:lnTo>
                <a:lnTo>
                  <a:pt x="0" y="0"/>
                </a:lnTo>
                <a:lnTo>
                  <a:pt x="0" y="4226"/>
                </a:lnTo>
                <a:lnTo>
                  <a:pt x="3207" y="4226"/>
                </a:lnTo>
                <a:lnTo>
                  <a:pt x="4647" y="4218"/>
                </a:lnTo>
                <a:lnTo>
                  <a:pt x="5822" y="4201"/>
                </a:lnTo>
                <a:lnTo>
                  <a:pt x="7013" y="4198"/>
                </a:lnTo>
                <a:lnTo>
                  <a:pt x="7020" y="3469"/>
                </a:lnTo>
                <a:lnTo>
                  <a:pt x="7058" y="2038"/>
                </a:lnTo>
                <a:lnTo>
                  <a:pt x="7058" y="1940"/>
                </a:lnTo>
                <a:lnTo>
                  <a:pt x="7058" y="1844"/>
                </a:lnTo>
                <a:lnTo>
                  <a:pt x="7057" y="1656"/>
                </a:lnTo>
                <a:lnTo>
                  <a:pt x="7053" y="1562"/>
                </a:lnTo>
                <a:lnTo>
                  <a:pt x="7051" y="1471"/>
                </a:lnTo>
                <a:lnTo>
                  <a:pt x="7047" y="1380"/>
                </a:lnTo>
                <a:lnTo>
                  <a:pt x="7044" y="1291"/>
                </a:lnTo>
                <a:lnTo>
                  <a:pt x="7038" y="1201"/>
                </a:lnTo>
                <a:lnTo>
                  <a:pt x="7032" y="1113"/>
                </a:lnTo>
                <a:lnTo>
                  <a:pt x="7025" y="1027"/>
                </a:lnTo>
                <a:lnTo>
                  <a:pt x="7019" y="943"/>
                </a:lnTo>
                <a:lnTo>
                  <a:pt x="7010" y="858"/>
                </a:lnTo>
                <a:lnTo>
                  <a:pt x="7002" y="775"/>
                </a:lnTo>
                <a:lnTo>
                  <a:pt x="6983" y="613"/>
                </a:lnTo>
                <a:close/>
              </a:path>
            </a:pathLst>
          </a:custGeom>
          <a:solidFill>
            <a:srgbClr val="f0f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3"/>
          <p:cNvSpPr/>
          <p:nvPr/>
        </p:nvSpPr>
        <p:spPr>
          <a:xfrm rot="5400000">
            <a:off x="4628520" y="2357280"/>
            <a:ext cx="5205600" cy="3598920"/>
          </a:xfrm>
          <a:custGeom>
            <a:avLst/>
            <a:gdLst/>
            <a:ahLst/>
            <a:rect l="l" t="t" r="r" b="b"/>
            <a:pathLst>
              <a:path w="7083" h="4224">
                <a:moveTo>
                  <a:pt x="6993" y="1150"/>
                </a:moveTo>
                <a:lnTo>
                  <a:pt x="6951" y="922"/>
                </a:lnTo>
                <a:lnTo>
                  <a:pt x="6930" y="833"/>
                </a:lnTo>
                <a:lnTo>
                  <a:pt x="6907" y="745"/>
                </a:lnTo>
                <a:lnTo>
                  <a:pt x="6882" y="656"/>
                </a:lnTo>
                <a:lnTo>
                  <a:pt x="6854" y="570"/>
                </a:lnTo>
                <a:lnTo>
                  <a:pt x="6824" y="482"/>
                </a:lnTo>
                <a:lnTo>
                  <a:pt x="6792" y="396"/>
                </a:lnTo>
                <a:lnTo>
                  <a:pt x="6757" y="310"/>
                </a:lnTo>
                <a:lnTo>
                  <a:pt x="6720" y="224"/>
                </a:lnTo>
                <a:lnTo>
                  <a:pt x="6579" y="186"/>
                </a:lnTo>
                <a:lnTo>
                  <a:pt x="6440" y="151"/>
                </a:lnTo>
                <a:lnTo>
                  <a:pt x="6301" y="120"/>
                </a:lnTo>
                <a:lnTo>
                  <a:pt x="6164" y="94"/>
                </a:lnTo>
                <a:lnTo>
                  <a:pt x="6026" y="70"/>
                </a:lnTo>
                <a:lnTo>
                  <a:pt x="5889" y="49"/>
                </a:lnTo>
                <a:lnTo>
                  <a:pt x="5754" y="32"/>
                </a:lnTo>
                <a:lnTo>
                  <a:pt x="5619" y="20"/>
                </a:lnTo>
                <a:lnTo>
                  <a:pt x="5298" y="2"/>
                </a:lnTo>
                <a:lnTo>
                  <a:pt x="0" y="0"/>
                </a:lnTo>
                <a:lnTo>
                  <a:pt x="0" y="4224"/>
                </a:lnTo>
                <a:lnTo>
                  <a:pt x="3290" y="4223"/>
                </a:lnTo>
                <a:lnTo>
                  <a:pt x="5419" y="4204"/>
                </a:lnTo>
                <a:lnTo>
                  <a:pt x="6221" y="4206"/>
                </a:lnTo>
                <a:lnTo>
                  <a:pt x="7080" y="4224"/>
                </a:lnTo>
                <a:lnTo>
                  <a:pt x="7077" y="3540"/>
                </a:lnTo>
                <a:lnTo>
                  <a:pt x="7083" y="2544"/>
                </a:lnTo>
                <a:lnTo>
                  <a:pt x="7077" y="2140"/>
                </a:lnTo>
                <a:lnTo>
                  <a:pt x="7055" y="1674"/>
                </a:lnTo>
                <a:lnTo>
                  <a:pt x="7032" y="1427"/>
                </a:lnTo>
                <a:lnTo>
                  <a:pt x="6993" y="1150"/>
                </a:lnTo>
                <a:close/>
              </a:path>
            </a:pathLst>
          </a:custGeom>
          <a:solidFill>
            <a:srgbClr val="eaeae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4"/>
          <p:cNvSpPr/>
          <p:nvPr/>
        </p:nvSpPr>
        <p:spPr>
          <a:xfrm rot="5400000">
            <a:off x="4614120" y="2369880"/>
            <a:ext cx="5205600" cy="3598920"/>
          </a:xfrm>
          <a:custGeom>
            <a:avLst/>
            <a:gdLst/>
            <a:ahLst/>
            <a:rect l="l" t="t" r="r" b="b"/>
            <a:pathLst>
              <a:path w="7083" h="4224">
                <a:moveTo>
                  <a:pt x="6993" y="1150"/>
                </a:moveTo>
                <a:lnTo>
                  <a:pt x="6951" y="922"/>
                </a:lnTo>
                <a:lnTo>
                  <a:pt x="6930" y="833"/>
                </a:lnTo>
                <a:lnTo>
                  <a:pt x="6907" y="745"/>
                </a:lnTo>
                <a:lnTo>
                  <a:pt x="6882" y="656"/>
                </a:lnTo>
                <a:lnTo>
                  <a:pt x="6854" y="570"/>
                </a:lnTo>
                <a:lnTo>
                  <a:pt x="6824" y="482"/>
                </a:lnTo>
                <a:lnTo>
                  <a:pt x="6792" y="396"/>
                </a:lnTo>
                <a:lnTo>
                  <a:pt x="6757" y="310"/>
                </a:lnTo>
                <a:lnTo>
                  <a:pt x="6720" y="224"/>
                </a:lnTo>
                <a:lnTo>
                  <a:pt x="6579" y="186"/>
                </a:lnTo>
                <a:lnTo>
                  <a:pt x="6440" y="151"/>
                </a:lnTo>
                <a:lnTo>
                  <a:pt x="6301" y="120"/>
                </a:lnTo>
                <a:lnTo>
                  <a:pt x="6164" y="94"/>
                </a:lnTo>
                <a:lnTo>
                  <a:pt x="6026" y="70"/>
                </a:lnTo>
                <a:lnTo>
                  <a:pt x="5889" y="49"/>
                </a:lnTo>
                <a:lnTo>
                  <a:pt x="5754" y="32"/>
                </a:lnTo>
                <a:lnTo>
                  <a:pt x="5619" y="20"/>
                </a:lnTo>
                <a:lnTo>
                  <a:pt x="5298" y="2"/>
                </a:lnTo>
                <a:lnTo>
                  <a:pt x="0" y="0"/>
                </a:lnTo>
                <a:lnTo>
                  <a:pt x="0" y="4224"/>
                </a:lnTo>
                <a:lnTo>
                  <a:pt x="3290" y="4223"/>
                </a:lnTo>
                <a:lnTo>
                  <a:pt x="5419" y="4204"/>
                </a:lnTo>
                <a:lnTo>
                  <a:pt x="6221" y="4206"/>
                </a:lnTo>
                <a:lnTo>
                  <a:pt x="7080" y="4224"/>
                </a:lnTo>
                <a:lnTo>
                  <a:pt x="7077" y="3540"/>
                </a:lnTo>
                <a:lnTo>
                  <a:pt x="7083" y="2544"/>
                </a:lnTo>
                <a:lnTo>
                  <a:pt x="7077" y="2140"/>
                </a:lnTo>
                <a:lnTo>
                  <a:pt x="7055" y="1674"/>
                </a:lnTo>
                <a:lnTo>
                  <a:pt x="7032" y="1427"/>
                </a:lnTo>
                <a:lnTo>
                  <a:pt x="6993" y="1150"/>
                </a:lnTo>
                <a:close/>
              </a:path>
            </a:pathLst>
          </a:custGeom>
          <a:solidFill>
            <a:srgbClr val="eaeae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5"/>
          <p:cNvSpPr/>
          <p:nvPr/>
        </p:nvSpPr>
        <p:spPr>
          <a:xfrm rot="5400000">
            <a:off x="4663440" y="2382480"/>
            <a:ext cx="5234040" cy="3598920"/>
          </a:xfrm>
          <a:custGeom>
            <a:avLst/>
            <a:gdLst/>
            <a:ahLst/>
            <a:rect l="l" t="t" r="r" b="b"/>
            <a:pathLst>
              <a:path w="7124" h="4301">
                <a:moveTo>
                  <a:pt x="6723" y="762"/>
                </a:moveTo>
                <a:lnTo>
                  <a:pt x="6615" y="527"/>
                </a:lnTo>
                <a:lnTo>
                  <a:pt x="6479" y="289"/>
                </a:lnTo>
                <a:lnTo>
                  <a:pt x="6431" y="262"/>
                </a:lnTo>
                <a:lnTo>
                  <a:pt x="6381" y="237"/>
                </a:lnTo>
                <a:lnTo>
                  <a:pt x="6327" y="213"/>
                </a:lnTo>
                <a:lnTo>
                  <a:pt x="6270" y="190"/>
                </a:lnTo>
                <a:lnTo>
                  <a:pt x="6208" y="167"/>
                </a:lnTo>
                <a:lnTo>
                  <a:pt x="6143" y="147"/>
                </a:lnTo>
                <a:lnTo>
                  <a:pt x="6075" y="127"/>
                </a:lnTo>
                <a:lnTo>
                  <a:pt x="6003" y="111"/>
                </a:lnTo>
                <a:lnTo>
                  <a:pt x="5926" y="93"/>
                </a:lnTo>
                <a:lnTo>
                  <a:pt x="5846" y="77"/>
                </a:lnTo>
                <a:lnTo>
                  <a:pt x="5762" y="63"/>
                </a:lnTo>
                <a:lnTo>
                  <a:pt x="5675" y="51"/>
                </a:lnTo>
                <a:lnTo>
                  <a:pt x="5584" y="37"/>
                </a:lnTo>
                <a:lnTo>
                  <a:pt x="5489" y="27"/>
                </a:lnTo>
                <a:lnTo>
                  <a:pt x="5391" y="17"/>
                </a:lnTo>
                <a:lnTo>
                  <a:pt x="5290" y="10"/>
                </a:lnTo>
                <a:lnTo>
                  <a:pt x="5279" y="7"/>
                </a:lnTo>
                <a:lnTo>
                  <a:pt x="5266" y="6"/>
                </a:lnTo>
                <a:lnTo>
                  <a:pt x="5250" y="4"/>
                </a:lnTo>
                <a:lnTo>
                  <a:pt x="5232" y="4"/>
                </a:lnTo>
                <a:lnTo>
                  <a:pt x="5212" y="1"/>
                </a:lnTo>
                <a:lnTo>
                  <a:pt x="5189" y="1"/>
                </a:lnTo>
                <a:lnTo>
                  <a:pt x="5164" y="1"/>
                </a:lnTo>
                <a:lnTo>
                  <a:pt x="5136" y="1"/>
                </a:lnTo>
                <a:lnTo>
                  <a:pt x="5106" y="0"/>
                </a:lnTo>
                <a:lnTo>
                  <a:pt x="5074" y="0"/>
                </a:lnTo>
                <a:lnTo>
                  <a:pt x="5039" y="0"/>
                </a:lnTo>
                <a:lnTo>
                  <a:pt x="5003" y="0"/>
                </a:lnTo>
                <a:lnTo>
                  <a:pt x="4964" y="0"/>
                </a:lnTo>
                <a:lnTo>
                  <a:pt x="4922" y="0"/>
                </a:lnTo>
                <a:lnTo>
                  <a:pt x="4877" y="0"/>
                </a:lnTo>
                <a:lnTo>
                  <a:pt x="4833" y="3"/>
                </a:lnTo>
                <a:lnTo>
                  <a:pt x="4784" y="3"/>
                </a:lnTo>
                <a:lnTo>
                  <a:pt x="4732" y="3"/>
                </a:lnTo>
                <a:lnTo>
                  <a:pt x="4678" y="3"/>
                </a:lnTo>
                <a:lnTo>
                  <a:pt x="4623" y="5"/>
                </a:lnTo>
                <a:lnTo>
                  <a:pt x="4564" y="5"/>
                </a:lnTo>
                <a:lnTo>
                  <a:pt x="4503" y="7"/>
                </a:lnTo>
                <a:lnTo>
                  <a:pt x="4439" y="9"/>
                </a:lnTo>
                <a:lnTo>
                  <a:pt x="4376" y="11"/>
                </a:lnTo>
                <a:lnTo>
                  <a:pt x="4307" y="11"/>
                </a:lnTo>
                <a:lnTo>
                  <a:pt x="4236" y="13"/>
                </a:lnTo>
                <a:lnTo>
                  <a:pt x="4163" y="16"/>
                </a:lnTo>
                <a:lnTo>
                  <a:pt x="4090" y="18"/>
                </a:lnTo>
                <a:lnTo>
                  <a:pt x="4012" y="21"/>
                </a:lnTo>
                <a:lnTo>
                  <a:pt x="3934" y="23"/>
                </a:lnTo>
                <a:lnTo>
                  <a:pt x="3851" y="25"/>
                </a:lnTo>
                <a:lnTo>
                  <a:pt x="3768" y="29"/>
                </a:lnTo>
                <a:lnTo>
                  <a:pt x="2483" y="17"/>
                </a:lnTo>
                <a:lnTo>
                  <a:pt x="0" y="15"/>
                </a:lnTo>
                <a:lnTo>
                  <a:pt x="3" y="4241"/>
                </a:lnTo>
                <a:lnTo>
                  <a:pt x="3218" y="4239"/>
                </a:lnTo>
                <a:lnTo>
                  <a:pt x="5212" y="4225"/>
                </a:lnTo>
                <a:lnTo>
                  <a:pt x="5592" y="4229"/>
                </a:lnTo>
                <a:lnTo>
                  <a:pt x="6124" y="4241"/>
                </a:lnTo>
                <a:lnTo>
                  <a:pt x="6615" y="4264"/>
                </a:lnTo>
                <a:lnTo>
                  <a:pt x="7124" y="4301"/>
                </a:lnTo>
                <a:lnTo>
                  <a:pt x="7095" y="3051"/>
                </a:lnTo>
                <a:lnTo>
                  <a:pt x="7068" y="2502"/>
                </a:lnTo>
                <a:lnTo>
                  <a:pt x="7049" y="2245"/>
                </a:lnTo>
                <a:lnTo>
                  <a:pt x="7019" y="1975"/>
                </a:lnTo>
                <a:lnTo>
                  <a:pt x="6987" y="1744"/>
                </a:lnTo>
                <a:lnTo>
                  <a:pt x="6935" y="1465"/>
                </a:lnTo>
                <a:lnTo>
                  <a:pt x="6884" y="1243"/>
                </a:lnTo>
                <a:lnTo>
                  <a:pt x="6796" y="959"/>
                </a:lnTo>
                <a:lnTo>
                  <a:pt x="6723" y="762"/>
                </a:lnTo>
                <a:close/>
              </a:path>
            </a:pathLst>
          </a:custGeom>
          <a:solidFill>
            <a:srgbClr val="e3e3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96"/>
          <p:cNvSpPr/>
          <p:nvPr/>
        </p:nvSpPr>
        <p:spPr>
          <a:xfrm rot="5400000">
            <a:off x="4689360" y="2390760"/>
            <a:ext cx="5227560" cy="3598560"/>
          </a:xfrm>
          <a:custGeom>
            <a:avLst/>
            <a:gdLst/>
            <a:ahLst/>
            <a:rect l="l" t="t" r="r" b="b"/>
            <a:pathLst>
              <a:path w="7109" h="4419">
                <a:moveTo>
                  <a:pt x="6870" y="2004"/>
                </a:moveTo>
                <a:lnTo>
                  <a:pt x="6816" y="1773"/>
                </a:lnTo>
                <a:lnTo>
                  <a:pt x="6748" y="1525"/>
                </a:lnTo>
                <a:lnTo>
                  <a:pt x="6665" y="1277"/>
                </a:lnTo>
                <a:lnTo>
                  <a:pt x="6567" y="1031"/>
                </a:lnTo>
                <a:lnTo>
                  <a:pt x="6449" y="783"/>
                </a:lnTo>
                <a:lnTo>
                  <a:pt x="6315" y="540"/>
                </a:lnTo>
                <a:lnTo>
                  <a:pt x="6159" y="299"/>
                </a:lnTo>
                <a:lnTo>
                  <a:pt x="6022" y="191"/>
                </a:lnTo>
                <a:lnTo>
                  <a:pt x="5981" y="168"/>
                </a:lnTo>
                <a:lnTo>
                  <a:pt x="5940" y="148"/>
                </a:lnTo>
                <a:lnTo>
                  <a:pt x="5897" y="127"/>
                </a:lnTo>
                <a:lnTo>
                  <a:pt x="5854" y="111"/>
                </a:lnTo>
                <a:lnTo>
                  <a:pt x="5808" y="94"/>
                </a:lnTo>
                <a:lnTo>
                  <a:pt x="5761" y="79"/>
                </a:lnTo>
                <a:lnTo>
                  <a:pt x="5713" y="65"/>
                </a:lnTo>
                <a:lnTo>
                  <a:pt x="5665" y="54"/>
                </a:lnTo>
                <a:lnTo>
                  <a:pt x="5614" y="42"/>
                </a:lnTo>
                <a:lnTo>
                  <a:pt x="5562" y="33"/>
                </a:lnTo>
                <a:lnTo>
                  <a:pt x="5509" y="23"/>
                </a:lnTo>
                <a:lnTo>
                  <a:pt x="5455" y="17"/>
                </a:lnTo>
                <a:lnTo>
                  <a:pt x="5399" y="11"/>
                </a:lnTo>
                <a:lnTo>
                  <a:pt x="5343" y="7"/>
                </a:lnTo>
                <a:lnTo>
                  <a:pt x="5285" y="4"/>
                </a:lnTo>
                <a:lnTo>
                  <a:pt x="5226" y="4"/>
                </a:lnTo>
                <a:lnTo>
                  <a:pt x="4969" y="0"/>
                </a:lnTo>
                <a:lnTo>
                  <a:pt x="4719" y="6"/>
                </a:lnTo>
                <a:lnTo>
                  <a:pt x="3407" y="58"/>
                </a:lnTo>
                <a:lnTo>
                  <a:pt x="2845" y="45"/>
                </a:lnTo>
                <a:lnTo>
                  <a:pt x="0" y="39"/>
                </a:lnTo>
                <a:lnTo>
                  <a:pt x="6" y="2243"/>
                </a:lnTo>
                <a:lnTo>
                  <a:pt x="0" y="4265"/>
                </a:lnTo>
                <a:lnTo>
                  <a:pt x="3096" y="4261"/>
                </a:lnTo>
                <a:lnTo>
                  <a:pt x="4648" y="4253"/>
                </a:lnTo>
                <a:lnTo>
                  <a:pt x="5188" y="4259"/>
                </a:lnTo>
                <a:lnTo>
                  <a:pt x="5859" y="4284"/>
                </a:lnTo>
                <a:lnTo>
                  <a:pt x="6462" y="4332"/>
                </a:lnTo>
                <a:lnTo>
                  <a:pt x="6797" y="4371"/>
                </a:lnTo>
                <a:lnTo>
                  <a:pt x="7109" y="4419"/>
                </a:lnTo>
                <a:lnTo>
                  <a:pt x="7065" y="3613"/>
                </a:lnTo>
                <a:lnTo>
                  <a:pt x="7044" y="3329"/>
                </a:lnTo>
                <a:lnTo>
                  <a:pt x="7000" y="2841"/>
                </a:lnTo>
                <a:lnTo>
                  <a:pt x="6960" y="2523"/>
                </a:lnTo>
                <a:lnTo>
                  <a:pt x="6922" y="2275"/>
                </a:lnTo>
                <a:lnTo>
                  <a:pt x="6870" y="2004"/>
                </a:lnTo>
                <a:close/>
              </a:path>
            </a:pathLst>
          </a:custGeom>
          <a:solidFill>
            <a:srgbClr val="dcdcd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97"/>
          <p:cNvSpPr/>
          <p:nvPr/>
        </p:nvSpPr>
        <p:spPr>
          <a:xfrm rot="5400000">
            <a:off x="4749120" y="2246040"/>
            <a:ext cx="5128920" cy="3747960"/>
          </a:xfrm>
          <a:custGeom>
            <a:avLst/>
            <a:gdLst/>
            <a:ahLst/>
            <a:rect l="l" t="t" r="r" b="b"/>
            <a:pathLst>
              <a:path w="6978" h="4609">
                <a:moveTo>
                  <a:pt x="6978" y="4609"/>
                </a:moveTo>
                <a:lnTo>
                  <a:pt x="6971" y="4536"/>
                </a:lnTo>
                <a:lnTo>
                  <a:pt x="6965" y="4465"/>
                </a:lnTo>
                <a:lnTo>
                  <a:pt x="6953" y="4324"/>
                </a:lnTo>
                <a:lnTo>
                  <a:pt x="6940" y="4186"/>
                </a:lnTo>
                <a:lnTo>
                  <a:pt x="6928" y="4053"/>
                </a:lnTo>
                <a:lnTo>
                  <a:pt x="6914" y="3921"/>
                </a:lnTo>
                <a:lnTo>
                  <a:pt x="6902" y="3794"/>
                </a:lnTo>
                <a:lnTo>
                  <a:pt x="6887" y="3669"/>
                </a:lnTo>
                <a:lnTo>
                  <a:pt x="6875" y="3549"/>
                </a:lnTo>
                <a:lnTo>
                  <a:pt x="6860" y="3430"/>
                </a:lnTo>
                <a:lnTo>
                  <a:pt x="6845" y="3316"/>
                </a:lnTo>
                <a:lnTo>
                  <a:pt x="6830" y="3205"/>
                </a:lnTo>
                <a:lnTo>
                  <a:pt x="6815" y="3097"/>
                </a:lnTo>
                <a:lnTo>
                  <a:pt x="6798" y="2991"/>
                </a:lnTo>
                <a:lnTo>
                  <a:pt x="6784" y="2889"/>
                </a:lnTo>
                <a:lnTo>
                  <a:pt x="6767" y="2791"/>
                </a:lnTo>
                <a:lnTo>
                  <a:pt x="6753" y="2696"/>
                </a:lnTo>
                <a:lnTo>
                  <a:pt x="6736" y="2616"/>
                </a:lnTo>
                <a:lnTo>
                  <a:pt x="6719" y="2536"/>
                </a:lnTo>
                <a:lnTo>
                  <a:pt x="6700" y="2455"/>
                </a:lnTo>
                <a:lnTo>
                  <a:pt x="6690" y="2414"/>
                </a:lnTo>
                <a:lnTo>
                  <a:pt x="6686" y="2394"/>
                </a:lnTo>
                <a:lnTo>
                  <a:pt x="6682" y="2374"/>
                </a:lnTo>
                <a:lnTo>
                  <a:pt x="6660" y="2292"/>
                </a:lnTo>
                <a:lnTo>
                  <a:pt x="6639" y="2209"/>
                </a:lnTo>
                <a:lnTo>
                  <a:pt x="6616" y="2125"/>
                </a:lnTo>
                <a:lnTo>
                  <a:pt x="6604" y="2083"/>
                </a:lnTo>
                <a:lnTo>
                  <a:pt x="6593" y="2042"/>
                </a:lnTo>
                <a:lnTo>
                  <a:pt x="6567" y="1956"/>
                </a:lnTo>
                <a:lnTo>
                  <a:pt x="6540" y="1870"/>
                </a:lnTo>
                <a:lnTo>
                  <a:pt x="6513" y="1784"/>
                </a:lnTo>
                <a:lnTo>
                  <a:pt x="6485" y="1698"/>
                </a:lnTo>
                <a:lnTo>
                  <a:pt x="6454" y="1609"/>
                </a:lnTo>
                <a:lnTo>
                  <a:pt x="6449" y="1597"/>
                </a:lnTo>
                <a:lnTo>
                  <a:pt x="6446" y="1586"/>
                </a:lnTo>
                <a:lnTo>
                  <a:pt x="6438" y="1564"/>
                </a:lnTo>
                <a:lnTo>
                  <a:pt x="6424" y="1521"/>
                </a:lnTo>
                <a:lnTo>
                  <a:pt x="6407" y="1476"/>
                </a:lnTo>
                <a:lnTo>
                  <a:pt x="6402" y="1464"/>
                </a:lnTo>
                <a:lnTo>
                  <a:pt x="6399" y="1453"/>
                </a:lnTo>
                <a:lnTo>
                  <a:pt x="6392" y="1431"/>
                </a:lnTo>
                <a:lnTo>
                  <a:pt x="6359" y="1342"/>
                </a:lnTo>
                <a:lnTo>
                  <a:pt x="6240" y="1071"/>
                </a:lnTo>
                <a:lnTo>
                  <a:pt x="6102" y="796"/>
                </a:lnTo>
                <a:lnTo>
                  <a:pt x="5943" y="519"/>
                </a:lnTo>
                <a:lnTo>
                  <a:pt x="5765" y="240"/>
                </a:lnTo>
                <a:lnTo>
                  <a:pt x="5732" y="139"/>
                </a:lnTo>
                <a:lnTo>
                  <a:pt x="5715" y="118"/>
                </a:lnTo>
                <a:lnTo>
                  <a:pt x="5697" y="102"/>
                </a:lnTo>
                <a:lnTo>
                  <a:pt x="5676" y="85"/>
                </a:lnTo>
                <a:lnTo>
                  <a:pt x="5654" y="70"/>
                </a:lnTo>
                <a:lnTo>
                  <a:pt x="5627" y="56"/>
                </a:lnTo>
                <a:lnTo>
                  <a:pt x="5600" y="45"/>
                </a:lnTo>
                <a:lnTo>
                  <a:pt x="5570" y="34"/>
                </a:lnTo>
                <a:lnTo>
                  <a:pt x="5537" y="26"/>
                </a:lnTo>
                <a:lnTo>
                  <a:pt x="5500" y="18"/>
                </a:lnTo>
                <a:lnTo>
                  <a:pt x="5463" y="12"/>
                </a:lnTo>
                <a:lnTo>
                  <a:pt x="5422" y="6"/>
                </a:lnTo>
                <a:lnTo>
                  <a:pt x="5380" y="3"/>
                </a:lnTo>
                <a:lnTo>
                  <a:pt x="5333" y="0"/>
                </a:lnTo>
                <a:lnTo>
                  <a:pt x="5286" y="0"/>
                </a:lnTo>
                <a:lnTo>
                  <a:pt x="5236" y="0"/>
                </a:lnTo>
                <a:lnTo>
                  <a:pt x="5184" y="3"/>
                </a:lnTo>
                <a:lnTo>
                  <a:pt x="4762" y="28"/>
                </a:lnTo>
                <a:lnTo>
                  <a:pt x="4032" y="90"/>
                </a:lnTo>
                <a:lnTo>
                  <a:pt x="3696" y="109"/>
                </a:lnTo>
                <a:lnTo>
                  <a:pt x="3422" y="117"/>
                </a:lnTo>
                <a:lnTo>
                  <a:pt x="3134" y="115"/>
                </a:lnTo>
                <a:lnTo>
                  <a:pt x="2834" y="105"/>
                </a:lnTo>
                <a:lnTo>
                  <a:pt x="0" y="96"/>
                </a:lnTo>
                <a:lnTo>
                  <a:pt x="8" y="1791"/>
                </a:lnTo>
                <a:lnTo>
                  <a:pt x="0" y="4321"/>
                </a:lnTo>
                <a:lnTo>
                  <a:pt x="4265" y="4311"/>
                </a:lnTo>
                <a:lnTo>
                  <a:pt x="4416" y="4314"/>
                </a:lnTo>
                <a:lnTo>
                  <a:pt x="4491" y="4315"/>
                </a:lnTo>
                <a:lnTo>
                  <a:pt x="4564" y="4317"/>
                </a:lnTo>
                <a:lnTo>
                  <a:pt x="4706" y="4321"/>
                </a:lnTo>
                <a:lnTo>
                  <a:pt x="4775" y="4323"/>
                </a:lnTo>
                <a:lnTo>
                  <a:pt x="4844" y="4326"/>
                </a:lnTo>
                <a:lnTo>
                  <a:pt x="4973" y="4330"/>
                </a:lnTo>
                <a:lnTo>
                  <a:pt x="5037" y="4333"/>
                </a:lnTo>
                <a:lnTo>
                  <a:pt x="5099" y="4335"/>
                </a:lnTo>
                <a:lnTo>
                  <a:pt x="5219" y="4341"/>
                </a:lnTo>
                <a:lnTo>
                  <a:pt x="5278" y="4344"/>
                </a:lnTo>
                <a:lnTo>
                  <a:pt x="5336" y="4348"/>
                </a:lnTo>
                <a:lnTo>
                  <a:pt x="5444" y="4354"/>
                </a:lnTo>
                <a:lnTo>
                  <a:pt x="5496" y="4357"/>
                </a:lnTo>
                <a:lnTo>
                  <a:pt x="5548" y="4362"/>
                </a:lnTo>
                <a:lnTo>
                  <a:pt x="5646" y="4369"/>
                </a:lnTo>
                <a:lnTo>
                  <a:pt x="5694" y="4374"/>
                </a:lnTo>
                <a:lnTo>
                  <a:pt x="5741" y="4378"/>
                </a:lnTo>
                <a:lnTo>
                  <a:pt x="5828" y="4386"/>
                </a:lnTo>
                <a:lnTo>
                  <a:pt x="5870" y="4390"/>
                </a:lnTo>
                <a:lnTo>
                  <a:pt x="5910" y="4395"/>
                </a:lnTo>
                <a:lnTo>
                  <a:pt x="5987" y="4405"/>
                </a:lnTo>
                <a:lnTo>
                  <a:pt x="6024" y="4410"/>
                </a:lnTo>
                <a:lnTo>
                  <a:pt x="6060" y="4416"/>
                </a:lnTo>
                <a:lnTo>
                  <a:pt x="6136" y="4426"/>
                </a:lnTo>
                <a:lnTo>
                  <a:pt x="6212" y="4438"/>
                </a:lnTo>
                <a:lnTo>
                  <a:pt x="6282" y="4450"/>
                </a:lnTo>
                <a:lnTo>
                  <a:pt x="6353" y="4462"/>
                </a:lnTo>
                <a:lnTo>
                  <a:pt x="6419" y="4474"/>
                </a:lnTo>
                <a:lnTo>
                  <a:pt x="6483" y="4486"/>
                </a:lnTo>
                <a:lnTo>
                  <a:pt x="6544" y="4498"/>
                </a:lnTo>
                <a:lnTo>
                  <a:pt x="6604" y="4510"/>
                </a:lnTo>
                <a:lnTo>
                  <a:pt x="6659" y="4522"/>
                </a:lnTo>
                <a:lnTo>
                  <a:pt x="6713" y="4534"/>
                </a:lnTo>
                <a:lnTo>
                  <a:pt x="6764" y="4546"/>
                </a:lnTo>
                <a:lnTo>
                  <a:pt x="6813" y="4558"/>
                </a:lnTo>
                <a:lnTo>
                  <a:pt x="6857" y="4570"/>
                </a:lnTo>
                <a:lnTo>
                  <a:pt x="6900" y="4582"/>
                </a:lnTo>
                <a:lnTo>
                  <a:pt x="6940" y="4594"/>
                </a:lnTo>
                <a:lnTo>
                  <a:pt x="6978" y="4609"/>
                </a:lnTo>
                <a:close/>
              </a:path>
            </a:pathLst>
          </a:custGeom>
          <a:solidFill>
            <a:srgbClr val="d3d3d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98"/>
          <p:cNvGrpSpPr/>
          <p:nvPr/>
        </p:nvGrpSpPr>
        <p:grpSpPr>
          <a:xfrm>
            <a:off x="5343840" y="1571760"/>
            <a:ext cx="3973320" cy="4897080"/>
            <a:chOff x="5343840" y="1571760"/>
            <a:chExt cx="3973320" cy="4897080"/>
          </a:xfrm>
        </p:grpSpPr>
        <p:sp>
          <p:nvSpPr>
            <p:cNvPr id="59" name="Freeform 99"/>
            <p:cNvSpPr/>
            <p:nvPr/>
          </p:nvSpPr>
          <p:spPr>
            <a:xfrm rot="5400000">
              <a:off x="8533800" y="5163480"/>
              <a:ext cx="436320" cy="1102320"/>
            </a:xfrm>
            <a:custGeom>
              <a:avLst/>
              <a:gdLst/>
              <a:ahLst/>
              <a:rect l="l" t="t" r="r" b="b"/>
              <a:pathLst>
                <a:path w="596" h="1358">
                  <a:moveTo>
                    <a:pt x="211" y="326"/>
                  </a:moveTo>
                  <a:lnTo>
                    <a:pt x="96" y="0"/>
                  </a:lnTo>
                  <a:lnTo>
                    <a:pt x="91" y="10"/>
                  </a:lnTo>
                  <a:lnTo>
                    <a:pt x="87" y="18"/>
                  </a:lnTo>
                  <a:lnTo>
                    <a:pt x="81" y="33"/>
                  </a:lnTo>
                  <a:lnTo>
                    <a:pt x="79" y="38"/>
                  </a:lnTo>
                  <a:lnTo>
                    <a:pt x="77" y="41"/>
                  </a:lnTo>
                  <a:lnTo>
                    <a:pt x="73" y="46"/>
                  </a:lnTo>
                  <a:lnTo>
                    <a:pt x="0" y="112"/>
                  </a:lnTo>
                  <a:lnTo>
                    <a:pt x="169" y="428"/>
                  </a:lnTo>
                  <a:lnTo>
                    <a:pt x="315" y="729"/>
                  </a:lnTo>
                  <a:lnTo>
                    <a:pt x="324" y="736"/>
                  </a:lnTo>
                  <a:lnTo>
                    <a:pt x="414" y="942"/>
                  </a:lnTo>
                  <a:lnTo>
                    <a:pt x="464" y="1044"/>
                  </a:lnTo>
                  <a:lnTo>
                    <a:pt x="582" y="1335"/>
                  </a:lnTo>
                  <a:lnTo>
                    <a:pt x="596" y="1358"/>
                  </a:lnTo>
                  <a:lnTo>
                    <a:pt x="435" y="902"/>
                  </a:lnTo>
                  <a:lnTo>
                    <a:pt x="211" y="326"/>
                  </a:lnTo>
                  <a:close/>
                </a:path>
              </a:pathLst>
            </a:custGeom>
            <a:solidFill>
              <a:srgbClr val="d4d4d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0"/>
            <p:cNvSpPr/>
            <p:nvPr/>
          </p:nvSpPr>
          <p:spPr>
            <a:xfrm rot="5400000">
              <a:off x="4881600" y="2033280"/>
              <a:ext cx="4897080" cy="3973320"/>
            </a:xfrm>
            <a:custGeom>
              <a:avLst/>
              <a:gdLst/>
              <a:ahLst/>
              <a:rect l="l" t="t" r="r" b="b"/>
              <a:pathLst>
                <a:path w="6664" h="4885">
                  <a:moveTo>
                    <a:pt x="5412" y="62"/>
                  </a:moveTo>
                  <a:lnTo>
                    <a:pt x="5416" y="57"/>
                  </a:lnTo>
                  <a:lnTo>
                    <a:pt x="5418" y="54"/>
                  </a:lnTo>
                  <a:lnTo>
                    <a:pt x="5420" y="49"/>
                  </a:lnTo>
                  <a:lnTo>
                    <a:pt x="5426" y="34"/>
                  </a:lnTo>
                  <a:lnTo>
                    <a:pt x="5430" y="26"/>
                  </a:lnTo>
                  <a:lnTo>
                    <a:pt x="5435" y="16"/>
                  </a:lnTo>
                  <a:lnTo>
                    <a:pt x="5423" y="10"/>
                  </a:lnTo>
                  <a:lnTo>
                    <a:pt x="5413" y="7"/>
                  </a:lnTo>
                  <a:lnTo>
                    <a:pt x="5405" y="3"/>
                  </a:lnTo>
                  <a:lnTo>
                    <a:pt x="5399" y="2"/>
                  </a:lnTo>
                  <a:lnTo>
                    <a:pt x="5392" y="0"/>
                  </a:lnTo>
                  <a:lnTo>
                    <a:pt x="5387" y="0"/>
                  </a:lnTo>
                  <a:lnTo>
                    <a:pt x="5381" y="3"/>
                  </a:lnTo>
                  <a:lnTo>
                    <a:pt x="5292" y="13"/>
                  </a:lnTo>
                  <a:lnTo>
                    <a:pt x="4816" y="96"/>
                  </a:lnTo>
                  <a:lnTo>
                    <a:pt x="4337" y="164"/>
                  </a:lnTo>
                  <a:lnTo>
                    <a:pt x="4012" y="200"/>
                  </a:lnTo>
                  <a:lnTo>
                    <a:pt x="3722" y="222"/>
                  </a:lnTo>
                  <a:lnTo>
                    <a:pt x="3439" y="235"/>
                  </a:lnTo>
                  <a:lnTo>
                    <a:pt x="3098" y="237"/>
                  </a:lnTo>
                  <a:lnTo>
                    <a:pt x="2569" y="225"/>
                  </a:lnTo>
                  <a:lnTo>
                    <a:pt x="0" y="218"/>
                  </a:lnTo>
                  <a:lnTo>
                    <a:pt x="11" y="1974"/>
                  </a:lnTo>
                  <a:lnTo>
                    <a:pt x="10" y="3198"/>
                  </a:lnTo>
                  <a:lnTo>
                    <a:pt x="0" y="4441"/>
                  </a:lnTo>
                  <a:lnTo>
                    <a:pt x="3642" y="4431"/>
                  </a:lnTo>
                  <a:lnTo>
                    <a:pt x="4363" y="4441"/>
                  </a:lnTo>
                  <a:lnTo>
                    <a:pt x="4919" y="4468"/>
                  </a:lnTo>
                  <a:lnTo>
                    <a:pt x="5256" y="4497"/>
                  </a:lnTo>
                  <a:lnTo>
                    <a:pt x="5536" y="4532"/>
                  </a:lnTo>
                  <a:lnTo>
                    <a:pt x="5798" y="4576"/>
                  </a:lnTo>
                  <a:lnTo>
                    <a:pt x="6059" y="4636"/>
                  </a:lnTo>
                  <a:lnTo>
                    <a:pt x="6299" y="4711"/>
                  </a:lnTo>
                  <a:lnTo>
                    <a:pt x="6478" y="4783"/>
                  </a:lnTo>
                  <a:lnTo>
                    <a:pt x="6664" y="4885"/>
                  </a:lnTo>
                  <a:lnTo>
                    <a:pt x="6596" y="4186"/>
                  </a:lnTo>
                  <a:lnTo>
                    <a:pt x="6586" y="4112"/>
                  </a:lnTo>
                  <a:lnTo>
                    <a:pt x="6576" y="4040"/>
                  </a:lnTo>
                  <a:lnTo>
                    <a:pt x="6557" y="3897"/>
                  </a:lnTo>
                  <a:lnTo>
                    <a:pt x="6535" y="3758"/>
                  </a:lnTo>
                  <a:lnTo>
                    <a:pt x="6516" y="3622"/>
                  </a:lnTo>
                  <a:lnTo>
                    <a:pt x="6494" y="3489"/>
                  </a:lnTo>
                  <a:lnTo>
                    <a:pt x="6474" y="3361"/>
                  </a:lnTo>
                  <a:lnTo>
                    <a:pt x="6452" y="3236"/>
                  </a:lnTo>
                  <a:lnTo>
                    <a:pt x="6431" y="3115"/>
                  </a:lnTo>
                  <a:lnTo>
                    <a:pt x="6407" y="2996"/>
                  </a:lnTo>
                  <a:lnTo>
                    <a:pt x="6385" y="2881"/>
                  </a:lnTo>
                  <a:lnTo>
                    <a:pt x="6361" y="2769"/>
                  </a:lnTo>
                  <a:lnTo>
                    <a:pt x="6349" y="2714"/>
                  </a:lnTo>
                  <a:lnTo>
                    <a:pt x="6338" y="2661"/>
                  </a:lnTo>
                  <a:lnTo>
                    <a:pt x="6325" y="2607"/>
                  </a:lnTo>
                  <a:lnTo>
                    <a:pt x="6313" y="2556"/>
                  </a:lnTo>
                  <a:lnTo>
                    <a:pt x="6289" y="2455"/>
                  </a:lnTo>
                  <a:lnTo>
                    <a:pt x="6263" y="2358"/>
                  </a:lnTo>
                  <a:lnTo>
                    <a:pt x="6239" y="2264"/>
                  </a:lnTo>
                  <a:lnTo>
                    <a:pt x="6143" y="1948"/>
                  </a:lnTo>
                  <a:lnTo>
                    <a:pt x="6034" y="1633"/>
                  </a:lnTo>
                  <a:lnTo>
                    <a:pt x="5935" y="1374"/>
                  </a:lnTo>
                  <a:lnTo>
                    <a:pt x="5921" y="1351"/>
                  </a:lnTo>
                  <a:lnTo>
                    <a:pt x="5803" y="1060"/>
                  </a:lnTo>
                  <a:lnTo>
                    <a:pt x="5753" y="958"/>
                  </a:lnTo>
                  <a:lnTo>
                    <a:pt x="5663" y="752"/>
                  </a:lnTo>
                  <a:lnTo>
                    <a:pt x="5654" y="745"/>
                  </a:lnTo>
                  <a:lnTo>
                    <a:pt x="5508" y="444"/>
                  </a:lnTo>
                  <a:lnTo>
                    <a:pt x="5339" y="128"/>
                  </a:lnTo>
                  <a:lnTo>
                    <a:pt x="5412" y="62"/>
                  </a:lnTo>
                  <a:close/>
                </a:path>
              </a:pathLst>
            </a:custGeom>
            <a:solidFill>
              <a:srgbClr val="cece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01"/>
          <p:cNvGrpSpPr/>
          <p:nvPr/>
        </p:nvGrpSpPr>
        <p:grpSpPr>
          <a:xfrm>
            <a:off x="5258160" y="1592280"/>
            <a:ext cx="4274280" cy="4465440"/>
            <a:chOff x="5258160" y="1592280"/>
            <a:chExt cx="4274280" cy="4465440"/>
          </a:xfrm>
        </p:grpSpPr>
        <p:sp>
          <p:nvSpPr>
            <p:cNvPr id="62" name="Freeform 102"/>
            <p:cNvSpPr/>
            <p:nvPr/>
          </p:nvSpPr>
          <p:spPr>
            <a:xfrm rot="5400000">
              <a:off x="5076000" y="1774080"/>
              <a:ext cx="4465440" cy="4101480"/>
            </a:xfrm>
            <a:custGeom>
              <a:avLst/>
              <a:gdLst/>
              <a:ahLst/>
              <a:rect l="l" t="t" r="r" b="b"/>
              <a:pathLst>
                <a:path w="6077" h="5046">
                  <a:moveTo>
                    <a:pt x="4956" y="0"/>
                  </a:moveTo>
                  <a:lnTo>
                    <a:pt x="4794" y="51"/>
                  </a:lnTo>
                  <a:lnTo>
                    <a:pt x="4574" y="105"/>
                  </a:lnTo>
                  <a:lnTo>
                    <a:pt x="4302" y="156"/>
                  </a:lnTo>
                  <a:lnTo>
                    <a:pt x="4042" y="193"/>
                  </a:lnTo>
                  <a:lnTo>
                    <a:pt x="3777" y="220"/>
                  </a:lnTo>
                  <a:lnTo>
                    <a:pt x="3466" y="241"/>
                  </a:lnTo>
                  <a:lnTo>
                    <a:pt x="2" y="230"/>
                  </a:lnTo>
                  <a:lnTo>
                    <a:pt x="11" y="1614"/>
                  </a:lnTo>
                  <a:lnTo>
                    <a:pt x="11" y="3037"/>
                  </a:lnTo>
                  <a:lnTo>
                    <a:pt x="0" y="4453"/>
                  </a:lnTo>
                  <a:lnTo>
                    <a:pt x="3519" y="4446"/>
                  </a:lnTo>
                  <a:lnTo>
                    <a:pt x="3616" y="4446"/>
                  </a:lnTo>
                  <a:lnTo>
                    <a:pt x="3712" y="4448"/>
                  </a:lnTo>
                  <a:lnTo>
                    <a:pt x="3803" y="4450"/>
                  </a:lnTo>
                  <a:lnTo>
                    <a:pt x="3892" y="4453"/>
                  </a:lnTo>
                  <a:lnTo>
                    <a:pt x="3976" y="4455"/>
                  </a:lnTo>
                  <a:lnTo>
                    <a:pt x="4058" y="4458"/>
                  </a:lnTo>
                  <a:lnTo>
                    <a:pt x="4134" y="4460"/>
                  </a:lnTo>
                  <a:lnTo>
                    <a:pt x="4210" y="4464"/>
                  </a:lnTo>
                  <a:lnTo>
                    <a:pt x="4280" y="4466"/>
                  </a:lnTo>
                  <a:lnTo>
                    <a:pt x="4347" y="4470"/>
                  </a:lnTo>
                  <a:lnTo>
                    <a:pt x="4409" y="4472"/>
                  </a:lnTo>
                  <a:lnTo>
                    <a:pt x="4470" y="4477"/>
                  </a:lnTo>
                  <a:lnTo>
                    <a:pt x="4526" y="4479"/>
                  </a:lnTo>
                  <a:lnTo>
                    <a:pt x="4580" y="4484"/>
                  </a:lnTo>
                  <a:lnTo>
                    <a:pt x="4629" y="4488"/>
                  </a:lnTo>
                  <a:lnTo>
                    <a:pt x="4676" y="4492"/>
                  </a:lnTo>
                  <a:lnTo>
                    <a:pt x="4804" y="4506"/>
                  </a:lnTo>
                  <a:lnTo>
                    <a:pt x="4932" y="4521"/>
                  </a:lnTo>
                  <a:lnTo>
                    <a:pt x="5058" y="4539"/>
                  </a:lnTo>
                  <a:lnTo>
                    <a:pt x="5182" y="4562"/>
                  </a:lnTo>
                  <a:lnTo>
                    <a:pt x="5242" y="4573"/>
                  </a:lnTo>
                  <a:lnTo>
                    <a:pt x="5302" y="4586"/>
                  </a:lnTo>
                  <a:lnTo>
                    <a:pt x="5421" y="4614"/>
                  </a:lnTo>
                  <a:lnTo>
                    <a:pt x="5537" y="4644"/>
                  </a:lnTo>
                  <a:lnTo>
                    <a:pt x="5594" y="4659"/>
                  </a:lnTo>
                  <a:lnTo>
                    <a:pt x="5651" y="4677"/>
                  </a:lnTo>
                  <a:lnTo>
                    <a:pt x="5697" y="4693"/>
                  </a:lnTo>
                  <a:lnTo>
                    <a:pt x="5741" y="4711"/>
                  </a:lnTo>
                  <a:lnTo>
                    <a:pt x="5782" y="4729"/>
                  </a:lnTo>
                  <a:lnTo>
                    <a:pt x="5822" y="4749"/>
                  </a:lnTo>
                  <a:lnTo>
                    <a:pt x="5856" y="4768"/>
                  </a:lnTo>
                  <a:lnTo>
                    <a:pt x="5890" y="4790"/>
                  </a:lnTo>
                  <a:lnTo>
                    <a:pt x="5920" y="4812"/>
                  </a:lnTo>
                  <a:lnTo>
                    <a:pt x="5950" y="4836"/>
                  </a:lnTo>
                  <a:lnTo>
                    <a:pt x="5974" y="4858"/>
                  </a:lnTo>
                  <a:lnTo>
                    <a:pt x="5997" y="4882"/>
                  </a:lnTo>
                  <a:lnTo>
                    <a:pt x="6016" y="4908"/>
                  </a:lnTo>
                  <a:lnTo>
                    <a:pt x="6034" y="4934"/>
                  </a:lnTo>
                  <a:lnTo>
                    <a:pt x="6047" y="4960"/>
                  </a:lnTo>
                  <a:lnTo>
                    <a:pt x="6060" y="4988"/>
                  </a:lnTo>
                  <a:lnTo>
                    <a:pt x="6069" y="5016"/>
                  </a:lnTo>
                  <a:lnTo>
                    <a:pt x="6077" y="5046"/>
                  </a:lnTo>
                  <a:lnTo>
                    <a:pt x="6072" y="4981"/>
                  </a:lnTo>
                  <a:lnTo>
                    <a:pt x="6069" y="4918"/>
                  </a:lnTo>
                  <a:lnTo>
                    <a:pt x="6062" y="4796"/>
                  </a:lnTo>
                  <a:lnTo>
                    <a:pt x="6054" y="4677"/>
                  </a:lnTo>
                  <a:lnTo>
                    <a:pt x="6047" y="4562"/>
                  </a:lnTo>
                  <a:lnTo>
                    <a:pt x="6038" y="4449"/>
                  </a:lnTo>
                  <a:lnTo>
                    <a:pt x="6030" y="4341"/>
                  </a:lnTo>
                  <a:lnTo>
                    <a:pt x="6021" y="4237"/>
                  </a:lnTo>
                  <a:lnTo>
                    <a:pt x="6014" y="4137"/>
                  </a:lnTo>
                  <a:lnTo>
                    <a:pt x="6004" y="4039"/>
                  </a:lnTo>
                  <a:lnTo>
                    <a:pt x="5994" y="3945"/>
                  </a:lnTo>
                  <a:lnTo>
                    <a:pt x="5985" y="3855"/>
                  </a:lnTo>
                  <a:lnTo>
                    <a:pt x="5976" y="3770"/>
                  </a:lnTo>
                  <a:lnTo>
                    <a:pt x="5970" y="3727"/>
                  </a:lnTo>
                  <a:lnTo>
                    <a:pt x="5966" y="3686"/>
                  </a:lnTo>
                  <a:lnTo>
                    <a:pt x="5956" y="3607"/>
                  </a:lnTo>
                  <a:lnTo>
                    <a:pt x="5946" y="3531"/>
                  </a:lnTo>
                  <a:lnTo>
                    <a:pt x="5937" y="3460"/>
                  </a:lnTo>
                  <a:lnTo>
                    <a:pt x="5932" y="3457"/>
                  </a:lnTo>
                  <a:lnTo>
                    <a:pt x="5883" y="3122"/>
                  </a:lnTo>
                  <a:lnTo>
                    <a:pt x="5831" y="2863"/>
                  </a:lnTo>
                  <a:lnTo>
                    <a:pt x="5826" y="2817"/>
                  </a:lnTo>
                  <a:lnTo>
                    <a:pt x="5800" y="2715"/>
                  </a:lnTo>
                  <a:lnTo>
                    <a:pt x="5778" y="2622"/>
                  </a:lnTo>
                  <a:lnTo>
                    <a:pt x="5758" y="2530"/>
                  </a:lnTo>
                  <a:lnTo>
                    <a:pt x="5715" y="2349"/>
                  </a:lnTo>
                  <a:lnTo>
                    <a:pt x="5670" y="2170"/>
                  </a:lnTo>
                  <a:lnTo>
                    <a:pt x="5625" y="1995"/>
                  </a:lnTo>
                  <a:lnTo>
                    <a:pt x="5577" y="1822"/>
                  </a:lnTo>
                  <a:lnTo>
                    <a:pt x="5529" y="1653"/>
                  </a:lnTo>
                  <a:lnTo>
                    <a:pt x="5478" y="1486"/>
                  </a:lnTo>
                  <a:lnTo>
                    <a:pt x="5428" y="1323"/>
                  </a:lnTo>
                  <a:lnTo>
                    <a:pt x="5393" y="1203"/>
                  </a:lnTo>
                  <a:lnTo>
                    <a:pt x="5223" y="712"/>
                  </a:lnTo>
                  <a:lnTo>
                    <a:pt x="5219" y="710"/>
                  </a:lnTo>
                  <a:lnTo>
                    <a:pt x="5154" y="520"/>
                  </a:lnTo>
                  <a:lnTo>
                    <a:pt x="4956" y="0"/>
                  </a:lnTo>
                  <a:close/>
                </a:path>
              </a:pathLst>
            </a:custGeom>
            <a:solidFill>
              <a:srgbClr val="d1d1d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03"/>
            <p:cNvSpPr/>
            <p:nvPr/>
          </p:nvSpPr>
          <p:spPr>
            <a:xfrm rot="5400000">
              <a:off x="7651800" y="4075560"/>
              <a:ext cx="774000" cy="2987280"/>
            </a:xfrm>
            <a:custGeom>
              <a:avLst/>
              <a:gdLst/>
              <a:ahLst/>
              <a:rect l="l" t="t" r="r" b="b"/>
              <a:pathLst>
                <a:path w="1051" h="3674">
                  <a:moveTo>
                    <a:pt x="355" y="36"/>
                  </a:moveTo>
                  <a:lnTo>
                    <a:pt x="346" y="28"/>
                  </a:lnTo>
                  <a:lnTo>
                    <a:pt x="337" y="22"/>
                  </a:lnTo>
                  <a:lnTo>
                    <a:pt x="326" y="16"/>
                  </a:lnTo>
                  <a:lnTo>
                    <a:pt x="313" y="11"/>
                  </a:lnTo>
                  <a:lnTo>
                    <a:pt x="297" y="6"/>
                  </a:lnTo>
                  <a:lnTo>
                    <a:pt x="279" y="4"/>
                  </a:lnTo>
                  <a:lnTo>
                    <a:pt x="260" y="1"/>
                  </a:lnTo>
                  <a:lnTo>
                    <a:pt x="240" y="1"/>
                  </a:lnTo>
                  <a:lnTo>
                    <a:pt x="216" y="0"/>
                  </a:lnTo>
                  <a:lnTo>
                    <a:pt x="190" y="0"/>
                  </a:lnTo>
                  <a:lnTo>
                    <a:pt x="163" y="1"/>
                  </a:lnTo>
                  <a:lnTo>
                    <a:pt x="135" y="4"/>
                  </a:lnTo>
                  <a:lnTo>
                    <a:pt x="103" y="6"/>
                  </a:lnTo>
                  <a:lnTo>
                    <a:pt x="70" y="11"/>
                  </a:lnTo>
                  <a:lnTo>
                    <a:pt x="36" y="16"/>
                  </a:lnTo>
                  <a:lnTo>
                    <a:pt x="0" y="23"/>
                  </a:lnTo>
                  <a:lnTo>
                    <a:pt x="70" y="214"/>
                  </a:lnTo>
                  <a:lnTo>
                    <a:pt x="268" y="734"/>
                  </a:lnTo>
                  <a:lnTo>
                    <a:pt x="333" y="924"/>
                  </a:lnTo>
                  <a:lnTo>
                    <a:pt x="337" y="926"/>
                  </a:lnTo>
                  <a:lnTo>
                    <a:pt x="507" y="1417"/>
                  </a:lnTo>
                  <a:lnTo>
                    <a:pt x="542" y="1537"/>
                  </a:lnTo>
                  <a:lnTo>
                    <a:pt x="592" y="1700"/>
                  </a:lnTo>
                  <a:lnTo>
                    <a:pt x="643" y="1867"/>
                  </a:lnTo>
                  <a:lnTo>
                    <a:pt x="691" y="2036"/>
                  </a:lnTo>
                  <a:lnTo>
                    <a:pt x="739" y="2209"/>
                  </a:lnTo>
                  <a:lnTo>
                    <a:pt x="784" y="2384"/>
                  </a:lnTo>
                  <a:lnTo>
                    <a:pt x="829" y="2563"/>
                  </a:lnTo>
                  <a:lnTo>
                    <a:pt x="872" y="2744"/>
                  </a:lnTo>
                  <a:lnTo>
                    <a:pt x="892" y="2836"/>
                  </a:lnTo>
                  <a:lnTo>
                    <a:pt x="914" y="2929"/>
                  </a:lnTo>
                  <a:lnTo>
                    <a:pt x="940" y="3031"/>
                  </a:lnTo>
                  <a:lnTo>
                    <a:pt x="945" y="3077"/>
                  </a:lnTo>
                  <a:lnTo>
                    <a:pt x="997" y="3336"/>
                  </a:lnTo>
                  <a:lnTo>
                    <a:pt x="1046" y="3671"/>
                  </a:lnTo>
                  <a:lnTo>
                    <a:pt x="1051" y="3674"/>
                  </a:lnTo>
                  <a:lnTo>
                    <a:pt x="1050" y="3665"/>
                  </a:lnTo>
                  <a:lnTo>
                    <a:pt x="1050" y="3656"/>
                  </a:lnTo>
                  <a:lnTo>
                    <a:pt x="1048" y="3650"/>
                  </a:lnTo>
                  <a:lnTo>
                    <a:pt x="1048" y="3646"/>
                  </a:lnTo>
                  <a:lnTo>
                    <a:pt x="1048" y="3636"/>
                  </a:lnTo>
                  <a:lnTo>
                    <a:pt x="1046" y="3611"/>
                  </a:lnTo>
                  <a:lnTo>
                    <a:pt x="1045" y="3596"/>
                  </a:lnTo>
                  <a:lnTo>
                    <a:pt x="1045" y="3583"/>
                  </a:lnTo>
                  <a:lnTo>
                    <a:pt x="1040" y="3551"/>
                  </a:lnTo>
                  <a:lnTo>
                    <a:pt x="1038" y="3533"/>
                  </a:lnTo>
                  <a:lnTo>
                    <a:pt x="1036" y="3516"/>
                  </a:lnTo>
                  <a:lnTo>
                    <a:pt x="1032" y="3478"/>
                  </a:lnTo>
                  <a:lnTo>
                    <a:pt x="1027" y="3436"/>
                  </a:lnTo>
                  <a:lnTo>
                    <a:pt x="1022" y="3412"/>
                  </a:lnTo>
                  <a:lnTo>
                    <a:pt x="1020" y="3400"/>
                  </a:lnTo>
                  <a:lnTo>
                    <a:pt x="1018" y="3389"/>
                  </a:lnTo>
                  <a:lnTo>
                    <a:pt x="1011" y="3340"/>
                  </a:lnTo>
                  <a:lnTo>
                    <a:pt x="1006" y="3312"/>
                  </a:lnTo>
                  <a:lnTo>
                    <a:pt x="1003" y="3286"/>
                  </a:lnTo>
                  <a:lnTo>
                    <a:pt x="998" y="3257"/>
                  </a:lnTo>
                  <a:lnTo>
                    <a:pt x="996" y="3242"/>
                  </a:lnTo>
                  <a:lnTo>
                    <a:pt x="994" y="3229"/>
                  </a:lnTo>
                  <a:lnTo>
                    <a:pt x="988" y="3198"/>
                  </a:lnTo>
                  <a:lnTo>
                    <a:pt x="984" y="3168"/>
                  </a:lnTo>
                  <a:lnTo>
                    <a:pt x="980" y="3151"/>
                  </a:lnTo>
                  <a:lnTo>
                    <a:pt x="978" y="3136"/>
                  </a:lnTo>
                  <a:lnTo>
                    <a:pt x="973" y="3104"/>
                  </a:lnTo>
                  <a:lnTo>
                    <a:pt x="961" y="3037"/>
                  </a:lnTo>
                  <a:lnTo>
                    <a:pt x="955" y="3001"/>
                  </a:lnTo>
                  <a:lnTo>
                    <a:pt x="950" y="2966"/>
                  </a:lnTo>
                  <a:lnTo>
                    <a:pt x="936" y="2891"/>
                  </a:lnTo>
                  <a:lnTo>
                    <a:pt x="921" y="2813"/>
                  </a:lnTo>
                  <a:lnTo>
                    <a:pt x="916" y="2791"/>
                  </a:lnTo>
                  <a:lnTo>
                    <a:pt x="913" y="2771"/>
                  </a:lnTo>
                  <a:lnTo>
                    <a:pt x="906" y="2730"/>
                  </a:lnTo>
                  <a:lnTo>
                    <a:pt x="891" y="2645"/>
                  </a:lnTo>
                  <a:lnTo>
                    <a:pt x="882" y="2599"/>
                  </a:lnTo>
                  <a:lnTo>
                    <a:pt x="877" y="2576"/>
                  </a:lnTo>
                  <a:lnTo>
                    <a:pt x="873" y="2555"/>
                  </a:lnTo>
                  <a:lnTo>
                    <a:pt x="856" y="2462"/>
                  </a:lnTo>
                  <a:lnTo>
                    <a:pt x="837" y="2365"/>
                  </a:lnTo>
                  <a:lnTo>
                    <a:pt x="828" y="2315"/>
                  </a:lnTo>
                  <a:lnTo>
                    <a:pt x="823" y="2290"/>
                  </a:lnTo>
                  <a:lnTo>
                    <a:pt x="819" y="2266"/>
                  </a:lnTo>
                  <a:lnTo>
                    <a:pt x="798" y="2161"/>
                  </a:lnTo>
                  <a:lnTo>
                    <a:pt x="792" y="2134"/>
                  </a:lnTo>
                  <a:lnTo>
                    <a:pt x="787" y="2107"/>
                  </a:lnTo>
                  <a:lnTo>
                    <a:pt x="777" y="2054"/>
                  </a:lnTo>
                  <a:lnTo>
                    <a:pt x="765" y="1998"/>
                  </a:lnTo>
                  <a:lnTo>
                    <a:pt x="754" y="1943"/>
                  </a:lnTo>
                  <a:lnTo>
                    <a:pt x="733" y="1829"/>
                  </a:lnTo>
                  <a:lnTo>
                    <a:pt x="709" y="1710"/>
                  </a:lnTo>
                  <a:lnTo>
                    <a:pt x="685" y="1589"/>
                  </a:lnTo>
                  <a:lnTo>
                    <a:pt x="678" y="1556"/>
                  </a:lnTo>
                  <a:lnTo>
                    <a:pt x="672" y="1525"/>
                  </a:lnTo>
                  <a:lnTo>
                    <a:pt x="660" y="1463"/>
                  </a:lnTo>
                  <a:lnTo>
                    <a:pt x="646" y="1398"/>
                  </a:lnTo>
                  <a:lnTo>
                    <a:pt x="634" y="1334"/>
                  </a:lnTo>
                  <a:lnTo>
                    <a:pt x="489" y="703"/>
                  </a:lnTo>
                  <a:lnTo>
                    <a:pt x="355" y="36"/>
                  </a:lnTo>
                  <a:close/>
                </a:path>
              </a:pathLst>
            </a:custGeom>
            <a:solidFill>
              <a:srgbClr val="cacac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04"/>
          <p:cNvGrpSpPr/>
          <p:nvPr/>
        </p:nvGrpSpPr>
        <p:grpSpPr>
          <a:xfrm>
            <a:off x="5239080" y="1604880"/>
            <a:ext cx="4633560" cy="3955680"/>
            <a:chOff x="5239080" y="1604880"/>
            <a:chExt cx="4633560" cy="3955680"/>
          </a:xfrm>
        </p:grpSpPr>
        <p:sp>
          <p:nvSpPr>
            <p:cNvPr id="65" name="Freeform 105"/>
            <p:cNvSpPr/>
            <p:nvPr/>
          </p:nvSpPr>
          <p:spPr>
            <a:xfrm rot="5400000">
              <a:off x="5580000" y="1636920"/>
              <a:ext cx="3817440" cy="3752640"/>
            </a:xfrm>
            <a:custGeom>
              <a:avLst/>
              <a:gdLst/>
              <a:ahLst/>
              <a:rect l="l" t="t" r="r" b="b"/>
              <a:pathLst>
                <a:path w="5196" h="4619">
                  <a:moveTo>
                    <a:pt x="3773" y="141"/>
                  </a:moveTo>
                  <a:lnTo>
                    <a:pt x="3504" y="165"/>
                  </a:lnTo>
                  <a:lnTo>
                    <a:pt x="3262" y="176"/>
                  </a:lnTo>
                  <a:lnTo>
                    <a:pt x="0" y="169"/>
                  </a:lnTo>
                  <a:lnTo>
                    <a:pt x="10" y="1559"/>
                  </a:lnTo>
                  <a:lnTo>
                    <a:pt x="9" y="3183"/>
                  </a:lnTo>
                  <a:lnTo>
                    <a:pt x="0" y="4392"/>
                  </a:lnTo>
                  <a:lnTo>
                    <a:pt x="3190" y="4386"/>
                  </a:lnTo>
                  <a:lnTo>
                    <a:pt x="3263" y="4386"/>
                  </a:lnTo>
                  <a:lnTo>
                    <a:pt x="3335" y="4388"/>
                  </a:lnTo>
                  <a:lnTo>
                    <a:pt x="3477" y="4392"/>
                  </a:lnTo>
                  <a:lnTo>
                    <a:pt x="3545" y="4393"/>
                  </a:lnTo>
                  <a:lnTo>
                    <a:pt x="3612" y="4395"/>
                  </a:lnTo>
                  <a:lnTo>
                    <a:pt x="3744" y="4401"/>
                  </a:lnTo>
                  <a:lnTo>
                    <a:pt x="3869" y="4407"/>
                  </a:lnTo>
                  <a:lnTo>
                    <a:pt x="3989" y="4415"/>
                  </a:lnTo>
                  <a:lnTo>
                    <a:pt x="4047" y="4417"/>
                  </a:lnTo>
                  <a:lnTo>
                    <a:pt x="4103" y="4422"/>
                  </a:lnTo>
                  <a:lnTo>
                    <a:pt x="4214" y="4430"/>
                  </a:lnTo>
                  <a:lnTo>
                    <a:pt x="4265" y="4434"/>
                  </a:lnTo>
                  <a:lnTo>
                    <a:pt x="4316" y="4439"/>
                  </a:lnTo>
                  <a:lnTo>
                    <a:pt x="4414" y="4448"/>
                  </a:lnTo>
                  <a:lnTo>
                    <a:pt x="4461" y="4453"/>
                  </a:lnTo>
                  <a:lnTo>
                    <a:pt x="4506" y="4458"/>
                  </a:lnTo>
                  <a:lnTo>
                    <a:pt x="4551" y="4463"/>
                  </a:lnTo>
                  <a:lnTo>
                    <a:pt x="4594" y="4469"/>
                  </a:lnTo>
                  <a:lnTo>
                    <a:pt x="4635" y="4473"/>
                  </a:lnTo>
                  <a:lnTo>
                    <a:pt x="4674" y="4479"/>
                  </a:lnTo>
                  <a:lnTo>
                    <a:pt x="4751" y="4493"/>
                  </a:lnTo>
                  <a:lnTo>
                    <a:pt x="4787" y="4499"/>
                  </a:lnTo>
                  <a:lnTo>
                    <a:pt x="4822" y="4506"/>
                  </a:lnTo>
                  <a:lnTo>
                    <a:pt x="4856" y="4513"/>
                  </a:lnTo>
                  <a:lnTo>
                    <a:pt x="4888" y="4520"/>
                  </a:lnTo>
                  <a:lnTo>
                    <a:pt x="5064" y="4566"/>
                  </a:lnTo>
                  <a:lnTo>
                    <a:pt x="5195" y="4619"/>
                  </a:lnTo>
                  <a:lnTo>
                    <a:pt x="5196" y="4380"/>
                  </a:lnTo>
                  <a:lnTo>
                    <a:pt x="5190" y="4077"/>
                  </a:lnTo>
                  <a:lnTo>
                    <a:pt x="5174" y="3699"/>
                  </a:lnTo>
                  <a:lnTo>
                    <a:pt x="5145" y="3319"/>
                  </a:lnTo>
                  <a:lnTo>
                    <a:pt x="5114" y="3065"/>
                  </a:lnTo>
                  <a:lnTo>
                    <a:pt x="5097" y="2937"/>
                  </a:lnTo>
                  <a:lnTo>
                    <a:pt x="5092" y="2905"/>
                  </a:lnTo>
                  <a:lnTo>
                    <a:pt x="5088" y="2874"/>
                  </a:lnTo>
                  <a:lnTo>
                    <a:pt x="5081" y="2811"/>
                  </a:lnTo>
                  <a:lnTo>
                    <a:pt x="5045" y="2557"/>
                  </a:lnTo>
                  <a:lnTo>
                    <a:pt x="5007" y="2305"/>
                  </a:lnTo>
                  <a:lnTo>
                    <a:pt x="4964" y="2051"/>
                  </a:lnTo>
                  <a:lnTo>
                    <a:pt x="4941" y="1923"/>
                  </a:lnTo>
                  <a:lnTo>
                    <a:pt x="4929" y="1860"/>
                  </a:lnTo>
                  <a:lnTo>
                    <a:pt x="4918" y="1797"/>
                  </a:lnTo>
                  <a:lnTo>
                    <a:pt x="4869" y="1543"/>
                  </a:lnTo>
                  <a:lnTo>
                    <a:pt x="4842" y="1416"/>
                  </a:lnTo>
                  <a:lnTo>
                    <a:pt x="4835" y="1383"/>
                  </a:lnTo>
                  <a:lnTo>
                    <a:pt x="4829" y="1352"/>
                  </a:lnTo>
                  <a:lnTo>
                    <a:pt x="4817" y="1290"/>
                  </a:lnTo>
                  <a:lnTo>
                    <a:pt x="4814" y="1257"/>
                  </a:lnTo>
                  <a:lnTo>
                    <a:pt x="4732" y="896"/>
                  </a:lnTo>
                  <a:lnTo>
                    <a:pt x="4518" y="0"/>
                  </a:lnTo>
                  <a:lnTo>
                    <a:pt x="4323" y="51"/>
                  </a:lnTo>
                  <a:lnTo>
                    <a:pt x="4058" y="103"/>
                  </a:lnTo>
                  <a:lnTo>
                    <a:pt x="3773" y="141"/>
                  </a:lnTo>
                  <a:close/>
                </a:path>
              </a:pathLst>
            </a:custGeom>
            <a:solidFill>
              <a:srgbClr val="e1e1e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6"/>
            <p:cNvSpPr/>
            <p:nvPr/>
          </p:nvSpPr>
          <p:spPr>
            <a:xfrm rot="5400000">
              <a:off x="7183440" y="2871360"/>
              <a:ext cx="744480" cy="4633560"/>
            </a:xfrm>
            <a:custGeom>
              <a:avLst/>
              <a:gdLst/>
              <a:ahLst/>
              <a:rect l="l" t="t" r="r" b="b"/>
              <a:pathLst>
                <a:path w="1016" h="5698">
                  <a:moveTo>
                    <a:pt x="0" y="0"/>
                  </a:moveTo>
                  <a:lnTo>
                    <a:pt x="147" y="622"/>
                  </a:lnTo>
                  <a:lnTo>
                    <a:pt x="361" y="1518"/>
                  </a:lnTo>
                  <a:lnTo>
                    <a:pt x="443" y="1879"/>
                  </a:lnTo>
                  <a:lnTo>
                    <a:pt x="446" y="1912"/>
                  </a:lnTo>
                  <a:lnTo>
                    <a:pt x="458" y="1974"/>
                  </a:lnTo>
                  <a:lnTo>
                    <a:pt x="464" y="2005"/>
                  </a:lnTo>
                  <a:lnTo>
                    <a:pt x="471" y="2038"/>
                  </a:lnTo>
                  <a:lnTo>
                    <a:pt x="498" y="2165"/>
                  </a:lnTo>
                  <a:lnTo>
                    <a:pt x="547" y="2419"/>
                  </a:lnTo>
                  <a:lnTo>
                    <a:pt x="558" y="2482"/>
                  </a:lnTo>
                  <a:lnTo>
                    <a:pt x="570" y="2545"/>
                  </a:lnTo>
                  <a:lnTo>
                    <a:pt x="593" y="2673"/>
                  </a:lnTo>
                  <a:lnTo>
                    <a:pt x="636" y="2927"/>
                  </a:lnTo>
                  <a:lnTo>
                    <a:pt x="674" y="3179"/>
                  </a:lnTo>
                  <a:lnTo>
                    <a:pt x="710" y="3433"/>
                  </a:lnTo>
                  <a:lnTo>
                    <a:pt x="717" y="3496"/>
                  </a:lnTo>
                  <a:lnTo>
                    <a:pt x="721" y="3527"/>
                  </a:lnTo>
                  <a:lnTo>
                    <a:pt x="726" y="3559"/>
                  </a:lnTo>
                  <a:lnTo>
                    <a:pt x="743" y="3687"/>
                  </a:lnTo>
                  <a:lnTo>
                    <a:pt x="774" y="3941"/>
                  </a:lnTo>
                  <a:lnTo>
                    <a:pt x="803" y="4321"/>
                  </a:lnTo>
                  <a:lnTo>
                    <a:pt x="819" y="4699"/>
                  </a:lnTo>
                  <a:lnTo>
                    <a:pt x="825" y="5002"/>
                  </a:lnTo>
                  <a:lnTo>
                    <a:pt x="824" y="5241"/>
                  </a:lnTo>
                  <a:lnTo>
                    <a:pt x="811" y="5698"/>
                  </a:lnTo>
                  <a:lnTo>
                    <a:pt x="849" y="5671"/>
                  </a:lnTo>
                  <a:lnTo>
                    <a:pt x="866" y="5658"/>
                  </a:lnTo>
                  <a:lnTo>
                    <a:pt x="884" y="5646"/>
                  </a:lnTo>
                  <a:lnTo>
                    <a:pt x="914" y="5620"/>
                  </a:lnTo>
                  <a:lnTo>
                    <a:pt x="942" y="5596"/>
                  </a:lnTo>
                  <a:lnTo>
                    <a:pt x="963" y="5569"/>
                  </a:lnTo>
                  <a:lnTo>
                    <a:pt x="983" y="5545"/>
                  </a:lnTo>
                  <a:lnTo>
                    <a:pt x="997" y="5519"/>
                  </a:lnTo>
                  <a:lnTo>
                    <a:pt x="1008" y="5495"/>
                  </a:lnTo>
                  <a:lnTo>
                    <a:pt x="1014" y="5371"/>
                  </a:lnTo>
                  <a:lnTo>
                    <a:pt x="1016" y="4741"/>
                  </a:lnTo>
                  <a:lnTo>
                    <a:pt x="1013" y="4589"/>
                  </a:lnTo>
                  <a:lnTo>
                    <a:pt x="1010" y="4439"/>
                  </a:lnTo>
                  <a:lnTo>
                    <a:pt x="1005" y="4289"/>
                  </a:lnTo>
                  <a:lnTo>
                    <a:pt x="1002" y="4143"/>
                  </a:lnTo>
                  <a:lnTo>
                    <a:pt x="996" y="3996"/>
                  </a:lnTo>
                  <a:lnTo>
                    <a:pt x="991" y="3852"/>
                  </a:lnTo>
                  <a:lnTo>
                    <a:pt x="985" y="3708"/>
                  </a:lnTo>
                  <a:lnTo>
                    <a:pt x="980" y="3568"/>
                  </a:lnTo>
                  <a:lnTo>
                    <a:pt x="972" y="3426"/>
                  </a:lnTo>
                  <a:lnTo>
                    <a:pt x="965" y="3288"/>
                  </a:lnTo>
                  <a:lnTo>
                    <a:pt x="956" y="3150"/>
                  </a:lnTo>
                  <a:lnTo>
                    <a:pt x="949" y="3015"/>
                  </a:lnTo>
                  <a:lnTo>
                    <a:pt x="938" y="2879"/>
                  </a:lnTo>
                  <a:lnTo>
                    <a:pt x="929" y="2746"/>
                  </a:lnTo>
                  <a:lnTo>
                    <a:pt x="918" y="2614"/>
                  </a:lnTo>
                  <a:lnTo>
                    <a:pt x="908" y="2484"/>
                  </a:lnTo>
                  <a:lnTo>
                    <a:pt x="901" y="2428"/>
                  </a:lnTo>
                  <a:lnTo>
                    <a:pt x="895" y="2373"/>
                  </a:lnTo>
                  <a:lnTo>
                    <a:pt x="883" y="2257"/>
                  </a:lnTo>
                  <a:lnTo>
                    <a:pt x="871" y="2139"/>
                  </a:lnTo>
                  <a:lnTo>
                    <a:pt x="859" y="2017"/>
                  </a:lnTo>
                  <a:lnTo>
                    <a:pt x="845" y="1890"/>
                  </a:lnTo>
                  <a:lnTo>
                    <a:pt x="833" y="1761"/>
                  </a:lnTo>
                  <a:lnTo>
                    <a:pt x="818" y="1627"/>
                  </a:lnTo>
                  <a:lnTo>
                    <a:pt x="806" y="1491"/>
                  </a:lnTo>
                  <a:lnTo>
                    <a:pt x="792" y="1349"/>
                  </a:lnTo>
                  <a:lnTo>
                    <a:pt x="777" y="1204"/>
                  </a:lnTo>
                  <a:lnTo>
                    <a:pt x="763" y="1055"/>
                  </a:lnTo>
                  <a:lnTo>
                    <a:pt x="749" y="904"/>
                  </a:lnTo>
                  <a:lnTo>
                    <a:pt x="744" y="864"/>
                  </a:lnTo>
                  <a:lnTo>
                    <a:pt x="740" y="826"/>
                  </a:lnTo>
                  <a:lnTo>
                    <a:pt x="733" y="748"/>
                  </a:lnTo>
                  <a:lnTo>
                    <a:pt x="719" y="588"/>
                  </a:lnTo>
                  <a:lnTo>
                    <a:pt x="710" y="507"/>
                  </a:lnTo>
                  <a:lnTo>
                    <a:pt x="703" y="425"/>
                  </a:lnTo>
                  <a:lnTo>
                    <a:pt x="689" y="258"/>
                  </a:lnTo>
                  <a:lnTo>
                    <a:pt x="684" y="231"/>
                  </a:lnTo>
                  <a:lnTo>
                    <a:pt x="680" y="217"/>
                  </a:lnTo>
                  <a:lnTo>
                    <a:pt x="675" y="205"/>
                  </a:lnTo>
                  <a:lnTo>
                    <a:pt x="661" y="181"/>
                  </a:lnTo>
                  <a:lnTo>
                    <a:pt x="642" y="160"/>
                  </a:lnTo>
                  <a:lnTo>
                    <a:pt x="615" y="138"/>
                  </a:lnTo>
                  <a:lnTo>
                    <a:pt x="587" y="119"/>
                  </a:lnTo>
                  <a:lnTo>
                    <a:pt x="551" y="100"/>
                  </a:lnTo>
                  <a:lnTo>
                    <a:pt x="531" y="91"/>
                  </a:lnTo>
                  <a:lnTo>
                    <a:pt x="511" y="84"/>
                  </a:lnTo>
                  <a:lnTo>
                    <a:pt x="488" y="75"/>
                  </a:lnTo>
                  <a:lnTo>
                    <a:pt x="464" y="67"/>
                  </a:lnTo>
                  <a:lnTo>
                    <a:pt x="414" y="54"/>
                  </a:lnTo>
                  <a:lnTo>
                    <a:pt x="356" y="41"/>
                  </a:lnTo>
                  <a:lnTo>
                    <a:pt x="296" y="30"/>
                  </a:lnTo>
                  <a:lnTo>
                    <a:pt x="229" y="19"/>
                  </a:lnTo>
                  <a:lnTo>
                    <a:pt x="194" y="15"/>
                  </a:lnTo>
                  <a:lnTo>
                    <a:pt x="158" y="12"/>
                  </a:lnTo>
                  <a:lnTo>
                    <a:pt x="8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5c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07"/>
          <p:cNvGrpSpPr/>
          <p:nvPr/>
        </p:nvGrpSpPr>
        <p:grpSpPr>
          <a:xfrm>
            <a:off x="5238720" y="1598760"/>
            <a:ext cx="4909680" cy="3577320"/>
            <a:chOff x="5238720" y="1598760"/>
            <a:chExt cx="4909680" cy="3577320"/>
          </a:xfrm>
        </p:grpSpPr>
        <p:sp>
          <p:nvSpPr>
            <p:cNvPr id="68" name="Freeform 108"/>
            <p:cNvSpPr/>
            <p:nvPr/>
          </p:nvSpPr>
          <p:spPr>
            <a:xfrm rot="5400000">
              <a:off x="5999040" y="1347480"/>
              <a:ext cx="3044160" cy="3546360"/>
            </a:xfrm>
            <a:custGeom>
              <a:avLst/>
              <a:gdLst/>
              <a:ahLst/>
              <a:rect l="l" t="t" r="r" b="b"/>
              <a:pathLst>
                <a:path w="4142" h="4363">
                  <a:moveTo>
                    <a:pt x="3223" y="72"/>
                  </a:moveTo>
                  <a:lnTo>
                    <a:pt x="2976" y="79"/>
                  </a:lnTo>
                  <a:lnTo>
                    <a:pt x="0" y="79"/>
                  </a:lnTo>
                  <a:lnTo>
                    <a:pt x="8" y="1820"/>
                  </a:lnTo>
                  <a:lnTo>
                    <a:pt x="7" y="3169"/>
                  </a:lnTo>
                  <a:lnTo>
                    <a:pt x="0" y="4302"/>
                  </a:lnTo>
                  <a:lnTo>
                    <a:pt x="2986" y="4301"/>
                  </a:lnTo>
                  <a:lnTo>
                    <a:pt x="3507" y="4315"/>
                  </a:lnTo>
                  <a:lnTo>
                    <a:pt x="3813" y="4334"/>
                  </a:lnTo>
                  <a:lnTo>
                    <a:pt x="4098" y="4363"/>
                  </a:lnTo>
                  <a:lnTo>
                    <a:pt x="4132" y="3897"/>
                  </a:lnTo>
                  <a:lnTo>
                    <a:pt x="4137" y="3691"/>
                  </a:lnTo>
                  <a:lnTo>
                    <a:pt x="4138" y="3590"/>
                  </a:lnTo>
                  <a:lnTo>
                    <a:pt x="4141" y="3492"/>
                  </a:lnTo>
                  <a:lnTo>
                    <a:pt x="4141" y="3393"/>
                  </a:lnTo>
                  <a:lnTo>
                    <a:pt x="4142" y="3299"/>
                  </a:lnTo>
                  <a:lnTo>
                    <a:pt x="4142" y="3113"/>
                  </a:lnTo>
                  <a:lnTo>
                    <a:pt x="4140" y="2931"/>
                  </a:lnTo>
                  <a:lnTo>
                    <a:pt x="4137" y="2844"/>
                  </a:lnTo>
                  <a:lnTo>
                    <a:pt x="4136" y="2759"/>
                  </a:lnTo>
                  <a:lnTo>
                    <a:pt x="4132" y="2673"/>
                  </a:lnTo>
                  <a:lnTo>
                    <a:pt x="4130" y="2591"/>
                  </a:lnTo>
                  <a:lnTo>
                    <a:pt x="4123" y="2430"/>
                  </a:lnTo>
                  <a:lnTo>
                    <a:pt x="4113" y="2310"/>
                  </a:lnTo>
                  <a:lnTo>
                    <a:pt x="4108" y="2249"/>
                  </a:lnTo>
                  <a:lnTo>
                    <a:pt x="4106" y="2217"/>
                  </a:lnTo>
                  <a:lnTo>
                    <a:pt x="4105" y="2202"/>
                  </a:lnTo>
                  <a:lnTo>
                    <a:pt x="4105" y="2187"/>
                  </a:lnTo>
                  <a:lnTo>
                    <a:pt x="4102" y="2171"/>
                  </a:lnTo>
                  <a:lnTo>
                    <a:pt x="4101" y="2155"/>
                  </a:lnTo>
                  <a:lnTo>
                    <a:pt x="4099" y="2124"/>
                  </a:lnTo>
                  <a:lnTo>
                    <a:pt x="4094" y="2060"/>
                  </a:lnTo>
                  <a:lnTo>
                    <a:pt x="4090" y="2027"/>
                  </a:lnTo>
                  <a:lnTo>
                    <a:pt x="4088" y="1994"/>
                  </a:lnTo>
                  <a:lnTo>
                    <a:pt x="4083" y="1929"/>
                  </a:lnTo>
                  <a:lnTo>
                    <a:pt x="4076" y="1861"/>
                  </a:lnTo>
                  <a:lnTo>
                    <a:pt x="4074" y="1843"/>
                  </a:lnTo>
                  <a:lnTo>
                    <a:pt x="4072" y="1826"/>
                  </a:lnTo>
                  <a:lnTo>
                    <a:pt x="4070" y="1793"/>
                  </a:lnTo>
                  <a:lnTo>
                    <a:pt x="4063" y="1722"/>
                  </a:lnTo>
                  <a:lnTo>
                    <a:pt x="4057" y="1652"/>
                  </a:lnTo>
                  <a:lnTo>
                    <a:pt x="4052" y="1615"/>
                  </a:lnTo>
                  <a:lnTo>
                    <a:pt x="4048" y="1579"/>
                  </a:lnTo>
                  <a:lnTo>
                    <a:pt x="4041" y="1507"/>
                  </a:lnTo>
                  <a:lnTo>
                    <a:pt x="4027" y="1358"/>
                  </a:lnTo>
                  <a:lnTo>
                    <a:pt x="4017" y="1280"/>
                  </a:lnTo>
                  <a:lnTo>
                    <a:pt x="4009" y="1203"/>
                  </a:lnTo>
                  <a:lnTo>
                    <a:pt x="3999" y="1124"/>
                  </a:lnTo>
                  <a:lnTo>
                    <a:pt x="3991" y="1045"/>
                  </a:lnTo>
                  <a:lnTo>
                    <a:pt x="3980" y="963"/>
                  </a:lnTo>
                  <a:lnTo>
                    <a:pt x="3970" y="882"/>
                  </a:lnTo>
                  <a:lnTo>
                    <a:pt x="3951" y="715"/>
                  </a:lnTo>
                  <a:lnTo>
                    <a:pt x="3930" y="542"/>
                  </a:lnTo>
                  <a:lnTo>
                    <a:pt x="3908" y="366"/>
                  </a:lnTo>
                  <a:lnTo>
                    <a:pt x="3884" y="185"/>
                  </a:lnTo>
                  <a:lnTo>
                    <a:pt x="3860" y="0"/>
                  </a:lnTo>
                  <a:lnTo>
                    <a:pt x="3777" y="15"/>
                  </a:lnTo>
                  <a:lnTo>
                    <a:pt x="3499" y="51"/>
                  </a:lnTo>
                  <a:lnTo>
                    <a:pt x="3223" y="72"/>
                  </a:lnTo>
                  <a:close/>
                </a:path>
              </a:pathLst>
            </a:custGeom>
            <a:solidFill>
              <a:srgbClr val="f3f3f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9"/>
            <p:cNvSpPr/>
            <p:nvPr/>
          </p:nvSpPr>
          <p:spPr>
            <a:xfrm rot="5400000">
              <a:off x="7274880" y="2302560"/>
              <a:ext cx="837000" cy="4909680"/>
            </a:xfrm>
            <a:custGeom>
              <a:avLst/>
              <a:gdLst/>
              <a:ahLst/>
              <a:rect l="l" t="t" r="r" b="b"/>
              <a:pathLst>
                <a:path w="1142" h="6041">
                  <a:moveTo>
                    <a:pt x="1071" y="548"/>
                  </a:moveTo>
                  <a:lnTo>
                    <a:pt x="1037" y="421"/>
                  </a:lnTo>
                  <a:lnTo>
                    <a:pt x="915" y="294"/>
                  </a:lnTo>
                  <a:lnTo>
                    <a:pt x="705" y="177"/>
                  </a:lnTo>
                  <a:lnTo>
                    <a:pt x="403" y="78"/>
                  </a:lnTo>
                  <a:lnTo>
                    <a:pt x="0" y="0"/>
                  </a:lnTo>
                  <a:lnTo>
                    <a:pt x="133" y="1050"/>
                  </a:lnTo>
                  <a:lnTo>
                    <a:pt x="157" y="1235"/>
                  </a:lnTo>
                  <a:lnTo>
                    <a:pt x="181" y="1416"/>
                  </a:lnTo>
                  <a:lnTo>
                    <a:pt x="203" y="1592"/>
                  </a:lnTo>
                  <a:lnTo>
                    <a:pt x="224" y="1765"/>
                  </a:lnTo>
                  <a:lnTo>
                    <a:pt x="243" y="1932"/>
                  </a:lnTo>
                  <a:lnTo>
                    <a:pt x="253" y="2013"/>
                  </a:lnTo>
                  <a:lnTo>
                    <a:pt x="264" y="2095"/>
                  </a:lnTo>
                  <a:lnTo>
                    <a:pt x="272" y="2174"/>
                  </a:lnTo>
                  <a:lnTo>
                    <a:pt x="282" y="2253"/>
                  </a:lnTo>
                  <a:lnTo>
                    <a:pt x="290" y="2330"/>
                  </a:lnTo>
                  <a:lnTo>
                    <a:pt x="300" y="2408"/>
                  </a:lnTo>
                  <a:lnTo>
                    <a:pt x="314" y="2557"/>
                  </a:lnTo>
                  <a:lnTo>
                    <a:pt x="321" y="2629"/>
                  </a:lnTo>
                  <a:lnTo>
                    <a:pt x="325" y="2665"/>
                  </a:lnTo>
                  <a:lnTo>
                    <a:pt x="330" y="2702"/>
                  </a:lnTo>
                  <a:lnTo>
                    <a:pt x="336" y="2772"/>
                  </a:lnTo>
                  <a:lnTo>
                    <a:pt x="343" y="2843"/>
                  </a:lnTo>
                  <a:lnTo>
                    <a:pt x="345" y="2876"/>
                  </a:lnTo>
                  <a:lnTo>
                    <a:pt x="347" y="2893"/>
                  </a:lnTo>
                  <a:lnTo>
                    <a:pt x="349" y="2911"/>
                  </a:lnTo>
                  <a:lnTo>
                    <a:pt x="356" y="2979"/>
                  </a:lnTo>
                  <a:lnTo>
                    <a:pt x="361" y="3044"/>
                  </a:lnTo>
                  <a:lnTo>
                    <a:pt x="363" y="3077"/>
                  </a:lnTo>
                  <a:lnTo>
                    <a:pt x="367" y="3110"/>
                  </a:lnTo>
                  <a:lnTo>
                    <a:pt x="372" y="3174"/>
                  </a:lnTo>
                  <a:lnTo>
                    <a:pt x="374" y="3205"/>
                  </a:lnTo>
                  <a:lnTo>
                    <a:pt x="375" y="3221"/>
                  </a:lnTo>
                  <a:lnTo>
                    <a:pt x="378" y="3237"/>
                  </a:lnTo>
                  <a:lnTo>
                    <a:pt x="378" y="3252"/>
                  </a:lnTo>
                  <a:lnTo>
                    <a:pt x="379" y="3267"/>
                  </a:lnTo>
                  <a:lnTo>
                    <a:pt x="381" y="3299"/>
                  </a:lnTo>
                  <a:lnTo>
                    <a:pt x="386" y="3360"/>
                  </a:lnTo>
                  <a:lnTo>
                    <a:pt x="396" y="3480"/>
                  </a:lnTo>
                  <a:lnTo>
                    <a:pt x="403" y="3641"/>
                  </a:lnTo>
                  <a:lnTo>
                    <a:pt x="405" y="3723"/>
                  </a:lnTo>
                  <a:lnTo>
                    <a:pt x="409" y="3809"/>
                  </a:lnTo>
                  <a:lnTo>
                    <a:pt x="410" y="3894"/>
                  </a:lnTo>
                  <a:lnTo>
                    <a:pt x="413" y="3981"/>
                  </a:lnTo>
                  <a:lnTo>
                    <a:pt x="415" y="4163"/>
                  </a:lnTo>
                  <a:lnTo>
                    <a:pt x="415" y="4349"/>
                  </a:lnTo>
                  <a:lnTo>
                    <a:pt x="414" y="4443"/>
                  </a:lnTo>
                  <a:lnTo>
                    <a:pt x="414" y="4542"/>
                  </a:lnTo>
                  <a:lnTo>
                    <a:pt x="411" y="4640"/>
                  </a:lnTo>
                  <a:lnTo>
                    <a:pt x="410" y="4741"/>
                  </a:lnTo>
                  <a:lnTo>
                    <a:pt x="405" y="4947"/>
                  </a:lnTo>
                  <a:lnTo>
                    <a:pt x="371" y="5413"/>
                  </a:lnTo>
                  <a:lnTo>
                    <a:pt x="347" y="5676"/>
                  </a:lnTo>
                  <a:lnTo>
                    <a:pt x="299" y="6041"/>
                  </a:lnTo>
                  <a:lnTo>
                    <a:pt x="605" y="5963"/>
                  </a:lnTo>
                  <a:lnTo>
                    <a:pt x="834" y="5882"/>
                  </a:lnTo>
                  <a:lnTo>
                    <a:pt x="981" y="5813"/>
                  </a:lnTo>
                  <a:lnTo>
                    <a:pt x="1075" y="5736"/>
                  </a:lnTo>
                  <a:lnTo>
                    <a:pt x="1094" y="5657"/>
                  </a:lnTo>
                  <a:lnTo>
                    <a:pt x="1124" y="4977"/>
                  </a:lnTo>
                  <a:lnTo>
                    <a:pt x="1139" y="4337"/>
                  </a:lnTo>
                  <a:lnTo>
                    <a:pt x="1142" y="3338"/>
                  </a:lnTo>
                  <a:lnTo>
                    <a:pt x="1124" y="2346"/>
                  </a:lnTo>
                  <a:lnTo>
                    <a:pt x="1071" y="548"/>
                  </a:lnTo>
                  <a:close/>
                </a:path>
              </a:pathLst>
            </a:custGeom>
            <a:solidFill>
              <a:srgbClr val="d2d2d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10"/>
          <p:cNvGrpSpPr/>
          <p:nvPr/>
        </p:nvGrpSpPr>
        <p:grpSpPr>
          <a:xfrm>
            <a:off x="5257800" y="1608120"/>
            <a:ext cx="5046480" cy="3236040"/>
            <a:chOff x="5257800" y="1608120"/>
            <a:chExt cx="5046480" cy="3236040"/>
          </a:xfrm>
        </p:grpSpPr>
        <p:sp>
          <p:nvSpPr>
            <p:cNvPr id="71" name="Freeform 111"/>
            <p:cNvSpPr/>
            <p:nvPr/>
          </p:nvSpPr>
          <p:spPr>
            <a:xfrm rot="5400000">
              <a:off x="7161480" y="1701360"/>
              <a:ext cx="1238760" cy="5046480"/>
            </a:xfrm>
            <a:custGeom>
              <a:avLst/>
              <a:gdLst/>
              <a:ahLst/>
              <a:rect l="l" t="t" r="r" b="b"/>
              <a:pathLst>
                <a:path w="1686" h="6209">
                  <a:moveTo>
                    <a:pt x="997" y="211"/>
                  </a:moveTo>
                  <a:lnTo>
                    <a:pt x="613" y="93"/>
                  </a:lnTo>
                  <a:lnTo>
                    <a:pt x="160" y="0"/>
                  </a:lnTo>
                  <a:lnTo>
                    <a:pt x="242" y="1341"/>
                  </a:lnTo>
                  <a:lnTo>
                    <a:pt x="257" y="1623"/>
                  </a:lnTo>
                  <a:lnTo>
                    <a:pt x="263" y="1763"/>
                  </a:lnTo>
                  <a:lnTo>
                    <a:pt x="270" y="1903"/>
                  </a:lnTo>
                  <a:lnTo>
                    <a:pt x="275" y="2041"/>
                  </a:lnTo>
                  <a:lnTo>
                    <a:pt x="281" y="2180"/>
                  </a:lnTo>
                  <a:lnTo>
                    <a:pt x="290" y="2457"/>
                  </a:lnTo>
                  <a:lnTo>
                    <a:pt x="293" y="2593"/>
                  </a:lnTo>
                  <a:lnTo>
                    <a:pt x="296" y="2730"/>
                  </a:lnTo>
                  <a:lnTo>
                    <a:pt x="301" y="3002"/>
                  </a:lnTo>
                  <a:lnTo>
                    <a:pt x="301" y="3137"/>
                  </a:lnTo>
                  <a:lnTo>
                    <a:pt x="301" y="3204"/>
                  </a:lnTo>
                  <a:lnTo>
                    <a:pt x="301" y="3237"/>
                  </a:lnTo>
                  <a:lnTo>
                    <a:pt x="301" y="3254"/>
                  </a:lnTo>
                  <a:lnTo>
                    <a:pt x="302" y="3272"/>
                  </a:lnTo>
                  <a:lnTo>
                    <a:pt x="302" y="3405"/>
                  </a:lnTo>
                  <a:lnTo>
                    <a:pt x="304" y="3540"/>
                  </a:lnTo>
                  <a:lnTo>
                    <a:pt x="299" y="3657"/>
                  </a:lnTo>
                  <a:lnTo>
                    <a:pt x="294" y="3776"/>
                  </a:lnTo>
                  <a:lnTo>
                    <a:pt x="283" y="4014"/>
                  </a:lnTo>
                  <a:lnTo>
                    <a:pt x="268" y="4251"/>
                  </a:lnTo>
                  <a:lnTo>
                    <a:pt x="251" y="4489"/>
                  </a:lnTo>
                  <a:lnTo>
                    <a:pt x="229" y="4727"/>
                  </a:lnTo>
                  <a:lnTo>
                    <a:pt x="205" y="4964"/>
                  </a:lnTo>
                  <a:lnTo>
                    <a:pt x="178" y="5202"/>
                  </a:lnTo>
                  <a:lnTo>
                    <a:pt x="148" y="5439"/>
                  </a:lnTo>
                  <a:lnTo>
                    <a:pt x="120" y="5594"/>
                  </a:lnTo>
                  <a:lnTo>
                    <a:pt x="80" y="5827"/>
                  </a:lnTo>
                  <a:lnTo>
                    <a:pt x="0" y="6209"/>
                  </a:lnTo>
                  <a:lnTo>
                    <a:pt x="462" y="6165"/>
                  </a:lnTo>
                  <a:lnTo>
                    <a:pt x="784" y="6123"/>
                  </a:lnTo>
                  <a:lnTo>
                    <a:pt x="1109" y="6067"/>
                  </a:lnTo>
                  <a:lnTo>
                    <a:pt x="1325" y="6014"/>
                  </a:lnTo>
                  <a:lnTo>
                    <a:pt x="1484" y="5952"/>
                  </a:lnTo>
                  <a:lnTo>
                    <a:pt x="1559" y="5891"/>
                  </a:lnTo>
                  <a:lnTo>
                    <a:pt x="1608" y="5256"/>
                  </a:lnTo>
                  <a:lnTo>
                    <a:pt x="1632" y="4833"/>
                  </a:lnTo>
                  <a:lnTo>
                    <a:pt x="1662" y="4141"/>
                  </a:lnTo>
                  <a:lnTo>
                    <a:pt x="1682" y="3096"/>
                  </a:lnTo>
                  <a:lnTo>
                    <a:pt x="1686" y="2503"/>
                  </a:lnTo>
                  <a:lnTo>
                    <a:pt x="1678" y="776"/>
                  </a:lnTo>
                  <a:lnTo>
                    <a:pt x="1636" y="639"/>
                  </a:lnTo>
                  <a:lnTo>
                    <a:pt x="1609" y="601"/>
                  </a:lnTo>
                  <a:lnTo>
                    <a:pt x="1580" y="564"/>
                  </a:lnTo>
                  <a:lnTo>
                    <a:pt x="1564" y="545"/>
                  </a:lnTo>
                  <a:lnTo>
                    <a:pt x="1546" y="528"/>
                  </a:lnTo>
                  <a:lnTo>
                    <a:pt x="1507" y="492"/>
                  </a:lnTo>
                  <a:lnTo>
                    <a:pt x="1462" y="456"/>
                  </a:lnTo>
                  <a:lnTo>
                    <a:pt x="1414" y="420"/>
                  </a:lnTo>
                  <a:lnTo>
                    <a:pt x="1387" y="401"/>
                  </a:lnTo>
                  <a:lnTo>
                    <a:pt x="1360" y="384"/>
                  </a:lnTo>
                  <a:lnTo>
                    <a:pt x="1302" y="350"/>
                  </a:lnTo>
                  <a:lnTo>
                    <a:pt x="997" y="211"/>
                  </a:lnTo>
                  <a:close/>
                </a:path>
              </a:pathLst>
            </a:custGeom>
            <a:solidFill>
              <a:srgbClr val="dada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12"/>
            <p:cNvSpPr/>
            <p:nvPr/>
          </p:nvSpPr>
          <p:spPr>
            <a:xfrm rot="5400000">
              <a:off x="6375600" y="990360"/>
              <a:ext cx="2220480" cy="3455640"/>
            </a:xfrm>
            <a:custGeom>
              <a:avLst/>
              <a:gdLst/>
              <a:ahLst/>
              <a:rect l="l" t="t" r="r" b="b"/>
              <a:pathLst>
                <a:path w="3022" h="4253">
                  <a:moveTo>
                    <a:pt x="3022" y="2199"/>
                  </a:moveTo>
                  <a:lnTo>
                    <a:pt x="3020" y="2064"/>
                  </a:lnTo>
                  <a:lnTo>
                    <a:pt x="3020" y="1931"/>
                  </a:lnTo>
                  <a:lnTo>
                    <a:pt x="3019" y="1913"/>
                  </a:lnTo>
                  <a:lnTo>
                    <a:pt x="3019" y="1896"/>
                  </a:lnTo>
                  <a:lnTo>
                    <a:pt x="3019" y="1863"/>
                  </a:lnTo>
                  <a:lnTo>
                    <a:pt x="3019" y="1796"/>
                  </a:lnTo>
                  <a:lnTo>
                    <a:pt x="3019" y="1661"/>
                  </a:lnTo>
                  <a:lnTo>
                    <a:pt x="3014" y="1389"/>
                  </a:lnTo>
                  <a:lnTo>
                    <a:pt x="3011" y="1252"/>
                  </a:lnTo>
                  <a:lnTo>
                    <a:pt x="3008" y="1116"/>
                  </a:lnTo>
                  <a:lnTo>
                    <a:pt x="2999" y="839"/>
                  </a:lnTo>
                  <a:lnTo>
                    <a:pt x="2993" y="700"/>
                  </a:lnTo>
                  <a:lnTo>
                    <a:pt x="2988" y="562"/>
                  </a:lnTo>
                  <a:lnTo>
                    <a:pt x="2981" y="422"/>
                  </a:lnTo>
                  <a:lnTo>
                    <a:pt x="2975" y="282"/>
                  </a:lnTo>
                  <a:lnTo>
                    <a:pt x="2960" y="0"/>
                  </a:lnTo>
                  <a:lnTo>
                    <a:pt x="2388" y="15"/>
                  </a:lnTo>
                  <a:lnTo>
                    <a:pt x="0" y="20"/>
                  </a:lnTo>
                  <a:lnTo>
                    <a:pt x="4" y="2730"/>
                  </a:lnTo>
                  <a:lnTo>
                    <a:pt x="0" y="4245"/>
                  </a:lnTo>
                  <a:lnTo>
                    <a:pt x="2418" y="4246"/>
                  </a:lnTo>
                  <a:lnTo>
                    <a:pt x="2838" y="4253"/>
                  </a:lnTo>
                  <a:lnTo>
                    <a:pt x="2866" y="4098"/>
                  </a:lnTo>
                  <a:lnTo>
                    <a:pt x="2896" y="3861"/>
                  </a:lnTo>
                  <a:lnTo>
                    <a:pt x="2923" y="3623"/>
                  </a:lnTo>
                  <a:lnTo>
                    <a:pt x="2947" y="3386"/>
                  </a:lnTo>
                  <a:lnTo>
                    <a:pt x="2969" y="3148"/>
                  </a:lnTo>
                  <a:lnTo>
                    <a:pt x="2986" y="2910"/>
                  </a:lnTo>
                  <a:lnTo>
                    <a:pt x="3001" y="2673"/>
                  </a:lnTo>
                  <a:lnTo>
                    <a:pt x="3012" y="2435"/>
                  </a:lnTo>
                  <a:lnTo>
                    <a:pt x="3017" y="2316"/>
                  </a:lnTo>
                  <a:lnTo>
                    <a:pt x="3022" y="2199"/>
                  </a:lnTo>
                  <a:close/>
                </a:path>
              </a:pathLst>
            </a:custGeom>
            <a:solidFill>
              <a:srgbClr val="fdfdf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13"/>
          <p:cNvGrpSpPr/>
          <p:nvPr/>
        </p:nvGrpSpPr>
        <p:grpSpPr>
          <a:xfrm>
            <a:off x="5296320" y="1614600"/>
            <a:ext cx="5044680" cy="2837880"/>
            <a:chOff x="5296320" y="1614600"/>
            <a:chExt cx="5044680" cy="2837880"/>
          </a:xfrm>
        </p:grpSpPr>
        <p:sp>
          <p:nvSpPr>
            <p:cNvPr id="74" name="Freeform 114"/>
            <p:cNvSpPr/>
            <p:nvPr/>
          </p:nvSpPr>
          <p:spPr>
            <a:xfrm rot="5400000">
              <a:off x="6914520" y="1025640"/>
              <a:ext cx="1808280" cy="5044680"/>
            </a:xfrm>
            <a:custGeom>
              <a:avLst/>
              <a:gdLst/>
              <a:ahLst/>
              <a:rect l="l" t="t" r="r" b="b"/>
              <a:pathLst>
                <a:path w="2460" h="6202">
                  <a:moveTo>
                    <a:pt x="2446" y="870"/>
                  </a:moveTo>
                  <a:lnTo>
                    <a:pt x="2431" y="834"/>
                  </a:lnTo>
                  <a:lnTo>
                    <a:pt x="2413" y="800"/>
                  </a:lnTo>
                  <a:lnTo>
                    <a:pt x="2390" y="764"/>
                  </a:lnTo>
                  <a:lnTo>
                    <a:pt x="2364" y="730"/>
                  </a:lnTo>
                  <a:lnTo>
                    <a:pt x="2332" y="694"/>
                  </a:lnTo>
                  <a:lnTo>
                    <a:pt x="2296" y="661"/>
                  </a:lnTo>
                  <a:lnTo>
                    <a:pt x="2285" y="651"/>
                  </a:lnTo>
                  <a:lnTo>
                    <a:pt x="2275" y="643"/>
                  </a:lnTo>
                  <a:lnTo>
                    <a:pt x="2255" y="626"/>
                  </a:lnTo>
                  <a:lnTo>
                    <a:pt x="2210" y="592"/>
                  </a:lnTo>
                  <a:lnTo>
                    <a:pt x="2160" y="556"/>
                  </a:lnTo>
                  <a:lnTo>
                    <a:pt x="2105" y="523"/>
                  </a:lnTo>
                  <a:lnTo>
                    <a:pt x="2045" y="487"/>
                  </a:lnTo>
                  <a:lnTo>
                    <a:pt x="1982" y="453"/>
                  </a:lnTo>
                  <a:lnTo>
                    <a:pt x="1913" y="417"/>
                  </a:lnTo>
                  <a:lnTo>
                    <a:pt x="1841" y="384"/>
                  </a:lnTo>
                  <a:lnTo>
                    <a:pt x="1820" y="374"/>
                  </a:lnTo>
                  <a:lnTo>
                    <a:pt x="1801" y="366"/>
                  </a:lnTo>
                  <a:lnTo>
                    <a:pt x="1763" y="349"/>
                  </a:lnTo>
                  <a:lnTo>
                    <a:pt x="1681" y="315"/>
                  </a:lnTo>
                  <a:lnTo>
                    <a:pt x="1537" y="264"/>
                  </a:lnTo>
                  <a:lnTo>
                    <a:pt x="1463" y="238"/>
                  </a:lnTo>
                  <a:lnTo>
                    <a:pt x="1390" y="216"/>
                  </a:lnTo>
                  <a:lnTo>
                    <a:pt x="1237" y="171"/>
                  </a:lnTo>
                  <a:lnTo>
                    <a:pt x="1159" y="150"/>
                  </a:lnTo>
                  <a:lnTo>
                    <a:pt x="1081" y="130"/>
                  </a:lnTo>
                  <a:lnTo>
                    <a:pt x="1001" y="110"/>
                  </a:lnTo>
                  <a:lnTo>
                    <a:pt x="920" y="92"/>
                  </a:lnTo>
                  <a:lnTo>
                    <a:pt x="839" y="74"/>
                  </a:lnTo>
                  <a:lnTo>
                    <a:pt x="757" y="58"/>
                  </a:lnTo>
                  <a:lnTo>
                    <a:pt x="673" y="42"/>
                  </a:lnTo>
                  <a:lnTo>
                    <a:pt x="589" y="27"/>
                  </a:lnTo>
                  <a:lnTo>
                    <a:pt x="418" y="0"/>
                  </a:lnTo>
                  <a:lnTo>
                    <a:pt x="454" y="688"/>
                  </a:lnTo>
                  <a:lnTo>
                    <a:pt x="474" y="1200"/>
                  </a:lnTo>
                  <a:lnTo>
                    <a:pt x="479" y="1432"/>
                  </a:lnTo>
                  <a:lnTo>
                    <a:pt x="480" y="1569"/>
                  </a:lnTo>
                  <a:lnTo>
                    <a:pt x="481" y="1706"/>
                  </a:lnTo>
                  <a:lnTo>
                    <a:pt x="481" y="1842"/>
                  </a:lnTo>
                  <a:lnTo>
                    <a:pt x="481" y="1909"/>
                  </a:lnTo>
                  <a:lnTo>
                    <a:pt x="481" y="1942"/>
                  </a:lnTo>
                  <a:lnTo>
                    <a:pt x="481" y="1959"/>
                  </a:lnTo>
                  <a:lnTo>
                    <a:pt x="482" y="1977"/>
                  </a:lnTo>
                  <a:lnTo>
                    <a:pt x="481" y="1993"/>
                  </a:lnTo>
                  <a:lnTo>
                    <a:pt x="481" y="2010"/>
                  </a:lnTo>
                  <a:lnTo>
                    <a:pt x="481" y="2043"/>
                  </a:lnTo>
                  <a:lnTo>
                    <a:pt x="481" y="2110"/>
                  </a:lnTo>
                  <a:lnTo>
                    <a:pt x="481" y="2244"/>
                  </a:lnTo>
                  <a:lnTo>
                    <a:pt x="479" y="2376"/>
                  </a:lnTo>
                  <a:lnTo>
                    <a:pt x="478" y="2508"/>
                  </a:lnTo>
                  <a:lnTo>
                    <a:pt x="474" y="2637"/>
                  </a:lnTo>
                  <a:lnTo>
                    <a:pt x="470" y="2767"/>
                  </a:lnTo>
                  <a:lnTo>
                    <a:pt x="466" y="2894"/>
                  </a:lnTo>
                  <a:lnTo>
                    <a:pt x="463" y="2958"/>
                  </a:lnTo>
                  <a:lnTo>
                    <a:pt x="462" y="3022"/>
                  </a:lnTo>
                  <a:lnTo>
                    <a:pt x="458" y="3085"/>
                  </a:lnTo>
                  <a:lnTo>
                    <a:pt x="456" y="3148"/>
                  </a:lnTo>
                  <a:lnTo>
                    <a:pt x="451" y="3274"/>
                  </a:lnTo>
                  <a:lnTo>
                    <a:pt x="444" y="3398"/>
                  </a:lnTo>
                  <a:lnTo>
                    <a:pt x="438" y="3523"/>
                  </a:lnTo>
                  <a:lnTo>
                    <a:pt x="426" y="3642"/>
                  </a:lnTo>
                  <a:lnTo>
                    <a:pt x="415" y="3762"/>
                  </a:lnTo>
                  <a:lnTo>
                    <a:pt x="391" y="4002"/>
                  </a:lnTo>
                  <a:lnTo>
                    <a:pt x="377" y="4120"/>
                  </a:lnTo>
                  <a:lnTo>
                    <a:pt x="362" y="4240"/>
                  </a:lnTo>
                  <a:lnTo>
                    <a:pt x="332" y="4480"/>
                  </a:lnTo>
                  <a:lnTo>
                    <a:pt x="298" y="4718"/>
                  </a:lnTo>
                  <a:lnTo>
                    <a:pt x="262" y="4958"/>
                  </a:lnTo>
                  <a:lnTo>
                    <a:pt x="222" y="5196"/>
                  </a:lnTo>
                  <a:lnTo>
                    <a:pt x="180" y="5436"/>
                  </a:lnTo>
                  <a:lnTo>
                    <a:pt x="126" y="5678"/>
                  </a:lnTo>
                  <a:lnTo>
                    <a:pt x="96" y="5821"/>
                  </a:lnTo>
                  <a:lnTo>
                    <a:pt x="0" y="6202"/>
                  </a:lnTo>
                  <a:lnTo>
                    <a:pt x="481" y="6201"/>
                  </a:lnTo>
                  <a:lnTo>
                    <a:pt x="930" y="6186"/>
                  </a:lnTo>
                  <a:lnTo>
                    <a:pt x="1322" y="6159"/>
                  </a:lnTo>
                  <a:lnTo>
                    <a:pt x="1684" y="6122"/>
                  </a:lnTo>
                  <a:lnTo>
                    <a:pt x="1944" y="6080"/>
                  </a:lnTo>
                  <a:lnTo>
                    <a:pt x="2162" y="6024"/>
                  </a:lnTo>
                  <a:lnTo>
                    <a:pt x="2281" y="5972"/>
                  </a:lnTo>
                  <a:lnTo>
                    <a:pt x="2329" y="5912"/>
                  </a:lnTo>
                  <a:lnTo>
                    <a:pt x="2398" y="4928"/>
                  </a:lnTo>
                  <a:lnTo>
                    <a:pt x="2400" y="4852"/>
                  </a:lnTo>
                  <a:lnTo>
                    <a:pt x="2405" y="4774"/>
                  </a:lnTo>
                  <a:lnTo>
                    <a:pt x="2405" y="4753"/>
                  </a:lnTo>
                  <a:lnTo>
                    <a:pt x="2405" y="4742"/>
                  </a:lnTo>
                  <a:lnTo>
                    <a:pt x="2406" y="4732"/>
                  </a:lnTo>
                  <a:lnTo>
                    <a:pt x="2408" y="4692"/>
                  </a:lnTo>
                  <a:lnTo>
                    <a:pt x="2413" y="4606"/>
                  </a:lnTo>
                  <a:lnTo>
                    <a:pt x="2416" y="4516"/>
                  </a:lnTo>
                  <a:lnTo>
                    <a:pt x="2420" y="4425"/>
                  </a:lnTo>
                  <a:lnTo>
                    <a:pt x="2422" y="4377"/>
                  </a:lnTo>
                  <a:lnTo>
                    <a:pt x="2424" y="4329"/>
                  </a:lnTo>
                  <a:lnTo>
                    <a:pt x="2429" y="4231"/>
                  </a:lnTo>
                  <a:lnTo>
                    <a:pt x="2431" y="4126"/>
                  </a:lnTo>
                  <a:lnTo>
                    <a:pt x="2432" y="4074"/>
                  </a:lnTo>
                  <a:lnTo>
                    <a:pt x="2435" y="4021"/>
                  </a:lnTo>
                  <a:lnTo>
                    <a:pt x="2437" y="3910"/>
                  </a:lnTo>
                  <a:lnTo>
                    <a:pt x="2442" y="3798"/>
                  </a:lnTo>
                  <a:lnTo>
                    <a:pt x="2444" y="3680"/>
                  </a:lnTo>
                  <a:lnTo>
                    <a:pt x="2446" y="3620"/>
                  </a:lnTo>
                  <a:lnTo>
                    <a:pt x="2448" y="3560"/>
                  </a:lnTo>
                  <a:lnTo>
                    <a:pt x="2450" y="3435"/>
                  </a:lnTo>
                  <a:lnTo>
                    <a:pt x="2455" y="3309"/>
                  </a:lnTo>
                  <a:lnTo>
                    <a:pt x="2455" y="3117"/>
                  </a:lnTo>
                  <a:lnTo>
                    <a:pt x="2458" y="2931"/>
                  </a:lnTo>
                  <a:lnTo>
                    <a:pt x="2458" y="2750"/>
                  </a:lnTo>
                  <a:lnTo>
                    <a:pt x="2460" y="2575"/>
                  </a:lnTo>
                  <a:lnTo>
                    <a:pt x="2460" y="2403"/>
                  </a:lnTo>
                  <a:lnTo>
                    <a:pt x="2460" y="2238"/>
                  </a:lnTo>
                  <a:lnTo>
                    <a:pt x="2460" y="2077"/>
                  </a:lnTo>
                  <a:lnTo>
                    <a:pt x="2460" y="1923"/>
                  </a:lnTo>
                  <a:lnTo>
                    <a:pt x="2458" y="1772"/>
                  </a:lnTo>
                  <a:lnTo>
                    <a:pt x="2458" y="1628"/>
                  </a:lnTo>
                  <a:lnTo>
                    <a:pt x="2455" y="1489"/>
                  </a:lnTo>
                  <a:lnTo>
                    <a:pt x="2455" y="1354"/>
                  </a:lnTo>
                  <a:lnTo>
                    <a:pt x="2453" y="1225"/>
                  </a:lnTo>
                  <a:lnTo>
                    <a:pt x="2450" y="1101"/>
                  </a:lnTo>
                  <a:lnTo>
                    <a:pt x="2448" y="982"/>
                  </a:lnTo>
                  <a:lnTo>
                    <a:pt x="2446" y="870"/>
                  </a:lnTo>
                  <a:close/>
                </a:path>
              </a:pathLst>
            </a:custGeom>
            <a:solidFill>
              <a:srgbClr val="dbdbd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15"/>
            <p:cNvSpPr/>
            <p:nvPr/>
          </p:nvSpPr>
          <p:spPr>
            <a:xfrm rot="5400000">
              <a:off x="6757200" y="580680"/>
              <a:ext cx="1384560" cy="3452040"/>
            </a:xfrm>
            <a:custGeom>
              <a:avLst/>
              <a:gdLst/>
              <a:ahLst/>
              <a:rect l="l" t="t" r="r" b="b"/>
              <a:pathLst>
                <a:path w="1882" h="4246">
                  <a:moveTo>
                    <a:pt x="1838" y="2091"/>
                  </a:moveTo>
                  <a:lnTo>
                    <a:pt x="1844" y="1966"/>
                  </a:lnTo>
                  <a:lnTo>
                    <a:pt x="1851" y="1842"/>
                  </a:lnTo>
                  <a:lnTo>
                    <a:pt x="1856" y="1716"/>
                  </a:lnTo>
                  <a:lnTo>
                    <a:pt x="1858" y="1653"/>
                  </a:lnTo>
                  <a:lnTo>
                    <a:pt x="1862" y="1590"/>
                  </a:lnTo>
                  <a:lnTo>
                    <a:pt x="1863" y="1526"/>
                  </a:lnTo>
                  <a:lnTo>
                    <a:pt x="1866" y="1462"/>
                  </a:lnTo>
                  <a:lnTo>
                    <a:pt x="1870" y="1335"/>
                  </a:lnTo>
                  <a:lnTo>
                    <a:pt x="1874" y="1205"/>
                  </a:lnTo>
                  <a:lnTo>
                    <a:pt x="1878" y="1076"/>
                  </a:lnTo>
                  <a:lnTo>
                    <a:pt x="1879" y="944"/>
                  </a:lnTo>
                  <a:lnTo>
                    <a:pt x="1881" y="812"/>
                  </a:lnTo>
                  <a:lnTo>
                    <a:pt x="1881" y="678"/>
                  </a:lnTo>
                  <a:lnTo>
                    <a:pt x="1881" y="611"/>
                  </a:lnTo>
                  <a:lnTo>
                    <a:pt x="1881" y="578"/>
                  </a:lnTo>
                  <a:lnTo>
                    <a:pt x="1881" y="561"/>
                  </a:lnTo>
                  <a:lnTo>
                    <a:pt x="1882" y="545"/>
                  </a:lnTo>
                  <a:lnTo>
                    <a:pt x="1881" y="527"/>
                  </a:lnTo>
                  <a:lnTo>
                    <a:pt x="1881" y="510"/>
                  </a:lnTo>
                  <a:lnTo>
                    <a:pt x="1881" y="477"/>
                  </a:lnTo>
                  <a:lnTo>
                    <a:pt x="1881" y="410"/>
                  </a:lnTo>
                  <a:lnTo>
                    <a:pt x="1881" y="274"/>
                  </a:lnTo>
                  <a:lnTo>
                    <a:pt x="1880" y="137"/>
                  </a:lnTo>
                  <a:lnTo>
                    <a:pt x="1879" y="0"/>
                  </a:lnTo>
                  <a:lnTo>
                    <a:pt x="0" y="16"/>
                  </a:lnTo>
                  <a:lnTo>
                    <a:pt x="0" y="4240"/>
                  </a:lnTo>
                  <a:lnTo>
                    <a:pt x="1526" y="4246"/>
                  </a:lnTo>
                  <a:lnTo>
                    <a:pt x="1580" y="4004"/>
                  </a:lnTo>
                  <a:lnTo>
                    <a:pt x="1622" y="3764"/>
                  </a:lnTo>
                  <a:lnTo>
                    <a:pt x="1662" y="3526"/>
                  </a:lnTo>
                  <a:lnTo>
                    <a:pt x="1698" y="3286"/>
                  </a:lnTo>
                  <a:lnTo>
                    <a:pt x="1732" y="3048"/>
                  </a:lnTo>
                  <a:lnTo>
                    <a:pt x="1762" y="2808"/>
                  </a:lnTo>
                  <a:lnTo>
                    <a:pt x="1777" y="2688"/>
                  </a:lnTo>
                  <a:lnTo>
                    <a:pt x="1791" y="2570"/>
                  </a:lnTo>
                  <a:lnTo>
                    <a:pt x="1815" y="2330"/>
                  </a:lnTo>
                  <a:lnTo>
                    <a:pt x="1826" y="2210"/>
                  </a:lnTo>
                  <a:lnTo>
                    <a:pt x="1838" y="2091"/>
                  </a:lnTo>
                  <a:close/>
                </a:path>
              </a:pathLst>
            </a:custGeom>
            <a:solidFill>
              <a:srgbClr val="fefef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16"/>
          <p:cNvGrpSpPr/>
          <p:nvPr/>
        </p:nvGrpSpPr>
        <p:grpSpPr>
          <a:xfrm>
            <a:off x="5329080" y="1666800"/>
            <a:ext cx="4937040" cy="2415960"/>
            <a:chOff x="5329080" y="1666800"/>
            <a:chExt cx="4937040" cy="2415960"/>
          </a:xfrm>
        </p:grpSpPr>
        <p:sp>
          <p:nvSpPr>
            <p:cNvPr id="77" name="Freeform 117"/>
            <p:cNvSpPr/>
            <p:nvPr/>
          </p:nvSpPr>
          <p:spPr>
            <a:xfrm rot="5400000">
              <a:off x="6664680" y="480960"/>
              <a:ext cx="2265840" cy="4937040"/>
            </a:xfrm>
            <a:custGeom>
              <a:avLst/>
              <a:gdLst/>
              <a:ahLst/>
              <a:rect l="l" t="t" r="r" b="b"/>
              <a:pathLst>
                <a:path w="3080" h="6074">
                  <a:moveTo>
                    <a:pt x="3037" y="923"/>
                  </a:moveTo>
                  <a:lnTo>
                    <a:pt x="2978" y="811"/>
                  </a:lnTo>
                  <a:lnTo>
                    <a:pt x="2948" y="777"/>
                  </a:lnTo>
                  <a:lnTo>
                    <a:pt x="2915" y="745"/>
                  </a:lnTo>
                  <a:lnTo>
                    <a:pt x="2878" y="713"/>
                  </a:lnTo>
                  <a:lnTo>
                    <a:pt x="2837" y="681"/>
                  </a:lnTo>
                  <a:lnTo>
                    <a:pt x="2791" y="649"/>
                  </a:lnTo>
                  <a:lnTo>
                    <a:pt x="2743" y="618"/>
                  </a:lnTo>
                  <a:lnTo>
                    <a:pt x="2690" y="587"/>
                  </a:lnTo>
                  <a:lnTo>
                    <a:pt x="2635" y="557"/>
                  </a:lnTo>
                  <a:lnTo>
                    <a:pt x="2574" y="525"/>
                  </a:lnTo>
                  <a:lnTo>
                    <a:pt x="2510" y="494"/>
                  </a:lnTo>
                  <a:lnTo>
                    <a:pt x="2442" y="463"/>
                  </a:lnTo>
                  <a:lnTo>
                    <a:pt x="2371" y="434"/>
                  </a:lnTo>
                  <a:lnTo>
                    <a:pt x="2294" y="403"/>
                  </a:lnTo>
                  <a:lnTo>
                    <a:pt x="2215" y="374"/>
                  </a:lnTo>
                  <a:lnTo>
                    <a:pt x="2131" y="345"/>
                  </a:lnTo>
                  <a:lnTo>
                    <a:pt x="2045" y="317"/>
                  </a:lnTo>
                  <a:lnTo>
                    <a:pt x="1669" y="207"/>
                  </a:lnTo>
                  <a:lnTo>
                    <a:pt x="1512" y="170"/>
                  </a:lnTo>
                  <a:lnTo>
                    <a:pt x="1357" y="137"/>
                  </a:lnTo>
                  <a:lnTo>
                    <a:pt x="1204" y="105"/>
                  </a:lnTo>
                  <a:lnTo>
                    <a:pt x="1052" y="79"/>
                  </a:lnTo>
                  <a:lnTo>
                    <a:pt x="901" y="54"/>
                  </a:lnTo>
                  <a:lnTo>
                    <a:pt x="751" y="32"/>
                  </a:lnTo>
                  <a:lnTo>
                    <a:pt x="602" y="14"/>
                  </a:lnTo>
                  <a:lnTo>
                    <a:pt x="456" y="0"/>
                  </a:lnTo>
                  <a:lnTo>
                    <a:pt x="482" y="332"/>
                  </a:lnTo>
                  <a:lnTo>
                    <a:pt x="506" y="669"/>
                  </a:lnTo>
                  <a:lnTo>
                    <a:pt x="516" y="839"/>
                  </a:lnTo>
                  <a:lnTo>
                    <a:pt x="526" y="1010"/>
                  </a:lnTo>
                  <a:lnTo>
                    <a:pt x="533" y="1182"/>
                  </a:lnTo>
                  <a:lnTo>
                    <a:pt x="540" y="1356"/>
                  </a:lnTo>
                  <a:lnTo>
                    <a:pt x="540" y="1470"/>
                  </a:lnTo>
                  <a:lnTo>
                    <a:pt x="541" y="1583"/>
                  </a:lnTo>
                  <a:lnTo>
                    <a:pt x="541" y="1694"/>
                  </a:lnTo>
                  <a:lnTo>
                    <a:pt x="541" y="1805"/>
                  </a:lnTo>
                  <a:lnTo>
                    <a:pt x="540" y="1913"/>
                  </a:lnTo>
                  <a:lnTo>
                    <a:pt x="540" y="2021"/>
                  </a:lnTo>
                  <a:lnTo>
                    <a:pt x="538" y="2126"/>
                  </a:lnTo>
                  <a:lnTo>
                    <a:pt x="536" y="2232"/>
                  </a:lnTo>
                  <a:lnTo>
                    <a:pt x="534" y="2282"/>
                  </a:lnTo>
                  <a:lnTo>
                    <a:pt x="533" y="2294"/>
                  </a:lnTo>
                  <a:lnTo>
                    <a:pt x="533" y="2307"/>
                  </a:lnTo>
                  <a:lnTo>
                    <a:pt x="533" y="2334"/>
                  </a:lnTo>
                  <a:lnTo>
                    <a:pt x="530" y="2436"/>
                  </a:lnTo>
                  <a:lnTo>
                    <a:pt x="523" y="2635"/>
                  </a:lnTo>
                  <a:lnTo>
                    <a:pt x="518" y="2732"/>
                  </a:lnTo>
                  <a:lnTo>
                    <a:pt x="514" y="2828"/>
                  </a:lnTo>
                  <a:lnTo>
                    <a:pt x="511" y="2851"/>
                  </a:lnTo>
                  <a:lnTo>
                    <a:pt x="510" y="2875"/>
                  </a:lnTo>
                  <a:lnTo>
                    <a:pt x="508" y="2923"/>
                  </a:lnTo>
                  <a:lnTo>
                    <a:pt x="503" y="3017"/>
                  </a:lnTo>
                  <a:lnTo>
                    <a:pt x="480" y="3254"/>
                  </a:lnTo>
                  <a:lnTo>
                    <a:pt x="457" y="3492"/>
                  </a:lnTo>
                  <a:lnTo>
                    <a:pt x="443" y="3609"/>
                  </a:lnTo>
                  <a:lnTo>
                    <a:pt x="436" y="3668"/>
                  </a:lnTo>
                  <a:lnTo>
                    <a:pt x="430" y="3728"/>
                  </a:lnTo>
                  <a:lnTo>
                    <a:pt x="402" y="3966"/>
                  </a:lnTo>
                  <a:lnTo>
                    <a:pt x="370" y="4201"/>
                  </a:lnTo>
                  <a:lnTo>
                    <a:pt x="335" y="4439"/>
                  </a:lnTo>
                  <a:lnTo>
                    <a:pt x="296" y="4674"/>
                  </a:lnTo>
                  <a:lnTo>
                    <a:pt x="276" y="4791"/>
                  </a:lnTo>
                  <a:lnTo>
                    <a:pt x="257" y="4910"/>
                  </a:lnTo>
                  <a:lnTo>
                    <a:pt x="186" y="5258"/>
                  </a:lnTo>
                  <a:lnTo>
                    <a:pt x="109" y="5597"/>
                  </a:lnTo>
                  <a:lnTo>
                    <a:pt x="0" y="6039"/>
                  </a:lnTo>
                  <a:lnTo>
                    <a:pt x="46" y="6042"/>
                  </a:lnTo>
                  <a:lnTo>
                    <a:pt x="70" y="6043"/>
                  </a:lnTo>
                  <a:lnTo>
                    <a:pt x="96" y="6045"/>
                  </a:lnTo>
                  <a:lnTo>
                    <a:pt x="151" y="6048"/>
                  </a:lnTo>
                  <a:lnTo>
                    <a:pt x="180" y="6049"/>
                  </a:lnTo>
                  <a:lnTo>
                    <a:pt x="211" y="6051"/>
                  </a:lnTo>
                  <a:lnTo>
                    <a:pt x="275" y="6054"/>
                  </a:lnTo>
                  <a:lnTo>
                    <a:pt x="344" y="6056"/>
                  </a:lnTo>
                  <a:lnTo>
                    <a:pt x="418" y="6059"/>
                  </a:lnTo>
                  <a:lnTo>
                    <a:pt x="456" y="6060"/>
                  </a:lnTo>
                  <a:lnTo>
                    <a:pt x="497" y="6062"/>
                  </a:lnTo>
                  <a:lnTo>
                    <a:pt x="536" y="6062"/>
                  </a:lnTo>
                  <a:lnTo>
                    <a:pt x="578" y="6063"/>
                  </a:lnTo>
                  <a:lnTo>
                    <a:pt x="666" y="6066"/>
                  </a:lnTo>
                  <a:lnTo>
                    <a:pt x="710" y="6066"/>
                  </a:lnTo>
                  <a:lnTo>
                    <a:pt x="757" y="6067"/>
                  </a:lnTo>
                  <a:lnTo>
                    <a:pt x="854" y="6069"/>
                  </a:lnTo>
                  <a:lnTo>
                    <a:pt x="955" y="6069"/>
                  </a:lnTo>
                  <a:lnTo>
                    <a:pt x="1061" y="6072"/>
                  </a:lnTo>
                  <a:lnTo>
                    <a:pt x="1171" y="6072"/>
                  </a:lnTo>
                  <a:lnTo>
                    <a:pt x="1288" y="6074"/>
                  </a:lnTo>
                  <a:lnTo>
                    <a:pt x="1388" y="6069"/>
                  </a:lnTo>
                  <a:lnTo>
                    <a:pt x="1438" y="6067"/>
                  </a:lnTo>
                  <a:lnTo>
                    <a:pt x="1488" y="6066"/>
                  </a:lnTo>
                  <a:lnTo>
                    <a:pt x="1536" y="6062"/>
                  </a:lnTo>
                  <a:lnTo>
                    <a:pt x="1585" y="6060"/>
                  </a:lnTo>
                  <a:lnTo>
                    <a:pt x="1682" y="6055"/>
                  </a:lnTo>
                  <a:lnTo>
                    <a:pt x="1776" y="6048"/>
                  </a:lnTo>
                  <a:lnTo>
                    <a:pt x="1870" y="6041"/>
                  </a:lnTo>
                  <a:lnTo>
                    <a:pt x="1961" y="6032"/>
                  </a:lnTo>
                  <a:lnTo>
                    <a:pt x="2052" y="6024"/>
                  </a:lnTo>
                  <a:lnTo>
                    <a:pt x="2095" y="6018"/>
                  </a:lnTo>
                  <a:lnTo>
                    <a:pt x="2140" y="6013"/>
                  </a:lnTo>
                  <a:lnTo>
                    <a:pt x="2226" y="6002"/>
                  </a:lnTo>
                  <a:lnTo>
                    <a:pt x="2311" y="5990"/>
                  </a:lnTo>
                  <a:lnTo>
                    <a:pt x="2395" y="5979"/>
                  </a:lnTo>
                  <a:lnTo>
                    <a:pt x="2477" y="5965"/>
                  </a:lnTo>
                  <a:lnTo>
                    <a:pt x="2516" y="5958"/>
                  </a:lnTo>
                  <a:lnTo>
                    <a:pt x="2557" y="5952"/>
                  </a:lnTo>
                  <a:lnTo>
                    <a:pt x="2636" y="5937"/>
                  </a:lnTo>
                  <a:lnTo>
                    <a:pt x="2714" y="5923"/>
                  </a:lnTo>
                  <a:lnTo>
                    <a:pt x="2738" y="5917"/>
                  </a:lnTo>
                  <a:lnTo>
                    <a:pt x="2765" y="5910"/>
                  </a:lnTo>
                  <a:lnTo>
                    <a:pt x="2777" y="5905"/>
                  </a:lnTo>
                  <a:lnTo>
                    <a:pt x="2783" y="5903"/>
                  </a:lnTo>
                  <a:lnTo>
                    <a:pt x="2790" y="5901"/>
                  </a:lnTo>
                  <a:lnTo>
                    <a:pt x="2816" y="5892"/>
                  </a:lnTo>
                  <a:lnTo>
                    <a:pt x="2840" y="5880"/>
                  </a:lnTo>
                  <a:lnTo>
                    <a:pt x="2866" y="5868"/>
                  </a:lnTo>
                  <a:lnTo>
                    <a:pt x="2890" y="5853"/>
                  </a:lnTo>
                  <a:lnTo>
                    <a:pt x="2915" y="5839"/>
                  </a:lnTo>
                  <a:lnTo>
                    <a:pt x="2941" y="5780"/>
                  </a:lnTo>
                  <a:lnTo>
                    <a:pt x="3006" y="4859"/>
                  </a:lnTo>
                  <a:lnTo>
                    <a:pt x="3054" y="3968"/>
                  </a:lnTo>
                  <a:lnTo>
                    <a:pt x="3073" y="3355"/>
                  </a:lnTo>
                  <a:lnTo>
                    <a:pt x="3080" y="2869"/>
                  </a:lnTo>
                  <a:lnTo>
                    <a:pt x="3079" y="2221"/>
                  </a:lnTo>
                  <a:lnTo>
                    <a:pt x="3072" y="1879"/>
                  </a:lnTo>
                  <a:lnTo>
                    <a:pt x="3037" y="923"/>
                  </a:lnTo>
                  <a:close/>
                </a:path>
              </a:pathLst>
            </a:custGeom>
            <a:solidFill>
              <a:srgbClr val="e3e3e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8"/>
            <p:cNvSpPr/>
            <p:nvPr/>
          </p:nvSpPr>
          <p:spPr>
            <a:xfrm rot="5400000">
              <a:off x="7166880" y="216720"/>
              <a:ext cx="546840" cy="3446640"/>
            </a:xfrm>
            <a:custGeom>
              <a:avLst/>
              <a:gdLst/>
              <a:ahLst/>
              <a:rect l="l" t="t" r="r" b="b"/>
              <a:pathLst>
                <a:path w="745" h="4241">
                  <a:moveTo>
                    <a:pt x="17" y="7"/>
                  </a:moveTo>
                  <a:lnTo>
                    <a:pt x="0" y="9"/>
                  </a:lnTo>
                  <a:lnTo>
                    <a:pt x="1" y="4237"/>
                  </a:lnTo>
                  <a:lnTo>
                    <a:pt x="313" y="4241"/>
                  </a:lnTo>
                  <a:lnTo>
                    <a:pt x="390" y="3902"/>
                  </a:lnTo>
                  <a:lnTo>
                    <a:pt x="461" y="3554"/>
                  </a:lnTo>
                  <a:lnTo>
                    <a:pt x="480" y="3435"/>
                  </a:lnTo>
                  <a:lnTo>
                    <a:pt x="500" y="3318"/>
                  </a:lnTo>
                  <a:lnTo>
                    <a:pt x="539" y="3083"/>
                  </a:lnTo>
                  <a:lnTo>
                    <a:pt x="574" y="2845"/>
                  </a:lnTo>
                  <a:lnTo>
                    <a:pt x="606" y="2610"/>
                  </a:lnTo>
                  <a:lnTo>
                    <a:pt x="634" y="2372"/>
                  </a:lnTo>
                  <a:lnTo>
                    <a:pt x="640" y="2312"/>
                  </a:lnTo>
                  <a:lnTo>
                    <a:pt x="647" y="2253"/>
                  </a:lnTo>
                  <a:lnTo>
                    <a:pt x="661" y="2136"/>
                  </a:lnTo>
                  <a:lnTo>
                    <a:pt x="684" y="1898"/>
                  </a:lnTo>
                  <a:lnTo>
                    <a:pt x="707" y="1661"/>
                  </a:lnTo>
                  <a:lnTo>
                    <a:pt x="712" y="1567"/>
                  </a:lnTo>
                  <a:lnTo>
                    <a:pt x="714" y="1519"/>
                  </a:lnTo>
                  <a:lnTo>
                    <a:pt x="715" y="1495"/>
                  </a:lnTo>
                  <a:lnTo>
                    <a:pt x="718" y="1472"/>
                  </a:lnTo>
                  <a:lnTo>
                    <a:pt x="722" y="1376"/>
                  </a:lnTo>
                  <a:lnTo>
                    <a:pt x="727" y="1279"/>
                  </a:lnTo>
                  <a:lnTo>
                    <a:pt x="734" y="1080"/>
                  </a:lnTo>
                  <a:lnTo>
                    <a:pt x="737" y="978"/>
                  </a:lnTo>
                  <a:lnTo>
                    <a:pt x="737" y="951"/>
                  </a:lnTo>
                  <a:lnTo>
                    <a:pt x="737" y="938"/>
                  </a:lnTo>
                  <a:lnTo>
                    <a:pt x="738" y="926"/>
                  </a:lnTo>
                  <a:lnTo>
                    <a:pt x="740" y="876"/>
                  </a:lnTo>
                  <a:lnTo>
                    <a:pt x="742" y="770"/>
                  </a:lnTo>
                  <a:lnTo>
                    <a:pt x="744" y="665"/>
                  </a:lnTo>
                  <a:lnTo>
                    <a:pt x="744" y="557"/>
                  </a:lnTo>
                  <a:lnTo>
                    <a:pt x="745" y="449"/>
                  </a:lnTo>
                  <a:lnTo>
                    <a:pt x="745" y="338"/>
                  </a:lnTo>
                  <a:lnTo>
                    <a:pt x="745" y="227"/>
                  </a:lnTo>
                  <a:lnTo>
                    <a:pt x="744" y="114"/>
                  </a:lnTo>
                  <a:lnTo>
                    <a:pt x="744" y="0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Freeform 119"/>
          <p:cNvSpPr/>
          <p:nvPr/>
        </p:nvSpPr>
        <p:spPr>
          <a:xfrm rot="5400000">
            <a:off x="6507360" y="524520"/>
            <a:ext cx="2546640" cy="4738680"/>
          </a:xfrm>
          <a:custGeom>
            <a:avLst/>
            <a:gdLst/>
            <a:ahLst/>
            <a:rect l="l" t="t" r="r" b="b"/>
            <a:pathLst>
              <a:path w="3465" h="5829">
                <a:moveTo>
                  <a:pt x="2437" y="300"/>
                </a:moveTo>
                <a:lnTo>
                  <a:pt x="2065" y="206"/>
                </a:lnTo>
                <a:lnTo>
                  <a:pt x="1675" y="127"/>
                </a:lnTo>
                <a:lnTo>
                  <a:pt x="1358" y="76"/>
                </a:lnTo>
                <a:lnTo>
                  <a:pt x="977" y="30"/>
                </a:lnTo>
                <a:lnTo>
                  <a:pt x="679" y="6"/>
                </a:lnTo>
                <a:lnTo>
                  <a:pt x="367" y="0"/>
                </a:lnTo>
                <a:lnTo>
                  <a:pt x="408" y="339"/>
                </a:lnTo>
                <a:lnTo>
                  <a:pt x="426" y="565"/>
                </a:lnTo>
                <a:lnTo>
                  <a:pt x="429" y="620"/>
                </a:lnTo>
                <a:lnTo>
                  <a:pt x="434" y="676"/>
                </a:lnTo>
                <a:lnTo>
                  <a:pt x="444" y="789"/>
                </a:lnTo>
                <a:lnTo>
                  <a:pt x="457" y="1012"/>
                </a:lnTo>
                <a:lnTo>
                  <a:pt x="463" y="1123"/>
                </a:lnTo>
                <a:lnTo>
                  <a:pt x="465" y="1178"/>
                </a:lnTo>
                <a:lnTo>
                  <a:pt x="465" y="1191"/>
                </a:lnTo>
                <a:lnTo>
                  <a:pt x="467" y="1206"/>
                </a:lnTo>
                <a:lnTo>
                  <a:pt x="469" y="1234"/>
                </a:lnTo>
                <a:lnTo>
                  <a:pt x="469" y="1261"/>
                </a:lnTo>
                <a:lnTo>
                  <a:pt x="469" y="1274"/>
                </a:lnTo>
                <a:lnTo>
                  <a:pt x="470" y="1288"/>
                </a:lnTo>
                <a:lnTo>
                  <a:pt x="473" y="1344"/>
                </a:lnTo>
                <a:lnTo>
                  <a:pt x="476" y="1454"/>
                </a:lnTo>
                <a:lnTo>
                  <a:pt x="479" y="1563"/>
                </a:lnTo>
                <a:lnTo>
                  <a:pt x="482" y="1674"/>
                </a:lnTo>
                <a:lnTo>
                  <a:pt x="482" y="1782"/>
                </a:lnTo>
                <a:lnTo>
                  <a:pt x="482" y="1836"/>
                </a:lnTo>
                <a:lnTo>
                  <a:pt x="483" y="1891"/>
                </a:lnTo>
                <a:lnTo>
                  <a:pt x="485" y="2107"/>
                </a:lnTo>
                <a:lnTo>
                  <a:pt x="475" y="2331"/>
                </a:lnTo>
                <a:lnTo>
                  <a:pt x="464" y="2557"/>
                </a:lnTo>
                <a:lnTo>
                  <a:pt x="451" y="2782"/>
                </a:lnTo>
                <a:lnTo>
                  <a:pt x="435" y="3008"/>
                </a:lnTo>
                <a:lnTo>
                  <a:pt x="415" y="3234"/>
                </a:lnTo>
                <a:lnTo>
                  <a:pt x="395" y="3460"/>
                </a:lnTo>
                <a:lnTo>
                  <a:pt x="371" y="3686"/>
                </a:lnTo>
                <a:lnTo>
                  <a:pt x="345" y="3914"/>
                </a:lnTo>
                <a:lnTo>
                  <a:pt x="311" y="4142"/>
                </a:lnTo>
                <a:lnTo>
                  <a:pt x="291" y="4256"/>
                </a:lnTo>
                <a:lnTo>
                  <a:pt x="273" y="4371"/>
                </a:lnTo>
                <a:lnTo>
                  <a:pt x="234" y="4599"/>
                </a:lnTo>
                <a:lnTo>
                  <a:pt x="192" y="4830"/>
                </a:lnTo>
                <a:lnTo>
                  <a:pt x="147" y="5058"/>
                </a:lnTo>
                <a:lnTo>
                  <a:pt x="101" y="5286"/>
                </a:lnTo>
                <a:lnTo>
                  <a:pt x="51" y="5514"/>
                </a:lnTo>
                <a:lnTo>
                  <a:pt x="0" y="5742"/>
                </a:lnTo>
                <a:lnTo>
                  <a:pt x="167" y="5762"/>
                </a:lnTo>
                <a:lnTo>
                  <a:pt x="336" y="5780"/>
                </a:lnTo>
                <a:lnTo>
                  <a:pt x="507" y="5794"/>
                </a:lnTo>
                <a:lnTo>
                  <a:pt x="684" y="5808"/>
                </a:lnTo>
                <a:lnTo>
                  <a:pt x="771" y="5811"/>
                </a:lnTo>
                <a:lnTo>
                  <a:pt x="861" y="5816"/>
                </a:lnTo>
                <a:lnTo>
                  <a:pt x="1043" y="5823"/>
                </a:lnTo>
                <a:lnTo>
                  <a:pt x="1226" y="5827"/>
                </a:lnTo>
                <a:lnTo>
                  <a:pt x="1319" y="5828"/>
                </a:lnTo>
                <a:lnTo>
                  <a:pt x="1413" y="5829"/>
                </a:lnTo>
                <a:lnTo>
                  <a:pt x="1523" y="5824"/>
                </a:lnTo>
                <a:lnTo>
                  <a:pt x="1575" y="5822"/>
                </a:lnTo>
                <a:lnTo>
                  <a:pt x="1602" y="5821"/>
                </a:lnTo>
                <a:lnTo>
                  <a:pt x="1629" y="5821"/>
                </a:lnTo>
                <a:lnTo>
                  <a:pt x="1734" y="5816"/>
                </a:lnTo>
                <a:lnTo>
                  <a:pt x="1784" y="5814"/>
                </a:lnTo>
                <a:lnTo>
                  <a:pt x="1796" y="5812"/>
                </a:lnTo>
                <a:lnTo>
                  <a:pt x="1809" y="5812"/>
                </a:lnTo>
                <a:lnTo>
                  <a:pt x="1836" y="5812"/>
                </a:lnTo>
                <a:lnTo>
                  <a:pt x="1860" y="5810"/>
                </a:lnTo>
                <a:lnTo>
                  <a:pt x="1872" y="5809"/>
                </a:lnTo>
                <a:lnTo>
                  <a:pt x="1885" y="5809"/>
                </a:lnTo>
                <a:lnTo>
                  <a:pt x="1934" y="5806"/>
                </a:lnTo>
                <a:lnTo>
                  <a:pt x="2031" y="5802"/>
                </a:lnTo>
                <a:lnTo>
                  <a:pt x="2125" y="5794"/>
                </a:lnTo>
                <a:lnTo>
                  <a:pt x="2171" y="5791"/>
                </a:lnTo>
                <a:lnTo>
                  <a:pt x="2217" y="5788"/>
                </a:lnTo>
                <a:lnTo>
                  <a:pt x="2261" y="5784"/>
                </a:lnTo>
                <a:lnTo>
                  <a:pt x="2282" y="5781"/>
                </a:lnTo>
                <a:lnTo>
                  <a:pt x="2293" y="5780"/>
                </a:lnTo>
                <a:lnTo>
                  <a:pt x="2305" y="5780"/>
                </a:lnTo>
                <a:lnTo>
                  <a:pt x="2391" y="5773"/>
                </a:lnTo>
                <a:lnTo>
                  <a:pt x="2474" y="5763"/>
                </a:lnTo>
                <a:lnTo>
                  <a:pt x="2557" y="5756"/>
                </a:lnTo>
                <a:lnTo>
                  <a:pt x="2635" y="5746"/>
                </a:lnTo>
                <a:lnTo>
                  <a:pt x="2711" y="5737"/>
                </a:lnTo>
                <a:lnTo>
                  <a:pt x="2747" y="5731"/>
                </a:lnTo>
                <a:lnTo>
                  <a:pt x="2784" y="5726"/>
                </a:lnTo>
                <a:lnTo>
                  <a:pt x="2856" y="5716"/>
                </a:lnTo>
                <a:lnTo>
                  <a:pt x="2906" y="5704"/>
                </a:lnTo>
                <a:lnTo>
                  <a:pt x="2955" y="5695"/>
                </a:lnTo>
                <a:lnTo>
                  <a:pt x="3000" y="5684"/>
                </a:lnTo>
                <a:lnTo>
                  <a:pt x="3043" y="5674"/>
                </a:lnTo>
                <a:lnTo>
                  <a:pt x="3081" y="5664"/>
                </a:lnTo>
                <a:lnTo>
                  <a:pt x="3119" y="5654"/>
                </a:lnTo>
                <a:lnTo>
                  <a:pt x="3151" y="5644"/>
                </a:lnTo>
                <a:lnTo>
                  <a:pt x="3182" y="5635"/>
                </a:lnTo>
                <a:lnTo>
                  <a:pt x="3207" y="5625"/>
                </a:lnTo>
                <a:lnTo>
                  <a:pt x="3231" y="5616"/>
                </a:lnTo>
                <a:lnTo>
                  <a:pt x="3252" y="5606"/>
                </a:lnTo>
                <a:lnTo>
                  <a:pt x="3271" y="5598"/>
                </a:lnTo>
                <a:lnTo>
                  <a:pt x="3284" y="5588"/>
                </a:lnTo>
                <a:lnTo>
                  <a:pt x="3296" y="5580"/>
                </a:lnTo>
                <a:lnTo>
                  <a:pt x="3305" y="5570"/>
                </a:lnTo>
                <a:lnTo>
                  <a:pt x="3312" y="5563"/>
                </a:lnTo>
                <a:lnTo>
                  <a:pt x="3313" y="5557"/>
                </a:lnTo>
                <a:lnTo>
                  <a:pt x="3313" y="5554"/>
                </a:lnTo>
                <a:lnTo>
                  <a:pt x="3330" y="5397"/>
                </a:lnTo>
                <a:lnTo>
                  <a:pt x="3330" y="5395"/>
                </a:lnTo>
                <a:lnTo>
                  <a:pt x="3331" y="5382"/>
                </a:lnTo>
                <a:lnTo>
                  <a:pt x="3331" y="5378"/>
                </a:lnTo>
                <a:lnTo>
                  <a:pt x="3332" y="5366"/>
                </a:lnTo>
                <a:lnTo>
                  <a:pt x="3332" y="5360"/>
                </a:lnTo>
                <a:lnTo>
                  <a:pt x="3333" y="5352"/>
                </a:lnTo>
                <a:lnTo>
                  <a:pt x="3333" y="5342"/>
                </a:lnTo>
                <a:lnTo>
                  <a:pt x="3336" y="5337"/>
                </a:lnTo>
                <a:lnTo>
                  <a:pt x="3336" y="5325"/>
                </a:lnTo>
                <a:lnTo>
                  <a:pt x="3377" y="4896"/>
                </a:lnTo>
                <a:lnTo>
                  <a:pt x="3404" y="4538"/>
                </a:lnTo>
                <a:lnTo>
                  <a:pt x="3446" y="3799"/>
                </a:lnTo>
                <a:lnTo>
                  <a:pt x="3463" y="3192"/>
                </a:lnTo>
                <a:lnTo>
                  <a:pt x="3465" y="2665"/>
                </a:lnTo>
                <a:lnTo>
                  <a:pt x="3455" y="2043"/>
                </a:lnTo>
                <a:lnTo>
                  <a:pt x="3443" y="1702"/>
                </a:lnTo>
                <a:lnTo>
                  <a:pt x="3410" y="1111"/>
                </a:lnTo>
                <a:lnTo>
                  <a:pt x="3389" y="811"/>
                </a:lnTo>
                <a:lnTo>
                  <a:pt x="3337" y="717"/>
                </a:lnTo>
                <a:lnTo>
                  <a:pt x="3205" y="612"/>
                </a:lnTo>
                <a:lnTo>
                  <a:pt x="3019" y="508"/>
                </a:lnTo>
                <a:lnTo>
                  <a:pt x="2753" y="400"/>
                </a:lnTo>
                <a:lnTo>
                  <a:pt x="2437" y="300"/>
                </a:lnTo>
                <a:close/>
              </a:path>
            </a:pathLst>
          </a:custGeom>
          <a:solidFill>
            <a:srgbClr val="e8e8e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0"/>
          <p:cNvSpPr/>
          <p:nvPr/>
        </p:nvSpPr>
        <p:spPr>
          <a:xfrm rot="5400000">
            <a:off x="6641280" y="543240"/>
            <a:ext cx="2354400" cy="4492800"/>
          </a:xfrm>
          <a:custGeom>
            <a:avLst/>
            <a:gdLst/>
            <a:ahLst/>
            <a:rect l="l" t="t" r="r" b="b"/>
            <a:pathLst>
              <a:path w="3202" h="5524">
                <a:moveTo>
                  <a:pt x="63" y="9"/>
                </a:moveTo>
                <a:lnTo>
                  <a:pt x="2" y="16"/>
                </a:lnTo>
                <a:lnTo>
                  <a:pt x="0" y="5472"/>
                </a:lnTo>
                <a:lnTo>
                  <a:pt x="267" y="5502"/>
                </a:lnTo>
                <a:lnTo>
                  <a:pt x="590" y="5520"/>
                </a:lnTo>
                <a:lnTo>
                  <a:pt x="1013" y="5524"/>
                </a:lnTo>
                <a:lnTo>
                  <a:pt x="1350" y="5517"/>
                </a:lnTo>
                <a:lnTo>
                  <a:pt x="1719" y="5500"/>
                </a:lnTo>
                <a:lnTo>
                  <a:pt x="2116" y="5468"/>
                </a:lnTo>
                <a:lnTo>
                  <a:pt x="2420" y="5433"/>
                </a:lnTo>
                <a:lnTo>
                  <a:pt x="2686" y="5390"/>
                </a:lnTo>
                <a:lnTo>
                  <a:pt x="2876" y="5347"/>
                </a:lnTo>
                <a:lnTo>
                  <a:pt x="3000" y="5304"/>
                </a:lnTo>
                <a:lnTo>
                  <a:pt x="3056" y="5264"/>
                </a:lnTo>
                <a:lnTo>
                  <a:pt x="3123" y="4594"/>
                </a:lnTo>
                <a:lnTo>
                  <a:pt x="3165" y="4000"/>
                </a:lnTo>
                <a:lnTo>
                  <a:pt x="3194" y="3327"/>
                </a:lnTo>
                <a:lnTo>
                  <a:pt x="3202" y="2882"/>
                </a:lnTo>
                <a:lnTo>
                  <a:pt x="3197" y="2224"/>
                </a:lnTo>
                <a:lnTo>
                  <a:pt x="3178" y="1659"/>
                </a:lnTo>
                <a:lnTo>
                  <a:pt x="3146" y="1123"/>
                </a:lnTo>
                <a:lnTo>
                  <a:pt x="3104" y="624"/>
                </a:lnTo>
                <a:lnTo>
                  <a:pt x="3098" y="607"/>
                </a:lnTo>
                <a:lnTo>
                  <a:pt x="3092" y="592"/>
                </a:lnTo>
                <a:lnTo>
                  <a:pt x="3082" y="576"/>
                </a:lnTo>
                <a:lnTo>
                  <a:pt x="3071" y="561"/>
                </a:lnTo>
                <a:lnTo>
                  <a:pt x="3057" y="544"/>
                </a:lnTo>
                <a:lnTo>
                  <a:pt x="3041" y="530"/>
                </a:lnTo>
                <a:lnTo>
                  <a:pt x="3023" y="516"/>
                </a:lnTo>
                <a:lnTo>
                  <a:pt x="3004" y="501"/>
                </a:lnTo>
                <a:lnTo>
                  <a:pt x="2981" y="484"/>
                </a:lnTo>
                <a:lnTo>
                  <a:pt x="2957" y="470"/>
                </a:lnTo>
                <a:lnTo>
                  <a:pt x="2930" y="456"/>
                </a:lnTo>
                <a:lnTo>
                  <a:pt x="2902" y="441"/>
                </a:lnTo>
                <a:lnTo>
                  <a:pt x="2870" y="424"/>
                </a:lnTo>
                <a:lnTo>
                  <a:pt x="2837" y="410"/>
                </a:lnTo>
                <a:lnTo>
                  <a:pt x="2802" y="396"/>
                </a:lnTo>
                <a:lnTo>
                  <a:pt x="2765" y="381"/>
                </a:lnTo>
                <a:lnTo>
                  <a:pt x="2724" y="364"/>
                </a:lnTo>
                <a:lnTo>
                  <a:pt x="2682" y="350"/>
                </a:lnTo>
                <a:lnTo>
                  <a:pt x="2638" y="336"/>
                </a:lnTo>
                <a:lnTo>
                  <a:pt x="2592" y="321"/>
                </a:lnTo>
                <a:lnTo>
                  <a:pt x="2543" y="304"/>
                </a:lnTo>
                <a:lnTo>
                  <a:pt x="2493" y="290"/>
                </a:lnTo>
                <a:lnTo>
                  <a:pt x="2439" y="276"/>
                </a:lnTo>
                <a:lnTo>
                  <a:pt x="2385" y="261"/>
                </a:lnTo>
                <a:lnTo>
                  <a:pt x="2326" y="244"/>
                </a:lnTo>
                <a:lnTo>
                  <a:pt x="2267" y="230"/>
                </a:lnTo>
                <a:lnTo>
                  <a:pt x="2205" y="216"/>
                </a:lnTo>
                <a:lnTo>
                  <a:pt x="2141" y="201"/>
                </a:lnTo>
                <a:lnTo>
                  <a:pt x="2075" y="184"/>
                </a:lnTo>
                <a:lnTo>
                  <a:pt x="2007" y="170"/>
                </a:lnTo>
                <a:lnTo>
                  <a:pt x="1936" y="156"/>
                </a:lnTo>
                <a:lnTo>
                  <a:pt x="1864" y="141"/>
                </a:lnTo>
                <a:lnTo>
                  <a:pt x="1751" y="123"/>
                </a:lnTo>
                <a:lnTo>
                  <a:pt x="1642" y="108"/>
                </a:lnTo>
                <a:lnTo>
                  <a:pt x="1533" y="92"/>
                </a:lnTo>
                <a:lnTo>
                  <a:pt x="1426" y="79"/>
                </a:lnTo>
                <a:lnTo>
                  <a:pt x="1216" y="54"/>
                </a:lnTo>
                <a:lnTo>
                  <a:pt x="1113" y="43"/>
                </a:lnTo>
                <a:lnTo>
                  <a:pt x="1012" y="34"/>
                </a:lnTo>
                <a:lnTo>
                  <a:pt x="911" y="25"/>
                </a:lnTo>
                <a:lnTo>
                  <a:pt x="813" y="18"/>
                </a:lnTo>
                <a:lnTo>
                  <a:pt x="714" y="12"/>
                </a:lnTo>
                <a:lnTo>
                  <a:pt x="620" y="8"/>
                </a:lnTo>
                <a:lnTo>
                  <a:pt x="524" y="3"/>
                </a:lnTo>
                <a:lnTo>
                  <a:pt x="431" y="1"/>
                </a:lnTo>
                <a:lnTo>
                  <a:pt x="249" y="0"/>
                </a:lnTo>
                <a:lnTo>
                  <a:pt x="63" y="9"/>
                </a:lnTo>
                <a:close/>
              </a:path>
            </a:pathLst>
          </a:custGeom>
          <a:solidFill>
            <a:srgbClr val="e3e3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21"/>
          <p:cNvSpPr/>
          <p:nvPr/>
        </p:nvSpPr>
        <p:spPr>
          <a:xfrm>
            <a:off x="5440320" y="1547640"/>
            <a:ext cx="3600360" cy="5040360"/>
          </a:xfrm>
          <a:custGeom>
            <a:avLst/>
            <a:gdLst/>
            <a:ahLst/>
            <a:rect l="l" t="t" r="r" b="b"/>
            <a:pathLst>
              <a:path w="2268" h="3175">
                <a:moveTo>
                  <a:pt x="1134" y="3175"/>
                </a:moveTo>
                <a:lnTo>
                  <a:pt x="0" y="2041"/>
                </a:lnTo>
                <a:lnTo>
                  <a:pt x="0" y="0"/>
                </a:lnTo>
                <a:lnTo>
                  <a:pt x="2268" y="0"/>
                </a:lnTo>
                <a:lnTo>
                  <a:pt x="2264" y="2042"/>
                </a:lnTo>
                <a:lnTo>
                  <a:pt x="1134" y="3175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2"/>
          <p:cNvGrpSpPr/>
          <p:nvPr/>
        </p:nvGrpSpPr>
        <p:grpSpPr>
          <a:xfrm>
            <a:off x="5065920" y="4402080"/>
            <a:ext cx="2545920" cy="2545920"/>
            <a:chOff x="5065920" y="4402080"/>
            <a:chExt cx="2545920" cy="2545920"/>
          </a:xfrm>
        </p:grpSpPr>
        <p:sp>
          <p:nvSpPr>
            <p:cNvPr id="83" name="AutoShape 123"/>
            <p:cNvSpPr/>
            <p:nvPr/>
          </p:nvSpPr>
          <p:spPr>
            <a:xfrm rot="2700000">
              <a:off x="5438520" y="4774680"/>
              <a:ext cx="1800360" cy="1800000"/>
            </a:xfrm>
            <a:prstGeom prst="rtTriangl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24"/>
            <p:cNvSpPr/>
            <p:nvPr/>
          </p:nvSpPr>
          <p:spPr>
            <a:xfrm flipH="1" flipV="1" rot="2700000">
              <a:off x="5438520" y="4774680"/>
              <a:ext cx="1800360" cy="180000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25"/>
          <p:cNvGrpSpPr/>
          <p:nvPr/>
        </p:nvGrpSpPr>
        <p:grpSpPr>
          <a:xfrm>
            <a:off x="6865920" y="4403880"/>
            <a:ext cx="2545920" cy="2545920"/>
            <a:chOff x="6865920" y="4403880"/>
            <a:chExt cx="2545920" cy="2545920"/>
          </a:xfrm>
        </p:grpSpPr>
        <p:sp>
          <p:nvSpPr>
            <p:cNvPr id="86" name="AutoShape 126"/>
            <p:cNvSpPr/>
            <p:nvPr/>
          </p:nvSpPr>
          <p:spPr>
            <a:xfrm rot="2700000">
              <a:off x="7238880" y="4776480"/>
              <a:ext cx="1800000" cy="180000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27"/>
            <p:cNvSpPr/>
            <p:nvPr/>
          </p:nvSpPr>
          <p:spPr>
            <a:xfrm flipH="1" flipV="1" rot="2700000">
              <a:off x="7238880" y="4776480"/>
              <a:ext cx="1800000" cy="1800000"/>
            </a:xfrm>
            <a:prstGeom prst="rtTriangl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3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9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2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1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40"/>
                            </p:stCondLst>
                            <p:childTnLst>
                              <p:par>
                                <p:cTn id="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7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3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60"/>
                            </p:stCondLst>
                            <p:childTnLst>
                              <p:par>
                                <p:cTn id="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9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1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7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3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13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84" dur="1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86" dur="1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29"/>
                            </p:stCondLst>
                            <p:childTnLst>
                              <p:par>
                                <p:cTn id="88" nodeType="afterEffect" fill="hold" presetClass="exit" presetID="19" presetSubtype="10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230"/>
                            </p:stCondLst>
                            <p:childTnLst>
                              <p:par>
                                <p:cTn id="93" nodeType="afterEffect" fill="hold" presetClass="exit" presetID="19" presetSubtype="10" repeatCount="40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5442120" y="1550880"/>
            <a:ext cx="3600360" cy="3022560"/>
          </a:xfrm>
          <a:custGeom>
            <a:avLst/>
            <a:gdLst/>
            <a:ahLst/>
            <a:rect l="l" t="t" r="r" b="b"/>
            <a:pathLst>
              <a:path w="2268" h="1909">
                <a:moveTo>
                  <a:pt x="1" y="1909"/>
                </a:moveTo>
                <a:lnTo>
                  <a:pt x="0" y="0"/>
                </a:lnTo>
                <a:lnTo>
                  <a:pt x="2268" y="0"/>
                </a:lnTo>
                <a:lnTo>
                  <a:pt x="2261" y="1909"/>
                </a:lnTo>
                <a:lnTo>
                  <a:pt x="1" y="1909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"/>
          <p:cNvGrpSpPr/>
          <p:nvPr/>
        </p:nvGrpSpPr>
        <p:grpSpPr>
          <a:xfrm>
            <a:off x="5443560" y="2562120"/>
            <a:ext cx="3606840" cy="4019400"/>
            <a:chOff x="5443560" y="2562120"/>
            <a:chExt cx="3606840" cy="4019400"/>
          </a:xfrm>
        </p:grpSpPr>
        <p:grpSp>
          <p:nvGrpSpPr>
            <p:cNvPr id="90" name="Group 4"/>
            <p:cNvGrpSpPr/>
            <p:nvPr/>
          </p:nvGrpSpPr>
          <p:grpSpPr>
            <a:xfrm>
              <a:off x="5443560" y="4571640"/>
              <a:ext cx="3593880" cy="2009880"/>
              <a:chOff x="5443560" y="4571640"/>
              <a:chExt cx="3593880" cy="2009880"/>
            </a:xfrm>
          </p:grpSpPr>
          <p:sp>
            <p:nvSpPr>
              <p:cNvPr id="91" name="Freeform 5"/>
              <p:cNvSpPr/>
              <p:nvPr/>
            </p:nvSpPr>
            <p:spPr>
              <a:xfrm>
                <a:off x="5443560" y="4571640"/>
                <a:ext cx="3593880" cy="2009880"/>
              </a:xfrm>
              <a:custGeom>
                <a:avLst/>
                <a:gdLst/>
                <a:ahLst/>
                <a:rect l="l" t="t" r="r" b="b"/>
                <a:pathLst>
                  <a:path w="2264" h="1266">
                    <a:moveTo>
                      <a:pt x="1134" y="1266"/>
                    </a:moveTo>
                    <a:lnTo>
                      <a:pt x="0" y="132"/>
                    </a:lnTo>
                    <a:lnTo>
                      <a:pt x="1" y="0"/>
                    </a:lnTo>
                    <a:lnTo>
                      <a:pt x="2261" y="0"/>
                    </a:lnTo>
                    <a:lnTo>
                      <a:pt x="2264" y="133"/>
                    </a:lnTo>
                    <a:lnTo>
                      <a:pt x="1134" y="126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6"/>
              <p:cNvGrpSpPr/>
              <p:nvPr/>
            </p:nvGrpSpPr>
            <p:grpSpPr>
              <a:xfrm>
                <a:off x="5452200" y="4768560"/>
                <a:ext cx="3580560" cy="1800360"/>
                <a:chOff x="5452200" y="4768560"/>
                <a:chExt cx="3580560" cy="1800360"/>
              </a:xfrm>
            </p:grpSpPr>
            <p:sp>
              <p:nvSpPr>
                <p:cNvPr id="93" name="AutoShape 7"/>
                <p:cNvSpPr/>
                <p:nvPr/>
              </p:nvSpPr>
              <p:spPr>
                <a:xfrm rot="5400000">
                  <a:off x="7232400" y="4768560"/>
                  <a:ext cx="1800360" cy="180000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AutoShape 8"/>
                <p:cNvSpPr/>
                <p:nvPr/>
              </p:nvSpPr>
              <p:spPr>
                <a:xfrm flipH="1" rot="16200000">
                  <a:off x="5451840" y="4768560"/>
                  <a:ext cx="1800360" cy="180036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" name="Freeform 9"/>
            <p:cNvSpPr/>
            <p:nvPr/>
          </p:nvSpPr>
          <p:spPr>
            <a:xfrm>
              <a:off x="5456160" y="2562120"/>
              <a:ext cx="3594240" cy="2009520"/>
            </a:xfrm>
            <a:custGeom>
              <a:avLst/>
              <a:gdLst/>
              <a:ahLst/>
              <a:rect l="l" t="t" r="r" b="b"/>
              <a:pathLst>
                <a:path w="2264" h="1266">
                  <a:moveTo>
                    <a:pt x="1134" y="1266"/>
                  </a:moveTo>
                  <a:lnTo>
                    <a:pt x="0" y="132"/>
                  </a:lnTo>
                  <a:lnTo>
                    <a:pt x="1" y="0"/>
                  </a:lnTo>
                  <a:lnTo>
                    <a:pt x="2261" y="0"/>
                  </a:lnTo>
                  <a:lnTo>
                    <a:pt x="2264" y="133"/>
                  </a:lnTo>
                  <a:lnTo>
                    <a:pt x="1134" y="126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5435640" y="2573280"/>
            <a:ext cx="3606840" cy="4019400"/>
            <a:chOff x="5435640" y="2573280"/>
            <a:chExt cx="3606840" cy="4019400"/>
          </a:xfrm>
        </p:grpSpPr>
        <p:grpSp>
          <p:nvGrpSpPr>
            <p:cNvPr id="97" name="Group 11"/>
            <p:cNvGrpSpPr/>
            <p:nvPr/>
          </p:nvGrpSpPr>
          <p:grpSpPr>
            <a:xfrm>
              <a:off x="5435640" y="4582800"/>
              <a:ext cx="3593880" cy="2009880"/>
              <a:chOff x="5435640" y="4582800"/>
              <a:chExt cx="3593880" cy="2009880"/>
            </a:xfrm>
          </p:grpSpPr>
          <p:sp>
            <p:nvSpPr>
              <p:cNvPr id="98" name="Freeform 12"/>
              <p:cNvSpPr/>
              <p:nvPr/>
            </p:nvSpPr>
            <p:spPr>
              <a:xfrm>
                <a:off x="5435640" y="4582800"/>
                <a:ext cx="3593880" cy="2009880"/>
              </a:xfrm>
              <a:custGeom>
                <a:avLst/>
                <a:gdLst/>
                <a:ahLst/>
                <a:rect l="l" t="t" r="r" b="b"/>
                <a:pathLst>
                  <a:path w="2264" h="1266">
                    <a:moveTo>
                      <a:pt x="1134" y="1266"/>
                    </a:moveTo>
                    <a:lnTo>
                      <a:pt x="0" y="132"/>
                    </a:lnTo>
                    <a:lnTo>
                      <a:pt x="1" y="0"/>
                    </a:lnTo>
                    <a:lnTo>
                      <a:pt x="2261" y="0"/>
                    </a:lnTo>
                    <a:lnTo>
                      <a:pt x="2264" y="133"/>
                    </a:lnTo>
                    <a:lnTo>
                      <a:pt x="1134" y="126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Group 13"/>
              <p:cNvGrpSpPr/>
              <p:nvPr/>
            </p:nvGrpSpPr>
            <p:grpSpPr>
              <a:xfrm>
                <a:off x="5444280" y="4779720"/>
                <a:ext cx="3580560" cy="1800360"/>
                <a:chOff x="5444280" y="4779720"/>
                <a:chExt cx="3580560" cy="1800360"/>
              </a:xfrm>
            </p:grpSpPr>
            <p:sp>
              <p:nvSpPr>
                <p:cNvPr id="100" name="AutoShape 14"/>
                <p:cNvSpPr/>
                <p:nvPr/>
              </p:nvSpPr>
              <p:spPr>
                <a:xfrm rot="5400000">
                  <a:off x="7224480" y="4779720"/>
                  <a:ext cx="1800360" cy="1800000"/>
                </a:xfrm>
                <a:prstGeom prst="rtTriangle">
                  <a:avLst/>
                </a:pr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15"/>
                <p:cNvSpPr/>
                <p:nvPr/>
              </p:nvSpPr>
              <p:spPr>
                <a:xfrm flipH="1" rot="16200000">
                  <a:off x="5443920" y="4779720"/>
                  <a:ext cx="1800360" cy="1800360"/>
                </a:xfrm>
                <a:prstGeom prst="rtTriangle">
                  <a:avLst/>
                </a:pr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Freeform 16"/>
            <p:cNvSpPr/>
            <p:nvPr/>
          </p:nvSpPr>
          <p:spPr>
            <a:xfrm>
              <a:off x="5448240" y="2573280"/>
              <a:ext cx="3594240" cy="2009520"/>
            </a:xfrm>
            <a:custGeom>
              <a:avLst/>
              <a:gdLst/>
              <a:ahLst/>
              <a:rect l="l" t="t" r="r" b="b"/>
              <a:pathLst>
                <a:path w="2264" h="1266">
                  <a:moveTo>
                    <a:pt x="1134" y="1266"/>
                  </a:moveTo>
                  <a:lnTo>
                    <a:pt x="0" y="132"/>
                  </a:lnTo>
                  <a:lnTo>
                    <a:pt x="1" y="0"/>
                  </a:lnTo>
                  <a:lnTo>
                    <a:pt x="2261" y="0"/>
                  </a:lnTo>
                  <a:lnTo>
                    <a:pt x="2264" y="133"/>
                  </a:lnTo>
                  <a:lnTo>
                    <a:pt x="1134" y="126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5451480" y="1547640"/>
            <a:ext cx="3598920" cy="3022560"/>
            <a:chOff x="5451480" y="1547640"/>
            <a:chExt cx="3598920" cy="3022560"/>
          </a:xfrm>
        </p:grpSpPr>
        <p:sp>
          <p:nvSpPr>
            <p:cNvPr id="104" name="Freeform 18"/>
            <p:cNvSpPr/>
            <p:nvPr/>
          </p:nvSpPr>
          <p:spPr>
            <a:xfrm>
              <a:off x="5451480" y="1547640"/>
              <a:ext cx="3598920" cy="3013560"/>
            </a:xfrm>
            <a:custGeom>
              <a:avLst/>
              <a:gdLst/>
              <a:ahLst/>
              <a:rect l="l" t="t" r="r" b="b"/>
              <a:pathLst>
                <a:path w="2267" h="1919">
                  <a:moveTo>
                    <a:pt x="1" y="791"/>
                  </a:moveTo>
                  <a:lnTo>
                    <a:pt x="0" y="0"/>
                  </a:lnTo>
                  <a:lnTo>
                    <a:pt x="2267" y="2"/>
                  </a:lnTo>
                  <a:lnTo>
                    <a:pt x="2260" y="791"/>
                  </a:lnTo>
                  <a:lnTo>
                    <a:pt x="1128" y="1919"/>
                  </a:lnTo>
                  <a:lnTo>
                    <a:pt x="1" y="79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6245280" y="2561760"/>
              <a:ext cx="2009880" cy="2008440"/>
            </a:xfrm>
            <a:custGeom>
              <a:avLst/>
              <a:gdLst/>
              <a:ahLst/>
              <a:rect l="l" t="t" r="r" b="b"/>
              <a:pathLst>
                <a:path w="1266" h="1269">
                  <a:moveTo>
                    <a:pt x="632" y="0"/>
                  </a:moveTo>
                  <a:lnTo>
                    <a:pt x="0" y="638"/>
                  </a:lnTo>
                  <a:lnTo>
                    <a:pt x="636" y="1269"/>
                  </a:lnTo>
                  <a:lnTo>
                    <a:pt x="1266" y="639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20"/>
          <p:cNvSpPr/>
          <p:nvPr/>
        </p:nvSpPr>
        <p:spPr>
          <a:xfrm rot="13500000">
            <a:off x="5458680" y="2796120"/>
            <a:ext cx="1784160" cy="17859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1"/>
          <p:cNvGrpSpPr/>
          <p:nvPr/>
        </p:nvGrpSpPr>
        <p:grpSpPr>
          <a:xfrm>
            <a:off x="6864840" y="2398680"/>
            <a:ext cx="2554920" cy="2550600"/>
            <a:chOff x="6864840" y="2398680"/>
            <a:chExt cx="2554920" cy="2550600"/>
          </a:xfrm>
        </p:grpSpPr>
        <p:grpSp>
          <p:nvGrpSpPr>
            <p:cNvPr id="108" name="Group 22"/>
            <p:cNvGrpSpPr/>
            <p:nvPr/>
          </p:nvGrpSpPr>
          <p:grpSpPr>
            <a:xfrm>
              <a:off x="8142120" y="2398680"/>
              <a:ext cx="1277640" cy="2550600"/>
              <a:chOff x="8142120" y="2398680"/>
              <a:chExt cx="1277640" cy="2550600"/>
            </a:xfrm>
          </p:grpSpPr>
          <p:sp>
            <p:nvSpPr>
              <p:cNvPr id="109" name="Freeform 23"/>
              <p:cNvSpPr/>
              <p:nvPr/>
            </p:nvSpPr>
            <p:spPr>
              <a:xfrm flipH="1">
                <a:off x="8141760" y="2398680"/>
                <a:ext cx="1277640" cy="2542320"/>
              </a:xfrm>
              <a:custGeom>
                <a:avLst/>
                <a:gdLst/>
                <a:ahLst/>
                <a:rect l="l" t="t" r="r" b="b"/>
                <a:pathLst>
                  <a:path w="805" h="1601">
                    <a:moveTo>
                      <a:pt x="0" y="814"/>
                    </a:moveTo>
                    <a:lnTo>
                      <a:pt x="804" y="0"/>
                    </a:lnTo>
                    <a:lnTo>
                      <a:pt x="805" y="1601"/>
                    </a:lnTo>
                    <a:lnTo>
                      <a:pt x="0" y="81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flipH="1">
                <a:off x="8143920" y="3537000"/>
                <a:ext cx="1274400" cy="1412280"/>
              </a:xfrm>
              <a:custGeom>
                <a:avLst/>
                <a:gdLst/>
                <a:ahLst/>
                <a:rect l="l" t="t" r="r" b="b"/>
                <a:pathLst>
                  <a:path w="803" h="889">
                    <a:moveTo>
                      <a:pt x="803" y="0"/>
                    </a:moveTo>
                    <a:lnTo>
                      <a:pt x="92" y="4"/>
                    </a:lnTo>
                    <a:lnTo>
                      <a:pt x="0" y="98"/>
                    </a:lnTo>
                    <a:lnTo>
                      <a:pt x="801" y="889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25"/>
            <p:cNvSpPr/>
            <p:nvPr/>
          </p:nvSpPr>
          <p:spPr>
            <a:xfrm flipH="1" rot="10800000">
              <a:off x="6864480" y="2398680"/>
              <a:ext cx="1277640" cy="2543040"/>
            </a:xfrm>
            <a:custGeom>
              <a:avLst/>
              <a:gdLst/>
              <a:ahLst/>
              <a:rect l="l" t="t" r="r" b="b"/>
              <a:pathLst>
                <a:path w="805" h="1601">
                  <a:moveTo>
                    <a:pt x="0" y="814"/>
                  </a:moveTo>
                  <a:lnTo>
                    <a:pt x="804" y="0"/>
                  </a:lnTo>
                  <a:lnTo>
                    <a:pt x="805" y="1601"/>
                  </a:lnTo>
                  <a:lnTo>
                    <a:pt x="0" y="81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6"/>
          <p:cNvGrpSpPr/>
          <p:nvPr/>
        </p:nvGrpSpPr>
        <p:grpSpPr>
          <a:xfrm>
            <a:off x="5079960" y="2398680"/>
            <a:ext cx="2556000" cy="2550600"/>
            <a:chOff x="5079960" y="2398680"/>
            <a:chExt cx="2556000" cy="2550600"/>
          </a:xfrm>
        </p:grpSpPr>
        <p:grpSp>
          <p:nvGrpSpPr>
            <p:cNvPr id="113" name="Group 27"/>
            <p:cNvGrpSpPr/>
            <p:nvPr/>
          </p:nvGrpSpPr>
          <p:grpSpPr>
            <a:xfrm>
              <a:off x="5079960" y="2398680"/>
              <a:ext cx="1278000" cy="2550600"/>
              <a:chOff x="5079960" y="2398680"/>
              <a:chExt cx="1278000" cy="2550600"/>
            </a:xfrm>
          </p:grpSpPr>
          <p:sp>
            <p:nvSpPr>
              <p:cNvPr id="114" name="Freeform 28"/>
              <p:cNvSpPr/>
              <p:nvPr/>
            </p:nvSpPr>
            <p:spPr>
              <a:xfrm>
                <a:off x="5079960" y="2398680"/>
                <a:ext cx="1278000" cy="2542320"/>
              </a:xfrm>
              <a:custGeom>
                <a:avLst/>
                <a:gdLst/>
                <a:ahLst/>
                <a:rect l="l" t="t" r="r" b="b"/>
                <a:pathLst>
                  <a:path w="805" h="1601">
                    <a:moveTo>
                      <a:pt x="0" y="814"/>
                    </a:moveTo>
                    <a:lnTo>
                      <a:pt x="804" y="0"/>
                    </a:lnTo>
                    <a:lnTo>
                      <a:pt x="805" y="1601"/>
                    </a:lnTo>
                    <a:lnTo>
                      <a:pt x="0" y="814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9"/>
              <p:cNvSpPr/>
              <p:nvPr/>
            </p:nvSpPr>
            <p:spPr>
              <a:xfrm>
                <a:off x="5081760" y="3537000"/>
                <a:ext cx="1274760" cy="1412280"/>
              </a:xfrm>
              <a:custGeom>
                <a:avLst/>
                <a:gdLst/>
                <a:ahLst/>
                <a:rect l="l" t="t" r="r" b="b"/>
                <a:pathLst>
                  <a:path w="803" h="889">
                    <a:moveTo>
                      <a:pt x="803" y="0"/>
                    </a:moveTo>
                    <a:lnTo>
                      <a:pt x="92" y="4"/>
                    </a:lnTo>
                    <a:lnTo>
                      <a:pt x="0" y="98"/>
                    </a:lnTo>
                    <a:lnTo>
                      <a:pt x="801" y="889"/>
                    </a:lnTo>
                    <a:lnTo>
                      <a:pt x="803" y="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Freeform 30"/>
            <p:cNvSpPr/>
            <p:nvPr/>
          </p:nvSpPr>
          <p:spPr>
            <a:xfrm rot="10800000">
              <a:off x="6357960" y="2398680"/>
              <a:ext cx="1278000" cy="2543040"/>
            </a:xfrm>
            <a:custGeom>
              <a:avLst/>
              <a:gdLst/>
              <a:ahLst/>
              <a:rect l="l" t="t" r="r" b="b"/>
              <a:pathLst>
                <a:path w="805" h="1601">
                  <a:moveTo>
                    <a:pt x="0" y="814"/>
                  </a:moveTo>
                  <a:lnTo>
                    <a:pt x="804" y="0"/>
                  </a:lnTo>
                  <a:lnTo>
                    <a:pt x="805" y="1601"/>
                  </a:lnTo>
                  <a:lnTo>
                    <a:pt x="0" y="81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xit" presetID="19" presetSubtype="5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9" presetSubtype="5" repeatCount="2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124" dur="1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126" dur="1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10"/>
                            </p:stCondLst>
                            <p:childTnLst>
                              <p:par>
                                <p:cTn id="128" nodeType="afterEffect" fill="hold" presetClass="exit" presetID="19" presetSubtype="10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10"/>
                            </p:stCondLst>
                            <p:childTnLst>
                              <p:par>
                                <p:cTn id="133" nodeType="afterEffect" fill="hold" presetClass="exit" presetID="19" presetSubtype="10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reeform 2"/>
          <p:cNvSpPr/>
          <p:nvPr/>
        </p:nvSpPr>
        <p:spPr>
          <a:xfrm>
            <a:off x="5438880" y="1547640"/>
            <a:ext cx="3598920" cy="3013200"/>
          </a:xfrm>
          <a:custGeom>
            <a:avLst/>
            <a:gdLst/>
            <a:ahLst/>
            <a:rect l="l" t="t" r="r" b="b"/>
            <a:pathLst>
              <a:path w="2267" h="1919">
                <a:moveTo>
                  <a:pt x="1" y="791"/>
                </a:moveTo>
                <a:lnTo>
                  <a:pt x="0" y="0"/>
                </a:lnTo>
                <a:lnTo>
                  <a:pt x="2267" y="2"/>
                </a:lnTo>
                <a:lnTo>
                  <a:pt x="2260" y="791"/>
                </a:lnTo>
                <a:lnTo>
                  <a:pt x="1128" y="1919"/>
                </a:lnTo>
                <a:lnTo>
                  <a:pt x="1" y="791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6232680" y="2774880"/>
            <a:ext cx="2009520" cy="1795680"/>
          </a:xfrm>
          <a:custGeom>
            <a:avLst/>
            <a:gdLst/>
            <a:ahLst/>
            <a:rect l="l" t="t" r="r" b="b"/>
            <a:pathLst>
              <a:path w="1266" h="1131">
                <a:moveTo>
                  <a:pt x="504" y="4"/>
                </a:moveTo>
                <a:lnTo>
                  <a:pt x="0" y="502"/>
                </a:lnTo>
                <a:lnTo>
                  <a:pt x="636" y="1131"/>
                </a:lnTo>
                <a:lnTo>
                  <a:pt x="1266" y="503"/>
                </a:lnTo>
                <a:lnTo>
                  <a:pt x="764" y="0"/>
                </a:lnTo>
                <a:lnTo>
                  <a:pt x="504" y="4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5435640" y="2778120"/>
            <a:ext cx="1803240" cy="1787400"/>
            <a:chOff x="5435640" y="2778120"/>
            <a:chExt cx="1803240" cy="1787400"/>
          </a:xfrm>
        </p:grpSpPr>
        <p:sp>
          <p:nvSpPr>
            <p:cNvPr id="120" name="Freeform 5"/>
            <p:cNvSpPr/>
            <p:nvPr/>
          </p:nvSpPr>
          <p:spPr>
            <a:xfrm>
              <a:off x="6246720" y="2778120"/>
              <a:ext cx="984240" cy="1780920"/>
            </a:xfrm>
            <a:custGeom>
              <a:avLst/>
              <a:gdLst/>
              <a:ahLst/>
              <a:rect l="l" t="t" r="r" b="b"/>
              <a:pathLst>
                <a:path w="620" h="1122">
                  <a:moveTo>
                    <a:pt x="0" y="500"/>
                  </a:moveTo>
                  <a:lnTo>
                    <a:pt x="506" y="0"/>
                  </a:lnTo>
                  <a:lnTo>
                    <a:pt x="620" y="0"/>
                  </a:lnTo>
                  <a:lnTo>
                    <a:pt x="620" y="1122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5435640" y="2778120"/>
              <a:ext cx="1803240" cy="1787400"/>
            </a:xfrm>
            <a:custGeom>
              <a:avLst/>
              <a:gdLst/>
              <a:ahLst/>
              <a:rect l="l" t="t" r="r" b="b"/>
              <a:pathLst>
                <a:path w="1136" h="1126">
                  <a:moveTo>
                    <a:pt x="1131" y="0"/>
                  </a:moveTo>
                  <a:lnTo>
                    <a:pt x="0" y="3"/>
                  </a:lnTo>
                  <a:lnTo>
                    <a:pt x="1136" y="1126"/>
                  </a:lnTo>
                  <a:lnTo>
                    <a:pt x="1131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7"/>
          <p:cNvGrpSpPr/>
          <p:nvPr/>
        </p:nvGrpSpPr>
        <p:grpSpPr>
          <a:xfrm>
            <a:off x="7229160" y="2781360"/>
            <a:ext cx="1803240" cy="1785960"/>
            <a:chOff x="7229160" y="2781360"/>
            <a:chExt cx="1803240" cy="1785960"/>
          </a:xfrm>
        </p:grpSpPr>
        <p:sp>
          <p:nvSpPr>
            <p:cNvPr id="123" name="Freeform 8"/>
            <p:cNvSpPr/>
            <p:nvPr/>
          </p:nvSpPr>
          <p:spPr>
            <a:xfrm flipH="1">
              <a:off x="7237080" y="2781360"/>
              <a:ext cx="984240" cy="1779480"/>
            </a:xfrm>
            <a:custGeom>
              <a:avLst/>
              <a:gdLst/>
              <a:ahLst/>
              <a:rect l="l" t="t" r="r" b="b"/>
              <a:pathLst>
                <a:path w="620" h="1122">
                  <a:moveTo>
                    <a:pt x="0" y="500"/>
                  </a:moveTo>
                  <a:lnTo>
                    <a:pt x="506" y="0"/>
                  </a:lnTo>
                  <a:lnTo>
                    <a:pt x="620" y="0"/>
                  </a:lnTo>
                  <a:lnTo>
                    <a:pt x="620" y="1122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 flipH="1">
              <a:off x="7228800" y="2781360"/>
              <a:ext cx="1803240" cy="1785960"/>
            </a:xfrm>
            <a:custGeom>
              <a:avLst/>
              <a:gdLst/>
              <a:ahLst/>
              <a:rect l="l" t="t" r="r" b="b"/>
              <a:pathLst>
                <a:path w="1136" h="1126">
                  <a:moveTo>
                    <a:pt x="1131" y="0"/>
                  </a:moveTo>
                  <a:lnTo>
                    <a:pt x="0" y="3"/>
                  </a:lnTo>
                  <a:lnTo>
                    <a:pt x="1136" y="1126"/>
                  </a:lnTo>
                  <a:lnTo>
                    <a:pt x="1131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7016760" y="2556000"/>
            <a:ext cx="444240" cy="437760"/>
            <a:chOff x="7016760" y="2556000"/>
            <a:chExt cx="444240" cy="437760"/>
          </a:xfrm>
        </p:grpSpPr>
        <p:sp>
          <p:nvSpPr>
            <p:cNvPr id="126" name="Freeform 11"/>
            <p:cNvSpPr/>
            <p:nvPr/>
          </p:nvSpPr>
          <p:spPr>
            <a:xfrm>
              <a:off x="7016760" y="2556000"/>
              <a:ext cx="444240" cy="218880"/>
            </a:xfrm>
            <a:custGeom>
              <a:avLst/>
              <a:gdLst/>
              <a:ahLst/>
              <a:rect l="l" t="t" r="r" b="b"/>
              <a:pathLst>
                <a:path w="280" h="138">
                  <a:moveTo>
                    <a:pt x="139" y="0"/>
                  </a:moveTo>
                  <a:lnTo>
                    <a:pt x="0" y="138"/>
                  </a:lnTo>
                  <a:lnTo>
                    <a:pt x="280" y="138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 flipV="1">
              <a:off x="7016760" y="2774160"/>
              <a:ext cx="444240" cy="219240"/>
            </a:xfrm>
            <a:custGeom>
              <a:avLst/>
              <a:gdLst/>
              <a:ahLst/>
              <a:rect l="l" t="t" r="r" b="b"/>
              <a:pathLst>
                <a:path w="280" h="138">
                  <a:moveTo>
                    <a:pt x="139" y="0"/>
                  </a:moveTo>
                  <a:lnTo>
                    <a:pt x="0" y="138"/>
                  </a:lnTo>
                  <a:lnTo>
                    <a:pt x="280" y="138"/>
                  </a:lnTo>
                  <a:lnTo>
                    <a:pt x="139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xit" presetID="19" presetSubtype="5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8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5445000" y="1531800"/>
            <a:ext cx="1814400" cy="3020400"/>
            <a:chOff x="5445000" y="1531800"/>
            <a:chExt cx="1814400" cy="3020400"/>
          </a:xfrm>
        </p:grpSpPr>
        <p:sp>
          <p:nvSpPr>
            <p:cNvPr id="129" name="Freeform 3"/>
            <p:cNvSpPr/>
            <p:nvPr/>
          </p:nvSpPr>
          <p:spPr>
            <a:xfrm flipH="1">
              <a:off x="5447880" y="1531800"/>
              <a:ext cx="1804680" cy="3019680"/>
            </a:xfrm>
            <a:custGeom>
              <a:avLst/>
              <a:gdLst/>
              <a:ahLst/>
              <a:rect l="l" t="t" r="r" b="b"/>
              <a:pathLst>
                <a:path w="1137" h="1903">
                  <a:moveTo>
                    <a:pt x="0" y="3"/>
                  </a:moveTo>
                  <a:lnTo>
                    <a:pt x="1136" y="0"/>
                  </a:lnTo>
                  <a:lnTo>
                    <a:pt x="1137" y="776"/>
                  </a:lnTo>
                  <a:lnTo>
                    <a:pt x="2" y="190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4"/>
            <p:cNvGrpSpPr/>
            <p:nvPr/>
          </p:nvGrpSpPr>
          <p:grpSpPr>
            <a:xfrm>
              <a:off x="5445000" y="2734560"/>
              <a:ext cx="1814400" cy="1817640"/>
              <a:chOff x="5445000" y="2734560"/>
              <a:chExt cx="1814400" cy="1817640"/>
            </a:xfrm>
          </p:grpSpPr>
          <p:sp>
            <p:nvSpPr>
              <p:cNvPr id="131" name="Freeform 5"/>
              <p:cNvSpPr/>
              <p:nvPr/>
            </p:nvSpPr>
            <p:spPr>
              <a:xfrm flipH="1">
                <a:off x="6247800" y="2756520"/>
                <a:ext cx="1011240" cy="1795680"/>
              </a:xfrm>
              <a:custGeom>
                <a:avLst/>
                <a:gdLst/>
                <a:ahLst/>
                <a:rect l="l" t="t" r="r" b="b"/>
                <a:pathLst>
                  <a:path w="637" h="1132">
                    <a:moveTo>
                      <a:pt x="0" y="1132"/>
                    </a:moveTo>
                    <a:lnTo>
                      <a:pt x="637" y="496"/>
                    </a:lnTo>
                    <a:lnTo>
                      <a:pt x="148" y="3"/>
                    </a:lnTo>
                    <a:lnTo>
                      <a:pt x="0" y="0"/>
                    </a:lnTo>
                    <a:lnTo>
                      <a:pt x="0" y="1132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6"/>
              <p:cNvGrpSpPr/>
              <p:nvPr/>
            </p:nvGrpSpPr>
            <p:grpSpPr>
              <a:xfrm>
                <a:off x="5445000" y="2737440"/>
                <a:ext cx="1814400" cy="1814400"/>
                <a:chOff x="5445000" y="2737440"/>
                <a:chExt cx="1814400" cy="1814400"/>
              </a:xfrm>
            </p:grpSpPr>
            <p:sp>
              <p:nvSpPr>
                <p:cNvPr id="133" name="AutoShape 7"/>
                <p:cNvSpPr/>
                <p:nvPr/>
              </p:nvSpPr>
              <p:spPr>
                <a:xfrm flipH="1" rot="5400000">
                  <a:off x="5445720" y="2752560"/>
                  <a:ext cx="1798560" cy="1800000"/>
                </a:xfrm>
                <a:prstGeom prst="rtTriangl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8"/>
                <p:cNvGrpSpPr/>
                <p:nvPr/>
              </p:nvGrpSpPr>
              <p:grpSpPr>
                <a:xfrm>
                  <a:off x="5456160" y="2737440"/>
                  <a:ext cx="1803240" cy="1814400"/>
                  <a:chOff x="5456160" y="2737440"/>
                  <a:chExt cx="1803240" cy="1814400"/>
                </a:xfrm>
              </p:grpSpPr>
              <p:sp>
                <p:nvSpPr>
                  <p:cNvPr id="135" name="Freeform 9"/>
                  <p:cNvSpPr/>
                  <p:nvPr/>
                </p:nvSpPr>
                <p:spPr>
                  <a:xfrm flipH="1" rot="16200000">
                    <a:off x="5451480" y="2741400"/>
                    <a:ext cx="1811520" cy="180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2" h="1136">
                        <a:moveTo>
                          <a:pt x="7" y="1136"/>
                        </a:moveTo>
                        <a:lnTo>
                          <a:pt x="0" y="0"/>
                        </a:lnTo>
                        <a:lnTo>
                          <a:pt x="1142" y="1123"/>
                        </a:lnTo>
                        <a:lnTo>
                          <a:pt x="7" y="1136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10"/>
                  <p:cNvSpPr/>
                  <p:nvPr/>
                </p:nvSpPr>
                <p:spPr>
                  <a:xfrm flipH="1" rot="16200000">
                    <a:off x="5847480" y="3141720"/>
                    <a:ext cx="1803600" cy="1016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7" h="640">
                        <a:moveTo>
                          <a:pt x="498" y="0"/>
                        </a:moveTo>
                        <a:lnTo>
                          <a:pt x="0" y="508"/>
                        </a:lnTo>
                        <a:lnTo>
                          <a:pt x="1" y="640"/>
                        </a:lnTo>
                        <a:lnTo>
                          <a:pt x="1137" y="633"/>
                        </a:lnTo>
                        <a:lnTo>
                          <a:pt x="49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7" name="Freeform 11"/>
              <p:cNvSpPr/>
              <p:nvPr/>
            </p:nvSpPr>
            <p:spPr>
              <a:xfrm flipH="1">
                <a:off x="7043040" y="2734560"/>
                <a:ext cx="212760" cy="234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12"/>
          <p:cNvGrpSpPr/>
          <p:nvPr/>
        </p:nvGrpSpPr>
        <p:grpSpPr>
          <a:xfrm>
            <a:off x="5451480" y="1531800"/>
            <a:ext cx="3608280" cy="3021120"/>
            <a:chOff x="5451480" y="1531800"/>
            <a:chExt cx="3608280" cy="3021120"/>
          </a:xfrm>
        </p:grpSpPr>
        <p:grpSp>
          <p:nvGrpSpPr>
            <p:cNvPr id="139" name="Group 13"/>
            <p:cNvGrpSpPr/>
            <p:nvPr/>
          </p:nvGrpSpPr>
          <p:grpSpPr>
            <a:xfrm>
              <a:off x="7245360" y="1531800"/>
              <a:ext cx="1814400" cy="3020400"/>
              <a:chOff x="7245360" y="1531800"/>
              <a:chExt cx="1814400" cy="3020400"/>
            </a:xfrm>
          </p:grpSpPr>
          <p:sp>
            <p:nvSpPr>
              <p:cNvPr id="140" name="Freeform 14"/>
              <p:cNvSpPr/>
              <p:nvPr/>
            </p:nvSpPr>
            <p:spPr>
              <a:xfrm>
                <a:off x="7251840" y="1531800"/>
                <a:ext cx="1804680" cy="3019680"/>
              </a:xfrm>
              <a:custGeom>
                <a:avLst/>
                <a:gdLst/>
                <a:ahLst/>
                <a:rect l="l" t="t" r="r" b="b"/>
                <a:pathLst>
                  <a:path w="1137" h="1903">
                    <a:moveTo>
                      <a:pt x="0" y="3"/>
                    </a:moveTo>
                    <a:lnTo>
                      <a:pt x="1136" y="0"/>
                    </a:lnTo>
                    <a:lnTo>
                      <a:pt x="1137" y="776"/>
                    </a:lnTo>
                    <a:lnTo>
                      <a:pt x="2" y="190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15"/>
              <p:cNvGrpSpPr/>
              <p:nvPr/>
            </p:nvGrpSpPr>
            <p:grpSpPr>
              <a:xfrm>
                <a:off x="7245360" y="2734560"/>
                <a:ext cx="1814400" cy="1817640"/>
                <a:chOff x="7245360" y="2734560"/>
                <a:chExt cx="1814400" cy="1817640"/>
              </a:xfrm>
            </p:grpSpPr>
            <p:sp>
              <p:nvSpPr>
                <p:cNvPr id="142" name="Freeform 16"/>
                <p:cNvSpPr/>
                <p:nvPr/>
              </p:nvSpPr>
              <p:spPr>
                <a:xfrm>
                  <a:off x="7245360" y="2756520"/>
                  <a:ext cx="1011240" cy="1795680"/>
                </a:xfrm>
                <a:custGeom>
                  <a:avLst/>
                  <a:gdLst/>
                  <a:ahLst/>
                  <a:rect l="l" t="t" r="r" b="b"/>
                  <a:pathLst>
                    <a:path w="637" h="1132">
                      <a:moveTo>
                        <a:pt x="0" y="1132"/>
                      </a:moveTo>
                      <a:lnTo>
                        <a:pt x="637" y="496"/>
                      </a:lnTo>
                      <a:lnTo>
                        <a:pt x="148" y="3"/>
                      </a:lnTo>
                      <a:lnTo>
                        <a:pt x="0" y="0"/>
                      </a:lnTo>
                      <a:lnTo>
                        <a:pt x="0" y="1132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17"/>
                <p:cNvGrpSpPr/>
                <p:nvPr/>
              </p:nvGrpSpPr>
              <p:grpSpPr>
                <a:xfrm>
                  <a:off x="7245360" y="2737440"/>
                  <a:ext cx="1814400" cy="1814400"/>
                  <a:chOff x="7245360" y="2737440"/>
                  <a:chExt cx="1814400" cy="1814400"/>
                </a:xfrm>
              </p:grpSpPr>
              <p:sp>
                <p:nvSpPr>
                  <p:cNvPr id="144" name="AutoShape 18"/>
                  <p:cNvSpPr/>
                  <p:nvPr/>
                </p:nvSpPr>
                <p:spPr>
                  <a:xfrm rot="16200000">
                    <a:off x="7260480" y="2752560"/>
                    <a:ext cx="1798560" cy="1800000"/>
                  </a:xfrm>
                  <a:prstGeom prst="rtTriangl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5" name="Group 19"/>
                  <p:cNvGrpSpPr/>
                  <p:nvPr/>
                </p:nvGrpSpPr>
                <p:grpSpPr>
                  <a:xfrm>
                    <a:off x="7245360" y="2737440"/>
                    <a:ext cx="1803240" cy="1814400"/>
                    <a:chOff x="7245360" y="2737440"/>
                    <a:chExt cx="1803240" cy="1814400"/>
                  </a:xfrm>
                </p:grpSpPr>
                <p:sp>
                  <p:nvSpPr>
                    <p:cNvPr id="146" name="Freeform 20"/>
                    <p:cNvSpPr/>
                    <p:nvPr/>
                  </p:nvSpPr>
                  <p:spPr>
                    <a:xfrm rot="5400000">
                      <a:off x="7241040" y="2741400"/>
                      <a:ext cx="1811520" cy="180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2" h="1136">
                          <a:moveTo>
                            <a:pt x="7" y="1136"/>
                          </a:moveTo>
                          <a:lnTo>
                            <a:pt x="0" y="0"/>
                          </a:lnTo>
                          <a:lnTo>
                            <a:pt x="1142" y="1123"/>
                          </a:lnTo>
                          <a:lnTo>
                            <a:pt x="7" y="1136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80000"/>
                      </a:srgbClr>
                    </a:solidFill>
                    <a:ln w="32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Freeform 21"/>
                    <p:cNvSpPr/>
                    <p:nvPr/>
                  </p:nvSpPr>
                  <p:spPr>
                    <a:xfrm rot="5400000">
                      <a:off x="6852960" y="3141720"/>
                      <a:ext cx="1803600" cy="101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7" h="640">
                          <a:moveTo>
                            <a:pt x="498" y="0"/>
                          </a:moveTo>
                          <a:lnTo>
                            <a:pt x="0" y="508"/>
                          </a:lnTo>
                          <a:lnTo>
                            <a:pt x="1" y="640"/>
                          </a:lnTo>
                          <a:lnTo>
                            <a:pt x="1137" y="633"/>
                          </a:lnTo>
                          <a:lnTo>
                            <a:pt x="498" y="0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8" name="Freeform 22"/>
                <p:cNvSpPr/>
                <p:nvPr/>
              </p:nvSpPr>
              <p:spPr>
                <a:xfrm>
                  <a:off x="7248600" y="2734560"/>
                  <a:ext cx="212760" cy="23472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Rectangle 23"/>
            <p:cNvSpPr/>
            <p:nvPr/>
          </p:nvSpPr>
          <p:spPr>
            <a:xfrm>
              <a:off x="5451480" y="1531800"/>
              <a:ext cx="1809720" cy="30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xit" presetID="19" presetSubtype="10" repeatCount="4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78"/>
          <p:cNvGrpSpPr/>
          <p:nvPr/>
        </p:nvGrpSpPr>
        <p:grpSpPr>
          <a:xfrm>
            <a:off x="5448240" y="1547640"/>
            <a:ext cx="3611160" cy="4354560"/>
            <a:chOff x="5448240" y="1547640"/>
            <a:chExt cx="3611160" cy="4354560"/>
          </a:xfrm>
        </p:grpSpPr>
        <p:grpSp>
          <p:nvGrpSpPr>
            <p:cNvPr id="151" name="Group 2"/>
            <p:cNvGrpSpPr/>
            <p:nvPr/>
          </p:nvGrpSpPr>
          <p:grpSpPr>
            <a:xfrm>
              <a:off x="5448240" y="1547640"/>
              <a:ext cx="3611160" cy="4346640"/>
              <a:chOff x="5448240" y="1547640"/>
              <a:chExt cx="3611160" cy="4346640"/>
            </a:xfrm>
          </p:grpSpPr>
          <p:sp>
            <p:nvSpPr>
              <p:cNvPr id="152" name="Line 3"/>
              <p:cNvSpPr/>
              <p:nvPr/>
            </p:nvSpPr>
            <p:spPr>
              <a:xfrm>
                <a:off x="5467320" y="3301920"/>
                <a:ext cx="0" cy="259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4"/>
              <p:cNvSpPr/>
              <p:nvPr/>
            </p:nvSpPr>
            <p:spPr>
              <a:xfrm>
                <a:off x="7916760" y="4741560"/>
                <a:ext cx="0" cy="108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Group 5"/>
              <p:cNvGrpSpPr/>
              <p:nvPr/>
            </p:nvGrpSpPr>
            <p:grpSpPr>
              <a:xfrm>
                <a:off x="5448240" y="1547640"/>
                <a:ext cx="1814400" cy="3022200"/>
                <a:chOff x="5448240" y="1547640"/>
                <a:chExt cx="1814400" cy="3022200"/>
              </a:xfrm>
            </p:grpSpPr>
            <p:sp>
              <p:nvSpPr>
                <p:cNvPr id="155" name="Freeform 6"/>
                <p:cNvSpPr/>
                <p:nvPr/>
              </p:nvSpPr>
              <p:spPr>
                <a:xfrm flipH="1">
                  <a:off x="5451120" y="1547640"/>
                  <a:ext cx="1804680" cy="3021120"/>
                </a:xfrm>
                <a:custGeom>
                  <a:avLst/>
                  <a:gdLst/>
                  <a:ahLst/>
                  <a:rect l="l" t="t" r="r" b="b"/>
                  <a:pathLst>
                    <a:path w="1137" h="1903">
                      <a:moveTo>
                        <a:pt x="0" y="3"/>
                      </a:moveTo>
                      <a:lnTo>
                        <a:pt x="1136" y="0"/>
                      </a:lnTo>
                      <a:lnTo>
                        <a:pt x="1137" y="776"/>
                      </a:lnTo>
                      <a:lnTo>
                        <a:pt x="2" y="190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" name="Group 7"/>
                <p:cNvGrpSpPr/>
                <p:nvPr/>
              </p:nvGrpSpPr>
              <p:grpSpPr>
                <a:xfrm>
                  <a:off x="5448240" y="2751120"/>
                  <a:ext cx="1814400" cy="1818720"/>
                  <a:chOff x="5448240" y="2751120"/>
                  <a:chExt cx="1814400" cy="1818720"/>
                </a:xfrm>
              </p:grpSpPr>
              <p:sp>
                <p:nvSpPr>
                  <p:cNvPr id="157" name="Freeform 8"/>
                  <p:cNvSpPr/>
                  <p:nvPr/>
                </p:nvSpPr>
                <p:spPr>
                  <a:xfrm flipH="1">
                    <a:off x="6251040" y="2773080"/>
                    <a:ext cx="1011240" cy="1796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1132">
                        <a:moveTo>
                          <a:pt x="0" y="1132"/>
                        </a:moveTo>
                        <a:lnTo>
                          <a:pt x="637" y="496"/>
                        </a:lnTo>
                        <a:lnTo>
                          <a:pt x="148" y="3"/>
                        </a:lnTo>
                        <a:lnTo>
                          <a:pt x="0" y="0"/>
                        </a:lnTo>
                        <a:lnTo>
                          <a:pt x="0" y="1132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5448240" y="2754000"/>
                    <a:ext cx="1814400" cy="1815480"/>
                    <a:chOff x="5448240" y="2754000"/>
                    <a:chExt cx="1814400" cy="1815480"/>
                  </a:xfrm>
                </p:grpSpPr>
                <p:sp>
                  <p:nvSpPr>
                    <p:cNvPr id="159" name="AutoShape 10"/>
                    <p:cNvSpPr/>
                    <p:nvPr/>
                  </p:nvSpPr>
                  <p:spPr>
                    <a:xfrm flipH="1" rot="5400000">
                      <a:off x="5448240" y="2769120"/>
                      <a:ext cx="1799640" cy="1800000"/>
                    </a:xfrm>
                    <a:prstGeom prst="rtTriangl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0" name="Group 11"/>
                    <p:cNvGrpSpPr/>
                    <p:nvPr/>
                  </p:nvGrpSpPr>
                  <p:grpSpPr>
                    <a:xfrm>
                      <a:off x="5459400" y="2754000"/>
                      <a:ext cx="1803240" cy="1815480"/>
                      <a:chOff x="5459400" y="2754000"/>
                      <a:chExt cx="1803240" cy="1815480"/>
                    </a:xfrm>
                  </p:grpSpPr>
                  <p:sp>
                    <p:nvSpPr>
                      <p:cNvPr id="161" name="Freeform 12"/>
                      <p:cNvSpPr/>
                      <p:nvPr/>
                    </p:nvSpPr>
                    <p:spPr>
                      <a:xfrm flipH="1" rot="16200000">
                        <a:off x="5454360" y="2758680"/>
                        <a:ext cx="1812600" cy="180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2" h="1136">
                            <a:moveTo>
                              <a:pt x="7" y="1136"/>
                            </a:moveTo>
                            <a:lnTo>
                              <a:pt x="0" y="0"/>
                            </a:lnTo>
                            <a:lnTo>
                              <a:pt x="1142" y="1123"/>
                            </a:lnTo>
                            <a:lnTo>
                              <a:pt x="7" y="1136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80000"/>
                        </a:srgbClr>
                      </a:solidFill>
                      <a:ln w="324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Freeform 13"/>
                      <p:cNvSpPr/>
                      <p:nvPr/>
                    </p:nvSpPr>
                    <p:spPr>
                      <a:xfrm flipH="1" rot="16200000">
                        <a:off x="5850360" y="3159000"/>
                        <a:ext cx="1804680" cy="101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7" h="640">
                            <a:moveTo>
                              <a:pt x="498" y="0"/>
                            </a:moveTo>
                            <a:lnTo>
                              <a:pt x="0" y="508"/>
                            </a:lnTo>
                            <a:lnTo>
                              <a:pt x="1" y="640"/>
                            </a:lnTo>
                            <a:lnTo>
                              <a:pt x="1137" y="633"/>
                            </a:lnTo>
                            <a:lnTo>
                              <a:pt x="498" y="0"/>
                            </a:lnTo>
                            <a:close/>
                          </a:path>
                        </a:pathLst>
                      </a:custGeom>
                      <a:solidFill>
                        <a:srgbClr val="ffffff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63" name="Freeform 14"/>
                  <p:cNvSpPr/>
                  <p:nvPr/>
                </p:nvSpPr>
                <p:spPr>
                  <a:xfrm flipH="1">
                    <a:off x="7046280" y="2751120"/>
                    <a:ext cx="21276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148">
                        <a:moveTo>
                          <a:pt x="0" y="148"/>
                        </a:moveTo>
                        <a:lnTo>
                          <a:pt x="0" y="0"/>
                        </a:lnTo>
                        <a:lnTo>
                          <a:pt x="134" y="3"/>
                        </a:lnTo>
                        <a:lnTo>
                          <a:pt x="0" y="148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Group 15"/>
              <p:cNvGrpSpPr/>
              <p:nvPr/>
            </p:nvGrpSpPr>
            <p:grpSpPr>
              <a:xfrm>
                <a:off x="5451120" y="1547640"/>
                <a:ext cx="3608280" cy="3022560"/>
                <a:chOff x="5451120" y="1547640"/>
                <a:chExt cx="3608280" cy="3022560"/>
              </a:xfrm>
            </p:grpSpPr>
            <p:grpSp>
              <p:nvGrpSpPr>
                <p:cNvPr id="165" name="Group 16"/>
                <p:cNvGrpSpPr/>
                <p:nvPr/>
              </p:nvGrpSpPr>
              <p:grpSpPr>
                <a:xfrm>
                  <a:off x="5451120" y="1547640"/>
                  <a:ext cx="1814400" cy="3022200"/>
                  <a:chOff x="5451120" y="1547640"/>
                  <a:chExt cx="1814400" cy="3022200"/>
                </a:xfrm>
              </p:grpSpPr>
              <p:sp>
                <p:nvSpPr>
                  <p:cNvPr id="166" name="Freeform 17"/>
                  <p:cNvSpPr/>
                  <p:nvPr/>
                </p:nvSpPr>
                <p:spPr>
                  <a:xfrm flipH="1">
                    <a:off x="5454000" y="1547640"/>
                    <a:ext cx="1804680" cy="302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7" h="1903">
                        <a:moveTo>
                          <a:pt x="0" y="3"/>
                        </a:moveTo>
                        <a:lnTo>
                          <a:pt x="1136" y="0"/>
                        </a:lnTo>
                        <a:lnTo>
                          <a:pt x="1137" y="776"/>
                        </a:lnTo>
                        <a:lnTo>
                          <a:pt x="2" y="190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7" name="Group 18"/>
                  <p:cNvGrpSpPr/>
                  <p:nvPr/>
                </p:nvGrpSpPr>
                <p:grpSpPr>
                  <a:xfrm>
                    <a:off x="5451120" y="2751120"/>
                    <a:ext cx="1814400" cy="1818720"/>
                    <a:chOff x="5451120" y="2751120"/>
                    <a:chExt cx="1814400" cy="1818720"/>
                  </a:xfrm>
                </p:grpSpPr>
                <p:sp>
                  <p:nvSpPr>
                    <p:cNvPr id="168" name="Freeform 19"/>
                    <p:cNvSpPr/>
                    <p:nvPr/>
                  </p:nvSpPr>
                  <p:spPr>
                    <a:xfrm flipH="1">
                      <a:off x="6253920" y="2773080"/>
                      <a:ext cx="1011240" cy="179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7" h="1132">
                          <a:moveTo>
                            <a:pt x="0" y="1132"/>
                          </a:moveTo>
                          <a:lnTo>
                            <a:pt x="637" y="496"/>
                          </a:lnTo>
                          <a:lnTo>
                            <a:pt x="148" y="3"/>
                          </a:lnTo>
                          <a:lnTo>
                            <a:pt x="0" y="0"/>
                          </a:lnTo>
                          <a:lnTo>
                            <a:pt x="0" y="1132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9" name="Group 20"/>
                    <p:cNvGrpSpPr/>
                    <p:nvPr/>
                  </p:nvGrpSpPr>
                  <p:grpSpPr>
                    <a:xfrm>
                      <a:off x="5451120" y="2754000"/>
                      <a:ext cx="1814400" cy="1815480"/>
                      <a:chOff x="5451120" y="2754000"/>
                      <a:chExt cx="1814400" cy="1815480"/>
                    </a:xfrm>
                  </p:grpSpPr>
                  <p:sp>
                    <p:nvSpPr>
                      <p:cNvPr id="170" name="AutoShape 21"/>
                      <p:cNvSpPr/>
                      <p:nvPr/>
                    </p:nvSpPr>
                    <p:spPr>
                      <a:xfrm flipH="1" rot="5400000">
                        <a:off x="5451120" y="2769120"/>
                        <a:ext cx="1799640" cy="1800000"/>
                      </a:xfrm>
                      <a:prstGeom prst="rtTriangle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1" name="Group 22"/>
                      <p:cNvGrpSpPr/>
                      <p:nvPr/>
                    </p:nvGrpSpPr>
                    <p:grpSpPr>
                      <a:xfrm>
                        <a:off x="5462280" y="2754000"/>
                        <a:ext cx="1803240" cy="1815480"/>
                        <a:chOff x="5462280" y="2754000"/>
                        <a:chExt cx="1803240" cy="1815480"/>
                      </a:xfrm>
                    </p:grpSpPr>
                    <p:sp>
                      <p:nvSpPr>
                        <p:cNvPr id="172" name="Freeform 23"/>
                        <p:cNvSpPr/>
                        <p:nvPr/>
                      </p:nvSpPr>
                      <p:spPr>
                        <a:xfrm flipH="1" rot="16200000">
                          <a:off x="5457240" y="2758680"/>
                          <a:ext cx="1812600" cy="180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42" h="1136">
                              <a:moveTo>
                                <a:pt x="7" y="1136"/>
                              </a:moveTo>
                              <a:lnTo>
                                <a:pt x="0" y="0"/>
                              </a:lnTo>
                              <a:lnTo>
                                <a:pt x="1142" y="1123"/>
                              </a:lnTo>
                              <a:lnTo>
                                <a:pt x="7" y="11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>
                            <a:alpha val="80000"/>
                          </a:srgbClr>
                        </a:solidFill>
                        <a:ln w="3240">
                          <a:solidFill>
                            <a:srgbClr val="80808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Freeform 24"/>
                        <p:cNvSpPr/>
                        <p:nvPr/>
                      </p:nvSpPr>
                      <p:spPr>
                        <a:xfrm flipH="1" rot="16200000">
                          <a:off x="5853240" y="3159000"/>
                          <a:ext cx="1804680" cy="101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7" h="640">
                              <a:moveTo>
                                <a:pt x="498" y="0"/>
                              </a:moveTo>
                              <a:lnTo>
                                <a:pt x="0" y="508"/>
                              </a:lnTo>
                              <a:lnTo>
                                <a:pt x="1" y="640"/>
                              </a:lnTo>
                              <a:lnTo>
                                <a:pt x="1137" y="633"/>
                              </a:lnTo>
                              <a:lnTo>
                                <a:pt x="49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>
                            <a:alpha val="80000"/>
                          </a:srgbClr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74" name="Freeform 25"/>
                    <p:cNvSpPr/>
                    <p:nvPr/>
                  </p:nvSpPr>
                  <p:spPr>
                    <a:xfrm flipH="1">
                      <a:off x="7049160" y="2751120"/>
                      <a:ext cx="21276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148">
                          <a:moveTo>
                            <a:pt x="0" y="148"/>
                          </a:moveTo>
                          <a:lnTo>
                            <a:pt x="0" y="0"/>
                          </a:lnTo>
                          <a:lnTo>
                            <a:pt x="134" y="3"/>
                          </a:lnTo>
                          <a:lnTo>
                            <a:pt x="0" y="148"/>
                          </a:lnTo>
                          <a:close/>
                        </a:path>
                      </a:pathLst>
                    </a:custGeom>
                    <a:solidFill>
                      <a:srgbClr val="ffffff">
                        <a:alpha val="80000"/>
                      </a:srgbClr>
                    </a:solidFill>
                    <a:ln w="32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5" name="Rectangle 26"/>
                <p:cNvSpPr/>
                <p:nvPr/>
              </p:nvSpPr>
              <p:spPr>
                <a:xfrm flipH="1">
                  <a:off x="7249320" y="1547640"/>
                  <a:ext cx="1809720" cy="30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" name="Rectangle 52"/>
            <p:cNvSpPr/>
            <p:nvPr/>
          </p:nvSpPr>
          <p:spPr>
            <a:xfrm>
              <a:off x="5479920" y="3309840"/>
              <a:ext cx="33048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3"/>
          <p:cNvSpPr/>
          <p:nvPr/>
        </p:nvSpPr>
        <p:spPr>
          <a:xfrm>
            <a:off x="496800" y="8388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720000">
                                      <p:cBhvr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52"/>
          <p:cNvGrpSpPr/>
          <p:nvPr/>
        </p:nvGrpSpPr>
        <p:grpSpPr>
          <a:xfrm>
            <a:off x="6418440" y="2419200"/>
            <a:ext cx="3503520" cy="1989000"/>
            <a:chOff x="6418440" y="2419200"/>
            <a:chExt cx="3503520" cy="1989000"/>
          </a:xfrm>
        </p:grpSpPr>
        <p:grpSp>
          <p:nvGrpSpPr>
            <p:cNvPr id="179" name="Group 53"/>
            <p:cNvGrpSpPr/>
            <p:nvPr/>
          </p:nvGrpSpPr>
          <p:grpSpPr>
            <a:xfrm>
              <a:off x="6418440" y="2419200"/>
              <a:ext cx="3500640" cy="996840"/>
              <a:chOff x="6418440" y="2419200"/>
              <a:chExt cx="3500640" cy="996840"/>
            </a:xfrm>
          </p:grpSpPr>
          <p:sp>
            <p:nvSpPr>
              <p:cNvPr id="180" name="Freeform 54"/>
              <p:cNvSpPr/>
              <p:nvPr/>
            </p:nvSpPr>
            <p:spPr>
              <a:xfrm>
                <a:off x="6423120" y="2419200"/>
                <a:ext cx="3495960" cy="99216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5"/>
              <p:cNvSpPr/>
              <p:nvPr/>
            </p:nvSpPr>
            <p:spPr>
              <a:xfrm>
                <a:off x="6418440" y="2419200"/>
                <a:ext cx="2362320" cy="996840"/>
              </a:xfrm>
              <a:custGeom>
                <a:avLst/>
                <a:gdLst/>
                <a:ahLst/>
                <a:rect l="l" t="t" r="r" b="b"/>
                <a:pathLst>
                  <a:path w="1488" h="628">
                    <a:moveTo>
                      <a:pt x="1239" y="628"/>
                    </a:moveTo>
                    <a:lnTo>
                      <a:pt x="1488" y="0"/>
                    </a:lnTo>
                    <a:lnTo>
                      <a:pt x="0" y="621"/>
                    </a:lnTo>
                    <a:lnTo>
                      <a:pt x="1239" y="62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6"/>
            <p:cNvSpPr/>
            <p:nvPr/>
          </p:nvSpPr>
          <p:spPr>
            <a:xfrm flipV="1">
              <a:off x="6426360" y="3416040"/>
              <a:ext cx="3495600" cy="992160"/>
            </a:xfrm>
            <a:custGeom>
              <a:avLst/>
              <a:gdLst/>
              <a:ahLst/>
              <a:rect l="l" t="t" r="r" b="b"/>
              <a:pathLst>
                <a:path w="2202" h="625">
                  <a:moveTo>
                    <a:pt x="2058" y="625"/>
                  </a:moveTo>
                  <a:lnTo>
                    <a:pt x="2202" y="291"/>
                  </a:lnTo>
                  <a:lnTo>
                    <a:pt x="1482" y="0"/>
                  </a:lnTo>
                  <a:lnTo>
                    <a:pt x="0" y="625"/>
                  </a:lnTo>
                  <a:lnTo>
                    <a:pt x="2058" y="62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7"/>
          <p:cNvGrpSpPr/>
          <p:nvPr/>
        </p:nvGrpSpPr>
        <p:grpSpPr>
          <a:xfrm>
            <a:off x="6403680" y="2781000"/>
            <a:ext cx="3525120" cy="1640880"/>
            <a:chOff x="6403680" y="2781000"/>
            <a:chExt cx="3525120" cy="1640880"/>
          </a:xfrm>
        </p:grpSpPr>
        <p:sp>
          <p:nvSpPr>
            <p:cNvPr id="184" name="Freeform 58"/>
            <p:cNvSpPr/>
            <p:nvPr/>
          </p:nvSpPr>
          <p:spPr>
            <a:xfrm>
              <a:off x="6418080" y="3290040"/>
              <a:ext cx="3252960" cy="112752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59"/>
            <p:cNvGrpSpPr/>
            <p:nvPr/>
          </p:nvGrpSpPr>
          <p:grpSpPr>
            <a:xfrm>
              <a:off x="6403680" y="2781000"/>
              <a:ext cx="3525120" cy="1113480"/>
              <a:chOff x="6403680" y="2781000"/>
              <a:chExt cx="3525120" cy="1113480"/>
            </a:xfrm>
          </p:grpSpPr>
          <p:grpSp>
            <p:nvGrpSpPr>
              <p:cNvPr id="186" name="Group 60"/>
              <p:cNvGrpSpPr/>
              <p:nvPr/>
            </p:nvGrpSpPr>
            <p:grpSpPr>
              <a:xfrm>
                <a:off x="6413040" y="3277800"/>
                <a:ext cx="3515760" cy="616680"/>
                <a:chOff x="6413040" y="3277800"/>
                <a:chExt cx="3515760" cy="616680"/>
              </a:xfrm>
            </p:grpSpPr>
            <p:sp>
              <p:nvSpPr>
                <p:cNvPr id="187" name="Freeform 61"/>
                <p:cNvSpPr/>
                <p:nvPr/>
              </p:nvSpPr>
              <p:spPr>
                <a:xfrm flipV="1" rot="21480000">
                  <a:off x="6425280" y="3338280"/>
                  <a:ext cx="3495960" cy="49500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62"/>
                <p:cNvSpPr/>
                <p:nvPr/>
              </p:nvSpPr>
              <p:spPr>
                <a:xfrm flipV="1" rot="21480000">
                  <a:off x="6420600" y="3355920"/>
                  <a:ext cx="2362320" cy="49716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Freeform 63"/>
              <p:cNvSpPr/>
              <p:nvPr/>
            </p:nvSpPr>
            <p:spPr>
              <a:xfrm rot="21480000">
                <a:off x="6411240" y="2841840"/>
                <a:ext cx="3495600" cy="49500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64"/>
            <p:cNvGrpSpPr/>
            <p:nvPr/>
          </p:nvGrpSpPr>
          <p:grpSpPr>
            <a:xfrm>
              <a:off x="6423120" y="3390120"/>
              <a:ext cx="3270240" cy="1031760"/>
              <a:chOff x="6423120" y="3390120"/>
              <a:chExt cx="3270240" cy="1031760"/>
            </a:xfrm>
          </p:grpSpPr>
          <p:sp>
            <p:nvSpPr>
              <p:cNvPr id="191" name="Freeform 65"/>
              <p:cNvSpPr/>
              <p:nvPr/>
            </p:nvSpPr>
            <p:spPr>
              <a:xfrm>
                <a:off x="6442200" y="3394440"/>
                <a:ext cx="3245040" cy="102168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6"/>
              <p:cNvSpPr/>
              <p:nvPr/>
            </p:nvSpPr>
            <p:spPr>
              <a:xfrm>
                <a:off x="6431040" y="3395880"/>
                <a:ext cx="1941480" cy="61236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7"/>
              <p:cNvSpPr/>
              <p:nvPr/>
            </p:nvSpPr>
            <p:spPr>
              <a:xfrm>
                <a:off x="6442200" y="3390120"/>
                <a:ext cx="1747800" cy="61632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8"/>
              <p:cNvSpPr/>
              <p:nvPr/>
            </p:nvSpPr>
            <p:spPr>
              <a:xfrm flipH="1" rot="6720000">
                <a:off x="7960320" y="3767040"/>
                <a:ext cx="191160" cy="23544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9"/>
              <p:cNvSpPr/>
              <p:nvPr/>
            </p:nvSpPr>
            <p:spPr>
              <a:xfrm>
                <a:off x="6448680" y="3399840"/>
                <a:ext cx="3244680" cy="10220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70"/>
              <p:cNvSpPr/>
              <p:nvPr/>
            </p:nvSpPr>
            <p:spPr>
              <a:xfrm>
                <a:off x="6423120" y="3395880"/>
                <a:ext cx="1962360" cy="62208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71"/>
              <p:cNvSpPr/>
              <p:nvPr/>
            </p:nvSpPr>
            <p:spPr>
              <a:xfrm flipH="1" rot="6720000">
                <a:off x="7963560" y="3777120"/>
                <a:ext cx="191160" cy="23544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72"/>
            <p:cNvGrpSpPr/>
            <p:nvPr/>
          </p:nvGrpSpPr>
          <p:grpSpPr>
            <a:xfrm>
              <a:off x="6415200" y="2860200"/>
              <a:ext cx="3503520" cy="1052640"/>
              <a:chOff x="6415200" y="2860200"/>
              <a:chExt cx="3503520" cy="1052640"/>
            </a:xfrm>
          </p:grpSpPr>
          <p:grpSp>
            <p:nvGrpSpPr>
              <p:cNvPr id="199" name="Group 73"/>
              <p:cNvGrpSpPr/>
              <p:nvPr/>
            </p:nvGrpSpPr>
            <p:grpSpPr>
              <a:xfrm>
                <a:off x="6415200" y="3385080"/>
                <a:ext cx="3500640" cy="527760"/>
                <a:chOff x="6415200" y="3385080"/>
                <a:chExt cx="3500640" cy="527760"/>
              </a:xfrm>
            </p:grpSpPr>
            <p:sp>
              <p:nvSpPr>
                <p:cNvPr id="200" name="Freeform 74"/>
                <p:cNvSpPr/>
                <p:nvPr/>
              </p:nvSpPr>
              <p:spPr>
                <a:xfrm flipV="1">
                  <a:off x="6419880" y="3387240"/>
                  <a:ext cx="3495960" cy="5252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75"/>
                <p:cNvSpPr/>
                <p:nvPr/>
              </p:nvSpPr>
              <p:spPr>
                <a:xfrm flipV="1">
                  <a:off x="6415200" y="3385080"/>
                  <a:ext cx="2362320" cy="52776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Freeform 76"/>
              <p:cNvSpPr/>
              <p:nvPr/>
            </p:nvSpPr>
            <p:spPr>
              <a:xfrm>
                <a:off x="6423120" y="2860200"/>
                <a:ext cx="3495600" cy="5252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77"/>
          <p:cNvGrpSpPr/>
          <p:nvPr/>
        </p:nvGrpSpPr>
        <p:grpSpPr>
          <a:xfrm>
            <a:off x="6418440" y="2260080"/>
            <a:ext cx="3278160" cy="2285640"/>
            <a:chOff x="6418440" y="2260080"/>
            <a:chExt cx="3278160" cy="2285640"/>
          </a:xfrm>
        </p:grpSpPr>
        <p:grpSp>
          <p:nvGrpSpPr>
            <p:cNvPr id="204" name="Group 78"/>
            <p:cNvGrpSpPr/>
            <p:nvPr/>
          </p:nvGrpSpPr>
          <p:grpSpPr>
            <a:xfrm>
              <a:off x="6418440" y="3399480"/>
              <a:ext cx="3270240" cy="1146240"/>
              <a:chOff x="6418440" y="3399480"/>
              <a:chExt cx="3270240" cy="1146240"/>
            </a:xfrm>
          </p:grpSpPr>
          <p:sp>
            <p:nvSpPr>
              <p:cNvPr id="205" name="Freeform 79"/>
              <p:cNvSpPr/>
              <p:nvPr/>
            </p:nvSpPr>
            <p:spPr>
              <a:xfrm>
                <a:off x="6437520" y="3404160"/>
                <a:ext cx="3245040" cy="113508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80"/>
              <p:cNvSpPr/>
              <p:nvPr/>
            </p:nvSpPr>
            <p:spPr>
              <a:xfrm>
                <a:off x="6426360" y="3405600"/>
                <a:ext cx="1941480" cy="68004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81"/>
              <p:cNvSpPr/>
              <p:nvPr/>
            </p:nvSpPr>
            <p:spPr>
              <a:xfrm>
                <a:off x="6437520" y="3399480"/>
                <a:ext cx="1747800" cy="68472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82"/>
              <p:cNvSpPr/>
              <p:nvPr/>
            </p:nvSpPr>
            <p:spPr>
              <a:xfrm flipH="1" rot="6720000">
                <a:off x="7945560" y="3831840"/>
                <a:ext cx="21240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83"/>
              <p:cNvSpPr/>
              <p:nvPr/>
            </p:nvSpPr>
            <p:spPr>
              <a:xfrm>
                <a:off x="6444000" y="3410280"/>
                <a:ext cx="3244680" cy="11354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84"/>
              <p:cNvSpPr/>
              <p:nvPr/>
            </p:nvSpPr>
            <p:spPr>
              <a:xfrm>
                <a:off x="6418440" y="3405600"/>
                <a:ext cx="1962360" cy="69120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85"/>
              <p:cNvSpPr/>
              <p:nvPr/>
            </p:nvSpPr>
            <p:spPr>
              <a:xfrm flipH="1" rot="6720000">
                <a:off x="7948800" y="3843000"/>
                <a:ext cx="21240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Freeform 86"/>
            <p:cNvSpPr/>
            <p:nvPr/>
          </p:nvSpPr>
          <p:spPr>
            <a:xfrm flipV="1">
              <a:off x="6451920" y="2259360"/>
              <a:ext cx="3244680" cy="1135800"/>
            </a:xfrm>
            <a:custGeom>
              <a:avLst/>
              <a:gdLst/>
              <a:ahLst/>
              <a:rect l="l" t="t" r="r" b="b"/>
              <a:pathLst>
                <a:path w="2044" h="716">
                  <a:moveTo>
                    <a:pt x="1761" y="716"/>
                  </a:moveTo>
                  <a:lnTo>
                    <a:pt x="2044" y="0"/>
                  </a:lnTo>
                  <a:lnTo>
                    <a:pt x="0" y="2"/>
                  </a:lnTo>
                  <a:lnTo>
                    <a:pt x="1761" y="7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7"/>
          <p:cNvGrpSpPr/>
          <p:nvPr/>
        </p:nvGrpSpPr>
        <p:grpSpPr>
          <a:xfrm>
            <a:off x="6445080" y="2408400"/>
            <a:ext cx="3503520" cy="1989000"/>
            <a:chOff x="6445080" y="2408400"/>
            <a:chExt cx="3503520" cy="1989000"/>
          </a:xfrm>
        </p:grpSpPr>
        <p:grpSp>
          <p:nvGrpSpPr>
            <p:cNvPr id="214" name="Group 88"/>
            <p:cNvGrpSpPr/>
            <p:nvPr/>
          </p:nvGrpSpPr>
          <p:grpSpPr>
            <a:xfrm>
              <a:off x="6445080" y="2408400"/>
              <a:ext cx="3500640" cy="996840"/>
              <a:chOff x="6445080" y="2408400"/>
              <a:chExt cx="3500640" cy="996840"/>
            </a:xfrm>
          </p:grpSpPr>
          <p:sp>
            <p:nvSpPr>
              <p:cNvPr id="215" name="Freeform 89"/>
              <p:cNvSpPr/>
              <p:nvPr/>
            </p:nvSpPr>
            <p:spPr>
              <a:xfrm>
                <a:off x="6449760" y="2408400"/>
                <a:ext cx="3495960" cy="99216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90"/>
              <p:cNvSpPr/>
              <p:nvPr/>
            </p:nvSpPr>
            <p:spPr>
              <a:xfrm>
                <a:off x="6445080" y="2408400"/>
                <a:ext cx="2362320" cy="996840"/>
              </a:xfrm>
              <a:custGeom>
                <a:avLst/>
                <a:gdLst/>
                <a:ahLst/>
                <a:rect l="l" t="t" r="r" b="b"/>
                <a:pathLst>
                  <a:path w="1488" h="628">
                    <a:moveTo>
                      <a:pt x="1239" y="628"/>
                    </a:moveTo>
                    <a:lnTo>
                      <a:pt x="1488" y="0"/>
                    </a:lnTo>
                    <a:lnTo>
                      <a:pt x="0" y="621"/>
                    </a:lnTo>
                    <a:lnTo>
                      <a:pt x="1239" y="62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91"/>
            <p:cNvSpPr/>
            <p:nvPr/>
          </p:nvSpPr>
          <p:spPr>
            <a:xfrm flipV="1">
              <a:off x="6453000" y="3405240"/>
              <a:ext cx="3495600" cy="992160"/>
            </a:xfrm>
            <a:custGeom>
              <a:avLst/>
              <a:gdLst/>
              <a:ahLst/>
              <a:rect l="l" t="t" r="r" b="b"/>
              <a:pathLst>
                <a:path w="2202" h="625">
                  <a:moveTo>
                    <a:pt x="2058" y="625"/>
                  </a:moveTo>
                  <a:lnTo>
                    <a:pt x="2202" y="291"/>
                  </a:lnTo>
                  <a:lnTo>
                    <a:pt x="1482" y="0"/>
                  </a:lnTo>
                  <a:lnTo>
                    <a:pt x="0" y="625"/>
                  </a:lnTo>
                  <a:lnTo>
                    <a:pt x="2058" y="62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xit" presetID="19" presetSubtype="5" repeatCount="5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3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9" presetSubtype="5" repeatCount="56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6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6430680" y="2788560"/>
            <a:ext cx="3525120" cy="1641600"/>
            <a:chOff x="6430680" y="2788560"/>
            <a:chExt cx="3525120" cy="1641600"/>
          </a:xfrm>
        </p:grpSpPr>
        <p:sp>
          <p:nvSpPr>
            <p:cNvPr id="219" name="Freeform 3"/>
            <p:cNvSpPr/>
            <p:nvPr/>
          </p:nvSpPr>
          <p:spPr>
            <a:xfrm>
              <a:off x="6445080" y="3298320"/>
              <a:ext cx="3252960" cy="112752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4"/>
            <p:cNvGrpSpPr/>
            <p:nvPr/>
          </p:nvGrpSpPr>
          <p:grpSpPr>
            <a:xfrm>
              <a:off x="6430680" y="2788560"/>
              <a:ext cx="3525120" cy="1114560"/>
              <a:chOff x="6430680" y="2788560"/>
              <a:chExt cx="3525120" cy="1114560"/>
            </a:xfrm>
          </p:grpSpPr>
          <p:grpSp>
            <p:nvGrpSpPr>
              <p:cNvPr id="221" name="Group 5"/>
              <p:cNvGrpSpPr/>
              <p:nvPr/>
            </p:nvGrpSpPr>
            <p:grpSpPr>
              <a:xfrm>
                <a:off x="6440040" y="3286080"/>
                <a:ext cx="3515760" cy="617040"/>
                <a:chOff x="6440040" y="3286080"/>
                <a:chExt cx="3515760" cy="617040"/>
              </a:xfrm>
            </p:grpSpPr>
            <p:sp>
              <p:nvSpPr>
                <p:cNvPr id="222" name="Freeform 6"/>
                <p:cNvSpPr/>
                <p:nvPr/>
              </p:nvSpPr>
              <p:spPr>
                <a:xfrm flipV="1" rot="21480000">
                  <a:off x="6452280" y="3346920"/>
                  <a:ext cx="3495960" cy="49536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"/>
                <p:cNvSpPr/>
                <p:nvPr/>
              </p:nvSpPr>
              <p:spPr>
                <a:xfrm flipV="1" rot="21480000">
                  <a:off x="6447600" y="3364560"/>
                  <a:ext cx="2362320" cy="49752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Freeform 8"/>
              <p:cNvSpPr/>
              <p:nvPr/>
            </p:nvSpPr>
            <p:spPr>
              <a:xfrm rot="21480000">
                <a:off x="6438240" y="2849400"/>
                <a:ext cx="3495600" cy="49536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9"/>
            <p:cNvGrpSpPr/>
            <p:nvPr/>
          </p:nvGrpSpPr>
          <p:grpSpPr>
            <a:xfrm>
              <a:off x="6450120" y="3398040"/>
              <a:ext cx="3270240" cy="1032120"/>
              <a:chOff x="6450120" y="3398040"/>
              <a:chExt cx="3270240" cy="1032120"/>
            </a:xfrm>
          </p:grpSpPr>
          <p:sp>
            <p:nvSpPr>
              <p:cNvPr id="226" name="Freeform 10"/>
              <p:cNvSpPr/>
              <p:nvPr/>
            </p:nvSpPr>
            <p:spPr>
              <a:xfrm>
                <a:off x="6469200" y="3402360"/>
                <a:ext cx="3245040" cy="10220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1"/>
              <p:cNvSpPr/>
              <p:nvPr/>
            </p:nvSpPr>
            <p:spPr>
              <a:xfrm>
                <a:off x="6458040" y="3403800"/>
                <a:ext cx="1941480" cy="61236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6469200" y="3398040"/>
                <a:ext cx="1747800" cy="61668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3"/>
              <p:cNvSpPr/>
              <p:nvPr/>
            </p:nvSpPr>
            <p:spPr>
              <a:xfrm flipH="1" rot="6720000">
                <a:off x="7987320" y="3774960"/>
                <a:ext cx="191160" cy="23544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4"/>
              <p:cNvSpPr/>
              <p:nvPr/>
            </p:nvSpPr>
            <p:spPr>
              <a:xfrm>
                <a:off x="6475680" y="3407760"/>
                <a:ext cx="3244680" cy="102240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5"/>
              <p:cNvSpPr/>
              <p:nvPr/>
            </p:nvSpPr>
            <p:spPr>
              <a:xfrm>
                <a:off x="6450120" y="3403800"/>
                <a:ext cx="1962360" cy="62244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"/>
              <p:cNvSpPr/>
              <p:nvPr/>
            </p:nvSpPr>
            <p:spPr>
              <a:xfrm flipH="1" rot="6720000">
                <a:off x="7990560" y="3785040"/>
                <a:ext cx="191160" cy="23544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7"/>
            <p:cNvGrpSpPr/>
            <p:nvPr/>
          </p:nvGrpSpPr>
          <p:grpSpPr>
            <a:xfrm>
              <a:off x="6442200" y="2868840"/>
              <a:ext cx="3503520" cy="1052640"/>
              <a:chOff x="6442200" y="2868840"/>
              <a:chExt cx="3503520" cy="1052640"/>
            </a:xfrm>
          </p:grpSpPr>
          <p:grpSp>
            <p:nvGrpSpPr>
              <p:cNvPr id="234" name="Group 18"/>
              <p:cNvGrpSpPr/>
              <p:nvPr/>
            </p:nvGrpSpPr>
            <p:grpSpPr>
              <a:xfrm>
                <a:off x="6442200" y="3393720"/>
                <a:ext cx="3500640" cy="527760"/>
                <a:chOff x="6442200" y="3393720"/>
                <a:chExt cx="3500640" cy="527760"/>
              </a:xfrm>
            </p:grpSpPr>
            <p:sp>
              <p:nvSpPr>
                <p:cNvPr id="235" name="Freeform 19"/>
                <p:cNvSpPr/>
                <p:nvPr/>
              </p:nvSpPr>
              <p:spPr>
                <a:xfrm flipV="1">
                  <a:off x="6446880" y="3395880"/>
                  <a:ext cx="3495960" cy="5252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20"/>
                <p:cNvSpPr/>
                <p:nvPr/>
              </p:nvSpPr>
              <p:spPr>
                <a:xfrm flipV="1">
                  <a:off x="6442200" y="3393720"/>
                  <a:ext cx="2362320" cy="52776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21"/>
              <p:cNvSpPr/>
              <p:nvPr/>
            </p:nvSpPr>
            <p:spPr>
              <a:xfrm>
                <a:off x="6450120" y="2868840"/>
                <a:ext cx="3495600" cy="5252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110"/>
          <p:cNvGrpSpPr/>
          <p:nvPr/>
        </p:nvGrpSpPr>
        <p:grpSpPr>
          <a:xfrm>
            <a:off x="8636400" y="3393360"/>
            <a:ext cx="4309920" cy="1721160"/>
            <a:chOff x="8636400" y="3393360"/>
            <a:chExt cx="4309920" cy="1721160"/>
          </a:xfrm>
        </p:grpSpPr>
        <p:grpSp>
          <p:nvGrpSpPr>
            <p:cNvPr id="239" name="Group 23"/>
            <p:cNvGrpSpPr/>
            <p:nvPr/>
          </p:nvGrpSpPr>
          <p:grpSpPr>
            <a:xfrm>
              <a:off x="8636400" y="3393360"/>
              <a:ext cx="3495960" cy="1447920"/>
              <a:chOff x="8636400" y="3393360"/>
              <a:chExt cx="3495960" cy="1447920"/>
            </a:xfrm>
          </p:grpSpPr>
          <p:sp>
            <p:nvSpPr>
              <p:cNvPr id="240" name="Freeform 24"/>
              <p:cNvSpPr/>
              <p:nvPr/>
            </p:nvSpPr>
            <p:spPr>
              <a:xfrm rot="21360000">
                <a:off x="8652240" y="3514320"/>
                <a:ext cx="347652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5"/>
              <p:cNvSpPr/>
              <p:nvPr/>
            </p:nvSpPr>
            <p:spPr>
              <a:xfrm rot="21360000">
                <a:off x="8660520" y="3563280"/>
                <a:ext cx="198108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6"/>
              <p:cNvSpPr/>
              <p:nvPr/>
            </p:nvSpPr>
            <p:spPr>
              <a:xfrm rot="21360000">
                <a:off x="8708760" y="3517920"/>
                <a:ext cx="324504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" name="Group 27"/>
              <p:cNvGrpSpPr/>
              <p:nvPr/>
            </p:nvGrpSpPr>
            <p:grpSpPr>
              <a:xfrm>
                <a:off x="8686080" y="3615840"/>
                <a:ext cx="3251880" cy="1067400"/>
                <a:chOff x="8686080" y="3615840"/>
                <a:chExt cx="3251880" cy="1067400"/>
              </a:xfrm>
            </p:grpSpPr>
            <p:sp>
              <p:nvSpPr>
                <p:cNvPr id="244" name="Freeform 28"/>
                <p:cNvSpPr/>
                <p:nvPr/>
              </p:nvSpPr>
              <p:spPr>
                <a:xfrm rot="21577200">
                  <a:off x="8689320" y="362736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29"/>
                <p:cNvSpPr/>
                <p:nvPr/>
              </p:nvSpPr>
              <p:spPr>
                <a:xfrm rot="21577200">
                  <a:off x="8691120" y="362196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0"/>
                <p:cNvSpPr/>
                <p:nvPr/>
              </p:nvSpPr>
              <p:spPr>
                <a:xfrm rot="21577200">
                  <a:off x="8688240" y="362772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1"/>
                <p:cNvSpPr/>
                <p:nvPr/>
              </p:nvSpPr>
              <p:spPr>
                <a:xfrm flipH="1" rot="6696600">
                  <a:off x="10205640" y="401148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Freeform 32"/>
              <p:cNvSpPr/>
              <p:nvPr/>
            </p:nvSpPr>
            <p:spPr>
              <a:xfrm rot="21577200">
                <a:off x="8695080" y="3636360"/>
                <a:ext cx="192744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3"/>
              <p:cNvSpPr/>
              <p:nvPr/>
            </p:nvSpPr>
            <p:spPr>
              <a:xfrm rot="21577200">
                <a:off x="8692560" y="3642840"/>
                <a:ext cx="174780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4"/>
              <p:cNvSpPr/>
              <p:nvPr/>
            </p:nvSpPr>
            <p:spPr>
              <a:xfrm flipH="1" rot="6697200">
                <a:off x="10208520" y="4021920"/>
                <a:ext cx="19548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Group 35"/>
              <p:cNvGrpSpPr/>
              <p:nvPr/>
            </p:nvGrpSpPr>
            <p:grpSpPr>
              <a:xfrm>
                <a:off x="8636400" y="3569400"/>
                <a:ext cx="3483000" cy="484560"/>
                <a:chOff x="8636400" y="3569400"/>
                <a:chExt cx="3483000" cy="484560"/>
              </a:xfrm>
            </p:grpSpPr>
            <p:sp>
              <p:nvSpPr>
                <p:cNvPr id="252" name="Freeform 36"/>
                <p:cNvSpPr/>
                <p:nvPr/>
              </p:nvSpPr>
              <p:spPr>
                <a:xfrm flipV="1" rot="21544800">
                  <a:off x="8639280" y="3597120"/>
                  <a:ext cx="347652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37"/>
                <p:cNvSpPr/>
                <p:nvPr/>
              </p:nvSpPr>
              <p:spPr>
                <a:xfrm flipV="1" rot="21544800">
                  <a:off x="8649720" y="3605760"/>
                  <a:ext cx="234936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38"/>
                <p:cNvSpPr/>
                <p:nvPr/>
              </p:nvSpPr>
              <p:spPr>
                <a:xfrm flipV="1" rot="21544800">
                  <a:off x="8641800" y="3615120"/>
                  <a:ext cx="155268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40"/>
            <p:cNvGrpSpPr/>
            <p:nvPr/>
          </p:nvGrpSpPr>
          <p:grpSpPr>
            <a:xfrm>
              <a:off x="8865000" y="3469680"/>
              <a:ext cx="3495960" cy="1447920"/>
              <a:chOff x="8865000" y="3469680"/>
              <a:chExt cx="3495960" cy="1447920"/>
            </a:xfrm>
          </p:grpSpPr>
          <p:sp>
            <p:nvSpPr>
              <p:cNvPr id="256" name="Freeform 41"/>
              <p:cNvSpPr/>
              <p:nvPr/>
            </p:nvSpPr>
            <p:spPr>
              <a:xfrm rot="21360000">
                <a:off x="8880840" y="3590640"/>
                <a:ext cx="347652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2"/>
              <p:cNvSpPr/>
              <p:nvPr/>
            </p:nvSpPr>
            <p:spPr>
              <a:xfrm rot="21360000">
                <a:off x="8889120" y="3639600"/>
                <a:ext cx="198108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3"/>
              <p:cNvSpPr/>
              <p:nvPr/>
            </p:nvSpPr>
            <p:spPr>
              <a:xfrm rot="21360000">
                <a:off x="8937360" y="3594240"/>
                <a:ext cx="324504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Group 44"/>
              <p:cNvGrpSpPr/>
              <p:nvPr/>
            </p:nvGrpSpPr>
            <p:grpSpPr>
              <a:xfrm>
                <a:off x="8914680" y="3692160"/>
                <a:ext cx="3251880" cy="1067400"/>
                <a:chOff x="8914680" y="3692160"/>
                <a:chExt cx="3251880" cy="1067400"/>
              </a:xfrm>
            </p:grpSpPr>
            <p:sp>
              <p:nvSpPr>
                <p:cNvPr id="260" name="Freeform 45"/>
                <p:cNvSpPr/>
                <p:nvPr/>
              </p:nvSpPr>
              <p:spPr>
                <a:xfrm rot="21577200">
                  <a:off x="8917920" y="370368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46"/>
                <p:cNvSpPr/>
                <p:nvPr/>
              </p:nvSpPr>
              <p:spPr>
                <a:xfrm rot="21577200">
                  <a:off x="8919720" y="369828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47"/>
                <p:cNvSpPr/>
                <p:nvPr/>
              </p:nvSpPr>
              <p:spPr>
                <a:xfrm rot="21577200">
                  <a:off x="8916840" y="370404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48"/>
                <p:cNvSpPr/>
                <p:nvPr/>
              </p:nvSpPr>
              <p:spPr>
                <a:xfrm flipH="1" rot="6696600">
                  <a:off x="10434240" y="408780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Freeform 49"/>
              <p:cNvSpPr/>
              <p:nvPr/>
            </p:nvSpPr>
            <p:spPr>
              <a:xfrm rot="21577200">
                <a:off x="8923680" y="3712680"/>
                <a:ext cx="192744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0"/>
              <p:cNvSpPr/>
              <p:nvPr/>
            </p:nvSpPr>
            <p:spPr>
              <a:xfrm rot="21577200">
                <a:off x="8921160" y="3719160"/>
                <a:ext cx="174780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1"/>
              <p:cNvSpPr/>
              <p:nvPr/>
            </p:nvSpPr>
            <p:spPr>
              <a:xfrm flipH="1" rot="6697200">
                <a:off x="10437120" y="4098240"/>
                <a:ext cx="19548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52"/>
              <p:cNvGrpSpPr/>
              <p:nvPr/>
            </p:nvGrpSpPr>
            <p:grpSpPr>
              <a:xfrm>
                <a:off x="8865000" y="3645720"/>
                <a:ext cx="3483000" cy="484560"/>
                <a:chOff x="8865000" y="3645720"/>
                <a:chExt cx="3483000" cy="484560"/>
              </a:xfrm>
            </p:grpSpPr>
            <p:sp>
              <p:nvSpPr>
                <p:cNvPr id="268" name="Freeform 53"/>
                <p:cNvSpPr/>
                <p:nvPr/>
              </p:nvSpPr>
              <p:spPr>
                <a:xfrm flipV="1" rot="21544800">
                  <a:off x="8867880" y="3673440"/>
                  <a:ext cx="347652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54"/>
                <p:cNvSpPr/>
                <p:nvPr/>
              </p:nvSpPr>
              <p:spPr>
                <a:xfrm flipV="1" rot="21544800">
                  <a:off x="8878320" y="3682080"/>
                  <a:ext cx="234936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55"/>
                <p:cNvSpPr/>
                <p:nvPr/>
              </p:nvSpPr>
              <p:spPr>
                <a:xfrm flipV="1" rot="21544800">
                  <a:off x="8870400" y="3691440"/>
                  <a:ext cx="155268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Group 56"/>
            <p:cNvGrpSpPr/>
            <p:nvPr/>
          </p:nvGrpSpPr>
          <p:grpSpPr>
            <a:xfrm>
              <a:off x="9074880" y="3560040"/>
              <a:ext cx="3495240" cy="1447920"/>
              <a:chOff x="9074880" y="3560040"/>
              <a:chExt cx="3495240" cy="1447920"/>
            </a:xfrm>
          </p:grpSpPr>
          <p:sp>
            <p:nvSpPr>
              <p:cNvPr id="272" name="Freeform 57"/>
              <p:cNvSpPr/>
              <p:nvPr/>
            </p:nvSpPr>
            <p:spPr>
              <a:xfrm rot="21360000">
                <a:off x="9090360" y="3681000"/>
                <a:ext cx="347616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58"/>
              <p:cNvSpPr/>
              <p:nvPr/>
            </p:nvSpPr>
            <p:spPr>
              <a:xfrm rot="21360000">
                <a:off x="9098640" y="3729960"/>
                <a:ext cx="198072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59"/>
              <p:cNvSpPr/>
              <p:nvPr/>
            </p:nvSpPr>
            <p:spPr>
              <a:xfrm rot="21360000">
                <a:off x="9146880" y="3684600"/>
                <a:ext cx="324468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60"/>
              <p:cNvGrpSpPr/>
              <p:nvPr/>
            </p:nvGrpSpPr>
            <p:grpSpPr>
              <a:xfrm>
                <a:off x="9124200" y="3782520"/>
                <a:ext cx="3251880" cy="1067400"/>
                <a:chOff x="9124200" y="3782520"/>
                <a:chExt cx="3251880" cy="1067400"/>
              </a:xfrm>
            </p:grpSpPr>
            <p:sp>
              <p:nvSpPr>
                <p:cNvPr id="276" name="Freeform 61"/>
                <p:cNvSpPr/>
                <p:nvPr/>
              </p:nvSpPr>
              <p:spPr>
                <a:xfrm rot="21577200">
                  <a:off x="9127440" y="379404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62"/>
                <p:cNvSpPr/>
                <p:nvPr/>
              </p:nvSpPr>
              <p:spPr>
                <a:xfrm rot="21577200">
                  <a:off x="9129240" y="378864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63"/>
                <p:cNvSpPr/>
                <p:nvPr/>
              </p:nvSpPr>
              <p:spPr>
                <a:xfrm rot="21577200">
                  <a:off x="9126360" y="379440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64"/>
                <p:cNvSpPr/>
                <p:nvPr/>
              </p:nvSpPr>
              <p:spPr>
                <a:xfrm flipH="1" rot="6696600">
                  <a:off x="10643760" y="417816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Freeform 65"/>
              <p:cNvSpPr/>
              <p:nvPr/>
            </p:nvSpPr>
            <p:spPr>
              <a:xfrm rot="21577200">
                <a:off x="9133200" y="3803040"/>
                <a:ext cx="192708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66"/>
              <p:cNvSpPr/>
              <p:nvPr/>
            </p:nvSpPr>
            <p:spPr>
              <a:xfrm rot="21577200">
                <a:off x="9130680" y="3809520"/>
                <a:ext cx="174744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67"/>
              <p:cNvSpPr/>
              <p:nvPr/>
            </p:nvSpPr>
            <p:spPr>
              <a:xfrm flipH="1" rot="6697200">
                <a:off x="10646640" y="4188960"/>
                <a:ext cx="195480" cy="234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Group 68"/>
              <p:cNvGrpSpPr/>
              <p:nvPr/>
            </p:nvGrpSpPr>
            <p:grpSpPr>
              <a:xfrm>
                <a:off x="9074880" y="3736080"/>
                <a:ext cx="3482640" cy="484560"/>
                <a:chOff x="9074880" y="3736080"/>
                <a:chExt cx="3482640" cy="484560"/>
              </a:xfrm>
            </p:grpSpPr>
            <p:sp>
              <p:nvSpPr>
                <p:cNvPr id="284" name="Freeform 69"/>
                <p:cNvSpPr/>
                <p:nvPr/>
              </p:nvSpPr>
              <p:spPr>
                <a:xfrm flipV="1" rot="21544800">
                  <a:off x="9077760" y="3763800"/>
                  <a:ext cx="347616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70"/>
                <p:cNvSpPr/>
                <p:nvPr/>
              </p:nvSpPr>
              <p:spPr>
                <a:xfrm flipV="1" rot="21544800">
                  <a:off x="9087840" y="3772440"/>
                  <a:ext cx="234900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71"/>
                <p:cNvSpPr/>
                <p:nvPr/>
              </p:nvSpPr>
              <p:spPr>
                <a:xfrm flipV="1" rot="21544800">
                  <a:off x="9079920" y="3781800"/>
                  <a:ext cx="155232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72"/>
            <p:cNvGrpSpPr/>
            <p:nvPr/>
          </p:nvGrpSpPr>
          <p:grpSpPr>
            <a:xfrm>
              <a:off x="9271440" y="3650760"/>
              <a:ext cx="3495960" cy="1447920"/>
              <a:chOff x="9271440" y="3650760"/>
              <a:chExt cx="3495960" cy="1447920"/>
            </a:xfrm>
          </p:grpSpPr>
          <p:sp>
            <p:nvSpPr>
              <p:cNvPr id="288" name="Freeform 73"/>
              <p:cNvSpPr/>
              <p:nvPr/>
            </p:nvSpPr>
            <p:spPr>
              <a:xfrm rot="21360000">
                <a:off x="9287280" y="3771720"/>
                <a:ext cx="347652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74"/>
              <p:cNvSpPr/>
              <p:nvPr/>
            </p:nvSpPr>
            <p:spPr>
              <a:xfrm rot="21360000">
                <a:off x="9295560" y="3820680"/>
                <a:ext cx="198108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75"/>
              <p:cNvSpPr/>
              <p:nvPr/>
            </p:nvSpPr>
            <p:spPr>
              <a:xfrm rot="21360000">
                <a:off x="9343800" y="3775320"/>
                <a:ext cx="324504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Group 76"/>
              <p:cNvGrpSpPr/>
              <p:nvPr/>
            </p:nvGrpSpPr>
            <p:grpSpPr>
              <a:xfrm>
                <a:off x="9321120" y="3873240"/>
                <a:ext cx="3251880" cy="1067400"/>
                <a:chOff x="9321120" y="3873240"/>
                <a:chExt cx="3251880" cy="1067400"/>
              </a:xfrm>
            </p:grpSpPr>
            <p:sp>
              <p:nvSpPr>
                <p:cNvPr id="292" name="Freeform 77"/>
                <p:cNvSpPr/>
                <p:nvPr/>
              </p:nvSpPr>
              <p:spPr>
                <a:xfrm rot="21577200">
                  <a:off x="9324360" y="388476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78"/>
                <p:cNvSpPr/>
                <p:nvPr/>
              </p:nvSpPr>
              <p:spPr>
                <a:xfrm rot="21577200">
                  <a:off x="9326160" y="387936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79"/>
                <p:cNvSpPr/>
                <p:nvPr/>
              </p:nvSpPr>
              <p:spPr>
                <a:xfrm rot="21577200">
                  <a:off x="9323280" y="388512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80"/>
                <p:cNvSpPr/>
                <p:nvPr/>
              </p:nvSpPr>
              <p:spPr>
                <a:xfrm flipH="1" rot="6696600">
                  <a:off x="10840680" y="426888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Freeform 81"/>
              <p:cNvSpPr/>
              <p:nvPr/>
            </p:nvSpPr>
            <p:spPr>
              <a:xfrm rot="21577200">
                <a:off x="9330120" y="3893760"/>
                <a:ext cx="192744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82"/>
              <p:cNvSpPr/>
              <p:nvPr/>
            </p:nvSpPr>
            <p:spPr>
              <a:xfrm rot="21577200">
                <a:off x="9327600" y="3900240"/>
                <a:ext cx="174780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83"/>
              <p:cNvSpPr/>
              <p:nvPr/>
            </p:nvSpPr>
            <p:spPr>
              <a:xfrm flipH="1" rot="6697200">
                <a:off x="10843560" y="4279320"/>
                <a:ext cx="195480" cy="23508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9" name="Group 84"/>
              <p:cNvGrpSpPr/>
              <p:nvPr/>
            </p:nvGrpSpPr>
            <p:grpSpPr>
              <a:xfrm>
                <a:off x="9271440" y="3826800"/>
                <a:ext cx="3483000" cy="484560"/>
                <a:chOff x="9271440" y="3826800"/>
                <a:chExt cx="3483000" cy="484560"/>
              </a:xfrm>
            </p:grpSpPr>
            <p:sp>
              <p:nvSpPr>
                <p:cNvPr id="300" name="Freeform 85"/>
                <p:cNvSpPr/>
                <p:nvPr/>
              </p:nvSpPr>
              <p:spPr>
                <a:xfrm flipV="1" rot="21544800">
                  <a:off x="9274320" y="3854520"/>
                  <a:ext cx="347652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86"/>
                <p:cNvSpPr/>
                <p:nvPr/>
              </p:nvSpPr>
              <p:spPr>
                <a:xfrm flipV="1" rot="21544800">
                  <a:off x="9284760" y="3863160"/>
                  <a:ext cx="234936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87"/>
                <p:cNvSpPr/>
                <p:nvPr/>
              </p:nvSpPr>
              <p:spPr>
                <a:xfrm flipV="1" rot="21544800">
                  <a:off x="9276840" y="3872520"/>
                  <a:ext cx="155268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88"/>
            <p:cNvGrpSpPr/>
            <p:nvPr/>
          </p:nvGrpSpPr>
          <p:grpSpPr>
            <a:xfrm>
              <a:off x="9451080" y="3666600"/>
              <a:ext cx="3495240" cy="1447920"/>
              <a:chOff x="9451080" y="3666600"/>
              <a:chExt cx="3495240" cy="1447920"/>
            </a:xfrm>
          </p:grpSpPr>
          <p:sp>
            <p:nvSpPr>
              <p:cNvPr id="304" name="Freeform 89"/>
              <p:cNvSpPr/>
              <p:nvPr/>
            </p:nvSpPr>
            <p:spPr>
              <a:xfrm rot="21360000">
                <a:off x="9466560" y="3787560"/>
                <a:ext cx="3476160" cy="221760"/>
              </a:xfrm>
              <a:custGeom>
                <a:avLst/>
                <a:gdLst/>
                <a:ahLst/>
                <a:rect l="l" t="t" r="r" b="b"/>
                <a:pathLst>
                  <a:path w="2190" h="152">
                    <a:moveTo>
                      <a:pt x="2048" y="0"/>
                    </a:moveTo>
                    <a:lnTo>
                      <a:pt x="2190" y="131"/>
                    </a:lnTo>
                    <a:lnTo>
                      <a:pt x="2078" y="152"/>
                    </a:lnTo>
                    <a:lnTo>
                      <a:pt x="2038" y="112"/>
                    </a:lnTo>
                    <a:lnTo>
                      <a:pt x="0" y="2"/>
                    </a:lnTo>
                    <a:lnTo>
                      <a:pt x="2048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0"/>
              <p:cNvSpPr/>
              <p:nvPr/>
            </p:nvSpPr>
            <p:spPr>
              <a:xfrm rot="21360000">
                <a:off x="9474840" y="3836520"/>
                <a:ext cx="1980720" cy="142920"/>
              </a:xfrm>
              <a:custGeom>
                <a:avLst/>
                <a:gdLst/>
                <a:ahLst/>
                <a:rect l="l" t="t" r="r" b="b"/>
                <a:pathLst>
                  <a:path w="1248" h="98">
                    <a:moveTo>
                      <a:pt x="1220" y="0"/>
                    </a:moveTo>
                    <a:lnTo>
                      <a:pt x="1248" y="98"/>
                    </a:lnTo>
                    <a:lnTo>
                      <a:pt x="0" y="7"/>
                    </a:lnTo>
                    <a:lnTo>
                      <a:pt x="1220" y="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1"/>
              <p:cNvSpPr/>
              <p:nvPr/>
            </p:nvSpPr>
            <p:spPr>
              <a:xfrm rot="21360000">
                <a:off x="9523080" y="3791160"/>
                <a:ext cx="3244680" cy="1211400"/>
              </a:xfrm>
              <a:custGeom>
                <a:avLst/>
                <a:gdLst/>
                <a:ahLst/>
                <a:rect l="l" t="t" r="r" b="b"/>
                <a:pathLst>
                  <a:path w="2044" h="830">
                    <a:moveTo>
                      <a:pt x="1722" y="830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22" y="830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92"/>
              <p:cNvGrpSpPr/>
              <p:nvPr/>
            </p:nvGrpSpPr>
            <p:grpSpPr>
              <a:xfrm>
                <a:off x="9500400" y="3889080"/>
                <a:ext cx="3251880" cy="1067400"/>
                <a:chOff x="9500400" y="3889080"/>
                <a:chExt cx="3251880" cy="1067400"/>
              </a:xfrm>
            </p:grpSpPr>
            <p:sp>
              <p:nvSpPr>
                <p:cNvPr id="308" name="Freeform 93"/>
                <p:cNvSpPr/>
                <p:nvPr/>
              </p:nvSpPr>
              <p:spPr>
                <a:xfrm rot="21577200">
                  <a:off x="9503640" y="3900600"/>
                  <a:ext cx="3244680" cy="1044720"/>
                </a:xfrm>
                <a:custGeom>
                  <a:avLst/>
                  <a:gdLst/>
                  <a:ahLst/>
                  <a:rect l="l" t="t" r="r" b="b"/>
                  <a:pathLst>
                    <a:path w="2044" h="716">
                      <a:moveTo>
                        <a:pt x="1761" y="716"/>
                      </a:moveTo>
                      <a:lnTo>
                        <a:pt x="2044" y="0"/>
                      </a:lnTo>
                      <a:lnTo>
                        <a:pt x="0" y="2"/>
                      </a:lnTo>
                      <a:lnTo>
                        <a:pt x="1761" y="716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94"/>
                <p:cNvSpPr/>
                <p:nvPr/>
              </p:nvSpPr>
              <p:spPr>
                <a:xfrm rot="21577200">
                  <a:off x="9505440" y="3895200"/>
                  <a:ext cx="1927440" cy="637560"/>
                </a:xfrm>
                <a:custGeom>
                  <a:avLst/>
                  <a:gdLst/>
                  <a:ahLst/>
                  <a:rect l="l" t="t" r="r" b="b"/>
                  <a:pathLst>
                    <a:path w="1214" h="437">
                      <a:moveTo>
                        <a:pt x="1048" y="437"/>
                      </a:moveTo>
                      <a:lnTo>
                        <a:pt x="1214" y="19"/>
                      </a:lnTo>
                      <a:lnTo>
                        <a:pt x="0" y="0"/>
                      </a:lnTo>
                      <a:lnTo>
                        <a:pt x="1048" y="437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95"/>
                <p:cNvSpPr/>
                <p:nvPr/>
              </p:nvSpPr>
              <p:spPr>
                <a:xfrm rot="21577200">
                  <a:off x="9502560" y="3900960"/>
                  <a:ext cx="1747800" cy="630360"/>
                </a:xfrm>
                <a:custGeom>
                  <a:avLst/>
                  <a:gdLst/>
                  <a:ahLst/>
                  <a:rect l="l" t="t" r="r" b="b"/>
                  <a:pathLst>
                    <a:path w="1101" h="432">
                      <a:moveTo>
                        <a:pt x="976" y="9"/>
                      </a:moveTo>
                      <a:lnTo>
                        <a:pt x="1101" y="310"/>
                      </a:lnTo>
                      <a:lnTo>
                        <a:pt x="1050" y="432"/>
                      </a:lnTo>
                      <a:lnTo>
                        <a:pt x="0" y="0"/>
                      </a:lnTo>
                      <a:lnTo>
                        <a:pt x="976" y="9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96"/>
                <p:cNvSpPr/>
                <p:nvPr/>
              </p:nvSpPr>
              <p:spPr>
                <a:xfrm flipH="1" rot="6696600">
                  <a:off x="11019960" y="4284720"/>
                  <a:ext cx="195120" cy="235080"/>
                </a:xfrm>
                <a:custGeom>
                  <a:avLst/>
                  <a:gdLst/>
                  <a:ahLst/>
                  <a:rect l="l" t="t" r="r" b="b"/>
                  <a:pathLst>
                    <a:path w="134" h="148">
                      <a:moveTo>
                        <a:pt x="0" y="148"/>
                      </a:moveTo>
                      <a:lnTo>
                        <a:pt x="0" y="0"/>
                      </a:lnTo>
                      <a:lnTo>
                        <a:pt x="134" y="3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Freeform 97"/>
              <p:cNvSpPr/>
              <p:nvPr/>
            </p:nvSpPr>
            <p:spPr>
              <a:xfrm rot="21577200">
                <a:off x="9509400" y="3909600"/>
                <a:ext cx="1927080" cy="637560"/>
              </a:xfrm>
              <a:custGeom>
                <a:avLst/>
                <a:gdLst/>
                <a:ahLst/>
                <a:rect l="l" t="t" r="r" b="b"/>
                <a:pathLst>
                  <a:path w="1214" h="437">
                    <a:moveTo>
                      <a:pt x="1048" y="437"/>
                    </a:moveTo>
                    <a:lnTo>
                      <a:pt x="1214" y="19"/>
                    </a:lnTo>
                    <a:lnTo>
                      <a:pt x="0" y="0"/>
                    </a:lnTo>
                    <a:lnTo>
                      <a:pt x="1048" y="437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98"/>
              <p:cNvSpPr/>
              <p:nvPr/>
            </p:nvSpPr>
            <p:spPr>
              <a:xfrm rot="21577200">
                <a:off x="9506880" y="3916080"/>
                <a:ext cx="1747440" cy="63036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99"/>
              <p:cNvSpPr/>
              <p:nvPr/>
            </p:nvSpPr>
            <p:spPr>
              <a:xfrm flipH="1" rot="6697200">
                <a:off x="11022840" y="4295520"/>
                <a:ext cx="195480" cy="23472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100"/>
              <p:cNvGrpSpPr/>
              <p:nvPr/>
            </p:nvGrpSpPr>
            <p:grpSpPr>
              <a:xfrm>
                <a:off x="9451080" y="3842640"/>
                <a:ext cx="3482640" cy="484560"/>
                <a:chOff x="9451080" y="3842640"/>
                <a:chExt cx="3482640" cy="484560"/>
              </a:xfrm>
            </p:grpSpPr>
            <p:sp>
              <p:nvSpPr>
                <p:cNvPr id="316" name="Freeform 101"/>
                <p:cNvSpPr/>
                <p:nvPr/>
              </p:nvSpPr>
              <p:spPr>
                <a:xfrm flipV="1" rot="21544800">
                  <a:off x="9453960" y="3870360"/>
                  <a:ext cx="3476160" cy="428760"/>
                </a:xfrm>
                <a:custGeom>
                  <a:avLst/>
                  <a:gdLst/>
                  <a:ahLst/>
                  <a:rect l="l" t="t" r="r" b="b"/>
                  <a:pathLst>
                    <a:path w="2190" h="634">
                      <a:moveTo>
                        <a:pt x="2048" y="634"/>
                      </a:moveTo>
                      <a:lnTo>
                        <a:pt x="2190" y="291"/>
                      </a:lnTo>
                      <a:lnTo>
                        <a:pt x="1470" y="0"/>
                      </a:lnTo>
                      <a:lnTo>
                        <a:pt x="0" y="630"/>
                      </a:lnTo>
                      <a:lnTo>
                        <a:pt x="2048" y="634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102"/>
                <p:cNvSpPr/>
                <p:nvPr/>
              </p:nvSpPr>
              <p:spPr>
                <a:xfrm flipV="1" rot="21544800">
                  <a:off x="9464040" y="3879000"/>
                  <a:ext cx="2349000" cy="427680"/>
                </a:xfrm>
                <a:custGeom>
                  <a:avLst/>
                  <a:gdLst/>
                  <a:ahLst/>
                  <a:rect l="l" t="t" r="r" b="b"/>
                  <a:pathLst>
                    <a:path w="1480" h="632">
                      <a:moveTo>
                        <a:pt x="1220" y="632"/>
                      </a:moveTo>
                      <a:lnTo>
                        <a:pt x="1480" y="0"/>
                      </a:lnTo>
                      <a:lnTo>
                        <a:pt x="0" y="613"/>
                      </a:lnTo>
                      <a:lnTo>
                        <a:pt x="1220" y="632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03"/>
                <p:cNvSpPr/>
                <p:nvPr/>
              </p:nvSpPr>
              <p:spPr>
                <a:xfrm flipV="1" rot="21544800">
                  <a:off x="9456120" y="3888360"/>
                  <a:ext cx="1552320" cy="242640"/>
                </a:xfrm>
                <a:custGeom>
                  <a:avLst/>
                  <a:gdLst/>
                  <a:ahLst/>
                  <a:rect l="l" t="t" r="r" b="b"/>
                  <a:pathLst>
                    <a:path w="978" h="359">
                      <a:moveTo>
                        <a:pt x="833" y="0"/>
                      </a:moveTo>
                      <a:lnTo>
                        <a:pt x="978" y="359"/>
                      </a:lnTo>
                      <a:lnTo>
                        <a:pt x="0" y="357"/>
                      </a:lnTo>
                      <a:lnTo>
                        <a:pt x="4" y="348"/>
                      </a:lnTo>
                      <a:lnTo>
                        <a:pt x="833" y="0"/>
                      </a:lnTo>
                      <a:close/>
                    </a:path>
                  </a:pathLst>
                </a:cu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38728E-006 C -0.00139 -0.00185 -0.00278 -0.0037 0.01459 -0.00277 C 0.03195 -0.00185 0.06979 -0.00416 0.10417 0.00555 C 0.13854 0.01526 0.20139 0.04717 0.22084 0.05549 E">
                                      <p:cBhvr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84 0.05555 C 0.16875 0.03449 -0.02587 -0.04306 -0.09045 -0.06875 E">
                                      <p:cBhvr>
                                        <p:cTn id="189" dur="4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9045 -0.06875 L -1.3901 -0.48195 E">
                                      <p:cBhvr>
                                        <p:cTn id="191" dur="3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132"/>
          <p:cNvGrpSpPr/>
          <p:nvPr/>
        </p:nvGrpSpPr>
        <p:grpSpPr>
          <a:xfrm>
            <a:off x="-11337840" y="-4078440"/>
            <a:ext cx="18613440" cy="7426440"/>
            <a:chOff x="-11337840" y="-4078440"/>
            <a:chExt cx="18613440" cy="7426440"/>
          </a:xfrm>
        </p:grpSpPr>
        <p:grpSp>
          <p:nvGrpSpPr>
            <p:cNvPr id="320" name="Group 113"/>
            <p:cNvGrpSpPr/>
            <p:nvPr/>
          </p:nvGrpSpPr>
          <p:grpSpPr>
            <a:xfrm>
              <a:off x="729000" y="-3313440"/>
              <a:ext cx="6546240" cy="2746080"/>
              <a:chOff x="729000" y="-3313440"/>
              <a:chExt cx="6546240" cy="2746080"/>
            </a:xfrm>
          </p:grpSpPr>
          <p:sp>
            <p:nvSpPr>
              <p:cNvPr id="321" name="Freeform 114"/>
              <p:cNvSpPr/>
              <p:nvPr/>
            </p:nvSpPr>
            <p:spPr>
              <a:xfrm>
                <a:off x="729000" y="-2867760"/>
                <a:ext cx="2777040" cy="2300400"/>
              </a:xfrm>
              <a:custGeom>
                <a:avLst/>
                <a:gdLst/>
                <a:ahLst/>
                <a:rect l="l" t="t" r="r" b="b"/>
                <a:pathLst>
                  <a:path w="967" h="801">
                    <a:moveTo>
                      <a:pt x="442" y="18"/>
                    </a:moveTo>
                    <a:lnTo>
                      <a:pt x="448" y="12"/>
                    </a:lnTo>
                    <a:lnTo>
                      <a:pt x="454" y="6"/>
                    </a:lnTo>
                    <a:lnTo>
                      <a:pt x="460" y="0"/>
                    </a:lnTo>
                    <a:lnTo>
                      <a:pt x="466" y="0"/>
                    </a:lnTo>
                    <a:lnTo>
                      <a:pt x="472" y="0"/>
                    </a:lnTo>
                    <a:lnTo>
                      <a:pt x="478" y="6"/>
                    </a:lnTo>
                    <a:lnTo>
                      <a:pt x="484" y="12"/>
                    </a:lnTo>
                    <a:lnTo>
                      <a:pt x="490" y="18"/>
                    </a:lnTo>
                    <a:lnTo>
                      <a:pt x="490" y="137"/>
                    </a:lnTo>
                    <a:lnTo>
                      <a:pt x="735" y="137"/>
                    </a:lnTo>
                    <a:lnTo>
                      <a:pt x="735" y="18"/>
                    </a:lnTo>
                    <a:lnTo>
                      <a:pt x="741" y="12"/>
                    </a:lnTo>
                    <a:lnTo>
                      <a:pt x="747" y="6"/>
                    </a:lnTo>
                    <a:lnTo>
                      <a:pt x="753" y="0"/>
                    </a:lnTo>
                    <a:lnTo>
                      <a:pt x="759" y="0"/>
                    </a:lnTo>
                    <a:lnTo>
                      <a:pt x="764" y="0"/>
                    </a:lnTo>
                    <a:lnTo>
                      <a:pt x="770" y="6"/>
                    </a:lnTo>
                    <a:lnTo>
                      <a:pt x="776" y="12"/>
                    </a:lnTo>
                    <a:lnTo>
                      <a:pt x="782" y="18"/>
                    </a:lnTo>
                    <a:lnTo>
                      <a:pt x="782" y="137"/>
                    </a:lnTo>
                    <a:lnTo>
                      <a:pt x="896" y="137"/>
                    </a:lnTo>
                    <a:lnTo>
                      <a:pt x="902" y="143"/>
                    </a:lnTo>
                    <a:lnTo>
                      <a:pt x="908" y="149"/>
                    </a:lnTo>
                    <a:lnTo>
                      <a:pt x="914" y="155"/>
                    </a:lnTo>
                    <a:lnTo>
                      <a:pt x="914" y="161"/>
                    </a:lnTo>
                    <a:lnTo>
                      <a:pt x="914" y="167"/>
                    </a:lnTo>
                    <a:lnTo>
                      <a:pt x="908" y="173"/>
                    </a:lnTo>
                    <a:lnTo>
                      <a:pt x="902" y="173"/>
                    </a:lnTo>
                    <a:lnTo>
                      <a:pt x="896" y="179"/>
                    </a:lnTo>
                    <a:lnTo>
                      <a:pt x="782" y="179"/>
                    </a:lnTo>
                    <a:lnTo>
                      <a:pt x="782" y="401"/>
                    </a:lnTo>
                    <a:lnTo>
                      <a:pt x="926" y="401"/>
                    </a:lnTo>
                    <a:lnTo>
                      <a:pt x="938" y="406"/>
                    </a:lnTo>
                    <a:lnTo>
                      <a:pt x="944" y="412"/>
                    </a:lnTo>
                    <a:lnTo>
                      <a:pt x="950" y="418"/>
                    </a:lnTo>
                    <a:lnTo>
                      <a:pt x="950" y="424"/>
                    </a:lnTo>
                    <a:lnTo>
                      <a:pt x="950" y="430"/>
                    </a:lnTo>
                    <a:lnTo>
                      <a:pt x="944" y="436"/>
                    </a:lnTo>
                    <a:lnTo>
                      <a:pt x="938" y="436"/>
                    </a:lnTo>
                    <a:lnTo>
                      <a:pt x="926" y="442"/>
                    </a:lnTo>
                    <a:lnTo>
                      <a:pt x="782" y="442"/>
                    </a:lnTo>
                    <a:lnTo>
                      <a:pt x="782" y="723"/>
                    </a:lnTo>
                    <a:lnTo>
                      <a:pt x="776" y="729"/>
                    </a:lnTo>
                    <a:lnTo>
                      <a:pt x="770" y="729"/>
                    </a:lnTo>
                    <a:lnTo>
                      <a:pt x="764" y="735"/>
                    </a:lnTo>
                    <a:lnTo>
                      <a:pt x="759" y="735"/>
                    </a:lnTo>
                    <a:lnTo>
                      <a:pt x="753" y="735"/>
                    </a:lnTo>
                    <a:lnTo>
                      <a:pt x="747" y="729"/>
                    </a:lnTo>
                    <a:lnTo>
                      <a:pt x="741" y="729"/>
                    </a:lnTo>
                    <a:lnTo>
                      <a:pt x="735" y="723"/>
                    </a:lnTo>
                    <a:lnTo>
                      <a:pt x="735" y="442"/>
                    </a:lnTo>
                    <a:lnTo>
                      <a:pt x="490" y="442"/>
                    </a:lnTo>
                    <a:lnTo>
                      <a:pt x="490" y="472"/>
                    </a:lnTo>
                    <a:lnTo>
                      <a:pt x="484" y="502"/>
                    </a:lnTo>
                    <a:lnTo>
                      <a:pt x="478" y="538"/>
                    </a:lnTo>
                    <a:lnTo>
                      <a:pt x="472" y="568"/>
                    </a:lnTo>
                    <a:lnTo>
                      <a:pt x="454" y="604"/>
                    </a:lnTo>
                    <a:lnTo>
                      <a:pt x="436" y="634"/>
                    </a:lnTo>
                    <a:lnTo>
                      <a:pt x="418" y="670"/>
                    </a:lnTo>
                    <a:lnTo>
                      <a:pt x="394" y="705"/>
                    </a:lnTo>
                    <a:lnTo>
                      <a:pt x="382" y="711"/>
                    </a:lnTo>
                    <a:lnTo>
                      <a:pt x="376" y="711"/>
                    </a:lnTo>
                    <a:lnTo>
                      <a:pt x="371" y="711"/>
                    </a:lnTo>
                    <a:lnTo>
                      <a:pt x="365" y="711"/>
                    </a:lnTo>
                    <a:lnTo>
                      <a:pt x="359" y="711"/>
                    </a:lnTo>
                    <a:lnTo>
                      <a:pt x="359" y="705"/>
                    </a:lnTo>
                    <a:lnTo>
                      <a:pt x="353" y="693"/>
                    </a:lnTo>
                    <a:lnTo>
                      <a:pt x="353" y="688"/>
                    </a:lnTo>
                    <a:lnTo>
                      <a:pt x="376" y="652"/>
                    </a:lnTo>
                    <a:lnTo>
                      <a:pt x="394" y="622"/>
                    </a:lnTo>
                    <a:lnTo>
                      <a:pt x="412" y="592"/>
                    </a:lnTo>
                    <a:lnTo>
                      <a:pt x="424" y="562"/>
                    </a:lnTo>
                    <a:lnTo>
                      <a:pt x="430" y="532"/>
                    </a:lnTo>
                    <a:lnTo>
                      <a:pt x="436" y="502"/>
                    </a:lnTo>
                    <a:lnTo>
                      <a:pt x="442" y="472"/>
                    </a:lnTo>
                    <a:lnTo>
                      <a:pt x="442" y="442"/>
                    </a:lnTo>
                    <a:lnTo>
                      <a:pt x="299" y="442"/>
                    </a:lnTo>
                    <a:lnTo>
                      <a:pt x="293" y="436"/>
                    </a:lnTo>
                    <a:lnTo>
                      <a:pt x="287" y="436"/>
                    </a:lnTo>
                    <a:lnTo>
                      <a:pt x="281" y="430"/>
                    </a:lnTo>
                    <a:lnTo>
                      <a:pt x="281" y="424"/>
                    </a:lnTo>
                    <a:lnTo>
                      <a:pt x="281" y="418"/>
                    </a:lnTo>
                    <a:lnTo>
                      <a:pt x="287" y="412"/>
                    </a:lnTo>
                    <a:lnTo>
                      <a:pt x="293" y="406"/>
                    </a:lnTo>
                    <a:lnTo>
                      <a:pt x="299" y="401"/>
                    </a:lnTo>
                    <a:lnTo>
                      <a:pt x="442" y="401"/>
                    </a:lnTo>
                    <a:lnTo>
                      <a:pt x="442" y="179"/>
                    </a:lnTo>
                    <a:lnTo>
                      <a:pt x="311" y="179"/>
                    </a:lnTo>
                    <a:lnTo>
                      <a:pt x="305" y="173"/>
                    </a:lnTo>
                    <a:lnTo>
                      <a:pt x="299" y="173"/>
                    </a:lnTo>
                    <a:lnTo>
                      <a:pt x="299" y="167"/>
                    </a:lnTo>
                    <a:lnTo>
                      <a:pt x="299" y="161"/>
                    </a:lnTo>
                    <a:lnTo>
                      <a:pt x="299" y="155"/>
                    </a:lnTo>
                    <a:lnTo>
                      <a:pt x="299" y="149"/>
                    </a:lnTo>
                    <a:lnTo>
                      <a:pt x="305" y="143"/>
                    </a:lnTo>
                    <a:lnTo>
                      <a:pt x="311" y="137"/>
                    </a:lnTo>
                    <a:lnTo>
                      <a:pt x="442" y="137"/>
                    </a:lnTo>
                    <a:lnTo>
                      <a:pt x="442" y="18"/>
                    </a:lnTo>
                    <a:lnTo>
                      <a:pt x="442" y="18"/>
                    </a:lnTo>
                    <a:close/>
                    <a:moveTo>
                      <a:pt x="735" y="179"/>
                    </a:moveTo>
                    <a:lnTo>
                      <a:pt x="490" y="179"/>
                    </a:lnTo>
                    <a:lnTo>
                      <a:pt x="490" y="401"/>
                    </a:lnTo>
                    <a:lnTo>
                      <a:pt x="735" y="401"/>
                    </a:lnTo>
                    <a:lnTo>
                      <a:pt x="735" y="179"/>
                    </a:lnTo>
                    <a:lnTo>
                      <a:pt x="735" y="179"/>
                    </a:lnTo>
                    <a:close/>
                    <a:moveTo>
                      <a:pt x="24" y="275"/>
                    </a:moveTo>
                    <a:lnTo>
                      <a:pt x="138" y="275"/>
                    </a:lnTo>
                    <a:lnTo>
                      <a:pt x="156" y="281"/>
                    </a:lnTo>
                    <a:lnTo>
                      <a:pt x="174" y="281"/>
                    </a:lnTo>
                    <a:lnTo>
                      <a:pt x="185" y="287"/>
                    </a:lnTo>
                    <a:lnTo>
                      <a:pt x="197" y="299"/>
                    </a:lnTo>
                    <a:lnTo>
                      <a:pt x="209" y="305"/>
                    </a:lnTo>
                    <a:lnTo>
                      <a:pt x="215" y="323"/>
                    </a:lnTo>
                    <a:lnTo>
                      <a:pt x="215" y="335"/>
                    </a:lnTo>
                    <a:lnTo>
                      <a:pt x="215" y="353"/>
                    </a:lnTo>
                    <a:lnTo>
                      <a:pt x="215" y="580"/>
                    </a:lnTo>
                    <a:lnTo>
                      <a:pt x="233" y="604"/>
                    </a:lnTo>
                    <a:lnTo>
                      <a:pt x="245" y="628"/>
                    </a:lnTo>
                    <a:lnTo>
                      <a:pt x="263" y="646"/>
                    </a:lnTo>
                    <a:lnTo>
                      <a:pt x="287" y="664"/>
                    </a:lnTo>
                    <a:lnTo>
                      <a:pt x="305" y="682"/>
                    </a:lnTo>
                    <a:lnTo>
                      <a:pt x="323" y="699"/>
                    </a:lnTo>
                    <a:lnTo>
                      <a:pt x="347" y="711"/>
                    </a:lnTo>
                    <a:lnTo>
                      <a:pt x="371" y="723"/>
                    </a:lnTo>
                    <a:lnTo>
                      <a:pt x="394" y="735"/>
                    </a:lnTo>
                    <a:lnTo>
                      <a:pt x="418" y="741"/>
                    </a:lnTo>
                    <a:lnTo>
                      <a:pt x="442" y="753"/>
                    </a:lnTo>
                    <a:lnTo>
                      <a:pt x="472" y="759"/>
                    </a:lnTo>
                    <a:lnTo>
                      <a:pt x="496" y="759"/>
                    </a:lnTo>
                    <a:lnTo>
                      <a:pt x="526" y="765"/>
                    </a:lnTo>
                    <a:lnTo>
                      <a:pt x="556" y="765"/>
                    </a:lnTo>
                    <a:lnTo>
                      <a:pt x="585" y="765"/>
                    </a:lnTo>
                    <a:lnTo>
                      <a:pt x="944" y="765"/>
                    </a:lnTo>
                    <a:lnTo>
                      <a:pt x="950" y="765"/>
                    </a:lnTo>
                    <a:lnTo>
                      <a:pt x="961" y="771"/>
                    </a:lnTo>
                    <a:lnTo>
                      <a:pt x="961" y="777"/>
                    </a:lnTo>
                    <a:lnTo>
                      <a:pt x="967" y="783"/>
                    </a:lnTo>
                    <a:lnTo>
                      <a:pt x="961" y="789"/>
                    </a:lnTo>
                    <a:lnTo>
                      <a:pt x="961" y="795"/>
                    </a:lnTo>
                    <a:lnTo>
                      <a:pt x="950" y="801"/>
                    </a:lnTo>
                    <a:lnTo>
                      <a:pt x="944" y="801"/>
                    </a:lnTo>
                    <a:lnTo>
                      <a:pt x="585" y="801"/>
                    </a:lnTo>
                    <a:lnTo>
                      <a:pt x="556" y="801"/>
                    </a:lnTo>
                    <a:lnTo>
                      <a:pt x="526" y="801"/>
                    </a:lnTo>
                    <a:lnTo>
                      <a:pt x="496" y="801"/>
                    </a:lnTo>
                    <a:lnTo>
                      <a:pt x="472" y="795"/>
                    </a:lnTo>
                    <a:lnTo>
                      <a:pt x="442" y="789"/>
                    </a:lnTo>
                    <a:lnTo>
                      <a:pt x="418" y="783"/>
                    </a:lnTo>
                    <a:lnTo>
                      <a:pt x="394" y="777"/>
                    </a:lnTo>
                    <a:lnTo>
                      <a:pt x="365" y="771"/>
                    </a:lnTo>
                    <a:lnTo>
                      <a:pt x="347" y="759"/>
                    </a:lnTo>
                    <a:lnTo>
                      <a:pt x="323" y="747"/>
                    </a:lnTo>
                    <a:lnTo>
                      <a:pt x="299" y="735"/>
                    </a:lnTo>
                    <a:lnTo>
                      <a:pt x="281" y="723"/>
                    </a:lnTo>
                    <a:lnTo>
                      <a:pt x="257" y="705"/>
                    </a:lnTo>
                    <a:lnTo>
                      <a:pt x="239" y="688"/>
                    </a:lnTo>
                    <a:lnTo>
                      <a:pt x="227" y="670"/>
                    </a:lnTo>
                    <a:lnTo>
                      <a:pt x="209" y="652"/>
                    </a:lnTo>
                    <a:lnTo>
                      <a:pt x="197" y="670"/>
                    </a:lnTo>
                    <a:lnTo>
                      <a:pt x="179" y="688"/>
                    </a:lnTo>
                    <a:lnTo>
                      <a:pt x="162" y="705"/>
                    </a:lnTo>
                    <a:lnTo>
                      <a:pt x="144" y="723"/>
                    </a:lnTo>
                    <a:lnTo>
                      <a:pt x="120" y="741"/>
                    </a:lnTo>
                    <a:lnTo>
                      <a:pt x="102" y="759"/>
                    </a:lnTo>
                    <a:lnTo>
                      <a:pt x="72" y="771"/>
                    </a:lnTo>
                    <a:lnTo>
                      <a:pt x="48" y="789"/>
                    </a:lnTo>
                    <a:lnTo>
                      <a:pt x="36" y="789"/>
                    </a:lnTo>
                    <a:lnTo>
                      <a:pt x="24" y="789"/>
                    </a:lnTo>
                    <a:lnTo>
                      <a:pt x="18" y="783"/>
                    </a:lnTo>
                    <a:lnTo>
                      <a:pt x="18" y="783"/>
                    </a:lnTo>
                    <a:lnTo>
                      <a:pt x="12" y="777"/>
                    </a:lnTo>
                    <a:lnTo>
                      <a:pt x="12" y="771"/>
                    </a:lnTo>
                    <a:lnTo>
                      <a:pt x="18" y="765"/>
                    </a:lnTo>
                    <a:lnTo>
                      <a:pt x="24" y="753"/>
                    </a:lnTo>
                    <a:lnTo>
                      <a:pt x="42" y="741"/>
                    </a:lnTo>
                    <a:lnTo>
                      <a:pt x="60" y="735"/>
                    </a:lnTo>
                    <a:lnTo>
                      <a:pt x="72" y="723"/>
                    </a:lnTo>
                    <a:lnTo>
                      <a:pt x="90" y="711"/>
                    </a:lnTo>
                    <a:lnTo>
                      <a:pt x="102" y="699"/>
                    </a:lnTo>
                    <a:lnTo>
                      <a:pt x="114" y="688"/>
                    </a:lnTo>
                    <a:lnTo>
                      <a:pt x="126" y="682"/>
                    </a:lnTo>
                    <a:lnTo>
                      <a:pt x="132" y="670"/>
                    </a:lnTo>
                    <a:lnTo>
                      <a:pt x="144" y="658"/>
                    </a:lnTo>
                    <a:lnTo>
                      <a:pt x="150" y="652"/>
                    </a:lnTo>
                    <a:lnTo>
                      <a:pt x="156" y="640"/>
                    </a:lnTo>
                    <a:lnTo>
                      <a:pt x="162" y="628"/>
                    </a:lnTo>
                    <a:lnTo>
                      <a:pt x="162" y="616"/>
                    </a:lnTo>
                    <a:lnTo>
                      <a:pt x="168" y="610"/>
                    </a:lnTo>
                    <a:lnTo>
                      <a:pt x="168" y="598"/>
                    </a:lnTo>
                    <a:lnTo>
                      <a:pt x="168" y="592"/>
                    </a:lnTo>
                    <a:lnTo>
                      <a:pt x="168" y="359"/>
                    </a:lnTo>
                    <a:lnTo>
                      <a:pt x="168" y="353"/>
                    </a:lnTo>
                    <a:lnTo>
                      <a:pt x="168" y="341"/>
                    </a:lnTo>
                    <a:lnTo>
                      <a:pt x="168" y="335"/>
                    </a:lnTo>
                    <a:lnTo>
                      <a:pt x="162" y="329"/>
                    </a:lnTo>
                    <a:lnTo>
                      <a:pt x="156" y="323"/>
                    </a:lnTo>
                    <a:lnTo>
                      <a:pt x="150" y="323"/>
                    </a:lnTo>
                    <a:lnTo>
                      <a:pt x="138" y="323"/>
                    </a:lnTo>
                    <a:lnTo>
                      <a:pt x="126" y="317"/>
                    </a:lnTo>
                    <a:lnTo>
                      <a:pt x="24" y="317"/>
                    </a:lnTo>
                    <a:lnTo>
                      <a:pt x="12" y="317"/>
                    </a:lnTo>
                    <a:lnTo>
                      <a:pt x="6" y="311"/>
                    </a:lnTo>
                    <a:lnTo>
                      <a:pt x="0" y="305"/>
                    </a:lnTo>
                    <a:lnTo>
                      <a:pt x="0" y="299"/>
                    </a:lnTo>
                    <a:lnTo>
                      <a:pt x="0" y="293"/>
                    </a:lnTo>
                    <a:lnTo>
                      <a:pt x="6" y="287"/>
                    </a:lnTo>
                    <a:lnTo>
                      <a:pt x="12" y="281"/>
                    </a:lnTo>
                    <a:lnTo>
                      <a:pt x="24" y="275"/>
                    </a:lnTo>
                    <a:lnTo>
                      <a:pt x="24" y="275"/>
                    </a:lnTo>
                    <a:close/>
                    <a:moveTo>
                      <a:pt x="120" y="24"/>
                    </a:moveTo>
                    <a:lnTo>
                      <a:pt x="150" y="60"/>
                    </a:lnTo>
                    <a:lnTo>
                      <a:pt x="162" y="78"/>
                    </a:lnTo>
                    <a:lnTo>
                      <a:pt x="174" y="96"/>
                    </a:lnTo>
                    <a:lnTo>
                      <a:pt x="191" y="119"/>
                    </a:lnTo>
                    <a:lnTo>
                      <a:pt x="203" y="143"/>
                    </a:lnTo>
                    <a:lnTo>
                      <a:pt x="221" y="161"/>
                    </a:lnTo>
                    <a:lnTo>
                      <a:pt x="233" y="185"/>
                    </a:lnTo>
                    <a:lnTo>
                      <a:pt x="233" y="197"/>
                    </a:lnTo>
                    <a:lnTo>
                      <a:pt x="227" y="203"/>
                    </a:lnTo>
                    <a:lnTo>
                      <a:pt x="227" y="209"/>
                    </a:lnTo>
                    <a:lnTo>
                      <a:pt x="221" y="215"/>
                    </a:lnTo>
                    <a:lnTo>
                      <a:pt x="215" y="215"/>
                    </a:lnTo>
                    <a:lnTo>
                      <a:pt x="209" y="215"/>
                    </a:lnTo>
                    <a:lnTo>
                      <a:pt x="203" y="215"/>
                    </a:lnTo>
                    <a:lnTo>
                      <a:pt x="191" y="215"/>
                    </a:lnTo>
                    <a:lnTo>
                      <a:pt x="174" y="191"/>
                    </a:lnTo>
                    <a:lnTo>
                      <a:pt x="162" y="161"/>
                    </a:lnTo>
                    <a:lnTo>
                      <a:pt x="144" y="137"/>
                    </a:lnTo>
                    <a:lnTo>
                      <a:pt x="132" y="119"/>
                    </a:lnTo>
                    <a:lnTo>
                      <a:pt x="120" y="96"/>
                    </a:lnTo>
                    <a:lnTo>
                      <a:pt x="102" y="78"/>
                    </a:lnTo>
                    <a:lnTo>
                      <a:pt x="90" y="60"/>
                    </a:lnTo>
                    <a:lnTo>
                      <a:pt x="78" y="42"/>
                    </a:lnTo>
                    <a:lnTo>
                      <a:pt x="78" y="36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5428800" y="-3313440"/>
                <a:ext cx="1846440" cy="1530720"/>
              </a:xfrm>
              <a:custGeom>
                <a:avLst/>
                <a:gdLst/>
                <a:ahLst/>
                <a:rect l="l" t="t" r="r" b="b"/>
                <a:pathLst>
                  <a:path w="967" h="801">
                    <a:moveTo>
                      <a:pt x="561" y="42"/>
                    </a:moveTo>
                    <a:lnTo>
                      <a:pt x="842" y="42"/>
                    </a:lnTo>
                    <a:lnTo>
                      <a:pt x="860" y="48"/>
                    </a:lnTo>
                    <a:lnTo>
                      <a:pt x="878" y="48"/>
                    </a:lnTo>
                    <a:lnTo>
                      <a:pt x="889" y="54"/>
                    </a:lnTo>
                    <a:lnTo>
                      <a:pt x="901" y="60"/>
                    </a:lnTo>
                    <a:lnTo>
                      <a:pt x="913" y="72"/>
                    </a:lnTo>
                    <a:lnTo>
                      <a:pt x="919" y="84"/>
                    </a:lnTo>
                    <a:lnTo>
                      <a:pt x="925" y="102"/>
                    </a:lnTo>
                    <a:lnTo>
                      <a:pt x="925" y="119"/>
                    </a:lnTo>
                    <a:lnTo>
                      <a:pt x="925" y="149"/>
                    </a:lnTo>
                    <a:lnTo>
                      <a:pt x="919" y="173"/>
                    </a:lnTo>
                    <a:lnTo>
                      <a:pt x="919" y="197"/>
                    </a:lnTo>
                    <a:lnTo>
                      <a:pt x="913" y="227"/>
                    </a:lnTo>
                    <a:lnTo>
                      <a:pt x="907" y="251"/>
                    </a:lnTo>
                    <a:lnTo>
                      <a:pt x="901" y="281"/>
                    </a:lnTo>
                    <a:lnTo>
                      <a:pt x="895" y="305"/>
                    </a:lnTo>
                    <a:lnTo>
                      <a:pt x="884" y="335"/>
                    </a:lnTo>
                    <a:lnTo>
                      <a:pt x="878" y="365"/>
                    </a:lnTo>
                    <a:lnTo>
                      <a:pt x="866" y="389"/>
                    </a:lnTo>
                    <a:lnTo>
                      <a:pt x="854" y="418"/>
                    </a:lnTo>
                    <a:lnTo>
                      <a:pt x="842" y="442"/>
                    </a:lnTo>
                    <a:lnTo>
                      <a:pt x="824" y="472"/>
                    </a:lnTo>
                    <a:lnTo>
                      <a:pt x="812" y="502"/>
                    </a:lnTo>
                    <a:lnTo>
                      <a:pt x="794" y="526"/>
                    </a:lnTo>
                    <a:lnTo>
                      <a:pt x="782" y="556"/>
                    </a:lnTo>
                    <a:lnTo>
                      <a:pt x="800" y="586"/>
                    </a:lnTo>
                    <a:lnTo>
                      <a:pt x="818" y="616"/>
                    </a:lnTo>
                    <a:lnTo>
                      <a:pt x="842" y="640"/>
                    </a:lnTo>
                    <a:lnTo>
                      <a:pt x="866" y="664"/>
                    </a:lnTo>
                    <a:lnTo>
                      <a:pt x="889" y="687"/>
                    </a:lnTo>
                    <a:lnTo>
                      <a:pt x="913" y="711"/>
                    </a:lnTo>
                    <a:lnTo>
                      <a:pt x="967" y="759"/>
                    </a:lnTo>
                    <a:lnTo>
                      <a:pt x="967" y="765"/>
                    </a:lnTo>
                    <a:lnTo>
                      <a:pt x="967" y="771"/>
                    </a:lnTo>
                    <a:lnTo>
                      <a:pt x="961" y="783"/>
                    </a:lnTo>
                    <a:lnTo>
                      <a:pt x="961" y="783"/>
                    </a:lnTo>
                    <a:lnTo>
                      <a:pt x="955" y="789"/>
                    </a:lnTo>
                    <a:lnTo>
                      <a:pt x="949" y="789"/>
                    </a:lnTo>
                    <a:lnTo>
                      <a:pt x="943" y="789"/>
                    </a:lnTo>
                    <a:lnTo>
                      <a:pt x="931" y="789"/>
                    </a:lnTo>
                    <a:lnTo>
                      <a:pt x="907" y="771"/>
                    </a:lnTo>
                    <a:lnTo>
                      <a:pt x="884" y="747"/>
                    </a:lnTo>
                    <a:lnTo>
                      <a:pt x="860" y="729"/>
                    </a:lnTo>
                    <a:lnTo>
                      <a:pt x="836" y="705"/>
                    </a:lnTo>
                    <a:lnTo>
                      <a:pt x="812" y="682"/>
                    </a:lnTo>
                    <a:lnTo>
                      <a:pt x="788" y="652"/>
                    </a:lnTo>
                    <a:lnTo>
                      <a:pt x="764" y="628"/>
                    </a:lnTo>
                    <a:lnTo>
                      <a:pt x="746" y="598"/>
                    </a:lnTo>
                    <a:lnTo>
                      <a:pt x="722" y="628"/>
                    </a:lnTo>
                    <a:lnTo>
                      <a:pt x="698" y="658"/>
                    </a:lnTo>
                    <a:lnTo>
                      <a:pt x="675" y="682"/>
                    </a:lnTo>
                    <a:lnTo>
                      <a:pt x="645" y="705"/>
                    </a:lnTo>
                    <a:lnTo>
                      <a:pt x="621" y="729"/>
                    </a:lnTo>
                    <a:lnTo>
                      <a:pt x="597" y="753"/>
                    </a:lnTo>
                    <a:lnTo>
                      <a:pt x="573" y="771"/>
                    </a:lnTo>
                    <a:lnTo>
                      <a:pt x="543" y="789"/>
                    </a:lnTo>
                    <a:lnTo>
                      <a:pt x="531" y="789"/>
                    </a:lnTo>
                    <a:lnTo>
                      <a:pt x="525" y="789"/>
                    </a:lnTo>
                    <a:lnTo>
                      <a:pt x="519" y="789"/>
                    </a:lnTo>
                    <a:lnTo>
                      <a:pt x="513" y="783"/>
                    </a:lnTo>
                    <a:lnTo>
                      <a:pt x="507" y="783"/>
                    </a:lnTo>
                    <a:lnTo>
                      <a:pt x="507" y="771"/>
                    </a:lnTo>
                    <a:lnTo>
                      <a:pt x="507" y="765"/>
                    </a:lnTo>
                    <a:lnTo>
                      <a:pt x="513" y="759"/>
                    </a:lnTo>
                    <a:lnTo>
                      <a:pt x="549" y="729"/>
                    </a:lnTo>
                    <a:lnTo>
                      <a:pt x="579" y="699"/>
                    </a:lnTo>
                    <a:lnTo>
                      <a:pt x="609" y="670"/>
                    </a:lnTo>
                    <a:lnTo>
                      <a:pt x="639" y="646"/>
                    </a:lnTo>
                    <a:lnTo>
                      <a:pt x="663" y="622"/>
                    </a:lnTo>
                    <a:lnTo>
                      <a:pt x="681" y="592"/>
                    </a:lnTo>
                    <a:lnTo>
                      <a:pt x="698" y="574"/>
                    </a:lnTo>
                    <a:lnTo>
                      <a:pt x="716" y="550"/>
                    </a:lnTo>
                    <a:lnTo>
                      <a:pt x="704" y="526"/>
                    </a:lnTo>
                    <a:lnTo>
                      <a:pt x="693" y="502"/>
                    </a:lnTo>
                    <a:lnTo>
                      <a:pt x="681" y="484"/>
                    </a:lnTo>
                    <a:lnTo>
                      <a:pt x="669" y="454"/>
                    </a:lnTo>
                    <a:lnTo>
                      <a:pt x="663" y="430"/>
                    </a:lnTo>
                    <a:lnTo>
                      <a:pt x="651" y="406"/>
                    </a:lnTo>
                    <a:lnTo>
                      <a:pt x="639" y="377"/>
                    </a:lnTo>
                    <a:lnTo>
                      <a:pt x="633" y="347"/>
                    </a:lnTo>
                    <a:lnTo>
                      <a:pt x="627" y="323"/>
                    </a:lnTo>
                    <a:lnTo>
                      <a:pt x="615" y="287"/>
                    </a:lnTo>
                    <a:lnTo>
                      <a:pt x="609" y="257"/>
                    </a:lnTo>
                    <a:lnTo>
                      <a:pt x="603" y="227"/>
                    </a:lnTo>
                    <a:lnTo>
                      <a:pt x="597" y="191"/>
                    </a:lnTo>
                    <a:lnTo>
                      <a:pt x="591" y="155"/>
                    </a:lnTo>
                    <a:lnTo>
                      <a:pt x="585" y="119"/>
                    </a:lnTo>
                    <a:lnTo>
                      <a:pt x="579" y="84"/>
                    </a:lnTo>
                    <a:lnTo>
                      <a:pt x="561" y="84"/>
                    </a:lnTo>
                    <a:lnTo>
                      <a:pt x="555" y="78"/>
                    </a:lnTo>
                    <a:lnTo>
                      <a:pt x="549" y="78"/>
                    </a:lnTo>
                    <a:lnTo>
                      <a:pt x="549" y="72"/>
                    </a:lnTo>
                    <a:lnTo>
                      <a:pt x="543" y="66"/>
                    </a:lnTo>
                    <a:lnTo>
                      <a:pt x="549" y="60"/>
                    </a:lnTo>
                    <a:lnTo>
                      <a:pt x="549" y="54"/>
                    </a:lnTo>
                    <a:lnTo>
                      <a:pt x="555" y="48"/>
                    </a:lnTo>
                    <a:lnTo>
                      <a:pt x="561" y="42"/>
                    </a:lnTo>
                    <a:lnTo>
                      <a:pt x="561" y="42"/>
                    </a:lnTo>
                    <a:close/>
                    <a:moveTo>
                      <a:pt x="406" y="42"/>
                    </a:moveTo>
                    <a:lnTo>
                      <a:pt x="155" y="42"/>
                    </a:lnTo>
                    <a:lnTo>
                      <a:pt x="155" y="209"/>
                    </a:lnTo>
                    <a:lnTo>
                      <a:pt x="406" y="209"/>
                    </a:lnTo>
                    <a:lnTo>
                      <a:pt x="406" y="42"/>
                    </a:lnTo>
                    <a:lnTo>
                      <a:pt x="406" y="42"/>
                    </a:lnTo>
                    <a:close/>
                    <a:moveTo>
                      <a:pt x="406" y="251"/>
                    </a:moveTo>
                    <a:lnTo>
                      <a:pt x="155" y="251"/>
                    </a:lnTo>
                    <a:lnTo>
                      <a:pt x="155" y="418"/>
                    </a:lnTo>
                    <a:lnTo>
                      <a:pt x="406" y="418"/>
                    </a:lnTo>
                    <a:lnTo>
                      <a:pt x="406" y="251"/>
                    </a:lnTo>
                    <a:lnTo>
                      <a:pt x="406" y="251"/>
                    </a:lnTo>
                    <a:close/>
                    <a:moveTo>
                      <a:pt x="406" y="460"/>
                    </a:moveTo>
                    <a:lnTo>
                      <a:pt x="155" y="460"/>
                    </a:lnTo>
                    <a:lnTo>
                      <a:pt x="155" y="640"/>
                    </a:lnTo>
                    <a:lnTo>
                      <a:pt x="281" y="610"/>
                    </a:lnTo>
                    <a:lnTo>
                      <a:pt x="406" y="586"/>
                    </a:lnTo>
                    <a:lnTo>
                      <a:pt x="406" y="460"/>
                    </a:lnTo>
                    <a:lnTo>
                      <a:pt x="406" y="460"/>
                    </a:lnTo>
                    <a:close/>
                    <a:moveTo>
                      <a:pt x="30" y="0"/>
                    </a:moveTo>
                    <a:lnTo>
                      <a:pt x="531" y="0"/>
                    </a:lnTo>
                    <a:lnTo>
                      <a:pt x="537" y="6"/>
                    </a:lnTo>
                    <a:lnTo>
                      <a:pt x="537" y="12"/>
                    </a:lnTo>
                    <a:lnTo>
                      <a:pt x="543" y="18"/>
                    </a:lnTo>
                    <a:lnTo>
                      <a:pt x="543" y="24"/>
                    </a:lnTo>
                    <a:lnTo>
                      <a:pt x="543" y="30"/>
                    </a:lnTo>
                    <a:lnTo>
                      <a:pt x="537" y="36"/>
                    </a:lnTo>
                    <a:lnTo>
                      <a:pt x="537" y="36"/>
                    </a:lnTo>
                    <a:lnTo>
                      <a:pt x="531" y="42"/>
                    </a:lnTo>
                    <a:lnTo>
                      <a:pt x="454" y="42"/>
                    </a:lnTo>
                    <a:lnTo>
                      <a:pt x="454" y="568"/>
                    </a:lnTo>
                    <a:lnTo>
                      <a:pt x="484" y="562"/>
                    </a:lnTo>
                    <a:lnTo>
                      <a:pt x="513" y="550"/>
                    </a:lnTo>
                    <a:lnTo>
                      <a:pt x="519" y="550"/>
                    </a:lnTo>
                    <a:lnTo>
                      <a:pt x="531" y="556"/>
                    </a:lnTo>
                    <a:lnTo>
                      <a:pt x="531" y="562"/>
                    </a:lnTo>
                    <a:lnTo>
                      <a:pt x="537" y="568"/>
                    </a:lnTo>
                    <a:lnTo>
                      <a:pt x="531" y="574"/>
                    </a:lnTo>
                    <a:lnTo>
                      <a:pt x="531" y="580"/>
                    </a:lnTo>
                    <a:lnTo>
                      <a:pt x="525" y="586"/>
                    </a:lnTo>
                    <a:lnTo>
                      <a:pt x="519" y="592"/>
                    </a:lnTo>
                    <a:lnTo>
                      <a:pt x="454" y="610"/>
                    </a:lnTo>
                    <a:lnTo>
                      <a:pt x="454" y="789"/>
                    </a:lnTo>
                    <a:lnTo>
                      <a:pt x="448" y="795"/>
                    </a:lnTo>
                    <a:lnTo>
                      <a:pt x="442" y="801"/>
                    </a:lnTo>
                    <a:lnTo>
                      <a:pt x="436" y="801"/>
                    </a:lnTo>
                    <a:lnTo>
                      <a:pt x="430" y="801"/>
                    </a:lnTo>
                    <a:lnTo>
                      <a:pt x="424" y="801"/>
                    </a:lnTo>
                    <a:lnTo>
                      <a:pt x="418" y="795"/>
                    </a:lnTo>
                    <a:lnTo>
                      <a:pt x="412" y="789"/>
                    </a:lnTo>
                    <a:lnTo>
                      <a:pt x="406" y="783"/>
                    </a:lnTo>
                    <a:lnTo>
                      <a:pt x="406" y="628"/>
                    </a:lnTo>
                    <a:lnTo>
                      <a:pt x="215" y="670"/>
                    </a:lnTo>
                    <a:lnTo>
                      <a:pt x="30" y="717"/>
                    </a:lnTo>
                    <a:lnTo>
                      <a:pt x="18" y="711"/>
                    </a:lnTo>
                    <a:lnTo>
                      <a:pt x="6" y="711"/>
                    </a:lnTo>
                    <a:lnTo>
                      <a:pt x="0" y="705"/>
                    </a:lnTo>
                    <a:lnTo>
                      <a:pt x="0" y="699"/>
                    </a:lnTo>
                    <a:lnTo>
                      <a:pt x="0" y="693"/>
                    </a:lnTo>
                    <a:lnTo>
                      <a:pt x="0" y="687"/>
                    </a:lnTo>
                    <a:lnTo>
                      <a:pt x="6" y="682"/>
                    </a:lnTo>
                    <a:lnTo>
                      <a:pt x="12" y="676"/>
                    </a:lnTo>
                    <a:lnTo>
                      <a:pt x="108" y="652"/>
                    </a:lnTo>
                    <a:lnTo>
                      <a:pt x="108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  <a:moveTo>
                      <a:pt x="627" y="84"/>
                    </a:moveTo>
                    <a:lnTo>
                      <a:pt x="633" y="143"/>
                    </a:lnTo>
                    <a:lnTo>
                      <a:pt x="645" y="203"/>
                    </a:lnTo>
                    <a:lnTo>
                      <a:pt x="657" y="257"/>
                    </a:lnTo>
                    <a:lnTo>
                      <a:pt x="669" y="311"/>
                    </a:lnTo>
                    <a:lnTo>
                      <a:pt x="687" y="365"/>
                    </a:lnTo>
                    <a:lnTo>
                      <a:pt x="704" y="412"/>
                    </a:lnTo>
                    <a:lnTo>
                      <a:pt x="722" y="460"/>
                    </a:lnTo>
                    <a:lnTo>
                      <a:pt x="746" y="508"/>
                    </a:lnTo>
                    <a:lnTo>
                      <a:pt x="776" y="466"/>
                    </a:lnTo>
                    <a:lnTo>
                      <a:pt x="800" y="418"/>
                    </a:lnTo>
                    <a:lnTo>
                      <a:pt x="818" y="371"/>
                    </a:lnTo>
                    <a:lnTo>
                      <a:pt x="836" y="329"/>
                    </a:lnTo>
                    <a:lnTo>
                      <a:pt x="848" y="275"/>
                    </a:lnTo>
                    <a:lnTo>
                      <a:pt x="860" y="227"/>
                    </a:lnTo>
                    <a:lnTo>
                      <a:pt x="872" y="179"/>
                    </a:lnTo>
                    <a:lnTo>
                      <a:pt x="878" y="125"/>
                    </a:lnTo>
                    <a:lnTo>
                      <a:pt x="878" y="119"/>
                    </a:lnTo>
                    <a:lnTo>
                      <a:pt x="878" y="107"/>
                    </a:lnTo>
                    <a:lnTo>
                      <a:pt x="872" y="102"/>
                    </a:lnTo>
                    <a:lnTo>
                      <a:pt x="872" y="96"/>
                    </a:lnTo>
                    <a:lnTo>
                      <a:pt x="866" y="90"/>
                    </a:lnTo>
                    <a:lnTo>
                      <a:pt x="854" y="90"/>
                    </a:lnTo>
                    <a:lnTo>
                      <a:pt x="848" y="84"/>
                    </a:lnTo>
                    <a:lnTo>
                      <a:pt x="836" y="84"/>
                    </a:lnTo>
                    <a:lnTo>
                      <a:pt x="627" y="84"/>
                    </a:lnTo>
                    <a:lnTo>
                      <a:pt x="627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Rectangle 130"/>
            <p:cNvSpPr/>
            <p:nvPr/>
          </p:nvSpPr>
          <p:spPr>
            <a:xfrm>
              <a:off x="-11337840" y="-4078440"/>
              <a:ext cx="18613440" cy="74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10"/>
          <p:cNvGrpSpPr/>
          <p:nvPr/>
        </p:nvGrpSpPr>
        <p:grpSpPr>
          <a:xfrm>
            <a:off x="-2299320" y="1959120"/>
            <a:ext cx="2243880" cy="1269720"/>
            <a:chOff x="-2299320" y="1959120"/>
            <a:chExt cx="2243880" cy="1269720"/>
          </a:xfrm>
        </p:grpSpPr>
        <p:sp>
          <p:nvSpPr>
            <p:cNvPr id="325" name="Freeform 3"/>
            <p:cNvSpPr/>
            <p:nvPr/>
          </p:nvSpPr>
          <p:spPr>
            <a:xfrm rot="21193200">
              <a:off x="-2227320" y="2408400"/>
              <a:ext cx="2025720" cy="702720"/>
            </a:xfrm>
            <a:custGeom>
              <a:avLst/>
              <a:gdLst/>
              <a:ahLst/>
              <a:rect l="l" t="t" r="r" b="b"/>
              <a:pathLst>
                <a:path w="2049" h="711">
                  <a:moveTo>
                    <a:pt x="1779" y="711"/>
                  </a:moveTo>
                  <a:lnTo>
                    <a:pt x="2049" y="0"/>
                  </a:lnTo>
                  <a:lnTo>
                    <a:pt x="0" y="61"/>
                  </a:lnTo>
                  <a:lnTo>
                    <a:pt x="1779" y="711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4"/>
            <p:cNvGrpSpPr/>
            <p:nvPr/>
          </p:nvGrpSpPr>
          <p:grpSpPr>
            <a:xfrm>
              <a:off x="-2299320" y="1959120"/>
              <a:ext cx="2243880" cy="943920"/>
              <a:chOff x="-2299320" y="1959120"/>
              <a:chExt cx="2243880" cy="943920"/>
            </a:xfrm>
          </p:grpSpPr>
          <p:grpSp>
            <p:nvGrpSpPr>
              <p:cNvPr id="327" name="Group 5"/>
              <p:cNvGrpSpPr/>
              <p:nvPr/>
            </p:nvGrpSpPr>
            <p:grpSpPr>
              <a:xfrm>
                <a:off x="-2257560" y="2265120"/>
                <a:ext cx="2202120" cy="637920"/>
                <a:chOff x="-2257560" y="2265120"/>
                <a:chExt cx="2202120" cy="637920"/>
              </a:xfrm>
            </p:grpSpPr>
            <p:sp>
              <p:nvSpPr>
                <p:cNvPr id="328" name="Freeform 6"/>
                <p:cNvSpPr/>
                <p:nvPr/>
              </p:nvSpPr>
              <p:spPr>
                <a:xfrm flipV="1" rot="21073200">
                  <a:off x="-2242800" y="2428920"/>
                  <a:ext cx="2176920" cy="30888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7"/>
                <p:cNvSpPr/>
                <p:nvPr/>
              </p:nvSpPr>
              <p:spPr>
                <a:xfrm flipV="1" rot="21073200">
                  <a:off x="-2242080" y="2481840"/>
                  <a:ext cx="1471320" cy="30996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Freeform 8"/>
              <p:cNvSpPr/>
              <p:nvPr/>
            </p:nvSpPr>
            <p:spPr>
              <a:xfrm rot="21073200">
                <a:off x="-2288520" y="2123280"/>
                <a:ext cx="2176560" cy="30852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"/>
            <p:cNvGrpSpPr/>
            <p:nvPr/>
          </p:nvGrpSpPr>
          <p:grpSpPr>
            <a:xfrm>
              <a:off x="-2250720" y="2354040"/>
              <a:ext cx="2098080" cy="874800"/>
              <a:chOff x="-2250720" y="2354040"/>
              <a:chExt cx="2098080" cy="874800"/>
            </a:xfrm>
          </p:grpSpPr>
          <p:sp>
            <p:nvSpPr>
              <p:cNvPr id="332" name="Freeform 10"/>
              <p:cNvSpPr/>
              <p:nvPr/>
            </p:nvSpPr>
            <p:spPr>
              <a:xfrm rot="21193200">
                <a:off x="-2208240" y="2471040"/>
                <a:ext cx="2020680" cy="63684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1"/>
              <p:cNvSpPr/>
              <p:nvPr/>
            </p:nvSpPr>
            <p:spPr>
              <a:xfrm rot="21193200">
                <a:off x="-2227320" y="2522160"/>
                <a:ext cx="1208880" cy="381600"/>
              </a:xfrm>
              <a:custGeom>
                <a:avLst/>
                <a:gdLst/>
                <a:ahLst/>
                <a:rect l="l" t="t" r="r" b="b"/>
                <a:pathLst>
                  <a:path w="1223" h="429">
                    <a:moveTo>
                      <a:pt x="1057" y="429"/>
                    </a:moveTo>
                    <a:lnTo>
                      <a:pt x="1223" y="11"/>
                    </a:lnTo>
                    <a:lnTo>
                      <a:pt x="0" y="0"/>
                    </a:lnTo>
                    <a:lnTo>
                      <a:pt x="1057" y="42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"/>
              <p:cNvSpPr/>
              <p:nvPr/>
            </p:nvSpPr>
            <p:spPr>
              <a:xfrm rot="21193200">
                <a:off x="-2220120" y="2524320"/>
                <a:ext cx="1088280" cy="384120"/>
              </a:xfrm>
              <a:custGeom>
                <a:avLst/>
                <a:gdLst/>
                <a:ahLst/>
                <a:rect l="l" t="t" r="r" b="b"/>
                <a:pathLst>
                  <a:path w="1101" h="432">
                    <a:moveTo>
                      <a:pt x="976" y="9"/>
                    </a:moveTo>
                    <a:lnTo>
                      <a:pt x="1101" y="310"/>
                    </a:lnTo>
                    <a:lnTo>
                      <a:pt x="1050" y="432"/>
                    </a:lnTo>
                    <a:lnTo>
                      <a:pt x="0" y="0"/>
                    </a:lnTo>
                    <a:lnTo>
                      <a:pt x="976" y="9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3"/>
              <p:cNvSpPr/>
              <p:nvPr/>
            </p:nvSpPr>
            <p:spPr>
              <a:xfrm flipH="1" rot="6313200">
                <a:off x="-1264320" y="2705040"/>
                <a:ext cx="119160" cy="14616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4"/>
              <p:cNvSpPr/>
              <p:nvPr/>
            </p:nvSpPr>
            <p:spPr>
              <a:xfrm rot="21193200">
                <a:off x="-2203920" y="2474280"/>
                <a:ext cx="2020680" cy="637200"/>
              </a:xfrm>
              <a:custGeom>
                <a:avLst/>
                <a:gdLst/>
                <a:ahLst/>
                <a:rect l="l" t="t" r="r" b="b"/>
                <a:pathLst>
                  <a:path w="2044" h="716">
                    <a:moveTo>
                      <a:pt x="1761" y="716"/>
                    </a:moveTo>
                    <a:lnTo>
                      <a:pt x="2044" y="0"/>
                    </a:lnTo>
                    <a:lnTo>
                      <a:pt x="0" y="2"/>
                    </a:lnTo>
                    <a:lnTo>
                      <a:pt x="1761" y="71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5"/>
              <p:cNvSpPr/>
              <p:nvPr/>
            </p:nvSpPr>
            <p:spPr>
              <a:xfrm rot="21193200">
                <a:off x="-2232000" y="2521440"/>
                <a:ext cx="1221840" cy="387720"/>
              </a:xfrm>
              <a:custGeom>
                <a:avLst/>
                <a:gdLst/>
                <a:ahLst/>
                <a:rect l="l" t="t" r="r" b="b"/>
                <a:pathLst>
                  <a:path w="1236" h="436">
                    <a:moveTo>
                      <a:pt x="1064" y="436"/>
                    </a:moveTo>
                    <a:lnTo>
                      <a:pt x="1236" y="0"/>
                    </a:lnTo>
                    <a:lnTo>
                      <a:pt x="0" y="0"/>
                    </a:lnTo>
                    <a:lnTo>
                      <a:pt x="1064" y="436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6"/>
              <p:cNvSpPr/>
              <p:nvPr/>
            </p:nvSpPr>
            <p:spPr>
              <a:xfrm flipH="1" rot="6313200">
                <a:off x="-1261440" y="2710800"/>
                <a:ext cx="119160" cy="146160"/>
              </a:xfrm>
              <a:custGeom>
                <a:avLst/>
                <a:gdLst/>
                <a:ahLst/>
                <a:rect l="l" t="t" r="r" b="b"/>
                <a:pathLst>
                  <a:path w="134" h="148">
                    <a:moveTo>
                      <a:pt x="0" y="148"/>
                    </a:moveTo>
                    <a:lnTo>
                      <a:pt x="0" y="0"/>
                    </a:lnTo>
                    <a:lnTo>
                      <a:pt x="134" y="3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7"/>
            <p:cNvGrpSpPr/>
            <p:nvPr/>
          </p:nvGrpSpPr>
          <p:grpSpPr>
            <a:xfrm>
              <a:off x="-2297520" y="2015280"/>
              <a:ext cx="2237760" cy="908640"/>
              <a:chOff x="-2297520" y="2015280"/>
              <a:chExt cx="2237760" cy="908640"/>
            </a:xfrm>
          </p:grpSpPr>
          <p:grpSp>
            <p:nvGrpSpPr>
              <p:cNvPr id="340" name="Group 18"/>
              <p:cNvGrpSpPr/>
              <p:nvPr/>
            </p:nvGrpSpPr>
            <p:grpSpPr>
              <a:xfrm>
                <a:off x="-2263680" y="2341440"/>
                <a:ext cx="2203920" cy="582480"/>
                <a:chOff x="-2263680" y="2341440"/>
                <a:chExt cx="2203920" cy="582480"/>
              </a:xfrm>
            </p:grpSpPr>
            <p:sp>
              <p:nvSpPr>
                <p:cNvPr id="341" name="Freeform 19"/>
                <p:cNvSpPr/>
                <p:nvPr/>
              </p:nvSpPr>
              <p:spPr>
                <a:xfrm flipV="1" rot="21193200">
                  <a:off x="-2248560" y="2468160"/>
                  <a:ext cx="2177280" cy="327240"/>
                </a:xfrm>
                <a:custGeom>
                  <a:avLst/>
                  <a:gdLst/>
                  <a:ahLst/>
                  <a:rect l="l" t="t" r="r" b="b"/>
                  <a:pathLst>
                    <a:path w="2202" h="625">
                      <a:moveTo>
                        <a:pt x="2058" y="625"/>
                      </a:moveTo>
                      <a:lnTo>
                        <a:pt x="2202" y="291"/>
                      </a:lnTo>
                      <a:lnTo>
                        <a:pt x="1482" y="0"/>
                      </a:lnTo>
                      <a:lnTo>
                        <a:pt x="0" y="625"/>
                      </a:lnTo>
                      <a:lnTo>
                        <a:pt x="2058" y="625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0"/>
                <p:cNvSpPr/>
                <p:nvPr/>
              </p:nvSpPr>
              <p:spPr>
                <a:xfrm flipV="1" rot="21193200">
                  <a:off x="-2249280" y="2508840"/>
                  <a:ext cx="1470960" cy="328680"/>
                </a:xfrm>
                <a:custGeom>
                  <a:avLst/>
                  <a:gdLst/>
                  <a:ahLst/>
                  <a:rect l="l" t="t" r="r" b="b"/>
                  <a:pathLst>
                    <a:path w="1488" h="628">
                      <a:moveTo>
                        <a:pt x="1239" y="628"/>
                      </a:moveTo>
                      <a:lnTo>
                        <a:pt x="1488" y="0"/>
                      </a:lnTo>
                      <a:lnTo>
                        <a:pt x="0" y="621"/>
                      </a:lnTo>
                      <a:lnTo>
                        <a:pt x="1239" y="628"/>
                      </a:lnTo>
                      <a:close/>
                    </a:path>
                  </a:pathLst>
                </a:custGeom>
                <a:solidFill>
                  <a:srgbClr val="ffffff">
                    <a:alpha val="80000"/>
                  </a:srgbClr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" name="Freeform 21"/>
              <p:cNvSpPr/>
              <p:nvPr/>
            </p:nvSpPr>
            <p:spPr>
              <a:xfrm rot="21193200">
                <a:off x="-2285640" y="2142360"/>
                <a:ext cx="2176920" cy="327240"/>
              </a:xfrm>
              <a:custGeom>
                <a:avLst/>
                <a:gdLst/>
                <a:ahLst/>
                <a:rect l="l" t="t" r="r" b="b"/>
                <a:pathLst>
                  <a:path w="2202" h="625">
                    <a:moveTo>
                      <a:pt x="2058" y="625"/>
                    </a:moveTo>
                    <a:lnTo>
                      <a:pt x="2202" y="291"/>
                    </a:lnTo>
                    <a:lnTo>
                      <a:pt x="1482" y="0"/>
                    </a:lnTo>
                    <a:lnTo>
                      <a:pt x="0" y="625"/>
                    </a:lnTo>
                    <a:lnTo>
                      <a:pt x="2058" y="62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31"/>
          <p:cNvGrpSpPr/>
          <p:nvPr/>
        </p:nvGrpSpPr>
        <p:grpSpPr>
          <a:xfrm>
            <a:off x="-11231640" y="-4078440"/>
            <a:ext cx="18613440" cy="7426440"/>
            <a:chOff x="-11231640" y="-4078440"/>
            <a:chExt cx="18613440" cy="7426440"/>
          </a:xfrm>
        </p:grpSpPr>
        <p:sp>
          <p:nvSpPr>
            <p:cNvPr id="345" name="Rectangle 129"/>
            <p:cNvSpPr/>
            <p:nvPr/>
          </p:nvSpPr>
          <p:spPr>
            <a:xfrm>
              <a:off x="-11231640" y="-4078440"/>
              <a:ext cx="18613440" cy="74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116"/>
            <p:cNvGrpSpPr/>
            <p:nvPr/>
          </p:nvGrpSpPr>
          <p:grpSpPr>
            <a:xfrm>
              <a:off x="-10373040" y="-2451240"/>
              <a:ext cx="9680760" cy="4803840"/>
              <a:chOff x="-10373040" y="-2451240"/>
              <a:chExt cx="9680760" cy="4803840"/>
            </a:xfrm>
          </p:grpSpPr>
          <p:sp>
            <p:nvSpPr>
              <p:cNvPr id="347" name="Freeform 117"/>
              <p:cNvSpPr/>
              <p:nvPr/>
            </p:nvSpPr>
            <p:spPr>
              <a:xfrm>
                <a:off x="-10373040" y="-1562040"/>
                <a:ext cx="4624560" cy="3914640"/>
              </a:xfrm>
              <a:custGeom>
                <a:avLst/>
                <a:gdLst/>
                <a:ahLst/>
                <a:rect l="l" t="t" r="r" b="b"/>
                <a:pathLst>
                  <a:path w="967" h="819">
                    <a:moveTo>
                      <a:pt x="113" y="12"/>
                    </a:moveTo>
                    <a:lnTo>
                      <a:pt x="119" y="6"/>
                    </a:lnTo>
                    <a:lnTo>
                      <a:pt x="125" y="6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6"/>
                    </a:lnTo>
                    <a:lnTo>
                      <a:pt x="149" y="6"/>
                    </a:lnTo>
                    <a:lnTo>
                      <a:pt x="155" y="12"/>
                    </a:lnTo>
                    <a:lnTo>
                      <a:pt x="161" y="24"/>
                    </a:lnTo>
                    <a:lnTo>
                      <a:pt x="161" y="42"/>
                    </a:lnTo>
                    <a:lnTo>
                      <a:pt x="155" y="66"/>
                    </a:lnTo>
                    <a:lnTo>
                      <a:pt x="149" y="96"/>
                    </a:lnTo>
                    <a:lnTo>
                      <a:pt x="137" y="125"/>
                    </a:lnTo>
                    <a:lnTo>
                      <a:pt x="382" y="125"/>
                    </a:lnTo>
                    <a:lnTo>
                      <a:pt x="388" y="131"/>
                    </a:lnTo>
                    <a:lnTo>
                      <a:pt x="394" y="137"/>
                    </a:lnTo>
                    <a:lnTo>
                      <a:pt x="394" y="143"/>
                    </a:lnTo>
                    <a:lnTo>
                      <a:pt x="400" y="149"/>
                    </a:lnTo>
                    <a:lnTo>
                      <a:pt x="394" y="155"/>
                    </a:lnTo>
                    <a:lnTo>
                      <a:pt x="394" y="155"/>
                    </a:lnTo>
                    <a:lnTo>
                      <a:pt x="388" y="161"/>
                    </a:lnTo>
                    <a:lnTo>
                      <a:pt x="382" y="167"/>
                    </a:lnTo>
                    <a:lnTo>
                      <a:pt x="125" y="167"/>
                    </a:lnTo>
                    <a:lnTo>
                      <a:pt x="113" y="185"/>
                    </a:lnTo>
                    <a:lnTo>
                      <a:pt x="101" y="203"/>
                    </a:lnTo>
                    <a:lnTo>
                      <a:pt x="96" y="221"/>
                    </a:lnTo>
                    <a:lnTo>
                      <a:pt x="84" y="239"/>
                    </a:lnTo>
                    <a:lnTo>
                      <a:pt x="72" y="257"/>
                    </a:lnTo>
                    <a:lnTo>
                      <a:pt x="66" y="269"/>
                    </a:lnTo>
                    <a:lnTo>
                      <a:pt x="54" y="287"/>
                    </a:lnTo>
                    <a:lnTo>
                      <a:pt x="42" y="299"/>
                    </a:lnTo>
                    <a:lnTo>
                      <a:pt x="30" y="305"/>
                    </a:lnTo>
                    <a:lnTo>
                      <a:pt x="24" y="305"/>
                    </a:lnTo>
                    <a:lnTo>
                      <a:pt x="18" y="305"/>
                    </a:lnTo>
                    <a:lnTo>
                      <a:pt x="12" y="305"/>
                    </a:lnTo>
                    <a:lnTo>
                      <a:pt x="6" y="299"/>
                    </a:lnTo>
                    <a:lnTo>
                      <a:pt x="6" y="293"/>
                    </a:lnTo>
                    <a:lnTo>
                      <a:pt x="0" y="287"/>
                    </a:lnTo>
                    <a:lnTo>
                      <a:pt x="0" y="275"/>
                    </a:lnTo>
                    <a:lnTo>
                      <a:pt x="24" y="245"/>
                    </a:lnTo>
                    <a:lnTo>
                      <a:pt x="42" y="215"/>
                    </a:lnTo>
                    <a:lnTo>
                      <a:pt x="60" y="185"/>
                    </a:lnTo>
                    <a:lnTo>
                      <a:pt x="78" y="149"/>
                    </a:lnTo>
                    <a:lnTo>
                      <a:pt x="90" y="119"/>
                    </a:lnTo>
                    <a:lnTo>
                      <a:pt x="101" y="84"/>
                    </a:lnTo>
                    <a:lnTo>
                      <a:pt x="107" y="48"/>
                    </a:lnTo>
                    <a:lnTo>
                      <a:pt x="113" y="12"/>
                    </a:lnTo>
                    <a:lnTo>
                      <a:pt x="113" y="12"/>
                    </a:lnTo>
                    <a:close/>
                    <a:moveTo>
                      <a:pt x="824" y="36"/>
                    </a:moveTo>
                    <a:lnTo>
                      <a:pt x="836" y="30"/>
                    </a:lnTo>
                    <a:lnTo>
                      <a:pt x="848" y="24"/>
                    </a:lnTo>
                    <a:lnTo>
                      <a:pt x="854" y="24"/>
                    </a:lnTo>
                    <a:lnTo>
                      <a:pt x="866" y="30"/>
                    </a:lnTo>
                    <a:lnTo>
                      <a:pt x="866" y="30"/>
                    </a:lnTo>
                    <a:lnTo>
                      <a:pt x="872" y="36"/>
                    </a:lnTo>
                    <a:lnTo>
                      <a:pt x="872" y="48"/>
                    </a:lnTo>
                    <a:lnTo>
                      <a:pt x="878" y="54"/>
                    </a:lnTo>
                    <a:lnTo>
                      <a:pt x="860" y="78"/>
                    </a:lnTo>
                    <a:lnTo>
                      <a:pt x="842" y="102"/>
                    </a:lnTo>
                    <a:lnTo>
                      <a:pt x="830" y="125"/>
                    </a:lnTo>
                    <a:lnTo>
                      <a:pt x="812" y="143"/>
                    </a:lnTo>
                    <a:lnTo>
                      <a:pt x="800" y="161"/>
                    </a:lnTo>
                    <a:lnTo>
                      <a:pt x="788" y="179"/>
                    </a:lnTo>
                    <a:lnTo>
                      <a:pt x="776" y="191"/>
                    </a:lnTo>
                    <a:lnTo>
                      <a:pt x="764" y="209"/>
                    </a:lnTo>
                    <a:lnTo>
                      <a:pt x="776" y="209"/>
                    </a:lnTo>
                    <a:lnTo>
                      <a:pt x="788" y="209"/>
                    </a:lnTo>
                    <a:lnTo>
                      <a:pt x="800" y="209"/>
                    </a:lnTo>
                    <a:lnTo>
                      <a:pt x="812" y="215"/>
                    </a:lnTo>
                    <a:lnTo>
                      <a:pt x="824" y="215"/>
                    </a:lnTo>
                    <a:lnTo>
                      <a:pt x="830" y="215"/>
                    </a:lnTo>
                    <a:lnTo>
                      <a:pt x="836" y="221"/>
                    </a:lnTo>
                    <a:lnTo>
                      <a:pt x="842" y="227"/>
                    </a:lnTo>
                    <a:lnTo>
                      <a:pt x="854" y="233"/>
                    </a:lnTo>
                    <a:lnTo>
                      <a:pt x="866" y="245"/>
                    </a:lnTo>
                    <a:lnTo>
                      <a:pt x="866" y="263"/>
                    </a:lnTo>
                    <a:lnTo>
                      <a:pt x="866" y="275"/>
                    </a:lnTo>
                    <a:lnTo>
                      <a:pt x="866" y="430"/>
                    </a:lnTo>
                    <a:lnTo>
                      <a:pt x="872" y="448"/>
                    </a:lnTo>
                    <a:lnTo>
                      <a:pt x="866" y="460"/>
                    </a:lnTo>
                    <a:lnTo>
                      <a:pt x="866" y="472"/>
                    </a:lnTo>
                    <a:lnTo>
                      <a:pt x="854" y="484"/>
                    </a:lnTo>
                    <a:lnTo>
                      <a:pt x="842" y="490"/>
                    </a:lnTo>
                    <a:lnTo>
                      <a:pt x="830" y="496"/>
                    </a:lnTo>
                    <a:lnTo>
                      <a:pt x="806" y="496"/>
                    </a:lnTo>
                    <a:lnTo>
                      <a:pt x="788" y="496"/>
                    </a:lnTo>
                    <a:lnTo>
                      <a:pt x="752" y="496"/>
                    </a:lnTo>
                    <a:lnTo>
                      <a:pt x="752" y="735"/>
                    </a:lnTo>
                    <a:lnTo>
                      <a:pt x="752" y="747"/>
                    </a:lnTo>
                    <a:lnTo>
                      <a:pt x="758" y="753"/>
                    </a:lnTo>
                    <a:lnTo>
                      <a:pt x="758" y="759"/>
                    </a:lnTo>
                    <a:lnTo>
                      <a:pt x="764" y="765"/>
                    </a:lnTo>
                    <a:lnTo>
                      <a:pt x="770" y="771"/>
                    </a:lnTo>
                    <a:lnTo>
                      <a:pt x="782" y="777"/>
                    </a:lnTo>
                    <a:lnTo>
                      <a:pt x="788" y="777"/>
                    </a:lnTo>
                    <a:lnTo>
                      <a:pt x="800" y="777"/>
                    </a:lnTo>
                    <a:lnTo>
                      <a:pt x="866" y="777"/>
                    </a:lnTo>
                    <a:lnTo>
                      <a:pt x="872" y="777"/>
                    </a:lnTo>
                    <a:lnTo>
                      <a:pt x="878" y="771"/>
                    </a:lnTo>
                    <a:lnTo>
                      <a:pt x="883" y="771"/>
                    </a:lnTo>
                    <a:lnTo>
                      <a:pt x="889" y="765"/>
                    </a:lnTo>
                    <a:lnTo>
                      <a:pt x="895" y="759"/>
                    </a:lnTo>
                    <a:lnTo>
                      <a:pt x="901" y="753"/>
                    </a:lnTo>
                    <a:lnTo>
                      <a:pt x="901" y="741"/>
                    </a:lnTo>
                    <a:lnTo>
                      <a:pt x="907" y="735"/>
                    </a:lnTo>
                    <a:lnTo>
                      <a:pt x="907" y="723"/>
                    </a:lnTo>
                    <a:lnTo>
                      <a:pt x="913" y="711"/>
                    </a:lnTo>
                    <a:lnTo>
                      <a:pt x="913" y="699"/>
                    </a:lnTo>
                    <a:lnTo>
                      <a:pt x="913" y="682"/>
                    </a:lnTo>
                    <a:lnTo>
                      <a:pt x="913" y="664"/>
                    </a:lnTo>
                    <a:lnTo>
                      <a:pt x="913" y="646"/>
                    </a:lnTo>
                    <a:lnTo>
                      <a:pt x="913" y="628"/>
                    </a:lnTo>
                    <a:lnTo>
                      <a:pt x="913" y="610"/>
                    </a:lnTo>
                    <a:lnTo>
                      <a:pt x="919" y="604"/>
                    </a:lnTo>
                    <a:lnTo>
                      <a:pt x="925" y="598"/>
                    </a:lnTo>
                    <a:lnTo>
                      <a:pt x="931" y="598"/>
                    </a:lnTo>
                    <a:lnTo>
                      <a:pt x="937" y="598"/>
                    </a:lnTo>
                    <a:lnTo>
                      <a:pt x="943" y="598"/>
                    </a:lnTo>
                    <a:lnTo>
                      <a:pt x="949" y="598"/>
                    </a:lnTo>
                    <a:lnTo>
                      <a:pt x="955" y="604"/>
                    </a:lnTo>
                    <a:lnTo>
                      <a:pt x="961" y="610"/>
                    </a:lnTo>
                    <a:lnTo>
                      <a:pt x="967" y="634"/>
                    </a:lnTo>
                    <a:lnTo>
                      <a:pt x="967" y="658"/>
                    </a:lnTo>
                    <a:lnTo>
                      <a:pt x="967" y="682"/>
                    </a:lnTo>
                    <a:lnTo>
                      <a:pt x="967" y="699"/>
                    </a:lnTo>
                    <a:lnTo>
                      <a:pt x="961" y="723"/>
                    </a:lnTo>
                    <a:lnTo>
                      <a:pt x="961" y="735"/>
                    </a:lnTo>
                    <a:lnTo>
                      <a:pt x="955" y="753"/>
                    </a:lnTo>
                    <a:lnTo>
                      <a:pt x="949" y="765"/>
                    </a:lnTo>
                    <a:lnTo>
                      <a:pt x="949" y="777"/>
                    </a:lnTo>
                    <a:lnTo>
                      <a:pt x="937" y="789"/>
                    </a:lnTo>
                    <a:lnTo>
                      <a:pt x="931" y="801"/>
                    </a:lnTo>
                    <a:lnTo>
                      <a:pt x="925" y="807"/>
                    </a:lnTo>
                    <a:lnTo>
                      <a:pt x="913" y="813"/>
                    </a:lnTo>
                    <a:lnTo>
                      <a:pt x="907" y="813"/>
                    </a:lnTo>
                    <a:lnTo>
                      <a:pt x="895" y="819"/>
                    </a:lnTo>
                    <a:lnTo>
                      <a:pt x="883" y="819"/>
                    </a:lnTo>
                    <a:lnTo>
                      <a:pt x="788" y="819"/>
                    </a:lnTo>
                    <a:lnTo>
                      <a:pt x="770" y="819"/>
                    </a:lnTo>
                    <a:lnTo>
                      <a:pt x="752" y="813"/>
                    </a:lnTo>
                    <a:lnTo>
                      <a:pt x="740" y="807"/>
                    </a:lnTo>
                    <a:lnTo>
                      <a:pt x="728" y="801"/>
                    </a:lnTo>
                    <a:lnTo>
                      <a:pt x="716" y="789"/>
                    </a:lnTo>
                    <a:lnTo>
                      <a:pt x="710" y="777"/>
                    </a:lnTo>
                    <a:lnTo>
                      <a:pt x="704" y="759"/>
                    </a:lnTo>
                    <a:lnTo>
                      <a:pt x="704" y="741"/>
                    </a:lnTo>
                    <a:lnTo>
                      <a:pt x="704" y="496"/>
                    </a:lnTo>
                    <a:lnTo>
                      <a:pt x="591" y="496"/>
                    </a:lnTo>
                    <a:lnTo>
                      <a:pt x="591" y="526"/>
                    </a:lnTo>
                    <a:lnTo>
                      <a:pt x="591" y="550"/>
                    </a:lnTo>
                    <a:lnTo>
                      <a:pt x="591" y="580"/>
                    </a:lnTo>
                    <a:lnTo>
                      <a:pt x="585" y="604"/>
                    </a:lnTo>
                    <a:lnTo>
                      <a:pt x="579" y="622"/>
                    </a:lnTo>
                    <a:lnTo>
                      <a:pt x="567" y="646"/>
                    </a:lnTo>
                    <a:lnTo>
                      <a:pt x="555" y="670"/>
                    </a:lnTo>
                    <a:lnTo>
                      <a:pt x="543" y="688"/>
                    </a:lnTo>
                    <a:lnTo>
                      <a:pt x="531" y="705"/>
                    </a:lnTo>
                    <a:lnTo>
                      <a:pt x="513" y="723"/>
                    </a:lnTo>
                    <a:lnTo>
                      <a:pt x="489" y="741"/>
                    </a:lnTo>
                    <a:lnTo>
                      <a:pt x="472" y="759"/>
                    </a:lnTo>
                    <a:lnTo>
                      <a:pt x="448" y="777"/>
                    </a:lnTo>
                    <a:lnTo>
                      <a:pt x="424" y="789"/>
                    </a:lnTo>
                    <a:lnTo>
                      <a:pt x="394" y="801"/>
                    </a:lnTo>
                    <a:lnTo>
                      <a:pt x="364" y="819"/>
                    </a:lnTo>
                    <a:lnTo>
                      <a:pt x="352" y="819"/>
                    </a:lnTo>
                    <a:lnTo>
                      <a:pt x="346" y="813"/>
                    </a:lnTo>
                    <a:lnTo>
                      <a:pt x="334" y="813"/>
                    </a:lnTo>
                    <a:lnTo>
                      <a:pt x="334" y="807"/>
                    </a:lnTo>
                    <a:lnTo>
                      <a:pt x="328" y="801"/>
                    </a:lnTo>
                    <a:lnTo>
                      <a:pt x="334" y="795"/>
                    </a:lnTo>
                    <a:lnTo>
                      <a:pt x="334" y="789"/>
                    </a:lnTo>
                    <a:lnTo>
                      <a:pt x="340" y="783"/>
                    </a:lnTo>
                    <a:lnTo>
                      <a:pt x="370" y="771"/>
                    </a:lnTo>
                    <a:lnTo>
                      <a:pt x="394" y="759"/>
                    </a:lnTo>
                    <a:lnTo>
                      <a:pt x="418" y="747"/>
                    </a:lnTo>
                    <a:lnTo>
                      <a:pt x="436" y="729"/>
                    </a:lnTo>
                    <a:lnTo>
                      <a:pt x="454" y="717"/>
                    </a:lnTo>
                    <a:lnTo>
                      <a:pt x="472" y="699"/>
                    </a:lnTo>
                    <a:lnTo>
                      <a:pt x="489" y="682"/>
                    </a:lnTo>
                    <a:lnTo>
                      <a:pt x="501" y="664"/>
                    </a:lnTo>
                    <a:lnTo>
                      <a:pt x="513" y="646"/>
                    </a:lnTo>
                    <a:lnTo>
                      <a:pt x="525" y="628"/>
                    </a:lnTo>
                    <a:lnTo>
                      <a:pt x="531" y="610"/>
                    </a:lnTo>
                    <a:lnTo>
                      <a:pt x="537" y="586"/>
                    </a:lnTo>
                    <a:lnTo>
                      <a:pt x="543" y="568"/>
                    </a:lnTo>
                    <a:lnTo>
                      <a:pt x="543" y="544"/>
                    </a:lnTo>
                    <a:lnTo>
                      <a:pt x="543" y="520"/>
                    </a:lnTo>
                    <a:lnTo>
                      <a:pt x="543" y="496"/>
                    </a:lnTo>
                    <a:lnTo>
                      <a:pt x="513" y="496"/>
                    </a:lnTo>
                    <a:lnTo>
                      <a:pt x="495" y="496"/>
                    </a:lnTo>
                    <a:lnTo>
                      <a:pt x="478" y="496"/>
                    </a:lnTo>
                    <a:lnTo>
                      <a:pt x="466" y="490"/>
                    </a:lnTo>
                    <a:lnTo>
                      <a:pt x="454" y="484"/>
                    </a:lnTo>
                    <a:lnTo>
                      <a:pt x="442" y="472"/>
                    </a:lnTo>
                    <a:lnTo>
                      <a:pt x="436" y="460"/>
                    </a:lnTo>
                    <a:lnTo>
                      <a:pt x="430" y="448"/>
                    </a:lnTo>
                    <a:lnTo>
                      <a:pt x="430" y="430"/>
                    </a:lnTo>
                    <a:lnTo>
                      <a:pt x="430" y="275"/>
                    </a:lnTo>
                    <a:lnTo>
                      <a:pt x="430" y="263"/>
                    </a:lnTo>
                    <a:lnTo>
                      <a:pt x="436" y="245"/>
                    </a:lnTo>
                    <a:lnTo>
                      <a:pt x="442" y="233"/>
                    </a:lnTo>
                    <a:lnTo>
                      <a:pt x="454" y="227"/>
                    </a:lnTo>
                    <a:lnTo>
                      <a:pt x="466" y="215"/>
                    </a:lnTo>
                    <a:lnTo>
                      <a:pt x="478" y="215"/>
                    </a:lnTo>
                    <a:lnTo>
                      <a:pt x="495" y="209"/>
                    </a:lnTo>
                    <a:lnTo>
                      <a:pt x="513" y="209"/>
                    </a:lnTo>
                    <a:lnTo>
                      <a:pt x="698" y="209"/>
                    </a:lnTo>
                    <a:lnTo>
                      <a:pt x="716" y="179"/>
                    </a:lnTo>
                    <a:lnTo>
                      <a:pt x="740" y="155"/>
                    </a:lnTo>
                    <a:lnTo>
                      <a:pt x="758" y="131"/>
                    </a:lnTo>
                    <a:lnTo>
                      <a:pt x="776" y="114"/>
                    </a:lnTo>
                    <a:lnTo>
                      <a:pt x="788" y="90"/>
                    </a:lnTo>
                    <a:lnTo>
                      <a:pt x="800" y="72"/>
                    </a:lnTo>
                    <a:lnTo>
                      <a:pt x="818" y="54"/>
                    </a:lnTo>
                    <a:lnTo>
                      <a:pt x="824" y="36"/>
                    </a:lnTo>
                    <a:lnTo>
                      <a:pt x="824" y="36"/>
                    </a:lnTo>
                    <a:close/>
                    <a:moveTo>
                      <a:pt x="430" y="54"/>
                    </a:moveTo>
                    <a:lnTo>
                      <a:pt x="430" y="48"/>
                    </a:lnTo>
                    <a:lnTo>
                      <a:pt x="436" y="36"/>
                    </a:lnTo>
                    <a:lnTo>
                      <a:pt x="436" y="30"/>
                    </a:lnTo>
                    <a:lnTo>
                      <a:pt x="442" y="30"/>
                    </a:lnTo>
                    <a:lnTo>
                      <a:pt x="448" y="24"/>
                    </a:lnTo>
                    <a:lnTo>
                      <a:pt x="454" y="24"/>
                    </a:lnTo>
                    <a:lnTo>
                      <a:pt x="460" y="24"/>
                    </a:lnTo>
                    <a:lnTo>
                      <a:pt x="472" y="30"/>
                    </a:lnTo>
                    <a:lnTo>
                      <a:pt x="495" y="60"/>
                    </a:lnTo>
                    <a:lnTo>
                      <a:pt x="525" y="96"/>
                    </a:lnTo>
                    <a:lnTo>
                      <a:pt x="543" y="131"/>
                    </a:lnTo>
                    <a:lnTo>
                      <a:pt x="567" y="167"/>
                    </a:lnTo>
                    <a:lnTo>
                      <a:pt x="567" y="173"/>
                    </a:lnTo>
                    <a:lnTo>
                      <a:pt x="567" y="185"/>
                    </a:lnTo>
                    <a:lnTo>
                      <a:pt x="561" y="191"/>
                    </a:lnTo>
                    <a:lnTo>
                      <a:pt x="561" y="191"/>
                    </a:lnTo>
                    <a:lnTo>
                      <a:pt x="555" y="191"/>
                    </a:lnTo>
                    <a:lnTo>
                      <a:pt x="543" y="191"/>
                    </a:lnTo>
                    <a:lnTo>
                      <a:pt x="537" y="191"/>
                    </a:lnTo>
                    <a:lnTo>
                      <a:pt x="525" y="185"/>
                    </a:lnTo>
                    <a:lnTo>
                      <a:pt x="513" y="167"/>
                    </a:lnTo>
                    <a:lnTo>
                      <a:pt x="501" y="149"/>
                    </a:lnTo>
                    <a:lnTo>
                      <a:pt x="489" y="131"/>
                    </a:lnTo>
                    <a:lnTo>
                      <a:pt x="478" y="114"/>
                    </a:lnTo>
                    <a:lnTo>
                      <a:pt x="466" y="96"/>
                    </a:lnTo>
                    <a:lnTo>
                      <a:pt x="454" y="84"/>
                    </a:lnTo>
                    <a:lnTo>
                      <a:pt x="442" y="66"/>
                    </a:lnTo>
                    <a:lnTo>
                      <a:pt x="430" y="54"/>
                    </a:lnTo>
                    <a:lnTo>
                      <a:pt x="430" y="54"/>
                    </a:lnTo>
                    <a:close/>
                    <a:moveTo>
                      <a:pt x="818" y="293"/>
                    </a:moveTo>
                    <a:lnTo>
                      <a:pt x="818" y="281"/>
                    </a:lnTo>
                    <a:lnTo>
                      <a:pt x="818" y="275"/>
                    </a:lnTo>
                    <a:lnTo>
                      <a:pt x="812" y="263"/>
                    </a:lnTo>
                    <a:lnTo>
                      <a:pt x="812" y="257"/>
                    </a:lnTo>
                    <a:lnTo>
                      <a:pt x="800" y="257"/>
                    </a:lnTo>
                    <a:lnTo>
                      <a:pt x="794" y="251"/>
                    </a:lnTo>
                    <a:lnTo>
                      <a:pt x="782" y="251"/>
                    </a:lnTo>
                    <a:lnTo>
                      <a:pt x="770" y="251"/>
                    </a:lnTo>
                    <a:lnTo>
                      <a:pt x="525" y="251"/>
                    </a:lnTo>
                    <a:lnTo>
                      <a:pt x="513" y="251"/>
                    </a:lnTo>
                    <a:lnTo>
                      <a:pt x="507" y="251"/>
                    </a:lnTo>
                    <a:lnTo>
                      <a:pt x="495" y="257"/>
                    </a:lnTo>
                    <a:lnTo>
                      <a:pt x="489" y="257"/>
                    </a:lnTo>
                    <a:lnTo>
                      <a:pt x="484" y="263"/>
                    </a:lnTo>
                    <a:lnTo>
                      <a:pt x="484" y="275"/>
                    </a:lnTo>
                    <a:lnTo>
                      <a:pt x="478" y="281"/>
                    </a:lnTo>
                    <a:lnTo>
                      <a:pt x="478" y="293"/>
                    </a:lnTo>
                    <a:lnTo>
                      <a:pt x="478" y="412"/>
                    </a:lnTo>
                    <a:lnTo>
                      <a:pt x="478" y="424"/>
                    </a:lnTo>
                    <a:lnTo>
                      <a:pt x="484" y="436"/>
                    </a:lnTo>
                    <a:lnTo>
                      <a:pt x="484" y="442"/>
                    </a:lnTo>
                    <a:lnTo>
                      <a:pt x="489" y="448"/>
                    </a:lnTo>
                    <a:lnTo>
                      <a:pt x="495" y="454"/>
                    </a:lnTo>
                    <a:lnTo>
                      <a:pt x="507" y="454"/>
                    </a:lnTo>
                    <a:lnTo>
                      <a:pt x="513" y="460"/>
                    </a:lnTo>
                    <a:lnTo>
                      <a:pt x="525" y="454"/>
                    </a:lnTo>
                    <a:lnTo>
                      <a:pt x="770" y="454"/>
                    </a:lnTo>
                    <a:lnTo>
                      <a:pt x="782" y="460"/>
                    </a:lnTo>
                    <a:lnTo>
                      <a:pt x="794" y="454"/>
                    </a:lnTo>
                    <a:lnTo>
                      <a:pt x="800" y="454"/>
                    </a:lnTo>
                    <a:lnTo>
                      <a:pt x="812" y="448"/>
                    </a:lnTo>
                    <a:lnTo>
                      <a:pt x="812" y="442"/>
                    </a:lnTo>
                    <a:lnTo>
                      <a:pt x="818" y="436"/>
                    </a:lnTo>
                    <a:lnTo>
                      <a:pt x="818" y="424"/>
                    </a:lnTo>
                    <a:lnTo>
                      <a:pt x="818" y="412"/>
                    </a:lnTo>
                    <a:lnTo>
                      <a:pt x="818" y="293"/>
                    </a:lnTo>
                    <a:lnTo>
                      <a:pt x="818" y="293"/>
                    </a:lnTo>
                    <a:close/>
                    <a:moveTo>
                      <a:pt x="90" y="293"/>
                    </a:moveTo>
                    <a:lnTo>
                      <a:pt x="364" y="293"/>
                    </a:lnTo>
                    <a:lnTo>
                      <a:pt x="370" y="299"/>
                    </a:lnTo>
                    <a:lnTo>
                      <a:pt x="376" y="299"/>
                    </a:lnTo>
                    <a:lnTo>
                      <a:pt x="382" y="305"/>
                    </a:lnTo>
                    <a:lnTo>
                      <a:pt x="382" y="311"/>
                    </a:lnTo>
                    <a:lnTo>
                      <a:pt x="382" y="317"/>
                    </a:lnTo>
                    <a:lnTo>
                      <a:pt x="376" y="323"/>
                    </a:lnTo>
                    <a:lnTo>
                      <a:pt x="370" y="329"/>
                    </a:lnTo>
                    <a:lnTo>
                      <a:pt x="364" y="335"/>
                    </a:lnTo>
                    <a:lnTo>
                      <a:pt x="239" y="335"/>
                    </a:lnTo>
                    <a:lnTo>
                      <a:pt x="239" y="472"/>
                    </a:lnTo>
                    <a:lnTo>
                      <a:pt x="382" y="472"/>
                    </a:lnTo>
                    <a:lnTo>
                      <a:pt x="388" y="478"/>
                    </a:lnTo>
                    <a:lnTo>
                      <a:pt x="394" y="478"/>
                    </a:lnTo>
                    <a:lnTo>
                      <a:pt x="394" y="484"/>
                    </a:lnTo>
                    <a:lnTo>
                      <a:pt x="400" y="490"/>
                    </a:lnTo>
                    <a:lnTo>
                      <a:pt x="394" y="496"/>
                    </a:lnTo>
                    <a:lnTo>
                      <a:pt x="394" y="502"/>
                    </a:lnTo>
                    <a:lnTo>
                      <a:pt x="388" y="508"/>
                    </a:lnTo>
                    <a:lnTo>
                      <a:pt x="382" y="514"/>
                    </a:lnTo>
                    <a:lnTo>
                      <a:pt x="239" y="514"/>
                    </a:lnTo>
                    <a:lnTo>
                      <a:pt x="239" y="741"/>
                    </a:lnTo>
                    <a:lnTo>
                      <a:pt x="239" y="747"/>
                    </a:lnTo>
                    <a:lnTo>
                      <a:pt x="239" y="747"/>
                    </a:lnTo>
                    <a:lnTo>
                      <a:pt x="245" y="753"/>
                    </a:lnTo>
                    <a:lnTo>
                      <a:pt x="245" y="753"/>
                    </a:lnTo>
                    <a:lnTo>
                      <a:pt x="251" y="753"/>
                    </a:lnTo>
                    <a:lnTo>
                      <a:pt x="257" y="747"/>
                    </a:lnTo>
                    <a:lnTo>
                      <a:pt x="269" y="747"/>
                    </a:lnTo>
                    <a:lnTo>
                      <a:pt x="275" y="741"/>
                    </a:lnTo>
                    <a:lnTo>
                      <a:pt x="298" y="729"/>
                    </a:lnTo>
                    <a:lnTo>
                      <a:pt x="316" y="717"/>
                    </a:lnTo>
                    <a:lnTo>
                      <a:pt x="334" y="705"/>
                    </a:lnTo>
                    <a:lnTo>
                      <a:pt x="352" y="694"/>
                    </a:lnTo>
                    <a:lnTo>
                      <a:pt x="364" y="694"/>
                    </a:lnTo>
                    <a:lnTo>
                      <a:pt x="370" y="694"/>
                    </a:lnTo>
                    <a:lnTo>
                      <a:pt x="382" y="694"/>
                    </a:lnTo>
                    <a:lnTo>
                      <a:pt x="388" y="699"/>
                    </a:lnTo>
                    <a:lnTo>
                      <a:pt x="388" y="705"/>
                    </a:lnTo>
                    <a:lnTo>
                      <a:pt x="388" y="711"/>
                    </a:lnTo>
                    <a:lnTo>
                      <a:pt x="388" y="717"/>
                    </a:lnTo>
                    <a:lnTo>
                      <a:pt x="382" y="729"/>
                    </a:lnTo>
                    <a:lnTo>
                      <a:pt x="364" y="741"/>
                    </a:lnTo>
                    <a:lnTo>
                      <a:pt x="346" y="753"/>
                    </a:lnTo>
                    <a:lnTo>
                      <a:pt x="328" y="765"/>
                    </a:lnTo>
                    <a:lnTo>
                      <a:pt x="310" y="771"/>
                    </a:lnTo>
                    <a:lnTo>
                      <a:pt x="293" y="777"/>
                    </a:lnTo>
                    <a:lnTo>
                      <a:pt x="281" y="783"/>
                    </a:lnTo>
                    <a:lnTo>
                      <a:pt x="263" y="789"/>
                    </a:lnTo>
                    <a:lnTo>
                      <a:pt x="251" y="795"/>
                    </a:lnTo>
                    <a:lnTo>
                      <a:pt x="239" y="801"/>
                    </a:lnTo>
                    <a:lnTo>
                      <a:pt x="227" y="801"/>
                    </a:lnTo>
                    <a:lnTo>
                      <a:pt x="215" y="795"/>
                    </a:lnTo>
                    <a:lnTo>
                      <a:pt x="203" y="789"/>
                    </a:lnTo>
                    <a:lnTo>
                      <a:pt x="197" y="783"/>
                    </a:lnTo>
                    <a:lnTo>
                      <a:pt x="191" y="771"/>
                    </a:lnTo>
                    <a:lnTo>
                      <a:pt x="191" y="759"/>
                    </a:lnTo>
                    <a:lnTo>
                      <a:pt x="185" y="747"/>
                    </a:lnTo>
                    <a:lnTo>
                      <a:pt x="185" y="514"/>
                    </a:lnTo>
                    <a:lnTo>
                      <a:pt x="24" y="514"/>
                    </a:lnTo>
                    <a:lnTo>
                      <a:pt x="18" y="508"/>
                    </a:lnTo>
                    <a:lnTo>
                      <a:pt x="18" y="502"/>
                    </a:lnTo>
                    <a:lnTo>
                      <a:pt x="12" y="496"/>
                    </a:lnTo>
                    <a:lnTo>
                      <a:pt x="12" y="490"/>
                    </a:lnTo>
                    <a:lnTo>
                      <a:pt x="12" y="484"/>
                    </a:lnTo>
                    <a:lnTo>
                      <a:pt x="18" y="478"/>
                    </a:lnTo>
                    <a:lnTo>
                      <a:pt x="18" y="478"/>
                    </a:lnTo>
                    <a:lnTo>
                      <a:pt x="24" y="472"/>
                    </a:lnTo>
                    <a:lnTo>
                      <a:pt x="185" y="472"/>
                    </a:lnTo>
                    <a:lnTo>
                      <a:pt x="185" y="335"/>
                    </a:lnTo>
                    <a:lnTo>
                      <a:pt x="90" y="335"/>
                    </a:lnTo>
                    <a:lnTo>
                      <a:pt x="84" y="329"/>
                    </a:lnTo>
                    <a:lnTo>
                      <a:pt x="78" y="323"/>
                    </a:lnTo>
                    <a:lnTo>
                      <a:pt x="78" y="317"/>
                    </a:lnTo>
                    <a:lnTo>
                      <a:pt x="78" y="311"/>
                    </a:lnTo>
                    <a:lnTo>
                      <a:pt x="78" y="305"/>
                    </a:lnTo>
                    <a:lnTo>
                      <a:pt x="78" y="299"/>
                    </a:lnTo>
                    <a:lnTo>
                      <a:pt x="84" y="299"/>
                    </a:lnTo>
                    <a:lnTo>
                      <a:pt x="90" y="293"/>
                    </a:lnTo>
                    <a:lnTo>
                      <a:pt x="90" y="2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8"/>
              <p:cNvSpPr/>
              <p:nvPr/>
            </p:nvSpPr>
            <p:spPr>
              <a:xfrm>
                <a:off x="-4253400" y="-2451240"/>
                <a:ext cx="3561120" cy="3220560"/>
              </a:xfrm>
              <a:custGeom>
                <a:avLst/>
                <a:gdLst/>
                <a:ahLst/>
                <a:rect l="l" t="t" r="r" b="b"/>
                <a:pathLst>
                  <a:path w="931" h="843">
                    <a:moveTo>
                      <a:pt x="447" y="6"/>
                    </a:moveTo>
                    <a:lnTo>
                      <a:pt x="459" y="24"/>
                    </a:lnTo>
                    <a:lnTo>
                      <a:pt x="477" y="42"/>
                    </a:lnTo>
                    <a:lnTo>
                      <a:pt x="489" y="60"/>
                    </a:lnTo>
                    <a:lnTo>
                      <a:pt x="501" y="78"/>
                    </a:lnTo>
                    <a:lnTo>
                      <a:pt x="865" y="78"/>
                    </a:lnTo>
                    <a:lnTo>
                      <a:pt x="871" y="84"/>
                    </a:lnTo>
                    <a:lnTo>
                      <a:pt x="877" y="90"/>
                    </a:lnTo>
                    <a:lnTo>
                      <a:pt x="883" y="96"/>
                    </a:lnTo>
                    <a:lnTo>
                      <a:pt x="883" y="102"/>
                    </a:lnTo>
                    <a:lnTo>
                      <a:pt x="883" y="108"/>
                    </a:lnTo>
                    <a:lnTo>
                      <a:pt x="877" y="114"/>
                    </a:lnTo>
                    <a:lnTo>
                      <a:pt x="871" y="120"/>
                    </a:lnTo>
                    <a:lnTo>
                      <a:pt x="865" y="120"/>
                    </a:lnTo>
                    <a:lnTo>
                      <a:pt x="728" y="120"/>
                    </a:lnTo>
                    <a:lnTo>
                      <a:pt x="716" y="143"/>
                    </a:lnTo>
                    <a:lnTo>
                      <a:pt x="704" y="173"/>
                    </a:lnTo>
                    <a:lnTo>
                      <a:pt x="692" y="197"/>
                    </a:lnTo>
                    <a:lnTo>
                      <a:pt x="680" y="221"/>
                    </a:lnTo>
                    <a:lnTo>
                      <a:pt x="913" y="221"/>
                    </a:lnTo>
                    <a:lnTo>
                      <a:pt x="919" y="221"/>
                    </a:lnTo>
                    <a:lnTo>
                      <a:pt x="925" y="227"/>
                    </a:lnTo>
                    <a:lnTo>
                      <a:pt x="931" y="233"/>
                    </a:lnTo>
                    <a:lnTo>
                      <a:pt x="931" y="239"/>
                    </a:lnTo>
                    <a:lnTo>
                      <a:pt x="931" y="245"/>
                    </a:lnTo>
                    <a:lnTo>
                      <a:pt x="925" y="251"/>
                    </a:lnTo>
                    <a:lnTo>
                      <a:pt x="919" y="257"/>
                    </a:lnTo>
                    <a:lnTo>
                      <a:pt x="913" y="263"/>
                    </a:lnTo>
                    <a:lnTo>
                      <a:pt x="23" y="263"/>
                    </a:lnTo>
                    <a:lnTo>
                      <a:pt x="18" y="257"/>
                    </a:lnTo>
                    <a:lnTo>
                      <a:pt x="18" y="251"/>
                    </a:lnTo>
                    <a:lnTo>
                      <a:pt x="12" y="245"/>
                    </a:lnTo>
                    <a:lnTo>
                      <a:pt x="12" y="245"/>
                    </a:lnTo>
                    <a:lnTo>
                      <a:pt x="12" y="239"/>
                    </a:lnTo>
                    <a:lnTo>
                      <a:pt x="18" y="233"/>
                    </a:lnTo>
                    <a:lnTo>
                      <a:pt x="18" y="227"/>
                    </a:lnTo>
                    <a:lnTo>
                      <a:pt x="23" y="221"/>
                    </a:lnTo>
                    <a:lnTo>
                      <a:pt x="298" y="221"/>
                    </a:lnTo>
                    <a:lnTo>
                      <a:pt x="292" y="197"/>
                    </a:lnTo>
                    <a:lnTo>
                      <a:pt x="280" y="173"/>
                    </a:lnTo>
                    <a:lnTo>
                      <a:pt x="268" y="149"/>
                    </a:lnTo>
                    <a:lnTo>
                      <a:pt x="250" y="120"/>
                    </a:lnTo>
                    <a:lnTo>
                      <a:pt x="77" y="120"/>
                    </a:lnTo>
                    <a:lnTo>
                      <a:pt x="65" y="120"/>
                    </a:lnTo>
                    <a:lnTo>
                      <a:pt x="65" y="114"/>
                    </a:lnTo>
                    <a:lnTo>
                      <a:pt x="59" y="108"/>
                    </a:lnTo>
                    <a:lnTo>
                      <a:pt x="59" y="102"/>
                    </a:lnTo>
                    <a:lnTo>
                      <a:pt x="59" y="96"/>
                    </a:lnTo>
                    <a:lnTo>
                      <a:pt x="65" y="90"/>
                    </a:lnTo>
                    <a:lnTo>
                      <a:pt x="65" y="84"/>
                    </a:lnTo>
                    <a:lnTo>
                      <a:pt x="77" y="78"/>
                    </a:lnTo>
                    <a:lnTo>
                      <a:pt x="447" y="78"/>
                    </a:lnTo>
                    <a:lnTo>
                      <a:pt x="435" y="66"/>
                    </a:lnTo>
                    <a:lnTo>
                      <a:pt x="429" y="54"/>
                    </a:lnTo>
                    <a:lnTo>
                      <a:pt x="417" y="36"/>
                    </a:lnTo>
                    <a:lnTo>
                      <a:pt x="406" y="24"/>
                    </a:lnTo>
                    <a:lnTo>
                      <a:pt x="406" y="18"/>
                    </a:lnTo>
                    <a:lnTo>
                      <a:pt x="406" y="12"/>
                    </a:lnTo>
                    <a:lnTo>
                      <a:pt x="412" y="6"/>
                    </a:lnTo>
                    <a:lnTo>
                      <a:pt x="417" y="0"/>
                    </a:lnTo>
                    <a:lnTo>
                      <a:pt x="423" y="0"/>
                    </a:lnTo>
                    <a:lnTo>
                      <a:pt x="429" y="0"/>
                    </a:lnTo>
                    <a:lnTo>
                      <a:pt x="435" y="0"/>
                    </a:lnTo>
                    <a:lnTo>
                      <a:pt x="447" y="6"/>
                    </a:lnTo>
                    <a:lnTo>
                      <a:pt x="447" y="6"/>
                    </a:lnTo>
                    <a:close/>
                    <a:moveTo>
                      <a:pt x="674" y="120"/>
                    </a:moveTo>
                    <a:lnTo>
                      <a:pt x="298" y="120"/>
                    </a:lnTo>
                    <a:lnTo>
                      <a:pt x="310" y="143"/>
                    </a:lnTo>
                    <a:lnTo>
                      <a:pt x="328" y="167"/>
                    </a:lnTo>
                    <a:lnTo>
                      <a:pt x="340" y="191"/>
                    </a:lnTo>
                    <a:lnTo>
                      <a:pt x="352" y="221"/>
                    </a:lnTo>
                    <a:lnTo>
                      <a:pt x="626" y="221"/>
                    </a:lnTo>
                    <a:lnTo>
                      <a:pt x="638" y="197"/>
                    </a:lnTo>
                    <a:lnTo>
                      <a:pt x="650" y="173"/>
                    </a:lnTo>
                    <a:lnTo>
                      <a:pt x="662" y="143"/>
                    </a:lnTo>
                    <a:lnTo>
                      <a:pt x="674" y="120"/>
                    </a:lnTo>
                    <a:lnTo>
                      <a:pt x="674" y="120"/>
                    </a:lnTo>
                    <a:close/>
                    <a:moveTo>
                      <a:pt x="179" y="317"/>
                    </a:moveTo>
                    <a:lnTo>
                      <a:pt x="770" y="317"/>
                    </a:lnTo>
                    <a:lnTo>
                      <a:pt x="788" y="317"/>
                    </a:lnTo>
                    <a:lnTo>
                      <a:pt x="805" y="323"/>
                    </a:lnTo>
                    <a:lnTo>
                      <a:pt x="823" y="329"/>
                    </a:lnTo>
                    <a:lnTo>
                      <a:pt x="835" y="341"/>
                    </a:lnTo>
                    <a:lnTo>
                      <a:pt x="841" y="347"/>
                    </a:lnTo>
                    <a:lnTo>
                      <a:pt x="847" y="359"/>
                    </a:lnTo>
                    <a:lnTo>
                      <a:pt x="853" y="377"/>
                    </a:lnTo>
                    <a:lnTo>
                      <a:pt x="847" y="395"/>
                    </a:lnTo>
                    <a:lnTo>
                      <a:pt x="847" y="526"/>
                    </a:lnTo>
                    <a:lnTo>
                      <a:pt x="847" y="544"/>
                    </a:lnTo>
                    <a:lnTo>
                      <a:pt x="847" y="556"/>
                    </a:lnTo>
                    <a:lnTo>
                      <a:pt x="841" y="568"/>
                    </a:lnTo>
                    <a:lnTo>
                      <a:pt x="829" y="580"/>
                    </a:lnTo>
                    <a:lnTo>
                      <a:pt x="817" y="586"/>
                    </a:lnTo>
                    <a:lnTo>
                      <a:pt x="805" y="592"/>
                    </a:lnTo>
                    <a:lnTo>
                      <a:pt x="782" y="592"/>
                    </a:lnTo>
                    <a:lnTo>
                      <a:pt x="764" y="592"/>
                    </a:lnTo>
                    <a:lnTo>
                      <a:pt x="173" y="592"/>
                    </a:lnTo>
                    <a:lnTo>
                      <a:pt x="155" y="592"/>
                    </a:lnTo>
                    <a:lnTo>
                      <a:pt x="137" y="592"/>
                    </a:lnTo>
                    <a:lnTo>
                      <a:pt x="125" y="586"/>
                    </a:lnTo>
                    <a:lnTo>
                      <a:pt x="113" y="580"/>
                    </a:lnTo>
                    <a:lnTo>
                      <a:pt x="101" y="568"/>
                    </a:lnTo>
                    <a:lnTo>
                      <a:pt x="95" y="556"/>
                    </a:lnTo>
                    <a:lnTo>
                      <a:pt x="89" y="544"/>
                    </a:lnTo>
                    <a:lnTo>
                      <a:pt x="89" y="526"/>
                    </a:lnTo>
                    <a:lnTo>
                      <a:pt x="89" y="395"/>
                    </a:lnTo>
                    <a:lnTo>
                      <a:pt x="95" y="377"/>
                    </a:lnTo>
                    <a:lnTo>
                      <a:pt x="101" y="359"/>
                    </a:lnTo>
                    <a:lnTo>
                      <a:pt x="107" y="347"/>
                    </a:lnTo>
                    <a:lnTo>
                      <a:pt x="119" y="335"/>
                    </a:lnTo>
                    <a:lnTo>
                      <a:pt x="131" y="329"/>
                    </a:lnTo>
                    <a:lnTo>
                      <a:pt x="143" y="323"/>
                    </a:lnTo>
                    <a:lnTo>
                      <a:pt x="161" y="317"/>
                    </a:lnTo>
                    <a:lnTo>
                      <a:pt x="179" y="317"/>
                    </a:lnTo>
                    <a:lnTo>
                      <a:pt x="179" y="317"/>
                    </a:lnTo>
                    <a:close/>
                    <a:moveTo>
                      <a:pt x="752" y="359"/>
                    </a:moveTo>
                    <a:lnTo>
                      <a:pt x="185" y="359"/>
                    </a:lnTo>
                    <a:lnTo>
                      <a:pt x="179" y="359"/>
                    </a:lnTo>
                    <a:lnTo>
                      <a:pt x="167" y="359"/>
                    </a:lnTo>
                    <a:lnTo>
                      <a:pt x="161" y="365"/>
                    </a:lnTo>
                    <a:lnTo>
                      <a:pt x="149" y="371"/>
                    </a:lnTo>
                    <a:lnTo>
                      <a:pt x="143" y="371"/>
                    </a:lnTo>
                    <a:lnTo>
                      <a:pt x="143" y="383"/>
                    </a:lnTo>
                    <a:lnTo>
                      <a:pt x="137" y="389"/>
                    </a:lnTo>
                    <a:lnTo>
                      <a:pt x="137" y="401"/>
                    </a:lnTo>
                    <a:lnTo>
                      <a:pt x="137" y="430"/>
                    </a:lnTo>
                    <a:lnTo>
                      <a:pt x="800" y="430"/>
                    </a:lnTo>
                    <a:lnTo>
                      <a:pt x="800" y="401"/>
                    </a:lnTo>
                    <a:lnTo>
                      <a:pt x="800" y="389"/>
                    </a:lnTo>
                    <a:lnTo>
                      <a:pt x="800" y="383"/>
                    </a:lnTo>
                    <a:lnTo>
                      <a:pt x="800" y="371"/>
                    </a:lnTo>
                    <a:lnTo>
                      <a:pt x="794" y="371"/>
                    </a:lnTo>
                    <a:lnTo>
                      <a:pt x="788" y="365"/>
                    </a:lnTo>
                    <a:lnTo>
                      <a:pt x="776" y="359"/>
                    </a:lnTo>
                    <a:lnTo>
                      <a:pt x="764" y="359"/>
                    </a:lnTo>
                    <a:lnTo>
                      <a:pt x="752" y="359"/>
                    </a:lnTo>
                    <a:lnTo>
                      <a:pt x="752" y="359"/>
                    </a:lnTo>
                    <a:close/>
                    <a:moveTo>
                      <a:pt x="800" y="472"/>
                    </a:moveTo>
                    <a:lnTo>
                      <a:pt x="137" y="472"/>
                    </a:lnTo>
                    <a:lnTo>
                      <a:pt x="137" y="508"/>
                    </a:lnTo>
                    <a:lnTo>
                      <a:pt x="137" y="520"/>
                    </a:lnTo>
                    <a:lnTo>
                      <a:pt x="143" y="532"/>
                    </a:lnTo>
                    <a:lnTo>
                      <a:pt x="143" y="538"/>
                    </a:lnTo>
                    <a:lnTo>
                      <a:pt x="149" y="544"/>
                    </a:lnTo>
                    <a:lnTo>
                      <a:pt x="161" y="550"/>
                    </a:lnTo>
                    <a:lnTo>
                      <a:pt x="167" y="550"/>
                    </a:lnTo>
                    <a:lnTo>
                      <a:pt x="179" y="550"/>
                    </a:lnTo>
                    <a:lnTo>
                      <a:pt x="185" y="550"/>
                    </a:lnTo>
                    <a:lnTo>
                      <a:pt x="752" y="550"/>
                    </a:lnTo>
                    <a:lnTo>
                      <a:pt x="764" y="550"/>
                    </a:lnTo>
                    <a:lnTo>
                      <a:pt x="776" y="550"/>
                    </a:lnTo>
                    <a:lnTo>
                      <a:pt x="788" y="550"/>
                    </a:lnTo>
                    <a:lnTo>
                      <a:pt x="794" y="544"/>
                    </a:lnTo>
                    <a:lnTo>
                      <a:pt x="800" y="538"/>
                    </a:lnTo>
                    <a:lnTo>
                      <a:pt x="800" y="532"/>
                    </a:lnTo>
                    <a:lnTo>
                      <a:pt x="800" y="520"/>
                    </a:lnTo>
                    <a:lnTo>
                      <a:pt x="800" y="508"/>
                    </a:lnTo>
                    <a:lnTo>
                      <a:pt x="800" y="472"/>
                    </a:lnTo>
                    <a:lnTo>
                      <a:pt x="800" y="472"/>
                    </a:lnTo>
                    <a:close/>
                    <a:moveTo>
                      <a:pt x="125" y="640"/>
                    </a:moveTo>
                    <a:lnTo>
                      <a:pt x="131" y="634"/>
                    </a:lnTo>
                    <a:lnTo>
                      <a:pt x="143" y="634"/>
                    </a:lnTo>
                    <a:lnTo>
                      <a:pt x="149" y="634"/>
                    </a:lnTo>
                    <a:lnTo>
                      <a:pt x="155" y="634"/>
                    </a:lnTo>
                    <a:lnTo>
                      <a:pt x="161" y="640"/>
                    </a:lnTo>
                    <a:lnTo>
                      <a:pt x="161" y="646"/>
                    </a:lnTo>
                    <a:lnTo>
                      <a:pt x="161" y="652"/>
                    </a:lnTo>
                    <a:lnTo>
                      <a:pt x="161" y="664"/>
                    </a:lnTo>
                    <a:lnTo>
                      <a:pt x="149" y="682"/>
                    </a:lnTo>
                    <a:lnTo>
                      <a:pt x="137" y="700"/>
                    </a:lnTo>
                    <a:lnTo>
                      <a:pt x="125" y="717"/>
                    </a:lnTo>
                    <a:lnTo>
                      <a:pt x="107" y="735"/>
                    </a:lnTo>
                    <a:lnTo>
                      <a:pt x="71" y="771"/>
                    </a:lnTo>
                    <a:lnTo>
                      <a:pt x="35" y="801"/>
                    </a:lnTo>
                    <a:lnTo>
                      <a:pt x="23" y="801"/>
                    </a:lnTo>
                    <a:lnTo>
                      <a:pt x="18" y="801"/>
                    </a:lnTo>
                    <a:lnTo>
                      <a:pt x="12" y="801"/>
                    </a:lnTo>
                    <a:lnTo>
                      <a:pt x="6" y="801"/>
                    </a:lnTo>
                    <a:lnTo>
                      <a:pt x="6" y="795"/>
                    </a:lnTo>
                    <a:lnTo>
                      <a:pt x="0" y="789"/>
                    </a:lnTo>
                    <a:lnTo>
                      <a:pt x="0" y="783"/>
                    </a:lnTo>
                    <a:lnTo>
                      <a:pt x="0" y="771"/>
                    </a:lnTo>
                    <a:lnTo>
                      <a:pt x="23" y="759"/>
                    </a:lnTo>
                    <a:lnTo>
                      <a:pt x="41" y="741"/>
                    </a:lnTo>
                    <a:lnTo>
                      <a:pt x="53" y="723"/>
                    </a:lnTo>
                    <a:lnTo>
                      <a:pt x="71" y="706"/>
                    </a:lnTo>
                    <a:lnTo>
                      <a:pt x="83" y="694"/>
                    </a:lnTo>
                    <a:lnTo>
                      <a:pt x="101" y="676"/>
                    </a:lnTo>
                    <a:lnTo>
                      <a:pt x="113" y="658"/>
                    </a:lnTo>
                    <a:lnTo>
                      <a:pt x="125" y="640"/>
                    </a:lnTo>
                    <a:lnTo>
                      <a:pt x="125" y="640"/>
                    </a:lnTo>
                    <a:close/>
                    <a:moveTo>
                      <a:pt x="447" y="622"/>
                    </a:moveTo>
                    <a:lnTo>
                      <a:pt x="459" y="640"/>
                    </a:lnTo>
                    <a:lnTo>
                      <a:pt x="471" y="658"/>
                    </a:lnTo>
                    <a:lnTo>
                      <a:pt x="483" y="676"/>
                    </a:lnTo>
                    <a:lnTo>
                      <a:pt x="489" y="694"/>
                    </a:lnTo>
                    <a:lnTo>
                      <a:pt x="501" y="706"/>
                    </a:lnTo>
                    <a:lnTo>
                      <a:pt x="507" y="723"/>
                    </a:lnTo>
                    <a:lnTo>
                      <a:pt x="513" y="735"/>
                    </a:lnTo>
                    <a:lnTo>
                      <a:pt x="519" y="753"/>
                    </a:lnTo>
                    <a:lnTo>
                      <a:pt x="513" y="759"/>
                    </a:lnTo>
                    <a:lnTo>
                      <a:pt x="507" y="765"/>
                    </a:lnTo>
                    <a:lnTo>
                      <a:pt x="501" y="771"/>
                    </a:lnTo>
                    <a:lnTo>
                      <a:pt x="495" y="771"/>
                    </a:lnTo>
                    <a:lnTo>
                      <a:pt x="489" y="771"/>
                    </a:lnTo>
                    <a:lnTo>
                      <a:pt x="483" y="765"/>
                    </a:lnTo>
                    <a:lnTo>
                      <a:pt x="477" y="765"/>
                    </a:lnTo>
                    <a:lnTo>
                      <a:pt x="471" y="759"/>
                    </a:lnTo>
                    <a:lnTo>
                      <a:pt x="459" y="729"/>
                    </a:lnTo>
                    <a:lnTo>
                      <a:pt x="441" y="700"/>
                    </a:lnTo>
                    <a:lnTo>
                      <a:pt x="423" y="670"/>
                    </a:lnTo>
                    <a:lnTo>
                      <a:pt x="406" y="640"/>
                    </a:lnTo>
                    <a:lnTo>
                      <a:pt x="406" y="634"/>
                    </a:lnTo>
                    <a:lnTo>
                      <a:pt x="406" y="628"/>
                    </a:lnTo>
                    <a:lnTo>
                      <a:pt x="412" y="622"/>
                    </a:lnTo>
                    <a:lnTo>
                      <a:pt x="417" y="616"/>
                    </a:lnTo>
                    <a:lnTo>
                      <a:pt x="423" y="616"/>
                    </a:lnTo>
                    <a:lnTo>
                      <a:pt x="429" y="616"/>
                    </a:lnTo>
                    <a:lnTo>
                      <a:pt x="435" y="616"/>
                    </a:lnTo>
                    <a:lnTo>
                      <a:pt x="447" y="622"/>
                    </a:lnTo>
                    <a:lnTo>
                      <a:pt x="447" y="622"/>
                    </a:lnTo>
                    <a:close/>
                    <a:moveTo>
                      <a:pt x="298" y="634"/>
                    </a:moveTo>
                    <a:lnTo>
                      <a:pt x="298" y="759"/>
                    </a:lnTo>
                    <a:lnTo>
                      <a:pt x="304" y="771"/>
                    </a:lnTo>
                    <a:lnTo>
                      <a:pt x="304" y="777"/>
                    </a:lnTo>
                    <a:lnTo>
                      <a:pt x="310" y="789"/>
                    </a:lnTo>
                    <a:lnTo>
                      <a:pt x="310" y="795"/>
                    </a:lnTo>
                    <a:lnTo>
                      <a:pt x="322" y="795"/>
                    </a:lnTo>
                    <a:lnTo>
                      <a:pt x="328" y="801"/>
                    </a:lnTo>
                    <a:lnTo>
                      <a:pt x="340" y="801"/>
                    </a:lnTo>
                    <a:lnTo>
                      <a:pt x="352" y="801"/>
                    </a:lnTo>
                    <a:lnTo>
                      <a:pt x="585" y="801"/>
                    </a:lnTo>
                    <a:lnTo>
                      <a:pt x="591" y="801"/>
                    </a:lnTo>
                    <a:lnTo>
                      <a:pt x="597" y="801"/>
                    </a:lnTo>
                    <a:lnTo>
                      <a:pt x="608" y="795"/>
                    </a:lnTo>
                    <a:lnTo>
                      <a:pt x="614" y="795"/>
                    </a:lnTo>
                    <a:lnTo>
                      <a:pt x="614" y="789"/>
                    </a:lnTo>
                    <a:lnTo>
                      <a:pt x="620" y="789"/>
                    </a:lnTo>
                    <a:lnTo>
                      <a:pt x="626" y="783"/>
                    </a:lnTo>
                    <a:lnTo>
                      <a:pt x="632" y="771"/>
                    </a:lnTo>
                    <a:lnTo>
                      <a:pt x="632" y="765"/>
                    </a:lnTo>
                    <a:lnTo>
                      <a:pt x="638" y="759"/>
                    </a:lnTo>
                    <a:lnTo>
                      <a:pt x="638" y="747"/>
                    </a:lnTo>
                    <a:lnTo>
                      <a:pt x="638" y="735"/>
                    </a:lnTo>
                    <a:lnTo>
                      <a:pt x="638" y="723"/>
                    </a:lnTo>
                    <a:lnTo>
                      <a:pt x="638" y="712"/>
                    </a:lnTo>
                    <a:lnTo>
                      <a:pt x="638" y="700"/>
                    </a:lnTo>
                    <a:lnTo>
                      <a:pt x="638" y="682"/>
                    </a:lnTo>
                    <a:lnTo>
                      <a:pt x="644" y="676"/>
                    </a:lnTo>
                    <a:lnTo>
                      <a:pt x="650" y="670"/>
                    </a:lnTo>
                    <a:lnTo>
                      <a:pt x="656" y="670"/>
                    </a:lnTo>
                    <a:lnTo>
                      <a:pt x="662" y="670"/>
                    </a:lnTo>
                    <a:lnTo>
                      <a:pt x="668" y="670"/>
                    </a:lnTo>
                    <a:lnTo>
                      <a:pt x="674" y="670"/>
                    </a:lnTo>
                    <a:lnTo>
                      <a:pt x="680" y="676"/>
                    </a:lnTo>
                    <a:lnTo>
                      <a:pt x="686" y="682"/>
                    </a:lnTo>
                    <a:lnTo>
                      <a:pt x="692" y="700"/>
                    </a:lnTo>
                    <a:lnTo>
                      <a:pt x="692" y="723"/>
                    </a:lnTo>
                    <a:lnTo>
                      <a:pt x="692" y="741"/>
                    </a:lnTo>
                    <a:lnTo>
                      <a:pt x="692" y="753"/>
                    </a:lnTo>
                    <a:lnTo>
                      <a:pt x="686" y="771"/>
                    </a:lnTo>
                    <a:lnTo>
                      <a:pt x="686" y="783"/>
                    </a:lnTo>
                    <a:lnTo>
                      <a:pt x="680" y="795"/>
                    </a:lnTo>
                    <a:lnTo>
                      <a:pt x="674" y="807"/>
                    </a:lnTo>
                    <a:lnTo>
                      <a:pt x="668" y="813"/>
                    </a:lnTo>
                    <a:lnTo>
                      <a:pt x="656" y="819"/>
                    </a:lnTo>
                    <a:lnTo>
                      <a:pt x="650" y="831"/>
                    </a:lnTo>
                    <a:lnTo>
                      <a:pt x="638" y="831"/>
                    </a:lnTo>
                    <a:lnTo>
                      <a:pt x="632" y="837"/>
                    </a:lnTo>
                    <a:lnTo>
                      <a:pt x="620" y="843"/>
                    </a:lnTo>
                    <a:lnTo>
                      <a:pt x="608" y="843"/>
                    </a:lnTo>
                    <a:lnTo>
                      <a:pt x="591" y="843"/>
                    </a:lnTo>
                    <a:lnTo>
                      <a:pt x="334" y="843"/>
                    </a:lnTo>
                    <a:lnTo>
                      <a:pt x="316" y="843"/>
                    </a:lnTo>
                    <a:lnTo>
                      <a:pt x="298" y="837"/>
                    </a:lnTo>
                    <a:lnTo>
                      <a:pt x="286" y="837"/>
                    </a:lnTo>
                    <a:lnTo>
                      <a:pt x="274" y="825"/>
                    </a:lnTo>
                    <a:lnTo>
                      <a:pt x="262" y="819"/>
                    </a:lnTo>
                    <a:lnTo>
                      <a:pt x="256" y="807"/>
                    </a:lnTo>
                    <a:lnTo>
                      <a:pt x="256" y="789"/>
                    </a:lnTo>
                    <a:lnTo>
                      <a:pt x="250" y="771"/>
                    </a:lnTo>
                    <a:lnTo>
                      <a:pt x="250" y="634"/>
                    </a:lnTo>
                    <a:lnTo>
                      <a:pt x="256" y="628"/>
                    </a:lnTo>
                    <a:lnTo>
                      <a:pt x="262" y="622"/>
                    </a:lnTo>
                    <a:lnTo>
                      <a:pt x="268" y="622"/>
                    </a:lnTo>
                    <a:lnTo>
                      <a:pt x="274" y="622"/>
                    </a:lnTo>
                    <a:lnTo>
                      <a:pt x="280" y="622"/>
                    </a:lnTo>
                    <a:lnTo>
                      <a:pt x="286" y="622"/>
                    </a:lnTo>
                    <a:lnTo>
                      <a:pt x="292" y="628"/>
                    </a:lnTo>
                    <a:lnTo>
                      <a:pt x="298" y="634"/>
                    </a:lnTo>
                    <a:lnTo>
                      <a:pt x="298" y="634"/>
                    </a:lnTo>
                    <a:close/>
                    <a:moveTo>
                      <a:pt x="752" y="622"/>
                    </a:moveTo>
                    <a:lnTo>
                      <a:pt x="805" y="664"/>
                    </a:lnTo>
                    <a:lnTo>
                      <a:pt x="847" y="700"/>
                    </a:lnTo>
                    <a:lnTo>
                      <a:pt x="871" y="723"/>
                    </a:lnTo>
                    <a:lnTo>
                      <a:pt x="895" y="741"/>
                    </a:lnTo>
                    <a:lnTo>
                      <a:pt x="913" y="759"/>
                    </a:lnTo>
                    <a:lnTo>
                      <a:pt x="931" y="777"/>
                    </a:lnTo>
                    <a:lnTo>
                      <a:pt x="931" y="789"/>
                    </a:lnTo>
                    <a:lnTo>
                      <a:pt x="931" y="801"/>
                    </a:lnTo>
                    <a:lnTo>
                      <a:pt x="931" y="807"/>
                    </a:lnTo>
                    <a:lnTo>
                      <a:pt x="925" y="807"/>
                    </a:lnTo>
                    <a:lnTo>
                      <a:pt x="919" y="813"/>
                    </a:lnTo>
                    <a:lnTo>
                      <a:pt x="913" y="813"/>
                    </a:lnTo>
                    <a:lnTo>
                      <a:pt x="901" y="813"/>
                    </a:lnTo>
                    <a:lnTo>
                      <a:pt x="889" y="807"/>
                    </a:lnTo>
                    <a:lnTo>
                      <a:pt x="853" y="771"/>
                    </a:lnTo>
                    <a:lnTo>
                      <a:pt x="811" y="735"/>
                    </a:lnTo>
                    <a:lnTo>
                      <a:pt x="770" y="694"/>
                    </a:lnTo>
                    <a:lnTo>
                      <a:pt x="722" y="658"/>
                    </a:lnTo>
                    <a:lnTo>
                      <a:pt x="716" y="646"/>
                    </a:lnTo>
                    <a:lnTo>
                      <a:pt x="716" y="640"/>
                    </a:lnTo>
                    <a:lnTo>
                      <a:pt x="716" y="628"/>
                    </a:lnTo>
                    <a:lnTo>
                      <a:pt x="716" y="628"/>
                    </a:lnTo>
                    <a:lnTo>
                      <a:pt x="722" y="622"/>
                    </a:lnTo>
                    <a:lnTo>
                      <a:pt x="728" y="622"/>
                    </a:lnTo>
                    <a:lnTo>
                      <a:pt x="740" y="622"/>
                    </a:lnTo>
                    <a:lnTo>
                      <a:pt x="752" y="622"/>
                    </a:lnTo>
                    <a:lnTo>
                      <a:pt x="752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9" name="Picture 145" descr="图片21副本"/>
          <p:cNvPicPr/>
          <p:nvPr/>
        </p:nvPicPr>
        <p:blipFill>
          <a:blip r:embed="rId1"/>
          <a:stretch/>
        </p:blipFill>
        <p:spPr>
          <a:xfrm flipH="1" rot="21280200">
            <a:off x="-4290480" y="2709360"/>
            <a:ext cx="3473280" cy="14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 repeatCount="649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3.27304E-007 2.0904E-006 L 1.67797 1.08845 E">
                                      <p:cBhvr>
                                        <p:cTn id="20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8">
                                  <p:stCondLst>
                                    <p:cond delay="3300"/>
                                  </p:stCondLst>
                                  <p:childTnLst>
                                    <p:animRot by="480000">
                                      <p:cBhvr>
                                        <p:cTn id="21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10" fill="hold"/>
                                        <p:tgtEl>
                                          <p:spTgt spid="344"/>
                                        </p:tgtEl>
                                      </p:cBhvr>
                                      <p:to x="2000" y="2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 repeatCount="899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5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9990000" y="9990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56072E-007 -2.65537E-006 L 1.85691 1.30191 E">
                                      <p:cBhvr>
                                        <p:cTn id="218" dur="4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10" fill="hold"/>
                                        <p:tgtEl>
                                          <p:spTgt spid="319"/>
                                        </p:tgtEl>
                                      </p:cBhvr>
                                      <p:to x="2000" y="2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 repeatCount="899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5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9990000" y="999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6503E-006 -2.65537E-006 L 1.86412 1.30191 E">
                                      <p:cBhvr>
                                        <p:cTn id="226" dur="4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4:18:01Z</dcterms:created>
  <dc:creator>Lenovo User</dc:creator>
  <dc:description/>
  <dc:language>en-US</dc:language>
  <cp:lastModifiedBy>王玉清</cp:lastModifiedBy>
  <dcterms:modified xsi:type="dcterms:W3CDTF">2016-02-24T04:07:16Z</dcterms:modified>
  <cp:revision>170</cp:revision>
  <dc:subject/>
  <dc:title>幻灯片 1</dc:title>
</cp:coreProperties>
</file>